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ointcenter.org/hpi/pages/place-matters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779004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Do You Live?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Health and Health Care Disparities in Black Amer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4038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is D. Chesley, Jr., M.D., Dir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fice of Extramural Research,                                                    Education &amp; Priority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ptember 10,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Objectiv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-376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examples of social, economic, and environmental conditions that shape health inequ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examples of how race and class segregation increase risks for poor health for many mino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 action steps that are working to bridge the gap in health outco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importance of creating the components of a Mega-Learning Commu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765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ressing Health Inequities Where They Persi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an Smedley, Ph.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e President and Director,                             Health Policy Instit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 Center for Political and Economic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hington, D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rnal Community Input             as a Driver of Chang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annon Cosgrove, M.H.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Manager, Health Equity YM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lead, DC Place Mat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55840" y="2667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ing From               Consequences to Condi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Scot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r, Equity Matters, I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Lead/Chair, Baltimore Place Ma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http://www.dialogue4health.org/php/jointcenter/placematters/images/PM-logo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14680" y="5394240"/>
            <a:ext cx="3719520" cy="987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304920" y="6172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ttp://www.jointcenter.org/hpi/pages/place-mat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Group 15"/>
          <p:cNvGrpSpPr/>
          <p:nvPr/>
        </p:nvGrpSpPr>
        <p:grpSpPr>
          <a:xfrm>
            <a:off x="990720" y="2133720"/>
            <a:ext cx="7543800" cy="2438280"/>
            <a:chOff x="990720" y="2133720"/>
            <a:chExt cx="7543800" cy="2438280"/>
          </a:xfrm>
        </p:grpSpPr>
        <p:grpSp>
          <p:nvGrpSpPr>
            <p:cNvPr id="100" name="Rectangle 13"/>
            <p:cNvGrpSpPr/>
            <p:nvPr/>
          </p:nvGrpSpPr>
          <p:grpSpPr>
            <a:xfrm>
              <a:off x="990720" y="2133720"/>
              <a:ext cx="7543800" cy="2438280"/>
              <a:chOff x="990720" y="2133720"/>
              <a:chExt cx="7543800" cy="2438280"/>
            </a:xfrm>
          </p:grpSpPr>
          <p:pic>
            <p:nvPicPr>
              <p:cNvPr id="101" name="Rectangl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133720"/>
                <a:ext cx="7543800" cy="24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1047600" y="2168280"/>
                <a:ext cx="7432920" cy="23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03" name="Picture 4" descr=""/>
            <p:cNvPicPr/>
            <p:nvPr/>
          </p:nvPicPr>
          <p:blipFill>
            <a:blip r:embed="rId4"/>
            <a:stretch/>
          </p:blipFill>
          <p:spPr>
            <a:xfrm>
              <a:off x="3561480" y="2197440"/>
              <a:ext cx="2438280" cy="231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5"/>
            <a:stretch/>
          </p:blipFill>
          <p:spPr>
            <a:xfrm>
              <a:off x="1062720" y="2197440"/>
              <a:ext cx="2450520" cy="231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2" descr="Place Matters.tif"/>
            <p:cNvPicPr/>
            <p:nvPr/>
          </p:nvPicPr>
          <p:blipFill>
            <a:blip r:embed="rId6"/>
            <a:stretch/>
          </p:blipFill>
          <p:spPr>
            <a:xfrm>
              <a:off x="6036120" y="2197440"/>
              <a:ext cx="2468520" cy="231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HHS</cp:lastModifiedBy>
  <cp:lastPrinted>2003-01-21T20:19:23Z</cp:lastPrinted>
  <dcterms:modified xsi:type="dcterms:W3CDTF">2012-08-30T16:13:58Z</dcterms:modified>
  <cp:revision>117</cp:revision>
  <dc:subject/>
  <dc:title>AHRQ Slide Template 2004</dc:title>
</cp:coreProperties>
</file>