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4CDC-ED03-486D-8787-A84F95A468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AF5D-8047-4FEB-A092-2F095B2BA5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9BB4-BAC4-43B0-ABCD-32F4BAF04C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461D-C288-4875-A593-A8873F5FEC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9C18-E2C0-4E33-8AE9-5697DB989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C050-41B7-4F28-9CD1-BB4702A3F3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5C04-27B9-4DA2-8A6F-439665089A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03AE-DDD7-4405-BE2B-72308364AD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5447-F977-45CD-A421-AC35F41917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85DA-2354-4CE5-8796-CCB22CF651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043D-74FE-4FBD-AF28-DF82FFA95E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5FF1-24B1-4B45-A5E4-41C2BC4F6D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C064-EDA0-464F-A286-49EF1ED999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6DE5-99FA-4E8F-9C51-E06A764B1A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86AC-7354-40F6-AF2E-1ED80957D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0BC7-6D31-45C0-8C2D-35A2A384FA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4DD2-4E23-48E4-8092-013F400D0F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AF5B-F442-4176-872C-22571FDE8A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40C8-D592-4867-818D-C5E7997F57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8786-3E26-4D85-9E69-0816346213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9DFE-D601-41E6-AD1E-DA8E1E1786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13BF-E6EC-49E4-A7A9-16B36D7562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A0C7-E4E1-4CE9-9361-D3A4DCCC94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6A37-1F0A-4326-82B3-817607B07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7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9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itle 1"/>
          <p:cNvSpPr/>
          <p:nvPr/>
        </p:nvSpPr>
        <p:spPr>
          <a:xfrm>
            <a:off x="457200" y="5486400"/>
            <a:ext cx="825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Click to edit Master title styl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45684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4C2-EE3B-4612-BE88-A423FEFB2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32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4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2"/>
          </p:nvPr>
        </p:nvSpPr>
        <p:spPr>
          <a:xfrm>
            <a:off x="45684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3D0-5017-4980-871E-BD302CD734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hrq.gov/CHIP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Improving Care and Proving It logo."/>
          <p:cNvPicPr/>
          <p:nvPr/>
        </p:nvPicPr>
        <p:blipFill>
          <a:blip r:embed="rId1"/>
          <a:stretch/>
        </p:blipFill>
        <p:spPr>
          <a:xfrm>
            <a:off x="457200" y="731520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82400" y="416556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nise Dougherty, Ph.D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Advisor, Child Health and Quality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dwin Lomotan, MD, Maushami DeSoto, Ph.D., MH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ncis Chesley, M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Health and Human 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0" y="1574640"/>
            <a:ext cx="9144000" cy="22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HIPRA Pediatric Quality Measures Program </a:t>
            </a:r>
            <a:br>
              <a:rPr sz="16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rge to SNAC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sess measures submitted by the public and COEs for potential recommendation a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d core measures for voluntary use by Medicaid and CHIP pro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asures for use by other public and private pro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CHIPRA criteri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ort to the Chair, NA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410080" y="76960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NAC Membe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603360" y="59436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o-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997360"/>
                <a:gridCol w="248904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les Gallia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y Ev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e Rowl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les Irwi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enn Fl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hen Saun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zabeth (Betsy) And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l Glass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n Spitz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rea B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rrie Kap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jenu Srivasta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ard Carr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t Koen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le Stipel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hen Dow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on-Lise Norm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ery Thomp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ihua Du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ra Pick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rsten Thoms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 Ellio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iciano Y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6" descr="Improving Care and Proving It logo."/>
          <p:cNvPicPr/>
          <p:nvPr/>
        </p:nvPicPr>
        <p:blipFill>
          <a:blip r:embed="rId1"/>
          <a:stretch/>
        </p:blipFill>
        <p:spPr>
          <a:xfrm>
            <a:off x="5029200" y="754380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Submissions 2012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7 from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 insufficient information – returned to nomin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to be reviewed by S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from the CO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reviewed:  6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Topics Under Review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cu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828440"/>
            <a:ext cx="4040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enrollment/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tegrated health care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hildren with special health car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/car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-reported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on Top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190476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nat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psychosocial well-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use/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Topics Under Review I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ute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ente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– var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ahrq.gov/CHIP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se.dougherty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120" y="13716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ren’s Health Insurance Program Reauthorization Act – Public Law 111-3 – signed by the President Feb.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RQ-CMS Partners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:  Identify initial core set of measures by January 1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 voluntary use by Medicaid and CHIP progra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s report data to CM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retary DHHS reports to Congress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: Develop a Pediatric Quality Measures Program by January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 and enhance measure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d core sets for voluntary use by Medicaid and CHIP – Annually beginning January 1, 2013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s for use by public and private purchasers and progra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Improving Care and Proving It logo."/>
          <p:cNvPicPr/>
          <p:nvPr/>
        </p:nvPicPr>
        <p:blipFill>
          <a:blip r:embed="rId1"/>
          <a:stretch/>
        </p:blipFill>
        <p:spPr>
          <a:xfrm>
            <a:off x="4800600" y="74674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diatric Quality Measures Program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Early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Centers of Excellence in Pediatric Quality Measure Development (CO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 year Cooperative Agreements with AHRQ awarded in February 201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CHIPRA Coordinating and Technical Assistance Center (CCT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tract with AHRQ awarded in April 201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upport for COEs collaborative activities; TA to AHRQ, CMS, CO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Representatives from CHIPRA Quality Demonstration Grant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assachuset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 (Subcommittee on Children’s Healthcare Quality Measures of the AHRQ National Advisory Council on Healthcare Research and Qual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PRA Federal Quality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S Staf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nominators of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029200" y="777240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7 CO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3160" y="1257480"/>
          <a:ext cx="8835840" cy="4991040"/>
        </p:xfrm>
        <a:graphic>
          <a:graphicData uri="http://schemas.openxmlformats.org/drawingml/2006/table">
            <a:tbl>
              <a:tblPr/>
              <a:tblGrid>
                <a:gridCol w="1577880"/>
                <a:gridCol w="2840040"/>
                <a:gridCol w="2209680"/>
                <a:gridCol w="22082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ony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investig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measure top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-Metri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Michig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ry Freed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D trea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Qu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 Sinai School of Medicine, 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 Kleinman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 of services for high-risk O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E4C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 of Washington, Seat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ta Mangione-Smith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 for CSHC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MCo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 of Wisconsin, Milwauk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mesh Sachdeva, PhD, J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tal treatmen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IN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Committee for Quality Assurance, Washington, D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ah Hudson Scholle, Dr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lescent depression screening and follow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PQ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’s Hospital, Bost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 Schuster, MD, P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mis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’s Hospital of Philadelph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rey H. Silber, MD, P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ation of enroll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105520" y="739152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6"/>
          <p:cNvSpPr/>
          <p:nvPr/>
        </p:nvSpPr>
        <p:spPr>
          <a:xfrm>
            <a:off x="45720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B2A-ABF4-46CC-A668-B29D6B0C0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Scientific and Feasibility Workgroup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686800" cy="530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al: CHIPRA requires measures that a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idence-base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abl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le to identify dispariti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le to measure quality at the State, health plan, and provider levels of aggregation (at a minim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 a charge to SNAC; Scientific and Feasibility Workgroup fleshed ou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group Participants: COEs, State grantees, CC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ir:  Lawrence Kleinman, MD, CAPQU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ities to date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 of “desirable attributes” for assessing measu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on of CHIPRA Candidate Measure Nomination Form (CPCF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ence of quality measurement relatively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measurement standards may not app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ssment of measures will require judgment by SNA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4952880" y="76960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Aggregation Workgroup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6540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 CHIPRA requires that measures be reported at the following levels at a minim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(e.g., for reporting to CMS and then Congr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group Participants: COEs and State Gran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chairs:  Eric Schneider, COE4CCN; Robert Saunders, NCIN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 to d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varying levels of aggregation at which measure results can be repor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 a worksheet that measure nominators can u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e a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potential categories of ag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s (e.g., provi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 of detail for CPC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4343400" y="73915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QMP Activities:  Race/Ethnicity/Socioeconomic Status  Workgroup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Identification and elimination of disparities required by CHIP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nts: COEs, State gran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: Jeffrey Silber, C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 of disparities (Paula Braveman, RTI subcontra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approach (Jeff Silb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 approach (Marc Elliot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ility/variability o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ng a disparity versus a dif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8763120" y="73915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 Informatics Workgroup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s: e-specification of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knowledge on appro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ize across COEs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nts: COEs, State Grantees, CCTAC, AHR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which States are using EHRs for quality meas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strategic information across CO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activities of ONC contract work on CHIPRA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how COEs are e-specifying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other gui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easurement is an emerging activity – learning as we 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5257800" y="76201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52240" y="20239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ommittee on Children’s Healthcare Quality Measures of the AHRQ National Advisory Council on Healthcare Research and Quality (SNAC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2012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2" descr="Improving Care and Proving It logo."/>
          <p:cNvPicPr/>
          <p:nvPr/>
        </p:nvPicPr>
        <p:blipFill>
          <a:blip r:embed="rId1"/>
          <a:stretch/>
        </p:blipFill>
        <p:spPr>
          <a:xfrm>
            <a:off x="5181480" y="769608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3"/>
          <p:cNvSpPr/>
          <p:nvPr/>
        </p:nvSpPr>
        <p:spPr>
          <a:xfrm>
            <a:off x="45720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F66-7763-4211-AB08-19ED48564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2-09-07T17:41:40Z</dcterms:modified>
  <cp:revision>103</cp:revision>
  <dc:subject/>
  <dc:title>AHRQ Slide Template 2004</dc:title>
</cp:coreProperties>
</file>