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5AA8-338A-4F99-9CBF-2E7FAC5C45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1D4A-6F68-435B-939D-7544457AC3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84E9-6C7E-4C82-98EE-A5322D3B71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0E30-0CE2-4CA0-824C-02C9BFBCA6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300C-093F-4A0F-939B-C7790207B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9799-0474-4DFB-9FE0-F51F2E3237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E059-0859-4E2D-8B12-AE7E95ACC0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539C-5BD7-415F-8E2F-0D89339D36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A11B-4281-4583-9935-CF207E2420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BA5F-99BD-4C04-9A90-1D205764FD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A118-DB3E-4768-AE6E-C4492F747C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97D4-48BE-4786-92DB-5DFBE699BE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8118-F0A7-425A-9BFC-9BF954C697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D6A4-637F-47D8-8680-E3E7E23AC3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FE29-3C53-4FD1-B025-EDD765A80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EF49-F018-487E-93FB-2079ED1DA5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2DE4-901B-4C72-B24B-38B0E4BA54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3B26-2C75-4006-9FA7-9428B8572F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3C27-8A31-4D50-AA00-72C15C4402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9BBF-D28D-40A1-9510-FAC7F4D3A1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A81A-8237-4A3A-8D64-87D8136CA3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DB31-A4C2-4BF1-9E14-B5C237B696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FAEFB-255F-4DF9-B562-3B86D7E00F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15DE-1F36-4727-85D9-B5B62C7A1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87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9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itle 1"/>
          <p:cNvSpPr/>
          <p:nvPr/>
        </p:nvSpPr>
        <p:spPr>
          <a:xfrm>
            <a:off x="457200" y="5486400"/>
            <a:ext cx="8255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  <a:ea typeface="Arial"/>
              </a:rPr>
              <a:t>Click to edit Master title styl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456840" y="6516720"/>
            <a:ext cx="927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11BD-A562-4FE7-A971-0D002B74DE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32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4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2"/>
          </p:nvPr>
        </p:nvSpPr>
        <p:spPr>
          <a:xfrm>
            <a:off x="456840" y="6516720"/>
            <a:ext cx="927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5865-9250-4696-A368-4EABE948AC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hrq.gov/CHIPR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Improving Care and Proving It logo."/>
          <p:cNvPicPr/>
          <p:nvPr/>
        </p:nvPicPr>
        <p:blipFill>
          <a:blip r:embed="rId1"/>
          <a:stretch/>
        </p:blipFill>
        <p:spPr>
          <a:xfrm>
            <a:off x="457200" y="7315200"/>
            <a:ext cx="3219480" cy="290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82400" y="416556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nise Dougherty, Ph.D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nior Advisor, Child Health and Quality Impr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dwin Lomotan, MD, Maushami DeSoto, Ph.D., MH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ancis Chesley, M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gency for Healthcare Research and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Health and Human 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0" y="1574640"/>
            <a:ext cx="9144000" cy="22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HIPRA Pediatric Quality Measures Program </a:t>
            </a:r>
            <a:br>
              <a:rPr sz="16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rge to SNAC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sess measures submitted by the public and COEs for potential recommendation a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roved core measures for voluntary use by Medicaid and CHIP progra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easures for use by other public and private progra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 CHIPRA criteri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70000"/>
              </a:lnSpc>
              <a:spcBef>
                <a:spcPts val="101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port to the Chair, NA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Improving Care and Proving It logo."/>
          <p:cNvPicPr/>
          <p:nvPr/>
        </p:nvPicPr>
        <p:blipFill>
          <a:blip r:embed="rId1"/>
          <a:stretch/>
        </p:blipFill>
        <p:spPr>
          <a:xfrm>
            <a:off x="5410080" y="769608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NAC Membe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603360" y="59436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Co-Ch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997360"/>
                <a:gridCol w="2489040"/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les Gallia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y Ev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ne Rowl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les Irwi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enn Fl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hen Saun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zabeth (Betsy) And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ul Glass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n Spitz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rea Ben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rrie Kap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jenu Srivasta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rard Carr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t Koeni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ole Stipel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hen Dow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on-Lise Norm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ery Thomp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ihua Du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ra Pick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rsten Thoms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 Elliot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iciano Y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6" descr="Improving Care and Proving It logo."/>
          <p:cNvPicPr/>
          <p:nvPr/>
        </p:nvPicPr>
        <p:blipFill>
          <a:blip r:embed="rId1"/>
          <a:stretch/>
        </p:blipFill>
        <p:spPr>
          <a:xfrm>
            <a:off x="5029200" y="754380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e Submissions 2012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7 from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7 insufficient information – returned to nomina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 to be reviewed by SN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from the CO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reviewed:  6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e Topics Under Review 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cu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828440"/>
            <a:ext cx="4040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of enrollment/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ntegrated health care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children with special health care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s/care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-reported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4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on Top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4720" y="1904760"/>
            <a:ext cx="40417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natal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and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 psychosocial well-be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use/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asure Topics Under Review I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ute car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roente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afety – vari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car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health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bacc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 more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ahrq.gov/CHIP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se.dougherty@ahrq.hh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asic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120" y="13716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ren’s Health Insurance Program Reauthorization Act – Public Law 111-3 – signed by the President Feb.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HRQ-CMS Partnersh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:  Identify initial core set of measures by January 1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r voluntary use by Medicaid and CHIP progra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s report data to CM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cretary DHHS reports to Congress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ase II: Develop a Pediatric Quality Measures Program by January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 and enhance measure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roved core sets for voluntary use by Medicaid and CHIP – Annually beginning January 1, 2013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70000"/>
              </a:lnSpc>
              <a:spcBef>
                <a:spcPts val="1800"/>
              </a:spcBef>
              <a:buClr>
                <a:srgbClr val="1f497d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s for use by public and private purchasers and program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Improving Care and Proving It logo."/>
          <p:cNvPicPr/>
          <p:nvPr/>
        </p:nvPicPr>
        <p:blipFill>
          <a:blip r:embed="rId1"/>
          <a:stretch/>
        </p:blipFill>
        <p:spPr>
          <a:xfrm>
            <a:off x="4800600" y="746748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ediatric Quality Measures Program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Early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Centers of Excellence in Pediatric Quality Measure Development (CO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 year Cooperative Agreements with AHRQ awarded in February 201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CHIPRA Coordinating and Technical Assistance Center (CCT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ontract with AHRQ awarded in April 201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Support for COEs collaborative activities; TA to AHRQ, CMS, CO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Representatives from CHIPRA Quality Demonstration Grant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56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assachuset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AC (Subcommittee on Children’s Healthcare Quality Measures of the AHRQ National Advisory Council on Healthcare Research and Qual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PRA Federal Quality Work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RQ 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S Staf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nominators of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Improving Care and Proving It logo."/>
          <p:cNvPicPr/>
          <p:nvPr/>
        </p:nvPicPr>
        <p:blipFill>
          <a:blip r:embed="rId1"/>
          <a:stretch/>
        </p:blipFill>
        <p:spPr>
          <a:xfrm>
            <a:off x="5029200" y="777240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7 CO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73160" y="1257480"/>
          <a:ext cx="8835840" cy="4991040"/>
        </p:xfrm>
        <a:graphic>
          <a:graphicData uri="http://schemas.openxmlformats.org/drawingml/2006/table">
            <a:tbl>
              <a:tblPr/>
              <a:tblGrid>
                <a:gridCol w="1577880"/>
                <a:gridCol w="2840040"/>
                <a:gridCol w="2209680"/>
                <a:gridCol w="22082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rony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investig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ple measure top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-Metri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 Michig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ry Freed, MD, MP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D treat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Qu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nt Sinai School of Medicine, 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wrence Kleinman, MD, MP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ility of services for high-risk O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E4C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ty of Washington, Seat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ta Mangione-Smith, MD, MP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coordination for CSHC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MCo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ity of Wisconsin, Milwauk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mesh Sachdeva, PhD, J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tal treatmen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INQ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Committee for Quality Assurance, Washington, D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rah Hudson Scholle, DrP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lescent depression screening and follow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PQ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ren’s Hospital, Bost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 Schuster, MD, P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miss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ren’s Hospital of Philadelph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ffrey H. Silber, MD, Ph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ation of enroll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5" descr="Improving Care and Proving It logo."/>
          <p:cNvPicPr/>
          <p:nvPr/>
        </p:nvPicPr>
        <p:blipFill>
          <a:blip r:embed="rId1"/>
          <a:stretch/>
        </p:blipFill>
        <p:spPr>
          <a:xfrm>
            <a:off x="5105520" y="7391520"/>
            <a:ext cx="3219480" cy="29052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6"/>
          <p:cNvSpPr/>
          <p:nvPr/>
        </p:nvSpPr>
        <p:spPr>
          <a:xfrm>
            <a:off x="457200" y="6516720"/>
            <a:ext cx="927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8483-E848-4A24-A173-5C70BD9125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QMP Activities: Scientific and Feasibility Workgroup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600"/>
            <a:ext cx="8686800" cy="530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al: CHIPRA requires measures that ar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idence-base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abl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le to identify disparitie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le to measure quality at the State, health plan, and provider levels of aggregation (at a minimu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ove a charge to SNAC; Scientific and Feasibility Workgroup fleshed ou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group Participants: COEs, State grantees, CCTA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ir:  Lawrence Kleinman, MD, CAPQU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ities to date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ication of “desirable attributes” for assessing measur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on of CHIPRA Candidate Measure Nomination Form (CPCF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lleng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ence of quality measurement relatively n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measurement standards may not app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essment of measures will require judgment by SNA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Improving Care and Proving It logo."/>
          <p:cNvPicPr/>
          <p:nvPr/>
        </p:nvPicPr>
        <p:blipFill>
          <a:blip r:embed="rId1"/>
          <a:stretch/>
        </p:blipFill>
        <p:spPr>
          <a:xfrm>
            <a:off x="4952880" y="769608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QMP Activities: Aggregation Workgroup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65400"/>
            <a:ext cx="8229600" cy="48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  CHIPRA requires that measures be reported at the following levels at a minim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(e.g., for reporting to CMS and then Congr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group Participants: COEs and State Grant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chairs:  Eric Schneider, COE4CCN; Robert Saunders, NCIN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ies to d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varying levels of aggregation at which measure results can be repor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 a worksheet that measure nominators can u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e a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potential categories of aggreg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itions (e.g., provi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vel of detail for CPC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Improving Care and Proving It logo."/>
          <p:cNvPicPr/>
          <p:nvPr/>
        </p:nvPicPr>
        <p:blipFill>
          <a:blip r:embed="rId1"/>
          <a:stretch/>
        </p:blipFill>
        <p:spPr>
          <a:xfrm>
            <a:off x="4343400" y="739152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QMP Activities:  Race/Ethnicity/Socioeconomic Status  Workgroup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 Identification and elimination of disparities required by CHIP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ipants: COEs, State grant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r: Jeffrey Silber, C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ing of disparities (Paula Braveman, RTI subcontra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ing approach (Jeff Silb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 approach (Marc Elliot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to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ility/variability of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ng a disparity versus a differ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Improving Care and Proving It logo."/>
          <p:cNvPicPr/>
          <p:nvPr/>
        </p:nvPicPr>
        <p:blipFill>
          <a:blip r:embed="rId1"/>
          <a:stretch/>
        </p:blipFill>
        <p:spPr>
          <a:xfrm>
            <a:off x="8763120" y="739152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QMP Activities:  Informatics Workgroup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s: e-specification of meas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knowledge on appro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ize across COEs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ipants: COEs, State Grantees, CCTAC, AHR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which States are using EHRs for quality measu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strategic information across CO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activities of ONC contract work on CHIPRA meas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how COEs are e-specifying meas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1600" indent="-223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 other guid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7360" indent="-2973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4600" indent="-2538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easurement is an emerging activity – learning as we g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Improving Care and Proving It logo."/>
          <p:cNvPicPr/>
          <p:nvPr/>
        </p:nvPicPr>
        <p:blipFill>
          <a:blip r:embed="rId1"/>
          <a:stretch/>
        </p:blipFill>
        <p:spPr>
          <a:xfrm>
            <a:off x="5257800" y="7620120"/>
            <a:ext cx="321948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52240" y="20239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committee on Children’s Healthcare Quality Measures of the AHRQ National Advisory Council on Healthcare Research and Quality (SNAC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2012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1" name="Picture 2" descr="Improving Care and Proving It logo."/>
          <p:cNvPicPr/>
          <p:nvPr/>
        </p:nvPicPr>
        <p:blipFill>
          <a:blip r:embed="rId1"/>
          <a:stretch/>
        </p:blipFill>
        <p:spPr>
          <a:xfrm>
            <a:off x="5181480" y="7696080"/>
            <a:ext cx="3219480" cy="2905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3"/>
          <p:cNvSpPr/>
          <p:nvPr/>
        </p:nvSpPr>
        <p:spPr>
          <a:xfrm>
            <a:off x="457200" y="6516720"/>
            <a:ext cx="927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6789-C4D8-47D1-9039-AC30AF924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12-09-07T17:41:40Z</dcterms:modified>
  <cp:revision>103</cp:revision>
  <dc:subject/>
  <dc:title>AHRQ Slide Template 2004</dc:title>
</cp:coreProperties>
</file>