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dt" idx="25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C41C-11DE-4B39-AD73-58FBB711791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body"/>
          </p:nvPr>
        </p:nvSpPr>
        <p:spPr>
          <a:xfrm>
            <a:off x="698040" y="4408560"/>
            <a:ext cx="5588280" cy="417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26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 type="sldNum" idx="27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9359-B838-4D02-AF50-A0DEB67E5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98040" y="4408560"/>
            <a:ext cx="5588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3BBC-62ED-4E02-86B6-E5785F7D1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98040" y="4408560"/>
            <a:ext cx="5588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5CB9-41DC-4B29-AA10-DFFF8FC07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98040" y="4408560"/>
            <a:ext cx="5588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0BF5-17E9-47CD-929A-3B966FAD6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98040" y="4408560"/>
            <a:ext cx="5588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37DC-6088-4E62-9F67-A7858C0AB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98040" y="4408560"/>
            <a:ext cx="5588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EDFB-E6A6-4769-9789-48F581CEC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98040" y="4408560"/>
            <a:ext cx="5588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92CB-D16A-4705-AE90-FBAED3C84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98040" y="4408560"/>
            <a:ext cx="5588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0A2F-69E5-45AC-A9CB-CF4DA5B79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98040" y="4408560"/>
            <a:ext cx="5588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33C6-61C0-4716-B484-591B0095E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98040" y="4408560"/>
            <a:ext cx="5588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5D8F-4589-4FDE-8E3F-B8ECAF3EE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98040" y="4408560"/>
            <a:ext cx="5588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F1BE-5E13-4146-8529-8AAF4AE38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98040" y="4408560"/>
            <a:ext cx="5588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C2A7-4DC0-4372-9733-B55232596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98040" y="4408560"/>
            <a:ext cx="5588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E8A9-B1B9-422D-A213-E768FF97A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98040" y="4408560"/>
            <a:ext cx="5588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350D-FE63-4155-8826-475505159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98040" y="4408560"/>
            <a:ext cx="5588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BF8B-07F3-45A0-94AF-C5F72205E6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98040" y="4408560"/>
            <a:ext cx="5588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ACBF-802D-4FDB-B59F-5D457F539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98040" y="4408560"/>
            <a:ext cx="5588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D5AC-646C-4382-8F46-E7FC98FBF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98040" y="4408560"/>
            <a:ext cx="5588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46AF-DB52-4411-A5B8-589B8B47F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98040" y="4408560"/>
            <a:ext cx="5588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5DEA-DB2E-424C-962F-BDDC94570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98040" y="4408560"/>
            <a:ext cx="5588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FC07-CC31-4C4E-9A1B-FF81F7820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98040" y="4408560"/>
            <a:ext cx="5588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2DFB-D6A4-43B4-B9D7-3E4ACD319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98040" y="4408560"/>
            <a:ext cx="5588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4DBD-F609-4F65-B663-DED769ACF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28400" y="37166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E10DD-DBBC-4831-AB59-4BFAAE8B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67F56-C87F-4BC1-8D0F-8654095D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1328400" y="36000"/>
            <a:ext cx="749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932D6-CD14-4AF7-9C76-8B79F5F9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0B22F-F004-4BF1-B7CE-C9E80205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17104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6047F-24BC-4499-8D1E-C9CC4BF9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7A92B-A61F-4B1C-9D9F-8B8FA8AE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328400" y="37166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47F39-C827-4EFC-9727-29BF704A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517104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A96B4-0A1A-45C1-AF39-A69238E61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6388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39972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132840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86388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39972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6FD51-A3B1-4596-95EF-622FB8431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7104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6388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972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2840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6388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972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E03A-E2CB-447D-A8DE-DB66A01A8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BCD0-2923-412A-98F8-C0D0B8CB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228D-59CE-4BC0-99CD-BDC737AB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9C1D-6973-4ED7-893E-B129AFE7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0E61-E4EC-4DF1-86E1-3665AFCA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28400" y="36000"/>
            <a:ext cx="749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DE4F-1C8E-4E94-BCDB-9D2DDA46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CBFF-2C15-4578-A476-8AA5237E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7104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CE53-4609-4BD0-8993-488DD776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ED06-6090-44AD-B788-F9BF7392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28400" y="37166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3BC0-74C9-4E26-9AE1-9EE10355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7104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8FCB-8A6C-46FE-B93B-04480E8BF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6388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9972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2840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6388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9972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92B5-CED5-443D-B55F-36903737E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50D4-065C-4AD9-8ACF-D0A6B9500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CB5E-6891-44F5-90CA-B842722A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4E6B-6AC6-4A61-95A8-112FB166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899F-48C4-4492-A336-AAFEECFD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616C-8945-438B-945E-FE8BA008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328400" y="36000"/>
            <a:ext cx="749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4196-B5F8-413C-B3A3-FD3E9056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D2A3-9ACB-4817-BC30-04E6ED64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17104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509D-D398-4E5E-BD0A-3B188C10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9A6F-B71E-48DA-B1BE-A3DD99BA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328400" y="37166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6703-C89D-4995-98E7-BEA3706D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17104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163A-2FBF-419D-8174-9D629CA6C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6388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9972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32840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86388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39972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DBD7-4414-4BD3-B834-87150A53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9A667-B79E-4C7B-950A-4ADB80353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45E07-795C-4E60-9D40-A17D6657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68FF1-8516-4548-828D-085AD868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62968-60DD-45E9-BC4C-37D444E3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BB046-5B94-4870-ADB9-285D8A34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328400" y="36000"/>
            <a:ext cx="749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C63E4-3B32-4A30-9DB1-772C42EF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33FBB-2EF2-4642-B435-60E1A549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17104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02118-1E4A-46A2-B20E-E005ADF3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EA650-1A71-4CEB-B124-A1BDF656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328400" y="37166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48EDB-6948-4238-A432-ABEF5C7A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17104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11D69-C015-4A79-9073-19F259B5F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6388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39972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32840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86388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39972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A6432-3FF5-4CBF-A47E-45307F215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CF396-A54D-423D-9289-D96CA211F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9149A-A4E2-496A-BB16-FAA3965C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0F00A-32DA-451A-BBA0-7CDC9124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CF4A7-44C2-4C24-B4C4-590B8AD3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DC8E9-E615-413D-A2DE-E576D851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328400" y="36000"/>
            <a:ext cx="749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22C17-B618-4DBE-BB0D-107D9B16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CA07B-4E5A-4317-9379-346874AA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17104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16242-1EAE-413C-8E9F-A9E21096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FB1B5-2BDD-4FD7-91E6-A60D35D7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328400" y="37166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0C0B5-ABF2-4926-B9A1-969E8A71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17104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D99BA-1376-4A3C-8624-CD493EE1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28400" y="36000"/>
            <a:ext cx="749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86388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39972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132840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86388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39972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3DFE1-FB6B-4E61-A815-03D0D9960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A5AB0-57F1-4C92-8B69-35FCBC99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DBD2B-299E-4BCB-AD8D-18D376CB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25011-96AF-4FA6-B644-AA8B7190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BDC18-7B21-440E-9852-5EDAB559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8E8EF-7684-44CC-B9BD-EE84221E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328400" y="36000"/>
            <a:ext cx="749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14137-7A9B-40F7-8C15-35F20957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10BC3-15C0-4910-8CD5-282A4211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17104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2DD1F-7F68-48D5-8640-80AE5CCE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966C0-2D35-4040-9EB6-C2997FA6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328400" y="37166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B694B-2C63-4AE5-B2B8-37FD173C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17104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4B25C-F63B-4AEA-A923-3BDE85BC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86388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39972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32840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86388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39972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60497-8744-46EA-BF40-5DA37E659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801CE-B1A8-4FF4-8B0D-FA4E0DA3F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20239-7BE5-4953-B071-D2E2BB0C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CC69A-6BFB-4025-BFDA-6CC48BA4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5B33D-DAE3-4DDD-B08E-9A7AA383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21620-683E-4CB9-94B4-F226272F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1328400" y="36000"/>
            <a:ext cx="749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1E4F5-4207-40D6-AC1A-7EA2DEF0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0231C-8DD1-4291-BD82-83976653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7104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7104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8B770-C56D-4A6C-970B-EF9CB032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206FA-CA7C-42CB-8CC8-5657F439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1328400" y="37166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7868E-D192-4B57-951F-F00040B1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7104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2C17C-A57F-41CB-8881-35BC63E65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6388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39972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132840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86388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39972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633C6-10A5-4FF1-99D0-DCD4BFE1E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44141-1B27-47A1-A370-B683B0A2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C2A48-17D3-4B12-81E7-42697A6B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9FC79-C966-4BD5-BE6A-41A67A98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DDD70-4347-477A-85A1-C83C1AFD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BC409-E535-48D4-98A0-D91DC0B1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1328400" y="36000"/>
            <a:ext cx="749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E6E86-8010-4699-9B73-0BCC75C9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C96CE-405E-4DCB-9B3B-E87ABAC1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17104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0D103-5048-4928-BFEC-F57DDBC0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43872-B52D-4A31-8259-74DB03CE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328400" y="371664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C92AB-DBFF-4029-B9AD-FCD32C10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171040" y="12092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32840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171040" y="371664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91ECF-35C6-435E-AFFF-BD95E5588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6388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399720" y="12092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132840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86388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399720" y="371664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FAD16-CE81-49F2-9636-B963D809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529C0-9266-4B91-B31B-EC69F2500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52D50-7189-4428-BFED-6BA03A3A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E3650-4615-4268-9653-0B7FDEDC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Box 1" hidden="1"/>
          <p:cNvSpPr/>
          <p:nvPr/>
        </p:nvSpPr>
        <p:spPr>
          <a:xfrm>
            <a:off x="7702560" y="64008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9842b-</a:t>
            </a:r>
            <a:fld id="{6D6062DF-A473-4CFF-B54C-E09C279EF85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c32d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6934320" y="6462720"/>
            <a:ext cx="639720" cy="181080"/>
          </a:xfrm>
          <a:prstGeom prst="rect">
            <a:avLst/>
          </a:prstGeom>
          <a:ln w="0">
            <a:noFill/>
          </a:ln>
        </p:spPr>
      </p:pic>
      <p:sp>
        <p:nvSpPr>
          <p:cNvPr id="5" name="TextBox 3"/>
          <p:cNvSpPr/>
          <p:nvPr/>
        </p:nvSpPr>
        <p:spPr>
          <a:xfrm>
            <a:off x="7034040" y="6488280"/>
            <a:ext cx="213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8D34-BD70-4F7A-BE05-7476AC974F9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Oval 9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45" name="Oval 9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Oval 10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c32d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1"/>
          </p:nvPr>
        </p:nvSpPr>
        <p:spPr>
          <a:xfrm>
            <a:off x="35809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2"/>
          </p:nvPr>
        </p:nvSpPr>
        <p:spPr>
          <a:xfrm>
            <a:off x="5331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3"/>
          </p:nvPr>
        </p:nvSpPr>
        <p:spPr>
          <a:xfrm>
            <a:off x="8381880" y="6305400"/>
            <a:ext cx="4572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10DC-8972-408C-8639-788928A2BC3C}" type="slidenum">
              <a:rPr b="0" lang="en-US" sz="18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c32d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35809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5331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8381880" y="6305400"/>
            <a:ext cx="4572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27EE-4633-42C8-83F6-A05BB8A0D343}" type="slidenum">
              <a:rPr b="0" lang="en-US" sz="18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" hidden="1"/>
          <p:cNvSpPr/>
          <p:nvPr/>
        </p:nvSpPr>
        <p:spPr>
          <a:xfrm>
            <a:off x="7702560" y="64008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9842b-</a:t>
            </a:r>
            <a:fld id="{601B52F7-C75A-4AB8-9ACC-AE458859C19B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3"/>
          <a:stretch/>
        </p:blipFill>
        <p:spPr>
          <a:xfrm>
            <a:off x="6934320" y="6462720"/>
            <a:ext cx="639720" cy="1810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3"/>
          <p:cNvSpPr/>
          <p:nvPr/>
        </p:nvSpPr>
        <p:spPr>
          <a:xfrm>
            <a:off x="7034040" y="6488280"/>
            <a:ext cx="213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85FB-F744-4C57-84B1-9F828DE0898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2"/>
          <p:cNvSpPr/>
          <p:nvPr/>
        </p:nvSpPr>
        <p:spPr>
          <a:xfrm>
            <a:off x="6934320" y="6508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3EEB-2031-4FB9-AA4E-30924036061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c32d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35809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8"/>
          </p:nvPr>
        </p:nvSpPr>
        <p:spPr>
          <a:xfrm>
            <a:off x="5331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9"/>
          </p:nvPr>
        </p:nvSpPr>
        <p:spPr>
          <a:xfrm>
            <a:off x="67813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0F94-1FA0-4DF8-A403-F1B350C19F0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c32d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35809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5331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8381880" y="6305400"/>
            <a:ext cx="4572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0ED0-A321-412A-8454-1A23E6FA99C6}" type="slidenum">
              <a:rPr b="0" lang="en-US" sz="18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67816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0CB9-8B57-4782-8080-AE16E4B9DA6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c32d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35809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5331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8381880" y="6305400"/>
            <a:ext cx="4572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153C-8C11-498D-A01F-494EAF3C10E6}" type="slidenum">
              <a:rPr b="0" lang="en-US" sz="18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Rectangle 7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62" name="Rectangle 7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lowchart: Process 14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c32d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6"/>
          </p:nvPr>
        </p:nvSpPr>
        <p:spPr>
          <a:xfrm>
            <a:off x="35809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7"/>
          </p:nvPr>
        </p:nvSpPr>
        <p:spPr>
          <a:xfrm>
            <a:off x="5331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18"/>
          </p:nvPr>
        </p:nvSpPr>
        <p:spPr>
          <a:xfrm>
            <a:off x="8381880" y="6305400"/>
            <a:ext cx="4572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2C7C-5CB6-4F60-A489-FEF51314FCD2}" type="slidenum">
              <a:rPr b="0" lang="en-US" sz="18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" hidden="1"/>
          <p:cNvSpPr/>
          <p:nvPr/>
        </p:nvSpPr>
        <p:spPr>
          <a:xfrm>
            <a:off x="7702560" y="64008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9842b-</a:t>
            </a:r>
            <a:fld id="{89D68948-68E8-4331-B991-58AB5F40C9D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3"/>
          <a:stretch/>
        </p:blipFill>
        <p:spPr>
          <a:xfrm>
            <a:off x="6934320" y="6462720"/>
            <a:ext cx="639720" cy="181080"/>
          </a:xfrm>
          <a:prstGeom prst="rect">
            <a:avLst/>
          </a:prstGeom>
          <a:ln w="0">
            <a:noFill/>
          </a:ln>
        </p:spPr>
      </p:pic>
      <p:sp>
        <p:nvSpPr>
          <p:cNvPr id="310" name="TextBox 3"/>
          <p:cNvSpPr/>
          <p:nvPr/>
        </p:nvSpPr>
        <p:spPr>
          <a:xfrm>
            <a:off x="7034040" y="6488280"/>
            <a:ext cx="213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DF7A-7C17-4388-9A6F-9126E3E82BE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c32d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9"/>
          </p:nvPr>
        </p:nvSpPr>
        <p:spPr>
          <a:xfrm>
            <a:off x="35809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0"/>
          </p:nvPr>
        </p:nvSpPr>
        <p:spPr>
          <a:xfrm>
            <a:off x="5331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1"/>
          </p:nvPr>
        </p:nvSpPr>
        <p:spPr>
          <a:xfrm>
            <a:off x="8381880" y="6305400"/>
            <a:ext cx="4572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7BE2-A363-43A7-8C4E-7859FE26381A}" type="slidenum">
              <a:rPr b="0" lang="en-US" sz="18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" hidden="1"/>
          <p:cNvSpPr/>
          <p:nvPr/>
        </p:nvSpPr>
        <p:spPr>
          <a:xfrm>
            <a:off x="7702560" y="64008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9842b-</a:t>
            </a:r>
            <a:fld id="{2214EAE2-59C1-4132-BBCB-656370B1F1B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3"/>
          <a:stretch/>
        </p:blipFill>
        <p:spPr>
          <a:xfrm>
            <a:off x="6934320" y="6462720"/>
            <a:ext cx="639720" cy="181080"/>
          </a:xfrm>
          <a:prstGeom prst="rect">
            <a:avLst/>
          </a:prstGeom>
          <a:ln w="0">
            <a:noFill/>
          </a:ln>
        </p:spPr>
      </p:pic>
      <p:sp>
        <p:nvSpPr>
          <p:cNvPr id="355" name="TextBox 3"/>
          <p:cNvSpPr/>
          <p:nvPr/>
        </p:nvSpPr>
        <p:spPr>
          <a:xfrm>
            <a:off x="7034040" y="6488280"/>
            <a:ext cx="213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07AE-9E2A-4F2D-9696-F23668A68C1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28400" y="36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328400" y="1209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c32d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2"/>
          </p:nvPr>
        </p:nvSpPr>
        <p:spPr>
          <a:xfrm>
            <a:off x="35809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3"/>
          </p:nvPr>
        </p:nvSpPr>
        <p:spPr>
          <a:xfrm>
            <a:off x="5331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4"/>
          </p:nvPr>
        </p:nvSpPr>
        <p:spPr>
          <a:xfrm>
            <a:off x="8381880" y="6305400"/>
            <a:ext cx="4572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CEB6-6526-4527-97F6-AC6FE2515431}" type="slidenum">
              <a:rPr b="0" lang="en-US" sz="18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93840" y="76320"/>
            <a:ext cx="740736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Confirming and Supplementing CAHPS® Communication Items Using Feedback from</a:t>
            </a:r>
            <a:br>
              <a:rPr sz="3200"/>
            </a:b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High-Performing Physicians</a:t>
            </a: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. </a:t>
            </a:r>
            <a:endParaRPr b="1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355760" y="2438280"/>
            <a:ext cx="7407360" cy="3276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0e04"/>
                </a:solidFill>
                <a:latin typeface="Gill Sans MT"/>
              </a:rPr>
              <a:t>Ron D. Hays, Ph.D.</a:t>
            </a: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0e04"/>
                </a:solidFill>
                <a:latin typeface="Gill Sans MT"/>
              </a:rPr>
              <a:t>Professor of Medicine and Health Services, UCLA</a:t>
            </a: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0e04"/>
                </a:solidFill>
                <a:latin typeface="Gill Sans MT"/>
              </a:rPr>
              <a:t>Denise D. Quigley, Ph.D.</a:t>
            </a: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0e04"/>
                </a:solidFill>
                <a:latin typeface="Gill Sans MT"/>
              </a:rPr>
              <a:t>CAHPS Quality Improvement Team, RAND</a:t>
            </a: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0e04"/>
                </a:solidFill>
                <a:latin typeface="Gill Sans MT"/>
              </a:rPr>
              <a:t>AHRQ Conference</a:t>
            </a: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0e04"/>
                </a:solidFill>
                <a:latin typeface="Gill Sans MT"/>
              </a:rPr>
              <a:t>September 11, 2012 (8-9:30am session)</a:t>
            </a: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(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0e04"/>
                </a:solidFill>
                <a:latin typeface="Gill Sans MT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6" name="Picture 3" descr="health_RGB.gif                                                 00017ABCMacintosh HD                   BB0648D2:"/>
          <p:cNvPicPr/>
          <p:nvPr/>
        </p:nvPicPr>
        <p:blipFill>
          <a:blip r:embed="rId1"/>
          <a:stretch/>
        </p:blipFill>
        <p:spPr>
          <a:xfrm>
            <a:off x="1252440" y="5943600"/>
            <a:ext cx="1828800" cy="80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Existing Collaboration with Health Plan Facilitated Exploratory Stud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4" name="Rectangle 3"/>
          <p:cNvSpPr/>
          <p:nvPr/>
        </p:nvSpPr>
        <p:spPr>
          <a:xfrm>
            <a:off x="1371600" y="1600200"/>
            <a:ext cx="7620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2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</a:rPr>
              <a:t>Health pla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ＭＳ Ｐゴシック"/>
              </a:rPr>
              <a:t>Has 72,000 adult, commercial HMO member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</a:t>
            </a: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ＭＳ Ｐゴシック"/>
              </a:rPr>
              <a:t>Administers CAHPS clinician-group survey annually (2005-2012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ＭＳ Ｐゴシック"/>
              </a:rPr>
              <a:t>Uses CAHPS for P4P, Q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</a:t>
            </a: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ＭＳ Ｐゴシック"/>
              </a:rPr>
              <a:t>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</a:t>
            </a: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ＭＳ Ｐゴシック"/>
              </a:rPr>
              <a:t>, and report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ＭＳ Ｐゴシック"/>
              </a:rPr>
              <a:t>Was interested in physician perspectiv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ＭＳ Ｐゴシック"/>
              </a:rPr>
              <a:t>Gave us physician-level CAHPS data and contact inform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ＭＳ Ｐゴシック"/>
              </a:rPr>
              <a:t>Permitted us to contact their physicia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</a:t>
            </a: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High-Performing Physicians on </a:t>
            </a:r>
            <a:br>
              <a:rPr sz="3200"/>
            </a:b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CAHPS were Identified </a:t>
            </a:r>
            <a:endParaRPr b="1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1218960" y="11426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2008 CAHPS dat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74880" indent="-34308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20,141 patients among 259 primary care physicians (46% response rate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Calculated overall z-score (0-100 score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74880" indent="-34308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Average of CAHPS composites (access, communication, office staff) and global  rating of physicia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Rank ordered the 259 doctors by z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Physician Interview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18960" y="11426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Contacted the 40 highest-ranked doctors; interviewed 11 physicians who were will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Used a semi-structured, open-ended protocol with 36 ques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55720" indent="-17460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Basic information about practic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55720" indent="-17460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Philosophy of providing good ca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55720" indent="-17460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Communication behaviors during patient visi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55720" indent="-17460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Office practices related to communic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Taped and transcribed interview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Themes Coded…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1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218960" y="11426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Coded the content of the interviews for important them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Created unique counts of codes per physicians; found 16 them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Two researchers independently coded the presence or absence of each of the 16 them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2280" indent="-17460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Calculated a pooled kappa to assess</a:t>
            </a:r>
            <a:br>
              <a:rPr sz="2400"/>
            </a:b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inter-rater agreement for 16 themes (0.72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… </a:t>
            </a: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and Compared Themes to Behaviors Captured in CAHPS Survey Item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 </a:t>
            </a:r>
            <a:endParaRPr b="1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18960" y="129492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Core CAHPS item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2280" indent="-17460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Doctor-patient communic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Supplemental CAHPS item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2280" indent="-17460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Health information and promo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2280" indent="-17460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Shared decision-mak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2280" indent="-17460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Patient-centered medical home item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2280" indent="-17460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Cultural competenc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2280" indent="-17460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Health literac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2280" indent="-17460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Health information technolog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Presentation Outlin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1339560" y="1371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a6a6"/>
                </a:solidFill>
                <a:latin typeface="Arial"/>
                <a:ea typeface="Arial"/>
              </a:rPr>
              <a:t>Why focus on doctor-patient communication?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a6a6"/>
                </a:solidFill>
                <a:latin typeface="Arial"/>
                <a:ea typeface="Arial"/>
              </a:rPr>
              <a:t>Do CAHPS surveys capture important elements of doctor-patient communication from physician perspective?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Feedback from high-performing physicians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a6a6"/>
                </a:solidFill>
                <a:latin typeface="Arial"/>
                <a:ea typeface="Arial"/>
              </a:rPr>
              <a:t>Summary and implications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Physicians Identified 16 Behaviors that Support Communic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218960" y="12189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9 mentioned by more than 7 of 11 physicia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6 of 9 most frequently mentioned behaviors captured in current CAHPS item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3 behaviors identified for further survey item develop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572314"/>
                </a:solidFill>
                <a:latin typeface="Arial"/>
              </a:rPr>
              <a:t>Nine Behaviors Mentioned </a:t>
            </a:r>
            <a:br>
              <a:rPr sz="2900"/>
            </a:br>
            <a:r>
              <a:rPr b="1" lang="en-US" sz="2900" spc="-1" strike="noStrike">
                <a:solidFill>
                  <a:srgbClr val="572314"/>
                </a:solidFill>
                <a:latin typeface="Arial"/>
              </a:rPr>
              <a:t>              Frequently (n = 11 physicians)</a:t>
            </a: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.(n = 11 </a:t>
            </a:r>
            <a:endParaRPr b="1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837720" y="91440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757080" indent="-2480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475a8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757080" indent="-2480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475a8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475a8d"/>
                </a:solidFill>
                <a:latin typeface="Arial"/>
                <a:ea typeface="Arial"/>
              </a:rPr>
              <a:t>Employ office staff with good people skills (91%)</a:t>
            </a:r>
            <a:endParaRPr b="1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757080" indent="-2480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475a8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475a8d"/>
                </a:solidFill>
                <a:latin typeface="Arial"/>
                <a:ea typeface="Arial"/>
              </a:rPr>
              <a:t>Use non-verbal communication (82%)</a:t>
            </a:r>
            <a:endParaRPr b="1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757080" indent="-2480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475a8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475a8d"/>
                </a:solidFill>
                <a:latin typeface="Arial"/>
                <a:ea typeface="Arial"/>
              </a:rPr>
              <a:t>Involve office staff in communication with patients </a:t>
            </a:r>
            <a:br>
              <a:rPr sz="2200"/>
            </a:br>
            <a:r>
              <a:rPr b="1" lang="en-US" sz="2200" spc="-1" strike="noStrike">
                <a:solidFill>
                  <a:srgbClr val="475a8d"/>
                </a:solidFill>
                <a:latin typeface="Arial"/>
                <a:ea typeface="Arial"/>
              </a:rPr>
              <a:t>(82%)</a:t>
            </a:r>
            <a:endParaRPr b="1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757080" indent="-2480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475a8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475a8d"/>
                </a:solidFill>
                <a:latin typeface="Arial"/>
                <a:ea typeface="Arial"/>
              </a:rPr>
              <a:t>Spend enough time with patients; don’t act hurried (73%)</a:t>
            </a:r>
            <a:endParaRPr b="1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757080" indent="-2480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475a8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475a8d"/>
                </a:solidFill>
                <a:latin typeface="Arial"/>
                <a:ea typeface="Arial"/>
              </a:rPr>
              <a:t>Listen carefully (73%)</a:t>
            </a:r>
            <a:endParaRPr b="1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757080" indent="-2480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475a8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475a8d"/>
                </a:solidFill>
                <a:latin typeface="Arial"/>
                <a:ea typeface="Arial"/>
              </a:rPr>
              <a:t>Provide clear, simple explanations (64%)</a:t>
            </a:r>
            <a:endParaRPr b="1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757080" indent="-2480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475a8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475a8d"/>
                </a:solidFill>
                <a:latin typeface="Arial"/>
                <a:ea typeface="Arial"/>
              </a:rPr>
              <a:t>Greet patients by shaking hands, introducing self (64%)</a:t>
            </a:r>
            <a:endParaRPr b="1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757080" indent="-2480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475a8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475a8d"/>
                </a:solidFill>
                <a:latin typeface="Arial"/>
                <a:ea typeface="Arial"/>
              </a:rPr>
              <a:t>Ask social or personal questions; track and follow this information (64%)</a:t>
            </a:r>
            <a:endParaRPr b="1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757080" indent="-2480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475a8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475a8d"/>
                </a:solidFill>
                <a:latin typeface="Arial"/>
                <a:ea typeface="Arial"/>
              </a:rPr>
              <a:t>Devise action plans/next steps at each visit (64%)</a:t>
            </a:r>
            <a:endParaRPr b="1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</a:rPr>
              <a:t>CAHPS Captures Six of the</a:t>
            </a:r>
            <a:br>
              <a:rPr sz="3200"/>
            </a:br>
            <a:r>
              <a:rPr b="1" lang="en-US" sz="3200" spc="-1" strike="noStrike">
                <a:solidFill>
                  <a:srgbClr val="572314"/>
                </a:solidFill>
                <a:latin typeface="Arial"/>
              </a:rPr>
              <a:t>Nine Behavior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837720" y="91440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65000" indent="-25056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475a8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765000" indent="-25056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475a8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Employ office staff with good people skills</a:t>
            </a:r>
            <a:endParaRPr b="1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765000" indent="-25056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a6a6a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a6a6a6"/>
                </a:solidFill>
                <a:latin typeface="Arial"/>
                <a:ea typeface="Arial"/>
              </a:rPr>
              <a:t>Use non-verbal communication</a:t>
            </a:r>
            <a:endParaRPr b="1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765000" indent="-25056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475a8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Involve office staff in communication with patients</a:t>
            </a:r>
            <a:endParaRPr b="1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765000" indent="-25056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475a8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Spend enough time with patients; don’t act hurried</a:t>
            </a:r>
            <a:endParaRPr b="1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765000" indent="-25056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475a8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Listen carefully</a:t>
            </a:r>
            <a:endParaRPr b="1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765000" indent="-25056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475a8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Provide clear, simple explanations</a:t>
            </a:r>
            <a:endParaRPr b="1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765000" indent="-25056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a6a6a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a6a6a6"/>
                </a:solidFill>
                <a:latin typeface="Arial"/>
                <a:ea typeface="Arial"/>
              </a:rPr>
              <a:t>Greet patients by shaking hands, introducing self</a:t>
            </a:r>
            <a:endParaRPr b="1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765000" indent="-25056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a6a6a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6a6a6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a6a6a6"/>
                </a:solidFill>
                <a:latin typeface="Arial"/>
                <a:ea typeface="Arial"/>
              </a:rPr>
              <a:t>Ask social or personal questions; track and follow this information</a:t>
            </a:r>
            <a:endParaRPr b="1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765000" indent="-25056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475a8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Devise action plans/next steps at each visit</a:t>
            </a:r>
            <a:endParaRPr b="1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Presentation Outlin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339560" y="1371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a6a6"/>
                </a:solidFill>
                <a:latin typeface="Arial"/>
                <a:ea typeface="Arial"/>
              </a:rPr>
              <a:t>Why focus on doctor-patient communication?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a6a6"/>
                </a:solidFill>
                <a:latin typeface="Arial"/>
                <a:ea typeface="Arial"/>
              </a:rPr>
              <a:t>Do CAHPS surveys capture important elements of doctor-patient communication from physician perspective?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a6a6"/>
                </a:solidFill>
                <a:latin typeface="Arial"/>
                <a:ea typeface="Arial"/>
              </a:rPr>
              <a:t>Feedback from high-performing physicians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Summary and implic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Presentation Outlin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339560" y="1371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Why focus on doctor-patient communication?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Do CAHPS</a:t>
            </a:r>
            <a:r>
              <a:rPr b="1" lang="en-US" sz="2400" spc="-1" strike="noStrike">
                <a:solidFill>
                  <a:srgbClr val="c32d2e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surveys capture important elements of doctor-patient communication from physician perspective?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Feedback from high-performing physicians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Summary and implications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Summary of Finding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18960" y="11426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CAHPS survey items capture many of the communication behaviors most frequently mentioned by high performing physicia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Three aspects of communication are not captured by current CAHPS item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2280" indent="-17460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Non-verbal communic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2280" indent="-17460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Greeting the pati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2280" indent="-17460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Tracking personal information about the pati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Possible Next Steps </a:t>
            </a:r>
            <a:endParaRPr b="1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18960" y="11426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Testing and developing additional patient experience-of-care measures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2280" indent="-17460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Nonverbal communication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2280" indent="-17460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Physician greeting and introducing self to patient and family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2280" indent="-17460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Physician tracking of personal information about patient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Further research is important to understand additional value and association with other patient experience measures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Slide Number Placeholder 3"/>
          <p:cNvSpPr/>
          <p:nvPr/>
        </p:nvSpPr>
        <p:spPr>
          <a:xfrm>
            <a:off x="8381880" y="6305400"/>
            <a:ext cx="4572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48B3-CA69-4375-BE4E-09A3E35DC132}" type="slidenum"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7" descr="health_RGB.gif                                                 00017ABCMacintosh HD                   BB0648D2:"/>
          <p:cNvPicPr/>
          <p:nvPr/>
        </p:nvPicPr>
        <p:blipFill>
          <a:blip r:embed="rId1"/>
          <a:stretch/>
        </p:blipFill>
        <p:spPr>
          <a:xfrm>
            <a:off x="3276720" y="2392200"/>
            <a:ext cx="335268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Presentation Outlin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339560" y="1371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Why focus on doctor-patient communication?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a6a6"/>
                </a:solidFill>
                <a:latin typeface="Arial"/>
                <a:ea typeface="Arial"/>
              </a:rPr>
              <a:t>Do CAHPS surveys capture important elements of doctor-patient communication from physician perspective?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a6a6"/>
                </a:solidFill>
                <a:latin typeface="Arial"/>
                <a:ea typeface="Arial"/>
              </a:rPr>
              <a:t>Feedback from high-performing physicians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a6a6"/>
                </a:solidFill>
                <a:latin typeface="Arial"/>
                <a:ea typeface="Arial"/>
              </a:rPr>
              <a:t>Summary and implications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Doctor-Patient Communication Is Critically Important to Patient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218960" y="11426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Good communication skills are among the qualities most desired 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2280" indent="-17460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Doctor listens to patient concer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2280" indent="-17460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Doctor explains health problems clearl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Effective communication is key to positive patient-doctor relationship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Patient reports about communication are strongly associated with global rating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Communication Measures used to Improve Patient Experienc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218960" y="14475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Quality improve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Element of pay-for-performance systems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Recognition as a patient-centered medical hom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Presentation Outlin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339560" y="1371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a6a6"/>
                </a:solidFill>
                <a:latin typeface="Arial"/>
                <a:ea typeface="Arial"/>
              </a:rPr>
              <a:t>Why focus on doctor-patient communication?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Do CAHPS</a:t>
            </a:r>
            <a:r>
              <a:rPr b="1" lang="en-US" sz="2400" spc="-1" strike="noStrike">
                <a:solidFill>
                  <a:srgbClr val="c32d2e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surveys capture important elements of doctor-patient communication from physician perspective?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a6a6"/>
                </a:solidFill>
                <a:latin typeface="Arial"/>
                <a:ea typeface="Arial"/>
              </a:rPr>
              <a:t>Feedback from high-performing physicians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a6a6"/>
                </a:solidFill>
                <a:latin typeface="Arial"/>
                <a:ea typeface="Arial"/>
              </a:rPr>
              <a:t>Summary and implications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CAHPS Surveys Address Communication from Patient Perspectiv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7280" y="1371240"/>
            <a:ext cx="7575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During CAHPS development, consumers identify important aspects of ca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Patients are the best or only source of information for most measur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Clinician and Group (CG) CAHPS topics includ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2280" indent="-17460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doctor-patient communic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2280" indent="-17460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acces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2280" indent="-17460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coordination of ca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2280" indent="-17460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courtesy and helpfulness of office staff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2280" indent="-174600">
              <a:lnSpc>
                <a:spcPct val="100000"/>
              </a:lnSpc>
              <a:spcBef>
                <a:spcPts val="550"/>
              </a:spcBef>
              <a:buClr>
                <a:srgbClr val="c32d2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overall rating of docto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Physicians Have Invaluable</a:t>
            </a:r>
            <a:br>
              <a:rPr sz="3200"/>
            </a:b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Perspective on Communication Item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1339560" y="1371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As CAHPS stakeholders, physicians are consulted during CAHPS survey develop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buClr>
                <a:srgbClr val="c32d2e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5a8d"/>
                </a:solidFill>
                <a:latin typeface="Arial"/>
                <a:ea typeface="Arial"/>
              </a:rPr>
              <a:t>But physicians are not interviewed about best practices related to communic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We Asked High-Performing Physicians…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1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218960" y="1447920"/>
            <a:ext cx="7499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ctr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75a8d"/>
                </a:solidFill>
                <a:latin typeface="Arial"/>
                <a:ea typeface="Arial"/>
              </a:rPr>
              <a:t>How well do the CAHPS survey items capture the important elements of</a:t>
            </a:r>
            <a:br>
              <a:rPr sz="2800"/>
            </a:br>
            <a:r>
              <a:rPr b="1" i="1" lang="en-US" sz="2800" spc="-1" strike="noStrike">
                <a:solidFill>
                  <a:srgbClr val="475a8d"/>
                </a:solidFill>
                <a:latin typeface="Arial"/>
                <a:ea typeface="Arial"/>
              </a:rPr>
              <a:t>doctor-patient communication?</a:t>
            </a:r>
            <a:endParaRPr b="1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5T17:46:17Z</dcterms:created>
  <dc:creator/>
  <dc:description/>
  <dc:language>en-US</dc:language>
  <cp:lastModifiedBy/>
  <dcterms:modified xsi:type="dcterms:W3CDTF">2012-09-06T16:04:13Z</dcterms:modified>
  <cp:revision>1</cp:revision>
  <dc:subject/>
  <dc:title/>
</cp:coreProperties>
</file>