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5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C044-6B44-4763-B911-E9E5DC1873C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6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27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8989-7494-47D5-BD97-AECCB4641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FA07-DB22-43BD-A739-FC85E7303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ACB3-181C-49FA-AAF2-71FBCCBE1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BC5F-C074-4C5A-8D4A-EFDF073B0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0668-9514-4844-AD11-05964BC39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844C-DDB7-41C7-9476-2848F238F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5E01-10FF-4988-9139-6A826BF2F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ED01-5CB9-46C8-9A50-B2CD4A95B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C8AD-49CA-4111-A5CA-41E7CC310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92F6-53BC-4600-953F-01C8907A6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D73B-992A-4D5A-BF98-1588793EA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CACD-26B5-4F72-8B17-964DA2E8E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45AF-4FDF-48E3-8691-3C61A2EEF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D377-05A4-4F1F-B314-BF86C0479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DA30-A1F4-4E8D-8C8C-281B1D2E2F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F505-D76F-4A43-B385-91C581B86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3CD9-A45E-40A3-9F4D-8AD276AE9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E5F2-E96E-4D3C-A626-CE0A3A3E9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D482-11FA-4E45-82A4-3973ECDD6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1DCA-A22A-40B4-91F2-85D6E53A6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5960-2AF1-4BD0-95FB-9C03F7F35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80F7-F83F-4879-9D68-CE4AD1376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2689C-0D9E-404B-911A-4E26A8E4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449C3-AE61-43DD-AAEA-973100EF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328400" y="36000"/>
            <a:ext cx="74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FC557-7EBC-423F-9ADC-9B59A422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45FF7-0873-491B-B452-728D45C2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FE589-6D18-406C-B6B4-AE0317BF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62E44-8387-4E37-9FCB-6A4D77E1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8ED88-1C4A-4F9D-8251-4C722844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E978A-1110-414D-AA4F-7F5B9F5B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6388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39972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32840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86388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39972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E5A57-0226-4754-B9BF-6E6CAD17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388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972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2840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388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972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C9D8-EAFE-4A53-A98B-50931454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C95C-C569-43E3-9A1F-0FF8C36E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DEC8-FED6-4CCB-B03F-F1F9480F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311-B80C-4C4A-A120-C481690C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4C36-A5F7-4D13-B844-619174E3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28400" y="36000"/>
            <a:ext cx="74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A106-6EDF-4F6C-A6A7-A791E944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AC5-458C-4442-838E-B82140C7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60B-0060-4E30-ABCC-554E1423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0C0E-1B35-4A53-8CA7-F39A1F3C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A6BE-D0D6-4BD7-84F2-E2EA9F00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FA9-7975-4F67-BDAC-0479FC22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6388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9972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2840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6388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9972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B1E-F01F-47A4-B9F9-26185482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6CEE-8BC0-4FEB-87A0-9612BE39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C625-58B0-4808-8925-60743ED2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2698-F52A-4613-BD86-9C49D991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389F-14EB-40E5-8C40-D9CF4A35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5701-AF0D-4A00-ADB9-FB7E83DD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28400" y="36000"/>
            <a:ext cx="74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680C-74F0-472E-983F-B02271E3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89F2-F7DB-416C-B5EF-E3E23BBF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F736-E571-4906-995C-562E8C80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CAF0-6E3E-4D96-9026-3B661FEF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C3D0-07A0-41D4-A32F-312F959E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9C09-8544-4106-B394-DE7EBA2F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6388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9972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32840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6388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9972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223A-BA11-452E-A972-8C68A389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9B2CE-C564-4004-8F4F-4BAE3066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E32B6-41CE-4D63-9387-FE9E9E9E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9F9E4-FCD9-4178-913F-81C813FE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DB393-471C-4801-A06D-E148D3F1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B8514-95E7-4542-959E-9BE78AC4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328400" y="36000"/>
            <a:ext cx="74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A1A6D-6287-43DB-B982-A48CDB5B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8AE42-D1DB-4C78-B232-3AA9ABDA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CF240-B5B1-46F0-B2C2-2333BFCE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80293-740B-48C4-A7A7-62EAB863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C226C-FFF9-40E3-BEAA-9258D61D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9D7CE-2F66-474E-858E-C111398F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6388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39972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2840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86388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39972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CE9FE-BEF0-4521-BE02-C9B3EEE8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F4A2D-A351-4C5B-9F48-8372814F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6E64B-F7C0-4161-AADF-48B3E2CA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0A87E-3A31-41CA-B8EC-BAD3A387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30410-4E57-4FB5-9B54-51A37533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E2D41-ACC4-4CEF-BE62-5CCDE6A8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328400" y="36000"/>
            <a:ext cx="74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E1031-9788-4CE8-90B4-66A5BCB5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A3871-A642-4006-AC61-15E3BBB3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B835F-40F8-4DBA-A280-A0818305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94419-0BF9-483B-895E-285CC5A1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A1CEB-4F59-454F-8D41-A4AAFB78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49B4B-2D45-41DF-AE0B-2B4ED8E4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28400" y="36000"/>
            <a:ext cx="74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86388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39972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32840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86388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39972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319C6-3F70-481E-9786-E94D4E0F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4661C-BFD5-4DB4-9460-6DB053E3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CD3B8-DF66-411D-BD9B-48BABADD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F715A-72A6-409E-A275-FB1997F1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0A3E3-FB3C-403C-912A-8A114622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AEBA4-0BEF-40FE-A0C5-479F4764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328400" y="36000"/>
            <a:ext cx="74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CC31F-7C3E-4E87-BB34-0CEC28AC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B7701-8A2D-435C-AF72-A4E30BBF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76113-B96B-4826-8F68-ED6919F9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55B2F-18B3-426A-8296-2E6DA360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12A3C-9B65-431E-8626-5CC2DFDA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E162C-2BFD-4A43-91A9-3CA4E617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6388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9972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32840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86388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9972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A062D-CD7B-45E7-8782-74B551BA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869ED-B014-48E8-A1C0-28192B1E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3C1FD-DDCE-4791-94E7-8B0E999B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A791E-B73D-4C83-B79E-55369D43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465E5-21D7-4CF9-BBD0-95959F33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38182-21B6-4C2F-A230-637A095F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328400" y="36000"/>
            <a:ext cx="74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BAFED-7A51-48E8-A9D7-BAFA3187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07271-5ADA-41EB-9D87-BAF3B3A2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0089B-3E2B-430A-9E88-DE6E5B01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6DAF7-6E8A-4064-889D-23B05654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42DD6-5654-456E-AE9C-E7DB6010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3677F-EAD4-4474-B095-2D5BA020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388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39972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32840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86388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39972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E00DF-55B4-4FD6-A804-D8625B63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1AA8B-B79D-4F70-A229-2DE07049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890CA-42BF-4D4E-A346-E7C577EF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DA9F9-F575-4715-B9E1-F1BBC064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53B57-D05C-4E0D-8F78-6C8316C1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ABD43-945C-4FE7-9A76-FCD8C947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328400" y="36000"/>
            <a:ext cx="74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8F3CD-6912-4212-BF19-FCF3F09B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CBAAB-F094-4B91-84B7-AD91B6FC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2AAA1-0BA9-4D12-8260-7836E2DB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A0443-1ADE-4634-B2EE-EBE70523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01703-EBE9-4D59-B073-19E6DF60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57AB1-C06C-47E7-937E-9A628C98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6388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9972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32840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86388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9972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C4577-D943-4D8F-93F5-6D303B5B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9809C-B618-4C16-8997-17BB4882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DB7F2-2047-4A87-B739-674C822B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7DCB3-EC1E-412E-9869-B61906E5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Box 1" hidden="1"/>
          <p:cNvSpPr/>
          <p:nvPr/>
        </p:nvSpPr>
        <p:spPr>
          <a:xfrm>
            <a:off x="7702560" y="6400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9842b-</a:t>
            </a:r>
            <a:fld id="{7A611C16-3A3F-4127-978A-E8749C4330B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6934320" y="6462720"/>
            <a:ext cx="639720" cy="181080"/>
          </a:xfrm>
          <a:prstGeom prst="rect">
            <a:avLst/>
          </a:prstGeom>
          <a:ln w="0">
            <a:noFill/>
          </a:ln>
        </p:spPr>
      </p:pic>
      <p:sp>
        <p:nvSpPr>
          <p:cNvPr id="5" name="TextBox 3"/>
          <p:cNvSpPr/>
          <p:nvPr/>
        </p:nvSpPr>
        <p:spPr>
          <a:xfrm>
            <a:off x="7034040" y="6488280"/>
            <a:ext cx="21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F98A-8D1E-454C-8E56-74CD6D03B25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Oval 9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45" name="Oval 9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Oval 10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1"/>
          </p:nvPr>
        </p:nvSpPr>
        <p:spPr>
          <a:xfrm>
            <a:off x="3580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2"/>
          </p:nvPr>
        </p:nvSpPr>
        <p:spPr>
          <a:xfrm>
            <a:off x="533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8381880" y="6305400"/>
            <a:ext cx="4572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1301-3761-45FD-B147-82ACB4305366}" type="slidenum">
              <a:rPr b="0" lang="en-US" sz="18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3580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533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8381880" y="6305400"/>
            <a:ext cx="4572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36DC-1791-4295-AE54-91B121ED17E8}" type="slidenum">
              <a:rPr b="0" lang="en-US" sz="18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 hidden="1"/>
          <p:cNvSpPr/>
          <p:nvPr/>
        </p:nvSpPr>
        <p:spPr>
          <a:xfrm>
            <a:off x="7702560" y="6400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9842b-</a:t>
            </a:r>
            <a:fld id="{70AE030E-7D07-417E-BBA6-53630B479AB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tretch/>
        </p:blipFill>
        <p:spPr>
          <a:xfrm>
            <a:off x="6934320" y="6462720"/>
            <a:ext cx="639720" cy="1810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7034040" y="6488280"/>
            <a:ext cx="21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9BA9-BDAD-4D13-BA90-D3E1E54BBE7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2"/>
          <p:cNvSpPr/>
          <p:nvPr/>
        </p:nvSpPr>
        <p:spPr>
          <a:xfrm>
            <a:off x="69343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4BC8-B223-4F1B-97C8-AFD7BE292A3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3580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533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7813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771C-9ACC-4843-82B6-36C0DEBA49E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3580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533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381880" y="6305400"/>
            <a:ext cx="4572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BB83-56ED-4914-94E7-0D65505096E3}" type="slidenum">
              <a:rPr b="0" lang="en-US" sz="18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67816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B207-74D7-4E3B-B6C2-B2E3D8270C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3580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533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8381880" y="6305400"/>
            <a:ext cx="4572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F6D3-F2F2-4E99-9248-B9DFF953809E}" type="slidenum">
              <a:rPr b="0" lang="en-US" sz="18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Rectangle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62" name="Rectangle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lowchart: Process 14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>
            <a:off x="3580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7"/>
          </p:nvPr>
        </p:nvSpPr>
        <p:spPr>
          <a:xfrm>
            <a:off x="533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8"/>
          </p:nvPr>
        </p:nvSpPr>
        <p:spPr>
          <a:xfrm>
            <a:off x="8381880" y="6305400"/>
            <a:ext cx="4572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A900-A45A-48B9-B135-D55311EB9B92}" type="slidenum">
              <a:rPr b="0" lang="en-US" sz="18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 hidden="1"/>
          <p:cNvSpPr/>
          <p:nvPr/>
        </p:nvSpPr>
        <p:spPr>
          <a:xfrm>
            <a:off x="7702560" y="6400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9842b-</a:t>
            </a:r>
            <a:fld id="{5013DD82-B0C6-4879-BC71-158BAC3ED24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3"/>
          <a:stretch/>
        </p:blipFill>
        <p:spPr>
          <a:xfrm>
            <a:off x="6934320" y="6462720"/>
            <a:ext cx="639720" cy="1810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3"/>
          <p:cNvSpPr/>
          <p:nvPr/>
        </p:nvSpPr>
        <p:spPr>
          <a:xfrm>
            <a:off x="7034040" y="6488280"/>
            <a:ext cx="21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3F79-912C-4645-86D6-172B7F84ABB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3580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533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8381880" y="6305400"/>
            <a:ext cx="4572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08B2-D153-4E60-B2E0-C0FC912D29BE}" type="slidenum">
              <a:rPr b="0" lang="en-US" sz="18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" hidden="1"/>
          <p:cNvSpPr/>
          <p:nvPr/>
        </p:nvSpPr>
        <p:spPr>
          <a:xfrm>
            <a:off x="7702560" y="6400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9842b-</a:t>
            </a:r>
            <a:fld id="{9CF2A392-09C1-44DA-B7C4-6177A8FA101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3"/>
          <a:stretch/>
        </p:blipFill>
        <p:spPr>
          <a:xfrm>
            <a:off x="6934320" y="6462720"/>
            <a:ext cx="639720" cy="181080"/>
          </a:xfrm>
          <a:prstGeom prst="rect">
            <a:avLst/>
          </a:prstGeom>
          <a:ln w="0">
            <a:noFill/>
          </a:ln>
        </p:spPr>
      </p:pic>
      <p:sp>
        <p:nvSpPr>
          <p:cNvPr id="355" name="TextBox 3"/>
          <p:cNvSpPr/>
          <p:nvPr/>
        </p:nvSpPr>
        <p:spPr>
          <a:xfrm>
            <a:off x="7034040" y="6488280"/>
            <a:ext cx="21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99FD-AD1B-4D37-A0AA-073544272A9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3580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533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8381880" y="6305400"/>
            <a:ext cx="4572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37C4-2153-4234-818C-AC988F2EB01C}" type="slidenum">
              <a:rPr b="0" lang="en-US" sz="18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93840" y="76320"/>
            <a:ext cx="740736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Confirming and Supplementing CAHPS® Communication Items Using Feedback from</a:t>
            </a: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High-Performing Physicians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. 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55760" y="2438280"/>
            <a:ext cx="7407360" cy="3276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0e04"/>
                </a:solidFill>
                <a:latin typeface="Gill Sans MT"/>
              </a:rPr>
              <a:t>Ron D. Hays, Ph.D.</a:t>
            </a: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0e04"/>
                </a:solidFill>
                <a:latin typeface="Gill Sans MT"/>
              </a:rPr>
              <a:t>Professor of Medicine and Health Services, UCLA</a:t>
            </a: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0e04"/>
                </a:solidFill>
                <a:latin typeface="Gill Sans MT"/>
              </a:rPr>
              <a:t>Denise D. Quigley, Ph.D.</a:t>
            </a: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0e04"/>
                </a:solidFill>
                <a:latin typeface="Gill Sans MT"/>
              </a:rPr>
              <a:t>CAHPS Quality Improvement Team, RAND</a:t>
            </a: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0e04"/>
                </a:solidFill>
                <a:latin typeface="Gill Sans MT"/>
              </a:rPr>
              <a:t>AHRQ Conference</a:t>
            </a: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0e04"/>
                </a:solidFill>
                <a:latin typeface="Gill Sans MT"/>
              </a:rPr>
              <a:t>September 11, 2012 (8-9:30am session)</a:t>
            </a: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0e04"/>
                </a:solidFill>
                <a:latin typeface="Gill Sans MT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6" name="Picture 3" descr="health_RGB.gif                                                 00017ABCMacintosh HD                   BB0648D2:"/>
          <p:cNvPicPr/>
          <p:nvPr/>
        </p:nvPicPr>
        <p:blipFill>
          <a:blip r:embed="rId1"/>
          <a:stretch/>
        </p:blipFill>
        <p:spPr>
          <a:xfrm>
            <a:off x="1252440" y="5943600"/>
            <a:ext cx="1828800" cy="8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Existing Collaboration with Health Plan Facilitated Exploratory Stud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1371600" y="1600200"/>
            <a:ext cx="7620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2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</a:rPr>
              <a:t>Health pla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ＭＳ Ｐゴシック"/>
              </a:rPr>
              <a:t>Has 72,000 adult, commercial HMO memb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ＭＳ Ｐゴシック"/>
              </a:rPr>
              <a:t>Administers CAHPS clinician-group survey annually (2005-2012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ＭＳ Ｐゴシック"/>
              </a:rPr>
              <a:t>Uses CAHPS for P4P, Q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ＭＳ Ｐゴシック"/>
              </a:rPr>
              <a:t>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ＭＳ Ｐゴシック"/>
              </a:rPr>
              <a:t>, and repor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ＭＳ Ｐゴシック"/>
              </a:rPr>
              <a:t>Was interested in physician perspecti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ＭＳ Ｐゴシック"/>
              </a:rPr>
              <a:t>Gave us physician-level CAHPS data and contact inform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ＭＳ Ｐゴシック"/>
              </a:rPr>
              <a:t>Permitted us to contact their physicia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High-Performing Physicians on </a:t>
            </a: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CAHPS were Identified 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218960" y="1142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2008 CAHPS dat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74880" indent="-34308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20,141 patients among 259 primary care physicians (46% response rate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alculated overall z-score (0-100 score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74880" indent="-34308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Average of CAHPS composites (access, communication, office staff) and global  rating of physicia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Rank ordered the 259 doctors by z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Physician Interview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18960" y="1142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ontacted the 40 highest-ranked doctors; interviewed 11 physicians who were will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Used a semi-structured, open-ended protocol with 36 ques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5572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Basic information about practi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5572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Philosophy of providing good c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5572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ommunication behaviors during patient visi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5572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Office practices related to communic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Taped and transcribed interview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Themes Coded…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218960" y="1142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oded the content of the interviews for important them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reated unique counts of codes per physicians; found 16 them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Two researchers independently coded the presence or absence of each of the 16 them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alculated a pooled kappa to assess</a:t>
            </a:r>
            <a:br>
              <a:rPr sz="2400"/>
            </a:b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inter-rater agreement for 16 themes (0.72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… </a:t>
            </a: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and Compared Themes to Behaviors Captured in CAHPS Survey Item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 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ore CAHPS item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Doctor-patient communic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Supplemental CAHPS item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Health information and promo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Shared decision-mak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Patient-centered medical home item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ultural competen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Health litera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Health information technolog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Presentation Outlin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3395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Why focus on doctor-patient communication?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Do CAHPS surveys capture important elements of doctor-patient communication from physician perspective?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Feedback from high-performing physician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Summary and implication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Physicians Identified 16 Behaviors that Support Communic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218960" y="12189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9 mentioned by more than 7 of 11 physicia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6 of 9 most frequently mentioned behaviors captured in current CAHPS item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3 behaviors identified for further survey item develop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72314"/>
                </a:solidFill>
                <a:latin typeface="Arial"/>
              </a:rPr>
              <a:t>Nine Behaviors Mentioned 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Arial"/>
              </a:rPr>
              <a:t>              Frequently (n = 11 physicians)</a:t>
            </a: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.(n = 11 </a:t>
            </a:r>
            <a:endParaRPr b="1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837720" y="9144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757080" indent="-2480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57080" indent="-2480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Employ office staff with good people skills (91%)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57080" indent="-2480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Use non-verbal communication (82%)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57080" indent="-2480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Involve office staff in communication with patients </a:t>
            </a:r>
            <a:br>
              <a:rPr sz="2200"/>
            </a:b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(82%)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57080" indent="-2480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Spend enough time with patients; don’t act hurried (73%)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57080" indent="-2480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Listen carefully (73%)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57080" indent="-2480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Provide clear, simple explanations (64%)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57080" indent="-2480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Greet patients by shaking hands, introducing self (64%)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57080" indent="-2480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Ask social or personal questions; track and follow this information (64%)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57080" indent="-2480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Devise action plans/next steps at each visit (64%)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</a:rPr>
              <a:t>CAHPS Captures Six of the</a:t>
            </a: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Arial"/>
              </a:rPr>
              <a:t>Nine Behavior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37720" y="9144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65000" indent="-2505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5000" indent="-2505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Employ office staff with good people skills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5000" indent="-2505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a6a6a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a6a6a6"/>
                </a:solidFill>
                <a:latin typeface="Arial"/>
                <a:ea typeface="Arial"/>
              </a:rPr>
              <a:t>Use non-verbal communication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5000" indent="-2505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Involve office staff in communication with patients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5000" indent="-2505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Spend enough time with patients; don’t act hurried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5000" indent="-2505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Listen carefully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5000" indent="-2505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Provide clear, simple explanations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5000" indent="-2505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a6a6a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a6a6a6"/>
                </a:solidFill>
                <a:latin typeface="Arial"/>
                <a:ea typeface="Arial"/>
              </a:rPr>
              <a:t>Greet patients by shaking hands, introducing self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5000" indent="-2505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a6a6a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6a6a6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a6a6a6"/>
                </a:solidFill>
                <a:latin typeface="Arial"/>
                <a:ea typeface="Arial"/>
              </a:rPr>
              <a:t>Ask social or personal questions; track and follow this information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5000" indent="-2505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Devise action plans/next steps at each visit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Presentation Outlin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3395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Why focus on doctor-patient communication?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Do CAHPS surveys capture important elements of doctor-patient communication from physician perspective?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Feedback from high-performing physician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Summary and implic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Presentation Outlin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3395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Why focus on doctor-patient communication?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Do CAHPS</a:t>
            </a:r>
            <a:r>
              <a:rPr b="1" lang="en-US" sz="2400" spc="-1" strike="noStrike">
                <a:solidFill>
                  <a:srgbClr val="c32d2e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surveys capture important elements of doctor-patient communication from physician perspective?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Feedback from high-performing physician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Summary and implication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Summary of Finding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18960" y="1142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AHPS survey items capture many of the communication behaviors most frequently mentioned by high performing physicia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Three aspects of communication are not captured by current CAHPS item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Non-verbal communic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Greeting the pati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Tracking personal information about the pati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Possible Next Steps 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18960" y="1142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Testing and developing additional patient experience-of-care measure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Nonverbal communication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Physician greeting and introducing self to patient and family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Physician tracking of personal information about patient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Further research is important to understand additional value and association with other patient experience measure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3"/>
          <p:cNvSpPr/>
          <p:nvPr/>
        </p:nvSpPr>
        <p:spPr>
          <a:xfrm>
            <a:off x="8381880" y="6305400"/>
            <a:ext cx="457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0E47-9335-4C74-856C-5AAA23EB4496}" type="slidenum"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7" descr="health_RGB.gif                                                 00017ABCMacintosh HD                   BB0648D2:"/>
          <p:cNvPicPr/>
          <p:nvPr/>
        </p:nvPicPr>
        <p:blipFill>
          <a:blip r:embed="rId1"/>
          <a:stretch/>
        </p:blipFill>
        <p:spPr>
          <a:xfrm>
            <a:off x="3276720" y="2392200"/>
            <a:ext cx="33526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Presentation Outlin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3395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Why focus on doctor-patient communication?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Do CAHPS surveys capture important elements of doctor-patient communication from physician perspective?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Feedback from high-performing physician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Summary and implication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Doctor-Patient Communication Is Critically Important to Patient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218960" y="1142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Good communication skills are among the qualities most desired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Doctor listens to patient concer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Doctor explains health problems clearl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Effective communication is key to positive patient-doctor relationship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Patient reports about communication are strongly associated with global rating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Communication Measures used to Improve Patient Experien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2189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Quality improv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Element of pay-for-performance system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Recognition as a patient-centered medical hom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Presentation Outlin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3395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Why focus on doctor-patient communication?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Do CAHPS</a:t>
            </a:r>
            <a:r>
              <a:rPr b="1" lang="en-US" sz="2400" spc="-1" strike="noStrike">
                <a:solidFill>
                  <a:srgbClr val="c32d2e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surveys capture important elements of doctor-patient communication from physician perspective?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Feedback from high-performing physician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Summary and implication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CAHPS Surveys Address Communication from Patient Perspectiv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7280" y="1371240"/>
            <a:ext cx="7575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During CAHPS development, consumers identify important aspects of c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Patients are the best or only source of information for most measur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linician and Group (CG) CAHPS topics includ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octor-patient communic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acces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oordination of c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ourtesy and helpfulness of office staf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overall rating of doct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Physicians Have Invaluable</a:t>
            </a: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Perspective on Communication Item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3395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As CAHPS stakeholders, physicians are consulted during CAHPS survey develop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But physicians are not interviewed about best practices related to communic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We Asked High-Performing Physicians…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218960" y="1447920"/>
            <a:ext cx="7499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75a8d"/>
                </a:solidFill>
                <a:latin typeface="Arial"/>
                <a:ea typeface="Arial"/>
              </a:rPr>
              <a:t>How well do the CAHPS survey items capture the important elements of</a:t>
            </a:r>
            <a:br>
              <a:rPr sz="2800"/>
            </a:br>
            <a:r>
              <a:rPr b="1" i="1" lang="en-US" sz="2800" spc="-1" strike="noStrike">
                <a:solidFill>
                  <a:srgbClr val="475a8d"/>
                </a:solidFill>
                <a:latin typeface="Arial"/>
                <a:ea typeface="Arial"/>
              </a:rPr>
              <a:t>doctor-patient communication?</a:t>
            </a:r>
            <a:endParaRPr b="1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17:46:17Z</dcterms:created>
  <dc:creator/>
  <dc:description/>
  <dc:language>en-US</dc:language>
  <cp:lastModifiedBy/>
  <dcterms:modified xsi:type="dcterms:W3CDTF">2012-09-06T16:04:13Z</dcterms:modified>
  <cp:revision>1</cp:revision>
  <dc:subject/>
  <dc:title/>
</cp:coreProperties>
</file>