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74800" y="889596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12D0E8-3221-4C78-AD48-272966751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LS was developed by the National Library of Medicine (NL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ting by date removes the relevancy ra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ghlighting function looks for words anywhere in the document, operating independently from the order typed into the search box. In some instances, the highlighted word may be part of a longer wo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rages the power of the main search eng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elect each filter the page refreshes and displays the number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24379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loring the Power of “Search”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ional Guideline Clearinghouse (NGC) and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ional Quality Measures Clearinghouse (NQMC) Web Sit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53960" y="4038480"/>
            <a:ext cx="6436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lanie Moyer Swan, MPH, P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NGC/NQMC, ECRI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Manager, NQ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a T. Haskell, MS, OTR/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Manager, NGC, ECRI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676520" y="22860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ced Search: NQ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ttp://qualitymeasures.ahrq.gov/search/advanced-search.asp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609480" y="1676520"/>
            <a:ext cx="7848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search results by using any of these fil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domain (Clinical quality measures: Outco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ment setting (Hospita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st aggregated level of services delivery addressed (Single Health Care Delivery or Public Health Organiza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sionals involved in delivery of health services (Physicia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use (Pay-for-perform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source (Electronic health/medical reco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676520" y="21924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ced Search: NQ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ttp://qualitymeasures.ahrq.gov/search/advanced-search.asp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609480" y="1676520"/>
            <a:ext cx="7848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QMC filters continu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tion (AHR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tion type (Federal government agency [U.S.]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rser (National Quality Foru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initiative (Hospital Com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itute of Medicine (IOM) care need or IOM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range and Ge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ation year (1998-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ulnerable Population (Childr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ed the literature to identif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recent works by researchers who used NQMC for a research sour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Measures for Primary Care of Complex Pediatric Patients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Chen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Pediatric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. 129(3):433-45; 2012 M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Used NQMC to conduct an environmental 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dentify existing measures using specified search term constr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Primary care, patient-centered care, family-centered care, medical home, chronic care model, disease management, care coordination, coordination of care, continuity of care, comprehensive care, chronic conditions, complex conditions, developmental cond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nform development of new quality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Quality improvement in neurology: AAN epilepsy quality measures: Report of the Quality Measurement and Reporting Subcommittee of the American Academy of Neurology. Fountain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Neurology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; 76(1):94-9; 2011 Ja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Used NQMC and NGC as an element of their evidence-based literature search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dentified published guidelines, measures, &amp; consensus papers to inform epilepsy quality measure development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ACE Project: Identification of Quality Measures for Hospice and Palliative Care. Schenck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 of Palliative Medic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13(12): 1451-9; 2010 De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NQMC as one of their resources to identif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ed quality measures targeting care in each of the 8 National Consensus Project for Palliative Car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Measurement in Diabetes Care. Leas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ulation Health Manageme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12(5): 265-71; 2009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NQMC as part of their strategy to perfor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nvironmental scan to identify and categorize existing diabetes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Care Measures for Migraine: A Comprehensive Review. Gagne,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Manageme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10(3): 138-146.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NQMC as part of their strategy to identif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quality indicators that can be used to assess the quality of care delivered to migraine sufferers at the health-plan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6978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04920" y="1508040"/>
            <a:ext cx="853416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67652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al World Application: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593640" y="1523880"/>
            <a:ext cx="792504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ndium of national guidelines for imaging of the pediatric patient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iams CH &amp; Frush, DP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diatr Radiol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2 Jan;42(1):82-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iv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nerate a list of national medical organization-endorsed guidelines with provisions for imaging the pediatric pati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arch Strateg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NGC’s Advanced Search function, the keyword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ag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imaging guidelin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adiograp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independently searched with Clinical Specialty limited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diatri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ults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ver 200 guideli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1678320" y="380880"/>
            <a:ext cx="61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al World Application: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685800" y="1828800"/>
            <a:ext cx="746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narrow the search results further by looking at the inclusion criter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lines produced by the following US-based organizations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erican College of Radiolog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erican Academy of Pediatrics, American College of Emergency Physicians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College of Surgeons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erican Academy of Family Physicians, National Institutes of Health, United States Preventive Services Task Fo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lines that contain “…at least some specific recommendations for the use of imaging in children…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676520" y="380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al World Application: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15680" cy="3551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369720" y="53341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several checklists narrowed the search result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ould be narrowed even further by the “Search within” fea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6002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out the Search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914400" y="182880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engines are state-of-the-art tools designed for sophisticated retrieval of medical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are ranked to ensure the most relevant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s are at the top of the p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expressions are not case-sensitive; simply type in a word or phra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6765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41280" y="1676520"/>
            <a:ext cx="8381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completing this Compendium, how could the authors ensure the guidelines/measures they included are the most curr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New Personalization Fea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600200" y="304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onalization Fe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341280" y="167652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Acces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Sear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ly Viewed Guideline  and Measure Summ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vorite Guideline and Measure Summ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vorite Organiz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ic Al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ain Alerts (NQMC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t Commentary Al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Create Customized E-mail Alerts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6002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y NGC” Personalized Hom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14400" y="1519200"/>
            <a:ext cx="7176960" cy="5186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3"/>
          <p:cNvSpPr/>
          <p:nvPr/>
        </p:nvSpPr>
        <p:spPr>
          <a:xfrm>
            <a:off x="8153280" y="2544840"/>
            <a:ext cx="959040" cy="1798560"/>
          </a:xfrm>
          <a:prstGeom prst="borderCallout2">
            <a:avLst>
              <a:gd name="adj1" fmla="val 18750"/>
              <a:gd name="adj2" fmla="val -8333"/>
              <a:gd name="adj3" fmla="val 7287"/>
              <a:gd name="adj4" fmla="val -41111"/>
              <a:gd name="adj5" fmla="val 43925"/>
              <a:gd name="adj6" fmla="val -82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 is shown a summary of his personalized content, and reminded that he can use the dashboard to manage this cont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6320" y="3048120"/>
            <a:ext cx="784080" cy="884160"/>
          </a:xfrm>
          <a:prstGeom prst="borderCallout2">
            <a:avLst>
              <a:gd name="adj1" fmla="val 18750"/>
              <a:gd name="adj2" fmla="val -8333"/>
              <a:gd name="adj3" fmla="val 12930"/>
              <a:gd name="adj4" fmla="val 152273"/>
              <a:gd name="adj5" fmla="val 84851"/>
              <a:gd name="adj6" fmla="val 293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's recent searches are displa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091360" y="4419720"/>
            <a:ext cx="1020960" cy="106668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31157"/>
              <a:gd name="adj5" fmla="val -35402"/>
              <a:gd name="adj6" fmla="val -99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's recently viewed Guideline Summaries are displa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8091360" y="1676520"/>
            <a:ext cx="1020960" cy="533160"/>
          </a:xfrm>
          <a:prstGeom prst="borderCallout2">
            <a:avLst>
              <a:gd name="adj1" fmla="val 18750"/>
              <a:gd name="adj2" fmla="val -8333"/>
              <a:gd name="adj3" fmla="val 7287"/>
              <a:gd name="adj4" fmla="val -41111"/>
              <a:gd name="adj5" fmla="val 117625"/>
              <a:gd name="adj6" fmla="val -887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ed “Welcome” messa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1523880" y="361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y NQMC” Personalized Hom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952560" y="1547640"/>
            <a:ext cx="72388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NGC/ NQMC” Sign-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62120" y="1714680"/>
            <a:ext cx="7619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NGC” User Dash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907920" y="1600200"/>
            <a:ext cx="732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ing Topic Alerts for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887400" y="1733400"/>
            <a:ext cx="7369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NQMC” User Dash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3580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676520" y="4222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cting Domain Alerts (NQMC on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ving Favorite Summ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707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69560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arching UMLS Conce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847800" y="1447920"/>
            <a:ext cx="821988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arch engines run in conjunction with a layer of semantic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etadat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applied to NGC/NQMC conten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dical language tags from selected vocabularies (e.g., MeSH, SNOMED) in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Unified Medical Language System (UMLS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the National Library of Medici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un a search on a UMLS concep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clicking on the term inside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lassification tab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dex-only 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ull-text results are not included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16002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ving Favorite Organizations: NG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6002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ving Favorite Organizations: NQ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38160" y="1468440"/>
            <a:ext cx="726768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ustomized E-Mail Alerts: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762120" y="1522440"/>
            <a:ext cx="3865320" cy="50832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4867200" y="1522440"/>
            <a:ext cx="388620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Favorite Guideline/Measure Summary Alert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 Sent when your favorite summary or summaries have been updated or withdrawn.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Favorite Organization Alert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 Sent when a summary or summaries associated with your favorite organization have been published, updated or withdrawn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opic Alert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 Sent when a summary or summaries, associated with a topic, have been published, updated, or withdrawn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Expert Commentary Alert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 Sent when a new Expert Commentary is published to the site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ustomized E-Mail Alerts: NQ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4640400" y="1527120"/>
            <a:ext cx="409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QMC allows you to receive all the same alerts as NGC. Plu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main Aler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ent when a summary or summaries, associated with that domain, have been published, updated, or withdraw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838080" y="1527120"/>
            <a:ext cx="3581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nk You for Listening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1066680" y="2278080"/>
            <a:ext cx="409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\\Ecrifs01\data\NGC\LHaskell\Expert Panel Meeting 2011\AAO screenshot.PNG"/>
          <p:cNvPicPr/>
          <p:nvPr/>
        </p:nvPicPr>
        <p:blipFill>
          <a:blip r:embed="rId1"/>
          <a:stretch/>
        </p:blipFill>
        <p:spPr>
          <a:xfrm>
            <a:off x="423720" y="1905120"/>
            <a:ext cx="8296560" cy="4276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1722600" y="30492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arching UMLS Conce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676520" y="304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r Search Ti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990720" y="1600200"/>
            <a:ext cx="72388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arch with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e or search resul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ons to sort 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default) 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elling sugges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provided when a search term is spelled incorrect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suggested word to search on that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s found within the body of a document 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ghligh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user navigates to the document from a search results p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752480" y="3049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anced Sear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914400" y="172080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the user to select specific subsets of Guideline or Measure summar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s the total data set by using selected fil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ing number of documents displayed on the page after selection of each fil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752480" y="30492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anced Sear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93880" y="182880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word is op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ing at least one box is requir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x-only searches may be run on MeSH terms (as are used 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Topic brow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by selecting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ease or Cond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atment or Interven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ealth Services Administr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box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676520" y="228600"/>
            <a:ext cx="662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ced Search: NGC</a:t>
            </a:r>
            <a:br>
              <a:rPr sz="28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ttp://www.guideline.gov/search/advanced-search.asp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533520" y="1660680"/>
            <a:ext cx="82296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search results by using any of these fil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ation year (1997-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line devel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of organization (academic institu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group and sex of target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nical specialty (nursing, pediatr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line category (treatment, scree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 tools (algorithms, patient resour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ded Users (physicians, hospita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676520" y="2286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ced Search: NGC</a:t>
            </a:r>
            <a:br>
              <a:rPr sz="28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ttp://www.guideline.gov/search/advanced-search.asp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762120" y="1981080"/>
            <a:ext cx="73911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GC filters continu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itute of Medicine (IOM) care need or IOM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to analyze evidence (meta-analy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to assess the quality &amp; strength of evidence (rating sche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to formulate the 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it to guidelines that include specific elements (implementation plan, cost analy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DHHS</cp:lastModifiedBy>
  <cp:lastPrinted>2012-09-06T18:50:09Z</cp:lastPrinted>
  <dcterms:modified xsi:type="dcterms:W3CDTF">2012-10-26T19:34:19Z</dcterms:modified>
  <cp:revision>301</cp:revision>
  <dc:subject/>
  <dc:title>AHRQ Slide Template 2004</dc:title>
</cp:coreProperties>
</file>