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274800" y="889596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B66368-1C0B-42F4-A8B3-CC5BF5759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LS was developed by the National Library of Medicine (NL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ting by date removes the relevancy ra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ighlighting function looks for words anywhere in the document, operating independently from the order typed into the search box. In some instances, the highlighted word may be part of a longer wo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rages the power of the main search eng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elect each filter the page refreshes and displays the number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111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24379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ploring the Power of “Search”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tional Guideline Clearinghouse (NGC) and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tional Quality Measures Clearinghouse (NQMC) Web Site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53960" y="4038480"/>
            <a:ext cx="6436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lanie Moyer Swan, MPH, P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anager, NGC/NQMC, ECRI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Manager, NQ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a T. Haskell, MS, OTR/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Manager, NGC, ECRI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1676520" y="228600"/>
            <a:ext cx="708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anced Search: NQ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ttp://qualitymeasures.ahrq.gov/search/advanced-search.asp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609480" y="1676520"/>
            <a:ext cx="7848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 search results by using any of these filt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 domain (Clinical quality measures: Outco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ment setting (Hospita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st aggregated level of services delivery addressed (Single Health Care Delivery or Public Health Organiza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essionals involved in delivery of health services (Physicia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use (Pay-for-perform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source (Electronic health/medical recor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1676520" y="219240"/>
            <a:ext cx="708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anced Search: NQ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ttp://qualitymeasures.ahrq.gov/search/advanced-search.asp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609480" y="1676520"/>
            <a:ext cx="78487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QMC filters continu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ation (AHRQ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ation type (Federal government agency [U.S.]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orser (National Quality Foru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 initiative (Hospital Com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itute of Medicine (IOM) care need or IOM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 range and Ge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ation year (1998-20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ulnerable Population (Childr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World Application: NQM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rched the literature to identify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recent works by researchers who used NQMC for a research sour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Measures for Primary Care of Complex Pediatric Patients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Chen et al.,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Pediatric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. 129(3):433-45; 2012 M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Used NQMC to conduct an environmental 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Identify existing measures using specified search term constru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Primary care, patient-centered care, family-centered care, medical home, chronic care model, disease management, care coordination, coordination of care, continuity of care, comprehensive care, chronic conditions, complex conditions, developmental cond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Inform development of new quality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World Application: NQM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Quality improvement in neurology: AAN epilepsy quality measures: Report of the Quality Measurement and Reporting Subcommittee of the American Academy of Neurology. Fountain et al.,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Neurology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; 76(1):94-9; 2011 Ja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Used NQMC and NGC as an element of their evidence-based literature search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Identified published guidelines, measures, &amp; consensus papers to inform epilepsy quality measure development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World Application: NQM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ACE Project: Identification of Quality Measures for Hospice and Palliative Care. Schenck et al.,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urnal of Palliative Medicin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13(12): 1451-9; 2010 De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NQMC as one of their resources to identif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ed quality measures targeting care in each of the 8 National Consensus Project for Palliative Care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World Application: NQM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Measurement in Diabetes Care. Leas et al.,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pulation Health Managemen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12(5): 265-71; 2009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NQMC as part of their strategy to perfor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nvironmental scan to identify and categorize existing diabetes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Care Measures for Migraine: A Comprehensive Review. Gagne, et al.,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 Managemen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10(3): 138-146. 200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NQMC as part of their strategy to identif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quality indicators that can be used to assess the quality of care delivered to migraine sufferers at the health-plan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6978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 World Application: NQM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04920" y="1508040"/>
            <a:ext cx="853416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676520" y="380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al World Application: NG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593640" y="1523880"/>
            <a:ext cx="7925040" cy="51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ndium of national guidelines for imaging of the pediatric patient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iams CH &amp; Frush, DP.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ediatr Radiol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12 Jan;42(1):82-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ive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nerate a list of national medical organization-endorsed guidelines with provisions for imaging the pediatric pati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arch Strategy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NGC’s Advanced Search function, the keyword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ag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imaging guidelin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adiograph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independently searched with Clinical Specialty limited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diatri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ults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ver 200 guidelin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1678320" y="380880"/>
            <a:ext cx="61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al World Application: NG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685800" y="1828800"/>
            <a:ext cx="746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narrow the search results further by looking at the inclusion criteri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idelines produced by the following US-based organizations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merican College of Radiolog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merican Academy of Pediatrics, American College of Emergency Physicians,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rican College of Surgeons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merican Academy of Family Physicians, National Institutes of Health, United States Preventive Services Task Fo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idelines that contain “…at least some specific recommendations for the use of imaging in children…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1676520" y="3808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al World Application: NG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815680" cy="35510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"/>
          <p:cNvSpPr/>
          <p:nvPr/>
        </p:nvSpPr>
        <p:spPr>
          <a:xfrm>
            <a:off x="369720" y="53341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several checklists narrowed the search results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ould be narrowed even further by the “Search within” fea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160020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bout the Search Fun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914400" y="1828800"/>
            <a:ext cx="73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 engines are state-of-the-art tools designed for sophisticated retrieval of medical inform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are ranked to ensure the most relevant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s are at the top of the pa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 expressions are not case-sensitive; simply type in a word or phra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6765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341280" y="1676520"/>
            <a:ext cx="83818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completing this Compendium, how could the authors ensure the guidelines/measures they included are the most curr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New Personalization Fea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1600200" y="304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sonalization Fea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341280" y="167652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y Acces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Sear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ly Viewed Guideline  and Measure Summar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vorite Guideline and Measure Summ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vorite Organiz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pic Ale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ain Alerts (NQMC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t Commentary Ale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Create Customized E-mail Alerts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1600200" y="304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y NGC” Personalized Home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"/>
          <p:cNvSpPr/>
          <p:nvPr/>
        </p:nvSpPr>
        <p:spPr>
          <a:xfrm>
            <a:off x="341280" y="1676520"/>
            <a:ext cx="838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914400" y="1519200"/>
            <a:ext cx="7176960" cy="51865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3"/>
          <p:cNvSpPr/>
          <p:nvPr/>
        </p:nvSpPr>
        <p:spPr>
          <a:xfrm>
            <a:off x="8153280" y="2544840"/>
            <a:ext cx="959040" cy="1798560"/>
          </a:xfrm>
          <a:prstGeom prst="borderCallout2">
            <a:avLst>
              <a:gd name="adj1" fmla="val 18750"/>
              <a:gd name="adj2" fmla="val -8333"/>
              <a:gd name="adj3" fmla="val 7287"/>
              <a:gd name="adj4" fmla="val -41111"/>
              <a:gd name="adj5" fmla="val 43925"/>
              <a:gd name="adj6" fmla="val -82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r is shown a summary of his personalized content, and reminded that he can use the dashboard to manage this cont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76320" y="3048120"/>
            <a:ext cx="784080" cy="884160"/>
          </a:xfrm>
          <a:prstGeom prst="borderCallout2">
            <a:avLst>
              <a:gd name="adj1" fmla="val 18750"/>
              <a:gd name="adj2" fmla="val -8333"/>
              <a:gd name="adj3" fmla="val 12930"/>
              <a:gd name="adj4" fmla="val 152273"/>
              <a:gd name="adj5" fmla="val 84851"/>
              <a:gd name="adj6" fmla="val 293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r's recent searches are display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8091360" y="4419720"/>
            <a:ext cx="1020960" cy="106668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-31157"/>
              <a:gd name="adj5" fmla="val -35402"/>
              <a:gd name="adj6" fmla="val -99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r's recently viewed Guideline Summaries are display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8091360" y="1676520"/>
            <a:ext cx="1020960" cy="533160"/>
          </a:xfrm>
          <a:prstGeom prst="borderCallout2">
            <a:avLst>
              <a:gd name="adj1" fmla="val 18750"/>
              <a:gd name="adj2" fmla="val -8333"/>
              <a:gd name="adj3" fmla="val 7287"/>
              <a:gd name="adj4" fmla="val -41111"/>
              <a:gd name="adj5" fmla="val 117625"/>
              <a:gd name="adj6" fmla="val -887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ized “Welcome” messag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1523880" y="361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y NQMC” Personalized Home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341280" y="1676520"/>
            <a:ext cx="838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533520" y="1906560"/>
            <a:ext cx="8189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952560" y="1547640"/>
            <a:ext cx="723888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1676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y NGC/ NQMC” Sign-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341280" y="1676520"/>
            <a:ext cx="838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533520" y="1906560"/>
            <a:ext cx="8189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762120" y="1714680"/>
            <a:ext cx="7619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1676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y NGC” User Dash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"/>
          <p:cNvSpPr/>
          <p:nvPr/>
        </p:nvSpPr>
        <p:spPr>
          <a:xfrm>
            <a:off x="341280" y="1676520"/>
            <a:ext cx="838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533520" y="1906560"/>
            <a:ext cx="8189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907920" y="1600200"/>
            <a:ext cx="7328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1676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lecting Topic Alerts for NG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887400" y="1733400"/>
            <a:ext cx="7369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1676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y NQMC” User Dash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35800" cy="49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1676520" y="4222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cting Domain Alerts (NQMC on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1676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aving Favorite Summa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707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69560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arching UMLS Concep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847800" y="1447920"/>
            <a:ext cx="821988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arch engines run in conjunction with a layer of semantic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metadat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applied to NGC/NQMC conten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edical language tags from selected vocabularies (e.g., MeSH, SNOMED) in th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Unified Medical Language System (UMLS)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om the National Library of Medici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un a search on a UMLS concep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y clicking on the term inside th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Classification tab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dex-only sea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ull-text results are not included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1600200" y="380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ving Favorite Organizations: NG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600200" y="380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ving Favorite Organizations: NQM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341280" y="1676520"/>
            <a:ext cx="838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533520" y="1906560"/>
            <a:ext cx="8189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38160" y="1468440"/>
            <a:ext cx="726768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1676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ustomized E-Mail Alerts: NG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341280" y="1676520"/>
            <a:ext cx="838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533520" y="1906560"/>
            <a:ext cx="8189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762120" y="1522440"/>
            <a:ext cx="3865320" cy="50832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4867200" y="1522440"/>
            <a:ext cx="388620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Favorite Guideline/Measure Summary Alerts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: Sent when your favorite summary or summaries have been updated or withdrawn.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Favorite Organization Alerts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: Sent when a summary or summaries associated with your favorite organization have been published, updated or withdrawn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Topic Alerts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: Sent when a summary or summaries, associated with a topic, have been published, updated, or withdrawn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Expert Commentary Alerts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: Sent when a new Expert Commentary is published to the site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1676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ustomized E-Mail Alerts: NQM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341280" y="1676520"/>
            <a:ext cx="838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4640400" y="1527120"/>
            <a:ext cx="409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QMC allows you to receive all the same alerts as NGC. Plu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main Aler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Sent when a summary or summaries, associated with that domain, have been published, updated, or withdraw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838080" y="1527120"/>
            <a:ext cx="35816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1676520" y="3808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nk You for Listening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341280" y="1676520"/>
            <a:ext cx="838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1066680" y="2278080"/>
            <a:ext cx="409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\\Ecrifs01\data\NGC\LHaskell\Expert Panel Meeting 2011\AAO screenshot.PNG"/>
          <p:cNvPicPr/>
          <p:nvPr/>
        </p:nvPicPr>
        <p:blipFill>
          <a:blip r:embed="rId1"/>
          <a:stretch/>
        </p:blipFill>
        <p:spPr>
          <a:xfrm>
            <a:off x="423720" y="1905120"/>
            <a:ext cx="8296560" cy="4276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1722600" y="30492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arching UMLS Concep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676520" y="304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r Search Ti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990720" y="1600200"/>
            <a:ext cx="723888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arch with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wse or search resul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ons to sort b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lev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default) o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elling suggest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provided when a search term is spelled incorrect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ic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suggested word to search on that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ds found within the body of a document ar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ighligh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user navigates to the document from a search results pa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1752480" y="3049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vanced Sear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914400" y="1720800"/>
            <a:ext cx="73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the user to select specific subsets of Guideline or Measure summar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s the total data set by using selected fil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ing number of documents displayed on the page after selection of each fil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1752480" y="304920"/>
            <a:ext cx="61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vanced Sear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93880" y="1828800"/>
            <a:ext cx="73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word is op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ing at least one box is requir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x-only searches may be run on MeSH terms (as are used 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Topic brow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by selecting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ease or Condi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atment or Interven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ealth Services Administr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box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1676520" y="228600"/>
            <a:ext cx="6629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anced Search: NGC</a:t>
            </a:r>
            <a:br>
              <a:rPr sz="28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ttp://www.guideline.gov/search/advanced-search.asp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533520" y="1660680"/>
            <a:ext cx="82296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 search results by using any of these filt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ation year (1997-20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ideline develo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of organization (academic institu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 group and sex of target 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nical specialty (nursing, pediatri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ideline category (treatment, screen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ation tools (algorithms, patient resourc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nded Users (physicians, hospita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1676520" y="22860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anced Search: NGC</a:t>
            </a:r>
            <a:br>
              <a:rPr sz="28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ttp://www.guideline.gov/search/advanced-search.asp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762120" y="1981080"/>
            <a:ext cx="73911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GC filters continu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itute of Medicine (IOM) care need or IOM 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to analyze evidence (meta-analys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to assess the quality &amp; strength of evidence (rating sche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to formulate the recommend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mit to guidelines that include specific elements (implementation plan, cost analys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dc:language>en-US</dc:language>
  <cp:lastModifiedBy>DHHS</cp:lastModifiedBy>
  <cp:lastPrinted>2012-09-06T18:50:09Z</cp:lastPrinted>
  <dcterms:modified xsi:type="dcterms:W3CDTF">2012-10-26T19:34:19Z</dcterms:modified>
  <cp:revision>301</cp:revision>
  <dc:subject/>
  <dc:title>AHRQ Slide Template 2004</dc:title>
</cp:coreProperties>
</file>