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9096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16400" y="-360"/>
            <a:ext cx="399096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399096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216400" y="6477120"/>
            <a:ext cx="399096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14BD-21F8-4DF6-A2B4-15C2E5206C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228680" y="3257640"/>
            <a:ext cx="6750000" cy="30859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60480" bIns="60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2892240" y="515520"/>
            <a:ext cx="34239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892600" y="515880"/>
            <a:ext cx="3423960" cy="25686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28680" y="3257640"/>
            <a:ext cx="6750000" cy="30859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60480" bIns="60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may be attending multiple presentations on various parts of the CER process; this slide is to anchor us to the part of the process we are discuss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728-1571-4E67-8C7C-E4F0B35B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242-8595-491F-9429-2ABB71FA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3BB-4896-4827-BD08-B9FFD89A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E67-0690-4E09-B42B-C41C0565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6AD-EBAB-4458-A01E-E2713AF3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910-F2D0-4A6F-8BC0-BAFD7E4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33F-C479-4DB2-85F2-4FAB183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158-DEDF-4F91-B426-076219E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944-8E12-4749-BDE4-DC02A96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7DA-8971-486A-8C63-49095F9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F8A-29D1-4141-925D-1004E9B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D97-7A67-4DE7-B5DD-E12BA26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E23-94CD-427C-8761-3092AD18A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with the Program!</a:t>
            </a:r>
            <a:br>
              <a:rPr sz="1400"/>
            </a:br>
            <a:br>
              <a:rPr sz="1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tools to modernize systematic reviews and meta-analy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026"/>
          <p:cNvSpPr/>
          <p:nvPr/>
        </p:nvSpPr>
        <p:spPr>
          <a:xfrm>
            <a:off x="457200" y="34290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eph Lau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ron Wallace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a Hadar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fts EPC / Brown E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istics about EPC evidence reports and comparative effectiveness review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Rectangle 1027"/>
          <p:cNvSpPr/>
          <p:nvPr/>
        </p:nvSpPr>
        <p:spPr>
          <a:xfrm>
            <a:off x="762120" y="220968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to complete ~15 month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 3 person-years (5-7 team members) of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00K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5,000 to 10,000 abstracts (one Tufts EPC report screened &gt;30,000 abstra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100+ full text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,000 citations were screened for the cancer pain evidence repor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n IE, Olkin I. Estimating time to conduct a meta-analysis from number of citations retrieved. JAMA 1999;282:634-35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391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tus to modernize SR metho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762120" y="16765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 now 30 years old, however, most steps remain largely manual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quirements (stakeholder engagement), new standards (IOM report) to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statistical methods appear but few are trained to implemen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 program now 15 years old, time and $$ to complete reports have 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more, quicker turnaround, less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often need to be up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voidable replications across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R Process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819-6A67-4232-B5F7-4B309D834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tools developed by investigators at Tufts EPC / Brown EP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01, T. Trikalinos) – abstract scree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Meta-anal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01, C. Schmid) – Powerful software to perform meta-analy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ufts EPC) – Systematic Review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urrently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software to facilitate conduct of systematic reviews and meta-analy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ed by 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2:35:04Z</dcterms:created>
  <dc:creator>Windows User</dc:creator>
  <dc:description/>
  <cp:keywords/>
  <dc:language>en-US</dc:language>
  <cp:lastModifiedBy>nhadar</cp:lastModifiedBy>
  <cp:lastPrinted>2000-04-09T19:55:26Z</cp:lastPrinted>
  <dcterms:modified xsi:type="dcterms:W3CDTF">2012-09-06T19:55:22Z</dcterms:modified>
  <cp:revision>285</cp:revision>
  <dc:subject/>
  <dc:title>Meta-analysis talk slide collection</dc:title>
</cp:coreProperties>
</file>