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9096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16400" y="-360"/>
            <a:ext cx="3990960" cy="304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399096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216400" y="6477120"/>
            <a:ext cx="3990960" cy="380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C0BB-A5DD-4F38-A996-A4CD4F6FAE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1228680" y="3257640"/>
            <a:ext cx="6750000" cy="30859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60480" bIns="60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2892240" y="515520"/>
            <a:ext cx="34239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892600" y="515880"/>
            <a:ext cx="3423960" cy="25686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28680" y="3257640"/>
            <a:ext cx="6750000" cy="3085920"/>
          </a:xfrm>
          <a:prstGeom prst="rect">
            <a:avLst/>
          </a:prstGeom>
          <a:noFill/>
          <a:ln w="0">
            <a:noFill/>
          </a:ln>
        </p:spPr>
        <p:txBody>
          <a:bodyPr lIns="119160" rIns="119160" tIns="60480" bIns="604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may be attending multiple presentations on various parts of the CER process; this slide is to anchor us to the part of the process we are discuss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DE4-6A33-48A8-8872-DED4E21A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67B-E758-46BB-BCA5-DE31869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B39-959B-4204-BBF0-4B0677A1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550-512C-45F8-AAF1-7F29412D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0EB-7FBA-4D7C-8617-135ABAB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FD2-9176-4DC6-ACBD-DBDF3D4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BD6-34DC-4EBD-9CD4-EC361FD3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0B1-883E-4831-A284-4C78B5A0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B7B-BA8D-45C7-8EC6-7CD1D5B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A0C-ECB7-47AC-8F16-3612CB97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1C4-7053-46DC-9CAB-938A8C02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942-28CC-466C-8240-737BA92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6468-1849-4982-B308-481BBEBAE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with the Program!</a:t>
            </a:r>
            <a:br>
              <a:rPr sz="1400"/>
            </a:br>
            <a:br>
              <a:rPr sz="1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tools to modernize systematic reviews and meta-analys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Rectangle 1026"/>
          <p:cNvSpPr/>
          <p:nvPr/>
        </p:nvSpPr>
        <p:spPr>
          <a:xfrm>
            <a:off x="457200" y="34290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eph Lau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ron Wallace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a Hadar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fts EPC / Brown E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atistics about EPC evidence reports and comparative effectiveness review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Rectangle 1027"/>
          <p:cNvSpPr/>
          <p:nvPr/>
        </p:nvSpPr>
        <p:spPr>
          <a:xfrm>
            <a:off x="762120" y="220968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to complete ~15 month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o 3 person-years (5-7 team members) of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300K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5,000 to 10,000 abstracts (one Tufts EPC report screened &gt;30,000 abstra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100+ full text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,000 citations were screened for the cancer pain evidence repor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52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n IE, Olkin I. Estimating time to conduct a meta-analysis from number of citations retrieved. JAMA 1999;282:634-35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391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tus to modernize SR metho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Rectangle 1027"/>
          <p:cNvSpPr/>
          <p:nvPr/>
        </p:nvSpPr>
        <p:spPr>
          <a:xfrm>
            <a:off x="762120" y="16765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 now 30 years old, however, most steps remain largely manual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quirements (stakeholder engagement), new standards (IOM report) to m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statistical methods appear but few are trained to implemen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C program now 15 years old, time and $$ to complete reports have 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e for more, quicker turnaround, less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often need to be up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voidable replications across the gl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ER Process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EB9-48E4-4836-A6BA-67BACC61C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tools developed by investigators at Tufts EPC / Brown EP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k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01, T. Trikalinos) – abstract scree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Meta-analy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01, C. Schmid) – Powerful software to perform meta-analy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ufts EPC) – Systematic Review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urrently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software to facilitate conduct of systematic reviews and meta-analy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ed by AHR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2:35:04Z</dcterms:created>
  <dc:creator>Windows User</dc:creator>
  <dc:description/>
  <cp:keywords/>
  <dc:language>en-US</dc:language>
  <cp:lastModifiedBy>nhadar</cp:lastModifiedBy>
  <cp:lastPrinted>2000-04-09T19:55:26Z</cp:lastPrinted>
  <dcterms:modified xsi:type="dcterms:W3CDTF">2012-09-06T19:55:22Z</dcterms:modified>
  <cp:revision>285</cp:revision>
  <dc:subject/>
  <dc:title>Meta-analysis talk slide collection</dc:title>
</cp:coreProperties>
</file>