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2.png" ContentType="image/png"/>
  <Override PartName="/ppt/media/image21.jpeg" ContentType="image/jpeg"/>
  <Override PartName="/ppt/media/image16.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4.jpeg" ContentType="image/jpeg"/>
  <Override PartName="/ppt/media/image3.jpeg" ContentType="image/jpeg"/>
  <Override PartName="/ppt/media/image4.jpeg" ContentType="image/jpeg"/>
  <Override PartName="/ppt/media/image5.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61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20" name="PlaceHolder 2"/>
          <p:cNvSpPr>
            <a:spLocks noGrp="1"/>
          </p:cNvSpPr>
          <p:nvPr>
            <p:ph type="dt" idx="27"/>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2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622"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3" name="PlaceHolder 5"/>
          <p:cNvSpPr>
            <a:spLocks noGrp="1"/>
          </p:cNvSpPr>
          <p:nvPr>
            <p:ph type="ftr" idx="28"/>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624" name="PlaceHolder 6"/>
          <p:cNvSpPr>
            <a:spLocks noGrp="1"/>
          </p:cNvSpPr>
          <p:nvPr>
            <p:ph type="sldNum" idx="29"/>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1616-2F5A-4226-AC28-5DA92C4A5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17440" y="696960"/>
            <a:ext cx="4648320" cy="3486240"/>
          </a:xfrm>
          <a:prstGeom prst="rect">
            <a:avLst/>
          </a:prstGeom>
          <a:ln w="0">
            <a:noFill/>
          </a:ln>
        </p:spPr>
      </p:sp>
      <p:sp>
        <p:nvSpPr>
          <p:cNvPr id="66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F826-3709-4B64-8668-10984EE69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17440" y="696960"/>
            <a:ext cx="4648320" cy="3486240"/>
          </a:xfrm>
          <a:prstGeom prst="rect">
            <a:avLst/>
          </a:prstGeom>
          <a:ln w="0">
            <a:noFill/>
          </a:ln>
        </p:spPr>
      </p:sp>
      <p:sp>
        <p:nvSpPr>
          <p:cNvPr id="69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8D4C-BF1E-4959-BCB6-57914ED32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17440" y="696960"/>
            <a:ext cx="4648320" cy="3486240"/>
          </a:xfrm>
          <a:prstGeom prst="rect">
            <a:avLst/>
          </a:prstGeom>
          <a:ln w="0">
            <a:noFill/>
          </a:ln>
        </p:spPr>
      </p:sp>
      <p:sp>
        <p:nvSpPr>
          <p:cNvPr id="6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AF5E-FE29-41A9-988B-0419E7D7E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17440" y="696960"/>
            <a:ext cx="4648320" cy="3486240"/>
          </a:xfrm>
          <a:prstGeom prst="rect">
            <a:avLst/>
          </a:prstGeom>
          <a:ln w="0">
            <a:noFill/>
          </a:ln>
        </p:spPr>
      </p:sp>
      <p:sp>
        <p:nvSpPr>
          <p:cNvPr id="67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6075-0879-44AF-A66A-5E55A598B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17440" y="696960"/>
            <a:ext cx="4648320" cy="3486240"/>
          </a:xfrm>
          <a:prstGeom prst="rect">
            <a:avLst/>
          </a:prstGeom>
          <a:ln w="0">
            <a:noFill/>
          </a:ln>
        </p:spPr>
      </p:sp>
      <p:sp>
        <p:nvSpPr>
          <p:cNvPr id="67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s a business guy I tried to figure out what tool I might use to beginI thought what might the best tool to begin.. I decided that a case study might be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eeping with the theme of  one of the organizations whose Board I am honored to Chair , it is a comparative study of the lives of two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re 38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re Presidents of their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young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fathers who died of hear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re dealing with their own hear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difference is that one of these men is 38 in 1959 the other is 38 in 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is heart attack  the man in 1959 is told to cut down on his smoking,get plenty of rest,and limit his activit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n is diagnosed in 1982,treated with medications,undergoes bypass surgery in 1984 and stents in 2001,all made available by research,done ,perhaps by some of the people in this room and certainly by some of the organizations you have work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C038-DF4C-4D6B-B0FE-060B8298E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17440" y="696960"/>
            <a:ext cx="4648320" cy="3486240"/>
          </a:xfrm>
          <a:prstGeom prst="rect">
            <a:avLst/>
          </a:prstGeom>
          <a:ln w="0">
            <a:noFill/>
          </a:ln>
        </p:spPr>
      </p:sp>
      <p:sp>
        <p:nvSpPr>
          <p:cNvPr id="67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Arial"/>
            </a:endParaRPr>
          </a:p>
        </p:txBody>
      </p:sp>
      <p:sp>
        <p:nvSpPr>
          <p:cNvPr id="67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91F1-B9E1-47A4-8CC9-B54EE268E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17440" y="696960"/>
            <a:ext cx="4648320" cy="3486240"/>
          </a:xfrm>
          <a:prstGeom prst="rect">
            <a:avLst/>
          </a:prstGeom>
          <a:ln w="0">
            <a:noFill/>
          </a:ln>
        </p:spPr>
      </p:sp>
      <p:sp>
        <p:nvSpPr>
          <p:cNvPr id="68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  its not like I haven’t been in a room with exceptionally bright people talking about research issues..this slide is a list of some of the forums I have been asked to participate in, and during which I found myself conducting my own private little stress tes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y personal experience in these initiatives has been extremely wide ranging..let me start by telling you,in some of these initiatives, I have been the only patient in the room; or one of two patients on the phone.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may not be aware of PCAC so let me give you a quick overview of what we do:</a:t>
            </a:r>
            <a:endParaRPr b="0" lang="en-US" sz="1100" spc="-1" strike="noStrike">
              <a:solidFill>
                <a:srgbClr val="000000"/>
              </a:solidFill>
              <a:latin typeface="Arial"/>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his committee is dedicated to continuing to advance the theory and practice of patient and consumer engagement and continues to work on best  practices to incorporate the views of patient and consumer engagement.We are presently engaged in developing a set of principles that hopefully will serve as the guide that will allow all stakeholders to be comfortable with the process.   </a:t>
            </a:r>
            <a:endParaRPr b="0" lang="en-US" sz="1100" spc="-1" strike="noStrike">
              <a:solidFill>
                <a:srgbClr val="000000"/>
              </a:solidFill>
              <a:latin typeface="Arial"/>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has been a work in progress for the Center but it has given us the opportunity to provide meaningful and substantive input to all aspects of CMTP’s activity from the perspective of patients and consumer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 would like to share with you now is a collection of what ive heard,what I have read,and what I have experienced. Hopefully it will convince you that it is important to have us in the room and at the table and my wish is that we will be educated enough to be able to help you make the critical decisions you are all called upon to mak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d if you made us comfortable after earning your respect,that wouldn’t be so bad eith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82"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CED3-48C9-4714-BAB1-F6030D2D4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17440" y="696960"/>
            <a:ext cx="4648320" cy="3486240"/>
          </a:xfrm>
          <a:prstGeom prst="rect">
            <a:avLst/>
          </a:prstGeom>
          <a:ln w="0">
            <a:noFill/>
          </a:ln>
        </p:spPr>
      </p:sp>
      <p:sp>
        <p:nvSpPr>
          <p:cNvPr id="68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marL="230040" indent="-2300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mpact of patient involvement throughout the research process?  The UK is working on this now- we need to understand this process in order to continually improve upon it</a:t>
            </a:r>
            <a:endParaRPr b="0" lang="en-US" sz="1200" spc="-1" strike="noStrike">
              <a:solidFill>
                <a:srgbClr val="000000"/>
              </a:solidFill>
              <a:latin typeface="Arial"/>
            </a:endParaRPr>
          </a:p>
          <a:p>
            <a:pPr marL="230040" indent="-2300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establish trust, ensure common language, work as a team, etc</a:t>
            </a: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6CBB-52C2-4C30-A32C-80A77C42A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17440" y="696960"/>
            <a:ext cx="4648320" cy="3486240"/>
          </a:xfrm>
          <a:prstGeom prst="rect">
            <a:avLst/>
          </a:prstGeom>
          <a:ln w="0">
            <a:noFill/>
          </a:ln>
        </p:spPr>
      </p:sp>
      <p:sp>
        <p:nvSpPr>
          <p:cNvPr id="68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should we proceed if we agree to shared responsibility and our challenges grow as patients  issues become more complex . I would ask you to do today  is to work on sending an appropriate message to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sign like this, but one but a message that signals a desire to collaborate and signals a willingness to be inclusive and welcoming, and patient; and that you have a desire to share your wisdom and let us be your partners in finding the pathways to good health. Science has advanced tremendously in my lifetime – working together, researchers, clinicians, patients, policy-makers, etc we have the opportunity to catapult science even further to address the questions and outcomes of most conce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3FED-30EC-4FEF-983B-B4FFCC995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17440" y="696960"/>
            <a:ext cx="4648320" cy="3486240"/>
          </a:xfrm>
          <a:prstGeom prst="rect">
            <a:avLst/>
          </a:prstGeom>
          <a:ln w="0">
            <a:noFill/>
          </a:ln>
        </p:spPr>
      </p:sp>
      <p:sp>
        <p:nvSpPr>
          <p:cNvPr id="69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request just an additional moment of your time. I would remind us all of the urgency to find the answers..from a very personal perspective; This is a photograph of my four extraordinary grand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sure you wouldn’t be terribly surprised to hear me say that from time to time I look at them, reflect silently and wonder if what happened to my grandfather’s ,my fathers, and to my coronary arteries is happening to theirs….I am somewhat comforted by the knowledge that people in rooms like this many years ago found some answers and that people like you continue to try to get it right..and so on behalf of my family I want to say thank you ,wish you God Speed, in your life’s calling and that you live long and pros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AA20-028F-4238-ACF6-475F331D5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4B71A-37DD-4D40-B8CE-A74C05675E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
          </p:nvPr>
        </p:nvSpPr>
        <p:spPr/>
        <p:txBody>
          <a:bodyPr/>
          <a:p>
            <a:fld id="{C5053932-F3D4-4145-AA4F-63764EEF3D6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C8A068A-FDD5-4F3C-BF83-44131C2C107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1"/>
          </p:nvPr>
        </p:nvSpPr>
        <p:spPr/>
        <p:txBody>
          <a:bodyPr/>
          <a:p>
            <a:fld id="{CA19654F-29A9-4F08-8323-47DB87125B1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FB2230-8624-4F3D-A652-C3A0BC0D7B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C236EF-B400-449C-9108-36CC7CC713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A54989-6759-4731-B1E3-24B491EEA6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F37C6A-E0FA-447B-832F-526C8E963F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8962A6-4410-4920-A3E9-5D0A7431A9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6ECB29-0445-419E-A485-2249D79B6E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779C37-D360-4B96-BD5E-F23DA33246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1588B2-3AED-4D81-8BB8-7D8F8BDD2D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017183-F750-4932-B54F-E7FC402379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9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173FFE9-CDFD-4B54-826F-F4D9EC1F5F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1"/>
          </p:nvPr>
        </p:nvSpPr>
        <p:spPr/>
        <p:txBody>
          <a:bodyPr/>
          <a:p>
            <a:fld id="{2A167852-EA3A-4232-9897-A59E7A7EB90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9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554911A-C425-4744-9696-F8F52A24341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8C17684-5842-49E5-967B-06D8FAA45D6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0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35785B-B475-4C05-9D13-F336494C8AE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A954324-6E7C-451C-86CA-5D66865046D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DAF36CE-C40C-426E-A1C8-BFAA1397C68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962F468-4710-4CCA-B2D1-C33ADDC7F5B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8EAA992-4E0C-4E98-B90A-0941DCB63A6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6D428A-4C2A-4048-B60D-799F56948C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B5AD1E-F9C3-4426-AD32-85EE4E70EDC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A75516-6C62-485D-80A9-48B866BD61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C6A4543-0FBC-4D6B-B24C-866F0F7ACC1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13068F7-DDAA-4528-92AD-2AE793C3F00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12D8C0F-870C-4639-B1D3-1D4DFD1D5CD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441322C-B2DE-4222-AD5B-5519EF4FCD1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4B58FEE-4C5D-460C-9488-4E61E6F1508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DB73F9C-CBB7-4EDD-AD79-F59E6A747C0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DE5AA5B-1130-4428-B1BC-5F9E9C92879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38E361F-2CDC-442C-BD25-0164F362547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A0B805-4360-4A57-9E5B-6DA0564367D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8CEA5BE-484C-467A-8BF3-EBF7B494254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2D8955D-DA29-48D9-85C5-F7195896E5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E8E50C-E44B-4F68-A45C-F537CC54AB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422B4E3-694A-4957-897E-5B62A629873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F6A9F9A-FCB0-444B-818C-84B6F0AA2F4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C310E42-0E55-48A1-AE51-D9ACF118E17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6A02059-D818-4267-8C75-6E9C002D4A3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9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34989B1-EE62-4DEC-9191-54730F6ED8E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9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EF94014-C7E8-40EB-8FC6-F8277A66E8D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9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3FC5CA5-2F30-4800-B80F-9A892A53CB9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C650D8D-258B-47B2-8186-438E0284D4B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F000C02-797A-4678-8B2D-42E546228CF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88FE5E-50CF-42AD-BAE2-FC2A790D508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0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2CF8D73-293B-4513-ADD3-097A104A83F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E35F19-3706-4D42-9F6F-9B8C200C915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FA4530A-0BC3-4B74-A3C3-A49FF2DCA1C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2B3BA0F-CE7C-4C4D-9F2B-E5DA29F591B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2F9BA63-8163-453E-A588-910314F97AB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0458A85-89DE-4087-977A-C33E792C1BC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B1DC5C-C3A8-4A9A-8927-D0146135FED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BF3450D-D606-486C-9BB8-13B98A7A0D8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C38D0A1-702F-48F3-88D5-8533F5D1776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3323FCE-6A64-49BD-9970-AD5B9A5C0CE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BD8379A-9C28-4074-AC0E-548C77F0B3F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F2AEC8-6192-4460-978C-5F23CF6D79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FAEA7FC-6825-4321-932F-0F74D5EC13E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932CC6-EB0C-4595-86AF-83392CD2C7C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9454CA3-7488-4B0A-B1A4-4E5C57359E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99A8045-EA2F-4045-B380-B0CAB9B70C6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27E920B-68C7-4F25-A753-7D93D86D95D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49AB7AA-8118-42F4-B883-FA72D1FF6DF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4985D9-F25A-46BA-9A76-846C80A1CE6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ACC5A9-EF7C-4275-9326-4ABE51BE1E3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CBAE639-FAE2-4CF1-9DD0-AF8D5A2A887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DA59551-DCB5-413C-ABF8-DBFBBD8BEA6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A850F6B-2200-4A12-8F31-2EF58EB1D46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FF1698A-CEB7-4210-BD8D-E8444A83A0F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9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AEDB47-60AA-405C-AEA0-01437021ED4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2DA271-74D1-4A79-92E8-C94573682CF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BC97E8E-7687-446C-BB91-9247C853B5B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2F7FF0A-6C7F-43B4-B8CC-CAEBEB57A94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E49DB2B-D901-4AE5-9ED0-7C8AD50DED4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
          </p:nvPr>
        </p:nvSpPr>
        <p:spPr/>
        <p:txBody>
          <a:bodyPr/>
          <a:p>
            <a:fld id="{9714E41D-A545-41BE-9561-17E732CC74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56EF73-BE31-46DB-80B6-08178E6E30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F93F930C-1B20-4450-935C-B1E3D018A5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C92D3FBF-FF36-4149-AE88-D87D19A337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
          </p:nvPr>
        </p:nvSpPr>
        <p:spPr/>
        <p:txBody>
          <a:bodyPr/>
          <a:p>
            <a:fld id="{3AA3A4F2-26C2-4CAD-A462-903BB21928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sldNum" idx="2"/>
          </p:nvPr>
        </p:nvSpPr>
        <p:spPr/>
        <p:txBody>
          <a:bodyPr/>
          <a:p>
            <a:fld id="{D8ECDF71-3AF2-4C62-A434-3291487BE3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
          </p:nvPr>
        </p:nvSpPr>
        <p:spPr/>
        <p:txBody>
          <a:bodyPr/>
          <a:p>
            <a:fld id="{E6178A29-1EC3-4026-8081-D5FC705CEE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2"/>
          </p:nvPr>
        </p:nvSpPr>
        <p:spPr/>
        <p:txBody>
          <a:bodyPr/>
          <a:p>
            <a:fld id="{4E3C6775-1BB7-4538-962B-361E0254762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861AC240-03D8-4261-A9DF-FB6F5F2897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33E6C0AE-342E-402F-A5AD-4970F9F6A4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EF369AB9-0C48-40CE-A203-25D4513662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
          </p:nvPr>
        </p:nvSpPr>
        <p:spPr/>
        <p:txBody>
          <a:bodyPr/>
          <a:p>
            <a:fld id="{B676FE3B-481B-4F83-B785-8142095014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2"/>
          </p:nvPr>
        </p:nvSpPr>
        <p:spPr/>
        <p:txBody>
          <a:bodyPr/>
          <a:p>
            <a:fld id="{ABEE2B8B-2B9C-4379-96B2-1D8D4EEAD6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2"/>
          </p:nvPr>
        </p:nvSpPr>
        <p:spPr/>
        <p:txBody>
          <a:bodyPr/>
          <a:p>
            <a:fld id="{CBE711AD-7CDD-44A6-82DD-DAC44DFC340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83FA187-D805-4CCB-93E0-11600C78124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3"/>
          </p:nvPr>
        </p:nvSpPr>
        <p:spPr/>
        <p:txBody>
          <a:bodyPr/>
          <a:p>
            <a:fld id="{98BA5DD0-D879-424E-8117-A2CDD3A5D87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3"/>
          </p:nvPr>
        </p:nvSpPr>
        <p:spPr/>
        <p:txBody>
          <a:bodyPr/>
          <a:p>
            <a:fld id="{4C08C6FA-ACDF-4173-8ABD-33F2D44657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
          </p:nvPr>
        </p:nvSpPr>
        <p:spPr/>
        <p:txBody>
          <a:bodyPr/>
          <a:p>
            <a:fld id="{50AB0A18-7ABD-4093-8315-172AA6C3C5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3"/>
          </p:nvPr>
        </p:nvSpPr>
        <p:spPr/>
        <p:txBody>
          <a:bodyPr/>
          <a:p>
            <a:fld id="{1A9EAC71-F8EB-4983-ACFD-16B8FCEF1FB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sldNum" idx="3"/>
          </p:nvPr>
        </p:nvSpPr>
        <p:spPr/>
        <p:txBody>
          <a:bodyPr/>
          <a:p>
            <a:fld id="{054F81C7-BA16-4B6B-A16E-261485E7493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3"/>
          </p:nvPr>
        </p:nvSpPr>
        <p:spPr/>
        <p:txBody>
          <a:bodyPr/>
          <a:p>
            <a:fld id="{520EEA1B-9260-4828-B223-1B201E9218B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3"/>
          </p:nvPr>
        </p:nvSpPr>
        <p:spPr/>
        <p:txBody>
          <a:bodyPr/>
          <a:p>
            <a:fld id="{DEB1CB57-D9EC-472B-87D1-FF20586B9CA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3"/>
          </p:nvPr>
        </p:nvSpPr>
        <p:spPr/>
        <p:txBody>
          <a:bodyPr/>
          <a:p>
            <a:fld id="{00520C5D-893F-4A4B-9B8E-140FBBAE582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3"/>
          </p:nvPr>
        </p:nvSpPr>
        <p:spPr/>
        <p:txBody>
          <a:bodyPr/>
          <a:p>
            <a:fld id="{B43267DF-1E83-48B7-B6E9-17CBFFB9013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3"/>
          </p:nvPr>
        </p:nvSpPr>
        <p:spPr/>
        <p:txBody>
          <a:bodyPr/>
          <a:p>
            <a:fld id="{506FE176-5880-4E28-ADF5-9C29B567271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3"/>
          </p:nvPr>
        </p:nvSpPr>
        <p:spPr/>
        <p:txBody>
          <a:bodyPr/>
          <a:p>
            <a:fld id="{DB611136-4128-4CBC-8E90-C4F271C9B5C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3"/>
          </p:nvPr>
        </p:nvSpPr>
        <p:spPr/>
        <p:txBody>
          <a:bodyPr/>
          <a:p>
            <a:fld id="{ECA244DC-437B-44D0-B4BA-F35C88FE9B0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88164-305C-4CB6-A990-8F1914532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sldNum" idx="1"/>
          </p:nvPr>
        </p:nvSpPr>
        <p:spPr/>
        <p:txBody>
          <a:bodyPr/>
          <a:p>
            <a:fld id="{C1B04B60-214F-4750-87DB-8C373144655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FC4CF-4AB9-4F71-B9F9-77D658E98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EFC50-D1E2-4499-96BB-7AE7EA2F5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524BB-87E5-4599-AE84-8E4F8A0F3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23C1D-CE2C-4F80-BB11-3BA0E207E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F9D05-52F1-419F-A5F7-830655F5A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FD565-DA60-4712-865C-B27D1ED74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4D0CB-6917-4DFD-BE3F-6E498E8DF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F6BEA-A856-4109-8C27-2C385E213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2120D-3EF1-4D98-99EC-74BACF9E0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2E2D4-B26B-453D-A70D-2F547B37C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1"/>
          </p:nvPr>
        </p:nvSpPr>
        <p:spPr/>
        <p:txBody>
          <a:bodyPr/>
          <a:p>
            <a:fld id="{22F10212-8D92-4CCF-83A5-3FEB4FDC9BD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C17FC-7655-453C-B2EB-E17207B2B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29DFCDB2-C800-41D9-912A-BD18C09C2F1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EC0353D-AE96-4BAD-BCD9-74C15F5548B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7"/>
          </p:nvPr>
        </p:nvSpPr>
        <p:spPr/>
        <p:txBody>
          <a:bodyPr/>
          <a:p>
            <a:fld id="{0AB73FAA-9CA7-4233-89E5-A49E33E8FDA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7"/>
          </p:nvPr>
        </p:nvSpPr>
        <p:spPr/>
        <p:txBody>
          <a:bodyPr/>
          <a:p>
            <a:fld id="{F0CFD3E6-66F0-4801-BAF0-7E4152286FF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7"/>
          </p:nvPr>
        </p:nvSpPr>
        <p:spPr/>
        <p:txBody>
          <a:bodyPr/>
          <a:p>
            <a:fld id="{C2F1C997-5180-4FE5-A341-F576FC3C5F9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sldNum" idx="7"/>
          </p:nvPr>
        </p:nvSpPr>
        <p:spPr/>
        <p:txBody>
          <a:bodyPr/>
          <a:p>
            <a:fld id="{B5A28370-4847-41E7-8BA0-368D390A1D3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7"/>
          </p:nvPr>
        </p:nvSpPr>
        <p:spPr/>
        <p:txBody>
          <a:bodyPr/>
          <a:p>
            <a:fld id="{3CABD3DB-A945-4FB9-99CE-2D6D1CF126A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10B46B25-29F6-4FA9-8A3F-203EB3DEF5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1A64C129-506E-4B80-96AE-178AF96869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A9095D1A-96EF-4193-809D-2BEDBF09E70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423577E3-134A-45B1-919B-4000C7B75BB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7"/>
          </p:nvPr>
        </p:nvSpPr>
        <p:spPr/>
        <p:txBody>
          <a:bodyPr/>
          <a:p>
            <a:fld id="{979412BA-3690-4B7E-8930-0BE0BF71F6F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7"/>
          </p:nvPr>
        </p:nvSpPr>
        <p:spPr/>
        <p:txBody>
          <a:bodyPr/>
          <a:p>
            <a:fld id="{43C43EC6-41B6-489E-BBE3-0843E9A7129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7"/>
          </p:nvPr>
        </p:nvSpPr>
        <p:spPr/>
        <p:txBody>
          <a:bodyPr/>
          <a:p>
            <a:fld id="{80930BE9-F433-4C5A-8EFD-80B2FB224A9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468CC194-522E-4376-8692-02CB696A0C7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Text 2A.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2"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499"/>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12640" indent="-152280">
              <a:spcBef>
                <a:spcPts val="499"/>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66960" indent="-16992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416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380880" y="6324120"/>
            <a:ext cx="4572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13e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FC8A-A8A3-45B8-AA4D-6BB9A0530D43}" type="slidenum">
              <a:rPr b="0" lang="en-US" sz="1200" spc="-1" strike="noStrike">
                <a:solidFill>
                  <a:srgbClr val="213e5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6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362" name="PlaceHolder 3"/>
          <p:cNvSpPr>
            <a:spLocks noGrp="1"/>
          </p:cNvSpPr>
          <p:nvPr>
            <p:ph type="dt" idx="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63" name="PlaceHolder 4"/>
          <p:cNvSpPr>
            <a:spLocks noGrp="1"/>
          </p:cNvSpPr>
          <p:nvPr>
            <p:ph type="ftr" idx="10"/>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5"/>
          <p:cNvSpPr>
            <a:spLocks noGrp="1"/>
          </p:cNvSpPr>
          <p:nvPr>
            <p:ph type="sldNum" idx="1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BB69-7234-49F3-8917-CA3957A2E8E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0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05" name="PlaceHolder 3"/>
          <p:cNvSpPr>
            <a:spLocks noGrp="1"/>
          </p:cNvSpPr>
          <p:nvPr>
            <p:ph type="dt" idx="12"/>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06" name="PlaceHolder 4"/>
          <p:cNvSpPr>
            <a:spLocks noGrp="1"/>
          </p:cNvSpPr>
          <p:nvPr>
            <p:ph type="ftr" idx="13"/>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5"/>
          <p:cNvSpPr>
            <a:spLocks noGrp="1"/>
          </p:cNvSpPr>
          <p:nvPr>
            <p:ph type="sldNum" idx="14"/>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1BF3-D283-444A-9AE9-7D69906ECDD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4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46" name="PlaceHolder 3"/>
          <p:cNvSpPr>
            <a:spLocks noGrp="1"/>
          </p:cNvSpPr>
          <p:nvPr>
            <p:ph type="dt" idx="15"/>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447" name="PlaceHolder 4"/>
          <p:cNvSpPr>
            <a:spLocks noGrp="1"/>
          </p:cNvSpPr>
          <p:nvPr>
            <p:ph type="ftr" idx="16"/>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5"/>
          <p:cNvSpPr>
            <a:spLocks noGrp="1"/>
          </p:cNvSpPr>
          <p:nvPr>
            <p:ph type="sldNum" idx="17"/>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E9A8-A347-4213-BF15-EA9BFA1F1B7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9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91" name="PlaceHolder 3"/>
          <p:cNvSpPr>
            <a:spLocks noGrp="1"/>
          </p:cNvSpPr>
          <p:nvPr>
            <p:ph type="dt" idx="18"/>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492" name="PlaceHolder 4"/>
          <p:cNvSpPr>
            <a:spLocks noGrp="1"/>
          </p:cNvSpPr>
          <p:nvPr>
            <p:ph type="ftr" idx="19"/>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5"/>
          <p:cNvSpPr>
            <a:spLocks noGrp="1"/>
          </p:cNvSpPr>
          <p:nvPr>
            <p:ph type="sldNum" idx="20"/>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E49D-323B-4515-904F-F913C9D3271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53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53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36" name="PlaceHolder 3"/>
          <p:cNvSpPr>
            <a:spLocks noGrp="1"/>
          </p:cNvSpPr>
          <p:nvPr>
            <p:ph type="dt" idx="21"/>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37" name="PlaceHolder 4"/>
          <p:cNvSpPr>
            <a:spLocks noGrp="1"/>
          </p:cNvSpPr>
          <p:nvPr>
            <p:ph type="ftr" idx="22"/>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5"/>
          <p:cNvSpPr>
            <a:spLocks noGrp="1"/>
          </p:cNvSpPr>
          <p:nvPr>
            <p:ph type="sldNum" idx="23"/>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543E-8BD4-49FB-A055-B474885BDB9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578"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79" name="PlaceHolder 3"/>
          <p:cNvSpPr>
            <a:spLocks noGrp="1"/>
          </p:cNvSpPr>
          <p:nvPr>
            <p:ph type="dt" idx="2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25"/>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5"/>
          <p:cNvSpPr>
            <a:spLocks noGrp="1"/>
          </p:cNvSpPr>
          <p:nvPr>
            <p:ph type="sldNum" idx="2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1179-B2A9-4910-B3F8-2C81A29D4B4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Chapter 1.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5" descr="Text 1A.jpg"/>
          <p:cNvPicPr/>
          <p:nvPr/>
        </p:nvPicPr>
        <p:blipFill>
          <a:blip r:embed="rId2"/>
          <a:stretch/>
        </p:blipFill>
        <p:spPr>
          <a:xfrm>
            <a:off x="0" y="0"/>
            <a:ext cx="9144000" cy="6858000"/>
          </a:xfrm>
          <a:prstGeom prst="rect">
            <a:avLst/>
          </a:prstGeom>
          <a:ln w="0">
            <a:noFill/>
          </a:ln>
        </p:spPr>
      </p:pic>
      <p:sp>
        <p:nvSpPr>
          <p:cNvPr id="78" name="PlaceHolder 1"/>
          <p:cNvSpPr>
            <a:spLocks noGrp="1"/>
          </p:cNvSpPr>
          <p:nvPr>
            <p:ph type="title"/>
          </p:nvPr>
        </p:nvSpPr>
        <p:spPr>
          <a:xfrm>
            <a:off x="380880" y="1371240"/>
            <a:ext cx="838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79" name="PlaceHolder 2"/>
          <p:cNvSpPr>
            <a:spLocks noGrp="1"/>
          </p:cNvSpPr>
          <p:nvPr>
            <p:ph type="body"/>
          </p:nvPr>
        </p:nvSpPr>
        <p:spPr>
          <a:xfrm>
            <a:off x="380880" y="2057040"/>
            <a:ext cx="8382240" cy="3962520"/>
          </a:xfrm>
          <a:prstGeom prst="rect">
            <a:avLst/>
          </a:prstGeom>
          <a:noFill/>
          <a:ln w="0">
            <a:noFill/>
          </a:ln>
        </p:spPr>
        <p:txBody>
          <a:bodyPr lIns="90000" rIns="90000" tIns="46800" bIns="46800" anchor="t">
            <a:normAutofit/>
          </a:bodyPr>
          <a:p>
            <a:pPr marL="231840" indent="-231840">
              <a:spcBef>
                <a:spcPts val="499"/>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09480" indent="-152280">
              <a:spcBef>
                <a:spcPts val="499"/>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92240" indent="-177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0" name="PlaceHolder 3"/>
          <p:cNvSpPr>
            <a:spLocks noGrp="1"/>
          </p:cNvSpPr>
          <p:nvPr>
            <p:ph type="sldNum" idx="2"/>
          </p:nvPr>
        </p:nvSpPr>
        <p:spPr>
          <a:xfrm>
            <a:off x="380880" y="6324120"/>
            <a:ext cx="60984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031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2A7D-3E87-45C7-B47D-F966FB475C42}" type="slidenum">
              <a:rPr b="0" lang="en-US" sz="1200" spc="-1" strike="noStrike">
                <a:solidFill>
                  <a:srgbClr val="2031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5" descr="Text 2A.jpg"/>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119"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601"/>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2640" indent="-152280">
              <a:spcBef>
                <a:spcPts val="601"/>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66960" indent="-169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41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0" name="PlaceHolder 3"/>
          <p:cNvSpPr>
            <a:spLocks noGrp="1"/>
          </p:cNvSpPr>
          <p:nvPr>
            <p:ph type="sldNum" idx="3"/>
          </p:nvPr>
        </p:nvSpPr>
        <p:spPr>
          <a:xfrm>
            <a:off x="380880" y="6324120"/>
            <a:ext cx="4572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13e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6077-B701-4606-8381-FA751CBC7658}" type="slidenum">
              <a:rPr b="0" lang="en-US" sz="1200" spc="-1" strike="noStrike">
                <a:solidFill>
                  <a:srgbClr val="213e5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6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1"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62"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F4DC-1850-43EB-89F5-235F997F79B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Title Slide.jpg"/>
          <p:cNvPicPr/>
          <p:nvPr/>
        </p:nvPicPr>
        <p:blipFill>
          <a:blip r:embed="rId2"/>
          <a:stretch/>
        </p:blipFill>
        <p:spPr>
          <a:xfrm>
            <a:off x="0" y="0"/>
            <a:ext cx="9144000" cy="6858000"/>
          </a:xfrm>
          <a:prstGeom prst="rect">
            <a:avLst/>
          </a:prstGeom>
          <a:ln w="0">
            <a:noFill/>
          </a:ln>
        </p:spPr>
      </p:pic>
      <p:sp>
        <p:nvSpPr>
          <p:cNvPr id="201"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202"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499"/>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12640" indent="-152280">
              <a:spcBef>
                <a:spcPts val="499"/>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66960" indent="-16992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416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5" descr="Text 2A.jpg"/>
          <p:cNvPicPr/>
          <p:nvPr/>
        </p:nvPicPr>
        <p:blipFill>
          <a:blip r:embed="rId2"/>
          <a:stretch/>
        </p:blipFill>
        <p:spPr>
          <a:xfrm>
            <a:off x="0" y="0"/>
            <a:ext cx="9144000" cy="6858000"/>
          </a:xfrm>
          <a:prstGeom prst="rect">
            <a:avLst/>
          </a:prstGeom>
          <a:ln w="0">
            <a:noFill/>
          </a:ln>
        </p:spPr>
      </p:pic>
      <p:sp>
        <p:nvSpPr>
          <p:cNvPr id="240"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241"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499"/>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12640" indent="-152280">
              <a:spcBef>
                <a:spcPts val="499"/>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66960" indent="-16992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416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2" name="PlaceHolder 3"/>
          <p:cNvSpPr>
            <a:spLocks noGrp="1"/>
          </p:cNvSpPr>
          <p:nvPr>
            <p:ph type="sldNum" idx="7"/>
          </p:nvPr>
        </p:nvSpPr>
        <p:spPr>
          <a:xfrm>
            <a:off x="457200" y="6324120"/>
            <a:ext cx="4572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13e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6C75-9185-4CE1-94F2-38BEA37E0EAB}" type="slidenum">
              <a:rPr b="0" lang="en-US" sz="1200" spc="-1" strike="noStrike">
                <a:solidFill>
                  <a:srgbClr val="213e5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6" descr="Title Slide.jpg"/>
          <p:cNvPicPr/>
          <p:nvPr/>
        </p:nvPicPr>
        <p:blipFill>
          <a:blip r:embed="rId2"/>
          <a:stretch/>
        </p:blipFill>
        <p:spPr>
          <a:xfrm>
            <a:off x="0" y="0"/>
            <a:ext cx="9144000" cy="6858000"/>
          </a:xfrm>
          <a:prstGeom prst="rect">
            <a:avLst/>
          </a:prstGeom>
          <a:ln w="0">
            <a:noFill/>
          </a:ln>
        </p:spPr>
      </p:pic>
      <p:sp>
        <p:nvSpPr>
          <p:cNvPr id="280"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281"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601"/>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2640" indent="-152280">
              <a:spcBef>
                <a:spcPts val="601"/>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66960" indent="-169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41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5" descr="Text 2A.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320"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601"/>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2640" indent="-152280">
              <a:spcBef>
                <a:spcPts val="601"/>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66960" indent="-169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41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21" name="PlaceHolder 3"/>
          <p:cNvSpPr>
            <a:spLocks noGrp="1"/>
          </p:cNvSpPr>
          <p:nvPr>
            <p:ph type="ftr" idx="8"/>
          </p:nvPr>
        </p:nvSpPr>
        <p:spPr>
          <a:xfrm>
            <a:off x="7315200" y="640080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o Research</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Title 1" descr=""/>
          <p:cNvPicPr/>
          <p:nvPr/>
        </p:nvPicPr>
        <p:blipFill>
          <a:blip r:embed="rId1"/>
          <a:stretch/>
        </p:blipFill>
        <p:spPr>
          <a:xfrm>
            <a:off x="987480" y="457200"/>
            <a:ext cx="7034040" cy="2359080"/>
          </a:xfrm>
          <a:prstGeom prst="rect">
            <a:avLst/>
          </a:prstGeom>
          <a:ln w="0">
            <a:noFill/>
          </a:ln>
        </p:spPr>
      </p:pic>
      <p:sp>
        <p:nvSpPr>
          <p:cNvPr id="626" name="PlaceHolder 1"/>
          <p:cNvSpPr>
            <a:spLocks noGrp="1"/>
          </p:cNvSpPr>
          <p:nvPr>
            <p:ph type="subTitle"/>
          </p:nvPr>
        </p:nvSpPr>
        <p:spPr>
          <a:xfrm>
            <a:off x="1676520" y="4266720"/>
            <a:ext cx="5486400" cy="838440"/>
          </a:xfrm>
          <a:prstGeom prst="rect">
            <a:avLst/>
          </a:prstGeom>
          <a:noFill/>
          <a:ln w="0">
            <a:noFill/>
          </a:ln>
        </p:spPr>
        <p:txBody>
          <a:bodyPr lIns="118800" rIns="457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ea typeface="Calibri"/>
              </a:rPr>
              <a:t> </a:t>
            </a:r>
            <a:r>
              <a:rPr b="1" lang="en-US" sz="2400" spc="-1" strike="noStrike">
                <a:solidFill>
                  <a:srgbClr val="ffffff"/>
                </a:solidFill>
                <a:latin typeface="Corbel"/>
                <a:ea typeface="Calibri"/>
              </a:rPr>
              <a:t>Lawrence B. Sadwin</a:t>
            </a:r>
            <a:endParaRPr b="0" lang="en-US" sz="24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riends of the World Heart Federation Foundation</a:t>
            </a:r>
            <a:endParaRPr b="0" lang="en-US" sz="24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27" name="SessionQuestionData" hidden="1"/>
          <p:cNvSpPr/>
          <p:nvPr/>
        </p:nvSpPr>
        <p:spPr>
          <a:xfrm>
            <a:off x="0" y="0"/>
            <a:ext cx="360" cy="248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xml version="1.0"?&gt;&lt;AllQuestions /&gt;</a:t>
            </a:r>
            <a:endParaRPr b="0" lang="en-US" sz="4400" spc="-1" strike="noStrike">
              <a:solidFill>
                <a:srgbClr val="000000"/>
              </a:solidFill>
              <a:latin typeface="Arial"/>
            </a:endParaRPr>
          </a:p>
        </p:txBody>
      </p:sp>
      <p:sp>
        <p:nvSpPr>
          <p:cNvPr id="628" name="SessionAnswerData" hidden="1"/>
          <p:cNvSpPr/>
          <p:nvPr/>
        </p:nvSpPr>
        <p:spPr>
          <a:xfrm>
            <a:off x="1270080" y="0"/>
            <a:ext cx="360" cy="235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xml version="1.0"?&gt;&lt;AllAnswers /&gt;</a:t>
            </a:r>
            <a:endParaRPr b="0" lang="en-US" sz="4400" spc="-1" strike="noStrike">
              <a:solidFill>
                <a:srgbClr val="000000"/>
              </a:solidFill>
              <a:latin typeface="Arial"/>
            </a:endParaRPr>
          </a:p>
        </p:txBody>
      </p:sp>
      <p:sp>
        <p:nvSpPr>
          <p:cNvPr id="629" name="SessionResponseData" hidden="1"/>
          <p:cNvSpPr/>
          <p:nvPr/>
        </p:nvSpPr>
        <p:spPr>
          <a:xfrm>
            <a:off x="0" y="0"/>
            <a:ext cx="360" cy="248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xml version="1.0"?&gt;&lt;AllResponses /&gt;</a:t>
            </a:r>
            <a:endParaRPr b="0" lang="en-US" sz="4400" spc="-1" strike="noStrike">
              <a:solidFill>
                <a:srgbClr val="000000"/>
              </a:solidFill>
              <a:latin typeface="Arial"/>
            </a:endParaRPr>
          </a:p>
        </p:txBody>
      </p:sp>
      <p:sp>
        <p:nvSpPr>
          <p:cNvPr id="630" name="SessionPresentationSettingsData" hidden="1"/>
          <p:cNvSpPr/>
          <p:nvPr/>
        </p:nvSpPr>
        <p:spPr>
          <a:xfrm>
            <a:off x="0" y="0"/>
            <a:ext cx="36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xml version="1.0"?&gt;&lt;Settings&gt;&lt;answerBulletFormat&gt;Numeric&lt;/answerBulletFormat&gt;&lt;answerNowAutoInsert&gt;No&lt;/answerNowAutoInsert&gt;&lt;answerNowStyle&gt;Explosion&lt;/answerNowStyle&gt;&lt;answerNowText&gt;Answer Now&lt;/answerNowText&gt;&lt;chartColors&gt;Use PowerPoint Color Scheme&lt;/chartColors&gt;&lt;chartType&gt;Horizontal&lt;/chartType&gt;&lt;correctAnswerIndicator&gt;Checkmark&lt;/correctAnswerIndicator&gt;&lt;countdownAutoInsert&gt;No&lt;/countdownAutoInsert&gt;&lt;countdownSeconds&gt;10&lt;/countdownSeconds&gt;&lt;countdownSound&gt;TicToc.wav&lt;/countdownSound&gt;&lt;countdownStyle&gt;Box&lt;/countdownStyle&gt;&lt;gridAutoInsert&gt;No&lt;/gridAutoInsert&gt;&lt;gridFillStyle&gt;Answered&lt;/gridFillStyle&gt;&lt;gridFillColor&gt;255,255,0&lt;/gridFillColor&gt;&lt;gridOpacity&gt;50%&lt;/gridOpacity&gt;&lt;gridTextStyle&gt;Keypad #&lt;/gridTextStyle&gt;&lt;inputSource&gt;Response Devices&lt;/inputSource&gt;&lt;multipleResponseDivisor&gt;# of Responses&lt;/multipleResponseDivisor&gt;&lt;participantsLeaderBoard&gt;5&lt;/participantsLeaderBoard&gt;&lt;percentageDecimalPlaces&gt;0&lt;/percentageDecimalPlaces&gt;&lt;responseCounterAutoInsert&gt;No&lt;/responseCounterAutoInsert&gt;&lt;responseCounterStyle&gt;Oval&lt;/responseCounterStyle&gt;&lt;responseCounterDisplayValue&gt;# of Votes Received&lt;/responseCounterDisplayValue&gt;&lt;insertObjectUsingColor&gt;Red&lt;/insertObjectUsingColor&gt;&lt;showResults&gt;Yes&lt;/showResults&gt;&lt;teamColors&gt;Use PowerPoint Color Scheme&lt;/teamColors&gt;&lt;teamIdentificationType&gt;None&lt;/teamIdentificationType&gt;&lt;teamScoringType&gt;Voting pads only&lt;/teamScoringType&gt;&lt;teamScoringDecimalPlaces&gt;1&lt;/teamScoringDecimalPlaces&gt;&lt;teamIdentificationItem&gt;&lt;/teamIdentificationItem&gt;&lt;teamsLeaderBoard&gt;5&lt;/teamsLeaderBoard&gt;&lt;teamName1&gt;&lt;/teamName1&gt;&lt;teamName2&gt;&lt;/teamName2&gt;&lt;teamName3&gt;&lt;/teamName3&gt;&lt;teamName4&gt;&lt;/teamName4&gt;&lt;teamName5&gt;&lt;/teamName5&gt;&lt;teamName6&gt;&lt;/teamName6&gt;&lt;teamName7&gt;&lt;/teamName7&gt;&lt;teamName8&gt;&lt;/teamName8&gt;&lt;teamName9&gt;&lt;/teamName9&gt;&lt;teamName10&gt;&lt;/teamName10&gt;&lt;showControlBar&gt;All Slides&lt;/showControlBar&gt;&lt;defaultCorrectPointValue&gt;0&lt;/defaultCorrectPointValue&gt;&lt;defaultIncorrectPointValue&gt;0&lt;/defaultIncorrectPointValue&gt;&lt;chartColor1&gt;187,224,227&lt;/chartColor1&gt;&lt;chartColor2&gt;51,51,153&lt;/chartColor2&gt;&lt;chartColor3&gt;0,153,153&lt;/chartColor3&gt;&lt;chartColor4&gt;153,204,0&lt;/chartColor4&gt;&lt;chartColor5&gt;128,128,128&lt;/chartColor5&gt;&lt;chartColor6&gt;0,0,0&lt;/chartColor6&gt;&lt;chartColor7&gt;0,102,204&lt;/chartColor7&gt;&lt;chartColor8&gt;204,204,255&lt;/chartColor8&gt;&lt;chartColor9&gt;255,0,0&lt;/chartColor9&gt;&lt;chartColor10&gt;255,255,0&lt;/chartColor10&gt;&lt;teamColor1&gt;187,224,227&lt;/teamColor1&gt;&lt;teamColor2&gt;51,51,153&lt;/teamColor2&gt;&lt;teamColor3&gt;0,153,153&lt;/teamColor3&gt;&lt;teamColor4&gt;153,204,0&lt;/teamColor4&gt;&lt;teamColor5&gt;128,128,128&lt;/teamColor5&gt;&lt;teamColor6&gt;0,0,0&lt;/teamColor6&gt;&lt;teamColor7&gt;0,102,204&lt;/teamColor7&gt;&lt;teamColor8&gt;204,204,255&lt;/teamColor8&gt;&lt;teamColor9&gt;255,0,0&lt;/teamColor9&gt;&lt;teamColor10&gt;255,255,0&lt;/teamColor10&gt;&lt;displayAnswerImagesDuringVote&gt;Yes&lt;/displayAnswerImagesDuringVote&gt;&lt;displayAnswerImagesWithResponses&gt;Yes&lt;/displayAnswerImagesWithResponses&gt;&lt;displayAnswerTextDuringVote&gt;Yes&lt;/displayAnswerTextDuringVote&gt;&lt;displayAnswerTextWithResponses&gt;Yes&lt;/displayAnswerTextWithResponses&gt;&lt;questionSlideID&gt;&lt;/questionSlideID&gt;&lt;controlBarState&gt;Expanded&lt;/controlBarState&gt;&lt;isGridColorKnownColor&gt;True&lt;/isGridColorKnownColor&gt;&lt;gridColorName&gt;Yellow&lt;/gridColorName&gt;&lt;/Settings&gt;</a:t>
            </a:r>
            <a:endParaRPr b="0" lang="en-US" sz="4400" spc="-1" strike="noStrike">
              <a:solidFill>
                <a:srgbClr val="000000"/>
              </a:solidFill>
              <a:latin typeface="Arial"/>
            </a:endParaRPr>
          </a:p>
        </p:txBody>
      </p:sp>
      <p:sp>
        <p:nvSpPr>
          <p:cNvPr id="631" name="TextBox 7"/>
          <p:cNvSpPr/>
          <p:nvPr/>
        </p:nvSpPr>
        <p:spPr>
          <a:xfrm>
            <a:off x="-238680" y="5494320"/>
            <a:ext cx="890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orbel"/>
              </a:rPr>
              <a:t>Moving Ahead: </a:t>
            </a:r>
            <a:r>
              <a:rPr b="0" lang="en-US" sz="2400" spc="-1" strike="noStrike">
                <a:solidFill>
                  <a:srgbClr val="ffc000"/>
                </a:solidFill>
                <a:latin typeface="Corbel"/>
              </a:rPr>
              <a:t>Leveraging Knowledge &amp; Action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orbel"/>
              </a:rPr>
              <a:t>Improve Healthcare Quality. AHRQ 2012 Annual Confere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Title 1" descr=""/>
          <p:cNvPicPr/>
          <p:nvPr/>
        </p:nvPicPr>
        <p:blipFill>
          <a:blip r:embed="rId1"/>
          <a:stretch/>
        </p:blipFill>
        <p:spPr>
          <a:xfrm>
            <a:off x="103320" y="73080"/>
            <a:ext cx="8437320" cy="1262160"/>
          </a:xfrm>
          <a:prstGeom prst="rect">
            <a:avLst/>
          </a:prstGeom>
          <a:ln w="0">
            <a:noFill/>
          </a:ln>
        </p:spPr>
      </p:pic>
      <p:sp>
        <p:nvSpPr>
          <p:cNvPr id="658" name=""/>
          <p:cNvSpPr txBox="1"/>
          <p:nvPr/>
        </p:nvSpPr>
        <p:spPr>
          <a:xfrm>
            <a:off x="4800240" y="1774800"/>
            <a:ext cx="38862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rofessor, Oregon Health &amp; Science University</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vidence-based Practice Centers (EPCs) conduct research reviews for the Effective Health Care (EHC) Program. </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iscuss strategies used by the EPC program to engage stakeholders to improve relevance and applicability of its products. </a:t>
            </a:r>
            <a:endParaRPr b="0" lang="en-US" sz="1800" spc="-1" strike="noStrike">
              <a:solidFill>
                <a:srgbClr val="000000"/>
              </a:solidFill>
              <a:latin typeface="Corbel"/>
            </a:endParaRPr>
          </a:p>
        </p:txBody>
      </p:sp>
      <p:sp>
        <p:nvSpPr>
          <p:cNvPr id="659"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B117-C07F-417C-B655-8723F401CF6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60" name="Picture 6" descr=""/>
          <p:cNvPicPr/>
          <p:nvPr/>
        </p:nvPicPr>
        <p:blipFill>
          <a:blip r:embed="rId2"/>
          <a:stretch/>
        </p:blipFill>
        <p:spPr>
          <a:xfrm>
            <a:off x="914400" y="1752480"/>
            <a:ext cx="2514600" cy="377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Title 1" descr=""/>
          <p:cNvPicPr/>
          <p:nvPr/>
        </p:nvPicPr>
        <p:blipFill>
          <a:blip r:embed="rId1"/>
          <a:stretch/>
        </p:blipFill>
        <p:spPr>
          <a:xfrm>
            <a:off x="225360" y="152280"/>
            <a:ext cx="8620200" cy="1262160"/>
          </a:xfrm>
          <a:prstGeom prst="rect">
            <a:avLst/>
          </a:prstGeom>
          <a:ln w="0">
            <a:noFill/>
          </a:ln>
        </p:spPr>
      </p:pic>
      <p:sp>
        <p:nvSpPr>
          <p:cNvPr id="662" name=""/>
          <p:cNvSpPr txBox="1"/>
          <p:nvPr/>
        </p:nvSpPr>
        <p:spPr>
          <a:xfrm>
            <a:off x="4266720" y="1774800"/>
            <a:ext cx="441972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sociate Professor of Medicine &amp; Associate Director, Welch Center for Prevention, Epidemiology and Clinical Research, Johns Hopkins School of Medicine. </a:t>
            </a: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EcIDE Network that conducts studies on the outcomes, effectiveness, safety and usefulness of medical treatments and services.</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dentify potential challenges to stakeholder engagement in protocol development in the DEcIDE program.</a:t>
            </a: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6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932B-9A84-4C73-A75E-A26A5B448CB0}"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64" name="Picture 6" descr="Dr. Boulware"/>
          <p:cNvPicPr/>
          <p:nvPr/>
        </p:nvPicPr>
        <p:blipFill>
          <a:blip r:embed="rId2"/>
          <a:stretch/>
        </p:blipFill>
        <p:spPr>
          <a:xfrm>
            <a:off x="609480" y="1905120"/>
            <a:ext cx="2438640" cy="366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Title 1" descr=""/>
          <p:cNvPicPr/>
          <p:nvPr/>
        </p:nvPicPr>
        <p:blipFill>
          <a:blip r:embed="rId1"/>
          <a:stretch/>
        </p:blipFill>
        <p:spPr>
          <a:xfrm>
            <a:off x="189000" y="152280"/>
            <a:ext cx="8504280" cy="1262160"/>
          </a:xfrm>
          <a:prstGeom prst="rect">
            <a:avLst/>
          </a:prstGeom>
          <a:ln w="0">
            <a:noFill/>
          </a:ln>
        </p:spPr>
      </p:pic>
      <p:sp>
        <p:nvSpPr>
          <p:cNvPr id="66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8446-D99D-40A4-8ECF-12F98711596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graphicFrame>
        <p:nvGraphicFramePr>
          <p:cNvPr id="667" name=""/>
          <p:cNvGraphicFramePr/>
          <p:nvPr/>
        </p:nvGraphicFramePr>
        <p:xfrm>
          <a:off x="228600" y="1752480"/>
          <a:ext cx="8686800" cy="4983120"/>
        </p:xfrm>
        <a:graphic>
          <a:graphicData uri="http://schemas.openxmlformats.org/drawingml/2006/table">
            <a:tbl>
              <a:tblPr/>
              <a:tblGrid>
                <a:gridCol w="6437160"/>
                <a:gridCol w="2249640"/>
              </a:tblGrid>
              <a:tr h="823320">
                <a:tc>
                  <a:txBody>
                    <a:bodyPr lIns="61920" rIns="61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Times New Roman"/>
                        </a:rPr>
                        <a:t>Introd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Times New Roman"/>
                        </a:rPr>
                        <a:t>(</a:t>
                      </a:r>
                      <a:r>
                        <a:rPr b="0" i="1" lang="en-US" sz="1800" spc="-1" strike="noStrike">
                          <a:solidFill>
                            <a:srgbClr val="000000"/>
                          </a:solidFill>
                          <a:latin typeface="Corbel"/>
                          <a:ea typeface="Times New Roman"/>
                        </a:rPr>
                        <a:t>Presenter: </a:t>
                      </a:r>
                      <a:r>
                        <a:rPr b="0" lang="en-US" sz="1800" spc="-1" strike="noStrike">
                          <a:solidFill>
                            <a:srgbClr val="000000"/>
                          </a:solidFill>
                          <a:latin typeface="Corbel"/>
                          <a:ea typeface="Times New Roman"/>
                        </a:rPr>
                        <a:t>Lawrence Sadwin, </a:t>
                      </a:r>
                      <a:r>
                        <a:rPr b="0" lang="en-US" sz="1800" spc="-1" strike="noStrike">
                          <a:solidFill>
                            <a:srgbClr val="000000"/>
                          </a:solidFill>
                          <a:latin typeface="Corbel"/>
                        </a:rPr>
                        <a:t>Friends of the World Heart Federation Foundation</a:t>
                      </a:r>
                      <a:r>
                        <a:rPr b="0" lang="en-US" sz="1800" spc="-1" strike="noStrike">
                          <a:solidFill>
                            <a:srgbClr val="000000"/>
                          </a:solidFill>
                          <a:latin typeface="Corbel"/>
                          <a:ea typeface="Times New Roman"/>
                        </a:rPr>
                        <a:t>)</a:t>
                      </a: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c>
                  <a:txBody>
                    <a:bodyPr lIns="61920" rIns="61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8:00-8:10 AM</a:t>
                      </a: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r>
              <a:tr h="1646280">
                <a:tc>
                  <a:txBody>
                    <a:bodyPr lIns="61920" rIns="61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Stakeholder Engagement in the Evidence-based Center (EPC) Practice Progr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Times New Roman"/>
                        </a:rPr>
                        <a:t>(</a:t>
                      </a:r>
                      <a:r>
                        <a:rPr b="0" i="1" lang="en-US" sz="1800" spc="-1" strike="noStrike">
                          <a:solidFill>
                            <a:srgbClr val="000000"/>
                          </a:solidFill>
                          <a:latin typeface="Corbel"/>
                          <a:ea typeface="Times New Roman"/>
                        </a:rPr>
                        <a:t>Presenter: </a:t>
                      </a:r>
                      <a:r>
                        <a:rPr b="0" lang="en-US" sz="1800" spc="-1" strike="noStrike">
                          <a:solidFill>
                            <a:srgbClr val="000000"/>
                          </a:solidFill>
                          <a:latin typeface="Corbel"/>
                          <a:ea typeface="Times New Roman"/>
                        </a:rPr>
                        <a:t>Jeanne-Marie Guise, </a:t>
                      </a:r>
                      <a:r>
                        <a:rPr b="0" lang="en-US" sz="1800" spc="-1" strike="noStrike">
                          <a:solidFill>
                            <a:srgbClr val="000000"/>
                          </a:solidFill>
                          <a:latin typeface="Corbel"/>
                        </a:rPr>
                        <a:t>Oregon Health &amp; Science University</a:t>
                      </a:r>
                      <a:r>
                        <a:rPr b="0" lang="en-US" sz="1800" spc="-1" strike="noStrike">
                          <a:solidFill>
                            <a:srgbClr val="000000"/>
                          </a:solidFill>
                          <a:latin typeface="Corbe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c>
                  <a:txBody>
                    <a:bodyPr lIns="61920" rIns="61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8:10-8:30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rbel"/>
                          <a:ea typeface="Calibri"/>
                        </a:rPr>
                        <a:t>(Last 5 minutes reserved for Q&amp;A)</a:t>
                      </a:r>
                      <a:endParaRPr b="0" lang="en-US" sz="16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r>
              <a:tr h="1646280">
                <a:tc>
                  <a:txBody>
                    <a:bodyPr lIns="61920" rIns="61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Engaging Stakeholders, Improving Research: </a:t>
                      </a:r>
                      <a:r>
                        <a:rPr b="1" i="1" lang="en-US" sz="1800" spc="-1" strike="noStrike">
                          <a:solidFill>
                            <a:srgbClr val="000000"/>
                          </a:solidFill>
                          <a:latin typeface="Corbel"/>
                        </a:rPr>
                        <a:t>Stakeholder Engagement in the DEcIDE Program</a:t>
                      </a:r>
                      <a:r>
                        <a:rPr b="1" lang="en-US" sz="1800" spc="-1" strike="noStrike">
                          <a:solidFill>
                            <a:srgbClr val="000000"/>
                          </a:solidFill>
                          <a:latin typeface="Corbe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a:t>
                      </a:r>
                      <a:r>
                        <a:rPr b="0" i="1" lang="en-US" sz="1800" spc="-1" strike="noStrike">
                          <a:solidFill>
                            <a:srgbClr val="000000"/>
                          </a:solidFill>
                          <a:latin typeface="Corbel"/>
                          <a:ea typeface="Calibri"/>
                        </a:rPr>
                        <a:t>Presenter: </a:t>
                      </a:r>
                      <a:r>
                        <a:rPr b="0" lang="en-US" sz="1800" spc="-1" strike="noStrike">
                          <a:solidFill>
                            <a:srgbClr val="000000"/>
                          </a:solidFill>
                          <a:latin typeface="Corbel"/>
                          <a:ea typeface="Calibri"/>
                        </a:rPr>
                        <a:t>Ebony Boulware, </a:t>
                      </a:r>
                      <a:r>
                        <a:rPr b="0" lang="en-US" sz="1800" spc="-1" strike="noStrike">
                          <a:solidFill>
                            <a:srgbClr val="000000"/>
                          </a:solidFill>
                          <a:latin typeface="Corbel"/>
                        </a:rPr>
                        <a:t>Johns Hopkins School of Medicine</a:t>
                      </a:r>
                      <a:r>
                        <a:rPr b="0" lang="en-US" sz="1800" spc="-1" strike="noStrike">
                          <a:solidFill>
                            <a:srgbClr val="000000"/>
                          </a:solidFill>
                          <a:latin typeface="Corbel"/>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c>
                  <a:txBody>
                    <a:bodyPr lIns="61920" rIns="61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8:30-8:50 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rbel"/>
                          <a:ea typeface="Calibri"/>
                        </a:rPr>
                        <a:t>(Last 5 minutes reserved for Q&amp;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r>
              <a:tr h="1097640">
                <a:tc>
                  <a:txBody>
                    <a:bodyPr lIns="61920" rIns="61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General Q&amp;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ea typeface="Calibri"/>
                        </a:rPr>
                        <a:t>Moderator</a:t>
                      </a:r>
                      <a:r>
                        <a:rPr b="0" lang="en-US" sz="1800" spc="-1" strike="noStrike">
                          <a:solidFill>
                            <a:srgbClr val="000000"/>
                          </a:solidFill>
                          <a:latin typeface="Corbel"/>
                          <a:ea typeface="Calibri"/>
                        </a:rPr>
                        <a:t>: Lawrence Sadw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c>
                  <a:txBody>
                    <a:bodyPr lIns="61920" rIns="61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8:50 AM- 9:30 AM</a:t>
                      </a: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Title 1" descr=""/>
          <p:cNvPicPr/>
          <p:nvPr/>
        </p:nvPicPr>
        <p:blipFill>
          <a:blip r:embed="rId1"/>
          <a:stretch/>
        </p:blipFill>
        <p:spPr>
          <a:xfrm>
            <a:off x="73080" y="73080"/>
            <a:ext cx="8467560" cy="1262160"/>
          </a:xfrm>
          <a:prstGeom prst="rect">
            <a:avLst/>
          </a:prstGeom>
          <a:ln w="0">
            <a:noFill/>
          </a:ln>
        </p:spPr>
      </p:pic>
      <p:sp>
        <p:nvSpPr>
          <p:cNvPr id="633" name=""/>
          <p:cNvSpPr txBox="1"/>
          <p:nvPr/>
        </p:nvSpPr>
        <p:spPr>
          <a:xfrm>
            <a:off x="4038480" y="1774800"/>
            <a:ext cx="464832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resident-Friends of the World Heart Federation Foundation, Geneva, Switzerland</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hairman of the Board- Center for Medical Technology Policy</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st National Chairman-American Heart  Association</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st Chairman-Landmark Medical Center</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ormer member-Council of Public Representatives-NIH</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p:txBody>
      </p:sp>
      <p:sp>
        <p:nvSpPr>
          <p:cNvPr id="63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643F-6441-4370-B05A-93551C52CB0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
        <p:nvSpPr>
          <p:cNvPr id="635" name="AutoShape 2"/>
          <p:cNvSpPr/>
          <p:nvPr/>
        </p:nvSpPr>
        <p:spPr>
          <a:xfrm>
            <a:off x="247680" y="-33480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AutoShape 4"/>
          <p:cNvSpPr/>
          <p:nvPr/>
        </p:nvSpPr>
        <p:spPr>
          <a:xfrm>
            <a:off x="247680" y="-33480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7" name="Picture 8" descr=""/>
          <p:cNvPicPr/>
          <p:nvPr/>
        </p:nvPicPr>
        <p:blipFill>
          <a:blip r:embed="rId2"/>
          <a:stretch/>
        </p:blipFill>
        <p:spPr>
          <a:xfrm>
            <a:off x="671400" y="2057400"/>
            <a:ext cx="237672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Title 1" descr=""/>
          <p:cNvPicPr/>
          <p:nvPr/>
        </p:nvPicPr>
        <p:blipFill>
          <a:blip r:embed="rId1"/>
          <a:stretch/>
        </p:blipFill>
        <p:spPr>
          <a:xfrm>
            <a:off x="189000" y="152280"/>
            <a:ext cx="8504280" cy="1262160"/>
          </a:xfrm>
          <a:prstGeom prst="rect">
            <a:avLst/>
          </a:prstGeom>
          <a:ln w="0">
            <a:noFill/>
          </a:ln>
        </p:spPr>
      </p:pic>
      <p:sp>
        <p:nvSpPr>
          <p:cNvPr id="63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escribe approaches used by the Evidence-based Practice Centers (EPC) and Developing Evidence to Inform Decisions about Effectiveness (DEcIDE) Network to engage diverse stakeholders in their research.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ssess the impact of stakeholder participation on the quality and relevance of products and outputs.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dentify challenges and future directions for improving the quality of engagement, focus on challenges related to including important and often underrepresented constituencies, and address obstacles to obtaining meaningful stakeholder input. </a:t>
            </a:r>
            <a:endParaRPr b="0" lang="en-US" sz="2000" spc="-1" strike="noStrike">
              <a:solidFill>
                <a:srgbClr val="000000"/>
              </a:solidFill>
              <a:latin typeface="Corbel"/>
            </a:endParaRPr>
          </a:p>
        </p:txBody>
      </p:sp>
      <p:sp>
        <p:nvSpPr>
          <p:cNvPr id="64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A58B-4325-4AEA-A82F-85B2030AEC0F}"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Title 1" descr=""/>
          <p:cNvPicPr/>
          <p:nvPr/>
        </p:nvPicPr>
        <p:blipFill>
          <a:blip r:embed="rId1"/>
          <a:stretch/>
        </p:blipFill>
        <p:spPr>
          <a:xfrm>
            <a:off x="189000" y="152280"/>
            <a:ext cx="8504280" cy="1262160"/>
          </a:xfrm>
          <a:prstGeom prst="rect">
            <a:avLst/>
          </a:prstGeom>
          <a:ln w="0">
            <a:noFill/>
          </a:ln>
        </p:spPr>
      </p:pic>
      <p:sp>
        <p:nvSpPr>
          <p:cNvPr id="64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 Comparative Exercise of Two Men:</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oth are 38 years old</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oth are Presidents of their compani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oth have young children</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oth have fathers who died of heart disease</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oth are dealing with their own heart disease</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4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9B10-FE0F-49D2-80E8-9C5496A187E0}"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2">
                                            <p:txEl>
                                              <p:pRg st="0" end="0"/>
                                            </p:txEl>
                                          </p:spTgt>
                                        </p:tgtEl>
                                        <p:attrNameLst>
                                          <p:attrName>style.visibility</p:attrName>
                                        </p:attrNameLst>
                                      </p:cBhvr>
                                      <p:to>
                                        <p:strVal val="visible"/>
                                      </p:to>
                                    </p:set>
                                    <p:animEffect filter="fade" transition="in">
                                      <p:cBhvr additive="repl">
                                        <p:cTn id="7" dur="2000"/>
                                        <p:tgtEl>
                                          <p:spTgt spid="642">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642">
                                            <p:txEl>
                                              <p:pRg st="1" end="1"/>
                                            </p:txEl>
                                          </p:spTgt>
                                        </p:tgtEl>
                                        <p:attrNameLst>
                                          <p:attrName>style.visibility</p:attrName>
                                        </p:attrNameLst>
                                      </p:cBhvr>
                                      <p:to>
                                        <p:strVal val="visible"/>
                                      </p:to>
                                    </p:set>
                                    <p:animEffect filter="fade" transition="in">
                                      <p:cBhvr additive="repl">
                                        <p:cTn id="11" dur="2000"/>
                                        <p:tgtEl>
                                          <p:spTgt spid="642">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642">
                                            <p:txEl>
                                              <p:pRg st="2" end="2"/>
                                            </p:txEl>
                                          </p:spTgt>
                                        </p:tgtEl>
                                        <p:attrNameLst>
                                          <p:attrName>style.visibility</p:attrName>
                                        </p:attrNameLst>
                                      </p:cBhvr>
                                      <p:to>
                                        <p:strVal val="visible"/>
                                      </p:to>
                                    </p:set>
                                    <p:animEffect filter="fade" transition="in">
                                      <p:cBhvr additive="repl">
                                        <p:cTn id="15" dur="2000"/>
                                        <p:tgtEl>
                                          <p:spTgt spid="642">
                                            <p:txEl>
                                              <p:pRg st="2" end="2"/>
                                            </p:txEl>
                                          </p:spTgt>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642">
                                            <p:txEl>
                                              <p:pRg st="3" end="3"/>
                                            </p:txEl>
                                          </p:spTgt>
                                        </p:tgtEl>
                                        <p:attrNameLst>
                                          <p:attrName>style.visibility</p:attrName>
                                        </p:attrNameLst>
                                      </p:cBhvr>
                                      <p:to>
                                        <p:strVal val="visible"/>
                                      </p:to>
                                    </p:set>
                                    <p:animEffect filter="fade" transition="in">
                                      <p:cBhvr additive="repl">
                                        <p:cTn id="19" dur="2000"/>
                                        <p:tgtEl>
                                          <p:spTgt spid="642">
                                            <p:txEl>
                                              <p:pRg st="3" end="3"/>
                                            </p:txEl>
                                          </p:spTgt>
                                        </p:tgtEl>
                                      </p:cBhvr>
                                    </p:animEffect>
                                  </p:childTnLst>
                                </p:cTn>
                              </p:par>
                            </p:childTnLst>
                          </p:cTn>
                        </p:par>
                        <p:par>
                          <p:cTn id="20" fill="hold">
                            <p:stCondLst>
                              <p:cond delay="8000"/>
                            </p:stCondLst>
                            <p:childTnLst>
                              <p:par>
                                <p:cTn id="21" nodeType="afterEffect" fill="hold" presetClass="entr" presetID="10">
                                  <p:stCondLst>
                                    <p:cond delay="0"/>
                                  </p:stCondLst>
                                  <p:childTnLst>
                                    <p:set>
                                      <p:cBhvr>
                                        <p:cTn id="22" dur="1" fill="hold">
                                          <p:stCondLst>
                                            <p:cond delay="0"/>
                                          </p:stCondLst>
                                        </p:cTn>
                                        <p:tgtEl>
                                          <p:spTgt spid="642">
                                            <p:txEl>
                                              <p:pRg st="4" end="4"/>
                                            </p:txEl>
                                          </p:spTgt>
                                        </p:tgtEl>
                                        <p:attrNameLst>
                                          <p:attrName>style.visibility</p:attrName>
                                        </p:attrNameLst>
                                      </p:cBhvr>
                                      <p:to>
                                        <p:strVal val="visible"/>
                                      </p:to>
                                    </p:set>
                                    <p:animEffect filter="fade" transition="in">
                                      <p:cBhvr additive="repl">
                                        <p:cTn id="23" dur="2000"/>
                                        <p:tgtEl>
                                          <p:spTgt spid="642">
                                            <p:txEl>
                                              <p:pRg st="4" end="4"/>
                                            </p:txEl>
                                          </p:spTgt>
                                        </p:tgtEl>
                                      </p:cBhvr>
                                    </p:animEffect>
                                  </p:childTnLst>
                                </p:cTn>
                              </p:par>
                            </p:childTnLst>
                          </p:cTn>
                        </p:par>
                        <p:par>
                          <p:cTn id="24" fill="hold">
                            <p:stCondLst>
                              <p:cond delay="10000"/>
                            </p:stCondLst>
                            <p:childTnLst>
                              <p:par>
                                <p:cTn id="25" nodeType="afterEffect" fill="hold" presetClass="entr" presetID="10">
                                  <p:stCondLst>
                                    <p:cond delay="0"/>
                                  </p:stCondLst>
                                  <p:childTnLst>
                                    <p:set>
                                      <p:cBhvr>
                                        <p:cTn id="26" dur="1" fill="hold">
                                          <p:stCondLst>
                                            <p:cond delay="0"/>
                                          </p:stCondLst>
                                        </p:cTn>
                                        <p:tgtEl>
                                          <p:spTgt spid="642">
                                            <p:txEl>
                                              <p:pRg st="5" end="5"/>
                                            </p:txEl>
                                          </p:spTgt>
                                        </p:tgtEl>
                                        <p:attrNameLst>
                                          <p:attrName>style.visibility</p:attrName>
                                        </p:attrNameLst>
                                      </p:cBhvr>
                                      <p:to>
                                        <p:strVal val="visible"/>
                                      </p:to>
                                    </p:set>
                                    <p:animEffect filter="fade" transition="in">
                                      <p:cBhvr additive="repl">
                                        <p:cTn id="27" dur="2000"/>
                                        <p:tgtEl>
                                          <p:spTgt spid="6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457200" y="1774800"/>
            <a:ext cx="82296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When I think about the role of the patient in the Research process, I am reminded of the ham and egg breakfast…</a:t>
            </a:r>
            <a:endParaRPr b="0" lang="en-US" sz="32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all the chicken has to do is to get involved; it’s the pig that must make the commitmen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44">
                                            <p:txEl>
                                              <p:pRg st="0" end="0"/>
                                            </p:txEl>
                                          </p:spTgt>
                                        </p:tgtEl>
                                        <p:attrNameLst>
                                          <p:attrName>style.visibility</p:attrName>
                                        </p:attrNameLst>
                                      </p:cBhvr>
                                      <p:to>
                                        <p:strVal val="visible"/>
                                      </p:to>
                                    </p:set>
                                    <p:anim calcmode="lin" valueType="num">
                                      <p:cBhvr additive="base">
                                        <p:cTn id="34" dur="500" fill="hold"/>
                                        <p:tgtEl>
                                          <p:spTgt spid="644">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644">
                                            <p:txEl>
                                              <p:pRg st="2" end="2"/>
                                            </p:txEl>
                                          </p:spTgt>
                                        </p:tgtEl>
                                        <p:attrNameLst>
                                          <p:attrName>style.visibility</p:attrName>
                                        </p:attrNameLst>
                                      </p:cBhvr>
                                      <p:to>
                                        <p:strVal val="visible"/>
                                      </p:to>
                                    </p:set>
                                    <p:anim calcmode="lin" valueType="num">
                                      <p:cBhvr additive="base">
                                        <p:cTn id="40" dur="500" fill="hold"/>
                                        <p:tgtEl>
                                          <p:spTgt spid="644">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Title 1" descr=""/>
          <p:cNvPicPr/>
          <p:nvPr/>
        </p:nvPicPr>
        <p:blipFill>
          <a:blip r:embed="rId1"/>
          <a:stretch/>
        </p:blipFill>
        <p:spPr>
          <a:xfrm>
            <a:off x="189000" y="152280"/>
            <a:ext cx="8504280" cy="1262160"/>
          </a:xfrm>
          <a:prstGeom prst="rect">
            <a:avLst/>
          </a:prstGeom>
          <a:ln w="0">
            <a:noFill/>
          </a:ln>
        </p:spPr>
      </p:pic>
      <p:sp>
        <p:nvSpPr>
          <p:cNvPr id="646" name=""/>
          <p:cNvSpPr txBox="1"/>
          <p:nvPr/>
        </p:nvSpPr>
        <p:spPr>
          <a:xfrm>
            <a:off x="228600" y="1599840"/>
            <a:ext cx="8686800" cy="525780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IH-COPR Workshop –Inviting Public Participation in clinical research: Building Trust through Partnerships-2004</a:t>
            </a:r>
            <a:endParaRPr b="0" lang="en-US" sz="2000" spc="-1" strike="noStrike">
              <a:solidFill>
                <a:srgbClr val="000000"/>
              </a:solidFill>
              <a:latin typeface="Corbel"/>
            </a:endParaRPr>
          </a:p>
          <a:p>
            <a:pPr marL="416160" indent="-302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HA-advisory working group-Recommendations to Develop Strategies to increase the number of ST segment elevation in MI patients with timely access to primary percutaneous coronary intervention. Circulation 2006</a:t>
            </a: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HA AMI writing group-Development of Systems of care for St-elevated MI patients-non-percutaneous coronary intervention-hospital perspective. Circulation 2007</a:t>
            </a: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MA/AHA/ACC-PCPI CAD/HTN work group,2010</a:t>
            </a:r>
            <a:endParaRPr b="0" lang="en-US" sz="2000" spc="-1" strike="noStrike">
              <a:solidFill>
                <a:srgbClr val="000000"/>
              </a:solidFill>
              <a:latin typeface="Corbel"/>
            </a:endParaRPr>
          </a:p>
          <a:p>
            <a:pPr marL="416160" indent="-302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EcIDE Cardiovascular Consortium Stakeholders Meeting,2010</a:t>
            </a: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enter for  Medical Technology Policy Patient and Consumer Advisory Council</a:t>
            </a: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gency for Healthcare Research and Quality Community Forum: Technical Expert Panel on Patient and Consumer Involvement in Patient-Centered Outcomes Research ,2011</a:t>
            </a: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64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F293-9237-4EBE-BA93-8A623A7BA2C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Title 1" descr=""/>
          <p:cNvPicPr/>
          <p:nvPr/>
        </p:nvPicPr>
        <p:blipFill>
          <a:blip r:embed="rId1"/>
          <a:stretch/>
        </p:blipFill>
        <p:spPr>
          <a:xfrm>
            <a:off x="189000" y="152280"/>
            <a:ext cx="8504280" cy="1262160"/>
          </a:xfrm>
          <a:prstGeom prst="rect">
            <a:avLst/>
          </a:prstGeom>
          <a:ln w="0">
            <a:noFill/>
          </a:ln>
        </p:spPr>
      </p:pic>
      <p:sp>
        <p:nvSpPr>
          <p:cNvPr id="649"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atient collaboration throughout the research process is relatively new to CER</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ed for research on the impact of patient representatives </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ed to overcome barriers for participation</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ed to establish best practices for CER</a:t>
            </a:r>
            <a:endParaRPr b="0" lang="en-US" sz="3200" spc="-1" strike="noStrike">
              <a:solidFill>
                <a:srgbClr val="000000"/>
              </a:solidFill>
              <a:latin typeface="Corbel"/>
            </a:endParaRPr>
          </a:p>
          <a:p>
            <a:pPr marL="402840" indent="-293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C875-D612-49FE-BF28-B94456659ED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Content Placeholder 4" descr="New Image.JPG"/>
          <p:cNvPicPr/>
          <p:nvPr/>
        </p:nvPicPr>
        <p:blipFill>
          <a:blip r:embed="rId1"/>
          <a:stretch/>
        </p:blipFill>
        <p:spPr>
          <a:xfrm>
            <a:off x="1490760" y="1774800"/>
            <a:ext cx="6162480" cy="4626000"/>
          </a:xfrm>
          <a:prstGeom prst="rect">
            <a:avLst/>
          </a:prstGeom>
          <a:ln w="0">
            <a:noFill/>
          </a:ln>
        </p:spPr>
      </p:pic>
      <p:sp>
        <p:nvSpPr>
          <p:cNvPr id="65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EB48-5FBC-4895-B313-11E497CA71B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653" name="Picture 2" descr="Larry's Grandchildren 4"/>
          <p:cNvPicPr/>
          <p:nvPr/>
        </p:nvPicPr>
        <p:blipFill>
          <a:blip r:embed="rId1"/>
          <a:stretch/>
        </p:blipFill>
        <p:spPr>
          <a:xfrm>
            <a:off x="3200400" y="457200"/>
            <a:ext cx="2189160" cy="2971800"/>
          </a:xfrm>
          <a:prstGeom prst="rect">
            <a:avLst/>
          </a:prstGeom>
          <a:ln w="0">
            <a:noFill/>
          </a:ln>
        </p:spPr>
      </p:pic>
      <p:pic>
        <p:nvPicPr>
          <p:cNvPr id="654" name="Picture 3" descr="Larry's Grandchildren 3"/>
          <p:cNvPicPr/>
          <p:nvPr/>
        </p:nvPicPr>
        <p:blipFill>
          <a:blip r:embed="rId2"/>
          <a:stretch/>
        </p:blipFill>
        <p:spPr>
          <a:xfrm>
            <a:off x="914400" y="380880"/>
            <a:ext cx="2066760" cy="3048120"/>
          </a:xfrm>
          <a:prstGeom prst="rect">
            <a:avLst/>
          </a:prstGeom>
          <a:ln w="0">
            <a:noFill/>
          </a:ln>
        </p:spPr>
      </p:pic>
      <p:pic>
        <p:nvPicPr>
          <p:cNvPr id="655" name="Picture 4" descr="Larry's Grandchildren 2"/>
          <p:cNvPicPr/>
          <p:nvPr/>
        </p:nvPicPr>
        <p:blipFill>
          <a:blip r:embed="rId3"/>
          <a:stretch/>
        </p:blipFill>
        <p:spPr>
          <a:xfrm>
            <a:off x="3352680" y="3581280"/>
            <a:ext cx="2028960" cy="2819520"/>
          </a:xfrm>
          <a:prstGeom prst="rect">
            <a:avLst/>
          </a:prstGeom>
          <a:ln w="0">
            <a:noFill/>
          </a:ln>
        </p:spPr>
      </p:pic>
      <p:pic>
        <p:nvPicPr>
          <p:cNvPr id="656" name="Picture 6" descr="Larry's Grandchildren 5"/>
          <p:cNvPicPr/>
          <p:nvPr/>
        </p:nvPicPr>
        <p:blipFill>
          <a:blip r:embed="rId4"/>
          <a:stretch/>
        </p:blipFill>
        <p:spPr>
          <a:xfrm>
            <a:off x="5791320" y="380880"/>
            <a:ext cx="2028600" cy="3048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6:13:50Z</dcterms:created>
  <dc:creator>Linda</dc:creator>
  <dc:description/>
  <dc:language>en-US</dc:language>
  <cp:lastModifiedBy>Tania Dutta</cp:lastModifiedBy>
  <dcterms:modified xsi:type="dcterms:W3CDTF">2012-09-05T20:27:30Z</dcterms:modified>
  <cp:revision>19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D39CF0B122A81408B01136026CE4C76</vt:lpwstr>
  </property>
  <property fmtid="{D5CDD505-2E9C-101B-9397-08002B2CF9AE}" pid="3" name="Owner">
    <vt:lpwstr/>
  </property>
  <property fmtid="{D5CDD505-2E9C-101B-9397-08002B2CF9AE}" pid="4" name="PresentationID">
    <vt:lpwstr>d7facffd066445e9b3980b7c98caaeca</vt:lpwstr>
  </property>
  <property fmtid="{D5CDD505-2E9C-101B-9397-08002B2CF9AE}" pid="5" name="SPSDescription">
    <vt:lpwstr/>
  </property>
  <property fmtid="{D5CDD505-2E9C-101B-9397-08002B2CF9AE}" pid="6" name="Status">
    <vt:lpwstr/>
  </property>
  <property fmtid="{D5CDD505-2E9C-101B-9397-08002B2CF9AE}" pid="7" name="display_urn:schemas-microsoft-com:office:office#Author">
    <vt:lpwstr>Pivovarov, Jill</vt:lpwstr>
  </property>
  <property fmtid="{D5CDD505-2E9C-101B-9397-08002B2CF9AE}" pid="8" name="display_urn:schemas-microsoft-com:office:office#Editor">
    <vt:lpwstr>Pivovarov, Jill</vt:lpwstr>
  </property>
  <property fmtid="{D5CDD505-2E9C-101B-9397-08002B2CF9AE}" pid="9" name="rename any EPS files from .ps to .eps before opening">
    <vt:lpwstr/>
  </property>
</Properties>
</file>