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95083-188E-4F6B-B56C-785F23F13E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4C193-1F1A-4374-A887-E0A8915DE6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BEE20-04D8-45D2-92C1-63BC1E374B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A83B3-9AFF-43B0-822A-7863FF2200A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FAE12-D390-4733-877A-32DCE4A4D7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0BCBF-8D0D-4604-ACBB-62DF61F961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13B0F-EB7B-46AE-9824-3CFA75FE65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A24F3-C3A5-4F5E-842B-94A2FDDC32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E3B06-732D-4EDA-A6AA-27DF26DBF7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6860D-6015-4B54-9359-90BD1DB221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95754-F66F-423F-A37E-A7456310B8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B9BCE-2ABE-454D-878C-2D45B632850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0A1C2-C92F-404C-B995-D589D88521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4E27A-A2DD-49FF-A680-F1681A3C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0F117-2EAA-4B2B-B389-464EB508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52873-9A65-4243-96D6-FF9AB2D4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DBE9F-4494-4C17-A8B3-AABEA5E0B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728E7-A2A7-4465-A92C-BCBC3DA72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20984-198F-4299-9FCB-4647C3CA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6CD7A-8807-470C-8F59-7343339C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F7B09-981E-414F-8919-00A62D59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37014-D1FA-4F99-8482-F079B9FC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03EC4-D207-4AA5-98C6-59FA23C0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398BE-86DA-42F5-B59C-8267B3BD9B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911E54-1691-4A0A-8DC2-1207FA7233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8115AB-3060-4E9E-8B8C-89D963C4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A11814-1AD6-43F9-B13F-9D2DB0B0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A1239C-07AE-4EA1-86B8-BE7385B7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608810-0ADB-4EDA-92BA-1DC7C55ED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9391CC-BA36-40E5-8733-BCC5FA90A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6365EB-02F9-4E6B-A547-C4FE6ABE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C184C8-0C52-4509-A623-86C9B450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DA756E-0D37-4BED-B41F-AD2E05F9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A4D8FC-DB26-49FA-9D5E-FA9ECA34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0AEE7-A415-4573-BCEB-44B60051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3907AD-E516-4FE4-A5FD-4F647494CF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97BD-98AB-4B44-8D6B-A0BF526C29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46DB-9797-4F9B-BAAD-929DEA70847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CAD4-DAE7-4867-A77B-0B6E2F1B908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E24E-84A9-4A76-90D9-C8D07333BB6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0D7A-F585-4640-974C-EA375E11151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50AC6-4168-4A16-8A57-A5DEFE5469D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A2EA-1441-48A4-A30C-311A47A1B0E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CA54-498F-4103-971A-93B09C49A31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80F6D-6489-457C-A094-0421149322B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9BE1-BE9C-4E74-8B5C-986D58E387B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E70C-A147-4D4F-BCA8-1AE2199F7E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78EF-A70A-4AE9-BA05-62C24DA7172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938FD8-40F7-4DC4-A0BA-559801ACC3C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B17169-E8A7-473F-9B20-1B78600F088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809120-1260-41E6-854E-4B3D5702950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BB1D4C-6097-4FFF-A3DA-A755686DA57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137C46-4B11-45F6-8AB7-3332CB64A7C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A6A43C-C221-4666-BA3C-FF86BCFE470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626448-53B1-4F87-A1CC-9BE849F6428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6813D1-B1CD-4B0C-81C5-3A0F4491710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1912C6-DAB7-43E1-B18C-CB64B17710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EDFC99-E60C-4091-BFF0-F89B4AAEEE8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FD11CE-15EC-46E6-9938-1C64051AABA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C3BBBF-5C40-4410-9908-E907499E936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B704EA-D8BB-455A-9430-367C0D89CF0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840B68-E225-4FDC-8D68-7A656501646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3B68E1-D963-4309-87E3-60965CA8F3C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17EBF3-3781-433B-AAD0-4D15115F486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B2C90F-4126-4C62-B24D-52E70B6A036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0528D1-95F9-4D6D-8DC0-2EFE14A7EE0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FC3AC7-5477-42D9-A3FC-541BBC0DCE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7E6270-5EB2-476A-8FA8-9CC0AE0F5B7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3D5457-5D15-4028-B089-CCB7DB61545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FD708E-10ED-4B37-B60B-8D4EB433153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CADF2D-4BF0-457E-9467-1D57A4C7E9E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CE34AB-2C31-4846-A4B7-A8CA8370D22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PPT_forOCKT_Secondary3a.png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37" name="PlaceHolder 1"/>
          <p:cNvSpPr>
            <a:spLocks noGrp="1"/>
          </p:cNvSpPr>
          <p:nvPr>
            <p:ph type="sldNum" idx="1"/>
          </p:nvPr>
        </p:nvSpPr>
        <p:spPr>
          <a:xfrm>
            <a:off x="6552720" y="6391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90F8ED-CA0A-4B88-A377-AA9CE91B335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Straight Connector 7"/>
          <p:cNvSpPr/>
          <p:nvPr/>
        </p:nvSpPr>
        <p:spPr>
          <a:xfrm>
            <a:off x="457200" y="1378080"/>
            <a:ext cx="8229600" cy="0"/>
          </a:xfrm>
          <a:prstGeom prst="line">
            <a:avLst/>
          </a:prstGeom>
          <a:ln w="1260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Num" idx="2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45DC98-8D4C-45C9-9E73-83193D5F4D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3"/>
          </p:nvPr>
        </p:nvSpPr>
        <p:spPr>
          <a:xfrm>
            <a:off x="3276720" y="6381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Num" idx="4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8A90B2-ECA7-42E7-BAFC-1EDDC22F40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5"/>
          </p:nvPr>
        </p:nvSpPr>
        <p:spPr>
          <a:xfrm>
            <a:off x="3276720" y="6381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" descr="PPT_forOCKT_Secondary3a.png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Straight Connector 7"/>
          <p:cNvSpPr/>
          <p:nvPr/>
        </p:nvSpPr>
        <p:spPr>
          <a:xfrm>
            <a:off x="457200" y="1378080"/>
            <a:ext cx="8229600" cy="0"/>
          </a:xfrm>
          <a:prstGeom prst="line">
            <a:avLst/>
          </a:prstGeom>
          <a:ln w="1260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Num" idx="6"/>
          </p:nvPr>
        </p:nvSpPr>
        <p:spPr>
          <a:xfrm>
            <a:off x="6552720" y="63860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46EDF2-397C-49B7-B45D-8328AA1C63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" descr="PPT_forOCKT_Secondary3a.png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Straight Connector 7"/>
          <p:cNvSpPr/>
          <p:nvPr/>
        </p:nvSpPr>
        <p:spPr>
          <a:xfrm>
            <a:off x="457200" y="1378080"/>
            <a:ext cx="8229600" cy="0"/>
          </a:xfrm>
          <a:prstGeom prst="line">
            <a:avLst/>
          </a:prstGeom>
          <a:ln w="1260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Num" idx="7"/>
          </p:nvPr>
        </p:nvSpPr>
        <p:spPr>
          <a:xfrm>
            <a:off x="6552720" y="6388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011E10-20FC-456D-AC02-7ACAE61774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" descr="PPT_forOCKT_Secondary3a.png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Straight Connector 7"/>
          <p:cNvSpPr/>
          <p:nvPr/>
        </p:nvSpPr>
        <p:spPr>
          <a:xfrm>
            <a:off x="457200" y="1378080"/>
            <a:ext cx="8229600" cy="0"/>
          </a:xfrm>
          <a:prstGeom prst="line">
            <a:avLst/>
          </a:prstGeom>
          <a:ln w="1260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Num" idx="8"/>
          </p:nvPr>
        </p:nvSpPr>
        <p:spPr>
          <a:xfrm>
            <a:off x="6552720" y="6388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117709-AB19-46C3-B098-5ABCEF02CD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" descr="PPT_forOCKT_Secondary3a.png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7"/>
          <p:cNvSpPr/>
          <p:nvPr/>
        </p:nvSpPr>
        <p:spPr>
          <a:xfrm>
            <a:off x="457200" y="1378080"/>
            <a:ext cx="8229600" cy="0"/>
          </a:xfrm>
          <a:prstGeom prst="line">
            <a:avLst/>
          </a:prstGeom>
          <a:ln w="1260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1"/>
          <p:cNvSpPr/>
          <p:nvPr/>
        </p:nvSpPr>
        <p:spPr>
          <a:xfrm>
            <a:off x="222120" y="0"/>
            <a:ext cx="8774280" cy="17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6" descr="PPT_titlepage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45012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37760" y="2361960"/>
            <a:ext cx="845820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  <a:ea typeface="Arial"/>
              </a:rPr>
              <a:t>Reporting in a World of Multiple CAHPS Measures</a:t>
            </a:r>
            <a:br>
              <a:rPr sz="3500"/>
            </a:b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37760" y="4608360"/>
            <a:ext cx="84582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"/>
                <a:ea typeface="Arial"/>
              </a:rPr>
              <a:t>Mark Schlesinger, Yale Univers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"/>
                <a:ea typeface="Arial"/>
              </a:rPr>
              <a:t>David Kanouse, R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"/>
                <a:ea typeface="Arial"/>
              </a:rPr>
              <a:t>September 9,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Arial"/>
              </a:rPr>
              <a:t>Some of the drawbacks of roll-up measures may be offset by offering them as a tool along with more detailed meas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Arial"/>
              </a:rPr>
              <a:t>Providing roll-up measures on a website makes it possible to tailor the roll-up to an individual’s preferences, e,g., by asking which domains should be underweighted or dropped from consid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Arial"/>
              </a:rPr>
              <a:t>Research on the best ways to use roll-up measures in public reports on quality is needed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39720" y="139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116f"/>
                </a:solidFill>
                <a:latin typeface="Arial"/>
              </a:rPr>
              <a:t>Challenge 2:</a:t>
            </a:r>
            <a:br>
              <a:rPr sz="3200"/>
            </a:br>
            <a:r>
              <a:rPr b="1" lang="en-US" sz="3200" spc="-1" strike="noStrike">
                <a:solidFill>
                  <a:srgbClr val="3f116f"/>
                </a:solidFill>
                <a:latin typeface="Arial"/>
              </a:rPr>
              <a:t>Roll-up meas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6553080" y="63864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7BE38D-5223-43F1-BCB4-9C216CE5E2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Arial"/>
              </a:rPr>
              <a:t>Challenge 1: Availability of measures with overlapping content creates potential for confusion in report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ea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ea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ea1"/>
                </a:solidFill>
                <a:latin typeface="Arial"/>
                <a:ea typeface="Arial"/>
              </a:rPr>
              <a:t>Challenge 2: Proliferation of domains to be reported creates a demand for “roll-up” measures that summarize across doma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39720" y="139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f116f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6553080" y="63864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D37709-C329-476E-AD4F-527FD09BEA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Arial"/>
              </a:rPr>
              <a:t>The Clinician &amp; Group Surveys produces the following four measur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Arial"/>
              </a:rPr>
              <a:t>Getting timely appointments, care, and information (5 item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Arial"/>
              </a:rPr>
              <a:t>How well providers (or doctors) communicate with patients (6 item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Arial"/>
              </a:rPr>
              <a:t>Helpful, courteous, and respectful office staff (2 item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Arial"/>
              </a:rPr>
              <a:t>Patients’ rating of the provider (or doctor) (1 item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439720" y="139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116f"/>
                </a:solidFill>
                <a:latin typeface="Arial"/>
              </a:rPr>
              <a:t>Challenge 1:</a:t>
            </a:r>
            <a:br>
              <a:rPr sz="3200"/>
            </a:br>
            <a:r>
              <a:rPr b="1" lang="en-US" sz="3200" spc="-1" strike="noStrike">
                <a:solidFill>
                  <a:srgbClr val="3f116f"/>
                </a:solidFill>
                <a:latin typeface="Arial"/>
              </a:rPr>
              <a:t>Overlapping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4"/>
          <p:cNvSpPr/>
          <p:nvPr/>
        </p:nvSpPr>
        <p:spPr>
          <a:xfrm>
            <a:off x="6553080" y="63864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91758D-6ECB-470D-978F-8C45F656AF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Arial"/>
              </a:rPr>
              <a:t>Supplemental item sets designed for the Clinician &amp; Group Surveys have additional composite measures and individual items that relate to the core domains; e.g.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Arial"/>
              </a:rPr>
              <a:t>Getting timely appointments through e-mail or a website (HIT composite, 1 it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Arial"/>
              </a:rPr>
              <a:t>How well providers communicate about medicines (Health Literacy composite, 4 item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439720" y="139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116f"/>
                </a:solidFill>
                <a:latin typeface="Arial"/>
              </a:rPr>
              <a:t>Challenge 1: </a:t>
            </a:r>
            <a:br>
              <a:rPr sz="3200"/>
            </a:br>
            <a:r>
              <a:rPr b="1" lang="en-US" sz="3200" spc="-1" strike="noStrike">
                <a:solidFill>
                  <a:srgbClr val="3f116f"/>
                </a:solidFill>
                <a:latin typeface="Arial"/>
              </a:rPr>
              <a:t>Overlapping Cont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6553080" y="63864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71F08E-AF73-49FB-A011-6E0DB6DEE7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Arial"/>
              </a:rPr>
              <a:t>New composites and items that address specific topics but also fall within the domains covered by core composites create additional challenges for labeling of composites and report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Arial"/>
              </a:rPr>
              <a:t>Labels need both to describe content of composite and distinguish it from other composi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Arial"/>
              </a:rPr>
              <a:t>Potential for consumer confusion  and over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Arial"/>
              </a:rPr>
              <a:t>Overlapping measures also create a temptation for sponsors to create their own (non-standard) meta-composit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439720" y="139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116f"/>
                </a:solidFill>
                <a:latin typeface="Arial"/>
              </a:rPr>
              <a:t>Challenge 1: </a:t>
            </a:r>
            <a:br>
              <a:rPr sz="3200"/>
            </a:br>
            <a:r>
              <a:rPr b="1" lang="en-US" sz="3200" spc="-1" strike="noStrike">
                <a:solidFill>
                  <a:srgbClr val="3f116f"/>
                </a:solidFill>
                <a:latin typeface="Arial"/>
              </a:rPr>
              <a:t>Overlapping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6553080" y="63864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23E9E1-0972-466D-B66F-1914A8CF8A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Arial"/>
              </a:rPr>
              <a:t>Do not publicly report items not recommended for reporting; these items are for QI purpo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Arial"/>
              </a:rPr>
              <a:t>When testing reports with consumers, examine their understanding and interpretation of composites in relation to other potentially related composites, not merely in iso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Arial"/>
              </a:rPr>
              <a:t>Don’t even think about building your own in-house meta-composite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39720" y="139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116f"/>
                </a:solidFill>
                <a:latin typeface="Arial"/>
              </a:rPr>
              <a:t>Challenge 1:</a:t>
            </a:r>
            <a:br>
              <a:rPr sz="3200"/>
            </a:br>
            <a:r>
              <a:rPr b="1" lang="en-US" sz="3200" spc="-1" strike="noStrike">
                <a:solidFill>
                  <a:srgbClr val="3f116f"/>
                </a:solidFill>
                <a:latin typeface="Arial"/>
              </a:rPr>
              <a:t>Recommend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6553080" y="63864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F96261-57AD-449E-9D1E-64058FE977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Arial"/>
              </a:rPr>
              <a:t>As the number of performance measures grows, integrating that information becomes more difficult for consu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Arial"/>
              </a:rPr>
              <a:t>Example: The Hospital CAHPS Survey contains six composite measures and three individual questions covering highly diverse domains (e.g., communication with nurses and doctors, pain management, discharge information)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439720" y="139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116f"/>
                </a:solidFill>
                <a:latin typeface="Arial"/>
              </a:rPr>
              <a:t>Challenge 2:</a:t>
            </a:r>
            <a:br>
              <a:rPr sz="3200"/>
            </a:br>
            <a:r>
              <a:rPr b="1" lang="en-US" sz="3200" spc="-1" strike="noStrike">
                <a:solidFill>
                  <a:srgbClr val="3f116f"/>
                </a:solidFill>
                <a:latin typeface="Arial"/>
              </a:rPr>
              <a:t>Roll-up meas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6553080" y="63864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6CF490-A924-4C1C-9B6C-2AF67E9712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Arial"/>
              </a:rPr>
              <a:t>Integrating information across multiple domains to arrive at an overall evaluation is difficult, and , use of roll-up measures offers a way to make that task eas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Arial"/>
              </a:rPr>
              <a:t>Use of roll-up measures also tends to increase the number of domains that are explicitly weighed in the decis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Arial"/>
              </a:rPr>
              <a:t>However, roll-up measures have disadvantages as well as advant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39720" y="139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116f"/>
                </a:solidFill>
                <a:latin typeface="Arial"/>
              </a:rPr>
              <a:t>Challenge 2: </a:t>
            </a:r>
            <a:br>
              <a:rPr sz="3200"/>
            </a:br>
            <a:r>
              <a:rPr b="1" lang="en-US" sz="3200" spc="-1" strike="noStrike">
                <a:solidFill>
                  <a:srgbClr val="3f116f"/>
                </a:solidFill>
                <a:latin typeface="Arial"/>
              </a:rPr>
              <a:t>Roll-up measur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6553080" y="63864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F94C05-295A-4A77-97C5-1166C86BCE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Arial"/>
              </a:rPr>
              <a:t>Roll-up measures may provide consumers with an easy way to make a decision without understanding the dimensions on which options v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Arial"/>
              </a:rPr>
              <a:t>Without some kind of tailoring based on consumer preferences or characteristics, roll-up measures tend to be “one size fits all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39720" y="139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116f"/>
                </a:solidFill>
                <a:latin typeface="Arial"/>
              </a:rPr>
              <a:t>Challenge 2: </a:t>
            </a:r>
            <a:br>
              <a:rPr sz="3200"/>
            </a:br>
            <a:r>
              <a:rPr b="1" lang="en-US" sz="3200" spc="-1" strike="noStrike">
                <a:solidFill>
                  <a:srgbClr val="3f116f"/>
                </a:solidFill>
                <a:latin typeface="Arial"/>
              </a:rPr>
              <a:t>Roll-up meas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6553080" y="63864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CC340B-2E17-4659-A894-ECAF76C4A6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4T22:33:10Z</dcterms:created>
  <dc:creator>Jennifer Butler</dc:creator>
  <dc:description/>
  <dc:language>en-US</dc:language>
  <cp:lastModifiedBy>Kanouse</cp:lastModifiedBy>
  <cp:lastPrinted>2012-09-06T08:59:41Z</cp:lastPrinted>
  <dcterms:modified xsi:type="dcterms:W3CDTF">2012-09-07T11:11:30Z</dcterms:modified>
  <cp:revision>344</cp:revision>
  <dc:subject/>
  <dc:title>PowerPoint Presentation</dc:title>
</cp:coreProperties>
</file>