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7B276-8A60-4FCF-B674-34FCC6BF61A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7DFB3-7221-4534-B073-7F7513E7B71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ADC3B-04B1-448D-95C3-FD7001CEB46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900F8-CBB6-4C0F-A455-7BD26B4CDAB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6DA76-4170-4AD2-87F2-83E40791AD0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F0E9B-064A-4655-97C4-930282120BC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9ED80-A803-4FD9-8AB7-0A74A15F47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B9B6E-AD63-4178-9049-DCC9F5FECD6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2CD16-DF31-454C-9AB7-E52EA547F11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4E11D-A5D4-4372-B049-3A61842EE61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5BA54-28F0-446E-A815-307C0A2C638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CEA3F-CC3E-41BB-8463-E4ABE796687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FD779-B471-4C26-9A05-A4B0579C82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71D16-4C06-451E-AB39-27BC82012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FFFA6-3073-4DC0-8391-44A3FF684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5FE54-E0BF-4AC0-BCAF-726EE4BE3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19E1C-9124-4A46-B4F1-B96286B1C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04511-66EF-46BB-825A-5784ECC49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E84B4-293E-405B-AD86-6C3FFE70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8E0E6-608B-4AF0-83DB-5E28B0E71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92A17-18F2-4F44-B22D-FD3173882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ECC6C-848A-463D-B0B5-819BDE687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848B9-6E92-4E68-BAAD-AB57BA4A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F7A09-8A61-4A2C-BB6E-E5235413AF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02D8CE-1F56-49FC-86D4-A8E4CF1975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582CA4-3EAC-40DC-B544-3047D30EC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838B83-A61C-4633-83C1-861EA32FE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206747-7688-4519-A218-A17640DEE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355377-EC94-47B3-974A-3B85DF556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DEC70C-903E-4373-AA2B-377E305E0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F35DC3-1CEF-4F2F-8A03-DF8B0ABB0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5D56A0-4861-4B41-B81A-6514DEE6F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B97040-E82E-49DC-9C55-167CF0FE5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29C4B1-2FB3-47CE-9306-D90A26332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8D3B33-B97A-4FAC-97D1-63A272C1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90932A-9D8B-493B-B221-54CADC7888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1D735-169D-4E7A-867C-798DAD75C2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0AEA2-998E-4919-9330-004FFE5B892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3A307-30B9-47C2-BD82-6AC7F2DE32E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781C2-D812-4BD7-87C2-64569646F58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21FA4-8371-4079-B43A-7EDAFF9A87F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C40FE-4A27-4D75-BB85-2E9A6E6C006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976AC-ED6A-4D41-A6CC-0795E203518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E10A3-5B2C-4C67-9083-770E9E5F6E2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46DCF-0896-47A2-ADA1-5EBFDD3250B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DBD13-6DA5-41CE-83AE-A07BD8E1BC4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CDC15-1448-471A-B1F7-B380601CDD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C4525-03E1-4F18-AE34-FE1E360860A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FC82BE-AE8A-4BB7-BD96-BC6DA41E21E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CFF3D5-9898-41C8-8430-6ECBCC72FA9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5BCBF7-5D2A-4CB1-9D5A-EC190737E5A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9A98A4-2E12-4C56-A714-ECE4E57460E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EA8164-F73E-48E9-B503-34D118D99F6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0E40AD-8B59-4ACD-AB5C-00B3BF168FF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4E6656-EBA3-4C96-81E9-28878AE132F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C27351-986C-4175-A184-C76D5E3D813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D41546-87D9-48E8-8031-06165C505D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5473DF-9DD6-4BFF-BADB-D5143770E69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01BACA-C56D-4464-AE74-3B7AF4E047C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196E0B-A76D-49FA-933F-5A1501B57DC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A914AE-8100-49A0-AAC3-597257FE129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90AF1B-0592-45B7-AAB7-23CFFBF6433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E094E1-C67C-4EAF-BF49-6443790CAE6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DFBF68-61E5-4548-9BE1-F42B8315100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FBD43D-EB1F-4FAF-A8FE-BC514E1CCB8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16C9CB-190E-48AB-A928-01E7B95881D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F8C3BF-1259-4C46-BCDD-24F2A79A6A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2D003E-9B5D-4F4E-9ECE-5983E0751CB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64E0D8-0FF7-4F12-B9E2-59D07ED3D11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2D7BFA-4E54-4672-A5BF-67C33AF74D9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3ECB39-E11B-4F2B-9E2A-9B763AEF47A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36DC76-D392-4BB6-8469-5D40183380E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PPT_forOCKT_Secondary3a.png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37" name="PlaceHolder 1"/>
          <p:cNvSpPr>
            <a:spLocks noGrp="1"/>
          </p:cNvSpPr>
          <p:nvPr>
            <p:ph type="sldNum" idx="1"/>
          </p:nvPr>
        </p:nvSpPr>
        <p:spPr>
          <a:xfrm>
            <a:off x="6552720" y="6391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DA8183-1DEA-44FA-BCE2-FB5D00806BB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Straight Connector 7"/>
          <p:cNvSpPr/>
          <p:nvPr/>
        </p:nvSpPr>
        <p:spPr>
          <a:xfrm>
            <a:off x="457200" y="1378080"/>
            <a:ext cx="8229600" cy="0"/>
          </a:xfrm>
          <a:prstGeom prst="line">
            <a:avLst/>
          </a:prstGeom>
          <a:ln w="1260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Num" idx="2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2CA574-840B-4006-BCA4-68BA21A30F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3"/>
          </p:nvPr>
        </p:nvSpPr>
        <p:spPr>
          <a:xfrm>
            <a:off x="3276720" y="63813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Num" idx="4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51B729-7404-4845-82EB-6CB55A3451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dt" idx="5"/>
          </p:nvPr>
        </p:nvSpPr>
        <p:spPr>
          <a:xfrm>
            <a:off x="3276720" y="63813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1" descr="PPT_forOCKT_Secondary3a.png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Straight Connector 7"/>
          <p:cNvSpPr/>
          <p:nvPr/>
        </p:nvSpPr>
        <p:spPr>
          <a:xfrm>
            <a:off x="457200" y="1378080"/>
            <a:ext cx="8229600" cy="0"/>
          </a:xfrm>
          <a:prstGeom prst="line">
            <a:avLst/>
          </a:prstGeom>
          <a:ln w="1260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Num" idx="6"/>
          </p:nvPr>
        </p:nvSpPr>
        <p:spPr>
          <a:xfrm>
            <a:off x="6552720" y="63860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479DF0-82E0-4C70-A4A8-5582080415A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" descr="PPT_forOCKT_Secondary3a.png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Straight Connector 7"/>
          <p:cNvSpPr/>
          <p:nvPr/>
        </p:nvSpPr>
        <p:spPr>
          <a:xfrm>
            <a:off x="457200" y="1378080"/>
            <a:ext cx="8229600" cy="0"/>
          </a:xfrm>
          <a:prstGeom prst="line">
            <a:avLst/>
          </a:prstGeom>
          <a:ln w="1260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Num" idx="7"/>
          </p:nvPr>
        </p:nvSpPr>
        <p:spPr>
          <a:xfrm>
            <a:off x="6552720" y="6388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48EBE8-E27C-40CF-B91F-9AEC5D9650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" descr="PPT_forOCKT_Secondary3a.png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Straight Connector 7"/>
          <p:cNvSpPr/>
          <p:nvPr/>
        </p:nvSpPr>
        <p:spPr>
          <a:xfrm>
            <a:off x="457200" y="1378080"/>
            <a:ext cx="8229600" cy="0"/>
          </a:xfrm>
          <a:prstGeom prst="line">
            <a:avLst/>
          </a:prstGeom>
          <a:ln w="1260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Num" idx="8"/>
          </p:nvPr>
        </p:nvSpPr>
        <p:spPr>
          <a:xfrm>
            <a:off x="6552720" y="6388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86CF17-7BD8-45DE-868B-B3007BC60EF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1" descr="PPT_forOCKT_Secondary3a.png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271" name="Straight Connector 7"/>
          <p:cNvSpPr/>
          <p:nvPr/>
        </p:nvSpPr>
        <p:spPr>
          <a:xfrm>
            <a:off x="457200" y="1378080"/>
            <a:ext cx="8229600" cy="0"/>
          </a:xfrm>
          <a:prstGeom prst="line">
            <a:avLst/>
          </a:prstGeom>
          <a:ln w="1260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1"/>
          <p:cNvSpPr/>
          <p:nvPr/>
        </p:nvSpPr>
        <p:spPr>
          <a:xfrm>
            <a:off x="222120" y="0"/>
            <a:ext cx="8774280" cy="17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6" descr="PPT_titlepage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45012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37760" y="2361960"/>
            <a:ext cx="845820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  <a:ea typeface="Arial"/>
              </a:rPr>
              <a:t>Reporting in a World of Multiple CAHPS Measures</a:t>
            </a:r>
            <a:br>
              <a:rPr sz="3500"/>
            </a:b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37760" y="4608360"/>
            <a:ext cx="845820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Arial"/>
                <a:ea typeface="Arial"/>
              </a:rPr>
              <a:t>Mark Schlesinger, Yale Univers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Arial"/>
                <a:ea typeface="Arial"/>
              </a:rPr>
              <a:t>David Kanouse, R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Arial"/>
                <a:ea typeface="Arial"/>
              </a:rPr>
              <a:t>September 9,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Arial"/>
              </a:rPr>
              <a:t>Some of the drawbacks of roll-up measures may be offset by offering them as a tool along with more detailed meas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Arial"/>
              </a:rPr>
              <a:t>Providing roll-up measures on a website makes it possible to tailor the roll-up to an individual’s preferences, e,g., by asking which domains should be underweighted or dropped from conside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Arial"/>
              </a:rPr>
              <a:t>Research on the best ways to use roll-up measures in public reports on quality is needed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39720" y="1393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116f"/>
                </a:solidFill>
                <a:latin typeface="Arial"/>
              </a:rPr>
              <a:t>Challenge 2:</a:t>
            </a:r>
            <a:br>
              <a:rPr sz="3200"/>
            </a:br>
            <a:r>
              <a:rPr b="1" lang="en-US" sz="3200" spc="-1" strike="noStrike">
                <a:solidFill>
                  <a:srgbClr val="3f116f"/>
                </a:solidFill>
                <a:latin typeface="Arial"/>
              </a:rPr>
              <a:t>Roll-up meas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6553080" y="63864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E9857C-E2C8-4EB6-A295-6894173AF2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Arial"/>
              </a:rPr>
              <a:t>Challenge 1: Availability of measures with overlapping content creates potential for confusion in report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ea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ea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ea1"/>
                </a:solidFill>
                <a:latin typeface="Arial"/>
                <a:ea typeface="Arial"/>
              </a:rPr>
              <a:t>Challenge 2: Proliferation of domains to be reported creates a demand for “roll-up” measures that summarize across doma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39720" y="1393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f116f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4"/>
          <p:cNvSpPr/>
          <p:nvPr/>
        </p:nvSpPr>
        <p:spPr>
          <a:xfrm>
            <a:off x="6553080" y="63864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28BB64-D558-477C-948E-D682E88E445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Arial"/>
              </a:rPr>
              <a:t>The Clinician &amp; Group Surveys produces the following four measur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f136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f136f"/>
                </a:solidFill>
                <a:latin typeface="Arial"/>
                <a:ea typeface="Arial"/>
              </a:rPr>
              <a:t>Getting timely appointments, care, and information (5 item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f136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f136f"/>
                </a:solidFill>
                <a:latin typeface="Arial"/>
                <a:ea typeface="Arial"/>
              </a:rPr>
              <a:t>How well providers (or doctors) communicate with patients (6 item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f136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f136f"/>
                </a:solidFill>
                <a:latin typeface="Arial"/>
                <a:ea typeface="Arial"/>
              </a:rPr>
              <a:t>Helpful, courteous, and respectful office staff (2 item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f136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f136f"/>
                </a:solidFill>
                <a:latin typeface="Arial"/>
                <a:ea typeface="Arial"/>
              </a:rPr>
              <a:t>Patients’ rating of the provider (or doctor) (1 item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439720" y="1393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116f"/>
                </a:solidFill>
                <a:latin typeface="Arial"/>
              </a:rPr>
              <a:t>Challenge 1:</a:t>
            </a:r>
            <a:br>
              <a:rPr sz="3200"/>
            </a:br>
            <a:r>
              <a:rPr b="1" lang="en-US" sz="3200" spc="-1" strike="noStrike">
                <a:solidFill>
                  <a:srgbClr val="3f116f"/>
                </a:solidFill>
                <a:latin typeface="Arial"/>
              </a:rPr>
              <a:t>Overlapping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4"/>
          <p:cNvSpPr/>
          <p:nvPr/>
        </p:nvSpPr>
        <p:spPr>
          <a:xfrm>
            <a:off x="6553080" y="63864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A61491-8759-4C54-B970-A5CF0DBDB7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Arial"/>
              </a:rPr>
              <a:t>Supplemental item sets designed for the Clinician &amp; Group Surveys have additional composite measures and individual items that relate to the core domains; e.g.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f136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f136f"/>
                </a:solidFill>
                <a:latin typeface="Arial"/>
                <a:ea typeface="Arial"/>
              </a:rPr>
              <a:t>Getting timely appointments through e-mail or a website (HIT composite, 1 ite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f136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f136f"/>
                </a:solidFill>
                <a:latin typeface="Arial"/>
                <a:ea typeface="Arial"/>
              </a:rPr>
              <a:t>How well providers communicate about medicines (Health Literacy composite, 4 item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439720" y="1393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116f"/>
                </a:solidFill>
                <a:latin typeface="Arial"/>
              </a:rPr>
              <a:t>Challenge 1: </a:t>
            </a:r>
            <a:br>
              <a:rPr sz="3200"/>
            </a:br>
            <a:r>
              <a:rPr b="1" lang="en-US" sz="3200" spc="-1" strike="noStrike">
                <a:solidFill>
                  <a:srgbClr val="3f116f"/>
                </a:solidFill>
                <a:latin typeface="Arial"/>
              </a:rPr>
              <a:t>Overlapping Cont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6553080" y="63864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EFD337-35C9-47F2-AD5D-884149E491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Arial"/>
              </a:rPr>
              <a:t>New composites and items that address specific topics but also fall within the domains covered by core composites create additional challenges for labeling of composites and report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f136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f136f"/>
                </a:solidFill>
                <a:latin typeface="Arial"/>
                <a:ea typeface="Arial"/>
              </a:rPr>
              <a:t>Labels need both to describe content of composite and distinguish it from other composi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f136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f136f"/>
                </a:solidFill>
                <a:latin typeface="Arial"/>
                <a:ea typeface="Arial"/>
              </a:rPr>
              <a:t>Potential for consumer confusion  and overloa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Arial"/>
              </a:rPr>
              <a:t>Overlapping measures also create a temptation for sponsors to create their own (non-standard) meta-composit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439720" y="1393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116f"/>
                </a:solidFill>
                <a:latin typeface="Arial"/>
              </a:rPr>
              <a:t>Challenge 1: </a:t>
            </a:r>
            <a:br>
              <a:rPr sz="3200"/>
            </a:br>
            <a:r>
              <a:rPr b="1" lang="en-US" sz="3200" spc="-1" strike="noStrike">
                <a:solidFill>
                  <a:srgbClr val="3f116f"/>
                </a:solidFill>
                <a:latin typeface="Arial"/>
              </a:rPr>
              <a:t>Overlapping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6553080" y="63864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1F688B-D72E-4CF9-A243-C1A57B2D43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Arial"/>
              </a:rPr>
              <a:t>Do not publicly report items not recommended for reporting; these items are for QI purpo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Arial"/>
              </a:rPr>
              <a:t>When testing reports with consumers, examine their understanding and interpretation of composites in relation to other potentially related composites, not merely in iso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Arial"/>
              </a:rPr>
              <a:t>Don’t even think about building your own in-house meta-composite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39720" y="1393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116f"/>
                </a:solidFill>
                <a:latin typeface="Arial"/>
              </a:rPr>
              <a:t>Challenge 1:</a:t>
            </a:r>
            <a:br>
              <a:rPr sz="3200"/>
            </a:br>
            <a:r>
              <a:rPr b="1" lang="en-US" sz="3200" spc="-1" strike="noStrike">
                <a:solidFill>
                  <a:srgbClr val="3f116f"/>
                </a:solidFill>
                <a:latin typeface="Arial"/>
              </a:rPr>
              <a:t>Recommend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6553080" y="63864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9D52CC-B234-464B-8904-6E064122692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Arial"/>
              </a:rPr>
              <a:t>As the number of performance measures grows, integrating that information becomes more difficult for consum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Arial"/>
              </a:rPr>
              <a:t>Example: The Hospital CAHPS Survey contains six composite measures and three individual questions covering highly diverse domains (e.g., communication with nurses and doctors, pain management, discharge information)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439720" y="1393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116f"/>
                </a:solidFill>
                <a:latin typeface="Arial"/>
              </a:rPr>
              <a:t>Challenge 2:</a:t>
            </a:r>
            <a:br>
              <a:rPr sz="3200"/>
            </a:br>
            <a:r>
              <a:rPr b="1" lang="en-US" sz="3200" spc="-1" strike="noStrike">
                <a:solidFill>
                  <a:srgbClr val="3f116f"/>
                </a:solidFill>
                <a:latin typeface="Arial"/>
              </a:rPr>
              <a:t>Roll-up meas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6553080" y="63864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19ECE9-D6BD-4CD7-B9B8-EB0E4998967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Arial"/>
              </a:rPr>
              <a:t>Integrating information across multiple domains to arrive at an overall evaluation is difficult, and , use of roll-up measures offers a way to make that task eas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Arial"/>
              </a:rPr>
              <a:t>Use of roll-up measures also tends to increase the number of domains that are explicitly weighed in the decis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Arial"/>
              </a:rPr>
              <a:t>However, roll-up measures have disadvantages as well as advant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439720" y="1393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116f"/>
                </a:solidFill>
                <a:latin typeface="Arial"/>
              </a:rPr>
              <a:t>Challenge 2: </a:t>
            </a:r>
            <a:br>
              <a:rPr sz="3200"/>
            </a:br>
            <a:r>
              <a:rPr b="1" lang="en-US" sz="3200" spc="-1" strike="noStrike">
                <a:solidFill>
                  <a:srgbClr val="3f116f"/>
                </a:solidFill>
                <a:latin typeface="Arial"/>
              </a:rPr>
              <a:t>Roll-up measur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6553080" y="63864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DAE883-F6D3-4C83-8734-B36E05CBC7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Arial"/>
              </a:rPr>
              <a:t>Roll-up measures may provide consumers with an easy way to make a decision without understanding the dimensions on which options v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Arial"/>
              </a:rPr>
              <a:t>Without some kind of tailoring based on consumer preferences or characteristics, roll-up measures tend to be “one size fits all”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39720" y="1393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116f"/>
                </a:solidFill>
                <a:latin typeface="Arial"/>
              </a:rPr>
              <a:t>Challenge 2: </a:t>
            </a:r>
            <a:br>
              <a:rPr sz="3200"/>
            </a:br>
            <a:r>
              <a:rPr b="1" lang="en-US" sz="3200" spc="-1" strike="noStrike">
                <a:solidFill>
                  <a:srgbClr val="3f116f"/>
                </a:solidFill>
                <a:latin typeface="Arial"/>
              </a:rPr>
              <a:t>Roll-up meas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6553080" y="63864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790024-000C-4E7E-8C67-9933C4836E4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4T22:33:10Z</dcterms:created>
  <dc:creator>Jennifer Butler</dc:creator>
  <dc:description/>
  <dc:language>en-US</dc:language>
  <cp:lastModifiedBy>Kanouse</cp:lastModifiedBy>
  <cp:lastPrinted>2012-09-06T08:59:41Z</cp:lastPrinted>
  <dcterms:modified xsi:type="dcterms:W3CDTF">2012-09-07T11:11:30Z</dcterms:modified>
  <cp:revision>344</cp:revision>
  <dc:subject/>
  <dc:title>PowerPoint Presentation</dc:title>
</cp:coreProperties>
</file>