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517F8-19A1-4153-AFCC-64AE370D312A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446A8-CDF3-4737-A843-0E76EBF642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D30A4-B3B1-43D8-BC3A-1B2E2B30C2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984E4-17C3-4CB4-A956-8D22BE996A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5EAB5-FB53-4A21-8019-C5083801D6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96709-F83D-4FA9-8190-3A5BF13A44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34784-6A92-4992-A9D5-6D892CFAB9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49663-AFED-4981-BBA4-714F16CEC3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DEEC5-6C12-4DE7-B7A9-B264E7832E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37100-A397-4669-B172-3F0600ADB2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D7861-678B-4467-9DD8-DEA9431661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AFFBF-5FF8-417D-9C14-561636C99F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413A9-CCF9-42D3-BDAE-B431387930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F2FD0-738B-460F-8074-E6EB4D1684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8BF09-5455-4C3F-9B83-A8805327B5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19790-0F02-4617-A40B-EC25D58092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63DED-FA5B-4BE9-A473-59B879E53C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629CF-E10A-438D-ADD3-BEBF5C25C6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8AE75-07AD-4743-B41B-6824AAF328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1FADD-6A82-4E4F-970D-26A653BADC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41A18-2DD0-409C-B6EA-63CA203052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72C2A-F023-4BA3-AD2D-B903004B25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DBC3C-7978-4E1C-876D-018A659BE2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0ACA9-7610-409F-9A14-4AEB66C1C9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555723-6864-4651-9EB9-40313657D5E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2B332-5D5F-49C3-9081-8FDAD56D39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C4EAB-5431-41E3-8C87-B194369C49B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57BB6-B7FB-4A40-929A-84999FDBEC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EE7B2-040B-4C43-AB68-BCEF0291F20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18602-C8A3-4FA6-BAC1-D734C8784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A54D-45AF-4433-B511-92B5FEDCFB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17C6-82B1-49DE-820E-CEAD3AF561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CF16-2A78-4432-817B-4A67CD2BC5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5FD6-E931-4D9D-8378-A3070A42E13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FCE6-2BB2-4D2F-A22F-7540701FE9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EFAB-5BB9-48DD-980D-EEF15B055C4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1356E-63B6-45B2-A268-D0F9BF31DB6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EA98-F5D2-47A9-B18E-6D8867D27FA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2E13D-54D5-4C47-9A99-7B91D17B12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91AC-8C4F-4C00-AB69-A0474B524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5B9DA-86DA-469C-90BE-3CD4E2DA0AC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593658-2DED-4408-8820-F1D588A1414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B857C-B34E-4FCC-875C-A646F41F2C7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F0F59C-7B94-4CF4-8A18-C0B5F98F872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73A2BA-12EC-4574-BFFA-7BD79636975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4DD911-BC3D-46F2-B03E-08AA6CA788E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E3FE8E-6A9D-4F3F-B378-CA8BD83BB14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10A27-11D6-47DA-94F3-CFD336C9EE5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640E1A-666B-48E9-938E-01CC57465F5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B4D2F-7A9C-47C9-8C78-79651C401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983-96C3-41E8-A147-68C5A1A8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D0525E-F06A-4D30-BA9C-0F96E926FC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D11FB4-2971-4F07-9B68-BAAF67C769C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2081D-2BC0-4E96-B15B-37D0076A1C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C1B-38E7-452E-9FDE-F213CF5B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5E0-967D-4B6E-A89A-1508AF4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CC7-C0B8-4A50-B4FC-A18E454E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C17-EAFC-484E-BE56-B332BC7D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383-5DA3-44D2-AC5D-31F5CB17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EA9-C933-4653-985A-B82D9F4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A30-D1C1-4CE0-B6E2-05D245B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2ED-A1F3-4A1A-9B0F-1D2FCE8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375-3798-41BB-BCA7-FA878890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CBD-5148-4D57-859A-D148CA38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4F1-5B26-4A51-8FB7-35B47415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1F53D-95FB-4D66-B5AE-3E35D8CD60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8CB53-5458-4B44-8206-B19BAD5B06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582C3-A484-474D-9126-D8FA935553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63B38-1A0C-456C-94AE-102B96A98E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387AD-9F8C-46F3-8D2C-08767A3173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207DF-550A-4BED-A660-6F849F5B41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5D3D6-E6C4-4ADE-9C5A-25082FA743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E77B0-5239-4460-950A-63D5A5AFC6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0E66A-1E6A-4D83-8BF8-E72B20E8FF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38EF9-0E93-4188-B16F-46E8802666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29BCB-DADD-4313-9546-FE5BA2A9FD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60C24-CD14-460C-A9A1-CA6B4097E5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CB58C-E758-4F41-B5D4-890DF835BF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A4F98-2C86-4009-AAD7-0E58573F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2313A-FF4C-4BE1-A63E-6F6D330A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CAE25-432C-4682-9FDD-CEAC5147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DDA16-A12B-451F-96FE-E1F071FA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EAB33-F204-45D5-84E6-59E34F01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1E4C6-08DB-468D-A643-ECF1FC83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93C44-727F-4860-8632-AEE1D68B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7394A-839D-42E9-BA59-B32A69E5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679EF-CA07-4940-A83A-47F6E9C5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1F53A-ED9D-407A-AA9A-F7218304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1EEF6-0B52-4E40-B30C-4F4B1F1BC4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2E91E-A917-4436-8522-CEB919816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97C437-EFE0-4645-8F29-AB98C964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6142F1-8099-4855-A8B6-798EFE85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DAC7A-811B-4FE4-9228-D263EB09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84009-09F8-41B0-8906-36EB7E45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AC8570-16E3-4D85-ADB7-01352832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2BA2E5-AE6A-4DE6-BE5A-6AB2A5BB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F14B0-1E15-4B44-A26F-8296A18C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9AF83-13AD-403E-B8E0-D321F76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A99C60-E593-493B-B7C6-64FF429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054CD-96AA-4AFF-8ECF-28C165C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BCE8E-18FF-48DF-A285-3C7D28A63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AEA0-84B2-4AE9-AADF-E5BFDACA21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E8C7-B5BD-41E1-AC8B-96CE311078A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5952-92BF-4089-B99B-E2C6FCF157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B9FC-020B-42F1-9B6A-997224B984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89B2-646B-4D0F-8066-71D930AA66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9846-92B8-4D9F-A819-E9D273D9A1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74EE-85FE-4D6C-B9E3-170716105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F99B9-F334-432C-8D7C-8E73E7B09D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AA84-7046-4292-98F5-0B630CDC70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8261D-0117-49C4-A83C-1AA59763D88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3BF2-CAAE-469A-8DA2-03331299FC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0ECD-F75B-4833-BBC4-1528441A062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28E1D-F1C0-4DC9-AB95-096AB7227C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1E59B-28F5-4BBE-B35B-AF7F1301091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C9DF0-16C7-4521-9B4D-2F2D10F682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7609A-9B76-4464-8858-517D23E749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E579C-FC64-46A2-B08B-FDF06FCEA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96825F-3196-4C60-88F9-3A4506ACE02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3413A-A4E2-4BB3-AD35-BC22CEB291F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56C06-3D62-4C6E-B628-5A63FC03265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7AD3D-652D-4C4E-95AD-DFADF33AA74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27F1E-AD22-490C-89FA-688AB15AAC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074A5-A9B1-4AC0-9799-D7DC2EF7293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C9DB5-E73C-418D-A68A-2F1AAC09E1D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5DFF3-0B56-4A94-8C7C-E0B17E0BF5E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9772E-E40D-442F-A9C2-94FB66F805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897E3-0CE2-4F2F-AD56-160BBC421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PPT_art_secondary_page.png"/>
          <p:cNvPicPr/>
          <p:nvPr/>
        </p:nvPicPr>
        <p:blipFill>
          <a:blip r:embed="rId2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353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Num" idx="12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D9A77-931E-48DD-99E3-F1F4C11952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PPT_art_secondary_page.png"/>
          <p:cNvPicPr/>
          <p:nvPr/>
        </p:nvPicPr>
        <p:blipFill>
          <a:blip r:embed="rId2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392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13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28904-F4BB-46AC-A0AD-FC19D710FE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8F665-30BD-4E2C-84DD-B6956ECCF03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6" descr="PPT_art_secondary_page_2.pn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PPT_art_secondary_page.png"/>
          <p:cNvPicPr/>
          <p:nvPr/>
        </p:nvPicPr>
        <p:blipFill>
          <a:blip r:embed="rId2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ldNum" idx="4"/>
          </p:nvPr>
        </p:nvSpPr>
        <p:spPr>
          <a:xfrm>
            <a:off x="6552720" y="6391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F3C7F-69CC-4C41-BAB8-2BA740E7280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Num" idx="5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651BF-4B5F-41F9-BB2F-F53FA8320DD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276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7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5CBD5-6129-4D4F-A548-3793CEDF5E8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8"/>
          </p:nvPr>
        </p:nvSpPr>
        <p:spPr>
          <a:xfrm>
            <a:off x="3276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PPT_art_secondary_page_2.pn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336600" y="0"/>
            <a:ext cx="2595600" cy="13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PPT_art_secondary_page_2.pn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9"/>
          </p:nvPr>
        </p:nvSpPr>
        <p:spPr>
          <a:xfrm>
            <a:off x="6552720" y="63860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66570-DB74-428D-889C-F1CAE0E0BA0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6" descr="PPT_art_secondary_page_2.png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0"/>
          </p:nvPr>
        </p:nvSpPr>
        <p:spPr>
          <a:xfrm>
            <a:off x="655272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2AA21-5FA9-42F0-A6AA-FD1F321CA59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PPT_art_secondary_page.png"/>
          <p:cNvPicPr/>
          <p:nvPr/>
        </p:nvPicPr>
        <p:blipFill>
          <a:blip r:embed="rId2"/>
          <a:stretch/>
        </p:blipFill>
        <p:spPr>
          <a:xfrm>
            <a:off x="0" y="184320"/>
            <a:ext cx="9144000" cy="6673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7"/>
          <p:cNvSpPr/>
          <p:nvPr/>
        </p:nvSpPr>
        <p:spPr>
          <a:xfrm>
            <a:off x="457200" y="1378080"/>
            <a:ext cx="8229600" cy="0"/>
          </a:xfrm>
          <a:prstGeom prst="line">
            <a:avLst/>
          </a:prstGeom>
          <a:ln w="1260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Num" idx="11"/>
          </p:nvPr>
        </p:nvSpPr>
        <p:spPr>
          <a:xfrm>
            <a:off x="6552720" y="63860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5D35D-0B18-459A-923C-2D54891414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6" descr="PPT_titlepage.png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4483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2840040"/>
            <a:ext cx="812484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ey Updat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ality Improvement Resources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lie A. Brown, RAND Corp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440" y="5167080"/>
            <a:ext cx="84582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HRQ 2012 Annual Confer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ethesda, M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a-DK" sz="1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ember 9, 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487692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Changed how we refer to focal provi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de minor improvements to item wor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oved chronic condition screening items to supplemental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dded mental health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Finaliz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hild 12-Month Surv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Adult Visit Surv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790B8-702F-4792-B5B4-C081669B1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2352600" y="280800"/>
            <a:ext cx="609624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&amp;G Survey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Updated to make consistent with CG-CAHPS Survey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NQF endorsed in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9720" y="358920"/>
            <a:ext cx="609588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urgical Care Survey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ADA1B-1B67-433E-A940-E1B4697BF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ommunicated to C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Plans to adopt for use in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NCQA adopted 5.0 core survey for use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Includes updated shared decision-making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Other changes to HEDIS items (CAHPS supplemental items) will be evaluated for the 2014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439720" y="394920"/>
            <a:ext cx="609588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Key Stakehol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066C8-A191-4C03-B14E-37D5F6CD3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CAHPS Surveys play an important role as a QI tool for organizations to use standardized data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Identify relative strengths and weaknesses in their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Determine where they need to impr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Track their progress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39720" y="309240"/>
            <a:ext cx="609588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Use of CAHPS Surveys for Q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7D6BA-9686-4710-8669-4C9581669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The CAHPS Improvement Gu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Reports and case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Supplemental i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Presentation slides and transcri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1C5A5-87F0-4531-9B67-330E4D296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57360" y="270000"/>
            <a:ext cx="606744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QI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omprehensive resource for health plans, medical groups, and other providers seeking to improve their performance in the domains of quality measured by CAHPS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Use of the Guide can help organiz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Cultivate an environment that encourages and sustains Q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Analyze the results of CAHPS Surveys to identify strengths and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Calibri"/>
                <a:ea typeface="ＭＳ Ｐゴシック"/>
              </a:rPr>
              <a:t>Develop strategies for improving 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39720" y="333000"/>
            <a:ext cx="60958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The CAHPS Improvement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DB865-27C4-483A-8574-DC4217F44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Why improve patient experie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re you ready to impro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nalysis of CAHPS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Quality improvemen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Improvement inter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9720" y="345960"/>
            <a:ext cx="6095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Guide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62D04-C610-4DCF-AC2D-2634E51F6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469880"/>
            <a:ext cx="82296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ase studies of quality improvement 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A Tale of Three Practices: How Medical Groups are Improving the Patient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In-Center Hemodialysis Quality Improvemen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Profiles of High-Performing Family- and Patient-Centered Academic Medical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Go Guide – Transform Care in Six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Patient-Centered Care: What Does It T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Providing Performance Feedback to Individual Physici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39720" y="382680"/>
            <a:ext cx="60958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Reports and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8AB6F-A275-4A79-8E04-131D7D11D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ny of the supplemental items for the CAHPS Health Plan and Clinician &amp; Group Surveys can help users to develop and monitor QI efforts in multiple areas of c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Access and After Hours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ommunication “drill down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re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39720" y="358920"/>
            <a:ext cx="609588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upplemental Items for Q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D6F22-8167-4D8A-AE95-644AD8684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User Group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Web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Podca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QI podcast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39720" y="147240"/>
            <a:ext cx="609588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Presentation Slides and Transcri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95ABE-330F-4204-A841-89BA17477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27764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mbulatory Care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Clinician &amp; Group (C&amp;G)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Health Plan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Surgical Care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ECHO®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Dental Plan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American Indian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Home Health Care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Facility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Hospital Survey (HCAHP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In-Center Hemodialysis Surv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AHPS Nursing Home Survey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D5FAB-A756-47ED-A7B3-22613E6D2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57360" y="270000"/>
            <a:ext cx="606744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The CAHPS Family of Surv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46120"/>
            <a:ext cx="82296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ase for Improving Patient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reating an Improvement 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The Role of Leadership in QI Eff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Teamwork in Q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Human Resources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Qualitative Methods for Patient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Identifying Areas to Impr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Improving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Factors Affecting Care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reating an Effective Customer Service Training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Tackling Low Lite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9720" y="371160"/>
            <a:ext cx="609588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QI Podcast S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78A8A-042E-471E-BDD0-5775D23AC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6840" y="1600200"/>
            <a:ext cx="807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Although the CAHPS Web site is temporarily changing, AHRQ’s support for CAHPS has not chang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AHRQ will continue to offer technical assistance regarding the use of CAHPS products via telephone and e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Call: (301) 427-1017 </a:t>
            </a:r>
            <a:br>
              <a:rPr sz="2400"/>
            </a:b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105fa2"/>
                </a:solidFill>
                <a:latin typeface="Calibri"/>
                <a:ea typeface="ＭＳ Ｐゴシック"/>
              </a:rPr>
              <a:t> E-mail: cahps1@ahrq.hhs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9720" y="139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AHPS User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B5CB9-2EF3-4994-8578-58A90CDC2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" descr="AA009679.png"/>
          <p:cNvPicPr/>
          <p:nvPr/>
        </p:nvPicPr>
        <p:blipFill>
          <a:blip r:embed="rId1"/>
          <a:stretch/>
        </p:blipFill>
        <p:spPr>
          <a:xfrm>
            <a:off x="1428840" y="3276720"/>
            <a:ext cx="468360" cy="30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LS012477.png"/>
          <p:cNvPicPr/>
          <p:nvPr/>
        </p:nvPicPr>
        <p:blipFill>
          <a:blip r:embed="rId2"/>
          <a:stretch/>
        </p:blipFill>
        <p:spPr>
          <a:xfrm>
            <a:off x="1897200" y="3638520"/>
            <a:ext cx="4363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Update existing surveys to reflect 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best survey science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Began with core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Health Plan version 5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linician &amp; Group version 2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Surgical Care version 2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Working with stakeholders  (e.g. CMS, NCQ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Working on supplemental i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G-CAHPS Adult supplemental item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39720" y="382680"/>
            <a:ext cx="60958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urvey Review and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27EEE-04D0-4432-BF37-670E1C8E9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Simplified Access i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de access to specialist item consis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Improved item on access to care, test,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de chronic condition identifying items consis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dded self-reported mental and emotional health i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39720" y="320760"/>
            <a:ext cx="609588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Health Plan Survey 5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27121-D6CA-4CED-9E8D-1AA72A872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ccess to urgent and non-urgent care asked about getting care 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you thought you needed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Removed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you thought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Made consistent across CAHPS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Non-urgent care items was defined as 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not counting the times you needed care right away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Updated to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a check up or routine care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Made consistent across CAHPS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39720" y="333000"/>
            <a:ext cx="60958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implified Access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F9D5E-07C8-4F16-8BD1-BA2C6573D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600200"/>
            <a:ext cx="83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Specialist item asked 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how often was it easy to get appointments with specialists</a:t>
            </a:r>
            <a:r>
              <a:rPr b="0" lang="ja-JP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Revised to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how often did you get an appointment to see a specialist as soon as you needed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Made consistent across CAHPS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39720" y="345960"/>
            <a:ext cx="6095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onsistent Specialist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4"/>
          <p:cNvSpPr/>
          <p:nvPr/>
        </p:nvSpPr>
        <p:spPr>
          <a:xfrm>
            <a:off x="6553080" y="6388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6FF1B-5BC5-4E7B-ABAD-A43619288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28268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sked about ease of getting care, tests, and treatment you thought you needed through your health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Dropped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you thought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onsistency across surv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Dropped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through your health plan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Moved from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Your Health Plan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 section to 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Your Health Care in the Last 12 Months</a:t>
            </a:r>
            <a:r>
              <a:rPr b="0" lang="ja-JP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larifies who is providing care, tests, or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Screener item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3f136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Consistent across surv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9720" y="284040"/>
            <a:ext cx="64818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are, Tests, and Treatment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CA490-0A42-4ED5-B72E-ED1216BC9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Chronic condition identifying items standardized across CAHPS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Initial screening item asked whether you saw a doctor or other health provider 3 or more times for the same problem or cond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f136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f136f"/>
                </a:solidFill>
                <a:latin typeface="Arial"/>
                <a:ea typeface="ＭＳ Ｐゴシック"/>
              </a:rPr>
              <a:t>Simplified to got health care 3 or more times for the same problem or 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No changes to other items in the chronic condition ident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439720" y="345960"/>
            <a:ext cx="60958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Chronic Condition Identif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2A5D7-D82A-4DE6-8E39-829B4514A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Respondent rating of overall mental or emotional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Added after the overall health status 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Powerful case-mix adju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05fa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05fa2"/>
                </a:solidFill>
                <a:latin typeface="Arial"/>
                <a:ea typeface="ＭＳ Ｐゴシック"/>
              </a:rPr>
              <a:t>Made consistent across surv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39720" y="198360"/>
            <a:ext cx="609588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f116f"/>
                </a:solidFill>
                <a:latin typeface="Arial"/>
                <a:ea typeface="ＭＳ Ｐゴシック"/>
              </a:rPr>
              <a:t>Self-reported Mental or Emotional Health I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3864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BE186-483F-4594-80CC-EF7025E54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9:35:35Z</dcterms:created>
  <dc:creator>Jennifer Butler</dc:creator>
  <dc:description/>
  <dc:language>en-US</dc:language>
  <cp:lastModifiedBy>DHHS</cp:lastModifiedBy>
  <cp:lastPrinted>2011-11-09T14:39:35Z</cp:lastPrinted>
  <dcterms:modified xsi:type="dcterms:W3CDTF">2012-10-23T17:39:45Z</dcterms:modified>
  <cp:revision>5</cp:revision>
  <dc:subject/>
  <dc:title>PowerPoint Presentation</dc:title>
</cp:coreProperties>
</file>