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AD82C-0C45-4F56-8B8D-72D9DE119621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EC733-F0F3-49F1-B56D-7662A46FCB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0903C-C1BE-44F7-96D4-293A4ECBCC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9E8C4-D552-4039-A8EE-8AC6F71A8A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D16F4-29FF-4FB7-9681-EE0BBFCC48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B8DFA-735B-4AC3-8B7A-7773AC3F8A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1D0DA-0D00-4304-98EC-394017E2F3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8798F-803F-4C5B-94A0-27A6B01B11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0D462-8201-416D-80C9-AAB969A548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30B05-7414-4FE0-955D-7DDB1FC5DD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63B6E-C7CA-449C-9258-6B55A44A2D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CE870-7228-41F6-900B-1B6720D129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0C71D-ABF4-4411-8765-4E240536FC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5210F-16C2-4EBF-A2D8-BD7EC2E140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6B9FA-5FE3-4417-BF1B-D4CE71AC1D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EF13C-F78C-4ACE-A40B-1009A117B4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5BB0C-2A9F-42A7-935F-52FC4735DC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DBB94-5D36-4694-88DB-2AD5E9AE82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5B5A9-439C-421F-B464-501A893B16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3C994-55AB-4CB9-BD66-DD95CE7A9D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52F0A-3518-4564-A114-0E0FF2A732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E5000-4AD5-4FDC-BB37-0F521CF352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B1B44-01A3-4EAC-8A5E-761AFC3D2D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C4CE8-7957-4030-9C84-DA9DAAF9CA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8FA1D-C611-44CA-8745-D1A3239742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59278-4FA3-403B-9ACE-1745FAFE40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C18C6-E075-4193-81B6-1A49B0FBE9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C5B41-5F02-4B28-8A44-6D29532CF2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29426-59C8-4420-AF20-AB5084DAB4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6AEF-0596-484A-9CDB-F737808A6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BB51-162E-44E2-9026-C23AC62CBA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1CC0-5A72-4C25-BA4A-25FFE7FA7BE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E910-18A9-47E7-80D5-E50BCFB8FF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F00C-367B-4B13-BD03-A38ADF02B6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ADF4-D62D-4AAF-B84C-FBEFE5CC80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6362-7CE3-4256-90FB-BA5F449FB0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D13F-3849-4210-BA8E-2955C21FFB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5DE1-ECBC-4E86-A6C7-39D82CC478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9F24D-6AD5-44B1-9C4A-58FD4FEF733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E215-B599-4CB2-8BFC-84041C59B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A735-8B4A-4904-A794-0807DA48095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D4739-0DB7-41E8-B34B-BA9AF833A0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4F9CE-854B-46B1-B356-D00B84440DF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F4130-DFCC-476B-8705-9C8294C72F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27139-A969-402D-B945-FC0D9669E8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D1706-E6D3-41D5-B9ED-8ECF327EC0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CBF86-5DBB-410E-88B6-5C08073B7A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05476-AF29-4FF0-84A1-095060A689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715E14-5A6F-4FB6-BBF3-CCFF9BFC6E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39E3F-28E0-40D6-BDCC-AA59A9993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875-E10D-40A5-BC7B-0C0A16E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9E4E7-240D-4070-AE69-E942BC761D0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1EF8F-D6F2-4DAB-9215-F0CF4D5805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A9E9D-D34F-4268-8782-2239BE5C5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5F2-194B-4D02-AE74-2C4D63EB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C31-91E6-4F0C-B745-58EC1FF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3F7-5080-4BA1-BF70-AB884D9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65D-441C-40C4-8AEF-16DD95F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353-8459-4BB5-A52F-1FA49C7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FE0-C079-4475-984E-B661CCA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227-AAB9-4F0F-B87A-FBD8B93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E6A-40CA-4E4C-B377-0918524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9C9-6224-4144-8783-EE5A9899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513-A936-41C0-9152-1E1FE48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717-DC15-4C5B-97FA-9FDE2BCC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E2CF-09B0-425E-A84E-03732DD1FB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97D1-A7E8-41FE-9DF3-558F4CD999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F093-BD47-4284-9371-DDB2AD53EE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2D41F-2CD4-4058-B110-E4F55DE3D5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8D96B-8577-4798-A678-A50E9DCBF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D1C2-4C76-4F87-801C-5A86542D8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AFA2A-3281-4D9F-8AD6-8D3C81321F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5D041-2AAC-4131-95C1-FD4483152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556A9-242B-4081-937A-2AF4B3ED64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7100C-F7D6-44BA-87D9-9E337D45FB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C8B8A-CEFD-463B-90FB-01DC67B746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9A268-5C79-45DA-85DD-F135EA91C2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E3A9-3595-4953-9333-169373A50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0DDB-0C72-4A53-8053-D1F926F2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6CBD-E748-492B-B467-46CC454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C6662-41C3-42BE-B8CA-794EFE4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BB4A1-4DE5-439B-BFFA-EFCB2FFA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938B5-46B0-40FA-B8B0-E5A2ABA8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6137D-C782-4526-8BAC-3382B51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0E15-4792-45F9-A728-222CC65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1B92-50DE-466A-9D19-8171080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6CCB0-3696-42B7-98BB-2AC70C6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63B28-6791-4A37-A018-39F721C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0D2B-8DF6-445F-94BB-88A4BA048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92C94-6662-4E8A-9A34-C907A390D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92C8D-89CD-4737-A6E4-210B20DE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E336E-1227-4A69-BC23-1A335DD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1E253-0DFE-4004-BD20-9EFDEAD9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A7620-D1EE-4B80-9E98-664169E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5E561-55F3-45E8-ACBE-B1D5342F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A2798-228D-4425-811B-994F459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AAE43-A74C-4254-A768-3F21908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40FCA-6A53-4456-88E8-47794B24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CB3DA-ACD4-4D82-A53A-F51637D5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7D047-D32C-4FEE-8F01-E037881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F73E6-2D18-407B-A84F-C4CAF9E1D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5C2F-75A0-477D-A8CC-50787DF7A0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4805-8D95-4834-A455-2D5C56EBDD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7A36-93B1-4E52-BC38-EE6A2A63E4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983F-0FFB-499B-AA65-0394B98165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591B-8696-46EF-9C77-3A44A359AE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9BFB-8FE7-42E6-B17E-8A5165DB6F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9760-FEB2-43BE-8575-4E7EF6853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8B92-5F64-44B5-AB26-2EAACC28CDC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38F7-2433-4B69-9799-F5632C3C989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84B1-511A-45D7-A966-BDA2E90305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8681-4A72-4DEB-B35A-B9F5E0B1E4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2FEC-3F50-4795-9384-898F61CFBB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81F37-8CD8-46BA-B1DB-1F468A282E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037D2-ACD0-49C4-B0E1-F4B4976AA5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D6B46-10BF-4FEB-88DB-63F5632566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D2F93-4135-49C8-B595-63DA273D15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60A7B-C7B4-4FA1-850F-9C75D451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A126F-8291-4330-B6A5-8E2184ABC0C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DE4C7-0BF7-449A-B969-09D3E0A58E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ADEA9-E84B-44C1-8145-B46CAD50EE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9E3B2-0B5B-423A-B88F-860B51C680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62A85-93F2-4D35-ADF5-9DE161A301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39320-B15E-4630-83E5-1771E470E4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A34FA-8BB2-4670-9969-50E8FC86CF2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3C6FF-E3DF-4E88-B58B-A222EC32F3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3B223-6712-4342-9177-C9C5B4E05E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27CEC-EC4A-4C2F-A2C2-AA4DF8CF2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Num" idx="12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0E812-C6F6-442C-8BE8-9AC6D738EF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9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13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24A2-4A4C-4416-913A-D15068D048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1593D-7036-43E0-A316-68C603F461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ldNum" idx="4"/>
          </p:nvPr>
        </p:nvSpPr>
        <p:spPr>
          <a:xfrm>
            <a:off x="655272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5327E-AF9F-4C5B-A104-26D135B8F63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Num" idx="5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A4F81-66E4-4CEA-8AEF-179D89A809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7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170B9-C1AA-4247-AED7-06AAC2D409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8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336600" y="0"/>
            <a:ext cx="259560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9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F8FFA-DF5D-412D-A640-E254A35F3B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0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1AB68-7262-48B8-85A5-ADAE8E0B11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Num" idx="11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161CC-7DD2-4102-AD83-02CE508987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PPT_titlepage.png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2840040"/>
            <a:ext cx="812484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ey Updat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lity Improvement Resources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lie A. Brown, RAND Corp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440" y="516708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RQ 2012 Annual Confer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thesda, M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ember 9,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487692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hanged how we refer to focal provi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minor improvements to item wor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oved chronic condition screening items to supplemental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mental health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Finaliz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hild 12-Month Surv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dult Visit Surv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DECF1-5C25-4C66-8F7D-032EBB120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2352600" y="280800"/>
            <a:ext cx="609624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&amp;G Survey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pdated to make consistent with CG-CAHPS Survey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QF endorsed in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9720" y="358920"/>
            <a:ext cx="609588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rgical Care Survey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1C6A9-02DB-443E-8CD6-F38600D81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ommunicated to C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Plans to adopt for use in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NCQA adopted 5.0 core survey for use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Includes updated shared decision-making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Other changes to HEDIS items (CAHPS supplemental items) will be evaluated for the 2014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39720" y="394920"/>
            <a:ext cx="609588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Key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839A6-249B-431A-9FA9-CE8710830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AHPS Surveys play an important role as a QI tool for organizations to use standardized data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Identify relative strengths and weaknesses in their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etermine where they need to im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Track their progres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39720" y="309240"/>
            <a:ext cx="609588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Use of CAHPS Surveys for Q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D4BD8-B321-49E5-A003-7C782F817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The CAHPS Improvement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Reports and case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upplemental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resentation slides and transcri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076E3-FAB7-41AF-AC76-74E4F68F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57360" y="270000"/>
            <a:ext cx="606744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QI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omprehensive resource for health plans, medical groups, and other providers seeking to improve their performance in the domains of quality measured by CAHP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Use of the Guide can help organiz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Cultivate an environment that encourages and sustains Q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Analyze the results of CAHPS Surveys to identify strengths and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Develop strategies for improving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9720" y="333000"/>
            <a:ext cx="60958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The CAHPS Improvement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1119D-233A-44F5-893B-A82195A30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hy improve patient experi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re you ready to impro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nalysis of CAHPS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Quality improvemen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mprovement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Guide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5DD7D-1104-4ED7-87EC-DC2133ADD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69880"/>
            <a:ext cx="82296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se studies of quality improvement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 Tale of Three Practices: How Medical Groups are Improving the Patient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n-Center Hemodialysis Quality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rofiles of High-Performing Family- and Patient-Centered Academic Medical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Go Guide – Transform Care in Six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atient-Centered Care: What Does It T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roviding Performance Feedback to Individual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9720" y="382680"/>
            <a:ext cx="60958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Reports and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D8405-DC9A-4B7E-B53A-BD9C3F3E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ny of the supplemental items for the CAHPS Health Plan and Clinician &amp; Group Surveys can help users to develop and monitor QI efforts in multiple areas of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ccess and After Hours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mmunication “drill down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re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39720" y="358920"/>
            <a:ext cx="609588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pplemental Items for Q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B14B6-AB63-4FDD-94C3-88F9512E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ser Grou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eb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od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QI podcast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39720" y="147240"/>
            <a:ext cx="609588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Presentation Slides and Transcri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C20C4-BFFE-434E-B82D-E9BCAA39A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27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mbulatory Car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Clinician &amp; Group (C&amp;G)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ealth Pl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Surgical Care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ECHO®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Dental Pl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American Indi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ome Health Care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Facility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ospital Survey (HCAHP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In-Center Hemodialysis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Nursing Home Survey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91014-8348-4917-B67C-24A96595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7360" y="270000"/>
            <a:ext cx="606744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The CAHPS Family of Surv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46120"/>
            <a:ext cx="82296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se for Improving Patient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reating an Improvement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he Role of Leadership in QI Eff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eamwork in Q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Human Resources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Qualitative Methods for Patient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dentifying Areas to Im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mproving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Factors Affecting Care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reating an Effective Customer Service Training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ackling Low Lite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9720" y="371160"/>
            <a:ext cx="60958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QI Podcast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3D5CD-EE54-41DC-873B-D4A40E42A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1600200"/>
            <a:ext cx="807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lthough the CAHPS Web site is temporarily changing, AHRQ’s support for CAHPS has not chan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HRQ will continue to offer technical assistance regarding the use of CAHPS products via telephone and e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ll: (301) 427-1017 </a:t>
            </a:r>
            <a:br>
              <a:rPr sz="2400"/>
            </a:b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 E-mail: cahps1@ahrq.hhs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AHPS User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B34DE-6A95-43B3-9CDF-342600A72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AA009679.png"/>
          <p:cNvPicPr/>
          <p:nvPr/>
        </p:nvPicPr>
        <p:blipFill>
          <a:blip r:embed="rId1"/>
          <a:stretch/>
        </p:blipFill>
        <p:spPr>
          <a:xfrm>
            <a:off x="1428840" y="3276720"/>
            <a:ext cx="468360" cy="30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LS012477.png"/>
          <p:cNvPicPr/>
          <p:nvPr/>
        </p:nvPicPr>
        <p:blipFill>
          <a:blip r:embed="rId2"/>
          <a:stretch/>
        </p:blipFill>
        <p:spPr>
          <a:xfrm>
            <a:off x="1897200" y="3638520"/>
            <a:ext cx="4363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pdate existing surveys to reflect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best survey science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Began with core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Health Plan version 5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linician &amp; Group version 2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urgical Care version 2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Working with stakeholders  (e.g. CMS, NCQ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orking on supplemental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G-CAHPS Adult supplemental item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9720" y="382680"/>
            <a:ext cx="60958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rvey Review and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3B940-8BC3-484F-831C-6D9413E2C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implified Access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access to specialist item 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mproved item on access to care, test,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chronic condition identifying items 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self-reported mental and emotional health i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39720" y="320760"/>
            <a:ext cx="609588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Health Plan Survey 5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FD081-1278-4C51-9F58-89FC5078C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ccess to urgent and non-urgent care asked about getting care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you thought you needed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Remov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 thought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n-urgent care items was defined as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t counting the times you needed care right away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Updated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 check up or routine care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9720" y="333000"/>
            <a:ext cx="60958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implified Acces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C8566-0120-42FC-8414-F245731C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600200"/>
            <a:ext cx="83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pecialist item asked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how often was it easy to get appointments with specialists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Revised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how often did you get an appointment to see a specialist as soon as you needed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onsistent Specialis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2DB6C-5015-4870-89C1-0372EB89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282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sked about ease of getting care, tests, and treatment you thought you needed through your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ropp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 thought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nsistency across surv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ropp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through your health plan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oved from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r Health Plan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 section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r Health Care in the Last 12 Months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larifies who is providing care, tests, or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creener item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nsistent across surv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9720" y="284040"/>
            <a:ext cx="6481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are, Tests, and Treatment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9E245-637F-475F-AC23-713F1515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hronic condition identifying items standardized across CAHP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nitial screening item asked whether you saw a doctor or other health provider 3 or more times for the same problem or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implified to got health care 3 or more times for the same problem or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 changes to other items in the chronic condition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hronic Condition Ident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C829B-DBFE-4267-8202-316F1A6C5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Respondent rating of overall mental or emotion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after the overall health status 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owerful case-mix adju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consistent acros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9720" y="198360"/>
            <a:ext cx="609588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elf-reported Mental or Emotional Health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40224-097D-4679-BCC0-8956D107F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9:35:35Z</dcterms:created>
  <dc:creator>Jennifer Butler</dc:creator>
  <dc:description/>
  <dc:language>en-US</dc:language>
  <cp:lastModifiedBy>DHHS</cp:lastModifiedBy>
  <cp:lastPrinted>2011-11-09T14:39:35Z</cp:lastPrinted>
  <dcterms:modified xsi:type="dcterms:W3CDTF">2012-10-23T17:39:45Z</dcterms:modified>
  <cp:revision>5</cp:revision>
  <dc:subject/>
  <dc:title>PowerPoint Presentation</dc:title>
</cp:coreProperties>
</file>