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288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Object 63"/>
          <p:cNvGraphicFramePr/>
          <p:nvPr/>
        </p:nvGraphicFramePr>
        <p:xfrm>
          <a:off x="9105840" y="5791320"/>
          <a:ext cx="107172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5840" y="5791320"/>
                    <a:ext cx="1071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" name="Group 103"/>
          <p:cNvGrpSpPr/>
          <p:nvPr/>
        </p:nvGrpSpPr>
        <p:grpSpPr>
          <a:xfrm>
            <a:off x="14400" y="19080"/>
            <a:ext cx="1409760" cy="1295280"/>
            <a:chOff x="14400" y="19080"/>
            <a:chExt cx="1409760" cy="1295280"/>
          </a:xfrm>
        </p:grpSpPr>
        <p:sp>
          <p:nvSpPr>
            <p:cNvPr id="5" name="Rectangle 79"/>
            <p:cNvSpPr/>
            <p:nvPr/>
          </p:nvSpPr>
          <p:spPr>
            <a:xfrm>
              <a:off x="14400" y="19080"/>
              <a:ext cx="1409760" cy="1295280"/>
            </a:xfrm>
            <a:prstGeom prst="rect">
              <a:avLst/>
            </a:prstGeom>
            <a:gradFill rotWithShape="0">
              <a:gsLst>
                <a:gs pos="0">
                  <a:srgbClr val="0044a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Text Box 91"/>
            <p:cNvSpPr/>
            <p:nvPr/>
          </p:nvSpPr>
          <p:spPr>
            <a:xfrm>
              <a:off x="103320" y="704880"/>
              <a:ext cx="12110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Line 92"/>
            <p:cNvSpPr/>
            <p:nvPr/>
          </p:nvSpPr>
          <p:spPr>
            <a:xfrm>
              <a:off x="162000" y="704880"/>
              <a:ext cx="1104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" name="Group 93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9" name="Line 94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Line 95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" name="Object 96"/>
          <p:cNvGraphicFramePr/>
          <p:nvPr/>
        </p:nvGraphicFramePr>
        <p:xfrm>
          <a:off x="57240" y="76320"/>
          <a:ext cx="133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Object 9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240" y="76320"/>
                    <a:ext cx="13334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07"/>
          <p:cNvGrpSpPr/>
          <p:nvPr/>
        </p:nvGrpSpPr>
        <p:grpSpPr>
          <a:xfrm>
            <a:off x="1028880" y="152280"/>
            <a:ext cx="8229600" cy="2360880"/>
            <a:chOff x="1028880" y="152280"/>
            <a:chExt cx="8229600" cy="2360880"/>
          </a:xfrm>
        </p:grpSpPr>
        <p:sp>
          <p:nvSpPr>
            <p:cNvPr id="50" name="Rectangle 85"/>
            <p:cNvSpPr/>
            <p:nvPr/>
          </p:nvSpPr>
          <p:spPr>
            <a:xfrm>
              <a:off x="1028880" y="228600"/>
              <a:ext cx="8229600" cy="2133720"/>
            </a:xfrm>
            <a:prstGeom prst="rect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1" name="Object 97"/>
            <p:cNvGraphicFramePr/>
            <p:nvPr/>
          </p:nvGraphicFramePr>
          <p:xfrm>
            <a:off x="1181160" y="152280"/>
            <a:ext cx="2405160" cy="236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Object 9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81160" y="152280"/>
                      <a:ext cx="240516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Text Box 98"/>
            <p:cNvSpPr/>
            <p:nvPr/>
          </p:nvSpPr>
          <p:spPr>
            <a:xfrm>
              <a:off x="3549600" y="15145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99"/>
            <p:cNvSpPr/>
            <p:nvPr/>
          </p:nvSpPr>
          <p:spPr>
            <a:xfrm>
              <a:off x="3543480" y="228600"/>
              <a:ext cx="0" cy="213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100"/>
            <p:cNvSpPr/>
            <p:nvPr/>
          </p:nvSpPr>
          <p:spPr>
            <a:xfrm>
              <a:off x="3548160" y="1871640"/>
              <a:ext cx="571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Group 101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57" name="Line 102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103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9" name="Object 106"/>
          <p:cNvGraphicFramePr/>
          <p:nvPr/>
        </p:nvGraphicFramePr>
        <p:xfrm>
          <a:off x="3467160" y="142920"/>
          <a:ext cx="333360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10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67160" y="142920"/>
                    <a:ext cx="3333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hrq.hhs.gov/" TargetMode="External"/><Relationship Id="rId2" Type="http://schemas.openxmlformats.org/officeDocument/2006/relationships/hyperlink" Target="http://www.pcmh.ahrq.gov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cmh.ahrq.gov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38000" y="151920"/>
            <a:ext cx="80391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’s Practice Facilitation Resour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4723920"/>
            <a:ext cx="89917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ahrq.hhs.go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pcmh.ahrq.go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647640" y="1981080"/>
            <a:ext cx="9220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ing and Running a Primary Care Practice Facilitation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grating Chronic Care and Business Strategies in the Safety Net: A Practice Coaching Manu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8000" y="151920"/>
            <a:ext cx="80391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’s Practice Facilitation Resour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93344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ding and Evaluating Primary Care Facilitation Program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iday, September 28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12:30-2:00 pm ED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peak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yndee Knox, LA 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uce Baskerville, Center for Population Health Impact, University of Waterlo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hael Parchman, MacColl Center for Health Care Innov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mes Mold, Oklahoma Physicians Resource/Research Network (OKPR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ore information and a registration link are available on the PCPF Updates page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ww.pcmh.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38000" y="151920"/>
            <a:ext cx="80391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’s Practice Facilitation Resour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3600" y="51811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83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pcmh.ahrq.gov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47640" y="182880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Left Arrow 4"/>
          <p:cNvSpPr/>
          <p:nvPr/>
        </p:nvSpPr>
        <p:spPr>
          <a:xfrm>
            <a:off x="1409760" y="3581280"/>
            <a:ext cx="457200" cy="15264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448240" y="1828800"/>
            <a:ext cx="419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mary Care Practice Facilitation email listser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electronic newslet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ides and audio recordings from past PF webin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tation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Janice Genevro</cp:lastModifiedBy>
  <cp:lastPrinted>2003-01-21T20:19:23Z</cp:lastPrinted>
  <dcterms:modified xsi:type="dcterms:W3CDTF">2012-09-06T20:54:00Z</dcterms:modified>
  <cp:revision>126</cp:revision>
  <dc:subject/>
  <dc:title>AHRQ Slide Template 2004</dc:title>
</cp:coreProperties>
</file>