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34CA-6B0D-4FFB-936E-622A039B8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B428-BBF7-421A-97C3-C38D621CC6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6DC5B8-D873-404B-B5BF-20DD03F017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A4247C-1133-4C8C-AD92-8CA15E47AD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3BFE0-9382-422D-B5F2-892BF68526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57DBF-FE1C-4216-857A-DDBFE73D099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6507A-5B25-43C7-86EE-1DFF71A9C3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968837-D0E9-4FF9-8453-8F474DA074F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593DE6-C077-4D9C-A6AA-9B40817BE4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47C9B1-F17E-4CA7-A08A-7A5B227171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D86BA7-2B0A-4304-BFF5-2D35F1FAA88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5F96A-BE38-4B5D-9ACB-21E097C86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D122-5DCA-4240-82ED-64AE8A7238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EC965-7982-4748-94AD-06DD3BC077D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E538-0392-4DAA-98B9-CF2496CDD41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27758-393F-4586-8EF1-705B3D8569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B731-D8ED-4139-B59A-930343E66B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474B-BDDE-4A52-BAD8-C2A2EA46D9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6F5D-7BAC-490A-8021-6A1C140308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FA0F5-F70E-4A45-8ABF-05CA142A11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AEFF2-E055-447C-89B3-34CC85B97A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80C5-C3D5-4EE3-9543-FE5C601B282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D2F47-79AA-4A45-89AC-319F9C057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3060-8138-425A-A0D4-11E955D7C5A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57559-7CF0-420D-8AD9-08EC91A2D6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0C2496-7186-4C39-AA46-6D343B8DB8E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CD4445-F1F3-4516-AF85-FEA4D5C4CDD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2682BE-91EB-45B1-B884-5D8D4D3CC02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296A6D-C006-4865-920F-0A0BE2F6CA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3828B8-B0F8-4896-B865-83B378AD41A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640F2-E9B9-486C-82A1-3438386B66E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257FAB-4B76-4B1D-A080-E82C3DE01DB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A2BCF9-AB19-467E-82AE-CC8CE94CB9B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57DB12-4B05-49D9-B934-D69D24393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A4AB7-8B23-4587-959B-2F1DC163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E4B22-E80C-4247-9F99-22E6D7350E7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16420-6549-4887-AB6D-D9764AE5AFF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33CC40-F24B-4341-8239-70040FFB71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7F0A3-839D-4995-9BD8-842D93CDE7F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552C9-9829-4914-BB86-CAA20489F5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BC1FC-D4FD-4E2D-B8D3-80F0FD1DDC8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BA8E5-288E-4380-9E85-B2E932F5F36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D688C-9FE0-4751-B83C-83ED5FCB7FD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4F15A-434E-4230-9B14-7907D7EF846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BB0EE-492E-45B3-9053-026F38871E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0F84F-891B-4626-AFB0-C01AA63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0037A-D556-4E45-AA82-5053011F5A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B7F77-5E2B-4373-8F93-6D8875DC66A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9724B-3961-4FDC-968D-E4034F3939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623DF-8EE7-4CA7-A135-997DF4974BA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182DF-1EE8-4004-A780-5958C49CE4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D2716-F0DC-4244-A46B-A9462A21F7F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1BD28-4737-4ADE-A1CD-A16542DA7A4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AE200-C112-46F1-BA30-67B2B2D0561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7D5AD-1C41-4B75-8E0A-47C187AA726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944F6-58DB-4458-80CC-06AFD78526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8D6D8-D483-4DBD-859F-D1D2C779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77F04-27EB-4F3F-8B3B-8F1A7AA9595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1E3DB-E256-4AD7-9323-03A935E9EC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4A18C-DF87-43F5-9954-96BD533F5C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A1D8C-9B4B-4386-8B0A-F509950B1F7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5FBDE-B248-4491-9717-C683DB3554D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327E7-1EDC-4B7D-8BA4-3B1C48D486B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8B989-9F8F-4837-A203-721DB556F7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943C1-BF1B-46A7-8A99-E048DAF5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53FCD-A431-4CFC-AD3C-302DACCB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1AFC2-6D03-4302-BFAC-BED31A3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1629F-E582-437D-A3A4-5AF28B7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B210-5B90-4E76-96E4-8BF147005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8E59D-1416-4DA8-AB0E-7703B3D2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8252F-D804-4DF7-B9D1-DFD6A0E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96C58-B8C2-4548-840A-8C70ADE7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D6D77-4D07-4C1B-9089-CD5991FF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35AE4-E8A4-4816-9927-8AEB7D00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076D7-AA87-4DDF-ABA3-985FA8E358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94682-D189-4D64-A060-F4960A74B4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0FD80-2A7D-4086-9DC2-1CC55C5D0D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BF48E-9E2E-4E0E-883C-80EAC5FBC5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4E9BA-CBA2-47D9-9D05-39EC50840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F5D1-5E29-457A-ABF0-748F4539E4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2A301-4D03-4FE6-A0B7-BE0D6918AE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5BFDD-C0B2-4C26-8AFA-AF47C0CE8C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F3464-4884-4F3C-A1AD-8EFFC73AC1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2D85B-3B30-4405-BFCA-FCF97D8993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823C0-CE50-4668-BE1C-520FD1B478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BD9D4-2775-45AB-A61E-68A866D727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D0FC1-AC31-4567-93E6-F64E5B0EB5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8EFA-09C1-4A56-AF7B-A8152D09F0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87C5-92EA-4A7F-8EA9-4A9845648A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50EE-48EC-4387-8404-50A143B59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EE15-DC66-497A-AA5B-7CCABFD259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48D5-2F0F-442D-A619-B3AC3E88F4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9FCD-6E12-4839-A213-E8109189DB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0C47-6FEF-4B3A-AB65-8CB12BD696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5497-E547-4EF8-86FD-5A4D621126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09C0-05DF-44B1-9305-66DAA01D3B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F6A0-FD38-44E5-961D-4E36BA1695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5E13-48D5-469A-B506-CF0D8E981B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E235-3824-48AF-BF42-31CCBF856A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8303-489E-48E8-BBC8-ADEB950D33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0DE32-2DC6-411C-8F86-DE267B53C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7F9E-C3DA-4816-A133-35FE2A859C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B478E-DBDE-4A7A-A947-2D8E9A44A1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CADB8-6525-4BBF-B356-61E1E8A085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2A22E-F066-404D-A0DA-537313DB77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A48FA-8C72-47C5-AD28-6EF22B8283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B86A1-8E7F-4D01-85AB-7D8E7EABE89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35D64-4E47-4064-9F39-3D36841B3D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3BCBA-A82B-4A8F-AE42-DE7613FCBB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EA62E-9B40-44F1-B560-2819914375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4F649-9137-4530-9AB5-5BCFEF9BD2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10BD0-FFAC-41D8-818D-C5D003864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EE57-AF61-420B-8627-ADA73ADD8F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6A985-0AEE-49B5-B5A8-9C6A1AF6C5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340E52-5A3B-4377-8200-C44A071B29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634CF2-9E11-4DEE-A2E9-5B83BDCB99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397DC3-6D49-4E63-A20C-103BFF2786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6CC80D-713A-466B-882F-7CCC5C4B3AA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53465-B07D-41F8-8DF1-CFABEFDD1D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C83F97-AE1B-476B-BF2C-246065DEC5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CD6A46-55DF-4320-8C11-7C296B5B87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856E9-23B2-43F0-8C9E-8B5A82B080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6CDF4F-C60F-4C8D-B14C-3032852CE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C446-C887-49B8-80A6-6FA0D43F9C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E6530C-D097-4CF5-8B72-55103C3227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483B21-C052-4BFA-822B-5F9111EAD8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5A7F28-C1F2-4EF4-94AC-DE4C63267F3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A432-8EC8-42D4-8603-3B30569349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74F1-B840-40EF-B31A-B919B756DD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51840-62F8-4A35-9862-B14CA68E70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962A-C311-442C-AD4D-D6D105FB68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E6510-35F9-47F1-B550-697DAB0E75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21C5-FCC7-41C3-A746-E964C37A1B5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B290-7C2D-4C88-A483-101EB0E5C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6D28-4352-4AE6-9724-CA27CAF43CC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CEC4-2655-4AFA-9295-7CA0F9CE92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6B9F-B705-4085-949B-197D826356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AFA3-F316-4318-8F6C-B4C7E011C2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3284-2AA5-4B5B-BC3B-14625A3B33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129D-1A0A-4973-A3E4-DB2CE519AB0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4AE79A-B146-4F2B-B6BA-1FDB42A1B0C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2E7B3-40AB-4C7D-9D36-DA2573D6AB5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91C26-F98A-4D41-AA79-2C8924269D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30997-CB41-4F6C-A6A6-3C04D09E26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1EB8A-39F2-4D98-9F77-9116AA170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9544-9E8A-49A3-9199-25F60E0E82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48160-7D2F-4D9C-8DF9-302A3E798DD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C612E-28B5-473C-9C9E-CA06FB0D7D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39CE5-627F-4F38-8F6C-0E2FF55FAFA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FCC65-CA1A-483D-8C8F-E5DAB274D1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F4723-A2CF-406C-9C8C-DB17DD88CFD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4D44F-EE05-4887-8647-8FC6D02108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D8030-FFBA-4B93-B2F1-05A6CF44B8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C1B95-AEEA-4E71-A940-49210A3163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A321E-2C27-41BB-9FE6-412EBF101A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A408A-5282-44BF-9061-245BE0DEF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D7E-D049-46AD-B8CC-B8F8A91A9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0FAD-F1DC-42CD-80F9-3169BBD5F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ftr" idx="2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2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9CBB-D058-4D07-B02E-617FFF486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2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2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0947-6180-4751-9736-3698F623F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B19-8E47-4FFE-990C-B27370027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IPSE logo.JPG"/>
          <p:cNvPicPr/>
          <p:nvPr/>
        </p:nvPicPr>
        <p:blipFill>
          <a:blip r:embed="rId3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A68D-553A-4A3C-858C-109E5FB206F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A0C7-0B23-4A9B-9FD1-6CBBA56EE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40C-F4EF-4E17-A862-5BF880A2E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71F6-3FD4-4CA8-BB02-C3904B2D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1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6BA9-A325-44E0-9F28-4E0B9EDCB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7C7E-69E7-4135-BB54-C7654F8FC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1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1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D0F3-E743-4C71-A8C2-49AFBA24E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1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1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3DAC-6FF1-4093-AAD8-8A6B0D7FD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VENTRICULOSTOMY PRACTICE ON A LIBRARY OF VIRTUAL BRAINS USING A VR/HAPTIC SIMULATOR IMPROVES SIMULATOR AND SURGICAL OUTCOMES VENTRICULOSTOMY PRACTICE ON A LIBRARY OF VIRTUAL BRAINS USING A VR/HAPTIC SIMULATOR IMPROVES SIMULATOR AND SURGICAL OUTCOMES </a:t>
            </a:r>
            <a:br>
              <a:rPr sz="3600"/>
            </a:b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Ventriculostomy Practice on a Library of Virtual Brains Using a VR/Haptic Simulator Improves Simulator and Surgical Outcomes </a:t>
            </a:r>
            <a:endParaRPr b="1" i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495680" y="335268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chel Yudkowsky MD MH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ham Clinical Performance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 of Medical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ity of Illinois at Chicag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5" name="Picture 16" descr="IPSE logo.JPG"/>
          <p:cNvPicPr/>
          <p:nvPr/>
        </p:nvPicPr>
        <p:blipFill>
          <a:blip r:embed="rId1"/>
          <a:stretch/>
        </p:blipFill>
        <p:spPr>
          <a:xfrm>
            <a:off x="30881520" y="3429000"/>
            <a:ext cx="1401840" cy="4572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6" descr="IPSE logo.JPG"/>
          <p:cNvPicPr/>
          <p:nvPr/>
        </p:nvPicPr>
        <p:blipFill>
          <a:blip r:embed="rId2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pic>
        <p:nvPicPr>
          <p:cNvPr id="657" name="P 1" descr="Ventric sim-1.jpg"/>
          <p:cNvPicPr/>
          <p:nvPr/>
        </p:nvPicPr>
        <p:blipFill>
          <a:blip r:embed="rId3"/>
          <a:stretch/>
        </p:blipFill>
        <p:spPr>
          <a:xfrm>
            <a:off x="18745200" y="8812080"/>
            <a:ext cx="3352680" cy="2160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8" descr="Ventric sim-1.jpg"/>
          <p:cNvPicPr/>
          <p:nvPr/>
        </p:nvPicPr>
        <p:blipFill>
          <a:blip r:embed="rId4"/>
          <a:stretch/>
        </p:blipFill>
        <p:spPr>
          <a:xfrm>
            <a:off x="304920" y="28195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3" descr="figure2.jpg"/>
          <p:cNvPicPr/>
          <p:nvPr/>
        </p:nvPicPr>
        <p:blipFill>
          <a:blip r:embed="rId1"/>
          <a:stretch/>
        </p:blipFill>
        <p:spPr>
          <a:xfrm>
            <a:off x="1447920" y="609480"/>
            <a:ext cx="5943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Would Ventriculostomy Practice on a Library of Virtual Brains Improve Simulator and Surgical Outcomes? </a:t>
            </a:r>
            <a:endParaRPr b="1" i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84" name="Picture 5" descr="figure2.jpg"/>
          <p:cNvPicPr/>
          <p:nvPr/>
        </p:nvPicPr>
        <p:blipFill>
          <a:blip r:embed="rId1"/>
          <a:stretch/>
        </p:blipFill>
        <p:spPr>
          <a:xfrm>
            <a:off x="2666880" y="3352680"/>
            <a:ext cx="3581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The intervention: Simulator Practice on 12 Virtual Brains</a:t>
            </a:r>
            <a:endParaRPr b="1" i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 full CT s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 to insert catheter into brain, using pre-drilled burrh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to see if succ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” brain to see where the catheter tip ended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Simulator Pre/Pos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attempts at each of 3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ve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brai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ventri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it ventri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ed ventri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brains presented pre and p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test brains presented at 1-month follow 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Simulator Outcomes </a:t>
            </a:r>
            <a:br>
              <a:rPr sz="4400"/>
            </a:b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Generalized Linear Mixed Models (GLMM)</a:t>
            </a:r>
            <a:endParaRPr b="1" i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to pre-intervention performance, residents we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successful immediately post-interven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=3.4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95% CI=[1.74, 6.77], p&lt;.00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well as at follow-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=2.5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95% CI=[1.24, 5.41], p=.01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t follow-up was significantly worse than immediately post-intervention (p&lt;.00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Live Surgery Pre/Pos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from live procedures collected for about 6 months before, 1 month after intervention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 cann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 at first atte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ilateral vs contralat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al ventricle vs oth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morrh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Live Surgery Pre/Post</a:t>
            </a:r>
            <a:br>
              <a:rPr sz="4400"/>
            </a:b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91 pre-practice, 47 post</a:t>
            </a:r>
            <a:endParaRPr b="1" i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ccess at first attempt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2% pre vs 91% post practic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=4.74, 95% CI=[1.10, 20.4], p=0.0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rrect lateral ventricle placemen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vs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entricle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more likel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efor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=2.61, 95% CI=[1.20, 5.77], p=0.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orrhage 7%, 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Ventriculostomy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1" name="Content Placeholder 5" descr="ventricles.png"/>
          <p:cNvPicPr/>
          <p:nvPr/>
        </p:nvPicPr>
        <p:blipFill>
          <a:blip r:embed="rId1"/>
          <a:srcRect l="-19885" t="0" r="-19885" b="0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2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03" name="Straight Arrow Connector 7"/>
          <p:cNvCxnSpPr/>
          <p:nvPr/>
        </p:nvCxnSpPr>
        <p:spPr>
          <a:xfrm>
            <a:off x="3732840" y="2057040"/>
            <a:ext cx="991080" cy="2134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aution!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s the simulator also teaching incorrect habi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“soft-pass”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autious Conclusions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3160" y="24382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Ventriculostomy practice on a library of virtual brains improves simulator and surgical outcom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5029200" y="2895480"/>
            <a:ext cx="380988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ulat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unique immediate f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5029200" y="4495680"/>
            <a:ext cx="388620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brar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range of clinical challenges and difficulty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Left Arrow 8"/>
          <p:cNvSpPr/>
          <p:nvPr/>
        </p:nvSpPr>
        <p:spPr>
          <a:xfrm>
            <a:off x="4648320" y="3886200"/>
            <a:ext cx="838080" cy="45720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University of Illinois at Chica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raham Clinical Performance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llege of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Institute for Patient Safety Excell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0" name="Picture 16" descr="IPSE logo.JPG"/>
          <p:cNvPicPr/>
          <p:nvPr/>
        </p:nvPicPr>
        <p:blipFill>
          <a:blip r:embed="rId1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"/>
          <p:cNvGraphicFramePr/>
          <p:nvPr/>
        </p:nvGraphicFramePr>
        <p:xfrm>
          <a:off x="1219320" y="533520"/>
          <a:ext cx="7315200" cy="207324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istian Luci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an Schwart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 Banerj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dy Charb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i Alara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lly 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hael Lem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lvio Rizz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 simul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 in curriculum for beginning neurosurgery resi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-in-time training for non-neurosurge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imate goal: practice on a projection of your own patient’s br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ahoma"/>
              </a:rPr>
              <a:t>Thanks AHRQ!</a:t>
            </a:r>
            <a:endParaRPr b="1" i="1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7524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clos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rs Banerjee and Charbel:  Owners/Partners in  Immersive Touch I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r Luciano: Consultant to Immersive Touch I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3" name="Picture 16" descr="IPSE logo.JPG"/>
          <p:cNvPicPr/>
          <p:nvPr/>
        </p:nvPicPr>
        <p:blipFill>
          <a:blip r:embed="rId1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6"/>
          <p:cNvSpPr/>
          <p:nvPr/>
        </p:nvSpPr>
        <p:spPr>
          <a:xfrm>
            <a:off x="1143000" y="380880"/>
            <a:ext cx="70102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is project was supported in part by a grant from the Agency for Healthcare Research and Quality to Dr Yudkows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pinions expressed in this presentation are those of the authors and do not reflect the official position of AHRQ or the U.S. Department of Health and Human Ser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Ventriculostomy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66" name="Content Placeholder 5" descr="ventricles.png"/>
          <p:cNvPicPr/>
          <p:nvPr/>
        </p:nvPicPr>
        <p:blipFill>
          <a:blip r:embed="rId1"/>
          <a:srcRect l="-19885" t="0" r="-19885" b="0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67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68" name="Straight Arrow Connector 7"/>
          <p:cNvCxnSpPr/>
          <p:nvPr/>
        </p:nvCxnSpPr>
        <p:spPr>
          <a:xfrm>
            <a:off x="3429000" y="1828440"/>
            <a:ext cx="991440" cy="2134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omponent Skills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late 2D CT images into 3D location and shape of ventri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m probe correc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probe to correct dep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ive density transition into ventri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5" descr=""/>
          <p:cNvPicPr/>
          <p:nvPr/>
        </p:nvPicPr>
        <p:blipFill>
          <a:blip r:embed="rId1"/>
          <a:stretch/>
        </p:blipFill>
        <p:spPr>
          <a:xfrm>
            <a:off x="1447920" y="453960"/>
            <a:ext cx="3504960" cy="6404040"/>
          </a:xfrm>
          <a:prstGeom prst="rect">
            <a:avLst/>
          </a:prstGeom>
          <a:ln w="0">
            <a:noFill/>
          </a:ln>
        </p:spPr>
      </p:pic>
      <p:sp>
        <p:nvSpPr>
          <p:cNvPr id="673" name="TextBox 7"/>
          <p:cNvSpPr/>
          <p:nvPr/>
        </p:nvSpPr>
        <p:spPr>
          <a:xfrm>
            <a:off x="5105520" y="2590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mersive Touch®  Sensimmer ® Simul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5" name="Picture 6" descr="vp"/>
          <p:cNvPicPr/>
          <p:nvPr/>
        </p:nvPicPr>
        <p:blipFill>
          <a:blip r:embed="rId1"/>
          <a:stretch/>
        </p:blipFill>
        <p:spPr>
          <a:xfrm>
            <a:off x="1143000" y="3049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Video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Footer Placeholder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The trouble with task trainers…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o clinical vari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o range of difficul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1:29:01Z</dcterms:created>
  <dc:creator>Mark Gelula</dc:creator>
  <dc:description/>
  <dc:language>en-US</dc:language>
  <cp:lastModifiedBy>Rachel Yudkowsky</cp:lastModifiedBy>
  <cp:lastPrinted>2012-01-29T02:27:00Z</cp:lastPrinted>
  <dcterms:modified xsi:type="dcterms:W3CDTF">2012-09-06T12:46:42Z</dcterms:modified>
  <cp:revision>43</cp:revision>
  <dc:subject/>
  <dc:title>Why Give Feedback?</dc:title>
</cp:coreProperties>
</file>