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B4D02-5638-482A-B511-8AB04C8C4B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A2179-5E09-4401-BB28-6E29C5BE3AC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630470A-6CCC-47B0-B574-3AD2F974F1D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A0FC369-3F9F-4BB4-A51E-6F55EFB8D38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BA1DA19-3B03-475F-9C0D-467027E541A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744B357-4CF0-4C0B-88D8-042308A40EF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FC5C408-C799-4D85-9471-8396A4553DE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0B283A2-2ACF-495B-8AD2-C050A593820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BAB3716-078D-4247-B970-6D8E6CDFF60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48D032F-8A2F-481F-9BA8-2FA200B523D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238662C-B790-437C-8302-939A7BE698D5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6A8417-25B0-4DEB-B0F2-54A11BBE0B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87FB9-174F-48DA-A820-7853843A91C3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E56A72-A3BB-4E18-9250-7E0F5706E6E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D2DE87-3A04-4D76-89AD-A6466D2D293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96FC57-9AC5-4CC5-9E9C-C2C09A18C7AE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67D489-4BF7-462A-A5CD-9209347429A4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2E1C65-0823-48D7-9746-1A7B1E476094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144534-A979-4EF2-A130-DE1231BCB7EA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15B2B7-DF5B-40CA-A234-35013A7353C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483246-EED3-4FC6-AFE1-CA2574350C9F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B2B587-9A74-42CD-AAEF-A3C421532C53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83D8B1-37F4-4F7F-973F-B7817E3BE0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547DA-B3CA-4B3E-B6F7-A3C046E4064D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BBD408-264B-4ED3-9C1A-008B96987397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B27009-1C34-41EA-BA37-B4AA8EB3FC00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B0C7C5-44B8-4E1C-9182-FD230BCAF083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8AFF80-30C7-4FD8-9C5C-CEDA4D570A9E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32B6BF8-F87F-4E6B-B9E7-14C8F4EFB4D2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43DA0D1-B83C-4F48-8602-2C835B17368A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C24C9B2-24FD-4A77-8C5E-B324C86CEF5A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E79C4B4-E41F-4AAB-9056-42E46176BAA7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F42C7B-3462-46E5-8290-C6149021A7FA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E046E93-DF29-41B2-815B-5F8A5779B2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B459AD-BBD3-44BF-A4DA-3CFD2906E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89ED34-CFA5-4041-9077-CD31AC5DCF27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8C086A9-9FE7-4381-A869-B106D36C71A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342C0E3-132B-4073-AED6-F0BA7DFC6A59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8D8F40-723F-45FA-8F15-DD32924853CB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9C6165-AA20-427F-BBB0-2C06762FA654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FF9A4A-D686-4281-AF4E-056F820F8036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F6A7D8-091E-471E-BFB8-05DC9F0A9FF1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F9B4E0-5FBF-4BDE-B8BF-D9E7F91AAB6F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86D69C-2453-495A-8198-DD9906446DB1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4D9732-7D03-4BC8-83DD-E5553EA5C7A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B49ECA-2CDD-4036-919C-45F3A01B1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BE298E-24FF-4613-ACB7-E28E5272E8C0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E18E93-327F-42E7-9459-B5710B58AECC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56D8BD-3C16-4C91-9368-9C8E9522FB84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E1E3E8-12E2-42E8-8BC1-C2A888152D33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167899-BE98-4465-8B6A-97FFADA8A100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377BA3-A7EF-4734-9D0F-AE035A619524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034C21-C7FE-4E90-BAD8-58A87F230CA7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5B993C-827F-40EF-B88A-88810E168E81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69FFF4-DCBE-4CBC-9ABE-59DE39EF625A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AD870F-D8EA-43CA-914F-FD87E3B4060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58EFC0-DDA6-4B73-9365-205CCC9A9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56E622-FB5D-4277-B8BF-6795C077D002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372765-32CB-4282-AB5E-EF5F9A609007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1C106D-30E2-4F60-A131-2D4D2900DEDB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B06BF3-C3FC-4EFA-A561-33EDA1ACCCE4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289A80-C3A7-4EE9-AE46-321569AB0E38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9BD32F-99F5-4738-BBFA-6C378E61B462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7CB278-84A3-4537-8544-023FD14FDF3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78F978-A4A0-41DB-8FDE-E4D8649D5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D75760-9D7E-4CC4-AEEB-1C471560A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BFEF31-57D4-4EA3-9534-DFCB9A81A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9754F0-047F-42FC-9FEE-8DC0BE100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63DF2-085E-42A4-B2A0-8169E09DAD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B99A70-6A3C-4455-B00A-6C438A40B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7D3C1D-7CB0-4515-8758-05670B4CB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BFC1B8-812A-4CA3-8B80-2923D4FD2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FE36D0-5857-49E1-B50E-506A34025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85B689-F907-4395-A04D-629086E58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34F56F-A29F-4DA3-99FA-0095028E58A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B0B874-F5E7-4193-A64A-3D5008F04E7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E8B0EF-109C-47C6-9EAE-CC08F15CD31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55C481-8E97-4D6C-A2D2-F46965C2C53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F9A29A-63AE-4AA3-A189-CD4FBC03C8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0467F-31A5-4EA5-8164-BE3450225F9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104D4B-A4B4-4034-AE0D-86516CD002D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FE7538-D90F-44C8-AC2D-FDF7C619857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C403F5-070A-4472-8BFA-7A84F6869D2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205080-D69D-4EC1-897B-F6AE66EF710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332238-65E0-406B-AA51-FD89A057AE3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93624C-9C83-4FA1-8779-AD0391A361A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AF62A3-4E40-449C-8C7A-613CD683B23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22644-81B3-4AB0-A195-E36A5F7778F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38D2F-3A56-4648-8C6D-6A597A911E6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1E828-AE97-4458-9C02-4E3FCE5BB1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EA298-1CDD-44B3-8CF8-2AE55143CEF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D2156-A2F8-46EF-A45C-8DA749A1565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218DA-B3EF-4515-BE7C-8CB1D51AD5C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624F1-5790-43F5-AF84-5D23C76EB63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5DDB3-8795-45F4-87C8-61839DD1BC6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409C0-FA3B-4C34-85F7-04203FEEDC0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8921A-7622-448C-B101-36443E7412B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D2BD7-B572-43D5-9AB8-2906D3930E3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BA17C-C6F3-461B-A01C-1C2EFD23921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C64D6-5EA4-4F4A-8904-EC1D7791874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7A5786-1D88-4E5A-A196-CFC43381AD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E0EB6-CF84-4627-9DD4-14D56C9F711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B1A4B3-1F19-4427-B995-E09830D9D68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CB8AFE-1FEC-4562-BAD6-BC81A0654E7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9C8206-0F74-47DC-87EE-FDEB9F1740E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162433-53FA-47FA-A40F-CFC28AE4992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B655AB-AA41-49D6-AF70-F84CF665128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9D116E-6D22-4EE6-B967-8C569FFF435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E82688-3D92-45D8-A24B-5C4B0CC06FA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9D4337-D36C-473D-95D6-C0C357099C7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71E4D0-4D4D-48CF-9F93-DAE37A7578C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95F41A-0777-440D-9D6C-A19FF47325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4C8D4-74F0-46EB-A866-EB8CDC3E46B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D23BD2-39F4-48B0-8F2D-B205B3C4FC3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9208A57-2DA2-463B-B847-67F1EBDEE29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3D5E629-AA7A-4DEF-A0DB-956E77B35F3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209467A-5BA5-4D27-93E0-3A98D03DF23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F6A33C2-479F-44DB-8BC5-FEC1418F26B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0EDE9DF-F8F2-499E-867B-2295BA05F30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250EBB4-12BB-437E-BDF2-AE98618F945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0C6BFFD-2CE1-48BA-BE02-36135323EA5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24A0E1F-61AE-4D76-BA89-3B2B8CD04B8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3312350-4ACD-442F-87CB-A9A2107EB7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30C07-ACFE-444A-AE73-AA54006D0FE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C84ADD4-0F73-44E7-A825-FDA1B51FC9D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E4105BA-FCAF-484C-8093-D858A70E256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4B30C6B-2C8E-4B00-B898-FBD96488CA4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E322E5-1F02-4F68-868F-0F48152D976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EF84C6-E0BB-4BB5-B736-86675189AA5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35ACE8-6632-469E-AC4A-14070BCE166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955797-1560-4A87-BE80-18693D48348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D94A6F-341E-4B69-81C2-EAB6F88A71F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75343-B5F0-48EE-843B-DB90131B8AD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5763C-03AE-4D4F-9927-BF803DD0C4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F3959-1B66-45AE-A859-C2FB6BB8559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BE1B6-03CC-479D-A86D-14DA8E7708A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3C30D-E934-4DA9-A7A5-12537ADDB43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43AF06-6A15-4B68-8E95-831900CEBC0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A0CF38-5A91-4D07-8692-243D67D5DC1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ED64BC-90D2-46EB-8877-C514E9AC8C8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EF435A-F5B5-4C1D-8081-B5D6E60954B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EF118B-7846-4C43-9AE7-290027FB655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18BB9E-5CC1-4FB4-BB7E-7420FD68C4C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1D135D-D456-4CFB-8985-5174745C65A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869051-52E8-44F2-A24D-AEAC4ABF96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D7D98-B0AE-45AC-8751-5C5A736AE42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A0514F-38E1-408A-8C6E-6A5616CCF6D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1CE47B-57DB-4760-8991-05A353C1401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04C0C2-F50E-4B47-9F46-C901536CC01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580B9E-CC08-44F3-A799-0542495EFD00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D5F09D-E43B-46D3-A175-2F40BB3FD1B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A27E8E-92B7-4374-ADFE-AF99E8B378C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8AE905-55F9-477E-A8CC-47DC1B3D98E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AB2C0B0-F490-4334-98A1-3005A74DA31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0EE1A98-674B-4B9D-8158-DF38411B434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ECD344A-4671-4522-89E1-0B1FCB2F36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HRQ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4FB4A-E814-4D58-83F4-6FD0C03347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Picture 1873" descr="uic_logo_large_red_rev"/>
          <p:cNvPicPr/>
          <p:nvPr/>
        </p:nvPicPr>
        <p:blipFill>
          <a:blip r:embed="rId2"/>
          <a:stretch/>
        </p:blipFill>
        <p:spPr>
          <a:xfrm>
            <a:off x="39547800" y="762120"/>
            <a:ext cx="4343400" cy="183672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1873" descr="uic_logo_large_red_rev"/>
          <p:cNvPicPr/>
          <p:nvPr/>
        </p:nvPicPr>
        <p:blipFill>
          <a:blip r:embed="rId3"/>
          <a:stretch/>
        </p:blipFill>
        <p:spPr>
          <a:xfrm>
            <a:off x="0" y="6400800"/>
            <a:ext cx="1081080" cy="45720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16" descr="IPSE logo.JPG"/>
          <p:cNvPicPr/>
          <p:nvPr/>
        </p:nvPicPr>
        <p:blipFill>
          <a:blip r:embed="rId4"/>
          <a:stretch/>
        </p:blipFill>
        <p:spPr>
          <a:xfrm>
            <a:off x="7742160" y="6400800"/>
            <a:ext cx="140184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0" name="Picture 1873" descr="uic_logo_large_red_rev"/>
          <p:cNvPicPr/>
          <p:nvPr/>
        </p:nvPicPr>
        <p:blipFill>
          <a:blip r:embed="rId2"/>
          <a:stretch/>
        </p:blipFill>
        <p:spPr>
          <a:xfrm>
            <a:off x="39547800" y="762120"/>
            <a:ext cx="4343400" cy="183672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1873" descr="uic_logo_large_red_rev"/>
          <p:cNvPicPr/>
          <p:nvPr/>
        </p:nvPicPr>
        <p:blipFill>
          <a:blip r:embed="rId3"/>
          <a:stretch/>
        </p:blipFill>
        <p:spPr>
          <a:xfrm>
            <a:off x="0" y="6400800"/>
            <a:ext cx="1081080" cy="45720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6" descr="IPSE logo.JPG"/>
          <p:cNvPicPr/>
          <p:nvPr/>
        </p:nvPicPr>
        <p:blipFill>
          <a:blip r:embed="rId4"/>
          <a:stretch/>
        </p:blipFill>
        <p:spPr>
          <a:xfrm>
            <a:off x="7742160" y="6400800"/>
            <a:ext cx="1401840" cy="45720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ftr" idx="20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MSH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sldNum" idx="21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D9959-06AB-4CE0-833B-C55844837C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0" name="Picture 1873" descr="uic_logo_large_red_rev"/>
          <p:cNvPicPr/>
          <p:nvPr/>
        </p:nvPicPr>
        <p:blipFill>
          <a:blip r:embed="rId2"/>
          <a:stretch/>
        </p:blipFill>
        <p:spPr>
          <a:xfrm>
            <a:off x="39547800" y="762120"/>
            <a:ext cx="4343400" cy="183672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1873" descr="uic_logo_large_red_rev"/>
          <p:cNvPicPr/>
          <p:nvPr/>
        </p:nvPicPr>
        <p:blipFill>
          <a:blip r:embed="rId3"/>
          <a:stretch/>
        </p:blipFill>
        <p:spPr>
          <a:xfrm>
            <a:off x="0" y="6400800"/>
            <a:ext cx="1081080" cy="45720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16" descr="IPSE logo.JPG"/>
          <p:cNvPicPr/>
          <p:nvPr/>
        </p:nvPicPr>
        <p:blipFill>
          <a:blip r:embed="rId4"/>
          <a:stretch/>
        </p:blipFill>
        <p:spPr>
          <a:xfrm>
            <a:off x="7742160" y="6400800"/>
            <a:ext cx="1401840" cy="457200"/>
          </a:xfrm>
          <a:prstGeom prst="rect">
            <a:avLst/>
          </a:prstGeom>
          <a:ln w="0">
            <a:noFill/>
          </a:ln>
        </p:spPr>
      </p:pic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ftr" idx="2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MSH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sldNum" idx="2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F71B9-530B-4270-96A2-5294A23BE6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0" name="Picture 1873" descr="uic_logo_large_red_rev"/>
          <p:cNvPicPr/>
          <p:nvPr/>
        </p:nvPicPr>
        <p:blipFill>
          <a:blip r:embed="rId2"/>
          <a:stretch/>
        </p:blipFill>
        <p:spPr>
          <a:xfrm>
            <a:off x="39547800" y="762120"/>
            <a:ext cx="4343400" cy="183672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1873" descr="uic_logo_large_red_rev"/>
          <p:cNvPicPr/>
          <p:nvPr/>
        </p:nvPicPr>
        <p:blipFill>
          <a:blip r:embed="rId3"/>
          <a:stretch/>
        </p:blipFill>
        <p:spPr>
          <a:xfrm>
            <a:off x="0" y="6400800"/>
            <a:ext cx="1081080" cy="45720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16" descr="IPSE logo.JPG"/>
          <p:cNvPicPr/>
          <p:nvPr/>
        </p:nvPicPr>
        <p:blipFill>
          <a:blip r:embed="rId4"/>
          <a:stretch/>
        </p:blipFill>
        <p:spPr>
          <a:xfrm>
            <a:off x="7742160" y="6400800"/>
            <a:ext cx="1401840" cy="45720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ftr" idx="24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MSH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sldNum" idx="25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7783D-E348-49A8-AFF3-457647AAEF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0" name="Picture 1873" descr="uic_logo_large_red_rev"/>
          <p:cNvPicPr/>
          <p:nvPr/>
        </p:nvPicPr>
        <p:blipFill>
          <a:blip r:embed="rId2"/>
          <a:stretch/>
        </p:blipFill>
        <p:spPr>
          <a:xfrm>
            <a:off x="39547800" y="762120"/>
            <a:ext cx="4343400" cy="183672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1873" descr="uic_logo_large_red_rev"/>
          <p:cNvPicPr/>
          <p:nvPr/>
        </p:nvPicPr>
        <p:blipFill>
          <a:blip r:embed="rId3"/>
          <a:stretch/>
        </p:blipFill>
        <p:spPr>
          <a:xfrm>
            <a:off x="0" y="6400800"/>
            <a:ext cx="1081080" cy="45720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16" descr="IPSE logo.JPG"/>
          <p:cNvPicPr/>
          <p:nvPr/>
        </p:nvPicPr>
        <p:blipFill>
          <a:blip r:embed="rId4"/>
          <a:stretch/>
        </p:blipFill>
        <p:spPr>
          <a:xfrm>
            <a:off x="7742160" y="6400800"/>
            <a:ext cx="1401840" cy="457200"/>
          </a:xfrm>
          <a:prstGeom prst="rect">
            <a:avLst/>
          </a:prstGeom>
          <a:ln w="0">
            <a:noFill/>
          </a:ln>
        </p:spPr>
      </p:pic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ftr" idx="26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MSH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 type="sldNum" idx="27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A0402-AC9B-4477-99BF-0B81E5AEA2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1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2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4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5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7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60" name="Picture 1873" descr="uic_logo_large_red_rev"/>
          <p:cNvPicPr/>
          <p:nvPr/>
        </p:nvPicPr>
        <p:blipFill>
          <a:blip r:embed="rId2"/>
          <a:stretch/>
        </p:blipFill>
        <p:spPr>
          <a:xfrm>
            <a:off x="0" y="6400800"/>
            <a:ext cx="1081080" cy="457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6" descr="IPSE logo.JPG"/>
          <p:cNvPicPr/>
          <p:nvPr/>
        </p:nvPicPr>
        <p:blipFill>
          <a:blip r:embed="rId3"/>
          <a:stretch/>
        </p:blipFill>
        <p:spPr>
          <a:xfrm>
            <a:off x="7742160" y="6400800"/>
            <a:ext cx="1401840" cy="4572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IMSH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F74C3-CF14-475B-9446-0F6C3571C834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Picture 1873" descr="uic_logo_large_red_rev"/>
          <p:cNvPicPr/>
          <p:nvPr/>
        </p:nvPicPr>
        <p:blipFill>
          <a:blip r:embed="rId2"/>
          <a:stretch/>
        </p:blipFill>
        <p:spPr>
          <a:xfrm>
            <a:off x="39547800" y="762120"/>
            <a:ext cx="4343400" cy="18367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873" descr="uic_logo_large_red_rev"/>
          <p:cNvPicPr/>
          <p:nvPr/>
        </p:nvPicPr>
        <p:blipFill>
          <a:blip r:embed="rId3"/>
          <a:stretch/>
        </p:blipFill>
        <p:spPr>
          <a:xfrm>
            <a:off x="0" y="6400800"/>
            <a:ext cx="1081080" cy="457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IPSE logo.JPG"/>
          <p:cNvPicPr/>
          <p:nvPr/>
        </p:nvPicPr>
        <p:blipFill>
          <a:blip r:embed="rId4"/>
          <a:stretch/>
        </p:blipFill>
        <p:spPr>
          <a:xfrm>
            <a:off x="7742160" y="6400800"/>
            <a:ext cx="1401840" cy="4572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ftr" idx="6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MSH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sldNum" idx="7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F57EB-B4E5-43C9-B02E-94A2C3D088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0" name="Picture 1873" descr="uic_logo_large_red_rev"/>
          <p:cNvPicPr/>
          <p:nvPr/>
        </p:nvPicPr>
        <p:blipFill>
          <a:blip r:embed="rId2"/>
          <a:stretch/>
        </p:blipFill>
        <p:spPr>
          <a:xfrm>
            <a:off x="39547800" y="762120"/>
            <a:ext cx="4343400" cy="1836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873" descr="uic_logo_large_red_rev"/>
          <p:cNvPicPr/>
          <p:nvPr/>
        </p:nvPicPr>
        <p:blipFill>
          <a:blip r:embed="rId3"/>
          <a:stretch/>
        </p:blipFill>
        <p:spPr>
          <a:xfrm>
            <a:off x="0" y="6400800"/>
            <a:ext cx="1081080" cy="4572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6" descr="IPSE logo.JPG"/>
          <p:cNvPicPr/>
          <p:nvPr/>
        </p:nvPicPr>
        <p:blipFill>
          <a:blip r:embed="rId4"/>
          <a:stretch/>
        </p:blipFill>
        <p:spPr>
          <a:xfrm>
            <a:off x="7742160" y="6400800"/>
            <a:ext cx="1401840" cy="4572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ftr" idx="8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MSH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sldNum" idx="9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A6EE1-08F7-42AE-AEB1-54EC0F8F0E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0" name="Picture 1873" descr="uic_logo_large_red_rev"/>
          <p:cNvPicPr/>
          <p:nvPr/>
        </p:nvPicPr>
        <p:blipFill>
          <a:blip r:embed="rId2"/>
          <a:stretch/>
        </p:blipFill>
        <p:spPr>
          <a:xfrm>
            <a:off x="39547800" y="762120"/>
            <a:ext cx="4343400" cy="1836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873" descr="uic_logo_large_red_rev"/>
          <p:cNvPicPr/>
          <p:nvPr/>
        </p:nvPicPr>
        <p:blipFill>
          <a:blip r:embed="rId3"/>
          <a:stretch/>
        </p:blipFill>
        <p:spPr>
          <a:xfrm>
            <a:off x="0" y="6400800"/>
            <a:ext cx="1081080" cy="4572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6" descr="IPSE logo.JPG"/>
          <p:cNvPicPr/>
          <p:nvPr/>
        </p:nvPicPr>
        <p:blipFill>
          <a:blip r:embed="rId4"/>
          <a:stretch/>
        </p:blipFill>
        <p:spPr>
          <a:xfrm>
            <a:off x="7742160" y="6400800"/>
            <a:ext cx="1401840" cy="4572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ftr" idx="10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MSH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sldNum" idx="11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10F26-B49A-4C42-8030-B5D1EF3D54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0" name="Picture 1873" descr="uic_logo_large_red_rev"/>
          <p:cNvPicPr/>
          <p:nvPr/>
        </p:nvPicPr>
        <p:blipFill>
          <a:blip r:embed="rId2"/>
          <a:stretch/>
        </p:blipFill>
        <p:spPr>
          <a:xfrm>
            <a:off x="39547800" y="762120"/>
            <a:ext cx="4343400" cy="18367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873" descr="uic_logo_large_red_rev"/>
          <p:cNvPicPr/>
          <p:nvPr/>
        </p:nvPicPr>
        <p:blipFill>
          <a:blip r:embed="rId3"/>
          <a:stretch/>
        </p:blipFill>
        <p:spPr>
          <a:xfrm>
            <a:off x="0" y="6400800"/>
            <a:ext cx="1081080" cy="4572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6" descr="IPSE logo.JPG"/>
          <p:cNvPicPr/>
          <p:nvPr/>
        </p:nvPicPr>
        <p:blipFill>
          <a:blip r:embed="rId4"/>
          <a:stretch/>
        </p:blipFill>
        <p:spPr>
          <a:xfrm>
            <a:off x="7742160" y="6400800"/>
            <a:ext cx="1401840" cy="457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ftr" idx="1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MSH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sldNum" idx="1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40A93-94B0-4D1C-A4EE-0232394FF2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0" name="Picture 1873" descr="uic_logo_large_red_rev"/>
          <p:cNvPicPr/>
          <p:nvPr/>
        </p:nvPicPr>
        <p:blipFill>
          <a:blip r:embed="rId2"/>
          <a:stretch/>
        </p:blipFill>
        <p:spPr>
          <a:xfrm>
            <a:off x="39547800" y="762120"/>
            <a:ext cx="4343400" cy="18367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873" descr="uic_logo_large_red_rev"/>
          <p:cNvPicPr/>
          <p:nvPr/>
        </p:nvPicPr>
        <p:blipFill>
          <a:blip r:embed="rId3"/>
          <a:stretch/>
        </p:blipFill>
        <p:spPr>
          <a:xfrm>
            <a:off x="0" y="6400800"/>
            <a:ext cx="1081080" cy="4572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6" descr="IPSE logo.JPG"/>
          <p:cNvPicPr/>
          <p:nvPr/>
        </p:nvPicPr>
        <p:blipFill>
          <a:blip r:embed="rId4"/>
          <a:stretch/>
        </p:blipFill>
        <p:spPr>
          <a:xfrm>
            <a:off x="7742160" y="6400800"/>
            <a:ext cx="1401840" cy="45720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ftr" idx="14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MSH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sldNum" idx="15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A40B1-A976-4E96-B147-54908DA65F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0" name="Picture 1873" descr="uic_logo_large_red_rev"/>
          <p:cNvPicPr/>
          <p:nvPr/>
        </p:nvPicPr>
        <p:blipFill>
          <a:blip r:embed="rId2"/>
          <a:stretch/>
        </p:blipFill>
        <p:spPr>
          <a:xfrm>
            <a:off x="39547800" y="762120"/>
            <a:ext cx="4343400" cy="18367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873" descr="uic_logo_large_red_rev"/>
          <p:cNvPicPr/>
          <p:nvPr/>
        </p:nvPicPr>
        <p:blipFill>
          <a:blip r:embed="rId3"/>
          <a:stretch/>
        </p:blipFill>
        <p:spPr>
          <a:xfrm>
            <a:off x="0" y="6400800"/>
            <a:ext cx="1081080" cy="4572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16" descr="IPSE logo.JPG"/>
          <p:cNvPicPr/>
          <p:nvPr/>
        </p:nvPicPr>
        <p:blipFill>
          <a:blip r:embed="rId4"/>
          <a:stretch/>
        </p:blipFill>
        <p:spPr>
          <a:xfrm>
            <a:off x="7742160" y="6400800"/>
            <a:ext cx="1401840" cy="45720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ftr" idx="16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MSH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sldNum" idx="17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A0BE6-6CAB-464D-8876-C47CCECC3F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0" name="Picture 1873" descr="uic_logo_large_red_rev"/>
          <p:cNvPicPr/>
          <p:nvPr/>
        </p:nvPicPr>
        <p:blipFill>
          <a:blip r:embed="rId2"/>
          <a:stretch/>
        </p:blipFill>
        <p:spPr>
          <a:xfrm>
            <a:off x="39547800" y="762120"/>
            <a:ext cx="4343400" cy="183672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1873" descr="uic_logo_large_red_rev"/>
          <p:cNvPicPr/>
          <p:nvPr/>
        </p:nvPicPr>
        <p:blipFill>
          <a:blip r:embed="rId3"/>
          <a:stretch/>
        </p:blipFill>
        <p:spPr>
          <a:xfrm>
            <a:off x="0" y="6400800"/>
            <a:ext cx="1081080" cy="4572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16" descr="IPSE logo.JPG"/>
          <p:cNvPicPr/>
          <p:nvPr/>
        </p:nvPicPr>
        <p:blipFill>
          <a:blip r:embed="rId4"/>
          <a:stretch/>
        </p:blipFill>
        <p:spPr>
          <a:xfrm>
            <a:off x="7742160" y="6400800"/>
            <a:ext cx="1401840" cy="45720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ftr" idx="18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MSH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sldNum" idx="19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FD566-A50E-48CD-9743-D062A00C9A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VENTRICULOSTOMY PRACTICE ON A LIBRARY OF VIRTUAL BRAINS USING A VR/HAPTIC SIMULATOR IMPROVES SIMULATOR AND SURGICAL OUTCOMES VENTRICULOSTOMY PRACTICE ON A LIBRARY OF VIRTUAL BRAINS USING A VR/HAPTIC SIMULATOR IMPROVES SIMULATOR AND SURGICAL OUTCOMES </a:t>
            </a:r>
            <a:br>
              <a:rPr sz="3600"/>
            </a:br>
            <a:r>
              <a:rPr b="1" i="1" lang="en-US" sz="3600" spc="-1" strike="noStrike">
                <a:solidFill>
                  <a:srgbClr val="333399"/>
                </a:solidFill>
                <a:latin typeface="Tahoma"/>
              </a:rPr>
              <a:t>Ventriculostomy Practice on a Library of Virtual Brains Using a VR/Haptic Simulator Improves Simulator and Surgical Outcomes </a:t>
            </a:r>
            <a:endParaRPr b="1" i="1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4495680" y="3352680"/>
            <a:ext cx="46483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achel Yudkowsky MD MH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aham Clinical Performance Ce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pt of Medical Edu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iversity of Illinois at Chicago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55" name="Picture 16" descr="IPSE logo.JPG"/>
          <p:cNvPicPr/>
          <p:nvPr/>
        </p:nvPicPr>
        <p:blipFill>
          <a:blip r:embed="rId1"/>
          <a:stretch/>
        </p:blipFill>
        <p:spPr>
          <a:xfrm>
            <a:off x="30881520" y="3429000"/>
            <a:ext cx="1401840" cy="45720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16" descr="IPSE logo.JPG"/>
          <p:cNvPicPr/>
          <p:nvPr/>
        </p:nvPicPr>
        <p:blipFill>
          <a:blip r:embed="rId2"/>
          <a:stretch/>
        </p:blipFill>
        <p:spPr>
          <a:xfrm>
            <a:off x="7742160" y="6400800"/>
            <a:ext cx="1401840" cy="457200"/>
          </a:xfrm>
          <a:prstGeom prst="rect">
            <a:avLst/>
          </a:prstGeom>
          <a:ln w="0">
            <a:noFill/>
          </a:ln>
        </p:spPr>
      </p:pic>
      <p:pic>
        <p:nvPicPr>
          <p:cNvPr id="657" name="P 1" descr="Ventric sim-1.jpg"/>
          <p:cNvPicPr/>
          <p:nvPr/>
        </p:nvPicPr>
        <p:blipFill>
          <a:blip r:embed="rId3"/>
          <a:stretch/>
        </p:blipFill>
        <p:spPr>
          <a:xfrm>
            <a:off x="18745200" y="8812080"/>
            <a:ext cx="3352680" cy="216072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8" descr="Ventric sim-1.jpg"/>
          <p:cNvPicPr/>
          <p:nvPr/>
        </p:nvPicPr>
        <p:blipFill>
          <a:blip r:embed="rId4"/>
          <a:stretch/>
        </p:blipFill>
        <p:spPr>
          <a:xfrm>
            <a:off x="304920" y="2819520"/>
            <a:ext cx="411480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Picture 3" descr="figure2.jpg"/>
          <p:cNvPicPr/>
          <p:nvPr/>
        </p:nvPicPr>
        <p:blipFill>
          <a:blip r:embed="rId1"/>
          <a:stretch/>
        </p:blipFill>
        <p:spPr>
          <a:xfrm>
            <a:off x="1447920" y="609480"/>
            <a:ext cx="59436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Tahoma"/>
              </a:rPr>
              <a:t>Would Ventriculostomy Practice on a Library of Virtual Brains Improve Simulator and Surgical Outcomes? </a:t>
            </a:r>
            <a:endParaRPr b="1" i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684" name="Picture 5" descr="figure2.jpg"/>
          <p:cNvPicPr/>
          <p:nvPr/>
        </p:nvPicPr>
        <p:blipFill>
          <a:blip r:embed="rId1"/>
          <a:stretch/>
        </p:blipFill>
        <p:spPr>
          <a:xfrm>
            <a:off x="2666880" y="3352680"/>
            <a:ext cx="35816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The intervention: Simulator Practice on 12 Virtual Brains</a:t>
            </a:r>
            <a:endParaRPr b="1" i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ew full CT sc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tempt to insert catheter into brain, using pre-drilled burrho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eck to see if successfu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n” brain to see where the catheter tip ended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7" name="Footer Placeholder 3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HRQ 201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Simulator Pre/Post</a:t>
            </a: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 attempts at each of 3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novel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rtual brain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ventri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it ventri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fted ventri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brains presented pre and po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sttest brains presented at 1-month follow u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Footer Placeholder 3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HRQ 201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Simulator Outcomes </a:t>
            </a:r>
            <a:br>
              <a:rPr sz="4400"/>
            </a:br>
            <a:r>
              <a:rPr b="1" i="1" lang="en-US" sz="2800" spc="-1" strike="noStrike">
                <a:solidFill>
                  <a:srgbClr val="333399"/>
                </a:solidFill>
                <a:latin typeface="Tahoma"/>
              </a:rPr>
              <a:t>Generalized Linear Mixed Models (GLMM)</a:t>
            </a:r>
            <a:endParaRPr b="1" i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to pre-intervention performance, residents wer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ore successful immediately post-interventio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R=3.43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95% CI=[1.74, 6.77], p&lt;.001)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s well as at follow-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R=2.59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95% CI=[1.24, 5.41], p=.011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 at follow-up was significantly worse than immediately post-intervention (p&lt;.001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3" name="Footer Placeholder 3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HRQ 201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Live Surgery Pre/Post</a:t>
            </a: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from live procedures collected for about 6 months before, 1 month after intervention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 cann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 at first atte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ilateral vs contralate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teral ventricle vs other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morrh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Footer Placeholder 3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HRQ 201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Live Surgery Pre/Post</a:t>
            </a:r>
            <a:br>
              <a:rPr sz="4400"/>
            </a:b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91 pre-practice, 47 post</a:t>
            </a:r>
            <a:endParaRPr b="1" i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1182600" y="2017440"/>
            <a:ext cx="777240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uccess at first attempt: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82% pre vs 91% post practice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=4.74, 95% CI=[1.10, 20.4], p=0.04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rrect lateral ventricle placement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vs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ventricle)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s more likely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befor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act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=2.61, 95% CI=[1.20, 5.77], p=0.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morrhage 7%, 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Footer Placeholder 3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HRQ 201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Ventriculostomy</a:t>
            </a: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701" name="Content Placeholder 5" descr="ventricles.png"/>
          <p:cNvPicPr/>
          <p:nvPr/>
        </p:nvPicPr>
        <p:blipFill>
          <a:blip r:embed="rId1"/>
          <a:srcRect l="-19885" t="0" r="-19885" b="0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702" name="Footer Placeholder 3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HRQ 201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703" name="Straight Arrow Connector 7"/>
          <p:cNvCxnSpPr/>
          <p:nvPr/>
        </p:nvCxnSpPr>
        <p:spPr>
          <a:xfrm>
            <a:off x="3732840" y="2057040"/>
            <a:ext cx="991080" cy="21344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sm" type="stealth" w="sm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Caution!</a:t>
            </a: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s the simulator also teaching incorrect habit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ck of “soft-pass” cap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6" name="Footer Placeholder 3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IMSH 201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Cautious Conclusions</a:t>
            </a: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533160" y="2438280"/>
            <a:ext cx="419076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Ventriculostomy practice on a library of virtual brains improves simulator and surgical outcom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9" name="Footer Placeholder 3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HRQ 201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0" name="Rectangle 5"/>
          <p:cNvSpPr/>
          <p:nvPr/>
        </p:nvSpPr>
        <p:spPr>
          <a:xfrm>
            <a:off x="5029200" y="2895480"/>
            <a:ext cx="380988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mulato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unique immediate f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1" name="Rectangle 6"/>
          <p:cNvSpPr/>
          <p:nvPr/>
        </p:nvSpPr>
        <p:spPr>
          <a:xfrm>
            <a:off x="5029200" y="4495680"/>
            <a:ext cx="3886200" cy="11912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ibrary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a range of clinical challenges and difficulty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2" name="Left Arrow 8"/>
          <p:cNvSpPr/>
          <p:nvPr/>
        </p:nvSpPr>
        <p:spPr>
          <a:xfrm>
            <a:off x="4648320" y="3886200"/>
            <a:ext cx="838080" cy="457200"/>
          </a:xfrm>
          <a:prstGeom prst="leftArrow">
            <a:avLst>
              <a:gd name="adj1" fmla="val 50000"/>
              <a:gd name="adj2" fmla="val 4999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0" y="34290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University of Illinois at Chicag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Graham Clinical Performance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College of Medic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College of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Institute for Patient Safety Excell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60" name="Picture 16" descr="IPSE logo.JPG"/>
          <p:cNvPicPr/>
          <p:nvPr/>
        </p:nvPicPr>
        <p:blipFill>
          <a:blip r:embed="rId1"/>
          <a:stretch/>
        </p:blipFill>
        <p:spPr>
          <a:xfrm>
            <a:off x="7742160" y="6400800"/>
            <a:ext cx="1401840" cy="457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1" name=""/>
          <p:cNvGraphicFramePr/>
          <p:nvPr/>
        </p:nvGraphicFramePr>
        <p:xfrm>
          <a:off x="1219320" y="533520"/>
          <a:ext cx="7315200" cy="2073240"/>
        </p:xfrm>
        <a:graphic>
          <a:graphicData uri="http://schemas.openxmlformats.org/drawingml/2006/table">
            <a:tbl>
              <a:tblPr/>
              <a:tblGrid>
                <a:gridCol w="3657600"/>
                <a:gridCol w="3657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ristian Lucia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an Schwart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 Banerj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dy Charb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i Alara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elly Smi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chael Lemo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lvio Rizzi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Next Steps</a:t>
            </a: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spcAft>
                <a:spcPts val="11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rove simula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spcAft>
                <a:spcPts val="11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mbed in curriculum for beginning neurosurgery resid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spcAft>
                <a:spcPts val="11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ust-in-time training for non-neurosurgeon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spcAft>
                <a:spcPts val="11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ltimate goal: practice on a projection of your own patient’s brai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5" name="Footer Placeholder 3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HRQ 201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99"/>
                </a:solidFill>
                <a:latin typeface="Tahoma"/>
              </a:rPr>
              <a:t>Thanks AHRQ!</a:t>
            </a:r>
            <a:endParaRPr b="1" i="1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175248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ahoma"/>
              </a:rPr>
              <a:t>Questions?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ubTitle"/>
          </p:nvPr>
        </p:nvSpPr>
        <p:spPr>
          <a:xfrm>
            <a:off x="0" y="34290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isclos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Drs Banerjee and Charbel:  Owners/Partners in  Immersive Touch I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Dr Luciano: Consultant to Immersive Touch I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63" name="Picture 16" descr="IPSE logo.JPG"/>
          <p:cNvPicPr/>
          <p:nvPr/>
        </p:nvPicPr>
        <p:blipFill>
          <a:blip r:embed="rId1"/>
          <a:stretch/>
        </p:blipFill>
        <p:spPr>
          <a:xfrm>
            <a:off x="7742160" y="6400800"/>
            <a:ext cx="1401840" cy="457200"/>
          </a:xfrm>
          <a:prstGeom prst="rect">
            <a:avLst/>
          </a:prstGeom>
          <a:ln w="0">
            <a:noFill/>
          </a:ln>
        </p:spPr>
      </p:pic>
      <p:sp>
        <p:nvSpPr>
          <p:cNvPr id="664" name="TextBox 6"/>
          <p:cNvSpPr/>
          <p:nvPr/>
        </p:nvSpPr>
        <p:spPr>
          <a:xfrm>
            <a:off x="1143000" y="380880"/>
            <a:ext cx="7010280" cy="27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This project was supported in part by a grant from the Agency for Healthcare Research and Quality to Dr Yudkows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opinions expressed in this presentation are those of the authors and do not reflect the official position of AHRQ or the U.S. Department of Health and Human Servic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Ventriculostomy</a:t>
            </a: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666" name="Content Placeholder 5" descr="ventricles.png"/>
          <p:cNvPicPr/>
          <p:nvPr/>
        </p:nvPicPr>
        <p:blipFill>
          <a:blip r:embed="rId1"/>
          <a:srcRect l="-19885" t="0" r="-19885" b="0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667" name="Footer Placeholder 3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HRQ 201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668" name="Straight Arrow Connector 7"/>
          <p:cNvCxnSpPr/>
          <p:nvPr/>
        </p:nvCxnSpPr>
        <p:spPr>
          <a:xfrm>
            <a:off x="3429000" y="1828440"/>
            <a:ext cx="991440" cy="21344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sm" type="stealth" w="sm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Component Skills</a:t>
            </a: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late 2D CT images into 3D location and shape of ventric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im probe correct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ert probe to correct dep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ceive density transition into ventric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1" name="Footer Placeholder 3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HRQ 201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Picture 5" descr=""/>
          <p:cNvPicPr/>
          <p:nvPr/>
        </p:nvPicPr>
        <p:blipFill>
          <a:blip r:embed="rId1"/>
          <a:stretch/>
        </p:blipFill>
        <p:spPr>
          <a:xfrm>
            <a:off x="1447920" y="453960"/>
            <a:ext cx="3504960" cy="6404040"/>
          </a:xfrm>
          <a:prstGeom prst="rect">
            <a:avLst/>
          </a:prstGeom>
          <a:ln w="0">
            <a:noFill/>
          </a:ln>
        </p:spPr>
      </p:pic>
      <p:sp>
        <p:nvSpPr>
          <p:cNvPr id="673" name="TextBox 7"/>
          <p:cNvSpPr/>
          <p:nvPr/>
        </p:nvSpPr>
        <p:spPr>
          <a:xfrm>
            <a:off x="5105520" y="2590920"/>
            <a:ext cx="4343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mmersive Touch®  Sensimmer ® Simul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Footer Placeholder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HRQ 201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75" name="Picture 6" descr="vp"/>
          <p:cNvPicPr/>
          <p:nvPr/>
        </p:nvPicPr>
        <p:blipFill>
          <a:blip r:embed="rId1"/>
          <a:stretch/>
        </p:blipFill>
        <p:spPr>
          <a:xfrm>
            <a:off x="1143000" y="304920"/>
            <a:ext cx="754380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Video</a:t>
            </a: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Footer Placeholder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IMSH 201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The trouble with task trainers…</a:t>
            </a:r>
            <a:endParaRPr b="1" i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No clinical variatio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No range of difficulti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1" name="Footer Placeholder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HRQ 201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5T01:29:01Z</dcterms:created>
  <dc:creator>Mark Gelula</dc:creator>
  <dc:description/>
  <dc:language>en-US</dc:language>
  <cp:lastModifiedBy>Rachel Yudkowsky</cp:lastModifiedBy>
  <cp:lastPrinted>2012-01-29T02:27:00Z</cp:lastPrinted>
  <dcterms:modified xsi:type="dcterms:W3CDTF">2012-09-06T12:46:42Z</dcterms:modified>
  <cp:revision>43</cp:revision>
  <dc:subject/>
  <dc:title>Why Give Feedback?</dc:title>
</cp:coreProperties>
</file>