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CF585-4BC4-4F87-ABF8-18B0C5A0A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478C6-FAA0-4080-8BA9-02FE17FB6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B8856-A909-4D57-82F8-AB7C2D29F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3BF5B-55D0-4D03-B40A-DAE8A2A7F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07DEA-798E-4500-B64B-E0BA0E54E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4D523-D556-48EC-A8E4-22BFA10C1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6727F-90E9-4384-9BB1-4CF660BC4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86F5B-F2E0-44AA-8A95-35549334D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FD721-865A-4781-8224-3CB75E96D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2C9B-1372-457A-A704-AB078437D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DBD91-DB53-4CC3-BAA7-AE7A55B8D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78D30-3C6E-4A50-9467-FB5D2DAE5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8C105-B9BA-46A2-9DA7-63156DE53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2365D-AC2D-418B-ACE8-A89BB271F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4A5F9-CE50-4D87-A1D6-3B05D1F02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8E4C8-6FCA-45B5-81D6-C67DFC3F7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7A9B3-1C99-48C1-8306-8FB2F63A5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9374B-33FE-48D9-9781-09AC21D32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2354D-330D-445B-A6E5-7CC03337B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C6C99-7B35-40E5-A01B-DF4F03915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3A030-769A-4870-BA22-C8A3B854C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A811B-FE83-4BF0-9994-2943DC036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3321E-3D2C-4521-A2EA-F5226D1AF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27874-05CE-49F3-873C-694CFCF65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4C85F-0F10-4183-B5F1-77E33FD6F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CC54E-BBFA-438F-A705-EDAFF943D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96DDD-BB94-47FF-882A-43D43D228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3C0D3-EB5A-473C-99EC-BCC650C39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54B60-9ED7-48D1-98A6-47F38E429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F80C8-6F2B-4975-BA60-6D76175DD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AE10C-EE33-4AAF-AFE1-D6793B662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44356-3CB2-417D-85A2-335248775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E4F53-4D00-4FCD-895C-D6710E96C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1A328-0F4D-4B1E-8453-E9466CBBC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C33D9-DCC9-4AAB-8298-2A060203B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92896-3A94-43DA-B3AC-B8174385D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A5EDC-3F3B-4ACB-ACD2-7AE5B8587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4F3B5-B521-425A-A97E-29E9FEBE3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51D43-5FDD-44AF-A3C0-65EB560BB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08C0B-4DE9-40ED-AAA4-AC9486DAD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4CE1B-EBC9-4997-B884-3032D3C38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2B1FA-0D9B-47C1-983F-CBE0AD81E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FD360-72E6-434B-9E35-CF82B2D21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233B2-9D5F-44FD-A95B-2C1E2F44F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BF2F0-B99D-4718-B234-3E48C996E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EAB80-3FEA-4B43-973E-0926A9430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CC8EB-154C-4C5A-8B1C-987D52126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0D8FB-F8B0-4C72-9233-046A8951A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8F220-AD58-4A28-9A8A-BD57B06AE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2DF7F-0876-4D06-95EA-A2CFE6B65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978AE-D91A-46D1-B5BD-17BA2A933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0FBC4-57B5-4434-A08A-938BE8F3B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21006-DD45-4CFB-B19C-48FC30277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710D0-1342-4960-853C-C3946911A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F3B7F-0E86-4FFC-A923-D2AF37105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6CC9F-41A9-4ACB-A95F-B4B29BB19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0F7D5-738F-45AA-95F2-BCB0ECBF9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C88C7-967F-42C1-9D02-F07B2596A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194A4-1958-4773-8F3A-388FA44C4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F641A-D3FD-430D-9731-EC18D5FA8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EF324-875F-46D2-B46A-EF5157ACB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A98AF-0099-42D3-89F3-FE90D7B9F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EA0E3-F248-4914-85CA-8D9FC4AD6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5547E-E37B-48FC-AFC5-2FD2661B5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7349-C169-4655-91DE-EBEC1EC47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F7E2-2965-40B9-BD95-CE92673C3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9EEF-9D2B-4FFF-B93F-AB6C27F00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EBAE-4700-4938-8BEB-47311E0A9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E699-1272-4A7B-A3D7-9B3B8C757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DE3A-0746-4B50-BD49-24D0FB687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C120-434E-4833-B365-C9E115694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2F59-7FE0-4ADE-B180-2AB9EBD82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9D83-CC03-47BA-9CDD-F0881E67D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1FCF-75CB-4C34-B924-7C9C6732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43F3-16DC-4D50-B3A9-A4FA3223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7576-250A-4C77-B231-FE113ADA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D963A-0ACC-4C9B-AC37-FED82EDF9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roved Patient Safety By Comprehensi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tion-Based Training</a:t>
            </a:r>
            <a:br>
              <a:rPr sz="32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Cardiac Surgery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HRQ 2012 Annual Confer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tember 10, 2012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chard H. Feins, 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essor of Surg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of North Carolina at Chapel H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pel Hill, 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racteristics of Deliberate Pract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reimbur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not be f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 with Patient Care Model of Surgical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ability to actually TRAIN surge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how to handle adverse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merican Board of Thoracic Surgery Case Requirements - 20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enital He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ult valv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ocardial Revas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it harv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rtic procedu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hythmia surge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lant/V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rehensive Simulation Based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Short Cardiac Simulator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d Patient Safety by Simulator Based Training in Cardiac Surgery</a:t>
            </a:r>
            <a:br>
              <a:rPr sz="3200"/>
            </a:b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Cambria"/>
                <a:ea typeface="ＭＳ 明朝"/>
              </a:rPr>
              <a:t>AHRQ Grant # 1R18HS020451-01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diac Surgery Simulation Consort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ity of North Carolina at Chapel Hill (P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achusetts General Hos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hns Hopkins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nderbilt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ity of Roche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o Cli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ford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ity of Washing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liberate Practi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omponent Task Train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ma for Simulation Based Training in Cardiac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the operative procedures to be addre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 each down into smaller component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comprehensive syllabus for simulation based training for each of the component tasks for each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“component task simulators” to allow for training in the component tasks using deliberate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the component tasks mastered into the whole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deliberate practice to master the whole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ss (using OSATS/ 5 point Likert tools) and video record each part of th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HRQ Grant Simulation Module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diopulmonary Bypass (CP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nary Artery Bypass Grafting (CAB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ortic Valve Replacement (AV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lo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ty interest in KindHeart, Inc., a company developed to maximize the use of simulators in surgical and medical education. This does not include any simulators used in the AHRQ gr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ations of instruments and sutures have been made in support of the AHRQ grant by Teleflex, In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HRQ Grant Simulation Modules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ificant Adverse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r Embolism (A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ute Intra-operative Aortic Dissection (AI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dden Deterioration of Cardiac Function (SDC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ma for Simulation Based Training in Cardiac Surg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3581280" y="3352680"/>
            <a:ext cx="1752840" cy="1295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2362320" y="1676520"/>
            <a:ext cx="4038480" cy="914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6400800" y="3352680"/>
            <a:ext cx="1752480" cy="1295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762120" y="3352680"/>
            <a:ext cx="1752480" cy="1295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3"/>
          <p:cNvSpPr/>
          <p:nvPr/>
        </p:nvSpPr>
        <p:spPr>
          <a:xfrm>
            <a:off x="3585600" y="3505320"/>
            <a:ext cx="175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3099600" y="1676520"/>
            <a:ext cx="249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dure 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erse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5"/>
          <p:cNvSpPr/>
          <p:nvPr/>
        </p:nvSpPr>
        <p:spPr>
          <a:xfrm>
            <a:off x="2286000" y="5334120"/>
            <a:ext cx="4038480" cy="914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3048840" y="5334120"/>
            <a:ext cx="249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dure 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erse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2057040" y="2743200"/>
            <a:ext cx="106668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9"/>
          <p:cNvSpPr/>
          <p:nvPr/>
        </p:nvSpPr>
        <p:spPr>
          <a:xfrm>
            <a:off x="4343400" y="26668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0"/>
          <p:cNvSpPr/>
          <p:nvPr/>
        </p:nvSpPr>
        <p:spPr>
          <a:xfrm>
            <a:off x="6019920" y="2743200"/>
            <a:ext cx="9903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1"/>
          <p:cNvSpPr/>
          <p:nvPr/>
        </p:nvSpPr>
        <p:spPr>
          <a:xfrm>
            <a:off x="2133720" y="4800600"/>
            <a:ext cx="10666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2"/>
          <p:cNvSpPr/>
          <p:nvPr/>
        </p:nvSpPr>
        <p:spPr>
          <a:xfrm>
            <a:off x="4343400" y="47242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3"/>
          <p:cNvSpPr/>
          <p:nvPr/>
        </p:nvSpPr>
        <p:spPr>
          <a:xfrm flipH="1">
            <a:off x="6172200" y="4800600"/>
            <a:ext cx="91440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Syllabus title ADOBE"/>
          <p:cNvPicPr/>
          <p:nvPr/>
        </p:nvPicPr>
        <p:blipFill>
          <a:blip r:embed="rId1"/>
          <a:stretch/>
        </p:blipFill>
        <p:spPr>
          <a:xfrm>
            <a:off x="1752480" y="228600"/>
            <a:ext cx="5775480" cy="62485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1676520" y="228600"/>
            <a:ext cx="5790960" cy="640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d Patient Safety by Simulator Based Training in Cardiac Surgery</a:t>
            </a:r>
            <a:br>
              <a:rPr sz="3200"/>
            </a:b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Cambria"/>
                <a:ea typeface="ＭＳ 明朝"/>
              </a:rPr>
              <a:t>AHRQ Grant # 1R18HS020451-01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mbria"/>
                <a:ea typeface="ＭＳ 明朝"/>
              </a:rPr>
              <a:t>Simulation Syllabus for Each Week of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342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and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ing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or(s) Set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 of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ss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CPB Title Adobe"/>
          <p:cNvPicPr/>
          <p:nvPr/>
        </p:nvPicPr>
        <p:blipFill>
          <a:blip r:embed="rId1"/>
          <a:stretch/>
        </p:blipFill>
        <p:spPr>
          <a:xfrm>
            <a:off x="1219320" y="0"/>
            <a:ext cx="6781680" cy="66960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3"/>
          <p:cNvSpPr/>
          <p:nvPr/>
        </p:nvSpPr>
        <p:spPr>
          <a:xfrm>
            <a:off x="1219320" y="228600"/>
            <a:ext cx="6781680" cy="640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CPB Weeks Adobe "/>
          <p:cNvPicPr/>
          <p:nvPr/>
        </p:nvPicPr>
        <p:blipFill>
          <a:blip r:embed="rId1"/>
          <a:stretch/>
        </p:blipFill>
        <p:spPr>
          <a:xfrm>
            <a:off x="762120" y="762120"/>
            <a:ext cx="7467480" cy="55432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457200" y="228600"/>
            <a:ext cx="8077320" cy="640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CPB example1"/>
          <p:cNvPicPr/>
          <p:nvPr/>
        </p:nvPicPr>
        <p:blipFill>
          <a:blip r:embed="rId1"/>
          <a:stretch/>
        </p:blipFill>
        <p:spPr>
          <a:xfrm>
            <a:off x="1600200" y="457200"/>
            <a:ext cx="6400800" cy="60228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1295280" y="228600"/>
            <a:ext cx="6858000" cy="647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CPB Example 2"/>
          <p:cNvPicPr/>
          <p:nvPr/>
        </p:nvPicPr>
        <p:blipFill>
          <a:blip r:embed="rId1"/>
          <a:stretch/>
        </p:blipFill>
        <p:spPr>
          <a:xfrm>
            <a:off x="762120" y="76320"/>
            <a:ext cx="7391160" cy="655308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3"/>
          <p:cNvSpPr/>
          <p:nvPr/>
        </p:nvSpPr>
        <p:spPr>
          <a:xfrm>
            <a:off x="685800" y="76320"/>
            <a:ext cx="7620120" cy="662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VCAF Adobe"/>
          <p:cNvPicPr/>
          <p:nvPr/>
        </p:nvPicPr>
        <p:blipFill>
          <a:blip r:embed="rId1"/>
          <a:stretch/>
        </p:blipFill>
        <p:spPr>
          <a:xfrm>
            <a:off x="1523880" y="380880"/>
            <a:ext cx="586764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CPB Training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roved Patient Safety By Comprehensi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tion-Based Training</a:t>
            </a:r>
            <a:br>
              <a:rPr sz="32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Cardiac Surgery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HRQ 2012 Annual Confer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tember 10, 2012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chard H. Feins, 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essor of Surg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of North Carolina at Chapel H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pel Hill, 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3" descr="Aortic cannula placement"/>
          <p:cNvPicPr/>
          <p:nvPr/>
        </p:nvPicPr>
        <p:blipFill>
          <a:blip r:embed="rId1"/>
          <a:stretch/>
        </p:blipFill>
        <p:spPr>
          <a:xfrm>
            <a:off x="914400" y="380880"/>
            <a:ext cx="6603840" cy="64771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2821320" y="533520"/>
            <a:ext cx="39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ortic Cannula Pla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ute Intra-operative Aortic Dissection (AIA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AIAD Title Adobe"/>
          <p:cNvPicPr/>
          <p:nvPr/>
        </p:nvPicPr>
        <p:blipFill>
          <a:blip r:embed="rId1"/>
          <a:stretch/>
        </p:blipFill>
        <p:spPr>
          <a:xfrm>
            <a:off x="685800" y="609480"/>
            <a:ext cx="7924680" cy="548496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3"/>
          <p:cNvSpPr/>
          <p:nvPr/>
        </p:nvSpPr>
        <p:spPr>
          <a:xfrm>
            <a:off x="380880" y="304920"/>
            <a:ext cx="822960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AIAD Weeks"/>
          <p:cNvPicPr/>
          <p:nvPr/>
        </p:nvPicPr>
        <p:blipFill>
          <a:blip r:embed="rId1"/>
          <a:stretch/>
        </p:blipFill>
        <p:spPr>
          <a:xfrm>
            <a:off x="990720" y="457200"/>
            <a:ext cx="7848360" cy="57150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3"/>
          <p:cNvSpPr/>
          <p:nvPr/>
        </p:nvSpPr>
        <p:spPr>
          <a:xfrm>
            <a:off x="533520" y="228600"/>
            <a:ext cx="8229600" cy="624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AIAD EAP"/>
          <p:cNvPicPr/>
          <p:nvPr/>
        </p:nvPicPr>
        <p:blipFill>
          <a:blip r:embed="rId1"/>
          <a:stretch/>
        </p:blipFill>
        <p:spPr>
          <a:xfrm>
            <a:off x="0" y="154080"/>
            <a:ext cx="8915400" cy="59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aiad partial"/>
          <p:cNvPicPr/>
          <p:nvPr/>
        </p:nvPicPr>
        <p:blipFill>
          <a:blip r:embed="rId1"/>
          <a:stretch/>
        </p:blipFill>
        <p:spPr>
          <a:xfrm>
            <a:off x="1600200" y="0"/>
            <a:ext cx="6073920" cy="6629400"/>
          </a:xfrm>
          <a:prstGeom prst="rect">
            <a:avLst/>
          </a:prstGeom>
          <a:ln w="0">
            <a:noFill/>
          </a:ln>
        </p:spPr>
      </p:pic>
      <p:sp>
        <p:nvSpPr>
          <p:cNvPr id="125" name="Oval 6"/>
          <p:cNvSpPr/>
          <p:nvPr/>
        </p:nvSpPr>
        <p:spPr>
          <a:xfrm>
            <a:off x="914400" y="1905120"/>
            <a:ext cx="6858000" cy="18288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aiad partial"/>
          <p:cNvPicPr/>
          <p:nvPr/>
        </p:nvPicPr>
        <p:blipFill>
          <a:blip r:embed="rId1"/>
          <a:stretch/>
        </p:blipFill>
        <p:spPr>
          <a:xfrm>
            <a:off x="1752480" y="0"/>
            <a:ext cx="6073920" cy="6629400"/>
          </a:xfrm>
          <a:prstGeom prst="rect">
            <a:avLst/>
          </a:prstGeom>
          <a:ln w="0">
            <a:noFill/>
          </a:ln>
        </p:spPr>
      </p:pic>
      <p:sp>
        <p:nvSpPr>
          <p:cNvPr id="127" name="Oval 3"/>
          <p:cNvSpPr/>
          <p:nvPr/>
        </p:nvSpPr>
        <p:spPr>
          <a:xfrm>
            <a:off x="380880" y="2819520"/>
            <a:ext cx="7467840" cy="40384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AIAD AHRQ COMP TASKS-FULL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d Patient Safety by Simulator Based Training in Cardiac Surger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ＭＳ 明朝"/>
              </a:rPr>
              <a:t>AHRQ Grant # 1R18HS020451-01</a:t>
            </a:r>
            <a:br>
              <a:rPr sz="28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Cambria"/>
                <a:ea typeface="ＭＳ 明朝"/>
              </a:rPr>
              <a:t>Year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 Residents particip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11,000 data points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120 individual simulation hours per res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2000 total simulation 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nent task simulators for all component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0 page comprehensive curriculum syllabus wri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ve video library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nges Negatively Impacting the Apprentice Mode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s of the ward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ulty priority change from teaching surgery to doing surg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in  number of married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rease in amount of time allowed in hospit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 with Patient Care Model of Surgical 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pprentice model curriculum depends almost exclusively on what happens to walk through the door for its clinical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 with Patient Care Model of Surgical 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good judgment coming from experience and experience, unfortunately, coming from bad judgment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Scott Hult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North Carolina at Chapel H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blems with Patient Care Model of Surgical Edu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violate the basic principle by which people become masters of a skill 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LIBERATE PRACT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ericsson"/>
          <p:cNvPicPr/>
          <p:nvPr/>
        </p:nvPicPr>
        <p:blipFill>
          <a:blip r:embed="rId1"/>
          <a:stretch/>
        </p:blipFill>
        <p:spPr>
          <a:xfrm>
            <a:off x="380880" y="838080"/>
            <a:ext cx="3741840" cy="51055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4726800" y="2895480"/>
            <a:ext cx="353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. Anders Ericsson, Ph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 of Deliberate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ied out over extended periods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ed by an experienced c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es errors and concentrates on procedures directed at eliminating those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ly moves out of the trainees comfort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a consistent means of evaluating the level of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7T22:12:05Z</dcterms:created>
  <dc:creator>Richard Feins</dc:creator>
  <dc:description/>
  <dc:language>en-US</dc:language>
  <cp:lastModifiedBy>Rental</cp:lastModifiedBy>
  <dcterms:modified xsi:type="dcterms:W3CDTF">2012-09-09T16:36:42Z</dcterms:modified>
  <cp:revision>14</cp:revision>
  <dc:subject/>
  <dc:title>Schema for Simulation Based Training in Cardiac Surgery</dc:title>
</cp:coreProperties>
</file>