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B09B-4C9D-40A6-B78A-CC5DEFC88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213-B948-427B-8D99-01B9495CC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E38B-EF7E-4C15-8DBC-D8E19822A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C43D-2DE6-48BF-88A6-875DBA5BD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DAF2-7C0E-4B0D-BB29-C3ECC24E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757E-AC74-4851-8CA0-0127D413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A7D5-6B21-4AA9-9039-74500F7F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25E4-5F02-4478-8DEC-B554B4C8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FABD-8677-4A42-A758-22C74313D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7CE4-8E24-4AC5-8FAB-76EEFCD43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3A3-92F5-4351-9C46-D6BBFD74E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E33E-32C8-47C2-A6B8-34D49EFA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662F-5393-4FF5-8ABB-C9B958C9D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C523-DD27-42CD-A488-0F684F789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55D9-954B-4978-9730-B5284552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64AD-3B44-421B-BF57-4D06B5982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E18A-C424-4462-BA39-224E9F0AF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C5A8-8148-4A84-8388-D0878AE84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4B44-EF1C-42EE-8A26-E9D2F8343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94A6-7EE5-44DD-8745-EE9BF968D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8A0-6300-4498-BD18-46BD491DA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11A6-0C05-463F-BAEA-5119C0D9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48F9-1A03-42A9-8C67-B5EA03242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55BB-8235-4636-A660-8A36CF539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045C-57C3-46FA-A020-62739D30B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0330-FD5E-4EDF-91AA-07A95E7C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0C56-05EE-494B-8B48-866FBB60B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1458-BADE-4379-BADA-A52B91706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724B-C7B4-4811-9D60-C6A170ACB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52EE-B1AC-4413-B56D-1802FCA6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394C-D71E-42F7-84D7-3BBE4139D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7462-B3F3-4D41-AC8D-780DA264F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3DBE-FF66-43AA-ABBD-27A625589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A5F6-DF99-46B3-A011-DC6238F7E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CBCC-21D2-43EC-8628-6285DFB1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1769-64FC-4FCF-9146-51AD7D32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682C-EB00-469F-BABC-26D65BF1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50DC-CC66-41D8-9FF5-58564638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C263-ECC8-41AC-958E-22728E2B8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8F47-70AB-46F9-9D41-7679DF1C6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C594-BEDA-40A7-AA41-E0E2012B1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E389-2022-4215-8A3F-63541F03E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E8AD-5D07-47B6-849F-5F28DBF9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0BC-62F5-461E-B343-3FCADD405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89D1-57BE-49C1-A682-FD16C0AC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0E96-9430-4637-9E34-F3C28F300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E7BC-1E0A-4D9D-95FA-C7EBD1764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FDE1-603B-4371-9FC2-713EEA335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9E16-62BA-44F0-B165-F0874C0C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D52C-68D7-4726-B7FF-57EBE16B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E8E0-F928-43E5-84B2-61E7D7E90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3A32-54BA-4638-BBAC-EF3862EDC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1E22-BA21-4260-A0AA-3C7364A2D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9180-1284-4BEC-8014-91D7B83C4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6047-12AF-4C03-B254-ADC2E99F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D454-8AA1-4D92-AC23-F5AFBD910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A4B5-1786-4AF9-8C16-216D6E9D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9400-5FD3-441D-B3AD-7366A31F5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E035-44E3-49A1-873D-DC9AC72E6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079F-1521-47A4-9AE9-6C037051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E826-ED4F-4328-9849-98CDE9AFE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A6C1-31CF-4866-9325-9BE46E827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68E9-9BF7-4ABB-81BA-DC314261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1DB8-2320-4F84-A5A5-6BB36D1CB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AE5-423A-48C4-9B64-11D10AE7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162-7129-48E1-B74A-08FABDAE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047-3FB9-4F1C-845E-C1740BE0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13C-7BC8-4382-A1FD-3FB2987D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B7D-1BB1-4CBE-8C73-334D5F3E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3FE-CE89-45C5-AD8A-B25B2E4B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866-A4CA-48C1-BAA7-2B6223AB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389-104E-4971-866D-C0F8FEA0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799-0DB0-4DBD-BC2E-1FF28DD4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BEF-24D7-4B8B-ACF9-9BF68E45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413-A77A-46ED-AF87-7C8C9612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FB6-3C3C-40AE-82F4-9236DED1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F8D3-046F-4914-BFCB-CD13DD2A7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d Patient Safety By Comprehens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-Based Training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ardiac Surger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2012 Annual Con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0, 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H. Feins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 of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Chapel 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el Hill, 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Deliberate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imbu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ot be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Patient Care Model of Surgic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ability to actually TRAIN surge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how to handle advers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can Board of Thoracic Surgery Case Requirements - 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nital He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 val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cardial Reva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it harv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proced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hythmia sur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lant/V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ehensive Simulation Base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ort Cardiac Simulator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Patient Safety by Simulator Based Training in Cardiac Surgery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明朝"/>
              </a:rPr>
              <a:t>AHRQ Grant # 1R18HS020451-0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ac Surgery Simulation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North Carolina at Chapel Hill (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achusetts General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s Hopkins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derbilt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Roch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iberate 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ponent Task Tra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 for Simulation Based Training in Cardiac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operative procedures to be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each down into smaller componen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comprehensive syllabus for simulation based training for each of the component tasks for each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“component task simulators” to allow for training in the component tasks using deliberate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the component tasks mastered into the whol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liberate practice to master the whol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(using OSATS/ 5 point Likert tools) and video record each part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RQ Grant Simulation Modu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pulmonary Bypass (CP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nary Artery Bypass Grafting (CAB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rtic Valve Replacement (AV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o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y interest in KindHeart, Inc., a company developed to maximize the use of simulators in surgical and medical education. This does not include any simulators used in the AHRQ 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ations of instruments and sutures have been made in support of the AHRQ grant by Teleflex, 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RQ Grant Simulation Modul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Advers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Embolism (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Intra-operative Aortic Dissection (AI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Deterioration of Cardiac Function (SDC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ma for Simulation Based Training in Cardiac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581280" y="3352680"/>
            <a:ext cx="175284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362320" y="1676520"/>
            <a:ext cx="40384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400800" y="3352680"/>
            <a:ext cx="175248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762120" y="3352680"/>
            <a:ext cx="175248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3585600" y="3505320"/>
            <a:ext cx="17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099600" y="1676520"/>
            <a:ext cx="24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2286000" y="5334120"/>
            <a:ext cx="40384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3048840" y="5334120"/>
            <a:ext cx="24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2057040" y="274320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4343400" y="2666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6019920" y="2743200"/>
            <a:ext cx="9903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2133720" y="4800600"/>
            <a:ext cx="10666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4343400" y="47242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 flipH="1">
            <a:off x="6172200" y="480060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yllabus title ADOBE"/>
          <p:cNvPicPr/>
          <p:nvPr/>
        </p:nvPicPr>
        <p:blipFill>
          <a:blip r:embed="rId1"/>
          <a:stretch/>
        </p:blipFill>
        <p:spPr>
          <a:xfrm>
            <a:off x="1752480" y="228600"/>
            <a:ext cx="577548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676520" y="228600"/>
            <a:ext cx="579096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Patient Safety by Simulator Based Training in Cardiac Surgery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明朝"/>
              </a:rPr>
              <a:t>AHRQ Grant # 1R18HS020451-01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ＭＳ 明朝"/>
              </a:rPr>
              <a:t>Simulation Syllabus for Each Week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or(s) Set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PB Title Adobe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696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1219320" y="228600"/>
            <a:ext cx="678168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PB Weeks Adobe 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543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7200" y="228600"/>
            <a:ext cx="80773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PB example1"/>
          <p:cNvPicPr/>
          <p:nvPr/>
        </p:nvPicPr>
        <p:blipFill>
          <a:blip r:embed="rId1"/>
          <a:stretch/>
        </p:blipFill>
        <p:spPr>
          <a:xfrm>
            <a:off x="1600200" y="457200"/>
            <a:ext cx="6400800" cy="6022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1295280" y="228600"/>
            <a:ext cx="685800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PB Example 2"/>
          <p:cNvPicPr/>
          <p:nvPr/>
        </p:nvPicPr>
        <p:blipFill>
          <a:blip r:embed="rId1"/>
          <a:stretch/>
        </p:blipFill>
        <p:spPr>
          <a:xfrm>
            <a:off x="762120" y="76320"/>
            <a:ext cx="7391160" cy="6553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685800" y="76320"/>
            <a:ext cx="762012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VCAF Adobe"/>
          <p:cNvPicPr/>
          <p:nvPr/>
        </p:nvPicPr>
        <p:blipFill>
          <a:blip r:embed="rId1"/>
          <a:stretch/>
        </p:blipFill>
        <p:spPr>
          <a:xfrm>
            <a:off x="1523880" y="380880"/>
            <a:ext cx="58676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PB Training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d Patient Safety By Comprehens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-Based Training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ardiac Surger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2012 Annual Con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0, 201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H. Feins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 of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Chapel 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el Hill, 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Aortic cannula placement"/>
          <p:cNvPicPr/>
          <p:nvPr/>
        </p:nvPicPr>
        <p:blipFill>
          <a:blip r:embed="rId1"/>
          <a:stretch/>
        </p:blipFill>
        <p:spPr>
          <a:xfrm>
            <a:off x="914400" y="380880"/>
            <a:ext cx="6603840" cy="6477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2821320" y="53352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rtic Cannula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te Intra-operative Aortic Dissection (AIA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AIAD Title Adobe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4849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380880" y="3049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AIAD Weeks"/>
          <p:cNvPicPr/>
          <p:nvPr/>
        </p:nvPicPr>
        <p:blipFill>
          <a:blip r:embed="rId1"/>
          <a:stretch/>
        </p:blipFill>
        <p:spPr>
          <a:xfrm>
            <a:off x="990720" y="457200"/>
            <a:ext cx="78483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533520" y="22860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IAD EAP"/>
          <p:cNvPicPr/>
          <p:nvPr/>
        </p:nvPicPr>
        <p:blipFill>
          <a:blip r:embed="rId1"/>
          <a:stretch/>
        </p:blipFill>
        <p:spPr>
          <a:xfrm>
            <a:off x="0" y="154080"/>
            <a:ext cx="89154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aiad partial"/>
          <p:cNvPicPr/>
          <p:nvPr/>
        </p:nvPicPr>
        <p:blipFill>
          <a:blip r:embed="rId1"/>
          <a:stretch/>
        </p:blipFill>
        <p:spPr>
          <a:xfrm>
            <a:off x="1600200" y="0"/>
            <a:ext cx="6073920" cy="6629400"/>
          </a:xfrm>
          <a:prstGeom prst="rect">
            <a:avLst/>
          </a:prstGeom>
          <a:ln w="0">
            <a:noFill/>
          </a:ln>
        </p:spPr>
      </p:pic>
      <p:sp>
        <p:nvSpPr>
          <p:cNvPr id="125" name="Oval 6"/>
          <p:cNvSpPr/>
          <p:nvPr/>
        </p:nvSpPr>
        <p:spPr>
          <a:xfrm>
            <a:off x="914400" y="1905120"/>
            <a:ext cx="685800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aiad partial"/>
          <p:cNvPicPr/>
          <p:nvPr/>
        </p:nvPicPr>
        <p:blipFill>
          <a:blip r:embed="rId1"/>
          <a:stretch/>
        </p:blipFill>
        <p:spPr>
          <a:xfrm>
            <a:off x="1752480" y="0"/>
            <a:ext cx="6073920" cy="6629400"/>
          </a:xfrm>
          <a:prstGeom prst="rect">
            <a:avLst/>
          </a:prstGeom>
          <a:ln w="0">
            <a:noFill/>
          </a:ln>
        </p:spPr>
      </p:pic>
      <p:sp>
        <p:nvSpPr>
          <p:cNvPr id="127" name="Oval 3"/>
          <p:cNvSpPr/>
          <p:nvPr/>
        </p:nvSpPr>
        <p:spPr>
          <a:xfrm>
            <a:off x="380880" y="2819520"/>
            <a:ext cx="7467840" cy="4038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AIAD AHRQ COMP TASKS-FULL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Patient Safety by Simulator Based Training in Cardiac Surger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ＭＳ 明朝"/>
              </a:rPr>
              <a:t>AHRQ Grant # 1R18HS020451-01</a:t>
            </a:r>
            <a:br>
              <a:rPr sz="28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  <a:ea typeface="ＭＳ 明朝"/>
              </a:rPr>
              <a:t>Yea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Residents particip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1,000 data points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20 individual simulation hours per 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2000 total simulation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task simulators for all component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 page comprehensive curriculum syllabu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video library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Negatively Impacting the Apprentice Mod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the war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y priority change from teaching surgery to doing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 number of married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amount of time allowed in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Patient Care Model of Surgic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rentice model curriculum depends almost exclusively on what happens to walk through the door for its clinical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Patient Care Model of Surgical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good judgment coming from experience and experience, unfortunately, coming from bad judgmen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Scott Hult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North Carolina at Chapel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with Patient Care Model of Surgic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violate the basic principle by which people become masters of a skill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IBERATE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ricsson"/>
          <p:cNvPicPr/>
          <p:nvPr/>
        </p:nvPicPr>
        <p:blipFill>
          <a:blip r:embed="rId1"/>
          <a:stretch/>
        </p:blipFill>
        <p:spPr>
          <a:xfrm>
            <a:off x="380880" y="838080"/>
            <a:ext cx="3741840" cy="5105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4726800" y="289548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. Anders Ericsson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Deliberate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over extended periods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an experienced c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errors and concentrates on procedures directed at eliminating thos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ly moves out of the trainees comfor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consistent means of evaluating the level o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22:12:05Z</dcterms:created>
  <dc:creator>Richard Feins</dc:creator>
  <dc:description/>
  <dc:language>en-US</dc:language>
  <cp:lastModifiedBy>Rental</cp:lastModifiedBy>
  <dcterms:modified xsi:type="dcterms:W3CDTF">2012-09-09T16:36:42Z</dcterms:modified>
  <cp:revision>14</cp:revision>
  <dc:subject/>
  <dc:title>Schema for Simulation Based Training in Cardiac Surgery</dc:title>
</cp:coreProperties>
</file>