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93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94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95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Object 109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10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01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102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Line 103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6" name="Object 111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43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Impact of National Health Reform on Adults with Mental Disord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1920" y="396216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Rachel L. Garfield, Ph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epartment of Health Policy &amp; Managemen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iversity of Pittsburgh Graduate School of Public H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muel H. Zuvekas, Ph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gency for Healthcare Research &amp; 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dith R. Lave, Ph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Julie Donohue, Ph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epartment of Health Policy &amp; Managemen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iversity of Pittsburgh Graduate School of Public H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tribution of Adults 18-64 by Health Insurance Statu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2280" y="1523880"/>
          <a:ext cx="86868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3880"/>
                    <a:ext cx="86868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447920" y="304920"/>
            <a:ext cx="66974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tribution of Adults 18-64 &lt;133% FPL by Insura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447920"/>
          <a:ext cx="914400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tribution of Adults 18-64 133-400% FPL by Insura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1295280"/>
          <a:ext cx="914400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69343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se of Mental Health Services Among Adults 18-64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43000" y="1676520"/>
          <a:ext cx="65628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65628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Rectangle 4"/>
          <p:cNvGraphicFramePr/>
          <p:nvPr/>
        </p:nvGraphicFramePr>
        <p:xfrm>
          <a:off x="228600" y="152280"/>
          <a:ext cx="8610480" cy="645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9" name="Rectangle 4" descr="Figure 2 &#13;&#10;Simulated Post-Reform Health Insurance&#13;&#10;Coverage of Currently Uninsured Nonelderly&#13;&#10;Adults by Mental Health Status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8610480" cy="64566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61718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Figure 2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62120" y="76320"/>
          <a:ext cx="7848360" cy="6476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2" name="" descr="Figure 3&#13;&#10;Simulated Impact of Reform on Health Insurance&#13;&#10;Coverage of Nonelderly Adults with Depression&#13;&#10;or Serious Psychological Distress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320"/>
                    <a:ext cx="7848360" cy="647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5120" y="6705360"/>
            <a:ext cx="6697440" cy="11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Figure 3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4674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mulated Impact of Reform on Mental Health Service Use:  Uninsured &lt;133% FP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676520"/>
          <a:ext cx="807732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07732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mulated Impact of Reform on Mental Health Use: Uninsured 133-400% FP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76520"/>
          <a:ext cx="807732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07732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297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ults with mental disorders have lower incomes and are more likely to be uninsured than their counterp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ults with mental disorders are significantly more likely to be enrolled in Medicare and/or Medicaid than those without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one-quarter of individuals with mental disorders who lack insurance coverage for the full year had any mental health service use in 2004-2006 compared to approximately half of those with covera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reform is fully implemented, we estimate 3.7 million currently uninsured individuals with mental disorders will gain coverage, with approximately one-third covered under Medic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estimate that use of mental health treatment could double among those previously uninsu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lic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reform is likely to have a significant impact on coverage and use of services among adults with mental disorde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depend on implementation and capacity of mental health system to absorb increased dem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insurance programs that currently play a major role in financing mental health services will play an even greater role post-refor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-4557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urance coverage important determinant of access to mental health treatment (Landerman et al 1994, Zuvekas 1999, McAlpine and Mechanic 2000, Kessler et al. 2005, Roy-Byrne et al 2009)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tential for significant impact of the Patient Protection and Affordable Care Act of 2010 on individuals with mental disord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133 % of Federal Poverty Line (FPL) eligible for Medic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33-400% of FPL eligible for exchange subsidi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ity in Mental Health Cove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 current sources of insurance coverage and use of mental health services among adults with mental disorder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ulate post-reform chang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insurance cover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al health treatmen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Source: MEP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l Expenditure Panel Survey (2004-200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nationally, representative 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variab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 insurance cove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ly income and poverty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tal health treatment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tal health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led to increase prec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=51,080 adults aged 18-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: Key Variab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450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tal Health Status (Adult SAQ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Q-2 2-Item Depression Screen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PHQ-2&gt;=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6 General Psychological Distress (K6&gt;=1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 In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Health Insurance Eligibility Un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133%,133-400%, 400+ of pov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: Key Variables (con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450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Insurance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re (including dual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year priv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year Medica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nsured part-ye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nsured full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tal Health Treatmen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inpatient, hospital outpatient, ED, office or clinic visit, or prescription drug fill for mental health reas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t-Reform Simulation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surance Coverag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y CBO assumptions on takeup rat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9% decrease overall in the unins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133% of FPL uninsured switch to Medic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133% of FPL uninsured switch into Private cover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rollment in Medicare s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96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t-Reform Simulation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ntal Health Treatment U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ression model of the impact of health insurance coverage on use of 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istic reg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s for age, race/ethnicity, sex, education, region and MSA, family income, insurance status, mental health status, physical health status, attitudes and preferences towards insurance and health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apply CBO assumptions on take-up 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tribution of Adults 18-64 by Poverty Statu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62120" y="1371600"/>
          <a:ext cx="7530840" cy="483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71600"/>
                    <a:ext cx="753084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dc:language>en-US</dc:language>
  <cp:lastModifiedBy>Kim Gretka</cp:lastModifiedBy>
  <cp:lastPrinted>2003-01-21T20:19:23Z</cp:lastPrinted>
  <dcterms:modified xsi:type="dcterms:W3CDTF">2010-10-15T23:51:53Z</dcterms:modified>
  <cp:revision>314</cp:revision>
  <dc:subject/>
  <dc:title>AHRQ Slide Template 2004</dc:title>
</cp:coreProperties>
</file>