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9"/>
          <p:cNvSpPr/>
          <p:nvPr/>
        </p:nvSpPr>
        <p:spPr>
          <a:xfrm>
            <a:off x="8381880" y="6324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8445240" y="65070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5A17-38F4-4109-8861-6438BBA67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Line 5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ealthit.ahrq.gov/consumerhitneed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Personal Health Information Management and Design of Consumer Health IT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85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mmarized literature regarding patients' personal health information management (PHIM) practices and its linkage to effective development and use of consumer health 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85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ducted a secondary analysis of the Medical Expenditure Panel Survey (MEPS) to understand how households who received medical services kept records of those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85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vened a multidisciplinary expert workshop to establish an agenda to move the field forw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85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a final report that includes a framework for studying this topic and recommendations for ongoing research, implementation, and policy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7680" indent="0" algn="ct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b: </a:t>
            </a: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healthit.ahrq.gov/consumerhitneeds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2:54:30Z</dcterms:created>
  <dc:creator>McNeill</dc:creator>
  <dc:description/>
  <dc:language>en-US</dc:language>
  <cp:lastModifiedBy>Kim Gretka</cp:lastModifiedBy>
  <cp:lastPrinted>2010-02-16T21:12:58Z</cp:lastPrinted>
  <dcterms:modified xsi:type="dcterms:W3CDTF">2010-10-19T01:58:20Z</dcterms:modified>
  <cp:revision>234</cp:revision>
  <dc:subject/>
  <dc:title>Slide 1</dc:title>
</cp:coreProperties>
</file>