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116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116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 study in primary car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882960" y="0"/>
            <a:ext cx="2975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882960" y="8827920"/>
            <a:ext cx="2975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8827920"/>
            <a:ext cx="2971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28880" cy="34732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116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360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61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360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61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E491-174D-4D12-9844-EBF24EDA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8B49-367C-4331-805F-0C346C97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0435-1A37-45C8-82F2-3810C83C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672A-2E97-4D5D-B602-250EA99A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D6F1-CF2F-433D-81A0-F926A754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212C-8D1F-461A-8458-1DC4EE1E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3D3B-12AC-46F0-9A83-FA8FE4BE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B0BC-A2FA-40CC-BD24-5A3F1462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B052-1574-48B5-BBBD-10293968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00FA-CE9A-4D60-A87A-043842C5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8BDE-6B61-4343-B87B-926257D0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0360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161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907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0360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161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E04E-5482-44C4-B007-AD2D9BA0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195120" y="1371600"/>
            <a:ext cx="7647120" cy="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1C8F-4316-4A70-9C92-20ACB100E61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9"/>
          <p:cNvSpPr/>
          <p:nvPr/>
        </p:nvSpPr>
        <p:spPr>
          <a:xfrm rot="10800000">
            <a:off x="0" y="3123720"/>
            <a:ext cx="9144000" cy="2819520"/>
          </a:xfrm>
          <a:prstGeom prst="rect">
            <a:avLst/>
          </a:prstGeom>
          <a:gradFill rotWithShape="0">
            <a:gsLst>
              <a:gs pos="0">
                <a:srgbClr val="adc2eb"/>
              </a:gs>
              <a:gs pos="100000">
                <a:srgbClr val="7070ff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81"/>
                </a:solidFill>
                <a:latin typeface="Arial"/>
              </a:rPr>
              <a:t>Intervention in Primary Care for Obese Children</a:t>
            </a:r>
            <a:br>
              <a:rPr sz="4000"/>
            </a:br>
            <a:r>
              <a:rPr b="1" lang="en-US" sz="4000" spc="-1" strike="noStrike">
                <a:solidFill>
                  <a:srgbClr val="ffff81"/>
                </a:solidFill>
                <a:latin typeface="Arial"/>
              </a:rPr>
              <a:t>AHRQ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ffff81"/>
                </a:solidFill>
                <a:latin typeface="Arial"/>
              </a:rPr>
              <a:t>Ellen R. Wald, M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AFCH.png"/>
          <p:cNvPicPr/>
          <p:nvPr/>
        </p:nvPicPr>
        <p:blipFill>
          <a:blip r:embed="rId1"/>
          <a:stretch/>
        </p:blipFill>
        <p:spPr>
          <a:xfrm>
            <a:off x="533520" y="4267080"/>
            <a:ext cx="3406680" cy="1473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UWSMPH Logo.png"/>
          <p:cNvPicPr/>
          <p:nvPr/>
        </p:nvPicPr>
        <p:blipFill>
          <a:blip r:embed="rId2"/>
          <a:stretch/>
        </p:blipFill>
        <p:spPr>
          <a:xfrm>
            <a:off x="4800600" y="3840120"/>
            <a:ext cx="3828960" cy="1341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1143000" y="6095880"/>
            <a:ext cx="716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flict of Interest:  I have no relationships to declare. I do not intend to reference unlabeled/unapproved uses of drugs or product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tervention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-based (one parent or guardian required to attend all sessions with child) behavioral weigh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 weekly se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rate parent and child group 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ef individual family coaching week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“additional” sessions at 2-3 week interv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ivered by two master’s prepared Grad students supervised by Sr. Psycholog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terven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ster sessions every 3 months until 2 years were comple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sletter every mon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cused on nutrition and 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althy rec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uggested meal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ecreational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ent of Group Ses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6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mportance of self-monitorin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6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ating plan/food reference guide/portion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6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mportance of limit setting, positive reinforcement and parenting skills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6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Decrease sedentary and increase physical activity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6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reating a successful eating and physical activity environment = stimulus contro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6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Planning for special event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oplight Die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Gree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o ahea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trient dense, lower calo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500"/>
                </a:solidFill>
                <a:latin typeface="Arial"/>
              </a:rPr>
              <a:t>Yellow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ceed with ca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trient adequate, more cal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-Stop!!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ink before you 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in fat, sugar, and “empty” cal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stein &amp; Squires, 19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Object 4" descr=""/>
          <p:cNvPicPr/>
          <p:nvPr/>
        </p:nvPicPr>
        <p:blipFill>
          <a:blip r:embed="rId1"/>
          <a:stretch/>
        </p:blipFill>
        <p:spPr>
          <a:xfrm>
            <a:off x="6705720" y="1523880"/>
            <a:ext cx="177624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verall Behavioral Targe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34452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 intake of high fat, low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trient value f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34452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intake of low fat, hig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trient value f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34452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 sedentary behavi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34452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activity and exerc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cedures and outcome measur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, height, BMI at e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, height, BMI at base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, height, BMI and BMI z-score at 15 wks, 12 and 24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let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children who attended 6 of 8 weekly sessions and at least one of 3 follow-up sessions within original 11 session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atistical Ana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ention vs Control 15 wee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ention pre and post (baselin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 weeks, 12 months, 24 mon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Intention to t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Per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2" name="Diagram 4" descr=""/>
          <p:cNvPicPr/>
          <p:nvPr/>
        </p:nvPicPr>
        <p:blipFill>
          <a:blip r:embed="rId1"/>
          <a:stretch/>
        </p:blipFill>
        <p:spPr>
          <a:xfrm>
            <a:off x="378000" y="1401840"/>
            <a:ext cx="808956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4" name=" 1" descr=""/>
          <p:cNvPicPr/>
          <p:nvPr/>
        </p:nvPicPr>
        <p:blipFill>
          <a:blip r:embed="rId1"/>
          <a:stretch/>
        </p:blipFill>
        <p:spPr>
          <a:xfrm>
            <a:off x="463680" y="1352520"/>
            <a:ext cx="82296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hild Characteristic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90720" y="1676520"/>
          <a:ext cx="7727760" cy="4114800"/>
        </p:xfrm>
        <a:graphic>
          <a:graphicData uri="http://schemas.openxmlformats.org/drawingml/2006/table">
            <a:tbl>
              <a:tblPr/>
              <a:tblGrid>
                <a:gridCol w="2576520"/>
                <a:gridCol w="2574720"/>
                <a:gridCol w="25765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en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 (yr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Fema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Caucasi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Any colle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esity in children, adolescents and adults has increased dramatically during the last two dec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esity in children is a key predictor of obesity in adolescents and adul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osocial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l co-morbid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come at 15 weeks (P=0.18)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tention to treat analysis BMI-z sco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066680" y="2133720"/>
          <a:ext cx="7651800" cy="3124080"/>
        </p:xfrm>
        <a:graphic>
          <a:graphicData uri="http://schemas.openxmlformats.org/drawingml/2006/table">
            <a:tbl>
              <a:tblPr/>
              <a:tblGrid>
                <a:gridCol w="2551320"/>
                <a:gridCol w="2549520"/>
                <a:gridCol w="2550960"/>
              </a:tblGrid>
              <a:tr h="111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erven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=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=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l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3 (.2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7 (.2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 week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3 (.29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4 (.2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utcome at 15 weeks (P=0.006)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er protocol analysis for BMI-z scor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066680" y="2133720"/>
          <a:ext cx="7651800" cy="3182760"/>
        </p:xfrm>
        <a:graphic>
          <a:graphicData uri="http://schemas.openxmlformats.org/drawingml/2006/table">
            <a:tbl>
              <a:tblPr/>
              <a:tblGrid>
                <a:gridCol w="2551320"/>
                <a:gridCol w="2549520"/>
                <a:gridCol w="2550960"/>
              </a:tblGrid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erven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=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=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l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9 (.2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7 (.2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 week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5 (.28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4 (.2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eight change from baseline to 15 week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90720" y="1676520"/>
          <a:ext cx="7727760" cy="4114800"/>
        </p:xfrm>
        <a:graphic>
          <a:graphicData uri="http://schemas.openxmlformats.org/drawingml/2006/table">
            <a:tbl>
              <a:tblPr/>
              <a:tblGrid>
                <a:gridCol w="3863880"/>
                <a:gridCol w="386388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alysis Grou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ight change (lb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ntion-to-tre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4 </a:t>
                      </a: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5.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protoc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.4 </a:t>
                      </a: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5.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3.5 </a:t>
                      </a: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4.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eight Change in Control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4" name="Content Placeholder 3" descr=""/>
          <p:cNvPicPr/>
          <p:nvPr/>
        </p:nvPicPr>
        <p:blipFill>
          <a:blip r:embed="rId1"/>
          <a:stretch/>
        </p:blipFill>
        <p:spPr>
          <a:xfrm>
            <a:off x="444600" y="1663560"/>
            <a:ext cx="828504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eight Change in Complete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6" name="Content Placeholder 3" descr=""/>
          <p:cNvPicPr/>
          <p:nvPr/>
        </p:nvPicPr>
        <p:blipFill>
          <a:blip r:embed="rId1"/>
          <a:stretch/>
        </p:blipFill>
        <p:spPr>
          <a:xfrm>
            <a:off x="371520" y="1663560"/>
            <a:ext cx="835812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828800" y="533520"/>
            <a:ext cx="51768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we learne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 in the intervention group who were ‘completers’ achieved a significant reduction in BMI-z score compared to control children at 15 week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8% of those who began the program maintained a significant reduction in BMI-z score for 24 months after en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we learne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results were comparable to those observed when a similar study was performed with nurses rather than psychologists as “counselor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ries considered labor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plight diet too restri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we recommen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earlier than 8 or 9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eralize “diet” and stress portion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enance phase must be more frequent than every 3 mon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ddressing Child Nutrition and Physical Activity in the Primary Care Setting 2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 Investigator: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len R. Wald, M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Investigator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da J. Ewing, Ph.D., 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Coordinator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cey Moyer, 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Staff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di Sigmund, P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nnifer Lindwall, 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oka Salstrom, P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helle Jennings-Johnson, M.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ura Fillingame Knudtson P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: Agency for Healthcare Research and Qual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care is an appropriate setting to impact overweight children/fami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seen frequently for preventive and acute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s available for counse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to show periodic counseling can effect weight loss eff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previous study demonstrated beneficial outcome for program delivered by “in office”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ddressing Child Nutrition and Physical Activity in Pediatric Primary Ca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ecific Aim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ssess the outcome of providing an intervention for overweight children and their families in the primary care setting by professionals trained in behavioral management following a standardized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2133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ligibil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990720" y="1676520"/>
            <a:ext cx="723888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287280"/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tudy Participant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287280"/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 we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287280"/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9 and 12 years of 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287280"/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M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9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rcentile for age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g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287280"/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d a parent or caregiver who was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ing to participate with the ch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e medical condition such as pseudotumor cerebri, sleep apnea,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gnitive impairments-prohibiting parti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ntry to program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ly referred from primary care provider (PC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of EMR – informational letter from PCP inviting them to call the study coordin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cruit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as anticipated that eligible children would be recruited in summer and randomized 1:2 (treatmen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s treatmen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rual slow – recruitment cont’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children able to begin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required to wait became “control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cruit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random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ystematic b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 initially in control group who eventually joined intervention are not included in the analysis of the intervention group that is shown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1T09:53:32Z</dcterms:created>
  <dc:creator>Michel Makaroun</dc:creator>
  <dc:description/>
  <cp:keywords/>
  <dc:language>en-US</dc:language>
  <cp:lastModifiedBy>CWeschler</cp:lastModifiedBy>
  <cp:lastPrinted>1998-08-26T12:44:11Z</cp:lastPrinted>
  <dcterms:modified xsi:type="dcterms:W3CDTF">2012-03-30T18:16:37Z</dcterms:modified>
  <cp:revision>172</cp:revision>
  <dc:subject/>
  <dc:title>No Slide Title</dc:title>
</cp:coreProperties>
</file>