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116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116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study in primary car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882960" y="0"/>
            <a:ext cx="2975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82960" y="8827920"/>
            <a:ext cx="2975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8827920"/>
            <a:ext cx="2971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116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00E-62F1-4136-8013-1EAD5C83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2A8-CFB7-4504-BE4D-659C2E51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D3B-93D5-482C-B2F6-C9AA6B8F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93C-1ACA-46B9-A1E1-029AC151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795-1F92-469A-9C07-551D0489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281-B3C0-4C6C-B690-2C5C55D1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340-496F-47AB-8634-7A6B51E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9F8-1A51-4F11-B1EB-46F8B3E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079-CF42-47D6-A263-258F1CDE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C1B-7FAF-495C-B66C-7EBA3CD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993-EF84-4074-B8D7-583A9EC8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12C-52E6-4AFC-A0D9-A2C68C57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195120" y="1371600"/>
            <a:ext cx="764712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8174-4B1C-4E31-B7CF-0A75F505F7C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 rot="10800000">
            <a:off x="0" y="3123720"/>
            <a:ext cx="9144000" cy="2819520"/>
          </a:xfrm>
          <a:prstGeom prst="rect">
            <a:avLst/>
          </a:prstGeom>
          <a:gradFill rotWithShape="0">
            <a:gsLst>
              <a:gs pos="0">
                <a:srgbClr val="adc2eb"/>
              </a:gs>
              <a:gs pos="100000">
                <a:srgbClr val="7070f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81"/>
                </a:solidFill>
                <a:latin typeface="Arial"/>
              </a:rPr>
              <a:t>Intervention in Primary Care for Obese Children</a:t>
            </a:r>
            <a:br>
              <a:rPr sz="4000"/>
            </a:br>
            <a:r>
              <a:rPr b="1" lang="en-US" sz="4000" spc="-1" strike="noStrike">
                <a:solidFill>
                  <a:srgbClr val="ffff81"/>
                </a:solidFill>
                <a:latin typeface="Arial"/>
              </a:rPr>
              <a:t>AHRQ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81"/>
                </a:solidFill>
                <a:latin typeface="Arial"/>
              </a:rPr>
              <a:t>Ellen R. Wald, M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AFCH.png"/>
          <p:cNvPicPr/>
          <p:nvPr/>
        </p:nvPicPr>
        <p:blipFill>
          <a:blip r:embed="rId1"/>
          <a:stretch/>
        </p:blipFill>
        <p:spPr>
          <a:xfrm>
            <a:off x="533520" y="4267080"/>
            <a:ext cx="3406680" cy="147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UWSMPH Logo.png"/>
          <p:cNvPicPr/>
          <p:nvPr/>
        </p:nvPicPr>
        <p:blipFill>
          <a:blip r:embed="rId2"/>
          <a:stretch/>
        </p:blipFill>
        <p:spPr>
          <a:xfrm>
            <a:off x="4800600" y="3840120"/>
            <a:ext cx="3828960" cy="1341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1143000" y="609588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lict of Interest:  I have no relationships to declare. I do not intend to reference unlabeled/unapproved uses of drugs or product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rvention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-based (one parent or guardian required to attend all sessions with child) behavioral weigh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weekly s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 parent and child group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individual family coaching week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“additional” sessions at 2-3 week interv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vered by two master’s prepared Grad students supervised by Sr. 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er sessions every 3 months until 2 years wer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letter every mo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cused on nutrition and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althy rec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ggested mea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creationa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ent of Group Ses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mportance of self-monitor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ating plan/food reference guide/porti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mportance of limit setting, positive reinforcement and parenting skills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crease sedentary and increase physical activit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reating a successful eating and physical activity environment = stimulus contro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lanning for special event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oplight Die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ee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 ahe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 dense, lower calo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500"/>
                </a:solidFill>
                <a:latin typeface="Arial"/>
              </a:rPr>
              <a:t>Yellow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ceed with 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 adequate, more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-Stop!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nk before you 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in fat, sugar, and “empty”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stein &amp; Squires, 19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77624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verall Behavioral Targe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452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take of high fat, low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 value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452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take of low fat, hig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 value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452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sedentary behavi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452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activity and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cedures and outcome meas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, height, BMI at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, height, BMI at bas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, height, BMI and BMI z-score at 15 wks, 12 and 24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t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hildren who attended 6 of 8 weekly sessions and at least one of 3 follow-up sessions within original 11 session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atistical 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vs Control 15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pre and post (baseli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weeks, 12 months, 24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Intention to 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Per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" name="Diagram 4" descr=""/>
          <p:cNvPicPr/>
          <p:nvPr/>
        </p:nvPicPr>
        <p:blipFill>
          <a:blip r:embed="rId1"/>
          <a:stretch/>
        </p:blipFill>
        <p:spPr>
          <a:xfrm>
            <a:off x="378000" y="1401840"/>
            <a:ext cx="80895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 1" descr=""/>
          <p:cNvPicPr/>
          <p:nvPr/>
        </p:nvPicPr>
        <p:blipFill>
          <a:blip r:embed="rId1"/>
          <a:stretch/>
        </p:blipFill>
        <p:spPr>
          <a:xfrm>
            <a:off x="463680" y="1352520"/>
            <a:ext cx="8229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ild Characteris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1676520"/>
          <a:ext cx="7727760" cy="4114800"/>
        </p:xfrm>
        <a:graphic>
          <a:graphicData uri="http://schemas.openxmlformats.org/drawingml/2006/table">
            <a:tbl>
              <a:tblPr/>
              <a:tblGrid>
                <a:gridCol w="2576520"/>
                <a:gridCol w="2574720"/>
                <a:gridCol w="25765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 (y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Fem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ucasi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Any colle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sity in children, adolescents and adults has increased dramatically during the last two dec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sity in children is a key predictor of obesity in adolescents and adul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social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co-morbid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come at 15 weeks (P=0.18)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ntion to treat analysis BMI-z sco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66680" y="2133720"/>
          <a:ext cx="7651800" cy="3124080"/>
        </p:xfrm>
        <a:graphic>
          <a:graphicData uri="http://schemas.openxmlformats.org/drawingml/2006/table">
            <a:tbl>
              <a:tblPr/>
              <a:tblGrid>
                <a:gridCol w="2551320"/>
                <a:gridCol w="2549520"/>
                <a:gridCol w="2550960"/>
              </a:tblGrid>
              <a:tr h="111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3 (.2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7 (.2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3 (.2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4 (.2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utcome at 15 weeks (P=0.006)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 protocol analysis for BMI-z scor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66680" y="2133720"/>
          <a:ext cx="7651800" cy="3182760"/>
        </p:xfrm>
        <a:graphic>
          <a:graphicData uri="http://schemas.openxmlformats.org/drawingml/2006/table">
            <a:tbl>
              <a:tblPr/>
              <a:tblGrid>
                <a:gridCol w="2551320"/>
                <a:gridCol w="2549520"/>
                <a:gridCol w="255096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9 (.2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7 (.2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5 (.2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4 (.2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eight change from baseline to 15 wee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1676520"/>
          <a:ext cx="7727760" cy="4114800"/>
        </p:xfrm>
        <a:graphic>
          <a:graphicData uri="http://schemas.openxmlformats.org/drawingml/2006/table">
            <a:tbl>
              <a:tblPr/>
              <a:tblGrid>
                <a:gridCol w="3863880"/>
                <a:gridCol w="38638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alysis Grou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ight change (lb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tion-to-tr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4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5.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protoc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.4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5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.5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eight Change in Contro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44600" y="1663560"/>
            <a:ext cx="828504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eight Change in Complet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371520" y="1663560"/>
            <a:ext cx="83581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17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we learn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in the intervention group who were ‘completers’ achieved a significant reduction in BMI-z score compared to control children at 15 wee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% of those who began the program maintained a significant reduction in BMI-z score for 24 months after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we learn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results were comparable to those observed when a similar study was performed with nurses rather than psychologists as “counsel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ies considered labor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light diet too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we recomm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earlier than 8 or 9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eralize “diet” and stress portion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 phase must be more frequent than every 3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ressing Child Nutrition and Physical Activity in the Primary Care Setting 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 Investigator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en R. Wald,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Investigator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da J. Ewing, Ph.D., 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Coordinato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cey Moyer, 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Staff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di Sigmund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nifer Lindwall,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oka Salstrom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elle Jennings-Johnson, M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ra Fillingame Knudtson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: Agency for Healthcare Research and Qua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care is an appropriate setting to impact overweight children/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seen frequently for preventive and acut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s available for couns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to show periodic counseling can effect weight loss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previous study demonstrated beneficial outcome for program delivered by “in office”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dressing Child Nutrition and Physical Activity in Pediatric Primary C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fic Aim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ess the outcome of providing an intervention for overweight children and their families in the primary care setting by professionals trained in behavioral management following a standardized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213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990720" y="1676520"/>
            <a:ext cx="72388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tudy Participa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w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9 and 12 years of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M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9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centile for age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a parent or caregiver who was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ng to participate with the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medical condition such as pseudotumor cerebri, sleep apnea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impairments-prohibiting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ntry to progra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ly referred from primary care provider (PC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of EMR – informational letter from PCP inviting them to call the study coordin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crui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anticipated that eligible children would be recruited in summer and randomized 1:2 (treat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 treat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rual slow – recruitment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hildren able to begin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required to wait became “control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crui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andom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ystematic 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initially in control group who eventually joined intervention are not included in the analysis of the intervention group that is show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1T09:53:32Z</dcterms:created>
  <dc:creator>Michel Makaroun</dc:creator>
  <dc:description/>
  <cp:keywords/>
  <dc:language>en-US</dc:language>
  <cp:lastModifiedBy>CWeschler</cp:lastModifiedBy>
  <cp:lastPrinted>1998-08-26T12:44:11Z</cp:lastPrinted>
  <dcterms:modified xsi:type="dcterms:W3CDTF">2012-03-30T18:16:37Z</dcterms:modified>
  <cp:revision>172</cp:revision>
  <dc:subject/>
  <dc:title>No Slide Title</dc:title>
</cp:coreProperties>
</file>