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130320"/>
            <a:ext cx="799776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130320"/>
            <a:ext cx="799776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5638680" y="6497640"/>
            <a:ext cx="10670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5"/>
          <p:cNvSpPr/>
          <p:nvPr/>
        </p:nvSpPr>
        <p:spPr>
          <a:xfrm>
            <a:off x="5638680" y="6497640"/>
            <a:ext cx="10670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Table 3" descr=""/>
          <p:cNvPicPr/>
          <p:nvPr/>
        </p:nvPicPr>
        <p:blipFill>
          <a:blip r:embed="rId3"/>
          <a:stretch/>
        </p:blipFill>
        <p:spPr>
          <a:xfrm>
            <a:off x="1444680" y="1322280"/>
            <a:ext cx="6254640" cy="4572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Borrowed, Something New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ing an Agenda for Patient-Centered Mental Health Care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" name="Picture 6" descr="School_of_Athens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711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0" y="6095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Raphael, 1509-1511, The School of Athens, Fresco,  Apostolic Palace, Rome, Vatican 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sues Exploration Forum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ious Mental Illnes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sues Exploration Forum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ious Mental Illnes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" name="Picture 66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38080" y="1981080"/>
            <a:ext cx="731520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keholder Engagement 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cientific Resource Center</a:t>
            </a:r>
            <a:r>
              <a:rPr b="1" lang="en-US" sz="2000" spc="-1" strike="noStrike">
                <a:solidFill>
                  <a:srgbClr val="5157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m Curtis, 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hy Gordon, M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ynn Ros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mantha Slaughter-Mason, M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san Stearns, MA, M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nnon Brode, M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iel E. Jonas, MD, M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yssa J. Mansfield, MPH, P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ian B. Sheitman, 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izabeth 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era Viswanathan, P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a C. Watson, MD, M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990720" y="2087640"/>
            <a:ext cx="7467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TI International-University of North Carol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idence-based Pract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ptual Framework for Research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434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despair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453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ient-Centered Care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ing Outcomes that Matter to Patients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33520" y="130320"/>
            <a:ext cx="799776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imalai 4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4640" y="304560"/>
            <a:ext cx="7998120" cy="6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ducing Disparities 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onia Tyutyulkova</dc:creator>
  <dc:description>9/27/10</dc:description>
  <cp:keywords/>
  <dc:language>en-US</dc:language>
  <cp:lastModifiedBy>kathryn.ramage</cp:lastModifiedBy>
  <cp:lastPrinted>2003-01-21T20:19:23Z</cp:lastPrinted>
  <dcterms:modified xsi:type="dcterms:W3CDTF">2010-11-03T17:22:17Z</dcterms:modified>
  <cp:revision>393</cp:revision>
  <dc:subject/>
  <dc:title>AHRQ Slide Template 2004</dc:title>
</cp:coreProperties>
</file>