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10.jpeg" ContentType="image/jpeg"/>
  <Override PartName="/ppt/media/image12.png" ContentType="image/png"/>
  <Override PartName="/ppt/media/image7.jpeg" ContentType="image/jpeg"/>
  <Override PartName="/ppt/media/image11.jpeg" ContentType="image/jpeg"/>
  <Override PartName="/ppt/media/image9.jpeg" ContentType="image/jpeg"/>
  <Override PartName="/ppt/media/image19.wmf" ContentType="image/x-wmf"/>
  <Override PartName="/ppt/media/image2.png" ContentType="image/png"/>
  <Override PartName="/ppt/media/image17.wmf" ContentType="image/x-wmf"/>
  <Override PartName="/ppt/media/image15.jpeg" ContentType="image/jpeg"/>
  <Override PartName="/ppt/media/image14.png" ContentType="image/png"/>
  <Override PartName="/ppt/media/image1.jpeg" ContentType="image/jpeg"/>
  <Override PartName="/ppt/media/image3.png" ContentType="image/png"/>
  <Override PartName="/ppt/media/image4.png" ContentType="image/png"/>
  <Override PartName="/ppt/media/image18.wmf" ContentType="image/x-wmf"/>
  <Override PartName="/ppt/media/image5.jpeg" ContentType="image/jpeg"/>
  <Override PartName="/ppt/media/image6.jpeg" ContentType="image/jpeg"/>
  <Override PartName="/ppt/media/image8.png" ContentType="image/png"/>
  <Override PartName="/ppt/media/image16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i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204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E0DE8-26F5-4A2E-9CA7-07C17382F80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65769-6BAD-48E9-8262-2ABB0F7EE5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3E922-62C5-4A75-AC82-11D99B0A5CD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80F27-D636-4408-860B-FF124986562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10B40-E25D-4559-B24E-0A88FA3FF84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AC792-B56A-4A3D-B4A7-6101D74FE2F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79763-8872-49DE-9430-B30687AFE83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A91AA-E2DA-47BD-872D-ABD2D2C6267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4F6EA-9EE3-43F6-9CAB-FEE14486BF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C183D-10FE-4185-B201-A9C10B2B0CE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E4737-222C-480F-ABBF-5D6EBCA2C5C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8B812-C9B8-4194-83DC-BD8CE90F952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E4947-21F6-4994-9AD2-7584A00E6D9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27130-D9FC-4791-B993-BAE746A086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D09DE-7968-4D04-BF0E-677A8AAB4ED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E51C1-B116-464B-97F9-C351370DD89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141C9-9EF5-4699-BA99-983E172888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AD84B-0E58-44C4-A3A9-9D583B44C2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5C0A1-A665-4ED7-A697-BEB503CC263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EFC6B-7676-42BB-A43F-D2AB6DCC738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D9C80-8F9F-433B-A453-CB1CAC5C474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40C70-923C-46D1-A30F-68F94858AB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0CC05-4E52-4679-9A52-DC93B99606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8D001-7A80-411B-B360-C4DB12E0173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5356A-4C1C-4639-A832-1D2E9FC5FC7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1917F-3276-45CF-808A-639FC99DF47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F9A17-C964-4090-AF50-3ECEE0363E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EB559-A388-4732-B0E1-9E071223941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B6BB6-A033-46C8-883D-90CB220112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96443-5DBF-461D-BF58-D234A372D13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32983-0880-46C5-ABE7-C3CEF634A8E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7559E-5A1E-4EDE-B861-CFE68A6D12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89DDE-99E8-415E-8126-E012B8E2758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C29B4-0A99-4CE2-B01E-5C9C2A50AA1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79C18-C44D-4ACE-84EA-59B09AD502D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54EDF-FEB2-4368-9C34-27EEA86F0D4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6A8F-09E3-439D-B517-2F3E2F984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F34F-4E92-472F-B5C1-58514D733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EAF1-C105-4D72-A4CA-53EBEC9FE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E878-D6B3-4354-9094-A43A1CFCD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5E49-2F8E-4727-BAC5-C122A3A58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6F8F-F894-4F46-904C-BC21AAEB8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8E1E-A1CB-43F1-9DDF-7D14651EC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78F8-D397-476D-BD55-171C10828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EB6B-1C05-4EA6-B755-3163386A9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355B-BCB1-4B39-8814-81F0E4A3A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C64B-ED63-4D36-AD9F-E2F7F3E89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ABDA-5885-42EB-A884-37E99DE99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23E60-233A-494C-B918-8B093EEAEE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package" Target="../embeddings/oleObject2.xlsx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7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mainlogo"/>
          <p:cNvPicPr/>
          <p:nvPr/>
        </p:nvPicPr>
        <p:blipFill>
          <a:blip r:embed="rId1"/>
          <a:stretch/>
        </p:blipFill>
        <p:spPr>
          <a:xfrm>
            <a:off x="3581280" y="0"/>
            <a:ext cx="5334120" cy="493884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0"/>
          <p:cNvSpPr/>
          <p:nvPr/>
        </p:nvSpPr>
        <p:spPr>
          <a:xfrm>
            <a:off x="533520" y="5181480"/>
            <a:ext cx="8400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usan Tolivaisa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Eunice Kennedy Shriver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National Institute of Child Health and Human Development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11"/>
          <p:cNvSpPr/>
          <p:nvPr/>
        </p:nvSpPr>
        <p:spPr>
          <a:xfrm>
            <a:off x="380880" y="322920"/>
            <a:ext cx="45720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Evaluating Emerging Technologies: </a:t>
            </a:r>
            <a:br>
              <a:rPr sz="4800"/>
            </a:b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Is the Future Now?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6" descr="DHHS_Logo.gif"/>
          <p:cNvPicPr/>
          <p:nvPr/>
        </p:nvPicPr>
        <p:blipFill>
          <a:blip r:embed="rId2"/>
          <a:stretch/>
        </p:blipFill>
        <p:spPr>
          <a:xfrm>
            <a:off x="304920" y="5851440"/>
            <a:ext cx="1017360" cy="10065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NIH_Logo.gif"/>
          <p:cNvPicPr/>
          <p:nvPr/>
        </p:nvPicPr>
        <p:blipFill>
          <a:blip r:embed="rId3"/>
          <a:stretch/>
        </p:blipFill>
        <p:spPr>
          <a:xfrm>
            <a:off x="1371600" y="59436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NICHD_Eunice logo.gif"/>
          <p:cNvPicPr/>
          <p:nvPr/>
        </p:nvPicPr>
        <p:blipFill>
          <a:blip r:embed="rId4"/>
          <a:stretch/>
        </p:blipFill>
        <p:spPr>
          <a:xfrm>
            <a:off x="6934320" y="6126120"/>
            <a:ext cx="1903320" cy="7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6"/>
          <p:cNvGrpSpPr/>
          <p:nvPr/>
        </p:nvGrpSpPr>
        <p:grpSpPr>
          <a:xfrm>
            <a:off x="838080" y="3886200"/>
            <a:ext cx="7543800" cy="2133720"/>
            <a:chOff x="838080" y="3886200"/>
            <a:chExt cx="7543800" cy="2133720"/>
          </a:xfrm>
        </p:grpSpPr>
        <p:pic>
          <p:nvPicPr>
            <p:cNvPr id="115" name="Picture 4" descr=""/>
            <p:cNvPicPr/>
            <p:nvPr/>
          </p:nvPicPr>
          <p:blipFill>
            <a:blip r:embed="rId1"/>
            <a:srcRect l="19999" t="50002" r="18125" b="21999"/>
            <a:stretch/>
          </p:blipFill>
          <p:spPr>
            <a:xfrm>
              <a:off x="838080" y="3886200"/>
              <a:ext cx="7543800" cy="213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Text Box 5"/>
            <p:cNvSpPr/>
            <p:nvPr/>
          </p:nvSpPr>
          <p:spPr>
            <a:xfrm>
              <a:off x="2781360" y="4876920"/>
              <a:ext cx="185724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umber 252 – 2001  </a:t>
              </a:r>
              <a:endParaRPr b="1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Text Box 7"/>
          <p:cNvSpPr/>
          <p:nvPr/>
        </p:nvSpPr>
        <p:spPr>
          <a:xfrm>
            <a:off x="483480" y="152280"/>
            <a:ext cx="6244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COG Committee Opinion</a:t>
            </a: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8"/>
          <p:cNvSpPr/>
          <p:nvPr/>
        </p:nvSpPr>
        <p:spPr>
          <a:xfrm>
            <a:off x="0" y="2133720"/>
            <a:ext cx="9144000" cy="1191240"/>
          </a:xfrm>
          <a:prstGeom prst="rect">
            <a:avLst/>
          </a:prstGeom>
          <a:solidFill>
            <a:srgbClr val="e5e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aternal-fetal surgery for myelomeningocele should be evaluated in a multicenter RCT.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Why we are doing a tria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ior to 2002, data indicated some benefits regarding hindbrain herniation and shunting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bu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 comparison grou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tential confound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tential risks to mom &amp; bab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hort term data onl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complete follow-u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icture 4" descr="moms_logo_color"/>
          <p:cNvPicPr/>
          <p:nvPr/>
        </p:nvPicPr>
        <p:blipFill>
          <a:blip r:embed="rId1"/>
          <a:stretch/>
        </p:blipFill>
        <p:spPr>
          <a:xfrm>
            <a:off x="7315200" y="5160960"/>
            <a:ext cx="1828800" cy="169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Development of MOMS T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CSF, CHOP, Vanderbilt held meet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greed to collabora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ther fetal surgery sites agreed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no back door” polic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nnot get maternal-fetal repair</a:t>
            </a:r>
            <a:br>
              <a:rPr sz="3600"/>
            </a:b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outsid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of the tri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4" descr="MC900230952[1]"/>
          <p:cNvPicPr/>
          <p:nvPr/>
        </p:nvPicPr>
        <p:blipFill>
          <a:blip r:embed="rId1"/>
          <a:stretch/>
        </p:blipFill>
        <p:spPr>
          <a:xfrm>
            <a:off x="6711840" y="1828800"/>
            <a:ext cx="2432160" cy="346536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5"/>
          <p:cNvSpPr/>
          <p:nvPr/>
        </p:nvSpPr>
        <p:spPr>
          <a:xfrm>
            <a:off x="7620120" y="2895480"/>
            <a:ext cx="46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x</a:t>
            </a:r>
            <a:endParaRPr b="1" i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7" descr="moms_logo_color"/>
          <p:cNvPicPr/>
          <p:nvPr/>
        </p:nvPicPr>
        <p:blipFill>
          <a:blip r:embed="rId2"/>
          <a:stretch/>
        </p:blipFill>
        <p:spPr>
          <a:xfrm>
            <a:off x="7315200" y="5160960"/>
            <a:ext cx="1828800" cy="16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80121"/>
                </a:solidFill>
                <a:latin typeface="Times New Roman"/>
              </a:rPr>
              <a:t>Goal of the T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801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121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80121"/>
                </a:solidFill>
                <a:latin typeface="Times New Roman"/>
              </a:rPr>
              <a:t>To compare the safety and efficacy of in utero repair of open neural tube defects with that of the standard postnatal repai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5" descr="moms_logo_color"/>
          <p:cNvPicPr/>
          <p:nvPr/>
        </p:nvPicPr>
        <p:blipFill>
          <a:blip r:embed="rId1"/>
          <a:stretch/>
        </p:blipFill>
        <p:spPr>
          <a:xfrm>
            <a:off x="7315200" y="5160960"/>
            <a:ext cx="1828800" cy="169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5"/>
          <p:cNvSpPr/>
          <p:nvPr/>
        </p:nvSpPr>
        <p:spPr>
          <a:xfrm>
            <a:off x="457200" y="0"/>
            <a:ext cx="769608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Primary hypotheses</a:t>
            </a: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dtrimester repair of fetal MMC compared with standard postnatal repair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380880" y="1903320"/>
            <a:ext cx="6858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duces the risk of death 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r ventricular decompression 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hunting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ults in an improvement 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 neurologic and 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euromotor function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5" descr="moms_logo_color"/>
          <p:cNvPicPr/>
          <p:nvPr/>
        </p:nvPicPr>
        <p:blipFill>
          <a:blip r:embed="rId1"/>
          <a:stretch/>
        </p:blipFill>
        <p:spPr>
          <a:xfrm>
            <a:off x="7315200" y="5160960"/>
            <a:ext cx="1828800" cy="16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-381240" y="274320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posite of Bayley Scales of Infant Development MDI and motor function) assessed by independent team of examiners at 30 mos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MOMS Primary Outco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-380880" y="838080"/>
            <a:ext cx="88390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ual Primary Outcome:</a:t>
            </a:r>
            <a:br>
              <a:rPr sz="2800"/>
            </a:b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eath, placement of or meeting criteria for ventricular shunt by age1 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6" descr="moms_logo_color"/>
          <p:cNvPicPr/>
          <p:nvPr/>
        </p:nvPicPr>
        <p:blipFill>
          <a:blip r:embed="rId1"/>
          <a:stretch/>
        </p:blipFill>
        <p:spPr>
          <a:xfrm>
            <a:off x="7315200" y="5160960"/>
            <a:ext cx="1828800" cy="16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Basic Study Desig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nmasked randomized tri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ample size 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entral screening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ligible and interested are assigned to a MOMS center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aluated at MOMS center and if consenting, randomiz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enatal, postnatal repair &amp; delivery at MOMS cent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2 and 30 month follow-u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4" descr="moms_logo_color"/>
          <p:cNvPicPr/>
          <p:nvPr/>
        </p:nvPicPr>
        <p:blipFill>
          <a:blip r:embed="rId1"/>
          <a:stretch/>
        </p:blipFill>
        <p:spPr>
          <a:xfrm>
            <a:off x="8001000" y="5797440"/>
            <a:ext cx="1143000" cy="106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Reasons for Central Screening/Refer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80520" y="22093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sistent counsel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llows time to process information, consider op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sistent eligibility scree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icture 4" descr="moms_logo_color"/>
          <p:cNvPicPr/>
          <p:nvPr/>
        </p:nvPicPr>
        <p:blipFill>
          <a:blip r:embed="rId1"/>
          <a:stretch/>
        </p:blipFill>
        <p:spPr>
          <a:xfrm>
            <a:off x="8001000" y="5797440"/>
            <a:ext cx="1143000" cy="106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Inclusion Crite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MC starting at T1-S1 with  evidence of hindbrain herni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ton pregnancy 19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to 25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weeks, normal karyotyp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.S. resid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nimum 18 years ol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4" descr="moms_logo_color"/>
          <p:cNvPicPr/>
          <p:nvPr/>
        </p:nvPicPr>
        <p:blipFill>
          <a:blip r:embed="rId1"/>
          <a:stretch/>
        </p:blipFill>
        <p:spPr>
          <a:xfrm>
            <a:off x="8001000" y="5797440"/>
            <a:ext cx="1143000" cy="106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Major Exclusion Crite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creased risk for  preterm delivery, e.g. prior spontaneous PT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traindication to surgery, e.g. previous classical cesarean or fetal surgery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MI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&gt;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3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moms_logo_color"/>
          <p:cNvPicPr/>
          <p:nvPr/>
        </p:nvPicPr>
        <p:blipFill>
          <a:blip r:embed="rId1"/>
          <a:stretch/>
        </p:blipFill>
        <p:spPr>
          <a:xfrm>
            <a:off x="7315200" y="5160960"/>
            <a:ext cx="1828800" cy="169704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2"/>
          <p:cNvSpPr/>
          <p:nvPr/>
        </p:nvSpPr>
        <p:spPr>
          <a:xfrm>
            <a:off x="1523880" y="152280"/>
            <a:ext cx="6172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457200" y="1447920"/>
            <a:ext cx="86868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MS Clinical Centers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Children’s Hospital of Philadelphia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University of California-San Francisco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Vanderbilt University Medical Center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ordinating Center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George Washington University Biostatistics Center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unice Kennedy Shriv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ational Institute of Child Health and Human Development (NICHD) Pregnancy and Perinatology Branch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6012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The MOMS Trial and Its Develop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"/>
          <p:cNvSpPr/>
          <p:nvPr/>
        </p:nvSpPr>
        <p:spPr>
          <a:xfrm>
            <a:off x="457200" y="762120"/>
            <a:ext cx="868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8550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Screening at Clinical Site (2 day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Object 15"/>
          <p:cNvGraphicFramePr/>
          <p:nvPr/>
        </p:nvGraphicFramePr>
        <p:xfrm>
          <a:off x="7848720" y="5657760"/>
          <a:ext cx="1295280" cy="120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48720" y="5657760"/>
                    <a:ext cx="1295280" cy="12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2" name="Group 13"/>
          <p:cNvGrpSpPr/>
          <p:nvPr/>
        </p:nvGrpSpPr>
        <p:grpSpPr>
          <a:xfrm>
            <a:off x="531000" y="1371600"/>
            <a:ext cx="8613000" cy="5214600"/>
            <a:chOff x="531000" y="1371600"/>
            <a:chExt cx="8613000" cy="5214600"/>
          </a:xfrm>
        </p:grpSpPr>
        <p:sp>
          <p:nvSpPr>
            <p:cNvPr id="153" name="Line 25"/>
            <p:cNvSpPr/>
            <p:nvPr/>
          </p:nvSpPr>
          <p:spPr>
            <a:xfrm>
              <a:off x="3124080" y="2057400"/>
              <a:ext cx="3276360" cy="0"/>
            </a:xfrm>
            <a:prstGeom prst="line">
              <a:avLst/>
            </a:prstGeom>
            <a:ln w="190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i="1" lang="en-US" sz="3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23"/>
            <p:cNvSpPr/>
            <p:nvPr/>
          </p:nvSpPr>
          <p:spPr>
            <a:xfrm>
              <a:off x="4572000" y="2209680"/>
              <a:ext cx="0" cy="761760"/>
            </a:xfrm>
            <a:prstGeom prst="line">
              <a:avLst/>
            </a:prstGeom>
            <a:ln w="190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3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Rectangle 3"/>
            <p:cNvSpPr/>
            <p:nvPr/>
          </p:nvSpPr>
          <p:spPr>
            <a:xfrm>
              <a:off x="1600200" y="1371600"/>
              <a:ext cx="7543800" cy="502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43080" indent="-343080">
                <a:spcBef>
                  <a:spcPts val="700"/>
                </a:spcBef>
                <a:buClr>
                  <a:srgbClr val="ffff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3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Text Box 16"/>
            <p:cNvSpPr/>
            <p:nvPr/>
          </p:nvSpPr>
          <p:spPr>
            <a:xfrm>
              <a:off x="531000" y="1600200"/>
              <a:ext cx="2939040" cy="100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ravel &amp; lodging arranged</a:t>
              </a:r>
              <a:endParaRPr b="1" i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other and support person</a:t>
              </a:r>
              <a:endParaRPr b="1" i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aid by MOMS center</a:t>
              </a:r>
              <a:endParaRPr b="1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Text Box 17"/>
            <p:cNvSpPr/>
            <p:nvPr/>
          </p:nvSpPr>
          <p:spPr>
            <a:xfrm>
              <a:off x="3582720" y="1904760"/>
              <a:ext cx="211320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valuation process</a:t>
              </a:r>
              <a:endParaRPr b="1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Text Box 18"/>
            <p:cNvSpPr/>
            <p:nvPr/>
          </p:nvSpPr>
          <p:spPr>
            <a:xfrm>
              <a:off x="5942880" y="1676160"/>
              <a:ext cx="2454480" cy="70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f requirements met,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ffered randomization</a:t>
              </a:r>
              <a:endParaRPr b="1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24"/>
            <p:cNvSpPr/>
            <p:nvPr/>
          </p:nvSpPr>
          <p:spPr>
            <a:xfrm>
              <a:off x="5029200" y="4267080"/>
              <a:ext cx="0" cy="457200"/>
            </a:xfrm>
            <a:prstGeom prst="line">
              <a:avLst/>
            </a:prstGeom>
            <a:ln w="190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3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Text Box 20"/>
            <p:cNvSpPr/>
            <p:nvPr/>
          </p:nvSpPr>
          <p:spPr>
            <a:xfrm>
              <a:off x="3967920" y="4572000"/>
              <a:ext cx="1706400" cy="2014200"/>
            </a:xfrm>
            <a:prstGeom prst="rect">
              <a:avLst/>
            </a:prstGeom>
            <a:solidFill>
              <a:srgbClr val="f3f3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tal surgeon</a:t>
              </a:r>
              <a:endParaRPr b="1" i="1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Neurosurgeon</a:t>
              </a:r>
              <a:endParaRPr b="1" i="1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Nurse</a:t>
              </a:r>
              <a:endParaRPr b="1" i="1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Neonatologist</a:t>
              </a:r>
              <a:endParaRPr b="1" i="1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cial worker</a:t>
              </a:r>
              <a:endParaRPr b="1" i="1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nesthesiologist</a:t>
              </a:r>
              <a:endParaRPr b="1" i="1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erinatologist</a:t>
              </a:r>
              <a:endParaRPr b="1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Text Box 19"/>
            <p:cNvSpPr/>
            <p:nvPr/>
          </p:nvSpPr>
          <p:spPr>
            <a:xfrm>
              <a:off x="2821680" y="2895480"/>
              <a:ext cx="3103920" cy="1465560"/>
            </a:xfrm>
            <a:prstGeom prst="rect">
              <a:avLst/>
            </a:prstGeom>
            <a:solidFill>
              <a:srgbClr val="f3f3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omprehensive ultrasound</a:t>
              </a:r>
              <a:endParaRPr b="1" i="1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MRI of fetus</a:t>
              </a:r>
              <a:endParaRPr b="1" i="1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tal echocardiogram</a:t>
              </a:r>
              <a:endParaRPr b="1" i="1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sychological testing</a:t>
              </a:r>
              <a:endParaRPr b="1" i="1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Meetings with evaluations team</a:t>
              </a:r>
              <a:endParaRPr b="1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2"/>
          <p:cNvSpPr/>
          <p:nvPr/>
        </p:nvSpPr>
        <p:spPr>
          <a:xfrm>
            <a:off x="457200" y="762120"/>
            <a:ext cx="868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8"/>
          <p:cNvSpPr/>
          <p:nvPr/>
        </p:nvSpPr>
        <p:spPr>
          <a:xfrm>
            <a:off x="-1590840" y="5943600"/>
            <a:ext cx="135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4" name="Object 14"/>
          <p:cNvGraphicFramePr/>
          <p:nvPr/>
        </p:nvGraphicFramePr>
        <p:xfrm>
          <a:off x="7848720" y="5657760"/>
          <a:ext cx="1295280" cy="120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48720" y="5657760"/>
                    <a:ext cx="1295280" cy="12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6" name="Group 17"/>
          <p:cNvGrpSpPr/>
          <p:nvPr/>
        </p:nvGrpSpPr>
        <p:grpSpPr>
          <a:xfrm>
            <a:off x="886320" y="1371600"/>
            <a:ext cx="7641360" cy="4940640"/>
            <a:chOff x="886320" y="1371600"/>
            <a:chExt cx="7641360" cy="4940640"/>
          </a:xfrm>
        </p:grpSpPr>
        <p:sp>
          <p:nvSpPr>
            <p:cNvPr id="167" name="Line 15"/>
            <p:cNvSpPr/>
            <p:nvPr/>
          </p:nvSpPr>
          <p:spPr>
            <a:xfrm>
              <a:off x="5418000" y="2057400"/>
              <a:ext cx="0" cy="2971800"/>
            </a:xfrm>
            <a:prstGeom prst="line">
              <a:avLst/>
            </a:prstGeom>
            <a:ln w="190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3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16"/>
            <p:cNvSpPr/>
            <p:nvPr/>
          </p:nvSpPr>
          <p:spPr>
            <a:xfrm>
              <a:off x="3665520" y="1981080"/>
              <a:ext cx="0" cy="3886560"/>
            </a:xfrm>
            <a:prstGeom prst="line">
              <a:avLst/>
            </a:prstGeom>
            <a:ln w="190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3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Text Box 17"/>
            <p:cNvSpPr/>
            <p:nvPr/>
          </p:nvSpPr>
          <p:spPr>
            <a:xfrm>
              <a:off x="2904480" y="1371600"/>
              <a:ext cx="3175560" cy="825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oms and infants</a:t>
              </a:r>
              <a:endParaRPr b="1" i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eturn to assigned center</a:t>
              </a:r>
              <a:endParaRPr b="1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Text Box 18"/>
            <p:cNvSpPr/>
            <p:nvPr/>
          </p:nvSpPr>
          <p:spPr>
            <a:xfrm>
              <a:off x="4880520" y="2514600"/>
              <a:ext cx="208872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stnatal group</a:t>
              </a:r>
              <a:endParaRPr b="1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Text Box 19"/>
            <p:cNvSpPr/>
            <p:nvPr/>
          </p:nvSpPr>
          <p:spPr>
            <a:xfrm>
              <a:off x="4880880" y="3098880"/>
              <a:ext cx="176580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eturn home</a:t>
              </a:r>
              <a:endParaRPr b="1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Text Box 20"/>
            <p:cNvSpPr/>
            <p:nvPr/>
          </p:nvSpPr>
          <p:spPr>
            <a:xfrm>
              <a:off x="4894200" y="3657600"/>
              <a:ext cx="3577680" cy="825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eturn at 37wks to MOMS </a:t>
              </a:r>
              <a:endParaRPr b="1" i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enter for delivery by CD</a:t>
              </a:r>
              <a:endParaRPr b="1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Text Box 21"/>
            <p:cNvSpPr/>
            <p:nvPr/>
          </p:nvSpPr>
          <p:spPr>
            <a:xfrm>
              <a:off x="1485720" y="4496040"/>
              <a:ext cx="2819160" cy="825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emains near center </a:t>
              </a:r>
              <a:endParaRPr b="1" i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ntil delivery</a:t>
              </a:r>
              <a:endParaRPr b="1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Text Box 22"/>
            <p:cNvSpPr/>
            <p:nvPr/>
          </p:nvSpPr>
          <p:spPr>
            <a:xfrm>
              <a:off x="2331000" y="2666880"/>
              <a:ext cx="196992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renatal group</a:t>
              </a:r>
              <a:endParaRPr b="1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Text Box 23"/>
            <p:cNvSpPr/>
            <p:nvPr/>
          </p:nvSpPr>
          <p:spPr>
            <a:xfrm>
              <a:off x="886320" y="3276720"/>
              <a:ext cx="347868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dmitted to MOMS center</a:t>
              </a:r>
              <a:endParaRPr b="1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24"/>
            <p:cNvSpPr/>
            <p:nvPr/>
          </p:nvSpPr>
          <p:spPr>
            <a:xfrm>
              <a:off x="2372760" y="3886200"/>
              <a:ext cx="192888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n utero repair</a:t>
              </a:r>
              <a:endParaRPr b="1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Text Box 25"/>
            <p:cNvSpPr/>
            <p:nvPr/>
          </p:nvSpPr>
          <p:spPr>
            <a:xfrm>
              <a:off x="4878360" y="4648320"/>
              <a:ext cx="364932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stnatal closure within 48h</a:t>
              </a:r>
              <a:endParaRPr b="1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Text Box 26"/>
            <p:cNvSpPr/>
            <p:nvPr/>
          </p:nvSpPr>
          <p:spPr>
            <a:xfrm>
              <a:off x="952200" y="5486760"/>
              <a:ext cx="3352680" cy="825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eliver by CD </a:t>
              </a:r>
              <a:endParaRPr b="1" i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@ 37wks if undelivered</a:t>
              </a:r>
              <a:endParaRPr b="1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882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Randomization to Neonatal Dischar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Sht3_010"/>
          <p:cNvPicPr/>
          <p:nvPr/>
        </p:nvPicPr>
        <p:blipFill>
          <a:blip r:embed="rId1"/>
          <a:stretch/>
        </p:blipFill>
        <p:spPr>
          <a:xfrm>
            <a:off x="152280" y="946080"/>
            <a:ext cx="8991720" cy="590544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3"/>
          <p:cNvSpPr/>
          <p:nvPr/>
        </p:nvSpPr>
        <p:spPr>
          <a:xfrm>
            <a:off x="228600" y="146160"/>
            <a:ext cx="8915400" cy="609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2a"/>
                </a:solidFill>
                <a:latin typeface="Times New Roman"/>
              </a:rPr>
              <a:t>Human Fetal Myelomeningocele Repair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2"/>
          <p:cNvSpPr/>
          <p:nvPr/>
        </p:nvSpPr>
        <p:spPr>
          <a:xfrm>
            <a:off x="457200" y="762120"/>
            <a:ext cx="868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76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MOMS Follow-u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5" name="Object 15"/>
          <p:cNvGraphicFramePr/>
          <p:nvPr/>
        </p:nvGraphicFramePr>
        <p:xfrm>
          <a:off x="7848720" y="5657760"/>
          <a:ext cx="1295280" cy="120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48720" y="5657760"/>
                    <a:ext cx="1295280" cy="12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87" name="Group 18"/>
          <p:cNvGrpSpPr/>
          <p:nvPr/>
        </p:nvGrpSpPr>
        <p:grpSpPr>
          <a:xfrm>
            <a:off x="685800" y="1143000"/>
            <a:ext cx="7543800" cy="5410080"/>
            <a:chOff x="685800" y="1143000"/>
            <a:chExt cx="7543800" cy="5410080"/>
          </a:xfrm>
        </p:grpSpPr>
        <p:sp>
          <p:nvSpPr>
            <p:cNvPr id="188" name="Line 28"/>
            <p:cNvSpPr/>
            <p:nvPr/>
          </p:nvSpPr>
          <p:spPr>
            <a:xfrm>
              <a:off x="5410080" y="2286000"/>
              <a:ext cx="45720" cy="2286000"/>
            </a:xfrm>
            <a:prstGeom prst="line">
              <a:avLst/>
            </a:prstGeom>
            <a:ln w="190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3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Rectangle 3"/>
            <p:cNvSpPr/>
            <p:nvPr/>
          </p:nvSpPr>
          <p:spPr>
            <a:xfrm>
              <a:off x="685800" y="1143000"/>
              <a:ext cx="7543800" cy="54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43080" indent="-343080">
                <a:spcBef>
                  <a:spcPts val="901"/>
                </a:spcBef>
                <a:buClr>
                  <a:srgbClr val="ffff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3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Line 16"/>
            <p:cNvSpPr/>
            <p:nvPr/>
          </p:nvSpPr>
          <p:spPr>
            <a:xfrm>
              <a:off x="3505320" y="2209680"/>
              <a:ext cx="0" cy="3886200"/>
            </a:xfrm>
            <a:prstGeom prst="line">
              <a:avLst/>
            </a:prstGeom>
            <a:ln w="190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3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Text Box 17"/>
            <p:cNvSpPr/>
            <p:nvPr/>
          </p:nvSpPr>
          <p:spPr>
            <a:xfrm>
              <a:off x="2594880" y="1295280"/>
              <a:ext cx="3666240" cy="947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Moms and infants</a:t>
              </a: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return to assigned center</a:t>
              </a: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Text Box 18"/>
            <p:cNvSpPr/>
            <p:nvPr/>
          </p:nvSpPr>
          <p:spPr>
            <a:xfrm>
              <a:off x="4576680" y="2514600"/>
              <a:ext cx="1674360" cy="52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0 months</a:t>
              </a: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Text Box 19"/>
            <p:cNvSpPr/>
            <p:nvPr/>
          </p:nvSpPr>
          <p:spPr>
            <a:xfrm>
              <a:off x="4578480" y="3200400"/>
              <a:ext cx="2696760" cy="52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Neurologic Exam</a:t>
              </a: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Text Box 20"/>
            <p:cNvSpPr/>
            <p:nvPr/>
          </p:nvSpPr>
          <p:spPr>
            <a:xfrm>
              <a:off x="4500720" y="3962520"/>
              <a:ext cx="3506040" cy="52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evelopmental Testing</a:t>
              </a: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Text Box 21"/>
            <p:cNvSpPr/>
            <p:nvPr/>
          </p:nvSpPr>
          <p:spPr>
            <a:xfrm>
              <a:off x="1606680" y="5257800"/>
              <a:ext cx="3199680" cy="52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MRI of head &amp; spine</a:t>
              </a: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Text Box 22"/>
            <p:cNvSpPr/>
            <p:nvPr/>
          </p:nvSpPr>
          <p:spPr>
            <a:xfrm>
              <a:off x="2671560" y="2514600"/>
              <a:ext cx="1674360" cy="52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2 months</a:t>
              </a: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Text Box 23"/>
            <p:cNvSpPr/>
            <p:nvPr/>
          </p:nvSpPr>
          <p:spPr>
            <a:xfrm>
              <a:off x="1682640" y="3200400"/>
              <a:ext cx="2696760" cy="52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Neurologic Exam</a:t>
              </a: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Text Box 24"/>
            <p:cNvSpPr/>
            <p:nvPr/>
          </p:nvSpPr>
          <p:spPr>
            <a:xfrm>
              <a:off x="843120" y="3962520"/>
              <a:ext cx="3506040" cy="52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evelopmental Testing</a:t>
              </a: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Text Box 26"/>
            <p:cNvSpPr/>
            <p:nvPr/>
          </p:nvSpPr>
          <p:spPr>
            <a:xfrm>
              <a:off x="2438280" y="5943600"/>
              <a:ext cx="2057400" cy="52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pine x-ray</a:t>
              </a: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Text Box 24"/>
            <p:cNvSpPr/>
            <p:nvPr/>
          </p:nvSpPr>
          <p:spPr>
            <a:xfrm>
              <a:off x="4572000" y="4648320"/>
              <a:ext cx="2117520" cy="52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Urodynamics</a:t>
              </a: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Text Box 24"/>
            <p:cNvSpPr/>
            <p:nvPr/>
          </p:nvSpPr>
          <p:spPr>
            <a:xfrm>
              <a:off x="2296440" y="4648320"/>
              <a:ext cx="2096280" cy="52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Urodynamics</a:t>
              </a: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Primary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Outcome Measure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83908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for ventricular decompressive shunting at 12 months defined by objective criter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f shunt placed without meeting criteria, qualifies as primary outco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mportant for neurosurgeons to use criteri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ependent committee of neurosurgeons, blinded to treatment assignment, determines whether criteria have been m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Picture 4" descr="moms_logo_color"/>
          <p:cNvPicPr/>
          <p:nvPr/>
        </p:nvPicPr>
        <p:blipFill>
          <a:blip r:embed="rId1"/>
          <a:stretch/>
        </p:blipFill>
        <p:spPr>
          <a:xfrm>
            <a:off x="8001000" y="5797440"/>
            <a:ext cx="1143000" cy="106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Primary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Outcome Measure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3055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ite score from the Bayley Scales of Infant Development MDI and the difference between the motor level and lesion level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aluated by independent examiners blinded to treatment assign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ideotapes of physical exams reviewed by independent expe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Picture 4" descr="moms_logo_color"/>
          <p:cNvPicPr/>
          <p:nvPr/>
        </p:nvPicPr>
        <p:blipFill>
          <a:blip r:embed="rId1"/>
          <a:stretch/>
        </p:blipFill>
        <p:spPr>
          <a:xfrm>
            <a:off x="8001000" y="5797440"/>
            <a:ext cx="1143000" cy="106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Why independent review committees/examiner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imary outcome 1 and urology both practice depend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nmasked trial; therefore susceptible to  bias (investigator, ascertainment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sure consistent outcome determination across cent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Picture 4" descr="moms_logo_color"/>
          <p:cNvPicPr/>
          <p:nvPr/>
        </p:nvPicPr>
        <p:blipFill>
          <a:blip r:embed="rId1"/>
          <a:stretch/>
        </p:blipFill>
        <p:spPr>
          <a:xfrm>
            <a:off x="8001000" y="5797440"/>
            <a:ext cx="1143000" cy="106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Data and Safety Monitoring Committee (DSMC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ppointed by NIH; no conflict of interest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ultidisciplinar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Biostatistics, Epidemiology, Maternal-Fetal Medicine, Neonatology, Pediatrics, Neurosurgery, Urology, Ethics, Laypers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views interim data and has the authority to recommend stopping tri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idence of benef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idence of har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il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ternal influences and event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Picture 4" descr="moms_logo_color"/>
          <p:cNvPicPr/>
          <p:nvPr/>
        </p:nvPicPr>
        <p:blipFill>
          <a:blip r:embed="rId1"/>
          <a:stretch/>
        </p:blipFill>
        <p:spPr>
          <a:xfrm>
            <a:off x="8001000" y="5797440"/>
            <a:ext cx="1143000" cy="106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MOMS Status (9/7/2010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6400800" cy="5410080"/>
          </a:xfrm>
          <a:prstGeom prst="rect">
            <a:avLst/>
          </a:prstGeom>
          <a:solidFill>
            <a:srgbClr val="f5f5f5"/>
          </a:solidFill>
          <a:ln cap="rnd" w="9360">
            <a:solidFill>
              <a:srgbClr val="3333cc"/>
            </a:solidFill>
            <a:custDash>
              <a:ds d="100000" sp="1000"/>
            </a:custDash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510 central contact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049 screened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533 met exclusion criter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30 decided not to participa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93 eligible &amp; referr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78 randomiz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Object 8"/>
          <p:cNvGraphicFramePr/>
          <p:nvPr/>
        </p:nvGraphicFramePr>
        <p:xfrm>
          <a:off x="7848720" y="5657760"/>
          <a:ext cx="1295280" cy="120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48720" y="5657760"/>
                    <a:ext cx="1295280" cy="12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76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Exclusion: Central Scree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9" name="Object 207"/>
          <p:cNvGraphicFramePr/>
          <p:nvPr/>
        </p:nvGraphicFramePr>
        <p:xfrm>
          <a:off x="685800" y="1306440"/>
          <a:ext cx="7772400" cy="5278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0" name="Object 20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306440"/>
                    <a:ext cx="7772400" cy="527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Rectangle 217"/>
          <p:cNvSpPr/>
          <p:nvPr/>
        </p:nvSpPr>
        <p:spPr>
          <a:xfrm>
            <a:off x="6561000" y="1674720"/>
            <a:ext cx="123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n=533)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2" name="Object 220"/>
          <p:cNvGraphicFramePr/>
          <p:nvPr/>
        </p:nvGraphicFramePr>
        <p:xfrm>
          <a:off x="7848720" y="0"/>
          <a:ext cx="1295280" cy="1200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3" name="Object 22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0"/>
                    <a:ext cx="1295280" cy="12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2666520" y="1676520"/>
            <a:ext cx="6172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bstetrical management, especially for high-risk patients, has often adopted practices without objective evaluat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380880" y="-36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5" descr="Hispanic pregnant woman "/>
          <p:cNvPicPr/>
          <p:nvPr/>
        </p:nvPicPr>
        <p:blipFill>
          <a:blip r:embed="rId1"/>
          <a:stretch/>
        </p:blipFill>
        <p:spPr>
          <a:xfrm>
            <a:off x="533520" y="1143000"/>
            <a:ext cx="2120760" cy="43149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moms_logo_color"/>
          <p:cNvPicPr/>
          <p:nvPr/>
        </p:nvPicPr>
        <p:blipFill>
          <a:blip r:embed="rId2"/>
          <a:stretch/>
        </p:blipFill>
        <p:spPr>
          <a:xfrm>
            <a:off x="7315200" y="5160960"/>
            <a:ext cx="1828800" cy="16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448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Reasons for Non-particip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5" name="Object 3"/>
          <p:cNvGraphicFramePr/>
          <p:nvPr/>
        </p:nvGraphicFramePr>
        <p:xfrm>
          <a:off x="685800" y="1306440"/>
          <a:ext cx="7772400" cy="5278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306440"/>
                    <a:ext cx="7772400" cy="527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7" name="Rectangle 5"/>
          <p:cNvSpPr/>
          <p:nvPr/>
        </p:nvSpPr>
        <p:spPr>
          <a:xfrm>
            <a:off x="5418000" y="1981080"/>
            <a:ext cx="123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n=230)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8" name="Object 9"/>
          <p:cNvGraphicFramePr/>
          <p:nvPr/>
        </p:nvGraphicFramePr>
        <p:xfrm>
          <a:off x="7848720" y="0"/>
          <a:ext cx="1295280" cy="1200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9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0"/>
                    <a:ext cx="1295280" cy="12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Screening &amp;Enroll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1" name="Object 12"/>
          <p:cNvGraphicFramePr/>
          <p:nvPr/>
        </p:nvGraphicFramePr>
        <p:xfrm>
          <a:off x="7848720" y="0"/>
          <a:ext cx="1295280" cy="120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48720" y="0"/>
                    <a:ext cx="1295280" cy="12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33" name="Group 6"/>
          <p:cNvGrpSpPr/>
          <p:nvPr/>
        </p:nvGrpSpPr>
        <p:grpSpPr>
          <a:xfrm>
            <a:off x="331920" y="2179800"/>
            <a:ext cx="8812080" cy="4527720"/>
            <a:chOff x="331920" y="2179800"/>
            <a:chExt cx="8812080" cy="4527720"/>
          </a:xfrm>
        </p:grpSpPr>
        <p:sp>
          <p:nvSpPr>
            <p:cNvPr id="234" name="Text Box 7"/>
            <p:cNvSpPr/>
            <p:nvPr/>
          </p:nvSpPr>
          <p:spPr>
            <a:xfrm>
              <a:off x="380880" y="6324840"/>
              <a:ext cx="2438280" cy="276480"/>
            </a:xfrm>
            <a:prstGeom prst="rect">
              <a:avLst/>
            </a:prstGeom>
            <a:solidFill>
              <a:srgbClr val="dddddd"/>
            </a:solidFill>
            <a:ln cap="rnd" w="9360">
              <a:solidFill>
                <a:srgbClr val="000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First patient randomized 3/6/03</a:t>
              </a:r>
              <a:endParaRPr b="1" i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35" name="Object 5"/>
            <p:cNvGraphicFramePr/>
            <p:nvPr/>
          </p:nvGraphicFramePr>
          <p:xfrm>
            <a:off x="331920" y="2179800"/>
            <a:ext cx="8588520" cy="396252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236" name="Object 5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31920" y="2179800"/>
                      <a:ext cx="8588520" cy="3962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37" name="Text Box 6"/>
            <p:cNvSpPr/>
            <p:nvPr/>
          </p:nvSpPr>
          <p:spPr>
            <a:xfrm>
              <a:off x="6553440" y="6248520"/>
              <a:ext cx="25905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*   2 months in this quarter</a:t>
              </a:r>
              <a:endParaRPr b="1" i="1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**  1 month in this quarter</a:t>
              </a:r>
              <a:endParaRPr b="1" i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Randomization by Mon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9" name="Object 4"/>
          <p:cNvGraphicFramePr/>
          <p:nvPr/>
        </p:nvGraphicFramePr>
        <p:xfrm>
          <a:off x="-82440" y="1143000"/>
          <a:ext cx="8777160" cy="5486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82440" y="1143000"/>
                    <a:ext cx="877716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1" name="Object 7"/>
          <p:cNvGraphicFramePr/>
          <p:nvPr/>
        </p:nvGraphicFramePr>
        <p:xfrm>
          <a:off x="7848720" y="0"/>
          <a:ext cx="1295280" cy="1200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2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0"/>
                    <a:ext cx="1295280" cy="12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61976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Follow-up Vis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4" name="Object 8"/>
          <p:cNvGraphicFramePr/>
          <p:nvPr/>
        </p:nvGraphicFramePr>
        <p:xfrm>
          <a:off x="7848720" y="5657760"/>
          <a:ext cx="1295280" cy="120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48720" y="5657760"/>
                    <a:ext cx="1295280" cy="12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Rectangle 9"/>
          <p:cNvSpPr/>
          <p:nvPr/>
        </p:nvSpPr>
        <p:spPr>
          <a:xfrm>
            <a:off x="685800" y="243828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99% 30-month follow-up visits to date                  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(n=129)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MOMS Publicity 20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0769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ass mailings – 1,500 pie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ass emails – 4 (SMFM,NSGC,SBA Parents &amp; Provider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dvertisements – 2 (Green journal, Google)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etings/Speaking engagements – 21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ssociation newsletters – 16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nks to website – 10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9" name="Object 8"/>
          <p:cNvGraphicFramePr/>
          <p:nvPr/>
        </p:nvGraphicFramePr>
        <p:xfrm>
          <a:off x="7848720" y="5657760"/>
          <a:ext cx="1295280" cy="120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0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48720" y="5657760"/>
                    <a:ext cx="1295280" cy="12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allenging tri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low recruit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cellent follow-u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 “back door” policy cruci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AFTnet (North American Fetal Therapy Network) endorsed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3" name="Object 8"/>
          <p:cNvGraphicFramePr/>
          <p:nvPr/>
        </p:nvGraphicFramePr>
        <p:xfrm>
          <a:off x="7848720" y="5657760"/>
          <a:ext cx="1295280" cy="120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4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48720" y="5657760"/>
                    <a:ext cx="1295280" cy="12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2514240" y="1676520"/>
            <a:ext cx="6629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etal surgery began for lethal condi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sks involve tw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ng term risks: future pregnanc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456840" y="-360"/>
            <a:ext cx="3809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5" descr="Hispanic pregnant woman "/>
          <p:cNvPicPr/>
          <p:nvPr/>
        </p:nvPicPr>
        <p:blipFill>
          <a:blip r:embed="rId1"/>
          <a:stretch/>
        </p:blipFill>
        <p:spPr>
          <a:xfrm>
            <a:off x="304920" y="1143000"/>
            <a:ext cx="2120760" cy="43149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moms_logo_color"/>
          <p:cNvPicPr/>
          <p:nvPr/>
        </p:nvPicPr>
        <p:blipFill>
          <a:blip r:embed="rId2"/>
          <a:stretch/>
        </p:blipFill>
        <p:spPr>
          <a:xfrm>
            <a:off x="7315200" y="5160960"/>
            <a:ext cx="1828800" cy="16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4"/>
          <p:cNvSpPr/>
          <p:nvPr/>
        </p:nvSpPr>
        <p:spPr>
          <a:xfrm>
            <a:off x="762120" y="1143000"/>
            <a:ext cx="7772400" cy="43603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2a"/>
                </a:solidFill>
                <a:latin typeface="Times New Roman"/>
              </a:rPr>
              <a:t>Fetal surgery for myelomeningocele (MMC or spina bifida) moves beyond the typical paradigm 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not a </a:t>
            </a:r>
            <a:r>
              <a:rPr b="0" lang="en-US" sz="4000" spc="-1" strike="noStrike">
                <a:solidFill>
                  <a:srgbClr val="00002a"/>
                </a:solidFill>
                <a:latin typeface="Times New Roman"/>
                <a:ea typeface="ＭＳ Ｐゴシック"/>
              </a:rPr>
              <a:t>lethal condition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4" descr="moms_logo_color"/>
          <p:cNvPicPr/>
          <p:nvPr/>
        </p:nvPicPr>
        <p:blipFill>
          <a:blip r:embed="rId1"/>
          <a:stretch/>
        </p:blipFill>
        <p:spPr>
          <a:xfrm>
            <a:off x="7315200" y="5160960"/>
            <a:ext cx="1828800" cy="169704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3"/>
          <p:cNvSpPr/>
          <p:nvPr/>
        </p:nvSpPr>
        <p:spPr>
          <a:xfrm>
            <a:off x="457200" y="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Myelomeningocele (MMC)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Open neural tube defec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common &amp; severe CN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genital anomal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ffects ~ 1500 fetuses in U.S. annuall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rity varies depending on level of le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gnificant morbidity and mortal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fe-long disabilitie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Group 7"/>
          <p:cNvGrpSpPr/>
          <p:nvPr/>
        </p:nvGrpSpPr>
        <p:grpSpPr>
          <a:xfrm>
            <a:off x="7010280" y="0"/>
            <a:ext cx="2133720" cy="2446200"/>
            <a:chOff x="7010280" y="0"/>
            <a:chExt cx="2133720" cy="2446200"/>
          </a:xfrm>
        </p:grpSpPr>
        <p:pic>
          <p:nvPicPr>
            <p:cNvPr id="73" name="Picture 8" descr="Chiari mechanism"/>
            <p:cNvPicPr/>
            <p:nvPr/>
          </p:nvPicPr>
          <p:blipFill>
            <a:blip r:embed="rId1"/>
            <a:stretch/>
          </p:blipFill>
          <p:spPr>
            <a:xfrm>
              <a:off x="7010280" y="0"/>
              <a:ext cx="2133720" cy="24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AutoShape 9"/>
            <p:cNvSpPr/>
            <p:nvPr/>
          </p:nvSpPr>
          <p:spPr>
            <a:xfrm rot="12539400">
              <a:off x="8925120" y="2049840"/>
              <a:ext cx="150120" cy="72000"/>
            </a:xfrm>
            <a:prstGeom prst="leftArrow">
              <a:avLst>
                <a:gd name="adj1" fmla="val 50000"/>
                <a:gd name="adj2" fmla="val 52125"/>
              </a:avLst>
            </a:prstGeom>
            <a:solidFill>
              <a:srgbClr val="ffff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3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AutoShape 10"/>
            <p:cNvSpPr/>
            <p:nvPr/>
          </p:nvSpPr>
          <p:spPr>
            <a:xfrm rot="14277000">
              <a:off x="8816040" y="2156040"/>
              <a:ext cx="143640" cy="75240"/>
            </a:xfrm>
            <a:prstGeom prst="leftArrow">
              <a:avLst>
                <a:gd name="adj1" fmla="val 50000"/>
                <a:gd name="adj2" fmla="val 47727"/>
              </a:avLst>
            </a:prstGeom>
            <a:solidFill>
              <a:srgbClr val="ffff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3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AutoShape 11"/>
            <p:cNvSpPr/>
            <p:nvPr/>
          </p:nvSpPr>
          <p:spPr>
            <a:xfrm rot="10800000">
              <a:off x="8962920" y="1870200"/>
              <a:ext cx="150120" cy="71640"/>
            </a:xfrm>
            <a:prstGeom prst="leftArrow">
              <a:avLst>
                <a:gd name="adj1" fmla="val 50000"/>
                <a:gd name="adj2" fmla="val 52387"/>
              </a:avLst>
            </a:prstGeom>
            <a:solidFill>
              <a:srgbClr val="ffff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3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AutoShape 12"/>
            <p:cNvSpPr/>
            <p:nvPr/>
          </p:nvSpPr>
          <p:spPr>
            <a:xfrm rot="13184400">
              <a:off x="8211600" y="610920"/>
              <a:ext cx="150120" cy="71640"/>
            </a:xfrm>
            <a:prstGeom prst="leftArrow">
              <a:avLst>
                <a:gd name="adj1" fmla="val 50000"/>
                <a:gd name="adj2" fmla="val 52387"/>
              </a:avLst>
            </a:prstGeom>
            <a:solidFill>
              <a:srgbClr val="ffff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3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AutoShape 13"/>
            <p:cNvSpPr/>
            <p:nvPr/>
          </p:nvSpPr>
          <p:spPr>
            <a:xfrm rot="8917200">
              <a:off x="8023680" y="682920"/>
              <a:ext cx="150120" cy="107640"/>
            </a:xfrm>
            <a:prstGeom prst="leftArrow">
              <a:avLst>
                <a:gd name="adj1" fmla="val 50000"/>
                <a:gd name="adj2" fmla="val 34866"/>
              </a:avLst>
            </a:prstGeom>
            <a:solidFill>
              <a:srgbClr val="ffff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3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AutoShape 14"/>
            <p:cNvSpPr/>
            <p:nvPr/>
          </p:nvSpPr>
          <p:spPr>
            <a:xfrm rot="7975200">
              <a:off x="7951320" y="394560"/>
              <a:ext cx="107640" cy="37440"/>
            </a:xfrm>
            <a:prstGeom prst="leftArrow">
              <a:avLst>
                <a:gd name="adj1" fmla="val 50000"/>
                <a:gd name="adj2" fmla="val 71875"/>
              </a:avLst>
            </a:prstGeom>
            <a:solidFill>
              <a:srgbClr val="ffff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080" bIns="-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3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AutoShape 15"/>
            <p:cNvSpPr/>
            <p:nvPr/>
          </p:nvSpPr>
          <p:spPr>
            <a:xfrm rot="63600">
              <a:off x="7461000" y="538920"/>
              <a:ext cx="112680" cy="36000"/>
            </a:xfrm>
            <a:prstGeom prst="leftArrow">
              <a:avLst>
                <a:gd name="adj1" fmla="val 50000"/>
                <a:gd name="adj2" fmla="val 78250"/>
              </a:avLst>
            </a:prstGeom>
            <a:solidFill>
              <a:srgbClr val="ffff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3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AutoShape 16"/>
            <p:cNvSpPr/>
            <p:nvPr/>
          </p:nvSpPr>
          <p:spPr>
            <a:xfrm rot="6769200">
              <a:off x="7801200" y="358560"/>
              <a:ext cx="107640" cy="37440"/>
            </a:xfrm>
            <a:prstGeom prst="leftArrow">
              <a:avLst>
                <a:gd name="adj1" fmla="val 50000"/>
                <a:gd name="adj2" fmla="val 71875"/>
              </a:avLst>
            </a:prstGeom>
            <a:solidFill>
              <a:srgbClr val="ffff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080" bIns="-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3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AutoShape 17"/>
            <p:cNvSpPr/>
            <p:nvPr/>
          </p:nvSpPr>
          <p:spPr>
            <a:xfrm rot="2683800">
              <a:off x="7573320" y="395280"/>
              <a:ext cx="112680" cy="35640"/>
            </a:xfrm>
            <a:prstGeom prst="leftArrow">
              <a:avLst>
                <a:gd name="adj1" fmla="val 50000"/>
                <a:gd name="adj2" fmla="val 79040"/>
              </a:avLst>
            </a:prstGeom>
            <a:solidFill>
              <a:srgbClr val="ffff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3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3" name="Picture 4" descr="moms_logo_color"/>
          <p:cNvPicPr/>
          <p:nvPr/>
        </p:nvPicPr>
        <p:blipFill>
          <a:blip r:embed="rId2"/>
          <a:stretch/>
        </p:blipFill>
        <p:spPr>
          <a:xfrm>
            <a:off x="7315200" y="5160960"/>
            <a:ext cx="1828800" cy="16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2664720" y="990720"/>
            <a:ext cx="265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ydrocephalus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5102280" y="2590920"/>
            <a:ext cx="3340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tor &amp; cognitive 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airments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222480" y="5562720"/>
            <a:ext cx="517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ladder &amp; bowel incontinence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299520" y="6095880"/>
            <a:ext cx="517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cial &amp; emotional challenges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6" descr="wheelchair"/>
          <p:cNvPicPr/>
          <p:nvPr/>
        </p:nvPicPr>
        <p:blipFill>
          <a:blip r:embed="rId1"/>
          <a:stretch/>
        </p:blipFill>
        <p:spPr>
          <a:xfrm>
            <a:off x="5638680" y="4146480"/>
            <a:ext cx="3276720" cy="24987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hi myelo"/>
          <p:cNvPicPr/>
          <p:nvPr/>
        </p:nvPicPr>
        <p:blipFill>
          <a:blip r:embed="rId2"/>
          <a:stretch/>
        </p:blipFill>
        <p:spPr>
          <a:xfrm>
            <a:off x="228600" y="152280"/>
            <a:ext cx="2257560" cy="3429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myelo1"/>
          <p:cNvPicPr/>
          <p:nvPr/>
        </p:nvPicPr>
        <p:blipFill>
          <a:blip r:embed="rId3"/>
          <a:stretch/>
        </p:blipFill>
        <p:spPr>
          <a:xfrm>
            <a:off x="3124080" y="2057400"/>
            <a:ext cx="1819440" cy="3505320"/>
          </a:xfrm>
          <a:prstGeom prst="rect">
            <a:avLst/>
          </a:prstGeom>
          <a:ln w="0">
            <a:noFill/>
          </a:ln>
        </p:spPr>
      </p:pic>
      <p:sp>
        <p:nvSpPr>
          <p:cNvPr id="91" name="Text Box 9"/>
          <p:cNvSpPr/>
          <p:nvPr/>
        </p:nvSpPr>
        <p:spPr>
          <a:xfrm>
            <a:off x="2657880" y="1447920"/>
            <a:ext cx="651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for ventriculoperitoneal shunting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10"/>
          <p:cNvSpPr/>
          <p:nvPr/>
        </p:nvSpPr>
        <p:spPr>
          <a:xfrm>
            <a:off x="2666880" y="0"/>
            <a:ext cx="6172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Complications</a:t>
            </a: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883908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2a"/>
                </a:solidFill>
                <a:latin typeface="Times New Roman"/>
              </a:rPr>
              <a:t>History of Trial</a:t>
            </a:r>
            <a:br>
              <a:rPr sz="4400"/>
            </a:br>
            <a:r>
              <a:rPr b="0" lang="en-US" sz="3200" spc="-1" strike="noStrike">
                <a:solidFill>
                  <a:srgbClr val="00002a"/>
                </a:solidFill>
                <a:latin typeface="Times New Roman"/>
              </a:rPr>
              <a:t>“NICHD Workshop: Current Scientific, Ethical &amp; Clinical Considerations of Maternal-Fetal Surgery”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205704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ultidisciplinary workshop in July, 2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ined the relevant issue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couraged name of “maternal-fetal surgery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yelomeningocele discus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nically availab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mited follow-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known if outcome bet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4" descr="moms_logo_color"/>
          <p:cNvPicPr/>
          <p:nvPr/>
        </p:nvPicPr>
        <p:blipFill>
          <a:blip r:embed="rId1"/>
          <a:stretch/>
        </p:blipFill>
        <p:spPr>
          <a:xfrm>
            <a:off x="7315200" y="5160960"/>
            <a:ext cx="1828800" cy="16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Group 2"/>
          <p:cNvGrpSpPr/>
          <p:nvPr/>
        </p:nvGrpSpPr>
        <p:grpSpPr>
          <a:xfrm>
            <a:off x="762120" y="1219320"/>
            <a:ext cx="6706800" cy="3932280"/>
            <a:chOff x="762120" y="1219320"/>
            <a:chExt cx="6706800" cy="3932280"/>
          </a:xfrm>
        </p:grpSpPr>
        <p:pic>
          <p:nvPicPr>
            <p:cNvPr id="98" name="Picture 3" descr="Chiari reversal"/>
            <p:cNvPicPr/>
            <p:nvPr/>
          </p:nvPicPr>
          <p:blipFill>
            <a:blip r:embed="rId1"/>
            <a:stretch/>
          </p:blipFill>
          <p:spPr>
            <a:xfrm>
              <a:off x="4336920" y="1219320"/>
              <a:ext cx="3132000" cy="393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AutoShape 4"/>
            <p:cNvSpPr/>
            <p:nvPr/>
          </p:nvSpPr>
          <p:spPr>
            <a:xfrm rot="2703000">
              <a:off x="6195600" y="2291400"/>
              <a:ext cx="285480" cy="142560"/>
            </a:xfrm>
            <a:prstGeom prst="leftArrow">
              <a:avLst>
                <a:gd name="adj1" fmla="val 50000"/>
                <a:gd name="adj2" fmla="val 50063"/>
              </a:avLst>
            </a:prstGeom>
            <a:solidFill>
              <a:srgbClr val="ffff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3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" name="Group 5"/>
            <p:cNvGrpSpPr/>
            <p:nvPr/>
          </p:nvGrpSpPr>
          <p:grpSpPr>
            <a:xfrm>
              <a:off x="762120" y="1219320"/>
              <a:ext cx="3431520" cy="3932280"/>
              <a:chOff x="762120" y="1219320"/>
              <a:chExt cx="3431520" cy="3932280"/>
            </a:xfrm>
          </p:grpSpPr>
          <p:pic>
            <p:nvPicPr>
              <p:cNvPr id="101" name="Picture 6" descr="Chiari mechanism"/>
              <p:cNvPicPr/>
              <p:nvPr/>
            </p:nvPicPr>
            <p:blipFill>
              <a:blip r:embed="rId2"/>
              <a:stretch/>
            </p:blipFill>
            <p:spPr>
              <a:xfrm>
                <a:off x="762120" y="1219320"/>
                <a:ext cx="3431520" cy="3932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2" name="AutoShape 7"/>
              <p:cNvSpPr/>
              <p:nvPr/>
            </p:nvSpPr>
            <p:spPr>
              <a:xfrm rot="12539400">
                <a:off x="3842280" y="4514400"/>
                <a:ext cx="241200" cy="115560"/>
              </a:xfrm>
              <a:prstGeom prst="leftArrow">
                <a:avLst>
                  <a:gd name="adj1" fmla="val 50000"/>
                  <a:gd name="adj2" fmla="val 52181"/>
                </a:avLst>
              </a:prstGeom>
              <a:solidFill>
                <a:srgbClr val="ffff00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AutoShape 8"/>
              <p:cNvSpPr/>
              <p:nvPr/>
            </p:nvSpPr>
            <p:spPr>
              <a:xfrm rot="14277000">
                <a:off x="3666600" y="4685760"/>
                <a:ext cx="231120" cy="120960"/>
              </a:xfrm>
              <a:prstGeom prst="leftArrow">
                <a:avLst>
                  <a:gd name="adj1" fmla="val 50000"/>
                  <a:gd name="adj2" fmla="val 47768"/>
                </a:avLst>
              </a:prstGeom>
              <a:solidFill>
                <a:srgbClr val="ffff00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AutoShape 9"/>
              <p:cNvSpPr/>
              <p:nvPr/>
            </p:nvSpPr>
            <p:spPr>
              <a:xfrm rot="10800000">
                <a:off x="3902400" y="4225680"/>
                <a:ext cx="241560" cy="115560"/>
              </a:xfrm>
              <a:prstGeom prst="leftArrow">
                <a:avLst>
                  <a:gd name="adj1" fmla="val 50000"/>
                  <a:gd name="adj2" fmla="val 52259"/>
                </a:avLst>
              </a:prstGeom>
              <a:solidFill>
                <a:srgbClr val="ffff00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AutoShape 10"/>
              <p:cNvSpPr/>
              <p:nvPr/>
            </p:nvSpPr>
            <p:spPr>
              <a:xfrm rot="13184400">
                <a:off x="2694240" y="2201760"/>
                <a:ext cx="241560" cy="115560"/>
              </a:xfrm>
              <a:prstGeom prst="leftArrow">
                <a:avLst>
                  <a:gd name="adj1" fmla="val 50000"/>
                  <a:gd name="adj2" fmla="val 52259"/>
                </a:avLst>
              </a:prstGeom>
              <a:solidFill>
                <a:srgbClr val="ffff00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AutoShape 11"/>
              <p:cNvSpPr/>
              <p:nvPr/>
            </p:nvSpPr>
            <p:spPr>
              <a:xfrm rot="8917200">
                <a:off x="2392560" y="2317320"/>
                <a:ext cx="241200" cy="173160"/>
              </a:xfrm>
              <a:prstGeom prst="leftArrow">
                <a:avLst>
                  <a:gd name="adj1" fmla="val 50000"/>
                  <a:gd name="adj2" fmla="val 34823"/>
                </a:avLst>
              </a:prstGeom>
              <a:solidFill>
                <a:srgbClr val="ffff00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AutoShape 12"/>
              <p:cNvSpPr/>
              <p:nvPr/>
            </p:nvSpPr>
            <p:spPr>
              <a:xfrm rot="7975200">
                <a:off x="2275920" y="1853280"/>
                <a:ext cx="173160" cy="60480"/>
              </a:xfrm>
              <a:prstGeom prst="leftArrow">
                <a:avLst>
                  <a:gd name="adj1" fmla="val 50000"/>
                  <a:gd name="adj2" fmla="val 71577"/>
                </a:avLst>
              </a:prstGeom>
              <a:solidFill>
                <a:srgbClr val="ffff00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AutoShape 13"/>
              <p:cNvSpPr/>
              <p:nvPr/>
            </p:nvSpPr>
            <p:spPr>
              <a:xfrm rot="63600">
                <a:off x="1486800" y="2086200"/>
                <a:ext cx="181080" cy="57600"/>
              </a:xfrm>
              <a:prstGeom prst="leftArrow">
                <a:avLst>
                  <a:gd name="adj1" fmla="val 50000"/>
                  <a:gd name="adj2" fmla="val 78594"/>
                </a:avLst>
              </a:prstGeom>
              <a:solidFill>
                <a:srgbClr val="ffff00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AutoShape 14"/>
              <p:cNvSpPr/>
              <p:nvPr/>
            </p:nvSpPr>
            <p:spPr>
              <a:xfrm rot="6769200">
                <a:off x="2034000" y="1795680"/>
                <a:ext cx="173160" cy="60480"/>
              </a:xfrm>
              <a:prstGeom prst="leftArrow">
                <a:avLst>
                  <a:gd name="adj1" fmla="val 50000"/>
                  <a:gd name="adj2" fmla="val 71577"/>
                </a:avLst>
              </a:prstGeom>
              <a:solidFill>
                <a:srgbClr val="ffff00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AutoShape 15"/>
              <p:cNvSpPr/>
              <p:nvPr/>
            </p:nvSpPr>
            <p:spPr>
              <a:xfrm rot="2683800">
                <a:off x="1667520" y="1855440"/>
                <a:ext cx="181080" cy="57600"/>
              </a:xfrm>
              <a:prstGeom prst="leftArrow">
                <a:avLst>
                  <a:gd name="adj1" fmla="val 50000"/>
                  <a:gd name="adj2" fmla="val 78594"/>
                </a:avLst>
              </a:prstGeom>
              <a:solidFill>
                <a:srgbClr val="ffff00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1" name="Rectangle 16"/>
          <p:cNvSpPr/>
          <p:nvPr/>
        </p:nvSpPr>
        <p:spPr>
          <a:xfrm>
            <a:off x="-228600" y="228600"/>
            <a:ext cx="9144000" cy="609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Human Fetal Myelomeningocele Repair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4" descr="moms_logo_color"/>
          <p:cNvPicPr/>
          <p:nvPr/>
        </p:nvPicPr>
        <p:blipFill>
          <a:blip r:embed="rId3"/>
          <a:stretch/>
        </p:blipFill>
        <p:spPr>
          <a:xfrm>
            <a:off x="7315200" y="5160960"/>
            <a:ext cx="1828800" cy="169704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1T13:46:30Z</dcterms:created>
  <dc:creator>Nancy Chescheir, M.D.</dc:creator>
  <dc:description/>
  <dc:language>en-US</dc:language>
  <cp:lastModifiedBy>kathryn.ramage</cp:lastModifiedBy>
  <dcterms:modified xsi:type="dcterms:W3CDTF">2010-11-24T14:28:14Z</dcterms:modified>
  <cp:revision>199</cp:revision>
  <dc:subject/>
  <dc:title>PowerPoint Presentation</dc:title>
</cp:coreProperties>
</file>