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9.wmf" ContentType="image/x-wmf"/>
  <Override PartName="/ppt/media/image2.png" ContentType="image/png"/>
  <Override PartName="/ppt/media/image17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240-93C8-4A05-8E6D-7A6443F20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3FAC-B273-443A-BED1-7104D8E06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E95-7EA3-418C-992A-44C58D47A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4BDB-CADF-453F-B14E-CF67C49FE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69D-C9FA-4DEA-B172-1CFA4ABDD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3982-31D8-467B-8077-F78CF5C91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9ED-695F-4E30-A1F3-308CC3171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76C5-F831-421E-AB31-5EF160FE3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C5D-2020-43B6-A7C3-2FA57CB6B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1EF9-5873-4437-AA9E-7DA42D6AA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CFB9-8F2B-441F-A219-A6891CE02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2FFB-134C-47C6-AAAC-8F9F7584E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353-A678-4B24-B5A5-DE03E42B6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0D1-F705-4706-A7DD-45B14652E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C59-C91B-4406-8DCB-8390E5B02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52D-782A-4EEC-9993-D33FE865A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1294-7452-45AE-A373-06DF5353A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2AEA-9C6A-4776-AEDF-4B927AD30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DDC-19D5-417E-88ED-56184470F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03A4-1BD4-440A-80A4-4D716A695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0105-0E39-4957-945D-1154E6D6E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D94-3C73-4D5F-BB9B-39D8C5CBA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CB3D-BE1C-440B-8B09-8F0169562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4744-AE46-42AC-A74F-96F019537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2DEA-FA8E-4937-8EC0-50A7FE28B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CA5-28B0-4358-BC0A-541694B24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E5E8-C508-4551-9C52-3B1B086DE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9E1B-E817-4ACB-8BCB-E9B177ED5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970-34A2-4DB6-8D6D-8032F7D88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4994-9826-4BB9-8B4B-4D78D6C94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8AE-64A4-4F8D-901D-96146EEA1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59BE-F8D6-4022-9558-2996D64FD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8F4C-C7AA-499F-B5CD-36C22CC56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E55D-C32F-4DB1-A467-29A56A600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D766-8D74-485D-ABC2-7C3EBB22D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E1FA-FF87-4CB6-9EB2-03D45049D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292-AD91-48D7-BB91-D97124CF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C23-6BCC-49B3-8B92-8861DFF0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EC7-20BF-41A0-98D3-C575CC9D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63D-8F63-474D-892A-6714E382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C26-371B-4732-89AC-DC0780D3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C2D-B2A2-4FA4-958F-D4FE3162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476-4573-4476-BE5A-262F6F3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F66-6589-4C22-AE3A-58B63269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256-0387-4E10-94E4-03532755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648-14B6-4EC3-AD78-85C83E64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301-BE7C-4349-88E4-084A3FB7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DAC-63B3-4A93-8562-A201B70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103-4B4B-48A1-87D3-70C426091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ainlogo"/>
          <p:cNvPicPr/>
          <p:nvPr/>
        </p:nvPicPr>
        <p:blipFill>
          <a:blip r:embed="rId1"/>
          <a:stretch/>
        </p:blipFill>
        <p:spPr>
          <a:xfrm>
            <a:off x="3581280" y="0"/>
            <a:ext cx="5334120" cy="4938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33520" y="5181480"/>
            <a:ext cx="84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san Tolivaisa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unice Kennedy Shriv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ational Institute of Child Health and Human Developmen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80880" y="322920"/>
            <a:ext cx="457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valuating Emerging Technologies: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s the Future Now?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DHHS_Logo.gif"/>
          <p:cNvPicPr/>
          <p:nvPr/>
        </p:nvPicPr>
        <p:blipFill>
          <a:blip r:embed="rId2"/>
          <a:stretch/>
        </p:blipFill>
        <p:spPr>
          <a:xfrm>
            <a:off x="304920" y="5851440"/>
            <a:ext cx="1017360" cy="100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NIH_Logo.gif"/>
          <p:cNvPicPr/>
          <p:nvPr/>
        </p:nvPicPr>
        <p:blipFill>
          <a:blip r:embed="rId3"/>
          <a:stretch/>
        </p:blipFill>
        <p:spPr>
          <a:xfrm>
            <a:off x="1371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NICHD_Eunice logo.gif"/>
          <p:cNvPicPr/>
          <p:nvPr/>
        </p:nvPicPr>
        <p:blipFill>
          <a:blip r:embed="rId4"/>
          <a:stretch/>
        </p:blipFill>
        <p:spPr>
          <a:xfrm>
            <a:off x="6934320" y="6126120"/>
            <a:ext cx="19033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6"/>
          <p:cNvGrpSpPr/>
          <p:nvPr/>
        </p:nvGrpSpPr>
        <p:grpSpPr>
          <a:xfrm>
            <a:off x="838080" y="3886200"/>
            <a:ext cx="7543800" cy="2133720"/>
            <a:chOff x="838080" y="3886200"/>
            <a:chExt cx="7543800" cy="213372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rcRect l="19999" t="50002" r="18125" b="21999"/>
            <a:stretch/>
          </p:blipFill>
          <p:spPr>
            <a:xfrm>
              <a:off x="838080" y="3886200"/>
              <a:ext cx="7543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5"/>
            <p:cNvSpPr/>
            <p:nvPr/>
          </p:nvSpPr>
          <p:spPr>
            <a:xfrm>
              <a:off x="2781360" y="4876920"/>
              <a:ext cx="1857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mber 252 – 2001  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7"/>
          <p:cNvSpPr/>
          <p:nvPr/>
        </p:nvSpPr>
        <p:spPr>
          <a:xfrm>
            <a:off x="483480" y="152280"/>
            <a:ext cx="62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OG Committee Opinio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nal-fetal surgery for myelomeningocele should be evaluated in a multicenter RCT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we are doing a tr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or to 2002, data indicated some benefits regarding hindbrain herniation and shun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comparison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confo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risks to mom &amp; ba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rt term data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omplete follow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velopment of MOMS 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CSF, CHOP, Vanderbilt held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reed to collabo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fetal surgery sites agreed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no back door”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not get maternal-fetal repair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uts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MC900230952[1]"/>
          <p:cNvPicPr/>
          <p:nvPr/>
        </p:nvPicPr>
        <p:blipFill>
          <a:blip r:embed="rId1"/>
          <a:stretch/>
        </p:blipFill>
        <p:spPr>
          <a:xfrm>
            <a:off x="6711840" y="1828800"/>
            <a:ext cx="2432160" cy="3465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7620120" y="2895480"/>
            <a:ext cx="4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0121"/>
                </a:solidFill>
                <a:latin typeface="Times New Roman"/>
              </a:rPr>
              <a:t>Goal of the 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801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121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80121"/>
                </a:solidFill>
                <a:latin typeface="Times New Roman"/>
              </a:rPr>
              <a:t>To compare the safety and efficacy of in utero repair of open neural tube defects with that of the standard postnatal rep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457200" y="0"/>
            <a:ext cx="7696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imary hypothese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rimester repair of fetal MMC compared with standard postnatal repai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190332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es the risk of death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ventricular decompression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unting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in an improvement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neurologic and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uromotor func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81240" y="2743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site of Bayley Scales of Infant Development MDI and motor function) assessed by independent team of examiners at 30 mo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Primary Outc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80880" y="838080"/>
            <a:ext cx="883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al Primary Outcome:</a:t>
            </a:r>
            <a:br>
              <a:rPr sz="2800"/>
            </a:b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ath, placement of or meeting criteria for ventricular shunt by age1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 Stud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masked randomized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size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al scre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igible and interested are assigned to a MOMS cen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ed at MOMS center and if consenting, random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natal, postnatal repair &amp; delivery at MOMS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and 30 month follow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sons for Central Screening/Refer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t couns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ws time to process information, consider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t eligibility scre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MC starting at T1-S1 with  evidence of hindbrain hern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ton pregnancy 1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eeks, normal kary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.S. 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um 18 years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jor Exclus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ed risk for  preterm delivery, e.g. prior spontaneous PT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indication to surgery, e.g. previous classical cesarean or fetal surg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MI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523880" y="1522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44792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S Clinical Cent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hildren’s Hospital of Philadelphi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ity of California-San Francisc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anderbilt University Medical Cent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ng Cent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George Washington University Biostatistics Cent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unice Kennedy Shr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tional Institute of Child Health and Human Development (NICHD) Pregnancy and Perinatology Branch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MOMS Trial and Its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reening at Clinical Site (2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31000" y="1371600"/>
            <a:ext cx="8613000" cy="5214600"/>
            <a:chOff x="531000" y="1371600"/>
            <a:chExt cx="8613000" cy="5214600"/>
          </a:xfrm>
        </p:grpSpPr>
        <p:sp>
          <p:nvSpPr>
            <p:cNvPr id="153" name="Line 25"/>
            <p:cNvSpPr/>
            <p:nvPr/>
          </p:nvSpPr>
          <p:spPr>
            <a:xfrm>
              <a:off x="3124080" y="2057400"/>
              <a:ext cx="327636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3"/>
            <p:cNvSpPr/>
            <p:nvPr/>
          </p:nvSpPr>
          <p:spPr>
            <a:xfrm>
              <a:off x="4572000" y="2209680"/>
              <a:ext cx="0" cy="76176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"/>
            <p:cNvSpPr/>
            <p:nvPr/>
          </p:nvSpPr>
          <p:spPr>
            <a:xfrm>
              <a:off x="1600200" y="1371600"/>
              <a:ext cx="754380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531000" y="1600200"/>
              <a:ext cx="29390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vel &amp; lodging arranged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ther and support person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id by MOMS center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3582720" y="1904760"/>
              <a:ext cx="2113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aluation process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5942880" y="1676160"/>
              <a:ext cx="245448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requirements met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fered randomization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5029200" y="4267080"/>
              <a:ext cx="0" cy="4572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3967920" y="4572000"/>
              <a:ext cx="1706400" cy="2014200"/>
            </a:xfrm>
            <a:prstGeom prst="rect">
              <a:avLst/>
            </a:prstGeom>
            <a:solidFill>
              <a:srgbClr val="f3f3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al surgeon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urosurgeon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urse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onatologist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al worker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esthesiologist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erinatologist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2821680" y="2895480"/>
              <a:ext cx="3103920" cy="1465560"/>
            </a:xfrm>
            <a:prstGeom prst="rect">
              <a:avLst/>
            </a:prstGeom>
            <a:solidFill>
              <a:srgbClr val="f3f3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rehensive ultrasound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RI of fetus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al echocardiogram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ychological testing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etings with evaluations team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-1590840" y="5943600"/>
            <a:ext cx="13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4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17"/>
          <p:cNvGrpSpPr/>
          <p:nvPr/>
        </p:nvGrpSpPr>
        <p:grpSpPr>
          <a:xfrm>
            <a:off x="886320" y="1371600"/>
            <a:ext cx="7641360" cy="4940640"/>
            <a:chOff x="886320" y="1371600"/>
            <a:chExt cx="7641360" cy="4940640"/>
          </a:xfrm>
        </p:grpSpPr>
        <p:sp>
          <p:nvSpPr>
            <p:cNvPr id="167" name="Line 15"/>
            <p:cNvSpPr/>
            <p:nvPr/>
          </p:nvSpPr>
          <p:spPr>
            <a:xfrm>
              <a:off x="5418000" y="2057400"/>
              <a:ext cx="0" cy="29718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665520" y="1981080"/>
              <a:ext cx="0" cy="388656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2904480" y="1371600"/>
              <a:ext cx="31755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ms and infants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to assigned center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4880520" y="2514600"/>
              <a:ext cx="2088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natal group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4880880" y="3098880"/>
              <a:ext cx="1765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home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>
              <a:off x="4894200" y="3657600"/>
              <a:ext cx="3577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at 37wks to MOMS 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nter for delivery by CD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1485720" y="4496040"/>
              <a:ext cx="28191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ains near center 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til delivery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2331000" y="2666880"/>
              <a:ext cx="1969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natal group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886320" y="3276720"/>
              <a:ext cx="3478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mitted to MOMS center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2372760" y="3886200"/>
              <a:ext cx="1928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utero repair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5"/>
            <p:cNvSpPr/>
            <p:nvPr/>
          </p:nvSpPr>
          <p:spPr>
            <a:xfrm>
              <a:off x="4878360" y="4648320"/>
              <a:ext cx="3649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natal closure within 48h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952200" y="5486760"/>
              <a:ext cx="335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liver by CD 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@ 37wks if undelivered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andomization to Neonatal Dis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Sht3_010"/>
          <p:cNvPicPr/>
          <p:nvPr/>
        </p:nvPicPr>
        <p:blipFill>
          <a:blip r:embed="rId1"/>
          <a:stretch/>
        </p:blipFill>
        <p:spPr>
          <a:xfrm>
            <a:off x="152280" y="946080"/>
            <a:ext cx="8991720" cy="5905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228600" y="146160"/>
            <a:ext cx="89154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2a"/>
                </a:solidFill>
                <a:latin typeface="Times New Roman"/>
              </a:rPr>
              <a:t>Human Fetal Myelomeningocele Repair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572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18"/>
          <p:cNvGrpSpPr/>
          <p:nvPr/>
        </p:nvGrpSpPr>
        <p:grpSpPr>
          <a:xfrm>
            <a:off x="685800" y="1143000"/>
            <a:ext cx="7543800" cy="5410080"/>
            <a:chOff x="685800" y="1143000"/>
            <a:chExt cx="7543800" cy="5410080"/>
          </a:xfrm>
        </p:grpSpPr>
        <p:sp>
          <p:nvSpPr>
            <p:cNvPr id="188" name="Line 28"/>
            <p:cNvSpPr/>
            <p:nvPr/>
          </p:nvSpPr>
          <p:spPr>
            <a:xfrm>
              <a:off x="5410080" y="2286000"/>
              <a:ext cx="4572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3"/>
            <p:cNvSpPr/>
            <p:nvPr/>
          </p:nvSpPr>
          <p:spPr>
            <a:xfrm>
              <a:off x="685800" y="1143000"/>
              <a:ext cx="754380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3505320" y="2209680"/>
              <a:ext cx="0" cy="38862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2594880" y="1295280"/>
              <a:ext cx="36662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oms and infant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urn to assigned center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4576680" y="2514600"/>
              <a:ext cx="16743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 month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4578480" y="3200400"/>
              <a:ext cx="26967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eurologic Exam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0"/>
            <p:cNvSpPr/>
            <p:nvPr/>
          </p:nvSpPr>
          <p:spPr>
            <a:xfrm>
              <a:off x="4500720" y="3962520"/>
              <a:ext cx="35060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velopmental Testing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1606680" y="5257800"/>
              <a:ext cx="319968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RI of head &amp; spine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2"/>
            <p:cNvSpPr/>
            <p:nvPr/>
          </p:nvSpPr>
          <p:spPr>
            <a:xfrm>
              <a:off x="2671560" y="2514600"/>
              <a:ext cx="16743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 month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3"/>
            <p:cNvSpPr/>
            <p:nvPr/>
          </p:nvSpPr>
          <p:spPr>
            <a:xfrm>
              <a:off x="1682640" y="3200400"/>
              <a:ext cx="26967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eurologic Exam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843120" y="3962520"/>
              <a:ext cx="35060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velopmental Testing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2438280" y="5943600"/>
              <a:ext cx="20574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ine x-ray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4572000" y="4648320"/>
              <a:ext cx="21175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rodynamic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2296440" y="4648320"/>
              <a:ext cx="209628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rodynamic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tcome Measur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ventricular decompressive shunting at 12 months defined by objective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shunt placed without meeting criteria, qualifies as primary out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ortant for neurosurgeons to use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committee of neurosurgeons, blinded to treatment assignment, determines whether criteria have been m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tcome Measur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score from the Bayley Scales of Infant Development MDI and the difference between the motor level and lesion lev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ed by independent examiners blinded to treatment ass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deotapes of physical exams reviewed by independent exp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independent review committees/examin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mary outcome 1 and urology both practice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masked trial; therefore susceptible to  bias (investigator, ascertainm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sure consistent outcome determination across ce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ata and Safety Monitoring Committee (DSM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ointed by NIH; no conflict of inter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disciplina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iostatistics, Epidemiology, Maternal-Fetal Medicine, Neonatology, Pediatrics, Neurosurgery, Urology, Ethics, Layper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s interim data and has the authority to recommend stopping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ce of bene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ce of h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rnal influences and ev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Status (9/7/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6400800" cy="5410080"/>
          </a:xfrm>
          <a:prstGeom prst="rect">
            <a:avLst/>
          </a:prstGeom>
          <a:solidFill>
            <a:srgbClr val="f5f5f5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10 central conta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49 screen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33 met exclusion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0 decided not to particip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93 eligible &amp; refer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78 random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xclusion: Central Scre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207"/>
          <p:cNvGraphicFramePr/>
          <p:nvPr/>
        </p:nvGraphicFramePr>
        <p:xfrm>
          <a:off x="685800" y="1306440"/>
          <a:ext cx="7772400" cy="52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2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6440"/>
                    <a:ext cx="777240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217"/>
          <p:cNvSpPr/>
          <p:nvPr/>
        </p:nvSpPr>
        <p:spPr>
          <a:xfrm>
            <a:off x="6561000" y="1674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=533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220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666520" y="16765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tetrical management, especially for high-risk patients, has often adopted practices without objective eval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Hispanic pregnant woman "/>
          <p:cNvPicPr/>
          <p:nvPr/>
        </p:nvPicPr>
        <p:blipFill>
          <a:blip r:embed="rId1"/>
          <a:stretch/>
        </p:blipFill>
        <p:spPr>
          <a:xfrm>
            <a:off x="533520" y="1143000"/>
            <a:ext cx="2120760" cy="4314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sons for Non-particip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685800" y="1306440"/>
          <a:ext cx="7772400" cy="52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6440"/>
                    <a:ext cx="777240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5418000" y="1981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=230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9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reening &amp;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12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Group 6"/>
          <p:cNvGrpSpPr/>
          <p:nvPr/>
        </p:nvGrpSpPr>
        <p:grpSpPr>
          <a:xfrm>
            <a:off x="331920" y="2179800"/>
            <a:ext cx="8812080" cy="4527720"/>
            <a:chOff x="331920" y="2179800"/>
            <a:chExt cx="8812080" cy="4527720"/>
          </a:xfrm>
        </p:grpSpPr>
        <p:sp>
          <p:nvSpPr>
            <p:cNvPr id="234" name="Text Box 7"/>
            <p:cNvSpPr/>
            <p:nvPr/>
          </p:nvSpPr>
          <p:spPr>
            <a:xfrm>
              <a:off x="380880" y="6324840"/>
              <a:ext cx="2438280" cy="276480"/>
            </a:xfrm>
            <a:prstGeom prst="rect">
              <a:avLst/>
            </a:prstGeom>
            <a:solidFill>
              <a:srgbClr val="dddddd"/>
            </a:solidFill>
            <a:ln cap="rnd" w="9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patient randomized 3/6/03</a:t>
              </a:r>
              <a:endParaRPr b="1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5" name="Object 5"/>
            <p:cNvGraphicFramePr/>
            <p:nvPr/>
          </p:nvGraphicFramePr>
          <p:xfrm>
            <a:off x="331920" y="2179800"/>
            <a:ext cx="8588520" cy="3962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1920" y="2179800"/>
                      <a:ext cx="8588520" cy="396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Text Box 6"/>
            <p:cNvSpPr/>
            <p:nvPr/>
          </p:nvSpPr>
          <p:spPr>
            <a:xfrm>
              <a:off x="6553440" y="6248520"/>
              <a:ext cx="259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*   2 months in this quarter</a:t>
              </a:r>
              <a:endParaRPr b="1" i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**  1 month in this quarter</a:t>
              </a:r>
              <a:endParaRPr b="1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andomization by Mo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-82440" y="1143000"/>
          <a:ext cx="877716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440" y="1143000"/>
                    <a:ext cx="8777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ollow-up Vis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9"/>
          <p:cNvSpPr/>
          <p:nvPr/>
        </p:nvSpPr>
        <p:spPr>
          <a:xfrm>
            <a:off x="685800" y="243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9% 30-month follow-up visits to date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(n=129)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Publicity 2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mailings – 1,500 pie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emails – 4 (SMFM,NSGC,SBA Parents &amp; Provide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ertisements – 2 (Green journal, Google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s/Speaking engagements – 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ociation newsletters – 1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s to website – 1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llenging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ow 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cellent follow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“back door” policy cru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FTnet (North American Fetal Therapy Network) endors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14240" y="16765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tal surgery began for lethal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s involve tw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term risks: future preg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ispanic pregnant woman "/>
          <p:cNvPicPr/>
          <p:nvPr/>
        </p:nvPicPr>
        <p:blipFill>
          <a:blip r:embed="rId1"/>
          <a:stretch/>
        </p:blipFill>
        <p:spPr>
          <a:xfrm>
            <a:off x="304920" y="1143000"/>
            <a:ext cx="2120760" cy="431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762120" y="1143000"/>
            <a:ext cx="7772400" cy="4360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2a"/>
                </a:solidFill>
                <a:latin typeface="Times New Roman"/>
              </a:rPr>
              <a:t>Fetal surgery for myelomeningocele (MMC or spina bifida) moves beyond the typical paradigm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 a </a:t>
            </a:r>
            <a:r>
              <a:rPr b="0" lang="en-US" sz="4000" spc="-1" strike="noStrike">
                <a:solidFill>
                  <a:srgbClr val="00002a"/>
                </a:solidFill>
                <a:latin typeface="Times New Roman"/>
                <a:ea typeface="ＭＳ Ｐゴシック"/>
              </a:rPr>
              <a:t>lethal conditio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5720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yelomeningocele (MMC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Open neural tube de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 &amp; severe C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genital anoma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fects ~ 1500 fetuses in U.S. annu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rity varies depending on level of l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morbidity and mort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fe-long disabil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7010280" y="0"/>
            <a:ext cx="2133720" cy="2446200"/>
            <a:chOff x="7010280" y="0"/>
            <a:chExt cx="2133720" cy="2446200"/>
          </a:xfrm>
        </p:grpSpPr>
        <p:pic>
          <p:nvPicPr>
            <p:cNvPr id="73" name="Picture 8" descr="Chiari mechanism"/>
            <p:cNvPicPr/>
            <p:nvPr/>
          </p:nvPicPr>
          <p:blipFill>
            <a:blip r:embed="rId1"/>
            <a:stretch/>
          </p:blipFill>
          <p:spPr>
            <a:xfrm>
              <a:off x="7010280" y="0"/>
              <a:ext cx="213372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9"/>
            <p:cNvSpPr/>
            <p:nvPr/>
          </p:nvSpPr>
          <p:spPr>
            <a:xfrm rot="12539400">
              <a:off x="8925120" y="2049840"/>
              <a:ext cx="150120" cy="72000"/>
            </a:xfrm>
            <a:prstGeom prst="leftArrow">
              <a:avLst>
                <a:gd name="adj1" fmla="val 50000"/>
                <a:gd name="adj2" fmla="val 52125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10"/>
            <p:cNvSpPr/>
            <p:nvPr/>
          </p:nvSpPr>
          <p:spPr>
            <a:xfrm rot="14277000">
              <a:off x="8816040" y="2156040"/>
              <a:ext cx="143640" cy="75240"/>
            </a:xfrm>
            <a:prstGeom prst="leftArrow">
              <a:avLst>
                <a:gd name="adj1" fmla="val 50000"/>
                <a:gd name="adj2" fmla="val 4772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11"/>
            <p:cNvSpPr/>
            <p:nvPr/>
          </p:nvSpPr>
          <p:spPr>
            <a:xfrm rot="10800000">
              <a:off x="8962920" y="1870200"/>
              <a:ext cx="150120" cy="71640"/>
            </a:xfrm>
            <a:prstGeom prst="leftArrow">
              <a:avLst>
                <a:gd name="adj1" fmla="val 50000"/>
                <a:gd name="adj2" fmla="val 5238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12"/>
            <p:cNvSpPr/>
            <p:nvPr/>
          </p:nvSpPr>
          <p:spPr>
            <a:xfrm rot="13184400">
              <a:off x="8211600" y="610920"/>
              <a:ext cx="150120" cy="71640"/>
            </a:xfrm>
            <a:prstGeom prst="leftArrow">
              <a:avLst>
                <a:gd name="adj1" fmla="val 50000"/>
                <a:gd name="adj2" fmla="val 5238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13"/>
            <p:cNvSpPr/>
            <p:nvPr/>
          </p:nvSpPr>
          <p:spPr>
            <a:xfrm rot="8917200">
              <a:off x="8023680" y="682920"/>
              <a:ext cx="150120" cy="107640"/>
            </a:xfrm>
            <a:prstGeom prst="leftArrow">
              <a:avLst>
                <a:gd name="adj1" fmla="val 50000"/>
                <a:gd name="adj2" fmla="val 34866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14"/>
            <p:cNvSpPr/>
            <p:nvPr/>
          </p:nvSpPr>
          <p:spPr>
            <a:xfrm rot="7975200">
              <a:off x="7951320" y="394560"/>
              <a:ext cx="107640" cy="37440"/>
            </a:xfrm>
            <a:prstGeom prst="leftArrow">
              <a:avLst>
                <a:gd name="adj1" fmla="val 50000"/>
                <a:gd name="adj2" fmla="val 71875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15"/>
            <p:cNvSpPr/>
            <p:nvPr/>
          </p:nvSpPr>
          <p:spPr>
            <a:xfrm rot="63600">
              <a:off x="7461000" y="538920"/>
              <a:ext cx="112680" cy="36000"/>
            </a:xfrm>
            <a:prstGeom prst="leftArrow">
              <a:avLst>
                <a:gd name="adj1" fmla="val 50000"/>
                <a:gd name="adj2" fmla="val 7825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16"/>
            <p:cNvSpPr/>
            <p:nvPr/>
          </p:nvSpPr>
          <p:spPr>
            <a:xfrm rot="6769200">
              <a:off x="7801200" y="358560"/>
              <a:ext cx="107640" cy="37440"/>
            </a:xfrm>
            <a:prstGeom prst="leftArrow">
              <a:avLst>
                <a:gd name="adj1" fmla="val 50000"/>
                <a:gd name="adj2" fmla="val 71875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17"/>
            <p:cNvSpPr/>
            <p:nvPr/>
          </p:nvSpPr>
          <p:spPr>
            <a:xfrm rot="2683800">
              <a:off x="7573320" y="395280"/>
              <a:ext cx="112680" cy="35640"/>
            </a:xfrm>
            <a:prstGeom prst="leftArrow">
              <a:avLst>
                <a:gd name="adj1" fmla="val 50000"/>
                <a:gd name="adj2" fmla="val 7904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Picture 4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664720" y="990720"/>
            <a:ext cx="26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cephalu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02280" y="2590920"/>
            <a:ext cx="334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&amp; cognitive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men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2480" y="556272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der &amp; bowel incontinenc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9520" y="6095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&amp; emotional challeng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wheelchair"/>
          <p:cNvPicPr/>
          <p:nvPr/>
        </p:nvPicPr>
        <p:blipFill>
          <a:blip r:embed="rId1"/>
          <a:stretch/>
        </p:blipFill>
        <p:spPr>
          <a:xfrm>
            <a:off x="5638680" y="4146480"/>
            <a:ext cx="3276720" cy="249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i myelo"/>
          <p:cNvPicPr/>
          <p:nvPr/>
        </p:nvPicPr>
        <p:blipFill>
          <a:blip r:embed="rId2"/>
          <a:stretch/>
        </p:blipFill>
        <p:spPr>
          <a:xfrm>
            <a:off x="228600" y="152280"/>
            <a:ext cx="225756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yelo1"/>
          <p:cNvPicPr/>
          <p:nvPr/>
        </p:nvPicPr>
        <p:blipFill>
          <a:blip r:embed="rId3"/>
          <a:stretch/>
        </p:blipFill>
        <p:spPr>
          <a:xfrm>
            <a:off x="3124080" y="2057400"/>
            <a:ext cx="181944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2657880" y="1447920"/>
            <a:ext cx="65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ventriculoperitoneal shunting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666880" y="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lication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2a"/>
                </a:solidFill>
                <a:latin typeface="Times New Roman"/>
              </a:rPr>
              <a:t>History of Trial</a:t>
            </a:r>
            <a:br>
              <a:rPr sz="4400"/>
            </a:br>
            <a:r>
              <a:rPr b="0" lang="en-US" sz="3200" spc="-1" strike="noStrike">
                <a:solidFill>
                  <a:srgbClr val="00002a"/>
                </a:solidFill>
                <a:latin typeface="Times New Roman"/>
              </a:rPr>
              <a:t>“NICHD Workshop: Current Scientific, Ethical &amp; Clinical Considerations of Maternal-Fetal Surgery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disciplinary workshop in July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ined the relevant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name of “maternal-fetal surge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elomeningocele discu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ly avail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if outcome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762120" y="1219320"/>
            <a:ext cx="6706800" cy="3932280"/>
            <a:chOff x="762120" y="1219320"/>
            <a:chExt cx="6706800" cy="3932280"/>
          </a:xfrm>
        </p:grpSpPr>
        <p:pic>
          <p:nvPicPr>
            <p:cNvPr id="98" name="Picture 3" descr="Chiari reversal"/>
            <p:cNvPicPr/>
            <p:nvPr/>
          </p:nvPicPr>
          <p:blipFill>
            <a:blip r:embed="rId1"/>
            <a:stretch/>
          </p:blipFill>
          <p:spPr>
            <a:xfrm>
              <a:off x="4336920" y="1219320"/>
              <a:ext cx="313200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4"/>
            <p:cNvSpPr/>
            <p:nvPr/>
          </p:nvSpPr>
          <p:spPr>
            <a:xfrm rot="2703000">
              <a:off x="6195600" y="2291400"/>
              <a:ext cx="285480" cy="142560"/>
            </a:xfrm>
            <a:prstGeom prst="leftArrow">
              <a:avLst>
                <a:gd name="adj1" fmla="val 50000"/>
                <a:gd name="adj2" fmla="val 50063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62120" y="1219320"/>
              <a:ext cx="3431520" cy="3932280"/>
              <a:chOff x="762120" y="1219320"/>
              <a:chExt cx="3431520" cy="3932280"/>
            </a:xfrm>
          </p:grpSpPr>
          <p:pic>
            <p:nvPicPr>
              <p:cNvPr id="101" name="Picture 6" descr="Chiari mechanism"/>
              <p:cNvPicPr/>
              <p:nvPr/>
            </p:nvPicPr>
            <p:blipFill>
              <a:blip r:embed="rId2"/>
              <a:stretch/>
            </p:blipFill>
            <p:spPr>
              <a:xfrm>
                <a:off x="762120" y="1219320"/>
                <a:ext cx="343152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AutoShape 7"/>
              <p:cNvSpPr/>
              <p:nvPr/>
            </p:nvSpPr>
            <p:spPr>
              <a:xfrm rot="12539400">
                <a:off x="3842280" y="4514400"/>
                <a:ext cx="241200" cy="115560"/>
              </a:xfrm>
              <a:prstGeom prst="leftArrow">
                <a:avLst>
                  <a:gd name="adj1" fmla="val 50000"/>
                  <a:gd name="adj2" fmla="val 52181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8"/>
              <p:cNvSpPr/>
              <p:nvPr/>
            </p:nvSpPr>
            <p:spPr>
              <a:xfrm rot="14277000">
                <a:off x="3666600" y="4685760"/>
                <a:ext cx="231120" cy="120960"/>
              </a:xfrm>
              <a:prstGeom prst="leftArrow">
                <a:avLst>
                  <a:gd name="adj1" fmla="val 50000"/>
                  <a:gd name="adj2" fmla="val 47768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9"/>
              <p:cNvSpPr/>
              <p:nvPr/>
            </p:nvSpPr>
            <p:spPr>
              <a:xfrm rot="10800000">
                <a:off x="3902400" y="4225680"/>
                <a:ext cx="241560" cy="115560"/>
              </a:xfrm>
              <a:prstGeom prst="leftArrow">
                <a:avLst>
                  <a:gd name="adj1" fmla="val 50000"/>
                  <a:gd name="adj2" fmla="val 52259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10"/>
              <p:cNvSpPr/>
              <p:nvPr/>
            </p:nvSpPr>
            <p:spPr>
              <a:xfrm rot="13184400">
                <a:off x="2694240" y="2201760"/>
                <a:ext cx="241560" cy="115560"/>
              </a:xfrm>
              <a:prstGeom prst="leftArrow">
                <a:avLst>
                  <a:gd name="adj1" fmla="val 50000"/>
                  <a:gd name="adj2" fmla="val 52259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11"/>
              <p:cNvSpPr/>
              <p:nvPr/>
            </p:nvSpPr>
            <p:spPr>
              <a:xfrm rot="8917200">
                <a:off x="2392560" y="2317320"/>
                <a:ext cx="241200" cy="173160"/>
              </a:xfrm>
              <a:prstGeom prst="leftArrow">
                <a:avLst>
                  <a:gd name="adj1" fmla="val 50000"/>
                  <a:gd name="adj2" fmla="val 34823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12"/>
              <p:cNvSpPr/>
              <p:nvPr/>
            </p:nvSpPr>
            <p:spPr>
              <a:xfrm rot="7975200">
                <a:off x="2275920" y="1853280"/>
                <a:ext cx="173160" cy="60480"/>
              </a:xfrm>
              <a:prstGeom prst="leftArrow">
                <a:avLst>
                  <a:gd name="adj1" fmla="val 50000"/>
                  <a:gd name="adj2" fmla="val 71577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13"/>
              <p:cNvSpPr/>
              <p:nvPr/>
            </p:nvSpPr>
            <p:spPr>
              <a:xfrm rot="63600">
                <a:off x="1486800" y="2086200"/>
                <a:ext cx="181080" cy="57600"/>
              </a:xfrm>
              <a:prstGeom prst="leftArrow">
                <a:avLst>
                  <a:gd name="adj1" fmla="val 50000"/>
                  <a:gd name="adj2" fmla="val 78594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14"/>
              <p:cNvSpPr/>
              <p:nvPr/>
            </p:nvSpPr>
            <p:spPr>
              <a:xfrm rot="6769200">
                <a:off x="2034000" y="1795680"/>
                <a:ext cx="173160" cy="60480"/>
              </a:xfrm>
              <a:prstGeom prst="leftArrow">
                <a:avLst>
                  <a:gd name="adj1" fmla="val 50000"/>
                  <a:gd name="adj2" fmla="val 71577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15"/>
              <p:cNvSpPr/>
              <p:nvPr/>
            </p:nvSpPr>
            <p:spPr>
              <a:xfrm rot="2683800">
                <a:off x="1667520" y="1855440"/>
                <a:ext cx="181080" cy="57600"/>
              </a:xfrm>
              <a:prstGeom prst="leftArrow">
                <a:avLst>
                  <a:gd name="adj1" fmla="val 50000"/>
                  <a:gd name="adj2" fmla="val 78594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Rectangle 16"/>
          <p:cNvSpPr/>
          <p:nvPr/>
        </p:nvSpPr>
        <p:spPr>
          <a:xfrm>
            <a:off x="-228600" y="228600"/>
            <a:ext cx="91440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uman Fetal Myelomeningocele Repair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moms_logo_color"/>
          <p:cNvPicPr/>
          <p:nvPr/>
        </p:nvPicPr>
        <p:blipFill>
          <a:blip r:embed="rId3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3:46:30Z</dcterms:created>
  <dc:creator>Nancy Chescheir, M.D.</dc:creator>
  <dc:description/>
  <dc:language>en-US</dc:language>
  <cp:lastModifiedBy>kathryn.ramage</cp:lastModifiedBy>
  <dcterms:modified xsi:type="dcterms:W3CDTF">2010-11-24T14:28:14Z</dcterms:modified>
  <cp:revision>199</cp:revision>
  <dc:subject/>
  <dc:title>PowerPoint Presentation</dc:title>
</cp:coreProperties>
</file>