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010400" cy="929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B472D7-ACED-4D7A-8F7B-90858BAEA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04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C81C71-A062-488D-9F2D-4A339275CAEA}" type="datetime1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0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DADBB3B-F38D-4AC1-985A-C60C1875879E}" type="datetime12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:57 A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04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269829-DBAC-41AD-A492-2DCCC226C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1480" cy="34812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4"/>
          <p:cNvSpPr>
            <a:spLocks noGrp="1"/>
          </p:cNvSpPr>
          <p:nvPr>
            <p:ph type="body"/>
          </p:nvPr>
        </p:nvSpPr>
        <p:spPr>
          <a:xfrm>
            <a:off x="892080" y="4416480"/>
            <a:ext cx="5143320" cy="4182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970440" y="8831160"/>
            <a:ext cx="3038040" cy="463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B0AA5550-2BA0-4590-BC62-8E70A85764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419720"/>
            <a:ext cx="5605200" cy="4181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970440" y="8831160"/>
            <a:ext cx="3038040" cy="463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8CDCC144-277A-4FF0-9D73-823ED39D62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60240" y="4417920"/>
            <a:ext cx="5605200" cy="4181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970440" y="8831160"/>
            <a:ext cx="3038040" cy="463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9EE5D91D-F9CD-4DA1-A24B-063BDB1247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60240" y="4417920"/>
            <a:ext cx="5605200" cy="4181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Num" idx="14"/>
          </p:nvPr>
        </p:nvSpPr>
        <p:spPr>
          <a:xfrm>
            <a:off x="3970440" y="8829720"/>
            <a:ext cx="303804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5083A3-B084-44EE-A723-0E926088E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ldImg"/>
          </p:nvPr>
        </p:nvSpPr>
        <p:spPr>
          <a:xfrm>
            <a:off x="1141560" y="531720"/>
            <a:ext cx="4649400" cy="348588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3"/>
          <p:cNvSpPr>
            <a:spLocks noGrp="1"/>
          </p:cNvSpPr>
          <p:nvPr>
            <p:ph type="body"/>
          </p:nvPr>
        </p:nvSpPr>
        <p:spPr>
          <a:xfrm>
            <a:off x="660240" y="4417920"/>
            <a:ext cx="5606640" cy="4182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60240" y="4417920"/>
            <a:ext cx="5606640" cy="4182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 Box 4"/>
          <p:cNvSpPr/>
          <p:nvPr/>
        </p:nvSpPr>
        <p:spPr>
          <a:xfrm>
            <a:off x="1219320" y="4495680"/>
            <a:ext cx="4647960" cy="25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</a:pPr>
            <a:endParaRPr b="0" lang="en-US" sz="11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60240" y="4417920"/>
            <a:ext cx="5606640" cy="4182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 Box 4"/>
          <p:cNvSpPr/>
          <p:nvPr/>
        </p:nvSpPr>
        <p:spPr>
          <a:xfrm>
            <a:off x="1143000" y="4495680"/>
            <a:ext cx="4723920" cy="25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</a:pPr>
            <a:endParaRPr b="0" lang="en-US" sz="11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dt" idx="15"/>
          </p:nvPr>
        </p:nvSpPr>
        <p:spPr>
          <a:xfrm>
            <a:off x="3970440" y="0"/>
            <a:ext cx="303804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BA6BA5-4D59-4C81-B289-A4C02E2B5BCF}" type="datetime1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0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EF24AB7-0DF7-46EC-915F-CB5AEC122CE3}" type="datetime12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:57 A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sldNum" idx="16"/>
          </p:nvPr>
        </p:nvSpPr>
        <p:spPr>
          <a:xfrm>
            <a:off x="3970440" y="8829720"/>
            <a:ext cx="303804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C1159B-E1B3-4374-BB0E-7E4B95F29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4"/>
          <p:cNvSpPr>
            <a:spLocks noGrp="1"/>
          </p:cNvSpPr>
          <p:nvPr>
            <p:ph type="body"/>
          </p:nvPr>
        </p:nvSpPr>
        <p:spPr>
          <a:xfrm>
            <a:off x="660240" y="4417920"/>
            <a:ext cx="5606640" cy="4182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60240" y="4417920"/>
            <a:ext cx="5606640" cy="4182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 type="dt" idx="17"/>
          </p:nvPr>
        </p:nvSpPr>
        <p:spPr>
          <a:xfrm>
            <a:off x="3970440" y="0"/>
            <a:ext cx="303804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1E3A30-0798-44F7-8562-6AAE0FF238DA}" type="datetime1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0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CE2BBA1-176C-476D-83F6-724BFE51DE47}" type="datetime12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:57 A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 type="sldNum" idx="18"/>
          </p:nvPr>
        </p:nvSpPr>
        <p:spPr>
          <a:xfrm>
            <a:off x="3970440" y="8829720"/>
            <a:ext cx="303804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041694-7FBB-42F6-893A-19E9E217B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dt" idx="19"/>
          </p:nvPr>
        </p:nvSpPr>
        <p:spPr>
          <a:xfrm>
            <a:off x="3970440" y="0"/>
            <a:ext cx="303804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F0075B-6596-42BC-8D1C-ADAAC55C9448}" type="datetime1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0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1CB726B-8922-43B9-8D58-35C4DFAE1656}" type="datetime12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2:57 A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sldNum" idx="20"/>
          </p:nvPr>
        </p:nvSpPr>
        <p:spPr>
          <a:xfrm>
            <a:off x="3970440" y="8829720"/>
            <a:ext cx="303804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4D9ADE-1157-4D5E-BFB4-4B852AAF8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4"/>
          <p:cNvSpPr>
            <a:spLocks noGrp="1"/>
          </p:cNvSpPr>
          <p:nvPr>
            <p:ph type="body"/>
          </p:nvPr>
        </p:nvSpPr>
        <p:spPr>
          <a:xfrm>
            <a:off x="685800" y="4419720"/>
            <a:ext cx="5606640" cy="4182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040" cy="464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8627FC-AC38-4F30-BF55-E859D83CB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3"/>
          <p:cNvSpPr>
            <a:spLocks noGrp="1"/>
          </p:cNvSpPr>
          <p:nvPr>
            <p:ph type="body"/>
          </p:nvPr>
        </p:nvSpPr>
        <p:spPr>
          <a:xfrm>
            <a:off x="660240" y="4417920"/>
            <a:ext cx="5606640" cy="4182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Box 4"/>
          <p:cNvSpPr/>
          <p:nvPr/>
        </p:nvSpPr>
        <p:spPr>
          <a:xfrm>
            <a:off x="1219320" y="4495680"/>
            <a:ext cx="4723920" cy="25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329"/>
              </a:spcBef>
            </a:pPr>
            <a:endParaRPr b="0" lang="en-US" sz="11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970440" y="8831160"/>
            <a:ext cx="3038040" cy="463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52B8B4C4-F36D-4870-9A98-C4BC942765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60240" y="4417920"/>
            <a:ext cx="5605200" cy="4181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970440" y="8831160"/>
            <a:ext cx="3038040" cy="463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</a:pPr>
            <a:fld id="{AFF3C727-D5BA-493E-84B0-796BC12339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60240" y="4417920"/>
            <a:ext cx="5605200" cy="4181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164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1416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0948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164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1416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2B56-9FD2-4615-94CA-9FBAE429A2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190E-BE49-40BF-A002-3EA9EB6AF4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F8E3-82C4-4FF0-8F13-11A966F9D7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EECD3-55F5-40CA-94FB-3A8D0BBF65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3628B-9544-4A8C-9A93-C79962D9E6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55840" y="457200"/>
            <a:ext cx="60876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1053E-BA11-46CF-861F-BE88416EE9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C4AF-3110-407F-B06E-792B174230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5C25-4A49-41C0-9876-3F3259F8F2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4F95-6BD6-4D26-A473-9D3D502367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A1DE-666A-4124-88F3-39EDC1E196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6DCF-CAD4-44AE-8534-D700B07267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164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1416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0948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164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1416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09D9-0408-40E2-AA30-F52FA63046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D1954-5D37-46E3-B844-64063974C5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60AE1-7562-4B3A-9FD0-C89C0B2194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F8A5B-A1C3-4953-9DCA-BD72D1FF8C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4972D-1E7D-4F69-B71C-D3D0D21961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EBBA0-9A94-4BAB-9A4E-EE8FCF135E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455840" y="457200"/>
            <a:ext cx="60876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E1B3E-CC17-426B-9BD2-489466661D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AC43C-D57B-424A-8B1A-6461420F9A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8D082-FF16-450C-88F5-79B6144B96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F4E2C-C2E7-40DD-8835-919CB1F80E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F31F0-AD06-4FD8-B230-305774EB82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2AD26-F95F-4DC0-AD3C-4FB7ECB856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164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1416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0948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164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1416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AD058-11EF-4A22-80F6-0231DB5F9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455840" y="457200"/>
            <a:ext cx="60876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1277640"/>
            <a:ext cx="9144000" cy="75240"/>
            <a:chOff x="0" y="1277640"/>
            <a:chExt cx="9144000" cy="75240"/>
          </a:xfrm>
        </p:grpSpPr>
        <p:sp>
          <p:nvSpPr>
            <p:cNvPr id="1" name="Line 44"/>
            <p:cNvSpPr/>
            <p:nvPr/>
          </p:nvSpPr>
          <p:spPr>
            <a:xfrm>
              <a:off x="6120" y="1352520"/>
              <a:ext cx="9137880" cy="360"/>
            </a:xfrm>
            <a:prstGeom prst="line">
              <a:avLst/>
            </a:prstGeom>
            <a:ln w="50800">
              <a:solidFill>
                <a:srgbClr val="0017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Line 45"/>
            <p:cNvSpPr/>
            <p:nvPr/>
          </p:nvSpPr>
          <p:spPr>
            <a:xfrm>
              <a:off x="0" y="1277640"/>
              <a:ext cx="9137520" cy="360"/>
            </a:xfrm>
            <a:prstGeom prst="line">
              <a:avLst/>
            </a:prstGeom>
            <a:ln w="508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" name="Picture 72" descr="HCUP LOGO_blu"/>
          <p:cNvPicPr/>
          <p:nvPr/>
        </p:nvPicPr>
        <p:blipFill>
          <a:blip r:embed="rId2"/>
          <a:stretch/>
        </p:blipFill>
        <p:spPr>
          <a:xfrm>
            <a:off x="7721640" y="85680"/>
            <a:ext cx="1294920" cy="114120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4" name="Object 14"/>
          <p:cNvGraphicFramePr/>
          <p:nvPr/>
        </p:nvGraphicFramePr>
        <p:xfrm>
          <a:off x="142920" y="317520"/>
          <a:ext cx="1428480" cy="67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920" y="317520"/>
                    <a:ext cx="1428480" cy="67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" name="Group 4"/>
          <p:cNvGrpSpPr/>
          <p:nvPr/>
        </p:nvGrpSpPr>
        <p:grpSpPr>
          <a:xfrm>
            <a:off x="0" y="3867120"/>
            <a:ext cx="7986600" cy="19440"/>
            <a:chOff x="0" y="3867120"/>
            <a:chExt cx="7986600" cy="19440"/>
          </a:xfrm>
        </p:grpSpPr>
        <p:sp>
          <p:nvSpPr>
            <p:cNvPr id="7" name="Line 5"/>
            <p:cNvSpPr/>
            <p:nvPr/>
          </p:nvSpPr>
          <p:spPr>
            <a:xfrm>
              <a:off x="6840" y="3886200"/>
              <a:ext cx="7979760" cy="360"/>
            </a:xfrm>
            <a:prstGeom prst="line">
              <a:avLst/>
            </a:prstGeom>
            <a:ln w="50800">
              <a:solidFill>
                <a:srgbClr val="0017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Line 6"/>
            <p:cNvSpPr/>
            <p:nvPr/>
          </p:nvSpPr>
          <p:spPr>
            <a:xfrm>
              <a:off x="0" y="3867120"/>
              <a:ext cx="7979400" cy="360"/>
            </a:xfrm>
            <a:prstGeom prst="line">
              <a:avLst/>
            </a:prstGeom>
            <a:ln w="508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Text Box 15"/>
          <p:cNvSpPr/>
          <p:nvPr/>
        </p:nvSpPr>
        <p:spPr>
          <a:xfrm>
            <a:off x="7908840" y="582768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Group 18"/>
          <p:cNvGrpSpPr/>
          <p:nvPr/>
        </p:nvGrpSpPr>
        <p:grpSpPr>
          <a:xfrm>
            <a:off x="0" y="3867120"/>
            <a:ext cx="7986600" cy="19440"/>
            <a:chOff x="0" y="3867120"/>
            <a:chExt cx="7986600" cy="19440"/>
          </a:xfrm>
        </p:grpSpPr>
        <p:sp>
          <p:nvSpPr>
            <p:cNvPr id="11" name="Line 19"/>
            <p:cNvSpPr/>
            <p:nvPr/>
          </p:nvSpPr>
          <p:spPr>
            <a:xfrm>
              <a:off x="6840" y="3886200"/>
              <a:ext cx="7979760" cy="360"/>
            </a:xfrm>
            <a:prstGeom prst="line">
              <a:avLst/>
            </a:prstGeom>
            <a:ln w="50800">
              <a:solidFill>
                <a:srgbClr val="0017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Line 20"/>
            <p:cNvSpPr/>
            <p:nvPr/>
          </p:nvSpPr>
          <p:spPr>
            <a:xfrm>
              <a:off x="0" y="3867120"/>
              <a:ext cx="7979400" cy="360"/>
            </a:xfrm>
            <a:prstGeom prst="line">
              <a:avLst/>
            </a:prstGeom>
            <a:ln w="508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3" name="Object 21"/>
          <p:cNvGraphicFramePr/>
          <p:nvPr/>
        </p:nvGraphicFramePr>
        <p:xfrm>
          <a:off x="990720" y="380880"/>
          <a:ext cx="7162560" cy="16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80880"/>
                    <a:ext cx="716256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89680" cy="91404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43"/>
          <p:cNvGrpSpPr/>
          <p:nvPr/>
        </p:nvGrpSpPr>
        <p:grpSpPr>
          <a:xfrm>
            <a:off x="0" y="1277640"/>
            <a:ext cx="9144000" cy="75240"/>
            <a:chOff x="0" y="1277640"/>
            <a:chExt cx="9144000" cy="75240"/>
          </a:xfrm>
        </p:grpSpPr>
        <p:sp>
          <p:nvSpPr>
            <p:cNvPr id="54" name="Line 44"/>
            <p:cNvSpPr/>
            <p:nvPr/>
          </p:nvSpPr>
          <p:spPr>
            <a:xfrm>
              <a:off x="6120" y="1352520"/>
              <a:ext cx="9137880" cy="360"/>
            </a:xfrm>
            <a:prstGeom prst="line">
              <a:avLst/>
            </a:prstGeom>
            <a:ln w="50800">
              <a:solidFill>
                <a:srgbClr val="0017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45"/>
            <p:cNvSpPr/>
            <p:nvPr/>
          </p:nvSpPr>
          <p:spPr>
            <a:xfrm>
              <a:off x="0" y="1277640"/>
              <a:ext cx="9137520" cy="360"/>
            </a:xfrm>
            <a:prstGeom prst="line">
              <a:avLst/>
            </a:prstGeom>
            <a:ln w="508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" name="Picture 72" descr="HCUP LOGO_blu"/>
          <p:cNvPicPr/>
          <p:nvPr/>
        </p:nvPicPr>
        <p:blipFill>
          <a:blip r:embed="rId2"/>
          <a:stretch/>
        </p:blipFill>
        <p:spPr>
          <a:xfrm>
            <a:off x="7721640" y="85680"/>
            <a:ext cx="1294920" cy="114120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57" name="Object 14"/>
          <p:cNvGraphicFramePr/>
          <p:nvPr/>
        </p:nvGraphicFramePr>
        <p:xfrm>
          <a:off x="142920" y="317520"/>
          <a:ext cx="1428480" cy="67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920" y="317520"/>
                    <a:ext cx="1428480" cy="67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sldNum" idx="1"/>
          </p:nvPr>
        </p:nvSpPr>
        <p:spPr>
          <a:xfrm>
            <a:off x="304920" y="6400800"/>
            <a:ext cx="57420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BCD81D8-18C5-4063-9451-12BF543D5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3"/>
          <p:cNvGrpSpPr/>
          <p:nvPr/>
        </p:nvGrpSpPr>
        <p:grpSpPr>
          <a:xfrm>
            <a:off x="0" y="1277640"/>
            <a:ext cx="9144000" cy="75240"/>
            <a:chOff x="0" y="1277640"/>
            <a:chExt cx="9144000" cy="75240"/>
          </a:xfrm>
        </p:grpSpPr>
        <p:sp>
          <p:nvSpPr>
            <p:cNvPr id="99" name="Line 44"/>
            <p:cNvSpPr/>
            <p:nvPr/>
          </p:nvSpPr>
          <p:spPr>
            <a:xfrm>
              <a:off x="6120" y="1352520"/>
              <a:ext cx="9137880" cy="360"/>
            </a:xfrm>
            <a:prstGeom prst="line">
              <a:avLst/>
            </a:prstGeom>
            <a:ln w="50800">
              <a:solidFill>
                <a:srgbClr val="0017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45"/>
            <p:cNvSpPr/>
            <p:nvPr/>
          </p:nvSpPr>
          <p:spPr>
            <a:xfrm>
              <a:off x="0" y="1277640"/>
              <a:ext cx="9137520" cy="360"/>
            </a:xfrm>
            <a:prstGeom prst="line">
              <a:avLst/>
            </a:prstGeom>
            <a:ln w="508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" name="Picture 72" descr="HCUP LOGO_blu"/>
          <p:cNvPicPr/>
          <p:nvPr/>
        </p:nvPicPr>
        <p:blipFill>
          <a:blip r:embed="rId2"/>
          <a:stretch/>
        </p:blipFill>
        <p:spPr>
          <a:xfrm>
            <a:off x="7721640" y="85680"/>
            <a:ext cx="1294920" cy="114120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02" name="Object 14"/>
          <p:cNvGraphicFramePr/>
          <p:nvPr/>
        </p:nvGraphicFramePr>
        <p:xfrm>
          <a:off x="142920" y="317520"/>
          <a:ext cx="1428480" cy="67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920" y="317520"/>
                    <a:ext cx="1428480" cy="67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Monotype Sorts" charset="2"/>
              <a:buChar char="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2"/>
          </p:nvPr>
        </p:nvSpPr>
        <p:spPr>
          <a:xfrm>
            <a:off x="304920" y="6400800"/>
            <a:ext cx="57420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F2326F3-7048-474B-81BD-218DEAC52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6520" y="2590920"/>
            <a:ext cx="8668800" cy="114264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admissions to the Acute Care Setting: A Broader Scope Changes the Pi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19040" y="4038480"/>
            <a:ext cx="8305560" cy="213336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audia Steiner, M.D., M.P.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gency for Healthcare Research an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nnual Meeting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ＭＳ Ｐゴシック"/>
              </a:rPr>
              <a:t>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September 27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743120" y="22860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urrent HCUP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04920" y="6400800"/>
            <a:ext cx="574200" cy="22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</a:pPr>
            <a:fld id="{448857C7-68E3-4F36-8889-5D998CC57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2"/>
          <p:cNvGrpSpPr/>
          <p:nvPr/>
        </p:nvGrpSpPr>
        <p:grpSpPr>
          <a:xfrm>
            <a:off x="5867280" y="3657600"/>
            <a:ext cx="2879640" cy="1398240"/>
            <a:chOff x="5867280" y="3657600"/>
            <a:chExt cx="2879640" cy="1398240"/>
          </a:xfrm>
        </p:grpSpPr>
        <p:sp>
          <p:nvSpPr>
            <p:cNvPr id="662" name="Freeform 3"/>
            <p:cNvSpPr/>
            <p:nvPr/>
          </p:nvSpPr>
          <p:spPr>
            <a:xfrm>
              <a:off x="8256240" y="3834000"/>
              <a:ext cx="209520" cy="3330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383" h="2042">
                  <a:moveTo>
                    <a:pt x="1220" y="0"/>
                  </a:moveTo>
                  <a:lnTo>
                    <a:pt x="1237" y="6"/>
                  </a:lnTo>
                  <a:lnTo>
                    <a:pt x="1250" y="11"/>
                  </a:lnTo>
                  <a:lnTo>
                    <a:pt x="1260" y="18"/>
                  </a:lnTo>
                  <a:lnTo>
                    <a:pt x="1267" y="24"/>
                  </a:lnTo>
                  <a:lnTo>
                    <a:pt x="1270" y="27"/>
                  </a:lnTo>
                  <a:lnTo>
                    <a:pt x="1272" y="30"/>
                  </a:lnTo>
                  <a:lnTo>
                    <a:pt x="1272" y="34"/>
                  </a:lnTo>
                  <a:lnTo>
                    <a:pt x="1272" y="36"/>
                  </a:lnTo>
                  <a:lnTo>
                    <a:pt x="1272" y="39"/>
                  </a:lnTo>
                  <a:lnTo>
                    <a:pt x="1270" y="43"/>
                  </a:lnTo>
                  <a:lnTo>
                    <a:pt x="1267" y="46"/>
                  </a:lnTo>
                  <a:lnTo>
                    <a:pt x="1264" y="49"/>
                  </a:lnTo>
                  <a:lnTo>
                    <a:pt x="1253" y="56"/>
                  </a:lnTo>
                  <a:lnTo>
                    <a:pt x="1239" y="63"/>
                  </a:lnTo>
                  <a:lnTo>
                    <a:pt x="1220" y="70"/>
                  </a:lnTo>
                  <a:lnTo>
                    <a:pt x="1198" y="77"/>
                  </a:lnTo>
                  <a:lnTo>
                    <a:pt x="1173" y="85"/>
                  </a:lnTo>
                  <a:lnTo>
                    <a:pt x="1141" y="93"/>
                  </a:lnTo>
                  <a:lnTo>
                    <a:pt x="1106" y="101"/>
                  </a:lnTo>
                  <a:lnTo>
                    <a:pt x="1065" y="110"/>
                  </a:lnTo>
                  <a:lnTo>
                    <a:pt x="1039" y="117"/>
                  </a:lnTo>
                  <a:lnTo>
                    <a:pt x="1016" y="124"/>
                  </a:lnTo>
                  <a:lnTo>
                    <a:pt x="1007" y="128"/>
                  </a:lnTo>
                  <a:lnTo>
                    <a:pt x="997" y="133"/>
                  </a:lnTo>
                  <a:lnTo>
                    <a:pt x="989" y="138"/>
                  </a:lnTo>
                  <a:lnTo>
                    <a:pt x="982" y="142"/>
                  </a:lnTo>
                  <a:lnTo>
                    <a:pt x="976" y="148"/>
                  </a:lnTo>
                  <a:lnTo>
                    <a:pt x="970" y="154"/>
                  </a:lnTo>
                  <a:lnTo>
                    <a:pt x="965" y="159"/>
                  </a:lnTo>
                  <a:lnTo>
                    <a:pt x="961" y="164"/>
                  </a:lnTo>
                  <a:lnTo>
                    <a:pt x="954" y="176"/>
                  </a:lnTo>
                  <a:lnTo>
                    <a:pt x="951" y="188"/>
                  </a:lnTo>
                  <a:lnTo>
                    <a:pt x="948" y="199"/>
                  </a:lnTo>
                  <a:lnTo>
                    <a:pt x="948" y="211"/>
                  </a:lnTo>
                  <a:lnTo>
                    <a:pt x="949" y="223"/>
                  </a:lnTo>
                  <a:lnTo>
                    <a:pt x="953" y="235"/>
                  </a:lnTo>
                  <a:lnTo>
                    <a:pt x="956" y="245"/>
                  </a:lnTo>
                  <a:lnTo>
                    <a:pt x="962" y="254"/>
                  </a:lnTo>
                  <a:lnTo>
                    <a:pt x="967" y="264"/>
                  </a:lnTo>
                  <a:lnTo>
                    <a:pt x="973" y="271"/>
                  </a:lnTo>
                  <a:lnTo>
                    <a:pt x="977" y="278"/>
                  </a:lnTo>
                  <a:lnTo>
                    <a:pt x="981" y="285"/>
                  </a:lnTo>
                  <a:lnTo>
                    <a:pt x="982" y="292"/>
                  </a:lnTo>
                  <a:lnTo>
                    <a:pt x="982" y="298"/>
                  </a:lnTo>
                  <a:lnTo>
                    <a:pt x="981" y="305"/>
                  </a:lnTo>
                  <a:lnTo>
                    <a:pt x="979" y="312"/>
                  </a:lnTo>
                  <a:lnTo>
                    <a:pt x="974" y="319"/>
                  </a:lnTo>
                  <a:lnTo>
                    <a:pt x="969" y="326"/>
                  </a:lnTo>
                  <a:lnTo>
                    <a:pt x="958" y="341"/>
                  </a:lnTo>
                  <a:lnTo>
                    <a:pt x="944" y="355"/>
                  </a:lnTo>
                  <a:lnTo>
                    <a:pt x="927" y="369"/>
                  </a:lnTo>
                  <a:lnTo>
                    <a:pt x="910" y="384"/>
                  </a:lnTo>
                  <a:lnTo>
                    <a:pt x="893" y="398"/>
                  </a:lnTo>
                  <a:lnTo>
                    <a:pt x="877" y="412"/>
                  </a:lnTo>
                  <a:lnTo>
                    <a:pt x="863" y="427"/>
                  </a:lnTo>
                  <a:lnTo>
                    <a:pt x="851" y="441"/>
                  </a:lnTo>
                  <a:lnTo>
                    <a:pt x="847" y="448"/>
                  </a:lnTo>
                  <a:lnTo>
                    <a:pt x="843" y="455"/>
                  </a:lnTo>
                  <a:lnTo>
                    <a:pt x="841" y="462"/>
                  </a:lnTo>
                  <a:lnTo>
                    <a:pt x="840" y="470"/>
                  </a:lnTo>
                  <a:lnTo>
                    <a:pt x="840" y="477"/>
                  </a:lnTo>
                  <a:lnTo>
                    <a:pt x="842" y="484"/>
                  </a:lnTo>
                  <a:lnTo>
                    <a:pt x="844" y="491"/>
                  </a:lnTo>
                  <a:lnTo>
                    <a:pt x="849" y="499"/>
                  </a:lnTo>
                  <a:lnTo>
                    <a:pt x="870" y="503"/>
                  </a:lnTo>
                  <a:lnTo>
                    <a:pt x="889" y="508"/>
                  </a:lnTo>
                  <a:lnTo>
                    <a:pt x="904" y="513"/>
                  </a:lnTo>
                  <a:lnTo>
                    <a:pt x="918" y="518"/>
                  </a:lnTo>
                  <a:lnTo>
                    <a:pt x="930" y="524"/>
                  </a:lnTo>
                  <a:lnTo>
                    <a:pt x="940" y="530"/>
                  </a:lnTo>
                  <a:lnTo>
                    <a:pt x="948" y="537"/>
                  </a:lnTo>
                  <a:lnTo>
                    <a:pt x="954" y="544"/>
                  </a:lnTo>
                  <a:lnTo>
                    <a:pt x="958" y="551"/>
                  </a:lnTo>
                  <a:lnTo>
                    <a:pt x="961" y="559"/>
                  </a:lnTo>
                  <a:lnTo>
                    <a:pt x="961" y="567"/>
                  </a:lnTo>
                  <a:lnTo>
                    <a:pt x="960" y="577"/>
                  </a:lnTo>
                  <a:lnTo>
                    <a:pt x="958" y="586"/>
                  </a:lnTo>
                  <a:lnTo>
                    <a:pt x="954" y="597"/>
                  </a:lnTo>
                  <a:lnTo>
                    <a:pt x="948" y="608"/>
                  </a:lnTo>
                  <a:lnTo>
                    <a:pt x="941" y="619"/>
                  </a:lnTo>
                  <a:lnTo>
                    <a:pt x="963" y="618"/>
                  </a:lnTo>
                  <a:lnTo>
                    <a:pt x="982" y="619"/>
                  </a:lnTo>
                  <a:lnTo>
                    <a:pt x="999" y="621"/>
                  </a:lnTo>
                  <a:lnTo>
                    <a:pt x="1013" y="626"/>
                  </a:lnTo>
                  <a:lnTo>
                    <a:pt x="1024" y="630"/>
                  </a:lnTo>
                  <a:lnTo>
                    <a:pt x="1036" y="638"/>
                  </a:lnTo>
                  <a:lnTo>
                    <a:pt x="1045" y="645"/>
                  </a:lnTo>
                  <a:lnTo>
                    <a:pt x="1055" y="653"/>
                  </a:lnTo>
                  <a:lnTo>
                    <a:pt x="1072" y="669"/>
                  </a:lnTo>
                  <a:lnTo>
                    <a:pt x="1091" y="683"/>
                  </a:lnTo>
                  <a:lnTo>
                    <a:pt x="1101" y="689"/>
                  </a:lnTo>
                  <a:lnTo>
                    <a:pt x="1113" y="694"/>
                  </a:lnTo>
                  <a:lnTo>
                    <a:pt x="1127" y="696"/>
                  </a:lnTo>
                  <a:lnTo>
                    <a:pt x="1143" y="697"/>
                  </a:lnTo>
                  <a:lnTo>
                    <a:pt x="1160" y="697"/>
                  </a:lnTo>
                  <a:lnTo>
                    <a:pt x="1176" y="695"/>
                  </a:lnTo>
                  <a:lnTo>
                    <a:pt x="1190" y="692"/>
                  </a:lnTo>
                  <a:lnTo>
                    <a:pt x="1205" y="690"/>
                  </a:lnTo>
                  <a:lnTo>
                    <a:pt x="1231" y="682"/>
                  </a:lnTo>
                  <a:lnTo>
                    <a:pt x="1254" y="674"/>
                  </a:lnTo>
                  <a:lnTo>
                    <a:pt x="1278" y="666"/>
                  </a:lnTo>
                  <a:lnTo>
                    <a:pt x="1300" y="659"/>
                  </a:lnTo>
                  <a:lnTo>
                    <a:pt x="1310" y="655"/>
                  </a:lnTo>
                  <a:lnTo>
                    <a:pt x="1322" y="653"/>
                  </a:lnTo>
                  <a:lnTo>
                    <a:pt x="1333" y="652"/>
                  </a:lnTo>
                  <a:lnTo>
                    <a:pt x="1345" y="652"/>
                  </a:lnTo>
                  <a:lnTo>
                    <a:pt x="1354" y="652"/>
                  </a:lnTo>
                  <a:lnTo>
                    <a:pt x="1361" y="654"/>
                  </a:lnTo>
                  <a:lnTo>
                    <a:pt x="1364" y="657"/>
                  </a:lnTo>
                  <a:lnTo>
                    <a:pt x="1366" y="662"/>
                  </a:lnTo>
                  <a:lnTo>
                    <a:pt x="1368" y="669"/>
                  </a:lnTo>
                  <a:lnTo>
                    <a:pt x="1368" y="676"/>
                  </a:lnTo>
                  <a:lnTo>
                    <a:pt x="1366" y="684"/>
                  </a:lnTo>
                  <a:lnTo>
                    <a:pt x="1365" y="692"/>
                  </a:lnTo>
                  <a:lnTo>
                    <a:pt x="1362" y="711"/>
                  </a:lnTo>
                  <a:lnTo>
                    <a:pt x="1361" y="732"/>
                  </a:lnTo>
                  <a:lnTo>
                    <a:pt x="1362" y="743"/>
                  </a:lnTo>
                  <a:lnTo>
                    <a:pt x="1365" y="754"/>
                  </a:lnTo>
                  <a:lnTo>
                    <a:pt x="1370" y="765"/>
                  </a:lnTo>
                  <a:lnTo>
                    <a:pt x="1377" y="775"/>
                  </a:lnTo>
                  <a:lnTo>
                    <a:pt x="1379" y="779"/>
                  </a:lnTo>
                  <a:lnTo>
                    <a:pt x="1382" y="782"/>
                  </a:lnTo>
                  <a:lnTo>
                    <a:pt x="1382" y="786"/>
                  </a:lnTo>
                  <a:lnTo>
                    <a:pt x="1383" y="789"/>
                  </a:lnTo>
                  <a:lnTo>
                    <a:pt x="1382" y="793"/>
                  </a:lnTo>
                  <a:lnTo>
                    <a:pt x="1380" y="796"/>
                  </a:lnTo>
                  <a:lnTo>
                    <a:pt x="1378" y="800"/>
                  </a:lnTo>
                  <a:lnTo>
                    <a:pt x="1376" y="802"/>
                  </a:lnTo>
                  <a:lnTo>
                    <a:pt x="1369" y="808"/>
                  </a:lnTo>
                  <a:lnTo>
                    <a:pt x="1359" y="814"/>
                  </a:lnTo>
                  <a:lnTo>
                    <a:pt x="1348" y="819"/>
                  </a:lnTo>
                  <a:lnTo>
                    <a:pt x="1336" y="823"/>
                  </a:lnTo>
                  <a:lnTo>
                    <a:pt x="1309" y="831"/>
                  </a:lnTo>
                  <a:lnTo>
                    <a:pt x="1281" y="838"/>
                  </a:lnTo>
                  <a:lnTo>
                    <a:pt x="1257" y="844"/>
                  </a:lnTo>
                  <a:lnTo>
                    <a:pt x="1236" y="850"/>
                  </a:lnTo>
                  <a:lnTo>
                    <a:pt x="1202" y="854"/>
                  </a:lnTo>
                  <a:lnTo>
                    <a:pt x="1171" y="857"/>
                  </a:lnTo>
                  <a:lnTo>
                    <a:pt x="1142" y="862"/>
                  </a:lnTo>
                  <a:lnTo>
                    <a:pt x="1114" y="868"/>
                  </a:lnTo>
                  <a:lnTo>
                    <a:pt x="1087" y="873"/>
                  </a:lnTo>
                  <a:lnTo>
                    <a:pt x="1063" y="879"/>
                  </a:lnTo>
                  <a:lnTo>
                    <a:pt x="1038" y="886"/>
                  </a:lnTo>
                  <a:lnTo>
                    <a:pt x="1014" y="893"/>
                  </a:lnTo>
                  <a:lnTo>
                    <a:pt x="966" y="908"/>
                  </a:lnTo>
                  <a:lnTo>
                    <a:pt x="917" y="925"/>
                  </a:lnTo>
                  <a:lnTo>
                    <a:pt x="863" y="942"/>
                  </a:lnTo>
                  <a:lnTo>
                    <a:pt x="803" y="959"/>
                  </a:lnTo>
                  <a:lnTo>
                    <a:pt x="806" y="966"/>
                  </a:lnTo>
                  <a:lnTo>
                    <a:pt x="807" y="973"/>
                  </a:lnTo>
                  <a:lnTo>
                    <a:pt x="807" y="980"/>
                  </a:lnTo>
                  <a:lnTo>
                    <a:pt x="806" y="986"/>
                  </a:lnTo>
                  <a:lnTo>
                    <a:pt x="803" y="993"/>
                  </a:lnTo>
                  <a:lnTo>
                    <a:pt x="801" y="998"/>
                  </a:lnTo>
                  <a:lnTo>
                    <a:pt x="796" y="1004"/>
                  </a:lnTo>
                  <a:lnTo>
                    <a:pt x="792" y="1009"/>
                  </a:lnTo>
                  <a:lnTo>
                    <a:pt x="781" y="1019"/>
                  </a:lnTo>
                  <a:lnTo>
                    <a:pt x="767" y="1028"/>
                  </a:lnTo>
                  <a:lnTo>
                    <a:pt x="752" y="1036"/>
                  </a:lnTo>
                  <a:lnTo>
                    <a:pt x="736" y="1043"/>
                  </a:lnTo>
                  <a:lnTo>
                    <a:pt x="719" y="1049"/>
                  </a:lnTo>
                  <a:lnTo>
                    <a:pt x="703" y="1055"/>
                  </a:lnTo>
                  <a:lnTo>
                    <a:pt x="688" y="1059"/>
                  </a:lnTo>
                  <a:lnTo>
                    <a:pt x="674" y="1063"/>
                  </a:lnTo>
                  <a:lnTo>
                    <a:pt x="653" y="1067"/>
                  </a:lnTo>
                  <a:lnTo>
                    <a:pt x="645" y="1069"/>
                  </a:lnTo>
                  <a:lnTo>
                    <a:pt x="849" y="1285"/>
                  </a:lnTo>
                  <a:lnTo>
                    <a:pt x="849" y="1422"/>
                  </a:lnTo>
                  <a:lnTo>
                    <a:pt x="828" y="1419"/>
                  </a:lnTo>
                  <a:lnTo>
                    <a:pt x="807" y="1415"/>
                  </a:lnTo>
                  <a:lnTo>
                    <a:pt x="787" y="1414"/>
                  </a:lnTo>
                  <a:lnTo>
                    <a:pt x="767" y="1412"/>
                  </a:lnTo>
                  <a:lnTo>
                    <a:pt x="750" y="1412"/>
                  </a:lnTo>
                  <a:lnTo>
                    <a:pt x="731" y="1412"/>
                  </a:lnTo>
                  <a:lnTo>
                    <a:pt x="715" y="1413"/>
                  </a:lnTo>
                  <a:lnTo>
                    <a:pt x="699" y="1414"/>
                  </a:lnTo>
                  <a:lnTo>
                    <a:pt x="684" y="1417"/>
                  </a:lnTo>
                  <a:lnTo>
                    <a:pt x="671" y="1419"/>
                  </a:lnTo>
                  <a:lnTo>
                    <a:pt x="660" y="1422"/>
                  </a:lnTo>
                  <a:lnTo>
                    <a:pt x="649" y="1426"/>
                  </a:lnTo>
                  <a:lnTo>
                    <a:pt x="640" y="1431"/>
                  </a:lnTo>
                  <a:lnTo>
                    <a:pt x="632" y="1435"/>
                  </a:lnTo>
                  <a:lnTo>
                    <a:pt x="626" y="1440"/>
                  </a:lnTo>
                  <a:lnTo>
                    <a:pt x="622" y="1446"/>
                  </a:lnTo>
                  <a:lnTo>
                    <a:pt x="620" y="1452"/>
                  </a:lnTo>
                  <a:lnTo>
                    <a:pt x="620" y="1457"/>
                  </a:lnTo>
                  <a:lnTo>
                    <a:pt x="621" y="1464"/>
                  </a:lnTo>
                  <a:lnTo>
                    <a:pt x="625" y="1472"/>
                  </a:lnTo>
                  <a:lnTo>
                    <a:pt x="631" y="1479"/>
                  </a:lnTo>
                  <a:lnTo>
                    <a:pt x="639" y="1486"/>
                  </a:lnTo>
                  <a:lnTo>
                    <a:pt x="649" y="1493"/>
                  </a:lnTo>
                  <a:lnTo>
                    <a:pt x="663" y="1501"/>
                  </a:lnTo>
                  <a:lnTo>
                    <a:pt x="678" y="1508"/>
                  </a:lnTo>
                  <a:lnTo>
                    <a:pt x="696" y="1516"/>
                  </a:lnTo>
                  <a:lnTo>
                    <a:pt x="717" y="1523"/>
                  </a:lnTo>
                  <a:lnTo>
                    <a:pt x="740" y="1531"/>
                  </a:lnTo>
                  <a:lnTo>
                    <a:pt x="767" y="1538"/>
                  </a:lnTo>
                  <a:lnTo>
                    <a:pt x="796" y="1546"/>
                  </a:lnTo>
                  <a:lnTo>
                    <a:pt x="828" y="1553"/>
                  </a:lnTo>
                  <a:lnTo>
                    <a:pt x="864" y="1561"/>
                  </a:lnTo>
                  <a:lnTo>
                    <a:pt x="878" y="1564"/>
                  </a:lnTo>
                  <a:lnTo>
                    <a:pt x="890" y="1567"/>
                  </a:lnTo>
                  <a:lnTo>
                    <a:pt x="902" y="1572"/>
                  </a:lnTo>
                  <a:lnTo>
                    <a:pt x="912" y="1575"/>
                  </a:lnTo>
                  <a:lnTo>
                    <a:pt x="921" y="1580"/>
                  </a:lnTo>
                  <a:lnTo>
                    <a:pt x="928" y="1585"/>
                  </a:lnTo>
                  <a:lnTo>
                    <a:pt x="935" y="1589"/>
                  </a:lnTo>
                  <a:lnTo>
                    <a:pt x="941" y="1594"/>
                  </a:lnTo>
                  <a:lnTo>
                    <a:pt x="947" y="1599"/>
                  </a:lnTo>
                  <a:lnTo>
                    <a:pt x="951" y="1604"/>
                  </a:lnTo>
                  <a:lnTo>
                    <a:pt x="954" y="1609"/>
                  </a:lnTo>
                  <a:lnTo>
                    <a:pt x="956" y="1614"/>
                  </a:lnTo>
                  <a:lnTo>
                    <a:pt x="960" y="1625"/>
                  </a:lnTo>
                  <a:lnTo>
                    <a:pt x="961" y="1635"/>
                  </a:lnTo>
                  <a:lnTo>
                    <a:pt x="960" y="1644"/>
                  </a:lnTo>
                  <a:lnTo>
                    <a:pt x="958" y="1654"/>
                  </a:lnTo>
                  <a:lnTo>
                    <a:pt x="955" y="1663"/>
                  </a:lnTo>
                  <a:lnTo>
                    <a:pt x="952" y="1670"/>
                  </a:lnTo>
                  <a:lnTo>
                    <a:pt x="945" y="1681"/>
                  </a:lnTo>
                  <a:lnTo>
                    <a:pt x="941" y="1685"/>
                  </a:lnTo>
                  <a:lnTo>
                    <a:pt x="942" y="1695"/>
                  </a:lnTo>
                  <a:lnTo>
                    <a:pt x="945" y="1704"/>
                  </a:lnTo>
                  <a:lnTo>
                    <a:pt x="948" y="1713"/>
                  </a:lnTo>
                  <a:lnTo>
                    <a:pt x="954" y="1721"/>
                  </a:lnTo>
                  <a:lnTo>
                    <a:pt x="966" y="1738"/>
                  </a:lnTo>
                  <a:lnTo>
                    <a:pt x="981" y="1754"/>
                  </a:lnTo>
                  <a:lnTo>
                    <a:pt x="995" y="1769"/>
                  </a:lnTo>
                  <a:lnTo>
                    <a:pt x="1007" y="1786"/>
                  </a:lnTo>
                  <a:lnTo>
                    <a:pt x="1013" y="1795"/>
                  </a:lnTo>
                  <a:lnTo>
                    <a:pt x="1016" y="1803"/>
                  </a:lnTo>
                  <a:lnTo>
                    <a:pt x="1018" y="1814"/>
                  </a:lnTo>
                  <a:lnTo>
                    <a:pt x="1020" y="1823"/>
                  </a:lnTo>
                  <a:lnTo>
                    <a:pt x="1020" y="1841"/>
                  </a:lnTo>
                  <a:lnTo>
                    <a:pt x="1022" y="1856"/>
                  </a:lnTo>
                  <a:lnTo>
                    <a:pt x="1025" y="1870"/>
                  </a:lnTo>
                  <a:lnTo>
                    <a:pt x="1029" y="1884"/>
                  </a:lnTo>
                  <a:lnTo>
                    <a:pt x="1038" y="1907"/>
                  </a:lnTo>
                  <a:lnTo>
                    <a:pt x="1049" y="1931"/>
                  </a:lnTo>
                  <a:lnTo>
                    <a:pt x="1053" y="1942"/>
                  </a:lnTo>
                  <a:lnTo>
                    <a:pt x="1058" y="1954"/>
                  </a:lnTo>
                  <a:lnTo>
                    <a:pt x="1063" y="1966"/>
                  </a:lnTo>
                  <a:lnTo>
                    <a:pt x="1065" y="1978"/>
                  </a:lnTo>
                  <a:lnTo>
                    <a:pt x="1067" y="1992"/>
                  </a:lnTo>
                  <a:lnTo>
                    <a:pt x="1069" y="2008"/>
                  </a:lnTo>
                  <a:lnTo>
                    <a:pt x="1067" y="2024"/>
                  </a:lnTo>
                  <a:lnTo>
                    <a:pt x="1065" y="2042"/>
                  </a:lnTo>
                  <a:lnTo>
                    <a:pt x="1053" y="2037"/>
                  </a:lnTo>
                  <a:lnTo>
                    <a:pt x="1043" y="2031"/>
                  </a:lnTo>
                  <a:lnTo>
                    <a:pt x="1031" y="2024"/>
                  </a:lnTo>
                  <a:lnTo>
                    <a:pt x="1021" y="2016"/>
                  </a:lnTo>
                  <a:lnTo>
                    <a:pt x="1010" y="2006"/>
                  </a:lnTo>
                  <a:lnTo>
                    <a:pt x="1000" y="1997"/>
                  </a:lnTo>
                  <a:lnTo>
                    <a:pt x="989" y="1987"/>
                  </a:lnTo>
                  <a:lnTo>
                    <a:pt x="980" y="1975"/>
                  </a:lnTo>
                  <a:lnTo>
                    <a:pt x="960" y="1952"/>
                  </a:lnTo>
                  <a:lnTo>
                    <a:pt x="941" y="1927"/>
                  </a:lnTo>
                  <a:lnTo>
                    <a:pt x="924" y="1901"/>
                  </a:lnTo>
                  <a:lnTo>
                    <a:pt x="905" y="1874"/>
                  </a:lnTo>
                  <a:lnTo>
                    <a:pt x="872" y="1824"/>
                  </a:lnTo>
                  <a:lnTo>
                    <a:pt x="841" y="1780"/>
                  </a:lnTo>
                  <a:lnTo>
                    <a:pt x="824" y="1762"/>
                  </a:lnTo>
                  <a:lnTo>
                    <a:pt x="809" y="1747"/>
                  </a:lnTo>
                  <a:lnTo>
                    <a:pt x="802" y="1741"/>
                  </a:lnTo>
                  <a:lnTo>
                    <a:pt x="795" y="1737"/>
                  </a:lnTo>
                  <a:lnTo>
                    <a:pt x="787" y="1733"/>
                  </a:lnTo>
                  <a:lnTo>
                    <a:pt x="780" y="1731"/>
                  </a:lnTo>
                  <a:lnTo>
                    <a:pt x="725" y="1748"/>
                  </a:lnTo>
                  <a:lnTo>
                    <a:pt x="524" y="1575"/>
                  </a:lnTo>
                  <a:lnTo>
                    <a:pt x="507" y="1581"/>
                  </a:lnTo>
                  <a:lnTo>
                    <a:pt x="492" y="1587"/>
                  </a:lnTo>
                  <a:lnTo>
                    <a:pt x="476" y="1593"/>
                  </a:lnTo>
                  <a:lnTo>
                    <a:pt x="462" y="1600"/>
                  </a:lnTo>
                  <a:lnTo>
                    <a:pt x="450" y="1607"/>
                  </a:lnTo>
                  <a:lnTo>
                    <a:pt x="438" y="1614"/>
                  </a:lnTo>
                  <a:lnTo>
                    <a:pt x="428" y="1621"/>
                  </a:lnTo>
                  <a:lnTo>
                    <a:pt x="419" y="1627"/>
                  </a:lnTo>
                  <a:lnTo>
                    <a:pt x="411" y="1634"/>
                  </a:lnTo>
                  <a:lnTo>
                    <a:pt x="405" y="1641"/>
                  </a:lnTo>
                  <a:lnTo>
                    <a:pt x="400" y="1647"/>
                  </a:lnTo>
                  <a:lnTo>
                    <a:pt x="397" y="1653"/>
                  </a:lnTo>
                  <a:lnTo>
                    <a:pt x="395" y="1657"/>
                  </a:lnTo>
                  <a:lnTo>
                    <a:pt x="395" y="1663"/>
                  </a:lnTo>
                  <a:lnTo>
                    <a:pt x="397" y="1667"/>
                  </a:lnTo>
                  <a:lnTo>
                    <a:pt x="400" y="1670"/>
                  </a:lnTo>
                  <a:lnTo>
                    <a:pt x="438" y="1700"/>
                  </a:lnTo>
                  <a:lnTo>
                    <a:pt x="478" y="1731"/>
                  </a:lnTo>
                  <a:lnTo>
                    <a:pt x="520" y="1761"/>
                  </a:lnTo>
                  <a:lnTo>
                    <a:pt x="562" y="1790"/>
                  </a:lnTo>
                  <a:lnTo>
                    <a:pt x="604" y="1818"/>
                  </a:lnTo>
                  <a:lnTo>
                    <a:pt x="643" y="1844"/>
                  </a:lnTo>
                  <a:lnTo>
                    <a:pt x="680" y="1867"/>
                  </a:lnTo>
                  <a:lnTo>
                    <a:pt x="711" y="1886"/>
                  </a:lnTo>
                  <a:lnTo>
                    <a:pt x="0" y="1886"/>
                  </a:lnTo>
                  <a:lnTo>
                    <a:pt x="0" y="0"/>
                  </a:lnTo>
                  <a:lnTo>
                    <a:pt x="1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Freeform 4"/>
            <p:cNvSpPr/>
            <p:nvPr/>
          </p:nvSpPr>
          <p:spPr>
            <a:xfrm>
              <a:off x="7428240" y="4726080"/>
              <a:ext cx="126360" cy="918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41" h="565">
                  <a:moveTo>
                    <a:pt x="0" y="565"/>
                  </a:moveTo>
                  <a:lnTo>
                    <a:pt x="22" y="537"/>
                  </a:lnTo>
                  <a:lnTo>
                    <a:pt x="45" y="510"/>
                  </a:lnTo>
                  <a:lnTo>
                    <a:pt x="67" y="484"/>
                  </a:lnTo>
                  <a:lnTo>
                    <a:pt x="90" y="459"/>
                  </a:lnTo>
                  <a:lnTo>
                    <a:pt x="136" y="410"/>
                  </a:lnTo>
                  <a:lnTo>
                    <a:pt x="180" y="365"/>
                  </a:lnTo>
                  <a:lnTo>
                    <a:pt x="223" y="326"/>
                  </a:lnTo>
                  <a:lnTo>
                    <a:pt x="263" y="292"/>
                  </a:lnTo>
                  <a:lnTo>
                    <a:pt x="282" y="276"/>
                  </a:lnTo>
                  <a:lnTo>
                    <a:pt x="299" y="262"/>
                  </a:lnTo>
                  <a:lnTo>
                    <a:pt x="317" y="252"/>
                  </a:lnTo>
                  <a:lnTo>
                    <a:pt x="332" y="241"/>
                  </a:lnTo>
                  <a:lnTo>
                    <a:pt x="371" y="220"/>
                  </a:lnTo>
                  <a:lnTo>
                    <a:pt x="422" y="195"/>
                  </a:lnTo>
                  <a:lnTo>
                    <a:pt x="483" y="167"/>
                  </a:lnTo>
                  <a:lnTo>
                    <a:pt x="550" y="136"/>
                  </a:lnTo>
                  <a:lnTo>
                    <a:pt x="623" y="104"/>
                  </a:lnTo>
                  <a:lnTo>
                    <a:pt x="698" y="70"/>
                  </a:lnTo>
                  <a:lnTo>
                    <a:pt x="771" y="35"/>
                  </a:lnTo>
                  <a:lnTo>
                    <a:pt x="841" y="0"/>
                  </a:lnTo>
                  <a:lnTo>
                    <a:pt x="0" y="56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Freeform 5"/>
            <p:cNvSpPr/>
            <p:nvPr/>
          </p:nvSpPr>
          <p:spPr>
            <a:xfrm>
              <a:off x="7428240" y="4726080"/>
              <a:ext cx="126360" cy="918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41" h="565">
                  <a:moveTo>
                    <a:pt x="0" y="565"/>
                  </a:moveTo>
                  <a:lnTo>
                    <a:pt x="22" y="537"/>
                  </a:lnTo>
                  <a:lnTo>
                    <a:pt x="45" y="510"/>
                  </a:lnTo>
                  <a:lnTo>
                    <a:pt x="67" y="484"/>
                  </a:lnTo>
                  <a:lnTo>
                    <a:pt x="90" y="459"/>
                  </a:lnTo>
                  <a:lnTo>
                    <a:pt x="136" y="410"/>
                  </a:lnTo>
                  <a:lnTo>
                    <a:pt x="180" y="365"/>
                  </a:lnTo>
                  <a:lnTo>
                    <a:pt x="223" y="326"/>
                  </a:lnTo>
                  <a:lnTo>
                    <a:pt x="263" y="292"/>
                  </a:lnTo>
                  <a:lnTo>
                    <a:pt x="282" y="276"/>
                  </a:lnTo>
                  <a:lnTo>
                    <a:pt x="299" y="262"/>
                  </a:lnTo>
                  <a:lnTo>
                    <a:pt x="317" y="252"/>
                  </a:lnTo>
                  <a:lnTo>
                    <a:pt x="332" y="241"/>
                  </a:lnTo>
                  <a:lnTo>
                    <a:pt x="371" y="220"/>
                  </a:lnTo>
                  <a:lnTo>
                    <a:pt x="422" y="195"/>
                  </a:lnTo>
                  <a:lnTo>
                    <a:pt x="483" y="167"/>
                  </a:lnTo>
                  <a:lnTo>
                    <a:pt x="550" y="136"/>
                  </a:lnTo>
                  <a:lnTo>
                    <a:pt x="623" y="104"/>
                  </a:lnTo>
                  <a:lnTo>
                    <a:pt x="698" y="70"/>
                  </a:lnTo>
                  <a:lnTo>
                    <a:pt x="771" y="35"/>
                  </a:lnTo>
                  <a:lnTo>
                    <a:pt x="841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Freeform 6"/>
            <p:cNvSpPr/>
            <p:nvPr/>
          </p:nvSpPr>
          <p:spPr>
            <a:xfrm>
              <a:off x="8349840" y="4601880"/>
              <a:ext cx="90360" cy="1058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605" h="646">
                  <a:moveTo>
                    <a:pt x="0" y="0"/>
                  </a:moveTo>
                  <a:lnTo>
                    <a:pt x="277" y="0"/>
                  </a:lnTo>
                  <a:lnTo>
                    <a:pt x="274" y="9"/>
                  </a:lnTo>
                  <a:lnTo>
                    <a:pt x="273" y="20"/>
                  </a:lnTo>
                  <a:lnTo>
                    <a:pt x="273" y="31"/>
                  </a:lnTo>
                  <a:lnTo>
                    <a:pt x="274" y="43"/>
                  </a:lnTo>
                  <a:lnTo>
                    <a:pt x="277" y="56"/>
                  </a:lnTo>
                  <a:lnTo>
                    <a:pt x="279" y="71"/>
                  </a:lnTo>
                  <a:lnTo>
                    <a:pt x="284" y="86"/>
                  </a:lnTo>
                  <a:lnTo>
                    <a:pt x="288" y="102"/>
                  </a:lnTo>
                  <a:lnTo>
                    <a:pt x="300" y="137"/>
                  </a:lnTo>
                  <a:lnTo>
                    <a:pt x="316" y="174"/>
                  </a:lnTo>
                  <a:lnTo>
                    <a:pt x="335" y="214"/>
                  </a:lnTo>
                  <a:lnTo>
                    <a:pt x="356" y="256"/>
                  </a:lnTo>
                  <a:lnTo>
                    <a:pt x="381" y="300"/>
                  </a:lnTo>
                  <a:lnTo>
                    <a:pt x="408" y="347"/>
                  </a:lnTo>
                  <a:lnTo>
                    <a:pt x="436" y="395"/>
                  </a:lnTo>
                  <a:lnTo>
                    <a:pt x="467" y="444"/>
                  </a:lnTo>
                  <a:lnTo>
                    <a:pt x="500" y="493"/>
                  </a:lnTo>
                  <a:lnTo>
                    <a:pt x="534" y="543"/>
                  </a:lnTo>
                  <a:lnTo>
                    <a:pt x="569" y="594"/>
                  </a:lnTo>
                  <a:lnTo>
                    <a:pt x="605" y="6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7"/>
            <p:cNvSpPr/>
            <p:nvPr/>
          </p:nvSpPr>
          <p:spPr>
            <a:xfrm>
              <a:off x="8349840" y="4601880"/>
              <a:ext cx="90360" cy="1058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605" h="646">
                  <a:moveTo>
                    <a:pt x="0" y="0"/>
                  </a:moveTo>
                  <a:lnTo>
                    <a:pt x="277" y="0"/>
                  </a:lnTo>
                  <a:lnTo>
                    <a:pt x="274" y="9"/>
                  </a:lnTo>
                  <a:lnTo>
                    <a:pt x="273" y="20"/>
                  </a:lnTo>
                  <a:lnTo>
                    <a:pt x="273" y="31"/>
                  </a:lnTo>
                  <a:lnTo>
                    <a:pt x="274" y="43"/>
                  </a:lnTo>
                  <a:lnTo>
                    <a:pt x="277" y="56"/>
                  </a:lnTo>
                  <a:lnTo>
                    <a:pt x="279" y="71"/>
                  </a:lnTo>
                  <a:lnTo>
                    <a:pt x="284" y="86"/>
                  </a:lnTo>
                  <a:lnTo>
                    <a:pt x="288" y="102"/>
                  </a:lnTo>
                  <a:lnTo>
                    <a:pt x="300" y="137"/>
                  </a:lnTo>
                  <a:lnTo>
                    <a:pt x="316" y="174"/>
                  </a:lnTo>
                  <a:lnTo>
                    <a:pt x="335" y="214"/>
                  </a:lnTo>
                  <a:lnTo>
                    <a:pt x="356" y="256"/>
                  </a:lnTo>
                  <a:lnTo>
                    <a:pt x="381" y="300"/>
                  </a:lnTo>
                  <a:lnTo>
                    <a:pt x="408" y="347"/>
                  </a:lnTo>
                  <a:lnTo>
                    <a:pt x="436" y="395"/>
                  </a:lnTo>
                  <a:lnTo>
                    <a:pt x="467" y="444"/>
                  </a:lnTo>
                  <a:lnTo>
                    <a:pt x="500" y="493"/>
                  </a:lnTo>
                  <a:lnTo>
                    <a:pt x="534" y="543"/>
                  </a:lnTo>
                  <a:lnTo>
                    <a:pt x="569" y="594"/>
                  </a:lnTo>
                  <a:lnTo>
                    <a:pt x="605" y="64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Freeform 8"/>
            <p:cNvSpPr/>
            <p:nvPr/>
          </p:nvSpPr>
          <p:spPr>
            <a:xfrm>
              <a:off x="6319800" y="4327560"/>
              <a:ext cx="36000" cy="1522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44" h="1091">
                  <a:moveTo>
                    <a:pt x="0" y="567"/>
                  </a:moveTo>
                  <a:lnTo>
                    <a:pt x="17" y="591"/>
                  </a:lnTo>
                  <a:lnTo>
                    <a:pt x="36" y="616"/>
                  </a:lnTo>
                  <a:lnTo>
                    <a:pt x="53" y="642"/>
                  </a:lnTo>
                  <a:lnTo>
                    <a:pt x="71" y="670"/>
                  </a:lnTo>
                  <a:lnTo>
                    <a:pt x="87" y="699"/>
                  </a:lnTo>
                  <a:lnTo>
                    <a:pt x="102" y="730"/>
                  </a:lnTo>
                  <a:lnTo>
                    <a:pt x="109" y="746"/>
                  </a:lnTo>
                  <a:lnTo>
                    <a:pt x="116" y="761"/>
                  </a:lnTo>
                  <a:lnTo>
                    <a:pt x="122" y="777"/>
                  </a:lnTo>
                  <a:lnTo>
                    <a:pt x="127" y="794"/>
                  </a:lnTo>
                  <a:lnTo>
                    <a:pt x="132" y="811"/>
                  </a:lnTo>
                  <a:lnTo>
                    <a:pt x="136" y="828"/>
                  </a:lnTo>
                  <a:lnTo>
                    <a:pt x="140" y="845"/>
                  </a:lnTo>
                  <a:lnTo>
                    <a:pt x="142" y="863"/>
                  </a:lnTo>
                  <a:lnTo>
                    <a:pt x="143" y="880"/>
                  </a:lnTo>
                  <a:lnTo>
                    <a:pt x="144" y="899"/>
                  </a:lnTo>
                  <a:lnTo>
                    <a:pt x="144" y="916"/>
                  </a:lnTo>
                  <a:lnTo>
                    <a:pt x="143" y="935"/>
                  </a:lnTo>
                  <a:lnTo>
                    <a:pt x="141" y="954"/>
                  </a:lnTo>
                  <a:lnTo>
                    <a:pt x="137" y="973"/>
                  </a:lnTo>
                  <a:lnTo>
                    <a:pt x="133" y="992"/>
                  </a:lnTo>
                  <a:lnTo>
                    <a:pt x="128" y="1011"/>
                  </a:lnTo>
                  <a:lnTo>
                    <a:pt x="121" y="1031"/>
                  </a:lnTo>
                  <a:lnTo>
                    <a:pt x="113" y="1051"/>
                  </a:lnTo>
                  <a:lnTo>
                    <a:pt x="104" y="1071"/>
                  </a:lnTo>
                  <a:lnTo>
                    <a:pt x="92" y="1091"/>
                  </a:lnTo>
                  <a:lnTo>
                    <a:pt x="92" y="526"/>
                  </a:lnTo>
                  <a:lnTo>
                    <a:pt x="104" y="506"/>
                  </a:lnTo>
                  <a:lnTo>
                    <a:pt x="113" y="485"/>
                  </a:lnTo>
                  <a:lnTo>
                    <a:pt x="121" y="466"/>
                  </a:lnTo>
                  <a:lnTo>
                    <a:pt x="128" y="446"/>
                  </a:lnTo>
                  <a:lnTo>
                    <a:pt x="133" y="426"/>
                  </a:lnTo>
                  <a:lnTo>
                    <a:pt x="137" y="407"/>
                  </a:lnTo>
                  <a:lnTo>
                    <a:pt x="141" y="389"/>
                  </a:lnTo>
                  <a:lnTo>
                    <a:pt x="143" y="369"/>
                  </a:lnTo>
                  <a:lnTo>
                    <a:pt x="144" y="350"/>
                  </a:lnTo>
                  <a:lnTo>
                    <a:pt x="144" y="332"/>
                  </a:lnTo>
                  <a:lnTo>
                    <a:pt x="143" y="314"/>
                  </a:lnTo>
                  <a:lnTo>
                    <a:pt x="142" y="296"/>
                  </a:lnTo>
                  <a:lnTo>
                    <a:pt x="140" y="279"/>
                  </a:lnTo>
                  <a:lnTo>
                    <a:pt x="136" y="261"/>
                  </a:lnTo>
                  <a:lnTo>
                    <a:pt x="132" y="244"/>
                  </a:lnTo>
                  <a:lnTo>
                    <a:pt x="127" y="227"/>
                  </a:lnTo>
                  <a:lnTo>
                    <a:pt x="122" y="211"/>
                  </a:lnTo>
                  <a:lnTo>
                    <a:pt x="116" y="195"/>
                  </a:lnTo>
                  <a:lnTo>
                    <a:pt x="109" y="178"/>
                  </a:lnTo>
                  <a:lnTo>
                    <a:pt x="102" y="163"/>
                  </a:lnTo>
                  <a:lnTo>
                    <a:pt x="87" y="133"/>
                  </a:lnTo>
                  <a:lnTo>
                    <a:pt x="71" y="103"/>
                  </a:lnTo>
                  <a:lnTo>
                    <a:pt x="53" y="75"/>
                  </a:lnTo>
                  <a:lnTo>
                    <a:pt x="36" y="49"/>
                  </a:lnTo>
                  <a:lnTo>
                    <a:pt x="17" y="23"/>
                  </a:lnTo>
                  <a:lnTo>
                    <a:pt x="0" y="0"/>
                  </a:lnTo>
                  <a:lnTo>
                    <a:pt x="0" y="5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9"/>
            <p:cNvSpPr/>
            <p:nvPr/>
          </p:nvSpPr>
          <p:spPr>
            <a:xfrm>
              <a:off x="7394760" y="4819320"/>
              <a:ext cx="28440" cy="134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196" h="827">
                  <a:moveTo>
                    <a:pt x="196" y="411"/>
                  </a:moveTo>
                  <a:lnTo>
                    <a:pt x="175" y="439"/>
                  </a:lnTo>
                  <a:lnTo>
                    <a:pt x="153" y="467"/>
                  </a:lnTo>
                  <a:lnTo>
                    <a:pt x="134" y="495"/>
                  </a:lnTo>
                  <a:lnTo>
                    <a:pt x="114" y="523"/>
                  </a:lnTo>
                  <a:lnTo>
                    <a:pt x="96" y="551"/>
                  </a:lnTo>
                  <a:lnTo>
                    <a:pt x="79" y="579"/>
                  </a:lnTo>
                  <a:lnTo>
                    <a:pt x="64" y="607"/>
                  </a:lnTo>
                  <a:lnTo>
                    <a:pt x="50" y="634"/>
                  </a:lnTo>
                  <a:lnTo>
                    <a:pt x="37" y="661"/>
                  </a:lnTo>
                  <a:lnTo>
                    <a:pt x="25" y="687"/>
                  </a:lnTo>
                  <a:lnTo>
                    <a:pt x="17" y="713"/>
                  </a:lnTo>
                  <a:lnTo>
                    <a:pt x="9" y="737"/>
                  </a:lnTo>
                  <a:lnTo>
                    <a:pt x="4" y="762"/>
                  </a:lnTo>
                  <a:lnTo>
                    <a:pt x="0" y="784"/>
                  </a:lnTo>
                  <a:lnTo>
                    <a:pt x="0" y="795"/>
                  </a:lnTo>
                  <a:lnTo>
                    <a:pt x="0" y="806"/>
                  </a:lnTo>
                  <a:lnTo>
                    <a:pt x="2" y="816"/>
                  </a:lnTo>
                  <a:lnTo>
                    <a:pt x="3" y="827"/>
                  </a:lnTo>
                  <a:lnTo>
                    <a:pt x="3" y="417"/>
                  </a:lnTo>
                  <a:lnTo>
                    <a:pt x="2" y="408"/>
                  </a:lnTo>
                  <a:lnTo>
                    <a:pt x="0" y="397"/>
                  </a:lnTo>
                  <a:lnTo>
                    <a:pt x="0" y="387"/>
                  </a:lnTo>
                  <a:lnTo>
                    <a:pt x="0" y="375"/>
                  </a:lnTo>
                  <a:lnTo>
                    <a:pt x="4" y="352"/>
                  </a:lnTo>
                  <a:lnTo>
                    <a:pt x="9" y="328"/>
                  </a:lnTo>
                  <a:lnTo>
                    <a:pt x="17" y="303"/>
                  </a:lnTo>
                  <a:lnTo>
                    <a:pt x="25" y="277"/>
                  </a:lnTo>
                  <a:lnTo>
                    <a:pt x="37" y="251"/>
                  </a:lnTo>
                  <a:lnTo>
                    <a:pt x="50" y="224"/>
                  </a:lnTo>
                  <a:lnTo>
                    <a:pt x="64" y="196"/>
                  </a:lnTo>
                  <a:lnTo>
                    <a:pt x="79" y="168"/>
                  </a:lnTo>
                  <a:lnTo>
                    <a:pt x="96" y="140"/>
                  </a:lnTo>
                  <a:lnTo>
                    <a:pt x="114" y="112"/>
                  </a:lnTo>
                  <a:lnTo>
                    <a:pt x="134" y="84"/>
                  </a:lnTo>
                  <a:lnTo>
                    <a:pt x="153" y="56"/>
                  </a:lnTo>
                  <a:lnTo>
                    <a:pt x="175" y="28"/>
                  </a:lnTo>
                  <a:lnTo>
                    <a:pt x="196" y="0"/>
                  </a:lnTo>
                  <a:lnTo>
                    <a:pt x="196" y="41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10"/>
            <p:cNvSpPr/>
            <p:nvPr/>
          </p:nvSpPr>
          <p:spPr>
            <a:xfrm>
              <a:off x="7561080" y="4654080"/>
              <a:ext cx="51840" cy="1090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40" h="668">
                  <a:moveTo>
                    <a:pt x="340" y="196"/>
                  </a:moveTo>
                  <a:lnTo>
                    <a:pt x="322" y="168"/>
                  </a:lnTo>
                  <a:lnTo>
                    <a:pt x="303" y="143"/>
                  </a:lnTo>
                  <a:lnTo>
                    <a:pt x="285" y="119"/>
                  </a:lnTo>
                  <a:lnTo>
                    <a:pt x="265" y="98"/>
                  </a:lnTo>
                  <a:lnTo>
                    <a:pt x="245" y="80"/>
                  </a:lnTo>
                  <a:lnTo>
                    <a:pt x="225" y="63"/>
                  </a:lnTo>
                  <a:lnTo>
                    <a:pt x="205" y="48"/>
                  </a:lnTo>
                  <a:lnTo>
                    <a:pt x="185" y="35"/>
                  </a:lnTo>
                  <a:lnTo>
                    <a:pt x="166" y="25"/>
                  </a:lnTo>
                  <a:lnTo>
                    <a:pt x="146" y="16"/>
                  </a:lnTo>
                  <a:lnTo>
                    <a:pt x="127" y="9"/>
                  </a:lnTo>
                  <a:lnTo>
                    <a:pt x="109" y="5"/>
                  </a:lnTo>
                  <a:lnTo>
                    <a:pt x="92" y="1"/>
                  </a:lnTo>
                  <a:lnTo>
                    <a:pt x="76" y="0"/>
                  </a:lnTo>
                  <a:lnTo>
                    <a:pt x="62" y="1"/>
                  </a:lnTo>
                  <a:lnTo>
                    <a:pt x="48" y="4"/>
                  </a:lnTo>
                  <a:lnTo>
                    <a:pt x="35" y="8"/>
                  </a:lnTo>
                  <a:lnTo>
                    <a:pt x="24" y="14"/>
                  </a:lnTo>
                  <a:lnTo>
                    <a:pt x="15" y="21"/>
                  </a:lnTo>
                  <a:lnTo>
                    <a:pt x="8" y="30"/>
                  </a:lnTo>
                  <a:lnTo>
                    <a:pt x="3" y="41"/>
                  </a:lnTo>
                  <a:lnTo>
                    <a:pt x="1" y="54"/>
                  </a:lnTo>
                  <a:lnTo>
                    <a:pt x="0" y="68"/>
                  </a:lnTo>
                  <a:lnTo>
                    <a:pt x="2" y="83"/>
                  </a:lnTo>
                  <a:lnTo>
                    <a:pt x="7" y="101"/>
                  </a:lnTo>
                  <a:lnTo>
                    <a:pt x="14" y="118"/>
                  </a:lnTo>
                  <a:lnTo>
                    <a:pt x="24" y="138"/>
                  </a:lnTo>
                  <a:lnTo>
                    <a:pt x="37" y="159"/>
                  </a:lnTo>
                  <a:lnTo>
                    <a:pt x="53" y="181"/>
                  </a:lnTo>
                  <a:lnTo>
                    <a:pt x="73" y="206"/>
                  </a:lnTo>
                  <a:lnTo>
                    <a:pt x="97" y="230"/>
                  </a:lnTo>
                  <a:lnTo>
                    <a:pt x="124" y="256"/>
                  </a:lnTo>
                  <a:lnTo>
                    <a:pt x="124" y="668"/>
                  </a:lnTo>
                  <a:lnTo>
                    <a:pt x="97" y="641"/>
                  </a:lnTo>
                  <a:lnTo>
                    <a:pt x="73" y="617"/>
                  </a:lnTo>
                  <a:lnTo>
                    <a:pt x="53" y="592"/>
                  </a:lnTo>
                  <a:lnTo>
                    <a:pt x="37" y="570"/>
                  </a:lnTo>
                  <a:lnTo>
                    <a:pt x="24" y="549"/>
                  </a:lnTo>
                  <a:lnTo>
                    <a:pt x="14" y="529"/>
                  </a:lnTo>
                  <a:lnTo>
                    <a:pt x="7" y="511"/>
                  </a:lnTo>
                  <a:lnTo>
                    <a:pt x="2" y="493"/>
                  </a:lnTo>
                  <a:lnTo>
                    <a:pt x="0" y="478"/>
                  </a:lnTo>
                  <a:lnTo>
                    <a:pt x="1" y="464"/>
                  </a:lnTo>
                  <a:lnTo>
                    <a:pt x="3" y="451"/>
                  </a:lnTo>
                  <a:lnTo>
                    <a:pt x="8" y="440"/>
                  </a:lnTo>
                  <a:lnTo>
                    <a:pt x="15" y="431"/>
                  </a:lnTo>
                  <a:lnTo>
                    <a:pt x="24" y="423"/>
                  </a:lnTo>
                  <a:lnTo>
                    <a:pt x="35" y="417"/>
                  </a:lnTo>
                  <a:lnTo>
                    <a:pt x="48" y="412"/>
                  </a:lnTo>
                  <a:lnTo>
                    <a:pt x="62" y="410"/>
                  </a:lnTo>
                  <a:lnTo>
                    <a:pt x="76" y="410"/>
                  </a:lnTo>
                  <a:lnTo>
                    <a:pt x="92" y="411"/>
                  </a:lnTo>
                  <a:lnTo>
                    <a:pt x="109" y="414"/>
                  </a:lnTo>
                  <a:lnTo>
                    <a:pt x="127" y="418"/>
                  </a:lnTo>
                  <a:lnTo>
                    <a:pt x="146" y="425"/>
                  </a:lnTo>
                  <a:lnTo>
                    <a:pt x="166" y="433"/>
                  </a:lnTo>
                  <a:lnTo>
                    <a:pt x="185" y="444"/>
                  </a:lnTo>
                  <a:lnTo>
                    <a:pt x="205" y="457"/>
                  </a:lnTo>
                  <a:lnTo>
                    <a:pt x="225" y="472"/>
                  </a:lnTo>
                  <a:lnTo>
                    <a:pt x="245" y="488"/>
                  </a:lnTo>
                  <a:lnTo>
                    <a:pt x="265" y="507"/>
                  </a:lnTo>
                  <a:lnTo>
                    <a:pt x="285" y="528"/>
                  </a:lnTo>
                  <a:lnTo>
                    <a:pt x="303" y="551"/>
                  </a:lnTo>
                  <a:lnTo>
                    <a:pt x="322" y="577"/>
                  </a:lnTo>
                  <a:lnTo>
                    <a:pt x="340" y="605"/>
                  </a:lnTo>
                  <a:lnTo>
                    <a:pt x="34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Freeform 11"/>
            <p:cNvSpPr/>
            <p:nvPr/>
          </p:nvSpPr>
          <p:spPr>
            <a:xfrm>
              <a:off x="7905960" y="4589640"/>
              <a:ext cx="12600" cy="93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87" h="576">
                  <a:moveTo>
                    <a:pt x="87" y="413"/>
                  </a:moveTo>
                  <a:lnTo>
                    <a:pt x="75" y="417"/>
                  </a:lnTo>
                  <a:lnTo>
                    <a:pt x="66" y="423"/>
                  </a:lnTo>
                  <a:lnTo>
                    <a:pt x="56" y="429"/>
                  </a:lnTo>
                  <a:lnTo>
                    <a:pt x="46" y="436"/>
                  </a:lnTo>
                  <a:lnTo>
                    <a:pt x="35" y="448"/>
                  </a:lnTo>
                  <a:lnTo>
                    <a:pt x="24" y="460"/>
                  </a:lnTo>
                  <a:lnTo>
                    <a:pt x="16" y="472"/>
                  </a:lnTo>
                  <a:lnTo>
                    <a:pt x="10" y="484"/>
                  </a:lnTo>
                  <a:lnTo>
                    <a:pt x="5" y="497"/>
                  </a:lnTo>
                  <a:lnTo>
                    <a:pt x="2" y="509"/>
                  </a:lnTo>
                  <a:lnTo>
                    <a:pt x="1" y="519"/>
                  </a:lnTo>
                  <a:lnTo>
                    <a:pt x="0" y="530"/>
                  </a:lnTo>
                  <a:lnTo>
                    <a:pt x="0" y="548"/>
                  </a:lnTo>
                  <a:lnTo>
                    <a:pt x="2" y="563"/>
                  </a:lnTo>
                  <a:lnTo>
                    <a:pt x="5" y="573"/>
                  </a:lnTo>
                  <a:lnTo>
                    <a:pt x="7" y="576"/>
                  </a:lnTo>
                  <a:lnTo>
                    <a:pt x="7" y="167"/>
                  </a:lnTo>
                  <a:lnTo>
                    <a:pt x="5" y="164"/>
                  </a:lnTo>
                  <a:lnTo>
                    <a:pt x="2" y="155"/>
                  </a:lnTo>
                  <a:lnTo>
                    <a:pt x="0" y="139"/>
                  </a:lnTo>
                  <a:lnTo>
                    <a:pt x="0" y="120"/>
                  </a:lnTo>
                  <a:lnTo>
                    <a:pt x="1" y="109"/>
                  </a:lnTo>
                  <a:lnTo>
                    <a:pt x="2" y="97"/>
                  </a:lnTo>
                  <a:lnTo>
                    <a:pt x="5" y="86"/>
                  </a:lnTo>
                  <a:lnTo>
                    <a:pt x="10" y="74"/>
                  </a:lnTo>
                  <a:lnTo>
                    <a:pt x="16" y="62"/>
                  </a:lnTo>
                  <a:lnTo>
                    <a:pt x="24" y="50"/>
                  </a:lnTo>
                  <a:lnTo>
                    <a:pt x="35" y="38"/>
                  </a:lnTo>
                  <a:lnTo>
                    <a:pt x="46" y="26"/>
                  </a:lnTo>
                  <a:lnTo>
                    <a:pt x="56" y="20"/>
                  </a:lnTo>
                  <a:lnTo>
                    <a:pt x="66" y="13"/>
                  </a:lnTo>
                  <a:lnTo>
                    <a:pt x="75" y="7"/>
                  </a:lnTo>
                  <a:lnTo>
                    <a:pt x="87" y="0"/>
                  </a:lnTo>
                  <a:lnTo>
                    <a:pt x="87" y="4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12"/>
            <p:cNvSpPr/>
            <p:nvPr/>
          </p:nvSpPr>
          <p:spPr>
            <a:xfrm>
              <a:off x="6333840" y="4352760"/>
              <a:ext cx="7920" cy="615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51" h="375">
                  <a:moveTo>
                    <a:pt x="0" y="375"/>
                  </a:moveTo>
                  <a:lnTo>
                    <a:pt x="0" y="0"/>
                  </a:lnTo>
                  <a:lnTo>
                    <a:pt x="12" y="21"/>
                  </a:lnTo>
                  <a:lnTo>
                    <a:pt x="22" y="44"/>
                  </a:lnTo>
                  <a:lnTo>
                    <a:pt x="30" y="66"/>
                  </a:lnTo>
                  <a:lnTo>
                    <a:pt x="38" y="89"/>
                  </a:lnTo>
                  <a:lnTo>
                    <a:pt x="43" y="113"/>
                  </a:lnTo>
                  <a:lnTo>
                    <a:pt x="48" y="136"/>
                  </a:lnTo>
                  <a:lnTo>
                    <a:pt x="50" y="160"/>
                  </a:lnTo>
                  <a:lnTo>
                    <a:pt x="51" y="185"/>
                  </a:lnTo>
                  <a:lnTo>
                    <a:pt x="50" y="209"/>
                  </a:lnTo>
                  <a:lnTo>
                    <a:pt x="48" y="234"/>
                  </a:lnTo>
                  <a:lnTo>
                    <a:pt x="44" y="259"/>
                  </a:lnTo>
                  <a:lnTo>
                    <a:pt x="38" y="282"/>
                  </a:lnTo>
                  <a:lnTo>
                    <a:pt x="31" y="306"/>
                  </a:lnTo>
                  <a:lnTo>
                    <a:pt x="23" y="330"/>
                  </a:lnTo>
                  <a:lnTo>
                    <a:pt x="13" y="353"/>
                  </a:lnTo>
                  <a:lnTo>
                    <a:pt x="0" y="3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Freeform 13"/>
            <p:cNvSpPr/>
            <p:nvPr/>
          </p:nvSpPr>
          <p:spPr>
            <a:xfrm>
              <a:off x="6764400" y="4514400"/>
              <a:ext cx="14040" cy="96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92" h="596">
                  <a:moveTo>
                    <a:pt x="92" y="0"/>
                  </a:moveTo>
                  <a:lnTo>
                    <a:pt x="0" y="187"/>
                  </a:lnTo>
                  <a:lnTo>
                    <a:pt x="0" y="596"/>
                  </a:lnTo>
                  <a:lnTo>
                    <a:pt x="92" y="409"/>
                  </a:lnTo>
                  <a:lnTo>
                    <a:pt x="9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14"/>
            <p:cNvSpPr/>
            <p:nvPr/>
          </p:nvSpPr>
          <p:spPr>
            <a:xfrm>
              <a:off x="6932880" y="4667400"/>
              <a:ext cx="64440" cy="1411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435" h="872">
                  <a:moveTo>
                    <a:pt x="435" y="463"/>
                  </a:moveTo>
                  <a:lnTo>
                    <a:pt x="0" y="0"/>
                  </a:lnTo>
                  <a:lnTo>
                    <a:pt x="0" y="408"/>
                  </a:lnTo>
                  <a:lnTo>
                    <a:pt x="435" y="872"/>
                  </a:lnTo>
                  <a:lnTo>
                    <a:pt x="435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Freeform 15"/>
            <p:cNvSpPr/>
            <p:nvPr/>
          </p:nvSpPr>
          <p:spPr>
            <a:xfrm>
              <a:off x="7026480" y="4672080"/>
              <a:ext cx="31320" cy="1220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16" h="749">
                  <a:moveTo>
                    <a:pt x="216" y="0"/>
                  </a:moveTo>
                  <a:lnTo>
                    <a:pt x="0" y="340"/>
                  </a:lnTo>
                  <a:lnTo>
                    <a:pt x="0" y="749"/>
                  </a:lnTo>
                  <a:lnTo>
                    <a:pt x="216" y="409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Freeform 16"/>
            <p:cNvSpPr/>
            <p:nvPr/>
          </p:nvSpPr>
          <p:spPr>
            <a:xfrm>
              <a:off x="7131240" y="4667400"/>
              <a:ext cx="99360" cy="2314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658" h="1423">
                  <a:moveTo>
                    <a:pt x="658" y="1423"/>
                  </a:moveTo>
                  <a:lnTo>
                    <a:pt x="618" y="1400"/>
                  </a:lnTo>
                  <a:lnTo>
                    <a:pt x="581" y="1375"/>
                  </a:lnTo>
                  <a:lnTo>
                    <a:pt x="547" y="1349"/>
                  </a:lnTo>
                  <a:lnTo>
                    <a:pt x="514" y="1324"/>
                  </a:lnTo>
                  <a:lnTo>
                    <a:pt x="485" y="1298"/>
                  </a:lnTo>
                  <a:lnTo>
                    <a:pt x="457" y="1271"/>
                  </a:lnTo>
                  <a:lnTo>
                    <a:pt x="431" y="1243"/>
                  </a:lnTo>
                  <a:lnTo>
                    <a:pt x="407" y="1215"/>
                  </a:lnTo>
                  <a:lnTo>
                    <a:pt x="385" y="1187"/>
                  </a:lnTo>
                  <a:lnTo>
                    <a:pt x="365" y="1158"/>
                  </a:lnTo>
                  <a:lnTo>
                    <a:pt x="346" y="1130"/>
                  </a:lnTo>
                  <a:lnTo>
                    <a:pt x="330" y="1101"/>
                  </a:lnTo>
                  <a:lnTo>
                    <a:pt x="313" y="1071"/>
                  </a:lnTo>
                  <a:lnTo>
                    <a:pt x="299" y="1042"/>
                  </a:lnTo>
                  <a:lnTo>
                    <a:pt x="286" y="1013"/>
                  </a:lnTo>
                  <a:lnTo>
                    <a:pt x="276" y="984"/>
                  </a:lnTo>
                  <a:lnTo>
                    <a:pt x="265" y="955"/>
                  </a:lnTo>
                  <a:lnTo>
                    <a:pt x="256" y="927"/>
                  </a:lnTo>
                  <a:lnTo>
                    <a:pt x="248" y="897"/>
                  </a:lnTo>
                  <a:lnTo>
                    <a:pt x="241" y="871"/>
                  </a:lnTo>
                  <a:lnTo>
                    <a:pt x="228" y="816"/>
                  </a:lnTo>
                  <a:lnTo>
                    <a:pt x="219" y="763"/>
                  </a:lnTo>
                  <a:lnTo>
                    <a:pt x="212" y="714"/>
                  </a:lnTo>
                  <a:lnTo>
                    <a:pt x="205" y="668"/>
                  </a:lnTo>
                  <a:lnTo>
                    <a:pt x="199" y="628"/>
                  </a:lnTo>
                  <a:lnTo>
                    <a:pt x="194" y="590"/>
                  </a:lnTo>
                  <a:lnTo>
                    <a:pt x="190" y="567"/>
                  </a:lnTo>
                  <a:lnTo>
                    <a:pt x="184" y="546"/>
                  </a:lnTo>
                  <a:lnTo>
                    <a:pt x="176" y="526"/>
                  </a:lnTo>
                  <a:lnTo>
                    <a:pt x="167" y="508"/>
                  </a:lnTo>
                  <a:lnTo>
                    <a:pt x="158" y="493"/>
                  </a:lnTo>
                  <a:lnTo>
                    <a:pt x="147" y="479"/>
                  </a:lnTo>
                  <a:lnTo>
                    <a:pt x="136" y="466"/>
                  </a:lnTo>
                  <a:lnTo>
                    <a:pt x="123" y="455"/>
                  </a:lnTo>
                  <a:lnTo>
                    <a:pt x="110" y="445"/>
                  </a:lnTo>
                  <a:lnTo>
                    <a:pt x="96" y="437"/>
                  </a:lnTo>
                  <a:lnTo>
                    <a:pt x="81" y="430"/>
                  </a:lnTo>
                  <a:lnTo>
                    <a:pt x="66" y="423"/>
                  </a:lnTo>
                  <a:lnTo>
                    <a:pt x="51" y="419"/>
                  </a:lnTo>
                  <a:lnTo>
                    <a:pt x="34" y="415"/>
                  </a:lnTo>
                  <a:lnTo>
                    <a:pt x="18" y="412"/>
                  </a:lnTo>
                  <a:lnTo>
                    <a:pt x="0" y="409"/>
                  </a:lnTo>
                  <a:lnTo>
                    <a:pt x="0" y="0"/>
                  </a:lnTo>
                  <a:lnTo>
                    <a:pt x="18" y="3"/>
                  </a:lnTo>
                  <a:lnTo>
                    <a:pt x="34" y="5"/>
                  </a:lnTo>
                  <a:lnTo>
                    <a:pt x="51" y="10"/>
                  </a:lnTo>
                  <a:lnTo>
                    <a:pt x="66" y="14"/>
                  </a:lnTo>
                  <a:lnTo>
                    <a:pt x="81" y="20"/>
                  </a:lnTo>
                  <a:lnTo>
                    <a:pt x="96" y="27"/>
                  </a:lnTo>
                  <a:lnTo>
                    <a:pt x="110" y="35"/>
                  </a:lnTo>
                  <a:lnTo>
                    <a:pt x="123" y="45"/>
                  </a:lnTo>
                  <a:lnTo>
                    <a:pt x="136" y="55"/>
                  </a:lnTo>
                  <a:lnTo>
                    <a:pt x="147" y="68"/>
                  </a:lnTo>
                  <a:lnTo>
                    <a:pt x="158" y="82"/>
                  </a:lnTo>
                  <a:lnTo>
                    <a:pt x="167" y="97"/>
                  </a:lnTo>
                  <a:lnTo>
                    <a:pt x="176" y="115"/>
                  </a:lnTo>
                  <a:lnTo>
                    <a:pt x="184" y="134"/>
                  </a:lnTo>
                  <a:lnTo>
                    <a:pt x="190" y="156"/>
                  </a:lnTo>
                  <a:lnTo>
                    <a:pt x="194" y="178"/>
                  </a:lnTo>
                  <a:lnTo>
                    <a:pt x="199" y="216"/>
                  </a:lnTo>
                  <a:lnTo>
                    <a:pt x="205" y="257"/>
                  </a:lnTo>
                  <a:lnTo>
                    <a:pt x="212" y="304"/>
                  </a:lnTo>
                  <a:lnTo>
                    <a:pt x="219" y="353"/>
                  </a:lnTo>
                  <a:lnTo>
                    <a:pt x="228" y="406"/>
                  </a:lnTo>
                  <a:lnTo>
                    <a:pt x="241" y="459"/>
                  </a:lnTo>
                  <a:lnTo>
                    <a:pt x="248" y="487"/>
                  </a:lnTo>
                  <a:lnTo>
                    <a:pt x="256" y="515"/>
                  </a:lnTo>
                  <a:lnTo>
                    <a:pt x="265" y="545"/>
                  </a:lnTo>
                  <a:lnTo>
                    <a:pt x="276" y="574"/>
                  </a:lnTo>
                  <a:lnTo>
                    <a:pt x="286" y="602"/>
                  </a:lnTo>
                  <a:lnTo>
                    <a:pt x="299" y="631"/>
                  </a:lnTo>
                  <a:lnTo>
                    <a:pt x="313" y="660"/>
                  </a:lnTo>
                  <a:lnTo>
                    <a:pt x="330" y="690"/>
                  </a:lnTo>
                  <a:lnTo>
                    <a:pt x="346" y="719"/>
                  </a:lnTo>
                  <a:lnTo>
                    <a:pt x="365" y="748"/>
                  </a:lnTo>
                  <a:lnTo>
                    <a:pt x="385" y="776"/>
                  </a:lnTo>
                  <a:lnTo>
                    <a:pt x="407" y="805"/>
                  </a:lnTo>
                  <a:lnTo>
                    <a:pt x="431" y="833"/>
                  </a:lnTo>
                  <a:lnTo>
                    <a:pt x="457" y="860"/>
                  </a:lnTo>
                  <a:lnTo>
                    <a:pt x="485" y="888"/>
                  </a:lnTo>
                  <a:lnTo>
                    <a:pt x="514" y="914"/>
                  </a:lnTo>
                  <a:lnTo>
                    <a:pt x="547" y="941"/>
                  </a:lnTo>
                  <a:lnTo>
                    <a:pt x="581" y="965"/>
                  </a:lnTo>
                  <a:lnTo>
                    <a:pt x="618" y="990"/>
                  </a:lnTo>
                  <a:lnTo>
                    <a:pt x="658" y="1013"/>
                  </a:lnTo>
                  <a:lnTo>
                    <a:pt x="658" y="14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17"/>
            <p:cNvSpPr/>
            <p:nvPr/>
          </p:nvSpPr>
          <p:spPr>
            <a:xfrm>
              <a:off x="7255080" y="4908240"/>
              <a:ext cx="74520" cy="147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496" h="905">
                  <a:moveTo>
                    <a:pt x="496" y="496"/>
                  </a:moveTo>
                  <a:lnTo>
                    <a:pt x="0" y="0"/>
                  </a:lnTo>
                  <a:lnTo>
                    <a:pt x="0" y="410"/>
                  </a:lnTo>
                  <a:lnTo>
                    <a:pt x="496" y="905"/>
                  </a:lnTo>
                  <a:lnTo>
                    <a:pt x="496" y="4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18"/>
            <p:cNvSpPr/>
            <p:nvPr/>
          </p:nvSpPr>
          <p:spPr>
            <a:xfrm>
              <a:off x="7473960" y="4727880"/>
              <a:ext cx="75960" cy="1058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11" h="650">
                  <a:moveTo>
                    <a:pt x="511" y="409"/>
                  </a:moveTo>
                  <a:lnTo>
                    <a:pt x="441" y="443"/>
                  </a:lnTo>
                  <a:lnTo>
                    <a:pt x="367" y="478"/>
                  </a:lnTo>
                  <a:lnTo>
                    <a:pt x="292" y="511"/>
                  </a:lnTo>
                  <a:lnTo>
                    <a:pt x="220" y="544"/>
                  </a:lnTo>
                  <a:lnTo>
                    <a:pt x="152" y="576"/>
                  </a:lnTo>
                  <a:lnTo>
                    <a:pt x="91" y="604"/>
                  </a:lnTo>
                  <a:lnTo>
                    <a:pt x="40" y="628"/>
                  </a:lnTo>
                  <a:lnTo>
                    <a:pt x="0" y="650"/>
                  </a:lnTo>
                  <a:lnTo>
                    <a:pt x="0" y="242"/>
                  </a:lnTo>
                  <a:lnTo>
                    <a:pt x="40" y="219"/>
                  </a:lnTo>
                  <a:lnTo>
                    <a:pt x="91" y="195"/>
                  </a:lnTo>
                  <a:lnTo>
                    <a:pt x="152" y="166"/>
                  </a:lnTo>
                  <a:lnTo>
                    <a:pt x="220" y="135"/>
                  </a:lnTo>
                  <a:lnTo>
                    <a:pt x="292" y="103"/>
                  </a:lnTo>
                  <a:lnTo>
                    <a:pt x="367" y="69"/>
                  </a:lnTo>
                  <a:lnTo>
                    <a:pt x="441" y="34"/>
                  </a:lnTo>
                  <a:lnTo>
                    <a:pt x="511" y="0"/>
                  </a:lnTo>
                  <a:lnTo>
                    <a:pt x="511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19"/>
            <p:cNvSpPr/>
            <p:nvPr/>
          </p:nvSpPr>
          <p:spPr>
            <a:xfrm>
              <a:off x="7647120" y="4650840"/>
              <a:ext cx="45720" cy="70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309" h="437">
                  <a:moveTo>
                    <a:pt x="309" y="0"/>
                  </a:moveTo>
                  <a:lnTo>
                    <a:pt x="0" y="28"/>
                  </a:lnTo>
                  <a:lnTo>
                    <a:pt x="0" y="437"/>
                  </a:lnTo>
                  <a:lnTo>
                    <a:pt x="309" y="409"/>
                  </a:lnTo>
                  <a:lnTo>
                    <a:pt x="30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20"/>
            <p:cNvSpPr/>
            <p:nvPr/>
          </p:nvSpPr>
          <p:spPr>
            <a:xfrm>
              <a:off x="7818480" y="4667400"/>
              <a:ext cx="42840" cy="903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75" h="556">
                  <a:moveTo>
                    <a:pt x="275" y="556"/>
                  </a:moveTo>
                  <a:lnTo>
                    <a:pt x="264" y="544"/>
                  </a:lnTo>
                  <a:lnTo>
                    <a:pt x="251" y="534"/>
                  </a:lnTo>
                  <a:lnTo>
                    <a:pt x="238" y="523"/>
                  </a:lnTo>
                  <a:lnTo>
                    <a:pt x="223" y="512"/>
                  </a:lnTo>
                  <a:lnTo>
                    <a:pt x="208" y="503"/>
                  </a:lnTo>
                  <a:lnTo>
                    <a:pt x="193" y="494"/>
                  </a:lnTo>
                  <a:lnTo>
                    <a:pt x="175" y="484"/>
                  </a:lnTo>
                  <a:lnTo>
                    <a:pt x="159" y="475"/>
                  </a:lnTo>
                  <a:lnTo>
                    <a:pt x="121" y="458"/>
                  </a:lnTo>
                  <a:lnTo>
                    <a:pt x="83" y="441"/>
                  </a:lnTo>
                  <a:lnTo>
                    <a:pt x="42" y="426"/>
                  </a:lnTo>
                  <a:lnTo>
                    <a:pt x="0" y="412"/>
                  </a:lnTo>
                  <a:lnTo>
                    <a:pt x="0" y="0"/>
                  </a:lnTo>
                  <a:lnTo>
                    <a:pt x="42" y="14"/>
                  </a:lnTo>
                  <a:lnTo>
                    <a:pt x="83" y="30"/>
                  </a:lnTo>
                  <a:lnTo>
                    <a:pt x="121" y="46"/>
                  </a:lnTo>
                  <a:lnTo>
                    <a:pt x="159" y="64"/>
                  </a:lnTo>
                  <a:lnTo>
                    <a:pt x="175" y="73"/>
                  </a:lnTo>
                  <a:lnTo>
                    <a:pt x="193" y="84"/>
                  </a:lnTo>
                  <a:lnTo>
                    <a:pt x="208" y="93"/>
                  </a:lnTo>
                  <a:lnTo>
                    <a:pt x="223" y="104"/>
                  </a:lnTo>
                  <a:lnTo>
                    <a:pt x="238" y="114"/>
                  </a:lnTo>
                  <a:lnTo>
                    <a:pt x="251" y="125"/>
                  </a:lnTo>
                  <a:lnTo>
                    <a:pt x="264" y="135"/>
                  </a:lnTo>
                  <a:lnTo>
                    <a:pt x="275" y="147"/>
                  </a:lnTo>
                  <a:lnTo>
                    <a:pt x="275" y="55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Freeform 21"/>
            <p:cNvSpPr/>
            <p:nvPr/>
          </p:nvSpPr>
          <p:spPr>
            <a:xfrm>
              <a:off x="8159760" y="4564440"/>
              <a:ext cx="36000" cy="975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48" h="597">
                  <a:moveTo>
                    <a:pt x="248" y="188"/>
                  </a:moveTo>
                  <a:lnTo>
                    <a:pt x="248" y="177"/>
                  </a:lnTo>
                  <a:lnTo>
                    <a:pt x="246" y="165"/>
                  </a:lnTo>
                  <a:lnTo>
                    <a:pt x="242" y="154"/>
                  </a:lnTo>
                  <a:lnTo>
                    <a:pt x="237" y="144"/>
                  </a:lnTo>
                  <a:lnTo>
                    <a:pt x="232" y="135"/>
                  </a:lnTo>
                  <a:lnTo>
                    <a:pt x="226" y="125"/>
                  </a:lnTo>
                  <a:lnTo>
                    <a:pt x="218" y="116"/>
                  </a:lnTo>
                  <a:lnTo>
                    <a:pt x="209" y="107"/>
                  </a:lnTo>
                  <a:lnTo>
                    <a:pt x="200" y="98"/>
                  </a:lnTo>
                  <a:lnTo>
                    <a:pt x="191" y="90"/>
                  </a:lnTo>
                  <a:lnTo>
                    <a:pt x="180" y="82"/>
                  </a:lnTo>
                  <a:lnTo>
                    <a:pt x="170" y="74"/>
                  </a:lnTo>
                  <a:lnTo>
                    <a:pt x="147" y="61"/>
                  </a:lnTo>
                  <a:lnTo>
                    <a:pt x="124" y="48"/>
                  </a:lnTo>
                  <a:lnTo>
                    <a:pt x="101" y="36"/>
                  </a:lnTo>
                  <a:lnTo>
                    <a:pt x="79" y="27"/>
                  </a:lnTo>
                  <a:lnTo>
                    <a:pt x="58" y="19"/>
                  </a:lnTo>
                  <a:lnTo>
                    <a:pt x="39" y="13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413"/>
                  </a:lnTo>
                  <a:lnTo>
                    <a:pt x="11" y="416"/>
                  </a:lnTo>
                  <a:lnTo>
                    <a:pt x="39" y="424"/>
                  </a:lnTo>
                  <a:lnTo>
                    <a:pt x="58" y="430"/>
                  </a:lnTo>
                  <a:lnTo>
                    <a:pt x="79" y="438"/>
                  </a:lnTo>
                  <a:lnTo>
                    <a:pt x="101" y="448"/>
                  </a:lnTo>
                  <a:lnTo>
                    <a:pt x="124" y="458"/>
                  </a:lnTo>
                  <a:lnTo>
                    <a:pt x="147" y="471"/>
                  </a:lnTo>
                  <a:lnTo>
                    <a:pt x="170" y="484"/>
                  </a:lnTo>
                  <a:lnTo>
                    <a:pt x="180" y="492"/>
                  </a:lnTo>
                  <a:lnTo>
                    <a:pt x="191" y="499"/>
                  </a:lnTo>
                  <a:lnTo>
                    <a:pt x="200" y="507"/>
                  </a:lnTo>
                  <a:lnTo>
                    <a:pt x="209" y="515"/>
                  </a:lnTo>
                  <a:lnTo>
                    <a:pt x="218" y="525"/>
                  </a:lnTo>
                  <a:lnTo>
                    <a:pt x="226" y="534"/>
                  </a:lnTo>
                  <a:lnTo>
                    <a:pt x="232" y="543"/>
                  </a:lnTo>
                  <a:lnTo>
                    <a:pt x="237" y="554"/>
                  </a:lnTo>
                  <a:lnTo>
                    <a:pt x="242" y="563"/>
                  </a:lnTo>
                  <a:lnTo>
                    <a:pt x="246" y="575"/>
                  </a:lnTo>
                  <a:lnTo>
                    <a:pt x="248" y="585"/>
                  </a:lnTo>
                  <a:lnTo>
                    <a:pt x="248" y="597"/>
                  </a:lnTo>
                  <a:lnTo>
                    <a:pt x="248" y="1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22"/>
            <p:cNvSpPr/>
            <p:nvPr/>
          </p:nvSpPr>
          <p:spPr>
            <a:xfrm>
              <a:off x="8251920" y="4561200"/>
              <a:ext cx="29880" cy="666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23"/>
            <p:cNvSpPr/>
            <p:nvPr/>
          </p:nvSpPr>
          <p:spPr>
            <a:xfrm>
              <a:off x="8303760" y="4581720"/>
              <a:ext cx="14040" cy="651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24"/>
            <p:cNvSpPr/>
            <p:nvPr/>
          </p:nvSpPr>
          <p:spPr>
            <a:xfrm>
              <a:off x="8388360" y="4605120"/>
              <a:ext cx="48600" cy="174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29" h="1068">
                  <a:moveTo>
                    <a:pt x="329" y="645"/>
                  </a:moveTo>
                  <a:lnTo>
                    <a:pt x="293" y="593"/>
                  </a:lnTo>
                  <a:lnTo>
                    <a:pt x="258" y="543"/>
                  </a:lnTo>
                  <a:lnTo>
                    <a:pt x="223" y="493"/>
                  </a:lnTo>
                  <a:lnTo>
                    <a:pt x="191" y="443"/>
                  </a:lnTo>
                  <a:lnTo>
                    <a:pt x="160" y="394"/>
                  </a:lnTo>
                  <a:lnTo>
                    <a:pt x="132" y="346"/>
                  </a:lnTo>
                  <a:lnTo>
                    <a:pt x="105" y="299"/>
                  </a:lnTo>
                  <a:lnTo>
                    <a:pt x="80" y="255"/>
                  </a:lnTo>
                  <a:lnTo>
                    <a:pt x="59" y="213"/>
                  </a:lnTo>
                  <a:lnTo>
                    <a:pt x="41" y="173"/>
                  </a:lnTo>
                  <a:lnTo>
                    <a:pt x="26" y="136"/>
                  </a:lnTo>
                  <a:lnTo>
                    <a:pt x="14" y="102"/>
                  </a:lnTo>
                  <a:lnTo>
                    <a:pt x="9" y="85"/>
                  </a:lnTo>
                  <a:lnTo>
                    <a:pt x="5" y="70"/>
                  </a:lnTo>
                  <a:lnTo>
                    <a:pt x="2" y="56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1" y="8"/>
                  </a:lnTo>
                  <a:lnTo>
                    <a:pt x="3" y="0"/>
                  </a:lnTo>
                  <a:lnTo>
                    <a:pt x="3" y="425"/>
                  </a:lnTo>
                  <a:lnTo>
                    <a:pt x="1" y="435"/>
                  </a:lnTo>
                  <a:lnTo>
                    <a:pt x="0" y="445"/>
                  </a:lnTo>
                  <a:lnTo>
                    <a:pt x="0" y="457"/>
                  </a:lnTo>
                  <a:lnTo>
                    <a:pt x="0" y="468"/>
                  </a:lnTo>
                  <a:lnTo>
                    <a:pt x="2" y="482"/>
                  </a:lnTo>
                  <a:lnTo>
                    <a:pt x="5" y="497"/>
                  </a:lnTo>
                  <a:lnTo>
                    <a:pt x="9" y="512"/>
                  </a:lnTo>
                  <a:lnTo>
                    <a:pt x="14" y="527"/>
                  </a:lnTo>
                  <a:lnTo>
                    <a:pt x="26" y="562"/>
                  </a:lnTo>
                  <a:lnTo>
                    <a:pt x="41" y="599"/>
                  </a:lnTo>
                  <a:lnTo>
                    <a:pt x="59" y="639"/>
                  </a:lnTo>
                  <a:lnTo>
                    <a:pt x="80" y="681"/>
                  </a:lnTo>
                  <a:lnTo>
                    <a:pt x="105" y="725"/>
                  </a:lnTo>
                  <a:lnTo>
                    <a:pt x="132" y="771"/>
                  </a:lnTo>
                  <a:lnTo>
                    <a:pt x="160" y="819"/>
                  </a:lnTo>
                  <a:lnTo>
                    <a:pt x="191" y="868"/>
                  </a:lnTo>
                  <a:lnTo>
                    <a:pt x="223" y="917"/>
                  </a:lnTo>
                  <a:lnTo>
                    <a:pt x="258" y="967"/>
                  </a:lnTo>
                  <a:lnTo>
                    <a:pt x="293" y="1017"/>
                  </a:lnTo>
                  <a:lnTo>
                    <a:pt x="329" y="1068"/>
                  </a:lnTo>
                  <a:lnTo>
                    <a:pt x="329" y="64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25"/>
            <p:cNvSpPr/>
            <p:nvPr/>
          </p:nvSpPr>
          <p:spPr>
            <a:xfrm>
              <a:off x="8555400" y="4815360"/>
              <a:ext cx="82080" cy="1141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544" h="703">
                  <a:moveTo>
                    <a:pt x="544" y="703"/>
                  </a:moveTo>
                  <a:lnTo>
                    <a:pt x="468" y="658"/>
                  </a:lnTo>
                  <a:lnTo>
                    <a:pt x="395" y="614"/>
                  </a:lnTo>
                  <a:lnTo>
                    <a:pt x="321" y="576"/>
                  </a:lnTo>
                  <a:lnTo>
                    <a:pt x="251" y="540"/>
                  </a:lnTo>
                  <a:lnTo>
                    <a:pt x="183" y="507"/>
                  </a:lnTo>
                  <a:lnTo>
                    <a:pt x="119" y="478"/>
                  </a:lnTo>
                  <a:lnTo>
                    <a:pt x="57" y="451"/>
                  </a:lnTo>
                  <a:lnTo>
                    <a:pt x="0" y="426"/>
                  </a:lnTo>
                  <a:lnTo>
                    <a:pt x="0" y="0"/>
                  </a:lnTo>
                  <a:lnTo>
                    <a:pt x="57" y="24"/>
                  </a:lnTo>
                  <a:lnTo>
                    <a:pt x="119" y="51"/>
                  </a:lnTo>
                  <a:lnTo>
                    <a:pt x="183" y="82"/>
                  </a:lnTo>
                  <a:lnTo>
                    <a:pt x="251" y="114"/>
                  </a:lnTo>
                  <a:lnTo>
                    <a:pt x="321" y="151"/>
                  </a:lnTo>
                  <a:lnTo>
                    <a:pt x="395" y="190"/>
                  </a:lnTo>
                  <a:lnTo>
                    <a:pt x="468" y="232"/>
                  </a:lnTo>
                  <a:lnTo>
                    <a:pt x="544" y="277"/>
                  </a:lnTo>
                  <a:lnTo>
                    <a:pt x="544" y="7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26"/>
            <p:cNvSpPr/>
            <p:nvPr/>
          </p:nvSpPr>
          <p:spPr>
            <a:xfrm>
              <a:off x="8349840" y="4601880"/>
              <a:ext cx="41040" cy="684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27"/>
            <p:cNvSpPr/>
            <p:nvPr/>
          </p:nvSpPr>
          <p:spPr>
            <a:xfrm>
              <a:off x="6286320" y="4285080"/>
              <a:ext cx="32760" cy="975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20" h="599">
                  <a:moveTo>
                    <a:pt x="0" y="567"/>
                  </a:moveTo>
                  <a:lnTo>
                    <a:pt x="220" y="599"/>
                  </a:lnTo>
                  <a:lnTo>
                    <a:pt x="220" y="32"/>
                  </a:lnTo>
                  <a:lnTo>
                    <a:pt x="0" y="0"/>
                  </a:lnTo>
                  <a:lnTo>
                    <a:pt x="0" y="5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Rectangle 28"/>
            <p:cNvSpPr/>
            <p:nvPr/>
          </p:nvSpPr>
          <p:spPr>
            <a:xfrm>
              <a:off x="6337080" y="4410000"/>
              <a:ext cx="117360" cy="684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29"/>
            <p:cNvSpPr/>
            <p:nvPr/>
          </p:nvSpPr>
          <p:spPr>
            <a:xfrm>
              <a:off x="7923240" y="4561200"/>
              <a:ext cx="239040" cy="918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90" h="570">
                  <a:moveTo>
                    <a:pt x="1590" y="14"/>
                  </a:moveTo>
                  <a:lnTo>
                    <a:pt x="1546" y="10"/>
                  </a:lnTo>
                  <a:lnTo>
                    <a:pt x="1500" y="6"/>
                  </a:lnTo>
                  <a:lnTo>
                    <a:pt x="1451" y="4"/>
                  </a:lnTo>
                  <a:lnTo>
                    <a:pt x="1399" y="1"/>
                  </a:lnTo>
                  <a:lnTo>
                    <a:pt x="1346" y="0"/>
                  </a:lnTo>
                  <a:lnTo>
                    <a:pt x="1291" y="1"/>
                  </a:lnTo>
                  <a:lnTo>
                    <a:pt x="1235" y="1"/>
                  </a:lnTo>
                  <a:lnTo>
                    <a:pt x="1176" y="4"/>
                  </a:lnTo>
                  <a:lnTo>
                    <a:pt x="1118" y="6"/>
                  </a:lnTo>
                  <a:lnTo>
                    <a:pt x="1057" y="10"/>
                  </a:lnTo>
                  <a:lnTo>
                    <a:pt x="996" y="13"/>
                  </a:lnTo>
                  <a:lnTo>
                    <a:pt x="936" y="18"/>
                  </a:lnTo>
                  <a:lnTo>
                    <a:pt x="875" y="22"/>
                  </a:lnTo>
                  <a:lnTo>
                    <a:pt x="814" y="28"/>
                  </a:lnTo>
                  <a:lnTo>
                    <a:pt x="753" y="34"/>
                  </a:lnTo>
                  <a:lnTo>
                    <a:pt x="694" y="40"/>
                  </a:lnTo>
                  <a:lnTo>
                    <a:pt x="658" y="43"/>
                  </a:lnTo>
                  <a:lnTo>
                    <a:pt x="621" y="48"/>
                  </a:lnTo>
                  <a:lnTo>
                    <a:pt x="585" y="52"/>
                  </a:lnTo>
                  <a:lnTo>
                    <a:pt x="550" y="56"/>
                  </a:lnTo>
                  <a:lnTo>
                    <a:pt x="515" y="61"/>
                  </a:lnTo>
                  <a:lnTo>
                    <a:pt x="481" y="66"/>
                  </a:lnTo>
                  <a:lnTo>
                    <a:pt x="447" y="70"/>
                  </a:lnTo>
                  <a:lnTo>
                    <a:pt x="415" y="75"/>
                  </a:lnTo>
                  <a:lnTo>
                    <a:pt x="339" y="87"/>
                  </a:lnTo>
                  <a:lnTo>
                    <a:pt x="269" y="98"/>
                  </a:lnTo>
                  <a:lnTo>
                    <a:pt x="203" y="110"/>
                  </a:lnTo>
                  <a:lnTo>
                    <a:pt x="146" y="122"/>
                  </a:lnTo>
                  <a:lnTo>
                    <a:pt x="96" y="132"/>
                  </a:lnTo>
                  <a:lnTo>
                    <a:pt x="54" y="143"/>
                  </a:lnTo>
                  <a:lnTo>
                    <a:pt x="36" y="147"/>
                  </a:lnTo>
                  <a:lnTo>
                    <a:pt x="21" y="152"/>
                  </a:lnTo>
                  <a:lnTo>
                    <a:pt x="9" y="157"/>
                  </a:lnTo>
                  <a:lnTo>
                    <a:pt x="0" y="161"/>
                  </a:lnTo>
                  <a:lnTo>
                    <a:pt x="0" y="570"/>
                  </a:lnTo>
                  <a:lnTo>
                    <a:pt x="21" y="562"/>
                  </a:lnTo>
                  <a:lnTo>
                    <a:pt x="54" y="553"/>
                  </a:lnTo>
                  <a:lnTo>
                    <a:pt x="96" y="542"/>
                  </a:lnTo>
                  <a:lnTo>
                    <a:pt x="146" y="532"/>
                  </a:lnTo>
                  <a:lnTo>
                    <a:pt x="203" y="520"/>
                  </a:lnTo>
                  <a:lnTo>
                    <a:pt x="269" y="508"/>
                  </a:lnTo>
                  <a:lnTo>
                    <a:pt x="339" y="496"/>
                  </a:lnTo>
                  <a:lnTo>
                    <a:pt x="415" y="484"/>
                  </a:lnTo>
                  <a:lnTo>
                    <a:pt x="447" y="479"/>
                  </a:lnTo>
                  <a:lnTo>
                    <a:pt x="481" y="476"/>
                  </a:lnTo>
                  <a:lnTo>
                    <a:pt x="515" y="471"/>
                  </a:lnTo>
                  <a:lnTo>
                    <a:pt x="550" y="466"/>
                  </a:lnTo>
                  <a:lnTo>
                    <a:pt x="585" y="463"/>
                  </a:lnTo>
                  <a:lnTo>
                    <a:pt x="621" y="458"/>
                  </a:lnTo>
                  <a:lnTo>
                    <a:pt x="658" y="453"/>
                  </a:lnTo>
                  <a:lnTo>
                    <a:pt x="694" y="449"/>
                  </a:lnTo>
                  <a:lnTo>
                    <a:pt x="753" y="443"/>
                  </a:lnTo>
                  <a:lnTo>
                    <a:pt x="814" y="437"/>
                  </a:lnTo>
                  <a:lnTo>
                    <a:pt x="875" y="431"/>
                  </a:lnTo>
                  <a:lnTo>
                    <a:pt x="936" y="427"/>
                  </a:lnTo>
                  <a:lnTo>
                    <a:pt x="996" y="422"/>
                  </a:lnTo>
                  <a:lnTo>
                    <a:pt x="1057" y="418"/>
                  </a:lnTo>
                  <a:lnTo>
                    <a:pt x="1118" y="415"/>
                  </a:lnTo>
                  <a:lnTo>
                    <a:pt x="1176" y="413"/>
                  </a:lnTo>
                  <a:lnTo>
                    <a:pt x="1235" y="411"/>
                  </a:lnTo>
                  <a:lnTo>
                    <a:pt x="1291" y="410"/>
                  </a:lnTo>
                  <a:lnTo>
                    <a:pt x="1346" y="410"/>
                  </a:lnTo>
                  <a:lnTo>
                    <a:pt x="1399" y="410"/>
                  </a:lnTo>
                  <a:lnTo>
                    <a:pt x="1451" y="413"/>
                  </a:lnTo>
                  <a:lnTo>
                    <a:pt x="1500" y="415"/>
                  </a:lnTo>
                  <a:lnTo>
                    <a:pt x="1546" y="418"/>
                  </a:lnTo>
                  <a:lnTo>
                    <a:pt x="1590" y="423"/>
                  </a:lnTo>
                  <a:lnTo>
                    <a:pt x="1590" y="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30"/>
            <p:cNvSpPr/>
            <p:nvPr/>
          </p:nvSpPr>
          <p:spPr>
            <a:xfrm>
              <a:off x="8399880" y="3748320"/>
              <a:ext cx="48600" cy="10908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5" h="672">
                  <a:moveTo>
                    <a:pt x="34" y="672"/>
                  </a:moveTo>
                  <a:lnTo>
                    <a:pt x="33" y="665"/>
                  </a:lnTo>
                  <a:lnTo>
                    <a:pt x="32" y="658"/>
                  </a:lnTo>
                  <a:lnTo>
                    <a:pt x="29" y="652"/>
                  </a:lnTo>
                  <a:lnTo>
                    <a:pt x="25" y="645"/>
                  </a:lnTo>
                  <a:lnTo>
                    <a:pt x="19" y="637"/>
                  </a:lnTo>
                  <a:lnTo>
                    <a:pt x="14" y="628"/>
                  </a:lnTo>
                  <a:lnTo>
                    <a:pt x="8" y="618"/>
                  </a:lnTo>
                  <a:lnTo>
                    <a:pt x="5" y="607"/>
                  </a:lnTo>
                  <a:lnTo>
                    <a:pt x="1" y="596"/>
                  </a:lnTo>
                  <a:lnTo>
                    <a:pt x="0" y="584"/>
                  </a:lnTo>
                  <a:lnTo>
                    <a:pt x="0" y="572"/>
                  </a:lnTo>
                  <a:lnTo>
                    <a:pt x="3" y="559"/>
                  </a:lnTo>
                  <a:lnTo>
                    <a:pt x="6" y="548"/>
                  </a:lnTo>
                  <a:lnTo>
                    <a:pt x="13" y="536"/>
                  </a:lnTo>
                  <a:lnTo>
                    <a:pt x="17" y="530"/>
                  </a:lnTo>
                  <a:lnTo>
                    <a:pt x="22" y="524"/>
                  </a:lnTo>
                  <a:lnTo>
                    <a:pt x="28" y="520"/>
                  </a:lnTo>
                  <a:lnTo>
                    <a:pt x="34" y="514"/>
                  </a:lnTo>
                  <a:lnTo>
                    <a:pt x="41" y="509"/>
                  </a:lnTo>
                  <a:lnTo>
                    <a:pt x="49" y="505"/>
                  </a:lnTo>
                  <a:lnTo>
                    <a:pt x="59" y="500"/>
                  </a:lnTo>
                  <a:lnTo>
                    <a:pt x="68" y="495"/>
                  </a:lnTo>
                  <a:lnTo>
                    <a:pt x="91" y="488"/>
                  </a:lnTo>
                  <a:lnTo>
                    <a:pt x="117" y="481"/>
                  </a:lnTo>
                  <a:lnTo>
                    <a:pt x="167" y="471"/>
                  </a:lnTo>
                  <a:lnTo>
                    <a:pt x="211" y="460"/>
                  </a:lnTo>
                  <a:lnTo>
                    <a:pt x="246" y="451"/>
                  </a:lnTo>
                  <a:lnTo>
                    <a:pt x="274" y="441"/>
                  </a:lnTo>
                  <a:lnTo>
                    <a:pt x="296" y="433"/>
                  </a:lnTo>
                  <a:lnTo>
                    <a:pt x="311" y="425"/>
                  </a:lnTo>
                  <a:lnTo>
                    <a:pt x="317" y="420"/>
                  </a:lnTo>
                  <a:lnTo>
                    <a:pt x="322" y="417"/>
                  </a:lnTo>
                  <a:lnTo>
                    <a:pt x="324" y="412"/>
                  </a:lnTo>
                  <a:lnTo>
                    <a:pt x="325" y="409"/>
                  </a:lnTo>
                  <a:lnTo>
                    <a:pt x="325" y="0"/>
                  </a:lnTo>
                  <a:lnTo>
                    <a:pt x="324" y="3"/>
                  </a:lnTo>
                  <a:lnTo>
                    <a:pt x="322" y="8"/>
                  </a:lnTo>
                  <a:lnTo>
                    <a:pt x="317" y="12"/>
                  </a:lnTo>
                  <a:lnTo>
                    <a:pt x="311" y="15"/>
                  </a:lnTo>
                  <a:lnTo>
                    <a:pt x="296" y="24"/>
                  </a:lnTo>
                  <a:lnTo>
                    <a:pt x="274" y="33"/>
                  </a:lnTo>
                  <a:lnTo>
                    <a:pt x="246" y="42"/>
                  </a:lnTo>
                  <a:lnTo>
                    <a:pt x="211" y="51"/>
                  </a:lnTo>
                  <a:lnTo>
                    <a:pt x="167" y="62"/>
                  </a:lnTo>
                  <a:lnTo>
                    <a:pt x="117" y="72"/>
                  </a:lnTo>
                  <a:lnTo>
                    <a:pt x="91" y="78"/>
                  </a:lnTo>
                  <a:lnTo>
                    <a:pt x="68" y="86"/>
                  </a:lnTo>
                  <a:lnTo>
                    <a:pt x="59" y="91"/>
                  </a:lnTo>
                  <a:lnTo>
                    <a:pt x="49" y="96"/>
                  </a:lnTo>
                  <a:lnTo>
                    <a:pt x="41" y="100"/>
                  </a:lnTo>
                  <a:lnTo>
                    <a:pt x="34" y="105"/>
                  </a:lnTo>
                  <a:lnTo>
                    <a:pt x="28" y="111"/>
                  </a:lnTo>
                  <a:lnTo>
                    <a:pt x="22" y="116"/>
                  </a:lnTo>
                  <a:lnTo>
                    <a:pt x="17" y="121"/>
                  </a:lnTo>
                  <a:lnTo>
                    <a:pt x="13" y="127"/>
                  </a:lnTo>
                  <a:lnTo>
                    <a:pt x="6" y="139"/>
                  </a:lnTo>
                  <a:lnTo>
                    <a:pt x="3" y="151"/>
                  </a:lnTo>
                  <a:lnTo>
                    <a:pt x="0" y="162"/>
                  </a:lnTo>
                  <a:lnTo>
                    <a:pt x="0" y="174"/>
                  </a:lnTo>
                  <a:lnTo>
                    <a:pt x="1" y="186"/>
                  </a:lnTo>
                  <a:lnTo>
                    <a:pt x="5" y="196"/>
                  </a:lnTo>
                  <a:lnTo>
                    <a:pt x="8" y="207"/>
                  </a:lnTo>
                  <a:lnTo>
                    <a:pt x="14" y="217"/>
                  </a:lnTo>
                  <a:lnTo>
                    <a:pt x="19" y="225"/>
                  </a:lnTo>
                  <a:lnTo>
                    <a:pt x="25" y="234"/>
                  </a:lnTo>
                  <a:lnTo>
                    <a:pt x="29" y="241"/>
                  </a:lnTo>
                  <a:lnTo>
                    <a:pt x="32" y="248"/>
                  </a:lnTo>
                  <a:lnTo>
                    <a:pt x="33" y="255"/>
                  </a:lnTo>
                  <a:lnTo>
                    <a:pt x="34" y="262"/>
                  </a:lnTo>
                  <a:lnTo>
                    <a:pt x="34" y="6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Freeform 31"/>
            <p:cNvSpPr/>
            <p:nvPr/>
          </p:nvSpPr>
          <p:spPr>
            <a:xfrm>
              <a:off x="8353800" y="3882960"/>
              <a:ext cx="74520" cy="993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495" h="613">
                  <a:moveTo>
                    <a:pt x="0" y="613"/>
                  </a:moveTo>
                  <a:lnTo>
                    <a:pt x="8" y="612"/>
                  </a:lnTo>
                  <a:lnTo>
                    <a:pt x="29" y="607"/>
                  </a:lnTo>
                  <a:lnTo>
                    <a:pt x="43" y="604"/>
                  </a:lnTo>
                  <a:lnTo>
                    <a:pt x="58" y="599"/>
                  </a:lnTo>
                  <a:lnTo>
                    <a:pt x="74" y="593"/>
                  </a:lnTo>
                  <a:lnTo>
                    <a:pt x="91" y="587"/>
                  </a:lnTo>
                  <a:lnTo>
                    <a:pt x="107" y="580"/>
                  </a:lnTo>
                  <a:lnTo>
                    <a:pt x="122" y="572"/>
                  </a:lnTo>
                  <a:lnTo>
                    <a:pt x="136" y="563"/>
                  </a:lnTo>
                  <a:lnTo>
                    <a:pt x="147" y="554"/>
                  </a:lnTo>
                  <a:lnTo>
                    <a:pt x="151" y="548"/>
                  </a:lnTo>
                  <a:lnTo>
                    <a:pt x="156" y="543"/>
                  </a:lnTo>
                  <a:lnTo>
                    <a:pt x="158" y="537"/>
                  </a:lnTo>
                  <a:lnTo>
                    <a:pt x="161" y="530"/>
                  </a:lnTo>
                  <a:lnTo>
                    <a:pt x="162" y="524"/>
                  </a:lnTo>
                  <a:lnTo>
                    <a:pt x="162" y="517"/>
                  </a:lnTo>
                  <a:lnTo>
                    <a:pt x="161" y="510"/>
                  </a:lnTo>
                  <a:lnTo>
                    <a:pt x="158" y="503"/>
                  </a:lnTo>
                  <a:lnTo>
                    <a:pt x="208" y="489"/>
                  </a:lnTo>
                  <a:lnTo>
                    <a:pt x="252" y="475"/>
                  </a:lnTo>
                  <a:lnTo>
                    <a:pt x="293" y="462"/>
                  </a:lnTo>
                  <a:lnTo>
                    <a:pt x="332" y="450"/>
                  </a:lnTo>
                  <a:lnTo>
                    <a:pt x="371" y="438"/>
                  </a:lnTo>
                  <a:lnTo>
                    <a:pt x="410" y="426"/>
                  </a:lnTo>
                  <a:lnTo>
                    <a:pt x="450" y="417"/>
                  </a:lnTo>
                  <a:lnTo>
                    <a:pt x="495" y="409"/>
                  </a:lnTo>
                  <a:lnTo>
                    <a:pt x="495" y="0"/>
                  </a:lnTo>
                  <a:lnTo>
                    <a:pt x="450" y="8"/>
                  </a:lnTo>
                  <a:lnTo>
                    <a:pt x="410" y="17"/>
                  </a:lnTo>
                  <a:lnTo>
                    <a:pt x="371" y="29"/>
                  </a:lnTo>
                  <a:lnTo>
                    <a:pt x="332" y="41"/>
                  </a:lnTo>
                  <a:lnTo>
                    <a:pt x="293" y="54"/>
                  </a:lnTo>
                  <a:lnTo>
                    <a:pt x="252" y="67"/>
                  </a:lnTo>
                  <a:lnTo>
                    <a:pt x="208" y="81"/>
                  </a:lnTo>
                  <a:lnTo>
                    <a:pt x="158" y="95"/>
                  </a:lnTo>
                  <a:lnTo>
                    <a:pt x="161" y="102"/>
                  </a:lnTo>
                  <a:lnTo>
                    <a:pt x="162" y="109"/>
                  </a:lnTo>
                  <a:lnTo>
                    <a:pt x="162" y="116"/>
                  </a:lnTo>
                  <a:lnTo>
                    <a:pt x="161" y="121"/>
                  </a:lnTo>
                  <a:lnTo>
                    <a:pt x="158" y="127"/>
                  </a:lnTo>
                  <a:lnTo>
                    <a:pt x="156" y="133"/>
                  </a:lnTo>
                  <a:lnTo>
                    <a:pt x="151" y="139"/>
                  </a:lnTo>
                  <a:lnTo>
                    <a:pt x="147" y="145"/>
                  </a:lnTo>
                  <a:lnTo>
                    <a:pt x="136" y="154"/>
                  </a:lnTo>
                  <a:lnTo>
                    <a:pt x="122" y="163"/>
                  </a:lnTo>
                  <a:lnTo>
                    <a:pt x="107" y="172"/>
                  </a:lnTo>
                  <a:lnTo>
                    <a:pt x="91" y="179"/>
                  </a:lnTo>
                  <a:lnTo>
                    <a:pt x="74" y="184"/>
                  </a:lnTo>
                  <a:lnTo>
                    <a:pt x="58" y="190"/>
                  </a:lnTo>
                  <a:lnTo>
                    <a:pt x="43" y="194"/>
                  </a:lnTo>
                  <a:lnTo>
                    <a:pt x="29" y="197"/>
                  </a:lnTo>
                  <a:lnTo>
                    <a:pt x="8" y="202"/>
                  </a:lnTo>
                  <a:lnTo>
                    <a:pt x="0" y="204"/>
                  </a:lnTo>
                  <a:lnTo>
                    <a:pt x="0" y="6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Freeform 32"/>
            <p:cNvSpPr/>
            <p:nvPr/>
          </p:nvSpPr>
          <p:spPr>
            <a:xfrm>
              <a:off x="6604200" y="4527720"/>
              <a:ext cx="163440" cy="820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083" h="505">
                  <a:moveTo>
                    <a:pt x="1083" y="92"/>
                  </a:moveTo>
                  <a:lnTo>
                    <a:pt x="660" y="55"/>
                  </a:lnTo>
                  <a:lnTo>
                    <a:pt x="0" y="0"/>
                  </a:lnTo>
                  <a:lnTo>
                    <a:pt x="0" y="409"/>
                  </a:lnTo>
                  <a:lnTo>
                    <a:pt x="660" y="467"/>
                  </a:lnTo>
                  <a:lnTo>
                    <a:pt x="1083" y="505"/>
                  </a:lnTo>
                  <a:lnTo>
                    <a:pt x="1083" y="9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Freeform 33"/>
            <p:cNvSpPr/>
            <p:nvPr/>
          </p:nvSpPr>
          <p:spPr>
            <a:xfrm>
              <a:off x="6781680" y="4511160"/>
              <a:ext cx="82080" cy="723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548" h="438">
                  <a:moveTo>
                    <a:pt x="548" y="29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548" y="438"/>
                  </a:lnTo>
                  <a:lnTo>
                    <a:pt x="548" y="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Freeform 34"/>
            <p:cNvSpPr/>
            <p:nvPr/>
          </p:nvSpPr>
          <p:spPr>
            <a:xfrm>
              <a:off x="7000560" y="4724640"/>
              <a:ext cx="28440" cy="82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87" h="501">
                  <a:moveTo>
                    <a:pt x="187" y="0"/>
                  </a:moveTo>
                  <a:lnTo>
                    <a:pt x="0" y="92"/>
                  </a:lnTo>
                  <a:lnTo>
                    <a:pt x="0" y="501"/>
                  </a:lnTo>
                  <a:lnTo>
                    <a:pt x="187" y="409"/>
                  </a:lnTo>
                  <a:lnTo>
                    <a:pt x="18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Freeform 35"/>
            <p:cNvSpPr/>
            <p:nvPr/>
          </p:nvSpPr>
          <p:spPr>
            <a:xfrm>
              <a:off x="7061040" y="4662360"/>
              <a:ext cx="74520" cy="723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487" h="442">
                  <a:moveTo>
                    <a:pt x="487" y="415"/>
                  </a:moveTo>
                  <a:lnTo>
                    <a:pt x="457" y="411"/>
                  </a:lnTo>
                  <a:lnTo>
                    <a:pt x="426" y="410"/>
                  </a:lnTo>
                  <a:lnTo>
                    <a:pt x="398" y="409"/>
                  </a:lnTo>
                  <a:lnTo>
                    <a:pt x="372" y="409"/>
                  </a:lnTo>
                  <a:lnTo>
                    <a:pt x="320" y="411"/>
                  </a:lnTo>
                  <a:lnTo>
                    <a:pt x="262" y="415"/>
                  </a:lnTo>
                  <a:lnTo>
                    <a:pt x="200" y="420"/>
                  </a:lnTo>
                  <a:lnTo>
                    <a:pt x="139" y="426"/>
                  </a:lnTo>
                  <a:lnTo>
                    <a:pt x="85" y="431"/>
                  </a:lnTo>
                  <a:lnTo>
                    <a:pt x="41" y="436"/>
                  </a:lnTo>
                  <a:lnTo>
                    <a:pt x="11" y="440"/>
                  </a:lnTo>
                  <a:lnTo>
                    <a:pt x="0" y="442"/>
                  </a:lnTo>
                  <a:lnTo>
                    <a:pt x="0" y="32"/>
                  </a:lnTo>
                  <a:lnTo>
                    <a:pt x="11" y="31"/>
                  </a:lnTo>
                  <a:lnTo>
                    <a:pt x="41" y="27"/>
                  </a:lnTo>
                  <a:lnTo>
                    <a:pt x="85" y="23"/>
                  </a:lnTo>
                  <a:lnTo>
                    <a:pt x="139" y="17"/>
                  </a:lnTo>
                  <a:lnTo>
                    <a:pt x="200" y="11"/>
                  </a:lnTo>
                  <a:lnTo>
                    <a:pt x="262" y="6"/>
                  </a:lnTo>
                  <a:lnTo>
                    <a:pt x="320" y="2"/>
                  </a:lnTo>
                  <a:lnTo>
                    <a:pt x="372" y="0"/>
                  </a:lnTo>
                  <a:lnTo>
                    <a:pt x="398" y="0"/>
                  </a:lnTo>
                  <a:lnTo>
                    <a:pt x="426" y="2"/>
                  </a:lnTo>
                  <a:lnTo>
                    <a:pt x="457" y="3"/>
                  </a:lnTo>
                  <a:lnTo>
                    <a:pt x="487" y="6"/>
                  </a:lnTo>
                  <a:lnTo>
                    <a:pt x="487" y="41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36"/>
            <p:cNvSpPr/>
            <p:nvPr/>
          </p:nvSpPr>
          <p:spPr>
            <a:xfrm>
              <a:off x="7332840" y="4986000"/>
              <a:ext cx="69840" cy="666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Freeform 37"/>
            <p:cNvSpPr/>
            <p:nvPr/>
          </p:nvSpPr>
          <p:spPr>
            <a:xfrm>
              <a:off x="7696080" y="4648680"/>
              <a:ext cx="126360" cy="838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839" h="518">
                  <a:moveTo>
                    <a:pt x="839" y="518"/>
                  </a:moveTo>
                  <a:lnTo>
                    <a:pt x="780" y="500"/>
                  </a:lnTo>
                  <a:lnTo>
                    <a:pt x="719" y="484"/>
                  </a:lnTo>
                  <a:lnTo>
                    <a:pt x="657" y="470"/>
                  </a:lnTo>
                  <a:lnTo>
                    <a:pt x="594" y="457"/>
                  </a:lnTo>
                  <a:lnTo>
                    <a:pt x="531" y="446"/>
                  </a:lnTo>
                  <a:lnTo>
                    <a:pt x="468" y="436"/>
                  </a:lnTo>
                  <a:lnTo>
                    <a:pt x="406" y="429"/>
                  </a:lnTo>
                  <a:lnTo>
                    <a:pt x="347" y="422"/>
                  </a:lnTo>
                  <a:lnTo>
                    <a:pt x="290" y="416"/>
                  </a:lnTo>
                  <a:lnTo>
                    <a:pt x="235" y="412"/>
                  </a:lnTo>
                  <a:lnTo>
                    <a:pt x="183" y="410"/>
                  </a:lnTo>
                  <a:lnTo>
                    <a:pt x="135" y="409"/>
                  </a:lnTo>
                  <a:lnTo>
                    <a:pt x="93" y="409"/>
                  </a:lnTo>
                  <a:lnTo>
                    <a:pt x="56" y="410"/>
                  </a:lnTo>
                  <a:lnTo>
                    <a:pt x="24" y="412"/>
                  </a:lnTo>
                  <a:lnTo>
                    <a:pt x="0" y="416"/>
                  </a:lnTo>
                  <a:lnTo>
                    <a:pt x="0" y="7"/>
                  </a:lnTo>
                  <a:lnTo>
                    <a:pt x="24" y="4"/>
                  </a:lnTo>
                  <a:lnTo>
                    <a:pt x="56" y="1"/>
                  </a:lnTo>
                  <a:lnTo>
                    <a:pt x="93" y="0"/>
                  </a:lnTo>
                  <a:lnTo>
                    <a:pt x="135" y="0"/>
                  </a:lnTo>
                  <a:lnTo>
                    <a:pt x="183" y="1"/>
                  </a:lnTo>
                  <a:lnTo>
                    <a:pt x="235" y="4"/>
                  </a:lnTo>
                  <a:lnTo>
                    <a:pt x="290" y="7"/>
                  </a:lnTo>
                  <a:lnTo>
                    <a:pt x="347" y="13"/>
                  </a:lnTo>
                  <a:lnTo>
                    <a:pt x="406" y="19"/>
                  </a:lnTo>
                  <a:lnTo>
                    <a:pt x="468" y="27"/>
                  </a:lnTo>
                  <a:lnTo>
                    <a:pt x="531" y="37"/>
                  </a:lnTo>
                  <a:lnTo>
                    <a:pt x="594" y="48"/>
                  </a:lnTo>
                  <a:lnTo>
                    <a:pt x="657" y="61"/>
                  </a:lnTo>
                  <a:lnTo>
                    <a:pt x="719" y="75"/>
                  </a:lnTo>
                  <a:lnTo>
                    <a:pt x="780" y="91"/>
                  </a:lnTo>
                  <a:lnTo>
                    <a:pt x="839" y="109"/>
                  </a:lnTo>
                  <a:lnTo>
                    <a:pt x="839" y="5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Freeform 38"/>
            <p:cNvSpPr/>
            <p:nvPr/>
          </p:nvSpPr>
          <p:spPr>
            <a:xfrm>
              <a:off x="7910640" y="4665600"/>
              <a:ext cx="47160" cy="853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08" h="519">
                  <a:moveTo>
                    <a:pt x="308" y="519"/>
                  </a:moveTo>
                  <a:lnTo>
                    <a:pt x="287" y="504"/>
                  </a:lnTo>
                  <a:lnTo>
                    <a:pt x="266" y="489"/>
                  </a:lnTo>
                  <a:lnTo>
                    <a:pt x="246" y="476"/>
                  </a:lnTo>
                  <a:lnTo>
                    <a:pt x="225" y="464"/>
                  </a:lnTo>
                  <a:lnTo>
                    <a:pt x="205" y="454"/>
                  </a:lnTo>
                  <a:lnTo>
                    <a:pt x="185" y="444"/>
                  </a:lnTo>
                  <a:lnTo>
                    <a:pt x="165" y="436"/>
                  </a:lnTo>
                  <a:lnTo>
                    <a:pt x="147" y="429"/>
                  </a:lnTo>
                  <a:lnTo>
                    <a:pt x="127" y="423"/>
                  </a:lnTo>
                  <a:lnTo>
                    <a:pt x="108" y="419"/>
                  </a:lnTo>
                  <a:lnTo>
                    <a:pt x="90" y="415"/>
                  </a:lnTo>
                  <a:lnTo>
                    <a:pt x="71" y="413"/>
                  </a:lnTo>
                  <a:lnTo>
                    <a:pt x="53" y="410"/>
                  </a:lnTo>
                  <a:lnTo>
                    <a:pt x="35" y="409"/>
                  </a:lnTo>
                  <a:lnTo>
                    <a:pt x="17" y="409"/>
                  </a:lnTo>
                  <a:lnTo>
                    <a:pt x="0" y="410"/>
                  </a:lnTo>
                  <a:lnTo>
                    <a:pt x="0" y="2"/>
                  </a:lnTo>
                  <a:lnTo>
                    <a:pt x="17" y="0"/>
                  </a:lnTo>
                  <a:lnTo>
                    <a:pt x="35" y="0"/>
                  </a:lnTo>
                  <a:lnTo>
                    <a:pt x="53" y="2"/>
                  </a:lnTo>
                  <a:lnTo>
                    <a:pt x="71" y="3"/>
                  </a:lnTo>
                  <a:lnTo>
                    <a:pt x="90" y="6"/>
                  </a:lnTo>
                  <a:lnTo>
                    <a:pt x="108" y="10"/>
                  </a:lnTo>
                  <a:lnTo>
                    <a:pt x="127" y="14"/>
                  </a:lnTo>
                  <a:lnTo>
                    <a:pt x="147" y="20"/>
                  </a:lnTo>
                  <a:lnTo>
                    <a:pt x="165" y="27"/>
                  </a:lnTo>
                  <a:lnTo>
                    <a:pt x="185" y="35"/>
                  </a:lnTo>
                  <a:lnTo>
                    <a:pt x="205" y="45"/>
                  </a:lnTo>
                  <a:lnTo>
                    <a:pt x="225" y="55"/>
                  </a:lnTo>
                  <a:lnTo>
                    <a:pt x="246" y="67"/>
                  </a:lnTo>
                  <a:lnTo>
                    <a:pt x="266" y="80"/>
                  </a:lnTo>
                  <a:lnTo>
                    <a:pt x="287" y="95"/>
                  </a:lnTo>
                  <a:lnTo>
                    <a:pt x="308" y="110"/>
                  </a:lnTo>
                  <a:lnTo>
                    <a:pt x="308" y="5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39"/>
            <p:cNvSpPr/>
            <p:nvPr/>
          </p:nvSpPr>
          <p:spPr>
            <a:xfrm>
              <a:off x="8201160" y="4588200"/>
              <a:ext cx="41040" cy="806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79" h="489">
                  <a:moveTo>
                    <a:pt x="279" y="0"/>
                  </a:moveTo>
                  <a:lnTo>
                    <a:pt x="268" y="7"/>
                  </a:lnTo>
                  <a:lnTo>
                    <a:pt x="236" y="22"/>
                  </a:lnTo>
                  <a:lnTo>
                    <a:pt x="215" y="32"/>
                  </a:lnTo>
                  <a:lnTo>
                    <a:pt x="191" y="43"/>
                  </a:lnTo>
                  <a:lnTo>
                    <a:pt x="166" y="53"/>
                  </a:lnTo>
                  <a:lnTo>
                    <a:pt x="140" y="63"/>
                  </a:lnTo>
                  <a:lnTo>
                    <a:pt x="114" y="70"/>
                  </a:lnTo>
                  <a:lnTo>
                    <a:pt x="89" y="76"/>
                  </a:lnTo>
                  <a:lnTo>
                    <a:pt x="76" y="78"/>
                  </a:lnTo>
                  <a:lnTo>
                    <a:pt x="65" y="79"/>
                  </a:lnTo>
                  <a:lnTo>
                    <a:pt x="54" y="79"/>
                  </a:lnTo>
                  <a:lnTo>
                    <a:pt x="44" y="79"/>
                  </a:lnTo>
                  <a:lnTo>
                    <a:pt x="34" y="78"/>
                  </a:lnTo>
                  <a:lnTo>
                    <a:pt x="26" y="74"/>
                  </a:lnTo>
                  <a:lnTo>
                    <a:pt x="19" y="71"/>
                  </a:lnTo>
                  <a:lnTo>
                    <a:pt x="12" y="66"/>
                  </a:lnTo>
                  <a:lnTo>
                    <a:pt x="7" y="59"/>
                  </a:lnTo>
                  <a:lnTo>
                    <a:pt x="4" y="52"/>
                  </a:lnTo>
                  <a:lnTo>
                    <a:pt x="1" y="43"/>
                  </a:lnTo>
                  <a:lnTo>
                    <a:pt x="0" y="31"/>
                  </a:lnTo>
                  <a:lnTo>
                    <a:pt x="0" y="441"/>
                  </a:lnTo>
                  <a:lnTo>
                    <a:pt x="1" y="452"/>
                  </a:lnTo>
                  <a:lnTo>
                    <a:pt x="4" y="461"/>
                  </a:lnTo>
                  <a:lnTo>
                    <a:pt x="7" y="468"/>
                  </a:lnTo>
                  <a:lnTo>
                    <a:pt x="12" y="475"/>
                  </a:lnTo>
                  <a:lnTo>
                    <a:pt x="19" y="480"/>
                  </a:lnTo>
                  <a:lnTo>
                    <a:pt x="26" y="483"/>
                  </a:lnTo>
                  <a:lnTo>
                    <a:pt x="34" y="487"/>
                  </a:lnTo>
                  <a:lnTo>
                    <a:pt x="44" y="488"/>
                  </a:lnTo>
                  <a:lnTo>
                    <a:pt x="54" y="489"/>
                  </a:lnTo>
                  <a:lnTo>
                    <a:pt x="65" y="488"/>
                  </a:lnTo>
                  <a:lnTo>
                    <a:pt x="76" y="487"/>
                  </a:lnTo>
                  <a:lnTo>
                    <a:pt x="89" y="486"/>
                  </a:lnTo>
                  <a:lnTo>
                    <a:pt x="114" y="480"/>
                  </a:lnTo>
                  <a:lnTo>
                    <a:pt x="140" y="472"/>
                  </a:lnTo>
                  <a:lnTo>
                    <a:pt x="166" y="462"/>
                  </a:lnTo>
                  <a:lnTo>
                    <a:pt x="191" y="452"/>
                  </a:lnTo>
                  <a:lnTo>
                    <a:pt x="215" y="441"/>
                  </a:lnTo>
                  <a:lnTo>
                    <a:pt x="236" y="432"/>
                  </a:lnTo>
                  <a:lnTo>
                    <a:pt x="268" y="415"/>
                  </a:lnTo>
                  <a:lnTo>
                    <a:pt x="279" y="408"/>
                  </a:lnTo>
                  <a:lnTo>
                    <a:pt x="27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40"/>
            <p:cNvSpPr/>
            <p:nvPr/>
          </p:nvSpPr>
          <p:spPr>
            <a:xfrm>
              <a:off x="8283600" y="4557960"/>
              <a:ext cx="23760" cy="871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56" h="534">
                  <a:moveTo>
                    <a:pt x="156" y="122"/>
                  </a:moveTo>
                  <a:lnTo>
                    <a:pt x="0" y="0"/>
                  </a:lnTo>
                  <a:lnTo>
                    <a:pt x="0" y="410"/>
                  </a:lnTo>
                  <a:lnTo>
                    <a:pt x="156" y="534"/>
                  </a:lnTo>
                  <a:lnTo>
                    <a:pt x="15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Freeform 41"/>
            <p:cNvSpPr/>
            <p:nvPr/>
          </p:nvSpPr>
          <p:spPr>
            <a:xfrm>
              <a:off x="8704080" y="4870800"/>
              <a:ext cx="42840" cy="102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279" h="625">
                  <a:moveTo>
                    <a:pt x="279" y="0"/>
                  </a:moveTo>
                  <a:lnTo>
                    <a:pt x="0" y="216"/>
                  </a:lnTo>
                  <a:lnTo>
                    <a:pt x="0" y="625"/>
                  </a:lnTo>
                  <a:lnTo>
                    <a:pt x="279" y="409"/>
                  </a:lnTo>
                  <a:lnTo>
                    <a:pt x="27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42"/>
            <p:cNvSpPr/>
            <p:nvPr/>
          </p:nvSpPr>
          <p:spPr>
            <a:xfrm>
              <a:off x="8410320" y="4253040"/>
              <a:ext cx="29880" cy="70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00" h="440">
                  <a:moveTo>
                    <a:pt x="200" y="0"/>
                  </a:moveTo>
                  <a:lnTo>
                    <a:pt x="0" y="31"/>
                  </a:lnTo>
                  <a:lnTo>
                    <a:pt x="0" y="440"/>
                  </a:lnTo>
                  <a:lnTo>
                    <a:pt x="200" y="409"/>
                  </a:lnTo>
                  <a:lnTo>
                    <a:pt x="2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43"/>
            <p:cNvSpPr/>
            <p:nvPr/>
          </p:nvSpPr>
          <p:spPr>
            <a:xfrm>
              <a:off x="8241840" y="4557960"/>
              <a:ext cx="14040" cy="96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93" h="593">
                  <a:moveTo>
                    <a:pt x="93" y="0"/>
                  </a:moveTo>
                  <a:lnTo>
                    <a:pt x="0" y="185"/>
                  </a:lnTo>
                  <a:lnTo>
                    <a:pt x="0" y="593"/>
                  </a:lnTo>
                  <a:lnTo>
                    <a:pt x="93" y="410"/>
                  </a:lnTo>
                  <a:lnTo>
                    <a:pt x="9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44"/>
            <p:cNvSpPr/>
            <p:nvPr/>
          </p:nvSpPr>
          <p:spPr>
            <a:xfrm>
              <a:off x="6862680" y="4518000"/>
              <a:ext cx="74520" cy="1792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504" h="1091">
                  <a:moveTo>
                    <a:pt x="504" y="682"/>
                  </a:moveTo>
                  <a:lnTo>
                    <a:pt x="0" y="0"/>
                  </a:lnTo>
                  <a:lnTo>
                    <a:pt x="0" y="411"/>
                  </a:lnTo>
                  <a:lnTo>
                    <a:pt x="504" y="1091"/>
                  </a:lnTo>
                  <a:lnTo>
                    <a:pt x="504" y="68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45"/>
            <p:cNvSpPr/>
            <p:nvPr/>
          </p:nvSpPr>
          <p:spPr>
            <a:xfrm>
              <a:off x="8435880" y="4182840"/>
              <a:ext cx="51840" cy="1378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342" h="844">
                  <a:moveTo>
                    <a:pt x="342" y="0"/>
                  </a:moveTo>
                  <a:lnTo>
                    <a:pt x="327" y="1"/>
                  </a:lnTo>
                  <a:lnTo>
                    <a:pt x="313" y="5"/>
                  </a:lnTo>
                  <a:lnTo>
                    <a:pt x="300" y="8"/>
                  </a:lnTo>
                  <a:lnTo>
                    <a:pt x="286" y="12"/>
                  </a:lnTo>
                  <a:lnTo>
                    <a:pt x="261" y="21"/>
                  </a:lnTo>
                  <a:lnTo>
                    <a:pt x="237" y="32"/>
                  </a:lnTo>
                  <a:lnTo>
                    <a:pt x="214" y="45"/>
                  </a:lnTo>
                  <a:lnTo>
                    <a:pt x="192" y="60"/>
                  </a:lnTo>
                  <a:lnTo>
                    <a:pt x="172" y="74"/>
                  </a:lnTo>
                  <a:lnTo>
                    <a:pt x="152" y="90"/>
                  </a:lnTo>
                  <a:lnTo>
                    <a:pt x="116" y="122"/>
                  </a:lnTo>
                  <a:lnTo>
                    <a:pt x="84" y="153"/>
                  </a:lnTo>
                  <a:lnTo>
                    <a:pt x="70" y="167"/>
                  </a:lnTo>
                  <a:lnTo>
                    <a:pt x="56" y="180"/>
                  </a:lnTo>
                  <a:lnTo>
                    <a:pt x="43" y="192"/>
                  </a:lnTo>
                  <a:lnTo>
                    <a:pt x="30" y="201"/>
                  </a:lnTo>
                  <a:lnTo>
                    <a:pt x="26" y="206"/>
                  </a:lnTo>
                  <a:lnTo>
                    <a:pt x="21" y="212"/>
                  </a:lnTo>
                  <a:lnTo>
                    <a:pt x="16" y="218"/>
                  </a:lnTo>
                  <a:lnTo>
                    <a:pt x="13" y="225"/>
                  </a:lnTo>
                  <a:lnTo>
                    <a:pt x="7" y="240"/>
                  </a:lnTo>
                  <a:lnTo>
                    <a:pt x="4" y="257"/>
                  </a:lnTo>
                  <a:lnTo>
                    <a:pt x="1" y="276"/>
                  </a:lnTo>
                  <a:lnTo>
                    <a:pt x="0" y="295"/>
                  </a:lnTo>
                  <a:lnTo>
                    <a:pt x="0" y="315"/>
                  </a:lnTo>
                  <a:lnTo>
                    <a:pt x="1" y="334"/>
                  </a:lnTo>
                  <a:lnTo>
                    <a:pt x="5" y="372"/>
                  </a:lnTo>
                  <a:lnTo>
                    <a:pt x="11" y="402"/>
                  </a:lnTo>
                  <a:lnTo>
                    <a:pt x="15" y="424"/>
                  </a:lnTo>
                  <a:lnTo>
                    <a:pt x="16" y="432"/>
                  </a:lnTo>
                  <a:lnTo>
                    <a:pt x="16" y="844"/>
                  </a:lnTo>
                  <a:lnTo>
                    <a:pt x="15" y="835"/>
                  </a:lnTo>
                  <a:lnTo>
                    <a:pt x="11" y="814"/>
                  </a:lnTo>
                  <a:lnTo>
                    <a:pt x="5" y="782"/>
                  </a:lnTo>
                  <a:lnTo>
                    <a:pt x="1" y="744"/>
                  </a:lnTo>
                  <a:lnTo>
                    <a:pt x="0" y="725"/>
                  </a:lnTo>
                  <a:lnTo>
                    <a:pt x="0" y="705"/>
                  </a:lnTo>
                  <a:lnTo>
                    <a:pt x="1" y="685"/>
                  </a:lnTo>
                  <a:lnTo>
                    <a:pt x="4" y="666"/>
                  </a:lnTo>
                  <a:lnTo>
                    <a:pt x="7" y="650"/>
                  </a:lnTo>
                  <a:lnTo>
                    <a:pt x="13" y="633"/>
                  </a:lnTo>
                  <a:lnTo>
                    <a:pt x="16" y="628"/>
                  </a:lnTo>
                  <a:lnTo>
                    <a:pt x="21" y="621"/>
                  </a:lnTo>
                  <a:lnTo>
                    <a:pt x="26" y="616"/>
                  </a:lnTo>
                  <a:lnTo>
                    <a:pt x="30" y="611"/>
                  </a:lnTo>
                  <a:lnTo>
                    <a:pt x="43" y="601"/>
                  </a:lnTo>
                  <a:lnTo>
                    <a:pt x="56" y="589"/>
                  </a:lnTo>
                  <a:lnTo>
                    <a:pt x="70" y="576"/>
                  </a:lnTo>
                  <a:lnTo>
                    <a:pt x="84" y="562"/>
                  </a:lnTo>
                  <a:lnTo>
                    <a:pt x="116" y="531"/>
                  </a:lnTo>
                  <a:lnTo>
                    <a:pt x="152" y="499"/>
                  </a:lnTo>
                  <a:lnTo>
                    <a:pt x="172" y="484"/>
                  </a:lnTo>
                  <a:lnTo>
                    <a:pt x="192" y="469"/>
                  </a:lnTo>
                  <a:lnTo>
                    <a:pt x="214" y="455"/>
                  </a:lnTo>
                  <a:lnTo>
                    <a:pt x="237" y="442"/>
                  </a:lnTo>
                  <a:lnTo>
                    <a:pt x="261" y="430"/>
                  </a:lnTo>
                  <a:lnTo>
                    <a:pt x="286" y="421"/>
                  </a:lnTo>
                  <a:lnTo>
                    <a:pt x="300" y="417"/>
                  </a:lnTo>
                  <a:lnTo>
                    <a:pt x="313" y="414"/>
                  </a:lnTo>
                  <a:lnTo>
                    <a:pt x="327" y="411"/>
                  </a:lnTo>
                  <a:lnTo>
                    <a:pt x="342" y="409"/>
                  </a:lnTo>
                  <a:lnTo>
                    <a:pt x="34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46"/>
            <p:cNvSpPr/>
            <p:nvPr/>
          </p:nvSpPr>
          <p:spPr>
            <a:xfrm>
              <a:off x="8381520" y="3792240"/>
              <a:ext cx="20160" cy="110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42" h="678">
                  <a:moveTo>
                    <a:pt x="142" y="409"/>
                  </a:moveTo>
                  <a:lnTo>
                    <a:pt x="140" y="416"/>
                  </a:lnTo>
                  <a:lnTo>
                    <a:pt x="139" y="422"/>
                  </a:lnTo>
                  <a:lnTo>
                    <a:pt x="135" y="428"/>
                  </a:lnTo>
                  <a:lnTo>
                    <a:pt x="132" y="434"/>
                  </a:lnTo>
                  <a:lnTo>
                    <a:pt x="121" y="445"/>
                  </a:lnTo>
                  <a:lnTo>
                    <a:pt x="109" y="458"/>
                  </a:lnTo>
                  <a:lnTo>
                    <a:pt x="83" y="483"/>
                  </a:lnTo>
                  <a:lnTo>
                    <a:pt x="52" y="508"/>
                  </a:lnTo>
                  <a:lnTo>
                    <a:pt x="38" y="521"/>
                  </a:lnTo>
                  <a:lnTo>
                    <a:pt x="27" y="534"/>
                  </a:lnTo>
                  <a:lnTo>
                    <a:pt x="15" y="547"/>
                  </a:lnTo>
                  <a:lnTo>
                    <a:pt x="7" y="560"/>
                  </a:lnTo>
                  <a:lnTo>
                    <a:pt x="3" y="566"/>
                  </a:lnTo>
                  <a:lnTo>
                    <a:pt x="1" y="573"/>
                  </a:lnTo>
                  <a:lnTo>
                    <a:pt x="0" y="578"/>
                  </a:lnTo>
                  <a:lnTo>
                    <a:pt x="0" y="585"/>
                  </a:lnTo>
                  <a:lnTo>
                    <a:pt x="0" y="591"/>
                  </a:lnTo>
                  <a:lnTo>
                    <a:pt x="2" y="598"/>
                  </a:lnTo>
                  <a:lnTo>
                    <a:pt x="4" y="604"/>
                  </a:lnTo>
                  <a:lnTo>
                    <a:pt x="9" y="611"/>
                  </a:lnTo>
                  <a:lnTo>
                    <a:pt x="36" y="617"/>
                  </a:lnTo>
                  <a:lnTo>
                    <a:pt x="59" y="623"/>
                  </a:lnTo>
                  <a:lnTo>
                    <a:pt x="78" y="630"/>
                  </a:lnTo>
                  <a:lnTo>
                    <a:pt x="93" y="638"/>
                  </a:lnTo>
                  <a:lnTo>
                    <a:pt x="100" y="642"/>
                  </a:lnTo>
                  <a:lnTo>
                    <a:pt x="105" y="646"/>
                  </a:lnTo>
                  <a:lnTo>
                    <a:pt x="109" y="651"/>
                  </a:lnTo>
                  <a:lnTo>
                    <a:pt x="114" y="656"/>
                  </a:lnTo>
                  <a:lnTo>
                    <a:pt x="116" y="660"/>
                  </a:lnTo>
                  <a:lnTo>
                    <a:pt x="119" y="666"/>
                  </a:lnTo>
                  <a:lnTo>
                    <a:pt x="120" y="672"/>
                  </a:lnTo>
                  <a:lnTo>
                    <a:pt x="121" y="678"/>
                  </a:lnTo>
                  <a:lnTo>
                    <a:pt x="121" y="265"/>
                  </a:lnTo>
                  <a:lnTo>
                    <a:pt x="120" y="261"/>
                  </a:lnTo>
                  <a:lnTo>
                    <a:pt x="119" y="255"/>
                  </a:lnTo>
                  <a:lnTo>
                    <a:pt x="116" y="250"/>
                  </a:lnTo>
                  <a:lnTo>
                    <a:pt x="114" y="246"/>
                  </a:lnTo>
                  <a:lnTo>
                    <a:pt x="109" y="241"/>
                  </a:lnTo>
                  <a:lnTo>
                    <a:pt x="105" y="236"/>
                  </a:lnTo>
                  <a:lnTo>
                    <a:pt x="100" y="233"/>
                  </a:lnTo>
                  <a:lnTo>
                    <a:pt x="93" y="228"/>
                  </a:lnTo>
                  <a:lnTo>
                    <a:pt x="78" y="221"/>
                  </a:lnTo>
                  <a:lnTo>
                    <a:pt x="59" y="214"/>
                  </a:lnTo>
                  <a:lnTo>
                    <a:pt x="36" y="208"/>
                  </a:lnTo>
                  <a:lnTo>
                    <a:pt x="9" y="202"/>
                  </a:lnTo>
                  <a:lnTo>
                    <a:pt x="4" y="195"/>
                  </a:lnTo>
                  <a:lnTo>
                    <a:pt x="2" y="189"/>
                  </a:lnTo>
                  <a:lnTo>
                    <a:pt x="0" y="182"/>
                  </a:lnTo>
                  <a:lnTo>
                    <a:pt x="0" y="177"/>
                  </a:lnTo>
                  <a:lnTo>
                    <a:pt x="0" y="170"/>
                  </a:lnTo>
                  <a:lnTo>
                    <a:pt x="1" y="164"/>
                  </a:lnTo>
                  <a:lnTo>
                    <a:pt x="3" y="157"/>
                  </a:lnTo>
                  <a:lnTo>
                    <a:pt x="7" y="151"/>
                  </a:lnTo>
                  <a:lnTo>
                    <a:pt x="15" y="138"/>
                  </a:lnTo>
                  <a:lnTo>
                    <a:pt x="27" y="125"/>
                  </a:lnTo>
                  <a:lnTo>
                    <a:pt x="38" y="112"/>
                  </a:lnTo>
                  <a:lnTo>
                    <a:pt x="52" y="100"/>
                  </a:lnTo>
                  <a:lnTo>
                    <a:pt x="83" y="74"/>
                  </a:lnTo>
                  <a:lnTo>
                    <a:pt x="109" y="49"/>
                  </a:lnTo>
                  <a:lnTo>
                    <a:pt x="121" y="36"/>
                  </a:lnTo>
                  <a:lnTo>
                    <a:pt x="132" y="25"/>
                  </a:lnTo>
                  <a:lnTo>
                    <a:pt x="135" y="19"/>
                  </a:lnTo>
                  <a:lnTo>
                    <a:pt x="139" y="13"/>
                  </a:lnTo>
                  <a:lnTo>
                    <a:pt x="140" y="6"/>
                  </a:lnTo>
                  <a:lnTo>
                    <a:pt x="142" y="0"/>
                  </a:lnTo>
                  <a:lnTo>
                    <a:pt x="142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47"/>
            <p:cNvSpPr/>
            <p:nvPr/>
          </p:nvSpPr>
          <p:spPr>
            <a:xfrm>
              <a:off x="6438960" y="4438440"/>
              <a:ext cx="163440" cy="1566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1081" h="965">
                  <a:moveTo>
                    <a:pt x="1081" y="556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1081" y="965"/>
                  </a:lnTo>
                  <a:lnTo>
                    <a:pt x="1081" y="55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48"/>
            <p:cNvSpPr/>
            <p:nvPr/>
          </p:nvSpPr>
          <p:spPr>
            <a:xfrm>
              <a:off x="7232400" y="4832280"/>
              <a:ext cx="23760" cy="142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57" h="872">
                  <a:moveTo>
                    <a:pt x="157" y="463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157" y="872"/>
                  </a:lnTo>
                  <a:lnTo>
                    <a:pt x="157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49"/>
            <p:cNvSpPr/>
            <p:nvPr/>
          </p:nvSpPr>
          <p:spPr>
            <a:xfrm>
              <a:off x="7425000" y="4767120"/>
              <a:ext cx="50400" cy="1188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331" h="732">
                  <a:moveTo>
                    <a:pt x="331" y="409"/>
                  </a:moveTo>
                  <a:lnTo>
                    <a:pt x="316" y="419"/>
                  </a:lnTo>
                  <a:lnTo>
                    <a:pt x="299" y="431"/>
                  </a:lnTo>
                  <a:lnTo>
                    <a:pt x="282" y="444"/>
                  </a:lnTo>
                  <a:lnTo>
                    <a:pt x="263" y="459"/>
                  </a:lnTo>
                  <a:lnTo>
                    <a:pt x="222" y="494"/>
                  </a:lnTo>
                  <a:lnTo>
                    <a:pt x="180" y="534"/>
                  </a:lnTo>
                  <a:lnTo>
                    <a:pt x="135" y="578"/>
                  </a:lnTo>
                  <a:lnTo>
                    <a:pt x="89" y="627"/>
                  </a:lnTo>
                  <a:lnTo>
                    <a:pt x="43" y="679"/>
                  </a:lnTo>
                  <a:lnTo>
                    <a:pt x="0" y="732"/>
                  </a:lnTo>
                  <a:lnTo>
                    <a:pt x="0" y="322"/>
                  </a:lnTo>
                  <a:lnTo>
                    <a:pt x="21" y="296"/>
                  </a:lnTo>
                  <a:lnTo>
                    <a:pt x="43" y="269"/>
                  </a:lnTo>
                  <a:lnTo>
                    <a:pt x="67" y="243"/>
                  </a:lnTo>
                  <a:lnTo>
                    <a:pt x="89" y="217"/>
                  </a:lnTo>
                  <a:lnTo>
                    <a:pt x="135" y="168"/>
                  </a:lnTo>
                  <a:lnTo>
                    <a:pt x="180" y="124"/>
                  </a:lnTo>
                  <a:lnTo>
                    <a:pt x="222" y="84"/>
                  </a:lnTo>
                  <a:lnTo>
                    <a:pt x="263" y="49"/>
                  </a:lnTo>
                  <a:lnTo>
                    <a:pt x="282" y="35"/>
                  </a:lnTo>
                  <a:lnTo>
                    <a:pt x="299" y="21"/>
                  </a:lnTo>
                  <a:lnTo>
                    <a:pt x="316" y="9"/>
                  </a:lnTo>
                  <a:lnTo>
                    <a:pt x="331" y="0"/>
                  </a:lnTo>
                  <a:lnTo>
                    <a:pt x="331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50"/>
            <p:cNvSpPr/>
            <p:nvPr/>
          </p:nvSpPr>
          <p:spPr>
            <a:xfrm>
              <a:off x="7551720" y="4695840"/>
              <a:ext cx="32760" cy="975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14" h="601">
                  <a:moveTo>
                    <a:pt x="201" y="412"/>
                  </a:moveTo>
                  <a:lnTo>
                    <a:pt x="206" y="415"/>
                  </a:lnTo>
                  <a:lnTo>
                    <a:pt x="209" y="420"/>
                  </a:lnTo>
                  <a:lnTo>
                    <a:pt x="212" y="425"/>
                  </a:lnTo>
                  <a:lnTo>
                    <a:pt x="213" y="429"/>
                  </a:lnTo>
                  <a:lnTo>
                    <a:pt x="214" y="434"/>
                  </a:lnTo>
                  <a:lnTo>
                    <a:pt x="213" y="439"/>
                  </a:lnTo>
                  <a:lnTo>
                    <a:pt x="213" y="443"/>
                  </a:lnTo>
                  <a:lnTo>
                    <a:pt x="211" y="449"/>
                  </a:lnTo>
                  <a:lnTo>
                    <a:pt x="206" y="460"/>
                  </a:lnTo>
                  <a:lnTo>
                    <a:pt x="198" y="470"/>
                  </a:lnTo>
                  <a:lnTo>
                    <a:pt x="186" y="482"/>
                  </a:lnTo>
                  <a:lnTo>
                    <a:pt x="173" y="495"/>
                  </a:lnTo>
                  <a:lnTo>
                    <a:pt x="158" y="507"/>
                  </a:lnTo>
                  <a:lnTo>
                    <a:pt x="140" y="519"/>
                  </a:lnTo>
                  <a:lnTo>
                    <a:pt x="121" y="533"/>
                  </a:lnTo>
                  <a:lnTo>
                    <a:pt x="100" y="546"/>
                  </a:lnTo>
                  <a:lnTo>
                    <a:pt x="52" y="573"/>
                  </a:lnTo>
                  <a:lnTo>
                    <a:pt x="0" y="601"/>
                  </a:lnTo>
                  <a:lnTo>
                    <a:pt x="0" y="192"/>
                  </a:lnTo>
                  <a:lnTo>
                    <a:pt x="52" y="164"/>
                  </a:lnTo>
                  <a:lnTo>
                    <a:pt x="100" y="137"/>
                  </a:lnTo>
                  <a:lnTo>
                    <a:pt x="121" y="123"/>
                  </a:lnTo>
                  <a:lnTo>
                    <a:pt x="140" y="111"/>
                  </a:lnTo>
                  <a:lnTo>
                    <a:pt x="158" y="98"/>
                  </a:lnTo>
                  <a:lnTo>
                    <a:pt x="173" y="85"/>
                  </a:lnTo>
                  <a:lnTo>
                    <a:pt x="186" y="73"/>
                  </a:lnTo>
                  <a:lnTo>
                    <a:pt x="198" y="61"/>
                  </a:lnTo>
                  <a:lnTo>
                    <a:pt x="206" y="50"/>
                  </a:lnTo>
                  <a:lnTo>
                    <a:pt x="211" y="38"/>
                  </a:lnTo>
                  <a:lnTo>
                    <a:pt x="213" y="33"/>
                  </a:lnTo>
                  <a:lnTo>
                    <a:pt x="213" y="28"/>
                  </a:lnTo>
                  <a:lnTo>
                    <a:pt x="214" y="23"/>
                  </a:lnTo>
                  <a:lnTo>
                    <a:pt x="213" y="18"/>
                  </a:lnTo>
                  <a:lnTo>
                    <a:pt x="212" y="14"/>
                  </a:lnTo>
                  <a:lnTo>
                    <a:pt x="209" y="9"/>
                  </a:lnTo>
                  <a:lnTo>
                    <a:pt x="206" y="4"/>
                  </a:lnTo>
                  <a:lnTo>
                    <a:pt x="201" y="0"/>
                  </a:lnTo>
                  <a:lnTo>
                    <a:pt x="201" y="41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51"/>
            <p:cNvSpPr/>
            <p:nvPr/>
          </p:nvSpPr>
          <p:spPr>
            <a:xfrm>
              <a:off x="7615440" y="4654080"/>
              <a:ext cx="32760" cy="975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20" h="596">
                  <a:moveTo>
                    <a:pt x="220" y="0"/>
                  </a:moveTo>
                  <a:lnTo>
                    <a:pt x="0" y="187"/>
                  </a:lnTo>
                  <a:lnTo>
                    <a:pt x="0" y="596"/>
                  </a:lnTo>
                  <a:lnTo>
                    <a:pt x="220" y="409"/>
                  </a:ln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52"/>
            <p:cNvSpPr/>
            <p:nvPr/>
          </p:nvSpPr>
          <p:spPr>
            <a:xfrm>
              <a:off x="7863120" y="4668840"/>
              <a:ext cx="45720" cy="88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09" h="550">
                  <a:moveTo>
                    <a:pt x="309" y="410"/>
                  </a:moveTo>
                  <a:lnTo>
                    <a:pt x="284" y="412"/>
                  </a:lnTo>
                  <a:lnTo>
                    <a:pt x="261" y="416"/>
                  </a:lnTo>
                  <a:lnTo>
                    <a:pt x="238" y="421"/>
                  </a:lnTo>
                  <a:lnTo>
                    <a:pt x="216" y="428"/>
                  </a:lnTo>
                  <a:lnTo>
                    <a:pt x="194" y="435"/>
                  </a:lnTo>
                  <a:lnTo>
                    <a:pt x="173" y="444"/>
                  </a:lnTo>
                  <a:lnTo>
                    <a:pt x="153" y="453"/>
                  </a:lnTo>
                  <a:lnTo>
                    <a:pt x="133" y="463"/>
                  </a:lnTo>
                  <a:lnTo>
                    <a:pt x="113" y="473"/>
                  </a:lnTo>
                  <a:lnTo>
                    <a:pt x="95" y="485"/>
                  </a:lnTo>
                  <a:lnTo>
                    <a:pt x="77" y="495"/>
                  </a:lnTo>
                  <a:lnTo>
                    <a:pt x="61" y="507"/>
                  </a:lnTo>
                  <a:lnTo>
                    <a:pt x="29" y="529"/>
                  </a:lnTo>
                  <a:lnTo>
                    <a:pt x="0" y="550"/>
                  </a:lnTo>
                  <a:lnTo>
                    <a:pt x="0" y="141"/>
                  </a:lnTo>
                  <a:lnTo>
                    <a:pt x="29" y="120"/>
                  </a:lnTo>
                  <a:lnTo>
                    <a:pt x="61" y="98"/>
                  </a:lnTo>
                  <a:lnTo>
                    <a:pt x="77" y="86"/>
                  </a:lnTo>
                  <a:lnTo>
                    <a:pt x="95" y="75"/>
                  </a:lnTo>
                  <a:lnTo>
                    <a:pt x="113" y="64"/>
                  </a:lnTo>
                  <a:lnTo>
                    <a:pt x="133" y="54"/>
                  </a:lnTo>
                  <a:lnTo>
                    <a:pt x="153" y="44"/>
                  </a:lnTo>
                  <a:lnTo>
                    <a:pt x="173" y="35"/>
                  </a:lnTo>
                  <a:lnTo>
                    <a:pt x="194" y="26"/>
                  </a:lnTo>
                  <a:lnTo>
                    <a:pt x="216" y="19"/>
                  </a:lnTo>
                  <a:lnTo>
                    <a:pt x="238" y="12"/>
                  </a:lnTo>
                  <a:lnTo>
                    <a:pt x="261" y="7"/>
                  </a:lnTo>
                  <a:lnTo>
                    <a:pt x="284" y="4"/>
                  </a:lnTo>
                  <a:lnTo>
                    <a:pt x="309" y="0"/>
                  </a:lnTo>
                  <a:lnTo>
                    <a:pt x="309" y="41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53"/>
            <p:cNvSpPr/>
            <p:nvPr/>
          </p:nvSpPr>
          <p:spPr>
            <a:xfrm>
              <a:off x="7956720" y="4665600"/>
              <a:ext cx="21600" cy="871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49" h="533">
                  <a:moveTo>
                    <a:pt x="149" y="409"/>
                  </a:moveTo>
                  <a:lnTo>
                    <a:pt x="149" y="415"/>
                  </a:lnTo>
                  <a:lnTo>
                    <a:pt x="147" y="422"/>
                  </a:lnTo>
                  <a:lnTo>
                    <a:pt x="145" y="428"/>
                  </a:lnTo>
                  <a:lnTo>
                    <a:pt x="141" y="435"/>
                  </a:lnTo>
                  <a:lnTo>
                    <a:pt x="137" y="440"/>
                  </a:lnTo>
                  <a:lnTo>
                    <a:pt x="131" y="447"/>
                  </a:lnTo>
                  <a:lnTo>
                    <a:pt x="124" y="456"/>
                  </a:lnTo>
                  <a:lnTo>
                    <a:pt x="116" y="463"/>
                  </a:lnTo>
                  <a:lnTo>
                    <a:pt x="96" y="478"/>
                  </a:lnTo>
                  <a:lnTo>
                    <a:pt x="69" y="495"/>
                  </a:lnTo>
                  <a:lnTo>
                    <a:pt x="37" y="513"/>
                  </a:lnTo>
                  <a:lnTo>
                    <a:pt x="0" y="533"/>
                  </a:lnTo>
                  <a:lnTo>
                    <a:pt x="0" y="124"/>
                  </a:lnTo>
                  <a:lnTo>
                    <a:pt x="37" y="104"/>
                  </a:lnTo>
                  <a:lnTo>
                    <a:pt x="69" y="86"/>
                  </a:lnTo>
                  <a:lnTo>
                    <a:pt x="96" y="69"/>
                  </a:lnTo>
                  <a:lnTo>
                    <a:pt x="116" y="54"/>
                  </a:lnTo>
                  <a:lnTo>
                    <a:pt x="124" y="46"/>
                  </a:lnTo>
                  <a:lnTo>
                    <a:pt x="131" y="39"/>
                  </a:lnTo>
                  <a:lnTo>
                    <a:pt x="137" y="32"/>
                  </a:lnTo>
                  <a:lnTo>
                    <a:pt x="141" y="26"/>
                  </a:lnTo>
                  <a:lnTo>
                    <a:pt x="145" y="19"/>
                  </a:lnTo>
                  <a:lnTo>
                    <a:pt x="147" y="13"/>
                  </a:lnTo>
                  <a:lnTo>
                    <a:pt x="149" y="6"/>
                  </a:lnTo>
                  <a:lnTo>
                    <a:pt x="149" y="0"/>
                  </a:lnTo>
                  <a:lnTo>
                    <a:pt x="149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54"/>
            <p:cNvSpPr/>
            <p:nvPr/>
          </p:nvSpPr>
          <p:spPr>
            <a:xfrm>
              <a:off x="8319600" y="4579920"/>
              <a:ext cx="27000" cy="91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87" h="561">
                  <a:moveTo>
                    <a:pt x="187" y="561"/>
                  </a:moveTo>
                  <a:lnTo>
                    <a:pt x="187" y="153"/>
                  </a:lnTo>
                  <a:lnTo>
                    <a:pt x="0" y="0"/>
                  </a:lnTo>
                  <a:lnTo>
                    <a:pt x="0" y="408"/>
                  </a:lnTo>
                  <a:lnTo>
                    <a:pt x="187" y="56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55"/>
            <p:cNvSpPr/>
            <p:nvPr/>
          </p:nvSpPr>
          <p:spPr>
            <a:xfrm>
              <a:off x="8439120" y="4709880"/>
              <a:ext cx="117360" cy="1728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777" h="1061">
                  <a:moveTo>
                    <a:pt x="777" y="1061"/>
                  </a:moveTo>
                  <a:lnTo>
                    <a:pt x="739" y="1046"/>
                  </a:lnTo>
                  <a:lnTo>
                    <a:pt x="704" y="1034"/>
                  </a:lnTo>
                  <a:lnTo>
                    <a:pt x="670" y="1022"/>
                  </a:lnTo>
                  <a:lnTo>
                    <a:pt x="639" y="1012"/>
                  </a:lnTo>
                  <a:lnTo>
                    <a:pt x="611" y="1004"/>
                  </a:lnTo>
                  <a:lnTo>
                    <a:pt x="584" y="997"/>
                  </a:lnTo>
                  <a:lnTo>
                    <a:pt x="559" y="991"/>
                  </a:lnTo>
                  <a:lnTo>
                    <a:pt x="538" y="986"/>
                  </a:lnTo>
                  <a:lnTo>
                    <a:pt x="529" y="984"/>
                  </a:lnTo>
                  <a:lnTo>
                    <a:pt x="519" y="980"/>
                  </a:lnTo>
                  <a:lnTo>
                    <a:pt x="508" y="976"/>
                  </a:lnTo>
                  <a:lnTo>
                    <a:pt x="496" y="969"/>
                  </a:lnTo>
                  <a:lnTo>
                    <a:pt x="484" y="962"/>
                  </a:lnTo>
                  <a:lnTo>
                    <a:pt x="471" y="952"/>
                  </a:lnTo>
                  <a:lnTo>
                    <a:pt x="457" y="943"/>
                  </a:lnTo>
                  <a:lnTo>
                    <a:pt x="443" y="931"/>
                  </a:lnTo>
                  <a:lnTo>
                    <a:pt x="412" y="906"/>
                  </a:lnTo>
                  <a:lnTo>
                    <a:pt x="380" y="876"/>
                  </a:lnTo>
                  <a:lnTo>
                    <a:pt x="346" y="843"/>
                  </a:lnTo>
                  <a:lnTo>
                    <a:pt x="310" y="805"/>
                  </a:lnTo>
                  <a:lnTo>
                    <a:pt x="273" y="765"/>
                  </a:lnTo>
                  <a:lnTo>
                    <a:pt x="235" y="722"/>
                  </a:lnTo>
                  <a:lnTo>
                    <a:pt x="196" y="677"/>
                  </a:lnTo>
                  <a:lnTo>
                    <a:pt x="156" y="629"/>
                  </a:lnTo>
                  <a:lnTo>
                    <a:pt x="117" y="580"/>
                  </a:lnTo>
                  <a:lnTo>
                    <a:pt x="77" y="528"/>
                  </a:lnTo>
                  <a:lnTo>
                    <a:pt x="38" y="477"/>
                  </a:lnTo>
                  <a:lnTo>
                    <a:pt x="0" y="424"/>
                  </a:lnTo>
                  <a:lnTo>
                    <a:pt x="0" y="0"/>
                  </a:lnTo>
                  <a:lnTo>
                    <a:pt x="38" y="53"/>
                  </a:lnTo>
                  <a:lnTo>
                    <a:pt x="77" y="104"/>
                  </a:lnTo>
                  <a:lnTo>
                    <a:pt x="117" y="155"/>
                  </a:lnTo>
                  <a:lnTo>
                    <a:pt x="156" y="204"/>
                  </a:lnTo>
                  <a:lnTo>
                    <a:pt x="196" y="251"/>
                  </a:lnTo>
                  <a:lnTo>
                    <a:pt x="235" y="297"/>
                  </a:lnTo>
                  <a:lnTo>
                    <a:pt x="273" y="339"/>
                  </a:lnTo>
                  <a:lnTo>
                    <a:pt x="310" y="380"/>
                  </a:lnTo>
                  <a:lnTo>
                    <a:pt x="346" y="417"/>
                  </a:lnTo>
                  <a:lnTo>
                    <a:pt x="380" y="451"/>
                  </a:lnTo>
                  <a:lnTo>
                    <a:pt x="412" y="480"/>
                  </a:lnTo>
                  <a:lnTo>
                    <a:pt x="443" y="506"/>
                  </a:lnTo>
                  <a:lnTo>
                    <a:pt x="457" y="518"/>
                  </a:lnTo>
                  <a:lnTo>
                    <a:pt x="471" y="528"/>
                  </a:lnTo>
                  <a:lnTo>
                    <a:pt x="484" y="536"/>
                  </a:lnTo>
                  <a:lnTo>
                    <a:pt x="496" y="545"/>
                  </a:lnTo>
                  <a:lnTo>
                    <a:pt x="508" y="552"/>
                  </a:lnTo>
                  <a:lnTo>
                    <a:pt x="519" y="556"/>
                  </a:lnTo>
                  <a:lnTo>
                    <a:pt x="529" y="560"/>
                  </a:lnTo>
                  <a:lnTo>
                    <a:pt x="538" y="562"/>
                  </a:lnTo>
                  <a:lnTo>
                    <a:pt x="559" y="567"/>
                  </a:lnTo>
                  <a:lnTo>
                    <a:pt x="584" y="572"/>
                  </a:lnTo>
                  <a:lnTo>
                    <a:pt x="611" y="579"/>
                  </a:lnTo>
                  <a:lnTo>
                    <a:pt x="639" y="587"/>
                  </a:lnTo>
                  <a:lnTo>
                    <a:pt x="670" y="596"/>
                  </a:lnTo>
                  <a:lnTo>
                    <a:pt x="704" y="608"/>
                  </a:lnTo>
                  <a:lnTo>
                    <a:pt x="739" y="621"/>
                  </a:lnTo>
                  <a:lnTo>
                    <a:pt x="777" y="635"/>
                  </a:lnTo>
                  <a:lnTo>
                    <a:pt x="777" y="106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56"/>
            <p:cNvSpPr/>
            <p:nvPr/>
          </p:nvSpPr>
          <p:spPr>
            <a:xfrm>
              <a:off x="8639280" y="4859280"/>
              <a:ext cx="63000" cy="1188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23" h="726">
                  <a:moveTo>
                    <a:pt x="423" y="299"/>
                  </a:moveTo>
                  <a:lnTo>
                    <a:pt x="370" y="257"/>
                  </a:lnTo>
                  <a:lnTo>
                    <a:pt x="316" y="217"/>
                  </a:lnTo>
                  <a:lnTo>
                    <a:pt x="264" y="177"/>
                  </a:lnTo>
                  <a:lnTo>
                    <a:pt x="210" y="138"/>
                  </a:lnTo>
                  <a:lnTo>
                    <a:pt x="157" y="102"/>
                  </a:lnTo>
                  <a:lnTo>
                    <a:pt x="104" y="67"/>
                  </a:lnTo>
                  <a:lnTo>
                    <a:pt x="51" y="33"/>
                  </a:lnTo>
                  <a:lnTo>
                    <a:pt x="0" y="0"/>
                  </a:lnTo>
                  <a:lnTo>
                    <a:pt x="0" y="426"/>
                  </a:lnTo>
                  <a:lnTo>
                    <a:pt x="51" y="458"/>
                  </a:lnTo>
                  <a:lnTo>
                    <a:pt x="104" y="492"/>
                  </a:lnTo>
                  <a:lnTo>
                    <a:pt x="157" y="527"/>
                  </a:lnTo>
                  <a:lnTo>
                    <a:pt x="210" y="563"/>
                  </a:lnTo>
                  <a:lnTo>
                    <a:pt x="264" y="602"/>
                  </a:lnTo>
                  <a:lnTo>
                    <a:pt x="316" y="642"/>
                  </a:lnTo>
                  <a:lnTo>
                    <a:pt x="370" y="683"/>
                  </a:lnTo>
                  <a:lnTo>
                    <a:pt x="423" y="726"/>
                  </a:lnTo>
                  <a:lnTo>
                    <a:pt x="4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57"/>
            <p:cNvSpPr/>
            <p:nvPr/>
          </p:nvSpPr>
          <p:spPr>
            <a:xfrm>
              <a:off x="8362800" y="4362480"/>
              <a:ext cx="16920" cy="1378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19" h="845">
                  <a:moveTo>
                    <a:pt x="119" y="0"/>
                  </a:moveTo>
                  <a:lnTo>
                    <a:pt x="101" y="13"/>
                  </a:lnTo>
                  <a:lnTo>
                    <a:pt x="85" y="25"/>
                  </a:lnTo>
                  <a:lnTo>
                    <a:pt x="71" y="38"/>
                  </a:lnTo>
                  <a:lnTo>
                    <a:pt x="58" y="50"/>
                  </a:lnTo>
                  <a:lnTo>
                    <a:pt x="48" y="62"/>
                  </a:lnTo>
                  <a:lnTo>
                    <a:pt x="37" y="74"/>
                  </a:lnTo>
                  <a:lnTo>
                    <a:pt x="29" y="85"/>
                  </a:lnTo>
                  <a:lnTo>
                    <a:pt x="22" y="97"/>
                  </a:lnTo>
                  <a:lnTo>
                    <a:pt x="16" y="109"/>
                  </a:lnTo>
                  <a:lnTo>
                    <a:pt x="10" y="120"/>
                  </a:lnTo>
                  <a:lnTo>
                    <a:pt x="7" y="131"/>
                  </a:lnTo>
                  <a:lnTo>
                    <a:pt x="4" y="143"/>
                  </a:lnTo>
                  <a:lnTo>
                    <a:pt x="2" y="153"/>
                  </a:lnTo>
                  <a:lnTo>
                    <a:pt x="1" y="162"/>
                  </a:lnTo>
                  <a:lnTo>
                    <a:pt x="0" y="173"/>
                  </a:lnTo>
                  <a:lnTo>
                    <a:pt x="1" y="182"/>
                  </a:lnTo>
                  <a:lnTo>
                    <a:pt x="1" y="196"/>
                  </a:lnTo>
                  <a:lnTo>
                    <a:pt x="3" y="210"/>
                  </a:lnTo>
                  <a:lnTo>
                    <a:pt x="7" y="222"/>
                  </a:lnTo>
                  <a:lnTo>
                    <a:pt x="9" y="234"/>
                  </a:lnTo>
                  <a:lnTo>
                    <a:pt x="17" y="254"/>
                  </a:lnTo>
                  <a:lnTo>
                    <a:pt x="27" y="278"/>
                  </a:lnTo>
                  <a:lnTo>
                    <a:pt x="37" y="305"/>
                  </a:lnTo>
                  <a:lnTo>
                    <a:pt x="48" y="333"/>
                  </a:lnTo>
                  <a:lnTo>
                    <a:pt x="57" y="361"/>
                  </a:lnTo>
                  <a:lnTo>
                    <a:pt x="65" y="388"/>
                  </a:lnTo>
                  <a:lnTo>
                    <a:pt x="69" y="401"/>
                  </a:lnTo>
                  <a:lnTo>
                    <a:pt x="71" y="412"/>
                  </a:lnTo>
                  <a:lnTo>
                    <a:pt x="72" y="423"/>
                  </a:lnTo>
                  <a:lnTo>
                    <a:pt x="72" y="432"/>
                  </a:lnTo>
                  <a:lnTo>
                    <a:pt x="72" y="845"/>
                  </a:lnTo>
                  <a:lnTo>
                    <a:pt x="72" y="834"/>
                  </a:lnTo>
                  <a:lnTo>
                    <a:pt x="71" y="824"/>
                  </a:lnTo>
                  <a:lnTo>
                    <a:pt x="69" y="812"/>
                  </a:lnTo>
                  <a:lnTo>
                    <a:pt x="65" y="799"/>
                  </a:lnTo>
                  <a:lnTo>
                    <a:pt x="57" y="771"/>
                  </a:lnTo>
                  <a:lnTo>
                    <a:pt x="48" y="742"/>
                  </a:lnTo>
                  <a:lnTo>
                    <a:pt x="37" y="714"/>
                  </a:lnTo>
                  <a:lnTo>
                    <a:pt x="27" y="687"/>
                  </a:lnTo>
                  <a:lnTo>
                    <a:pt x="17" y="662"/>
                  </a:lnTo>
                  <a:lnTo>
                    <a:pt x="9" y="643"/>
                  </a:lnTo>
                  <a:lnTo>
                    <a:pt x="7" y="631"/>
                  </a:lnTo>
                  <a:lnTo>
                    <a:pt x="3" y="619"/>
                  </a:lnTo>
                  <a:lnTo>
                    <a:pt x="1" y="605"/>
                  </a:lnTo>
                  <a:lnTo>
                    <a:pt x="1" y="591"/>
                  </a:lnTo>
                  <a:lnTo>
                    <a:pt x="0" y="582"/>
                  </a:lnTo>
                  <a:lnTo>
                    <a:pt x="1" y="571"/>
                  </a:lnTo>
                  <a:lnTo>
                    <a:pt x="2" y="562"/>
                  </a:lnTo>
                  <a:lnTo>
                    <a:pt x="4" y="551"/>
                  </a:lnTo>
                  <a:lnTo>
                    <a:pt x="7" y="541"/>
                  </a:lnTo>
                  <a:lnTo>
                    <a:pt x="10" y="529"/>
                  </a:lnTo>
                  <a:lnTo>
                    <a:pt x="16" y="518"/>
                  </a:lnTo>
                  <a:lnTo>
                    <a:pt x="22" y="507"/>
                  </a:lnTo>
                  <a:lnTo>
                    <a:pt x="29" y="495"/>
                  </a:lnTo>
                  <a:lnTo>
                    <a:pt x="37" y="483"/>
                  </a:lnTo>
                  <a:lnTo>
                    <a:pt x="48" y="471"/>
                  </a:lnTo>
                  <a:lnTo>
                    <a:pt x="58" y="459"/>
                  </a:lnTo>
                  <a:lnTo>
                    <a:pt x="71" y="446"/>
                  </a:lnTo>
                  <a:lnTo>
                    <a:pt x="85" y="435"/>
                  </a:lnTo>
                  <a:lnTo>
                    <a:pt x="101" y="422"/>
                  </a:lnTo>
                  <a:lnTo>
                    <a:pt x="119" y="409"/>
                  </a:lnTo>
                  <a:lnTo>
                    <a:pt x="11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58"/>
            <p:cNvSpPr/>
            <p:nvPr/>
          </p:nvSpPr>
          <p:spPr>
            <a:xfrm>
              <a:off x="8426160" y="3873240"/>
              <a:ext cx="36000" cy="77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42" h="481">
                  <a:moveTo>
                    <a:pt x="0" y="481"/>
                  </a:moveTo>
                  <a:lnTo>
                    <a:pt x="22" y="477"/>
                  </a:lnTo>
                  <a:lnTo>
                    <a:pt x="45" y="474"/>
                  </a:lnTo>
                  <a:lnTo>
                    <a:pt x="70" y="472"/>
                  </a:lnTo>
                  <a:lnTo>
                    <a:pt x="94" y="470"/>
                  </a:lnTo>
                  <a:lnTo>
                    <a:pt x="134" y="458"/>
                  </a:lnTo>
                  <a:lnTo>
                    <a:pt x="181" y="445"/>
                  </a:lnTo>
                  <a:lnTo>
                    <a:pt x="203" y="438"/>
                  </a:lnTo>
                  <a:lnTo>
                    <a:pt x="222" y="430"/>
                  </a:lnTo>
                  <a:lnTo>
                    <a:pt x="230" y="425"/>
                  </a:lnTo>
                  <a:lnTo>
                    <a:pt x="236" y="421"/>
                  </a:lnTo>
                  <a:lnTo>
                    <a:pt x="239" y="415"/>
                  </a:lnTo>
                  <a:lnTo>
                    <a:pt x="242" y="409"/>
                  </a:lnTo>
                  <a:lnTo>
                    <a:pt x="242" y="0"/>
                  </a:lnTo>
                  <a:lnTo>
                    <a:pt x="239" y="6"/>
                  </a:lnTo>
                  <a:lnTo>
                    <a:pt x="236" y="11"/>
                  </a:lnTo>
                  <a:lnTo>
                    <a:pt x="230" y="17"/>
                  </a:lnTo>
                  <a:lnTo>
                    <a:pt x="222" y="21"/>
                  </a:lnTo>
                  <a:lnTo>
                    <a:pt x="203" y="29"/>
                  </a:lnTo>
                  <a:lnTo>
                    <a:pt x="181" y="36"/>
                  </a:lnTo>
                  <a:lnTo>
                    <a:pt x="134" y="49"/>
                  </a:lnTo>
                  <a:lnTo>
                    <a:pt x="94" y="61"/>
                  </a:lnTo>
                  <a:lnTo>
                    <a:pt x="70" y="63"/>
                  </a:lnTo>
                  <a:lnTo>
                    <a:pt x="45" y="66"/>
                  </a:lnTo>
                  <a:lnTo>
                    <a:pt x="22" y="68"/>
                  </a:lnTo>
                  <a:lnTo>
                    <a:pt x="0" y="73"/>
                  </a:lnTo>
                  <a:lnTo>
                    <a:pt x="0" y="48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59"/>
            <p:cNvSpPr/>
            <p:nvPr/>
          </p:nvSpPr>
          <p:spPr>
            <a:xfrm>
              <a:off x="8313840" y="4002480"/>
              <a:ext cx="101520" cy="1411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68" h="873">
                  <a:moveTo>
                    <a:pt x="314" y="717"/>
                  </a:moveTo>
                  <a:lnTo>
                    <a:pt x="283" y="697"/>
                  </a:lnTo>
                  <a:lnTo>
                    <a:pt x="246" y="674"/>
                  </a:lnTo>
                  <a:lnTo>
                    <a:pt x="207" y="648"/>
                  </a:lnTo>
                  <a:lnTo>
                    <a:pt x="165" y="620"/>
                  </a:lnTo>
                  <a:lnTo>
                    <a:pt x="124" y="591"/>
                  </a:lnTo>
                  <a:lnTo>
                    <a:pt x="82" y="561"/>
                  </a:lnTo>
                  <a:lnTo>
                    <a:pt x="42" y="530"/>
                  </a:lnTo>
                  <a:lnTo>
                    <a:pt x="6" y="501"/>
                  </a:lnTo>
                  <a:lnTo>
                    <a:pt x="2" y="498"/>
                  </a:lnTo>
                  <a:lnTo>
                    <a:pt x="0" y="493"/>
                  </a:lnTo>
                  <a:lnTo>
                    <a:pt x="0" y="488"/>
                  </a:lnTo>
                  <a:lnTo>
                    <a:pt x="1" y="482"/>
                  </a:lnTo>
                  <a:lnTo>
                    <a:pt x="5" y="478"/>
                  </a:lnTo>
                  <a:lnTo>
                    <a:pt x="9" y="472"/>
                  </a:lnTo>
                  <a:lnTo>
                    <a:pt x="15" y="465"/>
                  </a:lnTo>
                  <a:lnTo>
                    <a:pt x="23" y="459"/>
                  </a:lnTo>
                  <a:lnTo>
                    <a:pt x="31" y="452"/>
                  </a:lnTo>
                  <a:lnTo>
                    <a:pt x="42" y="445"/>
                  </a:lnTo>
                  <a:lnTo>
                    <a:pt x="54" y="438"/>
                  </a:lnTo>
                  <a:lnTo>
                    <a:pt x="67" y="431"/>
                  </a:lnTo>
                  <a:lnTo>
                    <a:pt x="95" y="418"/>
                  </a:lnTo>
                  <a:lnTo>
                    <a:pt x="126" y="405"/>
                  </a:lnTo>
                  <a:lnTo>
                    <a:pt x="328" y="578"/>
                  </a:lnTo>
                  <a:lnTo>
                    <a:pt x="383" y="561"/>
                  </a:lnTo>
                  <a:lnTo>
                    <a:pt x="390" y="563"/>
                  </a:lnTo>
                  <a:lnTo>
                    <a:pt x="397" y="566"/>
                  </a:lnTo>
                  <a:lnTo>
                    <a:pt x="405" y="571"/>
                  </a:lnTo>
                  <a:lnTo>
                    <a:pt x="412" y="577"/>
                  </a:lnTo>
                  <a:lnTo>
                    <a:pt x="427" y="592"/>
                  </a:lnTo>
                  <a:lnTo>
                    <a:pt x="444" y="611"/>
                  </a:lnTo>
                  <a:lnTo>
                    <a:pt x="475" y="655"/>
                  </a:lnTo>
                  <a:lnTo>
                    <a:pt x="509" y="705"/>
                  </a:lnTo>
                  <a:lnTo>
                    <a:pt x="527" y="732"/>
                  </a:lnTo>
                  <a:lnTo>
                    <a:pt x="545" y="758"/>
                  </a:lnTo>
                  <a:lnTo>
                    <a:pt x="564" y="783"/>
                  </a:lnTo>
                  <a:lnTo>
                    <a:pt x="584" y="807"/>
                  </a:lnTo>
                  <a:lnTo>
                    <a:pt x="593" y="818"/>
                  </a:lnTo>
                  <a:lnTo>
                    <a:pt x="604" y="828"/>
                  </a:lnTo>
                  <a:lnTo>
                    <a:pt x="614" y="837"/>
                  </a:lnTo>
                  <a:lnTo>
                    <a:pt x="625" y="847"/>
                  </a:lnTo>
                  <a:lnTo>
                    <a:pt x="635" y="854"/>
                  </a:lnTo>
                  <a:lnTo>
                    <a:pt x="646" y="861"/>
                  </a:lnTo>
                  <a:lnTo>
                    <a:pt x="656" y="867"/>
                  </a:lnTo>
                  <a:lnTo>
                    <a:pt x="668" y="873"/>
                  </a:lnTo>
                  <a:lnTo>
                    <a:pt x="668" y="466"/>
                  </a:lnTo>
                  <a:lnTo>
                    <a:pt x="656" y="461"/>
                  </a:lnTo>
                  <a:lnTo>
                    <a:pt x="646" y="456"/>
                  </a:lnTo>
                  <a:lnTo>
                    <a:pt x="635" y="449"/>
                  </a:lnTo>
                  <a:lnTo>
                    <a:pt x="625" y="440"/>
                  </a:lnTo>
                  <a:lnTo>
                    <a:pt x="614" y="431"/>
                  </a:lnTo>
                  <a:lnTo>
                    <a:pt x="604" y="422"/>
                  </a:lnTo>
                  <a:lnTo>
                    <a:pt x="593" y="411"/>
                  </a:lnTo>
                  <a:lnTo>
                    <a:pt x="584" y="401"/>
                  </a:lnTo>
                  <a:lnTo>
                    <a:pt x="564" y="377"/>
                  </a:lnTo>
                  <a:lnTo>
                    <a:pt x="545" y="352"/>
                  </a:lnTo>
                  <a:lnTo>
                    <a:pt x="527" y="326"/>
                  </a:lnTo>
                  <a:lnTo>
                    <a:pt x="509" y="300"/>
                  </a:lnTo>
                  <a:lnTo>
                    <a:pt x="475" y="249"/>
                  </a:lnTo>
                  <a:lnTo>
                    <a:pt x="444" y="204"/>
                  </a:lnTo>
                  <a:lnTo>
                    <a:pt x="427" y="186"/>
                  </a:lnTo>
                  <a:lnTo>
                    <a:pt x="412" y="172"/>
                  </a:lnTo>
                  <a:lnTo>
                    <a:pt x="405" y="166"/>
                  </a:lnTo>
                  <a:lnTo>
                    <a:pt x="397" y="161"/>
                  </a:lnTo>
                  <a:lnTo>
                    <a:pt x="390" y="158"/>
                  </a:lnTo>
                  <a:lnTo>
                    <a:pt x="383" y="155"/>
                  </a:lnTo>
                  <a:lnTo>
                    <a:pt x="328" y="173"/>
                  </a:lnTo>
                  <a:lnTo>
                    <a:pt x="126" y="0"/>
                  </a:lnTo>
                  <a:lnTo>
                    <a:pt x="95" y="12"/>
                  </a:lnTo>
                  <a:lnTo>
                    <a:pt x="67" y="26"/>
                  </a:lnTo>
                  <a:lnTo>
                    <a:pt x="54" y="33"/>
                  </a:lnTo>
                  <a:lnTo>
                    <a:pt x="42" y="39"/>
                  </a:lnTo>
                  <a:lnTo>
                    <a:pt x="31" y="46"/>
                  </a:lnTo>
                  <a:lnTo>
                    <a:pt x="23" y="53"/>
                  </a:lnTo>
                  <a:lnTo>
                    <a:pt x="15" y="58"/>
                  </a:lnTo>
                  <a:lnTo>
                    <a:pt x="9" y="65"/>
                  </a:lnTo>
                  <a:lnTo>
                    <a:pt x="5" y="71"/>
                  </a:lnTo>
                  <a:lnTo>
                    <a:pt x="1" y="77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2" y="91"/>
                  </a:lnTo>
                  <a:lnTo>
                    <a:pt x="6" y="95"/>
                  </a:lnTo>
                  <a:lnTo>
                    <a:pt x="42" y="124"/>
                  </a:lnTo>
                  <a:lnTo>
                    <a:pt x="82" y="154"/>
                  </a:lnTo>
                  <a:lnTo>
                    <a:pt x="124" y="185"/>
                  </a:lnTo>
                  <a:lnTo>
                    <a:pt x="165" y="215"/>
                  </a:lnTo>
                  <a:lnTo>
                    <a:pt x="207" y="243"/>
                  </a:lnTo>
                  <a:lnTo>
                    <a:pt x="246" y="269"/>
                  </a:lnTo>
                  <a:lnTo>
                    <a:pt x="283" y="291"/>
                  </a:lnTo>
                  <a:lnTo>
                    <a:pt x="314" y="311"/>
                  </a:lnTo>
                  <a:lnTo>
                    <a:pt x="314" y="71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60"/>
            <p:cNvSpPr/>
            <p:nvPr/>
          </p:nvSpPr>
          <p:spPr>
            <a:xfrm>
              <a:off x="6315120" y="4290840"/>
              <a:ext cx="5760" cy="1278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50" h="784">
                  <a:moveTo>
                    <a:pt x="21" y="568"/>
                  </a:moveTo>
                  <a:lnTo>
                    <a:pt x="18" y="572"/>
                  </a:lnTo>
                  <a:lnTo>
                    <a:pt x="13" y="584"/>
                  </a:lnTo>
                  <a:lnTo>
                    <a:pt x="9" y="593"/>
                  </a:lnTo>
                  <a:lnTo>
                    <a:pt x="6" y="604"/>
                  </a:lnTo>
                  <a:lnTo>
                    <a:pt x="3" y="616"/>
                  </a:lnTo>
                  <a:lnTo>
                    <a:pt x="1" y="630"/>
                  </a:lnTo>
                  <a:lnTo>
                    <a:pt x="0" y="645"/>
                  </a:lnTo>
                  <a:lnTo>
                    <a:pt x="0" y="661"/>
                  </a:lnTo>
                  <a:lnTo>
                    <a:pt x="2" y="679"/>
                  </a:lnTo>
                  <a:lnTo>
                    <a:pt x="7" y="697"/>
                  </a:lnTo>
                  <a:lnTo>
                    <a:pt x="13" y="718"/>
                  </a:lnTo>
                  <a:lnTo>
                    <a:pt x="22" y="739"/>
                  </a:lnTo>
                  <a:lnTo>
                    <a:pt x="28" y="750"/>
                  </a:lnTo>
                  <a:lnTo>
                    <a:pt x="35" y="762"/>
                  </a:lnTo>
                  <a:lnTo>
                    <a:pt x="42" y="772"/>
                  </a:lnTo>
                  <a:lnTo>
                    <a:pt x="50" y="784"/>
                  </a:lnTo>
                  <a:lnTo>
                    <a:pt x="50" y="216"/>
                  </a:lnTo>
                  <a:lnTo>
                    <a:pt x="42" y="204"/>
                  </a:lnTo>
                  <a:lnTo>
                    <a:pt x="35" y="194"/>
                  </a:lnTo>
                  <a:lnTo>
                    <a:pt x="28" y="182"/>
                  </a:lnTo>
                  <a:lnTo>
                    <a:pt x="22" y="172"/>
                  </a:lnTo>
                  <a:lnTo>
                    <a:pt x="13" y="151"/>
                  </a:lnTo>
                  <a:lnTo>
                    <a:pt x="7" y="131"/>
                  </a:lnTo>
                  <a:lnTo>
                    <a:pt x="2" y="111"/>
                  </a:lnTo>
                  <a:lnTo>
                    <a:pt x="0" y="93"/>
                  </a:lnTo>
                  <a:lnTo>
                    <a:pt x="0" y="77"/>
                  </a:lnTo>
                  <a:lnTo>
                    <a:pt x="1" y="62"/>
                  </a:lnTo>
                  <a:lnTo>
                    <a:pt x="3" y="48"/>
                  </a:lnTo>
                  <a:lnTo>
                    <a:pt x="6" y="36"/>
                  </a:lnTo>
                  <a:lnTo>
                    <a:pt x="9" y="26"/>
                  </a:lnTo>
                  <a:lnTo>
                    <a:pt x="13" y="16"/>
                  </a:lnTo>
                  <a:lnTo>
                    <a:pt x="18" y="5"/>
                  </a:lnTo>
                  <a:lnTo>
                    <a:pt x="21" y="0"/>
                  </a:lnTo>
                  <a:lnTo>
                    <a:pt x="21" y="56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61"/>
            <p:cNvSpPr/>
            <p:nvPr/>
          </p:nvSpPr>
          <p:spPr>
            <a:xfrm>
              <a:off x="6273720" y="4681080"/>
              <a:ext cx="61560" cy="248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06" h="162">
                  <a:moveTo>
                    <a:pt x="372" y="130"/>
                  </a:moveTo>
                  <a:lnTo>
                    <a:pt x="364" y="136"/>
                  </a:lnTo>
                  <a:lnTo>
                    <a:pt x="353" y="141"/>
                  </a:lnTo>
                  <a:lnTo>
                    <a:pt x="340" y="145"/>
                  </a:lnTo>
                  <a:lnTo>
                    <a:pt x="326" y="149"/>
                  </a:lnTo>
                  <a:lnTo>
                    <a:pt x="311" y="152"/>
                  </a:lnTo>
                  <a:lnTo>
                    <a:pt x="295" y="156"/>
                  </a:lnTo>
                  <a:lnTo>
                    <a:pt x="278" y="158"/>
                  </a:lnTo>
                  <a:lnTo>
                    <a:pt x="262" y="160"/>
                  </a:lnTo>
                  <a:lnTo>
                    <a:pt x="246" y="162"/>
                  </a:lnTo>
                  <a:lnTo>
                    <a:pt x="230" y="162"/>
                  </a:lnTo>
                  <a:lnTo>
                    <a:pt x="215" y="162"/>
                  </a:lnTo>
                  <a:lnTo>
                    <a:pt x="202" y="160"/>
                  </a:lnTo>
                  <a:lnTo>
                    <a:pt x="191" y="159"/>
                  </a:lnTo>
                  <a:lnTo>
                    <a:pt x="181" y="156"/>
                  </a:lnTo>
                  <a:lnTo>
                    <a:pt x="178" y="155"/>
                  </a:lnTo>
                  <a:lnTo>
                    <a:pt x="174" y="152"/>
                  </a:lnTo>
                  <a:lnTo>
                    <a:pt x="172" y="150"/>
                  </a:lnTo>
                  <a:lnTo>
                    <a:pt x="171" y="148"/>
                  </a:lnTo>
                  <a:lnTo>
                    <a:pt x="167" y="141"/>
                  </a:lnTo>
                  <a:lnTo>
                    <a:pt x="163" y="135"/>
                  </a:lnTo>
                  <a:lnTo>
                    <a:pt x="158" y="129"/>
                  </a:lnTo>
                  <a:lnTo>
                    <a:pt x="153" y="124"/>
                  </a:lnTo>
                  <a:lnTo>
                    <a:pt x="142" y="115"/>
                  </a:lnTo>
                  <a:lnTo>
                    <a:pt x="130" y="107"/>
                  </a:lnTo>
                  <a:lnTo>
                    <a:pt x="116" y="101"/>
                  </a:lnTo>
                  <a:lnTo>
                    <a:pt x="102" y="96"/>
                  </a:lnTo>
                  <a:lnTo>
                    <a:pt x="87" y="92"/>
                  </a:lnTo>
                  <a:lnTo>
                    <a:pt x="73" y="89"/>
                  </a:lnTo>
                  <a:lnTo>
                    <a:pt x="46" y="85"/>
                  </a:lnTo>
                  <a:lnTo>
                    <a:pt x="22" y="83"/>
                  </a:lnTo>
                  <a:lnTo>
                    <a:pt x="6" y="83"/>
                  </a:lnTo>
                  <a:lnTo>
                    <a:pt x="0" y="85"/>
                  </a:lnTo>
                  <a:lnTo>
                    <a:pt x="79" y="6"/>
                  </a:lnTo>
                  <a:lnTo>
                    <a:pt x="93" y="4"/>
                  </a:lnTo>
                  <a:lnTo>
                    <a:pt x="107" y="4"/>
                  </a:lnTo>
                  <a:lnTo>
                    <a:pt x="121" y="4"/>
                  </a:lnTo>
                  <a:lnTo>
                    <a:pt x="133" y="5"/>
                  </a:lnTo>
                  <a:lnTo>
                    <a:pt x="159" y="9"/>
                  </a:lnTo>
                  <a:lnTo>
                    <a:pt x="185" y="13"/>
                  </a:lnTo>
                  <a:lnTo>
                    <a:pt x="196" y="14"/>
                  </a:lnTo>
                  <a:lnTo>
                    <a:pt x="209" y="17"/>
                  </a:lnTo>
                  <a:lnTo>
                    <a:pt x="221" y="18"/>
                  </a:lnTo>
                  <a:lnTo>
                    <a:pt x="233" y="18"/>
                  </a:lnTo>
                  <a:lnTo>
                    <a:pt x="244" y="17"/>
                  </a:lnTo>
                  <a:lnTo>
                    <a:pt x="256" y="14"/>
                  </a:lnTo>
                  <a:lnTo>
                    <a:pt x="268" y="11"/>
                  </a:lnTo>
                  <a:lnTo>
                    <a:pt x="279" y="6"/>
                  </a:lnTo>
                  <a:lnTo>
                    <a:pt x="285" y="4"/>
                  </a:lnTo>
                  <a:lnTo>
                    <a:pt x="292" y="3"/>
                  </a:lnTo>
                  <a:lnTo>
                    <a:pt x="298" y="2"/>
                  </a:lnTo>
                  <a:lnTo>
                    <a:pt x="305" y="0"/>
                  </a:lnTo>
                  <a:lnTo>
                    <a:pt x="319" y="2"/>
                  </a:lnTo>
                  <a:lnTo>
                    <a:pt x="333" y="5"/>
                  </a:lnTo>
                  <a:lnTo>
                    <a:pt x="347" y="10"/>
                  </a:lnTo>
                  <a:lnTo>
                    <a:pt x="360" y="17"/>
                  </a:lnTo>
                  <a:lnTo>
                    <a:pt x="373" y="25"/>
                  </a:lnTo>
                  <a:lnTo>
                    <a:pt x="383" y="34"/>
                  </a:lnTo>
                  <a:lnTo>
                    <a:pt x="393" y="45"/>
                  </a:lnTo>
                  <a:lnTo>
                    <a:pt x="400" y="57"/>
                  </a:lnTo>
                  <a:lnTo>
                    <a:pt x="402" y="62"/>
                  </a:lnTo>
                  <a:lnTo>
                    <a:pt x="403" y="69"/>
                  </a:lnTo>
                  <a:lnTo>
                    <a:pt x="404" y="75"/>
                  </a:lnTo>
                  <a:lnTo>
                    <a:pt x="406" y="81"/>
                  </a:lnTo>
                  <a:lnTo>
                    <a:pt x="404" y="88"/>
                  </a:lnTo>
                  <a:lnTo>
                    <a:pt x="403" y="94"/>
                  </a:lnTo>
                  <a:lnTo>
                    <a:pt x="401" y="100"/>
                  </a:lnTo>
                  <a:lnTo>
                    <a:pt x="397" y="107"/>
                  </a:lnTo>
                  <a:lnTo>
                    <a:pt x="393" y="113"/>
                  </a:lnTo>
                  <a:lnTo>
                    <a:pt x="387" y="118"/>
                  </a:lnTo>
                  <a:lnTo>
                    <a:pt x="380" y="124"/>
                  </a:lnTo>
                  <a:lnTo>
                    <a:pt x="372" y="1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62"/>
            <p:cNvSpPr/>
            <p:nvPr/>
          </p:nvSpPr>
          <p:spPr>
            <a:xfrm>
              <a:off x="6230520" y="4564440"/>
              <a:ext cx="18360" cy="8208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26" h="509">
                  <a:moveTo>
                    <a:pt x="0" y="100"/>
                  </a:moveTo>
                  <a:lnTo>
                    <a:pt x="15" y="98"/>
                  </a:lnTo>
                  <a:lnTo>
                    <a:pt x="30" y="96"/>
                  </a:lnTo>
                  <a:lnTo>
                    <a:pt x="43" y="91"/>
                  </a:lnTo>
                  <a:lnTo>
                    <a:pt x="56" y="88"/>
                  </a:lnTo>
                  <a:lnTo>
                    <a:pt x="68" y="82"/>
                  </a:lnTo>
                  <a:lnTo>
                    <a:pt x="78" y="76"/>
                  </a:lnTo>
                  <a:lnTo>
                    <a:pt x="88" y="70"/>
                  </a:lnTo>
                  <a:lnTo>
                    <a:pt x="96" y="63"/>
                  </a:lnTo>
                  <a:lnTo>
                    <a:pt x="103" y="56"/>
                  </a:lnTo>
                  <a:lnTo>
                    <a:pt x="109" y="48"/>
                  </a:lnTo>
                  <a:lnTo>
                    <a:pt x="115" y="41"/>
                  </a:lnTo>
                  <a:lnTo>
                    <a:pt x="119" y="33"/>
                  </a:lnTo>
                  <a:lnTo>
                    <a:pt x="123" y="24"/>
                  </a:lnTo>
                  <a:lnTo>
                    <a:pt x="125" y="16"/>
                  </a:lnTo>
                  <a:lnTo>
                    <a:pt x="126" y="8"/>
                  </a:lnTo>
                  <a:lnTo>
                    <a:pt x="126" y="0"/>
                  </a:lnTo>
                  <a:lnTo>
                    <a:pt x="126" y="409"/>
                  </a:lnTo>
                  <a:lnTo>
                    <a:pt x="126" y="417"/>
                  </a:lnTo>
                  <a:lnTo>
                    <a:pt x="125" y="425"/>
                  </a:lnTo>
                  <a:lnTo>
                    <a:pt x="123" y="433"/>
                  </a:lnTo>
                  <a:lnTo>
                    <a:pt x="119" y="441"/>
                  </a:lnTo>
                  <a:lnTo>
                    <a:pt x="115" y="450"/>
                  </a:lnTo>
                  <a:lnTo>
                    <a:pt x="109" y="457"/>
                  </a:lnTo>
                  <a:lnTo>
                    <a:pt x="103" y="465"/>
                  </a:lnTo>
                  <a:lnTo>
                    <a:pt x="96" y="472"/>
                  </a:lnTo>
                  <a:lnTo>
                    <a:pt x="88" y="479"/>
                  </a:lnTo>
                  <a:lnTo>
                    <a:pt x="78" y="485"/>
                  </a:lnTo>
                  <a:lnTo>
                    <a:pt x="68" y="490"/>
                  </a:lnTo>
                  <a:lnTo>
                    <a:pt x="56" y="496"/>
                  </a:lnTo>
                  <a:lnTo>
                    <a:pt x="43" y="501"/>
                  </a:lnTo>
                  <a:lnTo>
                    <a:pt x="30" y="505"/>
                  </a:lnTo>
                  <a:lnTo>
                    <a:pt x="15" y="507"/>
                  </a:lnTo>
                  <a:lnTo>
                    <a:pt x="0" y="509"/>
                  </a:lnTo>
                  <a:lnTo>
                    <a:pt x="0" y="1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Freeform 63"/>
            <p:cNvSpPr/>
            <p:nvPr/>
          </p:nvSpPr>
          <p:spPr>
            <a:xfrm>
              <a:off x="6148440" y="4551480"/>
              <a:ext cx="18360" cy="68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22" h="415">
                  <a:moveTo>
                    <a:pt x="0" y="415"/>
                  </a:moveTo>
                  <a:lnTo>
                    <a:pt x="40" y="411"/>
                  </a:lnTo>
                  <a:lnTo>
                    <a:pt x="72" y="411"/>
                  </a:lnTo>
                  <a:lnTo>
                    <a:pt x="99" y="412"/>
                  </a:lnTo>
                  <a:lnTo>
                    <a:pt x="122" y="415"/>
                  </a:lnTo>
                  <a:lnTo>
                    <a:pt x="122" y="5"/>
                  </a:lnTo>
                  <a:lnTo>
                    <a:pt x="111" y="4"/>
                  </a:lnTo>
                  <a:lnTo>
                    <a:pt x="99" y="1"/>
                  </a:lnTo>
                  <a:lnTo>
                    <a:pt x="86" y="0"/>
                  </a:lnTo>
                  <a:lnTo>
                    <a:pt x="72" y="0"/>
                  </a:lnTo>
                  <a:lnTo>
                    <a:pt x="57" y="0"/>
                  </a:lnTo>
                  <a:lnTo>
                    <a:pt x="40" y="1"/>
                  </a:lnTo>
                  <a:lnTo>
                    <a:pt x="21" y="2"/>
                  </a:lnTo>
                  <a:lnTo>
                    <a:pt x="0" y="5"/>
                  </a:lnTo>
                  <a:lnTo>
                    <a:pt x="0" y="41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64"/>
            <p:cNvSpPr/>
            <p:nvPr/>
          </p:nvSpPr>
          <p:spPr>
            <a:xfrm>
              <a:off x="6112080" y="4546440"/>
              <a:ext cx="15480" cy="936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0" h="566">
                  <a:moveTo>
                    <a:pt x="0" y="566"/>
                  </a:moveTo>
                  <a:lnTo>
                    <a:pt x="110" y="409"/>
                  </a:lnTo>
                  <a:lnTo>
                    <a:pt x="110" y="0"/>
                  </a:lnTo>
                  <a:lnTo>
                    <a:pt x="0" y="156"/>
                  </a:lnTo>
                  <a:lnTo>
                    <a:pt x="0" y="5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65"/>
            <p:cNvSpPr/>
            <p:nvPr/>
          </p:nvSpPr>
          <p:spPr>
            <a:xfrm>
              <a:off x="6273720" y="4601880"/>
              <a:ext cx="27000" cy="77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71" h="473">
                  <a:moveTo>
                    <a:pt x="0" y="409"/>
                  </a:moveTo>
                  <a:lnTo>
                    <a:pt x="6" y="409"/>
                  </a:lnTo>
                  <a:lnTo>
                    <a:pt x="22" y="409"/>
                  </a:lnTo>
                  <a:lnTo>
                    <a:pt x="46" y="410"/>
                  </a:lnTo>
                  <a:lnTo>
                    <a:pt x="73" y="414"/>
                  </a:lnTo>
                  <a:lnTo>
                    <a:pt x="87" y="417"/>
                  </a:lnTo>
                  <a:lnTo>
                    <a:pt x="102" y="421"/>
                  </a:lnTo>
                  <a:lnTo>
                    <a:pt x="116" y="427"/>
                  </a:lnTo>
                  <a:lnTo>
                    <a:pt x="130" y="432"/>
                  </a:lnTo>
                  <a:lnTo>
                    <a:pt x="142" y="441"/>
                  </a:lnTo>
                  <a:lnTo>
                    <a:pt x="153" y="450"/>
                  </a:lnTo>
                  <a:lnTo>
                    <a:pt x="158" y="455"/>
                  </a:lnTo>
                  <a:lnTo>
                    <a:pt x="163" y="460"/>
                  </a:lnTo>
                  <a:lnTo>
                    <a:pt x="167" y="466"/>
                  </a:lnTo>
                  <a:lnTo>
                    <a:pt x="171" y="473"/>
                  </a:lnTo>
                  <a:lnTo>
                    <a:pt x="171" y="64"/>
                  </a:lnTo>
                  <a:lnTo>
                    <a:pt x="167" y="57"/>
                  </a:lnTo>
                  <a:lnTo>
                    <a:pt x="163" y="52"/>
                  </a:lnTo>
                  <a:lnTo>
                    <a:pt x="158" y="46"/>
                  </a:lnTo>
                  <a:lnTo>
                    <a:pt x="153" y="41"/>
                  </a:lnTo>
                  <a:lnTo>
                    <a:pt x="142" y="32"/>
                  </a:lnTo>
                  <a:lnTo>
                    <a:pt x="130" y="24"/>
                  </a:lnTo>
                  <a:lnTo>
                    <a:pt x="116" y="18"/>
                  </a:lnTo>
                  <a:lnTo>
                    <a:pt x="102" y="12"/>
                  </a:lnTo>
                  <a:lnTo>
                    <a:pt x="87" y="8"/>
                  </a:lnTo>
                  <a:lnTo>
                    <a:pt x="73" y="5"/>
                  </a:lnTo>
                  <a:lnTo>
                    <a:pt x="46" y="1"/>
                  </a:lnTo>
                  <a:lnTo>
                    <a:pt x="2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66"/>
            <p:cNvSpPr/>
            <p:nvPr/>
          </p:nvSpPr>
          <p:spPr>
            <a:xfrm>
              <a:off x="6210360" y="4574880"/>
              <a:ext cx="20160" cy="723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131" h="441">
                  <a:moveTo>
                    <a:pt x="1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3" y="13"/>
                  </a:lnTo>
                  <a:lnTo>
                    <a:pt x="5" y="18"/>
                  </a:lnTo>
                  <a:lnTo>
                    <a:pt x="8" y="20"/>
                  </a:lnTo>
                  <a:lnTo>
                    <a:pt x="14" y="24"/>
                  </a:lnTo>
                  <a:lnTo>
                    <a:pt x="20" y="26"/>
                  </a:lnTo>
                  <a:lnTo>
                    <a:pt x="27" y="28"/>
                  </a:lnTo>
                  <a:lnTo>
                    <a:pt x="46" y="31"/>
                  </a:lnTo>
                  <a:lnTo>
                    <a:pt x="68" y="32"/>
                  </a:lnTo>
                  <a:lnTo>
                    <a:pt x="97" y="32"/>
                  </a:lnTo>
                  <a:lnTo>
                    <a:pt x="131" y="29"/>
                  </a:lnTo>
                  <a:lnTo>
                    <a:pt x="131" y="438"/>
                  </a:lnTo>
                  <a:lnTo>
                    <a:pt x="97" y="441"/>
                  </a:lnTo>
                  <a:lnTo>
                    <a:pt x="68" y="441"/>
                  </a:lnTo>
                  <a:lnTo>
                    <a:pt x="46" y="439"/>
                  </a:lnTo>
                  <a:lnTo>
                    <a:pt x="27" y="437"/>
                  </a:lnTo>
                  <a:lnTo>
                    <a:pt x="20" y="435"/>
                  </a:lnTo>
                  <a:lnTo>
                    <a:pt x="14" y="432"/>
                  </a:lnTo>
                  <a:lnTo>
                    <a:pt x="8" y="429"/>
                  </a:lnTo>
                  <a:lnTo>
                    <a:pt x="5" y="427"/>
                  </a:lnTo>
                  <a:lnTo>
                    <a:pt x="3" y="423"/>
                  </a:lnTo>
                  <a:lnTo>
                    <a:pt x="1" y="418"/>
                  </a:lnTo>
                  <a:lnTo>
                    <a:pt x="0" y="414"/>
                  </a:lnTo>
                  <a:lnTo>
                    <a:pt x="1" y="409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67"/>
            <p:cNvSpPr/>
            <p:nvPr/>
          </p:nvSpPr>
          <p:spPr>
            <a:xfrm>
              <a:off x="6242040" y="4583160"/>
              <a:ext cx="42840" cy="88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82" h="550">
                  <a:moveTo>
                    <a:pt x="282" y="0"/>
                  </a:moveTo>
                  <a:lnTo>
                    <a:pt x="281" y="7"/>
                  </a:lnTo>
                  <a:lnTo>
                    <a:pt x="280" y="15"/>
                  </a:lnTo>
                  <a:lnTo>
                    <a:pt x="277" y="22"/>
                  </a:lnTo>
                  <a:lnTo>
                    <a:pt x="273" y="30"/>
                  </a:lnTo>
                  <a:lnTo>
                    <a:pt x="268" y="39"/>
                  </a:lnTo>
                  <a:lnTo>
                    <a:pt x="263" y="46"/>
                  </a:lnTo>
                  <a:lnTo>
                    <a:pt x="257" y="53"/>
                  </a:lnTo>
                  <a:lnTo>
                    <a:pt x="250" y="58"/>
                  </a:lnTo>
                  <a:lnTo>
                    <a:pt x="243" y="64"/>
                  </a:lnTo>
                  <a:lnTo>
                    <a:pt x="237" y="69"/>
                  </a:lnTo>
                  <a:lnTo>
                    <a:pt x="230" y="72"/>
                  </a:lnTo>
                  <a:lnTo>
                    <a:pt x="224" y="75"/>
                  </a:lnTo>
                  <a:lnTo>
                    <a:pt x="218" y="75"/>
                  </a:lnTo>
                  <a:lnTo>
                    <a:pt x="214" y="74"/>
                  </a:lnTo>
                  <a:lnTo>
                    <a:pt x="210" y="71"/>
                  </a:lnTo>
                  <a:lnTo>
                    <a:pt x="207" y="65"/>
                  </a:lnTo>
                  <a:lnTo>
                    <a:pt x="205" y="62"/>
                  </a:lnTo>
                  <a:lnTo>
                    <a:pt x="203" y="60"/>
                  </a:lnTo>
                  <a:lnTo>
                    <a:pt x="202" y="58"/>
                  </a:lnTo>
                  <a:lnTo>
                    <a:pt x="198" y="58"/>
                  </a:lnTo>
                  <a:lnTo>
                    <a:pt x="193" y="60"/>
                  </a:lnTo>
                  <a:lnTo>
                    <a:pt x="186" y="65"/>
                  </a:lnTo>
                  <a:lnTo>
                    <a:pt x="167" y="82"/>
                  </a:lnTo>
                  <a:lnTo>
                    <a:pt x="143" y="103"/>
                  </a:lnTo>
                  <a:lnTo>
                    <a:pt x="132" y="113"/>
                  </a:lnTo>
                  <a:lnTo>
                    <a:pt x="118" y="123"/>
                  </a:lnTo>
                  <a:lnTo>
                    <a:pt x="104" y="131"/>
                  </a:lnTo>
                  <a:lnTo>
                    <a:pt x="89" y="138"/>
                  </a:lnTo>
                  <a:lnTo>
                    <a:pt x="80" y="139"/>
                  </a:lnTo>
                  <a:lnTo>
                    <a:pt x="72" y="140"/>
                  </a:lnTo>
                  <a:lnTo>
                    <a:pt x="65" y="141"/>
                  </a:lnTo>
                  <a:lnTo>
                    <a:pt x="57" y="140"/>
                  </a:lnTo>
                  <a:lnTo>
                    <a:pt x="48" y="139"/>
                  </a:lnTo>
                  <a:lnTo>
                    <a:pt x="40" y="136"/>
                  </a:lnTo>
                  <a:lnTo>
                    <a:pt x="31" y="132"/>
                  </a:lnTo>
                  <a:lnTo>
                    <a:pt x="23" y="126"/>
                  </a:lnTo>
                  <a:lnTo>
                    <a:pt x="17" y="123"/>
                  </a:lnTo>
                  <a:lnTo>
                    <a:pt x="11" y="118"/>
                  </a:lnTo>
                  <a:lnTo>
                    <a:pt x="8" y="113"/>
                  </a:lnTo>
                  <a:lnTo>
                    <a:pt x="4" y="109"/>
                  </a:lnTo>
                  <a:lnTo>
                    <a:pt x="2" y="105"/>
                  </a:lnTo>
                  <a:lnTo>
                    <a:pt x="1" y="100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0" y="501"/>
                  </a:lnTo>
                  <a:lnTo>
                    <a:pt x="0" y="506"/>
                  </a:lnTo>
                  <a:lnTo>
                    <a:pt x="1" y="510"/>
                  </a:lnTo>
                  <a:lnTo>
                    <a:pt x="2" y="515"/>
                  </a:lnTo>
                  <a:lnTo>
                    <a:pt x="4" y="520"/>
                  </a:lnTo>
                  <a:lnTo>
                    <a:pt x="8" y="523"/>
                  </a:lnTo>
                  <a:lnTo>
                    <a:pt x="11" y="528"/>
                  </a:lnTo>
                  <a:lnTo>
                    <a:pt x="17" y="532"/>
                  </a:lnTo>
                  <a:lnTo>
                    <a:pt x="23" y="535"/>
                  </a:lnTo>
                  <a:lnTo>
                    <a:pt x="31" y="541"/>
                  </a:lnTo>
                  <a:lnTo>
                    <a:pt x="40" y="544"/>
                  </a:lnTo>
                  <a:lnTo>
                    <a:pt x="48" y="548"/>
                  </a:lnTo>
                  <a:lnTo>
                    <a:pt x="57" y="549"/>
                  </a:lnTo>
                  <a:lnTo>
                    <a:pt x="65" y="550"/>
                  </a:lnTo>
                  <a:lnTo>
                    <a:pt x="72" y="549"/>
                  </a:lnTo>
                  <a:lnTo>
                    <a:pt x="80" y="548"/>
                  </a:lnTo>
                  <a:lnTo>
                    <a:pt x="89" y="547"/>
                  </a:lnTo>
                  <a:lnTo>
                    <a:pt x="104" y="541"/>
                  </a:lnTo>
                  <a:lnTo>
                    <a:pt x="118" y="532"/>
                  </a:lnTo>
                  <a:lnTo>
                    <a:pt x="132" y="522"/>
                  </a:lnTo>
                  <a:lnTo>
                    <a:pt x="143" y="512"/>
                  </a:lnTo>
                  <a:lnTo>
                    <a:pt x="167" y="491"/>
                  </a:lnTo>
                  <a:lnTo>
                    <a:pt x="186" y="474"/>
                  </a:lnTo>
                  <a:lnTo>
                    <a:pt x="193" y="468"/>
                  </a:lnTo>
                  <a:lnTo>
                    <a:pt x="198" y="467"/>
                  </a:lnTo>
                  <a:lnTo>
                    <a:pt x="202" y="467"/>
                  </a:lnTo>
                  <a:lnTo>
                    <a:pt x="203" y="468"/>
                  </a:lnTo>
                  <a:lnTo>
                    <a:pt x="205" y="471"/>
                  </a:lnTo>
                  <a:lnTo>
                    <a:pt x="207" y="475"/>
                  </a:lnTo>
                  <a:lnTo>
                    <a:pt x="210" y="480"/>
                  </a:lnTo>
                  <a:lnTo>
                    <a:pt x="214" y="484"/>
                  </a:lnTo>
                  <a:lnTo>
                    <a:pt x="218" y="485"/>
                  </a:lnTo>
                  <a:lnTo>
                    <a:pt x="224" y="485"/>
                  </a:lnTo>
                  <a:lnTo>
                    <a:pt x="230" y="482"/>
                  </a:lnTo>
                  <a:lnTo>
                    <a:pt x="237" y="479"/>
                  </a:lnTo>
                  <a:lnTo>
                    <a:pt x="243" y="474"/>
                  </a:lnTo>
                  <a:lnTo>
                    <a:pt x="250" y="468"/>
                  </a:lnTo>
                  <a:lnTo>
                    <a:pt x="257" y="463"/>
                  </a:lnTo>
                  <a:lnTo>
                    <a:pt x="263" y="456"/>
                  </a:lnTo>
                  <a:lnTo>
                    <a:pt x="268" y="447"/>
                  </a:lnTo>
                  <a:lnTo>
                    <a:pt x="273" y="439"/>
                  </a:lnTo>
                  <a:lnTo>
                    <a:pt x="277" y="432"/>
                  </a:lnTo>
                  <a:lnTo>
                    <a:pt x="280" y="424"/>
                  </a:lnTo>
                  <a:lnTo>
                    <a:pt x="281" y="416"/>
                  </a:lnTo>
                  <a:lnTo>
                    <a:pt x="282" y="409"/>
                  </a:lnTo>
                  <a:lnTo>
                    <a:pt x="28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68"/>
            <p:cNvSpPr/>
            <p:nvPr/>
          </p:nvSpPr>
          <p:spPr>
            <a:xfrm>
              <a:off x="6300720" y="4603680"/>
              <a:ext cx="34200" cy="788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489">
                  <a:moveTo>
                    <a:pt x="0" y="475"/>
                  </a:moveTo>
                  <a:lnTo>
                    <a:pt x="2" y="477"/>
                  </a:lnTo>
                  <a:lnTo>
                    <a:pt x="5" y="480"/>
                  </a:lnTo>
                  <a:lnTo>
                    <a:pt x="7" y="482"/>
                  </a:lnTo>
                  <a:lnTo>
                    <a:pt x="12" y="483"/>
                  </a:lnTo>
                  <a:lnTo>
                    <a:pt x="21" y="486"/>
                  </a:lnTo>
                  <a:lnTo>
                    <a:pt x="32" y="488"/>
                  </a:lnTo>
                  <a:lnTo>
                    <a:pt x="45" y="489"/>
                  </a:lnTo>
                  <a:lnTo>
                    <a:pt x="60" y="489"/>
                  </a:lnTo>
                  <a:lnTo>
                    <a:pt x="75" y="489"/>
                  </a:lnTo>
                  <a:lnTo>
                    <a:pt x="90" y="488"/>
                  </a:lnTo>
                  <a:lnTo>
                    <a:pt x="106" y="486"/>
                  </a:lnTo>
                  <a:lnTo>
                    <a:pt x="123" y="483"/>
                  </a:lnTo>
                  <a:lnTo>
                    <a:pt x="139" y="480"/>
                  </a:lnTo>
                  <a:lnTo>
                    <a:pt x="154" y="476"/>
                  </a:lnTo>
                  <a:lnTo>
                    <a:pt x="168" y="472"/>
                  </a:lnTo>
                  <a:lnTo>
                    <a:pt x="181" y="468"/>
                  </a:lnTo>
                  <a:lnTo>
                    <a:pt x="193" y="462"/>
                  </a:lnTo>
                  <a:lnTo>
                    <a:pt x="202" y="458"/>
                  </a:lnTo>
                  <a:lnTo>
                    <a:pt x="210" y="452"/>
                  </a:lnTo>
                  <a:lnTo>
                    <a:pt x="216" y="446"/>
                  </a:lnTo>
                  <a:lnTo>
                    <a:pt x="222" y="440"/>
                  </a:lnTo>
                  <a:lnTo>
                    <a:pt x="227" y="434"/>
                  </a:lnTo>
                  <a:lnTo>
                    <a:pt x="230" y="427"/>
                  </a:lnTo>
                  <a:lnTo>
                    <a:pt x="231" y="421"/>
                  </a:lnTo>
                  <a:lnTo>
                    <a:pt x="234" y="414"/>
                  </a:lnTo>
                  <a:lnTo>
                    <a:pt x="234" y="409"/>
                  </a:lnTo>
                  <a:lnTo>
                    <a:pt x="234" y="0"/>
                  </a:lnTo>
                  <a:lnTo>
                    <a:pt x="234" y="6"/>
                  </a:lnTo>
                  <a:lnTo>
                    <a:pt x="231" y="13"/>
                  </a:lnTo>
                  <a:lnTo>
                    <a:pt x="230" y="18"/>
                  </a:lnTo>
                  <a:lnTo>
                    <a:pt x="227" y="25"/>
                  </a:lnTo>
                  <a:lnTo>
                    <a:pt x="222" y="31"/>
                  </a:lnTo>
                  <a:lnTo>
                    <a:pt x="216" y="37"/>
                  </a:lnTo>
                  <a:lnTo>
                    <a:pt x="210" y="43"/>
                  </a:lnTo>
                  <a:lnTo>
                    <a:pt x="202" y="49"/>
                  </a:lnTo>
                  <a:lnTo>
                    <a:pt x="193" y="53"/>
                  </a:lnTo>
                  <a:lnTo>
                    <a:pt x="181" y="58"/>
                  </a:lnTo>
                  <a:lnTo>
                    <a:pt x="168" y="62"/>
                  </a:lnTo>
                  <a:lnTo>
                    <a:pt x="154" y="66"/>
                  </a:lnTo>
                  <a:lnTo>
                    <a:pt x="139" y="70"/>
                  </a:lnTo>
                  <a:lnTo>
                    <a:pt x="123" y="72"/>
                  </a:lnTo>
                  <a:lnTo>
                    <a:pt x="106" y="76"/>
                  </a:lnTo>
                  <a:lnTo>
                    <a:pt x="90" y="77"/>
                  </a:lnTo>
                  <a:lnTo>
                    <a:pt x="75" y="78"/>
                  </a:lnTo>
                  <a:lnTo>
                    <a:pt x="60" y="79"/>
                  </a:lnTo>
                  <a:lnTo>
                    <a:pt x="45" y="79"/>
                  </a:lnTo>
                  <a:lnTo>
                    <a:pt x="32" y="78"/>
                  </a:lnTo>
                  <a:lnTo>
                    <a:pt x="21" y="76"/>
                  </a:lnTo>
                  <a:lnTo>
                    <a:pt x="12" y="72"/>
                  </a:lnTo>
                  <a:lnTo>
                    <a:pt x="7" y="70"/>
                  </a:lnTo>
                  <a:lnTo>
                    <a:pt x="5" y="69"/>
                  </a:lnTo>
                  <a:lnTo>
                    <a:pt x="2" y="65"/>
                  </a:lnTo>
                  <a:lnTo>
                    <a:pt x="0" y="63"/>
                  </a:lnTo>
                  <a:lnTo>
                    <a:pt x="0" y="4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69"/>
            <p:cNvSpPr/>
            <p:nvPr/>
          </p:nvSpPr>
          <p:spPr>
            <a:xfrm>
              <a:off x="6262920" y="4731120"/>
              <a:ext cx="7920" cy="820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60" h="507">
                  <a:moveTo>
                    <a:pt x="0" y="0"/>
                  </a:moveTo>
                  <a:lnTo>
                    <a:pt x="1" y="11"/>
                  </a:lnTo>
                  <a:lnTo>
                    <a:pt x="2" y="21"/>
                  </a:lnTo>
                  <a:lnTo>
                    <a:pt x="4" y="31"/>
                  </a:lnTo>
                  <a:lnTo>
                    <a:pt x="7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6" y="62"/>
                  </a:lnTo>
                  <a:lnTo>
                    <a:pt x="19" y="68"/>
                  </a:lnTo>
                  <a:lnTo>
                    <a:pt x="24" y="74"/>
                  </a:lnTo>
                  <a:lnTo>
                    <a:pt x="28" y="80"/>
                  </a:lnTo>
                  <a:lnTo>
                    <a:pt x="32" y="85"/>
                  </a:lnTo>
                  <a:lnTo>
                    <a:pt x="38" y="88"/>
                  </a:lnTo>
                  <a:lnTo>
                    <a:pt x="49" y="95"/>
                  </a:lnTo>
                  <a:lnTo>
                    <a:pt x="60" y="99"/>
                  </a:lnTo>
                  <a:lnTo>
                    <a:pt x="60" y="507"/>
                  </a:lnTo>
                  <a:lnTo>
                    <a:pt x="55" y="506"/>
                  </a:lnTo>
                  <a:lnTo>
                    <a:pt x="49" y="504"/>
                  </a:lnTo>
                  <a:lnTo>
                    <a:pt x="43" y="502"/>
                  </a:lnTo>
                  <a:lnTo>
                    <a:pt x="38" y="498"/>
                  </a:lnTo>
                  <a:lnTo>
                    <a:pt x="32" y="495"/>
                  </a:lnTo>
                  <a:lnTo>
                    <a:pt x="28" y="490"/>
                  </a:lnTo>
                  <a:lnTo>
                    <a:pt x="24" y="484"/>
                  </a:lnTo>
                  <a:lnTo>
                    <a:pt x="19" y="478"/>
                  </a:lnTo>
                  <a:lnTo>
                    <a:pt x="16" y="472"/>
                  </a:lnTo>
                  <a:lnTo>
                    <a:pt x="12" y="465"/>
                  </a:lnTo>
                  <a:lnTo>
                    <a:pt x="9" y="457"/>
                  </a:lnTo>
                  <a:lnTo>
                    <a:pt x="7" y="449"/>
                  </a:lnTo>
                  <a:lnTo>
                    <a:pt x="2" y="430"/>
                  </a:lnTo>
                  <a:lnTo>
                    <a:pt x="0" y="41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Freeform 70"/>
            <p:cNvSpPr/>
            <p:nvPr/>
          </p:nvSpPr>
          <p:spPr>
            <a:xfrm>
              <a:off x="6247080" y="4606920"/>
              <a:ext cx="34200" cy="788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487">
                  <a:moveTo>
                    <a:pt x="230" y="0"/>
                  </a:moveTo>
                  <a:lnTo>
                    <a:pt x="231" y="2"/>
                  </a:lnTo>
                  <a:lnTo>
                    <a:pt x="232" y="4"/>
                  </a:lnTo>
                  <a:lnTo>
                    <a:pt x="234" y="6"/>
                  </a:lnTo>
                  <a:lnTo>
                    <a:pt x="234" y="9"/>
                  </a:lnTo>
                  <a:lnTo>
                    <a:pt x="232" y="14"/>
                  </a:lnTo>
                  <a:lnTo>
                    <a:pt x="228" y="20"/>
                  </a:lnTo>
                  <a:lnTo>
                    <a:pt x="222" y="26"/>
                  </a:lnTo>
                  <a:lnTo>
                    <a:pt x="215" y="33"/>
                  </a:lnTo>
                  <a:lnTo>
                    <a:pt x="206" y="39"/>
                  </a:lnTo>
                  <a:lnTo>
                    <a:pt x="194" y="46"/>
                  </a:lnTo>
                  <a:lnTo>
                    <a:pt x="181" y="52"/>
                  </a:lnTo>
                  <a:lnTo>
                    <a:pt x="167" y="58"/>
                  </a:lnTo>
                  <a:lnTo>
                    <a:pt x="152" y="63"/>
                  </a:lnTo>
                  <a:lnTo>
                    <a:pt x="136" y="68"/>
                  </a:lnTo>
                  <a:lnTo>
                    <a:pt x="119" y="73"/>
                  </a:lnTo>
                  <a:lnTo>
                    <a:pt x="100" y="75"/>
                  </a:lnTo>
                  <a:lnTo>
                    <a:pt x="82" y="77"/>
                  </a:lnTo>
                  <a:lnTo>
                    <a:pt x="63" y="79"/>
                  </a:lnTo>
                  <a:lnTo>
                    <a:pt x="36" y="77"/>
                  </a:lnTo>
                  <a:lnTo>
                    <a:pt x="19" y="74"/>
                  </a:lnTo>
                  <a:lnTo>
                    <a:pt x="12" y="73"/>
                  </a:lnTo>
                  <a:lnTo>
                    <a:pt x="6" y="70"/>
                  </a:lnTo>
                  <a:lnTo>
                    <a:pt x="2" y="68"/>
                  </a:lnTo>
                  <a:lnTo>
                    <a:pt x="0" y="67"/>
                  </a:lnTo>
                  <a:lnTo>
                    <a:pt x="0" y="476"/>
                  </a:lnTo>
                  <a:lnTo>
                    <a:pt x="2" y="478"/>
                  </a:lnTo>
                  <a:lnTo>
                    <a:pt x="6" y="480"/>
                  </a:lnTo>
                  <a:lnTo>
                    <a:pt x="12" y="483"/>
                  </a:lnTo>
                  <a:lnTo>
                    <a:pt x="19" y="484"/>
                  </a:lnTo>
                  <a:lnTo>
                    <a:pt x="36" y="486"/>
                  </a:lnTo>
                  <a:lnTo>
                    <a:pt x="63" y="487"/>
                  </a:lnTo>
                  <a:lnTo>
                    <a:pt x="82" y="486"/>
                  </a:lnTo>
                  <a:lnTo>
                    <a:pt x="100" y="484"/>
                  </a:lnTo>
                  <a:lnTo>
                    <a:pt x="119" y="482"/>
                  </a:lnTo>
                  <a:lnTo>
                    <a:pt x="136" y="477"/>
                  </a:lnTo>
                  <a:lnTo>
                    <a:pt x="152" y="472"/>
                  </a:lnTo>
                  <a:lnTo>
                    <a:pt x="167" y="466"/>
                  </a:lnTo>
                  <a:lnTo>
                    <a:pt x="181" y="461"/>
                  </a:lnTo>
                  <a:lnTo>
                    <a:pt x="194" y="455"/>
                  </a:lnTo>
                  <a:lnTo>
                    <a:pt x="206" y="448"/>
                  </a:lnTo>
                  <a:lnTo>
                    <a:pt x="215" y="442"/>
                  </a:lnTo>
                  <a:lnTo>
                    <a:pt x="222" y="435"/>
                  </a:lnTo>
                  <a:lnTo>
                    <a:pt x="228" y="429"/>
                  </a:lnTo>
                  <a:lnTo>
                    <a:pt x="232" y="423"/>
                  </a:lnTo>
                  <a:lnTo>
                    <a:pt x="234" y="417"/>
                  </a:lnTo>
                  <a:lnTo>
                    <a:pt x="234" y="415"/>
                  </a:lnTo>
                  <a:lnTo>
                    <a:pt x="232" y="413"/>
                  </a:lnTo>
                  <a:lnTo>
                    <a:pt x="231" y="412"/>
                  </a:lnTo>
                  <a:lnTo>
                    <a:pt x="230" y="409"/>
                  </a:lnTo>
                  <a:lnTo>
                    <a:pt x="23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71"/>
            <p:cNvSpPr/>
            <p:nvPr/>
          </p:nvSpPr>
          <p:spPr>
            <a:xfrm>
              <a:off x="6337080" y="4670640"/>
              <a:ext cx="25200" cy="10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67" h="631">
                  <a:moveTo>
                    <a:pt x="0" y="222"/>
                  </a:moveTo>
                  <a:lnTo>
                    <a:pt x="16" y="214"/>
                  </a:lnTo>
                  <a:lnTo>
                    <a:pt x="31" y="204"/>
                  </a:lnTo>
                  <a:lnTo>
                    <a:pt x="46" y="193"/>
                  </a:lnTo>
                  <a:lnTo>
                    <a:pt x="62" y="180"/>
                  </a:lnTo>
                  <a:lnTo>
                    <a:pt x="76" y="166"/>
                  </a:lnTo>
                  <a:lnTo>
                    <a:pt x="90" y="151"/>
                  </a:lnTo>
                  <a:lnTo>
                    <a:pt x="102" y="136"/>
                  </a:lnTo>
                  <a:lnTo>
                    <a:pt x="114" y="119"/>
                  </a:lnTo>
                  <a:lnTo>
                    <a:pt x="126" y="103"/>
                  </a:lnTo>
                  <a:lnTo>
                    <a:pt x="135" y="86"/>
                  </a:lnTo>
                  <a:lnTo>
                    <a:pt x="144" y="70"/>
                  </a:lnTo>
                  <a:lnTo>
                    <a:pt x="151" y="54"/>
                  </a:lnTo>
                  <a:lnTo>
                    <a:pt x="157" y="39"/>
                  </a:lnTo>
                  <a:lnTo>
                    <a:pt x="162" y="25"/>
                  </a:lnTo>
                  <a:lnTo>
                    <a:pt x="165" y="12"/>
                  </a:lnTo>
                  <a:lnTo>
                    <a:pt x="167" y="0"/>
                  </a:lnTo>
                  <a:lnTo>
                    <a:pt x="167" y="404"/>
                  </a:lnTo>
                  <a:lnTo>
                    <a:pt x="167" y="415"/>
                  </a:lnTo>
                  <a:lnTo>
                    <a:pt x="164" y="428"/>
                  </a:lnTo>
                  <a:lnTo>
                    <a:pt x="160" y="442"/>
                  </a:lnTo>
                  <a:lnTo>
                    <a:pt x="155" y="457"/>
                  </a:lnTo>
                  <a:lnTo>
                    <a:pt x="148" y="473"/>
                  </a:lnTo>
                  <a:lnTo>
                    <a:pt x="140" y="489"/>
                  </a:lnTo>
                  <a:lnTo>
                    <a:pt x="129" y="507"/>
                  </a:lnTo>
                  <a:lnTo>
                    <a:pt x="119" y="524"/>
                  </a:lnTo>
                  <a:lnTo>
                    <a:pt x="107" y="541"/>
                  </a:lnTo>
                  <a:lnTo>
                    <a:pt x="93" y="557"/>
                  </a:lnTo>
                  <a:lnTo>
                    <a:pt x="80" y="572"/>
                  </a:lnTo>
                  <a:lnTo>
                    <a:pt x="65" y="588"/>
                  </a:lnTo>
                  <a:lnTo>
                    <a:pt x="50" y="602"/>
                  </a:lnTo>
                  <a:lnTo>
                    <a:pt x="33" y="613"/>
                  </a:lnTo>
                  <a:lnTo>
                    <a:pt x="17" y="623"/>
                  </a:lnTo>
                  <a:lnTo>
                    <a:pt x="0" y="631"/>
                  </a:lnTo>
                  <a:lnTo>
                    <a:pt x="0" y="22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72"/>
            <p:cNvSpPr/>
            <p:nvPr/>
          </p:nvSpPr>
          <p:spPr>
            <a:xfrm>
              <a:off x="6272280" y="4719600"/>
              <a:ext cx="25200" cy="91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7" h="559">
                  <a:moveTo>
                    <a:pt x="0" y="146"/>
                  </a:moveTo>
                  <a:lnTo>
                    <a:pt x="12" y="147"/>
                  </a:lnTo>
                  <a:lnTo>
                    <a:pt x="23" y="146"/>
                  </a:lnTo>
                  <a:lnTo>
                    <a:pt x="36" y="144"/>
                  </a:lnTo>
                  <a:lnTo>
                    <a:pt x="48" y="138"/>
                  </a:lnTo>
                  <a:lnTo>
                    <a:pt x="59" y="131"/>
                  </a:lnTo>
                  <a:lnTo>
                    <a:pt x="71" y="120"/>
                  </a:lnTo>
                  <a:lnTo>
                    <a:pt x="76" y="114"/>
                  </a:lnTo>
                  <a:lnTo>
                    <a:pt x="80" y="109"/>
                  </a:lnTo>
                  <a:lnTo>
                    <a:pt x="85" y="102"/>
                  </a:lnTo>
                  <a:lnTo>
                    <a:pt x="89" y="95"/>
                  </a:lnTo>
                  <a:lnTo>
                    <a:pt x="97" y="79"/>
                  </a:lnTo>
                  <a:lnTo>
                    <a:pt x="106" y="65"/>
                  </a:lnTo>
                  <a:lnTo>
                    <a:pt x="116" y="51"/>
                  </a:lnTo>
                  <a:lnTo>
                    <a:pt x="125" y="40"/>
                  </a:lnTo>
                  <a:lnTo>
                    <a:pt x="135" y="28"/>
                  </a:lnTo>
                  <a:lnTo>
                    <a:pt x="145" y="19"/>
                  </a:lnTo>
                  <a:lnTo>
                    <a:pt x="155" y="8"/>
                  </a:lnTo>
                  <a:lnTo>
                    <a:pt x="167" y="0"/>
                  </a:lnTo>
                  <a:lnTo>
                    <a:pt x="167" y="411"/>
                  </a:lnTo>
                  <a:lnTo>
                    <a:pt x="155" y="420"/>
                  </a:lnTo>
                  <a:lnTo>
                    <a:pt x="145" y="430"/>
                  </a:lnTo>
                  <a:lnTo>
                    <a:pt x="135" y="440"/>
                  </a:lnTo>
                  <a:lnTo>
                    <a:pt x="125" y="452"/>
                  </a:lnTo>
                  <a:lnTo>
                    <a:pt x="116" y="464"/>
                  </a:lnTo>
                  <a:lnTo>
                    <a:pt x="106" y="476"/>
                  </a:lnTo>
                  <a:lnTo>
                    <a:pt x="97" y="490"/>
                  </a:lnTo>
                  <a:lnTo>
                    <a:pt x="89" y="507"/>
                  </a:lnTo>
                  <a:lnTo>
                    <a:pt x="85" y="514"/>
                  </a:lnTo>
                  <a:lnTo>
                    <a:pt x="80" y="521"/>
                  </a:lnTo>
                  <a:lnTo>
                    <a:pt x="76" y="527"/>
                  </a:lnTo>
                  <a:lnTo>
                    <a:pt x="71" y="533"/>
                  </a:lnTo>
                  <a:lnTo>
                    <a:pt x="59" y="542"/>
                  </a:lnTo>
                  <a:lnTo>
                    <a:pt x="48" y="550"/>
                  </a:lnTo>
                  <a:lnTo>
                    <a:pt x="36" y="555"/>
                  </a:lnTo>
                  <a:lnTo>
                    <a:pt x="23" y="558"/>
                  </a:lnTo>
                  <a:lnTo>
                    <a:pt x="12" y="559"/>
                  </a:lnTo>
                  <a:lnTo>
                    <a:pt x="0" y="558"/>
                  </a:lnTo>
                  <a:lnTo>
                    <a:pt x="0" y="14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Freeform 73"/>
            <p:cNvSpPr/>
            <p:nvPr/>
          </p:nvSpPr>
          <p:spPr>
            <a:xfrm>
              <a:off x="6299280" y="4704120"/>
              <a:ext cx="39600" cy="82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62" h="501">
                  <a:moveTo>
                    <a:pt x="0" y="90"/>
                  </a:moveTo>
                  <a:lnTo>
                    <a:pt x="15" y="79"/>
                  </a:lnTo>
                  <a:lnTo>
                    <a:pt x="31" y="69"/>
                  </a:lnTo>
                  <a:lnTo>
                    <a:pt x="48" y="61"/>
                  </a:lnTo>
                  <a:lnTo>
                    <a:pt x="64" y="54"/>
                  </a:lnTo>
                  <a:lnTo>
                    <a:pt x="82" y="48"/>
                  </a:lnTo>
                  <a:lnTo>
                    <a:pt x="98" y="43"/>
                  </a:lnTo>
                  <a:lnTo>
                    <a:pt x="114" y="39"/>
                  </a:lnTo>
                  <a:lnTo>
                    <a:pt x="132" y="34"/>
                  </a:lnTo>
                  <a:lnTo>
                    <a:pt x="166" y="27"/>
                  </a:lnTo>
                  <a:lnTo>
                    <a:pt x="199" y="20"/>
                  </a:lnTo>
                  <a:lnTo>
                    <a:pt x="215" y="17"/>
                  </a:lnTo>
                  <a:lnTo>
                    <a:pt x="231" y="12"/>
                  </a:lnTo>
                  <a:lnTo>
                    <a:pt x="246" y="7"/>
                  </a:lnTo>
                  <a:lnTo>
                    <a:pt x="262" y="0"/>
                  </a:lnTo>
                  <a:lnTo>
                    <a:pt x="262" y="410"/>
                  </a:lnTo>
                  <a:lnTo>
                    <a:pt x="242" y="417"/>
                  </a:lnTo>
                  <a:lnTo>
                    <a:pt x="222" y="425"/>
                  </a:lnTo>
                  <a:lnTo>
                    <a:pt x="203" y="431"/>
                  </a:lnTo>
                  <a:lnTo>
                    <a:pt x="185" y="437"/>
                  </a:lnTo>
                  <a:lnTo>
                    <a:pt x="148" y="446"/>
                  </a:lnTo>
                  <a:lnTo>
                    <a:pt x="113" y="456"/>
                  </a:lnTo>
                  <a:lnTo>
                    <a:pt x="82" y="465"/>
                  </a:lnTo>
                  <a:lnTo>
                    <a:pt x="51" y="475"/>
                  </a:lnTo>
                  <a:lnTo>
                    <a:pt x="37" y="480"/>
                  </a:lnTo>
                  <a:lnTo>
                    <a:pt x="24" y="486"/>
                  </a:lnTo>
                  <a:lnTo>
                    <a:pt x="12" y="493"/>
                  </a:lnTo>
                  <a:lnTo>
                    <a:pt x="0" y="501"/>
                  </a:lnTo>
                  <a:lnTo>
                    <a:pt x="0" y="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Freeform 74"/>
            <p:cNvSpPr/>
            <p:nvPr/>
          </p:nvSpPr>
          <p:spPr>
            <a:xfrm>
              <a:off x="6136920" y="4549680"/>
              <a:ext cx="10800" cy="69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1" h="423">
                  <a:moveTo>
                    <a:pt x="0" y="409"/>
                  </a:moveTo>
                  <a:lnTo>
                    <a:pt x="1" y="413"/>
                  </a:lnTo>
                  <a:lnTo>
                    <a:pt x="6" y="416"/>
                  </a:lnTo>
                  <a:lnTo>
                    <a:pt x="11" y="418"/>
                  </a:lnTo>
                  <a:lnTo>
                    <a:pt x="20" y="421"/>
                  </a:lnTo>
                  <a:lnTo>
                    <a:pt x="29" y="422"/>
                  </a:lnTo>
                  <a:lnTo>
                    <a:pt x="41" y="423"/>
                  </a:lnTo>
                  <a:lnTo>
                    <a:pt x="55" y="422"/>
                  </a:lnTo>
                  <a:lnTo>
                    <a:pt x="71" y="421"/>
                  </a:lnTo>
                  <a:lnTo>
                    <a:pt x="71" y="11"/>
                  </a:lnTo>
                  <a:lnTo>
                    <a:pt x="55" y="13"/>
                  </a:lnTo>
                  <a:lnTo>
                    <a:pt x="41" y="13"/>
                  </a:lnTo>
                  <a:lnTo>
                    <a:pt x="29" y="13"/>
                  </a:lnTo>
                  <a:lnTo>
                    <a:pt x="20" y="12"/>
                  </a:lnTo>
                  <a:lnTo>
                    <a:pt x="11" y="10"/>
                  </a:lnTo>
                  <a:lnTo>
                    <a:pt x="6" y="7"/>
                  </a:lnTo>
                  <a:lnTo>
                    <a:pt x="1" y="4"/>
                  </a:lnTo>
                  <a:lnTo>
                    <a:pt x="0" y="0"/>
                  </a:lnTo>
                  <a:lnTo>
                    <a:pt x="0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75"/>
            <p:cNvSpPr/>
            <p:nvPr/>
          </p:nvSpPr>
          <p:spPr>
            <a:xfrm>
              <a:off x="6167160" y="4541400"/>
              <a:ext cx="12600" cy="77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92" h="473">
                  <a:moveTo>
                    <a:pt x="0" y="470"/>
                  </a:moveTo>
                  <a:lnTo>
                    <a:pt x="21" y="472"/>
                  </a:lnTo>
                  <a:lnTo>
                    <a:pt x="38" y="473"/>
                  </a:lnTo>
                  <a:lnTo>
                    <a:pt x="45" y="473"/>
                  </a:lnTo>
                  <a:lnTo>
                    <a:pt x="52" y="473"/>
                  </a:lnTo>
                  <a:lnTo>
                    <a:pt x="59" y="472"/>
                  </a:lnTo>
                  <a:lnTo>
                    <a:pt x="66" y="470"/>
                  </a:lnTo>
                  <a:lnTo>
                    <a:pt x="70" y="466"/>
                  </a:lnTo>
                  <a:lnTo>
                    <a:pt x="74" y="462"/>
                  </a:lnTo>
                  <a:lnTo>
                    <a:pt x="78" y="456"/>
                  </a:lnTo>
                  <a:lnTo>
                    <a:pt x="81" y="448"/>
                  </a:lnTo>
                  <a:lnTo>
                    <a:pt x="85" y="439"/>
                  </a:lnTo>
                  <a:lnTo>
                    <a:pt x="88" y="430"/>
                  </a:lnTo>
                  <a:lnTo>
                    <a:pt x="89" y="420"/>
                  </a:lnTo>
                  <a:lnTo>
                    <a:pt x="92" y="409"/>
                  </a:lnTo>
                  <a:lnTo>
                    <a:pt x="92" y="0"/>
                  </a:lnTo>
                  <a:lnTo>
                    <a:pt x="89" y="10"/>
                  </a:lnTo>
                  <a:lnTo>
                    <a:pt x="88" y="19"/>
                  </a:lnTo>
                  <a:lnTo>
                    <a:pt x="85" y="29"/>
                  </a:lnTo>
                  <a:lnTo>
                    <a:pt x="81" y="38"/>
                  </a:lnTo>
                  <a:lnTo>
                    <a:pt x="78" y="46"/>
                  </a:lnTo>
                  <a:lnTo>
                    <a:pt x="74" y="52"/>
                  </a:lnTo>
                  <a:lnTo>
                    <a:pt x="70" y="57"/>
                  </a:lnTo>
                  <a:lnTo>
                    <a:pt x="66" y="60"/>
                  </a:lnTo>
                  <a:lnTo>
                    <a:pt x="59" y="63"/>
                  </a:lnTo>
                  <a:lnTo>
                    <a:pt x="52" y="64"/>
                  </a:lnTo>
                  <a:lnTo>
                    <a:pt x="45" y="64"/>
                  </a:lnTo>
                  <a:lnTo>
                    <a:pt x="38" y="64"/>
                  </a:lnTo>
                  <a:lnTo>
                    <a:pt x="21" y="63"/>
                  </a:lnTo>
                  <a:lnTo>
                    <a:pt x="0" y="60"/>
                  </a:lnTo>
                  <a:lnTo>
                    <a:pt x="0" y="47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76"/>
            <p:cNvSpPr/>
            <p:nvPr/>
          </p:nvSpPr>
          <p:spPr>
            <a:xfrm>
              <a:off x="6096240" y="4571640"/>
              <a:ext cx="15480" cy="698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8" h="426">
                  <a:moveTo>
                    <a:pt x="0" y="410"/>
                  </a:moveTo>
                  <a:lnTo>
                    <a:pt x="1" y="412"/>
                  </a:lnTo>
                  <a:lnTo>
                    <a:pt x="1" y="415"/>
                  </a:lnTo>
                  <a:lnTo>
                    <a:pt x="3" y="418"/>
                  </a:lnTo>
                  <a:lnTo>
                    <a:pt x="5" y="420"/>
                  </a:lnTo>
                  <a:lnTo>
                    <a:pt x="10" y="424"/>
                  </a:lnTo>
                  <a:lnTo>
                    <a:pt x="15" y="425"/>
                  </a:lnTo>
                  <a:lnTo>
                    <a:pt x="24" y="426"/>
                  </a:lnTo>
                  <a:lnTo>
                    <a:pt x="32" y="426"/>
                  </a:lnTo>
                  <a:lnTo>
                    <a:pt x="40" y="425"/>
                  </a:lnTo>
                  <a:lnTo>
                    <a:pt x="49" y="424"/>
                  </a:lnTo>
                  <a:lnTo>
                    <a:pt x="83" y="414"/>
                  </a:lnTo>
                  <a:lnTo>
                    <a:pt x="98" y="410"/>
                  </a:lnTo>
                  <a:lnTo>
                    <a:pt x="98" y="0"/>
                  </a:lnTo>
                  <a:lnTo>
                    <a:pt x="83" y="5"/>
                  </a:lnTo>
                  <a:lnTo>
                    <a:pt x="49" y="14"/>
                  </a:lnTo>
                  <a:lnTo>
                    <a:pt x="40" y="15"/>
                  </a:lnTo>
                  <a:lnTo>
                    <a:pt x="32" y="15"/>
                  </a:lnTo>
                  <a:lnTo>
                    <a:pt x="24" y="16"/>
                  </a:lnTo>
                  <a:lnTo>
                    <a:pt x="15" y="15"/>
                  </a:lnTo>
                  <a:lnTo>
                    <a:pt x="10" y="12"/>
                  </a:lnTo>
                  <a:lnTo>
                    <a:pt x="5" y="10"/>
                  </a:lnTo>
                  <a:lnTo>
                    <a:pt x="3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0" y="41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77"/>
            <p:cNvSpPr/>
            <p:nvPr/>
          </p:nvSpPr>
          <p:spPr>
            <a:xfrm>
              <a:off x="6260760" y="4648680"/>
              <a:ext cx="99360" cy="968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55" h="595">
                  <a:moveTo>
                    <a:pt x="9" y="419"/>
                  </a:moveTo>
                  <a:lnTo>
                    <a:pt x="8" y="401"/>
                  </a:lnTo>
                  <a:lnTo>
                    <a:pt x="9" y="386"/>
                  </a:lnTo>
                  <a:lnTo>
                    <a:pt x="10" y="371"/>
                  </a:lnTo>
                  <a:lnTo>
                    <a:pt x="13" y="358"/>
                  </a:lnTo>
                  <a:lnTo>
                    <a:pt x="17" y="345"/>
                  </a:lnTo>
                  <a:lnTo>
                    <a:pt x="22" y="333"/>
                  </a:lnTo>
                  <a:lnTo>
                    <a:pt x="28" y="322"/>
                  </a:lnTo>
                  <a:lnTo>
                    <a:pt x="34" y="312"/>
                  </a:lnTo>
                  <a:lnTo>
                    <a:pt x="42" y="303"/>
                  </a:lnTo>
                  <a:lnTo>
                    <a:pt x="49" y="294"/>
                  </a:lnTo>
                  <a:lnTo>
                    <a:pt x="58" y="285"/>
                  </a:lnTo>
                  <a:lnTo>
                    <a:pt x="68" y="277"/>
                  </a:lnTo>
                  <a:lnTo>
                    <a:pt x="87" y="263"/>
                  </a:lnTo>
                  <a:lnTo>
                    <a:pt x="107" y="250"/>
                  </a:lnTo>
                  <a:lnTo>
                    <a:pt x="152" y="226"/>
                  </a:lnTo>
                  <a:lnTo>
                    <a:pt x="194" y="199"/>
                  </a:lnTo>
                  <a:lnTo>
                    <a:pt x="204" y="192"/>
                  </a:lnTo>
                  <a:lnTo>
                    <a:pt x="214" y="184"/>
                  </a:lnTo>
                  <a:lnTo>
                    <a:pt x="222" y="176"/>
                  </a:lnTo>
                  <a:lnTo>
                    <a:pt x="230" y="167"/>
                  </a:lnTo>
                  <a:lnTo>
                    <a:pt x="238" y="158"/>
                  </a:lnTo>
                  <a:lnTo>
                    <a:pt x="245" y="148"/>
                  </a:lnTo>
                  <a:lnTo>
                    <a:pt x="251" y="137"/>
                  </a:lnTo>
                  <a:lnTo>
                    <a:pt x="257" y="124"/>
                  </a:lnTo>
                  <a:lnTo>
                    <a:pt x="267" y="97"/>
                  </a:lnTo>
                  <a:lnTo>
                    <a:pt x="277" y="75"/>
                  </a:lnTo>
                  <a:lnTo>
                    <a:pt x="286" y="56"/>
                  </a:lnTo>
                  <a:lnTo>
                    <a:pt x="294" y="41"/>
                  </a:lnTo>
                  <a:lnTo>
                    <a:pt x="302" y="30"/>
                  </a:lnTo>
                  <a:lnTo>
                    <a:pt x="311" y="21"/>
                  </a:lnTo>
                  <a:lnTo>
                    <a:pt x="319" y="14"/>
                  </a:lnTo>
                  <a:lnTo>
                    <a:pt x="329" y="10"/>
                  </a:lnTo>
                  <a:lnTo>
                    <a:pt x="340" y="7"/>
                  </a:lnTo>
                  <a:lnTo>
                    <a:pt x="351" y="5"/>
                  </a:lnTo>
                  <a:lnTo>
                    <a:pt x="365" y="5"/>
                  </a:lnTo>
                  <a:lnTo>
                    <a:pt x="382" y="4"/>
                  </a:lnTo>
                  <a:lnTo>
                    <a:pt x="421" y="4"/>
                  </a:lnTo>
                  <a:lnTo>
                    <a:pt x="473" y="0"/>
                  </a:lnTo>
                  <a:lnTo>
                    <a:pt x="481" y="2"/>
                  </a:lnTo>
                  <a:lnTo>
                    <a:pt x="492" y="5"/>
                  </a:lnTo>
                  <a:lnTo>
                    <a:pt x="501" y="10"/>
                  </a:lnTo>
                  <a:lnTo>
                    <a:pt x="513" y="16"/>
                  </a:lnTo>
                  <a:lnTo>
                    <a:pt x="535" y="31"/>
                  </a:lnTo>
                  <a:lnTo>
                    <a:pt x="557" y="49"/>
                  </a:lnTo>
                  <a:lnTo>
                    <a:pt x="580" y="68"/>
                  </a:lnTo>
                  <a:lnTo>
                    <a:pt x="603" y="86"/>
                  </a:lnTo>
                  <a:lnTo>
                    <a:pt x="613" y="94"/>
                  </a:lnTo>
                  <a:lnTo>
                    <a:pt x="624" y="101"/>
                  </a:lnTo>
                  <a:lnTo>
                    <a:pt x="633" y="107"/>
                  </a:lnTo>
                  <a:lnTo>
                    <a:pt x="642" y="110"/>
                  </a:lnTo>
                  <a:lnTo>
                    <a:pt x="647" y="113"/>
                  </a:lnTo>
                  <a:lnTo>
                    <a:pt x="649" y="115"/>
                  </a:lnTo>
                  <a:lnTo>
                    <a:pt x="652" y="118"/>
                  </a:lnTo>
                  <a:lnTo>
                    <a:pt x="654" y="123"/>
                  </a:lnTo>
                  <a:lnTo>
                    <a:pt x="654" y="129"/>
                  </a:lnTo>
                  <a:lnTo>
                    <a:pt x="655" y="135"/>
                  </a:lnTo>
                  <a:lnTo>
                    <a:pt x="654" y="141"/>
                  </a:lnTo>
                  <a:lnTo>
                    <a:pt x="653" y="149"/>
                  </a:lnTo>
                  <a:lnTo>
                    <a:pt x="649" y="164"/>
                  </a:lnTo>
                  <a:lnTo>
                    <a:pt x="642" y="181"/>
                  </a:lnTo>
                  <a:lnTo>
                    <a:pt x="634" y="201"/>
                  </a:lnTo>
                  <a:lnTo>
                    <a:pt x="624" y="221"/>
                  </a:lnTo>
                  <a:lnTo>
                    <a:pt x="611" y="241"/>
                  </a:lnTo>
                  <a:lnTo>
                    <a:pt x="597" y="261"/>
                  </a:lnTo>
                  <a:lnTo>
                    <a:pt x="580" y="281"/>
                  </a:lnTo>
                  <a:lnTo>
                    <a:pt x="564" y="299"/>
                  </a:lnTo>
                  <a:lnTo>
                    <a:pt x="545" y="317"/>
                  </a:lnTo>
                  <a:lnTo>
                    <a:pt x="527" y="332"/>
                  </a:lnTo>
                  <a:lnTo>
                    <a:pt x="517" y="339"/>
                  </a:lnTo>
                  <a:lnTo>
                    <a:pt x="507" y="345"/>
                  </a:lnTo>
                  <a:lnTo>
                    <a:pt x="497" y="351"/>
                  </a:lnTo>
                  <a:lnTo>
                    <a:pt x="487" y="355"/>
                  </a:lnTo>
                  <a:lnTo>
                    <a:pt x="467" y="362"/>
                  </a:lnTo>
                  <a:lnTo>
                    <a:pt x="446" y="369"/>
                  </a:lnTo>
                  <a:lnTo>
                    <a:pt x="424" y="375"/>
                  </a:lnTo>
                  <a:lnTo>
                    <a:pt x="403" y="380"/>
                  </a:lnTo>
                  <a:lnTo>
                    <a:pt x="379" y="385"/>
                  </a:lnTo>
                  <a:lnTo>
                    <a:pt x="357" y="389"/>
                  </a:lnTo>
                  <a:lnTo>
                    <a:pt x="335" y="395"/>
                  </a:lnTo>
                  <a:lnTo>
                    <a:pt x="313" y="402"/>
                  </a:lnTo>
                  <a:lnTo>
                    <a:pt x="291" y="410"/>
                  </a:lnTo>
                  <a:lnTo>
                    <a:pt x="268" y="421"/>
                  </a:lnTo>
                  <a:lnTo>
                    <a:pt x="257" y="427"/>
                  </a:lnTo>
                  <a:lnTo>
                    <a:pt x="246" y="433"/>
                  </a:lnTo>
                  <a:lnTo>
                    <a:pt x="236" y="440"/>
                  </a:lnTo>
                  <a:lnTo>
                    <a:pt x="225" y="448"/>
                  </a:lnTo>
                  <a:lnTo>
                    <a:pt x="215" y="457"/>
                  </a:lnTo>
                  <a:lnTo>
                    <a:pt x="204" y="466"/>
                  </a:lnTo>
                  <a:lnTo>
                    <a:pt x="195" y="476"/>
                  </a:lnTo>
                  <a:lnTo>
                    <a:pt x="184" y="487"/>
                  </a:lnTo>
                  <a:lnTo>
                    <a:pt x="175" y="499"/>
                  </a:lnTo>
                  <a:lnTo>
                    <a:pt x="166" y="513"/>
                  </a:lnTo>
                  <a:lnTo>
                    <a:pt x="156" y="527"/>
                  </a:lnTo>
                  <a:lnTo>
                    <a:pt x="147" y="542"/>
                  </a:lnTo>
                  <a:lnTo>
                    <a:pt x="142" y="552"/>
                  </a:lnTo>
                  <a:lnTo>
                    <a:pt x="136" y="559"/>
                  </a:lnTo>
                  <a:lnTo>
                    <a:pt x="131" y="567"/>
                  </a:lnTo>
                  <a:lnTo>
                    <a:pt x="125" y="573"/>
                  </a:lnTo>
                  <a:lnTo>
                    <a:pt x="118" y="579"/>
                  </a:lnTo>
                  <a:lnTo>
                    <a:pt x="111" y="583"/>
                  </a:lnTo>
                  <a:lnTo>
                    <a:pt x="104" y="587"/>
                  </a:lnTo>
                  <a:lnTo>
                    <a:pt x="97" y="590"/>
                  </a:lnTo>
                  <a:lnTo>
                    <a:pt x="90" y="593"/>
                  </a:lnTo>
                  <a:lnTo>
                    <a:pt x="83" y="594"/>
                  </a:lnTo>
                  <a:lnTo>
                    <a:pt x="76" y="595"/>
                  </a:lnTo>
                  <a:lnTo>
                    <a:pt x="69" y="595"/>
                  </a:lnTo>
                  <a:lnTo>
                    <a:pt x="62" y="594"/>
                  </a:lnTo>
                  <a:lnTo>
                    <a:pt x="55" y="593"/>
                  </a:lnTo>
                  <a:lnTo>
                    <a:pt x="48" y="589"/>
                  </a:lnTo>
                  <a:lnTo>
                    <a:pt x="41" y="587"/>
                  </a:lnTo>
                  <a:lnTo>
                    <a:pt x="35" y="582"/>
                  </a:lnTo>
                  <a:lnTo>
                    <a:pt x="29" y="577"/>
                  </a:lnTo>
                  <a:lnTo>
                    <a:pt x="23" y="572"/>
                  </a:lnTo>
                  <a:lnTo>
                    <a:pt x="18" y="565"/>
                  </a:lnTo>
                  <a:lnTo>
                    <a:pt x="14" y="558"/>
                  </a:lnTo>
                  <a:lnTo>
                    <a:pt x="10" y="548"/>
                  </a:lnTo>
                  <a:lnTo>
                    <a:pt x="7" y="540"/>
                  </a:lnTo>
                  <a:lnTo>
                    <a:pt x="3" y="530"/>
                  </a:lnTo>
                  <a:lnTo>
                    <a:pt x="1" y="519"/>
                  </a:lnTo>
                  <a:lnTo>
                    <a:pt x="0" y="507"/>
                  </a:lnTo>
                  <a:lnTo>
                    <a:pt x="0" y="494"/>
                  </a:lnTo>
                  <a:lnTo>
                    <a:pt x="0" y="480"/>
                  </a:lnTo>
                  <a:lnTo>
                    <a:pt x="0" y="466"/>
                  </a:lnTo>
                  <a:lnTo>
                    <a:pt x="2" y="451"/>
                  </a:lnTo>
                  <a:lnTo>
                    <a:pt x="4" y="435"/>
                  </a:lnTo>
                  <a:lnTo>
                    <a:pt x="9" y="4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78"/>
            <p:cNvSpPr/>
            <p:nvPr/>
          </p:nvSpPr>
          <p:spPr>
            <a:xfrm>
              <a:off x="6260760" y="4648680"/>
              <a:ext cx="99360" cy="968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55" h="595">
                  <a:moveTo>
                    <a:pt x="9" y="419"/>
                  </a:moveTo>
                  <a:lnTo>
                    <a:pt x="8" y="401"/>
                  </a:lnTo>
                  <a:lnTo>
                    <a:pt x="9" y="386"/>
                  </a:lnTo>
                  <a:lnTo>
                    <a:pt x="10" y="371"/>
                  </a:lnTo>
                  <a:lnTo>
                    <a:pt x="13" y="358"/>
                  </a:lnTo>
                  <a:lnTo>
                    <a:pt x="17" y="345"/>
                  </a:lnTo>
                  <a:lnTo>
                    <a:pt x="22" y="333"/>
                  </a:lnTo>
                  <a:lnTo>
                    <a:pt x="28" y="322"/>
                  </a:lnTo>
                  <a:lnTo>
                    <a:pt x="34" y="312"/>
                  </a:lnTo>
                  <a:lnTo>
                    <a:pt x="42" y="303"/>
                  </a:lnTo>
                  <a:lnTo>
                    <a:pt x="49" y="294"/>
                  </a:lnTo>
                  <a:lnTo>
                    <a:pt x="58" y="285"/>
                  </a:lnTo>
                  <a:lnTo>
                    <a:pt x="68" y="277"/>
                  </a:lnTo>
                  <a:lnTo>
                    <a:pt x="87" y="263"/>
                  </a:lnTo>
                  <a:lnTo>
                    <a:pt x="107" y="250"/>
                  </a:lnTo>
                  <a:lnTo>
                    <a:pt x="152" y="226"/>
                  </a:lnTo>
                  <a:lnTo>
                    <a:pt x="194" y="199"/>
                  </a:lnTo>
                  <a:lnTo>
                    <a:pt x="204" y="192"/>
                  </a:lnTo>
                  <a:lnTo>
                    <a:pt x="214" y="184"/>
                  </a:lnTo>
                  <a:lnTo>
                    <a:pt x="222" y="176"/>
                  </a:lnTo>
                  <a:lnTo>
                    <a:pt x="230" y="167"/>
                  </a:lnTo>
                  <a:lnTo>
                    <a:pt x="238" y="158"/>
                  </a:lnTo>
                  <a:lnTo>
                    <a:pt x="245" y="148"/>
                  </a:lnTo>
                  <a:lnTo>
                    <a:pt x="251" y="137"/>
                  </a:lnTo>
                  <a:lnTo>
                    <a:pt x="257" y="124"/>
                  </a:lnTo>
                  <a:lnTo>
                    <a:pt x="267" y="97"/>
                  </a:lnTo>
                  <a:lnTo>
                    <a:pt x="277" y="75"/>
                  </a:lnTo>
                  <a:lnTo>
                    <a:pt x="286" y="56"/>
                  </a:lnTo>
                  <a:lnTo>
                    <a:pt x="294" y="41"/>
                  </a:lnTo>
                  <a:lnTo>
                    <a:pt x="302" y="30"/>
                  </a:lnTo>
                  <a:lnTo>
                    <a:pt x="311" y="21"/>
                  </a:lnTo>
                  <a:lnTo>
                    <a:pt x="319" y="14"/>
                  </a:lnTo>
                  <a:lnTo>
                    <a:pt x="329" y="10"/>
                  </a:lnTo>
                  <a:lnTo>
                    <a:pt x="340" y="7"/>
                  </a:lnTo>
                  <a:lnTo>
                    <a:pt x="351" y="5"/>
                  </a:lnTo>
                  <a:lnTo>
                    <a:pt x="365" y="5"/>
                  </a:lnTo>
                  <a:lnTo>
                    <a:pt x="382" y="4"/>
                  </a:lnTo>
                  <a:lnTo>
                    <a:pt x="421" y="4"/>
                  </a:lnTo>
                  <a:lnTo>
                    <a:pt x="473" y="0"/>
                  </a:lnTo>
                  <a:lnTo>
                    <a:pt x="481" y="2"/>
                  </a:lnTo>
                  <a:lnTo>
                    <a:pt x="492" y="5"/>
                  </a:lnTo>
                  <a:lnTo>
                    <a:pt x="501" y="10"/>
                  </a:lnTo>
                  <a:lnTo>
                    <a:pt x="513" y="16"/>
                  </a:lnTo>
                  <a:lnTo>
                    <a:pt x="535" y="31"/>
                  </a:lnTo>
                  <a:lnTo>
                    <a:pt x="557" y="49"/>
                  </a:lnTo>
                  <a:lnTo>
                    <a:pt x="580" y="68"/>
                  </a:lnTo>
                  <a:lnTo>
                    <a:pt x="603" y="86"/>
                  </a:lnTo>
                  <a:lnTo>
                    <a:pt x="613" y="94"/>
                  </a:lnTo>
                  <a:lnTo>
                    <a:pt x="624" y="101"/>
                  </a:lnTo>
                  <a:lnTo>
                    <a:pt x="633" y="107"/>
                  </a:lnTo>
                  <a:lnTo>
                    <a:pt x="642" y="110"/>
                  </a:lnTo>
                  <a:lnTo>
                    <a:pt x="647" y="113"/>
                  </a:lnTo>
                  <a:lnTo>
                    <a:pt x="649" y="115"/>
                  </a:lnTo>
                  <a:lnTo>
                    <a:pt x="652" y="118"/>
                  </a:lnTo>
                  <a:lnTo>
                    <a:pt x="654" y="123"/>
                  </a:lnTo>
                  <a:lnTo>
                    <a:pt x="654" y="129"/>
                  </a:lnTo>
                  <a:lnTo>
                    <a:pt x="655" y="135"/>
                  </a:lnTo>
                  <a:lnTo>
                    <a:pt x="654" y="141"/>
                  </a:lnTo>
                  <a:lnTo>
                    <a:pt x="653" y="149"/>
                  </a:lnTo>
                  <a:lnTo>
                    <a:pt x="649" y="164"/>
                  </a:lnTo>
                  <a:lnTo>
                    <a:pt x="642" y="181"/>
                  </a:lnTo>
                  <a:lnTo>
                    <a:pt x="634" y="201"/>
                  </a:lnTo>
                  <a:lnTo>
                    <a:pt x="624" y="221"/>
                  </a:lnTo>
                  <a:lnTo>
                    <a:pt x="611" y="241"/>
                  </a:lnTo>
                  <a:lnTo>
                    <a:pt x="597" y="261"/>
                  </a:lnTo>
                  <a:lnTo>
                    <a:pt x="580" y="281"/>
                  </a:lnTo>
                  <a:lnTo>
                    <a:pt x="564" y="299"/>
                  </a:lnTo>
                  <a:lnTo>
                    <a:pt x="545" y="317"/>
                  </a:lnTo>
                  <a:lnTo>
                    <a:pt x="527" y="332"/>
                  </a:lnTo>
                  <a:lnTo>
                    <a:pt x="517" y="339"/>
                  </a:lnTo>
                  <a:lnTo>
                    <a:pt x="507" y="345"/>
                  </a:lnTo>
                  <a:lnTo>
                    <a:pt x="497" y="351"/>
                  </a:lnTo>
                  <a:lnTo>
                    <a:pt x="487" y="355"/>
                  </a:lnTo>
                  <a:lnTo>
                    <a:pt x="467" y="362"/>
                  </a:lnTo>
                  <a:lnTo>
                    <a:pt x="446" y="369"/>
                  </a:lnTo>
                  <a:lnTo>
                    <a:pt x="424" y="375"/>
                  </a:lnTo>
                  <a:lnTo>
                    <a:pt x="403" y="380"/>
                  </a:lnTo>
                  <a:lnTo>
                    <a:pt x="379" y="385"/>
                  </a:lnTo>
                  <a:lnTo>
                    <a:pt x="357" y="389"/>
                  </a:lnTo>
                  <a:lnTo>
                    <a:pt x="335" y="395"/>
                  </a:lnTo>
                  <a:lnTo>
                    <a:pt x="313" y="402"/>
                  </a:lnTo>
                  <a:lnTo>
                    <a:pt x="291" y="410"/>
                  </a:lnTo>
                  <a:lnTo>
                    <a:pt x="268" y="421"/>
                  </a:lnTo>
                  <a:lnTo>
                    <a:pt x="257" y="427"/>
                  </a:lnTo>
                  <a:lnTo>
                    <a:pt x="246" y="433"/>
                  </a:lnTo>
                  <a:lnTo>
                    <a:pt x="236" y="440"/>
                  </a:lnTo>
                  <a:lnTo>
                    <a:pt x="225" y="448"/>
                  </a:lnTo>
                  <a:lnTo>
                    <a:pt x="215" y="457"/>
                  </a:lnTo>
                  <a:lnTo>
                    <a:pt x="204" y="466"/>
                  </a:lnTo>
                  <a:lnTo>
                    <a:pt x="195" y="476"/>
                  </a:lnTo>
                  <a:lnTo>
                    <a:pt x="184" y="487"/>
                  </a:lnTo>
                  <a:lnTo>
                    <a:pt x="175" y="499"/>
                  </a:lnTo>
                  <a:lnTo>
                    <a:pt x="166" y="513"/>
                  </a:lnTo>
                  <a:lnTo>
                    <a:pt x="156" y="527"/>
                  </a:lnTo>
                  <a:lnTo>
                    <a:pt x="147" y="542"/>
                  </a:lnTo>
                  <a:lnTo>
                    <a:pt x="142" y="552"/>
                  </a:lnTo>
                  <a:lnTo>
                    <a:pt x="136" y="559"/>
                  </a:lnTo>
                  <a:lnTo>
                    <a:pt x="131" y="567"/>
                  </a:lnTo>
                  <a:lnTo>
                    <a:pt x="125" y="573"/>
                  </a:lnTo>
                  <a:lnTo>
                    <a:pt x="118" y="579"/>
                  </a:lnTo>
                  <a:lnTo>
                    <a:pt x="111" y="583"/>
                  </a:lnTo>
                  <a:lnTo>
                    <a:pt x="104" y="587"/>
                  </a:lnTo>
                  <a:lnTo>
                    <a:pt x="97" y="590"/>
                  </a:lnTo>
                  <a:lnTo>
                    <a:pt x="90" y="593"/>
                  </a:lnTo>
                  <a:lnTo>
                    <a:pt x="83" y="594"/>
                  </a:lnTo>
                  <a:lnTo>
                    <a:pt x="76" y="595"/>
                  </a:lnTo>
                  <a:lnTo>
                    <a:pt x="69" y="595"/>
                  </a:lnTo>
                  <a:lnTo>
                    <a:pt x="62" y="594"/>
                  </a:lnTo>
                  <a:lnTo>
                    <a:pt x="55" y="593"/>
                  </a:lnTo>
                  <a:lnTo>
                    <a:pt x="48" y="589"/>
                  </a:lnTo>
                  <a:lnTo>
                    <a:pt x="41" y="587"/>
                  </a:lnTo>
                  <a:lnTo>
                    <a:pt x="35" y="582"/>
                  </a:lnTo>
                  <a:lnTo>
                    <a:pt x="29" y="577"/>
                  </a:lnTo>
                  <a:lnTo>
                    <a:pt x="23" y="572"/>
                  </a:lnTo>
                  <a:lnTo>
                    <a:pt x="18" y="565"/>
                  </a:lnTo>
                  <a:lnTo>
                    <a:pt x="14" y="558"/>
                  </a:lnTo>
                  <a:lnTo>
                    <a:pt x="10" y="548"/>
                  </a:lnTo>
                  <a:lnTo>
                    <a:pt x="7" y="540"/>
                  </a:lnTo>
                  <a:lnTo>
                    <a:pt x="3" y="530"/>
                  </a:lnTo>
                  <a:lnTo>
                    <a:pt x="1" y="519"/>
                  </a:lnTo>
                  <a:lnTo>
                    <a:pt x="0" y="507"/>
                  </a:lnTo>
                  <a:lnTo>
                    <a:pt x="0" y="494"/>
                  </a:lnTo>
                  <a:lnTo>
                    <a:pt x="0" y="480"/>
                  </a:lnTo>
                  <a:lnTo>
                    <a:pt x="0" y="466"/>
                  </a:lnTo>
                  <a:lnTo>
                    <a:pt x="2" y="451"/>
                  </a:lnTo>
                  <a:lnTo>
                    <a:pt x="4" y="435"/>
                  </a:lnTo>
                  <a:lnTo>
                    <a:pt x="9" y="4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79"/>
            <p:cNvSpPr/>
            <p:nvPr/>
          </p:nvSpPr>
          <p:spPr>
            <a:xfrm>
              <a:off x="6273720" y="4589640"/>
              <a:ext cx="61560" cy="266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6" h="160">
                  <a:moveTo>
                    <a:pt x="372" y="127"/>
                  </a:moveTo>
                  <a:lnTo>
                    <a:pt x="364" y="132"/>
                  </a:lnTo>
                  <a:lnTo>
                    <a:pt x="353" y="137"/>
                  </a:lnTo>
                  <a:lnTo>
                    <a:pt x="340" y="142"/>
                  </a:lnTo>
                  <a:lnTo>
                    <a:pt x="326" y="146"/>
                  </a:lnTo>
                  <a:lnTo>
                    <a:pt x="311" y="150"/>
                  </a:lnTo>
                  <a:lnTo>
                    <a:pt x="295" y="153"/>
                  </a:lnTo>
                  <a:lnTo>
                    <a:pt x="278" y="156"/>
                  </a:lnTo>
                  <a:lnTo>
                    <a:pt x="262" y="158"/>
                  </a:lnTo>
                  <a:lnTo>
                    <a:pt x="246" y="160"/>
                  </a:lnTo>
                  <a:lnTo>
                    <a:pt x="230" y="160"/>
                  </a:lnTo>
                  <a:lnTo>
                    <a:pt x="215" y="160"/>
                  </a:lnTo>
                  <a:lnTo>
                    <a:pt x="202" y="158"/>
                  </a:lnTo>
                  <a:lnTo>
                    <a:pt x="191" y="156"/>
                  </a:lnTo>
                  <a:lnTo>
                    <a:pt x="181" y="154"/>
                  </a:lnTo>
                  <a:lnTo>
                    <a:pt x="178" y="151"/>
                  </a:lnTo>
                  <a:lnTo>
                    <a:pt x="174" y="149"/>
                  </a:lnTo>
                  <a:lnTo>
                    <a:pt x="172" y="147"/>
                  </a:lnTo>
                  <a:lnTo>
                    <a:pt x="171" y="144"/>
                  </a:lnTo>
                  <a:lnTo>
                    <a:pt x="167" y="137"/>
                  </a:lnTo>
                  <a:lnTo>
                    <a:pt x="163" y="132"/>
                  </a:lnTo>
                  <a:lnTo>
                    <a:pt x="158" y="126"/>
                  </a:lnTo>
                  <a:lnTo>
                    <a:pt x="153" y="121"/>
                  </a:lnTo>
                  <a:lnTo>
                    <a:pt x="142" y="112"/>
                  </a:lnTo>
                  <a:lnTo>
                    <a:pt x="130" y="104"/>
                  </a:lnTo>
                  <a:lnTo>
                    <a:pt x="116" y="98"/>
                  </a:lnTo>
                  <a:lnTo>
                    <a:pt x="102" y="92"/>
                  </a:lnTo>
                  <a:lnTo>
                    <a:pt x="87" y="88"/>
                  </a:lnTo>
                  <a:lnTo>
                    <a:pt x="73" y="85"/>
                  </a:lnTo>
                  <a:lnTo>
                    <a:pt x="46" y="81"/>
                  </a:lnTo>
                  <a:lnTo>
                    <a:pt x="22" y="80"/>
                  </a:lnTo>
                  <a:lnTo>
                    <a:pt x="6" y="80"/>
                  </a:lnTo>
                  <a:lnTo>
                    <a:pt x="0" y="80"/>
                  </a:lnTo>
                  <a:lnTo>
                    <a:pt x="79" y="5"/>
                  </a:lnTo>
                  <a:lnTo>
                    <a:pt x="93" y="3"/>
                  </a:lnTo>
                  <a:lnTo>
                    <a:pt x="107" y="2"/>
                  </a:lnTo>
                  <a:lnTo>
                    <a:pt x="121" y="2"/>
                  </a:lnTo>
                  <a:lnTo>
                    <a:pt x="133" y="2"/>
                  </a:lnTo>
                  <a:lnTo>
                    <a:pt x="159" y="5"/>
                  </a:lnTo>
                  <a:lnTo>
                    <a:pt x="185" y="10"/>
                  </a:lnTo>
                  <a:lnTo>
                    <a:pt x="209" y="14"/>
                  </a:lnTo>
                  <a:lnTo>
                    <a:pt x="233" y="15"/>
                  </a:lnTo>
                  <a:lnTo>
                    <a:pt x="244" y="15"/>
                  </a:lnTo>
                  <a:lnTo>
                    <a:pt x="256" y="14"/>
                  </a:lnTo>
                  <a:lnTo>
                    <a:pt x="268" y="10"/>
                  </a:lnTo>
                  <a:lnTo>
                    <a:pt x="279" y="5"/>
                  </a:lnTo>
                  <a:lnTo>
                    <a:pt x="285" y="3"/>
                  </a:lnTo>
                  <a:lnTo>
                    <a:pt x="292" y="1"/>
                  </a:lnTo>
                  <a:lnTo>
                    <a:pt x="298" y="0"/>
                  </a:lnTo>
                  <a:lnTo>
                    <a:pt x="305" y="0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7" y="8"/>
                  </a:lnTo>
                  <a:lnTo>
                    <a:pt x="360" y="14"/>
                  </a:lnTo>
                  <a:lnTo>
                    <a:pt x="373" y="22"/>
                  </a:lnTo>
                  <a:lnTo>
                    <a:pt x="383" y="31"/>
                  </a:lnTo>
                  <a:lnTo>
                    <a:pt x="393" y="42"/>
                  </a:lnTo>
                  <a:lnTo>
                    <a:pt x="400" y="53"/>
                  </a:lnTo>
                  <a:lnTo>
                    <a:pt x="402" y="59"/>
                  </a:lnTo>
                  <a:lnTo>
                    <a:pt x="403" y="65"/>
                  </a:lnTo>
                  <a:lnTo>
                    <a:pt x="404" y="72"/>
                  </a:lnTo>
                  <a:lnTo>
                    <a:pt x="406" y="78"/>
                  </a:lnTo>
                  <a:lnTo>
                    <a:pt x="404" y="84"/>
                  </a:lnTo>
                  <a:lnTo>
                    <a:pt x="403" y="91"/>
                  </a:lnTo>
                  <a:lnTo>
                    <a:pt x="401" y="97"/>
                  </a:lnTo>
                  <a:lnTo>
                    <a:pt x="397" y="102"/>
                  </a:lnTo>
                  <a:lnTo>
                    <a:pt x="393" y="109"/>
                  </a:lnTo>
                  <a:lnTo>
                    <a:pt x="387" y="115"/>
                  </a:lnTo>
                  <a:lnTo>
                    <a:pt x="380" y="121"/>
                  </a:lnTo>
                  <a:lnTo>
                    <a:pt x="372" y="1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80"/>
            <p:cNvSpPr/>
            <p:nvPr/>
          </p:nvSpPr>
          <p:spPr>
            <a:xfrm>
              <a:off x="6273720" y="4589640"/>
              <a:ext cx="61560" cy="266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6" h="160">
                  <a:moveTo>
                    <a:pt x="372" y="127"/>
                  </a:moveTo>
                  <a:lnTo>
                    <a:pt x="364" y="132"/>
                  </a:lnTo>
                  <a:lnTo>
                    <a:pt x="353" y="137"/>
                  </a:lnTo>
                  <a:lnTo>
                    <a:pt x="340" y="142"/>
                  </a:lnTo>
                  <a:lnTo>
                    <a:pt x="326" y="146"/>
                  </a:lnTo>
                  <a:lnTo>
                    <a:pt x="311" y="150"/>
                  </a:lnTo>
                  <a:lnTo>
                    <a:pt x="295" y="153"/>
                  </a:lnTo>
                  <a:lnTo>
                    <a:pt x="278" y="156"/>
                  </a:lnTo>
                  <a:lnTo>
                    <a:pt x="262" y="158"/>
                  </a:lnTo>
                  <a:lnTo>
                    <a:pt x="246" y="160"/>
                  </a:lnTo>
                  <a:lnTo>
                    <a:pt x="230" y="160"/>
                  </a:lnTo>
                  <a:lnTo>
                    <a:pt x="215" y="160"/>
                  </a:lnTo>
                  <a:lnTo>
                    <a:pt x="202" y="158"/>
                  </a:lnTo>
                  <a:lnTo>
                    <a:pt x="191" y="156"/>
                  </a:lnTo>
                  <a:lnTo>
                    <a:pt x="181" y="154"/>
                  </a:lnTo>
                  <a:lnTo>
                    <a:pt x="178" y="151"/>
                  </a:lnTo>
                  <a:lnTo>
                    <a:pt x="174" y="149"/>
                  </a:lnTo>
                  <a:lnTo>
                    <a:pt x="172" y="147"/>
                  </a:lnTo>
                  <a:lnTo>
                    <a:pt x="171" y="144"/>
                  </a:lnTo>
                  <a:lnTo>
                    <a:pt x="167" y="137"/>
                  </a:lnTo>
                  <a:lnTo>
                    <a:pt x="163" y="132"/>
                  </a:lnTo>
                  <a:lnTo>
                    <a:pt x="158" y="126"/>
                  </a:lnTo>
                  <a:lnTo>
                    <a:pt x="153" y="121"/>
                  </a:lnTo>
                  <a:lnTo>
                    <a:pt x="142" y="112"/>
                  </a:lnTo>
                  <a:lnTo>
                    <a:pt x="130" y="104"/>
                  </a:lnTo>
                  <a:lnTo>
                    <a:pt x="116" y="98"/>
                  </a:lnTo>
                  <a:lnTo>
                    <a:pt x="102" y="92"/>
                  </a:lnTo>
                  <a:lnTo>
                    <a:pt x="87" y="88"/>
                  </a:lnTo>
                  <a:lnTo>
                    <a:pt x="73" y="85"/>
                  </a:lnTo>
                  <a:lnTo>
                    <a:pt x="46" y="81"/>
                  </a:lnTo>
                  <a:lnTo>
                    <a:pt x="22" y="80"/>
                  </a:lnTo>
                  <a:lnTo>
                    <a:pt x="6" y="80"/>
                  </a:lnTo>
                  <a:lnTo>
                    <a:pt x="0" y="80"/>
                  </a:lnTo>
                  <a:lnTo>
                    <a:pt x="79" y="5"/>
                  </a:lnTo>
                  <a:lnTo>
                    <a:pt x="93" y="3"/>
                  </a:lnTo>
                  <a:lnTo>
                    <a:pt x="107" y="2"/>
                  </a:lnTo>
                  <a:lnTo>
                    <a:pt x="121" y="2"/>
                  </a:lnTo>
                  <a:lnTo>
                    <a:pt x="133" y="2"/>
                  </a:lnTo>
                  <a:lnTo>
                    <a:pt x="159" y="5"/>
                  </a:lnTo>
                  <a:lnTo>
                    <a:pt x="185" y="10"/>
                  </a:lnTo>
                  <a:lnTo>
                    <a:pt x="209" y="14"/>
                  </a:lnTo>
                  <a:lnTo>
                    <a:pt x="233" y="15"/>
                  </a:lnTo>
                  <a:lnTo>
                    <a:pt x="244" y="15"/>
                  </a:lnTo>
                  <a:lnTo>
                    <a:pt x="256" y="14"/>
                  </a:lnTo>
                  <a:lnTo>
                    <a:pt x="268" y="10"/>
                  </a:lnTo>
                  <a:lnTo>
                    <a:pt x="279" y="5"/>
                  </a:lnTo>
                  <a:lnTo>
                    <a:pt x="285" y="3"/>
                  </a:lnTo>
                  <a:lnTo>
                    <a:pt x="292" y="1"/>
                  </a:lnTo>
                  <a:lnTo>
                    <a:pt x="298" y="0"/>
                  </a:lnTo>
                  <a:lnTo>
                    <a:pt x="305" y="0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7" y="8"/>
                  </a:lnTo>
                  <a:lnTo>
                    <a:pt x="360" y="14"/>
                  </a:lnTo>
                  <a:lnTo>
                    <a:pt x="373" y="22"/>
                  </a:lnTo>
                  <a:lnTo>
                    <a:pt x="383" y="31"/>
                  </a:lnTo>
                  <a:lnTo>
                    <a:pt x="393" y="42"/>
                  </a:lnTo>
                  <a:lnTo>
                    <a:pt x="400" y="53"/>
                  </a:lnTo>
                  <a:lnTo>
                    <a:pt x="402" y="59"/>
                  </a:lnTo>
                  <a:lnTo>
                    <a:pt x="403" y="65"/>
                  </a:lnTo>
                  <a:lnTo>
                    <a:pt x="404" y="72"/>
                  </a:lnTo>
                  <a:lnTo>
                    <a:pt x="406" y="78"/>
                  </a:lnTo>
                  <a:lnTo>
                    <a:pt x="404" y="84"/>
                  </a:lnTo>
                  <a:lnTo>
                    <a:pt x="403" y="91"/>
                  </a:lnTo>
                  <a:lnTo>
                    <a:pt x="401" y="97"/>
                  </a:lnTo>
                  <a:lnTo>
                    <a:pt x="397" y="102"/>
                  </a:lnTo>
                  <a:lnTo>
                    <a:pt x="393" y="109"/>
                  </a:lnTo>
                  <a:lnTo>
                    <a:pt x="387" y="115"/>
                  </a:lnTo>
                  <a:lnTo>
                    <a:pt x="380" y="121"/>
                  </a:lnTo>
                  <a:lnTo>
                    <a:pt x="372" y="1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81"/>
            <p:cNvSpPr/>
            <p:nvPr/>
          </p:nvSpPr>
          <p:spPr>
            <a:xfrm>
              <a:off x="6243480" y="4606920"/>
              <a:ext cx="36000" cy="136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5" h="84">
                  <a:moveTo>
                    <a:pt x="170" y="6"/>
                  </a:moveTo>
                  <a:lnTo>
                    <a:pt x="124" y="17"/>
                  </a:lnTo>
                  <a:lnTo>
                    <a:pt x="81" y="30"/>
                  </a:lnTo>
                  <a:lnTo>
                    <a:pt x="62" y="37"/>
                  </a:lnTo>
                  <a:lnTo>
                    <a:pt x="45" y="43"/>
                  </a:lnTo>
                  <a:lnTo>
                    <a:pt x="30" y="50"/>
                  </a:lnTo>
                  <a:lnTo>
                    <a:pt x="18" y="56"/>
                  </a:lnTo>
                  <a:lnTo>
                    <a:pt x="9" y="62"/>
                  </a:lnTo>
                  <a:lnTo>
                    <a:pt x="3" y="66"/>
                  </a:lnTo>
                  <a:lnTo>
                    <a:pt x="1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6"/>
                  </a:lnTo>
                  <a:lnTo>
                    <a:pt x="10" y="79"/>
                  </a:lnTo>
                  <a:lnTo>
                    <a:pt x="23" y="82"/>
                  </a:lnTo>
                  <a:lnTo>
                    <a:pt x="40" y="84"/>
                  </a:lnTo>
                  <a:lnTo>
                    <a:pt x="63" y="84"/>
                  </a:lnTo>
                  <a:lnTo>
                    <a:pt x="89" y="83"/>
                  </a:lnTo>
                  <a:lnTo>
                    <a:pt x="114" y="79"/>
                  </a:lnTo>
                  <a:lnTo>
                    <a:pt x="137" y="75"/>
                  </a:lnTo>
                  <a:lnTo>
                    <a:pt x="158" y="68"/>
                  </a:lnTo>
                  <a:lnTo>
                    <a:pt x="178" y="59"/>
                  </a:lnTo>
                  <a:lnTo>
                    <a:pt x="195" y="51"/>
                  </a:lnTo>
                  <a:lnTo>
                    <a:pt x="209" y="42"/>
                  </a:lnTo>
                  <a:lnTo>
                    <a:pt x="221" y="34"/>
                  </a:lnTo>
                  <a:lnTo>
                    <a:pt x="229" y="24"/>
                  </a:lnTo>
                  <a:lnTo>
                    <a:pt x="235" y="17"/>
                  </a:lnTo>
                  <a:lnTo>
                    <a:pt x="235" y="14"/>
                  </a:lnTo>
                  <a:lnTo>
                    <a:pt x="235" y="10"/>
                  </a:lnTo>
                  <a:lnTo>
                    <a:pt x="234" y="7"/>
                  </a:lnTo>
                  <a:lnTo>
                    <a:pt x="233" y="5"/>
                  </a:lnTo>
                  <a:lnTo>
                    <a:pt x="229" y="3"/>
                  </a:lnTo>
                  <a:lnTo>
                    <a:pt x="225" y="1"/>
                  </a:lnTo>
                  <a:lnTo>
                    <a:pt x="219" y="1"/>
                  </a:lnTo>
                  <a:lnTo>
                    <a:pt x="212" y="0"/>
                  </a:lnTo>
                  <a:lnTo>
                    <a:pt x="193" y="2"/>
                  </a:lnTo>
                  <a:lnTo>
                    <a:pt x="170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82"/>
            <p:cNvSpPr/>
            <p:nvPr/>
          </p:nvSpPr>
          <p:spPr>
            <a:xfrm>
              <a:off x="6243480" y="4606920"/>
              <a:ext cx="36000" cy="136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5" h="84">
                  <a:moveTo>
                    <a:pt x="170" y="6"/>
                  </a:moveTo>
                  <a:lnTo>
                    <a:pt x="124" y="17"/>
                  </a:lnTo>
                  <a:lnTo>
                    <a:pt x="81" y="30"/>
                  </a:lnTo>
                  <a:lnTo>
                    <a:pt x="62" y="37"/>
                  </a:lnTo>
                  <a:lnTo>
                    <a:pt x="45" y="43"/>
                  </a:lnTo>
                  <a:lnTo>
                    <a:pt x="30" y="50"/>
                  </a:lnTo>
                  <a:lnTo>
                    <a:pt x="18" y="56"/>
                  </a:lnTo>
                  <a:lnTo>
                    <a:pt x="9" y="62"/>
                  </a:lnTo>
                  <a:lnTo>
                    <a:pt x="3" y="66"/>
                  </a:lnTo>
                  <a:lnTo>
                    <a:pt x="1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6"/>
                  </a:lnTo>
                  <a:lnTo>
                    <a:pt x="10" y="79"/>
                  </a:lnTo>
                  <a:lnTo>
                    <a:pt x="23" y="82"/>
                  </a:lnTo>
                  <a:lnTo>
                    <a:pt x="40" y="84"/>
                  </a:lnTo>
                  <a:lnTo>
                    <a:pt x="63" y="84"/>
                  </a:lnTo>
                  <a:lnTo>
                    <a:pt x="89" y="83"/>
                  </a:lnTo>
                  <a:lnTo>
                    <a:pt x="114" y="79"/>
                  </a:lnTo>
                  <a:lnTo>
                    <a:pt x="137" y="75"/>
                  </a:lnTo>
                  <a:lnTo>
                    <a:pt x="158" y="68"/>
                  </a:lnTo>
                  <a:lnTo>
                    <a:pt x="178" y="59"/>
                  </a:lnTo>
                  <a:lnTo>
                    <a:pt x="195" y="51"/>
                  </a:lnTo>
                  <a:lnTo>
                    <a:pt x="209" y="42"/>
                  </a:lnTo>
                  <a:lnTo>
                    <a:pt x="221" y="34"/>
                  </a:lnTo>
                  <a:lnTo>
                    <a:pt x="229" y="24"/>
                  </a:lnTo>
                  <a:lnTo>
                    <a:pt x="235" y="17"/>
                  </a:lnTo>
                  <a:lnTo>
                    <a:pt x="235" y="14"/>
                  </a:lnTo>
                  <a:lnTo>
                    <a:pt x="235" y="10"/>
                  </a:lnTo>
                  <a:lnTo>
                    <a:pt x="234" y="7"/>
                  </a:lnTo>
                  <a:lnTo>
                    <a:pt x="233" y="5"/>
                  </a:lnTo>
                  <a:lnTo>
                    <a:pt x="229" y="3"/>
                  </a:lnTo>
                  <a:lnTo>
                    <a:pt x="225" y="1"/>
                  </a:lnTo>
                  <a:lnTo>
                    <a:pt x="219" y="1"/>
                  </a:lnTo>
                  <a:lnTo>
                    <a:pt x="212" y="0"/>
                  </a:lnTo>
                  <a:lnTo>
                    <a:pt x="193" y="2"/>
                  </a:lnTo>
                  <a:lnTo>
                    <a:pt x="170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83"/>
            <p:cNvSpPr/>
            <p:nvPr/>
          </p:nvSpPr>
          <p:spPr>
            <a:xfrm>
              <a:off x="6240240" y="4576680"/>
              <a:ext cx="42840" cy="2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84" h="167">
                  <a:moveTo>
                    <a:pt x="23" y="152"/>
                  </a:moveTo>
                  <a:lnTo>
                    <a:pt x="32" y="158"/>
                  </a:lnTo>
                  <a:lnTo>
                    <a:pt x="41" y="162"/>
                  </a:lnTo>
                  <a:lnTo>
                    <a:pt x="49" y="165"/>
                  </a:lnTo>
                  <a:lnTo>
                    <a:pt x="57" y="166"/>
                  </a:lnTo>
                  <a:lnTo>
                    <a:pt x="65" y="167"/>
                  </a:lnTo>
                  <a:lnTo>
                    <a:pt x="74" y="166"/>
                  </a:lnTo>
                  <a:lnTo>
                    <a:pt x="82" y="165"/>
                  </a:lnTo>
                  <a:lnTo>
                    <a:pt x="90" y="164"/>
                  </a:lnTo>
                  <a:lnTo>
                    <a:pt x="105" y="157"/>
                  </a:lnTo>
                  <a:lnTo>
                    <a:pt x="119" y="149"/>
                  </a:lnTo>
                  <a:lnTo>
                    <a:pt x="133" y="139"/>
                  </a:lnTo>
                  <a:lnTo>
                    <a:pt x="146" y="129"/>
                  </a:lnTo>
                  <a:lnTo>
                    <a:pt x="168" y="108"/>
                  </a:lnTo>
                  <a:lnTo>
                    <a:pt x="187" y="91"/>
                  </a:lnTo>
                  <a:lnTo>
                    <a:pt x="195" y="86"/>
                  </a:lnTo>
                  <a:lnTo>
                    <a:pt x="201" y="84"/>
                  </a:lnTo>
                  <a:lnTo>
                    <a:pt x="204" y="84"/>
                  </a:lnTo>
                  <a:lnTo>
                    <a:pt x="207" y="86"/>
                  </a:lnTo>
                  <a:lnTo>
                    <a:pt x="208" y="88"/>
                  </a:lnTo>
                  <a:lnTo>
                    <a:pt x="210" y="91"/>
                  </a:lnTo>
                  <a:lnTo>
                    <a:pt x="211" y="96"/>
                  </a:lnTo>
                  <a:lnTo>
                    <a:pt x="214" y="98"/>
                  </a:lnTo>
                  <a:lnTo>
                    <a:pt x="217" y="101"/>
                  </a:lnTo>
                  <a:lnTo>
                    <a:pt x="220" y="101"/>
                  </a:lnTo>
                  <a:lnTo>
                    <a:pt x="223" y="102"/>
                  </a:lnTo>
                  <a:lnTo>
                    <a:pt x="228" y="101"/>
                  </a:lnTo>
                  <a:lnTo>
                    <a:pt x="231" y="100"/>
                  </a:lnTo>
                  <a:lnTo>
                    <a:pt x="236" y="97"/>
                  </a:lnTo>
                  <a:lnTo>
                    <a:pt x="245" y="91"/>
                  </a:lnTo>
                  <a:lnTo>
                    <a:pt x="255" y="83"/>
                  </a:lnTo>
                  <a:lnTo>
                    <a:pt x="263" y="74"/>
                  </a:lnTo>
                  <a:lnTo>
                    <a:pt x="271" y="63"/>
                  </a:lnTo>
                  <a:lnTo>
                    <a:pt x="277" y="52"/>
                  </a:lnTo>
                  <a:lnTo>
                    <a:pt x="281" y="41"/>
                  </a:lnTo>
                  <a:lnTo>
                    <a:pt x="283" y="35"/>
                  </a:lnTo>
                  <a:lnTo>
                    <a:pt x="284" y="31"/>
                  </a:lnTo>
                  <a:lnTo>
                    <a:pt x="284" y="26"/>
                  </a:lnTo>
                  <a:lnTo>
                    <a:pt x="283" y="20"/>
                  </a:lnTo>
                  <a:lnTo>
                    <a:pt x="280" y="17"/>
                  </a:lnTo>
                  <a:lnTo>
                    <a:pt x="278" y="12"/>
                  </a:lnTo>
                  <a:lnTo>
                    <a:pt x="274" y="9"/>
                  </a:lnTo>
                  <a:lnTo>
                    <a:pt x="270" y="6"/>
                  </a:lnTo>
                  <a:lnTo>
                    <a:pt x="264" y="4"/>
                  </a:lnTo>
                  <a:lnTo>
                    <a:pt x="257" y="2"/>
                  </a:lnTo>
                  <a:lnTo>
                    <a:pt x="249" y="0"/>
                  </a:lnTo>
                  <a:lnTo>
                    <a:pt x="239" y="0"/>
                  </a:lnTo>
                  <a:lnTo>
                    <a:pt x="218" y="0"/>
                  </a:lnTo>
                  <a:lnTo>
                    <a:pt x="195" y="4"/>
                  </a:lnTo>
                  <a:lnTo>
                    <a:pt x="172" y="9"/>
                  </a:lnTo>
                  <a:lnTo>
                    <a:pt x="147" y="16"/>
                  </a:lnTo>
                  <a:lnTo>
                    <a:pt x="123" y="23"/>
                  </a:lnTo>
                  <a:lnTo>
                    <a:pt x="99" y="32"/>
                  </a:lnTo>
                  <a:lnTo>
                    <a:pt x="77" y="42"/>
                  </a:lnTo>
                  <a:lnTo>
                    <a:pt x="56" y="54"/>
                  </a:lnTo>
                  <a:lnTo>
                    <a:pt x="39" y="66"/>
                  </a:lnTo>
                  <a:lnTo>
                    <a:pt x="22" y="77"/>
                  </a:lnTo>
                  <a:lnTo>
                    <a:pt x="16" y="84"/>
                  </a:lnTo>
                  <a:lnTo>
                    <a:pt x="10" y="90"/>
                  </a:lnTo>
                  <a:lnTo>
                    <a:pt x="6" y="97"/>
                  </a:lnTo>
                  <a:lnTo>
                    <a:pt x="2" y="103"/>
                  </a:lnTo>
                  <a:lnTo>
                    <a:pt x="1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1" y="129"/>
                  </a:lnTo>
                  <a:lnTo>
                    <a:pt x="5" y="135"/>
                  </a:lnTo>
                  <a:lnTo>
                    <a:pt x="9" y="141"/>
                  </a:lnTo>
                  <a:lnTo>
                    <a:pt x="15" y="146"/>
                  </a:lnTo>
                  <a:lnTo>
                    <a:pt x="23" y="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84"/>
            <p:cNvSpPr/>
            <p:nvPr/>
          </p:nvSpPr>
          <p:spPr>
            <a:xfrm>
              <a:off x="6240240" y="4576680"/>
              <a:ext cx="42840" cy="2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84" h="167">
                  <a:moveTo>
                    <a:pt x="23" y="152"/>
                  </a:moveTo>
                  <a:lnTo>
                    <a:pt x="32" y="158"/>
                  </a:lnTo>
                  <a:lnTo>
                    <a:pt x="41" y="162"/>
                  </a:lnTo>
                  <a:lnTo>
                    <a:pt x="49" y="165"/>
                  </a:lnTo>
                  <a:lnTo>
                    <a:pt x="57" y="166"/>
                  </a:lnTo>
                  <a:lnTo>
                    <a:pt x="65" y="167"/>
                  </a:lnTo>
                  <a:lnTo>
                    <a:pt x="74" y="166"/>
                  </a:lnTo>
                  <a:lnTo>
                    <a:pt x="82" y="165"/>
                  </a:lnTo>
                  <a:lnTo>
                    <a:pt x="90" y="164"/>
                  </a:lnTo>
                  <a:lnTo>
                    <a:pt x="105" y="157"/>
                  </a:lnTo>
                  <a:lnTo>
                    <a:pt x="119" y="149"/>
                  </a:lnTo>
                  <a:lnTo>
                    <a:pt x="133" y="139"/>
                  </a:lnTo>
                  <a:lnTo>
                    <a:pt x="146" y="129"/>
                  </a:lnTo>
                  <a:lnTo>
                    <a:pt x="168" y="108"/>
                  </a:lnTo>
                  <a:lnTo>
                    <a:pt x="187" y="91"/>
                  </a:lnTo>
                  <a:lnTo>
                    <a:pt x="195" y="86"/>
                  </a:lnTo>
                  <a:lnTo>
                    <a:pt x="201" y="84"/>
                  </a:lnTo>
                  <a:lnTo>
                    <a:pt x="204" y="84"/>
                  </a:lnTo>
                  <a:lnTo>
                    <a:pt x="207" y="86"/>
                  </a:lnTo>
                  <a:lnTo>
                    <a:pt x="208" y="88"/>
                  </a:lnTo>
                  <a:lnTo>
                    <a:pt x="210" y="91"/>
                  </a:lnTo>
                  <a:lnTo>
                    <a:pt x="211" y="96"/>
                  </a:lnTo>
                  <a:lnTo>
                    <a:pt x="214" y="98"/>
                  </a:lnTo>
                  <a:lnTo>
                    <a:pt x="217" y="101"/>
                  </a:lnTo>
                  <a:lnTo>
                    <a:pt x="220" y="101"/>
                  </a:lnTo>
                  <a:lnTo>
                    <a:pt x="223" y="102"/>
                  </a:lnTo>
                  <a:lnTo>
                    <a:pt x="228" y="101"/>
                  </a:lnTo>
                  <a:lnTo>
                    <a:pt x="231" y="100"/>
                  </a:lnTo>
                  <a:lnTo>
                    <a:pt x="236" y="97"/>
                  </a:lnTo>
                  <a:lnTo>
                    <a:pt x="245" y="91"/>
                  </a:lnTo>
                  <a:lnTo>
                    <a:pt x="255" y="83"/>
                  </a:lnTo>
                  <a:lnTo>
                    <a:pt x="263" y="74"/>
                  </a:lnTo>
                  <a:lnTo>
                    <a:pt x="271" y="63"/>
                  </a:lnTo>
                  <a:lnTo>
                    <a:pt x="277" y="52"/>
                  </a:lnTo>
                  <a:lnTo>
                    <a:pt x="281" y="41"/>
                  </a:lnTo>
                  <a:lnTo>
                    <a:pt x="283" y="35"/>
                  </a:lnTo>
                  <a:lnTo>
                    <a:pt x="284" y="31"/>
                  </a:lnTo>
                  <a:lnTo>
                    <a:pt x="284" y="26"/>
                  </a:lnTo>
                  <a:lnTo>
                    <a:pt x="283" y="20"/>
                  </a:lnTo>
                  <a:lnTo>
                    <a:pt x="280" y="17"/>
                  </a:lnTo>
                  <a:lnTo>
                    <a:pt x="278" y="12"/>
                  </a:lnTo>
                  <a:lnTo>
                    <a:pt x="274" y="9"/>
                  </a:lnTo>
                  <a:lnTo>
                    <a:pt x="270" y="6"/>
                  </a:lnTo>
                  <a:lnTo>
                    <a:pt x="264" y="4"/>
                  </a:lnTo>
                  <a:lnTo>
                    <a:pt x="257" y="2"/>
                  </a:lnTo>
                  <a:lnTo>
                    <a:pt x="249" y="0"/>
                  </a:lnTo>
                  <a:lnTo>
                    <a:pt x="239" y="0"/>
                  </a:lnTo>
                  <a:lnTo>
                    <a:pt x="218" y="0"/>
                  </a:lnTo>
                  <a:lnTo>
                    <a:pt x="195" y="4"/>
                  </a:lnTo>
                  <a:lnTo>
                    <a:pt x="172" y="9"/>
                  </a:lnTo>
                  <a:lnTo>
                    <a:pt x="147" y="16"/>
                  </a:lnTo>
                  <a:lnTo>
                    <a:pt x="123" y="23"/>
                  </a:lnTo>
                  <a:lnTo>
                    <a:pt x="99" y="32"/>
                  </a:lnTo>
                  <a:lnTo>
                    <a:pt x="77" y="42"/>
                  </a:lnTo>
                  <a:lnTo>
                    <a:pt x="56" y="54"/>
                  </a:lnTo>
                  <a:lnTo>
                    <a:pt x="39" y="66"/>
                  </a:lnTo>
                  <a:lnTo>
                    <a:pt x="22" y="77"/>
                  </a:lnTo>
                  <a:lnTo>
                    <a:pt x="16" y="84"/>
                  </a:lnTo>
                  <a:lnTo>
                    <a:pt x="10" y="90"/>
                  </a:lnTo>
                  <a:lnTo>
                    <a:pt x="6" y="97"/>
                  </a:lnTo>
                  <a:lnTo>
                    <a:pt x="2" y="103"/>
                  </a:lnTo>
                  <a:lnTo>
                    <a:pt x="1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1" y="129"/>
                  </a:lnTo>
                  <a:lnTo>
                    <a:pt x="5" y="135"/>
                  </a:lnTo>
                  <a:lnTo>
                    <a:pt x="9" y="141"/>
                  </a:lnTo>
                  <a:lnTo>
                    <a:pt x="15" y="146"/>
                  </a:lnTo>
                  <a:lnTo>
                    <a:pt x="23" y="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85"/>
            <p:cNvSpPr/>
            <p:nvPr/>
          </p:nvSpPr>
          <p:spPr>
            <a:xfrm>
              <a:off x="6210360" y="4551480"/>
              <a:ext cx="39600" cy="29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57" h="173">
                  <a:moveTo>
                    <a:pt x="163" y="0"/>
                  </a:moveTo>
                  <a:lnTo>
                    <a:pt x="131" y="64"/>
                  </a:lnTo>
                  <a:lnTo>
                    <a:pt x="70" y="64"/>
                  </a:lnTo>
                  <a:lnTo>
                    <a:pt x="54" y="77"/>
                  </a:lnTo>
                  <a:lnTo>
                    <a:pt x="39" y="91"/>
                  </a:lnTo>
                  <a:lnTo>
                    <a:pt x="26" y="103"/>
                  </a:lnTo>
                  <a:lnTo>
                    <a:pt x="15" y="114"/>
                  </a:lnTo>
                  <a:lnTo>
                    <a:pt x="8" y="125"/>
                  </a:lnTo>
                  <a:lnTo>
                    <a:pt x="3" y="134"/>
                  </a:lnTo>
                  <a:lnTo>
                    <a:pt x="1" y="139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1" y="151"/>
                  </a:lnTo>
                  <a:lnTo>
                    <a:pt x="3" y="154"/>
                  </a:lnTo>
                  <a:lnTo>
                    <a:pt x="5" y="158"/>
                  </a:lnTo>
                  <a:lnTo>
                    <a:pt x="8" y="160"/>
                  </a:lnTo>
                  <a:lnTo>
                    <a:pt x="12" y="162"/>
                  </a:lnTo>
                  <a:lnTo>
                    <a:pt x="22" y="167"/>
                  </a:lnTo>
                  <a:lnTo>
                    <a:pt x="36" y="170"/>
                  </a:lnTo>
                  <a:lnTo>
                    <a:pt x="54" y="173"/>
                  </a:lnTo>
                  <a:lnTo>
                    <a:pt x="75" y="173"/>
                  </a:lnTo>
                  <a:lnTo>
                    <a:pt x="101" y="173"/>
                  </a:lnTo>
                  <a:lnTo>
                    <a:pt x="131" y="170"/>
                  </a:lnTo>
                  <a:lnTo>
                    <a:pt x="146" y="168"/>
                  </a:lnTo>
                  <a:lnTo>
                    <a:pt x="160" y="166"/>
                  </a:lnTo>
                  <a:lnTo>
                    <a:pt x="174" y="162"/>
                  </a:lnTo>
                  <a:lnTo>
                    <a:pt x="186" y="159"/>
                  </a:lnTo>
                  <a:lnTo>
                    <a:pt x="198" y="154"/>
                  </a:lnTo>
                  <a:lnTo>
                    <a:pt x="207" y="148"/>
                  </a:lnTo>
                  <a:lnTo>
                    <a:pt x="216" y="142"/>
                  </a:lnTo>
                  <a:lnTo>
                    <a:pt x="224" y="135"/>
                  </a:lnTo>
                  <a:lnTo>
                    <a:pt x="233" y="128"/>
                  </a:lnTo>
                  <a:lnTo>
                    <a:pt x="239" y="121"/>
                  </a:lnTo>
                  <a:lnTo>
                    <a:pt x="243" y="114"/>
                  </a:lnTo>
                  <a:lnTo>
                    <a:pt x="248" y="106"/>
                  </a:lnTo>
                  <a:lnTo>
                    <a:pt x="251" y="99"/>
                  </a:lnTo>
                  <a:lnTo>
                    <a:pt x="254" y="91"/>
                  </a:lnTo>
                  <a:lnTo>
                    <a:pt x="256" y="83"/>
                  </a:lnTo>
                  <a:lnTo>
                    <a:pt x="257" y="75"/>
                  </a:lnTo>
                  <a:lnTo>
                    <a:pt x="257" y="66"/>
                  </a:lnTo>
                  <a:lnTo>
                    <a:pt x="256" y="59"/>
                  </a:lnTo>
                  <a:lnTo>
                    <a:pt x="254" y="51"/>
                  </a:lnTo>
                  <a:lnTo>
                    <a:pt x="251" y="44"/>
                  </a:lnTo>
                  <a:lnTo>
                    <a:pt x="248" y="37"/>
                  </a:lnTo>
                  <a:lnTo>
                    <a:pt x="244" y="30"/>
                  </a:lnTo>
                  <a:lnTo>
                    <a:pt x="240" y="24"/>
                  </a:lnTo>
                  <a:lnTo>
                    <a:pt x="234" y="19"/>
                  </a:lnTo>
                  <a:lnTo>
                    <a:pt x="227" y="14"/>
                  </a:lnTo>
                  <a:lnTo>
                    <a:pt x="220" y="9"/>
                  </a:lnTo>
                  <a:lnTo>
                    <a:pt x="212" y="6"/>
                  </a:lnTo>
                  <a:lnTo>
                    <a:pt x="203" y="3"/>
                  </a:lnTo>
                  <a:lnTo>
                    <a:pt x="194" y="1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86"/>
            <p:cNvSpPr/>
            <p:nvPr/>
          </p:nvSpPr>
          <p:spPr>
            <a:xfrm>
              <a:off x="6210360" y="4551480"/>
              <a:ext cx="39600" cy="29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57" h="173">
                  <a:moveTo>
                    <a:pt x="163" y="0"/>
                  </a:moveTo>
                  <a:lnTo>
                    <a:pt x="131" y="64"/>
                  </a:lnTo>
                  <a:lnTo>
                    <a:pt x="70" y="64"/>
                  </a:lnTo>
                  <a:lnTo>
                    <a:pt x="54" y="77"/>
                  </a:lnTo>
                  <a:lnTo>
                    <a:pt x="39" y="91"/>
                  </a:lnTo>
                  <a:lnTo>
                    <a:pt x="26" y="103"/>
                  </a:lnTo>
                  <a:lnTo>
                    <a:pt x="15" y="114"/>
                  </a:lnTo>
                  <a:lnTo>
                    <a:pt x="8" y="125"/>
                  </a:lnTo>
                  <a:lnTo>
                    <a:pt x="3" y="134"/>
                  </a:lnTo>
                  <a:lnTo>
                    <a:pt x="1" y="139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1" y="151"/>
                  </a:lnTo>
                  <a:lnTo>
                    <a:pt x="3" y="154"/>
                  </a:lnTo>
                  <a:lnTo>
                    <a:pt x="5" y="158"/>
                  </a:lnTo>
                  <a:lnTo>
                    <a:pt x="8" y="160"/>
                  </a:lnTo>
                  <a:lnTo>
                    <a:pt x="12" y="162"/>
                  </a:lnTo>
                  <a:lnTo>
                    <a:pt x="22" y="167"/>
                  </a:lnTo>
                  <a:lnTo>
                    <a:pt x="36" y="170"/>
                  </a:lnTo>
                  <a:lnTo>
                    <a:pt x="54" y="173"/>
                  </a:lnTo>
                  <a:lnTo>
                    <a:pt x="75" y="173"/>
                  </a:lnTo>
                  <a:lnTo>
                    <a:pt x="101" y="173"/>
                  </a:lnTo>
                  <a:lnTo>
                    <a:pt x="131" y="170"/>
                  </a:lnTo>
                  <a:lnTo>
                    <a:pt x="146" y="168"/>
                  </a:lnTo>
                  <a:lnTo>
                    <a:pt x="160" y="166"/>
                  </a:lnTo>
                  <a:lnTo>
                    <a:pt x="174" y="162"/>
                  </a:lnTo>
                  <a:lnTo>
                    <a:pt x="186" y="159"/>
                  </a:lnTo>
                  <a:lnTo>
                    <a:pt x="198" y="154"/>
                  </a:lnTo>
                  <a:lnTo>
                    <a:pt x="207" y="148"/>
                  </a:lnTo>
                  <a:lnTo>
                    <a:pt x="216" y="142"/>
                  </a:lnTo>
                  <a:lnTo>
                    <a:pt x="224" y="135"/>
                  </a:lnTo>
                  <a:lnTo>
                    <a:pt x="233" y="128"/>
                  </a:lnTo>
                  <a:lnTo>
                    <a:pt x="239" y="121"/>
                  </a:lnTo>
                  <a:lnTo>
                    <a:pt x="243" y="114"/>
                  </a:lnTo>
                  <a:lnTo>
                    <a:pt x="248" y="106"/>
                  </a:lnTo>
                  <a:lnTo>
                    <a:pt x="251" y="99"/>
                  </a:lnTo>
                  <a:lnTo>
                    <a:pt x="254" y="91"/>
                  </a:lnTo>
                  <a:lnTo>
                    <a:pt x="256" y="83"/>
                  </a:lnTo>
                  <a:lnTo>
                    <a:pt x="257" y="75"/>
                  </a:lnTo>
                  <a:lnTo>
                    <a:pt x="257" y="66"/>
                  </a:lnTo>
                  <a:lnTo>
                    <a:pt x="256" y="59"/>
                  </a:lnTo>
                  <a:lnTo>
                    <a:pt x="254" y="51"/>
                  </a:lnTo>
                  <a:lnTo>
                    <a:pt x="251" y="44"/>
                  </a:lnTo>
                  <a:lnTo>
                    <a:pt x="248" y="37"/>
                  </a:lnTo>
                  <a:lnTo>
                    <a:pt x="244" y="30"/>
                  </a:lnTo>
                  <a:lnTo>
                    <a:pt x="240" y="24"/>
                  </a:lnTo>
                  <a:lnTo>
                    <a:pt x="234" y="19"/>
                  </a:lnTo>
                  <a:lnTo>
                    <a:pt x="227" y="14"/>
                  </a:lnTo>
                  <a:lnTo>
                    <a:pt x="220" y="9"/>
                  </a:lnTo>
                  <a:lnTo>
                    <a:pt x="212" y="6"/>
                  </a:lnTo>
                  <a:lnTo>
                    <a:pt x="203" y="3"/>
                  </a:lnTo>
                  <a:lnTo>
                    <a:pt x="194" y="1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63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87"/>
            <p:cNvSpPr/>
            <p:nvPr/>
          </p:nvSpPr>
          <p:spPr>
            <a:xfrm>
              <a:off x="6136920" y="4532400"/>
              <a:ext cx="42840" cy="201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85" h="123">
                  <a:moveTo>
                    <a:pt x="106" y="28"/>
                  </a:moveTo>
                  <a:lnTo>
                    <a:pt x="86" y="36"/>
                  </a:lnTo>
                  <a:lnTo>
                    <a:pt x="68" y="44"/>
                  </a:lnTo>
                  <a:lnTo>
                    <a:pt x="52" y="53"/>
                  </a:lnTo>
                  <a:lnTo>
                    <a:pt x="38" y="62"/>
                  </a:lnTo>
                  <a:lnTo>
                    <a:pt x="25" y="71"/>
                  </a:lnTo>
                  <a:lnTo>
                    <a:pt x="16" y="79"/>
                  </a:lnTo>
                  <a:lnTo>
                    <a:pt x="7" y="87"/>
                  </a:lnTo>
                  <a:lnTo>
                    <a:pt x="3" y="94"/>
                  </a:lnTo>
                  <a:lnTo>
                    <a:pt x="2" y="99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2" y="108"/>
                  </a:lnTo>
                  <a:lnTo>
                    <a:pt x="3" y="111"/>
                  </a:lnTo>
                  <a:lnTo>
                    <a:pt x="5" y="113"/>
                  </a:lnTo>
                  <a:lnTo>
                    <a:pt x="7" y="115"/>
                  </a:lnTo>
                  <a:lnTo>
                    <a:pt x="12" y="118"/>
                  </a:lnTo>
                  <a:lnTo>
                    <a:pt x="21" y="120"/>
                  </a:lnTo>
                  <a:lnTo>
                    <a:pt x="35" y="121"/>
                  </a:lnTo>
                  <a:lnTo>
                    <a:pt x="53" y="121"/>
                  </a:lnTo>
                  <a:lnTo>
                    <a:pt x="74" y="119"/>
                  </a:lnTo>
                  <a:lnTo>
                    <a:pt x="96" y="118"/>
                  </a:lnTo>
                  <a:lnTo>
                    <a:pt x="116" y="115"/>
                  </a:lnTo>
                  <a:lnTo>
                    <a:pt x="135" y="115"/>
                  </a:lnTo>
                  <a:lnTo>
                    <a:pt x="151" y="115"/>
                  </a:lnTo>
                  <a:lnTo>
                    <a:pt x="179" y="116"/>
                  </a:lnTo>
                  <a:lnTo>
                    <a:pt x="203" y="119"/>
                  </a:lnTo>
                  <a:lnTo>
                    <a:pt x="221" y="122"/>
                  </a:lnTo>
                  <a:lnTo>
                    <a:pt x="236" y="123"/>
                  </a:lnTo>
                  <a:lnTo>
                    <a:pt x="243" y="123"/>
                  </a:lnTo>
                  <a:lnTo>
                    <a:pt x="249" y="122"/>
                  </a:lnTo>
                  <a:lnTo>
                    <a:pt x="255" y="121"/>
                  </a:lnTo>
                  <a:lnTo>
                    <a:pt x="262" y="119"/>
                  </a:lnTo>
                  <a:lnTo>
                    <a:pt x="267" y="115"/>
                  </a:lnTo>
                  <a:lnTo>
                    <a:pt x="273" y="107"/>
                  </a:lnTo>
                  <a:lnTo>
                    <a:pt x="277" y="98"/>
                  </a:lnTo>
                  <a:lnTo>
                    <a:pt x="282" y="86"/>
                  </a:lnTo>
                  <a:lnTo>
                    <a:pt x="284" y="73"/>
                  </a:lnTo>
                  <a:lnTo>
                    <a:pt x="285" y="59"/>
                  </a:lnTo>
                  <a:lnTo>
                    <a:pt x="285" y="52"/>
                  </a:lnTo>
                  <a:lnTo>
                    <a:pt x="284" y="46"/>
                  </a:lnTo>
                  <a:lnTo>
                    <a:pt x="283" y="39"/>
                  </a:lnTo>
                  <a:lnTo>
                    <a:pt x="281" y="34"/>
                  </a:lnTo>
                  <a:lnTo>
                    <a:pt x="278" y="28"/>
                  </a:lnTo>
                  <a:lnTo>
                    <a:pt x="274" y="22"/>
                  </a:lnTo>
                  <a:lnTo>
                    <a:pt x="269" y="17"/>
                  </a:lnTo>
                  <a:lnTo>
                    <a:pt x="264" y="13"/>
                  </a:lnTo>
                  <a:lnTo>
                    <a:pt x="257" y="8"/>
                  </a:lnTo>
                  <a:lnTo>
                    <a:pt x="250" y="4"/>
                  </a:lnTo>
                  <a:lnTo>
                    <a:pt x="241" y="2"/>
                  </a:lnTo>
                  <a:lnTo>
                    <a:pt x="232" y="1"/>
                  </a:lnTo>
                  <a:lnTo>
                    <a:pt x="220" y="0"/>
                  </a:lnTo>
                  <a:lnTo>
                    <a:pt x="208" y="0"/>
                  </a:lnTo>
                  <a:lnTo>
                    <a:pt x="194" y="2"/>
                  </a:lnTo>
                  <a:lnTo>
                    <a:pt x="180" y="4"/>
                  </a:lnTo>
                  <a:lnTo>
                    <a:pt x="164" y="8"/>
                  </a:lnTo>
                  <a:lnTo>
                    <a:pt x="146" y="13"/>
                  </a:lnTo>
                  <a:lnTo>
                    <a:pt x="127" y="20"/>
                  </a:lnTo>
                  <a:lnTo>
                    <a:pt x="106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Freeform 88"/>
            <p:cNvSpPr/>
            <p:nvPr/>
          </p:nvSpPr>
          <p:spPr>
            <a:xfrm>
              <a:off x="6136920" y="4532400"/>
              <a:ext cx="42840" cy="201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85" h="123">
                  <a:moveTo>
                    <a:pt x="106" y="28"/>
                  </a:moveTo>
                  <a:lnTo>
                    <a:pt x="86" y="36"/>
                  </a:lnTo>
                  <a:lnTo>
                    <a:pt x="68" y="44"/>
                  </a:lnTo>
                  <a:lnTo>
                    <a:pt x="52" y="53"/>
                  </a:lnTo>
                  <a:lnTo>
                    <a:pt x="38" y="62"/>
                  </a:lnTo>
                  <a:lnTo>
                    <a:pt x="25" y="71"/>
                  </a:lnTo>
                  <a:lnTo>
                    <a:pt x="16" y="79"/>
                  </a:lnTo>
                  <a:lnTo>
                    <a:pt x="7" y="87"/>
                  </a:lnTo>
                  <a:lnTo>
                    <a:pt x="3" y="94"/>
                  </a:lnTo>
                  <a:lnTo>
                    <a:pt x="2" y="99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2" y="108"/>
                  </a:lnTo>
                  <a:lnTo>
                    <a:pt x="3" y="111"/>
                  </a:lnTo>
                  <a:lnTo>
                    <a:pt x="5" y="113"/>
                  </a:lnTo>
                  <a:lnTo>
                    <a:pt x="7" y="115"/>
                  </a:lnTo>
                  <a:lnTo>
                    <a:pt x="12" y="118"/>
                  </a:lnTo>
                  <a:lnTo>
                    <a:pt x="21" y="120"/>
                  </a:lnTo>
                  <a:lnTo>
                    <a:pt x="35" y="121"/>
                  </a:lnTo>
                  <a:lnTo>
                    <a:pt x="53" y="121"/>
                  </a:lnTo>
                  <a:lnTo>
                    <a:pt x="74" y="119"/>
                  </a:lnTo>
                  <a:lnTo>
                    <a:pt x="96" y="118"/>
                  </a:lnTo>
                  <a:lnTo>
                    <a:pt x="116" y="115"/>
                  </a:lnTo>
                  <a:lnTo>
                    <a:pt x="135" y="115"/>
                  </a:lnTo>
                  <a:lnTo>
                    <a:pt x="151" y="115"/>
                  </a:lnTo>
                  <a:lnTo>
                    <a:pt x="179" y="116"/>
                  </a:lnTo>
                  <a:lnTo>
                    <a:pt x="203" y="119"/>
                  </a:lnTo>
                  <a:lnTo>
                    <a:pt x="221" y="122"/>
                  </a:lnTo>
                  <a:lnTo>
                    <a:pt x="236" y="123"/>
                  </a:lnTo>
                  <a:lnTo>
                    <a:pt x="243" y="123"/>
                  </a:lnTo>
                  <a:lnTo>
                    <a:pt x="249" y="122"/>
                  </a:lnTo>
                  <a:lnTo>
                    <a:pt x="255" y="121"/>
                  </a:lnTo>
                  <a:lnTo>
                    <a:pt x="262" y="119"/>
                  </a:lnTo>
                  <a:lnTo>
                    <a:pt x="267" y="115"/>
                  </a:lnTo>
                  <a:lnTo>
                    <a:pt x="273" y="107"/>
                  </a:lnTo>
                  <a:lnTo>
                    <a:pt x="277" y="98"/>
                  </a:lnTo>
                  <a:lnTo>
                    <a:pt x="282" y="86"/>
                  </a:lnTo>
                  <a:lnTo>
                    <a:pt x="284" y="73"/>
                  </a:lnTo>
                  <a:lnTo>
                    <a:pt x="285" y="59"/>
                  </a:lnTo>
                  <a:lnTo>
                    <a:pt x="285" y="52"/>
                  </a:lnTo>
                  <a:lnTo>
                    <a:pt x="284" y="46"/>
                  </a:lnTo>
                  <a:lnTo>
                    <a:pt x="283" y="39"/>
                  </a:lnTo>
                  <a:lnTo>
                    <a:pt x="281" y="34"/>
                  </a:lnTo>
                  <a:lnTo>
                    <a:pt x="278" y="28"/>
                  </a:lnTo>
                  <a:lnTo>
                    <a:pt x="274" y="22"/>
                  </a:lnTo>
                  <a:lnTo>
                    <a:pt x="269" y="17"/>
                  </a:lnTo>
                  <a:lnTo>
                    <a:pt x="264" y="13"/>
                  </a:lnTo>
                  <a:lnTo>
                    <a:pt x="257" y="8"/>
                  </a:lnTo>
                  <a:lnTo>
                    <a:pt x="250" y="4"/>
                  </a:lnTo>
                  <a:lnTo>
                    <a:pt x="241" y="2"/>
                  </a:lnTo>
                  <a:lnTo>
                    <a:pt x="232" y="1"/>
                  </a:lnTo>
                  <a:lnTo>
                    <a:pt x="220" y="0"/>
                  </a:lnTo>
                  <a:lnTo>
                    <a:pt x="208" y="0"/>
                  </a:lnTo>
                  <a:lnTo>
                    <a:pt x="194" y="2"/>
                  </a:lnTo>
                  <a:lnTo>
                    <a:pt x="180" y="4"/>
                  </a:lnTo>
                  <a:lnTo>
                    <a:pt x="164" y="8"/>
                  </a:lnTo>
                  <a:lnTo>
                    <a:pt x="146" y="13"/>
                  </a:lnTo>
                  <a:lnTo>
                    <a:pt x="127" y="20"/>
                  </a:lnTo>
                  <a:lnTo>
                    <a:pt x="106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Freeform 89"/>
            <p:cNvSpPr/>
            <p:nvPr/>
          </p:nvSpPr>
          <p:spPr>
            <a:xfrm>
              <a:off x="6096240" y="4539240"/>
              <a:ext cx="31320" cy="363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07" h="221">
                  <a:moveTo>
                    <a:pt x="207" y="50"/>
                  </a:moveTo>
                  <a:lnTo>
                    <a:pt x="97" y="206"/>
                  </a:lnTo>
                  <a:lnTo>
                    <a:pt x="90" y="208"/>
                  </a:lnTo>
                  <a:lnTo>
                    <a:pt x="73" y="214"/>
                  </a:lnTo>
                  <a:lnTo>
                    <a:pt x="61" y="216"/>
                  </a:lnTo>
                  <a:lnTo>
                    <a:pt x="49" y="218"/>
                  </a:lnTo>
                  <a:lnTo>
                    <a:pt x="38" y="221"/>
                  </a:lnTo>
                  <a:lnTo>
                    <a:pt x="26" y="221"/>
                  </a:lnTo>
                  <a:lnTo>
                    <a:pt x="17" y="221"/>
                  </a:lnTo>
                  <a:lnTo>
                    <a:pt x="9" y="218"/>
                  </a:lnTo>
                  <a:lnTo>
                    <a:pt x="5" y="216"/>
                  </a:lnTo>
                  <a:lnTo>
                    <a:pt x="3" y="214"/>
                  </a:lnTo>
                  <a:lnTo>
                    <a:pt x="2" y="210"/>
                  </a:lnTo>
                  <a:lnTo>
                    <a:pt x="0" y="206"/>
                  </a:lnTo>
                  <a:lnTo>
                    <a:pt x="0" y="202"/>
                  </a:lnTo>
                  <a:lnTo>
                    <a:pt x="2" y="196"/>
                  </a:lnTo>
                  <a:lnTo>
                    <a:pt x="5" y="190"/>
                  </a:lnTo>
                  <a:lnTo>
                    <a:pt x="9" y="183"/>
                  </a:lnTo>
                  <a:lnTo>
                    <a:pt x="20" y="166"/>
                  </a:lnTo>
                  <a:lnTo>
                    <a:pt x="37" y="146"/>
                  </a:lnTo>
                  <a:lnTo>
                    <a:pt x="73" y="102"/>
                  </a:lnTo>
                  <a:lnTo>
                    <a:pt x="102" y="63"/>
                  </a:lnTo>
                  <a:lnTo>
                    <a:pt x="115" y="47"/>
                  </a:lnTo>
                  <a:lnTo>
                    <a:pt x="125" y="33"/>
                  </a:lnTo>
                  <a:lnTo>
                    <a:pt x="136" y="21"/>
                  </a:lnTo>
                  <a:lnTo>
                    <a:pt x="145" y="12"/>
                  </a:lnTo>
                  <a:lnTo>
                    <a:pt x="153" y="5"/>
                  </a:lnTo>
                  <a:lnTo>
                    <a:pt x="162" y="1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72" y="1"/>
                  </a:lnTo>
                  <a:lnTo>
                    <a:pt x="176" y="4"/>
                  </a:lnTo>
                  <a:lnTo>
                    <a:pt x="179" y="6"/>
                  </a:lnTo>
                  <a:lnTo>
                    <a:pt x="184" y="9"/>
                  </a:lnTo>
                  <a:lnTo>
                    <a:pt x="187" y="14"/>
                  </a:lnTo>
                  <a:lnTo>
                    <a:pt x="191" y="19"/>
                  </a:lnTo>
                  <a:lnTo>
                    <a:pt x="199" y="33"/>
                  </a:lnTo>
                  <a:lnTo>
                    <a:pt x="207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Freeform 90"/>
            <p:cNvSpPr/>
            <p:nvPr/>
          </p:nvSpPr>
          <p:spPr>
            <a:xfrm>
              <a:off x="6096240" y="4539240"/>
              <a:ext cx="31320" cy="363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07" h="221">
                  <a:moveTo>
                    <a:pt x="207" y="50"/>
                  </a:moveTo>
                  <a:lnTo>
                    <a:pt x="97" y="206"/>
                  </a:lnTo>
                  <a:lnTo>
                    <a:pt x="90" y="208"/>
                  </a:lnTo>
                  <a:lnTo>
                    <a:pt x="73" y="214"/>
                  </a:lnTo>
                  <a:lnTo>
                    <a:pt x="61" y="216"/>
                  </a:lnTo>
                  <a:lnTo>
                    <a:pt x="49" y="218"/>
                  </a:lnTo>
                  <a:lnTo>
                    <a:pt x="38" y="221"/>
                  </a:lnTo>
                  <a:lnTo>
                    <a:pt x="26" y="221"/>
                  </a:lnTo>
                  <a:lnTo>
                    <a:pt x="17" y="221"/>
                  </a:lnTo>
                  <a:lnTo>
                    <a:pt x="9" y="218"/>
                  </a:lnTo>
                  <a:lnTo>
                    <a:pt x="5" y="216"/>
                  </a:lnTo>
                  <a:lnTo>
                    <a:pt x="3" y="214"/>
                  </a:lnTo>
                  <a:lnTo>
                    <a:pt x="2" y="210"/>
                  </a:lnTo>
                  <a:lnTo>
                    <a:pt x="0" y="206"/>
                  </a:lnTo>
                  <a:lnTo>
                    <a:pt x="0" y="202"/>
                  </a:lnTo>
                  <a:lnTo>
                    <a:pt x="2" y="196"/>
                  </a:lnTo>
                  <a:lnTo>
                    <a:pt x="5" y="190"/>
                  </a:lnTo>
                  <a:lnTo>
                    <a:pt x="9" y="183"/>
                  </a:lnTo>
                  <a:lnTo>
                    <a:pt x="20" y="166"/>
                  </a:lnTo>
                  <a:lnTo>
                    <a:pt x="37" y="146"/>
                  </a:lnTo>
                  <a:lnTo>
                    <a:pt x="73" y="102"/>
                  </a:lnTo>
                  <a:lnTo>
                    <a:pt x="102" y="63"/>
                  </a:lnTo>
                  <a:lnTo>
                    <a:pt x="115" y="47"/>
                  </a:lnTo>
                  <a:lnTo>
                    <a:pt x="125" y="33"/>
                  </a:lnTo>
                  <a:lnTo>
                    <a:pt x="136" y="21"/>
                  </a:lnTo>
                  <a:lnTo>
                    <a:pt x="145" y="12"/>
                  </a:lnTo>
                  <a:lnTo>
                    <a:pt x="153" y="5"/>
                  </a:lnTo>
                  <a:lnTo>
                    <a:pt x="162" y="1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72" y="1"/>
                  </a:lnTo>
                  <a:lnTo>
                    <a:pt x="176" y="4"/>
                  </a:lnTo>
                  <a:lnTo>
                    <a:pt x="179" y="6"/>
                  </a:lnTo>
                  <a:lnTo>
                    <a:pt x="184" y="9"/>
                  </a:lnTo>
                  <a:lnTo>
                    <a:pt x="187" y="14"/>
                  </a:lnTo>
                  <a:lnTo>
                    <a:pt x="191" y="19"/>
                  </a:lnTo>
                  <a:lnTo>
                    <a:pt x="199" y="33"/>
                  </a:lnTo>
                  <a:lnTo>
                    <a:pt x="207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Freeform 91"/>
            <p:cNvSpPr/>
            <p:nvPr/>
          </p:nvSpPr>
          <p:spPr>
            <a:xfrm>
              <a:off x="7670520" y="3784320"/>
              <a:ext cx="218520" cy="6840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52" h="422">
                  <a:moveTo>
                    <a:pt x="0" y="206"/>
                  </a:moveTo>
                  <a:lnTo>
                    <a:pt x="24" y="230"/>
                  </a:lnTo>
                  <a:lnTo>
                    <a:pt x="50" y="250"/>
                  </a:lnTo>
                  <a:lnTo>
                    <a:pt x="75" y="268"/>
                  </a:lnTo>
                  <a:lnTo>
                    <a:pt x="98" y="282"/>
                  </a:lnTo>
                  <a:lnTo>
                    <a:pt x="122" y="295"/>
                  </a:lnTo>
                  <a:lnTo>
                    <a:pt x="147" y="306"/>
                  </a:lnTo>
                  <a:lnTo>
                    <a:pt x="171" y="315"/>
                  </a:lnTo>
                  <a:lnTo>
                    <a:pt x="195" y="321"/>
                  </a:lnTo>
                  <a:lnTo>
                    <a:pt x="218" y="327"/>
                  </a:lnTo>
                  <a:lnTo>
                    <a:pt x="243" y="330"/>
                  </a:lnTo>
                  <a:lnTo>
                    <a:pt x="266" y="332"/>
                  </a:lnTo>
                  <a:lnTo>
                    <a:pt x="289" y="334"/>
                  </a:lnTo>
                  <a:lnTo>
                    <a:pt x="336" y="332"/>
                  </a:lnTo>
                  <a:lnTo>
                    <a:pt x="383" y="330"/>
                  </a:lnTo>
                  <a:lnTo>
                    <a:pt x="411" y="329"/>
                  </a:lnTo>
                  <a:lnTo>
                    <a:pt x="438" y="329"/>
                  </a:lnTo>
                  <a:lnTo>
                    <a:pt x="464" y="330"/>
                  </a:lnTo>
                  <a:lnTo>
                    <a:pt x="489" y="331"/>
                  </a:lnTo>
                  <a:lnTo>
                    <a:pt x="514" y="334"/>
                  </a:lnTo>
                  <a:lnTo>
                    <a:pt x="537" y="336"/>
                  </a:lnTo>
                  <a:lnTo>
                    <a:pt x="559" y="341"/>
                  </a:lnTo>
                  <a:lnTo>
                    <a:pt x="581" y="345"/>
                  </a:lnTo>
                  <a:lnTo>
                    <a:pt x="601" y="351"/>
                  </a:lnTo>
                  <a:lnTo>
                    <a:pt x="620" y="357"/>
                  </a:lnTo>
                  <a:lnTo>
                    <a:pt x="638" y="365"/>
                  </a:lnTo>
                  <a:lnTo>
                    <a:pt x="653" y="374"/>
                  </a:lnTo>
                  <a:lnTo>
                    <a:pt x="667" y="384"/>
                  </a:lnTo>
                  <a:lnTo>
                    <a:pt x="678" y="396"/>
                  </a:lnTo>
                  <a:lnTo>
                    <a:pt x="684" y="401"/>
                  </a:lnTo>
                  <a:lnTo>
                    <a:pt x="689" y="408"/>
                  </a:lnTo>
                  <a:lnTo>
                    <a:pt x="694" y="415"/>
                  </a:lnTo>
                  <a:lnTo>
                    <a:pt x="697" y="422"/>
                  </a:lnTo>
                  <a:lnTo>
                    <a:pt x="708" y="405"/>
                  </a:lnTo>
                  <a:lnTo>
                    <a:pt x="718" y="390"/>
                  </a:lnTo>
                  <a:lnTo>
                    <a:pt x="730" y="374"/>
                  </a:lnTo>
                  <a:lnTo>
                    <a:pt x="744" y="360"/>
                  </a:lnTo>
                  <a:lnTo>
                    <a:pt x="758" y="348"/>
                  </a:lnTo>
                  <a:lnTo>
                    <a:pt x="774" y="337"/>
                  </a:lnTo>
                  <a:lnTo>
                    <a:pt x="782" y="332"/>
                  </a:lnTo>
                  <a:lnTo>
                    <a:pt x="791" y="328"/>
                  </a:lnTo>
                  <a:lnTo>
                    <a:pt x="800" y="324"/>
                  </a:lnTo>
                  <a:lnTo>
                    <a:pt x="809" y="322"/>
                  </a:lnTo>
                  <a:lnTo>
                    <a:pt x="871" y="304"/>
                  </a:lnTo>
                  <a:lnTo>
                    <a:pt x="939" y="287"/>
                  </a:lnTo>
                  <a:lnTo>
                    <a:pt x="1014" y="271"/>
                  </a:lnTo>
                  <a:lnTo>
                    <a:pt x="1093" y="254"/>
                  </a:lnTo>
                  <a:lnTo>
                    <a:pt x="1177" y="239"/>
                  </a:lnTo>
                  <a:lnTo>
                    <a:pt x="1265" y="223"/>
                  </a:lnTo>
                  <a:lnTo>
                    <a:pt x="1357" y="207"/>
                  </a:lnTo>
                  <a:lnTo>
                    <a:pt x="1452" y="192"/>
                  </a:lnTo>
                  <a:lnTo>
                    <a:pt x="1439" y="177"/>
                  </a:lnTo>
                  <a:lnTo>
                    <a:pt x="1407" y="146"/>
                  </a:lnTo>
                  <a:lnTo>
                    <a:pt x="1387" y="129"/>
                  </a:lnTo>
                  <a:lnTo>
                    <a:pt x="1366" y="114"/>
                  </a:lnTo>
                  <a:lnTo>
                    <a:pt x="1356" y="108"/>
                  </a:lnTo>
                  <a:lnTo>
                    <a:pt x="1347" y="103"/>
                  </a:lnTo>
                  <a:lnTo>
                    <a:pt x="1337" y="101"/>
                  </a:lnTo>
                  <a:lnTo>
                    <a:pt x="1328" y="100"/>
                  </a:lnTo>
                  <a:lnTo>
                    <a:pt x="1308" y="101"/>
                  </a:lnTo>
                  <a:lnTo>
                    <a:pt x="1284" y="106"/>
                  </a:lnTo>
                  <a:lnTo>
                    <a:pt x="1255" y="111"/>
                  </a:lnTo>
                  <a:lnTo>
                    <a:pt x="1227" y="115"/>
                  </a:lnTo>
                  <a:lnTo>
                    <a:pt x="1212" y="116"/>
                  </a:lnTo>
                  <a:lnTo>
                    <a:pt x="1198" y="115"/>
                  </a:lnTo>
                  <a:lnTo>
                    <a:pt x="1184" y="114"/>
                  </a:lnTo>
                  <a:lnTo>
                    <a:pt x="1170" y="112"/>
                  </a:lnTo>
                  <a:lnTo>
                    <a:pt x="1159" y="107"/>
                  </a:lnTo>
                  <a:lnTo>
                    <a:pt x="1146" y="101"/>
                  </a:lnTo>
                  <a:lnTo>
                    <a:pt x="1141" y="98"/>
                  </a:lnTo>
                  <a:lnTo>
                    <a:pt x="1135" y="93"/>
                  </a:lnTo>
                  <a:lnTo>
                    <a:pt x="1131" y="88"/>
                  </a:lnTo>
                  <a:lnTo>
                    <a:pt x="1126" y="82"/>
                  </a:lnTo>
                  <a:lnTo>
                    <a:pt x="1121" y="77"/>
                  </a:lnTo>
                  <a:lnTo>
                    <a:pt x="1116" y="73"/>
                  </a:lnTo>
                  <a:lnTo>
                    <a:pt x="1111" y="68"/>
                  </a:lnTo>
                  <a:lnTo>
                    <a:pt x="1104" y="66"/>
                  </a:lnTo>
                  <a:lnTo>
                    <a:pt x="1097" y="64"/>
                  </a:lnTo>
                  <a:lnTo>
                    <a:pt x="1090" y="61"/>
                  </a:lnTo>
                  <a:lnTo>
                    <a:pt x="1081" y="60"/>
                  </a:lnTo>
                  <a:lnTo>
                    <a:pt x="1073" y="59"/>
                  </a:lnTo>
                  <a:lnTo>
                    <a:pt x="1056" y="59"/>
                  </a:lnTo>
                  <a:lnTo>
                    <a:pt x="1037" y="61"/>
                  </a:lnTo>
                  <a:lnTo>
                    <a:pt x="1020" y="64"/>
                  </a:lnTo>
                  <a:lnTo>
                    <a:pt x="1001" y="68"/>
                  </a:lnTo>
                  <a:lnTo>
                    <a:pt x="967" y="78"/>
                  </a:lnTo>
                  <a:lnTo>
                    <a:pt x="938" y="88"/>
                  </a:lnTo>
                  <a:lnTo>
                    <a:pt x="918" y="96"/>
                  </a:lnTo>
                  <a:lnTo>
                    <a:pt x="910" y="100"/>
                  </a:lnTo>
                  <a:lnTo>
                    <a:pt x="910" y="106"/>
                  </a:lnTo>
                  <a:lnTo>
                    <a:pt x="907" y="121"/>
                  </a:lnTo>
                  <a:lnTo>
                    <a:pt x="905" y="130"/>
                  </a:lnTo>
                  <a:lnTo>
                    <a:pt x="902" y="141"/>
                  </a:lnTo>
                  <a:lnTo>
                    <a:pt x="897" y="153"/>
                  </a:lnTo>
                  <a:lnTo>
                    <a:pt x="891" y="163"/>
                  </a:lnTo>
                  <a:lnTo>
                    <a:pt x="883" y="174"/>
                  </a:lnTo>
                  <a:lnTo>
                    <a:pt x="872" y="183"/>
                  </a:lnTo>
                  <a:lnTo>
                    <a:pt x="867" y="188"/>
                  </a:lnTo>
                  <a:lnTo>
                    <a:pt x="860" y="191"/>
                  </a:lnTo>
                  <a:lnTo>
                    <a:pt x="852" y="195"/>
                  </a:lnTo>
                  <a:lnTo>
                    <a:pt x="844" y="197"/>
                  </a:lnTo>
                  <a:lnTo>
                    <a:pt x="836" y="199"/>
                  </a:lnTo>
                  <a:lnTo>
                    <a:pt x="827" y="200"/>
                  </a:lnTo>
                  <a:lnTo>
                    <a:pt x="816" y="202"/>
                  </a:lnTo>
                  <a:lnTo>
                    <a:pt x="806" y="202"/>
                  </a:lnTo>
                  <a:lnTo>
                    <a:pt x="794" y="200"/>
                  </a:lnTo>
                  <a:lnTo>
                    <a:pt x="782" y="198"/>
                  </a:lnTo>
                  <a:lnTo>
                    <a:pt x="768" y="196"/>
                  </a:lnTo>
                  <a:lnTo>
                    <a:pt x="754" y="192"/>
                  </a:lnTo>
                  <a:lnTo>
                    <a:pt x="742" y="184"/>
                  </a:lnTo>
                  <a:lnTo>
                    <a:pt x="728" y="177"/>
                  </a:lnTo>
                  <a:lnTo>
                    <a:pt x="715" y="172"/>
                  </a:lnTo>
                  <a:lnTo>
                    <a:pt x="699" y="168"/>
                  </a:lnTo>
                  <a:lnTo>
                    <a:pt x="685" y="164"/>
                  </a:lnTo>
                  <a:lnTo>
                    <a:pt x="671" y="162"/>
                  </a:lnTo>
                  <a:lnTo>
                    <a:pt x="657" y="161"/>
                  </a:lnTo>
                  <a:lnTo>
                    <a:pt x="643" y="160"/>
                  </a:lnTo>
                  <a:lnTo>
                    <a:pt x="589" y="161"/>
                  </a:lnTo>
                  <a:lnTo>
                    <a:pt x="542" y="164"/>
                  </a:lnTo>
                  <a:lnTo>
                    <a:pt x="531" y="164"/>
                  </a:lnTo>
                  <a:lnTo>
                    <a:pt x="522" y="164"/>
                  </a:lnTo>
                  <a:lnTo>
                    <a:pt x="514" y="163"/>
                  </a:lnTo>
                  <a:lnTo>
                    <a:pt x="507" y="162"/>
                  </a:lnTo>
                  <a:lnTo>
                    <a:pt x="500" y="160"/>
                  </a:lnTo>
                  <a:lnTo>
                    <a:pt x="495" y="156"/>
                  </a:lnTo>
                  <a:lnTo>
                    <a:pt x="492" y="153"/>
                  </a:lnTo>
                  <a:lnTo>
                    <a:pt x="488" y="148"/>
                  </a:lnTo>
                  <a:lnTo>
                    <a:pt x="487" y="141"/>
                  </a:lnTo>
                  <a:lnTo>
                    <a:pt x="488" y="134"/>
                  </a:lnTo>
                  <a:lnTo>
                    <a:pt x="489" y="125"/>
                  </a:lnTo>
                  <a:lnTo>
                    <a:pt x="493" y="114"/>
                  </a:lnTo>
                  <a:lnTo>
                    <a:pt x="499" y="101"/>
                  </a:lnTo>
                  <a:lnTo>
                    <a:pt x="504" y="87"/>
                  </a:lnTo>
                  <a:lnTo>
                    <a:pt x="514" y="72"/>
                  </a:lnTo>
                  <a:lnTo>
                    <a:pt x="524" y="53"/>
                  </a:lnTo>
                  <a:lnTo>
                    <a:pt x="523" y="50"/>
                  </a:lnTo>
                  <a:lnTo>
                    <a:pt x="518" y="42"/>
                  </a:lnTo>
                  <a:lnTo>
                    <a:pt x="511" y="31"/>
                  </a:lnTo>
                  <a:lnTo>
                    <a:pt x="501" y="18"/>
                  </a:lnTo>
                  <a:lnTo>
                    <a:pt x="494" y="14"/>
                  </a:lnTo>
                  <a:lnTo>
                    <a:pt x="487" y="8"/>
                  </a:lnTo>
                  <a:lnTo>
                    <a:pt x="480" y="4"/>
                  </a:lnTo>
                  <a:lnTo>
                    <a:pt x="471" y="2"/>
                  </a:lnTo>
                  <a:lnTo>
                    <a:pt x="461" y="0"/>
                  </a:lnTo>
                  <a:lnTo>
                    <a:pt x="452" y="1"/>
                  </a:lnTo>
                  <a:lnTo>
                    <a:pt x="441" y="3"/>
                  </a:lnTo>
                  <a:lnTo>
                    <a:pt x="430" y="8"/>
                  </a:lnTo>
                  <a:lnTo>
                    <a:pt x="417" y="15"/>
                  </a:lnTo>
                  <a:lnTo>
                    <a:pt x="400" y="24"/>
                  </a:lnTo>
                  <a:lnTo>
                    <a:pt x="383" y="36"/>
                  </a:lnTo>
                  <a:lnTo>
                    <a:pt x="363" y="50"/>
                  </a:lnTo>
                  <a:lnTo>
                    <a:pt x="315" y="82"/>
                  </a:lnTo>
                  <a:lnTo>
                    <a:pt x="261" y="116"/>
                  </a:lnTo>
                  <a:lnTo>
                    <a:pt x="232" y="134"/>
                  </a:lnTo>
                  <a:lnTo>
                    <a:pt x="201" y="150"/>
                  </a:lnTo>
                  <a:lnTo>
                    <a:pt x="169" y="164"/>
                  </a:lnTo>
                  <a:lnTo>
                    <a:pt x="136" y="178"/>
                  </a:lnTo>
                  <a:lnTo>
                    <a:pt x="120" y="184"/>
                  </a:lnTo>
                  <a:lnTo>
                    <a:pt x="103" y="189"/>
                  </a:lnTo>
                  <a:lnTo>
                    <a:pt x="86" y="195"/>
                  </a:lnTo>
                  <a:lnTo>
                    <a:pt x="69" y="198"/>
                  </a:lnTo>
                  <a:lnTo>
                    <a:pt x="52" y="202"/>
                  </a:lnTo>
                  <a:lnTo>
                    <a:pt x="35" y="204"/>
                  </a:lnTo>
                  <a:lnTo>
                    <a:pt x="17" y="205"/>
                  </a:lnTo>
                  <a:lnTo>
                    <a:pt x="0" y="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92"/>
            <p:cNvSpPr/>
            <p:nvPr/>
          </p:nvSpPr>
          <p:spPr>
            <a:xfrm>
              <a:off x="7670520" y="3784320"/>
              <a:ext cx="218520" cy="6840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52" h="422">
                  <a:moveTo>
                    <a:pt x="0" y="206"/>
                  </a:moveTo>
                  <a:lnTo>
                    <a:pt x="24" y="230"/>
                  </a:lnTo>
                  <a:lnTo>
                    <a:pt x="50" y="250"/>
                  </a:lnTo>
                  <a:lnTo>
                    <a:pt x="75" y="268"/>
                  </a:lnTo>
                  <a:lnTo>
                    <a:pt x="98" y="282"/>
                  </a:lnTo>
                  <a:lnTo>
                    <a:pt x="122" y="295"/>
                  </a:lnTo>
                  <a:lnTo>
                    <a:pt x="147" y="306"/>
                  </a:lnTo>
                  <a:lnTo>
                    <a:pt x="171" y="315"/>
                  </a:lnTo>
                  <a:lnTo>
                    <a:pt x="195" y="321"/>
                  </a:lnTo>
                  <a:lnTo>
                    <a:pt x="218" y="327"/>
                  </a:lnTo>
                  <a:lnTo>
                    <a:pt x="243" y="330"/>
                  </a:lnTo>
                  <a:lnTo>
                    <a:pt x="266" y="332"/>
                  </a:lnTo>
                  <a:lnTo>
                    <a:pt x="289" y="334"/>
                  </a:lnTo>
                  <a:lnTo>
                    <a:pt x="336" y="332"/>
                  </a:lnTo>
                  <a:lnTo>
                    <a:pt x="383" y="330"/>
                  </a:lnTo>
                  <a:lnTo>
                    <a:pt x="411" y="329"/>
                  </a:lnTo>
                  <a:lnTo>
                    <a:pt x="438" y="329"/>
                  </a:lnTo>
                  <a:lnTo>
                    <a:pt x="464" y="330"/>
                  </a:lnTo>
                  <a:lnTo>
                    <a:pt x="489" y="331"/>
                  </a:lnTo>
                  <a:lnTo>
                    <a:pt x="514" y="334"/>
                  </a:lnTo>
                  <a:lnTo>
                    <a:pt x="537" y="336"/>
                  </a:lnTo>
                  <a:lnTo>
                    <a:pt x="559" y="341"/>
                  </a:lnTo>
                  <a:lnTo>
                    <a:pt x="581" y="345"/>
                  </a:lnTo>
                  <a:lnTo>
                    <a:pt x="601" y="351"/>
                  </a:lnTo>
                  <a:lnTo>
                    <a:pt x="620" y="357"/>
                  </a:lnTo>
                  <a:lnTo>
                    <a:pt x="638" y="365"/>
                  </a:lnTo>
                  <a:lnTo>
                    <a:pt x="653" y="374"/>
                  </a:lnTo>
                  <a:lnTo>
                    <a:pt x="667" y="384"/>
                  </a:lnTo>
                  <a:lnTo>
                    <a:pt x="678" y="396"/>
                  </a:lnTo>
                  <a:lnTo>
                    <a:pt x="684" y="401"/>
                  </a:lnTo>
                  <a:lnTo>
                    <a:pt x="689" y="408"/>
                  </a:lnTo>
                  <a:lnTo>
                    <a:pt x="694" y="415"/>
                  </a:lnTo>
                  <a:lnTo>
                    <a:pt x="697" y="422"/>
                  </a:lnTo>
                  <a:lnTo>
                    <a:pt x="708" y="405"/>
                  </a:lnTo>
                  <a:lnTo>
                    <a:pt x="718" y="390"/>
                  </a:lnTo>
                  <a:lnTo>
                    <a:pt x="730" y="374"/>
                  </a:lnTo>
                  <a:lnTo>
                    <a:pt x="744" y="360"/>
                  </a:lnTo>
                  <a:lnTo>
                    <a:pt x="758" y="348"/>
                  </a:lnTo>
                  <a:lnTo>
                    <a:pt x="774" y="337"/>
                  </a:lnTo>
                  <a:lnTo>
                    <a:pt x="782" y="332"/>
                  </a:lnTo>
                  <a:lnTo>
                    <a:pt x="791" y="328"/>
                  </a:lnTo>
                  <a:lnTo>
                    <a:pt x="800" y="324"/>
                  </a:lnTo>
                  <a:lnTo>
                    <a:pt x="809" y="322"/>
                  </a:lnTo>
                  <a:lnTo>
                    <a:pt x="871" y="304"/>
                  </a:lnTo>
                  <a:lnTo>
                    <a:pt x="939" y="287"/>
                  </a:lnTo>
                  <a:lnTo>
                    <a:pt x="1014" y="271"/>
                  </a:lnTo>
                  <a:lnTo>
                    <a:pt x="1093" y="254"/>
                  </a:lnTo>
                  <a:lnTo>
                    <a:pt x="1177" y="239"/>
                  </a:lnTo>
                  <a:lnTo>
                    <a:pt x="1265" y="223"/>
                  </a:lnTo>
                  <a:lnTo>
                    <a:pt x="1357" y="207"/>
                  </a:lnTo>
                  <a:lnTo>
                    <a:pt x="1452" y="192"/>
                  </a:lnTo>
                  <a:lnTo>
                    <a:pt x="1439" y="177"/>
                  </a:lnTo>
                  <a:lnTo>
                    <a:pt x="1407" y="146"/>
                  </a:lnTo>
                  <a:lnTo>
                    <a:pt x="1387" y="129"/>
                  </a:lnTo>
                  <a:lnTo>
                    <a:pt x="1366" y="114"/>
                  </a:lnTo>
                  <a:lnTo>
                    <a:pt x="1356" y="108"/>
                  </a:lnTo>
                  <a:lnTo>
                    <a:pt x="1347" y="103"/>
                  </a:lnTo>
                  <a:lnTo>
                    <a:pt x="1337" y="101"/>
                  </a:lnTo>
                  <a:lnTo>
                    <a:pt x="1328" y="100"/>
                  </a:lnTo>
                  <a:lnTo>
                    <a:pt x="1308" y="101"/>
                  </a:lnTo>
                  <a:lnTo>
                    <a:pt x="1284" y="106"/>
                  </a:lnTo>
                  <a:lnTo>
                    <a:pt x="1255" y="111"/>
                  </a:lnTo>
                  <a:lnTo>
                    <a:pt x="1227" y="115"/>
                  </a:lnTo>
                  <a:lnTo>
                    <a:pt x="1212" y="116"/>
                  </a:lnTo>
                  <a:lnTo>
                    <a:pt x="1198" y="115"/>
                  </a:lnTo>
                  <a:lnTo>
                    <a:pt x="1184" y="114"/>
                  </a:lnTo>
                  <a:lnTo>
                    <a:pt x="1170" y="112"/>
                  </a:lnTo>
                  <a:lnTo>
                    <a:pt x="1159" y="107"/>
                  </a:lnTo>
                  <a:lnTo>
                    <a:pt x="1146" y="101"/>
                  </a:lnTo>
                  <a:lnTo>
                    <a:pt x="1141" y="98"/>
                  </a:lnTo>
                  <a:lnTo>
                    <a:pt x="1135" y="93"/>
                  </a:lnTo>
                  <a:lnTo>
                    <a:pt x="1131" y="88"/>
                  </a:lnTo>
                  <a:lnTo>
                    <a:pt x="1126" y="82"/>
                  </a:lnTo>
                  <a:lnTo>
                    <a:pt x="1121" y="77"/>
                  </a:lnTo>
                  <a:lnTo>
                    <a:pt x="1116" y="73"/>
                  </a:lnTo>
                  <a:lnTo>
                    <a:pt x="1111" y="68"/>
                  </a:lnTo>
                  <a:lnTo>
                    <a:pt x="1104" y="66"/>
                  </a:lnTo>
                  <a:lnTo>
                    <a:pt x="1097" y="64"/>
                  </a:lnTo>
                  <a:lnTo>
                    <a:pt x="1090" y="61"/>
                  </a:lnTo>
                  <a:lnTo>
                    <a:pt x="1081" y="60"/>
                  </a:lnTo>
                  <a:lnTo>
                    <a:pt x="1073" y="59"/>
                  </a:lnTo>
                  <a:lnTo>
                    <a:pt x="1056" y="59"/>
                  </a:lnTo>
                  <a:lnTo>
                    <a:pt x="1037" y="61"/>
                  </a:lnTo>
                  <a:lnTo>
                    <a:pt x="1020" y="64"/>
                  </a:lnTo>
                  <a:lnTo>
                    <a:pt x="1001" y="68"/>
                  </a:lnTo>
                  <a:lnTo>
                    <a:pt x="967" y="78"/>
                  </a:lnTo>
                  <a:lnTo>
                    <a:pt x="938" y="88"/>
                  </a:lnTo>
                  <a:lnTo>
                    <a:pt x="918" y="96"/>
                  </a:lnTo>
                  <a:lnTo>
                    <a:pt x="910" y="100"/>
                  </a:lnTo>
                  <a:lnTo>
                    <a:pt x="910" y="106"/>
                  </a:lnTo>
                  <a:lnTo>
                    <a:pt x="907" y="121"/>
                  </a:lnTo>
                  <a:lnTo>
                    <a:pt x="905" y="130"/>
                  </a:lnTo>
                  <a:lnTo>
                    <a:pt x="902" y="141"/>
                  </a:lnTo>
                  <a:lnTo>
                    <a:pt x="897" y="153"/>
                  </a:lnTo>
                  <a:lnTo>
                    <a:pt x="891" y="163"/>
                  </a:lnTo>
                  <a:lnTo>
                    <a:pt x="883" y="174"/>
                  </a:lnTo>
                  <a:lnTo>
                    <a:pt x="872" y="183"/>
                  </a:lnTo>
                  <a:lnTo>
                    <a:pt x="867" y="188"/>
                  </a:lnTo>
                  <a:lnTo>
                    <a:pt x="860" y="191"/>
                  </a:lnTo>
                  <a:lnTo>
                    <a:pt x="852" y="195"/>
                  </a:lnTo>
                  <a:lnTo>
                    <a:pt x="844" y="197"/>
                  </a:lnTo>
                  <a:lnTo>
                    <a:pt x="836" y="199"/>
                  </a:lnTo>
                  <a:lnTo>
                    <a:pt x="827" y="200"/>
                  </a:lnTo>
                  <a:lnTo>
                    <a:pt x="816" y="202"/>
                  </a:lnTo>
                  <a:lnTo>
                    <a:pt x="806" y="202"/>
                  </a:lnTo>
                  <a:lnTo>
                    <a:pt x="794" y="200"/>
                  </a:lnTo>
                  <a:lnTo>
                    <a:pt x="782" y="198"/>
                  </a:lnTo>
                  <a:lnTo>
                    <a:pt x="768" y="196"/>
                  </a:lnTo>
                  <a:lnTo>
                    <a:pt x="754" y="192"/>
                  </a:lnTo>
                  <a:lnTo>
                    <a:pt x="742" y="184"/>
                  </a:lnTo>
                  <a:lnTo>
                    <a:pt x="728" y="177"/>
                  </a:lnTo>
                  <a:lnTo>
                    <a:pt x="715" y="172"/>
                  </a:lnTo>
                  <a:lnTo>
                    <a:pt x="699" y="168"/>
                  </a:lnTo>
                  <a:lnTo>
                    <a:pt x="685" y="164"/>
                  </a:lnTo>
                  <a:lnTo>
                    <a:pt x="671" y="162"/>
                  </a:lnTo>
                  <a:lnTo>
                    <a:pt x="657" y="161"/>
                  </a:lnTo>
                  <a:lnTo>
                    <a:pt x="643" y="160"/>
                  </a:lnTo>
                  <a:lnTo>
                    <a:pt x="589" y="161"/>
                  </a:lnTo>
                  <a:lnTo>
                    <a:pt x="542" y="164"/>
                  </a:lnTo>
                  <a:lnTo>
                    <a:pt x="531" y="164"/>
                  </a:lnTo>
                  <a:lnTo>
                    <a:pt x="522" y="164"/>
                  </a:lnTo>
                  <a:lnTo>
                    <a:pt x="514" y="163"/>
                  </a:lnTo>
                  <a:lnTo>
                    <a:pt x="507" y="162"/>
                  </a:lnTo>
                  <a:lnTo>
                    <a:pt x="500" y="160"/>
                  </a:lnTo>
                  <a:lnTo>
                    <a:pt x="495" y="156"/>
                  </a:lnTo>
                  <a:lnTo>
                    <a:pt x="492" y="153"/>
                  </a:lnTo>
                  <a:lnTo>
                    <a:pt x="488" y="148"/>
                  </a:lnTo>
                  <a:lnTo>
                    <a:pt x="487" y="141"/>
                  </a:lnTo>
                  <a:lnTo>
                    <a:pt x="488" y="134"/>
                  </a:lnTo>
                  <a:lnTo>
                    <a:pt x="489" y="125"/>
                  </a:lnTo>
                  <a:lnTo>
                    <a:pt x="493" y="114"/>
                  </a:lnTo>
                  <a:lnTo>
                    <a:pt x="499" y="101"/>
                  </a:lnTo>
                  <a:lnTo>
                    <a:pt x="504" y="87"/>
                  </a:lnTo>
                  <a:lnTo>
                    <a:pt x="514" y="72"/>
                  </a:lnTo>
                  <a:lnTo>
                    <a:pt x="524" y="53"/>
                  </a:lnTo>
                  <a:lnTo>
                    <a:pt x="523" y="50"/>
                  </a:lnTo>
                  <a:lnTo>
                    <a:pt x="518" y="42"/>
                  </a:lnTo>
                  <a:lnTo>
                    <a:pt x="511" y="31"/>
                  </a:lnTo>
                  <a:lnTo>
                    <a:pt x="501" y="18"/>
                  </a:lnTo>
                  <a:lnTo>
                    <a:pt x="494" y="14"/>
                  </a:lnTo>
                  <a:lnTo>
                    <a:pt x="487" y="8"/>
                  </a:lnTo>
                  <a:lnTo>
                    <a:pt x="480" y="4"/>
                  </a:lnTo>
                  <a:lnTo>
                    <a:pt x="471" y="2"/>
                  </a:lnTo>
                  <a:lnTo>
                    <a:pt x="461" y="0"/>
                  </a:lnTo>
                  <a:lnTo>
                    <a:pt x="452" y="1"/>
                  </a:lnTo>
                  <a:lnTo>
                    <a:pt x="441" y="3"/>
                  </a:lnTo>
                  <a:lnTo>
                    <a:pt x="430" y="8"/>
                  </a:lnTo>
                  <a:lnTo>
                    <a:pt x="417" y="15"/>
                  </a:lnTo>
                  <a:lnTo>
                    <a:pt x="400" y="24"/>
                  </a:lnTo>
                  <a:lnTo>
                    <a:pt x="383" y="36"/>
                  </a:lnTo>
                  <a:lnTo>
                    <a:pt x="363" y="50"/>
                  </a:lnTo>
                  <a:lnTo>
                    <a:pt x="315" y="82"/>
                  </a:lnTo>
                  <a:lnTo>
                    <a:pt x="261" y="116"/>
                  </a:lnTo>
                  <a:lnTo>
                    <a:pt x="232" y="134"/>
                  </a:lnTo>
                  <a:lnTo>
                    <a:pt x="201" y="150"/>
                  </a:lnTo>
                  <a:lnTo>
                    <a:pt x="169" y="164"/>
                  </a:lnTo>
                  <a:lnTo>
                    <a:pt x="136" y="178"/>
                  </a:lnTo>
                  <a:lnTo>
                    <a:pt x="120" y="184"/>
                  </a:lnTo>
                  <a:lnTo>
                    <a:pt x="103" y="189"/>
                  </a:lnTo>
                  <a:lnTo>
                    <a:pt x="86" y="195"/>
                  </a:lnTo>
                  <a:lnTo>
                    <a:pt x="69" y="198"/>
                  </a:lnTo>
                  <a:lnTo>
                    <a:pt x="52" y="202"/>
                  </a:lnTo>
                  <a:lnTo>
                    <a:pt x="35" y="204"/>
                  </a:lnTo>
                  <a:lnTo>
                    <a:pt x="17" y="205"/>
                  </a:lnTo>
                  <a:lnTo>
                    <a:pt x="0" y="20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93"/>
            <p:cNvSpPr/>
            <p:nvPr/>
          </p:nvSpPr>
          <p:spPr>
            <a:xfrm>
              <a:off x="6426000" y="3810240"/>
              <a:ext cx="358200" cy="15984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375" h="987">
                  <a:moveTo>
                    <a:pt x="916" y="921"/>
                  </a:moveTo>
                  <a:lnTo>
                    <a:pt x="0" y="826"/>
                  </a:lnTo>
                  <a:lnTo>
                    <a:pt x="16" y="801"/>
                  </a:lnTo>
                  <a:lnTo>
                    <a:pt x="31" y="778"/>
                  </a:lnTo>
                  <a:lnTo>
                    <a:pt x="45" y="756"/>
                  </a:lnTo>
                  <a:lnTo>
                    <a:pt x="61" y="737"/>
                  </a:lnTo>
                  <a:lnTo>
                    <a:pt x="75" y="718"/>
                  </a:lnTo>
                  <a:lnTo>
                    <a:pt x="89" y="702"/>
                  </a:lnTo>
                  <a:lnTo>
                    <a:pt x="101" y="687"/>
                  </a:lnTo>
                  <a:lnTo>
                    <a:pt x="115" y="674"/>
                  </a:lnTo>
                  <a:lnTo>
                    <a:pt x="128" y="661"/>
                  </a:lnTo>
                  <a:lnTo>
                    <a:pt x="140" y="651"/>
                  </a:lnTo>
                  <a:lnTo>
                    <a:pt x="153" y="640"/>
                  </a:lnTo>
                  <a:lnTo>
                    <a:pt x="165" y="632"/>
                  </a:lnTo>
                  <a:lnTo>
                    <a:pt x="176" y="624"/>
                  </a:lnTo>
                  <a:lnTo>
                    <a:pt x="188" y="617"/>
                  </a:lnTo>
                  <a:lnTo>
                    <a:pt x="200" y="611"/>
                  </a:lnTo>
                  <a:lnTo>
                    <a:pt x="211" y="605"/>
                  </a:lnTo>
                  <a:lnTo>
                    <a:pt x="233" y="597"/>
                  </a:lnTo>
                  <a:lnTo>
                    <a:pt x="256" y="590"/>
                  </a:lnTo>
                  <a:lnTo>
                    <a:pt x="277" y="583"/>
                  </a:lnTo>
                  <a:lnTo>
                    <a:pt x="299" y="578"/>
                  </a:lnTo>
                  <a:lnTo>
                    <a:pt x="320" y="572"/>
                  </a:lnTo>
                  <a:lnTo>
                    <a:pt x="341" y="565"/>
                  </a:lnTo>
                  <a:lnTo>
                    <a:pt x="363" y="557"/>
                  </a:lnTo>
                  <a:lnTo>
                    <a:pt x="385" y="547"/>
                  </a:lnTo>
                  <a:lnTo>
                    <a:pt x="410" y="534"/>
                  </a:lnTo>
                  <a:lnTo>
                    <a:pt x="434" y="517"/>
                  </a:lnTo>
                  <a:lnTo>
                    <a:pt x="461" y="500"/>
                  </a:lnTo>
                  <a:lnTo>
                    <a:pt x="487" y="480"/>
                  </a:lnTo>
                  <a:lnTo>
                    <a:pt x="514" y="458"/>
                  </a:lnTo>
                  <a:lnTo>
                    <a:pt x="541" y="434"/>
                  </a:lnTo>
                  <a:lnTo>
                    <a:pt x="568" y="411"/>
                  </a:lnTo>
                  <a:lnTo>
                    <a:pt x="593" y="388"/>
                  </a:lnTo>
                  <a:lnTo>
                    <a:pt x="642" y="340"/>
                  </a:lnTo>
                  <a:lnTo>
                    <a:pt x="686" y="298"/>
                  </a:lnTo>
                  <a:lnTo>
                    <a:pt x="719" y="263"/>
                  </a:lnTo>
                  <a:lnTo>
                    <a:pt x="743" y="238"/>
                  </a:lnTo>
                  <a:lnTo>
                    <a:pt x="752" y="231"/>
                  </a:lnTo>
                  <a:lnTo>
                    <a:pt x="761" y="225"/>
                  </a:lnTo>
                  <a:lnTo>
                    <a:pt x="771" y="222"/>
                  </a:lnTo>
                  <a:lnTo>
                    <a:pt x="780" y="219"/>
                  </a:lnTo>
                  <a:lnTo>
                    <a:pt x="800" y="216"/>
                  </a:lnTo>
                  <a:lnTo>
                    <a:pt x="821" y="212"/>
                  </a:lnTo>
                  <a:lnTo>
                    <a:pt x="833" y="210"/>
                  </a:lnTo>
                  <a:lnTo>
                    <a:pt x="843" y="205"/>
                  </a:lnTo>
                  <a:lnTo>
                    <a:pt x="855" y="200"/>
                  </a:lnTo>
                  <a:lnTo>
                    <a:pt x="867" y="191"/>
                  </a:lnTo>
                  <a:lnTo>
                    <a:pt x="877" y="181"/>
                  </a:lnTo>
                  <a:lnTo>
                    <a:pt x="889" y="167"/>
                  </a:lnTo>
                  <a:lnTo>
                    <a:pt x="902" y="151"/>
                  </a:lnTo>
                  <a:lnTo>
                    <a:pt x="913" y="130"/>
                  </a:lnTo>
                  <a:lnTo>
                    <a:pt x="924" y="110"/>
                  </a:lnTo>
                  <a:lnTo>
                    <a:pt x="934" y="92"/>
                  </a:lnTo>
                  <a:lnTo>
                    <a:pt x="947" y="75"/>
                  </a:lnTo>
                  <a:lnTo>
                    <a:pt x="960" y="58"/>
                  </a:lnTo>
                  <a:lnTo>
                    <a:pt x="988" y="28"/>
                  </a:lnTo>
                  <a:lnTo>
                    <a:pt x="1016" y="0"/>
                  </a:lnTo>
                  <a:lnTo>
                    <a:pt x="1192" y="37"/>
                  </a:lnTo>
                  <a:lnTo>
                    <a:pt x="1192" y="49"/>
                  </a:lnTo>
                  <a:lnTo>
                    <a:pt x="1194" y="62"/>
                  </a:lnTo>
                  <a:lnTo>
                    <a:pt x="1195" y="72"/>
                  </a:lnTo>
                  <a:lnTo>
                    <a:pt x="1197" y="83"/>
                  </a:lnTo>
                  <a:lnTo>
                    <a:pt x="1199" y="93"/>
                  </a:lnTo>
                  <a:lnTo>
                    <a:pt x="1203" y="103"/>
                  </a:lnTo>
                  <a:lnTo>
                    <a:pt x="1206" y="112"/>
                  </a:lnTo>
                  <a:lnTo>
                    <a:pt x="1210" y="120"/>
                  </a:lnTo>
                  <a:lnTo>
                    <a:pt x="1215" y="127"/>
                  </a:lnTo>
                  <a:lnTo>
                    <a:pt x="1219" y="134"/>
                  </a:lnTo>
                  <a:lnTo>
                    <a:pt x="1224" y="141"/>
                  </a:lnTo>
                  <a:lnTo>
                    <a:pt x="1230" y="147"/>
                  </a:lnTo>
                  <a:lnTo>
                    <a:pt x="1243" y="159"/>
                  </a:lnTo>
                  <a:lnTo>
                    <a:pt x="1256" y="168"/>
                  </a:lnTo>
                  <a:lnTo>
                    <a:pt x="1270" y="176"/>
                  </a:lnTo>
                  <a:lnTo>
                    <a:pt x="1284" y="183"/>
                  </a:lnTo>
                  <a:lnTo>
                    <a:pt x="1300" y="189"/>
                  </a:lnTo>
                  <a:lnTo>
                    <a:pt x="1315" y="194"/>
                  </a:lnTo>
                  <a:lnTo>
                    <a:pt x="1347" y="201"/>
                  </a:lnTo>
                  <a:lnTo>
                    <a:pt x="1377" y="207"/>
                  </a:lnTo>
                  <a:lnTo>
                    <a:pt x="1400" y="209"/>
                  </a:lnTo>
                  <a:lnTo>
                    <a:pt x="1439" y="209"/>
                  </a:lnTo>
                  <a:lnTo>
                    <a:pt x="1492" y="209"/>
                  </a:lnTo>
                  <a:lnTo>
                    <a:pt x="1556" y="208"/>
                  </a:lnTo>
                  <a:lnTo>
                    <a:pt x="1628" y="205"/>
                  </a:lnTo>
                  <a:lnTo>
                    <a:pt x="1708" y="204"/>
                  </a:lnTo>
                  <a:lnTo>
                    <a:pt x="1792" y="203"/>
                  </a:lnTo>
                  <a:lnTo>
                    <a:pt x="1877" y="203"/>
                  </a:lnTo>
                  <a:lnTo>
                    <a:pt x="1962" y="203"/>
                  </a:lnTo>
                  <a:lnTo>
                    <a:pt x="2046" y="205"/>
                  </a:lnTo>
                  <a:lnTo>
                    <a:pt x="2086" y="208"/>
                  </a:lnTo>
                  <a:lnTo>
                    <a:pt x="2125" y="210"/>
                  </a:lnTo>
                  <a:lnTo>
                    <a:pt x="2161" y="212"/>
                  </a:lnTo>
                  <a:lnTo>
                    <a:pt x="2196" y="216"/>
                  </a:lnTo>
                  <a:lnTo>
                    <a:pt x="2227" y="221"/>
                  </a:lnTo>
                  <a:lnTo>
                    <a:pt x="2258" y="225"/>
                  </a:lnTo>
                  <a:lnTo>
                    <a:pt x="2285" y="230"/>
                  </a:lnTo>
                  <a:lnTo>
                    <a:pt x="2308" y="237"/>
                  </a:lnTo>
                  <a:lnTo>
                    <a:pt x="2328" y="244"/>
                  </a:lnTo>
                  <a:lnTo>
                    <a:pt x="2344" y="251"/>
                  </a:lnTo>
                  <a:lnTo>
                    <a:pt x="2357" y="260"/>
                  </a:lnTo>
                  <a:lnTo>
                    <a:pt x="2364" y="270"/>
                  </a:lnTo>
                  <a:lnTo>
                    <a:pt x="2370" y="280"/>
                  </a:lnTo>
                  <a:lnTo>
                    <a:pt x="2373" y="288"/>
                  </a:lnTo>
                  <a:lnTo>
                    <a:pt x="2375" y="298"/>
                  </a:lnTo>
                  <a:lnTo>
                    <a:pt x="2375" y="306"/>
                  </a:lnTo>
                  <a:lnTo>
                    <a:pt x="2373" y="313"/>
                  </a:lnTo>
                  <a:lnTo>
                    <a:pt x="2370" y="320"/>
                  </a:lnTo>
                  <a:lnTo>
                    <a:pt x="2366" y="327"/>
                  </a:lnTo>
                  <a:lnTo>
                    <a:pt x="2361" y="333"/>
                  </a:lnTo>
                  <a:lnTo>
                    <a:pt x="2355" y="339"/>
                  </a:lnTo>
                  <a:lnTo>
                    <a:pt x="2347" y="343"/>
                  </a:lnTo>
                  <a:lnTo>
                    <a:pt x="2338" y="348"/>
                  </a:lnTo>
                  <a:lnTo>
                    <a:pt x="2329" y="353"/>
                  </a:lnTo>
                  <a:lnTo>
                    <a:pt x="2308" y="362"/>
                  </a:lnTo>
                  <a:lnTo>
                    <a:pt x="2285" y="369"/>
                  </a:lnTo>
                  <a:lnTo>
                    <a:pt x="2233" y="382"/>
                  </a:lnTo>
                  <a:lnTo>
                    <a:pt x="2180" y="395"/>
                  </a:lnTo>
                  <a:lnTo>
                    <a:pt x="2153" y="401"/>
                  </a:lnTo>
                  <a:lnTo>
                    <a:pt x="2129" y="408"/>
                  </a:lnTo>
                  <a:lnTo>
                    <a:pt x="2107" y="415"/>
                  </a:lnTo>
                  <a:lnTo>
                    <a:pt x="2088" y="423"/>
                  </a:lnTo>
                  <a:lnTo>
                    <a:pt x="2059" y="438"/>
                  </a:lnTo>
                  <a:lnTo>
                    <a:pt x="2039" y="448"/>
                  </a:lnTo>
                  <a:lnTo>
                    <a:pt x="2034" y="453"/>
                  </a:lnTo>
                  <a:lnTo>
                    <a:pt x="2029" y="457"/>
                  </a:lnTo>
                  <a:lnTo>
                    <a:pt x="2027" y="461"/>
                  </a:lnTo>
                  <a:lnTo>
                    <a:pt x="2025" y="466"/>
                  </a:lnTo>
                  <a:lnTo>
                    <a:pt x="2027" y="471"/>
                  </a:lnTo>
                  <a:lnTo>
                    <a:pt x="2028" y="475"/>
                  </a:lnTo>
                  <a:lnTo>
                    <a:pt x="2031" y="481"/>
                  </a:lnTo>
                  <a:lnTo>
                    <a:pt x="2035" y="489"/>
                  </a:lnTo>
                  <a:lnTo>
                    <a:pt x="2045" y="507"/>
                  </a:lnTo>
                  <a:lnTo>
                    <a:pt x="2057" y="533"/>
                  </a:lnTo>
                  <a:lnTo>
                    <a:pt x="2062" y="547"/>
                  </a:lnTo>
                  <a:lnTo>
                    <a:pt x="2064" y="559"/>
                  </a:lnTo>
                  <a:lnTo>
                    <a:pt x="2065" y="571"/>
                  </a:lnTo>
                  <a:lnTo>
                    <a:pt x="2064" y="583"/>
                  </a:lnTo>
                  <a:lnTo>
                    <a:pt x="2060" y="593"/>
                  </a:lnTo>
                  <a:lnTo>
                    <a:pt x="2056" y="603"/>
                  </a:lnTo>
                  <a:lnTo>
                    <a:pt x="2049" y="612"/>
                  </a:lnTo>
                  <a:lnTo>
                    <a:pt x="2041" y="620"/>
                  </a:lnTo>
                  <a:lnTo>
                    <a:pt x="2031" y="628"/>
                  </a:lnTo>
                  <a:lnTo>
                    <a:pt x="2021" y="636"/>
                  </a:lnTo>
                  <a:lnTo>
                    <a:pt x="2009" y="645"/>
                  </a:lnTo>
                  <a:lnTo>
                    <a:pt x="1995" y="653"/>
                  </a:lnTo>
                  <a:lnTo>
                    <a:pt x="1966" y="668"/>
                  </a:lnTo>
                  <a:lnTo>
                    <a:pt x="1933" y="684"/>
                  </a:lnTo>
                  <a:lnTo>
                    <a:pt x="1916" y="694"/>
                  </a:lnTo>
                  <a:lnTo>
                    <a:pt x="1900" y="702"/>
                  </a:lnTo>
                  <a:lnTo>
                    <a:pt x="1888" y="711"/>
                  </a:lnTo>
                  <a:lnTo>
                    <a:pt x="1875" y="721"/>
                  </a:lnTo>
                  <a:lnTo>
                    <a:pt x="1863" y="729"/>
                  </a:lnTo>
                  <a:lnTo>
                    <a:pt x="1854" y="738"/>
                  </a:lnTo>
                  <a:lnTo>
                    <a:pt x="1845" y="747"/>
                  </a:lnTo>
                  <a:lnTo>
                    <a:pt x="1837" y="757"/>
                  </a:lnTo>
                  <a:lnTo>
                    <a:pt x="1831" y="767"/>
                  </a:lnTo>
                  <a:lnTo>
                    <a:pt x="1827" y="777"/>
                  </a:lnTo>
                  <a:lnTo>
                    <a:pt x="1823" y="787"/>
                  </a:lnTo>
                  <a:lnTo>
                    <a:pt x="1821" y="797"/>
                  </a:lnTo>
                  <a:lnTo>
                    <a:pt x="1820" y="807"/>
                  </a:lnTo>
                  <a:lnTo>
                    <a:pt x="1820" y="819"/>
                  </a:lnTo>
                  <a:lnTo>
                    <a:pt x="1821" y="829"/>
                  </a:lnTo>
                  <a:lnTo>
                    <a:pt x="1823" y="841"/>
                  </a:lnTo>
                  <a:lnTo>
                    <a:pt x="1826" y="851"/>
                  </a:lnTo>
                  <a:lnTo>
                    <a:pt x="1826" y="863"/>
                  </a:lnTo>
                  <a:lnTo>
                    <a:pt x="1823" y="874"/>
                  </a:lnTo>
                  <a:lnTo>
                    <a:pt x="1820" y="884"/>
                  </a:lnTo>
                  <a:lnTo>
                    <a:pt x="1815" y="893"/>
                  </a:lnTo>
                  <a:lnTo>
                    <a:pt x="1808" y="903"/>
                  </a:lnTo>
                  <a:lnTo>
                    <a:pt x="1801" y="912"/>
                  </a:lnTo>
                  <a:lnTo>
                    <a:pt x="1792" y="920"/>
                  </a:lnTo>
                  <a:lnTo>
                    <a:pt x="1772" y="938"/>
                  </a:lnTo>
                  <a:lnTo>
                    <a:pt x="1748" y="954"/>
                  </a:lnTo>
                  <a:lnTo>
                    <a:pt x="1725" y="971"/>
                  </a:lnTo>
                  <a:lnTo>
                    <a:pt x="1702" y="987"/>
                  </a:lnTo>
                  <a:lnTo>
                    <a:pt x="916" y="9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Freeform 94"/>
            <p:cNvSpPr/>
            <p:nvPr/>
          </p:nvSpPr>
          <p:spPr>
            <a:xfrm>
              <a:off x="6426000" y="3810240"/>
              <a:ext cx="358200" cy="15984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375" h="987">
                  <a:moveTo>
                    <a:pt x="916" y="921"/>
                  </a:moveTo>
                  <a:lnTo>
                    <a:pt x="0" y="826"/>
                  </a:lnTo>
                  <a:lnTo>
                    <a:pt x="16" y="801"/>
                  </a:lnTo>
                  <a:lnTo>
                    <a:pt x="31" y="778"/>
                  </a:lnTo>
                  <a:lnTo>
                    <a:pt x="45" y="756"/>
                  </a:lnTo>
                  <a:lnTo>
                    <a:pt x="61" y="737"/>
                  </a:lnTo>
                  <a:lnTo>
                    <a:pt x="75" y="718"/>
                  </a:lnTo>
                  <a:lnTo>
                    <a:pt x="89" y="702"/>
                  </a:lnTo>
                  <a:lnTo>
                    <a:pt x="101" y="687"/>
                  </a:lnTo>
                  <a:lnTo>
                    <a:pt x="115" y="674"/>
                  </a:lnTo>
                  <a:lnTo>
                    <a:pt x="128" y="661"/>
                  </a:lnTo>
                  <a:lnTo>
                    <a:pt x="140" y="651"/>
                  </a:lnTo>
                  <a:lnTo>
                    <a:pt x="153" y="640"/>
                  </a:lnTo>
                  <a:lnTo>
                    <a:pt x="165" y="632"/>
                  </a:lnTo>
                  <a:lnTo>
                    <a:pt x="176" y="624"/>
                  </a:lnTo>
                  <a:lnTo>
                    <a:pt x="188" y="617"/>
                  </a:lnTo>
                  <a:lnTo>
                    <a:pt x="200" y="611"/>
                  </a:lnTo>
                  <a:lnTo>
                    <a:pt x="211" y="605"/>
                  </a:lnTo>
                  <a:lnTo>
                    <a:pt x="233" y="597"/>
                  </a:lnTo>
                  <a:lnTo>
                    <a:pt x="256" y="590"/>
                  </a:lnTo>
                  <a:lnTo>
                    <a:pt x="277" y="583"/>
                  </a:lnTo>
                  <a:lnTo>
                    <a:pt x="299" y="578"/>
                  </a:lnTo>
                  <a:lnTo>
                    <a:pt x="320" y="572"/>
                  </a:lnTo>
                  <a:lnTo>
                    <a:pt x="341" y="565"/>
                  </a:lnTo>
                  <a:lnTo>
                    <a:pt x="363" y="557"/>
                  </a:lnTo>
                  <a:lnTo>
                    <a:pt x="385" y="547"/>
                  </a:lnTo>
                  <a:lnTo>
                    <a:pt x="410" y="534"/>
                  </a:lnTo>
                  <a:lnTo>
                    <a:pt x="434" y="517"/>
                  </a:lnTo>
                  <a:lnTo>
                    <a:pt x="461" y="500"/>
                  </a:lnTo>
                  <a:lnTo>
                    <a:pt x="487" y="480"/>
                  </a:lnTo>
                  <a:lnTo>
                    <a:pt x="514" y="458"/>
                  </a:lnTo>
                  <a:lnTo>
                    <a:pt x="541" y="434"/>
                  </a:lnTo>
                  <a:lnTo>
                    <a:pt x="568" y="411"/>
                  </a:lnTo>
                  <a:lnTo>
                    <a:pt x="593" y="388"/>
                  </a:lnTo>
                  <a:lnTo>
                    <a:pt x="642" y="340"/>
                  </a:lnTo>
                  <a:lnTo>
                    <a:pt x="686" y="298"/>
                  </a:lnTo>
                  <a:lnTo>
                    <a:pt x="719" y="263"/>
                  </a:lnTo>
                  <a:lnTo>
                    <a:pt x="743" y="238"/>
                  </a:lnTo>
                  <a:lnTo>
                    <a:pt x="752" y="231"/>
                  </a:lnTo>
                  <a:lnTo>
                    <a:pt x="761" y="225"/>
                  </a:lnTo>
                  <a:lnTo>
                    <a:pt x="771" y="222"/>
                  </a:lnTo>
                  <a:lnTo>
                    <a:pt x="780" y="219"/>
                  </a:lnTo>
                  <a:lnTo>
                    <a:pt x="800" y="216"/>
                  </a:lnTo>
                  <a:lnTo>
                    <a:pt x="821" y="212"/>
                  </a:lnTo>
                  <a:lnTo>
                    <a:pt x="833" y="210"/>
                  </a:lnTo>
                  <a:lnTo>
                    <a:pt x="843" y="205"/>
                  </a:lnTo>
                  <a:lnTo>
                    <a:pt x="855" y="200"/>
                  </a:lnTo>
                  <a:lnTo>
                    <a:pt x="867" y="191"/>
                  </a:lnTo>
                  <a:lnTo>
                    <a:pt x="877" y="181"/>
                  </a:lnTo>
                  <a:lnTo>
                    <a:pt x="889" y="167"/>
                  </a:lnTo>
                  <a:lnTo>
                    <a:pt x="902" y="151"/>
                  </a:lnTo>
                  <a:lnTo>
                    <a:pt x="913" y="130"/>
                  </a:lnTo>
                  <a:lnTo>
                    <a:pt x="924" y="110"/>
                  </a:lnTo>
                  <a:lnTo>
                    <a:pt x="934" y="92"/>
                  </a:lnTo>
                  <a:lnTo>
                    <a:pt x="947" y="75"/>
                  </a:lnTo>
                  <a:lnTo>
                    <a:pt x="960" y="58"/>
                  </a:lnTo>
                  <a:lnTo>
                    <a:pt x="988" y="28"/>
                  </a:lnTo>
                  <a:lnTo>
                    <a:pt x="1016" y="0"/>
                  </a:lnTo>
                  <a:lnTo>
                    <a:pt x="1192" y="37"/>
                  </a:lnTo>
                  <a:lnTo>
                    <a:pt x="1192" y="49"/>
                  </a:lnTo>
                  <a:lnTo>
                    <a:pt x="1194" y="62"/>
                  </a:lnTo>
                  <a:lnTo>
                    <a:pt x="1195" y="72"/>
                  </a:lnTo>
                  <a:lnTo>
                    <a:pt x="1197" y="83"/>
                  </a:lnTo>
                  <a:lnTo>
                    <a:pt x="1199" y="93"/>
                  </a:lnTo>
                  <a:lnTo>
                    <a:pt x="1203" y="103"/>
                  </a:lnTo>
                  <a:lnTo>
                    <a:pt x="1206" y="112"/>
                  </a:lnTo>
                  <a:lnTo>
                    <a:pt x="1210" y="120"/>
                  </a:lnTo>
                  <a:lnTo>
                    <a:pt x="1215" y="127"/>
                  </a:lnTo>
                  <a:lnTo>
                    <a:pt x="1219" y="134"/>
                  </a:lnTo>
                  <a:lnTo>
                    <a:pt x="1224" y="141"/>
                  </a:lnTo>
                  <a:lnTo>
                    <a:pt x="1230" y="147"/>
                  </a:lnTo>
                  <a:lnTo>
                    <a:pt x="1243" y="159"/>
                  </a:lnTo>
                  <a:lnTo>
                    <a:pt x="1256" y="168"/>
                  </a:lnTo>
                  <a:lnTo>
                    <a:pt x="1270" y="176"/>
                  </a:lnTo>
                  <a:lnTo>
                    <a:pt x="1284" y="183"/>
                  </a:lnTo>
                  <a:lnTo>
                    <a:pt x="1300" y="189"/>
                  </a:lnTo>
                  <a:lnTo>
                    <a:pt x="1315" y="194"/>
                  </a:lnTo>
                  <a:lnTo>
                    <a:pt x="1347" y="201"/>
                  </a:lnTo>
                  <a:lnTo>
                    <a:pt x="1377" y="207"/>
                  </a:lnTo>
                  <a:lnTo>
                    <a:pt x="1400" y="209"/>
                  </a:lnTo>
                  <a:lnTo>
                    <a:pt x="1439" y="209"/>
                  </a:lnTo>
                  <a:lnTo>
                    <a:pt x="1492" y="209"/>
                  </a:lnTo>
                  <a:lnTo>
                    <a:pt x="1556" y="208"/>
                  </a:lnTo>
                  <a:lnTo>
                    <a:pt x="1628" y="205"/>
                  </a:lnTo>
                  <a:lnTo>
                    <a:pt x="1708" y="204"/>
                  </a:lnTo>
                  <a:lnTo>
                    <a:pt x="1792" y="203"/>
                  </a:lnTo>
                  <a:lnTo>
                    <a:pt x="1877" y="203"/>
                  </a:lnTo>
                  <a:lnTo>
                    <a:pt x="1962" y="203"/>
                  </a:lnTo>
                  <a:lnTo>
                    <a:pt x="2046" y="205"/>
                  </a:lnTo>
                  <a:lnTo>
                    <a:pt x="2086" y="208"/>
                  </a:lnTo>
                  <a:lnTo>
                    <a:pt x="2125" y="210"/>
                  </a:lnTo>
                  <a:lnTo>
                    <a:pt x="2161" y="212"/>
                  </a:lnTo>
                  <a:lnTo>
                    <a:pt x="2196" y="216"/>
                  </a:lnTo>
                  <a:lnTo>
                    <a:pt x="2227" y="221"/>
                  </a:lnTo>
                  <a:lnTo>
                    <a:pt x="2258" y="225"/>
                  </a:lnTo>
                  <a:lnTo>
                    <a:pt x="2285" y="230"/>
                  </a:lnTo>
                  <a:lnTo>
                    <a:pt x="2308" y="237"/>
                  </a:lnTo>
                  <a:lnTo>
                    <a:pt x="2328" y="244"/>
                  </a:lnTo>
                  <a:lnTo>
                    <a:pt x="2344" y="251"/>
                  </a:lnTo>
                  <a:lnTo>
                    <a:pt x="2357" y="260"/>
                  </a:lnTo>
                  <a:lnTo>
                    <a:pt x="2364" y="270"/>
                  </a:lnTo>
                  <a:lnTo>
                    <a:pt x="2370" y="280"/>
                  </a:lnTo>
                  <a:lnTo>
                    <a:pt x="2373" y="288"/>
                  </a:lnTo>
                  <a:lnTo>
                    <a:pt x="2375" y="298"/>
                  </a:lnTo>
                  <a:lnTo>
                    <a:pt x="2375" y="306"/>
                  </a:lnTo>
                  <a:lnTo>
                    <a:pt x="2373" y="313"/>
                  </a:lnTo>
                  <a:lnTo>
                    <a:pt x="2370" y="320"/>
                  </a:lnTo>
                  <a:lnTo>
                    <a:pt x="2366" y="327"/>
                  </a:lnTo>
                  <a:lnTo>
                    <a:pt x="2361" y="333"/>
                  </a:lnTo>
                  <a:lnTo>
                    <a:pt x="2355" y="339"/>
                  </a:lnTo>
                  <a:lnTo>
                    <a:pt x="2347" y="343"/>
                  </a:lnTo>
                  <a:lnTo>
                    <a:pt x="2338" y="348"/>
                  </a:lnTo>
                  <a:lnTo>
                    <a:pt x="2329" y="353"/>
                  </a:lnTo>
                  <a:lnTo>
                    <a:pt x="2308" y="362"/>
                  </a:lnTo>
                  <a:lnTo>
                    <a:pt x="2285" y="369"/>
                  </a:lnTo>
                  <a:lnTo>
                    <a:pt x="2233" y="382"/>
                  </a:lnTo>
                  <a:lnTo>
                    <a:pt x="2180" y="395"/>
                  </a:lnTo>
                  <a:lnTo>
                    <a:pt x="2153" y="401"/>
                  </a:lnTo>
                  <a:lnTo>
                    <a:pt x="2129" y="408"/>
                  </a:lnTo>
                  <a:lnTo>
                    <a:pt x="2107" y="415"/>
                  </a:lnTo>
                  <a:lnTo>
                    <a:pt x="2088" y="423"/>
                  </a:lnTo>
                  <a:lnTo>
                    <a:pt x="2059" y="438"/>
                  </a:lnTo>
                  <a:lnTo>
                    <a:pt x="2039" y="448"/>
                  </a:lnTo>
                  <a:lnTo>
                    <a:pt x="2034" y="453"/>
                  </a:lnTo>
                  <a:lnTo>
                    <a:pt x="2029" y="457"/>
                  </a:lnTo>
                  <a:lnTo>
                    <a:pt x="2027" y="461"/>
                  </a:lnTo>
                  <a:lnTo>
                    <a:pt x="2025" y="466"/>
                  </a:lnTo>
                  <a:lnTo>
                    <a:pt x="2027" y="471"/>
                  </a:lnTo>
                  <a:lnTo>
                    <a:pt x="2028" y="475"/>
                  </a:lnTo>
                  <a:lnTo>
                    <a:pt x="2031" y="481"/>
                  </a:lnTo>
                  <a:lnTo>
                    <a:pt x="2035" y="489"/>
                  </a:lnTo>
                  <a:lnTo>
                    <a:pt x="2045" y="507"/>
                  </a:lnTo>
                  <a:lnTo>
                    <a:pt x="2057" y="533"/>
                  </a:lnTo>
                  <a:lnTo>
                    <a:pt x="2062" y="547"/>
                  </a:lnTo>
                  <a:lnTo>
                    <a:pt x="2064" y="559"/>
                  </a:lnTo>
                  <a:lnTo>
                    <a:pt x="2065" y="571"/>
                  </a:lnTo>
                  <a:lnTo>
                    <a:pt x="2064" y="583"/>
                  </a:lnTo>
                  <a:lnTo>
                    <a:pt x="2060" y="593"/>
                  </a:lnTo>
                  <a:lnTo>
                    <a:pt x="2056" y="603"/>
                  </a:lnTo>
                  <a:lnTo>
                    <a:pt x="2049" y="612"/>
                  </a:lnTo>
                  <a:lnTo>
                    <a:pt x="2041" y="620"/>
                  </a:lnTo>
                  <a:lnTo>
                    <a:pt x="2031" y="628"/>
                  </a:lnTo>
                  <a:lnTo>
                    <a:pt x="2021" y="636"/>
                  </a:lnTo>
                  <a:lnTo>
                    <a:pt x="2009" y="645"/>
                  </a:lnTo>
                  <a:lnTo>
                    <a:pt x="1995" y="653"/>
                  </a:lnTo>
                  <a:lnTo>
                    <a:pt x="1966" y="668"/>
                  </a:lnTo>
                  <a:lnTo>
                    <a:pt x="1933" y="684"/>
                  </a:lnTo>
                  <a:lnTo>
                    <a:pt x="1916" y="694"/>
                  </a:lnTo>
                  <a:lnTo>
                    <a:pt x="1900" y="702"/>
                  </a:lnTo>
                  <a:lnTo>
                    <a:pt x="1888" y="711"/>
                  </a:lnTo>
                  <a:lnTo>
                    <a:pt x="1875" y="721"/>
                  </a:lnTo>
                  <a:lnTo>
                    <a:pt x="1863" y="729"/>
                  </a:lnTo>
                  <a:lnTo>
                    <a:pt x="1854" y="738"/>
                  </a:lnTo>
                  <a:lnTo>
                    <a:pt x="1845" y="747"/>
                  </a:lnTo>
                  <a:lnTo>
                    <a:pt x="1837" y="757"/>
                  </a:lnTo>
                  <a:lnTo>
                    <a:pt x="1831" y="767"/>
                  </a:lnTo>
                  <a:lnTo>
                    <a:pt x="1827" y="777"/>
                  </a:lnTo>
                  <a:lnTo>
                    <a:pt x="1823" y="787"/>
                  </a:lnTo>
                  <a:lnTo>
                    <a:pt x="1821" y="797"/>
                  </a:lnTo>
                  <a:lnTo>
                    <a:pt x="1820" y="807"/>
                  </a:lnTo>
                  <a:lnTo>
                    <a:pt x="1820" y="819"/>
                  </a:lnTo>
                  <a:lnTo>
                    <a:pt x="1821" y="829"/>
                  </a:lnTo>
                  <a:lnTo>
                    <a:pt x="1823" y="841"/>
                  </a:lnTo>
                  <a:lnTo>
                    <a:pt x="1826" y="851"/>
                  </a:lnTo>
                  <a:lnTo>
                    <a:pt x="1826" y="863"/>
                  </a:lnTo>
                  <a:lnTo>
                    <a:pt x="1823" y="874"/>
                  </a:lnTo>
                  <a:lnTo>
                    <a:pt x="1820" y="884"/>
                  </a:lnTo>
                  <a:lnTo>
                    <a:pt x="1815" y="893"/>
                  </a:lnTo>
                  <a:lnTo>
                    <a:pt x="1808" y="903"/>
                  </a:lnTo>
                  <a:lnTo>
                    <a:pt x="1801" y="912"/>
                  </a:lnTo>
                  <a:lnTo>
                    <a:pt x="1792" y="920"/>
                  </a:lnTo>
                  <a:lnTo>
                    <a:pt x="1772" y="938"/>
                  </a:lnTo>
                  <a:lnTo>
                    <a:pt x="1748" y="954"/>
                  </a:lnTo>
                  <a:lnTo>
                    <a:pt x="1725" y="971"/>
                  </a:lnTo>
                  <a:lnTo>
                    <a:pt x="1702" y="987"/>
                  </a:lnTo>
                  <a:lnTo>
                    <a:pt x="916" y="9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Freeform 95"/>
            <p:cNvSpPr/>
            <p:nvPr/>
          </p:nvSpPr>
          <p:spPr>
            <a:xfrm>
              <a:off x="6470640" y="3958920"/>
              <a:ext cx="310680" cy="3207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069" h="1958">
                  <a:moveTo>
                    <a:pt x="564" y="1958"/>
                  </a:moveTo>
                  <a:lnTo>
                    <a:pt x="0" y="712"/>
                  </a:lnTo>
                  <a:lnTo>
                    <a:pt x="631" y="0"/>
                  </a:lnTo>
                  <a:lnTo>
                    <a:pt x="1417" y="66"/>
                  </a:lnTo>
                  <a:lnTo>
                    <a:pt x="1517" y="82"/>
                  </a:lnTo>
                  <a:lnTo>
                    <a:pt x="1617" y="96"/>
                  </a:lnTo>
                  <a:lnTo>
                    <a:pt x="1712" y="108"/>
                  </a:lnTo>
                  <a:lnTo>
                    <a:pt x="1803" y="120"/>
                  </a:lnTo>
                  <a:lnTo>
                    <a:pt x="1886" y="129"/>
                  </a:lnTo>
                  <a:lnTo>
                    <a:pt x="1959" y="139"/>
                  </a:lnTo>
                  <a:lnTo>
                    <a:pt x="1991" y="145"/>
                  </a:lnTo>
                  <a:lnTo>
                    <a:pt x="2021" y="150"/>
                  </a:lnTo>
                  <a:lnTo>
                    <a:pt x="2046" y="156"/>
                  </a:lnTo>
                  <a:lnTo>
                    <a:pt x="2069" y="162"/>
                  </a:lnTo>
                  <a:lnTo>
                    <a:pt x="1034" y="1685"/>
                  </a:lnTo>
                  <a:lnTo>
                    <a:pt x="1011" y="1680"/>
                  </a:lnTo>
                  <a:lnTo>
                    <a:pt x="990" y="1676"/>
                  </a:lnTo>
                  <a:lnTo>
                    <a:pt x="969" y="1673"/>
                  </a:lnTo>
                  <a:lnTo>
                    <a:pt x="950" y="1672"/>
                  </a:lnTo>
                  <a:lnTo>
                    <a:pt x="931" y="1671"/>
                  </a:lnTo>
                  <a:lnTo>
                    <a:pt x="913" y="1672"/>
                  </a:lnTo>
                  <a:lnTo>
                    <a:pt x="896" y="1673"/>
                  </a:lnTo>
                  <a:lnTo>
                    <a:pt x="879" y="1677"/>
                  </a:lnTo>
                  <a:lnTo>
                    <a:pt x="863" y="1680"/>
                  </a:lnTo>
                  <a:lnTo>
                    <a:pt x="848" y="1685"/>
                  </a:lnTo>
                  <a:lnTo>
                    <a:pt x="833" y="1690"/>
                  </a:lnTo>
                  <a:lnTo>
                    <a:pt x="819" y="1697"/>
                  </a:lnTo>
                  <a:lnTo>
                    <a:pt x="805" y="1704"/>
                  </a:lnTo>
                  <a:lnTo>
                    <a:pt x="792" y="1712"/>
                  </a:lnTo>
                  <a:lnTo>
                    <a:pt x="779" y="1720"/>
                  </a:lnTo>
                  <a:lnTo>
                    <a:pt x="766" y="1730"/>
                  </a:lnTo>
                  <a:lnTo>
                    <a:pt x="753" y="1740"/>
                  </a:lnTo>
                  <a:lnTo>
                    <a:pt x="740" y="1751"/>
                  </a:lnTo>
                  <a:lnTo>
                    <a:pt x="729" y="1763"/>
                  </a:lnTo>
                  <a:lnTo>
                    <a:pt x="717" y="1775"/>
                  </a:lnTo>
                  <a:lnTo>
                    <a:pt x="693" y="1802"/>
                  </a:lnTo>
                  <a:lnTo>
                    <a:pt x="669" y="1830"/>
                  </a:lnTo>
                  <a:lnTo>
                    <a:pt x="619" y="1892"/>
                  </a:lnTo>
                  <a:lnTo>
                    <a:pt x="564" y="19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Freeform 96"/>
            <p:cNvSpPr/>
            <p:nvPr/>
          </p:nvSpPr>
          <p:spPr>
            <a:xfrm>
              <a:off x="6470640" y="3958920"/>
              <a:ext cx="310680" cy="3207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069" h="1958">
                  <a:moveTo>
                    <a:pt x="564" y="1958"/>
                  </a:moveTo>
                  <a:lnTo>
                    <a:pt x="0" y="712"/>
                  </a:lnTo>
                  <a:lnTo>
                    <a:pt x="631" y="0"/>
                  </a:lnTo>
                  <a:lnTo>
                    <a:pt x="1417" y="66"/>
                  </a:lnTo>
                  <a:lnTo>
                    <a:pt x="1517" y="82"/>
                  </a:lnTo>
                  <a:lnTo>
                    <a:pt x="1617" y="96"/>
                  </a:lnTo>
                  <a:lnTo>
                    <a:pt x="1712" y="108"/>
                  </a:lnTo>
                  <a:lnTo>
                    <a:pt x="1803" y="120"/>
                  </a:lnTo>
                  <a:lnTo>
                    <a:pt x="1886" y="129"/>
                  </a:lnTo>
                  <a:lnTo>
                    <a:pt x="1959" y="139"/>
                  </a:lnTo>
                  <a:lnTo>
                    <a:pt x="1991" y="145"/>
                  </a:lnTo>
                  <a:lnTo>
                    <a:pt x="2021" y="150"/>
                  </a:lnTo>
                  <a:lnTo>
                    <a:pt x="2046" y="156"/>
                  </a:lnTo>
                  <a:lnTo>
                    <a:pt x="2069" y="162"/>
                  </a:lnTo>
                  <a:lnTo>
                    <a:pt x="1034" y="1685"/>
                  </a:lnTo>
                  <a:lnTo>
                    <a:pt x="1011" y="1680"/>
                  </a:lnTo>
                  <a:lnTo>
                    <a:pt x="990" y="1676"/>
                  </a:lnTo>
                  <a:lnTo>
                    <a:pt x="969" y="1673"/>
                  </a:lnTo>
                  <a:lnTo>
                    <a:pt x="950" y="1672"/>
                  </a:lnTo>
                  <a:lnTo>
                    <a:pt x="931" y="1671"/>
                  </a:lnTo>
                  <a:lnTo>
                    <a:pt x="913" y="1672"/>
                  </a:lnTo>
                  <a:lnTo>
                    <a:pt x="896" y="1673"/>
                  </a:lnTo>
                  <a:lnTo>
                    <a:pt x="879" y="1677"/>
                  </a:lnTo>
                  <a:lnTo>
                    <a:pt x="863" y="1680"/>
                  </a:lnTo>
                  <a:lnTo>
                    <a:pt x="848" y="1685"/>
                  </a:lnTo>
                  <a:lnTo>
                    <a:pt x="833" y="1690"/>
                  </a:lnTo>
                  <a:lnTo>
                    <a:pt x="819" y="1697"/>
                  </a:lnTo>
                  <a:lnTo>
                    <a:pt x="805" y="1704"/>
                  </a:lnTo>
                  <a:lnTo>
                    <a:pt x="792" y="1712"/>
                  </a:lnTo>
                  <a:lnTo>
                    <a:pt x="779" y="1720"/>
                  </a:lnTo>
                  <a:lnTo>
                    <a:pt x="766" y="1730"/>
                  </a:lnTo>
                  <a:lnTo>
                    <a:pt x="753" y="1740"/>
                  </a:lnTo>
                  <a:lnTo>
                    <a:pt x="740" y="1751"/>
                  </a:lnTo>
                  <a:lnTo>
                    <a:pt x="729" y="1763"/>
                  </a:lnTo>
                  <a:lnTo>
                    <a:pt x="717" y="1775"/>
                  </a:lnTo>
                  <a:lnTo>
                    <a:pt x="693" y="1802"/>
                  </a:lnTo>
                  <a:lnTo>
                    <a:pt x="669" y="1830"/>
                  </a:lnTo>
                  <a:lnTo>
                    <a:pt x="619" y="1892"/>
                  </a:lnTo>
                  <a:lnTo>
                    <a:pt x="564" y="19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Freeform 97"/>
            <p:cNvSpPr/>
            <p:nvPr/>
          </p:nvSpPr>
          <p:spPr>
            <a:xfrm>
              <a:off x="6650280" y="3985920"/>
              <a:ext cx="293400" cy="2185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947" h="1344">
                  <a:moveTo>
                    <a:pt x="0" y="1293"/>
                  </a:moveTo>
                  <a:lnTo>
                    <a:pt x="1418" y="1344"/>
                  </a:lnTo>
                  <a:lnTo>
                    <a:pt x="1947" y="285"/>
                  </a:lnTo>
                  <a:lnTo>
                    <a:pt x="1509" y="253"/>
                  </a:lnTo>
                  <a:lnTo>
                    <a:pt x="1556" y="65"/>
                  </a:lnTo>
                  <a:lnTo>
                    <a:pt x="880" y="0"/>
                  </a:lnTo>
                  <a:lnTo>
                    <a:pt x="0" y="12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Freeform 98"/>
            <p:cNvSpPr/>
            <p:nvPr/>
          </p:nvSpPr>
          <p:spPr>
            <a:xfrm>
              <a:off x="6650280" y="3985920"/>
              <a:ext cx="293400" cy="2185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947" h="1344">
                  <a:moveTo>
                    <a:pt x="0" y="1293"/>
                  </a:moveTo>
                  <a:lnTo>
                    <a:pt x="1418" y="1344"/>
                  </a:lnTo>
                  <a:lnTo>
                    <a:pt x="1947" y="285"/>
                  </a:lnTo>
                  <a:lnTo>
                    <a:pt x="1509" y="253"/>
                  </a:lnTo>
                  <a:lnTo>
                    <a:pt x="1556" y="65"/>
                  </a:lnTo>
                  <a:lnTo>
                    <a:pt x="880" y="0"/>
                  </a:lnTo>
                  <a:lnTo>
                    <a:pt x="0" y="12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Freeform 99"/>
            <p:cNvSpPr/>
            <p:nvPr/>
          </p:nvSpPr>
          <p:spPr>
            <a:xfrm>
              <a:off x="6580080" y="3746520"/>
              <a:ext cx="257040" cy="10764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706" h="651">
                  <a:moveTo>
                    <a:pt x="1348" y="651"/>
                  </a:moveTo>
                  <a:lnTo>
                    <a:pt x="1341" y="641"/>
                  </a:lnTo>
                  <a:lnTo>
                    <a:pt x="1328" y="632"/>
                  </a:lnTo>
                  <a:lnTo>
                    <a:pt x="1312" y="625"/>
                  </a:lnTo>
                  <a:lnTo>
                    <a:pt x="1292" y="618"/>
                  </a:lnTo>
                  <a:lnTo>
                    <a:pt x="1269" y="611"/>
                  </a:lnTo>
                  <a:lnTo>
                    <a:pt x="1242" y="606"/>
                  </a:lnTo>
                  <a:lnTo>
                    <a:pt x="1211" y="602"/>
                  </a:lnTo>
                  <a:lnTo>
                    <a:pt x="1180" y="597"/>
                  </a:lnTo>
                  <a:lnTo>
                    <a:pt x="1145" y="593"/>
                  </a:lnTo>
                  <a:lnTo>
                    <a:pt x="1109" y="591"/>
                  </a:lnTo>
                  <a:lnTo>
                    <a:pt x="1070" y="589"/>
                  </a:lnTo>
                  <a:lnTo>
                    <a:pt x="1030" y="586"/>
                  </a:lnTo>
                  <a:lnTo>
                    <a:pt x="946" y="584"/>
                  </a:lnTo>
                  <a:lnTo>
                    <a:pt x="861" y="584"/>
                  </a:lnTo>
                  <a:lnTo>
                    <a:pt x="776" y="584"/>
                  </a:lnTo>
                  <a:lnTo>
                    <a:pt x="692" y="585"/>
                  </a:lnTo>
                  <a:lnTo>
                    <a:pt x="612" y="586"/>
                  </a:lnTo>
                  <a:lnTo>
                    <a:pt x="540" y="589"/>
                  </a:lnTo>
                  <a:lnTo>
                    <a:pt x="476" y="590"/>
                  </a:lnTo>
                  <a:lnTo>
                    <a:pt x="423" y="590"/>
                  </a:lnTo>
                  <a:lnTo>
                    <a:pt x="384" y="590"/>
                  </a:lnTo>
                  <a:lnTo>
                    <a:pt x="361" y="588"/>
                  </a:lnTo>
                  <a:lnTo>
                    <a:pt x="331" y="582"/>
                  </a:lnTo>
                  <a:lnTo>
                    <a:pt x="299" y="575"/>
                  </a:lnTo>
                  <a:lnTo>
                    <a:pt x="284" y="570"/>
                  </a:lnTo>
                  <a:lnTo>
                    <a:pt x="268" y="564"/>
                  </a:lnTo>
                  <a:lnTo>
                    <a:pt x="254" y="557"/>
                  </a:lnTo>
                  <a:lnTo>
                    <a:pt x="240" y="549"/>
                  </a:lnTo>
                  <a:lnTo>
                    <a:pt x="227" y="540"/>
                  </a:lnTo>
                  <a:lnTo>
                    <a:pt x="214" y="528"/>
                  </a:lnTo>
                  <a:lnTo>
                    <a:pt x="208" y="522"/>
                  </a:lnTo>
                  <a:lnTo>
                    <a:pt x="203" y="515"/>
                  </a:lnTo>
                  <a:lnTo>
                    <a:pt x="199" y="508"/>
                  </a:lnTo>
                  <a:lnTo>
                    <a:pt x="194" y="501"/>
                  </a:lnTo>
                  <a:lnTo>
                    <a:pt x="190" y="493"/>
                  </a:lnTo>
                  <a:lnTo>
                    <a:pt x="187" y="484"/>
                  </a:lnTo>
                  <a:lnTo>
                    <a:pt x="183" y="474"/>
                  </a:lnTo>
                  <a:lnTo>
                    <a:pt x="181" y="464"/>
                  </a:lnTo>
                  <a:lnTo>
                    <a:pt x="179" y="453"/>
                  </a:lnTo>
                  <a:lnTo>
                    <a:pt x="178" y="443"/>
                  </a:lnTo>
                  <a:lnTo>
                    <a:pt x="176" y="430"/>
                  </a:lnTo>
                  <a:lnTo>
                    <a:pt x="176" y="418"/>
                  </a:lnTo>
                  <a:lnTo>
                    <a:pt x="0" y="381"/>
                  </a:lnTo>
                  <a:lnTo>
                    <a:pt x="19" y="363"/>
                  </a:lnTo>
                  <a:lnTo>
                    <a:pt x="36" y="347"/>
                  </a:lnTo>
                  <a:lnTo>
                    <a:pt x="53" y="329"/>
                  </a:lnTo>
                  <a:lnTo>
                    <a:pt x="69" y="312"/>
                  </a:lnTo>
                  <a:lnTo>
                    <a:pt x="83" y="294"/>
                  </a:lnTo>
                  <a:lnTo>
                    <a:pt x="95" y="276"/>
                  </a:lnTo>
                  <a:lnTo>
                    <a:pt x="101" y="265"/>
                  </a:lnTo>
                  <a:lnTo>
                    <a:pt x="105" y="256"/>
                  </a:lnTo>
                  <a:lnTo>
                    <a:pt x="110" y="244"/>
                  </a:lnTo>
                  <a:lnTo>
                    <a:pt x="113" y="234"/>
                  </a:lnTo>
                  <a:lnTo>
                    <a:pt x="119" y="214"/>
                  </a:lnTo>
                  <a:lnTo>
                    <a:pt x="126" y="194"/>
                  </a:lnTo>
                  <a:lnTo>
                    <a:pt x="133" y="175"/>
                  </a:lnTo>
                  <a:lnTo>
                    <a:pt x="141" y="158"/>
                  </a:lnTo>
                  <a:lnTo>
                    <a:pt x="150" y="141"/>
                  </a:lnTo>
                  <a:lnTo>
                    <a:pt x="159" y="126"/>
                  </a:lnTo>
                  <a:lnTo>
                    <a:pt x="167" y="112"/>
                  </a:lnTo>
                  <a:lnTo>
                    <a:pt x="176" y="99"/>
                  </a:lnTo>
                  <a:lnTo>
                    <a:pt x="186" y="88"/>
                  </a:lnTo>
                  <a:lnTo>
                    <a:pt x="195" y="77"/>
                  </a:lnTo>
                  <a:lnTo>
                    <a:pt x="205" y="68"/>
                  </a:lnTo>
                  <a:lnTo>
                    <a:pt x="215" y="60"/>
                  </a:lnTo>
                  <a:lnTo>
                    <a:pt x="224" y="54"/>
                  </a:lnTo>
                  <a:lnTo>
                    <a:pt x="234" y="50"/>
                  </a:lnTo>
                  <a:lnTo>
                    <a:pt x="242" y="47"/>
                  </a:lnTo>
                  <a:lnTo>
                    <a:pt x="251" y="47"/>
                  </a:lnTo>
                  <a:lnTo>
                    <a:pt x="259" y="47"/>
                  </a:lnTo>
                  <a:lnTo>
                    <a:pt x="269" y="49"/>
                  </a:lnTo>
                  <a:lnTo>
                    <a:pt x="277" y="54"/>
                  </a:lnTo>
                  <a:lnTo>
                    <a:pt x="285" y="59"/>
                  </a:lnTo>
                  <a:lnTo>
                    <a:pt x="293" y="64"/>
                  </a:lnTo>
                  <a:lnTo>
                    <a:pt x="301" y="71"/>
                  </a:lnTo>
                  <a:lnTo>
                    <a:pt x="308" y="78"/>
                  </a:lnTo>
                  <a:lnTo>
                    <a:pt x="315" y="85"/>
                  </a:lnTo>
                  <a:lnTo>
                    <a:pt x="338" y="112"/>
                  </a:lnTo>
                  <a:lnTo>
                    <a:pt x="346" y="124"/>
                  </a:lnTo>
                  <a:lnTo>
                    <a:pt x="356" y="125"/>
                  </a:lnTo>
                  <a:lnTo>
                    <a:pt x="384" y="129"/>
                  </a:lnTo>
                  <a:lnTo>
                    <a:pt x="425" y="132"/>
                  </a:lnTo>
                  <a:lnTo>
                    <a:pt x="473" y="134"/>
                  </a:lnTo>
                  <a:lnTo>
                    <a:pt x="497" y="134"/>
                  </a:lnTo>
                  <a:lnTo>
                    <a:pt x="521" y="134"/>
                  </a:lnTo>
                  <a:lnTo>
                    <a:pt x="544" y="133"/>
                  </a:lnTo>
                  <a:lnTo>
                    <a:pt x="567" y="131"/>
                  </a:lnTo>
                  <a:lnTo>
                    <a:pt x="585" y="129"/>
                  </a:lnTo>
                  <a:lnTo>
                    <a:pt x="602" y="124"/>
                  </a:lnTo>
                  <a:lnTo>
                    <a:pt x="609" y="120"/>
                  </a:lnTo>
                  <a:lnTo>
                    <a:pt x="615" y="117"/>
                  </a:lnTo>
                  <a:lnTo>
                    <a:pt x="619" y="113"/>
                  </a:lnTo>
                  <a:lnTo>
                    <a:pt x="623" y="110"/>
                  </a:lnTo>
                  <a:lnTo>
                    <a:pt x="643" y="80"/>
                  </a:lnTo>
                  <a:lnTo>
                    <a:pt x="658" y="55"/>
                  </a:lnTo>
                  <a:lnTo>
                    <a:pt x="667" y="43"/>
                  </a:lnTo>
                  <a:lnTo>
                    <a:pt x="680" y="30"/>
                  </a:lnTo>
                  <a:lnTo>
                    <a:pt x="695" y="16"/>
                  </a:lnTo>
                  <a:lnTo>
                    <a:pt x="715" y="0"/>
                  </a:lnTo>
                  <a:lnTo>
                    <a:pt x="764" y="5"/>
                  </a:lnTo>
                  <a:lnTo>
                    <a:pt x="815" y="8"/>
                  </a:lnTo>
                  <a:lnTo>
                    <a:pt x="869" y="13"/>
                  </a:lnTo>
                  <a:lnTo>
                    <a:pt x="924" y="16"/>
                  </a:lnTo>
                  <a:lnTo>
                    <a:pt x="981" y="21"/>
                  </a:lnTo>
                  <a:lnTo>
                    <a:pt x="1040" y="25"/>
                  </a:lnTo>
                  <a:lnTo>
                    <a:pt x="1100" y="28"/>
                  </a:lnTo>
                  <a:lnTo>
                    <a:pt x="1161" y="33"/>
                  </a:lnTo>
                  <a:lnTo>
                    <a:pt x="1225" y="36"/>
                  </a:lnTo>
                  <a:lnTo>
                    <a:pt x="1290" y="40"/>
                  </a:lnTo>
                  <a:lnTo>
                    <a:pt x="1356" y="43"/>
                  </a:lnTo>
                  <a:lnTo>
                    <a:pt x="1423" y="46"/>
                  </a:lnTo>
                  <a:lnTo>
                    <a:pt x="1492" y="49"/>
                  </a:lnTo>
                  <a:lnTo>
                    <a:pt x="1562" y="53"/>
                  </a:lnTo>
                  <a:lnTo>
                    <a:pt x="1633" y="55"/>
                  </a:lnTo>
                  <a:lnTo>
                    <a:pt x="1706" y="57"/>
                  </a:lnTo>
                  <a:lnTo>
                    <a:pt x="1688" y="77"/>
                  </a:lnTo>
                  <a:lnTo>
                    <a:pt x="1644" y="131"/>
                  </a:lnTo>
                  <a:lnTo>
                    <a:pt x="1613" y="167"/>
                  </a:lnTo>
                  <a:lnTo>
                    <a:pt x="1581" y="208"/>
                  </a:lnTo>
                  <a:lnTo>
                    <a:pt x="1546" y="254"/>
                  </a:lnTo>
                  <a:lnTo>
                    <a:pt x="1509" y="301"/>
                  </a:lnTo>
                  <a:lnTo>
                    <a:pt x="1474" y="352"/>
                  </a:lnTo>
                  <a:lnTo>
                    <a:pt x="1442" y="402"/>
                  </a:lnTo>
                  <a:lnTo>
                    <a:pt x="1425" y="426"/>
                  </a:lnTo>
                  <a:lnTo>
                    <a:pt x="1411" y="451"/>
                  </a:lnTo>
                  <a:lnTo>
                    <a:pt x="1397" y="476"/>
                  </a:lnTo>
                  <a:lnTo>
                    <a:pt x="1384" y="499"/>
                  </a:lnTo>
                  <a:lnTo>
                    <a:pt x="1374" y="522"/>
                  </a:lnTo>
                  <a:lnTo>
                    <a:pt x="1364" y="544"/>
                  </a:lnTo>
                  <a:lnTo>
                    <a:pt x="1356" y="565"/>
                  </a:lnTo>
                  <a:lnTo>
                    <a:pt x="1350" y="585"/>
                  </a:lnTo>
                  <a:lnTo>
                    <a:pt x="1347" y="604"/>
                  </a:lnTo>
                  <a:lnTo>
                    <a:pt x="1345" y="622"/>
                  </a:lnTo>
                  <a:lnTo>
                    <a:pt x="1346" y="637"/>
                  </a:lnTo>
                  <a:lnTo>
                    <a:pt x="1348" y="6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100"/>
            <p:cNvSpPr/>
            <p:nvPr/>
          </p:nvSpPr>
          <p:spPr>
            <a:xfrm>
              <a:off x="6580080" y="3746520"/>
              <a:ext cx="257040" cy="10764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706" h="651">
                  <a:moveTo>
                    <a:pt x="1348" y="651"/>
                  </a:moveTo>
                  <a:lnTo>
                    <a:pt x="1341" y="641"/>
                  </a:lnTo>
                  <a:lnTo>
                    <a:pt x="1328" y="632"/>
                  </a:lnTo>
                  <a:lnTo>
                    <a:pt x="1312" y="625"/>
                  </a:lnTo>
                  <a:lnTo>
                    <a:pt x="1292" y="618"/>
                  </a:lnTo>
                  <a:lnTo>
                    <a:pt x="1269" y="611"/>
                  </a:lnTo>
                  <a:lnTo>
                    <a:pt x="1242" y="606"/>
                  </a:lnTo>
                  <a:lnTo>
                    <a:pt x="1211" y="602"/>
                  </a:lnTo>
                  <a:lnTo>
                    <a:pt x="1180" y="597"/>
                  </a:lnTo>
                  <a:lnTo>
                    <a:pt x="1145" y="593"/>
                  </a:lnTo>
                  <a:lnTo>
                    <a:pt x="1109" y="591"/>
                  </a:lnTo>
                  <a:lnTo>
                    <a:pt x="1070" y="589"/>
                  </a:lnTo>
                  <a:lnTo>
                    <a:pt x="1030" y="586"/>
                  </a:lnTo>
                  <a:lnTo>
                    <a:pt x="946" y="584"/>
                  </a:lnTo>
                  <a:lnTo>
                    <a:pt x="861" y="584"/>
                  </a:lnTo>
                  <a:lnTo>
                    <a:pt x="776" y="584"/>
                  </a:lnTo>
                  <a:lnTo>
                    <a:pt x="692" y="585"/>
                  </a:lnTo>
                  <a:lnTo>
                    <a:pt x="612" y="586"/>
                  </a:lnTo>
                  <a:lnTo>
                    <a:pt x="540" y="589"/>
                  </a:lnTo>
                  <a:lnTo>
                    <a:pt x="476" y="590"/>
                  </a:lnTo>
                  <a:lnTo>
                    <a:pt x="423" y="590"/>
                  </a:lnTo>
                  <a:lnTo>
                    <a:pt x="384" y="590"/>
                  </a:lnTo>
                  <a:lnTo>
                    <a:pt x="361" y="588"/>
                  </a:lnTo>
                  <a:lnTo>
                    <a:pt x="331" y="582"/>
                  </a:lnTo>
                  <a:lnTo>
                    <a:pt x="299" y="575"/>
                  </a:lnTo>
                  <a:lnTo>
                    <a:pt x="284" y="570"/>
                  </a:lnTo>
                  <a:lnTo>
                    <a:pt x="268" y="564"/>
                  </a:lnTo>
                  <a:lnTo>
                    <a:pt x="254" y="557"/>
                  </a:lnTo>
                  <a:lnTo>
                    <a:pt x="240" y="549"/>
                  </a:lnTo>
                  <a:lnTo>
                    <a:pt x="227" y="540"/>
                  </a:lnTo>
                  <a:lnTo>
                    <a:pt x="214" y="528"/>
                  </a:lnTo>
                  <a:lnTo>
                    <a:pt x="208" y="522"/>
                  </a:lnTo>
                  <a:lnTo>
                    <a:pt x="203" y="515"/>
                  </a:lnTo>
                  <a:lnTo>
                    <a:pt x="199" y="508"/>
                  </a:lnTo>
                  <a:lnTo>
                    <a:pt x="194" y="501"/>
                  </a:lnTo>
                  <a:lnTo>
                    <a:pt x="190" y="493"/>
                  </a:lnTo>
                  <a:lnTo>
                    <a:pt x="187" y="484"/>
                  </a:lnTo>
                  <a:lnTo>
                    <a:pt x="183" y="474"/>
                  </a:lnTo>
                  <a:lnTo>
                    <a:pt x="181" y="464"/>
                  </a:lnTo>
                  <a:lnTo>
                    <a:pt x="179" y="453"/>
                  </a:lnTo>
                  <a:lnTo>
                    <a:pt x="178" y="443"/>
                  </a:lnTo>
                  <a:lnTo>
                    <a:pt x="176" y="430"/>
                  </a:lnTo>
                  <a:lnTo>
                    <a:pt x="176" y="418"/>
                  </a:lnTo>
                  <a:lnTo>
                    <a:pt x="0" y="381"/>
                  </a:lnTo>
                  <a:lnTo>
                    <a:pt x="19" y="363"/>
                  </a:lnTo>
                  <a:lnTo>
                    <a:pt x="36" y="347"/>
                  </a:lnTo>
                  <a:lnTo>
                    <a:pt x="53" y="329"/>
                  </a:lnTo>
                  <a:lnTo>
                    <a:pt x="69" y="312"/>
                  </a:lnTo>
                  <a:lnTo>
                    <a:pt x="83" y="294"/>
                  </a:lnTo>
                  <a:lnTo>
                    <a:pt x="95" y="276"/>
                  </a:lnTo>
                  <a:lnTo>
                    <a:pt x="101" y="265"/>
                  </a:lnTo>
                  <a:lnTo>
                    <a:pt x="105" y="256"/>
                  </a:lnTo>
                  <a:lnTo>
                    <a:pt x="110" y="244"/>
                  </a:lnTo>
                  <a:lnTo>
                    <a:pt x="113" y="234"/>
                  </a:lnTo>
                  <a:lnTo>
                    <a:pt x="119" y="214"/>
                  </a:lnTo>
                  <a:lnTo>
                    <a:pt x="126" y="194"/>
                  </a:lnTo>
                  <a:lnTo>
                    <a:pt x="133" y="175"/>
                  </a:lnTo>
                  <a:lnTo>
                    <a:pt x="141" y="158"/>
                  </a:lnTo>
                  <a:lnTo>
                    <a:pt x="150" y="141"/>
                  </a:lnTo>
                  <a:lnTo>
                    <a:pt x="159" y="126"/>
                  </a:lnTo>
                  <a:lnTo>
                    <a:pt x="167" y="112"/>
                  </a:lnTo>
                  <a:lnTo>
                    <a:pt x="176" y="99"/>
                  </a:lnTo>
                  <a:lnTo>
                    <a:pt x="186" y="88"/>
                  </a:lnTo>
                  <a:lnTo>
                    <a:pt x="195" y="77"/>
                  </a:lnTo>
                  <a:lnTo>
                    <a:pt x="205" y="68"/>
                  </a:lnTo>
                  <a:lnTo>
                    <a:pt x="215" y="60"/>
                  </a:lnTo>
                  <a:lnTo>
                    <a:pt x="224" y="54"/>
                  </a:lnTo>
                  <a:lnTo>
                    <a:pt x="234" y="50"/>
                  </a:lnTo>
                  <a:lnTo>
                    <a:pt x="242" y="47"/>
                  </a:lnTo>
                  <a:lnTo>
                    <a:pt x="251" y="47"/>
                  </a:lnTo>
                  <a:lnTo>
                    <a:pt x="259" y="47"/>
                  </a:lnTo>
                  <a:lnTo>
                    <a:pt x="269" y="49"/>
                  </a:lnTo>
                  <a:lnTo>
                    <a:pt x="277" y="54"/>
                  </a:lnTo>
                  <a:lnTo>
                    <a:pt x="285" y="59"/>
                  </a:lnTo>
                  <a:lnTo>
                    <a:pt x="293" y="64"/>
                  </a:lnTo>
                  <a:lnTo>
                    <a:pt x="301" y="71"/>
                  </a:lnTo>
                  <a:lnTo>
                    <a:pt x="308" y="78"/>
                  </a:lnTo>
                  <a:lnTo>
                    <a:pt x="315" y="85"/>
                  </a:lnTo>
                  <a:lnTo>
                    <a:pt x="338" y="112"/>
                  </a:lnTo>
                  <a:lnTo>
                    <a:pt x="346" y="124"/>
                  </a:lnTo>
                  <a:lnTo>
                    <a:pt x="356" y="125"/>
                  </a:lnTo>
                  <a:lnTo>
                    <a:pt x="384" y="129"/>
                  </a:lnTo>
                  <a:lnTo>
                    <a:pt x="425" y="132"/>
                  </a:lnTo>
                  <a:lnTo>
                    <a:pt x="473" y="134"/>
                  </a:lnTo>
                  <a:lnTo>
                    <a:pt x="497" y="134"/>
                  </a:lnTo>
                  <a:lnTo>
                    <a:pt x="521" y="134"/>
                  </a:lnTo>
                  <a:lnTo>
                    <a:pt x="544" y="133"/>
                  </a:lnTo>
                  <a:lnTo>
                    <a:pt x="567" y="131"/>
                  </a:lnTo>
                  <a:lnTo>
                    <a:pt x="585" y="129"/>
                  </a:lnTo>
                  <a:lnTo>
                    <a:pt x="602" y="124"/>
                  </a:lnTo>
                  <a:lnTo>
                    <a:pt x="609" y="120"/>
                  </a:lnTo>
                  <a:lnTo>
                    <a:pt x="615" y="117"/>
                  </a:lnTo>
                  <a:lnTo>
                    <a:pt x="619" y="113"/>
                  </a:lnTo>
                  <a:lnTo>
                    <a:pt x="623" y="110"/>
                  </a:lnTo>
                  <a:lnTo>
                    <a:pt x="643" y="80"/>
                  </a:lnTo>
                  <a:lnTo>
                    <a:pt x="658" y="55"/>
                  </a:lnTo>
                  <a:lnTo>
                    <a:pt x="667" y="43"/>
                  </a:lnTo>
                  <a:lnTo>
                    <a:pt x="680" y="30"/>
                  </a:lnTo>
                  <a:lnTo>
                    <a:pt x="695" y="16"/>
                  </a:lnTo>
                  <a:lnTo>
                    <a:pt x="715" y="0"/>
                  </a:lnTo>
                  <a:lnTo>
                    <a:pt x="764" y="5"/>
                  </a:lnTo>
                  <a:lnTo>
                    <a:pt x="815" y="8"/>
                  </a:lnTo>
                  <a:lnTo>
                    <a:pt x="869" y="13"/>
                  </a:lnTo>
                  <a:lnTo>
                    <a:pt x="924" y="16"/>
                  </a:lnTo>
                  <a:lnTo>
                    <a:pt x="981" y="21"/>
                  </a:lnTo>
                  <a:lnTo>
                    <a:pt x="1040" y="25"/>
                  </a:lnTo>
                  <a:lnTo>
                    <a:pt x="1100" y="28"/>
                  </a:lnTo>
                  <a:lnTo>
                    <a:pt x="1161" y="33"/>
                  </a:lnTo>
                  <a:lnTo>
                    <a:pt x="1225" y="36"/>
                  </a:lnTo>
                  <a:lnTo>
                    <a:pt x="1290" y="40"/>
                  </a:lnTo>
                  <a:lnTo>
                    <a:pt x="1356" y="43"/>
                  </a:lnTo>
                  <a:lnTo>
                    <a:pt x="1423" y="46"/>
                  </a:lnTo>
                  <a:lnTo>
                    <a:pt x="1492" y="49"/>
                  </a:lnTo>
                  <a:lnTo>
                    <a:pt x="1562" y="53"/>
                  </a:lnTo>
                  <a:lnTo>
                    <a:pt x="1633" y="55"/>
                  </a:lnTo>
                  <a:lnTo>
                    <a:pt x="1706" y="57"/>
                  </a:lnTo>
                  <a:lnTo>
                    <a:pt x="1688" y="77"/>
                  </a:lnTo>
                  <a:lnTo>
                    <a:pt x="1644" y="131"/>
                  </a:lnTo>
                  <a:lnTo>
                    <a:pt x="1613" y="167"/>
                  </a:lnTo>
                  <a:lnTo>
                    <a:pt x="1581" y="208"/>
                  </a:lnTo>
                  <a:lnTo>
                    <a:pt x="1546" y="254"/>
                  </a:lnTo>
                  <a:lnTo>
                    <a:pt x="1509" y="301"/>
                  </a:lnTo>
                  <a:lnTo>
                    <a:pt x="1474" y="352"/>
                  </a:lnTo>
                  <a:lnTo>
                    <a:pt x="1442" y="402"/>
                  </a:lnTo>
                  <a:lnTo>
                    <a:pt x="1425" y="426"/>
                  </a:lnTo>
                  <a:lnTo>
                    <a:pt x="1411" y="451"/>
                  </a:lnTo>
                  <a:lnTo>
                    <a:pt x="1397" y="476"/>
                  </a:lnTo>
                  <a:lnTo>
                    <a:pt x="1384" y="499"/>
                  </a:lnTo>
                  <a:lnTo>
                    <a:pt x="1374" y="522"/>
                  </a:lnTo>
                  <a:lnTo>
                    <a:pt x="1364" y="544"/>
                  </a:lnTo>
                  <a:lnTo>
                    <a:pt x="1356" y="565"/>
                  </a:lnTo>
                  <a:lnTo>
                    <a:pt x="1350" y="585"/>
                  </a:lnTo>
                  <a:lnTo>
                    <a:pt x="1347" y="604"/>
                  </a:lnTo>
                  <a:lnTo>
                    <a:pt x="1345" y="622"/>
                  </a:lnTo>
                  <a:lnTo>
                    <a:pt x="1346" y="637"/>
                  </a:lnTo>
                  <a:lnTo>
                    <a:pt x="1348" y="6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101"/>
            <p:cNvSpPr/>
            <p:nvPr/>
          </p:nvSpPr>
          <p:spPr>
            <a:xfrm>
              <a:off x="6683760" y="3755520"/>
              <a:ext cx="252000" cy="24048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1670" h="1472">
                  <a:moveTo>
                    <a:pt x="1670" y="888"/>
                  </a:moveTo>
                  <a:lnTo>
                    <a:pt x="1328" y="1472"/>
                  </a:lnTo>
                  <a:lnTo>
                    <a:pt x="652" y="1407"/>
                  </a:lnTo>
                  <a:lnTo>
                    <a:pt x="629" y="1401"/>
                  </a:lnTo>
                  <a:lnTo>
                    <a:pt x="604" y="1395"/>
                  </a:lnTo>
                  <a:lnTo>
                    <a:pt x="574" y="1389"/>
                  </a:lnTo>
                  <a:lnTo>
                    <a:pt x="542" y="1383"/>
                  </a:lnTo>
                  <a:lnTo>
                    <a:pt x="469" y="1372"/>
                  </a:lnTo>
                  <a:lnTo>
                    <a:pt x="386" y="1361"/>
                  </a:lnTo>
                  <a:lnTo>
                    <a:pt x="295" y="1349"/>
                  </a:lnTo>
                  <a:lnTo>
                    <a:pt x="200" y="1338"/>
                  </a:lnTo>
                  <a:lnTo>
                    <a:pt x="100" y="1325"/>
                  </a:lnTo>
                  <a:lnTo>
                    <a:pt x="0" y="1311"/>
                  </a:lnTo>
                  <a:lnTo>
                    <a:pt x="23" y="1295"/>
                  </a:lnTo>
                  <a:lnTo>
                    <a:pt x="46" y="1278"/>
                  </a:lnTo>
                  <a:lnTo>
                    <a:pt x="70" y="1262"/>
                  </a:lnTo>
                  <a:lnTo>
                    <a:pt x="90" y="1244"/>
                  </a:lnTo>
                  <a:lnTo>
                    <a:pt x="99" y="1236"/>
                  </a:lnTo>
                  <a:lnTo>
                    <a:pt x="106" y="1227"/>
                  </a:lnTo>
                  <a:lnTo>
                    <a:pt x="113" y="1217"/>
                  </a:lnTo>
                  <a:lnTo>
                    <a:pt x="118" y="1208"/>
                  </a:lnTo>
                  <a:lnTo>
                    <a:pt x="121" y="1198"/>
                  </a:lnTo>
                  <a:lnTo>
                    <a:pt x="124" y="1187"/>
                  </a:lnTo>
                  <a:lnTo>
                    <a:pt x="124" y="1175"/>
                  </a:lnTo>
                  <a:lnTo>
                    <a:pt x="121" y="1165"/>
                  </a:lnTo>
                  <a:lnTo>
                    <a:pt x="119" y="1153"/>
                  </a:lnTo>
                  <a:lnTo>
                    <a:pt x="118" y="1143"/>
                  </a:lnTo>
                  <a:lnTo>
                    <a:pt x="118" y="1131"/>
                  </a:lnTo>
                  <a:lnTo>
                    <a:pt x="119" y="1121"/>
                  </a:lnTo>
                  <a:lnTo>
                    <a:pt x="121" y="1111"/>
                  </a:lnTo>
                  <a:lnTo>
                    <a:pt x="125" y="1101"/>
                  </a:lnTo>
                  <a:lnTo>
                    <a:pt x="129" y="1091"/>
                  </a:lnTo>
                  <a:lnTo>
                    <a:pt x="135" y="1081"/>
                  </a:lnTo>
                  <a:lnTo>
                    <a:pt x="143" y="1071"/>
                  </a:lnTo>
                  <a:lnTo>
                    <a:pt x="152" y="1062"/>
                  </a:lnTo>
                  <a:lnTo>
                    <a:pt x="161" y="1053"/>
                  </a:lnTo>
                  <a:lnTo>
                    <a:pt x="173" y="1045"/>
                  </a:lnTo>
                  <a:lnTo>
                    <a:pt x="186" y="1035"/>
                  </a:lnTo>
                  <a:lnTo>
                    <a:pt x="198" y="1026"/>
                  </a:lnTo>
                  <a:lnTo>
                    <a:pt x="214" y="1018"/>
                  </a:lnTo>
                  <a:lnTo>
                    <a:pt x="231" y="1008"/>
                  </a:lnTo>
                  <a:lnTo>
                    <a:pt x="264" y="992"/>
                  </a:lnTo>
                  <a:lnTo>
                    <a:pt x="293" y="977"/>
                  </a:lnTo>
                  <a:lnTo>
                    <a:pt x="307" y="969"/>
                  </a:lnTo>
                  <a:lnTo>
                    <a:pt x="319" y="960"/>
                  </a:lnTo>
                  <a:lnTo>
                    <a:pt x="329" y="952"/>
                  </a:lnTo>
                  <a:lnTo>
                    <a:pt x="339" y="944"/>
                  </a:lnTo>
                  <a:lnTo>
                    <a:pt x="347" y="936"/>
                  </a:lnTo>
                  <a:lnTo>
                    <a:pt x="354" y="927"/>
                  </a:lnTo>
                  <a:lnTo>
                    <a:pt x="358" y="917"/>
                  </a:lnTo>
                  <a:lnTo>
                    <a:pt x="362" y="907"/>
                  </a:lnTo>
                  <a:lnTo>
                    <a:pt x="363" y="895"/>
                  </a:lnTo>
                  <a:lnTo>
                    <a:pt x="362" y="883"/>
                  </a:lnTo>
                  <a:lnTo>
                    <a:pt x="360" y="871"/>
                  </a:lnTo>
                  <a:lnTo>
                    <a:pt x="355" y="857"/>
                  </a:lnTo>
                  <a:lnTo>
                    <a:pt x="343" y="831"/>
                  </a:lnTo>
                  <a:lnTo>
                    <a:pt x="333" y="813"/>
                  </a:lnTo>
                  <a:lnTo>
                    <a:pt x="329" y="805"/>
                  </a:lnTo>
                  <a:lnTo>
                    <a:pt x="326" y="799"/>
                  </a:lnTo>
                  <a:lnTo>
                    <a:pt x="325" y="795"/>
                  </a:lnTo>
                  <a:lnTo>
                    <a:pt x="323" y="790"/>
                  </a:lnTo>
                  <a:lnTo>
                    <a:pt x="325" y="785"/>
                  </a:lnTo>
                  <a:lnTo>
                    <a:pt x="327" y="781"/>
                  </a:lnTo>
                  <a:lnTo>
                    <a:pt x="332" y="777"/>
                  </a:lnTo>
                  <a:lnTo>
                    <a:pt x="337" y="772"/>
                  </a:lnTo>
                  <a:lnTo>
                    <a:pt x="357" y="762"/>
                  </a:lnTo>
                  <a:lnTo>
                    <a:pt x="386" y="747"/>
                  </a:lnTo>
                  <a:lnTo>
                    <a:pt x="405" y="739"/>
                  </a:lnTo>
                  <a:lnTo>
                    <a:pt x="427" y="732"/>
                  </a:lnTo>
                  <a:lnTo>
                    <a:pt x="451" y="725"/>
                  </a:lnTo>
                  <a:lnTo>
                    <a:pt x="478" y="719"/>
                  </a:lnTo>
                  <a:lnTo>
                    <a:pt x="531" y="706"/>
                  </a:lnTo>
                  <a:lnTo>
                    <a:pt x="583" y="693"/>
                  </a:lnTo>
                  <a:lnTo>
                    <a:pt x="606" y="686"/>
                  </a:lnTo>
                  <a:lnTo>
                    <a:pt x="627" y="677"/>
                  </a:lnTo>
                  <a:lnTo>
                    <a:pt x="636" y="672"/>
                  </a:lnTo>
                  <a:lnTo>
                    <a:pt x="645" y="667"/>
                  </a:lnTo>
                  <a:lnTo>
                    <a:pt x="653" y="663"/>
                  </a:lnTo>
                  <a:lnTo>
                    <a:pt x="659" y="657"/>
                  </a:lnTo>
                  <a:lnTo>
                    <a:pt x="664" y="651"/>
                  </a:lnTo>
                  <a:lnTo>
                    <a:pt x="668" y="644"/>
                  </a:lnTo>
                  <a:lnTo>
                    <a:pt x="671" y="637"/>
                  </a:lnTo>
                  <a:lnTo>
                    <a:pt x="673" y="630"/>
                  </a:lnTo>
                  <a:lnTo>
                    <a:pt x="673" y="622"/>
                  </a:lnTo>
                  <a:lnTo>
                    <a:pt x="671" y="612"/>
                  </a:lnTo>
                  <a:lnTo>
                    <a:pt x="668" y="604"/>
                  </a:lnTo>
                  <a:lnTo>
                    <a:pt x="662" y="594"/>
                  </a:lnTo>
                  <a:lnTo>
                    <a:pt x="660" y="580"/>
                  </a:lnTo>
                  <a:lnTo>
                    <a:pt x="659" y="565"/>
                  </a:lnTo>
                  <a:lnTo>
                    <a:pt x="661" y="547"/>
                  </a:lnTo>
                  <a:lnTo>
                    <a:pt x="664" y="528"/>
                  </a:lnTo>
                  <a:lnTo>
                    <a:pt x="670" y="508"/>
                  </a:lnTo>
                  <a:lnTo>
                    <a:pt x="678" y="487"/>
                  </a:lnTo>
                  <a:lnTo>
                    <a:pt x="688" y="465"/>
                  </a:lnTo>
                  <a:lnTo>
                    <a:pt x="698" y="442"/>
                  </a:lnTo>
                  <a:lnTo>
                    <a:pt x="711" y="419"/>
                  </a:lnTo>
                  <a:lnTo>
                    <a:pt x="725" y="394"/>
                  </a:lnTo>
                  <a:lnTo>
                    <a:pt x="739" y="369"/>
                  </a:lnTo>
                  <a:lnTo>
                    <a:pt x="756" y="345"/>
                  </a:lnTo>
                  <a:lnTo>
                    <a:pt x="788" y="295"/>
                  </a:lnTo>
                  <a:lnTo>
                    <a:pt x="823" y="244"/>
                  </a:lnTo>
                  <a:lnTo>
                    <a:pt x="860" y="197"/>
                  </a:lnTo>
                  <a:lnTo>
                    <a:pt x="895" y="151"/>
                  </a:lnTo>
                  <a:lnTo>
                    <a:pt x="927" y="110"/>
                  </a:lnTo>
                  <a:lnTo>
                    <a:pt x="958" y="74"/>
                  </a:lnTo>
                  <a:lnTo>
                    <a:pt x="1002" y="20"/>
                  </a:lnTo>
                  <a:lnTo>
                    <a:pt x="1020" y="0"/>
                  </a:lnTo>
                  <a:lnTo>
                    <a:pt x="1043" y="2"/>
                  </a:lnTo>
                  <a:lnTo>
                    <a:pt x="1065" y="3"/>
                  </a:lnTo>
                  <a:lnTo>
                    <a:pt x="1087" y="4"/>
                  </a:lnTo>
                  <a:lnTo>
                    <a:pt x="1111" y="5"/>
                  </a:lnTo>
                  <a:lnTo>
                    <a:pt x="1134" y="6"/>
                  </a:lnTo>
                  <a:lnTo>
                    <a:pt x="1157" y="7"/>
                  </a:lnTo>
                  <a:lnTo>
                    <a:pt x="1181" y="9"/>
                  </a:lnTo>
                  <a:lnTo>
                    <a:pt x="1204" y="10"/>
                  </a:lnTo>
                  <a:lnTo>
                    <a:pt x="1199" y="13"/>
                  </a:lnTo>
                  <a:lnTo>
                    <a:pt x="1189" y="25"/>
                  </a:lnTo>
                  <a:lnTo>
                    <a:pt x="1173" y="42"/>
                  </a:lnTo>
                  <a:lnTo>
                    <a:pt x="1153" y="66"/>
                  </a:lnTo>
                  <a:lnTo>
                    <a:pt x="1129" y="93"/>
                  </a:lnTo>
                  <a:lnTo>
                    <a:pt x="1107" y="124"/>
                  </a:lnTo>
                  <a:lnTo>
                    <a:pt x="1095" y="141"/>
                  </a:lnTo>
                  <a:lnTo>
                    <a:pt x="1085" y="157"/>
                  </a:lnTo>
                  <a:lnTo>
                    <a:pt x="1074" y="173"/>
                  </a:lnTo>
                  <a:lnTo>
                    <a:pt x="1066" y="191"/>
                  </a:lnTo>
                  <a:lnTo>
                    <a:pt x="1062" y="200"/>
                  </a:lnTo>
                  <a:lnTo>
                    <a:pt x="1058" y="208"/>
                  </a:lnTo>
                  <a:lnTo>
                    <a:pt x="1056" y="218"/>
                  </a:lnTo>
                  <a:lnTo>
                    <a:pt x="1052" y="228"/>
                  </a:lnTo>
                  <a:lnTo>
                    <a:pt x="1050" y="247"/>
                  </a:lnTo>
                  <a:lnTo>
                    <a:pt x="1049" y="267"/>
                  </a:lnTo>
                  <a:lnTo>
                    <a:pt x="1050" y="288"/>
                  </a:lnTo>
                  <a:lnTo>
                    <a:pt x="1053" y="309"/>
                  </a:lnTo>
                  <a:lnTo>
                    <a:pt x="1059" y="330"/>
                  </a:lnTo>
                  <a:lnTo>
                    <a:pt x="1067" y="350"/>
                  </a:lnTo>
                  <a:lnTo>
                    <a:pt x="1072" y="360"/>
                  </a:lnTo>
                  <a:lnTo>
                    <a:pt x="1078" y="369"/>
                  </a:lnTo>
                  <a:lnTo>
                    <a:pt x="1084" y="380"/>
                  </a:lnTo>
                  <a:lnTo>
                    <a:pt x="1091" y="389"/>
                  </a:lnTo>
                  <a:lnTo>
                    <a:pt x="1098" y="399"/>
                  </a:lnTo>
                  <a:lnTo>
                    <a:pt x="1106" y="408"/>
                  </a:lnTo>
                  <a:lnTo>
                    <a:pt x="1114" y="417"/>
                  </a:lnTo>
                  <a:lnTo>
                    <a:pt x="1124" y="427"/>
                  </a:lnTo>
                  <a:lnTo>
                    <a:pt x="1133" y="435"/>
                  </a:lnTo>
                  <a:lnTo>
                    <a:pt x="1143" y="443"/>
                  </a:lnTo>
                  <a:lnTo>
                    <a:pt x="1155" y="451"/>
                  </a:lnTo>
                  <a:lnTo>
                    <a:pt x="1166" y="458"/>
                  </a:lnTo>
                  <a:lnTo>
                    <a:pt x="1178" y="465"/>
                  </a:lnTo>
                  <a:lnTo>
                    <a:pt x="1191" y="472"/>
                  </a:lnTo>
                  <a:lnTo>
                    <a:pt x="1204" y="479"/>
                  </a:lnTo>
                  <a:lnTo>
                    <a:pt x="1218" y="485"/>
                  </a:lnTo>
                  <a:lnTo>
                    <a:pt x="1225" y="487"/>
                  </a:lnTo>
                  <a:lnTo>
                    <a:pt x="1230" y="492"/>
                  </a:lnTo>
                  <a:lnTo>
                    <a:pt x="1233" y="497"/>
                  </a:lnTo>
                  <a:lnTo>
                    <a:pt x="1236" y="501"/>
                  </a:lnTo>
                  <a:lnTo>
                    <a:pt x="1237" y="506"/>
                  </a:lnTo>
                  <a:lnTo>
                    <a:pt x="1236" y="512"/>
                  </a:lnTo>
                  <a:lnTo>
                    <a:pt x="1234" y="518"/>
                  </a:lnTo>
                  <a:lnTo>
                    <a:pt x="1232" y="525"/>
                  </a:lnTo>
                  <a:lnTo>
                    <a:pt x="1225" y="538"/>
                  </a:lnTo>
                  <a:lnTo>
                    <a:pt x="1215" y="553"/>
                  </a:lnTo>
                  <a:lnTo>
                    <a:pt x="1202" y="567"/>
                  </a:lnTo>
                  <a:lnTo>
                    <a:pt x="1187" y="582"/>
                  </a:lnTo>
                  <a:lnTo>
                    <a:pt x="1156" y="609"/>
                  </a:lnTo>
                  <a:lnTo>
                    <a:pt x="1127" y="632"/>
                  </a:lnTo>
                  <a:lnTo>
                    <a:pt x="1106" y="649"/>
                  </a:lnTo>
                  <a:lnTo>
                    <a:pt x="1098" y="654"/>
                  </a:lnTo>
                  <a:lnTo>
                    <a:pt x="1095" y="656"/>
                  </a:lnTo>
                  <a:lnTo>
                    <a:pt x="1092" y="659"/>
                  </a:lnTo>
                  <a:lnTo>
                    <a:pt x="1091" y="663"/>
                  </a:lnTo>
                  <a:lnTo>
                    <a:pt x="1090" y="665"/>
                  </a:lnTo>
                  <a:lnTo>
                    <a:pt x="1088" y="668"/>
                  </a:lnTo>
                  <a:lnTo>
                    <a:pt x="1088" y="673"/>
                  </a:lnTo>
                  <a:lnTo>
                    <a:pt x="1091" y="678"/>
                  </a:lnTo>
                  <a:lnTo>
                    <a:pt x="1093" y="682"/>
                  </a:lnTo>
                  <a:lnTo>
                    <a:pt x="1098" y="687"/>
                  </a:lnTo>
                  <a:lnTo>
                    <a:pt x="1105" y="692"/>
                  </a:lnTo>
                  <a:lnTo>
                    <a:pt x="1114" y="698"/>
                  </a:lnTo>
                  <a:lnTo>
                    <a:pt x="1126" y="704"/>
                  </a:lnTo>
                  <a:lnTo>
                    <a:pt x="1140" y="709"/>
                  </a:lnTo>
                  <a:lnTo>
                    <a:pt x="1157" y="715"/>
                  </a:lnTo>
                  <a:lnTo>
                    <a:pt x="1166" y="719"/>
                  </a:lnTo>
                  <a:lnTo>
                    <a:pt x="1173" y="721"/>
                  </a:lnTo>
                  <a:lnTo>
                    <a:pt x="1178" y="725"/>
                  </a:lnTo>
                  <a:lnTo>
                    <a:pt x="1184" y="728"/>
                  </a:lnTo>
                  <a:lnTo>
                    <a:pt x="1188" y="733"/>
                  </a:lnTo>
                  <a:lnTo>
                    <a:pt x="1191" y="736"/>
                  </a:lnTo>
                  <a:lnTo>
                    <a:pt x="1194" y="740"/>
                  </a:lnTo>
                  <a:lnTo>
                    <a:pt x="1196" y="744"/>
                  </a:lnTo>
                  <a:lnTo>
                    <a:pt x="1198" y="754"/>
                  </a:lnTo>
                  <a:lnTo>
                    <a:pt x="1198" y="763"/>
                  </a:lnTo>
                  <a:lnTo>
                    <a:pt x="1197" y="774"/>
                  </a:lnTo>
                  <a:lnTo>
                    <a:pt x="1195" y="784"/>
                  </a:lnTo>
                  <a:lnTo>
                    <a:pt x="1192" y="795"/>
                  </a:lnTo>
                  <a:lnTo>
                    <a:pt x="1190" y="806"/>
                  </a:lnTo>
                  <a:lnTo>
                    <a:pt x="1190" y="819"/>
                  </a:lnTo>
                  <a:lnTo>
                    <a:pt x="1190" y="831"/>
                  </a:lnTo>
                  <a:lnTo>
                    <a:pt x="1191" y="838"/>
                  </a:lnTo>
                  <a:lnTo>
                    <a:pt x="1192" y="845"/>
                  </a:lnTo>
                  <a:lnTo>
                    <a:pt x="1195" y="851"/>
                  </a:lnTo>
                  <a:lnTo>
                    <a:pt x="1198" y="858"/>
                  </a:lnTo>
                  <a:lnTo>
                    <a:pt x="1202" y="865"/>
                  </a:lnTo>
                  <a:lnTo>
                    <a:pt x="1206" y="872"/>
                  </a:lnTo>
                  <a:lnTo>
                    <a:pt x="1212" y="878"/>
                  </a:lnTo>
                  <a:lnTo>
                    <a:pt x="1218" y="885"/>
                  </a:lnTo>
                  <a:lnTo>
                    <a:pt x="1226" y="892"/>
                  </a:lnTo>
                  <a:lnTo>
                    <a:pt x="1234" y="899"/>
                  </a:lnTo>
                  <a:lnTo>
                    <a:pt x="1244" y="904"/>
                  </a:lnTo>
                  <a:lnTo>
                    <a:pt x="1254" y="909"/>
                  </a:lnTo>
                  <a:lnTo>
                    <a:pt x="1265" y="914"/>
                  </a:lnTo>
                  <a:lnTo>
                    <a:pt x="1275" y="918"/>
                  </a:lnTo>
                  <a:lnTo>
                    <a:pt x="1287" y="922"/>
                  </a:lnTo>
                  <a:lnTo>
                    <a:pt x="1300" y="924"/>
                  </a:lnTo>
                  <a:lnTo>
                    <a:pt x="1327" y="929"/>
                  </a:lnTo>
                  <a:lnTo>
                    <a:pt x="1355" y="932"/>
                  </a:lnTo>
                  <a:lnTo>
                    <a:pt x="1384" y="934"/>
                  </a:lnTo>
                  <a:lnTo>
                    <a:pt x="1416" y="932"/>
                  </a:lnTo>
                  <a:lnTo>
                    <a:pt x="1447" y="931"/>
                  </a:lnTo>
                  <a:lnTo>
                    <a:pt x="1480" y="928"/>
                  </a:lnTo>
                  <a:lnTo>
                    <a:pt x="1512" y="923"/>
                  </a:lnTo>
                  <a:lnTo>
                    <a:pt x="1545" y="917"/>
                  </a:lnTo>
                  <a:lnTo>
                    <a:pt x="1578" y="911"/>
                  </a:lnTo>
                  <a:lnTo>
                    <a:pt x="1609" y="904"/>
                  </a:lnTo>
                  <a:lnTo>
                    <a:pt x="1641" y="896"/>
                  </a:lnTo>
                  <a:lnTo>
                    <a:pt x="1670" y="8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102"/>
            <p:cNvSpPr/>
            <p:nvPr/>
          </p:nvSpPr>
          <p:spPr>
            <a:xfrm>
              <a:off x="6683760" y="3755520"/>
              <a:ext cx="252000" cy="24048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1670" h="1472">
                  <a:moveTo>
                    <a:pt x="1670" y="888"/>
                  </a:moveTo>
                  <a:lnTo>
                    <a:pt x="1328" y="1472"/>
                  </a:lnTo>
                  <a:lnTo>
                    <a:pt x="652" y="1407"/>
                  </a:lnTo>
                  <a:lnTo>
                    <a:pt x="629" y="1401"/>
                  </a:lnTo>
                  <a:lnTo>
                    <a:pt x="604" y="1395"/>
                  </a:lnTo>
                  <a:lnTo>
                    <a:pt x="574" y="1389"/>
                  </a:lnTo>
                  <a:lnTo>
                    <a:pt x="542" y="1383"/>
                  </a:lnTo>
                  <a:lnTo>
                    <a:pt x="469" y="1372"/>
                  </a:lnTo>
                  <a:lnTo>
                    <a:pt x="386" y="1361"/>
                  </a:lnTo>
                  <a:lnTo>
                    <a:pt x="295" y="1349"/>
                  </a:lnTo>
                  <a:lnTo>
                    <a:pt x="200" y="1338"/>
                  </a:lnTo>
                  <a:lnTo>
                    <a:pt x="100" y="1325"/>
                  </a:lnTo>
                  <a:lnTo>
                    <a:pt x="0" y="1311"/>
                  </a:lnTo>
                  <a:lnTo>
                    <a:pt x="23" y="1295"/>
                  </a:lnTo>
                  <a:lnTo>
                    <a:pt x="46" y="1278"/>
                  </a:lnTo>
                  <a:lnTo>
                    <a:pt x="70" y="1262"/>
                  </a:lnTo>
                  <a:lnTo>
                    <a:pt x="90" y="1244"/>
                  </a:lnTo>
                  <a:lnTo>
                    <a:pt x="99" y="1236"/>
                  </a:lnTo>
                  <a:lnTo>
                    <a:pt x="106" y="1227"/>
                  </a:lnTo>
                  <a:lnTo>
                    <a:pt x="113" y="1217"/>
                  </a:lnTo>
                  <a:lnTo>
                    <a:pt x="118" y="1208"/>
                  </a:lnTo>
                  <a:lnTo>
                    <a:pt x="121" y="1198"/>
                  </a:lnTo>
                  <a:lnTo>
                    <a:pt x="124" y="1187"/>
                  </a:lnTo>
                  <a:lnTo>
                    <a:pt x="124" y="1175"/>
                  </a:lnTo>
                  <a:lnTo>
                    <a:pt x="121" y="1165"/>
                  </a:lnTo>
                  <a:lnTo>
                    <a:pt x="119" y="1153"/>
                  </a:lnTo>
                  <a:lnTo>
                    <a:pt x="118" y="1143"/>
                  </a:lnTo>
                  <a:lnTo>
                    <a:pt x="118" y="1131"/>
                  </a:lnTo>
                  <a:lnTo>
                    <a:pt x="119" y="1121"/>
                  </a:lnTo>
                  <a:lnTo>
                    <a:pt x="121" y="1111"/>
                  </a:lnTo>
                  <a:lnTo>
                    <a:pt x="125" y="1101"/>
                  </a:lnTo>
                  <a:lnTo>
                    <a:pt x="129" y="1091"/>
                  </a:lnTo>
                  <a:lnTo>
                    <a:pt x="135" y="1081"/>
                  </a:lnTo>
                  <a:lnTo>
                    <a:pt x="143" y="1071"/>
                  </a:lnTo>
                  <a:lnTo>
                    <a:pt x="152" y="1062"/>
                  </a:lnTo>
                  <a:lnTo>
                    <a:pt x="161" y="1053"/>
                  </a:lnTo>
                  <a:lnTo>
                    <a:pt x="173" y="1045"/>
                  </a:lnTo>
                  <a:lnTo>
                    <a:pt x="186" y="1035"/>
                  </a:lnTo>
                  <a:lnTo>
                    <a:pt x="198" y="1026"/>
                  </a:lnTo>
                  <a:lnTo>
                    <a:pt x="214" y="1018"/>
                  </a:lnTo>
                  <a:lnTo>
                    <a:pt x="231" y="1008"/>
                  </a:lnTo>
                  <a:lnTo>
                    <a:pt x="264" y="992"/>
                  </a:lnTo>
                  <a:lnTo>
                    <a:pt x="293" y="977"/>
                  </a:lnTo>
                  <a:lnTo>
                    <a:pt x="307" y="969"/>
                  </a:lnTo>
                  <a:lnTo>
                    <a:pt x="319" y="960"/>
                  </a:lnTo>
                  <a:lnTo>
                    <a:pt x="329" y="952"/>
                  </a:lnTo>
                  <a:lnTo>
                    <a:pt x="339" y="944"/>
                  </a:lnTo>
                  <a:lnTo>
                    <a:pt x="347" y="936"/>
                  </a:lnTo>
                  <a:lnTo>
                    <a:pt x="354" y="927"/>
                  </a:lnTo>
                  <a:lnTo>
                    <a:pt x="358" y="917"/>
                  </a:lnTo>
                  <a:lnTo>
                    <a:pt x="362" y="907"/>
                  </a:lnTo>
                  <a:lnTo>
                    <a:pt x="363" y="895"/>
                  </a:lnTo>
                  <a:lnTo>
                    <a:pt x="362" y="883"/>
                  </a:lnTo>
                  <a:lnTo>
                    <a:pt x="360" y="871"/>
                  </a:lnTo>
                  <a:lnTo>
                    <a:pt x="355" y="857"/>
                  </a:lnTo>
                  <a:lnTo>
                    <a:pt x="343" y="831"/>
                  </a:lnTo>
                  <a:lnTo>
                    <a:pt x="333" y="813"/>
                  </a:lnTo>
                  <a:lnTo>
                    <a:pt x="329" y="805"/>
                  </a:lnTo>
                  <a:lnTo>
                    <a:pt x="326" y="799"/>
                  </a:lnTo>
                  <a:lnTo>
                    <a:pt x="325" y="795"/>
                  </a:lnTo>
                  <a:lnTo>
                    <a:pt x="323" y="790"/>
                  </a:lnTo>
                  <a:lnTo>
                    <a:pt x="325" y="785"/>
                  </a:lnTo>
                  <a:lnTo>
                    <a:pt x="327" y="781"/>
                  </a:lnTo>
                  <a:lnTo>
                    <a:pt x="332" y="777"/>
                  </a:lnTo>
                  <a:lnTo>
                    <a:pt x="337" y="772"/>
                  </a:lnTo>
                  <a:lnTo>
                    <a:pt x="357" y="762"/>
                  </a:lnTo>
                  <a:lnTo>
                    <a:pt x="386" y="747"/>
                  </a:lnTo>
                  <a:lnTo>
                    <a:pt x="405" y="739"/>
                  </a:lnTo>
                  <a:lnTo>
                    <a:pt x="427" y="732"/>
                  </a:lnTo>
                  <a:lnTo>
                    <a:pt x="451" y="725"/>
                  </a:lnTo>
                  <a:lnTo>
                    <a:pt x="478" y="719"/>
                  </a:lnTo>
                  <a:lnTo>
                    <a:pt x="531" y="706"/>
                  </a:lnTo>
                  <a:lnTo>
                    <a:pt x="583" y="693"/>
                  </a:lnTo>
                  <a:lnTo>
                    <a:pt x="606" y="686"/>
                  </a:lnTo>
                  <a:lnTo>
                    <a:pt x="627" y="677"/>
                  </a:lnTo>
                  <a:lnTo>
                    <a:pt x="636" y="672"/>
                  </a:lnTo>
                  <a:lnTo>
                    <a:pt x="645" y="667"/>
                  </a:lnTo>
                  <a:lnTo>
                    <a:pt x="653" y="663"/>
                  </a:lnTo>
                  <a:lnTo>
                    <a:pt x="659" y="657"/>
                  </a:lnTo>
                  <a:lnTo>
                    <a:pt x="664" y="651"/>
                  </a:lnTo>
                  <a:lnTo>
                    <a:pt x="668" y="644"/>
                  </a:lnTo>
                  <a:lnTo>
                    <a:pt x="671" y="637"/>
                  </a:lnTo>
                  <a:lnTo>
                    <a:pt x="673" y="630"/>
                  </a:lnTo>
                  <a:lnTo>
                    <a:pt x="673" y="622"/>
                  </a:lnTo>
                  <a:lnTo>
                    <a:pt x="671" y="612"/>
                  </a:lnTo>
                  <a:lnTo>
                    <a:pt x="668" y="604"/>
                  </a:lnTo>
                  <a:lnTo>
                    <a:pt x="662" y="594"/>
                  </a:lnTo>
                  <a:lnTo>
                    <a:pt x="660" y="580"/>
                  </a:lnTo>
                  <a:lnTo>
                    <a:pt x="659" y="565"/>
                  </a:lnTo>
                  <a:lnTo>
                    <a:pt x="661" y="547"/>
                  </a:lnTo>
                  <a:lnTo>
                    <a:pt x="664" y="528"/>
                  </a:lnTo>
                  <a:lnTo>
                    <a:pt x="670" y="508"/>
                  </a:lnTo>
                  <a:lnTo>
                    <a:pt x="678" y="487"/>
                  </a:lnTo>
                  <a:lnTo>
                    <a:pt x="688" y="465"/>
                  </a:lnTo>
                  <a:lnTo>
                    <a:pt x="698" y="442"/>
                  </a:lnTo>
                  <a:lnTo>
                    <a:pt x="711" y="419"/>
                  </a:lnTo>
                  <a:lnTo>
                    <a:pt x="725" y="394"/>
                  </a:lnTo>
                  <a:lnTo>
                    <a:pt x="739" y="369"/>
                  </a:lnTo>
                  <a:lnTo>
                    <a:pt x="756" y="345"/>
                  </a:lnTo>
                  <a:lnTo>
                    <a:pt x="788" y="295"/>
                  </a:lnTo>
                  <a:lnTo>
                    <a:pt x="823" y="244"/>
                  </a:lnTo>
                  <a:lnTo>
                    <a:pt x="860" y="197"/>
                  </a:lnTo>
                  <a:lnTo>
                    <a:pt x="895" y="151"/>
                  </a:lnTo>
                  <a:lnTo>
                    <a:pt x="927" y="110"/>
                  </a:lnTo>
                  <a:lnTo>
                    <a:pt x="958" y="74"/>
                  </a:lnTo>
                  <a:lnTo>
                    <a:pt x="1002" y="20"/>
                  </a:lnTo>
                  <a:lnTo>
                    <a:pt x="1020" y="0"/>
                  </a:lnTo>
                  <a:lnTo>
                    <a:pt x="1043" y="2"/>
                  </a:lnTo>
                  <a:lnTo>
                    <a:pt x="1065" y="3"/>
                  </a:lnTo>
                  <a:lnTo>
                    <a:pt x="1087" y="4"/>
                  </a:lnTo>
                  <a:lnTo>
                    <a:pt x="1111" y="5"/>
                  </a:lnTo>
                  <a:lnTo>
                    <a:pt x="1134" y="6"/>
                  </a:lnTo>
                  <a:lnTo>
                    <a:pt x="1157" y="7"/>
                  </a:lnTo>
                  <a:lnTo>
                    <a:pt x="1181" y="9"/>
                  </a:lnTo>
                  <a:lnTo>
                    <a:pt x="1204" y="10"/>
                  </a:lnTo>
                  <a:lnTo>
                    <a:pt x="1199" y="13"/>
                  </a:lnTo>
                  <a:lnTo>
                    <a:pt x="1189" y="25"/>
                  </a:lnTo>
                  <a:lnTo>
                    <a:pt x="1173" y="42"/>
                  </a:lnTo>
                  <a:lnTo>
                    <a:pt x="1153" y="66"/>
                  </a:lnTo>
                  <a:lnTo>
                    <a:pt x="1129" y="93"/>
                  </a:lnTo>
                  <a:lnTo>
                    <a:pt x="1107" y="124"/>
                  </a:lnTo>
                  <a:lnTo>
                    <a:pt x="1095" y="141"/>
                  </a:lnTo>
                  <a:lnTo>
                    <a:pt x="1085" y="157"/>
                  </a:lnTo>
                  <a:lnTo>
                    <a:pt x="1074" y="173"/>
                  </a:lnTo>
                  <a:lnTo>
                    <a:pt x="1066" y="191"/>
                  </a:lnTo>
                  <a:lnTo>
                    <a:pt x="1062" y="200"/>
                  </a:lnTo>
                  <a:lnTo>
                    <a:pt x="1058" y="208"/>
                  </a:lnTo>
                  <a:lnTo>
                    <a:pt x="1056" y="218"/>
                  </a:lnTo>
                  <a:lnTo>
                    <a:pt x="1052" y="228"/>
                  </a:lnTo>
                  <a:lnTo>
                    <a:pt x="1050" y="247"/>
                  </a:lnTo>
                  <a:lnTo>
                    <a:pt x="1049" y="267"/>
                  </a:lnTo>
                  <a:lnTo>
                    <a:pt x="1050" y="288"/>
                  </a:lnTo>
                  <a:lnTo>
                    <a:pt x="1053" y="309"/>
                  </a:lnTo>
                  <a:lnTo>
                    <a:pt x="1059" y="330"/>
                  </a:lnTo>
                  <a:lnTo>
                    <a:pt x="1067" y="350"/>
                  </a:lnTo>
                  <a:lnTo>
                    <a:pt x="1072" y="360"/>
                  </a:lnTo>
                  <a:lnTo>
                    <a:pt x="1078" y="369"/>
                  </a:lnTo>
                  <a:lnTo>
                    <a:pt x="1084" y="380"/>
                  </a:lnTo>
                  <a:lnTo>
                    <a:pt x="1091" y="389"/>
                  </a:lnTo>
                  <a:lnTo>
                    <a:pt x="1098" y="399"/>
                  </a:lnTo>
                  <a:lnTo>
                    <a:pt x="1106" y="408"/>
                  </a:lnTo>
                  <a:lnTo>
                    <a:pt x="1114" y="417"/>
                  </a:lnTo>
                  <a:lnTo>
                    <a:pt x="1124" y="427"/>
                  </a:lnTo>
                  <a:lnTo>
                    <a:pt x="1133" y="435"/>
                  </a:lnTo>
                  <a:lnTo>
                    <a:pt x="1143" y="443"/>
                  </a:lnTo>
                  <a:lnTo>
                    <a:pt x="1155" y="451"/>
                  </a:lnTo>
                  <a:lnTo>
                    <a:pt x="1166" y="458"/>
                  </a:lnTo>
                  <a:lnTo>
                    <a:pt x="1178" y="465"/>
                  </a:lnTo>
                  <a:lnTo>
                    <a:pt x="1191" y="472"/>
                  </a:lnTo>
                  <a:lnTo>
                    <a:pt x="1204" y="479"/>
                  </a:lnTo>
                  <a:lnTo>
                    <a:pt x="1218" y="485"/>
                  </a:lnTo>
                  <a:lnTo>
                    <a:pt x="1225" y="487"/>
                  </a:lnTo>
                  <a:lnTo>
                    <a:pt x="1230" y="492"/>
                  </a:lnTo>
                  <a:lnTo>
                    <a:pt x="1233" y="497"/>
                  </a:lnTo>
                  <a:lnTo>
                    <a:pt x="1236" y="501"/>
                  </a:lnTo>
                  <a:lnTo>
                    <a:pt x="1237" y="506"/>
                  </a:lnTo>
                  <a:lnTo>
                    <a:pt x="1236" y="512"/>
                  </a:lnTo>
                  <a:lnTo>
                    <a:pt x="1234" y="518"/>
                  </a:lnTo>
                  <a:lnTo>
                    <a:pt x="1232" y="525"/>
                  </a:lnTo>
                  <a:lnTo>
                    <a:pt x="1225" y="538"/>
                  </a:lnTo>
                  <a:lnTo>
                    <a:pt x="1215" y="553"/>
                  </a:lnTo>
                  <a:lnTo>
                    <a:pt x="1202" y="567"/>
                  </a:lnTo>
                  <a:lnTo>
                    <a:pt x="1187" y="582"/>
                  </a:lnTo>
                  <a:lnTo>
                    <a:pt x="1156" y="609"/>
                  </a:lnTo>
                  <a:lnTo>
                    <a:pt x="1127" y="632"/>
                  </a:lnTo>
                  <a:lnTo>
                    <a:pt x="1106" y="649"/>
                  </a:lnTo>
                  <a:lnTo>
                    <a:pt x="1098" y="654"/>
                  </a:lnTo>
                  <a:lnTo>
                    <a:pt x="1095" y="656"/>
                  </a:lnTo>
                  <a:lnTo>
                    <a:pt x="1092" y="659"/>
                  </a:lnTo>
                  <a:lnTo>
                    <a:pt x="1091" y="663"/>
                  </a:lnTo>
                  <a:lnTo>
                    <a:pt x="1090" y="665"/>
                  </a:lnTo>
                  <a:lnTo>
                    <a:pt x="1088" y="668"/>
                  </a:lnTo>
                  <a:lnTo>
                    <a:pt x="1088" y="673"/>
                  </a:lnTo>
                  <a:lnTo>
                    <a:pt x="1091" y="678"/>
                  </a:lnTo>
                  <a:lnTo>
                    <a:pt x="1093" y="682"/>
                  </a:lnTo>
                  <a:lnTo>
                    <a:pt x="1098" y="687"/>
                  </a:lnTo>
                  <a:lnTo>
                    <a:pt x="1105" y="692"/>
                  </a:lnTo>
                  <a:lnTo>
                    <a:pt x="1114" y="698"/>
                  </a:lnTo>
                  <a:lnTo>
                    <a:pt x="1126" y="704"/>
                  </a:lnTo>
                  <a:lnTo>
                    <a:pt x="1140" y="709"/>
                  </a:lnTo>
                  <a:lnTo>
                    <a:pt x="1157" y="715"/>
                  </a:lnTo>
                  <a:lnTo>
                    <a:pt x="1166" y="719"/>
                  </a:lnTo>
                  <a:lnTo>
                    <a:pt x="1173" y="721"/>
                  </a:lnTo>
                  <a:lnTo>
                    <a:pt x="1178" y="725"/>
                  </a:lnTo>
                  <a:lnTo>
                    <a:pt x="1184" y="728"/>
                  </a:lnTo>
                  <a:lnTo>
                    <a:pt x="1188" y="733"/>
                  </a:lnTo>
                  <a:lnTo>
                    <a:pt x="1191" y="736"/>
                  </a:lnTo>
                  <a:lnTo>
                    <a:pt x="1194" y="740"/>
                  </a:lnTo>
                  <a:lnTo>
                    <a:pt x="1196" y="744"/>
                  </a:lnTo>
                  <a:lnTo>
                    <a:pt x="1198" y="754"/>
                  </a:lnTo>
                  <a:lnTo>
                    <a:pt x="1198" y="763"/>
                  </a:lnTo>
                  <a:lnTo>
                    <a:pt x="1197" y="774"/>
                  </a:lnTo>
                  <a:lnTo>
                    <a:pt x="1195" y="784"/>
                  </a:lnTo>
                  <a:lnTo>
                    <a:pt x="1192" y="795"/>
                  </a:lnTo>
                  <a:lnTo>
                    <a:pt x="1190" y="806"/>
                  </a:lnTo>
                  <a:lnTo>
                    <a:pt x="1190" y="819"/>
                  </a:lnTo>
                  <a:lnTo>
                    <a:pt x="1190" y="831"/>
                  </a:lnTo>
                  <a:lnTo>
                    <a:pt x="1191" y="838"/>
                  </a:lnTo>
                  <a:lnTo>
                    <a:pt x="1192" y="845"/>
                  </a:lnTo>
                  <a:lnTo>
                    <a:pt x="1195" y="851"/>
                  </a:lnTo>
                  <a:lnTo>
                    <a:pt x="1198" y="858"/>
                  </a:lnTo>
                  <a:lnTo>
                    <a:pt x="1202" y="865"/>
                  </a:lnTo>
                  <a:lnTo>
                    <a:pt x="1206" y="872"/>
                  </a:lnTo>
                  <a:lnTo>
                    <a:pt x="1212" y="878"/>
                  </a:lnTo>
                  <a:lnTo>
                    <a:pt x="1218" y="885"/>
                  </a:lnTo>
                  <a:lnTo>
                    <a:pt x="1226" y="892"/>
                  </a:lnTo>
                  <a:lnTo>
                    <a:pt x="1234" y="899"/>
                  </a:lnTo>
                  <a:lnTo>
                    <a:pt x="1244" y="904"/>
                  </a:lnTo>
                  <a:lnTo>
                    <a:pt x="1254" y="909"/>
                  </a:lnTo>
                  <a:lnTo>
                    <a:pt x="1265" y="914"/>
                  </a:lnTo>
                  <a:lnTo>
                    <a:pt x="1275" y="918"/>
                  </a:lnTo>
                  <a:lnTo>
                    <a:pt x="1287" y="922"/>
                  </a:lnTo>
                  <a:lnTo>
                    <a:pt x="1300" y="924"/>
                  </a:lnTo>
                  <a:lnTo>
                    <a:pt x="1327" y="929"/>
                  </a:lnTo>
                  <a:lnTo>
                    <a:pt x="1355" y="932"/>
                  </a:lnTo>
                  <a:lnTo>
                    <a:pt x="1384" y="934"/>
                  </a:lnTo>
                  <a:lnTo>
                    <a:pt x="1416" y="932"/>
                  </a:lnTo>
                  <a:lnTo>
                    <a:pt x="1447" y="931"/>
                  </a:lnTo>
                  <a:lnTo>
                    <a:pt x="1480" y="928"/>
                  </a:lnTo>
                  <a:lnTo>
                    <a:pt x="1512" y="923"/>
                  </a:lnTo>
                  <a:lnTo>
                    <a:pt x="1545" y="917"/>
                  </a:lnTo>
                  <a:lnTo>
                    <a:pt x="1578" y="911"/>
                  </a:lnTo>
                  <a:lnTo>
                    <a:pt x="1609" y="904"/>
                  </a:lnTo>
                  <a:lnTo>
                    <a:pt x="1641" y="896"/>
                  </a:lnTo>
                  <a:lnTo>
                    <a:pt x="1670" y="8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103"/>
            <p:cNvSpPr/>
            <p:nvPr/>
          </p:nvSpPr>
          <p:spPr>
            <a:xfrm>
              <a:off x="6876720" y="3895200"/>
              <a:ext cx="313560" cy="14256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077" h="874">
                  <a:moveTo>
                    <a:pt x="438" y="837"/>
                  </a:moveTo>
                  <a:lnTo>
                    <a:pt x="0" y="805"/>
                  </a:lnTo>
                  <a:lnTo>
                    <a:pt x="47" y="617"/>
                  </a:lnTo>
                  <a:lnTo>
                    <a:pt x="389" y="33"/>
                  </a:lnTo>
                  <a:lnTo>
                    <a:pt x="407" y="32"/>
                  </a:lnTo>
                  <a:lnTo>
                    <a:pt x="457" y="31"/>
                  </a:lnTo>
                  <a:lnTo>
                    <a:pt x="535" y="28"/>
                  </a:lnTo>
                  <a:lnTo>
                    <a:pt x="637" y="26"/>
                  </a:lnTo>
                  <a:lnTo>
                    <a:pt x="758" y="23"/>
                  </a:lnTo>
                  <a:lnTo>
                    <a:pt x="893" y="19"/>
                  </a:lnTo>
                  <a:lnTo>
                    <a:pt x="1039" y="14"/>
                  </a:lnTo>
                  <a:lnTo>
                    <a:pt x="1191" y="11"/>
                  </a:lnTo>
                  <a:lnTo>
                    <a:pt x="1344" y="9"/>
                  </a:lnTo>
                  <a:lnTo>
                    <a:pt x="1493" y="5"/>
                  </a:lnTo>
                  <a:lnTo>
                    <a:pt x="1634" y="3"/>
                  </a:lnTo>
                  <a:lnTo>
                    <a:pt x="1765" y="2"/>
                  </a:lnTo>
                  <a:lnTo>
                    <a:pt x="1879" y="0"/>
                  </a:lnTo>
                  <a:lnTo>
                    <a:pt x="1972" y="2"/>
                  </a:lnTo>
                  <a:lnTo>
                    <a:pt x="2009" y="3"/>
                  </a:lnTo>
                  <a:lnTo>
                    <a:pt x="2040" y="4"/>
                  </a:lnTo>
                  <a:lnTo>
                    <a:pt x="2062" y="5"/>
                  </a:lnTo>
                  <a:lnTo>
                    <a:pt x="2077" y="7"/>
                  </a:lnTo>
                  <a:lnTo>
                    <a:pt x="1780" y="874"/>
                  </a:lnTo>
                  <a:lnTo>
                    <a:pt x="438" y="83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104"/>
            <p:cNvSpPr/>
            <p:nvPr/>
          </p:nvSpPr>
          <p:spPr>
            <a:xfrm>
              <a:off x="6876720" y="3895200"/>
              <a:ext cx="313560" cy="14256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077" h="874">
                  <a:moveTo>
                    <a:pt x="438" y="837"/>
                  </a:moveTo>
                  <a:lnTo>
                    <a:pt x="0" y="805"/>
                  </a:lnTo>
                  <a:lnTo>
                    <a:pt x="47" y="617"/>
                  </a:lnTo>
                  <a:lnTo>
                    <a:pt x="389" y="33"/>
                  </a:lnTo>
                  <a:lnTo>
                    <a:pt x="407" y="32"/>
                  </a:lnTo>
                  <a:lnTo>
                    <a:pt x="457" y="31"/>
                  </a:lnTo>
                  <a:lnTo>
                    <a:pt x="535" y="28"/>
                  </a:lnTo>
                  <a:lnTo>
                    <a:pt x="637" y="26"/>
                  </a:lnTo>
                  <a:lnTo>
                    <a:pt x="758" y="23"/>
                  </a:lnTo>
                  <a:lnTo>
                    <a:pt x="893" y="19"/>
                  </a:lnTo>
                  <a:lnTo>
                    <a:pt x="1039" y="14"/>
                  </a:lnTo>
                  <a:lnTo>
                    <a:pt x="1191" y="11"/>
                  </a:lnTo>
                  <a:lnTo>
                    <a:pt x="1344" y="9"/>
                  </a:lnTo>
                  <a:lnTo>
                    <a:pt x="1493" y="5"/>
                  </a:lnTo>
                  <a:lnTo>
                    <a:pt x="1634" y="3"/>
                  </a:lnTo>
                  <a:lnTo>
                    <a:pt x="1765" y="2"/>
                  </a:lnTo>
                  <a:lnTo>
                    <a:pt x="1879" y="0"/>
                  </a:lnTo>
                  <a:lnTo>
                    <a:pt x="1972" y="2"/>
                  </a:lnTo>
                  <a:lnTo>
                    <a:pt x="2009" y="3"/>
                  </a:lnTo>
                  <a:lnTo>
                    <a:pt x="2040" y="4"/>
                  </a:lnTo>
                  <a:lnTo>
                    <a:pt x="2062" y="5"/>
                  </a:lnTo>
                  <a:lnTo>
                    <a:pt x="2077" y="7"/>
                  </a:lnTo>
                  <a:lnTo>
                    <a:pt x="1780" y="874"/>
                  </a:lnTo>
                  <a:lnTo>
                    <a:pt x="438" y="83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105"/>
            <p:cNvSpPr/>
            <p:nvPr/>
          </p:nvSpPr>
          <p:spPr>
            <a:xfrm>
              <a:off x="6703920" y="4204800"/>
              <a:ext cx="450360" cy="336240"/>
            </a:xfrm>
            <a:custGeom>
              <a:avLst/>
              <a:gdLst>
                <a:gd name="textAreaLeft" fmla="*/ 0 w 450360"/>
                <a:gd name="textAreaRight" fmla="*/ 450720 w 45036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2989" h="2059">
                  <a:moveTo>
                    <a:pt x="2989" y="6"/>
                  </a:moveTo>
                  <a:lnTo>
                    <a:pt x="1057" y="0"/>
                  </a:lnTo>
                  <a:lnTo>
                    <a:pt x="0" y="2022"/>
                  </a:lnTo>
                  <a:lnTo>
                    <a:pt x="423" y="2059"/>
                  </a:lnTo>
                  <a:lnTo>
                    <a:pt x="515" y="1875"/>
                  </a:lnTo>
                  <a:lnTo>
                    <a:pt x="1068" y="1904"/>
                  </a:lnTo>
                  <a:lnTo>
                    <a:pt x="1071" y="1737"/>
                  </a:lnTo>
                  <a:lnTo>
                    <a:pt x="2462" y="1769"/>
                  </a:lnTo>
                  <a:lnTo>
                    <a:pt x="2989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106"/>
            <p:cNvSpPr/>
            <p:nvPr/>
          </p:nvSpPr>
          <p:spPr>
            <a:xfrm>
              <a:off x="6703920" y="4204800"/>
              <a:ext cx="450360" cy="336240"/>
            </a:xfrm>
            <a:custGeom>
              <a:avLst/>
              <a:gdLst>
                <a:gd name="textAreaLeft" fmla="*/ 0 w 450360"/>
                <a:gd name="textAreaRight" fmla="*/ 450720 w 45036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2989" h="2059">
                  <a:moveTo>
                    <a:pt x="2989" y="6"/>
                  </a:moveTo>
                  <a:lnTo>
                    <a:pt x="1057" y="0"/>
                  </a:lnTo>
                  <a:lnTo>
                    <a:pt x="0" y="2022"/>
                  </a:lnTo>
                  <a:lnTo>
                    <a:pt x="423" y="2059"/>
                  </a:lnTo>
                  <a:lnTo>
                    <a:pt x="515" y="1875"/>
                  </a:lnTo>
                  <a:lnTo>
                    <a:pt x="1068" y="1904"/>
                  </a:lnTo>
                  <a:lnTo>
                    <a:pt x="1071" y="1737"/>
                  </a:lnTo>
                  <a:lnTo>
                    <a:pt x="2462" y="1769"/>
                  </a:lnTo>
                  <a:lnTo>
                    <a:pt x="2989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107"/>
            <p:cNvSpPr/>
            <p:nvPr/>
          </p:nvSpPr>
          <p:spPr>
            <a:xfrm>
              <a:off x="7147080" y="3960720"/>
              <a:ext cx="355320" cy="107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362" h="660">
                  <a:moveTo>
                    <a:pt x="2362" y="660"/>
                  </a:moveTo>
                  <a:lnTo>
                    <a:pt x="586" y="656"/>
                  </a:lnTo>
                  <a:lnTo>
                    <a:pt x="631" y="481"/>
                  </a:lnTo>
                  <a:lnTo>
                    <a:pt x="0" y="475"/>
                  </a:lnTo>
                  <a:lnTo>
                    <a:pt x="165" y="0"/>
                  </a:lnTo>
                  <a:lnTo>
                    <a:pt x="1535" y="2"/>
                  </a:lnTo>
                  <a:lnTo>
                    <a:pt x="1548" y="9"/>
                  </a:lnTo>
                  <a:lnTo>
                    <a:pt x="1561" y="15"/>
                  </a:lnTo>
                  <a:lnTo>
                    <a:pt x="1575" y="20"/>
                  </a:lnTo>
                  <a:lnTo>
                    <a:pt x="1588" y="23"/>
                  </a:lnTo>
                  <a:lnTo>
                    <a:pt x="1602" y="25"/>
                  </a:lnTo>
                  <a:lnTo>
                    <a:pt x="1617" y="28"/>
                  </a:lnTo>
                  <a:lnTo>
                    <a:pt x="1632" y="28"/>
                  </a:lnTo>
                  <a:lnTo>
                    <a:pt x="1646" y="29"/>
                  </a:lnTo>
                  <a:lnTo>
                    <a:pt x="1678" y="28"/>
                  </a:lnTo>
                  <a:lnTo>
                    <a:pt x="1709" y="25"/>
                  </a:lnTo>
                  <a:lnTo>
                    <a:pt x="1742" y="23"/>
                  </a:lnTo>
                  <a:lnTo>
                    <a:pt x="1774" y="20"/>
                  </a:lnTo>
                  <a:lnTo>
                    <a:pt x="1806" y="16"/>
                  </a:lnTo>
                  <a:lnTo>
                    <a:pt x="1838" y="15"/>
                  </a:lnTo>
                  <a:lnTo>
                    <a:pt x="1853" y="14"/>
                  </a:lnTo>
                  <a:lnTo>
                    <a:pt x="1869" y="15"/>
                  </a:lnTo>
                  <a:lnTo>
                    <a:pt x="1885" y="16"/>
                  </a:lnTo>
                  <a:lnTo>
                    <a:pt x="1899" y="17"/>
                  </a:lnTo>
                  <a:lnTo>
                    <a:pt x="1914" y="20"/>
                  </a:lnTo>
                  <a:lnTo>
                    <a:pt x="1928" y="23"/>
                  </a:lnTo>
                  <a:lnTo>
                    <a:pt x="1942" y="28"/>
                  </a:lnTo>
                  <a:lnTo>
                    <a:pt x="1956" y="32"/>
                  </a:lnTo>
                  <a:lnTo>
                    <a:pt x="1969" y="39"/>
                  </a:lnTo>
                  <a:lnTo>
                    <a:pt x="1982" y="46"/>
                  </a:lnTo>
                  <a:lnTo>
                    <a:pt x="1993" y="56"/>
                  </a:lnTo>
                  <a:lnTo>
                    <a:pt x="2005" y="66"/>
                  </a:lnTo>
                  <a:lnTo>
                    <a:pt x="2039" y="99"/>
                  </a:lnTo>
                  <a:lnTo>
                    <a:pt x="2066" y="128"/>
                  </a:lnTo>
                  <a:lnTo>
                    <a:pt x="2088" y="153"/>
                  </a:lnTo>
                  <a:lnTo>
                    <a:pt x="2104" y="173"/>
                  </a:lnTo>
                  <a:lnTo>
                    <a:pt x="2116" y="190"/>
                  </a:lnTo>
                  <a:lnTo>
                    <a:pt x="2125" y="205"/>
                  </a:lnTo>
                  <a:lnTo>
                    <a:pt x="2130" y="217"/>
                  </a:lnTo>
                  <a:lnTo>
                    <a:pt x="2133" y="226"/>
                  </a:lnTo>
                  <a:lnTo>
                    <a:pt x="2135" y="233"/>
                  </a:lnTo>
                  <a:lnTo>
                    <a:pt x="2133" y="239"/>
                  </a:lnTo>
                  <a:lnTo>
                    <a:pt x="2132" y="244"/>
                  </a:lnTo>
                  <a:lnTo>
                    <a:pt x="2131" y="248"/>
                  </a:lnTo>
                  <a:lnTo>
                    <a:pt x="2131" y="252"/>
                  </a:lnTo>
                  <a:lnTo>
                    <a:pt x="2131" y="255"/>
                  </a:lnTo>
                  <a:lnTo>
                    <a:pt x="2133" y="260"/>
                  </a:lnTo>
                  <a:lnTo>
                    <a:pt x="2138" y="265"/>
                  </a:lnTo>
                  <a:lnTo>
                    <a:pt x="2145" y="271"/>
                  </a:lnTo>
                  <a:lnTo>
                    <a:pt x="2152" y="275"/>
                  </a:lnTo>
                  <a:lnTo>
                    <a:pt x="2160" y="280"/>
                  </a:lnTo>
                  <a:lnTo>
                    <a:pt x="2170" y="285"/>
                  </a:lnTo>
                  <a:lnTo>
                    <a:pt x="2187" y="293"/>
                  </a:lnTo>
                  <a:lnTo>
                    <a:pt x="2204" y="303"/>
                  </a:lnTo>
                  <a:lnTo>
                    <a:pt x="2211" y="308"/>
                  </a:lnTo>
                  <a:lnTo>
                    <a:pt x="2218" y="315"/>
                  </a:lnTo>
                  <a:lnTo>
                    <a:pt x="2223" y="323"/>
                  </a:lnTo>
                  <a:lnTo>
                    <a:pt x="2228" y="333"/>
                  </a:lnTo>
                  <a:lnTo>
                    <a:pt x="2230" y="344"/>
                  </a:lnTo>
                  <a:lnTo>
                    <a:pt x="2233" y="356"/>
                  </a:lnTo>
                  <a:lnTo>
                    <a:pt x="2233" y="371"/>
                  </a:lnTo>
                  <a:lnTo>
                    <a:pt x="2230" y="389"/>
                  </a:lnTo>
                  <a:lnTo>
                    <a:pt x="2226" y="421"/>
                  </a:lnTo>
                  <a:lnTo>
                    <a:pt x="2225" y="447"/>
                  </a:lnTo>
                  <a:lnTo>
                    <a:pt x="2226" y="458"/>
                  </a:lnTo>
                  <a:lnTo>
                    <a:pt x="2227" y="466"/>
                  </a:lnTo>
                  <a:lnTo>
                    <a:pt x="2228" y="473"/>
                  </a:lnTo>
                  <a:lnTo>
                    <a:pt x="2232" y="480"/>
                  </a:lnTo>
                  <a:lnTo>
                    <a:pt x="2235" y="484"/>
                  </a:lnTo>
                  <a:lnTo>
                    <a:pt x="2240" y="489"/>
                  </a:lnTo>
                  <a:lnTo>
                    <a:pt x="2244" y="494"/>
                  </a:lnTo>
                  <a:lnTo>
                    <a:pt x="2251" y="497"/>
                  </a:lnTo>
                  <a:lnTo>
                    <a:pt x="2267" y="504"/>
                  </a:lnTo>
                  <a:lnTo>
                    <a:pt x="2285" y="512"/>
                  </a:lnTo>
                  <a:lnTo>
                    <a:pt x="2290" y="540"/>
                  </a:lnTo>
                  <a:lnTo>
                    <a:pt x="2297" y="569"/>
                  </a:lnTo>
                  <a:lnTo>
                    <a:pt x="2305" y="593"/>
                  </a:lnTo>
                  <a:lnTo>
                    <a:pt x="2313" y="615"/>
                  </a:lnTo>
                  <a:lnTo>
                    <a:pt x="2319" y="625"/>
                  </a:lnTo>
                  <a:lnTo>
                    <a:pt x="2324" y="633"/>
                  </a:lnTo>
                  <a:lnTo>
                    <a:pt x="2330" y="641"/>
                  </a:lnTo>
                  <a:lnTo>
                    <a:pt x="2336" y="647"/>
                  </a:lnTo>
                  <a:lnTo>
                    <a:pt x="2341" y="653"/>
                  </a:lnTo>
                  <a:lnTo>
                    <a:pt x="2348" y="656"/>
                  </a:lnTo>
                  <a:lnTo>
                    <a:pt x="2355" y="658"/>
                  </a:lnTo>
                  <a:lnTo>
                    <a:pt x="2362" y="6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108"/>
            <p:cNvSpPr/>
            <p:nvPr/>
          </p:nvSpPr>
          <p:spPr>
            <a:xfrm>
              <a:off x="7147080" y="3960720"/>
              <a:ext cx="355320" cy="107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362" h="660">
                  <a:moveTo>
                    <a:pt x="2362" y="660"/>
                  </a:moveTo>
                  <a:lnTo>
                    <a:pt x="586" y="656"/>
                  </a:lnTo>
                  <a:lnTo>
                    <a:pt x="631" y="481"/>
                  </a:lnTo>
                  <a:lnTo>
                    <a:pt x="0" y="475"/>
                  </a:lnTo>
                  <a:lnTo>
                    <a:pt x="165" y="0"/>
                  </a:lnTo>
                  <a:lnTo>
                    <a:pt x="1535" y="2"/>
                  </a:lnTo>
                  <a:lnTo>
                    <a:pt x="1548" y="9"/>
                  </a:lnTo>
                  <a:lnTo>
                    <a:pt x="1561" y="15"/>
                  </a:lnTo>
                  <a:lnTo>
                    <a:pt x="1575" y="20"/>
                  </a:lnTo>
                  <a:lnTo>
                    <a:pt x="1588" y="23"/>
                  </a:lnTo>
                  <a:lnTo>
                    <a:pt x="1602" y="25"/>
                  </a:lnTo>
                  <a:lnTo>
                    <a:pt x="1617" y="28"/>
                  </a:lnTo>
                  <a:lnTo>
                    <a:pt x="1632" y="28"/>
                  </a:lnTo>
                  <a:lnTo>
                    <a:pt x="1646" y="29"/>
                  </a:lnTo>
                  <a:lnTo>
                    <a:pt x="1678" y="28"/>
                  </a:lnTo>
                  <a:lnTo>
                    <a:pt x="1709" y="25"/>
                  </a:lnTo>
                  <a:lnTo>
                    <a:pt x="1742" y="23"/>
                  </a:lnTo>
                  <a:lnTo>
                    <a:pt x="1774" y="20"/>
                  </a:lnTo>
                  <a:lnTo>
                    <a:pt x="1806" y="16"/>
                  </a:lnTo>
                  <a:lnTo>
                    <a:pt x="1838" y="15"/>
                  </a:lnTo>
                  <a:lnTo>
                    <a:pt x="1853" y="14"/>
                  </a:lnTo>
                  <a:lnTo>
                    <a:pt x="1869" y="15"/>
                  </a:lnTo>
                  <a:lnTo>
                    <a:pt x="1885" y="16"/>
                  </a:lnTo>
                  <a:lnTo>
                    <a:pt x="1899" y="17"/>
                  </a:lnTo>
                  <a:lnTo>
                    <a:pt x="1914" y="20"/>
                  </a:lnTo>
                  <a:lnTo>
                    <a:pt x="1928" y="23"/>
                  </a:lnTo>
                  <a:lnTo>
                    <a:pt x="1942" y="28"/>
                  </a:lnTo>
                  <a:lnTo>
                    <a:pt x="1956" y="32"/>
                  </a:lnTo>
                  <a:lnTo>
                    <a:pt x="1969" y="39"/>
                  </a:lnTo>
                  <a:lnTo>
                    <a:pt x="1982" y="46"/>
                  </a:lnTo>
                  <a:lnTo>
                    <a:pt x="1993" y="56"/>
                  </a:lnTo>
                  <a:lnTo>
                    <a:pt x="2005" y="66"/>
                  </a:lnTo>
                  <a:lnTo>
                    <a:pt x="2039" y="99"/>
                  </a:lnTo>
                  <a:lnTo>
                    <a:pt x="2066" y="128"/>
                  </a:lnTo>
                  <a:lnTo>
                    <a:pt x="2088" y="153"/>
                  </a:lnTo>
                  <a:lnTo>
                    <a:pt x="2104" y="173"/>
                  </a:lnTo>
                  <a:lnTo>
                    <a:pt x="2116" y="190"/>
                  </a:lnTo>
                  <a:lnTo>
                    <a:pt x="2125" y="205"/>
                  </a:lnTo>
                  <a:lnTo>
                    <a:pt x="2130" y="217"/>
                  </a:lnTo>
                  <a:lnTo>
                    <a:pt x="2133" y="226"/>
                  </a:lnTo>
                  <a:lnTo>
                    <a:pt x="2135" y="233"/>
                  </a:lnTo>
                  <a:lnTo>
                    <a:pt x="2133" y="239"/>
                  </a:lnTo>
                  <a:lnTo>
                    <a:pt x="2132" y="244"/>
                  </a:lnTo>
                  <a:lnTo>
                    <a:pt x="2131" y="248"/>
                  </a:lnTo>
                  <a:lnTo>
                    <a:pt x="2131" y="252"/>
                  </a:lnTo>
                  <a:lnTo>
                    <a:pt x="2131" y="255"/>
                  </a:lnTo>
                  <a:lnTo>
                    <a:pt x="2133" y="260"/>
                  </a:lnTo>
                  <a:lnTo>
                    <a:pt x="2138" y="265"/>
                  </a:lnTo>
                  <a:lnTo>
                    <a:pt x="2145" y="271"/>
                  </a:lnTo>
                  <a:lnTo>
                    <a:pt x="2152" y="275"/>
                  </a:lnTo>
                  <a:lnTo>
                    <a:pt x="2160" y="280"/>
                  </a:lnTo>
                  <a:lnTo>
                    <a:pt x="2170" y="285"/>
                  </a:lnTo>
                  <a:lnTo>
                    <a:pt x="2187" y="293"/>
                  </a:lnTo>
                  <a:lnTo>
                    <a:pt x="2204" y="303"/>
                  </a:lnTo>
                  <a:lnTo>
                    <a:pt x="2211" y="308"/>
                  </a:lnTo>
                  <a:lnTo>
                    <a:pt x="2218" y="315"/>
                  </a:lnTo>
                  <a:lnTo>
                    <a:pt x="2223" y="323"/>
                  </a:lnTo>
                  <a:lnTo>
                    <a:pt x="2228" y="333"/>
                  </a:lnTo>
                  <a:lnTo>
                    <a:pt x="2230" y="344"/>
                  </a:lnTo>
                  <a:lnTo>
                    <a:pt x="2233" y="356"/>
                  </a:lnTo>
                  <a:lnTo>
                    <a:pt x="2233" y="371"/>
                  </a:lnTo>
                  <a:lnTo>
                    <a:pt x="2230" y="389"/>
                  </a:lnTo>
                  <a:lnTo>
                    <a:pt x="2226" y="421"/>
                  </a:lnTo>
                  <a:lnTo>
                    <a:pt x="2225" y="447"/>
                  </a:lnTo>
                  <a:lnTo>
                    <a:pt x="2226" y="458"/>
                  </a:lnTo>
                  <a:lnTo>
                    <a:pt x="2227" y="466"/>
                  </a:lnTo>
                  <a:lnTo>
                    <a:pt x="2228" y="473"/>
                  </a:lnTo>
                  <a:lnTo>
                    <a:pt x="2232" y="480"/>
                  </a:lnTo>
                  <a:lnTo>
                    <a:pt x="2235" y="484"/>
                  </a:lnTo>
                  <a:lnTo>
                    <a:pt x="2240" y="489"/>
                  </a:lnTo>
                  <a:lnTo>
                    <a:pt x="2244" y="494"/>
                  </a:lnTo>
                  <a:lnTo>
                    <a:pt x="2251" y="497"/>
                  </a:lnTo>
                  <a:lnTo>
                    <a:pt x="2267" y="504"/>
                  </a:lnTo>
                  <a:lnTo>
                    <a:pt x="2285" y="512"/>
                  </a:lnTo>
                  <a:lnTo>
                    <a:pt x="2290" y="540"/>
                  </a:lnTo>
                  <a:lnTo>
                    <a:pt x="2297" y="569"/>
                  </a:lnTo>
                  <a:lnTo>
                    <a:pt x="2305" y="593"/>
                  </a:lnTo>
                  <a:lnTo>
                    <a:pt x="2313" y="615"/>
                  </a:lnTo>
                  <a:lnTo>
                    <a:pt x="2319" y="625"/>
                  </a:lnTo>
                  <a:lnTo>
                    <a:pt x="2324" y="633"/>
                  </a:lnTo>
                  <a:lnTo>
                    <a:pt x="2330" y="641"/>
                  </a:lnTo>
                  <a:lnTo>
                    <a:pt x="2336" y="647"/>
                  </a:lnTo>
                  <a:lnTo>
                    <a:pt x="2341" y="653"/>
                  </a:lnTo>
                  <a:lnTo>
                    <a:pt x="2348" y="656"/>
                  </a:lnTo>
                  <a:lnTo>
                    <a:pt x="2355" y="658"/>
                  </a:lnTo>
                  <a:lnTo>
                    <a:pt x="2362" y="66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Freeform 109"/>
            <p:cNvSpPr/>
            <p:nvPr/>
          </p:nvSpPr>
          <p:spPr>
            <a:xfrm>
              <a:off x="7170480" y="3857760"/>
              <a:ext cx="283680" cy="11412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886" h="703">
                  <a:moveTo>
                    <a:pt x="0" y="637"/>
                  </a:moveTo>
                  <a:lnTo>
                    <a:pt x="219" y="0"/>
                  </a:lnTo>
                  <a:lnTo>
                    <a:pt x="1886" y="6"/>
                  </a:lnTo>
                  <a:lnTo>
                    <a:pt x="1846" y="703"/>
                  </a:lnTo>
                  <a:lnTo>
                    <a:pt x="1835" y="693"/>
                  </a:lnTo>
                  <a:lnTo>
                    <a:pt x="1822" y="683"/>
                  </a:lnTo>
                  <a:lnTo>
                    <a:pt x="1809" y="676"/>
                  </a:lnTo>
                  <a:lnTo>
                    <a:pt x="1796" y="669"/>
                  </a:lnTo>
                  <a:lnTo>
                    <a:pt x="1782" y="665"/>
                  </a:lnTo>
                  <a:lnTo>
                    <a:pt x="1768" y="660"/>
                  </a:lnTo>
                  <a:lnTo>
                    <a:pt x="1753" y="657"/>
                  </a:lnTo>
                  <a:lnTo>
                    <a:pt x="1738" y="654"/>
                  </a:lnTo>
                  <a:lnTo>
                    <a:pt x="1724" y="653"/>
                  </a:lnTo>
                  <a:lnTo>
                    <a:pt x="1707" y="652"/>
                  </a:lnTo>
                  <a:lnTo>
                    <a:pt x="1692" y="651"/>
                  </a:lnTo>
                  <a:lnTo>
                    <a:pt x="1677" y="652"/>
                  </a:lnTo>
                  <a:lnTo>
                    <a:pt x="1644" y="653"/>
                  </a:lnTo>
                  <a:lnTo>
                    <a:pt x="1612" y="657"/>
                  </a:lnTo>
                  <a:lnTo>
                    <a:pt x="1580" y="660"/>
                  </a:lnTo>
                  <a:lnTo>
                    <a:pt x="1547" y="662"/>
                  </a:lnTo>
                  <a:lnTo>
                    <a:pt x="1516" y="665"/>
                  </a:lnTo>
                  <a:lnTo>
                    <a:pt x="1485" y="666"/>
                  </a:lnTo>
                  <a:lnTo>
                    <a:pt x="1470" y="665"/>
                  </a:lnTo>
                  <a:lnTo>
                    <a:pt x="1455" y="665"/>
                  </a:lnTo>
                  <a:lnTo>
                    <a:pt x="1440" y="662"/>
                  </a:lnTo>
                  <a:lnTo>
                    <a:pt x="1426" y="660"/>
                  </a:lnTo>
                  <a:lnTo>
                    <a:pt x="1413" y="657"/>
                  </a:lnTo>
                  <a:lnTo>
                    <a:pt x="1399" y="652"/>
                  </a:lnTo>
                  <a:lnTo>
                    <a:pt x="1386" y="646"/>
                  </a:lnTo>
                  <a:lnTo>
                    <a:pt x="1373" y="639"/>
                  </a:lnTo>
                  <a:lnTo>
                    <a:pt x="0" y="63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110"/>
            <p:cNvSpPr/>
            <p:nvPr/>
          </p:nvSpPr>
          <p:spPr>
            <a:xfrm>
              <a:off x="7170480" y="3857760"/>
              <a:ext cx="283680" cy="11412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886" h="703">
                  <a:moveTo>
                    <a:pt x="0" y="637"/>
                  </a:moveTo>
                  <a:lnTo>
                    <a:pt x="219" y="0"/>
                  </a:lnTo>
                  <a:lnTo>
                    <a:pt x="1886" y="6"/>
                  </a:lnTo>
                  <a:lnTo>
                    <a:pt x="1846" y="703"/>
                  </a:lnTo>
                  <a:lnTo>
                    <a:pt x="1835" y="693"/>
                  </a:lnTo>
                  <a:lnTo>
                    <a:pt x="1822" y="683"/>
                  </a:lnTo>
                  <a:lnTo>
                    <a:pt x="1809" y="676"/>
                  </a:lnTo>
                  <a:lnTo>
                    <a:pt x="1796" y="669"/>
                  </a:lnTo>
                  <a:lnTo>
                    <a:pt x="1782" y="665"/>
                  </a:lnTo>
                  <a:lnTo>
                    <a:pt x="1768" y="660"/>
                  </a:lnTo>
                  <a:lnTo>
                    <a:pt x="1753" y="657"/>
                  </a:lnTo>
                  <a:lnTo>
                    <a:pt x="1738" y="654"/>
                  </a:lnTo>
                  <a:lnTo>
                    <a:pt x="1724" y="653"/>
                  </a:lnTo>
                  <a:lnTo>
                    <a:pt x="1707" y="652"/>
                  </a:lnTo>
                  <a:lnTo>
                    <a:pt x="1692" y="651"/>
                  </a:lnTo>
                  <a:lnTo>
                    <a:pt x="1677" y="652"/>
                  </a:lnTo>
                  <a:lnTo>
                    <a:pt x="1644" y="653"/>
                  </a:lnTo>
                  <a:lnTo>
                    <a:pt x="1612" y="657"/>
                  </a:lnTo>
                  <a:lnTo>
                    <a:pt x="1580" y="660"/>
                  </a:lnTo>
                  <a:lnTo>
                    <a:pt x="1547" y="662"/>
                  </a:lnTo>
                  <a:lnTo>
                    <a:pt x="1516" y="665"/>
                  </a:lnTo>
                  <a:lnTo>
                    <a:pt x="1485" y="666"/>
                  </a:lnTo>
                  <a:lnTo>
                    <a:pt x="1470" y="665"/>
                  </a:lnTo>
                  <a:lnTo>
                    <a:pt x="1455" y="665"/>
                  </a:lnTo>
                  <a:lnTo>
                    <a:pt x="1440" y="662"/>
                  </a:lnTo>
                  <a:lnTo>
                    <a:pt x="1426" y="660"/>
                  </a:lnTo>
                  <a:lnTo>
                    <a:pt x="1413" y="657"/>
                  </a:lnTo>
                  <a:lnTo>
                    <a:pt x="1399" y="652"/>
                  </a:lnTo>
                  <a:lnTo>
                    <a:pt x="1386" y="646"/>
                  </a:lnTo>
                  <a:lnTo>
                    <a:pt x="1373" y="639"/>
                  </a:lnTo>
                  <a:lnTo>
                    <a:pt x="0" y="637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Freeform 111"/>
            <p:cNvSpPr/>
            <p:nvPr/>
          </p:nvSpPr>
          <p:spPr>
            <a:xfrm>
              <a:off x="7203960" y="3763800"/>
              <a:ext cx="250200" cy="9360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67" h="576">
                  <a:moveTo>
                    <a:pt x="1667" y="576"/>
                  </a:moveTo>
                  <a:lnTo>
                    <a:pt x="0" y="570"/>
                  </a:lnTo>
                  <a:lnTo>
                    <a:pt x="189" y="6"/>
                  </a:lnTo>
                  <a:lnTo>
                    <a:pt x="292" y="6"/>
                  </a:lnTo>
                  <a:lnTo>
                    <a:pt x="392" y="7"/>
                  </a:lnTo>
                  <a:lnTo>
                    <a:pt x="490" y="7"/>
                  </a:lnTo>
                  <a:lnTo>
                    <a:pt x="585" y="7"/>
                  </a:lnTo>
                  <a:lnTo>
                    <a:pt x="679" y="7"/>
                  </a:lnTo>
                  <a:lnTo>
                    <a:pt x="770" y="7"/>
                  </a:lnTo>
                  <a:lnTo>
                    <a:pt x="859" y="6"/>
                  </a:lnTo>
                  <a:lnTo>
                    <a:pt x="944" y="6"/>
                  </a:lnTo>
                  <a:lnTo>
                    <a:pt x="1028" y="6"/>
                  </a:lnTo>
                  <a:lnTo>
                    <a:pt x="1108" y="5"/>
                  </a:lnTo>
                  <a:lnTo>
                    <a:pt x="1185" y="5"/>
                  </a:lnTo>
                  <a:lnTo>
                    <a:pt x="1258" y="4"/>
                  </a:lnTo>
                  <a:lnTo>
                    <a:pt x="1328" y="2"/>
                  </a:lnTo>
                  <a:lnTo>
                    <a:pt x="1395" y="2"/>
                  </a:lnTo>
                  <a:lnTo>
                    <a:pt x="1458" y="1"/>
                  </a:lnTo>
                  <a:lnTo>
                    <a:pt x="1518" y="0"/>
                  </a:lnTo>
                  <a:lnTo>
                    <a:pt x="1521" y="20"/>
                  </a:lnTo>
                  <a:lnTo>
                    <a:pt x="1522" y="37"/>
                  </a:lnTo>
                  <a:lnTo>
                    <a:pt x="1521" y="53"/>
                  </a:lnTo>
                  <a:lnTo>
                    <a:pt x="1519" y="68"/>
                  </a:lnTo>
                  <a:lnTo>
                    <a:pt x="1515" y="81"/>
                  </a:lnTo>
                  <a:lnTo>
                    <a:pt x="1511" y="94"/>
                  </a:lnTo>
                  <a:lnTo>
                    <a:pt x="1506" y="104"/>
                  </a:lnTo>
                  <a:lnTo>
                    <a:pt x="1501" y="116"/>
                  </a:lnTo>
                  <a:lnTo>
                    <a:pt x="1498" y="125"/>
                  </a:lnTo>
                  <a:lnTo>
                    <a:pt x="1494" y="136"/>
                  </a:lnTo>
                  <a:lnTo>
                    <a:pt x="1492" y="146"/>
                  </a:lnTo>
                  <a:lnTo>
                    <a:pt x="1491" y="157"/>
                  </a:lnTo>
                  <a:lnTo>
                    <a:pt x="1492" y="167"/>
                  </a:lnTo>
                  <a:lnTo>
                    <a:pt x="1494" y="179"/>
                  </a:lnTo>
                  <a:lnTo>
                    <a:pt x="1500" y="190"/>
                  </a:lnTo>
                  <a:lnTo>
                    <a:pt x="1509" y="204"/>
                  </a:lnTo>
                  <a:lnTo>
                    <a:pt x="1530" y="234"/>
                  </a:lnTo>
                  <a:lnTo>
                    <a:pt x="1552" y="261"/>
                  </a:lnTo>
                  <a:lnTo>
                    <a:pt x="1573" y="287"/>
                  </a:lnTo>
                  <a:lnTo>
                    <a:pt x="1592" y="313"/>
                  </a:lnTo>
                  <a:lnTo>
                    <a:pt x="1610" y="338"/>
                  </a:lnTo>
                  <a:lnTo>
                    <a:pt x="1625" y="360"/>
                  </a:lnTo>
                  <a:lnTo>
                    <a:pt x="1631" y="370"/>
                  </a:lnTo>
                  <a:lnTo>
                    <a:pt x="1636" y="381"/>
                  </a:lnTo>
                  <a:lnTo>
                    <a:pt x="1639" y="391"/>
                  </a:lnTo>
                  <a:lnTo>
                    <a:pt x="1641" y="401"/>
                  </a:lnTo>
                  <a:lnTo>
                    <a:pt x="1645" y="421"/>
                  </a:lnTo>
                  <a:lnTo>
                    <a:pt x="1650" y="447"/>
                  </a:lnTo>
                  <a:lnTo>
                    <a:pt x="1653" y="477"/>
                  </a:lnTo>
                  <a:lnTo>
                    <a:pt x="1658" y="506"/>
                  </a:lnTo>
                  <a:lnTo>
                    <a:pt x="1661" y="533"/>
                  </a:lnTo>
                  <a:lnTo>
                    <a:pt x="1665" y="555"/>
                  </a:lnTo>
                  <a:lnTo>
                    <a:pt x="1667" y="570"/>
                  </a:lnTo>
                  <a:lnTo>
                    <a:pt x="1667" y="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Freeform 112"/>
            <p:cNvSpPr/>
            <p:nvPr/>
          </p:nvSpPr>
          <p:spPr>
            <a:xfrm>
              <a:off x="7203960" y="3763800"/>
              <a:ext cx="250200" cy="9360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67" h="576">
                  <a:moveTo>
                    <a:pt x="1667" y="576"/>
                  </a:moveTo>
                  <a:lnTo>
                    <a:pt x="0" y="570"/>
                  </a:lnTo>
                  <a:lnTo>
                    <a:pt x="189" y="6"/>
                  </a:lnTo>
                  <a:lnTo>
                    <a:pt x="292" y="6"/>
                  </a:lnTo>
                  <a:lnTo>
                    <a:pt x="392" y="7"/>
                  </a:lnTo>
                  <a:lnTo>
                    <a:pt x="490" y="7"/>
                  </a:lnTo>
                  <a:lnTo>
                    <a:pt x="585" y="7"/>
                  </a:lnTo>
                  <a:lnTo>
                    <a:pt x="679" y="7"/>
                  </a:lnTo>
                  <a:lnTo>
                    <a:pt x="770" y="7"/>
                  </a:lnTo>
                  <a:lnTo>
                    <a:pt x="859" y="6"/>
                  </a:lnTo>
                  <a:lnTo>
                    <a:pt x="944" y="6"/>
                  </a:lnTo>
                  <a:lnTo>
                    <a:pt x="1028" y="6"/>
                  </a:lnTo>
                  <a:lnTo>
                    <a:pt x="1108" y="5"/>
                  </a:lnTo>
                  <a:lnTo>
                    <a:pt x="1185" y="5"/>
                  </a:lnTo>
                  <a:lnTo>
                    <a:pt x="1258" y="4"/>
                  </a:lnTo>
                  <a:lnTo>
                    <a:pt x="1328" y="2"/>
                  </a:lnTo>
                  <a:lnTo>
                    <a:pt x="1395" y="2"/>
                  </a:lnTo>
                  <a:lnTo>
                    <a:pt x="1458" y="1"/>
                  </a:lnTo>
                  <a:lnTo>
                    <a:pt x="1518" y="0"/>
                  </a:lnTo>
                  <a:lnTo>
                    <a:pt x="1521" y="20"/>
                  </a:lnTo>
                  <a:lnTo>
                    <a:pt x="1522" y="37"/>
                  </a:lnTo>
                  <a:lnTo>
                    <a:pt x="1521" y="53"/>
                  </a:lnTo>
                  <a:lnTo>
                    <a:pt x="1519" y="68"/>
                  </a:lnTo>
                  <a:lnTo>
                    <a:pt x="1515" y="81"/>
                  </a:lnTo>
                  <a:lnTo>
                    <a:pt x="1511" y="94"/>
                  </a:lnTo>
                  <a:lnTo>
                    <a:pt x="1506" y="104"/>
                  </a:lnTo>
                  <a:lnTo>
                    <a:pt x="1501" y="116"/>
                  </a:lnTo>
                  <a:lnTo>
                    <a:pt x="1498" y="125"/>
                  </a:lnTo>
                  <a:lnTo>
                    <a:pt x="1494" y="136"/>
                  </a:lnTo>
                  <a:lnTo>
                    <a:pt x="1492" y="146"/>
                  </a:lnTo>
                  <a:lnTo>
                    <a:pt x="1491" y="157"/>
                  </a:lnTo>
                  <a:lnTo>
                    <a:pt x="1492" y="167"/>
                  </a:lnTo>
                  <a:lnTo>
                    <a:pt x="1494" y="179"/>
                  </a:lnTo>
                  <a:lnTo>
                    <a:pt x="1500" y="190"/>
                  </a:lnTo>
                  <a:lnTo>
                    <a:pt x="1509" y="204"/>
                  </a:lnTo>
                  <a:lnTo>
                    <a:pt x="1530" y="234"/>
                  </a:lnTo>
                  <a:lnTo>
                    <a:pt x="1552" y="261"/>
                  </a:lnTo>
                  <a:lnTo>
                    <a:pt x="1573" y="287"/>
                  </a:lnTo>
                  <a:lnTo>
                    <a:pt x="1592" y="313"/>
                  </a:lnTo>
                  <a:lnTo>
                    <a:pt x="1610" y="338"/>
                  </a:lnTo>
                  <a:lnTo>
                    <a:pt x="1625" y="360"/>
                  </a:lnTo>
                  <a:lnTo>
                    <a:pt x="1631" y="370"/>
                  </a:lnTo>
                  <a:lnTo>
                    <a:pt x="1636" y="381"/>
                  </a:lnTo>
                  <a:lnTo>
                    <a:pt x="1639" y="391"/>
                  </a:lnTo>
                  <a:lnTo>
                    <a:pt x="1641" y="401"/>
                  </a:lnTo>
                  <a:lnTo>
                    <a:pt x="1645" y="421"/>
                  </a:lnTo>
                  <a:lnTo>
                    <a:pt x="1650" y="447"/>
                  </a:lnTo>
                  <a:lnTo>
                    <a:pt x="1653" y="477"/>
                  </a:lnTo>
                  <a:lnTo>
                    <a:pt x="1658" y="506"/>
                  </a:lnTo>
                  <a:lnTo>
                    <a:pt x="1661" y="533"/>
                  </a:lnTo>
                  <a:lnTo>
                    <a:pt x="1665" y="555"/>
                  </a:lnTo>
                  <a:lnTo>
                    <a:pt x="1667" y="570"/>
                  </a:lnTo>
                  <a:lnTo>
                    <a:pt x="1667" y="57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Freeform 113"/>
            <p:cNvSpPr/>
            <p:nvPr/>
          </p:nvSpPr>
          <p:spPr>
            <a:xfrm>
              <a:off x="7429680" y="3746520"/>
              <a:ext cx="269280" cy="18180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792" h="1120">
                  <a:moveTo>
                    <a:pt x="1038" y="688"/>
                  </a:moveTo>
                  <a:lnTo>
                    <a:pt x="1052" y="695"/>
                  </a:lnTo>
                  <a:lnTo>
                    <a:pt x="1065" y="701"/>
                  </a:lnTo>
                  <a:lnTo>
                    <a:pt x="1076" y="708"/>
                  </a:lnTo>
                  <a:lnTo>
                    <a:pt x="1084" y="715"/>
                  </a:lnTo>
                  <a:lnTo>
                    <a:pt x="1091" y="722"/>
                  </a:lnTo>
                  <a:lnTo>
                    <a:pt x="1095" y="729"/>
                  </a:lnTo>
                  <a:lnTo>
                    <a:pt x="1099" y="737"/>
                  </a:lnTo>
                  <a:lnTo>
                    <a:pt x="1101" y="745"/>
                  </a:lnTo>
                  <a:lnTo>
                    <a:pt x="1106" y="778"/>
                  </a:lnTo>
                  <a:lnTo>
                    <a:pt x="1109" y="812"/>
                  </a:lnTo>
                  <a:lnTo>
                    <a:pt x="1112" y="820"/>
                  </a:lnTo>
                  <a:lnTo>
                    <a:pt x="1114" y="827"/>
                  </a:lnTo>
                  <a:lnTo>
                    <a:pt x="1116" y="833"/>
                  </a:lnTo>
                  <a:lnTo>
                    <a:pt x="1120" y="840"/>
                  </a:lnTo>
                  <a:lnTo>
                    <a:pt x="1129" y="852"/>
                  </a:lnTo>
                  <a:lnTo>
                    <a:pt x="1140" y="863"/>
                  </a:lnTo>
                  <a:lnTo>
                    <a:pt x="1154" y="875"/>
                  </a:lnTo>
                  <a:lnTo>
                    <a:pt x="1169" y="884"/>
                  </a:lnTo>
                  <a:lnTo>
                    <a:pt x="1185" y="894"/>
                  </a:lnTo>
                  <a:lnTo>
                    <a:pt x="1204" y="903"/>
                  </a:lnTo>
                  <a:lnTo>
                    <a:pt x="1223" y="911"/>
                  </a:lnTo>
                  <a:lnTo>
                    <a:pt x="1244" y="919"/>
                  </a:lnTo>
                  <a:lnTo>
                    <a:pt x="1266" y="926"/>
                  </a:lnTo>
                  <a:lnTo>
                    <a:pt x="1289" y="933"/>
                  </a:lnTo>
                  <a:lnTo>
                    <a:pt x="1337" y="947"/>
                  </a:lnTo>
                  <a:lnTo>
                    <a:pt x="1386" y="959"/>
                  </a:lnTo>
                  <a:lnTo>
                    <a:pt x="1398" y="963"/>
                  </a:lnTo>
                  <a:lnTo>
                    <a:pt x="1410" y="966"/>
                  </a:lnTo>
                  <a:lnTo>
                    <a:pt x="1420" y="971"/>
                  </a:lnTo>
                  <a:lnTo>
                    <a:pt x="1431" y="974"/>
                  </a:lnTo>
                  <a:lnTo>
                    <a:pt x="1448" y="985"/>
                  </a:lnTo>
                  <a:lnTo>
                    <a:pt x="1463" y="995"/>
                  </a:lnTo>
                  <a:lnTo>
                    <a:pt x="1477" y="1007"/>
                  </a:lnTo>
                  <a:lnTo>
                    <a:pt x="1488" y="1020"/>
                  </a:lnTo>
                  <a:lnTo>
                    <a:pt x="1497" y="1033"/>
                  </a:lnTo>
                  <a:lnTo>
                    <a:pt x="1505" y="1044"/>
                  </a:lnTo>
                  <a:lnTo>
                    <a:pt x="1511" y="1057"/>
                  </a:lnTo>
                  <a:lnTo>
                    <a:pt x="1516" y="1068"/>
                  </a:lnTo>
                  <a:lnTo>
                    <a:pt x="1519" y="1078"/>
                  </a:lnTo>
                  <a:lnTo>
                    <a:pt x="1522" y="1088"/>
                  </a:lnTo>
                  <a:lnTo>
                    <a:pt x="1524" y="1102"/>
                  </a:lnTo>
                  <a:lnTo>
                    <a:pt x="1524" y="1106"/>
                  </a:lnTo>
                  <a:lnTo>
                    <a:pt x="150" y="1120"/>
                  </a:lnTo>
                  <a:lnTo>
                    <a:pt x="176" y="680"/>
                  </a:lnTo>
                  <a:lnTo>
                    <a:pt x="176" y="674"/>
                  </a:lnTo>
                  <a:lnTo>
                    <a:pt x="174" y="659"/>
                  </a:lnTo>
                  <a:lnTo>
                    <a:pt x="170" y="637"/>
                  </a:lnTo>
                  <a:lnTo>
                    <a:pt x="167" y="610"/>
                  </a:lnTo>
                  <a:lnTo>
                    <a:pt x="162" y="581"/>
                  </a:lnTo>
                  <a:lnTo>
                    <a:pt x="159" y="551"/>
                  </a:lnTo>
                  <a:lnTo>
                    <a:pt x="154" y="525"/>
                  </a:lnTo>
                  <a:lnTo>
                    <a:pt x="150" y="505"/>
                  </a:lnTo>
                  <a:lnTo>
                    <a:pt x="148" y="495"/>
                  </a:lnTo>
                  <a:lnTo>
                    <a:pt x="145" y="485"/>
                  </a:lnTo>
                  <a:lnTo>
                    <a:pt x="140" y="474"/>
                  </a:lnTo>
                  <a:lnTo>
                    <a:pt x="134" y="464"/>
                  </a:lnTo>
                  <a:lnTo>
                    <a:pt x="119" y="442"/>
                  </a:lnTo>
                  <a:lnTo>
                    <a:pt x="101" y="417"/>
                  </a:lnTo>
                  <a:lnTo>
                    <a:pt x="82" y="391"/>
                  </a:lnTo>
                  <a:lnTo>
                    <a:pt x="61" y="365"/>
                  </a:lnTo>
                  <a:lnTo>
                    <a:pt x="39" y="338"/>
                  </a:lnTo>
                  <a:lnTo>
                    <a:pt x="18" y="308"/>
                  </a:lnTo>
                  <a:lnTo>
                    <a:pt x="9" y="294"/>
                  </a:lnTo>
                  <a:lnTo>
                    <a:pt x="3" y="283"/>
                  </a:lnTo>
                  <a:lnTo>
                    <a:pt x="1" y="271"/>
                  </a:lnTo>
                  <a:lnTo>
                    <a:pt x="0" y="261"/>
                  </a:lnTo>
                  <a:lnTo>
                    <a:pt x="1" y="250"/>
                  </a:lnTo>
                  <a:lnTo>
                    <a:pt x="3" y="240"/>
                  </a:lnTo>
                  <a:lnTo>
                    <a:pt x="7" y="229"/>
                  </a:lnTo>
                  <a:lnTo>
                    <a:pt x="10" y="220"/>
                  </a:lnTo>
                  <a:lnTo>
                    <a:pt x="15" y="208"/>
                  </a:lnTo>
                  <a:lnTo>
                    <a:pt x="20" y="198"/>
                  </a:lnTo>
                  <a:lnTo>
                    <a:pt x="24" y="185"/>
                  </a:lnTo>
                  <a:lnTo>
                    <a:pt x="28" y="172"/>
                  </a:lnTo>
                  <a:lnTo>
                    <a:pt x="30" y="157"/>
                  </a:lnTo>
                  <a:lnTo>
                    <a:pt x="31" y="141"/>
                  </a:lnTo>
                  <a:lnTo>
                    <a:pt x="30" y="124"/>
                  </a:lnTo>
                  <a:lnTo>
                    <a:pt x="27" y="104"/>
                  </a:lnTo>
                  <a:lnTo>
                    <a:pt x="90" y="103"/>
                  </a:lnTo>
                  <a:lnTo>
                    <a:pt x="147" y="102"/>
                  </a:lnTo>
                  <a:lnTo>
                    <a:pt x="200" y="101"/>
                  </a:lnTo>
                  <a:lnTo>
                    <a:pt x="245" y="99"/>
                  </a:lnTo>
                  <a:lnTo>
                    <a:pt x="285" y="98"/>
                  </a:lnTo>
                  <a:lnTo>
                    <a:pt x="319" y="96"/>
                  </a:lnTo>
                  <a:lnTo>
                    <a:pt x="346" y="95"/>
                  </a:lnTo>
                  <a:lnTo>
                    <a:pt x="367" y="92"/>
                  </a:lnTo>
                  <a:lnTo>
                    <a:pt x="375" y="80"/>
                  </a:lnTo>
                  <a:lnTo>
                    <a:pt x="384" y="68"/>
                  </a:lnTo>
                  <a:lnTo>
                    <a:pt x="392" y="57"/>
                  </a:lnTo>
                  <a:lnTo>
                    <a:pt x="400" y="49"/>
                  </a:lnTo>
                  <a:lnTo>
                    <a:pt x="409" y="42"/>
                  </a:lnTo>
                  <a:lnTo>
                    <a:pt x="416" y="36"/>
                  </a:lnTo>
                  <a:lnTo>
                    <a:pt x="424" y="30"/>
                  </a:lnTo>
                  <a:lnTo>
                    <a:pt x="430" y="27"/>
                  </a:lnTo>
                  <a:lnTo>
                    <a:pt x="441" y="21"/>
                  </a:lnTo>
                  <a:lnTo>
                    <a:pt x="451" y="19"/>
                  </a:lnTo>
                  <a:lnTo>
                    <a:pt x="456" y="18"/>
                  </a:lnTo>
                  <a:lnTo>
                    <a:pt x="459" y="18"/>
                  </a:lnTo>
                  <a:lnTo>
                    <a:pt x="583" y="0"/>
                  </a:lnTo>
                  <a:lnTo>
                    <a:pt x="706" y="124"/>
                  </a:lnTo>
                  <a:lnTo>
                    <a:pt x="757" y="120"/>
                  </a:lnTo>
                  <a:lnTo>
                    <a:pt x="803" y="118"/>
                  </a:lnTo>
                  <a:lnTo>
                    <a:pt x="845" y="118"/>
                  </a:lnTo>
                  <a:lnTo>
                    <a:pt x="882" y="119"/>
                  </a:lnTo>
                  <a:lnTo>
                    <a:pt x="912" y="120"/>
                  </a:lnTo>
                  <a:lnTo>
                    <a:pt x="935" y="122"/>
                  </a:lnTo>
                  <a:lnTo>
                    <a:pt x="949" y="124"/>
                  </a:lnTo>
                  <a:lnTo>
                    <a:pt x="954" y="124"/>
                  </a:lnTo>
                  <a:lnTo>
                    <a:pt x="1046" y="124"/>
                  </a:lnTo>
                  <a:lnTo>
                    <a:pt x="1109" y="187"/>
                  </a:lnTo>
                  <a:lnTo>
                    <a:pt x="1134" y="179"/>
                  </a:lnTo>
                  <a:lnTo>
                    <a:pt x="1157" y="173"/>
                  </a:lnTo>
                  <a:lnTo>
                    <a:pt x="1178" y="167"/>
                  </a:lnTo>
                  <a:lnTo>
                    <a:pt x="1197" y="164"/>
                  </a:lnTo>
                  <a:lnTo>
                    <a:pt x="1213" y="161"/>
                  </a:lnTo>
                  <a:lnTo>
                    <a:pt x="1229" y="160"/>
                  </a:lnTo>
                  <a:lnTo>
                    <a:pt x="1243" y="160"/>
                  </a:lnTo>
                  <a:lnTo>
                    <a:pt x="1253" y="160"/>
                  </a:lnTo>
                  <a:lnTo>
                    <a:pt x="1272" y="162"/>
                  </a:lnTo>
                  <a:lnTo>
                    <a:pt x="1285" y="166"/>
                  </a:lnTo>
                  <a:lnTo>
                    <a:pt x="1292" y="169"/>
                  </a:lnTo>
                  <a:lnTo>
                    <a:pt x="1294" y="171"/>
                  </a:lnTo>
                  <a:lnTo>
                    <a:pt x="1296" y="167"/>
                  </a:lnTo>
                  <a:lnTo>
                    <a:pt x="1302" y="159"/>
                  </a:lnTo>
                  <a:lnTo>
                    <a:pt x="1312" y="148"/>
                  </a:lnTo>
                  <a:lnTo>
                    <a:pt x="1323" y="139"/>
                  </a:lnTo>
                  <a:lnTo>
                    <a:pt x="1329" y="136"/>
                  </a:lnTo>
                  <a:lnTo>
                    <a:pt x="1337" y="132"/>
                  </a:lnTo>
                  <a:lnTo>
                    <a:pt x="1344" y="131"/>
                  </a:lnTo>
                  <a:lnTo>
                    <a:pt x="1352" y="131"/>
                  </a:lnTo>
                  <a:lnTo>
                    <a:pt x="1361" y="133"/>
                  </a:lnTo>
                  <a:lnTo>
                    <a:pt x="1369" y="138"/>
                  </a:lnTo>
                  <a:lnTo>
                    <a:pt x="1378" y="145"/>
                  </a:lnTo>
                  <a:lnTo>
                    <a:pt x="1386" y="155"/>
                  </a:lnTo>
                  <a:lnTo>
                    <a:pt x="1391" y="161"/>
                  </a:lnTo>
                  <a:lnTo>
                    <a:pt x="1397" y="166"/>
                  </a:lnTo>
                  <a:lnTo>
                    <a:pt x="1403" y="169"/>
                  </a:lnTo>
                  <a:lnTo>
                    <a:pt x="1410" y="173"/>
                  </a:lnTo>
                  <a:lnTo>
                    <a:pt x="1418" y="175"/>
                  </a:lnTo>
                  <a:lnTo>
                    <a:pt x="1426" y="176"/>
                  </a:lnTo>
                  <a:lnTo>
                    <a:pt x="1434" y="178"/>
                  </a:lnTo>
                  <a:lnTo>
                    <a:pt x="1445" y="179"/>
                  </a:lnTo>
                  <a:lnTo>
                    <a:pt x="1465" y="179"/>
                  </a:lnTo>
                  <a:lnTo>
                    <a:pt x="1488" y="178"/>
                  </a:lnTo>
                  <a:lnTo>
                    <a:pt x="1511" y="175"/>
                  </a:lnTo>
                  <a:lnTo>
                    <a:pt x="1537" y="172"/>
                  </a:lnTo>
                  <a:lnTo>
                    <a:pt x="1592" y="164"/>
                  </a:lnTo>
                  <a:lnTo>
                    <a:pt x="1648" y="157"/>
                  </a:lnTo>
                  <a:lnTo>
                    <a:pt x="1676" y="154"/>
                  </a:lnTo>
                  <a:lnTo>
                    <a:pt x="1704" y="153"/>
                  </a:lnTo>
                  <a:lnTo>
                    <a:pt x="1731" y="153"/>
                  </a:lnTo>
                  <a:lnTo>
                    <a:pt x="1758" y="155"/>
                  </a:lnTo>
                  <a:lnTo>
                    <a:pt x="1769" y="158"/>
                  </a:lnTo>
                  <a:lnTo>
                    <a:pt x="1779" y="159"/>
                  </a:lnTo>
                  <a:lnTo>
                    <a:pt x="1785" y="161"/>
                  </a:lnTo>
                  <a:lnTo>
                    <a:pt x="1789" y="164"/>
                  </a:lnTo>
                  <a:lnTo>
                    <a:pt x="1792" y="167"/>
                  </a:lnTo>
                  <a:lnTo>
                    <a:pt x="1792" y="169"/>
                  </a:lnTo>
                  <a:lnTo>
                    <a:pt x="1789" y="173"/>
                  </a:lnTo>
                  <a:lnTo>
                    <a:pt x="1785" y="176"/>
                  </a:lnTo>
                  <a:lnTo>
                    <a:pt x="1772" y="185"/>
                  </a:lnTo>
                  <a:lnTo>
                    <a:pt x="1753" y="193"/>
                  </a:lnTo>
                  <a:lnTo>
                    <a:pt x="1730" y="202"/>
                  </a:lnTo>
                  <a:lnTo>
                    <a:pt x="1703" y="212"/>
                  </a:lnTo>
                  <a:lnTo>
                    <a:pt x="1640" y="230"/>
                  </a:lnTo>
                  <a:lnTo>
                    <a:pt x="1574" y="249"/>
                  </a:lnTo>
                  <a:lnTo>
                    <a:pt x="1512" y="265"/>
                  </a:lnTo>
                  <a:lnTo>
                    <a:pt x="1463" y="279"/>
                  </a:lnTo>
                  <a:lnTo>
                    <a:pt x="1445" y="285"/>
                  </a:lnTo>
                  <a:lnTo>
                    <a:pt x="1426" y="292"/>
                  </a:lnTo>
                  <a:lnTo>
                    <a:pt x="1409" y="299"/>
                  </a:lnTo>
                  <a:lnTo>
                    <a:pt x="1393" y="307"/>
                  </a:lnTo>
                  <a:lnTo>
                    <a:pt x="1378" y="315"/>
                  </a:lnTo>
                  <a:lnTo>
                    <a:pt x="1365" y="325"/>
                  </a:lnTo>
                  <a:lnTo>
                    <a:pt x="1352" y="334"/>
                  </a:lnTo>
                  <a:lnTo>
                    <a:pt x="1342" y="344"/>
                  </a:lnTo>
                  <a:lnTo>
                    <a:pt x="1331" y="354"/>
                  </a:lnTo>
                  <a:lnTo>
                    <a:pt x="1322" y="365"/>
                  </a:lnTo>
                  <a:lnTo>
                    <a:pt x="1313" y="376"/>
                  </a:lnTo>
                  <a:lnTo>
                    <a:pt x="1306" y="387"/>
                  </a:lnTo>
                  <a:lnTo>
                    <a:pt x="1292" y="410"/>
                  </a:lnTo>
                  <a:lnTo>
                    <a:pt x="1280" y="432"/>
                  </a:lnTo>
                  <a:lnTo>
                    <a:pt x="1268" y="454"/>
                  </a:lnTo>
                  <a:lnTo>
                    <a:pt x="1255" y="478"/>
                  </a:lnTo>
                  <a:lnTo>
                    <a:pt x="1241" y="500"/>
                  </a:lnTo>
                  <a:lnTo>
                    <a:pt x="1226" y="521"/>
                  </a:lnTo>
                  <a:lnTo>
                    <a:pt x="1210" y="542"/>
                  </a:lnTo>
                  <a:lnTo>
                    <a:pt x="1194" y="563"/>
                  </a:lnTo>
                  <a:lnTo>
                    <a:pt x="1176" y="582"/>
                  </a:lnTo>
                  <a:lnTo>
                    <a:pt x="1159" y="600"/>
                  </a:lnTo>
                  <a:lnTo>
                    <a:pt x="1141" y="618"/>
                  </a:lnTo>
                  <a:lnTo>
                    <a:pt x="1123" y="633"/>
                  </a:lnTo>
                  <a:lnTo>
                    <a:pt x="1107" y="647"/>
                  </a:lnTo>
                  <a:lnTo>
                    <a:pt x="1091" y="659"/>
                  </a:lnTo>
                  <a:lnTo>
                    <a:pt x="1076" y="669"/>
                  </a:lnTo>
                  <a:lnTo>
                    <a:pt x="1062" y="679"/>
                  </a:lnTo>
                  <a:lnTo>
                    <a:pt x="1049" y="685"/>
                  </a:lnTo>
                  <a:lnTo>
                    <a:pt x="1038" y="6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Freeform 114"/>
            <p:cNvSpPr/>
            <p:nvPr/>
          </p:nvSpPr>
          <p:spPr>
            <a:xfrm>
              <a:off x="7429680" y="3746520"/>
              <a:ext cx="269280" cy="18180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792" h="1120">
                  <a:moveTo>
                    <a:pt x="1038" y="688"/>
                  </a:moveTo>
                  <a:lnTo>
                    <a:pt x="1052" y="695"/>
                  </a:lnTo>
                  <a:lnTo>
                    <a:pt x="1065" y="701"/>
                  </a:lnTo>
                  <a:lnTo>
                    <a:pt x="1076" y="708"/>
                  </a:lnTo>
                  <a:lnTo>
                    <a:pt x="1084" y="715"/>
                  </a:lnTo>
                  <a:lnTo>
                    <a:pt x="1091" y="722"/>
                  </a:lnTo>
                  <a:lnTo>
                    <a:pt x="1095" y="729"/>
                  </a:lnTo>
                  <a:lnTo>
                    <a:pt x="1099" y="737"/>
                  </a:lnTo>
                  <a:lnTo>
                    <a:pt x="1101" y="745"/>
                  </a:lnTo>
                  <a:lnTo>
                    <a:pt x="1106" y="778"/>
                  </a:lnTo>
                  <a:lnTo>
                    <a:pt x="1109" y="812"/>
                  </a:lnTo>
                  <a:lnTo>
                    <a:pt x="1112" y="820"/>
                  </a:lnTo>
                  <a:lnTo>
                    <a:pt x="1114" y="827"/>
                  </a:lnTo>
                  <a:lnTo>
                    <a:pt x="1116" y="833"/>
                  </a:lnTo>
                  <a:lnTo>
                    <a:pt x="1120" y="840"/>
                  </a:lnTo>
                  <a:lnTo>
                    <a:pt x="1129" y="852"/>
                  </a:lnTo>
                  <a:lnTo>
                    <a:pt x="1140" y="863"/>
                  </a:lnTo>
                  <a:lnTo>
                    <a:pt x="1154" y="875"/>
                  </a:lnTo>
                  <a:lnTo>
                    <a:pt x="1169" y="884"/>
                  </a:lnTo>
                  <a:lnTo>
                    <a:pt x="1185" y="894"/>
                  </a:lnTo>
                  <a:lnTo>
                    <a:pt x="1204" y="903"/>
                  </a:lnTo>
                  <a:lnTo>
                    <a:pt x="1223" y="911"/>
                  </a:lnTo>
                  <a:lnTo>
                    <a:pt x="1244" y="919"/>
                  </a:lnTo>
                  <a:lnTo>
                    <a:pt x="1266" y="926"/>
                  </a:lnTo>
                  <a:lnTo>
                    <a:pt x="1289" y="933"/>
                  </a:lnTo>
                  <a:lnTo>
                    <a:pt x="1337" y="947"/>
                  </a:lnTo>
                  <a:lnTo>
                    <a:pt x="1386" y="959"/>
                  </a:lnTo>
                  <a:lnTo>
                    <a:pt x="1398" y="963"/>
                  </a:lnTo>
                  <a:lnTo>
                    <a:pt x="1410" y="966"/>
                  </a:lnTo>
                  <a:lnTo>
                    <a:pt x="1420" y="971"/>
                  </a:lnTo>
                  <a:lnTo>
                    <a:pt x="1431" y="974"/>
                  </a:lnTo>
                  <a:lnTo>
                    <a:pt x="1448" y="985"/>
                  </a:lnTo>
                  <a:lnTo>
                    <a:pt x="1463" y="995"/>
                  </a:lnTo>
                  <a:lnTo>
                    <a:pt x="1477" y="1007"/>
                  </a:lnTo>
                  <a:lnTo>
                    <a:pt x="1488" y="1020"/>
                  </a:lnTo>
                  <a:lnTo>
                    <a:pt x="1497" y="1033"/>
                  </a:lnTo>
                  <a:lnTo>
                    <a:pt x="1505" y="1044"/>
                  </a:lnTo>
                  <a:lnTo>
                    <a:pt x="1511" y="1057"/>
                  </a:lnTo>
                  <a:lnTo>
                    <a:pt x="1516" y="1068"/>
                  </a:lnTo>
                  <a:lnTo>
                    <a:pt x="1519" y="1078"/>
                  </a:lnTo>
                  <a:lnTo>
                    <a:pt x="1522" y="1088"/>
                  </a:lnTo>
                  <a:lnTo>
                    <a:pt x="1524" y="1102"/>
                  </a:lnTo>
                  <a:lnTo>
                    <a:pt x="1524" y="1106"/>
                  </a:lnTo>
                  <a:lnTo>
                    <a:pt x="150" y="1120"/>
                  </a:lnTo>
                  <a:lnTo>
                    <a:pt x="176" y="680"/>
                  </a:lnTo>
                  <a:lnTo>
                    <a:pt x="176" y="674"/>
                  </a:lnTo>
                  <a:lnTo>
                    <a:pt x="174" y="659"/>
                  </a:lnTo>
                  <a:lnTo>
                    <a:pt x="170" y="637"/>
                  </a:lnTo>
                  <a:lnTo>
                    <a:pt x="167" y="610"/>
                  </a:lnTo>
                  <a:lnTo>
                    <a:pt x="162" y="581"/>
                  </a:lnTo>
                  <a:lnTo>
                    <a:pt x="159" y="551"/>
                  </a:lnTo>
                  <a:lnTo>
                    <a:pt x="154" y="525"/>
                  </a:lnTo>
                  <a:lnTo>
                    <a:pt x="150" y="505"/>
                  </a:lnTo>
                  <a:lnTo>
                    <a:pt x="148" y="495"/>
                  </a:lnTo>
                  <a:lnTo>
                    <a:pt x="145" y="485"/>
                  </a:lnTo>
                  <a:lnTo>
                    <a:pt x="140" y="474"/>
                  </a:lnTo>
                  <a:lnTo>
                    <a:pt x="134" y="464"/>
                  </a:lnTo>
                  <a:lnTo>
                    <a:pt x="119" y="442"/>
                  </a:lnTo>
                  <a:lnTo>
                    <a:pt x="101" y="417"/>
                  </a:lnTo>
                  <a:lnTo>
                    <a:pt x="82" y="391"/>
                  </a:lnTo>
                  <a:lnTo>
                    <a:pt x="61" y="365"/>
                  </a:lnTo>
                  <a:lnTo>
                    <a:pt x="39" y="338"/>
                  </a:lnTo>
                  <a:lnTo>
                    <a:pt x="18" y="308"/>
                  </a:lnTo>
                  <a:lnTo>
                    <a:pt x="9" y="294"/>
                  </a:lnTo>
                  <a:lnTo>
                    <a:pt x="3" y="283"/>
                  </a:lnTo>
                  <a:lnTo>
                    <a:pt x="1" y="271"/>
                  </a:lnTo>
                  <a:lnTo>
                    <a:pt x="0" y="261"/>
                  </a:lnTo>
                  <a:lnTo>
                    <a:pt x="1" y="250"/>
                  </a:lnTo>
                  <a:lnTo>
                    <a:pt x="3" y="240"/>
                  </a:lnTo>
                  <a:lnTo>
                    <a:pt x="7" y="229"/>
                  </a:lnTo>
                  <a:lnTo>
                    <a:pt x="10" y="220"/>
                  </a:lnTo>
                  <a:lnTo>
                    <a:pt x="15" y="208"/>
                  </a:lnTo>
                  <a:lnTo>
                    <a:pt x="20" y="198"/>
                  </a:lnTo>
                  <a:lnTo>
                    <a:pt x="24" y="185"/>
                  </a:lnTo>
                  <a:lnTo>
                    <a:pt x="28" y="172"/>
                  </a:lnTo>
                  <a:lnTo>
                    <a:pt x="30" y="157"/>
                  </a:lnTo>
                  <a:lnTo>
                    <a:pt x="31" y="141"/>
                  </a:lnTo>
                  <a:lnTo>
                    <a:pt x="30" y="124"/>
                  </a:lnTo>
                  <a:lnTo>
                    <a:pt x="27" y="104"/>
                  </a:lnTo>
                  <a:lnTo>
                    <a:pt x="90" y="103"/>
                  </a:lnTo>
                  <a:lnTo>
                    <a:pt x="147" y="102"/>
                  </a:lnTo>
                  <a:lnTo>
                    <a:pt x="200" y="101"/>
                  </a:lnTo>
                  <a:lnTo>
                    <a:pt x="245" y="99"/>
                  </a:lnTo>
                  <a:lnTo>
                    <a:pt x="285" y="98"/>
                  </a:lnTo>
                  <a:lnTo>
                    <a:pt x="319" y="96"/>
                  </a:lnTo>
                  <a:lnTo>
                    <a:pt x="346" y="95"/>
                  </a:lnTo>
                  <a:lnTo>
                    <a:pt x="367" y="92"/>
                  </a:lnTo>
                  <a:lnTo>
                    <a:pt x="375" y="80"/>
                  </a:lnTo>
                  <a:lnTo>
                    <a:pt x="384" y="68"/>
                  </a:lnTo>
                  <a:lnTo>
                    <a:pt x="392" y="57"/>
                  </a:lnTo>
                  <a:lnTo>
                    <a:pt x="400" y="49"/>
                  </a:lnTo>
                  <a:lnTo>
                    <a:pt x="409" y="42"/>
                  </a:lnTo>
                  <a:lnTo>
                    <a:pt x="416" y="36"/>
                  </a:lnTo>
                  <a:lnTo>
                    <a:pt x="424" y="30"/>
                  </a:lnTo>
                  <a:lnTo>
                    <a:pt x="430" y="27"/>
                  </a:lnTo>
                  <a:lnTo>
                    <a:pt x="441" y="21"/>
                  </a:lnTo>
                  <a:lnTo>
                    <a:pt x="451" y="19"/>
                  </a:lnTo>
                  <a:lnTo>
                    <a:pt x="456" y="18"/>
                  </a:lnTo>
                  <a:lnTo>
                    <a:pt x="459" y="18"/>
                  </a:lnTo>
                  <a:lnTo>
                    <a:pt x="583" y="0"/>
                  </a:lnTo>
                  <a:lnTo>
                    <a:pt x="706" y="124"/>
                  </a:lnTo>
                  <a:lnTo>
                    <a:pt x="757" y="120"/>
                  </a:lnTo>
                  <a:lnTo>
                    <a:pt x="803" y="118"/>
                  </a:lnTo>
                  <a:lnTo>
                    <a:pt x="845" y="118"/>
                  </a:lnTo>
                  <a:lnTo>
                    <a:pt x="882" y="119"/>
                  </a:lnTo>
                  <a:lnTo>
                    <a:pt x="912" y="120"/>
                  </a:lnTo>
                  <a:lnTo>
                    <a:pt x="935" y="122"/>
                  </a:lnTo>
                  <a:lnTo>
                    <a:pt x="949" y="124"/>
                  </a:lnTo>
                  <a:lnTo>
                    <a:pt x="954" y="124"/>
                  </a:lnTo>
                  <a:lnTo>
                    <a:pt x="1046" y="124"/>
                  </a:lnTo>
                  <a:lnTo>
                    <a:pt x="1109" y="187"/>
                  </a:lnTo>
                  <a:lnTo>
                    <a:pt x="1134" y="179"/>
                  </a:lnTo>
                  <a:lnTo>
                    <a:pt x="1157" y="173"/>
                  </a:lnTo>
                  <a:lnTo>
                    <a:pt x="1178" y="167"/>
                  </a:lnTo>
                  <a:lnTo>
                    <a:pt x="1197" y="164"/>
                  </a:lnTo>
                  <a:lnTo>
                    <a:pt x="1213" y="161"/>
                  </a:lnTo>
                  <a:lnTo>
                    <a:pt x="1229" y="160"/>
                  </a:lnTo>
                  <a:lnTo>
                    <a:pt x="1243" y="160"/>
                  </a:lnTo>
                  <a:lnTo>
                    <a:pt x="1253" y="160"/>
                  </a:lnTo>
                  <a:lnTo>
                    <a:pt x="1272" y="162"/>
                  </a:lnTo>
                  <a:lnTo>
                    <a:pt x="1285" y="166"/>
                  </a:lnTo>
                  <a:lnTo>
                    <a:pt x="1292" y="169"/>
                  </a:lnTo>
                  <a:lnTo>
                    <a:pt x="1294" y="171"/>
                  </a:lnTo>
                  <a:lnTo>
                    <a:pt x="1296" y="167"/>
                  </a:lnTo>
                  <a:lnTo>
                    <a:pt x="1302" y="159"/>
                  </a:lnTo>
                  <a:lnTo>
                    <a:pt x="1312" y="148"/>
                  </a:lnTo>
                  <a:lnTo>
                    <a:pt x="1323" y="139"/>
                  </a:lnTo>
                  <a:lnTo>
                    <a:pt x="1329" y="136"/>
                  </a:lnTo>
                  <a:lnTo>
                    <a:pt x="1337" y="132"/>
                  </a:lnTo>
                  <a:lnTo>
                    <a:pt x="1344" y="131"/>
                  </a:lnTo>
                  <a:lnTo>
                    <a:pt x="1352" y="131"/>
                  </a:lnTo>
                  <a:lnTo>
                    <a:pt x="1361" y="133"/>
                  </a:lnTo>
                  <a:lnTo>
                    <a:pt x="1369" y="138"/>
                  </a:lnTo>
                  <a:lnTo>
                    <a:pt x="1378" y="145"/>
                  </a:lnTo>
                  <a:lnTo>
                    <a:pt x="1386" y="155"/>
                  </a:lnTo>
                  <a:lnTo>
                    <a:pt x="1391" y="161"/>
                  </a:lnTo>
                  <a:lnTo>
                    <a:pt x="1397" y="166"/>
                  </a:lnTo>
                  <a:lnTo>
                    <a:pt x="1403" y="169"/>
                  </a:lnTo>
                  <a:lnTo>
                    <a:pt x="1410" y="173"/>
                  </a:lnTo>
                  <a:lnTo>
                    <a:pt x="1418" y="175"/>
                  </a:lnTo>
                  <a:lnTo>
                    <a:pt x="1426" y="176"/>
                  </a:lnTo>
                  <a:lnTo>
                    <a:pt x="1434" y="178"/>
                  </a:lnTo>
                  <a:lnTo>
                    <a:pt x="1445" y="179"/>
                  </a:lnTo>
                  <a:lnTo>
                    <a:pt x="1465" y="179"/>
                  </a:lnTo>
                  <a:lnTo>
                    <a:pt x="1488" y="178"/>
                  </a:lnTo>
                  <a:lnTo>
                    <a:pt x="1511" y="175"/>
                  </a:lnTo>
                  <a:lnTo>
                    <a:pt x="1537" y="172"/>
                  </a:lnTo>
                  <a:lnTo>
                    <a:pt x="1592" y="164"/>
                  </a:lnTo>
                  <a:lnTo>
                    <a:pt x="1648" y="157"/>
                  </a:lnTo>
                  <a:lnTo>
                    <a:pt x="1676" y="154"/>
                  </a:lnTo>
                  <a:lnTo>
                    <a:pt x="1704" y="153"/>
                  </a:lnTo>
                  <a:lnTo>
                    <a:pt x="1731" y="153"/>
                  </a:lnTo>
                  <a:lnTo>
                    <a:pt x="1758" y="155"/>
                  </a:lnTo>
                  <a:lnTo>
                    <a:pt x="1769" y="158"/>
                  </a:lnTo>
                  <a:lnTo>
                    <a:pt x="1779" y="159"/>
                  </a:lnTo>
                  <a:lnTo>
                    <a:pt x="1785" y="161"/>
                  </a:lnTo>
                  <a:lnTo>
                    <a:pt x="1789" y="164"/>
                  </a:lnTo>
                  <a:lnTo>
                    <a:pt x="1792" y="167"/>
                  </a:lnTo>
                  <a:lnTo>
                    <a:pt x="1792" y="169"/>
                  </a:lnTo>
                  <a:lnTo>
                    <a:pt x="1789" y="173"/>
                  </a:lnTo>
                  <a:lnTo>
                    <a:pt x="1785" y="176"/>
                  </a:lnTo>
                  <a:lnTo>
                    <a:pt x="1772" y="185"/>
                  </a:lnTo>
                  <a:lnTo>
                    <a:pt x="1753" y="193"/>
                  </a:lnTo>
                  <a:lnTo>
                    <a:pt x="1730" y="202"/>
                  </a:lnTo>
                  <a:lnTo>
                    <a:pt x="1703" y="212"/>
                  </a:lnTo>
                  <a:lnTo>
                    <a:pt x="1640" y="230"/>
                  </a:lnTo>
                  <a:lnTo>
                    <a:pt x="1574" y="249"/>
                  </a:lnTo>
                  <a:lnTo>
                    <a:pt x="1512" y="265"/>
                  </a:lnTo>
                  <a:lnTo>
                    <a:pt x="1463" y="279"/>
                  </a:lnTo>
                  <a:lnTo>
                    <a:pt x="1445" y="285"/>
                  </a:lnTo>
                  <a:lnTo>
                    <a:pt x="1426" y="292"/>
                  </a:lnTo>
                  <a:lnTo>
                    <a:pt x="1409" y="299"/>
                  </a:lnTo>
                  <a:lnTo>
                    <a:pt x="1393" y="307"/>
                  </a:lnTo>
                  <a:lnTo>
                    <a:pt x="1378" y="315"/>
                  </a:lnTo>
                  <a:lnTo>
                    <a:pt x="1365" y="325"/>
                  </a:lnTo>
                  <a:lnTo>
                    <a:pt x="1352" y="334"/>
                  </a:lnTo>
                  <a:lnTo>
                    <a:pt x="1342" y="344"/>
                  </a:lnTo>
                  <a:lnTo>
                    <a:pt x="1331" y="354"/>
                  </a:lnTo>
                  <a:lnTo>
                    <a:pt x="1322" y="365"/>
                  </a:lnTo>
                  <a:lnTo>
                    <a:pt x="1313" y="376"/>
                  </a:lnTo>
                  <a:lnTo>
                    <a:pt x="1306" y="387"/>
                  </a:lnTo>
                  <a:lnTo>
                    <a:pt x="1292" y="410"/>
                  </a:lnTo>
                  <a:lnTo>
                    <a:pt x="1280" y="432"/>
                  </a:lnTo>
                  <a:lnTo>
                    <a:pt x="1268" y="454"/>
                  </a:lnTo>
                  <a:lnTo>
                    <a:pt x="1255" y="478"/>
                  </a:lnTo>
                  <a:lnTo>
                    <a:pt x="1241" y="500"/>
                  </a:lnTo>
                  <a:lnTo>
                    <a:pt x="1226" y="521"/>
                  </a:lnTo>
                  <a:lnTo>
                    <a:pt x="1210" y="542"/>
                  </a:lnTo>
                  <a:lnTo>
                    <a:pt x="1194" y="563"/>
                  </a:lnTo>
                  <a:lnTo>
                    <a:pt x="1176" y="582"/>
                  </a:lnTo>
                  <a:lnTo>
                    <a:pt x="1159" y="600"/>
                  </a:lnTo>
                  <a:lnTo>
                    <a:pt x="1141" y="618"/>
                  </a:lnTo>
                  <a:lnTo>
                    <a:pt x="1123" y="633"/>
                  </a:lnTo>
                  <a:lnTo>
                    <a:pt x="1107" y="647"/>
                  </a:lnTo>
                  <a:lnTo>
                    <a:pt x="1091" y="659"/>
                  </a:lnTo>
                  <a:lnTo>
                    <a:pt x="1076" y="669"/>
                  </a:lnTo>
                  <a:lnTo>
                    <a:pt x="1062" y="679"/>
                  </a:lnTo>
                  <a:lnTo>
                    <a:pt x="1049" y="685"/>
                  </a:lnTo>
                  <a:lnTo>
                    <a:pt x="1038" y="688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115"/>
            <p:cNvSpPr/>
            <p:nvPr/>
          </p:nvSpPr>
          <p:spPr>
            <a:xfrm>
              <a:off x="7621200" y="4416480"/>
              <a:ext cx="358200" cy="27252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2372" h="1671">
                  <a:moveTo>
                    <a:pt x="1952" y="1069"/>
                  </a:moveTo>
                  <a:lnTo>
                    <a:pt x="1939" y="1081"/>
                  </a:lnTo>
                  <a:lnTo>
                    <a:pt x="1929" y="1092"/>
                  </a:lnTo>
                  <a:lnTo>
                    <a:pt x="1920" y="1104"/>
                  </a:lnTo>
                  <a:lnTo>
                    <a:pt x="1915" y="1117"/>
                  </a:lnTo>
                  <a:lnTo>
                    <a:pt x="1910" y="1129"/>
                  </a:lnTo>
                  <a:lnTo>
                    <a:pt x="1906" y="1140"/>
                  </a:lnTo>
                  <a:lnTo>
                    <a:pt x="1905" y="1152"/>
                  </a:lnTo>
                  <a:lnTo>
                    <a:pt x="1904" y="1163"/>
                  </a:lnTo>
                  <a:lnTo>
                    <a:pt x="1905" y="1181"/>
                  </a:lnTo>
                  <a:lnTo>
                    <a:pt x="1908" y="1196"/>
                  </a:lnTo>
                  <a:lnTo>
                    <a:pt x="1911" y="1207"/>
                  </a:lnTo>
                  <a:lnTo>
                    <a:pt x="1912" y="1210"/>
                  </a:lnTo>
                  <a:lnTo>
                    <a:pt x="1915" y="1215"/>
                  </a:lnTo>
                  <a:lnTo>
                    <a:pt x="1924" y="1230"/>
                  </a:lnTo>
                  <a:lnTo>
                    <a:pt x="1940" y="1251"/>
                  </a:lnTo>
                  <a:lnTo>
                    <a:pt x="1964" y="1277"/>
                  </a:lnTo>
                  <a:lnTo>
                    <a:pt x="1978" y="1292"/>
                  </a:lnTo>
                  <a:lnTo>
                    <a:pt x="1993" y="1306"/>
                  </a:lnTo>
                  <a:lnTo>
                    <a:pt x="2012" y="1321"/>
                  </a:lnTo>
                  <a:lnTo>
                    <a:pt x="2031" y="1337"/>
                  </a:lnTo>
                  <a:lnTo>
                    <a:pt x="2054" y="1352"/>
                  </a:lnTo>
                  <a:lnTo>
                    <a:pt x="2077" y="1366"/>
                  </a:lnTo>
                  <a:lnTo>
                    <a:pt x="2103" y="1380"/>
                  </a:lnTo>
                  <a:lnTo>
                    <a:pt x="2131" y="1392"/>
                  </a:lnTo>
                  <a:lnTo>
                    <a:pt x="2193" y="1414"/>
                  </a:lnTo>
                  <a:lnTo>
                    <a:pt x="2255" y="1434"/>
                  </a:lnTo>
                  <a:lnTo>
                    <a:pt x="2284" y="1445"/>
                  </a:lnTo>
                  <a:lnTo>
                    <a:pt x="2311" y="1456"/>
                  </a:lnTo>
                  <a:lnTo>
                    <a:pt x="2322" y="1462"/>
                  </a:lnTo>
                  <a:lnTo>
                    <a:pt x="2334" y="1467"/>
                  </a:lnTo>
                  <a:lnTo>
                    <a:pt x="2343" y="1473"/>
                  </a:lnTo>
                  <a:lnTo>
                    <a:pt x="2351" y="1480"/>
                  </a:lnTo>
                  <a:lnTo>
                    <a:pt x="2360" y="1486"/>
                  </a:lnTo>
                  <a:lnTo>
                    <a:pt x="2365" y="1493"/>
                  </a:lnTo>
                  <a:lnTo>
                    <a:pt x="2369" y="1501"/>
                  </a:lnTo>
                  <a:lnTo>
                    <a:pt x="2371" y="1508"/>
                  </a:lnTo>
                  <a:lnTo>
                    <a:pt x="2372" y="1517"/>
                  </a:lnTo>
                  <a:lnTo>
                    <a:pt x="2371" y="1526"/>
                  </a:lnTo>
                  <a:lnTo>
                    <a:pt x="2368" y="1534"/>
                  </a:lnTo>
                  <a:lnTo>
                    <a:pt x="2362" y="1543"/>
                  </a:lnTo>
                  <a:lnTo>
                    <a:pt x="2354" y="1554"/>
                  </a:lnTo>
                  <a:lnTo>
                    <a:pt x="2343" y="1564"/>
                  </a:lnTo>
                  <a:lnTo>
                    <a:pt x="2330" y="1575"/>
                  </a:lnTo>
                  <a:lnTo>
                    <a:pt x="2315" y="1587"/>
                  </a:lnTo>
                  <a:lnTo>
                    <a:pt x="2297" y="1599"/>
                  </a:lnTo>
                  <a:lnTo>
                    <a:pt x="2276" y="1612"/>
                  </a:lnTo>
                  <a:lnTo>
                    <a:pt x="2251" y="1625"/>
                  </a:lnTo>
                  <a:lnTo>
                    <a:pt x="2223" y="1639"/>
                  </a:lnTo>
                  <a:lnTo>
                    <a:pt x="2197" y="1620"/>
                  </a:lnTo>
                  <a:lnTo>
                    <a:pt x="2172" y="1603"/>
                  </a:lnTo>
                  <a:lnTo>
                    <a:pt x="2147" y="1588"/>
                  </a:lnTo>
                  <a:lnTo>
                    <a:pt x="2123" y="1575"/>
                  </a:lnTo>
                  <a:lnTo>
                    <a:pt x="2098" y="1563"/>
                  </a:lnTo>
                  <a:lnTo>
                    <a:pt x="2073" y="1554"/>
                  </a:lnTo>
                  <a:lnTo>
                    <a:pt x="2050" y="1546"/>
                  </a:lnTo>
                  <a:lnTo>
                    <a:pt x="2027" y="1540"/>
                  </a:lnTo>
                  <a:lnTo>
                    <a:pt x="2005" y="1535"/>
                  </a:lnTo>
                  <a:lnTo>
                    <a:pt x="1982" y="1532"/>
                  </a:lnTo>
                  <a:lnTo>
                    <a:pt x="1960" y="1531"/>
                  </a:lnTo>
                  <a:lnTo>
                    <a:pt x="1938" y="1529"/>
                  </a:lnTo>
                  <a:lnTo>
                    <a:pt x="1917" y="1531"/>
                  </a:lnTo>
                  <a:lnTo>
                    <a:pt x="1897" y="1532"/>
                  </a:lnTo>
                  <a:lnTo>
                    <a:pt x="1876" y="1535"/>
                  </a:lnTo>
                  <a:lnTo>
                    <a:pt x="1856" y="1539"/>
                  </a:lnTo>
                  <a:lnTo>
                    <a:pt x="1837" y="1543"/>
                  </a:lnTo>
                  <a:lnTo>
                    <a:pt x="1819" y="1549"/>
                  </a:lnTo>
                  <a:lnTo>
                    <a:pt x="1800" y="1555"/>
                  </a:lnTo>
                  <a:lnTo>
                    <a:pt x="1783" y="1562"/>
                  </a:lnTo>
                  <a:lnTo>
                    <a:pt x="1765" y="1570"/>
                  </a:lnTo>
                  <a:lnTo>
                    <a:pt x="1748" y="1578"/>
                  </a:lnTo>
                  <a:lnTo>
                    <a:pt x="1731" y="1587"/>
                  </a:lnTo>
                  <a:lnTo>
                    <a:pt x="1715" y="1596"/>
                  </a:lnTo>
                  <a:lnTo>
                    <a:pt x="1684" y="1615"/>
                  </a:lnTo>
                  <a:lnTo>
                    <a:pt x="1656" y="1633"/>
                  </a:lnTo>
                  <a:lnTo>
                    <a:pt x="1631" y="1653"/>
                  </a:lnTo>
                  <a:lnTo>
                    <a:pt x="1607" y="1671"/>
                  </a:lnTo>
                  <a:lnTo>
                    <a:pt x="1585" y="1651"/>
                  </a:lnTo>
                  <a:lnTo>
                    <a:pt x="1559" y="1632"/>
                  </a:lnTo>
                  <a:lnTo>
                    <a:pt x="1533" y="1613"/>
                  </a:lnTo>
                  <a:lnTo>
                    <a:pt x="1502" y="1596"/>
                  </a:lnTo>
                  <a:lnTo>
                    <a:pt x="1471" y="1580"/>
                  </a:lnTo>
                  <a:lnTo>
                    <a:pt x="1436" y="1564"/>
                  </a:lnTo>
                  <a:lnTo>
                    <a:pt x="1399" y="1549"/>
                  </a:lnTo>
                  <a:lnTo>
                    <a:pt x="1362" y="1535"/>
                  </a:lnTo>
                  <a:lnTo>
                    <a:pt x="1324" y="1522"/>
                  </a:lnTo>
                  <a:lnTo>
                    <a:pt x="1283" y="1511"/>
                  </a:lnTo>
                  <a:lnTo>
                    <a:pt x="1241" y="1499"/>
                  </a:lnTo>
                  <a:lnTo>
                    <a:pt x="1199" y="1488"/>
                  </a:lnTo>
                  <a:lnTo>
                    <a:pt x="1156" y="1478"/>
                  </a:lnTo>
                  <a:lnTo>
                    <a:pt x="1113" y="1470"/>
                  </a:lnTo>
                  <a:lnTo>
                    <a:pt x="1069" y="1460"/>
                  </a:lnTo>
                  <a:lnTo>
                    <a:pt x="1026" y="1453"/>
                  </a:lnTo>
                  <a:lnTo>
                    <a:pt x="982" y="1446"/>
                  </a:lnTo>
                  <a:lnTo>
                    <a:pt x="939" y="1441"/>
                  </a:lnTo>
                  <a:lnTo>
                    <a:pt x="897" y="1435"/>
                  </a:lnTo>
                  <a:lnTo>
                    <a:pt x="855" y="1430"/>
                  </a:lnTo>
                  <a:lnTo>
                    <a:pt x="776" y="1423"/>
                  </a:lnTo>
                  <a:lnTo>
                    <a:pt x="701" y="1418"/>
                  </a:lnTo>
                  <a:lnTo>
                    <a:pt x="634" y="1416"/>
                  </a:lnTo>
                  <a:lnTo>
                    <a:pt x="576" y="1416"/>
                  </a:lnTo>
                  <a:lnTo>
                    <a:pt x="550" y="1417"/>
                  </a:lnTo>
                  <a:lnTo>
                    <a:pt x="528" y="1418"/>
                  </a:lnTo>
                  <a:lnTo>
                    <a:pt x="508" y="1421"/>
                  </a:lnTo>
                  <a:lnTo>
                    <a:pt x="492" y="1423"/>
                  </a:lnTo>
                  <a:lnTo>
                    <a:pt x="187" y="1452"/>
                  </a:lnTo>
                  <a:lnTo>
                    <a:pt x="167" y="758"/>
                  </a:lnTo>
                  <a:lnTo>
                    <a:pt x="147" y="736"/>
                  </a:lnTo>
                  <a:lnTo>
                    <a:pt x="129" y="713"/>
                  </a:lnTo>
                  <a:lnTo>
                    <a:pt x="119" y="701"/>
                  </a:lnTo>
                  <a:lnTo>
                    <a:pt x="111" y="688"/>
                  </a:lnTo>
                  <a:lnTo>
                    <a:pt x="103" y="674"/>
                  </a:lnTo>
                  <a:lnTo>
                    <a:pt x="95" y="660"/>
                  </a:lnTo>
                  <a:lnTo>
                    <a:pt x="86" y="645"/>
                  </a:lnTo>
                  <a:lnTo>
                    <a:pt x="79" y="629"/>
                  </a:lnTo>
                  <a:lnTo>
                    <a:pt x="72" y="612"/>
                  </a:lnTo>
                  <a:lnTo>
                    <a:pt x="65" y="595"/>
                  </a:lnTo>
                  <a:lnTo>
                    <a:pt x="54" y="559"/>
                  </a:lnTo>
                  <a:lnTo>
                    <a:pt x="42" y="518"/>
                  </a:lnTo>
                  <a:lnTo>
                    <a:pt x="33" y="473"/>
                  </a:lnTo>
                  <a:lnTo>
                    <a:pt x="23" y="426"/>
                  </a:lnTo>
                  <a:lnTo>
                    <a:pt x="16" y="372"/>
                  </a:lnTo>
                  <a:lnTo>
                    <a:pt x="11" y="315"/>
                  </a:lnTo>
                  <a:lnTo>
                    <a:pt x="6" y="253"/>
                  </a:lnTo>
                  <a:lnTo>
                    <a:pt x="2" y="186"/>
                  </a:lnTo>
                  <a:lnTo>
                    <a:pt x="0" y="114"/>
                  </a:lnTo>
                  <a:lnTo>
                    <a:pt x="0" y="35"/>
                  </a:lnTo>
                  <a:lnTo>
                    <a:pt x="1034" y="0"/>
                  </a:lnTo>
                  <a:lnTo>
                    <a:pt x="1126" y="234"/>
                  </a:lnTo>
                  <a:lnTo>
                    <a:pt x="1020" y="372"/>
                  </a:lnTo>
                  <a:lnTo>
                    <a:pt x="1034" y="698"/>
                  </a:lnTo>
                  <a:lnTo>
                    <a:pt x="1698" y="712"/>
                  </a:lnTo>
                  <a:lnTo>
                    <a:pt x="1952" y="10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116"/>
            <p:cNvSpPr/>
            <p:nvPr/>
          </p:nvSpPr>
          <p:spPr>
            <a:xfrm>
              <a:off x="7621200" y="4416480"/>
              <a:ext cx="358200" cy="27252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2372" h="1671">
                  <a:moveTo>
                    <a:pt x="1952" y="1069"/>
                  </a:moveTo>
                  <a:lnTo>
                    <a:pt x="1939" y="1081"/>
                  </a:lnTo>
                  <a:lnTo>
                    <a:pt x="1929" y="1092"/>
                  </a:lnTo>
                  <a:lnTo>
                    <a:pt x="1920" y="1104"/>
                  </a:lnTo>
                  <a:lnTo>
                    <a:pt x="1915" y="1117"/>
                  </a:lnTo>
                  <a:lnTo>
                    <a:pt x="1910" y="1129"/>
                  </a:lnTo>
                  <a:lnTo>
                    <a:pt x="1906" y="1140"/>
                  </a:lnTo>
                  <a:lnTo>
                    <a:pt x="1905" y="1152"/>
                  </a:lnTo>
                  <a:lnTo>
                    <a:pt x="1904" y="1163"/>
                  </a:lnTo>
                  <a:lnTo>
                    <a:pt x="1905" y="1181"/>
                  </a:lnTo>
                  <a:lnTo>
                    <a:pt x="1908" y="1196"/>
                  </a:lnTo>
                  <a:lnTo>
                    <a:pt x="1911" y="1207"/>
                  </a:lnTo>
                  <a:lnTo>
                    <a:pt x="1912" y="1210"/>
                  </a:lnTo>
                  <a:lnTo>
                    <a:pt x="1915" y="1215"/>
                  </a:lnTo>
                  <a:lnTo>
                    <a:pt x="1924" y="1230"/>
                  </a:lnTo>
                  <a:lnTo>
                    <a:pt x="1940" y="1251"/>
                  </a:lnTo>
                  <a:lnTo>
                    <a:pt x="1964" y="1277"/>
                  </a:lnTo>
                  <a:lnTo>
                    <a:pt x="1978" y="1292"/>
                  </a:lnTo>
                  <a:lnTo>
                    <a:pt x="1993" y="1306"/>
                  </a:lnTo>
                  <a:lnTo>
                    <a:pt x="2012" y="1321"/>
                  </a:lnTo>
                  <a:lnTo>
                    <a:pt x="2031" y="1337"/>
                  </a:lnTo>
                  <a:lnTo>
                    <a:pt x="2054" y="1352"/>
                  </a:lnTo>
                  <a:lnTo>
                    <a:pt x="2077" y="1366"/>
                  </a:lnTo>
                  <a:lnTo>
                    <a:pt x="2103" y="1380"/>
                  </a:lnTo>
                  <a:lnTo>
                    <a:pt x="2131" y="1392"/>
                  </a:lnTo>
                  <a:lnTo>
                    <a:pt x="2193" y="1414"/>
                  </a:lnTo>
                  <a:lnTo>
                    <a:pt x="2255" y="1434"/>
                  </a:lnTo>
                  <a:lnTo>
                    <a:pt x="2284" y="1445"/>
                  </a:lnTo>
                  <a:lnTo>
                    <a:pt x="2311" y="1456"/>
                  </a:lnTo>
                  <a:lnTo>
                    <a:pt x="2322" y="1462"/>
                  </a:lnTo>
                  <a:lnTo>
                    <a:pt x="2334" y="1467"/>
                  </a:lnTo>
                  <a:lnTo>
                    <a:pt x="2343" y="1473"/>
                  </a:lnTo>
                  <a:lnTo>
                    <a:pt x="2351" y="1480"/>
                  </a:lnTo>
                  <a:lnTo>
                    <a:pt x="2360" y="1486"/>
                  </a:lnTo>
                  <a:lnTo>
                    <a:pt x="2365" y="1493"/>
                  </a:lnTo>
                  <a:lnTo>
                    <a:pt x="2369" y="1501"/>
                  </a:lnTo>
                  <a:lnTo>
                    <a:pt x="2371" y="1508"/>
                  </a:lnTo>
                  <a:lnTo>
                    <a:pt x="2372" y="1517"/>
                  </a:lnTo>
                  <a:lnTo>
                    <a:pt x="2371" y="1526"/>
                  </a:lnTo>
                  <a:lnTo>
                    <a:pt x="2368" y="1534"/>
                  </a:lnTo>
                  <a:lnTo>
                    <a:pt x="2362" y="1543"/>
                  </a:lnTo>
                  <a:lnTo>
                    <a:pt x="2354" y="1554"/>
                  </a:lnTo>
                  <a:lnTo>
                    <a:pt x="2343" y="1564"/>
                  </a:lnTo>
                  <a:lnTo>
                    <a:pt x="2330" y="1575"/>
                  </a:lnTo>
                  <a:lnTo>
                    <a:pt x="2315" y="1587"/>
                  </a:lnTo>
                  <a:lnTo>
                    <a:pt x="2297" y="1599"/>
                  </a:lnTo>
                  <a:lnTo>
                    <a:pt x="2276" y="1612"/>
                  </a:lnTo>
                  <a:lnTo>
                    <a:pt x="2251" y="1625"/>
                  </a:lnTo>
                  <a:lnTo>
                    <a:pt x="2223" y="1639"/>
                  </a:lnTo>
                  <a:lnTo>
                    <a:pt x="2197" y="1620"/>
                  </a:lnTo>
                  <a:lnTo>
                    <a:pt x="2172" y="1603"/>
                  </a:lnTo>
                  <a:lnTo>
                    <a:pt x="2147" y="1588"/>
                  </a:lnTo>
                  <a:lnTo>
                    <a:pt x="2123" y="1575"/>
                  </a:lnTo>
                  <a:lnTo>
                    <a:pt x="2098" y="1563"/>
                  </a:lnTo>
                  <a:lnTo>
                    <a:pt x="2073" y="1554"/>
                  </a:lnTo>
                  <a:lnTo>
                    <a:pt x="2050" y="1546"/>
                  </a:lnTo>
                  <a:lnTo>
                    <a:pt x="2027" y="1540"/>
                  </a:lnTo>
                  <a:lnTo>
                    <a:pt x="2005" y="1535"/>
                  </a:lnTo>
                  <a:lnTo>
                    <a:pt x="1982" y="1532"/>
                  </a:lnTo>
                  <a:lnTo>
                    <a:pt x="1960" y="1531"/>
                  </a:lnTo>
                  <a:lnTo>
                    <a:pt x="1938" y="1529"/>
                  </a:lnTo>
                  <a:lnTo>
                    <a:pt x="1917" y="1531"/>
                  </a:lnTo>
                  <a:lnTo>
                    <a:pt x="1897" y="1532"/>
                  </a:lnTo>
                  <a:lnTo>
                    <a:pt x="1876" y="1535"/>
                  </a:lnTo>
                  <a:lnTo>
                    <a:pt x="1856" y="1539"/>
                  </a:lnTo>
                  <a:lnTo>
                    <a:pt x="1837" y="1543"/>
                  </a:lnTo>
                  <a:lnTo>
                    <a:pt x="1819" y="1549"/>
                  </a:lnTo>
                  <a:lnTo>
                    <a:pt x="1800" y="1555"/>
                  </a:lnTo>
                  <a:lnTo>
                    <a:pt x="1783" y="1562"/>
                  </a:lnTo>
                  <a:lnTo>
                    <a:pt x="1765" y="1570"/>
                  </a:lnTo>
                  <a:lnTo>
                    <a:pt x="1748" y="1578"/>
                  </a:lnTo>
                  <a:lnTo>
                    <a:pt x="1731" y="1587"/>
                  </a:lnTo>
                  <a:lnTo>
                    <a:pt x="1715" y="1596"/>
                  </a:lnTo>
                  <a:lnTo>
                    <a:pt x="1684" y="1615"/>
                  </a:lnTo>
                  <a:lnTo>
                    <a:pt x="1656" y="1633"/>
                  </a:lnTo>
                  <a:lnTo>
                    <a:pt x="1631" y="1653"/>
                  </a:lnTo>
                  <a:lnTo>
                    <a:pt x="1607" y="1671"/>
                  </a:lnTo>
                  <a:lnTo>
                    <a:pt x="1585" y="1651"/>
                  </a:lnTo>
                  <a:lnTo>
                    <a:pt x="1559" y="1632"/>
                  </a:lnTo>
                  <a:lnTo>
                    <a:pt x="1533" y="1613"/>
                  </a:lnTo>
                  <a:lnTo>
                    <a:pt x="1502" y="1596"/>
                  </a:lnTo>
                  <a:lnTo>
                    <a:pt x="1471" y="1580"/>
                  </a:lnTo>
                  <a:lnTo>
                    <a:pt x="1436" y="1564"/>
                  </a:lnTo>
                  <a:lnTo>
                    <a:pt x="1399" y="1549"/>
                  </a:lnTo>
                  <a:lnTo>
                    <a:pt x="1362" y="1535"/>
                  </a:lnTo>
                  <a:lnTo>
                    <a:pt x="1324" y="1522"/>
                  </a:lnTo>
                  <a:lnTo>
                    <a:pt x="1283" y="1511"/>
                  </a:lnTo>
                  <a:lnTo>
                    <a:pt x="1241" y="1499"/>
                  </a:lnTo>
                  <a:lnTo>
                    <a:pt x="1199" y="1488"/>
                  </a:lnTo>
                  <a:lnTo>
                    <a:pt x="1156" y="1478"/>
                  </a:lnTo>
                  <a:lnTo>
                    <a:pt x="1113" y="1470"/>
                  </a:lnTo>
                  <a:lnTo>
                    <a:pt x="1069" y="1460"/>
                  </a:lnTo>
                  <a:lnTo>
                    <a:pt x="1026" y="1453"/>
                  </a:lnTo>
                  <a:lnTo>
                    <a:pt x="982" y="1446"/>
                  </a:lnTo>
                  <a:lnTo>
                    <a:pt x="939" y="1441"/>
                  </a:lnTo>
                  <a:lnTo>
                    <a:pt x="897" y="1435"/>
                  </a:lnTo>
                  <a:lnTo>
                    <a:pt x="855" y="1430"/>
                  </a:lnTo>
                  <a:lnTo>
                    <a:pt x="776" y="1423"/>
                  </a:lnTo>
                  <a:lnTo>
                    <a:pt x="701" y="1418"/>
                  </a:lnTo>
                  <a:lnTo>
                    <a:pt x="634" y="1416"/>
                  </a:lnTo>
                  <a:lnTo>
                    <a:pt x="576" y="1416"/>
                  </a:lnTo>
                  <a:lnTo>
                    <a:pt x="550" y="1417"/>
                  </a:lnTo>
                  <a:lnTo>
                    <a:pt x="528" y="1418"/>
                  </a:lnTo>
                  <a:lnTo>
                    <a:pt x="508" y="1421"/>
                  </a:lnTo>
                  <a:lnTo>
                    <a:pt x="492" y="1423"/>
                  </a:lnTo>
                  <a:lnTo>
                    <a:pt x="187" y="1452"/>
                  </a:lnTo>
                  <a:lnTo>
                    <a:pt x="167" y="758"/>
                  </a:lnTo>
                  <a:lnTo>
                    <a:pt x="147" y="736"/>
                  </a:lnTo>
                  <a:lnTo>
                    <a:pt x="129" y="713"/>
                  </a:lnTo>
                  <a:lnTo>
                    <a:pt x="119" y="701"/>
                  </a:lnTo>
                  <a:lnTo>
                    <a:pt x="111" y="688"/>
                  </a:lnTo>
                  <a:lnTo>
                    <a:pt x="103" y="674"/>
                  </a:lnTo>
                  <a:lnTo>
                    <a:pt x="95" y="660"/>
                  </a:lnTo>
                  <a:lnTo>
                    <a:pt x="86" y="645"/>
                  </a:lnTo>
                  <a:lnTo>
                    <a:pt x="79" y="629"/>
                  </a:lnTo>
                  <a:lnTo>
                    <a:pt x="72" y="612"/>
                  </a:lnTo>
                  <a:lnTo>
                    <a:pt x="65" y="595"/>
                  </a:lnTo>
                  <a:lnTo>
                    <a:pt x="54" y="559"/>
                  </a:lnTo>
                  <a:lnTo>
                    <a:pt x="42" y="518"/>
                  </a:lnTo>
                  <a:lnTo>
                    <a:pt x="33" y="473"/>
                  </a:lnTo>
                  <a:lnTo>
                    <a:pt x="23" y="426"/>
                  </a:lnTo>
                  <a:lnTo>
                    <a:pt x="16" y="372"/>
                  </a:lnTo>
                  <a:lnTo>
                    <a:pt x="11" y="315"/>
                  </a:lnTo>
                  <a:lnTo>
                    <a:pt x="6" y="253"/>
                  </a:lnTo>
                  <a:lnTo>
                    <a:pt x="2" y="186"/>
                  </a:lnTo>
                  <a:lnTo>
                    <a:pt x="0" y="114"/>
                  </a:lnTo>
                  <a:lnTo>
                    <a:pt x="0" y="35"/>
                  </a:lnTo>
                  <a:lnTo>
                    <a:pt x="1034" y="0"/>
                  </a:lnTo>
                  <a:lnTo>
                    <a:pt x="1126" y="234"/>
                  </a:lnTo>
                  <a:lnTo>
                    <a:pt x="1020" y="372"/>
                  </a:lnTo>
                  <a:lnTo>
                    <a:pt x="1034" y="698"/>
                  </a:lnTo>
                  <a:lnTo>
                    <a:pt x="1698" y="712"/>
                  </a:lnTo>
                  <a:lnTo>
                    <a:pt x="1952" y="106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117"/>
            <p:cNvSpPr/>
            <p:nvPr/>
          </p:nvSpPr>
          <p:spPr>
            <a:xfrm>
              <a:off x="7770960" y="4268520"/>
              <a:ext cx="215640" cy="3214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21480"/>
                <a:gd name="textAreaBottom" fmla="*/ 321840 h 321480"/>
              </a:gdLst>
              <a:ahLst/>
              <a:rect l="textAreaLeft" t="textAreaTop" r="textAreaRight" b="textAreaBottom"/>
              <a:pathLst>
                <a:path w="1430" h="1967">
                  <a:moveTo>
                    <a:pt x="974" y="1967"/>
                  </a:moveTo>
                  <a:lnTo>
                    <a:pt x="720" y="1610"/>
                  </a:lnTo>
                  <a:lnTo>
                    <a:pt x="56" y="1596"/>
                  </a:lnTo>
                  <a:lnTo>
                    <a:pt x="42" y="1270"/>
                  </a:lnTo>
                  <a:lnTo>
                    <a:pt x="148" y="1132"/>
                  </a:lnTo>
                  <a:lnTo>
                    <a:pt x="56" y="898"/>
                  </a:lnTo>
                  <a:lnTo>
                    <a:pt x="46" y="874"/>
                  </a:lnTo>
                  <a:lnTo>
                    <a:pt x="37" y="849"/>
                  </a:lnTo>
                  <a:lnTo>
                    <a:pt x="30" y="825"/>
                  </a:lnTo>
                  <a:lnTo>
                    <a:pt x="23" y="800"/>
                  </a:lnTo>
                  <a:lnTo>
                    <a:pt x="17" y="776"/>
                  </a:lnTo>
                  <a:lnTo>
                    <a:pt x="13" y="751"/>
                  </a:lnTo>
                  <a:lnTo>
                    <a:pt x="8" y="727"/>
                  </a:lnTo>
                  <a:lnTo>
                    <a:pt x="6" y="702"/>
                  </a:lnTo>
                  <a:lnTo>
                    <a:pt x="3" y="679"/>
                  </a:lnTo>
                  <a:lnTo>
                    <a:pt x="1" y="654"/>
                  </a:lnTo>
                  <a:lnTo>
                    <a:pt x="0" y="631"/>
                  </a:lnTo>
                  <a:lnTo>
                    <a:pt x="0" y="609"/>
                  </a:lnTo>
                  <a:lnTo>
                    <a:pt x="1" y="563"/>
                  </a:lnTo>
                  <a:lnTo>
                    <a:pt x="4" y="520"/>
                  </a:lnTo>
                  <a:lnTo>
                    <a:pt x="9" y="479"/>
                  </a:lnTo>
                  <a:lnTo>
                    <a:pt x="16" y="440"/>
                  </a:lnTo>
                  <a:lnTo>
                    <a:pt x="24" y="404"/>
                  </a:lnTo>
                  <a:lnTo>
                    <a:pt x="32" y="373"/>
                  </a:lnTo>
                  <a:lnTo>
                    <a:pt x="42" y="344"/>
                  </a:lnTo>
                  <a:lnTo>
                    <a:pt x="51" y="318"/>
                  </a:lnTo>
                  <a:lnTo>
                    <a:pt x="60" y="297"/>
                  </a:lnTo>
                  <a:lnTo>
                    <a:pt x="70" y="279"/>
                  </a:lnTo>
                  <a:lnTo>
                    <a:pt x="79" y="264"/>
                  </a:lnTo>
                  <a:lnTo>
                    <a:pt x="90" y="244"/>
                  </a:lnTo>
                  <a:lnTo>
                    <a:pt x="101" y="222"/>
                  </a:lnTo>
                  <a:lnTo>
                    <a:pt x="114" y="196"/>
                  </a:lnTo>
                  <a:lnTo>
                    <a:pt x="126" y="169"/>
                  </a:lnTo>
                  <a:lnTo>
                    <a:pt x="139" y="139"/>
                  </a:lnTo>
                  <a:lnTo>
                    <a:pt x="150" y="108"/>
                  </a:lnTo>
                  <a:lnTo>
                    <a:pt x="162" y="75"/>
                  </a:lnTo>
                  <a:lnTo>
                    <a:pt x="871" y="0"/>
                  </a:lnTo>
                  <a:lnTo>
                    <a:pt x="872" y="11"/>
                  </a:lnTo>
                  <a:lnTo>
                    <a:pt x="877" y="42"/>
                  </a:lnTo>
                  <a:lnTo>
                    <a:pt x="885" y="91"/>
                  </a:lnTo>
                  <a:lnTo>
                    <a:pt x="896" y="155"/>
                  </a:lnTo>
                  <a:lnTo>
                    <a:pt x="907" y="233"/>
                  </a:lnTo>
                  <a:lnTo>
                    <a:pt x="923" y="319"/>
                  </a:lnTo>
                  <a:lnTo>
                    <a:pt x="940" y="412"/>
                  </a:lnTo>
                  <a:lnTo>
                    <a:pt x="959" y="512"/>
                  </a:lnTo>
                  <a:lnTo>
                    <a:pt x="979" y="612"/>
                  </a:lnTo>
                  <a:lnTo>
                    <a:pt x="1000" y="713"/>
                  </a:lnTo>
                  <a:lnTo>
                    <a:pt x="1022" y="810"/>
                  </a:lnTo>
                  <a:lnTo>
                    <a:pt x="1044" y="902"/>
                  </a:lnTo>
                  <a:lnTo>
                    <a:pt x="1056" y="945"/>
                  </a:lnTo>
                  <a:lnTo>
                    <a:pt x="1067" y="985"/>
                  </a:lnTo>
                  <a:lnTo>
                    <a:pt x="1079" y="1023"/>
                  </a:lnTo>
                  <a:lnTo>
                    <a:pt x="1092" y="1058"/>
                  </a:lnTo>
                  <a:lnTo>
                    <a:pt x="1104" y="1090"/>
                  </a:lnTo>
                  <a:lnTo>
                    <a:pt x="1115" y="1118"/>
                  </a:lnTo>
                  <a:lnTo>
                    <a:pt x="1127" y="1141"/>
                  </a:lnTo>
                  <a:lnTo>
                    <a:pt x="1139" y="1161"/>
                  </a:lnTo>
                  <a:lnTo>
                    <a:pt x="1430" y="1855"/>
                  </a:lnTo>
                  <a:lnTo>
                    <a:pt x="1354" y="1867"/>
                  </a:lnTo>
                  <a:lnTo>
                    <a:pt x="1284" y="1878"/>
                  </a:lnTo>
                  <a:lnTo>
                    <a:pt x="1218" y="1890"/>
                  </a:lnTo>
                  <a:lnTo>
                    <a:pt x="1161" y="1902"/>
                  </a:lnTo>
                  <a:lnTo>
                    <a:pt x="1111" y="1912"/>
                  </a:lnTo>
                  <a:lnTo>
                    <a:pt x="1069" y="1923"/>
                  </a:lnTo>
                  <a:lnTo>
                    <a:pt x="1051" y="1927"/>
                  </a:lnTo>
                  <a:lnTo>
                    <a:pt x="1036" y="1932"/>
                  </a:lnTo>
                  <a:lnTo>
                    <a:pt x="1024" y="1937"/>
                  </a:lnTo>
                  <a:lnTo>
                    <a:pt x="1015" y="1941"/>
                  </a:lnTo>
                  <a:lnTo>
                    <a:pt x="1003" y="1947"/>
                  </a:lnTo>
                  <a:lnTo>
                    <a:pt x="993" y="1954"/>
                  </a:lnTo>
                  <a:lnTo>
                    <a:pt x="983" y="1961"/>
                  </a:lnTo>
                  <a:lnTo>
                    <a:pt x="974" y="19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118"/>
            <p:cNvSpPr/>
            <p:nvPr/>
          </p:nvSpPr>
          <p:spPr>
            <a:xfrm>
              <a:off x="7770960" y="4268520"/>
              <a:ext cx="215640" cy="3214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21480"/>
                <a:gd name="textAreaBottom" fmla="*/ 321840 h 321480"/>
              </a:gdLst>
              <a:ahLst/>
              <a:rect l="textAreaLeft" t="textAreaTop" r="textAreaRight" b="textAreaBottom"/>
              <a:pathLst>
                <a:path w="1430" h="1967">
                  <a:moveTo>
                    <a:pt x="974" y="1967"/>
                  </a:moveTo>
                  <a:lnTo>
                    <a:pt x="720" y="1610"/>
                  </a:lnTo>
                  <a:lnTo>
                    <a:pt x="56" y="1596"/>
                  </a:lnTo>
                  <a:lnTo>
                    <a:pt x="42" y="1270"/>
                  </a:lnTo>
                  <a:lnTo>
                    <a:pt x="148" y="1132"/>
                  </a:lnTo>
                  <a:lnTo>
                    <a:pt x="56" y="898"/>
                  </a:lnTo>
                  <a:lnTo>
                    <a:pt x="46" y="874"/>
                  </a:lnTo>
                  <a:lnTo>
                    <a:pt x="37" y="849"/>
                  </a:lnTo>
                  <a:lnTo>
                    <a:pt x="30" y="825"/>
                  </a:lnTo>
                  <a:lnTo>
                    <a:pt x="23" y="800"/>
                  </a:lnTo>
                  <a:lnTo>
                    <a:pt x="17" y="776"/>
                  </a:lnTo>
                  <a:lnTo>
                    <a:pt x="13" y="751"/>
                  </a:lnTo>
                  <a:lnTo>
                    <a:pt x="8" y="727"/>
                  </a:lnTo>
                  <a:lnTo>
                    <a:pt x="6" y="702"/>
                  </a:lnTo>
                  <a:lnTo>
                    <a:pt x="3" y="679"/>
                  </a:lnTo>
                  <a:lnTo>
                    <a:pt x="1" y="654"/>
                  </a:lnTo>
                  <a:lnTo>
                    <a:pt x="0" y="631"/>
                  </a:lnTo>
                  <a:lnTo>
                    <a:pt x="0" y="609"/>
                  </a:lnTo>
                  <a:lnTo>
                    <a:pt x="1" y="563"/>
                  </a:lnTo>
                  <a:lnTo>
                    <a:pt x="4" y="520"/>
                  </a:lnTo>
                  <a:lnTo>
                    <a:pt x="9" y="479"/>
                  </a:lnTo>
                  <a:lnTo>
                    <a:pt x="16" y="440"/>
                  </a:lnTo>
                  <a:lnTo>
                    <a:pt x="24" y="404"/>
                  </a:lnTo>
                  <a:lnTo>
                    <a:pt x="32" y="373"/>
                  </a:lnTo>
                  <a:lnTo>
                    <a:pt x="42" y="344"/>
                  </a:lnTo>
                  <a:lnTo>
                    <a:pt x="51" y="318"/>
                  </a:lnTo>
                  <a:lnTo>
                    <a:pt x="60" y="297"/>
                  </a:lnTo>
                  <a:lnTo>
                    <a:pt x="70" y="279"/>
                  </a:lnTo>
                  <a:lnTo>
                    <a:pt x="79" y="264"/>
                  </a:lnTo>
                  <a:lnTo>
                    <a:pt x="90" y="244"/>
                  </a:lnTo>
                  <a:lnTo>
                    <a:pt x="101" y="222"/>
                  </a:lnTo>
                  <a:lnTo>
                    <a:pt x="114" y="196"/>
                  </a:lnTo>
                  <a:lnTo>
                    <a:pt x="126" y="169"/>
                  </a:lnTo>
                  <a:lnTo>
                    <a:pt x="139" y="139"/>
                  </a:lnTo>
                  <a:lnTo>
                    <a:pt x="150" y="108"/>
                  </a:lnTo>
                  <a:lnTo>
                    <a:pt x="162" y="75"/>
                  </a:lnTo>
                  <a:lnTo>
                    <a:pt x="871" y="0"/>
                  </a:lnTo>
                  <a:lnTo>
                    <a:pt x="872" y="11"/>
                  </a:lnTo>
                  <a:lnTo>
                    <a:pt x="877" y="42"/>
                  </a:lnTo>
                  <a:lnTo>
                    <a:pt x="885" y="91"/>
                  </a:lnTo>
                  <a:lnTo>
                    <a:pt x="896" y="155"/>
                  </a:lnTo>
                  <a:lnTo>
                    <a:pt x="907" y="233"/>
                  </a:lnTo>
                  <a:lnTo>
                    <a:pt x="923" y="319"/>
                  </a:lnTo>
                  <a:lnTo>
                    <a:pt x="940" y="412"/>
                  </a:lnTo>
                  <a:lnTo>
                    <a:pt x="959" y="512"/>
                  </a:lnTo>
                  <a:lnTo>
                    <a:pt x="979" y="612"/>
                  </a:lnTo>
                  <a:lnTo>
                    <a:pt x="1000" y="713"/>
                  </a:lnTo>
                  <a:lnTo>
                    <a:pt x="1022" y="810"/>
                  </a:lnTo>
                  <a:lnTo>
                    <a:pt x="1044" y="902"/>
                  </a:lnTo>
                  <a:lnTo>
                    <a:pt x="1056" y="945"/>
                  </a:lnTo>
                  <a:lnTo>
                    <a:pt x="1067" y="985"/>
                  </a:lnTo>
                  <a:lnTo>
                    <a:pt x="1079" y="1023"/>
                  </a:lnTo>
                  <a:lnTo>
                    <a:pt x="1092" y="1058"/>
                  </a:lnTo>
                  <a:lnTo>
                    <a:pt x="1104" y="1090"/>
                  </a:lnTo>
                  <a:lnTo>
                    <a:pt x="1115" y="1118"/>
                  </a:lnTo>
                  <a:lnTo>
                    <a:pt x="1127" y="1141"/>
                  </a:lnTo>
                  <a:lnTo>
                    <a:pt x="1139" y="1161"/>
                  </a:lnTo>
                  <a:lnTo>
                    <a:pt x="1430" y="1855"/>
                  </a:lnTo>
                  <a:lnTo>
                    <a:pt x="1354" y="1867"/>
                  </a:lnTo>
                  <a:lnTo>
                    <a:pt x="1284" y="1878"/>
                  </a:lnTo>
                  <a:lnTo>
                    <a:pt x="1218" y="1890"/>
                  </a:lnTo>
                  <a:lnTo>
                    <a:pt x="1161" y="1902"/>
                  </a:lnTo>
                  <a:lnTo>
                    <a:pt x="1111" y="1912"/>
                  </a:lnTo>
                  <a:lnTo>
                    <a:pt x="1069" y="1923"/>
                  </a:lnTo>
                  <a:lnTo>
                    <a:pt x="1051" y="1927"/>
                  </a:lnTo>
                  <a:lnTo>
                    <a:pt x="1036" y="1932"/>
                  </a:lnTo>
                  <a:lnTo>
                    <a:pt x="1024" y="1937"/>
                  </a:lnTo>
                  <a:lnTo>
                    <a:pt x="1015" y="1941"/>
                  </a:lnTo>
                  <a:lnTo>
                    <a:pt x="1003" y="1947"/>
                  </a:lnTo>
                  <a:lnTo>
                    <a:pt x="993" y="1954"/>
                  </a:lnTo>
                  <a:lnTo>
                    <a:pt x="983" y="1961"/>
                  </a:lnTo>
                  <a:lnTo>
                    <a:pt x="974" y="19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119"/>
            <p:cNvSpPr/>
            <p:nvPr/>
          </p:nvSpPr>
          <p:spPr>
            <a:xfrm>
              <a:off x="7900560" y="4256280"/>
              <a:ext cx="252000" cy="3157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670" h="1941">
                  <a:moveTo>
                    <a:pt x="0" y="86"/>
                  </a:moveTo>
                  <a:lnTo>
                    <a:pt x="1" y="97"/>
                  </a:lnTo>
                  <a:lnTo>
                    <a:pt x="5" y="128"/>
                  </a:lnTo>
                  <a:lnTo>
                    <a:pt x="14" y="177"/>
                  </a:lnTo>
                  <a:lnTo>
                    <a:pt x="24" y="241"/>
                  </a:lnTo>
                  <a:lnTo>
                    <a:pt x="36" y="319"/>
                  </a:lnTo>
                  <a:lnTo>
                    <a:pt x="51" y="405"/>
                  </a:lnTo>
                  <a:lnTo>
                    <a:pt x="67" y="498"/>
                  </a:lnTo>
                  <a:lnTo>
                    <a:pt x="86" y="598"/>
                  </a:lnTo>
                  <a:lnTo>
                    <a:pt x="106" y="698"/>
                  </a:lnTo>
                  <a:lnTo>
                    <a:pt x="127" y="799"/>
                  </a:lnTo>
                  <a:lnTo>
                    <a:pt x="148" y="896"/>
                  </a:lnTo>
                  <a:lnTo>
                    <a:pt x="171" y="988"/>
                  </a:lnTo>
                  <a:lnTo>
                    <a:pt x="183" y="1031"/>
                  </a:lnTo>
                  <a:lnTo>
                    <a:pt x="195" y="1071"/>
                  </a:lnTo>
                  <a:lnTo>
                    <a:pt x="206" y="1109"/>
                  </a:lnTo>
                  <a:lnTo>
                    <a:pt x="218" y="1144"/>
                  </a:lnTo>
                  <a:lnTo>
                    <a:pt x="230" y="1176"/>
                  </a:lnTo>
                  <a:lnTo>
                    <a:pt x="241" y="1204"/>
                  </a:lnTo>
                  <a:lnTo>
                    <a:pt x="253" y="1227"/>
                  </a:lnTo>
                  <a:lnTo>
                    <a:pt x="265" y="1247"/>
                  </a:lnTo>
                  <a:lnTo>
                    <a:pt x="556" y="1941"/>
                  </a:lnTo>
                  <a:lnTo>
                    <a:pt x="588" y="1936"/>
                  </a:lnTo>
                  <a:lnTo>
                    <a:pt x="622" y="1932"/>
                  </a:lnTo>
                  <a:lnTo>
                    <a:pt x="656" y="1927"/>
                  </a:lnTo>
                  <a:lnTo>
                    <a:pt x="691" y="1922"/>
                  </a:lnTo>
                  <a:lnTo>
                    <a:pt x="726" y="1918"/>
                  </a:lnTo>
                  <a:lnTo>
                    <a:pt x="762" y="1914"/>
                  </a:lnTo>
                  <a:lnTo>
                    <a:pt x="799" y="1909"/>
                  </a:lnTo>
                  <a:lnTo>
                    <a:pt x="835" y="1906"/>
                  </a:lnTo>
                  <a:lnTo>
                    <a:pt x="837" y="1897"/>
                  </a:lnTo>
                  <a:lnTo>
                    <a:pt x="838" y="1886"/>
                  </a:lnTo>
                  <a:lnTo>
                    <a:pt x="838" y="1876"/>
                  </a:lnTo>
                  <a:lnTo>
                    <a:pt x="838" y="1865"/>
                  </a:lnTo>
                  <a:lnTo>
                    <a:pt x="837" y="1843"/>
                  </a:lnTo>
                  <a:lnTo>
                    <a:pt x="835" y="1820"/>
                  </a:lnTo>
                  <a:lnTo>
                    <a:pt x="829" y="1796"/>
                  </a:lnTo>
                  <a:lnTo>
                    <a:pt x="823" y="1772"/>
                  </a:lnTo>
                  <a:lnTo>
                    <a:pt x="815" y="1747"/>
                  </a:lnTo>
                  <a:lnTo>
                    <a:pt x="806" y="1724"/>
                  </a:lnTo>
                  <a:lnTo>
                    <a:pt x="795" y="1700"/>
                  </a:lnTo>
                  <a:lnTo>
                    <a:pt x="784" y="1679"/>
                  </a:lnTo>
                  <a:lnTo>
                    <a:pt x="773" y="1658"/>
                  </a:lnTo>
                  <a:lnTo>
                    <a:pt x="760" y="1640"/>
                  </a:lnTo>
                  <a:lnTo>
                    <a:pt x="748" y="1622"/>
                  </a:lnTo>
                  <a:lnTo>
                    <a:pt x="735" y="1608"/>
                  </a:lnTo>
                  <a:lnTo>
                    <a:pt x="723" y="1595"/>
                  </a:lnTo>
                  <a:lnTo>
                    <a:pt x="711" y="1587"/>
                  </a:lnTo>
                  <a:lnTo>
                    <a:pt x="1670" y="1495"/>
                  </a:lnTo>
                  <a:lnTo>
                    <a:pt x="1657" y="1482"/>
                  </a:lnTo>
                  <a:lnTo>
                    <a:pt x="1645" y="1469"/>
                  </a:lnTo>
                  <a:lnTo>
                    <a:pt x="1634" y="1456"/>
                  </a:lnTo>
                  <a:lnTo>
                    <a:pt x="1622" y="1442"/>
                  </a:lnTo>
                  <a:lnTo>
                    <a:pt x="1612" y="1427"/>
                  </a:lnTo>
                  <a:lnTo>
                    <a:pt x="1602" y="1411"/>
                  </a:lnTo>
                  <a:lnTo>
                    <a:pt x="1593" y="1396"/>
                  </a:lnTo>
                  <a:lnTo>
                    <a:pt x="1583" y="1379"/>
                  </a:lnTo>
                  <a:lnTo>
                    <a:pt x="1566" y="1345"/>
                  </a:lnTo>
                  <a:lnTo>
                    <a:pt x="1552" y="1311"/>
                  </a:lnTo>
                  <a:lnTo>
                    <a:pt x="1539" y="1276"/>
                  </a:lnTo>
                  <a:lnTo>
                    <a:pt x="1527" y="1242"/>
                  </a:lnTo>
                  <a:lnTo>
                    <a:pt x="1518" y="1209"/>
                  </a:lnTo>
                  <a:lnTo>
                    <a:pt x="1511" y="1177"/>
                  </a:lnTo>
                  <a:lnTo>
                    <a:pt x="1505" y="1147"/>
                  </a:lnTo>
                  <a:lnTo>
                    <a:pt x="1502" y="1120"/>
                  </a:lnTo>
                  <a:lnTo>
                    <a:pt x="1498" y="1095"/>
                  </a:lnTo>
                  <a:lnTo>
                    <a:pt x="1498" y="1075"/>
                  </a:lnTo>
                  <a:lnTo>
                    <a:pt x="1498" y="1059"/>
                  </a:lnTo>
                  <a:lnTo>
                    <a:pt x="1501" y="1049"/>
                  </a:lnTo>
                  <a:lnTo>
                    <a:pt x="1499" y="1040"/>
                  </a:lnTo>
                  <a:lnTo>
                    <a:pt x="1495" y="1029"/>
                  </a:lnTo>
                  <a:lnTo>
                    <a:pt x="1485" y="1011"/>
                  </a:lnTo>
                  <a:lnTo>
                    <a:pt x="1473" y="989"/>
                  </a:lnTo>
                  <a:lnTo>
                    <a:pt x="1436" y="933"/>
                  </a:lnTo>
                  <a:lnTo>
                    <a:pt x="1390" y="864"/>
                  </a:lnTo>
                  <a:lnTo>
                    <a:pt x="1334" y="783"/>
                  </a:lnTo>
                  <a:lnTo>
                    <a:pt x="1270" y="695"/>
                  </a:lnTo>
                  <a:lnTo>
                    <a:pt x="1203" y="601"/>
                  </a:lnTo>
                  <a:lnTo>
                    <a:pt x="1133" y="505"/>
                  </a:lnTo>
                  <a:lnTo>
                    <a:pt x="1062" y="411"/>
                  </a:lnTo>
                  <a:lnTo>
                    <a:pt x="994" y="319"/>
                  </a:lnTo>
                  <a:lnTo>
                    <a:pt x="931" y="233"/>
                  </a:lnTo>
                  <a:lnTo>
                    <a:pt x="873" y="156"/>
                  </a:lnTo>
                  <a:lnTo>
                    <a:pt x="824" y="92"/>
                  </a:lnTo>
                  <a:lnTo>
                    <a:pt x="787" y="43"/>
                  </a:lnTo>
                  <a:lnTo>
                    <a:pt x="762" y="11"/>
                  </a:lnTo>
                  <a:lnTo>
                    <a:pt x="754" y="0"/>
                  </a:lnTo>
                  <a:lnTo>
                    <a:pt x="0" y="8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120"/>
            <p:cNvSpPr/>
            <p:nvPr/>
          </p:nvSpPr>
          <p:spPr>
            <a:xfrm>
              <a:off x="7900560" y="4256280"/>
              <a:ext cx="252000" cy="3157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670" h="1941">
                  <a:moveTo>
                    <a:pt x="0" y="86"/>
                  </a:moveTo>
                  <a:lnTo>
                    <a:pt x="1" y="97"/>
                  </a:lnTo>
                  <a:lnTo>
                    <a:pt x="5" y="128"/>
                  </a:lnTo>
                  <a:lnTo>
                    <a:pt x="14" y="177"/>
                  </a:lnTo>
                  <a:lnTo>
                    <a:pt x="24" y="241"/>
                  </a:lnTo>
                  <a:lnTo>
                    <a:pt x="36" y="319"/>
                  </a:lnTo>
                  <a:lnTo>
                    <a:pt x="51" y="405"/>
                  </a:lnTo>
                  <a:lnTo>
                    <a:pt x="67" y="498"/>
                  </a:lnTo>
                  <a:lnTo>
                    <a:pt x="86" y="598"/>
                  </a:lnTo>
                  <a:lnTo>
                    <a:pt x="106" y="698"/>
                  </a:lnTo>
                  <a:lnTo>
                    <a:pt x="127" y="799"/>
                  </a:lnTo>
                  <a:lnTo>
                    <a:pt x="148" y="896"/>
                  </a:lnTo>
                  <a:lnTo>
                    <a:pt x="171" y="988"/>
                  </a:lnTo>
                  <a:lnTo>
                    <a:pt x="183" y="1031"/>
                  </a:lnTo>
                  <a:lnTo>
                    <a:pt x="195" y="1071"/>
                  </a:lnTo>
                  <a:lnTo>
                    <a:pt x="206" y="1109"/>
                  </a:lnTo>
                  <a:lnTo>
                    <a:pt x="218" y="1144"/>
                  </a:lnTo>
                  <a:lnTo>
                    <a:pt x="230" y="1176"/>
                  </a:lnTo>
                  <a:lnTo>
                    <a:pt x="241" y="1204"/>
                  </a:lnTo>
                  <a:lnTo>
                    <a:pt x="253" y="1227"/>
                  </a:lnTo>
                  <a:lnTo>
                    <a:pt x="265" y="1247"/>
                  </a:lnTo>
                  <a:lnTo>
                    <a:pt x="556" y="1941"/>
                  </a:lnTo>
                  <a:lnTo>
                    <a:pt x="588" y="1936"/>
                  </a:lnTo>
                  <a:lnTo>
                    <a:pt x="622" y="1932"/>
                  </a:lnTo>
                  <a:lnTo>
                    <a:pt x="656" y="1927"/>
                  </a:lnTo>
                  <a:lnTo>
                    <a:pt x="691" y="1922"/>
                  </a:lnTo>
                  <a:lnTo>
                    <a:pt x="726" y="1918"/>
                  </a:lnTo>
                  <a:lnTo>
                    <a:pt x="762" y="1914"/>
                  </a:lnTo>
                  <a:lnTo>
                    <a:pt x="799" y="1909"/>
                  </a:lnTo>
                  <a:lnTo>
                    <a:pt x="835" y="1906"/>
                  </a:lnTo>
                  <a:lnTo>
                    <a:pt x="837" y="1897"/>
                  </a:lnTo>
                  <a:lnTo>
                    <a:pt x="838" y="1886"/>
                  </a:lnTo>
                  <a:lnTo>
                    <a:pt x="838" y="1876"/>
                  </a:lnTo>
                  <a:lnTo>
                    <a:pt x="838" y="1865"/>
                  </a:lnTo>
                  <a:lnTo>
                    <a:pt x="837" y="1843"/>
                  </a:lnTo>
                  <a:lnTo>
                    <a:pt x="835" y="1820"/>
                  </a:lnTo>
                  <a:lnTo>
                    <a:pt x="829" y="1796"/>
                  </a:lnTo>
                  <a:lnTo>
                    <a:pt x="823" y="1772"/>
                  </a:lnTo>
                  <a:lnTo>
                    <a:pt x="815" y="1747"/>
                  </a:lnTo>
                  <a:lnTo>
                    <a:pt x="806" y="1724"/>
                  </a:lnTo>
                  <a:lnTo>
                    <a:pt x="795" y="1700"/>
                  </a:lnTo>
                  <a:lnTo>
                    <a:pt x="784" y="1679"/>
                  </a:lnTo>
                  <a:lnTo>
                    <a:pt x="773" y="1658"/>
                  </a:lnTo>
                  <a:lnTo>
                    <a:pt x="760" y="1640"/>
                  </a:lnTo>
                  <a:lnTo>
                    <a:pt x="748" y="1622"/>
                  </a:lnTo>
                  <a:lnTo>
                    <a:pt x="735" y="1608"/>
                  </a:lnTo>
                  <a:lnTo>
                    <a:pt x="723" y="1595"/>
                  </a:lnTo>
                  <a:lnTo>
                    <a:pt x="711" y="1587"/>
                  </a:lnTo>
                  <a:lnTo>
                    <a:pt x="1670" y="1495"/>
                  </a:lnTo>
                  <a:lnTo>
                    <a:pt x="1657" y="1482"/>
                  </a:lnTo>
                  <a:lnTo>
                    <a:pt x="1645" y="1469"/>
                  </a:lnTo>
                  <a:lnTo>
                    <a:pt x="1634" y="1456"/>
                  </a:lnTo>
                  <a:lnTo>
                    <a:pt x="1622" y="1442"/>
                  </a:lnTo>
                  <a:lnTo>
                    <a:pt x="1612" y="1427"/>
                  </a:lnTo>
                  <a:lnTo>
                    <a:pt x="1602" y="1411"/>
                  </a:lnTo>
                  <a:lnTo>
                    <a:pt x="1593" y="1396"/>
                  </a:lnTo>
                  <a:lnTo>
                    <a:pt x="1583" y="1379"/>
                  </a:lnTo>
                  <a:lnTo>
                    <a:pt x="1566" y="1345"/>
                  </a:lnTo>
                  <a:lnTo>
                    <a:pt x="1552" y="1311"/>
                  </a:lnTo>
                  <a:lnTo>
                    <a:pt x="1539" y="1276"/>
                  </a:lnTo>
                  <a:lnTo>
                    <a:pt x="1527" y="1242"/>
                  </a:lnTo>
                  <a:lnTo>
                    <a:pt x="1518" y="1209"/>
                  </a:lnTo>
                  <a:lnTo>
                    <a:pt x="1511" y="1177"/>
                  </a:lnTo>
                  <a:lnTo>
                    <a:pt x="1505" y="1147"/>
                  </a:lnTo>
                  <a:lnTo>
                    <a:pt x="1502" y="1120"/>
                  </a:lnTo>
                  <a:lnTo>
                    <a:pt x="1498" y="1095"/>
                  </a:lnTo>
                  <a:lnTo>
                    <a:pt x="1498" y="1075"/>
                  </a:lnTo>
                  <a:lnTo>
                    <a:pt x="1498" y="1059"/>
                  </a:lnTo>
                  <a:lnTo>
                    <a:pt x="1501" y="1049"/>
                  </a:lnTo>
                  <a:lnTo>
                    <a:pt x="1499" y="1040"/>
                  </a:lnTo>
                  <a:lnTo>
                    <a:pt x="1495" y="1029"/>
                  </a:lnTo>
                  <a:lnTo>
                    <a:pt x="1485" y="1011"/>
                  </a:lnTo>
                  <a:lnTo>
                    <a:pt x="1473" y="989"/>
                  </a:lnTo>
                  <a:lnTo>
                    <a:pt x="1436" y="933"/>
                  </a:lnTo>
                  <a:lnTo>
                    <a:pt x="1390" y="864"/>
                  </a:lnTo>
                  <a:lnTo>
                    <a:pt x="1334" y="783"/>
                  </a:lnTo>
                  <a:lnTo>
                    <a:pt x="1270" y="695"/>
                  </a:lnTo>
                  <a:lnTo>
                    <a:pt x="1203" y="601"/>
                  </a:lnTo>
                  <a:lnTo>
                    <a:pt x="1133" y="505"/>
                  </a:lnTo>
                  <a:lnTo>
                    <a:pt x="1062" y="411"/>
                  </a:lnTo>
                  <a:lnTo>
                    <a:pt x="994" y="319"/>
                  </a:lnTo>
                  <a:lnTo>
                    <a:pt x="931" y="233"/>
                  </a:lnTo>
                  <a:lnTo>
                    <a:pt x="873" y="156"/>
                  </a:lnTo>
                  <a:lnTo>
                    <a:pt x="824" y="92"/>
                  </a:lnTo>
                  <a:lnTo>
                    <a:pt x="787" y="43"/>
                  </a:lnTo>
                  <a:lnTo>
                    <a:pt x="762" y="11"/>
                  </a:lnTo>
                  <a:lnTo>
                    <a:pt x="754" y="0"/>
                  </a:lnTo>
                  <a:lnTo>
                    <a:pt x="0" y="8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121"/>
            <p:cNvSpPr/>
            <p:nvPr/>
          </p:nvSpPr>
          <p:spPr>
            <a:xfrm>
              <a:off x="7681680" y="3955680"/>
              <a:ext cx="182520" cy="2314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210" h="1423">
                  <a:moveTo>
                    <a:pt x="916" y="1423"/>
                  </a:moveTo>
                  <a:lnTo>
                    <a:pt x="915" y="1406"/>
                  </a:lnTo>
                  <a:lnTo>
                    <a:pt x="912" y="1392"/>
                  </a:lnTo>
                  <a:lnTo>
                    <a:pt x="910" y="1386"/>
                  </a:lnTo>
                  <a:lnTo>
                    <a:pt x="908" y="1381"/>
                  </a:lnTo>
                  <a:lnTo>
                    <a:pt x="905" y="1376"/>
                  </a:lnTo>
                  <a:lnTo>
                    <a:pt x="903" y="1373"/>
                  </a:lnTo>
                  <a:lnTo>
                    <a:pt x="896" y="1367"/>
                  </a:lnTo>
                  <a:lnTo>
                    <a:pt x="888" y="1364"/>
                  </a:lnTo>
                  <a:lnTo>
                    <a:pt x="879" y="1361"/>
                  </a:lnTo>
                  <a:lnTo>
                    <a:pt x="869" y="1360"/>
                  </a:lnTo>
                  <a:lnTo>
                    <a:pt x="847" y="1359"/>
                  </a:lnTo>
                  <a:lnTo>
                    <a:pt x="824" y="1357"/>
                  </a:lnTo>
                  <a:lnTo>
                    <a:pt x="811" y="1353"/>
                  </a:lnTo>
                  <a:lnTo>
                    <a:pt x="799" y="1348"/>
                  </a:lnTo>
                  <a:lnTo>
                    <a:pt x="793" y="1345"/>
                  </a:lnTo>
                  <a:lnTo>
                    <a:pt x="786" y="1341"/>
                  </a:lnTo>
                  <a:lnTo>
                    <a:pt x="780" y="1337"/>
                  </a:lnTo>
                  <a:lnTo>
                    <a:pt x="775" y="1331"/>
                  </a:lnTo>
                  <a:lnTo>
                    <a:pt x="775" y="1309"/>
                  </a:lnTo>
                  <a:lnTo>
                    <a:pt x="773" y="1288"/>
                  </a:lnTo>
                  <a:lnTo>
                    <a:pt x="771" y="1268"/>
                  </a:lnTo>
                  <a:lnTo>
                    <a:pt x="768" y="1249"/>
                  </a:lnTo>
                  <a:lnTo>
                    <a:pt x="763" y="1233"/>
                  </a:lnTo>
                  <a:lnTo>
                    <a:pt x="757" y="1216"/>
                  </a:lnTo>
                  <a:lnTo>
                    <a:pt x="749" y="1201"/>
                  </a:lnTo>
                  <a:lnTo>
                    <a:pt x="740" y="1187"/>
                  </a:lnTo>
                  <a:lnTo>
                    <a:pt x="728" y="1173"/>
                  </a:lnTo>
                  <a:lnTo>
                    <a:pt x="714" y="1160"/>
                  </a:lnTo>
                  <a:lnTo>
                    <a:pt x="698" y="1149"/>
                  </a:lnTo>
                  <a:lnTo>
                    <a:pt x="679" y="1138"/>
                  </a:lnTo>
                  <a:lnTo>
                    <a:pt x="658" y="1128"/>
                  </a:lnTo>
                  <a:lnTo>
                    <a:pt x="633" y="1117"/>
                  </a:lnTo>
                  <a:lnTo>
                    <a:pt x="606" y="1108"/>
                  </a:lnTo>
                  <a:lnTo>
                    <a:pt x="576" y="1098"/>
                  </a:lnTo>
                  <a:lnTo>
                    <a:pt x="546" y="1089"/>
                  </a:lnTo>
                  <a:lnTo>
                    <a:pt x="520" y="1080"/>
                  </a:lnTo>
                  <a:lnTo>
                    <a:pt x="498" y="1069"/>
                  </a:lnTo>
                  <a:lnTo>
                    <a:pt x="478" y="1059"/>
                  </a:lnTo>
                  <a:lnTo>
                    <a:pt x="462" y="1048"/>
                  </a:lnTo>
                  <a:lnTo>
                    <a:pt x="449" y="1037"/>
                  </a:lnTo>
                  <a:lnTo>
                    <a:pt x="437" y="1025"/>
                  </a:lnTo>
                  <a:lnTo>
                    <a:pt x="429" y="1012"/>
                  </a:lnTo>
                  <a:lnTo>
                    <a:pt x="423" y="1000"/>
                  </a:lnTo>
                  <a:lnTo>
                    <a:pt x="418" y="987"/>
                  </a:lnTo>
                  <a:lnTo>
                    <a:pt x="416" y="976"/>
                  </a:lnTo>
                  <a:lnTo>
                    <a:pt x="415" y="963"/>
                  </a:lnTo>
                  <a:lnTo>
                    <a:pt x="415" y="950"/>
                  </a:lnTo>
                  <a:lnTo>
                    <a:pt x="416" y="938"/>
                  </a:lnTo>
                  <a:lnTo>
                    <a:pt x="418" y="926"/>
                  </a:lnTo>
                  <a:lnTo>
                    <a:pt x="421" y="914"/>
                  </a:lnTo>
                  <a:lnTo>
                    <a:pt x="422" y="903"/>
                  </a:lnTo>
                  <a:lnTo>
                    <a:pt x="423" y="894"/>
                  </a:lnTo>
                  <a:lnTo>
                    <a:pt x="421" y="887"/>
                  </a:lnTo>
                  <a:lnTo>
                    <a:pt x="418" y="881"/>
                  </a:lnTo>
                  <a:lnTo>
                    <a:pt x="414" y="875"/>
                  </a:lnTo>
                  <a:lnTo>
                    <a:pt x="408" y="871"/>
                  </a:lnTo>
                  <a:lnTo>
                    <a:pt x="400" y="867"/>
                  </a:lnTo>
                  <a:lnTo>
                    <a:pt x="392" y="864"/>
                  </a:lnTo>
                  <a:lnTo>
                    <a:pt x="345" y="853"/>
                  </a:lnTo>
                  <a:lnTo>
                    <a:pt x="283" y="836"/>
                  </a:lnTo>
                  <a:lnTo>
                    <a:pt x="265" y="830"/>
                  </a:lnTo>
                  <a:lnTo>
                    <a:pt x="248" y="824"/>
                  </a:lnTo>
                  <a:lnTo>
                    <a:pt x="231" y="817"/>
                  </a:lnTo>
                  <a:lnTo>
                    <a:pt x="215" y="809"/>
                  </a:lnTo>
                  <a:lnTo>
                    <a:pt x="201" y="801"/>
                  </a:lnTo>
                  <a:lnTo>
                    <a:pt x="187" y="792"/>
                  </a:lnTo>
                  <a:lnTo>
                    <a:pt x="174" y="783"/>
                  </a:lnTo>
                  <a:lnTo>
                    <a:pt x="161" y="774"/>
                  </a:lnTo>
                  <a:lnTo>
                    <a:pt x="151" y="764"/>
                  </a:lnTo>
                  <a:lnTo>
                    <a:pt x="142" y="754"/>
                  </a:lnTo>
                  <a:lnTo>
                    <a:pt x="132" y="745"/>
                  </a:lnTo>
                  <a:lnTo>
                    <a:pt x="125" y="735"/>
                  </a:lnTo>
                  <a:lnTo>
                    <a:pt x="121" y="726"/>
                  </a:lnTo>
                  <a:lnTo>
                    <a:pt x="116" y="715"/>
                  </a:lnTo>
                  <a:lnTo>
                    <a:pt x="113" y="707"/>
                  </a:lnTo>
                  <a:lnTo>
                    <a:pt x="112" y="698"/>
                  </a:lnTo>
                  <a:lnTo>
                    <a:pt x="111" y="690"/>
                  </a:lnTo>
                  <a:lnTo>
                    <a:pt x="109" y="681"/>
                  </a:lnTo>
                  <a:lnTo>
                    <a:pt x="104" y="673"/>
                  </a:lnTo>
                  <a:lnTo>
                    <a:pt x="97" y="666"/>
                  </a:lnTo>
                  <a:lnTo>
                    <a:pt x="90" y="659"/>
                  </a:lnTo>
                  <a:lnTo>
                    <a:pt x="82" y="653"/>
                  </a:lnTo>
                  <a:lnTo>
                    <a:pt x="74" y="648"/>
                  </a:lnTo>
                  <a:lnTo>
                    <a:pt x="64" y="642"/>
                  </a:lnTo>
                  <a:lnTo>
                    <a:pt x="32" y="625"/>
                  </a:lnTo>
                  <a:lnTo>
                    <a:pt x="18" y="620"/>
                  </a:lnTo>
                  <a:lnTo>
                    <a:pt x="6" y="505"/>
                  </a:lnTo>
                  <a:lnTo>
                    <a:pt x="3" y="505"/>
                  </a:lnTo>
                  <a:lnTo>
                    <a:pt x="1" y="498"/>
                  </a:lnTo>
                  <a:lnTo>
                    <a:pt x="0" y="489"/>
                  </a:lnTo>
                  <a:lnTo>
                    <a:pt x="0" y="478"/>
                  </a:lnTo>
                  <a:lnTo>
                    <a:pt x="0" y="467"/>
                  </a:lnTo>
                  <a:lnTo>
                    <a:pt x="1" y="454"/>
                  </a:lnTo>
                  <a:lnTo>
                    <a:pt x="3" y="441"/>
                  </a:lnTo>
                  <a:lnTo>
                    <a:pt x="5" y="427"/>
                  </a:lnTo>
                  <a:lnTo>
                    <a:pt x="7" y="413"/>
                  </a:lnTo>
                  <a:lnTo>
                    <a:pt x="12" y="400"/>
                  </a:lnTo>
                  <a:lnTo>
                    <a:pt x="17" y="388"/>
                  </a:lnTo>
                  <a:lnTo>
                    <a:pt x="22" y="377"/>
                  </a:lnTo>
                  <a:lnTo>
                    <a:pt x="28" y="367"/>
                  </a:lnTo>
                  <a:lnTo>
                    <a:pt x="32" y="363"/>
                  </a:lnTo>
                  <a:lnTo>
                    <a:pt x="36" y="359"/>
                  </a:lnTo>
                  <a:lnTo>
                    <a:pt x="41" y="356"/>
                  </a:lnTo>
                  <a:lnTo>
                    <a:pt x="45" y="353"/>
                  </a:lnTo>
                  <a:lnTo>
                    <a:pt x="50" y="351"/>
                  </a:lnTo>
                  <a:lnTo>
                    <a:pt x="55" y="350"/>
                  </a:lnTo>
                  <a:lnTo>
                    <a:pt x="61" y="350"/>
                  </a:lnTo>
                  <a:lnTo>
                    <a:pt x="67" y="350"/>
                  </a:lnTo>
                  <a:lnTo>
                    <a:pt x="104" y="281"/>
                  </a:lnTo>
                  <a:lnTo>
                    <a:pt x="97" y="274"/>
                  </a:lnTo>
                  <a:lnTo>
                    <a:pt x="91" y="267"/>
                  </a:lnTo>
                  <a:lnTo>
                    <a:pt x="87" y="259"/>
                  </a:lnTo>
                  <a:lnTo>
                    <a:pt x="84" y="250"/>
                  </a:lnTo>
                  <a:lnTo>
                    <a:pt x="82" y="241"/>
                  </a:lnTo>
                  <a:lnTo>
                    <a:pt x="81" y="232"/>
                  </a:lnTo>
                  <a:lnTo>
                    <a:pt x="82" y="222"/>
                  </a:lnTo>
                  <a:lnTo>
                    <a:pt x="84" y="213"/>
                  </a:lnTo>
                  <a:lnTo>
                    <a:pt x="89" y="204"/>
                  </a:lnTo>
                  <a:lnTo>
                    <a:pt x="95" y="194"/>
                  </a:lnTo>
                  <a:lnTo>
                    <a:pt x="102" y="186"/>
                  </a:lnTo>
                  <a:lnTo>
                    <a:pt x="112" y="178"/>
                  </a:lnTo>
                  <a:lnTo>
                    <a:pt x="124" y="171"/>
                  </a:lnTo>
                  <a:lnTo>
                    <a:pt x="138" y="165"/>
                  </a:lnTo>
                  <a:lnTo>
                    <a:pt x="154" y="160"/>
                  </a:lnTo>
                  <a:lnTo>
                    <a:pt x="173" y="156"/>
                  </a:lnTo>
                  <a:lnTo>
                    <a:pt x="142" y="27"/>
                  </a:lnTo>
                  <a:lnTo>
                    <a:pt x="830" y="0"/>
                  </a:lnTo>
                  <a:lnTo>
                    <a:pt x="852" y="25"/>
                  </a:lnTo>
                  <a:lnTo>
                    <a:pt x="876" y="48"/>
                  </a:lnTo>
                  <a:lnTo>
                    <a:pt x="903" y="72"/>
                  </a:lnTo>
                  <a:lnTo>
                    <a:pt x="930" y="96"/>
                  </a:lnTo>
                  <a:lnTo>
                    <a:pt x="1077" y="629"/>
                  </a:lnTo>
                  <a:lnTo>
                    <a:pt x="1082" y="639"/>
                  </a:lnTo>
                  <a:lnTo>
                    <a:pt x="1088" y="650"/>
                  </a:lnTo>
                  <a:lnTo>
                    <a:pt x="1095" y="660"/>
                  </a:lnTo>
                  <a:lnTo>
                    <a:pt x="1102" y="672"/>
                  </a:lnTo>
                  <a:lnTo>
                    <a:pt x="1119" y="693"/>
                  </a:lnTo>
                  <a:lnTo>
                    <a:pt x="1137" y="715"/>
                  </a:lnTo>
                  <a:lnTo>
                    <a:pt x="1157" y="735"/>
                  </a:lnTo>
                  <a:lnTo>
                    <a:pt x="1175" y="753"/>
                  </a:lnTo>
                  <a:lnTo>
                    <a:pt x="1194" y="769"/>
                  </a:lnTo>
                  <a:lnTo>
                    <a:pt x="1210" y="782"/>
                  </a:lnTo>
                  <a:lnTo>
                    <a:pt x="1188" y="806"/>
                  </a:lnTo>
                  <a:lnTo>
                    <a:pt x="1169" y="831"/>
                  </a:lnTo>
                  <a:lnTo>
                    <a:pt x="1161" y="841"/>
                  </a:lnTo>
                  <a:lnTo>
                    <a:pt x="1154" y="853"/>
                  </a:lnTo>
                  <a:lnTo>
                    <a:pt x="1148" y="865"/>
                  </a:lnTo>
                  <a:lnTo>
                    <a:pt x="1143" y="877"/>
                  </a:lnTo>
                  <a:lnTo>
                    <a:pt x="1138" y="889"/>
                  </a:lnTo>
                  <a:lnTo>
                    <a:pt x="1134" y="902"/>
                  </a:lnTo>
                  <a:lnTo>
                    <a:pt x="1131" y="915"/>
                  </a:lnTo>
                  <a:lnTo>
                    <a:pt x="1127" y="930"/>
                  </a:lnTo>
                  <a:lnTo>
                    <a:pt x="1126" y="945"/>
                  </a:lnTo>
                  <a:lnTo>
                    <a:pt x="1124" y="963"/>
                  </a:lnTo>
                  <a:lnTo>
                    <a:pt x="1124" y="980"/>
                  </a:lnTo>
                  <a:lnTo>
                    <a:pt x="1124" y="1000"/>
                  </a:lnTo>
                  <a:lnTo>
                    <a:pt x="1124" y="1041"/>
                  </a:lnTo>
                  <a:lnTo>
                    <a:pt x="1125" y="1081"/>
                  </a:lnTo>
                  <a:lnTo>
                    <a:pt x="1127" y="1119"/>
                  </a:lnTo>
                  <a:lnTo>
                    <a:pt x="1131" y="1156"/>
                  </a:lnTo>
                  <a:lnTo>
                    <a:pt x="1133" y="1186"/>
                  </a:lnTo>
                  <a:lnTo>
                    <a:pt x="1136" y="1209"/>
                  </a:lnTo>
                  <a:lnTo>
                    <a:pt x="1137" y="1225"/>
                  </a:lnTo>
                  <a:lnTo>
                    <a:pt x="1138" y="1230"/>
                  </a:lnTo>
                  <a:lnTo>
                    <a:pt x="1123" y="1257"/>
                  </a:lnTo>
                  <a:lnTo>
                    <a:pt x="1108" y="1281"/>
                  </a:lnTo>
                  <a:lnTo>
                    <a:pt x="1094" y="1299"/>
                  </a:lnTo>
                  <a:lnTo>
                    <a:pt x="1080" y="1315"/>
                  </a:lnTo>
                  <a:lnTo>
                    <a:pt x="1067" y="1327"/>
                  </a:lnTo>
                  <a:lnTo>
                    <a:pt x="1053" y="1338"/>
                  </a:lnTo>
                  <a:lnTo>
                    <a:pt x="1040" y="1347"/>
                  </a:lnTo>
                  <a:lnTo>
                    <a:pt x="1027" y="1354"/>
                  </a:lnTo>
                  <a:lnTo>
                    <a:pt x="1001" y="1367"/>
                  </a:lnTo>
                  <a:lnTo>
                    <a:pt x="974" y="1380"/>
                  </a:lnTo>
                  <a:lnTo>
                    <a:pt x="960" y="1388"/>
                  </a:lnTo>
                  <a:lnTo>
                    <a:pt x="946" y="1397"/>
                  </a:lnTo>
                  <a:lnTo>
                    <a:pt x="931" y="1409"/>
                  </a:lnTo>
                  <a:lnTo>
                    <a:pt x="916" y="14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122"/>
            <p:cNvSpPr/>
            <p:nvPr/>
          </p:nvSpPr>
          <p:spPr>
            <a:xfrm>
              <a:off x="7681680" y="3955680"/>
              <a:ext cx="182520" cy="2314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210" h="1423">
                  <a:moveTo>
                    <a:pt x="916" y="1423"/>
                  </a:moveTo>
                  <a:lnTo>
                    <a:pt x="915" y="1406"/>
                  </a:lnTo>
                  <a:lnTo>
                    <a:pt x="912" y="1392"/>
                  </a:lnTo>
                  <a:lnTo>
                    <a:pt x="910" y="1386"/>
                  </a:lnTo>
                  <a:lnTo>
                    <a:pt x="908" y="1381"/>
                  </a:lnTo>
                  <a:lnTo>
                    <a:pt x="905" y="1376"/>
                  </a:lnTo>
                  <a:lnTo>
                    <a:pt x="903" y="1373"/>
                  </a:lnTo>
                  <a:lnTo>
                    <a:pt x="896" y="1367"/>
                  </a:lnTo>
                  <a:lnTo>
                    <a:pt x="888" y="1364"/>
                  </a:lnTo>
                  <a:lnTo>
                    <a:pt x="879" y="1361"/>
                  </a:lnTo>
                  <a:lnTo>
                    <a:pt x="869" y="1360"/>
                  </a:lnTo>
                  <a:lnTo>
                    <a:pt x="847" y="1359"/>
                  </a:lnTo>
                  <a:lnTo>
                    <a:pt x="824" y="1357"/>
                  </a:lnTo>
                  <a:lnTo>
                    <a:pt x="811" y="1353"/>
                  </a:lnTo>
                  <a:lnTo>
                    <a:pt x="799" y="1348"/>
                  </a:lnTo>
                  <a:lnTo>
                    <a:pt x="793" y="1345"/>
                  </a:lnTo>
                  <a:lnTo>
                    <a:pt x="786" y="1341"/>
                  </a:lnTo>
                  <a:lnTo>
                    <a:pt x="780" y="1337"/>
                  </a:lnTo>
                  <a:lnTo>
                    <a:pt x="775" y="1331"/>
                  </a:lnTo>
                  <a:lnTo>
                    <a:pt x="775" y="1309"/>
                  </a:lnTo>
                  <a:lnTo>
                    <a:pt x="773" y="1288"/>
                  </a:lnTo>
                  <a:lnTo>
                    <a:pt x="771" y="1268"/>
                  </a:lnTo>
                  <a:lnTo>
                    <a:pt x="768" y="1249"/>
                  </a:lnTo>
                  <a:lnTo>
                    <a:pt x="763" y="1233"/>
                  </a:lnTo>
                  <a:lnTo>
                    <a:pt x="757" y="1216"/>
                  </a:lnTo>
                  <a:lnTo>
                    <a:pt x="749" y="1201"/>
                  </a:lnTo>
                  <a:lnTo>
                    <a:pt x="740" y="1187"/>
                  </a:lnTo>
                  <a:lnTo>
                    <a:pt x="728" y="1173"/>
                  </a:lnTo>
                  <a:lnTo>
                    <a:pt x="714" y="1160"/>
                  </a:lnTo>
                  <a:lnTo>
                    <a:pt x="698" y="1149"/>
                  </a:lnTo>
                  <a:lnTo>
                    <a:pt x="679" y="1138"/>
                  </a:lnTo>
                  <a:lnTo>
                    <a:pt x="658" y="1128"/>
                  </a:lnTo>
                  <a:lnTo>
                    <a:pt x="633" y="1117"/>
                  </a:lnTo>
                  <a:lnTo>
                    <a:pt x="606" y="1108"/>
                  </a:lnTo>
                  <a:lnTo>
                    <a:pt x="576" y="1098"/>
                  </a:lnTo>
                  <a:lnTo>
                    <a:pt x="546" y="1089"/>
                  </a:lnTo>
                  <a:lnTo>
                    <a:pt x="520" y="1080"/>
                  </a:lnTo>
                  <a:lnTo>
                    <a:pt x="498" y="1069"/>
                  </a:lnTo>
                  <a:lnTo>
                    <a:pt x="478" y="1059"/>
                  </a:lnTo>
                  <a:lnTo>
                    <a:pt x="462" y="1048"/>
                  </a:lnTo>
                  <a:lnTo>
                    <a:pt x="449" y="1037"/>
                  </a:lnTo>
                  <a:lnTo>
                    <a:pt x="437" y="1025"/>
                  </a:lnTo>
                  <a:lnTo>
                    <a:pt x="429" y="1012"/>
                  </a:lnTo>
                  <a:lnTo>
                    <a:pt x="423" y="1000"/>
                  </a:lnTo>
                  <a:lnTo>
                    <a:pt x="418" y="987"/>
                  </a:lnTo>
                  <a:lnTo>
                    <a:pt x="416" y="976"/>
                  </a:lnTo>
                  <a:lnTo>
                    <a:pt x="415" y="963"/>
                  </a:lnTo>
                  <a:lnTo>
                    <a:pt x="415" y="950"/>
                  </a:lnTo>
                  <a:lnTo>
                    <a:pt x="416" y="938"/>
                  </a:lnTo>
                  <a:lnTo>
                    <a:pt x="418" y="926"/>
                  </a:lnTo>
                  <a:lnTo>
                    <a:pt x="421" y="914"/>
                  </a:lnTo>
                  <a:lnTo>
                    <a:pt x="422" y="903"/>
                  </a:lnTo>
                  <a:lnTo>
                    <a:pt x="423" y="894"/>
                  </a:lnTo>
                  <a:lnTo>
                    <a:pt x="421" y="887"/>
                  </a:lnTo>
                  <a:lnTo>
                    <a:pt x="418" y="881"/>
                  </a:lnTo>
                  <a:lnTo>
                    <a:pt x="414" y="875"/>
                  </a:lnTo>
                  <a:lnTo>
                    <a:pt x="408" y="871"/>
                  </a:lnTo>
                  <a:lnTo>
                    <a:pt x="400" y="867"/>
                  </a:lnTo>
                  <a:lnTo>
                    <a:pt x="392" y="864"/>
                  </a:lnTo>
                  <a:lnTo>
                    <a:pt x="345" y="853"/>
                  </a:lnTo>
                  <a:lnTo>
                    <a:pt x="283" y="836"/>
                  </a:lnTo>
                  <a:lnTo>
                    <a:pt x="265" y="830"/>
                  </a:lnTo>
                  <a:lnTo>
                    <a:pt x="248" y="824"/>
                  </a:lnTo>
                  <a:lnTo>
                    <a:pt x="231" y="817"/>
                  </a:lnTo>
                  <a:lnTo>
                    <a:pt x="215" y="809"/>
                  </a:lnTo>
                  <a:lnTo>
                    <a:pt x="201" y="801"/>
                  </a:lnTo>
                  <a:lnTo>
                    <a:pt x="187" y="792"/>
                  </a:lnTo>
                  <a:lnTo>
                    <a:pt x="174" y="783"/>
                  </a:lnTo>
                  <a:lnTo>
                    <a:pt x="161" y="774"/>
                  </a:lnTo>
                  <a:lnTo>
                    <a:pt x="151" y="764"/>
                  </a:lnTo>
                  <a:lnTo>
                    <a:pt x="142" y="754"/>
                  </a:lnTo>
                  <a:lnTo>
                    <a:pt x="132" y="745"/>
                  </a:lnTo>
                  <a:lnTo>
                    <a:pt x="125" y="735"/>
                  </a:lnTo>
                  <a:lnTo>
                    <a:pt x="121" y="726"/>
                  </a:lnTo>
                  <a:lnTo>
                    <a:pt x="116" y="715"/>
                  </a:lnTo>
                  <a:lnTo>
                    <a:pt x="113" y="707"/>
                  </a:lnTo>
                  <a:lnTo>
                    <a:pt x="112" y="698"/>
                  </a:lnTo>
                  <a:lnTo>
                    <a:pt x="111" y="690"/>
                  </a:lnTo>
                  <a:lnTo>
                    <a:pt x="109" y="681"/>
                  </a:lnTo>
                  <a:lnTo>
                    <a:pt x="104" y="673"/>
                  </a:lnTo>
                  <a:lnTo>
                    <a:pt x="97" y="666"/>
                  </a:lnTo>
                  <a:lnTo>
                    <a:pt x="90" y="659"/>
                  </a:lnTo>
                  <a:lnTo>
                    <a:pt x="82" y="653"/>
                  </a:lnTo>
                  <a:lnTo>
                    <a:pt x="74" y="648"/>
                  </a:lnTo>
                  <a:lnTo>
                    <a:pt x="64" y="642"/>
                  </a:lnTo>
                  <a:lnTo>
                    <a:pt x="32" y="625"/>
                  </a:lnTo>
                  <a:lnTo>
                    <a:pt x="18" y="620"/>
                  </a:lnTo>
                  <a:lnTo>
                    <a:pt x="6" y="505"/>
                  </a:lnTo>
                  <a:lnTo>
                    <a:pt x="3" y="505"/>
                  </a:lnTo>
                  <a:lnTo>
                    <a:pt x="1" y="498"/>
                  </a:lnTo>
                  <a:lnTo>
                    <a:pt x="0" y="489"/>
                  </a:lnTo>
                  <a:lnTo>
                    <a:pt x="0" y="478"/>
                  </a:lnTo>
                  <a:lnTo>
                    <a:pt x="0" y="467"/>
                  </a:lnTo>
                  <a:lnTo>
                    <a:pt x="1" y="454"/>
                  </a:lnTo>
                  <a:lnTo>
                    <a:pt x="3" y="441"/>
                  </a:lnTo>
                  <a:lnTo>
                    <a:pt x="5" y="427"/>
                  </a:lnTo>
                  <a:lnTo>
                    <a:pt x="7" y="413"/>
                  </a:lnTo>
                  <a:lnTo>
                    <a:pt x="12" y="400"/>
                  </a:lnTo>
                  <a:lnTo>
                    <a:pt x="17" y="388"/>
                  </a:lnTo>
                  <a:lnTo>
                    <a:pt x="22" y="377"/>
                  </a:lnTo>
                  <a:lnTo>
                    <a:pt x="28" y="367"/>
                  </a:lnTo>
                  <a:lnTo>
                    <a:pt x="32" y="363"/>
                  </a:lnTo>
                  <a:lnTo>
                    <a:pt x="36" y="359"/>
                  </a:lnTo>
                  <a:lnTo>
                    <a:pt x="41" y="356"/>
                  </a:lnTo>
                  <a:lnTo>
                    <a:pt x="45" y="353"/>
                  </a:lnTo>
                  <a:lnTo>
                    <a:pt x="50" y="351"/>
                  </a:lnTo>
                  <a:lnTo>
                    <a:pt x="55" y="350"/>
                  </a:lnTo>
                  <a:lnTo>
                    <a:pt x="61" y="350"/>
                  </a:lnTo>
                  <a:lnTo>
                    <a:pt x="67" y="350"/>
                  </a:lnTo>
                  <a:lnTo>
                    <a:pt x="104" y="281"/>
                  </a:lnTo>
                  <a:lnTo>
                    <a:pt x="97" y="274"/>
                  </a:lnTo>
                  <a:lnTo>
                    <a:pt x="91" y="267"/>
                  </a:lnTo>
                  <a:lnTo>
                    <a:pt x="87" y="259"/>
                  </a:lnTo>
                  <a:lnTo>
                    <a:pt x="84" y="250"/>
                  </a:lnTo>
                  <a:lnTo>
                    <a:pt x="82" y="241"/>
                  </a:lnTo>
                  <a:lnTo>
                    <a:pt x="81" y="232"/>
                  </a:lnTo>
                  <a:lnTo>
                    <a:pt x="82" y="222"/>
                  </a:lnTo>
                  <a:lnTo>
                    <a:pt x="84" y="213"/>
                  </a:lnTo>
                  <a:lnTo>
                    <a:pt x="89" y="204"/>
                  </a:lnTo>
                  <a:lnTo>
                    <a:pt x="95" y="194"/>
                  </a:lnTo>
                  <a:lnTo>
                    <a:pt x="102" y="186"/>
                  </a:lnTo>
                  <a:lnTo>
                    <a:pt x="112" y="178"/>
                  </a:lnTo>
                  <a:lnTo>
                    <a:pt x="124" y="171"/>
                  </a:lnTo>
                  <a:lnTo>
                    <a:pt x="138" y="165"/>
                  </a:lnTo>
                  <a:lnTo>
                    <a:pt x="154" y="160"/>
                  </a:lnTo>
                  <a:lnTo>
                    <a:pt x="173" y="156"/>
                  </a:lnTo>
                  <a:lnTo>
                    <a:pt x="142" y="27"/>
                  </a:lnTo>
                  <a:lnTo>
                    <a:pt x="830" y="0"/>
                  </a:lnTo>
                  <a:lnTo>
                    <a:pt x="852" y="25"/>
                  </a:lnTo>
                  <a:lnTo>
                    <a:pt x="876" y="48"/>
                  </a:lnTo>
                  <a:lnTo>
                    <a:pt x="903" y="72"/>
                  </a:lnTo>
                  <a:lnTo>
                    <a:pt x="930" y="96"/>
                  </a:lnTo>
                  <a:lnTo>
                    <a:pt x="1077" y="629"/>
                  </a:lnTo>
                  <a:lnTo>
                    <a:pt x="1082" y="639"/>
                  </a:lnTo>
                  <a:lnTo>
                    <a:pt x="1088" y="650"/>
                  </a:lnTo>
                  <a:lnTo>
                    <a:pt x="1095" y="660"/>
                  </a:lnTo>
                  <a:lnTo>
                    <a:pt x="1102" y="672"/>
                  </a:lnTo>
                  <a:lnTo>
                    <a:pt x="1119" y="693"/>
                  </a:lnTo>
                  <a:lnTo>
                    <a:pt x="1137" y="715"/>
                  </a:lnTo>
                  <a:lnTo>
                    <a:pt x="1157" y="735"/>
                  </a:lnTo>
                  <a:lnTo>
                    <a:pt x="1175" y="753"/>
                  </a:lnTo>
                  <a:lnTo>
                    <a:pt x="1194" y="769"/>
                  </a:lnTo>
                  <a:lnTo>
                    <a:pt x="1210" y="782"/>
                  </a:lnTo>
                  <a:lnTo>
                    <a:pt x="1188" y="806"/>
                  </a:lnTo>
                  <a:lnTo>
                    <a:pt x="1169" y="831"/>
                  </a:lnTo>
                  <a:lnTo>
                    <a:pt x="1161" y="841"/>
                  </a:lnTo>
                  <a:lnTo>
                    <a:pt x="1154" y="853"/>
                  </a:lnTo>
                  <a:lnTo>
                    <a:pt x="1148" y="865"/>
                  </a:lnTo>
                  <a:lnTo>
                    <a:pt x="1143" y="877"/>
                  </a:lnTo>
                  <a:lnTo>
                    <a:pt x="1138" y="889"/>
                  </a:lnTo>
                  <a:lnTo>
                    <a:pt x="1134" y="902"/>
                  </a:lnTo>
                  <a:lnTo>
                    <a:pt x="1131" y="915"/>
                  </a:lnTo>
                  <a:lnTo>
                    <a:pt x="1127" y="930"/>
                  </a:lnTo>
                  <a:lnTo>
                    <a:pt x="1126" y="945"/>
                  </a:lnTo>
                  <a:lnTo>
                    <a:pt x="1124" y="963"/>
                  </a:lnTo>
                  <a:lnTo>
                    <a:pt x="1124" y="980"/>
                  </a:lnTo>
                  <a:lnTo>
                    <a:pt x="1124" y="1000"/>
                  </a:lnTo>
                  <a:lnTo>
                    <a:pt x="1124" y="1041"/>
                  </a:lnTo>
                  <a:lnTo>
                    <a:pt x="1125" y="1081"/>
                  </a:lnTo>
                  <a:lnTo>
                    <a:pt x="1127" y="1119"/>
                  </a:lnTo>
                  <a:lnTo>
                    <a:pt x="1131" y="1156"/>
                  </a:lnTo>
                  <a:lnTo>
                    <a:pt x="1133" y="1186"/>
                  </a:lnTo>
                  <a:lnTo>
                    <a:pt x="1136" y="1209"/>
                  </a:lnTo>
                  <a:lnTo>
                    <a:pt x="1137" y="1225"/>
                  </a:lnTo>
                  <a:lnTo>
                    <a:pt x="1138" y="1230"/>
                  </a:lnTo>
                  <a:lnTo>
                    <a:pt x="1123" y="1257"/>
                  </a:lnTo>
                  <a:lnTo>
                    <a:pt x="1108" y="1281"/>
                  </a:lnTo>
                  <a:lnTo>
                    <a:pt x="1094" y="1299"/>
                  </a:lnTo>
                  <a:lnTo>
                    <a:pt x="1080" y="1315"/>
                  </a:lnTo>
                  <a:lnTo>
                    <a:pt x="1067" y="1327"/>
                  </a:lnTo>
                  <a:lnTo>
                    <a:pt x="1053" y="1338"/>
                  </a:lnTo>
                  <a:lnTo>
                    <a:pt x="1040" y="1347"/>
                  </a:lnTo>
                  <a:lnTo>
                    <a:pt x="1027" y="1354"/>
                  </a:lnTo>
                  <a:lnTo>
                    <a:pt x="1001" y="1367"/>
                  </a:lnTo>
                  <a:lnTo>
                    <a:pt x="974" y="1380"/>
                  </a:lnTo>
                  <a:lnTo>
                    <a:pt x="960" y="1388"/>
                  </a:lnTo>
                  <a:lnTo>
                    <a:pt x="946" y="1397"/>
                  </a:lnTo>
                  <a:lnTo>
                    <a:pt x="931" y="1409"/>
                  </a:lnTo>
                  <a:lnTo>
                    <a:pt x="916" y="142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Freeform 123"/>
            <p:cNvSpPr/>
            <p:nvPr/>
          </p:nvSpPr>
          <p:spPr>
            <a:xfrm>
              <a:off x="8094600" y="3969000"/>
              <a:ext cx="140760" cy="1508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32" h="925">
                  <a:moveTo>
                    <a:pt x="10" y="740"/>
                  </a:moveTo>
                  <a:lnTo>
                    <a:pt x="6" y="735"/>
                  </a:lnTo>
                  <a:lnTo>
                    <a:pt x="2" y="729"/>
                  </a:lnTo>
                  <a:lnTo>
                    <a:pt x="1" y="723"/>
                  </a:lnTo>
                  <a:lnTo>
                    <a:pt x="0" y="717"/>
                  </a:lnTo>
                  <a:lnTo>
                    <a:pt x="2" y="704"/>
                  </a:lnTo>
                  <a:lnTo>
                    <a:pt x="7" y="690"/>
                  </a:lnTo>
                  <a:lnTo>
                    <a:pt x="11" y="674"/>
                  </a:lnTo>
                  <a:lnTo>
                    <a:pt x="17" y="654"/>
                  </a:lnTo>
                  <a:lnTo>
                    <a:pt x="18" y="642"/>
                  </a:lnTo>
                  <a:lnTo>
                    <a:pt x="20" y="631"/>
                  </a:lnTo>
                  <a:lnTo>
                    <a:pt x="20" y="617"/>
                  </a:lnTo>
                  <a:lnTo>
                    <a:pt x="18" y="601"/>
                  </a:lnTo>
                  <a:lnTo>
                    <a:pt x="32" y="598"/>
                  </a:lnTo>
                  <a:lnTo>
                    <a:pt x="44" y="593"/>
                  </a:lnTo>
                  <a:lnTo>
                    <a:pt x="54" y="589"/>
                  </a:lnTo>
                  <a:lnTo>
                    <a:pt x="62" y="582"/>
                  </a:lnTo>
                  <a:lnTo>
                    <a:pt x="68" y="573"/>
                  </a:lnTo>
                  <a:lnTo>
                    <a:pt x="72" y="564"/>
                  </a:lnTo>
                  <a:lnTo>
                    <a:pt x="76" y="555"/>
                  </a:lnTo>
                  <a:lnTo>
                    <a:pt x="78" y="544"/>
                  </a:lnTo>
                  <a:lnTo>
                    <a:pt x="79" y="534"/>
                  </a:lnTo>
                  <a:lnTo>
                    <a:pt x="80" y="522"/>
                  </a:lnTo>
                  <a:lnTo>
                    <a:pt x="80" y="510"/>
                  </a:lnTo>
                  <a:lnTo>
                    <a:pt x="79" y="497"/>
                  </a:lnTo>
                  <a:lnTo>
                    <a:pt x="77" y="472"/>
                  </a:lnTo>
                  <a:lnTo>
                    <a:pt x="73" y="446"/>
                  </a:lnTo>
                  <a:lnTo>
                    <a:pt x="92" y="434"/>
                  </a:lnTo>
                  <a:lnTo>
                    <a:pt x="105" y="425"/>
                  </a:lnTo>
                  <a:lnTo>
                    <a:pt x="110" y="422"/>
                  </a:lnTo>
                  <a:lnTo>
                    <a:pt x="113" y="418"/>
                  </a:lnTo>
                  <a:lnTo>
                    <a:pt x="117" y="413"/>
                  </a:lnTo>
                  <a:lnTo>
                    <a:pt x="119" y="409"/>
                  </a:lnTo>
                  <a:lnTo>
                    <a:pt x="127" y="383"/>
                  </a:lnTo>
                  <a:lnTo>
                    <a:pt x="142" y="332"/>
                  </a:lnTo>
                  <a:lnTo>
                    <a:pt x="149" y="308"/>
                  </a:lnTo>
                  <a:lnTo>
                    <a:pt x="154" y="290"/>
                  </a:lnTo>
                  <a:lnTo>
                    <a:pt x="157" y="272"/>
                  </a:lnTo>
                  <a:lnTo>
                    <a:pt x="157" y="257"/>
                  </a:lnTo>
                  <a:lnTo>
                    <a:pt x="157" y="244"/>
                  </a:lnTo>
                  <a:lnTo>
                    <a:pt x="155" y="232"/>
                  </a:lnTo>
                  <a:lnTo>
                    <a:pt x="152" y="221"/>
                  </a:lnTo>
                  <a:lnTo>
                    <a:pt x="147" y="211"/>
                  </a:lnTo>
                  <a:lnTo>
                    <a:pt x="136" y="193"/>
                  </a:lnTo>
                  <a:lnTo>
                    <a:pt x="122" y="174"/>
                  </a:lnTo>
                  <a:lnTo>
                    <a:pt x="117" y="163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7" y="124"/>
                  </a:lnTo>
                  <a:lnTo>
                    <a:pt x="91" y="109"/>
                  </a:lnTo>
                  <a:lnTo>
                    <a:pt x="87" y="95"/>
                  </a:lnTo>
                  <a:lnTo>
                    <a:pt x="86" y="82"/>
                  </a:lnTo>
                  <a:lnTo>
                    <a:pt x="85" y="71"/>
                  </a:lnTo>
                  <a:lnTo>
                    <a:pt x="85" y="62"/>
                  </a:lnTo>
                  <a:lnTo>
                    <a:pt x="86" y="52"/>
                  </a:lnTo>
                  <a:lnTo>
                    <a:pt x="87" y="45"/>
                  </a:lnTo>
                  <a:lnTo>
                    <a:pt x="90" y="38"/>
                  </a:lnTo>
                  <a:lnTo>
                    <a:pt x="94" y="27"/>
                  </a:lnTo>
                  <a:lnTo>
                    <a:pt x="98" y="16"/>
                  </a:lnTo>
                  <a:lnTo>
                    <a:pt x="99" y="13"/>
                  </a:lnTo>
                  <a:lnTo>
                    <a:pt x="99" y="8"/>
                  </a:lnTo>
                  <a:lnTo>
                    <a:pt x="98" y="5"/>
                  </a:lnTo>
                  <a:lnTo>
                    <a:pt x="97" y="0"/>
                  </a:lnTo>
                  <a:lnTo>
                    <a:pt x="106" y="5"/>
                  </a:lnTo>
                  <a:lnTo>
                    <a:pt x="114" y="10"/>
                  </a:lnTo>
                  <a:lnTo>
                    <a:pt x="120" y="16"/>
                  </a:lnTo>
                  <a:lnTo>
                    <a:pt x="126" y="22"/>
                  </a:lnTo>
                  <a:lnTo>
                    <a:pt x="136" y="36"/>
                  </a:lnTo>
                  <a:lnTo>
                    <a:pt x="146" y="50"/>
                  </a:lnTo>
                  <a:lnTo>
                    <a:pt x="150" y="57"/>
                  </a:lnTo>
                  <a:lnTo>
                    <a:pt x="155" y="63"/>
                  </a:lnTo>
                  <a:lnTo>
                    <a:pt x="161" y="69"/>
                  </a:lnTo>
                  <a:lnTo>
                    <a:pt x="168" y="73"/>
                  </a:lnTo>
                  <a:lnTo>
                    <a:pt x="176" y="78"/>
                  </a:lnTo>
                  <a:lnTo>
                    <a:pt x="187" y="80"/>
                  </a:lnTo>
                  <a:lnTo>
                    <a:pt x="198" y="83"/>
                  </a:lnTo>
                  <a:lnTo>
                    <a:pt x="211" y="83"/>
                  </a:lnTo>
                  <a:lnTo>
                    <a:pt x="218" y="84"/>
                  </a:lnTo>
                  <a:lnTo>
                    <a:pt x="224" y="84"/>
                  </a:lnTo>
                  <a:lnTo>
                    <a:pt x="229" y="85"/>
                  </a:lnTo>
                  <a:lnTo>
                    <a:pt x="233" y="87"/>
                  </a:lnTo>
                  <a:lnTo>
                    <a:pt x="237" y="90"/>
                  </a:lnTo>
                  <a:lnTo>
                    <a:pt x="239" y="92"/>
                  </a:lnTo>
                  <a:lnTo>
                    <a:pt x="242" y="95"/>
                  </a:lnTo>
                  <a:lnTo>
                    <a:pt x="243" y="98"/>
                  </a:lnTo>
                  <a:lnTo>
                    <a:pt x="245" y="106"/>
                  </a:lnTo>
                  <a:lnTo>
                    <a:pt x="245" y="116"/>
                  </a:lnTo>
                  <a:lnTo>
                    <a:pt x="244" y="127"/>
                  </a:lnTo>
                  <a:lnTo>
                    <a:pt x="243" y="139"/>
                  </a:lnTo>
                  <a:lnTo>
                    <a:pt x="242" y="153"/>
                  </a:lnTo>
                  <a:lnTo>
                    <a:pt x="242" y="167"/>
                  </a:lnTo>
                  <a:lnTo>
                    <a:pt x="242" y="182"/>
                  </a:lnTo>
                  <a:lnTo>
                    <a:pt x="243" y="198"/>
                  </a:lnTo>
                  <a:lnTo>
                    <a:pt x="246" y="216"/>
                  </a:lnTo>
                  <a:lnTo>
                    <a:pt x="253" y="234"/>
                  </a:lnTo>
                  <a:lnTo>
                    <a:pt x="257" y="243"/>
                  </a:lnTo>
                  <a:lnTo>
                    <a:pt x="263" y="252"/>
                  </a:lnTo>
                  <a:lnTo>
                    <a:pt x="268" y="262"/>
                  </a:lnTo>
                  <a:lnTo>
                    <a:pt x="275" y="271"/>
                  </a:lnTo>
                  <a:lnTo>
                    <a:pt x="288" y="271"/>
                  </a:lnTo>
                  <a:lnTo>
                    <a:pt x="302" y="271"/>
                  </a:lnTo>
                  <a:lnTo>
                    <a:pt x="316" y="271"/>
                  </a:lnTo>
                  <a:lnTo>
                    <a:pt x="330" y="270"/>
                  </a:lnTo>
                  <a:lnTo>
                    <a:pt x="361" y="265"/>
                  </a:lnTo>
                  <a:lnTo>
                    <a:pt x="393" y="259"/>
                  </a:lnTo>
                  <a:lnTo>
                    <a:pt x="426" y="252"/>
                  </a:lnTo>
                  <a:lnTo>
                    <a:pt x="462" y="245"/>
                  </a:lnTo>
                  <a:lnTo>
                    <a:pt x="499" y="237"/>
                  </a:lnTo>
                  <a:lnTo>
                    <a:pt x="537" y="230"/>
                  </a:lnTo>
                  <a:lnTo>
                    <a:pt x="559" y="262"/>
                  </a:lnTo>
                  <a:lnTo>
                    <a:pt x="579" y="285"/>
                  </a:lnTo>
                  <a:lnTo>
                    <a:pt x="587" y="293"/>
                  </a:lnTo>
                  <a:lnTo>
                    <a:pt x="596" y="301"/>
                  </a:lnTo>
                  <a:lnTo>
                    <a:pt x="604" y="306"/>
                  </a:lnTo>
                  <a:lnTo>
                    <a:pt x="611" y="311"/>
                  </a:lnTo>
                  <a:lnTo>
                    <a:pt x="617" y="314"/>
                  </a:lnTo>
                  <a:lnTo>
                    <a:pt x="622" y="315"/>
                  </a:lnTo>
                  <a:lnTo>
                    <a:pt x="628" y="316"/>
                  </a:lnTo>
                  <a:lnTo>
                    <a:pt x="634" y="316"/>
                  </a:lnTo>
                  <a:lnTo>
                    <a:pt x="640" y="315"/>
                  </a:lnTo>
                  <a:lnTo>
                    <a:pt x="645" y="313"/>
                  </a:lnTo>
                  <a:lnTo>
                    <a:pt x="649" y="309"/>
                  </a:lnTo>
                  <a:lnTo>
                    <a:pt x="654" y="307"/>
                  </a:lnTo>
                  <a:lnTo>
                    <a:pt x="674" y="290"/>
                  </a:lnTo>
                  <a:lnTo>
                    <a:pt x="697" y="270"/>
                  </a:lnTo>
                  <a:lnTo>
                    <a:pt x="704" y="266"/>
                  </a:lnTo>
                  <a:lnTo>
                    <a:pt x="711" y="262"/>
                  </a:lnTo>
                  <a:lnTo>
                    <a:pt x="719" y="258"/>
                  </a:lnTo>
                  <a:lnTo>
                    <a:pt x="728" y="256"/>
                  </a:lnTo>
                  <a:lnTo>
                    <a:pt x="736" y="253"/>
                  </a:lnTo>
                  <a:lnTo>
                    <a:pt x="746" y="252"/>
                  </a:lnTo>
                  <a:lnTo>
                    <a:pt x="757" y="252"/>
                  </a:lnTo>
                  <a:lnTo>
                    <a:pt x="767" y="253"/>
                  </a:lnTo>
                  <a:lnTo>
                    <a:pt x="807" y="258"/>
                  </a:lnTo>
                  <a:lnTo>
                    <a:pt x="834" y="260"/>
                  </a:lnTo>
                  <a:lnTo>
                    <a:pt x="854" y="262"/>
                  </a:lnTo>
                  <a:lnTo>
                    <a:pt x="867" y="260"/>
                  </a:lnTo>
                  <a:lnTo>
                    <a:pt x="878" y="260"/>
                  </a:lnTo>
                  <a:lnTo>
                    <a:pt x="891" y="259"/>
                  </a:lnTo>
                  <a:lnTo>
                    <a:pt x="907" y="260"/>
                  </a:lnTo>
                  <a:lnTo>
                    <a:pt x="932" y="262"/>
                  </a:lnTo>
                  <a:lnTo>
                    <a:pt x="924" y="270"/>
                  </a:lnTo>
                  <a:lnTo>
                    <a:pt x="916" y="280"/>
                  </a:lnTo>
                  <a:lnTo>
                    <a:pt x="907" y="293"/>
                  </a:lnTo>
                  <a:lnTo>
                    <a:pt x="898" y="308"/>
                  </a:lnTo>
                  <a:lnTo>
                    <a:pt x="878" y="343"/>
                  </a:lnTo>
                  <a:lnTo>
                    <a:pt x="858" y="382"/>
                  </a:lnTo>
                  <a:lnTo>
                    <a:pt x="836" y="423"/>
                  </a:lnTo>
                  <a:lnTo>
                    <a:pt x="814" y="462"/>
                  </a:lnTo>
                  <a:lnTo>
                    <a:pt x="802" y="480"/>
                  </a:lnTo>
                  <a:lnTo>
                    <a:pt x="791" y="496"/>
                  </a:lnTo>
                  <a:lnTo>
                    <a:pt x="779" y="512"/>
                  </a:lnTo>
                  <a:lnTo>
                    <a:pt x="767" y="524"/>
                  </a:lnTo>
                  <a:lnTo>
                    <a:pt x="763" y="530"/>
                  </a:lnTo>
                  <a:lnTo>
                    <a:pt x="758" y="538"/>
                  </a:lnTo>
                  <a:lnTo>
                    <a:pt x="753" y="547"/>
                  </a:lnTo>
                  <a:lnTo>
                    <a:pt x="750" y="556"/>
                  </a:lnTo>
                  <a:lnTo>
                    <a:pt x="744" y="577"/>
                  </a:lnTo>
                  <a:lnTo>
                    <a:pt x="738" y="600"/>
                  </a:lnTo>
                  <a:lnTo>
                    <a:pt x="731" y="652"/>
                  </a:lnTo>
                  <a:lnTo>
                    <a:pt x="724" y="708"/>
                  </a:lnTo>
                  <a:lnTo>
                    <a:pt x="719" y="736"/>
                  </a:lnTo>
                  <a:lnTo>
                    <a:pt x="713" y="764"/>
                  </a:lnTo>
                  <a:lnTo>
                    <a:pt x="710" y="777"/>
                  </a:lnTo>
                  <a:lnTo>
                    <a:pt x="706" y="790"/>
                  </a:lnTo>
                  <a:lnTo>
                    <a:pt x="702" y="802"/>
                  </a:lnTo>
                  <a:lnTo>
                    <a:pt x="697" y="814"/>
                  </a:lnTo>
                  <a:lnTo>
                    <a:pt x="691" y="825"/>
                  </a:lnTo>
                  <a:lnTo>
                    <a:pt x="684" y="835"/>
                  </a:lnTo>
                  <a:lnTo>
                    <a:pt x="677" y="846"/>
                  </a:lnTo>
                  <a:lnTo>
                    <a:pt x="670" y="855"/>
                  </a:lnTo>
                  <a:lnTo>
                    <a:pt x="661" y="863"/>
                  </a:lnTo>
                  <a:lnTo>
                    <a:pt x="652" y="870"/>
                  </a:lnTo>
                  <a:lnTo>
                    <a:pt x="641" y="876"/>
                  </a:lnTo>
                  <a:lnTo>
                    <a:pt x="629" y="881"/>
                  </a:lnTo>
                  <a:lnTo>
                    <a:pt x="597" y="891"/>
                  </a:lnTo>
                  <a:lnTo>
                    <a:pt x="566" y="900"/>
                  </a:lnTo>
                  <a:lnTo>
                    <a:pt x="537" y="907"/>
                  </a:lnTo>
                  <a:lnTo>
                    <a:pt x="509" y="913"/>
                  </a:lnTo>
                  <a:lnTo>
                    <a:pt x="482" y="918"/>
                  </a:lnTo>
                  <a:lnTo>
                    <a:pt x="458" y="922"/>
                  </a:lnTo>
                  <a:lnTo>
                    <a:pt x="433" y="924"/>
                  </a:lnTo>
                  <a:lnTo>
                    <a:pt x="410" y="925"/>
                  </a:lnTo>
                  <a:lnTo>
                    <a:pt x="388" y="925"/>
                  </a:lnTo>
                  <a:lnTo>
                    <a:pt x="367" y="924"/>
                  </a:lnTo>
                  <a:lnTo>
                    <a:pt x="347" y="922"/>
                  </a:lnTo>
                  <a:lnTo>
                    <a:pt x="328" y="919"/>
                  </a:lnTo>
                  <a:lnTo>
                    <a:pt x="309" y="916"/>
                  </a:lnTo>
                  <a:lnTo>
                    <a:pt x="292" y="912"/>
                  </a:lnTo>
                  <a:lnTo>
                    <a:pt x="275" y="907"/>
                  </a:lnTo>
                  <a:lnTo>
                    <a:pt x="260" y="903"/>
                  </a:lnTo>
                  <a:lnTo>
                    <a:pt x="231" y="892"/>
                  </a:lnTo>
                  <a:lnTo>
                    <a:pt x="205" y="882"/>
                  </a:lnTo>
                  <a:lnTo>
                    <a:pt x="181" y="871"/>
                  </a:lnTo>
                  <a:lnTo>
                    <a:pt x="160" y="861"/>
                  </a:lnTo>
                  <a:lnTo>
                    <a:pt x="140" y="851"/>
                  </a:lnTo>
                  <a:lnTo>
                    <a:pt x="121" y="846"/>
                  </a:lnTo>
                  <a:lnTo>
                    <a:pt x="113" y="843"/>
                  </a:lnTo>
                  <a:lnTo>
                    <a:pt x="104" y="841"/>
                  </a:lnTo>
                  <a:lnTo>
                    <a:pt x="96" y="841"/>
                  </a:lnTo>
                  <a:lnTo>
                    <a:pt x="87" y="841"/>
                  </a:lnTo>
                  <a:lnTo>
                    <a:pt x="73" y="839"/>
                  </a:lnTo>
                  <a:lnTo>
                    <a:pt x="61" y="835"/>
                  </a:lnTo>
                  <a:lnTo>
                    <a:pt x="50" y="830"/>
                  </a:lnTo>
                  <a:lnTo>
                    <a:pt x="39" y="825"/>
                  </a:lnTo>
                  <a:lnTo>
                    <a:pt x="30" y="819"/>
                  </a:lnTo>
                  <a:lnTo>
                    <a:pt x="23" y="812"/>
                  </a:lnTo>
                  <a:lnTo>
                    <a:pt x="16" y="804"/>
                  </a:lnTo>
                  <a:lnTo>
                    <a:pt x="11" y="795"/>
                  </a:lnTo>
                  <a:lnTo>
                    <a:pt x="7" y="788"/>
                  </a:lnTo>
                  <a:lnTo>
                    <a:pt x="4" y="780"/>
                  </a:lnTo>
                  <a:lnTo>
                    <a:pt x="2" y="772"/>
                  </a:lnTo>
                  <a:lnTo>
                    <a:pt x="1" y="764"/>
                  </a:lnTo>
                  <a:lnTo>
                    <a:pt x="2" y="757"/>
                  </a:lnTo>
                  <a:lnTo>
                    <a:pt x="3" y="751"/>
                  </a:lnTo>
                  <a:lnTo>
                    <a:pt x="6" y="745"/>
                  </a:lnTo>
                  <a:lnTo>
                    <a:pt x="10" y="74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Freeform 124"/>
            <p:cNvSpPr/>
            <p:nvPr/>
          </p:nvSpPr>
          <p:spPr>
            <a:xfrm>
              <a:off x="8094600" y="3969000"/>
              <a:ext cx="140760" cy="1508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32" h="925">
                  <a:moveTo>
                    <a:pt x="10" y="740"/>
                  </a:moveTo>
                  <a:lnTo>
                    <a:pt x="6" y="735"/>
                  </a:lnTo>
                  <a:lnTo>
                    <a:pt x="2" y="729"/>
                  </a:lnTo>
                  <a:lnTo>
                    <a:pt x="1" y="723"/>
                  </a:lnTo>
                  <a:lnTo>
                    <a:pt x="0" y="717"/>
                  </a:lnTo>
                  <a:lnTo>
                    <a:pt x="2" y="704"/>
                  </a:lnTo>
                  <a:lnTo>
                    <a:pt x="7" y="690"/>
                  </a:lnTo>
                  <a:lnTo>
                    <a:pt x="11" y="674"/>
                  </a:lnTo>
                  <a:lnTo>
                    <a:pt x="17" y="654"/>
                  </a:lnTo>
                  <a:lnTo>
                    <a:pt x="18" y="642"/>
                  </a:lnTo>
                  <a:lnTo>
                    <a:pt x="20" y="631"/>
                  </a:lnTo>
                  <a:lnTo>
                    <a:pt x="20" y="617"/>
                  </a:lnTo>
                  <a:lnTo>
                    <a:pt x="18" y="601"/>
                  </a:lnTo>
                  <a:lnTo>
                    <a:pt x="32" y="598"/>
                  </a:lnTo>
                  <a:lnTo>
                    <a:pt x="44" y="593"/>
                  </a:lnTo>
                  <a:lnTo>
                    <a:pt x="54" y="589"/>
                  </a:lnTo>
                  <a:lnTo>
                    <a:pt x="62" y="582"/>
                  </a:lnTo>
                  <a:lnTo>
                    <a:pt x="68" y="573"/>
                  </a:lnTo>
                  <a:lnTo>
                    <a:pt x="72" y="564"/>
                  </a:lnTo>
                  <a:lnTo>
                    <a:pt x="76" y="555"/>
                  </a:lnTo>
                  <a:lnTo>
                    <a:pt x="78" y="544"/>
                  </a:lnTo>
                  <a:lnTo>
                    <a:pt x="79" y="534"/>
                  </a:lnTo>
                  <a:lnTo>
                    <a:pt x="80" y="522"/>
                  </a:lnTo>
                  <a:lnTo>
                    <a:pt x="80" y="510"/>
                  </a:lnTo>
                  <a:lnTo>
                    <a:pt x="79" y="497"/>
                  </a:lnTo>
                  <a:lnTo>
                    <a:pt x="77" y="472"/>
                  </a:lnTo>
                  <a:lnTo>
                    <a:pt x="73" y="446"/>
                  </a:lnTo>
                  <a:lnTo>
                    <a:pt x="92" y="434"/>
                  </a:lnTo>
                  <a:lnTo>
                    <a:pt x="105" y="425"/>
                  </a:lnTo>
                  <a:lnTo>
                    <a:pt x="110" y="422"/>
                  </a:lnTo>
                  <a:lnTo>
                    <a:pt x="113" y="418"/>
                  </a:lnTo>
                  <a:lnTo>
                    <a:pt x="117" y="413"/>
                  </a:lnTo>
                  <a:lnTo>
                    <a:pt x="119" y="409"/>
                  </a:lnTo>
                  <a:lnTo>
                    <a:pt x="127" y="383"/>
                  </a:lnTo>
                  <a:lnTo>
                    <a:pt x="142" y="332"/>
                  </a:lnTo>
                  <a:lnTo>
                    <a:pt x="149" y="308"/>
                  </a:lnTo>
                  <a:lnTo>
                    <a:pt x="154" y="290"/>
                  </a:lnTo>
                  <a:lnTo>
                    <a:pt x="157" y="272"/>
                  </a:lnTo>
                  <a:lnTo>
                    <a:pt x="157" y="257"/>
                  </a:lnTo>
                  <a:lnTo>
                    <a:pt x="157" y="244"/>
                  </a:lnTo>
                  <a:lnTo>
                    <a:pt x="155" y="232"/>
                  </a:lnTo>
                  <a:lnTo>
                    <a:pt x="152" y="221"/>
                  </a:lnTo>
                  <a:lnTo>
                    <a:pt x="147" y="211"/>
                  </a:lnTo>
                  <a:lnTo>
                    <a:pt x="136" y="193"/>
                  </a:lnTo>
                  <a:lnTo>
                    <a:pt x="122" y="174"/>
                  </a:lnTo>
                  <a:lnTo>
                    <a:pt x="117" y="163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7" y="124"/>
                  </a:lnTo>
                  <a:lnTo>
                    <a:pt x="91" y="109"/>
                  </a:lnTo>
                  <a:lnTo>
                    <a:pt x="87" y="95"/>
                  </a:lnTo>
                  <a:lnTo>
                    <a:pt x="86" y="82"/>
                  </a:lnTo>
                  <a:lnTo>
                    <a:pt x="85" y="71"/>
                  </a:lnTo>
                  <a:lnTo>
                    <a:pt x="85" y="62"/>
                  </a:lnTo>
                  <a:lnTo>
                    <a:pt x="86" y="52"/>
                  </a:lnTo>
                  <a:lnTo>
                    <a:pt x="87" y="45"/>
                  </a:lnTo>
                  <a:lnTo>
                    <a:pt x="90" y="38"/>
                  </a:lnTo>
                  <a:lnTo>
                    <a:pt x="94" y="27"/>
                  </a:lnTo>
                  <a:lnTo>
                    <a:pt x="98" y="16"/>
                  </a:lnTo>
                  <a:lnTo>
                    <a:pt x="99" y="13"/>
                  </a:lnTo>
                  <a:lnTo>
                    <a:pt x="99" y="8"/>
                  </a:lnTo>
                  <a:lnTo>
                    <a:pt x="98" y="5"/>
                  </a:lnTo>
                  <a:lnTo>
                    <a:pt x="97" y="0"/>
                  </a:lnTo>
                  <a:lnTo>
                    <a:pt x="106" y="5"/>
                  </a:lnTo>
                  <a:lnTo>
                    <a:pt x="114" y="10"/>
                  </a:lnTo>
                  <a:lnTo>
                    <a:pt x="120" y="16"/>
                  </a:lnTo>
                  <a:lnTo>
                    <a:pt x="126" y="22"/>
                  </a:lnTo>
                  <a:lnTo>
                    <a:pt x="136" y="36"/>
                  </a:lnTo>
                  <a:lnTo>
                    <a:pt x="146" y="50"/>
                  </a:lnTo>
                  <a:lnTo>
                    <a:pt x="150" y="57"/>
                  </a:lnTo>
                  <a:lnTo>
                    <a:pt x="155" y="63"/>
                  </a:lnTo>
                  <a:lnTo>
                    <a:pt x="161" y="69"/>
                  </a:lnTo>
                  <a:lnTo>
                    <a:pt x="168" y="73"/>
                  </a:lnTo>
                  <a:lnTo>
                    <a:pt x="176" y="78"/>
                  </a:lnTo>
                  <a:lnTo>
                    <a:pt x="187" y="80"/>
                  </a:lnTo>
                  <a:lnTo>
                    <a:pt x="198" y="83"/>
                  </a:lnTo>
                  <a:lnTo>
                    <a:pt x="211" y="83"/>
                  </a:lnTo>
                  <a:lnTo>
                    <a:pt x="218" y="84"/>
                  </a:lnTo>
                  <a:lnTo>
                    <a:pt x="224" y="84"/>
                  </a:lnTo>
                  <a:lnTo>
                    <a:pt x="229" y="85"/>
                  </a:lnTo>
                  <a:lnTo>
                    <a:pt x="233" y="87"/>
                  </a:lnTo>
                  <a:lnTo>
                    <a:pt x="237" y="90"/>
                  </a:lnTo>
                  <a:lnTo>
                    <a:pt x="239" y="92"/>
                  </a:lnTo>
                  <a:lnTo>
                    <a:pt x="242" y="95"/>
                  </a:lnTo>
                  <a:lnTo>
                    <a:pt x="243" y="98"/>
                  </a:lnTo>
                  <a:lnTo>
                    <a:pt x="245" y="106"/>
                  </a:lnTo>
                  <a:lnTo>
                    <a:pt x="245" y="116"/>
                  </a:lnTo>
                  <a:lnTo>
                    <a:pt x="244" y="127"/>
                  </a:lnTo>
                  <a:lnTo>
                    <a:pt x="243" y="139"/>
                  </a:lnTo>
                  <a:lnTo>
                    <a:pt x="242" y="153"/>
                  </a:lnTo>
                  <a:lnTo>
                    <a:pt x="242" y="167"/>
                  </a:lnTo>
                  <a:lnTo>
                    <a:pt x="242" y="182"/>
                  </a:lnTo>
                  <a:lnTo>
                    <a:pt x="243" y="198"/>
                  </a:lnTo>
                  <a:lnTo>
                    <a:pt x="246" y="216"/>
                  </a:lnTo>
                  <a:lnTo>
                    <a:pt x="253" y="234"/>
                  </a:lnTo>
                  <a:lnTo>
                    <a:pt x="257" y="243"/>
                  </a:lnTo>
                  <a:lnTo>
                    <a:pt x="263" y="252"/>
                  </a:lnTo>
                  <a:lnTo>
                    <a:pt x="268" y="262"/>
                  </a:lnTo>
                  <a:lnTo>
                    <a:pt x="275" y="271"/>
                  </a:lnTo>
                  <a:lnTo>
                    <a:pt x="288" y="271"/>
                  </a:lnTo>
                  <a:lnTo>
                    <a:pt x="302" y="271"/>
                  </a:lnTo>
                  <a:lnTo>
                    <a:pt x="316" y="271"/>
                  </a:lnTo>
                  <a:lnTo>
                    <a:pt x="330" y="270"/>
                  </a:lnTo>
                  <a:lnTo>
                    <a:pt x="361" y="265"/>
                  </a:lnTo>
                  <a:lnTo>
                    <a:pt x="393" y="259"/>
                  </a:lnTo>
                  <a:lnTo>
                    <a:pt x="426" y="252"/>
                  </a:lnTo>
                  <a:lnTo>
                    <a:pt x="462" y="245"/>
                  </a:lnTo>
                  <a:lnTo>
                    <a:pt x="499" y="237"/>
                  </a:lnTo>
                  <a:lnTo>
                    <a:pt x="537" y="230"/>
                  </a:lnTo>
                  <a:lnTo>
                    <a:pt x="559" y="262"/>
                  </a:lnTo>
                  <a:lnTo>
                    <a:pt x="579" y="285"/>
                  </a:lnTo>
                  <a:lnTo>
                    <a:pt x="587" y="293"/>
                  </a:lnTo>
                  <a:lnTo>
                    <a:pt x="596" y="301"/>
                  </a:lnTo>
                  <a:lnTo>
                    <a:pt x="604" y="306"/>
                  </a:lnTo>
                  <a:lnTo>
                    <a:pt x="611" y="311"/>
                  </a:lnTo>
                  <a:lnTo>
                    <a:pt x="617" y="314"/>
                  </a:lnTo>
                  <a:lnTo>
                    <a:pt x="622" y="315"/>
                  </a:lnTo>
                  <a:lnTo>
                    <a:pt x="628" y="316"/>
                  </a:lnTo>
                  <a:lnTo>
                    <a:pt x="634" y="316"/>
                  </a:lnTo>
                  <a:lnTo>
                    <a:pt x="640" y="315"/>
                  </a:lnTo>
                  <a:lnTo>
                    <a:pt x="645" y="313"/>
                  </a:lnTo>
                  <a:lnTo>
                    <a:pt x="649" y="309"/>
                  </a:lnTo>
                  <a:lnTo>
                    <a:pt x="654" y="307"/>
                  </a:lnTo>
                  <a:lnTo>
                    <a:pt x="674" y="290"/>
                  </a:lnTo>
                  <a:lnTo>
                    <a:pt x="697" y="270"/>
                  </a:lnTo>
                  <a:lnTo>
                    <a:pt x="704" y="266"/>
                  </a:lnTo>
                  <a:lnTo>
                    <a:pt x="711" y="262"/>
                  </a:lnTo>
                  <a:lnTo>
                    <a:pt x="719" y="258"/>
                  </a:lnTo>
                  <a:lnTo>
                    <a:pt x="728" y="256"/>
                  </a:lnTo>
                  <a:lnTo>
                    <a:pt x="736" y="253"/>
                  </a:lnTo>
                  <a:lnTo>
                    <a:pt x="746" y="252"/>
                  </a:lnTo>
                  <a:lnTo>
                    <a:pt x="757" y="252"/>
                  </a:lnTo>
                  <a:lnTo>
                    <a:pt x="767" y="253"/>
                  </a:lnTo>
                  <a:lnTo>
                    <a:pt x="807" y="258"/>
                  </a:lnTo>
                  <a:lnTo>
                    <a:pt x="834" y="260"/>
                  </a:lnTo>
                  <a:lnTo>
                    <a:pt x="854" y="262"/>
                  </a:lnTo>
                  <a:lnTo>
                    <a:pt x="867" y="260"/>
                  </a:lnTo>
                  <a:lnTo>
                    <a:pt x="878" y="260"/>
                  </a:lnTo>
                  <a:lnTo>
                    <a:pt x="891" y="259"/>
                  </a:lnTo>
                  <a:lnTo>
                    <a:pt x="907" y="260"/>
                  </a:lnTo>
                  <a:lnTo>
                    <a:pt x="932" y="262"/>
                  </a:lnTo>
                  <a:lnTo>
                    <a:pt x="924" y="270"/>
                  </a:lnTo>
                  <a:lnTo>
                    <a:pt x="916" y="280"/>
                  </a:lnTo>
                  <a:lnTo>
                    <a:pt x="907" y="293"/>
                  </a:lnTo>
                  <a:lnTo>
                    <a:pt x="898" y="308"/>
                  </a:lnTo>
                  <a:lnTo>
                    <a:pt x="878" y="343"/>
                  </a:lnTo>
                  <a:lnTo>
                    <a:pt x="858" y="382"/>
                  </a:lnTo>
                  <a:lnTo>
                    <a:pt x="836" y="423"/>
                  </a:lnTo>
                  <a:lnTo>
                    <a:pt x="814" y="462"/>
                  </a:lnTo>
                  <a:lnTo>
                    <a:pt x="802" y="480"/>
                  </a:lnTo>
                  <a:lnTo>
                    <a:pt x="791" y="496"/>
                  </a:lnTo>
                  <a:lnTo>
                    <a:pt x="779" y="512"/>
                  </a:lnTo>
                  <a:lnTo>
                    <a:pt x="767" y="524"/>
                  </a:lnTo>
                  <a:lnTo>
                    <a:pt x="763" y="530"/>
                  </a:lnTo>
                  <a:lnTo>
                    <a:pt x="758" y="538"/>
                  </a:lnTo>
                  <a:lnTo>
                    <a:pt x="753" y="547"/>
                  </a:lnTo>
                  <a:lnTo>
                    <a:pt x="750" y="556"/>
                  </a:lnTo>
                  <a:lnTo>
                    <a:pt x="744" y="577"/>
                  </a:lnTo>
                  <a:lnTo>
                    <a:pt x="738" y="600"/>
                  </a:lnTo>
                  <a:lnTo>
                    <a:pt x="731" y="652"/>
                  </a:lnTo>
                  <a:lnTo>
                    <a:pt x="724" y="708"/>
                  </a:lnTo>
                  <a:lnTo>
                    <a:pt x="719" y="736"/>
                  </a:lnTo>
                  <a:lnTo>
                    <a:pt x="713" y="764"/>
                  </a:lnTo>
                  <a:lnTo>
                    <a:pt x="710" y="777"/>
                  </a:lnTo>
                  <a:lnTo>
                    <a:pt x="706" y="790"/>
                  </a:lnTo>
                  <a:lnTo>
                    <a:pt x="702" y="802"/>
                  </a:lnTo>
                  <a:lnTo>
                    <a:pt x="697" y="814"/>
                  </a:lnTo>
                  <a:lnTo>
                    <a:pt x="691" y="825"/>
                  </a:lnTo>
                  <a:lnTo>
                    <a:pt x="684" y="835"/>
                  </a:lnTo>
                  <a:lnTo>
                    <a:pt x="677" y="846"/>
                  </a:lnTo>
                  <a:lnTo>
                    <a:pt x="670" y="855"/>
                  </a:lnTo>
                  <a:lnTo>
                    <a:pt x="661" y="863"/>
                  </a:lnTo>
                  <a:lnTo>
                    <a:pt x="652" y="870"/>
                  </a:lnTo>
                  <a:lnTo>
                    <a:pt x="641" y="876"/>
                  </a:lnTo>
                  <a:lnTo>
                    <a:pt x="629" y="881"/>
                  </a:lnTo>
                  <a:lnTo>
                    <a:pt x="597" y="891"/>
                  </a:lnTo>
                  <a:lnTo>
                    <a:pt x="566" y="900"/>
                  </a:lnTo>
                  <a:lnTo>
                    <a:pt x="537" y="907"/>
                  </a:lnTo>
                  <a:lnTo>
                    <a:pt x="509" y="913"/>
                  </a:lnTo>
                  <a:lnTo>
                    <a:pt x="482" y="918"/>
                  </a:lnTo>
                  <a:lnTo>
                    <a:pt x="458" y="922"/>
                  </a:lnTo>
                  <a:lnTo>
                    <a:pt x="433" y="924"/>
                  </a:lnTo>
                  <a:lnTo>
                    <a:pt x="410" y="925"/>
                  </a:lnTo>
                  <a:lnTo>
                    <a:pt x="388" y="925"/>
                  </a:lnTo>
                  <a:lnTo>
                    <a:pt x="367" y="924"/>
                  </a:lnTo>
                  <a:lnTo>
                    <a:pt x="347" y="922"/>
                  </a:lnTo>
                  <a:lnTo>
                    <a:pt x="328" y="919"/>
                  </a:lnTo>
                  <a:lnTo>
                    <a:pt x="309" y="916"/>
                  </a:lnTo>
                  <a:lnTo>
                    <a:pt x="292" y="912"/>
                  </a:lnTo>
                  <a:lnTo>
                    <a:pt x="275" y="907"/>
                  </a:lnTo>
                  <a:lnTo>
                    <a:pt x="260" y="903"/>
                  </a:lnTo>
                  <a:lnTo>
                    <a:pt x="231" y="892"/>
                  </a:lnTo>
                  <a:lnTo>
                    <a:pt x="205" y="882"/>
                  </a:lnTo>
                  <a:lnTo>
                    <a:pt x="181" y="871"/>
                  </a:lnTo>
                  <a:lnTo>
                    <a:pt x="160" y="861"/>
                  </a:lnTo>
                  <a:lnTo>
                    <a:pt x="140" y="851"/>
                  </a:lnTo>
                  <a:lnTo>
                    <a:pt x="121" y="846"/>
                  </a:lnTo>
                  <a:lnTo>
                    <a:pt x="113" y="843"/>
                  </a:lnTo>
                  <a:lnTo>
                    <a:pt x="104" y="841"/>
                  </a:lnTo>
                  <a:lnTo>
                    <a:pt x="96" y="841"/>
                  </a:lnTo>
                  <a:lnTo>
                    <a:pt x="87" y="841"/>
                  </a:lnTo>
                  <a:lnTo>
                    <a:pt x="73" y="839"/>
                  </a:lnTo>
                  <a:lnTo>
                    <a:pt x="61" y="835"/>
                  </a:lnTo>
                  <a:lnTo>
                    <a:pt x="50" y="830"/>
                  </a:lnTo>
                  <a:lnTo>
                    <a:pt x="39" y="825"/>
                  </a:lnTo>
                  <a:lnTo>
                    <a:pt x="30" y="819"/>
                  </a:lnTo>
                  <a:lnTo>
                    <a:pt x="23" y="812"/>
                  </a:lnTo>
                  <a:lnTo>
                    <a:pt x="16" y="804"/>
                  </a:lnTo>
                  <a:lnTo>
                    <a:pt x="11" y="795"/>
                  </a:lnTo>
                  <a:lnTo>
                    <a:pt x="7" y="788"/>
                  </a:lnTo>
                  <a:lnTo>
                    <a:pt x="4" y="780"/>
                  </a:lnTo>
                  <a:lnTo>
                    <a:pt x="2" y="772"/>
                  </a:lnTo>
                  <a:lnTo>
                    <a:pt x="1" y="764"/>
                  </a:lnTo>
                  <a:lnTo>
                    <a:pt x="2" y="757"/>
                  </a:lnTo>
                  <a:lnTo>
                    <a:pt x="3" y="751"/>
                  </a:lnTo>
                  <a:lnTo>
                    <a:pt x="6" y="745"/>
                  </a:lnTo>
                  <a:lnTo>
                    <a:pt x="10" y="74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Freeform 125"/>
            <p:cNvSpPr/>
            <p:nvPr/>
          </p:nvSpPr>
          <p:spPr>
            <a:xfrm>
              <a:off x="8093160" y="3900240"/>
              <a:ext cx="235800" cy="1108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568" h="689">
                  <a:moveTo>
                    <a:pt x="548" y="648"/>
                  </a:moveTo>
                  <a:lnTo>
                    <a:pt x="508" y="655"/>
                  </a:lnTo>
                  <a:lnTo>
                    <a:pt x="471" y="663"/>
                  </a:lnTo>
                  <a:lnTo>
                    <a:pt x="435" y="670"/>
                  </a:lnTo>
                  <a:lnTo>
                    <a:pt x="402" y="677"/>
                  </a:lnTo>
                  <a:lnTo>
                    <a:pt x="371" y="683"/>
                  </a:lnTo>
                  <a:lnTo>
                    <a:pt x="340" y="688"/>
                  </a:lnTo>
                  <a:lnTo>
                    <a:pt x="326" y="689"/>
                  </a:lnTo>
                  <a:lnTo>
                    <a:pt x="312" y="689"/>
                  </a:lnTo>
                  <a:lnTo>
                    <a:pt x="299" y="689"/>
                  </a:lnTo>
                  <a:lnTo>
                    <a:pt x="286" y="689"/>
                  </a:lnTo>
                  <a:lnTo>
                    <a:pt x="279" y="680"/>
                  </a:lnTo>
                  <a:lnTo>
                    <a:pt x="274" y="670"/>
                  </a:lnTo>
                  <a:lnTo>
                    <a:pt x="268" y="661"/>
                  </a:lnTo>
                  <a:lnTo>
                    <a:pt x="264" y="652"/>
                  </a:lnTo>
                  <a:lnTo>
                    <a:pt x="257" y="634"/>
                  </a:lnTo>
                  <a:lnTo>
                    <a:pt x="254" y="616"/>
                  </a:lnTo>
                  <a:lnTo>
                    <a:pt x="253" y="600"/>
                  </a:lnTo>
                  <a:lnTo>
                    <a:pt x="253" y="585"/>
                  </a:lnTo>
                  <a:lnTo>
                    <a:pt x="253" y="571"/>
                  </a:lnTo>
                  <a:lnTo>
                    <a:pt x="254" y="557"/>
                  </a:lnTo>
                  <a:lnTo>
                    <a:pt x="255" y="545"/>
                  </a:lnTo>
                  <a:lnTo>
                    <a:pt x="256" y="534"/>
                  </a:lnTo>
                  <a:lnTo>
                    <a:pt x="256" y="524"/>
                  </a:lnTo>
                  <a:lnTo>
                    <a:pt x="254" y="516"/>
                  </a:lnTo>
                  <a:lnTo>
                    <a:pt x="253" y="513"/>
                  </a:lnTo>
                  <a:lnTo>
                    <a:pt x="250" y="510"/>
                  </a:lnTo>
                  <a:lnTo>
                    <a:pt x="248" y="508"/>
                  </a:lnTo>
                  <a:lnTo>
                    <a:pt x="244" y="505"/>
                  </a:lnTo>
                  <a:lnTo>
                    <a:pt x="240" y="503"/>
                  </a:lnTo>
                  <a:lnTo>
                    <a:pt x="235" y="502"/>
                  </a:lnTo>
                  <a:lnTo>
                    <a:pt x="229" y="502"/>
                  </a:lnTo>
                  <a:lnTo>
                    <a:pt x="222" y="501"/>
                  </a:lnTo>
                  <a:lnTo>
                    <a:pt x="209" y="501"/>
                  </a:lnTo>
                  <a:lnTo>
                    <a:pt x="198" y="498"/>
                  </a:lnTo>
                  <a:lnTo>
                    <a:pt x="187" y="496"/>
                  </a:lnTo>
                  <a:lnTo>
                    <a:pt x="179" y="491"/>
                  </a:lnTo>
                  <a:lnTo>
                    <a:pt x="172" y="487"/>
                  </a:lnTo>
                  <a:lnTo>
                    <a:pt x="166" y="481"/>
                  </a:lnTo>
                  <a:lnTo>
                    <a:pt x="161" y="475"/>
                  </a:lnTo>
                  <a:lnTo>
                    <a:pt x="157" y="468"/>
                  </a:lnTo>
                  <a:lnTo>
                    <a:pt x="147" y="454"/>
                  </a:lnTo>
                  <a:lnTo>
                    <a:pt x="137" y="440"/>
                  </a:lnTo>
                  <a:lnTo>
                    <a:pt x="131" y="434"/>
                  </a:lnTo>
                  <a:lnTo>
                    <a:pt x="125" y="428"/>
                  </a:lnTo>
                  <a:lnTo>
                    <a:pt x="117" y="423"/>
                  </a:lnTo>
                  <a:lnTo>
                    <a:pt x="108" y="418"/>
                  </a:lnTo>
                  <a:lnTo>
                    <a:pt x="90" y="391"/>
                  </a:lnTo>
                  <a:lnTo>
                    <a:pt x="77" y="369"/>
                  </a:lnTo>
                  <a:lnTo>
                    <a:pt x="68" y="349"/>
                  </a:lnTo>
                  <a:lnTo>
                    <a:pt x="60" y="331"/>
                  </a:lnTo>
                  <a:lnTo>
                    <a:pt x="55" y="317"/>
                  </a:lnTo>
                  <a:lnTo>
                    <a:pt x="52" y="303"/>
                  </a:lnTo>
                  <a:lnTo>
                    <a:pt x="50" y="291"/>
                  </a:lnTo>
                  <a:lnTo>
                    <a:pt x="48" y="279"/>
                  </a:lnTo>
                  <a:lnTo>
                    <a:pt x="47" y="266"/>
                  </a:lnTo>
                  <a:lnTo>
                    <a:pt x="46" y="253"/>
                  </a:lnTo>
                  <a:lnTo>
                    <a:pt x="43" y="239"/>
                  </a:lnTo>
                  <a:lnTo>
                    <a:pt x="40" y="223"/>
                  </a:lnTo>
                  <a:lnTo>
                    <a:pt x="34" y="204"/>
                  </a:lnTo>
                  <a:lnTo>
                    <a:pt x="26" y="182"/>
                  </a:lnTo>
                  <a:lnTo>
                    <a:pt x="15" y="156"/>
                  </a:lnTo>
                  <a:lnTo>
                    <a:pt x="0" y="127"/>
                  </a:lnTo>
                  <a:lnTo>
                    <a:pt x="18" y="114"/>
                  </a:lnTo>
                  <a:lnTo>
                    <a:pt x="33" y="100"/>
                  </a:lnTo>
                  <a:lnTo>
                    <a:pt x="49" y="87"/>
                  </a:lnTo>
                  <a:lnTo>
                    <a:pt x="65" y="72"/>
                  </a:lnTo>
                  <a:lnTo>
                    <a:pt x="73" y="139"/>
                  </a:lnTo>
                  <a:lnTo>
                    <a:pt x="83" y="138"/>
                  </a:lnTo>
                  <a:lnTo>
                    <a:pt x="111" y="134"/>
                  </a:lnTo>
                  <a:lnTo>
                    <a:pt x="154" y="129"/>
                  </a:lnTo>
                  <a:lnTo>
                    <a:pt x="212" y="122"/>
                  </a:lnTo>
                  <a:lnTo>
                    <a:pt x="281" y="114"/>
                  </a:lnTo>
                  <a:lnTo>
                    <a:pt x="357" y="105"/>
                  </a:lnTo>
                  <a:lnTo>
                    <a:pt x="439" y="96"/>
                  </a:lnTo>
                  <a:lnTo>
                    <a:pt x="526" y="85"/>
                  </a:lnTo>
                  <a:lnTo>
                    <a:pt x="612" y="74"/>
                  </a:lnTo>
                  <a:lnTo>
                    <a:pt x="699" y="64"/>
                  </a:lnTo>
                  <a:lnTo>
                    <a:pt x="779" y="53"/>
                  </a:lnTo>
                  <a:lnTo>
                    <a:pt x="855" y="44"/>
                  </a:lnTo>
                  <a:lnTo>
                    <a:pt x="922" y="35"/>
                  </a:lnTo>
                  <a:lnTo>
                    <a:pt x="977" y="27"/>
                  </a:lnTo>
                  <a:lnTo>
                    <a:pt x="1018" y="20"/>
                  </a:lnTo>
                  <a:lnTo>
                    <a:pt x="1043" y="15"/>
                  </a:lnTo>
                  <a:lnTo>
                    <a:pt x="1071" y="8"/>
                  </a:lnTo>
                  <a:lnTo>
                    <a:pt x="1094" y="4"/>
                  </a:lnTo>
                  <a:lnTo>
                    <a:pt x="1111" y="3"/>
                  </a:lnTo>
                  <a:lnTo>
                    <a:pt x="1126" y="4"/>
                  </a:lnTo>
                  <a:lnTo>
                    <a:pt x="1139" y="6"/>
                  </a:lnTo>
                  <a:lnTo>
                    <a:pt x="1152" y="6"/>
                  </a:lnTo>
                  <a:lnTo>
                    <a:pt x="1166" y="4"/>
                  </a:lnTo>
                  <a:lnTo>
                    <a:pt x="1181" y="0"/>
                  </a:lnTo>
                  <a:lnTo>
                    <a:pt x="1366" y="84"/>
                  </a:lnTo>
                  <a:lnTo>
                    <a:pt x="1358" y="92"/>
                  </a:lnTo>
                  <a:lnTo>
                    <a:pt x="1352" y="99"/>
                  </a:lnTo>
                  <a:lnTo>
                    <a:pt x="1347" y="106"/>
                  </a:lnTo>
                  <a:lnTo>
                    <a:pt x="1345" y="113"/>
                  </a:lnTo>
                  <a:lnTo>
                    <a:pt x="1344" y="120"/>
                  </a:lnTo>
                  <a:lnTo>
                    <a:pt x="1345" y="127"/>
                  </a:lnTo>
                  <a:lnTo>
                    <a:pt x="1347" y="133"/>
                  </a:lnTo>
                  <a:lnTo>
                    <a:pt x="1351" y="140"/>
                  </a:lnTo>
                  <a:lnTo>
                    <a:pt x="1355" y="146"/>
                  </a:lnTo>
                  <a:lnTo>
                    <a:pt x="1361" y="152"/>
                  </a:lnTo>
                  <a:lnTo>
                    <a:pt x="1369" y="157"/>
                  </a:lnTo>
                  <a:lnTo>
                    <a:pt x="1377" y="163"/>
                  </a:lnTo>
                  <a:lnTo>
                    <a:pt x="1396" y="175"/>
                  </a:lnTo>
                  <a:lnTo>
                    <a:pt x="1417" y="187"/>
                  </a:lnTo>
                  <a:lnTo>
                    <a:pt x="1439" y="199"/>
                  </a:lnTo>
                  <a:lnTo>
                    <a:pt x="1463" y="213"/>
                  </a:lnTo>
                  <a:lnTo>
                    <a:pt x="1486" y="227"/>
                  </a:lnTo>
                  <a:lnTo>
                    <a:pt x="1508" y="243"/>
                  </a:lnTo>
                  <a:lnTo>
                    <a:pt x="1519" y="251"/>
                  </a:lnTo>
                  <a:lnTo>
                    <a:pt x="1528" y="260"/>
                  </a:lnTo>
                  <a:lnTo>
                    <a:pt x="1538" y="270"/>
                  </a:lnTo>
                  <a:lnTo>
                    <a:pt x="1546" y="279"/>
                  </a:lnTo>
                  <a:lnTo>
                    <a:pt x="1553" y="289"/>
                  </a:lnTo>
                  <a:lnTo>
                    <a:pt x="1559" y="300"/>
                  </a:lnTo>
                  <a:lnTo>
                    <a:pt x="1564" y="310"/>
                  </a:lnTo>
                  <a:lnTo>
                    <a:pt x="1568" y="323"/>
                  </a:lnTo>
                  <a:lnTo>
                    <a:pt x="1567" y="362"/>
                  </a:lnTo>
                  <a:lnTo>
                    <a:pt x="1563" y="393"/>
                  </a:lnTo>
                  <a:lnTo>
                    <a:pt x="1560" y="416"/>
                  </a:lnTo>
                  <a:lnTo>
                    <a:pt x="1559" y="424"/>
                  </a:lnTo>
                  <a:lnTo>
                    <a:pt x="1548" y="426"/>
                  </a:lnTo>
                  <a:lnTo>
                    <a:pt x="1539" y="428"/>
                  </a:lnTo>
                  <a:lnTo>
                    <a:pt x="1529" y="432"/>
                  </a:lnTo>
                  <a:lnTo>
                    <a:pt x="1521" y="435"/>
                  </a:lnTo>
                  <a:lnTo>
                    <a:pt x="1514" y="439"/>
                  </a:lnTo>
                  <a:lnTo>
                    <a:pt x="1508" y="444"/>
                  </a:lnTo>
                  <a:lnTo>
                    <a:pt x="1502" y="449"/>
                  </a:lnTo>
                  <a:lnTo>
                    <a:pt x="1499" y="455"/>
                  </a:lnTo>
                  <a:lnTo>
                    <a:pt x="1494" y="461"/>
                  </a:lnTo>
                  <a:lnTo>
                    <a:pt x="1492" y="467"/>
                  </a:lnTo>
                  <a:lnTo>
                    <a:pt x="1490" y="474"/>
                  </a:lnTo>
                  <a:lnTo>
                    <a:pt x="1488" y="481"/>
                  </a:lnTo>
                  <a:lnTo>
                    <a:pt x="1487" y="488"/>
                  </a:lnTo>
                  <a:lnTo>
                    <a:pt x="1487" y="495"/>
                  </a:lnTo>
                  <a:lnTo>
                    <a:pt x="1488" y="502"/>
                  </a:lnTo>
                  <a:lnTo>
                    <a:pt x="1490" y="510"/>
                  </a:lnTo>
                  <a:lnTo>
                    <a:pt x="548" y="6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Freeform 126"/>
            <p:cNvSpPr/>
            <p:nvPr/>
          </p:nvSpPr>
          <p:spPr>
            <a:xfrm>
              <a:off x="8093160" y="3900240"/>
              <a:ext cx="235800" cy="1108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568" h="689">
                  <a:moveTo>
                    <a:pt x="548" y="648"/>
                  </a:moveTo>
                  <a:lnTo>
                    <a:pt x="508" y="655"/>
                  </a:lnTo>
                  <a:lnTo>
                    <a:pt x="471" y="663"/>
                  </a:lnTo>
                  <a:lnTo>
                    <a:pt x="435" y="670"/>
                  </a:lnTo>
                  <a:lnTo>
                    <a:pt x="402" y="677"/>
                  </a:lnTo>
                  <a:lnTo>
                    <a:pt x="371" y="683"/>
                  </a:lnTo>
                  <a:lnTo>
                    <a:pt x="340" y="688"/>
                  </a:lnTo>
                  <a:lnTo>
                    <a:pt x="326" y="689"/>
                  </a:lnTo>
                  <a:lnTo>
                    <a:pt x="312" y="689"/>
                  </a:lnTo>
                  <a:lnTo>
                    <a:pt x="299" y="689"/>
                  </a:lnTo>
                  <a:lnTo>
                    <a:pt x="286" y="689"/>
                  </a:lnTo>
                  <a:lnTo>
                    <a:pt x="279" y="680"/>
                  </a:lnTo>
                  <a:lnTo>
                    <a:pt x="274" y="670"/>
                  </a:lnTo>
                  <a:lnTo>
                    <a:pt x="268" y="661"/>
                  </a:lnTo>
                  <a:lnTo>
                    <a:pt x="264" y="652"/>
                  </a:lnTo>
                  <a:lnTo>
                    <a:pt x="257" y="634"/>
                  </a:lnTo>
                  <a:lnTo>
                    <a:pt x="254" y="616"/>
                  </a:lnTo>
                  <a:lnTo>
                    <a:pt x="253" y="600"/>
                  </a:lnTo>
                  <a:lnTo>
                    <a:pt x="253" y="585"/>
                  </a:lnTo>
                  <a:lnTo>
                    <a:pt x="253" y="571"/>
                  </a:lnTo>
                  <a:lnTo>
                    <a:pt x="254" y="557"/>
                  </a:lnTo>
                  <a:lnTo>
                    <a:pt x="255" y="545"/>
                  </a:lnTo>
                  <a:lnTo>
                    <a:pt x="256" y="534"/>
                  </a:lnTo>
                  <a:lnTo>
                    <a:pt x="256" y="524"/>
                  </a:lnTo>
                  <a:lnTo>
                    <a:pt x="254" y="516"/>
                  </a:lnTo>
                  <a:lnTo>
                    <a:pt x="253" y="513"/>
                  </a:lnTo>
                  <a:lnTo>
                    <a:pt x="250" y="510"/>
                  </a:lnTo>
                  <a:lnTo>
                    <a:pt x="248" y="508"/>
                  </a:lnTo>
                  <a:lnTo>
                    <a:pt x="244" y="505"/>
                  </a:lnTo>
                  <a:lnTo>
                    <a:pt x="240" y="503"/>
                  </a:lnTo>
                  <a:lnTo>
                    <a:pt x="235" y="502"/>
                  </a:lnTo>
                  <a:lnTo>
                    <a:pt x="229" y="502"/>
                  </a:lnTo>
                  <a:lnTo>
                    <a:pt x="222" y="501"/>
                  </a:lnTo>
                  <a:lnTo>
                    <a:pt x="209" y="501"/>
                  </a:lnTo>
                  <a:lnTo>
                    <a:pt x="198" y="498"/>
                  </a:lnTo>
                  <a:lnTo>
                    <a:pt x="187" y="496"/>
                  </a:lnTo>
                  <a:lnTo>
                    <a:pt x="179" y="491"/>
                  </a:lnTo>
                  <a:lnTo>
                    <a:pt x="172" y="487"/>
                  </a:lnTo>
                  <a:lnTo>
                    <a:pt x="166" y="481"/>
                  </a:lnTo>
                  <a:lnTo>
                    <a:pt x="161" y="475"/>
                  </a:lnTo>
                  <a:lnTo>
                    <a:pt x="157" y="468"/>
                  </a:lnTo>
                  <a:lnTo>
                    <a:pt x="147" y="454"/>
                  </a:lnTo>
                  <a:lnTo>
                    <a:pt x="137" y="440"/>
                  </a:lnTo>
                  <a:lnTo>
                    <a:pt x="131" y="434"/>
                  </a:lnTo>
                  <a:lnTo>
                    <a:pt x="125" y="428"/>
                  </a:lnTo>
                  <a:lnTo>
                    <a:pt x="117" y="423"/>
                  </a:lnTo>
                  <a:lnTo>
                    <a:pt x="108" y="418"/>
                  </a:lnTo>
                  <a:lnTo>
                    <a:pt x="90" y="391"/>
                  </a:lnTo>
                  <a:lnTo>
                    <a:pt x="77" y="369"/>
                  </a:lnTo>
                  <a:lnTo>
                    <a:pt x="68" y="349"/>
                  </a:lnTo>
                  <a:lnTo>
                    <a:pt x="60" y="331"/>
                  </a:lnTo>
                  <a:lnTo>
                    <a:pt x="55" y="317"/>
                  </a:lnTo>
                  <a:lnTo>
                    <a:pt x="52" y="303"/>
                  </a:lnTo>
                  <a:lnTo>
                    <a:pt x="50" y="291"/>
                  </a:lnTo>
                  <a:lnTo>
                    <a:pt x="48" y="279"/>
                  </a:lnTo>
                  <a:lnTo>
                    <a:pt x="47" y="266"/>
                  </a:lnTo>
                  <a:lnTo>
                    <a:pt x="46" y="253"/>
                  </a:lnTo>
                  <a:lnTo>
                    <a:pt x="43" y="239"/>
                  </a:lnTo>
                  <a:lnTo>
                    <a:pt x="40" y="223"/>
                  </a:lnTo>
                  <a:lnTo>
                    <a:pt x="34" y="204"/>
                  </a:lnTo>
                  <a:lnTo>
                    <a:pt x="26" y="182"/>
                  </a:lnTo>
                  <a:lnTo>
                    <a:pt x="15" y="156"/>
                  </a:lnTo>
                  <a:lnTo>
                    <a:pt x="0" y="127"/>
                  </a:lnTo>
                  <a:lnTo>
                    <a:pt x="18" y="114"/>
                  </a:lnTo>
                  <a:lnTo>
                    <a:pt x="33" y="100"/>
                  </a:lnTo>
                  <a:lnTo>
                    <a:pt x="49" y="87"/>
                  </a:lnTo>
                  <a:lnTo>
                    <a:pt x="65" y="72"/>
                  </a:lnTo>
                  <a:lnTo>
                    <a:pt x="73" y="139"/>
                  </a:lnTo>
                  <a:lnTo>
                    <a:pt x="83" y="138"/>
                  </a:lnTo>
                  <a:lnTo>
                    <a:pt x="111" y="134"/>
                  </a:lnTo>
                  <a:lnTo>
                    <a:pt x="154" y="129"/>
                  </a:lnTo>
                  <a:lnTo>
                    <a:pt x="212" y="122"/>
                  </a:lnTo>
                  <a:lnTo>
                    <a:pt x="281" y="114"/>
                  </a:lnTo>
                  <a:lnTo>
                    <a:pt x="357" y="105"/>
                  </a:lnTo>
                  <a:lnTo>
                    <a:pt x="439" y="96"/>
                  </a:lnTo>
                  <a:lnTo>
                    <a:pt x="526" y="85"/>
                  </a:lnTo>
                  <a:lnTo>
                    <a:pt x="612" y="74"/>
                  </a:lnTo>
                  <a:lnTo>
                    <a:pt x="699" y="64"/>
                  </a:lnTo>
                  <a:lnTo>
                    <a:pt x="779" y="53"/>
                  </a:lnTo>
                  <a:lnTo>
                    <a:pt x="855" y="44"/>
                  </a:lnTo>
                  <a:lnTo>
                    <a:pt x="922" y="35"/>
                  </a:lnTo>
                  <a:lnTo>
                    <a:pt x="977" y="27"/>
                  </a:lnTo>
                  <a:lnTo>
                    <a:pt x="1018" y="20"/>
                  </a:lnTo>
                  <a:lnTo>
                    <a:pt x="1043" y="15"/>
                  </a:lnTo>
                  <a:lnTo>
                    <a:pt x="1071" y="8"/>
                  </a:lnTo>
                  <a:lnTo>
                    <a:pt x="1094" y="4"/>
                  </a:lnTo>
                  <a:lnTo>
                    <a:pt x="1111" y="3"/>
                  </a:lnTo>
                  <a:lnTo>
                    <a:pt x="1126" y="4"/>
                  </a:lnTo>
                  <a:lnTo>
                    <a:pt x="1139" y="6"/>
                  </a:lnTo>
                  <a:lnTo>
                    <a:pt x="1152" y="6"/>
                  </a:lnTo>
                  <a:lnTo>
                    <a:pt x="1166" y="4"/>
                  </a:lnTo>
                  <a:lnTo>
                    <a:pt x="1181" y="0"/>
                  </a:lnTo>
                  <a:lnTo>
                    <a:pt x="1366" y="84"/>
                  </a:lnTo>
                  <a:lnTo>
                    <a:pt x="1358" y="92"/>
                  </a:lnTo>
                  <a:lnTo>
                    <a:pt x="1352" y="99"/>
                  </a:lnTo>
                  <a:lnTo>
                    <a:pt x="1347" y="106"/>
                  </a:lnTo>
                  <a:lnTo>
                    <a:pt x="1345" y="113"/>
                  </a:lnTo>
                  <a:lnTo>
                    <a:pt x="1344" y="120"/>
                  </a:lnTo>
                  <a:lnTo>
                    <a:pt x="1345" y="127"/>
                  </a:lnTo>
                  <a:lnTo>
                    <a:pt x="1347" y="133"/>
                  </a:lnTo>
                  <a:lnTo>
                    <a:pt x="1351" y="140"/>
                  </a:lnTo>
                  <a:lnTo>
                    <a:pt x="1355" y="146"/>
                  </a:lnTo>
                  <a:lnTo>
                    <a:pt x="1361" y="152"/>
                  </a:lnTo>
                  <a:lnTo>
                    <a:pt x="1369" y="157"/>
                  </a:lnTo>
                  <a:lnTo>
                    <a:pt x="1377" y="163"/>
                  </a:lnTo>
                  <a:lnTo>
                    <a:pt x="1396" y="175"/>
                  </a:lnTo>
                  <a:lnTo>
                    <a:pt x="1417" y="187"/>
                  </a:lnTo>
                  <a:lnTo>
                    <a:pt x="1439" y="199"/>
                  </a:lnTo>
                  <a:lnTo>
                    <a:pt x="1463" y="213"/>
                  </a:lnTo>
                  <a:lnTo>
                    <a:pt x="1486" y="227"/>
                  </a:lnTo>
                  <a:lnTo>
                    <a:pt x="1508" y="243"/>
                  </a:lnTo>
                  <a:lnTo>
                    <a:pt x="1519" y="251"/>
                  </a:lnTo>
                  <a:lnTo>
                    <a:pt x="1528" y="260"/>
                  </a:lnTo>
                  <a:lnTo>
                    <a:pt x="1538" y="270"/>
                  </a:lnTo>
                  <a:lnTo>
                    <a:pt x="1546" y="279"/>
                  </a:lnTo>
                  <a:lnTo>
                    <a:pt x="1553" y="289"/>
                  </a:lnTo>
                  <a:lnTo>
                    <a:pt x="1559" y="300"/>
                  </a:lnTo>
                  <a:lnTo>
                    <a:pt x="1564" y="310"/>
                  </a:lnTo>
                  <a:lnTo>
                    <a:pt x="1568" y="323"/>
                  </a:lnTo>
                  <a:lnTo>
                    <a:pt x="1567" y="362"/>
                  </a:lnTo>
                  <a:lnTo>
                    <a:pt x="1563" y="393"/>
                  </a:lnTo>
                  <a:lnTo>
                    <a:pt x="1560" y="416"/>
                  </a:lnTo>
                  <a:lnTo>
                    <a:pt x="1559" y="424"/>
                  </a:lnTo>
                  <a:lnTo>
                    <a:pt x="1548" y="426"/>
                  </a:lnTo>
                  <a:lnTo>
                    <a:pt x="1539" y="428"/>
                  </a:lnTo>
                  <a:lnTo>
                    <a:pt x="1529" y="432"/>
                  </a:lnTo>
                  <a:lnTo>
                    <a:pt x="1521" y="435"/>
                  </a:lnTo>
                  <a:lnTo>
                    <a:pt x="1514" y="439"/>
                  </a:lnTo>
                  <a:lnTo>
                    <a:pt x="1508" y="444"/>
                  </a:lnTo>
                  <a:lnTo>
                    <a:pt x="1502" y="449"/>
                  </a:lnTo>
                  <a:lnTo>
                    <a:pt x="1499" y="455"/>
                  </a:lnTo>
                  <a:lnTo>
                    <a:pt x="1494" y="461"/>
                  </a:lnTo>
                  <a:lnTo>
                    <a:pt x="1492" y="467"/>
                  </a:lnTo>
                  <a:lnTo>
                    <a:pt x="1490" y="474"/>
                  </a:lnTo>
                  <a:lnTo>
                    <a:pt x="1488" y="481"/>
                  </a:lnTo>
                  <a:lnTo>
                    <a:pt x="1487" y="488"/>
                  </a:lnTo>
                  <a:lnTo>
                    <a:pt x="1487" y="495"/>
                  </a:lnTo>
                  <a:lnTo>
                    <a:pt x="1488" y="502"/>
                  </a:lnTo>
                  <a:lnTo>
                    <a:pt x="1490" y="510"/>
                  </a:lnTo>
                  <a:lnTo>
                    <a:pt x="548" y="6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Freeform 127"/>
            <p:cNvSpPr/>
            <p:nvPr/>
          </p:nvSpPr>
          <p:spPr>
            <a:xfrm>
              <a:off x="8261640" y="3778560"/>
              <a:ext cx="72720" cy="774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84" h="479">
                  <a:moveTo>
                    <a:pt x="369" y="479"/>
                  </a:moveTo>
                  <a:lnTo>
                    <a:pt x="0" y="58"/>
                  </a:lnTo>
                  <a:lnTo>
                    <a:pt x="40" y="54"/>
                  </a:lnTo>
                  <a:lnTo>
                    <a:pt x="79" y="48"/>
                  </a:lnTo>
                  <a:lnTo>
                    <a:pt x="114" y="42"/>
                  </a:lnTo>
                  <a:lnTo>
                    <a:pt x="149" y="35"/>
                  </a:lnTo>
                  <a:lnTo>
                    <a:pt x="181" y="27"/>
                  </a:lnTo>
                  <a:lnTo>
                    <a:pt x="213" y="19"/>
                  </a:lnTo>
                  <a:lnTo>
                    <a:pt x="243" y="9"/>
                  </a:lnTo>
                  <a:lnTo>
                    <a:pt x="274" y="0"/>
                  </a:lnTo>
                  <a:lnTo>
                    <a:pt x="332" y="70"/>
                  </a:lnTo>
                  <a:lnTo>
                    <a:pt x="329" y="74"/>
                  </a:lnTo>
                  <a:lnTo>
                    <a:pt x="320" y="84"/>
                  </a:lnTo>
                  <a:lnTo>
                    <a:pt x="317" y="91"/>
                  </a:lnTo>
                  <a:lnTo>
                    <a:pt x="312" y="99"/>
                  </a:lnTo>
                  <a:lnTo>
                    <a:pt x="309" y="109"/>
                  </a:lnTo>
                  <a:lnTo>
                    <a:pt x="305" y="118"/>
                  </a:lnTo>
                  <a:lnTo>
                    <a:pt x="304" y="128"/>
                  </a:lnTo>
                  <a:lnTo>
                    <a:pt x="304" y="139"/>
                  </a:lnTo>
                  <a:lnTo>
                    <a:pt x="305" y="145"/>
                  </a:lnTo>
                  <a:lnTo>
                    <a:pt x="306" y="150"/>
                  </a:lnTo>
                  <a:lnTo>
                    <a:pt x="309" y="155"/>
                  </a:lnTo>
                  <a:lnTo>
                    <a:pt x="311" y="161"/>
                  </a:lnTo>
                  <a:lnTo>
                    <a:pt x="315" y="166"/>
                  </a:lnTo>
                  <a:lnTo>
                    <a:pt x="319" y="172"/>
                  </a:lnTo>
                  <a:lnTo>
                    <a:pt x="324" y="176"/>
                  </a:lnTo>
                  <a:lnTo>
                    <a:pt x="330" y="181"/>
                  </a:lnTo>
                  <a:lnTo>
                    <a:pt x="337" y="186"/>
                  </a:lnTo>
                  <a:lnTo>
                    <a:pt x="345" y="190"/>
                  </a:lnTo>
                  <a:lnTo>
                    <a:pt x="353" y="195"/>
                  </a:lnTo>
                  <a:lnTo>
                    <a:pt x="364" y="200"/>
                  </a:lnTo>
                  <a:lnTo>
                    <a:pt x="372" y="204"/>
                  </a:lnTo>
                  <a:lnTo>
                    <a:pt x="380" y="211"/>
                  </a:lnTo>
                  <a:lnTo>
                    <a:pt x="390" y="222"/>
                  </a:lnTo>
                  <a:lnTo>
                    <a:pt x="402" y="234"/>
                  </a:lnTo>
                  <a:lnTo>
                    <a:pt x="413" y="249"/>
                  </a:lnTo>
                  <a:lnTo>
                    <a:pt x="424" y="264"/>
                  </a:lnTo>
                  <a:lnTo>
                    <a:pt x="436" y="281"/>
                  </a:lnTo>
                  <a:lnTo>
                    <a:pt x="447" y="299"/>
                  </a:lnTo>
                  <a:lnTo>
                    <a:pt x="457" y="318"/>
                  </a:lnTo>
                  <a:lnTo>
                    <a:pt x="466" y="336"/>
                  </a:lnTo>
                  <a:lnTo>
                    <a:pt x="473" y="355"/>
                  </a:lnTo>
                  <a:lnTo>
                    <a:pt x="479" y="374"/>
                  </a:lnTo>
                  <a:lnTo>
                    <a:pt x="483" y="392"/>
                  </a:lnTo>
                  <a:lnTo>
                    <a:pt x="484" y="409"/>
                  </a:lnTo>
                  <a:lnTo>
                    <a:pt x="484" y="417"/>
                  </a:lnTo>
                  <a:lnTo>
                    <a:pt x="483" y="424"/>
                  </a:lnTo>
                  <a:lnTo>
                    <a:pt x="482" y="431"/>
                  </a:lnTo>
                  <a:lnTo>
                    <a:pt x="478" y="438"/>
                  </a:lnTo>
                  <a:lnTo>
                    <a:pt x="369" y="47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Freeform 128"/>
            <p:cNvSpPr/>
            <p:nvPr/>
          </p:nvSpPr>
          <p:spPr>
            <a:xfrm>
              <a:off x="8261640" y="3778560"/>
              <a:ext cx="72720" cy="774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84" h="479">
                  <a:moveTo>
                    <a:pt x="369" y="479"/>
                  </a:moveTo>
                  <a:lnTo>
                    <a:pt x="0" y="58"/>
                  </a:lnTo>
                  <a:lnTo>
                    <a:pt x="40" y="54"/>
                  </a:lnTo>
                  <a:lnTo>
                    <a:pt x="79" y="48"/>
                  </a:lnTo>
                  <a:lnTo>
                    <a:pt x="114" y="42"/>
                  </a:lnTo>
                  <a:lnTo>
                    <a:pt x="149" y="35"/>
                  </a:lnTo>
                  <a:lnTo>
                    <a:pt x="181" y="27"/>
                  </a:lnTo>
                  <a:lnTo>
                    <a:pt x="213" y="19"/>
                  </a:lnTo>
                  <a:lnTo>
                    <a:pt x="243" y="9"/>
                  </a:lnTo>
                  <a:lnTo>
                    <a:pt x="274" y="0"/>
                  </a:lnTo>
                  <a:lnTo>
                    <a:pt x="332" y="70"/>
                  </a:lnTo>
                  <a:lnTo>
                    <a:pt x="329" y="74"/>
                  </a:lnTo>
                  <a:lnTo>
                    <a:pt x="320" y="84"/>
                  </a:lnTo>
                  <a:lnTo>
                    <a:pt x="317" y="91"/>
                  </a:lnTo>
                  <a:lnTo>
                    <a:pt x="312" y="99"/>
                  </a:lnTo>
                  <a:lnTo>
                    <a:pt x="309" y="109"/>
                  </a:lnTo>
                  <a:lnTo>
                    <a:pt x="305" y="118"/>
                  </a:lnTo>
                  <a:lnTo>
                    <a:pt x="304" y="128"/>
                  </a:lnTo>
                  <a:lnTo>
                    <a:pt x="304" y="139"/>
                  </a:lnTo>
                  <a:lnTo>
                    <a:pt x="305" y="145"/>
                  </a:lnTo>
                  <a:lnTo>
                    <a:pt x="306" y="150"/>
                  </a:lnTo>
                  <a:lnTo>
                    <a:pt x="309" y="155"/>
                  </a:lnTo>
                  <a:lnTo>
                    <a:pt x="311" y="161"/>
                  </a:lnTo>
                  <a:lnTo>
                    <a:pt x="315" y="166"/>
                  </a:lnTo>
                  <a:lnTo>
                    <a:pt x="319" y="172"/>
                  </a:lnTo>
                  <a:lnTo>
                    <a:pt x="324" y="176"/>
                  </a:lnTo>
                  <a:lnTo>
                    <a:pt x="330" y="181"/>
                  </a:lnTo>
                  <a:lnTo>
                    <a:pt x="337" y="186"/>
                  </a:lnTo>
                  <a:lnTo>
                    <a:pt x="345" y="190"/>
                  </a:lnTo>
                  <a:lnTo>
                    <a:pt x="353" y="195"/>
                  </a:lnTo>
                  <a:lnTo>
                    <a:pt x="364" y="200"/>
                  </a:lnTo>
                  <a:lnTo>
                    <a:pt x="372" y="204"/>
                  </a:lnTo>
                  <a:lnTo>
                    <a:pt x="380" y="211"/>
                  </a:lnTo>
                  <a:lnTo>
                    <a:pt x="390" y="222"/>
                  </a:lnTo>
                  <a:lnTo>
                    <a:pt x="402" y="234"/>
                  </a:lnTo>
                  <a:lnTo>
                    <a:pt x="413" y="249"/>
                  </a:lnTo>
                  <a:lnTo>
                    <a:pt x="424" y="264"/>
                  </a:lnTo>
                  <a:lnTo>
                    <a:pt x="436" y="281"/>
                  </a:lnTo>
                  <a:lnTo>
                    <a:pt x="447" y="299"/>
                  </a:lnTo>
                  <a:lnTo>
                    <a:pt x="457" y="318"/>
                  </a:lnTo>
                  <a:lnTo>
                    <a:pt x="466" y="336"/>
                  </a:lnTo>
                  <a:lnTo>
                    <a:pt x="473" y="355"/>
                  </a:lnTo>
                  <a:lnTo>
                    <a:pt x="479" y="374"/>
                  </a:lnTo>
                  <a:lnTo>
                    <a:pt x="483" y="392"/>
                  </a:lnTo>
                  <a:lnTo>
                    <a:pt x="484" y="409"/>
                  </a:lnTo>
                  <a:lnTo>
                    <a:pt x="484" y="417"/>
                  </a:lnTo>
                  <a:lnTo>
                    <a:pt x="483" y="424"/>
                  </a:lnTo>
                  <a:lnTo>
                    <a:pt x="482" y="431"/>
                  </a:lnTo>
                  <a:lnTo>
                    <a:pt x="478" y="438"/>
                  </a:lnTo>
                  <a:lnTo>
                    <a:pt x="369" y="47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Freeform 129"/>
            <p:cNvSpPr/>
            <p:nvPr/>
          </p:nvSpPr>
          <p:spPr>
            <a:xfrm>
              <a:off x="8302320" y="3765600"/>
              <a:ext cx="82080" cy="820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544" h="509">
                  <a:moveTo>
                    <a:pt x="204" y="509"/>
                  </a:moveTo>
                  <a:lnTo>
                    <a:pt x="208" y="502"/>
                  </a:lnTo>
                  <a:lnTo>
                    <a:pt x="209" y="495"/>
                  </a:lnTo>
                  <a:lnTo>
                    <a:pt x="210" y="488"/>
                  </a:lnTo>
                  <a:lnTo>
                    <a:pt x="210" y="480"/>
                  </a:lnTo>
                  <a:lnTo>
                    <a:pt x="209" y="463"/>
                  </a:lnTo>
                  <a:lnTo>
                    <a:pt x="205" y="445"/>
                  </a:lnTo>
                  <a:lnTo>
                    <a:pt x="199" y="426"/>
                  </a:lnTo>
                  <a:lnTo>
                    <a:pt x="192" y="407"/>
                  </a:lnTo>
                  <a:lnTo>
                    <a:pt x="183" y="389"/>
                  </a:lnTo>
                  <a:lnTo>
                    <a:pt x="173" y="370"/>
                  </a:lnTo>
                  <a:lnTo>
                    <a:pt x="162" y="352"/>
                  </a:lnTo>
                  <a:lnTo>
                    <a:pt x="150" y="335"/>
                  </a:lnTo>
                  <a:lnTo>
                    <a:pt x="139" y="320"/>
                  </a:lnTo>
                  <a:lnTo>
                    <a:pt x="128" y="305"/>
                  </a:lnTo>
                  <a:lnTo>
                    <a:pt x="116" y="293"/>
                  </a:lnTo>
                  <a:lnTo>
                    <a:pt x="106" y="282"/>
                  </a:lnTo>
                  <a:lnTo>
                    <a:pt x="98" y="275"/>
                  </a:lnTo>
                  <a:lnTo>
                    <a:pt x="90" y="271"/>
                  </a:lnTo>
                  <a:lnTo>
                    <a:pt x="79" y="266"/>
                  </a:lnTo>
                  <a:lnTo>
                    <a:pt x="71" y="261"/>
                  </a:lnTo>
                  <a:lnTo>
                    <a:pt x="63" y="257"/>
                  </a:lnTo>
                  <a:lnTo>
                    <a:pt x="56" y="252"/>
                  </a:lnTo>
                  <a:lnTo>
                    <a:pt x="50" y="247"/>
                  </a:lnTo>
                  <a:lnTo>
                    <a:pt x="45" y="243"/>
                  </a:lnTo>
                  <a:lnTo>
                    <a:pt x="41" y="237"/>
                  </a:lnTo>
                  <a:lnTo>
                    <a:pt x="37" y="232"/>
                  </a:lnTo>
                  <a:lnTo>
                    <a:pt x="35" y="226"/>
                  </a:lnTo>
                  <a:lnTo>
                    <a:pt x="32" y="221"/>
                  </a:lnTo>
                  <a:lnTo>
                    <a:pt x="31" y="216"/>
                  </a:lnTo>
                  <a:lnTo>
                    <a:pt x="30" y="210"/>
                  </a:lnTo>
                  <a:lnTo>
                    <a:pt x="30" y="199"/>
                  </a:lnTo>
                  <a:lnTo>
                    <a:pt x="31" y="189"/>
                  </a:lnTo>
                  <a:lnTo>
                    <a:pt x="35" y="180"/>
                  </a:lnTo>
                  <a:lnTo>
                    <a:pt x="38" y="170"/>
                  </a:lnTo>
                  <a:lnTo>
                    <a:pt x="43" y="162"/>
                  </a:lnTo>
                  <a:lnTo>
                    <a:pt x="46" y="155"/>
                  </a:lnTo>
                  <a:lnTo>
                    <a:pt x="55" y="145"/>
                  </a:lnTo>
                  <a:lnTo>
                    <a:pt x="58" y="141"/>
                  </a:lnTo>
                  <a:lnTo>
                    <a:pt x="0" y="71"/>
                  </a:lnTo>
                  <a:lnTo>
                    <a:pt x="4" y="69"/>
                  </a:lnTo>
                  <a:lnTo>
                    <a:pt x="17" y="59"/>
                  </a:lnTo>
                  <a:lnTo>
                    <a:pt x="25" y="50"/>
                  </a:lnTo>
                  <a:lnTo>
                    <a:pt x="36" y="37"/>
                  </a:lnTo>
                  <a:lnTo>
                    <a:pt x="46" y="21"/>
                  </a:lnTo>
                  <a:lnTo>
                    <a:pt x="58" y="0"/>
                  </a:lnTo>
                  <a:lnTo>
                    <a:pt x="544" y="351"/>
                  </a:lnTo>
                  <a:lnTo>
                    <a:pt x="204" y="5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Freeform 130"/>
            <p:cNvSpPr/>
            <p:nvPr/>
          </p:nvSpPr>
          <p:spPr>
            <a:xfrm>
              <a:off x="8302320" y="3765600"/>
              <a:ext cx="82080" cy="820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544" h="509">
                  <a:moveTo>
                    <a:pt x="204" y="509"/>
                  </a:moveTo>
                  <a:lnTo>
                    <a:pt x="208" y="502"/>
                  </a:lnTo>
                  <a:lnTo>
                    <a:pt x="209" y="495"/>
                  </a:lnTo>
                  <a:lnTo>
                    <a:pt x="210" y="488"/>
                  </a:lnTo>
                  <a:lnTo>
                    <a:pt x="210" y="480"/>
                  </a:lnTo>
                  <a:lnTo>
                    <a:pt x="209" y="463"/>
                  </a:lnTo>
                  <a:lnTo>
                    <a:pt x="205" y="445"/>
                  </a:lnTo>
                  <a:lnTo>
                    <a:pt x="199" y="426"/>
                  </a:lnTo>
                  <a:lnTo>
                    <a:pt x="192" y="407"/>
                  </a:lnTo>
                  <a:lnTo>
                    <a:pt x="183" y="389"/>
                  </a:lnTo>
                  <a:lnTo>
                    <a:pt x="173" y="370"/>
                  </a:lnTo>
                  <a:lnTo>
                    <a:pt x="162" y="352"/>
                  </a:lnTo>
                  <a:lnTo>
                    <a:pt x="150" y="335"/>
                  </a:lnTo>
                  <a:lnTo>
                    <a:pt x="139" y="320"/>
                  </a:lnTo>
                  <a:lnTo>
                    <a:pt x="128" y="305"/>
                  </a:lnTo>
                  <a:lnTo>
                    <a:pt x="116" y="293"/>
                  </a:lnTo>
                  <a:lnTo>
                    <a:pt x="106" y="282"/>
                  </a:lnTo>
                  <a:lnTo>
                    <a:pt x="98" y="275"/>
                  </a:lnTo>
                  <a:lnTo>
                    <a:pt x="90" y="271"/>
                  </a:lnTo>
                  <a:lnTo>
                    <a:pt x="79" y="266"/>
                  </a:lnTo>
                  <a:lnTo>
                    <a:pt x="71" y="261"/>
                  </a:lnTo>
                  <a:lnTo>
                    <a:pt x="63" y="257"/>
                  </a:lnTo>
                  <a:lnTo>
                    <a:pt x="56" y="252"/>
                  </a:lnTo>
                  <a:lnTo>
                    <a:pt x="50" y="247"/>
                  </a:lnTo>
                  <a:lnTo>
                    <a:pt x="45" y="243"/>
                  </a:lnTo>
                  <a:lnTo>
                    <a:pt x="41" y="237"/>
                  </a:lnTo>
                  <a:lnTo>
                    <a:pt x="37" y="232"/>
                  </a:lnTo>
                  <a:lnTo>
                    <a:pt x="35" y="226"/>
                  </a:lnTo>
                  <a:lnTo>
                    <a:pt x="32" y="221"/>
                  </a:lnTo>
                  <a:lnTo>
                    <a:pt x="31" y="216"/>
                  </a:lnTo>
                  <a:lnTo>
                    <a:pt x="30" y="210"/>
                  </a:lnTo>
                  <a:lnTo>
                    <a:pt x="30" y="199"/>
                  </a:lnTo>
                  <a:lnTo>
                    <a:pt x="31" y="189"/>
                  </a:lnTo>
                  <a:lnTo>
                    <a:pt x="35" y="180"/>
                  </a:lnTo>
                  <a:lnTo>
                    <a:pt x="38" y="170"/>
                  </a:lnTo>
                  <a:lnTo>
                    <a:pt x="43" y="162"/>
                  </a:lnTo>
                  <a:lnTo>
                    <a:pt x="46" y="155"/>
                  </a:lnTo>
                  <a:lnTo>
                    <a:pt x="55" y="145"/>
                  </a:lnTo>
                  <a:lnTo>
                    <a:pt x="58" y="141"/>
                  </a:lnTo>
                  <a:lnTo>
                    <a:pt x="0" y="71"/>
                  </a:lnTo>
                  <a:lnTo>
                    <a:pt x="4" y="69"/>
                  </a:lnTo>
                  <a:lnTo>
                    <a:pt x="17" y="59"/>
                  </a:lnTo>
                  <a:lnTo>
                    <a:pt x="25" y="50"/>
                  </a:lnTo>
                  <a:lnTo>
                    <a:pt x="36" y="37"/>
                  </a:lnTo>
                  <a:lnTo>
                    <a:pt x="46" y="21"/>
                  </a:lnTo>
                  <a:lnTo>
                    <a:pt x="58" y="0"/>
                  </a:lnTo>
                  <a:lnTo>
                    <a:pt x="544" y="351"/>
                  </a:lnTo>
                  <a:lnTo>
                    <a:pt x="204" y="50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Freeform 131"/>
            <p:cNvSpPr/>
            <p:nvPr/>
          </p:nvSpPr>
          <p:spPr>
            <a:xfrm>
              <a:off x="8296200" y="3689640"/>
              <a:ext cx="152280" cy="1328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016" h="821">
                  <a:moveTo>
                    <a:pt x="593" y="821"/>
                  </a:moveTo>
                  <a:lnTo>
                    <a:pt x="107" y="470"/>
                  </a:lnTo>
                  <a:lnTo>
                    <a:pt x="112" y="458"/>
                  </a:lnTo>
                  <a:lnTo>
                    <a:pt x="114" y="449"/>
                  </a:lnTo>
                  <a:lnTo>
                    <a:pt x="115" y="438"/>
                  </a:lnTo>
                  <a:lnTo>
                    <a:pt x="114" y="430"/>
                  </a:lnTo>
                  <a:lnTo>
                    <a:pt x="112" y="421"/>
                  </a:lnTo>
                  <a:lnTo>
                    <a:pt x="108" y="413"/>
                  </a:lnTo>
                  <a:lnTo>
                    <a:pt x="104" y="404"/>
                  </a:lnTo>
                  <a:lnTo>
                    <a:pt x="98" y="395"/>
                  </a:lnTo>
                  <a:lnTo>
                    <a:pt x="85" y="377"/>
                  </a:lnTo>
                  <a:lnTo>
                    <a:pt x="72" y="358"/>
                  </a:lnTo>
                  <a:lnTo>
                    <a:pt x="66" y="347"/>
                  </a:lnTo>
                  <a:lnTo>
                    <a:pt x="60" y="335"/>
                  </a:lnTo>
                  <a:lnTo>
                    <a:pt x="56" y="323"/>
                  </a:lnTo>
                  <a:lnTo>
                    <a:pt x="52" y="309"/>
                  </a:lnTo>
                  <a:lnTo>
                    <a:pt x="50" y="295"/>
                  </a:lnTo>
                  <a:lnTo>
                    <a:pt x="49" y="283"/>
                  </a:lnTo>
                  <a:lnTo>
                    <a:pt x="49" y="272"/>
                  </a:lnTo>
                  <a:lnTo>
                    <a:pt x="50" y="264"/>
                  </a:lnTo>
                  <a:lnTo>
                    <a:pt x="51" y="256"/>
                  </a:lnTo>
                  <a:lnTo>
                    <a:pt x="53" y="249"/>
                  </a:lnTo>
                  <a:lnTo>
                    <a:pt x="56" y="243"/>
                  </a:lnTo>
                  <a:lnTo>
                    <a:pt x="58" y="237"/>
                  </a:lnTo>
                  <a:lnTo>
                    <a:pt x="64" y="227"/>
                  </a:lnTo>
                  <a:lnTo>
                    <a:pt x="70" y="214"/>
                  </a:lnTo>
                  <a:lnTo>
                    <a:pt x="72" y="206"/>
                  </a:lnTo>
                  <a:lnTo>
                    <a:pt x="73" y="198"/>
                  </a:lnTo>
                  <a:lnTo>
                    <a:pt x="74" y="187"/>
                  </a:lnTo>
                  <a:lnTo>
                    <a:pt x="76" y="175"/>
                  </a:lnTo>
                  <a:lnTo>
                    <a:pt x="74" y="171"/>
                  </a:lnTo>
                  <a:lnTo>
                    <a:pt x="72" y="165"/>
                  </a:lnTo>
                  <a:lnTo>
                    <a:pt x="70" y="158"/>
                  </a:lnTo>
                  <a:lnTo>
                    <a:pt x="65" y="152"/>
                  </a:lnTo>
                  <a:lnTo>
                    <a:pt x="56" y="137"/>
                  </a:lnTo>
                  <a:lnTo>
                    <a:pt x="43" y="120"/>
                  </a:lnTo>
                  <a:lnTo>
                    <a:pt x="30" y="102"/>
                  </a:lnTo>
                  <a:lnTo>
                    <a:pt x="18" y="81"/>
                  </a:lnTo>
                  <a:lnTo>
                    <a:pt x="12" y="69"/>
                  </a:lnTo>
                  <a:lnTo>
                    <a:pt x="8" y="56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42" y="34"/>
                  </a:lnTo>
                  <a:lnTo>
                    <a:pt x="78" y="38"/>
                  </a:lnTo>
                  <a:lnTo>
                    <a:pt x="111" y="40"/>
                  </a:lnTo>
                  <a:lnTo>
                    <a:pt x="141" y="42"/>
                  </a:lnTo>
                  <a:lnTo>
                    <a:pt x="168" y="42"/>
                  </a:lnTo>
                  <a:lnTo>
                    <a:pt x="192" y="41"/>
                  </a:lnTo>
                  <a:lnTo>
                    <a:pt x="215" y="40"/>
                  </a:lnTo>
                  <a:lnTo>
                    <a:pt x="234" y="38"/>
                  </a:lnTo>
                  <a:lnTo>
                    <a:pt x="253" y="34"/>
                  </a:lnTo>
                  <a:lnTo>
                    <a:pt x="271" y="31"/>
                  </a:lnTo>
                  <a:lnTo>
                    <a:pt x="288" y="26"/>
                  </a:lnTo>
                  <a:lnTo>
                    <a:pt x="304" y="21"/>
                  </a:lnTo>
                  <a:lnTo>
                    <a:pt x="340" y="11"/>
                  </a:lnTo>
                  <a:lnTo>
                    <a:pt x="377" y="0"/>
                  </a:lnTo>
                  <a:lnTo>
                    <a:pt x="386" y="8"/>
                  </a:lnTo>
                  <a:lnTo>
                    <a:pt x="410" y="33"/>
                  </a:lnTo>
                  <a:lnTo>
                    <a:pt x="446" y="67"/>
                  </a:lnTo>
                  <a:lnTo>
                    <a:pt x="488" y="109"/>
                  </a:lnTo>
                  <a:lnTo>
                    <a:pt x="535" y="152"/>
                  </a:lnTo>
                  <a:lnTo>
                    <a:pt x="580" y="195"/>
                  </a:lnTo>
                  <a:lnTo>
                    <a:pt x="622" y="234"/>
                  </a:lnTo>
                  <a:lnTo>
                    <a:pt x="657" y="262"/>
                  </a:lnTo>
                  <a:lnTo>
                    <a:pt x="677" y="272"/>
                  </a:lnTo>
                  <a:lnTo>
                    <a:pt x="697" y="281"/>
                  </a:lnTo>
                  <a:lnTo>
                    <a:pt x="717" y="288"/>
                  </a:lnTo>
                  <a:lnTo>
                    <a:pt x="737" y="293"/>
                  </a:lnTo>
                  <a:lnTo>
                    <a:pt x="757" y="297"/>
                  </a:lnTo>
                  <a:lnTo>
                    <a:pt x="776" y="300"/>
                  </a:lnTo>
                  <a:lnTo>
                    <a:pt x="796" y="303"/>
                  </a:lnTo>
                  <a:lnTo>
                    <a:pt x="816" y="304"/>
                  </a:lnTo>
                  <a:lnTo>
                    <a:pt x="855" y="306"/>
                  </a:lnTo>
                  <a:lnTo>
                    <a:pt x="893" y="310"/>
                  </a:lnTo>
                  <a:lnTo>
                    <a:pt x="912" y="312"/>
                  </a:lnTo>
                  <a:lnTo>
                    <a:pt x="929" y="314"/>
                  </a:lnTo>
                  <a:lnTo>
                    <a:pt x="948" y="318"/>
                  </a:lnTo>
                  <a:lnTo>
                    <a:pt x="964" y="323"/>
                  </a:lnTo>
                  <a:lnTo>
                    <a:pt x="981" y="328"/>
                  </a:lnTo>
                  <a:lnTo>
                    <a:pt x="994" y="334"/>
                  </a:lnTo>
                  <a:lnTo>
                    <a:pt x="1004" y="340"/>
                  </a:lnTo>
                  <a:lnTo>
                    <a:pt x="1011" y="347"/>
                  </a:lnTo>
                  <a:lnTo>
                    <a:pt x="1014" y="349"/>
                  </a:lnTo>
                  <a:lnTo>
                    <a:pt x="1016" y="353"/>
                  </a:lnTo>
                  <a:lnTo>
                    <a:pt x="1016" y="355"/>
                  </a:lnTo>
                  <a:lnTo>
                    <a:pt x="1016" y="359"/>
                  </a:lnTo>
                  <a:lnTo>
                    <a:pt x="1016" y="362"/>
                  </a:lnTo>
                  <a:lnTo>
                    <a:pt x="1014" y="366"/>
                  </a:lnTo>
                  <a:lnTo>
                    <a:pt x="1011" y="368"/>
                  </a:lnTo>
                  <a:lnTo>
                    <a:pt x="1008" y="372"/>
                  </a:lnTo>
                  <a:lnTo>
                    <a:pt x="997" y="379"/>
                  </a:lnTo>
                  <a:lnTo>
                    <a:pt x="983" y="386"/>
                  </a:lnTo>
                  <a:lnTo>
                    <a:pt x="964" y="393"/>
                  </a:lnTo>
                  <a:lnTo>
                    <a:pt x="942" y="400"/>
                  </a:lnTo>
                  <a:lnTo>
                    <a:pt x="917" y="408"/>
                  </a:lnTo>
                  <a:lnTo>
                    <a:pt x="885" y="415"/>
                  </a:lnTo>
                  <a:lnTo>
                    <a:pt x="850" y="423"/>
                  </a:lnTo>
                  <a:lnTo>
                    <a:pt x="809" y="432"/>
                  </a:lnTo>
                  <a:lnTo>
                    <a:pt x="783" y="438"/>
                  </a:lnTo>
                  <a:lnTo>
                    <a:pt x="760" y="446"/>
                  </a:lnTo>
                  <a:lnTo>
                    <a:pt x="751" y="451"/>
                  </a:lnTo>
                  <a:lnTo>
                    <a:pt x="741" y="456"/>
                  </a:lnTo>
                  <a:lnTo>
                    <a:pt x="733" y="460"/>
                  </a:lnTo>
                  <a:lnTo>
                    <a:pt x="726" y="465"/>
                  </a:lnTo>
                  <a:lnTo>
                    <a:pt x="720" y="471"/>
                  </a:lnTo>
                  <a:lnTo>
                    <a:pt x="714" y="476"/>
                  </a:lnTo>
                  <a:lnTo>
                    <a:pt x="709" y="481"/>
                  </a:lnTo>
                  <a:lnTo>
                    <a:pt x="705" y="487"/>
                  </a:lnTo>
                  <a:lnTo>
                    <a:pt x="698" y="499"/>
                  </a:lnTo>
                  <a:lnTo>
                    <a:pt x="695" y="511"/>
                  </a:lnTo>
                  <a:lnTo>
                    <a:pt x="692" y="522"/>
                  </a:lnTo>
                  <a:lnTo>
                    <a:pt x="692" y="534"/>
                  </a:lnTo>
                  <a:lnTo>
                    <a:pt x="693" y="546"/>
                  </a:lnTo>
                  <a:lnTo>
                    <a:pt x="697" y="556"/>
                  </a:lnTo>
                  <a:lnTo>
                    <a:pt x="700" y="567"/>
                  </a:lnTo>
                  <a:lnTo>
                    <a:pt x="706" y="577"/>
                  </a:lnTo>
                  <a:lnTo>
                    <a:pt x="711" y="585"/>
                  </a:lnTo>
                  <a:lnTo>
                    <a:pt x="717" y="594"/>
                  </a:lnTo>
                  <a:lnTo>
                    <a:pt x="721" y="601"/>
                  </a:lnTo>
                  <a:lnTo>
                    <a:pt x="725" y="606"/>
                  </a:lnTo>
                  <a:lnTo>
                    <a:pt x="726" y="613"/>
                  </a:lnTo>
                  <a:lnTo>
                    <a:pt x="726" y="620"/>
                  </a:lnTo>
                  <a:lnTo>
                    <a:pt x="725" y="627"/>
                  </a:lnTo>
                  <a:lnTo>
                    <a:pt x="723" y="634"/>
                  </a:lnTo>
                  <a:lnTo>
                    <a:pt x="718" y="641"/>
                  </a:lnTo>
                  <a:lnTo>
                    <a:pt x="713" y="648"/>
                  </a:lnTo>
                  <a:lnTo>
                    <a:pt x="702" y="662"/>
                  </a:lnTo>
                  <a:lnTo>
                    <a:pt x="688" y="678"/>
                  </a:lnTo>
                  <a:lnTo>
                    <a:pt x="671" y="692"/>
                  </a:lnTo>
                  <a:lnTo>
                    <a:pt x="654" y="706"/>
                  </a:lnTo>
                  <a:lnTo>
                    <a:pt x="637" y="721"/>
                  </a:lnTo>
                  <a:lnTo>
                    <a:pt x="621" y="735"/>
                  </a:lnTo>
                  <a:lnTo>
                    <a:pt x="607" y="749"/>
                  </a:lnTo>
                  <a:lnTo>
                    <a:pt x="595" y="764"/>
                  </a:lnTo>
                  <a:lnTo>
                    <a:pt x="591" y="771"/>
                  </a:lnTo>
                  <a:lnTo>
                    <a:pt x="587" y="778"/>
                  </a:lnTo>
                  <a:lnTo>
                    <a:pt x="585" y="785"/>
                  </a:lnTo>
                  <a:lnTo>
                    <a:pt x="584" y="792"/>
                  </a:lnTo>
                  <a:lnTo>
                    <a:pt x="584" y="799"/>
                  </a:lnTo>
                  <a:lnTo>
                    <a:pt x="586" y="806"/>
                  </a:lnTo>
                  <a:lnTo>
                    <a:pt x="588" y="814"/>
                  </a:lnTo>
                  <a:lnTo>
                    <a:pt x="593" y="8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Freeform 132"/>
            <p:cNvSpPr/>
            <p:nvPr/>
          </p:nvSpPr>
          <p:spPr>
            <a:xfrm>
              <a:off x="8296200" y="3689640"/>
              <a:ext cx="152280" cy="1328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016" h="821">
                  <a:moveTo>
                    <a:pt x="593" y="821"/>
                  </a:moveTo>
                  <a:lnTo>
                    <a:pt x="107" y="470"/>
                  </a:lnTo>
                  <a:lnTo>
                    <a:pt x="112" y="458"/>
                  </a:lnTo>
                  <a:lnTo>
                    <a:pt x="114" y="449"/>
                  </a:lnTo>
                  <a:lnTo>
                    <a:pt x="115" y="438"/>
                  </a:lnTo>
                  <a:lnTo>
                    <a:pt x="114" y="430"/>
                  </a:lnTo>
                  <a:lnTo>
                    <a:pt x="112" y="421"/>
                  </a:lnTo>
                  <a:lnTo>
                    <a:pt x="108" y="413"/>
                  </a:lnTo>
                  <a:lnTo>
                    <a:pt x="104" y="404"/>
                  </a:lnTo>
                  <a:lnTo>
                    <a:pt x="98" y="395"/>
                  </a:lnTo>
                  <a:lnTo>
                    <a:pt x="85" y="377"/>
                  </a:lnTo>
                  <a:lnTo>
                    <a:pt x="72" y="358"/>
                  </a:lnTo>
                  <a:lnTo>
                    <a:pt x="66" y="347"/>
                  </a:lnTo>
                  <a:lnTo>
                    <a:pt x="60" y="335"/>
                  </a:lnTo>
                  <a:lnTo>
                    <a:pt x="56" y="323"/>
                  </a:lnTo>
                  <a:lnTo>
                    <a:pt x="52" y="309"/>
                  </a:lnTo>
                  <a:lnTo>
                    <a:pt x="50" y="295"/>
                  </a:lnTo>
                  <a:lnTo>
                    <a:pt x="49" y="283"/>
                  </a:lnTo>
                  <a:lnTo>
                    <a:pt x="49" y="272"/>
                  </a:lnTo>
                  <a:lnTo>
                    <a:pt x="50" y="264"/>
                  </a:lnTo>
                  <a:lnTo>
                    <a:pt x="51" y="256"/>
                  </a:lnTo>
                  <a:lnTo>
                    <a:pt x="53" y="249"/>
                  </a:lnTo>
                  <a:lnTo>
                    <a:pt x="56" y="243"/>
                  </a:lnTo>
                  <a:lnTo>
                    <a:pt x="58" y="237"/>
                  </a:lnTo>
                  <a:lnTo>
                    <a:pt x="64" y="227"/>
                  </a:lnTo>
                  <a:lnTo>
                    <a:pt x="70" y="214"/>
                  </a:lnTo>
                  <a:lnTo>
                    <a:pt x="72" y="206"/>
                  </a:lnTo>
                  <a:lnTo>
                    <a:pt x="73" y="198"/>
                  </a:lnTo>
                  <a:lnTo>
                    <a:pt x="74" y="187"/>
                  </a:lnTo>
                  <a:lnTo>
                    <a:pt x="76" y="175"/>
                  </a:lnTo>
                  <a:lnTo>
                    <a:pt x="74" y="171"/>
                  </a:lnTo>
                  <a:lnTo>
                    <a:pt x="72" y="165"/>
                  </a:lnTo>
                  <a:lnTo>
                    <a:pt x="70" y="158"/>
                  </a:lnTo>
                  <a:lnTo>
                    <a:pt x="65" y="152"/>
                  </a:lnTo>
                  <a:lnTo>
                    <a:pt x="56" y="137"/>
                  </a:lnTo>
                  <a:lnTo>
                    <a:pt x="43" y="120"/>
                  </a:lnTo>
                  <a:lnTo>
                    <a:pt x="30" y="102"/>
                  </a:lnTo>
                  <a:lnTo>
                    <a:pt x="18" y="81"/>
                  </a:lnTo>
                  <a:lnTo>
                    <a:pt x="12" y="69"/>
                  </a:lnTo>
                  <a:lnTo>
                    <a:pt x="8" y="56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42" y="34"/>
                  </a:lnTo>
                  <a:lnTo>
                    <a:pt x="78" y="38"/>
                  </a:lnTo>
                  <a:lnTo>
                    <a:pt x="111" y="40"/>
                  </a:lnTo>
                  <a:lnTo>
                    <a:pt x="141" y="42"/>
                  </a:lnTo>
                  <a:lnTo>
                    <a:pt x="168" y="42"/>
                  </a:lnTo>
                  <a:lnTo>
                    <a:pt x="192" y="41"/>
                  </a:lnTo>
                  <a:lnTo>
                    <a:pt x="215" y="40"/>
                  </a:lnTo>
                  <a:lnTo>
                    <a:pt x="234" y="38"/>
                  </a:lnTo>
                  <a:lnTo>
                    <a:pt x="253" y="34"/>
                  </a:lnTo>
                  <a:lnTo>
                    <a:pt x="271" y="31"/>
                  </a:lnTo>
                  <a:lnTo>
                    <a:pt x="288" y="26"/>
                  </a:lnTo>
                  <a:lnTo>
                    <a:pt x="304" y="21"/>
                  </a:lnTo>
                  <a:lnTo>
                    <a:pt x="340" y="11"/>
                  </a:lnTo>
                  <a:lnTo>
                    <a:pt x="377" y="0"/>
                  </a:lnTo>
                  <a:lnTo>
                    <a:pt x="386" y="8"/>
                  </a:lnTo>
                  <a:lnTo>
                    <a:pt x="410" y="33"/>
                  </a:lnTo>
                  <a:lnTo>
                    <a:pt x="446" y="67"/>
                  </a:lnTo>
                  <a:lnTo>
                    <a:pt x="488" y="109"/>
                  </a:lnTo>
                  <a:lnTo>
                    <a:pt x="535" y="152"/>
                  </a:lnTo>
                  <a:lnTo>
                    <a:pt x="580" y="195"/>
                  </a:lnTo>
                  <a:lnTo>
                    <a:pt x="622" y="234"/>
                  </a:lnTo>
                  <a:lnTo>
                    <a:pt x="657" y="262"/>
                  </a:lnTo>
                  <a:lnTo>
                    <a:pt x="677" y="272"/>
                  </a:lnTo>
                  <a:lnTo>
                    <a:pt x="697" y="281"/>
                  </a:lnTo>
                  <a:lnTo>
                    <a:pt x="717" y="288"/>
                  </a:lnTo>
                  <a:lnTo>
                    <a:pt x="737" y="293"/>
                  </a:lnTo>
                  <a:lnTo>
                    <a:pt x="757" y="297"/>
                  </a:lnTo>
                  <a:lnTo>
                    <a:pt x="776" y="300"/>
                  </a:lnTo>
                  <a:lnTo>
                    <a:pt x="796" y="303"/>
                  </a:lnTo>
                  <a:lnTo>
                    <a:pt x="816" y="304"/>
                  </a:lnTo>
                  <a:lnTo>
                    <a:pt x="855" y="306"/>
                  </a:lnTo>
                  <a:lnTo>
                    <a:pt x="893" y="310"/>
                  </a:lnTo>
                  <a:lnTo>
                    <a:pt x="912" y="312"/>
                  </a:lnTo>
                  <a:lnTo>
                    <a:pt x="929" y="314"/>
                  </a:lnTo>
                  <a:lnTo>
                    <a:pt x="948" y="318"/>
                  </a:lnTo>
                  <a:lnTo>
                    <a:pt x="964" y="323"/>
                  </a:lnTo>
                  <a:lnTo>
                    <a:pt x="981" y="328"/>
                  </a:lnTo>
                  <a:lnTo>
                    <a:pt x="994" y="334"/>
                  </a:lnTo>
                  <a:lnTo>
                    <a:pt x="1004" y="340"/>
                  </a:lnTo>
                  <a:lnTo>
                    <a:pt x="1011" y="347"/>
                  </a:lnTo>
                  <a:lnTo>
                    <a:pt x="1014" y="349"/>
                  </a:lnTo>
                  <a:lnTo>
                    <a:pt x="1016" y="353"/>
                  </a:lnTo>
                  <a:lnTo>
                    <a:pt x="1016" y="355"/>
                  </a:lnTo>
                  <a:lnTo>
                    <a:pt x="1016" y="359"/>
                  </a:lnTo>
                  <a:lnTo>
                    <a:pt x="1016" y="362"/>
                  </a:lnTo>
                  <a:lnTo>
                    <a:pt x="1014" y="366"/>
                  </a:lnTo>
                  <a:lnTo>
                    <a:pt x="1011" y="368"/>
                  </a:lnTo>
                  <a:lnTo>
                    <a:pt x="1008" y="372"/>
                  </a:lnTo>
                  <a:lnTo>
                    <a:pt x="997" y="379"/>
                  </a:lnTo>
                  <a:lnTo>
                    <a:pt x="983" y="386"/>
                  </a:lnTo>
                  <a:lnTo>
                    <a:pt x="964" y="393"/>
                  </a:lnTo>
                  <a:lnTo>
                    <a:pt x="942" y="400"/>
                  </a:lnTo>
                  <a:lnTo>
                    <a:pt x="917" y="408"/>
                  </a:lnTo>
                  <a:lnTo>
                    <a:pt x="885" y="415"/>
                  </a:lnTo>
                  <a:lnTo>
                    <a:pt x="850" y="423"/>
                  </a:lnTo>
                  <a:lnTo>
                    <a:pt x="809" y="432"/>
                  </a:lnTo>
                  <a:lnTo>
                    <a:pt x="783" y="438"/>
                  </a:lnTo>
                  <a:lnTo>
                    <a:pt x="760" y="446"/>
                  </a:lnTo>
                  <a:lnTo>
                    <a:pt x="751" y="451"/>
                  </a:lnTo>
                  <a:lnTo>
                    <a:pt x="741" y="456"/>
                  </a:lnTo>
                  <a:lnTo>
                    <a:pt x="733" y="460"/>
                  </a:lnTo>
                  <a:lnTo>
                    <a:pt x="726" y="465"/>
                  </a:lnTo>
                  <a:lnTo>
                    <a:pt x="720" y="471"/>
                  </a:lnTo>
                  <a:lnTo>
                    <a:pt x="714" y="476"/>
                  </a:lnTo>
                  <a:lnTo>
                    <a:pt x="709" y="481"/>
                  </a:lnTo>
                  <a:lnTo>
                    <a:pt x="705" y="487"/>
                  </a:lnTo>
                  <a:lnTo>
                    <a:pt x="698" y="499"/>
                  </a:lnTo>
                  <a:lnTo>
                    <a:pt x="695" y="511"/>
                  </a:lnTo>
                  <a:lnTo>
                    <a:pt x="692" y="522"/>
                  </a:lnTo>
                  <a:lnTo>
                    <a:pt x="692" y="534"/>
                  </a:lnTo>
                  <a:lnTo>
                    <a:pt x="693" y="546"/>
                  </a:lnTo>
                  <a:lnTo>
                    <a:pt x="697" y="556"/>
                  </a:lnTo>
                  <a:lnTo>
                    <a:pt x="700" y="567"/>
                  </a:lnTo>
                  <a:lnTo>
                    <a:pt x="706" y="577"/>
                  </a:lnTo>
                  <a:lnTo>
                    <a:pt x="711" y="585"/>
                  </a:lnTo>
                  <a:lnTo>
                    <a:pt x="717" y="594"/>
                  </a:lnTo>
                  <a:lnTo>
                    <a:pt x="721" y="601"/>
                  </a:lnTo>
                  <a:lnTo>
                    <a:pt x="725" y="606"/>
                  </a:lnTo>
                  <a:lnTo>
                    <a:pt x="726" y="613"/>
                  </a:lnTo>
                  <a:lnTo>
                    <a:pt x="726" y="620"/>
                  </a:lnTo>
                  <a:lnTo>
                    <a:pt x="725" y="627"/>
                  </a:lnTo>
                  <a:lnTo>
                    <a:pt x="723" y="634"/>
                  </a:lnTo>
                  <a:lnTo>
                    <a:pt x="718" y="641"/>
                  </a:lnTo>
                  <a:lnTo>
                    <a:pt x="713" y="648"/>
                  </a:lnTo>
                  <a:lnTo>
                    <a:pt x="702" y="662"/>
                  </a:lnTo>
                  <a:lnTo>
                    <a:pt x="688" y="678"/>
                  </a:lnTo>
                  <a:lnTo>
                    <a:pt x="671" y="692"/>
                  </a:lnTo>
                  <a:lnTo>
                    <a:pt x="654" y="706"/>
                  </a:lnTo>
                  <a:lnTo>
                    <a:pt x="637" y="721"/>
                  </a:lnTo>
                  <a:lnTo>
                    <a:pt x="621" y="735"/>
                  </a:lnTo>
                  <a:lnTo>
                    <a:pt x="607" y="749"/>
                  </a:lnTo>
                  <a:lnTo>
                    <a:pt x="595" y="764"/>
                  </a:lnTo>
                  <a:lnTo>
                    <a:pt x="591" y="771"/>
                  </a:lnTo>
                  <a:lnTo>
                    <a:pt x="587" y="778"/>
                  </a:lnTo>
                  <a:lnTo>
                    <a:pt x="585" y="785"/>
                  </a:lnTo>
                  <a:lnTo>
                    <a:pt x="584" y="792"/>
                  </a:lnTo>
                  <a:lnTo>
                    <a:pt x="584" y="799"/>
                  </a:lnTo>
                  <a:lnTo>
                    <a:pt x="586" y="806"/>
                  </a:lnTo>
                  <a:lnTo>
                    <a:pt x="588" y="814"/>
                  </a:lnTo>
                  <a:lnTo>
                    <a:pt x="593" y="821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Freeform 133"/>
            <p:cNvSpPr/>
            <p:nvPr/>
          </p:nvSpPr>
          <p:spPr>
            <a:xfrm>
              <a:off x="8172360" y="4218120"/>
              <a:ext cx="239040" cy="1728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588" h="1055">
                  <a:moveTo>
                    <a:pt x="1576" y="239"/>
                  </a:moveTo>
                  <a:lnTo>
                    <a:pt x="1580" y="281"/>
                  </a:lnTo>
                  <a:lnTo>
                    <a:pt x="1585" y="322"/>
                  </a:lnTo>
                  <a:lnTo>
                    <a:pt x="1587" y="361"/>
                  </a:lnTo>
                  <a:lnTo>
                    <a:pt x="1588" y="397"/>
                  </a:lnTo>
                  <a:lnTo>
                    <a:pt x="1588" y="432"/>
                  </a:lnTo>
                  <a:lnTo>
                    <a:pt x="1588" y="465"/>
                  </a:lnTo>
                  <a:lnTo>
                    <a:pt x="1586" y="496"/>
                  </a:lnTo>
                  <a:lnTo>
                    <a:pt x="1583" y="527"/>
                  </a:lnTo>
                  <a:lnTo>
                    <a:pt x="1579" y="555"/>
                  </a:lnTo>
                  <a:lnTo>
                    <a:pt x="1574" y="580"/>
                  </a:lnTo>
                  <a:lnTo>
                    <a:pt x="1570" y="606"/>
                  </a:lnTo>
                  <a:lnTo>
                    <a:pt x="1563" y="629"/>
                  </a:lnTo>
                  <a:lnTo>
                    <a:pt x="1557" y="652"/>
                  </a:lnTo>
                  <a:lnTo>
                    <a:pt x="1549" y="672"/>
                  </a:lnTo>
                  <a:lnTo>
                    <a:pt x="1542" y="691"/>
                  </a:lnTo>
                  <a:lnTo>
                    <a:pt x="1533" y="709"/>
                  </a:lnTo>
                  <a:lnTo>
                    <a:pt x="1524" y="726"/>
                  </a:lnTo>
                  <a:lnTo>
                    <a:pt x="1515" y="743"/>
                  </a:lnTo>
                  <a:lnTo>
                    <a:pt x="1505" y="757"/>
                  </a:lnTo>
                  <a:lnTo>
                    <a:pt x="1496" y="771"/>
                  </a:lnTo>
                  <a:lnTo>
                    <a:pt x="1477" y="795"/>
                  </a:lnTo>
                  <a:lnTo>
                    <a:pt x="1458" y="816"/>
                  </a:lnTo>
                  <a:lnTo>
                    <a:pt x="1439" y="834"/>
                  </a:lnTo>
                  <a:lnTo>
                    <a:pt x="1421" y="849"/>
                  </a:lnTo>
                  <a:lnTo>
                    <a:pt x="1405" y="862"/>
                  </a:lnTo>
                  <a:lnTo>
                    <a:pt x="1391" y="872"/>
                  </a:lnTo>
                  <a:lnTo>
                    <a:pt x="1373" y="885"/>
                  </a:lnTo>
                  <a:lnTo>
                    <a:pt x="1357" y="898"/>
                  </a:lnTo>
                  <a:lnTo>
                    <a:pt x="1342" y="910"/>
                  </a:lnTo>
                  <a:lnTo>
                    <a:pt x="1330" y="923"/>
                  </a:lnTo>
                  <a:lnTo>
                    <a:pt x="1319" y="934"/>
                  </a:lnTo>
                  <a:lnTo>
                    <a:pt x="1309" y="946"/>
                  </a:lnTo>
                  <a:lnTo>
                    <a:pt x="1300" y="959"/>
                  </a:lnTo>
                  <a:lnTo>
                    <a:pt x="1293" y="971"/>
                  </a:lnTo>
                  <a:lnTo>
                    <a:pt x="1287" y="981"/>
                  </a:lnTo>
                  <a:lnTo>
                    <a:pt x="1282" y="993"/>
                  </a:lnTo>
                  <a:lnTo>
                    <a:pt x="1279" y="1004"/>
                  </a:lnTo>
                  <a:lnTo>
                    <a:pt x="1277" y="1015"/>
                  </a:lnTo>
                  <a:lnTo>
                    <a:pt x="1274" y="1025"/>
                  </a:lnTo>
                  <a:lnTo>
                    <a:pt x="1273" y="1035"/>
                  </a:lnTo>
                  <a:lnTo>
                    <a:pt x="1273" y="1045"/>
                  </a:lnTo>
                  <a:lnTo>
                    <a:pt x="1273" y="1055"/>
                  </a:lnTo>
                  <a:lnTo>
                    <a:pt x="1260" y="1035"/>
                  </a:lnTo>
                  <a:lnTo>
                    <a:pt x="1246" y="1016"/>
                  </a:lnTo>
                  <a:lnTo>
                    <a:pt x="1230" y="1000"/>
                  </a:lnTo>
                  <a:lnTo>
                    <a:pt x="1212" y="985"/>
                  </a:lnTo>
                  <a:lnTo>
                    <a:pt x="1194" y="971"/>
                  </a:lnTo>
                  <a:lnTo>
                    <a:pt x="1173" y="958"/>
                  </a:lnTo>
                  <a:lnTo>
                    <a:pt x="1152" y="945"/>
                  </a:lnTo>
                  <a:lnTo>
                    <a:pt x="1130" y="934"/>
                  </a:lnTo>
                  <a:lnTo>
                    <a:pt x="1107" y="925"/>
                  </a:lnTo>
                  <a:lnTo>
                    <a:pt x="1084" y="916"/>
                  </a:lnTo>
                  <a:lnTo>
                    <a:pt x="1060" y="907"/>
                  </a:lnTo>
                  <a:lnTo>
                    <a:pt x="1037" y="899"/>
                  </a:lnTo>
                  <a:lnTo>
                    <a:pt x="989" y="885"/>
                  </a:lnTo>
                  <a:lnTo>
                    <a:pt x="941" y="872"/>
                  </a:lnTo>
                  <a:lnTo>
                    <a:pt x="920" y="867"/>
                  </a:lnTo>
                  <a:lnTo>
                    <a:pt x="903" y="858"/>
                  </a:lnTo>
                  <a:lnTo>
                    <a:pt x="886" y="850"/>
                  </a:lnTo>
                  <a:lnTo>
                    <a:pt x="875" y="841"/>
                  </a:lnTo>
                  <a:lnTo>
                    <a:pt x="863" y="830"/>
                  </a:lnTo>
                  <a:lnTo>
                    <a:pt x="855" y="820"/>
                  </a:lnTo>
                  <a:lnTo>
                    <a:pt x="848" y="807"/>
                  </a:lnTo>
                  <a:lnTo>
                    <a:pt x="841" y="794"/>
                  </a:lnTo>
                  <a:lnTo>
                    <a:pt x="830" y="767"/>
                  </a:lnTo>
                  <a:lnTo>
                    <a:pt x="820" y="737"/>
                  </a:lnTo>
                  <a:lnTo>
                    <a:pt x="814" y="722"/>
                  </a:lnTo>
                  <a:lnTo>
                    <a:pt x="806" y="705"/>
                  </a:lnTo>
                  <a:lnTo>
                    <a:pt x="798" y="688"/>
                  </a:lnTo>
                  <a:lnTo>
                    <a:pt x="786" y="672"/>
                  </a:lnTo>
                  <a:lnTo>
                    <a:pt x="753" y="659"/>
                  </a:lnTo>
                  <a:lnTo>
                    <a:pt x="722" y="646"/>
                  </a:lnTo>
                  <a:lnTo>
                    <a:pt x="692" y="632"/>
                  </a:lnTo>
                  <a:lnTo>
                    <a:pt x="666" y="617"/>
                  </a:lnTo>
                  <a:lnTo>
                    <a:pt x="640" y="601"/>
                  </a:lnTo>
                  <a:lnTo>
                    <a:pt x="618" y="586"/>
                  </a:lnTo>
                  <a:lnTo>
                    <a:pt x="597" y="571"/>
                  </a:lnTo>
                  <a:lnTo>
                    <a:pt x="579" y="556"/>
                  </a:lnTo>
                  <a:lnTo>
                    <a:pt x="549" y="529"/>
                  </a:lnTo>
                  <a:lnTo>
                    <a:pt x="527" y="507"/>
                  </a:lnTo>
                  <a:lnTo>
                    <a:pt x="514" y="493"/>
                  </a:lnTo>
                  <a:lnTo>
                    <a:pt x="510" y="487"/>
                  </a:lnTo>
                  <a:lnTo>
                    <a:pt x="354" y="441"/>
                  </a:lnTo>
                  <a:lnTo>
                    <a:pt x="0" y="112"/>
                  </a:lnTo>
                  <a:lnTo>
                    <a:pt x="15" y="47"/>
                  </a:lnTo>
                  <a:lnTo>
                    <a:pt x="548" y="0"/>
                  </a:lnTo>
                  <a:lnTo>
                    <a:pt x="579" y="55"/>
                  </a:lnTo>
                  <a:lnTo>
                    <a:pt x="927" y="23"/>
                  </a:lnTo>
                  <a:lnTo>
                    <a:pt x="1576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Freeform 134"/>
            <p:cNvSpPr/>
            <p:nvPr/>
          </p:nvSpPr>
          <p:spPr>
            <a:xfrm>
              <a:off x="8172360" y="4218120"/>
              <a:ext cx="239040" cy="1728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588" h="1055">
                  <a:moveTo>
                    <a:pt x="1576" y="239"/>
                  </a:moveTo>
                  <a:lnTo>
                    <a:pt x="1580" y="281"/>
                  </a:lnTo>
                  <a:lnTo>
                    <a:pt x="1585" y="322"/>
                  </a:lnTo>
                  <a:lnTo>
                    <a:pt x="1587" y="361"/>
                  </a:lnTo>
                  <a:lnTo>
                    <a:pt x="1588" y="397"/>
                  </a:lnTo>
                  <a:lnTo>
                    <a:pt x="1588" y="432"/>
                  </a:lnTo>
                  <a:lnTo>
                    <a:pt x="1588" y="465"/>
                  </a:lnTo>
                  <a:lnTo>
                    <a:pt x="1586" y="496"/>
                  </a:lnTo>
                  <a:lnTo>
                    <a:pt x="1583" y="527"/>
                  </a:lnTo>
                  <a:lnTo>
                    <a:pt x="1579" y="555"/>
                  </a:lnTo>
                  <a:lnTo>
                    <a:pt x="1574" y="580"/>
                  </a:lnTo>
                  <a:lnTo>
                    <a:pt x="1570" y="606"/>
                  </a:lnTo>
                  <a:lnTo>
                    <a:pt x="1563" y="629"/>
                  </a:lnTo>
                  <a:lnTo>
                    <a:pt x="1557" y="652"/>
                  </a:lnTo>
                  <a:lnTo>
                    <a:pt x="1549" y="672"/>
                  </a:lnTo>
                  <a:lnTo>
                    <a:pt x="1542" y="691"/>
                  </a:lnTo>
                  <a:lnTo>
                    <a:pt x="1533" y="709"/>
                  </a:lnTo>
                  <a:lnTo>
                    <a:pt x="1524" y="726"/>
                  </a:lnTo>
                  <a:lnTo>
                    <a:pt x="1515" y="743"/>
                  </a:lnTo>
                  <a:lnTo>
                    <a:pt x="1505" y="757"/>
                  </a:lnTo>
                  <a:lnTo>
                    <a:pt x="1496" y="771"/>
                  </a:lnTo>
                  <a:lnTo>
                    <a:pt x="1477" y="795"/>
                  </a:lnTo>
                  <a:lnTo>
                    <a:pt x="1458" y="816"/>
                  </a:lnTo>
                  <a:lnTo>
                    <a:pt x="1439" y="834"/>
                  </a:lnTo>
                  <a:lnTo>
                    <a:pt x="1421" y="849"/>
                  </a:lnTo>
                  <a:lnTo>
                    <a:pt x="1405" y="862"/>
                  </a:lnTo>
                  <a:lnTo>
                    <a:pt x="1391" y="872"/>
                  </a:lnTo>
                  <a:lnTo>
                    <a:pt x="1373" y="885"/>
                  </a:lnTo>
                  <a:lnTo>
                    <a:pt x="1357" y="898"/>
                  </a:lnTo>
                  <a:lnTo>
                    <a:pt x="1342" y="910"/>
                  </a:lnTo>
                  <a:lnTo>
                    <a:pt x="1330" y="923"/>
                  </a:lnTo>
                  <a:lnTo>
                    <a:pt x="1319" y="934"/>
                  </a:lnTo>
                  <a:lnTo>
                    <a:pt x="1309" y="946"/>
                  </a:lnTo>
                  <a:lnTo>
                    <a:pt x="1300" y="959"/>
                  </a:lnTo>
                  <a:lnTo>
                    <a:pt x="1293" y="971"/>
                  </a:lnTo>
                  <a:lnTo>
                    <a:pt x="1287" y="981"/>
                  </a:lnTo>
                  <a:lnTo>
                    <a:pt x="1282" y="993"/>
                  </a:lnTo>
                  <a:lnTo>
                    <a:pt x="1279" y="1004"/>
                  </a:lnTo>
                  <a:lnTo>
                    <a:pt x="1277" y="1015"/>
                  </a:lnTo>
                  <a:lnTo>
                    <a:pt x="1274" y="1025"/>
                  </a:lnTo>
                  <a:lnTo>
                    <a:pt x="1273" y="1035"/>
                  </a:lnTo>
                  <a:lnTo>
                    <a:pt x="1273" y="1045"/>
                  </a:lnTo>
                  <a:lnTo>
                    <a:pt x="1273" y="1055"/>
                  </a:lnTo>
                  <a:lnTo>
                    <a:pt x="1260" y="1035"/>
                  </a:lnTo>
                  <a:lnTo>
                    <a:pt x="1246" y="1016"/>
                  </a:lnTo>
                  <a:lnTo>
                    <a:pt x="1230" y="1000"/>
                  </a:lnTo>
                  <a:lnTo>
                    <a:pt x="1212" y="985"/>
                  </a:lnTo>
                  <a:lnTo>
                    <a:pt x="1194" y="971"/>
                  </a:lnTo>
                  <a:lnTo>
                    <a:pt x="1173" y="958"/>
                  </a:lnTo>
                  <a:lnTo>
                    <a:pt x="1152" y="945"/>
                  </a:lnTo>
                  <a:lnTo>
                    <a:pt x="1130" y="934"/>
                  </a:lnTo>
                  <a:lnTo>
                    <a:pt x="1107" y="925"/>
                  </a:lnTo>
                  <a:lnTo>
                    <a:pt x="1084" y="916"/>
                  </a:lnTo>
                  <a:lnTo>
                    <a:pt x="1060" y="907"/>
                  </a:lnTo>
                  <a:lnTo>
                    <a:pt x="1037" y="899"/>
                  </a:lnTo>
                  <a:lnTo>
                    <a:pt x="989" y="885"/>
                  </a:lnTo>
                  <a:lnTo>
                    <a:pt x="941" y="872"/>
                  </a:lnTo>
                  <a:lnTo>
                    <a:pt x="920" y="867"/>
                  </a:lnTo>
                  <a:lnTo>
                    <a:pt x="903" y="858"/>
                  </a:lnTo>
                  <a:lnTo>
                    <a:pt x="886" y="850"/>
                  </a:lnTo>
                  <a:lnTo>
                    <a:pt x="875" y="841"/>
                  </a:lnTo>
                  <a:lnTo>
                    <a:pt x="863" y="830"/>
                  </a:lnTo>
                  <a:lnTo>
                    <a:pt x="855" y="820"/>
                  </a:lnTo>
                  <a:lnTo>
                    <a:pt x="848" y="807"/>
                  </a:lnTo>
                  <a:lnTo>
                    <a:pt x="841" y="794"/>
                  </a:lnTo>
                  <a:lnTo>
                    <a:pt x="830" y="767"/>
                  </a:lnTo>
                  <a:lnTo>
                    <a:pt x="820" y="737"/>
                  </a:lnTo>
                  <a:lnTo>
                    <a:pt x="814" y="722"/>
                  </a:lnTo>
                  <a:lnTo>
                    <a:pt x="806" y="705"/>
                  </a:lnTo>
                  <a:lnTo>
                    <a:pt x="798" y="688"/>
                  </a:lnTo>
                  <a:lnTo>
                    <a:pt x="786" y="672"/>
                  </a:lnTo>
                  <a:lnTo>
                    <a:pt x="753" y="659"/>
                  </a:lnTo>
                  <a:lnTo>
                    <a:pt x="722" y="646"/>
                  </a:lnTo>
                  <a:lnTo>
                    <a:pt x="692" y="632"/>
                  </a:lnTo>
                  <a:lnTo>
                    <a:pt x="666" y="617"/>
                  </a:lnTo>
                  <a:lnTo>
                    <a:pt x="640" y="601"/>
                  </a:lnTo>
                  <a:lnTo>
                    <a:pt x="618" y="586"/>
                  </a:lnTo>
                  <a:lnTo>
                    <a:pt x="597" y="571"/>
                  </a:lnTo>
                  <a:lnTo>
                    <a:pt x="579" y="556"/>
                  </a:lnTo>
                  <a:lnTo>
                    <a:pt x="549" y="529"/>
                  </a:lnTo>
                  <a:lnTo>
                    <a:pt x="527" y="507"/>
                  </a:lnTo>
                  <a:lnTo>
                    <a:pt x="514" y="493"/>
                  </a:lnTo>
                  <a:lnTo>
                    <a:pt x="510" y="487"/>
                  </a:lnTo>
                  <a:lnTo>
                    <a:pt x="354" y="441"/>
                  </a:lnTo>
                  <a:lnTo>
                    <a:pt x="0" y="112"/>
                  </a:lnTo>
                  <a:lnTo>
                    <a:pt x="15" y="47"/>
                  </a:lnTo>
                  <a:lnTo>
                    <a:pt x="548" y="0"/>
                  </a:lnTo>
                  <a:lnTo>
                    <a:pt x="579" y="55"/>
                  </a:lnTo>
                  <a:lnTo>
                    <a:pt x="927" y="23"/>
                  </a:lnTo>
                  <a:lnTo>
                    <a:pt x="1576" y="23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Freeform 135"/>
            <p:cNvSpPr/>
            <p:nvPr/>
          </p:nvSpPr>
          <p:spPr>
            <a:xfrm>
              <a:off x="8091720" y="4113360"/>
              <a:ext cx="401400" cy="1443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666" h="882">
                  <a:moveTo>
                    <a:pt x="541" y="755"/>
                  </a:moveTo>
                  <a:lnTo>
                    <a:pt x="556" y="690"/>
                  </a:lnTo>
                  <a:lnTo>
                    <a:pt x="1089" y="643"/>
                  </a:lnTo>
                  <a:lnTo>
                    <a:pt x="1120" y="698"/>
                  </a:lnTo>
                  <a:lnTo>
                    <a:pt x="1468" y="666"/>
                  </a:lnTo>
                  <a:lnTo>
                    <a:pt x="2117" y="882"/>
                  </a:lnTo>
                  <a:lnTo>
                    <a:pt x="2317" y="851"/>
                  </a:lnTo>
                  <a:lnTo>
                    <a:pt x="2316" y="843"/>
                  </a:lnTo>
                  <a:lnTo>
                    <a:pt x="2312" y="822"/>
                  </a:lnTo>
                  <a:lnTo>
                    <a:pt x="2307" y="790"/>
                  </a:lnTo>
                  <a:lnTo>
                    <a:pt x="2302" y="753"/>
                  </a:lnTo>
                  <a:lnTo>
                    <a:pt x="2301" y="733"/>
                  </a:lnTo>
                  <a:lnTo>
                    <a:pt x="2301" y="713"/>
                  </a:lnTo>
                  <a:lnTo>
                    <a:pt x="2302" y="694"/>
                  </a:lnTo>
                  <a:lnTo>
                    <a:pt x="2305" y="676"/>
                  </a:lnTo>
                  <a:lnTo>
                    <a:pt x="2308" y="658"/>
                  </a:lnTo>
                  <a:lnTo>
                    <a:pt x="2314" y="643"/>
                  </a:lnTo>
                  <a:lnTo>
                    <a:pt x="2319" y="637"/>
                  </a:lnTo>
                  <a:lnTo>
                    <a:pt x="2322" y="630"/>
                  </a:lnTo>
                  <a:lnTo>
                    <a:pt x="2327" y="625"/>
                  </a:lnTo>
                  <a:lnTo>
                    <a:pt x="2333" y="621"/>
                  </a:lnTo>
                  <a:lnTo>
                    <a:pt x="2344" y="610"/>
                  </a:lnTo>
                  <a:lnTo>
                    <a:pt x="2357" y="599"/>
                  </a:lnTo>
                  <a:lnTo>
                    <a:pt x="2371" y="586"/>
                  </a:lnTo>
                  <a:lnTo>
                    <a:pt x="2386" y="572"/>
                  </a:lnTo>
                  <a:lnTo>
                    <a:pt x="2418" y="540"/>
                  </a:lnTo>
                  <a:lnTo>
                    <a:pt x="2453" y="507"/>
                  </a:lnTo>
                  <a:lnTo>
                    <a:pt x="2473" y="492"/>
                  </a:lnTo>
                  <a:lnTo>
                    <a:pt x="2494" y="477"/>
                  </a:lnTo>
                  <a:lnTo>
                    <a:pt x="2515" y="463"/>
                  </a:lnTo>
                  <a:lnTo>
                    <a:pt x="2538" y="450"/>
                  </a:lnTo>
                  <a:lnTo>
                    <a:pt x="2550" y="444"/>
                  </a:lnTo>
                  <a:lnTo>
                    <a:pt x="2563" y="438"/>
                  </a:lnTo>
                  <a:lnTo>
                    <a:pt x="2576" y="434"/>
                  </a:lnTo>
                  <a:lnTo>
                    <a:pt x="2588" y="429"/>
                  </a:lnTo>
                  <a:lnTo>
                    <a:pt x="2601" y="426"/>
                  </a:lnTo>
                  <a:lnTo>
                    <a:pt x="2615" y="422"/>
                  </a:lnTo>
                  <a:lnTo>
                    <a:pt x="2629" y="420"/>
                  </a:lnTo>
                  <a:lnTo>
                    <a:pt x="2643" y="419"/>
                  </a:lnTo>
                  <a:lnTo>
                    <a:pt x="2645" y="403"/>
                  </a:lnTo>
                  <a:lnTo>
                    <a:pt x="2646" y="387"/>
                  </a:lnTo>
                  <a:lnTo>
                    <a:pt x="2648" y="370"/>
                  </a:lnTo>
                  <a:lnTo>
                    <a:pt x="2652" y="351"/>
                  </a:lnTo>
                  <a:lnTo>
                    <a:pt x="2659" y="314"/>
                  </a:lnTo>
                  <a:lnTo>
                    <a:pt x="2664" y="276"/>
                  </a:lnTo>
                  <a:lnTo>
                    <a:pt x="2666" y="257"/>
                  </a:lnTo>
                  <a:lnTo>
                    <a:pt x="2666" y="239"/>
                  </a:lnTo>
                  <a:lnTo>
                    <a:pt x="2664" y="222"/>
                  </a:lnTo>
                  <a:lnTo>
                    <a:pt x="2662" y="206"/>
                  </a:lnTo>
                  <a:lnTo>
                    <a:pt x="2660" y="198"/>
                  </a:lnTo>
                  <a:lnTo>
                    <a:pt x="2656" y="191"/>
                  </a:lnTo>
                  <a:lnTo>
                    <a:pt x="2653" y="184"/>
                  </a:lnTo>
                  <a:lnTo>
                    <a:pt x="2649" y="178"/>
                  </a:lnTo>
                  <a:lnTo>
                    <a:pt x="2645" y="172"/>
                  </a:lnTo>
                  <a:lnTo>
                    <a:pt x="2639" y="166"/>
                  </a:lnTo>
                  <a:lnTo>
                    <a:pt x="2633" y="160"/>
                  </a:lnTo>
                  <a:lnTo>
                    <a:pt x="2626" y="157"/>
                  </a:lnTo>
                  <a:lnTo>
                    <a:pt x="2597" y="141"/>
                  </a:lnTo>
                  <a:lnTo>
                    <a:pt x="2569" y="128"/>
                  </a:lnTo>
                  <a:lnTo>
                    <a:pt x="2539" y="116"/>
                  </a:lnTo>
                  <a:lnTo>
                    <a:pt x="2511" y="102"/>
                  </a:lnTo>
                  <a:lnTo>
                    <a:pt x="2496" y="95"/>
                  </a:lnTo>
                  <a:lnTo>
                    <a:pt x="2482" y="86"/>
                  </a:lnTo>
                  <a:lnTo>
                    <a:pt x="2468" y="76"/>
                  </a:lnTo>
                  <a:lnTo>
                    <a:pt x="2454" y="65"/>
                  </a:lnTo>
                  <a:lnTo>
                    <a:pt x="2439" y="52"/>
                  </a:lnTo>
                  <a:lnTo>
                    <a:pt x="2425" y="37"/>
                  </a:lnTo>
                  <a:lnTo>
                    <a:pt x="2411" y="20"/>
                  </a:lnTo>
                  <a:lnTo>
                    <a:pt x="2396" y="0"/>
                  </a:lnTo>
                  <a:lnTo>
                    <a:pt x="625" y="240"/>
                  </a:lnTo>
                  <a:lnTo>
                    <a:pt x="618" y="246"/>
                  </a:lnTo>
                  <a:lnTo>
                    <a:pt x="613" y="252"/>
                  </a:lnTo>
                  <a:lnTo>
                    <a:pt x="611" y="260"/>
                  </a:lnTo>
                  <a:lnTo>
                    <a:pt x="607" y="269"/>
                  </a:lnTo>
                  <a:lnTo>
                    <a:pt x="605" y="290"/>
                  </a:lnTo>
                  <a:lnTo>
                    <a:pt x="603" y="311"/>
                  </a:lnTo>
                  <a:lnTo>
                    <a:pt x="600" y="323"/>
                  </a:lnTo>
                  <a:lnTo>
                    <a:pt x="598" y="333"/>
                  </a:lnTo>
                  <a:lnTo>
                    <a:pt x="593" y="343"/>
                  </a:lnTo>
                  <a:lnTo>
                    <a:pt x="589" y="351"/>
                  </a:lnTo>
                  <a:lnTo>
                    <a:pt x="582" y="359"/>
                  </a:lnTo>
                  <a:lnTo>
                    <a:pt x="573" y="365"/>
                  </a:lnTo>
                  <a:lnTo>
                    <a:pt x="569" y="367"/>
                  </a:lnTo>
                  <a:lnTo>
                    <a:pt x="563" y="370"/>
                  </a:lnTo>
                  <a:lnTo>
                    <a:pt x="557" y="372"/>
                  </a:lnTo>
                  <a:lnTo>
                    <a:pt x="550" y="372"/>
                  </a:lnTo>
                  <a:lnTo>
                    <a:pt x="538" y="374"/>
                  </a:lnTo>
                  <a:lnTo>
                    <a:pt x="528" y="377"/>
                  </a:lnTo>
                  <a:lnTo>
                    <a:pt x="517" y="380"/>
                  </a:lnTo>
                  <a:lnTo>
                    <a:pt x="507" y="385"/>
                  </a:lnTo>
                  <a:lnTo>
                    <a:pt x="498" y="389"/>
                  </a:lnTo>
                  <a:lnTo>
                    <a:pt x="488" y="395"/>
                  </a:lnTo>
                  <a:lnTo>
                    <a:pt x="480" y="401"/>
                  </a:lnTo>
                  <a:lnTo>
                    <a:pt x="472" y="408"/>
                  </a:lnTo>
                  <a:lnTo>
                    <a:pt x="455" y="423"/>
                  </a:lnTo>
                  <a:lnTo>
                    <a:pt x="440" y="438"/>
                  </a:lnTo>
                  <a:lnTo>
                    <a:pt x="424" y="456"/>
                  </a:lnTo>
                  <a:lnTo>
                    <a:pt x="409" y="474"/>
                  </a:lnTo>
                  <a:lnTo>
                    <a:pt x="394" y="491"/>
                  </a:lnTo>
                  <a:lnTo>
                    <a:pt x="377" y="507"/>
                  </a:lnTo>
                  <a:lnTo>
                    <a:pt x="360" y="524"/>
                  </a:lnTo>
                  <a:lnTo>
                    <a:pt x="341" y="539"/>
                  </a:lnTo>
                  <a:lnTo>
                    <a:pt x="332" y="545"/>
                  </a:lnTo>
                  <a:lnTo>
                    <a:pt x="321" y="552"/>
                  </a:lnTo>
                  <a:lnTo>
                    <a:pt x="311" y="556"/>
                  </a:lnTo>
                  <a:lnTo>
                    <a:pt x="299" y="562"/>
                  </a:lnTo>
                  <a:lnTo>
                    <a:pt x="287" y="566"/>
                  </a:lnTo>
                  <a:lnTo>
                    <a:pt x="274" y="569"/>
                  </a:lnTo>
                  <a:lnTo>
                    <a:pt x="262" y="573"/>
                  </a:lnTo>
                  <a:lnTo>
                    <a:pt x="248" y="574"/>
                  </a:lnTo>
                  <a:lnTo>
                    <a:pt x="236" y="575"/>
                  </a:lnTo>
                  <a:lnTo>
                    <a:pt x="224" y="577"/>
                  </a:lnTo>
                  <a:lnTo>
                    <a:pt x="213" y="580"/>
                  </a:lnTo>
                  <a:lnTo>
                    <a:pt x="201" y="583"/>
                  </a:lnTo>
                  <a:lnTo>
                    <a:pt x="177" y="592"/>
                  </a:lnTo>
                  <a:lnTo>
                    <a:pt x="154" y="601"/>
                  </a:lnTo>
                  <a:lnTo>
                    <a:pt x="132" y="613"/>
                  </a:lnTo>
                  <a:lnTo>
                    <a:pt x="111" y="625"/>
                  </a:lnTo>
                  <a:lnTo>
                    <a:pt x="91" y="639"/>
                  </a:lnTo>
                  <a:lnTo>
                    <a:pt x="72" y="653"/>
                  </a:lnTo>
                  <a:lnTo>
                    <a:pt x="56" y="669"/>
                  </a:lnTo>
                  <a:lnTo>
                    <a:pt x="41" y="683"/>
                  </a:lnTo>
                  <a:lnTo>
                    <a:pt x="28" y="697"/>
                  </a:lnTo>
                  <a:lnTo>
                    <a:pt x="19" y="709"/>
                  </a:lnTo>
                  <a:lnTo>
                    <a:pt x="12" y="720"/>
                  </a:lnTo>
                  <a:lnTo>
                    <a:pt x="7" y="731"/>
                  </a:lnTo>
                  <a:lnTo>
                    <a:pt x="6" y="735"/>
                  </a:lnTo>
                  <a:lnTo>
                    <a:pt x="6" y="739"/>
                  </a:lnTo>
                  <a:lnTo>
                    <a:pt x="7" y="741"/>
                  </a:lnTo>
                  <a:lnTo>
                    <a:pt x="8" y="745"/>
                  </a:lnTo>
                  <a:lnTo>
                    <a:pt x="12" y="748"/>
                  </a:lnTo>
                  <a:lnTo>
                    <a:pt x="15" y="754"/>
                  </a:lnTo>
                  <a:lnTo>
                    <a:pt x="17" y="759"/>
                  </a:lnTo>
                  <a:lnTo>
                    <a:pt x="19" y="763"/>
                  </a:lnTo>
                  <a:lnTo>
                    <a:pt x="20" y="775"/>
                  </a:lnTo>
                  <a:lnTo>
                    <a:pt x="17" y="785"/>
                  </a:lnTo>
                  <a:lnTo>
                    <a:pt x="15" y="795"/>
                  </a:lnTo>
                  <a:lnTo>
                    <a:pt x="10" y="803"/>
                  </a:lnTo>
                  <a:lnTo>
                    <a:pt x="5" y="810"/>
                  </a:lnTo>
                  <a:lnTo>
                    <a:pt x="0" y="813"/>
                  </a:lnTo>
                  <a:lnTo>
                    <a:pt x="541" y="75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Freeform 136"/>
            <p:cNvSpPr/>
            <p:nvPr/>
          </p:nvSpPr>
          <p:spPr>
            <a:xfrm>
              <a:off x="8091720" y="4113360"/>
              <a:ext cx="401400" cy="1443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666" h="882">
                  <a:moveTo>
                    <a:pt x="541" y="755"/>
                  </a:moveTo>
                  <a:lnTo>
                    <a:pt x="556" y="690"/>
                  </a:lnTo>
                  <a:lnTo>
                    <a:pt x="1089" y="643"/>
                  </a:lnTo>
                  <a:lnTo>
                    <a:pt x="1120" y="698"/>
                  </a:lnTo>
                  <a:lnTo>
                    <a:pt x="1468" y="666"/>
                  </a:lnTo>
                  <a:lnTo>
                    <a:pt x="2117" y="882"/>
                  </a:lnTo>
                  <a:lnTo>
                    <a:pt x="2317" y="851"/>
                  </a:lnTo>
                  <a:lnTo>
                    <a:pt x="2316" y="843"/>
                  </a:lnTo>
                  <a:lnTo>
                    <a:pt x="2312" y="822"/>
                  </a:lnTo>
                  <a:lnTo>
                    <a:pt x="2307" y="790"/>
                  </a:lnTo>
                  <a:lnTo>
                    <a:pt x="2302" y="753"/>
                  </a:lnTo>
                  <a:lnTo>
                    <a:pt x="2301" y="733"/>
                  </a:lnTo>
                  <a:lnTo>
                    <a:pt x="2301" y="713"/>
                  </a:lnTo>
                  <a:lnTo>
                    <a:pt x="2302" y="694"/>
                  </a:lnTo>
                  <a:lnTo>
                    <a:pt x="2305" y="676"/>
                  </a:lnTo>
                  <a:lnTo>
                    <a:pt x="2308" y="658"/>
                  </a:lnTo>
                  <a:lnTo>
                    <a:pt x="2314" y="643"/>
                  </a:lnTo>
                  <a:lnTo>
                    <a:pt x="2319" y="637"/>
                  </a:lnTo>
                  <a:lnTo>
                    <a:pt x="2322" y="630"/>
                  </a:lnTo>
                  <a:lnTo>
                    <a:pt x="2327" y="625"/>
                  </a:lnTo>
                  <a:lnTo>
                    <a:pt x="2333" y="621"/>
                  </a:lnTo>
                  <a:lnTo>
                    <a:pt x="2344" y="610"/>
                  </a:lnTo>
                  <a:lnTo>
                    <a:pt x="2357" y="599"/>
                  </a:lnTo>
                  <a:lnTo>
                    <a:pt x="2371" y="586"/>
                  </a:lnTo>
                  <a:lnTo>
                    <a:pt x="2386" y="572"/>
                  </a:lnTo>
                  <a:lnTo>
                    <a:pt x="2418" y="540"/>
                  </a:lnTo>
                  <a:lnTo>
                    <a:pt x="2453" y="507"/>
                  </a:lnTo>
                  <a:lnTo>
                    <a:pt x="2473" y="492"/>
                  </a:lnTo>
                  <a:lnTo>
                    <a:pt x="2494" y="477"/>
                  </a:lnTo>
                  <a:lnTo>
                    <a:pt x="2515" y="463"/>
                  </a:lnTo>
                  <a:lnTo>
                    <a:pt x="2538" y="450"/>
                  </a:lnTo>
                  <a:lnTo>
                    <a:pt x="2550" y="444"/>
                  </a:lnTo>
                  <a:lnTo>
                    <a:pt x="2563" y="438"/>
                  </a:lnTo>
                  <a:lnTo>
                    <a:pt x="2576" y="434"/>
                  </a:lnTo>
                  <a:lnTo>
                    <a:pt x="2588" y="429"/>
                  </a:lnTo>
                  <a:lnTo>
                    <a:pt x="2601" y="426"/>
                  </a:lnTo>
                  <a:lnTo>
                    <a:pt x="2615" y="422"/>
                  </a:lnTo>
                  <a:lnTo>
                    <a:pt x="2629" y="420"/>
                  </a:lnTo>
                  <a:lnTo>
                    <a:pt x="2643" y="419"/>
                  </a:lnTo>
                  <a:lnTo>
                    <a:pt x="2645" y="403"/>
                  </a:lnTo>
                  <a:lnTo>
                    <a:pt x="2646" y="387"/>
                  </a:lnTo>
                  <a:lnTo>
                    <a:pt x="2648" y="370"/>
                  </a:lnTo>
                  <a:lnTo>
                    <a:pt x="2652" y="351"/>
                  </a:lnTo>
                  <a:lnTo>
                    <a:pt x="2659" y="314"/>
                  </a:lnTo>
                  <a:lnTo>
                    <a:pt x="2664" y="276"/>
                  </a:lnTo>
                  <a:lnTo>
                    <a:pt x="2666" y="257"/>
                  </a:lnTo>
                  <a:lnTo>
                    <a:pt x="2666" y="239"/>
                  </a:lnTo>
                  <a:lnTo>
                    <a:pt x="2664" y="222"/>
                  </a:lnTo>
                  <a:lnTo>
                    <a:pt x="2662" y="206"/>
                  </a:lnTo>
                  <a:lnTo>
                    <a:pt x="2660" y="198"/>
                  </a:lnTo>
                  <a:lnTo>
                    <a:pt x="2656" y="191"/>
                  </a:lnTo>
                  <a:lnTo>
                    <a:pt x="2653" y="184"/>
                  </a:lnTo>
                  <a:lnTo>
                    <a:pt x="2649" y="178"/>
                  </a:lnTo>
                  <a:lnTo>
                    <a:pt x="2645" y="172"/>
                  </a:lnTo>
                  <a:lnTo>
                    <a:pt x="2639" y="166"/>
                  </a:lnTo>
                  <a:lnTo>
                    <a:pt x="2633" y="160"/>
                  </a:lnTo>
                  <a:lnTo>
                    <a:pt x="2626" y="157"/>
                  </a:lnTo>
                  <a:lnTo>
                    <a:pt x="2597" y="141"/>
                  </a:lnTo>
                  <a:lnTo>
                    <a:pt x="2569" y="128"/>
                  </a:lnTo>
                  <a:lnTo>
                    <a:pt x="2539" y="116"/>
                  </a:lnTo>
                  <a:lnTo>
                    <a:pt x="2511" y="102"/>
                  </a:lnTo>
                  <a:lnTo>
                    <a:pt x="2496" y="95"/>
                  </a:lnTo>
                  <a:lnTo>
                    <a:pt x="2482" y="86"/>
                  </a:lnTo>
                  <a:lnTo>
                    <a:pt x="2468" y="76"/>
                  </a:lnTo>
                  <a:lnTo>
                    <a:pt x="2454" y="65"/>
                  </a:lnTo>
                  <a:lnTo>
                    <a:pt x="2439" y="52"/>
                  </a:lnTo>
                  <a:lnTo>
                    <a:pt x="2425" y="37"/>
                  </a:lnTo>
                  <a:lnTo>
                    <a:pt x="2411" y="20"/>
                  </a:lnTo>
                  <a:lnTo>
                    <a:pt x="2396" y="0"/>
                  </a:lnTo>
                  <a:lnTo>
                    <a:pt x="625" y="240"/>
                  </a:lnTo>
                  <a:lnTo>
                    <a:pt x="618" y="246"/>
                  </a:lnTo>
                  <a:lnTo>
                    <a:pt x="613" y="252"/>
                  </a:lnTo>
                  <a:lnTo>
                    <a:pt x="611" y="260"/>
                  </a:lnTo>
                  <a:lnTo>
                    <a:pt x="607" y="269"/>
                  </a:lnTo>
                  <a:lnTo>
                    <a:pt x="605" y="290"/>
                  </a:lnTo>
                  <a:lnTo>
                    <a:pt x="603" y="311"/>
                  </a:lnTo>
                  <a:lnTo>
                    <a:pt x="600" y="323"/>
                  </a:lnTo>
                  <a:lnTo>
                    <a:pt x="598" y="333"/>
                  </a:lnTo>
                  <a:lnTo>
                    <a:pt x="593" y="343"/>
                  </a:lnTo>
                  <a:lnTo>
                    <a:pt x="589" y="351"/>
                  </a:lnTo>
                  <a:lnTo>
                    <a:pt x="582" y="359"/>
                  </a:lnTo>
                  <a:lnTo>
                    <a:pt x="573" y="365"/>
                  </a:lnTo>
                  <a:lnTo>
                    <a:pt x="569" y="367"/>
                  </a:lnTo>
                  <a:lnTo>
                    <a:pt x="563" y="370"/>
                  </a:lnTo>
                  <a:lnTo>
                    <a:pt x="557" y="372"/>
                  </a:lnTo>
                  <a:lnTo>
                    <a:pt x="550" y="372"/>
                  </a:lnTo>
                  <a:lnTo>
                    <a:pt x="538" y="374"/>
                  </a:lnTo>
                  <a:lnTo>
                    <a:pt x="528" y="377"/>
                  </a:lnTo>
                  <a:lnTo>
                    <a:pt x="517" y="380"/>
                  </a:lnTo>
                  <a:lnTo>
                    <a:pt x="507" y="385"/>
                  </a:lnTo>
                  <a:lnTo>
                    <a:pt x="498" y="389"/>
                  </a:lnTo>
                  <a:lnTo>
                    <a:pt x="488" y="395"/>
                  </a:lnTo>
                  <a:lnTo>
                    <a:pt x="480" y="401"/>
                  </a:lnTo>
                  <a:lnTo>
                    <a:pt x="472" y="408"/>
                  </a:lnTo>
                  <a:lnTo>
                    <a:pt x="455" y="423"/>
                  </a:lnTo>
                  <a:lnTo>
                    <a:pt x="440" y="438"/>
                  </a:lnTo>
                  <a:lnTo>
                    <a:pt x="424" y="456"/>
                  </a:lnTo>
                  <a:lnTo>
                    <a:pt x="409" y="474"/>
                  </a:lnTo>
                  <a:lnTo>
                    <a:pt x="394" y="491"/>
                  </a:lnTo>
                  <a:lnTo>
                    <a:pt x="377" y="507"/>
                  </a:lnTo>
                  <a:lnTo>
                    <a:pt x="360" y="524"/>
                  </a:lnTo>
                  <a:lnTo>
                    <a:pt x="341" y="539"/>
                  </a:lnTo>
                  <a:lnTo>
                    <a:pt x="332" y="545"/>
                  </a:lnTo>
                  <a:lnTo>
                    <a:pt x="321" y="552"/>
                  </a:lnTo>
                  <a:lnTo>
                    <a:pt x="311" y="556"/>
                  </a:lnTo>
                  <a:lnTo>
                    <a:pt x="299" y="562"/>
                  </a:lnTo>
                  <a:lnTo>
                    <a:pt x="287" y="566"/>
                  </a:lnTo>
                  <a:lnTo>
                    <a:pt x="274" y="569"/>
                  </a:lnTo>
                  <a:lnTo>
                    <a:pt x="262" y="573"/>
                  </a:lnTo>
                  <a:lnTo>
                    <a:pt x="248" y="574"/>
                  </a:lnTo>
                  <a:lnTo>
                    <a:pt x="236" y="575"/>
                  </a:lnTo>
                  <a:lnTo>
                    <a:pt x="224" y="577"/>
                  </a:lnTo>
                  <a:lnTo>
                    <a:pt x="213" y="580"/>
                  </a:lnTo>
                  <a:lnTo>
                    <a:pt x="201" y="583"/>
                  </a:lnTo>
                  <a:lnTo>
                    <a:pt x="177" y="592"/>
                  </a:lnTo>
                  <a:lnTo>
                    <a:pt x="154" y="601"/>
                  </a:lnTo>
                  <a:lnTo>
                    <a:pt x="132" y="613"/>
                  </a:lnTo>
                  <a:lnTo>
                    <a:pt x="111" y="625"/>
                  </a:lnTo>
                  <a:lnTo>
                    <a:pt x="91" y="639"/>
                  </a:lnTo>
                  <a:lnTo>
                    <a:pt x="72" y="653"/>
                  </a:lnTo>
                  <a:lnTo>
                    <a:pt x="56" y="669"/>
                  </a:lnTo>
                  <a:lnTo>
                    <a:pt x="41" y="683"/>
                  </a:lnTo>
                  <a:lnTo>
                    <a:pt x="28" y="697"/>
                  </a:lnTo>
                  <a:lnTo>
                    <a:pt x="19" y="709"/>
                  </a:lnTo>
                  <a:lnTo>
                    <a:pt x="12" y="720"/>
                  </a:lnTo>
                  <a:lnTo>
                    <a:pt x="7" y="731"/>
                  </a:lnTo>
                  <a:lnTo>
                    <a:pt x="6" y="735"/>
                  </a:lnTo>
                  <a:lnTo>
                    <a:pt x="6" y="739"/>
                  </a:lnTo>
                  <a:lnTo>
                    <a:pt x="7" y="741"/>
                  </a:lnTo>
                  <a:lnTo>
                    <a:pt x="8" y="745"/>
                  </a:lnTo>
                  <a:lnTo>
                    <a:pt x="12" y="748"/>
                  </a:lnTo>
                  <a:lnTo>
                    <a:pt x="15" y="754"/>
                  </a:lnTo>
                  <a:lnTo>
                    <a:pt x="17" y="759"/>
                  </a:lnTo>
                  <a:lnTo>
                    <a:pt x="19" y="763"/>
                  </a:lnTo>
                  <a:lnTo>
                    <a:pt x="20" y="775"/>
                  </a:lnTo>
                  <a:lnTo>
                    <a:pt x="17" y="785"/>
                  </a:lnTo>
                  <a:lnTo>
                    <a:pt x="15" y="795"/>
                  </a:lnTo>
                  <a:lnTo>
                    <a:pt x="10" y="803"/>
                  </a:lnTo>
                  <a:lnTo>
                    <a:pt x="5" y="810"/>
                  </a:lnTo>
                  <a:lnTo>
                    <a:pt x="0" y="813"/>
                  </a:lnTo>
                  <a:lnTo>
                    <a:pt x="541" y="75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Freeform 137"/>
            <p:cNvSpPr/>
            <p:nvPr/>
          </p:nvSpPr>
          <p:spPr>
            <a:xfrm>
              <a:off x="7794360" y="4151160"/>
              <a:ext cx="389880" cy="12960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590" h="792">
                  <a:moveTo>
                    <a:pt x="2590" y="0"/>
                  </a:moveTo>
                  <a:lnTo>
                    <a:pt x="613" y="265"/>
                  </a:lnTo>
                  <a:lnTo>
                    <a:pt x="596" y="311"/>
                  </a:lnTo>
                  <a:lnTo>
                    <a:pt x="78" y="366"/>
                  </a:lnTo>
                  <a:lnTo>
                    <a:pt x="76" y="377"/>
                  </a:lnTo>
                  <a:lnTo>
                    <a:pt x="75" y="388"/>
                  </a:lnTo>
                  <a:lnTo>
                    <a:pt x="74" y="398"/>
                  </a:lnTo>
                  <a:lnTo>
                    <a:pt x="74" y="408"/>
                  </a:lnTo>
                  <a:lnTo>
                    <a:pt x="74" y="426"/>
                  </a:lnTo>
                  <a:lnTo>
                    <a:pt x="74" y="443"/>
                  </a:lnTo>
                  <a:lnTo>
                    <a:pt x="73" y="452"/>
                  </a:lnTo>
                  <a:lnTo>
                    <a:pt x="70" y="460"/>
                  </a:lnTo>
                  <a:lnTo>
                    <a:pt x="68" y="469"/>
                  </a:lnTo>
                  <a:lnTo>
                    <a:pt x="63" y="478"/>
                  </a:lnTo>
                  <a:lnTo>
                    <a:pt x="59" y="487"/>
                  </a:lnTo>
                  <a:lnTo>
                    <a:pt x="52" y="498"/>
                  </a:lnTo>
                  <a:lnTo>
                    <a:pt x="42" y="508"/>
                  </a:lnTo>
                  <a:lnTo>
                    <a:pt x="32" y="519"/>
                  </a:lnTo>
                  <a:lnTo>
                    <a:pt x="35" y="535"/>
                  </a:lnTo>
                  <a:lnTo>
                    <a:pt x="36" y="551"/>
                  </a:lnTo>
                  <a:lnTo>
                    <a:pt x="37" y="568"/>
                  </a:lnTo>
                  <a:lnTo>
                    <a:pt x="39" y="585"/>
                  </a:lnTo>
                  <a:lnTo>
                    <a:pt x="37" y="603"/>
                  </a:lnTo>
                  <a:lnTo>
                    <a:pt x="37" y="619"/>
                  </a:lnTo>
                  <a:lnTo>
                    <a:pt x="35" y="637"/>
                  </a:lnTo>
                  <a:lnTo>
                    <a:pt x="33" y="654"/>
                  </a:lnTo>
                  <a:lnTo>
                    <a:pt x="27" y="689"/>
                  </a:lnTo>
                  <a:lnTo>
                    <a:pt x="20" y="724"/>
                  </a:lnTo>
                  <a:lnTo>
                    <a:pt x="11" y="758"/>
                  </a:lnTo>
                  <a:lnTo>
                    <a:pt x="0" y="792"/>
                  </a:lnTo>
                  <a:lnTo>
                    <a:pt x="709" y="717"/>
                  </a:lnTo>
                  <a:lnTo>
                    <a:pt x="712" y="717"/>
                  </a:lnTo>
                  <a:lnTo>
                    <a:pt x="1466" y="631"/>
                  </a:lnTo>
                  <a:lnTo>
                    <a:pt x="1967" y="576"/>
                  </a:lnTo>
                  <a:lnTo>
                    <a:pt x="1972" y="563"/>
                  </a:lnTo>
                  <a:lnTo>
                    <a:pt x="1981" y="545"/>
                  </a:lnTo>
                  <a:lnTo>
                    <a:pt x="1982" y="541"/>
                  </a:lnTo>
                  <a:lnTo>
                    <a:pt x="1984" y="536"/>
                  </a:lnTo>
                  <a:lnTo>
                    <a:pt x="1985" y="530"/>
                  </a:lnTo>
                  <a:lnTo>
                    <a:pt x="1985" y="526"/>
                  </a:lnTo>
                  <a:lnTo>
                    <a:pt x="1984" y="520"/>
                  </a:lnTo>
                  <a:lnTo>
                    <a:pt x="1981" y="515"/>
                  </a:lnTo>
                  <a:lnTo>
                    <a:pt x="1978" y="509"/>
                  </a:lnTo>
                  <a:lnTo>
                    <a:pt x="1973" y="505"/>
                  </a:lnTo>
                  <a:lnTo>
                    <a:pt x="1972" y="501"/>
                  </a:lnTo>
                  <a:lnTo>
                    <a:pt x="1971" y="499"/>
                  </a:lnTo>
                  <a:lnTo>
                    <a:pt x="1971" y="495"/>
                  </a:lnTo>
                  <a:lnTo>
                    <a:pt x="1972" y="491"/>
                  </a:lnTo>
                  <a:lnTo>
                    <a:pt x="1977" y="480"/>
                  </a:lnTo>
                  <a:lnTo>
                    <a:pt x="1984" y="469"/>
                  </a:lnTo>
                  <a:lnTo>
                    <a:pt x="1993" y="457"/>
                  </a:lnTo>
                  <a:lnTo>
                    <a:pt x="2006" y="443"/>
                  </a:lnTo>
                  <a:lnTo>
                    <a:pt x="2021" y="429"/>
                  </a:lnTo>
                  <a:lnTo>
                    <a:pt x="2037" y="413"/>
                  </a:lnTo>
                  <a:lnTo>
                    <a:pt x="2056" y="399"/>
                  </a:lnTo>
                  <a:lnTo>
                    <a:pt x="2076" y="385"/>
                  </a:lnTo>
                  <a:lnTo>
                    <a:pt x="2097" y="373"/>
                  </a:lnTo>
                  <a:lnTo>
                    <a:pt x="2119" y="361"/>
                  </a:lnTo>
                  <a:lnTo>
                    <a:pt x="2142" y="352"/>
                  </a:lnTo>
                  <a:lnTo>
                    <a:pt x="2166" y="343"/>
                  </a:lnTo>
                  <a:lnTo>
                    <a:pt x="2178" y="340"/>
                  </a:lnTo>
                  <a:lnTo>
                    <a:pt x="2189" y="337"/>
                  </a:lnTo>
                  <a:lnTo>
                    <a:pt x="2201" y="335"/>
                  </a:lnTo>
                  <a:lnTo>
                    <a:pt x="2213" y="334"/>
                  </a:lnTo>
                  <a:lnTo>
                    <a:pt x="2227" y="333"/>
                  </a:lnTo>
                  <a:lnTo>
                    <a:pt x="2239" y="329"/>
                  </a:lnTo>
                  <a:lnTo>
                    <a:pt x="2252" y="326"/>
                  </a:lnTo>
                  <a:lnTo>
                    <a:pt x="2264" y="322"/>
                  </a:lnTo>
                  <a:lnTo>
                    <a:pt x="2276" y="316"/>
                  </a:lnTo>
                  <a:lnTo>
                    <a:pt x="2286" y="312"/>
                  </a:lnTo>
                  <a:lnTo>
                    <a:pt x="2297" y="305"/>
                  </a:lnTo>
                  <a:lnTo>
                    <a:pt x="2306" y="299"/>
                  </a:lnTo>
                  <a:lnTo>
                    <a:pt x="2325" y="284"/>
                  </a:lnTo>
                  <a:lnTo>
                    <a:pt x="2342" y="267"/>
                  </a:lnTo>
                  <a:lnTo>
                    <a:pt x="2359" y="251"/>
                  </a:lnTo>
                  <a:lnTo>
                    <a:pt x="2374" y="234"/>
                  </a:lnTo>
                  <a:lnTo>
                    <a:pt x="2389" y="216"/>
                  </a:lnTo>
                  <a:lnTo>
                    <a:pt x="2405" y="198"/>
                  </a:lnTo>
                  <a:lnTo>
                    <a:pt x="2420" y="183"/>
                  </a:lnTo>
                  <a:lnTo>
                    <a:pt x="2437" y="168"/>
                  </a:lnTo>
                  <a:lnTo>
                    <a:pt x="2445" y="161"/>
                  </a:lnTo>
                  <a:lnTo>
                    <a:pt x="2453" y="155"/>
                  </a:lnTo>
                  <a:lnTo>
                    <a:pt x="2463" y="149"/>
                  </a:lnTo>
                  <a:lnTo>
                    <a:pt x="2472" y="145"/>
                  </a:lnTo>
                  <a:lnTo>
                    <a:pt x="2482" y="140"/>
                  </a:lnTo>
                  <a:lnTo>
                    <a:pt x="2493" y="137"/>
                  </a:lnTo>
                  <a:lnTo>
                    <a:pt x="2503" y="134"/>
                  </a:lnTo>
                  <a:lnTo>
                    <a:pt x="2515" y="132"/>
                  </a:lnTo>
                  <a:lnTo>
                    <a:pt x="2522" y="132"/>
                  </a:lnTo>
                  <a:lnTo>
                    <a:pt x="2528" y="130"/>
                  </a:lnTo>
                  <a:lnTo>
                    <a:pt x="2534" y="127"/>
                  </a:lnTo>
                  <a:lnTo>
                    <a:pt x="2538" y="125"/>
                  </a:lnTo>
                  <a:lnTo>
                    <a:pt x="2547" y="119"/>
                  </a:lnTo>
                  <a:lnTo>
                    <a:pt x="2554" y="111"/>
                  </a:lnTo>
                  <a:lnTo>
                    <a:pt x="2558" y="103"/>
                  </a:lnTo>
                  <a:lnTo>
                    <a:pt x="2563" y="93"/>
                  </a:lnTo>
                  <a:lnTo>
                    <a:pt x="2565" y="83"/>
                  </a:lnTo>
                  <a:lnTo>
                    <a:pt x="2568" y="71"/>
                  </a:lnTo>
                  <a:lnTo>
                    <a:pt x="2570" y="50"/>
                  </a:lnTo>
                  <a:lnTo>
                    <a:pt x="2572" y="29"/>
                  </a:lnTo>
                  <a:lnTo>
                    <a:pt x="2576" y="20"/>
                  </a:lnTo>
                  <a:lnTo>
                    <a:pt x="2578" y="12"/>
                  </a:lnTo>
                  <a:lnTo>
                    <a:pt x="2583" y="6"/>
                  </a:lnTo>
                  <a:lnTo>
                    <a:pt x="25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Freeform 138"/>
            <p:cNvSpPr/>
            <p:nvPr/>
          </p:nvSpPr>
          <p:spPr>
            <a:xfrm>
              <a:off x="7794360" y="4151160"/>
              <a:ext cx="389880" cy="12960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590" h="792">
                  <a:moveTo>
                    <a:pt x="2590" y="0"/>
                  </a:moveTo>
                  <a:lnTo>
                    <a:pt x="613" y="265"/>
                  </a:lnTo>
                  <a:lnTo>
                    <a:pt x="596" y="311"/>
                  </a:lnTo>
                  <a:lnTo>
                    <a:pt x="78" y="366"/>
                  </a:lnTo>
                  <a:lnTo>
                    <a:pt x="76" y="377"/>
                  </a:lnTo>
                  <a:lnTo>
                    <a:pt x="75" y="388"/>
                  </a:lnTo>
                  <a:lnTo>
                    <a:pt x="74" y="398"/>
                  </a:lnTo>
                  <a:lnTo>
                    <a:pt x="74" y="408"/>
                  </a:lnTo>
                  <a:lnTo>
                    <a:pt x="74" y="426"/>
                  </a:lnTo>
                  <a:lnTo>
                    <a:pt x="74" y="443"/>
                  </a:lnTo>
                  <a:lnTo>
                    <a:pt x="73" y="452"/>
                  </a:lnTo>
                  <a:lnTo>
                    <a:pt x="70" y="460"/>
                  </a:lnTo>
                  <a:lnTo>
                    <a:pt x="68" y="469"/>
                  </a:lnTo>
                  <a:lnTo>
                    <a:pt x="63" y="478"/>
                  </a:lnTo>
                  <a:lnTo>
                    <a:pt x="59" y="487"/>
                  </a:lnTo>
                  <a:lnTo>
                    <a:pt x="52" y="498"/>
                  </a:lnTo>
                  <a:lnTo>
                    <a:pt x="42" y="508"/>
                  </a:lnTo>
                  <a:lnTo>
                    <a:pt x="32" y="519"/>
                  </a:lnTo>
                  <a:lnTo>
                    <a:pt x="35" y="535"/>
                  </a:lnTo>
                  <a:lnTo>
                    <a:pt x="36" y="551"/>
                  </a:lnTo>
                  <a:lnTo>
                    <a:pt x="37" y="568"/>
                  </a:lnTo>
                  <a:lnTo>
                    <a:pt x="39" y="585"/>
                  </a:lnTo>
                  <a:lnTo>
                    <a:pt x="37" y="603"/>
                  </a:lnTo>
                  <a:lnTo>
                    <a:pt x="37" y="619"/>
                  </a:lnTo>
                  <a:lnTo>
                    <a:pt x="35" y="637"/>
                  </a:lnTo>
                  <a:lnTo>
                    <a:pt x="33" y="654"/>
                  </a:lnTo>
                  <a:lnTo>
                    <a:pt x="27" y="689"/>
                  </a:lnTo>
                  <a:lnTo>
                    <a:pt x="20" y="724"/>
                  </a:lnTo>
                  <a:lnTo>
                    <a:pt x="11" y="758"/>
                  </a:lnTo>
                  <a:lnTo>
                    <a:pt x="0" y="792"/>
                  </a:lnTo>
                  <a:lnTo>
                    <a:pt x="709" y="717"/>
                  </a:lnTo>
                  <a:lnTo>
                    <a:pt x="712" y="717"/>
                  </a:lnTo>
                  <a:lnTo>
                    <a:pt x="1466" y="631"/>
                  </a:lnTo>
                  <a:lnTo>
                    <a:pt x="1967" y="576"/>
                  </a:lnTo>
                  <a:lnTo>
                    <a:pt x="1972" y="563"/>
                  </a:lnTo>
                  <a:lnTo>
                    <a:pt x="1981" y="545"/>
                  </a:lnTo>
                  <a:lnTo>
                    <a:pt x="1982" y="541"/>
                  </a:lnTo>
                  <a:lnTo>
                    <a:pt x="1984" y="536"/>
                  </a:lnTo>
                  <a:lnTo>
                    <a:pt x="1985" y="530"/>
                  </a:lnTo>
                  <a:lnTo>
                    <a:pt x="1985" y="526"/>
                  </a:lnTo>
                  <a:lnTo>
                    <a:pt x="1984" y="520"/>
                  </a:lnTo>
                  <a:lnTo>
                    <a:pt x="1981" y="515"/>
                  </a:lnTo>
                  <a:lnTo>
                    <a:pt x="1978" y="509"/>
                  </a:lnTo>
                  <a:lnTo>
                    <a:pt x="1973" y="505"/>
                  </a:lnTo>
                  <a:lnTo>
                    <a:pt x="1972" y="501"/>
                  </a:lnTo>
                  <a:lnTo>
                    <a:pt x="1971" y="499"/>
                  </a:lnTo>
                  <a:lnTo>
                    <a:pt x="1971" y="495"/>
                  </a:lnTo>
                  <a:lnTo>
                    <a:pt x="1972" y="491"/>
                  </a:lnTo>
                  <a:lnTo>
                    <a:pt x="1977" y="480"/>
                  </a:lnTo>
                  <a:lnTo>
                    <a:pt x="1984" y="469"/>
                  </a:lnTo>
                  <a:lnTo>
                    <a:pt x="1993" y="457"/>
                  </a:lnTo>
                  <a:lnTo>
                    <a:pt x="2006" y="443"/>
                  </a:lnTo>
                  <a:lnTo>
                    <a:pt x="2021" y="429"/>
                  </a:lnTo>
                  <a:lnTo>
                    <a:pt x="2037" y="413"/>
                  </a:lnTo>
                  <a:lnTo>
                    <a:pt x="2056" y="399"/>
                  </a:lnTo>
                  <a:lnTo>
                    <a:pt x="2076" y="385"/>
                  </a:lnTo>
                  <a:lnTo>
                    <a:pt x="2097" y="373"/>
                  </a:lnTo>
                  <a:lnTo>
                    <a:pt x="2119" y="361"/>
                  </a:lnTo>
                  <a:lnTo>
                    <a:pt x="2142" y="352"/>
                  </a:lnTo>
                  <a:lnTo>
                    <a:pt x="2166" y="343"/>
                  </a:lnTo>
                  <a:lnTo>
                    <a:pt x="2178" y="340"/>
                  </a:lnTo>
                  <a:lnTo>
                    <a:pt x="2189" y="337"/>
                  </a:lnTo>
                  <a:lnTo>
                    <a:pt x="2201" y="335"/>
                  </a:lnTo>
                  <a:lnTo>
                    <a:pt x="2213" y="334"/>
                  </a:lnTo>
                  <a:lnTo>
                    <a:pt x="2227" y="333"/>
                  </a:lnTo>
                  <a:lnTo>
                    <a:pt x="2239" y="329"/>
                  </a:lnTo>
                  <a:lnTo>
                    <a:pt x="2252" y="326"/>
                  </a:lnTo>
                  <a:lnTo>
                    <a:pt x="2264" y="322"/>
                  </a:lnTo>
                  <a:lnTo>
                    <a:pt x="2276" y="316"/>
                  </a:lnTo>
                  <a:lnTo>
                    <a:pt x="2286" y="312"/>
                  </a:lnTo>
                  <a:lnTo>
                    <a:pt x="2297" y="305"/>
                  </a:lnTo>
                  <a:lnTo>
                    <a:pt x="2306" y="299"/>
                  </a:lnTo>
                  <a:lnTo>
                    <a:pt x="2325" y="284"/>
                  </a:lnTo>
                  <a:lnTo>
                    <a:pt x="2342" y="267"/>
                  </a:lnTo>
                  <a:lnTo>
                    <a:pt x="2359" y="251"/>
                  </a:lnTo>
                  <a:lnTo>
                    <a:pt x="2374" y="234"/>
                  </a:lnTo>
                  <a:lnTo>
                    <a:pt x="2389" y="216"/>
                  </a:lnTo>
                  <a:lnTo>
                    <a:pt x="2405" y="198"/>
                  </a:lnTo>
                  <a:lnTo>
                    <a:pt x="2420" y="183"/>
                  </a:lnTo>
                  <a:lnTo>
                    <a:pt x="2437" y="168"/>
                  </a:lnTo>
                  <a:lnTo>
                    <a:pt x="2445" y="161"/>
                  </a:lnTo>
                  <a:lnTo>
                    <a:pt x="2453" y="155"/>
                  </a:lnTo>
                  <a:lnTo>
                    <a:pt x="2463" y="149"/>
                  </a:lnTo>
                  <a:lnTo>
                    <a:pt x="2472" y="145"/>
                  </a:lnTo>
                  <a:lnTo>
                    <a:pt x="2482" y="140"/>
                  </a:lnTo>
                  <a:lnTo>
                    <a:pt x="2493" y="137"/>
                  </a:lnTo>
                  <a:lnTo>
                    <a:pt x="2503" y="134"/>
                  </a:lnTo>
                  <a:lnTo>
                    <a:pt x="2515" y="132"/>
                  </a:lnTo>
                  <a:lnTo>
                    <a:pt x="2522" y="132"/>
                  </a:lnTo>
                  <a:lnTo>
                    <a:pt x="2528" y="130"/>
                  </a:lnTo>
                  <a:lnTo>
                    <a:pt x="2534" y="127"/>
                  </a:lnTo>
                  <a:lnTo>
                    <a:pt x="2538" y="125"/>
                  </a:lnTo>
                  <a:lnTo>
                    <a:pt x="2547" y="119"/>
                  </a:lnTo>
                  <a:lnTo>
                    <a:pt x="2554" y="111"/>
                  </a:lnTo>
                  <a:lnTo>
                    <a:pt x="2558" y="103"/>
                  </a:lnTo>
                  <a:lnTo>
                    <a:pt x="2563" y="93"/>
                  </a:lnTo>
                  <a:lnTo>
                    <a:pt x="2565" y="83"/>
                  </a:lnTo>
                  <a:lnTo>
                    <a:pt x="2568" y="71"/>
                  </a:lnTo>
                  <a:lnTo>
                    <a:pt x="2570" y="50"/>
                  </a:lnTo>
                  <a:lnTo>
                    <a:pt x="2572" y="29"/>
                  </a:lnTo>
                  <a:lnTo>
                    <a:pt x="2576" y="20"/>
                  </a:lnTo>
                  <a:lnTo>
                    <a:pt x="2578" y="12"/>
                  </a:lnTo>
                  <a:lnTo>
                    <a:pt x="2583" y="6"/>
                  </a:lnTo>
                  <a:lnTo>
                    <a:pt x="25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Freeform 139"/>
            <p:cNvSpPr/>
            <p:nvPr/>
          </p:nvSpPr>
          <p:spPr>
            <a:xfrm>
              <a:off x="7805520" y="4065120"/>
              <a:ext cx="322200" cy="1458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35" h="893">
                  <a:moveTo>
                    <a:pt x="1872" y="611"/>
                  </a:moveTo>
                  <a:lnTo>
                    <a:pt x="535" y="792"/>
                  </a:lnTo>
                  <a:lnTo>
                    <a:pt x="518" y="838"/>
                  </a:lnTo>
                  <a:lnTo>
                    <a:pt x="0" y="893"/>
                  </a:lnTo>
                  <a:lnTo>
                    <a:pt x="7" y="870"/>
                  </a:lnTo>
                  <a:lnTo>
                    <a:pt x="16" y="849"/>
                  </a:lnTo>
                  <a:lnTo>
                    <a:pt x="25" y="829"/>
                  </a:lnTo>
                  <a:lnTo>
                    <a:pt x="37" y="812"/>
                  </a:lnTo>
                  <a:lnTo>
                    <a:pt x="49" y="794"/>
                  </a:lnTo>
                  <a:lnTo>
                    <a:pt x="63" y="778"/>
                  </a:lnTo>
                  <a:lnTo>
                    <a:pt x="79" y="764"/>
                  </a:lnTo>
                  <a:lnTo>
                    <a:pt x="95" y="751"/>
                  </a:lnTo>
                  <a:lnTo>
                    <a:pt x="110" y="737"/>
                  </a:lnTo>
                  <a:lnTo>
                    <a:pt x="125" y="725"/>
                  </a:lnTo>
                  <a:lnTo>
                    <a:pt x="139" y="716"/>
                  </a:lnTo>
                  <a:lnTo>
                    <a:pt x="153" y="708"/>
                  </a:lnTo>
                  <a:lnTo>
                    <a:pt x="180" y="695"/>
                  </a:lnTo>
                  <a:lnTo>
                    <a:pt x="206" y="682"/>
                  </a:lnTo>
                  <a:lnTo>
                    <a:pt x="219" y="675"/>
                  </a:lnTo>
                  <a:lnTo>
                    <a:pt x="232" y="666"/>
                  </a:lnTo>
                  <a:lnTo>
                    <a:pt x="246" y="655"/>
                  </a:lnTo>
                  <a:lnTo>
                    <a:pt x="259" y="643"/>
                  </a:lnTo>
                  <a:lnTo>
                    <a:pt x="273" y="627"/>
                  </a:lnTo>
                  <a:lnTo>
                    <a:pt x="287" y="609"/>
                  </a:lnTo>
                  <a:lnTo>
                    <a:pt x="302" y="585"/>
                  </a:lnTo>
                  <a:lnTo>
                    <a:pt x="317" y="558"/>
                  </a:lnTo>
                  <a:lnTo>
                    <a:pt x="326" y="539"/>
                  </a:lnTo>
                  <a:lnTo>
                    <a:pt x="331" y="527"/>
                  </a:lnTo>
                  <a:lnTo>
                    <a:pt x="336" y="520"/>
                  </a:lnTo>
                  <a:lnTo>
                    <a:pt x="344" y="509"/>
                  </a:lnTo>
                  <a:lnTo>
                    <a:pt x="359" y="495"/>
                  </a:lnTo>
                  <a:lnTo>
                    <a:pt x="380" y="476"/>
                  </a:lnTo>
                  <a:lnTo>
                    <a:pt x="391" y="466"/>
                  </a:lnTo>
                  <a:lnTo>
                    <a:pt x="402" y="458"/>
                  </a:lnTo>
                  <a:lnTo>
                    <a:pt x="415" y="451"/>
                  </a:lnTo>
                  <a:lnTo>
                    <a:pt x="430" y="444"/>
                  </a:lnTo>
                  <a:lnTo>
                    <a:pt x="444" y="438"/>
                  </a:lnTo>
                  <a:lnTo>
                    <a:pt x="461" y="432"/>
                  </a:lnTo>
                  <a:lnTo>
                    <a:pt x="478" y="428"/>
                  </a:lnTo>
                  <a:lnTo>
                    <a:pt x="496" y="423"/>
                  </a:lnTo>
                  <a:lnTo>
                    <a:pt x="575" y="407"/>
                  </a:lnTo>
                  <a:lnTo>
                    <a:pt x="663" y="391"/>
                  </a:lnTo>
                  <a:lnTo>
                    <a:pt x="708" y="382"/>
                  </a:lnTo>
                  <a:lnTo>
                    <a:pt x="755" y="370"/>
                  </a:lnTo>
                  <a:lnTo>
                    <a:pt x="778" y="363"/>
                  </a:lnTo>
                  <a:lnTo>
                    <a:pt x="802" y="356"/>
                  </a:lnTo>
                  <a:lnTo>
                    <a:pt x="825" y="348"/>
                  </a:lnTo>
                  <a:lnTo>
                    <a:pt x="848" y="340"/>
                  </a:lnTo>
                  <a:lnTo>
                    <a:pt x="872" y="330"/>
                  </a:lnTo>
                  <a:lnTo>
                    <a:pt x="894" y="319"/>
                  </a:lnTo>
                  <a:lnTo>
                    <a:pt x="916" y="306"/>
                  </a:lnTo>
                  <a:lnTo>
                    <a:pt x="938" y="293"/>
                  </a:lnTo>
                  <a:lnTo>
                    <a:pt x="961" y="279"/>
                  </a:lnTo>
                  <a:lnTo>
                    <a:pt x="982" y="263"/>
                  </a:lnTo>
                  <a:lnTo>
                    <a:pt x="1003" y="247"/>
                  </a:lnTo>
                  <a:lnTo>
                    <a:pt x="1022" y="228"/>
                  </a:lnTo>
                  <a:lnTo>
                    <a:pt x="1041" y="208"/>
                  </a:lnTo>
                  <a:lnTo>
                    <a:pt x="1054" y="191"/>
                  </a:lnTo>
                  <a:lnTo>
                    <a:pt x="1059" y="182"/>
                  </a:lnTo>
                  <a:lnTo>
                    <a:pt x="1062" y="175"/>
                  </a:lnTo>
                  <a:lnTo>
                    <a:pt x="1066" y="168"/>
                  </a:lnTo>
                  <a:lnTo>
                    <a:pt x="1068" y="161"/>
                  </a:lnTo>
                  <a:lnTo>
                    <a:pt x="1070" y="150"/>
                  </a:lnTo>
                  <a:lnTo>
                    <a:pt x="1070" y="139"/>
                  </a:lnTo>
                  <a:lnTo>
                    <a:pt x="1068" y="130"/>
                  </a:lnTo>
                  <a:lnTo>
                    <a:pt x="1067" y="120"/>
                  </a:lnTo>
                  <a:lnTo>
                    <a:pt x="1065" y="112"/>
                  </a:lnTo>
                  <a:lnTo>
                    <a:pt x="1062" y="104"/>
                  </a:lnTo>
                  <a:lnTo>
                    <a:pt x="1062" y="96"/>
                  </a:lnTo>
                  <a:lnTo>
                    <a:pt x="1063" y="87"/>
                  </a:lnTo>
                  <a:lnTo>
                    <a:pt x="1066" y="82"/>
                  </a:lnTo>
                  <a:lnTo>
                    <a:pt x="1068" y="77"/>
                  </a:lnTo>
                  <a:lnTo>
                    <a:pt x="1072" y="71"/>
                  </a:lnTo>
                  <a:lnTo>
                    <a:pt x="1076" y="66"/>
                  </a:lnTo>
                  <a:lnTo>
                    <a:pt x="1089" y="54"/>
                  </a:lnTo>
                  <a:lnTo>
                    <a:pt x="1105" y="40"/>
                  </a:lnTo>
                  <a:lnTo>
                    <a:pt x="1109" y="36"/>
                  </a:lnTo>
                  <a:lnTo>
                    <a:pt x="1112" y="34"/>
                  </a:lnTo>
                  <a:lnTo>
                    <a:pt x="1116" y="32"/>
                  </a:lnTo>
                  <a:lnTo>
                    <a:pt x="1121" y="30"/>
                  </a:lnTo>
                  <a:lnTo>
                    <a:pt x="1131" y="28"/>
                  </a:lnTo>
                  <a:lnTo>
                    <a:pt x="1142" y="28"/>
                  </a:lnTo>
                  <a:lnTo>
                    <a:pt x="1153" y="27"/>
                  </a:lnTo>
                  <a:lnTo>
                    <a:pt x="1164" y="25"/>
                  </a:lnTo>
                  <a:lnTo>
                    <a:pt x="1170" y="22"/>
                  </a:lnTo>
                  <a:lnTo>
                    <a:pt x="1174" y="20"/>
                  </a:lnTo>
                  <a:lnTo>
                    <a:pt x="1179" y="16"/>
                  </a:lnTo>
                  <a:lnTo>
                    <a:pt x="1184" y="12"/>
                  </a:lnTo>
                  <a:lnTo>
                    <a:pt x="1186" y="8"/>
                  </a:lnTo>
                  <a:lnTo>
                    <a:pt x="1190" y="6"/>
                  </a:lnTo>
                  <a:lnTo>
                    <a:pt x="1193" y="5"/>
                  </a:lnTo>
                  <a:lnTo>
                    <a:pt x="1197" y="2"/>
                  </a:lnTo>
                  <a:lnTo>
                    <a:pt x="1206" y="1"/>
                  </a:lnTo>
                  <a:lnTo>
                    <a:pt x="1216" y="0"/>
                  </a:lnTo>
                  <a:lnTo>
                    <a:pt x="1229" y="0"/>
                  </a:lnTo>
                  <a:lnTo>
                    <a:pt x="1242" y="1"/>
                  </a:lnTo>
                  <a:lnTo>
                    <a:pt x="1255" y="4"/>
                  </a:lnTo>
                  <a:lnTo>
                    <a:pt x="1269" y="6"/>
                  </a:lnTo>
                  <a:lnTo>
                    <a:pt x="1296" y="11"/>
                  </a:lnTo>
                  <a:lnTo>
                    <a:pt x="1320" y="15"/>
                  </a:lnTo>
                  <a:lnTo>
                    <a:pt x="1331" y="18"/>
                  </a:lnTo>
                  <a:lnTo>
                    <a:pt x="1340" y="18"/>
                  </a:lnTo>
                  <a:lnTo>
                    <a:pt x="1348" y="19"/>
                  </a:lnTo>
                  <a:lnTo>
                    <a:pt x="1353" y="18"/>
                  </a:lnTo>
                  <a:lnTo>
                    <a:pt x="1358" y="16"/>
                  </a:lnTo>
                  <a:lnTo>
                    <a:pt x="1364" y="18"/>
                  </a:lnTo>
                  <a:lnTo>
                    <a:pt x="1369" y="20"/>
                  </a:lnTo>
                  <a:lnTo>
                    <a:pt x="1376" y="23"/>
                  </a:lnTo>
                  <a:lnTo>
                    <a:pt x="1390" y="30"/>
                  </a:lnTo>
                  <a:lnTo>
                    <a:pt x="1404" y="40"/>
                  </a:lnTo>
                  <a:lnTo>
                    <a:pt x="1420" y="48"/>
                  </a:lnTo>
                  <a:lnTo>
                    <a:pt x="1435" y="53"/>
                  </a:lnTo>
                  <a:lnTo>
                    <a:pt x="1442" y="54"/>
                  </a:lnTo>
                  <a:lnTo>
                    <a:pt x="1449" y="54"/>
                  </a:lnTo>
                  <a:lnTo>
                    <a:pt x="1455" y="53"/>
                  </a:lnTo>
                  <a:lnTo>
                    <a:pt x="1461" y="49"/>
                  </a:lnTo>
                  <a:lnTo>
                    <a:pt x="1466" y="44"/>
                  </a:lnTo>
                  <a:lnTo>
                    <a:pt x="1473" y="41"/>
                  </a:lnTo>
                  <a:lnTo>
                    <a:pt x="1482" y="37"/>
                  </a:lnTo>
                  <a:lnTo>
                    <a:pt x="1490" y="34"/>
                  </a:lnTo>
                  <a:lnTo>
                    <a:pt x="1508" y="29"/>
                  </a:lnTo>
                  <a:lnTo>
                    <a:pt x="1529" y="25"/>
                  </a:lnTo>
                  <a:lnTo>
                    <a:pt x="1552" y="21"/>
                  </a:lnTo>
                  <a:lnTo>
                    <a:pt x="1576" y="19"/>
                  </a:lnTo>
                  <a:lnTo>
                    <a:pt x="1603" y="18"/>
                  </a:lnTo>
                  <a:lnTo>
                    <a:pt x="1630" y="18"/>
                  </a:lnTo>
                  <a:lnTo>
                    <a:pt x="1653" y="18"/>
                  </a:lnTo>
                  <a:lnTo>
                    <a:pt x="1673" y="19"/>
                  </a:lnTo>
                  <a:lnTo>
                    <a:pt x="1689" y="23"/>
                  </a:lnTo>
                  <a:lnTo>
                    <a:pt x="1704" y="29"/>
                  </a:lnTo>
                  <a:lnTo>
                    <a:pt x="1716" y="36"/>
                  </a:lnTo>
                  <a:lnTo>
                    <a:pt x="1729" y="44"/>
                  </a:lnTo>
                  <a:lnTo>
                    <a:pt x="1741" y="53"/>
                  </a:lnTo>
                  <a:lnTo>
                    <a:pt x="1753" y="63"/>
                  </a:lnTo>
                  <a:lnTo>
                    <a:pt x="1764" y="74"/>
                  </a:lnTo>
                  <a:lnTo>
                    <a:pt x="1778" y="84"/>
                  </a:lnTo>
                  <a:lnTo>
                    <a:pt x="1795" y="95"/>
                  </a:lnTo>
                  <a:lnTo>
                    <a:pt x="1813" y="105"/>
                  </a:lnTo>
                  <a:lnTo>
                    <a:pt x="1834" y="116"/>
                  </a:lnTo>
                  <a:lnTo>
                    <a:pt x="1860" y="125"/>
                  </a:lnTo>
                  <a:lnTo>
                    <a:pt x="1889" y="133"/>
                  </a:lnTo>
                  <a:lnTo>
                    <a:pt x="1924" y="141"/>
                  </a:lnTo>
                  <a:lnTo>
                    <a:pt x="1920" y="146"/>
                  </a:lnTo>
                  <a:lnTo>
                    <a:pt x="1917" y="152"/>
                  </a:lnTo>
                  <a:lnTo>
                    <a:pt x="1916" y="158"/>
                  </a:lnTo>
                  <a:lnTo>
                    <a:pt x="1915" y="165"/>
                  </a:lnTo>
                  <a:lnTo>
                    <a:pt x="1916" y="173"/>
                  </a:lnTo>
                  <a:lnTo>
                    <a:pt x="1918" y="181"/>
                  </a:lnTo>
                  <a:lnTo>
                    <a:pt x="1921" y="189"/>
                  </a:lnTo>
                  <a:lnTo>
                    <a:pt x="1925" y="196"/>
                  </a:lnTo>
                  <a:lnTo>
                    <a:pt x="1930" y="205"/>
                  </a:lnTo>
                  <a:lnTo>
                    <a:pt x="1937" y="213"/>
                  </a:lnTo>
                  <a:lnTo>
                    <a:pt x="1944" y="220"/>
                  </a:lnTo>
                  <a:lnTo>
                    <a:pt x="1953" y="226"/>
                  </a:lnTo>
                  <a:lnTo>
                    <a:pt x="1964" y="231"/>
                  </a:lnTo>
                  <a:lnTo>
                    <a:pt x="1975" y="236"/>
                  </a:lnTo>
                  <a:lnTo>
                    <a:pt x="1987" y="240"/>
                  </a:lnTo>
                  <a:lnTo>
                    <a:pt x="2001" y="242"/>
                  </a:lnTo>
                  <a:lnTo>
                    <a:pt x="2015" y="242"/>
                  </a:lnTo>
                  <a:lnTo>
                    <a:pt x="2029" y="244"/>
                  </a:lnTo>
                  <a:lnTo>
                    <a:pt x="2043" y="249"/>
                  </a:lnTo>
                  <a:lnTo>
                    <a:pt x="2060" y="256"/>
                  </a:lnTo>
                  <a:lnTo>
                    <a:pt x="2094" y="272"/>
                  </a:lnTo>
                  <a:lnTo>
                    <a:pt x="2135" y="291"/>
                  </a:lnTo>
                  <a:lnTo>
                    <a:pt x="2124" y="297"/>
                  </a:lnTo>
                  <a:lnTo>
                    <a:pt x="2114" y="301"/>
                  </a:lnTo>
                  <a:lnTo>
                    <a:pt x="2103" y="305"/>
                  </a:lnTo>
                  <a:lnTo>
                    <a:pt x="2094" y="306"/>
                  </a:lnTo>
                  <a:lnTo>
                    <a:pt x="2076" y="308"/>
                  </a:lnTo>
                  <a:lnTo>
                    <a:pt x="2061" y="310"/>
                  </a:lnTo>
                  <a:lnTo>
                    <a:pt x="2055" y="311"/>
                  </a:lnTo>
                  <a:lnTo>
                    <a:pt x="2050" y="313"/>
                  </a:lnTo>
                  <a:lnTo>
                    <a:pt x="2047" y="317"/>
                  </a:lnTo>
                  <a:lnTo>
                    <a:pt x="2045" y="320"/>
                  </a:lnTo>
                  <a:lnTo>
                    <a:pt x="2045" y="326"/>
                  </a:lnTo>
                  <a:lnTo>
                    <a:pt x="2047" y="334"/>
                  </a:lnTo>
                  <a:lnTo>
                    <a:pt x="2050" y="345"/>
                  </a:lnTo>
                  <a:lnTo>
                    <a:pt x="2056" y="358"/>
                  </a:lnTo>
                  <a:lnTo>
                    <a:pt x="2060" y="365"/>
                  </a:lnTo>
                  <a:lnTo>
                    <a:pt x="2061" y="373"/>
                  </a:lnTo>
                  <a:lnTo>
                    <a:pt x="2062" y="381"/>
                  </a:lnTo>
                  <a:lnTo>
                    <a:pt x="2063" y="389"/>
                  </a:lnTo>
                  <a:lnTo>
                    <a:pt x="2062" y="398"/>
                  </a:lnTo>
                  <a:lnTo>
                    <a:pt x="2061" y="408"/>
                  </a:lnTo>
                  <a:lnTo>
                    <a:pt x="2059" y="417"/>
                  </a:lnTo>
                  <a:lnTo>
                    <a:pt x="2056" y="426"/>
                  </a:lnTo>
                  <a:lnTo>
                    <a:pt x="2049" y="445"/>
                  </a:lnTo>
                  <a:lnTo>
                    <a:pt x="2039" y="465"/>
                  </a:lnTo>
                  <a:lnTo>
                    <a:pt x="2027" y="485"/>
                  </a:lnTo>
                  <a:lnTo>
                    <a:pt x="2013" y="505"/>
                  </a:lnTo>
                  <a:lnTo>
                    <a:pt x="1998" y="523"/>
                  </a:lnTo>
                  <a:lnTo>
                    <a:pt x="1980" y="541"/>
                  </a:lnTo>
                  <a:lnTo>
                    <a:pt x="1963" y="557"/>
                  </a:lnTo>
                  <a:lnTo>
                    <a:pt x="1945" y="572"/>
                  </a:lnTo>
                  <a:lnTo>
                    <a:pt x="1927" y="585"/>
                  </a:lnTo>
                  <a:lnTo>
                    <a:pt x="1908" y="596"/>
                  </a:lnTo>
                  <a:lnTo>
                    <a:pt x="1889" y="605"/>
                  </a:lnTo>
                  <a:lnTo>
                    <a:pt x="1872" y="61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Freeform 140"/>
            <p:cNvSpPr/>
            <p:nvPr/>
          </p:nvSpPr>
          <p:spPr>
            <a:xfrm>
              <a:off x="7805520" y="4065120"/>
              <a:ext cx="322200" cy="1458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35" h="893">
                  <a:moveTo>
                    <a:pt x="1872" y="611"/>
                  </a:moveTo>
                  <a:lnTo>
                    <a:pt x="535" y="792"/>
                  </a:lnTo>
                  <a:lnTo>
                    <a:pt x="518" y="838"/>
                  </a:lnTo>
                  <a:lnTo>
                    <a:pt x="0" y="893"/>
                  </a:lnTo>
                  <a:lnTo>
                    <a:pt x="7" y="870"/>
                  </a:lnTo>
                  <a:lnTo>
                    <a:pt x="16" y="849"/>
                  </a:lnTo>
                  <a:lnTo>
                    <a:pt x="25" y="829"/>
                  </a:lnTo>
                  <a:lnTo>
                    <a:pt x="37" y="812"/>
                  </a:lnTo>
                  <a:lnTo>
                    <a:pt x="49" y="794"/>
                  </a:lnTo>
                  <a:lnTo>
                    <a:pt x="63" y="778"/>
                  </a:lnTo>
                  <a:lnTo>
                    <a:pt x="79" y="764"/>
                  </a:lnTo>
                  <a:lnTo>
                    <a:pt x="95" y="751"/>
                  </a:lnTo>
                  <a:lnTo>
                    <a:pt x="110" y="737"/>
                  </a:lnTo>
                  <a:lnTo>
                    <a:pt x="125" y="725"/>
                  </a:lnTo>
                  <a:lnTo>
                    <a:pt x="139" y="716"/>
                  </a:lnTo>
                  <a:lnTo>
                    <a:pt x="153" y="708"/>
                  </a:lnTo>
                  <a:lnTo>
                    <a:pt x="180" y="695"/>
                  </a:lnTo>
                  <a:lnTo>
                    <a:pt x="206" y="682"/>
                  </a:lnTo>
                  <a:lnTo>
                    <a:pt x="219" y="675"/>
                  </a:lnTo>
                  <a:lnTo>
                    <a:pt x="232" y="666"/>
                  </a:lnTo>
                  <a:lnTo>
                    <a:pt x="246" y="655"/>
                  </a:lnTo>
                  <a:lnTo>
                    <a:pt x="259" y="643"/>
                  </a:lnTo>
                  <a:lnTo>
                    <a:pt x="273" y="627"/>
                  </a:lnTo>
                  <a:lnTo>
                    <a:pt x="287" y="609"/>
                  </a:lnTo>
                  <a:lnTo>
                    <a:pt x="302" y="585"/>
                  </a:lnTo>
                  <a:lnTo>
                    <a:pt x="317" y="558"/>
                  </a:lnTo>
                  <a:lnTo>
                    <a:pt x="326" y="539"/>
                  </a:lnTo>
                  <a:lnTo>
                    <a:pt x="331" y="527"/>
                  </a:lnTo>
                  <a:lnTo>
                    <a:pt x="336" y="520"/>
                  </a:lnTo>
                  <a:lnTo>
                    <a:pt x="344" y="509"/>
                  </a:lnTo>
                  <a:lnTo>
                    <a:pt x="359" y="495"/>
                  </a:lnTo>
                  <a:lnTo>
                    <a:pt x="380" y="476"/>
                  </a:lnTo>
                  <a:lnTo>
                    <a:pt x="391" y="466"/>
                  </a:lnTo>
                  <a:lnTo>
                    <a:pt x="402" y="458"/>
                  </a:lnTo>
                  <a:lnTo>
                    <a:pt x="415" y="451"/>
                  </a:lnTo>
                  <a:lnTo>
                    <a:pt x="430" y="444"/>
                  </a:lnTo>
                  <a:lnTo>
                    <a:pt x="444" y="438"/>
                  </a:lnTo>
                  <a:lnTo>
                    <a:pt x="461" y="432"/>
                  </a:lnTo>
                  <a:lnTo>
                    <a:pt x="478" y="428"/>
                  </a:lnTo>
                  <a:lnTo>
                    <a:pt x="496" y="423"/>
                  </a:lnTo>
                  <a:lnTo>
                    <a:pt x="575" y="407"/>
                  </a:lnTo>
                  <a:lnTo>
                    <a:pt x="663" y="391"/>
                  </a:lnTo>
                  <a:lnTo>
                    <a:pt x="708" y="382"/>
                  </a:lnTo>
                  <a:lnTo>
                    <a:pt x="755" y="370"/>
                  </a:lnTo>
                  <a:lnTo>
                    <a:pt x="778" y="363"/>
                  </a:lnTo>
                  <a:lnTo>
                    <a:pt x="802" y="356"/>
                  </a:lnTo>
                  <a:lnTo>
                    <a:pt x="825" y="348"/>
                  </a:lnTo>
                  <a:lnTo>
                    <a:pt x="848" y="340"/>
                  </a:lnTo>
                  <a:lnTo>
                    <a:pt x="872" y="330"/>
                  </a:lnTo>
                  <a:lnTo>
                    <a:pt x="894" y="319"/>
                  </a:lnTo>
                  <a:lnTo>
                    <a:pt x="916" y="306"/>
                  </a:lnTo>
                  <a:lnTo>
                    <a:pt x="938" y="293"/>
                  </a:lnTo>
                  <a:lnTo>
                    <a:pt x="961" y="279"/>
                  </a:lnTo>
                  <a:lnTo>
                    <a:pt x="982" y="263"/>
                  </a:lnTo>
                  <a:lnTo>
                    <a:pt x="1003" y="247"/>
                  </a:lnTo>
                  <a:lnTo>
                    <a:pt x="1022" y="228"/>
                  </a:lnTo>
                  <a:lnTo>
                    <a:pt x="1041" y="208"/>
                  </a:lnTo>
                  <a:lnTo>
                    <a:pt x="1054" y="191"/>
                  </a:lnTo>
                  <a:lnTo>
                    <a:pt x="1059" y="182"/>
                  </a:lnTo>
                  <a:lnTo>
                    <a:pt x="1062" y="175"/>
                  </a:lnTo>
                  <a:lnTo>
                    <a:pt x="1066" y="168"/>
                  </a:lnTo>
                  <a:lnTo>
                    <a:pt x="1068" y="161"/>
                  </a:lnTo>
                  <a:lnTo>
                    <a:pt x="1070" y="150"/>
                  </a:lnTo>
                  <a:lnTo>
                    <a:pt x="1070" y="139"/>
                  </a:lnTo>
                  <a:lnTo>
                    <a:pt x="1068" y="130"/>
                  </a:lnTo>
                  <a:lnTo>
                    <a:pt x="1067" y="120"/>
                  </a:lnTo>
                  <a:lnTo>
                    <a:pt x="1065" y="112"/>
                  </a:lnTo>
                  <a:lnTo>
                    <a:pt x="1062" y="104"/>
                  </a:lnTo>
                  <a:lnTo>
                    <a:pt x="1062" y="96"/>
                  </a:lnTo>
                  <a:lnTo>
                    <a:pt x="1063" y="87"/>
                  </a:lnTo>
                  <a:lnTo>
                    <a:pt x="1066" y="82"/>
                  </a:lnTo>
                  <a:lnTo>
                    <a:pt x="1068" y="77"/>
                  </a:lnTo>
                  <a:lnTo>
                    <a:pt x="1072" y="71"/>
                  </a:lnTo>
                  <a:lnTo>
                    <a:pt x="1076" y="66"/>
                  </a:lnTo>
                  <a:lnTo>
                    <a:pt x="1089" y="54"/>
                  </a:lnTo>
                  <a:lnTo>
                    <a:pt x="1105" y="40"/>
                  </a:lnTo>
                  <a:lnTo>
                    <a:pt x="1109" y="36"/>
                  </a:lnTo>
                  <a:lnTo>
                    <a:pt x="1112" y="34"/>
                  </a:lnTo>
                  <a:lnTo>
                    <a:pt x="1116" y="32"/>
                  </a:lnTo>
                  <a:lnTo>
                    <a:pt x="1121" y="30"/>
                  </a:lnTo>
                  <a:lnTo>
                    <a:pt x="1131" y="28"/>
                  </a:lnTo>
                  <a:lnTo>
                    <a:pt x="1142" y="28"/>
                  </a:lnTo>
                  <a:lnTo>
                    <a:pt x="1153" y="27"/>
                  </a:lnTo>
                  <a:lnTo>
                    <a:pt x="1164" y="25"/>
                  </a:lnTo>
                  <a:lnTo>
                    <a:pt x="1170" y="22"/>
                  </a:lnTo>
                  <a:lnTo>
                    <a:pt x="1174" y="20"/>
                  </a:lnTo>
                  <a:lnTo>
                    <a:pt x="1179" y="16"/>
                  </a:lnTo>
                  <a:lnTo>
                    <a:pt x="1184" y="12"/>
                  </a:lnTo>
                  <a:lnTo>
                    <a:pt x="1186" y="8"/>
                  </a:lnTo>
                  <a:lnTo>
                    <a:pt x="1190" y="6"/>
                  </a:lnTo>
                  <a:lnTo>
                    <a:pt x="1193" y="5"/>
                  </a:lnTo>
                  <a:lnTo>
                    <a:pt x="1197" y="2"/>
                  </a:lnTo>
                  <a:lnTo>
                    <a:pt x="1206" y="1"/>
                  </a:lnTo>
                  <a:lnTo>
                    <a:pt x="1216" y="0"/>
                  </a:lnTo>
                  <a:lnTo>
                    <a:pt x="1229" y="0"/>
                  </a:lnTo>
                  <a:lnTo>
                    <a:pt x="1242" y="1"/>
                  </a:lnTo>
                  <a:lnTo>
                    <a:pt x="1255" y="4"/>
                  </a:lnTo>
                  <a:lnTo>
                    <a:pt x="1269" y="6"/>
                  </a:lnTo>
                  <a:lnTo>
                    <a:pt x="1296" y="11"/>
                  </a:lnTo>
                  <a:lnTo>
                    <a:pt x="1320" y="15"/>
                  </a:lnTo>
                  <a:lnTo>
                    <a:pt x="1331" y="18"/>
                  </a:lnTo>
                  <a:lnTo>
                    <a:pt x="1340" y="18"/>
                  </a:lnTo>
                  <a:lnTo>
                    <a:pt x="1348" y="19"/>
                  </a:lnTo>
                  <a:lnTo>
                    <a:pt x="1353" y="18"/>
                  </a:lnTo>
                  <a:lnTo>
                    <a:pt x="1358" y="16"/>
                  </a:lnTo>
                  <a:lnTo>
                    <a:pt x="1364" y="18"/>
                  </a:lnTo>
                  <a:lnTo>
                    <a:pt x="1369" y="20"/>
                  </a:lnTo>
                  <a:lnTo>
                    <a:pt x="1376" y="23"/>
                  </a:lnTo>
                  <a:lnTo>
                    <a:pt x="1390" y="30"/>
                  </a:lnTo>
                  <a:lnTo>
                    <a:pt x="1404" y="40"/>
                  </a:lnTo>
                  <a:lnTo>
                    <a:pt x="1420" y="48"/>
                  </a:lnTo>
                  <a:lnTo>
                    <a:pt x="1435" y="53"/>
                  </a:lnTo>
                  <a:lnTo>
                    <a:pt x="1442" y="54"/>
                  </a:lnTo>
                  <a:lnTo>
                    <a:pt x="1449" y="54"/>
                  </a:lnTo>
                  <a:lnTo>
                    <a:pt x="1455" y="53"/>
                  </a:lnTo>
                  <a:lnTo>
                    <a:pt x="1461" y="49"/>
                  </a:lnTo>
                  <a:lnTo>
                    <a:pt x="1466" y="44"/>
                  </a:lnTo>
                  <a:lnTo>
                    <a:pt x="1473" y="41"/>
                  </a:lnTo>
                  <a:lnTo>
                    <a:pt x="1482" y="37"/>
                  </a:lnTo>
                  <a:lnTo>
                    <a:pt x="1490" y="34"/>
                  </a:lnTo>
                  <a:lnTo>
                    <a:pt x="1508" y="29"/>
                  </a:lnTo>
                  <a:lnTo>
                    <a:pt x="1529" y="25"/>
                  </a:lnTo>
                  <a:lnTo>
                    <a:pt x="1552" y="21"/>
                  </a:lnTo>
                  <a:lnTo>
                    <a:pt x="1576" y="19"/>
                  </a:lnTo>
                  <a:lnTo>
                    <a:pt x="1603" y="18"/>
                  </a:lnTo>
                  <a:lnTo>
                    <a:pt x="1630" y="18"/>
                  </a:lnTo>
                  <a:lnTo>
                    <a:pt x="1653" y="18"/>
                  </a:lnTo>
                  <a:lnTo>
                    <a:pt x="1673" y="19"/>
                  </a:lnTo>
                  <a:lnTo>
                    <a:pt x="1689" y="23"/>
                  </a:lnTo>
                  <a:lnTo>
                    <a:pt x="1704" y="29"/>
                  </a:lnTo>
                  <a:lnTo>
                    <a:pt x="1716" y="36"/>
                  </a:lnTo>
                  <a:lnTo>
                    <a:pt x="1729" y="44"/>
                  </a:lnTo>
                  <a:lnTo>
                    <a:pt x="1741" y="53"/>
                  </a:lnTo>
                  <a:lnTo>
                    <a:pt x="1753" y="63"/>
                  </a:lnTo>
                  <a:lnTo>
                    <a:pt x="1764" y="74"/>
                  </a:lnTo>
                  <a:lnTo>
                    <a:pt x="1778" y="84"/>
                  </a:lnTo>
                  <a:lnTo>
                    <a:pt x="1795" y="95"/>
                  </a:lnTo>
                  <a:lnTo>
                    <a:pt x="1813" y="105"/>
                  </a:lnTo>
                  <a:lnTo>
                    <a:pt x="1834" y="116"/>
                  </a:lnTo>
                  <a:lnTo>
                    <a:pt x="1860" y="125"/>
                  </a:lnTo>
                  <a:lnTo>
                    <a:pt x="1889" y="133"/>
                  </a:lnTo>
                  <a:lnTo>
                    <a:pt x="1924" y="141"/>
                  </a:lnTo>
                  <a:lnTo>
                    <a:pt x="1920" y="146"/>
                  </a:lnTo>
                  <a:lnTo>
                    <a:pt x="1917" y="152"/>
                  </a:lnTo>
                  <a:lnTo>
                    <a:pt x="1916" y="158"/>
                  </a:lnTo>
                  <a:lnTo>
                    <a:pt x="1915" y="165"/>
                  </a:lnTo>
                  <a:lnTo>
                    <a:pt x="1916" y="173"/>
                  </a:lnTo>
                  <a:lnTo>
                    <a:pt x="1918" y="181"/>
                  </a:lnTo>
                  <a:lnTo>
                    <a:pt x="1921" y="189"/>
                  </a:lnTo>
                  <a:lnTo>
                    <a:pt x="1925" y="196"/>
                  </a:lnTo>
                  <a:lnTo>
                    <a:pt x="1930" y="205"/>
                  </a:lnTo>
                  <a:lnTo>
                    <a:pt x="1937" y="213"/>
                  </a:lnTo>
                  <a:lnTo>
                    <a:pt x="1944" y="220"/>
                  </a:lnTo>
                  <a:lnTo>
                    <a:pt x="1953" y="226"/>
                  </a:lnTo>
                  <a:lnTo>
                    <a:pt x="1964" y="231"/>
                  </a:lnTo>
                  <a:lnTo>
                    <a:pt x="1975" y="236"/>
                  </a:lnTo>
                  <a:lnTo>
                    <a:pt x="1987" y="240"/>
                  </a:lnTo>
                  <a:lnTo>
                    <a:pt x="2001" y="242"/>
                  </a:lnTo>
                  <a:lnTo>
                    <a:pt x="2015" y="242"/>
                  </a:lnTo>
                  <a:lnTo>
                    <a:pt x="2029" y="244"/>
                  </a:lnTo>
                  <a:lnTo>
                    <a:pt x="2043" y="249"/>
                  </a:lnTo>
                  <a:lnTo>
                    <a:pt x="2060" y="256"/>
                  </a:lnTo>
                  <a:lnTo>
                    <a:pt x="2094" y="272"/>
                  </a:lnTo>
                  <a:lnTo>
                    <a:pt x="2135" y="291"/>
                  </a:lnTo>
                  <a:lnTo>
                    <a:pt x="2124" y="297"/>
                  </a:lnTo>
                  <a:lnTo>
                    <a:pt x="2114" y="301"/>
                  </a:lnTo>
                  <a:lnTo>
                    <a:pt x="2103" y="305"/>
                  </a:lnTo>
                  <a:lnTo>
                    <a:pt x="2094" y="306"/>
                  </a:lnTo>
                  <a:lnTo>
                    <a:pt x="2076" y="308"/>
                  </a:lnTo>
                  <a:lnTo>
                    <a:pt x="2061" y="310"/>
                  </a:lnTo>
                  <a:lnTo>
                    <a:pt x="2055" y="311"/>
                  </a:lnTo>
                  <a:lnTo>
                    <a:pt x="2050" y="313"/>
                  </a:lnTo>
                  <a:lnTo>
                    <a:pt x="2047" y="317"/>
                  </a:lnTo>
                  <a:lnTo>
                    <a:pt x="2045" y="320"/>
                  </a:lnTo>
                  <a:lnTo>
                    <a:pt x="2045" y="326"/>
                  </a:lnTo>
                  <a:lnTo>
                    <a:pt x="2047" y="334"/>
                  </a:lnTo>
                  <a:lnTo>
                    <a:pt x="2050" y="345"/>
                  </a:lnTo>
                  <a:lnTo>
                    <a:pt x="2056" y="358"/>
                  </a:lnTo>
                  <a:lnTo>
                    <a:pt x="2060" y="365"/>
                  </a:lnTo>
                  <a:lnTo>
                    <a:pt x="2061" y="373"/>
                  </a:lnTo>
                  <a:lnTo>
                    <a:pt x="2062" y="381"/>
                  </a:lnTo>
                  <a:lnTo>
                    <a:pt x="2063" y="389"/>
                  </a:lnTo>
                  <a:lnTo>
                    <a:pt x="2062" y="398"/>
                  </a:lnTo>
                  <a:lnTo>
                    <a:pt x="2061" y="408"/>
                  </a:lnTo>
                  <a:lnTo>
                    <a:pt x="2059" y="417"/>
                  </a:lnTo>
                  <a:lnTo>
                    <a:pt x="2056" y="426"/>
                  </a:lnTo>
                  <a:lnTo>
                    <a:pt x="2049" y="445"/>
                  </a:lnTo>
                  <a:lnTo>
                    <a:pt x="2039" y="465"/>
                  </a:lnTo>
                  <a:lnTo>
                    <a:pt x="2027" y="485"/>
                  </a:lnTo>
                  <a:lnTo>
                    <a:pt x="2013" y="505"/>
                  </a:lnTo>
                  <a:lnTo>
                    <a:pt x="1998" y="523"/>
                  </a:lnTo>
                  <a:lnTo>
                    <a:pt x="1980" y="541"/>
                  </a:lnTo>
                  <a:lnTo>
                    <a:pt x="1963" y="557"/>
                  </a:lnTo>
                  <a:lnTo>
                    <a:pt x="1945" y="572"/>
                  </a:lnTo>
                  <a:lnTo>
                    <a:pt x="1927" y="585"/>
                  </a:lnTo>
                  <a:lnTo>
                    <a:pt x="1908" y="596"/>
                  </a:lnTo>
                  <a:lnTo>
                    <a:pt x="1889" y="605"/>
                  </a:lnTo>
                  <a:lnTo>
                    <a:pt x="1872" y="611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Freeform 141"/>
            <p:cNvSpPr/>
            <p:nvPr/>
          </p:nvSpPr>
          <p:spPr>
            <a:xfrm>
              <a:off x="8088120" y="4009680"/>
              <a:ext cx="365040" cy="1548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411" h="954">
                  <a:moveTo>
                    <a:pt x="1823" y="245"/>
                  </a:moveTo>
                  <a:lnTo>
                    <a:pt x="1840" y="252"/>
                  </a:lnTo>
                  <a:lnTo>
                    <a:pt x="1855" y="260"/>
                  </a:lnTo>
                  <a:lnTo>
                    <a:pt x="1870" y="268"/>
                  </a:lnTo>
                  <a:lnTo>
                    <a:pt x="1883" y="277"/>
                  </a:lnTo>
                  <a:lnTo>
                    <a:pt x="1896" y="286"/>
                  </a:lnTo>
                  <a:lnTo>
                    <a:pt x="1907" y="296"/>
                  </a:lnTo>
                  <a:lnTo>
                    <a:pt x="1919" y="307"/>
                  </a:lnTo>
                  <a:lnTo>
                    <a:pt x="1929" y="319"/>
                  </a:lnTo>
                  <a:lnTo>
                    <a:pt x="1952" y="344"/>
                  </a:lnTo>
                  <a:lnTo>
                    <a:pt x="1974" y="375"/>
                  </a:lnTo>
                  <a:lnTo>
                    <a:pt x="1997" y="409"/>
                  </a:lnTo>
                  <a:lnTo>
                    <a:pt x="2025" y="447"/>
                  </a:lnTo>
                  <a:lnTo>
                    <a:pt x="2049" y="447"/>
                  </a:lnTo>
                  <a:lnTo>
                    <a:pt x="2073" y="451"/>
                  </a:lnTo>
                  <a:lnTo>
                    <a:pt x="2099" y="454"/>
                  </a:lnTo>
                  <a:lnTo>
                    <a:pt x="2126" y="460"/>
                  </a:lnTo>
                  <a:lnTo>
                    <a:pt x="2153" y="468"/>
                  </a:lnTo>
                  <a:lnTo>
                    <a:pt x="2179" y="476"/>
                  </a:lnTo>
                  <a:lnTo>
                    <a:pt x="2207" y="487"/>
                  </a:lnTo>
                  <a:lnTo>
                    <a:pt x="2234" y="498"/>
                  </a:lnTo>
                  <a:lnTo>
                    <a:pt x="2260" y="511"/>
                  </a:lnTo>
                  <a:lnTo>
                    <a:pt x="2287" y="525"/>
                  </a:lnTo>
                  <a:lnTo>
                    <a:pt x="2311" y="541"/>
                  </a:lnTo>
                  <a:lnTo>
                    <a:pt x="2335" y="557"/>
                  </a:lnTo>
                  <a:lnTo>
                    <a:pt x="2357" y="574"/>
                  </a:lnTo>
                  <a:lnTo>
                    <a:pt x="2377" y="592"/>
                  </a:lnTo>
                  <a:lnTo>
                    <a:pt x="2394" y="612"/>
                  </a:lnTo>
                  <a:lnTo>
                    <a:pt x="2411" y="630"/>
                  </a:lnTo>
                  <a:lnTo>
                    <a:pt x="640" y="870"/>
                  </a:lnTo>
                  <a:lnTo>
                    <a:pt x="0" y="954"/>
                  </a:lnTo>
                  <a:lnTo>
                    <a:pt x="17" y="948"/>
                  </a:lnTo>
                  <a:lnTo>
                    <a:pt x="36" y="939"/>
                  </a:lnTo>
                  <a:lnTo>
                    <a:pt x="55" y="928"/>
                  </a:lnTo>
                  <a:lnTo>
                    <a:pt x="73" y="915"/>
                  </a:lnTo>
                  <a:lnTo>
                    <a:pt x="91" y="900"/>
                  </a:lnTo>
                  <a:lnTo>
                    <a:pt x="108" y="884"/>
                  </a:lnTo>
                  <a:lnTo>
                    <a:pt x="126" y="866"/>
                  </a:lnTo>
                  <a:lnTo>
                    <a:pt x="141" y="848"/>
                  </a:lnTo>
                  <a:lnTo>
                    <a:pt x="155" y="828"/>
                  </a:lnTo>
                  <a:lnTo>
                    <a:pt x="167" y="808"/>
                  </a:lnTo>
                  <a:lnTo>
                    <a:pt x="177" y="788"/>
                  </a:lnTo>
                  <a:lnTo>
                    <a:pt x="184" y="769"/>
                  </a:lnTo>
                  <a:lnTo>
                    <a:pt x="187" y="760"/>
                  </a:lnTo>
                  <a:lnTo>
                    <a:pt x="189" y="751"/>
                  </a:lnTo>
                  <a:lnTo>
                    <a:pt x="190" y="741"/>
                  </a:lnTo>
                  <a:lnTo>
                    <a:pt x="191" y="732"/>
                  </a:lnTo>
                  <a:lnTo>
                    <a:pt x="190" y="724"/>
                  </a:lnTo>
                  <a:lnTo>
                    <a:pt x="189" y="716"/>
                  </a:lnTo>
                  <a:lnTo>
                    <a:pt x="188" y="708"/>
                  </a:lnTo>
                  <a:lnTo>
                    <a:pt x="184" y="701"/>
                  </a:lnTo>
                  <a:lnTo>
                    <a:pt x="178" y="688"/>
                  </a:lnTo>
                  <a:lnTo>
                    <a:pt x="175" y="677"/>
                  </a:lnTo>
                  <a:lnTo>
                    <a:pt x="173" y="669"/>
                  </a:lnTo>
                  <a:lnTo>
                    <a:pt x="173" y="663"/>
                  </a:lnTo>
                  <a:lnTo>
                    <a:pt x="175" y="660"/>
                  </a:lnTo>
                  <a:lnTo>
                    <a:pt x="178" y="656"/>
                  </a:lnTo>
                  <a:lnTo>
                    <a:pt x="183" y="654"/>
                  </a:lnTo>
                  <a:lnTo>
                    <a:pt x="189" y="653"/>
                  </a:lnTo>
                  <a:lnTo>
                    <a:pt x="204" y="651"/>
                  </a:lnTo>
                  <a:lnTo>
                    <a:pt x="222" y="649"/>
                  </a:lnTo>
                  <a:lnTo>
                    <a:pt x="231" y="648"/>
                  </a:lnTo>
                  <a:lnTo>
                    <a:pt x="242" y="644"/>
                  </a:lnTo>
                  <a:lnTo>
                    <a:pt x="252" y="640"/>
                  </a:lnTo>
                  <a:lnTo>
                    <a:pt x="263" y="634"/>
                  </a:lnTo>
                  <a:lnTo>
                    <a:pt x="278" y="640"/>
                  </a:lnTo>
                  <a:lnTo>
                    <a:pt x="294" y="647"/>
                  </a:lnTo>
                  <a:lnTo>
                    <a:pt x="313" y="651"/>
                  </a:lnTo>
                  <a:lnTo>
                    <a:pt x="331" y="657"/>
                  </a:lnTo>
                  <a:lnTo>
                    <a:pt x="351" y="662"/>
                  </a:lnTo>
                  <a:lnTo>
                    <a:pt x="374" y="666"/>
                  </a:lnTo>
                  <a:lnTo>
                    <a:pt x="396" y="668"/>
                  </a:lnTo>
                  <a:lnTo>
                    <a:pt x="420" y="669"/>
                  </a:lnTo>
                  <a:lnTo>
                    <a:pt x="446" y="670"/>
                  </a:lnTo>
                  <a:lnTo>
                    <a:pt x="473" y="669"/>
                  </a:lnTo>
                  <a:lnTo>
                    <a:pt x="502" y="666"/>
                  </a:lnTo>
                  <a:lnTo>
                    <a:pt x="532" y="662"/>
                  </a:lnTo>
                  <a:lnTo>
                    <a:pt x="564" y="656"/>
                  </a:lnTo>
                  <a:lnTo>
                    <a:pt x="598" y="648"/>
                  </a:lnTo>
                  <a:lnTo>
                    <a:pt x="634" y="637"/>
                  </a:lnTo>
                  <a:lnTo>
                    <a:pt x="671" y="625"/>
                  </a:lnTo>
                  <a:lnTo>
                    <a:pt x="683" y="620"/>
                  </a:lnTo>
                  <a:lnTo>
                    <a:pt x="694" y="614"/>
                  </a:lnTo>
                  <a:lnTo>
                    <a:pt x="703" y="607"/>
                  </a:lnTo>
                  <a:lnTo>
                    <a:pt x="712" y="599"/>
                  </a:lnTo>
                  <a:lnTo>
                    <a:pt x="719" y="590"/>
                  </a:lnTo>
                  <a:lnTo>
                    <a:pt x="726" y="579"/>
                  </a:lnTo>
                  <a:lnTo>
                    <a:pt x="733" y="569"/>
                  </a:lnTo>
                  <a:lnTo>
                    <a:pt x="739" y="558"/>
                  </a:lnTo>
                  <a:lnTo>
                    <a:pt x="744" y="546"/>
                  </a:lnTo>
                  <a:lnTo>
                    <a:pt x="748" y="534"/>
                  </a:lnTo>
                  <a:lnTo>
                    <a:pt x="752" y="521"/>
                  </a:lnTo>
                  <a:lnTo>
                    <a:pt x="755" y="508"/>
                  </a:lnTo>
                  <a:lnTo>
                    <a:pt x="761" y="480"/>
                  </a:lnTo>
                  <a:lnTo>
                    <a:pt x="766" y="452"/>
                  </a:lnTo>
                  <a:lnTo>
                    <a:pt x="773" y="396"/>
                  </a:lnTo>
                  <a:lnTo>
                    <a:pt x="780" y="344"/>
                  </a:lnTo>
                  <a:lnTo>
                    <a:pt x="786" y="321"/>
                  </a:lnTo>
                  <a:lnTo>
                    <a:pt x="792" y="300"/>
                  </a:lnTo>
                  <a:lnTo>
                    <a:pt x="795" y="291"/>
                  </a:lnTo>
                  <a:lnTo>
                    <a:pt x="800" y="282"/>
                  </a:lnTo>
                  <a:lnTo>
                    <a:pt x="805" y="274"/>
                  </a:lnTo>
                  <a:lnTo>
                    <a:pt x="809" y="268"/>
                  </a:lnTo>
                  <a:lnTo>
                    <a:pt x="821" y="256"/>
                  </a:lnTo>
                  <a:lnTo>
                    <a:pt x="833" y="240"/>
                  </a:lnTo>
                  <a:lnTo>
                    <a:pt x="844" y="224"/>
                  </a:lnTo>
                  <a:lnTo>
                    <a:pt x="856" y="206"/>
                  </a:lnTo>
                  <a:lnTo>
                    <a:pt x="878" y="167"/>
                  </a:lnTo>
                  <a:lnTo>
                    <a:pt x="900" y="126"/>
                  </a:lnTo>
                  <a:lnTo>
                    <a:pt x="920" y="87"/>
                  </a:lnTo>
                  <a:lnTo>
                    <a:pt x="940" y="52"/>
                  </a:lnTo>
                  <a:lnTo>
                    <a:pt x="949" y="37"/>
                  </a:lnTo>
                  <a:lnTo>
                    <a:pt x="958" y="24"/>
                  </a:lnTo>
                  <a:lnTo>
                    <a:pt x="966" y="14"/>
                  </a:lnTo>
                  <a:lnTo>
                    <a:pt x="974" y="6"/>
                  </a:lnTo>
                  <a:lnTo>
                    <a:pt x="1019" y="1"/>
                  </a:lnTo>
                  <a:lnTo>
                    <a:pt x="1060" y="0"/>
                  </a:lnTo>
                  <a:lnTo>
                    <a:pt x="1097" y="0"/>
                  </a:lnTo>
                  <a:lnTo>
                    <a:pt x="1128" y="1"/>
                  </a:lnTo>
                  <a:lnTo>
                    <a:pt x="1156" y="4"/>
                  </a:lnTo>
                  <a:lnTo>
                    <a:pt x="1180" y="8"/>
                  </a:lnTo>
                  <a:lnTo>
                    <a:pt x="1201" y="14"/>
                  </a:lnTo>
                  <a:lnTo>
                    <a:pt x="1218" y="20"/>
                  </a:lnTo>
                  <a:lnTo>
                    <a:pt x="1247" y="31"/>
                  </a:lnTo>
                  <a:lnTo>
                    <a:pt x="1271" y="41"/>
                  </a:lnTo>
                  <a:lnTo>
                    <a:pt x="1281" y="44"/>
                  </a:lnTo>
                  <a:lnTo>
                    <a:pt x="1292" y="45"/>
                  </a:lnTo>
                  <a:lnTo>
                    <a:pt x="1302" y="45"/>
                  </a:lnTo>
                  <a:lnTo>
                    <a:pt x="1314" y="43"/>
                  </a:lnTo>
                  <a:lnTo>
                    <a:pt x="1323" y="44"/>
                  </a:lnTo>
                  <a:lnTo>
                    <a:pt x="1330" y="45"/>
                  </a:lnTo>
                  <a:lnTo>
                    <a:pt x="1337" y="48"/>
                  </a:lnTo>
                  <a:lnTo>
                    <a:pt x="1342" y="51"/>
                  </a:lnTo>
                  <a:lnTo>
                    <a:pt x="1347" y="55"/>
                  </a:lnTo>
                  <a:lnTo>
                    <a:pt x="1350" y="59"/>
                  </a:lnTo>
                  <a:lnTo>
                    <a:pt x="1354" y="65"/>
                  </a:lnTo>
                  <a:lnTo>
                    <a:pt x="1356" y="71"/>
                  </a:lnTo>
                  <a:lnTo>
                    <a:pt x="1363" y="83"/>
                  </a:lnTo>
                  <a:lnTo>
                    <a:pt x="1372" y="95"/>
                  </a:lnTo>
                  <a:lnTo>
                    <a:pt x="1378" y="102"/>
                  </a:lnTo>
                  <a:lnTo>
                    <a:pt x="1385" y="108"/>
                  </a:lnTo>
                  <a:lnTo>
                    <a:pt x="1394" y="115"/>
                  </a:lnTo>
                  <a:lnTo>
                    <a:pt x="1406" y="121"/>
                  </a:lnTo>
                  <a:lnTo>
                    <a:pt x="1412" y="135"/>
                  </a:lnTo>
                  <a:lnTo>
                    <a:pt x="1419" y="148"/>
                  </a:lnTo>
                  <a:lnTo>
                    <a:pt x="1427" y="159"/>
                  </a:lnTo>
                  <a:lnTo>
                    <a:pt x="1435" y="169"/>
                  </a:lnTo>
                  <a:lnTo>
                    <a:pt x="1442" y="177"/>
                  </a:lnTo>
                  <a:lnTo>
                    <a:pt x="1452" y="185"/>
                  </a:lnTo>
                  <a:lnTo>
                    <a:pt x="1460" y="192"/>
                  </a:lnTo>
                  <a:lnTo>
                    <a:pt x="1469" y="198"/>
                  </a:lnTo>
                  <a:lnTo>
                    <a:pt x="1477" y="203"/>
                  </a:lnTo>
                  <a:lnTo>
                    <a:pt x="1487" y="208"/>
                  </a:lnTo>
                  <a:lnTo>
                    <a:pt x="1496" y="211"/>
                  </a:lnTo>
                  <a:lnTo>
                    <a:pt x="1505" y="213"/>
                  </a:lnTo>
                  <a:lnTo>
                    <a:pt x="1524" y="218"/>
                  </a:lnTo>
                  <a:lnTo>
                    <a:pt x="1543" y="219"/>
                  </a:lnTo>
                  <a:lnTo>
                    <a:pt x="1577" y="220"/>
                  </a:lnTo>
                  <a:lnTo>
                    <a:pt x="1607" y="220"/>
                  </a:lnTo>
                  <a:lnTo>
                    <a:pt x="1620" y="222"/>
                  </a:lnTo>
                  <a:lnTo>
                    <a:pt x="1630" y="225"/>
                  </a:lnTo>
                  <a:lnTo>
                    <a:pt x="1635" y="226"/>
                  </a:lnTo>
                  <a:lnTo>
                    <a:pt x="1639" y="229"/>
                  </a:lnTo>
                  <a:lnTo>
                    <a:pt x="1642" y="232"/>
                  </a:lnTo>
                  <a:lnTo>
                    <a:pt x="1644" y="237"/>
                  </a:lnTo>
                  <a:lnTo>
                    <a:pt x="1823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Freeform 142"/>
            <p:cNvSpPr/>
            <p:nvPr/>
          </p:nvSpPr>
          <p:spPr>
            <a:xfrm>
              <a:off x="8088120" y="4009680"/>
              <a:ext cx="365040" cy="1548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411" h="954">
                  <a:moveTo>
                    <a:pt x="1823" y="245"/>
                  </a:moveTo>
                  <a:lnTo>
                    <a:pt x="1840" y="252"/>
                  </a:lnTo>
                  <a:lnTo>
                    <a:pt x="1855" y="260"/>
                  </a:lnTo>
                  <a:lnTo>
                    <a:pt x="1870" y="268"/>
                  </a:lnTo>
                  <a:lnTo>
                    <a:pt x="1883" y="277"/>
                  </a:lnTo>
                  <a:lnTo>
                    <a:pt x="1896" y="286"/>
                  </a:lnTo>
                  <a:lnTo>
                    <a:pt x="1907" y="296"/>
                  </a:lnTo>
                  <a:lnTo>
                    <a:pt x="1919" y="307"/>
                  </a:lnTo>
                  <a:lnTo>
                    <a:pt x="1929" y="319"/>
                  </a:lnTo>
                  <a:lnTo>
                    <a:pt x="1952" y="344"/>
                  </a:lnTo>
                  <a:lnTo>
                    <a:pt x="1974" y="375"/>
                  </a:lnTo>
                  <a:lnTo>
                    <a:pt x="1997" y="409"/>
                  </a:lnTo>
                  <a:lnTo>
                    <a:pt x="2025" y="447"/>
                  </a:lnTo>
                  <a:lnTo>
                    <a:pt x="2049" y="447"/>
                  </a:lnTo>
                  <a:lnTo>
                    <a:pt x="2073" y="451"/>
                  </a:lnTo>
                  <a:lnTo>
                    <a:pt x="2099" y="454"/>
                  </a:lnTo>
                  <a:lnTo>
                    <a:pt x="2126" y="460"/>
                  </a:lnTo>
                  <a:lnTo>
                    <a:pt x="2153" y="468"/>
                  </a:lnTo>
                  <a:lnTo>
                    <a:pt x="2179" y="476"/>
                  </a:lnTo>
                  <a:lnTo>
                    <a:pt x="2207" y="487"/>
                  </a:lnTo>
                  <a:lnTo>
                    <a:pt x="2234" y="498"/>
                  </a:lnTo>
                  <a:lnTo>
                    <a:pt x="2260" y="511"/>
                  </a:lnTo>
                  <a:lnTo>
                    <a:pt x="2287" y="525"/>
                  </a:lnTo>
                  <a:lnTo>
                    <a:pt x="2311" y="541"/>
                  </a:lnTo>
                  <a:lnTo>
                    <a:pt x="2335" y="557"/>
                  </a:lnTo>
                  <a:lnTo>
                    <a:pt x="2357" y="574"/>
                  </a:lnTo>
                  <a:lnTo>
                    <a:pt x="2377" y="592"/>
                  </a:lnTo>
                  <a:lnTo>
                    <a:pt x="2394" y="612"/>
                  </a:lnTo>
                  <a:lnTo>
                    <a:pt x="2411" y="630"/>
                  </a:lnTo>
                  <a:lnTo>
                    <a:pt x="640" y="870"/>
                  </a:lnTo>
                  <a:lnTo>
                    <a:pt x="0" y="954"/>
                  </a:lnTo>
                  <a:lnTo>
                    <a:pt x="17" y="948"/>
                  </a:lnTo>
                  <a:lnTo>
                    <a:pt x="36" y="939"/>
                  </a:lnTo>
                  <a:lnTo>
                    <a:pt x="55" y="928"/>
                  </a:lnTo>
                  <a:lnTo>
                    <a:pt x="73" y="915"/>
                  </a:lnTo>
                  <a:lnTo>
                    <a:pt x="91" y="900"/>
                  </a:lnTo>
                  <a:lnTo>
                    <a:pt x="108" y="884"/>
                  </a:lnTo>
                  <a:lnTo>
                    <a:pt x="126" y="866"/>
                  </a:lnTo>
                  <a:lnTo>
                    <a:pt x="141" y="848"/>
                  </a:lnTo>
                  <a:lnTo>
                    <a:pt x="155" y="828"/>
                  </a:lnTo>
                  <a:lnTo>
                    <a:pt x="167" y="808"/>
                  </a:lnTo>
                  <a:lnTo>
                    <a:pt x="177" y="788"/>
                  </a:lnTo>
                  <a:lnTo>
                    <a:pt x="184" y="769"/>
                  </a:lnTo>
                  <a:lnTo>
                    <a:pt x="187" y="760"/>
                  </a:lnTo>
                  <a:lnTo>
                    <a:pt x="189" y="751"/>
                  </a:lnTo>
                  <a:lnTo>
                    <a:pt x="190" y="741"/>
                  </a:lnTo>
                  <a:lnTo>
                    <a:pt x="191" y="732"/>
                  </a:lnTo>
                  <a:lnTo>
                    <a:pt x="190" y="724"/>
                  </a:lnTo>
                  <a:lnTo>
                    <a:pt x="189" y="716"/>
                  </a:lnTo>
                  <a:lnTo>
                    <a:pt x="188" y="708"/>
                  </a:lnTo>
                  <a:lnTo>
                    <a:pt x="184" y="701"/>
                  </a:lnTo>
                  <a:lnTo>
                    <a:pt x="178" y="688"/>
                  </a:lnTo>
                  <a:lnTo>
                    <a:pt x="175" y="677"/>
                  </a:lnTo>
                  <a:lnTo>
                    <a:pt x="173" y="669"/>
                  </a:lnTo>
                  <a:lnTo>
                    <a:pt x="173" y="663"/>
                  </a:lnTo>
                  <a:lnTo>
                    <a:pt x="175" y="660"/>
                  </a:lnTo>
                  <a:lnTo>
                    <a:pt x="178" y="656"/>
                  </a:lnTo>
                  <a:lnTo>
                    <a:pt x="183" y="654"/>
                  </a:lnTo>
                  <a:lnTo>
                    <a:pt x="189" y="653"/>
                  </a:lnTo>
                  <a:lnTo>
                    <a:pt x="204" y="651"/>
                  </a:lnTo>
                  <a:lnTo>
                    <a:pt x="222" y="649"/>
                  </a:lnTo>
                  <a:lnTo>
                    <a:pt x="231" y="648"/>
                  </a:lnTo>
                  <a:lnTo>
                    <a:pt x="242" y="644"/>
                  </a:lnTo>
                  <a:lnTo>
                    <a:pt x="252" y="640"/>
                  </a:lnTo>
                  <a:lnTo>
                    <a:pt x="263" y="634"/>
                  </a:lnTo>
                  <a:lnTo>
                    <a:pt x="278" y="640"/>
                  </a:lnTo>
                  <a:lnTo>
                    <a:pt x="294" y="647"/>
                  </a:lnTo>
                  <a:lnTo>
                    <a:pt x="313" y="651"/>
                  </a:lnTo>
                  <a:lnTo>
                    <a:pt x="331" y="657"/>
                  </a:lnTo>
                  <a:lnTo>
                    <a:pt x="351" y="662"/>
                  </a:lnTo>
                  <a:lnTo>
                    <a:pt x="374" y="666"/>
                  </a:lnTo>
                  <a:lnTo>
                    <a:pt x="396" y="668"/>
                  </a:lnTo>
                  <a:lnTo>
                    <a:pt x="420" y="669"/>
                  </a:lnTo>
                  <a:lnTo>
                    <a:pt x="446" y="670"/>
                  </a:lnTo>
                  <a:lnTo>
                    <a:pt x="473" y="669"/>
                  </a:lnTo>
                  <a:lnTo>
                    <a:pt x="502" y="666"/>
                  </a:lnTo>
                  <a:lnTo>
                    <a:pt x="532" y="662"/>
                  </a:lnTo>
                  <a:lnTo>
                    <a:pt x="564" y="656"/>
                  </a:lnTo>
                  <a:lnTo>
                    <a:pt x="598" y="648"/>
                  </a:lnTo>
                  <a:lnTo>
                    <a:pt x="634" y="637"/>
                  </a:lnTo>
                  <a:lnTo>
                    <a:pt x="671" y="625"/>
                  </a:lnTo>
                  <a:lnTo>
                    <a:pt x="683" y="620"/>
                  </a:lnTo>
                  <a:lnTo>
                    <a:pt x="694" y="614"/>
                  </a:lnTo>
                  <a:lnTo>
                    <a:pt x="703" y="607"/>
                  </a:lnTo>
                  <a:lnTo>
                    <a:pt x="712" y="599"/>
                  </a:lnTo>
                  <a:lnTo>
                    <a:pt x="719" y="590"/>
                  </a:lnTo>
                  <a:lnTo>
                    <a:pt x="726" y="579"/>
                  </a:lnTo>
                  <a:lnTo>
                    <a:pt x="733" y="569"/>
                  </a:lnTo>
                  <a:lnTo>
                    <a:pt x="739" y="558"/>
                  </a:lnTo>
                  <a:lnTo>
                    <a:pt x="744" y="546"/>
                  </a:lnTo>
                  <a:lnTo>
                    <a:pt x="748" y="534"/>
                  </a:lnTo>
                  <a:lnTo>
                    <a:pt x="752" y="521"/>
                  </a:lnTo>
                  <a:lnTo>
                    <a:pt x="755" y="508"/>
                  </a:lnTo>
                  <a:lnTo>
                    <a:pt x="761" y="480"/>
                  </a:lnTo>
                  <a:lnTo>
                    <a:pt x="766" y="452"/>
                  </a:lnTo>
                  <a:lnTo>
                    <a:pt x="773" y="396"/>
                  </a:lnTo>
                  <a:lnTo>
                    <a:pt x="780" y="344"/>
                  </a:lnTo>
                  <a:lnTo>
                    <a:pt x="786" y="321"/>
                  </a:lnTo>
                  <a:lnTo>
                    <a:pt x="792" y="300"/>
                  </a:lnTo>
                  <a:lnTo>
                    <a:pt x="795" y="291"/>
                  </a:lnTo>
                  <a:lnTo>
                    <a:pt x="800" y="282"/>
                  </a:lnTo>
                  <a:lnTo>
                    <a:pt x="805" y="274"/>
                  </a:lnTo>
                  <a:lnTo>
                    <a:pt x="809" y="268"/>
                  </a:lnTo>
                  <a:lnTo>
                    <a:pt x="821" y="256"/>
                  </a:lnTo>
                  <a:lnTo>
                    <a:pt x="833" y="240"/>
                  </a:lnTo>
                  <a:lnTo>
                    <a:pt x="844" y="224"/>
                  </a:lnTo>
                  <a:lnTo>
                    <a:pt x="856" y="206"/>
                  </a:lnTo>
                  <a:lnTo>
                    <a:pt x="878" y="167"/>
                  </a:lnTo>
                  <a:lnTo>
                    <a:pt x="900" y="126"/>
                  </a:lnTo>
                  <a:lnTo>
                    <a:pt x="920" y="87"/>
                  </a:lnTo>
                  <a:lnTo>
                    <a:pt x="940" y="52"/>
                  </a:lnTo>
                  <a:lnTo>
                    <a:pt x="949" y="37"/>
                  </a:lnTo>
                  <a:lnTo>
                    <a:pt x="958" y="24"/>
                  </a:lnTo>
                  <a:lnTo>
                    <a:pt x="966" y="14"/>
                  </a:lnTo>
                  <a:lnTo>
                    <a:pt x="974" y="6"/>
                  </a:lnTo>
                  <a:lnTo>
                    <a:pt x="1019" y="1"/>
                  </a:lnTo>
                  <a:lnTo>
                    <a:pt x="1060" y="0"/>
                  </a:lnTo>
                  <a:lnTo>
                    <a:pt x="1097" y="0"/>
                  </a:lnTo>
                  <a:lnTo>
                    <a:pt x="1128" y="1"/>
                  </a:lnTo>
                  <a:lnTo>
                    <a:pt x="1156" y="4"/>
                  </a:lnTo>
                  <a:lnTo>
                    <a:pt x="1180" y="8"/>
                  </a:lnTo>
                  <a:lnTo>
                    <a:pt x="1201" y="14"/>
                  </a:lnTo>
                  <a:lnTo>
                    <a:pt x="1218" y="20"/>
                  </a:lnTo>
                  <a:lnTo>
                    <a:pt x="1247" y="31"/>
                  </a:lnTo>
                  <a:lnTo>
                    <a:pt x="1271" y="41"/>
                  </a:lnTo>
                  <a:lnTo>
                    <a:pt x="1281" y="44"/>
                  </a:lnTo>
                  <a:lnTo>
                    <a:pt x="1292" y="45"/>
                  </a:lnTo>
                  <a:lnTo>
                    <a:pt x="1302" y="45"/>
                  </a:lnTo>
                  <a:lnTo>
                    <a:pt x="1314" y="43"/>
                  </a:lnTo>
                  <a:lnTo>
                    <a:pt x="1323" y="44"/>
                  </a:lnTo>
                  <a:lnTo>
                    <a:pt x="1330" y="45"/>
                  </a:lnTo>
                  <a:lnTo>
                    <a:pt x="1337" y="48"/>
                  </a:lnTo>
                  <a:lnTo>
                    <a:pt x="1342" y="51"/>
                  </a:lnTo>
                  <a:lnTo>
                    <a:pt x="1347" y="55"/>
                  </a:lnTo>
                  <a:lnTo>
                    <a:pt x="1350" y="59"/>
                  </a:lnTo>
                  <a:lnTo>
                    <a:pt x="1354" y="65"/>
                  </a:lnTo>
                  <a:lnTo>
                    <a:pt x="1356" y="71"/>
                  </a:lnTo>
                  <a:lnTo>
                    <a:pt x="1363" y="83"/>
                  </a:lnTo>
                  <a:lnTo>
                    <a:pt x="1372" y="95"/>
                  </a:lnTo>
                  <a:lnTo>
                    <a:pt x="1378" y="102"/>
                  </a:lnTo>
                  <a:lnTo>
                    <a:pt x="1385" y="108"/>
                  </a:lnTo>
                  <a:lnTo>
                    <a:pt x="1394" y="115"/>
                  </a:lnTo>
                  <a:lnTo>
                    <a:pt x="1406" y="121"/>
                  </a:lnTo>
                  <a:lnTo>
                    <a:pt x="1412" y="135"/>
                  </a:lnTo>
                  <a:lnTo>
                    <a:pt x="1419" y="148"/>
                  </a:lnTo>
                  <a:lnTo>
                    <a:pt x="1427" y="159"/>
                  </a:lnTo>
                  <a:lnTo>
                    <a:pt x="1435" y="169"/>
                  </a:lnTo>
                  <a:lnTo>
                    <a:pt x="1442" y="177"/>
                  </a:lnTo>
                  <a:lnTo>
                    <a:pt x="1452" y="185"/>
                  </a:lnTo>
                  <a:lnTo>
                    <a:pt x="1460" y="192"/>
                  </a:lnTo>
                  <a:lnTo>
                    <a:pt x="1469" y="198"/>
                  </a:lnTo>
                  <a:lnTo>
                    <a:pt x="1477" y="203"/>
                  </a:lnTo>
                  <a:lnTo>
                    <a:pt x="1487" y="208"/>
                  </a:lnTo>
                  <a:lnTo>
                    <a:pt x="1496" y="211"/>
                  </a:lnTo>
                  <a:lnTo>
                    <a:pt x="1505" y="213"/>
                  </a:lnTo>
                  <a:lnTo>
                    <a:pt x="1524" y="218"/>
                  </a:lnTo>
                  <a:lnTo>
                    <a:pt x="1543" y="219"/>
                  </a:lnTo>
                  <a:lnTo>
                    <a:pt x="1577" y="220"/>
                  </a:lnTo>
                  <a:lnTo>
                    <a:pt x="1607" y="220"/>
                  </a:lnTo>
                  <a:lnTo>
                    <a:pt x="1620" y="222"/>
                  </a:lnTo>
                  <a:lnTo>
                    <a:pt x="1630" y="225"/>
                  </a:lnTo>
                  <a:lnTo>
                    <a:pt x="1635" y="226"/>
                  </a:lnTo>
                  <a:lnTo>
                    <a:pt x="1639" y="229"/>
                  </a:lnTo>
                  <a:lnTo>
                    <a:pt x="1642" y="232"/>
                  </a:lnTo>
                  <a:lnTo>
                    <a:pt x="1644" y="237"/>
                  </a:lnTo>
                  <a:lnTo>
                    <a:pt x="1823" y="245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Freeform 143"/>
            <p:cNvSpPr/>
            <p:nvPr/>
          </p:nvSpPr>
          <p:spPr>
            <a:xfrm>
              <a:off x="7557840" y="4226040"/>
              <a:ext cx="241200" cy="1947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601" h="1200">
                  <a:moveTo>
                    <a:pt x="424" y="1200"/>
                  </a:moveTo>
                  <a:lnTo>
                    <a:pt x="415" y="1192"/>
                  </a:lnTo>
                  <a:lnTo>
                    <a:pt x="404" y="1184"/>
                  </a:lnTo>
                  <a:lnTo>
                    <a:pt x="391" y="1176"/>
                  </a:lnTo>
                  <a:lnTo>
                    <a:pt x="377" y="1167"/>
                  </a:lnTo>
                  <a:lnTo>
                    <a:pt x="345" y="1147"/>
                  </a:lnTo>
                  <a:lnTo>
                    <a:pt x="306" y="1126"/>
                  </a:lnTo>
                  <a:lnTo>
                    <a:pt x="263" y="1103"/>
                  </a:lnTo>
                  <a:lnTo>
                    <a:pt x="216" y="1081"/>
                  </a:lnTo>
                  <a:lnTo>
                    <a:pt x="166" y="1059"/>
                  </a:lnTo>
                  <a:lnTo>
                    <a:pt x="112" y="1036"/>
                  </a:lnTo>
                  <a:lnTo>
                    <a:pt x="106" y="308"/>
                  </a:lnTo>
                  <a:lnTo>
                    <a:pt x="0" y="55"/>
                  </a:lnTo>
                  <a:lnTo>
                    <a:pt x="1466" y="0"/>
                  </a:lnTo>
                  <a:lnTo>
                    <a:pt x="1458" y="83"/>
                  </a:lnTo>
                  <a:lnTo>
                    <a:pt x="1596" y="69"/>
                  </a:lnTo>
                  <a:lnTo>
                    <a:pt x="1598" y="85"/>
                  </a:lnTo>
                  <a:lnTo>
                    <a:pt x="1600" y="101"/>
                  </a:lnTo>
                  <a:lnTo>
                    <a:pt x="1601" y="118"/>
                  </a:lnTo>
                  <a:lnTo>
                    <a:pt x="1601" y="135"/>
                  </a:lnTo>
                  <a:lnTo>
                    <a:pt x="1600" y="169"/>
                  </a:lnTo>
                  <a:lnTo>
                    <a:pt x="1597" y="204"/>
                  </a:lnTo>
                  <a:lnTo>
                    <a:pt x="1591" y="239"/>
                  </a:lnTo>
                  <a:lnTo>
                    <a:pt x="1584" y="274"/>
                  </a:lnTo>
                  <a:lnTo>
                    <a:pt x="1575" y="309"/>
                  </a:lnTo>
                  <a:lnTo>
                    <a:pt x="1564" y="343"/>
                  </a:lnTo>
                  <a:lnTo>
                    <a:pt x="1552" y="376"/>
                  </a:lnTo>
                  <a:lnTo>
                    <a:pt x="1541" y="407"/>
                  </a:lnTo>
                  <a:lnTo>
                    <a:pt x="1529" y="436"/>
                  </a:lnTo>
                  <a:lnTo>
                    <a:pt x="1516" y="465"/>
                  </a:lnTo>
                  <a:lnTo>
                    <a:pt x="1505" y="489"/>
                  </a:lnTo>
                  <a:lnTo>
                    <a:pt x="1493" y="511"/>
                  </a:lnTo>
                  <a:lnTo>
                    <a:pt x="1482" y="531"/>
                  </a:lnTo>
                  <a:lnTo>
                    <a:pt x="1472" y="546"/>
                  </a:lnTo>
                  <a:lnTo>
                    <a:pt x="1462" y="564"/>
                  </a:lnTo>
                  <a:lnTo>
                    <a:pt x="1453" y="585"/>
                  </a:lnTo>
                  <a:lnTo>
                    <a:pt x="1444" y="611"/>
                  </a:lnTo>
                  <a:lnTo>
                    <a:pt x="1434" y="640"/>
                  </a:lnTo>
                  <a:lnTo>
                    <a:pt x="1426" y="671"/>
                  </a:lnTo>
                  <a:lnTo>
                    <a:pt x="1418" y="707"/>
                  </a:lnTo>
                  <a:lnTo>
                    <a:pt x="1411" y="746"/>
                  </a:lnTo>
                  <a:lnTo>
                    <a:pt x="1406" y="787"/>
                  </a:lnTo>
                  <a:lnTo>
                    <a:pt x="1403" y="830"/>
                  </a:lnTo>
                  <a:lnTo>
                    <a:pt x="1402" y="876"/>
                  </a:lnTo>
                  <a:lnTo>
                    <a:pt x="1402" y="898"/>
                  </a:lnTo>
                  <a:lnTo>
                    <a:pt x="1403" y="921"/>
                  </a:lnTo>
                  <a:lnTo>
                    <a:pt x="1405" y="946"/>
                  </a:lnTo>
                  <a:lnTo>
                    <a:pt x="1408" y="969"/>
                  </a:lnTo>
                  <a:lnTo>
                    <a:pt x="1410" y="994"/>
                  </a:lnTo>
                  <a:lnTo>
                    <a:pt x="1415" y="1018"/>
                  </a:lnTo>
                  <a:lnTo>
                    <a:pt x="1419" y="1043"/>
                  </a:lnTo>
                  <a:lnTo>
                    <a:pt x="1425" y="1067"/>
                  </a:lnTo>
                  <a:lnTo>
                    <a:pt x="1432" y="1092"/>
                  </a:lnTo>
                  <a:lnTo>
                    <a:pt x="1439" y="1116"/>
                  </a:lnTo>
                  <a:lnTo>
                    <a:pt x="1448" y="1141"/>
                  </a:lnTo>
                  <a:lnTo>
                    <a:pt x="1458" y="1165"/>
                  </a:lnTo>
                  <a:lnTo>
                    <a:pt x="424" y="1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144"/>
            <p:cNvSpPr/>
            <p:nvPr/>
          </p:nvSpPr>
          <p:spPr>
            <a:xfrm>
              <a:off x="7557840" y="4226040"/>
              <a:ext cx="241200" cy="1947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601" h="1200">
                  <a:moveTo>
                    <a:pt x="424" y="1200"/>
                  </a:moveTo>
                  <a:lnTo>
                    <a:pt x="415" y="1192"/>
                  </a:lnTo>
                  <a:lnTo>
                    <a:pt x="404" y="1184"/>
                  </a:lnTo>
                  <a:lnTo>
                    <a:pt x="391" y="1176"/>
                  </a:lnTo>
                  <a:lnTo>
                    <a:pt x="377" y="1167"/>
                  </a:lnTo>
                  <a:lnTo>
                    <a:pt x="345" y="1147"/>
                  </a:lnTo>
                  <a:lnTo>
                    <a:pt x="306" y="1126"/>
                  </a:lnTo>
                  <a:lnTo>
                    <a:pt x="263" y="1103"/>
                  </a:lnTo>
                  <a:lnTo>
                    <a:pt x="216" y="1081"/>
                  </a:lnTo>
                  <a:lnTo>
                    <a:pt x="166" y="1059"/>
                  </a:lnTo>
                  <a:lnTo>
                    <a:pt x="112" y="1036"/>
                  </a:lnTo>
                  <a:lnTo>
                    <a:pt x="106" y="308"/>
                  </a:lnTo>
                  <a:lnTo>
                    <a:pt x="0" y="55"/>
                  </a:lnTo>
                  <a:lnTo>
                    <a:pt x="1466" y="0"/>
                  </a:lnTo>
                  <a:lnTo>
                    <a:pt x="1458" y="83"/>
                  </a:lnTo>
                  <a:lnTo>
                    <a:pt x="1596" y="69"/>
                  </a:lnTo>
                  <a:lnTo>
                    <a:pt x="1598" y="85"/>
                  </a:lnTo>
                  <a:lnTo>
                    <a:pt x="1600" y="101"/>
                  </a:lnTo>
                  <a:lnTo>
                    <a:pt x="1601" y="118"/>
                  </a:lnTo>
                  <a:lnTo>
                    <a:pt x="1601" y="135"/>
                  </a:lnTo>
                  <a:lnTo>
                    <a:pt x="1600" y="169"/>
                  </a:lnTo>
                  <a:lnTo>
                    <a:pt x="1597" y="204"/>
                  </a:lnTo>
                  <a:lnTo>
                    <a:pt x="1591" y="239"/>
                  </a:lnTo>
                  <a:lnTo>
                    <a:pt x="1584" y="274"/>
                  </a:lnTo>
                  <a:lnTo>
                    <a:pt x="1575" y="309"/>
                  </a:lnTo>
                  <a:lnTo>
                    <a:pt x="1564" y="343"/>
                  </a:lnTo>
                  <a:lnTo>
                    <a:pt x="1552" y="376"/>
                  </a:lnTo>
                  <a:lnTo>
                    <a:pt x="1541" y="407"/>
                  </a:lnTo>
                  <a:lnTo>
                    <a:pt x="1529" y="436"/>
                  </a:lnTo>
                  <a:lnTo>
                    <a:pt x="1516" y="465"/>
                  </a:lnTo>
                  <a:lnTo>
                    <a:pt x="1505" y="489"/>
                  </a:lnTo>
                  <a:lnTo>
                    <a:pt x="1493" y="511"/>
                  </a:lnTo>
                  <a:lnTo>
                    <a:pt x="1482" y="531"/>
                  </a:lnTo>
                  <a:lnTo>
                    <a:pt x="1472" y="546"/>
                  </a:lnTo>
                  <a:lnTo>
                    <a:pt x="1462" y="564"/>
                  </a:lnTo>
                  <a:lnTo>
                    <a:pt x="1453" y="585"/>
                  </a:lnTo>
                  <a:lnTo>
                    <a:pt x="1444" y="611"/>
                  </a:lnTo>
                  <a:lnTo>
                    <a:pt x="1434" y="640"/>
                  </a:lnTo>
                  <a:lnTo>
                    <a:pt x="1426" y="671"/>
                  </a:lnTo>
                  <a:lnTo>
                    <a:pt x="1418" y="707"/>
                  </a:lnTo>
                  <a:lnTo>
                    <a:pt x="1411" y="746"/>
                  </a:lnTo>
                  <a:lnTo>
                    <a:pt x="1406" y="787"/>
                  </a:lnTo>
                  <a:lnTo>
                    <a:pt x="1403" y="830"/>
                  </a:lnTo>
                  <a:lnTo>
                    <a:pt x="1402" y="876"/>
                  </a:lnTo>
                  <a:lnTo>
                    <a:pt x="1402" y="898"/>
                  </a:lnTo>
                  <a:lnTo>
                    <a:pt x="1403" y="921"/>
                  </a:lnTo>
                  <a:lnTo>
                    <a:pt x="1405" y="946"/>
                  </a:lnTo>
                  <a:lnTo>
                    <a:pt x="1408" y="969"/>
                  </a:lnTo>
                  <a:lnTo>
                    <a:pt x="1410" y="994"/>
                  </a:lnTo>
                  <a:lnTo>
                    <a:pt x="1415" y="1018"/>
                  </a:lnTo>
                  <a:lnTo>
                    <a:pt x="1419" y="1043"/>
                  </a:lnTo>
                  <a:lnTo>
                    <a:pt x="1425" y="1067"/>
                  </a:lnTo>
                  <a:lnTo>
                    <a:pt x="1432" y="1092"/>
                  </a:lnTo>
                  <a:lnTo>
                    <a:pt x="1439" y="1116"/>
                  </a:lnTo>
                  <a:lnTo>
                    <a:pt x="1448" y="1141"/>
                  </a:lnTo>
                  <a:lnTo>
                    <a:pt x="1458" y="1165"/>
                  </a:lnTo>
                  <a:lnTo>
                    <a:pt x="424" y="120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Freeform 145"/>
            <p:cNvSpPr/>
            <p:nvPr/>
          </p:nvSpPr>
          <p:spPr>
            <a:xfrm>
              <a:off x="8373960" y="4016160"/>
              <a:ext cx="44280" cy="58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89" h="357">
                  <a:moveTo>
                    <a:pt x="285" y="357"/>
                  </a:moveTo>
                  <a:lnTo>
                    <a:pt x="273" y="353"/>
                  </a:lnTo>
                  <a:lnTo>
                    <a:pt x="263" y="347"/>
                  </a:lnTo>
                  <a:lnTo>
                    <a:pt x="251" y="340"/>
                  </a:lnTo>
                  <a:lnTo>
                    <a:pt x="241" y="332"/>
                  </a:lnTo>
                  <a:lnTo>
                    <a:pt x="230" y="322"/>
                  </a:lnTo>
                  <a:lnTo>
                    <a:pt x="220" y="313"/>
                  </a:lnTo>
                  <a:lnTo>
                    <a:pt x="209" y="302"/>
                  </a:lnTo>
                  <a:lnTo>
                    <a:pt x="200" y="292"/>
                  </a:lnTo>
                  <a:lnTo>
                    <a:pt x="180" y="269"/>
                  </a:lnTo>
                  <a:lnTo>
                    <a:pt x="161" y="243"/>
                  </a:lnTo>
                  <a:lnTo>
                    <a:pt x="144" y="217"/>
                  </a:lnTo>
                  <a:lnTo>
                    <a:pt x="125" y="191"/>
                  </a:lnTo>
                  <a:lnTo>
                    <a:pt x="92" y="140"/>
                  </a:lnTo>
                  <a:lnTo>
                    <a:pt x="61" y="96"/>
                  </a:lnTo>
                  <a:lnTo>
                    <a:pt x="44" y="78"/>
                  </a:lnTo>
                  <a:lnTo>
                    <a:pt x="29" y="63"/>
                  </a:lnTo>
                  <a:lnTo>
                    <a:pt x="22" y="57"/>
                  </a:lnTo>
                  <a:lnTo>
                    <a:pt x="15" y="52"/>
                  </a:lnTo>
                  <a:lnTo>
                    <a:pt x="7" y="49"/>
                  </a:lnTo>
                  <a:lnTo>
                    <a:pt x="0" y="47"/>
                  </a:lnTo>
                  <a:lnTo>
                    <a:pt x="161" y="0"/>
                  </a:lnTo>
                  <a:lnTo>
                    <a:pt x="162" y="10"/>
                  </a:lnTo>
                  <a:lnTo>
                    <a:pt x="165" y="20"/>
                  </a:lnTo>
                  <a:lnTo>
                    <a:pt x="168" y="29"/>
                  </a:lnTo>
                  <a:lnTo>
                    <a:pt x="174" y="37"/>
                  </a:lnTo>
                  <a:lnTo>
                    <a:pt x="186" y="55"/>
                  </a:lnTo>
                  <a:lnTo>
                    <a:pt x="201" y="71"/>
                  </a:lnTo>
                  <a:lnTo>
                    <a:pt x="215" y="88"/>
                  </a:lnTo>
                  <a:lnTo>
                    <a:pt x="227" y="104"/>
                  </a:lnTo>
                  <a:lnTo>
                    <a:pt x="233" y="113"/>
                  </a:lnTo>
                  <a:lnTo>
                    <a:pt x="236" y="123"/>
                  </a:lnTo>
                  <a:lnTo>
                    <a:pt x="238" y="132"/>
                  </a:lnTo>
                  <a:lnTo>
                    <a:pt x="240" y="141"/>
                  </a:lnTo>
                  <a:lnTo>
                    <a:pt x="240" y="158"/>
                  </a:lnTo>
                  <a:lnTo>
                    <a:pt x="242" y="173"/>
                  </a:lnTo>
                  <a:lnTo>
                    <a:pt x="245" y="187"/>
                  </a:lnTo>
                  <a:lnTo>
                    <a:pt x="249" y="200"/>
                  </a:lnTo>
                  <a:lnTo>
                    <a:pt x="258" y="224"/>
                  </a:lnTo>
                  <a:lnTo>
                    <a:pt x="269" y="246"/>
                  </a:lnTo>
                  <a:lnTo>
                    <a:pt x="273" y="258"/>
                  </a:lnTo>
                  <a:lnTo>
                    <a:pt x="278" y="270"/>
                  </a:lnTo>
                  <a:lnTo>
                    <a:pt x="283" y="281"/>
                  </a:lnTo>
                  <a:lnTo>
                    <a:pt x="285" y="294"/>
                  </a:lnTo>
                  <a:lnTo>
                    <a:pt x="287" y="308"/>
                  </a:lnTo>
                  <a:lnTo>
                    <a:pt x="289" y="323"/>
                  </a:lnTo>
                  <a:lnTo>
                    <a:pt x="287" y="340"/>
                  </a:lnTo>
                  <a:lnTo>
                    <a:pt x="285" y="35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Freeform 146"/>
            <p:cNvSpPr/>
            <p:nvPr/>
          </p:nvSpPr>
          <p:spPr>
            <a:xfrm>
              <a:off x="8373960" y="4016160"/>
              <a:ext cx="44280" cy="58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89" h="357">
                  <a:moveTo>
                    <a:pt x="285" y="357"/>
                  </a:moveTo>
                  <a:lnTo>
                    <a:pt x="273" y="353"/>
                  </a:lnTo>
                  <a:lnTo>
                    <a:pt x="263" y="347"/>
                  </a:lnTo>
                  <a:lnTo>
                    <a:pt x="251" y="340"/>
                  </a:lnTo>
                  <a:lnTo>
                    <a:pt x="241" y="332"/>
                  </a:lnTo>
                  <a:lnTo>
                    <a:pt x="230" y="322"/>
                  </a:lnTo>
                  <a:lnTo>
                    <a:pt x="220" y="313"/>
                  </a:lnTo>
                  <a:lnTo>
                    <a:pt x="209" y="302"/>
                  </a:lnTo>
                  <a:lnTo>
                    <a:pt x="200" y="292"/>
                  </a:lnTo>
                  <a:lnTo>
                    <a:pt x="180" y="269"/>
                  </a:lnTo>
                  <a:lnTo>
                    <a:pt x="161" y="243"/>
                  </a:lnTo>
                  <a:lnTo>
                    <a:pt x="144" y="217"/>
                  </a:lnTo>
                  <a:lnTo>
                    <a:pt x="125" y="191"/>
                  </a:lnTo>
                  <a:lnTo>
                    <a:pt x="92" y="140"/>
                  </a:lnTo>
                  <a:lnTo>
                    <a:pt x="61" y="96"/>
                  </a:lnTo>
                  <a:lnTo>
                    <a:pt x="44" y="78"/>
                  </a:lnTo>
                  <a:lnTo>
                    <a:pt x="29" y="63"/>
                  </a:lnTo>
                  <a:lnTo>
                    <a:pt x="22" y="57"/>
                  </a:lnTo>
                  <a:lnTo>
                    <a:pt x="15" y="52"/>
                  </a:lnTo>
                  <a:lnTo>
                    <a:pt x="7" y="49"/>
                  </a:lnTo>
                  <a:lnTo>
                    <a:pt x="0" y="47"/>
                  </a:lnTo>
                  <a:lnTo>
                    <a:pt x="161" y="0"/>
                  </a:lnTo>
                  <a:lnTo>
                    <a:pt x="162" y="10"/>
                  </a:lnTo>
                  <a:lnTo>
                    <a:pt x="165" y="20"/>
                  </a:lnTo>
                  <a:lnTo>
                    <a:pt x="168" y="29"/>
                  </a:lnTo>
                  <a:lnTo>
                    <a:pt x="174" y="37"/>
                  </a:lnTo>
                  <a:lnTo>
                    <a:pt x="186" y="55"/>
                  </a:lnTo>
                  <a:lnTo>
                    <a:pt x="201" y="71"/>
                  </a:lnTo>
                  <a:lnTo>
                    <a:pt x="215" y="88"/>
                  </a:lnTo>
                  <a:lnTo>
                    <a:pt x="227" y="104"/>
                  </a:lnTo>
                  <a:lnTo>
                    <a:pt x="233" y="113"/>
                  </a:lnTo>
                  <a:lnTo>
                    <a:pt x="236" y="123"/>
                  </a:lnTo>
                  <a:lnTo>
                    <a:pt x="238" y="132"/>
                  </a:lnTo>
                  <a:lnTo>
                    <a:pt x="240" y="141"/>
                  </a:lnTo>
                  <a:lnTo>
                    <a:pt x="240" y="158"/>
                  </a:lnTo>
                  <a:lnTo>
                    <a:pt x="242" y="173"/>
                  </a:lnTo>
                  <a:lnTo>
                    <a:pt x="245" y="187"/>
                  </a:lnTo>
                  <a:lnTo>
                    <a:pt x="249" y="200"/>
                  </a:lnTo>
                  <a:lnTo>
                    <a:pt x="258" y="224"/>
                  </a:lnTo>
                  <a:lnTo>
                    <a:pt x="269" y="246"/>
                  </a:lnTo>
                  <a:lnTo>
                    <a:pt x="273" y="258"/>
                  </a:lnTo>
                  <a:lnTo>
                    <a:pt x="278" y="270"/>
                  </a:lnTo>
                  <a:lnTo>
                    <a:pt x="283" y="281"/>
                  </a:lnTo>
                  <a:lnTo>
                    <a:pt x="285" y="294"/>
                  </a:lnTo>
                  <a:lnTo>
                    <a:pt x="287" y="308"/>
                  </a:lnTo>
                  <a:lnTo>
                    <a:pt x="289" y="323"/>
                  </a:lnTo>
                  <a:lnTo>
                    <a:pt x="287" y="340"/>
                  </a:lnTo>
                  <a:lnTo>
                    <a:pt x="285" y="357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Freeform 147"/>
            <p:cNvSpPr/>
            <p:nvPr/>
          </p:nvSpPr>
          <p:spPr>
            <a:xfrm>
              <a:off x="7448400" y="3927240"/>
              <a:ext cx="260280" cy="1173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714" h="717">
                  <a:moveTo>
                    <a:pt x="1388" y="0"/>
                  </a:moveTo>
                  <a:lnTo>
                    <a:pt x="1399" y="19"/>
                  </a:lnTo>
                  <a:lnTo>
                    <a:pt x="1410" y="38"/>
                  </a:lnTo>
                  <a:lnTo>
                    <a:pt x="1424" y="56"/>
                  </a:lnTo>
                  <a:lnTo>
                    <a:pt x="1440" y="75"/>
                  </a:lnTo>
                  <a:lnTo>
                    <a:pt x="1457" y="93"/>
                  </a:lnTo>
                  <a:lnTo>
                    <a:pt x="1475" y="109"/>
                  </a:lnTo>
                  <a:lnTo>
                    <a:pt x="1494" y="125"/>
                  </a:lnTo>
                  <a:lnTo>
                    <a:pt x="1514" y="140"/>
                  </a:lnTo>
                  <a:lnTo>
                    <a:pt x="1535" y="153"/>
                  </a:lnTo>
                  <a:lnTo>
                    <a:pt x="1558" y="166"/>
                  </a:lnTo>
                  <a:lnTo>
                    <a:pt x="1579" y="177"/>
                  </a:lnTo>
                  <a:lnTo>
                    <a:pt x="1601" y="186"/>
                  </a:lnTo>
                  <a:lnTo>
                    <a:pt x="1622" y="193"/>
                  </a:lnTo>
                  <a:lnTo>
                    <a:pt x="1643" y="198"/>
                  </a:lnTo>
                  <a:lnTo>
                    <a:pt x="1663" y="201"/>
                  </a:lnTo>
                  <a:lnTo>
                    <a:pt x="1683" y="202"/>
                  </a:lnTo>
                  <a:lnTo>
                    <a:pt x="1714" y="331"/>
                  </a:lnTo>
                  <a:lnTo>
                    <a:pt x="1695" y="335"/>
                  </a:lnTo>
                  <a:lnTo>
                    <a:pt x="1679" y="340"/>
                  </a:lnTo>
                  <a:lnTo>
                    <a:pt x="1665" y="346"/>
                  </a:lnTo>
                  <a:lnTo>
                    <a:pt x="1653" y="353"/>
                  </a:lnTo>
                  <a:lnTo>
                    <a:pt x="1643" y="361"/>
                  </a:lnTo>
                  <a:lnTo>
                    <a:pt x="1636" y="369"/>
                  </a:lnTo>
                  <a:lnTo>
                    <a:pt x="1630" y="379"/>
                  </a:lnTo>
                  <a:lnTo>
                    <a:pt x="1625" y="388"/>
                  </a:lnTo>
                  <a:lnTo>
                    <a:pt x="1623" y="397"/>
                  </a:lnTo>
                  <a:lnTo>
                    <a:pt x="1622" y="407"/>
                  </a:lnTo>
                  <a:lnTo>
                    <a:pt x="1623" y="416"/>
                  </a:lnTo>
                  <a:lnTo>
                    <a:pt x="1625" y="425"/>
                  </a:lnTo>
                  <a:lnTo>
                    <a:pt x="1628" y="434"/>
                  </a:lnTo>
                  <a:lnTo>
                    <a:pt x="1632" y="442"/>
                  </a:lnTo>
                  <a:lnTo>
                    <a:pt x="1638" y="449"/>
                  </a:lnTo>
                  <a:lnTo>
                    <a:pt x="1645" y="456"/>
                  </a:lnTo>
                  <a:lnTo>
                    <a:pt x="1608" y="525"/>
                  </a:lnTo>
                  <a:lnTo>
                    <a:pt x="1602" y="525"/>
                  </a:lnTo>
                  <a:lnTo>
                    <a:pt x="1596" y="525"/>
                  </a:lnTo>
                  <a:lnTo>
                    <a:pt x="1591" y="526"/>
                  </a:lnTo>
                  <a:lnTo>
                    <a:pt x="1586" y="528"/>
                  </a:lnTo>
                  <a:lnTo>
                    <a:pt x="1582" y="531"/>
                  </a:lnTo>
                  <a:lnTo>
                    <a:pt x="1577" y="534"/>
                  </a:lnTo>
                  <a:lnTo>
                    <a:pt x="1573" y="538"/>
                  </a:lnTo>
                  <a:lnTo>
                    <a:pt x="1569" y="542"/>
                  </a:lnTo>
                  <a:lnTo>
                    <a:pt x="1563" y="552"/>
                  </a:lnTo>
                  <a:lnTo>
                    <a:pt x="1558" y="563"/>
                  </a:lnTo>
                  <a:lnTo>
                    <a:pt x="1553" y="575"/>
                  </a:lnTo>
                  <a:lnTo>
                    <a:pt x="1548" y="588"/>
                  </a:lnTo>
                  <a:lnTo>
                    <a:pt x="1546" y="602"/>
                  </a:lnTo>
                  <a:lnTo>
                    <a:pt x="1544" y="616"/>
                  </a:lnTo>
                  <a:lnTo>
                    <a:pt x="1542" y="629"/>
                  </a:lnTo>
                  <a:lnTo>
                    <a:pt x="1541" y="642"/>
                  </a:lnTo>
                  <a:lnTo>
                    <a:pt x="1541" y="653"/>
                  </a:lnTo>
                  <a:lnTo>
                    <a:pt x="1541" y="664"/>
                  </a:lnTo>
                  <a:lnTo>
                    <a:pt x="1542" y="673"/>
                  </a:lnTo>
                  <a:lnTo>
                    <a:pt x="1544" y="680"/>
                  </a:lnTo>
                  <a:lnTo>
                    <a:pt x="277" y="717"/>
                  </a:lnTo>
                  <a:lnTo>
                    <a:pt x="259" y="709"/>
                  </a:lnTo>
                  <a:lnTo>
                    <a:pt x="243" y="702"/>
                  </a:lnTo>
                  <a:lnTo>
                    <a:pt x="236" y="699"/>
                  </a:lnTo>
                  <a:lnTo>
                    <a:pt x="232" y="694"/>
                  </a:lnTo>
                  <a:lnTo>
                    <a:pt x="227" y="689"/>
                  </a:lnTo>
                  <a:lnTo>
                    <a:pt x="224" y="685"/>
                  </a:lnTo>
                  <a:lnTo>
                    <a:pt x="220" y="678"/>
                  </a:lnTo>
                  <a:lnTo>
                    <a:pt x="219" y="671"/>
                  </a:lnTo>
                  <a:lnTo>
                    <a:pt x="218" y="663"/>
                  </a:lnTo>
                  <a:lnTo>
                    <a:pt x="217" y="652"/>
                  </a:lnTo>
                  <a:lnTo>
                    <a:pt x="218" y="626"/>
                  </a:lnTo>
                  <a:lnTo>
                    <a:pt x="222" y="594"/>
                  </a:lnTo>
                  <a:lnTo>
                    <a:pt x="225" y="576"/>
                  </a:lnTo>
                  <a:lnTo>
                    <a:pt x="225" y="561"/>
                  </a:lnTo>
                  <a:lnTo>
                    <a:pt x="222" y="549"/>
                  </a:lnTo>
                  <a:lnTo>
                    <a:pt x="220" y="538"/>
                  </a:lnTo>
                  <a:lnTo>
                    <a:pt x="215" y="528"/>
                  </a:lnTo>
                  <a:lnTo>
                    <a:pt x="210" y="520"/>
                  </a:lnTo>
                  <a:lnTo>
                    <a:pt x="203" y="513"/>
                  </a:lnTo>
                  <a:lnTo>
                    <a:pt x="196" y="508"/>
                  </a:lnTo>
                  <a:lnTo>
                    <a:pt x="179" y="498"/>
                  </a:lnTo>
                  <a:lnTo>
                    <a:pt x="162" y="490"/>
                  </a:lnTo>
                  <a:lnTo>
                    <a:pt x="152" y="485"/>
                  </a:lnTo>
                  <a:lnTo>
                    <a:pt x="144" y="480"/>
                  </a:lnTo>
                  <a:lnTo>
                    <a:pt x="137" y="476"/>
                  </a:lnTo>
                  <a:lnTo>
                    <a:pt x="130" y="470"/>
                  </a:lnTo>
                  <a:lnTo>
                    <a:pt x="125" y="465"/>
                  </a:lnTo>
                  <a:lnTo>
                    <a:pt x="123" y="460"/>
                  </a:lnTo>
                  <a:lnTo>
                    <a:pt x="123" y="457"/>
                  </a:lnTo>
                  <a:lnTo>
                    <a:pt x="123" y="453"/>
                  </a:lnTo>
                  <a:lnTo>
                    <a:pt x="124" y="449"/>
                  </a:lnTo>
                  <a:lnTo>
                    <a:pt x="125" y="444"/>
                  </a:lnTo>
                  <a:lnTo>
                    <a:pt x="127" y="438"/>
                  </a:lnTo>
                  <a:lnTo>
                    <a:pt x="125" y="431"/>
                  </a:lnTo>
                  <a:lnTo>
                    <a:pt x="123" y="422"/>
                  </a:lnTo>
                  <a:lnTo>
                    <a:pt x="117" y="410"/>
                  </a:lnTo>
                  <a:lnTo>
                    <a:pt x="109" y="395"/>
                  </a:lnTo>
                  <a:lnTo>
                    <a:pt x="97" y="378"/>
                  </a:lnTo>
                  <a:lnTo>
                    <a:pt x="81" y="358"/>
                  </a:lnTo>
                  <a:lnTo>
                    <a:pt x="60" y="333"/>
                  </a:lnTo>
                  <a:lnTo>
                    <a:pt x="33" y="304"/>
                  </a:lnTo>
                  <a:lnTo>
                    <a:pt x="0" y="271"/>
                  </a:lnTo>
                  <a:lnTo>
                    <a:pt x="14" y="14"/>
                  </a:lnTo>
                  <a:lnTo>
                    <a:pt x="13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Freeform 148"/>
            <p:cNvSpPr/>
            <p:nvPr/>
          </p:nvSpPr>
          <p:spPr>
            <a:xfrm>
              <a:off x="7448400" y="3927240"/>
              <a:ext cx="260280" cy="1173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714" h="717">
                  <a:moveTo>
                    <a:pt x="1388" y="0"/>
                  </a:moveTo>
                  <a:lnTo>
                    <a:pt x="1399" y="19"/>
                  </a:lnTo>
                  <a:lnTo>
                    <a:pt x="1410" y="38"/>
                  </a:lnTo>
                  <a:lnTo>
                    <a:pt x="1424" y="56"/>
                  </a:lnTo>
                  <a:lnTo>
                    <a:pt x="1440" y="75"/>
                  </a:lnTo>
                  <a:lnTo>
                    <a:pt x="1457" y="93"/>
                  </a:lnTo>
                  <a:lnTo>
                    <a:pt x="1475" y="109"/>
                  </a:lnTo>
                  <a:lnTo>
                    <a:pt x="1494" y="125"/>
                  </a:lnTo>
                  <a:lnTo>
                    <a:pt x="1514" y="140"/>
                  </a:lnTo>
                  <a:lnTo>
                    <a:pt x="1535" y="153"/>
                  </a:lnTo>
                  <a:lnTo>
                    <a:pt x="1558" y="166"/>
                  </a:lnTo>
                  <a:lnTo>
                    <a:pt x="1579" y="177"/>
                  </a:lnTo>
                  <a:lnTo>
                    <a:pt x="1601" y="186"/>
                  </a:lnTo>
                  <a:lnTo>
                    <a:pt x="1622" y="193"/>
                  </a:lnTo>
                  <a:lnTo>
                    <a:pt x="1643" y="198"/>
                  </a:lnTo>
                  <a:lnTo>
                    <a:pt x="1663" y="201"/>
                  </a:lnTo>
                  <a:lnTo>
                    <a:pt x="1683" y="202"/>
                  </a:lnTo>
                  <a:lnTo>
                    <a:pt x="1714" y="331"/>
                  </a:lnTo>
                  <a:lnTo>
                    <a:pt x="1695" y="335"/>
                  </a:lnTo>
                  <a:lnTo>
                    <a:pt x="1679" y="340"/>
                  </a:lnTo>
                  <a:lnTo>
                    <a:pt x="1665" y="346"/>
                  </a:lnTo>
                  <a:lnTo>
                    <a:pt x="1653" y="353"/>
                  </a:lnTo>
                  <a:lnTo>
                    <a:pt x="1643" y="361"/>
                  </a:lnTo>
                  <a:lnTo>
                    <a:pt x="1636" y="369"/>
                  </a:lnTo>
                  <a:lnTo>
                    <a:pt x="1630" y="379"/>
                  </a:lnTo>
                  <a:lnTo>
                    <a:pt x="1625" y="388"/>
                  </a:lnTo>
                  <a:lnTo>
                    <a:pt x="1623" y="397"/>
                  </a:lnTo>
                  <a:lnTo>
                    <a:pt x="1622" y="407"/>
                  </a:lnTo>
                  <a:lnTo>
                    <a:pt x="1623" y="416"/>
                  </a:lnTo>
                  <a:lnTo>
                    <a:pt x="1625" y="425"/>
                  </a:lnTo>
                  <a:lnTo>
                    <a:pt x="1628" y="434"/>
                  </a:lnTo>
                  <a:lnTo>
                    <a:pt x="1632" y="442"/>
                  </a:lnTo>
                  <a:lnTo>
                    <a:pt x="1638" y="449"/>
                  </a:lnTo>
                  <a:lnTo>
                    <a:pt x="1645" y="456"/>
                  </a:lnTo>
                  <a:lnTo>
                    <a:pt x="1608" y="525"/>
                  </a:lnTo>
                  <a:lnTo>
                    <a:pt x="1602" y="525"/>
                  </a:lnTo>
                  <a:lnTo>
                    <a:pt x="1596" y="525"/>
                  </a:lnTo>
                  <a:lnTo>
                    <a:pt x="1591" y="526"/>
                  </a:lnTo>
                  <a:lnTo>
                    <a:pt x="1586" y="528"/>
                  </a:lnTo>
                  <a:lnTo>
                    <a:pt x="1582" y="531"/>
                  </a:lnTo>
                  <a:lnTo>
                    <a:pt x="1577" y="534"/>
                  </a:lnTo>
                  <a:lnTo>
                    <a:pt x="1573" y="538"/>
                  </a:lnTo>
                  <a:lnTo>
                    <a:pt x="1569" y="542"/>
                  </a:lnTo>
                  <a:lnTo>
                    <a:pt x="1563" y="552"/>
                  </a:lnTo>
                  <a:lnTo>
                    <a:pt x="1558" y="563"/>
                  </a:lnTo>
                  <a:lnTo>
                    <a:pt x="1553" y="575"/>
                  </a:lnTo>
                  <a:lnTo>
                    <a:pt x="1548" y="588"/>
                  </a:lnTo>
                  <a:lnTo>
                    <a:pt x="1546" y="602"/>
                  </a:lnTo>
                  <a:lnTo>
                    <a:pt x="1544" y="616"/>
                  </a:lnTo>
                  <a:lnTo>
                    <a:pt x="1542" y="629"/>
                  </a:lnTo>
                  <a:lnTo>
                    <a:pt x="1541" y="642"/>
                  </a:lnTo>
                  <a:lnTo>
                    <a:pt x="1541" y="653"/>
                  </a:lnTo>
                  <a:lnTo>
                    <a:pt x="1541" y="664"/>
                  </a:lnTo>
                  <a:lnTo>
                    <a:pt x="1542" y="673"/>
                  </a:lnTo>
                  <a:lnTo>
                    <a:pt x="1544" y="680"/>
                  </a:lnTo>
                  <a:lnTo>
                    <a:pt x="277" y="717"/>
                  </a:lnTo>
                  <a:lnTo>
                    <a:pt x="259" y="709"/>
                  </a:lnTo>
                  <a:lnTo>
                    <a:pt x="243" y="702"/>
                  </a:lnTo>
                  <a:lnTo>
                    <a:pt x="236" y="699"/>
                  </a:lnTo>
                  <a:lnTo>
                    <a:pt x="232" y="694"/>
                  </a:lnTo>
                  <a:lnTo>
                    <a:pt x="227" y="689"/>
                  </a:lnTo>
                  <a:lnTo>
                    <a:pt x="224" y="685"/>
                  </a:lnTo>
                  <a:lnTo>
                    <a:pt x="220" y="678"/>
                  </a:lnTo>
                  <a:lnTo>
                    <a:pt x="219" y="671"/>
                  </a:lnTo>
                  <a:lnTo>
                    <a:pt x="218" y="663"/>
                  </a:lnTo>
                  <a:lnTo>
                    <a:pt x="217" y="652"/>
                  </a:lnTo>
                  <a:lnTo>
                    <a:pt x="218" y="626"/>
                  </a:lnTo>
                  <a:lnTo>
                    <a:pt x="222" y="594"/>
                  </a:lnTo>
                  <a:lnTo>
                    <a:pt x="225" y="576"/>
                  </a:lnTo>
                  <a:lnTo>
                    <a:pt x="225" y="561"/>
                  </a:lnTo>
                  <a:lnTo>
                    <a:pt x="222" y="549"/>
                  </a:lnTo>
                  <a:lnTo>
                    <a:pt x="220" y="538"/>
                  </a:lnTo>
                  <a:lnTo>
                    <a:pt x="215" y="528"/>
                  </a:lnTo>
                  <a:lnTo>
                    <a:pt x="210" y="520"/>
                  </a:lnTo>
                  <a:lnTo>
                    <a:pt x="203" y="513"/>
                  </a:lnTo>
                  <a:lnTo>
                    <a:pt x="196" y="508"/>
                  </a:lnTo>
                  <a:lnTo>
                    <a:pt x="179" y="498"/>
                  </a:lnTo>
                  <a:lnTo>
                    <a:pt x="162" y="490"/>
                  </a:lnTo>
                  <a:lnTo>
                    <a:pt x="152" y="485"/>
                  </a:lnTo>
                  <a:lnTo>
                    <a:pt x="144" y="480"/>
                  </a:lnTo>
                  <a:lnTo>
                    <a:pt x="137" y="476"/>
                  </a:lnTo>
                  <a:lnTo>
                    <a:pt x="130" y="470"/>
                  </a:lnTo>
                  <a:lnTo>
                    <a:pt x="125" y="465"/>
                  </a:lnTo>
                  <a:lnTo>
                    <a:pt x="123" y="460"/>
                  </a:lnTo>
                  <a:lnTo>
                    <a:pt x="123" y="457"/>
                  </a:lnTo>
                  <a:lnTo>
                    <a:pt x="123" y="453"/>
                  </a:lnTo>
                  <a:lnTo>
                    <a:pt x="124" y="449"/>
                  </a:lnTo>
                  <a:lnTo>
                    <a:pt x="125" y="444"/>
                  </a:lnTo>
                  <a:lnTo>
                    <a:pt x="127" y="438"/>
                  </a:lnTo>
                  <a:lnTo>
                    <a:pt x="125" y="431"/>
                  </a:lnTo>
                  <a:lnTo>
                    <a:pt x="123" y="422"/>
                  </a:lnTo>
                  <a:lnTo>
                    <a:pt x="117" y="410"/>
                  </a:lnTo>
                  <a:lnTo>
                    <a:pt x="109" y="395"/>
                  </a:lnTo>
                  <a:lnTo>
                    <a:pt x="97" y="378"/>
                  </a:lnTo>
                  <a:lnTo>
                    <a:pt x="81" y="358"/>
                  </a:lnTo>
                  <a:lnTo>
                    <a:pt x="60" y="333"/>
                  </a:lnTo>
                  <a:lnTo>
                    <a:pt x="33" y="304"/>
                  </a:lnTo>
                  <a:lnTo>
                    <a:pt x="0" y="271"/>
                  </a:lnTo>
                  <a:lnTo>
                    <a:pt x="14" y="14"/>
                  </a:lnTo>
                  <a:lnTo>
                    <a:pt x="1388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Freeform 149"/>
            <p:cNvSpPr/>
            <p:nvPr/>
          </p:nvSpPr>
          <p:spPr>
            <a:xfrm>
              <a:off x="6276600" y="3945240"/>
              <a:ext cx="287280" cy="4741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1904" h="2906">
                  <a:moveTo>
                    <a:pt x="1147" y="2906"/>
                  </a:moveTo>
                  <a:lnTo>
                    <a:pt x="1175" y="2857"/>
                  </a:lnTo>
                  <a:lnTo>
                    <a:pt x="400" y="2857"/>
                  </a:lnTo>
                  <a:lnTo>
                    <a:pt x="411" y="2837"/>
                  </a:lnTo>
                  <a:lnTo>
                    <a:pt x="421" y="2817"/>
                  </a:lnTo>
                  <a:lnTo>
                    <a:pt x="428" y="2797"/>
                  </a:lnTo>
                  <a:lnTo>
                    <a:pt x="435" y="2777"/>
                  </a:lnTo>
                  <a:lnTo>
                    <a:pt x="441" y="2759"/>
                  </a:lnTo>
                  <a:lnTo>
                    <a:pt x="446" y="2739"/>
                  </a:lnTo>
                  <a:lnTo>
                    <a:pt x="449" y="2720"/>
                  </a:lnTo>
                  <a:lnTo>
                    <a:pt x="452" y="2701"/>
                  </a:lnTo>
                  <a:lnTo>
                    <a:pt x="453" y="2683"/>
                  </a:lnTo>
                  <a:lnTo>
                    <a:pt x="453" y="2665"/>
                  </a:lnTo>
                  <a:lnTo>
                    <a:pt x="452" y="2647"/>
                  </a:lnTo>
                  <a:lnTo>
                    <a:pt x="449" y="2629"/>
                  </a:lnTo>
                  <a:lnTo>
                    <a:pt x="447" y="2612"/>
                  </a:lnTo>
                  <a:lnTo>
                    <a:pt x="443" y="2594"/>
                  </a:lnTo>
                  <a:lnTo>
                    <a:pt x="440" y="2578"/>
                  </a:lnTo>
                  <a:lnTo>
                    <a:pt x="435" y="2560"/>
                  </a:lnTo>
                  <a:lnTo>
                    <a:pt x="429" y="2544"/>
                  </a:lnTo>
                  <a:lnTo>
                    <a:pt x="424" y="2527"/>
                  </a:lnTo>
                  <a:lnTo>
                    <a:pt x="418" y="2512"/>
                  </a:lnTo>
                  <a:lnTo>
                    <a:pt x="411" y="2496"/>
                  </a:lnTo>
                  <a:lnTo>
                    <a:pt x="396" y="2466"/>
                  </a:lnTo>
                  <a:lnTo>
                    <a:pt x="379" y="2436"/>
                  </a:lnTo>
                  <a:lnTo>
                    <a:pt x="362" y="2408"/>
                  </a:lnTo>
                  <a:lnTo>
                    <a:pt x="344" y="2383"/>
                  </a:lnTo>
                  <a:lnTo>
                    <a:pt x="325" y="2357"/>
                  </a:lnTo>
                  <a:lnTo>
                    <a:pt x="308" y="2332"/>
                  </a:lnTo>
                  <a:lnTo>
                    <a:pt x="300" y="2322"/>
                  </a:lnTo>
                  <a:lnTo>
                    <a:pt x="293" y="2310"/>
                  </a:lnTo>
                  <a:lnTo>
                    <a:pt x="286" y="2298"/>
                  </a:lnTo>
                  <a:lnTo>
                    <a:pt x="280" y="2288"/>
                  </a:lnTo>
                  <a:lnTo>
                    <a:pt x="272" y="2267"/>
                  </a:lnTo>
                  <a:lnTo>
                    <a:pt x="265" y="2247"/>
                  </a:lnTo>
                  <a:lnTo>
                    <a:pt x="260" y="2228"/>
                  </a:lnTo>
                  <a:lnTo>
                    <a:pt x="259" y="2210"/>
                  </a:lnTo>
                  <a:lnTo>
                    <a:pt x="258" y="2193"/>
                  </a:lnTo>
                  <a:lnTo>
                    <a:pt x="259" y="2178"/>
                  </a:lnTo>
                  <a:lnTo>
                    <a:pt x="261" y="2164"/>
                  </a:lnTo>
                  <a:lnTo>
                    <a:pt x="265" y="2152"/>
                  </a:lnTo>
                  <a:lnTo>
                    <a:pt x="267" y="2142"/>
                  </a:lnTo>
                  <a:lnTo>
                    <a:pt x="271" y="2133"/>
                  </a:lnTo>
                  <a:lnTo>
                    <a:pt x="276" y="2121"/>
                  </a:lnTo>
                  <a:lnTo>
                    <a:pt x="280" y="2117"/>
                  </a:lnTo>
                  <a:lnTo>
                    <a:pt x="60" y="2085"/>
                  </a:lnTo>
                  <a:lnTo>
                    <a:pt x="63" y="2077"/>
                  </a:lnTo>
                  <a:lnTo>
                    <a:pt x="65" y="2068"/>
                  </a:lnTo>
                  <a:lnTo>
                    <a:pt x="66" y="2060"/>
                  </a:lnTo>
                  <a:lnTo>
                    <a:pt x="67" y="2052"/>
                  </a:lnTo>
                  <a:lnTo>
                    <a:pt x="66" y="2037"/>
                  </a:lnTo>
                  <a:lnTo>
                    <a:pt x="64" y="2022"/>
                  </a:lnTo>
                  <a:lnTo>
                    <a:pt x="60" y="2009"/>
                  </a:lnTo>
                  <a:lnTo>
                    <a:pt x="56" y="1996"/>
                  </a:lnTo>
                  <a:lnTo>
                    <a:pt x="49" y="1983"/>
                  </a:lnTo>
                  <a:lnTo>
                    <a:pt x="42" y="1973"/>
                  </a:lnTo>
                  <a:lnTo>
                    <a:pt x="28" y="1955"/>
                  </a:lnTo>
                  <a:lnTo>
                    <a:pt x="14" y="1941"/>
                  </a:lnTo>
                  <a:lnTo>
                    <a:pt x="4" y="1933"/>
                  </a:lnTo>
                  <a:lnTo>
                    <a:pt x="0" y="1929"/>
                  </a:lnTo>
                  <a:lnTo>
                    <a:pt x="184" y="1713"/>
                  </a:lnTo>
                  <a:lnTo>
                    <a:pt x="184" y="1705"/>
                  </a:lnTo>
                  <a:lnTo>
                    <a:pt x="183" y="1697"/>
                  </a:lnTo>
                  <a:lnTo>
                    <a:pt x="181" y="1689"/>
                  </a:lnTo>
                  <a:lnTo>
                    <a:pt x="178" y="1681"/>
                  </a:lnTo>
                  <a:lnTo>
                    <a:pt x="170" y="1664"/>
                  </a:lnTo>
                  <a:lnTo>
                    <a:pt x="161" y="1649"/>
                  </a:lnTo>
                  <a:lnTo>
                    <a:pt x="137" y="1619"/>
                  </a:lnTo>
                  <a:lnTo>
                    <a:pt x="112" y="1587"/>
                  </a:lnTo>
                  <a:lnTo>
                    <a:pt x="99" y="1571"/>
                  </a:lnTo>
                  <a:lnTo>
                    <a:pt x="87" y="1554"/>
                  </a:lnTo>
                  <a:lnTo>
                    <a:pt x="77" y="1538"/>
                  </a:lnTo>
                  <a:lnTo>
                    <a:pt x="67" y="1519"/>
                  </a:lnTo>
                  <a:lnTo>
                    <a:pt x="64" y="1510"/>
                  </a:lnTo>
                  <a:lnTo>
                    <a:pt x="61" y="1501"/>
                  </a:lnTo>
                  <a:lnTo>
                    <a:pt x="59" y="1491"/>
                  </a:lnTo>
                  <a:lnTo>
                    <a:pt x="58" y="1481"/>
                  </a:lnTo>
                  <a:lnTo>
                    <a:pt x="57" y="1470"/>
                  </a:lnTo>
                  <a:lnTo>
                    <a:pt x="57" y="1460"/>
                  </a:lnTo>
                  <a:lnTo>
                    <a:pt x="58" y="1448"/>
                  </a:lnTo>
                  <a:lnTo>
                    <a:pt x="60" y="1438"/>
                  </a:lnTo>
                  <a:lnTo>
                    <a:pt x="67" y="1414"/>
                  </a:lnTo>
                  <a:lnTo>
                    <a:pt x="77" y="1391"/>
                  </a:lnTo>
                  <a:lnTo>
                    <a:pt x="86" y="1369"/>
                  </a:lnTo>
                  <a:lnTo>
                    <a:pt x="98" y="1347"/>
                  </a:lnTo>
                  <a:lnTo>
                    <a:pt x="111" y="1324"/>
                  </a:lnTo>
                  <a:lnTo>
                    <a:pt x="123" y="1304"/>
                  </a:lnTo>
                  <a:lnTo>
                    <a:pt x="137" y="1285"/>
                  </a:lnTo>
                  <a:lnTo>
                    <a:pt x="150" y="1267"/>
                  </a:lnTo>
                  <a:lnTo>
                    <a:pt x="175" y="1236"/>
                  </a:lnTo>
                  <a:lnTo>
                    <a:pt x="196" y="1211"/>
                  </a:lnTo>
                  <a:lnTo>
                    <a:pt x="211" y="1195"/>
                  </a:lnTo>
                  <a:lnTo>
                    <a:pt x="216" y="1190"/>
                  </a:lnTo>
                  <a:lnTo>
                    <a:pt x="224" y="1197"/>
                  </a:lnTo>
                  <a:lnTo>
                    <a:pt x="232" y="1203"/>
                  </a:lnTo>
                  <a:lnTo>
                    <a:pt x="239" y="1208"/>
                  </a:lnTo>
                  <a:lnTo>
                    <a:pt x="245" y="1209"/>
                  </a:lnTo>
                  <a:lnTo>
                    <a:pt x="251" y="1210"/>
                  </a:lnTo>
                  <a:lnTo>
                    <a:pt x="257" y="1210"/>
                  </a:lnTo>
                  <a:lnTo>
                    <a:pt x="261" y="1208"/>
                  </a:lnTo>
                  <a:lnTo>
                    <a:pt x="265" y="1204"/>
                  </a:lnTo>
                  <a:lnTo>
                    <a:pt x="268" y="1199"/>
                  </a:lnTo>
                  <a:lnTo>
                    <a:pt x="272" y="1195"/>
                  </a:lnTo>
                  <a:lnTo>
                    <a:pt x="274" y="1188"/>
                  </a:lnTo>
                  <a:lnTo>
                    <a:pt x="276" y="1181"/>
                  </a:lnTo>
                  <a:lnTo>
                    <a:pt x="280" y="1164"/>
                  </a:lnTo>
                  <a:lnTo>
                    <a:pt x="282" y="1147"/>
                  </a:lnTo>
                  <a:lnTo>
                    <a:pt x="283" y="1127"/>
                  </a:lnTo>
                  <a:lnTo>
                    <a:pt x="283" y="1107"/>
                  </a:lnTo>
                  <a:lnTo>
                    <a:pt x="283" y="1088"/>
                  </a:lnTo>
                  <a:lnTo>
                    <a:pt x="282" y="1071"/>
                  </a:lnTo>
                  <a:lnTo>
                    <a:pt x="280" y="1044"/>
                  </a:lnTo>
                  <a:lnTo>
                    <a:pt x="280" y="1033"/>
                  </a:lnTo>
                  <a:lnTo>
                    <a:pt x="296" y="1025"/>
                  </a:lnTo>
                  <a:lnTo>
                    <a:pt x="311" y="1016"/>
                  </a:lnTo>
                  <a:lnTo>
                    <a:pt x="325" y="1007"/>
                  </a:lnTo>
                  <a:lnTo>
                    <a:pt x="337" y="996"/>
                  </a:lnTo>
                  <a:lnTo>
                    <a:pt x="349" y="987"/>
                  </a:lnTo>
                  <a:lnTo>
                    <a:pt x="358" y="976"/>
                  </a:lnTo>
                  <a:lnTo>
                    <a:pt x="368" y="966"/>
                  </a:lnTo>
                  <a:lnTo>
                    <a:pt x="376" y="954"/>
                  </a:lnTo>
                  <a:lnTo>
                    <a:pt x="383" y="944"/>
                  </a:lnTo>
                  <a:lnTo>
                    <a:pt x="389" y="932"/>
                  </a:lnTo>
                  <a:lnTo>
                    <a:pt x="393" y="920"/>
                  </a:lnTo>
                  <a:lnTo>
                    <a:pt x="397" y="908"/>
                  </a:lnTo>
                  <a:lnTo>
                    <a:pt x="400" y="897"/>
                  </a:lnTo>
                  <a:lnTo>
                    <a:pt x="403" y="885"/>
                  </a:lnTo>
                  <a:lnTo>
                    <a:pt x="405" y="872"/>
                  </a:lnTo>
                  <a:lnTo>
                    <a:pt x="405" y="861"/>
                  </a:lnTo>
                  <a:lnTo>
                    <a:pt x="406" y="835"/>
                  </a:lnTo>
                  <a:lnTo>
                    <a:pt x="404" y="810"/>
                  </a:lnTo>
                  <a:lnTo>
                    <a:pt x="400" y="785"/>
                  </a:lnTo>
                  <a:lnTo>
                    <a:pt x="396" y="760"/>
                  </a:lnTo>
                  <a:lnTo>
                    <a:pt x="384" y="710"/>
                  </a:lnTo>
                  <a:lnTo>
                    <a:pt x="371" y="662"/>
                  </a:lnTo>
                  <a:lnTo>
                    <a:pt x="587" y="418"/>
                  </a:lnTo>
                  <a:lnTo>
                    <a:pt x="588" y="403"/>
                  </a:lnTo>
                  <a:lnTo>
                    <a:pt x="592" y="388"/>
                  </a:lnTo>
                  <a:lnTo>
                    <a:pt x="598" y="371"/>
                  </a:lnTo>
                  <a:lnTo>
                    <a:pt x="605" y="355"/>
                  </a:lnTo>
                  <a:lnTo>
                    <a:pt x="614" y="338"/>
                  </a:lnTo>
                  <a:lnTo>
                    <a:pt x="625" y="321"/>
                  </a:lnTo>
                  <a:lnTo>
                    <a:pt x="636" y="305"/>
                  </a:lnTo>
                  <a:lnTo>
                    <a:pt x="650" y="287"/>
                  </a:lnTo>
                  <a:lnTo>
                    <a:pt x="664" y="270"/>
                  </a:lnTo>
                  <a:lnTo>
                    <a:pt x="681" y="252"/>
                  </a:lnTo>
                  <a:lnTo>
                    <a:pt x="697" y="234"/>
                  </a:lnTo>
                  <a:lnTo>
                    <a:pt x="714" y="217"/>
                  </a:lnTo>
                  <a:lnTo>
                    <a:pt x="751" y="183"/>
                  </a:lnTo>
                  <a:lnTo>
                    <a:pt x="788" y="150"/>
                  </a:lnTo>
                  <a:lnTo>
                    <a:pt x="825" y="120"/>
                  </a:lnTo>
                  <a:lnTo>
                    <a:pt x="862" y="91"/>
                  </a:lnTo>
                  <a:lnTo>
                    <a:pt x="896" y="65"/>
                  </a:lnTo>
                  <a:lnTo>
                    <a:pt x="926" y="43"/>
                  </a:lnTo>
                  <a:lnTo>
                    <a:pt x="970" y="11"/>
                  </a:lnTo>
                  <a:lnTo>
                    <a:pt x="988" y="0"/>
                  </a:lnTo>
                  <a:lnTo>
                    <a:pt x="1904" y="95"/>
                  </a:lnTo>
                  <a:lnTo>
                    <a:pt x="1273" y="807"/>
                  </a:lnTo>
                  <a:lnTo>
                    <a:pt x="1837" y="2053"/>
                  </a:lnTo>
                  <a:lnTo>
                    <a:pt x="1824" y="2071"/>
                  </a:lnTo>
                  <a:lnTo>
                    <a:pt x="1814" y="2087"/>
                  </a:lnTo>
                  <a:lnTo>
                    <a:pt x="1805" y="2103"/>
                  </a:lnTo>
                  <a:lnTo>
                    <a:pt x="1798" y="2117"/>
                  </a:lnTo>
                  <a:lnTo>
                    <a:pt x="1794" y="2131"/>
                  </a:lnTo>
                  <a:lnTo>
                    <a:pt x="1790" y="2144"/>
                  </a:lnTo>
                  <a:lnTo>
                    <a:pt x="1788" y="2156"/>
                  </a:lnTo>
                  <a:lnTo>
                    <a:pt x="1787" y="2166"/>
                  </a:lnTo>
                  <a:lnTo>
                    <a:pt x="1787" y="2185"/>
                  </a:lnTo>
                  <a:lnTo>
                    <a:pt x="1788" y="2198"/>
                  </a:lnTo>
                  <a:lnTo>
                    <a:pt x="1790" y="2206"/>
                  </a:lnTo>
                  <a:lnTo>
                    <a:pt x="1791" y="2209"/>
                  </a:lnTo>
                  <a:lnTo>
                    <a:pt x="1809" y="2301"/>
                  </a:lnTo>
                  <a:lnTo>
                    <a:pt x="1787" y="2315"/>
                  </a:lnTo>
                  <a:lnTo>
                    <a:pt x="1763" y="2330"/>
                  </a:lnTo>
                  <a:lnTo>
                    <a:pt x="1738" y="2348"/>
                  </a:lnTo>
                  <a:lnTo>
                    <a:pt x="1712" y="2367"/>
                  </a:lnTo>
                  <a:lnTo>
                    <a:pt x="1685" y="2388"/>
                  </a:lnTo>
                  <a:lnTo>
                    <a:pt x="1658" y="2409"/>
                  </a:lnTo>
                  <a:lnTo>
                    <a:pt x="1633" y="2432"/>
                  </a:lnTo>
                  <a:lnTo>
                    <a:pt x="1607" y="2455"/>
                  </a:lnTo>
                  <a:lnTo>
                    <a:pt x="1582" y="2477"/>
                  </a:lnTo>
                  <a:lnTo>
                    <a:pt x="1561" y="2498"/>
                  </a:lnTo>
                  <a:lnTo>
                    <a:pt x="1542" y="2519"/>
                  </a:lnTo>
                  <a:lnTo>
                    <a:pt x="1525" y="2539"/>
                  </a:lnTo>
                  <a:lnTo>
                    <a:pt x="1511" y="2557"/>
                  </a:lnTo>
                  <a:lnTo>
                    <a:pt x="1503" y="2572"/>
                  </a:lnTo>
                  <a:lnTo>
                    <a:pt x="1499" y="2579"/>
                  </a:lnTo>
                  <a:lnTo>
                    <a:pt x="1497" y="2585"/>
                  </a:lnTo>
                  <a:lnTo>
                    <a:pt x="1497" y="2590"/>
                  </a:lnTo>
                  <a:lnTo>
                    <a:pt x="1497" y="2595"/>
                  </a:lnTo>
                  <a:lnTo>
                    <a:pt x="1475" y="2605"/>
                  </a:lnTo>
                  <a:lnTo>
                    <a:pt x="1454" y="2615"/>
                  </a:lnTo>
                  <a:lnTo>
                    <a:pt x="1433" y="2627"/>
                  </a:lnTo>
                  <a:lnTo>
                    <a:pt x="1414" y="2638"/>
                  </a:lnTo>
                  <a:lnTo>
                    <a:pt x="1397" y="2651"/>
                  </a:lnTo>
                  <a:lnTo>
                    <a:pt x="1380" y="2664"/>
                  </a:lnTo>
                  <a:lnTo>
                    <a:pt x="1365" y="2677"/>
                  </a:lnTo>
                  <a:lnTo>
                    <a:pt x="1352" y="2690"/>
                  </a:lnTo>
                  <a:lnTo>
                    <a:pt x="1329" y="2713"/>
                  </a:lnTo>
                  <a:lnTo>
                    <a:pt x="1313" y="2733"/>
                  </a:lnTo>
                  <a:lnTo>
                    <a:pt x="1302" y="2746"/>
                  </a:lnTo>
                  <a:lnTo>
                    <a:pt x="1299" y="2751"/>
                  </a:lnTo>
                  <a:lnTo>
                    <a:pt x="1328" y="2829"/>
                  </a:lnTo>
                  <a:lnTo>
                    <a:pt x="1313" y="2840"/>
                  </a:lnTo>
                  <a:lnTo>
                    <a:pt x="1297" y="2851"/>
                  </a:lnTo>
                  <a:lnTo>
                    <a:pt x="1282" y="2860"/>
                  </a:lnTo>
                  <a:lnTo>
                    <a:pt x="1268" y="2868"/>
                  </a:lnTo>
                  <a:lnTo>
                    <a:pt x="1254" y="2876"/>
                  </a:lnTo>
                  <a:lnTo>
                    <a:pt x="1241" y="2881"/>
                  </a:lnTo>
                  <a:lnTo>
                    <a:pt x="1228" y="2887"/>
                  </a:lnTo>
                  <a:lnTo>
                    <a:pt x="1217" y="2891"/>
                  </a:lnTo>
                  <a:lnTo>
                    <a:pt x="1195" y="2897"/>
                  </a:lnTo>
                  <a:lnTo>
                    <a:pt x="1175" y="2901"/>
                  </a:lnTo>
                  <a:lnTo>
                    <a:pt x="1158" y="2904"/>
                  </a:lnTo>
                  <a:lnTo>
                    <a:pt x="1147" y="29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Freeform 150"/>
            <p:cNvSpPr/>
            <p:nvPr/>
          </p:nvSpPr>
          <p:spPr>
            <a:xfrm>
              <a:off x="6276600" y="3945240"/>
              <a:ext cx="287280" cy="4741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1904" h="2906">
                  <a:moveTo>
                    <a:pt x="1147" y="2906"/>
                  </a:moveTo>
                  <a:lnTo>
                    <a:pt x="1175" y="2857"/>
                  </a:lnTo>
                  <a:lnTo>
                    <a:pt x="400" y="2857"/>
                  </a:lnTo>
                  <a:lnTo>
                    <a:pt x="411" y="2837"/>
                  </a:lnTo>
                  <a:lnTo>
                    <a:pt x="421" y="2817"/>
                  </a:lnTo>
                  <a:lnTo>
                    <a:pt x="428" y="2797"/>
                  </a:lnTo>
                  <a:lnTo>
                    <a:pt x="435" y="2777"/>
                  </a:lnTo>
                  <a:lnTo>
                    <a:pt x="441" y="2759"/>
                  </a:lnTo>
                  <a:lnTo>
                    <a:pt x="446" y="2739"/>
                  </a:lnTo>
                  <a:lnTo>
                    <a:pt x="449" y="2720"/>
                  </a:lnTo>
                  <a:lnTo>
                    <a:pt x="452" y="2701"/>
                  </a:lnTo>
                  <a:lnTo>
                    <a:pt x="453" y="2683"/>
                  </a:lnTo>
                  <a:lnTo>
                    <a:pt x="453" y="2665"/>
                  </a:lnTo>
                  <a:lnTo>
                    <a:pt x="452" y="2647"/>
                  </a:lnTo>
                  <a:lnTo>
                    <a:pt x="449" y="2629"/>
                  </a:lnTo>
                  <a:lnTo>
                    <a:pt x="447" y="2612"/>
                  </a:lnTo>
                  <a:lnTo>
                    <a:pt x="443" y="2594"/>
                  </a:lnTo>
                  <a:lnTo>
                    <a:pt x="440" y="2578"/>
                  </a:lnTo>
                  <a:lnTo>
                    <a:pt x="435" y="2560"/>
                  </a:lnTo>
                  <a:lnTo>
                    <a:pt x="429" y="2544"/>
                  </a:lnTo>
                  <a:lnTo>
                    <a:pt x="424" y="2527"/>
                  </a:lnTo>
                  <a:lnTo>
                    <a:pt x="418" y="2512"/>
                  </a:lnTo>
                  <a:lnTo>
                    <a:pt x="411" y="2496"/>
                  </a:lnTo>
                  <a:lnTo>
                    <a:pt x="396" y="2466"/>
                  </a:lnTo>
                  <a:lnTo>
                    <a:pt x="379" y="2436"/>
                  </a:lnTo>
                  <a:lnTo>
                    <a:pt x="362" y="2408"/>
                  </a:lnTo>
                  <a:lnTo>
                    <a:pt x="344" y="2383"/>
                  </a:lnTo>
                  <a:lnTo>
                    <a:pt x="325" y="2357"/>
                  </a:lnTo>
                  <a:lnTo>
                    <a:pt x="308" y="2332"/>
                  </a:lnTo>
                  <a:lnTo>
                    <a:pt x="300" y="2322"/>
                  </a:lnTo>
                  <a:lnTo>
                    <a:pt x="293" y="2310"/>
                  </a:lnTo>
                  <a:lnTo>
                    <a:pt x="286" y="2298"/>
                  </a:lnTo>
                  <a:lnTo>
                    <a:pt x="280" y="2288"/>
                  </a:lnTo>
                  <a:lnTo>
                    <a:pt x="272" y="2267"/>
                  </a:lnTo>
                  <a:lnTo>
                    <a:pt x="265" y="2247"/>
                  </a:lnTo>
                  <a:lnTo>
                    <a:pt x="260" y="2228"/>
                  </a:lnTo>
                  <a:lnTo>
                    <a:pt x="259" y="2210"/>
                  </a:lnTo>
                  <a:lnTo>
                    <a:pt x="258" y="2193"/>
                  </a:lnTo>
                  <a:lnTo>
                    <a:pt x="259" y="2178"/>
                  </a:lnTo>
                  <a:lnTo>
                    <a:pt x="261" y="2164"/>
                  </a:lnTo>
                  <a:lnTo>
                    <a:pt x="265" y="2152"/>
                  </a:lnTo>
                  <a:lnTo>
                    <a:pt x="267" y="2142"/>
                  </a:lnTo>
                  <a:lnTo>
                    <a:pt x="271" y="2133"/>
                  </a:lnTo>
                  <a:lnTo>
                    <a:pt x="276" y="2121"/>
                  </a:lnTo>
                  <a:lnTo>
                    <a:pt x="280" y="2117"/>
                  </a:lnTo>
                  <a:lnTo>
                    <a:pt x="60" y="2085"/>
                  </a:lnTo>
                  <a:lnTo>
                    <a:pt x="63" y="2077"/>
                  </a:lnTo>
                  <a:lnTo>
                    <a:pt x="65" y="2068"/>
                  </a:lnTo>
                  <a:lnTo>
                    <a:pt x="66" y="2060"/>
                  </a:lnTo>
                  <a:lnTo>
                    <a:pt x="67" y="2052"/>
                  </a:lnTo>
                  <a:lnTo>
                    <a:pt x="66" y="2037"/>
                  </a:lnTo>
                  <a:lnTo>
                    <a:pt x="64" y="2022"/>
                  </a:lnTo>
                  <a:lnTo>
                    <a:pt x="60" y="2009"/>
                  </a:lnTo>
                  <a:lnTo>
                    <a:pt x="56" y="1996"/>
                  </a:lnTo>
                  <a:lnTo>
                    <a:pt x="49" y="1983"/>
                  </a:lnTo>
                  <a:lnTo>
                    <a:pt x="42" y="1973"/>
                  </a:lnTo>
                  <a:lnTo>
                    <a:pt x="28" y="1955"/>
                  </a:lnTo>
                  <a:lnTo>
                    <a:pt x="14" y="1941"/>
                  </a:lnTo>
                  <a:lnTo>
                    <a:pt x="4" y="1933"/>
                  </a:lnTo>
                  <a:lnTo>
                    <a:pt x="0" y="1929"/>
                  </a:lnTo>
                  <a:lnTo>
                    <a:pt x="184" y="1713"/>
                  </a:lnTo>
                  <a:lnTo>
                    <a:pt x="184" y="1705"/>
                  </a:lnTo>
                  <a:lnTo>
                    <a:pt x="183" y="1697"/>
                  </a:lnTo>
                  <a:lnTo>
                    <a:pt x="181" y="1689"/>
                  </a:lnTo>
                  <a:lnTo>
                    <a:pt x="178" y="1681"/>
                  </a:lnTo>
                  <a:lnTo>
                    <a:pt x="170" y="1664"/>
                  </a:lnTo>
                  <a:lnTo>
                    <a:pt x="161" y="1649"/>
                  </a:lnTo>
                  <a:lnTo>
                    <a:pt x="137" y="1619"/>
                  </a:lnTo>
                  <a:lnTo>
                    <a:pt x="112" y="1587"/>
                  </a:lnTo>
                  <a:lnTo>
                    <a:pt x="99" y="1571"/>
                  </a:lnTo>
                  <a:lnTo>
                    <a:pt x="87" y="1554"/>
                  </a:lnTo>
                  <a:lnTo>
                    <a:pt x="77" y="1538"/>
                  </a:lnTo>
                  <a:lnTo>
                    <a:pt x="67" y="1519"/>
                  </a:lnTo>
                  <a:lnTo>
                    <a:pt x="64" y="1510"/>
                  </a:lnTo>
                  <a:lnTo>
                    <a:pt x="61" y="1501"/>
                  </a:lnTo>
                  <a:lnTo>
                    <a:pt x="59" y="1491"/>
                  </a:lnTo>
                  <a:lnTo>
                    <a:pt x="58" y="1481"/>
                  </a:lnTo>
                  <a:lnTo>
                    <a:pt x="57" y="1470"/>
                  </a:lnTo>
                  <a:lnTo>
                    <a:pt x="57" y="1460"/>
                  </a:lnTo>
                  <a:lnTo>
                    <a:pt x="58" y="1448"/>
                  </a:lnTo>
                  <a:lnTo>
                    <a:pt x="60" y="1438"/>
                  </a:lnTo>
                  <a:lnTo>
                    <a:pt x="67" y="1414"/>
                  </a:lnTo>
                  <a:lnTo>
                    <a:pt x="77" y="1391"/>
                  </a:lnTo>
                  <a:lnTo>
                    <a:pt x="86" y="1369"/>
                  </a:lnTo>
                  <a:lnTo>
                    <a:pt x="98" y="1347"/>
                  </a:lnTo>
                  <a:lnTo>
                    <a:pt x="111" y="1324"/>
                  </a:lnTo>
                  <a:lnTo>
                    <a:pt x="123" y="1304"/>
                  </a:lnTo>
                  <a:lnTo>
                    <a:pt x="137" y="1285"/>
                  </a:lnTo>
                  <a:lnTo>
                    <a:pt x="150" y="1267"/>
                  </a:lnTo>
                  <a:lnTo>
                    <a:pt x="175" y="1236"/>
                  </a:lnTo>
                  <a:lnTo>
                    <a:pt x="196" y="1211"/>
                  </a:lnTo>
                  <a:lnTo>
                    <a:pt x="211" y="1195"/>
                  </a:lnTo>
                  <a:lnTo>
                    <a:pt x="216" y="1190"/>
                  </a:lnTo>
                  <a:lnTo>
                    <a:pt x="224" y="1197"/>
                  </a:lnTo>
                  <a:lnTo>
                    <a:pt x="232" y="1203"/>
                  </a:lnTo>
                  <a:lnTo>
                    <a:pt x="239" y="1208"/>
                  </a:lnTo>
                  <a:lnTo>
                    <a:pt x="245" y="1209"/>
                  </a:lnTo>
                  <a:lnTo>
                    <a:pt x="251" y="1210"/>
                  </a:lnTo>
                  <a:lnTo>
                    <a:pt x="257" y="1210"/>
                  </a:lnTo>
                  <a:lnTo>
                    <a:pt x="261" y="1208"/>
                  </a:lnTo>
                  <a:lnTo>
                    <a:pt x="265" y="1204"/>
                  </a:lnTo>
                  <a:lnTo>
                    <a:pt x="268" y="1199"/>
                  </a:lnTo>
                  <a:lnTo>
                    <a:pt x="272" y="1195"/>
                  </a:lnTo>
                  <a:lnTo>
                    <a:pt x="274" y="1188"/>
                  </a:lnTo>
                  <a:lnTo>
                    <a:pt x="276" y="1181"/>
                  </a:lnTo>
                  <a:lnTo>
                    <a:pt x="280" y="1164"/>
                  </a:lnTo>
                  <a:lnTo>
                    <a:pt x="282" y="1147"/>
                  </a:lnTo>
                  <a:lnTo>
                    <a:pt x="283" y="1127"/>
                  </a:lnTo>
                  <a:lnTo>
                    <a:pt x="283" y="1107"/>
                  </a:lnTo>
                  <a:lnTo>
                    <a:pt x="283" y="1088"/>
                  </a:lnTo>
                  <a:lnTo>
                    <a:pt x="282" y="1071"/>
                  </a:lnTo>
                  <a:lnTo>
                    <a:pt x="280" y="1044"/>
                  </a:lnTo>
                  <a:lnTo>
                    <a:pt x="280" y="1033"/>
                  </a:lnTo>
                  <a:lnTo>
                    <a:pt x="296" y="1025"/>
                  </a:lnTo>
                  <a:lnTo>
                    <a:pt x="311" y="1016"/>
                  </a:lnTo>
                  <a:lnTo>
                    <a:pt x="325" y="1007"/>
                  </a:lnTo>
                  <a:lnTo>
                    <a:pt x="337" y="996"/>
                  </a:lnTo>
                  <a:lnTo>
                    <a:pt x="349" y="987"/>
                  </a:lnTo>
                  <a:lnTo>
                    <a:pt x="358" y="976"/>
                  </a:lnTo>
                  <a:lnTo>
                    <a:pt x="368" y="966"/>
                  </a:lnTo>
                  <a:lnTo>
                    <a:pt x="376" y="954"/>
                  </a:lnTo>
                  <a:lnTo>
                    <a:pt x="383" y="944"/>
                  </a:lnTo>
                  <a:lnTo>
                    <a:pt x="389" y="932"/>
                  </a:lnTo>
                  <a:lnTo>
                    <a:pt x="393" y="920"/>
                  </a:lnTo>
                  <a:lnTo>
                    <a:pt x="397" y="908"/>
                  </a:lnTo>
                  <a:lnTo>
                    <a:pt x="400" y="897"/>
                  </a:lnTo>
                  <a:lnTo>
                    <a:pt x="403" y="885"/>
                  </a:lnTo>
                  <a:lnTo>
                    <a:pt x="405" y="872"/>
                  </a:lnTo>
                  <a:lnTo>
                    <a:pt x="405" y="861"/>
                  </a:lnTo>
                  <a:lnTo>
                    <a:pt x="406" y="835"/>
                  </a:lnTo>
                  <a:lnTo>
                    <a:pt x="404" y="810"/>
                  </a:lnTo>
                  <a:lnTo>
                    <a:pt x="400" y="785"/>
                  </a:lnTo>
                  <a:lnTo>
                    <a:pt x="396" y="760"/>
                  </a:lnTo>
                  <a:lnTo>
                    <a:pt x="384" y="710"/>
                  </a:lnTo>
                  <a:lnTo>
                    <a:pt x="371" y="662"/>
                  </a:lnTo>
                  <a:lnTo>
                    <a:pt x="587" y="418"/>
                  </a:lnTo>
                  <a:lnTo>
                    <a:pt x="588" y="403"/>
                  </a:lnTo>
                  <a:lnTo>
                    <a:pt x="592" y="388"/>
                  </a:lnTo>
                  <a:lnTo>
                    <a:pt x="598" y="371"/>
                  </a:lnTo>
                  <a:lnTo>
                    <a:pt x="605" y="355"/>
                  </a:lnTo>
                  <a:lnTo>
                    <a:pt x="614" y="338"/>
                  </a:lnTo>
                  <a:lnTo>
                    <a:pt x="625" y="321"/>
                  </a:lnTo>
                  <a:lnTo>
                    <a:pt x="636" y="305"/>
                  </a:lnTo>
                  <a:lnTo>
                    <a:pt x="650" y="287"/>
                  </a:lnTo>
                  <a:lnTo>
                    <a:pt x="664" y="270"/>
                  </a:lnTo>
                  <a:lnTo>
                    <a:pt x="681" y="252"/>
                  </a:lnTo>
                  <a:lnTo>
                    <a:pt x="697" y="234"/>
                  </a:lnTo>
                  <a:lnTo>
                    <a:pt x="714" y="217"/>
                  </a:lnTo>
                  <a:lnTo>
                    <a:pt x="751" y="183"/>
                  </a:lnTo>
                  <a:lnTo>
                    <a:pt x="788" y="150"/>
                  </a:lnTo>
                  <a:lnTo>
                    <a:pt x="825" y="120"/>
                  </a:lnTo>
                  <a:lnTo>
                    <a:pt x="862" y="91"/>
                  </a:lnTo>
                  <a:lnTo>
                    <a:pt x="896" y="65"/>
                  </a:lnTo>
                  <a:lnTo>
                    <a:pt x="926" y="43"/>
                  </a:lnTo>
                  <a:lnTo>
                    <a:pt x="970" y="11"/>
                  </a:lnTo>
                  <a:lnTo>
                    <a:pt x="988" y="0"/>
                  </a:lnTo>
                  <a:lnTo>
                    <a:pt x="1904" y="95"/>
                  </a:lnTo>
                  <a:lnTo>
                    <a:pt x="1273" y="807"/>
                  </a:lnTo>
                  <a:lnTo>
                    <a:pt x="1837" y="2053"/>
                  </a:lnTo>
                  <a:lnTo>
                    <a:pt x="1824" y="2071"/>
                  </a:lnTo>
                  <a:lnTo>
                    <a:pt x="1814" y="2087"/>
                  </a:lnTo>
                  <a:lnTo>
                    <a:pt x="1805" y="2103"/>
                  </a:lnTo>
                  <a:lnTo>
                    <a:pt x="1798" y="2117"/>
                  </a:lnTo>
                  <a:lnTo>
                    <a:pt x="1794" y="2131"/>
                  </a:lnTo>
                  <a:lnTo>
                    <a:pt x="1790" y="2144"/>
                  </a:lnTo>
                  <a:lnTo>
                    <a:pt x="1788" y="2156"/>
                  </a:lnTo>
                  <a:lnTo>
                    <a:pt x="1787" y="2166"/>
                  </a:lnTo>
                  <a:lnTo>
                    <a:pt x="1787" y="2185"/>
                  </a:lnTo>
                  <a:lnTo>
                    <a:pt x="1788" y="2198"/>
                  </a:lnTo>
                  <a:lnTo>
                    <a:pt x="1790" y="2206"/>
                  </a:lnTo>
                  <a:lnTo>
                    <a:pt x="1791" y="2209"/>
                  </a:lnTo>
                  <a:lnTo>
                    <a:pt x="1809" y="2301"/>
                  </a:lnTo>
                  <a:lnTo>
                    <a:pt x="1787" y="2315"/>
                  </a:lnTo>
                  <a:lnTo>
                    <a:pt x="1763" y="2330"/>
                  </a:lnTo>
                  <a:lnTo>
                    <a:pt x="1738" y="2348"/>
                  </a:lnTo>
                  <a:lnTo>
                    <a:pt x="1712" y="2367"/>
                  </a:lnTo>
                  <a:lnTo>
                    <a:pt x="1685" y="2388"/>
                  </a:lnTo>
                  <a:lnTo>
                    <a:pt x="1658" y="2409"/>
                  </a:lnTo>
                  <a:lnTo>
                    <a:pt x="1633" y="2432"/>
                  </a:lnTo>
                  <a:lnTo>
                    <a:pt x="1607" y="2455"/>
                  </a:lnTo>
                  <a:lnTo>
                    <a:pt x="1582" y="2477"/>
                  </a:lnTo>
                  <a:lnTo>
                    <a:pt x="1561" y="2498"/>
                  </a:lnTo>
                  <a:lnTo>
                    <a:pt x="1542" y="2519"/>
                  </a:lnTo>
                  <a:lnTo>
                    <a:pt x="1525" y="2539"/>
                  </a:lnTo>
                  <a:lnTo>
                    <a:pt x="1511" y="2557"/>
                  </a:lnTo>
                  <a:lnTo>
                    <a:pt x="1503" y="2572"/>
                  </a:lnTo>
                  <a:lnTo>
                    <a:pt x="1499" y="2579"/>
                  </a:lnTo>
                  <a:lnTo>
                    <a:pt x="1497" y="2585"/>
                  </a:lnTo>
                  <a:lnTo>
                    <a:pt x="1497" y="2590"/>
                  </a:lnTo>
                  <a:lnTo>
                    <a:pt x="1497" y="2595"/>
                  </a:lnTo>
                  <a:lnTo>
                    <a:pt x="1475" y="2605"/>
                  </a:lnTo>
                  <a:lnTo>
                    <a:pt x="1454" y="2615"/>
                  </a:lnTo>
                  <a:lnTo>
                    <a:pt x="1433" y="2627"/>
                  </a:lnTo>
                  <a:lnTo>
                    <a:pt x="1414" y="2638"/>
                  </a:lnTo>
                  <a:lnTo>
                    <a:pt x="1397" y="2651"/>
                  </a:lnTo>
                  <a:lnTo>
                    <a:pt x="1380" y="2664"/>
                  </a:lnTo>
                  <a:lnTo>
                    <a:pt x="1365" y="2677"/>
                  </a:lnTo>
                  <a:lnTo>
                    <a:pt x="1352" y="2690"/>
                  </a:lnTo>
                  <a:lnTo>
                    <a:pt x="1329" y="2713"/>
                  </a:lnTo>
                  <a:lnTo>
                    <a:pt x="1313" y="2733"/>
                  </a:lnTo>
                  <a:lnTo>
                    <a:pt x="1302" y="2746"/>
                  </a:lnTo>
                  <a:lnTo>
                    <a:pt x="1299" y="2751"/>
                  </a:lnTo>
                  <a:lnTo>
                    <a:pt x="1328" y="2829"/>
                  </a:lnTo>
                  <a:lnTo>
                    <a:pt x="1313" y="2840"/>
                  </a:lnTo>
                  <a:lnTo>
                    <a:pt x="1297" y="2851"/>
                  </a:lnTo>
                  <a:lnTo>
                    <a:pt x="1282" y="2860"/>
                  </a:lnTo>
                  <a:lnTo>
                    <a:pt x="1268" y="2868"/>
                  </a:lnTo>
                  <a:lnTo>
                    <a:pt x="1254" y="2876"/>
                  </a:lnTo>
                  <a:lnTo>
                    <a:pt x="1241" y="2881"/>
                  </a:lnTo>
                  <a:lnTo>
                    <a:pt x="1228" y="2887"/>
                  </a:lnTo>
                  <a:lnTo>
                    <a:pt x="1217" y="2891"/>
                  </a:lnTo>
                  <a:lnTo>
                    <a:pt x="1195" y="2897"/>
                  </a:lnTo>
                  <a:lnTo>
                    <a:pt x="1175" y="2901"/>
                  </a:lnTo>
                  <a:lnTo>
                    <a:pt x="1158" y="2904"/>
                  </a:lnTo>
                  <a:lnTo>
                    <a:pt x="1147" y="290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151"/>
            <p:cNvSpPr/>
            <p:nvPr/>
          </p:nvSpPr>
          <p:spPr>
            <a:xfrm>
              <a:off x="6440400" y="4197600"/>
              <a:ext cx="421560" cy="33768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798" h="2073">
                  <a:moveTo>
                    <a:pt x="1741" y="2073"/>
                  </a:moveTo>
                  <a:lnTo>
                    <a:pt x="1081" y="2018"/>
                  </a:lnTo>
                  <a:lnTo>
                    <a:pt x="0" y="1462"/>
                  </a:lnTo>
                  <a:lnTo>
                    <a:pt x="65" y="1356"/>
                  </a:lnTo>
                  <a:lnTo>
                    <a:pt x="76" y="1354"/>
                  </a:lnTo>
                  <a:lnTo>
                    <a:pt x="93" y="1351"/>
                  </a:lnTo>
                  <a:lnTo>
                    <a:pt x="113" y="1347"/>
                  </a:lnTo>
                  <a:lnTo>
                    <a:pt x="135" y="1341"/>
                  </a:lnTo>
                  <a:lnTo>
                    <a:pt x="146" y="1337"/>
                  </a:lnTo>
                  <a:lnTo>
                    <a:pt x="159" y="1331"/>
                  </a:lnTo>
                  <a:lnTo>
                    <a:pt x="172" y="1326"/>
                  </a:lnTo>
                  <a:lnTo>
                    <a:pt x="186" y="1318"/>
                  </a:lnTo>
                  <a:lnTo>
                    <a:pt x="200" y="1310"/>
                  </a:lnTo>
                  <a:lnTo>
                    <a:pt x="215" y="1301"/>
                  </a:lnTo>
                  <a:lnTo>
                    <a:pt x="231" y="1290"/>
                  </a:lnTo>
                  <a:lnTo>
                    <a:pt x="246" y="1279"/>
                  </a:lnTo>
                  <a:lnTo>
                    <a:pt x="217" y="1201"/>
                  </a:lnTo>
                  <a:lnTo>
                    <a:pt x="220" y="1196"/>
                  </a:lnTo>
                  <a:lnTo>
                    <a:pt x="231" y="1183"/>
                  </a:lnTo>
                  <a:lnTo>
                    <a:pt x="247" y="1163"/>
                  </a:lnTo>
                  <a:lnTo>
                    <a:pt x="270" y="1140"/>
                  </a:lnTo>
                  <a:lnTo>
                    <a:pt x="283" y="1127"/>
                  </a:lnTo>
                  <a:lnTo>
                    <a:pt x="298" y="1114"/>
                  </a:lnTo>
                  <a:lnTo>
                    <a:pt x="315" y="1101"/>
                  </a:lnTo>
                  <a:lnTo>
                    <a:pt x="332" y="1088"/>
                  </a:lnTo>
                  <a:lnTo>
                    <a:pt x="351" y="1077"/>
                  </a:lnTo>
                  <a:lnTo>
                    <a:pt x="372" y="1065"/>
                  </a:lnTo>
                  <a:lnTo>
                    <a:pt x="393" y="1055"/>
                  </a:lnTo>
                  <a:lnTo>
                    <a:pt x="415" y="1045"/>
                  </a:lnTo>
                  <a:lnTo>
                    <a:pt x="415" y="1040"/>
                  </a:lnTo>
                  <a:lnTo>
                    <a:pt x="415" y="1035"/>
                  </a:lnTo>
                  <a:lnTo>
                    <a:pt x="417" y="1029"/>
                  </a:lnTo>
                  <a:lnTo>
                    <a:pt x="421" y="1022"/>
                  </a:lnTo>
                  <a:lnTo>
                    <a:pt x="429" y="1007"/>
                  </a:lnTo>
                  <a:lnTo>
                    <a:pt x="443" y="989"/>
                  </a:lnTo>
                  <a:lnTo>
                    <a:pt x="460" y="969"/>
                  </a:lnTo>
                  <a:lnTo>
                    <a:pt x="479" y="948"/>
                  </a:lnTo>
                  <a:lnTo>
                    <a:pt x="500" y="927"/>
                  </a:lnTo>
                  <a:lnTo>
                    <a:pt x="525" y="905"/>
                  </a:lnTo>
                  <a:lnTo>
                    <a:pt x="551" y="882"/>
                  </a:lnTo>
                  <a:lnTo>
                    <a:pt x="576" y="859"/>
                  </a:lnTo>
                  <a:lnTo>
                    <a:pt x="603" y="838"/>
                  </a:lnTo>
                  <a:lnTo>
                    <a:pt x="630" y="817"/>
                  </a:lnTo>
                  <a:lnTo>
                    <a:pt x="656" y="798"/>
                  </a:lnTo>
                  <a:lnTo>
                    <a:pt x="681" y="780"/>
                  </a:lnTo>
                  <a:lnTo>
                    <a:pt x="705" y="765"/>
                  </a:lnTo>
                  <a:lnTo>
                    <a:pt x="727" y="751"/>
                  </a:lnTo>
                  <a:lnTo>
                    <a:pt x="709" y="659"/>
                  </a:lnTo>
                  <a:lnTo>
                    <a:pt x="708" y="656"/>
                  </a:lnTo>
                  <a:lnTo>
                    <a:pt x="706" y="648"/>
                  </a:lnTo>
                  <a:lnTo>
                    <a:pt x="705" y="635"/>
                  </a:lnTo>
                  <a:lnTo>
                    <a:pt x="705" y="616"/>
                  </a:lnTo>
                  <a:lnTo>
                    <a:pt x="706" y="606"/>
                  </a:lnTo>
                  <a:lnTo>
                    <a:pt x="708" y="594"/>
                  </a:lnTo>
                  <a:lnTo>
                    <a:pt x="712" y="581"/>
                  </a:lnTo>
                  <a:lnTo>
                    <a:pt x="716" y="567"/>
                  </a:lnTo>
                  <a:lnTo>
                    <a:pt x="723" y="553"/>
                  </a:lnTo>
                  <a:lnTo>
                    <a:pt x="732" y="537"/>
                  </a:lnTo>
                  <a:lnTo>
                    <a:pt x="742" y="521"/>
                  </a:lnTo>
                  <a:lnTo>
                    <a:pt x="755" y="503"/>
                  </a:lnTo>
                  <a:lnTo>
                    <a:pt x="810" y="437"/>
                  </a:lnTo>
                  <a:lnTo>
                    <a:pt x="860" y="375"/>
                  </a:lnTo>
                  <a:lnTo>
                    <a:pt x="884" y="347"/>
                  </a:lnTo>
                  <a:lnTo>
                    <a:pt x="908" y="320"/>
                  </a:lnTo>
                  <a:lnTo>
                    <a:pt x="920" y="308"/>
                  </a:lnTo>
                  <a:lnTo>
                    <a:pt x="931" y="296"/>
                  </a:lnTo>
                  <a:lnTo>
                    <a:pt x="944" y="285"/>
                  </a:lnTo>
                  <a:lnTo>
                    <a:pt x="957" y="275"/>
                  </a:lnTo>
                  <a:lnTo>
                    <a:pt x="970" y="265"/>
                  </a:lnTo>
                  <a:lnTo>
                    <a:pt x="983" y="257"/>
                  </a:lnTo>
                  <a:lnTo>
                    <a:pt x="996" y="249"/>
                  </a:lnTo>
                  <a:lnTo>
                    <a:pt x="1010" y="242"/>
                  </a:lnTo>
                  <a:lnTo>
                    <a:pt x="1024" y="235"/>
                  </a:lnTo>
                  <a:lnTo>
                    <a:pt x="1039" y="230"/>
                  </a:lnTo>
                  <a:lnTo>
                    <a:pt x="1054" y="225"/>
                  </a:lnTo>
                  <a:lnTo>
                    <a:pt x="1070" y="222"/>
                  </a:lnTo>
                  <a:lnTo>
                    <a:pt x="1087" y="218"/>
                  </a:lnTo>
                  <a:lnTo>
                    <a:pt x="1104" y="217"/>
                  </a:lnTo>
                  <a:lnTo>
                    <a:pt x="1122" y="216"/>
                  </a:lnTo>
                  <a:lnTo>
                    <a:pt x="1141" y="217"/>
                  </a:lnTo>
                  <a:lnTo>
                    <a:pt x="1160" y="218"/>
                  </a:lnTo>
                  <a:lnTo>
                    <a:pt x="1181" y="221"/>
                  </a:lnTo>
                  <a:lnTo>
                    <a:pt x="1202" y="225"/>
                  </a:lnTo>
                  <a:lnTo>
                    <a:pt x="1225" y="230"/>
                  </a:lnTo>
                  <a:lnTo>
                    <a:pt x="1380" y="0"/>
                  </a:lnTo>
                  <a:lnTo>
                    <a:pt x="2798" y="51"/>
                  </a:lnTo>
                  <a:lnTo>
                    <a:pt x="1741" y="207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Freeform 152"/>
            <p:cNvSpPr/>
            <p:nvPr/>
          </p:nvSpPr>
          <p:spPr>
            <a:xfrm>
              <a:off x="6440400" y="4197600"/>
              <a:ext cx="421560" cy="33768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798" h="2073">
                  <a:moveTo>
                    <a:pt x="1741" y="2073"/>
                  </a:moveTo>
                  <a:lnTo>
                    <a:pt x="1081" y="2018"/>
                  </a:lnTo>
                  <a:lnTo>
                    <a:pt x="0" y="1462"/>
                  </a:lnTo>
                  <a:lnTo>
                    <a:pt x="65" y="1356"/>
                  </a:lnTo>
                  <a:lnTo>
                    <a:pt x="76" y="1354"/>
                  </a:lnTo>
                  <a:lnTo>
                    <a:pt x="93" y="1351"/>
                  </a:lnTo>
                  <a:lnTo>
                    <a:pt x="113" y="1347"/>
                  </a:lnTo>
                  <a:lnTo>
                    <a:pt x="135" y="1341"/>
                  </a:lnTo>
                  <a:lnTo>
                    <a:pt x="146" y="1337"/>
                  </a:lnTo>
                  <a:lnTo>
                    <a:pt x="159" y="1331"/>
                  </a:lnTo>
                  <a:lnTo>
                    <a:pt x="172" y="1326"/>
                  </a:lnTo>
                  <a:lnTo>
                    <a:pt x="186" y="1318"/>
                  </a:lnTo>
                  <a:lnTo>
                    <a:pt x="200" y="1310"/>
                  </a:lnTo>
                  <a:lnTo>
                    <a:pt x="215" y="1301"/>
                  </a:lnTo>
                  <a:lnTo>
                    <a:pt x="231" y="1290"/>
                  </a:lnTo>
                  <a:lnTo>
                    <a:pt x="246" y="1279"/>
                  </a:lnTo>
                  <a:lnTo>
                    <a:pt x="217" y="1201"/>
                  </a:lnTo>
                  <a:lnTo>
                    <a:pt x="220" y="1196"/>
                  </a:lnTo>
                  <a:lnTo>
                    <a:pt x="231" y="1183"/>
                  </a:lnTo>
                  <a:lnTo>
                    <a:pt x="247" y="1163"/>
                  </a:lnTo>
                  <a:lnTo>
                    <a:pt x="270" y="1140"/>
                  </a:lnTo>
                  <a:lnTo>
                    <a:pt x="283" y="1127"/>
                  </a:lnTo>
                  <a:lnTo>
                    <a:pt x="298" y="1114"/>
                  </a:lnTo>
                  <a:lnTo>
                    <a:pt x="315" y="1101"/>
                  </a:lnTo>
                  <a:lnTo>
                    <a:pt x="332" y="1088"/>
                  </a:lnTo>
                  <a:lnTo>
                    <a:pt x="351" y="1077"/>
                  </a:lnTo>
                  <a:lnTo>
                    <a:pt x="372" y="1065"/>
                  </a:lnTo>
                  <a:lnTo>
                    <a:pt x="393" y="1055"/>
                  </a:lnTo>
                  <a:lnTo>
                    <a:pt x="415" y="1045"/>
                  </a:lnTo>
                  <a:lnTo>
                    <a:pt x="415" y="1040"/>
                  </a:lnTo>
                  <a:lnTo>
                    <a:pt x="415" y="1035"/>
                  </a:lnTo>
                  <a:lnTo>
                    <a:pt x="417" y="1029"/>
                  </a:lnTo>
                  <a:lnTo>
                    <a:pt x="421" y="1022"/>
                  </a:lnTo>
                  <a:lnTo>
                    <a:pt x="429" y="1007"/>
                  </a:lnTo>
                  <a:lnTo>
                    <a:pt x="443" y="989"/>
                  </a:lnTo>
                  <a:lnTo>
                    <a:pt x="460" y="969"/>
                  </a:lnTo>
                  <a:lnTo>
                    <a:pt x="479" y="948"/>
                  </a:lnTo>
                  <a:lnTo>
                    <a:pt x="500" y="927"/>
                  </a:lnTo>
                  <a:lnTo>
                    <a:pt x="525" y="905"/>
                  </a:lnTo>
                  <a:lnTo>
                    <a:pt x="551" y="882"/>
                  </a:lnTo>
                  <a:lnTo>
                    <a:pt x="576" y="859"/>
                  </a:lnTo>
                  <a:lnTo>
                    <a:pt x="603" y="838"/>
                  </a:lnTo>
                  <a:lnTo>
                    <a:pt x="630" y="817"/>
                  </a:lnTo>
                  <a:lnTo>
                    <a:pt x="656" y="798"/>
                  </a:lnTo>
                  <a:lnTo>
                    <a:pt x="681" y="780"/>
                  </a:lnTo>
                  <a:lnTo>
                    <a:pt x="705" y="765"/>
                  </a:lnTo>
                  <a:lnTo>
                    <a:pt x="727" y="751"/>
                  </a:lnTo>
                  <a:lnTo>
                    <a:pt x="709" y="659"/>
                  </a:lnTo>
                  <a:lnTo>
                    <a:pt x="708" y="656"/>
                  </a:lnTo>
                  <a:lnTo>
                    <a:pt x="706" y="648"/>
                  </a:lnTo>
                  <a:lnTo>
                    <a:pt x="705" y="635"/>
                  </a:lnTo>
                  <a:lnTo>
                    <a:pt x="705" y="616"/>
                  </a:lnTo>
                  <a:lnTo>
                    <a:pt x="706" y="606"/>
                  </a:lnTo>
                  <a:lnTo>
                    <a:pt x="708" y="594"/>
                  </a:lnTo>
                  <a:lnTo>
                    <a:pt x="712" y="581"/>
                  </a:lnTo>
                  <a:lnTo>
                    <a:pt x="716" y="567"/>
                  </a:lnTo>
                  <a:lnTo>
                    <a:pt x="723" y="553"/>
                  </a:lnTo>
                  <a:lnTo>
                    <a:pt x="732" y="537"/>
                  </a:lnTo>
                  <a:lnTo>
                    <a:pt x="742" y="521"/>
                  </a:lnTo>
                  <a:lnTo>
                    <a:pt x="755" y="503"/>
                  </a:lnTo>
                  <a:lnTo>
                    <a:pt x="810" y="437"/>
                  </a:lnTo>
                  <a:lnTo>
                    <a:pt x="860" y="375"/>
                  </a:lnTo>
                  <a:lnTo>
                    <a:pt x="884" y="347"/>
                  </a:lnTo>
                  <a:lnTo>
                    <a:pt x="908" y="320"/>
                  </a:lnTo>
                  <a:lnTo>
                    <a:pt x="920" y="308"/>
                  </a:lnTo>
                  <a:lnTo>
                    <a:pt x="931" y="296"/>
                  </a:lnTo>
                  <a:lnTo>
                    <a:pt x="944" y="285"/>
                  </a:lnTo>
                  <a:lnTo>
                    <a:pt x="957" y="275"/>
                  </a:lnTo>
                  <a:lnTo>
                    <a:pt x="970" y="265"/>
                  </a:lnTo>
                  <a:lnTo>
                    <a:pt x="983" y="257"/>
                  </a:lnTo>
                  <a:lnTo>
                    <a:pt x="996" y="249"/>
                  </a:lnTo>
                  <a:lnTo>
                    <a:pt x="1010" y="242"/>
                  </a:lnTo>
                  <a:lnTo>
                    <a:pt x="1024" y="235"/>
                  </a:lnTo>
                  <a:lnTo>
                    <a:pt x="1039" y="230"/>
                  </a:lnTo>
                  <a:lnTo>
                    <a:pt x="1054" y="225"/>
                  </a:lnTo>
                  <a:lnTo>
                    <a:pt x="1070" y="222"/>
                  </a:lnTo>
                  <a:lnTo>
                    <a:pt x="1087" y="218"/>
                  </a:lnTo>
                  <a:lnTo>
                    <a:pt x="1104" y="217"/>
                  </a:lnTo>
                  <a:lnTo>
                    <a:pt x="1122" y="216"/>
                  </a:lnTo>
                  <a:lnTo>
                    <a:pt x="1141" y="217"/>
                  </a:lnTo>
                  <a:lnTo>
                    <a:pt x="1160" y="218"/>
                  </a:lnTo>
                  <a:lnTo>
                    <a:pt x="1181" y="221"/>
                  </a:lnTo>
                  <a:lnTo>
                    <a:pt x="1202" y="225"/>
                  </a:lnTo>
                  <a:lnTo>
                    <a:pt x="1225" y="230"/>
                  </a:lnTo>
                  <a:lnTo>
                    <a:pt x="1380" y="0"/>
                  </a:lnTo>
                  <a:lnTo>
                    <a:pt x="2798" y="51"/>
                  </a:lnTo>
                  <a:lnTo>
                    <a:pt x="1741" y="207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153"/>
            <p:cNvSpPr/>
            <p:nvPr/>
          </p:nvSpPr>
          <p:spPr>
            <a:xfrm>
              <a:off x="6842160" y="3757320"/>
              <a:ext cx="389880" cy="15084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82" h="922">
                  <a:moveTo>
                    <a:pt x="2582" y="43"/>
                  </a:moveTo>
                  <a:lnTo>
                    <a:pt x="2309" y="852"/>
                  </a:lnTo>
                  <a:lnTo>
                    <a:pt x="2294" y="850"/>
                  </a:lnTo>
                  <a:lnTo>
                    <a:pt x="2272" y="849"/>
                  </a:lnTo>
                  <a:lnTo>
                    <a:pt x="2241" y="848"/>
                  </a:lnTo>
                  <a:lnTo>
                    <a:pt x="2204" y="847"/>
                  </a:lnTo>
                  <a:lnTo>
                    <a:pt x="2111" y="845"/>
                  </a:lnTo>
                  <a:lnTo>
                    <a:pt x="1997" y="845"/>
                  </a:lnTo>
                  <a:lnTo>
                    <a:pt x="1866" y="848"/>
                  </a:lnTo>
                  <a:lnTo>
                    <a:pt x="1725" y="849"/>
                  </a:lnTo>
                  <a:lnTo>
                    <a:pt x="1576" y="852"/>
                  </a:lnTo>
                  <a:lnTo>
                    <a:pt x="1423" y="855"/>
                  </a:lnTo>
                  <a:lnTo>
                    <a:pt x="1271" y="858"/>
                  </a:lnTo>
                  <a:lnTo>
                    <a:pt x="1125" y="862"/>
                  </a:lnTo>
                  <a:lnTo>
                    <a:pt x="990" y="865"/>
                  </a:lnTo>
                  <a:lnTo>
                    <a:pt x="869" y="869"/>
                  </a:lnTo>
                  <a:lnTo>
                    <a:pt x="767" y="871"/>
                  </a:lnTo>
                  <a:lnTo>
                    <a:pt x="689" y="873"/>
                  </a:lnTo>
                  <a:lnTo>
                    <a:pt x="639" y="875"/>
                  </a:lnTo>
                  <a:lnTo>
                    <a:pt x="621" y="875"/>
                  </a:lnTo>
                  <a:lnTo>
                    <a:pt x="592" y="884"/>
                  </a:lnTo>
                  <a:lnTo>
                    <a:pt x="562" y="891"/>
                  </a:lnTo>
                  <a:lnTo>
                    <a:pt x="530" y="899"/>
                  </a:lnTo>
                  <a:lnTo>
                    <a:pt x="497" y="905"/>
                  </a:lnTo>
                  <a:lnTo>
                    <a:pt x="465" y="911"/>
                  </a:lnTo>
                  <a:lnTo>
                    <a:pt x="432" y="915"/>
                  </a:lnTo>
                  <a:lnTo>
                    <a:pt x="399" y="919"/>
                  </a:lnTo>
                  <a:lnTo>
                    <a:pt x="368" y="921"/>
                  </a:lnTo>
                  <a:lnTo>
                    <a:pt x="336" y="922"/>
                  </a:lnTo>
                  <a:lnTo>
                    <a:pt x="307" y="921"/>
                  </a:lnTo>
                  <a:lnTo>
                    <a:pt x="278" y="919"/>
                  </a:lnTo>
                  <a:lnTo>
                    <a:pt x="251" y="914"/>
                  </a:lnTo>
                  <a:lnTo>
                    <a:pt x="239" y="912"/>
                  </a:lnTo>
                  <a:lnTo>
                    <a:pt x="226" y="908"/>
                  </a:lnTo>
                  <a:lnTo>
                    <a:pt x="216" y="904"/>
                  </a:lnTo>
                  <a:lnTo>
                    <a:pt x="205" y="899"/>
                  </a:lnTo>
                  <a:lnTo>
                    <a:pt x="195" y="894"/>
                  </a:lnTo>
                  <a:lnTo>
                    <a:pt x="185" y="889"/>
                  </a:lnTo>
                  <a:lnTo>
                    <a:pt x="177" y="882"/>
                  </a:lnTo>
                  <a:lnTo>
                    <a:pt x="169" y="875"/>
                  </a:lnTo>
                  <a:lnTo>
                    <a:pt x="163" y="868"/>
                  </a:lnTo>
                  <a:lnTo>
                    <a:pt x="157" y="862"/>
                  </a:lnTo>
                  <a:lnTo>
                    <a:pt x="153" y="855"/>
                  </a:lnTo>
                  <a:lnTo>
                    <a:pt x="149" y="848"/>
                  </a:lnTo>
                  <a:lnTo>
                    <a:pt x="146" y="841"/>
                  </a:lnTo>
                  <a:lnTo>
                    <a:pt x="143" y="835"/>
                  </a:lnTo>
                  <a:lnTo>
                    <a:pt x="142" y="828"/>
                  </a:lnTo>
                  <a:lnTo>
                    <a:pt x="141" y="821"/>
                  </a:lnTo>
                  <a:lnTo>
                    <a:pt x="141" y="809"/>
                  </a:lnTo>
                  <a:lnTo>
                    <a:pt x="141" y="796"/>
                  </a:lnTo>
                  <a:lnTo>
                    <a:pt x="143" y="785"/>
                  </a:lnTo>
                  <a:lnTo>
                    <a:pt x="146" y="774"/>
                  </a:lnTo>
                  <a:lnTo>
                    <a:pt x="148" y="764"/>
                  </a:lnTo>
                  <a:lnTo>
                    <a:pt x="149" y="753"/>
                  </a:lnTo>
                  <a:lnTo>
                    <a:pt x="149" y="744"/>
                  </a:lnTo>
                  <a:lnTo>
                    <a:pt x="147" y="734"/>
                  </a:lnTo>
                  <a:lnTo>
                    <a:pt x="145" y="730"/>
                  </a:lnTo>
                  <a:lnTo>
                    <a:pt x="142" y="726"/>
                  </a:lnTo>
                  <a:lnTo>
                    <a:pt x="139" y="723"/>
                  </a:lnTo>
                  <a:lnTo>
                    <a:pt x="135" y="718"/>
                  </a:lnTo>
                  <a:lnTo>
                    <a:pt x="129" y="715"/>
                  </a:lnTo>
                  <a:lnTo>
                    <a:pt x="124" y="711"/>
                  </a:lnTo>
                  <a:lnTo>
                    <a:pt x="117" y="709"/>
                  </a:lnTo>
                  <a:lnTo>
                    <a:pt x="108" y="705"/>
                  </a:lnTo>
                  <a:lnTo>
                    <a:pt x="91" y="699"/>
                  </a:lnTo>
                  <a:lnTo>
                    <a:pt x="77" y="694"/>
                  </a:lnTo>
                  <a:lnTo>
                    <a:pt x="65" y="688"/>
                  </a:lnTo>
                  <a:lnTo>
                    <a:pt x="56" y="682"/>
                  </a:lnTo>
                  <a:lnTo>
                    <a:pt x="49" y="677"/>
                  </a:lnTo>
                  <a:lnTo>
                    <a:pt x="44" y="672"/>
                  </a:lnTo>
                  <a:lnTo>
                    <a:pt x="42" y="668"/>
                  </a:lnTo>
                  <a:lnTo>
                    <a:pt x="39" y="663"/>
                  </a:lnTo>
                  <a:lnTo>
                    <a:pt x="39" y="658"/>
                  </a:lnTo>
                  <a:lnTo>
                    <a:pt x="41" y="655"/>
                  </a:lnTo>
                  <a:lnTo>
                    <a:pt x="42" y="653"/>
                  </a:lnTo>
                  <a:lnTo>
                    <a:pt x="43" y="649"/>
                  </a:lnTo>
                  <a:lnTo>
                    <a:pt x="46" y="646"/>
                  </a:lnTo>
                  <a:lnTo>
                    <a:pt x="49" y="644"/>
                  </a:lnTo>
                  <a:lnTo>
                    <a:pt x="57" y="639"/>
                  </a:lnTo>
                  <a:lnTo>
                    <a:pt x="78" y="622"/>
                  </a:lnTo>
                  <a:lnTo>
                    <a:pt x="107" y="599"/>
                  </a:lnTo>
                  <a:lnTo>
                    <a:pt x="138" y="572"/>
                  </a:lnTo>
                  <a:lnTo>
                    <a:pt x="153" y="557"/>
                  </a:lnTo>
                  <a:lnTo>
                    <a:pt x="166" y="543"/>
                  </a:lnTo>
                  <a:lnTo>
                    <a:pt x="176" y="528"/>
                  </a:lnTo>
                  <a:lnTo>
                    <a:pt x="183" y="515"/>
                  </a:lnTo>
                  <a:lnTo>
                    <a:pt x="185" y="508"/>
                  </a:lnTo>
                  <a:lnTo>
                    <a:pt x="187" y="502"/>
                  </a:lnTo>
                  <a:lnTo>
                    <a:pt x="188" y="496"/>
                  </a:lnTo>
                  <a:lnTo>
                    <a:pt x="187" y="491"/>
                  </a:lnTo>
                  <a:lnTo>
                    <a:pt x="184" y="487"/>
                  </a:lnTo>
                  <a:lnTo>
                    <a:pt x="181" y="482"/>
                  </a:lnTo>
                  <a:lnTo>
                    <a:pt x="176" y="477"/>
                  </a:lnTo>
                  <a:lnTo>
                    <a:pt x="169" y="475"/>
                  </a:lnTo>
                  <a:lnTo>
                    <a:pt x="155" y="469"/>
                  </a:lnTo>
                  <a:lnTo>
                    <a:pt x="142" y="462"/>
                  </a:lnTo>
                  <a:lnTo>
                    <a:pt x="129" y="455"/>
                  </a:lnTo>
                  <a:lnTo>
                    <a:pt x="117" y="448"/>
                  </a:lnTo>
                  <a:lnTo>
                    <a:pt x="106" y="441"/>
                  </a:lnTo>
                  <a:lnTo>
                    <a:pt x="94" y="433"/>
                  </a:lnTo>
                  <a:lnTo>
                    <a:pt x="84" y="425"/>
                  </a:lnTo>
                  <a:lnTo>
                    <a:pt x="75" y="417"/>
                  </a:lnTo>
                  <a:lnTo>
                    <a:pt x="65" y="407"/>
                  </a:lnTo>
                  <a:lnTo>
                    <a:pt x="57" y="398"/>
                  </a:lnTo>
                  <a:lnTo>
                    <a:pt x="49" y="389"/>
                  </a:lnTo>
                  <a:lnTo>
                    <a:pt x="42" y="379"/>
                  </a:lnTo>
                  <a:lnTo>
                    <a:pt x="35" y="370"/>
                  </a:lnTo>
                  <a:lnTo>
                    <a:pt x="29" y="359"/>
                  </a:lnTo>
                  <a:lnTo>
                    <a:pt x="23" y="350"/>
                  </a:lnTo>
                  <a:lnTo>
                    <a:pt x="18" y="340"/>
                  </a:lnTo>
                  <a:lnTo>
                    <a:pt x="10" y="320"/>
                  </a:lnTo>
                  <a:lnTo>
                    <a:pt x="4" y="299"/>
                  </a:lnTo>
                  <a:lnTo>
                    <a:pt x="1" y="278"/>
                  </a:lnTo>
                  <a:lnTo>
                    <a:pt x="0" y="257"/>
                  </a:lnTo>
                  <a:lnTo>
                    <a:pt x="1" y="237"/>
                  </a:lnTo>
                  <a:lnTo>
                    <a:pt x="3" y="218"/>
                  </a:lnTo>
                  <a:lnTo>
                    <a:pt x="7" y="208"/>
                  </a:lnTo>
                  <a:lnTo>
                    <a:pt x="9" y="198"/>
                  </a:lnTo>
                  <a:lnTo>
                    <a:pt x="13" y="190"/>
                  </a:lnTo>
                  <a:lnTo>
                    <a:pt x="17" y="181"/>
                  </a:lnTo>
                  <a:lnTo>
                    <a:pt x="25" y="163"/>
                  </a:lnTo>
                  <a:lnTo>
                    <a:pt x="36" y="147"/>
                  </a:lnTo>
                  <a:lnTo>
                    <a:pt x="46" y="131"/>
                  </a:lnTo>
                  <a:lnTo>
                    <a:pt x="58" y="114"/>
                  </a:lnTo>
                  <a:lnTo>
                    <a:pt x="80" y="83"/>
                  </a:lnTo>
                  <a:lnTo>
                    <a:pt x="104" y="56"/>
                  </a:lnTo>
                  <a:lnTo>
                    <a:pt x="124" y="32"/>
                  </a:lnTo>
                  <a:lnTo>
                    <a:pt x="140" y="15"/>
                  </a:lnTo>
                  <a:lnTo>
                    <a:pt x="150" y="3"/>
                  </a:lnTo>
                  <a:lnTo>
                    <a:pt x="155" y="0"/>
                  </a:lnTo>
                  <a:lnTo>
                    <a:pt x="300" y="4"/>
                  </a:lnTo>
                  <a:lnTo>
                    <a:pt x="447" y="9"/>
                  </a:lnTo>
                  <a:lnTo>
                    <a:pt x="597" y="13"/>
                  </a:lnTo>
                  <a:lnTo>
                    <a:pt x="749" y="17"/>
                  </a:lnTo>
                  <a:lnTo>
                    <a:pt x="903" y="21"/>
                  </a:lnTo>
                  <a:lnTo>
                    <a:pt x="1057" y="24"/>
                  </a:lnTo>
                  <a:lnTo>
                    <a:pt x="1213" y="27"/>
                  </a:lnTo>
                  <a:lnTo>
                    <a:pt x="1369" y="30"/>
                  </a:lnTo>
                  <a:lnTo>
                    <a:pt x="1525" y="32"/>
                  </a:lnTo>
                  <a:lnTo>
                    <a:pt x="1681" y="35"/>
                  </a:lnTo>
                  <a:lnTo>
                    <a:pt x="1835" y="37"/>
                  </a:lnTo>
                  <a:lnTo>
                    <a:pt x="1989" y="38"/>
                  </a:lnTo>
                  <a:lnTo>
                    <a:pt x="2141" y="39"/>
                  </a:lnTo>
                  <a:lnTo>
                    <a:pt x="2290" y="41"/>
                  </a:lnTo>
                  <a:lnTo>
                    <a:pt x="2439" y="42"/>
                  </a:lnTo>
                  <a:lnTo>
                    <a:pt x="2582" y="4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154"/>
            <p:cNvSpPr/>
            <p:nvPr/>
          </p:nvSpPr>
          <p:spPr>
            <a:xfrm>
              <a:off x="6842160" y="3757320"/>
              <a:ext cx="389880" cy="15084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82" h="922">
                  <a:moveTo>
                    <a:pt x="2582" y="43"/>
                  </a:moveTo>
                  <a:lnTo>
                    <a:pt x="2309" y="852"/>
                  </a:lnTo>
                  <a:lnTo>
                    <a:pt x="2294" y="850"/>
                  </a:lnTo>
                  <a:lnTo>
                    <a:pt x="2272" y="849"/>
                  </a:lnTo>
                  <a:lnTo>
                    <a:pt x="2241" y="848"/>
                  </a:lnTo>
                  <a:lnTo>
                    <a:pt x="2204" y="847"/>
                  </a:lnTo>
                  <a:lnTo>
                    <a:pt x="2111" y="845"/>
                  </a:lnTo>
                  <a:lnTo>
                    <a:pt x="1997" y="845"/>
                  </a:lnTo>
                  <a:lnTo>
                    <a:pt x="1866" y="848"/>
                  </a:lnTo>
                  <a:lnTo>
                    <a:pt x="1725" y="849"/>
                  </a:lnTo>
                  <a:lnTo>
                    <a:pt x="1576" y="852"/>
                  </a:lnTo>
                  <a:lnTo>
                    <a:pt x="1423" y="855"/>
                  </a:lnTo>
                  <a:lnTo>
                    <a:pt x="1271" y="858"/>
                  </a:lnTo>
                  <a:lnTo>
                    <a:pt x="1125" y="862"/>
                  </a:lnTo>
                  <a:lnTo>
                    <a:pt x="990" y="865"/>
                  </a:lnTo>
                  <a:lnTo>
                    <a:pt x="869" y="869"/>
                  </a:lnTo>
                  <a:lnTo>
                    <a:pt x="767" y="871"/>
                  </a:lnTo>
                  <a:lnTo>
                    <a:pt x="689" y="873"/>
                  </a:lnTo>
                  <a:lnTo>
                    <a:pt x="639" y="875"/>
                  </a:lnTo>
                  <a:lnTo>
                    <a:pt x="621" y="875"/>
                  </a:lnTo>
                  <a:lnTo>
                    <a:pt x="592" y="884"/>
                  </a:lnTo>
                  <a:lnTo>
                    <a:pt x="562" y="891"/>
                  </a:lnTo>
                  <a:lnTo>
                    <a:pt x="530" y="899"/>
                  </a:lnTo>
                  <a:lnTo>
                    <a:pt x="497" y="905"/>
                  </a:lnTo>
                  <a:lnTo>
                    <a:pt x="465" y="911"/>
                  </a:lnTo>
                  <a:lnTo>
                    <a:pt x="432" y="915"/>
                  </a:lnTo>
                  <a:lnTo>
                    <a:pt x="399" y="919"/>
                  </a:lnTo>
                  <a:lnTo>
                    <a:pt x="368" y="921"/>
                  </a:lnTo>
                  <a:lnTo>
                    <a:pt x="336" y="922"/>
                  </a:lnTo>
                  <a:lnTo>
                    <a:pt x="307" y="921"/>
                  </a:lnTo>
                  <a:lnTo>
                    <a:pt x="278" y="919"/>
                  </a:lnTo>
                  <a:lnTo>
                    <a:pt x="251" y="914"/>
                  </a:lnTo>
                  <a:lnTo>
                    <a:pt x="239" y="912"/>
                  </a:lnTo>
                  <a:lnTo>
                    <a:pt x="226" y="908"/>
                  </a:lnTo>
                  <a:lnTo>
                    <a:pt x="216" y="904"/>
                  </a:lnTo>
                  <a:lnTo>
                    <a:pt x="205" y="899"/>
                  </a:lnTo>
                  <a:lnTo>
                    <a:pt x="195" y="894"/>
                  </a:lnTo>
                  <a:lnTo>
                    <a:pt x="185" y="889"/>
                  </a:lnTo>
                  <a:lnTo>
                    <a:pt x="177" y="882"/>
                  </a:lnTo>
                  <a:lnTo>
                    <a:pt x="169" y="875"/>
                  </a:lnTo>
                  <a:lnTo>
                    <a:pt x="163" y="868"/>
                  </a:lnTo>
                  <a:lnTo>
                    <a:pt x="157" y="862"/>
                  </a:lnTo>
                  <a:lnTo>
                    <a:pt x="153" y="855"/>
                  </a:lnTo>
                  <a:lnTo>
                    <a:pt x="149" y="848"/>
                  </a:lnTo>
                  <a:lnTo>
                    <a:pt x="146" y="841"/>
                  </a:lnTo>
                  <a:lnTo>
                    <a:pt x="143" y="835"/>
                  </a:lnTo>
                  <a:lnTo>
                    <a:pt x="142" y="828"/>
                  </a:lnTo>
                  <a:lnTo>
                    <a:pt x="141" y="821"/>
                  </a:lnTo>
                  <a:lnTo>
                    <a:pt x="141" y="809"/>
                  </a:lnTo>
                  <a:lnTo>
                    <a:pt x="141" y="796"/>
                  </a:lnTo>
                  <a:lnTo>
                    <a:pt x="143" y="785"/>
                  </a:lnTo>
                  <a:lnTo>
                    <a:pt x="146" y="774"/>
                  </a:lnTo>
                  <a:lnTo>
                    <a:pt x="148" y="764"/>
                  </a:lnTo>
                  <a:lnTo>
                    <a:pt x="149" y="753"/>
                  </a:lnTo>
                  <a:lnTo>
                    <a:pt x="149" y="744"/>
                  </a:lnTo>
                  <a:lnTo>
                    <a:pt x="147" y="734"/>
                  </a:lnTo>
                  <a:lnTo>
                    <a:pt x="145" y="730"/>
                  </a:lnTo>
                  <a:lnTo>
                    <a:pt x="142" y="726"/>
                  </a:lnTo>
                  <a:lnTo>
                    <a:pt x="139" y="723"/>
                  </a:lnTo>
                  <a:lnTo>
                    <a:pt x="135" y="718"/>
                  </a:lnTo>
                  <a:lnTo>
                    <a:pt x="129" y="715"/>
                  </a:lnTo>
                  <a:lnTo>
                    <a:pt x="124" y="711"/>
                  </a:lnTo>
                  <a:lnTo>
                    <a:pt x="117" y="709"/>
                  </a:lnTo>
                  <a:lnTo>
                    <a:pt x="108" y="705"/>
                  </a:lnTo>
                  <a:lnTo>
                    <a:pt x="91" y="699"/>
                  </a:lnTo>
                  <a:lnTo>
                    <a:pt x="77" y="694"/>
                  </a:lnTo>
                  <a:lnTo>
                    <a:pt x="65" y="688"/>
                  </a:lnTo>
                  <a:lnTo>
                    <a:pt x="56" y="682"/>
                  </a:lnTo>
                  <a:lnTo>
                    <a:pt x="49" y="677"/>
                  </a:lnTo>
                  <a:lnTo>
                    <a:pt x="44" y="672"/>
                  </a:lnTo>
                  <a:lnTo>
                    <a:pt x="42" y="668"/>
                  </a:lnTo>
                  <a:lnTo>
                    <a:pt x="39" y="663"/>
                  </a:lnTo>
                  <a:lnTo>
                    <a:pt x="39" y="658"/>
                  </a:lnTo>
                  <a:lnTo>
                    <a:pt x="41" y="655"/>
                  </a:lnTo>
                  <a:lnTo>
                    <a:pt x="42" y="653"/>
                  </a:lnTo>
                  <a:lnTo>
                    <a:pt x="43" y="649"/>
                  </a:lnTo>
                  <a:lnTo>
                    <a:pt x="46" y="646"/>
                  </a:lnTo>
                  <a:lnTo>
                    <a:pt x="49" y="644"/>
                  </a:lnTo>
                  <a:lnTo>
                    <a:pt x="57" y="639"/>
                  </a:lnTo>
                  <a:lnTo>
                    <a:pt x="78" y="622"/>
                  </a:lnTo>
                  <a:lnTo>
                    <a:pt x="107" y="599"/>
                  </a:lnTo>
                  <a:lnTo>
                    <a:pt x="138" y="572"/>
                  </a:lnTo>
                  <a:lnTo>
                    <a:pt x="153" y="557"/>
                  </a:lnTo>
                  <a:lnTo>
                    <a:pt x="166" y="543"/>
                  </a:lnTo>
                  <a:lnTo>
                    <a:pt x="176" y="528"/>
                  </a:lnTo>
                  <a:lnTo>
                    <a:pt x="183" y="515"/>
                  </a:lnTo>
                  <a:lnTo>
                    <a:pt x="185" y="508"/>
                  </a:lnTo>
                  <a:lnTo>
                    <a:pt x="187" y="502"/>
                  </a:lnTo>
                  <a:lnTo>
                    <a:pt x="188" y="496"/>
                  </a:lnTo>
                  <a:lnTo>
                    <a:pt x="187" y="491"/>
                  </a:lnTo>
                  <a:lnTo>
                    <a:pt x="184" y="487"/>
                  </a:lnTo>
                  <a:lnTo>
                    <a:pt x="181" y="482"/>
                  </a:lnTo>
                  <a:lnTo>
                    <a:pt x="176" y="477"/>
                  </a:lnTo>
                  <a:lnTo>
                    <a:pt x="169" y="475"/>
                  </a:lnTo>
                  <a:lnTo>
                    <a:pt x="155" y="469"/>
                  </a:lnTo>
                  <a:lnTo>
                    <a:pt x="142" y="462"/>
                  </a:lnTo>
                  <a:lnTo>
                    <a:pt x="129" y="455"/>
                  </a:lnTo>
                  <a:lnTo>
                    <a:pt x="117" y="448"/>
                  </a:lnTo>
                  <a:lnTo>
                    <a:pt x="106" y="441"/>
                  </a:lnTo>
                  <a:lnTo>
                    <a:pt x="94" y="433"/>
                  </a:lnTo>
                  <a:lnTo>
                    <a:pt x="84" y="425"/>
                  </a:lnTo>
                  <a:lnTo>
                    <a:pt x="75" y="417"/>
                  </a:lnTo>
                  <a:lnTo>
                    <a:pt x="65" y="407"/>
                  </a:lnTo>
                  <a:lnTo>
                    <a:pt x="57" y="398"/>
                  </a:lnTo>
                  <a:lnTo>
                    <a:pt x="49" y="389"/>
                  </a:lnTo>
                  <a:lnTo>
                    <a:pt x="42" y="379"/>
                  </a:lnTo>
                  <a:lnTo>
                    <a:pt x="35" y="370"/>
                  </a:lnTo>
                  <a:lnTo>
                    <a:pt x="29" y="359"/>
                  </a:lnTo>
                  <a:lnTo>
                    <a:pt x="23" y="350"/>
                  </a:lnTo>
                  <a:lnTo>
                    <a:pt x="18" y="340"/>
                  </a:lnTo>
                  <a:lnTo>
                    <a:pt x="10" y="320"/>
                  </a:lnTo>
                  <a:lnTo>
                    <a:pt x="4" y="299"/>
                  </a:lnTo>
                  <a:lnTo>
                    <a:pt x="1" y="278"/>
                  </a:lnTo>
                  <a:lnTo>
                    <a:pt x="0" y="257"/>
                  </a:lnTo>
                  <a:lnTo>
                    <a:pt x="1" y="237"/>
                  </a:lnTo>
                  <a:lnTo>
                    <a:pt x="3" y="218"/>
                  </a:lnTo>
                  <a:lnTo>
                    <a:pt x="7" y="208"/>
                  </a:lnTo>
                  <a:lnTo>
                    <a:pt x="9" y="198"/>
                  </a:lnTo>
                  <a:lnTo>
                    <a:pt x="13" y="190"/>
                  </a:lnTo>
                  <a:lnTo>
                    <a:pt x="17" y="181"/>
                  </a:lnTo>
                  <a:lnTo>
                    <a:pt x="25" y="163"/>
                  </a:lnTo>
                  <a:lnTo>
                    <a:pt x="36" y="147"/>
                  </a:lnTo>
                  <a:lnTo>
                    <a:pt x="46" y="131"/>
                  </a:lnTo>
                  <a:lnTo>
                    <a:pt x="58" y="114"/>
                  </a:lnTo>
                  <a:lnTo>
                    <a:pt x="80" y="83"/>
                  </a:lnTo>
                  <a:lnTo>
                    <a:pt x="104" y="56"/>
                  </a:lnTo>
                  <a:lnTo>
                    <a:pt x="124" y="32"/>
                  </a:lnTo>
                  <a:lnTo>
                    <a:pt x="140" y="15"/>
                  </a:lnTo>
                  <a:lnTo>
                    <a:pt x="150" y="3"/>
                  </a:lnTo>
                  <a:lnTo>
                    <a:pt x="155" y="0"/>
                  </a:lnTo>
                  <a:lnTo>
                    <a:pt x="300" y="4"/>
                  </a:lnTo>
                  <a:lnTo>
                    <a:pt x="447" y="9"/>
                  </a:lnTo>
                  <a:lnTo>
                    <a:pt x="597" y="13"/>
                  </a:lnTo>
                  <a:lnTo>
                    <a:pt x="749" y="17"/>
                  </a:lnTo>
                  <a:lnTo>
                    <a:pt x="903" y="21"/>
                  </a:lnTo>
                  <a:lnTo>
                    <a:pt x="1057" y="24"/>
                  </a:lnTo>
                  <a:lnTo>
                    <a:pt x="1213" y="27"/>
                  </a:lnTo>
                  <a:lnTo>
                    <a:pt x="1369" y="30"/>
                  </a:lnTo>
                  <a:lnTo>
                    <a:pt x="1525" y="32"/>
                  </a:lnTo>
                  <a:lnTo>
                    <a:pt x="1681" y="35"/>
                  </a:lnTo>
                  <a:lnTo>
                    <a:pt x="1835" y="37"/>
                  </a:lnTo>
                  <a:lnTo>
                    <a:pt x="1989" y="38"/>
                  </a:lnTo>
                  <a:lnTo>
                    <a:pt x="2141" y="39"/>
                  </a:lnTo>
                  <a:lnTo>
                    <a:pt x="2290" y="41"/>
                  </a:lnTo>
                  <a:lnTo>
                    <a:pt x="2439" y="42"/>
                  </a:lnTo>
                  <a:lnTo>
                    <a:pt x="2582" y="4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155"/>
            <p:cNvSpPr/>
            <p:nvPr/>
          </p:nvSpPr>
          <p:spPr>
            <a:xfrm>
              <a:off x="6862680" y="4032720"/>
              <a:ext cx="379440" cy="1728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502" h="1059">
                  <a:moveTo>
                    <a:pt x="0" y="1059"/>
                  </a:moveTo>
                  <a:lnTo>
                    <a:pt x="529" y="0"/>
                  </a:lnTo>
                  <a:lnTo>
                    <a:pt x="1871" y="37"/>
                  </a:lnTo>
                  <a:lnTo>
                    <a:pt x="2502" y="43"/>
                  </a:lnTo>
                  <a:lnTo>
                    <a:pt x="2235" y="1057"/>
                  </a:lnTo>
                  <a:lnTo>
                    <a:pt x="0" y="10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156"/>
            <p:cNvSpPr/>
            <p:nvPr/>
          </p:nvSpPr>
          <p:spPr>
            <a:xfrm>
              <a:off x="6862680" y="4032720"/>
              <a:ext cx="379440" cy="1728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502" h="1059">
                  <a:moveTo>
                    <a:pt x="0" y="1059"/>
                  </a:moveTo>
                  <a:lnTo>
                    <a:pt x="529" y="0"/>
                  </a:lnTo>
                  <a:lnTo>
                    <a:pt x="1871" y="37"/>
                  </a:lnTo>
                  <a:lnTo>
                    <a:pt x="2502" y="43"/>
                  </a:lnTo>
                  <a:lnTo>
                    <a:pt x="2235" y="1057"/>
                  </a:lnTo>
                  <a:lnTo>
                    <a:pt x="0" y="10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157"/>
            <p:cNvSpPr/>
            <p:nvPr/>
          </p:nvSpPr>
          <p:spPr>
            <a:xfrm>
              <a:off x="6864120" y="4243320"/>
              <a:ext cx="785520" cy="74232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5200" h="4545">
                  <a:moveTo>
                    <a:pt x="5200" y="2503"/>
                  </a:moveTo>
                  <a:lnTo>
                    <a:pt x="5184" y="1809"/>
                  </a:lnTo>
                  <a:lnTo>
                    <a:pt x="5164" y="1787"/>
                  </a:lnTo>
                  <a:lnTo>
                    <a:pt x="5146" y="1764"/>
                  </a:lnTo>
                  <a:lnTo>
                    <a:pt x="5136" y="1752"/>
                  </a:lnTo>
                  <a:lnTo>
                    <a:pt x="5128" y="1739"/>
                  </a:lnTo>
                  <a:lnTo>
                    <a:pt x="5120" y="1725"/>
                  </a:lnTo>
                  <a:lnTo>
                    <a:pt x="5112" y="1711"/>
                  </a:lnTo>
                  <a:lnTo>
                    <a:pt x="5103" y="1696"/>
                  </a:lnTo>
                  <a:lnTo>
                    <a:pt x="5096" y="1680"/>
                  </a:lnTo>
                  <a:lnTo>
                    <a:pt x="5089" y="1663"/>
                  </a:lnTo>
                  <a:lnTo>
                    <a:pt x="5082" y="1646"/>
                  </a:lnTo>
                  <a:lnTo>
                    <a:pt x="5071" y="1610"/>
                  </a:lnTo>
                  <a:lnTo>
                    <a:pt x="5059" y="1569"/>
                  </a:lnTo>
                  <a:lnTo>
                    <a:pt x="5050" y="1524"/>
                  </a:lnTo>
                  <a:lnTo>
                    <a:pt x="5040" y="1477"/>
                  </a:lnTo>
                  <a:lnTo>
                    <a:pt x="5033" y="1423"/>
                  </a:lnTo>
                  <a:lnTo>
                    <a:pt x="5028" y="1366"/>
                  </a:lnTo>
                  <a:lnTo>
                    <a:pt x="5023" y="1304"/>
                  </a:lnTo>
                  <a:lnTo>
                    <a:pt x="5019" y="1237"/>
                  </a:lnTo>
                  <a:lnTo>
                    <a:pt x="5017" y="1165"/>
                  </a:lnTo>
                  <a:lnTo>
                    <a:pt x="5017" y="1086"/>
                  </a:lnTo>
                  <a:lnTo>
                    <a:pt x="5004" y="1076"/>
                  </a:lnTo>
                  <a:lnTo>
                    <a:pt x="4988" y="1064"/>
                  </a:lnTo>
                  <a:lnTo>
                    <a:pt x="4969" y="1053"/>
                  </a:lnTo>
                  <a:lnTo>
                    <a:pt x="4947" y="1039"/>
                  </a:lnTo>
                  <a:lnTo>
                    <a:pt x="4922" y="1026"/>
                  </a:lnTo>
                  <a:lnTo>
                    <a:pt x="4896" y="1010"/>
                  </a:lnTo>
                  <a:lnTo>
                    <a:pt x="4866" y="996"/>
                  </a:lnTo>
                  <a:lnTo>
                    <a:pt x="4836" y="981"/>
                  </a:lnTo>
                  <a:lnTo>
                    <a:pt x="4769" y="951"/>
                  </a:lnTo>
                  <a:lnTo>
                    <a:pt x="4698" y="921"/>
                  </a:lnTo>
                  <a:lnTo>
                    <a:pt x="4623" y="891"/>
                  </a:lnTo>
                  <a:lnTo>
                    <a:pt x="4547" y="864"/>
                  </a:lnTo>
                  <a:lnTo>
                    <a:pt x="4509" y="852"/>
                  </a:lnTo>
                  <a:lnTo>
                    <a:pt x="4472" y="840"/>
                  </a:lnTo>
                  <a:lnTo>
                    <a:pt x="4434" y="828"/>
                  </a:lnTo>
                  <a:lnTo>
                    <a:pt x="4398" y="819"/>
                  </a:lnTo>
                  <a:lnTo>
                    <a:pt x="4363" y="810"/>
                  </a:lnTo>
                  <a:lnTo>
                    <a:pt x="4329" y="803"/>
                  </a:lnTo>
                  <a:lnTo>
                    <a:pt x="4296" y="797"/>
                  </a:lnTo>
                  <a:lnTo>
                    <a:pt x="4265" y="792"/>
                  </a:lnTo>
                  <a:lnTo>
                    <a:pt x="4236" y="789"/>
                  </a:lnTo>
                  <a:lnTo>
                    <a:pt x="4209" y="787"/>
                  </a:lnTo>
                  <a:lnTo>
                    <a:pt x="4184" y="787"/>
                  </a:lnTo>
                  <a:lnTo>
                    <a:pt x="4162" y="791"/>
                  </a:lnTo>
                  <a:lnTo>
                    <a:pt x="4142" y="794"/>
                  </a:lnTo>
                  <a:lnTo>
                    <a:pt x="4126" y="801"/>
                  </a:lnTo>
                  <a:lnTo>
                    <a:pt x="4113" y="810"/>
                  </a:lnTo>
                  <a:lnTo>
                    <a:pt x="4104" y="821"/>
                  </a:lnTo>
                  <a:lnTo>
                    <a:pt x="4080" y="856"/>
                  </a:lnTo>
                  <a:lnTo>
                    <a:pt x="4059" y="884"/>
                  </a:lnTo>
                  <a:lnTo>
                    <a:pt x="4049" y="896"/>
                  </a:lnTo>
                  <a:lnTo>
                    <a:pt x="4039" y="907"/>
                  </a:lnTo>
                  <a:lnTo>
                    <a:pt x="4031" y="916"/>
                  </a:lnTo>
                  <a:lnTo>
                    <a:pt x="4022" y="923"/>
                  </a:lnTo>
                  <a:lnTo>
                    <a:pt x="4014" y="930"/>
                  </a:lnTo>
                  <a:lnTo>
                    <a:pt x="4007" y="935"/>
                  </a:lnTo>
                  <a:lnTo>
                    <a:pt x="4000" y="939"/>
                  </a:lnTo>
                  <a:lnTo>
                    <a:pt x="3993" y="942"/>
                  </a:lnTo>
                  <a:lnTo>
                    <a:pt x="3986" y="944"/>
                  </a:lnTo>
                  <a:lnTo>
                    <a:pt x="3980" y="945"/>
                  </a:lnTo>
                  <a:lnTo>
                    <a:pt x="3974" y="945"/>
                  </a:lnTo>
                  <a:lnTo>
                    <a:pt x="3968" y="944"/>
                  </a:lnTo>
                  <a:lnTo>
                    <a:pt x="3963" y="943"/>
                  </a:lnTo>
                  <a:lnTo>
                    <a:pt x="3959" y="940"/>
                  </a:lnTo>
                  <a:lnTo>
                    <a:pt x="3954" y="937"/>
                  </a:lnTo>
                  <a:lnTo>
                    <a:pt x="3949" y="933"/>
                  </a:lnTo>
                  <a:lnTo>
                    <a:pt x="3942" y="925"/>
                  </a:lnTo>
                  <a:lnTo>
                    <a:pt x="3937" y="915"/>
                  </a:lnTo>
                  <a:lnTo>
                    <a:pt x="3931" y="903"/>
                  </a:lnTo>
                  <a:lnTo>
                    <a:pt x="3926" y="891"/>
                  </a:lnTo>
                  <a:lnTo>
                    <a:pt x="3922" y="880"/>
                  </a:lnTo>
                  <a:lnTo>
                    <a:pt x="3919" y="868"/>
                  </a:lnTo>
                  <a:lnTo>
                    <a:pt x="3917" y="862"/>
                  </a:lnTo>
                  <a:lnTo>
                    <a:pt x="3913" y="857"/>
                  </a:lnTo>
                  <a:lnTo>
                    <a:pt x="3907" y="854"/>
                  </a:lnTo>
                  <a:lnTo>
                    <a:pt x="3900" y="850"/>
                  </a:lnTo>
                  <a:lnTo>
                    <a:pt x="3893" y="848"/>
                  </a:lnTo>
                  <a:lnTo>
                    <a:pt x="3884" y="847"/>
                  </a:lnTo>
                  <a:lnTo>
                    <a:pt x="3873" y="846"/>
                  </a:lnTo>
                  <a:lnTo>
                    <a:pt x="3862" y="845"/>
                  </a:lnTo>
                  <a:lnTo>
                    <a:pt x="3837" y="845"/>
                  </a:lnTo>
                  <a:lnTo>
                    <a:pt x="3808" y="847"/>
                  </a:lnTo>
                  <a:lnTo>
                    <a:pt x="3778" y="850"/>
                  </a:lnTo>
                  <a:lnTo>
                    <a:pt x="3746" y="854"/>
                  </a:lnTo>
                  <a:lnTo>
                    <a:pt x="3680" y="863"/>
                  </a:lnTo>
                  <a:lnTo>
                    <a:pt x="3615" y="870"/>
                  </a:lnTo>
                  <a:lnTo>
                    <a:pt x="3586" y="873"/>
                  </a:lnTo>
                  <a:lnTo>
                    <a:pt x="3559" y="873"/>
                  </a:lnTo>
                  <a:lnTo>
                    <a:pt x="3546" y="873"/>
                  </a:lnTo>
                  <a:lnTo>
                    <a:pt x="3536" y="871"/>
                  </a:lnTo>
                  <a:lnTo>
                    <a:pt x="3525" y="870"/>
                  </a:lnTo>
                  <a:lnTo>
                    <a:pt x="3516" y="868"/>
                  </a:lnTo>
                  <a:lnTo>
                    <a:pt x="3500" y="861"/>
                  </a:lnTo>
                  <a:lnTo>
                    <a:pt x="3483" y="853"/>
                  </a:lnTo>
                  <a:lnTo>
                    <a:pt x="3467" y="845"/>
                  </a:lnTo>
                  <a:lnTo>
                    <a:pt x="3453" y="835"/>
                  </a:lnTo>
                  <a:lnTo>
                    <a:pt x="3439" y="825"/>
                  </a:lnTo>
                  <a:lnTo>
                    <a:pt x="3426" y="814"/>
                  </a:lnTo>
                  <a:lnTo>
                    <a:pt x="3414" y="804"/>
                  </a:lnTo>
                  <a:lnTo>
                    <a:pt x="3404" y="793"/>
                  </a:lnTo>
                  <a:lnTo>
                    <a:pt x="3372" y="758"/>
                  </a:lnTo>
                  <a:lnTo>
                    <a:pt x="3361" y="743"/>
                  </a:lnTo>
                  <a:lnTo>
                    <a:pt x="3356" y="748"/>
                  </a:lnTo>
                  <a:lnTo>
                    <a:pt x="3344" y="759"/>
                  </a:lnTo>
                  <a:lnTo>
                    <a:pt x="3335" y="766"/>
                  </a:lnTo>
                  <a:lnTo>
                    <a:pt x="3324" y="775"/>
                  </a:lnTo>
                  <a:lnTo>
                    <a:pt x="3313" y="783"/>
                  </a:lnTo>
                  <a:lnTo>
                    <a:pt x="3299" y="791"/>
                  </a:lnTo>
                  <a:lnTo>
                    <a:pt x="3284" y="799"/>
                  </a:lnTo>
                  <a:lnTo>
                    <a:pt x="3267" y="805"/>
                  </a:lnTo>
                  <a:lnTo>
                    <a:pt x="3250" y="811"/>
                  </a:lnTo>
                  <a:lnTo>
                    <a:pt x="3231" y="814"/>
                  </a:lnTo>
                  <a:lnTo>
                    <a:pt x="3220" y="815"/>
                  </a:lnTo>
                  <a:lnTo>
                    <a:pt x="3210" y="815"/>
                  </a:lnTo>
                  <a:lnTo>
                    <a:pt x="3201" y="815"/>
                  </a:lnTo>
                  <a:lnTo>
                    <a:pt x="3189" y="814"/>
                  </a:lnTo>
                  <a:lnTo>
                    <a:pt x="3178" y="813"/>
                  </a:lnTo>
                  <a:lnTo>
                    <a:pt x="3168" y="811"/>
                  </a:lnTo>
                  <a:lnTo>
                    <a:pt x="3156" y="808"/>
                  </a:lnTo>
                  <a:lnTo>
                    <a:pt x="3145" y="804"/>
                  </a:lnTo>
                  <a:lnTo>
                    <a:pt x="3122" y="794"/>
                  </a:lnTo>
                  <a:lnTo>
                    <a:pt x="3100" y="784"/>
                  </a:lnTo>
                  <a:lnTo>
                    <a:pt x="3079" y="771"/>
                  </a:lnTo>
                  <a:lnTo>
                    <a:pt x="3058" y="758"/>
                  </a:lnTo>
                  <a:lnTo>
                    <a:pt x="3016" y="730"/>
                  </a:lnTo>
                  <a:lnTo>
                    <a:pt x="2972" y="702"/>
                  </a:lnTo>
                  <a:lnTo>
                    <a:pt x="2947" y="688"/>
                  </a:lnTo>
                  <a:lnTo>
                    <a:pt x="2923" y="675"/>
                  </a:lnTo>
                  <a:lnTo>
                    <a:pt x="2896" y="665"/>
                  </a:lnTo>
                  <a:lnTo>
                    <a:pt x="2867" y="654"/>
                  </a:lnTo>
                  <a:lnTo>
                    <a:pt x="2851" y="650"/>
                  </a:lnTo>
                  <a:lnTo>
                    <a:pt x="2836" y="646"/>
                  </a:lnTo>
                  <a:lnTo>
                    <a:pt x="2820" y="643"/>
                  </a:lnTo>
                  <a:lnTo>
                    <a:pt x="2802" y="639"/>
                  </a:lnTo>
                  <a:lnTo>
                    <a:pt x="2785" y="637"/>
                  </a:lnTo>
                  <a:lnTo>
                    <a:pt x="2766" y="636"/>
                  </a:lnTo>
                  <a:lnTo>
                    <a:pt x="2747" y="634"/>
                  </a:lnTo>
                  <a:lnTo>
                    <a:pt x="2726" y="634"/>
                  </a:lnTo>
                  <a:lnTo>
                    <a:pt x="2759" y="47"/>
                  </a:lnTo>
                  <a:lnTo>
                    <a:pt x="1857" y="0"/>
                  </a:lnTo>
                  <a:lnTo>
                    <a:pt x="1399" y="1533"/>
                  </a:lnTo>
                  <a:lnTo>
                    <a:pt x="8" y="1501"/>
                  </a:lnTo>
                  <a:lnTo>
                    <a:pt x="0" y="1668"/>
                  </a:lnTo>
                  <a:lnTo>
                    <a:pt x="503" y="2350"/>
                  </a:lnTo>
                  <a:lnTo>
                    <a:pt x="472" y="2566"/>
                  </a:lnTo>
                  <a:lnTo>
                    <a:pt x="904" y="3030"/>
                  </a:lnTo>
                  <a:lnTo>
                    <a:pt x="1091" y="2938"/>
                  </a:lnTo>
                  <a:lnTo>
                    <a:pt x="1307" y="2598"/>
                  </a:lnTo>
                  <a:lnTo>
                    <a:pt x="1318" y="2597"/>
                  </a:lnTo>
                  <a:lnTo>
                    <a:pt x="1348" y="2593"/>
                  </a:lnTo>
                  <a:lnTo>
                    <a:pt x="1392" y="2589"/>
                  </a:lnTo>
                  <a:lnTo>
                    <a:pt x="1446" y="2583"/>
                  </a:lnTo>
                  <a:lnTo>
                    <a:pt x="1507" y="2577"/>
                  </a:lnTo>
                  <a:lnTo>
                    <a:pt x="1569" y="2572"/>
                  </a:lnTo>
                  <a:lnTo>
                    <a:pt x="1627" y="2568"/>
                  </a:lnTo>
                  <a:lnTo>
                    <a:pt x="1679" y="2566"/>
                  </a:lnTo>
                  <a:lnTo>
                    <a:pt x="1725" y="2568"/>
                  </a:lnTo>
                  <a:lnTo>
                    <a:pt x="1773" y="2570"/>
                  </a:lnTo>
                  <a:lnTo>
                    <a:pt x="1798" y="2572"/>
                  </a:lnTo>
                  <a:lnTo>
                    <a:pt x="1821" y="2577"/>
                  </a:lnTo>
                  <a:lnTo>
                    <a:pt x="1844" y="2582"/>
                  </a:lnTo>
                  <a:lnTo>
                    <a:pt x="1867" y="2590"/>
                  </a:lnTo>
                  <a:lnTo>
                    <a:pt x="1877" y="2594"/>
                  </a:lnTo>
                  <a:lnTo>
                    <a:pt x="1888" y="2599"/>
                  </a:lnTo>
                  <a:lnTo>
                    <a:pt x="1897" y="2605"/>
                  </a:lnTo>
                  <a:lnTo>
                    <a:pt x="1907" y="2612"/>
                  </a:lnTo>
                  <a:lnTo>
                    <a:pt x="1917" y="2619"/>
                  </a:lnTo>
                  <a:lnTo>
                    <a:pt x="1925" y="2627"/>
                  </a:lnTo>
                  <a:lnTo>
                    <a:pt x="1934" y="2635"/>
                  </a:lnTo>
                  <a:lnTo>
                    <a:pt x="1943" y="2645"/>
                  </a:lnTo>
                  <a:lnTo>
                    <a:pt x="1950" y="2655"/>
                  </a:lnTo>
                  <a:lnTo>
                    <a:pt x="1957" y="2666"/>
                  </a:lnTo>
                  <a:lnTo>
                    <a:pt x="1964" y="2677"/>
                  </a:lnTo>
                  <a:lnTo>
                    <a:pt x="1969" y="2690"/>
                  </a:lnTo>
                  <a:lnTo>
                    <a:pt x="1974" y="2704"/>
                  </a:lnTo>
                  <a:lnTo>
                    <a:pt x="1980" y="2718"/>
                  </a:lnTo>
                  <a:lnTo>
                    <a:pt x="1983" y="2735"/>
                  </a:lnTo>
                  <a:lnTo>
                    <a:pt x="1987" y="2751"/>
                  </a:lnTo>
                  <a:lnTo>
                    <a:pt x="1993" y="2788"/>
                  </a:lnTo>
                  <a:lnTo>
                    <a:pt x="1997" y="2830"/>
                  </a:lnTo>
                  <a:lnTo>
                    <a:pt x="2004" y="2876"/>
                  </a:lnTo>
                  <a:lnTo>
                    <a:pt x="2011" y="2926"/>
                  </a:lnTo>
                  <a:lnTo>
                    <a:pt x="2021" y="2977"/>
                  </a:lnTo>
                  <a:lnTo>
                    <a:pt x="2034" y="3032"/>
                  </a:lnTo>
                  <a:lnTo>
                    <a:pt x="2041" y="3060"/>
                  </a:lnTo>
                  <a:lnTo>
                    <a:pt x="2049" y="3088"/>
                  </a:lnTo>
                  <a:lnTo>
                    <a:pt x="2058" y="3116"/>
                  </a:lnTo>
                  <a:lnTo>
                    <a:pt x="2069" y="3146"/>
                  </a:lnTo>
                  <a:lnTo>
                    <a:pt x="2080" y="3175"/>
                  </a:lnTo>
                  <a:lnTo>
                    <a:pt x="2092" y="3204"/>
                  </a:lnTo>
                  <a:lnTo>
                    <a:pt x="2107" y="3233"/>
                  </a:lnTo>
                  <a:lnTo>
                    <a:pt x="2122" y="3263"/>
                  </a:lnTo>
                  <a:lnTo>
                    <a:pt x="2139" y="3292"/>
                  </a:lnTo>
                  <a:lnTo>
                    <a:pt x="2157" y="3321"/>
                  </a:lnTo>
                  <a:lnTo>
                    <a:pt x="2178" y="3349"/>
                  </a:lnTo>
                  <a:lnTo>
                    <a:pt x="2201" y="3377"/>
                  </a:lnTo>
                  <a:lnTo>
                    <a:pt x="2224" y="3405"/>
                  </a:lnTo>
                  <a:lnTo>
                    <a:pt x="2250" y="3433"/>
                  </a:lnTo>
                  <a:lnTo>
                    <a:pt x="2278" y="3460"/>
                  </a:lnTo>
                  <a:lnTo>
                    <a:pt x="2308" y="3487"/>
                  </a:lnTo>
                  <a:lnTo>
                    <a:pt x="2340" y="3512"/>
                  </a:lnTo>
                  <a:lnTo>
                    <a:pt x="2375" y="3538"/>
                  </a:lnTo>
                  <a:lnTo>
                    <a:pt x="2411" y="3563"/>
                  </a:lnTo>
                  <a:lnTo>
                    <a:pt x="2451" y="3586"/>
                  </a:lnTo>
                  <a:lnTo>
                    <a:pt x="2606" y="4050"/>
                  </a:lnTo>
                  <a:lnTo>
                    <a:pt x="3099" y="4545"/>
                  </a:lnTo>
                  <a:lnTo>
                    <a:pt x="3563" y="4545"/>
                  </a:lnTo>
                  <a:lnTo>
                    <a:pt x="3562" y="4528"/>
                  </a:lnTo>
                  <a:lnTo>
                    <a:pt x="3562" y="4478"/>
                  </a:lnTo>
                  <a:lnTo>
                    <a:pt x="3560" y="4406"/>
                  </a:lnTo>
                  <a:lnTo>
                    <a:pt x="3558" y="4316"/>
                  </a:lnTo>
                  <a:lnTo>
                    <a:pt x="3555" y="4217"/>
                  </a:lnTo>
                  <a:lnTo>
                    <a:pt x="3549" y="4114"/>
                  </a:lnTo>
                  <a:lnTo>
                    <a:pt x="3545" y="4064"/>
                  </a:lnTo>
                  <a:lnTo>
                    <a:pt x="3541" y="4015"/>
                  </a:lnTo>
                  <a:lnTo>
                    <a:pt x="3536" y="3969"/>
                  </a:lnTo>
                  <a:lnTo>
                    <a:pt x="3530" y="3926"/>
                  </a:lnTo>
                  <a:lnTo>
                    <a:pt x="3529" y="3905"/>
                  </a:lnTo>
                  <a:lnTo>
                    <a:pt x="3530" y="3883"/>
                  </a:lnTo>
                  <a:lnTo>
                    <a:pt x="3534" y="3861"/>
                  </a:lnTo>
                  <a:lnTo>
                    <a:pt x="3538" y="3836"/>
                  </a:lnTo>
                  <a:lnTo>
                    <a:pt x="3546" y="3811"/>
                  </a:lnTo>
                  <a:lnTo>
                    <a:pt x="3555" y="3786"/>
                  </a:lnTo>
                  <a:lnTo>
                    <a:pt x="3566" y="3759"/>
                  </a:lnTo>
                  <a:lnTo>
                    <a:pt x="3579" y="3732"/>
                  </a:lnTo>
                  <a:lnTo>
                    <a:pt x="3593" y="3705"/>
                  </a:lnTo>
                  <a:lnTo>
                    <a:pt x="3608" y="3677"/>
                  </a:lnTo>
                  <a:lnTo>
                    <a:pt x="3626" y="3649"/>
                  </a:lnTo>
                  <a:lnTo>
                    <a:pt x="3643" y="3621"/>
                  </a:lnTo>
                  <a:lnTo>
                    <a:pt x="3663" y="3593"/>
                  </a:lnTo>
                  <a:lnTo>
                    <a:pt x="3683" y="3565"/>
                  </a:lnTo>
                  <a:lnTo>
                    <a:pt x="3703" y="3537"/>
                  </a:lnTo>
                  <a:lnTo>
                    <a:pt x="3725" y="3509"/>
                  </a:lnTo>
                  <a:lnTo>
                    <a:pt x="3747" y="3482"/>
                  </a:lnTo>
                  <a:lnTo>
                    <a:pt x="3769" y="3455"/>
                  </a:lnTo>
                  <a:lnTo>
                    <a:pt x="3792" y="3430"/>
                  </a:lnTo>
                  <a:lnTo>
                    <a:pt x="3815" y="3404"/>
                  </a:lnTo>
                  <a:lnTo>
                    <a:pt x="3861" y="3355"/>
                  </a:lnTo>
                  <a:lnTo>
                    <a:pt x="3905" y="3310"/>
                  </a:lnTo>
                  <a:lnTo>
                    <a:pt x="3948" y="3270"/>
                  </a:lnTo>
                  <a:lnTo>
                    <a:pt x="3989" y="3236"/>
                  </a:lnTo>
                  <a:lnTo>
                    <a:pt x="4008" y="3220"/>
                  </a:lnTo>
                  <a:lnTo>
                    <a:pt x="4025" y="3206"/>
                  </a:lnTo>
                  <a:lnTo>
                    <a:pt x="4043" y="3196"/>
                  </a:lnTo>
                  <a:lnTo>
                    <a:pt x="4058" y="3185"/>
                  </a:lnTo>
                  <a:lnTo>
                    <a:pt x="4092" y="3167"/>
                  </a:lnTo>
                  <a:lnTo>
                    <a:pt x="4137" y="3145"/>
                  </a:lnTo>
                  <a:lnTo>
                    <a:pt x="4190" y="3119"/>
                  </a:lnTo>
                  <a:lnTo>
                    <a:pt x="4250" y="3092"/>
                  </a:lnTo>
                  <a:lnTo>
                    <a:pt x="4313" y="3063"/>
                  </a:lnTo>
                  <a:lnTo>
                    <a:pt x="4379" y="3034"/>
                  </a:lnTo>
                  <a:lnTo>
                    <a:pt x="4446" y="3002"/>
                  </a:lnTo>
                  <a:lnTo>
                    <a:pt x="4511" y="2970"/>
                  </a:lnTo>
                  <a:lnTo>
                    <a:pt x="4574" y="2939"/>
                  </a:lnTo>
                  <a:lnTo>
                    <a:pt x="4632" y="2907"/>
                  </a:lnTo>
                  <a:lnTo>
                    <a:pt x="4658" y="2892"/>
                  </a:lnTo>
                  <a:lnTo>
                    <a:pt x="4683" y="2877"/>
                  </a:lnTo>
                  <a:lnTo>
                    <a:pt x="4705" y="2863"/>
                  </a:lnTo>
                  <a:lnTo>
                    <a:pt x="4725" y="2848"/>
                  </a:lnTo>
                  <a:lnTo>
                    <a:pt x="4741" y="2834"/>
                  </a:lnTo>
                  <a:lnTo>
                    <a:pt x="4757" y="2821"/>
                  </a:lnTo>
                  <a:lnTo>
                    <a:pt x="4767" y="2807"/>
                  </a:lnTo>
                  <a:lnTo>
                    <a:pt x="4775" y="2795"/>
                  </a:lnTo>
                  <a:lnTo>
                    <a:pt x="4780" y="2782"/>
                  </a:lnTo>
                  <a:lnTo>
                    <a:pt x="4780" y="2772"/>
                  </a:lnTo>
                  <a:lnTo>
                    <a:pt x="4776" y="2761"/>
                  </a:lnTo>
                  <a:lnTo>
                    <a:pt x="4769" y="2751"/>
                  </a:lnTo>
                  <a:lnTo>
                    <a:pt x="4741" y="2725"/>
                  </a:lnTo>
                  <a:lnTo>
                    <a:pt x="4718" y="2699"/>
                  </a:lnTo>
                  <a:lnTo>
                    <a:pt x="4698" y="2676"/>
                  </a:lnTo>
                  <a:lnTo>
                    <a:pt x="4682" y="2654"/>
                  </a:lnTo>
                  <a:lnTo>
                    <a:pt x="4669" y="2633"/>
                  </a:lnTo>
                  <a:lnTo>
                    <a:pt x="4658" y="2613"/>
                  </a:lnTo>
                  <a:lnTo>
                    <a:pt x="4651" y="2594"/>
                  </a:lnTo>
                  <a:lnTo>
                    <a:pt x="4647" y="2578"/>
                  </a:lnTo>
                  <a:lnTo>
                    <a:pt x="4644" y="2562"/>
                  </a:lnTo>
                  <a:lnTo>
                    <a:pt x="4644" y="2548"/>
                  </a:lnTo>
                  <a:lnTo>
                    <a:pt x="4648" y="2536"/>
                  </a:lnTo>
                  <a:lnTo>
                    <a:pt x="4653" y="2524"/>
                  </a:lnTo>
                  <a:lnTo>
                    <a:pt x="4660" y="2515"/>
                  </a:lnTo>
                  <a:lnTo>
                    <a:pt x="4669" y="2508"/>
                  </a:lnTo>
                  <a:lnTo>
                    <a:pt x="4679" y="2501"/>
                  </a:lnTo>
                  <a:lnTo>
                    <a:pt x="4691" y="2497"/>
                  </a:lnTo>
                  <a:lnTo>
                    <a:pt x="4705" y="2495"/>
                  </a:lnTo>
                  <a:lnTo>
                    <a:pt x="4720" y="2494"/>
                  </a:lnTo>
                  <a:lnTo>
                    <a:pt x="4736" y="2495"/>
                  </a:lnTo>
                  <a:lnTo>
                    <a:pt x="4753" y="2497"/>
                  </a:lnTo>
                  <a:lnTo>
                    <a:pt x="4771" y="2502"/>
                  </a:lnTo>
                  <a:lnTo>
                    <a:pt x="4789" y="2509"/>
                  </a:lnTo>
                  <a:lnTo>
                    <a:pt x="4809" y="2518"/>
                  </a:lnTo>
                  <a:lnTo>
                    <a:pt x="4829" y="2529"/>
                  </a:lnTo>
                  <a:lnTo>
                    <a:pt x="4849" y="2542"/>
                  </a:lnTo>
                  <a:lnTo>
                    <a:pt x="4869" y="2556"/>
                  </a:lnTo>
                  <a:lnTo>
                    <a:pt x="4890" y="2573"/>
                  </a:lnTo>
                  <a:lnTo>
                    <a:pt x="4910" y="2592"/>
                  </a:lnTo>
                  <a:lnTo>
                    <a:pt x="4929" y="2613"/>
                  </a:lnTo>
                  <a:lnTo>
                    <a:pt x="4948" y="2636"/>
                  </a:lnTo>
                  <a:lnTo>
                    <a:pt x="4967" y="2662"/>
                  </a:lnTo>
                  <a:lnTo>
                    <a:pt x="4985" y="2690"/>
                  </a:lnTo>
                  <a:lnTo>
                    <a:pt x="5200" y="25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158"/>
            <p:cNvSpPr/>
            <p:nvPr/>
          </p:nvSpPr>
          <p:spPr>
            <a:xfrm>
              <a:off x="6864120" y="4243320"/>
              <a:ext cx="785520" cy="74232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5200" h="4545">
                  <a:moveTo>
                    <a:pt x="5200" y="2503"/>
                  </a:moveTo>
                  <a:lnTo>
                    <a:pt x="5184" y="1809"/>
                  </a:lnTo>
                  <a:lnTo>
                    <a:pt x="5164" y="1787"/>
                  </a:lnTo>
                  <a:lnTo>
                    <a:pt x="5146" y="1764"/>
                  </a:lnTo>
                  <a:lnTo>
                    <a:pt x="5136" y="1752"/>
                  </a:lnTo>
                  <a:lnTo>
                    <a:pt x="5128" y="1739"/>
                  </a:lnTo>
                  <a:lnTo>
                    <a:pt x="5120" y="1725"/>
                  </a:lnTo>
                  <a:lnTo>
                    <a:pt x="5112" y="1711"/>
                  </a:lnTo>
                  <a:lnTo>
                    <a:pt x="5103" y="1696"/>
                  </a:lnTo>
                  <a:lnTo>
                    <a:pt x="5096" y="1680"/>
                  </a:lnTo>
                  <a:lnTo>
                    <a:pt x="5089" y="1663"/>
                  </a:lnTo>
                  <a:lnTo>
                    <a:pt x="5082" y="1646"/>
                  </a:lnTo>
                  <a:lnTo>
                    <a:pt x="5071" y="1610"/>
                  </a:lnTo>
                  <a:lnTo>
                    <a:pt x="5059" y="1569"/>
                  </a:lnTo>
                  <a:lnTo>
                    <a:pt x="5050" y="1524"/>
                  </a:lnTo>
                  <a:lnTo>
                    <a:pt x="5040" y="1477"/>
                  </a:lnTo>
                  <a:lnTo>
                    <a:pt x="5033" y="1423"/>
                  </a:lnTo>
                  <a:lnTo>
                    <a:pt x="5028" y="1366"/>
                  </a:lnTo>
                  <a:lnTo>
                    <a:pt x="5023" y="1304"/>
                  </a:lnTo>
                  <a:lnTo>
                    <a:pt x="5019" y="1237"/>
                  </a:lnTo>
                  <a:lnTo>
                    <a:pt x="5017" y="1165"/>
                  </a:lnTo>
                  <a:lnTo>
                    <a:pt x="5017" y="1086"/>
                  </a:lnTo>
                  <a:lnTo>
                    <a:pt x="5004" y="1076"/>
                  </a:lnTo>
                  <a:lnTo>
                    <a:pt x="4988" y="1064"/>
                  </a:lnTo>
                  <a:lnTo>
                    <a:pt x="4969" y="1053"/>
                  </a:lnTo>
                  <a:lnTo>
                    <a:pt x="4947" y="1039"/>
                  </a:lnTo>
                  <a:lnTo>
                    <a:pt x="4922" y="1026"/>
                  </a:lnTo>
                  <a:lnTo>
                    <a:pt x="4896" y="1010"/>
                  </a:lnTo>
                  <a:lnTo>
                    <a:pt x="4866" y="996"/>
                  </a:lnTo>
                  <a:lnTo>
                    <a:pt x="4836" y="981"/>
                  </a:lnTo>
                  <a:lnTo>
                    <a:pt x="4769" y="951"/>
                  </a:lnTo>
                  <a:lnTo>
                    <a:pt x="4698" y="921"/>
                  </a:lnTo>
                  <a:lnTo>
                    <a:pt x="4623" y="891"/>
                  </a:lnTo>
                  <a:lnTo>
                    <a:pt x="4547" y="864"/>
                  </a:lnTo>
                  <a:lnTo>
                    <a:pt x="4509" y="852"/>
                  </a:lnTo>
                  <a:lnTo>
                    <a:pt x="4472" y="840"/>
                  </a:lnTo>
                  <a:lnTo>
                    <a:pt x="4434" y="828"/>
                  </a:lnTo>
                  <a:lnTo>
                    <a:pt x="4398" y="819"/>
                  </a:lnTo>
                  <a:lnTo>
                    <a:pt x="4363" y="810"/>
                  </a:lnTo>
                  <a:lnTo>
                    <a:pt x="4329" y="803"/>
                  </a:lnTo>
                  <a:lnTo>
                    <a:pt x="4296" y="797"/>
                  </a:lnTo>
                  <a:lnTo>
                    <a:pt x="4265" y="792"/>
                  </a:lnTo>
                  <a:lnTo>
                    <a:pt x="4236" y="789"/>
                  </a:lnTo>
                  <a:lnTo>
                    <a:pt x="4209" y="787"/>
                  </a:lnTo>
                  <a:lnTo>
                    <a:pt x="4184" y="787"/>
                  </a:lnTo>
                  <a:lnTo>
                    <a:pt x="4162" y="791"/>
                  </a:lnTo>
                  <a:lnTo>
                    <a:pt x="4142" y="794"/>
                  </a:lnTo>
                  <a:lnTo>
                    <a:pt x="4126" y="801"/>
                  </a:lnTo>
                  <a:lnTo>
                    <a:pt x="4113" y="810"/>
                  </a:lnTo>
                  <a:lnTo>
                    <a:pt x="4104" y="821"/>
                  </a:lnTo>
                  <a:lnTo>
                    <a:pt x="4080" y="856"/>
                  </a:lnTo>
                  <a:lnTo>
                    <a:pt x="4059" y="884"/>
                  </a:lnTo>
                  <a:lnTo>
                    <a:pt x="4049" y="896"/>
                  </a:lnTo>
                  <a:lnTo>
                    <a:pt x="4039" y="907"/>
                  </a:lnTo>
                  <a:lnTo>
                    <a:pt x="4031" y="916"/>
                  </a:lnTo>
                  <a:lnTo>
                    <a:pt x="4022" y="923"/>
                  </a:lnTo>
                  <a:lnTo>
                    <a:pt x="4014" y="930"/>
                  </a:lnTo>
                  <a:lnTo>
                    <a:pt x="4007" y="935"/>
                  </a:lnTo>
                  <a:lnTo>
                    <a:pt x="4000" y="939"/>
                  </a:lnTo>
                  <a:lnTo>
                    <a:pt x="3993" y="942"/>
                  </a:lnTo>
                  <a:lnTo>
                    <a:pt x="3986" y="944"/>
                  </a:lnTo>
                  <a:lnTo>
                    <a:pt x="3980" y="945"/>
                  </a:lnTo>
                  <a:lnTo>
                    <a:pt x="3974" y="945"/>
                  </a:lnTo>
                  <a:lnTo>
                    <a:pt x="3968" y="944"/>
                  </a:lnTo>
                  <a:lnTo>
                    <a:pt x="3963" y="943"/>
                  </a:lnTo>
                  <a:lnTo>
                    <a:pt x="3959" y="940"/>
                  </a:lnTo>
                  <a:lnTo>
                    <a:pt x="3954" y="937"/>
                  </a:lnTo>
                  <a:lnTo>
                    <a:pt x="3949" y="933"/>
                  </a:lnTo>
                  <a:lnTo>
                    <a:pt x="3942" y="925"/>
                  </a:lnTo>
                  <a:lnTo>
                    <a:pt x="3937" y="915"/>
                  </a:lnTo>
                  <a:lnTo>
                    <a:pt x="3931" y="903"/>
                  </a:lnTo>
                  <a:lnTo>
                    <a:pt x="3926" y="891"/>
                  </a:lnTo>
                  <a:lnTo>
                    <a:pt x="3922" y="880"/>
                  </a:lnTo>
                  <a:lnTo>
                    <a:pt x="3919" y="868"/>
                  </a:lnTo>
                  <a:lnTo>
                    <a:pt x="3917" y="862"/>
                  </a:lnTo>
                  <a:lnTo>
                    <a:pt x="3913" y="857"/>
                  </a:lnTo>
                  <a:lnTo>
                    <a:pt x="3907" y="854"/>
                  </a:lnTo>
                  <a:lnTo>
                    <a:pt x="3900" y="850"/>
                  </a:lnTo>
                  <a:lnTo>
                    <a:pt x="3893" y="848"/>
                  </a:lnTo>
                  <a:lnTo>
                    <a:pt x="3884" y="847"/>
                  </a:lnTo>
                  <a:lnTo>
                    <a:pt x="3873" y="846"/>
                  </a:lnTo>
                  <a:lnTo>
                    <a:pt x="3862" y="845"/>
                  </a:lnTo>
                  <a:lnTo>
                    <a:pt x="3837" y="845"/>
                  </a:lnTo>
                  <a:lnTo>
                    <a:pt x="3808" y="847"/>
                  </a:lnTo>
                  <a:lnTo>
                    <a:pt x="3778" y="850"/>
                  </a:lnTo>
                  <a:lnTo>
                    <a:pt x="3746" y="854"/>
                  </a:lnTo>
                  <a:lnTo>
                    <a:pt x="3680" y="863"/>
                  </a:lnTo>
                  <a:lnTo>
                    <a:pt x="3615" y="870"/>
                  </a:lnTo>
                  <a:lnTo>
                    <a:pt x="3586" y="873"/>
                  </a:lnTo>
                  <a:lnTo>
                    <a:pt x="3559" y="873"/>
                  </a:lnTo>
                  <a:lnTo>
                    <a:pt x="3546" y="873"/>
                  </a:lnTo>
                  <a:lnTo>
                    <a:pt x="3536" y="871"/>
                  </a:lnTo>
                  <a:lnTo>
                    <a:pt x="3525" y="870"/>
                  </a:lnTo>
                  <a:lnTo>
                    <a:pt x="3516" y="868"/>
                  </a:lnTo>
                  <a:lnTo>
                    <a:pt x="3500" y="861"/>
                  </a:lnTo>
                  <a:lnTo>
                    <a:pt x="3483" y="853"/>
                  </a:lnTo>
                  <a:lnTo>
                    <a:pt x="3467" y="845"/>
                  </a:lnTo>
                  <a:lnTo>
                    <a:pt x="3453" y="835"/>
                  </a:lnTo>
                  <a:lnTo>
                    <a:pt x="3439" y="825"/>
                  </a:lnTo>
                  <a:lnTo>
                    <a:pt x="3426" y="814"/>
                  </a:lnTo>
                  <a:lnTo>
                    <a:pt x="3414" y="804"/>
                  </a:lnTo>
                  <a:lnTo>
                    <a:pt x="3404" y="793"/>
                  </a:lnTo>
                  <a:lnTo>
                    <a:pt x="3372" y="758"/>
                  </a:lnTo>
                  <a:lnTo>
                    <a:pt x="3361" y="743"/>
                  </a:lnTo>
                  <a:lnTo>
                    <a:pt x="3356" y="748"/>
                  </a:lnTo>
                  <a:lnTo>
                    <a:pt x="3344" y="759"/>
                  </a:lnTo>
                  <a:lnTo>
                    <a:pt x="3335" y="766"/>
                  </a:lnTo>
                  <a:lnTo>
                    <a:pt x="3324" y="775"/>
                  </a:lnTo>
                  <a:lnTo>
                    <a:pt x="3313" y="783"/>
                  </a:lnTo>
                  <a:lnTo>
                    <a:pt x="3299" y="791"/>
                  </a:lnTo>
                  <a:lnTo>
                    <a:pt x="3284" y="799"/>
                  </a:lnTo>
                  <a:lnTo>
                    <a:pt x="3267" y="805"/>
                  </a:lnTo>
                  <a:lnTo>
                    <a:pt x="3250" y="811"/>
                  </a:lnTo>
                  <a:lnTo>
                    <a:pt x="3231" y="814"/>
                  </a:lnTo>
                  <a:lnTo>
                    <a:pt x="3220" y="815"/>
                  </a:lnTo>
                  <a:lnTo>
                    <a:pt x="3210" y="815"/>
                  </a:lnTo>
                  <a:lnTo>
                    <a:pt x="3201" y="815"/>
                  </a:lnTo>
                  <a:lnTo>
                    <a:pt x="3189" y="814"/>
                  </a:lnTo>
                  <a:lnTo>
                    <a:pt x="3178" y="813"/>
                  </a:lnTo>
                  <a:lnTo>
                    <a:pt x="3168" y="811"/>
                  </a:lnTo>
                  <a:lnTo>
                    <a:pt x="3156" y="808"/>
                  </a:lnTo>
                  <a:lnTo>
                    <a:pt x="3145" y="804"/>
                  </a:lnTo>
                  <a:lnTo>
                    <a:pt x="3122" y="794"/>
                  </a:lnTo>
                  <a:lnTo>
                    <a:pt x="3100" y="784"/>
                  </a:lnTo>
                  <a:lnTo>
                    <a:pt x="3079" y="771"/>
                  </a:lnTo>
                  <a:lnTo>
                    <a:pt x="3058" y="758"/>
                  </a:lnTo>
                  <a:lnTo>
                    <a:pt x="3016" y="730"/>
                  </a:lnTo>
                  <a:lnTo>
                    <a:pt x="2972" y="702"/>
                  </a:lnTo>
                  <a:lnTo>
                    <a:pt x="2947" y="688"/>
                  </a:lnTo>
                  <a:lnTo>
                    <a:pt x="2923" y="675"/>
                  </a:lnTo>
                  <a:lnTo>
                    <a:pt x="2896" y="665"/>
                  </a:lnTo>
                  <a:lnTo>
                    <a:pt x="2867" y="654"/>
                  </a:lnTo>
                  <a:lnTo>
                    <a:pt x="2851" y="650"/>
                  </a:lnTo>
                  <a:lnTo>
                    <a:pt x="2836" y="646"/>
                  </a:lnTo>
                  <a:lnTo>
                    <a:pt x="2820" y="643"/>
                  </a:lnTo>
                  <a:lnTo>
                    <a:pt x="2802" y="639"/>
                  </a:lnTo>
                  <a:lnTo>
                    <a:pt x="2785" y="637"/>
                  </a:lnTo>
                  <a:lnTo>
                    <a:pt x="2766" y="636"/>
                  </a:lnTo>
                  <a:lnTo>
                    <a:pt x="2747" y="634"/>
                  </a:lnTo>
                  <a:lnTo>
                    <a:pt x="2726" y="634"/>
                  </a:lnTo>
                  <a:lnTo>
                    <a:pt x="2759" y="47"/>
                  </a:lnTo>
                  <a:lnTo>
                    <a:pt x="1857" y="0"/>
                  </a:lnTo>
                  <a:lnTo>
                    <a:pt x="1399" y="1533"/>
                  </a:lnTo>
                  <a:lnTo>
                    <a:pt x="8" y="1501"/>
                  </a:lnTo>
                  <a:lnTo>
                    <a:pt x="0" y="1668"/>
                  </a:lnTo>
                  <a:lnTo>
                    <a:pt x="0" y="1668"/>
                  </a:lnTo>
                  <a:lnTo>
                    <a:pt x="503" y="2350"/>
                  </a:lnTo>
                  <a:lnTo>
                    <a:pt x="472" y="2566"/>
                  </a:lnTo>
                  <a:lnTo>
                    <a:pt x="904" y="3030"/>
                  </a:lnTo>
                  <a:lnTo>
                    <a:pt x="1091" y="2938"/>
                  </a:lnTo>
                  <a:lnTo>
                    <a:pt x="1307" y="2598"/>
                  </a:lnTo>
                  <a:lnTo>
                    <a:pt x="1318" y="2597"/>
                  </a:lnTo>
                  <a:lnTo>
                    <a:pt x="1348" y="2593"/>
                  </a:lnTo>
                  <a:lnTo>
                    <a:pt x="1392" y="2589"/>
                  </a:lnTo>
                  <a:lnTo>
                    <a:pt x="1446" y="2583"/>
                  </a:lnTo>
                  <a:lnTo>
                    <a:pt x="1507" y="2577"/>
                  </a:lnTo>
                  <a:lnTo>
                    <a:pt x="1569" y="2572"/>
                  </a:lnTo>
                  <a:lnTo>
                    <a:pt x="1627" y="2568"/>
                  </a:lnTo>
                  <a:lnTo>
                    <a:pt x="1679" y="2566"/>
                  </a:lnTo>
                  <a:lnTo>
                    <a:pt x="1725" y="2568"/>
                  </a:lnTo>
                  <a:lnTo>
                    <a:pt x="1773" y="2570"/>
                  </a:lnTo>
                  <a:lnTo>
                    <a:pt x="1798" y="2572"/>
                  </a:lnTo>
                  <a:lnTo>
                    <a:pt x="1821" y="2577"/>
                  </a:lnTo>
                  <a:lnTo>
                    <a:pt x="1844" y="2582"/>
                  </a:lnTo>
                  <a:lnTo>
                    <a:pt x="1867" y="2590"/>
                  </a:lnTo>
                  <a:lnTo>
                    <a:pt x="1877" y="2594"/>
                  </a:lnTo>
                  <a:lnTo>
                    <a:pt x="1888" y="2599"/>
                  </a:lnTo>
                  <a:lnTo>
                    <a:pt x="1897" y="2605"/>
                  </a:lnTo>
                  <a:lnTo>
                    <a:pt x="1907" y="2612"/>
                  </a:lnTo>
                  <a:lnTo>
                    <a:pt x="1917" y="2619"/>
                  </a:lnTo>
                  <a:lnTo>
                    <a:pt x="1925" y="2627"/>
                  </a:lnTo>
                  <a:lnTo>
                    <a:pt x="1934" y="2635"/>
                  </a:lnTo>
                  <a:lnTo>
                    <a:pt x="1943" y="2645"/>
                  </a:lnTo>
                  <a:lnTo>
                    <a:pt x="1950" y="2655"/>
                  </a:lnTo>
                  <a:lnTo>
                    <a:pt x="1957" y="2666"/>
                  </a:lnTo>
                  <a:lnTo>
                    <a:pt x="1964" y="2677"/>
                  </a:lnTo>
                  <a:lnTo>
                    <a:pt x="1969" y="2690"/>
                  </a:lnTo>
                  <a:lnTo>
                    <a:pt x="1974" y="2704"/>
                  </a:lnTo>
                  <a:lnTo>
                    <a:pt x="1980" y="2718"/>
                  </a:lnTo>
                  <a:lnTo>
                    <a:pt x="1983" y="2735"/>
                  </a:lnTo>
                  <a:lnTo>
                    <a:pt x="1987" y="2751"/>
                  </a:lnTo>
                  <a:lnTo>
                    <a:pt x="1993" y="2788"/>
                  </a:lnTo>
                  <a:lnTo>
                    <a:pt x="1997" y="2830"/>
                  </a:lnTo>
                  <a:lnTo>
                    <a:pt x="2004" y="2876"/>
                  </a:lnTo>
                  <a:lnTo>
                    <a:pt x="2011" y="2926"/>
                  </a:lnTo>
                  <a:lnTo>
                    <a:pt x="2021" y="2977"/>
                  </a:lnTo>
                  <a:lnTo>
                    <a:pt x="2034" y="3032"/>
                  </a:lnTo>
                  <a:lnTo>
                    <a:pt x="2041" y="3060"/>
                  </a:lnTo>
                  <a:lnTo>
                    <a:pt x="2049" y="3088"/>
                  </a:lnTo>
                  <a:lnTo>
                    <a:pt x="2058" y="3116"/>
                  </a:lnTo>
                  <a:lnTo>
                    <a:pt x="2069" y="3146"/>
                  </a:lnTo>
                  <a:lnTo>
                    <a:pt x="2080" y="3175"/>
                  </a:lnTo>
                  <a:lnTo>
                    <a:pt x="2092" y="3204"/>
                  </a:lnTo>
                  <a:lnTo>
                    <a:pt x="2107" y="3233"/>
                  </a:lnTo>
                  <a:lnTo>
                    <a:pt x="2122" y="3263"/>
                  </a:lnTo>
                  <a:lnTo>
                    <a:pt x="2139" y="3292"/>
                  </a:lnTo>
                  <a:lnTo>
                    <a:pt x="2157" y="3321"/>
                  </a:lnTo>
                  <a:lnTo>
                    <a:pt x="2178" y="3349"/>
                  </a:lnTo>
                  <a:lnTo>
                    <a:pt x="2201" y="3377"/>
                  </a:lnTo>
                  <a:lnTo>
                    <a:pt x="2224" y="3405"/>
                  </a:lnTo>
                  <a:lnTo>
                    <a:pt x="2250" y="3433"/>
                  </a:lnTo>
                  <a:lnTo>
                    <a:pt x="2278" y="3460"/>
                  </a:lnTo>
                  <a:lnTo>
                    <a:pt x="2308" y="3487"/>
                  </a:lnTo>
                  <a:lnTo>
                    <a:pt x="2340" y="3512"/>
                  </a:lnTo>
                  <a:lnTo>
                    <a:pt x="2375" y="3538"/>
                  </a:lnTo>
                  <a:lnTo>
                    <a:pt x="2411" y="3563"/>
                  </a:lnTo>
                  <a:lnTo>
                    <a:pt x="2451" y="3586"/>
                  </a:lnTo>
                  <a:lnTo>
                    <a:pt x="2606" y="4050"/>
                  </a:lnTo>
                  <a:lnTo>
                    <a:pt x="3099" y="4545"/>
                  </a:lnTo>
                  <a:lnTo>
                    <a:pt x="3563" y="4545"/>
                  </a:lnTo>
                  <a:lnTo>
                    <a:pt x="3562" y="4528"/>
                  </a:lnTo>
                  <a:lnTo>
                    <a:pt x="3562" y="4478"/>
                  </a:lnTo>
                  <a:lnTo>
                    <a:pt x="3560" y="4406"/>
                  </a:lnTo>
                  <a:lnTo>
                    <a:pt x="3558" y="4316"/>
                  </a:lnTo>
                  <a:lnTo>
                    <a:pt x="3555" y="4217"/>
                  </a:lnTo>
                  <a:lnTo>
                    <a:pt x="3549" y="4114"/>
                  </a:lnTo>
                  <a:lnTo>
                    <a:pt x="3545" y="4064"/>
                  </a:lnTo>
                  <a:lnTo>
                    <a:pt x="3541" y="4015"/>
                  </a:lnTo>
                  <a:lnTo>
                    <a:pt x="3536" y="3969"/>
                  </a:lnTo>
                  <a:lnTo>
                    <a:pt x="3530" y="3926"/>
                  </a:lnTo>
                  <a:lnTo>
                    <a:pt x="3529" y="3905"/>
                  </a:lnTo>
                  <a:lnTo>
                    <a:pt x="3530" y="3883"/>
                  </a:lnTo>
                  <a:lnTo>
                    <a:pt x="3534" y="3861"/>
                  </a:lnTo>
                  <a:lnTo>
                    <a:pt x="3538" y="3836"/>
                  </a:lnTo>
                  <a:lnTo>
                    <a:pt x="3546" y="3811"/>
                  </a:lnTo>
                  <a:lnTo>
                    <a:pt x="3555" y="3786"/>
                  </a:lnTo>
                  <a:lnTo>
                    <a:pt x="3566" y="3759"/>
                  </a:lnTo>
                  <a:lnTo>
                    <a:pt x="3579" y="3732"/>
                  </a:lnTo>
                  <a:lnTo>
                    <a:pt x="3593" y="3705"/>
                  </a:lnTo>
                  <a:lnTo>
                    <a:pt x="3608" y="3677"/>
                  </a:lnTo>
                  <a:lnTo>
                    <a:pt x="3626" y="3649"/>
                  </a:lnTo>
                  <a:lnTo>
                    <a:pt x="3643" y="3621"/>
                  </a:lnTo>
                  <a:lnTo>
                    <a:pt x="3663" y="3593"/>
                  </a:lnTo>
                  <a:lnTo>
                    <a:pt x="3683" y="3565"/>
                  </a:lnTo>
                  <a:lnTo>
                    <a:pt x="3703" y="3537"/>
                  </a:lnTo>
                  <a:lnTo>
                    <a:pt x="3725" y="3509"/>
                  </a:lnTo>
                  <a:lnTo>
                    <a:pt x="3747" y="3482"/>
                  </a:lnTo>
                  <a:lnTo>
                    <a:pt x="3769" y="3455"/>
                  </a:lnTo>
                  <a:lnTo>
                    <a:pt x="3792" y="3430"/>
                  </a:lnTo>
                  <a:lnTo>
                    <a:pt x="3815" y="3404"/>
                  </a:lnTo>
                  <a:lnTo>
                    <a:pt x="3861" y="3355"/>
                  </a:lnTo>
                  <a:lnTo>
                    <a:pt x="3905" y="3310"/>
                  </a:lnTo>
                  <a:lnTo>
                    <a:pt x="3948" y="3270"/>
                  </a:lnTo>
                  <a:lnTo>
                    <a:pt x="3989" y="3236"/>
                  </a:lnTo>
                  <a:lnTo>
                    <a:pt x="4008" y="3220"/>
                  </a:lnTo>
                  <a:lnTo>
                    <a:pt x="4025" y="3206"/>
                  </a:lnTo>
                  <a:lnTo>
                    <a:pt x="4043" y="3196"/>
                  </a:lnTo>
                  <a:lnTo>
                    <a:pt x="4058" y="3185"/>
                  </a:lnTo>
                  <a:lnTo>
                    <a:pt x="4092" y="3167"/>
                  </a:lnTo>
                  <a:lnTo>
                    <a:pt x="4137" y="3145"/>
                  </a:lnTo>
                  <a:lnTo>
                    <a:pt x="4190" y="3119"/>
                  </a:lnTo>
                  <a:lnTo>
                    <a:pt x="4250" y="3092"/>
                  </a:lnTo>
                  <a:lnTo>
                    <a:pt x="4313" y="3063"/>
                  </a:lnTo>
                  <a:lnTo>
                    <a:pt x="4379" y="3034"/>
                  </a:lnTo>
                  <a:lnTo>
                    <a:pt x="4446" y="3002"/>
                  </a:lnTo>
                  <a:lnTo>
                    <a:pt x="4511" y="2970"/>
                  </a:lnTo>
                  <a:lnTo>
                    <a:pt x="4574" y="2939"/>
                  </a:lnTo>
                  <a:lnTo>
                    <a:pt x="4632" y="2907"/>
                  </a:lnTo>
                  <a:lnTo>
                    <a:pt x="4658" y="2892"/>
                  </a:lnTo>
                  <a:lnTo>
                    <a:pt x="4683" y="2877"/>
                  </a:lnTo>
                  <a:lnTo>
                    <a:pt x="4705" y="2863"/>
                  </a:lnTo>
                  <a:lnTo>
                    <a:pt x="4725" y="2848"/>
                  </a:lnTo>
                  <a:lnTo>
                    <a:pt x="4741" y="2834"/>
                  </a:lnTo>
                  <a:lnTo>
                    <a:pt x="4757" y="2821"/>
                  </a:lnTo>
                  <a:lnTo>
                    <a:pt x="4767" y="2807"/>
                  </a:lnTo>
                  <a:lnTo>
                    <a:pt x="4775" y="2795"/>
                  </a:lnTo>
                  <a:lnTo>
                    <a:pt x="4780" y="2782"/>
                  </a:lnTo>
                  <a:lnTo>
                    <a:pt x="4780" y="2772"/>
                  </a:lnTo>
                  <a:lnTo>
                    <a:pt x="4776" y="2761"/>
                  </a:lnTo>
                  <a:lnTo>
                    <a:pt x="4769" y="2751"/>
                  </a:lnTo>
                  <a:lnTo>
                    <a:pt x="4741" y="2725"/>
                  </a:lnTo>
                  <a:lnTo>
                    <a:pt x="4718" y="2699"/>
                  </a:lnTo>
                  <a:lnTo>
                    <a:pt x="4698" y="2676"/>
                  </a:lnTo>
                  <a:lnTo>
                    <a:pt x="4682" y="2654"/>
                  </a:lnTo>
                  <a:lnTo>
                    <a:pt x="4669" y="2633"/>
                  </a:lnTo>
                  <a:lnTo>
                    <a:pt x="4658" y="2613"/>
                  </a:lnTo>
                  <a:lnTo>
                    <a:pt x="4651" y="2594"/>
                  </a:lnTo>
                  <a:lnTo>
                    <a:pt x="4647" y="2578"/>
                  </a:lnTo>
                  <a:lnTo>
                    <a:pt x="4644" y="2562"/>
                  </a:lnTo>
                  <a:lnTo>
                    <a:pt x="4644" y="2548"/>
                  </a:lnTo>
                  <a:lnTo>
                    <a:pt x="4648" y="2536"/>
                  </a:lnTo>
                  <a:lnTo>
                    <a:pt x="4653" y="2524"/>
                  </a:lnTo>
                  <a:lnTo>
                    <a:pt x="4660" y="2515"/>
                  </a:lnTo>
                  <a:lnTo>
                    <a:pt x="4669" y="2508"/>
                  </a:lnTo>
                  <a:lnTo>
                    <a:pt x="4679" y="2501"/>
                  </a:lnTo>
                  <a:lnTo>
                    <a:pt x="4691" y="2497"/>
                  </a:lnTo>
                  <a:lnTo>
                    <a:pt x="4705" y="2495"/>
                  </a:lnTo>
                  <a:lnTo>
                    <a:pt x="4720" y="2494"/>
                  </a:lnTo>
                  <a:lnTo>
                    <a:pt x="4736" y="2495"/>
                  </a:lnTo>
                  <a:lnTo>
                    <a:pt x="4753" y="2497"/>
                  </a:lnTo>
                  <a:lnTo>
                    <a:pt x="4771" y="2502"/>
                  </a:lnTo>
                  <a:lnTo>
                    <a:pt x="4789" y="2509"/>
                  </a:lnTo>
                  <a:lnTo>
                    <a:pt x="4809" y="2518"/>
                  </a:lnTo>
                  <a:lnTo>
                    <a:pt x="4829" y="2529"/>
                  </a:lnTo>
                  <a:lnTo>
                    <a:pt x="4849" y="2542"/>
                  </a:lnTo>
                  <a:lnTo>
                    <a:pt x="4869" y="2556"/>
                  </a:lnTo>
                  <a:lnTo>
                    <a:pt x="4890" y="2573"/>
                  </a:lnTo>
                  <a:lnTo>
                    <a:pt x="4910" y="2592"/>
                  </a:lnTo>
                  <a:lnTo>
                    <a:pt x="4929" y="2613"/>
                  </a:lnTo>
                  <a:lnTo>
                    <a:pt x="4948" y="2636"/>
                  </a:lnTo>
                  <a:lnTo>
                    <a:pt x="4967" y="2662"/>
                  </a:lnTo>
                  <a:lnTo>
                    <a:pt x="4985" y="2690"/>
                  </a:lnTo>
                  <a:lnTo>
                    <a:pt x="5200" y="25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Freeform 159"/>
            <p:cNvSpPr/>
            <p:nvPr/>
          </p:nvSpPr>
          <p:spPr>
            <a:xfrm>
              <a:off x="7145640" y="4206600"/>
              <a:ext cx="429840" cy="19152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2848" h="1175">
                  <a:moveTo>
                    <a:pt x="2848" y="1152"/>
                  </a:moveTo>
                  <a:lnTo>
                    <a:pt x="2805" y="1135"/>
                  </a:lnTo>
                  <a:lnTo>
                    <a:pt x="2759" y="1118"/>
                  </a:lnTo>
                  <a:lnTo>
                    <a:pt x="2713" y="1101"/>
                  </a:lnTo>
                  <a:lnTo>
                    <a:pt x="2665" y="1085"/>
                  </a:lnTo>
                  <a:lnTo>
                    <a:pt x="2618" y="1070"/>
                  </a:lnTo>
                  <a:lnTo>
                    <a:pt x="2571" y="1056"/>
                  </a:lnTo>
                  <a:lnTo>
                    <a:pt x="2526" y="1044"/>
                  </a:lnTo>
                  <a:lnTo>
                    <a:pt x="2481" y="1034"/>
                  </a:lnTo>
                  <a:lnTo>
                    <a:pt x="2439" y="1026"/>
                  </a:lnTo>
                  <a:lnTo>
                    <a:pt x="2401" y="1020"/>
                  </a:lnTo>
                  <a:lnTo>
                    <a:pt x="2382" y="1017"/>
                  </a:lnTo>
                  <a:lnTo>
                    <a:pt x="2365" y="1016"/>
                  </a:lnTo>
                  <a:lnTo>
                    <a:pt x="2347" y="1016"/>
                  </a:lnTo>
                  <a:lnTo>
                    <a:pt x="2332" y="1016"/>
                  </a:lnTo>
                  <a:lnTo>
                    <a:pt x="2317" y="1017"/>
                  </a:lnTo>
                  <a:lnTo>
                    <a:pt x="2303" y="1020"/>
                  </a:lnTo>
                  <a:lnTo>
                    <a:pt x="2290" y="1022"/>
                  </a:lnTo>
                  <a:lnTo>
                    <a:pt x="2279" y="1027"/>
                  </a:lnTo>
                  <a:lnTo>
                    <a:pt x="2269" y="1031"/>
                  </a:lnTo>
                  <a:lnTo>
                    <a:pt x="2259" y="1037"/>
                  </a:lnTo>
                  <a:lnTo>
                    <a:pt x="2252" y="1043"/>
                  </a:lnTo>
                  <a:lnTo>
                    <a:pt x="2247" y="1051"/>
                  </a:lnTo>
                  <a:lnTo>
                    <a:pt x="2223" y="1086"/>
                  </a:lnTo>
                  <a:lnTo>
                    <a:pt x="2202" y="1114"/>
                  </a:lnTo>
                  <a:lnTo>
                    <a:pt x="2192" y="1126"/>
                  </a:lnTo>
                  <a:lnTo>
                    <a:pt x="2182" y="1137"/>
                  </a:lnTo>
                  <a:lnTo>
                    <a:pt x="2174" y="1146"/>
                  </a:lnTo>
                  <a:lnTo>
                    <a:pt x="2165" y="1153"/>
                  </a:lnTo>
                  <a:lnTo>
                    <a:pt x="2157" y="1160"/>
                  </a:lnTo>
                  <a:lnTo>
                    <a:pt x="2150" y="1165"/>
                  </a:lnTo>
                  <a:lnTo>
                    <a:pt x="2143" y="1169"/>
                  </a:lnTo>
                  <a:lnTo>
                    <a:pt x="2136" y="1172"/>
                  </a:lnTo>
                  <a:lnTo>
                    <a:pt x="2129" y="1174"/>
                  </a:lnTo>
                  <a:lnTo>
                    <a:pt x="2123" y="1175"/>
                  </a:lnTo>
                  <a:lnTo>
                    <a:pt x="2117" y="1175"/>
                  </a:lnTo>
                  <a:lnTo>
                    <a:pt x="2111" y="1174"/>
                  </a:lnTo>
                  <a:lnTo>
                    <a:pt x="2106" y="1173"/>
                  </a:lnTo>
                  <a:lnTo>
                    <a:pt x="2102" y="1170"/>
                  </a:lnTo>
                  <a:lnTo>
                    <a:pt x="2097" y="1167"/>
                  </a:lnTo>
                  <a:lnTo>
                    <a:pt x="2092" y="1163"/>
                  </a:lnTo>
                  <a:lnTo>
                    <a:pt x="2085" y="1155"/>
                  </a:lnTo>
                  <a:lnTo>
                    <a:pt x="2080" y="1145"/>
                  </a:lnTo>
                  <a:lnTo>
                    <a:pt x="2074" y="1133"/>
                  </a:lnTo>
                  <a:lnTo>
                    <a:pt x="2069" y="1121"/>
                  </a:lnTo>
                  <a:lnTo>
                    <a:pt x="2065" y="1110"/>
                  </a:lnTo>
                  <a:lnTo>
                    <a:pt x="2062" y="1098"/>
                  </a:lnTo>
                  <a:lnTo>
                    <a:pt x="2060" y="1092"/>
                  </a:lnTo>
                  <a:lnTo>
                    <a:pt x="2056" y="1087"/>
                  </a:lnTo>
                  <a:lnTo>
                    <a:pt x="2050" y="1084"/>
                  </a:lnTo>
                  <a:lnTo>
                    <a:pt x="2043" y="1080"/>
                  </a:lnTo>
                  <a:lnTo>
                    <a:pt x="2036" y="1078"/>
                  </a:lnTo>
                  <a:lnTo>
                    <a:pt x="2027" y="1077"/>
                  </a:lnTo>
                  <a:lnTo>
                    <a:pt x="2016" y="1076"/>
                  </a:lnTo>
                  <a:lnTo>
                    <a:pt x="2005" y="1075"/>
                  </a:lnTo>
                  <a:lnTo>
                    <a:pt x="1980" y="1075"/>
                  </a:lnTo>
                  <a:lnTo>
                    <a:pt x="1951" y="1077"/>
                  </a:lnTo>
                  <a:lnTo>
                    <a:pt x="1921" y="1080"/>
                  </a:lnTo>
                  <a:lnTo>
                    <a:pt x="1889" y="1084"/>
                  </a:lnTo>
                  <a:lnTo>
                    <a:pt x="1823" y="1093"/>
                  </a:lnTo>
                  <a:lnTo>
                    <a:pt x="1758" y="1100"/>
                  </a:lnTo>
                  <a:lnTo>
                    <a:pt x="1729" y="1103"/>
                  </a:lnTo>
                  <a:lnTo>
                    <a:pt x="1702" y="1103"/>
                  </a:lnTo>
                  <a:lnTo>
                    <a:pt x="1689" y="1103"/>
                  </a:lnTo>
                  <a:lnTo>
                    <a:pt x="1679" y="1101"/>
                  </a:lnTo>
                  <a:lnTo>
                    <a:pt x="1668" y="1100"/>
                  </a:lnTo>
                  <a:lnTo>
                    <a:pt x="1659" y="1098"/>
                  </a:lnTo>
                  <a:lnTo>
                    <a:pt x="1643" y="1091"/>
                  </a:lnTo>
                  <a:lnTo>
                    <a:pt x="1626" y="1083"/>
                  </a:lnTo>
                  <a:lnTo>
                    <a:pt x="1610" y="1075"/>
                  </a:lnTo>
                  <a:lnTo>
                    <a:pt x="1596" y="1065"/>
                  </a:lnTo>
                  <a:lnTo>
                    <a:pt x="1582" y="1055"/>
                  </a:lnTo>
                  <a:lnTo>
                    <a:pt x="1569" y="1044"/>
                  </a:lnTo>
                  <a:lnTo>
                    <a:pt x="1557" y="1034"/>
                  </a:lnTo>
                  <a:lnTo>
                    <a:pt x="1547" y="1023"/>
                  </a:lnTo>
                  <a:lnTo>
                    <a:pt x="1515" y="988"/>
                  </a:lnTo>
                  <a:lnTo>
                    <a:pt x="1504" y="973"/>
                  </a:lnTo>
                  <a:lnTo>
                    <a:pt x="1499" y="978"/>
                  </a:lnTo>
                  <a:lnTo>
                    <a:pt x="1487" y="989"/>
                  </a:lnTo>
                  <a:lnTo>
                    <a:pt x="1478" y="996"/>
                  </a:lnTo>
                  <a:lnTo>
                    <a:pt x="1467" y="1005"/>
                  </a:lnTo>
                  <a:lnTo>
                    <a:pt x="1456" y="1013"/>
                  </a:lnTo>
                  <a:lnTo>
                    <a:pt x="1442" y="1021"/>
                  </a:lnTo>
                  <a:lnTo>
                    <a:pt x="1427" y="1029"/>
                  </a:lnTo>
                  <a:lnTo>
                    <a:pt x="1410" y="1035"/>
                  </a:lnTo>
                  <a:lnTo>
                    <a:pt x="1393" y="1041"/>
                  </a:lnTo>
                  <a:lnTo>
                    <a:pt x="1374" y="1044"/>
                  </a:lnTo>
                  <a:lnTo>
                    <a:pt x="1363" y="1045"/>
                  </a:lnTo>
                  <a:lnTo>
                    <a:pt x="1353" y="1045"/>
                  </a:lnTo>
                  <a:lnTo>
                    <a:pt x="1344" y="1045"/>
                  </a:lnTo>
                  <a:lnTo>
                    <a:pt x="1332" y="1044"/>
                  </a:lnTo>
                  <a:lnTo>
                    <a:pt x="1321" y="1043"/>
                  </a:lnTo>
                  <a:lnTo>
                    <a:pt x="1311" y="1041"/>
                  </a:lnTo>
                  <a:lnTo>
                    <a:pt x="1299" y="1038"/>
                  </a:lnTo>
                  <a:lnTo>
                    <a:pt x="1288" y="1034"/>
                  </a:lnTo>
                  <a:lnTo>
                    <a:pt x="1265" y="1024"/>
                  </a:lnTo>
                  <a:lnTo>
                    <a:pt x="1243" y="1014"/>
                  </a:lnTo>
                  <a:lnTo>
                    <a:pt x="1222" y="1001"/>
                  </a:lnTo>
                  <a:lnTo>
                    <a:pt x="1201" y="988"/>
                  </a:lnTo>
                  <a:lnTo>
                    <a:pt x="1159" y="960"/>
                  </a:lnTo>
                  <a:lnTo>
                    <a:pt x="1115" y="932"/>
                  </a:lnTo>
                  <a:lnTo>
                    <a:pt x="1090" y="918"/>
                  </a:lnTo>
                  <a:lnTo>
                    <a:pt x="1066" y="905"/>
                  </a:lnTo>
                  <a:lnTo>
                    <a:pt x="1039" y="895"/>
                  </a:lnTo>
                  <a:lnTo>
                    <a:pt x="1010" y="884"/>
                  </a:lnTo>
                  <a:lnTo>
                    <a:pt x="994" y="880"/>
                  </a:lnTo>
                  <a:lnTo>
                    <a:pt x="979" y="876"/>
                  </a:lnTo>
                  <a:lnTo>
                    <a:pt x="963" y="873"/>
                  </a:lnTo>
                  <a:lnTo>
                    <a:pt x="945" y="869"/>
                  </a:lnTo>
                  <a:lnTo>
                    <a:pt x="928" y="867"/>
                  </a:lnTo>
                  <a:lnTo>
                    <a:pt x="909" y="866"/>
                  </a:lnTo>
                  <a:lnTo>
                    <a:pt x="890" y="864"/>
                  </a:lnTo>
                  <a:lnTo>
                    <a:pt x="869" y="864"/>
                  </a:lnTo>
                  <a:lnTo>
                    <a:pt x="902" y="277"/>
                  </a:lnTo>
                  <a:lnTo>
                    <a:pt x="0" y="230"/>
                  </a:lnTo>
                  <a:lnTo>
                    <a:pt x="69" y="0"/>
                  </a:lnTo>
                  <a:lnTo>
                    <a:pt x="2665" y="0"/>
                  </a:lnTo>
                  <a:lnTo>
                    <a:pt x="2842" y="424"/>
                  </a:lnTo>
                  <a:lnTo>
                    <a:pt x="2848" y="1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Freeform 160"/>
            <p:cNvSpPr/>
            <p:nvPr/>
          </p:nvSpPr>
          <p:spPr>
            <a:xfrm>
              <a:off x="7145640" y="4206600"/>
              <a:ext cx="429840" cy="19152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2848" h="1175">
                  <a:moveTo>
                    <a:pt x="2848" y="1152"/>
                  </a:moveTo>
                  <a:lnTo>
                    <a:pt x="2805" y="1135"/>
                  </a:lnTo>
                  <a:lnTo>
                    <a:pt x="2759" y="1118"/>
                  </a:lnTo>
                  <a:lnTo>
                    <a:pt x="2713" y="1101"/>
                  </a:lnTo>
                  <a:lnTo>
                    <a:pt x="2665" y="1085"/>
                  </a:lnTo>
                  <a:lnTo>
                    <a:pt x="2618" y="1070"/>
                  </a:lnTo>
                  <a:lnTo>
                    <a:pt x="2571" y="1056"/>
                  </a:lnTo>
                  <a:lnTo>
                    <a:pt x="2526" y="1044"/>
                  </a:lnTo>
                  <a:lnTo>
                    <a:pt x="2481" y="1034"/>
                  </a:lnTo>
                  <a:lnTo>
                    <a:pt x="2439" y="1026"/>
                  </a:lnTo>
                  <a:lnTo>
                    <a:pt x="2401" y="1020"/>
                  </a:lnTo>
                  <a:lnTo>
                    <a:pt x="2382" y="1017"/>
                  </a:lnTo>
                  <a:lnTo>
                    <a:pt x="2365" y="1016"/>
                  </a:lnTo>
                  <a:lnTo>
                    <a:pt x="2347" y="1016"/>
                  </a:lnTo>
                  <a:lnTo>
                    <a:pt x="2332" y="1016"/>
                  </a:lnTo>
                  <a:lnTo>
                    <a:pt x="2317" y="1017"/>
                  </a:lnTo>
                  <a:lnTo>
                    <a:pt x="2303" y="1020"/>
                  </a:lnTo>
                  <a:lnTo>
                    <a:pt x="2290" y="1022"/>
                  </a:lnTo>
                  <a:lnTo>
                    <a:pt x="2279" y="1027"/>
                  </a:lnTo>
                  <a:lnTo>
                    <a:pt x="2269" y="1031"/>
                  </a:lnTo>
                  <a:lnTo>
                    <a:pt x="2259" y="1037"/>
                  </a:lnTo>
                  <a:lnTo>
                    <a:pt x="2252" y="1043"/>
                  </a:lnTo>
                  <a:lnTo>
                    <a:pt x="2247" y="1051"/>
                  </a:lnTo>
                  <a:lnTo>
                    <a:pt x="2223" y="1086"/>
                  </a:lnTo>
                  <a:lnTo>
                    <a:pt x="2202" y="1114"/>
                  </a:lnTo>
                  <a:lnTo>
                    <a:pt x="2192" y="1126"/>
                  </a:lnTo>
                  <a:lnTo>
                    <a:pt x="2182" y="1137"/>
                  </a:lnTo>
                  <a:lnTo>
                    <a:pt x="2174" y="1146"/>
                  </a:lnTo>
                  <a:lnTo>
                    <a:pt x="2165" y="1153"/>
                  </a:lnTo>
                  <a:lnTo>
                    <a:pt x="2157" y="1160"/>
                  </a:lnTo>
                  <a:lnTo>
                    <a:pt x="2150" y="1165"/>
                  </a:lnTo>
                  <a:lnTo>
                    <a:pt x="2143" y="1169"/>
                  </a:lnTo>
                  <a:lnTo>
                    <a:pt x="2136" y="1172"/>
                  </a:lnTo>
                  <a:lnTo>
                    <a:pt x="2129" y="1174"/>
                  </a:lnTo>
                  <a:lnTo>
                    <a:pt x="2123" y="1175"/>
                  </a:lnTo>
                  <a:lnTo>
                    <a:pt x="2117" y="1175"/>
                  </a:lnTo>
                  <a:lnTo>
                    <a:pt x="2111" y="1174"/>
                  </a:lnTo>
                  <a:lnTo>
                    <a:pt x="2106" y="1173"/>
                  </a:lnTo>
                  <a:lnTo>
                    <a:pt x="2102" y="1170"/>
                  </a:lnTo>
                  <a:lnTo>
                    <a:pt x="2097" y="1167"/>
                  </a:lnTo>
                  <a:lnTo>
                    <a:pt x="2092" y="1163"/>
                  </a:lnTo>
                  <a:lnTo>
                    <a:pt x="2085" y="1155"/>
                  </a:lnTo>
                  <a:lnTo>
                    <a:pt x="2080" y="1145"/>
                  </a:lnTo>
                  <a:lnTo>
                    <a:pt x="2074" y="1133"/>
                  </a:lnTo>
                  <a:lnTo>
                    <a:pt x="2069" y="1121"/>
                  </a:lnTo>
                  <a:lnTo>
                    <a:pt x="2065" y="1110"/>
                  </a:lnTo>
                  <a:lnTo>
                    <a:pt x="2062" y="1098"/>
                  </a:lnTo>
                  <a:lnTo>
                    <a:pt x="2060" y="1092"/>
                  </a:lnTo>
                  <a:lnTo>
                    <a:pt x="2056" y="1087"/>
                  </a:lnTo>
                  <a:lnTo>
                    <a:pt x="2050" y="1084"/>
                  </a:lnTo>
                  <a:lnTo>
                    <a:pt x="2043" y="1080"/>
                  </a:lnTo>
                  <a:lnTo>
                    <a:pt x="2036" y="1078"/>
                  </a:lnTo>
                  <a:lnTo>
                    <a:pt x="2027" y="1077"/>
                  </a:lnTo>
                  <a:lnTo>
                    <a:pt x="2016" y="1076"/>
                  </a:lnTo>
                  <a:lnTo>
                    <a:pt x="2005" y="1075"/>
                  </a:lnTo>
                  <a:lnTo>
                    <a:pt x="1980" y="1075"/>
                  </a:lnTo>
                  <a:lnTo>
                    <a:pt x="1951" y="1077"/>
                  </a:lnTo>
                  <a:lnTo>
                    <a:pt x="1921" y="1080"/>
                  </a:lnTo>
                  <a:lnTo>
                    <a:pt x="1889" y="1084"/>
                  </a:lnTo>
                  <a:lnTo>
                    <a:pt x="1823" y="1093"/>
                  </a:lnTo>
                  <a:lnTo>
                    <a:pt x="1758" y="1100"/>
                  </a:lnTo>
                  <a:lnTo>
                    <a:pt x="1729" y="1103"/>
                  </a:lnTo>
                  <a:lnTo>
                    <a:pt x="1702" y="1103"/>
                  </a:lnTo>
                  <a:lnTo>
                    <a:pt x="1689" y="1103"/>
                  </a:lnTo>
                  <a:lnTo>
                    <a:pt x="1679" y="1101"/>
                  </a:lnTo>
                  <a:lnTo>
                    <a:pt x="1668" y="1100"/>
                  </a:lnTo>
                  <a:lnTo>
                    <a:pt x="1659" y="1098"/>
                  </a:lnTo>
                  <a:lnTo>
                    <a:pt x="1643" y="1091"/>
                  </a:lnTo>
                  <a:lnTo>
                    <a:pt x="1626" y="1083"/>
                  </a:lnTo>
                  <a:lnTo>
                    <a:pt x="1610" y="1075"/>
                  </a:lnTo>
                  <a:lnTo>
                    <a:pt x="1596" y="1065"/>
                  </a:lnTo>
                  <a:lnTo>
                    <a:pt x="1582" y="1055"/>
                  </a:lnTo>
                  <a:lnTo>
                    <a:pt x="1569" y="1044"/>
                  </a:lnTo>
                  <a:lnTo>
                    <a:pt x="1557" y="1034"/>
                  </a:lnTo>
                  <a:lnTo>
                    <a:pt x="1547" y="1023"/>
                  </a:lnTo>
                  <a:lnTo>
                    <a:pt x="1515" y="988"/>
                  </a:lnTo>
                  <a:lnTo>
                    <a:pt x="1504" y="973"/>
                  </a:lnTo>
                  <a:lnTo>
                    <a:pt x="1499" y="978"/>
                  </a:lnTo>
                  <a:lnTo>
                    <a:pt x="1487" y="989"/>
                  </a:lnTo>
                  <a:lnTo>
                    <a:pt x="1478" y="996"/>
                  </a:lnTo>
                  <a:lnTo>
                    <a:pt x="1467" y="1005"/>
                  </a:lnTo>
                  <a:lnTo>
                    <a:pt x="1456" y="1013"/>
                  </a:lnTo>
                  <a:lnTo>
                    <a:pt x="1442" y="1021"/>
                  </a:lnTo>
                  <a:lnTo>
                    <a:pt x="1427" y="1029"/>
                  </a:lnTo>
                  <a:lnTo>
                    <a:pt x="1410" y="1035"/>
                  </a:lnTo>
                  <a:lnTo>
                    <a:pt x="1393" y="1041"/>
                  </a:lnTo>
                  <a:lnTo>
                    <a:pt x="1374" y="1044"/>
                  </a:lnTo>
                  <a:lnTo>
                    <a:pt x="1363" y="1045"/>
                  </a:lnTo>
                  <a:lnTo>
                    <a:pt x="1353" y="1045"/>
                  </a:lnTo>
                  <a:lnTo>
                    <a:pt x="1344" y="1045"/>
                  </a:lnTo>
                  <a:lnTo>
                    <a:pt x="1332" y="1044"/>
                  </a:lnTo>
                  <a:lnTo>
                    <a:pt x="1321" y="1043"/>
                  </a:lnTo>
                  <a:lnTo>
                    <a:pt x="1311" y="1041"/>
                  </a:lnTo>
                  <a:lnTo>
                    <a:pt x="1299" y="1038"/>
                  </a:lnTo>
                  <a:lnTo>
                    <a:pt x="1288" y="1034"/>
                  </a:lnTo>
                  <a:lnTo>
                    <a:pt x="1265" y="1024"/>
                  </a:lnTo>
                  <a:lnTo>
                    <a:pt x="1243" y="1014"/>
                  </a:lnTo>
                  <a:lnTo>
                    <a:pt x="1222" y="1001"/>
                  </a:lnTo>
                  <a:lnTo>
                    <a:pt x="1201" y="988"/>
                  </a:lnTo>
                  <a:lnTo>
                    <a:pt x="1159" y="960"/>
                  </a:lnTo>
                  <a:lnTo>
                    <a:pt x="1115" y="932"/>
                  </a:lnTo>
                  <a:lnTo>
                    <a:pt x="1090" y="918"/>
                  </a:lnTo>
                  <a:lnTo>
                    <a:pt x="1066" y="905"/>
                  </a:lnTo>
                  <a:lnTo>
                    <a:pt x="1039" y="895"/>
                  </a:lnTo>
                  <a:lnTo>
                    <a:pt x="1010" y="884"/>
                  </a:lnTo>
                  <a:lnTo>
                    <a:pt x="994" y="880"/>
                  </a:lnTo>
                  <a:lnTo>
                    <a:pt x="979" y="876"/>
                  </a:lnTo>
                  <a:lnTo>
                    <a:pt x="963" y="873"/>
                  </a:lnTo>
                  <a:lnTo>
                    <a:pt x="945" y="869"/>
                  </a:lnTo>
                  <a:lnTo>
                    <a:pt x="928" y="867"/>
                  </a:lnTo>
                  <a:lnTo>
                    <a:pt x="909" y="866"/>
                  </a:lnTo>
                  <a:lnTo>
                    <a:pt x="890" y="864"/>
                  </a:lnTo>
                  <a:lnTo>
                    <a:pt x="869" y="864"/>
                  </a:lnTo>
                  <a:lnTo>
                    <a:pt x="902" y="277"/>
                  </a:lnTo>
                  <a:lnTo>
                    <a:pt x="0" y="230"/>
                  </a:lnTo>
                  <a:lnTo>
                    <a:pt x="69" y="0"/>
                  </a:lnTo>
                  <a:lnTo>
                    <a:pt x="2665" y="0"/>
                  </a:lnTo>
                  <a:lnTo>
                    <a:pt x="2842" y="424"/>
                  </a:lnTo>
                  <a:lnTo>
                    <a:pt x="2848" y="1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161"/>
            <p:cNvSpPr/>
            <p:nvPr/>
          </p:nvSpPr>
          <p:spPr>
            <a:xfrm>
              <a:off x="7200720" y="4068360"/>
              <a:ext cx="345600" cy="1378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293" h="847">
                  <a:moveTo>
                    <a:pt x="2293" y="224"/>
                  </a:moveTo>
                  <a:lnTo>
                    <a:pt x="2289" y="847"/>
                  </a:lnTo>
                  <a:lnTo>
                    <a:pt x="0" y="845"/>
                  </a:lnTo>
                  <a:lnTo>
                    <a:pt x="222" y="0"/>
                  </a:lnTo>
                  <a:lnTo>
                    <a:pt x="1998" y="4"/>
                  </a:lnTo>
                  <a:lnTo>
                    <a:pt x="2007" y="21"/>
                  </a:lnTo>
                  <a:lnTo>
                    <a:pt x="2014" y="36"/>
                  </a:lnTo>
                  <a:lnTo>
                    <a:pt x="2021" y="47"/>
                  </a:lnTo>
                  <a:lnTo>
                    <a:pt x="2028" y="54"/>
                  </a:lnTo>
                  <a:lnTo>
                    <a:pt x="2031" y="57"/>
                  </a:lnTo>
                  <a:lnTo>
                    <a:pt x="2036" y="59"/>
                  </a:lnTo>
                  <a:lnTo>
                    <a:pt x="2039" y="60"/>
                  </a:lnTo>
                  <a:lnTo>
                    <a:pt x="2044" y="61"/>
                  </a:lnTo>
                  <a:lnTo>
                    <a:pt x="2054" y="61"/>
                  </a:lnTo>
                  <a:lnTo>
                    <a:pt x="2067" y="57"/>
                  </a:lnTo>
                  <a:lnTo>
                    <a:pt x="2095" y="54"/>
                  </a:lnTo>
                  <a:lnTo>
                    <a:pt x="2122" y="50"/>
                  </a:lnTo>
                  <a:lnTo>
                    <a:pt x="2134" y="50"/>
                  </a:lnTo>
                  <a:lnTo>
                    <a:pt x="2144" y="52"/>
                  </a:lnTo>
                  <a:lnTo>
                    <a:pt x="2154" y="53"/>
                  </a:lnTo>
                  <a:lnTo>
                    <a:pt x="2163" y="55"/>
                  </a:lnTo>
                  <a:lnTo>
                    <a:pt x="2170" y="59"/>
                  </a:lnTo>
                  <a:lnTo>
                    <a:pt x="2177" y="63"/>
                  </a:lnTo>
                  <a:lnTo>
                    <a:pt x="2182" y="69"/>
                  </a:lnTo>
                  <a:lnTo>
                    <a:pt x="2185" y="76"/>
                  </a:lnTo>
                  <a:lnTo>
                    <a:pt x="2188" y="85"/>
                  </a:lnTo>
                  <a:lnTo>
                    <a:pt x="2188" y="96"/>
                  </a:lnTo>
                  <a:lnTo>
                    <a:pt x="2186" y="108"/>
                  </a:lnTo>
                  <a:lnTo>
                    <a:pt x="2183" y="122"/>
                  </a:lnTo>
                  <a:lnTo>
                    <a:pt x="2182" y="125"/>
                  </a:lnTo>
                  <a:lnTo>
                    <a:pt x="2182" y="130"/>
                  </a:lnTo>
                  <a:lnTo>
                    <a:pt x="2183" y="133"/>
                  </a:lnTo>
                  <a:lnTo>
                    <a:pt x="2184" y="137"/>
                  </a:lnTo>
                  <a:lnTo>
                    <a:pt x="2189" y="145"/>
                  </a:lnTo>
                  <a:lnTo>
                    <a:pt x="2196" y="151"/>
                  </a:lnTo>
                  <a:lnTo>
                    <a:pt x="2205" y="158"/>
                  </a:lnTo>
                  <a:lnTo>
                    <a:pt x="2214" y="164"/>
                  </a:lnTo>
                  <a:lnTo>
                    <a:pt x="2226" y="170"/>
                  </a:lnTo>
                  <a:lnTo>
                    <a:pt x="2238" y="175"/>
                  </a:lnTo>
                  <a:lnTo>
                    <a:pt x="2260" y="187"/>
                  </a:lnTo>
                  <a:lnTo>
                    <a:pt x="2279" y="199"/>
                  </a:lnTo>
                  <a:lnTo>
                    <a:pt x="2286" y="205"/>
                  </a:lnTo>
                  <a:lnTo>
                    <a:pt x="2292" y="210"/>
                  </a:lnTo>
                  <a:lnTo>
                    <a:pt x="2293" y="214"/>
                  </a:lnTo>
                  <a:lnTo>
                    <a:pt x="2293" y="217"/>
                  </a:lnTo>
                  <a:lnTo>
                    <a:pt x="2293" y="221"/>
                  </a:lnTo>
                  <a:lnTo>
                    <a:pt x="2293" y="22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Freeform 162"/>
            <p:cNvSpPr/>
            <p:nvPr/>
          </p:nvSpPr>
          <p:spPr>
            <a:xfrm>
              <a:off x="7200720" y="4068360"/>
              <a:ext cx="345600" cy="1378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293" h="847">
                  <a:moveTo>
                    <a:pt x="2293" y="224"/>
                  </a:moveTo>
                  <a:lnTo>
                    <a:pt x="2289" y="847"/>
                  </a:lnTo>
                  <a:lnTo>
                    <a:pt x="0" y="845"/>
                  </a:lnTo>
                  <a:lnTo>
                    <a:pt x="222" y="0"/>
                  </a:lnTo>
                  <a:lnTo>
                    <a:pt x="1998" y="4"/>
                  </a:lnTo>
                  <a:lnTo>
                    <a:pt x="2007" y="21"/>
                  </a:lnTo>
                  <a:lnTo>
                    <a:pt x="2014" y="36"/>
                  </a:lnTo>
                  <a:lnTo>
                    <a:pt x="2021" y="47"/>
                  </a:lnTo>
                  <a:lnTo>
                    <a:pt x="2028" y="54"/>
                  </a:lnTo>
                  <a:lnTo>
                    <a:pt x="2031" y="57"/>
                  </a:lnTo>
                  <a:lnTo>
                    <a:pt x="2036" y="59"/>
                  </a:lnTo>
                  <a:lnTo>
                    <a:pt x="2039" y="60"/>
                  </a:lnTo>
                  <a:lnTo>
                    <a:pt x="2044" y="61"/>
                  </a:lnTo>
                  <a:lnTo>
                    <a:pt x="2054" y="61"/>
                  </a:lnTo>
                  <a:lnTo>
                    <a:pt x="2067" y="57"/>
                  </a:lnTo>
                  <a:lnTo>
                    <a:pt x="2095" y="54"/>
                  </a:lnTo>
                  <a:lnTo>
                    <a:pt x="2122" y="50"/>
                  </a:lnTo>
                  <a:lnTo>
                    <a:pt x="2134" y="50"/>
                  </a:lnTo>
                  <a:lnTo>
                    <a:pt x="2144" y="52"/>
                  </a:lnTo>
                  <a:lnTo>
                    <a:pt x="2154" y="53"/>
                  </a:lnTo>
                  <a:lnTo>
                    <a:pt x="2163" y="55"/>
                  </a:lnTo>
                  <a:lnTo>
                    <a:pt x="2170" y="59"/>
                  </a:lnTo>
                  <a:lnTo>
                    <a:pt x="2177" y="63"/>
                  </a:lnTo>
                  <a:lnTo>
                    <a:pt x="2182" y="69"/>
                  </a:lnTo>
                  <a:lnTo>
                    <a:pt x="2185" y="76"/>
                  </a:lnTo>
                  <a:lnTo>
                    <a:pt x="2188" y="85"/>
                  </a:lnTo>
                  <a:lnTo>
                    <a:pt x="2188" y="96"/>
                  </a:lnTo>
                  <a:lnTo>
                    <a:pt x="2186" y="108"/>
                  </a:lnTo>
                  <a:lnTo>
                    <a:pt x="2183" y="122"/>
                  </a:lnTo>
                  <a:lnTo>
                    <a:pt x="2182" y="125"/>
                  </a:lnTo>
                  <a:lnTo>
                    <a:pt x="2182" y="130"/>
                  </a:lnTo>
                  <a:lnTo>
                    <a:pt x="2183" y="133"/>
                  </a:lnTo>
                  <a:lnTo>
                    <a:pt x="2184" y="137"/>
                  </a:lnTo>
                  <a:lnTo>
                    <a:pt x="2189" y="145"/>
                  </a:lnTo>
                  <a:lnTo>
                    <a:pt x="2196" y="151"/>
                  </a:lnTo>
                  <a:lnTo>
                    <a:pt x="2205" y="158"/>
                  </a:lnTo>
                  <a:lnTo>
                    <a:pt x="2214" y="164"/>
                  </a:lnTo>
                  <a:lnTo>
                    <a:pt x="2226" y="170"/>
                  </a:lnTo>
                  <a:lnTo>
                    <a:pt x="2238" y="175"/>
                  </a:lnTo>
                  <a:lnTo>
                    <a:pt x="2260" y="187"/>
                  </a:lnTo>
                  <a:lnTo>
                    <a:pt x="2279" y="199"/>
                  </a:lnTo>
                  <a:lnTo>
                    <a:pt x="2286" y="205"/>
                  </a:lnTo>
                  <a:lnTo>
                    <a:pt x="2292" y="210"/>
                  </a:lnTo>
                  <a:lnTo>
                    <a:pt x="2293" y="214"/>
                  </a:lnTo>
                  <a:lnTo>
                    <a:pt x="2293" y="217"/>
                  </a:lnTo>
                  <a:lnTo>
                    <a:pt x="2293" y="221"/>
                  </a:lnTo>
                  <a:lnTo>
                    <a:pt x="2293" y="224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Freeform 163"/>
            <p:cNvSpPr/>
            <p:nvPr/>
          </p:nvSpPr>
          <p:spPr>
            <a:xfrm>
              <a:off x="7586640" y="3817800"/>
              <a:ext cx="219960" cy="14256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69" h="876">
                  <a:moveTo>
                    <a:pt x="781" y="876"/>
                  </a:moveTo>
                  <a:lnTo>
                    <a:pt x="761" y="875"/>
                  </a:lnTo>
                  <a:lnTo>
                    <a:pt x="741" y="872"/>
                  </a:lnTo>
                  <a:lnTo>
                    <a:pt x="720" y="867"/>
                  </a:lnTo>
                  <a:lnTo>
                    <a:pt x="699" y="860"/>
                  </a:lnTo>
                  <a:lnTo>
                    <a:pt x="677" y="851"/>
                  </a:lnTo>
                  <a:lnTo>
                    <a:pt x="656" y="840"/>
                  </a:lnTo>
                  <a:lnTo>
                    <a:pt x="633" y="827"/>
                  </a:lnTo>
                  <a:lnTo>
                    <a:pt x="612" y="814"/>
                  </a:lnTo>
                  <a:lnTo>
                    <a:pt x="592" y="799"/>
                  </a:lnTo>
                  <a:lnTo>
                    <a:pt x="573" y="783"/>
                  </a:lnTo>
                  <a:lnTo>
                    <a:pt x="555" y="767"/>
                  </a:lnTo>
                  <a:lnTo>
                    <a:pt x="538" y="749"/>
                  </a:lnTo>
                  <a:lnTo>
                    <a:pt x="522" y="730"/>
                  </a:lnTo>
                  <a:lnTo>
                    <a:pt x="508" y="712"/>
                  </a:lnTo>
                  <a:lnTo>
                    <a:pt x="497" y="693"/>
                  </a:lnTo>
                  <a:lnTo>
                    <a:pt x="486" y="674"/>
                  </a:lnTo>
                  <a:lnTo>
                    <a:pt x="486" y="670"/>
                  </a:lnTo>
                  <a:lnTo>
                    <a:pt x="484" y="656"/>
                  </a:lnTo>
                  <a:lnTo>
                    <a:pt x="481" y="646"/>
                  </a:lnTo>
                  <a:lnTo>
                    <a:pt x="478" y="636"/>
                  </a:lnTo>
                  <a:lnTo>
                    <a:pt x="473" y="625"/>
                  </a:lnTo>
                  <a:lnTo>
                    <a:pt x="467" y="612"/>
                  </a:lnTo>
                  <a:lnTo>
                    <a:pt x="459" y="601"/>
                  </a:lnTo>
                  <a:lnTo>
                    <a:pt x="450" y="588"/>
                  </a:lnTo>
                  <a:lnTo>
                    <a:pt x="439" y="575"/>
                  </a:lnTo>
                  <a:lnTo>
                    <a:pt x="425" y="563"/>
                  </a:lnTo>
                  <a:lnTo>
                    <a:pt x="410" y="553"/>
                  </a:lnTo>
                  <a:lnTo>
                    <a:pt x="393" y="542"/>
                  </a:lnTo>
                  <a:lnTo>
                    <a:pt x="382" y="539"/>
                  </a:lnTo>
                  <a:lnTo>
                    <a:pt x="372" y="534"/>
                  </a:lnTo>
                  <a:lnTo>
                    <a:pt x="360" y="531"/>
                  </a:lnTo>
                  <a:lnTo>
                    <a:pt x="348" y="527"/>
                  </a:lnTo>
                  <a:lnTo>
                    <a:pt x="299" y="515"/>
                  </a:lnTo>
                  <a:lnTo>
                    <a:pt x="251" y="501"/>
                  </a:lnTo>
                  <a:lnTo>
                    <a:pt x="228" y="494"/>
                  </a:lnTo>
                  <a:lnTo>
                    <a:pt x="206" y="487"/>
                  </a:lnTo>
                  <a:lnTo>
                    <a:pt x="185" y="479"/>
                  </a:lnTo>
                  <a:lnTo>
                    <a:pt x="166" y="471"/>
                  </a:lnTo>
                  <a:lnTo>
                    <a:pt x="147" y="462"/>
                  </a:lnTo>
                  <a:lnTo>
                    <a:pt x="131" y="452"/>
                  </a:lnTo>
                  <a:lnTo>
                    <a:pt x="116" y="443"/>
                  </a:lnTo>
                  <a:lnTo>
                    <a:pt x="102" y="431"/>
                  </a:lnTo>
                  <a:lnTo>
                    <a:pt x="91" y="420"/>
                  </a:lnTo>
                  <a:lnTo>
                    <a:pt x="82" y="408"/>
                  </a:lnTo>
                  <a:lnTo>
                    <a:pt x="78" y="401"/>
                  </a:lnTo>
                  <a:lnTo>
                    <a:pt x="76" y="395"/>
                  </a:lnTo>
                  <a:lnTo>
                    <a:pt x="74" y="388"/>
                  </a:lnTo>
                  <a:lnTo>
                    <a:pt x="71" y="380"/>
                  </a:lnTo>
                  <a:lnTo>
                    <a:pt x="68" y="346"/>
                  </a:lnTo>
                  <a:lnTo>
                    <a:pt x="63" y="313"/>
                  </a:lnTo>
                  <a:lnTo>
                    <a:pt x="61" y="305"/>
                  </a:lnTo>
                  <a:lnTo>
                    <a:pt x="57" y="297"/>
                  </a:lnTo>
                  <a:lnTo>
                    <a:pt x="53" y="290"/>
                  </a:lnTo>
                  <a:lnTo>
                    <a:pt x="46" y="283"/>
                  </a:lnTo>
                  <a:lnTo>
                    <a:pt x="38" y="276"/>
                  </a:lnTo>
                  <a:lnTo>
                    <a:pt x="27" y="269"/>
                  </a:lnTo>
                  <a:lnTo>
                    <a:pt x="14" y="263"/>
                  </a:lnTo>
                  <a:lnTo>
                    <a:pt x="0" y="256"/>
                  </a:lnTo>
                  <a:lnTo>
                    <a:pt x="11" y="253"/>
                  </a:lnTo>
                  <a:lnTo>
                    <a:pt x="24" y="247"/>
                  </a:lnTo>
                  <a:lnTo>
                    <a:pt x="38" y="237"/>
                  </a:lnTo>
                  <a:lnTo>
                    <a:pt x="53" y="227"/>
                  </a:lnTo>
                  <a:lnTo>
                    <a:pt x="69" y="215"/>
                  </a:lnTo>
                  <a:lnTo>
                    <a:pt x="87" y="201"/>
                  </a:lnTo>
                  <a:lnTo>
                    <a:pt x="104" y="186"/>
                  </a:lnTo>
                  <a:lnTo>
                    <a:pt x="122" y="168"/>
                  </a:lnTo>
                  <a:lnTo>
                    <a:pt x="140" y="150"/>
                  </a:lnTo>
                  <a:lnTo>
                    <a:pt x="158" y="131"/>
                  </a:lnTo>
                  <a:lnTo>
                    <a:pt x="174" y="110"/>
                  </a:lnTo>
                  <a:lnTo>
                    <a:pt x="191" y="89"/>
                  </a:lnTo>
                  <a:lnTo>
                    <a:pt x="206" y="68"/>
                  </a:lnTo>
                  <a:lnTo>
                    <a:pt x="221" y="46"/>
                  </a:lnTo>
                  <a:lnTo>
                    <a:pt x="234" y="22"/>
                  </a:lnTo>
                  <a:lnTo>
                    <a:pt x="244" y="0"/>
                  </a:lnTo>
                  <a:lnTo>
                    <a:pt x="564" y="0"/>
                  </a:lnTo>
                  <a:lnTo>
                    <a:pt x="589" y="24"/>
                  </a:lnTo>
                  <a:lnTo>
                    <a:pt x="613" y="44"/>
                  </a:lnTo>
                  <a:lnTo>
                    <a:pt x="638" y="62"/>
                  </a:lnTo>
                  <a:lnTo>
                    <a:pt x="663" y="76"/>
                  </a:lnTo>
                  <a:lnTo>
                    <a:pt x="687" y="89"/>
                  </a:lnTo>
                  <a:lnTo>
                    <a:pt x="712" y="100"/>
                  </a:lnTo>
                  <a:lnTo>
                    <a:pt x="736" y="109"/>
                  </a:lnTo>
                  <a:lnTo>
                    <a:pt x="761" y="115"/>
                  </a:lnTo>
                  <a:lnTo>
                    <a:pt x="784" y="121"/>
                  </a:lnTo>
                  <a:lnTo>
                    <a:pt x="809" y="124"/>
                  </a:lnTo>
                  <a:lnTo>
                    <a:pt x="832" y="126"/>
                  </a:lnTo>
                  <a:lnTo>
                    <a:pt x="856" y="128"/>
                  </a:lnTo>
                  <a:lnTo>
                    <a:pt x="903" y="126"/>
                  </a:lnTo>
                  <a:lnTo>
                    <a:pt x="950" y="124"/>
                  </a:lnTo>
                  <a:lnTo>
                    <a:pt x="978" y="123"/>
                  </a:lnTo>
                  <a:lnTo>
                    <a:pt x="1005" y="123"/>
                  </a:lnTo>
                  <a:lnTo>
                    <a:pt x="1031" y="124"/>
                  </a:lnTo>
                  <a:lnTo>
                    <a:pt x="1056" y="125"/>
                  </a:lnTo>
                  <a:lnTo>
                    <a:pt x="1081" y="128"/>
                  </a:lnTo>
                  <a:lnTo>
                    <a:pt x="1104" y="130"/>
                  </a:lnTo>
                  <a:lnTo>
                    <a:pt x="1126" y="135"/>
                  </a:lnTo>
                  <a:lnTo>
                    <a:pt x="1148" y="139"/>
                  </a:lnTo>
                  <a:lnTo>
                    <a:pt x="1168" y="145"/>
                  </a:lnTo>
                  <a:lnTo>
                    <a:pt x="1187" y="151"/>
                  </a:lnTo>
                  <a:lnTo>
                    <a:pt x="1205" y="159"/>
                  </a:lnTo>
                  <a:lnTo>
                    <a:pt x="1220" y="168"/>
                  </a:lnTo>
                  <a:lnTo>
                    <a:pt x="1234" y="178"/>
                  </a:lnTo>
                  <a:lnTo>
                    <a:pt x="1245" y="190"/>
                  </a:lnTo>
                  <a:lnTo>
                    <a:pt x="1251" y="195"/>
                  </a:lnTo>
                  <a:lnTo>
                    <a:pt x="1256" y="202"/>
                  </a:lnTo>
                  <a:lnTo>
                    <a:pt x="1261" y="209"/>
                  </a:lnTo>
                  <a:lnTo>
                    <a:pt x="1264" y="216"/>
                  </a:lnTo>
                  <a:lnTo>
                    <a:pt x="1256" y="234"/>
                  </a:lnTo>
                  <a:lnTo>
                    <a:pt x="1248" y="253"/>
                  </a:lnTo>
                  <a:lnTo>
                    <a:pt x="1242" y="270"/>
                  </a:lnTo>
                  <a:lnTo>
                    <a:pt x="1235" y="289"/>
                  </a:lnTo>
                  <a:lnTo>
                    <a:pt x="1224" y="325"/>
                  </a:lnTo>
                  <a:lnTo>
                    <a:pt x="1215" y="358"/>
                  </a:lnTo>
                  <a:lnTo>
                    <a:pt x="1254" y="327"/>
                  </a:lnTo>
                  <a:lnTo>
                    <a:pt x="1287" y="298"/>
                  </a:lnTo>
                  <a:lnTo>
                    <a:pt x="1318" y="270"/>
                  </a:lnTo>
                  <a:lnTo>
                    <a:pt x="1346" y="246"/>
                  </a:lnTo>
                  <a:lnTo>
                    <a:pt x="1359" y="234"/>
                  </a:lnTo>
                  <a:lnTo>
                    <a:pt x="1370" y="225"/>
                  </a:lnTo>
                  <a:lnTo>
                    <a:pt x="1382" y="216"/>
                  </a:lnTo>
                  <a:lnTo>
                    <a:pt x="1393" y="209"/>
                  </a:lnTo>
                  <a:lnTo>
                    <a:pt x="1403" y="205"/>
                  </a:lnTo>
                  <a:lnTo>
                    <a:pt x="1412" y="201"/>
                  </a:lnTo>
                  <a:lnTo>
                    <a:pt x="1422" y="200"/>
                  </a:lnTo>
                  <a:lnTo>
                    <a:pt x="1431" y="202"/>
                  </a:lnTo>
                  <a:lnTo>
                    <a:pt x="1411" y="235"/>
                  </a:lnTo>
                  <a:lnTo>
                    <a:pt x="1394" y="271"/>
                  </a:lnTo>
                  <a:lnTo>
                    <a:pt x="1384" y="289"/>
                  </a:lnTo>
                  <a:lnTo>
                    <a:pt x="1377" y="307"/>
                  </a:lnTo>
                  <a:lnTo>
                    <a:pt x="1370" y="326"/>
                  </a:lnTo>
                  <a:lnTo>
                    <a:pt x="1363" y="346"/>
                  </a:lnTo>
                  <a:lnTo>
                    <a:pt x="1358" y="365"/>
                  </a:lnTo>
                  <a:lnTo>
                    <a:pt x="1352" y="385"/>
                  </a:lnTo>
                  <a:lnTo>
                    <a:pt x="1347" y="404"/>
                  </a:lnTo>
                  <a:lnTo>
                    <a:pt x="1344" y="424"/>
                  </a:lnTo>
                  <a:lnTo>
                    <a:pt x="1340" y="445"/>
                  </a:lnTo>
                  <a:lnTo>
                    <a:pt x="1338" y="466"/>
                  </a:lnTo>
                  <a:lnTo>
                    <a:pt x="1337" y="486"/>
                  </a:lnTo>
                  <a:lnTo>
                    <a:pt x="1335" y="507"/>
                  </a:lnTo>
                  <a:lnTo>
                    <a:pt x="1335" y="528"/>
                  </a:lnTo>
                  <a:lnTo>
                    <a:pt x="1337" y="549"/>
                  </a:lnTo>
                  <a:lnTo>
                    <a:pt x="1339" y="571"/>
                  </a:lnTo>
                  <a:lnTo>
                    <a:pt x="1341" y="592"/>
                  </a:lnTo>
                  <a:lnTo>
                    <a:pt x="1346" y="614"/>
                  </a:lnTo>
                  <a:lnTo>
                    <a:pt x="1351" y="636"/>
                  </a:lnTo>
                  <a:lnTo>
                    <a:pt x="1358" y="657"/>
                  </a:lnTo>
                  <a:lnTo>
                    <a:pt x="1365" y="679"/>
                  </a:lnTo>
                  <a:lnTo>
                    <a:pt x="1373" y="700"/>
                  </a:lnTo>
                  <a:lnTo>
                    <a:pt x="1383" y="722"/>
                  </a:lnTo>
                  <a:lnTo>
                    <a:pt x="1394" y="743"/>
                  </a:lnTo>
                  <a:lnTo>
                    <a:pt x="1407" y="764"/>
                  </a:lnTo>
                  <a:lnTo>
                    <a:pt x="1419" y="786"/>
                  </a:lnTo>
                  <a:lnTo>
                    <a:pt x="1435" y="807"/>
                  </a:lnTo>
                  <a:lnTo>
                    <a:pt x="1451" y="828"/>
                  </a:lnTo>
                  <a:lnTo>
                    <a:pt x="1469" y="849"/>
                  </a:lnTo>
                  <a:lnTo>
                    <a:pt x="781" y="8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Freeform 164"/>
            <p:cNvSpPr/>
            <p:nvPr/>
          </p:nvSpPr>
          <p:spPr>
            <a:xfrm>
              <a:off x="7586640" y="3817800"/>
              <a:ext cx="219960" cy="14256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69" h="876">
                  <a:moveTo>
                    <a:pt x="781" y="876"/>
                  </a:moveTo>
                  <a:lnTo>
                    <a:pt x="761" y="875"/>
                  </a:lnTo>
                  <a:lnTo>
                    <a:pt x="741" y="872"/>
                  </a:lnTo>
                  <a:lnTo>
                    <a:pt x="720" y="867"/>
                  </a:lnTo>
                  <a:lnTo>
                    <a:pt x="699" y="860"/>
                  </a:lnTo>
                  <a:lnTo>
                    <a:pt x="677" y="851"/>
                  </a:lnTo>
                  <a:lnTo>
                    <a:pt x="656" y="840"/>
                  </a:lnTo>
                  <a:lnTo>
                    <a:pt x="633" y="827"/>
                  </a:lnTo>
                  <a:lnTo>
                    <a:pt x="612" y="814"/>
                  </a:lnTo>
                  <a:lnTo>
                    <a:pt x="592" y="799"/>
                  </a:lnTo>
                  <a:lnTo>
                    <a:pt x="573" y="783"/>
                  </a:lnTo>
                  <a:lnTo>
                    <a:pt x="555" y="767"/>
                  </a:lnTo>
                  <a:lnTo>
                    <a:pt x="538" y="749"/>
                  </a:lnTo>
                  <a:lnTo>
                    <a:pt x="522" y="730"/>
                  </a:lnTo>
                  <a:lnTo>
                    <a:pt x="508" y="712"/>
                  </a:lnTo>
                  <a:lnTo>
                    <a:pt x="497" y="693"/>
                  </a:lnTo>
                  <a:lnTo>
                    <a:pt x="486" y="674"/>
                  </a:lnTo>
                  <a:lnTo>
                    <a:pt x="486" y="670"/>
                  </a:lnTo>
                  <a:lnTo>
                    <a:pt x="484" y="656"/>
                  </a:lnTo>
                  <a:lnTo>
                    <a:pt x="481" y="646"/>
                  </a:lnTo>
                  <a:lnTo>
                    <a:pt x="478" y="636"/>
                  </a:lnTo>
                  <a:lnTo>
                    <a:pt x="473" y="625"/>
                  </a:lnTo>
                  <a:lnTo>
                    <a:pt x="467" y="612"/>
                  </a:lnTo>
                  <a:lnTo>
                    <a:pt x="459" y="601"/>
                  </a:lnTo>
                  <a:lnTo>
                    <a:pt x="450" y="588"/>
                  </a:lnTo>
                  <a:lnTo>
                    <a:pt x="439" y="575"/>
                  </a:lnTo>
                  <a:lnTo>
                    <a:pt x="425" y="563"/>
                  </a:lnTo>
                  <a:lnTo>
                    <a:pt x="410" y="553"/>
                  </a:lnTo>
                  <a:lnTo>
                    <a:pt x="393" y="542"/>
                  </a:lnTo>
                  <a:lnTo>
                    <a:pt x="382" y="539"/>
                  </a:lnTo>
                  <a:lnTo>
                    <a:pt x="372" y="534"/>
                  </a:lnTo>
                  <a:lnTo>
                    <a:pt x="360" y="531"/>
                  </a:lnTo>
                  <a:lnTo>
                    <a:pt x="348" y="527"/>
                  </a:lnTo>
                  <a:lnTo>
                    <a:pt x="299" y="515"/>
                  </a:lnTo>
                  <a:lnTo>
                    <a:pt x="251" y="501"/>
                  </a:lnTo>
                  <a:lnTo>
                    <a:pt x="228" y="494"/>
                  </a:lnTo>
                  <a:lnTo>
                    <a:pt x="206" y="487"/>
                  </a:lnTo>
                  <a:lnTo>
                    <a:pt x="185" y="479"/>
                  </a:lnTo>
                  <a:lnTo>
                    <a:pt x="166" y="471"/>
                  </a:lnTo>
                  <a:lnTo>
                    <a:pt x="147" y="462"/>
                  </a:lnTo>
                  <a:lnTo>
                    <a:pt x="131" y="452"/>
                  </a:lnTo>
                  <a:lnTo>
                    <a:pt x="116" y="443"/>
                  </a:lnTo>
                  <a:lnTo>
                    <a:pt x="102" y="431"/>
                  </a:lnTo>
                  <a:lnTo>
                    <a:pt x="91" y="420"/>
                  </a:lnTo>
                  <a:lnTo>
                    <a:pt x="82" y="408"/>
                  </a:lnTo>
                  <a:lnTo>
                    <a:pt x="78" y="401"/>
                  </a:lnTo>
                  <a:lnTo>
                    <a:pt x="76" y="395"/>
                  </a:lnTo>
                  <a:lnTo>
                    <a:pt x="74" y="388"/>
                  </a:lnTo>
                  <a:lnTo>
                    <a:pt x="71" y="380"/>
                  </a:lnTo>
                  <a:lnTo>
                    <a:pt x="68" y="346"/>
                  </a:lnTo>
                  <a:lnTo>
                    <a:pt x="63" y="313"/>
                  </a:lnTo>
                  <a:lnTo>
                    <a:pt x="61" y="305"/>
                  </a:lnTo>
                  <a:lnTo>
                    <a:pt x="57" y="297"/>
                  </a:lnTo>
                  <a:lnTo>
                    <a:pt x="53" y="290"/>
                  </a:lnTo>
                  <a:lnTo>
                    <a:pt x="46" y="283"/>
                  </a:lnTo>
                  <a:lnTo>
                    <a:pt x="38" y="276"/>
                  </a:lnTo>
                  <a:lnTo>
                    <a:pt x="27" y="269"/>
                  </a:lnTo>
                  <a:lnTo>
                    <a:pt x="14" y="263"/>
                  </a:lnTo>
                  <a:lnTo>
                    <a:pt x="0" y="256"/>
                  </a:lnTo>
                  <a:lnTo>
                    <a:pt x="11" y="253"/>
                  </a:lnTo>
                  <a:lnTo>
                    <a:pt x="24" y="247"/>
                  </a:lnTo>
                  <a:lnTo>
                    <a:pt x="38" y="237"/>
                  </a:lnTo>
                  <a:lnTo>
                    <a:pt x="53" y="227"/>
                  </a:lnTo>
                  <a:lnTo>
                    <a:pt x="69" y="215"/>
                  </a:lnTo>
                  <a:lnTo>
                    <a:pt x="87" y="201"/>
                  </a:lnTo>
                  <a:lnTo>
                    <a:pt x="104" y="186"/>
                  </a:lnTo>
                  <a:lnTo>
                    <a:pt x="122" y="168"/>
                  </a:lnTo>
                  <a:lnTo>
                    <a:pt x="140" y="150"/>
                  </a:lnTo>
                  <a:lnTo>
                    <a:pt x="158" y="131"/>
                  </a:lnTo>
                  <a:lnTo>
                    <a:pt x="174" y="110"/>
                  </a:lnTo>
                  <a:lnTo>
                    <a:pt x="191" y="89"/>
                  </a:lnTo>
                  <a:lnTo>
                    <a:pt x="206" y="68"/>
                  </a:lnTo>
                  <a:lnTo>
                    <a:pt x="221" y="46"/>
                  </a:lnTo>
                  <a:lnTo>
                    <a:pt x="234" y="22"/>
                  </a:lnTo>
                  <a:lnTo>
                    <a:pt x="244" y="0"/>
                  </a:lnTo>
                  <a:lnTo>
                    <a:pt x="564" y="0"/>
                  </a:lnTo>
                  <a:lnTo>
                    <a:pt x="589" y="24"/>
                  </a:lnTo>
                  <a:lnTo>
                    <a:pt x="613" y="44"/>
                  </a:lnTo>
                  <a:lnTo>
                    <a:pt x="638" y="62"/>
                  </a:lnTo>
                  <a:lnTo>
                    <a:pt x="663" y="76"/>
                  </a:lnTo>
                  <a:lnTo>
                    <a:pt x="687" y="89"/>
                  </a:lnTo>
                  <a:lnTo>
                    <a:pt x="712" y="100"/>
                  </a:lnTo>
                  <a:lnTo>
                    <a:pt x="736" y="109"/>
                  </a:lnTo>
                  <a:lnTo>
                    <a:pt x="761" y="115"/>
                  </a:lnTo>
                  <a:lnTo>
                    <a:pt x="784" y="121"/>
                  </a:lnTo>
                  <a:lnTo>
                    <a:pt x="809" y="124"/>
                  </a:lnTo>
                  <a:lnTo>
                    <a:pt x="832" y="126"/>
                  </a:lnTo>
                  <a:lnTo>
                    <a:pt x="856" y="128"/>
                  </a:lnTo>
                  <a:lnTo>
                    <a:pt x="903" y="126"/>
                  </a:lnTo>
                  <a:lnTo>
                    <a:pt x="950" y="124"/>
                  </a:lnTo>
                  <a:lnTo>
                    <a:pt x="978" y="123"/>
                  </a:lnTo>
                  <a:lnTo>
                    <a:pt x="1005" y="123"/>
                  </a:lnTo>
                  <a:lnTo>
                    <a:pt x="1031" y="124"/>
                  </a:lnTo>
                  <a:lnTo>
                    <a:pt x="1056" y="125"/>
                  </a:lnTo>
                  <a:lnTo>
                    <a:pt x="1081" y="128"/>
                  </a:lnTo>
                  <a:lnTo>
                    <a:pt x="1104" y="130"/>
                  </a:lnTo>
                  <a:lnTo>
                    <a:pt x="1126" y="135"/>
                  </a:lnTo>
                  <a:lnTo>
                    <a:pt x="1148" y="139"/>
                  </a:lnTo>
                  <a:lnTo>
                    <a:pt x="1168" y="145"/>
                  </a:lnTo>
                  <a:lnTo>
                    <a:pt x="1187" y="151"/>
                  </a:lnTo>
                  <a:lnTo>
                    <a:pt x="1205" y="159"/>
                  </a:lnTo>
                  <a:lnTo>
                    <a:pt x="1220" y="168"/>
                  </a:lnTo>
                  <a:lnTo>
                    <a:pt x="1234" y="178"/>
                  </a:lnTo>
                  <a:lnTo>
                    <a:pt x="1245" y="190"/>
                  </a:lnTo>
                  <a:lnTo>
                    <a:pt x="1251" y="195"/>
                  </a:lnTo>
                  <a:lnTo>
                    <a:pt x="1256" y="202"/>
                  </a:lnTo>
                  <a:lnTo>
                    <a:pt x="1261" y="209"/>
                  </a:lnTo>
                  <a:lnTo>
                    <a:pt x="1264" y="216"/>
                  </a:lnTo>
                  <a:lnTo>
                    <a:pt x="1256" y="234"/>
                  </a:lnTo>
                  <a:lnTo>
                    <a:pt x="1248" y="253"/>
                  </a:lnTo>
                  <a:lnTo>
                    <a:pt x="1242" y="270"/>
                  </a:lnTo>
                  <a:lnTo>
                    <a:pt x="1235" y="289"/>
                  </a:lnTo>
                  <a:lnTo>
                    <a:pt x="1224" y="325"/>
                  </a:lnTo>
                  <a:lnTo>
                    <a:pt x="1215" y="358"/>
                  </a:lnTo>
                  <a:lnTo>
                    <a:pt x="1254" y="327"/>
                  </a:lnTo>
                  <a:lnTo>
                    <a:pt x="1287" y="298"/>
                  </a:lnTo>
                  <a:lnTo>
                    <a:pt x="1318" y="270"/>
                  </a:lnTo>
                  <a:lnTo>
                    <a:pt x="1346" y="246"/>
                  </a:lnTo>
                  <a:lnTo>
                    <a:pt x="1359" y="234"/>
                  </a:lnTo>
                  <a:lnTo>
                    <a:pt x="1370" y="225"/>
                  </a:lnTo>
                  <a:lnTo>
                    <a:pt x="1382" y="216"/>
                  </a:lnTo>
                  <a:lnTo>
                    <a:pt x="1393" y="209"/>
                  </a:lnTo>
                  <a:lnTo>
                    <a:pt x="1403" y="205"/>
                  </a:lnTo>
                  <a:lnTo>
                    <a:pt x="1412" y="201"/>
                  </a:lnTo>
                  <a:lnTo>
                    <a:pt x="1422" y="200"/>
                  </a:lnTo>
                  <a:lnTo>
                    <a:pt x="1431" y="202"/>
                  </a:lnTo>
                  <a:lnTo>
                    <a:pt x="1411" y="235"/>
                  </a:lnTo>
                  <a:lnTo>
                    <a:pt x="1394" y="271"/>
                  </a:lnTo>
                  <a:lnTo>
                    <a:pt x="1384" y="289"/>
                  </a:lnTo>
                  <a:lnTo>
                    <a:pt x="1377" y="307"/>
                  </a:lnTo>
                  <a:lnTo>
                    <a:pt x="1370" y="326"/>
                  </a:lnTo>
                  <a:lnTo>
                    <a:pt x="1363" y="346"/>
                  </a:lnTo>
                  <a:lnTo>
                    <a:pt x="1358" y="365"/>
                  </a:lnTo>
                  <a:lnTo>
                    <a:pt x="1352" y="385"/>
                  </a:lnTo>
                  <a:lnTo>
                    <a:pt x="1347" y="404"/>
                  </a:lnTo>
                  <a:lnTo>
                    <a:pt x="1344" y="424"/>
                  </a:lnTo>
                  <a:lnTo>
                    <a:pt x="1340" y="445"/>
                  </a:lnTo>
                  <a:lnTo>
                    <a:pt x="1338" y="466"/>
                  </a:lnTo>
                  <a:lnTo>
                    <a:pt x="1337" y="486"/>
                  </a:lnTo>
                  <a:lnTo>
                    <a:pt x="1335" y="507"/>
                  </a:lnTo>
                  <a:lnTo>
                    <a:pt x="1335" y="528"/>
                  </a:lnTo>
                  <a:lnTo>
                    <a:pt x="1337" y="549"/>
                  </a:lnTo>
                  <a:lnTo>
                    <a:pt x="1339" y="571"/>
                  </a:lnTo>
                  <a:lnTo>
                    <a:pt x="1341" y="592"/>
                  </a:lnTo>
                  <a:lnTo>
                    <a:pt x="1346" y="614"/>
                  </a:lnTo>
                  <a:lnTo>
                    <a:pt x="1351" y="636"/>
                  </a:lnTo>
                  <a:lnTo>
                    <a:pt x="1358" y="657"/>
                  </a:lnTo>
                  <a:lnTo>
                    <a:pt x="1365" y="679"/>
                  </a:lnTo>
                  <a:lnTo>
                    <a:pt x="1373" y="700"/>
                  </a:lnTo>
                  <a:lnTo>
                    <a:pt x="1383" y="722"/>
                  </a:lnTo>
                  <a:lnTo>
                    <a:pt x="1394" y="743"/>
                  </a:lnTo>
                  <a:lnTo>
                    <a:pt x="1407" y="764"/>
                  </a:lnTo>
                  <a:lnTo>
                    <a:pt x="1419" y="786"/>
                  </a:lnTo>
                  <a:lnTo>
                    <a:pt x="1435" y="807"/>
                  </a:lnTo>
                  <a:lnTo>
                    <a:pt x="1451" y="828"/>
                  </a:lnTo>
                  <a:lnTo>
                    <a:pt x="1469" y="849"/>
                  </a:lnTo>
                  <a:lnTo>
                    <a:pt x="781" y="87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Freeform 165"/>
            <p:cNvSpPr/>
            <p:nvPr/>
          </p:nvSpPr>
          <p:spPr>
            <a:xfrm>
              <a:off x="7491600" y="4038120"/>
              <a:ext cx="327960" cy="19980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180" h="1227">
                  <a:moveTo>
                    <a:pt x="1270" y="0"/>
                  </a:moveTo>
                  <a:lnTo>
                    <a:pt x="0" y="37"/>
                  </a:lnTo>
                  <a:lnTo>
                    <a:pt x="5" y="65"/>
                  </a:lnTo>
                  <a:lnTo>
                    <a:pt x="12" y="94"/>
                  </a:lnTo>
                  <a:lnTo>
                    <a:pt x="20" y="118"/>
                  </a:lnTo>
                  <a:lnTo>
                    <a:pt x="28" y="140"/>
                  </a:lnTo>
                  <a:lnTo>
                    <a:pt x="34" y="150"/>
                  </a:lnTo>
                  <a:lnTo>
                    <a:pt x="39" y="158"/>
                  </a:lnTo>
                  <a:lnTo>
                    <a:pt x="45" y="166"/>
                  </a:lnTo>
                  <a:lnTo>
                    <a:pt x="51" y="172"/>
                  </a:lnTo>
                  <a:lnTo>
                    <a:pt x="56" y="178"/>
                  </a:lnTo>
                  <a:lnTo>
                    <a:pt x="63" y="181"/>
                  </a:lnTo>
                  <a:lnTo>
                    <a:pt x="70" y="183"/>
                  </a:lnTo>
                  <a:lnTo>
                    <a:pt x="77" y="185"/>
                  </a:lnTo>
                  <a:lnTo>
                    <a:pt x="86" y="202"/>
                  </a:lnTo>
                  <a:lnTo>
                    <a:pt x="93" y="217"/>
                  </a:lnTo>
                  <a:lnTo>
                    <a:pt x="100" y="228"/>
                  </a:lnTo>
                  <a:lnTo>
                    <a:pt x="107" y="235"/>
                  </a:lnTo>
                  <a:lnTo>
                    <a:pt x="110" y="238"/>
                  </a:lnTo>
                  <a:lnTo>
                    <a:pt x="115" y="240"/>
                  </a:lnTo>
                  <a:lnTo>
                    <a:pt x="118" y="241"/>
                  </a:lnTo>
                  <a:lnTo>
                    <a:pt x="123" y="242"/>
                  </a:lnTo>
                  <a:lnTo>
                    <a:pt x="133" y="242"/>
                  </a:lnTo>
                  <a:lnTo>
                    <a:pt x="146" y="238"/>
                  </a:lnTo>
                  <a:lnTo>
                    <a:pt x="174" y="235"/>
                  </a:lnTo>
                  <a:lnTo>
                    <a:pt x="201" y="231"/>
                  </a:lnTo>
                  <a:lnTo>
                    <a:pt x="213" y="231"/>
                  </a:lnTo>
                  <a:lnTo>
                    <a:pt x="223" y="233"/>
                  </a:lnTo>
                  <a:lnTo>
                    <a:pt x="233" y="234"/>
                  </a:lnTo>
                  <a:lnTo>
                    <a:pt x="242" y="236"/>
                  </a:lnTo>
                  <a:lnTo>
                    <a:pt x="249" y="240"/>
                  </a:lnTo>
                  <a:lnTo>
                    <a:pt x="256" y="244"/>
                  </a:lnTo>
                  <a:lnTo>
                    <a:pt x="261" y="250"/>
                  </a:lnTo>
                  <a:lnTo>
                    <a:pt x="264" y="257"/>
                  </a:lnTo>
                  <a:lnTo>
                    <a:pt x="267" y="266"/>
                  </a:lnTo>
                  <a:lnTo>
                    <a:pt x="267" y="277"/>
                  </a:lnTo>
                  <a:lnTo>
                    <a:pt x="265" y="289"/>
                  </a:lnTo>
                  <a:lnTo>
                    <a:pt x="262" y="303"/>
                  </a:lnTo>
                  <a:lnTo>
                    <a:pt x="261" y="306"/>
                  </a:lnTo>
                  <a:lnTo>
                    <a:pt x="261" y="311"/>
                  </a:lnTo>
                  <a:lnTo>
                    <a:pt x="262" y="314"/>
                  </a:lnTo>
                  <a:lnTo>
                    <a:pt x="263" y="318"/>
                  </a:lnTo>
                  <a:lnTo>
                    <a:pt x="268" y="326"/>
                  </a:lnTo>
                  <a:lnTo>
                    <a:pt x="275" y="332"/>
                  </a:lnTo>
                  <a:lnTo>
                    <a:pt x="284" y="339"/>
                  </a:lnTo>
                  <a:lnTo>
                    <a:pt x="293" y="345"/>
                  </a:lnTo>
                  <a:lnTo>
                    <a:pt x="305" y="351"/>
                  </a:lnTo>
                  <a:lnTo>
                    <a:pt x="317" y="356"/>
                  </a:lnTo>
                  <a:lnTo>
                    <a:pt x="339" y="368"/>
                  </a:lnTo>
                  <a:lnTo>
                    <a:pt x="358" y="380"/>
                  </a:lnTo>
                  <a:lnTo>
                    <a:pt x="365" y="386"/>
                  </a:lnTo>
                  <a:lnTo>
                    <a:pt x="371" y="391"/>
                  </a:lnTo>
                  <a:lnTo>
                    <a:pt x="372" y="395"/>
                  </a:lnTo>
                  <a:lnTo>
                    <a:pt x="372" y="398"/>
                  </a:lnTo>
                  <a:lnTo>
                    <a:pt x="372" y="402"/>
                  </a:lnTo>
                  <a:lnTo>
                    <a:pt x="372" y="405"/>
                  </a:lnTo>
                  <a:lnTo>
                    <a:pt x="368" y="1028"/>
                  </a:lnTo>
                  <a:lnTo>
                    <a:pt x="443" y="1199"/>
                  </a:lnTo>
                  <a:lnTo>
                    <a:pt x="1909" y="1144"/>
                  </a:lnTo>
                  <a:lnTo>
                    <a:pt x="1901" y="1227"/>
                  </a:lnTo>
                  <a:lnTo>
                    <a:pt x="2039" y="1213"/>
                  </a:lnTo>
                  <a:lnTo>
                    <a:pt x="2049" y="1202"/>
                  </a:lnTo>
                  <a:lnTo>
                    <a:pt x="2059" y="1192"/>
                  </a:lnTo>
                  <a:lnTo>
                    <a:pt x="2066" y="1181"/>
                  </a:lnTo>
                  <a:lnTo>
                    <a:pt x="2070" y="1172"/>
                  </a:lnTo>
                  <a:lnTo>
                    <a:pt x="2075" y="1163"/>
                  </a:lnTo>
                  <a:lnTo>
                    <a:pt x="2077" y="1154"/>
                  </a:lnTo>
                  <a:lnTo>
                    <a:pt x="2080" y="1146"/>
                  </a:lnTo>
                  <a:lnTo>
                    <a:pt x="2081" y="1137"/>
                  </a:lnTo>
                  <a:lnTo>
                    <a:pt x="2081" y="1120"/>
                  </a:lnTo>
                  <a:lnTo>
                    <a:pt x="2081" y="1102"/>
                  </a:lnTo>
                  <a:lnTo>
                    <a:pt x="2081" y="1092"/>
                  </a:lnTo>
                  <a:lnTo>
                    <a:pt x="2082" y="1082"/>
                  </a:lnTo>
                  <a:lnTo>
                    <a:pt x="2083" y="1071"/>
                  </a:lnTo>
                  <a:lnTo>
                    <a:pt x="2085" y="1060"/>
                  </a:lnTo>
                  <a:lnTo>
                    <a:pt x="2092" y="1037"/>
                  </a:lnTo>
                  <a:lnTo>
                    <a:pt x="2101" y="1016"/>
                  </a:lnTo>
                  <a:lnTo>
                    <a:pt x="2110" y="996"/>
                  </a:lnTo>
                  <a:lnTo>
                    <a:pt x="2122" y="979"/>
                  </a:lnTo>
                  <a:lnTo>
                    <a:pt x="2134" y="961"/>
                  </a:lnTo>
                  <a:lnTo>
                    <a:pt x="2148" y="945"/>
                  </a:lnTo>
                  <a:lnTo>
                    <a:pt x="2164" y="931"/>
                  </a:lnTo>
                  <a:lnTo>
                    <a:pt x="2180" y="918"/>
                  </a:lnTo>
                  <a:lnTo>
                    <a:pt x="2179" y="901"/>
                  </a:lnTo>
                  <a:lnTo>
                    <a:pt x="2176" y="887"/>
                  </a:lnTo>
                  <a:lnTo>
                    <a:pt x="2174" y="881"/>
                  </a:lnTo>
                  <a:lnTo>
                    <a:pt x="2172" y="876"/>
                  </a:lnTo>
                  <a:lnTo>
                    <a:pt x="2169" y="871"/>
                  </a:lnTo>
                  <a:lnTo>
                    <a:pt x="2167" y="868"/>
                  </a:lnTo>
                  <a:lnTo>
                    <a:pt x="2160" y="862"/>
                  </a:lnTo>
                  <a:lnTo>
                    <a:pt x="2152" y="859"/>
                  </a:lnTo>
                  <a:lnTo>
                    <a:pt x="2143" y="856"/>
                  </a:lnTo>
                  <a:lnTo>
                    <a:pt x="2133" y="855"/>
                  </a:lnTo>
                  <a:lnTo>
                    <a:pt x="2111" y="854"/>
                  </a:lnTo>
                  <a:lnTo>
                    <a:pt x="2088" y="852"/>
                  </a:lnTo>
                  <a:lnTo>
                    <a:pt x="2075" y="848"/>
                  </a:lnTo>
                  <a:lnTo>
                    <a:pt x="2063" y="843"/>
                  </a:lnTo>
                  <a:lnTo>
                    <a:pt x="2057" y="840"/>
                  </a:lnTo>
                  <a:lnTo>
                    <a:pt x="2050" y="836"/>
                  </a:lnTo>
                  <a:lnTo>
                    <a:pt x="2044" y="832"/>
                  </a:lnTo>
                  <a:lnTo>
                    <a:pt x="2039" y="826"/>
                  </a:lnTo>
                  <a:lnTo>
                    <a:pt x="2039" y="804"/>
                  </a:lnTo>
                  <a:lnTo>
                    <a:pt x="2037" y="783"/>
                  </a:lnTo>
                  <a:lnTo>
                    <a:pt x="2035" y="763"/>
                  </a:lnTo>
                  <a:lnTo>
                    <a:pt x="2032" y="744"/>
                  </a:lnTo>
                  <a:lnTo>
                    <a:pt x="2027" y="728"/>
                  </a:lnTo>
                  <a:lnTo>
                    <a:pt x="2021" y="711"/>
                  </a:lnTo>
                  <a:lnTo>
                    <a:pt x="2013" y="696"/>
                  </a:lnTo>
                  <a:lnTo>
                    <a:pt x="2004" y="682"/>
                  </a:lnTo>
                  <a:lnTo>
                    <a:pt x="1992" y="668"/>
                  </a:lnTo>
                  <a:lnTo>
                    <a:pt x="1978" y="655"/>
                  </a:lnTo>
                  <a:lnTo>
                    <a:pt x="1962" y="644"/>
                  </a:lnTo>
                  <a:lnTo>
                    <a:pt x="1943" y="633"/>
                  </a:lnTo>
                  <a:lnTo>
                    <a:pt x="1922" y="623"/>
                  </a:lnTo>
                  <a:lnTo>
                    <a:pt x="1897" y="612"/>
                  </a:lnTo>
                  <a:lnTo>
                    <a:pt x="1870" y="603"/>
                  </a:lnTo>
                  <a:lnTo>
                    <a:pt x="1840" y="593"/>
                  </a:lnTo>
                  <a:lnTo>
                    <a:pt x="1810" y="584"/>
                  </a:lnTo>
                  <a:lnTo>
                    <a:pt x="1784" y="575"/>
                  </a:lnTo>
                  <a:lnTo>
                    <a:pt x="1762" y="564"/>
                  </a:lnTo>
                  <a:lnTo>
                    <a:pt x="1742" y="554"/>
                  </a:lnTo>
                  <a:lnTo>
                    <a:pt x="1726" y="543"/>
                  </a:lnTo>
                  <a:lnTo>
                    <a:pt x="1713" y="532"/>
                  </a:lnTo>
                  <a:lnTo>
                    <a:pt x="1701" y="520"/>
                  </a:lnTo>
                  <a:lnTo>
                    <a:pt x="1693" y="507"/>
                  </a:lnTo>
                  <a:lnTo>
                    <a:pt x="1687" y="495"/>
                  </a:lnTo>
                  <a:lnTo>
                    <a:pt x="1682" y="482"/>
                  </a:lnTo>
                  <a:lnTo>
                    <a:pt x="1680" y="471"/>
                  </a:lnTo>
                  <a:lnTo>
                    <a:pt x="1679" y="458"/>
                  </a:lnTo>
                  <a:lnTo>
                    <a:pt x="1679" y="445"/>
                  </a:lnTo>
                  <a:lnTo>
                    <a:pt x="1680" y="433"/>
                  </a:lnTo>
                  <a:lnTo>
                    <a:pt x="1682" y="421"/>
                  </a:lnTo>
                  <a:lnTo>
                    <a:pt x="1685" y="409"/>
                  </a:lnTo>
                  <a:lnTo>
                    <a:pt x="1686" y="398"/>
                  </a:lnTo>
                  <a:lnTo>
                    <a:pt x="1687" y="389"/>
                  </a:lnTo>
                  <a:lnTo>
                    <a:pt x="1685" y="382"/>
                  </a:lnTo>
                  <a:lnTo>
                    <a:pt x="1682" y="376"/>
                  </a:lnTo>
                  <a:lnTo>
                    <a:pt x="1678" y="370"/>
                  </a:lnTo>
                  <a:lnTo>
                    <a:pt x="1672" y="366"/>
                  </a:lnTo>
                  <a:lnTo>
                    <a:pt x="1664" y="362"/>
                  </a:lnTo>
                  <a:lnTo>
                    <a:pt x="1656" y="359"/>
                  </a:lnTo>
                  <a:lnTo>
                    <a:pt x="1609" y="348"/>
                  </a:lnTo>
                  <a:lnTo>
                    <a:pt x="1547" y="331"/>
                  </a:lnTo>
                  <a:lnTo>
                    <a:pt x="1529" y="325"/>
                  </a:lnTo>
                  <a:lnTo>
                    <a:pt x="1512" y="319"/>
                  </a:lnTo>
                  <a:lnTo>
                    <a:pt x="1495" y="312"/>
                  </a:lnTo>
                  <a:lnTo>
                    <a:pt x="1479" y="304"/>
                  </a:lnTo>
                  <a:lnTo>
                    <a:pt x="1465" y="296"/>
                  </a:lnTo>
                  <a:lnTo>
                    <a:pt x="1451" y="287"/>
                  </a:lnTo>
                  <a:lnTo>
                    <a:pt x="1438" y="278"/>
                  </a:lnTo>
                  <a:lnTo>
                    <a:pt x="1425" y="269"/>
                  </a:lnTo>
                  <a:lnTo>
                    <a:pt x="1415" y="259"/>
                  </a:lnTo>
                  <a:lnTo>
                    <a:pt x="1406" y="249"/>
                  </a:lnTo>
                  <a:lnTo>
                    <a:pt x="1396" y="240"/>
                  </a:lnTo>
                  <a:lnTo>
                    <a:pt x="1389" y="230"/>
                  </a:lnTo>
                  <a:lnTo>
                    <a:pt x="1385" y="221"/>
                  </a:lnTo>
                  <a:lnTo>
                    <a:pt x="1380" y="210"/>
                  </a:lnTo>
                  <a:lnTo>
                    <a:pt x="1377" y="202"/>
                  </a:lnTo>
                  <a:lnTo>
                    <a:pt x="1376" y="193"/>
                  </a:lnTo>
                  <a:lnTo>
                    <a:pt x="1375" y="185"/>
                  </a:lnTo>
                  <a:lnTo>
                    <a:pt x="1373" y="176"/>
                  </a:lnTo>
                  <a:lnTo>
                    <a:pt x="1368" y="168"/>
                  </a:lnTo>
                  <a:lnTo>
                    <a:pt x="1361" y="161"/>
                  </a:lnTo>
                  <a:lnTo>
                    <a:pt x="1354" y="154"/>
                  </a:lnTo>
                  <a:lnTo>
                    <a:pt x="1346" y="148"/>
                  </a:lnTo>
                  <a:lnTo>
                    <a:pt x="1338" y="143"/>
                  </a:lnTo>
                  <a:lnTo>
                    <a:pt x="1328" y="137"/>
                  </a:lnTo>
                  <a:lnTo>
                    <a:pt x="1296" y="120"/>
                  </a:lnTo>
                  <a:lnTo>
                    <a:pt x="1282" y="115"/>
                  </a:lnTo>
                  <a:lnTo>
                    <a:pt x="12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Freeform 166"/>
            <p:cNvSpPr/>
            <p:nvPr/>
          </p:nvSpPr>
          <p:spPr>
            <a:xfrm>
              <a:off x="7491600" y="4038120"/>
              <a:ext cx="327960" cy="19980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180" h="1227">
                  <a:moveTo>
                    <a:pt x="1270" y="0"/>
                  </a:moveTo>
                  <a:lnTo>
                    <a:pt x="0" y="37"/>
                  </a:lnTo>
                  <a:lnTo>
                    <a:pt x="5" y="65"/>
                  </a:lnTo>
                  <a:lnTo>
                    <a:pt x="12" y="94"/>
                  </a:lnTo>
                  <a:lnTo>
                    <a:pt x="20" y="118"/>
                  </a:lnTo>
                  <a:lnTo>
                    <a:pt x="28" y="140"/>
                  </a:lnTo>
                  <a:lnTo>
                    <a:pt x="34" y="150"/>
                  </a:lnTo>
                  <a:lnTo>
                    <a:pt x="39" y="158"/>
                  </a:lnTo>
                  <a:lnTo>
                    <a:pt x="45" y="166"/>
                  </a:lnTo>
                  <a:lnTo>
                    <a:pt x="51" y="172"/>
                  </a:lnTo>
                  <a:lnTo>
                    <a:pt x="56" y="178"/>
                  </a:lnTo>
                  <a:lnTo>
                    <a:pt x="63" y="181"/>
                  </a:lnTo>
                  <a:lnTo>
                    <a:pt x="70" y="183"/>
                  </a:lnTo>
                  <a:lnTo>
                    <a:pt x="77" y="185"/>
                  </a:lnTo>
                  <a:lnTo>
                    <a:pt x="86" y="202"/>
                  </a:lnTo>
                  <a:lnTo>
                    <a:pt x="93" y="217"/>
                  </a:lnTo>
                  <a:lnTo>
                    <a:pt x="100" y="228"/>
                  </a:lnTo>
                  <a:lnTo>
                    <a:pt x="107" y="235"/>
                  </a:lnTo>
                  <a:lnTo>
                    <a:pt x="110" y="238"/>
                  </a:lnTo>
                  <a:lnTo>
                    <a:pt x="115" y="240"/>
                  </a:lnTo>
                  <a:lnTo>
                    <a:pt x="118" y="241"/>
                  </a:lnTo>
                  <a:lnTo>
                    <a:pt x="123" y="242"/>
                  </a:lnTo>
                  <a:lnTo>
                    <a:pt x="133" y="242"/>
                  </a:lnTo>
                  <a:lnTo>
                    <a:pt x="146" y="238"/>
                  </a:lnTo>
                  <a:lnTo>
                    <a:pt x="174" y="235"/>
                  </a:lnTo>
                  <a:lnTo>
                    <a:pt x="201" y="231"/>
                  </a:lnTo>
                  <a:lnTo>
                    <a:pt x="213" y="231"/>
                  </a:lnTo>
                  <a:lnTo>
                    <a:pt x="223" y="233"/>
                  </a:lnTo>
                  <a:lnTo>
                    <a:pt x="233" y="234"/>
                  </a:lnTo>
                  <a:lnTo>
                    <a:pt x="242" y="236"/>
                  </a:lnTo>
                  <a:lnTo>
                    <a:pt x="249" y="240"/>
                  </a:lnTo>
                  <a:lnTo>
                    <a:pt x="256" y="244"/>
                  </a:lnTo>
                  <a:lnTo>
                    <a:pt x="261" y="250"/>
                  </a:lnTo>
                  <a:lnTo>
                    <a:pt x="264" y="257"/>
                  </a:lnTo>
                  <a:lnTo>
                    <a:pt x="267" y="266"/>
                  </a:lnTo>
                  <a:lnTo>
                    <a:pt x="267" y="277"/>
                  </a:lnTo>
                  <a:lnTo>
                    <a:pt x="265" y="289"/>
                  </a:lnTo>
                  <a:lnTo>
                    <a:pt x="262" y="303"/>
                  </a:lnTo>
                  <a:lnTo>
                    <a:pt x="261" y="306"/>
                  </a:lnTo>
                  <a:lnTo>
                    <a:pt x="261" y="311"/>
                  </a:lnTo>
                  <a:lnTo>
                    <a:pt x="262" y="314"/>
                  </a:lnTo>
                  <a:lnTo>
                    <a:pt x="263" y="318"/>
                  </a:lnTo>
                  <a:lnTo>
                    <a:pt x="268" y="326"/>
                  </a:lnTo>
                  <a:lnTo>
                    <a:pt x="275" y="332"/>
                  </a:lnTo>
                  <a:lnTo>
                    <a:pt x="284" y="339"/>
                  </a:lnTo>
                  <a:lnTo>
                    <a:pt x="293" y="345"/>
                  </a:lnTo>
                  <a:lnTo>
                    <a:pt x="305" y="351"/>
                  </a:lnTo>
                  <a:lnTo>
                    <a:pt x="317" y="356"/>
                  </a:lnTo>
                  <a:lnTo>
                    <a:pt x="339" y="368"/>
                  </a:lnTo>
                  <a:lnTo>
                    <a:pt x="358" y="380"/>
                  </a:lnTo>
                  <a:lnTo>
                    <a:pt x="365" y="386"/>
                  </a:lnTo>
                  <a:lnTo>
                    <a:pt x="371" y="391"/>
                  </a:lnTo>
                  <a:lnTo>
                    <a:pt x="372" y="395"/>
                  </a:lnTo>
                  <a:lnTo>
                    <a:pt x="372" y="398"/>
                  </a:lnTo>
                  <a:lnTo>
                    <a:pt x="372" y="402"/>
                  </a:lnTo>
                  <a:lnTo>
                    <a:pt x="372" y="405"/>
                  </a:lnTo>
                  <a:lnTo>
                    <a:pt x="368" y="1028"/>
                  </a:lnTo>
                  <a:lnTo>
                    <a:pt x="443" y="1199"/>
                  </a:lnTo>
                  <a:lnTo>
                    <a:pt x="1909" y="1144"/>
                  </a:lnTo>
                  <a:lnTo>
                    <a:pt x="1901" y="1227"/>
                  </a:lnTo>
                  <a:lnTo>
                    <a:pt x="2039" y="1213"/>
                  </a:lnTo>
                  <a:lnTo>
                    <a:pt x="2049" y="1202"/>
                  </a:lnTo>
                  <a:lnTo>
                    <a:pt x="2059" y="1192"/>
                  </a:lnTo>
                  <a:lnTo>
                    <a:pt x="2066" y="1181"/>
                  </a:lnTo>
                  <a:lnTo>
                    <a:pt x="2070" y="1172"/>
                  </a:lnTo>
                  <a:lnTo>
                    <a:pt x="2075" y="1163"/>
                  </a:lnTo>
                  <a:lnTo>
                    <a:pt x="2077" y="1154"/>
                  </a:lnTo>
                  <a:lnTo>
                    <a:pt x="2080" y="1146"/>
                  </a:lnTo>
                  <a:lnTo>
                    <a:pt x="2081" y="1137"/>
                  </a:lnTo>
                  <a:lnTo>
                    <a:pt x="2081" y="1120"/>
                  </a:lnTo>
                  <a:lnTo>
                    <a:pt x="2081" y="1102"/>
                  </a:lnTo>
                  <a:lnTo>
                    <a:pt x="2081" y="1092"/>
                  </a:lnTo>
                  <a:lnTo>
                    <a:pt x="2082" y="1082"/>
                  </a:lnTo>
                  <a:lnTo>
                    <a:pt x="2083" y="1071"/>
                  </a:lnTo>
                  <a:lnTo>
                    <a:pt x="2085" y="1060"/>
                  </a:lnTo>
                  <a:lnTo>
                    <a:pt x="2092" y="1037"/>
                  </a:lnTo>
                  <a:lnTo>
                    <a:pt x="2101" y="1016"/>
                  </a:lnTo>
                  <a:lnTo>
                    <a:pt x="2110" y="996"/>
                  </a:lnTo>
                  <a:lnTo>
                    <a:pt x="2122" y="979"/>
                  </a:lnTo>
                  <a:lnTo>
                    <a:pt x="2134" y="961"/>
                  </a:lnTo>
                  <a:lnTo>
                    <a:pt x="2148" y="945"/>
                  </a:lnTo>
                  <a:lnTo>
                    <a:pt x="2164" y="931"/>
                  </a:lnTo>
                  <a:lnTo>
                    <a:pt x="2180" y="918"/>
                  </a:lnTo>
                  <a:lnTo>
                    <a:pt x="2179" y="901"/>
                  </a:lnTo>
                  <a:lnTo>
                    <a:pt x="2176" y="887"/>
                  </a:lnTo>
                  <a:lnTo>
                    <a:pt x="2174" y="881"/>
                  </a:lnTo>
                  <a:lnTo>
                    <a:pt x="2172" y="876"/>
                  </a:lnTo>
                  <a:lnTo>
                    <a:pt x="2169" y="871"/>
                  </a:lnTo>
                  <a:lnTo>
                    <a:pt x="2167" y="868"/>
                  </a:lnTo>
                  <a:lnTo>
                    <a:pt x="2160" y="862"/>
                  </a:lnTo>
                  <a:lnTo>
                    <a:pt x="2152" y="859"/>
                  </a:lnTo>
                  <a:lnTo>
                    <a:pt x="2143" y="856"/>
                  </a:lnTo>
                  <a:lnTo>
                    <a:pt x="2133" y="855"/>
                  </a:lnTo>
                  <a:lnTo>
                    <a:pt x="2111" y="854"/>
                  </a:lnTo>
                  <a:lnTo>
                    <a:pt x="2088" y="852"/>
                  </a:lnTo>
                  <a:lnTo>
                    <a:pt x="2075" y="848"/>
                  </a:lnTo>
                  <a:lnTo>
                    <a:pt x="2063" y="843"/>
                  </a:lnTo>
                  <a:lnTo>
                    <a:pt x="2057" y="840"/>
                  </a:lnTo>
                  <a:lnTo>
                    <a:pt x="2050" y="836"/>
                  </a:lnTo>
                  <a:lnTo>
                    <a:pt x="2044" y="832"/>
                  </a:lnTo>
                  <a:lnTo>
                    <a:pt x="2039" y="826"/>
                  </a:lnTo>
                  <a:lnTo>
                    <a:pt x="2039" y="804"/>
                  </a:lnTo>
                  <a:lnTo>
                    <a:pt x="2037" y="783"/>
                  </a:lnTo>
                  <a:lnTo>
                    <a:pt x="2035" y="763"/>
                  </a:lnTo>
                  <a:lnTo>
                    <a:pt x="2032" y="744"/>
                  </a:lnTo>
                  <a:lnTo>
                    <a:pt x="2027" y="728"/>
                  </a:lnTo>
                  <a:lnTo>
                    <a:pt x="2021" y="711"/>
                  </a:lnTo>
                  <a:lnTo>
                    <a:pt x="2013" y="696"/>
                  </a:lnTo>
                  <a:lnTo>
                    <a:pt x="2004" y="682"/>
                  </a:lnTo>
                  <a:lnTo>
                    <a:pt x="1992" y="668"/>
                  </a:lnTo>
                  <a:lnTo>
                    <a:pt x="1978" y="655"/>
                  </a:lnTo>
                  <a:lnTo>
                    <a:pt x="1962" y="644"/>
                  </a:lnTo>
                  <a:lnTo>
                    <a:pt x="1943" y="633"/>
                  </a:lnTo>
                  <a:lnTo>
                    <a:pt x="1922" y="623"/>
                  </a:lnTo>
                  <a:lnTo>
                    <a:pt x="1897" y="612"/>
                  </a:lnTo>
                  <a:lnTo>
                    <a:pt x="1870" y="603"/>
                  </a:lnTo>
                  <a:lnTo>
                    <a:pt x="1840" y="593"/>
                  </a:lnTo>
                  <a:lnTo>
                    <a:pt x="1810" y="584"/>
                  </a:lnTo>
                  <a:lnTo>
                    <a:pt x="1784" y="575"/>
                  </a:lnTo>
                  <a:lnTo>
                    <a:pt x="1762" y="564"/>
                  </a:lnTo>
                  <a:lnTo>
                    <a:pt x="1742" y="554"/>
                  </a:lnTo>
                  <a:lnTo>
                    <a:pt x="1726" y="543"/>
                  </a:lnTo>
                  <a:lnTo>
                    <a:pt x="1713" y="532"/>
                  </a:lnTo>
                  <a:lnTo>
                    <a:pt x="1701" y="520"/>
                  </a:lnTo>
                  <a:lnTo>
                    <a:pt x="1693" y="507"/>
                  </a:lnTo>
                  <a:lnTo>
                    <a:pt x="1687" y="495"/>
                  </a:lnTo>
                  <a:lnTo>
                    <a:pt x="1682" y="482"/>
                  </a:lnTo>
                  <a:lnTo>
                    <a:pt x="1680" y="471"/>
                  </a:lnTo>
                  <a:lnTo>
                    <a:pt x="1679" y="458"/>
                  </a:lnTo>
                  <a:lnTo>
                    <a:pt x="1679" y="445"/>
                  </a:lnTo>
                  <a:lnTo>
                    <a:pt x="1680" y="433"/>
                  </a:lnTo>
                  <a:lnTo>
                    <a:pt x="1682" y="421"/>
                  </a:lnTo>
                  <a:lnTo>
                    <a:pt x="1685" y="409"/>
                  </a:lnTo>
                  <a:lnTo>
                    <a:pt x="1686" y="398"/>
                  </a:lnTo>
                  <a:lnTo>
                    <a:pt x="1687" y="389"/>
                  </a:lnTo>
                  <a:lnTo>
                    <a:pt x="1685" y="382"/>
                  </a:lnTo>
                  <a:lnTo>
                    <a:pt x="1682" y="376"/>
                  </a:lnTo>
                  <a:lnTo>
                    <a:pt x="1678" y="370"/>
                  </a:lnTo>
                  <a:lnTo>
                    <a:pt x="1672" y="366"/>
                  </a:lnTo>
                  <a:lnTo>
                    <a:pt x="1664" y="362"/>
                  </a:lnTo>
                  <a:lnTo>
                    <a:pt x="1656" y="359"/>
                  </a:lnTo>
                  <a:lnTo>
                    <a:pt x="1609" y="348"/>
                  </a:lnTo>
                  <a:lnTo>
                    <a:pt x="1547" y="331"/>
                  </a:lnTo>
                  <a:lnTo>
                    <a:pt x="1529" y="325"/>
                  </a:lnTo>
                  <a:lnTo>
                    <a:pt x="1512" y="319"/>
                  </a:lnTo>
                  <a:lnTo>
                    <a:pt x="1495" y="312"/>
                  </a:lnTo>
                  <a:lnTo>
                    <a:pt x="1479" y="304"/>
                  </a:lnTo>
                  <a:lnTo>
                    <a:pt x="1465" y="296"/>
                  </a:lnTo>
                  <a:lnTo>
                    <a:pt x="1451" y="287"/>
                  </a:lnTo>
                  <a:lnTo>
                    <a:pt x="1438" y="278"/>
                  </a:lnTo>
                  <a:lnTo>
                    <a:pt x="1425" y="269"/>
                  </a:lnTo>
                  <a:lnTo>
                    <a:pt x="1415" y="259"/>
                  </a:lnTo>
                  <a:lnTo>
                    <a:pt x="1406" y="249"/>
                  </a:lnTo>
                  <a:lnTo>
                    <a:pt x="1396" y="240"/>
                  </a:lnTo>
                  <a:lnTo>
                    <a:pt x="1389" y="230"/>
                  </a:lnTo>
                  <a:lnTo>
                    <a:pt x="1385" y="221"/>
                  </a:lnTo>
                  <a:lnTo>
                    <a:pt x="1380" y="210"/>
                  </a:lnTo>
                  <a:lnTo>
                    <a:pt x="1377" y="202"/>
                  </a:lnTo>
                  <a:lnTo>
                    <a:pt x="1376" y="193"/>
                  </a:lnTo>
                  <a:lnTo>
                    <a:pt x="1375" y="185"/>
                  </a:lnTo>
                  <a:lnTo>
                    <a:pt x="1373" y="176"/>
                  </a:lnTo>
                  <a:lnTo>
                    <a:pt x="1368" y="168"/>
                  </a:lnTo>
                  <a:lnTo>
                    <a:pt x="1361" y="161"/>
                  </a:lnTo>
                  <a:lnTo>
                    <a:pt x="1354" y="154"/>
                  </a:lnTo>
                  <a:lnTo>
                    <a:pt x="1346" y="148"/>
                  </a:lnTo>
                  <a:lnTo>
                    <a:pt x="1338" y="143"/>
                  </a:lnTo>
                  <a:lnTo>
                    <a:pt x="1328" y="137"/>
                  </a:lnTo>
                  <a:lnTo>
                    <a:pt x="1296" y="120"/>
                  </a:lnTo>
                  <a:lnTo>
                    <a:pt x="1282" y="115"/>
                  </a:lnTo>
                  <a:lnTo>
                    <a:pt x="1270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Freeform 167"/>
            <p:cNvSpPr/>
            <p:nvPr/>
          </p:nvSpPr>
          <p:spPr>
            <a:xfrm>
              <a:off x="8015400" y="4235040"/>
              <a:ext cx="382320" cy="282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529" h="1729">
                  <a:moveTo>
                    <a:pt x="1040" y="0"/>
                  </a:moveTo>
                  <a:lnTo>
                    <a:pt x="0" y="116"/>
                  </a:lnTo>
                  <a:lnTo>
                    <a:pt x="8" y="127"/>
                  </a:lnTo>
                  <a:lnTo>
                    <a:pt x="33" y="159"/>
                  </a:lnTo>
                  <a:lnTo>
                    <a:pt x="70" y="208"/>
                  </a:lnTo>
                  <a:lnTo>
                    <a:pt x="119" y="272"/>
                  </a:lnTo>
                  <a:lnTo>
                    <a:pt x="177" y="349"/>
                  </a:lnTo>
                  <a:lnTo>
                    <a:pt x="240" y="435"/>
                  </a:lnTo>
                  <a:lnTo>
                    <a:pt x="308" y="527"/>
                  </a:lnTo>
                  <a:lnTo>
                    <a:pt x="379" y="621"/>
                  </a:lnTo>
                  <a:lnTo>
                    <a:pt x="449" y="717"/>
                  </a:lnTo>
                  <a:lnTo>
                    <a:pt x="516" y="811"/>
                  </a:lnTo>
                  <a:lnTo>
                    <a:pt x="580" y="899"/>
                  </a:lnTo>
                  <a:lnTo>
                    <a:pt x="636" y="980"/>
                  </a:lnTo>
                  <a:lnTo>
                    <a:pt x="682" y="1049"/>
                  </a:lnTo>
                  <a:lnTo>
                    <a:pt x="719" y="1105"/>
                  </a:lnTo>
                  <a:lnTo>
                    <a:pt x="731" y="1127"/>
                  </a:lnTo>
                  <a:lnTo>
                    <a:pt x="741" y="1145"/>
                  </a:lnTo>
                  <a:lnTo>
                    <a:pt x="745" y="1156"/>
                  </a:lnTo>
                  <a:lnTo>
                    <a:pt x="747" y="1165"/>
                  </a:lnTo>
                  <a:lnTo>
                    <a:pt x="744" y="1175"/>
                  </a:lnTo>
                  <a:lnTo>
                    <a:pt x="744" y="1191"/>
                  </a:lnTo>
                  <a:lnTo>
                    <a:pt x="744" y="1211"/>
                  </a:lnTo>
                  <a:lnTo>
                    <a:pt x="748" y="1236"/>
                  </a:lnTo>
                  <a:lnTo>
                    <a:pt x="751" y="1263"/>
                  </a:lnTo>
                  <a:lnTo>
                    <a:pt x="757" y="1293"/>
                  </a:lnTo>
                  <a:lnTo>
                    <a:pt x="764" y="1325"/>
                  </a:lnTo>
                  <a:lnTo>
                    <a:pt x="773" y="1358"/>
                  </a:lnTo>
                  <a:lnTo>
                    <a:pt x="785" y="1392"/>
                  </a:lnTo>
                  <a:lnTo>
                    <a:pt x="798" y="1427"/>
                  </a:lnTo>
                  <a:lnTo>
                    <a:pt x="812" y="1461"/>
                  </a:lnTo>
                  <a:lnTo>
                    <a:pt x="829" y="1495"/>
                  </a:lnTo>
                  <a:lnTo>
                    <a:pt x="839" y="1512"/>
                  </a:lnTo>
                  <a:lnTo>
                    <a:pt x="848" y="1527"/>
                  </a:lnTo>
                  <a:lnTo>
                    <a:pt x="858" y="1543"/>
                  </a:lnTo>
                  <a:lnTo>
                    <a:pt x="868" y="1558"/>
                  </a:lnTo>
                  <a:lnTo>
                    <a:pt x="880" y="1572"/>
                  </a:lnTo>
                  <a:lnTo>
                    <a:pt x="891" y="1585"/>
                  </a:lnTo>
                  <a:lnTo>
                    <a:pt x="903" y="1598"/>
                  </a:lnTo>
                  <a:lnTo>
                    <a:pt x="916" y="1611"/>
                  </a:lnTo>
                  <a:lnTo>
                    <a:pt x="938" y="1628"/>
                  </a:lnTo>
                  <a:lnTo>
                    <a:pt x="958" y="1644"/>
                  </a:lnTo>
                  <a:lnTo>
                    <a:pt x="978" y="1658"/>
                  </a:lnTo>
                  <a:lnTo>
                    <a:pt x="997" y="1670"/>
                  </a:lnTo>
                  <a:lnTo>
                    <a:pt x="1015" y="1682"/>
                  </a:lnTo>
                  <a:lnTo>
                    <a:pt x="1033" y="1693"/>
                  </a:lnTo>
                  <a:lnTo>
                    <a:pt x="1050" y="1701"/>
                  </a:lnTo>
                  <a:lnTo>
                    <a:pt x="1068" y="1708"/>
                  </a:lnTo>
                  <a:lnTo>
                    <a:pt x="1085" y="1715"/>
                  </a:lnTo>
                  <a:lnTo>
                    <a:pt x="1103" y="1719"/>
                  </a:lnTo>
                  <a:lnTo>
                    <a:pt x="1120" y="1723"/>
                  </a:lnTo>
                  <a:lnTo>
                    <a:pt x="1139" y="1726"/>
                  </a:lnTo>
                  <a:lnTo>
                    <a:pt x="1159" y="1728"/>
                  </a:lnTo>
                  <a:lnTo>
                    <a:pt x="1179" y="1729"/>
                  </a:lnTo>
                  <a:lnTo>
                    <a:pt x="1200" y="1729"/>
                  </a:lnTo>
                  <a:lnTo>
                    <a:pt x="1222" y="1728"/>
                  </a:lnTo>
                  <a:lnTo>
                    <a:pt x="1272" y="1722"/>
                  </a:lnTo>
                  <a:lnTo>
                    <a:pt x="1328" y="1714"/>
                  </a:lnTo>
                  <a:lnTo>
                    <a:pt x="1393" y="1703"/>
                  </a:lnTo>
                  <a:lnTo>
                    <a:pt x="1467" y="1690"/>
                  </a:lnTo>
                  <a:lnTo>
                    <a:pt x="1553" y="1675"/>
                  </a:lnTo>
                  <a:lnTo>
                    <a:pt x="1651" y="1658"/>
                  </a:lnTo>
                  <a:lnTo>
                    <a:pt x="1763" y="1639"/>
                  </a:lnTo>
                  <a:lnTo>
                    <a:pt x="1890" y="1619"/>
                  </a:lnTo>
                  <a:lnTo>
                    <a:pt x="1960" y="1608"/>
                  </a:lnTo>
                  <a:lnTo>
                    <a:pt x="2019" y="1599"/>
                  </a:lnTo>
                  <a:lnTo>
                    <a:pt x="2068" y="1592"/>
                  </a:lnTo>
                  <a:lnTo>
                    <a:pt x="2109" y="1586"/>
                  </a:lnTo>
                  <a:lnTo>
                    <a:pt x="2142" y="1582"/>
                  </a:lnTo>
                  <a:lnTo>
                    <a:pt x="2169" y="1578"/>
                  </a:lnTo>
                  <a:lnTo>
                    <a:pt x="2194" y="1576"/>
                  </a:lnTo>
                  <a:lnTo>
                    <a:pt x="2215" y="1573"/>
                  </a:lnTo>
                  <a:lnTo>
                    <a:pt x="2220" y="1572"/>
                  </a:lnTo>
                  <a:lnTo>
                    <a:pt x="2224" y="1570"/>
                  </a:lnTo>
                  <a:lnTo>
                    <a:pt x="2229" y="1568"/>
                  </a:lnTo>
                  <a:lnTo>
                    <a:pt x="2232" y="1565"/>
                  </a:lnTo>
                  <a:lnTo>
                    <a:pt x="2239" y="1558"/>
                  </a:lnTo>
                  <a:lnTo>
                    <a:pt x="2245" y="1549"/>
                  </a:lnTo>
                  <a:lnTo>
                    <a:pt x="2257" y="1529"/>
                  </a:lnTo>
                  <a:lnTo>
                    <a:pt x="2265" y="1509"/>
                  </a:lnTo>
                  <a:lnTo>
                    <a:pt x="2270" y="1499"/>
                  </a:lnTo>
                  <a:lnTo>
                    <a:pt x="2274" y="1490"/>
                  </a:lnTo>
                  <a:lnTo>
                    <a:pt x="2278" y="1482"/>
                  </a:lnTo>
                  <a:lnTo>
                    <a:pt x="2283" y="1478"/>
                  </a:lnTo>
                  <a:lnTo>
                    <a:pt x="2286" y="1475"/>
                  </a:lnTo>
                  <a:lnTo>
                    <a:pt x="2288" y="1474"/>
                  </a:lnTo>
                  <a:lnTo>
                    <a:pt x="2291" y="1473"/>
                  </a:lnTo>
                  <a:lnTo>
                    <a:pt x="2294" y="1473"/>
                  </a:lnTo>
                  <a:lnTo>
                    <a:pt x="2297" y="1474"/>
                  </a:lnTo>
                  <a:lnTo>
                    <a:pt x="2300" y="1475"/>
                  </a:lnTo>
                  <a:lnTo>
                    <a:pt x="2304" y="1478"/>
                  </a:lnTo>
                  <a:lnTo>
                    <a:pt x="2307" y="1481"/>
                  </a:lnTo>
                  <a:lnTo>
                    <a:pt x="2317" y="1488"/>
                  </a:lnTo>
                  <a:lnTo>
                    <a:pt x="2327" y="1495"/>
                  </a:lnTo>
                  <a:lnTo>
                    <a:pt x="2338" y="1500"/>
                  </a:lnTo>
                  <a:lnTo>
                    <a:pt x="2349" y="1502"/>
                  </a:lnTo>
                  <a:lnTo>
                    <a:pt x="2362" y="1505"/>
                  </a:lnTo>
                  <a:lnTo>
                    <a:pt x="2376" y="1506"/>
                  </a:lnTo>
                  <a:lnTo>
                    <a:pt x="2390" y="1507"/>
                  </a:lnTo>
                  <a:lnTo>
                    <a:pt x="2404" y="1507"/>
                  </a:lnTo>
                  <a:lnTo>
                    <a:pt x="2434" y="1505"/>
                  </a:lnTo>
                  <a:lnTo>
                    <a:pt x="2466" y="1503"/>
                  </a:lnTo>
                  <a:lnTo>
                    <a:pt x="2481" y="1502"/>
                  </a:lnTo>
                  <a:lnTo>
                    <a:pt x="2498" y="1502"/>
                  </a:lnTo>
                  <a:lnTo>
                    <a:pt x="2513" y="1503"/>
                  </a:lnTo>
                  <a:lnTo>
                    <a:pt x="2529" y="1505"/>
                  </a:lnTo>
                  <a:lnTo>
                    <a:pt x="2522" y="1496"/>
                  </a:lnTo>
                  <a:lnTo>
                    <a:pt x="2516" y="1489"/>
                  </a:lnTo>
                  <a:lnTo>
                    <a:pt x="2510" y="1481"/>
                  </a:lnTo>
                  <a:lnTo>
                    <a:pt x="2505" y="1473"/>
                  </a:lnTo>
                  <a:lnTo>
                    <a:pt x="2496" y="1457"/>
                  </a:lnTo>
                  <a:lnTo>
                    <a:pt x="2489" y="1440"/>
                  </a:lnTo>
                  <a:lnTo>
                    <a:pt x="2485" y="1424"/>
                  </a:lnTo>
                  <a:lnTo>
                    <a:pt x="2480" y="1406"/>
                  </a:lnTo>
                  <a:lnTo>
                    <a:pt x="2478" y="1390"/>
                  </a:lnTo>
                  <a:lnTo>
                    <a:pt x="2477" y="1374"/>
                  </a:lnTo>
                  <a:lnTo>
                    <a:pt x="2474" y="1342"/>
                  </a:lnTo>
                  <a:lnTo>
                    <a:pt x="2472" y="1313"/>
                  </a:lnTo>
                  <a:lnTo>
                    <a:pt x="2471" y="1300"/>
                  </a:lnTo>
                  <a:lnTo>
                    <a:pt x="2468" y="1290"/>
                  </a:lnTo>
                  <a:lnTo>
                    <a:pt x="2465" y="1279"/>
                  </a:lnTo>
                  <a:lnTo>
                    <a:pt x="2460" y="1271"/>
                  </a:lnTo>
                  <a:lnTo>
                    <a:pt x="2454" y="1263"/>
                  </a:lnTo>
                  <a:lnTo>
                    <a:pt x="2449" y="1256"/>
                  </a:lnTo>
                  <a:lnTo>
                    <a:pt x="2443" y="1250"/>
                  </a:lnTo>
                  <a:lnTo>
                    <a:pt x="2436" y="1245"/>
                  </a:lnTo>
                  <a:lnTo>
                    <a:pt x="2424" y="1238"/>
                  </a:lnTo>
                  <a:lnTo>
                    <a:pt x="2411" y="1232"/>
                  </a:lnTo>
                  <a:lnTo>
                    <a:pt x="2406" y="1229"/>
                  </a:lnTo>
                  <a:lnTo>
                    <a:pt x="2401" y="1225"/>
                  </a:lnTo>
                  <a:lnTo>
                    <a:pt x="2397" y="1222"/>
                  </a:lnTo>
                  <a:lnTo>
                    <a:pt x="2392" y="1218"/>
                  </a:lnTo>
                  <a:lnTo>
                    <a:pt x="2389" y="1214"/>
                  </a:lnTo>
                  <a:lnTo>
                    <a:pt x="2387" y="1208"/>
                  </a:lnTo>
                  <a:lnTo>
                    <a:pt x="2385" y="1201"/>
                  </a:lnTo>
                  <a:lnTo>
                    <a:pt x="2385" y="1193"/>
                  </a:lnTo>
                  <a:lnTo>
                    <a:pt x="2384" y="1183"/>
                  </a:lnTo>
                  <a:lnTo>
                    <a:pt x="2383" y="1173"/>
                  </a:lnTo>
                  <a:lnTo>
                    <a:pt x="2381" y="1161"/>
                  </a:lnTo>
                  <a:lnTo>
                    <a:pt x="2377" y="1149"/>
                  </a:lnTo>
                  <a:lnTo>
                    <a:pt x="2369" y="1121"/>
                  </a:lnTo>
                  <a:lnTo>
                    <a:pt x="2360" y="1093"/>
                  </a:lnTo>
                  <a:lnTo>
                    <a:pt x="2349" y="1064"/>
                  </a:lnTo>
                  <a:lnTo>
                    <a:pt x="2339" y="1037"/>
                  </a:lnTo>
                  <a:lnTo>
                    <a:pt x="2329" y="1012"/>
                  </a:lnTo>
                  <a:lnTo>
                    <a:pt x="2321" y="992"/>
                  </a:lnTo>
                  <a:lnTo>
                    <a:pt x="2319" y="981"/>
                  </a:lnTo>
                  <a:lnTo>
                    <a:pt x="2317" y="970"/>
                  </a:lnTo>
                  <a:lnTo>
                    <a:pt x="2314" y="957"/>
                  </a:lnTo>
                  <a:lnTo>
                    <a:pt x="2313" y="943"/>
                  </a:lnTo>
                  <a:lnTo>
                    <a:pt x="2300" y="923"/>
                  </a:lnTo>
                  <a:lnTo>
                    <a:pt x="2286" y="904"/>
                  </a:lnTo>
                  <a:lnTo>
                    <a:pt x="2270" y="888"/>
                  </a:lnTo>
                  <a:lnTo>
                    <a:pt x="2252" y="873"/>
                  </a:lnTo>
                  <a:lnTo>
                    <a:pt x="2234" y="859"/>
                  </a:lnTo>
                  <a:lnTo>
                    <a:pt x="2213" y="846"/>
                  </a:lnTo>
                  <a:lnTo>
                    <a:pt x="2192" y="833"/>
                  </a:lnTo>
                  <a:lnTo>
                    <a:pt x="2170" y="822"/>
                  </a:lnTo>
                  <a:lnTo>
                    <a:pt x="2147" y="813"/>
                  </a:lnTo>
                  <a:lnTo>
                    <a:pt x="2124" y="804"/>
                  </a:lnTo>
                  <a:lnTo>
                    <a:pt x="2100" y="795"/>
                  </a:lnTo>
                  <a:lnTo>
                    <a:pt x="2077" y="787"/>
                  </a:lnTo>
                  <a:lnTo>
                    <a:pt x="2029" y="773"/>
                  </a:lnTo>
                  <a:lnTo>
                    <a:pt x="1981" y="760"/>
                  </a:lnTo>
                  <a:lnTo>
                    <a:pt x="1960" y="755"/>
                  </a:lnTo>
                  <a:lnTo>
                    <a:pt x="1943" y="746"/>
                  </a:lnTo>
                  <a:lnTo>
                    <a:pt x="1926" y="738"/>
                  </a:lnTo>
                  <a:lnTo>
                    <a:pt x="1915" y="729"/>
                  </a:lnTo>
                  <a:lnTo>
                    <a:pt x="1903" y="718"/>
                  </a:lnTo>
                  <a:lnTo>
                    <a:pt x="1895" y="708"/>
                  </a:lnTo>
                  <a:lnTo>
                    <a:pt x="1888" y="695"/>
                  </a:lnTo>
                  <a:lnTo>
                    <a:pt x="1881" y="682"/>
                  </a:lnTo>
                  <a:lnTo>
                    <a:pt x="1870" y="655"/>
                  </a:lnTo>
                  <a:lnTo>
                    <a:pt x="1860" y="625"/>
                  </a:lnTo>
                  <a:lnTo>
                    <a:pt x="1854" y="610"/>
                  </a:lnTo>
                  <a:lnTo>
                    <a:pt x="1846" y="593"/>
                  </a:lnTo>
                  <a:lnTo>
                    <a:pt x="1838" y="576"/>
                  </a:lnTo>
                  <a:lnTo>
                    <a:pt x="1826" y="560"/>
                  </a:lnTo>
                  <a:lnTo>
                    <a:pt x="1793" y="547"/>
                  </a:lnTo>
                  <a:lnTo>
                    <a:pt x="1762" y="534"/>
                  </a:lnTo>
                  <a:lnTo>
                    <a:pt x="1732" y="520"/>
                  </a:lnTo>
                  <a:lnTo>
                    <a:pt x="1706" y="505"/>
                  </a:lnTo>
                  <a:lnTo>
                    <a:pt x="1680" y="489"/>
                  </a:lnTo>
                  <a:lnTo>
                    <a:pt x="1658" y="474"/>
                  </a:lnTo>
                  <a:lnTo>
                    <a:pt x="1637" y="459"/>
                  </a:lnTo>
                  <a:lnTo>
                    <a:pt x="1619" y="444"/>
                  </a:lnTo>
                  <a:lnTo>
                    <a:pt x="1589" y="417"/>
                  </a:lnTo>
                  <a:lnTo>
                    <a:pt x="1567" y="395"/>
                  </a:lnTo>
                  <a:lnTo>
                    <a:pt x="1554" y="381"/>
                  </a:lnTo>
                  <a:lnTo>
                    <a:pt x="1550" y="375"/>
                  </a:lnTo>
                  <a:lnTo>
                    <a:pt x="1394" y="329"/>
                  </a:lnTo>
                  <a:lnTo>
                    <a:pt x="10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Freeform 168"/>
            <p:cNvSpPr/>
            <p:nvPr/>
          </p:nvSpPr>
          <p:spPr>
            <a:xfrm>
              <a:off x="8015400" y="4235040"/>
              <a:ext cx="382320" cy="282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529" h="1729">
                  <a:moveTo>
                    <a:pt x="1040" y="0"/>
                  </a:moveTo>
                  <a:lnTo>
                    <a:pt x="0" y="116"/>
                  </a:lnTo>
                  <a:lnTo>
                    <a:pt x="8" y="127"/>
                  </a:lnTo>
                  <a:lnTo>
                    <a:pt x="33" y="159"/>
                  </a:lnTo>
                  <a:lnTo>
                    <a:pt x="70" y="208"/>
                  </a:lnTo>
                  <a:lnTo>
                    <a:pt x="119" y="272"/>
                  </a:lnTo>
                  <a:lnTo>
                    <a:pt x="177" y="349"/>
                  </a:lnTo>
                  <a:lnTo>
                    <a:pt x="240" y="435"/>
                  </a:lnTo>
                  <a:lnTo>
                    <a:pt x="308" y="527"/>
                  </a:lnTo>
                  <a:lnTo>
                    <a:pt x="379" y="621"/>
                  </a:lnTo>
                  <a:lnTo>
                    <a:pt x="449" y="717"/>
                  </a:lnTo>
                  <a:lnTo>
                    <a:pt x="516" y="811"/>
                  </a:lnTo>
                  <a:lnTo>
                    <a:pt x="580" y="899"/>
                  </a:lnTo>
                  <a:lnTo>
                    <a:pt x="636" y="980"/>
                  </a:lnTo>
                  <a:lnTo>
                    <a:pt x="682" y="1049"/>
                  </a:lnTo>
                  <a:lnTo>
                    <a:pt x="719" y="1105"/>
                  </a:lnTo>
                  <a:lnTo>
                    <a:pt x="731" y="1127"/>
                  </a:lnTo>
                  <a:lnTo>
                    <a:pt x="741" y="1145"/>
                  </a:lnTo>
                  <a:lnTo>
                    <a:pt x="745" y="1156"/>
                  </a:lnTo>
                  <a:lnTo>
                    <a:pt x="747" y="1165"/>
                  </a:lnTo>
                  <a:lnTo>
                    <a:pt x="744" y="1175"/>
                  </a:lnTo>
                  <a:lnTo>
                    <a:pt x="744" y="1191"/>
                  </a:lnTo>
                  <a:lnTo>
                    <a:pt x="744" y="1211"/>
                  </a:lnTo>
                  <a:lnTo>
                    <a:pt x="748" y="1236"/>
                  </a:lnTo>
                  <a:lnTo>
                    <a:pt x="751" y="1263"/>
                  </a:lnTo>
                  <a:lnTo>
                    <a:pt x="757" y="1293"/>
                  </a:lnTo>
                  <a:lnTo>
                    <a:pt x="764" y="1325"/>
                  </a:lnTo>
                  <a:lnTo>
                    <a:pt x="773" y="1358"/>
                  </a:lnTo>
                  <a:lnTo>
                    <a:pt x="785" y="1392"/>
                  </a:lnTo>
                  <a:lnTo>
                    <a:pt x="798" y="1427"/>
                  </a:lnTo>
                  <a:lnTo>
                    <a:pt x="812" y="1461"/>
                  </a:lnTo>
                  <a:lnTo>
                    <a:pt x="829" y="1495"/>
                  </a:lnTo>
                  <a:lnTo>
                    <a:pt x="839" y="1512"/>
                  </a:lnTo>
                  <a:lnTo>
                    <a:pt x="848" y="1527"/>
                  </a:lnTo>
                  <a:lnTo>
                    <a:pt x="858" y="1543"/>
                  </a:lnTo>
                  <a:lnTo>
                    <a:pt x="868" y="1558"/>
                  </a:lnTo>
                  <a:lnTo>
                    <a:pt x="880" y="1572"/>
                  </a:lnTo>
                  <a:lnTo>
                    <a:pt x="891" y="1585"/>
                  </a:lnTo>
                  <a:lnTo>
                    <a:pt x="903" y="1598"/>
                  </a:lnTo>
                  <a:lnTo>
                    <a:pt x="916" y="1611"/>
                  </a:lnTo>
                  <a:lnTo>
                    <a:pt x="938" y="1628"/>
                  </a:lnTo>
                  <a:lnTo>
                    <a:pt x="958" y="1644"/>
                  </a:lnTo>
                  <a:lnTo>
                    <a:pt x="978" y="1658"/>
                  </a:lnTo>
                  <a:lnTo>
                    <a:pt x="997" y="1670"/>
                  </a:lnTo>
                  <a:lnTo>
                    <a:pt x="1015" y="1682"/>
                  </a:lnTo>
                  <a:lnTo>
                    <a:pt x="1033" y="1693"/>
                  </a:lnTo>
                  <a:lnTo>
                    <a:pt x="1050" y="1701"/>
                  </a:lnTo>
                  <a:lnTo>
                    <a:pt x="1068" y="1708"/>
                  </a:lnTo>
                  <a:lnTo>
                    <a:pt x="1085" y="1715"/>
                  </a:lnTo>
                  <a:lnTo>
                    <a:pt x="1103" y="1719"/>
                  </a:lnTo>
                  <a:lnTo>
                    <a:pt x="1120" y="1723"/>
                  </a:lnTo>
                  <a:lnTo>
                    <a:pt x="1139" y="1726"/>
                  </a:lnTo>
                  <a:lnTo>
                    <a:pt x="1159" y="1728"/>
                  </a:lnTo>
                  <a:lnTo>
                    <a:pt x="1179" y="1729"/>
                  </a:lnTo>
                  <a:lnTo>
                    <a:pt x="1200" y="1729"/>
                  </a:lnTo>
                  <a:lnTo>
                    <a:pt x="1222" y="1728"/>
                  </a:lnTo>
                  <a:lnTo>
                    <a:pt x="1272" y="1722"/>
                  </a:lnTo>
                  <a:lnTo>
                    <a:pt x="1328" y="1714"/>
                  </a:lnTo>
                  <a:lnTo>
                    <a:pt x="1393" y="1703"/>
                  </a:lnTo>
                  <a:lnTo>
                    <a:pt x="1467" y="1690"/>
                  </a:lnTo>
                  <a:lnTo>
                    <a:pt x="1553" y="1675"/>
                  </a:lnTo>
                  <a:lnTo>
                    <a:pt x="1651" y="1658"/>
                  </a:lnTo>
                  <a:lnTo>
                    <a:pt x="1763" y="1639"/>
                  </a:lnTo>
                  <a:lnTo>
                    <a:pt x="1890" y="1619"/>
                  </a:lnTo>
                  <a:lnTo>
                    <a:pt x="1960" y="1608"/>
                  </a:lnTo>
                  <a:lnTo>
                    <a:pt x="2019" y="1599"/>
                  </a:lnTo>
                  <a:lnTo>
                    <a:pt x="2068" y="1592"/>
                  </a:lnTo>
                  <a:lnTo>
                    <a:pt x="2109" y="1586"/>
                  </a:lnTo>
                  <a:lnTo>
                    <a:pt x="2142" y="1582"/>
                  </a:lnTo>
                  <a:lnTo>
                    <a:pt x="2169" y="1578"/>
                  </a:lnTo>
                  <a:lnTo>
                    <a:pt x="2194" y="1576"/>
                  </a:lnTo>
                  <a:lnTo>
                    <a:pt x="2215" y="1573"/>
                  </a:lnTo>
                  <a:lnTo>
                    <a:pt x="2220" y="1572"/>
                  </a:lnTo>
                  <a:lnTo>
                    <a:pt x="2224" y="1570"/>
                  </a:lnTo>
                  <a:lnTo>
                    <a:pt x="2229" y="1568"/>
                  </a:lnTo>
                  <a:lnTo>
                    <a:pt x="2232" y="1565"/>
                  </a:lnTo>
                  <a:lnTo>
                    <a:pt x="2239" y="1558"/>
                  </a:lnTo>
                  <a:lnTo>
                    <a:pt x="2245" y="1549"/>
                  </a:lnTo>
                  <a:lnTo>
                    <a:pt x="2257" y="1529"/>
                  </a:lnTo>
                  <a:lnTo>
                    <a:pt x="2265" y="1509"/>
                  </a:lnTo>
                  <a:lnTo>
                    <a:pt x="2270" y="1499"/>
                  </a:lnTo>
                  <a:lnTo>
                    <a:pt x="2274" y="1490"/>
                  </a:lnTo>
                  <a:lnTo>
                    <a:pt x="2278" y="1482"/>
                  </a:lnTo>
                  <a:lnTo>
                    <a:pt x="2283" y="1478"/>
                  </a:lnTo>
                  <a:lnTo>
                    <a:pt x="2286" y="1475"/>
                  </a:lnTo>
                  <a:lnTo>
                    <a:pt x="2288" y="1474"/>
                  </a:lnTo>
                  <a:lnTo>
                    <a:pt x="2291" y="1473"/>
                  </a:lnTo>
                  <a:lnTo>
                    <a:pt x="2294" y="1473"/>
                  </a:lnTo>
                  <a:lnTo>
                    <a:pt x="2297" y="1474"/>
                  </a:lnTo>
                  <a:lnTo>
                    <a:pt x="2300" y="1475"/>
                  </a:lnTo>
                  <a:lnTo>
                    <a:pt x="2304" y="1478"/>
                  </a:lnTo>
                  <a:lnTo>
                    <a:pt x="2307" y="1481"/>
                  </a:lnTo>
                  <a:lnTo>
                    <a:pt x="2317" y="1488"/>
                  </a:lnTo>
                  <a:lnTo>
                    <a:pt x="2327" y="1495"/>
                  </a:lnTo>
                  <a:lnTo>
                    <a:pt x="2338" y="1500"/>
                  </a:lnTo>
                  <a:lnTo>
                    <a:pt x="2349" y="1502"/>
                  </a:lnTo>
                  <a:lnTo>
                    <a:pt x="2362" y="1505"/>
                  </a:lnTo>
                  <a:lnTo>
                    <a:pt x="2376" y="1506"/>
                  </a:lnTo>
                  <a:lnTo>
                    <a:pt x="2390" y="1507"/>
                  </a:lnTo>
                  <a:lnTo>
                    <a:pt x="2404" y="1507"/>
                  </a:lnTo>
                  <a:lnTo>
                    <a:pt x="2434" y="1505"/>
                  </a:lnTo>
                  <a:lnTo>
                    <a:pt x="2466" y="1503"/>
                  </a:lnTo>
                  <a:lnTo>
                    <a:pt x="2481" y="1502"/>
                  </a:lnTo>
                  <a:lnTo>
                    <a:pt x="2498" y="1502"/>
                  </a:lnTo>
                  <a:lnTo>
                    <a:pt x="2513" y="1503"/>
                  </a:lnTo>
                  <a:lnTo>
                    <a:pt x="2529" y="1505"/>
                  </a:lnTo>
                  <a:lnTo>
                    <a:pt x="2522" y="1496"/>
                  </a:lnTo>
                  <a:lnTo>
                    <a:pt x="2516" y="1489"/>
                  </a:lnTo>
                  <a:lnTo>
                    <a:pt x="2510" y="1481"/>
                  </a:lnTo>
                  <a:lnTo>
                    <a:pt x="2505" y="1473"/>
                  </a:lnTo>
                  <a:lnTo>
                    <a:pt x="2496" y="1457"/>
                  </a:lnTo>
                  <a:lnTo>
                    <a:pt x="2489" y="1440"/>
                  </a:lnTo>
                  <a:lnTo>
                    <a:pt x="2485" y="1424"/>
                  </a:lnTo>
                  <a:lnTo>
                    <a:pt x="2480" y="1406"/>
                  </a:lnTo>
                  <a:lnTo>
                    <a:pt x="2478" y="1390"/>
                  </a:lnTo>
                  <a:lnTo>
                    <a:pt x="2477" y="1374"/>
                  </a:lnTo>
                  <a:lnTo>
                    <a:pt x="2474" y="1342"/>
                  </a:lnTo>
                  <a:lnTo>
                    <a:pt x="2472" y="1313"/>
                  </a:lnTo>
                  <a:lnTo>
                    <a:pt x="2471" y="1300"/>
                  </a:lnTo>
                  <a:lnTo>
                    <a:pt x="2468" y="1290"/>
                  </a:lnTo>
                  <a:lnTo>
                    <a:pt x="2465" y="1279"/>
                  </a:lnTo>
                  <a:lnTo>
                    <a:pt x="2460" y="1271"/>
                  </a:lnTo>
                  <a:lnTo>
                    <a:pt x="2454" y="1263"/>
                  </a:lnTo>
                  <a:lnTo>
                    <a:pt x="2449" y="1256"/>
                  </a:lnTo>
                  <a:lnTo>
                    <a:pt x="2443" y="1250"/>
                  </a:lnTo>
                  <a:lnTo>
                    <a:pt x="2436" y="1245"/>
                  </a:lnTo>
                  <a:lnTo>
                    <a:pt x="2424" y="1238"/>
                  </a:lnTo>
                  <a:lnTo>
                    <a:pt x="2411" y="1232"/>
                  </a:lnTo>
                  <a:lnTo>
                    <a:pt x="2406" y="1229"/>
                  </a:lnTo>
                  <a:lnTo>
                    <a:pt x="2401" y="1225"/>
                  </a:lnTo>
                  <a:lnTo>
                    <a:pt x="2397" y="1222"/>
                  </a:lnTo>
                  <a:lnTo>
                    <a:pt x="2392" y="1218"/>
                  </a:lnTo>
                  <a:lnTo>
                    <a:pt x="2389" y="1214"/>
                  </a:lnTo>
                  <a:lnTo>
                    <a:pt x="2387" y="1208"/>
                  </a:lnTo>
                  <a:lnTo>
                    <a:pt x="2385" y="1201"/>
                  </a:lnTo>
                  <a:lnTo>
                    <a:pt x="2385" y="1193"/>
                  </a:lnTo>
                  <a:lnTo>
                    <a:pt x="2384" y="1183"/>
                  </a:lnTo>
                  <a:lnTo>
                    <a:pt x="2383" y="1173"/>
                  </a:lnTo>
                  <a:lnTo>
                    <a:pt x="2381" y="1161"/>
                  </a:lnTo>
                  <a:lnTo>
                    <a:pt x="2377" y="1149"/>
                  </a:lnTo>
                  <a:lnTo>
                    <a:pt x="2369" y="1121"/>
                  </a:lnTo>
                  <a:lnTo>
                    <a:pt x="2360" y="1093"/>
                  </a:lnTo>
                  <a:lnTo>
                    <a:pt x="2349" y="1064"/>
                  </a:lnTo>
                  <a:lnTo>
                    <a:pt x="2339" y="1037"/>
                  </a:lnTo>
                  <a:lnTo>
                    <a:pt x="2329" y="1012"/>
                  </a:lnTo>
                  <a:lnTo>
                    <a:pt x="2321" y="992"/>
                  </a:lnTo>
                  <a:lnTo>
                    <a:pt x="2319" y="981"/>
                  </a:lnTo>
                  <a:lnTo>
                    <a:pt x="2317" y="970"/>
                  </a:lnTo>
                  <a:lnTo>
                    <a:pt x="2314" y="957"/>
                  </a:lnTo>
                  <a:lnTo>
                    <a:pt x="2313" y="943"/>
                  </a:lnTo>
                  <a:lnTo>
                    <a:pt x="2300" y="923"/>
                  </a:lnTo>
                  <a:lnTo>
                    <a:pt x="2286" y="904"/>
                  </a:lnTo>
                  <a:lnTo>
                    <a:pt x="2270" y="888"/>
                  </a:lnTo>
                  <a:lnTo>
                    <a:pt x="2252" y="873"/>
                  </a:lnTo>
                  <a:lnTo>
                    <a:pt x="2234" y="859"/>
                  </a:lnTo>
                  <a:lnTo>
                    <a:pt x="2213" y="846"/>
                  </a:lnTo>
                  <a:lnTo>
                    <a:pt x="2192" y="833"/>
                  </a:lnTo>
                  <a:lnTo>
                    <a:pt x="2170" y="822"/>
                  </a:lnTo>
                  <a:lnTo>
                    <a:pt x="2147" y="813"/>
                  </a:lnTo>
                  <a:lnTo>
                    <a:pt x="2124" y="804"/>
                  </a:lnTo>
                  <a:lnTo>
                    <a:pt x="2100" y="795"/>
                  </a:lnTo>
                  <a:lnTo>
                    <a:pt x="2077" y="787"/>
                  </a:lnTo>
                  <a:lnTo>
                    <a:pt x="2029" y="773"/>
                  </a:lnTo>
                  <a:lnTo>
                    <a:pt x="1981" y="760"/>
                  </a:lnTo>
                  <a:lnTo>
                    <a:pt x="1960" y="755"/>
                  </a:lnTo>
                  <a:lnTo>
                    <a:pt x="1943" y="746"/>
                  </a:lnTo>
                  <a:lnTo>
                    <a:pt x="1926" y="738"/>
                  </a:lnTo>
                  <a:lnTo>
                    <a:pt x="1915" y="729"/>
                  </a:lnTo>
                  <a:lnTo>
                    <a:pt x="1903" y="718"/>
                  </a:lnTo>
                  <a:lnTo>
                    <a:pt x="1895" y="708"/>
                  </a:lnTo>
                  <a:lnTo>
                    <a:pt x="1888" y="695"/>
                  </a:lnTo>
                  <a:lnTo>
                    <a:pt x="1881" y="682"/>
                  </a:lnTo>
                  <a:lnTo>
                    <a:pt x="1870" y="655"/>
                  </a:lnTo>
                  <a:lnTo>
                    <a:pt x="1860" y="625"/>
                  </a:lnTo>
                  <a:lnTo>
                    <a:pt x="1854" y="610"/>
                  </a:lnTo>
                  <a:lnTo>
                    <a:pt x="1846" y="593"/>
                  </a:lnTo>
                  <a:lnTo>
                    <a:pt x="1838" y="576"/>
                  </a:lnTo>
                  <a:lnTo>
                    <a:pt x="1826" y="560"/>
                  </a:lnTo>
                  <a:lnTo>
                    <a:pt x="1793" y="547"/>
                  </a:lnTo>
                  <a:lnTo>
                    <a:pt x="1762" y="534"/>
                  </a:lnTo>
                  <a:lnTo>
                    <a:pt x="1732" y="520"/>
                  </a:lnTo>
                  <a:lnTo>
                    <a:pt x="1706" y="505"/>
                  </a:lnTo>
                  <a:lnTo>
                    <a:pt x="1680" y="489"/>
                  </a:lnTo>
                  <a:lnTo>
                    <a:pt x="1658" y="474"/>
                  </a:lnTo>
                  <a:lnTo>
                    <a:pt x="1637" y="459"/>
                  </a:lnTo>
                  <a:lnTo>
                    <a:pt x="1619" y="444"/>
                  </a:lnTo>
                  <a:lnTo>
                    <a:pt x="1589" y="417"/>
                  </a:lnTo>
                  <a:lnTo>
                    <a:pt x="1567" y="395"/>
                  </a:lnTo>
                  <a:lnTo>
                    <a:pt x="1554" y="381"/>
                  </a:lnTo>
                  <a:lnTo>
                    <a:pt x="1550" y="375"/>
                  </a:lnTo>
                  <a:lnTo>
                    <a:pt x="1394" y="329"/>
                  </a:lnTo>
                  <a:lnTo>
                    <a:pt x="1040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Freeform 169"/>
            <p:cNvSpPr/>
            <p:nvPr/>
          </p:nvSpPr>
          <p:spPr>
            <a:xfrm>
              <a:off x="8008560" y="4476960"/>
              <a:ext cx="738000" cy="42840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4885" h="2626">
                  <a:moveTo>
                    <a:pt x="2572" y="32"/>
                  </a:moveTo>
                  <a:lnTo>
                    <a:pt x="2556" y="30"/>
                  </a:lnTo>
                  <a:lnTo>
                    <a:pt x="2541" y="29"/>
                  </a:lnTo>
                  <a:lnTo>
                    <a:pt x="2524" y="29"/>
                  </a:lnTo>
                  <a:lnTo>
                    <a:pt x="2509" y="30"/>
                  </a:lnTo>
                  <a:lnTo>
                    <a:pt x="2477" y="32"/>
                  </a:lnTo>
                  <a:lnTo>
                    <a:pt x="2447" y="34"/>
                  </a:lnTo>
                  <a:lnTo>
                    <a:pt x="2433" y="34"/>
                  </a:lnTo>
                  <a:lnTo>
                    <a:pt x="2419" y="33"/>
                  </a:lnTo>
                  <a:lnTo>
                    <a:pt x="2405" y="32"/>
                  </a:lnTo>
                  <a:lnTo>
                    <a:pt x="2392" y="29"/>
                  </a:lnTo>
                  <a:lnTo>
                    <a:pt x="2381" y="27"/>
                  </a:lnTo>
                  <a:lnTo>
                    <a:pt x="2370" y="22"/>
                  </a:lnTo>
                  <a:lnTo>
                    <a:pt x="2360" y="15"/>
                  </a:lnTo>
                  <a:lnTo>
                    <a:pt x="2350" y="8"/>
                  </a:lnTo>
                  <a:lnTo>
                    <a:pt x="2347" y="5"/>
                  </a:lnTo>
                  <a:lnTo>
                    <a:pt x="2343" y="2"/>
                  </a:lnTo>
                  <a:lnTo>
                    <a:pt x="2340" y="1"/>
                  </a:lnTo>
                  <a:lnTo>
                    <a:pt x="2337" y="0"/>
                  </a:lnTo>
                  <a:lnTo>
                    <a:pt x="2334" y="0"/>
                  </a:lnTo>
                  <a:lnTo>
                    <a:pt x="2331" y="1"/>
                  </a:lnTo>
                  <a:lnTo>
                    <a:pt x="2329" y="2"/>
                  </a:lnTo>
                  <a:lnTo>
                    <a:pt x="2326" y="5"/>
                  </a:lnTo>
                  <a:lnTo>
                    <a:pt x="2321" y="9"/>
                  </a:lnTo>
                  <a:lnTo>
                    <a:pt x="2317" y="17"/>
                  </a:lnTo>
                  <a:lnTo>
                    <a:pt x="2313" y="26"/>
                  </a:lnTo>
                  <a:lnTo>
                    <a:pt x="2308" y="36"/>
                  </a:lnTo>
                  <a:lnTo>
                    <a:pt x="2300" y="56"/>
                  </a:lnTo>
                  <a:lnTo>
                    <a:pt x="2288" y="76"/>
                  </a:lnTo>
                  <a:lnTo>
                    <a:pt x="2282" y="85"/>
                  </a:lnTo>
                  <a:lnTo>
                    <a:pt x="2275" y="92"/>
                  </a:lnTo>
                  <a:lnTo>
                    <a:pt x="2272" y="95"/>
                  </a:lnTo>
                  <a:lnTo>
                    <a:pt x="2267" y="97"/>
                  </a:lnTo>
                  <a:lnTo>
                    <a:pt x="2263" y="99"/>
                  </a:lnTo>
                  <a:lnTo>
                    <a:pt x="2258" y="100"/>
                  </a:lnTo>
                  <a:lnTo>
                    <a:pt x="2237" y="103"/>
                  </a:lnTo>
                  <a:lnTo>
                    <a:pt x="2212" y="105"/>
                  </a:lnTo>
                  <a:lnTo>
                    <a:pt x="2185" y="109"/>
                  </a:lnTo>
                  <a:lnTo>
                    <a:pt x="2152" y="113"/>
                  </a:lnTo>
                  <a:lnTo>
                    <a:pt x="2111" y="119"/>
                  </a:lnTo>
                  <a:lnTo>
                    <a:pt x="2062" y="126"/>
                  </a:lnTo>
                  <a:lnTo>
                    <a:pt x="2003" y="135"/>
                  </a:lnTo>
                  <a:lnTo>
                    <a:pt x="1933" y="146"/>
                  </a:lnTo>
                  <a:lnTo>
                    <a:pt x="1806" y="166"/>
                  </a:lnTo>
                  <a:lnTo>
                    <a:pt x="1694" y="185"/>
                  </a:lnTo>
                  <a:lnTo>
                    <a:pt x="1596" y="202"/>
                  </a:lnTo>
                  <a:lnTo>
                    <a:pt x="1510" y="217"/>
                  </a:lnTo>
                  <a:lnTo>
                    <a:pt x="1436" y="230"/>
                  </a:lnTo>
                  <a:lnTo>
                    <a:pt x="1371" y="241"/>
                  </a:lnTo>
                  <a:lnTo>
                    <a:pt x="1315" y="249"/>
                  </a:lnTo>
                  <a:lnTo>
                    <a:pt x="1265" y="255"/>
                  </a:lnTo>
                  <a:lnTo>
                    <a:pt x="1243" y="256"/>
                  </a:lnTo>
                  <a:lnTo>
                    <a:pt x="1222" y="256"/>
                  </a:lnTo>
                  <a:lnTo>
                    <a:pt x="1202" y="255"/>
                  </a:lnTo>
                  <a:lnTo>
                    <a:pt x="1182" y="253"/>
                  </a:lnTo>
                  <a:lnTo>
                    <a:pt x="1163" y="250"/>
                  </a:lnTo>
                  <a:lnTo>
                    <a:pt x="1146" y="246"/>
                  </a:lnTo>
                  <a:lnTo>
                    <a:pt x="1128" y="242"/>
                  </a:lnTo>
                  <a:lnTo>
                    <a:pt x="1111" y="235"/>
                  </a:lnTo>
                  <a:lnTo>
                    <a:pt x="1093" y="228"/>
                  </a:lnTo>
                  <a:lnTo>
                    <a:pt x="1076" y="220"/>
                  </a:lnTo>
                  <a:lnTo>
                    <a:pt x="1058" y="209"/>
                  </a:lnTo>
                  <a:lnTo>
                    <a:pt x="1040" y="197"/>
                  </a:lnTo>
                  <a:lnTo>
                    <a:pt x="1021" y="185"/>
                  </a:lnTo>
                  <a:lnTo>
                    <a:pt x="1001" y="171"/>
                  </a:lnTo>
                  <a:lnTo>
                    <a:pt x="981" y="155"/>
                  </a:lnTo>
                  <a:lnTo>
                    <a:pt x="959" y="138"/>
                  </a:lnTo>
                  <a:lnTo>
                    <a:pt x="0" y="230"/>
                  </a:lnTo>
                  <a:lnTo>
                    <a:pt x="12" y="238"/>
                  </a:lnTo>
                  <a:lnTo>
                    <a:pt x="24" y="251"/>
                  </a:lnTo>
                  <a:lnTo>
                    <a:pt x="37" y="265"/>
                  </a:lnTo>
                  <a:lnTo>
                    <a:pt x="49" y="283"/>
                  </a:lnTo>
                  <a:lnTo>
                    <a:pt x="62" y="301"/>
                  </a:lnTo>
                  <a:lnTo>
                    <a:pt x="73" y="322"/>
                  </a:lnTo>
                  <a:lnTo>
                    <a:pt x="84" y="343"/>
                  </a:lnTo>
                  <a:lnTo>
                    <a:pt x="95" y="367"/>
                  </a:lnTo>
                  <a:lnTo>
                    <a:pt x="104" y="390"/>
                  </a:lnTo>
                  <a:lnTo>
                    <a:pt x="112" y="415"/>
                  </a:lnTo>
                  <a:lnTo>
                    <a:pt x="118" y="439"/>
                  </a:lnTo>
                  <a:lnTo>
                    <a:pt x="124" y="463"/>
                  </a:lnTo>
                  <a:lnTo>
                    <a:pt x="126" y="486"/>
                  </a:lnTo>
                  <a:lnTo>
                    <a:pt x="127" y="508"/>
                  </a:lnTo>
                  <a:lnTo>
                    <a:pt x="127" y="519"/>
                  </a:lnTo>
                  <a:lnTo>
                    <a:pt x="127" y="529"/>
                  </a:lnTo>
                  <a:lnTo>
                    <a:pt x="126" y="540"/>
                  </a:lnTo>
                  <a:lnTo>
                    <a:pt x="124" y="549"/>
                  </a:lnTo>
                  <a:lnTo>
                    <a:pt x="183" y="543"/>
                  </a:lnTo>
                  <a:lnTo>
                    <a:pt x="244" y="537"/>
                  </a:lnTo>
                  <a:lnTo>
                    <a:pt x="305" y="531"/>
                  </a:lnTo>
                  <a:lnTo>
                    <a:pt x="366" y="527"/>
                  </a:lnTo>
                  <a:lnTo>
                    <a:pt x="426" y="522"/>
                  </a:lnTo>
                  <a:lnTo>
                    <a:pt x="487" y="519"/>
                  </a:lnTo>
                  <a:lnTo>
                    <a:pt x="548" y="515"/>
                  </a:lnTo>
                  <a:lnTo>
                    <a:pt x="606" y="513"/>
                  </a:lnTo>
                  <a:lnTo>
                    <a:pt x="665" y="510"/>
                  </a:lnTo>
                  <a:lnTo>
                    <a:pt x="721" y="510"/>
                  </a:lnTo>
                  <a:lnTo>
                    <a:pt x="776" y="509"/>
                  </a:lnTo>
                  <a:lnTo>
                    <a:pt x="829" y="510"/>
                  </a:lnTo>
                  <a:lnTo>
                    <a:pt x="881" y="513"/>
                  </a:lnTo>
                  <a:lnTo>
                    <a:pt x="930" y="515"/>
                  </a:lnTo>
                  <a:lnTo>
                    <a:pt x="976" y="519"/>
                  </a:lnTo>
                  <a:lnTo>
                    <a:pt x="1020" y="523"/>
                  </a:lnTo>
                  <a:lnTo>
                    <a:pt x="1030" y="527"/>
                  </a:lnTo>
                  <a:lnTo>
                    <a:pt x="1058" y="535"/>
                  </a:lnTo>
                  <a:lnTo>
                    <a:pt x="1077" y="542"/>
                  </a:lnTo>
                  <a:lnTo>
                    <a:pt x="1098" y="550"/>
                  </a:lnTo>
                  <a:lnTo>
                    <a:pt x="1120" y="559"/>
                  </a:lnTo>
                  <a:lnTo>
                    <a:pt x="1143" y="571"/>
                  </a:lnTo>
                  <a:lnTo>
                    <a:pt x="1167" y="583"/>
                  </a:lnTo>
                  <a:lnTo>
                    <a:pt x="1189" y="597"/>
                  </a:lnTo>
                  <a:lnTo>
                    <a:pt x="1200" y="605"/>
                  </a:lnTo>
                  <a:lnTo>
                    <a:pt x="1210" y="612"/>
                  </a:lnTo>
                  <a:lnTo>
                    <a:pt x="1219" y="620"/>
                  </a:lnTo>
                  <a:lnTo>
                    <a:pt x="1229" y="630"/>
                  </a:lnTo>
                  <a:lnTo>
                    <a:pt x="1237" y="638"/>
                  </a:lnTo>
                  <a:lnTo>
                    <a:pt x="1244" y="647"/>
                  </a:lnTo>
                  <a:lnTo>
                    <a:pt x="1251" y="658"/>
                  </a:lnTo>
                  <a:lnTo>
                    <a:pt x="1257" y="667"/>
                  </a:lnTo>
                  <a:lnTo>
                    <a:pt x="1261" y="677"/>
                  </a:lnTo>
                  <a:lnTo>
                    <a:pt x="1265" y="688"/>
                  </a:lnTo>
                  <a:lnTo>
                    <a:pt x="1266" y="700"/>
                  </a:lnTo>
                  <a:lnTo>
                    <a:pt x="1267" y="710"/>
                  </a:lnTo>
                  <a:lnTo>
                    <a:pt x="1268" y="722"/>
                  </a:lnTo>
                  <a:lnTo>
                    <a:pt x="1271" y="731"/>
                  </a:lnTo>
                  <a:lnTo>
                    <a:pt x="1274" y="738"/>
                  </a:lnTo>
                  <a:lnTo>
                    <a:pt x="1279" y="745"/>
                  </a:lnTo>
                  <a:lnTo>
                    <a:pt x="1286" y="750"/>
                  </a:lnTo>
                  <a:lnTo>
                    <a:pt x="1293" y="753"/>
                  </a:lnTo>
                  <a:lnTo>
                    <a:pt x="1301" y="757"/>
                  </a:lnTo>
                  <a:lnTo>
                    <a:pt x="1311" y="758"/>
                  </a:lnTo>
                  <a:lnTo>
                    <a:pt x="1321" y="758"/>
                  </a:lnTo>
                  <a:lnTo>
                    <a:pt x="1332" y="758"/>
                  </a:lnTo>
                  <a:lnTo>
                    <a:pt x="1343" y="757"/>
                  </a:lnTo>
                  <a:lnTo>
                    <a:pt x="1356" y="755"/>
                  </a:lnTo>
                  <a:lnTo>
                    <a:pt x="1381" y="749"/>
                  </a:lnTo>
                  <a:lnTo>
                    <a:pt x="1407" y="742"/>
                  </a:lnTo>
                  <a:lnTo>
                    <a:pt x="1433" y="732"/>
                  </a:lnTo>
                  <a:lnTo>
                    <a:pt x="1458" y="722"/>
                  </a:lnTo>
                  <a:lnTo>
                    <a:pt x="1482" y="711"/>
                  </a:lnTo>
                  <a:lnTo>
                    <a:pt x="1503" y="701"/>
                  </a:lnTo>
                  <a:lnTo>
                    <a:pt x="1535" y="686"/>
                  </a:lnTo>
                  <a:lnTo>
                    <a:pt x="1546" y="679"/>
                  </a:lnTo>
                  <a:lnTo>
                    <a:pt x="1639" y="494"/>
                  </a:lnTo>
                  <a:lnTo>
                    <a:pt x="1823" y="494"/>
                  </a:lnTo>
                  <a:lnTo>
                    <a:pt x="1979" y="616"/>
                  </a:lnTo>
                  <a:lnTo>
                    <a:pt x="2071" y="616"/>
                  </a:lnTo>
                  <a:lnTo>
                    <a:pt x="2258" y="771"/>
                  </a:lnTo>
                  <a:lnTo>
                    <a:pt x="2535" y="771"/>
                  </a:lnTo>
                  <a:lnTo>
                    <a:pt x="2531" y="791"/>
                  </a:lnTo>
                  <a:lnTo>
                    <a:pt x="2532" y="815"/>
                  </a:lnTo>
                  <a:lnTo>
                    <a:pt x="2537" y="843"/>
                  </a:lnTo>
                  <a:lnTo>
                    <a:pt x="2546" y="875"/>
                  </a:lnTo>
                  <a:lnTo>
                    <a:pt x="2559" y="910"/>
                  </a:lnTo>
                  <a:lnTo>
                    <a:pt x="2576" y="948"/>
                  </a:lnTo>
                  <a:lnTo>
                    <a:pt x="2595" y="989"/>
                  </a:lnTo>
                  <a:lnTo>
                    <a:pt x="2618" y="1033"/>
                  </a:lnTo>
                  <a:lnTo>
                    <a:pt x="2643" y="1079"/>
                  </a:lnTo>
                  <a:lnTo>
                    <a:pt x="2671" y="1126"/>
                  </a:lnTo>
                  <a:lnTo>
                    <a:pt x="2701" y="1175"/>
                  </a:lnTo>
                  <a:lnTo>
                    <a:pt x="2733" y="1225"/>
                  </a:lnTo>
                  <a:lnTo>
                    <a:pt x="2766" y="1277"/>
                  </a:lnTo>
                  <a:lnTo>
                    <a:pt x="2801" y="1328"/>
                  </a:lnTo>
                  <a:lnTo>
                    <a:pt x="2838" y="1381"/>
                  </a:lnTo>
                  <a:lnTo>
                    <a:pt x="2875" y="1432"/>
                  </a:lnTo>
                  <a:lnTo>
                    <a:pt x="2913" y="1483"/>
                  </a:lnTo>
                  <a:lnTo>
                    <a:pt x="2952" y="1534"/>
                  </a:lnTo>
                  <a:lnTo>
                    <a:pt x="2990" y="1583"/>
                  </a:lnTo>
                  <a:lnTo>
                    <a:pt x="3029" y="1631"/>
                  </a:lnTo>
                  <a:lnTo>
                    <a:pt x="3067" y="1677"/>
                  </a:lnTo>
                  <a:lnTo>
                    <a:pt x="3105" y="1721"/>
                  </a:lnTo>
                  <a:lnTo>
                    <a:pt x="3142" y="1763"/>
                  </a:lnTo>
                  <a:lnTo>
                    <a:pt x="3178" y="1802"/>
                  </a:lnTo>
                  <a:lnTo>
                    <a:pt x="3213" y="1837"/>
                  </a:lnTo>
                  <a:lnTo>
                    <a:pt x="3247" y="1870"/>
                  </a:lnTo>
                  <a:lnTo>
                    <a:pt x="3279" y="1899"/>
                  </a:lnTo>
                  <a:lnTo>
                    <a:pt x="3308" y="1925"/>
                  </a:lnTo>
                  <a:lnTo>
                    <a:pt x="3335" y="1945"/>
                  </a:lnTo>
                  <a:lnTo>
                    <a:pt x="3361" y="1961"/>
                  </a:lnTo>
                  <a:lnTo>
                    <a:pt x="3383" y="1972"/>
                  </a:lnTo>
                  <a:lnTo>
                    <a:pt x="3401" y="1978"/>
                  </a:lnTo>
                  <a:lnTo>
                    <a:pt x="3420" y="1981"/>
                  </a:lnTo>
                  <a:lnTo>
                    <a:pt x="3440" y="1986"/>
                  </a:lnTo>
                  <a:lnTo>
                    <a:pt x="3462" y="1990"/>
                  </a:lnTo>
                  <a:lnTo>
                    <a:pt x="3486" y="1997"/>
                  </a:lnTo>
                  <a:lnTo>
                    <a:pt x="3538" y="2014"/>
                  </a:lnTo>
                  <a:lnTo>
                    <a:pt x="3598" y="2035"/>
                  </a:lnTo>
                  <a:lnTo>
                    <a:pt x="3663" y="2059"/>
                  </a:lnTo>
                  <a:lnTo>
                    <a:pt x="3733" y="2090"/>
                  </a:lnTo>
                  <a:lnTo>
                    <a:pt x="3808" y="2124"/>
                  </a:lnTo>
                  <a:lnTo>
                    <a:pt x="3886" y="2162"/>
                  </a:lnTo>
                  <a:lnTo>
                    <a:pt x="3928" y="2182"/>
                  </a:lnTo>
                  <a:lnTo>
                    <a:pt x="3969" y="2204"/>
                  </a:lnTo>
                  <a:lnTo>
                    <a:pt x="4012" y="2227"/>
                  </a:lnTo>
                  <a:lnTo>
                    <a:pt x="4056" y="2251"/>
                  </a:lnTo>
                  <a:lnTo>
                    <a:pt x="4099" y="2277"/>
                  </a:lnTo>
                  <a:lnTo>
                    <a:pt x="4143" y="2302"/>
                  </a:lnTo>
                  <a:lnTo>
                    <a:pt x="4189" y="2330"/>
                  </a:lnTo>
                  <a:lnTo>
                    <a:pt x="4234" y="2358"/>
                  </a:lnTo>
                  <a:lnTo>
                    <a:pt x="4280" y="2389"/>
                  </a:lnTo>
                  <a:lnTo>
                    <a:pt x="4327" y="2419"/>
                  </a:lnTo>
                  <a:lnTo>
                    <a:pt x="4372" y="2451"/>
                  </a:lnTo>
                  <a:lnTo>
                    <a:pt x="4419" y="2483"/>
                  </a:lnTo>
                  <a:lnTo>
                    <a:pt x="4466" y="2517"/>
                  </a:lnTo>
                  <a:lnTo>
                    <a:pt x="4512" y="2552"/>
                  </a:lnTo>
                  <a:lnTo>
                    <a:pt x="4559" y="2588"/>
                  </a:lnTo>
                  <a:lnTo>
                    <a:pt x="4606" y="2626"/>
                  </a:lnTo>
                  <a:lnTo>
                    <a:pt x="4885" y="2410"/>
                  </a:lnTo>
                  <a:lnTo>
                    <a:pt x="4884" y="2390"/>
                  </a:lnTo>
                  <a:lnTo>
                    <a:pt x="4883" y="2369"/>
                  </a:lnTo>
                  <a:lnTo>
                    <a:pt x="4879" y="2349"/>
                  </a:lnTo>
                  <a:lnTo>
                    <a:pt x="4876" y="2328"/>
                  </a:lnTo>
                  <a:lnTo>
                    <a:pt x="4871" y="2307"/>
                  </a:lnTo>
                  <a:lnTo>
                    <a:pt x="4865" y="2287"/>
                  </a:lnTo>
                  <a:lnTo>
                    <a:pt x="4858" y="2266"/>
                  </a:lnTo>
                  <a:lnTo>
                    <a:pt x="4851" y="2246"/>
                  </a:lnTo>
                  <a:lnTo>
                    <a:pt x="4835" y="2206"/>
                  </a:lnTo>
                  <a:lnTo>
                    <a:pt x="4816" y="2168"/>
                  </a:lnTo>
                  <a:lnTo>
                    <a:pt x="4797" y="2132"/>
                  </a:lnTo>
                  <a:lnTo>
                    <a:pt x="4776" y="2097"/>
                  </a:lnTo>
                  <a:lnTo>
                    <a:pt x="4756" y="2065"/>
                  </a:lnTo>
                  <a:lnTo>
                    <a:pt x="4737" y="2036"/>
                  </a:lnTo>
                  <a:lnTo>
                    <a:pt x="4719" y="2010"/>
                  </a:lnTo>
                  <a:lnTo>
                    <a:pt x="4703" y="1988"/>
                  </a:lnTo>
                  <a:lnTo>
                    <a:pt x="4678" y="1958"/>
                  </a:lnTo>
                  <a:lnTo>
                    <a:pt x="4669" y="1946"/>
                  </a:lnTo>
                  <a:lnTo>
                    <a:pt x="4657" y="1924"/>
                  </a:lnTo>
                  <a:lnTo>
                    <a:pt x="4641" y="1898"/>
                  </a:lnTo>
                  <a:lnTo>
                    <a:pt x="4621" y="1869"/>
                  </a:lnTo>
                  <a:lnTo>
                    <a:pt x="4595" y="1836"/>
                  </a:lnTo>
                  <a:lnTo>
                    <a:pt x="4567" y="1800"/>
                  </a:lnTo>
                  <a:lnTo>
                    <a:pt x="4535" y="1763"/>
                  </a:lnTo>
                  <a:lnTo>
                    <a:pt x="4498" y="1722"/>
                  </a:lnTo>
                  <a:lnTo>
                    <a:pt x="4460" y="1678"/>
                  </a:lnTo>
                  <a:lnTo>
                    <a:pt x="4419" y="1634"/>
                  </a:lnTo>
                  <a:lnTo>
                    <a:pt x="4375" y="1587"/>
                  </a:lnTo>
                  <a:lnTo>
                    <a:pt x="4328" y="1538"/>
                  </a:lnTo>
                  <a:lnTo>
                    <a:pt x="4280" y="1489"/>
                  </a:lnTo>
                  <a:lnTo>
                    <a:pt x="4178" y="1389"/>
                  </a:lnTo>
                  <a:lnTo>
                    <a:pt x="4073" y="1286"/>
                  </a:lnTo>
                  <a:lnTo>
                    <a:pt x="3965" y="1183"/>
                  </a:lnTo>
                  <a:lnTo>
                    <a:pt x="3857" y="1084"/>
                  </a:lnTo>
                  <a:lnTo>
                    <a:pt x="3752" y="988"/>
                  </a:lnTo>
                  <a:lnTo>
                    <a:pt x="3650" y="899"/>
                  </a:lnTo>
                  <a:lnTo>
                    <a:pt x="3557" y="818"/>
                  </a:lnTo>
                  <a:lnTo>
                    <a:pt x="3472" y="748"/>
                  </a:lnTo>
                  <a:lnTo>
                    <a:pt x="3433" y="717"/>
                  </a:lnTo>
                  <a:lnTo>
                    <a:pt x="3398" y="690"/>
                  </a:lnTo>
                  <a:lnTo>
                    <a:pt x="3366" y="667"/>
                  </a:lnTo>
                  <a:lnTo>
                    <a:pt x="3338" y="647"/>
                  </a:lnTo>
                  <a:lnTo>
                    <a:pt x="3285" y="611"/>
                  </a:lnTo>
                  <a:lnTo>
                    <a:pt x="3231" y="571"/>
                  </a:lnTo>
                  <a:lnTo>
                    <a:pt x="3175" y="528"/>
                  </a:lnTo>
                  <a:lnTo>
                    <a:pt x="3119" y="484"/>
                  </a:lnTo>
                  <a:lnTo>
                    <a:pt x="3062" y="438"/>
                  </a:lnTo>
                  <a:lnTo>
                    <a:pt x="3007" y="391"/>
                  </a:lnTo>
                  <a:lnTo>
                    <a:pt x="2952" y="346"/>
                  </a:lnTo>
                  <a:lnTo>
                    <a:pt x="2900" y="300"/>
                  </a:lnTo>
                  <a:lnTo>
                    <a:pt x="2803" y="217"/>
                  </a:lnTo>
                  <a:lnTo>
                    <a:pt x="2722" y="146"/>
                  </a:lnTo>
                  <a:lnTo>
                    <a:pt x="2689" y="118"/>
                  </a:lnTo>
                  <a:lnTo>
                    <a:pt x="2661" y="95"/>
                  </a:lnTo>
                  <a:lnTo>
                    <a:pt x="2639" y="78"/>
                  </a:lnTo>
                  <a:lnTo>
                    <a:pt x="2624" y="69"/>
                  </a:lnTo>
                  <a:lnTo>
                    <a:pt x="2609" y="60"/>
                  </a:lnTo>
                  <a:lnTo>
                    <a:pt x="2595" y="50"/>
                  </a:lnTo>
                  <a:lnTo>
                    <a:pt x="2584" y="41"/>
                  </a:lnTo>
                  <a:lnTo>
                    <a:pt x="2572" y="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Freeform 170"/>
            <p:cNvSpPr/>
            <p:nvPr/>
          </p:nvSpPr>
          <p:spPr>
            <a:xfrm>
              <a:off x="8008560" y="4476960"/>
              <a:ext cx="738000" cy="42840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4885" h="2626">
                  <a:moveTo>
                    <a:pt x="2572" y="32"/>
                  </a:moveTo>
                  <a:lnTo>
                    <a:pt x="2556" y="30"/>
                  </a:lnTo>
                  <a:lnTo>
                    <a:pt x="2541" y="29"/>
                  </a:lnTo>
                  <a:lnTo>
                    <a:pt x="2524" y="29"/>
                  </a:lnTo>
                  <a:lnTo>
                    <a:pt x="2509" y="30"/>
                  </a:lnTo>
                  <a:lnTo>
                    <a:pt x="2477" y="32"/>
                  </a:lnTo>
                  <a:lnTo>
                    <a:pt x="2447" y="34"/>
                  </a:lnTo>
                  <a:lnTo>
                    <a:pt x="2433" y="34"/>
                  </a:lnTo>
                  <a:lnTo>
                    <a:pt x="2419" y="33"/>
                  </a:lnTo>
                  <a:lnTo>
                    <a:pt x="2405" y="32"/>
                  </a:lnTo>
                  <a:lnTo>
                    <a:pt x="2392" y="29"/>
                  </a:lnTo>
                  <a:lnTo>
                    <a:pt x="2381" y="27"/>
                  </a:lnTo>
                  <a:lnTo>
                    <a:pt x="2370" y="22"/>
                  </a:lnTo>
                  <a:lnTo>
                    <a:pt x="2360" y="15"/>
                  </a:lnTo>
                  <a:lnTo>
                    <a:pt x="2350" y="8"/>
                  </a:lnTo>
                  <a:lnTo>
                    <a:pt x="2347" y="5"/>
                  </a:lnTo>
                  <a:lnTo>
                    <a:pt x="2343" y="2"/>
                  </a:lnTo>
                  <a:lnTo>
                    <a:pt x="2340" y="1"/>
                  </a:lnTo>
                  <a:lnTo>
                    <a:pt x="2337" y="0"/>
                  </a:lnTo>
                  <a:lnTo>
                    <a:pt x="2334" y="0"/>
                  </a:lnTo>
                  <a:lnTo>
                    <a:pt x="2331" y="1"/>
                  </a:lnTo>
                  <a:lnTo>
                    <a:pt x="2329" y="2"/>
                  </a:lnTo>
                  <a:lnTo>
                    <a:pt x="2326" y="5"/>
                  </a:lnTo>
                  <a:lnTo>
                    <a:pt x="2321" y="9"/>
                  </a:lnTo>
                  <a:lnTo>
                    <a:pt x="2317" y="17"/>
                  </a:lnTo>
                  <a:lnTo>
                    <a:pt x="2313" y="26"/>
                  </a:lnTo>
                  <a:lnTo>
                    <a:pt x="2308" y="36"/>
                  </a:lnTo>
                  <a:lnTo>
                    <a:pt x="2300" y="56"/>
                  </a:lnTo>
                  <a:lnTo>
                    <a:pt x="2288" y="76"/>
                  </a:lnTo>
                  <a:lnTo>
                    <a:pt x="2282" y="85"/>
                  </a:lnTo>
                  <a:lnTo>
                    <a:pt x="2275" y="92"/>
                  </a:lnTo>
                  <a:lnTo>
                    <a:pt x="2272" y="95"/>
                  </a:lnTo>
                  <a:lnTo>
                    <a:pt x="2267" y="97"/>
                  </a:lnTo>
                  <a:lnTo>
                    <a:pt x="2263" y="99"/>
                  </a:lnTo>
                  <a:lnTo>
                    <a:pt x="2258" y="100"/>
                  </a:lnTo>
                  <a:lnTo>
                    <a:pt x="2237" y="103"/>
                  </a:lnTo>
                  <a:lnTo>
                    <a:pt x="2212" y="105"/>
                  </a:lnTo>
                  <a:lnTo>
                    <a:pt x="2185" y="109"/>
                  </a:lnTo>
                  <a:lnTo>
                    <a:pt x="2152" y="113"/>
                  </a:lnTo>
                  <a:lnTo>
                    <a:pt x="2111" y="119"/>
                  </a:lnTo>
                  <a:lnTo>
                    <a:pt x="2062" y="126"/>
                  </a:lnTo>
                  <a:lnTo>
                    <a:pt x="2003" y="135"/>
                  </a:lnTo>
                  <a:lnTo>
                    <a:pt x="1933" y="146"/>
                  </a:lnTo>
                  <a:lnTo>
                    <a:pt x="1806" y="166"/>
                  </a:lnTo>
                  <a:lnTo>
                    <a:pt x="1694" y="185"/>
                  </a:lnTo>
                  <a:lnTo>
                    <a:pt x="1596" y="202"/>
                  </a:lnTo>
                  <a:lnTo>
                    <a:pt x="1510" y="217"/>
                  </a:lnTo>
                  <a:lnTo>
                    <a:pt x="1436" y="230"/>
                  </a:lnTo>
                  <a:lnTo>
                    <a:pt x="1371" y="241"/>
                  </a:lnTo>
                  <a:lnTo>
                    <a:pt x="1315" y="249"/>
                  </a:lnTo>
                  <a:lnTo>
                    <a:pt x="1265" y="255"/>
                  </a:lnTo>
                  <a:lnTo>
                    <a:pt x="1243" y="256"/>
                  </a:lnTo>
                  <a:lnTo>
                    <a:pt x="1222" y="256"/>
                  </a:lnTo>
                  <a:lnTo>
                    <a:pt x="1202" y="255"/>
                  </a:lnTo>
                  <a:lnTo>
                    <a:pt x="1182" y="253"/>
                  </a:lnTo>
                  <a:lnTo>
                    <a:pt x="1163" y="250"/>
                  </a:lnTo>
                  <a:lnTo>
                    <a:pt x="1146" y="246"/>
                  </a:lnTo>
                  <a:lnTo>
                    <a:pt x="1128" y="242"/>
                  </a:lnTo>
                  <a:lnTo>
                    <a:pt x="1111" y="235"/>
                  </a:lnTo>
                  <a:lnTo>
                    <a:pt x="1093" y="228"/>
                  </a:lnTo>
                  <a:lnTo>
                    <a:pt x="1076" y="220"/>
                  </a:lnTo>
                  <a:lnTo>
                    <a:pt x="1058" y="209"/>
                  </a:lnTo>
                  <a:lnTo>
                    <a:pt x="1040" y="197"/>
                  </a:lnTo>
                  <a:lnTo>
                    <a:pt x="1021" y="185"/>
                  </a:lnTo>
                  <a:lnTo>
                    <a:pt x="1001" y="171"/>
                  </a:lnTo>
                  <a:lnTo>
                    <a:pt x="981" y="155"/>
                  </a:lnTo>
                  <a:lnTo>
                    <a:pt x="959" y="138"/>
                  </a:lnTo>
                  <a:lnTo>
                    <a:pt x="0" y="230"/>
                  </a:lnTo>
                  <a:lnTo>
                    <a:pt x="12" y="238"/>
                  </a:lnTo>
                  <a:lnTo>
                    <a:pt x="24" y="251"/>
                  </a:lnTo>
                  <a:lnTo>
                    <a:pt x="37" y="265"/>
                  </a:lnTo>
                  <a:lnTo>
                    <a:pt x="49" y="283"/>
                  </a:lnTo>
                  <a:lnTo>
                    <a:pt x="62" y="301"/>
                  </a:lnTo>
                  <a:lnTo>
                    <a:pt x="73" y="322"/>
                  </a:lnTo>
                  <a:lnTo>
                    <a:pt x="84" y="343"/>
                  </a:lnTo>
                  <a:lnTo>
                    <a:pt x="95" y="367"/>
                  </a:lnTo>
                  <a:lnTo>
                    <a:pt x="104" y="390"/>
                  </a:lnTo>
                  <a:lnTo>
                    <a:pt x="112" y="415"/>
                  </a:lnTo>
                  <a:lnTo>
                    <a:pt x="118" y="439"/>
                  </a:lnTo>
                  <a:lnTo>
                    <a:pt x="124" y="463"/>
                  </a:lnTo>
                  <a:lnTo>
                    <a:pt x="126" y="486"/>
                  </a:lnTo>
                  <a:lnTo>
                    <a:pt x="127" y="508"/>
                  </a:lnTo>
                  <a:lnTo>
                    <a:pt x="127" y="519"/>
                  </a:lnTo>
                  <a:lnTo>
                    <a:pt x="127" y="529"/>
                  </a:lnTo>
                  <a:lnTo>
                    <a:pt x="126" y="540"/>
                  </a:lnTo>
                  <a:lnTo>
                    <a:pt x="124" y="549"/>
                  </a:lnTo>
                  <a:lnTo>
                    <a:pt x="183" y="543"/>
                  </a:lnTo>
                  <a:lnTo>
                    <a:pt x="244" y="537"/>
                  </a:lnTo>
                  <a:lnTo>
                    <a:pt x="305" y="531"/>
                  </a:lnTo>
                  <a:lnTo>
                    <a:pt x="366" y="527"/>
                  </a:lnTo>
                  <a:lnTo>
                    <a:pt x="426" y="522"/>
                  </a:lnTo>
                  <a:lnTo>
                    <a:pt x="487" y="519"/>
                  </a:lnTo>
                  <a:lnTo>
                    <a:pt x="548" y="515"/>
                  </a:lnTo>
                  <a:lnTo>
                    <a:pt x="606" y="513"/>
                  </a:lnTo>
                  <a:lnTo>
                    <a:pt x="665" y="510"/>
                  </a:lnTo>
                  <a:lnTo>
                    <a:pt x="721" y="510"/>
                  </a:lnTo>
                  <a:lnTo>
                    <a:pt x="776" y="509"/>
                  </a:lnTo>
                  <a:lnTo>
                    <a:pt x="829" y="510"/>
                  </a:lnTo>
                  <a:lnTo>
                    <a:pt x="881" y="513"/>
                  </a:lnTo>
                  <a:lnTo>
                    <a:pt x="930" y="515"/>
                  </a:lnTo>
                  <a:lnTo>
                    <a:pt x="976" y="519"/>
                  </a:lnTo>
                  <a:lnTo>
                    <a:pt x="1020" y="523"/>
                  </a:lnTo>
                  <a:lnTo>
                    <a:pt x="1030" y="527"/>
                  </a:lnTo>
                  <a:lnTo>
                    <a:pt x="1058" y="535"/>
                  </a:lnTo>
                  <a:lnTo>
                    <a:pt x="1077" y="542"/>
                  </a:lnTo>
                  <a:lnTo>
                    <a:pt x="1098" y="550"/>
                  </a:lnTo>
                  <a:lnTo>
                    <a:pt x="1120" y="559"/>
                  </a:lnTo>
                  <a:lnTo>
                    <a:pt x="1143" y="571"/>
                  </a:lnTo>
                  <a:lnTo>
                    <a:pt x="1167" y="583"/>
                  </a:lnTo>
                  <a:lnTo>
                    <a:pt x="1189" y="597"/>
                  </a:lnTo>
                  <a:lnTo>
                    <a:pt x="1200" y="605"/>
                  </a:lnTo>
                  <a:lnTo>
                    <a:pt x="1210" y="612"/>
                  </a:lnTo>
                  <a:lnTo>
                    <a:pt x="1219" y="620"/>
                  </a:lnTo>
                  <a:lnTo>
                    <a:pt x="1229" y="630"/>
                  </a:lnTo>
                  <a:lnTo>
                    <a:pt x="1237" y="638"/>
                  </a:lnTo>
                  <a:lnTo>
                    <a:pt x="1244" y="647"/>
                  </a:lnTo>
                  <a:lnTo>
                    <a:pt x="1251" y="658"/>
                  </a:lnTo>
                  <a:lnTo>
                    <a:pt x="1257" y="667"/>
                  </a:lnTo>
                  <a:lnTo>
                    <a:pt x="1261" y="677"/>
                  </a:lnTo>
                  <a:lnTo>
                    <a:pt x="1265" y="688"/>
                  </a:lnTo>
                  <a:lnTo>
                    <a:pt x="1266" y="700"/>
                  </a:lnTo>
                  <a:lnTo>
                    <a:pt x="1267" y="710"/>
                  </a:lnTo>
                  <a:lnTo>
                    <a:pt x="1268" y="722"/>
                  </a:lnTo>
                  <a:lnTo>
                    <a:pt x="1271" y="731"/>
                  </a:lnTo>
                  <a:lnTo>
                    <a:pt x="1274" y="738"/>
                  </a:lnTo>
                  <a:lnTo>
                    <a:pt x="1279" y="745"/>
                  </a:lnTo>
                  <a:lnTo>
                    <a:pt x="1286" y="750"/>
                  </a:lnTo>
                  <a:lnTo>
                    <a:pt x="1293" y="753"/>
                  </a:lnTo>
                  <a:lnTo>
                    <a:pt x="1301" y="757"/>
                  </a:lnTo>
                  <a:lnTo>
                    <a:pt x="1311" y="758"/>
                  </a:lnTo>
                  <a:lnTo>
                    <a:pt x="1321" y="758"/>
                  </a:lnTo>
                  <a:lnTo>
                    <a:pt x="1332" y="758"/>
                  </a:lnTo>
                  <a:lnTo>
                    <a:pt x="1343" y="757"/>
                  </a:lnTo>
                  <a:lnTo>
                    <a:pt x="1356" y="755"/>
                  </a:lnTo>
                  <a:lnTo>
                    <a:pt x="1381" y="749"/>
                  </a:lnTo>
                  <a:lnTo>
                    <a:pt x="1407" y="742"/>
                  </a:lnTo>
                  <a:lnTo>
                    <a:pt x="1433" y="732"/>
                  </a:lnTo>
                  <a:lnTo>
                    <a:pt x="1458" y="722"/>
                  </a:lnTo>
                  <a:lnTo>
                    <a:pt x="1482" y="711"/>
                  </a:lnTo>
                  <a:lnTo>
                    <a:pt x="1503" y="701"/>
                  </a:lnTo>
                  <a:lnTo>
                    <a:pt x="1535" y="686"/>
                  </a:lnTo>
                  <a:lnTo>
                    <a:pt x="1546" y="679"/>
                  </a:lnTo>
                  <a:lnTo>
                    <a:pt x="1639" y="494"/>
                  </a:lnTo>
                  <a:lnTo>
                    <a:pt x="1823" y="494"/>
                  </a:lnTo>
                  <a:lnTo>
                    <a:pt x="1979" y="616"/>
                  </a:lnTo>
                  <a:lnTo>
                    <a:pt x="2071" y="616"/>
                  </a:lnTo>
                  <a:lnTo>
                    <a:pt x="2258" y="771"/>
                  </a:lnTo>
                  <a:lnTo>
                    <a:pt x="2535" y="771"/>
                  </a:lnTo>
                  <a:lnTo>
                    <a:pt x="2531" y="791"/>
                  </a:lnTo>
                  <a:lnTo>
                    <a:pt x="2532" y="815"/>
                  </a:lnTo>
                  <a:lnTo>
                    <a:pt x="2537" y="843"/>
                  </a:lnTo>
                  <a:lnTo>
                    <a:pt x="2546" y="875"/>
                  </a:lnTo>
                  <a:lnTo>
                    <a:pt x="2559" y="910"/>
                  </a:lnTo>
                  <a:lnTo>
                    <a:pt x="2576" y="948"/>
                  </a:lnTo>
                  <a:lnTo>
                    <a:pt x="2595" y="989"/>
                  </a:lnTo>
                  <a:lnTo>
                    <a:pt x="2618" y="1033"/>
                  </a:lnTo>
                  <a:lnTo>
                    <a:pt x="2643" y="1079"/>
                  </a:lnTo>
                  <a:lnTo>
                    <a:pt x="2671" y="1126"/>
                  </a:lnTo>
                  <a:lnTo>
                    <a:pt x="2701" y="1175"/>
                  </a:lnTo>
                  <a:lnTo>
                    <a:pt x="2733" y="1225"/>
                  </a:lnTo>
                  <a:lnTo>
                    <a:pt x="2766" y="1277"/>
                  </a:lnTo>
                  <a:lnTo>
                    <a:pt x="2801" y="1328"/>
                  </a:lnTo>
                  <a:lnTo>
                    <a:pt x="2838" y="1381"/>
                  </a:lnTo>
                  <a:lnTo>
                    <a:pt x="2875" y="1432"/>
                  </a:lnTo>
                  <a:lnTo>
                    <a:pt x="2913" y="1483"/>
                  </a:lnTo>
                  <a:lnTo>
                    <a:pt x="2952" y="1534"/>
                  </a:lnTo>
                  <a:lnTo>
                    <a:pt x="2990" y="1583"/>
                  </a:lnTo>
                  <a:lnTo>
                    <a:pt x="3029" y="1631"/>
                  </a:lnTo>
                  <a:lnTo>
                    <a:pt x="3067" y="1677"/>
                  </a:lnTo>
                  <a:lnTo>
                    <a:pt x="3105" y="1721"/>
                  </a:lnTo>
                  <a:lnTo>
                    <a:pt x="3142" y="1763"/>
                  </a:lnTo>
                  <a:lnTo>
                    <a:pt x="3178" y="1802"/>
                  </a:lnTo>
                  <a:lnTo>
                    <a:pt x="3213" y="1837"/>
                  </a:lnTo>
                  <a:lnTo>
                    <a:pt x="3247" y="1870"/>
                  </a:lnTo>
                  <a:lnTo>
                    <a:pt x="3279" y="1899"/>
                  </a:lnTo>
                  <a:lnTo>
                    <a:pt x="3308" y="1925"/>
                  </a:lnTo>
                  <a:lnTo>
                    <a:pt x="3335" y="1945"/>
                  </a:lnTo>
                  <a:lnTo>
                    <a:pt x="3361" y="1961"/>
                  </a:lnTo>
                  <a:lnTo>
                    <a:pt x="3383" y="1972"/>
                  </a:lnTo>
                  <a:lnTo>
                    <a:pt x="3401" y="1978"/>
                  </a:lnTo>
                  <a:lnTo>
                    <a:pt x="3420" y="1981"/>
                  </a:lnTo>
                  <a:lnTo>
                    <a:pt x="3440" y="1986"/>
                  </a:lnTo>
                  <a:lnTo>
                    <a:pt x="3462" y="1990"/>
                  </a:lnTo>
                  <a:lnTo>
                    <a:pt x="3486" y="1997"/>
                  </a:lnTo>
                  <a:lnTo>
                    <a:pt x="3538" y="2014"/>
                  </a:lnTo>
                  <a:lnTo>
                    <a:pt x="3598" y="2035"/>
                  </a:lnTo>
                  <a:lnTo>
                    <a:pt x="3663" y="2059"/>
                  </a:lnTo>
                  <a:lnTo>
                    <a:pt x="3733" y="2090"/>
                  </a:lnTo>
                  <a:lnTo>
                    <a:pt x="3808" y="2124"/>
                  </a:lnTo>
                  <a:lnTo>
                    <a:pt x="3886" y="2162"/>
                  </a:lnTo>
                  <a:lnTo>
                    <a:pt x="3928" y="2182"/>
                  </a:lnTo>
                  <a:lnTo>
                    <a:pt x="3969" y="2204"/>
                  </a:lnTo>
                  <a:lnTo>
                    <a:pt x="4012" y="2227"/>
                  </a:lnTo>
                  <a:lnTo>
                    <a:pt x="4056" y="2251"/>
                  </a:lnTo>
                  <a:lnTo>
                    <a:pt x="4099" y="2277"/>
                  </a:lnTo>
                  <a:lnTo>
                    <a:pt x="4143" y="2302"/>
                  </a:lnTo>
                  <a:lnTo>
                    <a:pt x="4189" y="2330"/>
                  </a:lnTo>
                  <a:lnTo>
                    <a:pt x="4234" y="2358"/>
                  </a:lnTo>
                  <a:lnTo>
                    <a:pt x="4280" y="2389"/>
                  </a:lnTo>
                  <a:lnTo>
                    <a:pt x="4327" y="2419"/>
                  </a:lnTo>
                  <a:lnTo>
                    <a:pt x="4372" y="2451"/>
                  </a:lnTo>
                  <a:lnTo>
                    <a:pt x="4419" y="2483"/>
                  </a:lnTo>
                  <a:lnTo>
                    <a:pt x="4466" y="2517"/>
                  </a:lnTo>
                  <a:lnTo>
                    <a:pt x="4512" y="2552"/>
                  </a:lnTo>
                  <a:lnTo>
                    <a:pt x="4559" y="2588"/>
                  </a:lnTo>
                  <a:lnTo>
                    <a:pt x="4606" y="2626"/>
                  </a:lnTo>
                  <a:lnTo>
                    <a:pt x="4885" y="2410"/>
                  </a:lnTo>
                  <a:lnTo>
                    <a:pt x="4884" y="2390"/>
                  </a:lnTo>
                  <a:lnTo>
                    <a:pt x="4883" y="2369"/>
                  </a:lnTo>
                  <a:lnTo>
                    <a:pt x="4879" y="2349"/>
                  </a:lnTo>
                  <a:lnTo>
                    <a:pt x="4876" y="2328"/>
                  </a:lnTo>
                  <a:lnTo>
                    <a:pt x="4871" y="2307"/>
                  </a:lnTo>
                  <a:lnTo>
                    <a:pt x="4865" y="2287"/>
                  </a:lnTo>
                  <a:lnTo>
                    <a:pt x="4858" y="2266"/>
                  </a:lnTo>
                  <a:lnTo>
                    <a:pt x="4851" y="2246"/>
                  </a:lnTo>
                  <a:lnTo>
                    <a:pt x="4835" y="2206"/>
                  </a:lnTo>
                  <a:lnTo>
                    <a:pt x="4816" y="2168"/>
                  </a:lnTo>
                  <a:lnTo>
                    <a:pt x="4797" y="2132"/>
                  </a:lnTo>
                  <a:lnTo>
                    <a:pt x="4776" y="2097"/>
                  </a:lnTo>
                  <a:lnTo>
                    <a:pt x="4756" y="2065"/>
                  </a:lnTo>
                  <a:lnTo>
                    <a:pt x="4737" y="2036"/>
                  </a:lnTo>
                  <a:lnTo>
                    <a:pt x="4719" y="2010"/>
                  </a:lnTo>
                  <a:lnTo>
                    <a:pt x="4703" y="1988"/>
                  </a:lnTo>
                  <a:lnTo>
                    <a:pt x="4678" y="1958"/>
                  </a:lnTo>
                  <a:lnTo>
                    <a:pt x="4669" y="1946"/>
                  </a:lnTo>
                  <a:lnTo>
                    <a:pt x="4657" y="1924"/>
                  </a:lnTo>
                  <a:lnTo>
                    <a:pt x="4641" y="1898"/>
                  </a:lnTo>
                  <a:lnTo>
                    <a:pt x="4621" y="1869"/>
                  </a:lnTo>
                  <a:lnTo>
                    <a:pt x="4595" y="1836"/>
                  </a:lnTo>
                  <a:lnTo>
                    <a:pt x="4567" y="1800"/>
                  </a:lnTo>
                  <a:lnTo>
                    <a:pt x="4535" y="1763"/>
                  </a:lnTo>
                  <a:lnTo>
                    <a:pt x="4498" y="1722"/>
                  </a:lnTo>
                  <a:lnTo>
                    <a:pt x="4460" y="1678"/>
                  </a:lnTo>
                  <a:lnTo>
                    <a:pt x="4419" y="1634"/>
                  </a:lnTo>
                  <a:lnTo>
                    <a:pt x="4375" y="1587"/>
                  </a:lnTo>
                  <a:lnTo>
                    <a:pt x="4328" y="1538"/>
                  </a:lnTo>
                  <a:lnTo>
                    <a:pt x="4280" y="1489"/>
                  </a:lnTo>
                  <a:lnTo>
                    <a:pt x="4178" y="1389"/>
                  </a:lnTo>
                  <a:lnTo>
                    <a:pt x="4073" y="1286"/>
                  </a:lnTo>
                  <a:lnTo>
                    <a:pt x="3965" y="1183"/>
                  </a:lnTo>
                  <a:lnTo>
                    <a:pt x="3857" y="1084"/>
                  </a:lnTo>
                  <a:lnTo>
                    <a:pt x="3752" y="988"/>
                  </a:lnTo>
                  <a:lnTo>
                    <a:pt x="3650" y="899"/>
                  </a:lnTo>
                  <a:lnTo>
                    <a:pt x="3557" y="818"/>
                  </a:lnTo>
                  <a:lnTo>
                    <a:pt x="3472" y="748"/>
                  </a:lnTo>
                  <a:lnTo>
                    <a:pt x="3433" y="717"/>
                  </a:lnTo>
                  <a:lnTo>
                    <a:pt x="3398" y="690"/>
                  </a:lnTo>
                  <a:lnTo>
                    <a:pt x="3366" y="667"/>
                  </a:lnTo>
                  <a:lnTo>
                    <a:pt x="3338" y="647"/>
                  </a:lnTo>
                  <a:lnTo>
                    <a:pt x="3285" y="611"/>
                  </a:lnTo>
                  <a:lnTo>
                    <a:pt x="3231" y="571"/>
                  </a:lnTo>
                  <a:lnTo>
                    <a:pt x="3175" y="528"/>
                  </a:lnTo>
                  <a:lnTo>
                    <a:pt x="3119" y="484"/>
                  </a:lnTo>
                  <a:lnTo>
                    <a:pt x="3062" y="438"/>
                  </a:lnTo>
                  <a:lnTo>
                    <a:pt x="3007" y="391"/>
                  </a:lnTo>
                  <a:lnTo>
                    <a:pt x="2952" y="346"/>
                  </a:lnTo>
                  <a:lnTo>
                    <a:pt x="2900" y="300"/>
                  </a:lnTo>
                  <a:lnTo>
                    <a:pt x="2803" y="217"/>
                  </a:lnTo>
                  <a:lnTo>
                    <a:pt x="2722" y="146"/>
                  </a:lnTo>
                  <a:lnTo>
                    <a:pt x="2689" y="118"/>
                  </a:lnTo>
                  <a:lnTo>
                    <a:pt x="2661" y="95"/>
                  </a:lnTo>
                  <a:lnTo>
                    <a:pt x="2639" y="78"/>
                  </a:lnTo>
                  <a:lnTo>
                    <a:pt x="2624" y="69"/>
                  </a:lnTo>
                  <a:lnTo>
                    <a:pt x="2609" y="60"/>
                  </a:lnTo>
                  <a:lnTo>
                    <a:pt x="2595" y="50"/>
                  </a:lnTo>
                  <a:lnTo>
                    <a:pt x="2584" y="41"/>
                  </a:lnTo>
                  <a:lnTo>
                    <a:pt x="2572" y="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Freeform 171"/>
            <p:cNvSpPr/>
            <p:nvPr/>
          </p:nvSpPr>
          <p:spPr>
            <a:xfrm>
              <a:off x="7826760" y="3827520"/>
              <a:ext cx="186840" cy="1328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238" h="822">
                  <a:moveTo>
                    <a:pt x="1124" y="762"/>
                  </a:moveTo>
                  <a:lnTo>
                    <a:pt x="1238" y="776"/>
                  </a:lnTo>
                  <a:lnTo>
                    <a:pt x="1238" y="762"/>
                  </a:lnTo>
                  <a:lnTo>
                    <a:pt x="1237" y="747"/>
                  </a:lnTo>
                  <a:lnTo>
                    <a:pt x="1236" y="732"/>
                  </a:lnTo>
                  <a:lnTo>
                    <a:pt x="1234" y="717"/>
                  </a:lnTo>
                  <a:lnTo>
                    <a:pt x="1230" y="703"/>
                  </a:lnTo>
                  <a:lnTo>
                    <a:pt x="1227" y="688"/>
                  </a:lnTo>
                  <a:lnTo>
                    <a:pt x="1222" y="672"/>
                  </a:lnTo>
                  <a:lnTo>
                    <a:pt x="1217" y="657"/>
                  </a:lnTo>
                  <a:lnTo>
                    <a:pt x="1212" y="641"/>
                  </a:lnTo>
                  <a:lnTo>
                    <a:pt x="1205" y="626"/>
                  </a:lnTo>
                  <a:lnTo>
                    <a:pt x="1198" y="611"/>
                  </a:lnTo>
                  <a:lnTo>
                    <a:pt x="1189" y="594"/>
                  </a:lnTo>
                  <a:lnTo>
                    <a:pt x="1181" y="579"/>
                  </a:lnTo>
                  <a:lnTo>
                    <a:pt x="1171" y="563"/>
                  </a:lnTo>
                  <a:lnTo>
                    <a:pt x="1160" y="546"/>
                  </a:lnTo>
                  <a:lnTo>
                    <a:pt x="1150" y="531"/>
                  </a:lnTo>
                  <a:lnTo>
                    <a:pt x="1124" y="497"/>
                  </a:lnTo>
                  <a:lnTo>
                    <a:pt x="1096" y="465"/>
                  </a:lnTo>
                  <a:lnTo>
                    <a:pt x="1064" y="431"/>
                  </a:lnTo>
                  <a:lnTo>
                    <a:pt x="1029" y="396"/>
                  </a:lnTo>
                  <a:lnTo>
                    <a:pt x="991" y="361"/>
                  </a:lnTo>
                  <a:lnTo>
                    <a:pt x="949" y="326"/>
                  </a:lnTo>
                  <a:lnTo>
                    <a:pt x="903" y="289"/>
                  </a:lnTo>
                  <a:lnTo>
                    <a:pt x="853" y="252"/>
                  </a:lnTo>
                  <a:lnTo>
                    <a:pt x="844" y="267"/>
                  </a:lnTo>
                  <a:lnTo>
                    <a:pt x="835" y="281"/>
                  </a:lnTo>
                  <a:lnTo>
                    <a:pt x="827" y="294"/>
                  </a:lnTo>
                  <a:lnTo>
                    <a:pt x="819" y="305"/>
                  </a:lnTo>
                  <a:lnTo>
                    <a:pt x="811" y="314"/>
                  </a:lnTo>
                  <a:lnTo>
                    <a:pt x="803" y="322"/>
                  </a:lnTo>
                  <a:lnTo>
                    <a:pt x="796" y="329"/>
                  </a:lnTo>
                  <a:lnTo>
                    <a:pt x="789" y="335"/>
                  </a:lnTo>
                  <a:lnTo>
                    <a:pt x="782" y="340"/>
                  </a:lnTo>
                  <a:lnTo>
                    <a:pt x="775" y="342"/>
                  </a:lnTo>
                  <a:lnTo>
                    <a:pt x="768" y="344"/>
                  </a:lnTo>
                  <a:lnTo>
                    <a:pt x="762" y="344"/>
                  </a:lnTo>
                  <a:lnTo>
                    <a:pt x="756" y="344"/>
                  </a:lnTo>
                  <a:lnTo>
                    <a:pt x="750" y="342"/>
                  </a:lnTo>
                  <a:lnTo>
                    <a:pt x="745" y="340"/>
                  </a:lnTo>
                  <a:lnTo>
                    <a:pt x="741" y="335"/>
                  </a:lnTo>
                  <a:lnTo>
                    <a:pt x="736" y="330"/>
                  </a:lnTo>
                  <a:lnTo>
                    <a:pt x="733" y="323"/>
                  </a:lnTo>
                  <a:lnTo>
                    <a:pt x="729" y="316"/>
                  </a:lnTo>
                  <a:lnTo>
                    <a:pt x="727" y="307"/>
                  </a:lnTo>
                  <a:lnTo>
                    <a:pt x="724" y="298"/>
                  </a:lnTo>
                  <a:lnTo>
                    <a:pt x="723" y="287"/>
                  </a:lnTo>
                  <a:lnTo>
                    <a:pt x="722" y="275"/>
                  </a:lnTo>
                  <a:lnTo>
                    <a:pt x="722" y="263"/>
                  </a:lnTo>
                  <a:lnTo>
                    <a:pt x="722" y="250"/>
                  </a:lnTo>
                  <a:lnTo>
                    <a:pt x="723" y="234"/>
                  </a:lnTo>
                  <a:lnTo>
                    <a:pt x="724" y="219"/>
                  </a:lnTo>
                  <a:lnTo>
                    <a:pt x="727" y="203"/>
                  </a:lnTo>
                  <a:lnTo>
                    <a:pt x="734" y="168"/>
                  </a:lnTo>
                  <a:lnTo>
                    <a:pt x="743" y="128"/>
                  </a:lnTo>
                  <a:lnTo>
                    <a:pt x="744" y="126"/>
                  </a:lnTo>
                  <a:lnTo>
                    <a:pt x="745" y="119"/>
                  </a:lnTo>
                  <a:lnTo>
                    <a:pt x="745" y="115"/>
                  </a:lnTo>
                  <a:lnTo>
                    <a:pt x="743" y="111"/>
                  </a:lnTo>
                  <a:lnTo>
                    <a:pt x="741" y="106"/>
                  </a:lnTo>
                  <a:lnTo>
                    <a:pt x="736" y="102"/>
                  </a:lnTo>
                  <a:lnTo>
                    <a:pt x="729" y="99"/>
                  </a:lnTo>
                  <a:lnTo>
                    <a:pt x="720" y="97"/>
                  </a:lnTo>
                  <a:lnTo>
                    <a:pt x="708" y="94"/>
                  </a:lnTo>
                  <a:lnTo>
                    <a:pt x="692" y="94"/>
                  </a:lnTo>
                  <a:lnTo>
                    <a:pt x="673" y="95"/>
                  </a:lnTo>
                  <a:lnTo>
                    <a:pt x="650" y="99"/>
                  </a:lnTo>
                  <a:lnTo>
                    <a:pt x="623" y="104"/>
                  </a:lnTo>
                  <a:lnTo>
                    <a:pt x="590" y="111"/>
                  </a:lnTo>
                  <a:lnTo>
                    <a:pt x="594" y="108"/>
                  </a:lnTo>
                  <a:lnTo>
                    <a:pt x="598" y="101"/>
                  </a:lnTo>
                  <a:lnTo>
                    <a:pt x="605" y="91"/>
                  </a:lnTo>
                  <a:lnTo>
                    <a:pt x="611" y="79"/>
                  </a:lnTo>
                  <a:lnTo>
                    <a:pt x="612" y="73"/>
                  </a:lnTo>
                  <a:lnTo>
                    <a:pt x="613" y="66"/>
                  </a:lnTo>
                  <a:lnTo>
                    <a:pt x="612" y="60"/>
                  </a:lnTo>
                  <a:lnTo>
                    <a:pt x="609" y="55"/>
                  </a:lnTo>
                  <a:lnTo>
                    <a:pt x="604" y="49"/>
                  </a:lnTo>
                  <a:lnTo>
                    <a:pt x="596" y="44"/>
                  </a:lnTo>
                  <a:lnTo>
                    <a:pt x="587" y="39"/>
                  </a:lnTo>
                  <a:lnTo>
                    <a:pt x="574" y="36"/>
                  </a:lnTo>
                  <a:lnTo>
                    <a:pt x="546" y="29"/>
                  </a:lnTo>
                  <a:lnTo>
                    <a:pt x="519" y="20"/>
                  </a:lnTo>
                  <a:lnTo>
                    <a:pt x="492" y="11"/>
                  </a:lnTo>
                  <a:lnTo>
                    <a:pt x="463" y="4"/>
                  </a:lnTo>
                  <a:lnTo>
                    <a:pt x="448" y="1"/>
                  </a:lnTo>
                  <a:lnTo>
                    <a:pt x="431" y="0"/>
                  </a:lnTo>
                  <a:lnTo>
                    <a:pt x="413" y="0"/>
                  </a:lnTo>
                  <a:lnTo>
                    <a:pt x="394" y="0"/>
                  </a:lnTo>
                  <a:lnTo>
                    <a:pt x="373" y="2"/>
                  </a:lnTo>
                  <a:lnTo>
                    <a:pt x="349" y="6"/>
                  </a:lnTo>
                  <a:lnTo>
                    <a:pt x="324" y="11"/>
                  </a:lnTo>
                  <a:lnTo>
                    <a:pt x="297" y="20"/>
                  </a:lnTo>
                  <a:lnTo>
                    <a:pt x="311" y="111"/>
                  </a:lnTo>
                  <a:lnTo>
                    <a:pt x="305" y="108"/>
                  </a:lnTo>
                  <a:lnTo>
                    <a:pt x="288" y="102"/>
                  </a:lnTo>
                  <a:lnTo>
                    <a:pt x="260" y="93"/>
                  </a:lnTo>
                  <a:lnTo>
                    <a:pt x="219" y="83"/>
                  </a:lnTo>
                  <a:lnTo>
                    <a:pt x="220" y="86"/>
                  </a:lnTo>
                  <a:lnTo>
                    <a:pt x="220" y="95"/>
                  </a:lnTo>
                  <a:lnTo>
                    <a:pt x="221" y="108"/>
                  </a:lnTo>
                  <a:lnTo>
                    <a:pt x="219" y="125"/>
                  </a:lnTo>
                  <a:lnTo>
                    <a:pt x="216" y="134"/>
                  </a:lnTo>
                  <a:lnTo>
                    <a:pt x="214" y="142"/>
                  </a:lnTo>
                  <a:lnTo>
                    <a:pt x="210" y="152"/>
                  </a:lnTo>
                  <a:lnTo>
                    <a:pt x="206" y="160"/>
                  </a:lnTo>
                  <a:lnTo>
                    <a:pt x="200" y="168"/>
                  </a:lnTo>
                  <a:lnTo>
                    <a:pt x="192" y="176"/>
                  </a:lnTo>
                  <a:lnTo>
                    <a:pt x="184" y="183"/>
                  </a:lnTo>
                  <a:lnTo>
                    <a:pt x="173" y="189"/>
                  </a:lnTo>
                  <a:lnTo>
                    <a:pt x="154" y="184"/>
                  </a:lnTo>
                  <a:lnTo>
                    <a:pt x="136" y="182"/>
                  </a:lnTo>
                  <a:lnTo>
                    <a:pt x="119" y="182"/>
                  </a:lnTo>
                  <a:lnTo>
                    <a:pt x="104" y="182"/>
                  </a:lnTo>
                  <a:lnTo>
                    <a:pt x="90" y="184"/>
                  </a:lnTo>
                  <a:lnTo>
                    <a:pt x="76" y="189"/>
                  </a:lnTo>
                  <a:lnTo>
                    <a:pt x="64" y="194"/>
                  </a:lnTo>
                  <a:lnTo>
                    <a:pt x="54" y="201"/>
                  </a:lnTo>
                  <a:lnTo>
                    <a:pt x="45" y="208"/>
                  </a:lnTo>
                  <a:lnTo>
                    <a:pt x="35" y="216"/>
                  </a:lnTo>
                  <a:lnTo>
                    <a:pt x="27" y="226"/>
                  </a:lnTo>
                  <a:lnTo>
                    <a:pt x="21" y="236"/>
                  </a:lnTo>
                  <a:lnTo>
                    <a:pt x="15" y="247"/>
                  </a:lnTo>
                  <a:lnTo>
                    <a:pt x="11" y="259"/>
                  </a:lnTo>
                  <a:lnTo>
                    <a:pt x="7" y="272"/>
                  </a:lnTo>
                  <a:lnTo>
                    <a:pt x="4" y="285"/>
                  </a:lnTo>
                  <a:lnTo>
                    <a:pt x="1" y="299"/>
                  </a:lnTo>
                  <a:lnTo>
                    <a:pt x="0" y="312"/>
                  </a:lnTo>
                  <a:lnTo>
                    <a:pt x="0" y="326"/>
                  </a:lnTo>
                  <a:lnTo>
                    <a:pt x="1" y="340"/>
                  </a:lnTo>
                  <a:lnTo>
                    <a:pt x="3" y="355"/>
                  </a:lnTo>
                  <a:lnTo>
                    <a:pt x="5" y="369"/>
                  </a:lnTo>
                  <a:lnTo>
                    <a:pt x="7" y="383"/>
                  </a:lnTo>
                  <a:lnTo>
                    <a:pt x="11" y="397"/>
                  </a:lnTo>
                  <a:lnTo>
                    <a:pt x="15" y="410"/>
                  </a:lnTo>
                  <a:lnTo>
                    <a:pt x="20" y="423"/>
                  </a:lnTo>
                  <a:lnTo>
                    <a:pt x="26" y="435"/>
                  </a:lnTo>
                  <a:lnTo>
                    <a:pt x="33" y="448"/>
                  </a:lnTo>
                  <a:lnTo>
                    <a:pt x="39" y="459"/>
                  </a:lnTo>
                  <a:lnTo>
                    <a:pt x="47" y="469"/>
                  </a:lnTo>
                  <a:lnTo>
                    <a:pt x="55" y="480"/>
                  </a:lnTo>
                  <a:lnTo>
                    <a:pt x="63" y="488"/>
                  </a:lnTo>
                  <a:lnTo>
                    <a:pt x="90" y="515"/>
                  </a:lnTo>
                  <a:lnTo>
                    <a:pt x="114" y="541"/>
                  </a:lnTo>
                  <a:lnTo>
                    <a:pt x="135" y="565"/>
                  </a:lnTo>
                  <a:lnTo>
                    <a:pt x="153" y="588"/>
                  </a:lnTo>
                  <a:lnTo>
                    <a:pt x="170" y="612"/>
                  </a:lnTo>
                  <a:lnTo>
                    <a:pt x="184" y="633"/>
                  </a:lnTo>
                  <a:lnTo>
                    <a:pt x="195" y="655"/>
                  </a:lnTo>
                  <a:lnTo>
                    <a:pt x="205" y="675"/>
                  </a:lnTo>
                  <a:lnTo>
                    <a:pt x="210" y="695"/>
                  </a:lnTo>
                  <a:lnTo>
                    <a:pt x="215" y="715"/>
                  </a:lnTo>
                  <a:lnTo>
                    <a:pt x="216" y="724"/>
                  </a:lnTo>
                  <a:lnTo>
                    <a:pt x="216" y="733"/>
                  </a:lnTo>
                  <a:lnTo>
                    <a:pt x="216" y="743"/>
                  </a:lnTo>
                  <a:lnTo>
                    <a:pt x="215" y="752"/>
                  </a:lnTo>
                  <a:lnTo>
                    <a:pt x="214" y="761"/>
                  </a:lnTo>
                  <a:lnTo>
                    <a:pt x="212" y="769"/>
                  </a:lnTo>
                  <a:lnTo>
                    <a:pt x="209" y="779"/>
                  </a:lnTo>
                  <a:lnTo>
                    <a:pt x="206" y="788"/>
                  </a:lnTo>
                  <a:lnTo>
                    <a:pt x="198" y="806"/>
                  </a:lnTo>
                  <a:lnTo>
                    <a:pt x="187" y="822"/>
                  </a:lnTo>
                  <a:lnTo>
                    <a:pt x="714" y="800"/>
                  </a:lnTo>
                  <a:lnTo>
                    <a:pt x="1124" y="76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Freeform 172"/>
            <p:cNvSpPr/>
            <p:nvPr/>
          </p:nvSpPr>
          <p:spPr>
            <a:xfrm>
              <a:off x="7826760" y="3827520"/>
              <a:ext cx="186840" cy="1328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238" h="822">
                  <a:moveTo>
                    <a:pt x="1124" y="762"/>
                  </a:moveTo>
                  <a:lnTo>
                    <a:pt x="1238" y="776"/>
                  </a:lnTo>
                  <a:lnTo>
                    <a:pt x="1238" y="762"/>
                  </a:lnTo>
                  <a:lnTo>
                    <a:pt x="1237" y="747"/>
                  </a:lnTo>
                  <a:lnTo>
                    <a:pt x="1236" y="732"/>
                  </a:lnTo>
                  <a:lnTo>
                    <a:pt x="1234" y="717"/>
                  </a:lnTo>
                  <a:lnTo>
                    <a:pt x="1230" y="703"/>
                  </a:lnTo>
                  <a:lnTo>
                    <a:pt x="1227" y="688"/>
                  </a:lnTo>
                  <a:lnTo>
                    <a:pt x="1222" y="672"/>
                  </a:lnTo>
                  <a:lnTo>
                    <a:pt x="1217" y="657"/>
                  </a:lnTo>
                  <a:lnTo>
                    <a:pt x="1212" y="641"/>
                  </a:lnTo>
                  <a:lnTo>
                    <a:pt x="1205" y="626"/>
                  </a:lnTo>
                  <a:lnTo>
                    <a:pt x="1198" y="611"/>
                  </a:lnTo>
                  <a:lnTo>
                    <a:pt x="1189" y="594"/>
                  </a:lnTo>
                  <a:lnTo>
                    <a:pt x="1181" y="579"/>
                  </a:lnTo>
                  <a:lnTo>
                    <a:pt x="1171" y="563"/>
                  </a:lnTo>
                  <a:lnTo>
                    <a:pt x="1160" y="546"/>
                  </a:lnTo>
                  <a:lnTo>
                    <a:pt x="1150" y="531"/>
                  </a:lnTo>
                  <a:lnTo>
                    <a:pt x="1124" y="497"/>
                  </a:lnTo>
                  <a:lnTo>
                    <a:pt x="1096" y="465"/>
                  </a:lnTo>
                  <a:lnTo>
                    <a:pt x="1064" y="431"/>
                  </a:lnTo>
                  <a:lnTo>
                    <a:pt x="1029" y="396"/>
                  </a:lnTo>
                  <a:lnTo>
                    <a:pt x="991" y="361"/>
                  </a:lnTo>
                  <a:lnTo>
                    <a:pt x="949" y="326"/>
                  </a:lnTo>
                  <a:lnTo>
                    <a:pt x="903" y="289"/>
                  </a:lnTo>
                  <a:lnTo>
                    <a:pt x="853" y="252"/>
                  </a:lnTo>
                  <a:lnTo>
                    <a:pt x="844" y="267"/>
                  </a:lnTo>
                  <a:lnTo>
                    <a:pt x="835" y="281"/>
                  </a:lnTo>
                  <a:lnTo>
                    <a:pt x="827" y="294"/>
                  </a:lnTo>
                  <a:lnTo>
                    <a:pt x="819" y="305"/>
                  </a:lnTo>
                  <a:lnTo>
                    <a:pt x="811" y="314"/>
                  </a:lnTo>
                  <a:lnTo>
                    <a:pt x="803" y="322"/>
                  </a:lnTo>
                  <a:lnTo>
                    <a:pt x="796" y="329"/>
                  </a:lnTo>
                  <a:lnTo>
                    <a:pt x="789" y="335"/>
                  </a:lnTo>
                  <a:lnTo>
                    <a:pt x="782" y="340"/>
                  </a:lnTo>
                  <a:lnTo>
                    <a:pt x="775" y="342"/>
                  </a:lnTo>
                  <a:lnTo>
                    <a:pt x="768" y="344"/>
                  </a:lnTo>
                  <a:lnTo>
                    <a:pt x="762" y="344"/>
                  </a:lnTo>
                  <a:lnTo>
                    <a:pt x="756" y="344"/>
                  </a:lnTo>
                  <a:lnTo>
                    <a:pt x="750" y="342"/>
                  </a:lnTo>
                  <a:lnTo>
                    <a:pt x="745" y="340"/>
                  </a:lnTo>
                  <a:lnTo>
                    <a:pt x="741" y="335"/>
                  </a:lnTo>
                  <a:lnTo>
                    <a:pt x="736" y="330"/>
                  </a:lnTo>
                  <a:lnTo>
                    <a:pt x="733" y="323"/>
                  </a:lnTo>
                  <a:lnTo>
                    <a:pt x="729" y="316"/>
                  </a:lnTo>
                  <a:lnTo>
                    <a:pt x="727" y="307"/>
                  </a:lnTo>
                  <a:lnTo>
                    <a:pt x="724" y="298"/>
                  </a:lnTo>
                  <a:lnTo>
                    <a:pt x="723" y="287"/>
                  </a:lnTo>
                  <a:lnTo>
                    <a:pt x="722" y="275"/>
                  </a:lnTo>
                  <a:lnTo>
                    <a:pt x="722" y="263"/>
                  </a:lnTo>
                  <a:lnTo>
                    <a:pt x="722" y="250"/>
                  </a:lnTo>
                  <a:lnTo>
                    <a:pt x="723" y="234"/>
                  </a:lnTo>
                  <a:lnTo>
                    <a:pt x="724" y="219"/>
                  </a:lnTo>
                  <a:lnTo>
                    <a:pt x="727" y="203"/>
                  </a:lnTo>
                  <a:lnTo>
                    <a:pt x="734" y="168"/>
                  </a:lnTo>
                  <a:lnTo>
                    <a:pt x="743" y="128"/>
                  </a:lnTo>
                  <a:lnTo>
                    <a:pt x="744" y="126"/>
                  </a:lnTo>
                  <a:lnTo>
                    <a:pt x="745" y="119"/>
                  </a:lnTo>
                  <a:lnTo>
                    <a:pt x="745" y="115"/>
                  </a:lnTo>
                  <a:lnTo>
                    <a:pt x="743" y="111"/>
                  </a:lnTo>
                  <a:lnTo>
                    <a:pt x="741" y="106"/>
                  </a:lnTo>
                  <a:lnTo>
                    <a:pt x="736" y="102"/>
                  </a:lnTo>
                  <a:lnTo>
                    <a:pt x="729" y="99"/>
                  </a:lnTo>
                  <a:lnTo>
                    <a:pt x="720" y="97"/>
                  </a:lnTo>
                  <a:lnTo>
                    <a:pt x="708" y="94"/>
                  </a:lnTo>
                  <a:lnTo>
                    <a:pt x="692" y="94"/>
                  </a:lnTo>
                  <a:lnTo>
                    <a:pt x="673" y="95"/>
                  </a:lnTo>
                  <a:lnTo>
                    <a:pt x="650" y="99"/>
                  </a:lnTo>
                  <a:lnTo>
                    <a:pt x="623" y="104"/>
                  </a:lnTo>
                  <a:lnTo>
                    <a:pt x="590" y="111"/>
                  </a:lnTo>
                  <a:lnTo>
                    <a:pt x="594" y="108"/>
                  </a:lnTo>
                  <a:lnTo>
                    <a:pt x="598" y="101"/>
                  </a:lnTo>
                  <a:lnTo>
                    <a:pt x="605" y="91"/>
                  </a:lnTo>
                  <a:lnTo>
                    <a:pt x="611" y="79"/>
                  </a:lnTo>
                  <a:lnTo>
                    <a:pt x="612" y="73"/>
                  </a:lnTo>
                  <a:lnTo>
                    <a:pt x="613" y="66"/>
                  </a:lnTo>
                  <a:lnTo>
                    <a:pt x="612" y="60"/>
                  </a:lnTo>
                  <a:lnTo>
                    <a:pt x="609" y="55"/>
                  </a:lnTo>
                  <a:lnTo>
                    <a:pt x="604" y="49"/>
                  </a:lnTo>
                  <a:lnTo>
                    <a:pt x="596" y="44"/>
                  </a:lnTo>
                  <a:lnTo>
                    <a:pt x="587" y="39"/>
                  </a:lnTo>
                  <a:lnTo>
                    <a:pt x="574" y="36"/>
                  </a:lnTo>
                  <a:lnTo>
                    <a:pt x="546" y="29"/>
                  </a:lnTo>
                  <a:lnTo>
                    <a:pt x="519" y="20"/>
                  </a:lnTo>
                  <a:lnTo>
                    <a:pt x="492" y="11"/>
                  </a:lnTo>
                  <a:lnTo>
                    <a:pt x="463" y="4"/>
                  </a:lnTo>
                  <a:lnTo>
                    <a:pt x="448" y="1"/>
                  </a:lnTo>
                  <a:lnTo>
                    <a:pt x="431" y="0"/>
                  </a:lnTo>
                  <a:lnTo>
                    <a:pt x="413" y="0"/>
                  </a:lnTo>
                  <a:lnTo>
                    <a:pt x="394" y="0"/>
                  </a:lnTo>
                  <a:lnTo>
                    <a:pt x="373" y="2"/>
                  </a:lnTo>
                  <a:lnTo>
                    <a:pt x="349" y="6"/>
                  </a:lnTo>
                  <a:lnTo>
                    <a:pt x="324" y="11"/>
                  </a:lnTo>
                  <a:lnTo>
                    <a:pt x="297" y="20"/>
                  </a:lnTo>
                  <a:lnTo>
                    <a:pt x="311" y="111"/>
                  </a:lnTo>
                  <a:lnTo>
                    <a:pt x="305" y="108"/>
                  </a:lnTo>
                  <a:lnTo>
                    <a:pt x="288" y="102"/>
                  </a:lnTo>
                  <a:lnTo>
                    <a:pt x="260" y="93"/>
                  </a:lnTo>
                  <a:lnTo>
                    <a:pt x="219" y="83"/>
                  </a:lnTo>
                  <a:lnTo>
                    <a:pt x="220" y="86"/>
                  </a:lnTo>
                  <a:lnTo>
                    <a:pt x="220" y="95"/>
                  </a:lnTo>
                  <a:lnTo>
                    <a:pt x="221" y="108"/>
                  </a:lnTo>
                  <a:lnTo>
                    <a:pt x="219" y="125"/>
                  </a:lnTo>
                  <a:lnTo>
                    <a:pt x="216" y="134"/>
                  </a:lnTo>
                  <a:lnTo>
                    <a:pt x="214" y="142"/>
                  </a:lnTo>
                  <a:lnTo>
                    <a:pt x="210" y="152"/>
                  </a:lnTo>
                  <a:lnTo>
                    <a:pt x="206" y="160"/>
                  </a:lnTo>
                  <a:lnTo>
                    <a:pt x="200" y="168"/>
                  </a:lnTo>
                  <a:lnTo>
                    <a:pt x="192" y="176"/>
                  </a:lnTo>
                  <a:lnTo>
                    <a:pt x="184" y="183"/>
                  </a:lnTo>
                  <a:lnTo>
                    <a:pt x="173" y="189"/>
                  </a:lnTo>
                  <a:lnTo>
                    <a:pt x="154" y="184"/>
                  </a:lnTo>
                  <a:lnTo>
                    <a:pt x="136" y="182"/>
                  </a:lnTo>
                  <a:lnTo>
                    <a:pt x="119" y="182"/>
                  </a:lnTo>
                  <a:lnTo>
                    <a:pt x="104" y="182"/>
                  </a:lnTo>
                  <a:lnTo>
                    <a:pt x="90" y="184"/>
                  </a:lnTo>
                  <a:lnTo>
                    <a:pt x="76" y="189"/>
                  </a:lnTo>
                  <a:lnTo>
                    <a:pt x="64" y="194"/>
                  </a:lnTo>
                  <a:lnTo>
                    <a:pt x="54" y="201"/>
                  </a:lnTo>
                  <a:lnTo>
                    <a:pt x="45" y="208"/>
                  </a:lnTo>
                  <a:lnTo>
                    <a:pt x="35" y="216"/>
                  </a:lnTo>
                  <a:lnTo>
                    <a:pt x="27" y="226"/>
                  </a:lnTo>
                  <a:lnTo>
                    <a:pt x="21" y="236"/>
                  </a:lnTo>
                  <a:lnTo>
                    <a:pt x="15" y="247"/>
                  </a:lnTo>
                  <a:lnTo>
                    <a:pt x="11" y="259"/>
                  </a:lnTo>
                  <a:lnTo>
                    <a:pt x="7" y="272"/>
                  </a:lnTo>
                  <a:lnTo>
                    <a:pt x="4" y="285"/>
                  </a:lnTo>
                  <a:lnTo>
                    <a:pt x="1" y="299"/>
                  </a:lnTo>
                  <a:lnTo>
                    <a:pt x="0" y="312"/>
                  </a:lnTo>
                  <a:lnTo>
                    <a:pt x="0" y="326"/>
                  </a:lnTo>
                  <a:lnTo>
                    <a:pt x="1" y="340"/>
                  </a:lnTo>
                  <a:lnTo>
                    <a:pt x="3" y="355"/>
                  </a:lnTo>
                  <a:lnTo>
                    <a:pt x="5" y="369"/>
                  </a:lnTo>
                  <a:lnTo>
                    <a:pt x="7" y="383"/>
                  </a:lnTo>
                  <a:lnTo>
                    <a:pt x="11" y="397"/>
                  </a:lnTo>
                  <a:lnTo>
                    <a:pt x="15" y="410"/>
                  </a:lnTo>
                  <a:lnTo>
                    <a:pt x="20" y="423"/>
                  </a:lnTo>
                  <a:lnTo>
                    <a:pt x="26" y="435"/>
                  </a:lnTo>
                  <a:lnTo>
                    <a:pt x="33" y="448"/>
                  </a:lnTo>
                  <a:lnTo>
                    <a:pt x="39" y="459"/>
                  </a:lnTo>
                  <a:lnTo>
                    <a:pt x="47" y="469"/>
                  </a:lnTo>
                  <a:lnTo>
                    <a:pt x="55" y="480"/>
                  </a:lnTo>
                  <a:lnTo>
                    <a:pt x="63" y="488"/>
                  </a:lnTo>
                  <a:lnTo>
                    <a:pt x="90" y="515"/>
                  </a:lnTo>
                  <a:lnTo>
                    <a:pt x="114" y="541"/>
                  </a:lnTo>
                  <a:lnTo>
                    <a:pt x="135" y="565"/>
                  </a:lnTo>
                  <a:lnTo>
                    <a:pt x="153" y="588"/>
                  </a:lnTo>
                  <a:lnTo>
                    <a:pt x="170" y="612"/>
                  </a:lnTo>
                  <a:lnTo>
                    <a:pt x="184" y="633"/>
                  </a:lnTo>
                  <a:lnTo>
                    <a:pt x="195" y="655"/>
                  </a:lnTo>
                  <a:lnTo>
                    <a:pt x="205" y="675"/>
                  </a:lnTo>
                  <a:lnTo>
                    <a:pt x="210" y="695"/>
                  </a:lnTo>
                  <a:lnTo>
                    <a:pt x="215" y="715"/>
                  </a:lnTo>
                  <a:lnTo>
                    <a:pt x="216" y="724"/>
                  </a:lnTo>
                  <a:lnTo>
                    <a:pt x="216" y="733"/>
                  </a:lnTo>
                  <a:lnTo>
                    <a:pt x="216" y="743"/>
                  </a:lnTo>
                  <a:lnTo>
                    <a:pt x="215" y="752"/>
                  </a:lnTo>
                  <a:lnTo>
                    <a:pt x="214" y="761"/>
                  </a:lnTo>
                  <a:lnTo>
                    <a:pt x="212" y="769"/>
                  </a:lnTo>
                  <a:lnTo>
                    <a:pt x="209" y="779"/>
                  </a:lnTo>
                  <a:lnTo>
                    <a:pt x="206" y="788"/>
                  </a:lnTo>
                  <a:lnTo>
                    <a:pt x="198" y="806"/>
                  </a:lnTo>
                  <a:lnTo>
                    <a:pt x="187" y="822"/>
                  </a:lnTo>
                  <a:lnTo>
                    <a:pt x="714" y="800"/>
                  </a:lnTo>
                  <a:lnTo>
                    <a:pt x="1124" y="762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Freeform 173"/>
            <p:cNvSpPr/>
            <p:nvPr/>
          </p:nvSpPr>
          <p:spPr>
            <a:xfrm>
              <a:off x="7821360" y="3957480"/>
              <a:ext cx="150480" cy="1998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96" h="1220">
                  <a:moveTo>
                    <a:pt x="208" y="1220"/>
                  </a:moveTo>
                  <a:lnTo>
                    <a:pt x="207" y="1215"/>
                  </a:lnTo>
                  <a:lnTo>
                    <a:pt x="206" y="1199"/>
                  </a:lnTo>
                  <a:lnTo>
                    <a:pt x="203" y="1176"/>
                  </a:lnTo>
                  <a:lnTo>
                    <a:pt x="201" y="1146"/>
                  </a:lnTo>
                  <a:lnTo>
                    <a:pt x="197" y="1109"/>
                  </a:lnTo>
                  <a:lnTo>
                    <a:pt x="195" y="1071"/>
                  </a:lnTo>
                  <a:lnTo>
                    <a:pt x="194" y="1031"/>
                  </a:lnTo>
                  <a:lnTo>
                    <a:pt x="194" y="990"/>
                  </a:lnTo>
                  <a:lnTo>
                    <a:pt x="194" y="970"/>
                  </a:lnTo>
                  <a:lnTo>
                    <a:pt x="194" y="953"/>
                  </a:lnTo>
                  <a:lnTo>
                    <a:pt x="196" y="935"/>
                  </a:lnTo>
                  <a:lnTo>
                    <a:pt x="197" y="920"/>
                  </a:lnTo>
                  <a:lnTo>
                    <a:pt x="201" y="905"/>
                  </a:lnTo>
                  <a:lnTo>
                    <a:pt x="204" y="892"/>
                  </a:lnTo>
                  <a:lnTo>
                    <a:pt x="208" y="879"/>
                  </a:lnTo>
                  <a:lnTo>
                    <a:pt x="213" y="867"/>
                  </a:lnTo>
                  <a:lnTo>
                    <a:pt x="218" y="855"/>
                  </a:lnTo>
                  <a:lnTo>
                    <a:pt x="224" y="843"/>
                  </a:lnTo>
                  <a:lnTo>
                    <a:pt x="231" y="831"/>
                  </a:lnTo>
                  <a:lnTo>
                    <a:pt x="239" y="821"/>
                  </a:lnTo>
                  <a:lnTo>
                    <a:pt x="258" y="796"/>
                  </a:lnTo>
                  <a:lnTo>
                    <a:pt x="280" y="772"/>
                  </a:lnTo>
                  <a:lnTo>
                    <a:pt x="264" y="759"/>
                  </a:lnTo>
                  <a:lnTo>
                    <a:pt x="245" y="743"/>
                  </a:lnTo>
                  <a:lnTo>
                    <a:pt x="227" y="725"/>
                  </a:lnTo>
                  <a:lnTo>
                    <a:pt x="207" y="705"/>
                  </a:lnTo>
                  <a:lnTo>
                    <a:pt x="189" y="683"/>
                  </a:lnTo>
                  <a:lnTo>
                    <a:pt x="172" y="662"/>
                  </a:lnTo>
                  <a:lnTo>
                    <a:pt x="165" y="650"/>
                  </a:lnTo>
                  <a:lnTo>
                    <a:pt x="158" y="640"/>
                  </a:lnTo>
                  <a:lnTo>
                    <a:pt x="152" y="629"/>
                  </a:lnTo>
                  <a:lnTo>
                    <a:pt x="147" y="619"/>
                  </a:lnTo>
                  <a:lnTo>
                    <a:pt x="0" y="86"/>
                  </a:lnTo>
                  <a:lnTo>
                    <a:pt x="12" y="89"/>
                  </a:lnTo>
                  <a:lnTo>
                    <a:pt x="23" y="90"/>
                  </a:lnTo>
                  <a:lnTo>
                    <a:pt x="34" y="91"/>
                  </a:lnTo>
                  <a:lnTo>
                    <a:pt x="44" y="91"/>
                  </a:lnTo>
                  <a:lnTo>
                    <a:pt x="65" y="91"/>
                  </a:lnTo>
                  <a:lnTo>
                    <a:pt x="84" y="89"/>
                  </a:lnTo>
                  <a:lnTo>
                    <a:pt x="103" y="84"/>
                  </a:lnTo>
                  <a:lnTo>
                    <a:pt x="119" y="78"/>
                  </a:lnTo>
                  <a:lnTo>
                    <a:pt x="136" y="72"/>
                  </a:lnTo>
                  <a:lnTo>
                    <a:pt x="150" y="65"/>
                  </a:lnTo>
                  <a:lnTo>
                    <a:pt x="174" y="50"/>
                  </a:lnTo>
                  <a:lnTo>
                    <a:pt x="194" y="36"/>
                  </a:lnTo>
                  <a:lnTo>
                    <a:pt x="208" y="27"/>
                  </a:lnTo>
                  <a:lnTo>
                    <a:pt x="216" y="22"/>
                  </a:lnTo>
                  <a:lnTo>
                    <a:pt x="743" y="0"/>
                  </a:lnTo>
                  <a:lnTo>
                    <a:pt x="996" y="702"/>
                  </a:lnTo>
                  <a:lnTo>
                    <a:pt x="980" y="716"/>
                  </a:lnTo>
                  <a:lnTo>
                    <a:pt x="967" y="728"/>
                  </a:lnTo>
                  <a:lnTo>
                    <a:pt x="963" y="733"/>
                  </a:lnTo>
                  <a:lnTo>
                    <a:pt x="959" y="739"/>
                  </a:lnTo>
                  <a:lnTo>
                    <a:pt x="957" y="744"/>
                  </a:lnTo>
                  <a:lnTo>
                    <a:pt x="954" y="749"/>
                  </a:lnTo>
                  <a:lnTo>
                    <a:pt x="953" y="758"/>
                  </a:lnTo>
                  <a:lnTo>
                    <a:pt x="953" y="766"/>
                  </a:lnTo>
                  <a:lnTo>
                    <a:pt x="956" y="774"/>
                  </a:lnTo>
                  <a:lnTo>
                    <a:pt x="958" y="782"/>
                  </a:lnTo>
                  <a:lnTo>
                    <a:pt x="959" y="792"/>
                  </a:lnTo>
                  <a:lnTo>
                    <a:pt x="961" y="801"/>
                  </a:lnTo>
                  <a:lnTo>
                    <a:pt x="961" y="812"/>
                  </a:lnTo>
                  <a:lnTo>
                    <a:pt x="959" y="823"/>
                  </a:lnTo>
                  <a:lnTo>
                    <a:pt x="957" y="830"/>
                  </a:lnTo>
                  <a:lnTo>
                    <a:pt x="953" y="837"/>
                  </a:lnTo>
                  <a:lnTo>
                    <a:pt x="950" y="844"/>
                  </a:lnTo>
                  <a:lnTo>
                    <a:pt x="945" y="853"/>
                  </a:lnTo>
                  <a:lnTo>
                    <a:pt x="932" y="870"/>
                  </a:lnTo>
                  <a:lnTo>
                    <a:pt x="913" y="890"/>
                  </a:lnTo>
                  <a:lnTo>
                    <a:pt x="894" y="909"/>
                  </a:lnTo>
                  <a:lnTo>
                    <a:pt x="873" y="925"/>
                  </a:lnTo>
                  <a:lnTo>
                    <a:pt x="852" y="941"/>
                  </a:lnTo>
                  <a:lnTo>
                    <a:pt x="829" y="955"/>
                  </a:lnTo>
                  <a:lnTo>
                    <a:pt x="807" y="968"/>
                  </a:lnTo>
                  <a:lnTo>
                    <a:pt x="785" y="981"/>
                  </a:lnTo>
                  <a:lnTo>
                    <a:pt x="763" y="992"/>
                  </a:lnTo>
                  <a:lnTo>
                    <a:pt x="739" y="1002"/>
                  </a:lnTo>
                  <a:lnTo>
                    <a:pt x="716" y="1010"/>
                  </a:lnTo>
                  <a:lnTo>
                    <a:pt x="693" y="1018"/>
                  </a:lnTo>
                  <a:lnTo>
                    <a:pt x="669" y="1025"/>
                  </a:lnTo>
                  <a:lnTo>
                    <a:pt x="646" y="1032"/>
                  </a:lnTo>
                  <a:lnTo>
                    <a:pt x="599" y="1044"/>
                  </a:lnTo>
                  <a:lnTo>
                    <a:pt x="554" y="1053"/>
                  </a:lnTo>
                  <a:lnTo>
                    <a:pt x="466" y="1069"/>
                  </a:lnTo>
                  <a:lnTo>
                    <a:pt x="387" y="1085"/>
                  </a:lnTo>
                  <a:lnTo>
                    <a:pt x="369" y="1090"/>
                  </a:lnTo>
                  <a:lnTo>
                    <a:pt x="352" y="1094"/>
                  </a:lnTo>
                  <a:lnTo>
                    <a:pt x="335" y="1100"/>
                  </a:lnTo>
                  <a:lnTo>
                    <a:pt x="321" y="1106"/>
                  </a:lnTo>
                  <a:lnTo>
                    <a:pt x="306" y="1113"/>
                  </a:lnTo>
                  <a:lnTo>
                    <a:pt x="293" y="1120"/>
                  </a:lnTo>
                  <a:lnTo>
                    <a:pt x="282" y="1128"/>
                  </a:lnTo>
                  <a:lnTo>
                    <a:pt x="271" y="1138"/>
                  </a:lnTo>
                  <a:lnTo>
                    <a:pt x="250" y="1157"/>
                  </a:lnTo>
                  <a:lnTo>
                    <a:pt x="235" y="1171"/>
                  </a:lnTo>
                  <a:lnTo>
                    <a:pt x="227" y="1182"/>
                  </a:lnTo>
                  <a:lnTo>
                    <a:pt x="222" y="1189"/>
                  </a:lnTo>
                  <a:lnTo>
                    <a:pt x="217" y="1201"/>
                  </a:lnTo>
                  <a:lnTo>
                    <a:pt x="208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Freeform 174"/>
            <p:cNvSpPr/>
            <p:nvPr/>
          </p:nvSpPr>
          <p:spPr>
            <a:xfrm>
              <a:off x="7821360" y="3957480"/>
              <a:ext cx="150480" cy="1998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96" h="1220">
                  <a:moveTo>
                    <a:pt x="208" y="1220"/>
                  </a:moveTo>
                  <a:lnTo>
                    <a:pt x="207" y="1215"/>
                  </a:lnTo>
                  <a:lnTo>
                    <a:pt x="206" y="1199"/>
                  </a:lnTo>
                  <a:lnTo>
                    <a:pt x="203" y="1176"/>
                  </a:lnTo>
                  <a:lnTo>
                    <a:pt x="201" y="1146"/>
                  </a:lnTo>
                  <a:lnTo>
                    <a:pt x="197" y="1109"/>
                  </a:lnTo>
                  <a:lnTo>
                    <a:pt x="195" y="1071"/>
                  </a:lnTo>
                  <a:lnTo>
                    <a:pt x="194" y="1031"/>
                  </a:lnTo>
                  <a:lnTo>
                    <a:pt x="194" y="990"/>
                  </a:lnTo>
                  <a:lnTo>
                    <a:pt x="194" y="970"/>
                  </a:lnTo>
                  <a:lnTo>
                    <a:pt x="194" y="953"/>
                  </a:lnTo>
                  <a:lnTo>
                    <a:pt x="196" y="935"/>
                  </a:lnTo>
                  <a:lnTo>
                    <a:pt x="197" y="920"/>
                  </a:lnTo>
                  <a:lnTo>
                    <a:pt x="201" y="905"/>
                  </a:lnTo>
                  <a:lnTo>
                    <a:pt x="204" y="892"/>
                  </a:lnTo>
                  <a:lnTo>
                    <a:pt x="208" y="879"/>
                  </a:lnTo>
                  <a:lnTo>
                    <a:pt x="213" y="867"/>
                  </a:lnTo>
                  <a:lnTo>
                    <a:pt x="218" y="855"/>
                  </a:lnTo>
                  <a:lnTo>
                    <a:pt x="224" y="843"/>
                  </a:lnTo>
                  <a:lnTo>
                    <a:pt x="231" y="831"/>
                  </a:lnTo>
                  <a:lnTo>
                    <a:pt x="239" y="821"/>
                  </a:lnTo>
                  <a:lnTo>
                    <a:pt x="258" y="796"/>
                  </a:lnTo>
                  <a:lnTo>
                    <a:pt x="280" y="772"/>
                  </a:lnTo>
                  <a:lnTo>
                    <a:pt x="264" y="759"/>
                  </a:lnTo>
                  <a:lnTo>
                    <a:pt x="245" y="743"/>
                  </a:lnTo>
                  <a:lnTo>
                    <a:pt x="227" y="725"/>
                  </a:lnTo>
                  <a:lnTo>
                    <a:pt x="207" y="705"/>
                  </a:lnTo>
                  <a:lnTo>
                    <a:pt x="189" y="683"/>
                  </a:lnTo>
                  <a:lnTo>
                    <a:pt x="172" y="662"/>
                  </a:lnTo>
                  <a:lnTo>
                    <a:pt x="165" y="650"/>
                  </a:lnTo>
                  <a:lnTo>
                    <a:pt x="158" y="640"/>
                  </a:lnTo>
                  <a:lnTo>
                    <a:pt x="152" y="629"/>
                  </a:lnTo>
                  <a:lnTo>
                    <a:pt x="147" y="619"/>
                  </a:lnTo>
                  <a:lnTo>
                    <a:pt x="0" y="86"/>
                  </a:lnTo>
                  <a:lnTo>
                    <a:pt x="12" y="89"/>
                  </a:lnTo>
                  <a:lnTo>
                    <a:pt x="23" y="90"/>
                  </a:lnTo>
                  <a:lnTo>
                    <a:pt x="34" y="91"/>
                  </a:lnTo>
                  <a:lnTo>
                    <a:pt x="44" y="91"/>
                  </a:lnTo>
                  <a:lnTo>
                    <a:pt x="65" y="91"/>
                  </a:lnTo>
                  <a:lnTo>
                    <a:pt x="84" y="89"/>
                  </a:lnTo>
                  <a:lnTo>
                    <a:pt x="103" y="84"/>
                  </a:lnTo>
                  <a:lnTo>
                    <a:pt x="119" y="78"/>
                  </a:lnTo>
                  <a:lnTo>
                    <a:pt x="136" y="72"/>
                  </a:lnTo>
                  <a:lnTo>
                    <a:pt x="150" y="65"/>
                  </a:lnTo>
                  <a:lnTo>
                    <a:pt x="174" y="50"/>
                  </a:lnTo>
                  <a:lnTo>
                    <a:pt x="194" y="36"/>
                  </a:lnTo>
                  <a:lnTo>
                    <a:pt x="208" y="27"/>
                  </a:lnTo>
                  <a:lnTo>
                    <a:pt x="216" y="22"/>
                  </a:lnTo>
                  <a:lnTo>
                    <a:pt x="743" y="0"/>
                  </a:lnTo>
                  <a:lnTo>
                    <a:pt x="996" y="702"/>
                  </a:lnTo>
                  <a:lnTo>
                    <a:pt x="980" y="716"/>
                  </a:lnTo>
                  <a:lnTo>
                    <a:pt x="967" y="728"/>
                  </a:lnTo>
                  <a:lnTo>
                    <a:pt x="963" y="733"/>
                  </a:lnTo>
                  <a:lnTo>
                    <a:pt x="959" y="739"/>
                  </a:lnTo>
                  <a:lnTo>
                    <a:pt x="957" y="744"/>
                  </a:lnTo>
                  <a:lnTo>
                    <a:pt x="954" y="749"/>
                  </a:lnTo>
                  <a:lnTo>
                    <a:pt x="953" y="758"/>
                  </a:lnTo>
                  <a:lnTo>
                    <a:pt x="953" y="766"/>
                  </a:lnTo>
                  <a:lnTo>
                    <a:pt x="956" y="774"/>
                  </a:lnTo>
                  <a:lnTo>
                    <a:pt x="958" y="782"/>
                  </a:lnTo>
                  <a:lnTo>
                    <a:pt x="959" y="792"/>
                  </a:lnTo>
                  <a:lnTo>
                    <a:pt x="961" y="801"/>
                  </a:lnTo>
                  <a:lnTo>
                    <a:pt x="961" y="812"/>
                  </a:lnTo>
                  <a:lnTo>
                    <a:pt x="959" y="823"/>
                  </a:lnTo>
                  <a:lnTo>
                    <a:pt x="957" y="830"/>
                  </a:lnTo>
                  <a:lnTo>
                    <a:pt x="953" y="837"/>
                  </a:lnTo>
                  <a:lnTo>
                    <a:pt x="950" y="844"/>
                  </a:lnTo>
                  <a:lnTo>
                    <a:pt x="945" y="853"/>
                  </a:lnTo>
                  <a:lnTo>
                    <a:pt x="932" y="870"/>
                  </a:lnTo>
                  <a:lnTo>
                    <a:pt x="913" y="890"/>
                  </a:lnTo>
                  <a:lnTo>
                    <a:pt x="894" y="909"/>
                  </a:lnTo>
                  <a:lnTo>
                    <a:pt x="873" y="925"/>
                  </a:lnTo>
                  <a:lnTo>
                    <a:pt x="852" y="941"/>
                  </a:lnTo>
                  <a:lnTo>
                    <a:pt x="829" y="955"/>
                  </a:lnTo>
                  <a:lnTo>
                    <a:pt x="807" y="968"/>
                  </a:lnTo>
                  <a:lnTo>
                    <a:pt x="785" y="981"/>
                  </a:lnTo>
                  <a:lnTo>
                    <a:pt x="763" y="992"/>
                  </a:lnTo>
                  <a:lnTo>
                    <a:pt x="739" y="1002"/>
                  </a:lnTo>
                  <a:lnTo>
                    <a:pt x="716" y="1010"/>
                  </a:lnTo>
                  <a:lnTo>
                    <a:pt x="693" y="1018"/>
                  </a:lnTo>
                  <a:lnTo>
                    <a:pt x="669" y="1025"/>
                  </a:lnTo>
                  <a:lnTo>
                    <a:pt x="646" y="1032"/>
                  </a:lnTo>
                  <a:lnTo>
                    <a:pt x="599" y="1044"/>
                  </a:lnTo>
                  <a:lnTo>
                    <a:pt x="554" y="1053"/>
                  </a:lnTo>
                  <a:lnTo>
                    <a:pt x="466" y="1069"/>
                  </a:lnTo>
                  <a:lnTo>
                    <a:pt x="387" y="1085"/>
                  </a:lnTo>
                  <a:lnTo>
                    <a:pt x="369" y="1090"/>
                  </a:lnTo>
                  <a:lnTo>
                    <a:pt x="352" y="1094"/>
                  </a:lnTo>
                  <a:lnTo>
                    <a:pt x="335" y="1100"/>
                  </a:lnTo>
                  <a:lnTo>
                    <a:pt x="321" y="1106"/>
                  </a:lnTo>
                  <a:lnTo>
                    <a:pt x="306" y="1113"/>
                  </a:lnTo>
                  <a:lnTo>
                    <a:pt x="293" y="1120"/>
                  </a:lnTo>
                  <a:lnTo>
                    <a:pt x="282" y="1128"/>
                  </a:lnTo>
                  <a:lnTo>
                    <a:pt x="271" y="1138"/>
                  </a:lnTo>
                  <a:lnTo>
                    <a:pt x="250" y="1157"/>
                  </a:lnTo>
                  <a:lnTo>
                    <a:pt x="235" y="1171"/>
                  </a:lnTo>
                  <a:lnTo>
                    <a:pt x="227" y="1182"/>
                  </a:lnTo>
                  <a:lnTo>
                    <a:pt x="222" y="1189"/>
                  </a:lnTo>
                  <a:lnTo>
                    <a:pt x="217" y="1201"/>
                  </a:lnTo>
                  <a:lnTo>
                    <a:pt x="208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Freeform 175"/>
            <p:cNvSpPr/>
            <p:nvPr/>
          </p:nvSpPr>
          <p:spPr>
            <a:xfrm>
              <a:off x="7934760" y="3921480"/>
              <a:ext cx="183960" cy="1677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1219" h="1031">
                  <a:moveTo>
                    <a:pt x="253" y="930"/>
                  </a:moveTo>
                  <a:lnTo>
                    <a:pt x="0" y="228"/>
                  </a:lnTo>
                  <a:lnTo>
                    <a:pt x="410" y="190"/>
                  </a:lnTo>
                  <a:lnTo>
                    <a:pt x="524" y="204"/>
                  </a:lnTo>
                  <a:lnTo>
                    <a:pt x="568" y="199"/>
                  </a:lnTo>
                  <a:lnTo>
                    <a:pt x="609" y="190"/>
                  </a:lnTo>
                  <a:lnTo>
                    <a:pt x="648" y="182"/>
                  </a:lnTo>
                  <a:lnTo>
                    <a:pt x="687" y="173"/>
                  </a:lnTo>
                  <a:lnTo>
                    <a:pt x="723" y="164"/>
                  </a:lnTo>
                  <a:lnTo>
                    <a:pt x="759" y="152"/>
                  </a:lnTo>
                  <a:lnTo>
                    <a:pt x="794" y="140"/>
                  </a:lnTo>
                  <a:lnTo>
                    <a:pt x="827" y="129"/>
                  </a:lnTo>
                  <a:lnTo>
                    <a:pt x="860" y="115"/>
                  </a:lnTo>
                  <a:lnTo>
                    <a:pt x="890" y="100"/>
                  </a:lnTo>
                  <a:lnTo>
                    <a:pt x="919" y="85"/>
                  </a:lnTo>
                  <a:lnTo>
                    <a:pt x="948" y="70"/>
                  </a:lnTo>
                  <a:lnTo>
                    <a:pt x="975" y="54"/>
                  </a:lnTo>
                  <a:lnTo>
                    <a:pt x="1002" y="36"/>
                  </a:lnTo>
                  <a:lnTo>
                    <a:pt x="1028" y="19"/>
                  </a:lnTo>
                  <a:lnTo>
                    <a:pt x="1051" y="0"/>
                  </a:lnTo>
                  <a:lnTo>
                    <a:pt x="1066" y="29"/>
                  </a:lnTo>
                  <a:lnTo>
                    <a:pt x="1077" y="55"/>
                  </a:lnTo>
                  <a:lnTo>
                    <a:pt x="1085" y="77"/>
                  </a:lnTo>
                  <a:lnTo>
                    <a:pt x="1091" y="96"/>
                  </a:lnTo>
                  <a:lnTo>
                    <a:pt x="1094" y="112"/>
                  </a:lnTo>
                  <a:lnTo>
                    <a:pt x="1097" y="126"/>
                  </a:lnTo>
                  <a:lnTo>
                    <a:pt x="1098" y="139"/>
                  </a:lnTo>
                  <a:lnTo>
                    <a:pt x="1099" y="152"/>
                  </a:lnTo>
                  <a:lnTo>
                    <a:pt x="1101" y="164"/>
                  </a:lnTo>
                  <a:lnTo>
                    <a:pt x="1103" y="176"/>
                  </a:lnTo>
                  <a:lnTo>
                    <a:pt x="1106" y="190"/>
                  </a:lnTo>
                  <a:lnTo>
                    <a:pt x="1111" y="204"/>
                  </a:lnTo>
                  <a:lnTo>
                    <a:pt x="1119" y="222"/>
                  </a:lnTo>
                  <a:lnTo>
                    <a:pt x="1128" y="242"/>
                  </a:lnTo>
                  <a:lnTo>
                    <a:pt x="1141" y="264"/>
                  </a:lnTo>
                  <a:lnTo>
                    <a:pt x="1159" y="291"/>
                  </a:lnTo>
                  <a:lnTo>
                    <a:pt x="1160" y="296"/>
                  </a:lnTo>
                  <a:lnTo>
                    <a:pt x="1161" y="299"/>
                  </a:lnTo>
                  <a:lnTo>
                    <a:pt x="1161" y="304"/>
                  </a:lnTo>
                  <a:lnTo>
                    <a:pt x="1160" y="307"/>
                  </a:lnTo>
                  <a:lnTo>
                    <a:pt x="1156" y="318"/>
                  </a:lnTo>
                  <a:lnTo>
                    <a:pt x="1152" y="329"/>
                  </a:lnTo>
                  <a:lnTo>
                    <a:pt x="1149" y="336"/>
                  </a:lnTo>
                  <a:lnTo>
                    <a:pt x="1148" y="343"/>
                  </a:lnTo>
                  <a:lnTo>
                    <a:pt x="1147" y="353"/>
                  </a:lnTo>
                  <a:lnTo>
                    <a:pt x="1147" y="362"/>
                  </a:lnTo>
                  <a:lnTo>
                    <a:pt x="1148" y="373"/>
                  </a:lnTo>
                  <a:lnTo>
                    <a:pt x="1149" y="386"/>
                  </a:lnTo>
                  <a:lnTo>
                    <a:pt x="1153" y="400"/>
                  </a:lnTo>
                  <a:lnTo>
                    <a:pt x="1159" y="415"/>
                  </a:lnTo>
                  <a:lnTo>
                    <a:pt x="1165" y="430"/>
                  </a:lnTo>
                  <a:lnTo>
                    <a:pt x="1172" y="443"/>
                  </a:lnTo>
                  <a:lnTo>
                    <a:pt x="1179" y="454"/>
                  </a:lnTo>
                  <a:lnTo>
                    <a:pt x="1184" y="465"/>
                  </a:lnTo>
                  <a:lnTo>
                    <a:pt x="1198" y="484"/>
                  </a:lnTo>
                  <a:lnTo>
                    <a:pt x="1209" y="502"/>
                  </a:lnTo>
                  <a:lnTo>
                    <a:pt x="1214" y="512"/>
                  </a:lnTo>
                  <a:lnTo>
                    <a:pt x="1217" y="523"/>
                  </a:lnTo>
                  <a:lnTo>
                    <a:pt x="1219" y="535"/>
                  </a:lnTo>
                  <a:lnTo>
                    <a:pt x="1219" y="548"/>
                  </a:lnTo>
                  <a:lnTo>
                    <a:pt x="1219" y="563"/>
                  </a:lnTo>
                  <a:lnTo>
                    <a:pt x="1216" y="581"/>
                  </a:lnTo>
                  <a:lnTo>
                    <a:pt x="1211" y="599"/>
                  </a:lnTo>
                  <a:lnTo>
                    <a:pt x="1204" y="623"/>
                  </a:lnTo>
                  <a:lnTo>
                    <a:pt x="1189" y="674"/>
                  </a:lnTo>
                  <a:lnTo>
                    <a:pt x="1181" y="700"/>
                  </a:lnTo>
                  <a:lnTo>
                    <a:pt x="1179" y="704"/>
                  </a:lnTo>
                  <a:lnTo>
                    <a:pt x="1175" y="709"/>
                  </a:lnTo>
                  <a:lnTo>
                    <a:pt x="1172" y="713"/>
                  </a:lnTo>
                  <a:lnTo>
                    <a:pt x="1167" y="716"/>
                  </a:lnTo>
                  <a:lnTo>
                    <a:pt x="1154" y="725"/>
                  </a:lnTo>
                  <a:lnTo>
                    <a:pt x="1135" y="737"/>
                  </a:lnTo>
                  <a:lnTo>
                    <a:pt x="1139" y="763"/>
                  </a:lnTo>
                  <a:lnTo>
                    <a:pt x="1141" y="788"/>
                  </a:lnTo>
                  <a:lnTo>
                    <a:pt x="1142" y="801"/>
                  </a:lnTo>
                  <a:lnTo>
                    <a:pt x="1142" y="813"/>
                  </a:lnTo>
                  <a:lnTo>
                    <a:pt x="1141" y="825"/>
                  </a:lnTo>
                  <a:lnTo>
                    <a:pt x="1140" y="835"/>
                  </a:lnTo>
                  <a:lnTo>
                    <a:pt x="1138" y="846"/>
                  </a:lnTo>
                  <a:lnTo>
                    <a:pt x="1134" y="855"/>
                  </a:lnTo>
                  <a:lnTo>
                    <a:pt x="1130" y="864"/>
                  </a:lnTo>
                  <a:lnTo>
                    <a:pt x="1124" y="873"/>
                  </a:lnTo>
                  <a:lnTo>
                    <a:pt x="1116" y="880"/>
                  </a:lnTo>
                  <a:lnTo>
                    <a:pt x="1106" y="884"/>
                  </a:lnTo>
                  <a:lnTo>
                    <a:pt x="1094" y="889"/>
                  </a:lnTo>
                  <a:lnTo>
                    <a:pt x="1080" y="892"/>
                  </a:lnTo>
                  <a:lnTo>
                    <a:pt x="1082" y="908"/>
                  </a:lnTo>
                  <a:lnTo>
                    <a:pt x="1082" y="922"/>
                  </a:lnTo>
                  <a:lnTo>
                    <a:pt x="1080" y="933"/>
                  </a:lnTo>
                  <a:lnTo>
                    <a:pt x="1079" y="945"/>
                  </a:lnTo>
                  <a:lnTo>
                    <a:pt x="1073" y="965"/>
                  </a:lnTo>
                  <a:lnTo>
                    <a:pt x="1069" y="981"/>
                  </a:lnTo>
                  <a:lnTo>
                    <a:pt x="1064" y="995"/>
                  </a:lnTo>
                  <a:lnTo>
                    <a:pt x="1062" y="1008"/>
                  </a:lnTo>
                  <a:lnTo>
                    <a:pt x="1063" y="1014"/>
                  </a:lnTo>
                  <a:lnTo>
                    <a:pt x="1064" y="1020"/>
                  </a:lnTo>
                  <a:lnTo>
                    <a:pt x="1068" y="1026"/>
                  </a:lnTo>
                  <a:lnTo>
                    <a:pt x="1072" y="1031"/>
                  </a:lnTo>
                  <a:lnTo>
                    <a:pt x="1037" y="1023"/>
                  </a:lnTo>
                  <a:lnTo>
                    <a:pt x="1008" y="1015"/>
                  </a:lnTo>
                  <a:lnTo>
                    <a:pt x="982" y="1006"/>
                  </a:lnTo>
                  <a:lnTo>
                    <a:pt x="961" y="995"/>
                  </a:lnTo>
                  <a:lnTo>
                    <a:pt x="943" y="985"/>
                  </a:lnTo>
                  <a:lnTo>
                    <a:pt x="926" y="974"/>
                  </a:lnTo>
                  <a:lnTo>
                    <a:pt x="912" y="964"/>
                  </a:lnTo>
                  <a:lnTo>
                    <a:pt x="901" y="953"/>
                  </a:lnTo>
                  <a:lnTo>
                    <a:pt x="889" y="943"/>
                  </a:lnTo>
                  <a:lnTo>
                    <a:pt x="877" y="934"/>
                  </a:lnTo>
                  <a:lnTo>
                    <a:pt x="864" y="926"/>
                  </a:lnTo>
                  <a:lnTo>
                    <a:pt x="852" y="919"/>
                  </a:lnTo>
                  <a:lnTo>
                    <a:pt x="837" y="913"/>
                  </a:lnTo>
                  <a:lnTo>
                    <a:pt x="821" y="909"/>
                  </a:lnTo>
                  <a:lnTo>
                    <a:pt x="801" y="908"/>
                  </a:lnTo>
                  <a:lnTo>
                    <a:pt x="778" y="908"/>
                  </a:lnTo>
                  <a:lnTo>
                    <a:pt x="751" y="908"/>
                  </a:lnTo>
                  <a:lnTo>
                    <a:pt x="724" y="909"/>
                  </a:lnTo>
                  <a:lnTo>
                    <a:pt x="700" y="911"/>
                  </a:lnTo>
                  <a:lnTo>
                    <a:pt x="677" y="915"/>
                  </a:lnTo>
                  <a:lnTo>
                    <a:pt x="656" y="919"/>
                  </a:lnTo>
                  <a:lnTo>
                    <a:pt x="638" y="924"/>
                  </a:lnTo>
                  <a:lnTo>
                    <a:pt x="630" y="927"/>
                  </a:lnTo>
                  <a:lnTo>
                    <a:pt x="621" y="931"/>
                  </a:lnTo>
                  <a:lnTo>
                    <a:pt x="614" y="934"/>
                  </a:lnTo>
                  <a:lnTo>
                    <a:pt x="609" y="939"/>
                  </a:lnTo>
                  <a:lnTo>
                    <a:pt x="603" y="943"/>
                  </a:lnTo>
                  <a:lnTo>
                    <a:pt x="597" y="944"/>
                  </a:lnTo>
                  <a:lnTo>
                    <a:pt x="590" y="944"/>
                  </a:lnTo>
                  <a:lnTo>
                    <a:pt x="583" y="943"/>
                  </a:lnTo>
                  <a:lnTo>
                    <a:pt x="568" y="938"/>
                  </a:lnTo>
                  <a:lnTo>
                    <a:pt x="552" y="930"/>
                  </a:lnTo>
                  <a:lnTo>
                    <a:pt x="538" y="920"/>
                  </a:lnTo>
                  <a:lnTo>
                    <a:pt x="524" y="913"/>
                  </a:lnTo>
                  <a:lnTo>
                    <a:pt x="517" y="910"/>
                  </a:lnTo>
                  <a:lnTo>
                    <a:pt x="512" y="908"/>
                  </a:lnTo>
                  <a:lnTo>
                    <a:pt x="506" y="906"/>
                  </a:lnTo>
                  <a:lnTo>
                    <a:pt x="501" y="908"/>
                  </a:lnTo>
                  <a:lnTo>
                    <a:pt x="496" y="909"/>
                  </a:lnTo>
                  <a:lnTo>
                    <a:pt x="488" y="908"/>
                  </a:lnTo>
                  <a:lnTo>
                    <a:pt x="479" y="908"/>
                  </a:lnTo>
                  <a:lnTo>
                    <a:pt x="468" y="905"/>
                  </a:lnTo>
                  <a:lnTo>
                    <a:pt x="444" y="901"/>
                  </a:lnTo>
                  <a:lnTo>
                    <a:pt x="417" y="896"/>
                  </a:lnTo>
                  <a:lnTo>
                    <a:pt x="403" y="894"/>
                  </a:lnTo>
                  <a:lnTo>
                    <a:pt x="390" y="891"/>
                  </a:lnTo>
                  <a:lnTo>
                    <a:pt x="377" y="890"/>
                  </a:lnTo>
                  <a:lnTo>
                    <a:pt x="364" y="890"/>
                  </a:lnTo>
                  <a:lnTo>
                    <a:pt x="354" y="891"/>
                  </a:lnTo>
                  <a:lnTo>
                    <a:pt x="345" y="892"/>
                  </a:lnTo>
                  <a:lnTo>
                    <a:pt x="341" y="895"/>
                  </a:lnTo>
                  <a:lnTo>
                    <a:pt x="338" y="896"/>
                  </a:lnTo>
                  <a:lnTo>
                    <a:pt x="334" y="898"/>
                  </a:lnTo>
                  <a:lnTo>
                    <a:pt x="332" y="902"/>
                  </a:lnTo>
                  <a:lnTo>
                    <a:pt x="327" y="906"/>
                  </a:lnTo>
                  <a:lnTo>
                    <a:pt x="322" y="910"/>
                  </a:lnTo>
                  <a:lnTo>
                    <a:pt x="318" y="912"/>
                  </a:lnTo>
                  <a:lnTo>
                    <a:pt x="312" y="915"/>
                  </a:lnTo>
                  <a:lnTo>
                    <a:pt x="301" y="917"/>
                  </a:lnTo>
                  <a:lnTo>
                    <a:pt x="290" y="918"/>
                  </a:lnTo>
                  <a:lnTo>
                    <a:pt x="279" y="918"/>
                  </a:lnTo>
                  <a:lnTo>
                    <a:pt x="269" y="920"/>
                  </a:lnTo>
                  <a:lnTo>
                    <a:pt x="264" y="922"/>
                  </a:lnTo>
                  <a:lnTo>
                    <a:pt x="260" y="924"/>
                  </a:lnTo>
                  <a:lnTo>
                    <a:pt x="257" y="926"/>
                  </a:lnTo>
                  <a:lnTo>
                    <a:pt x="253" y="9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Freeform 176"/>
            <p:cNvSpPr/>
            <p:nvPr/>
          </p:nvSpPr>
          <p:spPr>
            <a:xfrm>
              <a:off x="7934760" y="3921480"/>
              <a:ext cx="183960" cy="1677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1219" h="1031">
                  <a:moveTo>
                    <a:pt x="253" y="930"/>
                  </a:moveTo>
                  <a:lnTo>
                    <a:pt x="0" y="228"/>
                  </a:lnTo>
                  <a:lnTo>
                    <a:pt x="410" y="190"/>
                  </a:lnTo>
                  <a:lnTo>
                    <a:pt x="524" y="204"/>
                  </a:lnTo>
                  <a:lnTo>
                    <a:pt x="568" y="199"/>
                  </a:lnTo>
                  <a:lnTo>
                    <a:pt x="609" y="190"/>
                  </a:lnTo>
                  <a:lnTo>
                    <a:pt x="648" y="182"/>
                  </a:lnTo>
                  <a:lnTo>
                    <a:pt x="687" y="173"/>
                  </a:lnTo>
                  <a:lnTo>
                    <a:pt x="723" y="164"/>
                  </a:lnTo>
                  <a:lnTo>
                    <a:pt x="759" y="152"/>
                  </a:lnTo>
                  <a:lnTo>
                    <a:pt x="794" y="140"/>
                  </a:lnTo>
                  <a:lnTo>
                    <a:pt x="827" y="129"/>
                  </a:lnTo>
                  <a:lnTo>
                    <a:pt x="860" y="115"/>
                  </a:lnTo>
                  <a:lnTo>
                    <a:pt x="890" y="100"/>
                  </a:lnTo>
                  <a:lnTo>
                    <a:pt x="919" y="85"/>
                  </a:lnTo>
                  <a:lnTo>
                    <a:pt x="948" y="70"/>
                  </a:lnTo>
                  <a:lnTo>
                    <a:pt x="975" y="54"/>
                  </a:lnTo>
                  <a:lnTo>
                    <a:pt x="1002" y="36"/>
                  </a:lnTo>
                  <a:lnTo>
                    <a:pt x="1028" y="19"/>
                  </a:lnTo>
                  <a:lnTo>
                    <a:pt x="1051" y="0"/>
                  </a:lnTo>
                  <a:lnTo>
                    <a:pt x="1066" y="29"/>
                  </a:lnTo>
                  <a:lnTo>
                    <a:pt x="1077" y="55"/>
                  </a:lnTo>
                  <a:lnTo>
                    <a:pt x="1085" y="77"/>
                  </a:lnTo>
                  <a:lnTo>
                    <a:pt x="1091" y="96"/>
                  </a:lnTo>
                  <a:lnTo>
                    <a:pt x="1094" y="112"/>
                  </a:lnTo>
                  <a:lnTo>
                    <a:pt x="1097" y="126"/>
                  </a:lnTo>
                  <a:lnTo>
                    <a:pt x="1098" y="139"/>
                  </a:lnTo>
                  <a:lnTo>
                    <a:pt x="1099" y="152"/>
                  </a:lnTo>
                  <a:lnTo>
                    <a:pt x="1101" y="164"/>
                  </a:lnTo>
                  <a:lnTo>
                    <a:pt x="1103" y="176"/>
                  </a:lnTo>
                  <a:lnTo>
                    <a:pt x="1106" y="190"/>
                  </a:lnTo>
                  <a:lnTo>
                    <a:pt x="1111" y="204"/>
                  </a:lnTo>
                  <a:lnTo>
                    <a:pt x="1119" y="222"/>
                  </a:lnTo>
                  <a:lnTo>
                    <a:pt x="1128" y="242"/>
                  </a:lnTo>
                  <a:lnTo>
                    <a:pt x="1141" y="264"/>
                  </a:lnTo>
                  <a:lnTo>
                    <a:pt x="1159" y="291"/>
                  </a:lnTo>
                  <a:lnTo>
                    <a:pt x="1160" y="296"/>
                  </a:lnTo>
                  <a:lnTo>
                    <a:pt x="1161" y="299"/>
                  </a:lnTo>
                  <a:lnTo>
                    <a:pt x="1161" y="304"/>
                  </a:lnTo>
                  <a:lnTo>
                    <a:pt x="1160" y="307"/>
                  </a:lnTo>
                  <a:lnTo>
                    <a:pt x="1156" y="318"/>
                  </a:lnTo>
                  <a:lnTo>
                    <a:pt x="1152" y="329"/>
                  </a:lnTo>
                  <a:lnTo>
                    <a:pt x="1149" y="336"/>
                  </a:lnTo>
                  <a:lnTo>
                    <a:pt x="1148" y="343"/>
                  </a:lnTo>
                  <a:lnTo>
                    <a:pt x="1147" y="353"/>
                  </a:lnTo>
                  <a:lnTo>
                    <a:pt x="1147" y="362"/>
                  </a:lnTo>
                  <a:lnTo>
                    <a:pt x="1148" y="373"/>
                  </a:lnTo>
                  <a:lnTo>
                    <a:pt x="1149" y="386"/>
                  </a:lnTo>
                  <a:lnTo>
                    <a:pt x="1153" y="400"/>
                  </a:lnTo>
                  <a:lnTo>
                    <a:pt x="1159" y="415"/>
                  </a:lnTo>
                  <a:lnTo>
                    <a:pt x="1165" y="430"/>
                  </a:lnTo>
                  <a:lnTo>
                    <a:pt x="1172" y="443"/>
                  </a:lnTo>
                  <a:lnTo>
                    <a:pt x="1179" y="454"/>
                  </a:lnTo>
                  <a:lnTo>
                    <a:pt x="1184" y="465"/>
                  </a:lnTo>
                  <a:lnTo>
                    <a:pt x="1198" y="484"/>
                  </a:lnTo>
                  <a:lnTo>
                    <a:pt x="1209" y="502"/>
                  </a:lnTo>
                  <a:lnTo>
                    <a:pt x="1214" y="512"/>
                  </a:lnTo>
                  <a:lnTo>
                    <a:pt x="1217" y="523"/>
                  </a:lnTo>
                  <a:lnTo>
                    <a:pt x="1219" y="535"/>
                  </a:lnTo>
                  <a:lnTo>
                    <a:pt x="1219" y="548"/>
                  </a:lnTo>
                  <a:lnTo>
                    <a:pt x="1219" y="563"/>
                  </a:lnTo>
                  <a:lnTo>
                    <a:pt x="1216" y="581"/>
                  </a:lnTo>
                  <a:lnTo>
                    <a:pt x="1211" y="599"/>
                  </a:lnTo>
                  <a:lnTo>
                    <a:pt x="1204" y="623"/>
                  </a:lnTo>
                  <a:lnTo>
                    <a:pt x="1189" y="674"/>
                  </a:lnTo>
                  <a:lnTo>
                    <a:pt x="1181" y="700"/>
                  </a:lnTo>
                  <a:lnTo>
                    <a:pt x="1179" y="704"/>
                  </a:lnTo>
                  <a:lnTo>
                    <a:pt x="1175" y="709"/>
                  </a:lnTo>
                  <a:lnTo>
                    <a:pt x="1172" y="713"/>
                  </a:lnTo>
                  <a:lnTo>
                    <a:pt x="1167" y="716"/>
                  </a:lnTo>
                  <a:lnTo>
                    <a:pt x="1154" y="725"/>
                  </a:lnTo>
                  <a:lnTo>
                    <a:pt x="1135" y="737"/>
                  </a:lnTo>
                  <a:lnTo>
                    <a:pt x="1139" y="763"/>
                  </a:lnTo>
                  <a:lnTo>
                    <a:pt x="1141" y="788"/>
                  </a:lnTo>
                  <a:lnTo>
                    <a:pt x="1142" y="801"/>
                  </a:lnTo>
                  <a:lnTo>
                    <a:pt x="1142" y="813"/>
                  </a:lnTo>
                  <a:lnTo>
                    <a:pt x="1141" y="825"/>
                  </a:lnTo>
                  <a:lnTo>
                    <a:pt x="1140" y="835"/>
                  </a:lnTo>
                  <a:lnTo>
                    <a:pt x="1138" y="846"/>
                  </a:lnTo>
                  <a:lnTo>
                    <a:pt x="1134" y="855"/>
                  </a:lnTo>
                  <a:lnTo>
                    <a:pt x="1130" y="864"/>
                  </a:lnTo>
                  <a:lnTo>
                    <a:pt x="1124" y="873"/>
                  </a:lnTo>
                  <a:lnTo>
                    <a:pt x="1116" y="880"/>
                  </a:lnTo>
                  <a:lnTo>
                    <a:pt x="1106" y="884"/>
                  </a:lnTo>
                  <a:lnTo>
                    <a:pt x="1094" y="889"/>
                  </a:lnTo>
                  <a:lnTo>
                    <a:pt x="1080" y="892"/>
                  </a:lnTo>
                  <a:lnTo>
                    <a:pt x="1082" y="908"/>
                  </a:lnTo>
                  <a:lnTo>
                    <a:pt x="1082" y="922"/>
                  </a:lnTo>
                  <a:lnTo>
                    <a:pt x="1080" y="933"/>
                  </a:lnTo>
                  <a:lnTo>
                    <a:pt x="1079" y="945"/>
                  </a:lnTo>
                  <a:lnTo>
                    <a:pt x="1073" y="965"/>
                  </a:lnTo>
                  <a:lnTo>
                    <a:pt x="1069" y="981"/>
                  </a:lnTo>
                  <a:lnTo>
                    <a:pt x="1064" y="995"/>
                  </a:lnTo>
                  <a:lnTo>
                    <a:pt x="1062" y="1008"/>
                  </a:lnTo>
                  <a:lnTo>
                    <a:pt x="1063" y="1014"/>
                  </a:lnTo>
                  <a:lnTo>
                    <a:pt x="1064" y="1020"/>
                  </a:lnTo>
                  <a:lnTo>
                    <a:pt x="1068" y="1026"/>
                  </a:lnTo>
                  <a:lnTo>
                    <a:pt x="1072" y="1031"/>
                  </a:lnTo>
                  <a:lnTo>
                    <a:pt x="1037" y="1023"/>
                  </a:lnTo>
                  <a:lnTo>
                    <a:pt x="1008" y="1015"/>
                  </a:lnTo>
                  <a:lnTo>
                    <a:pt x="982" y="1006"/>
                  </a:lnTo>
                  <a:lnTo>
                    <a:pt x="961" y="995"/>
                  </a:lnTo>
                  <a:lnTo>
                    <a:pt x="943" y="985"/>
                  </a:lnTo>
                  <a:lnTo>
                    <a:pt x="926" y="974"/>
                  </a:lnTo>
                  <a:lnTo>
                    <a:pt x="912" y="964"/>
                  </a:lnTo>
                  <a:lnTo>
                    <a:pt x="901" y="953"/>
                  </a:lnTo>
                  <a:lnTo>
                    <a:pt x="889" y="943"/>
                  </a:lnTo>
                  <a:lnTo>
                    <a:pt x="877" y="934"/>
                  </a:lnTo>
                  <a:lnTo>
                    <a:pt x="864" y="926"/>
                  </a:lnTo>
                  <a:lnTo>
                    <a:pt x="852" y="919"/>
                  </a:lnTo>
                  <a:lnTo>
                    <a:pt x="837" y="913"/>
                  </a:lnTo>
                  <a:lnTo>
                    <a:pt x="821" y="909"/>
                  </a:lnTo>
                  <a:lnTo>
                    <a:pt x="801" y="908"/>
                  </a:lnTo>
                  <a:lnTo>
                    <a:pt x="778" y="908"/>
                  </a:lnTo>
                  <a:lnTo>
                    <a:pt x="751" y="908"/>
                  </a:lnTo>
                  <a:lnTo>
                    <a:pt x="724" y="909"/>
                  </a:lnTo>
                  <a:lnTo>
                    <a:pt x="700" y="911"/>
                  </a:lnTo>
                  <a:lnTo>
                    <a:pt x="677" y="915"/>
                  </a:lnTo>
                  <a:lnTo>
                    <a:pt x="656" y="919"/>
                  </a:lnTo>
                  <a:lnTo>
                    <a:pt x="638" y="924"/>
                  </a:lnTo>
                  <a:lnTo>
                    <a:pt x="630" y="927"/>
                  </a:lnTo>
                  <a:lnTo>
                    <a:pt x="621" y="931"/>
                  </a:lnTo>
                  <a:lnTo>
                    <a:pt x="614" y="934"/>
                  </a:lnTo>
                  <a:lnTo>
                    <a:pt x="609" y="939"/>
                  </a:lnTo>
                  <a:lnTo>
                    <a:pt x="603" y="943"/>
                  </a:lnTo>
                  <a:lnTo>
                    <a:pt x="597" y="944"/>
                  </a:lnTo>
                  <a:lnTo>
                    <a:pt x="590" y="944"/>
                  </a:lnTo>
                  <a:lnTo>
                    <a:pt x="583" y="943"/>
                  </a:lnTo>
                  <a:lnTo>
                    <a:pt x="568" y="938"/>
                  </a:lnTo>
                  <a:lnTo>
                    <a:pt x="552" y="930"/>
                  </a:lnTo>
                  <a:lnTo>
                    <a:pt x="538" y="920"/>
                  </a:lnTo>
                  <a:lnTo>
                    <a:pt x="524" y="913"/>
                  </a:lnTo>
                  <a:lnTo>
                    <a:pt x="517" y="910"/>
                  </a:lnTo>
                  <a:lnTo>
                    <a:pt x="512" y="908"/>
                  </a:lnTo>
                  <a:lnTo>
                    <a:pt x="506" y="906"/>
                  </a:lnTo>
                  <a:lnTo>
                    <a:pt x="501" y="908"/>
                  </a:lnTo>
                  <a:lnTo>
                    <a:pt x="496" y="909"/>
                  </a:lnTo>
                  <a:lnTo>
                    <a:pt x="488" y="908"/>
                  </a:lnTo>
                  <a:lnTo>
                    <a:pt x="479" y="908"/>
                  </a:lnTo>
                  <a:lnTo>
                    <a:pt x="468" y="905"/>
                  </a:lnTo>
                  <a:lnTo>
                    <a:pt x="444" y="901"/>
                  </a:lnTo>
                  <a:lnTo>
                    <a:pt x="417" y="896"/>
                  </a:lnTo>
                  <a:lnTo>
                    <a:pt x="403" y="894"/>
                  </a:lnTo>
                  <a:lnTo>
                    <a:pt x="390" y="891"/>
                  </a:lnTo>
                  <a:lnTo>
                    <a:pt x="377" y="890"/>
                  </a:lnTo>
                  <a:lnTo>
                    <a:pt x="364" y="890"/>
                  </a:lnTo>
                  <a:lnTo>
                    <a:pt x="354" y="891"/>
                  </a:lnTo>
                  <a:lnTo>
                    <a:pt x="345" y="892"/>
                  </a:lnTo>
                  <a:lnTo>
                    <a:pt x="341" y="895"/>
                  </a:lnTo>
                  <a:lnTo>
                    <a:pt x="338" y="896"/>
                  </a:lnTo>
                  <a:lnTo>
                    <a:pt x="334" y="898"/>
                  </a:lnTo>
                  <a:lnTo>
                    <a:pt x="332" y="902"/>
                  </a:lnTo>
                  <a:lnTo>
                    <a:pt x="327" y="906"/>
                  </a:lnTo>
                  <a:lnTo>
                    <a:pt x="322" y="910"/>
                  </a:lnTo>
                  <a:lnTo>
                    <a:pt x="318" y="912"/>
                  </a:lnTo>
                  <a:lnTo>
                    <a:pt x="312" y="915"/>
                  </a:lnTo>
                  <a:lnTo>
                    <a:pt x="301" y="917"/>
                  </a:lnTo>
                  <a:lnTo>
                    <a:pt x="290" y="918"/>
                  </a:lnTo>
                  <a:lnTo>
                    <a:pt x="279" y="918"/>
                  </a:lnTo>
                  <a:lnTo>
                    <a:pt x="269" y="920"/>
                  </a:lnTo>
                  <a:lnTo>
                    <a:pt x="264" y="922"/>
                  </a:lnTo>
                  <a:lnTo>
                    <a:pt x="260" y="924"/>
                  </a:lnTo>
                  <a:lnTo>
                    <a:pt x="257" y="926"/>
                  </a:lnTo>
                  <a:lnTo>
                    <a:pt x="253" y="93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Freeform 177"/>
            <p:cNvSpPr/>
            <p:nvPr/>
          </p:nvSpPr>
          <p:spPr>
            <a:xfrm>
              <a:off x="8102160" y="3785760"/>
              <a:ext cx="250200" cy="13608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1661" h="830">
                  <a:moveTo>
                    <a:pt x="1301" y="775"/>
                  </a:moveTo>
                  <a:lnTo>
                    <a:pt x="1116" y="691"/>
                  </a:lnTo>
                  <a:lnTo>
                    <a:pt x="1101" y="695"/>
                  </a:lnTo>
                  <a:lnTo>
                    <a:pt x="1087" y="697"/>
                  </a:lnTo>
                  <a:lnTo>
                    <a:pt x="1074" y="697"/>
                  </a:lnTo>
                  <a:lnTo>
                    <a:pt x="1061" y="695"/>
                  </a:lnTo>
                  <a:lnTo>
                    <a:pt x="1046" y="694"/>
                  </a:lnTo>
                  <a:lnTo>
                    <a:pt x="1029" y="695"/>
                  </a:lnTo>
                  <a:lnTo>
                    <a:pt x="1006" y="699"/>
                  </a:lnTo>
                  <a:lnTo>
                    <a:pt x="978" y="706"/>
                  </a:lnTo>
                  <a:lnTo>
                    <a:pt x="953" y="711"/>
                  </a:lnTo>
                  <a:lnTo>
                    <a:pt x="912" y="718"/>
                  </a:lnTo>
                  <a:lnTo>
                    <a:pt x="857" y="726"/>
                  </a:lnTo>
                  <a:lnTo>
                    <a:pt x="790" y="735"/>
                  </a:lnTo>
                  <a:lnTo>
                    <a:pt x="714" y="744"/>
                  </a:lnTo>
                  <a:lnTo>
                    <a:pt x="634" y="755"/>
                  </a:lnTo>
                  <a:lnTo>
                    <a:pt x="547" y="765"/>
                  </a:lnTo>
                  <a:lnTo>
                    <a:pt x="461" y="776"/>
                  </a:lnTo>
                  <a:lnTo>
                    <a:pt x="374" y="787"/>
                  </a:lnTo>
                  <a:lnTo>
                    <a:pt x="292" y="796"/>
                  </a:lnTo>
                  <a:lnTo>
                    <a:pt x="216" y="805"/>
                  </a:lnTo>
                  <a:lnTo>
                    <a:pt x="147" y="813"/>
                  </a:lnTo>
                  <a:lnTo>
                    <a:pt x="89" y="820"/>
                  </a:lnTo>
                  <a:lnTo>
                    <a:pt x="46" y="825"/>
                  </a:lnTo>
                  <a:lnTo>
                    <a:pt x="18" y="829"/>
                  </a:lnTo>
                  <a:lnTo>
                    <a:pt x="8" y="830"/>
                  </a:lnTo>
                  <a:lnTo>
                    <a:pt x="0" y="763"/>
                  </a:lnTo>
                  <a:lnTo>
                    <a:pt x="18" y="743"/>
                  </a:lnTo>
                  <a:lnTo>
                    <a:pt x="38" y="725"/>
                  </a:lnTo>
                  <a:lnTo>
                    <a:pt x="57" y="704"/>
                  </a:lnTo>
                  <a:lnTo>
                    <a:pt x="74" y="683"/>
                  </a:lnTo>
                  <a:lnTo>
                    <a:pt x="74" y="498"/>
                  </a:lnTo>
                  <a:lnTo>
                    <a:pt x="141" y="498"/>
                  </a:lnTo>
                  <a:lnTo>
                    <a:pt x="202" y="496"/>
                  </a:lnTo>
                  <a:lnTo>
                    <a:pt x="231" y="494"/>
                  </a:lnTo>
                  <a:lnTo>
                    <a:pt x="258" y="492"/>
                  </a:lnTo>
                  <a:lnTo>
                    <a:pt x="283" y="490"/>
                  </a:lnTo>
                  <a:lnTo>
                    <a:pt x="309" y="486"/>
                  </a:lnTo>
                  <a:lnTo>
                    <a:pt x="332" y="483"/>
                  </a:lnTo>
                  <a:lnTo>
                    <a:pt x="355" y="478"/>
                  </a:lnTo>
                  <a:lnTo>
                    <a:pt x="376" y="473"/>
                  </a:lnTo>
                  <a:lnTo>
                    <a:pt x="395" y="469"/>
                  </a:lnTo>
                  <a:lnTo>
                    <a:pt x="414" y="462"/>
                  </a:lnTo>
                  <a:lnTo>
                    <a:pt x="432" y="455"/>
                  </a:lnTo>
                  <a:lnTo>
                    <a:pt x="448" y="447"/>
                  </a:lnTo>
                  <a:lnTo>
                    <a:pt x="463" y="438"/>
                  </a:lnTo>
                  <a:lnTo>
                    <a:pt x="477" y="429"/>
                  </a:lnTo>
                  <a:lnTo>
                    <a:pt x="490" y="419"/>
                  </a:lnTo>
                  <a:lnTo>
                    <a:pt x="502" y="407"/>
                  </a:lnTo>
                  <a:lnTo>
                    <a:pt x="512" y="395"/>
                  </a:lnTo>
                  <a:lnTo>
                    <a:pt x="522" y="382"/>
                  </a:lnTo>
                  <a:lnTo>
                    <a:pt x="530" y="367"/>
                  </a:lnTo>
                  <a:lnTo>
                    <a:pt x="537" y="352"/>
                  </a:lnTo>
                  <a:lnTo>
                    <a:pt x="543" y="336"/>
                  </a:lnTo>
                  <a:lnTo>
                    <a:pt x="547" y="318"/>
                  </a:lnTo>
                  <a:lnTo>
                    <a:pt x="551" y="299"/>
                  </a:lnTo>
                  <a:lnTo>
                    <a:pt x="554" y="278"/>
                  </a:lnTo>
                  <a:lnTo>
                    <a:pt x="556" y="257"/>
                  </a:lnTo>
                  <a:lnTo>
                    <a:pt x="557" y="235"/>
                  </a:lnTo>
                  <a:lnTo>
                    <a:pt x="556" y="211"/>
                  </a:lnTo>
                  <a:lnTo>
                    <a:pt x="554" y="185"/>
                  </a:lnTo>
                  <a:lnTo>
                    <a:pt x="552" y="158"/>
                  </a:lnTo>
                  <a:lnTo>
                    <a:pt x="690" y="17"/>
                  </a:lnTo>
                  <a:lnTo>
                    <a:pt x="699" y="17"/>
                  </a:lnTo>
                  <a:lnTo>
                    <a:pt x="723" y="17"/>
                  </a:lnTo>
                  <a:lnTo>
                    <a:pt x="759" y="17"/>
                  </a:lnTo>
                  <a:lnTo>
                    <a:pt x="806" y="16"/>
                  </a:lnTo>
                  <a:lnTo>
                    <a:pt x="859" y="13"/>
                  </a:lnTo>
                  <a:lnTo>
                    <a:pt x="920" y="10"/>
                  </a:lnTo>
                  <a:lnTo>
                    <a:pt x="983" y="6"/>
                  </a:lnTo>
                  <a:lnTo>
                    <a:pt x="1047" y="0"/>
                  </a:lnTo>
                  <a:lnTo>
                    <a:pt x="1416" y="421"/>
                  </a:lnTo>
                  <a:lnTo>
                    <a:pt x="1416" y="521"/>
                  </a:lnTo>
                  <a:lnTo>
                    <a:pt x="1471" y="545"/>
                  </a:lnTo>
                  <a:lnTo>
                    <a:pt x="1661" y="792"/>
                  </a:lnTo>
                  <a:lnTo>
                    <a:pt x="1651" y="796"/>
                  </a:lnTo>
                  <a:lnTo>
                    <a:pt x="1641" y="801"/>
                  </a:lnTo>
                  <a:lnTo>
                    <a:pt x="1627" y="805"/>
                  </a:lnTo>
                  <a:lnTo>
                    <a:pt x="1613" y="809"/>
                  </a:lnTo>
                  <a:lnTo>
                    <a:pt x="1596" y="812"/>
                  </a:lnTo>
                  <a:lnTo>
                    <a:pt x="1578" y="815"/>
                  </a:lnTo>
                  <a:lnTo>
                    <a:pt x="1558" y="817"/>
                  </a:lnTo>
                  <a:lnTo>
                    <a:pt x="1536" y="818"/>
                  </a:lnTo>
                  <a:lnTo>
                    <a:pt x="1512" y="818"/>
                  </a:lnTo>
                  <a:lnTo>
                    <a:pt x="1488" y="817"/>
                  </a:lnTo>
                  <a:lnTo>
                    <a:pt x="1461" y="815"/>
                  </a:lnTo>
                  <a:lnTo>
                    <a:pt x="1432" y="810"/>
                  </a:lnTo>
                  <a:lnTo>
                    <a:pt x="1402" y="804"/>
                  </a:lnTo>
                  <a:lnTo>
                    <a:pt x="1370" y="796"/>
                  </a:lnTo>
                  <a:lnTo>
                    <a:pt x="1336" y="787"/>
                  </a:lnTo>
                  <a:lnTo>
                    <a:pt x="1301" y="7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Freeform 178"/>
            <p:cNvSpPr/>
            <p:nvPr/>
          </p:nvSpPr>
          <p:spPr>
            <a:xfrm>
              <a:off x="8102160" y="3785760"/>
              <a:ext cx="250200" cy="13608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1661" h="830">
                  <a:moveTo>
                    <a:pt x="1301" y="775"/>
                  </a:moveTo>
                  <a:lnTo>
                    <a:pt x="1116" y="691"/>
                  </a:lnTo>
                  <a:lnTo>
                    <a:pt x="1101" y="695"/>
                  </a:lnTo>
                  <a:lnTo>
                    <a:pt x="1087" y="697"/>
                  </a:lnTo>
                  <a:lnTo>
                    <a:pt x="1074" y="697"/>
                  </a:lnTo>
                  <a:lnTo>
                    <a:pt x="1061" y="695"/>
                  </a:lnTo>
                  <a:lnTo>
                    <a:pt x="1046" y="694"/>
                  </a:lnTo>
                  <a:lnTo>
                    <a:pt x="1029" y="695"/>
                  </a:lnTo>
                  <a:lnTo>
                    <a:pt x="1006" y="699"/>
                  </a:lnTo>
                  <a:lnTo>
                    <a:pt x="978" y="706"/>
                  </a:lnTo>
                  <a:lnTo>
                    <a:pt x="953" y="711"/>
                  </a:lnTo>
                  <a:lnTo>
                    <a:pt x="912" y="718"/>
                  </a:lnTo>
                  <a:lnTo>
                    <a:pt x="857" y="726"/>
                  </a:lnTo>
                  <a:lnTo>
                    <a:pt x="790" y="735"/>
                  </a:lnTo>
                  <a:lnTo>
                    <a:pt x="714" y="744"/>
                  </a:lnTo>
                  <a:lnTo>
                    <a:pt x="634" y="755"/>
                  </a:lnTo>
                  <a:lnTo>
                    <a:pt x="547" y="765"/>
                  </a:lnTo>
                  <a:lnTo>
                    <a:pt x="461" y="776"/>
                  </a:lnTo>
                  <a:lnTo>
                    <a:pt x="374" y="787"/>
                  </a:lnTo>
                  <a:lnTo>
                    <a:pt x="292" y="796"/>
                  </a:lnTo>
                  <a:lnTo>
                    <a:pt x="216" y="805"/>
                  </a:lnTo>
                  <a:lnTo>
                    <a:pt x="147" y="813"/>
                  </a:lnTo>
                  <a:lnTo>
                    <a:pt x="89" y="820"/>
                  </a:lnTo>
                  <a:lnTo>
                    <a:pt x="46" y="825"/>
                  </a:lnTo>
                  <a:lnTo>
                    <a:pt x="18" y="829"/>
                  </a:lnTo>
                  <a:lnTo>
                    <a:pt x="8" y="830"/>
                  </a:lnTo>
                  <a:lnTo>
                    <a:pt x="0" y="763"/>
                  </a:lnTo>
                  <a:lnTo>
                    <a:pt x="18" y="743"/>
                  </a:lnTo>
                  <a:lnTo>
                    <a:pt x="38" y="725"/>
                  </a:lnTo>
                  <a:lnTo>
                    <a:pt x="57" y="704"/>
                  </a:lnTo>
                  <a:lnTo>
                    <a:pt x="74" y="683"/>
                  </a:lnTo>
                  <a:lnTo>
                    <a:pt x="74" y="498"/>
                  </a:lnTo>
                  <a:lnTo>
                    <a:pt x="141" y="498"/>
                  </a:lnTo>
                  <a:lnTo>
                    <a:pt x="202" y="496"/>
                  </a:lnTo>
                  <a:lnTo>
                    <a:pt x="231" y="494"/>
                  </a:lnTo>
                  <a:lnTo>
                    <a:pt x="258" y="492"/>
                  </a:lnTo>
                  <a:lnTo>
                    <a:pt x="283" y="490"/>
                  </a:lnTo>
                  <a:lnTo>
                    <a:pt x="309" y="486"/>
                  </a:lnTo>
                  <a:lnTo>
                    <a:pt x="332" y="483"/>
                  </a:lnTo>
                  <a:lnTo>
                    <a:pt x="355" y="478"/>
                  </a:lnTo>
                  <a:lnTo>
                    <a:pt x="376" y="473"/>
                  </a:lnTo>
                  <a:lnTo>
                    <a:pt x="395" y="469"/>
                  </a:lnTo>
                  <a:lnTo>
                    <a:pt x="414" y="462"/>
                  </a:lnTo>
                  <a:lnTo>
                    <a:pt x="432" y="455"/>
                  </a:lnTo>
                  <a:lnTo>
                    <a:pt x="448" y="447"/>
                  </a:lnTo>
                  <a:lnTo>
                    <a:pt x="463" y="438"/>
                  </a:lnTo>
                  <a:lnTo>
                    <a:pt x="477" y="429"/>
                  </a:lnTo>
                  <a:lnTo>
                    <a:pt x="490" y="419"/>
                  </a:lnTo>
                  <a:lnTo>
                    <a:pt x="502" y="407"/>
                  </a:lnTo>
                  <a:lnTo>
                    <a:pt x="512" y="395"/>
                  </a:lnTo>
                  <a:lnTo>
                    <a:pt x="522" y="382"/>
                  </a:lnTo>
                  <a:lnTo>
                    <a:pt x="530" y="367"/>
                  </a:lnTo>
                  <a:lnTo>
                    <a:pt x="537" y="352"/>
                  </a:lnTo>
                  <a:lnTo>
                    <a:pt x="543" y="336"/>
                  </a:lnTo>
                  <a:lnTo>
                    <a:pt x="547" y="318"/>
                  </a:lnTo>
                  <a:lnTo>
                    <a:pt x="551" y="299"/>
                  </a:lnTo>
                  <a:lnTo>
                    <a:pt x="554" y="278"/>
                  </a:lnTo>
                  <a:lnTo>
                    <a:pt x="556" y="257"/>
                  </a:lnTo>
                  <a:lnTo>
                    <a:pt x="557" y="235"/>
                  </a:lnTo>
                  <a:lnTo>
                    <a:pt x="556" y="211"/>
                  </a:lnTo>
                  <a:lnTo>
                    <a:pt x="554" y="185"/>
                  </a:lnTo>
                  <a:lnTo>
                    <a:pt x="552" y="158"/>
                  </a:lnTo>
                  <a:lnTo>
                    <a:pt x="690" y="17"/>
                  </a:lnTo>
                  <a:lnTo>
                    <a:pt x="699" y="17"/>
                  </a:lnTo>
                  <a:lnTo>
                    <a:pt x="723" y="17"/>
                  </a:lnTo>
                  <a:lnTo>
                    <a:pt x="759" y="17"/>
                  </a:lnTo>
                  <a:lnTo>
                    <a:pt x="806" y="16"/>
                  </a:lnTo>
                  <a:lnTo>
                    <a:pt x="859" y="13"/>
                  </a:lnTo>
                  <a:lnTo>
                    <a:pt x="920" y="10"/>
                  </a:lnTo>
                  <a:lnTo>
                    <a:pt x="983" y="6"/>
                  </a:lnTo>
                  <a:lnTo>
                    <a:pt x="1047" y="0"/>
                  </a:lnTo>
                  <a:lnTo>
                    <a:pt x="1416" y="421"/>
                  </a:lnTo>
                  <a:lnTo>
                    <a:pt x="1416" y="521"/>
                  </a:lnTo>
                  <a:lnTo>
                    <a:pt x="1471" y="545"/>
                  </a:lnTo>
                  <a:lnTo>
                    <a:pt x="1661" y="792"/>
                  </a:lnTo>
                  <a:lnTo>
                    <a:pt x="1651" y="796"/>
                  </a:lnTo>
                  <a:lnTo>
                    <a:pt x="1641" y="801"/>
                  </a:lnTo>
                  <a:lnTo>
                    <a:pt x="1627" y="805"/>
                  </a:lnTo>
                  <a:lnTo>
                    <a:pt x="1613" y="809"/>
                  </a:lnTo>
                  <a:lnTo>
                    <a:pt x="1596" y="812"/>
                  </a:lnTo>
                  <a:lnTo>
                    <a:pt x="1578" y="815"/>
                  </a:lnTo>
                  <a:lnTo>
                    <a:pt x="1558" y="817"/>
                  </a:lnTo>
                  <a:lnTo>
                    <a:pt x="1536" y="818"/>
                  </a:lnTo>
                  <a:lnTo>
                    <a:pt x="1512" y="818"/>
                  </a:lnTo>
                  <a:lnTo>
                    <a:pt x="1488" y="817"/>
                  </a:lnTo>
                  <a:lnTo>
                    <a:pt x="1461" y="815"/>
                  </a:lnTo>
                  <a:lnTo>
                    <a:pt x="1432" y="810"/>
                  </a:lnTo>
                  <a:lnTo>
                    <a:pt x="1402" y="804"/>
                  </a:lnTo>
                  <a:lnTo>
                    <a:pt x="1370" y="796"/>
                  </a:lnTo>
                  <a:lnTo>
                    <a:pt x="1336" y="787"/>
                  </a:lnTo>
                  <a:lnTo>
                    <a:pt x="1301" y="775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Freeform 179"/>
            <p:cNvSpPr/>
            <p:nvPr/>
          </p:nvSpPr>
          <p:spPr>
            <a:xfrm>
              <a:off x="8296200" y="3913200"/>
              <a:ext cx="106200" cy="1141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98" h="697">
                  <a:moveTo>
                    <a:pt x="146" y="426"/>
                  </a:moveTo>
                  <a:lnTo>
                    <a:pt x="144" y="418"/>
                  </a:lnTo>
                  <a:lnTo>
                    <a:pt x="143" y="411"/>
                  </a:lnTo>
                  <a:lnTo>
                    <a:pt x="143" y="404"/>
                  </a:lnTo>
                  <a:lnTo>
                    <a:pt x="144" y="397"/>
                  </a:lnTo>
                  <a:lnTo>
                    <a:pt x="146" y="390"/>
                  </a:lnTo>
                  <a:lnTo>
                    <a:pt x="148" y="383"/>
                  </a:lnTo>
                  <a:lnTo>
                    <a:pt x="150" y="377"/>
                  </a:lnTo>
                  <a:lnTo>
                    <a:pt x="155" y="371"/>
                  </a:lnTo>
                  <a:lnTo>
                    <a:pt x="158" y="365"/>
                  </a:lnTo>
                  <a:lnTo>
                    <a:pt x="164" y="360"/>
                  </a:lnTo>
                  <a:lnTo>
                    <a:pt x="170" y="355"/>
                  </a:lnTo>
                  <a:lnTo>
                    <a:pt x="177" y="351"/>
                  </a:lnTo>
                  <a:lnTo>
                    <a:pt x="185" y="348"/>
                  </a:lnTo>
                  <a:lnTo>
                    <a:pt x="195" y="344"/>
                  </a:lnTo>
                  <a:lnTo>
                    <a:pt x="204" y="342"/>
                  </a:lnTo>
                  <a:lnTo>
                    <a:pt x="215" y="340"/>
                  </a:lnTo>
                  <a:lnTo>
                    <a:pt x="216" y="332"/>
                  </a:lnTo>
                  <a:lnTo>
                    <a:pt x="219" y="309"/>
                  </a:lnTo>
                  <a:lnTo>
                    <a:pt x="223" y="278"/>
                  </a:lnTo>
                  <a:lnTo>
                    <a:pt x="224" y="239"/>
                  </a:lnTo>
                  <a:lnTo>
                    <a:pt x="220" y="226"/>
                  </a:lnTo>
                  <a:lnTo>
                    <a:pt x="215" y="216"/>
                  </a:lnTo>
                  <a:lnTo>
                    <a:pt x="209" y="205"/>
                  </a:lnTo>
                  <a:lnTo>
                    <a:pt x="202" y="195"/>
                  </a:lnTo>
                  <a:lnTo>
                    <a:pt x="194" y="186"/>
                  </a:lnTo>
                  <a:lnTo>
                    <a:pt x="184" y="176"/>
                  </a:lnTo>
                  <a:lnTo>
                    <a:pt x="175" y="167"/>
                  </a:lnTo>
                  <a:lnTo>
                    <a:pt x="164" y="159"/>
                  </a:lnTo>
                  <a:lnTo>
                    <a:pt x="142" y="143"/>
                  </a:lnTo>
                  <a:lnTo>
                    <a:pt x="119" y="129"/>
                  </a:lnTo>
                  <a:lnTo>
                    <a:pt x="95" y="115"/>
                  </a:lnTo>
                  <a:lnTo>
                    <a:pt x="73" y="103"/>
                  </a:lnTo>
                  <a:lnTo>
                    <a:pt x="52" y="91"/>
                  </a:lnTo>
                  <a:lnTo>
                    <a:pt x="33" y="79"/>
                  </a:lnTo>
                  <a:lnTo>
                    <a:pt x="25" y="73"/>
                  </a:lnTo>
                  <a:lnTo>
                    <a:pt x="17" y="68"/>
                  </a:lnTo>
                  <a:lnTo>
                    <a:pt x="11" y="62"/>
                  </a:lnTo>
                  <a:lnTo>
                    <a:pt x="7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8" y="15"/>
                  </a:lnTo>
                  <a:lnTo>
                    <a:pt x="14" y="8"/>
                  </a:lnTo>
                  <a:lnTo>
                    <a:pt x="22" y="0"/>
                  </a:lnTo>
                  <a:lnTo>
                    <a:pt x="57" y="12"/>
                  </a:lnTo>
                  <a:lnTo>
                    <a:pt x="91" y="21"/>
                  </a:lnTo>
                  <a:lnTo>
                    <a:pt x="123" y="29"/>
                  </a:lnTo>
                  <a:lnTo>
                    <a:pt x="153" y="35"/>
                  </a:lnTo>
                  <a:lnTo>
                    <a:pt x="182" y="40"/>
                  </a:lnTo>
                  <a:lnTo>
                    <a:pt x="209" y="42"/>
                  </a:lnTo>
                  <a:lnTo>
                    <a:pt x="233" y="43"/>
                  </a:lnTo>
                  <a:lnTo>
                    <a:pt x="257" y="43"/>
                  </a:lnTo>
                  <a:lnTo>
                    <a:pt x="279" y="42"/>
                  </a:lnTo>
                  <a:lnTo>
                    <a:pt x="299" y="40"/>
                  </a:lnTo>
                  <a:lnTo>
                    <a:pt x="317" y="37"/>
                  </a:lnTo>
                  <a:lnTo>
                    <a:pt x="334" y="34"/>
                  </a:lnTo>
                  <a:lnTo>
                    <a:pt x="348" y="30"/>
                  </a:lnTo>
                  <a:lnTo>
                    <a:pt x="362" y="26"/>
                  </a:lnTo>
                  <a:lnTo>
                    <a:pt x="372" y="21"/>
                  </a:lnTo>
                  <a:lnTo>
                    <a:pt x="382" y="17"/>
                  </a:lnTo>
                  <a:lnTo>
                    <a:pt x="586" y="233"/>
                  </a:lnTo>
                  <a:lnTo>
                    <a:pt x="586" y="371"/>
                  </a:lnTo>
                  <a:lnTo>
                    <a:pt x="565" y="368"/>
                  </a:lnTo>
                  <a:lnTo>
                    <a:pt x="544" y="364"/>
                  </a:lnTo>
                  <a:lnTo>
                    <a:pt x="524" y="362"/>
                  </a:lnTo>
                  <a:lnTo>
                    <a:pt x="504" y="361"/>
                  </a:lnTo>
                  <a:lnTo>
                    <a:pt x="487" y="361"/>
                  </a:lnTo>
                  <a:lnTo>
                    <a:pt x="468" y="361"/>
                  </a:lnTo>
                  <a:lnTo>
                    <a:pt x="452" y="361"/>
                  </a:lnTo>
                  <a:lnTo>
                    <a:pt x="436" y="363"/>
                  </a:lnTo>
                  <a:lnTo>
                    <a:pt x="421" y="364"/>
                  </a:lnTo>
                  <a:lnTo>
                    <a:pt x="408" y="368"/>
                  </a:lnTo>
                  <a:lnTo>
                    <a:pt x="397" y="370"/>
                  </a:lnTo>
                  <a:lnTo>
                    <a:pt x="386" y="375"/>
                  </a:lnTo>
                  <a:lnTo>
                    <a:pt x="377" y="378"/>
                  </a:lnTo>
                  <a:lnTo>
                    <a:pt x="369" y="383"/>
                  </a:lnTo>
                  <a:lnTo>
                    <a:pt x="363" y="389"/>
                  </a:lnTo>
                  <a:lnTo>
                    <a:pt x="359" y="393"/>
                  </a:lnTo>
                  <a:lnTo>
                    <a:pt x="357" y="400"/>
                  </a:lnTo>
                  <a:lnTo>
                    <a:pt x="357" y="406"/>
                  </a:lnTo>
                  <a:lnTo>
                    <a:pt x="358" y="412"/>
                  </a:lnTo>
                  <a:lnTo>
                    <a:pt x="362" y="419"/>
                  </a:lnTo>
                  <a:lnTo>
                    <a:pt x="368" y="426"/>
                  </a:lnTo>
                  <a:lnTo>
                    <a:pt x="376" y="434"/>
                  </a:lnTo>
                  <a:lnTo>
                    <a:pt x="386" y="441"/>
                  </a:lnTo>
                  <a:lnTo>
                    <a:pt x="400" y="448"/>
                  </a:lnTo>
                  <a:lnTo>
                    <a:pt x="415" y="457"/>
                  </a:lnTo>
                  <a:lnTo>
                    <a:pt x="433" y="464"/>
                  </a:lnTo>
                  <a:lnTo>
                    <a:pt x="454" y="472"/>
                  </a:lnTo>
                  <a:lnTo>
                    <a:pt x="477" y="480"/>
                  </a:lnTo>
                  <a:lnTo>
                    <a:pt x="504" y="487"/>
                  </a:lnTo>
                  <a:lnTo>
                    <a:pt x="533" y="495"/>
                  </a:lnTo>
                  <a:lnTo>
                    <a:pt x="565" y="502"/>
                  </a:lnTo>
                  <a:lnTo>
                    <a:pt x="601" y="509"/>
                  </a:lnTo>
                  <a:lnTo>
                    <a:pt x="615" y="513"/>
                  </a:lnTo>
                  <a:lnTo>
                    <a:pt x="627" y="516"/>
                  </a:lnTo>
                  <a:lnTo>
                    <a:pt x="639" y="520"/>
                  </a:lnTo>
                  <a:lnTo>
                    <a:pt x="649" y="524"/>
                  </a:lnTo>
                  <a:lnTo>
                    <a:pt x="658" y="528"/>
                  </a:lnTo>
                  <a:lnTo>
                    <a:pt x="665" y="532"/>
                  </a:lnTo>
                  <a:lnTo>
                    <a:pt x="672" y="537"/>
                  </a:lnTo>
                  <a:lnTo>
                    <a:pt x="678" y="542"/>
                  </a:lnTo>
                  <a:lnTo>
                    <a:pt x="684" y="548"/>
                  </a:lnTo>
                  <a:lnTo>
                    <a:pt x="688" y="552"/>
                  </a:lnTo>
                  <a:lnTo>
                    <a:pt x="691" y="557"/>
                  </a:lnTo>
                  <a:lnTo>
                    <a:pt x="693" y="563"/>
                  </a:lnTo>
                  <a:lnTo>
                    <a:pt x="697" y="573"/>
                  </a:lnTo>
                  <a:lnTo>
                    <a:pt x="698" y="584"/>
                  </a:lnTo>
                  <a:lnTo>
                    <a:pt x="697" y="593"/>
                  </a:lnTo>
                  <a:lnTo>
                    <a:pt x="695" y="603"/>
                  </a:lnTo>
                  <a:lnTo>
                    <a:pt x="692" y="611"/>
                  </a:lnTo>
                  <a:lnTo>
                    <a:pt x="689" y="619"/>
                  </a:lnTo>
                  <a:lnTo>
                    <a:pt x="682" y="629"/>
                  </a:lnTo>
                  <a:lnTo>
                    <a:pt x="678" y="633"/>
                  </a:lnTo>
                  <a:lnTo>
                    <a:pt x="462" y="697"/>
                  </a:lnTo>
                  <a:lnTo>
                    <a:pt x="146" y="4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Freeform 180"/>
            <p:cNvSpPr/>
            <p:nvPr/>
          </p:nvSpPr>
          <p:spPr>
            <a:xfrm>
              <a:off x="8296200" y="3913200"/>
              <a:ext cx="106200" cy="1141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98" h="697">
                  <a:moveTo>
                    <a:pt x="146" y="426"/>
                  </a:moveTo>
                  <a:lnTo>
                    <a:pt x="144" y="418"/>
                  </a:lnTo>
                  <a:lnTo>
                    <a:pt x="143" y="411"/>
                  </a:lnTo>
                  <a:lnTo>
                    <a:pt x="143" y="404"/>
                  </a:lnTo>
                  <a:lnTo>
                    <a:pt x="144" y="397"/>
                  </a:lnTo>
                  <a:lnTo>
                    <a:pt x="146" y="390"/>
                  </a:lnTo>
                  <a:lnTo>
                    <a:pt x="148" y="383"/>
                  </a:lnTo>
                  <a:lnTo>
                    <a:pt x="150" y="377"/>
                  </a:lnTo>
                  <a:lnTo>
                    <a:pt x="155" y="371"/>
                  </a:lnTo>
                  <a:lnTo>
                    <a:pt x="158" y="365"/>
                  </a:lnTo>
                  <a:lnTo>
                    <a:pt x="164" y="360"/>
                  </a:lnTo>
                  <a:lnTo>
                    <a:pt x="170" y="355"/>
                  </a:lnTo>
                  <a:lnTo>
                    <a:pt x="177" y="351"/>
                  </a:lnTo>
                  <a:lnTo>
                    <a:pt x="185" y="348"/>
                  </a:lnTo>
                  <a:lnTo>
                    <a:pt x="195" y="344"/>
                  </a:lnTo>
                  <a:lnTo>
                    <a:pt x="204" y="342"/>
                  </a:lnTo>
                  <a:lnTo>
                    <a:pt x="215" y="340"/>
                  </a:lnTo>
                  <a:lnTo>
                    <a:pt x="216" y="332"/>
                  </a:lnTo>
                  <a:lnTo>
                    <a:pt x="219" y="309"/>
                  </a:lnTo>
                  <a:lnTo>
                    <a:pt x="223" y="278"/>
                  </a:lnTo>
                  <a:lnTo>
                    <a:pt x="224" y="239"/>
                  </a:lnTo>
                  <a:lnTo>
                    <a:pt x="220" y="226"/>
                  </a:lnTo>
                  <a:lnTo>
                    <a:pt x="215" y="216"/>
                  </a:lnTo>
                  <a:lnTo>
                    <a:pt x="209" y="205"/>
                  </a:lnTo>
                  <a:lnTo>
                    <a:pt x="202" y="195"/>
                  </a:lnTo>
                  <a:lnTo>
                    <a:pt x="194" y="186"/>
                  </a:lnTo>
                  <a:lnTo>
                    <a:pt x="184" y="176"/>
                  </a:lnTo>
                  <a:lnTo>
                    <a:pt x="175" y="167"/>
                  </a:lnTo>
                  <a:lnTo>
                    <a:pt x="164" y="159"/>
                  </a:lnTo>
                  <a:lnTo>
                    <a:pt x="142" y="143"/>
                  </a:lnTo>
                  <a:lnTo>
                    <a:pt x="119" y="129"/>
                  </a:lnTo>
                  <a:lnTo>
                    <a:pt x="95" y="115"/>
                  </a:lnTo>
                  <a:lnTo>
                    <a:pt x="73" y="103"/>
                  </a:lnTo>
                  <a:lnTo>
                    <a:pt x="52" y="91"/>
                  </a:lnTo>
                  <a:lnTo>
                    <a:pt x="33" y="79"/>
                  </a:lnTo>
                  <a:lnTo>
                    <a:pt x="25" y="73"/>
                  </a:lnTo>
                  <a:lnTo>
                    <a:pt x="17" y="68"/>
                  </a:lnTo>
                  <a:lnTo>
                    <a:pt x="11" y="62"/>
                  </a:lnTo>
                  <a:lnTo>
                    <a:pt x="7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8" y="15"/>
                  </a:lnTo>
                  <a:lnTo>
                    <a:pt x="14" y="8"/>
                  </a:lnTo>
                  <a:lnTo>
                    <a:pt x="22" y="0"/>
                  </a:lnTo>
                  <a:lnTo>
                    <a:pt x="57" y="12"/>
                  </a:lnTo>
                  <a:lnTo>
                    <a:pt x="91" y="21"/>
                  </a:lnTo>
                  <a:lnTo>
                    <a:pt x="123" y="29"/>
                  </a:lnTo>
                  <a:lnTo>
                    <a:pt x="153" y="35"/>
                  </a:lnTo>
                  <a:lnTo>
                    <a:pt x="182" y="40"/>
                  </a:lnTo>
                  <a:lnTo>
                    <a:pt x="209" y="42"/>
                  </a:lnTo>
                  <a:lnTo>
                    <a:pt x="233" y="43"/>
                  </a:lnTo>
                  <a:lnTo>
                    <a:pt x="257" y="43"/>
                  </a:lnTo>
                  <a:lnTo>
                    <a:pt x="279" y="42"/>
                  </a:lnTo>
                  <a:lnTo>
                    <a:pt x="299" y="40"/>
                  </a:lnTo>
                  <a:lnTo>
                    <a:pt x="317" y="37"/>
                  </a:lnTo>
                  <a:lnTo>
                    <a:pt x="334" y="34"/>
                  </a:lnTo>
                  <a:lnTo>
                    <a:pt x="348" y="30"/>
                  </a:lnTo>
                  <a:lnTo>
                    <a:pt x="362" y="26"/>
                  </a:lnTo>
                  <a:lnTo>
                    <a:pt x="372" y="21"/>
                  </a:lnTo>
                  <a:lnTo>
                    <a:pt x="382" y="17"/>
                  </a:lnTo>
                  <a:lnTo>
                    <a:pt x="586" y="233"/>
                  </a:lnTo>
                  <a:lnTo>
                    <a:pt x="586" y="371"/>
                  </a:lnTo>
                  <a:lnTo>
                    <a:pt x="565" y="368"/>
                  </a:lnTo>
                  <a:lnTo>
                    <a:pt x="544" y="364"/>
                  </a:lnTo>
                  <a:lnTo>
                    <a:pt x="524" y="362"/>
                  </a:lnTo>
                  <a:lnTo>
                    <a:pt x="504" y="361"/>
                  </a:lnTo>
                  <a:lnTo>
                    <a:pt x="487" y="361"/>
                  </a:lnTo>
                  <a:lnTo>
                    <a:pt x="468" y="361"/>
                  </a:lnTo>
                  <a:lnTo>
                    <a:pt x="452" y="361"/>
                  </a:lnTo>
                  <a:lnTo>
                    <a:pt x="436" y="363"/>
                  </a:lnTo>
                  <a:lnTo>
                    <a:pt x="421" y="364"/>
                  </a:lnTo>
                  <a:lnTo>
                    <a:pt x="408" y="368"/>
                  </a:lnTo>
                  <a:lnTo>
                    <a:pt x="397" y="370"/>
                  </a:lnTo>
                  <a:lnTo>
                    <a:pt x="386" y="375"/>
                  </a:lnTo>
                  <a:lnTo>
                    <a:pt x="377" y="378"/>
                  </a:lnTo>
                  <a:lnTo>
                    <a:pt x="369" y="383"/>
                  </a:lnTo>
                  <a:lnTo>
                    <a:pt x="363" y="389"/>
                  </a:lnTo>
                  <a:lnTo>
                    <a:pt x="359" y="393"/>
                  </a:lnTo>
                  <a:lnTo>
                    <a:pt x="357" y="400"/>
                  </a:lnTo>
                  <a:lnTo>
                    <a:pt x="357" y="406"/>
                  </a:lnTo>
                  <a:lnTo>
                    <a:pt x="358" y="412"/>
                  </a:lnTo>
                  <a:lnTo>
                    <a:pt x="362" y="419"/>
                  </a:lnTo>
                  <a:lnTo>
                    <a:pt x="368" y="426"/>
                  </a:lnTo>
                  <a:lnTo>
                    <a:pt x="376" y="434"/>
                  </a:lnTo>
                  <a:lnTo>
                    <a:pt x="386" y="441"/>
                  </a:lnTo>
                  <a:lnTo>
                    <a:pt x="400" y="448"/>
                  </a:lnTo>
                  <a:lnTo>
                    <a:pt x="415" y="457"/>
                  </a:lnTo>
                  <a:lnTo>
                    <a:pt x="433" y="464"/>
                  </a:lnTo>
                  <a:lnTo>
                    <a:pt x="454" y="472"/>
                  </a:lnTo>
                  <a:lnTo>
                    <a:pt x="477" y="480"/>
                  </a:lnTo>
                  <a:lnTo>
                    <a:pt x="504" y="487"/>
                  </a:lnTo>
                  <a:lnTo>
                    <a:pt x="533" y="495"/>
                  </a:lnTo>
                  <a:lnTo>
                    <a:pt x="565" y="502"/>
                  </a:lnTo>
                  <a:lnTo>
                    <a:pt x="601" y="509"/>
                  </a:lnTo>
                  <a:lnTo>
                    <a:pt x="615" y="513"/>
                  </a:lnTo>
                  <a:lnTo>
                    <a:pt x="627" y="516"/>
                  </a:lnTo>
                  <a:lnTo>
                    <a:pt x="639" y="520"/>
                  </a:lnTo>
                  <a:lnTo>
                    <a:pt x="649" y="524"/>
                  </a:lnTo>
                  <a:lnTo>
                    <a:pt x="658" y="528"/>
                  </a:lnTo>
                  <a:lnTo>
                    <a:pt x="665" y="532"/>
                  </a:lnTo>
                  <a:lnTo>
                    <a:pt x="672" y="537"/>
                  </a:lnTo>
                  <a:lnTo>
                    <a:pt x="678" y="542"/>
                  </a:lnTo>
                  <a:lnTo>
                    <a:pt x="684" y="548"/>
                  </a:lnTo>
                  <a:lnTo>
                    <a:pt x="688" y="552"/>
                  </a:lnTo>
                  <a:lnTo>
                    <a:pt x="691" y="557"/>
                  </a:lnTo>
                  <a:lnTo>
                    <a:pt x="693" y="563"/>
                  </a:lnTo>
                  <a:lnTo>
                    <a:pt x="697" y="573"/>
                  </a:lnTo>
                  <a:lnTo>
                    <a:pt x="698" y="584"/>
                  </a:lnTo>
                  <a:lnTo>
                    <a:pt x="697" y="593"/>
                  </a:lnTo>
                  <a:lnTo>
                    <a:pt x="695" y="603"/>
                  </a:lnTo>
                  <a:lnTo>
                    <a:pt x="692" y="611"/>
                  </a:lnTo>
                  <a:lnTo>
                    <a:pt x="689" y="619"/>
                  </a:lnTo>
                  <a:lnTo>
                    <a:pt x="682" y="629"/>
                  </a:lnTo>
                  <a:lnTo>
                    <a:pt x="678" y="633"/>
                  </a:lnTo>
                  <a:lnTo>
                    <a:pt x="462" y="697"/>
                  </a:lnTo>
                  <a:lnTo>
                    <a:pt x="146" y="42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Freeform 181"/>
            <p:cNvSpPr/>
            <p:nvPr/>
          </p:nvSpPr>
          <p:spPr>
            <a:xfrm>
              <a:off x="8316720" y="3822480"/>
              <a:ext cx="149040" cy="583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83" h="354">
                  <a:moveTo>
                    <a:pt x="55" y="323"/>
                  </a:moveTo>
                  <a:lnTo>
                    <a:pt x="596" y="268"/>
                  </a:lnTo>
                  <a:lnTo>
                    <a:pt x="609" y="271"/>
                  </a:lnTo>
                  <a:lnTo>
                    <a:pt x="644" y="281"/>
                  </a:lnTo>
                  <a:lnTo>
                    <a:pt x="666" y="285"/>
                  </a:lnTo>
                  <a:lnTo>
                    <a:pt x="691" y="291"/>
                  </a:lnTo>
                  <a:lnTo>
                    <a:pt x="718" y="296"/>
                  </a:lnTo>
                  <a:lnTo>
                    <a:pt x="743" y="299"/>
                  </a:lnTo>
                  <a:lnTo>
                    <a:pt x="752" y="301"/>
                  </a:lnTo>
                  <a:lnTo>
                    <a:pt x="761" y="303"/>
                  </a:lnTo>
                  <a:lnTo>
                    <a:pt x="769" y="306"/>
                  </a:lnTo>
                  <a:lnTo>
                    <a:pt x="777" y="310"/>
                  </a:lnTo>
                  <a:lnTo>
                    <a:pt x="792" y="319"/>
                  </a:lnTo>
                  <a:lnTo>
                    <a:pt x="806" y="329"/>
                  </a:lnTo>
                  <a:lnTo>
                    <a:pt x="827" y="346"/>
                  </a:lnTo>
                  <a:lnTo>
                    <a:pt x="836" y="354"/>
                  </a:lnTo>
                  <a:lnTo>
                    <a:pt x="857" y="347"/>
                  </a:lnTo>
                  <a:lnTo>
                    <a:pt x="881" y="340"/>
                  </a:lnTo>
                  <a:lnTo>
                    <a:pt x="909" y="333"/>
                  </a:lnTo>
                  <a:lnTo>
                    <a:pt x="936" y="325"/>
                  </a:lnTo>
                  <a:lnTo>
                    <a:pt x="948" y="320"/>
                  </a:lnTo>
                  <a:lnTo>
                    <a:pt x="959" y="316"/>
                  </a:lnTo>
                  <a:lnTo>
                    <a:pt x="969" y="310"/>
                  </a:lnTo>
                  <a:lnTo>
                    <a:pt x="976" y="304"/>
                  </a:lnTo>
                  <a:lnTo>
                    <a:pt x="978" y="302"/>
                  </a:lnTo>
                  <a:lnTo>
                    <a:pt x="980" y="298"/>
                  </a:lnTo>
                  <a:lnTo>
                    <a:pt x="982" y="295"/>
                  </a:lnTo>
                  <a:lnTo>
                    <a:pt x="983" y="291"/>
                  </a:lnTo>
                  <a:lnTo>
                    <a:pt x="982" y="288"/>
                  </a:lnTo>
                  <a:lnTo>
                    <a:pt x="982" y="284"/>
                  </a:lnTo>
                  <a:lnTo>
                    <a:pt x="979" y="281"/>
                  </a:lnTo>
                  <a:lnTo>
                    <a:pt x="977" y="276"/>
                  </a:lnTo>
                  <a:lnTo>
                    <a:pt x="970" y="265"/>
                  </a:lnTo>
                  <a:lnTo>
                    <a:pt x="965" y="255"/>
                  </a:lnTo>
                  <a:lnTo>
                    <a:pt x="962" y="244"/>
                  </a:lnTo>
                  <a:lnTo>
                    <a:pt x="961" y="234"/>
                  </a:lnTo>
                  <a:lnTo>
                    <a:pt x="962" y="213"/>
                  </a:lnTo>
                  <a:lnTo>
                    <a:pt x="965" y="194"/>
                  </a:lnTo>
                  <a:lnTo>
                    <a:pt x="966" y="185"/>
                  </a:lnTo>
                  <a:lnTo>
                    <a:pt x="968" y="177"/>
                  </a:lnTo>
                  <a:lnTo>
                    <a:pt x="968" y="170"/>
                  </a:lnTo>
                  <a:lnTo>
                    <a:pt x="966" y="164"/>
                  </a:lnTo>
                  <a:lnTo>
                    <a:pt x="964" y="159"/>
                  </a:lnTo>
                  <a:lnTo>
                    <a:pt x="961" y="156"/>
                  </a:lnTo>
                  <a:lnTo>
                    <a:pt x="954" y="153"/>
                  </a:lnTo>
                  <a:lnTo>
                    <a:pt x="945" y="152"/>
                  </a:lnTo>
                  <a:lnTo>
                    <a:pt x="933" y="153"/>
                  </a:lnTo>
                  <a:lnTo>
                    <a:pt x="922" y="155"/>
                  </a:lnTo>
                  <a:lnTo>
                    <a:pt x="910" y="157"/>
                  </a:lnTo>
                  <a:lnTo>
                    <a:pt x="900" y="159"/>
                  </a:lnTo>
                  <a:lnTo>
                    <a:pt x="878" y="167"/>
                  </a:lnTo>
                  <a:lnTo>
                    <a:pt x="854" y="176"/>
                  </a:lnTo>
                  <a:lnTo>
                    <a:pt x="831" y="184"/>
                  </a:lnTo>
                  <a:lnTo>
                    <a:pt x="805" y="192"/>
                  </a:lnTo>
                  <a:lnTo>
                    <a:pt x="790" y="194"/>
                  </a:lnTo>
                  <a:lnTo>
                    <a:pt x="776" y="197"/>
                  </a:lnTo>
                  <a:lnTo>
                    <a:pt x="760" y="198"/>
                  </a:lnTo>
                  <a:lnTo>
                    <a:pt x="743" y="199"/>
                  </a:lnTo>
                  <a:lnTo>
                    <a:pt x="727" y="198"/>
                  </a:lnTo>
                  <a:lnTo>
                    <a:pt x="713" y="194"/>
                  </a:lnTo>
                  <a:lnTo>
                    <a:pt x="701" y="190"/>
                  </a:lnTo>
                  <a:lnTo>
                    <a:pt x="691" y="185"/>
                  </a:lnTo>
                  <a:lnTo>
                    <a:pt x="672" y="170"/>
                  </a:lnTo>
                  <a:lnTo>
                    <a:pt x="655" y="155"/>
                  </a:lnTo>
                  <a:lnTo>
                    <a:pt x="645" y="146"/>
                  </a:lnTo>
                  <a:lnTo>
                    <a:pt x="636" y="139"/>
                  </a:lnTo>
                  <a:lnTo>
                    <a:pt x="624" y="132"/>
                  </a:lnTo>
                  <a:lnTo>
                    <a:pt x="613" y="126"/>
                  </a:lnTo>
                  <a:lnTo>
                    <a:pt x="599" y="123"/>
                  </a:lnTo>
                  <a:lnTo>
                    <a:pt x="582" y="119"/>
                  </a:lnTo>
                  <a:lnTo>
                    <a:pt x="563" y="119"/>
                  </a:lnTo>
                  <a:lnTo>
                    <a:pt x="541" y="121"/>
                  </a:lnTo>
                  <a:lnTo>
                    <a:pt x="548" y="110"/>
                  </a:lnTo>
                  <a:lnTo>
                    <a:pt x="554" y="100"/>
                  </a:lnTo>
                  <a:lnTo>
                    <a:pt x="558" y="89"/>
                  </a:lnTo>
                  <a:lnTo>
                    <a:pt x="560" y="80"/>
                  </a:lnTo>
                  <a:lnTo>
                    <a:pt x="561" y="72"/>
                  </a:lnTo>
                  <a:lnTo>
                    <a:pt x="561" y="62"/>
                  </a:lnTo>
                  <a:lnTo>
                    <a:pt x="558" y="55"/>
                  </a:lnTo>
                  <a:lnTo>
                    <a:pt x="554" y="47"/>
                  </a:lnTo>
                  <a:lnTo>
                    <a:pt x="548" y="40"/>
                  </a:lnTo>
                  <a:lnTo>
                    <a:pt x="540" y="33"/>
                  </a:lnTo>
                  <a:lnTo>
                    <a:pt x="530" y="27"/>
                  </a:lnTo>
                  <a:lnTo>
                    <a:pt x="518" y="21"/>
                  </a:lnTo>
                  <a:lnTo>
                    <a:pt x="504" y="16"/>
                  </a:lnTo>
                  <a:lnTo>
                    <a:pt x="489" y="10"/>
                  </a:lnTo>
                  <a:lnTo>
                    <a:pt x="470" y="5"/>
                  </a:lnTo>
                  <a:lnTo>
                    <a:pt x="449" y="0"/>
                  </a:lnTo>
                  <a:lnTo>
                    <a:pt x="109" y="158"/>
                  </a:lnTo>
                  <a:lnTo>
                    <a:pt x="0" y="199"/>
                  </a:lnTo>
                  <a:lnTo>
                    <a:pt x="0" y="299"/>
                  </a:lnTo>
                  <a:lnTo>
                    <a:pt x="55" y="3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Freeform 182"/>
            <p:cNvSpPr/>
            <p:nvPr/>
          </p:nvSpPr>
          <p:spPr>
            <a:xfrm>
              <a:off x="8316720" y="3822480"/>
              <a:ext cx="149040" cy="583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83" h="354">
                  <a:moveTo>
                    <a:pt x="55" y="323"/>
                  </a:moveTo>
                  <a:lnTo>
                    <a:pt x="596" y="268"/>
                  </a:lnTo>
                  <a:lnTo>
                    <a:pt x="609" y="271"/>
                  </a:lnTo>
                  <a:lnTo>
                    <a:pt x="644" y="281"/>
                  </a:lnTo>
                  <a:lnTo>
                    <a:pt x="666" y="285"/>
                  </a:lnTo>
                  <a:lnTo>
                    <a:pt x="691" y="291"/>
                  </a:lnTo>
                  <a:lnTo>
                    <a:pt x="718" y="296"/>
                  </a:lnTo>
                  <a:lnTo>
                    <a:pt x="743" y="299"/>
                  </a:lnTo>
                  <a:lnTo>
                    <a:pt x="752" y="301"/>
                  </a:lnTo>
                  <a:lnTo>
                    <a:pt x="761" y="303"/>
                  </a:lnTo>
                  <a:lnTo>
                    <a:pt x="769" y="306"/>
                  </a:lnTo>
                  <a:lnTo>
                    <a:pt x="777" y="310"/>
                  </a:lnTo>
                  <a:lnTo>
                    <a:pt x="792" y="319"/>
                  </a:lnTo>
                  <a:lnTo>
                    <a:pt x="806" y="329"/>
                  </a:lnTo>
                  <a:lnTo>
                    <a:pt x="827" y="346"/>
                  </a:lnTo>
                  <a:lnTo>
                    <a:pt x="836" y="354"/>
                  </a:lnTo>
                  <a:lnTo>
                    <a:pt x="857" y="347"/>
                  </a:lnTo>
                  <a:lnTo>
                    <a:pt x="881" y="340"/>
                  </a:lnTo>
                  <a:lnTo>
                    <a:pt x="909" y="333"/>
                  </a:lnTo>
                  <a:lnTo>
                    <a:pt x="936" y="325"/>
                  </a:lnTo>
                  <a:lnTo>
                    <a:pt x="948" y="320"/>
                  </a:lnTo>
                  <a:lnTo>
                    <a:pt x="959" y="316"/>
                  </a:lnTo>
                  <a:lnTo>
                    <a:pt x="969" y="310"/>
                  </a:lnTo>
                  <a:lnTo>
                    <a:pt x="976" y="304"/>
                  </a:lnTo>
                  <a:lnTo>
                    <a:pt x="978" y="302"/>
                  </a:lnTo>
                  <a:lnTo>
                    <a:pt x="980" y="298"/>
                  </a:lnTo>
                  <a:lnTo>
                    <a:pt x="982" y="295"/>
                  </a:lnTo>
                  <a:lnTo>
                    <a:pt x="983" y="291"/>
                  </a:lnTo>
                  <a:lnTo>
                    <a:pt x="982" y="288"/>
                  </a:lnTo>
                  <a:lnTo>
                    <a:pt x="982" y="284"/>
                  </a:lnTo>
                  <a:lnTo>
                    <a:pt x="979" y="281"/>
                  </a:lnTo>
                  <a:lnTo>
                    <a:pt x="977" y="276"/>
                  </a:lnTo>
                  <a:lnTo>
                    <a:pt x="970" y="265"/>
                  </a:lnTo>
                  <a:lnTo>
                    <a:pt x="965" y="255"/>
                  </a:lnTo>
                  <a:lnTo>
                    <a:pt x="962" y="244"/>
                  </a:lnTo>
                  <a:lnTo>
                    <a:pt x="961" y="234"/>
                  </a:lnTo>
                  <a:lnTo>
                    <a:pt x="962" y="213"/>
                  </a:lnTo>
                  <a:lnTo>
                    <a:pt x="965" y="194"/>
                  </a:lnTo>
                  <a:lnTo>
                    <a:pt x="966" y="185"/>
                  </a:lnTo>
                  <a:lnTo>
                    <a:pt x="968" y="177"/>
                  </a:lnTo>
                  <a:lnTo>
                    <a:pt x="968" y="170"/>
                  </a:lnTo>
                  <a:lnTo>
                    <a:pt x="966" y="164"/>
                  </a:lnTo>
                  <a:lnTo>
                    <a:pt x="964" y="159"/>
                  </a:lnTo>
                  <a:lnTo>
                    <a:pt x="961" y="156"/>
                  </a:lnTo>
                  <a:lnTo>
                    <a:pt x="954" y="153"/>
                  </a:lnTo>
                  <a:lnTo>
                    <a:pt x="945" y="152"/>
                  </a:lnTo>
                  <a:lnTo>
                    <a:pt x="933" y="153"/>
                  </a:lnTo>
                  <a:lnTo>
                    <a:pt x="922" y="155"/>
                  </a:lnTo>
                  <a:lnTo>
                    <a:pt x="910" y="157"/>
                  </a:lnTo>
                  <a:lnTo>
                    <a:pt x="900" y="159"/>
                  </a:lnTo>
                  <a:lnTo>
                    <a:pt x="878" y="167"/>
                  </a:lnTo>
                  <a:lnTo>
                    <a:pt x="854" y="176"/>
                  </a:lnTo>
                  <a:lnTo>
                    <a:pt x="831" y="184"/>
                  </a:lnTo>
                  <a:lnTo>
                    <a:pt x="805" y="192"/>
                  </a:lnTo>
                  <a:lnTo>
                    <a:pt x="790" y="194"/>
                  </a:lnTo>
                  <a:lnTo>
                    <a:pt x="776" y="197"/>
                  </a:lnTo>
                  <a:lnTo>
                    <a:pt x="760" y="198"/>
                  </a:lnTo>
                  <a:lnTo>
                    <a:pt x="743" y="199"/>
                  </a:lnTo>
                  <a:lnTo>
                    <a:pt x="727" y="198"/>
                  </a:lnTo>
                  <a:lnTo>
                    <a:pt x="713" y="194"/>
                  </a:lnTo>
                  <a:lnTo>
                    <a:pt x="701" y="190"/>
                  </a:lnTo>
                  <a:lnTo>
                    <a:pt x="691" y="185"/>
                  </a:lnTo>
                  <a:lnTo>
                    <a:pt x="672" y="170"/>
                  </a:lnTo>
                  <a:lnTo>
                    <a:pt x="655" y="155"/>
                  </a:lnTo>
                  <a:lnTo>
                    <a:pt x="645" y="146"/>
                  </a:lnTo>
                  <a:lnTo>
                    <a:pt x="636" y="139"/>
                  </a:lnTo>
                  <a:lnTo>
                    <a:pt x="624" y="132"/>
                  </a:lnTo>
                  <a:lnTo>
                    <a:pt x="613" y="126"/>
                  </a:lnTo>
                  <a:lnTo>
                    <a:pt x="599" y="123"/>
                  </a:lnTo>
                  <a:lnTo>
                    <a:pt x="582" y="119"/>
                  </a:lnTo>
                  <a:lnTo>
                    <a:pt x="563" y="119"/>
                  </a:lnTo>
                  <a:lnTo>
                    <a:pt x="541" y="121"/>
                  </a:lnTo>
                  <a:lnTo>
                    <a:pt x="548" y="110"/>
                  </a:lnTo>
                  <a:lnTo>
                    <a:pt x="554" y="100"/>
                  </a:lnTo>
                  <a:lnTo>
                    <a:pt x="558" y="89"/>
                  </a:lnTo>
                  <a:lnTo>
                    <a:pt x="560" y="80"/>
                  </a:lnTo>
                  <a:lnTo>
                    <a:pt x="561" y="72"/>
                  </a:lnTo>
                  <a:lnTo>
                    <a:pt x="561" y="62"/>
                  </a:lnTo>
                  <a:lnTo>
                    <a:pt x="558" y="55"/>
                  </a:lnTo>
                  <a:lnTo>
                    <a:pt x="554" y="47"/>
                  </a:lnTo>
                  <a:lnTo>
                    <a:pt x="548" y="40"/>
                  </a:lnTo>
                  <a:lnTo>
                    <a:pt x="540" y="33"/>
                  </a:lnTo>
                  <a:lnTo>
                    <a:pt x="530" y="27"/>
                  </a:lnTo>
                  <a:lnTo>
                    <a:pt x="518" y="21"/>
                  </a:lnTo>
                  <a:lnTo>
                    <a:pt x="504" y="16"/>
                  </a:lnTo>
                  <a:lnTo>
                    <a:pt x="489" y="10"/>
                  </a:lnTo>
                  <a:lnTo>
                    <a:pt x="470" y="5"/>
                  </a:lnTo>
                  <a:lnTo>
                    <a:pt x="449" y="0"/>
                  </a:lnTo>
                  <a:lnTo>
                    <a:pt x="109" y="158"/>
                  </a:lnTo>
                  <a:lnTo>
                    <a:pt x="0" y="199"/>
                  </a:lnTo>
                  <a:lnTo>
                    <a:pt x="0" y="299"/>
                  </a:lnTo>
                  <a:lnTo>
                    <a:pt x="55" y="32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Freeform 183"/>
            <p:cNvSpPr/>
            <p:nvPr/>
          </p:nvSpPr>
          <p:spPr>
            <a:xfrm>
              <a:off x="8175600" y="3982680"/>
              <a:ext cx="188280" cy="66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244" h="409">
                  <a:moveTo>
                    <a:pt x="933" y="193"/>
                  </a:moveTo>
                  <a:lnTo>
                    <a:pt x="971" y="223"/>
                  </a:lnTo>
                  <a:lnTo>
                    <a:pt x="1011" y="254"/>
                  </a:lnTo>
                  <a:lnTo>
                    <a:pt x="1053" y="283"/>
                  </a:lnTo>
                  <a:lnTo>
                    <a:pt x="1095" y="313"/>
                  </a:lnTo>
                  <a:lnTo>
                    <a:pt x="1137" y="341"/>
                  </a:lnTo>
                  <a:lnTo>
                    <a:pt x="1176" y="367"/>
                  </a:lnTo>
                  <a:lnTo>
                    <a:pt x="1213" y="389"/>
                  </a:lnTo>
                  <a:lnTo>
                    <a:pt x="1244" y="409"/>
                  </a:lnTo>
                  <a:lnTo>
                    <a:pt x="1065" y="401"/>
                  </a:lnTo>
                  <a:lnTo>
                    <a:pt x="1063" y="396"/>
                  </a:lnTo>
                  <a:lnTo>
                    <a:pt x="1060" y="393"/>
                  </a:lnTo>
                  <a:lnTo>
                    <a:pt x="1056" y="390"/>
                  </a:lnTo>
                  <a:lnTo>
                    <a:pt x="1051" y="389"/>
                  </a:lnTo>
                  <a:lnTo>
                    <a:pt x="1041" y="386"/>
                  </a:lnTo>
                  <a:lnTo>
                    <a:pt x="1028" y="384"/>
                  </a:lnTo>
                  <a:lnTo>
                    <a:pt x="998" y="384"/>
                  </a:lnTo>
                  <a:lnTo>
                    <a:pt x="964" y="383"/>
                  </a:lnTo>
                  <a:lnTo>
                    <a:pt x="945" y="382"/>
                  </a:lnTo>
                  <a:lnTo>
                    <a:pt x="926" y="377"/>
                  </a:lnTo>
                  <a:lnTo>
                    <a:pt x="917" y="375"/>
                  </a:lnTo>
                  <a:lnTo>
                    <a:pt x="908" y="372"/>
                  </a:lnTo>
                  <a:lnTo>
                    <a:pt x="898" y="367"/>
                  </a:lnTo>
                  <a:lnTo>
                    <a:pt x="890" y="362"/>
                  </a:lnTo>
                  <a:lnTo>
                    <a:pt x="881" y="356"/>
                  </a:lnTo>
                  <a:lnTo>
                    <a:pt x="873" y="349"/>
                  </a:lnTo>
                  <a:lnTo>
                    <a:pt x="863" y="341"/>
                  </a:lnTo>
                  <a:lnTo>
                    <a:pt x="856" y="333"/>
                  </a:lnTo>
                  <a:lnTo>
                    <a:pt x="848" y="323"/>
                  </a:lnTo>
                  <a:lnTo>
                    <a:pt x="840" y="312"/>
                  </a:lnTo>
                  <a:lnTo>
                    <a:pt x="833" y="299"/>
                  </a:lnTo>
                  <a:lnTo>
                    <a:pt x="827" y="285"/>
                  </a:lnTo>
                  <a:lnTo>
                    <a:pt x="815" y="279"/>
                  </a:lnTo>
                  <a:lnTo>
                    <a:pt x="806" y="272"/>
                  </a:lnTo>
                  <a:lnTo>
                    <a:pt x="799" y="266"/>
                  </a:lnTo>
                  <a:lnTo>
                    <a:pt x="793" y="259"/>
                  </a:lnTo>
                  <a:lnTo>
                    <a:pt x="784" y="247"/>
                  </a:lnTo>
                  <a:lnTo>
                    <a:pt x="777" y="235"/>
                  </a:lnTo>
                  <a:lnTo>
                    <a:pt x="775" y="229"/>
                  </a:lnTo>
                  <a:lnTo>
                    <a:pt x="771" y="223"/>
                  </a:lnTo>
                  <a:lnTo>
                    <a:pt x="768" y="219"/>
                  </a:lnTo>
                  <a:lnTo>
                    <a:pt x="763" y="215"/>
                  </a:lnTo>
                  <a:lnTo>
                    <a:pt x="758" y="212"/>
                  </a:lnTo>
                  <a:lnTo>
                    <a:pt x="751" y="209"/>
                  </a:lnTo>
                  <a:lnTo>
                    <a:pt x="744" y="208"/>
                  </a:lnTo>
                  <a:lnTo>
                    <a:pt x="735" y="207"/>
                  </a:lnTo>
                  <a:lnTo>
                    <a:pt x="723" y="209"/>
                  </a:lnTo>
                  <a:lnTo>
                    <a:pt x="713" y="209"/>
                  </a:lnTo>
                  <a:lnTo>
                    <a:pt x="702" y="208"/>
                  </a:lnTo>
                  <a:lnTo>
                    <a:pt x="692" y="205"/>
                  </a:lnTo>
                  <a:lnTo>
                    <a:pt x="668" y="195"/>
                  </a:lnTo>
                  <a:lnTo>
                    <a:pt x="639" y="184"/>
                  </a:lnTo>
                  <a:lnTo>
                    <a:pt x="622" y="178"/>
                  </a:lnTo>
                  <a:lnTo>
                    <a:pt x="601" y="172"/>
                  </a:lnTo>
                  <a:lnTo>
                    <a:pt x="577" y="168"/>
                  </a:lnTo>
                  <a:lnTo>
                    <a:pt x="549" y="165"/>
                  </a:lnTo>
                  <a:lnTo>
                    <a:pt x="518" y="164"/>
                  </a:lnTo>
                  <a:lnTo>
                    <a:pt x="481" y="164"/>
                  </a:lnTo>
                  <a:lnTo>
                    <a:pt x="440" y="165"/>
                  </a:lnTo>
                  <a:lnTo>
                    <a:pt x="395" y="170"/>
                  </a:lnTo>
                  <a:lnTo>
                    <a:pt x="370" y="168"/>
                  </a:lnTo>
                  <a:lnTo>
                    <a:pt x="354" y="167"/>
                  </a:lnTo>
                  <a:lnTo>
                    <a:pt x="341" y="168"/>
                  </a:lnTo>
                  <a:lnTo>
                    <a:pt x="330" y="168"/>
                  </a:lnTo>
                  <a:lnTo>
                    <a:pt x="317" y="170"/>
                  </a:lnTo>
                  <a:lnTo>
                    <a:pt x="297" y="168"/>
                  </a:lnTo>
                  <a:lnTo>
                    <a:pt x="270" y="166"/>
                  </a:lnTo>
                  <a:lnTo>
                    <a:pt x="230" y="161"/>
                  </a:lnTo>
                  <a:lnTo>
                    <a:pt x="220" y="160"/>
                  </a:lnTo>
                  <a:lnTo>
                    <a:pt x="209" y="160"/>
                  </a:lnTo>
                  <a:lnTo>
                    <a:pt x="199" y="161"/>
                  </a:lnTo>
                  <a:lnTo>
                    <a:pt x="191" y="164"/>
                  </a:lnTo>
                  <a:lnTo>
                    <a:pt x="182" y="166"/>
                  </a:lnTo>
                  <a:lnTo>
                    <a:pt x="174" y="170"/>
                  </a:lnTo>
                  <a:lnTo>
                    <a:pt x="167" y="174"/>
                  </a:lnTo>
                  <a:lnTo>
                    <a:pt x="160" y="178"/>
                  </a:lnTo>
                  <a:lnTo>
                    <a:pt x="137" y="198"/>
                  </a:lnTo>
                  <a:lnTo>
                    <a:pt x="117" y="215"/>
                  </a:lnTo>
                  <a:lnTo>
                    <a:pt x="112" y="217"/>
                  </a:lnTo>
                  <a:lnTo>
                    <a:pt x="108" y="221"/>
                  </a:lnTo>
                  <a:lnTo>
                    <a:pt x="103" y="223"/>
                  </a:lnTo>
                  <a:lnTo>
                    <a:pt x="97" y="224"/>
                  </a:lnTo>
                  <a:lnTo>
                    <a:pt x="91" y="224"/>
                  </a:lnTo>
                  <a:lnTo>
                    <a:pt x="85" y="223"/>
                  </a:lnTo>
                  <a:lnTo>
                    <a:pt x="80" y="222"/>
                  </a:lnTo>
                  <a:lnTo>
                    <a:pt x="74" y="219"/>
                  </a:lnTo>
                  <a:lnTo>
                    <a:pt x="67" y="214"/>
                  </a:lnTo>
                  <a:lnTo>
                    <a:pt x="59" y="209"/>
                  </a:lnTo>
                  <a:lnTo>
                    <a:pt x="50" y="201"/>
                  </a:lnTo>
                  <a:lnTo>
                    <a:pt x="42" y="193"/>
                  </a:lnTo>
                  <a:lnTo>
                    <a:pt x="22" y="170"/>
                  </a:lnTo>
                  <a:lnTo>
                    <a:pt x="0" y="138"/>
                  </a:lnTo>
                  <a:lnTo>
                    <a:pt x="942" y="0"/>
                  </a:lnTo>
                  <a:lnTo>
                    <a:pt x="1057" y="98"/>
                  </a:lnTo>
                  <a:lnTo>
                    <a:pt x="1025" y="110"/>
                  </a:lnTo>
                  <a:lnTo>
                    <a:pt x="995" y="124"/>
                  </a:lnTo>
                  <a:lnTo>
                    <a:pt x="983" y="131"/>
                  </a:lnTo>
                  <a:lnTo>
                    <a:pt x="971" y="138"/>
                  </a:lnTo>
                  <a:lnTo>
                    <a:pt x="961" y="144"/>
                  </a:lnTo>
                  <a:lnTo>
                    <a:pt x="952" y="151"/>
                  </a:lnTo>
                  <a:lnTo>
                    <a:pt x="944" y="158"/>
                  </a:lnTo>
                  <a:lnTo>
                    <a:pt x="938" y="164"/>
                  </a:lnTo>
                  <a:lnTo>
                    <a:pt x="933" y="170"/>
                  </a:lnTo>
                  <a:lnTo>
                    <a:pt x="930" y="175"/>
                  </a:lnTo>
                  <a:lnTo>
                    <a:pt x="928" y="180"/>
                  </a:lnTo>
                  <a:lnTo>
                    <a:pt x="928" y="185"/>
                  </a:lnTo>
                  <a:lnTo>
                    <a:pt x="930" y="189"/>
                  </a:lnTo>
                  <a:lnTo>
                    <a:pt x="933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Freeform 184"/>
            <p:cNvSpPr/>
            <p:nvPr/>
          </p:nvSpPr>
          <p:spPr>
            <a:xfrm>
              <a:off x="8175600" y="3982680"/>
              <a:ext cx="188280" cy="66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244" h="409">
                  <a:moveTo>
                    <a:pt x="933" y="193"/>
                  </a:moveTo>
                  <a:lnTo>
                    <a:pt x="971" y="223"/>
                  </a:lnTo>
                  <a:lnTo>
                    <a:pt x="1011" y="254"/>
                  </a:lnTo>
                  <a:lnTo>
                    <a:pt x="1053" y="283"/>
                  </a:lnTo>
                  <a:lnTo>
                    <a:pt x="1095" y="313"/>
                  </a:lnTo>
                  <a:lnTo>
                    <a:pt x="1137" y="341"/>
                  </a:lnTo>
                  <a:lnTo>
                    <a:pt x="1176" y="367"/>
                  </a:lnTo>
                  <a:lnTo>
                    <a:pt x="1213" y="389"/>
                  </a:lnTo>
                  <a:lnTo>
                    <a:pt x="1244" y="409"/>
                  </a:lnTo>
                  <a:lnTo>
                    <a:pt x="1065" y="401"/>
                  </a:lnTo>
                  <a:lnTo>
                    <a:pt x="1063" y="396"/>
                  </a:lnTo>
                  <a:lnTo>
                    <a:pt x="1060" y="393"/>
                  </a:lnTo>
                  <a:lnTo>
                    <a:pt x="1056" y="390"/>
                  </a:lnTo>
                  <a:lnTo>
                    <a:pt x="1051" y="389"/>
                  </a:lnTo>
                  <a:lnTo>
                    <a:pt x="1041" y="386"/>
                  </a:lnTo>
                  <a:lnTo>
                    <a:pt x="1028" y="384"/>
                  </a:lnTo>
                  <a:lnTo>
                    <a:pt x="998" y="384"/>
                  </a:lnTo>
                  <a:lnTo>
                    <a:pt x="964" y="383"/>
                  </a:lnTo>
                  <a:lnTo>
                    <a:pt x="945" y="382"/>
                  </a:lnTo>
                  <a:lnTo>
                    <a:pt x="926" y="377"/>
                  </a:lnTo>
                  <a:lnTo>
                    <a:pt x="917" y="375"/>
                  </a:lnTo>
                  <a:lnTo>
                    <a:pt x="908" y="372"/>
                  </a:lnTo>
                  <a:lnTo>
                    <a:pt x="898" y="367"/>
                  </a:lnTo>
                  <a:lnTo>
                    <a:pt x="890" y="362"/>
                  </a:lnTo>
                  <a:lnTo>
                    <a:pt x="881" y="356"/>
                  </a:lnTo>
                  <a:lnTo>
                    <a:pt x="873" y="349"/>
                  </a:lnTo>
                  <a:lnTo>
                    <a:pt x="863" y="341"/>
                  </a:lnTo>
                  <a:lnTo>
                    <a:pt x="856" y="333"/>
                  </a:lnTo>
                  <a:lnTo>
                    <a:pt x="848" y="323"/>
                  </a:lnTo>
                  <a:lnTo>
                    <a:pt x="840" y="312"/>
                  </a:lnTo>
                  <a:lnTo>
                    <a:pt x="833" y="299"/>
                  </a:lnTo>
                  <a:lnTo>
                    <a:pt x="827" y="285"/>
                  </a:lnTo>
                  <a:lnTo>
                    <a:pt x="815" y="279"/>
                  </a:lnTo>
                  <a:lnTo>
                    <a:pt x="806" y="272"/>
                  </a:lnTo>
                  <a:lnTo>
                    <a:pt x="799" y="266"/>
                  </a:lnTo>
                  <a:lnTo>
                    <a:pt x="793" y="259"/>
                  </a:lnTo>
                  <a:lnTo>
                    <a:pt x="784" y="247"/>
                  </a:lnTo>
                  <a:lnTo>
                    <a:pt x="777" y="235"/>
                  </a:lnTo>
                  <a:lnTo>
                    <a:pt x="775" y="229"/>
                  </a:lnTo>
                  <a:lnTo>
                    <a:pt x="771" y="223"/>
                  </a:lnTo>
                  <a:lnTo>
                    <a:pt x="768" y="219"/>
                  </a:lnTo>
                  <a:lnTo>
                    <a:pt x="763" y="215"/>
                  </a:lnTo>
                  <a:lnTo>
                    <a:pt x="758" y="212"/>
                  </a:lnTo>
                  <a:lnTo>
                    <a:pt x="751" y="209"/>
                  </a:lnTo>
                  <a:lnTo>
                    <a:pt x="744" y="208"/>
                  </a:lnTo>
                  <a:lnTo>
                    <a:pt x="735" y="207"/>
                  </a:lnTo>
                  <a:lnTo>
                    <a:pt x="723" y="209"/>
                  </a:lnTo>
                  <a:lnTo>
                    <a:pt x="713" y="209"/>
                  </a:lnTo>
                  <a:lnTo>
                    <a:pt x="702" y="208"/>
                  </a:lnTo>
                  <a:lnTo>
                    <a:pt x="692" y="205"/>
                  </a:lnTo>
                  <a:lnTo>
                    <a:pt x="668" y="195"/>
                  </a:lnTo>
                  <a:lnTo>
                    <a:pt x="639" y="184"/>
                  </a:lnTo>
                  <a:lnTo>
                    <a:pt x="622" y="178"/>
                  </a:lnTo>
                  <a:lnTo>
                    <a:pt x="601" y="172"/>
                  </a:lnTo>
                  <a:lnTo>
                    <a:pt x="577" y="168"/>
                  </a:lnTo>
                  <a:lnTo>
                    <a:pt x="549" y="165"/>
                  </a:lnTo>
                  <a:lnTo>
                    <a:pt x="518" y="164"/>
                  </a:lnTo>
                  <a:lnTo>
                    <a:pt x="481" y="164"/>
                  </a:lnTo>
                  <a:lnTo>
                    <a:pt x="440" y="165"/>
                  </a:lnTo>
                  <a:lnTo>
                    <a:pt x="395" y="170"/>
                  </a:lnTo>
                  <a:lnTo>
                    <a:pt x="370" y="168"/>
                  </a:lnTo>
                  <a:lnTo>
                    <a:pt x="354" y="167"/>
                  </a:lnTo>
                  <a:lnTo>
                    <a:pt x="341" y="168"/>
                  </a:lnTo>
                  <a:lnTo>
                    <a:pt x="330" y="168"/>
                  </a:lnTo>
                  <a:lnTo>
                    <a:pt x="317" y="170"/>
                  </a:lnTo>
                  <a:lnTo>
                    <a:pt x="297" y="168"/>
                  </a:lnTo>
                  <a:lnTo>
                    <a:pt x="270" y="166"/>
                  </a:lnTo>
                  <a:lnTo>
                    <a:pt x="230" y="161"/>
                  </a:lnTo>
                  <a:lnTo>
                    <a:pt x="220" y="160"/>
                  </a:lnTo>
                  <a:lnTo>
                    <a:pt x="209" y="160"/>
                  </a:lnTo>
                  <a:lnTo>
                    <a:pt x="199" y="161"/>
                  </a:lnTo>
                  <a:lnTo>
                    <a:pt x="191" y="164"/>
                  </a:lnTo>
                  <a:lnTo>
                    <a:pt x="182" y="166"/>
                  </a:lnTo>
                  <a:lnTo>
                    <a:pt x="174" y="170"/>
                  </a:lnTo>
                  <a:lnTo>
                    <a:pt x="167" y="174"/>
                  </a:lnTo>
                  <a:lnTo>
                    <a:pt x="160" y="178"/>
                  </a:lnTo>
                  <a:lnTo>
                    <a:pt x="137" y="198"/>
                  </a:lnTo>
                  <a:lnTo>
                    <a:pt x="117" y="215"/>
                  </a:lnTo>
                  <a:lnTo>
                    <a:pt x="112" y="217"/>
                  </a:lnTo>
                  <a:lnTo>
                    <a:pt x="108" y="221"/>
                  </a:lnTo>
                  <a:lnTo>
                    <a:pt x="103" y="223"/>
                  </a:lnTo>
                  <a:lnTo>
                    <a:pt x="97" y="224"/>
                  </a:lnTo>
                  <a:lnTo>
                    <a:pt x="91" y="224"/>
                  </a:lnTo>
                  <a:lnTo>
                    <a:pt x="85" y="223"/>
                  </a:lnTo>
                  <a:lnTo>
                    <a:pt x="80" y="222"/>
                  </a:lnTo>
                  <a:lnTo>
                    <a:pt x="74" y="219"/>
                  </a:lnTo>
                  <a:lnTo>
                    <a:pt x="67" y="214"/>
                  </a:lnTo>
                  <a:lnTo>
                    <a:pt x="59" y="209"/>
                  </a:lnTo>
                  <a:lnTo>
                    <a:pt x="50" y="201"/>
                  </a:lnTo>
                  <a:lnTo>
                    <a:pt x="42" y="193"/>
                  </a:lnTo>
                  <a:lnTo>
                    <a:pt x="22" y="170"/>
                  </a:lnTo>
                  <a:lnTo>
                    <a:pt x="0" y="138"/>
                  </a:lnTo>
                  <a:lnTo>
                    <a:pt x="942" y="0"/>
                  </a:lnTo>
                  <a:lnTo>
                    <a:pt x="1057" y="98"/>
                  </a:lnTo>
                  <a:lnTo>
                    <a:pt x="1025" y="110"/>
                  </a:lnTo>
                  <a:lnTo>
                    <a:pt x="995" y="124"/>
                  </a:lnTo>
                  <a:lnTo>
                    <a:pt x="983" y="131"/>
                  </a:lnTo>
                  <a:lnTo>
                    <a:pt x="971" y="138"/>
                  </a:lnTo>
                  <a:lnTo>
                    <a:pt x="961" y="144"/>
                  </a:lnTo>
                  <a:lnTo>
                    <a:pt x="952" y="151"/>
                  </a:lnTo>
                  <a:lnTo>
                    <a:pt x="944" y="158"/>
                  </a:lnTo>
                  <a:lnTo>
                    <a:pt x="938" y="164"/>
                  </a:lnTo>
                  <a:lnTo>
                    <a:pt x="933" y="170"/>
                  </a:lnTo>
                  <a:lnTo>
                    <a:pt x="930" y="175"/>
                  </a:lnTo>
                  <a:lnTo>
                    <a:pt x="928" y="180"/>
                  </a:lnTo>
                  <a:lnTo>
                    <a:pt x="928" y="185"/>
                  </a:lnTo>
                  <a:lnTo>
                    <a:pt x="930" y="189"/>
                  </a:lnTo>
                  <a:lnTo>
                    <a:pt x="933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Freeform 185"/>
            <p:cNvSpPr/>
            <p:nvPr/>
          </p:nvSpPr>
          <p:spPr>
            <a:xfrm>
              <a:off x="8325000" y="3868200"/>
              <a:ext cx="87120" cy="471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73" h="294">
                  <a:moveTo>
                    <a:pt x="573" y="116"/>
                  </a:moveTo>
                  <a:lnTo>
                    <a:pt x="547" y="124"/>
                  </a:lnTo>
                  <a:lnTo>
                    <a:pt x="521" y="132"/>
                  </a:lnTo>
                  <a:lnTo>
                    <a:pt x="496" y="140"/>
                  </a:lnTo>
                  <a:lnTo>
                    <a:pt x="470" y="150"/>
                  </a:lnTo>
                  <a:lnTo>
                    <a:pt x="442" y="159"/>
                  </a:lnTo>
                  <a:lnTo>
                    <a:pt x="413" y="168"/>
                  </a:lnTo>
                  <a:lnTo>
                    <a:pt x="381" y="178"/>
                  </a:lnTo>
                  <a:lnTo>
                    <a:pt x="348" y="188"/>
                  </a:lnTo>
                  <a:lnTo>
                    <a:pt x="351" y="194"/>
                  </a:lnTo>
                  <a:lnTo>
                    <a:pt x="352" y="201"/>
                  </a:lnTo>
                  <a:lnTo>
                    <a:pt x="352" y="208"/>
                  </a:lnTo>
                  <a:lnTo>
                    <a:pt x="351" y="214"/>
                  </a:lnTo>
                  <a:lnTo>
                    <a:pt x="348" y="220"/>
                  </a:lnTo>
                  <a:lnTo>
                    <a:pt x="346" y="225"/>
                  </a:lnTo>
                  <a:lnTo>
                    <a:pt x="341" y="230"/>
                  </a:lnTo>
                  <a:lnTo>
                    <a:pt x="337" y="236"/>
                  </a:lnTo>
                  <a:lnTo>
                    <a:pt x="326" y="245"/>
                  </a:lnTo>
                  <a:lnTo>
                    <a:pt x="312" y="255"/>
                  </a:lnTo>
                  <a:lnTo>
                    <a:pt x="297" y="262"/>
                  </a:lnTo>
                  <a:lnTo>
                    <a:pt x="281" y="269"/>
                  </a:lnTo>
                  <a:lnTo>
                    <a:pt x="248" y="280"/>
                  </a:lnTo>
                  <a:lnTo>
                    <a:pt x="219" y="289"/>
                  </a:lnTo>
                  <a:lnTo>
                    <a:pt x="198" y="292"/>
                  </a:lnTo>
                  <a:lnTo>
                    <a:pt x="190" y="294"/>
                  </a:lnTo>
                  <a:lnTo>
                    <a:pt x="0" y="47"/>
                  </a:lnTo>
                  <a:lnTo>
                    <a:pt x="478" y="0"/>
                  </a:lnTo>
                  <a:lnTo>
                    <a:pt x="573" y="1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Freeform 186"/>
            <p:cNvSpPr/>
            <p:nvPr/>
          </p:nvSpPr>
          <p:spPr>
            <a:xfrm>
              <a:off x="8325000" y="3868200"/>
              <a:ext cx="87120" cy="471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73" h="294">
                  <a:moveTo>
                    <a:pt x="573" y="116"/>
                  </a:moveTo>
                  <a:lnTo>
                    <a:pt x="547" y="124"/>
                  </a:lnTo>
                  <a:lnTo>
                    <a:pt x="521" y="132"/>
                  </a:lnTo>
                  <a:lnTo>
                    <a:pt x="496" y="140"/>
                  </a:lnTo>
                  <a:lnTo>
                    <a:pt x="470" y="150"/>
                  </a:lnTo>
                  <a:lnTo>
                    <a:pt x="442" y="159"/>
                  </a:lnTo>
                  <a:lnTo>
                    <a:pt x="413" y="168"/>
                  </a:lnTo>
                  <a:lnTo>
                    <a:pt x="381" y="178"/>
                  </a:lnTo>
                  <a:lnTo>
                    <a:pt x="348" y="188"/>
                  </a:lnTo>
                  <a:lnTo>
                    <a:pt x="351" y="194"/>
                  </a:lnTo>
                  <a:lnTo>
                    <a:pt x="352" y="201"/>
                  </a:lnTo>
                  <a:lnTo>
                    <a:pt x="352" y="208"/>
                  </a:lnTo>
                  <a:lnTo>
                    <a:pt x="351" y="214"/>
                  </a:lnTo>
                  <a:lnTo>
                    <a:pt x="348" y="220"/>
                  </a:lnTo>
                  <a:lnTo>
                    <a:pt x="346" y="225"/>
                  </a:lnTo>
                  <a:lnTo>
                    <a:pt x="341" y="230"/>
                  </a:lnTo>
                  <a:lnTo>
                    <a:pt x="337" y="236"/>
                  </a:lnTo>
                  <a:lnTo>
                    <a:pt x="326" y="245"/>
                  </a:lnTo>
                  <a:lnTo>
                    <a:pt x="312" y="255"/>
                  </a:lnTo>
                  <a:lnTo>
                    <a:pt x="297" y="262"/>
                  </a:lnTo>
                  <a:lnTo>
                    <a:pt x="281" y="269"/>
                  </a:lnTo>
                  <a:lnTo>
                    <a:pt x="248" y="280"/>
                  </a:lnTo>
                  <a:lnTo>
                    <a:pt x="219" y="289"/>
                  </a:lnTo>
                  <a:lnTo>
                    <a:pt x="198" y="292"/>
                  </a:lnTo>
                  <a:lnTo>
                    <a:pt x="190" y="294"/>
                  </a:lnTo>
                  <a:lnTo>
                    <a:pt x="0" y="47"/>
                  </a:lnTo>
                  <a:lnTo>
                    <a:pt x="478" y="0"/>
                  </a:lnTo>
                  <a:lnTo>
                    <a:pt x="573" y="11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Freeform 187"/>
            <p:cNvSpPr/>
            <p:nvPr/>
          </p:nvSpPr>
          <p:spPr>
            <a:xfrm>
              <a:off x="8397720" y="3867480"/>
              <a:ext cx="45720" cy="20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303" h="124">
                  <a:moveTo>
                    <a:pt x="95" y="124"/>
                  </a:moveTo>
                  <a:lnTo>
                    <a:pt x="118" y="117"/>
                  </a:lnTo>
                  <a:lnTo>
                    <a:pt x="141" y="111"/>
                  </a:lnTo>
                  <a:lnTo>
                    <a:pt x="165" y="106"/>
                  </a:lnTo>
                  <a:lnTo>
                    <a:pt x="191" y="100"/>
                  </a:lnTo>
                  <a:lnTo>
                    <a:pt x="216" y="96"/>
                  </a:lnTo>
                  <a:lnTo>
                    <a:pt x="243" y="92"/>
                  </a:lnTo>
                  <a:lnTo>
                    <a:pt x="272" y="89"/>
                  </a:lnTo>
                  <a:lnTo>
                    <a:pt x="303" y="86"/>
                  </a:lnTo>
                  <a:lnTo>
                    <a:pt x="294" y="78"/>
                  </a:lnTo>
                  <a:lnTo>
                    <a:pt x="273" y="61"/>
                  </a:lnTo>
                  <a:lnTo>
                    <a:pt x="259" y="51"/>
                  </a:lnTo>
                  <a:lnTo>
                    <a:pt x="244" y="42"/>
                  </a:lnTo>
                  <a:lnTo>
                    <a:pt x="236" y="38"/>
                  </a:lnTo>
                  <a:lnTo>
                    <a:pt x="228" y="35"/>
                  </a:lnTo>
                  <a:lnTo>
                    <a:pt x="219" y="33"/>
                  </a:lnTo>
                  <a:lnTo>
                    <a:pt x="210" y="31"/>
                  </a:lnTo>
                  <a:lnTo>
                    <a:pt x="185" y="28"/>
                  </a:lnTo>
                  <a:lnTo>
                    <a:pt x="158" y="24"/>
                  </a:lnTo>
                  <a:lnTo>
                    <a:pt x="133" y="19"/>
                  </a:lnTo>
                  <a:lnTo>
                    <a:pt x="111" y="14"/>
                  </a:lnTo>
                  <a:lnTo>
                    <a:pt x="76" y="3"/>
                  </a:lnTo>
                  <a:lnTo>
                    <a:pt x="63" y="0"/>
                  </a:lnTo>
                  <a:lnTo>
                    <a:pt x="0" y="8"/>
                  </a:lnTo>
                  <a:lnTo>
                    <a:pt x="95" y="12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Freeform 188"/>
            <p:cNvSpPr/>
            <p:nvPr/>
          </p:nvSpPr>
          <p:spPr>
            <a:xfrm>
              <a:off x="8397720" y="3867480"/>
              <a:ext cx="45720" cy="20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303" h="124">
                  <a:moveTo>
                    <a:pt x="95" y="124"/>
                  </a:moveTo>
                  <a:lnTo>
                    <a:pt x="118" y="117"/>
                  </a:lnTo>
                  <a:lnTo>
                    <a:pt x="141" y="111"/>
                  </a:lnTo>
                  <a:lnTo>
                    <a:pt x="165" y="106"/>
                  </a:lnTo>
                  <a:lnTo>
                    <a:pt x="191" y="100"/>
                  </a:lnTo>
                  <a:lnTo>
                    <a:pt x="216" y="96"/>
                  </a:lnTo>
                  <a:lnTo>
                    <a:pt x="243" y="92"/>
                  </a:lnTo>
                  <a:lnTo>
                    <a:pt x="272" y="89"/>
                  </a:lnTo>
                  <a:lnTo>
                    <a:pt x="303" y="86"/>
                  </a:lnTo>
                  <a:lnTo>
                    <a:pt x="294" y="78"/>
                  </a:lnTo>
                  <a:lnTo>
                    <a:pt x="273" y="61"/>
                  </a:lnTo>
                  <a:lnTo>
                    <a:pt x="259" y="51"/>
                  </a:lnTo>
                  <a:lnTo>
                    <a:pt x="244" y="42"/>
                  </a:lnTo>
                  <a:lnTo>
                    <a:pt x="236" y="38"/>
                  </a:lnTo>
                  <a:lnTo>
                    <a:pt x="228" y="35"/>
                  </a:lnTo>
                  <a:lnTo>
                    <a:pt x="219" y="33"/>
                  </a:lnTo>
                  <a:lnTo>
                    <a:pt x="210" y="31"/>
                  </a:lnTo>
                  <a:lnTo>
                    <a:pt x="185" y="28"/>
                  </a:lnTo>
                  <a:lnTo>
                    <a:pt x="158" y="24"/>
                  </a:lnTo>
                  <a:lnTo>
                    <a:pt x="133" y="19"/>
                  </a:lnTo>
                  <a:lnTo>
                    <a:pt x="111" y="14"/>
                  </a:lnTo>
                  <a:lnTo>
                    <a:pt x="76" y="3"/>
                  </a:lnTo>
                  <a:lnTo>
                    <a:pt x="63" y="0"/>
                  </a:lnTo>
                  <a:lnTo>
                    <a:pt x="0" y="8"/>
                  </a:lnTo>
                  <a:lnTo>
                    <a:pt x="95" y="124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8" name="Group 189"/>
            <p:cNvGrpSpPr/>
            <p:nvPr/>
          </p:nvGrpSpPr>
          <p:grpSpPr>
            <a:xfrm>
              <a:off x="6096240" y="4532400"/>
              <a:ext cx="263880" cy="213120"/>
              <a:chOff x="6096240" y="4532400"/>
              <a:chExt cx="263880" cy="213120"/>
            </a:xfrm>
          </p:grpSpPr>
          <p:sp>
            <p:nvSpPr>
              <p:cNvPr id="849" name="Freeform 190"/>
              <p:cNvSpPr/>
              <p:nvPr/>
            </p:nvSpPr>
            <p:spPr>
              <a:xfrm>
                <a:off x="6275160" y="4678920"/>
                <a:ext cx="61560" cy="26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406" h="162">
                    <a:moveTo>
                      <a:pt x="372" y="130"/>
                    </a:moveTo>
                    <a:lnTo>
                      <a:pt x="364" y="136"/>
                    </a:lnTo>
                    <a:lnTo>
                      <a:pt x="353" y="141"/>
                    </a:lnTo>
                    <a:lnTo>
                      <a:pt x="340" y="145"/>
                    </a:lnTo>
                    <a:lnTo>
                      <a:pt x="326" y="149"/>
                    </a:lnTo>
                    <a:lnTo>
                      <a:pt x="311" y="152"/>
                    </a:lnTo>
                    <a:lnTo>
                      <a:pt x="295" y="156"/>
                    </a:lnTo>
                    <a:lnTo>
                      <a:pt x="278" y="158"/>
                    </a:lnTo>
                    <a:lnTo>
                      <a:pt x="262" y="160"/>
                    </a:lnTo>
                    <a:lnTo>
                      <a:pt x="246" y="162"/>
                    </a:lnTo>
                    <a:lnTo>
                      <a:pt x="230" y="162"/>
                    </a:lnTo>
                    <a:lnTo>
                      <a:pt x="215" y="162"/>
                    </a:lnTo>
                    <a:lnTo>
                      <a:pt x="202" y="160"/>
                    </a:lnTo>
                    <a:lnTo>
                      <a:pt x="191" y="159"/>
                    </a:lnTo>
                    <a:lnTo>
                      <a:pt x="181" y="156"/>
                    </a:lnTo>
                    <a:lnTo>
                      <a:pt x="178" y="155"/>
                    </a:lnTo>
                    <a:lnTo>
                      <a:pt x="174" y="152"/>
                    </a:lnTo>
                    <a:lnTo>
                      <a:pt x="172" y="150"/>
                    </a:lnTo>
                    <a:lnTo>
                      <a:pt x="171" y="148"/>
                    </a:lnTo>
                    <a:lnTo>
                      <a:pt x="167" y="141"/>
                    </a:lnTo>
                    <a:lnTo>
                      <a:pt x="163" y="135"/>
                    </a:lnTo>
                    <a:lnTo>
                      <a:pt x="158" y="129"/>
                    </a:lnTo>
                    <a:lnTo>
                      <a:pt x="153" y="124"/>
                    </a:lnTo>
                    <a:lnTo>
                      <a:pt x="142" y="115"/>
                    </a:lnTo>
                    <a:lnTo>
                      <a:pt x="130" y="107"/>
                    </a:lnTo>
                    <a:lnTo>
                      <a:pt x="116" y="101"/>
                    </a:lnTo>
                    <a:lnTo>
                      <a:pt x="102" y="96"/>
                    </a:lnTo>
                    <a:lnTo>
                      <a:pt x="87" y="92"/>
                    </a:lnTo>
                    <a:lnTo>
                      <a:pt x="73" y="89"/>
                    </a:lnTo>
                    <a:lnTo>
                      <a:pt x="46" y="85"/>
                    </a:lnTo>
                    <a:lnTo>
                      <a:pt x="22" y="83"/>
                    </a:lnTo>
                    <a:lnTo>
                      <a:pt x="6" y="83"/>
                    </a:lnTo>
                    <a:lnTo>
                      <a:pt x="0" y="85"/>
                    </a:lnTo>
                    <a:lnTo>
                      <a:pt x="79" y="6"/>
                    </a:lnTo>
                    <a:lnTo>
                      <a:pt x="93" y="4"/>
                    </a:lnTo>
                    <a:lnTo>
                      <a:pt x="107" y="4"/>
                    </a:lnTo>
                    <a:lnTo>
                      <a:pt x="121" y="4"/>
                    </a:lnTo>
                    <a:lnTo>
                      <a:pt x="133" y="5"/>
                    </a:lnTo>
                    <a:lnTo>
                      <a:pt x="159" y="9"/>
                    </a:lnTo>
                    <a:lnTo>
                      <a:pt x="185" y="13"/>
                    </a:lnTo>
                    <a:lnTo>
                      <a:pt x="196" y="14"/>
                    </a:lnTo>
                    <a:lnTo>
                      <a:pt x="209" y="17"/>
                    </a:lnTo>
                    <a:lnTo>
                      <a:pt x="221" y="18"/>
                    </a:lnTo>
                    <a:lnTo>
                      <a:pt x="233" y="18"/>
                    </a:lnTo>
                    <a:lnTo>
                      <a:pt x="244" y="17"/>
                    </a:lnTo>
                    <a:lnTo>
                      <a:pt x="256" y="14"/>
                    </a:lnTo>
                    <a:lnTo>
                      <a:pt x="268" y="11"/>
                    </a:lnTo>
                    <a:lnTo>
                      <a:pt x="279" y="6"/>
                    </a:lnTo>
                    <a:lnTo>
                      <a:pt x="285" y="4"/>
                    </a:lnTo>
                    <a:lnTo>
                      <a:pt x="292" y="3"/>
                    </a:lnTo>
                    <a:lnTo>
                      <a:pt x="298" y="2"/>
                    </a:lnTo>
                    <a:lnTo>
                      <a:pt x="305" y="0"/>
                    </a:lnTo>
                    <a:lnTo>
                      <a:pt x="319" y="2"/>
                    </a:lnTo>
                    <a:lnTo>
                      <a:pt x="333" y="5"/>
                    </a:lnTo>
                    <a:lnTo>
                      <a:pt x="347" y="10"/>
                    </a:lnTo>
                    <a:lnTo>
                      <a:pt x="360" y="17"/>
                    </a:lnTo>
                    <a:lnTo>
                      <a:pt x="373" y="25"/>
                    </a:lnTo>
                    <a:lnTo>
                      <a:pt x="383" y="34"/>
                    </a:lnTo>
                    <a:lnTo>
                      <a:pt x="393" y="45"/>
                    </a:lnTo>
                    <a:lnTo>
                      <a:pt x="400" y="57"/>
                    </a:lnTo>
                    <a:lnTo>
                      <a:pt x="402" y="62"/>
                    </a:lnTo>
                    <a:lnTo>
                      <a:pt x="403" y="69"/>
                    </a:lnTo>
                    <a:lnTo>
                      <a:pt x="404" y="75"/>
                    </a:lnTo>
                    <a:lnTo>
                      <a:pt x="406" y="81"/>
                    </a:lnTo>
                    <a:lnTo>
                      <a:pt x="404" y="88"/>
                    </a:lnTo>
                    <a:lnTo>
                      <a:pt x="403" y="94"/>
                    </a:lnTo>
                    <a:lnTo>
                      <a:pt x="401" y="100"/>
                    </a:lnTo>
                    <a:lnTo>
                      <a:pt x="397" y="107"/>
                    </a:lnTo>
                    <a:lnTo>
                      <a:pt x="393" y="113"/>
                    </a:lnTo>
                    <a:lnTo>
                      <a:pt x="387" y="118"/>
                    </a:lnTo>
                    <a:lnTo>
                      <a:pt x="380" y="124"/>
                    </a:lnTo>
                    <a:lnTo>
                      <a:pt x="372" y="1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191"/>
              <p:cNvSpPr/>
              <p:nvPr/>
            </p:nvSpPr>
            <p:spPr>
              <a:xfrm>
                <a:off x="6260760" y="4648680"/>
                <a:ext cx="99360" cy="968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655" h="595">
                    <a:moveTo>
                      <a:pt x="9" y="419"/>
                    </a:moveTo>
                    <a:lnTo>
                      <a:pt x="8" y="401"/>
                    </a:lnTo>
                    <a:lnTo>
                      <a:pt x="9" y="386"/>
                    </a:lnTo>
                    <a:lnTo>
                      <a:pt x="10" y="371"/>
                    </a:lnTo>
                    <a:lnTo>
                      <a:pt x="13" y="358"/>
                    </a:lnTo>
                    <a:lnTo>
                      <a:pt x="17" y="345"/>
                    </a:lnTo>
                    <a:lnTo>
                      <a:pt x="22" y="333"/>
                    </a:lnTo>
                    <a:lnTo>
                      <a:pt x="28" y="322"/>
                    </a:lnTo>
                    <a:lnTo>
                      <a:pt x="34" y="312"/>
                    </a:lnTo>
                    <a:lnTo>
                      <a:pt x="42" y="303"/>
                    </a:lnTo>
                    <a:lnTo>
                      <a:pt x="49" y="294"/>
                    </a:lnTo>
                    <a:lnTo>
                      <a:pt x="58" y="285"/>
                    </a:lnTo>
                    <a:lnTo>
                      <a:pt x="68" y="277"/>
                    </a:lnTo>
                    <a:lnTo>
                      <a:pt x="87" y="263"/>
                    </a:lnTo>
                    <a:lnTo>
                      <a:pt x="107" y="250"/>
                    </a:lnTo>
                    <a:lnTo>
                      <a:pt x="152" y="226"/>
                    </a:lnTo>
                    <a:lnTo>
                      <a:pt x="194" y="199"/>
                    </a:lnTo>
                    <a:lnTo>
                      <a:pt x="204" y="192"/>
                    </a:lnTo>
                    <a:lnTo>
                      <a:pt x="214" y="184"/>
                    </a:lnTo>
                    <a:lnTo>
                      <a:pt x="222" y="176"/>
                    </a:lnTo>
                    <a:lnTo>
                      <a:pt x="230" y="167"/>
                    </a:lnTo>
                    <a:lnTo>
                      <a:pt x="238" y="158"/>
                    </a:lnTo>
                    <a:lnTo>
                      <a:pt x="245" y="148"/>
                    </a:lnTo>
                    <a:lnTo>
                      <a:pt x="251" y="137"/>
                    </a:lnTo>
                    <a:lnTo>
                      <a:pt x="257" y="124"/>
                    </a:lnTo>
                    <a:lnTo>
                      <a:pt x="267" y="97"/>
                    </a:lnTo>
                    <a:lnTo>
                      <a:pt x="277" y="75"/>
                    </a:lnTo>
                    <a:lnTo>
                      <a:pt x="286" y="56"/>
                    </a:lnTo>
                    <a:lnTo>
                      <a:pt x="294" y="41"/>
                    </a:lnTo>
                    <a:lnTo>
                      <a:pt x="302" y="30"/>
                    </a:lnTo>
                    <a:lnTo>
                      <a:pt x="311" y="21"/>
                    </a:lnTo>
                    <a:lnTo>
                      <a:pt x="319" y="14"/>
                    </a:lnTo>
                    <a:lnTo>
                      <a:pt x="329" y="10"/>
                    </a:lnTo>
                    <a:lnTo>
                      <a:pt x="340" y="7"/>
                    </a:lnTo>
                    <a:lnTo>
                      <a:pt x="351" y="5"/>
                    </a:lnTo>
                    <a:lnTo>
                      <a:pt x="365" y="5"/>
                    </a:lnTo>
                    <a:lnTo>
                      <a:pt x="382" y="4"/>
                    </a:lnTo>
                    <a:lnTo>
                      <a:pt x="421" y="4"/>
                    </a:lnTo>
                    <a:lnTo>
                      <a:pt x="473" y="0"/>
                    </a:lnTo>
                    <a:lnTo>
                      <a:pt x="481" y="2"/>
                    </a:lnTo>
                    <a:lnTo>
                      <a:pt x="492" y="5"/>
                    </a:lnTo>
                    <a:lnTo>
                      <a:pt x="501" y="10"/>
                    </a:lnTo>
                    <a:lnTo>
                      <a:pt x="513" y="16"/>
                    </a:lnTo>
                    <a:lnTo>
                      <a:pt x="535" y="31"/>
                    </a:lnTo>
                    <a:lnTo>
                      <a:pt x="557" y="49"/>
                    </a:lnTo>
                    <a:lnTo>
                      <a:pt x="580" y="68"/>
                    </a:lnTo>
                    <a:lnTo>
                      <a:pt x="603" y="86"/>
                    </a:lnTo>
                    <a:lnTo>
                      <a:pt x="613" y="94"/>
                    </a:lnTo>
                    <a:lnTo>
                      <a:pt x="624" y="101"/>
                    </a:lnTo>
                    <a:lnTo>
                      <a:pt x="633" y="107"/>
                    </a:lnTo>
                    <a:lnTo>
                      <a:pt x="642" y="110"/>
                    </a:lnTo>
                    <a:lnTo>
                      <a:pt x="647" y="113"/>
                    </a:lnTo>
                    <a:lnTo>
                      <a:pt x="649" y="115"/>
                    </a:lnTo>
                    <a:lnTo>
                      <a:pt x="652" y="118"/>
                    </a:lnTo>
                    <a:lnTo>
                      <a:pt x="654" y="123"/>
                    </a:lnTo>
                    <a:lnTo>
                      <a:pt x="654" y="129"/>
                    </a:lnTo>
                    <a:lnTo>
                      <a:pt x="655" y="135"/>
                    </a:lnTo>
                    <a:lnTo>
                      <a:pt x="654" y="141"/>
                    </a:lnTo>
                    <a:lnTo>
                      <a:pt x="653" y="149"/>
                    </a:lnTo>
                    <a:lnTo>
                      <a:pt x="649" y="164"/>
                    </a:lnTo>
                    <a:lnTo>
                      <a:pt x="642" y="181"/>
                    </a:lnTo>
                    <a:lnTo>
                      <a:pt x="634" y="201"/>
                    </a:lnTo>
                    <a:lnTo>
                      <a:pt x="624" y="221"/>
                    </a:lnTo>
                    <a:lnTo>
                      <a:pt x="611" y="241"/>
                    </a:lnTo>
                    <a:lnTo>
                      <a:pt x="597" y="261"/>
                    </a:lnTo>
                    <a:lnTo>
                      <a:pt x="580" y="281"/>
                    </a:lnTo>
                    <a:lnTo>
                      <a:pt x="564" y="299"/>
                    </a:lnTo>
                    <a:lnTo>
                      <a:pt x="545" y="317"/>
                    </a:lnTo>
                    <a:lnTo>
                      <a:pt x="527" y="332"/>
                    </a:lnTo>
                    <a:lnTo>
                      <a:pt x="517" y="339"/>
                    </a:lnTo>
                    <a:lnTo>
                      <a:pt x="507" y="345"/>
                    </a:lnTo>
                    <a:lnTo>
                      <a:pt x="497" y="351"/>
                    </a:lnTo>
                    <a:lnTo>
                      <a:pt x="487" y="355"/>
                    </a:lnTo>
                    <a:lnTo>
                      <a:pt x="467" y="362"/>
                    </a:lnTo>
                    <a:lnTo>
                      <a:pt x="446" y="369"/>
                    </a:lnTo>
                    <a:lnTo>
                      <a:pt x="424" y="375"/>
                    </a:lnTo>
                    <a:lnTo>
                      <a:pt x="403" y="380"/>
                    </a:lnTo>
                    <a:lnTo>
                      <a:pt x="379" y="385"/>
                    </a:lnTo>
                    <a:lnTo>
                      <a:pt x="357" y="389"/>
                    </a:lnTo>
                    <a:lnTo>
                      <a:pt x="335" y="395"/>
                    </a:lnTo>
                    <a:lnTo>
                      <a:pt x="313" y="402"/>
                    </a:lnTo>
                    <a:lnTo>
                      <a:pt x="291" y="410"/>
                    </a:lnTo>
                    <a:lnTo>
                      <a:pt x="268" y="421"/>
                    </a:lnTo>
                    <a:lnTo>
                      <a:pt x="257" y="427"/>
                    </a:lnTo>
                    <a:lnTo>
                      <a:pt x="246" y="433"/>
                    </a:lnTo>
                    <a:lnTo>
                      <a:pt x="236" y="440"/>
                    </a:lnTo>
                    <a:lnTo>
                      <a:pt x="225" y="448"/>
                    </a:lnTo>
                    <a:lnTo>
                      <a:pt x="215" y="457"/>
                    </a:lnTo>
                    <a:lnTo>
                      <a:pt x="204" y="466"/>
                    </a:lnTo>
                    <a:lnTo>
                      <a:pt x="195" y="476"/>
                    </a:lnTo>
                    <a:lnTo>
                      <a:pt x="184" y="487"/>
                    </a:lnTo>
                    <a:lnTo>
                      <a:pt x="175" y="499"/>
                    </a:lnTo>
                    <a:lnTo>
                      <a:pt x="166" y="513"/>
                    </a:lnTo>
                    <a:lnTo>
                      <a:pt x="156" y="527"/>
                    </a:lnTo>
                    <a:lnTo>
                      <a:pt x="147" y="542"/>
                    </a:lnTo>
                    <a:lnTo>
                      <a:pt x="142" y="552"/>
                    </a:lnTo>
                    <a:lnTo>
                      <a:pt x="136" y="559"/>
                    </a:lnTo>
                    <a:lnTo>
                      <a:pt x="131" y="567"/>
                    </a:lnTo>
                    <a:lnTo>
                      <a:pt x="125" y="573"/>
                    </a:lnTo>
                    <a:lnTo>
                      <a:pt x="118" y="579"/>
                    </a:lnTo>
                    <a:lnTo>
                      <a:pt x="111" y="583"/>
                    </a:lnTo>
                    <a:lnTo>
                      <a:pt x="104" y="587"/>
                    </a:lnTo>
                    <a:lnTo>
                      <a:pt x="97" y="590"/>
                    </a:lnTo>
                    <a:lnTo>
                      <a:pt x="90" y="593"/>
                    </a:lnTo>
                    <a:lnTo>
                      <a:pt x="83" y="594"/>
                    </a:lnTo>
                    <a:lnTo>
                      <a:pt x="76" y="595"/>
                    </a:lnTo>
                    <a:lnTo>
                      <a:pt x="69" y="595"/>
                    </a:lnTo>
                    <a:lnTo>
                      <a:pt x="62" y="594"/>
                    </a:lnTo>
                    <a:lnTo>
                      <a:pt x="55" y="593"/>
                    </a:lnTo>
                    <a:lnTo>
                      <a:pt x="48" y="589"/>
                    </a:lnTo>
                    <a:lnTo>
                      <a:pt x="41" y="587"/>
                    </a:lnTo>
                    <a:lnTo>
                      <a:pt x="35" y="582"/>
                    </a:lnTo>
                    <a:lnTo>
                      <a:pt x="29" y="577"/>
                    </a:lnTo>
                    <a:lnTo>
                      <a:pt x="23" y="572"/>
                    </a:lnTo>
                    <a:lnTo>
                      <a:pt x="18" y="565"/>
                    </a:lnTo>
                    <a:lnTo>
                      <a:pt x="14" y="558"/>
                    </a:lnTo>
                    <a:lnTo>
                      <a:pt x="10" y="548"/>
                    </a:lnTo>
                    <a:lnTo>
                      <a:pt x="7" y="540"/>
                    </a:lnTo>
                    <a:lnTo>
                      <a:pt x="3" y="530"/>
                    </a:lnTo>
                    <a:lnTo>
                      <a:pt x="1" y="519"/>
                    </a:lnTo>
                    <a:lnTo>
                      <a:pt x="0" y="507"/>
                    </a:lnTo>
                    <a:lnTo>
                      <a:pt x="0" y="494"/>
                    </a:lnTo>
                    <a:lnTo>
                      <a:pt x="0" y="480"/>
                    </a:lnTo>
                    <a:lnTo>
                      <a:pt x="0" y="466"/>
                    </a:lnTo>
                    <a:lnTo>
                      <a:pt x="2" y="451"/>
                    </a:lnTo>
                    <a:lnTo>
                      <a:pt x="4" y="435"/>
                    </a:lnTo>
                    <a:lnTo>
                      <a:pt x="9" y="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Freeform 192"/>
              <p:cNvSpPr/>
              <p:nvPr/>
            </p:nvSpPr>
            <p:spPr>
              <a:xfrm>
                <a:off x="6260760" y="4648680"/>
                <a:ext cx="99360" cy="968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655" h="595">
                    <a:moveTo>
                      <a:pt x="9" y="419"/>
                    </a:moveTo>
                    <a:lnTo>
                      <a:pt x="8" y="401"/>
                    </a:lnTo>
                    <a:lnTo>
                      <a:pt x="9" y="386"/>
                    </a:lnTo>
                    <a:lnTo>
                      <a:pt x="10" y="371"/>
                    </a:lnTo>
                    <a:lnTo>
                      <a:pt x="13" y="358"/>
                    </a:lnTo>
                    <a:lnTo>
                      <a:pt x="17" y="345"/>
                    </a:lnTo>
                    <a:lnTo>
                      <a:pt x="22" y="333"/>
                    </a:lnTo>
                    <a:lnTo>
                      <a:pt x="28" y="322"/>
                    </a:lnTo>
                    <a:lnTo>
                      <a:pt x="34" y="312"/>
                    </a:lnTo>
                    <a:lnTo>
                      <a:pt x="42" y="303"/>
                    </a:lnTo>
                    <a:lnTo>
                      <a:pt x="49" y="294"/>
                    </a:lnTo>
                    <a:lnTo>
                      <a:pt x="58" y="285"/>
                    </a:lnTo>
                    <a:lnTo>
                      <a:pt x="68" y="277"/>
                    </a:lnTo>
                    <a:lnTo>
                      <a:pt x="87" y="263"/>
                    </a:lnTo>
                    <a:lnTo>
                      <a:pt x="107" y="250"/>
                    </a:lnTo>
                    <a:lnTo>
                      <a:pt x="152" y="226"/>
                    </a:lnTo>
                    <a:lnTo>
                      <a:pt x="194" y="199"/>
                    </a:lnTo>
                    <a:lnTo>
                      <a:pt x="204" y="192"/>
                    </a:lnTo>
                    <a:lnTo>
                      <a:pt x="214" y="184"/>
                    </a:lnTo>
                    <a:lnTo>
                      <a:pt x="222" y="176"/>
                    </a:lnTo>
                    <a:lnTo>
                      <a:pt x="230" y="167"/>
                    </a:lnTo>
                    <a:lnTo>
                      <a:pt x="238" y="158"/>
                    </a:lnTo>
                    <a:lnTo>
                      <a:pt x="245" y="148"/>
                    </a:lnTo>
                    <a:lnTo>
                      <a:pt x="251" y="137"/>
                    </a:lnTo>
                    <a:lnTo>
                      <a:pt x="257" y="124"/>
                    </a:lnTo>
                    <a:lnTo>
                      <a:pt x="267" y="97"/>
                    </a:lnTo>
                    <a:lnTo>
                      <a:pt x="277" y="75"/>
                    </a:lnTo>
                    <a:lnTo>
                      <a:pt x="286" y="56"/>
                    </a:lnTo>
                    <a:lnTo>
                      <a:pt x="294" y="41"/>
                    </a:lnTo>
                    <a:lnTo>
                      <a:pt x="302" y="30"/>
                    </a:lnTo>
                    <a:lnTo>
                      <a:pt x="311" y="21"/>
                    </a:lnTo>
                    <a:lnTo>
                      <a:pt x="319" y="14"/>
                    </a:lnTo>
                    <a:lnTo>
                      <a:pt x="329" y="10"/>
                    </a:lnTo>
                    <a:lnTo>
                      <a:pt x="340" y="7"/>
                    </a:lnTo>
                    <a:lnTo>
                      <a:pt x="351" y="5"/>
                    </a:lnTo>
                    <a:lnTo>
                      <a:pt x="365" y="5"/>
                    </a:lnTo>
                    <a:lnTo>
                      <a:pt x="382" y="4"/>
                    </a:lnTo>
                    <a:lnTo>
                      <a:pt x="421" y="4"/>
                    </a:lnTo>
                    <a:lnTo>
                      <a:pt x="473" y="0"/>
                    </a:lnTo>
                    <a:lnTo>
                      <a:pt x="481" y="2"/>
                    </a:lnTo>
                    <a:lnTo>
                      <a:pt x="492" y="5"/>
                    </a:lnTo>
                    <a:lnTo>
                      <a:pt x="501" y="10"/>
                    </a:lnTo>
                    <a:lnTo>
                      <a:pt x="513" y="16"/>
                    </a:lnTo>
                    <a:lnTo>
                      <a:pt x="535" y="31"/>
                    </a:lnTo>
                    <a:lnTo>
                      <a:pt x="557" y="49"/>
                    </a:lnTo>
                    <a:lnTo>
                      <a:pt x="580" y="68"/>
                    </a:lnTo>
                    <a:lnTo>
                      <a:pt x="603" y="86"/>
                    </a:lnTo>
                    <a:lnTo>
                      <a:pt x="613" y="94"/>
                    </a:lnTo>
                    <a:lnTo>
                      <a:pt x="624" y="101"/>
                    </a:lnTo>
                    <a:lnTo>
                      <a:pt x="633" y="107"/>
                    </a:lnTo>
                    <a:lnTo>
                      <a:pt x="642" y="110"/>
                    </a:lnTo>
                    <a:lnTo>
                      <a:pt x="647" y="113"/>
                    </a:lnTo>
                    <a:lnTo>
                      <a:pt x="649" y="115"/>
                    </a:lnTo>
                    <a:lnTo>
                      <a:pt x="652" y="118"/>
                    </a:lnTo>
                    <a:lnTo>
                      <a:pt x="654" y="123"/>
                    </a:lnTo>
                    <a:lnTo>
                      <a:pt x="654" y="129"/>
                    </a:lnTo>
                    <a:lnTo>
                      <a:pt x="655" y="135"/>
                    </a:lnTo>
                    <a:lnTo>
                      <a:pt x="654" y="141"/>
                    </a:lnTo>
                    <a:lnTo>
                      <a:pt x="653" y="149"/>
                    </a:lnTo>
                    <a:lnTo>
                      <a:pt x="649" y="164"/>
                    </a:lnTo>
                    <a:lnTo>
                      <a:pt x="642" y="181"/>
                    </a:lnTo>
                    <a:lnTo>
                      <a:pt x="634" y="201"/>
                    </a:lnTo>
                    <a:lnTo>
                      <a:pt x="624" y="221"/>
                    </a:lnTo>
                    <a:lnTo>
                      <a:pt x="611" y="241"/>
                    </a:lnTo>
                    <a:lnTo>
                      <a:pt x="597" y="261"/>
                    </a:lnTo>
                    <a:lnTo>
                      <a:pt x="580" y="281"/>
                    </a:lnTo>
                    <a:lnTo>
                      <a:pt x="564" y="299"/>
                    </a:lnTo>
                    <a:lnTo>
                      <a:pt x="545" y="317"/>
                    </a:lnTo>
                    <a:lnTo>
                      <a:pt x="527" y="332"/>
                    </a:lnTo>
                    <a:lnTo>
                      <a:pt x="517" y="339"/>
                    </a:lnTo>
                    <a:lnTo>
                      <a:pt x="507" y="345"/>
                    </a:lnTo>
                    <a:lnTo>
                      <a:pt x="497" y="351"/>
                    </a:lnTo>
                    <a:lnTo>
                      <a:pt x="487" y="355"/>
                    </a:lnTo>
                    <a:lnTo>
                      <a:pt x="467" y="362"/>
                    </a:lnTo>
                    <a:lnTo>
                      <a:pt x="446" y="369"/>
                    </a:lnTo>
                    <a:lnTo>
                      <a:pt x="424" y="375"/>
                    </a:lnTo>
                    <a:lnTo>
                      <a:pt x="403" y="380"/>
                    </a:lnTo>
                    <a:lnTo>
                      <a:pt x="379" y="385"/>
                    </a:lnTo>
                    <a:lnTo>
                      <a:pt x="357" y="389"/>
                    </a:lnTo>
                    <a:lnTo>
                      <a:pt x="335" y="395"/>
                    </a:lnTo>
                    <a:lnTo>
                      <a:pt x="313" y="402"/>
                    </a:lnTo>
                    <a:lnTo>
                      <a:pt x="291" y="410"/>
                    </a:lnTo>
                    <a:lnTo>
                      <a:pt x="268" y="421"/>
                    </a:lnTo>
                    <a:lnTo>
                      <a:pt x="257" y="427"/>
                    </a:lnTo>
                    <a:lnTo>
                      <a:pt x="246" y="433"/>
                    </a:lnTo>
                    <a:lnTo>
                      <a:pt x="236" y="440"/>
                    </a:lnTo>
                    <a:lnTo>
                      <a:pt x="225" y="448"/>
                    </a:lnTo>
                    <a:lnTo>
                      <a:pt x="215" y="457"/>
                    </a:lnTo>
                    <a:lnTo>
                      <a:pt x="204" y="466"/>
                    </a:lnTo>
                    <a:lnTo>
                      <a:pt x="195" y="476"/>
                    </a:lnTo>
                    <a:lnTo>
                      <a:pt x="184" y="487"/>
                    </a:lnTo>
                    <a:lnTo>
                      <a:pt x="175" y="499"/>
                    </a:lnTo>
                    <a:lnTo>
                      <a:pt x="166" y="513"/>
                    </a:lnTo>
                    <a:lnTo>
                      <a:pt x="156" y="527"/>
                    </a:lnTo>
                    <a:lnTo>
                      <a:pt x="147" y="542"/>
                    </a:lnTo>
                    <a:lnTo>
                      <a:pt x="142" y="552"/>
                    </a:lnTo>
                    <a:lnTo>
                      <a:pt x="136" y="559"/>
                    </a:lnTo>
                    <a:lnTo>
                      <a:pt x="131" y="567"/>
                    </a:lnTo>
                    <a:lnTo>
                      <a:pt x="125" y="573"/>
                    </a:lnTo>
                    <a:lnTo>
                      <a:pt x="118" y="579"/>
                    </a:lnTo>
                    <a:lnTo>
                      <a:pt x="111" y="583"/>
                    </a:lnTo>
                    <a:lnTo>
                      <a:pt x="104" y="587"/>
                    </a:lnTo>
                    <a:lnTo>
                      <a:pt x="97" y="590"/>
                    </a:lnTo>
                    <a:lnTo>
                      <a:pt x="90" y="593"/>
                    </a:lnTo>
                    <a:lnTo>
                      <a:pt x="83" y="594"/>
                    </a:lnTo>
                    <a:lnTo>
                      <a:pt x="76" y="595"/>
                    </a:lnTo>
                    <a:lnTo>
                      <a:pt x="69" y="595"/>
                    </a:lnTo>
                    <a:lnTo>
                      <a:pt x="62" y="594"/>
                    </a:lnTo>
                    <a:lnTo>
                      <a:pt x="55" y="593"/>
                    </a:lnTo>
                    <a:lnTo>
                      <a:pt x="48" y="589"/>
                    </a:lnTo>
                    <a:lnTo>
                      <a:pt x="41" y="587"/>
                    </a:lnTo>
                    <a:lnTo>
                      <a:pt x="35" y="582"/>
                    </a:lnTo>
                    <a:lnTo>
                      <a:pt x="29" y="577"/>
                    </a:lnTo>
                    <a:lnTo>
                      <a:pt x="23" y="572"/>
                    </a:lnTo>
                    <a:lnTo>
                      <a:pt x="18" y="565"/>
                    </a:lnTo>
                    <a:lnTo>
                      <a:pt x="14" y="558"/>
                    </a:lnTo>
                    <a:lnTo>
                      <a:pt x="10" y="548"/>
                    </a:lnTo>
                    <a:lnTo>
                      <a:pt x="7" y="540"/>
                    </a:lnTo>
                    <a:lnTo>
                      <a:pt x="3" y="530"/>
                    </a:lnTo>
                    <a:lnTo>
                      <a:pt x="1" y="519"/>
                    </a:lnTo>
                    <a:lnTo>
                      <a:pt x="0" y="507"/>
                    </a:lnTo>
                    <a:lnTo>
                      <a:pt x="0" y="494"/>
                    </a:lnTo>
                    <a:lnTo>
                      <a:pt x="0" y="480"/>
                    </a:lnTo>
                    <a:lnTo>
                      <a:pt x="0" y="466"/>
                    </a:lnTo>
                    <a:lnTo>
                      <a:pt x="2" y="451"/>
                    </a:lnTo>
                    <a:lnTo>
                      <a:pt x="4" y="435"/>
                    </a:lnTo>
                    <a:lnTo>
                      <a:pt x="9" y="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193"/>
              <p:cNvSpPr/>
              <p:nvPr/>
            </p:nvSpPr>
            <p:spPr>
              <a:xfrm>
                <a:off x="6275160" y="4589640"/>
                <a:ext cx="61560" cy="248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06" h="160">
                    <a:moveTo>
                      <a:pt x="372" y="127"/>
                    </a:moveTo>
                    <a:lnTo>
                      <a:pt x="364" y="132"/>
                    </a:lnTo>
                    <a:lnTo>
                      <a:pt x="353" y="137"/>
                    </a:lnTo>
                    <a:lnTo>
                      <a:pt x="340" y="142"/>
                    </a:lnTo>
                    <a:lnTo>
                      <a:pt x="326" y="146"/>
                    </a:lnTo>
                    <a:lnTo>
                      <a:pt x="311" y="150"/>
                    </a:lnTo>
                    <a:lnTo>
                      <a:pt x="295" y="153"/>
                    </a:lnTo>
                    <a:lnTo>
                      <a:pt x="278" y="156"/>
                    </a:lnTo>
                    <a:lnTo>
                      <a:pt x="262" y="158"/>
                    </a:lnTo>
                    <a:lnTo>
                      <a:pt x="246" y="160"/>
                    </a:lnTo>
                    <a:lnTo>
                      <a:pt x="230" y="160"/>
                    </a:lnTo>
                    <a:lnTo>
                      <a:pt x="215" y="160"/>
                    </a:lnTo>
                    <a:lnTo>
                      <a:pt x="202" y="158"/>
                    </a:lnTo>
                    <a:lnTo>
                      <a:pt x="191" y="156"/>
                    </a:lnTo>
                    <a:lnTo>
                      <a:pt x="181" y="154"/>
                    </a:lnTo>
                    <a:lnTo>
                      <a:pt x="178" y="151"/>
                    </a:lnTo>
                    <a:lnTo>
                      <a:pt x="174" y="149"/>
                    </a:lnTo>
                    <a:lnTo>
                      <a:pt x="172" y="147"/>
                    </a:lnTo>
                    <a:lnTo>
                      <a:pt x="171" y="144"/>
                    </a:lnTo>
                    <a:lnTo>
                      <a:pt x="167" y="137"/>
                    </a:lnTo>
                    <a:lnTo>
                      <a:pt x="163" y="132"/>
                    </a:lnTo>
                    <a:lnTo>
                      <a:pt x="158" y="126"/>
                    </a:lnTo>
                    <a:lnTo>
                      <a:pt x="153" y="121"/>
                    </a:lnTo>
                    <a:lnTo>
                      <a:pt x="142" y="112"/>
                    </a:lnTo>
                    <a:lnTo>
                      <a:pt x="130" y="104"/>
                    </a:lnTo>
                    <a:lnTo>
                      <a:pt x="116" y="98"/>
                    </a:lnTo>
                    <a:lnTo>
                      <a:pt x="102" y="92"/>
                    </a:lnTo>
                    <a:lnTo>
                      <a:pt x="87" y="88"/>
                    </a:lnTo>
                    <a:lnTo>
                      <a:pt x="73" y="85"/>
                    </a:lnTo>
                    <a:lnTo>
                      <a:pt x="46" y="81"/>
                    </a:lnTo>
                    <a:lnTo>
                      <a:pt x="22" y="80"/>
                    </a:lnTo>
                    <a:lnTo>
                      <a:pt x="6" y="80"/>
                    </a:lnTo>
                    <a:lnTo>
                      <a:pt x="0" y="80"/>
                    </a:lnTo>
                    <a:lnTo>
                      <a:pt x="79" y="5"/>
                    </a:lnTo>
                    <a:lnTo>
                      <a:pt x="93" y="3"/>
                    </a:lnTo>
                    <a:lnTo>
                      <a:pt x="107" y="2"/>
                    </a:lnTo>
                    <a:lnTo>
                      <a:pt x="121" y="2"/>
                    </a:lnTo>
                    <a:lnTo>
                      <a:pt x="133" y="2"/>
                    </a:lnTo>
                    <a:lnTo>
                      <a:pt x="159" y="5"/>
                    </a:lnTo>
                    <a:lnTo>
                      <a:pt x="185" y="10"/>
                    </a:lnTo>
                    <a:lnTo>
                      <a:pt x="209" y="14"/>
                    </a:lnTo>
                    <a:lnTo>
                      <a:pt x="233" y="15"/>
                    </a:lnTo>
                    <a:lnTo>
                      <a:pt x="244" y="15"/>
                    </a:lnTo>
                    <a:lnTo>
                      <a:pt x="256" y="14"/>
                    </a:lnTo>
                    <a:lnTo>
                      <a:pt x="268" y="10"/>
                    </a:lnTo>
                    <a:lnTo>
                      <a:pt x="279" y="5"/>
                    </a:lnTo>
                    <a:lnTo>
                      <a:pt x="285" y="3"/>
                    </a:lnTo>
                    <a:lnTo>
                      <a:pt x="292" y="1"/>
                    </a:lnTo>
                    <a:lnTo>
                      <a:pt x="298" y="0"/>
                    </a:lnTo>
                    <a:lnTo>
                      <a:pt x="305" y="0"/>
                    </a:lnTo>
                    <a:lnTo>
                      <a:pt x="319" y="0"/>
                    </a:lnTo>
                    <a:lnTo>
                      <a:pt x="333" y="3"/>
                    </a:lnTo>
                    <a:lnTo>
                      <a:pt x="347" y="8"/>
                    </a:lnTo>
                    <a:lnTo>
                      <a:pt x="360" y="14"/>
                    </a:lnTo>
                    <a:lnTo>
                      <a:pt x="373" y="22"/>
                    </a:lnTo>
                    <a:lnTo>
                      <a:pt x="383" y="31"/>
                    </a:lnTo>
                    <a:lnTo>
                      <a:pt x="393" y="42"/>
                    </a:lnTo>
                    <a:lnTo>
                      <a:pt x="400" y="53"/>
                    </a:lnTo>
                    <a:lnTo>
                      <a:pt x="402" y="59"/>
                    </a:lnTo>
                    <a:lnTo>
                      <a:pt x="403" y="65"/>
                    </a:lnTo>
                    <a:lnTo>
                      <a:pt x="404" y="72"/>
                    </a:lnTo>
                    <a:lnTo>
                      <a:pt x="406" y="78"/>
                    </a:lnTo>
                    <a:lnTo>
                      <a:pt x="404" y="84"/>
                    </a:lnTo>
                    <a:lnTo>
                      <a:pt x="403" y="91"/>
                    </a:lnTo>
                    <a:lnTo>
                      <a:pt x="401" y="97"/>
                    </a:lnTo>
                    <a:lnTo>
                      <a:pt x="397" y="102"/>
                    </a:lnTo>
                    <a:lnTo>
                      <a:pt x="393" y="109"/>
                    </a:lnTo>
                    <a:lnTo>
                      <a:pt x="387" y="115"/>
                    </a:lnTo>
                    <a:lnTo>
                      <a:pt x="380" y="121"/>
                    </a:lnTo>
                    <a:lnTo>
                      <a:pt x="372" y="1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Freeform 194"/>
              <p:cNvSpPr/>
              <p:nvPr/>
            </p:nvSpPr>
            <p:spPr>
              <a:xfrm>
                <a:off x="6275160" y="4589640"/>
                <a:ext cx="61560" cy="248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06" h="160">
                    <a:moveTo>
                      <a:pt x="372" y="127"/>
                    </a:moveTo>
                    <a:lnTo>
                      <a:pt x="364" y="132"/>
                    </a:lnTo>
                    <a:lnTo>
                      <a:pt x="353" y="137"/>
                    </a:lnTo>
                    <a:lnTo>
                      <a:pt x="340" y="142"/>
                    </a:lnTo>
                    <a:lnTo>
                      <a:pt x="326" y="146"/>
                    </a:lnTo>
                    <a:lnTo>
                      <a:pt x="311" y="150"/>
                    </a:lnTo>
                    <a:lnTo>
                      <a:pt x="295" y="153"/>
                    </a:lnTo>
                    <a:lnTo>
                      <a:pt x="278" y="156"/>
                    </a:lnTo>
                    <a:lnTo>
                      <a:pt x="262" y="158"/>
                    </a:lnTo>
                    <a:lnTo>
                      <a:pt x="246" y="160"/>
                    </a:lnTo>
                    <a:lnTo>
                      <a:pt x="230" y="160"/>
                    </a:lnTo>
                    <a:lnTo>
                      <a:pt x="215" y="160"/>
                    </a:lnTo>
                    <a:lnTo>
                      <a:pt x="202" y="158"/>
                    </a:lnTo>
                    <a:lnTo>
                      <a:pt x="191" y="156"/>
                    </a:lnTo>
                    <a:lnTo>
                      <a:pt x="181" y="154"/>
                    </a:lnTo>
                    <a:lnTo>
                      <a:pt x="178" y="151"/>
                    </a:lnTo>
                    <a:lnTo>
                      <a:pt x="174" y="149"/>
                    </a:lnTo>
                    <a:lnTo>
                      <a:pt x="172" y="147"/>
                    </a:lnTo>
                    <a:lnTo>
                      <a:pt x="171" y="144"/>
                    </a:lnTo>
                    <a:lnTo>
                      <a:pt x="167" y="137"/>
                    </a:lnTo>
                    <a:lnTo>
                      <a:pt x="163" y="132"/>
                    </a:lnTo>
                    <a:lnTo>
                      <a:pt x="158" y="126"/>
                    </a:lnTo>
                    <a:lnTo>
                      <a:pt x="153" y="121"/>
                    </a:lnTo>
                    <a:lnTo>
                      <a:pt x="142" y="112"/>
                    </a:lnTo>
                    <a:lnTo>
                      <a:pt x="130" y="104"/>
                    </a:lnTo>
                    <a:lnTo>
                      <a:pt x="116" y="98"/>
                    </a:lnTo>
                    <a:lnTo>
                      <a:pt x="102" y="92"/>
                    </a:lnTo>
                    <a:lnTo>
                      <a:pt x="87" y="88"/>
                    </a:lnTo>
                    <a:lnTo>
                      <a:pt x="73" y="85"/>
                    </a:lnTo>
                    <a:lnTo>
                      <a:pt x="46" y="81"/>
                    </a:lnTo>
                    <a:lnTo>
                      <a:pt x="22" y="80"/>
                    </a:lnTo>
                    <a:lnTo>
                      <a:pt x="6" y="80"/>
                    </a:lnTo>
                    <a:lnTo>
                      <a:pt x="0" y="80"/>
                    </a:lnTo>
                    <a:lnTo>
                      <a:pt x="79" y="5"/>
                    </a:lnTo>
                    <a:lnTo>
                      <a:pt x="93" y="3"/>
                    </a:lnTo>
                    <a:lnTo>
                      <a:pt x="107" y="2"/>
                    </a:lnTo>
                    <a:lnTo>
                      <a:pt x="121" y="2"/>
                    </a:lnTo>
                    <a:lnTo>
                      <a:pt x="133" y="2"/>
                    </a:lnTo>
                    <a:lnTo>
                      <a:pt x="159" y="5"/>
                    </a:lnTo>
                    <a:lnTo>
                      <a:pt x="185" y="10"/>
                    </a:lnTo>
                    <a:lnTo>
                      <a:pt x="209" y="14"/>
                    </a:lnTo>
                    <a:lnTo>
                      <a:pt x="233" y="15"/>
                    </a:lnTo>
                    <a:lnTo>
                      <a:pt x="244" y="15"/>
                    </a:lnTo>
                    <a:lnTo>
                      <a:pt x="256" y="14"/>
                    </a:lnTo>
                    <a:lnTo>
                      <a:pt x="268" y="10"/>
                    </a:lnTo>
                    <a:lnTo>
                      <a:pt x="279" y="5"/>
                    </a:lnTo>
                    <a:lnTo>
                      <a:pt x="285" y="3"/>
                    </a:lnTo>
                    <a:lnTo>
                      <a:pt x="292" y="1"/>
                    </a:lnTo>
                    <a:lnTo>
                      <a:pt x="298" y="0"/>
                    </a:lnTo>
                    <a:lnTo>
                      <a:pt x="305" y="0"/>
                    </a:lnTo>
                    <a:lnTo>
                      <a:pt x="319" y="0"/>
                    </a:lnTo>
                    <a:lnTo>
                      <a:pt x="333" y="3"/>
                    </a:lnTo>
                    <a:lnTo>
                      <a:pt x="347" y="8"/>
                    </a:lnTo>
                    <a:lnTo>
                      <a:pt x="360" y="14"/>
                    </a:lnTo>
                    <a:lnTo>
                      <a:pt x="373" y="22"/>
                    </a:lnTo>
                    <a:lnTo>
                      <a:pt x="383" y="31"/>
                    </a:lnTo>
                    <a:lnTo>
                      <a:pt x="393" y="42"/>
                    </a:lnTo>
                    <a:lnTo>
                      <a:pt x="400" y="53"/>
                    </a:lnTo>
                    <a:lnTo>
                      <a:pt x="402" y="59"/>
                    </a:lnTo>
                    <a:lnTo>
                      <a:pt x="403" y="65"/>
                    </a:lnTo>
                    <a:lnTo>
                      <a:pt x="404" y="72"/>
                    </a:lnTo>
                    <a:lnTo>
                      <a:pt x="406" y="78"/>
                    </a:lnTo>
                    <a:lnTo>
                      <a:pt x="404" y="84"/>
                    </a:lnTo>
                    <a:lnTo>
                      <a:pt x="403" y="91"/>
                    </a:lnTo>
                    <a:lnTo>
                      <a:pt x="401" y="97"/>
                    </a:lnTo>
                    <a:lnTo>
                      <a:pt x="397" y="102"/>
                    </a:lnTo>
                    <a:lnTo>
                      <a:pt x="393" y="109"/>
                    </a:lnTo>
                    <a:lnTo>
                      <a:pt x="387" y="115"/>
                    </a:lnTo>
                    <a:lnTo>
                      <a:pt x="380" y="121"/>
                    </a:lnTo>
                    <a:lnTo>
                      <a:pt x="372" y="1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195"/>
              <p:cNvSpPr/>
              <p:nvPr/>
            </p:nvSpPr>
            <p:spPr>
              <a:xfrm>
                <a:off x="6244920" y="4606920"/>
                <a:ext cx="34200" cy="126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35" h="84">
                    <a:moveTo>
                      <a:pt x="170" y="6"/>
                    </a:moveTo>
                    <a:lnTo>
                      <a:pt x="124" y="17"/>
                    </a:lnTo>
                    <a:lnTo>
                      <a:pt x="81" y="30"/>
                    </a:lnTo>
                    <a:lnTo>
                      <a:pt x="62" y="37"/>
                    </a:lnTo>
                    <a:lnTo>
                      <a:pt x="45" y="43"/>
                    </a:lnTo>
                    <a:lnTo>
                      <a:pt x="30" y="50"/>
                    </a:lnTo>
                    <a:lnTo>
                      <a:pt x="18" y="56"/>
                    </a:lnTo>
                    <a:lnTo>
                      <a:pt x="9" y="62"/>
                    </a:lnTo>
                    <a:lnTo>
                      <a:pt x="3" y="66"/>
                    </a:lnTo>
                    <a:lnTo>
                      <a:pt x="1" y="70"/>
                    </a:lnTo>
                    <a:lnTo>
                      <a:pt x="0" y="72"/>
                    </a:lnTo>
                    <a:lnTo>
                      <a:pt x="1" y="73"/>
                    </a:lnTo>
                    <a:lnTo>
                      <a:pt x="3" y="76"/>
                    </a:lnTo>
                    <a:lnTo>
                      <a:pt x="10" y="79"/>
                    </a:lnTo>
                    <a:lnTo>
                      <a:pt x="23" y="82"/>
                    </a:lnTo>
                    <a:lnTo>
                      <a:pt x="40" y="84"/>
                    </a:lnTo>
                    <a:lnTo>
                      <a:pt x="63" y="84"/>
                    </a:lnTo>
                    <a:lnTo>
                      <a:pt x="89" y="83"/>
                    </a:lnTo>
                    <a:lnTo>
                      <a:pt x="114" y="79"/>
                    </a:lnTo>
                    <a:lnTo>
                      <a:pt x="137" y="75"/>
                    </a:lnTo>
                    <a:lnTo>
                      <a:pt x="158" y="68"/>
                    </a:lnTo>
                    <a:lnTo>
                      <a:pt x="178" y="59"/>
                    </a:lnTo>
                    <a:lnTo>
                      <a:pt x="195" y="51"/>
                    </a:lnTo>
                    <a:lnTo>
                      <a:pt x="209" y="42"/>
                    </a:lnTo>
                    <a:lnTo>
                      <a:pt x="221" y="34"/>
                    </a:lnTo>
                    <a:lnTo>
                      <a:pt x="229" y="24"/>
                    </a:lnTo>
                    <a:lnTo>
                      <a:pt x="235" y="17"/>
                    </a:lnTo>
                    <a:lnTo>
                      <a:pt x="235" y="14"/>
                    </a:lnTo>
                    <a:lnTo>
                      <a:pt x="235" y="10"/>
                    </a:lnTo>
                    <a:lnTo>
                      <a:pt x="234" y="7"/>
                    </a:lnTo>
                    <a:lnTo>
                      <a:pt x="233" y="5"/>
                    </a:lnTo>
                    <a:lnTo>
                      <a:pt x="229" y="3"/>
                    </a:lnTo>
                    <a:lnTo>
                      <a:pt x="225" y="1"/>
                    </a:lnTo>
                    <a:lnTo>
                      <a:pt x="219" y="1"/>
                    </a:lnTo>
                    <a:lnTo>
                      <a:pt x="212" y="0"/>
                    </a:lnTo>
                    <a:lnTo>
                      <a:pt x="193" y="2"/>
                    </a:lnTo>
                    <a:lnTo>
                      <a:pt x="17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196"/>
              <p:cNvSpPr/>
              <p:nvPr/>
            </p:nvSpPr>
            <p:spPr>
              <a:xfrm>
                <a:off x="6244920" y="4606920"/>
                <a:ext cx="34200" cy="126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35" h="84">
                    <a:moveTo>
                      <a:pt x="170" y="6"/>
                    </a:moveTo>
                    <a:lnTo>
                      <a:pt x="124" y="17"/>
                    </a:lnTo>
                    <a:lnTo>
                      <a:pt x="81" y="30"/>
                    </a:lnTo>
                    <a:lnTo>
                      <a:pt x="62" y="37"/>
                    </a:lnTo>
                    <a:lnTo>
                      <a:pt x="45" y="43"/>
                    </a:lnTo>
                    <a:lnTo>
                      <a:pt x="30" y="50"/>
                    </a:lnTo>
                    <a:lnTo>
                      <a:pt x="18" y="56"/>
                    </a:lnTo>
                    <a:lnTo>
                      <a:pt x="9" y="62"/>
                    </a:lnTo>
                    <a:lnTo>
                      <a:pt x="3" y="66"/>
                    </a:lnTo>
                    <a:lnTo>
                      <a:pt x="1" y="70"/>
                    </a:lnTo>
                    <a:lnTo>
                      <a:pt x="0" y="72"/>
                    </a:lnTo>
                    <a:lnTo>
                      <a:pt x="1" y="73"/>
                    </a:lnTo>
                    <a:lnTo>
                      <a:pt x="3" y="76"/>
                    </a:lnTo>
                    <a:lnTo>
                      <a:pt x="10" y="79"/>
                    </a:lnTo>
                    <a:lnTo>
                      <a:pt x="23" y="82"/>
                    </a:lnTo>
                    <a:lnTo>
                      <a:pt x="40" y="84"/>
                    </a:lnTo>
                    <a:lnTo>
                      <a:pt x="63" y="84"/>
                    </a:lnTo>
                    <a:lnTo>
                      <a:pt x="89" y="83"/>
                    </a:lnTo>
                    <a:lnTo>
                      <a:pt x="114" y="79"/>
                    </a:lnTo>
                    <a:lnTo>
                      <a:pt x="137" y="75"/>
                    </a:lnTo>
                    <a:lnTo>
                      <a:pt x="158" y="68"/>
                    </a:lnTo>
                    <a:lnTo>
                      <a:pt x="178" y="59"/>
                    </a:lnTo>
                    <a:lnTo>
                      <a:pt x="195" y="51"/>
                    </a:lnTo>
                    <a:lnTo>
                      <a:pt x="209" y="42"/>
                    </a:lnTo>
                    <a:lnTo>
                      <a:pt x="221" y="34"/>
                    </a:lnTo>
                    <a:lnTo>
                      <a:pt x="229" y="24"/>
                    </a:lnTo>
                    <a:lnTo>
                      <a:pt x="235" y="17"/>
                    </a:lnTo>
                    <a:lnTo>
                      <a:pt x="235" y="14"/>
                    </a:lnTo>
                    <a:lnTo>
                      <a:pt x="235" y="10"/>
                    </a:lnTo>
                    <a:lnTo>
                      <a:pt x="234" y="7"/>
                    </a:lnTo>
                    <a:lnTo>
                      <a:pt x="233" y="5"/>
                    </a:lnTo>
                    <a:lnTo>
                      <a:pt x="229" y="3"/>
                    </a:lnTo>
                    <a:lnTo>
                      <a:pt x="225" y="1"/>
                    </a:lnTo>
                    <a:lnTo>
                      <a:pt x="219" y="1"/>
                    </a:lnTo>
                    <a:lnTo>
                      <a:pt x="212" y="0"/>
                    </a:lnTo>
                    <a:lnTo>
                      <a:pt x="193" y="2"/>
                    </a:lnTo>
                    <a:lnTo>
                      <a:pt x="17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197"/>
              <p:cNvSpPr/>
              <p:nvPr/>
            </p:nvSpPr>
            <p:spPr>
              <a:xfrm>
                <a:off x="6242040" y="4576680"/>
                <a:ext cx="41040" cy="280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84" h="167">
                    <a:moveTo>
                      <a:pt x="23" y="152"/>
                    </a:moveTo>
                    <a:lnTo>
                      <a:pt x="32" y="158"/>
                    </a:lnTo>
                    <a:lnTo>
                      <a:pt x="41" y="162"/>
                    </a:lnTo>
                    <a:lnTo>
                      <a:pt x="49" y="165"/>
                    </a:lnTo>
                    <a:lnTo>
                      <a:pt x="57" y="166"/>
                    </a:lnTo>
                    <a:lnTo>
                      <a:pt x="65" y="167"/>
                    </a:lnTo>
                    <a:lnTo>
                      <a:pt x="74" y="166"/>
                    </a:lnTo>
                    <a:lnTo>
                      <a:pt x="82" y="165"/>
                    </a:lnTo>
                    <a:lnTo>
                      <a:pt x="90" y="164"/>
                    </a:lnTo>
                    <a:lnTo>
                      <a:pt x="105" y="157"/>
                    </a:lnTo>
                    <a:lnTo>
                      <a:pt x="119" y="149"/>
                    </a:lnTo>
                    <a:lnTo>
                      <a:pt x="133" y="139"/>
                    </a:lnTo>
                    <a:lnTo>
                      <a:pt x="146" y="129"/>
                    </a:lnTo>
                    <a:lnTo>
                      <a:pt x="168" y="108"/>
                    </a:lnTo>
                    <a:lnTo>
                      <a:pt x="187" y="91"/>
                    </a:lnTo>
                    <a:lnTo>
                      <a:pt x="195" y="86"/>
                    </a:lnTo>
                    <a:lnTo>
                      <a:pt x="201" y="84"/>
                    </a:lnTo>
                    <a:lnTo>
                      <a:pt x="204" y="84"/>
                    </a:lnTo>
                    <a:lnTo>
                      <a:pt x="207" y="86"/>
                    </a:lnTo>
                    <a:lnTo>
                      <a:pt x="208" y="88"/>
                    </a:lnTo>
                    <a:lnTo>
                      <a:pt x="210" y="91"/>
                    </a:lnTo>
                    <a:lnTo>
                      <a:pt x="211" y="96"/>
                    </a:lnTo>
                    <a:lnTo>
                      <a:pt x="214" y="98"/>
                    </a:lnTo>
                    <a:lnTo>
                      <a:pt x="217" y="101"/>
                    </a:lnTo>
                    <a:lnTo>
                      <a:pt x="220" y="101"/>
                    </a:lnTo>
                    <a:lnTo>
                      <a:pt x="223" y="102"/>
                    </a:lnTo>
                    <a:lnTo>
                      <a:pt x="228" y="101"/>
                    </a:lnTo>
                    <a:lnTo>
                      <a:pt x="231" y="100"/>
                    </a:lnTo>
                    <a:lnTo>
                      <a:pt x="236" y="97"/>
                    </a:lnTo>
                    <a:lnTo>
                      <a:pt x="245" y="91"/>
                    </a:lnTo>
                    <a:lnTo>
                      <a:pt x="255" y="83"/>
                    </a:lnTo>
                    <a:lnTo>
                      <a:pt x="263" y="74"/>
                    </a:lnTo>
                    <a:lnTo>
                      <a:pt x="271" y="63"/>
                    </a:lnTo>
                    <a:lnTo>
                      <a:pt x="277" y="52"/>
                    </a:lnTo>
                    <a:lnTo>
                      <a:pt x="281" y="41"/>
                    </a:lnTo>
                    <a:lnTo>
                      <a:pt x="283" y="35"/>
                    </a:lnTo>
                    <a:lnTo>
                      <a:pt x="284" y="31"/>
                    </a:lnTo>
                    <a:lnTo>
                      <a:pt x="284" y="26"/>
                    </a:lnTo>
                    <a:lnTo>
                      <a:pt x="283" y="20"/>
                    </a:lnTo>
                    <a:lnTo>
                      <a:pt x="280" y="17"/>
                    </a:lnTo>
                    <a:lnTo>
                      <a:pt x="278" y="12"/>
                    </a:lnTo>
                    <a:lnTo>
                      <a:pt x="274" y="9"/>
                    </a:lnTo>
                    <a:lnTo>
                      <a:pt x="270" y="6"/>
                    </a:lnTo>
                    <a:lnTo>
                      <a:pt x="264" y="4"/>
                    </a:lnTo>
                    <a:lnTo>
                      <a:pt x="257" y="2"/>
                    </a:lnTo>
                    <a:lnTo>
                      <a:pt x="249" y="0"/>
                    </a:lnTo>
                    <a:lnTo>
                      <a:pt x="239" y="0"/>
                    </a:lnTo>
                    <a:lnTo>
                      <a:pt x="218" y="0"/>
                    </a:lnTo>
                    <a:lnTo>
                      <a:pt x="195" y="4"/>
                    </a:lnTo>
                    <a:lnTo>
                      <a:pt x="172" y="9"/>
                    </a:lnTo>
                    <a:lnTo>
                      <a:pt x="147" y="16"/>
                    </a:lnTo>
                    <a:lnTo>
                      <a:pt x="123" y="23"/>
                    </a:lnTo>
                    <a:lnTo>
                      <a:pt x="99" y="32"/>
                    </a:lnTo>
                    <a:lnTo>
                      <a:pt x="77" y="42"/>
                    </a:lnTo>
                    <a:lnTo>
                      <a:pt x="56" y="54"/>
                    </a:lnTo>
                    <a:lnTo>
                      <a:pt x="39" y="66"/>
                    </a:lnTo>
                    <a:lnTo>
                      <a:pt x="22" y="77"/>
                    </a:lnTo>
                    <a:lnTo>
                      <a:pt x="16" y="84"/>
                    </a:lnTo>
                    <a:lnTo>
                      <a:pt x="10" y="90"/>
                    </a:lnTo>
                    <a:lnTo>
                      <a:pt x="6" y="97"/>
                    </a:lnTo>
                    <a:lnTo>
                      <a:pt x="2" y="103"/>
                    </a:lnTo>
                    <a:lnTo>
                      <a:pt x="1" y="110"/>
                    </a:lnTo>
                    <a:lnTo>
                      <a:pt x="0" y="116"/>
                    </a:lnTo>
                    <a:lnTo>
                      <a:pt x="0" y="122"/>
                    </a:lnTo>
                    <a:lnTo>
                      <a:pt x="1" y="129"/>
                    </a:lnTo>
                    <a:lnTo>
                      <a:pt x="5" y="135"/>
                    </a:lnTo>
                    <a:lnTo>
                      <a:pt x="9" y="141"/>
                    </a:lnTo>
                    <a:lnTo>
                      <a:pt x="15" y="146"/>
                    </a:lnTo>
                    <a:lnTo>
                      <a:pt x="23" y="1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198"/>
              <p:cNvSpPr/>
              <p:nvPr/>
            </p:nvSpPr>
            <p:spPr>
              <a:xfrm>
                <a:off x="6242040" y="4576680"/>
                <a:ext cx="41040" cy="280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84" h="167">
                    <a:moveTo>
                      <a:pt x="23" y="152"/>
                    </a:moveTo>
                    <a:lnTo>
                      <a:pt x="32" y="158"/>
                    </a:lnTo>
                    <a:lnTo>
                      <a:pt x="41" y="162"/>
                    </a:lnTo>
                    <a:lnTo>
                      <a:pt x="49" y="165"/>
                    </a:lnTo>
                    <a:lnTo>
                      <a:pt x="57" y="166"/>
                    </a:lnTo>
                    <a:lnTo>
                      <a:pt x="65" y="167"/>
                    </a:lnTo>
                    <a:lnTo>
                      <a:pt x="74" y="166"/>
                    </a:lnTo>
                    <a:lnTo>
                      <a:pt x="82" y="165"/>
                    </a:lnTo>
                    <a:lnTo>
                      <a:pt x="90" y="164"/>
                    </a:lnTo>
                    <a:lnTo>
                      <a:pt x="105" y="157"/>
                    </a:lnTo>
                    <a:lnTo>
                      <a:pt x="119" y="149"/>
                    </a:lnTo>
                    <a:lnTo>
                      <a:pt x="133" y="139"/>
                    </a:lnTo>
                    <a:lnTo>
                      <a:pt x="146" y="129"/>
                    </a:lnTo>
                    <a:lnTo>
                      <a:pt x="168" y="108"/>
                    </a:lnTo>
                    <a:lnTo>
                      <a:pt x="187" y="91"/>
                    </a:lnTo>
                    <a:lnTo>
                      <a:pt x="195" y="86"/>
                    </a:lnTo>
                    <a:lnTo>
                      <a:pt x="201" y="84"/>
                    </a:lnTo>
                    <a:lnTo>
                      <a:pt x="204" y="84"/>
                    </a:lnTo>
                    <a:lnTo>
                      <a:pt x="207" y="86"/>
                    </a:lnTo>
                    <a:lnTo>
                      <a:pt x="208" y="88"/>
                    </a:lnTo>
                    <a:lnTo>
                      <a:pt x="210" y="91"/>
                    </a:lnTo>
                    <a:lnTo>
                      <a:pt x="211" y="96"/>
                    </a:lnTo>
                    <a:lnTo>
                      <a:pt x="214" y="98"/>
                    </a:lnTo>
                    <a:lnTo>
                      <a:pt x="217" y="101"/>
                    </a:lnTo>
                    <a:lnTo>
                      <a:pt x="220" y="101"/>
                    </a:lnTo>
                    <a:lnTo>
                      <a:pt x="223" y="102"/>
                    </a:lnTo>
                    <a:lnTo>
                      <a:pt x="228" y="101"/>
                    </a:lnTo>
                    <a:lnTo>
                      <a:pt x="231" y="100"/>
                    </a:lnTo>
                    <a:lnTo>
                      <a:pt x="236" y="97"/>
                    </a:lnTo>
                    <a:lnTo>
                      <a:pt x="245" y="91"/>
                    </a:lnTo>
                    <a:lnTo>
                      <a:pt x="255" y="83"/>
                    </a:lnTo>
                    <a:lnTo>
                      <a:pt x="263" y="74"/>
                    </a:lnTo>
                    <a:lnTo>
                      <a:pt x="271" y="63"/>
                    </a:lnTo>
                    <a:lnTo>
                      <a:pt x="277" y="52"/>
                    </a:lnTo>
                    <a:lnTo>
                      <a:pt x="281" y="41"/>
                    </a:lnTo>
                    <a:lnTo>
                      <a:pt x="283" y="35"/>
                    </a:lnTo>
                    <a:lnTo>
                      <a:pt x="284" y="31"/>
                    </a:lnTo>
                    <a:lnTo>
                      <a:pt x="284" y="26"/>
                    </a:lnTo>
                    <a:lnTo>
                      <a:pt x="283" y="20"/>
                    </a:lnTo>
                    <a:lnTo>
                      <a:pt x="280" y="17"/>
                    </a:lnTo>
                    <a:lnTo>
                      <a:pt x="278" y="12"/>
                    </a:lnTo>
                    <a:lnTo>
                      <a:pt x="274" y="9"/>
                    </a:lnTo>
                    <a:lnTo>
                      <a:pt x="270" y="6"/>
                    </a:lnTo>
                    <a:lnTo>
                      <a:pt x="264" y="4"/>
                    </a:lnTo>
                    <a:lnTo>
                      <a:pt x="257" y="2"/>
                    </a:lnTo>
                    <a:lnTo>
                      <a:pt x="249" y="0"/>
                    </a:lnTo>
                    <a:lnTo>
                      <a:pt x="239" y="0"/>
                    </a:lnTo>
                    <a:lnTo>
                      <a:pt x="218" y="0"/>
                    </a:lnTo>
                    <a:lnTo>
                      <a:pt x="195" y="4"/>
                    </a:lnTo>
                    <a:lnTo>
                      <a:pt x="172" y="9"/>
                    </a:lnTo>
                    <a:lnTo>
                      <a:pt x="147" y="16"/>
                    </a:lnTo>
                    <a:lnTo>
                      <a:pt x="123" y="23"/>
                    </a:lnTo>
                    <a:lnTo>
                      <a:pt x="99" y="32"/>
                    </a:lnTo>
                    <a:lnTo>
                      <a:pt x="77" y="42"/>
                    </a:lnTo>
                    <a:lnTo>
                      <a:pt x="56" y="54"/>
                    </a:lnTo>
                    <a:lnTo>
                      <a:pt x="39" y="66"/>
                    </a:lnTo>
                    <a:lnTo>
                      <a:pt x="22" y="77"/>
                    </a:lnTo>
                    <a:lnTo>
                      <a:pt x="16" y="84"/>
                    </a:lnTo>
                    <a:lnTo>
                      <a:pt x="10" y="90"/>
                    </a:lnTo>
                    <a:lnTo>
                      <a:pt x="6" y="97"/>
                    </a:lnTo>
                    <a:lnTo>
                      <a:pt x="2" y="103"/>
                    </a:lnTo>
                    <a:lnTo>
                      <a:pt x="1" y="110"/>
                    </a:lnTo>
                    <a:lnTo>
                      <a:pt x="0" y="116"/>
                    </a:lnTo>
                    <a:lnTo>
                      <a:pt x="0" y="122"/>
                    </a:lnTo>
                    <a:lnTo>
                      <a:pt x="1" y="129"/>
                    </a:lnTo>
                    <a:lnTo>
                      <a:pt x="5" y="135"/>
                    </a:lnTo>
                    <a:lnTo>
                      <a:pt x="9" y="141"/>
                    </a:lnTo>
                    <a:lnTo>
                      <a:pt x="15" y="146"/>
                    </a:lnTo>
                    <a:lnTo>
                      <a:pt x="23" y="1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199"/>
              <p:cNvSpPr/>
              <p:nvPr/>
            </p:nvSpPr>
            <p:spPr>
              <a:xfrm>
                <a:off x="6211800" y="4551480"/>
                <a:ext cx="37440" cy="28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57" h="173">
                    <a:moveTo>
                      <a:pt x="163" y="0"/>
                    </a:moveTo>
                    <a:lnTo>
                      <a:pt x="131" y="64"/>
                    </a:lnTo>
                    <a:lnTo>
                      <a:pt x="70" y="64"/>
                    </a:lnTo>
                    <a:lnTo>
                      <a:pt x="54" y="77"/>
                    </a:lnTo>
                    <a:lnTo>
                      <a:pt x="39" y="91"/>
                    </a:lnTo>
                    <a:lnTo>
                      <a:pt x="26" y="103"/>
                    </a:lnTo>
                    <a:lnTo>
                      <a:pt x="15" y="114"/>
                    </a:lnTo>
                    <a:lnTo>
                      <a:pt x="8" y="125"/>
                    </a:lnTo>
                    <a:lnTo>
                      <a:pt x="3" y="134"/>
                    </a:lnTo>
                    <a:lnTo>
                      <a:pt x="1" y="139"/>
                    </a:lnTo>
                    <a:lnTo>
                      <a:pt x="0" y="142"/>
                    </a:lnTo>
                    <a:lnTo>
                      <a:pt x="0" y="147"/>
                    </a:lnTo>
                    <a:lnTo>
                      <a:pt x="1" y="151"/>
                    </a:lnTo>
                    <a:lnTo>
                      <a:pt x="3" y="154"/>
                    </a:lnTo>
                    <a:lnTo>
                      <a:pt x="5" y="158"/>
                    </a:lnTo>
                    <a:lnTo>
                      <a:pt x="8" y="160"/>
                    </a:lnTo>
                    <a:lnTo>
                      <a:pt x="12" y="162"/>
                    </a:lnTo>
                    <a:lnTo>
                      <a:pt x="22" y="167"/>
                    </a:lnTo>
                    <a:lnTo>
                      <a:pt x="36" y="170"/>
                    </a:lnTo>
                    <a:lnTo>
                      <a:pt x="54" y="173"/>
                    </a:lnTo>
                    <a:lnTo>
                      <a:pt x="75" y="173"/>
                    </a:lnTo>
                    <a:lnTo>
                      <a:pt x="101" y="173"/>
                    </a:lnTo>
                    <a:lnTo>
                      <a:pt x="131" y="170"/>
                    </a:lnTo>
                    <a:lnTo>
                      <a:pt x="146" y="168"/>
                    </a:lnTo>
                    <a:lnTo>
                      <a:pt x="160" y="166"/>
                    </a:lnTo>
                    <a:lnTo>
                      <a:pt x="174" y="162"/>
                    </a:lnTo>
                    <a:lnTo>
                      <a:pt x="186" y="159"/>
                    </a:lnTo>
                    <a:lnTo>
                      <a:pt x="198" y="154"/>
                    </a:lnTo>
                    <a:lnTo>
                      <a:pt x="207" y="148"/>
                    </a:lnTo>
                    <a:lnTo>
                      <a:pt x="216" y="142"/>
                    </a:lnTo>
                    <a:lnTo>
                      <a:pt x="224" y="135"/>
                    </a:lnTo>
                    <a:lnTo>
                      <a:pt x="233" y="128"/>
                    </a:lnTo>
                    <a:lnTo>
                      <a:pt x="239" y="121"/>
                    </a:lnTo>
                    <a:lnTo>
                      <a:pt x="243" y="114"/>
                    </a:lnTo>
                    <a:lnTo>
                      <a:pt x="248" y="106"/>
                    </a:lnTo>
                    <a:lnTo>
                      <a:pt x="251" y="99"/>
                    </a:lnTo>
                    <a:lnTo>
                      <a:pt x="254" y="91"/>
                    </a:lnTo>
                    <a:lnTo>
                      <a:pt x="256" y="83"/>
                    </a:lnTo>
                    <a:lnTo>
                      <a:pt x="257" y="75"/>
                    </a:lnTo>
                    <a:lnTo>
                      <a:pt x="257" y="66"/>
                    </a:lnTo>
                    <a:lnTo>
                      <a:pt x="256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48" y="37"/>
                    </a:lnTo>
                    <a:lnTo>
                      <a:pt x="244" y="30"/>
                    </a:lnTo>
                    <a:lnTo>
                      <a:pt x="240" y="24"/>
                    </a:lnTo>
                    <a:lnTo>
                      <a:pt x="234" y="19"/>
                    </a:lnTo>
                    <a:lnTo>
                      <a:pt x="227" y="14"/>
                    </a:lnTo>
                    <a:lnTo>
                      <a:pt x="220" y="9"/>
                    </a:lnTo>
                    <a:lnTo>
                      <a:pt x="212" y="6"/>
                    </a:lnTo>
                    <a:lnTo>
                      <a:pt x="203" y="3"/>
                    </a:lnTo>
                    <a:lnTo>
                      <a:pt x="194" y="1"/>
                    </a:lnTo>
                    <a:lnTo>
                      <a:pt x="185" y="0"/>
                    </a:lnTo>
                    <a:lnTo>
                      <a:pt x="174" y="0"/>
                    </a:lnTo>
                    <a:lnTo>
                      <a:pt x="1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200"/>
              <p:cNvSpPr/>
              <p:nvPr/>
            </p:nvSpPr>
            <p:spPr>
              <a:xfrm>
                <a:off x="6211800" y="4551480"/>
                <a:ext cx="37440" cy="28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57" h="173">
                    <a:moveTo>
                      <a:pt x="163" y="0"/>
                    </a:moveTo>
                    <a:lnTo>
                      <a:pt x="131" y="64"/>
                    </a:lnTo>
                    <a:lnTo>
                      <a:pt x="70" y="64"/>
                    </a:lnTo>
                    <a:lnTo>
                      <a:pt x="54" y="77"/>
                    </a:lnTo>
                    <a:lnTo>
                      <a:pt x="39" y="91"/>
                    </a:lnTo>
                    <a:lnTo>
                      <a:pt x="26" y="103"/>
                    </a:lnTo>
                    <a:lnTo>
                      <a:pt x="15" y="114"/>
                    </a:lnTo>
                    <a:lnTo>
                      <a:pt x="8" y="125"/>
                    </a:lnTo>
                    <a:lnTo>
                      <a:pt x="3" y="134"/>
                    </a:lnTo>
                    <a:lnTo>
                      <a:pt x="1" y="139"/>
                    </a:lnTo>
                    <a:lnTo>
                      <a:pt x="0" y="142"/>
                    </a:lnTo>
                    <a:lnTo>
                      <a:pt x="0" y="147"/>
                    </a:lnTo>
                    <a:lnTo>
                      <a:pt x="1" y="151"/>
                    </a:lnTo>
                    <a:lnTo>
                      <a:pt x="3" y="154"/>
                    </a:lnTo>
                    <a:lnTo>
                      <a:pt x="5" y="158"/>
                    </a:lnTo>
                    <a:lnTo>
                      <a:pt x="8" y="160"/>
                    </a:lnTo>
                    <a:lnTo>
                      <a:pt x="12" y="162"/>
                    </a:lnTo>
                    <a:lnTo>
                      <a:pt x="22" y="167"/>
                    </a:lnTo>
                    <a:lnTo>
                      <a:pt x="36" y="170"/>
                    </a:lnTo>
                    <a:lnTo>
                      <a:pt x="54" y="173"/>
                    </a:lnTo>
                    <a:lnTo>
                      <a:pt x="75" y="173"/>
                    </a:lnTo>
                    <a:lnTo>
                      <a:pt x="101" y="173"/>
                    </a:lnTo>
                    <a:lnTo>
                      <a:pt x="131" y="170"/>
                    </a:lnTo>
                    <a:lnTo>
                      <a:pt x="146" y="168"/>
                    </a:lnTo>
                    <a:lnTo>
                      <a:pt x="160" y="166"/>
                    </a:lnTo>
                    <a:lnTo>
                      <a:pt x="174" y="162"/>
                    </a:lnTo>
                    <a:lnTo>
                      <a:pt x="186" y="159"/>
                    </a:lnTo>
                    <a:lnTo>
                      <a:pt x="198" y="154"/>
                    </a:lnTo>
                    <a:lnTo>
                      <a:pt x="207" y="148"/>
                    </a:lnTo>
                    <a:lnTo>
                      <a:pt x="216" y="142"/>
                    </a:lnTo>
                    <a:lnTo>
                      <a:pt x="224" y="135"/>
                    </a:lnTo>
                    <a:lnTo>
                      <a:pt x="233" y="128"/>
                    </a:lnTo>
                    <a:lnTo>
                      <a:pt x="239" y="121"/>
                    </a:lnTo>
                    <a:lnTo>
                      <a:pt x="243" y="114"/>
                    </a:lnTo>
                    <a:lnTo>
                      <a:pt x="248" y="106"/>
                    </a:lnTo>
                    <a:lnTo>
                      <a:pt x="251" y="99"/>
                    </a:lnTo>
                    <a:lnTo>
                      <a:pt x="254" y="91"/>
                    </a:lnTo>
                    <a:lnTo>
                      <a:pt x="256" y="83"/>
                    </a:lnTo>
                    <a:lnTo>
                      <a:pt x="257" y="75"/>
                    </a:lnTo>
                    <a:lnTo>
                      <a:pt x="257" y="66"/>
                    </a:lnTo>
                    <a:lnTo>
                      <a:pt x="256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48" y="37"/>
                    </a:lnTo>
                    <a:lnTo>
                      <a:pt x="244" y="30"/>
                    </a:lnTo>
                    <a:lnTo>
                      <a:pt x="240" y="24"/>
                    </a:lnTo>
                    <a:lnTo>
                      <a:pt x="234" y="19"/>
                    </a:lnTo>
                    <a:lnTo>
                      <a:pt x="227" y="14"/>
                    </a:lnTo>
                    <a:lnTo>
                      <a:pt x="220" y="9"/>
                    </a:lnTo>
                    <a:lnTo>
                      <a:pt x="212" y="6"/>
                    </a:lnTo>
                    <a:lnTo>
                      <a:pt x="203" y="3"/>
                    </a:lnTo>
                    <a:lnTo>
                      <a:pt x="194" y="1"/>
                    </a:lnTo>
                    <a:lnTo>
                      <a:pt x="185" y="0"/>
                    </a:lnTo>
                    <a:lnTo>
                      <a:pt x="174" y="0"/>
                    </a:lnTo>
                    <a:lnTo>
                      <a:pt x="163" y="0"/>
                    </a:lnTo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201"/>
              <p:cNvSpPr/>
              <p:nvPr/>
            </p:nvSpPr>
            <p:spPr>
              <a:xfrm>
                <a:off x="6136920" y="4532400"/>
                <a:ext cx="42840" cy="201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85" h="123">
                    <a:moveTo>
                      <a:pt x="106" y="28"/>
                    </a:moveTo>
                    <a:lnTo>
                      <a:pt x="86" y="36"/>
                    </a:lnTo>
                    <a:lnTo>
                      <a:pt x="68" y="44"/>
                    </a:lnTo>
                    <a:lnTo>
                      <a:pt x="52" y="53"/>
                    </a:lnTo>
                    <a:lnTo>
                      <a:pt x="38" y="62"/>
                    </a:lnTo>
                    <a:lnTo>
                      <a:pt x="25" y="71"/>
                    </a:lnTo>
                    <a:lnTo>
                      <a:pt x="16" y="79"/>
                    </a:lnTo>
                    <a:lnTo>
                      <a:pt x="7" y="87"/>
                    </a:lnTo>
                    <a:lnTo>
                      <a:pt x="3" y="94"/>
                    </a:lnTo>
                    <a:lnTo>
                      <a:pt x="2" y="99"/>
                    </a:lnTo>
                    <a:lnTo>
                      <a:pt x="0" y="101"/>
                    </a:lnTo>
                    <a:lnTo>
                      <a:pt x="0" y="105"/>
                    </a:lnTo>
                    <a:lnTo>
                      <a:pt x="2" y="108"/>
                    </a:lnTo>
                    <a:lnTo>
                      <a:pt x="3" y="111"/>
                    </a:lnTo>
                    <a:lnTo>
                      <a:pt x="5" y="113"/>
                    </a:lnTo>
                    <a:lnTo>
                      <a:pt x="7" y="115"/>
                    </a:lnTo>
                    <a:lnTo>
                      <a:pt x="12" y="118"/>
                    </a:lnTo>
                    <a:lnTo>
                      <a:pt x="21" y="120"/>
                    </a:lnTo>
                    <a:lnTo>
                      <a:pt x="35" y="121"/>
                    </a:lnTo>
                    <a:lnTo>
                      <a:pt x="53" y="121"/>
                    </a:lnTo>
                    <a:lnTo>
                      <a:pt x="74" y="119"/>
                    </a:lnTo>
                    <a:lnTo>
                      <a:pt x="96" y="118"/>
                    </a:lnTo>
                    <a:lnTo>
                      <a:pt x="116" y="115"/>
                    </a:lnTo>
                    <a:lnTo>
                      <a:pt x="135" y="115"/>
                    </a:lnTo>
                    <a:lnTo>
                      <a:pt x="151" y="115"/>
                    </a:lnTo>
                    <a:lnTo>
                      <a:pt x="179" y="116"/>
                    </a:lnTo>
                    <a:lnTo>
                      <a:pt x="203" y="119"/>
                    </a:lnTo>
                    <a:lnTo>
                      <a:pt x="221" y="122"/>
                    </a:lnTo>
                    <a:lnTo>
                      <a:pt x="236" y="123"/>
                    </a:lnTo>
                    <a:lnTo>
                      <a:pt x="243" y="123"/>
                    </a:lnTo>
                    <a:lnTo>
                      <a:pt x="249" y="122"/>
                    </a:lnTo>
                    <a:lnTo>
                      <a:pt x="255" y="121"/>
                    </a:lnTo>
                    <a:lnTo>
                      <a:pt x="262" y="119"/>
                    </a:lnTo>
                    <a:lnTo>
                      <a:pt x="267" y="115"/>
                    </a:lnTo>
                    <a:lnTo>
                      <a:pt x="273" y="107"/>
                    </a:lnTo>
                    <a:lnTo>
                      <a:pt x="277" y="98"/>
                    </a:lnTo>
                    <a:lnTo>
                      <a:pt x="282" y="86"/>
                    </a:lnTo>
                    <a:lnTo>
                      <a:pt x="284" y="73"/>
                    </a:lnTo>
                    <a:lnTo>
                      <a:pt x="285" y="59"/>
                    </a:lnTo>
                    <a:lnTo>
                      <a:pt x="285" y="52"/>
                    </a:lnTo>
                    <a:lnTo>
                      <a:pt x="284" y="46"/>
                    </a:lnTo>
                    <a:lnTo>
                      <a:pt x="283" y="39"/>
                    </a:lnTo>
                    <a:lnTo>
                      <a:pt x="281" y="34"/>
                    </a:lnTo>
                    <a:lnTo>
                      <a:pt x="278" y="28"/>
                    </a:lnTo>
                    <a:lnTo>
                      <a:pt x="274" y="22"/>
                    </a:lnTo>
                    <a:lnTo>
                      <a:pt x="269" y="17"/>
                    </a:lnTo>
                    <a:lnTo>
                      <a:pt x="264" y="13"/>
                    </a:lnTo>
                    <a:lnTo>
                      <a:pt x="257" y="8"/>
                    </a:lnTo>
                    <a:lnTo>
                      <a:pt x="250" y="4"/>
                    </a:lnTo>
                    <a:lnTo>
                      <a:pt x="241" y="2"/>
                    </a:lnTo>
                    <a:lnTo>
                      <a:pt x="232" y="1"/>
                    </a:lnTo>
                    <a:lnTo>
                      <a:pt x="220" y="0"/>
                    </a:lnTo>
                    <a:lnTo>
                      <a:pt x="208" y="0"/>
                    </a:lnTo>
                    <a:lnTo>
                      <a:pt x="194" y="2"/>
                    </a:lnTo>
                    <a:lnTo>
                      <a:pt x="180" y="4"/>
                    </a:lnTo>
                    <a:lnTo>
                      <a:pt x="164" y="8"/>
                    </a:lnTo>
                    <a:lnTo>
                      <a:pt x="146" y="13"/>
                    </a:lnTo>
                    <a:lnTo>
                      <a:pt x="127" y="20"/>
                    </a:lnTo>
                    <a:lnTo>
                      <a:pt x="106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202"/>
              <p:cNvSpPr/>
              <p:nvPr/>
            </p:nvSpPr>
            <p:spPr>
              <a:xfrm>
                <a:off x="6136920" y="4532400"/>
                <a:ext cx="42840" cy="201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85" h="123">
                    <a:moveTo>
                      <a:pt x="106" y="28"/>
                    </a:moveTo>
                    <a:lnTo>
                      <a:pt x="86" y="36"/>
                    </a:lnTo>
                    <a:lnTo>
                      <a:pt x="68" y="44"/>
                    </a:lnTo>
                    <a:lnTo>
                      <a:pt x="52" y="53"/>
                    </a:lnTo>
                    <a:lnTo>
                      <a:pt x="38" y="62"/>
                    </a:lnTo>
                    <a:lnTo>
                      <a:pt x="25" y="71"/>
                    </a:lnTo>
                    <a:lnTo>
                      <a:pt x="16" y="79"/>
                    </a:lnTo>
                    <a:lnTo>
                      <a:pt x="7" y="87"/>
                    </a:lnTo>
                    <a:lnTo>
                      <a:pt x="3" y="94"/>
                    </a:lnTo>
                    <a:lnTo>
                      <a:pt x="2" y="99"/>
                    </a:lnTo>
                    <a:lnTo>
                      <a:pt x="0" y="101"/>
                    </a:lnTo>
                    <a:lnTo>
                      <a:pt x="0" y="105"/>
                    </a:lnTo>
                    <a:lnTo>
                      <a:pt x="2" y="108"/>
                    </a:lnTo>
                    <a:lnTo>
                      <a:pt x="3" y="111"/>
                    </a:lnTo>
                    <a:lnTo>
                      <a:pt x="5" y="113"/>
                    </a:lnTo>
                    <a:lnTo>
                      <a:pt x="7" y="115"/>
                    </a:lnTo>
                    <a:lnTo>
                      <a:pt x="12" y="118"/>
                    </a:lnTo>
                    <a:lnTo>
                      <a:pt x="21" y="120"/>
                    </a:lnTo>
                    <a:lnTo>
                      <a:pt x="35" y="121"/>
                    </a:lnTo>
                    <a:lnTo>
                      <a:pt x="53" y="121"/>
                    </a:lnTo>
                    <a:lnTo>
                      <a:pt x="74" y="119"/>
                    </a:lnTo>
                    <a:lnTo>
                      <a:pt x="96" y="118"/>
                    </a:lnTo>
                    <a:lnTo>
                      <a:pt x="116" y="115"/>
                    </a:lnTo>
                    <a:lnTo>
                      <a:pt x="135" y="115"/>
                    </a:lnTo>
                    <a:lnTo>
                      <a:pt x="151" y="115"/>
                    </a:lnTo>
                    <a:lnTo>
                      <a:pt x="179" y="116"/>
                    </a:lnTo>
                    <a:lnTo>
                      <a:pt x="203" y="119"/>
                    </a:lnTo>
                    <a:lnTo>
                      <a:pt x="221" y="122"/>
                    </a:lnTo>
                    <a:lnTo>
                      <a:pt x="236" y="123"/>
                    </a:lnTo>
                    <a:lnTo>
                      <a:pt x="243" y="123"/>
                    </a:lnTo>
                    <a:lnTo>
                      <a:pt x="249" y="122"/>
                    </a:lnTo>
                    <a:lnTo>
                      <a:pt x="255" y="121"/>
                    </a:lnTo>
                    <a:lnTo>
                      <a:pt x="262" y="119"/>
                    </a:lnTo>
                    <a:lnTo>
                      <a:pt x="267" y="115"/>
                    </a:lnTo>
                    <a:lnTo>
                      <a:pt x="273" y="107"/>
                    </a:lnTo>
                    <a:lnTo>
                      <a:pt x="277" y="98"/>
                    </a:lnTo>
                    <a:lnTo>
                      <a:pt x="282" y="86"/>
                    </a:lnTo>
                    <a:lnTo>
                      <a:pt x="284" y="73"/>
                    </a:lnTo>
                    <a:lnTo>
                      <a:pt x="285" y="59"/>
                    </a:lnTo>
                    <a:lnTo>
                      <a:pt x="285" y="52"/>
                    </a:lnTo>
                    <a:lnTo>
                      <a:pt x="284" y="46"/>
                    </a:lnTo>
                    <a:lnTo>
                      <a:pt x="283" y="39"/>
                    </a:lnTo>
                    <a:lnTo>
                      <a:pt x="281" y="34"/>
                    </a:lnTo>
                    <a:lnTo>
                      <a:pt x="278" y="28"/>
                    </a:lnTo>
                    <a:lnTo>
                      <a:pt x="274" y="22"/>
                    </a:lnTo>
                    <a:lnTo>
                      <a:pt x="269" y="17"/>
                    </a:lnTo>
                    <a:lnTo>
                      <a:pt x="264" y="13"/>
                    </a:lnTo>
                    <a:lnTo>
                      <a:pt x="257" y="8"/>
                    </a:lnTo>
                    <a:lnTo>
                      <a:pt x="250" y="4"/>
                    </a:lnTo>
                    <a:lnTo>
                      <a:pt x="241" y="2"/>
                    </a:lnTo>
                    <a:lnTo>
                      <a:pt x="232" y="1"/>
                    </a:lnTo>
                    <a:lnTo>
                      <a:pt x="220" y="0"/>
                    </a:lnTo>
                    <a:lnTo>
                      <a:pt x="208" y="0"/>
                    </a:lnTo>
                    <a:lnTo>
                      <a:pt x="194" y="2"/>
                    </a:lnTo>
                    <a:lnTo>
                      <a:pt x="180" y="4"/>
                    </a:lnTo>
                    <a:lnTo>
                      <a:pt x="164" y="8"/>
                    </a:lnTo>
                    <a:lnTo>
                      <a:pt x="146" y="13"/>
                    </a:lnTo>
                    <a:lnTo>
                      <a:pt x="127" y="20"/>
                    </a:lnTo>
                    <a:lnTo>
                      <a:pt x="106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203"/>
              <p:cNvSpPr/>
              <p:nvPr/>
            </p:nvSpPr>
            <p:spPr>
              <a:xfrm>
                <a:off x="6096240" y="4539240"/>
                <a:ext cx="31320" cy="3636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07" h="221">
                    <a:moveTo>
                      <a:pt x="207" y="50"/>
                    </a:moveTo>
                    <a:lnTo>
                      <a:pt x="97" y="206"/>
                    </a:lnTo>
                    <a:lnTo>
                      <a:pt x="90" y="208"/>
                    </a:lnTo>
                    <a:lnTo>
                      <a:pt x="73" y="214"/>
                    </a:lnTo>
                    <a:lnTo>
                      <a:pt x="61" y="216"/>
                    </a:lnTo>
                    <a:lnTo>
                      <a:pt x="49" y="218"/>
                    </a:lnTo>
                    <a:lnTo>
                      <a:pt x="38" y="221"/>
                    </a:lnTo>
                    <a:lnTo>
                      <a:pt x="26" y="221"/>
                    </a:lnTo>
                    <a:lnTo>
                      <a:pt x="17" y="221"/>
                    </a:lnTo>
                    <a:lnTo>
                      <a:pt x="9" y="218"/>
                    </a:lnTo>
                    <a:lnTo>
                      <a:pt x="5" y="216"/>
                    </a:lnTo>
                    <a:lnTo>
                      <a:pt x="3" y="214"/>
                    </a:lnTo>
                    <a:lnTo>
                      <a:pt x="2" y="210"/>
                    </a:lnTo>
                    <a:lnTo>
                      <a:pt x="0" y="206"/>
                    </a:lnTo>
                    <a:lnTo>
                      <a:pt x="0" y="202"/>
                    </a:lnTo>
                    <a:lnTo>
                      <a:pt x="2" y="196"/>
                    </a:lnTo>
                    <a:lnTo>
                      <a:pt x="5" y="190"/>
                    </a:lnTo>
                    <a:lnTo>
                      <a:pt x="9" y="183"/>
                    </a:lnTo>
                    <a:lnTo>
                      <a:pt x="20" y="166"/>
                    </a:lnTo>
                    <a:lnTo>
                      <a:pt x="37" y="146"/>
                    </a:lnTo>
                    <a:lnTo>
                      <a:pt x="73" y="102"/>
                    </a:lnTo>
                    <a:lnTo>
                      <a:pt x="102" y="63"/>
                    </a:lnTo>
                    <a:lnTo>
                      <a:pt x="115" y="47"/>
                    </a:lnTo>
                    <a:lnTo>
                      <a:pt x="125" y="33"/>
                    </a:lnTo>
                    <a:lnTo>
                      <a:pt x="136" y="21"/>
                    </a:lnTo>
                    <a:lnTo>
                      <a:pt x="145" y="12"/>
                    </a:lnTo>
                    <a:lnTo>
                      <a:pt x="153" y="5"/>
                    </a:lnTo>
                    <a:lnTo>
                      <a:pt x="162" y="1"/>
                    </a:lnTo>
                    <a:lnTo>
                      <a:pt x="165" y="0"/>
                    </a:lnTo>
                    <a:lnTo>
                      <a:pt x="169" y="0"/>
                    </a:lnTo>
                    <a:lnTo>
                      <a:pt x="172" y="1"/>
                    </a:lnTo>
                    <a:lnTo>
                      <a:pt x="176" y="4"/>
                    </a:lnTo>
                    <a:lnTo>
                      <a:pt x="179" y="6"/>
                    </a:lnTo>
                    <a:lnTo>
                      <a:pt x="184" y="9"/>
                    </a:lnTo>
                    <a:lnTo>
                      <a:pt x="187" y="14"/>
                    </a:lnTo>
                    <a:lnTo>
                      <a:pt x="191" y="19"/>
                    </a:lnTo>
                    <a:lnTo>
                      <a:pt x="199" y="33"/>
                    </a:lnTo>
                    <a:lnTo>
                      <a:pt x="207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204"/>
              <p:cNvSpPr/>
              <p:nvPr/>
            </p:nvSpPr>
            <p:spPr>
              <a:xfrm>
                <a:off x="6096240" y="4539240"/>
                <a:ext cx="31320" cy="3636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07" h="221">
                    <a:moveTo>
                      <a:pt x="207" y="50"/>
                    </a:moveTo>
                    <a:lnTo>
                      <a:pt x="97" y="206"/>
                    </a:lnTo>
                    <a:lnTo>
                      <a:pt x="90" y="208"/>
                    </a:lnTo>
                    <a:lnTo>
                      <a:pt x="73" y="214"/>
                    </a:lnTo>
                    <a:lnTo>
                      <a:pt x="61" y="216"/>
                    </a:lnTo>
                    <a:lnTo>
                      <a:pt x="49" y="218"/>
                    </a:lnTo>
                    <a:lnTo>
                      <a:pt x="38" y="221"/>
                    </a:lnTo>
                    <a:lnTo>
                      <a:pt x="26" y="221"/>
                    </a:lnTo>
                    <a:lnTo>
                      <a:pt x="17" y="221"/>
                    </a:lnTo>
                    <a:lnTo>
                      <a:pt x="9" y="218"/>
                    </a:lnTo>
                    <a:lnTo>
                      <a:pt x="5" y="216"/>
                    </a:lnTo>
                    <a:lnTo>
                      <a:pt x="3" y="214"/>
                    </a:lnTo>
                    <a:lnTo>
                      <a:pt x="2" y="210"/>
                    </a:lnTo>
                    <a:lnTo>
                      <a:pt x="0" y="206"/>
                    </a:lnTo>
                    <a:lnTo>
                      <a:pt x="0" y="202"/>
                    </a:lnTo>
                    <a:lnTo>
                      <a:pt x="2" y="196"/>
                    </a:lnTo>
                    <a:lnTo>
                      <a:pt x="5" y="190"/>
                    </a:lnTo>
                    <a:lnTo>
                      <a:pt x="9" y="183"/>
                    </a:lnTo>
                    <a:lnTo>
                      <a:pt x="20" y="166"/>
                    </a:lnTo>
                    <a:lnTo>
                      <a:pt x="37" y="146"/>
                    </a:lnTo>
                    <a:lnTo>
                      <a:pt x="73" y="102"/>
                    </a:lnTo>
                    <a:lnTo>
                      <a:pt x="102" y="63"/>
                    </a:lnTo>
                    <a:lnTo>
                      <a:pt x="115" y="47"/>
                    </a:lnTo>
                    <a:lnTo>
                      <a:pt x="125" y="33"/>
                    </a:lnTo>
                    <a:lnTo>
                      <a:pt x="136" y="21"/>
                    </a:lnTo>
                    <a:lnTo>
                      <a:pt x="145" y="12"/>
                    </a:lnTo>
                    <a:lnTo>
                      <a:pt x="153" y="5"/>
                    </a:lnTo>
                    <a:lnTo>
                      <a:pt x="162" y="1"/>
                    </a:lnTo>
                    <a:lnTo>
                      <a:pt x="165" y="0"/>
                    </a:lnTo>
                    <a:lnTo>
                      <a:pt x="169" y="0"/>
                    </a:lnTo>
                    <a:lnTo>
                      <a:pt x="172" y="1"/>
                    </a:lnTo>
                    <a:lnTo>
                      <a:pt x="176" y="4"/>
                    </a:lnTo>
                    <a:lnTo>
                      <a:pt x="179" y="6"/>
                    </a:lnTo>
                    <a:lnTo>
                      <a:pt x="184" y="9"/>
                    </a:lnTo>
                    <a:lnTo>
                      <a:pt x="187" y="14"/>
                    </a:lnTo>
                    <a:lnTo>
                      <a:pt x="191" y="19"/>
                    </a:lnTo>
                    <a:lnTo>
                      <a:pt x="199" y="33"/>
                    </a:lnTo>
                    <a:lnTo>
                      <a:pt x="207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4" name="Freeform 205"/>
            <p:cNvSpPr/>
            <p:nvPr/>
          </p:nvSpPr>
          <p:spPr>
            <a:xfrm>
              <a:off x="7670520" y="3784320"/>
              <a:ext cx="218520" cy="6840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52" h="422">
                  <a:moveTo>
                    <a:pt x="0" y="206"/>
                  </a:moveTo>
                  <a:lnTo>
                    <a:pt x="24" y="230"/>
                  </a:lnTo>
                  <a:lnTo>
                    <a:pt x="50" y="250"/>
                  </a:lnTo>
                  <a:lnTo>
                    <a:pt x="75" y="268"/>
                  </a:lnTo>
                  <a:lnTo>
                    <a:pt x="98" y="282"/>
                  </a:lnTo>
                  <a:lnTo>
                    <a:pt x="122" y="295"/>
                  </a:lnTo>
                  <a:lnTo>
                    <a:pt x="147" y="306"/>
                  </a:lnTo>
                  <a:lnTo>
                    <a:pt x="171" y="315"/>
                  </a:lnTo>
                  <a:lnTo>
                    <a:pt x="195" y="321"/>
                  </a:lnTo>
                  <a:lnTo>
                    <a:pt x="218" y="327"/>
                  </a:lnTo>
                  <a:lnTo>
                    <a:pt x="243" y="330"/>
                  </a:lnTo>
                  <a:lnTo>
                    <a:pt x="266" y="332"/>
                  </a:lnTo>
                  <a:lnTo>
                    <a:pt x="289" y="334"/>
                  </a:lnTo>
                  <a:lnTo>
                    <a:pt x="336" y="332"/>
                  </a:lnTo>
                  <a:lnTo>
                    <a:pt x="383" y="330"/>
                  </a:lnTo>
                  <a:lnTo>
                    <a:pt x="411" y="329"/>
                  </a:lnTo>
                  <a:lnTo>
                    <a:pt x="438" y="329"/>
                  </a:lnTo>
                  <a:lnTo>
                    <a:pt x="464" y="330"/>
                  </a:lnTo>
                  <a:lnTo>
                    <a:pt x="489" y="331"/>
                  </a:lnTo>
                  <a:lnTo>
                    <a:pt x="514" y="334"/>
                  </a:lnTo>
                  <a:lnTo>
                    <a:pt x="537" y="336"/>
                  </a:lnTo>
                  <a:lnTo>
                    <a:pt x="559" y="341"/>
                  </a:lnTo>
                  <a:lnTo>
                    <a:pt x="581" y="345"/>
                  </a:lnTo>
                  <a:lnTo>
                    <a:pt x="601" y="351"/>
                  </a:lnTo>
                  <a:lnTo>
                    <a:pt x="620" y="357"/>
                  </a:lnTo>
                  <a:lnTo>
                    <a:pt x="638" y="365"/>
                  </a:lnTo>
                  <a:lnTo>
                    <a:pt x="653" y="374"/>
                  </a:lnTo>
                  <a:lnTo>
                    <a:pt x="667" y="384"/>
                  </a:lnTo>
                  <a:lnTo>
                    <a:pt x="678" y="396"/>
                  </a:lnTo>
                  <a:lnTo>
                    <a:pt x="684" y="401"/>
                  </a:lnTo>
                  <a:lnTo>
                    <a:pt x="689" y="408"/>
                  </a:lnTo>
                  <a:lnTo>
                    <a:pt x="694" y="415"/>
                  </a:lnTo>
                  <a:lnTo>
                    <a:pt x="697" y="422"/>
                  </a:lnTo>
                  <a:lnTo>
                    <a:pt x="708" y="405"/>
                  </a:lnTo>
                  <a:lnTo>
                    <a:pt x="718" y="390"/>
                  </a:lnTo>
                  <a:lnTo>
                    <a:pt x="730" y="374"/>
                  </a:lnTo>
                  <a:lnTo>
                    <a:pt x="744" y="360"/>
                  </a:lnTo>
                  <a:lnTo>
                    <a:pt x="758" y="348"/>
                  </a:lnTo>
                  <a:lnTo>
                    <a:pt x="774" y="337"/>
                  </a:lnTo>
                  <a:lnTo>
                    <a:pt x="782" y="332"/>
                  </a:lnTo>
                  <a:lnTo>
                    <a:pt x="791" y="328"/>
                  </a:lnTo>
                  <a:lnTo>
                    <a:pt x="800" y="324"/>
                  </a:lnTo>
                  <a:lnTo>
                    <a:pt x="809" y="322"/>
                  </a:lnTo>
                  <a:lnTo>
                    <a:pt x="871" y="304"/>
                  </a:lnTo>
                  <a:lnTo>
                    <a:pt x="939" y="287"/>
                  </a:lnTo>
                  <a:lnTo>
                    <a:pt x="1014" y="271"/>
                  </a:lnTo>
                  <a:lnTo>
                    <a:pt x="1093" y="254"/>
                  </a:lnTo>
                  <a:lnTo>
                    <a:pt x="1177" y="239"/>
                  </a:lnTo>
                  <a:lnTo>
                    <a:pt x="1265" y="223"/>
                  </a:lnTo>
                  <a:lnTo>
                    <a:pt x="1357" y="207"/>
                  </a:lnTo>
                  <a:lnTo>
                    <a:pt x="1452" y="192"/>
                  </a:lnTo>
                  <a:lnTo>
                    <a:pt x="1439" y="177"/>
                  </a:lnTo>
                  <a:lnTo>
                    <a:pt x="1407" y="146"/>
                  </a:lnTo>
                  <a:lnTo>
                    <a:pt x="1387" y="129"/>
                  </a:lnTo>
                  <a:lnTo>
                    <a:pt x="1366" y="114"/>
                  </a:lnTo>
                  <a:lnTo>
                    <a:pt x="1356" y="108"/>
                  </a:lnTo>
                  <a:lnTo>
                    <a:pt x="1347" y="103"/>
                  </a:lnTo>
                  <a:lnTo>
                    <a:pt x="1337" y="101"/>
                  </a:lnTo>
                  <a:lnTo>
                    <a:pt x="1328" y="100"/>
                  </a:lnTo>
                  <a:lnTo>
                    <a:pt x="1308" y="101"/>
                  </a:lnTo>
                  <a:lnTo>
                    <a:pt x="1284" y="106"/>
                  </a:lnTo>
                  <a:lnTo>
                    <a:pt x="1255" y="111"/>
                  </a:lnTo>
                  <a:lnTo>
                    <a:pt x="1227" y="115"/>
                  </a:lnTo>
                  <a:lnTo>
                    <a:pt x="1212" y="116"/>
                  </a:lnTo>
                  <a:lnTo>
                    <a:pt x="1198" y="115"/>
                  </a:lnTo>
                  <a:lnTo>
                    <a:pt x="1184" y="114"/>
                  </a:lnTo>
                  <a:lnTo>
                    <a:pt x="1170" y="112"/>
                  </a:lnTo>
                  <a:lnTo>
                    <a:pt x="1159" y="107"/>
                  </a:lnTo>
                  <a:lnTo>
                    <a:pt x="1146" y="101"/>
                  </a:lnTo>
                  <a:lnTo>
                    <a:pt x="1141" y="98"/>
                  </a:lnTo>
                  <a:lnTo>
                    <a:pt x="1135" y="93"/>
                  </a:lnTo>
                  <a:lnTo>
                    <a:pt x="1131" y="88"/>
                  </a:lnTo>
                  <a:lnTo>
                    <a:pt x="1126" y="82"/>
                  </a:lnTo>
                  <a:lnTo>
                    <a:pt x="1121" y="77"/>
                  </a:lnTo>
                  <a:lnTo>
                    <a:pt x="1116" y="73"/>
                  </a:lnTo>
                  <a:lnTo>
                    <a:pt x="1111" y="68"/>
                  </a:lnTo>
                  <a:lnTo>
                    <a:pt x="1104" y="66"/>
                  </a:lnTo>
                  <a:lnTo>
                    <a:pt x="1097" y="64"/>
                  </a:lnTo>
                  <a:lnTo>
                    <a:pt x="1090" y="61"/>
                  </a:lnTo>
                  <a:lnTo>
                    <a:pt x="1081" y="60"/>
                  </a:lnTo>
                  <a:lnTo>
                    <a:pt x="1073" y="59"/>
                  </a:lnTo>
                  <a:lnTo>
                    <a:pt x="1056" y="59"/>
                  </a:lnTo>
                  <a:lnTo>
                    <a:pt x="1037" y="61"/>
                  </a:lnTo>
                  <a:lnTo>
                    <a:pt x="1020" y="64"/>
                  </a:lnTo>
                  <a:lnTo>
                    <a:pt x="1001" y="68"/>
                  </a:lnTo>
                  <a:lnTo>
                    <a:pt x="967" y="78"/>
                  </a:lnTo>
                  <a:lnTo>
                    <a:pt x="938" y="88"/>
                  </a:lnTo>
                  <a:lnTo>
                    <a:pt x="918" y="96"/>
                  </a:lnTo>
                  <a:lnTo>
                    <a:pt x="910" y="100"/>
                  </a:lnTo>
                  <a:lnTo>
                    <a:pt x="910" y="106"/>
                  </a:lnTo>
                  <a:lnTo>
                    <a:pt x="907" y="121"/>
                  </a:lnTo>
                  <a:lnTo>
                    <a:pt x="905" y="130"/>
                  </a:lnTo>
                  <a:lnTo>
                    <a:pt x="902" y="141"/>
                  </a:lnTo>
                  <a:lnTo>
                    <a:pt x="897" y="153"/>
                  </a:lnTo>
                  <a:lnTo>
                    <a:pt x="891" y="163"/>
                  </a:lnTo>
                  <a:lnTo>
                    <a:pt x="883" y="174"/>
                  </a:lnTo>
                  <a:lnTo>
                    <a:pt x="872" y="183"/>
                  </a:lnTo>
                  <a:lnTo>
                    <a:pt x="867" y="188"/>
                  </a:lnTo>
                  <a:lnTo>
                    <a:pt x="860" y="191"/>
                  </a:lnTo>
                  <a:lnTo>
                    <a:pt x="852" y="195"/>
                  </a:lnTo>
                  <a:lnTo>
                    <a:pt x="844" y="197"/>
                  </a:lnTo>
                  <a:lnTo>
                    <a:pt x="836" y="199"/>
                  </a:lnTo>
                  <a:lnTo>
                    <a:pt x="827" y="200"/>
                  </a:lnTo>
                  <a:lnTo>
                    <a:pt x="816" y="202"/>
                  </a:lnTo>
                  <a:lnTo>
                    <a:pt x="806" y="202"/>
                  </a:lnTo>
                  <a:lnTo>
                    <a:pt x="794" y="200"/>
                  </a:lnTo>
                  <a:lnTo>
                    <a:pt x="782" y="198"/>
                  </a:lnTo>
                  <a:lnTo>
                    <a:pt x="768" y="196"/>
                  </a:lnTo>
                  <a:lnTo>
                    <a:pt x="754" y="192"/>
                  </a:lnTo>
                  <a:lnTo>
                    <a:pt x="742" y="184"/>
                  </a:lnTo>
                  <a:lnTo>
                    <a:pt x="728" y="177"/>
                  </a:lnTo>
                  <a:lnTo>
                    <a:pt x="715" y="172"/>
                  </a:lnTo>
                  <a:lnTo>
                    <a:pt x="699" y="168"/>
                  </a:lnTo>
                  <a:lnTo>
                    <a:pt x="685" y="164"/>
                  </a:lnTo>
                  <a:lnTo>
                    <a:pt x="671" y="162"/>
                  </a:lnTo>
                  <a:lnTo>
                    <a:pt x="657" y="161"/>
                  </a:lnTo>
                  <a:lnTo>
                    <a:pt x="643" y="160"/>
                  </a:lnTo>
                  <a:lnTo>
                    <a:pt x="589" y="161"/>
                  </a:lnTo>
                  <a:lnTo>
                    <a:pt x="542" y="164"/>
                  </a:lnTo>
                  <a:lnTo>
                    <a:pt x="531" y="164"/>
                  </a:lnTo>
                  <a:lnTo>
                    <a:pt x="522" y="164"/>
                  </a:lnTo>
                  <a:lnTo>
                    <a:pt x="514" y="163"/>
                  </a:lnTo>
                  <a:lnTo>
                    <a:pt x="507" y="162"/>
                  </a:lnTo>
                  <a:lnTo>
                    <a:pt x="500" y="160"/>
                  </a:lnTo>
                  <a:lnTo>
                    <a:pt x="495" y="156"/>
                  </a:lnTo>
                  <a:lnTo>
                    <a:pt x="492" y="153"/>
                  </a:lnTo>
                  <a:lnTo>
                    <a:pt x="488" y="148"/>
                  </a:lnTo>
                  <a:lnTo>
                    <a:pt x="487" y="141"/>
                  </a:lnTo>
                  <a:lnTo>
                    <a:pt x="488" y="134"/>
                  </a:lnTo>
                  <a:lnTo>
                    <a:pt x="489" y="125"/>
                  </a:lnTo>
                  <a:lnTo>
                    <a:pt x="493" y="114"/>
                  </a:lnTo>
                  <a:lnTo>
                    <a:pt x="499" y="101"/>
                  </a:lnTo>
                  <a:lnTo>
                    <a:pt x="504" y="87"/>
                  </a:lnTo>
                  <a:lnTo>
                    <a:pt x="514" y="72"/>
                  </a:lnTo>
                  <a:lnTo>
                    <a:pt x="524" y="53"/>
                  </a:lnTo>
                  <a:lnTo>
                    <a:pt x="523" y="50"/>
                  </a:lnTo>
                  <a:lnTo>
                    <a:pt x="518" y="42"/>
                  </a:lnTo>
                  <a:lnTo>
                    <a:pt x="511" y="31"/>
                  </a:lnTo>
                  <a:lnTo>
                    <a:pt x="501" y="18"/>
                  </a:lnTo>
                  <a:lnTo>
                    <a:pt x="494" y="14"/>
                  </a:lnTo>
                  <a:lnTo>
                    <a:pt x="487" y="8"/>
                  </a:lnTo>
                  <a:lnTo>
                    <a:pt x="480" y="4"/>
                  </a:lnTo>
                  <a:lnTo>
                    <a:pt x="471" y="2"/>
                  </a:lnTo>
                  <a:lnTo>
                    <a:pt x="461" y="0"/>
                  </a:lnTo>
                  <a:lnTo>
                    <a:pt x="452" y="1"/>
                  </a:lnTo>
                  <a:lnTo>
                    <a:pt x="441" y="3"/>
                  </a:lnTo>
                  <a:lnTo>
                    <a:pt x="430" y="8"/>
                  </a:lnTo>
                  <a:lnTo>
                    <a:pt x="417" y="15"/>
                  </a:lnTo>
                  <a:lnTo>
                    <a:pt x="400" y="24"/>
                  </a:lnTo>
                  <a:lnTo>
                    <a:pt x="383" y="36"/>
                  </a:lnTo>
                  <a:lnTo>
                    <a:pt x="363" y="50"/>
                  </a:lnTo>
                  <a:lnTo>
                    <a:pt x="315" y="82"/>
                  </a:lnTo>
                  <a:lnTo>
                    <a:pt x="261" y="116"/>
                  </a:lnTo>
                  <a:lnTo>
                    <a:pt x="232" y="134"/>
                  </a:lnTo>
                  <a:lnTo>
                    <a:pt x="201" y="150"/>
                  </a:lnTo>
                  <a:lnTo>
                    <a:pt x="169" y="164"/>
                  </a:lnTo>
                  <a:lnTo>
                    <a:pt x="136" y="178"/>
                  </a:lnTo>
                  <a:lnTo>
                    <a:pt x="120" y="184"/>
                  </a:lnTo>
                  <a:lnTo>
                    <a:pt x="103" y="189"/>
                  </a:lnTo>
                  <a:lnTo>
                    <a:pt x="86" y="195"/>
                  </a:lnTo>
                  <a:lnTo>
                    <a:pt x="69" y="198"/>
                  </a:lnTo>
                  <a:lnTo>
                    <a:pt x="52" y="202"/>
                  </a:lnTo>
                  <a:lnTo>
                    <a:pt x="35" y="204"/>
                  </a:lnTo>
                  <a:lnTo>
                    <a:pt x="17" y="205"/>
                  </a:lnTo>
                  <a:lnTo>
                    <a:pt x="0" y="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Freeform 206"/>
            <p:cNvSpPr/>
            <p:nvPr/>
          </p:nvSpPr>
          <p:spPr>
            <a:xfrm>
              <a:off x="6426000" y="3810240"/>
              <a:ext cx="358200" cy="15984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375" h="987">
                  <a:moveTo>
                    <a:pt x="916" y="921"/>
                  </a:moveTo>
                  <a:lnTo>
                    <a:pt x="0" y="826"/>
                  </a:lnTo>
                  <a:lnTo>
                    <a:pt x="16" y="801"/>
                  </a:lnTo>
                  <a:lnTo>
                    <a:pt x="31" y="778"/>
                  </a:lnTo>
                  <a:lnTo>
                    <a:pt x="45" y="756"/>
                  </a:lnTo>
                  <a:lnTo>
                    <a:pt x="61" y="737"/>
                  </a:lnTo>
                  <a:lnTo>
                    <a:pt x="75" y="718"/>
                  </a:lnTo>
                  <a:lnTo>
                    <a:pt x="89" y="702"/>
                  </a:lnTo>
                  <a:lnTo>
                    <a:pt x="101" y="687"/>
                  </a:lnTo>
                  <a:lnTo>
                    <a:pt x="115" y="674"/>
                  </a:lnTo>
                  <a:lnTo>
                    <a:pt x="128" y="661"/>
                  </a:lnTo>
                  <a:lnTo>
                    <a:pt x="140" y="651"/>
                  </a:lnTo>
                  <a:lnTo>
                    <a:pt x="153" y="640"/>
                  </a:lnTo>
                  <a:lnTo>
                    <a:pt x="165" y="632"/>
                  </a:lnTo>
                  <a:lnTo>
                    <a:pt x="176" y="624"/>
                  </a:lnTo>
                  <a:lnTo>
                    <a:pt x="188" y="617"/>
                  </a:lnTo>
                  <a:lnTo>
                    <a:pt x="200" y="611"/>
                  </a:lnTo>
                  <a:lnTo>
                    <a:pt x="211" y="605"/>
                  </a:lnTo>
                  <a:lnTo>
                    <a:pt x="233" y="597"/>
                  </a:lnTo>
                  <a:lnTo>
                    <a:pt x="256" y="590"/>
                  </a:lnTo>
                  <a:lnTo>
                    <a:pt x="277" y="583"/>
                  </a:lnTo>
                  <a:lnTo>
                    <a:pt x="299" y="578"/>
                  </a:lnTo>
                  <a:lnTo>
                    <a:pt x="320" y="572"/>
                  </a:lnTo>
                  <a:lnTo>
                    <a:pt x="341" y="565"/>
                  </a:lnTo>
                  <a:lnTo>
                    <a:pt x="363" y="557"/>
                  </a:lnTo>
                  <a:lnTo>
                    <a:pt x="385" y="547"/>
                  </a:lnTo>
                  <a:lnTo>
                    <a:pt x="410" y="534"/>
                  </a:lnTo>
                  <a:lnTo>
                    <a:pt x="434" y="517"/>
                  </a:lnTo>
                  <a:lnTo>
                    <a:pt x="461" y="500"/>
                  </a:lnTo>
                  <a:lnTo>
                    <a:pt x="487" y="480"/>
                  </a:lnTo>
                  <a:lnTo>
                    <a:pt x="514" y="458"/>
                  </a:lnTo>
                  <a:lnTo>
                    <a:pt x="541" y="434"/>
                  </a:lnTo>
                  <a:lnTo>
                    <a:pt x="568" y="411"/>
                  </a:lnTo>
                  <a:lnTo>
                    <a:pt x="593" y="388"/>
                  </a:lnTo>
                  <a:lnTo>
                    <a:pt x="642" y="340"/>
                  </a:lnTo>
                  <a:lnTo>
                    <a:pt x="686" y="298"/>
                  </a:lnTo>
                  <a:lnTo>
                    <a:pt x="719" y="263"/>
                  </a:lnTo>
                  <a:lnTo>
                    <a:pt x="743" y="238"/>
                  </a:lnTo>
                  <a:lnTo>
                    <a:pt x="752" y="231"/>
                  </a:lnTo>
                  <a:lnTo>
                    <a:pt x="761" y="225"/>
                  </a:lnTo>
                  <a:lnTo>
                    <a:pt x="771" y="222"/>
                  </a:lnTo>
                  <a:lnTo>
                    <a:pt x="780" y="219"/>
                  </a:lnTo>
                  <a:lnTo>
                    <a:pt x="800" y="216"/>
                  </a:lnTo>
                  <a:lnTo>
                    <a:pt x="821" y="212"/>
                  </a:lnTo>
                  <a:lnTo>
                    <a:pt x="833" y="210"/>
                  </a:lnTo>
                  <a:lnTo>
                    <a:pt x="843" y="205"/>
                  </a:lnTo>
                  <a:lnTo>
                    <a:pt x="855" y="200"/>
                  </a:lnTo>
                  <a:lnTo>
                    <a:pt x="867" y="191"/>
                  </a:lnTo>
                  <a:lnTo>
                    <a:pt x="877" y="181"/>
                  </a:lnTo>
                  <a:lnTo>
                    <a:pt x="889" y="167"/>
                  </a:lnTo>
                  <a:lnTo>
                    <a:pt x="902" y="151"/>
                  </a:lnTo>
                  <a:lnTo>
                    <a:pt x="913" y="130"/>
                  </a:lnTo>
                  <a:lnTo>
                    <a:pt x="924" y="110"/>
                  </a:lnTo>
                  <a:lnTo>
                    <a:pt x="934" y="92"/>
                  </a:lnTo>
                  <a:lnTo>
                    <a:pt x="947" y="75"/>
                  </a:lnTo>
                  <a:lnTo>
                    <a:pt x="960" y="58"/>
                  </a:lnTo>
                  <a:lnTo>
                    <a:pt x="988" y="28"/>
                  </a:lnTo>
                  <a:lnTo>
                    <a:pt x="1016" y="0"/>
                  </a:lnTo>
                  <a:lnTo>
                    <a:pt x="1192" y="37"/>
                  </a:lnTo>
                  <a:lnTo>
                    <a:pt x="1192" y="49"/>
                  </a:lnTo>
                  <a:lnTo>
                    <a:pt x="1194" y="62"/>
                  </a:lnTo>
                  <a:lnTo>
                    <a:pt x="1195" y="72"/>
                  </a:lnTo>
                  <a:lnTo>
                    <a:pt x="1197" y="83"/>
                  </a:lnTo>
                  <a:lnTo>
                    <a:pt x="1199" y="93"/>
                  </a:lnTo>
                  <a:lnTo>
                    <a:pt x="1203" y="103"/>
                  </a:lnTo>
                  <a:lnTo>
                    <a:pt x="1206" y="112"/>
                  </a:lnTo>
                  <a:lnTo>
                    <a:pt x="1210" y="120"/>
                  </a:lnTo>
                  <a:lnTo>
                    <a:pt x="1215" y="127"/>
                  </a:lnTo>
                  <a:lnTo>
                    <a:pt x="1219" y="134"/>
                  </a:lnTo>
                  <a:lnTo>
                    <a:pt x="1224" y="141"/>
                  </a:lnTo>
                  <a:lnTo>
                    <a:pt x="1230" y="147"/>
                  </a:lnTo>
                  <a:lnTo>
                    <a:pt x="1243" y="159"/>
                  </a:lnTo>
                  <a:lnTo>
                    <a:pt x="1256" y="168"/>
                  </a:lnTo>
                  <a:lnTo>
                    <a:pt x="1270" y="176"/>
                  </a:lnTo>
                  <a:lnTo>
                    <a:pt x="1284" y="183"/>
                  </a:lnTo>
                  <a:lnTo>
                    <a:pt x="1300" y="189"/>
                  </a:lnTo>
                  <a:lnTo>
                    <a:pt x="1315" y="194"/>
                  </a:lnTo>
                  <a:lnTo>
                    <a:pt x="1347" y="201"/>
                  </a:lnTo>
                  <a:lnTo>
                    <a:pt x="1377" y="207"/>
                  </a:lnTo>
                  <a:lnTo>
                    <a:pt x="1400" y="209"/>
                  </a:lnTo>
                  <a:lnTo>
                    <a:pt x="1439" y="209"/>
                  </a:lnTo>
                  <a:lnTo>
                    <a:pt x="1492" y="209"/>
                  </a:lnTo>
                  <a:lnTo>
                    <a:pt x="1556" y="208"/>
                  </a:lnTo>
                  <a:lnTo>
                    <a:pt x="1628" y="205"/>
                  </a:lnTo>
                  <a:lnTo>
                    <a:pt x="1708" y="204"/>
                  </a:lnTo>
                  <a:lnTo>
                    <a:pt x="1792" y="203"/>
                  </a:lnTo>
                  <a:lnTo>
                    <a:pt x="1877" y="203"/>
                  </a:lnTo>
                  <a:lnTo>
                    <a:pt x="1962" y="203"/>
                  </a:lnTo>
                  <a:lnTo>
                    <a:pt x="2046" y="205"/>
                  </a:lnTo>
                  <a:lnTo>
                    <a:pt x="2086" y="208"/>
                  </a:lnTo>
                  <a:lnTo>
                    <a:pt x="2125" y="210"/>
                  </a:lnTo>
                  <a:lnTo>
                    <a:pt x="2161" y="212"/>
                  </a:lnTo>
                  <a:lnTo>
                    <a:pt x="2196" y="216"/>
                  </a:lnTo>
                  <a:lnTo>
                    <a:pt x="2227" y="221"/>
                  </a:lnTo>
                  <a:lnTo>
                    <a:pt x="2258" y="225"/>
                  </a:lnTo>
                  <a:lnTo>
                    <a:pt x="2285" y="230"/>
                  </a:lnTo>
                  <a:lnTo>
                    <a:pt x="2308" y="237"/>
                  </a:lnTo>
                  <a:lnTo>
                    <a:pt x="2328" y="244"/>
                  </a:lnTo>
                  <a:lnTo>
                    <a:pt x="2344" y="251"/>
                  </a:lnTo>
                  <a:lnTo>
                    <a:pt x="2357" y="260"/>
                  </a:lnTo>
                  <a:lnTo>
                    <a:pt x="2364" y="270"/>
                  </a:lnTo>
                  <a:lnTo>
                    <a:pt x="2370" y="280"/>
                  </a:lnTo>
                  <a:lnTo>
                    <a:pt x="2373" y="288"/>
                  </a:lnTo>
                  <a:lnTo>
                    <a:pt x="2375" y="298"/>
                  </a:lnTo>
                  <a:lnTo>
                    <a:pt x="2375" y="306"/>
                  </a:lnTo>
                  <a:lnTo>
                    <a:pt x="2373" y="313"/>
                  </a:lnTo>
                  <a:lnTo>
                    <a:pt x="2370" y="320"/>
                  </a:lnTo>
                  <a:lnTo>
                    <a:pt x="2366" y="327"/>
                  </a:lnTo>
                  <a:lnTo>
                    <a:pt x="2361" y="333"/>
                  </a:lnTo>
                  <a:lnTo>
                    <a:pt x="2355" y="339"/>
                  </a:lnTo>
                  <a:lnTo>
                    <a:pt x="2347" y="343"/>
                  </a:lnTo>
                  <a:lnTo>
                    <a:pt x="2338" y="348"/>
                  </a:lnTo>
                  <a:lnTo>
                    <a:pt x="2329" y="353"/>
                  </a:lnTo>
                  <a:lnTo>
                    <a:pt x="2308" y="362"/>
                  </a:lnTo>
                  <a:lnTo>
                    <a:pt x="2285" y="369"/>
                  </a:lnTo>
                  <a:lnTo>
                    <a:pt x="2233" y="382"/>
                  </a:lnTo>
                  <a:lnTo>
                    <a:pt x="2180" y="395"/>
                  </a:lnTo>
                  <a:lnTo>
                    <a:pt x="2153" y="401"/>
                  </a:lnTo>
                  <a:lnTo>
                    <a:pt x="2129" y="408"/>
                  </a:lnTo>
                  <a:lnTo>
                    <a:pt x="2107" y="415"/>
                  </a:lnTo>
                  <a:lnTo>
                    <a:pt x="2088" y="423"/>
                  </a:lnTo>
                  <a:lnTo>
                    <a:pt x="2059" y="438"/>
                  </a:lnTo>
                  <a:lnTo>
                    <a:pt x="2039" y="448"/>
                  </a:lnTo>
                  <a:lnTo>
                    <a:pt x="2034" y="453"/>
                  </a:lnTo>
                  <a:lnTo>
                    <a:pt x="2029" y="457"/>
                  </a:lnTo>
                  <a:lnTo>
                    <a:pt x="2027" y="461"/>
                  </a:lnTo>
                  <a:lnTo>
                    <a:pt x="2025" y="466"/>
                  </a:lnTo>
                  <a:lnTo>
                    <a:pt x="2027" y="471"/>
                  </a:lnTo>
                  <a:lnTo>
                    <a:pt x="2028" y="475"/>
                  </a:lnTo>
                  <a:lnTo>
                    <a:pt x="2031" y="481"/>
                  </a:lnTo>
                  <a:lnTo>
                    <a:pt x="2035" y="489"/>
                  </a:lnTo>
                  <a:lnTo>
                    <a:pt x="2045" y="507"/>
                  </a:lnTo>
                  <a:lnTo>
                    <a:pt x="2057" y="533"/>
                  </a:lnTo>
                  <a:lnTo>
                    <a:pt x="2062" y="547"/>
                  </a:lnTo>
                  <a:lnTo>
                    <a:pt x="2064" y="559"/>
                  </a:lnTo>
                  <a:lnTo>
                    <a:pt x="2065" y="571"/>
                  </a:lnTo>
                  <a:lnTo>
                    <a:pt x="2064" y="583"/>
                  </a:lnTo>
                  <a:lnTo>
                    <a:pt x="2060" y="593"/>
                  </a:lnTo>
                  <a:lnTo>
                    <a:pt x="2056" y="603"/>
                  </a:lnTo>
                  <a:lnTo>
                    <a:pt x="2049" y="612"/>
                  </a:lnTo>
                  <a:lnTo>
                    <a:pt x="2041" y="620"/>
                  </a:lnTo>
                  <a:lnTo>
                    <a:pt x="2031" y="628"/>
                  </a:lnTo>
                  <a:lnTo>
                    <a:pt x="2021" y="636"/>
                  </a:lnTo>
                  <a:lnTo>
                    <a:pt x="2009" y="645"/>
                  </a:lnTo>
                  <a:lnTo>
                    <a:pt x="1995" y="653"/>
                  </a:lnTo>
                  <a:lnTo>
                    <a:pt x="1966" y="668"/>
                  </a:lnTo>
                  <a:lnTo>
                    <a:pt x="1933" y="684"/>
                  </a:lnTo>
                  <a:lnTo>
                    <a:pt x="1916" y="694"/>
                  </a:lnTo>
                  <a:lnTo>
                    <a:pt x="1900" y="702"/>
                  </a:lnTo>
                  <a:lnTo>
                    <a:pt x="1888" y="711"/>
                  </a:lnTo>
                  <a:lnTo>
                    <a:pt x="1875" y="721"/>
                  </a:lnTo>
                  <a:lnTo>
                    <a:pt x="1863" y="729"/>
                  </a:lnTo>
                  <a:lnTo>
                    <a:pt x="1854" y="738"/>
                  </a:lnTo>
                  <a:lnTo>
                    <a:pt x="1845" y="747"/>
                  </a:lnTo>
                  <a:lnTo>
                    <a:pt x="1837" y="757"/>
                  </a:lnTo>
                  <a:lnTo>
                    <a:pt x="1831" y="767"/>
                  </a:lnTo>
                  <a:lnTo>
                    <a:pt x="1827" y="777"/>
                  </a:lnTo>
                  <a:lnTo>
                    <a:pt x="1823" y="787"/>
                  </a:lnTo>
                  <a:lnTo>
                    <a:pt x="1821" y="797"/>
                  </a:lnTo>
                  <a:lnTo>
                    <a:pt x="1820" y="807"/>
                  </a:lnTo>
                  <a:lnTo>
                    <a:pt x="1820" y="819"/>
                  </a:lnTo>
                  <a:lnTo>
                    <a:pt x="1821" y="829"/>
                  </a:lnTo>
                  <a:lnTo>
                    <a:pt x="1823" y="841"/>
                  </a:lnTo>
                  <a:lnTo>
                    <a:pt x="1826" y="851"/>
                  </a:lnTo>
                  <a:lnTo>
                    <a:pt x="1826" y="863"/>
                  </a:lnTo>
                  <a:lnTo>
                    <a:pt x="1823" y="874"/>
                  </a:lnTo>
                  <a:lnTo>
                    <a:pt x="1820" y="884"/>
                  </a:lnTo>
                  <a:lnTo>
                    <a:pt x="1815" y="893"/>
                  </a:lnTo>
                  <a:lnTo>
                    <a:pt x="1808" y="903"/>
                  </a:lnTo>
                  <a:lnTo>
                    <a:pt x="1801" y="912"/>
                  </a:lnTo>
                  <a:lnTo>
                    <a:pt x="1792" y="920"/>
                  </a:lnTo>
                  <a:lnTo>
                    <a:pt x="1772" y="938"/>
                  </a:lnTo>
                  <a:lnTo>
                    <a:pt x="1748" y="954"/>
                  </a:lnTo>
                  <a:lnTo>
                    <a:pt x="1725" y="971"/>
                  </a:lnTo>
                  <a:lnTo>
                    <a:pt x="1702" y="987"/>
                  </a:lnTo>
                  <a:lnTo>
                    <a:pt x="916" y="9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Freeform 207"/>
            <p:cNvSpPr/>
            <p:nvPr/>
          </p:nvSpPr>
          <p:spPr>
            <a:xfrm>
              <a:off x="6650280" y="3985920"/>
              <a:ext cx="293400" cy="2185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947" h="1344">
                  <a:moveTo>
                    <a:pt x="0" y="1293"/>
                  </a:moveTo>
                  <a:lnTo>
                    <a:pt x="1418" y="1344"/>
                  </a:lnTo>
                  <a:lnTo>
                    <a:pt x="1947" y="285"/>
                  </a:lnTo>
                  <a:lnTo>
                    <a:pt x="1509" y="253"/>
                  </a:lnTo>
                  <a:lnTo>
                    <a:pt x="1556" y="65"/>
                  </a:lnTo>
                  <a:lnTo>
                    <a:pt x="880" y="0"/>
                  </a:lnTo>
                  <a:lnTo>
                    <a:pt x="0" y="12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Freeform 208"/>
            <p:cNvSpPr/>
            <p:nvPr/>
          </p:nvSpPr>
          <p:spPr>
            <a:xfrm>
              <a:off x="6580080" y="3746520"/>
              <a:ext cx="257040" cy="10764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706" h="651">
                  <a:moveTo>
                    <a:pt x="1348" y="651"/>
                  </a:moveTo>
                  <a:lnTo>
                    <a:pt x="1341" y="641"/>
                  </a:lnTo>
                  <a:lnTo>
                    <a:pt x="1328" y="632"/>
                  </a:lnTo>
                  <a:lnTo>
                    <a:pt x="1312" y="625"/>
                  </a:lnTo>
                  <a:lnTo>
                    <a:pt x="1292" y="618"/>
                  </a:lnTo>
                  <a:lnTo>
                    <a:pt x="1269" y="611"/>
                  </a:lnTo>
                  <a:lnTo>
                    <a:pt x="1242" y="606"/>
                  </a:lnTo>
                  <a:lnTo>
                    <a:pt x="1211" y="602"/>
                  </a:lnTo>
                  <a:lnTo>
                    <a:pt x="1180" y="597"/>
                  </a:lnTo>
                  <a:lnTo>
                    <a:pt x="1145" y="593"/>
                  </a:lnTo>
                  <a:lnTo>
                    <a:pt x="1109" y="591"/>
                  </a:lnTo>
                  <a:lnTo>
                    <a:pt x="1070" y="589"/>
                  </a:lnTo>
                  <a:lnTo>
                    <a:pt x="1030" y="586"/>
                  </a:lnTo>
                  <a:lnTo>
                    <a:pt x="946" y="584"/>
                  </a:lnTo>
                  <a:lnTo>
                    <a:pt x="861" y="584"/>
                  </a:lnTo>
                  <a:lnTo>
                    <a:pt x="776" y="584"/>
                  </a:lnTo>
                  <a:lnTo>
                    <a:pt x="692" y="585"/>
                  </a:lnTo>
                  <a:lnTo>
                    <a:pt x="612" y="586"/>
                  </a:lnTo>
                  <a:lnTo>
                    <a:pt x="540" y="589"/>
                  </a:lnTo>
                  <a:lnTo>
                    <a:pt x="476" y="590"/>
                  </a:lnTo>
                  <a:lnTo>
                    <a:pt x="423" y="590"/>
                  </a:lnTo>
                  <a:lnTo>
                    <a:pt x="384" y="590"/>
                  </a:lnTo>
                  <a:lnTo>
                    <a:pt x="361" y="588"/>
                  </a:lnTo>
                  <a:lnTo>
                    <a:pt x="331" y="582"/>
                  </a:lnTo>
                  <a:lnTo>
                    <a:pt x="299" y="575"/>
                  </a:lnTo>
                  <a:lnTo>
                    <a:pt x="284" y="570"/>
                  </a:lnTo>
                  <a:lnTo>
                    <a:pt x="268" y="564"/>
                  </a:lnTo>
                  <a:lnTo>
                    <a:pt x="254" y="557"/>
                  </a:lnTo>
                  <a:lnTo>
                    <a:pt x="240" y="549"/>
                  </a:lnTo>
                  <a:lnTo>
                    <a:pt x="227" y="540"/>
                  </a:lnTo>
                  <a:lnTo>
                    <a:pt x="214" y="528"/>
                  </a:lnTo>
                  <a:lnTo>
                    <a:pt x="208" y="522"/>
                  </a:lnTo>
                  <a:lnTo>
                    <a:pt x="203" y="515"/>
                  </a:lnTo>
                  <a:lnTo>
                    <a:pt x="199" y="508"/>
                  </a:lnTo>
                  <a:lnTo>
                    <a:pt x="194" y="501"/>
                  </a:lnTo>
                  <a:lnTo>
                    <a:pt x="190" y="493"/>
                  </a:lnTo>
                  <a:lnTo>
                    <a:pt x="187" y="484"/>
                  </a:lnTo>
                  <a:lnTo>
                    <a:pt x="183" y="474"/>
                  </a:lnTo>
                  <a:lnTo>
                    <a:pt x="181" y="464"/>
                  </a:lnTo>
                  <a:lnTo>
                    <a:pt x="179" y="453"/>
                  </a:lnTo>
                  <a:lnTo>
                    <a:pt x="178" y="443"/>
                  </a:lnTo>
                  <a:lnTo>
                    <a:pt x="176" y="430"/>
                  </a:lnTo>
                  <a:lnTo>
                    <a:pt x="176" y="418"/>
                  </a:lnTo>
                  <a:lnTo>
                    <a:pt x="0" y="381"/>
                  </a:lnTo>
                  <a:lnTo>
                    <a:pt x="19" y="363"/>
                  </a:lnTo>
                  <a:lnTo>
                    <a:pt x="36" y="347"/>
                  </a:lnTo>
                  <a:lnTo>
                    <a:pt x="53" y="329"/>
                  </a:lnTo>
                  <a:lnTo>
                    <a:pt x="69" y="312"/>
                  </a:lnTo>
                  <a:lnTo>
                    <a:pt x="83" y="294"/>
                  </a:lnTo>
                  <a:lnTo>
                    <a:pt x="95" y="276"/>
                  </a:lnTo>
                  <a:lnTo>
                    <a:pt x="101" y="265"/>
                  </a:lnTo>
                  <a:lnTo>
                    <a:pt x="105" y="256"/>
                  </a:lnTo>
                  <a:lnTo>
                    <a:pt x="110" y="244"/>
                  </a:lnTo>
                  <a:lnTo>
                    <a:pt x="113" y="234"/>
                  </a:lnTo>
                  <a:lnTo>
                    <a:pt x="119" y="214"/>
                  </a:lnTo>
                  <a:lnTo>
                    <a:pt x="126" y="194"/>
                  </a:lnTo>
                  <a:lnTo>
                    <a:pt x="133" y="175"/>
                  </a:lnTo>
                  <a:lnTo>
                    <a:pt x="141" y="158"/>
                  </a:lnTo>
                  <a:lnTo>
                    <a:pt x="150" y="141"/>
                  </a:lnTo>
                  <a:lnTo>
                    <a:pt x="159" y="126"/>
                  </a:lnTo>
                  <a:lnTo>
                    <a:pt x="167" y="112"/>
                  </a:lnTo>
                  <a:lnTo>
                    <a:pt x="176" y="99"/>
                  </a:lnTo>
                  <a:lnTo>
                    <a:pt x="186" y="88"/>
                  </a:lnTo>
                  <a:lnTo>
                    <a:pt x="195" y="77"/>
                  </a:lnTo>
                  <a:lnTo>
                    <a:pt x="205" y="68"/>
                  </a:lnTo>
                  <a:lnTo>
                    <a:pt x="215" y="60"/>
                  </a:lnTo>
                  <a:lnTo>
                    <a:pt x="224" y="54"/>
                  </a:lnTo>
                  <a:lnTo>
                    <a:pt x="234" y="50"/>
                  </a:lnTo>
                  <a:lnTo>
                    <a:pt x="242" y="47"/>
                  </a:lnTo>
                  <a:lnTo>
                    <a:pt x="251" y="47"/>
                  </a:lnTo>
                  <a:lnTo>
                    <a:pt x="259" y="47"/>
                  </a:lnTo>
                  <a:lnTo>
                    <a:pt x="269" y="49"/>
                  </a:lnTo>
                  <a:lnTo>
                    <a:pt x="277" y="54"/>
                  </a:lnTo>
                  <a:lnTo>
                    <a:pt x="285" y="59"/>
                  </a:lnTo>
                  <a:lnTo>
                    <a:pt x="293" y="64"/>
                  </a:lnTo>
                  <a:lnTo>
                    <a:pt x="301" y="71"/>
                  </a:lnTo>
                  <a:lnTo>
                    <a:pt x="308" y="78"/>
                  </a:lnTo>
                  <a:lnTo>
                    <a:pt x="315" y="85"/>
                  </a:lnTo>
                  <a:lnTo>
                    <a:pt x="338" y="112"/>
                  </a:lnTo>
                  <a:lnTo>
                    <a:pt x="346" y="124"/>
                  </a:lnTo>
                  <a:lnTo>
                    <a:pt x="356" y="125"/>
                  </a:lnTo>
                  <a:lnTo>
                    <a:pt x="384" y="129"/>
                  </a:lnTo>
                  <a:lnTo>
                    <a:pt x="425" y="132"/>
                  </a:lnTo>
                  <a:lnTo>
                    <a:pt x="473" y="134"/>
                  </a:lnTo>
                  <a:lnTo>
                    <a:pt x="497" y="134"/>
                  </a:lnTo>
                  <a:lnTo>
                    <a:pt x="521" y="134"/>
                  </a:lnTo>
                  <a:lnTo>
                    <a:pt x="544" y="133"/>
                  </a:lnTo>
                  <a:lnTo>
                    <a:pt x="567" y="131"/>
                  </a:lnTo>
                  <a:lnTo>
                    <a:pt x="585" y="129"/>
                  </a:lnTo>
                  <a:lnTo>
                    <a:pt x="602" y="124"/>
                  </a:lnTo>
                  <a:lnTo>
                    <a:pt x="609" y="120"/>
                  </a:lnTo>
                  <a:lnTo>
                    <a:pt x="615" y="117"/>
                  </a:lnTo>
                  <a:lnTo>
                    <a:pt x="619" y="113"/>
                  </a:lnTo>
                  <a:lnTo>
                    <a:pt x="623" y="110"/>
                  </a:lnTo>
                  <a:lnTo>
                    <a:pt x="643" y="80"/>
                  </a:lnTo>
                  <a:lnTo>
                    <a:pt x="658" y="55"/>
                  </a:lnTo>
                  <a:lnTo>
                    <a:pt x="667" y="43"/>
                  </a:lnTo>
                  <a:lnTo>
                    <a:pt x="680" y="30"/>
                  </a:lnTo>
                  <a:lnTo>
                    <a:pt x="695" y="16"/>
                  </a:lnTo>
                  <a:lnTo>
                    <a:pt x="715" y="0"/>
                  </a:lnTo>
                  <a:lnTo>
                    <a:pt x="764" y="5"/>
                  </a:lnTo>
                  <a:lnTo>
                    <a:pt x="815" y="8"/>
                  </a:lnTo>
                  <a:lnTo>
                    <a:pt x="869" y="13"/>
                  </a:lnTo>
                  <a:lnTo>
                    <a:pt x="924" y="16"/>
                  </a:lnTo>
                  <a:lnTo>
                    <a:pt x="981" y="21"/>
                  </a:lnTo>
                  <a:lnTo>
                    <a:pt x="1040" y="25"/>
                  </a:lnTo>
                  <a:lnTo>
                    <a:pt x="1100" y="28"/>
                  </a:lnTo>
                  <a:lnTo>
                    <a:pt x="1161" y="33"/>
                  </a:lnTo>
                  <a:lnTo>
                    <a:pt x="1225" y="36"/>
                  </a:lnTo>
                  <a:lnTo>
                    <a:pt x="1290" y="40"/>
                  </a:lnTo>
                  <a:lnTo>
                    <a:pt x="1356" y="43"/>
                  </a:lnTo>
                  <a:lnTo>
                    <a:pt x="1423" y="46"/>
                  </a:lnTo>
                  <a:lnTo>
                    <a:pt x="1492" y="49"/>
                  </a:lnTo>
                  <a:lnTo>
                    <a:pt x="1562" y="53"/>
                  </a:lnTo>
                  <a:lnTo>
                    <a:pt x="1633" y="55"/>
                  </a:lnTo>
                  <a:lnTo>
                    <a:pt x="1706" y="57"/>
                  </a:lnTo>
                  <a:lnTo>
                    <a:pt x="1688" y="77"/>
                  </a:lnTo>
                  <a:lnTo>
                    <a:pt x="1644" y="131"/>
                  </a:lnTo>
                  <a:lnTo>
                    <a:pt x="1613" y="167"/>
                  </a:lnTo>
                  <a:lnTo>
                    <a:pt x="1581" y="208"/>
                  </a:lnTo>
                  <a:lnTo>
                    <a:pt x="1546" y="254"/>
                  </a:lnTo>
                  <a:lnTo>
                    <a:pt x="1509" y="301"/>
                  </a:lnTo>
                  <a:lnTo>
                    <a:pt x="1474" y="352"/>
                  </a:lnTo>
                  <a:lnTo>
                    <a:pt x="1442" y="402"/>
                  </a:lnTo>
                  <a:lnTo>
                    <a:pt x="1425" y="426"/>
                  </a:lnTo>
                  <a:lnTo>
                    <a:pt x="1411" y="451"/>
                  </a:lnTo>
                  <a:lnTo>
                    <a:pt x="1397" y="476"/>
                  </a:lnTo>
                  <a:lnTo>
                    <a:pt x="1384" y="499"/>
                  </a:lnTo>
                  <a:lnTo>
                    <a:pt x="1374" y="522"/>
                  </a:lnTo>
                  <a:lnTo>
                    <a:pt x="1364" y="544"/>
                  </a:lnTo>
                  <a:lnTo>
                    <a:pt x="1356" y="565"/>
                  </a:lnTo>
                  <a:lnTo>
                    <a:pt x="1350" y="585"/>
                  </a:lnTo>
                  <a:lnTo>
                    <a:pt x="1347" y="604"/>
                  </a:lnTo>
                  <a:lnTo>
                    <a:pt x="1345" y="622"/>
                  </a:lnTo>
                  <a:lnTo>
                    <a:pt x="1346" y="637"/>
                  </a:lnTo>
                  <a:lnTo>
                    <a:pt x="1348" y="6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Freeform 209"/>
            <p:cNvSpPr/>
            <p:nvPr/>
          </p:nvSpPr>
          <p:spPr>
            <a:xfrm>
              <a:off x="7429680" y="3746520"/>
              <a:ext cx="269280" cy="18180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792" h="1120">
                  <a:moveTo>
                    <a:pt x="1038" y="688"/>
                  </a:moveTo>
                  <a:lnTo>
                    <a:pt x="1052" y="695"/>
                  </a:lnTo>
                  <a:lnTo>
                    <a:pt x="1065" y="701"/>
                  </a:lnTo>
                  <a:lnTo>
                    <a:pt x="1076" y="708"/>
                  </a:lnTo>
                  <a:lnTo>
                    <a:pt x="1084" y="715"/>
                  </a:lnTo>
                  <a:lnTo>
                    <a:pt x="1091" y="722"/>
                  </a:lnTo>
                  <a:lnTo>
                    <a:pt x="1095" y="729"/>
                  </a:lnTo>
                  <a:lnTo>
                    <a:pt x="1099" y="737"/>
                  </a:lnTo>
                  <a:lnTo>
                    <a:pt x="1101" y="745"/>
                  </a:lnTo>
                  <a:lnTo>
                    <a:pt x="1106" y="778"/>
                  </a:lnTo>
                  <a:lnTo>
                    <a:pt x="1109" y="812"/>
                  </a:lnTo>
                  <a:lnTo>
                    <a:pt x="1112" y="820"/>
                  </a:lnTo>
                  <a:lnTo>
                    <a:pt x="1114" y="827"/>
                  </a:lnTo>
                  <a:lnTo>
                    <a:pt x="1116" y="833"/>
                  </a:lnTo>
                  <a:lnTo>
                    <a:pt x="1120" y="840"/>
                  </a:lnTo>
                  <a:lnTo>
                    <a:pt x="1129" y="852"/>
                  </a:lnTo>
                  <a:lnTo>
                    <a:pt x="1140" y="863"/>
                  </a:lnTo>
                  <a:lnTo>
                    <a:pt x="1154" y="875"/>
                  </a:lnTo>
                  <a:lnTo>
                    <a:pt x="1169" y="884"/>
                  </a:lnTo>
                  <a:lnTo>
                    <a:pt x="1185" y="894"/>
                  </a:lnTo>
                  <a:lnTo>
                    <a:pt x="1204" y="903"/>
                  </a:lnTo>
                  <a:lnTo>
                    <a:pt x="1223" y="911"/>
                  </a:lnTo>
                  <a:lnTo>
                    <a:pt x="1244" y="919"/>
                  </a:lnTo>
                  <a:lnTo>
                    <a:pt x="1266" y="926"/>
                  </a:lnTo>
                  <a:lnTo>
                    <a:pt x="1289" y="933"/>
                  </a:lnTo>
                  <a:lnTo>
                    <a:pt x="1337" y="947"/>
                  </a:lnTo>
                  <a:lnTo>
                    <a:pt x="1386" y="959"/>
                  </a:lnTo>
                  <a:lnTo>
                    <a:pt x="1398" y="963"/>
                  </a:lnTo>
                  <a:lnTo>
                    <a:pt x="1410" y="966"/>
                  </a:lnTo>
                  <a:lnTo>
                    <a:pt x="1420" y="971"/>
                  </a:lnTo>
                  <a:lnTo>
                    <a:pt x="1431" y="974"/>
                  </a:lnTo>
                  <a:lnTo>
                    <a:pt x="1448" y="985"/>
                  </a:lnTo>
                  <a:lnTo>
                    <a:pt x="1463" y="995"/>
                  </a:lnTo>
                  <a:lnTo>
                    <a:pt x="1477" y="1007"/>
                  </a:lnTo>
                  <a:lnTo>
                    <a:pt x="1488" y="1020"/>
                  </a:lnTo>
                  <a:lnTo>
                    <a:pt x="1497" y="1033"/>
                  </a:lnTo>
                  <a:lnTo>
                    <a:pt x="1505" y="1044"/>
                  </a:lnTo>
                  <a:lnTo>
                    <a:pt x="1511" y="1057"/>
                  </a:lnTo>
                  <a:lnTo>
                    <a:pt x="1516" y="1068"/>
                  </a:lnTo>
                  <a:lnTo>
                    <a:pt x="1519" y="1078"/>
                  </a:lnTo>
                  <a:lnTo>
                    <a:pt x="1522" y="1088"/>
                  </a:lnTo>
                  <a:lnTo>
                    <a:pt x="1524" y="1102"/>
                  </a:lnTo>
                  <a:lnTo>
                    <a:pt x="1524" y="1106"/>
                  </a:lnTo>
                  <a:lnTo>
                    <a:pt x="150" y="1120"/>
                  </a:lnTo>
                  <a:lnTo>
                    <a:pt x="176" y="680"/>
                  </a:lnTo>
                  <a:lnTo>
                    <a:pt x="176" y="674"/>
                  </a:lnTo>
                  <a:lnTo>
                    <a:pt x="174" y="659"/>
                  </a:lnTo>
                  <a:lnTo>
                    <a:pt x="170" y="637"/>
                  </a:lnTo>
                  <a:lnTo>
                    <a:pt x="167" y="610"/>
                  </a:lnTo>
                  <a:lnTo>
                    <a:pt x="162" y="581"/>
                  </a:lnTo>
                  <a:lnTo>
                    <a:pt x="159" y="551"/>
                  </a:lnTo>
                  <a:lnTo>
                    <a:pt x="154" y="525"/>
                  </a:lnTo>
                  <a:lnTo>
                    <a:pt x="150" y="505"/>
                  </a:lnTo>
                  <a:lnTo>
                    <a:pt x="148" y="495"/>
                  </a:lnTo>
                  <a:lnTo>
                    <a:pt x="145" y="485"/>
                  </a:lnTo>
                  <a:lnTo>
                    <a:pt x="140" y="474"/>
                  </a:lnTo>
                  <a:lnTo>
                    <a:pt x="134" y="464"/>
                  </a:lnTo>
                  <a:lnTo>
                    <a:pt x="119" y="442"/>
                  </a:lnTo>
                  <a:lnTo>
                    <a:pt x="101" y="417"/>
                  </a:lnTo>
                  <a:lnTo>
                    <a:pt x="82" y="391"/>
                  </a:lnTo>
                  <a:lnTo>
                    <a:pt x="61" y="365"/>
                  </a:lnTo>
                  <a:lnTo>
                    <a:pt x="39" y="338"/>
                  </a:lnTo>
                  <a:lnTo>
                    <a:pt x="18" y="308"/>
                  </a:lnTo>
                  <a:lnTo>
                    <a:pt x="9" y="294"/>
                  </a:lnTo>
                  <a:lnTo>
                    <a:pt x="3" y="283"/>
                  </a:lnTo>
                  <a:lnTo>
                    <a:pt x="1" y="271"/>
                  </a:lnTo>
                  <a:lnTo>
                    <a:pt x="0" y="261"/>
                  </a:lnTo>
                  <a:lnTo>
                    <a:pt x="1" y="250"/>
                  </a:lnTo>
                  <a:lnTo>
                    <a:pt x="3" y="240"/>
                  </a:lnTo>
                  <a:lnTo>
                    <a:pt x="7" y="229"/>
                  </a:lnTo>
                  <a:lnTo>
                    <a:pt x="10" y="220"/>
                  </a:lnTo>
                  <a:lnTo>
                    <a:pt x="15" y="208"/>
                  </a:lnTo>
                  <a:lnTo>
                    <a:pt x="20" y="198"/>
                  </a:lnTo>
                  <a:lnTo>
                    <a:pt x="24" y="185"/>
                  </a:lnTo>
                  <a:lnTo>
                    <a:pt x="28" y="172"/>
                  </a:lnTo>
                  <a:lnTo>
                    <a:pt x="30" y="157"/>
                  </a:lnTo>
                  <a:lnTo>
                    <a:pt x="31" y="141"/>
                  </a:lnTo>
                  <a:lnTo>
                    <a:pt x="30" y="124"/>
                  </a:lnTo>
                  <a:lnTo>
                    <a:pt x="27" y="104"/>
                  </a:lnTo>
                  <a:lnTo>
                    <a:pt x="90" y="103"/>
                  </a:lnTo>
                  <a:lnTo>
                    <a:pt x="147" y="102"/>
                  </a:lnTo>
                  <a:lnTo>
                    <a:pt x="200" y="101"/>
                  </a:lnTo>
                  <a:lnTo>
                    <a:pt x="245" y="99"/>
                  </a:lnTo>
                  <a:lnTo>
                    <a:pt x="285" y="98"/>
                  </a:lnTo>
                  <a:lnTo>
                    <a:pt x="319" y="96"/>
                  </a:lnTo>
                  <a:lnTo>
                    <a:pt x="346" y="95"/>
                  </a:lnTo>
                  <a:lnTo>
                    <a:pt x="367" y="92"/>
                  </a:lnTo>
                  <a:lnTo>
                    <a:pt x="375" y="80"/>
                  </a:lnTo>
                  <a:lnTo>
                    <a:pt x="384" y="68"/>
                  </a:lnTo>
                  <a:lnTo>
                    <a:pt x="392" y="57"/>
                  </a:lnTo>
                  <a:lnTo>
                    <a:pt x="400" y="49"/>
                  </a:lnTo>
                  <a:lnTo>
                    <a:pt x="409" y="42"/>
                  </a:lnTo>
                  <a:lnTo>
                    <a:pt x="416" y="36"/>
                  </a:lnTo>
                  <a:lnTo>
                    <a:pt x="424" y="30"/>
                  </a:lnTo>
                  <a:lnTo>
                    <a:pt x="430" y="27"/>
                  </a:lnTo>
                  <a:lnTo>
                    <a:pt x="441" y="21"/>
                  </a:lnTo>
                  <a:lnTo>
                    <a:pt x="451" y="19"/>
                  </a:lnTo>
                  <a:lnTo>
                    <a:pt x="456" y="18"/>
                  </a:lnTo>
                  <a:lnTo>
                    <a:pt x="459" y="18"/>
                  </a:lnTo>
                  <a:lnTo>
                    <a:pt x="583" y="0"/>
                  </a:lnTo>
                  <a:lnTo>
                    <a:pt x="706" y="124"/>
                  </a:lnTo>
                  <a:lnTo>
                    <a:pt x="757" y="120"/>
                  </a:lnTo>
                  <a:lnTo>
                    <a:pt x="803" y="118"/>
                  </a:lnTo>
                  <a:lnTo>
                    <a:pt x="845" y="118"/>
                  </a:lnTo>
                  <a:lnTo>
                    <a:pt x="882" y="119"/>
                  </a:lnTo>
                  <a:lnTo>
                    <a:pt x="912" y="120"/>
                  </a:lnTo>
                  <a:lnTo>
                    <a:pt x="935" y="122"/>
                  </a:lnTo>
                  <a:lnTo>
                    <a:pt x="949" y="124"/>
                  </a:lnTo>
                  <a:lnTo>
                    <a:pt x="954" y="124"/>
                  </a:lnTo>
                  <a:lnTo>
                    <a:pt x="1046" y="124"/>
                  </a:lnTo>
                  <a:lnTo>
                    <a:pt x="1109" y="187"/>
                  </a:lnTo>
                  <a:lnTo>
                    <a:pt x="1134" y="179"/>
                  </a:lnTo>
                  <a:lnTo>
                    <a:pt x="1157" y="173"/>
                  </a:lnTo>
                  <a:lnTo>
                    <a:pt x="1178" y="167"/>
                  </a:lnTo>
                  <a:lnTo>
                    <a:pt x="1197" y="164"/>
                  </a:lnTo>
                  <a:lnTo>
                    <a:pt x="1213" y="161"/>
                  </a:lnTo>
                  <a:lnTo>
                    <a:pt x="1229" y="160"/>
                  </a:lnTo>
                  <a:lnTo>
                    <a:pt x="1243" y="160"/>
                  </a:lnTo>
                  <a:lnTo>
                    <a:pt x="1253" y="160"/>
                  </a:lnTo>
                  <a:lnTo>
                    <a:pt x="1272" y="162"/>
                  </a:lnTo>
                  <a:lnTo>
                    <a:pt x="1285" y="166"/>
                  </a:lnTo>
                  <a:lnTo>
                    <a:pt x="1292" y="169"/>
                  </a:lnTo>
                  <a:lnTo>
                    <a:pt x="1294" y="171"/>
                  </a:lnTo>
                  <a:lnTo>
                    <a:pt x="1296" y="167"/>
                  </a:lnTo>
                  <a:lnTo>
                    <a:pt x="1302" y="159"/>
                  </a:lnTo>
                  <a:lnTo>
                    <a:pt x="1312" y="148"/>
                  </a:lnTo>
                  <a:lnTo>
                    <a:pt x="1323" y="139"/>
                  </a:lnTo>
                  <a:lnTo>
                    <a:pt x="1329" y="136"/>
                  </a:lnTo>
                  <a:lnTo>
                    <a:pt x="1337" y="132"/>
                  </a:lnTo>
                  <a:lnTo>
                    <a:pt x="1344" y="131"/>
                  </a:lnTo>
                  <a:lnTo>
                    <a:pt x="1352" y="131"/>
                  </a:lnTo>
                  <a:lnTo>
                    <a:pt x="1361" y="133"/>
                  </a:lnTo>
                  <a:lnTo>
                    <a:pt x="1369" y="138"/>
                  </a:lnTo>
                  <a:lnTo>
                    <a:pt x="1378" y="145"/>
                  </a:lnTo>
                  <a:lnTo>
                    <a:pt x="1386" y="155"/>
                  </a:lnTo>
                  <a:lnTo>
                    <a:pt x="1391" y="161"/>
                  </a:lnTo>
                  <a:lnTo>
                    <a:pt x="1397" y="166"/>
                  </a:lnTo>
                  <a:lnTo>
                    <a:pt x="1403" y="169"/>
                  </a:lnTo>
                  <a:lnTo>
                    <a:pt x="1410" y="173"/>
                  </a:lnTo>
                  <a:lnTo>
                    <a:pt x="1418" y="175"/>
                  </a:lnTo>
                  <a:lnTo>
                    <a:pt x="1426" y="176"/>
                  </a:lnTo>
                  <a:lnTo>
                    <a:pt x="1434" y="178"/>
                  </a:lnTo>
                  <a:lnTo>
                    <a:pt x="1445" y="179"/>
                  </a:lnTo>
                  <a:lnTo>
                    <a:pt x="1465" y="179"/>
                  </a:lnTo>
                  <a:lnTo>
                    <a:pt x="1488" y="178"/>
                  </a:lnTo>
                  <a:lnTo>
                    <a:pt x="1511" y="175"/>
                  </a:lnTo>
                  <a:lnTo>
                    <a:pt x="1537" y="172"/>
                  </a:lnTo>
                  <a:lnTo>
                    <a:pt x="1592" y="164"/>
                  </a:lnTo>
                  <a:lnTo>
                    <a:pt x="1648" y="157"/>
                  </a:lnTo>
                  <a:lnTo>
                    <a:pt x="1676" y="154"/>
                  </a:lnTo>
                  <a:lnTo>
                    <a:pt x="1704" y="153"/>
                  </a:lnTo>
                  <a:lnTo>
                    <a:pt x="1731" y="153"/>
                  </a:lnTo>
                  <a:lnTo>
                    <a:pt x="1758" y="155"/>
                  </a:lnTo>
                  <a:lnTo>
                    <a:pt x="1769" y="158"/>
                  </a:lnTo>
                  <a:lnTo>
                    <a:pt x="1779" y="159"/>
                  </a:lnTo>
                  <a:lnTo>
                    <a:pt x="1785" y="161"/>
                  </a:lnTo>
                  <a:lnTo>
                    <a:pt x="1789" y="164"/>
                  </a:lnTo>
                  <a:lnTo>
                    <a:pt x="1792" y="167"/>
                  </a:lnTo>
                  <a:lnTo>
                    <a:pt x="1792" y="169"/>
                  </a:lnTo>
                  <a:lnTo>
                    <a:pt x="1789" y="173"/>
                  </a:lnTo>
                  <a:lnTo>
                    <a:pt x="1785" y="176"/>
                  </a:lnTo>
                  <a:lnTo>
                    <a:pt x="1772" y="185"/>
                  </a:lnTo>
                  <a:lnTo>
                    <a:pt x="1753" y="193"/>
                  </a:lnTo>
                  <a:lnTo>
                    <a:pt x="1730" y="202"/>
                  </a:lnTo>
                  <a:lnTo>
                    <a:pt x="1703" y="212"/>
                  </a:lnTo>
                  <a:lnTo>
                    <a:pt x="1640" y="230"/>
                  </a:lnTo>
                  <a:lnTo>
                    <a:pt x="1574" y="249"/>
                  </a:lnTo>
                  <a:lnTo>
                    <a:pt x="1512" y="265"/>
                  </a:lnTo>
                  <a:lnTo>
                    <a:pt x="1463" y="279"/>
                  </a:lnTo>
                  <a:lnTo>
                    <a:pt x="1445" y="285"/>
                  </a:lnTo>
                  <a:lnTo>
                    <a:pt x="1426" y="292"/>
                  </a:lnTo>
                  <a:lnTo>
                    <a:pt x="1409" y="299"/>
                  </a:lnTo>
                  <a:lnTo>
                    <a:pt x="1393" y="307"/>
                  </a:lnTo>
                  <a:lnTo>
                    <a:pt x="1378" y="315"/>
                  </a:lnTo>
                  <a:lnTo>
                    <a:pt x="1365" y="325"/>
                  </a:lnTo>
                  <a:lnTo>
                    <a:pt x="1352" y="334"/>
                  </a:lnTo>
                  <a:lnTo>
                    <a:pt x="1342" y="344"/>
                  </a:lnTo>
                  <a:lnTo>
                    <a:pt x="1331" y="354"/>
                  </a:lnTo>
                  <a:lnTo>
                    <a:pt x="1322" y="365"/>
                  </a:lnTo>
                  <a:lnTo>
                    <a:pt x="1313" y="376"/>
                  </a:lnTo>
                  <a:lnTo>
                    <a:pt x="1306" y="387"/>
                  </a:lnTo>
                  <a:lnTo>
                    <a:pt x="1292" y="410"/>
                  </a:lnTo>
                  <a:lnTo>
                    <a:pt x="1280" y="432"/>
                  </a:lnTo>
                  <a:lnTo>
                    <a:pt x="1268" y="454"/>
                  </a:lnTo>
                  <a:lnTo>
                    <a:pt x="1255" y="478"/>
                  </a:lnTo>
                  <a:lnTo>
                    <a:pt x="1241" y="500"/>
                  </a:lnTo>
                  <a:lnTo>
                    <a:pt x="1226" y="521"/>
                  </a:lnTo>
                  <a:lnTo>
                    <a:pt x="1210" y="542"/>
                  </a:lnTo>
                  <a:lnTo>
                    <a:pt x="1194" y="563"/>
                  </a:lnTo>
                  <a:lnTo>
                    <a:pt x="1176" y="582"/>
                  </a:lnTo>
                  <a:lnTo>
                    <a:pt x="1159" y="600"/>
                  </a:lnTo>
                  <a:lnTo>
                    <a:pt x="1141" y="618"/>
                  </a:lnTo>
                  <a:lnTo>
                    <a:pt x="1123" y="633"/>
                  </a:lnTo>
                  <a:lnTo>
                    <a:pt x="1107" y="647"/>
                  </a:lnTo>
                  <a:lnTo>
                    <a:pt x="1091" y="659"/>
                  </a:lnTo>
                  <a:lnTo>
                    <a:pt x="1076" y="669"/>
                  </a:lnTo>
                  <a:lnTo>
                    <a:pt x="1062" y="679"/>
                  </a:lnTo>
                  <a:lnTo>
                    <a:pt x="1049" y="685"/>
                  </a:lnTo>
                  <a:lnTo>
                    <a:pt x="1038" y="6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Freeform 210"/>
            <p:cNvSpPr/>
            <p:nvPr/>
          </p:nvSpPr>
          <p:spPr>
            <a:xfrm>
              <a:off x="7681680" y="3955680"/>
              <a:ext cx="182520" cy="2314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210" h="1423">
                  <a:moveTo>
                    <a:pt x="916" y="1423"/>
                  </a:moveTo>
                  <a:lnTo>
                    <a:pt x="915" y="1406"/>
                  </a:lnTo>
                  <a:lnTo>
                    <a:pt x="912" y="1392"/>
                  </a:lnTo>
                  <a:lnTo>
                    <a:pt x="910" y="1386"/>
                  </a:lnTo>
                  <a:lnTo>
                    <a:pt x="908" y="1381"/>
                  </a:lnTo>
                  <a:lnTo>
                    <a:pt x="905" y="1376"/>
                  </a:lnTo>
                  <a:lnTo>
                    <a:pt x="903" y="1373"/>
                  </a:lnTo>
                  <a:lnTo>
                    <a:pt x="896" y="1367"/>
                  </a:lnTo>
                  <a:lnTo>
                    <a:pt x="888" y="1364"/>
                  </a:lnTo>
                  <a:lnTo>
                    <a:pt x="879" y="1361"/>
                  </a:lnTo>
                  <a:lnTo>
                    <a:pt x="869" y="1360"/>
                  </a:lnTo>
                  <a:lnTo>
                    <a:pt x="847" y="1359"/>
                  </a:lnTo>
                  <a:lnTo>
                    <a:pt x="824" y="1357"/>
                  </a:lnTo>
                  <a:lnTo>
                    <a:pt x="811" y="1353"/>
                  </a:lnTo>
                  <a:lnTo>
                    <a:pt x="799" y="1348"/>
                  </a:lnTo>
                  <a:lnTo>
                    <a:pt x="793" y="1345"/>
                  </a:lnTo>
                  <a:lnTo>
                    <a:pt x="786" y="1341"/>
                  </a:lnTo>
                  <a:lnTo>
                    <a:pt x="780" y="1337"/>
                  </a:lnTo>
                  <a:lnTo>
                    <a:pt x="775" y="1331"/>
                  </a:lnTo>
                  <a:lnTo>
                    <a:pt x="775" y="1309"/>
                  </a:lnTo>
                  <a:lnTo>
                    <a:pt x="773" y="1288"/>
                  </a:lnTo>
                  <a:lnTo>
                    <a:pt x="771" y="1268"/>
                  </a:lnTo>
                  <a:lnTo>
                    <a:pt x="768" y="1249"/>
                  </a:lnTo>
                  <a:lnTo>
                    <a:pt x="763" y="1233"/>
                  </a:lnTo>
                  <a:lnTo>
                    <a:pt x="757" y="1216"/>
                  </a:lnTo>
                  <a:lnTo>
                    <a:pt x="749" y="1201"/>
                  </a:lnTo>
                  <a:lnTo>
                    <a:pt x="740" y="1187"/>
                  </a:lnTo>
                  <a:lnTo>
                    <a:pt x="728" y="1173"/>
                  </a:lnTo>
                  <a:lnTo>
                    <a:pt x="714" y="1160"/>
                  </a:lnTo>
                  <a:lnTo>
                    <a:pt x="698" y="1149"/>
                  </a:lnTo>
                  <a:lnTo>
                    <a:pt x="679" y="1138"/>
                  </a:lnTo>
                  <a:lnTo>
                    <a:pt x="658" y="1128"/>
                  </a:lnTo>
                  <a:lnTo>
                    <a:pt x="633" y="1117"/>
                  </a:lnTo>
                  <a:lnTo>
                    <a:pt x="606" y="1108"/>
                  </a:lnTo>
                  <a:lnTo>
                    <a:pt x="576" y="1098"/>
                  </a:lnTo>
                  <a:lnTo>
                    <a:pt x="546" y="1089"/>
                  </a:lnTo>
                  <a:lnTo>
                    <a:pt x="520" y="1080"/>
                  </a:lnTo>
                  <a:lnTo>
                    <a:pt x="498" y="1069"/>
                  </a:lnTo>
                  <a:lnTo>
                    <a:pt x="478" y="1059"/>
                  </a:lnTo>
                  <a:lnTo>
                    <a:pt x="462" y="1048"/>
                  </a:lnTo>
                  <a:lnTo>
                    <a:pt x="449" y="1037"/>
                  </a:lnTo>
                  <a:lnTo>
                    <a:pt x="437" y="1025"/>
                  </a:lnTo>
                  <a:lnTo>
                    <a:pt x="429" y="1012"/>
                  </a:lnTo>
                  <a:lnTo>
                    <a:pt x="423" y="1000"/>
                  </a:lnTo>
                  <a:lnTo>
                    <a:pt x="418" y="987"/>
                  </a:lnTo>
                  <a:lnTo>
                    <a:pt x="416" y="976"/>
                  </a:lnTo>
                  <a:lnTo>
                    <a:pt x="415" y="963"/>
                  </a:lnTo>
                  <a:lnTo>
                    <a:pt x="415" y="950"/>
                  </a:lnTo>
                  <a:lnTo>
                    <a:pt x="416" y="938"/>
                  </a:lnTo>
                  <a:lnTo>
                    <a:pt x="418" y="926"/>
                  </a:lnTo>
                  <a:lnTo>
                    <a:pt x="421" y="914"/>
                  </a:lnTo>
                  <a:lnTo>
                    <a:pt x="422" y="903"/>
                  </a:lnTo>
                  <a:lnTo>
                    <a:pt x="423" y="894"/>
                  </a:lnTo>
                  <a:lnTo>
                    <a:pt x="421" y="887"/>
                  </a:lnTo>
                  <a:lnTo>
                    <a:pt x="418" y="881"/>
                  </a:lnTo>
                  <a:lnTo>
                    <a:pt x="414" y="875"/>
                  </a:lnTo>
                  <a:lnTo>
                    <a:pt x="408" y="871"/>
                  </a:lnTo>
                  <a:lnTo>
                    <a:pt x="400" y="867"/>
                  </a:lnTo>
                  <a:lnTo>
                    <a:pt x="392" y="864"/>
                  </a:lnTo>
                  <a:lnTo>
                    <a:pt x="345" y="853"/>
                  </a:lnTo>
                  <a:lnTo>
                    <a:pt x="283" y="836"/>
                  </a:lnTo>
                  <a:lnTo>
                    <a:pt x="265" y="830"/>
                  </a:lnTo>
                  <a:lnTo>
                    <a:pt x="248" y="824"/>
                  </a:lnTo>
                  <a:lnTo>
                    <a:pt x="231" y="817"/>
                  </a:lnTo>
                  <a:lnTo>
                    <a:pt x="215" y="809"/>
                  </a:lnTo>
                  <a:lnTo>
                    <a:pt x="201" y="801"/>
                  </a:lnTo>
                  <a:lnTo>
                    <a:pt x="187" y="792"/>
                  </a:lnTo>
                  <a:lnTo>
                    <a:pt x="174" y="783"/>
                  </a:lnTo>
                  <a:lnTo>
                    <a:pt x="161" y="774"/>
                  </a:lnTo>
                  <a:lnTo>
                    <a:pt x="151" y="764"/>
                  </a:lnTo>
                  <a:lnTo>
                    <a:pt x="142" y="754"/>
                  </a:lnTo>
                  <a:lnTo>
                    <a:pt x="132" y="745"/>
                  </a:lnTo>
                  <a:lnTo>
                    <a:pt x="125" y="735"/>
                  </a:lnTo>
                  <a:lnTo>
                    <a:pt x="121" y="726"/>
                  </a:lnTo>
                  <a:lnTo>
                    <a:pt x="116" y="715"/>
                  </a:lnTo>
                  <a:lnTo>
                    <a:pt x="113" y="707"/>
                  </a:lnTo>
                  <a:lnTo>
                    <a:pt x="112" y="698"/>
                  </a:lnTo>
                  <a:lnTo>
                    <a:pt x="111" y="690"/>
                  </a:lnTo>
                  <a:lnTo>
                    <a:pt x="109" y="681"/>
                  </a:lnTo>
                  <a:lnTo>
                    <a:pt x="104" y="673"/>
                  </a:lnTo>
                  <a:lnTo>
                    <a:pt x="97" y="666"/>
                  </a:lnTo>
                  <a:lnTo>
                    <a:pt x="90" y="659"/>
                  </a:lnTo>
                  <a:lnTo>
                    <a:pt x="82" y="653"/>
                  </a:lnTo>
                  <a:lnTo>
                    <a:pt x="74" y="648"/>
                  </a:lnTo>
                  <a:lnTo>
                    <a:pt x="64" y="642"/>
                  </a:lnTo>
                  <a:lnTo>
                    <a:pt x="32" y="625"/>
                  </a:lnTo>
                  <a:lnTo>
                    <a:pt x="18" y="620"/>
                  </a:lnTo>
                  <a:lnTo>
                    <a:pt x="6" y="505"/>
                  </a:lnTo>
                  <a:lnTo>
                    <a:pt x="3" y="505"/>
                  </a:lnTo>
                  <a:lnTo>
                    <a:pt x="1" y="498"/>
                  </a:lnTo>
                  <a:lnTo>
                    <a:pt x="0" y="489"/>
                  </a:lnTo>
                  <a:lnTo>
                    <a:pt x="0" y="478"/>
                  </a:lnTo>
                  <a:lnTo>
                    <a:pt x="0" y="467"/>
                  </a:lnTo>
                  <a:lnTo>
                    <a:pt x="1" y="454"/>
                  </a:lnTo>
                  <a:lnTo>
                    <a:pt x="3" y="441"/>
                  </a:lnTo>
                  <a:lnTo>
                    <a:pt x="5" y="427"/>
                  </a:lnTo>
                  <a:lnTo>
                    <a:pt x="7" y="413"/>
                  </a:lnTo>
                  <a:lnTo>
                    <a:pt x="12" y="400"/>
                  </a:lnTo>
                  <a:lnTo>
                    <a:pt x="17" y="388"/>
                  </a:lnTo>
                  <a:lnTo>
                    <a:pt x="22" y="377"/>
                  </a:lnTo>
                  <a:lnTo>
                    <a:pt x="28" y="367"/>
                  </a:lnTo>
                  <a:lnTo>
                    <a:pt x="32" y="363"/>
                  </a:lnTo>
                  <a:lnTo>
                    <a:pt x="36" y="359"/>
                  </a:lnTo>
                  <a:lnTo>
                    <a:pt x="41" y="356"/>
                  </a:lnTo>
                  <a:lnTo>
                    <a:pt x="45" y="353"/>
                  </a:lnTo>
                  <a:lnTo>
                    <a:pt x="50" y="351"/>
                  </a:lnTo>
                  <a:lnTo>
                    <a:pt x="55" y="350"/>
                  </a:lnTo>
                  <a:lnTo>
                    <a:pt x="61" y="350"/>
                  </a:lnTo>
                  <a:lnTo>
                    <a:pt x="67" y="350"/>
                  </a:lnTo>
                  <a:lnTo>
                    <a:pt x="104" y="281"/>
                  </a:lnTo>
                  <a:lnTo>
                    <a:pt x="97" y="274"/>
                  </a:lnTo>
                  <a:lnTo>
                    <a:pt x="91" y="267"/>
                  </a:lnTo>
                  <a:lnTo>
                    <a:pt x="87" y="259"/>
                  </a:lnTo>
                  <a:lnTo>
                    <a:pt x="84" y="250"/>
                  </a:lnTo>
                  <a:lnTo>
                    <a:pt x="82" y="241"/>
                  </a:lnTo>
                  <a:lnTo>
                    <a:pt x="81" y="232"/>
                  </a:lnTo>
                  <a:lnTo>
                    <a:pt x="82" y="222"/>
                  </a:lnTo>
                  <a:lnTo>
                    <a:pt x="84" y="213"/>
                  </a:lnTo>
                  <a:lnTo>
                    <a:pt x="89" y="204"/>
                  </a:lnTo>
                  <a:lnTo>
                    <a:pt x="95" y="194"/>
                  </a:lnTo>
                  <a:lnTo>
                    <a:pt x="102" y="186"/>
                  </a:lnTo>
                  <a:lnTo>
                    <a:pt x="112" y="178"/>
                  </a:lnTo>
                  <a:lnTo>
                    <a:pt x="124" y="171"/>
                  </a:lnTo>
                  <a:lnTo>
                    <a:pt x="138" y="165"/>
                  </a:lnTo>
                  <a:lnTo>
                    <a:pt x="154" y="160"/>
                  </a:lnTo>
                  <a:lnTo>
                    <a:pt x="173" y="156"/>
                  </a:lnTo>
                  <a:lnTo>
                    <a:pt x="142" y="27"/>
                  </a:lnTo>
                  <a:lnTo>
                    <a:pt x="830" y="0"/>
                  </a:lnTo>
                  <a:lnTo>
                    <a:pt x="852" y="25"/>
                  </a:lnTo>
                  <a:lnTo>
                    <a:pt x="876" y="48"/>
                  </a:lnTo>
                  <a:lnTo>
                    <a:pt x="903" y="72"/>
                  </a:lnTo>
                  <a:lnTo>
                    <a:pt x="930" y="96"/>
                  </a:lnTo>
                  <a:lnTo>
                    <a:pt x="1077" y="629"/>
                  </a:lnTo>
                  <a:lnTo>
                    <a:pt x="1082" y="639"/>
                  </a:lnTo>
                  <a:lnTo>
                    <a:pt x="1088" y="650"/>
                  </a:lnTo>
                  <a:lnTo>
                    <a:pt x="1095" y="660"/>
                  </a:lnTo>
                  <a:lnTo>
                    <a:pt x="1102" y="672"/>
                  </a:lnTo>
                  <a:lnTo>
                    <a:pt x="1119" y="693"/>
                  </a:lnTo>
                  <a:lnTo>
                    <a:pt x="1137" y="715"/>
                  </a:lnTo>
                  <a:lnTo>
                    <a:pt x="1157" y="735"/>
                  </a:lnTo>
                  <a:lnTo>
                    <a:pt x="1175" y="753"/>
                  </a:lnTo>
                  <a:lnTo>
                    <a:pt x="1194" y="769"/>
                  </a:lnTo>
                  <a:lnTo>
                    <a:pt x="1210" y="782"/>
                  </a:lnTo>
                  <a:lnTo>
                    <a:pt x="1188" y="806"/>
                  </a:lnTo>
                  <a:lnTo>
                    <a:pt x="1169" y="831"/>
                  </a:lnTo>
                  <a:lnTo>
                    <a:pt x="1161" y="841"/>
                  </a:lnTo>
                  <a:lnTo>
                    <a:pt x="1154" y="853"/>
                  </a:lnTo>
                  <a:lnTo>
                    <a:pt x="1148" y="865"/>
                  </a:lnTo>
                  <a:lnTo>
                    <a:pt x="1143" y="877"/>
                  </a:lnTo>
                  <a:lnTo>
                    <a:pt x="1138" y="889"/>
                  </a:lnTo>
                  <a:lnTo>
                    <a:pt x="1134" y="902"/>
                  </a:lnTo>
                  <a:lnTo>
                    <a:pt x="1131" y="915"/>
                  </a:lnTo>
                  <a:lnTo>
                    <a:pt x="1127" y="930"/>
                  </a:lnTo>
                  <a:lnTo>
                    <a:pt x="1126" y="945"/>
                  </a:lnTo>
                  <a:lnTo>
                    <a:pt x="1124" y="963"/>
                  </a:lnTo>
                  <a:lnTo>
                    <a:pt x="1124" y="980"/>
                  </a:lnTo>
                  <a:lnTo>
                    <a:pt x="1124" y="1000"/>
                  </a:lnTo>
                  <a:lnTo>
                    <a:pt x="1124" y="1041"/>
                  </a:lnTo>
                  <a:lnTo>
                    <a:pt x="1125" y="1081"/>
                  </a:lnTo>
                  <a:lnTo>
                    <a:pt x="1127" y="1119"/>
                  </a:lnTo>
                  <a:lnTo>
                    <a:pt x="1131" y="1156"/>
                  </a:lnTo>
                  <a:lnTo>
                    <a:pt x="1133" y="1186"/>
                  </a:lnTo>
                  <a:lnTo>
                    <a:pt x="1136" y="1209"/>
                  </a:lnTo>
                  <a:lnTo>
                    <a:pt x="1137" y="1225"/>
                  </a:lnTo>
                  <a:lnTo>
                    <a:pt x="1138" y="1230"/>
                  </a:lnTo>
                  <a:lnTo>
                    <a:pt x="1123" y="1257"/>
                  </a:lnTo>
                  <a:lnTo>
                    <a:pt x="1108" y="1281"/>
                  </a:lnTo>
                  <a:lnTo>
                    <a:pt x="1094" y="1299"/>
                  </a:lnTo>
                  <a:lnTo>
                    <a:pt x="1080" y="1315"/>
                  </a:lnTo>
                  <a:lnTo>
                    <a:pt x="1067" y="1327"/>
                  </a:lnTo>
                  <a:lnTo>
                    <a:pt x="1053" y="1338"/>
                  </a:lnTo>
                  <a:lnTo>
                    <a:pt x="1040" y="1347"/>
                  </a:lnTo>
                  <a:lnTo>
                    <a:pt x="1027" y="1354"/>
                  </a:lnTo>
                  <a:lnTo>
                    <a:pt x="1001" y="1367"/>
                  </a:lnTo>
                  <a:lnTo>
                    <a:pt x="974" y="1380"/>
                  </a:lnTo>
                  <a:lnTo>
                    <a:pt x="960" y="1388"/>
                  </a:lnTo>
                  <a:lnTo>
                    <a:pt x="946" y="1397"/>
                  </a:lnTo>
                  <a:lnTo>
                    <a:pt x="931" y="1409"/>
                  </a:lnTo>
                  <a:lnTo>
                    <a:pt x="916" y="14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Freeform 211"/>
            <p:cNvSpPr/>
            <p:nvPr/>
          </p:nvSpPr>
          <p:spPr>
            <a:xfrm>
              <a:off x="8094600" y="3969000"/>
              <a:ext cx="140760" cy="1508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32" h="925">
                  <a:moveTo>
                    <a:pt x="10" y="740"/>
                  </a:moveTo>
                  <a:lnTo>
                    <a:pt x="6" y="735"/>
                  </a:lnTo>
                  <a:lnTo>
                    <a:pt x="2" y="729"/>
                  </a:lnTo>
                  <a:lnTo>
                    <a:pt x="1" y="723"/>
                  </a:lnTo>
                  <a:lnTo>
                    <a:pt x="0" y="717"/>
                  </a:lnTo>
                  <a:lnTo>
                    <a:pt x="2" y="704"/>
                  </a:lnTo>
                  <a:lnTo>
                    <a:pt x="7" y="690"/>
                  </a:lnTo>
                  <a:lnTo>
                    <a:pt x="11" y="674"/>
                  </a:lnTo>
                  <a:lnTo>
                    <a:pt x="17" y="654"/>
                  </a:lnTo>
                  <a:lnTo>
                    <a:pt x="18" y="642"/>
                  </a:lnTo>
                  <a:lnTo>
                    <a:pt x="20" y="631"/>
                  </a:lnTo>
                  <a:lnTo>
                    <a:pt x="20" y="617"/>
                  </a:lnTo>
                  <a:lnTo>
                    <a:pt x="18" y="601"/>
                  </a:lnTo>
                  <a:lnTo>
                    <a:pt x="32" y="598"/>
                  </a:lnTo>
                  <a:lnTo>
                    <a:pt x="44" y="593"/>
                  </a:lnTo>
                  <a:lnTo>
                    <a:pt x="54" y="589"/>
                  </a:lnTo>
                  <a:lnTo>
                    <a:pt x="62" y="582"/>
                  </a:lnTo>
                  <a:lnTo>
                    <a:pt x="68" y="573"/>
                  </a:lnTo>
                  <a:lnTo>
                    <a:pt x="72" y="564"/>
                  </a:lnTo>
                  <a:lnTo>
                    <a:pt x="76" y="555"/>
                  </a:lnTo>
                  <a:lnTo>
                    <a:pt x="78" y="544"/>
                  </a:lnTo>
                  <a:lnTo>
                    <a:pt x="79" y="534"/>
                  </a:lnTo>
                  <a:lnTo>
                    <a:pt x="80" y="522"/>
                  </a:lnTo>
                  <a:lnTo>
                    <a:pt x="80" y="510"/>
                  </a:lnTo>
                  <a:lnTo>
                    <a:pt x="79" y="497"/>
                  </a:lnTo>
                  <a:lnTo>
                    <a:pt x="77" y="472"/>
                  </a:lnTo>
                  <a:lnTo>
                    <a:pt x="73" y="446"/>
                  </a:lnTo>
                  <a:lnTo>
                    <a:pt x="92" y="434"/>
                  </a:lnTo>
                  <a:lnTo>
                    <a:pt x="105" y="425"/>
                  </a:lnTo>
                  <a:lnTo>
                    <a:pt x="110" y="422"/>
                  </a:lnTo>
                  <a:lnTo>
                    <a:pt x="113" y="418"/>
                  </a:lnTo>
                  <a:lnTo>
                    <a:pt x="117" y="413"/>
                  </a:lnTo>
                  <a:lnTo>
                    <a:pt x="119" y="409"/>
                  </a:lnTo>
                  <a:lnTo>
                    <a:pt x="127" y="383"/>
                  </a:lnTo>
                  <a:lnTo>
                    <a:pt x="142" y="332"/>
                  </a:lnTo>
                  <a:lnTo>
                    <a:pt x="149" y="308"/>
                  </a:lnTo>
                  <a:lnTo>
                    <a:pt x="154" y="290"/>
                  </a:lnTo>
                  <a:lnTo>
                    <a:pt x="157" y="272"/>
                  </a:lnTo>
                  <a:lnTo>
                    <a:pt x="157" y="257"/>
                  </a:lnTo>
                  <a:lnTo>
                    <a:pt x="157" y="244"/>
                  </a:lnTo>
                  <a:lnTo>
                    <a:pt x="155" y="232"/>
                  </a:lnTo>
                  <a:lnTo>
                    <a:pt x="152" y="221"/>
                  </a:lnTo>
                  <a:lnTo>
                    <a:pt x="147" y="211"/>
                  </a:lnTo>
                  <a:lnTo>
                    <a:pt x="136" y="193"/>
                  </a:lnTo>
                  <a:lnTo>
                    <a:pt x="122" y="174"/>
                  </a:lnTo>
                  <a:lnTo>
                    <a:pt x="117" y="163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7" y="124"/>
                  </a:lnTo>
                  <a:lnTo>
                    <a:pt x="91" y="109"/>
                  </a:lnTo>
                  <a:lnTo>
                    <a:pt x="87" y="95"/>
                  </a:lnTo>
                  <a:lnTo>
                    <a:pt x="86" y="82"/>
                  </a:lnTo>
                  <a:lnTo>
                    <a:pt x="85" y="71"/>
                  </a:lnTo>
                  <a:lnTo>
                    <a:pt x="85" y="62"/>
                  </a:lnTo>
                  <a:lnTo>
                    <a:pt x="86" y="52"/>
                  </a:lnTo>
                  <a:lnTo>
                    <a:pt x="87" y="45"/>
                  </a:lnTo>
                  <a:lnTo>
                    <a:pt x="90" y="38"/>
                  </a:lnTo>
                  <a:lnTo>
                    <a:pt x="94" y="27"/>
                  </a:lnTo>
                  <a:lnTo>
                    <a:pt x="98" y="16"/>
                  </a:lnTo>
                  <a:lnTo>
                    <a:pt x="99" y="13"/>
                  </a:lnTo>
                  <a:lnTo>
                    <a:pt x="99" y="8"/>
                  </a:lnTo>
                  <a:lnTo>
                    <a:pt x="98" y="5"/>
                  </a:lnTo>
                  <a:lnTo>
                    <a:pt x="97" y="0"/>
                  </a:lnTo>
                  <a:lnTo>
                    <a:pt x="106" y="5"/>
                  </a:lnTo>
                  <a:lnTo>
                    <a:pt x="114" y="10"/>
                  </a:lnTo>
                  <a:lnTo>
                    <a:pt x="120" y="16"/>
                  </a:lnTo>
                  <a:lnTo>
                    <a:pt x="126" y="22"/>
                  </a:lnTo>
                  <a:lnTo>
                    <a:pt x="136" y="36"/>
                  </a:lnTo>
                  <a:lnTo>
                    <a:pt x="146" y="50"/>
                  </a:lnTo>
                  <a:lnTo>
                    <a:pt x="150" y="57"/>
                  </a:lnTo>
                  <a:lnTo>
                    <a:pt x="155" y="63"/>
                  </a:lnTo>
                  <a:lnTo>
                    <a:pt x="161" y="69"/>
                  </a:lnTo>
                  <a:lnTo>
                    <a:pt x="168" y="73"/>
                  </a:lnTo>
                  <a:lnTo>
                    <a:pt x="176" y="78"/>
                  </a:lnTo>
                  <a:lnTo>
                    <a:pt x="187" y="80"/>
                  </a:lnTo>
                  <a:lnTo>
                    <a:pt x="198" y="83"/>
                  </a:lnTo>
                  <a:lnTo>
                    <a:pt x="211" y="83"/>
                  </a:lnTo>
                  <a:lnTo>
                    <a:pt x="218" y="84"/>
                  </a:lnTo>
                  <a:lnTo>
                    <a:pt x="224" y="84"/>
                  </a:lnTo>
                  <a:lnTo>
                    <a:pt x="229" y="85"/>
                  </a:lnTo>
                  <a:lnTo>
                    <a:pt x="233" y="87"/>
                  </a:lnTo>
                  <a:lnTo>
                    <a:pt x="237" y="90"/>
                  </a:lnTo>
                  <a:lnTo>
                    <a:pt x="239" y="92"/>
                  </a:lnTo>
                  <a:lnTo>
                    <a:pt x="242" y="95"/>
                  </a:lnTo>
                  <a:lnTo>
                    <a:pt x="243" y="98"/>
                  </a:lnTo>
                  <a:lnTo>
                    <a:pt x="245" y="106"/>
                  </a:lnTo>
                  <a:lnTo>
                    <a:pt x="245" y="116"/>
                  </a:lnTo>
                  <a:lnTo>
                    <a:pt x="244" y="127"/>
                  </a:lnTo>
                  <a:lnTo>
                    <a:pt x="243" y="139"/>
                  </a:lnTo>
                  <a:lnTo>
                    <a:pt x="242" y="153"/>
                  </a:lnTo>
                  <a:lnTo>
                    <a:pt x="242" y="167"/>
                  </a:lnTo>
                  <a:lnTo>
                    <a:pt x="242" y="182"/>
                  </a:lnTo>
                  <a:lnTo>
                    <a:pt x="243" y="198"/>
                  </a:lnTo>
                  <a:lnTo>
                    <a:pt x="246" y="216"/>
                  </a:lnTo>
                  <a:lnTo>
                    <a:pt x="253" y="234"/>
                  </a:lnTo>
                  <a:lnTo>
                    <a:pt x="257" y="243"/>
                  </a:lnTo>
                  <a:lnTo>
                    <a:pt x="263" y="252"/>
                  </a:lnTo>
                  <a:lnTo>
                    <a:pt x="268" y="262"/>
                  </a:lnTo>
                  <a:lnTo>
                    <a:pt x="275" y="271"/>
                  </a:lnTo>
                  <a:lnTo>
                    <a:pt x="288" y="271"/>
                  </a:lnTo>
                  <a:lnTo>
                    <a:pt x="302" y="271"/>
                  </a:lnTo>
                  <a:lnTo>
                    <a:pt x="316" y="271"/>
                  </a:lnTo>
                  <a:lnTo>
                    <a:pt x="330" y="270"/>
                  </a:lnTo>
                  <a:lnTo>
                    <a:pt x="361" y="265"/>
                  </a:lnTo>
                  <a:lnTo>
                    <a:pt x="393" y="259"/>
                  </a:lnTo>
                  <a:lnTo>
                    <a:pt x="426" y="252"/>
                  </a:lnTo>
                  <a:lnTo>
                    <a:pt x="462" y="245"/>
                  </a:lnTo>
                  <a:lnTo>
                    <a:pt x="499" y="237"/>
                  </a:lnTo>
                  <a:lnTo>
                    <a:pt x="537" y="230"/>
                  </a:lnTo>
                  <a:lnTo>
                    <a:pt x="559" y="262"/>
                  </a:lnTo>
                  <a:lnTo>
                    <a:pt x="579" y="285"/>
                  </a:lnTo>
                  <a:lnTo>
                    <a:pt x="587" y="293"/>
                  </a:lnTo>
                  <a:lnTo>
                    <a:pt x="596" y="301"/>
                  </a:lnTo>
                  <a:lnTo>
                    <a:pt x="604" y="306"/>
                  </a:lnTo>
                  <a:lnTo>
                    <a:pt x="611" y="311"/>
                  </a:lnTo>
                  <a:lnTo>
                    <a:pt x="617" y="314"/>
                  </a:lnTo>
                  <a:lnTo>
                    <a:pt x="622" y="315"/>
                  </a:lnTo>
                  <a:lnTo>
                    <a:pt x="628" y="316"/>
                  </a:lnTo>
                  <a:lnTo>
                    <a:pt x="634" y="316"/>
                  </a:lnTo>
                  <a:lnTo>
                    <a:pt x="640" y="315"/>
                  </a:lnTo>
                  <a:lnTo>
                    <a:pt x="645" y="313"/>
                  </a:lnTo>
                  <a:lnTo>
                    <a:pt x="649" y="309"/>
                  </a:lnTo>
                  <a:lnTo>
                    <a:pt x="654" y="307"/>
                  </a:lnTo>
                  <a:lnTo>
                    <a:pt x="674" y="290"/>
                  </a:lnTo>
                  <a:lnTo>
                    <a:pt x="697" y="270"/>
                  </a:lnTo>
                  <a:lnTo>
                    <a:pt x="704" y="266"/>
                  </a:lnTo>
                  <a:lnTo>
                    <a:pt x="711" y="262"/>
                  </a:lnTo>
                  <a:lnTo>
                    <a:pt x="719" y="258"/>
                  </a:lnTo>
                  <a:lnTo>
                    <a:pt x="728" y="256"/>
                  </a:lnTo>
                  <a:lnTo>
                    <a:pt x="736" y="253"/>
                  </a:lnTo>
                  <a:lnTo>
                    <a:pt x="746" y="252"/>
                  </a:lnTo>
                  <a:lnTo>
                    <a:pt x="757" y="252"/>
                  </a:lnTo>
                  <a:lnTo>
                    <a:pt x="767" y="253"/>
                  </a:lnTo>
                  <a:lnTo>
                    <a:pt x="807" y="258"/>
                  </a:lnTo>
                  <a:lnTo>
                    <a:pt x="834" y="260"/>
                  </a:lnTo>
                  <a:lnTo>
                    <a:pt x="854" y="262"/>
                  </a:lnTo>
                  <a:lnTo>
                    <a:pt x="867" y="260"/>
                  </a:lnTo>
                  <a:lnTo>
                    <a:pt x="878" y="260"/>
                  </a:lnTo>
                  <a:lnTo>
                    <a:pt x="891" y="259"/>
                  </a:lnTo>
                  <a:lnTo>
                    <a:pt x="907" y="260"/>
                  </a:lnTo>
                  <a:lnTo>
                    <a:pt x="932" y="262"/>
                  </a:lnTo>
                  <a:lnTo>
                    <a:pt x="924" y="270"/>
                  </a:lnTo>
                  <a:lnTo>
                    <a:pt x="916" y="280"/>
                  </a:lnTo>
                  <a:lnTo>
                    <a:pt x="907" y="293"/>
                  </a:lnTo>
                  <a:lnTo>
                    <a:pt x="898" y="308"/>
                  </a:lnTo>
                  <a:lnTo>
                    <a:pt x="878" y="343"/>
                  </a:lnTo>
                  <a:lnTo>
                    <a:pt x="858" y="382"/>
                  </a:lnTo>
                  <a:lnTo>
                    <a:pt x="836" y="423"/>
                  </a:lnTo>
                  <a:lnTo>
                    <a:pt x="814" y="462"/>
                  </a:lnTo>
                  <a:lnTo>
                    <a:pt x="802" y="480"/>
                  </a:lnTo>
                  <a:lnTo>
                    <a:pt x="791" y="496"/>
                  </a:lnTo>
                  <a:lnTo>
                    <a:pt x="779" y="512"/>
                  </a:lnTo>
                  <a:lnTo>
                    <a:pt x="767" y="524"/>
                  </a:lnTo>
                  <a:lnTo>
                    <a:pt x="763" y="530"/>
                  </a:lnTo>
                  <a:lnTo>
                    <a:pt x="758" y="538"/>
                  </a:lnTo>
                  <a:lnTo>
                    <a:pt x="753" y="547"/>
                  </a:lnTo>
                  <a:lnTo>
                    <a:pt x="750" y="556"/>
                  </a:lnTo>
                  <a:lnTo>
                    <a:pt x="744" y="577"/>
                  </a:lnTo>
                  <a:lnTo>
                    <a:pt x="738" y="600"/>
                  </a:lnTo>
                  <a:lnTo>
                    <a:pt x="731" y="652"/>
                  </a:lnTo>
                  <a:lnTo>
                    <a:pt x="724" y="708"/>
                  </a:lnTo>
                  <a:lnTo>
                    <a:pt x="719" y="736"/>
                  </a:lnTo>
                  <a:lnTo>
                    <a:pt x="713" y="764"/>
                  </a:lnTo>
                  <a:lnTo>
                    <a:pt x="710" y="777"/>
                  </a:lnTo>
                  <a:lnTo>
                    <a:pt x="706" y="790"/>
                  </a:lnTo>
                  <a:lnTo>
                    <a:pt x="702" y="802"/>
                  </a:lnTo>
                  <a:lnTo>
                    <a:pt x="697" y="814"/>
                  </a:lnTo>
                  <a:lnTo>
                    <a:pt x="691" y="825"/>
                  </a:lnTo>
                  <a:lnTo>
                    <a:pt x="684" y="835"/>
                  </a:lnTo>
                  <a:lnTo>
                    <a:pt x="677" y="846"/>
                  </a:lnTo>
                  <a:lnTo>
                    <a:pt x="670" y="855"/>
                  </a:lnTo>
                  <a:lnTo>
                    <a:pt x="661" y="863"/>
                  </a:lnTo>
                  <a:lnTo>
                    <a:pt x="652" y="870"/>
                  </a:lnTo>
                  <a:lnTo>
                    <a:pt x="641" y="876"/>
                  </a:lnTo>
                  <a:lnTo>
                    <a:pt x="629" y="881"/>
                  </a:lnTo>
                  <a:lnTo>
                    <a:pt x="597" y="891"/>
                  </a:lnTo>
                  <a:lnTo>
                    <a:pt x="566" y="900"/>
                  </a:lnTo>
                  <a:lnTo>
                    <a:pt x="537" y="907"/>
                  </a:lnTo>
                  <a:lnTo>
                    <a:pt x="509" y="913"/>
                  </a:lnTo>
                  <a:lnTo>
                    <a:pt x="482" y="918"/>
                  </a:lnTo>
                  <a:lnTo>
                    <a:pt x="458" y="922"/>
                  </a:lnTo>
                  <a:lnTo>
                    <a:pt x="433" y="924"/>
                  </a:lnTo>
                  <a:lnTo>
                    <a:pt x="410" y="925"/>
                  </a:lnTo>
                  <a:lnTo>
                    <a:pt x="388" y="925"/>
                  </a:lnTo>
                  <a:lnTo>
                    <a:pt x="367" y="924"/>
                  </a:lnTo>
                  <a:lnTo>
                    <a:pt x="347" y="922"/>
                  </a:lnTo>
                  <a:lnTo>
                    <a:pt x="328" y="919"/>
                  </a:lnTo>
                  <a:lnTo>
                    <a:pt x="309" y="916"/>
                  </a:lnTo>
                  <a:lnTo>
                    <a:pt x="292" y="912"/>
                  </a:lnTo>
                  <a:lnTo>
                    <a:pt x="275" y="907"/>
                  </a:lnTo>
                  <a:lnTo>
                    <a:pt x="260" y="903"/>
                  </a:lnTo>
                  <a:lnTo>
                    <a:pt x="231" y="892"/>
                  </a:lnTo>
                  <a:lnTo>
                    <a:pt x="205" y="882"/>
                  </a:lnTo>
                  <a:lnTo>
                    <a:pt x="181" y="871"/>
                  </a:lnTo>
                  <a:lnTo>
                    <a:pt x="160" y="861"/>
                  </a:lnTo>
                  <a:lnTo>
                    <a:pt x="140" y="851"/>
                  </a:lnTo>
                  <a:lnTo>
                    <a:pt x="121" y="846"/>
                  </a:lnTo>
                  <a:lnTo>
                    <a:pt x="113" y="843"/>
                  </a:lnTo>
                  <a:lnTo>
                    <a:pt x="104" y="841"/>
                  </a:lnTo>
                  <a:lnTo>
                    <a:pt x="96" y="841"/>
                  </a:lnTo>
                  <a:lnTo>
                    <a:pt x="87" y="841"/>
                  </a:lnTo>
                  <a:lnTo>
                    <a:pt x="73" y="839"/>
                  </a:lnTo>
                  <a:lnTo>
                    <a:pt x="61" y="835"/>
                  </a:lnTo>
                  <a:lnTo>
                    <a:pt x="50" y="830"/>
                  </a:lnTo>
                  <a:lnTo>
                    <a:pt x="39" y="825"/>
                  </a:lnTo>
                  <a:lnTo>
                    <a:pt x="30" y="819"/>
                  </a:lnTo>
                  <a:lnTo>
                    <a:pt x="23" y="812"/>
                  </a:lnTo>
                  <a:lnTo>
                    <a:pt x="16" y="804"/>
                  </a:lnTo>
                  <a:lnTo>
                    <a:pt x="11" y="795"/>
                  </a:lnTo>
                  <a:lnTo>
                    <a:pt x="7" y="788"/>
                  </a:lnTo>
                  <a:lnTo>
                    <a:pt x="4" y="780"/>
                  </a:lnTo>
                  <a:lnTo>
                    <a:pt x="2" y="772"/>
                  </a:lnTo>
                  <a:lnTo>
                    <a:pt x="1" y="764"/>
                  </a:lnTo>
                  <a:lnTo>
                    <a:pt x="2" y="757"/>
                  </a:lnTo>
                  <a:lnTo>
                    <a:pt x="3" y="751"/>
                  </a:lnTo>
                  <a:lnTo>
                    <a:pt x="6" y="745"/>
                  </a:lnTo>
                  <a:lnTo>
                    <a:pt x="10" y="74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Freeform 212"/>
            <p:cNvSpPr/>
            <p:nvPr/>
          </p:nvSpPr>
          <p:spPr>
            <a:xfrm>
              <a:off x="8093160" y="3900240"/>
              <a:ext cx="235800" cy="1108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568" h="689">
                  <a:moveTo>
                    <a:pt x="548" y="648"/>
                  </a:moveTo>
                  <a:lnTo>
                    <a:pt x="508" y="655"/>
                  </a:lnTo>
                  <a:lnTo>
                    <a:pt x="471" y="663"/>
                  </a:lnTo>
                  <a:lnTo>
                    <a:pt x="435" y="670"/>
                  </a:lnTo>
                  <a:lnTo>
                    <a:pt x="402" y="677"/>
                  </a:lnTo>
                  <a:lnTo>
                    <a:pt x="371" y="683"/>
                  </a:lnTo>
                  <a:lnTo>
                    <a:pt x="340" y="688"/>
                  </a:lnTo>
                  <a:lnTo>
                    <a:pt x="326" y="689"/>
                  </a:lnTo>
                  <a:lnTo>
                    <a:pt x="312" y="689"/>
                  </a:lnTo>
                  <a:lnTo>
                    <a:pt x="299" y="689"/>
                  </a:lnTo>
                  <a:lnTo>
                    <a:pt x="286" y="689"/>
                  </a:lnTo>
                  <a:lnTo>
                    <a:pt x="279" y="680"/>
                  </a:lnTo>
                  <a:lnTo>
                    <a:pt x="274" y="670"/>
                  </a:lnTo>
                  <a:lnTo>
                    <a:pt x="268" y="661"/>
                  </a:lnTo>
                  <a:lnTo>
                    <a:pt x="264" y="652"/>
                  </a:lnTo>
                  <a:lnTo>
                    <a:pt x="257" y="634"/>
                  </a:lnTo>
                  <a:lnTo>
                    <a:pt x="254" y="616"/>
                  </a:lnTo>
                  <a:lnTo>
                    <a:pt x="253" y="600"/>
                  </a:lnTo>
                  <a:lnTo>
                    <a:pt x="253" y="585"/>
                  </a:lnTo>
                  <a:lnTo>
                    <a:pt x="253" y="571"/>
                  </a:lnTo>
                  <a:lnTo>
                    <a:pt x="254" y="557"/>
                  </a:lnTo>
                  <a:lnTo>
                    <a:pt x="255" y="545"/>
                  </a:lnTo>
                  <a:lnTo>
                    <a:pt x="256" y="534"/>
                  </a:lnTo>
                  <a:lnTo>
                    <a:pt x="256" y="524"/>
                  </a:lnTo>
                  <a:lnTo>
                    <a:pt x="254" y="516"/>
                  </a:lnTo>
                  <a:lnTo>
                    <a:pt x="253" y="513"/>
                  </a:lnTo>
                  <a:lnTo>
                    <a:pt x="250" y="510"/>
                  </a:lnTo>
                  <a:lnTo>
                    <a:pt x="248" y="508"/>
                  </a:lnTo>
                  <a:lnTo>
                    <a:pt x="244" y="505"/>
                  </a:lnTo>
                  <a:lnTo>
                    <a:pt x="240" y="503"/>
                  </a:lnTo>
                  <a:lnTo>
                    <a:pt x="235" y="502"/>
                  </a:lnTo>
                  <a:lnTo>
                    <a:pt x="229" y="502"/>
                  </a:lnTo>
                  <a:lnTo>
                    <a:pt x="222" y="501"/>
                  </a:lnTo>
                  <a:lnTo>
                    <a:pt x="209" y="501"/>
                  </a:lnTo>
                  <a:lnTo>
                    <a:pt x="198" y="498"/>
                  </a:lnTo>
                  <a:lnTo>
                    <a:pt x="187" y="496"/>
                  </a:lnTo>
                  <a:lnTo>
                    <a:pt x="179" y="491"/>
                  </a:lnTo>
                  <a:lnTo>
                    <a:pt x="172" y="487"/>
                  </a:lnTo>
                  <a:lnTo>
                    <a:pt x="166" y="481"/>
                  </a:lnTo>
                  <a:lnTo>
                    <a:pt x="161" y="475"/>
                  </a:lnTo>
                  <a:lnTo>
                    <a:pt x="157" y="468"/>
                  </a:lnTo>
                  <a:lnTo>
                    <a:pt x="147" y="454"/>
                  </a:lnTo>
                  <a:lnTo>
                    <a:pt x="137" y="440"/>
                  </a:lnTo>
                  <a:lnTo>
                    <a:pt x="131" y="434"/>
                  </a:lnTo>
                  <a:lnTo>
                    <a:pt x="125" y="428"/>
                  </a:lnTo>
                  <a:lnTo>
                    <a:pt x="117" y="423"/>
                  </a:lnTo>
                  <a:lnTo>
                    <a:pt x="108" y="418"/>
                  </a:lnTo>
                  <a:lnTo>
                    <a:pt x="90" y="391"/>
                  </a:lnTo>
                  <a:lnTo>
                    <a:pt x="77" y="369"/>
                  </a:lnTo>
                  <a:lnTo>
                    <a:pt x="68" y="349"/>
                  </a:lnTo>
                  <a:lnTo>
                    <a:pt x="60" y="331"/>
                  </a:lnTo>
                  <a:lnTo>
                    <a:pt x="55" y="317"/>
                  </a:lnTo>
                  <a:lnTo>
                    <a:pt x="52" y="303"/>
                  </a:lnTo>
                  <a:lnTo>
                    <a:pt x="50" y="291"/>
                  </a:lnTo>
                  <a:lnTo>
                    <a:pt x="48" y="279"/>
                  </a:lnTo>
                  <a:lnTo>
                    <a:pt x="47" y="266"/>
                  </a:lnTo>
                  <a:lnTo>
                    <a:pt x="46" y="253"/>
                  </a:lnTo>
                  <a:lnTo>
                    <a:pt x="43" y="239"/>
                  </a:lnTo>
                  <a:lnTo>
                    <a:pt x="40" y="223"/>
                  </a:lnTo>
                  <a:lnTo>
                    <a:pt x="34" y="204"/>
                  </a:lnTo>
                  <a:lnTo>
                    <a:pt x="26" y="182"/>
                  </a:lnTo>
                  <a:lnTo>
                    <a:pt x="15" y="156"/>
                  </a:lnTo>
                  <a:lnTo>
                    <a:pt x="0" y="127"/>
                  </a:lnTo>
                  <a:lnTo>
                    <a:pt x="18" y="114"/>
                  </a:lnTo>
                  <a:lnTo>
                    <a:pt x="33" y="100"/>
                  </a:lnTo>
                  <a:lnTo>
                    <a:pt x="49" y="87"/>
                  </a:lnTo>
                  <a:lnTo>
                    <a:pt x="65" y="72"/>
                  </a:lnTo>
                  <a:lnTo>
                    <a:pt x="73" y="139"/>
                  </a:lnTo>
                  <a:lnTo>
                    <a:pt x="83" y="138"/>
                  </a:lnTo>
                  <a:lnTo>
                    <a:pt x="111" y="134"/>
                  </a:lnTo>
                  <a:lnTo>
                    <a:pt x="154" y="129"/>
                  </a:lnTo>
                  <a:lnTo>
                    <a:pt x="212" y="122"/>
                  </a:lnTo>
                  <a:lnTo>
                    <a:pt x="281" y="114"/>
                  </a:lnTo>
                  <a:lnTo>
                    <a:pt x="357" y="105"/>
                  </a:lnTo>
                  <a:lnTo>
                    <a:pt x="439" y="96"/>
                  </a:lnTo>
                  <a:lnTo>
                    <a:pt x="526" y="85"/>
                  </a:lnTo>
                  <a:lnTo>
                    <a:pt x="612" y="74"/>
                  </a:lnTo>
                  <a:lnTo>
                    <a:pt x="699" y="64"/>
                  </a:lnTo>
                  <a:lnTo>
                    <a:pt x="779" y="53"/>
                  </a:lnTo>
                  <a:lnTo>
                    <a:pt x="855" y="44"/>
                  </a:lnTo>
                  <a:lnTo>
                    <a:pt x="922" y="35"/>
                  </a:lnTo>
                  <a:lnTo>
                    <a:pt x="977" y="27"/>
                  </a:lnTo>
                  <a:lnTo>
                    <a:pt x="1018" y="20"/>
                  </a:lnTo>
                  <a:lnTo>
                    <a:pt x="1043" y="15"/>
                  </a:lnTo>
                  <a:lnTo>
                    <a:pt x="1071" y="8"/>
                  </a:lnTo>
                  <a:lnTo>
                    <a:pt x="1094" y="4"/>
                  </a:lnTo>
                  <a:lnTo>
                    <a:pt x="1111" y="3"/>
                  </a:lnTo>
                  <a:lnTo>
                    <a:pt x="1126" y="4"/>
                  </a:lnTo>
                  <a:lnTo>
                    <a:pt x="1139" y="6"/>
                  </a:lnTo>
                  <a:lnTo>
                    <a:pt x="1152" y="6"/>
                  </a:lnTo>
                  <a:lnTo>
                    <a:pt x="1166" y="4"/>
                  </a:lnTo>
                  <a:lnTo>
                    <a:pt x="1181" y="0"/>
                  </a:lnTo>
                  <a:lnTo>
                    <a:pt x="1366" y="84"/>
                  </a:lnTo>
                  <a:lnTo>
                    <a:pt x="1358" y="92"/>
                  </a:lnTo>
                  <a:lnTo>
                    <a:pt x="1352" y="99"/>
                  </a:lnTo>
                  <a:lnTo>
                    <a:pt x="1347" y="106"/>
                  </a:lnTo>
                  <a:lnTo>
                    <a:pt x="1345" y="113"/>
                  </a:lnTo>
                  <a:lnTo>
                    <a:pt x="1344" y="120"/>
                  </a:lnTo>
                  <a:lnTo>
                    <a:pt x="1345" y="127"/>
                  </a:lnTo>
                  <a:lnTo>
                    <a:pt x="1347" y="133"/>
                  </a:lnTo>
                  <a:lnTo>
                    <a:pt x="1351" y="140"/>
                  </a:lnTo>
                  <a:lnTo>
                    <a:pt x="1355" y="146"/>
                  </a:lnTo>
                  <a:lnTo>
                    <a:pt x="1361" y="152"/>
                  </a:lnTo>
                  <a:lnTo>
                    <a:pt x="1369" y="157"/>
                  </a:lnTo>
                  <a:lnTo>
                    <a:pt x="1377" y="163"/>
                  </a:lnTo>
                  <a:lnTo>
                    <a:pt x="1396" y="175"/>
                  </a:lnTo>
                  <a:lnTo>
                    <a:pt x="1417" y="187"/>
                  </a:lnTo>
                  <a:lnTo>
                    <a:pt x="1439" y="199"/>
                  </a:lnTo>
                  <a:lnTo>
                    <a:pt x="1463" y="213"/>
                  </a:lnTo>
                  <a:lnTo>
                    <a:pt x="1486" y="227"/>
                  </a:lnTo>
                  <a:lnTo>
                    <a:pt x="1508" y="243"/>
                  </a:lnTo>
                  <a:lnTo>
                    <a:pt x="1519" y="251"/>
                  </a:lnTo>
                  <a:lnTo>
                    <a:pt x="1528" y="260"/>
                  </a:lnTo>
                  <a:lnTo>
                    <a:pt x="1538" y="270"/>
                  </a:lnTo>
                  <a:lnTo>
                    <a:pt x="1546" y="279"/>
                  </a:lnTo>
                  <a:lnTo>
                    <a:pt x="1553" y="289"/>
                  </a:lnTo>
                  <a:lnTo>
                    <a:pt x="1559" y="300"/>
                  </a:lnTo>
                  <a:lnTo>
                    <a:pt x="1564" y="310"/>
                  </a:lnTo>
                  <a:lnTo>
                    <a:pt x="1568" y="323"/>
                  </a:lnTo>
                  <a:lnTo>
                    <a:pt x="1567" y="362"/>
                  </a:lnTo>
                  <a:lnTo>
                    <a:pt x="1563" y="393"/>
                  </a:lnTo>
                  <a:lnTo>
                    <a:pt x="1560" y="416"/>
                  </a:lnTo>
                  <a:lnTo>
                    <a:pt x="1559" y="424"/>
                  </a:lnTo>
                  <a:lnTo>
                    <a:pt x="1548" y="426"/>
                  </a:lnTo>
                  <a:lnTo>
                    <a:pt x="1539" y="428"/>
                  </a:lnTo>
                  <a:lnTo>
                    <a:pt x="1529" y="432"/>
                  </a:lnTo>
                  <a:lnTo>
                    <a:pt x="1521" y="435"/>
                  </a:lnTo>
                  <a:lnTo>
                    <a:pt x="1514" y="439"/>
                  </a:lnTo>
                  <a:lnTo>
                    <a:pt x="1508" y="444"/>
                  </a:lnTo>
                  <a:lnTo>
                    <a:pt x="1502" y="449"/>
                  </a:lnTo>
                  <a:lnTo>
                    <a:pt x="1499" y="455"/>
                  </a:lnTo>
                  <a:lnTo>
                    <a:pt x="1494" y="461"/>
                  </a:lnTo>
                  <a:lnTo>
                    <a:pt x="1492" y="467"/>
                  </a:lnTo>
                  <a:lnTo>
                    <a:pt x="1490" y="474"/>
                  </a:lnTo>
                  <a:lnTo>
                    <a:pt x="1488" y="481"/>
                  </a:lnTo>
                  <a:lnTo>
                    <a:pt x="1487" y="488"/>
                  </a:lnTo>
                  <a:lnTo>
                    <a:pt x="1487" y="495"/>
                  </a:lnTo>
                  <a:lnTo>
                    <a:pt x="1488" y="502"/>
                  </a:lnTo>
                  <a:lnTo>
                    <a:pt x="1490" y="510"/>
                  </a:lnTo>
                  <a:lnTo>
                    <a:pt x="548" y="6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Freeform 213"/>
            <p:cNvSpPr/>
            <p:nvPr/>
          </p:nvSpPr>
          <p:spPr>
            <a:xfrm>
              <a:off x="8296200" y="3689640"/>
              <a:ext cx="152280" cy="1328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016" h="821">
                  <a:moveTo>
                    <a:pt x="593" y="821"/>
                  </a:moveTo>
                  <a:lnTo>
                    <a:pt x="107" y="470"/>
                  </a:lnTo>
                  <a:lnTo>
                    <a:pt x="112" y="458"/>
                  </a:lnTo>
                  <a:lnTo>
                    <a:pt x="114" y="449"/>
                  </a:lnTo>
                  <a:lnTo>
                    <a:pt x="115" y="438"/>
                  </a:lnTo>
                  <a:lnTo>
                    <a:pt x="114" y="430"/>
                  </a:lnTo>
                  <a:lnTo>
                    <a:pt x="112" y="421"/>
                  </a:lnTo>
                  <a:lnTo>
                    <a:pt x="108" y="413"/>
                  </a:lnTo>
                  <a:lnTo>
                    <a:pt x="104" y="404"/>
                  </a:lnTo>
                  <a:lnTo>
                    <a:pt x="98" y="395"/>
                  </a:lnTo>
                  <a:lnTo>
                    <a:pt x="85" y="377"/>
                  </a:lnTo>
                  <a:lnTo>
                    <a:pt x="72" y="358"/>
                  </a:lnTo>
                  <a:lnTo>
                    <a:pt x="66" y="347"/>
                  </a:lnTo>
                  <a:lnTo>
                    <a:pt x="60" y="335"/>
                  </a:lnTo>
                  <a:lnTo>
                    <a:pt x="56" y="323"/>
                  </a:lnTo>
                  <a:lnTo>
                    <a:pt x="52" y="309"/>
                  </a:lnTo>
                  <a:lnTo>
                    <a:pt x="50" y="295"/>
                  </a:lnTo>
                  <a:lnTo>
                    <a:pt x="49" y="283"/>
                  </a:lnTo>
                  <a:lnTo>
                    <a:pt x="49" y="272"/>
                  </a:lnTo>
                  <a:lnTo>
                    <a:pt x="50" y="264"/>
                  </a:lnTo>
                  <a:lnTo>
                    <a:pt x="51" y="256"/>
                  </a:lnTo>
                  <a:lnTo>
                    <a:pt x="53" y="249"/>
                  </a:lnTo>
                  <a:lnTo>
                    <a:pt x="56" y="243"/>
                  </a:lnTo>
                  <a:lnTo>
                    <a:pt x="58" y="237"/>
                  </a:lnTo>
                  <a:lnTo>
                    <a:pt x="64" y="227"/>
                  </a:lnTo>
                  <a:lnTo>
                    <a:pt x="70" y="214"/>
                  </a:lnTo>
                  <a:lnTo>
                    <a:pt x="72" y="206"/>
                  </a:lnTo>
                  <a:lnTo>
                    <a:pt x="73" y="198"/>
                  </a:lnTo>
                  <a:lnTo>
                    <a:pt x="74" y="187"/>
                  </a:lnTo>
                  <a:lnTo>
                    <a:pt x="76" y="175"/>
                  </a:lnTo>
                  <a:lnTo>
                    <a:pt x="74" y="171"/>
                  </a:lnTo>
                  <a:lnTo>
                    <a:pt x="72" y="165"/>
                  </a:lnTo>
                  <a:lnTo>
                    <a:pt x="70" y="158"/>
                  </a:lnTo>
                  <a:lnTo>
                    <a:pt x="65" y="152"/>
                  </a:lnTo>
                  <a:lnTo>
                    <a:pt x="56" y="137"/>
                  </a:lnTo>
                  <a:lnTo>
                    <a:pt x="43" y="120"/>
                  </a:lnTo>
                  <a:lnTo>
                    <a:pt x="30" y="102"/>
                  </a:lnTo>
                  <a:lnTo>
                    <a:pt x="18" y="81"/>
                  </a:lnTo>
                  <a:lnTo>
                    <a:pt x="12" y="69"/>
                  </a:lnTo>
                  <a:lnTo>
                    <a:pt x="8" y="56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42" y="34"/>
                  </a:lnTo>
                  <a:lnTo>
                    <a:pt x="78" y="38"/>
                  </a:lnTo>
                  <a:lnTo>
                    <a:pt x="111" y="40"/>
                  </a:lnTo>
                  <a:lnTo>
                    <a:pt x="141" y="42"/>
                  </a:lnTo>
                  <a:lnTo>
                    <a:pt x="168" y="42"/>
                  </a:lnTo>
                  <a:lnTo>
                    <a:pt x="192" y="41"/>
                  </a:lnTo>
                  <a:lnTo>
                    <a:pt x="215" y="40"/>
                  </a:lnTo>
                  <a:lnTo>
                    <a:pt x="234" y="38"/>
                  </a:lnTo>
                  <a:lnTo>
                    <a:pt x="253" y="34"/>
                  </a:lnTo>
                  <a:lnTo>
                    <a:pt x="271" y="31"/>
                  </a:lnTo>
                  <a:lnTo>
                    <a:pt x="288" y="26"/>
                  </a:lnTo>
                  <a:lnTo>
                    <a:pt x="304" y="21"/>
                  </a:lnTo>
                  <a:lnTo>
                    <a:pt x="340" y="11"/>
                  </a:lnTo>
                  <a:lnTo>
                    <a:pt x="377" y="0"/>
                  </a:lnTo>
                  <a:lnTo>
                    <a:pt x="386" y="8"/>
                  </a:lnTo>
                  <a:lnTo>
                    <a:pt x="410" y="33"/>
                  </a:lnTo>
                  <a:lnTo>
                    <a:pt x="446" y="67"/>
                  </a:lnTo>
                  <a:lnTo>
                    <a:pt x="488" y="109"/>
                  </a:lnTo>
                  <a:lnTo>
                    <a:pt x="535" y="152"/>
                  </a:lnTo>
                  <a:lnTo>
                    <a:pt x="580" y="195"/>
                  </a:lnTo>
                  <a:lnTo>
                    <a:pt x="622" y="234"/>
                  </a:lnTo>
                  <a:lnTo>
                    <a:pt x="657" y="262"/>
                  </a:lnTo>
                  <a:lnTo>
                    <a:pt x="677" y="272"/>
                  </a:lnTo>
                  <a:lnTo>
                    <a:pt x="697" y="281"/>
                  </a:lnTo>
                  <a:lnTo>
                    <a:pt x="717" y="288"/>
                  </a:lnTo>
                  <a:lnTo>
                    <a:pt x="737" y="293"/>
                  </a:lnTo>
                  <a:lnTo>
                    <a:pt x="757" y="297"/>
                  </a:lnTo>
                  <a:lnTo>
                    <a:pt x="776" y="300"/>
                  </a:lnTo>
                  <a:lnTo>
                    <a:pt x="796" y="303"/>
                  </a:lnTo>
                  <a:lnTo>
                    <a:pt x="816" y="304"/>
                  </a:lnTo>
                  <a:lnTo>
                    <a:pt x="855" y="306"/>
                  </a:lnTo>
                  <a:lnTo>
                    <a:pt x="893" y="310"/>
                  </a:lnTo>
                  <a:lnTo>
                    <a:pt x="912" y="312"/>
                  </a:lnTo>
                  <a:lnTo>
                    <a:pt x="929" y="314"/>
                  </a:lnTo>
                  <a:lnTo>
                    <a:pt x="948" y="318"/>
                  </a:lnTo>
                  <a:lnTo>
                    <a:pt x="964" y="323"/>
                  </a:lnTo>
                  <a:lnTo>
                    <a:pt x="981" y="328"/>
                  </a:lnTo>
                  <a:lnTo>
                    <a:pt x="994" y="334"/>
                  </a:lnTo>
                  <a:lnTo>
                    <a:pt x="1004" y="340"/>
                  </a:lnTo>
                  <a:lnTo>
                    <a:pt x="1011" y="347"/>
                  </a:lnTo>
                  <a:lnTo>
                    <a:pt x="1014" y="349"/>
                  </a:lnTo>
                  <a:lnTo>
                    <a:pt x="1016" y="353"/>
                  </a:lnTo>
                  <a:lnTo>
                    <a:pt x="1016" y="355"/>
                  </a:lnTo>
                  <a:lnTo>
                    <a:pt x="1016" y="359"/>
                  </a:lnTo>
                  <a:lnTo>
                    <a:pt x="1016" y="362"/>
                  </a:lnTo>
                  <a:lnTo>
                    <a:pt x="1014" y="366"/>
                  </a:lnTo>
                  <a:lnTo>
                    <a:pt x="1011" y="368"/>
                  </a:lnTo>
                  <a:lnTo>
                    <a:pt x="1008" y="372"/>
                  </a:lnTo>
                  <a:lnTo>
                    <a:pt x="997" y="379"/>
                  </a:lnTo>
                  <a:lnTo>
                    <a:pt x="983" y="386"/>
                  </a:lnTo>
                  <a:lnTo>
                    <a:pt x="964" y="393"/>
                  </a:lnTo>
                  <a:lnTo>
                    <a:pt x="942" y="400"/>
                  </a:lnTo>
                  <a:lnTo>
                    <a:pt x="917" y="408"/>
                  </a:lnTo>
                  <a:lnTo>
                    <a:pt x="885" y="415"/>
                  </a:lnTo>
                  <a:lnTo>
                    <a:pt x="850" y="423"/>
                  </a:lnTo>
                  <a:lnTo>
                    <a:pt x="809" y="432"/>
                  </a:lnTo>
                  <a:lnTo>
                    <a:pt x="783" y="438"/>
                  </a:lnTo>
                  <a:lnTo>
                    <a:pt x="760" y="446"/>
                  </a:lnTo>
                  <a:lnTo>
                    <a:pt x="751" y="451"/>
                  </a:lnTo>
                  <a:lnTo>
                    <a:pt x="741" y="456"/>
                  </a:lnTo>
                  <a:lnTo>
                    <a:pt x="733" y="460"/>
                  </a:lnTo>
                  <a:lnTo>
                    <a:pt x="726" y="465"/>
                  </a:lnTo>
                  <a:lnTo>
                    <a:pt x="720" y="471"/>
                  </a:lnTo>
                  <a:lnTo>
                    <a:pt x="714" y="476"/>
                  </a:lnTo>
                  <a:lnTo>
                    <a:pt x="709" y="481"/>
                  </a:lnTo>
                  <a:lnTo>
                    <a:pt x="705" y="487"/>
                  </a:lnTo>
                  <a:lnTo>
                    <a:pt x="698" y="499"/>
                  </a:lnTo>
                  <a:lnTo>
                    <a:pt x="695" y="511"/>
                  </a:lnTo>
                  <a:lnTo>
                    <a:pt x="692" y="522"/>
                  </a:lnTo>
                  <a:lnTo>
                    <a:pt x="692" y="534"/>
                  </a:lnTo>
                  <a:lnTo>
                    <a:pt x="693" y="546"/>
                  </a:lnTo>
                  <a:lnTo>
                    <a:pt x="697" y="556"/>
                  </a:lnTo>
                  <a:lnTo>
                    <a:pt x="700" y="567"/>
                  </a:lnTo>
                  <a:lnTo>
                    <a:pt x="706" y="577"/>
                  </a:lnTo>
                  <a:lnTo>
                    <a:pt x="711" y="585"/>
                  </a:lnTo>
                  <a:lnTo>
                    <a:pt x="717" y="594"/>
                  </a:lnTo>
                  <a:lnTo>
                    <a:pt x="721" y="601"/>
                  </a:lnTo>
                  <a:lnTo>
                    <a:pt x="725" y="606"/>
                  </a:lnTo>
                  <a:lnTo>
                    <a:pt x="726" y="613"/>
                  </a:lnTo>
                  <a:lnTo>
                    <a:pt x="726" y="620"/>
                  </a:lnTo>
                  <a:lnTo>
                    <a:pt x="725" y="627"/>
                  </a:lnTo>
                  <a:lnTo>
                    <a:pt x="723" y="634"/>
                  </a:lnTo>
                  <a:lnTo>
                    <a:pt x="718" y="641"/>
                  </a:lnTo>
                  <a:lnTo>
                    <a:pt x="713" y="648"/>
                  </a:lnTo>
                  <a:lnTo>
                    <a:pt x="702" y="662"/>
                  </a:lnTo>
                  <a:lnTo>
                    <a:pt x="688" y="678"/>
                  </a:lnTo>
                  <a:lnTo>
                    <a:pt x="671" y="692"/>
                  </a:lnTo>
                  <a:lnTo>
                    <a:pt x="654" y="706"/>
                  </a:lnTo>
                  <a:lnTo>
                    <a:pt x="637" y="721"/>
                  </a:lnTo>
                  <a:lnTo>
                    <a:pt x="621" y="735"/>
                  </a:lnTo>
                  <a:lnTo>
                    <a:pt x="607" y="749"/>
                  </a:lnTo>
                  <a:lnTo>
                    <a:pt x="595" y="764"/>
                  </a:lnTo>
                  <a:lnTo>
                    <a:pt x="591" y="771"/>
                  </a:lnTo>
                  <a:lnTo>
                    <a:pt x="587" y="778"/>
                  </a:lnTo>
                  <a:lnTo>
                    <a:pt x="585" y="785"/>
                  </a:lnTo>
                  <a:lnTo>
                    <a:pt x="584" y="792"/>
                  </a:lnTo>
                  <a:lnTo>
                    <a:pt x="584" y="799"/>
                  </a:lnTo>
                  <a:lnTo>
                    <a:pt x="586" y="806"/>
                  </a:lnTo>
                  <a:lnTo>
                    <a:pt x="588" y="814"/>
                  </a:lnTo>
                  <a:lnTo>
                    <a:pt x="593" y="8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Freeform 214"/>
            <p:cNvSpPr/>
            <p:nvPr/>
          </p:nvSpPr>
          <p:spPr>
            <a:xfrm>
              <a:off x="8172360" y="4218120"/>
              <a:ext cx="239040" cy="1728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588" h="1055">
                  <a:moveTo>
                    <a:pt x="1576" y="239"/>
                  </a:moveTo>
                  <a:lnTo>
                    <a:pt x="1580" y="281"/>
                  </a:lnTo>
                  <a:lnTo>
                    <a:pt x="1585" y="322"/>
                  </a:lnTo>
                  <a:lnTo>
                    <a:pt x="1587" y="361"/>
                  </a:lnTo>
                  <a:lnTo>
                    <a:pt x="1588" y="397"/>
                  </a:lnTo>
                  <a:lnTo>
                    <a:pt x="1588" y="432"/>
                  </a:lnTo>
                  <a:lnTo>
                    <a:pt x="1588" y="465"/>
                  </a:lnTo>
                  <a:lnTo>
                    <a:pt x="1586" y="496"/>
                  </a:lnTo>
                  <a:lnTo>
                    <a:pt x="1583" y="527"/>
                  </a:lnTo>
                  <a:lnTo>
                    <a:pt x="1579" y="555"/>
                  </a:lnTo>
                  <a:lnTo>
                    <a:pt x="1574" y="580"/>
                  </a:lnTo>
                  <a:lnTo>
                    <a:pt x="1570" y="606"/>
                  </a:lnTo>
                  <a:lnTo>
                    <a:pt x="1563" y="629"/>
                  </a:lnTo>
                  <a:lnTo>
                    <a:pt x="1557" y="652"/>
                  </a:lnTo>
                  <a:lnTo>
                    <a:pt x="1549" y="672"/>
                  </a:lnTo>
                  <a:lnTo>
                    <a:pt x="1542" y="691"/>
                  </a:lnTo>
                  <a:lnTo>
                    <a:pt x="1533" y="709"/>
                  </a:lnTo>
                  <a:lnTo>
                    <a:pt x="1524" y="726"/>
                  </a:lnTo>
                  <a:lnTo>
                    <a:pt x="1515" y="743"/>
                  </a:lnTo>
                  <a:lnTo>
                    <a:pt x="1505" y="757"/>
                  </a:lnTo>
                  <a:lnTo>
                    <a:pt x="1496" y="771"/>
                  </a:lnTo>
                  <a:lnTo>
                    <a:pt x="1477" y="795"/>
                  </a:lnTo>
                  <a:lnTo>
                    <a:pt x="1458" y="816"/>
                  </a:lnTo>
                  <a:lnTo>
                    <a:pt x="1439" y="834"/>
                  </a:lnTo>
                  <a:lnTo>
                    <a:pt x="1421" y="849"/>
                  </a:lnTo>
                  <a:lnTo>
                    <a:pt x="1405" y="862"/>
                  </a:lnTo>
                  <a:lnTo>
                    <a:pt x="1391" y="872"/>
                  </a:lnTo>
                  <a:lnTo>
                    <a:pt x="1373" y="885"/>
                  </a:lnTo>
                  <a:lnTo>
                    <a:pt x="1357" y="898"/>
                  </a:lnTo>
                  <a:lnTo>
                    <a:pt x="1342" y="910"/>
                  </a:lnTo>
                  <a:lnTo>
                    <a:pt x="1330" y="923"/>
                  </a:lnTo>
                  <a:lnTo>
                    <a:pt x="1319" y="934"/>
                  </a:lnTo>
                  <a:lnTo>
                    <a:pt x="1309" y="946"/>
                  </a:lnTo>
                  <a:lnTo>
                    <a:pt x="1300" y="959"/>
                  </a:lnTo>
                  <a:lnTo>
                    <a:pt x="1293" y="971"/>
                  </a:lnTo>
                  <a:lnTo>
                    <a:pt x="1287" y="981"/>
                  </a:lnTo>
                  <a:lnTo>
                    <a:pt x="1282" y="993"/>
                  </a:lnTo>
                  <a:lnTo>
                    <a:pt x="1279" y="1004"/>
                  </a:lnTo>
                  <a:lnTo>
                    <a:pt x="1277" y="1015"/>
                  </a:lnTo>
                  <a:lnTo>
                    <a:pt x="1274" y="1025"/>
                  </a:lnTo>
                  <a:lnTo>
                    <a:pt x="1273" y="1035"/>
                  </a:lnTo>
                  <a:lnTo>
                    <a:pt x="1273" y="1045"/>
                  </a:lnTo>
                  <a:lnTo>
                    <a:pt x="1273" y="1055"/>
                  </a:lnTo>
                  <a:lnTo>
                    <a:pt x="1260" y="1035"/>
                  </a:lnTo>
                  <a:lnTo>
                    <a:pt x="1246" y="1016"/>
                  </a:lnTo>
                  <a:lnTo>
                    <a:pt x="1230" y="1000"/>
                  </a:lnTo>
                  <a:lnTo>
                    <a:pt x="1212" y="985"/>
                  </a:lnTo>
                  <a:lnTo>
                    <a:pt x="1194" y="971"/>
                  </a:lnTo>
                  <a:lnTo>
                    <a:pt x="1173" y="958"/>
                  </a:lnTo>
                  <a:lnTo>
                    <a:pt x="1152" y="945"/>
                  </a:lnTo>
                  <a:lnTo>
                    <a:pt x="1130" y="934"/>
                  </a:lnTo>
                  <a:lnTo>
                    <a:pt x="1107" y="925"/>
                  </a:lnTo>
                  <a:lnTo>
                    <a:pt x="1084" y="916"/>
                  </a:lnTo>
                  <a:lnTo>
                    <a:pt x="1060" y="907"/>
                  </a:lnTo>
                  <a:lnTo>
                    <a:pt x="1037" y="899"/>
                  </a:lnTo>
                  <a:lnTo>
                    <a:pt x="989" y="885"/>
                  </a:lnTo>
                  <a:lnTo>
                    <a:pt x="941" y="872"/>
                  </a:lnTo>
                  <a:lnTo>
                    <a:pt x="920" y="867"/>
                  </a:lnTo>
                  <a:lnTo>
                    <a:pt x="903" y="858"/>
                  </a:lnTo>
                  <a:lnTo>
                    <a:pt x="886" y="850"/>
                  </a:lnTo>
                  <a:lnTo>
                    <a:pt x="875" y="841"/>
                  </a:lnTo>
                  <a:lnTo>
                    <a:pt x="863" y="830"/>
                  </a:lnTo>
                  <a:lnTo>
                    <a:pt x="855" y="820"/>
                  </a:lnTo>
                  <a:lnTo>
                    <a:pt x="848" y="807"/>
                  </a:lnTo>
                  <a:lnTo>
                    <a:pt x="841" y="794"/>
                  </a:lnTo>
                  <a:lnTo>
                    <a:pt x="830" y="767"/>
                  </a:lnTo>
                  <a:lnTo>
                    <a:pt x="820" y="737"/>
                  </a:lnTo>
                  <a:lnTo>
                    <a:pt x="814" y="722"/>
                  </a:lnTo>
                  <a:lnTo>
                    <a:pt x="806" y="705"/>
                  </a:lnTo>
                  <a:lnTo>
                    <a:pt x="798" y="688"/>
                  </a:lnTo>
                  <a:lnTo>
                    <a:pt x="786" y="672"/>
                  </a:lnTo>
                  <a:lnTo>
                    <a:pt x="753" y="659"/>
                  </a:lnTo>
                  <a:lnTo>
                    <a:pt x="722" y="646"/>
                  </a:lnTo>
                  <a:lnTo>
                    <a:pt x="692" y="632"/>
                  </a:lnTo>
                  <a:lnTo>
                    <a:pt x="666" y="617"/>
                  </a:lnTo>
                  <a:lnTo>
                    <a:pt x="640" y="601"/>
                  </a:lnTo>
                  <a:lnTo>
                    <a:pt x="618" y="586"/>
                  </a:lnTo>
                  <a:lnTo>
                    <a:pt x="597" y="571"/>
                  </a:lnTo>
                  <a:lnTo>
                    <a:pt x="579" y="556"/>
                  </a:lnTo>
                  <a:lnTo>
                    <a:pt x="549" y="529"/>
                  </a:lnTo>
                  <a:lnTo>
                    <a:pt x="527" y="507"/>
                  </a:lnTo>
                  <a:lnTo>
                    <a:pt x="514" y="493"/>
                  </a:lnTo>
                  <a:lnTo>
                    <a:pt x="510" y="487"/>
                  </a:lnTo>
                  <a:lnTo>
                    <a:pt x="354" y="441"/>
                  </a:lnTo>
                  <a:lnTo>
                    <a:pt x="0" y="112"/>
                  </a:lnTo>
                  <a:lnTo>
                    <a:pt x="15" y="47"/>
                  </a:lnTo>
                  <a:lnTo>
                    <a:pt x="548" y="0"/>
                  </a:lnTo>
                  <a:lnTo>
                    <a:pt x="579" y="55"/>
                  </a:lnTo>
                  <a:lnTo>
                    <a:pt x="927" y="23"/>
                  </a:lnTo>
                  <a:lnTo>
                    <a:pt x="1576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Freeform 215"/>
            <p:cNvSpPr/>
            <p:nvPr/>
          </p:nvSpPr>
          <p:spPr>
            <a:xfrm>
              <a:off x="8091720" y="4113360"/>
              <a:ext cx="401400" cy="1443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666" h="882">
                  <a:moveTo>
                    <a:pt x="541" y="755"/>
                  </a:moveTo>
                  <a:lnTo>
                    <a:pt x="556" y="690"/>
                  </a:lnTo>
                  <a:lnTo>
                    <a:pt x="1089" y="643"/>
                  </a:lnTo>
                  <a:lnTo>
                    <a:pt x="1120" y="698"/>
                  </a:lnTo>
                  <a:lnTo>
                    <a:pt x="1468" y="666"/>
                  </a:lnTo>
                  <a:lnTo>
                    <a:pt x="2117" y="882"/>
                  </a:lnTo>
                  <a:lnTo>
                    <a:pt x="2317" y="851"/>
                  </a:lnTo>
                  <a:lnTo>
                    <a:pt x="2316" y="843"/>
                  </a:lnTo>
                  <a:lnTo>
                    <a:pt x="2312" y="822"/>
                  </a:lnTo>
                  <a:lnTo>
                    <a:pt x="2307" y="790"/>
                  </a:lnTo>
                  <a:lnTo>
                    <a:pt x="2302" y="753"/>
                  </a:lnTo>
                  <a:lnTo>
                    <a:pt x="2301" y="733"/>
                  </a:lnTo>
                  <a:lnTo>
                    <a:pt x="2301" y="713"/>
                  </a:lnTo>
                  <a:lnTo>
                    <a:pt x="2302" y="694"/>
                  </a:lnTo>
                  <a:lnTo>
                    <a:pt x="2305" y="676"/>
                  </a:lnTo>
                  <a:lnTo>
                    <a:pt x="2308" y="658"/>
                  </a:lnTo>
                  <a:lnTo>
                    <a:pt x="2314" y="643"/>
                  </a:lnTo>
                  <a:lnTo>
                    <a:pt x="2319" y="637"/>
                  </a:lnTo>
                  <a:lnTo>
                    <a:pt x="2322" y="630"/>
                  </a:lnTo>
                  <a:lnTo>
                    <a:pt x="2327" y="625"/>
                  </a:lnTo>
                  <a:lnTo>
                    <a:pt x="2333" y="621"/>
                  </a:lnTo>
                  <a:lnTo>
                    <a:pt x="2344" y="610"/>
                  </a:lnTo>
                  <a:lnTo>
                    <a:pt x="2357" y="599"/>
                  </a:lnTo>
                  <a:lnTo>
                    <a:pt x="2371" y="586"/>
                  </a:lnTo>
                  <a:lnTo>
                    <a:pt x="2386" y="572"/>
                  </a:lnTo>
                  <a:lnTo>
                    <a:pt x="2418" y="540"/>
                  </a:lnTo>
                  <a:lnTo>
                    <a:pt x="2453" y="507"/>
                  </a:lnTo>
                  <a:lnTo>
                    <a:pt x="2473" y="492"/>
                  </a:lnTo>
                  <a:lnTo>
                    <a:pt x="2494" y="477"/>
                  </a:lnTo>
                  <a:lnTo>
                    <a:pt x="2515" y="463"/>
                  </a:lnTo>
                  <a:lnTo>
                    <a:pt x="2538" y="450"/>
                  </a:lnTo>
                  <a:lnTo>
                    <a:pt x="2550" y="444"/>
                  </a:lnTo>
                  <a:lnTo>
                    <a:pt x="2563" y="438"/>
                  </a:lnTo>
                  <a:lnTo>
                    <a:pt x="2576" y="434"/>
                  </a:lnTo>
                  <a:lnTo>
                    <a:pt x="2588" y="429"/>
                  </a:lnTo>
                  <a:lnTo>
                    <a:pt x="2601" y="426"/>
                  </a:lnTo>
                  <a:lnTo>
                    <a:pt x="2615" y="422"/>
                  </a:lnTo>
                  <a:lnTo>
                    <a:pt x="2629" y="420"/>
                  </a:lnTo>
                  <a:lnTo>
                    <a:pt x="2643" y="419"/>
                  </a:lnTo>
                  <a:lnTo>
                    <a:pt x="2645" y="403"/>
                  </a:lnTo>
                  <a:lnTo>
                    <a:pt x="2646" y="387"/>
                  </a:lnTo>
                  <a:lnTo>
                    <a:pt x="2648" y="370"/>
                  </a:lnTo>
                  <a:lnTo>
                    <a:pt x="2652" y="351"/>
                  </a:lnTo>
                  <a:lnTo>
                    <a:pt x="2659" y="314"/>
                  </a:lnTo>
                  <a:lnTo>
                    <a:pt x="2664" y="276"/>
                  </a:lnTo>
                  <a:lnTo>
                    <a:pt x="2666" y="257"/>
                  </a:lnTo>
                  <a:lnTo>
                    <a:pt x="2666" y="239"/>
                  </a:lnTo>
                  <a:lnTo>
                    <a:pt x="2664" y="222"/>
                  </a:lnTo>
                  <a:lnTo>
                    <a:pt x="2662" y="206"/>
                  </a:lnTo>
                  <a:lnTo>
                    <a:pt x="2660" y="198"/>
                  </a:lnTo>
                  <a:lnTo>
                    <a:pt x="2656" y="191"/>
                  </a:lnTo>
                  <a:lnTo>
                    <a:pt x="2653" y="184"/>
                  </a:lnTo>
                  <a:lnTo>
                    <a:pt x="2649" y="178"/>
                  </a:lnTo>
                  <a:lnTo>
                    <a:pt x="2645" y="172"/>
                  </a:lnTo>
                  <a:lnTo>
                    <a:pt x="2639" y="166"/>
                  </a:lnTo>
                  <a:lnTo>
                    <a:pt x="2633" y="160"/>
                  </a:lnTo>
                  <a:lnTo>
                    <a:pt x="2626" y="157"/>
                  </a:lnTo>
                  <a:lnTo>
                    <a:pt x="2597" y="141"/>
                  </a:lnTo>
                  <a:lnTo>
                    <a:pt x="2569" y="128"/>
                  </a:lnTo>
                  <a:lnTo>
                    <a:pt x="2539" y="116"/>
                  </a:lnTo>
                  <a:lnTo>
                    <a:pt x="2511" y="102"/>
                  </a:lnTo>
                  <a:lnTo>
                    <a:pt x="2496" y="95"/>
                  </a:lnTo>
                  <a:lnTo>
                    <a:pt x="2482" y="86"/>
                  </a:lnTo>
                  <a:lnTo>
                    <a:pt x="2468" y="76"/>
                  </a:lnTo>
                  <a:lnTo>
                    <a:pt x="2454" y="65"/>
                  </a:lnTo>
                  <a:lnTo>
                    <a:pt x="2439" y="52"/>
                  </a:lnTo>
                  <a:lnTo>
                    <a:pt x="2425" y="37"/>
                  </a:lnTo>
                  <a:lnTo>
                    <a:pt x="2411" y="20"/>
                  </a:lnTo>
                  <a:lnTo>
                    <a:pt x="2396" y="0"/>
                  </a:lnTo>
                  <a:lnTo>
                    <a:pt x="625" y="240"/>
                  </a:lnTo>
                  <a:lnTo>
                    <a:pt x="618" y="246"/>
                  </a:lnTo>
                  <a:lnTo>
                    <a:pt x="613" y="252"/>
                  </a:lnTo>
                  <a:lnTo>
                    <a:pt x="611" y="260"/>
                  </a:lnTo>
                  <a:lnTo>
                    <a:pt x="607" y="269"/>
                  </a:lnTo>
                  <a:lnTo>
                    <a:pt x="605" y="290"/>
                  </a:lnTo>
                  <a:lnTo>
                    <a:pt x="603" y="311"/>
                  </a:lnTo>
                  <a:lnTo>
                    <a:pt x="600" y="323"/>
                  </a:lnTo>
                  <a:lnTo>
                    <a:pt x="598" y="333"/>
                  </a:lnTo>
                  <a:lnTo>
                    <a:pt x="593" y="343"/>
                  </a:lnTo>
                  <a:lnTo>
                    <a:pt x="589" y="351"/>
                  </a:lnTo>
                  <a:lnTo>
                    <a:pt x="582" y="359"/>
                  </a:lnTo>
                  <a:lnTo>
                    <a:pt x="573" y="365"/>
                  </a:lnTo>
                  <a:lnTo>
                    <a:pt x="569" y="367"/>
                  </a:lnTo>
                  <a:lnTo>
                    <a:pt x="563" y="370"/>
                  </a:lnTo>
                  <a:lnTo>
                    <a:pt x="557" y="372"/>
                  </a:lnTo>
                  <a:lnTo>
                    <a:pt x="550" y="372"/>
                  </a:lnTo>
                  <a:lnTo>
                    <a:pt x="538" y="374"/>
                  </a:lnTo>
                  <a:lnTo>
                    <a:pt x="528" y="377"/>
                  </a:lnTo>
                  <a:lnTo>
                    <a:pt x="517" y="380"/>
                  </a:lnTo>
                  <a:lnTo>
                    <a:pt x="507" y="385"/>
                  </a:lnTo>
                  <a:lnTo>
                    <a:pt x="498" y="389"/>
                  </a:lnTo>
                  <a:lnTo>
                    <a:pt x="488" y="395"/>
                  </a:lnTo>
                  <a:lnTo>
                    <a:pt x="480" y="401"/>
                  </a:lnTo>
                  <a:lnTo>
                    <a:pt x="472" y="408"/>
                  </a:lnTo>
                  <a:lnTo>
                    <a:pt x="455" y="423"/>
                  </a:lnTo>
                  <a:lnTo>
                    <a:pt x="440" y="438"/>
                  </a:lnTo>
                  <a:lnTo>
                    <a:pt x="424" y="456"/>
                  </a:lnTo>
                  <a:lnTo>
                    <a:pt x="409" y="474"/>
                  </a:lnTo>
                  <a:lnTo>
                    <a:pt x="394" y="491"/>
                  </a:lnTo>
                  <a:lnTo>
                    <a:pt x="377" y="507"/>
                  </a:lnTo>
                  <a:lnTo>
                    <a:pt x="360" y="524"/>
                  </a:lnTo>
                  <a:lnTo>
                    <a:pt x="341" y="539"/>
                  </a:lnTo>
                  <a:lnTo>
                    <a:pt x="332" y="545"/>
                  </a:lnTo>
                  <a:lnTo>
                    <a:pt x="321" y="552"/>
                  </a:lnTo>
                  <a:lnTo>
                    <a:pt x="311" y="556"/>
                  </a:lnTo>
                  <a:lnTo>
                    <a:pt x="299" y="562"/>
                  </a:lnTo>
                  <a:lnTo>
                    <a:pt x="287" y="566"/>
                  </a:lnTo>
                  <a:lnTo>
                    <a:pt x="274" y="569"/>
                  </a:lnTo>
                  <a:lnTo>
                    <a:pt x="262" y="573"/>
                  </a:lnTo>
                  <a:lnTo>
                    <a:pt x="248" y="574"/>
                  </a:lnTo>
                  <a:lnTo>
                    <a:pt x="236" y="575"/>
                  </a:lnTo>
                  <a:lnTo>
                    <a:pt x="224" y="577"/>
                  </a:lnTo>
                  <a:lnTo>
                    <a:pt x="213" y="580"/>
                  </a:lnTo>
                  <a:lnTo>
                    <a:pt x="201" y="583"/>
                  </a:lnTo>
                  <a:lnTo>
                    <a:pt x="177" y="592"/>
                  </a:lnTo>
                  <a:lnTo>
                    <a:pt x="154" y="601"/>
                  </a:lnTo>
                  <a:lnTo>
                    <a:pt x="132" y="613"/>
                  </a:lnTo>
                  <a:lnTo>
                    <a:pt x="111" y="625"/>
                  </a:lnTo>
                  <a:lnTo>
                    <a:pt x="91" y="639"/>
                  </a:lnTo>
                  <a:lnTo>
                    <a:pt x="72" y="653"/>
                  </a:lnTo>
                  <a:lnTo>
                    <a:pt x="56" y="669"/>
                  </a:lnTo>
                  <a:lnTo>
                    <a:pt x="41" y="683"/>
                  </a:lnTo>
                  <a:lnTo>
                    <a:pt x="28" y="697"/>
                  </a:lnTo>
                  <a:lnTo>
                    <a:pt x="19" y="709"/>
                  </a:lnTo>
                  <a:lnTo>
                    <a:pt x="12" y="720"/>
                  </a:lnTo>
                  <a:lnTo>
                    <a:pt x="7" y="731"/>
                  </a:lnTo>
                  <a:lnTo>
                    <a:pt x="6" y="735"/>
                  </a:lnTo>
                  <a:lnTo>
                    <a:pt x="6" y="739"/>
                  </a:lnTo>
                  <a:lnTo>
                    <a:pt x="7" y="741"/>
                  </a:lnTo>
                  <a:lnTo>
                    <a:pt x="8" y="745"/>
                  </a:lnTo>
                  <a:lnTo>
                    <a:pt x="12" y="748"/>
                  </a:lnTo>
                  <a:lnTo>
                    <a:pt x="15" y="754"/>
                  </a:lnTo>
                  <a:lnTo>
                    <a:pt x="17" y="759"/>
                  </a:lnTo>
                  <a:lnTo>
                    <a:pt x="19" y="763"/>
                  </a:lnTo>
                  <a:lnTo>
                    <a:pt x="20" y="775"/>
                  </a:lnTo>
                  <a:lnTo>
                    <a:pt x="17" y="785"/>
                  </a:lnTo>
                  <a:lnTo>
                    <a:pt x="15" y="795"/>
                  </a:lnTo>
                  <a:lnTo>
                    <a:pt x="10" y="803"/>
                  </a:lnTo>
                  <a:lnTo>
                    <a:pt x="5" y="810"/>
                  </a:lnTo>
                  <a:lnTo>
                    <a:pt x="0" y="813"/>
                  </a:lnTo>
                  <a:lnTo>
                    <a:pt x="541" y="75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Freeform 216"/>
            <p:cNvSpPr/>
            <p:nvPr/>
          </p:nvSpPr>
          <p:spPr>
            <a:xfrm>
              <a:off x="7794360" y="4151160"/>
              <a:ext cx="389880" cy="12960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590" h="792">
                  <a:moveTo>
                    <a:pt x="2590" y="0"/>
                  </a:moveTo>
                  <a:lnTo>
                    <a:pt x="613" y="265"/>
                  </a:lnTo>
                  <a:lnTo>
                    <a:pt x="596" y="311"/>
                  </a:lnTo>
                  <a:lnTo>
                    <a:pt x="78" y="366"/>
                  </a:lnTo>
                  <a:lnTo>
                    <a:pt x="76" y="377"/>
                  </a:lnTo>
                  <a:lnTo>
                    <a:pt x="75" y="388"/>
                  </a:lnTo>
                  <a:lnTo>
                    <a:pt x="74" y="398"/>
                  </a:lnTo>
                  <a:lnTo>
                    <a:pt x="74" y="408"/>
                  </a:lnTo>
                  <a:lnTo>
                    <a:pt x="74" y="426"/>
                  </a:lnTo>
                  <a:lnTo>
                    <a:pt x="74" y="443"/>
                  </a:lnTo>
                  <a:lnTo>
                    <a:pt x="73" y="452"/>
                  </a:lnTo>
                  <a:lnTo>
                    <a:pt x="70" y="460"/>
                  </a:lnTo>
                  <a:lnTo>
                    <a:pt x="68" y="469"/>
                  </a:lnTo>
                  <a:lnTo>
                    <a:pt x="63" y="478"/>
                  </a:lnTo>
                  <a:lnTo>
                    <a:pt x="59" y="487"/>
                  </a:lnTo>
                  <a:lnTo>
                    <a:pt x="52" y="498"/>
                  </a:lnTo>
                  <a:lnTo>
                    <a:pt x="42" y="508"/>
                  </a:lnTo>
                  <a:lnTo>
                    <a:pt x="32" y="519"/>
                  </a:lnTo>
                  <a:lnTo>
                    <a:pt x="35" y="535"/>
                  </a:lnTo>
                  <a:lnTo>
                    <a:pt x="36" y="551"/>
                  </a:lnTo>
                  <a:lnTo>
                    <a:pt x="37" y="568"/>
                  </a:lnTo>
                  <a:lnTo>
                    <a:pt x="39" y="585"/>
                  </a:lnTo>
                  <a:lnTo>
                    <a:pt x="37" y="603"/>
                  </a:lnTo>
                  <a:lnTo>
                    <a:pt x="37" y="619"/>
                  </a:lnTo>
                  <a:lnTo>
                    <a:pt x="35" y="637"/>
                  </a:lnTo>
                  <a:lnTo>
                    <a:pt x="33" y="654"/>
                  </a:lnTo>
                  <a:lnTo>
                    <a:pt x="27" y="689"/>
                  </a:lnTo>
                  <a:lnTo>
                    <a:pt x="20" y="724"/>
                  </a:lnTo>
                  <a:lnTo>
                    <a:pt x="11" y="758"/>
                  </a:lnTo>
                  <a:lnTo>
                    <a:pt x="0" y="792"/>
                  </a:lnTo>
                  <a:lnTo>
                    <a:pt x="709" y="717"/>
                  </a:lnTo>
                  <a:lnTo>
                    <a:pt x="712" y="717"/>
                  </a:lnTo>
                  <a:lnTo>
                    <a:pt x="1466" y="631"/>
                  </a:lnTo>
                  <a:lnTo>
                    <a:pt x="1967" y="576"/>
                  </a:lnTo>
                  <a:lnTo>
                    <a:pt x="1972" y="563"/>
                  </a:lnTo>
                  <a:lnTo>
                    <a:pt x="1981" y="545"/>
                  </a:lnTo>
                  <a:lnTo>
                    <a:pt x="1982" y="541"/>
                  </a:lnTo>
                  <a:lnTo>
                    <a:pt x="1984" y="536"/>
                  </a:lnTo>
                  <a:lnTo>
                    <a:pt x="1985" y="530"/>
                  </a:lnTo>
                  <a:lnTo>
                    <a:pt x="1985" y="526"/>
                  </a:lnTo>
                  <a:lnTo>
                    <a:pt x="1984" y="520"/>
                  </a:lnTo>
                  <a:lnTo>
                    <a:pt x="1981" y="515"/>
                  </a:lnTo>
                  <a:lnTo>
                    <a:pt x="1978" y="509"/>
                  </a:lnTo>
                  <a:lnTo>
                    <a:pt x="1973" y="505"/>
                  </a:lnTo>
                  <a:lnTo>
                    <a:pt x="1972" y="501"/>
                  </a:lnTo>
                  <a:lnTo>
                    <a:pt x="1971" y="499"/>
                  </a:lnTo>
                  <a:lnTo>
                    <a:pt x="1971" y="495"/>
                  </a:lnTo>
                  <a:lnTo>
                    <a:pt x="1972" y="491"/>
                  </a:lnTo>
                  <a:lnTo>
                    <a:pt x="1977" y="480"/>
                  </a:lnTo>
                  <a:lnTo>
                    <a:pt x="1984" y="469"/>
                  </a:lnTo>
                  <a:lnTo>
                    <a:pt x="1993" y="457"/>
                  </a:lnTo>
                  <a:lnTo>
                    <a:pt x="2006" y="443"/>
                  </a:lnTo>
                  <a:lnTo>
                    <a:pt x="2021" y="429"/>
                  </a:lnTo>
                  <a:lnTo>
                    <a:pt x="2037" y="413"/>
                  </a:lnTo>
                  <a:lnTo>
                    <a:pt x="2056" y="399"/>
                  </a:lnTo>
                  <a:lnTo>
                    <a:pt x="2076" y="385"/>
                  </a:lnTo>
                  <a:lnTo>
                    <a:pt x="2097" y="373"/>
                  </a:lnTo>
                  <a:lnTo>
                    <a:pt x="2119" y="361"/>
                  </a:lnTo>
                  <a:lnTo>
                    <a:pt x="2142" y="352"/>
                  </a:lnTo>
                  <a:lnTo>
                    <a:pt x="2166" y="343"/>
                  </a:lnTo>
                  <a:lnTo>
                    <a:pt x="2178" y="340"/>
                  </a:lnTo>
                  <a:lnTo>
                    <a:pt x="2189" y="337"/>
                  </a:lnTo>
                  <a:lnTo>
                    <a:pt x="2201" y="335"/>
                  </a:lnTo>
                  <a:lnTo>
                    <a:pt x="2213" y="334"/>
                  </a:lnTo>
                  <a:lnTo>
                    <a:pt x="2227" y="333"/>
                  </a:lnTo>
                  <a:lnTo>
                    <a:pt x="2239" y="329"/>
                  </a:lnTo>
                  <a:lnTo>
                    <a:pt x="2252" y="326"/>
                  </a:lnTo>
                  <a:lnTo>
                    <a:pt x="2264" y="322"/>
                  </a:lnTo>
                  <a:lnTo>
                    <a:pt x="2276" y="316"/>
                  </a:lnTo>
                  <a:lnTo>
                    <a:pt x="2286" y="312"/>
                  </a:lnTo>
                  <a:lnTo>
                    <a:pt x="2297" y="305"/>
                  </a:lnTo>
                  <a:lnTo>
                    <a:pt x="2306" y="299"/>
                  </a:lnTo>
                  <a:lnTo>
                    <a:pt x="2325" y="284"/>
                  </a:lnTo>
                  <a:lnTo>
                    <a:pt x="2342" y="267"/>
                  </a:lnTo>
                  <a:lnTo>
                    <a:pt x="2359" y="251"/>
                  </a:lnTo>
                  <a:lnTo>
                    <a:pt x="2374" y="234"/>
                  </a:lnTo>
                  <a:lnTo>
                    <a:pt x="2389" y="216"/>
                  </a:lnTo>
                  <a:lnTo>
                    <a:pt x="2405" y="198"/>
                  </a:lnTo>
                  <a:lnTo>
                    <a:pt x="2420" y="183"/>
                  </a:lnTo>
                  <a:lnTo>
                    <a:pt x="2437" y="168"/>
                  </a:lnTo>
                  <a:lnTo>
                    <a:pt x="2445" y="161"/>
                  </a:lnTo>
                  <a:lnTo>
                    <a:pt x="2453" y="155"/>
                  </a:lnTo>
                  <a:lnTo>
                    <a:pt x="2463" y="149"/>
                  </a:lnTo>
                  <a:lnTo>
                    <a:pt x="2472" y="145"/>
                  </a:lnTo>
                  <a:lnTo>
                    <a:pt x="2482" y="140"/>
                  </a:lnTo>
                  <a:lnTo>
                    <a:pt x="2493" y="137"/>
                  </a:lnTo>
                  <a:lnTo>
                    <a:pt x="2503" y="134"/>
                  </a:lnTo>
                  <a:lnTo>
                    <a:pt x="2515" y="132"/>
                  </a:lnTo>
                  <a:lnTo>
                    <a:pt x="2522" y="132"/>
                  </a:lnTo>
                  <a:lnTo>
                    <a:pt x="2528" y="130"/>
                  </a:lnTo>
                  <a:lnTo>
                    <a:pt x="2534" y="127"/>
                  </a:lnTo>
                  <a:lnTo>
                    <a:pt x="2538" y="125"/>
                  </a:lnTo>
                  <a:lnTo>
                    <a:pt x="2547" y="119"/>
                  </a:lnTo>
                  <a:lnTo>
                    <a:pt x="2554" y="111"/>
                  </a:lnTo>
                  <a:lnTo>
                    <a:pt x="2558" y="103"/>
                  </a:lnTo>
                  <a:lnTo>
                    <a:pt x="2563" y="93"/>
                  </a:lnTo>
                  <a:lnTo>
                    <a:pt x="2565" y="83"/>
                  </a:lnTo>
                  <a:lnTo>
                    <a:pt x="2568" y="71"/>
                  </a:lnTo>
                  <a:lnTo>
                    <a:pt x="2570" y="50"/>
                  </a:lnTo>
                  <a:lnTo>
                    <a:pt x="2572" y="29"/>
                  </a:lnTo>
                  <a:lnTo>
                    <a:pt x="2576" y="20"/>
                  </a:lnTo>
                  <a:lnTo>
                    <a:pt x="2578" y="12"/>
                  </a:lnTo>
                  <a:lnTo>
                    <a:pt x="2583" y="6"/>
                  </a:lnTo>
                  <a:lnTo>
                    <a:pt x="25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Freeform 217"/>
            <p:cNvSpPr/>
            <p:nvPr/>
          </p:nvSpPr>
          <p:spPr>
            <a:xfrm>
              <a:off x="7805520" y="4065120"/>
              <a:ext cx="322200" cy="1458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35" h="893">
                  <a:moveTo>
                    <a:pt x="1872" y="611"/>
                  </a:moveTo>
                  <a:lnTo>
                    <a:pt x="535" y="792"/>
                  </a:lnTo>
                  <a:lnTo>
                    <a:pt x="518" y="838"/>
                  </a:lnTo>
                  <a:lnTo>
                    <a:pt x="0" y="893"/>
                  </a:lnTo>
                  <a:lnTo>
                    <a:pt x="7" y="870"/>
                  </a:lnTo>
                  <a:lnTo>
                    <a:pt x="16" y="849"/>
                  </a:lnTo>
                  <a:lnTo>
                    <a:pt x="25" y="829"/>
                  </a:lnTo>
                  <a:lnTo>
                    <a:pt x="37" y="812"/>
                  </a:lnTo>
                  <a:lnTo>
                    <a:pt x="49" y="794"/>
                  </a:lnTo>
                  <a:lnTo>
                    <a:pt x="63" y="778"/>
                  </a:lnTo>
                  <a:lnTo>
                    <a:pt x="79" y="764"/>
                  </a:lnTo>
                  <a:lnTo>
                    <a:pt x="95" y="751"/>
                  </a:lnTo>
                  <a:lnTo>
                    <a:pt x="110" y="737"/>
                  </a:lnTo>
                  <a:lnTo>
                    <a:pt x="125" y="725"/>
                  </a:lnTo>
                  <a:lnTo>
                    <a:pt x="139" y="716"/>
                  </a:lnTo>
                  <a:lnTo>
                    <a:pt x="153" y="708"/>
                  </a:lnTo>
                  <a:lnTo>
                    <a:pt x="180" y="695"/>
                  </a:lnTo>
                  <a:lnTo>
                    <a:pt x="206" y="682"/>
                  </a:lnTo>
                  <a:lnTo>
                    <a:pt x="219" y="675"/>
                  </a:lnTo>
                  <a:lnTo>
                    <a:pt x="232" y="666"/>
                  </a:lnTo>
                  <a:lnTo>
                    <a:pt x="246" y="655"/>
                  </a:lnTo>
                  <a:lnTo>
                    <a:pt x="259" y="643"/>
                  </a:lnTo>
                  <a:lnTo>
                    <a:pt x="273" y="627"/>
                  </a:lnTo>
                  <a:lnTo>
                    <a:pt x="287" y="609"/>
                  </a:lnTo>
                  <a:lnTo>
                    <a:pt x="302" y="585"/>
                  </a:lnTo>
                  <a:lnTo>
                    <a:pt x="317" y="558"/>
                  </a:lnTo>
                  <a:lnTo>
                    <a:pt x="326" y="539"/>
                  </a:lnTo>
                  <a:lnTo>
                    <a:pt x="331" y="527"/>
                  </a:lnTo>
                  <a:lnTo>
                    <a:pt x="336" y="520"/>
                  </a:lnTo>
                  <a:lnTo>
                    <a:pt x="344" y="509"/>
                  </a:lnTo>
                  <a:lnTo>
                    <a:pt x="359" y="495"/>
                  </a:lnTo>
                  <a:lnTo>
                    <a:pt x="380" y="476"/>
                  </a:lnTo>
                  <a:lnTo>
                    <a:pt x="391" y="466"/>
                  </a:lnTo>
                  <a:lnTo>
                    <a:pt x="402" y="458"/>
                  </a:lnTo>
                  <a:lnTo>
                    <a:pt x="415" y="451"/>
                  </a:lnTo>
                  <a:lnTo>
                    <a:pt x="430" y="444"/>
                  </a:lnTo>
                  <a:lnTo>
                    <a:pt x="444" y="438"/>
                  </a:lnTo>
                  <a:lnTo>
                    <a:pt x="461" y="432"/>
                  </a:lnTo>
                  <a:lnTo>
                    <a:pt x="478" y="428"/>
                  </a:lnTo>
                  <a:lnTo>
                    <a:pt x="496" y="423"/>
                  </a:lnTo>
                  <a:lnTo>
                    <a:pt x="575" y="407"/>
                  </a:lnTo>
                  <a:lnTo>
                    <a:pt x="663" y="391"/>
                  </a:lnTo>
                  <a:lnTo>
                    <a:pt x="708" y="382"/>
                  </a:lnTo>
                  <a:lnTo>
                    <a:pt x="755" y="370"/>
                  </a:lnTo>
                  <a:lnTo>
                    <a:pt x="778" y="363"/>
                  </a:lnTo>
                  <a:lnTo>
                    <a:pt x="802" y="356"/>
                  </a:lnTo>
                  <a:lnTo>
                    <a:pt x="825" y="348"/>
                  </a:lnTo>
                  <a:lnTo>
                    <a:pt x="848" y="340"/>
                  </a:lnTo>
                  <a:lnTo>
                    <a:pt x="872" y="330"/>
                  </a:lnTo>
                  <a:lnTo>
                    <a:pt x="894" y="319"/>
                  </a:lnTo>
                  <a:lnTo>
                    <a:pt x="916" y="306"/>
                  </a:lnTo>
                  <a:lnTo>
                    <a:pt x="938" y="293"/>
                  </a:lnTo>
                  <a:lnTo>
                    <a:pt x="961" y="279"/>
                  </a:lnTo>
                  <a:lnTo>
                    <a:pt x="982" y="263"/>
                  </a:lnTo>
                  <a:lnTo>
                    <a:pt x="1003" y="247"/>
                  </a:lnTo>
                  <a:lnTo>
                    <a:pt x="1022" y="228"/>
                  </a:lnTo>
                  <a:lnTo>
                    <a:pt x="1041" y="208"/>
                  </a:lnTo>
                  <a:lnTo>
                    <a:pt x="1054" y="191"/>
                  </a:lnTo>
                  <a:lnTo>
                    <a:pt x="1059" y="182"/>
                  </a:lnTo>
                  <a:lnTo>
                    <a:pt x="1062" y="175"/>
                  </a:lnTo>
                  <a:lnTo>
                    <a:pt x="1066" y="168"/>
                  </a:lnTo>
                  <a:lnTo>
                    <a:pt x="1068" y="161"/>
                  </a:lnTo>
                  <a:lnTo>
                    <a:pt x="1070" y="150"/>
                  </a:lnTo>
                  <a:lnTo>
                    <a:pt x="1070" y="139"/>
                  </a:lnTo>
                  <a:lnTo>
                    <a:pt x="1068" y="130"/>
                  </a:lnTo>
                  <a:lnTo>
                    <a:pt x="1067" y="120"/>
                  </a:lnTo>
                  <a:lnTo>
                    <a:pt x="1065" y="112"/>
                  </a:lnTo>
                  <a:lnTo>
                    <a:pt x="1062" y="104"/>
                  </a:lnTo>
                  <a:lnTo>
                    <a:pt x="1062" y="96"/>
                  </a:lnTo>
                  <a:lnTo>
                    <a:pt x="1063" y="87"/>
                  </a:lnTo>
                  <a:lnTo>
                    <a:pt x="1066" y="82"/>
                  </a:lnTo>
                  <a:lnTo>
                    <a:pt x="1068" y="77"/>
                  </a:lnTo>
                  <a:lnTo>
                    <a:pt x="1072" y="71"/>
                  </a:lnTo>
                  <a:lnTo>
                    <a:pt x="1076" y="66"/>
                  </a:lnTo>
                  <a:lnTo>
                    <a:pt x="1089" y="54"/>
                  </a:lnTo>
                  <a:lnTo>
                    <a:pt x="1105" y="40"/>
                  </a:lnTo>
                  <a:lnTo>
                    <a:pt x="1109" y="36"/>
                  </a:lnTo>
                  <a:lnTo>
                    <a:pt x="1112" y="34"/>
                  </a:lnTo>
                  <a:lnTo>
                    <a:pt x="1116" y="32"/>
                  </a:lnTo>
                  <a:lnTo>
                    <a:pt x="1121" y="30"/>
                  </a:lnTo>
                  <a:lnTo>
                    <a:pt x="1131" y="28"/>
                  </a:lnTo>
                  <a:lnTo>
                    <a:pt x="1142" y="28"/>
                  </a:lnTo>
                  <a:lnTo>
                    <a:pt x="1153" y="27"/>
                  </a:lnTo>
                  <a:lnTo>
                    <a:pt x="1164" y="25"/>
                  </a:lnTo>
                  <a:lnTo>
                    <a:pt x="1170" y="22"/>
                  </a:lnTo>
                  <a:lnTo>
                    <a:pt x="1174" y="20"/>
                  </a:lnTo>
                  <a:lnTo>
                    <a:pt x="1179" y="16"/>
                  </a:lnTo>
                  <a:lnTo>
                    <a:pt x="1184" y="12"/>
                  </a:lnTo>
                  <a:lnTo>
                    <a:pt x="1186" y="8"/>
                  </a:lnTo>
                  <a:lnTo>
                    <a:pt x="1190" y="6"/>
                  </a:lnTo>
                  <a:lnTo>
                    <a:pt x="1193" y="5"/>
                  </a:lnTo>
                  <a:lnTo>
                    <a:pt x="1197" y="2"/>
                  </a:lnTo>
                  <a:lnTo>
                    <a:pt x="1206" y="1"/>
                  </a:lnTo>
                  <a:lnTo>
                    <a:pt x="1216" y="0"/>
                  </a:lnTo>
                  <a:lnTo>
                    <a:pt x="1229" y="0"/>
                  </a:lnTo>
                  <a:lnTo>
                    <a:pt x="1242" y="1"/>
                  </a:lnTo>
                  <a:lnTo>
                    <a:pt x="1255" y="4"/>
                  </a:lnTo>
                  <a:lnTo>
                    <a:pt x="1269" y="6"/>
                  </a:lnTo>
                  <a:lnTo>
                    <a:pt x="1296" y="11"/>
                  </a:lnTo>
                  <a:lnTo>
                    <a:pt x="1320" y="15"/>
                  </a:lnTo>
                  <a:lnTo>
                    <a:pt x="1331" y="18"/>
                  </a:lnTo>
                  <a:lnTo>
                    <a:pt x="1340" y="18"/>
                  </a:lnTo>
                  <a:lnTo>
                    <a:pt x="1348" y="19"/>
                  </a:lnTo>
                  <a:lnTo>
                    <a:pt x="1353" y="18"/>
                  </a:lnTo>
                  <a:lnTo>
                    <a:pt x="1358" y="16"/>
                  </a:lnTo>
                  <a:lnTo>
                    <a:pt x="1364" y="18"/>
                  </a:lnTo>
                  <a:lnTo>
                    <a:pt x="1369" y="20"/>
                  </a:lnTo>
                  <a:lnTo>
                    <a:pt x="1376" y="23"/>
                  </a:lnTo>
                  <a:lnTo>
                    <a:pt x="1390" y="30"/>
                  </a:lnTo>
                  <a:lnTo>
                    <a:pt x="1404" y="40"/>
                  </a:lnTo>
                  <a:lnTo>
                    <a:pt x="1420" y="48"/>
                  </a:lnTo>
                  <a:lnTo>
                    <a:pt x="1435" y="53"/>
                  </a:lnTo>
                  <a:lnTo>
                    <a:pt x="1442" y="54"/>
                  </a:lnTo>
                  <a:lnTo>
                    <a:pt x="1449" y="54"/>
                  </a:lnTo>
                  <a:lnTo>
                    <a:pt x="1455" y="53"/>
                  </a:lnTo>
                  <a:lnTo>
                    <a:pt x="1461" y="49"/>
                  </a:lnTo>
                  <a:lnTo>
                    <a:pt x="1466" y="44"/>
                  </a:lnTo>
                  <a:lnTo>
                    <a:pt x="1473" y="41"/>
                  </a:lnTo>
                  <a:lnTo>
                    <a:pt x="1482" y="37"/>
                  </a:lnTo>
                  <a:lnTo>
                    <a:pt x="1490" y="34"/>
                  </a:lnTo>
                  <a:lnTo>
                    <a:pt x="1508" y="29"/>
                  </a:lnTo>
                  <a:lnTo>
                    <a:pt x="1529" y="25"/>
                  </a:lnTo>
                  <a:lnTo>
                    <a:pt x="1552" y="21"/>
                  </a:lnTo>
                  <a:lnTo>
                    <a:pt x="1576" y="19"/>
                  </a:lnTo>
                  <a:lnTo>
                    <a:pt x="1603" y="18"/>
                  </a:lnTo>
                  <a:lnTo>
                    <a:pt x="1630" y="18"/>
                  </a:lnTo>
                  <a:lnTo>
                    <a:pt x="1653" y="18"/>
                  </a:lnTo>
                  <a:lnTo>
                    <a:pt x="1673" y="19"/>
                  </a:lnTo>
                  <a:lnTo>
                    <a:pt x="1689" y="23"/>
                  </a:lnTo>
                  <a:lnTo>
                    <a:pt x="1704" y="29"/>
                  </a:lnTo>
                  <a:lnTo>
                    <a:pt x="1716" y="36"/>
                  </a:lnTo>
                  <a:lnTo>
                    <a:pt x="1729" y="44"/>
                  </a:lnTo>
                  <a:lnTo>
                    <a:pt x="1741" y="53"/>
                  </a:lnTo>
                  <a:lnTo>
                    <a:pt x="1753" y="63"/>
                  </a:lnTo>
                  <a:lnTo>
                    <a:pt x="1764" y="74"/>
                  </a:lnTo>
                  <a:lnTo>
                    <a:pt x="1778" y="84"/>
                  </a:lnTo>
                  <a:lnTo>
                    <a:pt x="1795" y="95"/>
                  </a:lnTo>
                  <a:lnTo>
                    <a:pt x="1813" y="105"/>
                  </a:lnTo>
                  <a:lnTo>
                    <a:pt x="1834" y="116"/>
                  </a:lnTo>
                  <a:lnTo>
                    <a:pt x="1860" y="125"/>
                  </a:lnTo>
                  <a:lnTo>
                    <a:pt x="1889" y="133"/>
                  </a:lnTo>
                  <a:lnTo>
                    <a:pt x="1924" y="141"/>
                  </a:lnTo>
                  <a:lnTo>
                    <a:pt x="1920" y="146"/>
                  </a:lnTo>
                  <a:lnTo>
                    <a:pt x="1917" y="152"/>
                  </a:lnTo>
                  <a:lnTo>
                    <a:pt x="1916" y="158"/>
                  </a:lnTo>
                  <a:lnTo>
                    <a:pt x="1915" y="165"/>
                  </a:lnTo>
                  <a:lnTo>
                    <a:pt x="1916" y="173"/>
                  </a:lnTo>
                  <a:lnTo>
                    <a:pt x="1918" y="181"/>
                  </a:lnTo>
                  <a:lnTo>
                    <a:pt x="1921" y="189"/>
                  </a:lnTo>
                  <a:lnTo>
                    <a:pt x="1925" y="196"/>
                  </a:lnTo>
                  <a:lnTo>
                    <a:pt x="1930" y="205"/>
                  </a:lnTo>
                  <a:lnTo>
                    <a:pt x="1937" y="213"/>
                  </a:lnTo>
                  <a:lnTo>
                    <a:pt x="1944" y="220"/>
                  </a:lnTo>
                  <a:lnTo>
                    <a:pt x="1953" y="226"/>
                  </a:lnTo>
                  <a:lnTo>
                    <a:pt x="1964" y="231"/>
                  </a:lnTo>
                  <a:lnTo>
                    <a:pt x="1975" y="236"/>
                  </a:lnTo>
                  <a:lnTo>
                    <a:pt x="1987" y="240"/>
                  </a:lnTo>
                  <a:lnTo>
                    <a:pt x="2001" y="242"/>
                  </a:lnTo>
                  <a:lnTo>
                    <a:pt x="2015" y="242"/>
                  </a:lnTo>
                  <a:lnTo>
                    <a:pt x="2029" y="244"/>
                  </a:lnTo>
                  <a:lnTo>
                    <a:pt x="2043" y="249"/>
                  </a:lnTo>
                  <a:lnTo>
                    <a:pt x="2060" y="256"/>
                  </a:lnTo>
                  <a:lnTo>
                    <a:pt x="2094" y="272"/>
                  </a:lnTo>
                  <a:lnTo>
                    <a:pt x="2135" y="291"/>
                  </a:lnTo>
                  <a:lnTo>
                    <a:pt x="2124" y="297"/>
                  </a:lnTo>
                  <a:lnTo>
                    <a:pt x="2114" y="301"/>
                  </a:lnTo>
                  <a:lnTo>
                    <a:pt x="2103" y="305"/>
                  </a:lnTo>
                  <a:lnTo>
                    <a:pt x="2094" y="306"/>
                  </a:lnTo>
                  <a:lnTo>
                    <a:pt x="2076" y="308"/>
                  </a:lnTo>
                  <a:lnTo>
                    <a:pt x="2061" y="310"/>
                  </a:lnTo>
                  <a:lnTo>
                    <a:pt x="2055" y="311"/>
                  </a:lnTo>
                  <a:lnTo>
                    <a:pt x="2050" y="313"/>
                  </a:lnTo>
                  <a:lnTo>
                    <a:pt x="2047" y="317"/>
                  </a:lnTo>
                  <a:lnTo>
                    <a:pt x="2045" y="320"/>
                  </a:lnTo>
                  <a:lnTo>
                    <a:pt x="2045" y="326"/>
                  </a:lnTo>
                  <a:lnTo>
                    <a:pt x="2047" y="334"/>
                  </a:lnTo>
                  <a:lnTo>
                    <a:pt x="2050" y="345"/>
                  </a:lnTo>
                  <a:lnTo>
                    <a:pt x="2056" y="358"/>
                  </a:lnTo>
                  <a:lnTo>
                    <a:pt x="2060" y="365"/>
                  </a:lnTo>
                  <a:lnTo>
                    <a:pt x="2061" y="373"/>
                  </a:lnTo>
                  <a:lnTo>
                    <a:pt x="2062" y="381"/>
                  </a:lnTo>
                  <a:lnTo>
                    <a:pt x="2063" y="389"/>
                  </a:lnTo>
                  <a:lnTo>
                    <a:pt x="2062" y="398"/>
                  </a:lnTo>
                  <a:lnTo>
                    <a:pt x="2061" y="408"/>
                  </a:lnTo>
                  <a:lnTo>
                    <a:pt x="2059" y="417"/>
                  </a:lnTo>
                  <a:lnTo>
                    <a:pt x="2056" y="426"/>
                  </a:lnTo>
                  <a:lnTo>
                    <a:pt x="2049" y="445"/>
                  </a:lnTo>
                  <a:lnTo>
                    <a:pt x="2039" y="465"/>
                  </a:lnTo>
                  <a:lnTo>
                    <a:pt x="2027" y="485"/>
                  </a:lnTo>
                  <a:lnTo>
                    <a:pt x="2013" y="505"/>
                  </a:lnTo>
                  <a:lnTo>
                    <a:pt x="1998" y="523"/>
                  </a:lnTo>
                  <a:lnTo>
                    <a:pt x="1980" y="541"/>
                  </a:lnTo>
                  <a:lnTo>
                    <a:pt x="1963" y="557"/>
                  </a:lnTo>
                  <a:lnTo>
                    <a:pt x="1945" y="572"/>
                  </a:lnTo>
                  <a:lnTo>
                    <a:pt x="1927" y="585"/>
                  </a:lnTo>
                  <a:lnTo>
                    <a:pt x="1908" y="596"/>
                  </a:lnTo>
                  <a:lnTo>
                    <a:pt x="1889" y="605"/>
                  </a:lnTo>
                  <a:lnTo>
                    <a:pt x="1872" y="61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Freeform 218"/>
            <p:cNvSpPr/>
            <p:nvPr/>
          </p:nvSpPr>
          <p:spPr>
            <a:xfrm>
              <a:off x="8088120" y="4009680"/>
              <a:ext cx="365040" cy="1548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411" h="954">
                  <a:moveTo>
                    <a:pt x="1823" y="245"/>
                  </a:moveTo>
                  <a:lnTo>
                    <a:pt x="1840" y="252"/>
                  </a:lnTo>
                  <a:lnTo>
                    <a:pt x="1855" y="260"/>
                  </a:lnTo>
                  <a:lnTo>
                    <a:pt x="1870" y="268"/>
                  </a:lnTo>
                  <a:lnTo>
                    <a:pt x="1883" y="277"/>
                  </a:lnTo>
                  <a:lnTo>
                    <a:pt x="1896" y="286"/>
                  </a:lnTo>
                  <a:lnTo>
                    <a:pt x="1907" y="296"/>
                  </a:lnTo>
                  <a:lnTo>
                    <a:pt x="1919" y="307"/>
                  </a:lnTo>
                  <a:lnTo>
                    <a:pt x="1929" y="319"/>
                  </a:lnTo>
                  <a:lnTo>
                    <a:pt x="1952" y="344"/>
                  </a:lnTo>
                  <a:lnTo>
                    <a:pt x="1974" y="375"/>
                  </a:lnTo>
                  <a:lnTo>
                    <a:pt x="1997" y="409"/>
                  </a:lnTo>
                  <a:lnTo>
                    <a:pt x="2025" y="447"/>
                  </a:lnTo>
                  <a:lnTo>
                    <a:pt x="2049" y="447"/>
                  </a:lnTo>
                  <a:lnTo>
                    <a:pt x="2073" y="451"/>
                  </a:lnTo>
                  <a:lnTo>
                    <a:pt x="2099" y="454"/>
                  </a:lnTo>
                  <a:lnTo>
                    <a:pt x="2126" y="460"/>
                  </a:lnTo>
                  <a:lnTo>
                    <a:pt x="2153" y="468"/>
                  </a:lnTo>
                  <a:lnTo>
                    <a:pt x="2179" y="476"/>
                  </a:lnTo>
                  <a:lnTo>
                    <a:pt x="2207" y="487"/>
                  </a:lnTo>
                  <a:lnTo>
                    <a:pt x="2234" y="498"/>
                  </a:lnTo>
                  <a:lnTo>
                    <a:pt x="2260" y="511"/>
                  </a:lnTo>
                  <a:lnTo>
                    <a:pt x="2287" y="525"/>
                  </a:lnTo>
                  <a:lnTo>
                    <a:pt x="2311" y="541"/>
                  </a:lnTo>
                  <a:lnTo>
                    <a:pt x="2335" y="557"/>
                  </a:lnTo>
                  <a:lnTo>
                    <a:pt x="2357" y="574"/>
                  </a:lnTo>
                  <a:lnTo>
                    <a:pt x="2377" y="592"/>
                  </a:lnTo>
                  <a:lnTo>
                    <a:pt x="2394" y="612"/>
                  </a:lnTo>
                  <a:lnTo>
                    <a:pt x="2411" y="630"/>
                  </a:lnTo>
                  <a:lnTo>
                    <a:pt x="640" y="870"/>
                  </a:lnTo>
                  <a:lnTo>
                    <a:pt x="0" y="954"/>
                  </a:lnTo>
                  <a:lnTo>
                    <a:pt x="17" y="948"/>
                  </a:lnTo>
                  <a:lnTo>
                    <a:pt x="36" y="939"/>
                  </a:lnTo>
                  <a:lnTo>
                    <a:pt x="55" y="928"/>
                  </a:lnTo>
                  <a:lnTo>
                    <a:pt x="73" y="915"/>
                  </a:lnTo>
                  <a:lnTo>
                    <a:pt x="91" y="900"/>
                  </a:lnTo>
                  <a:lnTo>
                    <a:pt x="108" y="884"/>
                  </a:lnTo>
                  <a:lnTo>
                    <a:pt x="126" y="866"/>
                  </a:lnTo>
                  <a:lnTo>
                    <a:pt x="141" y="848"/>
                  </a:lnTo>
                  <a:lnTo>
                    <a:pt x="155" y="828"/>
                  </a:lnTo>
                  <a:lnTo>
                    <a:pt x="167" y="808"/>
                  </a:lnTo>
                  <a:lnTo>
                    <a:pt x="177" y="788"/>
                  </a:lnTo>
                  <a:lnTo>
                    <a:pt x="184" y="769"/>
                  </a:lnTo>
                  <a:lnTo>
                    <a:pt x="187" y="760"/>
                  </a:lnTo>
                  <a:lnTo>
                    <a:pt x="189" y="751"/>
                  </a:lnTo>
                  <a:lnTo>
                    <a:pt x="190" y="741"/>
                  </a:lnTo>
                  <a:lnTo>
                    <a:pt x="191" y="732"/>
                  </a:lnTo>
                  <a:lnTo>
                    <a:pt x="190" y="724"/>
                  </a:lnTo>
                  <a:lnTo>
                    <a:pt x="189" y="716"/>
                  </a:lnTo>
                  <a:lnTo>
                    <a:pt x="188" y="708"/>
                  </a:lnTo>
                  <a:lnTo>
                    <a:pt x="184" y="701"/>
                  </a:lnTo>
                  <a:lnTo>
                    <a:pt x="178" y="688"/>
                  </a:lnTo>
                  <a:lnTo>
                    <a:pt x="175" y="677"/>
                  </a:lnTo>
                  <a:lnTo>
                    <a:pt x="173" y="669"/>
                  </a:lnTo>
                  <a:lnTo>
                    <a:pt x="173" y="663"/>
                  </a:lnTo>
                  <a:lnTo>
                    <a:pt x="175" y="660"/>
                  </a:lnTo>
                  <a:lnTo>
                    <a:pt x="178" y="656"/>
                  </a:lnTo>
                  <a:lnTo>
                    <a:pt x="183" y="654"/>
                  </a:lnTo>
                  <a:lnTo>
                    <a:pt x="189" y="653"/>
                  </a:lnTo>
                  <a:lnTo>
                    <a:pt x="204" y="651"/>
                  </a:lnTo>
                  <a:lnTo>
                    <a:pt x="222" y="649"/>
                  </a:lnTo>
                  <a:lnTo>
                    <a:pt x="231" y="648"/>
                  </a:lnTo>
                  <a:lnTo>
                    <a:pt x="242" y="644"/>
                  </a:lnTo>
                  <a:lnTo>
                    <a:pt x="252" y="640"/>
                  </a:lnTo>
                  <a:lnTo>
                    <a:pt x="263" y="634"/>
                  </a:lnTo>
                  <a:lnTo>
                    <a:pt x="278" y="640"/>
                  </a:lnTo>
                  <a:lnTo>
                    <a:pt x="294" y="647"/>
                  </a:lnTo>
                  <a:lnTo>
                    <a:pt x="313" y="651"/>
                  </a:lnTo>
                  <a:lnTo>
                    <a:pt x="331" y="657"/>
                  </a:lnTo>
                  <a:lnTo>
                    <a:pt x="351" y="662"/>
                  </a:lnTo>
                  <a:lnTo>
                    <a:pt x="374" y="666"/>
                  </a:lnTo>
                  <a:lnTo>
                    <a:pt x="396" y="668"/>
                  </a:lnTo>
                  <a:lnTo>
                    <a:pt x="420" y="669"/>
                  </a:lnTo>
                  <a:lnTo>
                    <a:pt x="446" y="670"/>
                  </a:lnTo>
                  <a:lnTo>
                    <a:pt x="473" y="669"/>
                  </a:lnTo>
                  <a:lnTo>
                    <a:pt x="502" y="666"/>
                  </a:lnTo>
                  <a:lnTo>
                    <a:pt x="532" y="662"/>
                  </a:lnTo>
                  <a:lnTo>
                    <a:pt x="564" y="656"/>
                  </a:lnTo>
                  <a:lnTo>
                    <a:pt x="598" y="648"/>
                  </a:lnTo>
                  <a:lnTo>
                    <a:pt x="634" y="637"/>
                  </a:lnTo>
                  <a:lnTo>
                    <a:pt x="671" y="625"/>
                  </a:lnTo>
                  <a:lnTo>
                    <a:pt x="683" y="620"/>
                  </a:lnTo>
                  <a:lnTo>
                    <a:pt x="694" y="614"/>
                  </a:lnTo>
                  <a:lnTo>
                    <a:pt x="703" y="607"/>
                  </a:lnTo>
                  <a:lnTo>
                    <a:pt x="712" y="599"/>
                  </a:lnTo>
                  <a:lnTo>
                    <a:pt x="719" y="590"/>
                  </a:lnTo>
                  <a:lnTo>
                    <a:pt x="726" y="579"/>
                  </a:lnTo>
                  <a:lnTo>
                    <a:pt x="733" y="569"/>
                  </a:lnTo>
                  <a:lnTo>
                    <a:pt x="739" y="558"/>
                  </a:lnTo>
                  <a:lnTo>
                    <a:pt x="744" y="546"/>
                  </a:lnTo>
                  <a:lnTo>
                    <a:pt x="748" y="534"/>
                  </a:lnTo>
                  <a:lnTo>
                    <a:pt x="752" y="521"/>
                  </a:lnTo>
                  <a:lnTo>
                    <a:pt x="755" y="508"/>
                  </a:lnTo>
                  <a:lnTo>
                    <a:pt x="761" y="480"/>
                  </a:lnTo>
                  <a:lnTo>
                    <a:pt x="766" y="452"/>
                  </a:lnTo>
                  <a:lnTo>
                    <a:pt x="773" y="396"/>
                  </a:lnTo>
                  <a:lnTo>
                    <a:pt x="780" y="344"/>
                  </a:lnTo>
                  <a:lnTo>
                    <a:pt x="786" y="321"/>
                  </a:lnTo>
                  <a:lnTo>
                    <a:pt x="792" y="300"/>
                  </a:lnTo>
                  <a:lnTo>
                    <a:pt x="795" y="291"/>
                  </a:lnTo>
                  <a:lnTo>
                    <a:pt x="800" y="282"/>
                  </a:lnTo>
                  <a:lnTo>
                    <a:pt x="805" y="274"/>
                  </a:lnTo>
                  <a:lnTo>
                    <a:pt x="809" y="268"/>
                  </a:lnTo>
                  <a:lnTo>
                    <a:pt x="821" y="256"/>
                  </a:lnTo>
                  <a:lnTo>
                    <a:pt x="833" y="240"/>
                  </a:lnTo>
                  <a:lnTo>
                    <a:pt x="844" y="224"/>
                  </a:lnTo>
                  <a:lnTo>
                    <a:pt x="856" y="206"/>
                  </a:lnTo>
                  <a:lnTo>
                    <a:pt x="878" y="167"/>
                  </a:lnTo>
                  <a:lnTo>
                    <a:pt x="900" y="126"/>
                  </a:lnTo>
                  <a:lnTo>
                    <a:pt x="920" y="87"/>
                  </a:lnTo>
                  <a:lnTo>
                    <a:pt x="940" y="52"/>
                  </a:lnTo>
                  <a:lnTo>
                    <a:pt x="949" y="37"/>
                  </a:lnTo>
                  <a:lnTo>
                    <a:pt x="958" y="24"/>
                  </a:lnTo>
                  <a:lnTo>
                    <a:pt x="966" y="14"/>
                  </a:lnTo>
                  <a:lnTo>
                    <a:pt x="974" y="6"/>
                  </a:lnTo>
                  <a:lnTo>
                    <a:pt x="1019" y="1"/>
                  </a:lnTo>
                  <a:lnTo>
                    <a:pt x="1060" y="0"/>
                  </a:lnTo>
                  <a:lnTo>
                    <a:pt x="1097" y="0"/>
                  </a:lnTo>
                  <a:lnTo>
                    <a:pt x="1128" y="1"/>
                  </a:lnTo>
                  <a:lnTo>
                    <a:pt x="1156" y="4"/>
                  </a:lnTo>
                  <a:lnTo>
                    <a:pt x="1180" y="8"/>
                  </a:lnTo>
                  <a:lnTo>
                    <a:pt x="1201" y="14"/>
                  </a:lnTo>
                  <a:lnTo>
                    <a:pt x="1218" y="20"/>
                  </a:lnTo>
                  <a:lnTo>
                    <a:pt x="1247" y="31"/>
                  </a:lnTo>
                  <a:lnTo>
                    <a:pt x="1271" y="41"/>
                  </a:lnTo>
                  <a:lnTo>
                    <a:pt x="1281" y="44"/>
                  </a:lnTo>
                  <a:lnTo>
                    <a:pt x="1292" y="45"/>
                  </a:lnTo>
                  <a:lnTo>
                    <a:pt x="1302" y="45"/>
                  </a:lnTo>
                  <a:lnTo>
                    <a:pt x="1314" y="43"/>
                  </a:lnTo>
                  <a:lnTo>
                    <a:pt x="1323" y="44"/>
                  </a:lnTo>
                  <a:lnTo>
                    <a:pt x="1330" y="45"/>
                  </a:lnTo>
                  <a:lnTo>
                    <a:pt x="1337" y="48"/>
                  </a:lnTo>
                  <a:lnTo>
                    <a:pt x="1342" y="51"/>
                  </a:lnTo>
                  <a:lnTo>
                    <a:pt x="1347" y="55"/>
                  </a:lnTo>
                  <a:lnTo>
                    <a:pt x="1350" y="59"/>
                  </a:lnTo>
                  <a:lnTo>
                    <a:pt x="1354" y="65"/>
                  </a:lnTo>
                  <a:lnTo>
                    <a:pt x="1356" y="71"/>
                  </a:lnTo>
                  <a:lnTo>
                    <a:pt x="1363" y="83"/>
                  </a:lnTo>
                  <a:lnTo>
                    <a:pt x="1372" y="95"/>
                  </a:lnTo>
                  <a:lnTo>
                    <a:pt x="1378" y="102"/>
                  </a:lnTo>
                  <a:lnTo>
                    <a:pt x="1385" y="108"/>
                  </a:lnTo>
                  <a:lnTo>
                    <a:pt x="1394" y="115"/>
                  </a:lnTo>
                  <a:lnTo>
                    <a:pt x="1406" y="121"/>
                  </a:lnTo>
                  <a:lnTo>
                    <a:pt x="1412" y="135"/>
                  </a:lnTo>
                  <a:lnTo>
                    <a:pt x="1419" y="148"/>
                  </a:lnTo>
                  <a:lnTo>
                    <a:pt x="1427" y="159"/>
                  </a:lnTo>
                  <a:lnTo>
                    <a:pt x="1435" y="169"/>
                  </a:lnTo>
                  <a:lnTo>
                    <a:pt x="1442" y="177"/>
                  </a:lnTo>
                  <a:lnTo>
                    <a:pt x="1452" y="185"/>
                  </a:lnTo>
                  <a:lnTo>
                    <a:pt x="1460" y="192"/>
                  </a:lnTo>
                  <a:lnTo>
                    <a:pt x="1469" y="198"/>
                  </a:lnTo>
                  <a:lnTo>
                    <a:pt x="1477" y="203"/>
                  </a:lnTo>
                  <a:lnTo>
                    <a:pt x="1487" y="208"/>
                  </a:lnTo>
                  <a:lnTo>
                    <a:pt x="1496" y="211"/>
                  </a:lnTo>
                  <a:lnTo>
                    <a:pt x="1505" y="213"/>
                  </a:lnTo>
                  <a:lnTo>
                    <a:pt x="1524" y="218"/>
                  </a:lnTo>
                  <a:lnTo>
                    <a:pt x="1543" y="219"/>
                  </a:lnTo>
                  <a:lnTo>
                    <a:pt x="1577" y="220"/>
                  </a:lnTo>
                  <a:lnTo>
                    <a:pt x="1607" y="220"/>
                  </a:lnTo>
                  <a:lnTo>
                    <a:pt x="1620" y="222"/>
                  </a:lnTo>
                  <a:lnTo>
                    <a:pt x="1630" y="225"/>
                  </a:lnTo>
                  <a:lnTo>
                    <a:pt x="1635" y="226"/>
                  </a:lnTo>
                  <a:lnTo>
                    <a:pt x="1639" y="229"/>
                  </a:lnTo>
                  <a:lnTo>
                    <a:pt x="1642" y="232"/>
                  </a:lnTo>
                  <a:lnTo>
                    <a:pt x="1644" y="237"/>
                  </a:lnTo>
                  <a:lnTo>
                    <a:pt x="1823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Freeform 219"/>
            <p:cNvSpPr/>
            <p:nvPr/>
          </p:nvSpPr>
          <p:spPr>
            <a:xfrm>
              <a:off x="8373960" y="4016160"/>
              <a:ext cx="44280" cy="58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89" h="357">
                  <a:moveTo>
                    <a:pt x="285" y="357"/>
                  </a:moveTo>
                  <a:lnTo>
                    <a:pt x="273" y="353"/>
                  </a:lnTo>
                  <a:lnTo>
                    <a:pt x="263" y="347"/>
                  </a:lnTo>
                  <a:lnTo>
                    <a:pt x="251" y="340"/>
                  </a:lnTo>
                  <a:lnTo>
                    <a:pt x="241" y="332"/>
                  </a:lnTo>
                  <a:lnTo>
                    <a:pt x="230" y="322"/>
                  </a:lnTo>
                  <a:lnTo>
                    <a:pt x="220" y="313"/>
                  </a:lnTo>
                  <a:lnTo>
                    <a:pt x="209" y="302"/>
                  </a:lnTo>
                  <a:lnTo>
                    <a:pt x="200" y="292"/>
                  </a:lnTo>
                  <a:lnTo>
                    <a:pt x="180" y="269"/>
                  </a:lnTo>
                  <a:lnTo>
                    <a:pt x="161" y="243"/>
                  </a:lnTo>
                  <a:lnTo>
                    <a:pt x="144" y="217"/>
                  </a:lnTo>
                  <a:lnTo>
                    <a:pt x="125" y="191"/>
                  </a:lnTo>
                  <a:lnTo>
                    <a:pt x="92" y="140"/>
                  </a:lnTo>
                  <a:lnTo>
                    <a:pt x="61" y="96"/>
                  </a:lnTo>
                  <a:lnTo>
                    <a:pt x="44" y="78"/>
                  </a:lnTo>
                  <a:lnTo>
                    <a:pt x="29" y="63"/>
                  </a:lnTo>
                  <a:lnTo>
                    <a:pt x="22" y="57"/>
                  </a:lnTo>
                  <a:lnTo>
                    <a:pt x="15" y="52"/>
                  </a:lnTo>
                  <a:lnTo>
                    <a:pt x="7" y="49"/>
                  </a:lnTo>
                  <a:lnTo>
                    <a:pt x="0" y="47"/>
                  </a:lnTo>
                  <a:lnTo>
                    <a:pt x="161" y="0"/>
                  </a:lnTo>
                  <a:lnTo>
                    <a:pt x="162" y="10"/>
                  </a:lnTo>
                  <a:lnTo>
                    <a:pt x="165" y="20"/>
                  </a:lnTo>
                  <a:lnTo>
                    <a:pt x="168" y="29"/>
                  </a:lnTo>
                  <a:lnTo>
                    <a:pt x="174" y="37"/>
                  </a:lnTo>
                  <a:lnTo>
                    <a:pt x="186" y="55"/>
                  </a:lnTo>
                  <a:lnTo>
                    <a:pt x="201" y="71"/>
                  </a:lnTo>
                  <a:lnTo>
                    <a:pt x="215" y="88"/>
                  </a:lnTo>
                  <a:lnTo>
                    <a:pt x="227" y="104"/>
                  </a:lnTo>
                  <a:lnTo>
                    <a:pt x="233" y="113"/>
                  </a:lnTo>
                  <a:lnTo>
                    <a:pt x="236" y="123"/>
                  </a:lnTo>
                  <a:lnTo>
                    <a:pt x="238" y="132"/>
                  </a:lnTo>
                  <a:lnTo>
                    <a:pt x="240" y="141"/>
                  </a:lnTo>
                  <a:lnTo>
                    <a:pt x="240" y="158"/>
                  </a:lnTo>
                  <a:lnTo>
                    <a:pt x="242" y="173"/>
                  </a:lnTo>
                  <a:lnTo>
                    <a:pt x="245" y="187"/>
                  </a:lnTo>
                  <a:lnTo>
                    <a:pt x="249" y="200"/>
                  </a:lnTo>
                  <a:lnTo>
                    <a:pt x="258" y="224"/>
                  </a:lnTo>
                  <a:lnTo>
                    <a:pt x="269" y="246"/>
                  </a:lnTo>
                  <a:lnTo>
                    <a:pt x="273" y="258"/>
                  </a:lnTo>
                  <a:lnTo>
                    <a:pt x="278" y="270"/>
                  </a:lnTo>
                  <a:lnTo>
                    <a:pt x="283" y="281"/>
                  </a:lnTo>
                  <a:lnTo>
                    <a:pt x="285" y="294"/>
                  </a:lnTo>
                  <a:lnTo>
                    <a:pt x="287" y="308"/>
                  </a:lnTo>
                  <a:lnTo>
                    <a:pt x="289" y="323"/>
                  </a:lnTo>
                  <a:lnTo>
                    <a:pt x="287" y="340"/>
                  </a:lnTo>
                  <a:lnTo>
                    <a:pt x="285" y="35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Freeform 220"/>
            <p:cNvSpPr/>
            <p:nvPr/>
          </p:nvSpPr>
          <p:spPr>
            <a:xfrm>
              <a:off x="7448400" y="3927240"/>
              <a:ext cx="260280" cy="1173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714" h="717">
                  <a:moveTo>
                    <a:pt x="1388" y="0"/>
                  </a:moveTo>
                  <a:lnTo>
                    <a:pt x="1399" y="19"/>
                  </a:lnTo>
                  <a:lnTo>
                    <a:pt x="1410" y="38"/>
                  </a:lnTo>
                  <a:lnTo>
                    <a:pt x="1424" y="56"/>
                  </a:lnTo>
                  <a:lnTo>
                    <a:pt x="1440" y="75"/>
                  </a:lnTo>
                  <a:lnTo>
                    <a:pt x="1457" y="93"/>
                  </a:lnTo>
                  <a:lnTo>
                    <a:pt x="1475" y="109"/>
                  </a:lnTo>
                  <a:lnTo>
                    <a:pt x="1494" y="125"/>
                  </a:lnTo>
                  <a:lnTo>
                    <a:pt x="1514" y="140"/>
                  </a:lnTo>
                  <a:lnTo>
                    <a:pt x="1535" y="153"/>
                  </a:lnTo>
                  <a:lnTo>
                    <a:pt x="1558" y="166"/>
                  </a:lnTo>
                  <a:lnTo>
                    <a:pt x="1579" y="177"/>
                  </a:lnTo>
                  <a:lnTo>
                    <a:pt x="1601" y="186"/>
                  </a:lnTo>
                  <a:lnTo>
                    <a:pt x="1622" y="193"/>
                  </a:lnTo>
                  <a:lnTo>
                    <a:pt x="1643" y="198"/>
                  </a:lnTo>
                  <a:lnTo>
                    <a:pt x="1663" y="201"/>
                  </a:lnTo>
                  <a:lnTo>
                    <a:pt x="1683" y="202"/>
                  </a:lnTo>
                  <a:lnTo>
                    <a:pt x="1714" y="331"/>
                  </a:lnTo>
                  <a:lnTo>
                    <a:pt x="1695" y="335"/>
                  </a:lnTo>
                  <a:lnTo>
                    <a:pt x="1679" y="340"/>
                  </a:lnTo>
                  <a:lnTo>
                    <a:pt x="1665" y="346"/>
                  </a:lnTo>
                  <a:lnTo>
                    <a:pt x="1653" y="353"/>
                  </a:lnTo>
                  <a:lnTo>
                    <a:pt x="1643" y="361"/>
                  </a:lnTo>
                  <a:lnTo>
                    <a:pt x="1636" y="369"/>
                  </a:lnTo>
                  <a:lnTo>
                    <a:pt x="1630" y="379"/>
                  </a:lnTo>
                  <a:lnTo>
                    <a:pt x="1625" y="388"/>
                  </a:lnTo>
                  <a:lnTo>
                    <a:pt x="1623" y="397"/>
                  </a:lnTo>
                  <a:lnTo>
                    <a:pt x="1622" y="407"/>
                  </a:lnTo>
                  <a:lnTo>
                    <a:pt x="1623" y="416"/>
                  </a:lnTo>
                  <a:lnTo>
                    <a:pt x="1625" y="425"/>
                  </a:lnTo>
                  <a:lnTo>
                    <a:pt x="1628" y="434"/>
                  </a:lnTo>
                  <a:lnTo>
                    <a:pt x="1632" y="442"/>
                  </a:lnTo>
                  <a:lnTo>
                    <a:pt x="1638" y="449"/>
                  </a:lnTo>
                  <a:lnTo>
                    <a:pt x="1645" y="456"/>
                  </a:lnTo>
                  <a:lnTo>
                    <a:pt x="1608" y="525"/>
                  </a:lnTo>
                  <a:lnTo>
                    <a:pt x="1602" y="525"/>
                  </a:lnTo>
                  <a:lnTo>
                    <a:pt x="1596" y="525"/>
                  </a:lnTo>
                  <a:lnTo>
                    <a:pt x="1591" y="526"/>
                  </a:lnTo>
                  <a:lnTo>
                    <a:pt x="1586" y="528"/>
                  </a:lnTo>
                  <a:lnTo>
                    <a:pt x="1582" y="531"/>
                  </a:lnTo>
                  <a:lnTo>
                    <a:pt x="1577" y="534"/>
                  </a:lnTo>
                  <a:lnTo>
                    <a:pt x="1573" y="538"/>
                  </a:lnTo>
                  <a:lnTo>
                    <a:pt x="1569" y="542"/>
                  </a:lnTo>
                  <a:lnTo>
                    <a:pt x="1563" y="552"/>
                  </a:lnTo>
                  <a:lnTo>
                    <a:pt x="1558" y="563"/>
                  </a:lnTo>
                  <a:lnTo>
                    <a:pt x="1553" y="575"/>
                  </a:lnTo>
                  <a:lnTo>
                    <a:pt x="1548" y="588"/>
                  </a:lnTo>
                  <a:lnTo>
                    <a:pt x="1546" y="602"/>
                  </a:lnTo>
                  <a:lnTo>
                    <a:pt x="1544" y="616"/>
                  </a:lnTo>
                  <a:lnTo>
                    <a:pt x="1542" y="629"/>
                  </a:lnTo>
                  <a:lnTo>
                    <a:pt x="1541" y="642"/>
                  </a:lnTo>
                  <a:lnTo>
                    <a:pt x="1541" y="653"/>
                  </a:lnTo>
                  <a:lnTo>
                    <a:pt x="1541" y="664"/>
                  </a:lnTo>
                  <a:lnTo>
                    <a:pt x="1542" y="673"/>
                  </a:lnTo>
                  <a:lnTo>
                    <a:pt x="1544" y="680"/>
                  </a:lnTo>
                  <a:lnTo>
                    <a:pt x="277" y="717"/>
                  </a:lnTo>
                  <a:lnTo>
                    <a:pt x="259" y="709"/>
                  </a:lnTo>
                  <a:lnTo>
                    <a:pt x="243" y="702"/>
                  </a:lnTo>
                  <a:lnTo>
                    <a:pt x="236" y="699"/>
                  </a:lnTo>
                  <a:lnTo>
                    <a:pt x="232" y="694"/>
                  </a:lnTo>
                  <a:lnTo>
                    <a:pt x="227" y="689"/>
                  </a:lnTo>
                  <a:lnTo>
                    <a:pt x="224" y="685"/>
                  </a:lnTo>
                  <a:lnTo>
                    <a:pt x="220" y="678"/>
                  </a:lnTo>
                  <a:lnTo>
                    <a:pt x="219" y="671"/>
                  </a:lnTo>
                  <a:lnTo>
                    <a:pt x="218" y="663"/>
                  </a:lnTo>
                  <a:lnTo>
                    <a:pt x="217" y="652"/>
                  </a:lnTo>
                  <a:lnTo>
                    <a:pt x="218" y="626"/>
                  </a:lnTo>
                  <a:lnTo>
                    <a:pt x="222" y="594"/>
                  </a:lnTo>
                  <a:lnTo>
                    <a:pt x="225" y="576"/>
                  </a:lnTo>
                  <a:lnTo>
                    <a:pt x="225" y="561"/>
                  </a:lnTo>
                  <a:lnTo>
                    <a:pt x="222" y="549"/>
                  </a:lnTo>
                  <a:lnTo>
                    <a:pt x="220" y="538"/>
                  </a:lnTo>
                  <a:lnTo>
                    <a:pt x="215" y="528"/>
                  </a:lnTo>
                  <a:lnTo>
                    <a:pt x="210" y="520"/>
                  </a:lnTo>
                  <a:lnTo>
                    <a:pt x="203" y="513"/>
                  </a:lnTo>
                  <a:lnTo>
                    <a:pt x="196" y="508"/>
                  </a:lnTo>
                  <a:lnTo>
                    <a:pt x="179" y="498"/>
                  </a:lnTo>
                  <a:lnTo>
                    <a:pt x="162" y="490"/>
                  </a:lnTo>
                  <a:lnTo>
                    <a:pt x="152" y="485"/>
                  </a:lnTo>
                  <a:lnTo>
                    <a:pt x="144" y="480"/>
                  </a:lnTo>
                  <a:lnTo>
                    <a:pt x="137" y="476"/>
                  </a:lnTo>
                  <a:lnTo>
                    <a:pt x="130" y="470"/>
                  </a:lnTo>
                  <a:lnTo>
                    <a:pt x="125" y="465"/>
                  </a:lnTo>
                  <a:lnTo>
                    <a:pt x="123" y="460"/>
                  </a:lnTo>
                  <a:lnTo>
                    <a:pt x="123" y="457"/>
                  </a:lnTo>
                  <a:lnTo>
                    <a:pt x="123" y="453"/>
                  </a:lnTo>
                  <a:lnTo>
                    <a:pt x="124" y="449"/>
                  </a:lnTo>
                  <a:lnTo>
                    <a:pt x="125" y="444"/>
                  </a:lnTo>
                  <a:lnTo>
                    <a:pt x="127" y="438"/>
                  </a:lnTo>
                  <a:lnTo>
                    <a:pt x="125" y="431"/>
                  </a:lnTo>
                  <a:lnTo>
                    <a:pt x="123" y="422"/>
                  </a:lnTo>
                  <a:lnTo>
                    <a:pt x="117" y="410"/>
                  </a:lnTo>
                  <a:lnTo>
                    <a:pt x="109" y="395"/>
                  </a:lnTo>
                  <a:lnTo>
                    <a:pt x="97" y="378"/>
                  </a:lnTo>
                  <a:lnTo>
                    <a:pt x="81" y="358"/>
                  </a:lnTo>
                  <a:lnTo>
                    <a:pt x="60" y="333"/>
                  </a:lnTo>
                  <a:lnTo>
                    <a:pt x="33" y="304"/>
                  </a:lnTo>
                  <a:lnTo>
                    <a:pt x="0" y="271"/>
                  </a:lnTo>
                  <a:lnTo>
                    <a:pt x="14" y="14"/>
                  </a:lnTo>
                  <a:lnTo>
                    <a:pt x="13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Freeform 221"/>
            <p:cNvSpPr/>
            <p:nvPr/>
          </p:nvSpPr>
          <p:spPr>
            <a:xfrm>
              <a:off x="6276600" y="3945240"/>
              <a:ext cx="287280" cy="4741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1904" h="2906">
                  <a:moveTo>
                    <a:pt x="1147" y="2906"/>
                  </a:moveTo>
                  <a:lnTo>
                    <a:pt x="1175" y="2857"/>
                  </a:lnTo>
                  <a:lnTo>
                    <a:pt x="400" y="2857"/>
                  </a:lnTo>
                  <a:lnTo>
                    <a:pt x="411" y="2837"/>
                  </a:lnTo>
                  <a:lnTo>
                    <a:pt x="421" y="2817"/>
                  </a:lnTo>
                  <a:lnTo>
                    <a:pt x="428" y="2797"/>
                  </a:lnTo>
                  <a:lnTo>
                    <a:pt x="435" y="2777"/>
                  </a:lnTo>
                  <a:lnTo>
                    <a:pt x="441" y="2759"/>
                  </a:lnTo>
                  <a:lnTo>
                    <a:pt x="446" y="2739"/>
                  </a:lnTo>
                  <a:lnTo>
                    <a:pt x="449" y="2720"/>
                  </a:lnTo>
                  <a:lnTo>
                    <a:pt x="452" y="2701"/>
                  </a:lnTo>
                  <a:lnTo>
                    <a:pt x="453" y="2683"/>
                  </a:lnTo>
                  <a:lnTo>
                    <a:pt x="453" y="2665"/>
                  </a:lnTo>
                  <a:lnTo>
                    <a:pt x="452" y="2647"/>
                  </a:lnTo>
                  <a:lnTo>
                    <a:pt x="449" y="2629"/>
                  </a:lnTo>
                  <a:lnTo>
                    <a:pt x="447" y="2612"/>
                  </a:lnTo>
                  <a:lnTo>
                    <a:pt x="443" y="2594"/>
                  </a:lnTo>
                  <a:lnTo>
                    <a:pt x="440" y="2578"/>
                  </a:lnTo>
                  <a:lnTo>
                    <a:pt x="435" y="2560"/>
                  </a:lnTo>
                  <a:lnTo>
                    <a:pt x="429" y="2544"/>
                  </a:lnTo>
                  <a:lnTo>
                    <a:pt x="424" y="2527"/>
                  </a:lnTo>
                  <a:lnTo>
                    <a:pt x="418" y="2512"/>
                  </a:lnTo>
                  <a:lnTo>
                    <a:pt x="411" y="2496"/>
                  </a:lnTo>
                  <a:lnTo>
                    <a:pt x="396" y="2466"/>
                  </a:lnTo>
                  <a:lnTo>
                    <a:pt x="379" y="2436"/>
                  </a:lnTo>
                  <a:lnTo>
                    <a:pt x="362" y="2408"/>
                  </a:lnTo>
                  <a:lnTo>
                    <a:pt x="344" y="2383"/>
                  </a:lnTo>
                  <a:lnTo>
                    <a:pt x="325" y="2357"/>
                  </a:lnTo>
                  <a:lnTo>
                    <a:pt x="308" y="2332"/>
                  </a:lnTo>
                  <a:lnTo>
                    <a:pt x="300" y="2322"/>
                  </a:lnTo>
                  <a:lnTo>
                    <a:pt x="293" y="2310"/>
                  </a:lnTo>
                  <a:lnTo>
                    <a:pt x="286" y="2298"/>
                  </a:lnTo>
                  <a:lnTo>
                    <a:pt x="280" y="2288"/>
                  </a:lnTo>
                  <a:lnTo>
                    <a:pt x="272" y="2267"/>
                  </a:lnTo>
                  <a:lnTo>
                    <a:pt x="265" y="2247"/>
                  </a:lnTo>
                  <a:lnTo>
                    <a:pt x="260" y="2228"/>
                  </a:lnTo>
                  <a:lnTo>
                    <a:pt x="259" y="2210"/>
                  </a:lnTo>
                  <a:lnTo>
                    <a:pt x="258" y="2193"/>
                  </a:lnTo>
                  <a:lnTo>
                    <a:pt x="259" y="2178"/>
                  </a:lnTo>
                  <a:lnTo>
                    <a:pt x="261" y="2164"/>
                  </a:lnTo>
                  <a:lnTo>
                    <a:pt x="265" y="2152"/>
                  </a:lnTo>
                  <a:lnTo>
                    <a:pt x="267" y="2142"/>
                  </a:lnTo>
                  <a:lnTo>
                    <a:pt x="271" y="2133"/>
                  </a:lnTo>
                  <a:lnTo>
                    <a:pt x="276" y="2121"/>
                  </a:lnTo>
                  <a:lnTo>
                    <a:pt x="280" y="2117"/>
                  </a:lnTo>
                  <a:lnTo>
                    <a:pt x="60" y="2085"/>
                  </a:lnTo>
                  <a:lnTo>
                    <a:pt x="63" y="2077"/>
                  </a:lnTo>
                  <a:lnTo>
                    <a:pt x="65" y="2068"/>
                  </a:lnTo>
                  <a:lnTo>
                    <a:pt x="66" y="2060"/>
                  </a:lnTo>
                  <a:lnTo>
                    <a:pt x="67" y="2052"/>
                  </a:lnTo>
                  <a:lnTo>
                    <a:pt x="66" y="2037"/>
                  </a:lnTo>
                  <a:lnTo>
                    <a:pt x="64" y="2022"/>
                  </a:lnTo>
                  <a:lnTo>
                    <a:pt x="60" y="2009"/>
                  </a:lnTo>
                  <a:lnTo>
                    <a:pt x="56" y="1996"/>
                  </a:lnTo>
                  <a:lnTo>
                    <a:pt x="49" y="1983"/>
                  </a:lnTo>
                  <a:lnTo>
                    <a:pt x="42" y="1973"/>
                  </a:lnTo>
                  <a:lnTo>
                    <a:pt x="28" y="1955"/>
                  </a:lnTo>
                  <a:lnTo>
                    <a:pt x="14" y="1941"/>
                  </a:lnTo>
                  <a:lnTo>
                    <a:pt x="4" y="1933"/>
                  </a:lnTo>
                  <a:lnTo>
                    <a:pt x="0" y="1929"/>
                  </a:lnTo>
                  <a:lnTo>
                    <a:pt x="184" y="1713"/>
                  </a:lnTo>
                  <a:lnTo>
                    <a:pt x="184" y="1705"/>
                  </a:lnTo>
                  <a:lnTo>
                    <a:pt x="183" y="1697"/>
                  </a:lnTo>
                  <a:lnTo>
                    <a:pt x="181" y="1689"/>
                  </a:lnTo>
                  <a:lnTo>
                    <a:pt x="178" y="1681"/>
                  </a:lnTo>
                  <a:lnTo>
                    <a:pt x="170" y="1664"/>
                  </a:lnTo>
                  <a:lnTo>
                    <a:pt x="161" y="1649"/>
                  </a:lnTo>
                  <a:lnTo>
                    <a:pt x="137" y="1619"/>
                  </a:lnTo>
                  <a:lnTo>
                    <a:pt x="112" y="1587"/>
                  </a:lnTo>
                  <a:lnTo>
                    <a:pt x="99" y="1571"/>
                  </a:lnTo>
                  <a:lnTo>
                    <a:pt x="87" y="1554"/>
                  </a:lnTo>
                  <a:lnTo>
                    <a:pt x="77" y="1538"/>
                  </a:lnTo>
                  <a:lnTo>
                    <a:pt x="67" y="1519"/>
                  </a:lnTo>
                  <a:lnTo>
                    <a:pt x="64" y="1510"/>
                  </a:lnTo>
                  <a:lnTo>
                    <a:pt x="61" y="1501"/>
                  </a:lnTo>
                  <a:lnTo>
                    <a:pt x="59" y="1491"/>
                  </a:lnTo>
                  <a:lnTo>
                    <a:pt x="58" y="1481"/>
                  </a:lnTo>
                  <a:lnTo>
                    <a:pt x="57" y="1470"/>
                  </a:lnTo>
                  <a:lnTo>
                    <a:pt x="57" y="1460"/>
                  </a:lnTo>
                  <a:lnTo>
                    <a:pt x="58" y="1448"/>
                  </a:lnTo>
                  <a:lnTo>
                    <a:pt x="60" y="1438"/>
                  </a:lnTo>
                  <a:lnTo>
                    <a:pt x="67" y="1414"/>
                  </a:lnTo>
                  <a:lnTo>
                    <a:pt x="77" y="1391"/>
                  </a:lnTo>
                  <a:lnTo>
                    <a:pt x="86" y="1369"/>
                  </a:lnTo>
                  <a:lnTo>
                    <a:pt x="98" y="1347"/>
                  </a:lnTo>
                  <a:lnTo>
                    <a:pt x="111" y="1324"/>
                  </a:lnTo>
                  <a:lnTo>
                    <a:pt x="123" y="1304"/>
                  </a:lnTo>
                  <a:lnTo>
                    <a:pt x="137" y="1285"/>
                  </a:lnTo>
                  <a:lnTo>
                    <a:pt x="150" y="1267"/>
                  </a:lnTo>
                  <a:lnTo>
                    <a:pt x="175" y="1236"/>
                  </a:lnTo>
                  <a:lnTo>
                    <a:pt x="196" y="1211"/>
                  </a:lnTo>
                  <a:lnTo>
                    <a:pt x="211" y="1195"/>
                  </a:lnTo>
                  <a:lnTo>
                    <a:pt x="216" y="1190"/>
                  </a:lnTo>
                  <a:lnTo>
                    <a:pt x="224" y="1197"/>
                  </a:lnTo>
                  <a:lnTo>
                    <a:pt x="232" y="1203"/>
                  </a:lnTo>
                  <a:lnTo>
                    <a:pt x="239" y="1208"/>
                  </a:lnTo>
                  <a:lnTo>
                    <a:pt x="245" y="1209"/>
                  </a:lnTo>
                  <a:lnTo>
                    <a:pt x="251" y="1210"/>
                  </a:lnTo>
                  <a:lnTo>
                    <a:pt x="257" y="1210"/>
                  </a:lnTo>
                  <a:lnTo>
                    <a:pt x="261" y="1208"/>
                  </a:lnTo>
                  <a:lnTo>
                    <a:pt x="265" y="1204"/>
                  </a:lnTo>
                  <a:lnTo>
                    <a:pt x="268" y="1199"/>
                  </a:lnTo>
                  <a:lnTo>
                    <a:pt x="272" y="1195"/>
                  </a:lnTo>
                  <a:lnTo>
                    <a:pt x="274" y="1188"/>
                  </a:lnTo>
                  <a:lnTo>
                    <a:pt x="276" y="1181"/>
                  </a:lnTo>
                  <a:lnTo>
                    <a:pt x="280" y="1164"/>
                  </a:lnTo>
                  <a:lnTo>
                    <a:pt x="282" y="1147"/>
                  </a:lnTo>
                  <a:lnTo>
                    <a:pt x="283" y="1127"/>
                  </a:lnTo>
                  <a:lnTo>
                    <a:pt x="283" y="1107"/>
                  </a:lnTo>
                  <a:lnTo>
                    <a:pt x="283" y="1088"/>
                  </a:lnTo>
                  <a:lnTo>
                    <a:pt x="282" y="1071"/>
                  </a:lnTo>
                  <a:lnTo>
                    <a:pt x="280" y="1044"/>
                  </a:lnTo>
                  <a:lnTo>
                    <a:pt x="280" y="1033"/>
                  </a:lnTo>
                  <a:lnTo>
                    <a:pt x="296" y="1025"/>
                  </a:lnTo>
                  <a:lnTo>
                    <a:pt x="311" y="1016"/>
                  </a:lnTo>
                  <a:lnTo>
                    <a:pt x="325" y="1007"/>
                  </a:lnTo>
                  <a:lnTo>
                    <a:pt x="337" y="996"/>
                  </a:lnTo>
                  <a:lnTo>
                    <a:pt x="349" y="987"/>
                  </a:lnTo>
                  <a:lnTo>
                    <a:pt x="358" y="976"/>
                  </a:lnTo>
                  <a:lnTo>
                    <a:pt x="368" y="966"/>
                  </a:lnTo>
                  <a:lnTo>
                    <a:pt x="376" y="954"/>
                  </a:lnTo>
                  <a:lnTo>
                    <a:pt x="383" y="944"/>
                  </a:lnTo>
                  <a:lnTo>
                    <a:pt x="389" y="932"/>
                  </a:lnTo>
                  <a:lnTo>
                    <a:pt x="393" y="920"/>
                  </a:lnTo>
                  <a:lnTo>
                    <a:pt x="397" y="908"/>
                  </a:lnTo>
                  <a:lnTo>
                    <a:pt x="400" y="897"/>
                  </a:lnTo>
                  <a:lnTo>
                    <a:pt x="403" y="885"/>
                  </a:lnTo>
                  <a:lnTo>
                    <a:pt x="405" y="872"/>
                  </a:lnTo>
                  <a:lnTo>
                    <a:pt x="405" y="861"/>
                  </a:lnTo>
                  <a:lnTo>
                    <a:pt x="406" y="835"/>
                  </a:lnTo>
                  <a:lnTo>
                    <a:pt x="404" y="810"/>
                  </a:lnTo>
                  <a:lnTo>
                    <a:pt x="400" y="785"/>
                  </a:lnTo>
                  <a:lnTo>
                    <a:pt x="396" y="760"/>
                  </a:lnTo>
                  <a:lnTo>
                    <a:pt x="384" y="710"/>
                  </a:lnTo>
                  <a:lnTo>
                    <a:pt x="371" y="662"/>
                  </a:lnTo>
                  <a:lnTo>
                    <a:pt x="587" y="418"/>
                  </a:lnTo>
                  <a:lnTo>
                    <a:pt x="588" y="403"/>
                  </a:lnTo>
                  <a:lnTo>
                    <a:pt x="592" y="388"/>
                  </a:lnTo>
                  <a:lnTo>
                    <a:pt x="598" y="371"/>
                  </a:lnTo>
                  <a:lnTo>
                    <a:pt x="605" y="355"/>
                  </a:lnTo>
                  <a:lnTo>
                    <a:pt x="614" y="338"/>
                  </a:lnTo>
                  <a:lnTo>
                    <a:pt x="625" y="321"/>
                  </a:lnTo>
                  <a:lnTo>
                    <a:pt x="636" y="305"/>
                  </a:lnTo>
                  <a:lnTo>
                    <a:pt x="650" y="287"/>
                  </a:lnTo>
                  <a:lnTo>
                    <a:pt x="664" y="270"/>
                  </a:lnTo>
                  <a:lnTo>
                    <a:pt x="681" y="252"/>
                  </a:lnTo>
                  <a:lnTo>
                    <a:pt x="697" y="234"/>
                  </a:lnTo>
                  <a:lnTo>
                    <a:pt x="714" y="217"/>
                  </a:lnTo>
                  <a:lnTo>
                    <a:pt x="751" y="183"/>
                  </a:lnTo>
                  <a:lnTo>
                    <a:pt x="788" y="150"/>
                  </a:lnTo>
                  <a:lnTo>
                    <a:pt x="825" y="120"/>
                  </a:lnTo>
                  <a:lnTo>
                    <a:pt x="862" y="91"/>
                  </a:lnTo>
                  <a:lnTo>
                    <a:pt x="896" y="65"/>
                  </a:lnTo>
                  <a:lnTo>
                    <a:pt x="926" y="43"/>
                  </a:lnTo>
                  <a:lnTo>
                    <a:pt x="970" y="11"/>
                  </a:lnTo>
                  <a:lnTo>
                    <a:pt x="988" y="0"/>
                  </a:lnTo>
                  <a:lnTo>
                    <a:pt x="1904" y="95"/>
                  </a:lnTo>
                  <a:lnTo>
                    <a:pt x="1273" y="807"/>
                  </a:lnTo>
                  <a:lnTo>
                    <a:pt x="1837" y="2053"/>
                  </a:lnTo>
                  <a:lnTo>
                    <a:pt x="1824" y="2071"/>
                  </a:lnTo>
                  <a:lnTo>
                    <a:pt x="1814" y="2087"/>
                  </a:lnTo>
                  <a:lnTo>
                    <a:pt x="1805" y="2103"/>
                  </a:lnTo>
                  <a:lnTo>
                    <a:pt x="1798" y="2117"/>
                  </a:lnTo>
                  <a:lnTo>
                    <a:pt x="1794" y="2131"/>
                  </a:lnTo>
                  <a:lnTo>
                    <a:pt x="1790" y="2144"/>
                  </a:lnTo>
                  <a:lnTo>
                    <a:pt x="1788" y="2156"/>
                  </a:lnTo>
                  <a:lnTo>
                    <a:pt x="1787" y="2166"/>
                  </a:lnTo>
                  <a:lnTo>
                    <a:pt x="1787" y="2185"/>
                  </a:lnTo>
                  <a:lnTo>
                    <a:pt x="1788" y="2198"/>
                  </a:lnTo>
                  <a:lnTo>
                    <a:pt x="1790" y="2206"/>
                  </a:lnTo>
                  <a:lnTo>
                    <a:pt x="1791" y="2209"/>
                  </a:lnTo>
                  <a:lnTo>
                    <a:pt x="1809" y="2301"/>
                  </a:lnTo>
                  <a:lnTo>
                    <a:pt x="1787" y="2315"/>
                  </a:lnTo>
                  <a:lnTo>
                    <a:pt x="1763" y="2330"/>
                  </a:lnTo>
                  <a:lnTo>
                    <a:pt x="1738" y="2348"/>
                  </a:lnTo>
                  <a:lnTo>
                    <a:pt x="1712" y="2367"/>
                  </a:lnTo>
                  <a:lnTo>
                    <a:pt x="1685" y="2388"/>
                  </a:lnTo>
                  <a:lnTo>
                    <a:pt x="1658" y="2409"/>
                  </a:lnTo>
                  <a:lnTo>
                    <a:pt x="1633" y="2432"/>
                  </a:lnTo>
                  <a:lnTo>
                    <a:pt x="1607" y="2455"/>
                  </a:lnTo>
                  <a:lnTo>
                    <a:pt x="1582" y="2477"/>
                  </a:lnTo>
                  <a:lnTo>
                    <a:pt x="1561" y="2498"/>
                  </a:lnTo>
                  <a:lnTo>
                    <a:pt x="1542" y="2519"/>
                  </a:lnTo>
                  <a:lnTo>
                    <a:pt x="1525" y="2539"/>
                  </a:lnTo>
                  <a:lnTo>
                    <a:pt x="1511" y="2557"/>
                  </a:lnTo>
                  <a:lnTo>
                    <a:pt x="1503" y="2572"/>
                  </a:lnTo>
                  <a:lnTo>
                    <a:pt x="1499" y="2579"/>
                  </a:lnTo>
                  <a:lnTo>
                    <a:pt x="1497" y="2585"/>
                  </a:lnTo>
                  <a:lnTo>
                    <a:pt x="1497" y="2590"/>
                  </a:lnTo>
                  <a:lnTo>
                    <a:pt x="1497" y="2595"/>
                  </a:lnTo>
                  <a:lnTo>
                    <a:pt x="1475" y="2605"/>
                  </a:lnTo>
                  <a:lnTo>
                    <a:pt x="1454" y="2615"/>
                  </a:lnTo>
                  <a:lnTo>
                    <a:pt x="1433" y="2627"/>
                  </a:lnTo>
                  <a:lnTo>
                    <a:pt x="1414" y="2638"/>
                  </a:lnTo>
                  <a:lnTo>
                    <a:pt x="1397" y="2651"/>
                  </a:lnTo>
                  <a:lnTo>
                    <a:pt x="1380" y="2664"/>
                  </a:lnTo>
                  <a:lnTo>
                    <a:pt x="1365" y="2677"/>
                  </a:lnTo>
                  <a:lnTo>
                    <a:pt x="1352" y="2690"/>
                  </a:lnTo>
                  <a:lnTo>
                    <a:pt x="1329" y="2713"/>
                  </a:lnTo>
                  <a:lnTo>
                    <a:pt x="1313" y="2733"/>
                  </a:lnTo>
                  <a:lnTo>
                    <a:pt x="1302" y="2746"/>
                  </a:lnTo>
                  <a:lnTo>
                    <a:pt x="1299" y="2751"/>
                  </a:lnTo>
                  <a:lnTo>
                    <a:pt x="1328" y="2829"/>
                  </a:lnTo>
                  <a:lnTo>
                    <a:pt x="1313" y="2840"/>
                  </a:lnTo>
                  <a:lnTo>
                    <a:pt x="1297" y="2851"/>
                  </a:lnTo>
                  <a:lnTo>
                    <a:pt x="1282" y="2860"/>
                  </a:lnTo>
                  <a:lnTo>
                    <a:pt x="1268" y="2868"/>
                  </a:lnTo>
                  <a:lnTo>
                    <a:pt x="1254" y="2876"/>
                  </a:lnTo>
                  <a:lnTo>
                    <a:pt x="1241" y="2881"/>
                  </a:lnTo>
                  <a:lnTo>
                    <a:pt x="1228" y="2887"/>
                  </a:lnTo>
                  <a:lnTo>
                    <a:pt x="1217" y="2891"/>
                  </a:lnTo>
                  <a:lnTo>
                    <a:pt x="1195" y="2897"/>
                  </a:lnTo>
                  <a:lnTo>
                    <a:pt x="1175" y="2901"/>
                  </a:lnTo>
                  <a:lnTo>
                    <a:pt x="1158" y="2904"/>
                  </a:lnTo>
                  <a:lnTo>
                    <a:pt x="1147" y="29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Freeform 222"/>
            <p:cNvSpPr/>
            <p:nvPr/>
          </p:nvSpPr>
          <p:spPr>
            <a:xfrm>
              <a:off x="6440400" y="4197600"/>
              <a:ext cx="421560" cy="33768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798" h="2073">
                  <a:moveTo>
                    <a:pt x="1741" y="2073"/>
                  </a:moveTo>
                  <a:lnTo>
                    <a:pt x="1081" y="2018"/>
                  </a:lnTo>
                  <a:lnTo>
                    <a:pt x="0" y="1462"/>
                  </a:lnTo>
                  <a:lnTo>
                    <a:pt x="65" y="1356"/>
                  </a:lnTo>
                  <a:lnTo>
                    <a:pt x="76" y="1354"/>
                  </a:lnTo>
                  <a:lnTo>
                    <a:pt x="93" y="1351"/>
                  </a:lnTo>
                  <a:lnTo>
                    <a:pt x="113" y="1347"/>
                  </a:lnTo>
                  <a:lnTo>
                    <a:pt x="135" y="1341"/>
                  </a:lnTo>
                  <a:lnTo>
                    <a:pt x="146" y="1337"/>
                  </a:lnTo>
                  <a:lnTo>
                    <a:pt x="159" y="1331"/>
                  </a:lnTo>
                  <a:lnTo>
                    <a:pt x="172" y="1326"/>
                  </a:lnTo>
                  <a:lnTo>
                    <a:pt x="186" y="1318"/>
                  </a:lnTo>
                  <a:lnTo>
                    <a:pt x="200" y="1310"/>
                  </a:lnTo>
                  <a:lnTo>
                    <a:pt x="215" y="1301"/>
                  </a:lnTo>
                  <a:lnTo>
                    <a:pt x="231" y="1290"/>
                  </a:lnTo>
                  <a:lnTo>
                    <a:pt x="246" y="1279"/>
                  </a:lnTo>
                  <a:lnTo>
                    <a:pt x="217" y="1201"/>
                  </a:lnTo>
                  <a:lnTo>
                    <a:pt x="220" y="1196"/>
                  </a:lnTo>
                  <a:lnTo>
                    <a:pt x="231" y="1183"/>
                  </a:lnTo>
                  <a:lnTo>
                    <a:pt x="247" y="1163"/>
                  </a:lnTo>
                  <a:lnTo>
                    <a:pt x="270" y="1140"/>
                  </a:lnTo>
                  <a:lnTo>
                    <a:pt x="283" y="1127"/>
                  </a:lnTo>
                  <a:lnTo>
                    <a:pt x="298" y="1114"/>
                  </a:lnTo>
                  <a:lnTo>
                    <a:pt x="315" y="1101"/>
                  </a:lnTo>
                  <a:lnTo>
                    <a:pt x="332" y="1088"/>
                  </a:lnTo>
                  <a:lnTo>
                    <a:pt x="351" y="1077"/>
                  </a:lnTo>
                  <a:lnTo>
                    <a:pt x="372" y="1065"/>
                  </a:lnTo>
                  <a:lnTo>
                    <a:pt x="393" y="1055"/>
                  </a:lnTo>
                  <a:lnTo>
                    <a:pt x="415" y="1045"/>
                  </a:lnTo>
                  <a:lnTo>
                    <a:pt x="415" y="1040"/>
                  </a:lnTo>
                  <a:lnTo>
                    <a:pt x="415" y="1035"/>
                  </a:lnTo>
                  <a:lnTo>
                    <a:pt x="417" y="1029"/>
                  </a:lnTo>
                  <a:lnTo>
                    <a:pt x="421" y="1022"/>
                  </a:lnTo>
                  <a:lnTo>
                    <a:pt x="429" y="1007"/>
                  </a:lnTo>
                  <a:lnTo>
                    <a:pt x="443" y="989"/>
                  </a:lnTo>
                  <a:lnTo>
                    <a:pt x="460" y="969"/>
                  </a:lnTo>
                  <a:lnTo>
                    <a:pt x="479" y="948"/>
                  </a:lnTo>
                  <a:lnTo>
                    <a:pt x="500" y="927"/>
                  </a:lnTo>
                  <a:lnTo>
                    <a:pt x="525" y="905"/>
                  </a:lnTo>
                  <a:lnTo>
                    <a:pt x="551" y="882"/>
                  </a:lnTo>
                  <a:lnTo>
                    <a:pt x="576" y="859"/>
                  </a:lnTo>
                  <a:lnTo>
                    <a:pt x="603" y="838"/>
                  </a:lnTo>
                  <a:lnTo>
                    <a:pt x="630" y="817"/>
                  </a:lnTo>
                  <a:lnTo>
                    <a:pt x="656" y="798"/>
                  </a:lnTo>
                  <a:lnTo>
                    <a:pt x="681" y="780"/>
                  </a:lnTo>
                  <a:lnTo>
                    <a:pt x="705" y="765"/>
                  </a:lnTo>
                  <a:lnTo>
                    <a:pt x="727" y="751"/>
                  </a:lnTo>
                  <a:lnTo>
                    <a:pt x="709" y="659"/>
                  </a:lnTo>
                  <a:lnTo>
                    <a:pt x="708" y="656"/>
                  </a:lnTo>
                  <a:lnTo>
                    <a:pt x="706" y="648"/>
                  </a:lnTo>
                  <a:lnTo>
                    <a:pt x="705" y="635"/>
                  </a:lnTo>
                  <a:lnTo>
                    <a:pt x="705" y="616"/>
                  </a:lnTo>
                  <a:lnTo>
                    <a:pt x="706" y="606"/>
                  </a:lnTo>
                  <a:lnTo>
                    <a:pt x="708" y="594"/>
                  </a:lnTo>
                  <a:lnTo>
                    <a:pt x="712" y="581"/>
                  </a:lnTo>
                  <a:lnTo>
                    <a:pt x="716" y="567"/>
                  </a:lnTo>
                  <a:lnTo>
                    <a:pt x="723" y="553"/>
                  </a:lnTo>
                  <a:lnTo>
                    <a:pt x="732" y="537"/>
                  </a:lnTo>
                  <a:lnTo>
                    <a:pt x="742" y="521"/>
                  </a:lnTo>
                  <a:lnTo>
                    <a:pt x="755" y="503"/>
                  </a:lnTo>
                  <a:lnTo>
                    <a:pt x="810" y="437"/>
                  </a:lnTo>
                  <a:lnTo>
                    <a:pt x="860" y="375"/>
                  </a:lnTo>
                  <a:lnTo>
                    <a:pt x="884" y="347"/>
                  </a:lnTo>
                  <a:lnTo>
                    <a:pt x="908" y="320"/>
                  </a:lnTo>
                  <a:lnTo>
                    <a:pt x="920" y="308"/>
                  </a:lnTo>
                  <a:lnTo>
                    <a:pt x="931" y="296"/>
                  </a:lnTo>
                  <a:lnTo>
                    <a:pt x="944" y="285"/>
                  </a:lnTo>
                  <a:lnTo>
                    <a:pt x="957" y="275"/>
                  </a:lnTo>
                  <a:lnTo>
                    <a:pt x="970" y="265"/>
                  </a:lnTo>
                  <a:lnTo>
                    <a:pt x="983" y="257"/>
                  </a:lnTo>
                  <a:lnTo>
                    <a:pt x="996" y="249"/>
                  </a:lnTo>
                  <a:lnTo>
                    <a:pt x="1010" y="242"/>
                  </a:lnTo>
                  <a:lnTo>
                    <a:pt x="1024" y="235"/>
                  </a:lnTo>
                  <a:lnTo>
                    <a:pt x="1039" y="230"/>
                  </a:lnTo>
                  <a:lnTo>
                    <a:pt x="1054" y="225"/>
                  </a:lnTo>
                  <a:lnTo>
                    <a:pt x="1070" y="222"/>
                  </a:lnTo>
                  <a:lnTo>
                    <a:pt x="1087" y="218"/>
                  </a:lnTo>
                  <a:lnTo>
                    <a:pt x="1104" y="217"/>
                  </a:lnTo>
                  <a:lnTo>
                    <a:pt x="1122" y="216"/>
                  </a:lnTo>
                  <a:lnTo>
                    <a:pt x="1141" y="217"/>
                  </a:lnTo>
                  <a:lnTo>
                    <a:pt x="1160" y="218"/>
                  </a:lnTo>
                  <a:lnTo>
                    <a:pt x="1181" y="221"/>
                  </a:lnTo>
                  <a:lnTo>
                    <a:pt x="1202" y="225"/>
                  </a:lnTo>
                  <a:lnTo>
                    <a:pt x="1225" y="230"/>
                  </a:lnTo>
                  <a:lnTo>
                    <a:pt x="1380" y="0"/>
                  </a:lnTo>
                  <a:lnTo>
                    <a:pt x="2798" y="51"/>
                  </a:lnTo>
                  <a:lnTo>
                    <a:pt x="1741" y="207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Freeform 223"/>
            <p:cNvSpPr/>
            <p:nvPr/>
          </p:nvSpPr>
          <p:spPr>
            <a:xfrm>
              <a:off x="6862680" y="4032720"/>
              <a:ext cx="379440" cy="1728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502" h="1059">
                  <a:moveTo>
                    <a:pt x="0" y="1059"/>
                  </a:moveTo>
                  <a:lnTo>
                    <a:pt x="529" y="0"/>
                  </a:lnTo>
                  <a:lnTo>
                    <a:pt x="1871" y="37"/>
                  </a:lnTo>
                  <a:lnTo>
                    <a:pt x="2502" y="43"/>
                  </a:lnTo>
                  <a:lnTo>
                    <a:pt x="2235" y="1057"/>
                  </a:lnTo>
                  <a:lnTo>
                    <a:pt x="0" y="10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Freeform 224"/>
            <p:cNvSpPr/>
            <p:nvPr/>
          </p:nvSpPr>
          <p:spPr>
            <a:xfrm>
              <a:off x="6864120" y="4243320"/>
              <a:ext cx="785520" cy="74232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5200" h="4545">
                  <a:moveTo>
                    <a:pt x="5200" y="2503"/>
                  </a:moveTo>
                  <a:lnTo>
                    <a:pt x="5184" y="1809"/>
                  </a:lnTo>
                  <a:lnTo>
                    <a:pt x="5164" y="1787"/>
                  </a:lnTo>
                  <a:lnTo>
                    <a:pt x="5146" y="1764"/>
                  </a:lnTo>
                  <a:lnTo>
                    <a:pt x="5136" y="1752"/>
                  </a:lnTo>
                  <a:lnTo>
                    <a:pt x="5128" y="1739"/>
                  </a:lnTo>
                  <a:lnTo>
                    <a:pt x="5120" y="1725"/>
                  </a:lnTo>
                  <a:lnTo>
                    <a:pt x="5112" y="1711"/>
                  </a:lnTo>
                  <a:lnTo>
                    <a:pt x="5103" y="1696"/>
                  </a:lnTo>
                  <a:lnTo>
                    <a:pt x="5096" y="1680"/>
                  </a:lnTo>
                  <a:lnTo>
                    <a:pt x="5089" y="1663"/>
                  </a:lnTo>
                  <a:lnTo>
                    <a:pt x="5082" y="1646"/>
                  </a:lnTo>
                  <a:lnTo>
                    <a:pt x="5071" y="1610"/>
                  </a:lnTo>
                  <a:lnTo>
                    <a:pt x="5059" y="1569"/>
                  </a:lnTo>
                  <a:lnTo>
                    <a:pt x="5050" y="1524"/>
                  </a:lnTo>
                  <a:lnTo>
                    <a:pt x="5040" y="1477"/>
                  </a:lnTo>
                  <a:lnTo>
                    <a:pt x="5033" y="1423"/>
                  </a:lnTo>
                  <a:lnTo>
                    <a:pt x="5028" y="1366"/>
                  </a:lnTo>
                  <a:lnTo>
                    <a:pt x="5023" y="1304"/>
                  </a:lnTo>
                  <a:lnTo>
                    <a:pt x="5019" y="1237"/>
                  </a:lnTo>
                  <a:lnTo>
                    <a:pt x="5017" y="1165"/>
                  </a:lnTo>
                  <a:lnTo>
                    <a:pt x="5017" y="1086"/>
                  </a:lnTo>
                  <a:lnTo>
                    <a:pt x="5004" y="1076"/>
                  </a:lnTo>
                  <a:lnTo>
                    <a:pt x="4988" y="1064"/>
                  </a:lnTo>
                  <a:lnTo>
                    <a:pt x="4969" y="1053"/>
                  </a:lnTo>
                  <a:lnTo>
                    <a:pt x="4947" y="1039"/>
                  </a:lnTo>
                  <a:lnTo>
                    <a:pt x="4922" y="1026"/>
                  </a:lnTo>
                  <a:lnTo>
                    <a:pt x="4896" y="1010"/>
                  </a:lnTo>
                  <a:lnTo>
                    <a:pt x="4866" y="996"/>
                  </a:lnTo>
                  <a:lnTo>
                    <a:pt x="4836" y="981"/>
                  </a:lnTo>
                  <a:lnTo>
                    <a:pt x="4769" y="951"/>
                  </a:lnTo>
                  <a:lnTo>
                    <a:pt x="4698" y="921"/>
                  </a:lnTo>
                  <a:lnTo>
                    <a:pt x="4623" y="891"/>
                  </a:lnTo>
                  <a:lnTo>
                    <a:pt x="4547" y="864"/>
                  </a:lnTo>
                  <a:lnTo>
                    <a:pt x="4509" y="852"/>
                  </a:lnTo>
                  <a:lnTo>
                    <a:pt x="4472" y="840"/>
                  </a:lnTo>
                  <a:lnTo>
                    <a:pt x="4434" y="828"/>
                  </a:lnTo>
                  <a:lnTo>
                    <a:pt x="4398" y="819"/>
                  </a:lnTo>
                  <a:lnTo>
                    <a:pt x="4363" y="810"/>
                  </a:lnTo>
                  <a:lnTo>
                    <a:pt x="4329" y="803"/>
                  </a:lnTo>
                  <a:lnTo>
                    <a:pt x="4296" y="797"/>
                  </a:lnTo>
                  <a:lnTo>
                    <a:pt x="4265" y="792"/>
                  </a:lnTo>
                  <a:lnTo>
                    <a:pt x="4236" y="789"/>
                  </a:lnTo>
                  <a:lnTo>
                    <a:pt x="4209" y="787"/>
                  </a:lnTo>
                  <a:lnTo>
                    <a:pt x="4184" y="787"/>
                  </a:lnTo>
                  <a:lnTo>
                    <a:pt x="4162" y="791"/>
                  </a:lnTo>
                  <a:lnTo>
                    <a:pt x="4142" y="794"/>
                  </a:lnTo>
                  <a:lnTo>
                    <a:pt x="4126" y="801"/>
                  </a:lnTo>
                  <a:lnTo>
                    <a:pt x="4113" y="810"/>
                  </a:lnTo>
                  <a:lnTo>
                    <a:pt x="4104" y="821"/>
                  </a:lnTo>
                  <a:lnTo>
                    <a:pt x="4080" y="856"/>
                  </a:lnTo>
                  <a:lnTo>
                    <a:pt x="4059" y="884"/>
                  </a:lnTo>
                  <a:lnTo>
                    <a:pt x="4049" y="896"/>
                  </a:lnTo>
                  <a:lnTo>
                    <a:pt x="4039" y="907"/>
                  </a:lnTo>
                  <a:lnTo>
                    <a:pt x="4031" y="916"/>
                  </a:lnTo>
                  <a:lnTo>
                    <a:pt x="4022" y="923"/>
                  </a:lnTo>
                  <a:lnTo>
                    <a:pt x="4014" y="930"/>
                  </a:lnTo>
                  <a:lnTo>
                    <a:pt x="4007" y="935"/>
                  </a:lnTo>
                  <a:lnTo>
                    <a:pt x="4000" y="939"/>
                  </a:lnTo>
                  <a:lnTo>
                    <a:pt x="3993" y="942"/>
                  </a:lnTo>
                  <a:lnTo>
                    <a:pt x="3986" y="944"/>
                  </a:lnTo>
                  <a:lnTo>
                    <a:pt x="3980" y="945"/>
                  </a:lnTo>
                  <a:lnTo>
                    <a:pt x="3974" y="945"/>
                  </a:lnTo>
                  <a:lnTo>
                    <a:pt x="3968" y="944"/>
                  </a:lnTo>
                  <a:lnTo>
                    <a:pt x="3963" y="943"/>
                  </a:lnTo>
                  <a:lnTo>
                    <a:pt x="3959" y="940"/>
                  </a:lnTo>
                  <a:lnTo>
                    <a:pt x="3954" y="937"/>
                  </a:lnTo>
                  <a:lnTo>
                    <a:pt x="3949" y="933"/>
                  </a:lnTo>
                  <a:lnTo>
                    <a:pt x="3942" y="925"/>
                  </a:lnTo>
                  <a:lnTo>
                    <a:pt x="3937" y="915"/>
                  </a:lnTo>
                  <a:lnTo>
                    <a:pt x="3931" y="903"/>
                  </a:lnTo>
                  <a:lnTo>
                    <a:pt x="3926" y="891"/>
                  </a:lnTo>
                  <a:lnTo>
                    <a:pt x="3922" y="880"/>
                  </a:lnTo>
                  <a:lnTo>
                    <a:pt x="3919" y="868"/>
                  </a:lnTo>
                  <a:lnTo>
                    <a:pt x="3917" y="862"/>
                  </a:lnTo>
                  <a:lnTo>
                    <a:pt x="3913" y="857"/>
                  </a:lnTo>
                  <a:lnTo>
                    <a:pt x="3907" y="854"/>
                  </a:lnTo>
                  <a:lnTo>
                    <a:pt x="3900" y="850"/>
                  </a:lnTo>
                  <a:lnTo>
                    <a:pt x="3893" y="848"/>
                  </a:lnTo>
                  <a:lnTo>
                    <a:pt x="3884" y="847"/>
                  </a:lnTo>
                  <a:lnTo>
                    <a:pt x="3873" y="846"/>
                  </a:lnTo>
                  <a:lnTo>
                    <a:pt x="3862" y="845"/>
                  </a:lnTo>
                  <a:lnTo>
                    <a:pt x="3837" y="845"/>
                  </a:lnTo>
                  <a:lnTo>
                    <a:pt x="3808" y="847"/>
                  </a:lnTo>
                  <a:lnTo>
                    <a:pt x="3778" y="850"/>
                  </a:lnTo>
                  <a:lnTo>
                    <a:pt x="3746" y="854"/>
                  </a:lnTo>
                  <a:lnTo>
                    <a:pt x="3680" y="863"/>
                  </a:lnTo>
                  <a:lnTo>
                    <a:pt x="3615" y="870"/>
                  </a:lnTo>
                  <a:lnTo>
                    <a:pt x="3586" y="873"/>
                  </a:lnTo>
                  <a:lnTo>
                    <a:pt x="3559" y="873"/>
                  </a:lnTo>
                  <a:lnTo>
                    <a:pt x="3546" y="873"/>
                  </a:lnTo>
                  <a:lnTo>
                    <a:pt x="3536" y="871"/>
                  </a:lnTo>
                  <a:lnTo>
                    <a:pt x="3525" y="870"/>
                  </a:lnTo>
                  <a:lnTo>
                    <a:pt x="3516" y="868"/>
                  </a:lnTo>
                  <a:lnTo>
                    <a:pt x="3500" y="861"/>
                  </a:lnTo>
                  <a:lnTo>
                    <a:pt x="3483" y="853"/>
                  </a:lnTo>
                  <a:lnTo>
                    <a:pt x="3467" y="845"/>
                  </a:lnTo>
                  <a:lnTo>
                    <a:pt x="3453" y="835"/>
                  </a:lnTo>
                  <a:lnTo>
                    <a:pt x="3439" y="825"/>
                  </a:lnTo>
                  <a:lnTo>
                    <a:pt x="3426" y="814"/>
                  </a:lnTo>
                  <a:lnTo>
                    <a:pt x="3414" y="804"/>
                  </a:lnTo>
                  <a:lnTo>
                    <a:pt x="3404" y="793"/>
                  </a:lnTo>
                  <a:lnTo>
                    <a:pt x="3372" y="758"/>
                  </a:lnTo>
                  <a:lnTo>
                    <a:pt x="3361" y="743"/>
                  </a:lnTo>
                  <a:lnTo>
                    <a:pt x="3356" y="748"/>
                  </a:lnTo>
                  <a:lnTo>
                    <a:pt x="3344" y="759"/>
                  </a:lnTo>
                  <a:lnTo>
                    <a:pt x="3335" y="766"/>
                  </a:lnTo>
                  <a:lnTo>
                    <a:pt x="3324" y="775"/>
                  </a:lnTo>
                  <a:lnTo>
                    <a:pt x="3313" y="783"/>
                  </a:lnTo>
                  <a:lnTo>
                    <a:pt x="3299" y="791"/>
                  </a:lnTo>
                  <a:lnTo>
                    <a:pt x="3284" y="799"/>
                  </a:lnTo>
                  <a:lnTo>
                    <a:pt x="3267" y="805"/>
                  </a:lnTo>
                  <a:lnTo>
                    <a:pt x="3250" y="811"/>
                  </a:lnTo>
                  <a:lnTo>
                    <a:pt x="3231" y="814"/>
                  </a:lnTo>
                  <a:lnTo>
                    <a:pt x="3220" y="815"/>
                  </a:lnTo>
                  <a:lnTo>
                    <a:pt x="3210" y="815"/>
                  </a:lnTo>
                  <a:lnTo>
                    <a:pt x="3201" y="815"/>
                  </a:lnTo>
                  <a:lnTo>
                    <a:pt x="3189" y="814"/>
                  </a:lnTo>
                  <a:lnTo>
                    <a:pt x="3178" y="813"/>
                  </a:lnTo>
                  <a:lnTo>
                    <a:pt x="3168" y="811"/>
                  </a:lnTo>
                  <a:lnTo>
                    <a:pt x="3156" y="808"/>
                  </a:lnTo>
                  <a:lnTo>
                    <a:pt x="3145" y="804"/>
                  </a:lnTo>
                  <a:lnTo>
                    <a:pt x="3122" y="794"/>
                  </a:lnTo>
                  <a:lnTo>
                    <a:pt x="3100" y="784"/>
                  </a:lnTo>
                  <a:lnTo>
                    <a:pt x="3079" y="771"/>
                  </a:lnTo>
                  <a:lnTo>
                    <a:pt x="3058" y="758"/>
                  </a:lnTo>
                  <a:lnTo>
                    <a:pt x="3016" y="730"/>
                  </a:lnTo>
                  <a:lnTo>
                    <a:pt x="2972" y="702"/>
                  </a:lnTo>
                  <a:lnTo>
                    <a:pt x="2947" y="688"/>
                  </a:lnTo>
                  <a:lnTo>
                    <a:pt x="2923" y="675"/>
                  </a:lnTo>
                  <a:lnTo>
                    <a:pt x="2896" y="665"/>
                  </a:lnTo>
                  <a:lnTo>
                    <a:pt x="2867" y="654"/>
                  </a:lnTo>
                  <a:lnTo>
                    <a:pt x="2851" y="650"/>
                  </a:lnTo>
                  <a:lnTo>
                    <a:pt x="2836" y="646"/>
                  </a:lnTo>
                  <a:lnTo>
                    <a:pt x="2820" y="643"/>
                  </a:lnTo>
                  <a:lnTo>
                    <a:pt x="2802" y="639"/>
                  </a:lnTo>
                  <a:lnTo>
                    <a:pt x="2785" y="637"/>
                  </a:lnTo>
                  <a:lnTo>
                    <a:pt x="2766" y="636"/>
                  </a:lnTo>
                  <a:lnTo>
                    <a:pt x="2747" y="634"/>
                  </a:lnTo>
                  <a:lnTo>
                    <a:pt x="2726" y="634"/>
                  </a:lnTo>
                  <a:lnTo>
                    <a:pt x="2759" y="47"/>
                  </a:lnTo>
                  <a:lnTo>
                    <a:pt x="1857" y="0"/>
                  </a:lnTo>
                  <a:lnTo>
                    <a:pt x="1399" y="1533"/>
                  </a:lnTo>
                  <a:lnTo>
                    <a:pt x="8" y="1501"/>
                  </a:lnTo>
                  <a:lnTo>
                    <a:pt x="0" y="1668"/>
                  </a:lnTo>
                  <a:lnTo>
                    <a:pt x="503" y="2350"/>
                  </a:lnTo>
                  <a:lnTo>
                    <a:pt x="472" y="2566"/>
                  </a:lnTo>
                  <a:lnTo>
                    <a:pt x="904" y="3030"/>
                  </a:lnTo>
                  <a:lnTo>
                    <a:pt x="1091" y="2938"/>
                  </a:lnTo>
                  <a:lnTo>
                    <a:pt x="1307" y="2598"/>
                  </a:lnTo>
                  <a:lnTo>
                    <a:pt x="1318" y="2597"/>
                  </a:lnTo>
                  <a:lnTo>
                    <a:pt x="1348" y="2593"/>
                  </a:lnTo>
                  <a:lnTo>
                    <a:pt x="1392" y="2589"/>
                  </a:lnTo>
                  <a:lnTo>
                    <a:pt x="1446" y="2583"/>
                  </a:lnTo>
                  <a:lnTo>
                    <a:pt x="1507" y="2577"/>
                  </a:lnTo>
                  <a:lnTo>
                    <a:pt x="1569" y="2572"/>
                  </a:lnTo>
                  <a:lnTo>
                    <a:pt x="1627" y="2568"/>
                  </a:lnTo>
                  <a:lnTo>
                    <a:pt x="1679" y="2566"/>
                  </a:lnTo>
                  <a:lnTo>
                    <a:pt x="1725" y="2568"/>
                  </a:lnTo>
                  <a:lnTo>
                    <a:pt x="1773" y="2570"/>
                  </a:lnTo>
                  <a:lnTo>
                    <a:pt x="1798" y="2572"/>
                  </a:lnTo>
                  <a:lnTo>
                    <a:pt x="1821" y="2577"/>
                  </a:lnTo>
                  <a:lnTo>
                    <a:pt x="1844" y="2582"/>
                  </a:lnTo>
                  <a:lnTo>
                    <a:pt x="1867" y="2590"/>
                  </a:lnTo>
                  <a:lnTo>
                    <a:pt x="1877" y="2594"/>
                  </a:lnTo>
                  <a:lnTo>
                    <a:pt x="1888" y="2599"/>
                  </a:lnTo>
                  <a:lnTo>
                    <a:pt x="1897" y="2605"/>
                  </a:lnTo>
                  <a:lnTo>
                    <a:pt x="1907" y="2612"/>
                  </a:lnTo>
                  <a:lnTo>
                    <a:pt x="1917" y="2619"/>
                  </a:lnTo>
                  <a:lnTo>
                    <a:pt x="1925" y="2627"/>
                  </a:lnTo>
                  <a:lnTo>
                    <a:pt x="1934" y="2635"/>
                  </a:lnTo>
                  <a:lnTo>
                    <a:pt x="1943" y="2645"/>
                  </a:lnTo>
                  <a:lnTo>
                    <a:pt x="1950" y="2655"/>
                  </a:lnTo>
                  <a:lnTo>
                    <a:pt x="1957" y="2666"/>
                  </a:lnTo>
                  <a:lnTo>
                    <a:pt x="1964" y="2677"/>
                  </a:lnTo>
                  <a:lnTo>
                    <a:pt x="1969" y="2690"/>
                  </a:lnTo>
                  <a:lnTo>
                    <a:pt x="1974" y="2704"/>
                  </a:lnTo>
                  <a:lnTo>
                    <a:pt x="1980" y="2718"/>
                  </a:lnTo>
                  <a:lnTo>
                    <a:pt x="1983" y="2735"/>
                  </a:lnTo>
                  <a:lnTo>
                    <a:pt x="1987" y="2751"/>
                  </a:lnTo>
                  <a:lnTo>
                    <a:pt x="1993" y="2788"/>
                  </a:lnTo>
                  <a:lnTo>
                    <a:pt x="1997" y="2830"/>
                  </a:lnTo>
                  <a:lnTo>
                    <a:pt x="2004" y="2876"/>
                  </a:lnTo>
                  <a:lnTo>
                    <a:pt x="2011" y="2926"/>
                  </a:lnTo>
                  <a:lnTo>
                    <a:pt x="2021" y="2977"/>
                  </a:lnTo>
                  <a:lnTo>
                    <a:pt x="2034" y="3032"/>
                  </a:lnTo>
                  <a:lnTo>
                    <a:pt x="2041" y="3060"/>
                  </a:lnTo>
                  <a:lnTo>
                    <a:pt x="2049" y="3088"/>
                  </a:lnTo>
                  <a:lnTo>
                    <a:pt x="2058" y="3116"/>
                  </a:lnTo>
                  <a:lnTo>
                    <a:pt x="2069" y="3146"/>
                  </a:lnTo>
                  <a:lnTo>
                    <a:pt x="2080" y="3175"/>
                  </a:lnTo>
                  <a:lnTo>
                    <a:pt x="2092" y="3204"/>
                  </a:lnTo>
                  <a:lnTo>
                    <a:pt x="2107" y="3233"/>
                  </a:lnTo>
                  <a:lnTo>
                    <a:pt x="2122" y="3263"/>
                  </a:lnTo>
                  <a:lnTo>
                    <a:pt x="2139" y="3292"/>
                  </a:lnTo>
                  <a:lnTo>
                    <a:pt x="2157" y="3321"/>
                  </a:lnTo>
                  <a:lnTo>
                    <a:pt x="2178" y="3349"/>
                  </a:lnTo>
                  <a:lnTo>
                    <a:pt x="2201" y="3377"/>
                  </a:lnTo>
                  <a:lnTo>
                    <a:pt x="2224" y="3405"/>
                  </a:lnTo>
                  <a:lnTo>
                    <a:pt x="2250" y="3433"/>
                  </a:lnTo>
                  <a:lnTo>
                    <a:pt x="2278" y="3460"/>
                  </a:lnTo>
                  <a:lnTo>
                    <a:pt x="2308" y="3487"/>
                  </a:lnTo>
                  <a:lnTo>
                    <a:pt x="2340" y="3512"/>
                  </a:lnTo>
                  <a:lnTo>
                    <a:pt x="2375" y="3538"/>
                  </a:lnTo>
                  <a:lnTo>
                    <a:pt x="2411" y="3563"/>
                  </a:lnTo>
                  <a:lnTo>
                    <a:pt x="2451" y="3586"/>
                  </a:lnTo>
                  <a:lnTo>
                    <a:pt x="2606" y="4050"/>
                  </a:lnTo>
                  <a:lnTo>
                    <a:pt x="3099" y="4545"/>
                  </a:lnTo>
                  <a:lnTo>
                    <a:pt x="3563" y="4545"/>
                  </a:lnTo>
                  <a:lnTo>
                    <a:pt x="3562" y="4528"/>
                  </a:lnTo>
                  <a:lnTo>
                    <a:pt x="3562" y="4478"/>
                  </a:lnTo>
                  <a:lnTo>
                    <a:pt x="3560" y="4406"/>
                  </a:lnTo>
                  <a:lnTo>
                    <a:pt x="3558" y="4316"/>
                  </a:lnTo>
                  <a:lnTo>
                    <a:pt x="3555" y="4217"/>
                  </a:lnTo>
                  <a:lnTo>
                    <a:pt x="3549" y="4114"/>
                  </a:lnTo>
                  <a:lnTo>
                    <a:pt x="3545" y="4064"/>
                  </a:lnTo>
                  <a:lnTo>
                    <a:pt x="3541" y="4015"/>
                  </a:lnTo>
                  <a:lnTo>
                    <a:pt x="3536" y="3969"/>
                  </a:lnTo>
                  <a:lnTo>
                    <a:pt x="3530" y="3926"/>
                  </a:lnTo>
                  <a:lnTo>
                    <a:pt x="3529" y="3905"/>
                  </a:lnTo>
                  <a:lnTo>
                    <a:pt x="3530" y="3883"/>
                  </a:lnTo>
                  <a:lnTo>
                    <a:pt x="3534" y="3861"/>
                  </a:lnTo>
                  <a:lnTo>
                    <a:pt x="3538" y="3836"/>
                  </a:lnTo>
                  <a:lnTo>
                    <a:pt x="3546" y="3811"/>
                  </a:lnTo>
                  <a:lnTo>
                    <a:pt x="3555" y="3786"/>
                  </a:lnTo>
                  <a:lnTo>
                    <a:pt x="3566" y="3759"/>
                  </a:lnTo>
                  <a:lnTo>
                    <a:pt x="3579" y="3732"/>
                  </a:lnTo>
                  <a:lnTo>
                    <a:pt x="3593" y="3705"/>
                  </a:lnTo>
                  <a:lnTo>
                    <a:pt x="3608" y="3677"/>
                  </a:lnTo>
                  <a:lnTo>
                    <a:pt x="3626" y="3649"/>
                  </a:lnTo>
                  <a:lnTo>
                    <a:pt x="3643" y="3621"/>
                  </a:lnTo>
                  <a:lnTo>
                    <a:pt x="3663" y="3593"/>
                  </a:lnTo>
                  <a:lnTo>
                    <a:pt x="3683" y="3565"/>
                  </a:lnTo>
                  <a:lnTo>
                    <a:pt x="3703" y="3537"/>
                  </a:lnTo>
                  <a:lnTo>
                    <a:pt x="3725" y="3509"/>
                  </a:lnTo>
                  <a:lnTo>
                    <a:pt x="3747" y="3482"/>
                  </a:lnTo>
                  <a:lnTo>
                    <a:pt x="3769" y="3455"/>
                  </a:lnTo>
                  <a:lnTo>
                    <a:pt x="3792" y="3430"/>
                  </a:lnTo>
                  <a:lnTo>
                    <a:pt x="3815" y="3404"/>
                  </a:lnTo>
                  <a:lnTo>
                    <a:pt x="3861" y="3355"/>
                  </a:lnTo>
                  <a:lnTo>
                    <a:pt x="3905" y="3310"/>
                  </a:lnTo>
                  <a:lnTo>
                    <a:pt x="3948" y="3270"/>
                  </a:lnTo>
                  <a:lnTo>
                    <a:pt x="3989" y="3236"/>
                  </a:lnTo>
                  <a:lnTo>
                    <a:pt x="4008" y="3220"/>
                  </a:lnTo>
                  <a:lnTo>
                    <a:pt x="4025" y="3206"/>
                  </a:lnTo>
                  <a:lnTo>
                    <a:pt x="4043" y="3196"/>
                  </a:lnTo>
                  <a:lnTo>
                    <a:pt x="4058" y="3185"/>
                  </a:lnTo>
                  <a:lnTo>
                    <a:pt x="4092" y="3167"/>
                  </a:lnTo>
                  <a:lnTo>
                    <a:pt x="4137" y="3145"/>
                  </a:lnTo>
                  <a:lnTo>
                    <a:pt x="4190" y="3119"/>
                  </a:lnTo>
                  <a:lnTo>
                    <a:pt x="4250" y="3092"/>
                  </a:lnTo>
                  <a:lnTo>
                    <a:pt x="4313" y="3063"/>
                  </a:lnTo>
                  <a:lnTo>
                    <a:pt x="4379" y="3034"/>
                  </a:lnTo>
                  <a:lnTo>
                    <a:pt x="4446" y="3002"/>
                  </a:lnTo>
                  <a:lnTo>
                    <a:pt x="4511" y="2970"/>
                  </a:lnTo>
                  <a:lnTo>
                    <a:pt x="4574" y="2939"/>
                  </a:lnTo>
                  <a:lnTo>
                    <a:pt x="4632" y="2907"/>
                  </a:lnTo>
                  <a:lnTo>
                    <a:pt x="4658" y="2892"/>
                  </a:lnTo>
                  <a:lnTo>
                    <a:pt x="4683" y="2877"/>
                  </a:lnTo>
                  <a:lnTo>
                    <a:pt x="4705" y="2863"/>
                  </a:lnTo>
                  <a:lnTo>
                    <a:pt x="4725" y="2848"/>
                  </a:lnTo>
                  <a:lnTo>
                    <a:pt x="4741" y="2834"/>
                  </a:lnTo>
                  <a:lnTo>
                    <a:pt x="4757" y="2821"/>
                  </a:lnTo>
                  <a:lnTo>
                    <a:pt x="4767" y="2807"/>
                  </a:lnTo>
                  <a:lnTo>
                    <a:pt x="4775" y="2795"/>
                  </a:lnTo>
                  <a:lnTo>
                    <a:pt x="4780" y="2782"/>
                  </a:lnTo>
                  <a:lnTo>
                    <a:pt x="4780" y="2772"/>
                  </a:lnTo>
                  <a:lnTo>
                    <a:pt x="4776" y="2761"/>
                  </a:lnTo>
                  <a:lnTo>
                    <a:pt x="4769" y="2751"/>
                  </a:lnTo>
                  <a:lnTo>
                    <a:pt x="4741" y="2725"/>
                  </a:lnTo>
                  <a:lnTo>
                    <a:pt x="4718" y="2699"/>
                  </a:lnTo>
                  <a:lnTo>
                    <a:pt x="4698" y="2676"/>
                  </a:lnTo>
                  <a:lnTo>
                    <a:pt x="4682" y="2654"/>
                  </a:lnTo>
                  <a:lnTo>
                    <a:pt x="4669" y="2633"/>
                  </a:lnTo>
                  <a:lnTo>
                    <a:pt x="4658" y="2613"/>
                  </a:lnTo>
                  <a:lnTo>
                    <a:pt x="4651" y="2594"/>
                  </a:lnTo>
                  <a:lnTo>
                    <a:pt x="4647" y="2578"/>
                  </a:lnTo>
                  <a:lnTo>
                    <a:pt x="4644" y="2562"/>
                  </a:lnTo>
                  <a:lnTo>
                    <a:pt x="4644" y="2548"/>
                  </a:lnTo>
                  <a:lnTo>
                    <a:pt x="4648" y="2536"/>
                  </a:lnTo>
                  <a:lnTo>
                    <a:pt x="4653" y="2524"/>
                  </a:lnTo>
                  <a:lnTo>
                    <a:pt x="4660" y="2515"/>
                  </a:lnTo>
                  <a:lnTo>
                    <a:pt x="4669" y="2508"/>
                  </a:lnTo>
                  <a:lnTo>
                    <a:pt x="4679" y="2501"/>
                  </a:lnTo>
                  <a:lnTo>
                    <a:pt x="4691" y="2497"/>
                  </a:lnTo>
                  <a:lnTo>
                    <a:pt x="4705" y="2495"/>
                  </a:lnTo>
                  <a:lnTo>
                    <a:pt x="4720" y="2494"/>
                  </a:lnTo>
                  <a:lnTo>
                    <a:pt x="4736" y="2495"/>
                  </a:lnTo>
                  <a:lnTo>
                    <a:pt x="4753" y="2497"/>
                  </a:lnTo>
                  <a:lnTo>
                    <a:pt x="4771" y="2502"/>
                  </a:lnTo>
                  <a:lnTo>
                    <a:pt x="4789" y="2509"/>
                  </a:lnTo>
                  <a:lnTo>
                    <a:pt x="4809" y="2518"/>
                  </a:lnTo>
                  <a:lnTo>
                    <a:pt x="4829" y="2529"/>
                  </a:lnTo>
                  <a:lnTo>
                    <a:pt x="4849" y="2542"/>
                  </a:lnTo>
                  <a:lnTo>
                    <a:pt x="4869" y="2556"/>
                  </a:lnTo>
                  <a:lnTo>
                    <a:pt x="4890" y="2573"/>
                  </a:lnTo>
                  <a:lnTo>
                    <a:pt x="4910" y="2592"/>
                  </a:lnTo>
                  <a:lnTo>
                    <a:pt x="4929" y="2613"/>
                  </a:lnTo>
                  <a:lnTo>
                    <a:pt x="4948" y="2636"/>
                  </a:lnTo>
                  <a:lnTo>
                    <a:pt x="4967" y="2662"/>
                  </a:lnTo>
                  <a:lnTo>
                    <a:pt x="4985" y="2690"/>
                  </a:lnTo>
                  <a:lnTo>
                    <a:pt x="5200" y="25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Freeform 225"/>
            <p:cNvSpPr/>
            <p:nvPr/>
          </p:nvSpPr>
          <p:spPr>
            <a:xfrm>
              <a:off x="7200720" y="4068360"/>
              <a:ext cx="345600" cy="1378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293" h="847">
                  <a:moveTo>
                    <a:pt x="2293" y="224"/>
                  </a:moveTo>
                  <a:lnTo>
                    <a:pt x="2289" y="847"/>
                  </a:lnTo>
                  <a:lnTo>
                    <a:pt x="0" y="845"/>
                  </a:lnTo>
                  <a:lnTo>
                    <a:pt x="222" y="0"/>
                  </a:lnTo>
                  <a:lnTo>
                    <a:pt x="1998" y="4"/>
                  </a:lnTo>
                  <a:lnTo>
                    <a:pt x="2007" y="21"/>
                  </a:lnTo>
                  <a:lnTo>
                    <a:pt x="2014" y="36"/>
                  </a:lnTo>
                  <a:lnTo>
                    <a:pt x="2021" y="47"/>
                  </a:lnTo>
                  <a:lnTo>
                    <a:pt x="2028" y="54"/>
                  </a:lnTo>
                  <a:lnTo>
                    <a:pt x="2031" y="57"/>
                  </a:lnTo>
                  <a:lnTo>
                    <a:pt x="2036" y="59"/>
                  </a:lnTo>
                  <a:lnTo>
                    <a:pt x="2039" y="60"/>
                  </a:lnTo>
                  <a:lnTo>
                    <a:pt x="2044" y="61"/>
                  </a:lnTo>
                  <a:lnTo>
                    <a:pt x="2054" y="61"/>
                  </a:lnTo>
                  <a:lnTo>
                    <a:pt x="2067" y="57"/>
                  </a:lnTo>
                  <a:lnTo>
                    <a:pt x="2095" y="54"/>
                  </a:lnTo>
                  <a:lnTo>
                    <a:pt x="2122" y="50"/>
                  </a:lnTo>
                  <a:lnTo>
                    <a:pt x="2134" y="50"/>
                  </a:lnTo>
                  <a:lnTo>
                    <a:pt x="2144" y="52"/>
                  </a:lnTo>
                  <a:lnTo>
                    <a:pt x="2154" y="53"/>
                  </a:lnTo>
                  <a:lnTo>
                    <a:pt x="2163" y="55"/>
                  </a:lnTo>
                  <a:lnTo>
                    <a:pt x="2170" y="59"/>
                  </a:lnTo>
                  <a:lnTo>
                    <a:pt x="2177" y="63"/>
                  </a:lnTo>
                  <a:lnTo>
                    <a:pt x="2182" y="69"/>
                  </a:lnTo>
                  <a:lnTo>
                    <a:pt x="2185" y="76"/>
                  </a:lnTo>
                  <a:lnTo>
                    <a:pt x="2188" y="85"/>
                  </a:lnTo>
                  <a:lnTo>
                    <a:pt x="2188" y="96"/>
                  </a:lnTo>
                  <a:lnTo>
                    <a:pt x="2186" y="108"/>
                  </a:lnTo>
                  <a:lnTo>
                    <a:pt x="2183" y="122"/>
                  </a:lnTo>
                  <a:lnTo>
                    <a:pt x="2182" y="125"/>
                  </a:lnTo>
                  <a:lnTo>
                    <a:pt x="2182" y="130"/>
                  </a:lnTo>
                  <a:lnTo>
                    <a:pt x="2183" y="133"/>
                  </a:lnTo>
                  <a:lnTo>
                    <a:pt x="2184" y="137"/>
                  </a:lnTo>
                  <a:lnTo>
                    <a:pt x="2189" y="145"/>
                  </a:lnTo>
                  <a:lnTo>
                    <a:pt x="2196" y="151"/>
                  </a:lnTo>
                  <a:lnTo>
                    <a:pt x="2205" y="158"/>
                  </a:lnTo>
                  <a:lnTo>
                    <a:pt x="2214" y="164"/>
                  </a:lnTo>
                  <a:lnTo>
                    <a:pt x="2226" y="170"/>
                  </a:lnTo>
                  <a:lnTo>
                    <a:pt x="2238" y="175"/>
                  </a:lnTo>
                  <a:lnTo>
                    <a:pt x="2260" y="187"/>
                  </a:lnTo>
                  <a:lnTo>
                    <a:pt x="2279" y="199"/>
                  </a:lnTo>
                  <a:lnTo>
                    <a:pt x="2286" y="205"/>
                  </a:lnTo>
                  <a:lnTo>
                    <a:pt x="2292" y="210"/>
                  </a:lnTo>
                  <a:lnTo>
                    <a:pt x="2293" y="214"/>
                  </a:lnTo>
                  <a:lnTo>
                    <a:pt x="2293" y="217"/>
                  </a:lnTo>
                  <a:lnTo>
                    <a:pt x="2293" y="221"/>
                  </a:lnTo>
                  <a:lnTo>
                    <a:pt x="2293" y="22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Freeform 226"/>
            <p:cNvSpPr/>
            <p:nvPr/>
          </p:nvSpPr>
          <p:spPr>
            <a:xfrm>
              <a:off x="7586640" y="3817800"/>
              <a:ext cx="219960" cy="14256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69" h="876">
                  <a:moveTo>
                    <a:pt x="781" y="876"/>
                  </a:moveTo>
                  <a:lnTo>
                    <a:pt x="761" y="875"/>
                  </a:lnTo>
                  <a:lnTo>
                    <a:pt x="741" y="872"/>
                  </a:lnTo>
                  <a:lnTo>
                    <a:pt x="720" y="867"/>
                  </a:lnTo>
                  <a:lnTo>
                    <a:pt x="699" y="860"/>
                  </a:lnTo>
                  <a:lnTo>
                    <a:pt x="677" y="851"/>
                  </a:lnTo>
                  <a:lnTo>
                    <a:pt x="656" y="840"/>
                  </a:lnTo>
                  <a:lnTo>
                    <a:pt x="633" y="827"/>
                  </a:lnTo>
                  <a:lnTo>
                    <a:pt x="612" y="814"/>
                  </a:lnTo>
                  <a:lnTo>
                    <a:pt x="592" y="799"/>
                  </a:lnTo>
                  <a:lnTo>
                    <a:pt x="573" y="783"/>
                  </a:lnTo>
                  <a:lnTo>
                    <a:pt x="555" y="767"/>
                  </a:lnTo>
                  <a:lnTo>
                    <a:pt x="538" y="749"/>
                  </a:lnTo>
                  <a:lnTo>
                    <a:pt x="522" y="730"/>
                  </a:lnTo>
                  <a:lnTo>
                    <a:pt x="508" y="712"/>
                  </a:lnTo>
                  <a:lnTo>
                    <a:pt x="497" y="693"/>
                  </a:lnTo>
                  <a:lnTo>
                    <a:pt x="486" y="674"/>
                  </a:lnTo>
                  <a:lnTo>
                    <a:pt x="486" y="670"/>
                  </a:lnTo>
                  <a:lnTo>
                    <a:pt x="484" y="656"/>
                  </a:lnTo>
                  <a:lnTo>
                    <a:pt x="481" y="646"/>
                  </a:lnTo>
                  <a:lnTo>
                    <a:pt x="478" y="636"/>
                  </a:lnTo>
                  <a:lnTo>
                    <a:pt x="473" y="625"/>
                  </a:lnTo>
                  <a:lnTo>
                    <a:pt x="467" y="612"/>
                  </a:lnTo>
                  <a:lnTo>
                    <a:pt x="459" y="601"/>
                  </a:lnTo>
                  <a:lnTo>
                    <a:pt x="450" y="588"/>
                  </a:lnTo>
                  <a:lnTo>
                    <a:pt x="439" y="575"/>
                  </a:lnTo>
                  <a:lnTo>
                    <a:pt x="425" y="563"/>
                  </a:lnTo>
                  <a:lnTo>
                    <a:pt x="410" y="553"/>
                  </a:lnTo>
                  <a:lnTo>
                    <a:pt x="393" y="542"/>
                  </a:lnTo>
                  <a:lnTo>
                    <a:pt x="382" y="539"/>
                  </a:lnTo>
                  <a:lnTo>
                    <a:pt x="372" y="534"/>
                  </a:lnTo>
                  <a:lnTo>
                    <a:pt x="360" y="531"/>
                  </a:lnTo>
                  <a:lnTo>
                    <a:pt x="348" y="527"/>
                  </a:lnTo>
                  <a:lnTo>
                    <a:pt x="299" y="515"/>
                  </a:lnTo>
                  <a:lnTo>
                    <a:pt x="251" y="501"/>
                  </a:lnTo>
                  <a:lnTo>
                    <a:pt x="228" y="494"/>
                  </a:lnTo>
                  <a:lnTo>
                    <a:pt x="206" y="487"/>
                  </a:lnTo>
                  <a:lnTo>
                    <a:pt x="185" y="479"/>
                  </a:lnTo>
                  <a:lnTo>
                    <a:pt x="166" y="471"/>
                  </a:lnTo>
                  <a:lnTo>
                    <a:pt x="147" y="462"/>
                  </a:lnTo>
                  <a:lnTo>
                    <a:pt x="131" y="452"/>
                  </a:lnTo>
                  <a:lnTo>
                    <a:pt x="116" y="443"/>
                  </a:lnTo>
                  <a:lnTo>
                    <a:pt x="102" y="431"/>
                  </a:lnTo>
                  <a:lnTo>
                    <a:pt x="91" y="420"/>
                  </a:lnTo>
                  <a:lnTo>
                    <a:pt x="82" y="408"/>
                  </a:lnTo>
                  <a:lnTo>
                    <a:pt x="78" y="401"/>
                  </a:lnTo>
                  <a:lnTo>
                    <a:pt x="76" y="395"/>
                  </a:lnTo>
                  <a:lnTo>
                    <a:pt x="74" y="388"/>
                  </a:lnTo>
                  <a:lnTo>
                    <a:pt x="71" y="380"/>
                  </a:lnTo>
                  <a:lnTo>
                    <a:pt x="68" y="346"/>
                  </a:lnTo>
                  <a:lnTo>
                    <a:pt x="63" y="313"/>
                  </a:lnTo>
                  <a:lnTo>
                    <a:pt x="61" y="305"/>
                  </a:lnTo>
                  <a:lnTo>
                    <a:pt x="57" y="297"/>
                  </a:lnTo>
                  <a:lnTo>
                    <a:pt x="53" y="290"/>
                  </a:lnTo>
                  <a:lnTo>
                    <a:pt x="46" y="283"/>
                  </a:lnTo>
                  <a:lnTo>
                    <a:pt x="38" y="276"/>
                  </a:lnTo>
                  <a:lnTo>
                    <a:pt x="27" y="269"/>
                  </a:lnTo>
                  <a:lnTo>
                    <a:pt x="14" y="263"/>
                  </a:lnTo>
                  <a:lnTo>
                    <a:pt x="0" y="256"/>
                  </a:lnTo>
                  <a:lnTo>
                    <a:pt x="11" y="253"/>
                  </a:lnTo>
                  <a:lnTo>
                    <a:pt x="24" y="247"/>
                  </a:lnTo>
                  <a:lnTo>
                    <a:pt x="38" y="237"/>
                  </a:lnTo>
                  <a:lnTo>
                    <a:pt x="53" y="227"/>
                  </a:lnTo>
                  <a:lnTo>
                    <a:pt x="69" y="215"/>
                  </a:lnTo>
                  <a:lnTo>
                    <a:pt x="87" y="201"/>
                  </a:lnTo>
                  <a:lnTo>
                    <a:pt x="104" y="186"/>
                  </a:lnTo>
                  <a:lnTo>
                    <a:pt x="122" y="168"/>
                  </a:lnTo>
                  <a:lnTo>
                    <a:pt x="140" y="150"/>
                  </a:lnTo>
                  <a:lnTo>
                    <a:pt x="158" y="131"/>
                  </a:lnTo>
                  <a:lnTo>
                    <a:pt x="174" y="110"/>
                  </a:lnTo>
                  <a:lnTo>
                    <a:pt x="191" y="89"/>
                  </a:lnTo>
                  <a:lnTo>
                    <a:pt x="206" y="68"/>
                  </a:lnTo>
                  <a:lnTo>
                    <a:pt x="221" y="46"/>
                  </a:lnTo>
                  <a:lnTo>
                    <a:pt x="234" y="22"/>
                  </a:lnTo>
                  <a:lnTo>
                    <a:pt x="244" y="0"/>
                  </a:lnTo>
                  <a:lnTo>
                    <a:pt x="564" y="0"/>
                  </a:lnTo>
                  <a:lnTo>
                    <a:pt x="589" y="24"/>
                  </a:lnTo>
                  <a:lnTo>
                    <a:pt x="613" y="44"/>
                  </a:lnTo>
                  <a:lnTo>
                    <a:pt x="638" y="62"/>
                  </a:lnTo>
                  <a:lnTo>
                    <a:pt x="663" y="76"/>
                  </a:lnTo>
                  <a:lnTo>
                    <a:pt x="687" y="89"/>
                  </a:lnTo>
                  <a:lnTo>
                    <a:pt x="712" y="100"/>
                  </a:lnTo>
                  <a:lnTo>
                    <a:pt x="736" y="109"/>
                  </a:lnTo>
                  <a:lnTo>
                    <a:pt x="761" y="115"/>
                  </a:lnTo>
                  <a:lnTo>
                    <a:pt x="784" y="121"/>
                  </a:lnTo>
                  <a:lnTo>
                    <a:pt x="809" y="124"/>
                  </a:lnTo>
                  <a:lnTo>
                    <a:pt x="832" y="126"/>
                  </a:lnTo>
                  <a:lnTo>
                    <a:pt x="856" y="128"/>
                  </a:lnTo>
                  <a:lnTo>
                    <a:pt x="903" y="126"/>
                  </a:lnTo>
                  <a:lnTo>
                    <a:pt x="950" y="124"/>
                  </a:lnTo>
                  <a:lnTo>
                    <a:pt x="978" y="123"/>
                  </a:lnTo>
                  <a:lnTo>
                    <a:pt x="1005" y="123"/>
                  </a:lnTo>
                  <a:lnTo>
                    <a:pt x="1031" y="124"/>
                  </a:lnTo>
                  <a:lnTo>
                    <a:pt x="1056" y="125"/>
                  </a:lnTo>
                  <a:lnTo>
                    <a:pt x="1081" y="128"/>
                  </a:lnTo>
                  <a:lnTo>
                    <a:pt x="1104" y="130"/>
                  </a:lnTo>
                  <a:lnTo>
                    <a:pt x="1126" y="135"/>
                  </a:lnTo>
                  <a:lnTo>
                    <a:pt x="1148" y="139"/>
                  </a:lnTo>
                  <a:lnTo>
                    <a:pt x="1168" y="145"/>
                  </a:lnTo>
                  <a:lnTo>
                    <a:pt x="1187" y="151"/>
                  </a:lnTo>
                  <a:lnTo>
                    <a:pt x="1205" y="159"/>
                  </a:lnTo>
                  <a:lnTo>
                    <a:pt x="1220" y="168"/>
                  </a:lnTo>
                  <a:lnTo>
                    <a:pt x="1234" y="178"/>
                  </a:lnTo>
                  <a:lnTo>
                    <a:pt x="1245" y="190"/>
                  </a:lnTo>
                  <a:lnTo>
                    <a:pt x="1251" y="195"/>
                  </a:lnTo>
                  <a:lnTo>
                    <a:pt x="1256" y="202"/>
                  </a:lnTo>
                  <a:lnTo>
                    <a:pt x="1261" y="209"/>
                  </a:lnTo>
                  <a:lnTo>
                    <a:pt x="1264" y="216"/>
                  </a:lnTo>
                  <a:lnTo>
                    <a:pt x="1256" y="234"/>
                  </a:lnTo>
                  <a:lnTo>
                    <a:pt x="1248" y="253"/>
                  </a:lnTo>
                  <a:lnTo>
                    <a:pt x="1242" y="270"/>
                  </a:lnTo>
                  <a:lnTo>
                    <a:pt x="1235" y="289"/>
                  </a:lnTo>
                  <a:lnTo>
                    <a:pt x="1224" y="325"/>
                  </a:lnTo>
                  <a:lnTo>
                    <a:pt x="1215" y="358"/>
                  </a:lnTo>
                  <a:lnTo>
                    <a:pt x="1254" y="327"/>
                  </a:lnTo>
                  <a:lnTo>
                    <a:pt x="1287" y="298"/>
                  </a:lnTo>
                  <a:lnTo>
                    <a:pt x="1318" y="270"/>
                  </a:lnTo>
                  <a:lnTo>
                    <a:pt x="1346" y="246"/>
                  </a:lnTo>
                  <a:lnTo>
                    <a:pt x="1359" y="234"/>
                  </a:lnTo>
                  <a:lnTo>
                    <a:pt x="1370" y="225"/>
                  </a:lnTo>
                  <a:lnTo>
                    <a:pt x="1382" y="216"/>
                  </a:lnTo>
                  <a:lnTo>
                    <a:pt x="1393" y="209"/>
                  </a:lnTo>
                  <a:lnTo>
                    <a:pt x="1403" y="205"/>
                  </a:lnTo>
                  <a:lnTo>
                    <a:pt x="1412" y="201"/>
                  </a:lnTo>
                  <a:lnTo>
                    <a:pt x="1422" y="200"/>
                  </a:lnTo>
                  <a:lnTo>
                    <a:pt x="1431" y="202"/>
                  </a:lnTo>
                  <a:lnTo>
                    <a:pt x="1411" y="235"/>
                  </a:lnTo>
                  <a:lnTo>
                    <a:pt x="1394" y="271"/>
                  </a:lnTo>
                  <a:lnTo>
                    <a:pt x="1384" y="289"/>
                  </a:lnTo>
                  <a:lnTo>
                    <a:pt x="1377" y="307"/>
                  </a:lnTo>
                  <a:lnTo>
                    <a:pt x="1370" y="326"/>
                  </a:lnTo>
                  <a:lnTo>
                    <a:pt x="1363" y="346"/>
                  </a:lnTo>
                  <a:lnTo>
                    <a:pt x="1358" y="365"/>
                  </a:lnTo>
                  <a:lnTo>
                    <a:pt x="1352" y="385"/>
                  </a:lnTo>
                  <a:lnTo>
                    <a:pt x="1347" y="404"/>
                  </a:lnTo>
                  <a:lnTo>
                    <a:pt x="1344" y="424"/>
                  </a:lnTo>
                  <a:lnTo>
                    <a:pt x="1340" y="445"/>
                  </a:lnTo>
                  <a:lnTo>
                    <a:pt x="1338" y="466"/>
                  </a:lnTo>
                  <a:lnTo>
                    <a:pt x="1337" y="486"/>
                  </a:lnTo>
                  <a:lnTo>
                    <a:pt x="1335" y="507"/>
                  </a:lnTo>
                  <a:lnTo>
                    <a:pt x="1335" y="528"/>
                  </a:lnTo>
                  <a:lnTo>
                    <a:pt x="1337" y="549"/>
                  </a:lnTo>
                  <a:lnTo>
                    <a:pt x="1339" y="571"/>
                  </a:lnTo>
                  <a:lnTo>
                    <a:pt x="1341" y="592"/>
                  </a:lnTo>
                  <a:lnTo>
                    <a:pt x="1346" y="614"/>
                  </a:lnTo>
                  <a:lnTo>
                    <a:pt x="1351" y="636"/>
                  </a:lnTo>
                  <a:lnTo>
                    <a:pt x="1358" y="657"/>
                  </a:lnTo>
                  <a:lnTo>
                    <a:pt x="1365" y="679"/>
                  </a:lnTo>
                  <a:lnTo>
                    <a:pt x="1373" y="700"/>
                  </a:lnTo>
                  <a:lnTo>
                    <a:pt x="1383" y="722"/>
                  </a:lnTo>
                  <a:lnTo>
                    <a:pt x="1394" y="743"/>
                  </a:lnTo>
                  <a:lnTo>
                    <a:pt x="1407" y="764"/>
                  </a:lnTo>
                  <a:lnTo>
                    <a:pt x="1419" y="786"/>
                  </a:lnTo>
                  <a:lnTo>
                    <a:pt x="1435" y="807"/>
                  </a:lnTo>
                  <a:lnTo>
                    <a:pt x="1451" y="828"/>
                  </a:lnTo>
                  <a:lnTo>
                    <a:pt x="1469" y="849"/>
                  </a:lnTo>
                  <a:lnTo>
                    <a:pt x="781" y="8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Freeform 227"/>
            <p:cNvSpPr/>
            <p:nvPr/>
          </p:nvSpPr>
          <p:spPr>
            <a:xfrm>
              <a:off x="7491600" y="4038120"/>
              <a:ext cx="327960" cy="19980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180" h="1227">
                  <a:moveTo>
                    <a:pt x="1270" y="0"/>
                  </a:moveTo>
                  <a:lnTo>
                    <a:pt x="0" y="37"/>
                  </a:lnTo>
                  <a:lnTo>
                    <a:pt x="5" y="65"/>
                  </a:lnTo>
                  <a:lnTo>
                    <a:pt x="12" y="94"/>
                  </a:lnTo>
                  <a:lnTo>
                    <a:pt x="20" y="118"/>
                  </a:lnTo>
                  <a:lnTo>
                    <a:pt x="28" y="140"/>
                  </a:lnTo>
                  <a:lnTo>
                    <a:pt x="34" y="150"/>
                  </a:lnTo>
                  <a:lnTo>
                    <a:pt x="39" y="158"/>
                  </a:lnTo>
                  <a:lnTo>
                    <a:pt x="45" y="166"/>
                  </a:lnTo>
                  <a:lnTo>
                    <a:pt x="51" y="172"/>
                  </a:lnTo>
                  <a:lnTo>
                    <a:pt x="56" y="178"/>
                  </a:lnTo>
                  <a:lnTo>
                    <a:pt x="63" y="181"/>
                  </a:lnTo>
                  <a:lnTo>
                    <a:pt x="70" y="183"/>
                  </a:lnTo>
                  <a:lnTo>
                    <a:pt x="77" y="185"/>
                  </a:lnTo>
                  <a:lnTo>
                    <a:pt x="86" y="202"/>
                  </a:lnTo>
                  <a:lnTo>
                    <a:pt x="93" y="217"/>
                  </a:lnTo>
                  <a:lnTo>
                    <a:pt x="100" y="228"/>
                  </a:lnTo>
                  <a:lnTo>
                    <a:pt x="107" y="235"/>
                  </a:lnTo>
                  <a:lnTo>
                    <a:pt x="110" y="238"/>
                  </a:lnTo>
                  <a:lnTo>
                    <a:pt x="115" y="240"/>
                  </a:lnTo>
                  <a:lnTo>
                    <a:pt x="118" y="241"/>
                  </a:lnTo>
                  <a:lnTo>
                    <a:pt x="123" y="242"/>
                  </a:lnTo>
                  <a:lnTo>
                    <a:pt x="133" y="242"/>
                  </a:lnTo>
                  <a:lnTo>
                    <a:pt x="146" y="238"/>
                  </a:lnTo>
                  <a:lnTo>
                    <a:pt x="174" y="235"/>
                  </a:lnTo>
                  <a:lnTo>
                    <a:pt x="201" y="231"/>
                  </a:lnTo>
                  <a:lnTo>
                    <a:pt x="213" y="231"/>
                  </a:lnTo>
                  <a:lnTo>
                    <a:pt x="223" y="233"/>
                  </a:lnTo>
                  <a:lnTo>
                    <a:pt x="233" y="234"/>
                  </a:lnTo>
                  <a:lnTo>
                    <a:pt x="242" y="236"/>
                  </a:lnTo>
                  <a:lnTo>
                    <a:pt x="249" y="240"/>
                  </a:lnTo>
                  <a:lnTo>
                    <a:pt x="256" y="244"/>
                  </a:lnTo>
                  <a:lnTo>
                    <a:pt x="261" y="250"/>
                  </a:lnTo>
                  <a:lnTo>
                    <a:pt x="264" y="257"/>
                  </a:lnTo>
                  <a:lnTo>
                    <a:pt x="267" y="266"/>
                  </a:lnTo>
                  <a:lnTo>
                    <a:pt x="267" y="277"/>
                  </a:lnTo>
                  <a:lnTo>
                    <a:pt x="265" y="289"/>
                  </a:lnTo>
                  <a:lnTo>
                    <a:pt x="262" y="303"/>
                  </a:lnTo>
                  <a:lnTo>
                    <a:pt x="261" y="306"/>
                  </a:lnTo>
                  <a:lnTo>
                    <a:pt x="261" y="311"/>
                  </a:lnTo>
                  <a:lnTo>
                    <a:pt x="262" y="314"/>
                  </a:lnTo>
                  <a:lnTo>
                    <a:pt x="263" y="318"/>
                  </a:lnTo>
                  <a:lnTo>
                    <a:pt x="268" y="326"/>
                  </a:lnTo>
                  <a:lnTo>
                    <a:pt x="275" y="332"/>
                  </a:lnTo>
                  <a:lnTo>
                    <a:pt x="284" y="339"/>
                  </a:lnTo>
                  <a:lnTo>
                    <a:pt x="293" y="345"/>
                  </a:lnTo>
                  <a:lnTo>
                    <a:pt x="305" y="351"/>
                  </a:lnTo>
                  <a:lnTo>
                    <a:pt x="317" y="356"/>
                  </a:lnTo>
                  <a:lnTo>
                    <a:pt x="339" y="368"/>
                  </a:lnTo>
                  <a:lnTo>
                    <a:pt x="358" y="380"/>
                  </a:lnTo>
                  <a:lnTo>
                    <a:pt x="365" y="386"/>
                  </a:lnTo>
                  <a:lnTo>
                    <a:pt x="371" y="391"/>
                  </a:lnTo>
                  <a:lnTo>
                    <a:pt x="372" y="395"/>
                  </a:lnTo>
                  <a:lnTo>
                    <a:pt x="372" y="398"/>
                  </a:lnTo>
                  <a:lnTo>
                    <a:pt x="372" y="402"/>
                  </a:lnTo>
                  <a:lnTo>
                    <a:pt x="372" y="405"/>
                  </a:lnTo>
                  <a:lnTo>
                    <a:pt x="368" y="1028"/>
                  </a:lnTo>
                  <a:lnTo>
                    <a:pt x="443" y="1199"/>
                  </a:lnTo>
                  <a:lnTo>
                    <a:pt x="1909" y="1144"/>
                  </a:lnTo>
                  <a:lnTo>
                    <a:pt x="1901" y="1227"/>
                  </a:lnTo>
                  <a:lnTo>
                    <a:pt x="2039" y="1213"/>
                  </a:lnTo>
                  <a:lnTo>
                    <a:pt x="2049" y="1202"/>
                  </a:lnTo>
                  <a:lnTo>
                    <a:pt x="2059" y="1192"/>
                  </a:lnTo>
                  <a:lnTo>
                    <a:pt x="2066" y="1181"/>
                  </a:lnTo>
                  <a:lnTo>
                    <a:pt x="2070" y="1172"/>
                  </a:lnTo>
                  <a:lnTo>
                    <a:pt x="2075" y="1163"/>
                  </a:lnTo>
                  <a:lnTo>
                    <a:pt x="2077" y="1154"/>
                  </a:lnTo>
                  <a:lnTo>
                    <a:pt x="2080" y="1146"/>
                  </a:lnTo>
                  <a:lnTo>
                    <a:pt x="2081" y="1137"/>
                  </a:lnTo>
                  <a:lnTo>
                    <a:pt x="2081" y="1120"/>
                  </a:lnTo>
                  <a:lnTo>
                    <a:pt x="2081" y="1102"/>
                  </a:lnTo>
                  <a:lnTo>
                    <a:pt x="2081" y="1092"/>
                  </a:lnTo>
                  <a:lnTo>
                    <a:pt x="2082" y="1082"/>
                  </a:lnTo>
                  <a:lnTo>
                    <a:pt x="2083" y="1071"/>
                  </a:lnTo>
                  <a:lnTo>
                    <a:pt x="2085" y="1060"/>
                  </a:lnTo>
                  <a:lnTo>
                    <a:pt x="2092" y="1037"/>
                  </a:lnTo>
                  <a:lnTo>
                    <a:pt x="2101" y="1016"/>
                  </a:lnTo>
                  <a:lnTo>
                    <a:pt x="2110" y="996"/>
                  </a:lnTo>
                  <a:lnTo>
                    <a:pt x="2122" y="979"/>
                  </a:lnTo>
                  <a:lnTo>
                    <a:pt x="2134" y="961"/>
                  </a:lnTo>
                  <a:lnTo>
                    <a:pt x="2148" y="945"/>
                  </a:lnTo>
                  <a:lnTo>
                    <a:pt x="2164" y="931"/>
                  </a:lnTo>
                  <a:lnTo>
                    <a:pt x="2180" y="918"/>
                  </a:lnTo>
                  <a:lnTo>
                    <a:pt x="2179" y="901"/>
                  </a:lnTo>
                  <a:lnTo>
                    <a:pt x="2176" y="887"/>
                  </a:lnTo>
                  <a:lnTo>
                    <a:pt x="2174" y="881"/>
                  </a:lnTo>
                  <a:lnTo>
                    <a:pt x="2172" y="876"/>
                  </a:lnTo>
                  <a:lnTo>
                    <a:pt x="2169" y="871"/>
                  </a:lnTo>
                  <a:lnTo>
                    <a:pt x="2167" y="868"/>
                  </a:lnTo>
                  <a:lnTo>
                    <a:pt x="2160" y="862"/>
                  </a:lnTo>
                  <a:lnTo>
                    <a:pt x="2152" y="859"/>
                  </a:lnTo>
                  <a:lnTo>
                    <a:pt x="2143" y="856"/>
                  </a:lnTo>
                  <a:lnTo>
                    <a:pt x="2133" y="855"/>
                  </a:lnTo>
                  <a:lnTo>
                    <a:pt x="2111" y="854"/>
                  </a:lnTo>
                  <a:lnTo>
                    <a:pt x="2088" y="852"/>
                  </a:lnTo>
                  <a:lnTo>
                    <a:pt x="2075" y="848"/>
                  </a:lnTo>
                  <a:lnTo>
                    <a:pt x="2063" y="843"/>
                  </a:lnTo>
                  <a:lnTo>
                    <a:pt x="2057" y="840"/>
                  </a:lnTo>
                  <a:lnTo>
                    <a:pt x="2050" y="836"/>
                  </a:lnTo>
                  <a:lnTo>
                    <a:pt x="2044" y="832"/>
                  </a:lnTo>
                  <a:lnTo>
                    <a:pt x="2039" y="826"/>
                  </a:lnTo>
                  <a:lnTo>
                    <a:pt x="2039" y="804"/>
                  </a:lnTo>
                  <a:lnTo>
                    <a:pt x="2037" y="783"/>
                  </a:lnTo>
                  <a:lnTo>
                    <a:pt x="2035" y="763"/>
                  </a:lnTo>
                  <a:lnTo>
                    <a:pt x="2032" y="744"/>
                  </a:lnTo>
                  <a:lnTo>
                    <a:pt x="2027" y="728"/>
                  </a:lnTo>
                  <a:lnTo>
                    <a:pt x="2021" y="711"/>
                  </a:lnTo>
                  <a:lnTo>
                    <a:pt x="2013" y="696"/>
                  </a:lnTo>
                  <a:lnTo>
                    <a:pt x="2004" y="682"/>
                  </a:lnTo>
                  <a:lnTo>
                    <a:pt x="1992" y="668"/>
                  </a:lnTo>
                  <a:lnTo>
                    <a:pt x="1978" y="655"/>
                  </a:lnTo>
                  <a:lnTo>
                    <a:pt x="1962" y="644"/>
                  </a:lnTo>
                  <a:lnTo>
                    <a:pt x="1943" y="633"/>
                  </a:lnTo>
                  <a:lnTo>
                    <a:pt x="1922" y="623"/>
                  </a:lnTo>
                  <a:lnTo>
                    <a:pt x="1897" y="612"/>
                  </a:lnTo>
                  <a:lnTo>
                    <a:pt x="1870" y="603"/>
                  </a:lnTo>
                  <a:lnTo>
                    <a:pt x="1840" y="593"/>
                  </a:lnTo>
                  <a:lnTo>
                    <a:pt x="1810" y="584"/>
                  </a:lnTo>
                  <a:lnTo>
                    <a:pt x="1784" y="575"/>
                  </a:lnTo>
                  <a:lnTo>
                    <a:pt x="1762" y="564"/>
                  </a:lnTo>
                  <a:lnTo>
                    <a:pt x="1742" y="554"/>
                  </a:lnTo>
                  <a:lnTo>
                    <a:pt x="1726" y="543"/>
                  </a:lnTo>
                  <a:lnTo>
                    <a:pt x="1713" y="532"/>
                  </a:lnTo>
                  <a:lnTo>
                    <a:pt x="1701" y="520"/>
                  </a:lnTo>
                  <a:lnTo>
                    <a:pt x="1693" y="507"/>
                  </a:lnTo>
                  <a:lnTo>
                    <a:pt x="1687" y="495"/>
                  </a:lnTo>
                  <a:lnTo>
                    <a:pt x="1682" y="482"/>
                  </a:lnTo>
                  <a:lnTo>
                    <a:pt x="1680" y="471"/>
                  </a:lnTo>
                  <a:lnTo>
                    <a:pt x="1679" y="458"/>
                  </a:lnTo>
                  <a:lnTo>
                    <a:pt x="1679" y="445"/>
                  </a:lnTo>
                  <a:lnTo>
                    <a:pt x="1680" y="433"/>
                  </a:lnTo>
                  <a:lnTo>
                    <a:pt x="1682" y="421"/>
                  </a:lnTo>
                  <a:lnTo>
                    <a:pt x="1685" y="409"/>
                  </a:lnTo>
                  <a:lnTo>
                    <a:pt x="1686" y="398"/>
                  </a:lnTo>
                  <a:lnTo>
                    <a:pt x="1687" y="389"/>
                  </a:lnTo>
                  <a:lnTo>
                    <a:pt x="1685" y="382"/>
                  </a:lnTo>
                  <a:lnTo>
                    <a:pt x="1682" y="376"/>
                  </a:lnTo>
                  <a:lnTo>
                    <a:pt x="1678" y="370"/>
                  </a:lnTo>
                  <a:lnTo>
                    <a:pt x="1672" y="366"/>
                  </a:lnTo>
                  <a:lnTo>
                    <a:pt x="1664" y="362"/>
                  </a:lnTo>
                  <a:lnTo>
                    <a:pt x="1656" y="359"/>
                  </a:lnTo>
                  <a:lnTo>
                    <a:pt x="1609" y="348"/>
                  </a:lnTo>
                  <a:lnTo>
                    <a:pt x="1547" y="331"/>
                  </a:lnTo>
                  <a:lnTo>
                    <a:pt x="1529" y="325"/>
                  </a:lnTo>
                  <a:lnTo>
                    <a:pt x="1512" y="319"/>
                  </a:lnTo>
                  <a:lnTo>
                    <a:pt x="1495" y="312"/>
                  </a:lnTo>
                  <a:lnTo>
                    <a:pt x="1479" y="304"/>
                  </a:lnTo>
                  <a:lnTo>
                    <a:pt x="1465" y="296"/>
                  </a:lnTo>
                  <a:lnTo>
                    <a:pt x="1451" y="287"/>
                  </a:lnTo>
                  <a:lnTo>
                    <a:pt x="1438" y="278"/>
                  </a:lnTo>
                  <a:lnTo>
                    <a:pt x="1425" y="269"/>
                  </a:lnTo>
                  <a:lnTo>
                    <a:pt x="1415" y="259"/>
                  </a:lnTo>
                  <a:lnTo>
                    <a:pt x="1406" y="249"/>
                  </a:lnTo>
                  <a:lnTo>
                    <a:pt x="1396" y="240"/>
                  </a:lnTo>
                  <a:lnTo>
                    <a:pt x="1389" y="230"/>
                  </a:lnTo>
                  <a:lnTo>
                    <a:pt x="1385" y="221"/>
                  </a:lnTo>
                  <a:lnTo>
                    <a:pt x="1380" y="210"/>
                  </a:lnTo>
                  <a:lnTo>
                    <a:pt x="1377" y="202"/>
                  </a:lnTo>
                  <a:lnTo>
                    <a:pt x="1376" y="193"/>
                  </a:lnTo>
                  <a:lnTo>
                    <a:pt x="1375" y="185"/>
                  </a:lnTo>
                  <a:lnTo>
                    <a:pt x="1373" y="176"/>
                  </a:lnTo>
                  <a:lnTo>
                    <a:pt x="1368" y="168"/>
                  </a:lnTo>
                  <a:lnTo>
                    <a:pt x="1361" y="161"/>
                  </a:lnTo>
                  <a:lnTo>
                    <a:pt x="1354" y="154"/>
                  </a:lnTo>
                  <a:lnTo>
                    <a:pt x="1346" y="148"/>
                  </a:lnTo>
                  <a:lnTo>
                    <a:pt x="1338" y="143"/>
                  </a:lnTo>
                  <a:lnTo>
                    <a:pt x="1328" y="137"/>
                  </a:lnTo>
                  <a:lnTo>
                    <a:pt x="1296" y="120"/>
                  </a:lnTo>
                  <a:lnTo>
                    <a:pt x="1282" y="115"/>
                  </a:lnTo>
                  <a:lnTo>
                    <a:pt x="12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Freeform 228"/>
            <p:cNvSpPr/>
            <p:nvPr/>
          </p:nvSpPr>
          <p:spPr>
            <a:xfrm>
              <a:off x="8015400" y="4235040"/>
              <a:ext cx="382320" cy="282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529" h="1729">
                  <a:moveTo>
                    <a:pt x="1040" y="0"/>
                  </a:moveTo>
                  <a:lnTo>
                    <a:pt x="0" y="116"/>
                  </a:lnTo>
                  <a:lnTo>
                    <a:pt x="8" y="127"/>
                  </a:lnTo>
                  <a:lnTo>
                    <a:pt x="33" y="159"/>
                  </a:lnTo>
                  <a:lnTo>
                    <a:pt x="70" y="208"/>
                  </a:lnTo>
                  <a:lnTo>
                    <a:pt x="119" y="272"/>
                  </a:lnTo>
                  <a:lnTo>
                    <a:pt x="177" y="349"/>
                  </a:lnTo>
                  <a:lnTo>
                    <a:pt x="240" y="435"/>
                  </a:lnTo>
                  <a:lnTo>
                    <a:pt x="308" y="527"/>
                  </a:lnTo>
                  <a:lnTo>
                    <a:pt x="379" y="621"/>
                  </a:lnTo>
                  <a:lnTo>
                    <a:pt x="449" y="717"/>
                  </a:lnTo>
                  <a:lnTo>
                    <a:pt x="516" y="811"/>
                  </a:lnTo>
                  <a:lnTo>
                    <a:pt x="580" y="899"/>
                  </a:lnTo>
                  <a:lnTo>
                    <a:pt x="636" y="980"/>
                  </a:lnTo>
                  <a:lnTo>
                    <a:pt x="682" y="1049"/>
                  </a:lnTo>
                  <a:lnTo>
                    <a:pt x="719" y="1105"/>
                  </a:lnTo>
                  <a:lnTo>
                    <a:pt x="731" y="1127"/>
                  </a:lnTo>
                  <a:lnTo>
                    <a:pt x="741" y="1145"/>
                  </a:lnTo>
                  <a:lnTo>
                    <a:pt x="745" y="1156"/>
                  </a:lnTo>
                  <a:lnTo>
                    <a:pt x="747" y="1165"/>
                  </a:lnTo>
                  <a:lnTo>
                    <a:pt x="744" y="1175"/>
                  </a:lnTo>
                  <a:lnTo>
                    <a:pt x="744" y="1191"/>
                  </a:lnTo>
                  <a:lnTo>
                    <a:pt x="744" y="1211"/>
                  </a:lnTo>
                  <a:lnTo>
                    <a:pt x="748" y="1236"/>
                  </a:lnTo>
                  <a:lnTo>
                    <a:pt x="751" y="1263"/>
                  </a:lnTo>
                  <a:lnTo>
                    <a:pt x="757" y="1293"/>
                  </a:lnTo>
                  <a:lnTo>
                    <a:pt x="764" y="1325"/>
                  </a:lnTo>
                  <a:lnTo>
                    <a:pt x="773" y="1358"/>
                  </a:lnTo>
                  <a:lnTo>
                    <a:pt x="785" y="1392"/>
                  </a:lnTo>
                  <a:lnTo>
                    <a:pt x="798" y="1427"/>
                  </a:lnTo>
                  <a:lnTo>
                    <a:pt x="812" y="1461"/>
                  </a:lnTo>
                  <a:lnTo>
                    <a:pt x="829" y="1495"/>
                  </a:lnTo>
                  <a:lnTo>
                    <a:pt x="839" y="1512"/>
                  </a:lnTo>
                  <a:lnTo>
                    <a:pt x="848" y="1527"/>
                  </a:lnTo>
                  <a:lnTo>
                    <a:pt x="858" y="1543"/>
                  </a:lnTo>
                  <a:lnTo>
                    <a:pt x="868" y="1558"/>
                  </a:lnTo>
                  <a:lnTo>
                    <a:pt x="880" y="1572"/>
                  </a:lnTo>
                  <a:lnTo>
                    <a:pt x="891" y="1585"/>
                  </a:lnTo>
                  <a:lnTo>
                    <a:pt x="903" y="1598"/>
                  </a:lnTo>
                  <a:lnTo>
                    <a:pt x="916" y="1611"/>
                  </a:lnTo>
                  <a:lnTo>
                    <a:pt x="938" y="1628"/>
                  </a:lnTo>
                  <a:lnTo>
                    <a:pt x="958" y="1644"/>
                  </a:lnTo>
                  <a:lnTo>
                    <a:pt x="978" y="1658"/>
                  </a:lnTo>
                  <a:lnTo>
                    <a:pt x="997" y="1670"/>
                  </a:lnTo>
                  <a:lnTo>
                    <a:pt x="1015" y="1682"/>
                  </a:lnTo>
                  <a:lnTo>
                    <a:pt x="1033" y="1693"/>
                  </a:lnTo>
                  <a:lnTo>
                    <a:pt x="1050" y="1701"/>
                  </a:lnTo>
                  <a:lnTo>
                    <a:pt x="1068" y="1708"/>
                  </a:lnTo>
                  <a:lnTo>
                    <a:pt x="1085" y="1715"/>
                  </a:lnTo>
                  <a:lnTo>
                    <a:pt x="1103" y="1719"/>
                  </a:lnTo>
                  <a:lnTo>
                    <a:pt x="1120" y="1723"/>
                  </a:lnTo>
                  <a:lnTo>
                    <a:pt x="1139" y="1726"/>
                  </a:lnTo>
                  <a:lnTo>
                    <a:pt x="1159" y="1728"/>
                  </a:lnTo>
                  <a:lnTo>
                    <a:pt x="1179" y="1729"/>
                  </a:lnTo>
                  <a:lnTo>
                    <a:pt x="1200" y="1729"/>
                  </a:lnTo>
                  <a:lnTo>
                    <a:pt x="1222" y="1728"/>
                  </a:lnTo>
                  <a:lnTo>
                    <a:pt x="1272" y="1722"/>
                  </a:lnTo>
                  <a:lnTo>
                    <a:pt x="1328" y="1714"/>
                  </a:lnTo>
                  <a:lnTo>
                    <a:pt x="1393" y="1703"/>
                  </a:lnTo>
                  <a:lnTo>
                    <a:pt x="1467" y="1690"/>
                  </a:lnTo>
                  <a:lnTo>
                    <a:pt x="1553" y="1675"/>
                  </a:lnTo>
                  <a:lnTo>
                    <a:pt x="1651" y="1658"/>
                  </a:lnTo>
                  <a:lnTo>
                    <a:pt x="1763" y="1639"/>
                  </a:lnTo>
                  <a:lnTo>
                    <a:pt x="1890" y="1619"/>
                  </a:lnTo>
                  <a:lnTo>
                    <a:pt x="1960" y="1608"/>
                  </a:lnTo>
                  <a:lnTo>
                    <a:pt x="2019" y="1599"/>
                  </a:lnTo>
                  <a:lnTo>
                    <a:pt x="2068" y="1592"/>
                  </a:lnTo>
                  <a:lnTo>
                    <a:pt x="2109" y="1586"/>
                  </a:lnTo>
                  <a:lnTo>
                    <a:pt x="2142" y="1582"/>
                  </a:lnTo>
                  <a:lnTo>
                    <a:pt x="2169" y="1578"/>
                  </a:lnTo>
                  <a:lnTo>
                    <a:pt x="2194" y="1576"/>
                  </a:lnTo>
                  <a:lnTo>
                    <a:pt x="2215" y="1573"/>
                  </a:lnTo>
                  <a:lnTo>
                    <a:pt x="2220" y="1572"/>
                  </a:lnTo>
                  <a:lnTo>
                    <a:pt x="2224" y="1570"/>
                  </a:lnTo>
                  <a:lnTo>
                    <a:pt x="2229" y="1568"/>
                  </a:lnTo>
                  <a:lnTo>
                    <a:pt x="2232" y="1565"/>
                  </a:lnTo>
                  <a:lnTo>
                    <a:pt x="2239" y="1558"/>
                  </a:lnTo>
                  <a:lnTo>
                    <a:pt x="2245" y="1549"/>
                  </a:lnTo>
                  <a:lnTo>
                    <a:pt x="2257" y="1529"/>
                  </a:lnTo>
                  <a:lnTo>
                    <a:pt x="2265" y="1509"/>
                  </a:lnTo>
                  <a:lnTo>
                    <a:pt x="2270" y="1499"/>
                  </a:lnTo>
                  <a:lnTo>
                    <a:pt x="2274" y="1490"/>
                  </a:lnTo>
                  <a:lnTo>
                    <a:pt x="2278" y="1482"/>
                  </a:lnTo>
                  <a:lnTo>
                    <a:pt x="2283" y="1478"/>
                  </a:lnTo>
                  <a:lnTo>
                    <a:pt x="2286" y="1475"/>
                  </a:lnTo>
                  <a:lnTo>
                    <a:pt x="2288" y="1474"/>
                  </a:lnTo>
                  <a:lnTo>
                    <a:pt x="2291" y="1473"/>
                  </a:lnTo>
                  <a:lnTo>
                    <a:pt x="2294" y="1473"/>
                  </a:lnTo>
                  <a:lnTo>
                    <a:pt x="2297" y="1474"/>
                  </a:lnTo>
                  <a:lnTo>
                    <a:pt x="2300" y="1475"/>
                  </a:lnTo>
                  <a:lnTo>
                    <a:pt x="2304" y="1478"/>
                  </a:lnTo>
                  <a:lnTo>
                    <a:pt x="2307" y="1481"/>
                  </a:lnTo>
                  <a:lnTo>
                    <a:pt x="2317" y="1488"/>
                  </a:lnTo>
                  <a:lnTo>
                    <a:pt x="2327" y="1495"/>
                  </a:lnTo>
                  <a:lnTo>
                    <a:pt x="2338" y="1500"/>
                  </a:lnTo>
                  <a:lnTo>
                    <a:pt x="2349" y="1502"/>
                  </a:lnTo>
                  <a:lnTo>
                    <a:pt x="2362" y="1505"/>
                  </a:lnTo>
                  <a:lnTo>
                    <a:pt x="2376" y="1506"/>
                  </a:lnTo>
                  <a:lnTo>
                    <a:pt x="2390" y="1507"/>
                  </a:lnTo>
                  <a:lnTo>
                    <a:pt x="2404" y="1507"/>
                  </a:lnTo>
                  <a:lnTo>
                    <a:pt x="2434" y="1505"/>
                  </a:lnTo>
                  <a:lnTo>
                    <a:pt x="2466" y="1503"/>
                  </a:lnTo>
                  <a:lnTo>
                    <a:pt x="2481" y="1502"/>
                  </a:lnTo>
                  <a:lnTo>
                    <a:pt x="2498" y="1502"/>
                  </a:lnTo>
                  <a:lnTo>
                    <a:pt x="2513" y="1503"/>
                  </a:lnTo>
                  <a:lnTo>
                    <a:pt x="2529" y="1505"/>
                  </a:lnTo>
                  <a:lnTo>
                    <a:pt x="2522" y="1496"/>
                  </a:lnTo>
                  <a:lnTo>
                    <a:pt x="2516" y="1489"/>
                  </a:lnTo>
                  <a:lnTo>
                    <a:pt x="2510" y="1481"/>
                  </a:lnTo>
                  <a:lnTo>
                    <a:pt x="2505" y="1473"/>
                  </a:lnTo>
                  <a:lnTo>
                    <a:pt x="2496" y="1457"/>
                  </a:lnTo>
                  <a:lnTo>
                    <a:pt x="2489" y="1440"/>
                  </a:lnTo>
                  <a:lnTo>
                    <a:pt x="2485" y="1424"/>
                  </a:lnTo>
                  <a:lnTo>
                    <a:pt x="2480" y="1406"/>
                  </a:lnTo>
                  <a:lnTo>
                    <a:pt x="2478" y="1390"/>
                  </a:lnTo>
                  <a:lnTo>
                    <a:pt x="2477" y="1374"/>
                  </a:lnTo>
                  <a:lnTo>
                    <a:pt x="2474" y="1342"/>
                  </a:lnTo>
                  <a:lnTo>
                    <a:pt x="2472" y="1313"/>
                  </a:lnTo>
                  <a:lnTo>
                    <a:pt x="2471" y="1300"/>
                  </a:lnTo>
                  <a:lnTo>
                    <a:pt x="2468" y="1290"/>
                  </a:lnTo>
                  <a:lnTo>
                    <a:pt x="2465" y="1279"/>
                  </a:lnTo>
                  <a:lnTo>
                    <a:pt x="2460" y="1271"/>
                  </a:lnTo>
                  <a:lnTo>
                    <a:pt x="2454" y="1263"/>
                  </a:lnTo>
                  <a:lnTo>
                    <a:pt x="2449" y="1256"/>
                  </a:lnTo>
                  <a:lnTo>
                    <a:pt x="2443" y="1250"/>
                  </a:lnTo>
                  <a:lnTo>
                    <a:pt x="2436" y="1245"/>
                  </a:lnTo>
                  <a:lnTo>
                    <a:pt x="2424" y="1238"/>
                  </a:lnTo>
                  <a:lnTo>
                    <a:pt x="2411" y="1232"/>
                  </a:lnTo>
                  <a:lnTo>
                    <a:pt x="2406" y="1229"/>
                  </a:lnTo>
                  <a:lnTo>
                    <a:pt x="2401" y="1225"/>
                  </a:lnTo>
                  <a:lnTo>
                    <a:pt x="2397" y="1222"/>
                  </a:lnTo>
                  <a:lnTo>
                    <a:pt x="2392" y="1218"/>
                  </a:lnTo>
                  <a:lnTo>
                    <a:pt x="2389" y="1214"/>
                  </a:lnTo>
                  <a:lnTo>
                    <a:pt x="2387" y="1208"/>
                  </a:lnTo>
                  <a:lnTo>
                    <a:pt x="2385" y="1201"/>
                  </a:lnTo>
                  <a:lnTo>
                    <a:pt x="2385" y="1193"/>
                  </a:lnTo>
                  <a:lnTo>
                    <a:pt x="2384" y="1183"/>
                  </a:lnTo>
                  <a:lnTo>
                    <a:pt x="2383" y="1173"/>
                  </a:lnTo>
                  <a:lnTo>
                    <a:pt x="2381" y="1161"/>
                  </a:lnTo>
                  <a:lnTo>
                    <a:pt x="2377" y="1149"/>
                  </a:lnTo>
                  <a:lnTo>
                    <a:pt x="2369" y="1121"/>
                  </a:lnTo>
                  <a:lnTo>
                    <a:pt x="2360" y="1093"/>
                  </a:lnTo>
                  <a:lnTo>
                    <a:pt x="2349" y="1064"/>
                  </a:lnTo>
                  <a:lnTo>
                    <a:pt x="2339" y="1037"/>
                  </a:lnTo>
                  <a:lnTo>
                    <a:pt x="2329" y="1012"/>
                  </a:lnTo>
                  <a:lnTo>
                    <a:pt x="2321" y="992"/>
                  </a:lnTo>
                  <a:lnTo>
                    <a:pt x="2319" y="981"/>
                  </a:lnTo>
                  <a:lnTo>
                    <a:pt x="2317" y="970"/>
                  </a:lnTo>
                  <a:lnTo>
                    <a:pt x="2314" y="957"/>
                  </a:lnTo>
                  <a:lnTo>
                    <a:pt x="2313" y="943"/>
                  </a:lnTo>
                  <a:lnTo>
                    <a:pt x="2300" y="923"/>
                  </a:lnTo>
                  <a:lnTo>
                    <a:pt x="2286" y="904"/>
                  </a:lnTo>
                  <a:lnTo>
                    <a:pt x="2270" y="888"/>
                  </a:lnTo>
                  <a:lnTo>
                    <a:pt x="2252" y="873"/>
                  </a:lnTo>
                  <a:lnTo>
                    <a:pt x="2234" y="859"/>
                  </a:lnTo>
                  <a:lnTo>
                    <a:pt x="2213" y="846"/>
                  </a:lnTo>
                  <a:lnTo>
                    <a:pt x="2192" y="833"/>
                  </a:lnTo>
                  <a:lnTo>
                    <a:pt x="2170" y="822"/>
                  </a:lnTo>
                  <a:lnTo>
                    <a:pt x="2147" y="813"/>
                  </a:lnTo>
                  <a:lnTo>
                    <a:pt x="2124" y="804"/>
                  </a:lnTo>
                  <a:lnTo>
                    <a:pt x="2100" y="795"/>
                  </a:lnTo>
                  <a:lnTo>
                    <a:pt x="2077" y="787"/>
                  </a:lnTo>
                  <a:lnTo>
                    <a:pt x="2029" y="773"/>
                  </a:lnTo>
                  <a:lnTo>
                    <a:pt x="1981" y="760"/>
                  </a:lnTo>
                  <a:lnTo>
                    <a:pt x="1960" y="755"/>
                  </a:lnTo>
                  <a:lnTo>
                    <a:pt x="1943" y="746"/>
                  </a:lnTo>
                  <a:lnTo>
                    <a:pt x="1926" y="738"/>
                  </a:lnTo>
                  <a:lnTo>
                    <a:pt x="1915" y="729"/>
                  </a:lnTo>
                  <a:lnTo>
                    <a:pt x="1903" y="718"/>
                  </a:lnTo>
                  <a:lnTo>
                    <a:pt x="1895" y="708"/>
                  </a:lnTo>
                  <a:lnTo>
                    <a:pt x="1888" y="695"/>
                  </a:lnTo>
                  <a:lnTo>
                    <a:pt x="1881" y="682"/>
                  </a:lnTo>
                  <a:lnTo>
                    <a:pt x="1870" y="655"/>
                  </a:lnTo>
                  <a:lnTo>
                    <a:pt x="1860" y="625"/>
                  </a:lnTo>
                  <a:lnTo>
                    <a:pt x="1854" y="610"/>
                  </a:lnTo>
                  <a:lnTo>
                    <a:pt x="1846" y="593"/>
                  </a:lnTo>
                  <a:lnTo>
                    <a:pt x="1838" y="576"/>
                  </a:lnTo>
                  <a:lnTo>
                    <a:pt x="1826" y="560"/>
                  </a:lnTo>
                  <a:lnTo>
                    <a:pt x="1793" y="547"/>
                  </a:lnTo>
                  <a:lnTo>
                    <a:pt x="1762" y="534"/>
                  </a:lnTo>
                  <a:lnTo>
                    <a:pt x="1732" y="520"/>
                  </a:lnTo>
                  <a:lnTo>
                    <a:pt x="1706" y="505"/>
                  </a:lnTo>
                  <a:lnTo>
                    <a:pt x="1680" y="489"/>
                  </a:lnTo>
                  <a:lnTo>
                    <a:pt x="1658" y="474"/>
                  </a:lnTo>
                  <a:lnTo>
                    <a:pt x="1637" y="459"/>
                  </a:lnTo>
                  <a:lnTo>
                    <a:pt x="1619" y="444"/>
                  </a:lnTo>
                  <a:lnTo>
                    <a:pt x="1589" y="417"/>
                  </a:lnTo>
                  <a:lnTo>
                    <a:pt x="1567" y="395"/>
                  </a:lnTo>
                  <a:lnTo>
                    <a:pt x="1554" y="381"/>
                  </a:lnTo>
                  <a:lnTo>
                    <a:pt x="1550" y="375"/>
                  </a:lnTo>
                  <a:lnTo>
                    <a:pt x="1394" y="329"/>
                  </a:lnTo>
                  <a:lnTo>
                    <a:pt x="10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Freeform 229"/>
            <p:cNvSpPr/>
            <p:nvPr/>
          </p:nvSpPr>
          <p:spPr>
            <a:xfrm>
              <a:off x="8008560" y="4476960"/>
              <a:ext cx="738000" cy="42840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4885" h="2626">
                  <a:moveTo>
                    <a:pt x="2572" y="32"/>
                  </a:moveTo>
                  <a:lnTo>
                    <a:pt x="2556" y="30"/>
                  </a:lnTo>
                  <a:lnTo>
                    <a:pt x="2541" y="29"/>
                  </a:lnTo>
                  <a:lnTo>
                    <a:pt x="2524" y="29"/>
                  </a:lnTo>
                  <a:lnTo>
                    <a:pt x="2509" y="30"/>
                  </a:lnTo>
                  <a:lnTo>
                    <a:pt x="2477" y="32"/>
                  </a:lnTo>
                  <a:lnTo>
                    <a:pt x="2447" y="34"/>
                  </a:lnTo>
                  <a:lnTo>
                    <a:pt x="2433" y="34"/>
                  </a:lnTo>
                  <a:lnTo>
                    <a:pt x="2419" y="33"/>
                  </a:lnTo>
                  <a:lnTo>
                    <a:pt x="2405" y="32"/>
                  </a:lnTo>
                  <a:lnTo>
                    <a:pt x="2392" y="29"/>
                  </a:lnTo>
                  <a:lnTo>
                    <a:pt x="2381" y="27"/>
                  </a:lnTo>
                  <a:lnTo>
                    <a:pt x="2370" y="22"/>
                  </a:lnTo>
                  <a:lnTo>
                    <a:pt x="2360" y="15"/>
                  </a:lnTo>
                  <a:lnTo>
                    <a:pt x="2350" y="8"/>
                  </a:lnTo>
                  <a:lnTo>
                    <a:pt x="2347" y="5"/>
                  </a:lnTo>
                  <a:lnTo>
                    <a:pt x="2343" y="2"/>
                  </a:lnTo>
                  <a:lnTo>
                    <a:pt x="2340" y="1"/>
                  </a:lnTo>
                  <a:lnTo>
                    <a:pt x="2337" y="0"/>
                  </a:lnTo>
                  <a:lnTo>
                    <a:pt x="2334" y="0"/>
                  </a:lnTo>
                  <a:lnTo>
                    <a:pt x="2331" y="1"/>
                  </a:lnTo>
                  <a:lnTo>
                    <a:pt x="2329" y="2"/>
                  </a:lnTo>
                  <a:lnTo>
                    <a:pt x="2326" y="5"/>
                  </a:lnTo>
                  <a:lnTo>
                    <a:pt x="2321" y="9"/>
                  </a:lnTo>
                  <a:lnTo>
                    <a:pt x="2317" y="17"/>
                  </a:lnTo>
                  <a:lnTo>
                    <a:pt x="2313" y="26"/>
                  </a:lnTo>
                  <a:lnTo>
                    <a:pt x="2308" y="36"/>
                  </a:lnTo>
                  <a:lnTo>
                    <a:pt x="2300" y="56"/>
                  </a:lnTo>
                  <a:lnTo>
                    <a:pt x="2288" y="76"/>
                  </a:lnTo>
                  <a:lnTo>
                    <a:pt x="2282" y="85"/>
                  </a:lnTo>
                  <a:lnTo>
                    <a:pt x="2275" y="92"/>
                  </a:lnTo>
                  <a:lnTo>
                    <a:pt x="2272" y="95"/>
                  </a:lnTo>
                  <a:lnTo>
                    <a:pt x="2267" y="97"/>
                  </a:lnTo>
                  <a:lnTo>
                    <a:pt x="2263" y="99"/>
                  </a:lnTo>
                  <a:lnTo>
                    <a:pt x="2258" y="100"/>
                  </a:lnTo>
                  <a:lnTo>
                    <a:pt x="2237" y="103"/>
                  </a:lnTo>
                  <a:lnTo>
                    <a:pt x="2212" y="105"/>
                  </a:lnTo>
                  <a:lnTo>
                    <a:pt x="2185" y="109"/>
                  </a:lnTo>
                  <a:lnTo>
                    <a:pt x="2152" y="113"/>
                  </a:lnTo>
                  <a:lnTo>
                    <a:pt x="2111" y="119"/>
                  </a:lnTo>
                  <a:lnTo>
                    <a:pt x="2062" y="126"/>
                  </a:lnTo>
                  <a:lnTo>
                    <a:pt x="2003" y="135"/>
                  </a:lnTo>
                  <a:lnTo>
                    <a:pt x="1933" y="146"/>
                  </a:lnTo>
                  <a:lnTo>
                    <a:pt x="1806" y="166"/>
                  </a:lnTo>
                  <a:lnTo>
                    <a:pt x="1694" y="185"/>
                  </a:lnTo>
                  <a:lnTo>
                    <a:pt x="1596" y="202"/>
                  </a:lnTo>
                  <a:lnTo>
                    <a:pt x="1510" y="217"/>
                  </a:lnTo>
                  <a:lnTo>
                    <a:pt x="1436" y="230"/>
                  </a:lnTo>
                  <a:lnTo>
                    <a:pt x="1371" y="241"/>
                  </a:lnTo>
                  <a:lnTo>
                    <a:pt x="1315" y="249"/>
                  </a:lnTo>
                  <a:lnTo>
                    <a:pt x="1265" y="255"/>
                  </a:lnTo>
                  <a:lnTo>
                    <a:pt x="1243" y="256"/>
                  </a:lnTo>
                  <a:lnTo>
                    <a:pt x="1222" y="256"/>
                  </a:lnTo>
                  <a:lnTo>
                    <a:pt x="1202" y="255"/>
                  </a:lnTo>
                  <a:lnTo>
                    <a:pt x="1182" y="253"/>
                  </a:lnTo>
                  <a:lnTo>
                    <a:pt x="1163" y="250"/>
                  </a:lnTo>
                  <a:lnTo>
                    <a:pt x="1146" y="246"/>
                  </a:lnTo>
                  <a:lnTo>
                    <a:pt x="1128" y="242"/>
                  </a:lnTo>
                  <a:lnTo>
                    <a:pt x="1111" y="235"/>
                  </a:lnTo>
                  <a:lnTo>
                    <a:pt x="1093" y="228"/>
                  </a:lnTo>
                  <a:lnTo>
                    <a:pt x="1076" y="220"/>
                  </a:lnTo>
                  <a:lnTo>
                    <a:pt x="1058" y="209"/>
                  </a:lnTo>
                  <a:lnTo>
                    <a:pt x="1040" y="197"/>
                  </a:lnTo>
                  <a:lnTo>
                    <a:pt x="1021" y="185"/>
                  </a:lnTo>
                  <a:lnTo>
                    <a:pt x="1001" y="171"/>
                  </a:lnTo>
                  <a:lnTo>
                    <a:pt x="981" y="155"/>
                  </a:lnTo>
                  <a:lnTo>
                    <a:pt x="959" y="138"/>
                  </a:lnTo>
                  <a:lnTo>
                    <a:pt x="0" y="230"/>
                  </a:lnTo>
                  <a:lnTo>
                    <a:pt x="12" y="238"/>
                  </a:lnTo>
                  <a:lnTo>
                    <a:pt x="24" y="251"/>
                  </a:lnTo>
                  <a:lnTo>
                    <a:pt x="37" y="265"/>
                  </a:lnTo>
                  <a:lnTo>
                    <a:pt x="49" y="283"/>
                  </a:lnTo>
                  <a:lnTo>
                    <a:pt x="62" y="301"/>
                  </a:lnTo>
                  <a:lnTo>
                    <a:pt x="73" y="322"/>
                  </a:lnTo>
                  <a:lnTo>
                    <a:pt x="84" y="343"/>
                  </a:lnTo>
                  <a:lnTo>
                    <a:pt x="95" y="367"/>
                  </a:lnTo>
                  <a:lnTo>
                    <a:pt x="104" y="390"/>
                  </a:lnTo>
                  <a:lnTo>
                    <a:pt x="112" y="415"/>
                  </a:lnTo>
                  <a:lnTo>
                    <a:pt x="118" y="439"/>
                  </a:lnTo>
                  <a:lnTo>
                    <a:pt x="124" y="463"/>
                  </a:lnTo>
                  <a:lnTo>
                    <a:pt x="126" y="486"/>
                  </a:lnTo>
                  <a:lnTo>
                    <a:pt x="127" y="508"/>
                  </a:lnTo>
                  <a:lnTo>
                    <a:pt x="127" y="519"/>
                  </a:lnTo>
                  <a:lnTo>
                    <a:pt x="127" y="529"/>
                  </a:lnTo>
                  <a:lnTo>
                    <a:pt x="126" y="540"/>
                  </a:lnTo>
                  <a:lnTo>
                    <a:pt x="124" y="549"/>
                  </a:lnTo>
                  <a:lnTo>
                    <a:pt x="183" y="543"/>
                  </a:lnTo>
                  <a:lnTo>
                    <a:pt x="244" y="537"/>
                  </a:lnTo>
                  <a:lnTo>
                    <a:pt x="305" y="531"/>
                  </a:lnTo>
                  <a:lnTo>
                    <a:pt x="366" y="527"/>
                  </a:lnTo>
                  <a:lnTo>
                    <a:pt x="426" y="522"/>
                  </a:lnTo>
                  <a:lnTo>
                    <a:pt x="487" y="519"/>
                  </a:lnTo>
                  <a:lnTo>
                    <a:pt x="548" y="515"/>
                  </a:lnTo>
                  <a:lnTo>
                    <a:pt x="606" y="513"/>
                  </a:lnTo>
                  <a:lnTo>
                    <a:pt x="665" y="510"/>
                  </a:lnTo>
                  <a:lnTo>
                    <a:pt x="721" y="510"/>
                  </a:lnTo>
                  <a:lnTo>
                    <a:pt x="776" y="509"/>
                  </a:lnTo>
                  <a:lnTo>
                    <a:pt x="829" y="510"/>
                  </a:lnTo>
                  <a:lnTo>
                    <a:pt x="881" y="513"/>
                  </a:lnTo>
                  <a:lnTo>
                    <a:pt x="930" y="515"/>
                  </a:lnTo>
                  <a:lnTo>
                    <a:pt x="976" y="519"/>
                  </a:lnTo>
                  <a:lnTo>
                    <a:pt x="1020" y="523"/>
                  </a:lnTo>
                  <a:lnTo>
                    <a:pt x="1030" y="527"/>
                  </a:lnTo>
                  <a:lnTo>
                    <a:pt x="1058" y="535"/>
                  </a:lnTo>
                  <a:lnTo>
                    <a:pt x="1077" y="542"/>
                  </a:lnTo>
                  <a:lnTo>
                    <a:pt x="1098" y="550"/>
                  </a:lnTo>
                  <a:lnTo>
                    <a:pt x="1120" y="559"/>
                  </a:lnTo>
                  <a:lnTo>
                    <a:pt x="1143" y="571"/>
                  </a:lnTo>
                  <a:lnTo>
                    <a:pt x="1167" y="583"/>
                  </a:lnTo>
                  <a:lnTo>
                    <a:pt x="1189" y="597"/>
                  </a:lnTo>
                  <a:lnTo>
                    <a:pt x="1200" y="605"/>
                  </a:lnTo>
                  <a:lnTo>
                    <a:pt x="1210" y="612"/>
                  </a:lnTo>
                  <a:lnTo>
                    <a:pt x="1219" y="620"/>
                  </a:lnTo>
                  <a:lnTo>
                    <a:pt x="1229" y="630"/>
                  </a:lnTo>
                  <a:lnTo>
                    <a:pt x="1237" y="638"/>
                  </a:lnTo>
                  <a:lnTo>
                    <a:pt x="1244" y="647"/>
                  </a:lnTo>
                  <a:lnTo>
                    <a:pt x="1251" y="658"/>
                  </a:lnTo>
                  <a:lnTo>
                    <a:pt x="1257" y="667"/>
                  </a:lnTo>
                  <a:lnTo>
                    <a:pt x="1261" y="677"/>
                  </a:lnTo>
                  <a:lnTo>
                    <a:pt x="1265" y="688"/>
                  </a:lnTo>
                  <a:lnTo>
                    <a:pt x="1266" y="700"/>
                  </a:lnTo>
                  <a:lnTo>
                    <a:pt x="1267" y="710"/>
                  </a:lnTo>
                  <a:lnTo>
                    <a:pt x="1268" y="722"/>
                  </a:lnTo>
                  <a:lnTo>
                    <a:pt x="1271" y="731"/>
                  </a:lnTo>
                  <a:lnTo>
                    <a:pt x="1274" y="738"/>
                  </a:lnTo>
                  <a:lnTo>
                    <a:pt x="1279" y="745"/>
                  </a:lnTo>
                  <a:lnTo>
                    <a:pt x="1286" y="750"/>
                  </a:lnTo>
                  <a:lnTo>
                    <a:pt x="1293" y="753"/>
                  </a:lnTo>
                  <a:lnTo>
                    <a:pt x="1301" y="757"/>
                  </a:lnTo>
                  <a:lnTo>
                    <a:pt x="1311" y="758"/>
                  </a:lnTo>
                  <a:lnTo>
                    <a:pt x="1321" y="758"/>
                  </a:lnTo>
                  <a:lnTo>
                    <a:pt x="1332" y="758"/>
                  </a:lnTo>
                  <a:lnTo>
                    <a:pt x="1343" y="757"/>
                  </a:lnTo>
                  <a:lnTo>
                    <a:pt x="1356" y="755"/>
                  </a:lnTo>
                  <a:lnTo>
                    <a:pt x="1381" y="749"/>
                  </a:lnTo>
                  <a:lnTo>
                    <a:pt x="1407" y="742"/>
                  </a:lnTo>
                  <a:lnTo>
                    <a:pt x="1433" y="732"/>
                  </a:lnTo>
                  <a:lnTo>
                    <a:pt x="1458" y="722"/>
                  </a:lnTo>
                  <a:lnTo>
                    <a:pt x="1482" y="711"/>
                  </a:lnTo>
                  <a:lnTo>
                    <a:pt x="1503" y="701"/>
                  </a:lnTo>
                  <a:lnTo>
                    <a:pt x="1535" y="686"/>
                  </a:lnTo>
                  <a:lnTo>
                    <a:pt x="1546" y="679"/>
                  </a:lnTo>
                  <a:lnTo>
                    <a:pt x="1639" y="494"/>
                  </a:lnTo>
                  <a:lnTo>
                    <a:pt x="1823" y="494"/>
                  </a:lnTo>
                  <a:lnTo>
                    <a:pt x="1979" y="616"/>
                  </a:lnTo>
                  <a:lnTo>
                    <a:pt x="2071" y="616"/>
                  </a:lnTo>
                  <a:lnTo>
                    <a:pt x="2258" y="771"/>
                  </a:lnTo>
                  <a:lnTo>
                    <a:pt x="2535" y="771"/>
                  </a:lnTo>
                  <a:lnTo>
                    <a:pt x="2531" y="791"/>
                  </a:lnTo>
                  <a:lnTo>
                    <a:pt x="2532" y="815"/>
                  </a:lnTo>
                  <a:lnTo>
                    <a:pt x="2537" y="843"/>
                  </a:lnTo>
                  <a:lnTo>
                    <a:pt x="2546" y="875"/>
                  </a:lnTo>
                  <a:lnTo>
                    <a:pt x="2559" y="910"/>
                  </a:lnTo>
                  <a:lnTo>
                    <a:pt x="2576" y="948"/>
                  </a:lnTo>
                  <a:lnTo>
                    <a:pt x="2595" y="989"/>
                  </a:lnTo>
                  <a:lnTo>
                    <a:pt x="2618" y="1033"/>
                  </a:lnTo>
                  <a:lnTo>
                    <a:pt x="2643" y="1079"/>
                  </a:lnTo>
                  <a:lnTo>
                    <a:pt x="2671" y="1126"/>
                  </a:lnTo>
                  <a:lnTo>
                    <a:pt x="2701" y="1175"/>
                  </a:lnTo>
                  <a:lnTo>
                    <a:pt x="2733" y="1225"/>
                  </a:lnTo>
                  <a:lnTo>
                    <a:pt x="2766" y="1277"/>
                  </a:lnTo>
                  <a:lnTo>
                    <a:pt x="2801" y="1328"/>
                  </a:lnTo>
                  <a:lnTo>
                    <a:pt x="2838" y="1381"/>
                  </a:lnTo>
                  <a:lnTo>
                    <a:pt x="2875" y="1432"/>
                  </a:lnTo>
                  <a:lnTo>
                    <a:pt x="2913" y="1483"/>
                  </a:lnTo>
                  <a:lnTo>
                    <a:pt x="2952" y="1534"/>
                  </a:lnTo>
                  <a:lnTo>
                    <a:pt x="2990" y="1583"/>
                  </a:lnTo>
                  <a:lnTo>
                    <a:pt x="3029" y="1631"/>
                  </a:lnTo>
                  <a:lnTo>
                    <a:pt x="3067" y="1677"/>
                  </a:lnTo>
                  <a:lnTo>
                    <a:pt x="3105" y="1721"/>
                  </a:lnTo>
                  <a:lnTo>
                    <a:pt x="3142" y="1763"/>
                  </a:lnTo>
                  <a:lnTo>
                    <a:pt x="3178" y="1802"/>
                  </a:lnTo>
                  <a:lnTo>
                    <a:pt x="3213" y="1837"/>
                  </a:lnTo>
                  <a:lnTo>
                    <a:pt x="3247" y="1870"/>
                  </a:lnTo>
                  <a:lnTo>
                    <a:pt x="3279" y="1899"/>
                  </a:lnTo>
                  <a:lnTo>
                    <a:pt x="3308" y="1925"/>
                  </a:lnTo>
                  <a:lnTo>
                    <a:pt x="3335" y="1945"/>
                  </a:lnTo>
                  <a:lnTo>
                    <a:pt x="3361" y="1961"/>
                  </a:lnTo>
                  <a:lnTo>
                    <a:pt x="3383" y="1972"/>
                  </a:lnTo>
                  <a:lnTo>
                    <a:pt x="3401" y="1978"/>
                  </a:lnTo>
                  <a:lnTo>
                    <a:pt x="3420" y="1981"/>
                  </a:lnTo>
                  <a:lnTo>
                    <a:pt x="3440" y="1986"/>
                  </a:lnTo>
                  <a:lnTo>
                    <a:pt x="3462" y="1990"/>
                  </a:lnTo>
                  <a:lnTo>
                    <a:pt x="3486" y="1997"/>
                  </a:lnTo>
                  <a:lnTo>
                    <a:pt x="3538" y="2014"/>
                  </a:lnTo>
                  <a:lnTo>
                    <a:pt x="3598" y="2035"/>
                  </a:lnTo>
                  <a:lnTo>
                    <a:pt x="3663" y="2059"/>
                  </a:lnTo>
                  <a:lnTo>
                    <a:pt x="3733" y="2090"/>
                  </a:lnTo>
                  <a:lnTo>
                    <a:pt x="3808" y="2124"/>
                  </a:lnTo>
                  <a:lnTo>
                    <a:pt x="3886" y="2162"/>
                  </a:lnTo>
                  <a:lnTo>
                    <a:pt x="3928" y="2182"/>
                  </a:lnTo>
                  <a:lnTo>
                    <a:pt x="3969" y="2204"/>
                  </a:lnTo>
                  <a:lnTo>
                    <a:pt x="4012" y="2227"/>
                  </a:lnTo>
                  <a:lnTo>
                    <a:pt x="4056" y="2251"/>
                  </a:lnTo>
                  <a:lnTo>
                    <a:pt x="4099" y="2277"/>
                  </a:lnTo>
                  <a:lnTo>
                    <a:pt x="4143" y="2302"/>
                  </a:lnTo>
                  <a:lnTo>
                    <a:pt x="4189" y="2330"/>
                  </a:lnTo>
                  <a:lnTo>
                    <a:pt x="4234" y="2358"/>
                  </a:lnTo>
                  <a:lnTo>
                    <a:pt x="4280" y="2389"/>
                  </a:lnTo>
                  <a:lnTo>
                    <a:pt x="4327" y="2419"/>
                  </a:lnTo>
                  <a:lnTo>
                    <a:pt x="4372" y="2451"/>
                  </a:lnTo>
                  <a:lnTo>
                    <a:pt x="4419" y="2483"/>
                  </a:lnTo>
                  <a:lnTo>
                    <a:pt x="4466" y="2517"/>
                  </a:lnTo>
                  <a:lnTo>
                    <a:pt x="4512" y="2552"/>
                  </a:lnTo>
                  <a:lnTo>
                    <a:pt x="4559" y="2588"/>
                  </a:lnTo>
                  <a:lnTo>
                    <a:pt x="4606" y="2626"/>
                  </a:lnTo>
                  <a:lnTo>
                    <a:pt x="4885" y="2410"/>
                  </a:lnTo>
                  <a:lnTo>
                    <a:pt x="4884" y="2390"/>
                  </a:lnTo>
                  <a:lnTo>
                    <a:pt x="4883" y="2369"/>
                  </a:lnTo>
                  <a:lnTo>
                    <a:pt x="4879" y="2349"/>
                  </a:lnTo>
                  <a:lnTo>
                    <a:pt x="4876" y="2328"/>
                  </a:lnTo>
                  <a:lnTo>
                    <a:pt x="4871" y="2307"/>
                  </a:lnTo>
                  <a:lnTo>
                    <a:pt x="4865" y="2287"/>
                  </a:lnTo>
                  <a:lnTo>
                    <a:pt x="4858" y="2266"/>
                  </a:lnTo>
                  <a:lnTo>
                    <a:pt x="4851" y="2246"/>
                  </a:lnTo>
                  <a:lnTo>
                    <a:pt x="4835" y="2206"/>
                  </a:lnTo>
                  <a:lnTo>
                    <a:pt x="4816" y="2168"/>
                  </a:lnTo>
                  <a:lnTo>
                    <a:pt x="4797" y="2132"/>
                  </a:lnTo>
                  <a:lnTo>
                    <a:pt x="4776" y="2097"/>
                  </a:lnTo>
                  <a:lnTo>
                    <a:pt x="4756" y="2065"/>
                  </a:lnTo>
                  <a:lnTo>
                    <a:pt x="4737" y="2036"/>
                  </a:lnTo>
                  <a:lnTo>
                    <a:pt x="4719" y="2010"/>
                  </a:lnTo>
                  <a:lnTo>
                    <a:pt x="4703" y="1988"/>
                  </a:lnTo>
                  <a:lnTo>
                    <a:pt x="4678" y="1958"/>
                  </a:lnTo>
                  <a:lnTo>
                    <a:pt x="4669" y="1946"/>
                  </a:lnTo>
                  <a:lnTo>
                    <a:pt x="4657" y="1924"/>
                  </a:lnTo>
                  <a:lnTo>
                    <a:pt x="4641" y="1898"/>
                  </a:lnTo>
                  <a:lnTo>
                    <a:pt x="4621" y="1869"/>
                  </a:lnTo>
                  <a:lnTo>
                    <a:pt x="4595" y="1836"/>
                  </a:lnTo>
                  <a:lnTo>
                    <a:pt x="4567" y="1800"/>
                  </a:lnTo>
                  <a:lnTo>
                    <a:pt x="4535" y="1763"/>
                  </a:lnTo>
                  <a:lnTo>
                    <a:pt x="4498" y="1722"/>
                  </a:lnTo>
                  <a:lnTo>
                    <a:pt x="4460" y="1678"/>
                  </a:lnTo>
                  <a:lnTo>
                    <a:pt x="4419" y="1634"/>
                  </a:lnTo>
                  <a:lnTo>
                    <a:pt x="4375" y="1587"/>
                  </a:lnTo>
                  <a:lnTo>
                    <a:pt x="4328" y="1538"/>
                  </a:lnTo>
                  <a:lnTo>
                    <a:pt x="4280" y="1489"/>
                  </a:lnTo>
                  <a:lnTo>
                    <a:pt x="4178" y="1389"/>
                  </a:lnTo>
                  <a:lnTo>
                    <a:pt x="4073" y="1286"/>
                  </a:lnTo>
                  <a:lnTo>
                    <a:pt x="3965" y="1183"/>
                  </a:lnTo>
                  <a:lnTo>
                    <a:pt x="3857" y="1084"/>
                  </a:lnTo>
                  <a:lnTo>
                    <a:pt x="3752" y="988"/>
                  </a:lnTo>
                  <a:lnTo>
                    <a:pt x="3650" y="899"/>
                  </a:lnTo>
                  <a:lnTo>
                    <a:pt x="3557" y="818"/>
                  </a:lnTo>
                  <a:lnTo>
                    <a:pt x="3472" y="748"/>
                  </a:lnTo>
                  <a:lnTo>
                    <a:pt x="3433" y="717"/>
                  </a:lnTo>
                  <a:lnTo>
                    <a:pt x="3398" y="690"/>
                  </a:lnTo>
                  <a:lnTo>
                    <a:pt x="3366" y="667"/>
                  </a:lnTo>
                  <a:lnTo>
                    <a:pt x="3338" y="647"/>
                  </a:lnTo>
                  <a:lnTo>
                    <a:pt x="3285" y="611"/>
                  </a:lnTo>
                  <a:lnTo>
                    <a:pt x="3231" y="571"/>
                  </a:lnTo>
                  <a:lnTo>
                    <a:pt x="3175" y="528"/>
                  </a:lnTo>
                  <a:lnTo>
                    <a:pt x="3119" y="484"/>
                  </a:lnTo>
                  <a:lnTo>
                    <a:pt x="3062" y="438"/>
                  </a:lnTo>
                  <a:lnTo>
                    <a:pt x="3007" y="391"/>
                  </a:lnTo>
                  <a:lnTo>
                    <a:pt x="2952" y="346"/>
                  </a:lnTo>
                  <a:lnTo>
                    <a:pt x="2900" y="300"/>
                  </a:lnTo>
                  <a:lnTo>
                    <a:pt x="2803" y="217"/>
                  </a:lnTo>
                  <a:lnTo>
                    <a:pt x="2722" y="146"/>
                  </a:lnTo>
                  <a:lnTo>
                    <a:pt x="2689" y="118"/>
                  </a:lnTo>
                  <a:lnTo>
                    <a:pt x="2661" y="95"/>
                  </a:lnTo>
                  <a:lnTo>
                    <a:pt x="2639" y="78"/>
                  </a:lnTo>
                  <a:lnTo>
                    <a:pt x="2624" y="69"/>
                  </a:lnTo>
                  <a:lnTo>
                    <a:pt x="2609" y="60"/>
                  </a:lnTo>
                  <a:lnTo>
                    <a:pt x="2595" y="50"/>
                  </a:lnTo>
                  <a:lnTo>
                    <a:pt x="2584" y="41"/>
                  </a:lnTo>
                  <a:lnTo>
                    <a:pt x="2572" y="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Freeform 230"/>
            <p:cNvSpPr/>
            <p:nvPr/>
          </p:nvSpPr>
          <p:spPr>
            <a:xfrm>
              <a:off x="7826760" y="3827520"/>
              <a:ext cx="186840" cy="1328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238" h="822">
                  <a:moveTo>
                    <a:pt x="1124" y="762"/>
                  </a:moveTo>
                  <a:lnTo>
                    <a:pt x="1238" y="776"/>
                  </a:lnTo>
                  <a:lnTo>
                    <a:pt x="1238" y="762"/>
                  </a:lnTo>
                  <a:lnTo>
                    <a:pt x="1237" y="747"/>
                  </a:lnTo>
                  <a:lnTo>
                    <a:pt x="1236" y="732"/>
                  </a:lnTo>
                  <a:lnTo>
                    <a:pt x="1234" y="717"/>
                  </a:lnTo>
                  <a:lnTo>
                    <a:pt x="1230" y="703"/>
                  </a:lnTo>
                  <a:lnTo>
                    <a:pt x="1227" y="688"/>
                  </a:lnTo>
                  <a:lnTo>
                    <a:pt x="1222" y="672"/>
                  </a:lnTo>
                  <a:lnTo>
                    <a:pt x="1217" y="657"/>
                  </a:lnTo>
                  <a:lnTo>
                    <a:pt x="1212" y="641"/>
                  </a:lnTo>
                  <a:lnTo>
                    <a:pt x="1205" y="626"/>
                  </a:lnTo>
                  <a:lnTo>
                    <a:pt x="1198" y="611"/>
                  </a:lnTo>
                  <a:lnTo>
                    <a:pt x="1189" y="594"/>
                  </a:lnTo>
                  <a:lnTo>
                    <a:pt x="1181" y="579"/>
                  </a:lnTo>
                  <a:lnTo>
                    <a:pt x="1171" y="563"/>
                  </a:lnTo>
                  <a:lnTo>
                    <a:pt x="1160" y="546"/>
                  </a:lnTo>
                  <a:lnTo>
                    <a:pt x="1150" y="531"/>
                  </a:lnTo>
                  <a:lnTo>
                    <a:pt x="1124" y="497"/>
                  </a:lnTo>
                  <a:lnTo>
                    <a:pt x="1096" y="465"/>
                  </a:lnTo>
                  <a:lnTo>
                    <a:pt x="1064" y="431"/>
                  </a:lnTo>
                  <a:lnTo>
                    <a:pt x="1029" y="396"/>
                  </a:lnTo>
                  <a:lnTo>
                    <a:pt x="991" y="361"/>
                  </a:lnTo>
                  <a:lnTo>
                    <a:pt x="949" y="326"/>
                  </a:lnTo>
                  <a:lnTo>
                    <a:pt x="903" y="289"/>
                  </a:lnTo>
                  <a:lnTo>
                    <a:pt x="853" y="252"/>
                  </a:lnTo>
                  <a:lnTo>
                    <a:pt x="844" y="267"/>
                  </a:lnTo>
                  <a:lnTo>
                    <a:pt x="835" y="281"/>
                  </a:lnTo>
                  <a:lnTo>
                    <a:pt x="827" y="294"/>
                  </a:lnTo>
                  <a:lnTo>
                    <a:pt x="819" y="305"/>
                  </a:lnTo>
                  <a:lnTo>
                    <a:pt x="811" y="314"/>
                  </a:lnTo>
                  <a:lnTo>
                    <a:pt x="803" y="322"/>
                  </a:lnTo>
                  <a:lnTo>
                    <a:pt x="796" y="329"/>
                  </a:lnTo>
                  <a:lnTo>
                    <a:pt x="789" y="335"/>
                  </a:lnTo>
                  <a:lnTo>
                    <a:pt x="782" y="340"/>
                  </a:lnTo>
                  <a:lnTo>
                    <a:pt x="775" y="342"/>
                  </a:lnTo>
                  <a:lnTo>
                    <a:pt x="768" y="344"/>
                  </a:lnTo>
                  <a:lnTo>
                    <a:pt x="762" y="344"/>
                  </a:lnTo>
                  <a:lnTo>
                    <a:pt x="756" y="344"/>
                  </a:lnTo>
                  <a:lnTo>
                    <a:pt x="750" y="342"/>
                  </a:lnTo>
                  <a:lnTo>
                    <a:pt x="745" y="340"/>
                  </a:lnTo>
                  <a:lnTo>
                    <a:pt x="741" y="335"/>
                  </a:lnTo>
                  <a:lnTo>
                    <a:pt x="736" y="330"/>
                  </a:lnTo>
                  <a:lnTo>
                    <a:pt x="733" y="323"/>
                  </a:lnTo>
                  <a:lnTo>
                    <a:pt x="729" y="316"/>
                  </a:lnTo>
                  <a:lnTo>
                    <a:pt x="727" y="307"/>
                  </a:lnTo>
                  <a:lnTo>
                    <a:pt x="724" y="298"/>
                  </a:lnTo>
                  <a:lnTo>
                    <a:pt x="723" y="287"/>
                  </a:lnTo>
                  <a:lnTo>
                    <a:pt x="722" y="275"/>
                  </a:lnTo>
                  <a:lnTo>
                    <a:pt x="722" y="263"/>
                  </a:lnTo>
                  <a:lnTo>
                    <a:pt x="722" y="250"/>
                  </a:lnTo>
                  <a:lnTo>
                    <a:pt x="723" y="234"/>
                  </a:lnTo>
                  <a:lnTo>
                    <a:pt x="724" y="219"/>
                  </a:lnTo>
                  <a:lnTo>
                    <a:pt x="727" y="203"/>
                  </a:lnTo>
                  <a:lnTo>
                    <a:pt x="734" y="168"/>
                  </a:lnTo>
                  <a:lnTo>
                    <a:pt x="743" y="128"/>
                  </a:lnTo>
                  <a:lnTo>
                    <a:pt x="744" y="126"/>
                  </a:lnTo>
                  <a:lnTo>
                    <a:pt x="745" y="119"/>
                  </a:lnTo>
                  <a:lnTo>
                    <a:pt x="745" y="115"/>
                  </a:lnTo>
                  <a:lnTo>
                    <a:pt x="743" y="111"/>
                  </a:lnTo>
                  <a:lnTo>
                    <a:pt x="741" y="106"/>
                  </a:lnTo>
                  <a:lnTo>
                    <a:pt x="736" y="102"/>
                  </a:lnTo>
                  <a:lnTo>
                    <a:pt x="729" y="99"/>
                  </a:lnTo>
                  <a:lnTo>
                    <a:pt x="720" y="97"/>
                  </a:lnTo>
                  <a:lnTo>
                    <a:pt x="708" y="94"/>
                  </a:lnTo>
                  <a:lnTo>
                    <a:pt x="692" y="94"/>
                  </a:lnTo>
                  <a:lnTo>
                    <a:pt x="673" y="95"/>
                  </a:lnTo>
                  <a:lnTo>
                    <a:pt x="650" y="99"/>
                  </a:lnTo>
                  <a:lnTo>
                    <a:pt x="623" y="104"/>
                  </a:lnTo>
                  <a:lnTo>
                    <a:pt x="590" y="111"/>
                  </a:lnTo>
                  <a:lnTo>
                    <a:pt x="594" y="108"/>
                  </a:lnTo>
                  <a:lnTo>
                    <a:pt x="598" y="101"/>
                  </a:lnTo>
                  <a:lnTo>
                    <a:pt x="605" y="91"/>
                  </a:lnTo>
                  <a:lnTo>
                    <a:pt x="611" y="79"/>
                  </a:lnTo>
                  <a:lnTo>
                    <a:pt x="612" y="73"/>
                  </a:lnTo>
                  <a:lnTo>
                    <a:pt x="613" y="66"/>
                  </a:lnTo>
                  <a:lnTo>
                    <a:pt x="612" y="60"/>
                  </a:lnTo>
                  <a:lnTo>
                    <a:pt x="609" y="55"/>
                  </a:lnTo>
                  <a:lnTo>
                    <a:pt x="604" y="49"/>
                  </a:lnTo>
                  <a:lnTo>
                    <a:pt x="596" y="44"/>
                  </a:lnTo>
                  <a:lnTo>
                    <a:pt x="587" y="39"/>
                  </a:lnTo>
                  <a:lnTo>
                    <a:pt x="574" y="36"/>
                  </a:lnTo>
                  <a:lnTo>
                    <a:pt x="546" y="29"/>
                  </a:lnTo>
                  <a:lnTo>
                    <a:pt x="519" y="20"/>
                  </a:lnTo>
                  <a:lnTo>
                    <a:pt x="492" y="11"/>
                  </a:lnTo>
                  <a:lnTo>
                    <a:pt x="463" y="4"/>
                  </a:lnTo>
                  <a:lnTo>
                    <a:pt x="448" y="1"/>
                  </a:lnTo>
                  <a:lnTo>
                    <a:pt x="431" y="0"/>
                  </a:lnTo>
                  <a:lnTo>
                    <a:pt x="413" y="0"/>
                  </a:lnTo>
                  <a:lnTo>
                    <a:pt x="394" y="0"/>
                  </a:lnTo>
                  <a:lnTo>
                    <a:pt x="373" y="2"/>
                  </a:lnTo>
                  <a:lnTo>
                    <a:pt x="349" y="6"/>
                  </a:lnTo>
                  <a:lnTo>
                    <a:pt x="324" y="11"/>
                  </a:lnTo>
                  <a:lnTo>
                    <a:pt x="297" y="20"/>
                  </a:lnTo>
                  <a:lnTo>
                    <a:pt x="311" y="111"/>
                  </a:lnTo>
                  <a:lnTo>
                    <a:pt x="305" y="108"/>
                  </a:lnTo>
                  <a:lnTo>
                    <a:pt x="288" y="102"/>
                  </a:lnTo>
                  <a:lnTo>
                    <a:pt x="260" y="93"/>
                  </a:lnTo>
                  <a:lnTo>
                    <a:pt x="219" y="83"/>
                  </a:lnTo>
                  <a:lnTo>
                    <a:pt x="220" y="86"/>
                  </a:lnTo>
                  <a:lnTo>
                    <a:pt x="220" y="95"/>
                  </a:lnTo>
                  <a:lnTo>
                    <a:pt x="221" y="108"/>
                  </a:lnTo>
                  <a:lnTo>
                    <a:pt x="219" y="125"/>
                  </a:lnTo>
                  <a:lnTo>
                    <a:pt x="216" y="134"/>
                  </a:lnTo>
                  <a:lnTo>
                    <a:pt x="214" y="142"/>
                  </a:lnTo>
                  <a:lnTo>
                    <a:pt x="210" y="152"/>
                  </a:lnTo>
                  <a:lnTo>
                    <a:pt x="206" y="160"/>
                  </a:lnTo>
                  <a:lnTo>
                    <a:pt x="200" y="168"/>
                  </a:lnTo>
                  <a:lnTo>
                    <a:pt x="192" y="176"/>
                  </a:lnTo>
                  <a:lnTo>
                    <a:pt x="184" y="183"/>
                  </a:lnTo>
                  <a:lnTo>
                    <a:pt x="173" y="189"/>
                  </a:lnTo>
                  <a:lnTo>
                    <a:pt x="154" y="184"/>
                  </a:lnTo>
                  <a:lnTo>
                    <a:pt x="136" y="182"/>
                  </a:lnTo>
                  <a:lnTo>
                    <a:pt x="119" y="182"/>
                  </a:lnTo>
                  <a:lnTo>
                    <a:pt x="104" y="182"/>
                  </a:lnTo>
                  <a:lnTo>
                    <a:pt x="90" y="184"/>
                  </a:lnTo>
                  <a:lnTo>
                    <a:pt x="76" y="189"/>
                  </a:lnTo>
                  <a:lnTo>
                    <a:pt x="64" y="194"/>
                  </a:lnTo>
                  <a:lnTo>
                    <a:pt x="54" y="201"/>
                  </a:lnTo>
                  <a:lnTo>
                    <a:pt x="45" y="208"/>
                  </a:lnTo>
                  <a:lnTo>
                    <a:pt x="35" y="216"/>
                  </a:lnTo>
                  <a:lnTo>
                    <a:pt x="27" y="226"/>
                  </a:lnTo>
                  <a:lnTo>
                    <a:pt x="21" y="236"/>
                  </a:lnTo>
                  <a:lnTo>
                    <a:pt x="15" y="247"/>
                  </a:lnTo>
                  <a:lnTo>
                    <a:pt x="11" y="259"/>
                  </a:lnTo>
                  <a:lnTo>
                    <a:pt x="7" y="272"/>
                  </a:lnTo>
                  <a:lnTo>
                    <a:pt x="4" y="285"/>
                  </a:lnTo>
                  <a:lnTo>
                    <a:pt x="1" y="299"/>
                  </a:lnTo>
                  <a:lnTo>
                    <a:pt x="0" y="312"/>
                  </a:lnTo>
                  <a:lnTo>
                    <a:pt x="0" y="326"/>
                  </a:lnTo>
                  <a:lnTo>
                    <a:pt x="1" y="340"/>
                  </a:lnTo>
                  <a:lnTo>
                    <a:pt x="3" y="355"/>
                  </a:lnTo>
                  <a:lnTo>
                    <a:pt x="5" y="369"/>
                  </a:lnTo>
                  <a:lnTo>
                    <a:pt x="7" y="383"/>
                  </a:lnTo>
                  <a:lnTo>
                    <a:pt x="11" y="397"/>
                  </a:lnTo>
                  <a:lnTo>
                    <a:pt x="15" y="410"/>
                  </a:lnTo>
                  <a:lnTo>
                    <a:pt x="20" y="423"/>
                  </a:lnTo>
                  <a:lnTo>
                    <a:pt x="26" y="435"/>
                  </a:lnTo>
                  <a:lnTo>
                    <a:pt x="33" y="448"/>
                  </a:lnTo>
                  <a:lnTo>
                    <a:pt x="39" y="459"/>
                  </a:lnTo>
                  <a:lnTo>
                    <a:pt x="47" y="469"/>
                  </a:lnTo>
                  <a:lnTo>
                    <a:pt x="55" y="480"/>
                  </a:lnTo>
                  <a:lnTo>
                    <a:pt x="63" y="488"/>
                  </a:lnTo>
                  <a:lnTo>
                    <a:pt x="90" y="515"/>
                  </a:lnTo>
                  <a:lnTo>
                    <a:pt x="114" y="541"/>
                  </a:lnTo>
                  <a:lnTo>
                    <a:pt x="135" y="565"/>
                  </a:lnTo>
                  <a:lnTo>
                    <a:pt x="153" y="588"/>
                  </a:lnTo>
                  <a:lnTo>
                    <a:pt x="170" y="612"/>
                  </a:lnTo>
                  <a:lnTo>
                    <a:pt x="184" y="633"/>
                  </a:lnTo>
                  <a:lnTo>
                    <a:pt x="195" y="655"/>
                  </a:lnTo>
                  <a:lnTo>
                    <a:pt x="205" y="675"/>
                  </a:lnTo>
                  <a:lnTo>
                    <a:pt x="210" y="695"/>
                  </a:lnTo>
                  <a:lnTo>
                    <a:pt x="215" y="715"/>
                  </a:lnTo>
                  <a:lnTo>
                    <a:pt x="216" y="724"/>
                  </a:lnTo>
                  <a:lnTo>
                    <a:pt x="216" y="733"/>
                  </a:lnTo>
                  <a:lnTo>
                    <a:pt x="216" y="743"/>
                  </a:lnTo>
                  <a:lnTo>
                    <a:pt x="215" y="752"/>
                  </a:lnTo>
                  <a:lnTo>
                    <a:pt x="214" y="761"/>
                  </a:lnTo>
                  <a:lnTo>
                    <a:pt x="212" y="769"/>
                  </a:lnTo>
                  <a:lnTo>
                    <a:pt x="209" y="779"/>
                  </a:lnTo>
                  <a:lnTo>
                    <a:pt x="206" y="788"/>
                  </a:lnTo>
                  <a:lnTo>
                    <a:pt x="198" y="806"/>
                  </a:lnTo>
                  <a:lnTo>
                    <a:pt x="187" y="822"/>
                  </a:lnTo>
                  <a:lnTo>
                    <a:pt x="714" y="800"/>
                  </a:lnTo>
                  <a:lnTo>
                    <a:pt x="1124" y="762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Freeform 231"/>
            <p:cNvSpPr/>
            <p:nvPr/>
          </p:nvSpPr>
          <p:spPr>
            <a:xfrm>
              <a:off x="8102160" y="3785760"/>
              <a:ext cx="250200" cy="13608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1661" h="830">
                  <a:moveTo>
                    <a:pt x="1301" y="775"/>
                  </a:moveTo>
                  <a:lnTo>
                    <a:pt x="1116" y="691"/>
                  </a:lnTo>
                  <a:lnTo>
                    <a:pt x="1101" y="695"/>
                  </a:lnTo>
                  <a:lnTo>
                    <a:pt x="1087" y="697"/>
                  </a:lnTo>
                  <a:lnTo>
                    <a:pt x="1074" y="697"/>
                  </a:lnTo>
                  <a:lnTo>
                    <a:pt x="1061" y="695"/>
                  </a:lnTo>
                  <a:lnTo>
                    <a:pt x="1046" y="694"/>
                  </a:lnTo>
                  <a:lnTo>
                    <a:pt x="1029" y="695"/>
                  </a:lnTo>
                  <a:lnTo>
                    <a:pt x="1006" y="699"/>
                  </a:lnTo>
                  <a:lnTo>
                    <a:pt x="978" y="706"/>
                  </a:lnTo>
                  <a:lnTo>
                    <a:pt x="953" y="711"/>
                  </a:lnTo>
                  <a:lnTo>
                    <a:pt x="912" y="718"/>
                  </a:lnTo>
                  <a:lnTo>
                    <a:pt x="857" y="726"/>
                  </a:lnTo>
                  <a:lnTo>
                    <a:pt x="790" y="735"/>
                  </a:lnTo>
                  <a:lnTo>
                    <a:pt x="714" y="744"/>
                  </a:lnTo>
                  <a:lnTo>
                    <a:pt x="634" y="755"/>
                  </a:lnTo>
                  <a:lnTo>
                    <a:pt x="547" y="765"/>
                  </a:lnTo>
                  <a:lnTo>
                    <a:pt x="461" y="776"/>
                  </a:lnTo>
                  <a:lnTo>
                    <a:pt x="374" y="787"/>
                  </a:lnTo>
                  <a:lnTo>
                    <a:pt x="292" y="796"/>
                  </a:lnTo>
                  <a:lnTo>
                    <a:pt x="216" y="805"/>
                  </a:lnTo>
                  <a:lnTo>
                    <a:pt x="147" y="813"/>
                  </a:lnTo>
                  <a:lnTo>
                    <a:pt x="89" y="820"/>
                  </a:lnTo>
                  <a:lnTo>
                    <a:pt x="46" y="825"/>
                  </a:lnTo>
                  <a:lnTo>
                    <a:pt x="18" y="829"/>
                  </a:lnTo>
                  <a:lnTo>
                    <a:pt x="8" y="830"/>
                  </a:lnTo>
                  <a:lnTo>
                    <a:pt x="0" y="763"/>
                  </a:lnTo>
                  <a:lnTo>
                    <a:pt x="18" y="743"/>
                  </a:lnTo>
                  <a:lnTo>
                    <a:pt x="38" y="725"/>
                  </a:lnTo>
                  <a:lnTo>
                    <a:pt x="57" y="704"/>
                  </a:lnTo>
                  <a:lnTo>
                    <a:pt x="74" y="683"/>
                  </a:lnTo>
                  <a:lnTo>
                    <a:pt x="74" y="498"/>
                  </a:lnTo>
                  <a:lnTo>
                    <a:pt x="141" y="498"/>
                  </a:lnTo>
                  <a:lnTo>
                    <a:pt x="202" y="496"/>
                  </a:lnTo>
                  <a:lnTo>
                    <a:pt x="231" y="494"/>
                  </a:lnTo>
                  <a:lnTo>
                    <a:pt x="258" y="492"/>
                  </a:lnTo>
                  <a:lnTo>
                    <a:pt x="283" y="490"/>
                  </a:lnTo>
                  <a:lnTo>
                    <a:pt x="309" y="486"/>
                  </a:lnTo>
                  <a:lnTo>
                    <a:pt x="332" y="483"/>
                  </a:lnTo>
                  <a:lnTo>
                    <a:pt x="355" y="478"/>
                  </a:lnTo>
                  <a:lnTo>
                    <a:pt x="376" y="473"/>
                  </a:lnTo>
                  <a:lnTo>
                    <a:pt x="395" y="469"/>
                  </a:lnTo>
                  <a:lnTo>
                    <a:pt x="414" y="462"/>
                  </a:lnTo>
                  <a:lnTo>
                    <a:pt x="432" y="455"/>
                  </a:lnTo>
                  <a:lnTo>
                    <a:pt x="448" y="447"/>
                  </a:lnTo>
                  <a:lnTo>
                    <a:pt x="463" y="438"/>
                  </a:lnTo>
                  <a:lnTo>
                    <a:pt x="477" y="429"/>
                  </a:lnTo>
                  <a:lnTo>
                    <a:pt x="490" y="419"/>
                  </a:lnTo>
                  <a:lnTo>
                    <a:pt x="502" y="407"/>
                  </a:lnTo>
                  <a:lnTo>
                    <a:pt x="512" y="395"/>
                  </a:lnTo>
                  <a:lnTo>
                    <a:pt x="522" y="382"/>
                  </a:lnTo>
                  <a:lnTo>
                    <a:pt x="530" y="367"/>
                  </a:lnTo>
                  <a:lnTo>
                    <a:pt x="537" y="352"/>
                  </a:lnTo>
                  <a:lnTo>
                    <a:pt x="543" y="336"/>
                  </a:lnTo>
                  <a:lnTo>
                    <a:pt x="547" y="318"/>
                  </a:lnTo>
                  <a:lnTo>
                    <a:pt x="551" y="299"/>
                  </a:lnTo>
                  <a:lnTo>
                    <a:pt x="554" y="278"/>
                  </a:lnTo>
                  <a:lnTo>
                    <a:pt x="556" y="257"/>
                  </a:lnTo>
                  <a:lnTo>
                    <a:pt x="557" y="235"/>
                  </a:lnTo>
                  <a:lnTo>
                    <a:pt x="556" y="211"/>
                  </a:lnTo>
                  <a:lnTo>
                    <a:pt x="554" y="185"/>
                  </a:lnTo>
                  <a:lnTo>
                    <a:pt x="552" y="158"/>
                  </a:lnTo>
                  <a:lnTo>
                    <a:pt x="690" y="17"/>
                  </a:lnTo>
                  <a:lnTo>
                    <a:pt x="699" y="17"/>
                  </a:lnTo>
                  <a:lnTo>
                    <a:pt x="723" y="17"/>
                  </a:lnTo>
                  <a:lnTo>
                    <a:pt x="759" y="17"/>
                  </a:lnTo>
                  <a:lnTo>
                    <a:pt x="806" y="16"/>
                  </a:lnTo>
                  <a:lnTo>
                    <a:pt x="859" y="13"/>
                  </a:lnTo>
                  <a:lnTo>
                    <a:pt x="920" y="10"/>
                  </a:lnTo>
                  <a:lnTo>
                    <a:pt x="983" y="6"/>
                  </a:lnTo>
                  <a:lnTo>
                    <a:pt x="1047" y="0"/>
                  </a:lnTo>
                  <a:lnTo>
                    <a:pt x="1416" y="421"/>
                  </a:lnTo>
                  <a:lnTo>
                    <a:pt x="1416" y="521"/>
                  </a:lnTo>
                  <a:lnTo>
                    <a:pt x="1471" y="545"/>
                  </a:lnTo>
                  <a:lnTo>
                    <a:pt x="1661" y="792"/>
                  </a:lnTo>
                  <a:lnTo>
                    <a:pt x="1651" y="796"/>
                  </a:lnTo>
                  <a:lnTo>
                    <a:pt x="1641" y="801"/>
                  </a:lnTo>
                  <a:lnTo>
                    <a:pt x="1627" y="805"/>
                  </a:lnTo>
                  <a:lnTo>
                    <a:pt x="1613" y="809"/>
                  </a:lnTo>
                  <a:lnTo>
                    <a:pt x="1596" y="812"/>
                  </a:lnTo>
                  <a:lnTo>
                    <a:pt x="1578" y="815"/>
                  </a:lnTo>
                  <a:lnTo>
                    <a:pt x="1558" y="817"/>
                  </a:lnTo>
                  <a:lnTo>
                    <a:pt x="1536" y="818"/>
                  </a:lnTo>
                  <a:lnTo>
                    <a:pt x="1512" y="818"/>
                  </a:lnTo>
                  <a:lnTo>
                    <a:pt x="1488" y="817"/>
                  </a:lnTo>
                  <a:lnTo>
                    <a:pt x="1461" y="815"/>
                  </a:lnTo>
                  <a:lnTo>
                    <a:pt x="1432" y="810"/>
                  </a:lnTo>
                  <a:lnTo>
                    <a:pt x="1402" y="804"/>
                  </a:lnTo>
                  <a:lnTo>
                    <a:pt x="1370" y="796"/>
                  </a:lnTo>
                  <a:lnTo>
                    <a:pt x="1336" y="787"/>
                  </a:lnTo>
                  <a:lnTo>
                    <a:pt x="1301" y="7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Freeform 232"/>
            <p:cNvSpPr/>
            <p:nvPr/>
          </p:nvSpPr>
          <p:spPr>
            <a:xfrm>
              <a:off x="8296200" y="3913200"/>
              <a:ext cx="106200" cy="1141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98" h="697">
                  <a:moveTo>
                    <a:pt x="146" y="426"/>
                  </a:moveTo>
                  <a:lnTo>
                    <a:pt x="144" y="418"/>
                  </a:lnTo>
                  <a:lnTo>
                    <a:pt x="143" y="411"/>
                  </a:lnTo>
                  <a:lnTo>
                    <a:pt x="143" y="404"/>
                  </a:lnTo>
                  <a:lnTo>
                    <a:pt x="144" y="397"/>
                  </a:lnTo>
                  <a:lnTo>
                    <a:pt x="146" y="390"/>
                  </a:lnTo>
                  <a:lnTo>
                    <a:pt x="148" y="383"/>
                  </a:lnTo>
                  <a:lnTo>
                    <a:pt x="150" y="377"/>
                  </a:lnTo>
                  <a:lnTo>
                    <a:pt x="155" y="371"/>
                  </a:lnTo>
                  <a:lnTo>
                    <a:pt x="158" y="365"/>
                  </a:lnTo>
                  <a:lnTo>
                    <a:pt x="164" y="360"/>
                  </a:lnTo>
                  <a:lnTo>
                    <a:pt x="170" y="355"/>
                  </a:lnTo>
                  <a:lnTo>
                    <a:pt x="177" y="351"/>
                  </a:lnTo>
                  <a:lnTo>
                    <a:pt x="185" y="348"/>
                  </a:lnTo>
                  <a:lnTo>
                    <a:pt x="195" y="344"/>
                  </a:lnTo>
                  <a:lnTo>
                    <a:pt x="204" y="342"/>
                  </a:lnTo>
                  <a:lnTo>
                    <a:pt x="215" y="340"/>
                  </a:lnTo>
                  <a:lnTo>
                    <a:pt x="216" y="332"/>
                  </a:lnTo>
                  <a:lnTo>
                    <a:pt x="219" y="309"/>
                  </a:lnTo>
                  <a:lnTo>
                    <a:pt x="223" y="278"/>
                  </a:lnTo>
                  <a:lnTo>
                    <a:pt x="224" y="239"/>
                  </a:lnTo>
                  <a:lnTo>
                    <a:pt x="220" y="226"/>
                  </a:lnTo>
                  <a:lnTo>
                    <a:pt x="215" y="216"/>
                  </a:lnTo>
                  <a:lnTo>
                    <a:pt x="209" y="205"/>
                  </a:lnTo>
                  <a:lnTo>
                    <a:pt x="202" y="195"/>
                  </a:lnTo>
                  <a:lnTo>
                    <a:pt x="194" y="186"/>
                  </a:lnTo>
                  <a:lnTo>
                    <a:pt x="184" y="176"/>
                  </a:lnTo>
                  <a:lnTo>
                    <a:pt x="175" y="167"/>
                  </a:lnTo>
                  <a:lnTo>
                    <a:pt x="164" y="159"/>
                  </a:lnTo>
                  <a:lnTo>
                    <a:pt x="142" y="143"/>
                  </a:lnTo>
                  <a:lnTo>
                    <a:pt x="119" y="129"/>
                  </a:lnTo>
                  <a:lnTo>
                    <a:pt x="95" y="115"/>
                  </a:lnTo>
                  <a:lnTo>
                    <a:pt x="73" y="103"/>
                  </a:lnTo>
                  <a:lnTo>
                    <a:pt x="52" y="91"/>
                  </a:lnTo>
                  <a:lnTo>
                    <a:pt x="33" y="79"/>
                  </a:lnTo>
                  <a:lnTo>
                    <a:pt x="25" y="73"/>
                  </a:lnTo>
                  <a:lnTo>
                    <a:pt x="17" y="68"/>
                  </a:lnTo>
                  <a:lnTo>
                    <a:pt x="11" y="62"/>
                  </a:lnTo>
                  <a:lnTo>
                    <a:pt x="7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8" y="15"/>
                  </a:lnTo>
                  <a:lnTo>
                    <a:pt x="14" y="8"/>
                  </a:lnTo>
                  <a:lnTo>
                    <a:pt x="22" y="0"/>
                  </a:lnTo>
                  <a:lnTo>
                    <a:pt x="57" y="12"/>
                  </a:lnTo>
                  <a:lnTo>
                    <a:pt x="91" y="21"/>
                  </a:lnTo>
                  <a:lnTo>
                    <a:pt x="123" y="29"/>
                  </a:lnTo>
                  <a:lnTo>
                    <a:pt x="153" y="35"/>
                  </a:lnTo>
                  <a:lnTo>
                    <a:pt x="182" y="40"/>
                  </a:lnTo>
                  <a:lnTo>
                    <a:pt x="209" y="42"/>
                  </a:lnTo>
                  <a:lnTo>
                    <a:pt x="233" y="43"/>
                  </a:lnTo>
                  <a:lnTo>
                    <a:pt x="257" y="43"/>
                  </a:lnTo>
                  <a:lnTo>
                    <a:pt x="279" y="42"/>
                  </a:lnTo>
                  <a:lnTo>
                    <a:pt x="299" y="40"/>
                  </a:lnTo>
                  <a:lnTo>
                    <a:pt x="317" y="37"/>
                  </a:lnTo>
                  <a:lnTo>
                    <a:pt x="334" y="34"/>
                  </a:lnTo>
                  <a:lnTo>
                    <a:pt x="348" y="30"/>
                  </a:lnTo>
                  <a:lnTo>
                    <a:pt x="362" y="26"/>
                  </a:lnTo>
                  <a:lnTo>
                    <a:pt x="372" y="21"/>
                  </a:lnTo>
                  <a:lnTo>
                    <a:pt x="382" y="17"/>
                  </a:lnTo>
                  <a:lnTo>
                    <a:pt x="586" y="233"/>
                  </a:lnTo>
                  <a:lnTo>
                    <a:pt x="586" y="371"/>
                  </a:lnTo>
                  <a:lnTo>
                    <a:pt x="565" y="368"/>
                  </a:lnTo>
                  <a:lnTo>
                    <a:pt x="544" y="364"/>
                  </a:lnTo>
                  <a:lnTo>
                    <a:pt x="524" y="362"/>
                  </a:lnTo>
                  <a:lnTo>
                    <a:pt x="504" y="361"/>
                  </a:lnTo>
                  <a:lnTo>
                    <a:pt x="487" y="361"/>
                  </a:lnTo>
                  <a:lnTo>
                    <a:pt x="468" y="361"/>
                  </a:lnTo>
                  <a:lnTo>
                    <a:pt x="452" y="361"/>
                  </a:lnTo>
                  <a:lnTo>
                    <a:pt x="436" y="363"/>
                  </a:lnTo>
                  <a:lnTo>
                    <a:pt x="421" y="364"/>
                  </a:lnTo>
                  <a:lnTo>
                    <a:pt x="408" y="368"/>
                  </a:lnTo>
                  <a:lnTo>
                    <a:pt x="397" y="370"/>
                  </a:lnTo>
                  <a:lnTo>
                    <a:pt x="386" y="375"/>
                  </a:lnTo>
                  <a:lnTo>
                    <a:pt x="377" y="378"/>
                  </a:lnTo>
                  <a:lnTo>
                    <a:pt x="369" y="383"/>
                  </a:lnTo>
                  <a:lnTo>
                    <a:pt x="363" y="389"/>
                  </a:lnTo>
                  <a:lnTo>
                    <a:pt x="359" y="393"/>
                  </a:lnTo>
                  <a:lnTo>
                    <a:pt x="357" y="400"/>
                  </a:lnTo>
                  <a:lnTo>
                    <a:pt x="357" y="406"/>
                  </a:lnTo>
                  <a:lnTo>
                    <a:pt x="358" y="412"/>
                  </a:lnTo>
                  <a:lnTo>
                    <a:pt x="362" y="419"/>
                  </a:lnTo>
                  <a:lnTo>
                    <a:pt x="368" y="426"/>
                  </a:lnTo>
                  <a:lnTo>
                    <a:pt x="376" y="434"/>
                  </a:lnTo>
                  <a:lnTo>
                    <a:pt x="386" y="441"/>
                  </a:lnTo>
                  <a:lnTo>
                    <a:pt x="400" y="448"/>
                  </a:lnTo>
                  <a:lnTo>
                    <a:pt x="415" y="457"/>
                  </a:lnTo>
                  <a:lnTo>
                    <a:pt x="433" y="464"/>
                  </a:lnTo>
                  <a:lnTo>
                    <a:pt x="454" y="472"/>
                  </a:lnTo>
                  <a:lnTo>
                    <a:pt x="477" y="480"/>
                  </a:lnTo>
                  <a:lnTo>
                    <a:pt x="504" y="487"/>
                  </a:lnTo>
                  <a:lnTo>
                    <a:pt x="533" y="495"/>
                  </a:lnTo>
                  <a:lnTo>
                    <a:pt x="565" y="502"/>
                  </a:lnTo>
                  <a:lnTo>
                    <a:pt x="601" y="509"/>
                  </a:lnTo>
                  <a:lnTo>
                    <a:pt x="615" y="513"/>
                  </a:lnTo>
                  <a:lnTo>
                    <a:pt x="627" y="516"/>
                  </a:lnTo>
                  <a:lnTo>
                    <a:pt x="639" y="520"/>
                  </a:lnTo>
                  <a:lnTo>
                    <a:pt x="649" y="524"/>
                  </a:lnTo>
                  <a:lnTo>
                    <a:pt x="658" y="528"/>
                  </a:lnTo>
                  <a:lnTo>
                    <a:pt x="665" y="532"/>
                  </a:lnTo>
                  <a:lnTo>
                    <a:pt x="672" y="537"/>
                  </a:lnTo>
                  <a:lnTo>
                    <a:pt x="678" y="542"/>
                  </a:lnTo>
                  <a:lnTo>
                    <a:pt x="684" y="548"/>
                  </a:lnTo>
                  <a:lnTo>
                    <a:pt x="688" y="552"/>
                  </a:lnTo>
                  <a:lnTo>
                    <a:pt x="691" y="557"/>
                  </a:lnTo>
                  <a:lnTo>
                    <a:pt x="693" y="563"/>
                  </a:lnTo>
                  <a:lnTo>
                    <a:pt x="697" y="573"/>
                  </a:lnTo>
                  <a:lnTo>
                    <a:pt x="698" y="584"/>
                  </a:lnTo>
                  <a:lnTo>
                    <a:pt x="697" y="593"/>
                  </a:lnTo>
                  <a:lnTo>
                    <a:pt x="695" y="603"/>
                  </a:lnTo>
                  <a:lnTo>
                    <a:pt x="692" y="611"/>
                  </a:lnTo>
                  <a:lnTo>
                    <a:pt x="689" y="619"/>
                  </a:lnTo>
                  <a:lnTo>
                    <a:pt x="682" y="629"/>
                  </a:lnTo>
                  <a:lnTo>
                    <a:pt x="678" y="633"/>
                  </a:lnTo>
                  <a:lnTo>
                    <a:pt x="462" y="697"/>
                  </a:lnTo>
                  <a:lnTo>
                    <a:pt x="146" y="4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Freeform 233"/>
            <p:cNvSpPr/>
            <p:nvPr/>
          </p:nvSpPr>
          <p:spPr>
            <a:xfrm>
              <a:off x="8316720" y="3822480"/>
              <a:ext cx="149040" cy="583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83" h="354">
                  <a:moveTo>
                    <a:pt x="55" y="323"/>
                  </a:moveTo>
                  <a:lnTo>
                    <a:pt x="596" y="268"/>
                  </a:lnTo>
                  <a:lnTo>
                    <a:pt x="609" y="271"/>
                  </a:lnTo>
                  <a:lnTo>
                    <a:pt x="644" y="281"/>
                  </a:lnTo>
                  <a:lnTo>
                    <a:pt x="666" y="285"/>
                  </a:lnTo>
                  <a:lnTo>
                    <a:pt x="691" y="291"/>
                  </a:lnTo>
                  <a:lnTo>
                    <a:pt x="718" y="296"/>
                  </a:lnTo>
                  <a:lnTo>
                    <a:pt x="743" y="299"/>
                  </a:lnTo>
                  <a:lnTo>
                    <a:pt x="752" y="301"/>
                  </a:lnTo>
                  <a:lnTo>
                    <a:pt x="761" y="303"/>
                  </a:lnTo>
                  <a:lnTo>
                    <a:pt x="769" y="306"/>
                  </a:lnTo>
                  <a:lnTo>
                    <a:pt x="777" y="310"/>
                  </a:lnTo>
                  <a:lnTo>
                    <a:pt x="792" y="319"/>
                  </a:lnTo>
                  <a:lnTo>
                    <a:pt x="806" y="329"/>
                  </a:lnTo>
                  <a:lnTo>
                    <a:pt x="827" y="346"/>
                  </a:lnTo>
                  <a:lnTo>
                    <a:pt x="836" y="354"/>
                  </a:lnTo>
                  <a:lnTo>
                    <a:pt x="857" y="347"/>
                  </a:lnTo>
                  <a:lnTo>
                    <a:pt x="881" y="340"/>
                  </a:lnTo>
                  <a:lnTo>
                    <a:pt x="909" y="333"/>
                  </a:lnTo>
                  <a:lnTo>
                    <a:pt x="936" y="325"/>
                  </a:lnTo>
                  <a:lnTo>
                    <a:pt x="948" y="320"/>
                  </a:lnTo>
                  <a:lnTo>
                    <a:pt x="959" y="316"/>
                  </a:lnTo>
                  <a:lnTo>
                    <a:pt x="969" y="310"/>
                  </a:lnTo>
                  <a:lnTo>
                    <a:pt x="976" y="304"/>
                  </a:lnTo>
                  <a:lnTo>
                    <a:pt x="978" y="302"/>
                  </a:lnTo>
                  <a:lnTo>
                    <a:pt x="980" y="298"/>
                  </a:lnTo>
                  <a:lnTo>
                    <a:pt x="982" y="295"/>
                  </a:lnTo>
                  <a:lnTo>
                    <a:pt x="983" y="291"/>
                  </a:lnTo>
                  <a:lnTo>
                    <a:pt x="982" y="288"/>
                  </a:lnTo>
                  <a:lnTo>
                    <a:pt x="982" y="284"/>
                  </a:lnTo>
                  <a:lnTo>
                    <a:pt x="979" y="281"/>
                  </a:lnTo>
                  <a:lnTo>
                    <a:pt x="977" y="276"/>
                  </a:lnTo>
                  <a:lnTo>
                    <a:pt x="970" y="265"/>
                  </a:lnTo>
                  <a:lnTo>
                    <a:pt x="965" y="255"/>
                  </a:lnTo>
                  <a:lnTo>
                    <a:pt x="962" y="244"/>
                  </a:lnTo>
                  <a:lnTo>
                    <a:pt x="961" y="234"/>
                  </a:lnTo>
                  <a:lnTo>
                    <a:pt x="962" y="213"/>
                  </a:lnTo>
                  <a:lnTo>
                    <a:pt x="965" y="194"/>
                  </a:lnTo>
                  <a:lnTo>
                    <a:pt x="966" y="185"/>
                  </a:lnTo>
                  <a:lnTo>
                    <a:pt x="968" y="177"/>
                  </a:lnTo>
                  <a:lnTo>
                    <a:pt x="968" y="170"/>
                  </a:lnTo>
                  <a:lnTo>
                    <a:pt x="966" y="164"/>
                  </a:lnTo>
                  <a:lnTo>
                    <a:pt x="964" y="159"/>
                  </a:lnTo>
                  <a:lnTo>
                    <a:pt x="961" y="156"/>
                  </a:lnTo>
                  <a:lnTo>
                    <a:pt x="954" y="153"/>
                  </a:lnTo>
                  <a:lnTo>
                    <a:pt x="945" y="152"/>
                  </a:lnTo>
                  <a:lnTo>
                    <a:pt x="933" y="153"/>
                  </a:lnTo>
                  <a:lnTo>
                    <a:pt x="922" y="155"/>
                  </a:lnTo>
                  <a:lnTo>
                    <a:pt x="910" y="157"/>
                  </a:lnTo>
                  <a:lnTo>
                    <a:pt x="900" y="159"/>
                  </a:lnTo>
                  <a:lnTo>
                    <a:pt x="878" y="167"/>
                  </a:lnTo>
                  <a:lnTo>
                    <a:pt x="854" y="176"/>
                  </a:lnTo>
                  <a:lnTo>
                    <a:pt x="831" y="184"/>
                  </a:lnTo>
                  <a:lnTo>
                    <a:pt x="805" y="192"/>
                  </a:lnTo>
                  <a:lnTo>
                    <a:pt x="790" y="194"/>
                  </a:lnTo>
                  <a:lnTo>
                    <a:pt x="776" y="197"/>
                  </a:lnTo>
                  <a:lnTo>
                    <a:pt x="760" y="198"/>
                  </a:lnTo>
                  <a:lnTo>
                    <a:pt x="743" y="199"/>
                  </a:lnTo>
                  <a:lnTo>
                    <a:pt x="727" y="198"/>
                  </a:lnTo>
                  <a:lnTo>
                    <a:pt x="713" y="194"/>
                  </a:lnTo>
                  <a:lnTo>
                    <a:pt x="701" y="190"/>
                  </a:lnTo>
                  <a:lnTo>
                    <a:pt x="691" y="185"/>
                  </a:lnTo>
                  <a:lnTo>
                    <a:pt x="672" y="170"/>
                  </a:lnTo>
                  <a:lnTo>
                    <a:pt x="655" y="155"/>
                  </a:lnTo>
                  <a:lnTo>
                    <a:pt x="645" y="146"/>
                  </a:lnTo>
                  <a:lnTo>
                    <a:pt x="636" y="139"/>
                  </a:lnTo>
                  <a:lnTo>
                    <a:pt x="624" y="132"/>
                  </a:lnTo>
                  <a:lnTo>
                    <a:pt x="613" y="126"/>
                  </a:lnTo>
                  <a:lnTo>
                    <a:pt x="599" y="123"/>
                  </a:lnTo>
                  <a:lnTo>
                    <a:pt x="582" y="119"/>
                  </a:lnTo>
                  <a:lnTo>
                    <a:pt x="563" y="119"/>
                  </a:lnTo>
                  <a:lnTo>
                    <a:pt x="541" y="121"/>
                  </a:lnTo>
                  <a:lnTo>
                    <a:pt x="548" y="110"/>
                  </a:lnTo>
                  <a:lnTo>
                    <a:pt x="554" y="100"/>
                  </a:lnTo>
                  <a:lnTo>
                    <a:pt x="558" y="89"/>
                  </a:lnTo>
                  <a:lnTo>
                    <a:pt x="560" y="80"/>
                  </a:lnTo>
                  <a:lnTo>
                    <a:pt x="561" y="72"/>
                  </a:lnTo>
                  <a:lnTo>
                    <a:pt x="561" y="62"/>
                  </a:lnTo>
                  <a:lnTo>
                    <a:pt x="558" y="55"/>
                  </a:lnTo>
                  <a:lnTo>
                    <a:pt x="554" y="47"/>
                  </a:lnTo>
                  <a:lnTo>
                    <a:pt x="548" y="40"/>
                  </a:lnTo>
                  <a:lnTo>
                    <a:pt x="540" y="33"/>
                  </a:lnTo>
                  <a:lnTo>
                    <a:pt x="530" y="27"/>
                  </a:lnTo>
                  <a:lnTo>
                    <a:pt x="518" y="21"/>
                  </a:lnTo>
                  <a:lnTo>
                    <a:pt x="504" y="16"/>
                  </a:lnTo>
                  <a:lnTo>
                    <a:pt x="489" y="10"/>
                  </a:lnTo>
                  <a:lnTo>
                    <a:pt x="470" y="5"/>
                  </a:lnTo>
                  <a:lnTo>
                    <a:pt x="449" y="0"/>
                  </a:lnTo>
                  <a:lnTo>
                    <a:pt x="109" y="158"/>
                  </a:lnTo>
                  <a:lnTo>
                    <a:pt x="0" y="199"/>
                  </a:lnTo>
                  <a:lnTo>
                    <a:pt x="0" y="299"/>
                  </a:lnTo>
                  <a:lnTo>
                    <a:pt x="55" y="3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Freeform 234"/>
            <p:cNvSpPr/>
            <p:nvPr/>
          </p:nvSpPr>
          <p:spPr>
            <a:xfrm>
              <a:off x="8175600" y="3982680"/>
              <a:ext cx="188280" cy="66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244" h="409">
                  <a:moveTo>
                    <a:pt x="933" y="193"/>
                  </a:moveTo>
                  <a:lnTo>
                    <a:pt x="971" y="223"/>
                  </a:lnTo>
                  <a:lnTo>
                    <a:pt x="1011" y="254"/>
                  </a:lnTo>
                  <a:lnTo>
                    <a:pt x="1053" y="283"/>
                  </a:lnTo>
                  <a:lnTo>
                    <a:pt x="1095" y="313"/>
                  </a:lnTo>
                  <a:lnTo>
                    <a:pt x="1137" y="341"/>
                  </a:lnTo>
                  <a:lnTo>
                    <a:pt x="1176" y="367"/>
                  </a:lnTo>
                  <a:lnTo>
                    <a:pt x="1213" y="389"/>
                  </a:lnTo>
                  <a:lnTo>
                    <a:pt x="1244" y="409"/>
                  </a:lnTo>
                  <a:lnTo>
                    <a:pt x="1065" y="401"/>
                  </a:lnTo>
                  <a:lnTo>
                    <a:pt x="1063" y="396"/>
                  </a:lnTo>
                  <a:lnTo>
                    <a:pt x="1060" y="393"/>
                  </a:lnTo>
                  <a:lnTo>
                    <a:pt x="1056" y="390"/>
                  </a:lnTo>
                  <a:lnTo>
                    <a:pt x="1051" y="389"/>
                  </a:lnTo>
                  <a:lnTo>
                    <a:pt x="1041" y="386"/>
                  </a:lnTo>
                  <a:lnTo>
                    <a:pt x="1028" y="384"/>
                  </a:lnTo>
                  <a:lnTo>
                    <a:pt x="998" y="384"/>
                  </a:lnTo>
                  <a:lnTo>
                    <a:pt x="964" y="383"/>
                  </a:lnTo>
                  <a:lnTo>
                    <a:pt x="945" y="382"/>
                  </a:lnTo>
                  <a:lnTo>
                    <a:pt x="926" y="377"/>
                  </a:lnTo>
                  <a:lnTo>
                    <a:pt x="917" y="375"/>
                  </a:lnTo>
                  <a:lnTo>
                    <a:pt x="908" y="372"/>
                  </a:lnTo>
                  <a:lnTo>
                    <a:pt x="898" y="367"/>
                  </a:lnTo>
                  <a:lnTo>
                    <a:pt x="890" y="362"/>
                  </a:lnTo>
                  <a:lnTo>
                    <a:pt x="881" y="356"/>
                  </a:lnTo>
                  <a:lnTo>
                    <a:pt x="873" y="349"/>
                  </a:lnTo>
                  <a:lnTo>
                    <a:pt x="863" y="341"/>
                  </a:lnTo>
                  <a:lnTo>
                    <a:pt x="856" y="333"/>
                  </a:lnTo>
                  <a:lnTo>
                    <a:pt x="848" y="323"/>
                  </a:lnTo>
                  <a:lnTo>
                    <a:pt x="840" y="312"/>
                  </a:lnTo>
                  <a:lnTo>
                    <a:pt x="833" y="299"/>
                  </a:lnTo>
                  <a:lnTo>
                    <a:pt x="827" y="285"/>
                  </a:lnTo>
                  <a:lnTo>
                    <a:pt x="815" y="279"/>
                  </a:lnTo>
                  <a:lnTo>
                    <a:pt x="806" y="272"/>
                  </a:lnTo>
                  <a:lnTo>
                    <a:pt x="799" y="266"/>
                  </a:lnTo>
                  <a:lnTo>
                    <a:pt x="793" y="259"/>
                  </a:lnTo>
                  <a:lnTo>
                    <a:pt x="784" y="247"/>
                  </a:lnTo>
                  <a:lnTo>
                    <a:pt x="777" y="235"/>
                  </a:lnTo>
                  <a:lnTo>
                    <a:pt x="775" y="229"/>
                  </a:lnTo>
                  <a:lnTo>
                    <a:pt x="771" y="223"/>
                  </a:lnTo>
                  <a:lnTo>
                    <a:pt x="768" y="219"/>
                  </a:lnTo>
                  <a:lnTo>
                    <a:pt x="763" y="215"/>
                  </a:lnTo>
                  <a:lnTo>
                    <a:pt x="758" y="212"/>
                  </a:lnTo>
                  <a:lnTo>
                    <a:pt x="751" y="209"/>
                  </a:lnTo>
                  <a:lnTo>
                    <a:pt x="744" y="208"/>
                  </a:lnTo>
                  <a:lnTo>
                    <a:pt x="735" y="207"/>
                  </a:lnTo>
                  <a:lnTo>
                    <a:pt x="723" y="209"/>
                  </a:lnTo>
                  <a:lnTo>
                    <a:pt x="713" y="209"/>
                  </a:lnTo>
                  <a:lnTo>
                    <a:pt x="702" y="208"/>
                  </a:lnTo>
                  <a:lnTo>
                    <a:pt x="692" y="205"/>
                  </a:lnTo>
                  <a:lnTo>
                    <a:pt x="668" y="195"/>
                  </a:lnTo>
                  <a:lnTo>
                    <a:pt x="639" y="184"/>
                  </a:lnTo>
                  <a:lnTo>
                    <a:pt x="622" y="178"/>
                  </a:lnTo>
                  <a:lnTo>
                    <a:pt x="601" y="172"/>
                  </a:lnTo>
                  <a:lnTo>
                    <a:pt x="577" y="168"/>
                  </a:lnTo>
                  <a:lnTo>
                    <a:pt x="549" y="165"/>
                  </a:lnTo>
                  <a:lnTo>
                    <a:pt x="518" y="164"/>
                  </a:lnTo>
                  <a:lnTo>
                    <a:pt x="481" y="164"/>
                  </a:lnTo>
                  <a:lnTo>
                    <a:pt x="440" y="165"/>
                  </a:lnTo>
                  <a:lnTo>
                    <a:pt x="395" y="170"/>
                  </a:lnTo>
                  <a:lnTo>
                    <a:pt x="370" y="168"/>
                  </a:lnTo>
                  <a:lnTo>
                    <a:pt x="354" y="167"/>
                  </a:lnTo>
                  <a:lnTo>
                    <a:pt x="341" y="168"/>
                  </a:lnTo>
                  <a:lnTo>
                    <a:pt x="330" y="168"/>
                  </a:lnTo>
                  <a:lnTo>
                    <a:pt x="317" y="170"/>
                  </a:lnTo>
                  <a:lnTo>
                    <a:pt x="297" y="168"/>
                  </a:lnTo>
                  <a:lnTo>
                    <a:pt x="270" y="166"/>
                  </a:lnTo>
                  <a:lnTo>
                    <a:pt x="230" y="161"/>
                  </a:lnTo>
                  <a:lnTo>
                    <a:pt x="220" y="160"/>
                  </a:lnTo>
                  <a:lnTo>
                    <a:pt x="209" y="160"/>
                  </a:lnTo>
                  <a:lnTo>
                    <a:pt x="199" y="161"/>
                  </a:lnTo>
                  <a:lnTo>
                    <a:pt x="191" y="164"/>
                  </a:lnTo>
                  <a:lnTo>
                    <a:pt x="182" y="166"/>
                  </a:lnTo>
                  <a:lnTo>
                    <a:pt x="174" y="170"/>
                  </a:lnTo>
                  <a:lnTo>
                    <a:pt x="167" y="174"/>
                  </a:lnTo>
                  <a:lnTo>
                    <a:pt x="160" y="178"/>
                  </a:lnTo>
                  <a:lnTo>
                    <a:pt x="137" y="198"/>
                  </a:lnTo>
                  <a:lnTo>
                    <a:pt x="117" y="215"/>
                  </a:lnTo>
                  <a:lnTo>
                    <a:pt x="112" y="217"/>
                  </a:lnTo>
                  <a:lnTo>
                    <a:pt x="108" y="221"/>
                  </a:lnTo>
                  <a:lnTo>
                    <a:pt x="103" y="223"/>
                  </a:lnTo>
                  <a:lnTo>
                    <a:pt x="97" y="224"/>
                  </a:lnTo>
                  <a:lnTo>
                    <a:pt x="91" y="224"/>
                  </a:lnTo>
                  <a:lnTo>
                    <a:pt x="85" y="223"/>
                  </a:lnTo>
                  <a:lnTo>
                    <a:pt x="80" y="222"/>
                  </a:lnTo>
                  <a:lnTo>
                    <a:pt x="74" y="219"/>
                  </a:lnTo>
                  <a:lnTo>
                    <a:pt x="67" y="214"/>
                  </a:lnTo>
                  <a:lnTo>
                    <a:pt x="59" y="209"/>
                  </a:lnTo>
                  <a:lnTo>
                    <a:pt x="50" y="201"/>
                  </a:lnTo>
                  <a:lnTo>
                    <a:pt x="42" y="193"/>
                  </a:lnTo>
                  <a:lnTo>
                    <a:pt x="22" y="170"/>
                  </a:lnTo>
                  <a:lnTo>
                    <a:pt x="0" y="138"/>
                  </a:lnTo>
                  <a:lnTo>
                    <a:pt x="942" y="0"/>
                  </a:lnTo>
                  <a:lnTo>
                    <a:pt x="1057" y="98"/>
                  </a:lnTo>
                  <a:lnTo>
                    <a:pt x="1025" y="110"/>
                  </a:lnTo>
                  <a:lnTo>
                    <a:pt x="995" y="124"/>
                  </a:lnTo>
                  <a:lnTo>
                    <a:pt x="983" y="131"/>
                  </a:lnTo>
                  <a:lnTo>
                    <a:pt x="971" y="138"/>
                  </a:lnTo>
                  <a:lnTo>
                    <a:pt x="961" y="144"/>
                  </a:lnTo>
                  <a:lnTo>
                    <a:pt x="952" y="151"/>
                  </a:lnTo>
                  <a:lnTo>
                    <a:pt x="944" y="158"/>
                  </a:lnTo>
                  <a:lnTo>
                    <a:pt x="938" y="164"/>
                  </a:lnTo>
                  <a:lnTo>
                    <a:pt x="933" y="170"/>
                  </a:lnTo>
                  <a:lnTo>
                    <a:pt x="930" y="175"/>
                  </a:lnTo>
                  <a:lnTo>
                    <a:pt x="928" y="180"/>
                  </a:lnTo>
                  <a:lnTo>
                    <a:pt x="928" y="185"/>
                  </a:lnTo>
                  <a:lnTo>
                    <a:pt x="930" y="189"/>
                  </a:lnTo>
                  <a:lnTo>
                    <a:pt x="933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Freeform 235"/>
            <p:cNvSpPr/>
            <p:nvPr/>
          </p:nvSpPr>
          <p:spPr>
            <a:xfrm>
              <a:off x="8325000" y="3868200"/>
              <a:ext cx="87120" cy="471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73" h="294">
                  <a:moveTo>
                    <a:pt x="573" y="116"/>
                  </a:moveTo>
                  <a:lnTo>
                    <a:pt x="547" y="124"/>
                  </a:lnTo>
                  <a:lnTo>
                    <a:pt x="521" y="132"/>
                  </a:lnTo>
                  <a:lnTo>
                    <a:pt x="496" y="140"/>
                  </a:lnTo>
                  <a:lnTo>
                    <a:pt x="470" y="150"/>
                  </a:lnTo>
                  <a:lnTo>
                    <a:pt x="442" y="159"/>
                  </a:lnTo>
                  <a:lnTo>
                    <a:pt x="413" y="168"/>
                  </a:lnTo>
                  <a:lnTo>
                    <a:pt x="381" y="178"/>
                  </a:lnTo>
                  <a:lnTo>
                    <a:pt x="348" y="188"/>
                  </a:lnTo>
                  <a:lnTo>
                    <a:pt x="351" y="194"/>
                  </a:lnTo>
                  <a:lnTo>
                    <a:pt x="352" y="201"/>
                  </a:lnTo>
                  <a:lnTo>
                    <a:pt x="352" y="208"/>
                  </a:lnTo>
                  <a:lnTo>
                    <a:pt x="351" y="214"/>
                  </a:lnTo>
                  <a:lnTo>
                    <a:pt x="348" y="220"/>
                  </a:lnTo>
                  <a:lnTo>
                    <a:pt x="346" y="225"/>
                  </a:lnTo>
                  <a:lnTo>
                    <a:pt x="341" y="230"/>
                  </a:lnTo>
                  <a:lnTo>
                    <a:pt x="337" y="236"/>
                  </a:lnTo>
                  <a:lnTo>
                    <a:pt x="326" y="245"/>
                  </a:lnTo>
                  <a:lnTo>
                    <a:pt x="312" y="255"/>
                  </a:lnTo>
                  <a:lnTo>
                    <a:pt x="297" y="262"/>
                  </a:lnTo>
                  <a:lnTo>
                    <a:pt x="281" y="269"/>
                  </a:lnTo>
                  <a:lnTo>
                    <a:pt x="248" y="280"/>
                  </a:lnTo>
                  <a:lnTo>
                    <a:pt x="219" y="289"/>
                  </a:lnTo>
                  <a:lnTo>
                    <a:pt x="198" y="292"/>
                  </a:lnTo>
                  <a:lnTo>
                    <a:pt x="190" y="294"/>
                  </a:lnTo>
                  <a:lnTo>
                    <a:pt x="0" y="47"/>
                  </a:lnTo>
                  <a:lnTo>
                    <a:pt x="478" y="0"/>
                  </a:lnTo>
                  <a:lnTo>
                    <a:pt x="573" y="1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Freeform 236"/>
            <p:cNvSpPr/>
            <p:nvPr/>
          </p:nvSpPr>
          <p:spPr>
            <a:xfrm>
              <a:off x="5902200" y="3721320"/>
              <a:ext cx="398160" cy="366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4755" h="12586">
                  <a:moveTo>
                    <a:pt x="10804" y="9205"/>
                  </a:moveTo>
                  <a:lnTo>
                    <a:pt x="10829" y="9193"/>
                  </a:lnTo>
                  <a:lnTo>
                    <a:pt x="10894" y="9163"/>
                  </a:lnTo>
                  <a:lnTo>
                    <a:pt x="10939" y="9144"/>
                  </a:lnTo>
                  <a:lnTo>
                    <a:pt x="10988" y="9123"/>
                  </a:lnTo>
                  <a:lnTo>
                    <a:pt x="11014" y="9113"/>
                  </a:lnTo>
                  <a:lnTo>
                    <a:pt x="11041" y="9104"/>
                  </a:lnTo>
                  <a:lnTo>
                    <a:pt x="11069" y="9095"/>
                  </a:lnTo>
                  <a:lnTo>
                    <a:pt x="11097" y="9087"/>
                  </a:lnTo>
                  <a:lnTo>
                    <a:pt x="11125" y="9079"/>
                  </a:lnTo>
                  <a:lnTo>
                    <a:pt x="11153" y="9072"/>
                  </a:lnTo>
                  <a:lnTo>
                    <a:pt x="11181" y="9067"/>
                  </a:lnTo>
                  <a:lnTo>
                    <a:pt x="11210" y="9063"/>
                  </a:lnTo>
                  <a:lnTo>
                    <a:pt x="11237" y="9060"/>
                  </a:lnTo>
                  <a:lnTo>
                    <a:pt x="11263" y="9058"/>
                  </a:lnTo>
                  <a:lnTo>
                    <a:pt x="11288" y="9059"/>
                  </a:lnTo>
                  <a:lnTo>
                    <a:pt x="11312" y="9061"/>
                  </a:lnTo>
                  <a:lnTo>
                    <a:pt x="11336" y="9065"/>
                  </a:lnTo>
                  <a:lnTo>
                    <a:pt x="11357" y="9072"/>
                  </a:lnTo>
                  <a:lnTo>
                    <a:pt x="11376" y="9081"/>
                  </a:lnTo>
                  <a:lnTo>
                    <a:pt x="11394" y="9092"/>
                  </a:lnTo>
                  <a:lnTo>
                    <a:pt x="11409" y="9106"/>
                  </a:lnTo>
                  <a:lnTo>
                    <a:pt x="11422" y="9123"/>
                  </a:lnTo>
                  <a:lnTo>
                    <a:pt x="11433" y="9144"/>
                  </a:lnTo>
                  <a:lnTo>
                    <a:pt x="11442" y="9167"/>
                  </a:lnTo>
                  <a:lnTo>
                    <a:pt x="11451" y="9193"/>
                  </a:lnTo>
                  <a:lnTo>
                    <a:pt x="11465" y="9223"/>
                  </a:lnTo>
                  <a:lnTo>
                    <a:pt x="11484" y="9257"/>
                  </a:lnTo>
                  <a:lnTo>
                    <a:pt x="11506" y="9292"/>
                  </a:lnTo>
                  <a:lnTo>
                    <a:pt x="11532" y="9330"/>
                  </a:lnTo>
                  <a:lnTo>
                    <a:pt x="11561" y="9371"/>
                  </a:lnTo>
                  <a:lnTo>
                    <a:pt x="11594" y="9414"/>
                  </a:lnTo>
                  <a:lnTo>
                    <a:pt x="11629" y="9458"/>
                  </a:lnTo>
                  <a:lnTo>
                    <a:pt x="11666" y="9505"/>
                  </a:lnTo>
                  <a:lnTo>
                    <a:pt x="11706" y="9552"/>
                  </a:lnTo>
                  <a:lnTo>
                    <a:pt x="11746" y="9600"/>
                  </a:lnTo>
                  <a:lnTo>
                    <a:pt x="11788" y="9649"/>
                  </a:lnTo>
                  <a:lnTo>
                    <a:pt x="11876" y="9747"/>
                  </a:lnTo>
                  <a:lnTo>
                    <a:pt x="11966" y="9843"/>
                  </a:lnTo>
                  <a:lnTo>
                    <a:pt x="12053" y="9938"/>
                  </a:lnTo>
                  <a:lnTo>
                    <a:pt x="12138" y="10027"/>
                  </a:lnTo>
                  <a:lnTo>
                    <a:pt x="12217" y="10108"/>
                  </a:lnTo>
                  <a:lnTo>
                    <a:pt x="12287" y="10179"/>
                  </a:lnTo>
                  <a:lnTo>
                    <a:pt x="12346" y="10239"/>
                  </a:lnTo>
                  <a:lnTo>
                    <a:pt x="12391" y="10284"/>
                  </a:lnTo>
                  <a:lnTo>
                    <a:pt x="12420" y="10312"/>
                  </a:lnTo>
                  <a:lnTo>
                    <a:pt x="12430" y="10322"/>
                  </a:lnTo>
                  <a:lnTo>
                    <a:pt x="13175" y="9774"/>
                  </a:lnTo>
                  <a:lnTo>
                    <a:pt x="14066" y="11645"/>
                  </a:lnTo>
                  <a:lnTo>
                    <a:pt x="14076" y="11683"/>
                  </a:lnTo>
                  <a:lnTo>
                    <a:pt x="14083" y="11716"/>
                  </a:lnTo>
                  <a:lnTo>
                    <a:pt x="14085" y="11732"/>
                  </a:lnTo>
                  <a:lnTo>
                    <a:pt x="14088" y="11747"/>
                  </a:lnTo>
                  <a:lnTo>
                    <a:pt x="14089" y="11761"/>
                  </a:lnTo>
                  <a:lnTo>
                    <a:pt x="14089" y="11776"/>
                  </a:lnTo>
                  <a:lnTo>
                    <a:pt x="14089" y="11790"/>
                  </a:lnTo>
                  <a:lnTo>
                    <a:pt x="14088" y="11803"/>
                  </a:lnTo>
                  <a:lnTo>
                    <a:pt x="14087" y="11816"/>
                  </a:lnTo>
                  <a:lnTo>
                    <a:pt x="14084" y="11829"/>
                  </a:lnTo>
                  <a:lnTo>
                    <a:pt x="14081" y="11841"/>
                  </a:lnTo>
                  <a:lnTo>
                    <a:pt x="14078" y="11853"/>
                  </a:lnTo>
                  <a:lnTo>
                    <a:pt x="14074" y="11866"/>
                  </a:lnTo>
                  <a:lnTo>
                    <a:pt x="14070" y="11878"/>
                  </a:lnTo>
                  <a:lnTo>
                    <a:pt x="14059" y="11904"/>
                  </a:lnTo>
                  <a:lnTo>
                    <a:pt x="14046" y="11929"/>
                  </a:lnTo>
                  <a:lnTo>
                    <a:pt x="14030" y="11956"/>
                  </a:lnTo>
                  <a:lnTo>
                    <a:pt x="14013" y="11984"/>
                  </a:lnTo>
                  <a:lnTo>
                    <a:pt x="13971" y="12049"/>
                  </a:lnTo>
                  <a:lnTo>
                    <a:pt x="13919" y="12125"/>
                  </a:lnTo>
                  <a:lnTo>
                    <a:pt x="13906" y="12148"/>
                  </a:lnTo>
                  <a:lnTo>
                    <a:pt x="13895" y="12170"/>
                  </a:lnTo>
                  <a:lnTo>
                    <a:pt x="13887" y="12192"/>
                  </a:lnTo>
                  <a:lnTo>
                    <a:pt x="13881" y="12213"/>
                  </a:lnTo>
                  <a:lnTo>
                    <a:pt x="13878" y="12234"/>
                  </a:lnTo>
                  <a:lnTo>
                    <a:pt x="13876" y="12256"/>
                  </a:lnTo>
                  <a:lnTo>
                    <a:pt x="13876" y="12277"/>
                  </a:lnTo>
                  <a:lnTo>
                    <a:pt x="13878" y="12297"/>
                  </a:lnTo>
                  <a:lnTo>
                    <a:pt x="13881" y="12317"/>
                  </a:lnTo>
                  <a:lnTo>
                    <a:pt x="13886" y="12337"/>
                  </a:lnTo>
                  <a:lnTo>
                    <a:pt x="13893" y="12356"/>
                  </a:lnTo>
                  <a:lnTo>
                    <a:pt x="13900" y="12375"/>
                  </a:lnTo>
                  <a:lnTo>
                    <a:pt x="13909" y="12394"/>
                  </a:lnTo>
                  <a:lnTo>
                    <a:pt x="13918" y="12411"/>
                  </a:lnTo>
                  <a:lnTo>
                    <a:pt x="13928" y="12428"/>
                  </a:lnTo>
                  <a:lnTo>
                    <a:pt x="13939" y="12444"/>
                  </a:lnTo>
                  <a:lnTo>
                    <a:pt x="13950" y="12460"/>
                  </a:lnTo>
                  <a:lnTo>
                    <a:pt x="13962" y="12475"/>
                  </a:lnTo>
                  <a:lnTo>
                    <a:pt x="13974" y="12490"/>
                  </a:lnTo>
                  <a:lnTo>
                    <a:pt x="13986" y="12503"/>
                  </a:lnTo>
                  <a:lnTo>
                    <a:pt x="14008" y="12527"/>
                  </a:lnTo>
                  <a:lnTo>
                    <a:pt x="14030" y="12548"/>
                  </a:lnTo>
                  <a:lnTo>
                    <a:pt x="14063" y="12576"/>
                  </a:lnTo>
                  <a:lnTo>
                    <a:pt x="14076" y="12586"/>
                  </a:lnTo>
                  <a:lnTo>
                    <a:pt x="14084" y="12577"/>
                  </a:lnTo>
                  <a:lnTo>
                    <a:pt x="14108" y="12552"/>
                  </a:lnTo>
                  <a:lnTo>
                    <a:pt x="14143" y="12513"/>
                  </a:lnTo>
                  <a:lnTo>
                    <a:pt x="14188" y="12461"/>
                  </a:lnTo>
                  <a:lnTo>
                    <a:pt x="14243" y="12399"/>
                  </a:lnTo>
                  <a:lnTo>
                    <a:pt x="14303" y="12329"/>
                  </a:lnTo>
                  <a:lnTo>
                    <a:pt x="14367" y="12253"/>
                  </a:lnTo>
                  <a:lnTo>
                    <a:pt x="14432" y="12173"/>
                  </a:lnTo>
                  <a:lnTo>
                    <a:pt x="14466" y="12132"/>
                  </a:lnTo>
                  <a:lnTo>
                    <a:pt x="14498" y="12090"/>
                  </a:lnTo>
                  <a:lnTo>
                    <a:pt x="14529" y="12049"/>
                  </a:lnTo>
                  <a:lnTo>
                    <a:pt x="14560" y="12007"/>
                  </a:lnTo>
                  <a:lnTo>
                    <a:pt x="14589" y="11967"/>
                  </a:lnTo>
                  <a:lnTo>
                    <a:pt x="14617" y="11927"/>
                  </a:lnTo>
                  <a:lnTo>
                    <a:pt x="14643" y="11888"/>
                  </a:lnTo>
                  <a:lnTo>
                    <a:pt x="14667" y="11850"/>
                  </a:lnTo>
                  <a:lnTo>
                    <a:pt x="14689" y="11815"/>
                  </a:lnTo>
                  <a:lnTo>
                    <a:pt x="14707" y="11781"/>
                  </a:lnTo>
                  <a:lnTo>
                    <a:pt x="14725" y="11748"/>
                  </a:lnTo>
                  <a:lnTo>
                    <a:pt x="14737" y="11718"/>
                  </a:lnTo>
                  <a:lnTo>
                    <a:pt x="14747" y="11691"/>
                  </a:lnTo>
                  <a:lnTo>
                    <a:pt x="14753" y="11666"/>
                  </a:lnTo>
                  <a:lnTo>
                    <a:pt x="14755" y="11644"/>
                  </a:lnTo>
                  <a:lnTo>
                    <a:pt x="14752" y="11626"/>
                  </a:lnTo>
                  <a:lnTo>
                    <a:pt x="14735" y="11614"/>
                  </a:lnTo>
                  <a:lnTo>
                    <a:pt x="14689" y="11581"/>
                  </a:lnTo>
                  <a:lnTo>
                    <a:pt x="14658" y="11556"/>
                  </a:lnTo>
                  <a:lnTo>
                    <a:pt x="14624" y="11525"/>
                  </a:lnTo>
                  <a:lnTo>
                    <a:pt x="14605" y="11508"/>
                  </a:lnTo>
                  <a:lnTo>
                    <a:pt x="14585" y="11489"/>
                  </a:lnTo>
                  <a:lnTo>
                    <a:pt x="14565" y="11470"/>
                  </a:lnTo>
                  <a:lnTo>
                    <a:pt x="14545" y="11449"/>
                  </a:lnTo>
                  <a:lnTo>
                    <a:pt x="14525" y="11426"/>
                  </a:lnTo>
                  <a:lnTo>
                    <a:pt x="14504" y="11402"/>
                  </a:lnTo>
                  <a:lnTo>
                    <a:pt x="14484" y="11377"/>
                  </a:lnTo>
                  <a:lnTo>
                    <a:pt x="14462" y="11351"/>
                  </a:lnTo>
                  <a:lnTo>
                    <a:pt x="14442" y="11324"/>
                  </a:lnTo>
                  <a:lnTo>
                    <a:pt x="14422" y="11295"/>
                  </a:lnTo>
                  <a:lnTo>
                    <a:pt x="14403" y="11264"/>
                  </a:lnTo>
                  <a:lnTo>
                    <a:pt x="14384" y="11233"/>
                  </a:lnTo>
                  <a:lnTo>
                    <a:pt x="14366" y="11201"/>
                  </a:lnTo>
                  <a:lnTo>
                    <a:pt x="14350" y="11167"/>
                  </a:lnTo>
                  <a:lnTo>
                    <a:pt x="14332" y="11132"/>
                  </a:lnTo>
                  <a:lnTo>
                    <a:pt x="14318" y="11096"/>
                  </a:lnTo>
                  <a:lnTo>
                    <a:pt x="14304" y="11059"/>
                  </a:lnTo>
                  <a:lnTo>
                    <a:pt x="14292" y="11020"/>
                  </a:lnTo>
                  <a:lnTo>
                    <a:pt x="14281" y="10981"/>
                  </a:lnTo>
                  <a:lnTo>
                    <a:pt x="14272" y="10940"/>
                  </a:lnTo>
                  <a:lnTo>
                    <a:pt x="14265" y="10923"/>
                  </a:lnTo>
                  <a:lnTo>
                    <a:pt x="14243" y="10875"/>
                  </a:lnTo>
                  <a:lnTo>
                    <a:pt x="14207" y="10800"/>
                  </a:lnTo>
                  <a:lnTo>
                    <a:pt x="14161" y="10704"/>
                  </a:lnTo>
                  <a:lnTo>
                    <a:pt x="14106" y="10588"/>
                  </a:lnTo>
                  <a:lnTo>
                    <a:pt x="14041" y="10458"/>
                  </a:lnTo>
                  <a:lnTo>
                    <a:pt x="13970" y="10317"/>
                  </a:lnTo>
                  <a:lnTo>
                    <a:pt x="13893" y="10171"/>
                  </a:lnTo>
                  <a:lnTo>
                    <a:pt x="13853" y="10097"/>
                  </a:lnTo>
                  <a:lnTo>
                    <a:pt x="13811" y="10023"/>
                  </a:lnTo>
                  <a:lnTo>
                    <a:pt x="13770" y="9949"/>
                  </a:lnTo>
                  <a:lnTo>
                    <a:pt x="13729" y="9877"/>
                  </a:lnTo>
                  <a:lnTo>
                    <a:pt x="13686" y="9806"/>
                  </a:lnTo>
                  <a:lnTo>
                    <a:pt x="13645" y="9738"/>
                  </a:lnTo>
                  <a:lnTo>
                    <a:pt x="13603" y="9672"/>
                  </a:lnTo>
                  <a:lnTo>
                    <a:pt x="13561" y="9608"/>
                  </a:lnTo>
                  <a:lnTo>
                    <a:pt x="13520" y="9550"/>
                  </a:lnTo>
                  <a:lnTo>
                    <a:pt x="13480" y="9496"/>
                  </a:lnTo>
                  <a:lnTo>
                    <a:pt x="13440" y="9445"/>
                  </a:lnTo>
                  <a:lnTo>
                    <a:pt x="13402" y="9400"/>
                  </a:lnTo>
                  <a:lnTo>
                    <a:pt x="13365" y="9361"/>
                  </a:lnTo>
                  <a:lnTo>
                    <a:pt x="13329" y="9328"/>
                  </a:lnTo>
                  <a:lnTo>
                    <a:pt x="13295" y="9303"/>
                  </a:lnTo>
                  <a:lnTo>
                    <a:pt x="13263" y="9284"/>
                  </a:lnTo>
                  <a:lnTo>
                    <a:pt x="13257" y="9287"/>
                  </a:lnTo>
                  <a:lnTo>
                    <a:pt x="13240" y="9296"/>
                  </a:lnTo>
                  <a:lnTo>
                    <a:pt x="13213" y="9308"/>
                  </a:lnTo>
                  <a:lnTo>
                    <a:pt x="13176" y="9325"/>
                  </a:lnTo>
                  <a:lnTo>
                    <a:pt x="13132" y="9345"/>
                  </a:lnTo>
                  <a:lnTo>
                    <a:pt x="13081" y="9367"/>
                  </a:lnTo>
                  <a:lnTo>
                    <a:pt x="13023" y="9392"/>
                  </a:lnTo>
                  <a:lnTo>
                    <a:pt x="12961" y="9416"/>
                  </a:lnTo>
                  <a:lnTo>
                    <a:pt x="12894" y="9441"/>
                  </a:lnTo>
                  <a:lnTo>
                    <a:pt x="12824" y="9465"/>
                  </a:lnTo>
                  <a:lnTo>
                    <a:pt x="12789" y="9476"/>
                  </a:lnTo>
                  <a:lnTo>
                    <a:pt x="12753" y="9487"/>
                  </a:lnTo>
                  <a:lnTo>
                    <a:pt x="12717" y="9498"/>
                  </a:lnTo>
                  <a:lnTo>
                    <a:pt x="12680" y="9508"/>
                  </a:lnTo>
                  <a:lnTo>
                    <a:pt x="12644" y="9516"/>
                  </a:lnTo>
                  <a:lnTo>
                    <a:pt x="12608" y="9524"/>
                  </a:lnTo>
                  <a:lnTo>
                    <a:pt x="12572" y="9531"/>
                  </a:lnTo>
                  <a:lnTo>
                    <a:pt x="12536" y="9537"/>
                  </a:lnTo>
                  <a:lnTo>
                    <a:pt x="12502" y="9542"/>
                  </a:lnTo>
                  <a:lnTo>
                    <a:pt x="12468" y="9546"/>
                  </a:lnTo>
                  <a:lnTo>
                    <a:pt x="12433" y="9548"/>
                  </a:lnTo>
                  <a:lnTo>
                    <a:pt x="12401" y="9549"/>
                  </a:lnTo>
                  <a:lnTo>
                    <a:pt x="12391" y="9540"/>
                  </a:lnTo>
                  <a:lnTo>
                    <a:pt x="12361" y="9514"/>
                  </a:lnTo>
                  <a:lnTo>
                    <a:pt x="12313" y="9472"/>
                  </a:lnTo>
                  <a:lnTo>
                    <a:pt x="12252" y="9419"/>
                  </a:lnTo>
                  <a:lnTo>
                    <a:pt x="12177" y="9355"/>
                  </a:lnTo>
                  <a:lnTo>
                    <a:pt x="12092" y="9284"/>
                  </a:lnTo>
                  <a:lnTo>
                    <a:pt x="11999" y="9205"/>
                  </a:lnTo>
                  <a:lnTo>
                    <a:pt x="11899" y="9123"/>
                  </a:lnTo>
                  <a:lnTo>
                    <a:pt x="11795" y="9040"/>
                  </a:lnTo>
                  <a:lnTo>
                    <a:pt x="11690" y="8957"/>
                  </a:lnTo>
                  <a:lnTo>
                    <a:pt x="11638" y="8916"/>
                  </a:lnTo>
                  <a:lnTo>
                    <a:pt x="11586" y="8876"/>
                  </a:lnTo>
                  <a:lnTo>
                    <a:pt x="11534" y="8837"/>
                  </a:lnTo>
                  <a:lnTo>
                    <a:pt x="11484" y="8801"/>
                  </a:lnTo>
                  <a:lnTo>
                    <a:pt x="11434" y="8764"/>
                  </a:lnTo>
                  <a:lnTo>
                    <a:pt x="11387" y="8731"/>
                  </a:lnTo>
                  <a:lnTo>
                    <a:pt x="11341" y="8700"/>
                  </a:lnTo>
                  <a:lnTo>
                    <a:pt x="11296" y="8672"/>
                  </a:lnTo>
                  <a:lnTo>
                    <a:pt x="11255" y="8645"/>
                  </a:lnTo>
                  <a:lnTo>
                    <a:pt x="11216" y="8623"/>
                  </a:lnTo>
                  <a:lnTo>
                    <a:pt x="11180" y="8604"/>
                  </a:lnTo>
                  <a:lnTo>
                    <a:pt x="11147" y="8588"/>
                  </a:lnTo>
                  <a:lnTo>
                    <a:pt x="10736" y="8509"/>
                  </a:lnTo>
                  <a:lnTo>
                    <a:pt x="13782" y="1660"/>
                  </a:lnTo>
                  <a:lnTo>
                    <a:pt x="13780" y="1656"/>
                  </a:lnTo>
                  <a:lnTo>
                    <a:pt x="13771" y="1646"/>
                  </a:lnTo>
                  <a:lnTo>
                    <a:pt x="13757" y="1632"/>
                  </a:lnTo>
                  <a:lnTo>
                    <a:pt x="13737" y="1613"/>
                  </a:lnTo>
                  <a:lnTo>
                    <a:pt x="13725" y="1603"/>
                  </a:lnTo>
                  <a:lnTo>
                    <a:pt x="13710" y="1591"/>
                  </a:lnTo>
                  <a:lnTo>
                    <a:pt x="13694" y="1580"/>
                  </a:lnTo>
                  <a:lnTo>
                    <a:pt x="13676" y="1568"/>
                  </a:lnTo>
                  <a:lnTo>
                    <a:pt x="13657" y="1557"/>
                  </a:lnTo>
                  <a:lnTo>
                    <a:pt x="13636" y="1545"/>
                  </a:lnTo>
                  <a:lnTo>
                    <a:pt x="13613" y="1534"/>
                  </a:lnTo>
                  <a:lnTo>
                    <a:pt x="13588" y="1524"/>
                  </a:lnTo>
                  <a:lnTo>
                    <a:pt x="13560" y="1514"/>
                  </a:lnTo>
                  <a:lnTo>
                    <a:pt x="13532" y="1505"/>
                  </a:lnTo>
                  <a:lnTo>
                    <a:pt x="13501" y="1497"/>
                  </a:lnTo>
                  <a:lnTo>
                    <a:pt x="13468" y="1489"/>
                  </a:lnTo>
                  <a:lnTo>
                    <a:pt x="13433" y="1483"/>
                  </a:lnTo>
                  <a:lnTo>
                    <a:pt x="13396" y="1478"/>
                  </a:lnTo>
                  <a:lnTo>
                    <a:pt x="13357" y="1475"/>
                  </a:lnTo>
                  <a:lnTo>
                    <a:pt x="13315" y="1473"/>
                  </a:lnTo>
                  <a:lnTo>
                    <a:pt x="13272" y="1474"/>
                  </a:lnTo>
                  <a:lnTo>
                    <a:pt x="13226" y="1476"/>
                  </a:lnTo>
                  <a:lnTo>
                    <a:pt x="13177" y="1482"/>
                  </a:lnTo>
                  <a:lnTo>
                    <a:pt x="13127" y="1489"/>
                  </a:lnTo>
                  <a:lnTo>
                    <a:pt x="13074" y="1498"/>
                  </a:lnTo>
                  <a:lnTo>
                    <a:pt x="13019" y="1510"/>
                  </a:lnTo>
                  <a:lnTo>
                    <a:pt x="12961" y="1525"/>
                  </a:lnTo>
                  <a:lnTo>
                    <a:pt x="12901" y="1542"/>
                  </a:lnTo>
                  <a:lnTo>
                    <a:pt x="12894" y="1542"/>
                  </a:lnTo>
                  <a:lnTo>
                    <a:pt x="12873" y="1542"/>
                  </a:lnTo>
                  <a:lnTo>
                    <a:pt x="12841" y="1541"/>
                  </a:lnTo>
                  <a:lnTo>
                    <a:pt x="12798" y="1538"/>
                  </a:lnTo>
                  <a:lnTo>
                    <a:pt x="12747" y="1535"/>
                  </a:lnTo>
                  <a:lnTo>
                    <a:pt x="12688" y="1530"/>
                  </a:lnTo>
                  <a:lnTo>
                    <a:pt x="12624" y="1523"/>
                  </a:lnTo>
                  <a:lnTo>
                    <a:pt x="12554" y="1513"/>
                  </a:lnTo>
                  <a:lnTo>
                    <a:pt x="12518" y="1507"/>
                  </a:lnTo>
                  <a:lnTo>
                    <a:pt x="12482" y="1501"/>
                  </a:lnTo>
                  <a:lnTo>
                    <a:pt x="12444" y="1493"/>
                  </a:lnTo>
                  <a:lnTo>
                    <a:pt x="12407" y="1485"/>
                  </a:lnTo>
                  <a:lnTo>
                    <a:pt x="12370" y="1475"/>
                  </a:lnTo>
                  <a:lnTo>
                    <a:pt x="12334" y="1465"/>
                  </a:lnTo>
                  <a:lnTo>
                    <a:pt x="12296" y="1455"/>
                  </a:lnTo>
                  <a:lnTo>
                    <a:pt x="12260" y="1443"/>
                  </a:lnTo>
                  <a:lnTo>
                    <a:pt x="12225" y="1430"/>
                  </a:lnTo>
                  <a:lnTo>
                    <a:pt x="12189" y="1416"/>
                  </a:lnTo>
                  <a:lnTo>
                    <a:pt x="12156" y="1401"/>
                  </a:lnTo>
                  <a:lnTo>
                    <a:pt x="12124" y="1385"/>
                  </a:lnTo>
                  <a:lnTo>
                    <a:pt x="12093" y="1368"/>
                  </a:lnTo>
                  <a:lnTo>
                    <a:pt x="12062" y="1348"/>
                  </a:lnTo>
                  <a:lnTo>
                    <a:pt x="12035" y="1328"/>
                  </a:lnTo>
                  <a:lnTo>
                    <a:pt x="12009" y="1307"/>
                  </a:lnTo>
                  <a:lnTo>
                    <a:pt x="11983" y="1306"/>
                  </a:lnTo>
                  <a:lnTo>
                    <a:pt x="11911" y="1301"/>
                  </a:lnTo>
                  <a:lnTo>
                    <a:pt x="11864" y="1297"/>
                  </a:lnTo>
                  <a:lnTo>
                    <a:pt x="11810" y="1291"/>
                  </a:lnTo>
                  <a:lnTo>
                    <a:pt x="11782" y="1287"/>
                  </a:lnTo>
                  <a:lnTo>
                    <a:pt x="11753" y="1282"/>
                  </a:lnTo>
                  <a:lnTo>
                    <a:pt x="11724" y="1277"/>
                  </a:lnTo>
                  <a:lnTo>
                    <a:pt x="11695" y="1270"/>
                  </a:lnTo>
                  <a:lnTo>
                    <a:pt x="11665" y="1264"/>
                  </a:lnTo>
                  <a:lnTo>
                    <a:pt x="11636" y="1256"/>
                  </a:lnTo>
                  <a:lnTo>
                    <a:pt x="11607" y="1248"/>
                  </a:lnTo>
                  <a:lnTo>
                    <a:pt x="11579" y="1238"/>
                  </a:lnTo>
                  <a:lnTo>
                    <a:pt x="11550" y="1228"/>
                  </a:lnTo>
                  <a:lnTo>
                    <a:pt x="11524" y="1216"/>
                  </a:lnTo>
                  <a:lnTo>
                    <a:pt x="11500" y="1204"/>
                  </a:lnTo>
                  <a:lnTo>
                    <a:pt x="11476" y="1191"/>
                  </a:lnTo>
                  <a:lnTo>
                    <a:pt x="11455" y="1177"/>
                  </a:lnTo>
                  <a:lnTo>
                    <a:pt x="11434" y="1162"/>
                  </a:lnTo>
                  <a:lnTo>
                    <a:pt x="11417" y="1145"/>
                  </a:lnTo>
                  <a:lnTo>
                    <a:pt x="11403" y="1127"/>
                  </a:lnTo>
                  <a:lnTo>
                    <a:pt x="11390" y="1107"/>
                  </a:lnTo>
                  <a:lnTo>
                    <a:pt x="11381" y="1087"/>
                  </a:lnTo>
                  <a:lnTo>
                    <a:pt x="11375" y="1066"/>
                  </a:lnTo>
                  <a:lnTo>
                    <a:pt x="11373" y="1043"/>
                  </a:lnTo>
                  <a:lnTo>
                    <a:pt x="11362" y="1036"/>
                  </a:lnTo>
                  <a:lnTo>
                    <a:pt x="11331" y="1019"/>
                  </a:lnTo>
                  <a:lnTo>
                    <a:pt x="11308" y="1008"/>
                  </a:lnTo>
                  <a:lnTo>
                    <a:pt x="11282" y="994"/>
                  </a:lnTo>
                  <a:lnTo>
                    <a:pt x="11253" y="981"/>
                  </a:lnTo>
                  <a:lnTo>
                    <a:pt x="11221" y="966"/>
                  </a:lnTo>
                  <a:lnTo>
                    <a:pt x="11185" y="952"/>
                  </a:lnTo>
                  <a:lnTo>
                    <a:pt x="11148" y="937"/>
                  </a:lnTo>
                  <a:lnTo>
                    <a:pt x="11108" y="923"/>
                  </a:lnTo>
                  <a:lnTo>
                    <a:pt x="11067" y="910"/>
                  </a:lnTo>
                  <a:lnTo>
                    <a:pt x="11024" y="899"/>
                  </a:lnTo>
                  <a:lnTo>
                    <a:pt x="10981" y="889"/>
                  </a:lnTo>
                  <a:lnTo>
                    <a:pt x="10959" y="885"/>
                  </a:lnTo>
                  <a:lnTo>
                    <a:pt x="10937" y="881"/>
                  </a:lnTo>
                  <a:lnTo>
                    <a:pt x="10914" y="878"/>
                  </a:lnTo>
                  <a:lnTo>
                    <a:pt x="10892" y="875"/>
                  </a:lnTo>
                  <a:lnTo>
                    <a:pt x="10875" y="865"/>
                  </a:lnTo>
                  <a:lnTo>
                    <a:pt x="10830" y="839"/>
                  </a:lnTo>
                  <a:lnTo>
                    <a:pt x="10798" y="823"/>
                  </a:lnTo>
                  <a:lnTo>
                    <a:pt x="10762" y="805"/>
                  </a:lnTo>
                  <a:lnTo>
                    <a:pt x="10724" y="786"/>
                  </a:lnTo>
                  <a:lnTo>
                    <a:pt x="10681" y="768"/>
                  </a:lnTo>
                  <a:lnTo>
                    <a:pt x="10660" y="759"/>
                  </a:lnTo>
                  <a:lnTo>
                    <a:pt x="10639" y="751"/>
                  </a:lnTo>
                  <a:lnTo>
                    <a:pt x="10618" y="744"/>
                  </a:lnTo>
                  <a:lnTo>
                    <a:pt x="10596" y="737"/>
                  </a:lnTo>
                  <a:lnTo>
                    <a:pt x="10575" y="731"/>
                  </a:lnTo>
                  <a:lnTo>
                    <a:pt x="10553" y="726"/>
                  </a:lnTo>
                  <a:lnTo>
                    <a:pt x="10532" y="722"/>
                  </a:lnTo>
                  <a:lnTo>
                    <a:pt x="10512" y="719"/>
                  </a:lnTo>
                  <a:lnTo>
                    <a:pt x="10493" y="717"/>
                  </a:lnTo>
                  <a:lnTo>
                    <a:pt x="10474" y="716"/>
                  </a:lnTo>
                  <a:lnTo>
                    <a:pt x="10456" y="717"/>
                  </a:lnTo>
                  <a:lnTo>
                    <a:pt x="10439" y="720"/>
                  </a:lnTo>
                  <a:lnTo>
                    <a:pt x="10422" y="724"/>
                  </a:lnTo>
                  <a:lnTo>
                    <a:pt x="10408" y="730"/>
                  </a:lnTo>
                  <a:lnTo>
                    <a:pt x="10395" y="738"/>
                  </a:lnTo>
                  <a:lnTo>
                    <a:pt x="10383" y="748"/>
                  </a:lnTo>
                  <a:lnTo>
                    <a:pt x="10373" y="759"/>
                  </a:lnTo>
                  <a:lnTo>
                    <a:pt x="10364" y="773"/>
                  </a:lnTo>
                  <a:lnTo>
                    <a:pt x="10356" y="786"/>
                  </a:lnTo>
                  <a:lnTo>
                    <a:pt x="10350" y="799"/>
                  </a:lnTo>
                  <a:lnTo>
                    <a:pt x="10344" y="813"/>
                  </a:lnTo>
                  <a:lnTo>
                    <a:pt x="10339" y="828"/>
                  </a:lnTo>
                  <a:lnTo>
                    <a:pt x="10335" y="843"/>
                  </a:lnTo>
                  <a:lnTo>
                    <a:pt x="10332" y="858"/>
                  </a:lnTo>
                  <a:lnTo>
                    <a:pt x="10327" y="890"/>
                  </a:lnTo>
                  <a:lnTo>
                    <a:pt x="10324" y="921"/>
                  </a:lnTo>
                  <a:lnTo>
                    <a:pt x="10321" y="952"/>
                  </a:lnTo>
                  <a:lnTo>
                    <a:pt x="10317" y="981"/>
                  </a:lnTo>
                  <a:lnTo>
                    <a:pt x="10315" y="995"/>
                  </a:lnTo>
                  <a:lnTo>
                    <a:pt x="10313" y="1009"/>
                  </a:lnTo>
                  <a:lnTo>
                    <a:pt x="10310" y="1022"/>
                  </a:lnTo>
                  <a:lnTo>
                    <a:pt x="10307" y="1033"/>
                  </a:lnTo>
                  <a:lnTo>
                    <a:pt x="10301" y="1044"/>
                  </a:lnTo>
                  <a:lnTo>
                    <a:pt x="10297" y="1054"/>
                  </a:lnTo>
                  <a:lnTo>
                    <a:pt x="10291" y="1063"/>
                  </a:lnTo>
                  <a:lnTo>
                    <a:pt x="10284" y="1071"/>
                  </a:lnTo>
                  <a:lnTo>
                    <a:pt x="10275" y="1077"/>
                  </a:lnTo>
                  <a:lnTo>
                    <a:pt x="10266" y="1083"/>
                  </a:lnTo>
                  <a:lnTo>
                    <a:pt x="10255" y="1086"/>
                  </a:lnTo>
                  <a:lnTo>
                    <a:pt x="10243" y="1089"/>
                  </a:lnTo>
                  <a:lnTo>
                    <a:pt x="10230" y="1090"/>
                  </a:lnTo>
                  <a:lnTo>
                    <a:pt x="10214" y="1089"/>
                  </a:lnTo>
                  <a:lnTo>
                    <a:pt x="10197" y="1086"/>
                  </a:lnTo>
                  <a:lnTo>
                    <a:pt x="10177" y="1081"/>
                  </a:lnTo>
                  <a:lnTo>
                    <a:pt x="10157" y="1075"/>
                  </a:lnTo>
                  <a:lnTo>
                    <a:pt x="10137" y="1067"/>
                  </a:lnTo>
                  <a:lnTo>
                    <a:pt x="10119" y="1059"/>
                  </a:lnTo>
                  <a:lnTo>
                    <a:pt x="10101" y="1050"/>
                  </a:lnTo>
                  <a:lnTo>
                    <a:pt x="10085" y="1040"/>
                  </a:lnTo>
                  <a:lnTo>
                    <a:pt x="10069" y="1029"/>
                  </a:lnTo>
                  <a:lnTo>
                    <a:pt x="10053" y="1018"/>
                  </a:lnTo>
                  <a:lnTo>
                    <a:pt x="10038" y="1006"/>
                  </a:lnTo>
                  <a:lnTo>
                    <a:pt x="10024" y="993"/>
                  </a:lnTo>
                  <a:lnTo>
                    <a:pt x="10011" y="981"/>
                  </a:lnTo>
                  <a:lnTo>
                    <a:pt x="9998" y="967"/>
                  </a:lnTo>
                  <a:lnTo>
                    <a:pt x="9985" y="954"/>
                  </a:lnTo>
                  <a:lnTo>
                    <a:pt x="9960" y="925"/>
                  </a:lnTo>
                  <a:lnTo>
                    <a:pt x="9935" y="896"/>
                  </a:lnTo>
                  <a:lnTo>
                    <a:pt x="9910" y="864"/>
                  </a:lnTo>
                  <a:lnTo>
                    <a:pt x="9884" y="833"/>
                  </a:lnTo>
                  <a:lnTo>
                    <a:pt x="9857" y="802"/>
                  </a:lnTo>
                  <a:lnTo>
                    <a:pt x="9828" y="771"/>
                  </a:lnTo>
                  <a:lnTo>
                    <a:pt x="9812" y="754"/>
                  </a:lnTo>
                  <a:lnTo>
                    <a:pt x="9795" y="739"/>
                  </a:lnTo>
                  <a:lnTo>
                    <a:pt x="9778" y="723"/>
                  </a:lnTo>
                  <a:lnTo>
                    <a:pt x="9760" y="708"/>
                  </a:lnTo>
                  <a:lnTo>
                    <a:pt x="9741" y="694"/>
                  </a:lnTo>
                  <a:lnTo>
                    <a:pt x="9721" y="679"/>
                  </a:lnTo>
                  <a:lnTo>
                    <a:pt x="9700" y="665"/>
                  </a:lnTo>
                  <a:lnTo>
                    <a:pt x="9678" y="651"/>
                  </a:lnTo>
                  <a:lnTo>
                    <a:pt x="9627" y="621"/>
                  </a:lnTo>
                  <a:lnTo>
                    <a:pt x="9568" y="588"/>
                  </a:lnTo>
                  <a:lnTo>
                    <a:pt x="9502" y="554"/>
                  </a:lnTo>
                  <a:lnTo>
                    <a:pt x="9431" y="516"/>
                  </a:lnTo>
                  <a:lnTo>
                    <a:pt x="9356" y="478"/>
                  </a:lnTo>
                  <a:lnTo>
                    <a:pt x="9279" y="440"/>
                  </a:lnTo>
                  <a:lnTo>
                    <a:pt x="9202" y="403"/>
                  </a:lnTo>
                  <a:lnTo>
                    <a:pt x="9125" y="365"/>
                  </a:lnTo>
                  <a:lnTo>
                    <a:pt x="9053" y="330"/>
                  </a:lnTo>
                  <a:lnTo>
                    <a:pt x="8984" y="297"/>
                  </a:lnTo>
                  <a:lnTo>
                    <a:pt x="8922" y="267"/>
                  </a:lnTo>
                  <a:lnTo>
                    <a:pt x="8866" y="241"/>
                  </a:lnTo>
                  <a:lnTo>
                    <a:pt x="8821" y="220"/>
                  </a:lnTo>
                  <a:lnTo>
                    <a:pt x="8786" y="204"/>
                  </a:lnTo>
                  <a:lnTo>
                    <a:pt x="8764" y="194"/>
                  </a:lnTo>
                  <a:lnTo>
                    <a:pt x="8757" y="190"/>
                  </a:lnTo>
                  <a:lnTo>
                    <a:pt x="8751" y="186"/>
                  </a:lnTo>
                  <a:lnTo>
                    <a:pt x="8735" y="176"/>
                  </a:lnTo>
                  <a:lnTo>
                    <a:pt x="8708" y="159"/>
                  </a:lnTo>
                  <a:lnTo>
                    <a:pt x="8670" y="140"/>
                  </a:lnTo>
                  <a:lnTo>
                    <a:pt x="8646" y="129"/>
                  </a:lnTo>
                  <a:lnTo>
                    <a:pt x="8620" y="117"/>
                  </a:lnTo>
                  <a:lnTo>
                    <a:pt x="8591" y="106"/>
                  </a:lnTo>
                  <a:lnTo>
                    <a:pt x="8560" y="94"/>
                  </a:lnTo>
                  <a:lnTo>
                    <a:pt x="8525" y="82"/>
                  </a:lnTo>
                  <a:lnTo>
                    <a:pt x="8489" y="70"/>
                  </a:lnTo>
                  <a:lnTo>
                    <a:pt x="8449" y="59"/>
                  </a:lnTo>
                  <a:lnTo>
                    <a:pt x="8406" y="48"/>
                  </a:lnTo>
                  <a:lnTo>
                    <a:pt x="8362" y="37"/>
                  </a:lnTo>
                  <a:lnTo>
                    <a:pt x="8315" y="28"/>
                  </a:lnTo>
                  <a:lnTo>
                    <a:pt x="8264" y="20"/>
                  </a:lnTo>
                  <a:lnTo>
                    <a:pt x="8211" y="13"/>
                  </a:lnTo>
                  <a:lnTo>
                    <a:pt x="8155" y="7"/>
                  </a:lnTo>
                  <a:lnTo>
                    <a:pt x="8097" y="3"/>
                  </a:lnTo>
                  <a:lnTo>
                    <a:pt x="8035" y="0"/>
                  </a:lnTo>
                  <a:lnTo>
                    <a:pt x="7972" y="0"/>
                  </a:lnTo>
                  <a:lnTo>
                    <a:pt x="7905" y="1"/>
                  </a:lnTo>
                  <a:lnTo>
                    <a:pt x="7836" y="5"/>
                  </a:lnTo>
                  <a:lnTo>
                    <a:pt x="7764" y="10"/>
                  </a:lnTo>
                  <a:lnTo>
                    <a:pt x="7690" y="19"/>
                  </a:lnTo>
                  <a:lnTo>
                    <a:pt x="7613" y="30"/>
                  </a:lnTo>
                  <a:lnTo>
                    <a:pt x="7533" y="45"/>
                  </a:lnTo>
                  <a:lnTo>
                    <a:pt x="7451" y="62"/>
                  </a:lnTo>
                  <a:lnTo>
                    <a:pt x="7366" y="82"/>
                  </a:lnTo>
                  <a:lnTo>
                    <a:pt x="7284" y="103"/>
                  </a:lnTo>
                  <a:lnTo>
                    <a:pt x="7207" y="121"/>
                  </a:lnTo>
                  <a:lnTo>
                    <a:pt x="7136" y="138"/>
                  </a:lnTo>
                  <a:lnTo>
                    <a:pt x="7071" y="152"/>
                  </a:lnTo>
                  <a:lnTo>
                    <a:pt x="7010" y="166"/>
                  </a:lnTo>
                  <a:lnTo>
                    <a:pt x="6954" y="176"/>
                  </a:lnTo>
                  <a:lnTo>
                    <a:pt x="6902" y="185"/>
                  </a:lnTo>
                  <a:lnTo>
                    <a:pt x="6856" y="193"/>
                  </a:lnTo>
                  <a:lnTo>
                    <a:pt x="6813" y="198"/>
                  </a:lnTo>
                  <a:lnTo>
                    <a:pt x="6773" y="203"/>
                  </a:lnTo>
                  <a:lnTo>
                    <a:pt x="6737" y="206"/>
                  </a:lnTo>
                  <a:lnTo>
                    <a:pt x="6704" y="208"/>
                  </a:lnTo>
                  <a:lnTo>
                    <a:pt x="6674" y="209"/>
                  </a:lnTo>
                  <a:lnTo>
                    <a:pt x="6645" y="209"/>
                  </a:lnTo>
                  <a:lnTo>
                    <a:pt x="6620" y="209"/>
                  </a:lnTo>
                  <a:lnTo>
                    <a:pt x="6597" y="207"/>
                  </a:lnTo>
                  <a:lnTo>
                    <a:pt x="6575" y="205"/>
                  </a:lnTo>
                  <a:lnTo>
                    <a:pt x="6555" y="202"/>
                  </a:lnTo>
                  <a:lnTo>
                    <a:pt x="6536" y="199"/>
                  </a:lnTo>
                  <a:lnTo>
                    <a:pt x="6517" y="196"/>
                  </a:lnTo>
                  <a:lnTo>
                    <a:pt x="6483" y="189"/>
                  </a:lnTo>
                  <a:lnTo>
                    <a:pt x="6449" y="182"/>
                  </a:lnTo>
                  <a:lnTo>
                    <a:pt x="6431" y="178"/>
                  </a:lnTo>
                  <a:lnTo>
                    <a:pt x="6413" y="175"/>
                  </a:lnTo>
                  <a:lnTo>
                    <a:pt x="6392" y="173"/>
                  </a:lnTo>
                  <a:lnTo>
                    <a:pt x="6371" y="171"/>
                  </a:lnTo>
                  <a:lnTo>
                    <a:pt x="6349" y="170"/>
                  </a:lnTo>
                  <a:lnTo>
                    <a:pt x="6325" y="169"/>
                  </a:lnTo>
                  <a:lnTo>
                    <a:pt x="6298" y="169"/>
                  </a:lnTo>
                  <a:lnTo>
                    <a:pt x="6268" y="171"/>
                  </a:lnTo>
                  <a:lnTo>
                    <a:pt x="6209" y="175"/>
                  </a:lnTo>
                  <a:lnTo>
                    <a:pt x="6147" y="182"/>
                  </a:lnTo>
                  <a:lnTo>
                    <a:pt x="6084" y="190"/>
                  </a:lnTo>
                  <a:lnTo>
                    <a:pt x="6019" y="200"/>
                  </a:lnTo>
                  <a:lnTo>
                    <a:pt x="5987" y="206"/>
                  </a:lnTo>
                  <a:lnTo>
                    <a:pt x="5955" y="213"/>
                  </a:lnTo>
                  <a:lnTo>
                    <a:pt x="5923" y="219"/>
                  </a:lnTo>
                  <a:lnTo>
                    <a:pt x="5890" y="227"/>
                  </a:lnTo>
                  <a:lnTo>
                    <a:pt x="5858" y="235"/>
                  </a:lnTo>
                  <a:lnTo>
                    <a:pt x="5827" y="243"/>
                  </a:lnTo>
                  <a:lnTo>
                    <a:pt x="5796" y="252"/>
                  </a:lnTo>
                  <a:lnTo>
                    <a:pt x="5764" y="262"/>
                  </a:lnTo>
                  <a:lnTo>
                    <a:pt x="5734" y="272"/>
                  </a:lnTo>
                  <a:lnTo>
                    <a:pt x="5704" y="284"/>
                  </a:lnTo>
                  <a:lnTo>
                    <a:pt x="5675" y="295"/>
                  </a:lnTo>
                  <a:lnTo>
                    <a:pt x="5646" y="306"/>
                  </a:lnTo>
                  <a:lnTo>
                    <a:pt x="5617" y="319"/>
                  </a:lnTo>
                  <a:lnTo>
                    <a:pt x="5590" y="331"/>
                  </a:lnTo>
                  <a:lnTo>
                    <a:pt x="5564" y="345"/>
                  </a:lnTo>
                  <a:lnTo>
                    <a:pt x="5539" y="359"/>
                  </a:lnTo>
                  <a:lnTo>
                    <a:pt x="5514" y="373"/>
                  </a:lnTo>
                  <a:lnTo>
                    <a:pt x="5491" y="389"/>
                  </a:lnTo>
                  <a:lnTo>
                    <a:pt x="5469" y="405"/>
                  </a:lnTo>
                  <a:lnTo>
                    <a:pt x="5448" y="422"/>
                  </a:lnTo>
                  <a:lnTo>
                    <a:pt x="5428" y="439"/>
                  </a:lnTo>
                  <a:lnTo>
                    <a:pt x="5410" y="456"/>
                  </a:lnTo>
                  <a:lnTo>
                    <a:pt x="5393" y="475"/>
                  </a:lnTo>
                  <a:lnTo>
                    <a:pt x="5377" y="493"/>
                  </a:lnTo>
                  <a:lnTo>
                    <a:pt x="5361" y="514"/>
                  </a:lnTo>
                  <a:lnTo>
                    <a:pt x="5340" y="539"/>
                  </a:lnTo>
                  <a:lnTo>
                    <a:pt x="5315" y="567"/>
                  </a:lnTo>
                  <a:lnTo>
                    <a:pt x="5285" y="597"/>
                  </a:lnTo>
                  <a:lnTo>
                    <a:pt x="5251" y="629"/>
                  </a:lnTo>
                  <a:lnTo>
                    <a:pt x="5214" y="665"/>
                  </a:lnTo>
                  <a:lnTo>
                    <a:pt x="5173" y="702"/>
                  </a:lnTo>
                  <a:lnTo>
                    <a:pt x="5129" y="740"/>
                  </a:lnTo>
                  <a:lnTo>
                    <a:pt x="5082" y="781"/>
                  </a:lnTo>
                  <a:lnTo>
                    <a:pt x="5032" y="823"/>
                  </a:lnTo>
                  <a:lnTo>
                    <a:pt x="4979" y="865"/>
                  </a:lnTo>
                  <a:lnTo>
                    <a:pt x="4925" y="908"/>
                  </a:lnTo>
                  <a:lnTo>
                    <a:pt x="4868" y="952"/>
                  </a:lnTo>
                  <a:lnTo>
                    <a:pt x="4810" y="995"/>
                  </a:lnTo>
                  <a:lnTo>
                    <a:pt x="4750" y="1039"/>
                  </a:lnTo>
                  <a:lnTo>
                    <a:pt x="4689" y="1081"/>
                  </a:lnTo>
                  <a:lnTo>
                    <a:pt x="4627" y="1124"/>
                  </a:lnTo>
                  <a:lnTo>
                    <a:pt x="4565" y="1165"/>
                  </a:lnTo>
                  <a:lnTo>
                    <a:pt x="4501" y="1205"/>
                  </a:lnTo>
                  <a:lnTo>
                    <a:pt x="4438" y="1245"/>
                  </a:lnTo>
                  <a:lnTo>
                    <a:pt x="4374" y="1281"/>
                  </a:lnTo>
                  <a:lnTo>
                    <a:pt x="4312" y="1316"/>
                  </a:lnTo>
                  <a:lnTo>
                    <a:pt x="4249" y="1348"/>
                  </a:lnTo>
                  <a:lnTo>
                    <a:pt x="4187" y="1379"/>
                  </a:lnTo>
                  <a:lnTo>
                    <a:pt x="4126" y="1406"/>
                  </a:lnTo>
                  <a:lnTo>
                    <a:pt x="4067" y="1429"/>
                  </a:lnTo>
                  <a:lnTo>
                    <a:pt x="4010" y="1450"/>
                  </a:lnTo>
                  <a:lnTo>
                    <a:pt x="3953" y="1467"/>
                  </a:lnTo>
                  <a:lnTo>
                    <a:pt x="3899" y="1481"/>
                  </a:lnTo>
                  <a:lnTo>
                    <a:pt x="3847" y="1490"/>
                  </a:lnTo>
                  <a:lnTo>
                    <a:pt x="3798" y="1494"/>
                  </a:lnTo>
                  <a:lnTo>
                    <a:pt x="3751" y="1494"/>
                  </a:lnTo>
                  <a:lnTo>
                    <a:pt x="3706" y="1490"/>
                  </a:lnTo>
                  <a:lnTo>
                    <a:pt x="3660" y="1488"/>
                  </a:lnTo>
                  <a:lnTo>
                    <a:pt x="3612" y="1486"/>
                  </a:lnTo>
                  <a:lnTo>
                    <a:pt x="3564" y="1485"/>
                  </a:lnTo>
                  <a:lnTo>
                    <a:pt x="3516" y="1484"/>
                  </a:lnTo>
                  <a:lnTo>
                    <a:pt x="3466" y="1485"/>
                  </a:lnTo>
                  <a:lnTo>
                    <a:pt x="3417" y="1486"/>
                  </a:lnTo>
                  <a:lnTo>
                    <a:pt x="3367" y="1488"/>
                  </a:lnTo>
                  <a:lnTo>
                    <a:pt x="3318" y="1491"/>
                  </a:lnTo>
                  <a:lnTo>
                    <a:pt x="3269" y="1494"/>
                  </a:lnTo>
                  <a:lnTo>
                    <a:pt x="3219" y="1499"/>
                  </a:lnTo>
                  <a:lnTo>
                    <a:pt x="3171" y="1504"/>
                  </a:lnTo>
                  <a:lnTo>
                    <a:pt x="3122" y="1510"/>
                  </a:lnTo>
                  <a:lnTo>
                    <a:pt x="3075" y="1518"/>
                  </a:lnTo>
                  <a:lnTo>
                    <a:pt x="3029" y="1526"/>
                  </a:lnTo>
                  <a:lnTo>
                    <a:pt x="2982" y="1535"/>
                  </a:lnTo>
                  <a:lnTo>
                    <a:pt x="2937" y="1545"/>
                  </a:lnTo>
                  <a:lnTo>
                    <a:pt x="2894" y="1556"/>
                  </a:lnTo>
                  <a:lnTo>
                    <a:pt x="2851" y="1568"/>
                  </a:lnTo>
                  <a:lnTo>
                    <a:pt x="2810" y="1581"/>
                  </a:lnTo>
                  <a:lnTo>
                    <a:pt x="2771" y="1595"/>
                  </a:lnTo>
                  <a:lnTo>
                    <a:pt x="2733" y="1611"/>
                  </a:lnTo>
                  <a:lnTo>
                    <a:pt x="2697" y="1628"/>
                  </a:lnTo>
                  <a:lnTo>
                    <a:pt x="2663" y="1645"/>
                  </a:lnTo>
                  <a:lnTo>
                    <a:pt x="2632" y="1663"/>
                  </a:lnTo>
                  <a:lnTo>
                    <a:pt x="2601" y="1683"/>
                  </a:lnTo>
                  <a:lnTo>
                    <a:pt x="2574" y="1704"/>
                  </a:lnTo>
                  <a:lnTo>
                    <a:pt x="2550" y="1727"/>
                  </a:lnTo>
                  <a:lnTo>
                    <a:pt x="2528" y="1750"/>
                  </a:lnTo>
                  <a:lnTo>
                    <a:pt x="2508" y="1774"/>
                  </a:lnTo>
                  <a:lnTo>
                    <a:pt x="2491" y="1799"/>
                  </a:lnTo>
                  <a:lnTo>
                    <a:pt x="2478" y="1826"/>
                  </a:lnTo>
                  <a:lnTo>
                    <a:pt x="2467" y="1854"/>
                  </a:lnTo>
                  <a:lnTo>
                    <a:pt x="2458" y="1879"/>
                  </a:lnTo>
                  <a:lnTo>
                    <a:pt x="2451" y="1903"/>
                  </a:lnTo>
                  <a:lnTo>
                    <a:pt x="2446" y="1926"/>
                  </a:lnTo>
                  <a:lnTo>
                    <a:pt x="2443" y="1949"/>
                  </a:lnTo>
                  <a:lnTo>
                    <a:pt x="2442" y="1971"/>
                  </a:lnTo>
                  <a:lnTo>
                    <a:pt x="2442" y="1992"/>
                  </a:lnTo>
                  <a:lnTo>
                    <a:pt x="2445" y="2011"/>
                  </a:lnTo>
                  <a:lnTo>
                    <a:pt x="2449" y="2031"/>
                  </a:lnTo>
                  <a:lnTo>
                    <a:pt x="2454" y="2050"/>
                  </a:lnTo>
                  <a:lnTo>
                    <a:pt x="2461" y="2068"/>
                  </a:lnTo>
                  <a:lnTo>
                    <a:pt x="2470" y="2087"/>
                  </a:lnTo>
                  <a:lnTo>
                    <a:pt x="2480" y="2105"/>
                  </a:lnTo>
                  <a:lnTo>
                    <a:pt x="2492" y="2123"/>
                  </a:lnTo>
                  <a:lnTo>
                    <a:pt x="2506" y="2141"/>
                  </a:lnTo>
                  <a:lnTo>
                    <a:pt x="2521" y="2159"/>
                  </a:lnTo>
                  <a:lnTo>
                    <a:pt x="2537" y="2178"/>
                  </a:lnTo>
                  <a:lnTo>
                    <a:pt x="2554" y="2197"/>
                  </a:lnTo>
                  <a:lnTo>
                    <a:pt x="2573" y="2217"/>
                  </a:lnTo>
                  <a:lnTo>
                    <a:pt x="2592" y="2236"/>
                  </a:lnTo>
                  <a:lnTo>
                    <a:pt x="2636" y="2277"/>
                  </a:lnTo>
                  <a:lnTo>
                    <a:pt x="2683" y="2323"/>
                  </a:lnTo>
                  <a:lnTo>
                    <a:pt x="2734" y="2372"/>
                  </a:lnTo>
                  <a:lnTo>
                    <a:pt x="2790" y="2425"/>
                  </a:lnTo>
                  <a:lnTo>
                    <a:pt x="2818" y="2455"/>
                  </a:lnTo>
                  <a:lnTo>
                    <a:pt x="2847" y="2485"/>
                  </a:lnTo>
                  <a:lnTo>
                    <a:pt x="2878" y="2517"/>
                  </a:lnTo>
                  <a:lnTo>
                    <a:pt x="2909" y="2551"/>
                  </a:lnTo>
                  <a:lnTo>
                    <a:pt x="2976" y="2626"/>
                  </a:lnTo>
                  <a:lnTo>
                    <a:pt x="3050" y="2711"/>
                  </a:lnTo>
                  <a:lnTo>
                    <a:pt x="3089" y="2756"/>
                  </a:lnTo>
                  <a:lnTo>
                    <a:pt x="3130" y="2803"/>
                  </a:lnTo>
                  <a:lnTo>
                    <a:pt x="3170" y="2851"/>
                  </a:lnTo>
                  <a:lnTo>
                    <a:pt x="3211" y="2900"/>
                  </a:lnTo>
                  <a:lnTo>
                    <a:pt x="3252" y="2951"/>
                  </a:lnTo>
                  <a:lnTo>
                    <a:pt x="3292" y="3003"/>
                  </a:lnTo>
                  <a:lnTo>
                    <a:pt x="3332" y="3055"/>
                  </a:lnTo>
                  <a:lnTo>
                    <a:pt x="3370" y="3108"/>
                  </a:lnTo>
                  <a:lnTo>
                    <a:pt x="3409" y="3162"/>
                  </a:lnTo>
                  <a:lnTo>
                    <a:pt x="3444" y="3215"/>
                  </a:lnTo>
                  <a:lnTo>
                    <a:pt x="3478" y="3267"/>
                  </a:lnTo>
                  <a:lnTo>
                    <a:pt x="3511" y="3321"/>
                  </a:lnTo>
                  <a:lnTo>
                    <a:pt x="3539" y="3373"/>
                  </a:lnTo>
                  <a:lnTo>
                    <a:pt x="3566" y="3426"/>
                  </a:lnTo>
                  <a:lnTo>
                    <a:pt x="3589" y="3476"/>
                  </a:lnTo>
                  <a:lnTo>
                    <a:pt x="3608" y="3527"/>
                  </a:lnTo>
                  <a:lnTo>
                    <a:pt x="3624" y="3575"/>
                  </a:lnTo>
                  <a:lnTo>
                    <a:pt x="3636" y="3622"/>
                  </a:lnTo>
                  <a:lnTo>
                    <a:pt x="3644" y="3668"/>
                  </a:lnTo>
                  <a:lnTo>
                    <a:pt x="3646" y="3712"/>
                  </a:lnTo>
                  <a:lnTo>
                    <a:pt x="3644" y="3754"/>
                  </a:lnTo>
                  <a:lnTo>
                    <a:pt x="3636" y="3793"/>
                  </a:lnTo>
                  <a:lnTo>
                    <a:pt x="3621" y="3830"/>
                  </a:lnTo>
                  <a:lnTo>
                    <a:pt x="3602" y="3864"/>
                  </a:lnTo>
                  <a:lnTo>
                    <a:pt x="3576" y="3897"/>
                  </a:lnTo>
                  <a:lnTo>
                    <a:pt x="3544" y="3925"/>
                  </a:lnTo>
                  <a:lnTo>
                    <a:pt x="3505" y="3950"/>
                  </a:lnTo>
                  <a:lnTo>
                    <a:pt x="3457" y="3972"/>
                  </a:lnTo>
                  <a:lnTo>
                    <a:pt x="3410" y="3992"/>
                  </a:lnTo>
                  <a:lnTo>
                    <a:pt x="3364" y="4007"/>
                  </a:lnTo>
                  <a:lnTo>
                    <a:pt x="3321" y="4018"/>
                  </a:lnTo>
                  <a:lnTo>
                    <a:pt x="3282" y="4027"/>
                  </a:lnTo>
                  <a:lnTo>
                    <a:pt x="3243" y="4033"/>
                  </a:lnTo>
                  <a:lnTo>
                    <a:pt x="3209" y="4037"/>
                  </a:lnTo>
                  <a:lnTo>
                    <a:pt x="3176" y="4037"/>
                  </a:lnTo>
                  <a:lnTo>
                    <a:pt x="3145" y="4036"/>
                  </a:lnTo>
                  <a:lnTo>
                    <a:pt x="3115" y="4032"/>
                  </a:lnTo>
                  <a:lnTo>
                    <a:pt x="3088" y="4026"/>
                  </a:lnTo>
                  <a:lnTo>
                    <a:pt x="3062" y="4019"/>
                  </a:lnTo>
                  <a:lnTo>
                    <a:pt x="3038" y="4009"/>
                  </a:lnTo>
                  <a:lnTo>
                    <a:pt x="3015" y="3998"/>
                  </a:lnTo>
                  <a:lnTo>
                    <a:pt x="2992" y="3985"/>
                  </a:lnTo>
                  <a:lnTo>
                    <a:pt x="2971" y="3971"/>
                  </a:lnTo>
                  <a:lnTo>
                    <a:pt x="2952" y="3956"/>
                  </a:lnTo>
                  <a:lnTo>
                    <a:pt x="2933" y="3941"/>
                  </a:lnTo>
                  <a:lnTo>
                    <a:pt x="2914" y="3924"/>
                  </a:lnTo>
                  <a:lnTo>
                    <a:pt x="2896" y="3907"/>
                  </a:lnTo>
                  <a:lnTo>
                    <a:pt x="2879" y="3890"/>
                  </a:lnTo>
                  <a:lnTo>
                    <a:pt x="2843" y="3853"/>
                  </a:lnTo>
                  <a:lnTo>
                    <a:pt x="2809" y="3817"/>
                  </a:lnTo>
                  <a:lnTo>
                    <a:pt x="2791" y="3799"/>
                  </a:lnTo>
                  <a:lnTo>
                    <a:pt x="2773" y="3782"/>
                  </a:lnTo>
                  <a:lnTo>
                    <a:pt x="2754" y="3766"/>
                  </a:lnTo>
                  <a:lnTo>
                    <a:pt x="2733" y="3749"/>
                  </a:lnTo>
                  <a:lnTo>
                    <a:pt x="2713" y="3735"/>
                  </a:lnTo>
                  <a:lnTo>
                    <a:pt x="2691" y="3721"/>
                  </a:lnTo>
                  <a:lnTo>
                    <a:pt x="2669" y="3709"/>
                  </a:lnTo>
                  <a:lnTo>
                    <a:pt x="2645" y="3698"/>
                  </a:lnTo>
                  <a:lnTo>
                    <a:pt x="2618" y="3689"/>
                  </a:lnTo>
                  <a:lnTo>
                    <a:pt x="2589" y="3680"/>
                  </a:lnTo>
                  <a:lnTo>
                    <a:pt x="2559" y="3673"/>
                  </a:lnTo>
                  <a:lnTo>
                    <a:pt x="2526" y="3666"/>
                  </a:lnTo>
                  <a:lnTo>
                    <a:pt x="2490" y="3661"/>
                  </a:lnTo>
                  <a:lnTo>
                    <a:pt x="2453" y="3657"/>
                  </a:lnTo>
                  <a:lnTo>
                    <a:pt x="2414" y="3653"/>
                  </a:lnTo>
                  <a:lnTo>
                    <a:pt x="2374" y="3651"/>
                  </a:lnTo>
                  <a:lnTo>
                    <a:pt x="2330" y="3650"/>
                  </a:lnTo>
                  <a:lnTo>
                    <a:pt x="2287" y="3650"/>
                  </a:lnTo>
                  <a:lnTo>
                    <a:pt x="2241" y="3651"/>
                  </a:lnTo>
                  <a:lnTo>
                    <a:pt x="2195" y="3653"/>
                  </a:lnTo>
                  <a:lnTo>
                    <a:pt x="2148" y="3656"/>
                  </a:lnTo>
                  <a:lnTo>
                    <a:pt x="2100" y="3661"/>
                  </a:lnTo>
                  <a:lnTo>
                    <a:pt x="2051" y="3666"/>
                  </a:lnTo>
                  <a:lnTo>
                    <a:pt x="2002" y="3673"/>
                  </a:lnTo>
                  <a:lnTo>
                    <a:pt x="1951" y="3680"/>
                  </a:lnTo>
                  <a:lnTo>
                    <a:pt x="1901" y="3689"/>
                  </a:lnTo>
                  <a:lnTo>
                    <a:pt x="1850" y="3699"/>
                  </a:lnTo>
                  <a:lnTo>
                    <a:pt x="1800" y="3710"/>
                  </a:lnTo>
                  <a:lnTo>
                    <a:pt x="1750" y="3722"/>
                  </a:lnTo>
                  <a:lnTo>
                    <a:pt x="1698" y="3735"/>
                  </a:lnTo>
                  <a:lnTo>
                    <a:pt x="1649" y="3750"/>
                  </a:lnTo>
                  <a:lnTo>
                    <a:pt x="1599" y="3766"/>
                  </a:lnTo>
                  <a:lnTo>
                    <a:pt x="1550" y="3783"/>
                  </a:lnTo>
                  <a:lnTo>
                    <a:pt x="1502" y="3801"/>
                  </a:lnTo>
                  <a:lnTo>
                    <a:pt x="1454" y="3820"/>
                  </a:lnTo>
                  <a:lnTo>
                    <a:pt x="1407" y="3840"/>
                  </a:lnTo>
                  <a:lnTo>
                    <a:pt x="1362" y="3861"/>
                  </a:lnTo>
                  <a:lnTo>
                    <a:pt x="1318" y="3885"/>
                  </a:lnTo>
                  <a:lnTo>
                    <a:pt x="1275" y="3908"/>
                  </a:lnTo>
                  <a:lnTo>
                    <a:pt x="1233" y="3933"/>
                  </a:lnTo>
                  <a:lnTo>
                    <a:pt x="1154" y="3982"/>
                  </a:lnTo>
                  <a:lnTo>
                    <a:pt x="1077" y="4032"/>
                  </a:lnTo>
                  <a:lnTo>
                    <a:pt x="1040" y="4056"/>
                  </a:lnTo>
                  <a:lnTo>
                    <a:pt x="1005" y="4079"/>
                  </a:lnTo>
                  <a:lnTo>
                    <a:pt x="969" y="4103"/>
                  </a:lnTo>
                  <a:lnTo>
                    <a:pt x="936" y="4128"/>
                  </a:lnTo>
                  <a:lnTo>
                    <a:pt x="905" y="4152"/>
                  </a:lnTo>
                  <a:lnTo>
                    <a:pt x="875" y="4175"/>
                  </a:lnTo>
                  <a:lnTo>
                    <a:pt x="845" y="4199"/>
                  </a:lnTo>
                  <a:lnTo>
                    <a:pt x="819" y="4223"/>
                  </a:lnTo>
                  <a:lnTo>
                    <a:pt x="795" y="4248"/>
                  </a:lnTo>
                  <a:lnTo>
                    <a:pt x="772" y="4271"/>
                  </a:lnTo>
                  <a:lnTo>
                    <a:pt x="752" y="4295"/>
                  </a:lnTo>
                  <a:lnTo>
                    <a:pt x="735" y="4319"/>
                  </a:lnTo>
                  <a:lnTo>
                    <a:pt x="719" y="4343"/>
                  </a:lnTo>
                  <a:lnTo>
                    <a:pt x="706" y="4368"/>
                  </a:lnTo>
                  <a:lnTo>
                    <a:pt x="696" y="4392"/>
                  </a:lnTo>
                  <a:lnTo>
                    <a:pt x="690" y="4417"/>
                  </a:lnTo>
                  <a:lnTo>
                    <a:pt x="686" y="4441"/>
                  </a:lnTo>
                  <a:lnTo>
                    <a:pt x="685" y="4466"/>
                  </a:lnTo>
                  <a:lnTo>
                    <a:pt x="688" y="4491"/>
                  </a:lnTo>
                  <a:lnTo>
                    <a:pt x="694" y="4516"/>
                  </a:lnTo>
                  <a:lnTo>
                    <a:pt x="703" y="4542"/>
                  </a:lnTo>
                  <a:lnTo>
                    <a:pt x="716" y="4567"/>
                  </a:lnTo>
                  <a:lnTo>
                    <a:pt x="734" y="4594"/>
                  </a:lnTo>
                  <a:lnTo>
                    <a:pt x="755" y="4620"/>
                  </a:lnTo>
                  <a:lnTo>
                    <a:pt x="780" y="4646"/>
                  </a:lnTo>
                  <a:lnTo>
                    <a:pt x="809" y="4672"/>
                  </a:lnTo>
                  <a:lnTo>
                    <a:pt x="843" y="4699"/>
                  </a:lnTo>
                  <a:lnTo>
                    <a:pt x="882" y="4727"/>
                  </a:lnTo>
                  <a:lnTo>
                    <a:pt x="922" y="4755"/>
                  </a:lnTo>
                  <a:lnTo>
                    <a:pt x="963" y="4782"/>
                  </a:lnTo>
                  <a:lnTo>
                    <a:pt x="1006" y="4808"/>
                  </a:lnTo>
                  <a:lnTo>
                    <a:pt x="1049" y="4835"/>
                  </a:lnTo>
                  <a:lnTo>
                    <a:pt x="1093" y="4861"/>
                  </a:lnTo>
                  <a:lnTo>
                    <a:pt x="1138" y="4886"/>
                  </a:lnTo>
                  <a:lnTo>
                    <a:pt x="1183" y="4911"/>
                  </a:lnTo>
                  <a:lnTo>
                    <a:pt x="1229" y="4935"/>
                  </a:lnTo>
                  <a:lnTo>
                    <a:pt x="1277" y="4959"/>
                  </a:lnTo>
                  <a:lnTo>
                    <a:pt x="1324" y="4981"/>
                  </a:lnTo>
                  <a:lnTo>
                    <a:pt x="1373" y="5003"/>
                  </a:lnTo>
                  <a:lnTo>
                    <a:pt x="1422" y="5024"/>
                  </a:lnTo>
                  <a:lnTo>
                    <a:pt x="1472" y="5043"/>
                  </a:lnTo>
                  <a:lnTo>
                    <a:pt x="1523" y="5062"/>
                  </a:lnTo>
                  <a:lnTo>
                    <a:pt x="1574" y="5081"/>
                  </a:lnTo>
                  <a:lnTo>
                    <a:pt x="1627" y="5097"/>
                  </a:lnTo>
                  <a:lnTo>
                    <a:pt x="1680" y="5113"/>
                  </a:lnTo>
                  <a:lnTo>
                    <a:pt x="1733" y="5127"/>
                  </a:lnTo>
                  <a:lnTo>
                    <a:pt x="1788" y="5139"/>
                  </a:lnTo>
                  <a:lnTo>
                    <a:pt x="1842" y="5151"/>
                  </a:lnTo>
                  <a:lnTo>
                    <a:pt x="1899" y="5161"/>
                  </a:lnTo>
                  <a:lnTo>
                    <a:pt x="1955" y="5169"/>
                  </a:lnTo>
                  <a:lnTo>
                    <a:pt x="2012" y="5176"/>
                  </a:lnTo>
                  <a:lnTo>
                    <a:pt x="2070" y="5181"/>
                  </a:lnTo>
                  <a:lnTo>
                    <a:pt x="2129" y="5185"/>
                  </a:lnTo>
                  <a:lnTo>
                    <a:pt x="2188" y="5187"/>
                  </a:lnTo>
                  <a:lnTo>
                    <a:pt x="2248" y="5187"/>
                  </a:lnTo>
                  <a:lnTo>
                    <a:pt x="2308" y="5185"/>
                  </a:lnTo>
                  <a:lnTo>
                    <a:pt x="2369" y="5181"/>
                  </a:lnTo>
                  <a:lnTo>
                    <a:pt x="2431" y="5176"/>
                  </a:lnTo>
                  <a:lnTo>
                    <a:pt x="2493" y="5168"/>
                  </a:lnTo>
                  <a:lnTo>
                    <a:pt x="2556" y="5158"/>
                  </a:lnTo>
                  <a:lnTo>
                    <a:pt x="2567" y="5155"/>
                  </a:lnTo>
                  <a:lnTo>
                    <a:pt x="2596" y="5147"/>
                  </a:lnTo>
                  <a:lnTo>
                    <a:pt x="2643" y="5134"/>
                  </a:lnTo>
                  <a:lnTo>
                    <a:pt x="2702" y="5118"/>
                  </a:lnTo>
                  <a:lnTo>
                    <a:pt x="2774" y="5100"/>
                  </a:lnTo>
                  <a:lnTo>
                    <a:pt x="2853" y="5081"/>
                  </a:lnTo>
                  <a:lnTo>
                    <a:pt x="2939" y="5061"/>
                  </a:lnTo>
                  <a:lnTo>
                    <a:pt x="3028" y="5043"/>
                  </a:lnTo>
                  <a:lnTo>
                    <a:pt x="3072" y="5034"/>
                  </a:lnTo>
                  <a:lnTo>
                    <a:pt x="3117" y="5027"/>
                  </a:lnTo>
                  <a:lnTo>
                    <a:pt x="3161" y="5020"/>
                  </a:lnTo>
                  <a:lnTo>
                    <a:pt x="3204" y="5014"/>
                  </a:lnTo>
                  <a:lnTo>
                    <a:pt x="3246" y="5009"/>
                  </a:lnTo>
                  <a:lnTo>
                    <a:pt x="3287" y="5005"/>
                  </a:lnTo>
                  <a:lnTo>
                    <a:pt x="3325" y="5002"/>
                  </a:lnTo>
                  <a:lnTo>
                    <a:pt x="3362" y="5001"/>
                  </a:lnTo>
                  <a:lnTo>
                    <a:pt x="3396" y="5002"/>
                  </a:lnTo>
                  <a:lnTo>
                    <a:pt x="3427" y="5004"/>
                  </a:lnTo>
                  <a:lnTo>
                    <a:pt x="3455" y="5008"/>
                  </a:lnTo>
                  <a:lnTo>
                    <a:pt x="3479" y="5014"/>
                  </a:lnTo>
                  <a:lnTo>
                    <a:pt x="3500" y="5022"/>
                  </a:lnTo>
                  <a:lnTo>
                    <a:pt x="3517" y="5032"/>
                  </a:lnTo>
                  <a:lnTo>
                    <a:pt x="3529" y="5045"/>
                  </a:lnTo>
                  <a:lnTo>
                    <a:pt x="3536" y="5060"/>
                  </a:lnTo>
                  <a:lnTo>
                    <a:pt x="3539" y="5077"/>
                  </a:lnTo>
                  <a:lnTo>
                    <a:pt x="3541" y="5091"/>
                  </a:lnTo>
                  <a:lnTo>
                    <a:pt x="3540" y="5105"/>
                  </a:lnTo>
                  <a:lnTo>
                    <a:pt x="3537" y="5118"/>
                  </a:lnTo>
                  <a:lnTo>
                    <a:pt x="3532" y="5129"/>
                  </a:lnTo>
                  <a:lnTo>
                    <a:pt x="3526" y="5140"/>
                  </a:lnTo>
                  <a:lnTo>
                    <a:pt x="3518" y="5151"/>
                  </a:lnTo>
                  <a:lnTo>
                    <a:pt x="3509" y="5160"/>
                  </a:lnTo>
                  <a:lnTo>
                    <a:pt x="3497" y="5169"/>
                  </a:lnTo>
                  <a:lnTo>
                    <a:pt x="3486" y="5178"/>
                  </a:lnTo>
                  <a:lnTo>
                    <a:pt x="3474" y="5186"/>
                  </a:lnTo>
                  <a:lnTo>
                    <a:pt x="3461" y="5194"/>
                  </a:lnTo>
                  <a:lnTo>
                    <a:pt x="3433" y="5208"/>
                  </a:lnTo>
                  <a:lnTo>
                    <a:pt x="3404" y="5222"/>
                  </a:lnTo>
                  <a:lnTo>
                    <a:pt x="3374" y="5236"/>
                  </a:lnTo>
                  <a:lnTo>
                    <a:pt x="3346" y="5250"/>
                  </a:lnTo>
                  <a:lnTo>
                    <a:pt x="3333" y="5258"/>
                  </a:lnTo>
                  <a:lnTo>
                    <a:pt x="3321" y="5266"/>
                  </a:lnTo>
                  <a:lnTo>
                    <a:pt x="3309" y="5274"/>
                  </a:lnTo>
                  <a:lnTo>
                    <a:pt x="3299" y="5283"/>
                  </a:lnTo>
                  <a:lnTo>
                    <a:pt x="3290" y="5293"/>
                  </a:lnTo>
                  <a:lnTo>
                    <a:pt x="3282" y="5303"/>
                  </a:lnTo>
                  <a:lnTo>
                    <a:pt x="3276" y="5315"/>
                  </a:lnTo>
                  <a:lnTo>
                    <a:pt x="3271" y="5327"/>
                  </a:lnTo>
                  <a:lnTo>
                    <a:pt x="3268" y="5339"/>
                  </a:lnTo>
                  <a:lnTo>
                    <a:pt x="3267" y="5353"/>
                  </a:lnTo>
                  <a:lnTo>
                    <a:pt x="3268" y="5368"/>
                  </a:lnTo>
                  <a:lnTo>
                    <a:pt x="3272" y="5384"/>
                  </a:lnTo>
                  <a:lnTo>
                    <a:pt x="3276" y="5400"/>
                  </a:lnTo>
                  <a:lnTo>
                    <a:pt x="3281" y="5416"/>
                  </a:lnTo>
                  <a:lnTo>
                    <a:pt x="3288" y="5433"/>
                  </a:lnTo>
                  <a:lnTo>
                    <a:pt x="3295" y="5449"/>
                  </a:lnTo>
                  <a:lnTo>
                    <a:pt x="3310" y="5480"/>
                  </a:lnTo>
                  <a:lnTo>
                    <a:pt x="3327" y="5511"/>
                  </a:lnTo>
                  <a:lnTo>
                    <a:pt x="3343" y="5541"/>
                  </a:lnTo>
                  <a:lnTo>
                    <a:pt x="3358" y="5572"/>
                  </a:lnTo>
                  <a:lnTo>
                    <a:pt x="3364" y="5586"/>
                  </a:lnTo>
                  <a:lnTo>
                    <a:pt x="3370" y="5601"/>
                  </a:lnTo>
                  <a:lnTo>
                    <a:pt x="3374" y="5615"/>
                  </a:lnTo>
                  <a:lnTo>
                    <a:pt x="3378" y="5630"/>
                  </a:lnTo>
                  <a:lnTo>
                    <a:pt x="3380" y="5644"/>
                  </a:lnTo>
                  <a:lnTo>
                    <a:pt x="3380" y="5658"/>
                  </a:lnTo>
                  <a:lnTo>
                    <a:pt x="3379" y="5673"/>
                  </a:lnTo>
                  <a:lnTo>
                    <a:pt x="3374" y="5687"/>
                  </a:lnTo>
                  <a:lnTo>
                    <a:pt x="3369" y="5702"/>
                  </a:lnTo>
                  <a:lnTo>
                    <a:pt x="3361" y="5715"/>
                  </a:lnTo>
                  <a:lnTo>
                    <a:pt x="3351" y="5729"/>
                  </a:lnTo>
                  <a:lnTo>
                    <a:pt x="3339" y="5743"/>
                  </a:lnTo>
                  <a:lnTo>
                    <a:pt x="3323" y="5757"/>
                  </a:lnTo>
                  <a:lnTo>
                    <a:pt x="3305" y="5771"/>
                  </a:lnTo>
                  <a:lnTo>
                    <a:pt x="3284" y="5785"/>
                  </a:lnTo>
                  <a:lnTo>
                    <a:pt x="3259" y="5799"/>
                  </a:lnTo>
                  <a:lnTo>
                    <a:pt x="3230" y="5813"/>
                  </a:lnTo>
                  <a:lnTo>
                    <a:pt x="3199" y="5827"/>
                  </a:lnTo>
                  <a:lnTo>
                    <a:pt x="3164" y="5840"/>
                  </a:lnTo>
                  <a:lnTo>
                    <a:pt x="3125" y="5854"/>
                  </a:lnTo>
                  <a:lnTo>
                    <a:pt x="3081" y="5867"/>
                  </a:lnTo>
                  <a:lnTo>
                    <a:pt x="3036" y="5879"/>
                  </a:lnTo>
                  <a:lnTo>
                    <a:pt x="2987" y="5890"/>
                  </a:lnTo>
                  <a:lnTo>
                    <a:pt x="2938" y="5902"/>
                  </a:lnTo>
                  <a:lnTo>
                    <a:pt x="2831" y="5925"/>
                  </a:lnTo>
                  <a:lnTo>
                    <a:pt x="2719" y="5947"/>
                  </a:lnTo>
                  <a:lnTo>
                    <a:pt x="2603" y="5970"/>
                  </a:lnTo>
                  <a:lnTo>
                    <a:pt x="2485" y="5994"/>
                  </a:lnTo>
                  <a:lnTo>
                    <a:pt x="2427" y="6006"/>
                  </a:lnTo>
                  <a:lnTo>
                    <a:pt x="2369" y="6019"/>
                  </a:lnTo>
                  <a:lnTo>
                    <a:pt x="2311" y="6034"/>
                  </a:lnTo>
                  <a:lnTo>
                    <a:pt x="2254" y="6048"/>
                  </a:lnTo>
                  <a:lnTo>
                    <a:pt x="2198" y="6063"/>
                  </a:lnTo>
                  <a:lnTo>
                    <a:pt x="2144" y="6079"/>
                  </a:lnTo>
                  <a:lnTo>
                    <a:pt x="2091" y="6095"/>
                  </a:lnTo>
                  <a:lnTo>
                    <a:pt x="2041" y="6113"/>
                  </a:lnTo>
                  <a:lnTo>
                    <a:pt x="1993" y="6132"/>
                  </a:lnTo>
                  <a:lnTo>
                    <a:pt x="1947" y="6153"/>
                  </a:lnTo>
                  <a:lnTo>
                    <a:pt x="1904" y="6174"/>
                  </a:lnTo>
                  <a:lnTo>
                    <a:pt x="1865" y="6196"/>
                  </a:lnTo>
                  <a:lnTo>
                    <a:pt x="1827" y="6220"/>
                  </a:lnTo>
                  <a:lnTo>
                    <a:pt x="1794" y="6245"/>
                  </a:lnTo>
                  <a:lnTo>
                    <a:pt x="1765" y="6272"/>
                  </a:lnTo>
                  <a:lnTo>
                    <a:pt x="1740" y="6301"/>
                  </a:lnTo>
                  <a:lnTo>
                    <a:pt x="1718" y="6331"/>
                  </a:lnTo>
                  <a:lnTo>
                    <a:pt x="1702" y="6362"/>
                  </a:lnTo>
                  <a:lnTo>
                    <a:pt x="1691" y="6397"/>
                  </a:lnTo>
                  <a:lnTo>
                    <a:pt x="1684" y="6432"/>
                  </a:lnTo>
                  <a:lnTo>
                    <a:pt x="1686" y="6432"/>
                  </a:lnTo>
                  <a:lnTo>
                    <a:pt x="1691" y="6432"/>
                  </a:lnTo>
                  <a:lnTo>
                    <a:pt x="1697" y="6431"/>
                  </a:lnTo>
                  <a:lnTo>
                    <a:pt x="1702" y="6431"/>
                  </a:lnTo>
                  <a:lnTo>
                    <a:pt x="1703" y="6432"/>
                  </a:lnTo>
                  <a:lnTo>
                    <a:pt x="1704" y="6433"/>
                  </a:lnTo>
                  <a:lnTo>
                    <a:pt x="1703" y="6434"/>
                  </a:lnTo>
                  <a:lnTo>
                    <a:pt x="1701" y="6435"/>
                  </a:lnTo>
                  <a:lnTo>
                    <a:pt x="1693" y="6440"/>
                  </a:lnTo>
                  <a:lnTo>
                    <a:pt x="1676" y="6447"/>
                  </a:lnTo>
                  <a:lnTo>
                    <a:pt x="1649" y="6457"/>
                  </a:lnTo>
                  <a:lnTo>
                    <a:pt x="1610" y="6469"/>
                  </a:lnTo>
                  <a:lnTo>
                    <a:pt x="1558" y="6486"/>
                  </a:lnTo>
                  <a:lnTo>
                    <a:pt x="1491" y="6507"/>
                  </a:lnTo>
                  <a:lnTo>
                    <a:pt x="1405" y="6532"/>
                  </a:lnTo>
                  <a:lnTo>
                    <a:pt x="1301" y="6562"/>
                  </a:lnTo>
                  <a:lnTo>
                    <a:pt x="1176" y="6597"/>
                  </a:lnTo>
                  <a:lnTo>
                    <a:pt x="1028" y="6638"/>
                  </a:lnTo>
                  <a:lnTo>
                    <a:pt x="875" y="6681"/>
                  </a:lnTo>
                  <a:lnTo>
                    <a:pt x="735" y="6721"/>
                  </a:lnTo>
                  <a:lnTo>
                    <a:pt x="669" y="6740"/>
                  </a:lnTo>
                  <a:lnTo>
                    <a:pt x="607" y="6760"/>
                  </a:lnTo>
                  <a:lnTo>
                    <a:pt x="548" y="6778"/>
                  </a:lnTo>
                  <a:lnTo>
                    <a:pt x="493" y="6796"/>
                  </a:lnTo>
                  <a:lnTo>
                    <a:pt x="440" y="6814"/>
                  </a:lnTo>
                  <a:lnTo>
                    <a:pt x="391" y="6831"/>
                  </a:lnTo>
                  <a:lnTo>
                    <a:pt x="345" y="6849"/>
                  </a:lnTo>
                  <a:lnTo>
                    <a:pt x="303" y="6867"/>
                  </a:lnTo>
                  <a:lnTo>
                    <a:pt x="265" y="6885"/>
                  </a:lnTo>
                  <a:lnTo>
                    <a:pt x="229" y="6902"/>
                  </a:lnTo>
                  <a:lnTo>
                    <a:pt x="196" y="6920"/>
                  </a:lnTo>
                  <a:lnTo>
                    <a:pt x="167" y="6938"/>
                  </a:lnTo>
                  <a:lnTo>
                    <a:pt x="142" y="6956"/>
                  </a:lnTo>
                  <a:lnTo>
                    <a:pt x="120" y="6975"/>
                  </a:lnTo>
                  <a:lnTo>
                    <a:pt x="101" y="6994"/>
                  </a:lnTo>
                  <a:lnTo>
                    <a:pt x="85" y="7014"/>
                  </a:lnTo>
                  <a:lnTo>
                    <a:pt x="73" y="7034"/>
                  </a:lnTo>
                  <a:lnTo>
                    <a:pt x="64" y="7054"/>
                  </a:lnTo>
                  <a:lnTo>
                    <a:pt x="59" y="7075"/>
                  </a:lnTo>
                  <a:lnTo>
                    <a:pt x="57" y="7096"/>
                  </a:lnTo>
                  <a:lnTo>
                    <a:pt x="58" y="7120"/>
                  </a:lnTo>
                  <a:lnTo>
                    <a:pt x="63" y="7143"/>
                  </a:lnTo>
                  <a:lnTo>
                    <a:pt x="72" y="7167"/>
                  </a:lnTo>
                  <a:lnTo>
                    <a:pt x="83" y="7192"/>
                  </a:lnTo>
                  <a:lnTo>
                    <a:pt x="99" y="7218"/>
                  </a:lnTo>
                  <a:lnTo>
                    <a:pt x="118" y="7247"/>
                  </a:lnTo>
                  <a:lnTo>
                    <a:pt x="140" y="7275"/>
                  </a:lnTo>
                  <a:lnTo>
                    <a:pt x="166" y="7304"/>
                  </a:lnTo>
                  <a:lnTo>
                    <a:pt x="177" y="7311"/>
                  </a:lnTo>
                  <a:lnTo>
                    <a:pt x="208" y="7328"/>
                  </a:lnTo>
                  <a:lnTo>
                    <a:pt x="259" y="7355"/>
                  </a:lnTo>
                  <a:lnTo>
                    <a:pt x="324" y="7387"/>
                  </a:lnTo>
                  <a:lnTo>
                    <a:pt x="362" y="7404"/>
                  </a:lnTo>
                  <a:lnTo>
                    <a:pt x="403" y="7421"/>
                  </a:lnTo>
                  <a:lnTo>
                    <a:pt x="446" y="7439"/>
                  </a:lnTo>
                  <a:lnTo>
                    <a:pt x="493" y="7457"/>
                  </a:lnTo>
                  <a:lnTo>
                    <a:pt x="541" y="7475"/>
                  </a:lnTo>
                  <a:lnTo>
                    <a:pt x="590" y="7491"/>
                  </a:lnTo>
                  <a:lnTo>
                    <a:pt x="642" y="7506"/>
                  </a:lnTo>
                  <a:lnTo>
                    <a:pt x="695" y="7520"/>
                  </a:lnTo>
                  <a:lnTo>
                    <a:pt x="690" y="7525"/>
                  </a:lnTo>
                  <a:lnTo>
                    <a:pt x="677" y="7539"/>
                  </a:lnTo>
                  <a:lnTo>
                    <a:pt x="657" y="7562"/>
                  </a:lnTo>
                  <a:lnTo>
                    <a:pt x="633" y="7594"/>
                  </a:lnTo>
                  <a:lnTo>
                    <a:pt x="620" y="7612"/>
                  </a:lnTo>
                  <a:lnTo>
                    <a:pt x="606" y="7631"/>
                  </a:lnTo>
                  <a:lnTo>
                    <a:pt x="592" y="7652"/>
                  </a:lnTo>
                  <a:lnTo>
                    <a:pt x="578" y="7675"/>
                  </a:lnTo>
                  <a:lnTo>
                    <a:pt x="565" y="7699"/>
                  </a:lnTo>
                  <a:lnTo>
                    <a:pt x="552" y="7724"/>
                  </a:lnTo>
                  <a:lnTo>
                    <a:pt x="540" y="7750"/>
                  </a:lnTo>
                  <a:lnTo>
                    <a:pt x="529" y="7777"/>
                  </a:lnTo>
                  <a:lnTo>
                    <a:pt x="519" y="7805"/>
                  </a:lnTo>
                  <a:lnTo>
                    <a:pt x="510" y="7834"/>
                  </a:lnTo>
                  <a:lnTo>
                    <a:pt x="504" y="7864"/>
                  </a:lnTo>
                  <a:lnTo>
                    <a:pt x="499" y="7893"/>
                  </a:lnTo>
                  <a:lnTo>
                    <a:pt x="497" y="7923"/>
                  </a:lnTo>
                  <a:lnTo>
                    <a:pt x="497" y="7955"/>
                  </a:lnTo>
                  <a:lnTo>
                    <a:pt x="500" y="7985"/>
                  </a:lnTo>
                  <a:lnTo>
                    <a:pt x="505" y="8016"/>
                  </a:lnTo>
                  <a:lnTo>
                    <a:pt x="514" y="8047"/>
                  </a:lnTo>
                  <a:lnTo>
                    <a:pt x="526" y="8078"/>
                  </a:lnTo>
                  <a:lnTo>
                    <a:pt x="542" y="8109"/>
                  </a:lnTo>
                  <a:lnTo>
                    <a:pt x="562" y="8139"/>
                  </a:lnTo>
                  <a:lnTo>
                    <a:pt x="586" y="8169"/>
                  </a:lnTo>
                  <a:lnTo>
                    <a:pt x="615" y="8199"/>
                  </a:lnTo>
                  <a:lnTo>
                    <a:pt x="648" y="8227"/>
                  </a:lnTo>
                  <a:lnTo>
                    <a:pt x="685" y="8255"/>
                  </a:lnTo>
                  <a:lnTo>
                    <a:pt x="706" y="8257"/>
                  </a:lnTo>
                  <a:lnTo>
                    <a:pt x="763" y="8261"/>
                  </a:lnTo>
                  <a:lnTo>
                    <a:pt x="847" y="8268"/>
                  </a:lnTo>
                  <a:lnTo>
                    <a:pt x="948" y="8275"/>
                  </a:lnTo>
                  <a:lnTo>
                    <a:pt x="1059" y="8284"/>
                  </a:lnTo>
                  <a:lnTo>
                    <a:pt x="1169" y="8292"/>
                  </a:lnTo>
                  <a:lnTo>
                    <a:pt x="1270" y="8300"/>
                  </a:lnTo>
                  <a:lnTo>
                    <a:pt x="1351" y="8304"/>
                  </a:lnTo>
                  <a:lnTo>
                    <a:pt x="1356" y="8317"/>
                  </a:lnTo>
                  <a:lnTo>
                    <a:pt x="1370" y="8352"/>
                  </a:lnTo>
                  <a:lnTo>
                    <a:pt x="1377" y="8376"/>
                  </a:lnTo>
                  <a:lnTo>
                    <a:pt x="1385" y="8406"/>
                  </a:lnTo>
                  <a:lnTo>
                    <a:pt x="1393" y="8441"/>
                  </a:lnTo>
                  <a:lnTo>
                    <a:pt x="1399" y="8478"/>
                  </a:lnTo>
                  <a:lnTo>
                    <a:pt x="1402" y="8498"/>
                  </a:lnTo>
                  <a:lnTo>
                    <a:pt x="1404" y="8519"/>
                  </a:lnTo>
                  <a:lnTo>
                    <a:pt x="1406" y="8541"/>
                  </a:lnTo>
                  <a:lnTo>
                    <a:pt x="1407" y="8564"/>
                  </a:lnTo>
                  <a:lnTo>
                    <a:pt x="1408" y="8587"/>
                  </a:lnTo>
                  <a:lnTo>
                    <a:pt x="1408" y="8610"/>
                  </a:lnTo>
                  <a:lnTo>
                    <a:pt x="1407" y="8634"/>
                  </a:lnTo>
                  <a:lnTo>
                    <a:pt x="1405" y="8660"/>
                  </a:lnTo>
                  <a:lnTo>
                    <a:pt x="1402" y="8685"/>
                  </a:lnTo>
                  <a:lnTo>
                    <a:pt x="1399" y="8711"/>
                  </a:lnTo>
                  <a:lnTo>
                    <a:pt x="1394" y="8737"/>
                  </a:lnTo>
                  <a:lnTo>
                    <a:pt x="1388" y="8763"/>
                  </a:lnTo>
                  <a:lnTo>
                    <a:pt x="1381" y="8791"/>
                  </a:lnTo>
                  <a:lnTo>
                    <a:pt x="1373" y="8818"/>
                  </a:lnTo>
                  <a:lnTo>
                    <a:pt x="1363" y="8845"/>
                  </a:lnTo>
                  <a:lnTo>
                    <a:pt x="1351" y="8872"/>
                  </a:lnTo>
                  <a:lnTo>
                    <a:pt x="1353" y="8875"/>
                  </a:lnTo>
                  <a:lnTo>
                    <a:pt x="1358" y="8881"/>
                  </a:lnTo>
                  <a:lnTo>
                    <a:pt x="1368" y="8891"/>
                  </a:lnTo>
                  <a:lnTo>
                    <a:pt x="1381" y="8904"/>
                  </a:lnTo>
                  <a:lnTo>
                    <a:pt x="1390" y="8910"/>
                  </a:lnTo>
                  <a:lnTo>
                    <a:pt x="1399" y="8917"/>
                  </a:lnTo>
                  <a:lnTo>
                    <a:pt x="1409" y="8923"/>
                  </a:lnTo>
                  <a:lnTo>
                    <a:pt x="1421" y="8929"/>
                  </a:lnTo>
                  <a:lnTo>
                    <a:pt x="1433" y="8936"/>
                  </a:lnTo>
                  <a:lnTo>
                    <a:pt x="1447" y="8941"/>
                  </a:lnTo>
                  <a:lnTo>
                    <a:pt x="1462" y="8946"/>
                  </a:lnTo>
                  <a:lnTo>
                    <a:pt x="1478" y="8951"/>
                  </a:lnTo>
                  <a:lnTo>
                    <a:pt x="1497" y="8955"/>
                  </a:lnTo>
                  <a:lnTo>
                    <a:pt x="1515" y="8957"/>
                  </a:lnTo>
                  <a:lnTo>
                    <a:pt x="1536" y="8959"/>
                  </a:lnTo>
                  <a:lnTo>
                    <a:pt x="1557" y="8959"/>
                  </a:lnTo>
                  <a:lnTo>
                    <a:pt x="1580" y="8959"/>
                  </a:lnTo>
                  <a:lnTo>
                    <a:pt x="1604" y="8956"/>
                  </a:lnTo>
                  <a:lnTo>
                    <a:pt x="1630" y="8953"/>
                  </a:lnTo>
                  <a:lnTo>
                    <a:pt x="1657" y="8947"/>
                  </a:lnTo>
                  <a:lnTo>
                    <a:pt x="1686" y="8939"/>
                  </a:lnTo>
                  <a:lnTo>
                    <a:pt x="1716" y="8930"/>
                  </a:lnTo>
                  <a:lnTo>
                    <a:pt x="1748" y="8919"/>
                  </a:lnTo>
                  <a:lnTo>
                    <a:pt x="1781" y="8905"/>
                  </a:lnTo>
                  <a:lnTo>
                    <a:pt x="1815" y="8888"/>
                  </a:lnTo>
                  <a:lnTo>
                    <a:pt x="1851" y="8869"/>
                  </a:lnTo>
                  <a:lnTo>
                    <a:pt x="1890" y="8848"/>
                  </a:lnTo>
                  <a:lnTo>
                    <a:pt x="1929" y="8823"/>
                  </a:lnTo>
                  <a:lnTo>
                    <a:pt x="1943" y="8821"/>
                  </a:lnTo>
                  <a:lnTo>
                    <a:pt x="1979" y="8818"/>
                  </a:lnTo>
                  <a:lnTo>
                    <a:pt x="2004" y="8818"/>
                  </a:lnTo>
                  <a:lnTo>
                    <a:pt x="2029" y="8818"/>
                  </a:lnTo>
                  <a:lnTo>
                    <a:pt x="2042" y="8819"/>
                  </a:lnTo>
                  <a:lnTo>
                    <a:pt x="2056" y="8821"/>
                  </a:lnTo>
                  <a:lnTo>
                    <a:pt x="2069" y="8823"/>
                  </a:lnTo>
                  <a:lnTo>
                    <a:pt x="2082" y="8826"/>
                  </a:lnTo>
                  <a:lnTo>
                    <a:pt x="2095" y="8830"/>
                  </a:lnTo>
                  <a:lnTo>
                    <a:pt x="2107" y="8834"/>
                  </a:lnTo>
                  <a:lnTo>
                    <a:pt x="2120" y="8839"/>
                  </a:lnTo>
                  <a:lnTo>
                    <a:pt x="2131" y="8845"/>
                  </a:lnTo>
                  <a:lnTo>
                    <a:pt x="2141" y="8853"/>
                  </a:lnTo>
                  <a:lnTo>
                    <a:pt x="2150" y="8861"/>
                  </a:lnTo>
                  <a:lnTo>
                    <a:pt x="2158" y="8870"/>
                  </a:lnTo>
                  <a:lnTo>
                    <a:pt x="2165" y="8881"/>
                  </a:lnTo>
                  <a:lnTo>
                    <a:pt x="2170" y="8893"/>
                  </a:lnTo>
                  <a:lnTo>
                    <a:pt x="2174" y="8907"/>
                  </a:lnTo>
                  <a:lnTo>
                    <a:pt x="2176" y="8922"/>
                  </a:lnTo>
                  <a:lnTo>
                    <a:pt x="2176" y="8938"/>
                  </a:lnTo>
                  <a:lnTo>
                    <a:pt x="2174" y="8956"/>
                  </a:lnTo>
                  <a:lnTo>
                    <a:pt x="2170" y="8975"/>
                  </a:lnTo>
                  <a:lnTo>
                    <a:pt x="2164" y="8996"/>
                  </a:lnTo>
                  <a:lnTo>
                    <a:pt x="2155" y="9020"/>
                  </a:lnTo>
                  <a:lnTo>
                    <a:pt x="2155" y="9025"/>
                  </a:lnTo>
                  <a:lnTo>
                    <a:pt x="2156" y="9038"/>
                  </a:lnTo>
                  <a:lnTo>
                    <a:pt x="2157" y="9047"/>
                  </a:lnTo>
                  <a:lnTo>
                    <a:pt x="2158" y="9057"/>
                  </a:lnTo>
                  <a:lnTo>
                    <a:pt x="2161" y="9069"/>
                  </a:lnTo>
                  <a:lnTo>
                    <a:pt x="2164" y="9082"/>
                  </a:lnTo>
                  <a:lnTo>
                    <a:pt x="2168" y="9096"/>
                  </a:lnTo>
                  <a:lnTo>
                    <a:pt x="2174" y="9110"/>
                  </a:lnTo>
                  <a:lnTo>
                    <a:pt x="2180" y="9125"/>
                  </a:lnTo>
                  <a:lnTo>
                    <a:pt x="2188" y="9141"/>
                  </a:lnTo>
                  <a:lnTo>
                    <a:pt x="2198" y="9156"/>
                  </a:lnTo>
                  <a:lnTo>
                    <a:pt x="2209" y="9170"/>
                  </a:lnTo>
                  <a:lnTo>
                    <a:pt x="2221" y="9185"/>
                  </a:lnTo>
                  <a:lnTo>
                    <a:pt x="2236" y="9198"/>
                  </a:lnTo>
                  <a:lnTo>
                    <a:pt x="2254" y="9211"/>
                  </a:lnTo>
                  <a:lnTo>
                    <a:pt x="2273" y="9223"/>
                  </a:lnTo>
                  <a:lnTo>
                    <a:pt x="2294" y="9233"/>
                  </a:lnTo>
                  <a:lnTo>
                    <a:pt x="2318" y="9242"/>
                  </a:lnTo>
                  <a:lnTo>
                    <a:pt x="2344" y="9249"/>
                  </a:lnTo>
                  <a:lnTo>
                    <a:pt x="2374" y="9255"/>
                  </a:lnTo>
                  <a:lnTo>
                    <a:pt x="2405" y="9259"/>
                  </a:lnTo>
                  <a:lnTo>
                    <a:pt x="2440" y="9260"/>
                  </a:lnTo>
                  <a:lnTo>
                    <a:pt x="2477" y="9258"/>
                  </a:lnTo>
                  <a:lnTo>
                    <a:pt x="2519" y="9253"/>
                  </a:lnTo>
                  <a:lnTo>
                    <a:pt x="2563" y="9245"/>
                  </a:lnTo>
                  <a:lnTo>
                    <a:pt x="2611" y="9235"/>
                  </a:lnTo>
                  <a:lnTo>
                    <a:pt x="2663" y="9221"/>
                  </a:lnTo>
                  <a:lnTo>
                    <a:pt x="2718" y="9203"/>
                  </a:lnTo>
                  <a:lnTo>
                    <a:pt x="2777" y="9182"/>
                  </a:lnTo>
                  <a:lnTo>
                    <a:pt x="2840" y="9157"/>
                  </a:lnTo>
                  <a:lnTo>
                    <a:pt x="2849" y="9152"/>
                  </a:lnTo>
                  <a:lnTo>
                    <a:pt x="2876" y="9138"/>
                  </a:lnTo>
                  <a:lnTo>
                    <a:pt x="2916" y="9116"/>
                  </a:lnTo>
                  <a:lnTo>
                    <a:pt x="2967" y="9089"/>
                  </a:lnTo>
                  <a:lnTo>
                    <a:pt x="3028" y="9059"/>
                  </a:lnTo>
                  <a:lnTo>
                    <a:pt x="3094" y="9027"/>
                  </a:lnTo>
                  <a:lnTo>
                    <a:pt x="3165" y="8994"/>
                  </a:lnTo>
                  <a:lnTo>
                    <a:pt x="3235" y="8963"/>
                  </a:lnTo>
                  <a:lnTo>
                    <a:pt x="3272" y="8949"/>
                  </a:lnTo>
                  <a:lnTo>
                    <a:pt x="3306" y="8936"/>
                  </a:lnTo>
                  <a:lnTo>
                    <a:pt x="3339" y="8924"/>
                  </a:lnTo>
                  <a:lnTo>
                    <a:pt x="3371" y="8914"/>
                  </a:lnTo>
                  <a:lnTo>
                    <a:pt x="3403" y="8905"/>
                  </a:lnTo>
                  <a:lnTo>
                    <a:pt x="3431" y="8899"/>
                  </a:lnTo>
                  <a:lnTo>
                    <a:pt x="3457" y="8894"/>
                  </a:lnTo>
                  <a:lnTo>
                    <a:pt x="3481" y="8892"/>
                  </a:lnTo>
                  <a:lnTo>
                    <a:pt x="3501" y="8892"/>
                  </a:lnTo>
                  <a:lnTo>
                    <a:pt x="3519" y="8896"/>
                  </a:lnTo>
                  <a:lnTo>
                    <a:pt x="3533" y="8903"/>
                  </a:lnTo>
                  <a:lnTo>
                    <a:pt x="3543" y="8913"/>
                  </a:lnTo>
                  <a:lnTo>
                    <a:pt x="3548" y="8926"/>
                  </a:lnTo>
                  <a:lnTo>
                    <a:pt x="3549" y="8944"/>
                  </a:lnTo>
                  <a:lnTo>
                    <a:pt x="3545" y="8965"/>
                  </a:lnTo>
                  <a:lnTo>
                    <a:pt x="3536" y="8990"/>
                  </a:lnTo>
                  <a:lnTo>
                    <a:pt x="3532" y="8996"/>
                  </a:lnTo>
                  <a:lnTo>
                    <a:pt x="3520" y="9013"/>
                  </a:lnTo>
                  <a:lnTo>
                    <a:pt x="3499" y="9042"/>
                  </a:lnTo>
                  <a:lnTo>
                    <a:pt x="3473" y="9078"/>
                  </a:lnTo>
                  <a:lnTo>
                    <a:pt x="3439" y="9122"/>
                  </a:lnTo>
                  <a:lnTo>
                    <a:pt x="3400" y="9173"/>
                  </a:lnTo>
                  <a:lnTo>
                    <a:pt x="3354" y="9228"/>
                  </a:lnTo>
                  <a:lnTo>
                    <a:pt x="3303" y="9288"/>
                  </a:lnTo>
                  <a:lnTo>
                    <a:pt x="3276" y="9319"/>
                  </a:lnTo>
                  <a:lnTo>
                    <a:pt x="3247" y="9350"/>
                  </a:lnTo>
                  <a:lnTo>
                    <a:pt x="3218" y="9382"/>
                  </a:lnTo>
                  <a:lnTo>
                    <a:pt x="3188" y="9414"/>
                  </a:lnTo>
                  <a:lnTo>
                    <a:pt x="3156" y="9445"/>
                  </a:lnTo>
                  <a:lnTo>
                    <a:pt x="3123" y="9477"/>
                  </a:lnTo>
                  <a:lnTo>
                    <a:pt x="3090" y="9509"/>
                  </a:lnTo>
                  <a:lnTo>
                    <a:pt x="3057" y="9540"/>
                  </a:lnTo>
                  <a:lnTo>
                    <a:pt x="3022" y="9570"/>
                  </a:lnTo>
                  <a:lnTo>
                    <a:pt x="2986" y="9600"/>
                  </a:lnTo>
                  <a:lnTo>
                    <a:pt x="2950" y="9629"/>
                  </a:lnTo>
                  <a:lnTo>
                    <a:pt x="2914" y="9657"/>
                  </a:lnTo>
                  <a:lnTo>
                    <a:pt x="2877" y="9683"/>
                  </a:lnTo>
                  <a:lnTo>
                    <a:pt x="2838" y="9708"/>
                  </a:lnTo>
                  <a:lnTo>
                    <a:pt x="2800" y="9732"/>
                  </a:lnTo>
                  <a:lnTo>
                    <a:pt x="2762" y="9755"/>
                  </a:lnTo>
                  <a:lnTo>
                    <a:pt x="2748" y="9759"/>
                  </a:lnTo>
                  <a:lnTo>
                    <a:pt x="2707" y="9773"/>
                  </a:lnTo>
                  <a:lnTo>
                    <a:pt x="2644" y="9796"/>
                  </a:lnTo>
                  <a:lnTo>
                    <a:pt x="2559" y="9825"/>
                  </a:lnTo>
                  <a:lnTo>
                    <a:pt x="2457" y="9863"/>
                  </a:lnTo>
                  <a:lnTo>
                    <a:pt x="2340" y="9906"/>
                  </a:lnTo>
                  <a:lnTo>
                    <a:pt x="2211" y="9955"/>
                  </a:lnTo>
                  <a:lnTo>
                    <a:pt x="2074" y="10009"/>
                  </a:lnTo>
                  <a:lnTo>
                    <a:pt x="1930" y="10067"/>
                  </a:lnTo>
                  <a:lnTo>
                    <a:pt x="1783" y="10129"/>
                  </a:lnTo>
                  <a:lnTo>
                    <a:pt x="1708" y="10160"/>
                  </a:lnTo>
                  <a:lnTo>
                    <a:pt x="1635" y="10192"/>
                  </a:lnTo>
                  <a:lnTo>
                    <a:pt x="1561" y="10226"/>
                  </a:lnTo>
                  <a:lnTo>
                    <a:pt x="1490" y="10259"/>
                  </a:lnTo>
                  <a:lnTo>
                    <a:pt x="1418" y="10292"/>
                  </a:lnTo>
                  <a:lnTo>
                    <a:pt x="1349" y="10326"/>
                  </a:lnTo>
                  <a:lnTo>
                    <a:pt x="1282" y="10360"/>
                  </a:lnTo>
                  <a:lnTo>
                    <a:pt x="1217" y="10394"/>
                  </a:lnTo>
                  <a:lnTo>
                    <a:pt x="1155" y="10428"/>
                  </a:lnTo>
                  <a:lnTo>
                    <a:pt x="1096" y="10462"/>
                  </a:lnTo>
                  <a:lnTo>
                    <a:pt x="1041" y="10495"/>
                  </a:lnTo>
                  <a:lnTo>
                    <a:pt x="989" y="10528"/>
                  </a:lnTo>
                  <a:lnTo>
                    <a:pt x="981" y="10530"/>
                  </a:lnTo>
                  <a:lnTo>
                    <a:pt x="959" y="10534"/>
                  </a:lnTo>
                  <a:lnTo>
                    <a:pt x="924" y="10541"/>
                  </a:lnTo>
                  <a:lnTo>
                    <a:pt x="877" y="10551"/>
                  </a:lnTo>
                  <a:lnTo>
                    <a:pt x="820" y="10564"/>
                  </a:lnTo>
                  <a:lnTo>
                    <a:pt x="756" y="10581"/>
                  </a:lnTo>
                  <a:lnTo>
                    <a:pt x="684" y="10600"/>
                  </a:lnTo>
                  <a:lnTo>
                    <a:pt x="609" y="10622"/>
                  </a:lnTo>
                  <a:lnTo>
                    <a:pt x="568" y="10634"/>
                  </a:lnTo>
                  <a:lnTo>
                    <a:pt x="528" y="10647"/>
                  </a:lnTo>
                  <a:lnTo>
                    <a:pt x="488" y="10661"/>
                  </a:lnTo>
                  <a:lnTo>
                    <a:pt x="446" y="10676"/>
                  </a:lnTo>
                  <a:lnTo>
                    <a:pt x="405" y="10691"/>
                  </a:lnTo>
                  <a:lnTo>
                    <a:pt x="364" y="10708"/>
                  </a:lnTo>
                  <a:lnTo>
                    <a:pt x="322" y="10726"/>
                  </a:lnTo>
                  <a:lnTo>
                    <a:pt x="282" y="10744"/>
                  </a:lnTo>
                  <a:lnTo>
                    <a:pt x="243" y="10762"/>
                  </a:lnTo>
                  <a:lnTo>
                    <a:pt x="203" y="10782"/>
                  </a:lnTo>
                  <a:lnTo>
                    <a:pt x="166" y="10803"/>
                  </a:lnTo>
                  <a:lnTo>
                    <a:pt x="129" y="10825"/>
                  </a:lnTo>
                  <a:lnTo>
                    <a:pt x="94" y="10848"/>
                  </a:lnTo>
                  <a:lnTo>
                    <a:pt x="60" y="10871"/>
                  </a:lnTo>
                  <a:lnTo>
                    <a:pt x="29" y="10895"/>
                  </a:lnTo>
                  <a:lnTo>
                    <a:pt x="0" y="10920"/>
                  </a:lnTo>
                  <a:lnTo>
                    <a:pt x="7" y="10919"/>
                  </a:lnTo>
                  <a:lnTo>
                    <a:pt x="27" y="10915"/>
                  </a:lnTo>
                  <a:lnTo>
                    <a:pt x="60" y="10909"/>
                  </a:lnTo>
                  <a:lnTo>
                    <a:pt x="105" y="10901"/>
                  </a:lnTo>
                  <a:lnTo>
                    <a:pt x="160" y="10892"/>
                  </a:lnTo>
                  <a:lnTo>
                    <a:pt x="225" y="10881"/>
                  </a:lnTo>
                  <a:lnTo>
                    <a:pt x="299" y="10869"/>
                  </a:lnTo>
                  <a:lnTo>
                    <a:pt x="381" y="10856"/>
                  </a:lnTo>
                  <a:lnTo>
                    <a:pt x="468" y="10842"/>
                  </a:lnTo>
                  <a:lnTo>
                    <a:pt x="562" y="10829"/>
                  </a:lnTo>
                  <a:lnTo>
                    <a:pt x="661" y="10815"/>
                  </a:lnTo>
                  <a:lnTo>
                    <a:pt x="764" y="10800"/>
                  </a:lnTo>
                  <a:lnTo>
                    <a:pt x="870" y="10787"/>
                  </a:lnTo>
                  <a:lnTo>
                    <a:pt x="977" y="10775"/>
                  </a:lnTo>
                  <a:lnTo>
                    <a:pt x="1086" y="10764"/>
                  </a:lnTo>
                  <a:lnTo>
                    <a:pt x="1194" y="10754"/>
                  </a:lnTo>
                  <a:lnTo>
                    <a:pt x="1252" y="10749"/>
                  </a:lnTo>
                  <a:lnTo>
                    <a:pt x="1313" y="10740"/>
                  </a:lnTo>
                  <a:lnTo>
                    <a:pt x="1381" y="10729"/>
                  </a:lnTo>
                  <a:lnTo>
                    <a:pt x="1452" y="10714"/>
                  </a:lnTo>
                  <a:lnTo>
                    <a:pt x="1528" y="10697"/>
                  </a:lnTo>
                  <a:lnTo>
                    <a:pt x="1607" y="10676"/>
                  </a:lnTo>
                  <a:lnTo>
                    <a:pt x="1690" y="10654"/>
                  </a:lnTo>
                  <a:lnTo>
                    <a:pt x="1777" y="10629"/>
                  </a:lnTo>
                  <a:lnTo>
                    <a:pt x="1866" y="10602"/>
                  </a:lnTo>
                  <a:lnTo>
                    <a:pt x="1957" y="10573"/>
                  </a:lnTo>
                  <a:lnTo>
                    <a:pt x="2052" y="10541"/>
                  </a:lnTo>
                  <a:lnTo>
                    <a:pt x="2148" y="10509"/>
                  </a:lnTo>
                  <a:lnTo>
                    <a:pt x="2246" y="10475"/>
                  </a:lnTo>
                  <a:lnTo>
                    <a:pt x="2344" y="10438"/>
                  </a:lnTo>
                  <a:lnTo>
                    <a:pt x="2444" y="10401"/>
                  </a:lnTo>
                  <a:lnTo>
                    <a:pt x="2544" y="10363"/>
                  </a:lnTo>
                  <a:lnTo>
                    <a:pt x="2645" y="10323"/>
                  </a:lnTo>
                  <a:lnTo>
                    <a:pt x="2745" y="10284"/>
                  </a:lnTo>
                  <a:lnTo>
                    <a:pt x="2845" y="10243"/>
                  </a:lnTo>
                  <a:lnTo>
                    <a:pt x="2945" y="10201"/>
                  </a:lnTo>
                  <a:lnTo>
                    <a:pt x="3044" y="10160"/>
                  </a:lnTo>
                  <a:lnTo>
                    <a:pt x="3141" y="10118"/>
                  </a:lnTo>
                  <a:lnTo>
                    <a:pt x="3236" y="10075"/>
                  </a:lnTo>
                  <a:lnTo>
                    <a:pt x="3330" y="10033"/>
                  </a:lnTo>
                  <a:lnTo>
                    <a:pt x="3421" y="9992"/>
                  </a:lnTo>
                  <a:lnTo>
                    <a:pt x="3510" y="9949"/>
                  </a:lnTo>
                  <a:lnTo>
                    <a:pt x="3595" y="9909"/>
                  </a:lnTo>
                  <a:lnTo>
                    <a:pt x="3678" y="9868"/>
                  </a:lnTo>
                  <a:lnTo>
                    <a:pt x="3756" y="9828"/>
                  </a:lnTo>
                  <a:lnTo>
                    <a:pt x="3831" y="9789"/>
                  </a:lnTo>
                  <a:lnTo>
                    <a:pt x="3901" y="9752"/>
                  </a:lnTo>
                  <a:lnTo>
                    <a:pt x="3967" y="9715"/>
                  </a:lnTo>
                  <a:lnTo>
                    <a:pt x="3983" y="9711"/>
                  </a:lnTo>
                  <a:lnTo>
                    <a:pt x="4029" y="9701"/>
                  </a:lnTo>
                  <a:lnTo>
                    <a:pt x="4098" y="9684"/>
                  </a:lnTo>
                  <a:lnTo>
                    <a:pt x="4187" y="9661"/>
                  </a:lnTo>
                  <a:lnTo>
                    <a:pt x="4237" y="9647"/>
                  </a:lnTo>
                  <a:lnTo>
                    <a:pt x="4291" y="9632"/>
                  </a:lnTo>
                  <a:lnTo>
                    <a:pt x="4346" y="9616"/>
                  </a:lnTo>
                  <a:lnTo>
                    <a:pt x="4404" y="9598"/>
                  </a:lnTo>
                  <a:lnTo>
                    <a:pt x="4463" y="9579"/>
                  </a:lnTo>
                  <a:lnTo>
                    <a:pt x="4523" y="9559"/>
                  </a:lnTo>
                  <a:lnTo>
                    <a:pt x="4581" y="9538"/>
                  </a:lnTo>
                  <a:lnTo>
                    <a:pt x="4641" y="9516"/>
                  </a:lnTo>
                  <a:lnTo>
                    <a:pt x="4698" y="9492"/>
                  </a:lnTo>
                  <a:lnTo>
                    <a:pt x="4753" y="9468"/>
                  </a:lnTo>
                  <a:lnTo>
                    <a:pt x="4807" y="9443"/>
                  </a:lnTo>
                  <a:lnTo>
                    <a:pt x="4857" y="9417"/>
                  </a:lnTo>
                  <a:lnTo>
                    <a:pt x="4905" y="9391"/>
                  </a:lnTo>
                  <a:lnTo>
                    <a:pt x="4947" y="9362"/>
                  </a:lnTo>
                  <a:lnTo>
                    <a:pt x="4984" y="9335"/>
                  </a:lnTo>
                  <a:lnTo>
                    <a:pt x="5017" y="9306"/>
                  </a:lnTo>
                  <a:lnTo>
                    <a:pt x="5043" y="9277"/>
                  </a:lnTo>
                  <a:lnTo>
                    <a:pt x="5062" y="9246"/>
                  </a:lnTo>
                  <a:lnTo>
                    <a:pt x="5074" y="9216"/>
                  </a:lnTo>
                  <a:lnTo>
                    <a:pt x="5079" y="9185"/>
                  </a:lnTo>
                  <a:lnTo>
                    <a:pt x="5075" y="9154"/>
                  </a:lnTo>
                  <a:lnTo>
                    <a:pt x="5061" y="9122"/>
                  </a:lnTo>
                  <a:lnTo>
                    <a:pt x="5039" y="9091"/>
                  </a:lnTo>
                  <a:lnTo>
                    <a:pt x="5005" y="9059"/>
                  </a:lnTo>
                  <a:lnTo>
                    <a:pt x="5002" y="9057"/>
                  </a:lnTo>
                  <a:lnTo>
                    <a:pt x="4993" y="9052"/>
                  </a:lnTo>
                  <a:lnTo>
                    <a:pt x="4980" y="9045"/>
                  </a:lnTo>
                  <a:lnTo>
                    <a:pt x="4964" y="9034"/>
                  </a:lnTo>
                  <a:lnTo>
                    <a:pt x="4947" y="9022"/>
                  </a:lnTo>
                  <a:lnTo>
                    <a:pt x="4931" y="9006"/>
                  </a:lnTo>
                  <a:lnTo>
                    <a:pt x="4923" y="8999"/>
                  </a:lnTo>
                  <a:lnTo>
                    <a:pt x="4916" y="8990"/>
                  </a:lnTo>
                  <a:lnTo>
                    <a:pt x="4910" y="8982"/>
                  </a:lnTo>
                  <a:lnTo>
                    <a:pt x="4905" y="8973"/>
                  </a:lnTo>
                  <a:lnTo>
                    <a:pt x="4901" y="8963"/>
                  </a:lnTo>
                  <a:lnTo>
                    <a:pt x="4899" y="8954"/>
                  </a:lnTo>
                  <a:lnTo>
                    <a:pt x="4898" y="8944"/>
                  </a:lnTo>
                  <a:lnTo>
                    <a:pt x="4898" y="8934"/>
                  </a:lnTo>
                  <a:lnTo>
                    <a:pt x="4901" y="8924"/>
                  </a:lnTo>
                  <a:lnTo>
                    <a:pt x="4906" y="8914"/>
                  </a:lnTo>
                  <a:lnTo>
                    <a:pt x="4913" y="8904"/>
                  </a:lnTo>
                  <a:lnTo>
                    <a:pt x="4923" y="8893"/>
                  </a:lnTo>
                  <a:lnTo>
                    <a:pt x="4935" y="8883"/>
                  </a:lnTo>
                  <a:lnTo>
                    <a:pt x="4950" y="8872"/>
                  </a:lnTo>
                  <a:lnTo>
                    <a:pt x="4968" y="8862"/>
                  </a:lnTo>
                  <a:lnTo>
                    <a:pt x="4990" y="8852"/>
                  </a:lnTo>
                  <a:lnTo>
                    <a:pt x="5016" y="8842"/>
                  </a:lnTo>
                  <a:lnTo>
                    <a:pt x="5044" y="8833"/>
                  </a:lnTo>
                  <a:lnTo>
                    <a:pt x="5076" y="8823"/>
                  </a:lnTo>
                  <a:lnTo>
                    <a:pt x="5113" y="8814"/>
                  </a:lnTo>
                  <a:lnTo>
                    <a:pt x="5123" y="8807"/>
                  </a:lnTo>
                  <a:lnTo>
                    <a:pt x="5154" y="8788"/>
                  </a:lnTo>
                  <a:lnTo>
                    <a:pt x="5202" y="8758"/>
                  </a:lnTo>
                  <a:lnTo>
                    <a:pt x="5264" y="8718"/>
                  </a:lnTo>
                  <a:lnTo>
                    <a:pt x="5340" y="8669"/>
                  </a:lnTo>
                  <a:lnTo>
                    <a:pt x="5426" y="8611"/>
                  </a:lnTo>
                  <a:lnTo>
                    <a:pt x="5521" y="8549"/>
                  </a:lnTo>
                  <a:lnTo>
                    <a:pt x="5620" y="8479"/>
                  </a:lnTo>
                  <a:lnTo>
                    <a:pt x="5723" y="8406"/>
                  </a:lnTo>
                  <a:lnTo>
                    <a:pt x="5828" y="8330"/>
                  </a:lnTo>
                  <a:lnTo>
                    <a:pt x="5879" y="8291"/>
                  </a:lnTo>
                  <a:lnTo>
                    <a:pt x="5931" y="8252"/>
                  </a:lnTo>
                  <a:lnTo>
                    <a:pt x="5981" y="8213"/>
                  </a:lnTo>
                  <a:lnTo>
                    <a:pt x="6031" y="8172"/>
                  </a:lnTo>
                  <a:lnTo>
                    <a:pt x="6078" y="8133"/>
                  </a:lnTo>
                  <a:lnTo>
                    <a:pt x="6124" y="8095"/>
                  </a:lnTo>
                  <a:lnTo>
                    <a:pt x="6169" y="8055"/>
                  </a:lnTo>
                  <a:lnTo>
                    <a:pt x="6210" y="8017"/>
                  </a:lnTo>
                  <a:lnTo>
                    <a:pt x="6249" y="7980"/>
                  </a:lnTo>
                  <a:lnTo>
                    <a:pt x="6285" y="7944"/>
                  </a:lnTo>
                  <a:lnTo>
                    <a:pt x="6318" y="7907"/>
                  </a:lnTo>
                  <a:lnTo>
                    <a:pt x="6347" y="7873"/>
                  </a:lnTo>
                  <a:lnTo>
                    <a:pt x="6354" y="7870"/>
                  </a:lnTo>
                  <a:lnTo>
                    <a:pt x="6375" y="7862"/>
                  </a:lnTo>
                  <a:lnTo>
                    <a:pt x="6409" y="7850"/>
                  </a:lnTo>
                  <a:lnTo>
                    <a:pt x="6455" y="7835"/>
                  </a:lnTo>
                  <a:lnTo>
                    <a:pt x="6513" y="7817"/>
                  </a:lnTo>
                  <a:lnTo>
                    <a:pt x="6583" y="7798"/>
                  </a:lnTo>
                  <a:lnTo>
                    <a:pt x="6622" y="7788"/>
                  </a:lnTo>
                  <a:lnTo>
                    <a:pt x="6664" y="7778"/>
                  </a:lnTo>
                  <a:lnTo>
                    <a:pt x="6708" y="7768"/>
                  </a:lnTo>
                  <a:lnTo>
                    <a:pt x="6755" y="7759"/>
                  </a:lnTo>
                  <a:lnTo>
                    <a:pt x="6804" y="7750"/>
                  </a:lnTo>
                  <a:lnTo>
                    <a:pt x="6856" y="7741"/>
                  </a:lnTo>
                  <a:lnTo>
                    <a:pt x="6910" y="7733"/>
                  </a:lnTo>
                  <a:lnTo>
                    <a:pt x="6966" y="7725"/>
                  </a:lnTo>
                  <a:lnTo>
                    <a:pt x="7023" y="7719"/>
                  </a:lnTo>
                  <a:lnTo>
                    <a:pt x="7084" y="7713"/>
                  </a:lnTo>
                  <a:lnTo>
                    <a:pt x="7146" y="7708"/>
                  </a:lnTo>
                  <a:lnTo>
                    <a:pt x="7211" y="7704"/>
                  </a:lnTo>
                  <a:lnTo>
                    <a:pt x="7277" y="7700"/>
                  </a:lnTo>
                  <a:lnTo>
                    <a:pt x="7345" y="7699"/>
                  </a:lnTo>
                  <a:lnTo>
                    <a:pt x="7415" y="7699"/>
                  </a:lnTo>
                  <a:lnTo>
                    <a:pt x="7486" y="7702"/>
                  </a:lnTo>
                  <a:lnTo>
                    <a:pt x="7560" y="7705"/>
                  </a:lnTo>
                  <a:lnTo>
                    <a:pt x="7634" y="7710"/>
                  </a:lnTo>
                  <a:lnTo>
                    <a:pt x="7710" y="7717"/>
                  </a:lnTo>
                  <a:lnTo>
                    <a:pt x="7788" y="7726"/>
                  </a:lnTo>
                  <a:lnTo>
                    <a:pt x="7792" y="7728"/>
                  </a:lnTo>
                  <a:lnTo>
                    <a:pt x="7804" y="7735"/>
                  </a:lnTo>
                  <a:lnTo>
                    <a:pt x="7822" y="7744"/>
                  </a:lnTo>
                  <a:lnTo>
                    <a:pt x="7845" y="7758"/>
                  </a:lnTo>
                  <a:lnTo>
                    <a:pt x="7870" y="7773"/>
                  </a:lnTo>
                  <a:lnTo>
                    <a:pt x="7896" y="7791"/>
                  </a:lnTo>
                  <a:lnTo>
                    <a:pt x="7909" y="7801"/>
                  </a:lnTo>
                  <a:lnTo>
                    <a:pt x="7923" y="7811"/>
                  </a:lnTo>
                  <a:lnTo>
                    <a:pt x="7935" y="7822"/>
                  </a:lnTo>
                  <a:lnTo>
                    <a:pt x="7947" y="7833"/>
                  </a:lnTo>
                  <a:lnTo>
                    <a:pt x="7957" y="7844"/>
                  </a:lnTo>
                  <a:lnTo>
                    <a:pt x="7966" y="7855"/>
                  </a:lnTo>
                  <a:lnTo>
                    <a:pt x="7974" y="7866"/>
                  </a:lnTo>
                  <a:lnTo>
                    <a:pt x="7980" y="7877"/>
                  </a:lnTo>
                  <a:lnTo>
                    <a:pt x="7985" y="7888"/>
                  </a:lnTo>
                  <a:lnTo>
                    <a:pt x="7987" y="7898"/>
                  </a:lnTo>
                  <a:lnTo>
                    <a:pt x="7988" y="7909"/>
                  </a:lnTo>
                  <a:lnTo>
                    <a:pt x="7986" y="7920"/>
                  </a:lnTo>
                  <a:lnTo>
                    <a:pt x="7981" y="7930"/>
                  </a:lnTo>
                  <a:lnTo>
                    <a:pt x="7973" y="7941"/>
                  </a:lnTo>
                  <a:lnTo>
                    <a:pt x="7963" y="7951"/>
                  </a:lnTo>
                  <a:lnTo>
                    <a:pt x="7949" y="7960"/>
                  </a:lnTo>
                  <a:lnTo>
                    <a:pt x="7931" y="7968"/>
                  </a:lnTo>
                  <a:lnTo>
                    <a:pt x="7909" y="7976"/>
                  </a:lnTo>
                  <a:lnTo>
                    <a:pt x="7885" y="7984"/>
                  </a:lnTo>
                  <a:lnTo>
                    <a:pt x="7856" y="7990"/>
                  </a:lnTo>
                  <a:lnTo>
                    <a:pt x="7844" y="7990"/>
                  </a:lnTo>
                  <a:lnTo>
                    <a:pt x="7810" y="7990"/>
                  </a:lnTo>
                  <a:lnTo>
                    <a:pt x="7757" y="7989"/>
                  </a:lnTo>
                  <a:lnTo>
                    <a:pt x="7687" y="7990"/>
                  </a:lnTo>
                  <a:lnTo>
                    <a:pt x="7602" y="7992"/>
                  </a:lnTo>
                  <a:lnTo>
                    <a:pt x="7506" y="7997"/>
                  </a:lnTo>
                  <a:lnTo>
                    <a:pt x="7455" y="8001"/>
                  </a:lnTo>
                  <a:lnTo>
                    <a:pt x="7400" y="8005"/>
                  </a:lnTo>
                  <a:lnTo>
                    <a:pt x="7345" y="8010"/>
                  </a:lnTo>
                  <a:lnTo>
                    <a:pt x="7289" y="8016"/>
                  </a:lnTo>
                  <a:lnTo>
                    <a:pt x="7231" y="8023"/>
                  </a:lnTo>
                  <a:lnTo>
                    <a:pt x="7173" y="8031"/>
                  </a:lnTo>
                  <a:lnTo>
                    <a:pt x="7114" y="8041"/>
                  </a:lnTo>
                  <a:lnTo>
                    <a:pt x="7056" y="8052"/>
                  </a:lnTo>
                  <a:lnTo>
                    <a:pt x="6997" y="8065"/>
                  </a:lnTo>
                  <a:lnTo>
                    <a:pt x="6940" y="8079"/>
                  </a:lnTo>
                  <a:lnTo>
                    <a:pt x="6882" y="8094"/>
                  </a:lnTo>
                  <a:lnTo>
                    <a:pt x="6827" y="8110"/>
                  </a:lnTo>
                  <a:lnTo>
                    <a:pt x="6772" y="8129"/>
                  </a:lnTo>
                  <a:lnTo>
                    <a:pt x="6720" y="8149"/>
                  </a:lnTo>
                  <a:lnTo>
                    <a:pt x="6671" y="8171"/>
                  </a:lnTo>
                  <a:lnTo>
                    <a:pt x="6623" y="8196"/>
                  </a:lnTo>
                  <a:lnTo>
                    <a:pt x="6578" y="8222"/>
                  </a:lnTo>
                  <a:lnTo>
                    <a:pt x="6537" y="8250"/>
                  </a:lnTo>
                  <a:lnTo>
                    <a:pt x="6499" y="8281"/>
                  </a:lnTo>
                  <a:lnTo>
                    <a:pt x="6465" y="8314"/>
                  </a:lnTo>
                  <a:lnTo>
                    <a:pt x="6456" y="8326"/>
                  </a:lnTo>
                  <a:lnTo>
                    <a:pt x="6431" y="8359"/>
                  </a:lnTo>
                  <a:lnTo>
                    <a:pt x="6414" y="8380"/>
                  </a:lnTo>
                  <a:lnTo>
                    <a:pt x="6392" y="8405"/>
                  </a:lnTo>
                  <a:lnTo>
                    <a:pt x="6368" y="8432"/>
                  </a:lnTo>
                  <a:lnTo>
                    <a:pt x="6342" y="8460"/>
                  </a:lnTo>
                  <a:lnTo>
                    <a:pt x="6314" y="8488"/>
                  </a:lnTo>
                  <a:lnTo>
                    <a:pt x="6283" y="8515"/>
                  </a:lnTo>
                  <a:lnTo>
                    <a:pt x="6267" y="8528"/>
                  </a:lnTo>
                  <a:lnTo>
                    <a:pt x="6250" y="8542"/>
                  </a:lnTo>
                  <a:lnTo>
                    <a:pt x="6234" y="8555"/>
                  </a:lnTo>
                  <a:lnTo>
                    <a:pt x="6217" y="8566"/>
                  </a:lnTo>
                  <a:lnTo>
                    <a:pt x="6200" y="8577"/>
                  </a:lnTo>
                  <a:lnTo>
                    <a:pt x="6182" y="8588"/>
                  </a:lnTo>
                  <a:lnTo>
                    <a:pt x="6164" y="8597"/>
                  </a:lnTo>
                  <a:lnTo>
                    <a:pt x="6146" y="8605"/>
                  </a:lnTo>
                  <a:lnTo>
                    <a:pt x="6128" y="8613"/>
                  </a:lnTo>
                  <a:lnTo>
                    <a:pt x="6109" y="8619"/>
                  </a:lnTo>
                  <a:lnTo>
                    <a:pt x="6091" y="8624"/>
                  </a:lnTo>
                  <a:lnTo>
                    <a:pt x="6073" y="8627"/>
                  </a:lnTo>
                  <a:lnTo>
                    <a:pt x="6069" y="8633"/>
                  </a:lnTo>
                  <a:lnTo>
                    <a:pt x="6059" y="8649"/>
                  </a:lnTo>
                  <a:lnTo>
                    <a:pt x="6044" y="8676"/>
                  </a:lnTo>
                  <a:lnTo>
                    <a:pt x="6028" y="8708"/>
                  </a:lnTo>
                  <a:lnTo>
                    <a:pt x="6018" y="8726"/>
                  </a:lnTo>
                  <a:lnTo>
                    <a:pt x="6010" y="8745"/>
                  </a:lnTo>
                  <a:lnTo>
                    <a:pt x="6002" y="8765"/>
                  </a:lnTo>
                  <a:lnTo>
                    <a:pt x="5995" y="8787"/>
                  </a:lnTo>
                  <a:lnTo>
                    <a:pt x="5988" y="8808"/>
                  </a:lnTo>
                  <a:lnTo>
                    <a:pt x="5984" y="8830"/>
                  </a:lnTo>
                  <a:lnTo>
                    <a:pt x="5980" y="8851"/>
                  </a:lnTo>
                  <a:lnTo>
                    <a:pt x="5979" y="8872"/>
                  </a:lnTo>
                  <a:lnTo>
                    <a:pt x="5979" y="8893"/>
                  </a:lnTo>
                  <a:lnTo>
                    <a:pt x="5982" y="8914"/>
                  </a:lnTo>
                  <a:lnTo>
                    <a:pt x="5987" y="8933"/>
                  </a:lnTo>
                  <a:lnTo>
                    <a:pt x="5995" y="8951"/>
                  </a:lnTo>
                  <a:lnTo>
                    <a:pt x="6006" y="8968"/>
                  </a:lnTo>
                  <a:lnTo>
                    <a:pt x="6020" y="8983"/>
                  </a:lnTo>
                  <a:lnTo>
                    <a:pt x="6039" y="8996"/>
                  </a:lnTo>
                  <a:lnTo>
                    <a:pt x="6061" y="9007"/>
                  </a:lnTo>
                  <a:lnTo>
                    <a:pt x="6087" y="9016"/>
                  </a:lnTo>
                  <a:lnTo>
                    <a:pt x="6117" y="9024"/>
                  </a:lnTo>
                  <a:lnTo>
                    <a:pt x="6153" y="9028"/>
                  </a:lnTo>
                  <a:lnTo>
                    <a:pt x="6192" y="9029"/>
                  </a:lnTo>
                  <a:lnTo>
                    <a:pt x="6237" y="9027"/>
                  </a:lnTo>
                  <a:lnTo>
                    <a:pt x="6288" y="9022"/>
                  </a:lnTo>
                  <a:lnTo>
                    <a:pt x="6344" y="9012"/>
                  </a:lnTo>
                  <a:lnTo>
                    <a:pt x="6407" y="8999"/>
                  </a:lnTo>
                  <a:lnTo>
                    <a:pt x="6419" y="8996"/>
                  </a:lnTo>
                  <a:lnTo>
                    <a:pt x="6455" y="8986"/>
                  </a:lnTo>
                  <a:lnTo>
                    <a:pt x="6511" y="8970"/>
                  </a:lnTo>
                  <a:lnTo>
                    <a:pt x="6586" y="8949"/>
                  </a:lnTo>
                  <a:lnTo>
                    <a:pt x="6674" y="8923"/>
                  </a:lnTo>
                  <a:lnTo>
                    <a:pt x="6773" y="8892"/>
                  </a:lnTo>
                  <a:lnTo>
                    <a:pt x="6880" y="8859"/>
                  </a:lnTo>
                  <a:lnTo>
                    <a:pt x="6992" y="8822"/>
                  </a:lnTo>
                  <a:lnTo>
                    <a:pt x="7050" y="8803"/>
                  </a:lnTo>
                  <a:lnTo>
                    <a:pt x="7106" y="8783"/>
                  </a:lnTo>
                  <a:lnTo>
                    <a:pt x="7163" y="8762"/>
                  </a:lnTo>
                  <a:lnTo>
                    <a:pt x="7219" y="8742"/>
                  </a:lnTo>
                  <a:lnTo>
                    <a:pt x="7273" y="8721"/>
                  </a:lnTo>
                  <a:lnTo>
                    <a:pt x="7327" y="8700"/>
                  </a:lnTo>
                  <a:lnTo>
                    <a:pt x="7378" y="8678"/>
                  </a:lnTo>
                  <a:lnTo>
                    <a:pt x="7427" y="8656"/>
                  </a:lnTo>
                  <a:lnTo>
                    <a:pt x="7473" y="8635"/>
                  </a:lnTo>
                  <a:lnTo>
                    <a:pt x="7516" y="8614"/>
                  </a:lnTo>
                  <a:lnTo>
                    <a:pt x="7556" y="8592"/>
                  </a:lnTo>
                  <a:lnTo>
                    <a:pt x="7592" y="8571"/>
                  </a:lnTo>
                  <a:lnTo>
                    <a:pt x="7623" y="8551"/>
                  </a:lnTo>
                  <a:lnTo>
                    <a:pt x="7650" y="8529"/>
                  </a:lnTo>
                  <a:lnTo>
                    <a:pt x="7673" y="8510"/>
                  </a:lnTo>
                  <a:lnTo>
                    <a:pt x="7690" y="8490"/>
                  </a:lnTo>
                  <a:lnTo>
                    <a:pt x="7695" y="8485"/>
                  </a:lnTo>
                  <a:lnTo>
                    <a:pt x="7710" y="8472"/>
                  </a:lnTo>
                  <a:lnTo>
                    <a:pt x="7734" y="8452"/>
                  </a:lnTo>
                  <a:lnTo>
                    <a:pt x="7767" y="8428"/>
                  </a:lnTo>
                  <a:lnTo>
                    <a:pt x="7788" y="8414"/>
                  </a:lnTo>
                  <a:lnTo>
                    <a:pt x="7810" y="8400"/>
                  </a:lnTo>
                  <a:lnTo>
                    <a:pt x="7834" y="8386"/>
                  </a:lnTo>
                  <a:lnTo>
                    <a:pt x="7861" y="8372"/>
                  </a:lnTo>
                  <a:lnTo>
                    <a:pt x="7889" y="8358"/>
                  </a:lnTo>
                  <a:lnTo>
                    <a:pt x="7920" y="8345"/>
                  </a:lnTo>
                  <a:lnTo>
                    <a:pt x="7952" y="8332"/>
                  </a:lnTo>
                  <a:lnTo>
                    <a:pt x="7986" y="8320"/>
                  </a:lnTo>
                  <a:lnTo>
                    <a:pt x="8021" y="8310"/>
                  </a:lnTo>
                  <a:lnTo>
                    <a:pt x="8059" y="8301"/>
                  </a:lnTo>
                  <a:lnTo>
                    <a:pt x="8098" y="8292"/>
                  </a:lnTo>
                  <a:lnTo>
                    <a:pt x="8139" y="8286"/>
                  </a:lnTo>
                  <a:lnTo>
                    <a:pt x="8182" y="8283"/>
                  </a:lnTo>
                  <a:lnTo>
                    <a:pt x="8225" y="8282"/>
                  </a:lnTo>
                  <a:lnTo>
                    <a:pt x="8270" y="8283"/>
                  </a:lnTo>
                  <a:lnTo>
                    <a:pt x="8318" y="8287"/>
                  </a:lnTo>
                  <a:lnTo>
                    <a:pt x="8366" y="8294"/>
                  </a:lnTo>
                  <a:lnTo>
                    <a:pt x="8415" y="8306"/>
                  </a:lnTo>
                  <a:lnTo>
                    <a:pt x="8466" y="8320"/>
                  </a:lnTo>
                  <a:lnTo>
                    <a:pt x="8518" y="8338"/>
                  </a:lnTo>
                  <a:lnTo>
                    <a:pt x="8572" y="8359"/>
                  </a:lnTo>
                  <a:lnTo>
                    <a:pt x="8625" y="8385"/>
                  </a:lnTo>
                  <a:lnTo>
                    <a:pt x="8681" y="8415"/>
                  </a:lnTo>
                  <a:lnTo>
                    <a:pt x="8737" y="8451"/>
                  </a:lnTo>
                  <a:lnTo>
                    <a:pt x="8758" y="8461"/>
                  </a:lnTo>
                  <a:lnTo>
                    <a:pt x="8817" y="8489"/>
                  </a:lnTo>
                  <a:lnTo>
                    <a:pt x="8908" y="8532"/>
                  </a:lnTo>
                  <a:lnTo>
                    <a:pt x="9028" y="8588"/>
                  </a:lnTo>
                  <a:lnTo>
                    <a:pt x="9171" y="8653"/>
                  </a:lnTo>
                  <a:lnTo>
                    <a:pt x="9332" y="8726"/>
                  </a:lnTo>
                  <a:lnTo>
                    <a:pt x="9417" y="8763"/>
                  </a:lnTo>
                  <a:lnTo>
                    <a:pt x="9505" y="8803"/>
                  </a:lnTo>
                  <a:lnTo>
                    <a:pt x="9595" y="8841"/>
                  </a:lnTo>
                  <a:lnTo>
                    <a:pt x="9687" y="8879"/>
                  </a:lnTo>
                  <a:lnTo>
                    <a:pt x="9778" y="8918"/>
                  </a:lnTo>
                  <a:lnTo>
                    <a:pt x="9870" y="8956"/>
                  </a:lnTo>
                  <a:lnTo>
                    <a:pt x="9962" y="8992"/>
                  </a:lnTo>
                  <a:lnTo>
                    <a:pt x="10051" y="9028"/>
                  </a:lnTo>
                  <a:lnTo>
                    <a:pt x="10139" y="9060"/>
                  </a:lnTo>
                  <a:lnTo>
                    <a:pt x="10225" y="9091"/>
                  </a:lnTo>
                  <a:lnTo>
                    <a:pt x="10308" y="9120"/>
                  </a:lnTo>
                  <a:lnTo>
                    <a:pt x="10386" y="9146"/>
                  </a:lnTo>
                  <a:lnTo>
                    <a:pt x="10461" y="9168"/>
                  </a:lnTo>
                  <a:lnTo>
                    <a:pt x="10530" y="9187"/>
                  </a:lnTo>
                  <a:lnTo>
                    <a:pt x="10594" y="9202"/>
                  </a:lnTo>
                  <a:lnTo>
                    <a:pt x="10651" y="9212"/>
                  </a:lnTo>
                  <a:lnTo>
                    <a:pt x="10702" y="9218"/>
                  </a:lnTo>
                  <a:lnTo>
                    <a:pt x="10744" y="9220"/>
                  </a:lnTo>
                  <a:lnTo>
                    <a:pt x="10778" y="9215"/>
                  </a:lnTo>
                  <a:lnTo>
                    <a:pt x="10804" y="9205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Freeform 237"/>
            <p:cNvSpPr/>
            <p:nvPr/>
          </p:nvSpPr>
          <p:spPr>
            <a:xfrm>
              <a:off x="5867280" y="3878280"/>
              <a:ext cx="21600" cy="183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845" h="610">
                  <a:moveTo>
                    <a:pt x="541" y="50"/>
                  </a:moveTo>
                  <a:lnTo>
                    <a:pt x="532" y="48"/>
                  </a:lnTo>
                  <a:lnTo>
                    <a:pt x="510" y="42"/>
                  </a:lnTo>
                  <a:lnTo>
                    <a:pt x="476" y="33"/>
                  </a:lnTo>
                  <a:lnTo>
                    <a:pt x="433" y="23"/>
                  </a:lnTo>
                  <a:lnTo>
                    <a:pt x="408" y="18"/>
                  </a:lnTo>
                  <a:lnTo>
                    <a:pt x="381" y="14"/>
                  </a:lnTo>
                  <a:lnTo>
                    <a:pt x="354" y="9"/>
                  </a:lnTo>
                  <a:lnTo>
                    <a:pt x="326" y="6"/>
                  </a:lnTo>
                  <a:lnTo>
                    <a:pt x="297" y="3"/>
                  </a:lnTo>
                  <a:lnTo>
                    <a:pt x="267" y="1"/>
                  </a:lnTo>
                  <a:lnTo>
                    <a:pt x="239" y="0"/>
                  </a:lnTo>
                  <a:lnTo>
                    <a:pt x="210" y="0"/>
                  </a:lnTo>
                  <a:lnTo>
                    <a:pt x="182" y="2"/>
                  </a:lnTo>
                  <a:lnTo>
                    <a:pt x="154" y="6"/>
                  </a:lnTo>
                  <a:lnTo>
                    <a:pt x="128" y="11"/>
                  </a:lnTo>
                  <a:lnTo>
                    <a:pt x="104" y="18"/>
                  </a:lnTo>
                  <a:lnTo>
                    <a:pt x="82" y="28"/>
                  </a:lnTo>
                  <a:lnTo>
                    <a:pt x="62" y="40"/>
                  </a:lnTo>
                  <a:lnTo>
                    <a:pt x="44" y="54"/>
                  </a:lnTo>
                  <a:lnTo>
                    <a:pt x="28" y="71"/>
                  </a:lnTo>
                  <a:lnTo>
                    <a:pt x="16" y="90"/>
                  </a:lnTo>
                  <a:lnTo>
                    <a:pt x="7" y="114"/>
                  </a:lnTo>
                  <a:lnTo>
                    <a:pt x="2" y="140"/>
                  </a:lnTo>
                  <a:lnTo>
                    <a:pt x="0" y="169"/>
                  </a:lnTo>
                  <a:lnTo>
                    <a:pt x="3" y="202"/>
                  </a:lnTo>
                  <a:lnTo>
                    <a:pt x="11" y="240"/>
                  </a:lnTo>
                  <a:lnTo>
                    <a:pt x="23" y="280"/>
                  </a:lnTo>
                  <a:lnTo>
                    <a:pt x="42" y="324"/>
                  </a:lnTo>
                  <a:lnTo>
                    <a:pt x="53" y="337"/>
                  </a:lnTo>
                  <a:lnTo>
                    <a:pt x="84" y="368"/>
                  </a:lnTo>
                  <a:lnTo>
                    <a:pt x="105" y="389"/>
                  </a:lnTo>
                  <a:lnTo>
                    <a:pt x="131" y="412"/>
                  </a:lnTo>
                  <a:lnTo>
                    <a:pt x="160" y="437"/>
                  </a:lnTo>
                  <a:lnTo>
                    <a:pt x="191" y="463"/>
                  </a:lnTo>
                  <a:lnTo>
                    <a:pt x="223" y="489"/>
                  </a:lnTo>
                  <a:lnTo>
                    <a:pt x="258" y="515"/>
                  </a:lnTo>
                  <a:lnTo>
                    <a:pt x="275" y="527"/>
                  </a:lnTo>
                  <a:lnTo>
                    <a:pt x="294" y="538"/>
                  </a:lnTo>
                  <a:lnTo>
                    <a:pt x="312" y="550"/>
                  </a:lnTo>
                  <a:lnTo>
                    <a:pt x="330" y="560"/>
                  </a:lnTo>
                  <a:lnTo>
                    <a:pt x="349" y="570"/>
                  </a:lnTo>
                  <a:lnTo>
                    <a:pt x="367" y="579"/>
                  </a:lnTo>
                  <a:lnTo>
                    <a:pt x="385" y="587"/>
                  </a:lnTo>
                  <a:lnTo>
                    <a:pt x="402" y="594"/>
                  </a:lnTo>
                  <a:lnTo>
                    <a:pt x="421" y="600"/>
                  </a:lnTo>
                  <a:lnTo>
                    <a:pt x="438" y="604"/>
                  </a:lnTo>
                  <a:lnTo>
                    <a:pt x="455" y="607"/>
                  </a:lnTo>
                  <a:lnTo>
                    <a:pt x="472" y="609"/>
                  </a:lnTo>
                  <a:lnTo>
                    <a:pt x="490" y="610"/>
                  </a:lnTo>
                  <a:lnTo>
                    <a:pt x="508" y="610"/>
                  </a:lnTo>
                  <a:lnTo>
                    <a:pt x="526" y="608"/>
                  </a:lnTo>
                  <a:lnTo>
                    <a:pt x="546" y="605"/>
                  </a:lnTo>
                  <a:lnTo>
                    <a:pt x="565" y="601"/>
                  </a:lnTo>
                  <a:lnTo>
                    <a:pt x="585" y="596"/>
                  </a:lnTo>
                  <a:lnTo>
                    <a:pt x="604" y="590"/>
                  </a:lnTo>
                  <a:lnTo>
                    <a:pt x="623" y="582"/>
                  </a:lnTo>
                  <a:lnTo>
                    <a:pt x="642" y="573"/>
                  </a:lnTo>
                  <a:lnTo>
                    <a:pt x="662" y="564"/>
                  </a:lnTo>
                  <a:lnTo>
                    <a:pt x="680" y="554"/>
                  </a:lnTo>
                  <a:lnTo>
                    <a:pt x="698" y="544"/>
                  </a:lnTo>
                  <a:lnTo>
                    <a:pt x="716" y="533"/>
                  </a:lnTo>
                  <a:lnTo>
                    <a:pt x="732" y="521"/>
                  </a:lnTo>
                  <a:lnTo>
                    <a:pt x="748" y="509"/>
                  </a:lnTo>
                  <a:lnTo>
                    <a:pt x="763" y="496"/>
                  </a:lnTo>
                  <a:lnTo>
                    <a:pt x="777" y="483"/>
                  </a:lnTo>
                  <a:lnTo>
                    <a:pt x="791" y="470"/>
                  </a:lnTo>
                  <a:lnTo>
                    <a:pt x="803" y="457"/>
                  </a:lnTo>
                  <a:lnTo>
                    <a:pt x="814" y="442"/>
                  </a:lnTo>
                  <a:lnTo>
                    <a:pt x="823" y="429"/>
                  </a:lnTo>
                  <a:lnTo>
                    <a:pt x="831" y="415"/>
                  </a:lnTo>
                  <a:lnTo>
                    <a:pt x="837" y="402"/>
                  </a:lnTo>
                  <a:lnTo>
                    <a:pt x="841" y="388"/>
                  </a:lnTo>
                  <a:lnTo>
                    <a:pt x="844" y="375"/>
                  </a:lnTo>
                  <a:lnTo>
                    <a:pt x="845" y="363"/>
                  </a:lnTo>
                  <a:lnTo>
                    <a:pt x="844" y="350"/>
                  </a:lnTo>
                  <a:lnTo>
                    <a:pt x="841" y="338"/>
                  </a:lnTo>
                  <a:lnTo>
                    <a:pt x="835" y="326"/>
                  </a:lnTo>
                  <a:lnTo>
                    <a:pt x="828" y="315"/>
                  </a:lnTo>
                  <a:lnTo>
                    <a:pt x="818" y="305"/>
                  </a:lnTo>
                  <a:lnTo>
                    <a:pt x="806" y="295"/>
                  </a:lnTo>
                  <a:lnTo>
                    <a:pt x="777" y="276"/>
                  </a:lnTo>
                  <a:lnTo>
                    <a:pt x="751" y="257"/>
                  </a:lnTo>
                  <a:lnTo>
                    <a:pt x="726" y="237"/>
                  </a:lnTo>
                  <a:lnTo>
                    <a:pt x="702" y="216"/>
                  </a:lnTo>
                  <a:lnTo>
                    <a:pt x="679" y="195"/>
                  </a:lnTo>
                  <a:lnTo>
                    <a:pt x="656" y="175"/>
                  </a:lnTo>
                  <a:lnTo>
                    <a:pt x="636" y="155"/>
                  </a:lnTo>
                  <a:lnTo>
                    <a:pt x="618" y="136"/>
                  </a:lnTo>
                  <a:lnTo>
                    <a:pt x="586" y="102"/>
                  </a:lnTo>
                  <a:lnTo>
                    <a:pt x="562" y="74"/>
                  </a:lnTo>
                  <a:lnTo>
                    <a:pt x="546" y="57"/>
                  </a:lnTo>
                  <a:lnTo>
                    <a:pt x="541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Freeform 238"/>
            <p:cNvSpPr/>
            <p:nvPr/>
          </p:nvSpPr>
          <p:spPr>
            <a:xfrm>
              <a:off x="6192720" y="3705120"/>
              <a:ext cx="80280" cy="2404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3046" h="8222">
                  <a:moveTo>
                    <a:pt x="3046" y="2097"/>
                  </a:moveTo>
                  <a:lnTo>
                    <a:pt x="3046" y="0"/>
                  </a:lnTo>
                  <a:lnTo>
                    <a:pt x="0" y="6752"/>
                  </a:lnTo>
                  <a:lnTo>
                    <a:pt x="343" y="8222"/>
                  </a:lnTo>
                  <a:lnTo>
                    <a:pt x="3046" y="209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Freeform 239"/>
            <p:cNvSpPr/>
            <p:nvPr/>
          </p:nvSpPr>
          <p:spPr>
            <a:xfrm>
              <a:off x="6238800" y="3943440"/>
              <a:ext cx="18360" cy="77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55" h="2694">
                  <a:moveTo>
                    <a:pt x="755" y="2146"/>
                  </a:moveTo>
                  <a:lnTo>
                    <a:pt x="10" y="2694"/>
                  </a:lnTo>
                  <a:lnTo>
                    <a:pt x="0" y="548"/>
                  </a:lnTo>
                  <a:lnTo>
                    <a:pt x="745" y="0"/>
                  </a:lnTo>
                  <a:lnTo>
                    <a:pt x="755" y="214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Freeform 240"/>
            <p:cNvSpPr/>
            <p:nvPr/>
          </p:nvSpPr>
          <p:spPr>
            <a:xfrm>
              <a:off x="6213240" y="3930480"/>
              <a:ext cx="25200" cy="90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91" h="3096">
                  <a:moveTo>
                    <a:pt x="881" y="950"/>
                  </a:moveTo>
                  <a:lnTo>
                    <a:pt x="891" y="3096"/>
                  </a:lnTo>
                  <a:lnTo>
                    <a:pt x="882" y="3087"/>
                  </a:lnTo>
                  <a:lnTo>
                    <a:pt x="855" y="3061"/>
                  </a:lnTo>
                  <a:lnTo>
                    <a:pt x="814" y="3020"/>
                  </a:lnTo>
                  <a:lnTo>
                    <a:pt x="759" y="2965"/>
                  </a:lnTo>
                  <a:lnTo>
                    <a:pt x="695" y="2900"/>
                  </a:lnTo>
                  <a:lnTo>
                    <a:pt x="622" y="2826"/>
                  </a:lnTo>
                  <a:lnTo>
                    <a:pt x="545" y="2746"/>
                  </a:lnTo>
                  <a:lnTo>
                    <a:pt x="464" y="2662"/>
                  </a:lnTo>
                  <a:lnTo>
                    <a:pt x="383" y="2575"/>
                  </a:lnTo>
                  <a:lnTo>
                    <a:pt x="304" y="2488"/>
                  </a:lnTo>
                  <a:lnTo>
                    <a:pt x="265" y="2446"/>
                  </a:lnTo>
                  <a:lnTo>
                    <a:pt x="228" y="2404"/>
                  </a:lnTo>
                  <a:lnTo>
                    <a:pt x="193" y="2363"/>
                  </a:lnTo>
                  <a:lnTo>
                    <a:pt x="160" y="2324"/>
                  </a:lnTo>
                  <a:lnTo>
                    <a:pt x="129" y="2286"/>
                  </a:lnTo>
                  <a:lnTo>
                    <a:pt x="100" y="2249"/>
                  </a:lnTo>
                  <a:lnTo>
                    <a:pt x="75" y="2216"/>
                  </a:lnTo>
                  <a:lnTo>
                    <a:pt x="53" y="2184"/>
                  </a:lnTo>
                  <a:lnTo>
                    <a:pt x="34" y="2156"/>
                  </a:lnTo>
                  <a:lnTo>
                    <a:pt x="18" y="2129"/>
                  </a:lnTo>
                  <a:lnTo>
                    <a:pt x="7" y="210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6" y="8"/>
                  </a:lnTo>
                  <a:lnTo>
                    <a:pt x="23" y="30"/>
                  </a:lnTo>
                  <a:lnTo>
                    <a:pt x="52" y="64"/>
                  </a:lnTo>
                  <a:lnTo>
                    <a:pt x="90" y="110"/>
                  </a:lnTo>
                  <a:lnTo>
                    <a:pt x="135" y="165"/>
                  </a:lnTo>
                  <a:lnTo>
                    <a:pt x="189" y="228"/>
                  </a:lnTo>
                  <a:lnTo>
                    <a:pt x="248" y="298"/>
                  </a:lnTo>
                  <a:lnTo>
                    <a:pt x="313" y="373"/>
                  </a:lnTo>
                  <a:lnTo>
                    <a:pt x="380" y="450"/>
                  </a:lnTo>
                  <a:lnTo>
                    <a:pt x="452" y="529"/>
                  </a:lnTo>
                  <a:lnTo>
                    <a:pt x="525" y="609"/>
                  </a:lnTo>
                  <a:lnTo>
                    <a:pt x="599" y="686"/>
                  </a:lnTo>
                  <a:lnTo>
                    <a:pt x="636" y="725"/>
                  </a:lnTo>
                  <a:lnTo>
                    <a:pt x="673" y="761"/>
                  </a:lnTo>
                  <a:lnTo>
                    <a:pt x="710" y="797"/>
                  </a:lnTo>
                  <a:lnTo>
                    <a:pt x="745" y="831"/>
                  </a:lnTo>
                  <a:lnTo>
                    <a:pt x="780" y="864"/>
                  </a:lnTo>
                  <a:lnTo>
                    <a:pt x="816" y="895"/>
                  </a:lnTo>
                  <a:lnTo>
                    <a:pt x="849" y="923"/>
                  </a:lnTo>
                  <a:lnTo>
                    <a:pt x="881" y="9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Freeform 241"/>
            <p:cNvSpPr/>
            <p:nvPr/>
          </p:nvSpPr>
          <p:spPr>
            <a:xfrm>
              <a:off x="6188400" y="3925440"/>
              <a:ext cx="5760" cy="633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4" h="2192">
                  <a:moveTo>
                    <a:pt x="284" y="9"/>
                  </a:moveTo>
                  <a:lnTo>
                    <a:pt x="273" y="11"/>
                  </a:lnTo>
                  <a:lnTo>
                    <a:pt x="241" y="16"/>
                  </a:lnTo>
                  <a:lnTo>
                    <a:pt x="197" y="22"/>
                  </a:lnTo>
                  <a:lnTo>
                    <a:pt x="146" y="26"/>
                  </a:lnTo>
                  <a:lnTo>
                    <a:pt x="119" y="28"/>
                  </a:lnTo>
                  <a:lnTo>
                    <a:pt x="94" y="28"/>
                  </a:lnTo>
                  <a:lnTo>
                    <a:pt x="70" y="28"/>
                  </a:lnTo>
                  <a:lnTo>
                    <a:pt x="49" y="26"/>
                  </a:lnTo>
                  <a:lnTo>
                    <a:pt x="39" y="24"/>
                  </a:lnTo>
                  <a:lnTo>
                    <a:pt x="30" y="22"/>
                  </a:lnTo>
                  <a:lnTo>
                    <a:pt x="22" y="20"/>
                  </a:lnTo>
                  <a:lnTo>
                    <a:pt x="14" y="17"/>
                  </a:lnTo>
                  <a:lnTo>
                    <a:pt x="9" y="13"/>
                  </a:lnTo>
                  <a:lnTo>
                    <a:pt x="4" y="9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2126"/>
                  </a:lnTo>
                  <a:lnTo>
                    <a:pt x="12" y="2132"/>
                  </a:lnTo>
                  <a:lnTo>
                    <a:pt x="45" y="2145"/>
                  </a:lnTo>
                  <a:lnTo>
                    <a:pt x="66" y="2153"/>
                  </a:lnTo>
                  <a:lnTo>
                    <a:pt x="90" y="2161"/>
                  </a:lnTo>
                  <a:lnTo>
                    <a:pt x="115" y="2170"/>
                  </a:lnTo>
                  <a:lnTo>
                    <a:pt x="141" y="2177"/>
                  </a:lnTo>
                  <a:lnTo>
                    <a:pt x="169" y="2184"/>
                  </a:lnTo>
                  <a:lnTo>
                    <a:pt x="194" y="2189"/>
                  </a:lnTo>
                  <a:lnTo>
                    <a:pt x="206" y="2191"/>
                  </a:lnTo>
                  <a:lnTo>
                    <a:pt x="218" y="2192"/>
                  </a:lnTo>
                  <a:lnTo>
                    <a:pt x="229" y="2192"/>
                  </a:lnTo>
                  <a:lnTo>
                    <a:pt x="239" y="2192"/>
                  </a:lnTo>
                  <a:lnTo>
                    <a:pt x="249" y="2191"/>
                  </a:lnTo>
                  <a:lnTo>
                    <a:pt x="257" y="2189"/>
                  </a:lnTo>
                  <a:lnTo>
                    <a:pt x="265" y="2186"/>
                  </a:lnTo>
                  <a:lnTo>
                    <a:pt x="272" y="2182"/>
                  </a:lnTo>
                  <a:lnTo>
                    <a:pt x="277" y="2177"/>
                  </a:lnTo>
                  <a:lnTo>
                    <a:pt x="281" y="2171"/>
                  </a:lnTo>
                  <a:lnTo>
                    <a:pt x="284" y="2164"/>
                  </a:lnTo>
                  <a:lnTo>
                    <a:pt x="284" y="2155"/>
                  </a:lnTo>
                  <a:lnTo>
                    <a:pt x="284" y="2127"/>
                  </a:lnTo>
                  <a:lnTo>
                    <a:pt x="284" y="2055"/>
                  </a:lnTo>
                  <a:lnTo>
                    <a:pt x="284" y="1946"/>
                  </a:lnTo>
                  <a:lnTo>
                    <a:pt x="284" y="1808"/>
                  </a:lnTo>
                  <a:lnTo>
                    <a:pt x="284" y="1645"/>
                  </a:lnTo>
                  <a:lnTo>
                    <a:pt x="284" y="1463"/>
                  </a:lnTo>
                  <a:lnTo>
                    <a:pt x="284" y="1271"/>
                  </a:lnTo>
                  <a:lnTo>
                    <a:pt x="284" y="1071"/>
                  </a:lnTo>
                  <a:lnTo>
                    <a:pt x="284" y="872"/>
                  </a:lnTo>
                  <a:lnTo>
                    <a:pt x="284" y="681"/>
                  </a:lnTo>
                  <a:lnTo>
                    <a:pt x="284" y="501"/>
                  </a:lnTo>
                  <a:lnTo>
                    <a:pt x="284" y="341"/>
                  </a:lnTo>
                  <a:lnTo>
                    <a:pt x="284" y="205"/>
                  </a:lnTo>
                  <a:lnTo>
                    <a:pt x="284" y="101"/>
                  </a:lnTo>
                  <a:lnTo>
                    <a:pt x="284" y="33"/>
                  </a:lnTo>
                  <a:lnTo>
                    <a:pt x="284" y="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Freeform 242"/>
            <p:cNvSpPr/>
            <p:nvPr/>
          </p:nvSpPr>
          <p:spPr>
            <a:xfrm>
              <a:off x="6064560" y="3916440"/>
              <a:ext cx="5760" cy="66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32" h="2324">
                  <a:moveTo>
                    <a:pt x="232" y="148"/>
                  </a:moveTo>
                  <a:lnTo>
                    <a:pt x="232" y="2323"/>
                  </a:lnTo>
                  <a:lnTo>
                    <a:pt x="222" y="2324"/>
                  </a:lnTo>
                  <a:lnTo>
                    <a:pt x="193" y="2323"/>
                  </a:lnTo>
                  <a:lnTo>
                    <a:pt x="174" y="2322"/>
                  </a:lnTo>
                  <a:lnTo>
                    <a:pt x="153" y="2319"/>
                  </a:lnTo>
                  <a:lnTo>
                    <a:pt x="131" y="2315"/>
                  </a:lnTo>
                  <a:lnTo>
                    <a:pt x="109" y="2309"/>
                  </a:lnTo>
                  <a:lnTo>
                    <a:pt x="98" y="2305"/>
                  </a:lnTo>
                  <a:lnTo>
                    <a:pt x="87" y="2299"/>
                  </a:lnTo>
                  <a:lnTo>
                    <a:pt x="76" y="2294"/>
                  </a:lnTo>
                  <a:lnTo>
                    <a:pt x="66" y="2288"/>
                  </a:lnTo>
                  <a:lnTo>
                    <a:pt x="56" y="2281"/>
                  </a:lnTo>
                  <a:lnTo>
                    <a:pt x="46" y="2274"/>
                  </a:lnTo>
                  <a:lnTo>
                    <a:pt x="37" y="2266"/>
                  </a:lnTo>
                  <a:lnTo>
                    <a:pt x="30" y="2257"/>
                  </a:lnTo>
                  <a:lnTo>
                    <a:pt x="23" y="2247"/>
                  </a:lnTo>
                  <a:lnTo>
                    <a:pt x="17" y="2236"/>
                  </a:lnTo>
                  <a:lnTo>
                    <a:pt x="12" y="2224"/>
                  </a:lnTo>
                  <a:lnTo>
                    <a:pt x="8" y="2211"/>
                  </a:lnTo>
                  <a:lnTo>
                    <a:pt x="6" y="2197"/>
                  </a:lnTo>
                  <a:lnTo>
                    <a:pt x="5" y="2180"/>
                  </a:lnTo>
                  <a:lnTo>
                    <a:pt x="5" y="2164"/>
                  </a:lnTo>
                  <a:lnTo>
                    <a:pt x="7" y="2146"/>
                  </a:lnTo>
                  <a:lnTo>
                    <a:pt x="7" y="0"/>
                  </a:lnTo>
                  <a:lnTo>
                    <a:pt x="5" y="8"/>
                  </a:lnTo>
                  <a:lnTo>
                    <a:pt x="1" y="29"/>
                  </a:lnTo>
                  <a:lnTo>
                    <a:pt x="0" y="43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4" y="73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3" y="96"/>
                  </a:lnTo>
                  <a:lnTo>
                    <a:pt x="18" y="104"/>
                  </a:lnTo>
                  <a:lnTo>
                    <a:pt x="24" y="111"/>
                  </a:lnTo>
                  <a:lnTo>
                    <a:pt x="32" y="118"/>
                  </a:lnTo>
                  <a:lnTo>
                    <a:pt x="40" y="124"/>
                  </a:lnTo>
                  <a:lnTo>
                    <a:pt x="49" y="130"/>
                  </a:lnTo>
                  <a:lnTo>
                    <a:pt x="61" y="136"/>
                  </a:lnTo>
                  <a:lnTo>
                    <a:pt x="74" y="141"/>
                  </a:lnTo>
                  <a:lnTo>
                    <a:pt x="87" y="145"/>
                  </a:lnTo>
                  <a:lnTo>
                    <a:pt x="103" y="149"/>
                  </a:lnTo>
                  <a:lnTo>
                    <a:pt x="119" y="151"/>
                  </a:lnTo>
                  <a:lnTo>
                    <a:pt x="138" y="153"/>
                  </a:lnTo>
                  <a:lnTo>
                    <a:pt x="159" y="153"/>
                  </a:lnTo>
                  <a:lnTo>
                    <a:pt x="182" y="153"/>
                  </a:lnTo>
                  <a:lnTo>
                    <a:pt x="206" y="151"/>
                  </a:lnTo>
                  <a:lnTo>
                    <a:pt x="232" y="1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Freeform 243"/>
            <p:cNvSpPr/>
            <p:nvPr/>
          </p:nvSpPr>
          <p:spPr>
            <a:xfrm>
              <a:off x="6064560" y="3916440"/>
              <a:ext cx="5760" cy="66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32" h="2324">
                  <a:moveTo>
                    <a:pt x="232" y="148"/>
                  </a:moveTo>
                  <a:lnTo>
                    <a:pt x="232" y="2323"/>
                  </a:lnTo>
                  <a:lnTo>
                    <a:pt x="222" y="2324"/>
                  </a:lnTo>
                  <a:lnTo>
                    <a:pt x="193" y="2323"/>
                  </a:lnTo>
                  <a:lnTo>
                    <a:pt x="174" y="2322"/>
                  </a:lnTo>
                  <a:lnTo>
                    <a:pt x="153" y="2319"/>
                  </a:lnTo>
                  <a:lnTo>
                    <a:pt x="131" y="2315"/>
                  </a:lnTo>
                  <a:lnTo>
                    <a:pt x="109" y="2309"/>
                  </a:lnTo>
                  <a:lnTo>
                    <a:pt x="98" y="2305"/>
                  </a:lnTo>
                  <a:lnTo>
                    <a:pt x="87" y="2299"/>
                  </a:lnTo>
                  <a:lnTo>
                    <a:pt x="76" y="2294"/>
                  </a:lnTo>
                  <a:lnTo>
                    <a:pt x="66" y="2288"/>
                  </a:lnTo>
                  <a:lnTo>
                    <a:pt x="56" y="2281"/>
                  </a:lnTo>
                  <a:lnTo>
                    <a:pt x="46" y="2274"/>
                  </a:lnTo>
                  <a:lnTo>
                    <a:pt x="37" y="2266"/>
                  </a:lnTo>
                  <a:lnTo>
                    <a:pt x="30" y="2257"/>
                  </a:lnTo>
                  <a:lnTo>
                    <a:pt x="23" y="2247"/>
                  </a:lnTo>
                  <a:lnTo>
                    <a:pt x="17" y="2236"/>
                  </a:lnTo>
                  <a:lnTo>
                    <a:pt x="12" y="2224"/>
                  </a:lnTo>
                  <a:lnTo>
                    <a:pt x="8" y="2211"/>
                  </a:lnTo>
                  <a:lnTo>
                    <a:pt x="6" y="2197"/>
                  </a:lnTo>
                  <a:lnTo>
                    <a:pt x="5" y="2180"/>
                  </a:lnTo>
                  <a:lnTo>
                    <a:pt x="5" y="2164"/>
                  </a:lnTo>
                  <a:lnTo>
                    <a:pt x="7" y="2146"/>
                  </a:lnTo>
                  <a:lnTo>
                    <a:pt x="7" y="0"/>
                  </a:lnTo>
                  <a:lnTo>
                    <a:pt x="5" y="8"/>
                  </a:lnTo>
                  <a:lnTo>
                    <a:pt x="1" y="29"/>
                  </a:lnTo>
                  <a:lnTo>
                    <a:pt x="0" y="43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4" y="73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3" y="96"/>
                  </a:lnTo>
                  <a:lnTo>
                    <a:pt x="18" y="104"/>
                  </a:lnTo>
                  <a:lnTo>
                    <a:pt x="24" y="111"/>
                  </a:lnTo>
                  <a:lnTo>
                    <a:pt x="32" y="118"/>
                  </a:lnTo>
                  <a:lnTo>
                    <a:pt x="40" y="124"/>
                  </a:lnTo>
                  <a:lnTo>
                    <a:pt x="49" y="130"/>
                  </a:lnTo>
                  <a:lnTo>
                    <a:pt x="61" y="136"/>
                  </a:lnTo>
                  <a:lnTo>
                    <a:pt x="74" y="141"/>
                  </a:lnTo>
                  <a:lnTo>
                    <a:pt x="87" y="145"/>
                  </a:lnTo>
                  <a:lnTo>
                    <a:pt x="103" y="149"/>
                  </a:lnTo>
                  <a:lnTo>
                    <a:pt x="119" y="151"/>
                  </a:lnTo>
                  <a:lnTo>
                    <a:pt x="138" y="153"/>
                  </a:lnTo>
                  <a:lnTo>
                    <a:pt x="159" y="153"/>
                  </a:lnTo>
                  <a:lnTo>
                    <a:pt x="182" y="153"/>
                  </a:lnTo>
                  <a:lnTo>
                    <a:pt x="206" y="151"/>
                  </a:lnTo>
                  <a:lnTo>
                    <a:pt x="232" y="1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Freeform 244"/>
            <p:cNvSpPr/>
            <p:nvPr/>
          </p:nvSpPr>
          <p:spPr>
            <a:xfrm>
              <a:off x="6037200" y="3924000"/>
              <a:ext cx="1080" cy="698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12" h="2381">
                  <a:moveTo>
                    <a:pt x="0" y="225"/>
                  </a:moveTo>
                  <a:lnTo>
                    <a:pt x="6" y="222"/>
                  </a:lnTo>
                  <a:lnTo>
                    <a:pt x="21" y="212"/>
                  </a:lnTo>
                  <a:lnTo>
                    <a:pt x="31" y="204"/>
                  </a:lnTo>
                  <a:lnTo>
                    <a:pt x="42" y="195"/>
                  </a:lnTo>
                  <a:lnTo>
                    <a:pt x="53" y="184"/>
                  </a:lnTo>
                  <a:lnTo>
                    <a:pt x="66" y="171"/>
                  </a:lnTo>
                  <a:lnTo>
                    <a:pt x="77" y="157"/>
                  </a:lnTo>
                  <a:lnTo>
                    <a:pt x="87" y="140"/>
                  </a:lnTo>
                  <a:lnTo>
                    <a:pt x="92" y="131"/>
                  </a:lnTo>
                  <a:lnTo>
                    <a:pt x="96" y="122"/>
                  </a:lnTo>
                  <a:lnTo>
                    <a:pt x="100" y="112"/>
                  </a:lnTo>
                  <a:lnTo>
                    <a:pt x="104" y="101"/>
                  </a:lnTo>
                  <a:lnTo>
                    <a:pt x="107" y="90"/>
                  </a:lnTo>
                  <a:lnTo>
                    <a:pt x="109" y="79"/>
                  </a:lnTo>
                  <a:lnTo>
                    <a:pt x="111" y="67"/>
                  </a:lnTo>
                  <a:lnTo>
                    <a:pt x="112" y="55"/>
                  </a:lnTo>
                  <a:lnTo>
                    <a:pt x="112" y="42"/>
                  </a:lnTo>
                  <a:lnTo>
                    <a:pt x="112" y="28"/>
                  </a:lnTo>
                  <a:lnTo>
                    <a:pt x="110" y="15"/>
                  </a:lnTo>
                  <a:lnTo>
                    <a:pt x="108" y="0"/>
                  </a:lnTo>
                  <a:lnTo>
                    <a:pt x="98" y="2224"/>
                  </a:lnTo>
                  <a:lnTo>
                    <a:pt x="99" y="2228"/>
                  </a:lnTo>
                  <a:lnTo>
                    <a:pt x="98" y="2238"/>
                  </a:lnTo>
                  <a:lnTo>
                    <a:pt x="97" y="2245"/>
                  </a:lnTo>
                  <a:lnTo>
                    <a:pt x="96" y="2253"/>
                  </a:lnTo>
                  <a:lnTo>
                    <a:pt x="93" y="2262"/>
                  </a:lnTo>
                  <a:lnTo>
                    <a:pt x="90" y="2274"/>
                  </a:lnTo>
                  <a:lnTo>
                    <a:pt x="85" y="2285"/>
                  </a:lnTo>
                  <a:lnTo>
                    <a:pt x="79" y="2297"/>
                  </a:lnTo>
                  <a:lnTo>
                    <a:pt x="71" y="2310"/>
                  </a:lnTo>
                  <a:lnTo>
                    <a:pt x="62" y="2324"/>
                  </a:lnTo>
                  <a:lnTo>
                    <a:pt x="49" y="2337"/>
                  </a:lnTo>
                  <a:lnTo>
                    <a:pt x="35" y="2352"/>
                  </a:lnTo>
                  <a:lnTo>
                    <a:pt x="19" y="2366"/>
                  </a:lnTo>
                  <a:lnTo>
                    <a:pt x="0" y="2381"/>
                  </a:lnTo>
                  <a:lnTo>
                    <a:pt x="0" y="22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Freeform 245"/>
            <p:cNvSpPr/>
            <p:nvPr/>
          </p:nvSpPr>
          <p:spPr>
            <a:xfrm>
              <a:off x="5994360" y="3918240"/>
              <a:ext cx="4320" cy="615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77" h="2156">
                  <a:moveTo>
                    <a:pt x="138" y="108"/>
                  </a:moveTo>
                  <a:lnTo>
                    <a:pt x="140" y="101"/>
                  </a:lnTo>
                  <a:lnTo>
                    <a:pt x="145" y="85"/>
                  </a:lnTo>
                  <a:lnTo>
                    <a:pt x="147" y="75"/>
                  </a:lnTo>
                  <a:lnTo>
                    <a:pt x="149" y="63"/>
                  </a:lnTo>
                  <a:lnTo>
                    <a:pt x="148" y="52"/>
                  </a:lnTo>
                  <a:lnTo>
                    <a:pt x="146" y="40"/>
                  </a:lnTo>
                  <a:lnTo>
                    <a:pt x="145" y="35"/>
                  </a:lnTo>
                  <a:lnTo>
                    <a:pt x="142" y="29"/>
                  </a:lnTo>
                  <a:lnTo>
                    <a:pt x="139" y="24"/>
                  </a:lnTo>
                  <a:lnTo>
                    <a:pt x="135" y="19"/>
                  </a:lnTo>
                  <a:lnTo>
                    <a:pt x="129" y="15"/>
                  </a:lnTo>
                  <a:lnTo>
                    <a:pt x="123" y="11"/>
                  </a:lnTo>
                  <a:lnTo>
                    <a:pt x="116" y="7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89" y="1"/>
                  </a:lnTo>
                  <a:lnTo>
                    <a:pt x="78" y="0"/>
                  </a:lnTo>
                  <a:lnTo>
                    <a:pt x="65" y="0"/>
                  </a:lnTo>
                  <a:lnTo>
                    <a:pt x="51" y="1"/>
                  </a:lnTo>
                  <a:lnTo>
                    <a:pt x="36" y="3"/>
                  </a:lnTo>
                  <a:lnTo>
                    <a:pt x="19" y="6"/>
                  </a:lnTo>
                  <a:lnTo>
                    <a:pt x="0" y="10"/>
                  </a:lnTo>
                  <a:lnTo>
                    <a:pt x="0" y="2156"/>
                  </a:lnTo>
                  <a:lnTo>
                    <a:pt x="8" y="2153"/>
                  </a:lnTo>
                  <a:lnTo>
                    <a:pt x="25" y="2145"/>
                  </a:lnTo>
                  <a:lnTo>
                    <a:pt x="37" y="2139"/>
                  </a:lnTo>
                  <a:lnTo>
                    <a:pt x="51" y="2134"/>
                  </a:lnTo>
                  <a:lnTo>
                    <a:pt x="66" y="2130"/>
                  </a:lnTo>
                  <a:lnTo>
                    <a:pt x="81" y="2126"/>
                  </a:lnTo>
                  <a:lnTo>
                    <a:pt x="97" y="2123"/>
                  </a:lnTo>
                  <a:lnTo>
                    <a:pt x="112" y="2121"/>
                  </a:lnTo>
                  <a:lnTo>
                    <a:pt x="127" y="2121"/>
                  </a:lnTo>
                  <a:lnTo>
                    <a:pt x="141" y="2122"/>
                  </a:lnTo>
                  <a:lnTo>
                    <a:pt x="148" y="2124"/>
                  </a:lnTo>
                  <a:lnTo>
                    <a:pt x="153" y="2126"/>
                  </a:lnTo>
                  <a:lnTo>
                    <a:pt x="159" y="2129"/>
                  </a:lnTo>
                  <a:lnTo>
                    <a:pt x="164" y="2133"/>
                  </a:lnTo>
                  <a:lnTo>
                    <a:pt x="168" y="2137"/>
                  </a:lnTo>
                  <a:lnTo>
                    <a:pt x="172" y="2143"/>
                  </a:lnTo>
                  <a:lnTo>
                    <a:pt x="175" y="2149"/>
                  </a:lnTo>
                  <a:lnTo>
                    <a:pt x="177" y="2156"/>
                  </a:lnTo>
                  <a:lnTo>
                    <a:pt x="138" y="1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Freeform 246"/>
            <p:cNvSpPr/>
            <p:nvPr/>
          </p:nvSpPr>
          <p:spPr>
            <a:xfrm>
              <a:off x="5960880" y="3924000"/>
              <a:ext cx="12600" cy="65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61" h="2287">
                  <a:moveTo>
                    <a:pt x="461" y="127"/>
                  </a:moveTo>
                  <a:lnTo>
                    <a:pt x="440" y="130"/>
                  </a:lnTo>
                  <a:lnTo>
                    <a:pt x="389" y="138"/>
                  </a:lnTo>
                  <a:lnTo>
                    <a:pt x="354" y="142"/>
                  </a:lnTo>
                  <a:lnTo>
                    <a:pt x="314" y="145"/>
                  </a:lnTo>
                  <a:lnTo>
                    <a:pt x="294" y="145"/>
                  </a:lnTo>
                  <a:lnTo>
                    <a:pt x="273" y="146"/>
                  </a:lnTo>
                  <a:lnTo>
                    <a:pt x="252" y="146"/>
                  </a:lnTo>
                  <a:lnTo>
                    <a:pt x="231" y="145"/>
                  </a:lnTo>
                  <a:lnTo>
                    <a:pt x="209" y="144"/>
                  </a:lnTo>
                  <a:lnTo>
                    <a:pt x="187" y="142"/>
                  </a:lnTo>
                  <a:lnTo>
                    <a:pt x="166" y="139"/>
                  </a:lnTo>
                  <a:lnTo>
                    <a:pt x="146" y="136"/>
                  </a:lnTo>
                  <a:lnTo>
                    <a:pt x="126" y="130"/>
                  </a:lnTo>
                  <a:lnTo>
                    <a:pt x="107" y="125"/>
                  </a:lnTo>
                  <a:lnTo>
                    <a:pt x="89" y="118"/>
                  </a:lnTo>
                  <a:lnTo>
                    <a:pt x="73" y="111"/>
                  </a:lnTo>
                  <a:lnTo>
                    <a:pt x="56" y="102"/>
                  </a:lnTo>
                  <a:lnTo>
                    <a:pt x="42" y="92"/>
                  </a:lnTo>
                  <a:lnTo>
                    <a:pt x="30" y="80"/>
                  </a:lnTo>
                  <a:lnTo>
                    <a:pt x="20" y="68"/>
                  </a:lnTo>
                  <a:lnTo>
                    <a:pt x="12" y="53"/>
                  </a:lnTo>
                  <a:lnTo>
                    <a:pt x="5" y="37"/>
                  </a:lnTo>
                  <a:lnTo>
                    <a:pt x="2" y="20"/>
                  </a:lnTo>
                  <a:lnTo>
                    <a:pt x="0" y="0"/>
                  </a:lnTo>
                  <a:lnTo>
                    <a:pt x="0" y="2117"/>
                  </a:lnTo>
                  <a:lnTo>
                    <a:pt x="5" y="2126"/>
                  </a:lnTo>
                  <a:lnTo>
                    <a:pt x="21" y="2151"/>
                  </a:lnTo>
                  <a:lnTo>
                    <a:pt x="34" y="2168"/>
                  </a:lnTo>
                  <a:lnTo>
                    <a:pt x="50" y="2185"/>
                  </a:lnTo>
                  <a:lnTo>
                    <a:pt x="59" y="2194"/>
                  </a:lnTo>
                  <a:lnTo>
                    <a:pt x="71" y="2203"/>
                  </a:lnTo>
                  <a:lnTo>
                    <a:pt x="82" y="2212"/>
                  </a:lnTo>
                  <a:lnTo>
                    <a:pt x="95" y="2221"/>
                  </a:lnTo>
                  <a:lnTo>
                    <a:pt x="108" y="2230"/>
                  </a:lnTo>
                  <a:lnTo>
                    <a:pt x="123" y="2238"/>
                  </a:lnTo>
                  <a:lnTo>
                    <a:pt x="139" y="2246"/>
                  </a:lnTo>
                  <a:lnTo>
                    <a:pt x="155" y="2254"/>
                  </a:lnTo>
                  <a:lnTo>
                    <a:pt x="173" y="2261"/>
                  </a:lnTo>
                  <a:lnTo>
                    <a:pt x="193" y="2267"/>
                  </a:lnTo>
                  <a:lnTo>
                    <a:pt x="214" y="2273"/>
                  </a:lnTo>
                  <a:lnTo>
                    <a:pt x="236" y="2278"/>
                  </a:lnTo>
                  <a:lnTo>
                    <a:pt x="259" y="2282"/>
                  </a:lnTo>
                  <a:lnTo>
                    <a:pt x="283" y="2284"/>
                  </a:lnTo>
                  <a:lnTo>
                    <a:pt x="309" y="2287"/>
                  </a:lnTo>
                  <a:lnTo>
                    <a:pt x="337" y="2287"/>
                  </a:lnTo>
                  <a:lnTo>
                    <a:pt x="366" y="2286"/>
                  </a:lnTo>
                  <a:lnTo>
                    <a:pt x="396" y="2283"/>
                  </a:lnTo>
                  <a:lnTo>
                    <a:pt x="427" y="2279"/>
                  </a:lnTo>
                  <a:lnTo>
                    <a:pt x="461" y="2273"/>
                  </a:lnTo>
                  <a:lnTo>
                    <a:pt x="461" y="1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Freeform 247"/>
            <p:cNvSpPr/>
            <p:nvPr/>
          </p:nvSpPr>
          <p:spPr>
            <a:xfrm>
              <a:off x="5939280" y="3916440"/>
              <a:ext cx="10800" cy="65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31" h="2221">
                  <a:moveTo>
                    <a:pt x="431" y="50"/>
                  </a:moveTo>
                  <a:lnTo>
                    <a:pt x="414" y="54"/>
                  </a:lnTo>
                  <a:lnTo>
                    <a:pt x="369" y="64"/>
                  </a:lnTo>
                  <a:lnTo>
                    <a:pt x="339" y="70"/>
                  </a:lnTo>
                  <a:lnTo>
                    <a:pt x="305" y="75"/>
                  </a:lnTo>
                  <a:lnTo>
                    <a:pt x="268" y="80"/>
                  </a:lnTo>
                  <a:lnTo>
                    <a:pt x="230" y="84"/>
                  </a:lnTo>
                  <a:lnTo>
                    <a:pt x="211" y="85"/>
                  </a:lnTo>
                  <a:lnTo>
                    <a:pt x="192" y="86"/>
                  </a:lnTo>
                  <a:lnTo>
                    <a:pt x="173" y="86"/>
                  </a:lnTo>
                  <a:lnTo>
                    <a:pt x="153" y="85"/>
                  </a:lnTo>
                  <a:lnTo>
                    <a:pt x="135" y="84"/>
                  </a:lnTo>
                  <a:lnTo>
                    <a:pt x="117" y="81"/>
                  </a:lnTo>
                  <a:lnTo>
                    <a:pt x="100" y="78"/>
                  </a:lnTo>
                  <a:lnTo>
                    <a:pt x="84" y="74"/>
                  </a:lnTo>
                  <a:lnTo>
                    <a:pt x="69" y="69"/>
                  </a:lnTo>
                  <a:lnTo>
                    <a:pt x="54" y="63"/>
                  </a:lnTo>
                  <a:lnTo>
                    <a:pt x="41" y="56"/>
                  </a:lnTo>
                  <a:lnTo>
                    <a:pt x="30" y="48"/>
                  </a:lnTo>
                  <a:lnTo>
                    <a:pt x="19" y="38"/>
                  </a:lnTo>
                  <a:lnTo>
                    <a:pt x="11" y="26"/>
                  </a:lnTo>
                  <a:lnTo>
                    <a:pt x="4" y="14"/>
                  </a:lnTo>
                  <a:lnTo>
                    <a:pt x="0" y="0"/>
                  </a:lnTo>
                  <a:lnTo>
                    <a:pt x="0" y="2156"/>
                  </a:lnTo>
                  <a:lnTo>
                    <a:pt x="8" y="2162"/>
                  </a:lnTo>
                  <a:lnTo>
                    <a:pt x="32" y="2175"/>
                  </a:lnTo>
                  <a:lnTo>
                    <a:pt x="49" y="2185"/>
                  </a:lnTo>
                  <a:lnTo>
                    <a:pt x="69" y="2194"/>
                  </a:lnTo>
                  <a:lnTo>
                    <a:pt x="93" y="2202"/>
                  </a:lnTo>
                  <a:lnTo>
                    <a:pt x="120" y="2209"/>
                  </a:lnTo>
                  <a:lnTo>
                    <a:pt x="134" y="2213"/>
                  </a:lnTo>
                  <a:lnTo>
                    <a:pt x="149" y="2215"/>
                  </a:lnTo>
                  <a:lnTo>
                    <a:pt x="166" y="2218"/>
                  </a:lnTo>
                  <a:lnTo>
                    <a:pt x="183" y="2219"/>
                  </a:lnTo>
                  <a:lnTo>
                    <a:pt x="200" y="2220"/>
                  </a:lnTo>
                  <a:lnTo>
                    <a:pt x="218" y="2221"/>
                  </a:lnTo>
                  <a:lnTo>
                    <a:pt x="236" y="2220"/>
                  </a:lnTo>
                  <a:lnTo>
                    <a:pt x="256" y="2219"/>
                  </a:lnTo>
                  <a:lnTo>
                    <a:pt x="275" y="2216"/>
                  </a:lnTo>
                  <a:lnTo>
                    <a:pt x="297" y="2213"/>
                  </a:lnTo>
                  <a:lnTo>
                    <a:pt x="318" y="2208"/>
                  </a:lnTo>
                  <a:lnTo>
                    <a:pt x="339" y="2203"/>
                  </a:lnTo>
                  <a:lnTo>
                    <a:pt x="361" y="2196"/>
                  </a:lnTo>
                  <a:lnTo>
                    <a:pt x="384" y="2188"/>
                  </a:lnTo>
                  <a:lnTo>
                    <a:pt x="408" y="2177"/>
                  </a:lnTo>
                  <a:lnTo>
                    <a:pt x="431" y="2166"/>
                  </a:lnTo>
                  <a:lnTo>
                    <a:pt x="431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Freeform 248"/>
            <p:cNvSpPr/>
            <p:nvPr/>
          </p:nvSpPr>
          <p:spPr>
            <a:xfrm>
              <a:off x="5907240" y="3870000"/>
              <a:ext cx="14040" cy="69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19" h="2362">
                  <a:moveTo>
                    <a:pt x="519" y="216"/>
                  </a:moveTo>
                  <a:lnTo>
                    <a:pt x="519" y="2362"/>
                  </a:lnTo>
                  <a:lnTo>
                    <a:pt x="0" y="2146"/>
                  </a:lnTo>
                  <a:lnTo>
                    <a:pt x="0" y="0"/>
                  </a:lnTo>
                  <a:lnTo>
                    <a:pt x="519" y="2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Freeform 249"/>
            <p:cNvSpPr/>
            <p:nvPr/>
          </p:nvSpPr>
          <p:spPr>
            <a:xfrm>
              <a:off x="5991120" y="3812760"/>
              <a:ext cx="2520" cy="7236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97" h="2499">
                  <a:moveTo>
                    <a:pt x="97" y="274"/>
                  </a:moveTo>
                  <a:lnTo>
                    <a:pt x="97" y="2499"/>
                  </a:lnTo>
                  <a:lnTo>
                    <a:pt x="0" y="2215"/>
                  </a:lnTo>
                  <a:lnTo>
                    <a:pt x="0" y="0"/>
                  </a:lnTo>
                  <a:lnTo>
                    <a:pt x="97" y="27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Freeform 250"/>
            <p:cNvSpPr/>
            <p:nvPr/>
          </p:nvSpPr>
          <p:spPr>
            <a:xfrm>
              <a:off x="6283440" y="3997440"/>
              <a:ext cx="16920" cy="90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86" h="3106">
                  <a:moveTo>
                    <a:pt x="677" y="0"/>
                  </a:moveTo>
                  <a:lnTo>
                    <a:pt x="676" y="3"/>
                  </a:lnTo>
                  <a:lnTo>
                    <a:pt x="674" y="12"/>
                  </a:lnTo>
                  <a:lnTo>
                    <a:pt x="669" y="29"/>
                  </a:lnTo>
                  <a:lnTo>
                    <a:pt x="661" y="51"/>
                  </a:lnTo>
                  <a:lnTo>
                    <a:pt x="647" y="81"/>
                  </a:lnTo>
                  <a:lnTo>
                    <a:pt x="630" y="117"/>
                  </a:lnTo>
                  <a:lnTo>
                    <a:pt x="619" y="140"/>
                  </a:lnTo>
                  <a:lnTo>
                    <a:pt x="607" y="163"/>
                  </a:lnTo>
                  <a:lnTo>
                    <a:pt x="593" y="188"/>
                  </a:lnTo>
                  <a:lnTo>
                    <a:pt x="577" y="215"/>
                  </a:lnTo>
                  <a:lnTo>
                    <a:pt x="560" y="245"/>
                  </a:lnTo>
                  <a:lnTo>
                    <a:pt x="540" y="277"/>
                  </a:lnTo>
                  <a:lnTo>
                    <a:pt x="517" y="311"/>
                  </a:lnTo>
                  <a:lnTo>
                    <a:pt x="494" y="346"/>
                  </a:lnTo>
                  <a:lnTo>
                    <a:pt x="468" y="385"/>
                  </a:lnTo>
                  <a:lnTo>
                    <a:pt x="439" y="425"/>
                  </a:lnTo>
                  <a:lnTo>
                    <a:pt x="409" y="467"/>
                  </a:lnTo>
                  <a:lnTo>
                    <a:pt x="374" y="513"/>
                  </a:lnTo>
                  <a:lnTo>
                    <a:pt x="338" y="560"/>
                  </a:lnTo>
                  <a:lnTo>
                    <a:pt x="299" y="609"/>
                  </a:lnTo>
                  <a:lnTo>
                    <a:pt x="257" y="662"/>
                  </a:lnTo>
                  <a:lnTo>
                    <a:pt x="212" y="716"/>
                  </a:lnTo>
                  <a:lnTo>
                    <a:pt x="165" y="774"/>
                  </a:lnTo>
                  <a:lnTo>
                    <a:pt x="113" y="833"/>
                  </a:lnTo>
                  <a:lnTo>
                    <a:pt x="59" y="896"/>
                  </a:lnTo>
                  <a:lnTo>
                    <a:pt x="0" y="960"/>
                  </a:lnTo>
                  <a:lnTo>
                    <a:pt x="10" y="3106"/>
                  </a:lnTo>
                  <a:lnTo>
                    <a:pt x="17" y="3099"/>
                  </a:lnTo>
                  <a:lnTo>
                    <a:pt x="40" y="3077"/>
                  </a:lnTo>
                  <a:lnTo>
                    <a:pt x="73" y="3043"/>
                  </a:lnTo>
                  <a:lnTo>
                    <a:pt x="116" y="2997"/>
                  </a:lnTo>
                  <a:lnTo>
                    <a:pt x="167" y="2943"/>
                  </a:lnTo>
                  <a:lnTo>
                    <a:pt x="224" y="2880"/>
                  </a:lnTo>
                  <a:lnTo>
                    <a:pt x="285" y="2811"/>
                  </a:lnTo>
                  <a:lnTo>
                    <a:pt x="348" y="2736"/>
                  </a:lnTo>
                  <a:lnTo>
                    <a:pt x="379" y="2698"/>
                  </a:lnTo>
                  <a:lnTo>
                    <a:pt x="412" y="2659"/>
                  </a:lnTo>
                  <a:lnTo>
                    <a:pt x="442" y="2619"/>
                  </a:lnTo>
                  <a:lnTo>
                    <a:pt x="472" y="2579"/>
                  </a:lnTo>
                  <a:lnTo>
                    <a:pt x="501" y="2540"/>
                  </a:lnTo>
                  <a:lnTo>
                    <a:pt x="530" y="2499"/>
                  </a:lnTo>
                  <a:lnTo>
                    <a:pt x="556" y="2460"/>
                  </a:lnTo>
                  <a:lnTo>
                    <a:pt x="581" y="2421"/>
                  </a:lnTo>
                  <a:lnTo>
                    <a:pt x="603" y="2381"/>
                  </a:lnTo>
                  <a:lnTo>
                    <a:pt x="623" y="2344"/>
                  </a:lnTo>
                  <a:lnTo>
                    <a:pt x="641" y="2308"/>
                  </a:lnTo>
                  <a:lnTo>
                    <a:pt x="658" y="2271"/>
                  </a:lnTo>
                  <a:lnTo>
                    <a:pt x="670" y="2238"/>
                  </a:lnTo>
                  <a:lnTo>
                    <a:pt x="679" y="2206"/>
                  </a:lnTo>
                  <a:lnTo>
                    <a:pt x="684" y="2175"/>
                  </a:lnTo>
                  <a:lnTo>
                    <a:pt x="686" y="2146"/>
                  </a:lnTo>
                  <a:lnTo>
                    <a:pt x="6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Freeform 251"/>
            <p:cNvSpPr/>
            <p:nvPr/>
          </p:nvSpPr>
          <p:spPr>
            <a:xfrm>
              <a:off x="6034320" y="3881520"/>
              <a:ext cx="83520" cy="1008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088" h="3451">
                  <a:moveTo>
                    <a:pt x="3088" y="158"/>
                  </a:moveTo>
                  <a:lnTo>
                    <a:pt x="3088" y="2353"/>
                  </a:lnTo>
                  <a:lnTo>
                    <a:pt x="3087" y="2349"/>
                  </a:lnTo>
                  <a:lnTo>
                    <a:pt x="3086" y="2338"/>
                  </a:lnTo>
                  <a:lnTo>
                    <a:pt x="3084" y="2331"/>
                  </a:lnTo>
                  <a:lnTo>
                    <a:pt x="3081" y="2322"/>
                  </a:lnTo>
                  <a:lnTo>
                    <a:pt x="3077" y="2311"/>
                  </a:lnTo>
                  <a:lnTo>
                    <a:pt x="3072" y="2300"/>
                  </a:lnTo>
                  <a:lnTo>
                    <a:pt x="3066" y="2289"/>
                  </a:lnTo>
                  <a:lnTo>
                    <a:pt x="3057" y="2275"/>
                  </a:lnTo>
                  <a:lnTo>
                    <a:pt x="3047" y="2262"/>
                  </a:lnTo>
                  <a:lnTo>
                    <a:pt x="3034" y="2249"/>
                  </a:lnTo>
                  <a:lnTo>
                    <a:pt x="3020" y="2236"/>
                  </a:lnTo>
                  <a:lnTo>
                    <a:pt x="3004" y="2223"/>
                  </a:lnTo>
                  <a:lnTo>
                    <a:pt x="2985" y="2210"/>
                  </a:lnTo>
                  <a:lnTo>
                    <a:pt x="2963" y="2198"/>
                  </a:lnTo>
                  <a:lnTo>
                    <a:pt x="2938" y="2186"/>
                  </a:lnTo>
                  <a:lnTo>
                    <a:pt x="2909" y="2175"/>
                  </a:lnTo>
                  <a:lnTo>
                    <a:pt x="2878" y="2165"/>
                  </a:lnTo>
                  <a:lnTo>
                    <a:pt x="2844" y="2155"/>
                  </a:lnTo>
                  <a:lnTo>
                    <a:pt x="2805" y="2148"/>
                  </a:lnTo>
                  <a:lnTo>
                    <a:pt x="2763" y="2141"/>
                  </a:lnTo>
                  <a:lnTo>
                    <a:pt x="2717" y="2137"/>
                  </a:lnTo>
                  <a:lnTo>
                    <a:pt x="2666" y="2134"/>
                  </a:lnTo>
                  <a:lnTo>
                    <a:pt x="2611" y="2133"/>
                  </a:lnTo>
                  <a:lnTo>
                    <a:pt x="2552" y="2134"/>
                  </a:lnTo>
                  <a:lnTo>
                    <a:pt x="2487" y="2138"/>
                  </a:lnTo>
                  <a:lnTo>
                    <a:pt x="2419" y="2144"/>
                  </a:lnTo>
                  <a:lnTo>
                    <a:pt x="2344" y="2153"/>
                  </a:lnTo>
                  <a:lnTo>
                    <a:pt x="2264" y="2165"/>
                  </a:lnTo>
                  <a:lnTo>
                    <a:pt x="2179" y="2179"/>
                  </a:lnTo>
                  <a:lnTo>
                    <a:pt x="2088" y="2197"/>
                  </a:lnTo>
                  <a:lnTo>
                    <a:pt x="2082" y="2197"/>
                  </a:lnTo>
                  <a:lnTo>
                    <a:pt x="2062" y="2197"/>
                  </a:lnTo>
                  <a:lnTo>
                    <a:pt x="2032" y="2199"/>
                  </a:lnTo>
                  <a:lnTo>
                    <a:pt x="1991" y="2202"/>
                  </a:lnTo>
                  <a:lnTo>
                    <a:pt x="1942" y="2206"/>
                  </a:lnTo>
                  <a:lnTo>
                    <a:pt x="1887" y="2213"/>
                  </a:lnTo>
                  <a:lnTo>
                    <a:pt x="1857" y="2217"/>
                  </a:lnTo>
                  <a:lnTo>
                    <a:pt x="1827" y="2222"/>
                  </a:lnTo>
                  <a:lnTo>
                    <a:pt x="1795" y="2228"/>
                  </a:lnTo>
                  <a:lnTo>
                    <a:pt x="1762" y="2234"/>
                  </a:lnTo>
                  <a:lnTo>
                    <a:pt x="1730" y="2242"/>
                  </a:lnTo>
                  <a:lnTo>
                    <a:pt x="1697" y="2250"/>
                  </a:lnTo>
                  <a:lnTo>
                    <a:pt x="1664" y="2260"/>
                  </a:lnTo>
                  <a:lnTo>
                    <a:pt x="1630" y="2270"/>
                  </a:lnTo>
                  <a:lnTo>
                    <a:pt x="1597" y="2283"/>
                  </a:lnTo>
                  <a:lnTo>
                    <a:pt x="1565" y="2296"/>
                  </a:lnTo>
                  <a:lnTo>
                    <a:pt x="1533" y="2310"/>
                  </a:lnTo>
                  <a:lnTo>
                    <a:pt x="1501" y="2325"/>
                  </a:lnTo>
                  <a:lnTo>
                    <a:pt x="1471" y="2342"/>
                  </a:lnTo>
                  <a:lnTo>
                    <a:pt x="1443" y="2359"/>
                  </a:lnTo>
                  <a:lnTo>
                    <a:pt x="1415" y="2379"/>
                  </a:lnTo>
                  <a:lnTo>
                    <a:pt x="1389" y="2400"/>
                  </a:lnTo>
                  <a:lnTo>
                    <a:pt x="1365" y="2423"/>
                  </a:lnTo>
                  <a:lnTo>
                    <a:pt x="1343" y="2447"/>
                  </a:lnTo>
                  <a:lnTo>
                    <a:pt x="1323" y="2473"/>
                  </a:lnTo>
                  <a:lnTo>
                    <a:pt x="1305" y="2500"/>
                  </a:lnTo>
                  <a:lnTo>
                    <a:pt x="1283" y="2517"/>
                  </a:lnTo>
                  <a:lnTo>
                    <a:pt x="1223" y="2562"/>
                  </a:lnTo>
                  <a:lnTo>
                    <a:pt x="1136" y="2628"/>
                  </a:lnTo>
                  <a:lnTo>
                    <a:pt x="1035" y="2707"/>
                  </a:lnTo>
                  <a:lnTo>
                    <a:pt x="926" y="2793"/>
                  </a:lnTo>
                  <a:lnTo>
                    <a:pt x="821" y="2876"/>
                  </a:lnTo>
                  <a:lnTo>
                    <a:pt x="774" y="2916"/>
                  </a:lnTo>
                  <a:lnTo>
                    <a:pt x="732" y="2951"/>
                  </a:lnTo>
                  <a:lnTo>
                    <a:pt x="696" y="2983"/>
                  </a:lnTo>
                  <a:lnTo>
                    <a:pt x="668" y="3010"/>
                  </a:lnTo>
                  <a:lnTo>
                    <a:pt x="51" y="3343"/>
                  </a:lnTo>
                  <a:lnTo>
                    <a:pt x="22" y="3451"/>
                  </a:lnTo>
                  <a:lnTo>
                    <a:pt x="22" y="1275"/>
                  </a:lnTo>
                  <a:lnTo>
                    <a:pt x="18" y="1271"/>
                  </a:lnTo>
                  <a:lnTo>
                    <a:pt x="9" y="1260"/>
                  </a:lnTo>
                  <a:lnTo>
                    <a:pt x="5" y="1252"/>
                  </a:lnTo>
                  <a:lnTo>
                    <a:pt x="2" y="1243"/>
                  </a:lnTo>
                  <a:lnTo>
                    <a:pt x="1" y="1238"/>
                  </a:lnTo>
                  <a:lnTo>
                    <a:pt x="0" y="1233"/>
                  </a:lnTo>
                  <a:lnTo>
                    <a:pt x="0" y="1228"/>
                  </a:lnTo>
                  <a:lnTo>
                    <a:pt x="0" y="1223"/>
                  </a:lnTo>
                  <a:lnTo>
                    <a:pt x="1" y="1218"/>
                  </a:lnTo>
                  <a:lnTo>
                    <a:pt x="3" y="1213"/>
                  </a:lnTo>
                  <a:lnTo>
                    <a:pt x="6" y="1207"/>
                  </a:lnTo>
                  <a:lnTo>
                    <a:pt x="9" y="1201"/>
                  </a:lnTo>
                  <a:lnTo>
                    <a:pt x="14" y="1196"/>
                  </a:lnTo>
                  <a:lnTo>
                    <a:pt x="20" y="1190"/>
                  </a:lnTo>
                  <a:lnTo>
                    <a:pt x="26" y="1185"/>
                  </a:lnTo>
                  <a:lnTo>
                    <a:pt x="34" y="1180"/>
                  </a:lnTo>
                  <a:lnTo>
                    <a:pt x="43" y="1175"/>
                  </a:lnTo>
                  <a:lnTo>
                    <a:pt x="54" y="1171"/>
                  </a:lnTo>
                  <a:lnTo>
                    <a:pt x="65" y="1166"/>
                  </a:lnTo>
                  <a:lnTo>
                    <a:pt x="79" y="1162"/>
                  </a:lnTo>
                  <a:lnTo>
                    <a:pt x="93" y="1158"/>
                  </a:lnTo>
                  <a:lnTo>
                    <a:pt x="110" y="1154"/>
                  </a:lnTo>
                  <a:lnTo>
                    <a:pt x="128" y="1151"/>
                  </a:lnTo>
                  <a:lnTo>
                    <a:pt x="149" y="1148"/>
                  </a:lnTo>
                  <a:lnTo>
                    <a:pt x="158" y="1143"/>
                  </a:lnTo>
                  <a:lnTo>
                    <a:pt x="181" y="1129"/>
                  </a:lnTo>
                  <a:lnTo>
                    <a:pt x="219" y="1107"/>
                  </a:lnTo>
                  <a:lnTo>
                    <a:pt x="269" y="1077"/>
                  </a:lnTo>
                  <a:lnTo>
                    <a:pt x="328" y="1043"/>
                  </a:lnTo>
                  <a:lnTo>
                    <a:pt x="397" y="1003"/>
                  </a:lnTo>
                  <a:lnTo>
                    <a:pt x="470" y="957"/>
                  </a:lnTo>
                  <a:lnTo>
                    <a:pt x="549" y="910"/>
                  </a:lnTo>
                  <a:lnTo>
                    <a:pt x="630" y="861"/>
                  </a:lnTo>
                  <a:lnTo>
                    <a:pt x="713" y="810"/>
                  </a:lnTo>
                  <a:lnTo>
                    <a:pt x="794" y="760"/>
                  </a:lnTo>
                  <a:lnTo>
                    <a:pt x="872" y="709"/>
                  </a:lnTo>
                  <a:lnTo>
                    <a:pt x="946" y="662"/>
                  </a:lnTo>
                  <a:lnTo>
                    <a:pt x="1012" y="618"/>
                  </a:lnTo>
                  <a:lnTo>
                    <a:pt x="1043" y="596"/>
                  </a:lnTo>
                  <a:lnTo>
                    <a:pt x="1071" y="576"/>
                  </a:lnTo>
                  <a:lnTo>
                    <a:pt x="1096" y="558"/>
                  </a:lnTo>
                  <a:lnTo>
                    <a:pt x="1118" y="540"/>
                  </a:lnTo>
                  <a:lnTo>
                    <a:pt x="1462" y="178"/>
                  </a:lnTo>
                  <a:lnTo>
                    <a:pt x="1472" y="175"/>
                  </a:lnTo>
                  <a:lnTo>
                    <a:pt x="1501" y="167"/>
                  </a:lnTo>
                  <a:lnTo>
                    <a:pt x="1549" y="155"/>
                  </a:lnTo>
                  <a:lnTo>
                    <a:pt x="1612" y="139"/>
                  </a:lnTo>
                  <a:lnTo>
                    <a:pt x="1689" y="120"/>
                  </a:lnTo>
                  <a:lnTo>
                    <a:pt x="1778" y="100"/>
                  </a:lnTo>
                  <a:lnTo>
                    <a:pt x="1875" y="80"/>
                  </a:lnTo>
                  <a:lnTo>
                    <a:pt x="1982" y="60"/>
                  </a:lnTo>
                  <a:lnTo>
                    <a:pt x="2038" y="51"/>
                  </a:lnTo>
                  <a:lnTo>
                    <a:pt x="2094" y="42"/>
                  </a:lnTo>
                  <a:lnTo>
                    <a:pt x="2152" y="34"/>
                  </a:lnTo>
                  <a:lnTo>
                    <a:pt x="2211" y="26"/>
                  </a:lnTo>
                  <a:lnTo>
                    <a:pt x="2270" y="19"/>
                  </a:lnTo>
                  <a:lnTo>
                    <a:pt x="2330" y="13"/>
                  </a:lnTo>
                  <a:lnTo>
                    <a:pt x="2389" y="9"/>
                  </a:lnTo>
                  <a:lnTo>
                    <a:pt x="2449" y="4"/>
                  </a:lnTo>
                  <a:lnTo>
                    <a:pt x="2508" y="1"/>
                  </a:lnTo>
                  <a:lnTo>
                    <a:pt x="2567" y="0"/>
                  </a:lnTo>
                  <a:lnTo>
                    <a:pt x="2624" y="1"/>
                  </a:lnTo>
                  <a:lnTo>
                    <a:pt x="2681" y="3"/>
                  </a:lnTo>
                  <a:lnTo>
                    <a:pt x="2736" y="7"/>
                  </a:lnTo>
                  <a:lnTo>
                    <a:pt x="2790" y="14"/>
                  </a:lnTo>
                  <a:lnTo>
                    <a:pt x="2842" y="21"/>
                  </a:lnTo>
                  <a:lnTo>
                    <a:pt x="2891" y="31"/>
                  </a:lnTo>
                  <a:lnTo>
                    <a:pt x="3088" y="1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Freeform 252"/>
            <p:cNvSpPr/>
            <p:nvPr/>
          </p:nvSpPr>
          <p:spPr>
            <a:xfrm>
              <a:off x="6070680" y="3898440"/>
              <a:ext cx="58680" cy="838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194" h="2905">
                  <a:moveTo>
                    <a:pt x="0" y="2905"/>
                  </a:moveTo>
                  <a:lnTo>
                    <a:pt x="9" y="2903"/>
                  </a:lnTo>
                  <a:lnTo>
                    <a:pt x="32" y="2898"/>
                  </a:lnTo>
                  <a:lnTo>
                    <a:pt x="70" y="2890"/>
                  </a:lnTo>
                  <a:lnTo>
                    <a:pt x="121" y="2877"/>
                  </a:lnTo>
                  <a:lnTo>
                    <a:pt x="182" y="2862"/>
                  </a:lnTo>
                  <a:lnTo>
                    <a:pt x="253" y="2844"/>
                  </a:lnTo>
                  <a:lnTo>
                    <a:pt x="332" y="2824"/>
                  </a:lnTo>
                  <a:lnTo>
                    <a:pt x="418" y="2801"/>
                  </a:lnTo>
                  <a:lnTo>
                    <a:pt x="509" y="2776"/>
                  </a:lnTo>
                  <a:lnTo>
                    <a:pt x="604" y="2747"/>
                  </a:lnTo>
                  <a:lnTo>
                    <a:pt x="700" y="2718"/>
                  </a:lnTo>
                  <a:lnTo>
                    <a:pt x="798" y="2686"/>
                  </a:lnTo>
                  <a:lnTo>
                    <a:pt x="847" y="2670"/>
                  </a:lnTo>
                  <a:lnTo>
                    <a:pt x="895" y="2653"/>
                  </a:lnTo>
                  <a:lnTo>
                    <a:pt x="942" y="2634"/>
                  </a:lnTo>
                  <a:lnTo>
                    <a:pt x="990" y="2617"/>
                  </a:lnTo>
                  <a:lnTo>
                    <a:pt x="1035" y="2599"/>
                  </a:lnTo>
                  <a:lnTo>
                    <a:pt x="1080" y="2580"/>
                  </a:lnTo>
                  <a:lnTo>
                    <a:pt x="1124" y="2562"/>
                  </a:lnTo>
                  <a:lnTo>
                    <a:pt x="1166" y="2543"/>
                  </a:lnTo>
                  <a:lnTo>
                    <a:pt x="1401" y="2445"/>
                  </a:lnTo>
                  <a:lnTo>
                    <a:pt x="1408" y="2437"/>
                  </a:lnTo>
                  <a:lnTo>
                    <a:pt x="1429" y="2417"/>
                  </a:lnTo>
                  <a:lnTo>
                    <a:pt x="1461" y="2386"/>
                  </a:lnTo>
                  <a:lnTo>
                    <a:pt x="1501" y="2351"/>
                  </a:lnTo>
                  <a:lnTo>
                    <a:pt x="1523" y="2333"/>
                  </a:lnTo>
                  <a:lnTo>
                    <a:pt x="1546" y="2314"/>
                  </a:lnTo>
                  <a:lnTo>
                    <a:pt x="1570" y="2297"/>
                  </a:lnTo>
                  <a:lnTo>
                    <a:pt x="1596" y="2279"/>
                  </a:lnTo>
                  <a:lnTo>
                    <a:pt x="1621" y="2263"/>
                  </a:lnTo>
                  <a:lnTo>
                    <a:pt x="1646" y="2249"/>
                  </a:lnTo>
                  <a:lnTo>
                    <a:pt x="1658" y="2243"/>
                  </a:lnTo>
                  <a:lnTo>
                    <a:pt x="1671" y="2238"/>
                  </a:lnTo>
                  <a:lnTo>
                    <a:pt x="1683" y="2233"/>
                  </a:lnTo>
                  <a:lnTo>
                    <a:pt x="1695" y="2229"/>
                  </a:lnTo>
                  <a:lnTo>
                    <a:pt x="1707" y="2221"/>
                  </a:lnTo>
                  <a:lnTo>
                    <a:pt x="1743" y="2203"/>
                  </a:lnTo>
                  <a:lnTo>
                    <a:pt x="1768" y="2192"/>
                  </a:lnTo>
                  <a:lnTo>
                    <a:pt x="1796" y="2180"/>
                  </a:lnTo>
                  <a:lnTo>
                    <a:pt x="1828" y="2168"/>
                  </a:lnTo>
                  <a:lnTo>
                    <a:pt x="1864" y="2156"/>
                  </a:lnTo>
                  <a:lnTo>
                    <a:pt x="1883" y="2151"/>
                  </a:lnTo>
                  <a:lnTo>
                    <a:pt x="1902" y="2146"/>
                  </a:lnTo>
                  <a:lnTo>
                    <a:pt x="1921" y="2142"/>
                  </a:lnTo>
                  <a:lnTo>
                    <a:pt x="1941" y="2139"/>
                  </a:lnTo>
                  <a:lnTo>
                    <a:pt x="1962" y="2136"/>
                  </a:lnTo>
                  <a:lnTo>
                    <a:pt x="1984" y="2134"/>
                  </a:lnTo>
                  <a:lnTo>
                    <a:pt x="2004" y="2133"/>
                  </a:lnTo>
                  <a:lnTo>
                    <a:pt x="2026" y="2133"/>
                  </a:lnTo>
                  <a:lnTo>
                    <a:pt x="2047" y="2135"/>
                  </a:lnTo>
                  <a:lnTo>
                    <a:pt x="2068" y="2137"/>
                  </a:lnTo>
                  <a:lnTo>
                    <a:pt x="2089" y="2140"/>
                  </a:lnTo>
                  <a:lnTo>
                    <a:pt x="2112" y="2145"/>
                  </a:lnTo>
                  <a:lnTo>
                    <a:pt x="2133" y="2151"/>
                  </a:lnTo>
                  <a:lnTo>
                    <a:pt x="2153" y="2159"/>
                  </a:lnTo>
                  <a:lnTo>
                    <a:pt x="2174" y="2169"/>
                  </a:lnTo>
                  <a:lnTo>
                    <a:pt x="2194" y="2180"/>
                  </a:lnTo>
                  <a:lnTo>
                    <a:pt x="2194" y="24"/>
                  </a:lnTo>
                  <a:lnTo>
                    <a:pt x="2180" y="20"/>
                  </a:lnTo>
                  <a:lnTo>
                    <a:pt x="2141" y="12"/>
                  </a:lnTo>
                  <a:lnTo>
                    <a:pt x="2112" y="7"/>
                  </a:lnTo>
                  <a:lnTo>
                    <a:pt x="2078" y="3"/>
                  </a:lnTo>
                  <a:lnTo>
                    <a:pt x="2040" y="1"/>
                  </a:lnTo>
                  <a:lnTo>
                    <a:pt x="1998" y="0"/>
                  </a:lnTo>
                  <a:lnTo>
                    <a:pt x="1975" y="1"/>
                  </a:lnTo>
                  <a:lnTo>
                    <a:pt x="1951" y="2"/>
                  </a:lnTo>
                  <a:lnTo>
                    <a:pt x="1926" y="4"/>
                  </a:lnTo>
                  <a:lnTo>
                    <a:pt x="1901" y="7"/>
                  </a:lnTo>
                  <a:lnTo>
                    <a:pt x="1876" y="10"/>
                  </a:lnTo>
                  <a:lnTo>
                    <a:pt x="1849" y="16"/>
                  </a:lnTo>
                  <a:lnTo>
                    <a:pt x="1821" y="22"/>
                  </a:lnTo>
                  <a:lnTo>
                    <a:pt x="1794" y="28"/>
                  </a:lnTo>
                  <a:lnTo>
                    <a:pt x="1765" y="36"/>
                  </a:lnTo>
                  <a:lnTo>
                    <a:pt x="1737" y="46"/>
                  </a:lnTo>
                  <a:lnTo>
                    <a:pt x="1707" y="56"/>
                  </a:lnTo>
                  <a:lnTo>
                    <a:pt x="1678" y="68"/>
                  </a:lnTo>
                  <a:lnTo>
                    <a:pt x="1648" y="81"/>
                  </a:lnTo>
                  <a:lnTo>
                    <a:pt x="1619" y="96"/>
                  </a:lnTo>
                  <a:lnTo>
                    <a:pt x="1589" y="113"/>
                  </a:lnTo>
                  <a:lnTo>
                    <a:pt x="1558" y="132"/>
                  </a:lnTo>
                  <a:lnTo>
                    <a:pt x="1382" y="298"/>
                  </a:lnTo>
                  <a:lnTo>
                    <a:pt x="1371" y="303"/>
                  </a:lnTo>
                  <a:lnTo>
                    <a:pt x="1339" y="317"/>
                  </a:lnTo>
                  <a:lnTo>
                    <a:pt x="1288" y="338"/>
                  </a:lnTo>
                  <a:lnTo>
                    <a:pt x="1223" y="365"/>
                  </a:lnTo>
                  <a:lnTo>
                    <a:pt x="1142" y="399"/>
                  </a:lnTo>
                  <a:lnTo>
                    <a:pt x="1050" y="435"/>
                  </a:lnTo>
                  <a:lnTo>
                    <a:pt x="949" y="473"/>
                  </a:lnTo>
                  <a:lnTo>
                    <a:pt x="842" y="514"/>
                  </a:lnTo>
                  <a:lnTo>
                    <a:pt x="786" y="534"/>
                  </a:lnTo>
                  <a:lnTo>
                    <a:pt x="729" y="554"/>
                  </a:lnTo>
                  <a:lnTo>
                    <a:pt x="671" y="574"/>
                  </a:lnTo>
                  <a:lnTo>
                    <a:pt x="614" y="593"/>
                  </a:lnTo>
                  <a:lnTo>
                    <a:pt x="556" y="612"/>
                  </a:lnTo>
                  <a:lnTo>
                    <a:pt x="499" y="630"/>
                  </a:lnTo>
                  <a:lnTo>
                    <a:pt x="441" y="646"/>
                  </a:lnTo>
                  <a:lnTo>
                    <a:pt x="386" y="662"/>
                  </a:lnTo>
                  <a:lnTo>
                    <a:pt x="331" y="677"/>
                  </a:lnTo>
                  <a:lnTo>
                    <a:pt x="277" y="689"/>
                  </a:lnTo>
                  <a:lnTo>
                    <a:pt x="225" y="701"/>
                  </a:lnTo>
                  <a:lnTo>
                    <a:pt x="175" y="711"/>
                  </a:lnTo>
                  <a:lnTo>
                    <a:pt x="127" y="718"/>
                  </a:lnTo>
                  <a:lnTo>
                    <a:pt x="82" y="724"/>
                  </a:lnTo>
                  <a:lnTo>
                    <a:pt x="39" y="728"/>
                  </a:lnTo>
                  <a:lnTo>
                    <a:pt x="0" y="730"/>
                  </a:lnTo>
                  <a:lnTo>
                    <a:pt x="0" y="29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253"/>
            <p:cNvSpPr/>
            <p:nvPr/>
          </p:nvSpPr>
          <p:spPr>
            <a:xfrm>
              <a:off x="5902200" y="3970440"/>
              <a:ext cx="39600" cy="684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59" h="2341">
                  <a:moveTo>
                    <a:pt x="1459" y="0"/>
                  </a:moveTo>
                  <a:lnTo>
                    <a:pt x="1459" y="2155"/>
                  </a:lnTo>
                  <a:lnTo>
                    <a:pt x="1452" y="2156"/>
                  </a:lnTo>
                  <a:lnTo>
                    <a:pt x="1434" y="2158"/>
                  </a:lnTo>
                  <a:lnTo>
                    <a:pt x="1405" y="2160"/>
                  </a:lnTo>
                  <a:lnTo>
                    <a:pt x="1367" y="2163"/>
                  </a:lnTo>
                  <a:lnTo>
                    <a:pt x="1319" y="2168"/>
                  </a:lnTo>
                  <a:lnTo>
                    <a:pt x="1267" y="2172"/>
                  </a:lnTo>
                  <a:lnTo>
                    <a:pt x="1209" y="2178"/>
                  </a:lnTo>
                  <a:lnTo>
                    <a:pt x="1148" y="2183"/>
                  </a:lnTo>
                  <a:lnTo>
                    <a:pt x="1085" y="2189"/>
                  </a:lnTo>
                  <a:lnTo>
                    <a:pt x="1021" y="2196"/>
                  </a:lnTo>
                  <a:lnTo>
                    <a:pt x="958" y="2202"/>
                  </a:lnTo>
                  <a:lnTo>
                    <a:pt x="897" y="2209"/>
                  </a:lnTo>
                  <a:lnTo>
                    <a:pt x="840" y="2215"/>
                  </a:lnTo>
                  <a:lnTo>
                    <a:pt x="788" y="2221"/>
                  </a:lnTo>
                  <a:lnTo>
                    <a:pt x="743" y="2228"/>
                  </a:lnTo>
                  <a:lnTo>
                    <a:pt x="705" y="2234"/>
                  </a:lnTo>
                  <a:lnTo>
                    <a:pt x="0" y="2341"/>
                  </a:lnTo>
                  <a:lnTo>
                    <a:pt x="0" y="195"/>
                  </a:lnTo>
                  <a:lnTo>
                    <a:pt x="5" y="194"/>
                  </a:lnTo>
                  <a:lnTo>
                    <a:pt x="18" y="191"/>
                  </a:lnTo>
                  <a:lnTo>
                    <a:pt x="40" y="186"/>
                  </a:lnTo>
                  <a:lnTo>
                    <a:pt x="69" y="179"/>
                  </a:lnTo>
                  <a:lnTo>
                    <a:pt x="105" y="172"/>
                  </a:lnTo>
                  <a:lnTo>
                    <a:pt x="147" y="163"/>
                  </a:lnTo>
                  <a:lnTo>
                    <a:pt x="194" y="154"/>
                  </a:lnTo>
                  <a:lnTo>
                    <a:pt x="246" y="144"/>
                  </a:lnTo>
                  <a:lnTo>
                    <a:pt x="301" y="134"/>
                  </a:lnTo>
                  <a:lnTo>
                    <a:pt x="360" y="124"/>
                  </a:lnTo>
                  <a:lnTo>
                    <a:pt x="420" y="114"/>
                  </a:lnTo>
                  <a:lnTo>
                    <a:pt x="484" y="105"/>
                  </a:lnTo>
                  <a:lnTo>
                    <a:pt x="546" y="96"/>
                  </a:lnTo>
                  <a:lnTo>
                    <a:pt x="610" y="89"/>
                  </a:lnTo>
                  <a:lnTo>
                    <a:pt x="673" y="83"/>
                  </a:lnTo>
                  <a:lnTo>
                    <a:pt x="735" y="77"/>
                  </a:lnTo>
                  <a:lnTo>
                    <a:pt x="145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Freeform 254"/>
            <p:cNvSpPr/>
            <p:nvPr/>
          </p:nvSpPr>
          <p:spPr>
            <a:xfrm>
              <a:off x="6194160" y="3923280"/>
              <a:ext cx="14040" cy="651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80" h="2286">
                  <a:moveTo>
                    <a:pt x="480" y="3"/>
                  </a:moveTo>
                  <a:lnTo>
                    <a:pt x="470" y="2"/>
                  </a:lnTo>
                  <a:lnTo>
                    <a:pt x="443" y="0"/>
                  </a:lnTo>
                  <a:lnTo>
                    <a:pt x="424" y="0"/>
                  </a:lnTo>
                  <a:lnTo>
                    <a:pt x="401" y="0"/>
                  </a:lnTo>
                  <a:lnTo>
                    <a:pt x="374" y="2"/>
                  </a:lnTo>
                  <a:lnTo>
                    <a:pt x="343" y="6"/>
                  </a:lnTo>
                  <a:lnTo>
                    <a:pt x="309" y="11"/>
                  </a:lnTo>
                  <a:lnTo>
                    <a:pt x="273" y="19"/>
                  </a:lnTo>
                  <a:lnTo>
                    <a:pt x="253" y="24"/>
                  </a:lnTo>
                  <a:lnTo>
                    <a:pt x="232" y="30"/>
                  </a:lnTo>
                  <a:lnTo>
                    <a:pt x="212" y="37"/>
                  </a:lnTo>
                  <a:lnTo>
                    <a:pt x="191" y="44"/>
                  </a:lnTo>
                  <a:lnTo>
                    <a:pt x="169" y="53"/>
                  </a:lnTo>
                  <a:lnTo>
                    <a:pt x="146" y="62"/>
                  </a:lnTo>
                  <a:lnTo>
                    <a:pt x="123" y="73"/>
                  </a:lnTo>
                  <a:lnTo>
                    <a:pt x="99" y="84"/>
                  </a:lnTo>
                  <a:lnTo>
                    <a:pt x="75" y="97"/>
                  </a:lnTo>
                  <a:lnTo>
                    <a:pt x="51" y="110"/>
                  </a:lnTo>
                  <a:lnTo>
                    <a:pt x="26" y="125"/>
                  </a:lnTo>
                  <a:lnTo>
                    <a:pt x="0" y="140"/>
                  </a:lnTo>
                  <a:lnTo>
                    <a:pt x="0" y="2286"/>
                  </a:lnTo>
                  <a:lnTo>
                    <a:pt x="16" y="2278"/>
                  </a:lnTo>
                  <a:lnTo>
                    <a:pt x="58" y="2257"/>
                  </a:lnTo>
                  <a:lnTo>
                    <a:pt x="87" y="2243"/>
                  </a:lnTo>
                  <a:lnTo>
                    <a:pt x="121" y="2228"/>
                  </a:lnTo>
                  <a:lnTo>
                    <a:pt x="157" y="2210"/>
                  </a:lnTo>
                  <a:lnTo>
                    <a:pt x="196" y="2194"/>
                  </a:lnTo>
                  <a:lnTo>
                    <a:pt x="235" y="2179"/>
                  </a:lnTo>
                  <a:lnTo>
                    <a:pt x="277" y="2165"/>
                  </a:lnTo>
                  <a:lnTo>
                    <a:pt x="297" y="2158"/>
                  </a:lnTo>
                  <a:lnTo>
                    <a:pt x="316" y="2152"/>
                  </a:lnTo>
                  <a:lnTo>
                    <a:pt x="336" y="2147"/>
                  </a:lnTo>
                  <a:lnTo>
                    <a:pt x="355" y="2142"/>
                  </a:lnTo>
                  <a:lnTo>
                    <a:pt x="374" y="2138"/>
                  </a:lnTo>
                  <a:lnTo>
                    <a:pt x="392" y="2135"/>
                  </a:lnTo>
                  <a:lnTo>
                    <a:pt x="409" y="2133"/>
                  </a:lnTo>
                  <a:lnTo>
                    <a:pt x="426" y="2132"/>
                  </a:lnTo>
                  <a:lnTo>
                    <a:pt x="441" y="2132"/>
                  </a:lnTo>
                  <a:lnTo>
                    <a:pt x="455" y="2133"/>
                  </a:lnTo>
                  <a:lnTo>
                    <a:pt x="468" y="2136"/>
                  </a:lnTo>
                  <a:lnTo>
                    <a:pt x="480" y="2140"/>
                  </a:lnTo>
                  <a:lnTo>
                    <a:pt x="480" y="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Freeform 255"/>
            <p:cNvSpPr/>
            <p:nvPr/>
          </p:nvSpPr>
          <p:spPr>
            <a:xfrm>
              <a:off x="5973840" y="3918240"/>
              <a:ext cx="20160" cy="705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734" h="2478">
                  <a:moveTo>
                    <a:pt x="734" y="0"/>
                  </a:moveTo>
                  <a:lnTo>
                    <a:pt x="0" y="332"/>
                  </a:lnTo>
                  <a:lnTo>
                    <a:pt x="0" y="2478"/>
                  </a:lnTo>
                  <a:lnTo>
                    <a:pt x="734" y="2146"/>
                  </a:lnTo>
                  <a:lnTo>
                    <a:pt x="73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Freeform 256"/>
            <p:cNvSpPr/>
            <p:nvPr/>
          </p:nvSpPr>
          <p:spPr>
            <a:xfrm>
              <a:off x="5949720" y="3916440"/>
              <a:ext cx="10800" cy="63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82" h="2186">
                  <a:moveTo>
                    <a:pt x="382" y="70"/>
                  </a:moveTo>
                  <a:lnTo>
                    <a:pt x="382" y="2166"/>
                  </a:lnTo>
                  <a:lnTo>
                    <a:pt x="374" y="2162"/>
                  </a:lnTo>
                  <a:lnTo>
                    <a:pt x="351" y="2152"/>
                  </a:lnTo>
                  <a:lnTo>
                    <a:pt x="334" y="2145"/>
                  </a:lnTo>
                  <a:lnTo>
                    <a:pt x="315" y="2139"/>
                  </a:lnTo>
                  <a:lnTo>
                    <a:pt x="293" y="2133"/>
                  </a:lnTo>
                  <a:lnTo>
                    <a:pt x="268" y="2129"/>
                  </a:lnTo>
                  <a:lnTo>
                    <a:pt x="255" y="2127"/>
                  </a:lnTo>
                  <a:lnTo>
                    <a:pt x="241" y="2125"/>
                  </a:lnTo>
                  <a:lnTo>
                    <a:pt x="226" y="2125"/>
                  </a:lnTo>
                  <a:lnTo>
                    <a:pt x="211" y="2124"/>
                  </a:lnTo>
                  <a:lnTo>
                    <a:pt x="195" y="2124"/>
                  </a:lnTo>
                  <a:lnTo>
                    <a:pt x="179" y="2125"/>
                  </a:lnTo>
                  <a:lnTo>
                    <a:pt x="163" y="2127"/>
                  </a:lnTo>
                  <a:lnTo>
                    <a:pt x="146" y="2129"/>
                  </a:lnTo>
                  <a:lnTo>
                    <a:pt x="129" y="2133"/>
                  </a:lnTo>
                  <a:lnTo>
                    <a:pt x="112" y="2137"/>
                  </a:lnTo>
                  <a:lnTo>
                    <a:pt x="93" y="2142"/>
                  </a:lnTo>
                  <a:lnTo>
                    <a:pt x="75" y="2149"/>
                  </a:lnTo>
                  <a:lnTo>
                    <a:pt x="57" y="2156"/>
                  </a:lnTo>
                  <a:lnTo>
                    <a:pt x="38" y="2165"/>
                  </a:lnTo>
                  <a:lnTo>
                    <a:pt x="19" y="2175"/>
                  </a:lnTo>
                  <a:lnTo>
                    <a:pt x="0" y="2186"/>
                  </a:lnTo>
                  <a:lnTo>
                    <a:pt x="0" y="70"/>
                  </a:lnTo>
                  <a:lnTo>
                    <a:pt x="8" y="63"/>
                  </a:lnTo>
                  <a:lnTo>
                    <a:pt x="31" y="48"/>
                  </a:lnTo>
                  <a:lnTo>
                    <a:pt x="47" y="37"/>
                  </a:lnTo>
                  <a:lnTo>
                    <a:pt x="66" y="28"/>
                  </a:lnTo>
                  <a:lnTo>
                    <a:pt x="88" y="19"/>
                  </a:lnTo>
                  <a:lnTo>
                    <a:pt x="114" y="10"/>
                  </a:lnTo>
                  <a:lnTo>
                    <a:pt x="127" y="7"/>
                  </a:lnTo>
                  <a:lnTo>
                    <a:pt x="141" y="4"/>
                  </a:lnTo>
                  <a:lnTo>
                    <a:pt x="156" y="2"/>
                  </a:lnTo>
                  <a:lnTo>
                    <a:pt x="170" y="0"/>
                  </a:lnTo>
                  <a:lnTo>
                    <a:pt x="186" y="0"/>
                  </a:lnTo>
                  <a:lnTo>
                    <a:pt x="202" y="0"/>
                  </a:lnTo>
                  <a:lnTo>
                    <a:pt x="218" y="1"/>
                  </a:lnTo>
                  <a:lnTo>
                    <a:pt x="236" y="3"/>
                  </a:lnTo>
                  <a:lnTo>
                    <a:pt x="253" y="7"/>
                  </a:lnTo>
                  <a:lnTo>
                    <a:pt x="270" y="11"/>
                  </a:lnTo>
                  <a:lnTo>
                    <a:pt x="288" y="17"/>
                  </a:lnTo>
                  <a:lnTo>
                    <a:pt x="306" y="24"/>
                  </a:lnTo>
                  <a:lnTo>
                    <a:pt x="325" y="33"/>
                  </a:lnTo>
                  <a:lnTo>
                    <a:pt x="343" y="43"/>
                  </a:lnTo>
                  <a:lnTo>
                    <a:pt x="363" y="56"/>
                  </a:lnTo>
                  <a:lnTo>
                    <a:pt x="382" y="7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257"/>
            <p:cNvSpPr/>
            <p:nvPr/>
          </p:nvSpPr>
          <p:spPr>
            <a:xfrm>
              <a:off x="5916600" y="3891240"/>
              <a:ext cx="21600" cy="705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822" h="2458">
                  <a:moveTo>
                    <a:pt x="822" y="314"/>
                  </a:moveTo>
                  <a:lnTo>
                    <a:pt x="822" y="2450"/>
                  </a:lnTo>
                  <a:lnTo>
                    <a:pt x="812" y="2450"/>
                  </a:lnTo>
                  <a:lnTo>
                    <a:pt x="787" y="2452"/>
                  </a:lnTo>
                  <a:lnTo>
                    <a:pt x="747" y="2456"/>
                  </a:lnTo>
                  <a:lnTo>
                    <a:pt x="694" y="2457"/>
                  </a:lnTo>
                  <a:lnTo>
                    <a:pt x="633" y="2458"/>
                  </a:lnTo>
                  <a:lnTo>
                    <a:pt x="564" y="2457"/>
                  </a:lnTo>
                  <a:lnTo>
                    <a:pt x="528" y="2454"/>
                  </a:lnTo>
                  <a:lnTo>
                    <a:pt x="491" y="2452"/>
                  </a:lnTo>
                  <a:lnTo>
                    <a:pt x="453" y="2449"/>
                  </a:lnTo>
                  <a:lnTo>
                    <a:pt x="415" y="2445"/>
                  </a:lnTo>
                  <a:lnTo>
                    <a:pt x="377" y="2440"/>
                  </a:lnTo>
                  <a:lnTo>
                    <a:pt x="339" y="2434"/>
                  </a:lnTo>
                  <a:lnTo>
                    <a:pt x="302" y="2426"/>
                  </a:lnTo>
                  <a:lnTo>
                    <a:pt x="266" y="2417"/>
                  </a:lnTo>
                  <a:lnTo>
                    <a:pt x="231" y="2407"/>
                  </a:lnTo>
                  <a:lnTo>
                    <a:pt x="197" y="2396"/>
                  </a:lnTo>
                  <a:lnTo>
                    <a:pt x="165" y="2383"/>
                  </a:lnTo>
                  <a:lnTo>
                    <a:pt x="136" y="2368"/>
                  </a:lnTo>
                  <a:lnTo>
                    <a:pt x="109" y="2351"/>
                  </a:lnTo>
                  <a:lnTo>
                    <a:pt x="83" y="2332"/>
                  </a:lnTo>
                  <a:lnTo>
                    <a:pt x="62" y="2311"/>
                  </a:lnTo>
                  <a:lnTo>
                    <a:pt x="44" y="2289"/>
                  </a:lnTo>
                  <a:lnTo>
                    <a:pt x="29" y="2264"/>
                  </a:lnTo>
                  <a:lnTo>
                    <a:pt x="18" y="2237"/>
                  </a:lnTo>
                  <a:lnTo>
                    <a:pt x="11" y="2207"/>
                  </a:lnTo>
                  <a:lnTo>
                    <a:pt x="9" y="2176"/>
                  </a:lnTo>
                  <a:lnTo>
                    <a:pt x="9" y="0"/>
                  </a:lnTo>
                  <a:lnTo>
                    <a:pt x="7" y="4"/>
                  </a:lnTo>
                  <a:lnTo>
                    <a:pt x="4" y="16"/>
                  </a:lnTo>
                  <a:lnTo>
                    <a:pt x="2" y="24"/>
                  </a:lnTo>
                  <a:lnTo>
                    <a:pt x="1" y="33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0" y="70"/>
                  </a:lnTo>
                  <a:lnTo>
                    <a:pt x="2" y="83"/>
                  </a:lnTo>
                  <a:lnTo>
                    <a:pt x="5" y="98"/>
                  </a:lnTo>
                  <a:lnTo>
                    <a:pt x="10" y="113"/>
                  </a:lnTo>
                  <a:lnTo>
                    <a:pt x="17" y="128"/>
                  </a:lnTo>
                  <a:lnTo>
                    <a:pt x="26" y="144"/>
                  </a:lnTo>
                  <a:lnTo>
                    <a:pt x="38" y="159"/>
                  </a:lnTo>
                  <a:lnTo>
                    <a:pt x="51" y="175"/>
                  </a:lnTo>
                  <a:lnTo>
                    <a:pt x="68" y="192"/>
                  </a:lnTo>
                  <a:lnTo>
                    <a:pt x="88" y="207"/>
                  </a:lnTo>
                  <a:lnTo>
                    <a:pt x="112" y="222"/>
                  </a:lnTo>
                  <a:lnTo>
                    <a:pt x="138" y="236"/>
                  </a:lnTo>
                  <a:lnTo>
                    <a:pt x="169" y="250"/>
                  </a:lnTo>
                  <a:lnTo>
                    <a:pt x="203" y="263"/>
                  </a:lnTo>
                  <a:lnTo>
                    <a:pt x="243" y="275"/>
                  </a:lnTo>
                  <a:lnTo>
                    <a:pt x="286" y="285"/>
                  </a:lnTo>
                  <a:lnTo>
                    <a:pt x="333" y="295"/>
                  </a:lnTo>
                  <a:lnTo>
                    <a:pt x="387" y="304"/>
                  </a:lnTo>
                  <a:lnTo>
                    <a:pt x="444" y="310"/>
                  </a:lnTo>
                  <a:lnTo>
                    <a:pt x="509" y="315"/>
                  </a:lnTo>
                  <a:lnTo>
                    <a:pt x="577" y="318"/>
                  </a:lnTo>
                  <a:lnTo>
                    <a:pt x="653" y="319"/>
                  </a:lnTo>
                  <a:lnTo>
                    <a:pt x="735" y="318"/>
                  </a:lnTo>
                  <a:lnTo>
                    <a:pt x="822" y="3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Freeform 258"/>
            <p:cNvSpPr/>
            <p:nvPr/>
          </p:nvSpPr>
          <p:spPr>
            <a:xfrm>
              <a:off x="5867280" y="3821040"/>
              <a:ext cx="12600" cy="75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456" h="2587">
                  <a:moveTo>
                    <a:pt x="446" y="441"/>
                  </a:moveTo>
                  <a:lnTo>
                    <a:pt x="425" y="432"/>
                  </a:lnTo>
                  <a:lnTo>
                    <a:pt x="369" y="408"/>
                  </a:lnTo>
                  <a:lnTo>
                    <a:pt x="332" y="389"/>
                  </a:lnTo>
                  <a:lnTo>
                    <a:pt x="292" y="368"/>
                  </a:lnTo>
                  <a:lnTo>
                    <a:pt x="270" y="356"/>
                  </a:lnTo>
                  <a:lnTo>
                    <a:pt x="248" y="344"/>
                  </a:lnTo>
                  <a:lnTo>
                    <a:pt x="226" y="330"/>
                  </a:lnTo>
                  <a:lnTo>
                    <a:pt x="204" y="316"/>
                  </a:lnTo>
                  <a:lnTo>
                    <a:pt x="182" y="301"/>
                  </a:lnTo>
                  <a:lnTo>
                    <a:pt x="161" y="285"/>
                  </a:lnTo>
                  <a:lnTo>
                    <a:pt x="140" y="268"/>
                  </a:lnTo>
                  <a:lnTo>
                    <a:pt x="119" y="251"/>
                  </a:lnTo>
                  <a:lnTo>
                    <a:pt x="100" y="233"/>
                  </a:lnTo>
                  <a:lnTo>
                    <a:pt x="82" y="215"/>
                  </a:lnTo>
                  <a:lnTo>
                    <a:pt x="65" y="196"/>
                  </a:lnTo>
                  <a:lnTo>
                    <a:pt x="50" y="176"/>
                  </a:lnTo>
                  <a:lnTo>
                    <a:pt x="36" y="155"/>
                  </a:lnTo>
                  <a:lnTo>
                    <a:pt x="25" y="135"/>
                  </a:lnTo>
                  <a:lnTo>
                    <a:pt x="15" y="114"/>
                  </a:lnTo>
                  <a:lnTo>
                    <a:pt x="7" y="92"/>
                  </a:lnTo>
                  <a:lnTo>
                    <a:pt x="2" y="70"/>
                  </a:lnTo>
                  <a:lnTo>
                    <a:pt x="0" y="47"/>
                  </a:lnTo>
                  <a:lnTo>
                    <a:pt x="1" y="23"/>
                  </a:lnTo>
                  <a:lnTo>
                    <a:pt x="5" y="0"/>
                  </a:lnTo>
                  <a:lnTo>
                    <a:pt x="5" y="2165"/>
                  </a:lnTo>
                  <a:lnTo>
                    <a:pt x="9" y="2180"/>
                  </a:lnTo>
                  <a:lnTo>
                    <a:pt x="23" y="2219"/>
                  </a:lnTo>
                  <a:lnTo>
                    <a:pt x="33" y="2246"/>
                  </a:lnTo>
                  <a:lnTo>
                    <a:pt x="48" y="2275"/>
                  </a:lnTo>
                  <a:lnTo>
                    <a:pt x="56" y="2291"/>
                  </a:lnTo>
                  <a:lnTo>
                    <a:pt x="65" y="2308"/>
                  </a:lnTo>
                  <a:lnTo>
                    <a:pt x="76" y="2326"/>
                  </a:lnTo>
                  <a:lnTo>
                    <a:pt x="87" y="2343"/>
                  </a:lnTo>
                  <a:lnTo>
                    <a:pt x="100" y="2361"/>
                  </a:lnTo>
                  <a:lnTo>
                    <a:pt x="114" y="2379"/>
                  </a:lnTo>
                  <a:lnTo>
                    <a:pt x="129" y="2397"/>
                  </a:lnTo>
                  <a:lnTo>
                    <a:pt x="146" y="2414"/>
                  </a:lnTo>
                  <a:lnTo>
                    <a:pt x="164" y="2432"/>
                  </a:lnTo>
                  <a:lnTo>
                    <a:pt x="182" y="2450"/>
                  </a:lnTo>
                  <a:lnTo>
                    <a:pt x="203" y="2467"/>
                  </a:lnTo>
                  <a:lnTo>
                    <a:pt x="224" y="2484"/>
                  </a:lnTo>
                  <a:lnTo>
                    <a:pt x="247" y="2500"/>
                  </a:lnTo>
                  <a:lnTo>
                    <a:pt x="273" y="2515"/>
                  </a:lnTo>
                  <a:lnTo>
                    <a:pt x="299" y="2530"/>
                  </a:lnTo>
                  <a:lnTo>
                    <a:pt x="327" y="2543"/>
                  </a:lnTo>
                  <a:lnTo>
                    <a:pt x="356" y="2557"/>
                  </a:lnTo>
                  <a:lnTo>
                    <a:pt x="388" y="2568"/>
                  </a:lnTo>
                  <a:lnTo>
                    <a:pt x="421" y="2578"/>
                  </a:lnTo>
                  <a:lnTo>
                    <a:pt x="456" y="2587"/>
                  </a:lnTo>
                  <a:lnTo>
                    <a:pt x="446" y="4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Freeform 259"/>
            <p:cNvSpPr/>
            <p:nvPr/>
          </p:nvSpPr>
          <p:spPr>
            <a:xfrm>
              <a:off x="5920920" y="3787560"/>
              <a:ext cx="56880" cy="83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116" h="2853">
                  <a:moveTo>
                    <a:pt x="2116" y="636"/>
                  </a:moveTo>
                  <a:lnTo>
                    <a:pt x="2098" y="640"/>
                  </a:lnTo>
                  <a:lnTo>
                    <a:pt x="2047" y="649"/>
                  </a:lnTo>
                  <a:lnTo>
                    <a:pt x="2011" y="654"/>
                  </a:lnTo>
                  <a:lnTo>
                    <a:pt x="1969" y="660"/>
                  </a:lnTo>
                  <a:lnTo>
                    <a:pt x="1919" y="667"/>
                  </a:lnTo>
                  <a:lnTo>
                    <a:pt x="1864" y="673"/>
                  </a:lnTo>
                  <a:lnTo>
                    <a:pt x="1804" y="679"/>
                  </a:lnTo>
                  <a:lnTo>
                    <a:pt x="1738" y="684"/>
                  </a:lnTo>
                  <a:lnTo>
                    <a:pt x="1667" y="688"/>
                  </a:lnTo>
                  <a:lnTo>
                    <a:pt x="1594" y="690"/>
                  </a:lnTo>
                  <a:lnTo>
                    <a:pt x="1516" y="691"/>
                  </a:lnTo>
                  <a:lnTo>
                    <a:pt x="1436" y="690"/>
                  </a:lnTo>
                  <a:lnTo>
                    <a:pt x="1353" y="687"/>
                  </a:lnTo>
                  <a:lnTo>
                    <a:pt x="1267" y="681"/>
                  </a:lnTo>
                  <a:lnTo>
                    <a:pt x="1181" y="673"/>
                  </a:lnTo>
                  <a:lnTo>
                    <a:pt x="1093" y="661"/>
                  </a:lnTo>
                  <a:lnTo>
                    <a:pt x="1004" y="646"/>
                  </a:lnTo>
                  <a:lnTo>
                    <a:pt x="914" y="627"/>
                  </a:lnTo>
                  <a:lnTo>
                    <a:pt x="826" y="604"/>
                  </a:lnTo>
                  <a:lnTo>
                    <a:pt x="738" y="576"/>
                  </a:lnTo>
                  <a:lnTo>
                    <a:pt x="651" y="545"/>
                  </a:lnTo>
                  <a:lnTo>
                    <a:pt x="567" y="508"/>
                  </a:lnTo>
                  <a:lnTo>
                    <a:pt x="483" y="465"/>
                  </a:lnTo>
                  <a:lnTo>
                    <a:pt x="402" y="418"/>
                  </a:lnTo>
                  <a:lnTo>
                    <a:pt x="325" y="365"/>
                  </a:lnTo>
                  <a:lnTo>
                    <a:pt x="251" y="305"/>
                  </a:lnTo>
                  <a:lnTo>
                    <a:pt x="182" y="239"/>
                  </a:lnTo>
                  <a:lnTo>
                    <a:pt x="116" y="166"/>
                  </a:lnTo>
                  <a:lnTo>
                    <a:pt x="56" y="86"/>
                  </a:lnTo>
                  <a:lnTo>
                    <a:pt x="0" y="0"/>
                  </a:lnTo>
                  <a:lnTo>
                    <a:pt x="0" y="2165"/>
                  </a:lnTo>
                  <a:lnTo>
                    <a:pt x="7" y="2176"/>
                  </a:lnTo>
                  <a:lnTo>
                    <a:pt x="30" y="2205"/>
                  </a:lnTo>
                  <a:lnTo>
                    <a:pt x="48" y="2226"/>
                  </a:lnTo>
                  <a:lnTo>
                    <a:pt x="69" y="2250"/>
                  </a:lnTo>
                  <a:lnTo>
                    <a:pt x="94" y="2278"/>
                  </a:lnTo>
                  <a:lnTo>
                    <a:pt x="122" y="2308"/>
                  </a:lnTo>
                  <a:lnTo>
                    <a:pt x="155" y="2341"/>
                  </a:lnTo>
                  <a:lnTo>
                    <a:pt x="193" y="2375"/>
                  </a:lnTo>
                  <a:lnTo>
                    <a:pt x="234" y="2411"/>
                  </a:lnTo>
                  <a:lnTo>
                    <a:pt x="279" y="2448"/>
                  </a:lnTo>
                  <a:lnTo>
                    <a:pt x="329" y="2485"/>
                  </a:lnTo>
                  <a:lnTo>
                    <a:pt x="383" y="2524"/>
                  </a:lnTo>
                  <a:lnTo>
                    <a:pt x="441" y="2561"/>
                  </a:lnTo>
                  <a:lnTo>
                    <a:pt x="503" y="2598"/>
                  </a:lnTo>
                  <a:lnTo>
                    <a:pt x="570" y="2635"/>
                  </a:lnTo>
                  <a:lnTo>
                    <a:pt x="641" y="2670"/>
                  </a:lnTo>
                  <a:lnTo>
                    <a:pt x="717" y="2702"/>
                  </a:lnTo>
                  <a:lnTo>
                    <a:pt x="797" y="2733"/>
                  </a:lnTo>
                  <a:lnTo>
                    <a:pt x="881" y="2762"/>
                  </a:lnTo>
                  <a:lnTo>
                    <a:pt x="970" y="2787"/>
                  </a:lnTo>
                  <a:lnTo>
                    <a:pt x="1064" y="2808"/>
                  </a:lnTo>
                  <a:lnTo>
                    <a:pt x="1161" y="2826"/>
                  </a:lnTo>
                  <a:lnTo>
                    <a:pt x="1264" y="2840"/>
                  </a:lnTo>
                  <a:lnTo>
                    <a:pt x="1371" y="2849"/>
                  </a:lnTo>
                  <a:lnTo>
                    <a:pt x="1483" y="2853"/>
                  </a:lnTo>
                  <a:lnTo>
                    <a:pt x="1600" y="2851"/>
                  </a:lnTo>
                  <a:lnTo>
                    <a:pt x="1722" y="2844"/>
                  </a:lnTo>
                  <a:lnTo>
                    <a:pt x="1849" y="2830"/>
                  </a:lnTo>
                  <a:lnTo>
                    <a:pt x="1980" y="2810"/>
                  </a:lnTo>
                  <a:lnTo>
                    <a:pt x="2116" y="2782"/>
                  </a:lnTo>
                  <a:lnTo>
                    <a:pt x="2116" y="63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260"/>
            <p:cNvSpPr/>
            <p:nvPr/>
          </p:nvSpPr>
          <p:spPr>
            <a:xfrm>
              <a:off x="6276600" y="4016160"/>
              <a:ext cx="5760" cy="705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5" h="2440">
                  <a:moveTo>
                    <a:pt x="215" y="343"/>
                  </a:moveTo>
                  <a:lnTo>
                    <a:pt x="215" y="2440"/>
                  </a:lnTo>
                  <a:lnTo>
                    <a:pt x="202" y="2428"/>
                  </a:lnTo>
                  <a:lnTo>
                    <a:pt x="171" y="2396"/>
                  </a:lnTo>
                  <a:lnTo>
                    <a:pt x="150" y="2374"/>
                  </a:lnTo>
                  <a:lnTo>
                    <a:pt x="128" y="2349"/>
                  </a:lnTo>
                  <a:lnTo>
                    <a:pt x="104" y="2320"/>
                  </a:lnTo>
                  <a:lnTo>
                    <a:pt x="80" y="2291"/>
                  </a:lnTo>
                  <a:lnTo>
                    <a:pt x="69" y="2276"/>
                  </a:lnTo>
                  <a:lnTo>
                    <a:pt x="58" y="2260"/>
                  </a:lnTo>
                  <a:lnTo>
                    <a:pt x="48" y="2245"/>
                  </a:lnTo>
                  <a:lnTo>
                    <a:pt x="38" y="2229"/>
                  </a:lnTo>
                  <a:lnTo>
                    <a:pt x="29" y="2213"/>
                  </a:lnTo>
                  <a:lnTo>
                    <a:pt x="21" y="2198"/>
                  </a:lnTo>
                  <a:lnTo>
                    <a:pt x="15" y="2182"/>
                  </a:lnTo>
                  <a:lnTo>
                    <a:pt x="9" y="2168"/>
                  </a:lnTo>
                  <a:lnTo>
                    <a:pt x="4" y="2153"/>
                  </a:lnTo>
                  <a:lnTo>
                    <a:pt x="1" y="2139"/>
                  </a:lnTo>
                  <a:lnTo>
                    <a:pt x="0" y="2126"/>
                  </a:lnTo>
                  <a:lnTo>
                    <a:pt x="0" y="2113"/>
                  </a:lnTo>
                  <a:lnTo>
                    <a:pt x="2" y="2099"/>
                  </a:lnTo>
                  <a:lnTo>
                    <a:pt x="6" y="2088"/>
                  </a:lnTo>
                  <a:lnTo>
                    <a:pt x="11" y="2077"/>
                  </a:lnTo>
                  <a:lnTo>
                    <a:pt x="19" y="2068"/>
                  </a:lnTo>
                  <a:lnTo>
                    <a:pt x="19" y="0"/>
                  </a:lnTo>
                  <a:lnTo>
                    <a:pt x="21" y="7"/>
                  </a:lnTo>
                  <a:lnTo>
                    <a:pt x="28" y="25"/>
                  </a:lnTo>
                  <a:lnTo>
                    <a:pt x="40" y="54"/>
                  </a:lnTo>
                  <a:lnTo>
                    <a:pt x="58" y="95"/>
                  </a:lnTo>
                  <a:lnTo>
                    <a:pt x="70" y="118"/>
                  </a:lnTo>
                  <a:lnTo>
                    <a:pt x="84" y="144"/>
                  </a:lnTo>
                  <a:lnTo>
                    <a:pt x="101" y="172"/>
                  </a:lnTo>
                  <a:lnTo>
                    <a:pt x="119" y="203"/>
                  </a:lnTo>
                  <a:lnTo>
                    <a:pt x="139" y="235"/>
                  </a:lnTo>
                  <a:lnTo>
                    <a:pt x="162" y="269"/>
                  </a:lnTo>
                  <a:lnTo>
                    <a:pt x="187" y="305"/>
                  </a:lnTo>
                  <a:lnTo>
                    <a:pt x="215" y="34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261"/>
            <p:cNvSpPr/>
            <p:nvPr/>
          </p:nvSpPr>
          <p:spPr>
            <a:xfrm>
              <a:off x="6010200" y="3930480"/>
              <a:ext cx="27000" cy="72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999" h="2499">
                  <a:moveTo>
                    <a:pt x="999" y="0"/>
                  </a:moveTo>
                  <a:lnTo>
                    <a:pt x="999" y="2156"/>
                  </a:lnTo>
                  <a:lnTo>
                    <a:pt x="995" y="2158"/>
                  </a:lnTo>
                  <a:lnTo>
                    <a:pt x="984" y="2164"/>
                  </a:lnTo>
                  <a:lnTo>
                    <a:pt x="966" y="2173"/>
                  </a:lnTo>
                  <a:lnTo>
                    <a:pt x="941" y="2186"/>
                  </a:lnTo>
                  <a:lnTo>
                    <a:pt x="909" y="2200"/>
                  </a:lnTo>
                  <a:lnTo>
                    <a:pt x="872" y="2217"/>
                  </a:lnTo>
                  <a:lnTo>
                    <a:pt x="830" y="2236"/>
                  </a:lnTo>
                  <a:lnTo>
                    <a:pt x="781" y="2256"/>
                  </a:lnTo>
                  <a:lnTo>
                    <a:pt x="729" y="2278"/>
                  </a:lnTo>
                  <a:lnTo>
                    <a:pt x="671" y="2301"/>
                  </a:lnTo>
                  <a:lnTo>
                    <a:pt x="610" y="2324"/>
                  </a:lnTo>
                  <a:lnTo>
                    <a:pt x="544" y="2346"/>
                  </a:lnTo>
                  <a:lnTo>
                    <a:pt x="476" y="2369"/>
                  </a:lnTo>
                  <a:lnTo>
                    <a:pt x="405" y="2390"/>
                  </a:lnTo>
                  <a:lnTo>
                    <a:pt x="368" y="2402"/>
                  </a:lnTo>
                  <a:lnTo>
                    <a:pt x="331" y="2412"/>
                  </a:lnTo>
                  <a:lnTo>
                    <a:pt x="293" y="2421"/>
                  </a:lnTo>
                  <a:lnTo>
                    <a:pt x="255" y="2431"/>
                  </a:lnTo>
                  <a:lnTo>
                    <a:pt x="10" y="2499"/>
                  </a:lnTo>
                  <a:lnTo>
                    <a:pt x="0" y="353"/>
                  </a:lnTo>
                  <a:lnTo>
                    <a:pt x="19" y="347"/>
                  </a:lnTo>
                  <a:lnTo>
                    <a:pt x="73" y="333"/>
                  </a:lnTo>
                  <a:lnTo>
                    <a:pt x="150" y="313"/>
                  </a:lnTo>
                  <a:lnTo>
                    <a:pt x="243" y="287"/>
                  </a:lnTo>
                  <a:lnTo>
                    <a:pt x="342" y="259"/>
                  </a:lnTo>
                  <a:lnTo>
                    <a:pt x="439" y="229"/>
                  </a:lnTo>
                  <a:lnTo>
                    <a:pt x="483" y="214"/>
                  </a:lnTo>
                  <a:lnTo>
                    <a:pt x="523" y="201"/>
                  </a:lnTo>
                  <a:lnTo>
                    <a:pt x="559" y="188"/>
                  </a:lnTo>
                  <a:lnTo>
                    <a:pt x="588" y="177"/>
                  </a:lnTo>
                  <a:lnTo>
                    <a:pt x="606" y="171"/>
                  </a:lnTo>
                  <a:lnTo>
                    <a:pt x="652" y="155"/>
                  </a:lnTo>
                  <a:lnTo>
                    <a:pt x="718" y="132"/>
                  </a:lnTo>
                  <a:lnTo>
                    <a:pt x="793" y="103"/>
                  </a:lnTo>
                  <a:lnTo>
                    <a:pt x="832" y="88"/>
                  </a:lnTo>
                  <a:lnTo>
                    <a:pt x="869" y="73"/>
                  </a:lnTo>
                  <a:lnTo>
                    <a:pt x="904" y="59"/>
                  </a:lnTo>
                  <a:lnTo>
                    <a:pt x="935" y="45"/>
                  </a:lnTo>
                  <a:lnTo>
                    <a:pt x="962" y="31"/>
                  </a:lnTo>
                  <a:lnTo>
                    <a:pt x="982" y="19"/>
                  </a:lnTo>
                  <a:lnTo>
                    <a:pt x="989" y="14"/>
                  </a:lnTo>
                  <a:lnTo>
                    <a:pt x="995" y="9"/>
                  </a:lnTo>
                  <a:lnTo>
                    <a:pt x="998" y="4"/>
                  </a:lnTo>
                  <a:lnTo>
                    <a:pt x="99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262"/>
            <p:cNvSpPr/>
            <p:nvPr/>
          </p:nvSpPr>
          <p:spPr>
            <a:xfrm>
              <a:off x="6208560" y="3923280"/>
              <a:ext cx="4320" cy="684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35" h="2392">
                  <a:moveTo>
                    <a:pt x="235" y="305"/>
                  </a:moveTo>
                  <a:lnTo>
                    <a:pt x="235" y="2392"/>
                  </a:lnTo>
                  <a:lnTo>
                    <a:pt x="228" y="2381"/>
                  </a:lnTo>
                  <a:lnTo>
                    <a:pt x="211" y="2350"/>
                  </a:lnTo>
                  <a:lnTo>
                    <a:pt x="198" y="2329"/>
                  </a:lnTo>
                  <a:lnTo>
                    <a:pt x="184" y="2306"/>
                  </a:lnTo>
                  <a:lnTo>
                    <a:pt x="168" y="2282"/>
                  </a:lnTo>
                  <a:lnTo>
                    <a:pt x="151" y="2258"/>
                  </a:lnTo>
                  <a:lnTo>
                    <a:pt x="132" y="2233"/>
                  </a:lnTo>
                  <a:lnTo>
                    <a:pt x="113" y="2209"/>
                  </a:lnTo>
                  <a:lnTo>
                    <a:pt x="93" y="2188"/>
                  </a:lnTo>
                  <a:lnTo>
                    <a:pt x="74" y="2169"/>
                  </a:lnTo>
                  <a:lnTo>
                    <a:pt x="64" y="2161"/>
                  </a:lnTo>
                  <a:lnTo>
                    <a:pt x="55" y="2154"/>
                  </a:lnTo>
                  <a:lnTo>
                    <a:pt x="45" y="2148"/>
                  </a:lnTo>
                  <a:lnTo>
                    <a:pt x="36" y="2143"/>
                  </a:lnTo>
                  <a:lnTo>
                    <a:pt x="26" y="2140"/>
                  </a:lnTo>
                  <a:lnTo>
                    <a:pt x="18" y="2137"/>
                  </a:lnTo>
                  <a:lnTo>
                    <a:pt x="8" y="2137"/>
                  </a:lnTo>
                  <a:lnTo>
                    <a:pt x="0" y="2138"/>
                  </a:lnTo>
                  <a:lnTo>
                    <a:pt x="0" y="1"/>
                  </a:lnTo>
                  <a:lnTo>
                    <a:pt x="3" y="1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6" y="3"/>
                  </a:lnTo>
                  <a:lnTo>
                    <a:pt x="46" y="6"/>
                  </a:lnTo>
                  <a:lnTo>
                    <a:pt x="55" y="10"/>
                  </a:lnTo>
                  <a:lnTo>
                    <a:pt x="66" y="16"/>
                  </a:lnTo>
                  <a:lnTo>
                    <a:pt x="76" y="24"/>
                  </a:lnTo>
                  <a:lnTo>
                    <a:pt x="87" y="34"/>
                  </a:lnTo>
                  <a:lnTo>
                    <a:pt x="97" y="46"/>
                  </a:lnTo>
                  <a:lnTo>
                    <a:pt x="107" y="61"/>
                  </a:lnTo>
                  <a:lnTo>
                    <a:pt x="117" y="79"/>
                  </a:lnTo>
                  <a:lnTo>
                    <a:pt x="127" y="99"/>
                  </a:lnTo>
                  <a:lnTo>
                    <a:pt x="235" y="3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263"/>
            <p:cNvSpPr/>
            <p:nvPr/>
          </p:nvSpPr>
          <p:spPr>
            <a:xfrm>
              <a:off x="6129360" y="3898440"/>
              <a:ext cx="58680" cy="885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146" h="3018">
                  <a:moveTo>
                    <a:pt x="2146" y="892"/>
                  </a:moveTo>
                  <a:lnTo>
                    <a:pt x="2131" y="887"/>
                  </a:lnTo>
                  <a:lnTo>
                    <a:pt x="2090" y="873"/>
                  </a:lnTo>
                  <a:lnTo>
                    <a:pt x="2024" y="850"/>
                  </a:lnTo>
                  <a:lnTo>
                    <a:pt x="1936" y="818"/>
                  </a:lnTo>
                  <a:lnTo>
                    <a:pt x="1828" y="779"/>
                  </a:lnTo>
                  <a:lnTo>
                    <a:pt x="1702" y="734"/>
                  </a:lnTo>
                  <a:lnTo>
                    <a:pt x="1562" y="681"/>
                  </a:lnTo>
                  <a:lnTo>
                    <a:pt x="1407" y="622"/>
                  </a:lnTo>
                  <a:lnTo>
                    <a:pt x="1243" y="558"/>
                  </a:lnTo>
                  <a:lnTo>
                    <a:pt x="1071" y="489"/>
                  </a:lnTo>
                  <a:lnTo>
                    <a:pt x="983" y="452"/>
                  </a:lnTo>
                  <a:lnTo>
                    <a:pt x="893" y="415"/>
                  </a:lnTo>
                  <a:lnTo>
                    <a:pt x="803" y="377"/>
                  </a:lnTo>
                  <a:lnTo>
                    <a:pt x="712" y="337"/>
                  </a:lnTo>
                  <a:lnTo>
                    <a:pt x="620" y="298"/>
                  </a:lnTo>
                  <a:lnTo>
                    <a:pt x="530" y="257"/>
                  </a:lnTo>
                  <a:lnTo>
                    <a:pt x="439" y="215"/>
                  </a:lnTo>
                  <a:lnTo>
                    <a:pt x="349" y="173"/>
                  </a:lnTo>
                  <a:lnTo>
                    <a:pt x="259" y="131"/>
                  </a:lnTo>
                  <a:lnTo>
                    <a:pt x="172" y="87"/>
                  </a:lnTo>
                  <a:lnTo>
                    <a:pt x="85" y="44"/>
                  </a:lnTo>
                  <a:lnTo>
                    <a:pt x="0" y="0"/>
                  </a:lnTo>
                  <a:lnTo>
                    <a:pt x="0" y="2156"/>
                  </a:lnTo>
                  <a:lnTo>
                    <a:pt x="5" y="2156"/>
                  </a:lnTo>
                  <a:lnTo>
                    <a:pt x="20" y="2155"/>
                  </a:lnTo>
                  <a:lnTo>
                    <a:pt x="31" y="2155"/>
                  </a:lnTo>
                  <a:lnTo>
                    <a:pt x="44" y="2156"/>
                  </a:lnTo>
                  <a:lnTo>
                    <a:pt x="59" y="2158"/>
                  </a:lnTo>
                  <a:lnTo>
                    <a:pt x="75" y="2161"/>
                  </a:lnTo>
                  <a:lnTo>
                    <a:pt x="94" y="2165"/>
                  </a:lnTo>
                  <a:lnTo>
                    <a:pt x="115" y="2171"/>
                  </a:lnTo>
                  <a:lnTo>
                    <a:pt x="137" y="2179"/>
                  </a:lnTo>
                  <a:lnTo>
                    <a:pt x="162" y="2189"/>
                  </a:lnTo>
                  <a:lnTo>
                    <a:pt x="188" y="2201"/>
                  </a:lnTo>
                  <a:lnTo>
                    <a:pt x="215" y="2216"/>
                  </a:lnTo>
                  <a:lnTo>
                    <a:pt x="244" y="2233"/>
                  </a:lnTo>
                  <a:lnTo>
                    <a:pt x="275" y="2253"/>
                  </a:lnTo>
                  <a:lnTo>
                    <a:pt x="293" y="2263"/>
                  </a:lnTo>
                  <a:lnTo>
                    <a:pt x="345" y="2287"/>
                  </a:lnTo>
                  <a:lnTo>
                    <a:pt x="426" y="2325"/>
                  </a:lnTo>
                  <a:lnTo>
                    <a:pt x="532" y="2374"/>
                  </a:lnTo>
                  <a:lnTo>
                    <a:pt x="658" y="2433"/>
                  </a:lnTo>
                  <a:lnTo>
                    <a:pt x="800" y="2498"/>
                  </a:lnTo>
                  <a:lnTo>
                    <a:pt x="954" y="2568"/>
                  </a:lnTo>
                  <a:lnTo>
                    <a:pt x="1115" y="2640"/>
                  </a:lnTo>
                  <a:lnTo>
                    <a:pt x="1279" y="2711"/>
                  </a:lnTo>
                  <a:lnTo>
                    <a:pt x="1442" y="2781"/>
                  </a:lnTo>
                  <a:lnTo>
                    <a:pt x="1521" y="2814"/>
                  </a:lnTo>
                  <a:lnTo>
                    <a:pt x="1599" y="2845"/>
                  </a:lnTo>
                  <a:lnTo>
                    <a:pt x="1674" y="2876"/>
                  </a:lnTo>
                  <a:lnTo>
                    <a:pt x="1746" y="2903"/>
                  </a:lnTo>
                  <a:lnTo>
                    <a:pt x="1815" y="2928"/>
                  </a:lnTo>
                  <a:lnTo>
                    <a:pt x="1878" y="2951"/>
                  </a:lnTo>
                  <a:lnTo>
                    <a:pt x="1938" y="2971"/>
                  </a:lnTo>
                  <a:lnTo>
                    <a:pt x="1992" y="2989"/>
                  </a:lnTo>
                  <a:lnTo>
                    <a:pt x="2041" y="3002"/>
                  </a:lnTo>
                  <a:lnTo>
                    <a:pt x="2083" y="3011"/>
                  </a:lnTo>
                  <a:lnTo>
                    <a:pt x="2118" y="3017"/>
                  </a:lnTo>
                  <a:lnTo>
                    <a:pt x="2146" y="3018"/>
                  </a:lnTo>
                  <a:lnTo>
                    <a:pt x="2146" y="89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Freeform 264"/>
            <p:cNvSpPr/>
            <p:nvPr/>
          </p:nvSpPr>
          <p:spPr>
            <a:xfrm>
              <a:off x="5905080" y="3866040"/>
              <a:ext cx="1080" cy="666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2322">
                  <a:moveTo>
                    <a:pt x="88" y="176"/>
                  </a:moveTo>
                  <a:lnTo>
                    <a:pt x="0" y="0"/>
                  </a:lnTo>
                  <a:lnTo>
                    <a:pt x="0" y="2116"/>
                  </a:lnTo>
                  <a:lnTo>
                    <a:pt x="88" y="2322"/>
                  </a:lnTo>
                  <a:lnTo>
                    <a:pt x="88" y="1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Freeform 265"/>
            <p:cNvSpPr/>
            <p:nvPr/>
          </p:nvSpPr>
          <p:spPr>
            <a:xfrm>
              <a:off x="5880240" y="3827520"/>
              <a:ext cx="9360" cy="69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73" h="2381">
                  <a:moveTo>
                    <a:pt x="0" y="235"/>
                  </a:moveTo>
                  <a:lnTo>
                    <a:pt x="10" y="2381"/>
                  </a:lnTo>
                  <a:lnTo>
                    <a:pt x="24" y="2379"/>
                  </a:lnTo>
                  <a:lnTo>
                    <a:pt x="62" y="2373"/>
                  </a:lnTo>
                  <a:lnTo>
                    <a:pt x="89" y="2367"/>
                  </a:lnTo>
                  <a:lnTo>
                    <a:pt x="117" y="2360"/>
                  </a:lnTo>
                  <a:lnTo>
                    <a:pt x="148" y="2350"/>
                  </a:lnTo>
                  <a:lnTo>
                    <a:pt x="180" y="2336"/>
                  </a:lnTo>
                  <a:lnTo>
                    <a:pt x="196" y="2329"/>
                  </a:lnTo>
                  <a:lnTo>
                    <a:pt x="213" y="2321"/>
                  </a:lnTo>
                  <a:lnTo>
                    <a:pt x="229" y="2313"/>
                  </a:lnTo>
                  <a:lnTo>
                    <a:pt x="245" y="2303"/>
                  </a:lnTo>
                  <a:lnTo>
                    <a:pt x="260" y="2293"/>
                  </a:lnTo>
                  <a:lnTo>
                    <a:pt x="275" y="2282"/>
                  </a:lnTo>
                  <a:lnTo>
                    <a:pt x="290" y="2270"/>
                  </a:lnTo>
                  <a:lnTo>
                    <a:pt x="303" y="2257"/>
                  </a:lnTo>
                  <a:lnTo>
                    <a:pt x="316" y="2243"/>
                  </a:lnTo>
                  <a:lnTo>
                    <a:pt x="329" y="2229"/>
                  </a:lnTo>
                  <a:lnTo>
                    <a:pt x="339" y="2212"/>
                  </a:lnTo>
                  <a:lnTo>
                    <a:pt x="349" y="2195"/>
                  </a:lnTo>
                  <a:lnTo>
                    <a:pt x="357" y="2177"/>
                  </a:lnTo>
                  <a:lnTo>
                    <a:pt x="364" y="2158"/>
                  </a:lnTo>
                  <a:lnTo>
                    <a:pt x="369" y="2138"/>
                  </a:lnTo>
                  <a:lnTo>
                    <a:pt x="373" y="2117"/>
                  </a:lnTo>
                  <a:lnTo>
                    <a:pt x="373" y="0"/>
                  </a:lnTo>
                  <a:lnTo>
                    <a:pt x="365" y="11"/>
                  </a:lnTo>
                  <a:lnTo>
                    <a:pt x="342" y="42"/>
                  </a:lnTo>
                  <a:lnTo>
                    <a:pt x="326" y="62"/>
                  </a:lnTo>
                  <a:lnTo>
                    <a:pt x="306" y="85"/>
                  </a:lnTo>
                  <a:lnTo>
                    <a:pt x="284" y="108"/>
                  </a:lnTo>
                  <a:lnTo>
                    <a:pt x="260" y="132"/>
                  </a:lnTo>
                  <a:lnTo>
                    <a:pt x="247" y="144"/>
                  </a:lnTo>
                  <a:lnTo>
                    <a:pt x="233" y="155"/>
                  </a:lnTo>
                  <a:lnTo>
                    <a:pt x="219" y="166"/>
                  </a:lnTo>
                  <a:lnTo>
                    <a:pt x="205" y="177"/>
                  </a:lnTo>
                  <a:lnTo>
                    <a:pt x="189" y="187"/>
                  </a:lnTo>
                  <a:lnTo>
                    <a:pt x="173" y="198"/>
                  </a:lnTo>
                  <a:lnTo>
                    <a:pt x="157" y="207"/>
                  </a:lnTo>
                  <a:lnTo>
                    <a:pt x="141" y="215"/>
                  </a:lnTo>
                  <a:lnTo>
                    <a:pt x="124" y="222"/>
                  </a:lnTo>
                  <a:lnTo>
                    <a:pt x="108" y="228"/>
                  </a:lnTo>
                  <a:lnTo>
                    <a:pt x="90" y="233"/>
                  </a:lnTo>
                  <a:lnTo>
                    <a:pt x="73" y="236"/>
                  </a:lnTo>
                  <a:lnTo>
                    <a:pt x="54" y="238"/>
                  </a:lnTo>
                  <a:lnTo>
                    <a:pt x="37" y="239"/>
                  </a:lnTo>
                  <a:lnTo>
                    <a:pt x="19" y="238"/>
                  </a:lnTo>
                  <a:lnTo>
                    <a:pt x="0" y="23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266"/>
            <p:cNvSpPr/>
            <p:nvPr/>
          </p:nvSpPr>
          <p:spPr>
            <a:xfrm>
              <a:off x="5978520" y="3803760"/>
              <a:ext cx="18360" cy="651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15" h="2254">
                  <a:moveTo>
                    <a:pt x="715" y="60"/>
                  </a:moveTo>
                  <a:lnTo>
                    <a:pt x="715" y="2205"/>
                  </a:lnTo>
                  <a:lnTo>
                    <a:pt x="712" y="2203"/>
                  </a:lnTo>
                  <a:lnTo>
                    <a:pt x="702" y="2199"/>
                  </a:lnTo>
                  <a:lnTo>
                    <a:pt x="684" y="2192"/>
                  </a:lnTo>
                  <a:lnTo>
                    <a:pt x="661" y="2184"/>
                  </a:lnTo>
                  <a:lnTo>
                    <a:pt x="632" y="2175"/>
                  </a:lnTo>
                  <a:lnTo>
                    <a:pt x="597" y="2166"/>
                  </a:lnTo>
                  <a:lnTo>
                    <a:pt x="578" y="2162"/>
                  </a:lnTo>
                  <a:lnTo>
                    <a:pt x="557" y="2159"/>
                  </a:lnTo>
                  <a:lnTo>
                    <a:pt x="535" y="2155"/>
                  </a:lnTo>
                  <a:lnTo>
                    <a:pt x="512" y="2153"/>
                  </a:lnTo>
                  <a:lnTo>
                    <a:pt x="487" y="2150"/>
                  </a:lnTo>
                  <a:lnTo>
                    <a:pt x="462" y="2149"/>
                  </a:lnTo>
                  <a:lnTo>
                    <a:pt x="434" y="2148"/>
                  </a:lnTo>
                  <a:lnTo>
                    <a:pt x="407" y="2148"/>
                  </a:lnTo>
                  <a:lnTo>
                    <a:pt x="378" y="2150"/>
                  </a:lnTo>
                  <a:lnTo>
                    <a:pt x="348" y="2152"/>
                  </a:lnTo>
                  <a:lnTo>
                    <a:pt x="318" y="2155"/>
                  </a:lnTo>
                  <a:lnTo>
                    <a:pt x="285" y="2160"/>
                  </a:lnTo>
                  <a:lnTo>
                    <a:pt x="252" y="2166"/>
                  </a:lnTo>
                  <a:lnTo>
                    <a:pt x="219" y="2173"/>
                  </a:lnTo>
                  <a:lnTo>
                    <a:pt x="184" y="2182"/>
                  </a:lnTo>
                  <a:lnTo>
                    <a:pt x="149" y="2193"/>
                  </a:lnTo>
                  <a:lnTo>
                    <a:pt x="113" y="2205"/>
                  </a:lnTo>
                  <a:lnTo>
                    <a:pt x="76" y="2220"/>
                  </a:lnTo>
                  <a:lnTo>
                    <a:pt x="38" y="2236"/>
                  </a:lnTo>
                  <a:lnTo>
                    <a:pt x="0" y="2254"/>
                  </a:lnTo>
                  <a:lnTo>
                    <a:pt x="0" y="108"/>
                  </a:lnTo>
                  <a:lnTo>
                    <a:pt x="6" y="106"/>
                  </a:lnTo>
                  <a:lnTo>
                    <a:pt x="24" y="100"/>
                  </a:lnTo>
                  <a:lnTo>
                    <a:pt x="53" y="90"/>
                  </a:lnTo>
                  <a:lnTo>
                    <a:pt x="91" y="79"/>
                  </a:lnTo>
                  <a:lnTo>
                    <a:pt x="136" y="66"/>
                  </a:lnTo>
                  <a:lnTo>
                    <a:pt x="188" y="51"/>
                  </a:lnTo>
                  <a:lnTo>
                    <a:pt x="243" y="37"/>
                  </a:lnTo>
                  <a:lnTo>
                    <a:pt x="302" y="25"/>
                  </a:lnTo>
                  <a:lnTo>
                    <a:pt x="333" y="19"/>
                  </a:lnTo>
                  <a:lnTo>
                    <a:pt x="363" y="14"/>
                  </a:lnTo>
                  <a:lnTo>
                    <a:pt x="394" y="9"/>
                  </a:lnTo>
                  <a:lnTo>
                    <a:pt x="424" y="6"/>
                  </a:lnTo>
                  <a:lnTo>
                    <a:pt x="455" y="3"/>
                  </a:lnTo>
                  <a:lnTo>
                    <a:pt x="484" y="1"/>
                  </a:lnTo>
                  <a:lnTo>
                    <a:pt x="513" y="0"/>
                  </a:lnTo>
                  <a:lnTo>
                    <a:pt x="541" y="1"/>
                  </a:lnTo>
                  <a:lnTo>
                    <a:pt x="569" y="2"/>
                  </a:lnTo>
                  <a:lnTo>
                    <a:pt x="595" y="5"/>
                  </a:lnTo>
                  <a:lnTo>
                    <a:pt x="619" y="10"/>
                  </a:lnTo>
                  <a:lnTo>
                    <a:pt x="642" y="16"/>
                  </a:lnTo>
                  <a:lnTo>
                    <a:pt x="663" y="24"/>
                  </a:lnTo>
                  <a:lnTo>
                    <a:pt x="682" y="34"/>
                  </a:lnTo>
                  <a:lnTo>
                    <a:pt x="700" y="45"/>
                  </a:lnTo>
                  <a:lnTo>
                    <a:pt x="715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Freeform 267"/>
            <p:cNvSpPr/>
            <p:nvPr/>
          </p:nvSpPr>
          <p:spPr>
            <a:xfrm>
              <a:off x="5969160" y="3714840"/>
              <a:ext cx="31320" cy="975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157" h="3390">
                  <a:moveTo>
                    <a:pt x="1157" y="1558"/>
                  </a:moveTo>
                  <a:lnTo>
                    <a:pt x="1153" y="1549"/>
                  </a:lnTo>
                  <a:lnTo>
                    <a:pt x="1140" y="1525"/>
                  </a:lnTo>
                  <a:lnTo>
                    <a:pt x="1119" y="1487"/>
                  </a:lnTo>
                  <a:lnTo>
                    <a:pt x="1092" y="1438"/>
                  </a:lnTo>
                  <a:lnTo>
                    <a:pt x="1057" y="1377"/>
                  </a:lnTo>
                  <a:lnTo>
                    <a:pt x="1017" y="1310"/>
                  </a:lnTo>
                  <a:lnTo>
                    <a:pt x="972" y="1235"/>
                  </a:lnTo>
                  <a:lnTo>
                    <a:pt x="922" y="1155"/>
                  </a:lnTo>
                  <a:lnTo>
                    <a:pt x="869" y="1074"/>
                  </a:lnTo>
                  <a:lnTo>
                    <a:pt x="813" y="991"/>
                  </a:lnTo>
                  <a:lnTo>
                    <a:pt x="784" y="950"/>
                  </a:lnTo>
                  <a:lnTo>
                    <a:pt x="755" y="909"/>
                  </a:lnTo>
                  <a:lnTo>
                    <a:pt x="725" y="869"/>
                  </a:lnTo>
                  <a:lnTo>
                    <a:pt x="695" y="830"/>
                  </a:lnTo>
                  <a:lnTo>
                    <a:pt x="664" y="792"/>
                  </a:lnTo>
                  <a:lnTo>
                    <a:pt x="633" y="755"/>
                  </a:lnTo>
                  <a:lnTo>
                    <a:pt x="603" y="721"/>
                  </a:lnTo>
                  <a:lnTo>
                    <a:pt x="573" y="687"/>
                  </a:lnTo>
                  <a:lnTo>
                    <a:pt x="541" y="656"/>
                  </a:lnTo>
                  <a:lnTo>
                    <a:pt x="511" y="627"/>
                  </a:lnTo>
                  <a:lnTo>
                    <a:pt x="482" y="601"/>
                  </a:lnTo>
                  <a:lnTo>
                    <a:pt x="452" y="578"/>
                  </a:lnTo>
                  <a:lnTo>
                    <a:pt x="432" y="559"/>
                  </a:lnTo>
                  <a:lnTo>
                    <a:pt x="379" y="512"/>
                  </a:lnTo>
                  <a:lnTo>
                    <a:pt x="344" y="479"/>
                  </a:lnTo>
                  <a:lnTo>
                    <a:pt x="305" y="441"/>
                  </a:lnTo>
                  <a:lnTo>
                    <a:pt x="262" y="399"/>
                  </a:lnTo>
                  <a:lnTo>
                    <a:pt x="220" y="355"/>
                  </a:lnTo>
                  <a:lnTo>
                    <a:pt x="198" y="331"/>
                  </a:lnTo>
                  <a:lnTo>
                    <a:pt x="177" y="307"/>
                  </a:lnTo>
                  <a:lnTo>
                    <a:pt x="155" y="284"/>
                  </a:lnTo>
                  <a:lnTo>
                    <a:pt x="135" y="260"/>
                  </a:lnTo>
                  <a:lnTo>
                    <a:pt x="116" y="236"/>
                  </a:lnTo>
                  <a:lnTo>
                    <a:pt x="97" y="211"/>
                  </a:lnTo>
                  <a:lnTo>
                    <a:pt x="80" y="187"/>
                  </a:lnTo>
                  <a:lnTo>
                    <a:pt x="64" y="164"/>
                  </a:lnTo>
                  <a:lnTo>
                    <a:pt x="49" y="141"/>
                  </a:lnTo>
                  <a:lnTo>
                    <a:pt x="35" y="118"/>
                  </a:lnTo>
                  <a:lnTo>
                    <a:pt x="24" y="97"/>
                  </a:lnTo>
                  <a:lnTo>
                    <a:pt x="15" y="74"/>
                  </a:lnTo>
                  <a:lnTo>
                    <a:pt x="8" y="54"/>
                  </a:lnTo>
                  <a:lnTo>
                    <a:pt x="3" y="35"/>
                  </a:lnTo>
                  <a:lnTo>
                    <a:pt x="1" y="17"/>
                  </a:lnTo>
                  <a:lnTo>
                    <a:pt x="1" y="0"/>
                  </a:lnTo>
                  <a:lnTo>
                    <a:pt x="1" y="2067"/>
                  </a:lnTo>
                  <a:lnTo>
                    <a:pt x="1" y="2069"/>
                  </a:lnTo>
                  <a:lnTo>
                    <a:pt x="0" y="2076"/>
                  </a:lnTo>
                  <a:lnTo>
                    <a:pt x="0" y="2088"/>
                  </a:lnTo>
                  <a:lnTo>
                    <a:pt x="1" y="2103"/>
                  </a:lnTo>
                  <a:lnTo>
                    <a:pt x="2" y="2113"/>
                  </a:lnTo>
                  <a:lnTo>
                    <a:pt x="4" y="2124"/>
                  </a:lnTo>
                  <a:lnTo>
                    <a:pt x="7" y="2137"/>
                  </a:lnTo>
                  <a:lnTo>
                    <a:pt x="10" y="2150"/>
                  </a:lnTo>
                  <a:lnTo>
                    <a:pt x="14" y="2164"/>
                  </a:lnTo>
                  <a:lnTo>
                    <a:pt x="20" y="2180"/>
                  </a:lnTo>
                  <a:lnTo>
                    <a:pt x="26" y="2196"/>
                  </a:lnTo>
                  <a:lnTo>
                    <a:pt x="34" y="2214"/>
                  </a:lnTo>
                  <a:lnTo>
                    <a:pt x="43" y="2233"/>
                  </a:lnTo>
                  <a:lnTo>
                    <a:pt x="55" y="2253"/>
                  </a:lnTo>
                  <a:lnTo>
                    <a:pt x="67" y="2275"/>
                  </a:lnTo>
                  <a:lnTo>
                    <a:pt x="81" y="2297"/>
                  </a:lnTo>
                  <a:lnTo>
                    <a:pt x="96" y="2320"/>
                  </a:lnTo>
                  <a:lnTo>
                    <a:pt x="113" y="2345"/>
                  </a:lnTo>
                  <a:lnTo>
                    <a:pt x="133" y="2371"/>
                  </a:lnTo>
                  <a:lnTo>
                    <a:pt x="154" y="2398"/>
                  </a:lnTo>
                  <a:lnTo>
                    <a:pt x="179" y="2426"/>
                  </a:lnTo>
                  <a:lnTo>
                    <a:pt x="204" y="2455"/>
                  </a:lnTo>
                  <a:lnTo>
                    <a:pt x="232" y="2485"/>
                  </a:lnTo>
                  <a:lnTo>
                    <a:pt x="263" y="2517"/>
                  </a:lnTo>
                  <a:lnTo>
                    <a:pt x="296" y="2550"/>
                  </a:lnTo>
                  <a:lnTo>
                    <a:pt x="333" y="2583"/>
                  </a:lnTo>
                  <a:lnTo>
                    <a:pt x="371" y="2619"/>
                  </a:lnTo>
                  <a:lnTo>
                    <a:pt x="413" y="2655"/>
                  </a:lnTo>
                  <a:lnTo>
                    <a:pt x="1001" y="3390"/>
                  </a:lnTo>
                  <a:lnTo>
                    <a:pt x="1157" y="15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Freeform 268"/>
            <p:cNvSpPr/>
            <p:nvPr/>
          </p:nvSpPr>
          <p:spPr>
            <a:xfrm>
              <a:off x="6064560" y="3916440"/>
              <a:ext cx="5760" cy="66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40" h="2323">
                  <a:moveTo>
                    <a:pt x="240" y="146"/>
                  </a:moveTo>
                  <a:lnTo>
                    <a:pt x="240" y="2323"/>
                  </a:lnTo>
                  <a:lnTo>
                    <a:pt x="229" y="2323"/>
                  </a:lnTo>
                  <a:lnTo>
                    <a:pt x="201" y="2323"/>
                  </a:lnTo>
                  <a:lnTo>
                    <a:pt x="182" y="2321"/>
                  </a:lnTo>
                  <a:lnTo>
                    <a:pt x="160" y="2318"/>
                  </a:lnTo>
                  <a:lnTo>
                    <a:pt x="138" y="2313"/>
                  </a:lnTo>
                  <a:lnTo>
                    <a:pt x="115" y="2307"/>
                  </a:lnTo>
                  <a:lnTo>
                    <a:pt x="104" y="2303"/>
                  </a:lnTo>
                  <a:lnTo>
                    <a:pt x="92" y="2299"/>
                  </a:lnTo>
                  <a:lnTo>
                    <a:pt x="81" y="2294"/>
                  </a:lnTo>
                  <a:lnTo>
                    <a:pt x="71" y="2288"/>
                  </a:lnTo>
                  <a:lnTo>
                    <a:pt x="61" y="2281"/>
                  </a:lnTo>
                  <a:lnTo>
                    <a:pt x="51" y="2274"/>
                  </a:lnTo>
                  <a:lnTo>
                    <a:pt x="41" y="2265"/>
                  </a:lnTo>
                  <a:lnTo>
                    <a:pt x="33" y="2256"/>
                  </a:lnTo>
                  <a:lnTo>
                    <a:pt x="25" y="2246"/>
                  </a:lnTo>
                  <a:lnTo>
                    <a:pt x="19" y="2235"/>
                  </a:lnTo>
                  <a:lnTo>
                    <a:pt x="13" y="2223"/>
                  </a:lnTo>
                  <a:lnTo>
                    <a:pt x="9" y="2210"/>
                  </a:lnTo>
                  <a:lnTo>
                    <a:pt x="6" y="2195"/>
                  </a:lnTo>
                  <a:lnTo>
                    <a:pt x="4" y="2180"/>
                  </a:lnTo>
                  <a:lnTo>
                    <a:pt x="4" y="2164"/>
                  </a:lnTo>
                  <a:lnTo>
                    <a:pt x="5" y="2146"/>
                  </a:lnTo>
                  <a:lnTo>
                    <a:pt x="5" y="0"/>
                  </a:lnTo>
                  <a:lnTo>
                    <a:pt x="3" y="8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3" y="65"/>
                  </a:lnTo>
                  <a:lnTo>
                    <a:pt x="5" y="73"/>
                  </a:lnTo>
                  <a:lnTo>
                    <a:pt x="8" y="80"/>
                  </a:lnTo>
                  <a:lnTo>
                    <a:pt x="12" y="88"/>
                  </a:lnTo>
                  <a:lnTo>
                    <a:pt x="16" y="96"/>
                  </a:lnTo>
                  <a:lnTo>
                    <a:pt x="22" y="103"/>
                  </a:lnTo>
                  <a:lnTo>
                    <a:pt x="28" y="111"/>
                  </a:lnTo>
                  <a:lnTo>
                    <a:pt x="36" y="117"/>
                  </a:lnTo>
                  <a:lnTo>
                    <a:pt x="46" y="124"/>
                  </a:lnTo>
                  <a:lnTo>
                    <a:pt x="56" y="130"/>
                  </a:lnTo>
                  <a:lnTo>
                    <a:pt x="67" y="135"/>
                  </a:lnTo>
                  <a:lnTo>
                    <a:pt x="79" y="140"/>
                  </a:lnTo>
                  <a:lnTo>
                    <a:pt x="93" y="144"/>
                  </a:lnTo>
                  <a:lnTo>
                    <a:pt x="109" y="147"/>
                  </a:lnTo>
                  <a:lnTo>
                    <a:pt x="126" y="150"/>
                  </a:lnTo>
                  <a:lnTo>
                    <a:pt x="145" y="151"/>
                  </a:lnTo>
                  <a:lnTo>
                    <a:pt x="166" y="152"/>
                  </a:lnTo>
                  <a:lnTo>
                    <a:pt x="189" y="151"/>
                  </a:lnTo>
                  <a:lnTo>
                    <a:pt x="213" y="150"/>
                  </a:lnTo>
                  <a:lnTo>
                    <a:pt x="240" y="14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Freeform 269"/>
            <p:cNvSpPr/>
            <p:nvPr/>
          </p:nvSpPr>
          <p:spPr>
            <a:xfrm>
              <a:off x="5902200" y="3657600"/>
              <a:ext cx="398160" cy="366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4755" h="12587">
                  <a:moveTo>
                    <a:pt x="10804" y="9206"/>
                  </a:moveTo>
                  <a:lnTo>
                    <a:pt x="10830" y="9194"/>
                  </a:lnTo>
                  <a:lnTo>
                    <a:pt x="10894" y="9163"/>
                  </a:lnTo>
                  <a:lnTo>
                    <a:pt x="10938" y="9144"/>
                  </a:lnTo>
                  <a:lnTo>
                    <a:pt x="10988" y="9124"/>
                  </a:lnTo>
                  <a:lnTo>
                    <a:pt x="11014" y="9114"/>
                  </a:lnTo>
                  <a:lnTo>
                    <a:pt x="11041" y="9105"/>
                  </a:lnTo>
                  <a:lnTo>
                    <a:pt x="11069" y="9096"/>
                  </a:lnTo>
                  <a:lnTo>
                    <a:pt x="11098" y="9087"/>
                  </a:lnTo>
                  <a:lnTo>
                    <a:pt x="11126" y="9080"/>
                  </a:lnTo>
                  <a:lnTo>
                    <a:pt x="11154" y="9073"/>
                  </a:lnTo>
                  <a:lnTo>
                    <a:pt x="11182" y="9068"/>
                  </a:lnTo>
                  <a:lnTo>
                    <a:pt x="11210" y="9063"/>
                  </a:lnTo>
                  <a:lnTo>
                    <a:pt x="11237" y="9061"/>
                  </a:lnTo>
                  <a:lnTo>
                    <a:pt x="11263" y="9059"/>
                  </a:lnTo>
                  <a:lnTo>
                    <a:pt x="11288" y="9060"/>
                  </a:lnTo>
                  <a:lnTo>
                    <a:pt x="11312" y="9062"/>
                  </a:lnTo>
                  <a:lnTo>
                    <a:pt x="11336" y="9066"/>
                  </a:lnTo>
                  <a:lnTo>
                    <a:pt x="11357" y="9073"/>
                  </a:lnTo>
                  <a:lnTo>
                    <a:pt x="11377" y="9081"/>
                  </a:lnTo>
                  <a:lnTo>
                    <a:pt x="11394" y="9093"/>
                  </a:lnTo>
                  <a:lnTo>
                    <a:pt x="11410" y="9107"/>
                  </a:lnTo>
                  <a:lnTo>
                    <a:pt x="11423" y="9124"/>
                  </a:lnTo>
                  <a:lnTo>
                    <a:pt x="11433" y="9144"/>
                  </a:lnTo>
                  <a:lnTo>
                    <a:pt x="11441" y="9167"/>
                  </a:lnTo>
                  <a:lnTo>
                    <a:pt x="11451" y="9194"/>
                  </a:lnTo>
                  <a:lnTo>
                    <a:pt x="11464" y="9224"/>
                  </a:lnTo>
                  <a:lnTo>
                    <a:pt x="11482" y="9257"/>
                  </a:lnTo>
                  <a:lnTo>
                    <a:pt x="11504" y="9293"/>
                  </a:lnTo>
                  <a:lnTo>
                    <a:pt x="11529" y="9331"/>
                  </a:lnTo>
                  <a:lnTo>
                    <a:pt x="11558" y="9373"/>
                  </a:lnTo>
                  <a:lnTo>
                    <a:pt x="11590" y="9415"/>
                  </a:lnTo>
                  <a:lnTo>
                    <a:pt x="11625" y="9459"/>
                  </a:lnTo>
                  <a:lnTo>
                    <a:pt x="11662" y="9506"/>
                  </a:lnTo>
                  <a:lnTo>
                    <a:pt x="11701" y="9553"/>
                  </a:lnTo>
                  <a:lnTo>
                    <a:pt x="11742" y="9600"/>
                  </a:lnTo>
                  <a:lnTo>
                    <a:pt x="11784" y="9650"/>
                  </a:lnTo>
                  <a:lnTo>
                    <a:pt x="11872" y="9748"/>
                  </a:lnTo>
                  <a:lnTo>
                    <a:pt x="11962" y="9844"/>
                  </a:lnTo>
                  <a:lnTo>
                    <a:pt x="12050" y="9938"/>
                  </a:lnTo>
                  <a:lnTo>
                    <a:pt x="12136" y="10027"/>
                  </a:lnTo>
                  <a:lnTo>
                    <a:pt x="12215" y="10109"/>
                  </a:lnTo>
                  <a:lnTo>
                    <a:pt x="12286" y="10180"/>
                  </a:lnTo>
                  <a:lnTo>
                    <a:pt x="12346" y="10240"/>
                  </a:lnTo>
                  <a:lnTo>
                    <a:pt x="12391" y="10285"/>
                  </a:lnTo>
                  <a:lnTo>
                    <a:pt x="12420" y="10313"/>
                  </a:lnTo>
                  <a:lnTo>
                    <a:pt x="12430" y="10323"/>
                  </a:lnTo>
                  <a:lnTo>
                    <a:pt x="13175" y="9775"/>
                  </a:lnTo>
                  <a:lnTo>
                    <a:pt x="14066" y="11647"/>
                  </a:lnTo>
                  <a:lnTo>
                    <a:pt x="14076" y="11684"/>
                  </a:lnTo>
                  <a:lnTo>
                    <a:pt x="14083" y="11717"/>
                  </a:lnTo>
                  <a:lnTo>
                    <a:pt x="14085" y="11733"/>
                  </a:lnTo>
                  <a:lnTo>
                    <a:pt x="14087" y="11748"/>
                  </a:lnTo>
                  <a:lnTo>
                    <a:pt x="14088" y="11763"/>
                  </a:lnTo>
                  <a:lnTo>
                    <a:pt x="14089" y="11777"/>
                  </a:lnTo>
                  <a:lnTo>
                    <a:pt x="14088" y="11791"/>
                  </a:lnTo>
                  <a:lnTo>
                    <a:pt x="14088" y="11804"/>
                  </a:lnTo>
                  <a:lnTo>
                    <a:pt x="14086" y="11817"/>
                  </a:lnTo>
                  <a:lnTo>
                    <a:pt x="14084" y="11829"/>
                  </a:lnTo>
                  <a:lnTo>
                    <a:pt x="14082" y="11842"/>
                  </a:lnTo>
                  <a:lnTo>
                    <a:pt x="14078" y="11854"/>
                  </a:lnTo>
                  <a:lnTo>
                    <a:pt x="14074" y="11867"/>
                  </a:lnTo>
                  <a:lnTo>
                    <a:pt x="14070" y="11879"/>
                  </a:lnTo>
                  <a:lnTo>
                    <a:pt x="14059" y="11905"/>
                  </a:lnTo>
                  <a:lnTo>
                    <a:pt x="14046" y="11930"/>
                  </a:lnTo>
                  <a:lnTo>
                    <a:pt x="14031" y="11957"/>
                  </a:lnTo>
                  <a:lnTo>
                    <a:pt x="14013" y="11985"/>
                  </a:lnTo>
                  <a:lnTo>
                    <a:pt x="13971" y="12050"/>
                  </a:lnTo>
                  <a:lnTo>
                    <a:pt x="13920" y="12127"/>
                  </a:lnTo>
                  <a:lnTo>
                    <a:pt x="13906" y="12149"/>
                  </a:lnTo>
                  <a:lnTo>
                    <a:pt x="13896" y="12171"/>
                  </a:lnTo>
                  <a:lnTo>
                    <a:pt x="13887" y="12192"/>
                  </a:lnTo>
                  <a:lnTo>
                    <a:pt x="13882" y="12214"/>
                  </a:lnTo>
                  <a:lnTo>
                    <a:pt x="13878" y="12235"/>
                  </a:lnTo>
                  <a:lnTo>
                    <a:pt x="13876" y="12257"/>
                  </a:lnTo>
                  <a:lnTo>
                    <a:pt x="13876" y="12278"/>
                  </a:lnTo>
                  <a:lnTo>
                    <a:pt x="13878" y="12298"/>
                  </a:lnTo>
                  <a:lnTo>
                    <a:pt x="13882" y="12318"/>
                  </a:lnTo>
                  <a:lnTo>
                    <a:pt x="13887" y="12338"/>
                  </a:lnTo>
                  <a:lnTo>
                    <a:pt x="13893" y="12357"/>
                  </a:lnTo>
                  <a:lnTo>
                    <a:pt x="13900" y="12376"/>
                  </a:lnTo>
                  <a:lnTo>
                    <a:pt x="13909" y="12394"/>
                  </a:lnTo>
                  <a:lnTo>
                    <a:pt x="13918" y="12412"/>
                  </a:lnTo>
                  <a:lnTo>
                    <a:pt x="13928" y="12429"/>
                  </a:lnTo>
                  <a:lnTo>
                    <a:pt x="13939" y="12445"/>
                  </a:lnTo>
                  <a:lnTo>
                    <a:pt x="13950" y="12461"/>
                  </a:lnTo>
                  <a:lnTo>
                    <a:pt x="13962" y="12476"/>
                  </a:lnTo>
                  <a:lnTo>
                    <a:pt x="13974" y="12491"/>
                  </a:lnTo>
                  <a:lnTo>
                    <a:pt x="13986" y="12504"/>
                  </a:lnTo>
                  <a:lnTo>
                    <a:pt x="14009" y="12528"/>
                  </a:lnTo>
                  <a:lnTo>
                    <a:pt x="14030" y="12548"/>
                  </a:lnTo>
                  <a:lnTo>
                    <a:pt x="14063" y="12577"/>
                  </a:lnTo>
                  <a:lnTo>
                    <a:pt x="14076" y="12587"/>
                  </a:lnTo>
                  <a:lnTo>
                    <a:pt x="14084" y="12578"/>
                  </a:lnTo>
                  <a:lnTo>
                    <a:pt x="14108" y="12553"/>
                  </a:lnTo>
                  <a:lnTo>
                    <a:pt x="14143" y="12514"/>
                  </a:lnTo>
                  <a:lnTo>
                    <a:pt x="14189" y="12462"/>
                  </a:lnTo>
                  <a:lnTo>
                    <a:pt x="14243" y="12400"/>
                  </a:lnTo>
                  <a:lnTo>
                    <a:pt x="14303" y="12330"/>
                  </a:lnTo>
                  <a:lnTo>
                    <a:pt x="14368" y="12254"/>
                  </a:lnTo>
                  <a:lnTo>
                    <a:pt x="14433" y="12173"/>
                  </a:lnTo>
                  <a:lnTo>
                    <a:pt x="14465" y="12133"/>
                  </a:lnTo>
                  <a:lnTo>
                    <a:pt x="14498" y="12091"/>
                  </a:lnTo>
                  <a:lnTo>
                    <a:pt x="14529" y="12050"/>
                  </a:lnTo>
                  <a:lnTo>
                    <a:pt x="14560" y="12009"/>
                  </a:lnTo>
                  <a:lnTo>
                    <a:pt x="14589" y="11968"/>
                  </a:lnTo>
                  <a:lnTo>
                    <a:pt x="14618" y="11928"/>
                  </a:lnTo>
                  <a:lnTo>
                    <a:pt x="14643" y="11889"/>
                  </a:lnTo>
                  <a:lnTo>
                    <a:pt x="14667" y="11851"/>
                  </a:lnTo>
                  <a:lnTo>
                    <a:pt x="14689" y="11815"/>
                  </a:lnTo>
                  <a:lnTo>
                    <a:pt x="14708" y="11781"/>
                  </a:lnTo>
                  <a:lnTo>
                    <a:pt x="14724" y="11748"/>
                  </a:lnTo>
                  <a:lnTo>
                    <a:pt x="14738" y="11719"/>
                  </a:lnTo>
                  <a:lnTo>
                    <a:pt x="14747" y="11692"/>
                  </a:lnTo>
                  <a:lnTo>
                    <a:pt x="14753" y="11667"/>
                  </a:lnTo>
                  <a:lnTo>
                    <a:pt x="14755" y="11646"/>
                  </a:lnTo>
                  <a:lnTo>
                    <a:pt x="14753" y="11627"/>
                  </a:lnTo>
                  <a:lnTo>
                    <a:pt x="14736" y="11615"/>
                  </a:lnTo>
                  <a:lnTo>
                    <a:pt x="14690" y="11582"/>
                  </a:lnTo>
                  <a:lnTo>
                    <a:pt x="14659" y="11557"/>
                  </a:lnTo>
                  <a:lnTo>
                    <a:pt x="14624" y="11527"/>
                  </a:lnTo>
                  <a:lnTo>
                    <a:pt x="14605" y="11509"/>
                  </a:lnTo>
                  <a:lnTo>
                    <a:pt x="14585" y="11490"/>
                  </a:lnTo>
                  <a:lnTo>
                    <a:pt x="14565" y="11470"/>
                  </a:lnTo>
                  <a:lnTo>
                    <a:pt x="14545" y="11449"/>
                  </a:lnTo>
                  <a:lnTo>
                    <a:pt x="14525" y="11427"/>
                  </a:lnTo>
                  <a:lnTo>
                    <a:pt x="14504" y="11404"/>
                  </a:lnTo>
                  <a:lnTo>
                    <a:pt x="14484" y="11378"/>
                  </a:lnTo>
                  <a:lnTo>
                    <a:pt x="14463" y="11352"/>
                  </a:lnTo>
                  <a:lnTo>
                    <a:pt x="14442" y="11324"/>
                  </a:lnTo>
                  <a:lnTo>
                    <a:pt x="14423" y="11296"/>
                  </a:lnTo>
                  <a:lnTo>
                    <a:pt x="14403" y="11265"/>
                  </a:lnTo>
                  <a:lnTo>
                    <a:pt x="14385" y="11234"/>
                  </a:lnTo>
                  <a:lnTo>
                    <a:pt x="14367" y="11202"/>
                  </a:lnTo>
                  <a:lnTo>
                    <a:pt x="14350" y="11169"/>
                  </a:lnTo>
                  <a:lnTo>
                    <a:pt x="14333" y="11133"/>
                  </a:lnTo>
                  <a:lnTo>
                    <a:pt x="14318" y="11097"/>
                  </a:lnTo>
                  <a:lnTo>
                    <a:pt x="14304" y="11060"/>
                  </a:lnTo>
                  <a:lnTo>
                    <a:pt x="14292" y="11021"/>
                  </a:lnTo>
                  <a:lnTo>
                    <a:pt x="14281" y="10982"/>
                  </a:lnTo>
                  <a:lnTo>
                    <a:pt x="14272" y="10941"/>
                  </a:lnTo>
                  <a:lnTo>
                    <a:pt x="14265" y="10924"/>
                  </a:lnTo>
                  <a:lnTo>
                    <a:pt x="14243" y="10876"/>
                  </a:lnTo>
                  <a:lnTo>
                    <a:pt x="14207" y="10801"/>
                  </a:lnTo>
                  <a:lnTo>
                    <a:pt x="14162" y="10705"/>
                  </a:lnTo>
                  <a:lnTo>
                    <a:pt x="14106" y="10589"/>
                  </a:lnTo>
                  <a:lnTo>
                    <a:pt x="14041" y="10459"/>
                  </a:lnTo>
                  <a:lnTo>
                    <a:pt x="13969" y="10318"/>
                  </a:lnTo>
                  <a:lnTo>
                    <a:pt x="13893" y="10171"/>
                  </a:lnTo>
                  <a:lnTo>
                    <a:pt x="13853" y="10098"/>
                  </a:lnTo>
                  <a:lnTo>
                    <a:pt x="13812" y="10024"/>
                  </a:lnTo>
                  <a:lnTo>
                    <a:pt x="13771" y="9950"/>
                  </a:lnTo>
                  <a:lnTo>
                    <a:pt x="13729" y="9878"/>
                  </a:lnTo>
                  <a:lnTo>
                    <a:pt x="13687" y="9807"/>
                  </a:lnTo>
                  <a:lnTo>
                    <a:pt x="13645" y="9739"/>
                  </a:lnTo>
                  <a:lnTo>
                    <a:pt x="13603" y="9672"/>
                  </a:lnTo>
                  <a:lnTo>
                    <a:pt x="13561" y="9610"/>
                  </a:lnTo>
                  <a:lnTo>
                    <a:pt x="13521" y="9551"/>
                  </a:lnTo>
                  <a:lnTo>
                    <a:pt x="13480" y="9496"/>
                  </a:lnTo>
                  <a:lnTo>
                    <a:pt x="13440" y="9446"/>
                  </a:lnTo>
                  <a:lnTo>
                    <a:pt x="13402" y="9401"/>
                  </a:lnTo>
                  <a:lnTo>
                    <a:pt x="13365" y="9362"/>
                  </a:lnTo>
                  <a:lnTo>
                    <a:pt x="13329" y="9329"/>
                  </a:lnTo>
                  <a:lnTo>
                    <a:pt x="13295" y="9303"/>
                  </a:lnTo>
                  <a:lnTo>
                    <a:pt x="13263" y="9285"/>
                  </a:lnTo>
                  <a:lnTo>
                    <a:pt x="13258" y="9288"/>
                  </a:lnTo>
                  <a:lnTo>
                    <a:pt x="13241" y="9296"/>
                  </a:lnTo>
                  <a:lnTo>
                    <a:pt x="13213" y="9309"/>
                  </a:lnTo>
                  <a:lnTo>
                    <a:pt x="13177" y="9326"/>
                  </a:lnTo>
                  <a:lnTo>
                    <a:pt x="13133" y="9346"/>
                  </a:lnTo>
                  <a:lnTo>
                    <a:pt x="13081" y="9368"/>
                  </a:lnTo>
                  <a:lnTo>
                    <a:pt x="13023" y="9393"/>
                  </a:lnTo>
                  <a:lnTo>
                    <a:pt x="12960" y="9417"/>
                  </a:lnTo>
                  <a:lnTo>
                    <a:pt x="12894" y="9442"/>
                  </a:lnTo>
                  <a:lnTo>
                    <a:pt x="12824" y="9465"/>
                  </a:lnTo>
                  <a:lnTo>
                    <a:pt x="12789" y="9477"/>
                  </a:lnTo>
                  <a:lnTo>
                    <a:pt x="12753" y="9488"/>
                  </a:lnTo>
                  <a:lnTo>
                    <a:pt x="12717" y="9499"/>
                  </a:lnTo>
                  <a:lnTo>
                    <a:pt x="12680" y="9508"/>
                  </a:lnTo>
                  <a:lnTo>
                    <a:pt x="12644" y="9517"/>
                  </a:lnTo>
                  <a:lnTo>
                    <a:pt x="12608" y="9525"/>
                  </a:lnTo>
                  <a:lnTo>
                    <a:pt x="12572" y="9532"/>
                  </a:lnTo>
                  <a:lnTo>
                    <a:pt x="12537" y="9538"/>
                  </a:lnTo>
                  <a:lnTo>
                    <a:pt x="12502" y="9543"/>
                  </a:lnTo>
                  <a:lnTo>
                    <a:pt x="12468" y="9546"/>
                  </a:lnTo>
                  <a:lnTo>
                    <a:pt x="12434" y="9549"/>
                  </a:lnTo>
                  <a:lnTo>
                    <a:pt x="12401" y="9549"/>
                  </a:lnTo>
                  <a:lnTo>
                    <a:pt x="12391" y="9540"/>
                  </a:lnTo>
                  <a:lnTo>
                    <a:pt x="12361" y="9514"/>
                  </a:lnTo>
                  <a:lnTo>
                    <a:pt x="12314" y="9473"/>
                  </a:lnTo>
                  <a:lnTo>
                    <a:pt x="12252" y="9420"/>
                  </a:lnTo>
                  <a:lnTo>
                    <a:pt x="12177" y="9356"/>
                  </a:lnTo>
                  <a:lnTo>
                    <a:pt x="12092" y="9284"/>
                  </a:lnTo>
                  <a:lnTo>
                    <a:pt x="11998" y="9205"/>
                  </a:lnTo>
                  <a:lnTo>
                    <a:pt x="11898" y="9123"/>
                  </a:lnTo>
                  <a:lnTo>
                    <a:pt x="11794" y="9039"/>
                  </a:lnTo>
                  <a:lnTo>
                    <a:pt x="11688" y="8955"/>
                  </a:lnTo>
                  <a:lnTo>
                    <a:pt x="11635" y="8914"/>
                  </a:lnTo>
                  <a:lnTo>
                    <a:pt x="11583" y="8873"/>
                  </a:lnTo>
                  <a:lnTo>
                    <a:pt x="11531" y="8835"/>
                  </a:lnTo>
                  <a:lnTo>
                    <a:pt x="11480" y="8797"/>
                  </a:lnTo>
                  <a:lnTo>
                    <a:pt x="11430" y="8761"/>
                  </a:lnTo>
                  <a:lnTo>
                    <a:pt x="11382" y="8727"/>
                  </a:lnTo>
                  <a:lnTo>
                    <a:pt x="11335" y="8695"/>
                  </a:lnTo>
                  <a:lnTo>
                    <a:pt x="11290" y="8666"/>
                  </a:lnTo>
                  <a:lnTo>
                    <a:pt x="11248" y="8639"/>
                  </a:lnTo>
                  <a:lnTo>
                    <a:pt x="11209" y="8616"/>
                  </a:lnTo>
                  <a:lnTo>
                    <a:pt x="11171" y="8596"/>
                  </a:lnTo>
                  <a:lnTo>
                    <a:pt x="11138" y="8579"/>
                  </a:lnTo>
                  <a:lnTo>
                    <a:pt x="10736" y="8510"/>
                  </a:lnTo>
                  <a:lnTo>
                    <a:pt x="13783" y="1661"/>
                  </a:lnTo>
                  <a:lnTo>
                    <a:pt x="13780" y="1657"/>
                  </a:lnTo>
                  <a:lnTo>
                    <a:pt x="13771" y="1647"/>
                  </a:lnTo>
                  <a:lnTo>
                    <a:pt x="13757" y="1632"/>
                  </a:lnTo>
                  <a:lnTo>
                    <a:pt x="13736" y="1614"/>
                  </a:lnTo>
                  <a:lnTo>
                    <a:pt x="13723" y="1603"/>
                  </a:lnTo>
                  <a:lnTo>
                    <a:pt x="13708" y="1592"/>
                  </a:lnTo>
                  <a:lnTo>
                    <a:pt x="13692" y="1580"/>
                  </a:lnTo>
                  <a:lnTo>
                    <a:pt x="13674" y="1569"/>
                  </a:lnTo>
                  <a:lnTo>
                    <a:pt x="13654" y="1558"/>
                  </a:lnTo>
                  <a:lnTo>
                    <a:pt x="13633" y="1546"/>
                  </a:lnTo>
                  <a:lnTo>
                    <a:pt x="13610" y="1535"/>
                  </a:lnTo>
                  <a:lnTo>
                    <a:pt x="13584" y="1525"/>
                  </a:lnTo>
                  <a:lnTo>
                    <a:pt x="13557" y="1515"/>
                  </a:lnTo>
                  <a:lnTo>
                    <a:pt x="13528" y="1506"/>
                  </a:lnTo>
                  <a:lnTo>
                    <a:pt x="13497" y="1497"/>
                  </a:lnTo>
                  <a:lnTo>
                    <a:pt x="13463" y="1490"/>
                  </a:lnTo>
                  <a:lnTo>
                    <a:pt x="13429" y="1484"/>
                  </a:lnTo>
                  <a:lnTo>
                    <a:pt x="13392" y="1480"/>
                  </a:lnTo>
                  <a:lnTo>
                    <a:pt x="13353" y="1477"/>
                  </a:lnTo>
                  <a:lnTo>
                    <a:pt x="13311" y="1475"/>
                  </a:lnTo>
                  <a:lnTo>
                    <a:pt x="13268" y="1476"/>
                  </a:lnTo>
                  <a:lnTo>
                    <a:pt x="13223" y="1478"/>
                  </a:lnTo>
                  <a:lnTo>
                    <a:pt x="13174" y="1483"/>
                  </a:lnTo>
                  <a:lnTo>
                    <a:pt x="13125" y="1489"/>
                  </a:lnTo>
                  <a:lnTo>
                    <a:pt x="13072" y="1499"/>
                  </a:lnTo>
                  <a:lnTo>
                    <a:pt x="13017" y="1511"/>
                  </a:lnTo>
                  <a:lnTo>
                    <a:pt x="12960" y="1525"/>
                  </a:lnTo>
                  <a:lnTo>
                    <a:pt x="12901" y="1543"/>
                  </a:lnTo>
                  <a:lnTo>
                    <a:pt x="12894" y="1543"/>
                  </a:lnTo>
                  <a:lnTo>
                    <a:pt x="12874" y="1543"/>
                  </a:lnTo>
                  <a:lnTo>
                    <a:pt x="12842" y="1541"/>
                  </a:lnTo>
                  <a:lnTo>
                    <a:pt x="12799" y="1539"/>
                  </a:lnTo>
                  <a:lnTo>
                    <a:pt x="12748" y="1536"/>
                  </a:lnTo>
                  <a:lnTo>
                    <a:pt x="12688" y="1531"/>
                  </a:lnTo>
                  <a:lnTo>
                    <a:pt x="12624" y="1523"/>
                  </a:lnTo>
                  <a:lnTo>
                    <a:pt x="12554" y="1514"/>
                  </a:lnTo>
                  <a:lnTo>
                    <a:pt x="12518" y="1508"/>
                  </a:lnTo>
                  <a:lnTo>
                    <a:pt x="12482" y="1501"/>
                  </a:lnTo>
                  <a:lnTo>
                    <a:pt x="12444" y="1494"/>
                  </a:lnTo>
                  <a:lnTo>
                    <a:pt x="12408" y="1486"/>
                  </a:lnTo>
                  <a:lnTo>
                    <a:pt x="12371" y="1477"/>
                  </a:lnTo>
                  <a:lnTo>
                    <a:pt x="12334" y="1466"/>
                  </a:lnTo>
                  <a:lnTo>
                    <a:pt x="12296" y="1455"/>
                  </a:lnTo>
                  <a:lnTo>
                    <a:pt x="12260" y="1444"/>
                  </a:lnTo>
                  <a:lnTo>
                    <a:pt x="12225" y="1431"/>
                  </a:lnTo>
                  <a:lnTo>
                    <a:pt x="12190" y="1417"/>
                  </a:lnTo>
                  <a:lnTo>
                    <a:pt x="12156" y="1402"/>
                  </a:lnTo>
                  <a:lnTo>
                    <a:pt x="12124" y="1386"/>
                  </a:lnTo>
                  <a:lnTo>
                    <a:pt x="12093" y="1368"/>
                  </a:lnTo>
                  <a:lnTo>
                    <a:pt x="12063" y="1349"/>
                  </a:lnTo>
                  <a:lnTo>
                    <a:pt x="12035" y="1329"/>
                  </a:lnTo>
                  <a:lnTo>
                    <a:pt x="12010" y="1308"/>
                  </a:lnTo>
                  <a:lnTo>
                    <a:pt x="11983" y="1307"/>
                  </a:lnTo>
                  <a:lnTo>
                    <a:pt x="11911" y="1302"/>
                  </a:lnTo>
                  <a:lnTo>
                    <a:pt x="11864" y="1298"/>
                  </a:lnTo>
                  <a:lnTo>
                    <a:pt x="11810" y="1291"/>
                  </a:lnTo>
                  <a:lnTo>
                    <a:pt x="11782" y="1287"/>
                  </a:lnTo>
                  <a:lnTo>
                    <a:pt x="11754" y="1283"/>
                  </a:lnTo>
                  <a:lnTo>
                    <a:pt x="11725" y="1277"/>
                  </a:lnTo>
                  <a:lnTo>
                    <a:pt x="11694" y="1271"/>
                  </a:lnTo>
                  <a:lnTo>
                    <a:pt x="11665" y="1265"/>
                  </a:lnTo>
                  <a:lnTo>
                    <a:pt x="11636" y="1257"/>
                  </a:lnTo>
                  <a:lnTo>
                    <a:pt x="11607" y="1249"/>
                  </a:lnTo>
                  <a:lnTo>
                    <a:pt x="11579" y="1239"/>
                  </a:lnTo>
                  <a:lnTo>
                    <a:pt x="11551" y="1228"/>
                  </a:lnTo>
                  <a:lnTo>
                    <a:pt x="11525" y="1217"/>
                  </a:lnTo>
                  <a:lnTo>
                    <a:pt x="11500" y="1205"/>
                  </a:lnTo>
                  <a:lnTo>
                    <a:pt x="11477" y="1192"/>
                  </a:lnTo>
                  <a:lnTo>
                    <a:pt x="11455" y="1178"/>
                  </a:lnTo>
                  <a:lnTo>
                    <a:pt x="11435" y="1162"/>
                  </a:lnTo>
                  <a:lnTo>
                    <a:pt x="11417" y="1146"/>
                  </a:lnTo>
                  <a:lnTo>
                    <a:pt x="11403" y="1128"/>
                  </a:lnTo>
                  <a:lnTo>
                    <a:pt x="11391" y="1108"/>
                  </a:lnTo>
                  <a:lnTo>
                    <a:pt x="11382" y="1088"/>
                  </a:lnTo>
                  <a:lnTo>
                    <a:pt x="11376" y="1066"/>
                  </a:lnTo>
                  <a:lnTo>
                    <a:pt x="11373" y="1043"/>
                  </a:lnTo>
                  <a:lnTo>
                    <a:pt x="11362" y="1037"/>
                  </a:lnTo>
                  <a:lnTo>
                    <a:pt x="11331" y="1019"/>
                  </a:lnTo>
                  <a:lnTo>
                    <a:pt x="11308" y="1007"/>
                  </a:lnTo>
                  <a:lnTo>
                    <a:pt x="11282" y="994"/>
                  </a:lnTo>
                  <a:lnTo>
                    <a:pt x="11253" y="978"/>
                  </a:lnTo>
                  <a:lnTo>
                    <a:pt x="11220" y="963"/>
                  </a:lnTo>
                  <a:lnTo>
                    <a:pt x="11183" y="948"/>
                  </a:lnTo>
                  <a:lnTo>
                    <a:pt x="11145" y="934"/>
                  </a:lnTo>
                  <a:lnTo>
                    <a:pt x="11105" y="920"/>
                  </a:lnTo>
                  <a:lnTo>
                    <a:pt x="11062" y="907"/>
                  </a:lnTo>
                  <a:lnTo>
                    <a:pt x="11041" y="901"/>
                  </a:lnTo>
                  <a:lnTo>
                    <a:pt x="11019" y="896"/>
                  </a:lnTo>
                  <a:lnTo>
                    <a:pt x="10997" y="891"/>
                  </a:lnTo>
                  <a:lnTo>
                    <a:pt x="10975" y="887"/>
                  </a:lnTo>
                  <a:lnTo>
                    <a:pt x="10952" y="884"/>
                  </a:lnTo>
                  <a:lnTo>
                    <a:pt x="10928" y="881"/>
                  </a:lnTo>
                  <a:lnTo>
                    <a:pt x="10906" y="878"/>
                  </a:lnTo>
                  <a:lnTo>
                    <a:pt x="10883" y="877"/>
                  </a:lnTo>
                  <a:lnTo>
                    <a:pt x="10866" y="866"/>
                  </a:lnTo>
                  <a:lnTo>
                    <a:pt x="10822" y="839"/>
                  </a:lnTo>
                  <a:lnTo>
                    <a:pt x="10790" y="821"/>
                  </a:lnTo>
                  <a:lnTo>
                    <a:pt x="10756" y="803"/>
                  </a:lnTo>
                  <a:lnTo>
                    <a:pt x="10718" y="784"/>
                  </a:lnTo>
                  <a:lnTo>
                    <a:pt x="10677" y="766"/>
                  </a:lnTo>
                  <a:lnTo>
                    <a:pt x="10656" y="757"/>
                  </a:lnTo>
                  <a:lnTo>
                    <a:pt x="10635" y="748"/>
                  </a:lnTo>
                  <a:lnTo>
                    <a:pt x="10614" y="740"/>
                  </a:lnTo>
                  <a:lnTo>
                    <a:pt x="10593" y="733"/>
                  </a:lnTo>
                  <a:lnTo>
                    <a:pt x="10572" y="727"/>
                  </a:lnTo>
                  <a:lnTo>
                    <a:pt x="10551" y="722"/>
                  </a:lnTo>
                  <a:lnTo>
                    <a:pt x="10531" y="718"/>
                  </a:lnTo>
                  <a:lnTo>
                    <a:pt x="10511" y="715"/>
                  </a:lnTo>
                  <a:lnTo>
                    <a:pt x="10492" y="714"/>
                  </a:lnTo>
                  <a:lnTo>
                    <a:pt x="10473" y="714"/>
                  </a:lnTo>
                  <a:lnTo>
                    <a:pt x="10456" y="715"/>
                  </a:lnTo>
                  <a:lnTo>
                    <a:pt x="10438" y="718"/>
                  </a:lnTo>
                  <a:lnTo>
                    <a:pt x="10423" y="723"/>
                  </a:lnTo>
                  <a:lnTo>
                    <a:pt x="10408" y="729"/>
                  </a:lnTo>
                  <a:lnTo>
                    <a:pt x="10395" y="738"/>
                  </a:lnTo>
                  <a:lnTo>
                    <a:pt x="10383" y="749"/>
                  </a:lnTo>
                  <a:lnTo>
                    <a:pt x="10373" y="761"/>
                  </a:lnTo>
                  <a:lnTo>
                    <a:pt x="10364" y="773"/>
                  </a:lnTo>
                  <a:lnTo>
                    <a:pt x="10356" y="786"/>
                  </a:lnTo>
                  <a:lnTo>
                    <a:pt x="10350" y="800"/>
                  </a:lnTo>
                  <a:lnTo>
                    <a:pt x="10344" y="814"/>
                  </a:lnTo>
                  <a:lnTo>
                    <a:pt x="10339" y="829"/>
                  </a:lnTo>
                  <a:lnTo>
                    <a:pt x="10335" y="844"/>
                  </a:lnTo>
                  <a:lnTo>
                    <a:pt x="10332" y="859"/>
                  </a:lnTo>
                  <a:lnTo>
                    <a:pt x="10323" y="921"/>
                  </a:lnTo>
                  <a:lnTo>
                    <a:pt x="10317" y="980"/>
                  </a:lnTo>
                  <a:lnTo>
                    <a:pt x="10313" y="995"/>
                  </a:lnTo>
                  <a:lnTo>
                    <a:pt x="10311" y="1008"/>
                  </a:lnTo>
                  <a:lnTo>
                    <a:pt x="10307" y="1020"/>
                  </a:lnTo>
                  <a:lnTo>
                    <a:pt x="10304" y="1032"/>
                  </a:lnTo>
                  <a:lnTo>
                    <a:pt x="10299" y="1042"/>
                  </a:lnTo>
                  <a:lnTo>
                    <a:pt x="10294" y="1052"/>
                  </a:lnTo>
                  <a:lnTo>
                    <a:pt x="10287" y="1060"/>
                  </a:lnTo>
                  <a:lnTo>
                    <a:pt x="10280" y="1068"/>
                  </a:lnTo>
                  <a:lnTo>
                    <a:pt x="10271" y="1074"/>
                  </a:lnTo>
                  <a:lnTo>
                    <a:pt x="10261" y="1078"/>
                  </a:lnTo>
                  <a:lnTo>
                    <a:pt x="10250" y="1081"/>
                  </a:lnTo>
                  <a:lnTo>
                    <a:pt x="10237" y="1083"/>
                  </a:lnTo>
                  <a:lnTo>
                    <a:pt x="10223" y="1083"/>
                  </a:lnTo>
                  <a:lnTo>
                    <a:pt x="10206" y="1081"/>
                  </a:lnTo>
                  <a:lnTo>
                    <a:pt x="10187" y="1078"/>
                  </a:lnTo>
                  <a:lnTo>
                    <a:pt x="10168" y="1072"/>
                  </a:lnTo>
                  <a:lnTo>
                    <a:pt x="10148" y="1067"/>
                  </a:lnTo>
                  <a:lnTo>
                    <a:pt x="10130" y="1060"/>
                  </a:lnTo>
                  <a:lnTo>
                    <a:pt x="10112" y="1052"/>
                  </a:lnTo>
                  <a:lnTo>
                    <a:pt x="10095" y="1044"/>
                  </a:lnTo>
                  <a:lnTo>
                    <a:pt x="10079" y="1035"/>
                  </a:lnTo>
                  <a:lnTo>
                    <a:pt x="10063" y="1025"/>
                  </a:lnTo>
                  <a:lnTo>
                    <a:pt x="10049" y="1014"/>
                  </a:lnTo>
                  <a:lnTo>
                    <a:pt x="10035" y="1003"/>
                  </a:lnTo>
                  <a:lnTo>
                    <a:pt x="10021" y="990"/>
                  </a:lnTo>
                  <a:lnTo>
                    <a:pt x="10008" y="978"/>
                  </a:lnTo>
                  <a:lnTo>
                    <a:pt x="9995" y="965"/>
                  </a:lnTo>
                  <a:lnTo>
                    <a:pt x="9983" y="952"/>
                  </a:lnTo>
                  <a:lnTo>
                    <a:pt x="9959" y="924"/>
                  </a:lnTo>
                  <a:lnTo>
                    <a:pt x="9934" y="895"/>
                  </a:lnTo>
                  <a:lnTo>
                    <a:pt x="9909" y="864"/>
                  </a:lnTo>
                  <a:lnTo>
                    <a:pt x="9884" y="834"/>
                  </a:lnTo>
                  <a:lnTo>
                    <a:pt x="9857" y="802"/>
                  </a:lnTo>
                  <a:lnTo>
                    <a:pt x="9828" y="771"/>
                  </a:lnTo>
                  <a:lnTo>
                    <a:pt x="9813" y="756"/>
                  </a:lnTo>
                  <a:lnTo>
                    <a:pt x="9795" y="739"/>
                  </a:lnTo>
                  <a:lnTo>
                    <a:pt x="9778" y="724"/>
                  </a:lnTo>
                  <a:lnTo>
                    <a:pt x="9760" y="709"/>
                  </a:lnTo>
                  <a:lnTo>
                    <a:pt x="9742" y="694"/>
                  </a:lnTo>
                  <a:lnTo>
                    <a:pt x="9722" y="680"/>
                  </a:lnTo>
                  <a:lnTo>
                    <a:pt x="9701" y="666"/>
                  </a:lnTo>
                  <a:lnTo>
                    <a:pt x="9678" y="652"/>
                  </a:lnTo>
                  <a:lnTo>
                    <a:pt x="9627" y="622"/>
                  </a:lnTo>
                  <a:lnTo>
                    <a:pt x="9569" y="589"/>
                  </a:lnTo>
                  <a:lnTo>
                    <a:pt x="9502" y="554"/>
                  </a:lnTo>
                  <a:lnTo>
                    <a:pt x="9430" y="518"/>
                  </a:lnTo>
                  <a:lnTo>
                    <a:pt x="9356" y="479"/>
                  </a:lnTo>
                  <a:lnTo>
                    <a:pt x="9279" y="441"/>
                  </a:lnTo>
                  <a:lnTo>
                    <a:pt x="9202" y="403"/>
                  </a:lnTo>
                  <a:lnTo>
                    <a:pt x="9126" y="366"/>
                  </a:lnTo>
                  <a:lnTo>
                    <a:pt x="9052" y="331"/>
                  </a:lnTo>
                  <a:lnTo>
                    <a:pt x="8984" y="298"/>
                  </a:lnTo>
                  <a:lnTo>
                    <a:pt x="8921" y="268"/>
                  </a:lnTo>
                  <a:lnTo>
                    <a:pt x="8867" y="242"/>
                  </a:lnTo>
                  <a:lnTo>
                    <a:pt x="8822" y="221"/>
                  </a:lnTo>
                  <a:lnTo>
                    <a:pt x="8786" y="205"/>
                  </a:lnTo>
                  <a:lnTo>
                    <a:pt x="8765" y="194"/>
                  </a:lnTo>
                  <a:lnTo>
                    <a:pt x="8757" y="191"/>
                  </a:lnTo>
                  <a:lnTo>
                    <a:pt x="8752" y="187"/>
                  </a:lnTo>
                  <a:lnTo>
                    <a:pt x="8735" y="177"/>
                  </a:lnTo>
                  <a:lnTo>
                    <a:pt x="8708" y="161"/>
                  </a:lnTo>
                  <a:lnTo>
                    <a:pt x="8669" y="140"/>
                  </a:lnTo>
                  <a:lnTo>
                    <a:pt x="8646" y="130"/>
                  </a:lnTo>
                  <a:lnTo>
                    <a:pt x="8620" y="118"/>
                  </a:lnTo>
                  <a:lnTo>
                    <a:pt x="8592" y="107"/>
                  </a:lnTo>
                  <a:lnTo>
                    <a:pt x="8560" y="95"/>
                  </a:lnTo>
                  <a:lnTo>
                    <a:pt x="8525" y="83"/>
                  </a:lnTo>
                  <a:lnTo>
                    <a:pt x="8489" y="71"/>
                  </a:lnTo>
                  <a:lnTo>
                    <a:pt x="8450" y="60"/>
                  </a:lnTo>
                  <a:lnTo>
                    <a:pt x="8407" y="49"/>
                  </a:lnTo>
                  <a:lnTo>
                    <a:pt x="8362" y="39"/>
                  </a:lnTo>
                  <a:lnTo>
                    <a:pt x="8315" y="29"/>
                  </a:lnTo>
                  <a:lnTo>
                    <a:pt x="8264" y="20"/>
                  </a:lnTo>
                  <a:lnTo>
                    <a:pt x="8211" y="13"/>
                  </a:lnTo>
                  <a:lnTo>
                    <a:pt x="8155" y="8"/>
                  </a:lnTo>
                  <a:lnTo>
                    <a:pt x="8097" y="4"/>
                  </a:lnTo>
                  <a:lnTo>
                    <a:pt x="8035" y="1"/>
                  </a:lnTo>
                  <a:lnTo>
                    <a:pt x="7972" y="0"/>
                  </a:lnTo>
                  <a:lnTo>
                    <a:pt x="7905" y="2"/>
                  </a:lnTo>
                  <a:lnTo>
                    <a:pt x="7837" y="5"/>
                  </a:lnTo>
                  <a:lnTo>
                    <a:pt x="7764" y="11"/>
                  </a:lnTo>
                  <a:lnTo>
                    <a:pt x="7691" y="20"/>
                  </a:lnTo>
                  <a:lnTo>
                    <a:pt x="7613" y="31"/>
                  </a:lnTo>
                  <a:lnTo>
                    <a:pt x="7533" y="46"/>
                  </a:lnTo>
                  <a:lnTo>
                    <a:pt x="7451" y="63"/>
                  </a:lnTo>
                  <a:lnTo>
                    <a:pt x="7366" y="83"/>
                  </a:lnTo>
                  <a:lnTo>
                    <a:pt x="7283" y="104"/>
                  </a:lnTo>
                  <a:lnTo>
                    <a:pt x="7207" y="122"/>
                  </a:lnTo>
                  <a:lnTo>
                    <a:pt x="7136" y="139"/>
                  </a:lnTo>
                  <a:lnTo>
                    <a:pt x="7071" y="153"/>
                  </a:lnTo>
                  <a:lnTo>
                    <a:pt x="7010" y="166"/>
                  </a:lnTo>
                  <a:lnTo>
                    <a:pt x="6955" y="177"/>
                  </a:lnTo>
                  <a:lnTo>
                    <a:pt x="6903" y="186"/>
                  </a:lnTo>
                  <a:lnTo>
                    <a:pt x="6856" y="193"/>
                  </a:lnTo>
                  <a:lnTo>
                    <a:pt x="6813" y="199"/>
                  </a:lnTo>
                  <a:lnTo>
                    <a:pt x="6773" y="204"/>
                  </a:lnTo>
                  <a:lnTo>
                    <a:pt x="6737" y="207"/>
                  </a:lnTo>
                  <a:lnTo>
                    <a:pt x="6704" y="209"/>
                  </a:lnTo>
                  <a:lnTo>
                    <a:pt x="6674" y="210"/>
                  </a:lnTo>
                  <a:lnTo>
                    <a:pt x="6646" y="210"/>
                  </a:lnTo>
                  <a:lnTo>
                    <a:pt x="6620" y="209"/>
                  </a:lnTo>
                  <a:lnTo>
                    <a:pt x="6597" y="208"/>
                  </a:lnTo>
                  <a:lnTo>
                    <a:pt x="6576" y="206"/>
                  </a:lnTo>
                  <a:lnTo>
                    <a:pt x="6556" y="203"/>
                  </a:lnTo>
                  <a:lnTo>
                    <a:pt x="6537" y="200"/>
                  </a:lnTo>
                  <a:lnTo>
                    <a:pt x="6518" y="197"/>
                  </a:lnTo>
                  <a:lnTo>
                    <a:pt x="6483" y="190"/>
                  </a:lnTo>
                  <a:lnTo>
                    <a:pt x="6449" y="182"/>
                  </a:lnTo>
                  <a:lnTo>
                    <a:pt x="6431" y="179"/>
                  </a:lnTo>
                  <a:lnTo>
                    <a:pt x="6413" y="176"/>
                  </a:lnTo>
                  <a:lnTo>
                    <a:pt x="6392" y="174"/>
                  </a:lnTo>
                  <a:lnTo>
                    <a:pt x="6371" y="172"/>
                  </a:lnTo>
                  <a:lnTo>
                    <a:pt x="6349" y="170"/>
                  </a:lnTo>
                  <a:lnTo>
                    <a:pt x="6325" y="170"/>
                  </a:lnTo>
                  <a:lnTo>
                    <a:pt x="6298" y="170"/>
                  </a:lnTo>
                  <a:lnTo>
                    <a:pt x="6269" y="171"/>
                  </a:lnTo>
                  <a:lnTo>
                    <a:pt x="6208" y="176"/>
                  </a:lnTo>
                  <a:lnTo>
                    <a:pt x="6144" y="182"/>
                  </a:lnTo>
                  <a:lnTo>
                    <a:pt x="6080" y="191"/>
                  </a:lnTo>
                  <a:lnTo>
                    <a:pt x="6015" y="201"/>
                  </a:lnTo>
                  <a:lnTo>
                    <a:pt x="5983" y="207"/>
                  </a:lnTo>
                  <a:lnTo>
                    <a:pt x="5951" y="213"/>
                  </a:lnTo>
                  <a:lnTo>
                    <a:pt x="5919" y="220"/>
                  </a:lnTo>
                  <a:lnTo>
                    <a:pt x="5886" y="228"/>
                  </a:lnTo>
                  <a:lnTo>
                    <a:pt x="5854" y="236"/>
                  </a:lnTo>
                  <a:lnTo>
                    <a:pt x="5823" y="244"/>
                  </a:lnTo>
                  <a:lnTo>
                    <a:pt x="5792" y="253"/>
                  </a:lnTo>
                  <a:lnTo>
                    <a:pt x="5761" y="263"/>
                  </a:lnTo>
                  <a:lnTo>
                    <a:pt x="5731" y="273"/>
                  </a:lnTo>
                  <a:lnTo>
                    <a:pt x="5701" y="284"/>
                  </a:lnTo>
                  <a:lnTo>
                    <a:pt x="5672" y="295"/>
                  </a:lnTo>
                  <a:lnTo>
                    <a:pt x="5643" y="307"/>
                  </a:lnTo>
                  <a:lnTo>
                    <a:pt x="5615" y="319"/>
                  </a:lnTo>
                  <a:lnTo>
                    <a:pt x="5589" y="332"/>
                  </a:lnTo>
                  <a:lnTo>
                    <a:pt x="5563" y="346"/>
                  </a:lnTo>
                  <a:lnTo>
                    <a:pt x="5538" y="360"/>
                  </a:lnTo>
                  <a:lnTo>
                    <a:pt x="5513" y="374"/>
                  </a:lnTo>
                  <a:lnTo>
                    <a:pt x="5490" y="389"/>
                  </a:lnTo>
                  <a:lnTo>
                    <a:pt x="5468" y="406"/>
                  </a:lnTo>
                  <a:lnTo>
                    <a:pt x="5448" y="423"/>
                  </a:lnTo>
                  <a:lnTo>
                    <a:pt x="5428" y="440"/>
                  </a:lnTo>
                  <a:lnTo>
                    <a:pt x="5410" y="457"/>
                  </a:lnTo>
                  <a:lnTo>
                    <a:pt x="5393" y="475"/>
                  </a:lnTo>
                  <a:lnTo>
                    <a:pt x="5377" y="494"/>
                  </a:lnTo>
                  <a:lnTo>
                    <a:pt x="5360" y="515"/>
                  </a:lnTo>
                  <a:lnTo>
                    <a:pt x="5339" y="539"/>
                  </a:lnTo>
                  <a:lnTo>
                    <a:pt x="5313" y="565"/>
                  </a:lnTo>
                  <a:lnTo>
                    <a:pt x="5283" y="595"/>
                  </a:lnTo>
                  <a:lnTo>
                    <a:pt x="5248" y="627"/>
                  </a:lnTo>
                  <a:lnTo>
                    <a:pt x="5211" y="662"/>
                  </a:lnTo>
                  <a:lnTo>
                    <a:pt x="5170" y="699"/>
                  </a:lnTo>
                  <a:lnTo>
                    <a:pt x="5125" y="737"/>
                  </a:lnTo>
                  <a:lnTo>
                    <a:pt x="5078" y="778"/>
                  </a:lnTo>
                  <a:lnTo>
                    <a:pt x="5028" y="819"/>
                  </a:lnTo>
                  <a:lnTo>
                    <a:pt x="4975" y="861"/>
                  </a:lnTo>
                  <a:lnTo>
                    <a:pt x="4921" y="905"/>
                  </a:lnTo>
                  <a:lnTo>
                    <a:pt x="4864" y="948"/>
                  </a:lnTo>
                  <a:lnTo>
                    <a:pt x="4806" y="991"/>
                  </a:lnTo>
                  <a:lnTo>
                    <a:pt x="4746" y="1036"/>
                  </a:lnTo>
                  <a:lnTo>
                    <a:pt x="4686" y="1079"/>
                  </a:lnTo>
                  <a:lnTo>
                    <a:pt x="4624" y="1122"/>
                  </a:lnTo>
                  <a:lnTo>
                    <a:pt x="4562" y="1163"/>
                  </a:lnTo>
                  <a:lnTo>
                    <a:pt x="4498" y="1203"/>
                  </a:lnTo>
                  <a:lnTo>
                    <a:pt x="4436" y="1243"/>
                  </a:lnTo>
                  <a:lnTo>
                    <a:pt x="4372" y="1280"/>
                  </a:lnTo>
                  <a:lnTo>
                    <a:pt x="4310" y="1315"/>
                  </a:lnTo>
                  <a:lnTo>
                    <a:pt x="4247" y="1347"/>
                  </a:lnTo>
                  <a:lnTo>
                    <a:pt x="4186" y="1378"/>
                  </a:lnTo>
                  <a:lnTo>
                    <a:pt x="4125" y="1405"/>
                  </a:lnTo>
                  <a:lnTo>
                    <a:pt x="4067" y="1429"/>
                  </a:lnTo>
                  <a:lnTo>
                    <a:pt x="4008" y="1450"/>
                  </a:lnTo>
                  <a:lnTo>
                    <a:pt x="3953" y="1467"/>
                  </a:lnTo>
                  <a:lnTo>
                    <a:pt x="3899" y="1481"/>
                  </a:lnTo>
                  <a:lnTo>
                    <a:pt x="3847" y="1490"/>
                  </a:lnTo>
                  <a:lnTo>
                    <a:pt x="3798" y="1495"/>
                  </a:lnTo>
                  <a:lnTo>
                    <a:pt x="3751" y="1494"/>
                  </a:lnTo>
                  <a:lnTo>
                    <a:pt x="3706" y="1491"/>
                  </a:lnTo>
                  <a:lnTo>
                    <a:pt x="3660" y="1488"/>
                  </a:lnTo>
                  <a:lnTo>
                    <a:pt x="3612" y="1487"/>
                  </a:lnTo>
                  <a:lnTo>
                    <a:pt x="3564" y="1485"/>
                  </a:lnTo>
                  <a:lnTo>
                    <a:pt x="3516" y="1485"/>
                  </a:lnTo>
                  <a:lnTo>
                    <a:pt x="3467" y="1486"/>
                  </a:lnTo>
                  <a:lnTo>
                    <a:pt x="3418" y="1487"/>
                  </a:lnTo>
                  <a:lnTo>
                    <a:pt x="3368" y="1489"/>
                  </a:lnTo>
                  <a:lnTo>
                    <a:pt x="3319" y="1491"/>
                  </a:lnTo>
                  <a:lnTo>
                    <a:pt x="3270" y="1495"/>
                  </a:lnTo>
                  <a:lnTo>
                    <a:pt x="3220" y="1500"/>
                  </a:lnTo>
                  <a:lnTo>
                    <a:pt x="3171" y="1505"/>
                  </a:lnTo>
                  <a:lnTo>
                    <a:pt x="3123" y="1511"/>
                  </a:lnTo>
                  <a:lnTo>
                    <a:pt x="3075" y="1518"/>
                  </a:lnTo>
                  <a:lnTo>
                    <a:pt x="3029" y="1527"/>
                  </a:lnTo>
                  <a:lnTo>
                    <a:pt x="2982" y="1536"/>
                  </a:lnTo>
                  <a:lnTo>
                    <a:pt x="2938" y="1546"/>
                  </a:lnTo>
                  <a:lnTo>
                    <a:pt x="2894" y="1557"/>
                  </a:lnTo>
                  <a:lnTo>
                    <a:pt x="2851" y="1569"/>
                  </a:lnTo>
                  <a:lnTo>
                    <a:pt x="2811" y="1582"/>
                  </a:lnTo>
                  <a:lnTo>
                    <a:pt x="2771" y="1597"/>
                  </a:lnTo>
                  <a:lnTo>
                    <a:pt x="2733" y="1612"/>
                  </a:lnTo>
                  <a:lnTo>
                    <a:pt x="2697" y="1628"/>
                  </a:lnTo>
                  <a:lnTo>
                    <a:pt x="2664" y="1646"/>
                  </a:lnTo>
                  <a:lnTo>
                    <a:pt x="2632" y="1664"/>
                  </a:lnTo>
                  <a:lnTo>
                    <a:pt x="2601" y="1684"/>
                  </a:lnTo>
                  <a:lnTo>
                    <a:pt x="2574" y="1705"/>
                  </a:lnTo>
                  <a:lnTo>
                    <a:pt x="2550" y="1727"/>
                  </a:lnTo>
                  <a:lnTo>
                    <a:pt x="2528" y="1750"/>
                  </a:lnTo>
                  <a:lnTo>
                    <a:pt x="2509" y="1775"/>
                  </a:lnTo>
                  <a:lnTo>
                    <a:pt x="2491" y="1800"/>
                  </a:lnTo>
                  <a:lnTo>
                    <a:pt x="2478" y="1827"/>
                  </a:lnTo>
                  <a:lnTo>
                    <a:pt x="2467" y="1854"/>
                  </a:lnTo>
                  <a:lnTo>
                    <a:pt x="2458" y="1878"/>
                  </a:lnTo>
                  <a:lnTo>
                    <a:pt x="2451" y="1902"/>
                  </a:lnTo>
                  <a:lnTo>
                    <a:pt x="2446" y="1924"/>
                  </a:lnTo>
                  <a:lnTo>
                    <a:pt x="2443" y="1946"/>
                  </a:lnTo>
                  <a:lnTo>
                    <a:pt x="2441" y="1968"/>
                  </a:lnTo>
                  <a:lnTo>
                    <a:pt x="2441" y="1988"/>
                  </a:lnTo>
                  <a:lnTo>
                    <a:pt x="2443" y="2008"/>
                  </a:lnTo>
                  <a:lnTo>
                    <a:pt x="2447" y="2027"/>
                  </a:lnTo>
                  <a:lnTo>
                    <a:pt x="2452" y="2046"/>
                  </a:lnTo>
                  <a:lnTo>
                    <a:pt x="2459" y="2065"/>
                  </a:lnTo>
                  <a:lnTo>
                    <a:pt x="2468" y="2084"/>
                  </a:lnTo>
                  <a:lnTo>
                    <a:pt x="2478" y="2102"/>
                  </a:lnTo>
                  <a:lnTo>
                    <a:pt x="2489" y="2120"/>
                  </a:lnTo>
                  <a:lnTo>
                    <a:pt x="2502" y="2138"/>
                  </a:lnTo>
                  <a:lnTo>
                    <a:pt x="2518" y="2157"/>
                  </a:lnTo>
                  <a:lnTo>
                    <a:pt x="2533" y="2175"/>
                  </a:lnTo>
                  <a:lnTo>
                    <a:pt x="2550" y="2195"/>
                  </a:lnTo>
                  <a:lnTo>
                    <a:pt x="2569" y="2215"/>
                  </a:lnTo>
                  <a:lnTo>
                    <a:pt x="2588" y="2234"/>
                  </a:lnTo>
                  <a:lnTo>
                    <a:pt x="2632" y="2276"/>
                  </a:lnTo>
                  <a:lnTo>
                    <a:pt x="2679" y="2322"/>
                  </a:lnTo>
                  <a:lnTo>
                    <a:pt x="2731" y="2372"/>
                  </a:lnTo>
                  <a:lnTo>
                    <a:pt x="2787" y="2426"/>
                  </a:lnTo>
                  <a:lnTo>
                    <a:pt x="2846" y="2486"/>
                  </a:lnTo>
                  <a:lnTo>
                    <a:pt x="2909" y="2553"/>
                  </a:lnTo>
                  <a:lnTo>
                    <a:pt x="2976" y="2626"/>
                  </a:lnTo>
                  <a:lnTo>
                    <a:pt x="3050" y="2709"/>
                  </a:lnTo>
                  <a:lnTo>
                    <a:pt x="3089" y="2753"/>
                  </a:lnTo>
                  <a:lnTo>
                    <a:pt x="3128" y="2800"/>
                  </a:lnTo>
                  <a:lnTo>
                    <a:pt x="3169" y="2848"/>
                  </a:lnTo>
                  <a:lnTo>
                    <a:pt x="3210" y="2897"/>
                  </a:lnTo>
                  <a:lnTo>
                    <a:pt x="3250" y="2948"/>
                  </a:lnTo>
                  <a:lnTo>
                    <a:pt x="3291" y="2999"/>
                  </a:lnTo>
                  <a:lnTo>
                    <a:pt x="3330" y="3052"/>
                  </a:lnTo>
                  <a:lnTo>
                    <a:pt x="3368" y="3104"/>
                  </a:lnTo>
                  <a:lnTo>
                    <a:pt x="3406" y="3158"/>
                  </a:lnTo>
                  <a:lnTo>
                    <a:pt x="3441" y="3211"/>
                  </a:lnTo>
                  <a:lnTo>
                    <a:pt x="3475" y="3264"/>
                  </a:lnTo>
                  <a:lnTo>
                    <a:pt x="3506" y="3318"/>
                  </a:lnTo>
                  <a:lnTo>
                    <a:pt x="3536" y="3370"/>
                  </a:lnTo>
                  <a:lnTo>
                    <a:pt x="3562" y="3423"/>
                  </a:lnTo>
                  <a:lnTo>
                    <a:pt x="3585" y="3474"/>
                  </a:lnTo>
                  <a:lnTo>
                    <a:pt x="3604" y="3525"/>
                  </a:lnTo>
                  <a:lnTo>
                    <a:pt x="3620" y="3574"/>
                  </a:lnTo>
                  <a:lnTo>
                    <a:pt x="3631" y="3621"/>
                  </a:lnTo>
                  <a:lnTo>
                    <a:pt x="3640" y="3667"/>
                  </a:lnTo>
                  <a:lnTo>
                    <a:pt x="3642" y="3711"/>
                  </a:lnTo>
                  <a:lnTo>
                    <a:pt x="3640" y="3754"/>
                  </a:lnTo>
                  <a:lnTo>
                    <a:pt x="3632" y="3793"/>
                  </a:lnTo>
                  <a:lnTo>
                    <a:pt x="3618" y="3830"/>
                  </a:lnTo>
                  <a:lnTo>
                    <a:pt x="3599" y="3866"/>
                  </a:lnTo>
                  <a:lnTo>
                    <a:pt x="3574" y="3897"/>
                  </a:lnTo>
                  <a:lnTo>
                    <a:pt x="3543" y="3926"/>
                  </a:lnTo>
                  <a:lnTo>
                    <a:pt x="3503" y="3951"/>
                  </a:lnTo>
                  <a:lnTo>
                    <a:pt x="3458" y="3973"/>
                  </a:lnTo>
                  <a:lnTo>
                    <a:pt x="3409" y="3992"/>
                  </a:lnTo>
                  <a:lnTo>
                    <a:pt x="3362" y="4007"/>
                  </a:lnTo>
                  <a:lnTo>
                    <a:pt x="3319" y="4019"/>
                  </a:lnTo>
                  <a:lnTo>
                    <a:pt x="3279" y="4028"/>
                  </a:lnTo>
                  <a:lnTo>
                    <a:pt x="3240" y="4034"/>
                  </a:lnTo>
                  <a:lnTo>
                    <a:pt x="3205" y="4037"/>
                  </a:lnTo>
                  <a:lnTo>
                    <a:pt x="3172" y="4037"/>
                  </a:lnTo>
                  <a:lnTo>
                    <a:pt x="3141" y="4035"/>
                  </a:lnTo>
                  <a:lnTo>
                    <a:pt x="3111" y="4031"/>
                  </a:lnTo>
                  <a:lnTo>
                    <a:pt x="3084" y="4025"/>
                  </a:lnTo>
                  <a:lnTo>
                    <a:pt x="3058" y="4017"/>
                  </a:lnTo>
                  <a:lnTo>
                    <a:pt x="3034" y="4007"/>
                  </a:lnTo>
                  <a:lnTo>
                    <a:pt x="3011" y="3996"/>
                  </a:lnTo>
                  <a:lnTo>
                    <a:pt x="2988" y="3983"/>
                  </a:lnTo>
                  <a:lnTo>
                    <a:pt x="2968" y="3969"/>
                  </a:lnTo>
                  <a:lnTo>
                    <a:pt x="2948" y="3954"/>
                  </a:lnTo>
                  <a:lnTo>
                    <a:pt x="2929" y="3938"/>
                  </a:lnTo>
                  <a:lnTo>
                    <a:pt x="2911" y="3921"/>
                  </a:lnTo>
                  <a:lnTo>
                    <a:pt x="2894" y="3904"/>
                  </a:lnTo>
                  <a:lnTo>
                    <a:pt x="2876" y="3886"/>
                  </a:lnTo>
                  <a:lnTo>
                    <a:pt x="2842" y="3849"/>
                  </a:lnTo>
                  <a:lnTo>
                    <a:pt x="2808" y="3813"/>
                  </a:lnTo>
                  <a:lnTo>
                    <a:pt x="2790" y="3796"/>
                  </a:lnTo>
                  <a:lnTo>
                    <a:pt x="2772" y="3779"/>
                  </a:lnTo>
                  <a:lnTo>
                    <a:pt x="2752" y="3763"/>
                  </a:lnTo>
                  <a:lnTo>
                    <a:pt x="2733" y="3748"/>
                  </a:lnTo>
                  <a:lnTo>
                    <a:pt x="2713" y="3733"/>
                  </a:lnTo>
                  <a:lnTo>
                    <a:pt x="2691" y="3720"/>
                  </a:lnTo>
                  <a:lnTo>
                    <a:pt x="2669" y="3709"/>
                  </a:lnTo>
                  <a:lnTo>
                    <a:pt x="2645" y="3699"/>
                  </a:lnTo>
                  <a:lnTo>
                    <a:pt x="2618" y="3689"/>
                  </a:lnTo>
                  <a:lnTo>
                    <a:pt x="2590" y="3681"/>
                  </a:lnTo>
                  <a:lnTo>
                    <a:pt x="2559" y="3674"/>
                  </a:lnTo>
                  <a:lnTo>
                    <a:pt x="2526" y="3667"/>
                  </a:lnTo>
                  <a:lnTo>
                    <a:pt x="2490" y="3662"/>
                  </a:lnTo>
                  <a:lnTo>
                    <a:pt x="2453" y="3657"/>
                  </a:lnTo>
                  <a:lnTo>
                    <a:pt x="2414" y="3654"/>
                  </a:lnTo>
                  <a:lnTo>
                    <a:pt x="2373" y="3652"/>
                  </a:lnTo>
                  <a:lnTo>
                    <a:pt x="2331" y="3651"/>
                  </a:lnTo>
                  <a:lnTo>
                    <a:pt x="2287" y="3651"/>
                  </a:lnTo>
                  <a:lnTo>
                    <a:pt x="2242" y="3652"/>
                  </a:lnTo>
                  <a:lnTo>
                    <a:pt x="2196" y="3654"/>
                  </a:lnTo>
                  <a:lnTo>
                    <a:pt x="2149" y="3657"/>
                  </a:lnTo>
                  <a:lnTo>
                    <a:pt x="2100" y="3662"/>
                  </a:lnTo>
                  <a:lnTo>
                    <a:pt x="2051" y="3667"/>
                  </a:lnTo>
                  <a:lnTo>
                    <a:pt x="2002" y="3673"/>
                  </a:lnTo>
                  <a:lnTo>
                    <a:pt x="1952" y="3681"/>
                  </a:lnTo>
                  <a:lnTo>
                    <a:pt x="1902" y="3690"/>
                  </a:lnTo>
                  <a:lnTo>
                    <a:pt x="1850" y="3700"/>
                  </a:lnTo>
                  <a:lnTo>
                    <a:pt x="1800" y="3711"/>
                  </a:lnTo>
                  <a:lnTo>
                    <a:pt x="1750" y="3723"/>
                  </a:lnTo>
                  <a:lnTo>
                    <a:pt x="1699" y="3736"/>
                  </a:lnTo>
                  <a:lnTo>
                    <a:pt x="1649" y="3751"/>
                  </a:lnTo>
                  <a:lnTo>
                    <a:pt x="1599" y="3767"/>
                  </a:lnTo>
                  <a:lnTo>
                    <a:pt x="1550" y="3784"/>
                  </a:lnTo>
                  <a:lnTo>
                    <a:pt x="1502" y="3801"/>
                  </a:lnTo>
                  <a:lnTo>
                    <a:pt x="1454" y="3820"/>
                  </a:lnTo>
                  <a:lnTo>
                    <a:pt x="1408" y="3841"/>
                  </a:lnTo>
                  <a:lnTo>
                    <a:pt x="1362" y="3862"/>
                  </a:lnTo>
                  <a:lnTo>
                    <a:pt x="1318" y="3885"/>
                  </a:lnTo>
                  <a:lnTo>
                    <a:pt x="1275" y="3909"/>
                  </a:lnTo>
                  <a:lnTo>
                    <a:pt x="1234" y="3934"/>
                  </a:lnTo>
                  <a:lnTo>
                    <a:pt x="1153" y="3983"/>
                  </a:lnTo>
                  <a:lnTo>
                    <a:pt x="1074" y="4032"/>
                  </a:lnTo>
                  <a:lnTo>
                    <a:pt x="1037" y="4056"/>
                  </a:lnTo>
                  <a:lnTo>
                    <a:pt x="1000" y="4080"/>
                  </a:lnTo>
                  <a:lnTo>
                    <a:pt x="964" y="4105"/>
                  </a:lnTo>
                  <a:lnTo>
                    <a:pt x="931" y="4129"/>
                  </a:lnTo>
                  <a:lnTo>
                    <a:pt x="899" y="4153"/>
                  </a:lnTo>
                  <a:lnTo>
                    <a:pt x="869" y="4176"/>
                  </a:lnTo>
                  <a:lnTo>
                    <a:pt x="839" y="4200"/>
                  </a:lnTo>
                  <a:lnTo>
                    <a:pt x="812" y="4225"/>
                  </a:lnTo>
                  <a:lnTo>
                    <a:pt x="788" y="4248"/>
                  </a:lnTo>
                  <a:lnTo>
                    <a:pt x="765" y="4272"/>
                  </a:lnTo>
                  <a:lnTo>
                    <a:pt x="745" y="4296"/>
                  </a:lnTo>
                  <a:lnTo>
                    <a:pt x="727" y="4320"/>
                  </a:lnTo>
                  <a:lnTo>
                    <a:pt x="712" y="4345"/>
                  </a:lnTo>
                  <a:lnTo>
                    <a:pt x="699" y="4369"/>
                  </a:lnTo>
                  <a:lnTo>
                    <a:pt x="690" y="4393"/>
                  </a:lnTo>
                  <a:lnTo>
                    <a:pt x="683" y="4417"/>
                  </a:lnTo>
                  <a:lnTo>
                    <a:pt x="679" y="4442"/>
                  </a:lnTo>
                  <a:lnTo>
                    <a:pt x="679" y="4467"/>
                  </a:lnTo>
                  <a:lnTo>
                    <a:pt x="682" y="4492"/>
                  </a:lnTo>
                  <a:lnTo>
                    <a:pt x="688" y="4517"/>
                  </a:lnTo>
                  <a:lnTo>
                    <a:pt x="698" y="4542"/>
                  </a:lnTo>
                  <a:lnTo>
                    <a:pt x="712" y="4568"/>
                  </a:lnTo>
                  <a:lnTo>
                    <a:pt x="730" y="4595"/>
                  </a:lnTo>
                  <a:lnTo>
                    <a:pt x="752" y="4621"/>
                  </a:lnTo>
                  <a:lnTo>
                    <a:pt x="778" y="4647"/>
                  </a:lnTo>
                  <a:lnTo>
                    <a:pt x="808" y="4673"/>
                  </a:lnTo>
                  <a:lnTo>
                    <a:pt x="842" y="4700"/>
                  </a:lnTo>
                  <a:lnTo>
                    <a:pt x="882" y="4728"/>
                  </a:lnTo>
                  <a:lnTo>
                    <a:pt x="922" y="4755"/>
                  </a:lnTo>
                  <a:lnTo>
                    <a:pt x="964" y="4782"/>
                  </a:lnTo>
                  <a:lnTo>
                    <a:pt x="1007" y="4809"/>
                  </a:lnTo>
                  <a:lnTo>
                    <a:pt x="1049" y="4836"/>
                  </a:lnTo>
                  <a:lnTo>
                    <a:pt x="1093" y="4862"/>
                  </a:lnTo>
                  <a:lnTo>
                    <a:pt x="1138" y="4887"/>
                  </a:lnTo>
                  <a:lnTo>
                    <a:pt x="1184" y="4912"/>
                  </a:lnTo>
                  <a:lnTo>
                    <a:pt x="1230" y="4935"/>
                  </a:lnTo>
                  <a:lnTo>
                    <a:pt x="1277" y="4960"/>
                  </a:lnTo>
                  <a:lnTo>
                    <a:pt x="1325" y="4982"/>
                  </a:lnTo>
                  <a:lnTo>
                    <a:pt x="1374" y="5004"/>
                  </a:lnTo>
                  <a:lnTo>
                    <a:pt x="1423" y="5024"/>
                  </a:lnTo>
                  <a:lnTo>
                    <a:pt x="1472" y="5044"/>
                  </a:lnTo>
                  <a:lnTo>
                    <a:pt x="1524" y="5064"/>
                  </a:lnTo>
                  <a:lnTo>
                    <a:pt x="1575" y="5082"/>
                  </a:lnTo>
                  <a:lnTo>
                    <a:pt x="1628" y="5098"/>
                  </a:lnTo>
                  <a:lnTo>
                    <a:pt x="1680" y="5113"/>
                  </a:lnTo>
                  <a:lnTo>
                    <a:pt x="1733" y="5128"/>
                  </a:lnTo>
                  <a:lnTo>
                    <a:pt x="1788" y="5140"/>
                  </a:lnTo>
                  <a:lnTo>
                    <a:pt x="1843" y="5152"/>
                  </a:lnTo>
                  <a:lnTo>
                    <a:pt x="1899" y="5162"/>
                  </a:lnTo>
                  <a:lnTo>
                    <a:pt x="1955" y="5170"/>
                  </a:lnTo>
                  <a:lnTo>
                    <a:pt x="2013" y="5177"/>
                  </a:lnTo>
                  <a:lnTo>
                    <a:pt x="2070" y="5183"/>
                  </a:lnTo>
                  <a:lnTo>
                    <a:pt x="2129" y="5187"/>
                  </a:lnTo>
                  <a:lnTo>
                    <a:pt x="2188" y="5189"/>
                  </a:lnTo>
                  <a:lnTo>
                    <a:pt x="2247" y="5189"/>
                  </a:lnTo>
                  <a:lnTo>
                    <a:pt x="2308" y="5187"/>
                  </a:lnTo>
                  <a:lnTo>
                    <a:pt x="2369" y="5183"/>
                  </a:lnTo>
                  <a:lnTo>
                    <a:pt x="2431" y="5176"/>
                  </a:lnTo>
                  <a:lnTo>
                    <a:pt x="2493" y="5169"/>
                  </a:lnTo>
                  <a:lnTo>
                    <a:pt x="2557" y="5159"/>
                  </a:lnTo>
                  <a:lnTo>
                    <a:pt x="2567" y="5156"/>
                  </a:lnTo>
                  <a:lnTo>
                    <a:pt x="2596" y="5147"/>
                  </a:lnTo>
                  <a:lnTo>
                    <a:pt x="2643" y="5135"/>
                  </a:lnTo>
                  <a:lnTo>
                    <a:pt x="2703" y="5119"/>
                  </a:lnTo>
                  <a:lnTo>
                    <a:pt x="2774" y="5101"/>
                  </a:lnTo>
                  <a:lnTo>
                    <a:pt x="2853" y="5082"/>
                  </a:lnTo>
                  <a:lnTo>
                    <a:pt x="2939" y="5063"/>
                  </a:lnTo>
                  <a:lnTo>
                    <a:pt x="3028" y="5044"/>
                  </a:lnTo>
                  <a:lnTo>
                    <a:pt x="3073" y="5035"/>
                  </a:lnTo>
                  <a:lnTo>
                    <a:pt x="3117" y="5028"/>
                  </a:lnTo>
                  <a:lnTo>
                    <a:pt x="3162" y="5021"/>
                  </a:lnTo>
                  <a:lnTo>
                    <a:pt x="3205" y="5015"/>
                  </a:lnTo>
                  <a:lnTo>
                    <a:pt x="3246" y="5010"/>
                  </a:lnTo>
                  <a:lnTo>
                    <a:pt x="3287" y="5006"/>
                  </a:lnTo>
                  <a:lnTo>
                    <a:pt x="3326" y="5003"/>
                  </a:lnTo>
                  <a:lnTo>
                    <a:pt x="3362" y="5002"/>
                  </a:lnTo>
                  <a:lnTo>
                    <a:pt x="3397" y="5003"/>
                  </a:lnTo>
                  <a:lnTo>
                    <a:pt x="3428" y="5005"/>
                  </a:lnTo>
                  <a:lnTo>
                    <a:pt x="3455" y="5009"/>
                  </a:lnTo>
                  <a:lnTo>
                    <a:pt x="3480" y="5015"/>
                  </a:lnTo>
                  <a:lnTo>
                    <a:pt x="3500" y="5023"/>
                  </a:lnTo>
                  <a:lnTo>
                    <a:pt x="3517" y="5033"/>
                  </a:lnTo>
                  <a:lnTo>
                    <a:pt x="3529" y="5046"/>
                  </a:lnTo>
                  <a:lnTo>
                    <a:pt x="3536" y="5062"/>
                  </a:lnTo>
                  <a:lnTo>
                    <a:pt x="3540" y="5077"/>
                  </a:lnTo>
                  <a:lnTo>
                    <a:pt x="3541" y="5092"/>
                  </a:lnTo>
                  <a:lnTo>
                    <a:pt x="3540" y="5106"/>
                  </a:lnTo>
                  <a:lnTo>
                    <a:pt x="3537" y="5118"/>
                  </a:lnTo>
                  <a:lnTo>
                    <a:pt x="3532" y="5130"/>
                  </a:lnTo>
                  <a:lnTo>
                    <a:pt x="3526" y="5141"/>
                  </a:lnTo>
                  <a:lnTo>
                    <a:pt x="3518" y="5151"/>
                  </a:lnTo>
                  <a:lnTo>
                    <a:pt x="3508" y="5161"/>
                  </a:lnTo>
                  <a:lnTo>
                    <a:pt x="3498" y="5170"/>
                  </a:lnTo>
                  <a:lnTo>
                    <a:pt x="3486" y="5178"/>
                  </a:lnTo>
                  <a:lnTo>
                    <a:pt x="3474" y="5187"/>
                  </a:lnTo>
                  <a:lnTo>
                    <a:pt x="3461" y="5195"/>
                  </a:lnTo>
                  <a:lnTo>
                    <a:pt x="3433" y="5209"/>
                  </a:lnTo>
                  <a:lnTo>
                    <a:pt x="3404" y="5223"/>
                  </a:lnTo>
                  <a:lnTo>
                    <a:pt x="3374" y="5237"/>
                  </a:lnTo>
                  <a:lnTo>
                    <a:pt x="3346" y="5251"/>
                  </a:lnTo>
                  <a:lnTo>
                    <a:pt x="3333" y="5259"/>
                  </a:lnTo>
                  <a:lnTo>
                    <a:pt x="3321" y="5267"/>
                  </a:lnTo>
                  <a:lnTo>
                    <a:pt x="3310" y="5275"/>
                  </a:lnTo>
                  <a:lnTo>
                    <a:pt x="3299" y="5284"/>
                  </a:lnTo>
                  <a:lnTo>
                    <a:pt x="3290" y="5294"/>
                  </a:lnTo>
                  <a:lnTo>
                    <a:pt x="3282" y="5305"/>
                  </a:lnTo>
                  <a:lnTo>
                    <a:pt x="3276" y="5316"/>
                  </a:lnTo>
                  <a:lnTo>
                    <a:pt x="3271" y="5328"/>
                  </a:lnTo>
                  <a:lnTo>
                    <a:pt x="3268" y="5340"/>
                  </a:lnTo>
                  <a:lnTo>
                    <a:pt x="3267" y="5354"/>
                  </a:lnTo>
                  <a:lnTo>
                    <a:pt x="3269" y="5369"/>
                  </a:lnTo>
                  <a:lnTo>
                    <a:pt x="3272" y="5384"/>
                  </a:lnTo>
                  <a:lnTo>
                    <a:pt x="3276" y="5401"/>
                  </a:lnTo>
                  <a:lnTo>
                    <a:pt x="3281" y="5417"/>
                  </a:lnTo>
                  <a:lnTo>
                    <a:pt x="3288" y="5434"/>
                  </a:lnTo>
                  <a:lnTo>
                    <a:pt x="3294" y="5450"/>
                  </a:lnTo>
                  <a:lnTo>
                    <a:pt x="3310" y="5481"/>
                  </a:lnTo>
                  <a:lnTo>
                    <a:pt x="3326" y="5511"/>
                  </a:lnTo>
                  <a:lnTo>
                    <a:pt x="3341" y="5542"/>
                  </a:lnTo>
                  <a:lnTo>
                    <a:pt x="3356" y="5572"/>
                  </a:lnTo>
                  <a:lnTo>
                    <a:pt x="3362" y="5586"/>
                  </a:lnTo>
                  <a:lnTo>
                    <a:pt x="3367" y="5601"/>
                  </a:lnTo>
                  <a:lnTo>
                    <a:pt x="3371" y="5615"/>
                  </a:lnTo>
                  <a:lnTo>
                    <a:pt x="3374" y="5629"/>
                  </a:lnTo>
                  <a:lnTo>
                    <a:pt x="3376" y="5643"/>
                  </a:lnTo>
                  <a:lnTo>
                    <a:pt x="3376" y="5657"/>
                  </a:lnTo>
                  <a:lnTo>
                    <a:pt x="3374" y="5672"/>
                  </a:lnTo>
                  <a:lnTo>
                    <a:pt x="3370" y="5686"/>
                  </a:lnTo>
                  <a:lnTo>
                    <a:pt x="3365" y="5700"/>
                  </a:lnTo>
                  <a:lnTo>
                    <a:pt x="3357" y="5713"/>
                  </a:lnTo>
                  <a:lnTo>
                    <a:pt x="3347" y="5727"/>
                  </a:lnTo>
                  <a:lnTo>
                    <a:pt x="3335" y="5740"/>
                  </a:lnTo>
                  <a:lnTo>
                    <a:pt x="3320" y="5753"/>
                  </a:lnTo>
                  <a:lnTo>
                    <a:pt x="3302" y="5766"/>
                  </a:lnTo>
                  <a:lnTo>
                    <a:pt x="3281" y="5781"/>
                  </a:lnTo>
                  <a:lnTo>
                    <a:pt x="3256" y="5794"/>
                  </a:lnTo>
                  <a:lnTo>
                    <a:pt x="3228" y="5807"/>
                  </a:lnTo>
                  <a:lnTo>
                    <a:pt x="3198" y="5819"/>
                  </a:lnTo>
                  <a:lnTo>
                    <a:pt x="3163" y="5832"/>
                  </a:lnTo>
                  <a:lnTo>
                    <a:pt x="3124" y="5845"/>
                  </a:lnTo>
                  <a:lnTo>
                    <a:pt x="3082" y="5859"/>
                  </a:lnTo>
                  <a:lnTo>
                    <a:pt x="3037" y="5871"/>
                  </a:lnTo>
                  <a:lnTo>
                    <a:pt x="2988" y="5884"/>
                  </a:lnTo>
                  <a:lnTo>
                    <a:pt x="2938" y="5896"/>
                  </a:lnTo>
                  <a:lnTo>
                    <a:pt x="2831" y="5921"/>
                  </a:lnTo>
                  <a:lnTo>
                    <a:pt x="2719" y="5944"/>
                  </a:lnTo>
                  <a:lnTo>
                    <a:pt x="2603" y="5968"/>
                  </a:lnTo>
                  <a:lnTo>
                    <a:pt x="2485" y="5992"/>
                  </a:lnTo>
                  <a:lnTo>
                    <a:pt x="2426" y="6005"/>
                  </a:lnTo>
                  <a:lnTo>
                    <a:pt x="2367" y="6018"/>
                  </a:lnTo>
                  <a:lnTo>
                    <a:pt x="2310" y="6033"/>
                  </a:lnTo>
                  <a:lnTo>
                    <a:pt x="2253" y="6047"/>
                  </a:lnTo>
                  <a:lnTo>
                    <a:pt x="2197" y="6063"/>
                  </a:lnTo>
                  <a:lnTo>
                    <a:pt x="2143" y="6079"/>
                  </a:lnTo>
                  <a:lnTo>
                    <a:pt x="2089" y="6096"/>
                  </a:lnTo>
                  <a:lnTo>
                    <a:pt x="2039" y="6113"/>
                  </a:lnTo>
                  <a:lnTo>
                    <a:pt x="1990" y="6132"/>
                  </a:lnTo>
                  <a:lnTo>
                    <a:pt x="1944" y="6153"/>
                  </a:lnTo>
                  <a:lnTo>
                    <a:pt x="1901" y="6174"/>
                  </a:lnTo>
                  <a:lnTo>
                    <a:pt x="1860" y="6197"/>
                  </a:lnTo>
                  <a:lnTo>
                    <a:pt x="1823" y="6220"/>
                  </a:lnTo>
                  <a:lnTo>
                    <a:pt x="1789" y="6246"/>
                  </a:lnTo>
                  <a:lnTo>
                    <a:pt x="1759" y="6273"/>
                  </a:lnTo>
                  <a:lnTo>
                    <a:pt x="1733" y="6301"/>
                  </a:lnTo>
                  <a:lnTo>
                    <a:pt x="1711" y="6331"/>
                  </a:lnTo>
                  <a:lnTo>
                    <a:pt x="1694" y="6363"/>
                  </a:lnTo>
                  <a:lnTo>
                    <a:pt x="1682" y="6398"/>
                  </a:lnTo>
                  <a:lnTo>
                    <a:pt x="1675" y="6433"/>
                  </a:lnTo>
                  <a:lnTo>
                    <a:pt x="1677" y="6433"/>
                  </a:lnTo>
                  <a:lnTo>
                    <a:pt x="1682" y="6432"/>
                  </a:lnTo>
                  <a:lnTo>
                    <a:pt x="1688" y="6432"/>
                  </a:lnTo>
                  <a:lnTo>
                    <a:pt x="1694" y="6432"/>
                  </a:lnTo>
                  <a:lnTo>
                    <a:pt x="1695" y="6433"/>
                  </a:lnTo>
                  <a:lnTo>
                    <a:pt x="1696" y="6434"/>
                  </a:lnTo>
                  <a:lnTo>
                    <a:pt x="1696" y="6435"/>
                  </a:lnTo>
                  <a:lnTo>
                    <a:pt x="1695" y="6436"/>
                  </a:lnTo>
                  <a:lnTo>
                    <a:pt x="1687" y="6441"/>
                  </a:lnTo>
                  <a:lnTo>
                    <a:pt x="1671" y="6448"/>
                  </a:lnTo>
                  <a:lnTo>
                    <a:pt x="1646" y="6457"/>
                  </a:lnTo>
                  <a:lnTo>
                    <a:pt x="1607" y="6470"/>
                  </a:lnTo>
                  <a:lnTo>
                    <a:pt x="1556" y="6487"/>
                  </a:lnTo>
                  <a:lnTo>
                    <a:pt x="1488" y="6508"/>
                  </a:lnTo>
                  <a:lnTo>
                    <a:pt x="1405" y="6533"/>
                  </a:lnTo>
                  <a:lnTo>
                    <a:pt x="1301" y="6563"/>
                  </a:lnTo>
                  <a:lnTo>
                    <a:pt x="1176" y="6597"/>
                  </a:lnTo>
                  <a:lnTo>
                    <a:pt x="1029" y="6639"/>
                  </a:lnTo>
                  <a:lnTo>
                    <a:pt x="875" y="6682"/>
                  </a:lnTo>
                  <a:lnTo>
                    <a:pt x="734" y="6721"/>
                  </a:lnTo>
                  <a:lnTo>
                    <a:pt x="669" y="6742"/>
                  </a:lnTo>
                  <a:lnTo>
                    <a:pt x="607" y="6760"/>
                  </a:lnTo>
                  <a:lnTo>
                    <a:pt x="548" y="6779"/>
                  </a:lnTo>
                  <a:lnTo>
                    <a:pt x="493" y="6797"/>
                  </a:lnTo>
                  <a:lnTo>
                    <a:pt x="440" y="6815"/>
                  </a:lnTo>
                  <a:lnTo>
                    <a:pt x="392" y="6832"/>
                  </a:lnTo>
                  <a:lnTo>
                    <a:pt x="345" y="6850"/>
                  </a:lnTo>
                  <a:lnTo>
                    <a:pt x="304" y="6868"/>
                  </a:lnTo>
                  <a:lnTo>
                    <a:pt x="265" y="6886"/>
                  </a:lnTo>
                  <a:lnTo>
                    <a:pt x="228" y="6903"/>
                  </a:lnTo>
                  <a:lnTo>
                    <a:pt x="196" y="6921"/>
                  </a:lnTo>
                  <a:lnTo>
                    <a:pt x="168" y="6939"/>
                  </a:lnTo>
                  <a:lnTo>
                    <a:pt x="142" y="6957"/>
                  </a:lnTo>
                  <a:lnTo>
                    <a:pt x="120" y="6975"/>
                  </a:lnTo>
                  <a:lnTo>
                    <a:pt x="100" y="6995"/>
                  </a:lnTo>
                  <a:lnTo>
                    <a:pt x="85" y="7015"/>
                  </a:lnTo>
                  <a:lnTo>
                    <a:pt x="73" y="7034"/>
                  </a:lnTo>
                  <a:lnTo>
                    <a:pt x="64" y="7055"/>
                  </a:lnTo>
                  <a:lnTo>
                    <a:pt x="59" y="7076"/>
                  </a:lnTo>
                  <a:lnTo>
                    <a:pt x="57" y="7098"/>
                  </a:lnTo>
                  <a:lnTo>
                    <a:pt x="59" y="7121"/>
                  </a:lnTo>
                  <a:lnTo>
                    <a:pt x="63" y="7144"/>
                  </a:lnTo>
                  <a:lnTo>
                    <a:pt x="72" y="7168"/>
                  </a:lnTo>
                  <a:lnTo>
                    <a:pt x="84" y="7193"/>
                  </a:lnTo>
                  <a:lnTo>
                    <a:pt x="99" y="7220"/>
                  </a:lnTo>
                  <a:lnTo>
                    <a:pt x="119" y="7247"/>
                  </a:lnTo>
                  <a:lnTo>
                    <a:pt x="141" y="7276"/>
                  </a:lnTo>
                  <a:lnTo>
                    <a:pt x="166" y="7305"/>
                  </a:lnTo>
                  <a:lnTo>
                    <a:pt x="177" y="7311"/>
                  </a:lnTo>
                  <a:lnTo>
                    <a:pt x="209" y="7329"/>
                  </a:lnTo>
                  <a:lnTo>
                    <a:pt x="259" y="7356"/>
                  </a:lnTo>
                  <a:lnTo>
                    <a:pt x="324" y="7387"/>
                  </a:lnTo>
                  <a:lnTo>
                    <a:pt x="363" y="7405"/>
                  </a:lnTo>
                  <a:lnTo>
                    <a:pt x="403" y="7422"/>
                  </a:lnTo>
                  <a:lnTo>
                    <a:pt x="446" y="7440"/>
                  </a:lnTo>
                  <a:lnTo>
                    <a:pt x="493" y="7459"/>
                  </a:lnTo>
                  <a:lnTo>
                    <a:pt x="541" y="7476"/>
                  </a:lnTo>
                  <a:lnTo>
                    <a:pt x="591" y="7492"/>
                  </a:lnTo>
                  <a:lnTo>
                    <a:pt x="643" y="7507"/>
                  </a:lnTo>
                  <a:lnTo>
                    <a:pt x="695" y="7521"/>
                  </a:lnTo>
                  <a:lnTo>
                    <a:pt x="690" y="7526"/>
                  </a:lnTo>
                  <a:lnTo>
                    <a:pt x="677" y="7540"/>
                  </a:lnTo>
                  <a:lnTo>
                    <a:pt x="658" y="7563"/>
                  </a:lnTo>
                  <a:lnTo>
                    <a:pt x="633" y="7595"/>
                  </a:lnTo>
                  <a:lnTo>
                    <a:pt x="620" y="7613"/>
                  </a:lnTo>
                  <a:lnTo>
                    <a:pt x="606" y="7632"/>
                  </a:lnTo>
                  <a:lnTo>
                    <a:pt x="592" y="7653"/>
                  </a:lnTo>
                  <a:lnTo>
                    <a:pt x="578" y="7676"/>
                  </a:lnTo>
                  <a:lnTo>
                    <a:pt x="565" y="7700"/>
                  </a:lnTo>
                  <a:lnTo>
                    <a:pt x="552" y="7725"/>
                  </a:lnTo>
                  <a:lnTo>
                    <a:pt x="540" y="7751"/>
                  </a:lnTo>
                  <a:lnTo>
                    <a:pt x="529" y="7778"/>
                  </a:lnTo>
                  <a:lnTo>
                    <a:pt x="519" y="7806"/>
                  </a:lnTo>
                  <a:lnTo>
                    <a:pt x="511" y="7835"/>
                  </a:lnTo>
                  <a:lnTo>
                    <a:pt x="504" y="7864"/>
                  </a:lnTo>
                  <a:lnTo>
                    <a:pt x="500" y="7894"/>
                  </a:lnTo>
                  <a:lnTo>
                    <a:pt x="497" y="7924"/>
                  </a:lnTo>
                  <a:lnTo>
                    <a:pt x="497" y="7955"/>
                  </a:lnTo>
                  <a:lnTo>
                    <a:pt x="500" y="7986"/>
                  </a:lnTo>
                  <a:lnTo>
                    <a:pt x="506" y="8017"/>
                  </a:lnTo>
                  <a:lnTo>
                    <a:pt x="514" y="8048"/>
                  </a:lnTo>
                  <a:lnTo>
                    <a:pt x="526" y="8079"/>
                  </a:lnTo>
                  <a:lnTo>
                    <a:pt x="542" y="8110"/>
                  </a:lnTo>
                  <a:lnTo>
                    <a:pt x="562" y="8140"/>
                  </a:lnTo>
                  <a:lnTo>
                    <a:pt x="586" y="8169"/>
                  </a:lnTo>
                  <a:lnTo>
                    <a:pt x="615" y="8199"/>
                  </a:lnTo>
                  <a:lnTo>
                    <a:pt x="648" y="8228"/>
                  </a:lnTo>
                  <a:lnTo>
                    <a:pt x="685" y="8256"/>
                  </a:lnTo>
                  <a:lnTo>
                    <a:pt x="706" y="8257"/>
                  </a:lnTo>
                  <a:lnTo>
                    <a:pt x="764" y="8262"/>
                  </a:lnTo>
                  <a:lnTo>
                    <a:pt x="846" y="8268"/>
                  </a:lnTo>
                  <a:lnTo>
                    <a:pt x="947" y="8276"/>
                  </a:lnTo>
                  <a:lnTo>
                    <a:pt x="1057" y="8285"/>
                  </a:lnTo>
                  <a:lnTo>
                    <a:pt x="1165" y="8294"/>
                  </a:lnTo>
                  <a:lnTo>
                    <a:pt x="1263" y="8300"/>
                  </a:lnTo>
                  <a:lnTo>
                    <a:pt x="1342" y="8305"/>
                  </a:lnTo>
                  <a:lnTo>
                    <a:pt x="1347" y="8317"/>
                  </a:lnTo>
                  <a:lnTo>
                    <a:pt x="1361" y="8351"/>
                  </a:lnTo>
                  <a:lnTo>
                    <a:pt x="1369" y="8375"/>
                  </a:lnTo>
                  <a:lnTo>
                    <a:pt x="1378" y="8404"/>
                  </a:lnTo>
                  <a:lnTo>
                    <a:pt x="1386" y="8437"/>
                  </a:lnTo>
                  <a:lnTo>
                    <a:pt x="1394" y="8474"/>
                  </a:lnTo>
                  <a:lnTo>
                    <a:pt x="1396" y="8493"/>
                  </a:lnTo>
                  <a:lnTo>
                    <a:pt x="1399" y="8514"/>
                  </a:lnTo>
                  <a:lnTo>
                    <a:pt x="1401" y="8536"/>
                  </a:lnTo>
                  <a:lnTo>
                    <a:pt x="1402" y="8558"/>
                  </a:lnTo>
                  <a:lnTo>
                    <a:pt x="1403" y="8580"/>
                  </a:lnTo>
                  <a:lnTo>
                    <a:pt x="1403" y="8604"/>
                  </a:lnTo>
                  <a:lnTo>
                    <a:pt x="1402" y="8627"/>
                  </a:lnTo>
                  <a:lnTo>
                    <a:pt x="1400" y="8653"/>
                  </a:lnTo>
                  <a:lnTo>
                    <a:pt x="1397" y="8678"/>
                  </a:lnTo>
                  <a:lnTo>
                    <a:pt x="1393" y="8703"/>
                  </a:lnTo>
                  <a:lnTo>
                    <a:pt x="1388" y="8729"/>
                  </a:lnTo>
                  <a:lnTo>
                    <a:pt x="1382" y="8755"/>
                  </a:lnTo>
                  <a:lnTo>
                    <a:pt x="1374" y="8782"/>
                  </a:lnTo>
                  <a:lnTo>
                    <a:pt x="1364" y="8809"/>
                  </a:lnTo>
                  <a:lnTo>
                    <a:pt x="1353" y="8836"/>
                  </a:lnTo>
                  <a:lnTo>
                    <a:pt x="1342" y="8863"/>
                  </a:lnTo>
                  <a:lnTo>
                    <a:pt x="1343" y="8866"/>
                  </a:lnTo>
                  <a:lnTo>
                    <a:pt x="1349" y="8873"/>
                  </a:lnTo>
                  <a:lnTo>
                    <a:pt x="1359" y="8883"/>
                  </a:lnTo>
                  <a:lnTo>
                    <a:pt x="1374" y="8896"/>
                  </a:lnTo>
                  <a:lnTo>
                    <a:pt x="1382" y="8903"/>
                  </a:lnTo>
                  <a:lnTo>
                    <a:pt x="1392" y="8910"/>
                  </a:lnTo>
                  <a:lnTo>
                    <a:pt x="1402" y="8917"/>
                  </a:lnTo>
                  <a:lnTo>
                    <a:pt x="1414" y="8924"/>
                  </a:lnTo>
                  <a:lnTo>
                    <a:pt x="1427" y="8930"/>
                  </a:lnTo>
                  <a:lnTo>
                    <a:pt x="1442" y="8936"/>
                  </a:lnTo>
                  <a:lnTo>
                    <a:pt x="1457" y="8942"/>
                  </a:lnTo>
                  <a:lnTo>
                    <a:pt x="1474" y="8947"/>
                  </a:lnTo>
                  <a:lnTo>
                    <a:pt x="1492" y="8951"/>
                  </a:lnTo>
                  <a:lnTo>
                    <a:pt x="1512" y="8954"/>
                  </a:lnTo>
                  <a:lnTo>
                    <a:pt x="1532" y="8956"/>
                  </a:lnTo>
                  <a:lnTo>
                    <a:pt x="1554" y="8957"/>
                  </a:lnTo>
                  <a:lnTo>
                    <a:pt x="1577" y="8957"/>
                  </a:lnTo>
                  <a:lnTo>
                    <a:pt x="1602" y="8955"/>
                  </a:lnTo>
                  <a:lnTo>
                    <a:pt x="1629" y="8951"/>
                  </a:lnTo>
                  <a:lnTo>
                    <a:pt x="1656" y="8946"/>
                  </a:lnTo>
                  <a:lnTo>
                    <a:pt x="1685" y="8939"/>
                  </a:lnTo>
                  <a:lnTo>
                    <a:pt x="1715" y="8930"/>
                  </a:lnTo>
                  <a:lnTo>
                    <a:pt x="1747" y="8919"/>
                  </a:lnTo>
                  <a:lnTo>
                    <a:pt x="1781" y="8905"/>
                  </a:lnTo>
                  <a:lnTo>
                    <a:pt x="1815" y="8888"/>
                  </a:lnTo>
                  <a:lnTo>
                    <a:pt x="1852" y="8870"/>
                  </a:lnTo>
                  <a:lnTo>
                    <a:pt x="1890" y="8848"/>
                  </a:lnTo>
                  <a:lnTo>
                    <a:pt x="1930" y="8824"/>
                  </a:lnTo>
                  <a:lnTo>
                    <a:pt x="1944" y="8822"/>
                  </a:lnTo>
                  <a:lnTo>
                    <a:pt x="1980" y="8819"/>
                  </a:lnTo>
                  <a:lnTo>
                    <a:pt x="2004" y="8818"/>
                  </a:lnTo>
                  <a:lnTo>
                    <a:pt x="2030" y="8819"/>
                  </a:lnTo>
                  <a:lnTo>
                    <a:pt x="2043" y="8820"/>
                  </a:lnTo>
                  <a:lnTo>
                    <a:pt x="2056" y="8821"/>
                  </a:lnTo>
                  <a:lnTo>
                    <a:pt x="2069" y="8823"/>
                  </a:lnTo>
                  <a:lnTo>
                    <a:pt x="2082" y="8825"/>
                  </a:lnTo>
                  <a:lnTo>
                    <a:pt x="2095" y="8829"/>
                  </a:lnTo>
                  <a:lnTo>
                    <a:pt x="2108" y="8833"/>
                  </a:lnTo>
                  <a:lnTo>
                    <a:pt x="2119" y="8838"/>
                  </a:lnTo>
                  <a:lnTo>
                    <a:pt x="2131" y="8844"/>
                  </a:lnTo>
                  <a:lnTo>
                    <a:pt x="2141" y="8851"/>
                  </a:lnTo>
                  <a:lnTo>
                    <a:pt x="2151" y="8858"/>
                  </a:lnTo>
                  <a:lnTo>
                    <a:pt x="2159" y="8867"/>
                  </a:lnTo>
                  <a:lnTo>
                    <a:pt x="2165" y="8878"/>
                  </a:lnTo>
                  <a:lnTo>
                    <a:pt x="2170" y="8889"/>
                  </a:lnTo>
                  <a:lnTo>
                    <a:pt x="2174" y="8903"/>
                  </a:lnTo>
                  <a:lnTo>
                    <a:pt x="2176" y="8917"/>
                  </a:lnTo>
                  <a:lnTo>
                    <a:pt x="2176" y="8932"/>
                  </a:lnTo>
                  <a:lnTo>
                    <a:pt x="2174" y="8949"/>
                  </a:lnTo>
                  <a:lnTo>
                    <a:pt x="2170" y="8968"/>
                  </a:lnTo>
                  <a:lnTo>
                    <a:pt x="2164" y="8988"/>
                  </a:lnTo>
                  <a:lnTo>
                    <a:pt x="2155" y="9011"/>
                  </a:lnTo>
                  <a:lnTo>
                    <a:pt x="2155" y="9016"/>
                  </a:lnTo>
                  <a:lnTo>
                    <a:pt x="2156" y="9029"/>
                  </a:lnTo>
                  <a:lnTo>
                    <a:pt x="2159" y="9049"/>
                  </a:lnTo>
                  <a:lnTo>
                    <a:pt x="2164" y="9075"/>
                  </a:lnTo>
                  <a:lnTo>
                    <a:pt x="2169" y="9089"/>
                  </a:lnTo>
                  <a:lnTo>
                    <a:pt x="2174" y="9103"/>
                  </a:lnTo>
                  <a:lnTo>
                    <a:pt x="2180" y="9119"/>
                  </a:lnTo>
                  <a:lnTo>
                    <a:pt x="2188" y="9135"/>
                  </a:lnTo>
                  <a:lnTo>
                    <a:pt x="2198" y="9150"/>
                  </a:lnTo>
                  <a:lnTo>
                    <a:pt x="2209" y="9165"/>
                  </a:lnTo>
                  <a:lnTo>
                    <a:pt x="2222" y="9180"/>
                  </a:lnTo>
                  <a:lnTo>
                    <a:pt x="2237" y="9194"/>
                  </a:lnTo>
                  <a:lnTo>
                    <a:pt x="2254" y="9207"/>
                  </a:lnTo>
                  <a:lnTo>
                    <a:pt x="2273" y="9220"/>
                  </a:lnTo>
                  <a:lnTo>
                    <a:pt x="2294" y="9230"/>
                  </a:lnTo>
                  <a:lnTo>
                    <a:pt x="2318" y="9240"/>
                  </a:lnTo>
                  <a:lnTo>
                    <a:pt x="2344" y="9247"/>
                  </a:lnTo>
                  <a:lnTo>
                    <a:pt x="2373" y="9254"/>
                  </a:lnTo>
                  <a:lnTo>
                    <a:pt x="2405" y="9258"/>
                  </a:lnTo>
                  <a:lnTo>
                    <a:pt x="2440" y="9259"/>
                  </a:lnTo>
                  <a:lnTo>
                    <a:pt x="2478" y="9258"/>
                  </a:lnTo>
                  <a:lnTo>
                    <a:pt x="2519" y="9254"/>
                  </a:lnTo>
                  <a:lnTo>
                    <a:pt x="2563" y="9246"/>
                  </a:lnTo>
                  <a:lnTo>
                    <a:pt x="2611" y="9235"/>
                  </a:lnTo>
                  <a:lnTo>
                    <a:pt x="2663" y="9221"/>
                  </a:lnTo>
                  <a:lnTo>
                    <a:pt x="2718" y="9204"/>
                  </a:lnTo>
                  <a:lnTo>
                    <a:pt x="2778" y="9183"/>
                  </a:lnTo>
                  <a:lnTo>
                    <a:pt x="2840" y="9158"/>
                  </a:lnTo>
                  <a:lnTo>
                    <a:pt x="2850" y="9153"/>
                  </a:lnTo>
                  <a:lnTo>
                    <a:pt x="2875" y="9139"/>
                  </a:lnTo>
                  <a:lnTo>
                    <a:pt x="2916" y="9116"/>
                  </a:lnTo>
                  <a:lnTo>
                    <a:pt x="2967" y="9090"/>
                  </a:lnTo>
                  <a:lnTo>
                    <a:pt x="3028" y="9060"/>
                  </a:lnTo>
                  <a:lnTo>
                    <a:pt x="3094" y="9028"/>
                  </a:lnTo>
                  <a:lnTo>
                    <a:pt x="3165" y="8994"/>
                  </a:lnTo>
                  <a:lnTo>
                    <a:pt x="3236" y="8964"/>
                  </a:lnTo>
                  <a:lnTo>
                    <a:pt x="3272" y="8950"/>
                  </a:lnTo>
                  <a:lnTo>
                    <a:pt x="3306" y="8937"/>
                  </a:lnTo>
                  <a:lnTo>
                    <a:pt x="3340" y="8925"/>
                  </a:lnTo>
                  <a:lnTo>
                    <a:pt x="3372" y="8915"/>
                  </a:lnTo>
                  <a:lnTo>
                    <a:pt x="3403" y="8906"/>
                  </a:lnTo>
                  <a:lnTo>
                    <a:pt x="3431" y="8900"/>
                  </a:lnTo>
                  <a:lnTo>
                    <a:pt x="3457" y="8895"/>
                  </a:lnTo>
                  <a:lnTo>
                    <a:pt x="3481" y="8893"/>
                  </a:lnTo>
                  <a:lnTo>
                    <a:pt x="3501" y="8894"/>
                  </a:lnTo>
                  <a:lnTo>
                    <a:pt x="3520" y="8898"/>
                  </a:lnTo>
                  <a:lnTo>
                    <a:pt x="3533" y="8904"/>
                  </a:lnTo>
                  <a:lnTo>
                    <a:pt x="3543" y="8914"/>
                  </a:lnTo>
                  <a:lnTo>
                    <a:pt x="3548" y="8927"/>
                  </a:lnTo>
                  <a:lnTo>
                    <a:pt x="3549" y="8944"/>
                  </a:lnTo>
                  <a:lnTo>
                    <a:pt x="3545" y="8965"/>
                  </a:lnTo>
                  <a:lnTo>
                    <a:pt x="3536" y="8990"/>
                  </a:lnTo>
                  <a:lnTo>
                    <a:pt x="3532" y="8997"/>
                  </a:lnTo>
                  <a:lnTo>
                    <a:pt x="3520" y="9015"/>
                  </a:lnTo>
                  <a:lnTo>
                    <a:pt x="3499" y="9042"/>
                  </a:lnTo>
                  <a:lnTo>
                    <a:pt x="3473" y="9078"/>
                  </a:lnTo>
                  <a:lnTo>
                    <a:pt x="3439" y="9122"/>
                  </a:lnTo>
                  <a:lnTo>
                    <a:pt x="3400" y="9173"/>
                  </a:lnTo>
                  <a:lnTo>
                    <a:pt x="3354" y="9229"/>
                  </a:lnTo>
                  <a:lnTo>
                    <a:pt x="3304" y="9289"/>
                  </a:lnTo>
                  <a:lnTo>
                    <a:pt x="3276" y="9319"/>
                  </a:lnTo>
                  <a:lnTo>
                    <a:pt x="3247" y="9350"/>
                  </a:lnTo>
                  <a:lnTo>
                    <a:pt x="3218" y="9383"/>
                  </a:lnTo>
                  <a:lnTo>
                    <a:pt x="3188" y="9414"/>
                  </a:lnTo>
                  <a:lnTo>
                    <a:pt x="3157" y="9446"/>
                  </a:lnTo>
                  <a:lnTo>
                    <a:pt x="3124" y="9478"/>
                  </a:lnTo>
                  <a:lnTo>
                    <a:pt x="3091" y="9510"/>
                  </a:lnTo>
                  <a:lnTo>
                    <a:pt x="3057" y="9541"/>
                  </a:lnTo>
                  <a:lnTo>
                    <a:pt x="3022" y="9571"/>
                  </a:lnTo>
                  <a:lnTo>
                    <a:pt x="2986" y="9601"/>
                  </a:lnTo>
                  <a:lnTo>
                    <a:pt x="2950" y="9630"/>
                  </a:lnTo>
                  <a:lnTo>
                    <a:pt x="2914" y="9658"/>
                  </a:lnTo>
                  <a:lnTo>
                    <a:pt x="2876" y="9684"/>
                  </a:lnTo>
                  <a:lnTo>
                    <a:pt x="2839" y="9709"/>
                  </a:lnTo>
                  <a:lnTo>
                    <a:pt x="2801" y="9734"/>
                  </a:lnTo>
                  <a:lnTo>
                    <a:pt x="2763" y="9755"/>
                  </a:lnTo>
                  <a:lnTo>
                    <a:pt x="2748" y="9760"/>
                  </a:lnTo>
                  <a:lnTo>
                    <a:pt x="2707" y="9774"/>
                  </a:lnTo>
                  <a:lnTo>
                    <a:pt x="2643" y="9796"/>
                  </a:lnTo>
                  <a:lnTo>
                    <a:pt x="2558" y="9826"/>
                  </a:lnTo>
                  <a:lnTo>
                    <a:pt x="2455" y="9864"/>
                  </a:lnTo>
                  <a:lnTo>
                    <a:pt x="2337" y="9907"/>
                  </a:lnTo>
                  <a:lnTo>
                    <a:pt x="2208" y="9955"/>
                  </a:lnTo>
                  <a:lnTo>
                    <a:pt x="2069" y="10009"/>
                  </a:lnTo>
                  <a:lnTo>
                    <a:pt x="1924" y="10066"/>
                  </a:lnTo>
                  <a:lnTo>
                    <a:pt x="1776" y="10127"/>
                  </a:lnTo>
                  <a:lnTo>
                    <a:pt x="1701" y="10158"/>
                  </a:lnTo>
                  <a:lnTo>
                    <a:pt x="1628" y="10190"/>
                  </a:lnTo>
                  <a:lnTo>
                    <a:pt x="1554" y="10223"/>
                  </a:lnTo>
                  <a:lnTo>
                    <a:pt x="1481" y="10256"/>
                  </a:lnTo>
                  <a:lnTo>
                    <a:pt x="1410" y="10288"/>
                  </a:lnTo>
                  <a:lnTo>
                    <a:pt x="1340" y="10321"/>
                  </a:lnTo>
                  <a:lnTo>
                    <a:pt x="1273" y="10355"/>
                  </a:lnTo>
                  <a:lnTo>
                    <a:pt x="1208" y="10388"/>
                  </a:lnTo>
                  <a:lnTo>
                    <a:pt x="1146" y="10421"/>
                  </a:lnTo>
                  <a:lnTo>
                    <a:pt x="1086" y="10455"/>
                  </a:lnTo>
                  <a:lnTo>
                    <a:pt x="1031" y="10487"/>
                  </a:lnTo>
                  <a:lnTo>
                    <a:pt x="979" y="10519"/>
                  </a:lnTo>
                  <a:lnTo>
                    <a:pt x="971" y="10521"/>
                  </a:lnTo>
                  <a:lnTo>
                    <a:pt x="950" y="10525"/>
                  </a:lnTo>
                  <a:lnTo>
                    <a:pt x="915" y="10533"/>
                  </a:lnTo>
                  <a:lnTo>
                    <a:pt x="869" y="10543"/>
                  </a:lnTo>
                  <a:lnTo>
                    <a:pt x="813" y="10557"/>
                  </a:lnTo>
                  <a:lnTo>
                    <a:pt x="750" y="10575"/>
                  </a:lnTo>
                  <a:lnTo>
                    <a:pt x="679" y="10595"/>
                  </a:lnTo>
                  <a:lnTo>
                    <a:pt x="603" y="10618"/>
                  </a:lnTo>
                  <a:lnTo>
                    <a:pt x="564" y="10630"/>
                  </a:lnTo>
                  <a:lnTo>
                    <a:pt x="524" y="10644"/>
                  </a:lnTo>
                  <a:lnTo>
                    <a:pt x="483" y="10658"/>
                  </a:lnTo>
                  <a:lnTo>
                    <a:pt x="443" y="10673"/>
                  </a:lnTo>
                  <a:lnTo>
                    <a:pt x="402" y="10690"/>
                  </a:lnTo>
                  <a:lnTo>
                    <a:pt x="361" y="10707"/>
                  </a:lnTo>
                  <a:lnTo>
                    <a:pt x="321" y="10725"/>
                  </a:lnTo>
                  <a:lnTo>
                    <a:pt x="281" y="10743"/>
                  </a:lnTo>
                  <a:lnTo>
                    <a:pt x="242" y="10762"/>
                  </a:lnTo>
                  <a:lnTo>
                    <a:pt x="203" y="10782"/>
                  </a:lnTo>
                  <a:lnTo>
                    <a:pt x="165" y="10803"/>
                  </a:lnTo>
                  <a:lnTo>
                    <a:pt x="129" y="10826"/>
                  </a:lnTo>
                  <a:lnTo>
                    <a:pt x="94" y="10848"/>
                  </a:lnTo>
                  <a:lnTo>
                    <a:pt x="61" y="10872"/>
                  </a:lnTo>
                  <a:lnTo>
                    <a:pt x="29" y="10896"/>
                  </a:lnTo>
                  <a:lnTo>
                    <a:pt x="0" y="10921"/>
                  </a:lnTo>
                  <a:lnTo>
                    <a:pt x="7" y="10919"/>
                  </a:lnTo>
                  <a:lnTo>
                    <a:pt x="28" y="10915"/>
                  </a:lnTo>
                  <a:lnTo>
                    <a:pt x="60" y="10909"/>
                  </a:lnTo>
                  <a:lnTo>
                    <a:pt x="105" y="10901"/>
                  </a:lnTo>
                  <a:lnTo>
                    <a:pt x="161" y="10890"/>
                  </a:lnTo>
                  <a:lnTo>
                    <a:pt x="225" y="10879"/>
                  </a:lnTo>
                  <a:lnTo>
                    <a:pt x="299" y="10866"/>
                  </a:lnTo>
                  <a:lnTo>
                    <a:pt x="381" y="10853"/>
                  </a:lnTo>
                  <a:lnTo>
                    <a:pt x="468" y="10839"/>
                  </a:lnTo>
                  <a:lnTo>
                    <a:pt x="563" y="10825"/>
                  </a:lnTo>
                  <a:lnTo>
                    <a:pt x="662" y="10811"/>
                  </a:lnTo>
                  <a:lnTo>
                    <a:pt x="765" y="10797"/>
                  </a:lnTo>
                  <a:lnTo>
                    <a:pt x="870" y="10784"/>
                  </a:lnTo>
                  <a:lnTo>
                    <a:pt x="977" y="10773"/>
                  </a:lnTo>
                  <a:lnTo>
                    <a:pt x="1086" y="10763"/>
                  </a:lnTo>
                  <a:lnTo>
                    <a:pt x="1195" y="10755"/>
                  </a:lnTo>
                  <a:lnTo>
                    <a:pt x="1252" y="10749"/>
                  </a:lnTo>
                  <a:lnTo>
                    <a:pt x="1314" y="10741"/>
                  </a:lnTo>
                  <a:lnTo>
                    <a:pt x="1381" y="10729"/>
                  </a:lnTo>
                  <a:lnTo>
                    <a:pt x="1452" y="10715"/>
                  </a:lnTo>
                  <a:lnTo>
                    <a:pt x="1528" y="10698"/>
                  </a:lnTo>
                  <a:lnTo>
                    <a:pt x="1607" y="10677"/>
                  </a:lnTo>
                  <a:lnTo>
                    <a:pt x="1690" y="10654"/>
                  </a:lnTo>
                  <a:lnTo>
                    <a:pt x="1777" y="10630"/>
                  </a:lnTo>
                  <a:lnTo>
                    <a:pt x="1866" y="10603"/>
                  </a:lnTo>
                  <a:lnTo>
                    <a:pt x="1958" y="10574"/>
                  </a:lnTo>
                  <a:lnTo>
                    <a:pt x="2052" y="10542"/>
                  </a:lnTo>
                  <a:lnTo>
                    <a:pt x="2148" y="10510"/>
                  </a:lnTo>
                  <a:lnTo>
                    <a:pt x="2245" y="10476"/>
                  </a:lnTo>
                  <a:lnTo>
                    <a:pt x="2344" y="10439"/>
                  </a:lnTo>
                  <a:lnTo>
                    <a:pt x="2444" y="10402"/>
                  </a:lnTo>
                  <a:lnTo>
                    <a:pt x="2544" y="10364"/>
                  </a:lnTo>
                  <a:lnTo>
                    <a:pt x="2645" y="10324"/>
                  </a:lnTo>
                  <a:lnTo>
                    <a:pt x="2745" y="10284"/>
                  </a:lnTo>
                  <a:lnTo>
                    <a:pt x="2845" y="10244"/>
                  </a:lnTo>
                  <a:lnTo>
                    <a:pt x="2945" y="10202"/>
                  </a:lnTo>
                  <a:lnTo>
                    <a:pt x="3044" y="10160"/>
                  </a:lnTo>
                  <a:lnTo>
                    <a:pt x="3141" y="10119"/>
                  </a:lnTo>
                  <a:lnTo>
                    <a:pt x="3236" y="10076"/>
                  </a:lnTo>
                  <a:lnTo>
                    <a:pt x="3330" y="10034"/>
                  </a:lnTo>
                  <a:lnTo>
                    <a:pt x="3421" y="9992"/>
                  </a:lnTo>
                  <a:lnTo>
                    <a:pt x="3509" y="9950"/>
                  </a:lnTo>
                  <a:lnTo>
                    <a:pt x="3595" y="9909"/>
                  </a:lnTo>
                  <a:lnTo>
                    <a:pt x="3678" y="9869"/>
                  </a:lnTo>
                  <a:lnTo>
                    <a:pt x="3756" y="9829"/>
                  </a:lnTo>
                  <a:lnTo>
                    <a:pt x="3831" y="9790"/>
                  </a:lnTo>
                  <a:lnTo>
                    <a:pt x="3902" y="9753"/>
                  </a:lnTo>
                  <a:lnTo>
                    <a:pt x="3967" y="9716"/>
                  </a:lnTo>
                  <a:lnTo>
                    <a:pt x="3983" y="9712"/>
                  </a:lnTo>
                  <a:lnTo>
                    <a:pt x="4029" y="9701"/>
                  </a:lnTo>
                  <a:lnTo>
                    <a:pt x="4098" y="9684"/>
                  </a:lnTo>
                  <a:lnTo>
                    <a:pt x="4187" y="9660"/>
                  </a:lnTo>
                  <a:lnTo>
                    <a:pt x="4237" y="9646"/>
                  </a:lnTo>
                  <a:lnTo>
                    <a:pt x="4291" y="9631"/>
                  </a:lnTo>
                  <a:lnTo>
                    <a:pt x="4346" y="9615"/>
                  </a:lnTo>
                  <a:lnTo>
                    <a:pt x="4405" y="9596"/>
                  </a:lnTo>
                  <a:lnTo>
                    <a:pt x="4463" y="9577"/>
                  </a:lnTo>
                  <a:lnTo>
                    <a:pt x="4523" y="9557"/>
                  </a:lnTo>
                  <a:lnTo>
                    <a:pt x="4582" y="9535"/>
                  </a:lnTo>
                  <a:lnTo>
                    <a:pt x="4640" y="9513"/>
                  </a:lnTo>
                  <a:lnTo>
                    <a:pt x="4698" y="9490"/>
                  </a:lnTo>
                  <a:lnTo>
                    <a:pt x="4754" y="9465"/>
                  </a:lnTo>
                  <a:lnTo>
                    <a:pt x="4808" y="9440"/>
                  </a:lnTo>
                  <a:lnTo>
                    <a:pt x="4858" y="9414"/>
                  </a:lnTo>
                  <a:lnTo>
                    <a:pt x="4905" y="9387"/>
                  </a:lnTo>
                  <a:lnTo>
                    <a:pt x="4947" y="9359"/>
                  </a:lnTo>
                  <a:lnTo>
                    <a:pt x="4984" y="9331"/>
                  </a:lnTo>
                  <a:lnTo>
                    <a:pt x="5016" y="9303"/>
                  </a:lnTo>
                  <a:lnTo>
                    <a:pt x="5043" y="9274"/>
                  </a:lnTo>
                  <a:lnTo>
                    <a:pt x="5063" y="9243"/>
                  </a:lnTo>
                  <a:lnTo>
                    <a:pt x="5075" y="9214"/>
                  </a:lnTo>
                  <a:lnTo>
                    <a:pt x="5079" y="9183"/>
                  </a:lnTo>
                  <a:lnTo>
                    <a:pt x="5075" y="9153"/>
                  </a:lnTo>
                  <a:lnTo>
                    <a:pt x="5062" y="9121"/>
                  </a:lnTo>
                  <a:lnTo>
                    <a:pt x="5039" y="9090"/>
                  </a:lnTo>
                  <a:lnTo>
                    <a:pt x="5005" y="9059"/>
                  </a:lnTo>
                  <a:lnTo>
                    <a:pt x="5002" y="9058"/>
                  </a:lnTo>
                  <a:lnTo>
                    <a:pt x="4993" y="9053"/>
                  </a:lnTo>
                  <a:lnTo>
                    <a:pt x="4979" y="9045"/>
                  </a:lnTo>
                  <a:lnTo>
                    <a:pt x="4963" y="9035"/>
                  </a:lnTo>
                  <a:lnTo>
                    <a:pt x="4946" y="9023"/>
                  </a:lnTo>
                  <a:lnTo>
                    <a:pt x="4929" y="9007"/>
                  </a:lnTo>
                  <a:lnTo>
                    <a:pt x="4921" y="8999"/>
                  </a:lnTo>
                  <a:lnTo>
                    <a:pt x="4914" y="8991"/>
                  </a:lnTo>
                  <a:lnTo>
                    <a:pt x="4907" y="8982"/>
                  </a:lnTo>
                  <a:lnTo>
                    <a:pt x="4902" y="8973"/>
                  </a:lnTo>
                  <a:lnTo>
                    <a:pt x="4897" y="8964"/>
                  </a:lnTo>
                  <a:lnTo>
                    <a:pt x="4894" y="8955"/>
                  </a:lnTo>
                  <a:lnTo>
                    <a:pt x="4893" y="8945"/>
                  </a:lnTo>
                  <a:lnTo>
                    <a:pt x="4894" y="8935"/>
                  </a:lnTo>
                  <a:lnTo>
                    <a:pt x="4896" y="8925"/>
                  </a:lnTo>
                  <a:lnTo>
                    <a:pt x="4902" y="8915"/>
                  </a:lnTo>
                  <a:lnTo>
                    <a:pt x="4909" y="8905"/>
                  </a:lnTo>
                  <a:lnTo>
                    <a:pt x="4919" y="8895"/>
                  </a:lnTo>
                  <a:lnTo>
                    <a:pt x="4931" y="8883"/>
                  </a:lnTo>
                  <a:lnTo>
                    <a:pt x="4947" y="8873"/>
                  </a:lnTo>
                  <a:lnTo>
                    <a:pt x="4965" y="8863"/>
                  </a:lnTo>
                  <a:lnTo>
                    <a:pt x="4987" y="8853"/>
                  </a:lnTo>
                  <a:lnTo>
                    <a:pt x="5013" y="8843"/>
                  </a:lnTo>
                  <a:lnTo>
                    <a:pt x="5043" y="8833"/>
                  </a:lnTo>
                  <a:lnTo>
                    <a:pt x="5076" y="8824"/>
                  </a:lnTo>
                  <a:lnTo>
                    <a:pt x="5113" y="8815"/>
                  </a:lnTo>
                  <a:lnTo>
                    <a:pt x="5124" y="8808"/>
                  </a:lnTo>
                  <a:lnTo>
                    <a:pt x="5155" y="8789"/>
                  </a:lnTo>
                  <a:lnTo>
                    <a:pt x="5202" y="8758"/>
                  </a:lnTo>
                  <a:lnTo>
                    <a:pt x="5264" y="8718"/>
                  </a:lnTo>
                  <a:lnTo>
                    <a:pt x="5340" y="8669"/>
                  </a:lnTo>
                  <a:lnTo>
                    <a:pt x="5427" y="8612"/>
                  </a:lnTo>
                  <a:lnTo>
                    <a:pt x="5520" y="8549"/>
                  </a:lnTo>
                  <a:lnTo>
                    <a:pt x="5620" y="8479"/>
                  </a:lnTo>
                  <a:lnTo>
                    <a:pt x="5723" y="8405"/>
                  </a:lnTo>
                  <a:lnTo>
                    <a:pt x="5828" y="8329"/>
                  </a:lnTo>
                  <a:lnTo>
                    <a:pt x="5879" y="8289"/>
                  </a:lnTo>
                  <a:lnTo>
                    <a:pt x="5931" y="8249"/>
                  </a:lnTo>
                  <a:lnTo>
                    <a:pt x="5981" y="8210"/>
                  </a:lnTo>
                  <a:lnTo>
                    <a:pt x="6030" y="8169"/>
                  </a:lnTo>
                  <a:lnTo>
                    <a:pt x="6079" y="8130"/>
                  </a:lnTo>
                  <a:lnTo>
                    <a:pt x="6124" y="8090"/>
                  </a:lnTo>
                  <a:lnTo>
                    <a:pt x="6169" y="8050"/>
                  </a:lnTo>
                  <a:lnTo>
                    <a:pt x="6210" y="8011"/>
                  </a:lnTo>
                  <a:lnTo>
                    <a:pt x="6249" y="7974"/>
                  </a:lnTo>
                  <a:lnTo>
                    <a:pt x="6286" y="7936"/>
                  </a:lnTo>
                  <a:lnTo>
                    <a:pt x="6318" y="7899"/>
                  </a:lnTo>
                  <a:lnTo>
                    <a:pt x="6348" y="7864"/>
                  </a:lnTo>
                  <a:lnTo>
                    <a:pt x="6354" y="7861"/>
                  </a:lnTo>
                  <a:lnTo>
                    <a:pt x="6375" y="7853"/>
                  </a:lnTo>
                  <a:lnTo>
                    <a:pt x="6408" y="7841"/>
                  </a:lnTo>
                  <a:lnTo>
                    <a:pt x="6455" y="7826"/>
                  </a:lnTo>
                  <a:lnTo>
                    <a:pt x="6513" y="7808"/>
                  </a:lnTo>
                  <a:lnTo>
                    <a:pt x="6583" y="7789"/>
                  </a:lnTo>
                  <a:lnTo>
                    <a:pt x="6622" y="7779"/>
                  </a:lnTo>
                  <a:lnTo>
                    <a:pt x="6664" y="7769"/>
                  </a:lnTo>
                  <a:lnTo>
                    <a:pt x="6708" y="7759"/>
                  </a:lnTo>
                  <a:lnTo>
                    <a:pt x="6754" y="7750"/>
                  </a:lnTo>
                  <a:lnTo>
                    <a:pt x="6803" y="7741"/>
                  </a:lnTo>
                  <a:lnTo>
                    <a:pt x="6854" y="7732"/>
                  </a:lnTo>
                  <a:lnTo>
                    <a:pt x="6907" y="7724"/>
                  </a:lnTo>
                  <a:lnTo>
                    <a:pt x="6964" y="7716"/>
                  </a:lnTo>
                  <a:lnTo>
                    <a:pt x="7021" y="7710"/>
                  </a:lnTo>
                  <a:lnTo>
                    <a:pt x="7081" y="7704"/>
                  </a:lnTo>
                  <a:lnTo>
                    <a:pt x="7143" y="7699"/>
                  </a:lnTo>
                  <a:lnTo>
                    <a:pt x="7207" y="7695"/>
                  </a:lnTo>
                  <a:lnTo>
                    <a:pt x="7272" y="7691"/>
                  </a:lnTo>
                  <a:lnTo>
                    <a:pt x="7340" y="7690"/>
                  </a:lnTo>
                  <a:lnTo>
                    <a:pt x="7409" y="7690"/>
                  </a:lnTo>
                  <a:lnTo>
                    <a:pt x="7480" y="7692"/>
                  </a:lnTo>
                  <a:lnTo>
                    <a:pt x="7553" y="7696"/>
                  </a:lnTo>
                  <a:lnTo>
                    <a:pt x="7626" y="7701"/>
                  </a:lnTo>
                  <a:lnTo>
                    <a:pt x="7701" y="7708"/>
                  </a:lnTo>
                  <a:lnTo>
                    <a:pt x="7777" y="7717"/>
                  </a:lnTo>
                  <a:lnTo>
                    <a:pt x="7782" y="7719"/>
                  </a:lnTo>
                  <a:lnTo>
                    <a:pt x="7794" y="7726"/>
                  </a:lnTo>
                  <a:lnTo>
                    <a:pt x="7814" y="7736"/>
                  </a:lnTo>
                  <a:lnTo>
                    <a:pt x="7837" y="7750"/>
                  </a:lnTo>
                  <a:lnTo>
                    <a:pt x="7863" y="7766"/>
                  </a:lnTo>
                  <a:lnTo>
                    <a:pt x="7890" y="7785"/>
                  </a:lnTo>
                  <a:lnTo>
                    <a:pt x="7903" y="7795"/>
                  </a:lnTo>
                  <a:lnTo>
                    <a:pt x="7917" y="7805"/>
                  </a:lnTo>
                  <a:lnTo>
                    <a:pt x="7930" y="7817"/>
                  </a:lnTo>
                  <a:lnTo>
                    <a:pt x="7942" y="7827"/>
                  </a:lnTo>
                  <a:lnTo>
                    <a:pt x="7953" y="7839"/>
                  </a:lnTo>
                  <a:lnTo>
                    <a:pt x="7963" y="7850"/>
                  </a:lnTo>
                  <a:lnTo>
                    <a:pt x="7971" y="7861"/>
                  </a:lnTo>
                  <a:lnTo>
                    <a:pt x="7978" y="7872"/>
                  </a:lnTo>
                  <a:lnTo>
                    <a:pt x="7983" y="7883"/>
                  </a:lnTo>
                  <a:lnTo>
                    <a:pt x="7985" y="7894"/>
                  </a:lnTo>
                  <a:lnTo>
                    <a:pt x="7986" y="7905"/>
                  </a:lnTo>
                  <a:lnTo>
                    <a:pt x="7984" y="7915"/>
                  </a:lnTo>
                  <a:lnTo>
                    <a:pt x="7980" y="7925"/>
                  </a:lnTo>
                  <a:lnTo>
                    <a:pt x="7973" y="7936"/>
                  </a:lnTo>
                  <a:lnTo>
                    <a:pt x="7962" y="7945"/>
                  </a:lnTo>
                  <a:lnTo>
                    <a:pt x="7949" y="7954"/>
                  </a:lnTo>
                  <a:lnTo>
                    <a:pt x="7931" y="7962"/>
                  </a:lnTo>
                  <a:lnTo>
                    <a:pt x="7910" y="7969"/>
                  </a:lnTo>
                  <a:lnTo>
                    <a:pt x="7885" y="7976"/>
                  </a:lnTo>
                  <a:lnTo>
                    <a:pt x="7856" y="7982"/>
                  </a:lnTo>
                  <a:lnTo>
                    <a:pt x="7844" y="7981"/>
                  </a:lnTo>
                  <a:lnTo>
                    <a:pt x="7811" y="7981"/>
                  </a:lnTo>
                  <a:lnTo>
                    <a:pt x="7757" y="7981"/>
                  </a:lnTo>
                  <a:lnTo>
                    <a:pt x="7687" y="7982"/>
                  </a:lnTo>
                  <a:lnTo>
                    <a:pt x="7602" y="7986"/>
                  </a:lnTo>
                  <a:lnTo>
                    <a:pt x="7506" y="7991"/>
                  </a:lnTo>
                  <a:lnTo>
                    <a:pt x="7454" y="7995"/>
                  </a:lnTo>
                  <a:lnTo>
                    <a:pt x="7400" y="7999"/>
                  </a:lnTo>
                  <a:lnTo>
                    <a:pt x="7345" y="8004"/>
                  </a:lnTo>
                  <a:lnTo>
                    <a:pt x="7287" y="8011"/>
                  </a:lnTo>
                  <a:lnTo>
                    <a:pt x="7230" y="8018"/>
                  </a:lnTo>
                  <a:lnTo>
                    <a:pt x="7172" y="8027"/>
                  </a:lnTo>
                  <a:lnTo>
                    <a:pt x="7112" y="8036"/>
                  </a:lnTo>
                  <a:lnTo>
                    <a:pt x="7054" y="8047"/>
                  </a:lnTo>
                  <a:lnTo>
                    <a:pt x="6994" y="8060"/>
                  </a:lnTo>
                  <a:lnTo>
                    <a:pt x="6937" y="8074"/>
                  </a:lnTo>
                  <a:lnTo>
                    <a:pt x="6879" y="8089"/>
                  </a:lnTo>
                  <a:lnTo>
                    <a:pt x="6823" y="8106"/>
                  </a:lnTo>
                  <a:lnTo>
                    <a:pt x="6768" y="8124"/>
                  </a:lnTo>
                  <a:lnTo>
                    <a:pt x="6716" y="8144"/>
                  </a:lnTo>
                  <a:lnTo>
                    <a:pt x="6665" y="8165"/>
                  </a:lnTo>
                  <a:lnTo>
                    <a:pt x="6617" y="8190"/>
                  </a:lnTo>
                  <a:lnTo>
                    <a:pt x="6571" y="8216"/>
                  </a:lnTo>
                  <a:lnTo>
                    <a:pt x="6529" y="8243"/>
                  </a:lnTo>
                  <a:lnTo>
                    <a:pt x="6490" y="8273"/>
                  </a:lnTo>
                  <a:lnTo>
                    <a:pt x="6455" y="8305"/>
                  </a:lnTo>
                  <a:lnTo>
                    <a:pt x="6447" y="8318"/>
                  </a:lnTo>
                  <a:lnTo>
                    <a:pt x="6423" y="8351"/>
                  </a:lnTo>
                  <a:lnTo>
                    <a:pt x="6406" y="8374"/>
                  </a:lnTo>
                  <a:lnTo>
                    <a:pt x="6386" y="8399"/>
                  </a:lnTo>
                  <a:lnTo>
                    <a:pt x="6363" y="8427"/>
                  </a:lnTo>
                  <a:lnTo>
                    <a:pt x="6338" y="8456"/>
                  </a:lnTo>
                  <a:lnTo>
                    <a:pt x="6310" y="8484"/>
                  </a:lnTo>
                  <a:lnTo>
                    <a:pt x="6280" y="8513"/>
                  </a:lnTo>
                  <a:lnTo>
                    <a:pt x="6264" y="8526"/>
                  </a:lnTo>
                  <a:lnTo>
                    <a:pt x="6248" y="8541"/>
                  </a:lnTo>
                  <a:lnTo>
                    <a:pt x="6232" y="8553"/>
                  </a:lnTo>
                  <a:lnTo>
                    <a:pt x="6216" y="8566"/>
                  </a:lnTo>
                  <a:lnTo>
                    <a:pt x="6199" y="8577"/>
                  </a:lnTo>
                  <a:lnTo>
                    <a:pt x="6181" y="8588"/>
                  </a:lnTo>
                  <a:lnTo>
                    <a:pt x="6164" y="8597"/>
                  </a:lnTo>
                  <a:lnTo>
                    <a:pt x="6145" y="8606"/>
                  </a:lnTo>
                  <a:lnTo>
                    <a:pt x="6128" y="8613"/>
                  </a:lnTo>
                  <a:lnTo>
                    <a:pt x="6110" y="8620"/>
                  </a:lnTo>
                  <a:lnTo>
                    <a:pt x="6092" y="8624"/>
                  </a:lnTo>
                  <a:lnTo>
                    <a:pt x="6073" y="8628"/>
                  </a:lnTo>
                  <a:lnTo>
                    <a:pt x="6069" y="8634"/>
                  </a:lnTo>
                  <a:lnTo>
                    <a:pt x="6059" y="8650"/>
                  </a:lnTo>
                  <a:lnTo>
                    <a:pt x="6045" y="8676"/>
                  </a:lnTo>
                  <a:lnTo>
                    <a:pt x="6027" y="8709"/>
                  </a:lnTo>
                  <a:lnTo>
                    <a:pt x="6018" y="8727"/>
                  </a:lnTo>
                  <a:lnTo>
                    <a:pt x="6010" y="8746"/>
                  </a:lnTo>
                  <a:lnTo>
                    <a:pt x="6002" y="8766"/>
                  </a:lnTo>
                  <a:lnTo>
                    <a:pt x="5995" y="8788"/>
                  </a:lnTo>
                  <a:lnTo>
                    <a:pt x="5989" y="8809"/>
                  </a:lnTo>
                  <a:lnTo>
                    <a:pt x="5984" y="8830"/>
                  </a:lnTo>
                  <a:lnTo>
                    <a:pt x="5980" y="8852"/>
                  </a:lnTo>
                  <a:lnTo>
                    <a:pt x="5979" y="8873"/>
                  </a:lnTo>
                  <a:lnTo>
                    <a:pt x="5979" y="8895"/>
                  </a:lnTo>
                  <a:lnTo>
                    <a:pt x="5982" y="8915"/>
                  </a:lnTo>
                  <a:lnTo>
                    <a:pt x="5987" y="8934"/>
                  </a:lnTo>
                  <a:lnTo>
                    <a:pt x="5995" y="8952"/>
                  </a:lnTo>
                  <a:lnTo>
                    <a:pt x="6006" y="8968"/>
                  </a:lnTo>
                  <a:lnTo>
                    <a:pt x="6020" y="8983"/>
                  </a:lnTo>
                  <a:lnTo>
                    <a:pt x="6039" y="8997"/>
                  </a:lnTo>
                  <a:lnTo>
                    <a:pt x="6061" y="9008"/>
                  </a:lnTo>
                  <a:lnTo>
                    <a:pt x="6087" y="9018"/>
                  </a:lnTo>
                  <a:lnTo>
                    <a:pt x="6117" y="9025"/>
                  </a:lnTo>
                  <a:lnTo>
                    <a:pt x="6152" y="9029"/>
                  </a:lnTo>
                  <a:lnTo>
                    <a:pt x="6192" y="9030"/>
                  </a:lnTo>
                  <a:lnTo>
                    <a:pt x="6237" y="9028"/>
                  </a:lnTo>
                  <a:lnTo>
                    <a:pt x="6288" y="9023"/>
                  </a:lnTo>
                  <a:lnTo>
                    <a:pt x="6344" y="9014"/>
                  </a:lnTo>
                  <a:lnTo>
                    <a:pt x="6406" y="9000"/>
                  </a:lnTo>
                  <a:lnTo>
                    <a:pt x="6419" y="8997"/>
                  </a:lnTo>
                  <a:lnTo>
                    <a:pt x="6455" y="8987"/>
                  </a:lnTo>
                  <a:lnTo>
                    <a:pt x="6511" y="8971"/>
                  </a:lnTo>
                  <a:lnTo>
                    <a:pt x="6585" y="8950"/>
                  </a:lnTo>
                  <a:lnTo>
                    <a:pt x="6673" y="8924"/>
                  </a:lnTo>
                  <a:lnTo>
                    <a:pt x="6771" y="8894"/>
                  </a:lnTo>
                  <a:lnTo>
                    <a:pt x="6877" y="8860"/>
                  </a:lnTo>
                  <a:lnTo>
                    <a:pt x="6989" y="8823"/>
                  </a:lnTo>
                  <a:lnTo>
                    <a:pt x="7046" y="8804"/>
                  </a:lnTo>
                  <a:lnTo>
                    <a:pt x="7102" y="8784"/>
                  </a:lnTo>
                  <a:lnTo>
                    <a:pt x="7158" y="8763"/>
                  </a:lnTo>
                  <a:lnTo>
                    <a:pt x="7215" y="8742"/>
                  </a:lnTo>
                  <a:lnTo>
                    <a:pt x="7269" y="8722"/>
                  </a:lnTo>
                  <a:lnTo>
                    <a:pt x="7323" y="8701"/>
                  </a:lnTo>
                  <a:lnTo>
                    <a:pt x="7374" y="8679"/>
                  </a:lnTo>
                  <a:lnTo>
                    <a:pt x="7423" y="8658"/>
                  </a:lnTo>
                  <a:lnTo>
                    <a:pt x="7469" y="8636"/>
                  </a:lnTo>
                  <a:lnTo>
                    <a:pt x="7513" y="8614"/>
                  </a:lnTo>
                  <a:lnTo>
                    <a:pt x="7553" y="8593"/>
                  </a:lnTo>
                  <a:lnTo>
                    <a:pt x="7590" y="8572"/>
                  </a:lnTo>
                  <a:lnTo>
                    <a:pt x="7621" y="8552"/>
                  </a:lnTo>
                  <a:lnTo>
                    <a:pt x="7649" y="8530"/>
                  </a:lnTo>
                  <a:lnTo>
                    <a:pt x="7673" y="8510"/>
                  </a:lnTo>
                  <a:lnTo>
                    <a:pt x="7690" y="8491"/>
                  </a:lnTo>
                  <a:lnTo>
                    <a:pt x="7695" y="8486"/>
                  </a:lnTo>
                  <a:lnTo>
                    <a:pt x="7710" y="8472"/>
                  </a:lnTo>
                  <a:lnTo>
                    <a:pt x="7734" y="8452"/>
                  </a:lnTo>
                  <a:lnTo>
                    <a:pt x="7768" y="8427"/>
                  </a:lnTo>
                  <a:lnTo>
                    <a:pt x="7788" y="8414"/>
                  </a:lnTo>
                  <a:lnTo>
                    <a:pt x="7811" y="8399"/>
                  </a:lnTo>
                  <a:lnTo>
                    <a:pt x="7835" y="8384"/>
                  </a:lnTo>
                  <a:lnTo>
                    <a:pt x="7861" y="8370"/>
                  </a:lnTo>
                  <a:lnTo>
                    <a:pt x="7889" y="8356"/>
                  </a:lnTo>
                  <a:lnTo>
                    <a:pt x="7919" y="8342"/>
                  </a:lnTo>
                  <a:lnTo>
                    <a:pt x="7952" y="8329"/>
                  </a:lnTo>
                  <a:lnTo>
                    <a:pt x="7986" y="8317"/>
                  </a:lnTo>
                  <a:lnTo>
                    <a:pt x="8021" y="8307"/>
                  </a:lnTo>
                  <a:lnTo>
                    <a:pt x="8060" y="8297"/>
                  </a:lnTo>
                  <a:lnTo>
                    <a:pt x="8098" y="8289"/>
                  </a:lnTo>
                  <a:lnTo>
                    <a:pt x="8139" y="8283"/>
                  </a:lnTo>
                  <a:lnTo>
                    <a:pt x="8182" y="8279"/>
                  </a:lnTo>
                  <a:lnTo>
                    <a:pt x="8226" y="8278"/>
                  </a:lnTo>
                  <a:lnTo>
                    <a:pt x="8271" y="8280"/>
                  </a:lnTo>
                  <a:lnTo>
                    <a:pt x="8318" y="8284"/>
                  </a:lnTo>
                  <a:lnTo>
                    <a:pt x="8366" y="8291"/>
                  </a:lnTo>
                  <a:lnTo>
                    <a:pt x="8415" y="8303"/>
                  </a:lnTo>
                  <a:lnTo>
                    <a:pt x="8466" y="8317"/>
                  </a:lnTo>
                  <a:lnTo>
                    <a:pt x="8518" y="8336"/>
                  </a:lnTo>
                  <a:lnTo>
                    <a:pt x="8572" y="8358"/>
                  </a:lnTo>
                  <a:lnTo>
                    <a:pt x="8626" y="8384"/>
                  </a:lnTo>
                  <a:lnTo>
                    <a:pt x="8682" y="8416"/>
                  </a:lnTo>
                  <a:lnTo>
                    <a:pt x="8738" y="8452"/>
                  </a:lnTo>
                  <a:lnTo>
                    <a:pt x="8758" y="8462"/>
                  </a:lnTo>
                  <a:lnTo>
                    <a:pt x="8817" y="8490"/>
                  </a:lnTo>
                  <a:lnTo>
                    <a:pt x="8908" y="8534"/>
                  </a:lnTo>
                  <a:lnTo>
                    <a:pt x="9027" y="8589"/>
                  </a:lnTo>
                  <a:lnTo>
                    <a:pt x="9169" y="8655"/>
                  </a:lnTo>
                  <a:lnTo>
                    <a:pt x="9330" y="8727"/>
                  </a:lnTo>
                  <a:lnTo>
                    <a:pt x="9414" y="8764"/>
                  </a:lnTo>
                  <a:lnTo>
                    <a:pt x="9502" y="8803"/>
                  </a:lnTo>
                  <a:lnTo>
                    <a:pt x="9592" y="8842"/>
                  </a:lnTo>
                  <a:lnTo>
                    <a:pt x="9682" y="8880"/>
                  </a:lnTo>
                  <a:lnTo>
                    <a:pt x="9774" y="8919"/>
                  </a:lnTo>
                  <a:lnTo>
                    <a:pt x="9866" y="8956"/>
                  </a:lnTo>
                  <a:lnTo>
                    <a:pt x="9958" y="8993"/>
                  </a:lnTo>
                  <a:lnTo>
                    <a:pt x="10047" y="9028"/>
                  </a:lnTo>
                  <a:lnTo>
                    <a:pt x="10135" y="9061"/>
                  </a:lnTo>
                  <a:lnTo>
                    <a:pt x="10221" y="9092"/>
                  </a:lnTo>
                  <a:lnTo>
                    <a:pt x="10303" y="9120"/>
                  </a:lnTo>
                  <a:lnTo>
                    <a:pt x="10382" y="9147"/>
                  </a:lnTo>
                  <a:lnTo>
                    <a:pt x="10457" y="9169"/>
                  </a:lnTo>
                  <a:lnTo>
                    <a:pt x="10526" y="9188"/>
                  </a:lnTo>
                  <a:lnTo>
                    <a:pt x="10591" y="9203"/>
                  </a:lnTo>
                  <a:lnTo>
                    <a:pt x="10648" y="9213"/>
                  </a:lnTo>
                  <a:lnTo>
                    <a:pt x="10700" y="9219"/>
                  </a:lnTo>
                  <a:lnTo>
                    <a:pt x="10743" y="9220"/>
                  </a:lnTo>
                  <a:lnTo>
                    <a:pt x="10778" y="9216"/>
                  </a:lnTo>
                  <a:lnTo>
                    <a:pt x="10804" y="9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Freeform 270"/>
            <p:cNvSpPr/>
            <p:nvPr/>
          </p:nvSpPr>
          <p:spPr>
            <a:xfrm>
              <a:off x="5902200" y="3657600"/>
              <a:ext cx="398160" cy="366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4755" h="12587">
                  <a:moveTo>
                    <a:pt x="10804" y="9206"/>
                  </a:moveTo>
                  <a:lnTo>
                    <a:pt x="10830" y="9194"/>
                  </a:lnTo>
                  <a:lnTo>
                    <a:pt x="10894" y="9163"/>
                  </a:lnTo>
                  <a:lnTo>
                    <a:pt x="10938" y="9144"/>
                  </a:lnTo>
                  <a:lnTo>
                    <a:pt x="10988" y="9124"/>
                  </a:lnTo>
                  <a:lnTo>
                    <a:pt x="11014" y="9114"/>
                  </a:lnTo>
                  <a:lnTo>
                    <a:pt x="11041" y="9105"/>
                  </a:lnTo>
                  <a:lnTo>
                    <a:pt x="11069" y="9096"/>
                  </a:lnTo>
                  <a:lnTo>
                    <a:pt x="11098" y="9087"/>
                  </a:lnTo>
                  <a:lnTo>
                    <a:pt x="11126" y="9080"/>
                  </a:lnTo>
                  <a:lnTo>
                    <a:pt x="11154" y="9073"/>
                  </a:lnTo>
                  <a:lnTo>
                    <a:pt x="11182" y="9068"/>
                  </a:lnTo>
                  <a:lnTo>
                    <a:pt x="11210" y="9063"/>
                  </a:lnTo>
                  <a:lnTo>
                    <a:pt x="11237" y="9061"/>
                  </a:lnTo>
                  <a:lnTo>
                    <a:pt x="11263" y="9059"/>
                  </a:lnTo>
                  <a:lnTo>
                    <a:pt x="11288" y="9060"/>
                  </a:lnTo>
                  <a:lnTo>
                    <a:pt x="11312" y="9062"/>
                  </a:lnTo>
                  <a:lnTo>
                    <a:pt x="11336" y="9066"/>
                  </a:lnTo>
                  <a:lnTo>
                    <a:pt x="11357" y="9073"/>
                  </a:lnTo>
                  <a:lnTo>
                    <a:pt x="11377" y="9081"/>
                  </a:lnTo>
                  <a:lnTo>
                    <a:pt x="11394" y="9093"/>
                  </a:lnTo>
                  <a:lnTo>
                    <a:pt x="11410" y="9107"/>
                  </a:lnTo>
                  <a:lnTo>
                    <a:pt x="11423" y="9124"/>
                  </a:lnTo>
                  <a:lnTo>
                    <a:pt x="11433" y="9144"/>
                  </a:lnTo>
                  <a:lnTo>
                    <a:pt x="11441" y="9167"/>
                  </a:lnTo>
                  <a:lnTo>
                    <a:pt x="11451" y="9194"/>
                  </a:lnTo>
                  <a:lnTo>
                    <a:pt x="11464" y="9224"/>
                  </a:lnTo>
                  <a:lnTo>
                    <a:pt x="11482" y="9257"/>
                  </a:lnTo>
                  <a:lnTo>
                    <a:pt x="11504" y="9293"/>
                  </a:lnTo>
                  <a:lnTo>
                    <a:pt x="11529" y="9331"/>
                  </a:lnTo>
                  <a:lnTo>
                    <a:pt x="11558" y="9373"/>
                  </a:lnTo>
                  <a:lnTo>
                    <a:pt x="11590" y="9415"/>
                  </a:lnTo>
                  <a:lnTo>
                    <a:pt x="11625" y="9459"/>
                  </a:lnTo>
                  <a:lnTo>
                    <a:pt x="11662" y="9506"/>
                  </a:lnTo>
                  <a:lnTo>
                    <a:pt x="11701" y="9553"/>
                  </a:lnTo>
                  <a:lnTo>
                    <a:pt x="11742" y="9600"/>
                  </a:lnTo>
                  <a:lnTo>
                    <a:pt x="11784" y="9650"/>
                  </a:lnTo>
                  <a:lnTo>
                    <a:pt x="11872" y="9748"/>
                  </a:lnTo>
                  <a:lnTo>
                    <a:pt x="11962" y="9844"/>
                  </a:lnTo>
                  <a:lnTo>
                    <a:pt x="12050" y="9938"/>
                  </a:lnTo>
                  <a:lnTo>
                    <a:pt x="12136" y="10027"/>
                  </a:lnTo>
                  <a:lnTo>
                    <a:pt x="12215" y="10109"/>
                  </a:lnTo>
                  <a:lnTo>
                    <a:pt x="12286" y="10180"/>
                  </a:lnTo>
                  <a:lnTo>
                    <a:pt x="12346" y="10240"/>
                  </a:lnTo>
                  <a:lnTo>
                    <a:pt x="12391" y="10285"/>
                  </a:lnTo>
                  <a:lnTo>
                    <a:pt x="12420" y="10313"/>
                  </a:lnTo>
                  <a:lnTo>
                    <a:pt x="12430" y="10323"/>
                  </a:lnTo>
                  <a:lnTo>
                    <a:pt x="13175" y="9775"/>
                  </a:lnTo>
                  <a:lnTo>
                    <a:pt x="14066" y="11647"/>
                  </a:lnTo>
                  <a:lnTo>
                    <a:pt x="14076" y="11684"/>
                  </a:lnTo>
                  <a:lnTo>
                    <a:pt x="14083" y="11717"/>
                  </a:lnTo>
                  <a:lnTo>
                    <a:pt x="14085" y="11733"/>
                  </a:lnTo>
                  <a:lnTo>
                    <a:pt x="14087" y="11748"/>
                  </a:lnTo>
                  <a:lnTo>
                    <a:pt x="14088" y="11763"/>
                  </a:lnTo>
                  <a:lnTo>
                    <a:pt x="14089" y="11777"/>
                  </a:lnTo>
                  <a:lnTo>
                    <a:pt x="14088" y="11791"/>
                  </a:lnTo>
                  <a:lnTo>
                    <a:pt x="14088" y="11804"/>
                  </a:lnTo>
                  <a:lnTo>
                    <a:pt x="14086" y="11817"/>
                  </a:lnTo>
                  <a:lnTo>
                    <a:pt x="14084" y="11829"/>
                  </a:lnTo>
                  <a:lnTo>
                    <a:pt x="14082" y="11842"/>
                  </a:lnTo>
                  <a:lnTo>
                    <a:pt x="14078" y="11854"/>
                  </a:lnTo>
                  <a:lnTo>
                    <a:pt x="14074" y="11867"/>
                  </a:lnTo>
                  <a:lnTo>
                    <a:pt x="14070" y="11879"/>
                  </a:lnTo>
                  <a:lnTo>
                    <a:pt x="14059" y="11905"/>
                  </a:lnTo>
                  <a:lnTo>
                    <a:pt x="14046" y="11930"/>
                  </a:lnTo>
                  <a:lnTo>
                    <a:pt x="14031" y="11957"/>
                  </a:lnTo>
                  <a:lnTo>
                    <a:pt x="14013" y="11985"/>
                  </a:lnTo>
                  <a:lnTo>
                    <a:pt x="13971" y="12050"/>
                  </a:lnTo>
                  <a:lnTo>
                    <a:pt x="13920" y="12127"/>
                  </a:lnTo>
                  <a:lnTo>
                    <a:pt x="13906" y="12149"/>
                  </a:lnTo>
                  <a:lnTo>
                    <a:pt x="13896" y="12171"/>
                  </a:lnTo>
                  <a:lnTo>
                    <a:pt x="13887" y="12192"/>
                  </a:lnTo>
                  <a:lnTo>
                    <a:pt x="13882" y="12214"/>
                  </a:lnTo>
                  <a:lnTo>
                    <a:pt x="13878" y="12235"/>
                  </a:lnTo>
                  <a:lnTo>
                    <a:pt x="13876" y="12257"/>
                  </a:lnTo>
                  <a:lnTo>
                    <a:pt x="13876" y="12278"/>
                  </a:lnTo>
                  <a:lnTo>
                    <a:pt x="13878" y="12298"/>
                  </a:lnTo>
                  <a:lnTo>
                    <a:pt x="13882" y="12318"/>
                  </a:lnTo>
                  <a:lnTo>
                    <a:pt x="13887" y="12338"/>
                  </a:lnTo>
                  <a:lnTo>
                    <a:pt x="13893" y="12357"/>
                  </a:lnTo>
                  <a:lnTo>
                    <a:pt x="13900" y="12376"/>
                  </a:lnTo>
                  <a:lnTo>
                    <a:pt x="13909" y="12394"/>
                  </a:lnTo>
                  <a:lnTo>
                    <a:pt x="13918" y="12412"/>
                  </a:lnTo>
                  <a:lnTo>
                    <a:pt x="13928" y="12429"/>
                  </a:lnTo>
                  <a:lnTo>
                    <a:pt x="13939" y="12445"/>
                  </a:lnTo>
                  <a:lnTo>
                    <a:pt x="13950" y="12461"/>
                  </a:lnTo>
                  <a:lnTo>
                    <a:pt x="13962" y="12476"/>
                  </a:lnTo>
                  <a:lnTo>
                    <a:pt x="13974" y="12491"/>
                  </a:lnTo>
                  <a:lnTo>
                    <a:pt x="13986" y="12504"/>
                  </a:lnTo>
                  <a:lnTo>
                    <a:pt x="14009" y="12528"/>
                  </a:lnTo>
                  <a:lnTo>
                    <a:pt x="14030" y="12548"/>
                  </a:lnTo>
                  <a:lnTo>
                    <a:pt x="14063" y="12577"/>
                  </a:lnTo>
                  <a:lnTo>
                    <a:pt x="14076" y="12587"/>
                  </a:lnTo>
                  <a:lnTo>
                    <a:pt x="14084" y="12578"/>
                  </a:lnTo>
                  <a:lnTo>
                    <a:pt x="14108" y="12553"/>
                  </a:lnTo>
                  <a:lnTo>
                    <a:pt x="14143" y="12514"/>
                  </a:lnTo>
                  <a:lnTo>
                    <a:pt x="14189" y="12462"/>
                  </a:lnTo>
                  <a:lnTo>
                    <a:pt x="14243" y="12400"/>
                  </a:lnTo>
                  <a:lnTo>
                    <a:pt x="14303" y="12330"/>
                  </a:lnTo>
                  <a:lnTo>
                    <a:pt x="14368" y="12254"/>
                  </a:lnTo>
                  <a:lnTo>
                    <a:pt x="14433" y="12173"/>
                  </a:lnTo>
                  <a:lnTo>
                    <a:pt x="14465" y="12133"/>
                  </a:lnTo>
                  <a:lnTo>
                    <a:pt x="14498" y="12091"/>
                  </a:lnTo>
                  <a:lnTo>
                    <a:pt x="14529" y="12050"/>
                  </a:lnTo>
                  <a:lnTo>
                    <a:pt x="14560" y="12009"/>
                  </a:lnTo>
                  <a:lnTo>
                    <a:pt x="14589" y="11968"/>
                  </a:lnTo>
                  <a:lnTo>
                    <a:pt x="14618" y="11928"/>
                  </a:lnTo>
                  <a:lnTo>
                    <a:pt x="14643" y="11889"/>
                  </a:lnTo>
                  <a:lnTo>
                    <a:pt x="14667" y="11851"/>
                  </a:lnTo>
                  <a:lnTo>
                    <a:pt x="14689" y="11815"/>
                  </a:lnTo>
                  <a:lnTo>
                    <a:pt x="14708" y="11781"/>
                  </a:lnTo>
                  <a:lnTo>
                    <a:pt x="14724" y="11748"/>
                  </a:lnTo>
                  <a:lnTo>
                    <a:pt x="14738" y="11719"/>
                  </a:lnTo>
                  <a:lnTo>
                    <a:pt x="14747" y="11692"/>
                  </a:lnTo>
                  <a:lnTo>
                    <a:pt x="14753" y="11667"/>
                  </a:lnTo>
                  <a:lnTo>
                    <a:pt x="14755" y="11646"/>
                  </a:lnTo>
                  <a:lnTo>
                    <a:pt x="14753" y="11627"/>
                  </a:lnTo>
                  <a:lnTo>
                    <a:pt x="14736" y="11615"/>
                  </a:lnTo>
                  <a:lnTo>
                    <a:pt x="14690" y="11582"/>
                  </a:lnTo>
                  <a:lnTo>
                    <a:pt x="14659" y="11557"/>
                  </a:lnTo>
                  <a:lnTo>
                    <a:pt x="14624" y="11527"/>
                  </a:lnTo>
                  <a:lnTo>
                    <a:pt x="14605" y="11509"/>
                  </a:lnTo>
                  <a:lnTo>
                    <a:pt x="14585" y="11490"/>
                  </a:lnTo>
                  <a:lnTo>
                    <a:pt x="14565" y="11470"/>
                  </a:lnTo>
                  <a:lnTo>
                    <a:pt x="14545" y="11449"/>
                  </a:lnTo>
                  <a:lnTo>
                    <a:pt x="14525" y="11427"/>
                  </a:lnTo>
                  <a:lnTo>
                    <a:pt x="14504" y="11404"/>
                  </a:lnTo>
                  <a:lnTo>
                    <a:pt x="14484" y="11378"/>
                  </a:lnTo>
                  <a:lnTo>
                    <a:pt x="14463" y="11352"/>
                  </a:lnTo>
                  <a:lnTo>
                    <a:pt x="14442" y="11324"/>
                  </a:lnTo>
                  <a:lnTo>
                    <a:pt x="14423" y="11296"/>
                  </a:lnTo>
                  <a:lnTo>
                    <a:pt x="14403" y="11265"/>
                  </a:lnTo>
                  <a:lnTo>
                    <a:pt x="14385" y="11234"/>
                  </a:lnTo>
                  <a:lnTo>
                    <a:pt x="14367" y="11202"/>
                  </a:lnTo>
                  <a:lnTo>
                    <a:pt x="14350" y="11169"/>
                  </a:lnTo>
                  <a:lnTo>
                    <a:pt x="14333" y="11133"/>
                  </a:lnTo>
                  <a:lnTo>
                    <a:pt x="14318" y="11097"/>
                  </a:lnTo>
                  <a:lnTo>
                    <a:pt x="14304" y="11060"/>
                  </a:lnTo>
                  <a:lnTo>
                    <a:pt x="14292" y="11021"/>
                  </a:lnTo>
                  <a:lnTo>
                    <a:pt x="14281" y="10982"/>
                  </a:lnTo>
                  <a:lnTo>
                    <a:pt x="14272" y="10941"/>
                  </a:lnTo>
                  <a:lnTo>
                    <a:pt x="14265" y="10924"/>
                  </a:lnTo>
                  <a:lnTo>
                    <a:pt x="14243" y="10876"/>
                  </a:lnTo>
                  <a:lnTo>
                    <a:pt x="14207" y="10801"/>
                  </a:lnTo>
                  <a:lnTo>
                    <a:pt x="14162" y="10705"/>
                  </a:lnTo>
                  <a:lnTo>
                    <a:pt x="14106" y="10589"/>
                  </a:lnTo>
                  <a:lnTo>
                    <a:pt x="14041" y="10459"/>
                  </a:lnTo>
                  <a:lnTo>
                    <a:pt x="13969" y="10318"/>
                  </a:lnTo>
                  <a:lnTo>
                    <a:pt x="13893" y="10171"/>
                  </a:lnTo>
                  <a:lnTo>
                    <a:pt x="13853" y="10098"/>
                  </a:lnTo>
                  <a:lnTo>
                    <a:pt x="13812" y="10024"/>
                  </a:lnTo>
                  <a:lnTo>
                    <a:pt x="13771" y="9950"/>
                  </a:lnTo>
                  <a:lnTo>
                    <a:pt x="13729" y="9878"/>
                  </a:lnTo>
                  <a:lnTo>
                    <a:pt x="13687" y="9807"/>
                  </a:lnTo>
                  <a:lnTo>
                    <a:pt x="13645" y="9739"/>
                  </a:lnTo>
                  <a:lnTo>
                    <a:pt x="13603" y="9672"/>
                  </a:lnTo>
                  <a:lnTo>
                    <a:pt x="13561" y="9610"/>
                  </a:lnTo>
                  <a:lnTo>
                    <a:pt x="13521" y="9551"/>
                  </a:lnTo>
                  <a:lnTo>
                    <a:pt x="13480" y="9496"/>
                  </a:lnTo>
                  <a:lnTo>
                    <a:pt x="13440" y="9446"/>
                  </a:lnTo>
                  <a:lnTo>
                    <a:pt x="13402" y="9401"/>
                  </a:lnTo>
                  <a:lnTo>
                    <a:pt x="13365" y="9362"/>
                  </a:lnTo>
                  <a:lnTo>
                    <a:pt x="13329" y="9329"/>
                  </a:lnTo>
                  <a:lnTo>
                    <a:pt x="13295" y="9303"/>
                  </a:lnTo>
                  <a:lnTo>
                    <a:pt x="13263" y="9285"/>
                  </a:lnTo>
                  <a:lnTo>
                    <a:pt x="13258" y="9288"/>
                  </a:lnTo>
                  <a:lnTo>
                    <a:pt x="13241" y="9296"/>
                  </a:lnTo>
                  <a:lnTo>
                    <a:pt x="13213" y="9309"/>
                  </a:lnTo>
                  <a:lnTo>
                    <a:pt x="13177" y="9326"/>
                  </a:lnTo>
                  <a:lnTo>
                    <a:pt x="13133" y="9346"/>
                  </a:lnTo>
                  <a:lnTo>
                    <a:pt x="13081" y="9368"/>
                  </a:lnTo>
                  <a:lnTo>
                    <a:pt x="13023" y="9393"/>
                  </a:lnTo>
                  <a:lnTo>
                    <a:pt x="12960" y="9417"/>
                  </a:lnTo>
                  <a:lnTo>
                    <a:pt x="12894" y="9442"/>
                  </a:lnTo>
                  <a:lnTo>
                    <a:pt x="12824" y="9465"/>
                  </a:lnTo>
                  <a:lnTo>
                    <a:pt x="12789" y="9477"/>
                  </a:lnTo>
                  <a:lnTo>
                    <a:pt x="12753" y="9488"/>
                  </a:lnTo>
                  <a:lnTo>
                    <a:pt x="12717" y="9499"/>
                  </a:lnTo>
                  <a:lnTo>
                    <a:pt x="12680" y="9508"/>
                  </a:lnTo>
                  <a:lnTo>
                    <a:pt x="12644" y="9517"/>
                  </a:lnTo>
                  <a:lnTo>
                    <a:pt x="12608" y="9525"/>
                  </a:lnTo>
                  <a:lnTo>
                    <a:pt x="12572" y="9532"/>
                  </a:lnTo>
                  <a:lnTo>
                    <a:pt x="12537" y="9538"/>
                  </a:lnTo>
                  <a:lnTo>
                    <a:pt x="12502" y="9543"/>
                  </a:lnTo>
                  <a:lnTo>
                    <a:pt x="12468" y="9546"/>
                  </a:lnTo>
                  <a:lnTo>
                    <a:pt x="12434" y="9549"/>
                  </a:lnTo>
                  <a:lnTo>
                    <a:pt x="12401" y="9549"/>
                  </a:lnTo>
                  <a:lnTo>
                    <a:pt x="12391" y="9540"/>
                  </a:lnTo>
                  <a:lnTo>
                    <a:pt x="12361" y="9514"/>
                  </a:lnTo>
                  <a:lnTo>
                    <a:pt x="12314" y="9473"/>
                  </a:lnTo>
                  <a:lnTo>
                    <a:pt x="12252" y="9420"/>
                  </a:lnTo>
                  <a:lnTo>
                    <a:pt x="12177" y="9356"/>
                  </a:lnTo>
                  <a:lnTo>
                    <a:pt x="12092" y="9284"/>
                  </a:lnTo>
                  <a:lnTo>
                    <a:pt x="11998" y="9205"/>
                  </a:lnTo>
                  <a:lnTo>
                    <a:pt x="11898" y="9123"/>
                  </a:lnTo>
                  <a:lnTo>
                    <a:pt x="11794" y="9039"/>
                  </a:lnTo>
                  <a:lnTo>
                    <a:pt x="11688" y="8955"/>
                  </a:lnTo>
                  <a:lnTo>
                    <a:pt x="11635" y="8914"/>
                  </a:lnTo>
                  <a:lnTo>
                    <a:pt x="11583" y="8873"/>
                  </a:lnTo>
                  <a:lnTo>
                    <a:pt x="11531" y="8835"/>
                  </a:lnTo>
                  <a:lnTo>
                    <a:pt x="11480" y="8797"/>
                  </a:lnTo>
                  <a:lnTo>
                    <a:pt x="11430" y="8761"/>
                  </a:lnTo>
                  <a:lnTo>
                    <a:pt x="11382" y="8727"/>
                  </a:lnTo>
                  <a:lnTo>
                    <a:pt x="11335" y="8695"/>
                  </a:lnTo>
                  <a:lnTo>
                    <a:pt x="11290" y="8666"/>
                  </a:lnTo>
                  <a:lnTo>
                    <a:pt x="11248" y="8639"/>
                  </a:lnTo>
                  <a:lnTo>
                    <a:pt x="11209" y="8616"/>
                  </a:lnTo>
                  <a:lnTo>
                    <a:pt x="11171" y="8596"/>
                  </a:lnTo>
                  <a:lnTo>
                    <a:pt x="11138" y="8579"/>
                  </a:lnTo>
                  <a:lnTo>
                    <a:pt x="10736" y="8510"/>
                  </a:lnTo>
                  <a:lnTo>
                    <a:pt x="13783" y="1661"/>
                  </a:lnTo>
                  <a:lnTo>
                    <a:pt x="13780" y="1657"/>
                  </a:lnTo>
                  <a:lnTo>
                    <a:pt x="13771" y="1647"/>
                  </a:lnTo>
                  <a:lnTo>
                    <a:pt x="13757" y="1632"/>
                  </a:lnTo>
                  <a:lnTo>
                    <a:pt x="13736" y="1614"/>
                  </a:lnTo>
                  <a:lnTo>
                    <a:pt x="13723" y="1603"/>
                  </a:lnTo>
                  <a:lnTo>
                    <a:pt x="13708" y="1592"/>
                  </a:lnTo>
                  <a:lnTo>
                    <a:pt x="13692" y="1580"/>
                  </a:lnTo>
                  <a:lnTo>
                    <a:pt x="13674" y="1569"/>
                  </a:lnTo>
                  <a:lnTo>
                    <a:pt x="13654" y="1558"/>
                  </a:lnTo>
                  <a:lnTo>
                    <a:pt x="13633" y="1546"/>
                  </a:lnTo>
                  <a:lnTo>
                    <a:pt x="13610" y="1535"/>
                  </a:lnTo>
                  <a:lnTo>
                    <a:pt x="13584" y="1525"/>
                  </a:lnTo>
                  <a:lnTo>
                    <a:pt x="13557" y="1515"/>
                  </a:lnTo>
                  <a:lnTo>
                    <a:pt x="13528" y="1506"/>
                  </a:lnTo>
                  <a:lnTo>
                    <a:pt x="13497" y="1497"/>
                  </a:lnTo>
                  <a:lnTo>
                    <a:pt x="13463" y="1490"/>
                  </a:lnTo>
                  <a:lnTo>
                    <a:pt x="13429" y="1484"/>
                  </a:lnTo>
                  <a:lnTo>
                    <a:pt x="13392" y="1480"/>
                  </a:lnTo>
                  <a:lnTo>
                    <a:pt x="13353" y="1477"/>
                  </a:lnTo>
                  <a:lnTo>
                    <a:pt x="13311" y="1475"/>
                  </a:lnTo>
                  <a:lnTo>
                    <a:pt x="13268" y="1476"/>
                  </a:lnTo>
                  <a:lnTo>
                    <a:pt x="13223" y="1478"/>
                  </a:lnTo>
                  <a:lnTo>
                    <a:pt x="13174" y="1483"/>
                  </a:lnTo>
                  <a:lnTo>
                    <a:pt x="13125" y="1489"/>
                  </a:lnTo>
                  <a:lnTo>
                    <a:pt x="13072" y="1499"/>
                  </a:lnTo>
                  <a:lnTo>
                    <a:pt x="13017" y="1511"/>
                  </a:lnTo>
                  <a:lnTo>
                    <a:pt x="12960" y="1525"/>
                  </a:lnTo>
                  <a:lnTo>
                    <a:pt x="12901" y="1543"/>
                  </a:lnTo>
                  <a:lnTo>
                    <a:pt x="12894" y="1543"/>
                  </a:lnTo>
                  <a:lnTo>
                    <a:pt x="12874" y="1543"/>
                  </a:lnTo>
                  <a:lnTo>
                    <a:pt x="12842" y="1541"/>
                  </a:lnTo>
                  <a:lnTo>
                    <a:pt x="12799" y="1539"/>
                  </a:lnTo>
                  <a:lnTo>
                    <a:pt x="12748" y="1536"/>
                  </a:lnTo>
                  <a:lnTo>
                    <a:pt x="12688" y="1531"/>
                  </a:lnTo>
                  <a:lnTo>
                    <a:pt x="12624" y="1523"/>
                  </a:lnTo>
                  <a:lnTo>
                    <a:pt x="12554" y="1514"/>
                  </a:lnTo>
                  <a:lnTo>
                    <a:pt x="12518" y="1508"/>
                  </a:lnTo>
                  <a:lnTo>
                    <a:pt x="12482" y="1501"/>
                  </a:lnTo>
                  <a:lnTo>
                    <a:pt x="12444" y="1494"/>
                  </a:lnTo>
                  <a:lnTo>
                    <a:pt x="12408" y="1486"/>
                  </a:lnTo>
                  <a:lnTo>
                    <a:pt x="12371" y="1477"/>
                  </a:lnTo>
                  <a:lnTo>
                    <a:pt x="12334" y="1466"/>
                  </a:lnTo>
                  <a:lnTo>
                    <a:pt x="12296" y="1455"/>
                  </a:lnTo>
                  <a:lnTo>
                    <a:pt x="12260" y="1444"/>
                  </a:lnTo>
                  <a:lnTo>
                    <a:pt x="12225" y="1431"/>
                  </a:lnTo>
                  <a:lnTo>
                    <a:pt x="12190" y="1417"/>
                  </a:lnTo>
                  <a:lnTo>
                    <a:pt x="12156" y="1402"/>
                  </a:lnTo>
                  <a:lnTo>
                    <a:pt x="12124" y="1386"/>
                  </a:lnTo>
                  <a:lnTo>
                    <a:pt x="12093" y="1368"/>
                  </a:lnTo>
                  <a:lnTo>
                    <a:pt x="12063" y="1349"/>
                  </a:lnTo>
                  <a:lnTo>
                    <a:pt x="12035" y="1329"/>
                  </a:lnTo>
                  <a:lnTo>
                    <a:pt x="12010" y="1308"/>
                  </a:lnTo>
                  <a:lnTo>
                    <a:pt x="11983" y="1307"/>
                  </a:lnTo>
                  <a:lnTo>
                    <a:pt x="11911" y="1302"/>
                  </a:lnTo>
                  <a:lnTo>
                    <a:pt x="11864" y="1298"/>
                  </a:lnTo>
                  <a:lnTo>
                    <a:pt x="11810" y="1291"/>
                  </a:lnTo>
                  <a:lnTo>
                    <a:pt x="11782" y="1287"/>
                  </a:lnTo>
                  <a:lnTo>
                    <a:pt x="11754" y="1283"/>
                  </a:lnTo>
                  <a:lnTo>
                    <a:pt x="11725" y="1277"/>
                  </a:lnTo>
                  <a:lnTo>
                    <a:pt x="11694" y="1271"/>
                  </a:lnTo>
                  <a:lnTo>
                    <a:pt x="11665" y="1265"/>
                  </a:lnTo>
                  <a:lnTo>
                    <a:pt x="11636" y="1257"/>
                  </a:lnTo>
                  <a:lnTo>
                    <a:pt x="11607" y="1249"/>
                  </a:lnTo>
                  <a:lnTo>
                    <a:pt x="11579" y="1239"/>
                  </a:lnTo>
                  <a:lnTo>
                    <a:pt x="11551" y="1228"/>
                  </a:lnTo>
                  <a:lnTo>
                    <a:pt x="11525" y="1217"/>
                  </a:lnTo>
                  <a:lnTo>
                    <a:pt x="11500" y="1205"/>
                  </a:lnTo>
                  <a:lnTo>
                    <a:pt x="11477" y="1192"/>
                  </a:lnTo>
                  <a:lnTo>
                    <a:pt x="11455" y="1178"/>
                  </a:lnTo>
                  <a:lnTo>
                    <a:pt x="11435" y="1162"/>
                  </a:lnTo>
                  <a:lnTo>
                    <a:pt x="11417" y="1146"/>
                  </a:lnTo>
                  <a:lnTo>
                    <a:pt x="11403" y="1128"/>
                  </a:lnTo>
                  <a:lnTo>
                    <a:pt x="11391" y="1108"/>
                  </a:lnTo>
                  <a:lnTo>
                    <a:pt x="11382" y="1088"/>
                  </a:lnTo>
                  <a:lnTo>
                    <a:pt x="11376" y="1066"/>
                  </a:lnTo>
                  <a:lnTo>
                    <a:pt x="11373" y="1043"/>
                  </a:lnTo>
                  <a:lnTo>
                    <a:pt x="11362" y="1037"/>
                  </a:lnTo>
                  <a:lnTo>
                    <a:pt x="11331" y="1019"/>
                  </a:lnTo>
                  <a:lnTo>
                    <a:pt x="11308" y="1007"/>
                  </a:lnTo>
                  <a:lnTo>
                    <a:pt x="11282" y="994"/>
                  </a:lnTo>
                  <a:lnTo>
                    <a:pt x="11253" y="978"/>
                  </a:lnTo>
                  <a:lnTo>
                    <a:pt x="11220" y="963"/>
                  </a:lnTo>
                  <a:lnTo>
                    <a:pt x="11183" y="948"/>
                  </a:lnTo>
                  <a:lnTo>
                    <a:pt x="11145" y="934"/>
                  </a:lnTo>
                  <a:lnTo>
                    <a:pt x="11105" y="920"/>
                  </a:lnTo>
                  <a:lnTo>
                    <a:pt x="11062" y="907"/>
                  </a:lnTo>
                  <a:lnTo>
                    <a:pt x="11041" y="901"/>
                  </a:lnTo>
                  <a:lnTo>
                    <a:pt x="11019" y="896"/>
                  </a:lnTo>
                  <a:lnTo>
                    <a:pt x="10997" y="891"/>
                  </a:lnTo>
                  <a:lnTo>
                    <a:pt x="10975" y="887"/>
                  </a:lnTo>
                  <a:lnTo>
                    <a:pt x="10952" y="884"/>
                  </a:lnTo>
                  <a:lnTo>
                    <a:pt x="10928" y="881"/>
                  </a:lnTo>
                  <a:lnTo>
                    <a:pt x="10906" y="878"/>
                  </a:lnTo>
                  <a:lnTo>
                    <a:pt x="10883" y="877"/>
                  </a:lnTo>
                  <a:lnTo>
                    <a:pt x="10866" y="866"/>
                  </a:lnTo>
                  <a:lnTo>
                    <a:pt x="10822" y="839"/>
                  </a:lnTo>
                  <a:lnTo>
                    <a:pt x="10790" y="821"/>
                  </a:lnTo>
                  <a:lnTo>
                    <a:pt x="10756" y="803"/>
                  </a:lnTo>
                  <a:lnTo>
                    <a:pt x="10718" y="784"/>
                  </a:lnTo>
                  <a:lnTo>
                    <a:pt x="10677" y="766"/>
                  </a:lnTo>
                  <a:lnTo>
                    <a:pt x="10656" y="757"/>
                  </a:lnTo>
                  <a:lnTo>
                    <a:pt x="10635" y="748"/>
                  </a:lnTo>
                  <a:lnTo>
                    <a:pt x="10614" y="740"/>
                  </a:lnTo>
                  <a:lnTo>
                    <a:pt x="10593" y="733"/>
                  </a:lnTo>
                  <a:lnTo>
                    <a:pt x="10572" y="727"/>
                  </a:lnTo>
                  <a:lnTo>
                    <a:pt x="10551" y="722"/>
                  </a:lnTo>
                  <a:lnTo>
                    <a:pt x="10531" y="718"/>
                  </a:lnTo>
                  <a:lnTo>
                    <a:pt x="10511" y="715"/>
                  </a:lnTo>
                  <a:lnTo>
                    <a:pt x="10492" y="714"/>
                  </a:lnTo>
                  <a:lnTo>
                    <a:pt x="10473" y="714"/>
                  </a:lnTo>
                  <a:lnTo>
                    <a:pt x="10456" y="715"/>
                  </a:lnTo>
                  <a:lnTo>
                    <a:pt x="10438" y="718"/>
                  </a:lnTo>
                  <a:lnTo>
                    <a:pt x="10423" y="723"/>
                  </a:lnTo>
                  <a:lnTo>
                    <a:pt x="10408" y="729"/>
                  </a:lnTo>
                  <a:lnTo>
                    <a:pt x="10395" y="738"/>
                  </a:lnTo>
                  <a:lnTo>
                    <a:pt x="10383" y="749"/>
                  </a:lnTo>
                  <a:lnTo>
                    <a:pt x="10373" y="761"/>
                  </a:lnTo>
                  <a:lnTo>
                    <a:pt x="10364" y="773"/>
                  </a:lnTo>
                  <a:lnTo>
                    <a:pt x="10356" y="786"/>
                  </a:lnTo>
                  <a:lnTo>
                    <a:pt x="10350" y="800"/>
                  </a:lnTo>
                  <a:lnTo>
                    <a:pt x="10344" y="814"/>
                  </a:lnTo>
                  <a:lnTo>
                    <a:pt x="10339" y="829"/>
                  </a:lnTo>
                  <a:lnTo>
                    <a:pt x="10335" y="844"/>
                  </a:lnTo>
                  <a:lnTo>
                    <a:pt x="10332" y="859"/>
                  </a:lnTo>
                  <a:lnTo>
                    <a:pt x="10323" y="921"/>
                  </a:lnTo>
                  <a:lnTo>
                    <a:pt x="10317" y="980"/>
                  </a:lnTo>
                  <a:lnTo>
                    <a:pt x="10313" y="995"/>
                  </a:lnTo>
                  <a:lnTo>
                    <a:pt x="10311" y="1008"/>
                  </a:lnTo>
                  <a:lnTo>
                    <a:pt x="10307" y="1020"/>
                  </a:lnTo>
                  <a:lnTo>
                    <a:pt x="10304" y="1032"/>
                  </a:lnTo>
                  <a:lnTo>
                    <a:pt x="10299" y="1042"/>
                  </a:lnTo>
                  <a:lnTo>
                    <a:pt x="10294" y="1052"/>
                  </a:lnTo>
                  <a:lnTo>
                    <a:pt x="10287" y="1060"/>
                  </a:lnTo>
                  <a:lnTo>
                    <a:pt x="10280" y="1068"/>
                  </a:lnTo>
                  <a:lnTo>
                    <a:pt x="10271" y="1074"/>
                  </a:lnTo>
                  <a:lnTo>
                    <a:pt x="10261" y="1078"/>
                  </a:lnTo>
                  <a:lnTo>
                    <a:pt x="10250" y="1081"/>
                  </a:lnTo>
                  <a:lnTo>
                    <a:pt x="10237" y="1083"/>
                  </a:lnTo>
                  <a:lnTo>
                    <a:pt x="10223" y="1083"/>
                  </a:lnTo>
                  <a:lnTo>
                    <a:pt x="10206" y="1081"/>
                  </a:lnTo>
                  <a:lnTo>
                    <a:pt x="10187" y="1078"/>
                  </a:lnTo>
                  <a:lnTo>
                    <a:pt x="10168" y="1072"/>
                  </a:lnTo>
                  <a:lnTo>
                    <a:pt x="10148" y="1067"/>
                  </a:lnTo>
                  <a:lnTo>
                    <a:pt x="10130" y="1060"/>
                  </a:lnTo>
                  <a:lnTo>
                    <a:pt x="10112" y="1052"/>
                  </a:lnTo>
                  <a:lnTo>
                    <a:pt x="10095" y="1044"/>
                  </a:lnTo>
                  <a:lnTo>
                    <a:pt x="10079" y="1035"/>
                  </a:lnTo>
                  <a:lnTo>
                    <a:pt x="10063" y="1025"/>
                  </a:lnTo>
                  <a:lnTo>
                    <a:pt x="10049" y="1014"/>
                  </a:lnTo>
                  <a:lnTo>
                    <a:pt x="10035" y="1003"/>
                  </a:lnTo>
                  <a:lnTo>
                    <a:pt x="10021" y="990"/>
                  </a:lnTo>
                  <a:lnTo>
                    <a:pt x="10008" y="978"/>
                  </a:lnTo>
                  <a:lnTo>
                    <a:pt x="9995" y="965"/>
                  </a:lnTo>
                  <a:lnTo>
                    <a:pt x="9983" y="952"/>
                  </a:lnTo>
                  <a:lnTo>
                    <a:pt x="9959" y="924"/>
                  </a:lnTo>
                  <a:lnTo>
                    <a:pt x="9934" y="895"/>
                  </a:lnTo>
                  <a:lnTo>
                    <a:pt x="9909" y="864"/>
                  </a:lnTo>
                  <a:lnTo>
                    <a:pt x="9884" y="834"/>
                  </a:lnTo>
                  <a:lnTo>
                    <a:pt x="9857" y="802"/>
                  </a:lnTo>
                  <a:lnTo>
                    <a:pt x="9828" y="771"/>
                  </a:lnTo>
                  <a:lnTo>
                    <a:pt x="9813" y="756"/>
                  </a:lnTo>
                  <a:lnTo>
                    <a:pt x="9795" y="739"/>
                  </a:lnTo>
                  <a:lnTo>
                    <a:pt x="9778" y="724"/>
                  </a:lnTo>
                  <a:lnTo>
                    <a:pt x="9760" y="709"/>
                  </a:lnTo>
                  <a:lnTo>
                    <a:pt x="9742" y="694"/>
                  </a:lnTo>
                  <a:lnTo>
                    <a:pt x="9722" y="680"/>
                  </a:lnTo>
                  <a:lnTo>
                    <a:pt x="9701" y="666"/>
                  </a:lnTo>
                  <a:lnTo>
                    <a:pt x="9678" y="652"/>
                  </a:lnTo>
                  <a:lnTo>
                    <a:pt x="9627" y="622"/>
                  </a:lnTo>
                  <a:lnTo>
                    <a:pt x="9569" y="589"/>
                  </a:lnTo>
                  <a:lnTo>
                    <a:pt x="9502" y="554"/>
                  </a:lnTo>
                  <a:lnTo>
                    <a:pt x="9430" y="518"/>
                  </a:lnTo>
                  <a:lnTo>
                    <a:pt x="9356" y="479"/>
                  </a:lnTo>
                  <a:lnTo>
                    <a:pt x="9279" y="441"/>
                  </a:lnTo>
                  <a:lnTo>
                    <a:pt x="9202" y="403"/>
                  </a:lnTo>
                  <a:lnTo>
                    <a:pt x="9126" y="366"/>
                  </a:lnTo>
                  <a:lnTo>
                    <a:pt x="9052" y="331"/>
                  </a:lnTo>
                  <a:lnTo>
                    <a:pt x="8984" y="298"/>
                  </a:lnTo>
                  <a:lnTo>
                    <a:pt x="8921" y="268"/>
                  </a:lnTo>
                  <a:lnTo>
                    <a:pt x="8867" y="242"/>
                  </a:lnTo>
                  <a:lnTo>
                    <a:pt x="8822" y="221"/>
                  </a:lnTo>
                  <a:lnTo>
                    <a:pt x="8786" y="205"/>
                  </a:lnTo>
                  <a:lnTo>
                    <a:pt x="8765" y="194"/>
                  </a:lnTo>
                  <a:lnTo>
                    <a:pt x="8757" y="191"/>
                  </a:lnTo>
                  <a:lnTo>
                    <a:pt x="8752" y="187"/>
                  </a:lnTo>
                  <a:lnTo>
                    <a:pt x="8735" y="177"/>
                  </a:lnTo>
                  <a:lnTo>
                    <a:pt x="8708" y="161"/>
                  </a:lnTo>
                  <a:lnTo>
                    <a:pt x="8669" y="140"/>
                  </a:lnTo>
                  <a:lnTo>
                    <a:pt x="8646" y="130"/>
                  </a:lnTo>
                  <a:lnTo>
                    <a:pt x="8620" y="118"/>
                  </a:lnTo>
                  <a:lnTo>
                    <a:pt x="8592" y="107"/>
                  </a:lnTo>
                  <a:lnTo>
                    <a:pt x="8560" y="95"/>
                  </a:lnTo>
                  <a:lnTo>
                    <a:pt x="8525" y="83"/>
                  </a:lnTo>
                  <a:lnTo>
                    <a:pt x="8489" y="71"/>
                  </a:lnTo>
                  <a:lnTo>
                    <a:pt x="8450" y="60"/>
                  </a:lnTo>
                  <a:lnTo>
                    <a:pt x="8407" y="49"/>
                  </a:lnTo>
                  <a:lnTo>
                    <a:pt x="8362" y="39"/>
                  </a:lnTo>
                  <a:lnTo>
                    <a:pt x="8315" y="29"/>
                  </a:lnTo>
                  <a:lnTo>
                    <a:pt x="8264" y="20"/>
                  </a:lnTo>
                  <a:lnTo>
                    <a:pt x="8211" y="13"/>
                  </a:lnTo>
                  <a:lnTo>
                    <a:pt x="8155" y="8"/>
                  </a:lnTo>
                  <a:lnTo>
                    <a:pt x="8097" y="4"/>
                  </a:lnTo>
                  <a:lnTo>
                    <a:pt x="8035" y="1"/>
                  </a:lnTo>
                  <a:lnTo>
                    <a:pt x="7972" y="0"/>
                  </a:lnTo>
                  <a:lnTo>
                    <a:pt x="7905" y="2"/>
                  </a:lnTo>
                  <a:lnTo>
                    <a:pt x="7837" y="5"/>
                  </a:lnTo>
                  <a:lnTo>
                    <a:pt x="7764" y="11"/>
                  </a:lnTo>
                  <a:lnTo>
                    <a:pt x="7691" y="20"/>
                  </a:lnTo>
                  <a:lnTo>
                    <a:pt x="7613" y="31"/>
                  </a:lnTo>
                  <a:lnTo>
                    <a:pt x="7533" y="46"/>
                  </a:lnTo>
                  <a:lnTo>
                    <a:pt x="7451" y="63"/>
                  </a:lnTo>
                  <a:lnTo>
                    <a:pt x="7366" y="83"/>
                  </a:lnTo>
                  <a:lnTo>
                    <a:pt x="7283" y="104"/>
                  </a:lnTo>
                  <a:lnTo>
                    <a:pt x="7207" y="122"/>
                  </a:lnTo>
                  <a:lnTo>
                    <a:pt x="7136" y="139"/>
                  </a:lnTo>
                  <a:lnTo>
                    <a:pt x="7071" y="153"/>
                  </a:lnTo>
                  <a:lnTo>
                    <a:pt x="7010" y="166"/>
                  </a:lnTo>
                  <a:lnTo>
                    <a:pt x="6955" y="177"/>
                  </a:lnTo>
                  <a:lnTo>
                    <a:pt x="6903" y="186"/>
                  </a:lnTo>
                  <a:lnTo>
                    <a:pt x="6856" y="193"/>
                  </a:lnTo>
                  <a:lnTo>
                    <a:pt x="6813" y="199"/>
                  </a:lnTo>
                  <a:lnTo>
                    <a:pt x="6773" y="204"/>
                  </a:lnTo>
                  <a:lnTo>
                    <a:pt x="6737" y="207"/>
                  </a:lnTo>
                  <a:lnTo>
                    <a:pt x="6704" y="209"/>
                  </a:lnTo>
                  <a:lnTo>
                    <a:pt x="6674" y="210"/>
                  </a:lnTo>
                  <a:lnTo>
                    <a:pt x="6646" y="210"/>
                  </a:lnTo>
                  <a:lnTo>
                    <a:pt x="6620" y="209"/>
                  </a:lnTo>
                  <a:lnTo>
                    <a:pt x="6597" y="208"/>
                  </a:lnTo>
                  <a:lnTo>
                    <a:pt x="6576" y="206"/>
                  </a:lnTo>
                  <a:lnTo>
                    <a:pt x="6556" y="203"/>
                  </a:lnTo>
                  <a:lnTo>
                    <a:pt x="6537" y="200"/>
                  </a:lnTo>
                  <a:lnTo>
                    <a:pt x="6518" y="197"/>
                  </a:lnTo>
                  <a:lnTo>
                    <a:pt x="6483" y="190"/>
                  </a:lnTo>
                  <a:lnTo>
                    <a:pt x="6449" y="182"/>
                  </a:lnTo>
                  <a:lnTo>
                    <a:pt x="6431" y="179"/>
                  </a:lnTo>
                  <a:lnTo>
                    <a:pt x="6413" y="176"/>
                  </a:lnTo>
                  <a:lnTo>
                    <a:pt x="6392" y="174"/>
                  </a:lnTo>
                  <a:lnTo>
                    <a:pt x="6371" y="172"/>
                  </a:lnTo>
                  <a:lnTo>
                    <a:pt x="6349" y="170"/>
                  </a:lnTo>
                  <a:lnTo>
                    <a:pt x="6325" y="170"/>
                  </a:lnTo>
                  <a:lnTo>
                    <a:pt x="6298" y="170"/>
                  </a:lnTo>
                  <a:lnTo>
                    <a:pt x="6269" y="171"/>
                  </a:lnTo>
                  <a:lnTo>
                    <a:pt x="6208" y="176"/>
                  </a:lnTo>
                  <a:lnTo>
                    <a:pt x="6144" y="182"/>
                  </a:lnTo>
                  <a:lnTo>
                    <a:pt x="6080" y="191"/>
                  </a:lnTo>
                  <a:lnTo>
                    <a:pt x="6015" y="201"/>
                  </a:lnTo>
                  <a:lnTo>
                    <a:pt x="5983" y="207"/>
                  </a:lnTo>
                  <a:lnTo>
                    <a:pt x="5951" y="213"/>
                  </a:lnTo>
                  <a:lnTo>
                    <a:pt x="5919" y="220"/>
                  </a:lnTo>
                  <a:lnTo>
                    <a:pt x="5886" y="228"/>
                  </a:lnTo>
                  <a:lnTo>
                    <a:pt x="5854" y="236"/>
                  </a:lnTo>
                  <a:lnTo>
                    <a:pt x="5823" y="244"/>
                  </a:lnTo>
                  <a:lnTo>
                    <a:pt x="5792" y="253"/>
                  </a:lnTo>
                  <a:lnTo>
                    <a:pt x="5761" y="263"/>
                  </a:lnTo>
                  <a:lnTo>
                    <a:pt x="5731" y="273"/>
                  </a:lnTo>
                  <a:lnTo>
                    <a:pt x="5701" y="284"/>
                  </a:lnTo>
                  <a:lnTo>
                    <a:pt x="5672" y="295"/>
                  </a:lnTo>
                  <a:lnTo>
                    <a:pt x="5643" y="307"/>
                  </a:lnTo>
                  <a:lnTo>
                    <a:pt x="5615" y="319"/>
                  </a:lnTo>
                  <a:lnTo>
                    <a:pt x="5589" y="332"/>
                  </a:lnTo>
                  <a:lnTo>
                    <a:pt x="5563" y="346"/>
                  </a:lnTo>
                  <a:lnTo>
                    <a:pt x="5538" y="360"/>
                  </a:lnTo>
                  <a:lnTo>
                    <a:pt x="5513" y="374"/>
                  </a:lnTo>
                  <a:lnTo>
                    <a:pt x="5490" y="389"/>
                  </a:lnTo>
                  <a:lnTo>
                    <a:pt x="5468" y="406"/>
                  </a:lnTo>
                  <a:lnTo>
                    <a:pt x="5448" y="423"/>
                  </a:lnTo>
                  <a:lnTo>
                    <a:pt x="5428" y="440"/>
                  </a:lnTo>
                  <a:lnTo>
                    <a:pt x="5410" y="457"/>
                  </a:lnTo>
                  <a:lnTo>
                    <a:pt x="5393" y="475"/>
                  </a:lnTo>
                  <a:lnTo>
                    <a:pt x="5377" y="494"/>
                  </a:lnTo>
                  <a:lnTo>
                    <a:pt x="5360" y="515"/>
                  </a:lnTo>
                  <a:lnTo>
                    <a:pt x="5339" y="539"/>
                  </a:lnTo>
                  <a:lnTo>
                    <a:pt x="5313" y="565"/>
                  </a:lnTo>
                  <a:lnTo>
                    <a:pt x="5283" y="595"/>
                  </a:lnTo>
                  <a:lnTo>
                    <a:pt x="5248" y="627"/>
                  </a:lnTo>
                  <a:lnTo>
                    <a:pt x="5211" y="662"/>
                  </a:lnTo>
                  <a:lnTo>
                    <a:pt x="5170" y="699"/>
                  </a:lnTo>
                  <a:lnTo>
                    <a:pt x="5125" y="737"/>
                  </a:lnTo>
                  <a:lnTo>
                    <a:pt x="5078" y="778"/>
                  </a:lnTo>
                  <a:lnTo>
                    <a:pt x="5028" y="819"/>
                  </a:lnTo>
                  <a:lnTo>
                    <a:pt x="4975" y="861"/>
                  </a:lnTo>
                  <a:lnTo>
                    <a:pt x="4921" y="905"/>
                  </a:lnTo>
                  <a:lnTo>
                    <a:pt x="4864" y="948"/>
                  </a:lnTo>
                  <a:lnTo>
                    <a:pt x="4806" y="991"/>
                  </a:lnTo>
                  <a:lnTo>
                    <a:pt x="4746" y="1036"/>
                  </a:lnTo>
                  <a:lnTo>
                    <a:pt x="4686" y="1079"/>
                  </a:lnTo>
                  <a:lnTo>
                    <a:pt x="4624" y="1122"/>
                  </a:lnTo>
                  <a:lnTo>
                    <a:pt x="4562" y="1163"/>
                  </a:lnTo>
                  <a:lnTo>
                    <a:pt x="4498" y="1203"/>
                  </a:lnTo>
                  <a:lnTo>
                    <a:pt x="4436" y="1243"/>
                  </a:lnTo>
                  <a:lnTo>
                    <a:pt x="4372" y="1280"/>
                  </a:lnTo>
                  <a:lnTo>
                    <a:pt x="4310" y="1315"/>
                  </a:lnTo>
                  <a:lnTo>
                    <a:pt x="4247" y="1347"/>
                  </a:lnTo>
                  <a:lnTo>
                    <a:pt x="4186" y="1378"/>
                  </a:lnTo>
                  <a:lnTo>
                    <a:pt x="4125" y="1405"/>
                  </a:lnTo>
                  <a:lnTo>
                    <a:pt x="4067" y="1429"/>
                  </a:lnTo>
                  <a:lnTo>
                    <a:pt x="4008" y="1450"/>
                  </a:lnTo>
                  <a:lnTo>
                    <a:pt x="3953" y="1467"/>
                  </a:lnTo>
                  <a:lnTo>
                    <a:pt x="3899" y="1481"/>
                  </a:lnTo>
                  <a:lnTo>
                    <a:pt x="3847" y="1490"/>
                  </a:lnTo>
                  <a:lnTo>
                    <a:pt x="3798" y="1495"/>
                  </a:lnTo>
                  <a:lnTo>
                    <a:pt x="3751" y="1494"/>
                  </a:lnTo>
                  <a:lnTo>
                    <a:pt x="3706" y="1491"/>
                  </a:lnTo>
                  <a:lnTo>
                    <a:pt x="3660" y="1488"/>
                  </a:lnTo>
                  <a:lnTo>
                    <a:pt x="3612" y="1487"/>
                  </a:lnTo>
                  <a:lnTo>
                    <a:pt x="3564" y="1485"/>
                  </a:lnTo>
                  <a:lnTo>
                    <a:pt x="3516" y="1485"/>
                  </a:lnTo>
                  <a:lnTo>
                    <a:pt x="3467" y="1486"/>
                  </a:lnTo>
                  <a:lnTo>
                    <a:pt x="3418" y="1487"/>
                  </a:lnTo>
                  <a:lnTo>
                    <a:pt x="3368" y="1489"/>
                  </a:lnTo>
                  <a:lnTo>
                    <a:pt x="3319" y="1491"/>
                  </a:lnTo>
                  <a:lnTo>
                    <a:pt x="3270" y="1495"/>
                  </a:lnTo>
                  <a:lnTo>
                    <a:pt x="3220" y="1500"/>
                  </a:lnTo>
                  <a:lnTo>
                    <a:pt x="3171" y="1505"/>
                  </a:lnTo>
                  <a:lnTo>
                    <a:pt x="3123" y="1511"/>
                  </a:lnTo>
                  <a:lnTo>
                    <a:pt x="3075" y="1518"/>
                  </a:lnTo>
                  <a:lnTo>
                    <a:pt x="3029" y="1527"/>
                  </a:lnTo>
                  <a:lnTo>
                    <a:pt x="2982" y="1536"/>
                  </a:lnTo>
                  <a:lnTo>
                    <a:pt x="2938" y="1546"/>
                  </a:lnTo>
                  <a:lnTo>
                    <a:pt x="2894" y="1557"/>
                  </a:lnTo>
                  <a:lnTo>
                    <a:pt x="2851" y="1569"/>
                  </a:lnTo>
                  <a:lnTo>
                    <a:pt x="2811" y="1582"/>
                  </a:lnTo>
                  <a:lnTo>
                    <a:pt x="2771" y="1597"/>
                  </a:lnTo>
                  <a:lnTo>
                    <a:pt x="2733" y="1612"/>
                  </a:lnTo>
                  <a:lnTo>
                    <a:pt x="2697" y="1628"/>
                  </a:lnTo>
                  <a:lnTo>
                    <a:pt x="2664" y="1646"/>
                  </a:lnTo>
                  <a:lnTo>
                    <a:pt x="2632" y="1664"/>
                  </a:lnTo>
                  <a:lnTo>
                    <a:pt x="2601" y="1684"/>
                  </a:lnTo>
                  <a:lnTo>
                    <a:pt x="2574" y="1705"/>
                  </a:lnTo>
                  <a:lnTo>
                    <a:pt x="2550" y="1727"/>
                  </a:lnTo>
                  <a:lnTo>
                    <a:pt x="2528" y="1750"/>
                  </a:lnTo>
                  <a:lnTo>
                    <a:pt x="2509" y="1775"/>
                  </a:lnTo>
                  <a:lnTo>
                    <a:pt x="2491" y="1800"/>
                  </a:lnTo>
                  <a:lnTo>
                    <a:pt x="2478" y="1827"/>
                  </a:lnTo>
                  <a:lnTo>
                    <a:pt x="2467" y="1854"/>
                  </a:lnTo>
                  <a:lnTo>
                    <a:pt x="2458" y="1878"/>
                  </a:lnTo>
                  <a:lnTo>
                    <a:pt x="2451" y="1902"/>
                  </a:lnTo>
                  <a:lnTo>
                    <a:pt x="2446" y="1924"/>
                  </a:lnTo>
                  <a:lnTo>
                    <a:pt x="2443" y="1946"/>
                  </a:lnTo>
                  <a:lnTo>
                    <a:pt x="2441" y="1968"/>
                  </a:lnTo>
                  <a:lnTo>
                    <a:pt x="2441" y="1988"/>
                  </a:lnTo>
                  <a:lnTo>
                    <a:pt x="2443" y="2008"/>
                  </a:lnTo>
                  <a:lnTo>
                    <a:pt x="2447" y="2027"/>
                  </a:lnTo>
                  <a:lnTo>
                    <a:pt x="2452" y="2046"/>
                  </a:lnTo>
                  <a:lnTo>
                    <a:pt x="2459" y="2065"/>
                  </a:lnTo>
                  <a:lnTo>
                    <a:pt x="2468" y="2084"/>
                  </a:lnTo>
                  <a:lnTo>
                    <a:pt x="2478" y="2102"/>
                  </a:lnTo>
                  <a:lnTo>
                    <a:pt x="2489" y="2120"/>
                  </a:lnTo>
                  <a:lnTo>
                    <a:pt x="2502" y="2138"/>
                  </a:lnTo>
                  <a:lnTo>
                    <a:pt x="2518" y="2157"/>
                  </a:lnTo>
                  <a:lnTo>
                    <a:pt x="2533" y="2175"/>
                  </a:lnTo>
                  <a:lnTo>
                    <a:pt x="2550" y="2195"/>
                  </a:lnTo>
                  <a:lnTo>
                    <a:pt x="2569" y="2215"/>
                  </a:lnTo>
                  <a:lnTo>
                    <a:pt x="2588" y="2234"/>
                  </a:lnTo>
                  <a:lnTo>
                    <a:pt x="2632" y="2276"/>
                  </a:lnTo>
                  <a:lnTo>
                    <a:pt x="2679" y="2322"/>
                  </a:lnTo>
                  <a:lnTo>
                    <a:pt x="2731" y="2372"/>
                  </a:lnTo>
                  <a:lnTo>
                    <a:pt x="2787" y="2426"/>
                  </a:lnTo>
                  <a:lnTo>
                    <a:pt x="2846" y="2486"/>
                  </a:lnTo>
                  <a:lnTo>
                    <a:pt x="2909" y="2553"/>
                  </a:lnTo>
                  <a:lnTo>
                    <a:pt x="2976" y="2626"/>
                  </a:lnTo>
                  <a:lnTo>
                    <a:pt x="3050" y="2709"/>
                  </a:lnTo>
                  <a:lnTo>
                    <a:pt x="3089" y="2753"/>
                  </a:lnTo>
                  <a:lnTo>
                    <a:pt x="3128" y="2800"/>
                  </a:lnTo>
                  <a:lnTo>
                    <a:pt x="3169" y="2848"/>
                  </a:lnTo>
                  <a:lnTo>
                    <a:pt x="3210" y="2897"/>
                  </a:lnTo>
                  <a:lnTo>
                    <a:pt x="3250" y="2948"/>
                  </a:lnTo>
                  <a:lnTo>
                    <a:pt x="3291" y="2999"/>
                  </a:lnTo>
                  <a:lnTo>
                    <a:pt x="3330" y="3052"/>
                  </a:lnTo>
                  <a:lnTo>
                    <a:pt x="3368" y="3104"/>
                  </a:lnTo>
                  <a:lnTo>
                    <a:pt x="3406" y="3158"/>
                  </a:lnTo>
                  <a:lnTo>
                    <a:pt x="3441" y="3211"/>
                  </a:lnTo>
                  <a:lnTo>
                    <a:pt x="3475" y="3264"/>
                  </a:lnTo>
                  <a:lnTo>
                    <a:pt x="3506" y="3318"/>
                  </a:lnTo>
                  <a:lnTo>
                    <a:pt x="3536" y="3370"/>
                  </a:lnTo>
                  <a:lnTo>
                    <a:pt x="3562" y="3423"/>
                  </a:lnTo>
                  <a:lnTo>
                    <a:pt x="3585" y="3474"/>
                  </a:lnTo>
                  <a:lnTo>
                    <a:pt x="3604" y="3525"/>
                  </a:lnTo>
                  <a:lnTo>
                    <a:pt x="3620" y="3574"/>
                  </a:lnTo>
                  <a:lnTo>
                    <a:pt x="3631" y="3621"/>
                  </a:lnTo>
                  <a:lnTo>
                    <a:pt x="3640" y="3667"/>
                  </a:lnTo>
                  <a:lnTo>
                    <a:pt x="3642" y="3711"/>
                  </a:lnTo>
                  <a:lnTo>
                    <a:pt x="3640" y="3754"/>
                  </a:lnTo>
                  <a:lnTo>
                    <a:pt x="3632" y="3793"/>
                  </a:lnTo>
                  <a:lnTo>
                    <a:pt x="3618" y="3830"/>
                  </a:lnTo>
                  <a:lnTo>
                    <a:pt x="3599" y="3866"/>
                  </a:lnTo>
                  <a:lnTo>
                    <a:pt x="3574" y="3897"/>
                  </a:lnTo>
                  <a:lnTo>
                    <a:pt x="3543" y="3926"/>
                  </a:lnTo>
                  <a:lnTo>
                    <a:pt x="3503" y="3951"/>
                  </a:lnTo>
                  <a:lnTo>
                    <a:pt x="3458" y="3973"/>
                  </a:lnTo>
                  <a:lnTo>
                    <a:pt x="3409" y="3992"/>
                  </a:lnTo>
                  <a:lnTo>
                    <a:pt x="3362" y="4007"/>
                  </a:lnTo>
                  <a:lnTo>
                    <a:pt x="3319" y="4019"/>
                  </a:lnTo>
                  <a:lnTo>
                    <a:pt x="3279" y="4028"/>
                  </a:lnTo>
                  <a:lnTo>
                    <a:pt x="3240" y="4034"/>
                  </a:lnTo>
                  <a:lnTo>
                    <a:pt x="3205" y="4037"/>
                  </a:lnTo>
                  <a:lnTo>
                    <a:pt x="3172" y="4037"/>
                  </a:lnTo>
                  <a:lnTo>
                    <a:pt x="3141" y="4035"/>
                  </a:lnTo>
                  <a:lnTo>
                    <a:pt x="3111" y="4031"/>
                  </a:lnTo>
                  <a:lnTo>
                    <a:pt x="3084" y="4025"/>
                  </a:lnTo>
                  <a:lnTo>
                    <a:pt x="3058" y="4017"/>
                  </a:lnTo>
                  <a:lnTo>
                    <a:pt x="3034" y="4007"/>
                  </a:lnTo>
                  <a:lnTo>
                    <a:pt x="3011" y="3996"/>
                  </a:lnTo>
                  <a:lnTo>
                    <a:pt x="2988" y="3983"/>
                  </a:lnTo>
                  <a:lnTo>
                    <a:pt x="2968" y="3969"/>
                  </a:lnTo>
                  <a:lnTo>
                    <a:pt x="2948" y="3954"/>
                  </a:lnTo>
                  <a:lnTo>
                    <a:pt x="2929" y="3938"/>
                  </a:lnTo>
                  <a:lnTo>
                    <a:pt x="2911" y="3921"/>
                  </a:lnTo>
                  <a:lnTo>
                    <a:pt x="2894" y="3904"/>
                  </a:lnTo>
                  <a:lnTo>
                    <a:pt x="2876" y="3886"/>
                  </a:lnTo>
                  <a:lnTo>
                    <a:pt x="2842" y="3849"/>
                  </a:lnTo>
                  <a:lnTo>
                    <a:pt x="2808" y="3813"/>
                  </a:lnTo>
                  <a:lnTo>
                    <a:pt x="2790" y="3796"/>
                  </a:lnTo>
                  <a:lnTo>
                    <a:pt x="2772" y="3779"/>
                  </a:lnTo>
                  <a:lnTo>
                    <a:pt x="2752" y="3763"/>
                  </a:lnTo>
                  <a:lnTo>
                    <a:pt x="2733" y="3748"/>
                  </a:lnTo>
                  <a:lnTo>
                    <a:pt x="2713" y="3733"/>
                  </a:lnTo>
                  <a:lnTo>
                    <a:pt x="2691" y="3720"/>
                  </a:lnTo>
                  <a:lnTo>
                    <a:pt x="2669" y="3709"/>
                  </a:lnTo>
                  <a:lnTo>
                    <a:pt x="2645" y="3699"/>
                  </a:lnTo>
                  <a:lnTo>
                    <a:pt x="2618" y="3689"/>
                  </a:lnTo>
                  <a:lnTo>
                    <a:pt x="2590" y="3681"/>
                  </a:lnTo>
                  <a:lnTo>
                    <a:pt x="2559" y="3674"/>
                  </a:lnTo>
                  <a:lnTo>
                    <a:pt x="2526" y="3667"/>
                  </a:lnTo>
                  <a:lnTo>
                    <a:pt x="2490" y="3662"/>
                  </a:lnTo>
                  <a:lnTo>
                    <a:pt x="2453" y="3657"/>
                  </a:lnTo>
                  <a:lnTo>
                    <a:pt x="2414" y="3654"/>
                  </a:lnTo>
                  <a:lnTo>
                    <a:pt x="2373" y="3652"/>
                  </a:lnTo>
                  <a:lnTo>
                    <a:pt x="2331" y="3651"/>
                  </a:lnTo>
                  <a:lnTo>
                    <a:pt x="2287" y="3651"/>
                  </a:lnTo>
                  <a:lnTo>
                    <a:pt x="2242" y="3652"/>
                  </a:lnTo>
                  <a:lnTo>
                    <a:pt x="2196" y="3654"/>
                  </a:lnTo>
                  <a:lnTo>
                    <a:pt x="2149" y="3657"/>
                  </a:lnTo>
                  <a:lnTo>
                    <a:pt x="2100" y="3662"/>
                  </a:lnTo>
                  <a:lnTo>
                    <a:pt x="2051" y="3667"/>
                  </a:lnTo>
                  <a:lnTo>
                    <a:pt x="2002" y="3673"/>
                  </a:lnTo>
                  <a:lnTo>
                    <a:pt x="1952" y="3681"/>
                  </a:lnTo>
                  <a:lnTo>
                    <a:pt x="1902" y="3690"/>
                  </a:lnTo>
                  <a:lnTo>
                    <a:pt x="1850" y="3700"/>
                  </a:lnTo>
                  <a:lnTo>
                    <a:pt x="1800" y="3711"/>
                  </a:lnTo>
                  <a:lnTo>
                    <a:pt x="1750" y="3723"/>
                  </a:lnTo>
                  <a:lnTo>
                    <a:pt x="1699" y="3736"/>
                  </a:lnTo>
                  <a:lnTo>
                    <a:pt x="1649" y="3751"/>
                  </a:lnTo>
                  <a:lnTo>
                    <a:pt x="1599" y="3767"/>
                  </a:lnTo>
                  <a:lnTo>
                    <a:pt x="1550" y="3784"/>
                  </a:lnTo>
                  <a:lnTo>
                    <a:pt x="1502" y="3801"/>
                  </a:lnTo>
                  <a:lnTo>
                    <a:pt x="1454" y="3820"/>
                  </a:lnTo>
                  <a:lnTo>
                    <a:pt x="1408" y="3841"/>
                  </a:lnTo>
                  <a:lnTo>
                    <a:pt x="1362" y="3862"/>
                  </a:lnTo>
                  <a:lnTo>
                    <a:pt x="1318" y="3885"/>
                  </a:lnTo>
                  <a:lnTo>
                    <a:pt x="1275" y="3909"/>
                  </a:lnTo>
                  <a:lnTo>
                    <a:pt x="1234" y="3934"/>
                  </a:lnTo>
                  <a:lnTo>
                    <a:pt x="1153" y="3983"/>
                  </a:lnTo>
                  <a:lnTo>
                    <a:pt x="1074" y="4032"/>
                  </a:lnTo>
                  <a:lnTo>
                    <a:pt x="1037" y="4056"/>
                  </a:lnTo>
                  <a:lnTo>
                    <a:pt x="1000" y="4080"/>
                  </a:lnTo>
                  <a:lnTo>
                    <a:pt x="964" y="4105"/>
                  </a:lnTo>
                  <a:lnTo>
                    <a:pt x="931" y="4129"/>
                  </a:lnTo>
                  <a:lnTo>
                    <a:pt x="899" y="4153"/>
                  </a:lnTo>
                  <a:lnTo>
                    <a:pt x="869" y="4176"/>
                  </a:lnTo>
                  <a:lnTo>
                    <a:pt x="839" y="4200"/>
                  </a:lnTo>
                  <a:lnTo>
                    <a:pt x="812" y="4225"/>
                  </a:lnTo>
                  <a:lnTo>
                    <a:pt x="788" y="4248"/>
                  </a:lnTo>
                  <a:lnTo>
                    <a:pt x="765" y="4272"/>
                  </a:lnTo>
                  <a:lnTo>
                    <a:pt x="745" y="4296"/>
                  </a:lnTo>
                  <a:lnTo>
                    <a:pt x="727" y="4320"/>
                  </a:lnTo>
                  <a:lnTo>
                    <a:pt x="712" y="4345"/>
                  </a:lnTo>
                  <a:lnTo>
                    <a:pt x="699" y="4369"/>
                  </a:lnTo>
                  <a:lnTo>
                    <a:pt x="690" y="4393"/>
                  </a:lnTo>
                  <a:lnTo>
                    <a:pt x="683" y="4417"/>
                  </a:lnTo>
                  <a:lnTo>
                    <a:pt x="679" y="4442"/>
                  </a:lnTo>
                  <a:lnTo>
                    <a:pt x="679" y="4467"/>
                  </a:lnTo>
                  <a:lnTo>
                    <a:pt x="682" y="4492"/>
                  </a:lnTo>
                  <a:lnTo>
                    <a:pt x="688" y="4517"/>
                  </a:lnTo>
                  <a:lnTo>
                    <a:pt x="698" y="4542"/>
                  </a:lnTo>
                  <a:lnTo>
                    <a:pt x="712" y="4568"/>
                  </a:lnTo>
                  <a:lnTo>
                    <a:pt x="730" y="4595"/>
                  </a:lnTo>
                  <a:lnTo>
                    <a:pt x="752" y="4621"/>
                  </a:lnTo>
                  <a:lnTo>
                    <a:pt x="778" y="4647"/>
                  </a:lnTo>
                  <a:lnTo>
                    <a:pt x="808" y="4673"/>
                  </a:lnTo>
                  <a:lnTo>
                    <a:pt x="842" y="4700"/>
                  </a:lnTo>
                  <a:lnTo>
                    <a:pt x="882" y="4728"/>
                  </a:lnTo>
                  <a:lnTo>
                    <a:pt x="922" y="4755"/>
                  </a:lnTo>
                  <a:lnTo>
                    <a:pt x="964" y="4782"/>
                  </a:lnTo>
                  <a:lnTo>
                    <a:pt x="1007" y="4809"/>
                  </a:lnTo>
                  <a:lnTo>
                    <a:pt x="1049" y="4836"/>
                  </a:lnTo>
                  <a:lnTo>
                    <a:pt x="1093" y="4862"/>
                  </a:lnTo>
                  <a:lnTo>
                    <a:pt x="1138" y="4887"/>
                  </a:lnTo>
                  <a:lnTo>
                    <a:pt x="1184" y="4912"/>
                  </a:lnTo>
                  <a:lnTo>
                    <a:pt x="1230" y="4935"/>
                  </a:lnTo>
                  <a:lnTo>
                    <a:pt x="1277" y="4960"/>
                  </a:lnTo>
                  <a:lnTo>
                    <a:pt x="1325" y="4982"/>
                  </a:lnTo>
                  <a:lnTo>
                    <a:pt x="1374" y="5004"/>
                  </a:lnTo>
                  <a:lnTo>
                    <a:pt x="1423" y="5024"/>
                  </a:lnTo>
                  <a:lnTo>
                    <a:pt x="1472" y="5044"/>
                  </a:lnTo>
                  <a:lnTo>
                    <a:pt x="1524" y="5064"/>
                  </a:lnTo>
                  <a:lnTo>
                    <a:pt x="1575" y="5082"/>
                  </a:lnTo>
                  <a:lnTo>
                    <a:pt x="1628" y="5098"/>
                  </a:lnTo>
                  <a:lnTo>
                    <a:pt x="1680" y="5113"/>
                  </a:lnTo>
                  <a:lnTo>
                    <a:pt x="1733" y="5128"/>
                  </a:lnTo>
                  <a:lnTo>
                    <a:pt x="1788" y="5140"/>
                  </a:lnTo>
                  <a:lnTo>
                    <a:pt x="1843" y="5152"/>
                  </a:lnTo>
                  <a:lnTo>
                    <a:pt x="1899" y="5162"/>
                  </a:lnTo>
                  <a:lnTo>
                    <a:pt x="1955" y="5170"/>
                  </a:lnTo>
                  <a:lnTo>
                    <a:pt x="2013" y="5177"/>
                  </a:lnTo>
                  <a:lnTo>
                    <a:pt x="2070" y="5183"/>
                  </a:lnTo>
                  <a:lnTo>
                    <a:pt x="2129" y="5187"/>
                  </a:lnTo>
                  <a:lnTo>
                    <a:pt x="2188" y="5189"/>
                  </a:lnTo>
                  <a:lnTo>
                    <a:pt x="2247" y="5189"/>
                  </a:lnTo>
                  <a:lnTo>
                    <a:pt x="2308" y="5187"/>
                  </a:lnTo>
                  <a:lnTo>
                    <a:pt x="2369" y="5183"/>
                  </a:lnTo>
                  <a:lnTo>
                    <a:pt x="2431" y="5176"/>
                  </a:lnTo>
                  <a:lnTo>
                    <a:pt x="2493" y="5169"/>
                  </a:lnTo>
                  <a:lnTo>
                    <a:pt x="2557" y="5159"/>
                  </a:lnTo>
                  <a:lnTo>
                    <a:pt x="2567" y="5156"/>
                  </a:lnTo>
                  <a:lnTo>
                    <a:pt x="2596" y="5147"/>
                  </a:lnTo>
                  <a:lnTo>
                    <a:pt x="2643" y="5135"/>
                  </a:lnTo>
                  <a:lnTo>
                    <a:pt x="2703" y="5119"/>
                  </a:lnTo>
                  <a:lnTo>
                    <a:pt x="2774" y="5101"/>
                  </a:lnTo>
                  <a:lnTo>
                    <a:pt x="2853" y="5082"/>
                  </a:lnTo>
                  <a:lnTo>
                    <a:pt x="2939" y="5063"/>
                  </a:lnTo>
                  <a:lnTo>
                    <a:pt x="3028" y="5044"/>
                  </a:lnTo>
                  <a:lnTo>
                    <a:pt x="3073" y="5035"/>
                  </a:lnTo>
                  <a:lnTo>
                    <a:pt x="3117" y="5028"/>
                  </a:lnTo>
                  <a:lnTo>
                    <a:pt x="3162" y="5021"/>
                  </a:lnTo>
                  <a:lnTo>
                    <a:pt x="3205" y="5015"/>
                  </a:lnTo>
                  <a:lnTo>
                    <a:pt x="3246" y="5010"/>
                  </a:lnTo>
                  <a:lnTo>
                    <a:pt x="3287" y="5006"/>
                  </a:lnTo>
                  <a:lnTo>
                    <a:pt x="3326" y="5003"/>
                  </a:lnTo>
                  <a:lnTo>
                    <a:pt x="3362" y="5002"/>
                  </a:lnTo>
                  <a:lnTo>
                    <a:pt x="3397" y="5003"/>
                  </a:lnTo>
                  <a:lnTo>
                    <a:pt x="3428" y="5005"/>
                  </a:lnTo>
                  <a:lnTo>
                    <a:pt x="3455" y="5009"/>
                  </a:lnTo>
                  <a:lnTo>
                    <a:pt x="3480" y="5015"/>
                  </a:lnTo>
                  <a:lnTo>
                    <a:pt x="3500" y="5023"/>
                  </a:lnTo>
                  <a:lnTo>
                    <a:pt x="3517" y="5033"/>
                  </a:lnTo>
                  <a:lnTo>
                    <a:pt x="3529" y="5046"/>
                  </a:lnTo>
                  <a:lnTo>
                    <a:pt x="3536" y="5062"/>
                  </a:lnTo>
                  <a:lnTo>
                    <a:pt x="3540" y="5077"/>
                  </a:lnTo>
                  <a:lnTo>
                    <a:pt x="3541" y="5092"/>
                  </a:lnTo>
                  <a:lnTo>
                    <a:pt x="3540" y="5106"/>
                  </a:lnTo>
                  <a:lnTo>
                    <a:pt x="3537" y="5118"/>
                  </a:lnTo>
                  <a:lnTo>
                    <a:pt x="3532" y="5130"/>
                  </a:lnTo>
                  <a:lnTo>
                    <a:pt x="3526" y="5141"/>
                  </a:lnTo>
                  <a:lnTo>
                    <a:pt x="3518" y="5151"/>
                  </a:lnTo>
                  <a:lnTo>
                    <a:pt x="3508" y="5161"/>
                  </a:lnTo>
                  <a:lnTo>
                    <a:pt x="3498" y="5170"/>
                  </a:lnTo>
                  <a:lnTo>
                    <a:pt x="3486" y="5178"/>
                  </a:lnTo>
                  <a:lnTo>
                    <a:pt x="3474" y="5187"/>
                  </a:lnTo>
                  <a:lnTo>
                    <a:pt x="3461" y="5195"/>
                  </a:lnTo>
                  <a:lnTo>
                    <a:pt x="3433" y="5209"/>
                  </a:lnTo>
                  <a:lnTo>
                    <a:pt x="3404" y="5223"/>
                  </a:lnTo>
                  <a:lnTo>
                    <a:pt x="3374" y="5237"/>
                  </a:lnTo>
                  <a:lnTo>
                    <a:pt x="3346" y="5251"/>
                  </a:lnTo>
                  <a:lnTo>
                    <a:pt x="3333" y="5259"/>
                  </a:lnTo>
                  <a:lnTo>
                    <a:pt x="3321" y="5267"/>
                  </a:lnTo>
                  <a:lnTo>
                    <a:pt x="3310" y="5275"/>
                  </a:lnTo>
                  <a:lnTo>
                    <a:pt x="3299" y="5284"/>
                  </a:lnTo>
                  <a:lnTo>
                    <a:pt x="3290" y="5294"/>
                  </a:lnTo>
                  <a:lnTo>
                    <a:pt x="3282" y="5305"/>
                  </a:lnTo>
                  <a:lnTo>
                    <a:pt x="3276" y="5316"/>
                  </a:lnTo>
                  <a:lnTo>
                    <a:pt x="3271" y="5328"/>
                  </a:lnTo>
                  <a:lnTo>
                    <a:pt x="3268" y="5340"/>
                  </a:lnTo>
                  <a:lnTo>
                    <a:pt x="3267" y="5354"/>
                  </a:lnTo>
                  <a:lnTo>
                    <a:pt x="3269" y="5369"/>
                  </a:lnTo>
                  <a:lnTo>
                    <a:pt x="3272" y="5384"/>
                  </a:lnTo>
                  <a:lnTo>
                    <a:pt x="3276" y="5401"/>
                  </a:lnTo>
                  <a:lnTo>
                    <a:pt x="3281" y="5417"/>
                  </a:lnTo>
                  <a:lnTo>
                    <a:pt x="3288" y="5434"/>
                  </a:lnTo>
                  <a:lnTo>
                    <a:pt x="3294" y="5450"/>
                  </a:lnTo>
                  <a:lnTo>
                    <a:pt x="3310" y="5481"/>
                  </a:lnTo>
                  <a:lnTo>
                    <a:pt x="3326" y="5511"/>
                  </a:lnTo>
                  <a:lnTo>
                    <a:pt x="3341" y="5542"/>
                  </a:lnTo>
                  <a:lnTo>
                    <a:pt x="3356" y="5572"/>
                  </a:lnTo>
                  <a:lnTo>
                    <a:pt x="3362" y="5586"/>
                  </a:lnTo>
                  <a:lnTo>
                    <a:pt x="3367" y="5601"/>
                  </a:lnTo>
                  <a:lnTo>
                    <a:pt x="3371" y="5615"/>
                  </a:lnTo>
                  <a:lnTo>
                    <a:pt x="3374" y="5629"/>
                  </a:lnTo>
                  <a:lnTo>
                    <a:pt x="3376" y="5643"/>
                  </a:lnTo>
                  <a:lnTo>
                    <a:pt x="3376" y="5657"/>
                  </a:lnTo>
                  <a:lnTo>
                    <a:pt x="3374" y="5672"/>
                  </a:lnTo>
                  <a:lnTo>
                    <a:pt x="3370" y="5686"/>
                  </a:lnTo>
                  <a:lnTo>
                    <a:pt x="3365" y="5700"/>
                  </a:lnTo>
                  <a:lnTo>
                    <a:pt x="3357" y="5713"/>
                  </a:lnTo>
                  <a:lnTo>
                    <a:pt x="3347" y="5727"/>
                  </a:lnTo>
                  <a:lnTo>
                    <a:pt x="3335" y="5740"/>
                  </a:lnTo>
                  <a:lnTo>
                    <a:pt x="3320" y="5753"/>
                  </a:lnTo>
                  <a:lnTo>
                    <a:pt x="3302" y="5766"/>
                  </a:lnTo>
                  <a:lnTo>
                    <a:pt x="3281" y="5781"/>
                  </a:lnTo>
                  <a:lnTo>
                    <a:pt x="3256" y="5794"/>
                  </a:lnTo>
                  <a:lnTo>
                    <a:pt x="3228" y="5807"/>
                  </a:lnTo>
                  <a:lnTo>
                    <a:pt x="3198" y="5819"/>
                  </a:lnTo>
                  <a:lnTo>
                    <a:pt x="3163" y="5832"/>
                  </a:lnTo>
                  <a:lnTo>
                    <a:pt x="3124" y="5845"/>
                  </a:lnTo>
                  <a:lnTo>
                    <a:pt x="3082" y="5859"/>
                  </a:lnTo>
                  <a:lnTo>
                    <a:pt x="3037" y="5871"/>
                  </a:lnTo>
                  <a:lnTo>
                    <a:pt x="2988" y="5884"/>
                  </a:lnTo>
                  <a:lnTo>
                    <a:pt x="2938" y="5896"/>
                  </a:lnTo>
                  <a:lnTo>
                    <a:pt x="2831" y="5921"/>
                  </a:lnTo>
                  <a:lnTo>
                    <a:pt x="2719" y="5944"/>
                  </a:lnTo>
                  <a:lnTo>
                    <a:pt x="2603" y="5968"/>
                  </a:lnTo>
                  <a:lnTo>
                    <a:pt x="2485" y="5992"/>
                  </a:lnTo>
                  <a:lnTo>
                    <a:pt x="2426" y="6005"/>
                  </a:lnTo>
                  <a:lnTo>
                    <a:pt x="2367" y="6018"/>
                  </a:lnTo>
                  <a:lnTo>
                    <a:pt x="2310" y="6033"/>
                  </a:lnTo>
                  <a:lnTo>
                    <a:pt x="2253" y="6047"/>
                  </a:lnTo>
                  <a:lnTo>
                    <a:pt x="2197" y="6063"/>
                  </a:lnTo>
                  <a:lnTo>
                    <a:pt x="2143" y="6079"/>
                  </a:lnTo>
                  <a:lnTo>
                    <a:pt x="2089" y="6096"/>
                  </a:lnTo>
                  <a:lnTo>
                    <a:pt x="2039" y="6113"/>
                  </a:lnTo>
                  <a:lnTo>
                    <a:pt x="1990" y="6132"/>
                  </a:lnTo>
                  <a:lnTo>
                    <a:pt x="1944" y="6153"/>
                  </a:lnTo>
                  <a:lnTo>
                    <a:pt x="1901" y="6174"/>
                  </a:lnTo>
                  <a:lnTo>
                    <a:pt x="1860" y="6197"/>
                  </a:lnTo>
                  <a:lnTo>
                    <a:pt x="1823" y="6220"/>
                  </a:lnTo>
                  <a:lnTo>
                    <a:pt x="1789" y="6246"/>
                  </a:lnTo>
                  <a:lnTo>
                    <a:pt x="1759" y="6273"/>
                  </a:lnTo>
                  <a:lnTo>
                    <a:pt x="1733" y="6301"/>
                  </a:lnTo>
                  <a:lnTo>
                    <a:pt x="1711" y="6331"/>
                  </a:lnTo>
                  <a:lnTo>
                    <a:pt x="1694" y="6363"/>
                  </a:lnTo>
                  <a:lnTo>
                    <a:pt x="1682" y="6398"/>
                  </a:lnTo>
                  <a:lnTo>
                    <a:pt x="1675" y="6433"/>
                  </a:lnTo>
                  <a:lnTo>
                    <a:pt x="1677" y="6433"/>
                  </a:lnTo>
                  <a:lnTo>
                    <a:pt x="1682" y="6432"/>
                  </a:lnTo>
                  <a:lnTo>
                    <a:pt x="1688" y="6432"/>
                  </a:lnTo>
                  <a:lnTo>
                    <a:pt x="1694" y="6432"/>
                  </a:lnTo>
                  <a:lnTo>
                    <a:pt x="1695" y="6433"/>
                  </a:lnTo>
                  <a:lnTo>
                    <a:pt x="1696" y="6434"/>
                  </a:lnTo>
                  <a:lnTo>
                    <a:pt x="1696" y="6435"/>
                  </a:lnTo>
                  <a:lnTo>
                    <a:pt x="1695" y="6436"/>
                  </a:lnTo>
                  <a:lnTo>
                    <a:pt x="1687" y="6441"/>
                  </a:lnTo>
                  <a:lnTo>
                    <a:pt x="1671" y="6448"/>
                  </a:lnTo>
                  <a:lnTo>
                    <a:pt x="1646" y="6457"/>
                  </a:lnTo>
                  <a:lnTo>
                    <a:pt x="1607" y="6470"/>
                  </a:lnTo>
                  <a:lnTo>
                    <a:pt x="1556" y="6487"/>
                  </a:lnTo>
                  <a:lnTo>
                    <a:pt x="1488" y="6508"/>
                  </a:lnTo>
                  <a:lnTo>
                    <a:pt x="1405" y="6533"/>
                  </a:lnTo>
                  <a:lnTo>
                    <a:pt x="1301" y="6563"/>
                  </a:lnTo>
                  <a:lnTo>
                    <a:pt x="1176" y="6597"/>
                  </a:lnTo>
                  <a:lnTo>
                    <a:pt x="1029" y="6639"/>
                  </a:lnTo>
                  <a:lnTo>
                    <a:pt x="875" y="6682"/>
                  </a:lnTo>
                  <a:lnTo>
                    <a:pt x="734" y="6721"/>
                  </a:lnTo>
                  <a:lnTo>
                    <a:pt x="669" y="6742"/>
                  </a:lnTo>
                  <a:lnTo>
                    <a:pt x="607" y="6760"/>
                  </a:lnTo>
                  <a:lnTo>
                    <a:pt x="548" y="6779"/>
                  </a:lnTo>
                  <a:lnTo>
                    <a:pt x="493" y="6797"/>
                  </a:lnTo>
                  <a:lnTo>
                    <a:pt x="440" y="6815"/>
                  </a:lnTo>
                  <a:lnTo>
                    <a:pt x="392" y="6832"/>
                  </a:lnTo>
                  <a:lnTo>
                    <a:pt x="345" y="6850"/>
                  </a:lnTo>
                  <a:lnTo>
                    <a:pt x="304" y="6868"/>
                  </a:lnTo>
                  <a:lnTo>
                    <a:pt x="265" y="6886"/>
                  </a:lnTo>
                  <a:lnTo>
                    <a:pt x="228" y="6903"/>
                  </a:lnTo>
                  <a:lnTo>
                    <a:pt x="196" y="6921"/>
                  </a:lnTo>
                  <a:lnTo>
                    <a:pt x="168" y="6939"/>
                  </a:lnTo>
                  <a:lnTo>
                    <a:pt x="142" y="6957"/>
                  </a:lnTo>
                  <a:lnTo>
                    <a:pt x="120" y="6975"/>
                  </a:lnTo>
                  <a:lnTo>
                    <a:pt x="100" y="6995"/>
                  </a:lnTo>
                  <a:lnTo>
                    <a:pt x="85" y="7015"/>
                  </a:lnTo>
                  <a:lnTo>
                    <a:pt x="73" y="7034"/>
                  </a:lnTo>
                  <a:lnTo>
                    <a:pt x="64" y="7055"/>
                  </a:lnTo>
                  <a:lnTo>
                    <a:pt x="59" y="7076"/>
                  </a:lnTo>
                  <a:lnTo>
                    <a:pt x="57" y="7098"/>
                  </a:lnTo>
                  <a:lnTo>
                    <a:pt x="59" y="7121"/>
                  </a:lnTo>
                  <a:lnTo>
                    <a:pt x="63" y="7144"/>
                  </a:lnTo>
                  <a:lnTo>
                    <a:pt x="72" y="7168"/>
                  </a:lnTo>
                  <a:lnTo>
                    <a:pt x="84" y="7193"/>
                  </a:lnTo>
                  <a:lnTo>
                    <a:pt x="99" y="7220"/>
                  </a:lnTo>
                  <a:lnTo>
                    <a:pt x="119" y="7247"/>
                  </a:lnTo>
                  <a:lnTo>
                    <a:pt x="141" y="7276"/>
                  </a:lnTo>
                  <a:lnTo>
                    <a:pt x="166" y="7305"/>
                  </a:lnTo>
                  <a:lnTo>
                    <a:pt x="177" y="7311"/>
                  </a:lnTo>
                  <a:lnTo>
                    <a:pt x="209" y="7329"/>
                  </a:lnTo>
                  <a:lnTo>
                    <a:pt x="259" y="7356"/>
                  </a:lnTo>
                  <a:lnTo>
                    <a:pt x="324" y="7387"/>
                  </a:lnTo>
                  <a:lnTo>
                    <a:pt x="363" y="7405"/>
                  </a:lnTo>
                  <a:lnTo>
                    <a:pt x="403" y="7422"/>
                  </a:lnTo>
                  <a:lnTo>
                    <a:pt x="446" y="7440"/>
                  </a:lnTo>
                  <a:lnTo>
                    <a:pt x="493" y="7459"/>
                  </a:lnTo>
                  <a:lnTo>
                    <a:pt x="541" y="7476"/>
                  </a:lnTo>
                  <a:lnTo>
                    <a:pt x="591" y="7492"/>
                  </a:lnTo>
                  <a:lnTo>
                    <a:pt x="643" y="7507"/>
                  </a:lnTo>
                  <a:lnTo>
                    <a:pt x="695" y="7521"/>
                  </a:lnTo>
                  <a:lnTo>
                    <a:pt x="690" y="7526"/>
                  </a:lnTo>
                  <a:lnTo>
                    <a:pt x="677" y="7540"/>
                  </a:lnTo>
                  <a:lnTo>
                    <a:pt x="658" y="7563"/>
                  </a:lnTo>
                  <a:lnTo>
                    <a:pt x="633" y="7595"/>
                  </a:lnTo>
                  <a:lnTo>
                    <a:pt x="620" y="7613"/>
                  </a:lnTo>
                  <a:lnTo>
                    <a:pt x="606" y="7632"/>
                  </a:lnTo>
                  <a:lnTo>
                    <a:pt x="592" y="7653"/>
                  </a:lnTo>
                  <a:lnTo>
                    <a:pt x="578" y="7676"/>
                  </a:lnTo>
                  <a:lnTo>
                    <a:pt x="565" y="7700"/>
                  </a:lnTo>
                  <a:lnTo>
                    <a:pt x="552" y="7725"/>
                  </a:lnTo>
                  <a:lnTo>
                    <a:pt x="540" y="7751"/>
                  </a:lnTo>
                  <a:lnTo>
                    <a:pt x="529" y="7778"/>
                  </a:lnTo>
                  <a:lnTo>
                    <a:pt x="519" y="7806"/>
                  </a:lnTo>
                  <a:lnTo>
                    <a:pt x="511" y="7835"/>
                  </a:lnTo>
                  <a:lnTo>
                    <a:pt x="504" y="7864"/>
                  </a:lnTo>
                  <a:lnTo>
                    <a:pt x="500" y="7894"/>
                  </a:lnTo>
                  <a:lnTo>
                    <a:pt x="497" y="7924"/>
                  </a:lnTo>
                  <a:lnTo>
                    <a:pt x="497" y="7955"/>
                  </a:lnTo>
                  <a:lnTo>
                    <a:pt x="500" y="7986"/>
                  </a:lnTo>
                  <a:lnTo>
                    <a:pt x="506" y="8017"/>
                  </a:lnTo>
                  <a:lnTo>
                    <a:pt x="514" y="8048"/>
                  </a:lnTo>
                  <a:lnTo>
                    <a:pt x="526" y="8079"/>
                  </a:lnTo>
                  <a:lnTo>
                    <a:pt x="542" y="8110"/>
                  </a:lnTo>
                  <a:lnTo>
                    <a:pt x="562" y="8140"/>
                  </a:lnTo>
                  <a:lnTo>
                    <a:pt x="586" y="8169"/>
                  </a:lnTo>
                  <a:lnTo>
                    <a:pt x="615" y="8199"/>
                  </a:lnTo>
                  <a:lnTo>
                    <a:pt x="648" y="8228"/>
                  </a:lnTo>
                  <a:lnTo>
                    <a:pt x="685" y="8256"/>
                  </a:lnTo>
                  <a:lnTo>
                    <a:pt x="706" y="8257"/>
                  </a:lnTo>
                  <a:lnTo>
                    <a:pt x="764" y="8262"/>
                  </a:lnTo>
                  <a:lnTo>
                    <a:pt x="846" y="8268"/>
                  </a:lnTo>
                  <a:lnTo>
                    <a:pt x="947" y="8276"/>
                  </a:lnTo>
                  <a:lnTo>
                    <a:pt x="1057" y="8285"/>
                  </a:lnTo>
                  <a:lnTo>
                    <a:pt x="1165" y="8294"/>
                  </a:lnTo>
                  <a:lnTo>
                    <a:pt x="1263" y="8300"/>
                  </a:lnTo>
                  <a:lnTo>
                    <a:pt x="1342" y="8305"/>
                  </a:lnTo>
                  <a:lnTo>
                    <a:pt x="1347" y="8317"/>
                  </a:lnTo>
                  <a:lnTo>
                    <a:pt x="1361" y="8351"/>
                  </a:lnTo>
                  <a:lnTo>
                    <a:pt x="1369" y="8375"/>
                  </a:lnTo>
                  <a:lnTo>
                    <a:pt x="1378" y="8404"/>
                  </a:lnTo>
                  <a:lnTo>
                    <a:pt x="1386" y="8437"/>
                  </a:lnTo>
                  <a:lnTo>
                    <a:pt x="1394" y="8474"/>
                  </a:lnTo>
                  <a:lnTo>
                    <a:pt x="1396" y="8493"/>
                  </a:lnTo>
                  <a:lnTo>
                    <a:pt x="1399" y="8514"/>
                  </a:lnTo>
                  <a:lnTo>
                    <a:pt x="1401" y="8536"/>
                  </a:lnTo>
                  <a:lnTo>
                    <a:pt x="1402" y="8558"/>
                  </a:lnTo>
                  <a:lnTo>
                    <a:pt x="1403" y="8580"/>
                  </a:lnTo>
                  <a:lnTo>
                    <a:pt x="1403" y="8604"/>
                  </a:lnTo>
                  <a:lnTo>
                    <a:pt x="1402" y="8627"/>
                  </a:lnTo>
                  <a:lnTo>
                    <a:pt x="1400" y="8653"/>
                  </a:lnTo>
                  <a:lnTo>
                    <a:pt x="1397" y="8678"/>
                  </a:lnTo>
                  <a:lnTo>
                    <a:pt x="1393" y="8703"/>
                  </a:lnTo>
                  <a:lnTo>
                    <a:pt x="1388" y="8729"/>
                  </a:lnTo>
                  <a:lnTo>
                    <a:pt x="1382" y="8755"/>
                  </a:lnTo>
                  <a:lnTo>
                    <a:pt x="1374" y="8782"/>
                  </a:lnTo>
                  <a:lnTo>
                    <a:pt x="1364" y="8809"/>
                  </a:lnTo>
                  <a:lnTo>
                    <a:pt x="1353" y="8836"/>
                  </a:lnTo>
                  <a:lnTo>
                    <a:pt x="1342" y="8863"/>
                  </a:lnTo>
                  <a:lnTo>
                    <a:pt x="1343" y="8866"/>
                  </a:lnTo>
                  <a:lnTo>
                    <a:pt x="1349" y="8873"/>
                  </a:lnTo>
                  <a:lnTo>
                    <a:pt x="1359" y="8883"/>
                  </a:lnTo>
                  <a:lnTo>
                    <a:pt x="1374" y="8896"/>
                  </a:lnTo>
                  <a:lnTo>
                    <a:pt x="1382" y="8903"/>
                  </a:lnTo>
                  <a:lnTo>
                    <a:pt x="1392" y="8910"/>
                  </a:lnTo>
                  <a:lnTo>
                    <a:pt x="1402" y="8917"/>
                  </a:lnTo>
                  <a:lnTo>
                    <a:pt x="1414" y="8924"/>
                  </a:lnTo>
                  <a:lnTo>
                    <a:pt x="1427" y="8930"/>
                  </a:lnTo>
                  <a:lnTo>
                    <a:pt x="1442" y="8936"/>
                  </a:lnTo>
                  <a:lnTo>
                    <a:pt x="1457" y="8942"/>
                  </a:lnTo>
                  <a:lnTo>
                    <a:pt x="1474" y="8947"/>
                  </a:lnTo>
                  <a:lnTo>
                    <a:pt x="1492" y="8951"/>
                  </a:lnTo>
                  <a:lnTo>
                    <a:pt x="1512" y="8954"/>
                  </a:lnTo>
                  <a:lnTo>
                    <a:pt x="1532" y="8956"/>
                  </a:lnTo>
                  <a:lnTo>
                    <a:pt x="1554" y="8957"/>
                  </a:lnTo>
                  <a:lnTo>
                    <a:pt x="1577" y="8957"/>
                  </a:lnTo>
                  <a:lnTo>
                    <a:pt x="1602" y="8955"/>
                  </a:lnTo>
                  <a:lnTo>
                    <a:pt x="1629" y="8951"/>
                  </a:lnTo>
                  <a:lnTo>
                    <a:pt x="1656" y="8946"/>
                  </a:lnTo>
                  <a:lnTo>
                    <a:pt x="1685" y="8939"/>
                  </a:lnTo>
                  <a:lnTo>
                    <a:pt x="1715" y="8930"/>
                  </a:lnTo>
                  <a:lnTo>
                    <a:pt x="1747" y="8919"/>
                  </a:lnTo>
                  <a:lnTo>
                    <a:pt x="1781" y="8905"/>
                  </a:lnTo>
                  <a:lnTo>
                    <a:pt x="1815" y="8888"/>
                  </a:lnTo>
                  <a:lnTo>
                    <a:pt x="1852" y="8870"/>
                  </a:lnTo>
                  <a:lnTo>
                    <a:pt x="1890" y="8848"/>
                  </a:lnTo>
                  <a:lnTo>
                    <a:pt x="1930" y="8824"/>
                  </a:lnTo>
                  <a:lnTo>
                    <a:pt x="1944" y="8822"/>
                  </a:lnTo>
                  <a:lnTo>
                    <a:pt x="1980" y="8819"/>
                  </a:lnTo>
                  <a:lnTo>
                    <a:pt x="2004" y="8818"/>
                  </a:lnTo>
                  <a:lnTo>
                    <a:pt x="2030" y="8819"/>
                  </a:lnTo>
                  <a:lnTo>
                    <a:pt x="2043" y="8820"/>
                  </a:lnTo>
                  <a:lnTo>
                    <a:pt x="2056" y="8821"/>
                  </a:lnTo>
                  <a:lnTo>
                    <a:pt x="2069" y="8823"/>
                  </a:lnTo>
                  <a:lnTo>
                    <a:pt x="2082" y="8825"/>
                  </a:lnTo>
                  <a:lnTo>
                    <a:pt x="2095" y="8829"/>
                  </a:lnTo>
                  <a:lnTo>
                    <a:pt x="2108" y="8833"/>
                  </a:lnTo>
                  <a:lnTo>
                    <a:pt x="2119" y="8838"/>
                  </a:lnTo>
                  <a:lnTo>
                    <a:pt x="2131" y="8844"/>
                  </a:lnTo>
                  <a:lnTo>
                    <a:pt x="2141" y="8851"/>
                  </a:lnTo>
                  <a:lnTo>
                    <a:pt x="2151" y="8858"/>
                  </a:lnTo>
                  <a:lnTo>
                    <a:pt x="2159" y="8867"/>
                  </a:lnTo>
                  <a:lnTo>
                    <a:pt x="2165" y="8878"/>
                  </a:lnTo>
                  <a:lnTo>
                    <a:pt x="2170" y="8889"/>
                  </a:lnTo>
                  <a:lnTo>
                    <a:pt x="2174" y="8903"/>
                  </a:lnTo>
                  <a:lnTo>
                    <a:pt x="2176" y="8917"/>
                  </a:lnTo>
                  <a:lnTo>
                    <a:pt x="2176" y="8932"/>
                  </a:lnTo>
                  <a:lnTo>
                    <a:pt x="2174" y="8949"/>
                  </a:lnTo>
                  <a:lnTo>
                    <a:pt x="2170" y="8968"/>
                  </a:lnTo>
                  <a:lnTo>
                    <a:pt x="2164" y="8988"/>
                  </a:lnTo>
                  <a:lnTo>
                    <a:pt x="2155" y="9011"/>
                  </a:lnTo>
                  <a:lnTo>
                    <a:pt x="2155" y="9016"/>
                  </a:lnTo>
                  <a:lnTo>
                    <a:pt x="2156" y="9029"/>
                  </a:lnTo>
                  <a:lnTo>
                    <a:pt x="2159" y="9049"/>
                  </a:lnTo>
                  <a:lnTo>
                    <a:pt x="2164" y="9075"/>
                  </a:lnTo>
                  <a:lnTo>
                    <a:pt x="2169" y="9089"/>
                  </a:lnTo>
                  <a:lnTo>
                    <a:pt x="2174" y="9103"/>
                  </a:lnTo>
                  <a:lnTo>
                    <a:pt x="2180" y="9119"/>
                  </a:lnTo>
                  <a:lnTo>
                    <a:pt x="2188" y="9135"/>
                  </a:lnTo>
                  <a:lnTo>
                    <a:pt x="2198" y="9150"/>
                  </a:lnTo>
                  <a:lnTo>
                    <a:pt x="2209" y="9165"/>
                  </a:lnTo>
                  <a:lnTo>
                    <a:pt x="2222" y="9180"/>
                  </a:lnTo>
                  <a:lnTo>
                    <a:pt x="2237" y="9194"/>
                  </a:lnTo>
                  <a:lnTo>
                    <a:pt x="2254" y="9207"/>
                  </a:lnTo>
                  <a:lnTo>
                    <a:pt x="2273" y="9220"/>
                  </a:lnTo>
                  <a:lnTo>
                    <a:pt x="2294" y="9230"/>
                  </a:lnTo>
                  <a:lnTo>
                    <a:pt x="2318" y="9240"/>
                  </a:lnTo>
                  <a:lnTo>
                    <a:pt x="2344" y="9247"/>
                  </a:lnTo>
                  <a:lnTo>
                    <a:pt x="2373" y="9254"/>
                  </a:lnTo>
                  <a:lnTo>
                    <a:pt x="2405" y="9258"/>
                  </a:lnTo>
                  <a:lnTo>
                    <a:pt x="2440" y="9259"/>
                  </a:lnTo>
                  <a:lnTo>
                    <a:pt x="2478" y="9258"/>
                  </a:lnTo>
                  <a:lnTo>
                    <a:pt x="2519" y="9254"/>
                  </a:lnTo>
                  <a:lnTo>
                    <a:pt x="2563" y="9246"/>
                  </a:lnTo>
                  <a:lnTo>
                    <a:pt x="2611" y="9235"/>
                  </a:lnTo>
                  <a:lnTo>
                    <a:pt x="2663" y="9221"/>
                  </a:lnTo>
                  <a:lnTo>
                    <a:pt x="2718" y="9204"/>
                  </a:lnTo>
                  <a:lnTo>
                    <a:pt x="2778" y="9183"/>
                  </a:lnTo>
                  <a:lnTo>
                    <a:pt x="2840" y="9158"/>
                  </a:lnTo>
                  <a:lnTo>
                    <a:pt x="2850" y="9153"/>
                  </a:lnTo>
                  <a:lnTo>
                    <a:pt x="2875" y="9139"/>
                  </a:lnTo>
                  <a:lnTo>
                    <a:pt x="2916" y="9116"/>
                  </a:lnTo>
                  <a:lnTo>
                    <a:pt x="2967" y="9090"/>
                  </a:lnTo>
                  <a:lnTo>
                    <a:pt x="3028" y="9060"/>
                  </a:lnTo>
                  <a:lnTo>
                    <a:pt x="3094" y="9028"/>
                  </a:lnTo>
                  <a:lnTo>
                    <a:pt x="3165" y="8994"/>
                  </a:lnTo>
                  <a:lnTo>
                    <a:pt x="3236" y="8964"/>
                  </a:lnTo>
                  <a:lnTo>
                    <a:pt x="3272" y="8950"/>
                  </a:lnTo>
                  <a:lnTo>
                    <a:pt x="3306" y="8937"/>
                  </a:lnTo>
                  <a:lnTo>
                    <a:pt x="3340" y="8925"/>
                  </a:lnTo>
                  <a:lnTo>
                    <a:pt x="3372" y="8915"/>
                  </a:lnTo>
                  <a:lnTo>
                    <a:pt x="3403" y="8906"/>
                  </a:lnTo>
                  <a:lnTo>
                    <a:pt x="3431" y="8900"/>
                  </a:lnTo>
                  <a:lnTo>
                    <a:pt x="3457" y="8895"/>
                  </a:lnTo>
                  <a:lnTo>
                    <a:pt x="3481" y="8893"/>
                  </a:lnTo>
                  <a:lnTo>
                    <a:pt x="3501" y="8894"/>
                  </a:lnTo>
                  <a:lnTo>
                    <a:pt x="3520" y="8898"/>
                  </a:lnTo>
                  <a:lnTo>
                    <a:pt x="3533" y="8904"/>
                  </a:lnTo>
                  <a:lnTo>
                    <a:pt x="3543" y="8914"/>
                  </a:lnTo>
                  <a:lnTo>
                    <a:pt x="3548" y="8927"/>
                  </a:lnTo>
                  <a:lnTo>
                    <a:pt x="3549" y="8944"/>
                  </a:lnTo>
                  <a:lnTo>
                    <a:pt x="3545" y="8965"/>
                  </a:lnTo>
                  <a:lnTo>
                    <a:pt x="3536" y="8990"/>
                  </a:lnTo>
                  <a:lnTo>
                    <a:pt x="3532" y="8997"/>
                  </a:lnTo>
                  <a:lnTo>
                    <a:pt x="3520" y="9015"/>
                  </a:lnTo>
                  <a:lnTo>
                    <a:pt x="3499" y="9042"/>
                  </a:lnTo>
                  <a:lnTo>
                    <a:pt x="3473" y="9078"/>
                  </a:lnTo>
                  <a:lnTo>
                    <a:pt x="3439" y="9122"/>
                  </a:lnTo>
                  <a:lnTo>
                    <a:pt x="3400" y="9173"/>
                  </a:lnTo>
                  <a:lnTo>
                    <a:pt x="3354" y="9229"/>
                  </a:lnTo>
                  <a:lnTo>
                    <a:pt x="3304" y="9289"/>
                  </a:lnTo>
                  <a:lnTo>
                    <a:pt x="3276" y="9319"/>
                  </a:lnTo>
                  <a:lnTo>
                    <a:pt x="3247" y="9350"/>
                  </a:lnTo>
                  <a:lnTo>
                    <a:pt x="3218" y="9383"/>
                  </a:lnTo>
                  <a:lnTo>
                    <a:pt x="3188" y="9414"/>
                  </a:lnTo>
                  <a:lnTo>
                    <a:pt x="3157" y="9446"/>
                  </a:lnTo>
                  <a:lnTo>
                    <a:pt x="3124" y="9478"/>
                  </a:lnTo>
                  <a:lnTo>
                    <a:pt x="3091" y="9510"/>
                  </a:lnTo>
                  <a:lnTo>
                    <a:pt x="3057" y="9541"/>
                  </a:lnTo>
                  <a:lnTo>
                    <a:pt x="3022" y="9571"/>
                  </a:lnTo>
                  <a:lnTo>
                    <a:pt x="2986" y="9601"/>
                  </a:lnTo>
                  <a:lnTo>
                    <a:pt x="2950" y="9630"/>
                  </a:lnTo>
                  <a:lnTo>
                    <a:pt x="2914" y="9658"/>
                  </a:lnTo>
                  <a:lnTo>
                    <a:pt x="2876" y="9684"/>
                  </a:lnTo>
                  <a:lnTo>
                    <a:pt x="2839" y="9709"/>
                  </a:lnTo>
                  <a:lnTo>
                    <a:pt x="2801" y="9734"/>
                  </a:lnTo>
                  <a:lnTo>
                    <a:pt x="2763" y="9755"/>
                  </a:lnTo>
                  <a:lnTo>
                    <a:pt x="2748" y="9760"/>
                  </a:lnTo>
                  <a:lnTo>
                    <a:pt x="2707" y="9774"/>
                  </a:lnTo>
                  <a:lnTo>
                    <a:pt x="2643" y="9796"/>
                  </a:lnTo>
                  <a:lnTo>
                    <a:pt x="2558" y="9826"/>
                  </a:lnTo>
                  <a:lnTo>
                    <a:pt x="2455" y="9864"/>
                  </a:lnTo>
                  <a:lnTo>
                    <a:pt x="2337" y="9907"/>
                  </a:lnTo>
                  <a:lnTo>
                    <a:pt x="2208" y="9955"/>
                  </a:lnTo>
                  <a:lnTo>
                    <a:pt x="2069" y="10009"/>
                  </a:lnTo>
                  <a:lnTo>
                    <a:pt x="1924" y="10066"/>
                  </a:lnTo>
                  <a:lnTo>
                    <a:pt x="1776" y="10127"/>
                  </a:lnTo>
                  <a:lnTo>
                    <a:pt x="1701" y="10158"/>
                  </a:lnTo>
                  <a:lnTo>
                    <a:pt x="1628" y="10190"/>
                  </a:lnTo>
                  <a:lnTo>
                    <a:pt x="1554" y="10223"/>
                  </a:lnTo>
                  <a:lnTo>
                    <a:pt x="1481" y="10256"/>
                  </a:lnTo>
                  <a:lnTo>
                    <a:pt x="1410" y="10288"/>
                  </a:lnTo>
                  <a:lnTo>
                    <a:pt x="1340" y="10321"/>
                  </a:lnTo>
                  <a:lnTo>
                    <a:pt x="1273" y="10355"/>
                  </a:lnTo>
                  <a:lnTo>
                    <a:pt x="1208" y="10388"/>
                  </a:lnTo>
                  <a:lnTo>
                    <a:pt x="1146" y="10421"/>
                  </a:lnTo>
                  <a:lnTo>
                    <a:pt x="1086" y="10455"/>
                  </a:lnTo>
                  <a:lnTo>
                    <a:pt x="1031" y="10487"/>
                  </a:lnTo>
                  <a:lnTo>
                    <a:pt x="979" y="10519"/>
                  </a:lnTo>
                  <a:lnTo>
                    <a:pt x="971" y="10521"/>
                  </a:lnTo>
                  <a:lnTo>
                    <a:pt x="950" y="10525"/>
                  </a:lnTo>
                  <a:lnTo>
                    <a:pt x="915" y="10533"/>
                  </a:lnTo>
                  <a:lnTo>
                    <a:pt x="869" y="10543"/>
                  </a:lnTo>
                  <a:lnTo>
                    <a:pt x="813" y="10557"/>
                  </a:lnTo>
                  <a:lnTo>
                    <a:pt x="750" y="10575"/>
                  </a:lnTo>
                  <a:lnTo>
                    <a:pt x="679" y="10595"/>
                  </a:lnTo>
                  <a:lnTo>
                    <a:pt x="603" y="10618"/>
                  </a:lnTo>
                  <a:lnTo>
                    <a:pt x="564" y="10630"/>
                  </a:lnTo>
                  <a:lnTo>
                    <a:pt x="524" y="10644"/>
                  </a:lnTo>
                  <a:lnTo>
                    <a:pt x="483" y="10658"/>
                  </a:lnTo>
                  <a:lnTo>
                    <a:pt x="443" y="10673"/>
                  </a:lnTo>
                  <a:lnTo>
                    <a:pt x="402" y="10690"/>
                  </a:lnTo>
                  <a:lnTo>
                    <a:pt x="361" y="10707"/>
                  </a:lnTo>
                  <a:lnTo>
                    <a:pt x="321" y="10725"/>
                  </a:lnTo>
                  <a:lnTo>
                    <a:pt x="281" y="10743"/>
                  </a:lnTo>
                  <a:lnTo>
                    <a:pt x="242" y="10762"/>
                  </a:lnTo>
                  <a:lnTo>
                    <a:pt x="203" y="10782"/>
                  </a:lnTo>
                  <a:lnTo>
                    <a:pt x="165" y="10803"/>
                  </a:lnTo>
                  <a:lnTo>
                    <a:pt x="129" y="10826"/>
                  </a:lnTo>
                  <a:lnTo>
                    <a:pt x="94" y="10848"/>
                  </a:lnTo>
                  <a:lnTo>
                    <a:pt x="61" y="10872"/>
                  </a:lnTo>
                  <a:lnTo>
                    <a:pt x="29" y="10896"/>
                  </a:lnTo>
                  <a:lnTo>
                    <a:pt x="0" y="10921"/>
                  </a:lnTo>
                  <a:lnTo>
                    <a:pt x="7" y="10919"/>
                  </a:lnTo>
                  <a:lnTo>
                    <a:pt x="28" y="10915"/>
                  </a:lnTo>
                  <a:lnTo>
                    <a:pt x="60" y="10909"/>
                  </a:lnTo>
                  <a:lnTo>
                    <a:pt x="105" y="10901"/>
                  </a:lnTo>
                  <a:lnTo>
                    <a:pt x="161" y="10890"/>
                  </a:lnTo>
                  <a:lnTo>
                    <a:pt x="225" y="10879"/>
                  </a:lnTo>
                  <a:lnTo>
                    <a:pt x="299" y="10866"/>
                  </a:lnTo>
                  <a:lnTo>
                    <a:pt x="381" y="10853"/>
                  </a:lnTo>
                  <a:lnTo>
                    <a:pt x="468" y="10839"/>
                  </a:lnTo>
                  <a:lnTo>
                    <a:pt x="563" y="10825"/>
                  </a:lnTo>
                  <a:lnTo>
                    <a:pt x="662" y="10811"/>
                  </a:lnTo>
                  <a:lnTo>
                    <a:pt x="765" y="10797"/>
                  </a:lnTo>
                  <a:lnTo>
                    <a:pt x="870" y="10784"/>
                  </a:lnTo>
                  <a:lnTo>
                    <a:pt x="977" y="10773"/>
                  </a:lnTo>
                  <a:lnTo>
                    <a:pt x="1086" y="10763"/>
                  </a:lnTo>
                  <a:lnTo>
                    <a:pt x="1195" y="10755"/>
                  </a:lnTo>
                  <a:lnTo>
                    <a:pt x="1252" y="10749"/>
                  </a:lnTo>
                  <a:lnTo>
                    <a:pt x="1314" y="10741"/>
                  </a:lnTo>
                  <a:lnTo>
                    <a:pt x="1381" y="10729"/>
                  </a:lnTo>
                  <a:lnTo>
                    <a:pt x="1452" y="10715"/>
                  </a:lnTo>
                  <a:lnTo>
                    <a:pt x="1528" y="10698"/>
                  </a:lnTo>
                  <a:lnTo>
                    <a:pt x="1607" y="10677"/>
                  </a:lnTo>
                  <a:lnTo>
                    <a:pt x="1690" y="10654"/>
                  </a:lnTo>
                  <a:lnTo>
                    <a:pt x="1777" y="10630"/>
                  </a:lnTo>
                  <a:lnTo>
                    <a:pt x="1866" y="10603"/>
                  </a:lnTo>
                  <a:lnTo>
                    <a:pt x="1958" y="10574"/>
                  </a:lnTo>
                  <a:lnTo>
                    <a:pt x="2052" y="10542"/>
                  </a:lnTo>
                  <a:lnTo>
                    <a:pt x="2148" y="10510"/>
                  </a:lnTo>
                  <a:lnTo>
                    <a:pt x="2245" y="10476"/>
                  </a:lnTo>
                  <a:lnTo>
                    <a:pt x="2344" y="10439"/>
                  </a:lnTo>
                  <a:lnTo>
                    <a:pt x="2444" y="10402"/>
                  </a:lnTo>
                  <a:lnTo>
                    <a:pt x="2544" y="10364"/>
                  </a:lnTo>
                  <a:lnTo>
                    <a:pt x="2645" y="10324"/>
                  </a:lnTo>
                  <a:lnTo>
                    <a:pt x="2745" y="10284"/>
                  </a:lnTo>
                  <a:lnTo>
                    <a:pt x="2845" y="10244"/>
                  </a:lnTo>
                  <a:lnTo>
                    <a:pt x="2945" y="10202"/>
                  </a:lnTo>
                  <a:lnTo>
                    <a:pt x="3044" y="10160"/>
                  </a:lnTo>
                  <a:lnTo>
                    <a:pt x="3141" y="10119"/>
                  </a:lnTo>
                  <a:lnTo>
                    <a:pt x="3236" y="10076"/>
                  </a:lnTo>
                  <a:lnTo>
                    <a:pt x="3330" y="10034"/>
                  </a:lnTo>
                  <a:lnTo>
                    <a:pt x="3421" y="9992"/>
                  </a:lnTo>
                  <a:lnTo>
                    <a:pt x="3509" y="9950"/>
                  </a:lnTo>
                  <a:lnTo>
                    <a:pt x="3595" y="9909"/>
                  </a:lnTo>
                  <a:lnTo>
                    <a:pt x="3678" y="9869"/>
                  </a:lnTo>
                  <a:lnTo>
                    <a:pt x="3756" y="9829"/>
                  </a:lnTo>
                  <a:lnTo>
                    <a:pt x="3831" y="9790"/>
                  </a:lnTo>
                  <a:lnTo>
                    <a:pt x="3902" y="9753"/>
                  </a:lnTo>
                  <a:lnTo>
                    <a:pt x="3967" y="9716"/>
                  </a:lnTo>
                  <a:lnTo>
                    <a:pt x="3983" y="9712"/>
                  </a:lnTo>
                  <a:lnTo>
                    <a:pt x="4029" y="9701"/>
                  </a:lnTo>
                  <a:lnTo>
                    <a:pt x="4098" y="9684"/>
                  </a:lnTo>
                  <a:lnTo>
                    <a:pt x="4187" y="9660"/>
                  </a:lnTo>
                  <a:lnTo>
                    <a:pt x="4237" y="9646"/>
                  </a:lnTo>
                  <a:lnTo>
                    <a:pt x="4291" y="9631"/>
                  </a:lnTo>
                  <a:lnTo>
                    <a:pt x="4346" y="9615"/>
                  </a:lnTo>
                  <a:lnTo>
                    <a:pt x="4405" y="9596"/>
                  </a:lnTo>
                  <a:lnTo>
                    <a:pt x="4463" y="9577"/>
                  </a:lnTo>
                  <a:lnTo>
                    <a:pt x="4523" y="9557"/>
                  </a:lnTo>
                  <a:lnTo>
                    <a:pt x="4582" y="9535"/>
                  </a:lnTo>
                  <a:lnTo>
                    <a:pt x="4640" y="9513"/>
                  </a:lnTo>
                  <a:lnTo>
                    <a:pt x="4698" y="9490"/>
                  </a:lnTo>
                  <a:lnTo>
                    <a:pt x="4754" y="9465"/>
                  </a:lnTo>
                  <a:lnTo>
                    <a:pt x="4808" y="9440"/>
                  </a:lnTo>
                  <a:lnTo>
                    <a:pt x="4858" y="9414"/>
                  </a:lnTo>
                  <a:lnTo>
                    <a:pt x="4905" y="9387"/>
                  </a:lnTo>
                  <a:lnTo>
                    <a:pt x="4947" y="9359"/>
                  </a:lnTo>
                  <a:lnTo>
                    <a:pt x="4984" y="9331"/>
                  </a:lnTo>
                  <a:lnTo>
                    <a:pt x="5016" y="9303"/>
                  </a:lnTo>
                  <a:lnTo>
                    <a:pt x="5043" y="9274"/>
                  </a:lnTo>
                  <a:lnTo>
                    <a:pt x="5063" y="9243"/>
                  </a:lnTo>
                  <a:lnTo>
                    <a:pt x="5075" y="9214"/>
                  </a:lnTo>
                  <a:lnTo>
                    <a:pt x="5079" y="9183"/>
                  </a:lnTo>
                  <a:lnTo>
                    <a:pt x="5075" y="9153"/>
                  </a:lnTo>
                  <a:lnTo>
                    <a:pt x="5062" y="9121"/>
                  </a:lnTo>
                  <a:lnTo>
                    <a:pt x="5039" y="9090"/>
                  </a:lnTo>
                  <a:lnTo>
                    <a:pt x="5005" y="9059"/>
                  </a:lnTo>
                  <a:lnTo>
                    <a:pt x="5002" y="9058"/>
                  </a:lnTo>
                  <a:lnTo>
                    <a:pt x="4993" y="9053"/>
                  </a:lnTo>
                  <a:lnTo>
                    <a:pt x="4979" y="9045"/>
                  </a:lnTo>
                  <a:lnTo>
                    <a:pt x="4963" y="9035"/>
                  </a:lnTo>
                  <a:lnTo>
                    <a:pt x="4946" y="9023"/>
                  </a:lnTo>
                  <a:lnTo>
                    <a:pt x="4929" y="9007"/>
                  </a:lnTo>
                  <a:lnTo>
                    <a:pt x="4921" y="8999"/>
                  </a:lnTo>
                  <a:lnTo>
                    <a:pt x="4914" y="8991"/>
                  </a:lnTo>
                  <a:lnTo>
                    <a:pt x="4907" y="8982"/>
                  </a:lnTo>
                  <a:lnTo>
                    <a:pt x="4902" y="8973"/>
                  </a:lnTo>
                  <a:lnTo>
                    <a:pt x="4897" y="8964"/>
                  </a:lnTo>
                  <a:lnTo>
                    <a:pt x="4894" y="8955"/>
                  </a:lnTo>
                  <a:lnTo>
                    <a:pt x="4893" y="8945"/>
                  </a:lnTo>
                  <a:lnTo>
                    <a:pt x="4894" y="8935"/>
                  </a:lnTo>
                  <a:lnTo>
                    <a:pt x="4896" y="8925"/>
                  </a:lnTo>
                  <a:lnTo>
                    <a:pt x="4902" y="8915"/>
                  </a:lnTo>
                  <a:lnTo>
                    <a:pt x="4909" y="8905"/>
                  </a:lnTo>
                  <a:lnTo>
                    <a:pt x="4919" y="8895"/>
                  </a:lnTo>
                  <a:lnTo>
                    <a:pt x="4931" y="8883"/>
                  </a:lnTo>
                  <a:lnTo>
                    <a:pt x="4947" y="8873"/>
                  </a:lnTo>
                  <a:lnTo>
                    <a:pt x="4965" y="8863"/>
                  </a:lnTo>
                  <a:lnTo>
                    <a:pt x="4987" y="8853"/>
                  </a:lnTo>
                  <a:lnTo>
                    <a:pt x="5013" y="8843"/>
                  </a:lnTo>
                  <a:lnTo>
                    <a:pt x="5043" y="8833"/>
                  </a:lnTo>
                  <a:lnTo>
                    <a:pt x="5076" y="8824"/>
                  </a:lnTo>
                  <a:lnTo>
                    <a:pt x="5113" y="8815"/>
                  </a:lnTo>
                  <a:lnTo>
                    <a:pt x="5124" y="8808"/>
                  </a:lnTo>
                  <a:lnTo>
                    <a:pt x="5155" y="8789"/>
                  </a:lnTo>
                  <a:lnTo>
                    <a:pt x="5202" y="8758"/>
                  </a:lnTo>
                  <a:lnTo>
                    <a:pt x="5264" y="8718"/>
                  </a:lnTo>
                  <a:lnTo>
                    <a:pt x="5340" y="8669"/>
                  </a:lnTo>
                  <a:lnTo>
                    <a:pt x="5427" y="8612"/>
                  </a:lnTo>
                  <a:lnTo>
                    <a:pt x="5520" y="8549"/>
                  </a:lnTo>
                  <a:lnTo>
                    <a:pt x="5620" y="8479"/>
                  </a:lnTo>
                  <a:lnTo>
                    <a:pt x="5723" y="8405"/>
                  </a:lnTo>
                  <a:lnTo>
                    <a:pt x="5828" y="8329"/>
                  </a:lnTo>
                  <a:lnTo>
                    <a:pt x="5879" y="8289"/>
                  </a:lnTo>
                  <a:lnTo>
                    <a:pt x="5931" y="8249"/>
                  </a:lnTo>
                  <a:lnTo>
                    <a:pt x="5981" y="8210"/>
                  </a:lnTo>
                  <a:lnTo>
                    <a:pt x="6030" y="8169"/>
                  </a:lnTo>
                  <a:lnTo>
                    <a:pt x="6079" y="8130"/>
                  </a:lnTo>
                  <a:lnTo>
                    <a:pt x="6124" y="8090"/>
                  </a:lnTo>
                  <a:lnTo>
                    <a:pt x="6169" y="8050"/>
                  </a:lnTo>
                  <a:lnTo>
                    <a:pt x="6210" y="8011"/>
                  </a:lnTo>
                  <a:lnTo>
                    <a:pt x="6249" y="7974"/>
                  </a:lnTo>
                  <a:lnTo>
                    <a:pt x="6286" y="7936"/>
                  </a:lnTo>
                  <a:lnTo>
                    <a:pt x="6318" y="7899"/>
                  </a:lnTo>
                  <a:lnTo>
                    <a:pt x="6348" y="7864"/>
                  </a:lnTo>
                  <a:lnTo>
                    <a:pt x="6354" y="7861"/>
                  </a:lnTo>
                  <a:lnTo>
                    <a:pt x="6375" y="7853"/>
                  </a:lnTo>
                  <a:lnTo>
                    <a:pt x="6408" y="7841"/>
                  </a:lnTo>
                  <a:lnTo>
                    <a:pt x="6455" y="7826"/>
                  </a:lnTo>
                  <a:lnTo>
                    <a:pt x="6513" y="7808"/>
                  </a:lnTo>
                  <a:lnTo>
                    <a:pt x="6583" y="7789"/>
                  </a:lnTo>
                  <a:lnTo>
                    <a:pt x="6622" y="7779"/>
                  </a:lnTo>
                  <a:lnTo>
                    <a:pt x="6664" y="7769"/>
                  </a:lnTo>
                  <a:lnTo>
                    <a:pt x="6708" y="7759"/>
                  </a:lnTo>
                  <a:lnTo>
                    <a:pt x="6754" y="7750"/>
                  </a:lnTo>
                  <a:lnTo>
                    <a:pt x="6803" y="7741"/>
                  </a:lnTo>
                  <a:lnTo>
                    <a:pt x="6854" y="7732"/>
                  </a:lnTo>
                  <a:lnTo>
                    <a:pt x="6907" y="7724"/>
                  </a:lnTo>
                  <a:lnTo>
                    <a:pt x="6964" y="7716"/>
                  </a:lnTo>
                  <a:lnTo>
                    <a:pt x="7021" y="7710"/>
                  </a:lnTo>
                  <a:lnTo>
                    <a:pt x="7081" y="7704"/>
                  </a:lnTo>
                  <a:lnTo>
                    <a:pt x="7143" y="7699"/>
                  </a:lnTo>
                  <a:lnTo>
                    <a:pt x="7207" y="7695"/>
                  </a:lnTo>
                  <a:lnTo>
                    <a:pt x="7272" y="7691"/>
                  </a:lnTo>
                  <a:lnTo>
                    <a:pt x="7340" y="7690"/>
                  </a:lnTo>
                  <a:lnTo>
                    <a:pt x="7409" y="7690"/>
                  </a:lnTo>
                  <a:lnTo>
                    <a:pt x="7480" y="7692"/>
                  </a:lnTo>
                  <a:lnTo>
                    <a:pt x="7553" y="7696"/>
                  </a:lnTo>
                  <a:lnTo>
                    <a:pt x="7626" y="7701"/>
                  </a:lnTo>
                  <a:lnTo>
                    <a:pt x="7701" y="7708"/>
                  </a:lnTo>
                  <a:lnTo>
                    <a:pt x="7777" y="7717"/>
                  </a:lnTo>
                  <a:lnTo>
                    <a:pt x="7782" y="7719"/>
                  </a:lnTo>
                  <a:lnTo>
                    <a:pt x="7794" y="7726"/>
                  </a:lnTo>
                  <a:lnTo>
                    <a:pt x="7814" y="7736"/>
                  </a:lnTo>
                  <a:lnTo>
                    <a:pt x="7837" y="7750"/>
                  </a:lnTo>
                  <a:lnTo>
                    <a:pt x="7863" y="7766"/>
                  </a:lnTo>
                  <a:lnTo>
                    <a:pt x="7890" y="7785"/>
                  </a:lnTo>
                  <a:lnTo>
                    <a:pt x="7903" y="7795"/>
                  </a:lnTo>
                  <a:lnTo>
                    <a:pt x="7917" y="7805"/>
                  </a:lnTo>
                  <a:lnTo>
                    <a:pt x="7930" y="7817"/>
                  </a:lnTo>
                  <a:lnTo>
                    <a:pt x="7942" y="7827"/>
                  </a:lnTo>
                  <a:lnTo>
                    <a:pt x="7953" y="7839"/>
                  </a:lnTo>
                  <a:lnTo>
                    <a:pt x="7963" y="7850"/>
                  </a:lnTo>
                  <a:lnTo>
                    <a:pt x="7971" y="7861"/>
                  </a:lnTo>
                  <a:lnTo>
                    <a:pt x="7978" y="7872"/>
                  </a:lnTo>
                  <a:lnTo>
                    <a:pt x="7983" y="7883"/>
                  </a:lnTo>
                  <a:lnTo>
                    <a:pt x="7985" y="7894"/>
                  </a:lnTo>
                  <a:lnTo>
                    <a:pt x="7986" y="7905"/>
                  </a:lnTo>
                  <a:lnTo>
                    <a:pt x="7984" y="7915"/>
                  </a:lnTo>
                  <a:lnTo>
                    <a:pt x="7980" y="7925"/>
                  </a:lnTo>
                  <a:lnTo>
                    <a:pt x="7973" y="7936"/>
                  </a:lnTo>
                  <a:lnTo>
                    <a:pt x="7962" y="7945"/>
                  </a:lnTo>
                  <a:lnTo>
                    <a:pt x="7949" y="7954"/>
                  </a:lnTo>
                  <a:lnTo>
                    <a:pt x="7931" y="7962"/>
                  </a:lnTo>
                  <a:lnTo>
                    <a:pt x="7910" y="7969"/>
                  </a:lnTo>
                  <a:lnTo>
                    <a:pt x="7885" y="7976"/>
                  </a:lnTo>
                  <a:lnTo>
                    <a:pt x="7856" y="7982"/>
                  </a:lnTo>
                  <a:lnTo>
                    <a:pt x="7844" y="7981"/>
                  </a:lnTo>
                  <a:lnTo>
                    <a:pt x="7811" y="7981"/>
                  </a:lnTo>
                  <a:lnTo>
                    <a:pt x="7757" y="7981"/>
                  </a:lnTo>
                  <a:lnTo>
                    <a:pt x="7687" y="7982"/>
                  </a:lnTo>
                  <a:lnTo>
                    <a:pt x="7602" y="7986"/>
                  </a:lnTo>
                  <a:lnTo>
                    <a:pt x="7506" y="7991"/>
                  </a:lnTo>
                  <a:lnTo>
                    <a:pt x="7454" y="7995"/>
                  </a:lnTo>
                  <a:lnTo>
                    <a:pt x="7400" y="7999"/>
                  </a:lnTo>
                  <a:lnTo>
                    <a:pt x="7345" y="8004"/>
                  </a:lnTo>
                  <a:lnTo>
                    <a:pt x="7287" y="8011"/>
                  </a:lnTo>
                  <a:lnTo>
                    <a:pt x="7230" y="8018"/>
                  </a:lnTo>
                  <a:lnTo>
                    <a:pt x="7172" y="8027"/>
                  </a:lnTo>
                  <a:lnTo>
                    <a:pt x="7112" y="8036"/>
                  </a:lnTo>
                  <a:lnTo>
                    <a:pt x="7054" y="8047"/>
                  </a:lnTo>
                  <a:lnTo>
                    <a:pt x="6994" y="8060"/>
                  </a:lnTo>
                  <a:lnTo>
                    <a:pt x="6937" y="8074"/>
                  </a:lnTo>
                  <a:lnTo>
                    <a:pt x="6879" y="8089"/>
                  </a:lnTo>
                  <a:lnTo>
                    <a:pt x="6823" y="8106"/>
                  </a:lnTo>
                  <a:lnTo>
                    <a:pt x="6768" y="8124"/>
                  </a:lnTo>
                  <a:lnTo>
                    <a:pt x="6716" y="8144"/>
                  </a:lnTo>
                  <a:lnTo>
                    <a:pt x="6665" y="8165"/>
                  </a:lnTo>
                  <a:lnTo>
                    <a:pt x="6617" y="8190"/>
                  </a:lnTo>
                  <a:lnTo>
                    <a:pt x="6571" y="8216"/>
                  </a:lnTo>
                  <a:lnTo>
                    <a:pt x="6529" y="8243"/>
                  </a:lnTo>
                  <a:lnTo>
                    <a:pt x="6490" y="8273"/>
                  </a:lnTo>
                  <a:lnTo>
                    <a:pt x="6455" y="8305"/>
                  </a:lnTo>
                  <a:lnTo>
                    <a:pt x="6447" y="8318"/>
                  </a:lnTo>
                  <a:lnTo>
                    <a:pt x="6423" y="8351"/>
                  </a:lnTo>
                  <a:lnTo>
                    <a:pt x="6406" y="8374"/>
                  </a:lnTo>
                  <a:lnTo>
                    <a:pt x="6386" y="8399"/>
                  </a:lnTo>
                  <a:lnTo>
                    <a:pt x="6363" y="8427"/>
                  </a:lnTo>
                  <a:lnTo>
                    <a:pt x="6338" y="8456"/>
                  </a:lnTo>
                  <a:lnTo>
                    <a:pt x="6310" y="8484"/>
                  </a:lnTo>
                  <a:lnTo>
                    <a:pt x="6280" y="8513"/>
                  </a:lnTo>
                  <a:lnTo>
                    <a:pt x="6264" y="8526"/>
                  </a:lnTo>
                  <a:lnTo>
                    <a:pt x="6248" y="8541"/>
                  </a:lnTo>
                  <a:lnTo>
                    <a:pt x="6232" y="8553"/>
                  </a:lnTo>
                  <a:lnTo>
                    <a:pt x="6216" y="8566"/>
                  </a:lnTo>
                  <a:lnTo>
                    <a:pt x="6199" y="8577"/>
                  </a:lnTo>
                  <a:lnTo>
                    <a:pt x="6181" y="8588"/>
                  </a:lnTo>
                  <a:lnTo>
                    <a:pt x="6164" y="8597"/>
                  </a:lnTo>
                  <a:lnTo>
                    <a:pt x="6145" y="8606"/>
                  </a:lnTo>
                  <a:lnTo>
                    <a:pt x="6128" y="8613"/>
                  </a:lnTo>
                  <a:lnTo>
                    <a:pt x="6110" y="8620"/>
                  </a:lnTo>
                  <a:lnTo>
                    <a:pt x="6092" y="8624"/>
                  </a:lnTo>
                  <a:lnTo>
                    <a:pt x="6073" y="8628"/>
                  </a:lnTo>
                  <a:lnTo>
                    <a:pt x="6069" y="8634"/>
                  </a:lnTo>
                  <a:lnTo>
                    <a:pt x="6059" y="8650"/>
                  </a:lnTo>
                  <a:lnTo>
                    <a:pt x="6045" y="8676"/>
                  </a:lnTo>
                  <a:lnTo>
                    <a:pt x="6027" y="8709"/>
                  </a:lnTo>
                  <a:lnTo>
                    <a:pt x="6018" y="8727"/>
                  </a:lnTo>
                  <a:lnTo>
                    <a:pt x="6010" y="8746"/>
                  </a:lnTo>
                  <a:lnTo>
                    <a:pt x="6002" y="8766"/>
                  </a:lnTo>
                  <a:lnTo>
                    <a:pt x="5995" y="8788"/>
                  </a:lnTo>
                  <a:lnTo>
                    <a:pt x="5989" y="8809"/>
                  </a:lnTo>
                  <a:lnTo>
                    <a:pt x="5984" y="8830"/>
                  </a:lnTo>
                  <a:lnTo>
                    <a:pt x="5980" y="8852"/>
                  </a:lnTo>
                  <a:lnTo>
                    <a:pt x="5979" y="8873"/>
                  </a:lnTo>
                  <a:lnTo>
                    <a:pt x="5979" y="8895"/>
                  </a:lnTo>
                  <a:lnTo>
                    <a:pt x="5982" y="8915"/>
                  </a:lnTo>
                  <a:lnTo>
                    <a:pt x="5987" y="8934"/>
                  </a:lnTo>
                  <a:lnTo>
                    <a:pt x="5995" y="8952"/>
                  </a:lnTo>
                  <a:lnTo>
                    <a:pt x="6006" y="8968"/>
                  </a:lnTo>
                  <a:lnTo>
                    <a:pt x="6020" y="8983"/>
                  </a:lnTo>
                  <a:lnTo>
                    <a:pt x="6039" y="8997"/>
                  </a:lnTo>
                  <a:lnTo>
                    <a:pt x="6061" y="9008"/>
                  </a:lnTo>
                  <a:lnTo>
                    <a:pt x="6087" y="9018"/>
                  </a:lnTo>
                  <a:lnTo>
                    <a:pt x="6117" y="9025"/>
                  </a:lnTo>
                  <a:lnTo>
                    <a:pt x="6152" y="9029"/>
                  </a:lnTo>
                  <a:lnTo>
                    <a:pt x="6192" y="9030"/>
                  </a:lnTo>
                  <a:lnTo>
                    <a:pt x="6237" y="9028"/>
                  </a:lnTo>
                  <a:lnTo>
                    <a:pt x="6288" y="9023"/>
                  </a:lnTo>
                  <a:lnTo>
                    <a:pt x="6344" y="9014"/>
                  </a:lnTo>
                  <a:lnTo>
                    <a:pt x="6406" y="9000"/>
                  </a:lnTo>
                  <a:lnTo>
                    <a:pt x="6419" y="8997"/>
                  </a:lnTo>
                  <a:lnTo>
                    <a:pt x="6455" y="8987"/>
                  </a:lnTo>
                  <a:lnTo>
                    <a:pt x="6511" y="8971"/>
                  </a:lnTo>
                  <a:lnTo>
                    <a:pt x="6585" y="8950"/>
                  </a:lnTo>
                  <a:lnTo>
                    <a:pt x="6673" y="8924"/>
                  </a:lnTo>
                  <a:lnTo>
                    <a:pt x="6771" y="8894"/>
                  </a:lnTo>
                  <a:lnTo>
                    <a:pt x="6877" y="8860"/>
                  </a:lnTo>
                  <a:lnTo>
                    <a:pt x="6989" y="8823"/>
                  </a:lnTo>
                  <a:lnTo>
                    <a:pt x="7046" y="8804"/>
                  </a:lnTo>
                  <a:lnTo>
                    <a:pt x="7102" y="8784"/>
                  </a:lnTo>
                  <a:lnTo>
                    <a:pt x="7158" y="8763"/>
                  </a:lnTo>
                  <a:lnTo>
                    <a:pt x="7215" y="8742"/>
                  </a:lnTo>
                  <a:lnTo>
                    <a:pt x="7269" y="8722"/>
                  </a:lnTo>
                  <a:lnTo>
                    <a:pt x="7323" y="8701"/>
                  </a:lnTo>
                  <a:lnTo>
                    <a:pt x="7374" y="8679"/>
                  </a:lnTo>
                  <a:lnTo>
                    <a:pt x="7423" y="8658"/>
                  </a:lnTo>
                  <a:lnTo>
                    <a:pt x="7469" y="8636"/>
                  </a:lnTo>
                  <a:lnTo>
                    <a:pt x="7513" y="8614"/>
                  </a:lnTo>
                  <a:lnTo>
                    <a:pt x="7553" y="8593"/>
                  </a:lnTo>
                  <a:lnTo>
                    <a:pt x="7590" y="8572"/>
                  </a:lnTo>
                  <a:lnTo>
                    <a:pt x="7621" y="8552"/>
                  </a:lnTo>
                  <a:lnTo>
                    <a:pt x="7649" y="8530"/>
                  </a:lnTo>
                  <a:lnTo>
                    <a:pt x="7673" y="8510"/>
                  </a:lnTo>
                  <a:lnTo>
                    <a:pt x="7690" y="8491"/>
                  </a:lnTo>
                  <a:lnTo>
                    <a:pt x="7695" y="8486"/>
                  </a:lnTo>
                  <a:lnTo>
                    <a:pt x="7710" y="8472"/>
                  </a:lnTo>
                  <a:lnTo>
                    <a:pt x="7734" y="8452"/>
                  </a:lnTo>
                  <a:lnTo>
                    <a:pt x="7768" y="8427"/>
                  </a:lnTo>
                  <a:lnTo>
                    <a:pt x="7788" y="8414"/>
                  </a:lnTo>
                  <a:lnTo>
                    <a:pt x="7811" y="8399"/>
                  </a:lnTo>
                  <a:lnTo>
                    <a:pt x="7835" y="8384"/>
                  </a:lnTo>
                  <a:lnTo>
                    <a:pt x="7861" y="8370"/>
                  </a:lnTo>
                  <a:lnTo>
                    <a:pt x="7889" y="8356"/>
                  </a:lnTo>
                  <a:lnTo>
                    <a:pt x="7919" y="8342"/>
                  </a:lnTo>
                  <a:lnTo>
                    <a:pt x="7952" y="8329"/>
                  </a:lnTo>
                  <a:lnTo>
                    <a:pt x="7986" y="8317"/>
                  </a:lnTo>
                  <a:lnTo>
                    <a:pt x="8021" y="8307"/>
                  </a:lnTo>
                  <a:lnTo>
                    <a:pt x="8060" y="8297"/>
                  </a:lnTo>
                  <a:lnTo>
                    <a:pt x="8098" y="8289"/>
                  </a:lnTo>
                  <a:lnTo>
                    <a:pt x="8139" y="8283"/>
                  </a:lnTo>
                  <a:lnTo>
                    <a:pt x="8182" y="8279"/>
                  </a:lnTo>
                  <a:lnTo>
                    <a:pt x="8226" y="8278"/>
                  </a:lnTo>
                  <a:lnTo>
                    <a:pt x="8271" y="8280"/>
                  </a:lnTo>
                  <a:lnTo>
                    <a:pt x="8318" y="8284"/>
                  </a:lnTo>
                  <a:lnTo>
                    <a:pt x="8366" y="8291"/>
                  </a:lnTo>
                  <a:lnTo>
                    <a:pt x="8415" y="8303"/>
                  </a:lnTo>
                  <a:lnTo>
                    <a:pt x="8466" y="8317"/>
                  </a:lnTo>
                  <a:lnTo>
                    <a:pt x="8518" y="8336"/>
                  </a:lnTo>
                  <a:lnTo>
                    <a:pt x="8572" y="8358"/>
                  </a:lnTo>
                  <a:lnTo>
                    <a:pt x="8626" y="8384"/>
                  </a:lnTo>
                  <a:lnTo>
                    <a:pt x="8682" y="8416"/>
                  </a:lnTo>
                  <a:lnTo>
                    <a:pt x="8738" y="8452"/>
                  </a:lnTo>
                  <a:lnTo>
                    <a:pt x="8758" y="8462"/>
                  </a:lnTo>
                  <a:lnTo>
                    <a:pt x="8817" y="8490"/>
                  </a:lnTo>
                  <a:lnTo>
                    <a:pt x="8908" y="8534"/>
                  </a:lnTo>
                  <a:lnTo>
                    <a:pt x="9027" y="8589"/>
                  </a:lnTo>
                  <a:lnTo>
                    <a:pt x="9169" y="8655"/>
                  </a:lnTo>
                  <a:lnTo>
                    <a:pt x="9330" y="8727"/>
                  </a:lnTo>
                  <a:lnTo>
                    <a:pt x="9414" y="8764"/>
                  </a:lnTo>
                  <a:lnTo>
                    <a:pt x="9502" y="8803"/>
                  </a:lnTo>
                  <a:lnTo>
                    <a:pt x="9592" y="8842"/>
                  </a:lnTo>
                  <a:lnTo>
                    <a:pt x="9682" y="8880"/>
                  </a:lnTo>
                  <a:lnTo>
                    <a:pt x="9774" y="8919"/>
                  </a:lnTo>
                  <a:lnTo>
                    <a:pt x="9866" y="8956"/>
                  </a:lnTo>
                  <a:lnTo>
                    <a:pt x="9958" y="8993"/>
                  </a:lnTo>
                  <a:lnTo>
                    <a:pt x="10047" y="9028"/>
                  </a:lnTo>
                  <a:lnTo>
                    <a:pt x="10135" y="9061"/>
                  </a:lnTo>
                  <a:lnTo>
                    <a:pt x="10221" y="9092"/>
                  </a:lnTo>
                  <a:lnTo>
                    <a:pt x="10303" y="9120"/>
                  </a:lnTo>
                  <a:lnTo>
                    <a:pt x="10382" y="9147"/>
                  </a:lnTo>
                  <a:lnTo>
                    <a:pt x="10457" y="9169"/>
                  </a:lnTo>
                  <a:lnTo>
                    <a:pt x="10526" y="9188"/>
                  </a:lnTo>
                  <a:lnTo>
                    <a:pt x="10591" y="9203"/>
                  </a:lnTo>
                  <a:lnTo>
                    <a:pt x="10648" y="9213"/>
                  </a:lnTo>
                  <a:lnTo>
                    <a:pt x="10700" y="9219"/>
                  </a:lnTo>
                  <a:lnTo>
                    <a:pt x="10743" y="9220"/>
                  </a:lnTo>
                  <a:lnTo>
                    <a:pt x="10778" y="9216"/>
                  </a:lnTo>
                  <a:lnTo>
                    <a:pt x="10804" y="9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271"/>
            <p:cNvSpPr/>
            <p:nvPr/>
          </p:nvSpPr>
          <p:spPr>
            <a:xfrm>
              <a:off x="5867280" y="3816000"/>
              <a:ext cx="21600" cy="169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845" h="611">
                  <a:moveTo>
                    <a:pt x="531" y="51"/>
                  </a:moveTo>
                  <a:lnTo>
                    <a:pt x="523" y="49"/>
                  </a:lnTo>
                  <a:lnTo>
                    <a:pt x="501" y="42"/>
                  </a:lnTo>
                  <a:lnTo>
                    <a:pt x="468" y="34"/>
                  </a:lnTo>
                  <a:lnTo>
                    <a:pt x="425" y="24"/>
                  </a:lnTo>
                  <a:lnTo>
                    <a:pt x="399" y="19"/>
                  </a:lnTo>
                  <a:lnTo>
                    <a:pt x="374" y="14"/>
                  </a:lnTo>
                  <a:lnTo>
                    <a:pt x="347" y="10"/>
                  </a:lnTo>
                  <a:lnTo>
                    <a:pt x="320" y="6"/>
                  </a:lnTo>
                  <a:lnTo>
                    <a:pt x="290" y="3"/>
                  </a:lnTo>
                  <a:lnTo>
                    <a:pt x="262" y="1"/>
                  </a:lnTo>
                  <a:lnTo>
                    <a:pt x="234" y="0"/>
                  </a:lnTo>
                  <a:lnTo>
                    <a:pt x="206" y="0"/>
                  </a:lnTo>
                  <a:lnTo>
                    <a:pt x="178" y="2"/>
                  </a:lnTo>
                  <a:lnTo>
                    <a:pt x="151" y="5"/>
                  </a:lnTo>
                  <a:lnTo>
                    <a:pt x="125" y="10"/>
                  </a:lnTo>
                  <a:lnTo>
                    <a:pt x="102" y="17"/>
                  </a:lnTo>
                  <a:lnTo>
                    <a:pt x="80" y="26"/>
                  </a:lnTo>
                  <a:lnTo>
                    <a:pt x="60" y="37"/>
                  </a:lnTo>
                  <a:lnTo>
                    <a:pt x="42" y="51"/>
                  </a:lnTo>
                  <a:lnTo>
                    <a:pt x="27" y="67"/>
                  </a:lnTo>
                  <a:lnTo>
                    <a:pt x="15" y="87"/>
                  </a:lnTo>
                  <a:lnTo>
                    <a:pt x="6" y="110"/>
                  </a:lnTo>
                  <a:lnTo>
                    <a:pt x="1" y="135"/>
                  </a:lnTo>
                  <a:lnTo>
                    <a:pt x="0" y="164"/>
                  </a:lnTo>
                  <a:lnTo>
                    <a:pt x="3" y="196"/>
                  </a:lnTo>
                  <a:lnTo>
                    <a:pt x="11" y="232"/>
                  </a:lnTo>
                  <a:lnTo>
                    <a:pt x="23" y="272"/>
                  </a:lnTo>
                  <a:lnTo>
                    <a:pt x="42" y="315"/>
                  </a:lnTo>
                  <a:lnTo>
                    <a:pt x="53" y="327"/>
                  </a:lnTo>
                  <a:lnTo>
                    <a:pt x="84" y="361"/>
                  </a:lnTo>
                  <a:lnTo>
                    <a:pt x="106" y="382"/>
                  </a:lnTo>
                  <a:lnTo>
                    <a:pt x="131" y="406"/>
                  </a:lnTo>
                  <a:lnTo>
                    <a:pt x="159" y="432"/>
                  </a:lnTo>
                  <a:lnTo>
                    <a:pt x="191" y="459"/>
                  </a:lnTo>
                  <a:lnTo>
                    <a:pt x="224" y="486"/>
                  </a:lnTo>
                  <a:lnTo>
                    <a:pt x="258" y="512"/>
                  </a:lnTo>
                  <a:lnTo>
                    <a:pt x="276" y="525"/>
                  </a:lnTo>
                  <a:lnTo>
                    <a:pt x="295" y="537"/>
                  </a:lnTo>
                  <a:lnTo>
                    <a:pt x="313" y="548"/>
                  </a:lnTo>
                  <a:lnTo>
                    <a:pt x="331" y="559"/>
                  </a:lnTo>
                  <a:lnTo>
                    <a:pt x="349" y="570"/>
                  </a:lnTo>
                  <a:lnTo>
                    <a:pt x="367" y="579"/>
                  </a:lnTo>
                  <a:lnTo>
                    <a:pt x="385" y="588"/>
                  </a:lnTo>
                  <a:lnTo>
                    <a:pt x="403" y="595"/>
                  </a:lnTo>
                  <a:lnTo>
                    <a:pt x="421" y="600"/>
                  </a:lnTo>
                  <a:lnTo>
                    <a:pt x="439" y="605"/>
                  </a:lnTo>
                  <a:lnTo>
                    <a:pt x="456" y="608"/>
                  </a:lnTo>
                  <a:lnTo>
                    <a:pt x="472" y="610"/>
                  </a:lnTo>
                  <a:lnTo>
                    <a:pt x="490" y="611"/>
                  </a:lnTo>
                  <a:lnTo>
                    <a:pt x="508" y="611"/>
                  </a:lnTo>
                  <a:lnTo>
                    <a:pt x="527" y="609"/>
                  </a:lnTo>
                  <a:lnTo>
                    <a:pt x="547" y="606"/>
                  </a:lnTo>
                  <a:lnTo>
                    <a:pt x="566" y="601"/>
                  </a:lnTo>
                  <a:lnTo>
                    <a:pt x="585" y="596"/>
                  </a:lnTo>
                  <a:lnTo>
                    <a:pt x="604" y="589"/>
                  </a:lnTo>
                  <a:lnTo>
                    <a:pt x="623" y="582"/>
                  </a:lnTo>
                  <a:lnTo>
                    <a:pt x="642" y="573"/>
                  </a:lnTo>
                  <a:lnTo>
                    <a:pt x="661" y="563"/>
                  </a:lnTo>
                  <a:lnTo>
                    <a:pt x="681" y="553"/>
                  </a:lnTo>
                  <a:lnTo>
                    <a:pt x="699" y="542"/>
                  </a:lnTo>
                  <a:lnTo>
                    <a:pt x="716" y="530"/>
                  </a:lnTo>
                  <a:lnTo>
                    <a:pt x="733" y="518"/>
                  </a:lnTo>
                  <a:lnTo>
                    <a:pt x="748" y="505"/>
                  </a:lnTo>
                  <a:lnTo>
                    <a:pt x="764" y="492"/>
                  </a:lnTo>
                  <a:lnTo>
                    <a:pt x="778" y="479"/>
                  </a:lnTo>
                  <a:lnTo>
                    <a:pt x="791" y="465"/>
                  </a:lnTo>
                  <a:lnTo>
                    <a:pt x="803" y="452"/>
                  </a:lnTo>
                  <a:lnTo>
                    <a:pt x="814" y="437"/>
                  </a:lnTo>
                  <a:lnTo>
                    <a:pt x="823" y="423"/>
                  </a:lnTo>
                  <a:lnTo>
                    <a:pt x="831" y="409"/>
                  </a:lnTo>
                  <a:lnTo>
                    <a:pt x="837" y="395"/>
                  </a:lnTo>
                  <a:lnTo>
                    <a:pt x="842" y="381"/>
                  </a:lnTo>
                  <a:lnTo>
                    <a:pt x="844" y="368"/>
                  </a:lnTo>
                  <a:lnTo>
                    <a:pt x="845" y="355"/>
                  </a:lnTo>
                  <a:lnTo>
                    <a:pt x="844" y="342"/>
                  </a:lnTo>
                  <a:lnTo>
                    <a:pt x="841" y="330"/>
                  </a:lnTo>
                  <a:lnTo>
                    <a:pt x="836" y="317"/>
                  </a:lnTo>
                  <a:lnTo>
                    <a:pt x="828" y="306"/>
                  </a:lnTo>
                  <a:lnTo>
                    <a:pt x="818" y="296"/>
                  </a:lnTo>
                  <a:lnTo>
                    <a:pt x="806" y="286"/>
                  </a:lnTo>
                  <a:lnTo>
                    <a:pt x="778" y="269"/>
                  </a:lnTo>
                  <a:lnTo>
                    <a:pt x="751" y="251"/>
                  </a:lnTo>
                  <a:lnTo>
                    <a:pt x="726" y="232"/>
                  </a:lnTo>
                  <a:lnTo>
                    <a:pt x="701" y="213"/>
                  </a:lnTo>
                  <a:lnTo>
                    <a:pt x="677" y="192"/>
                  </a:lnTo>
                  <a:lnTo>
                    <a:pt x="654" y="173"/>
                  </a:lnTo>
                  <a:lnTo>
                    <a:pt x="633" y="154"/>
                  </a:lnTo>
                  <a:lnTo>
                    <a:pt x="613" y="136"/>
                  </a:lnTo>
                  <a:lnTo>
                    <a:pt x="579" y="103"/>
                  </a:lnTo>
                  <a:lnTo>
                    <a:pt x="554" y="75"/>
                  </a:lnTo>
                  <a:lnTo>
                    <a:pt x="536" y="57"/>
                  </a:lnTo>
                  <a:lnTo>
                    <a:pt x="531" y="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272"/>
            <p:cNvSpPr/>
            <p:nvPr/>
          </p:nvSpPr>
          <p:spPr>
            <a:xfrm>
              <a:off x="5867280" y="3816000"/>
              <a:ext cx="21600" cy="169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845" h="611">
                  <a:moveTo>
                    <a:pt x="531" y="51"/>
                  </a:moveTo>
                  <a:lnTo>
                    <a:pt x="523" y="49"/>
                  </a:lnTo>
                  <a:lnTo>
                    <a:pt x="501" y="42"/>
                  </a:lnTo>
                  <a:lnTo>
                    <a:pt x="468" y="34"/>
                  </a:lnTo>
                  <a:lnTo>
                    <a:pt x="425" y="24"/>
                  </a:lnTo>
                  <a:lnTo>
                    <a:pt x="399" y="19"/>
                  </a:lnTo>
                  <a:lnTo>
                    <a:pt x="374" y="14"/>
                  </a:lnTo>
                  <a:lnTo>
                    <a:pt x="347" y="10"/>
                  </a:lnTo>
                  <a:lnTo>
                    <a:pt x="320" y="6"/>
                  </a:lnTo>
                  <a:lnTo>
                    <a:pt x="290" y="3"/>
                  </a:lnTo>
                  <a:lnTo>
                    <a:pt x="262" y="1"/>
                  </a:lnTo>
                  <a:lnTo>
                    <a:pt x="234" y="0"/>
                  </a:lnTo>
                  <a:lnTo>
                    <a:pt x="206" y="0"/>
                  </a:lnTo>
                  <a:lnTo>
                    <a:pt x="178" y="2"/>
                  </a:lnTo>
                  <a:lnTo>
                    <a:pt x="151" y="5"/>
                  </a:lnTo>
                  <a:lnTo>
                    <a:pt x="125" y="10"/>
                  </a:lnTo>
                  <a:lnTo>
                    <a:pt x="102" y="17"/>
                  </a:lnTo>
                  <a:lnTo>
                    <a:pt x="80" y="26"/>
                  </a:lnTo>
                  <a:lnTo>
                    <a:pt x="60" y="37"/>
                  </a:lnTo>
                  <a:lnTo>
                    <a:pt x="42" y="51"/>
                  </a:lnTo>
                  <a:lnTo>
                    <a:pt x="27" y="67"/>
                  </a:lnTo>
                  <a:lnTo>
                    <a:pt x="15" y="87"/>
                  </a:lnTo>
                  <a:lnTo>
                    <a:pt x="6" y="110"/>
                  </a:lnTo>
                  <a:lnTo>
                    <a:pt x="1" y="135"/>
                  </a:lnTo>
                  <a:lnTo>
                    <a:pt x="0" y="164"/>
                  </a:lnTo>
                  <a:lnTo>
                    <a:pt x="3" y="196"/>
                  </a:lnTo>
                  <a:lnTo>
                    <a:pt x="11" y="232"/>
                  </a:lnTo>
                  <a:lnTo>
                    <a:pt x="23" y="272"/>
                  </a:lnTo>
                  <a:lnTo>
                    <a:pt x="42" y="315"/>
                  </a:lnTo>
                  <a:lnTo>
                    <a:pt x="53" y="327"/>
                  </a:lnTo>
                  <a:lnTo>
                    <a:pt x="84" y="361"/>
                  </a:lnTo>
                  <a:lnTo>
                    <a:pt x="106" y="382"/>
                  </a:lnTo>
                  <a:lnTo>
                    <a:pt x="131" y="406"/>
                  </a:lnTo>
                  <a:lnTo>
                    <a:pt x="159" y="432"/>
                  </a:lnTo>
                  <a:lnTo>
                    <a:pt x="191" y="459"/>
                  </a:lnTo>
                  <a:lnTo>
                    <a:pt x="224" y="486"/>
                  </a:lnTo>
                  <a:lnTo>
                    <a:pt x="258" y="512"/>
                  </a:lnTo>
                  <a:lnTo>
                    <a:pt x="276" y="525"/>
                  </a:lnTo>
                  <a:lnTo>
                    <a:pt x="295" y="537"/>
                  </a:lnTo>
                  <a:lnTo>
                    <a:pt x="313" y="548"/>
                  </a:lnTo>
                  <a:lnTo>
                    <a:pt x="331" y="559"/>
                  </a:lnTo>
                  <a:lnTo>
                    <a:pt x="349" y="570"/>
                  </a:lnTo>
                  <a:lnTo>
                    <a:pt x="367" y="579"/>
                  </a:lnTo>
                  <a:lnTo>
                    <a:pt x="385" y="588"/>
                  </a:lnTo>
                  <a:lnTo>
                    <a:pt x="403" y="595"/>
                  </a:lnTo>
                  <a:lnTo>
                    <a:pt x="421" y="600"/>
                  </a:lnTo>
                  <a:lnTo>
                    <a:pt x="439" y="605"/>
                  </a:lnTo>
                  <a:lnTo>
                    <a:pt x="456" y="608"/>
                  </a:lnTo>
                  <a:lnTo>
                    <a:pt x="472" y="610"/>
                  </a:lnTo>
                  <a:lnTo>
                    <a:pt x="490" y="611"/>
                  </a:lnTo>
                  <a:lnTo>
                    <a:pt x="508" y="611"/>
                  </a:lnTo>
                  <a:lnTo>
                    <a:pt x="527" y="609"/>
                  </a:lnTo>
                  <a:lnTo>
                    <a:pt x="547" y="606"/>
                  </a:lnTo>
                  <a:lnTo>
                    <a:pt x="566" y="601"/>
                  </a:lnTo>
                  <a:lnTo>
                    <a:pt x="585" y="596"/>
                  </a:lnTo>
                  <a:lnTo>
                    <a:pt x="604" y="589"/>
                  </a:lnTo>
                  <a:lnTo>
                    <a:pt x="623" y="582"/>
                  </a:lnTo>
                  <a:lnTo>
                    <a:pt x="642" y="573"/>
                  </a:lnTo>
                  <a:lnTo>
                    <a:pt x="661" y="563"/>
                  </a:lnTo>
                  <a:lnTo>
                    <a:pt x="681" y="553"/>
                  </a:lnTo>
                  <a:lnTo>
                    <a:pt x="699" y="542"/>
                  </a:lnTo>
                  <a:lnTo>
                    <a:pt x="716" y="530"/>
                  </a:lnTo>
                  <a:lnTo>
                    <a:pt x="733" y="518"/>
                  </a:lnTo>
                  <a:lnTo>
                    <a:pt x="748" y="505"/>
                  </a:lnTo>
                  <a:lnTo>
                    <a:pt x="764" y="492"/>
                  </a:lnTo>
                  <a:lnTo>
                    <a:pt x="778" y="479"/>
                  </a:lnTo>
                  <a:lnTo>
                    <a:pt x="791" y="465"/>
                  </a:lnTo>
                  <a:lnTo>
                    <a:pt x="803" y="452"/>
                  </a:lnTo>
                  <a:lnTo>
                    <a:pt x="814" y="437"/>
                  </a:lnTo>
                  <a:lnTo>
                    <a:pt x="823" y="423"/>
                  </a:lnTo>
                  <a:lnTo>
                    <a:pt x="831" y="409"/>
                  </a:lnTo>
                  <a:lnTo>
                    <a:pt x="837" y="395"/>
                  </a:lnTo>
                  <a:lnTo>
                    <a:pt x="842" y="381"/>
                  </a:lnTo>
                  <a:lnTo>
                    <a:pt x="844" y="368"/>
                  </a:lnTo>
                  <a:lnTo>
                    <a:pt x="845" y="355"/>
                  </a:lnTo>
                  <a:lnTo>
                    <a:pt x="844" y="342"/>
                  </a:lnTo>
                  <a:lnTo>
                    <a:pt x="841" y="330"/>
                  </a:lnTo>
                  <a:lnTo>
                    <a:pt x="836" y="317"/>
                  </a:lnTo>
                  <a:lnTo>
                    <a:pt x="828" y="306"/>
                  </a:lnTo>
                  <a:lnTo>
                    <a:pt x="818" y="296"/>
                  </a:lnTo>
                  <a:lnTo>
                    <a:pt x="806" y="286"/>
                  </a:lnTo>
                  <a:lnTo>
                    <a:pt x="778" y="269"/>
                  </a:lnTo>
                  <a:lnTo>
                    <a:pt x="751" y="251"/>
                  </a:lnTo>
                  <a:lnTo>
                    <a:pt x="726" y="232"/>
                  </a:lnTo>
                  <a:lnTo>
                    <a:pt x="701" y="213"/>
                  </a:lnTo>
                  <a:lnTo>
                    <a:pt x="677" y="192"/>
                  </a:lnTo>
                  <a:lnTo>
                    <a:pt x="654" y="173"/>
                  </a:lnTo>
                  <a:lnTo>
                    <a:pt x="633" y="154"/>
                  </a:lnTo>
                  <a:lnTo>
                    <a:pt x="613" y="136"/>
                  </a:lnTo>
                  <a:lnTo>
                    <a:pt x="579" y="103"/>
                  </a:lnTo>
                  <a:lnTo>
                    <a:pt x="554" y="75"/>
                  </a:lnTo>
                  <a:lnTo>
                    <a:pt x="536" y="57"/>
                  </a:lnTo>
                  <a:lnTo>
                    <a:pt x="531" y="51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273"/>
            <p:cNvSpPr/>
            <p:nvPr/>
          </p:nvSpPr>
          <p:spPr>
            <a:xfrm>
              <a:off x="5942160" y="3942000"/>
              <a:ext cx="67680" cy="918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508" h="3165">
                  <a:moveTo>
                    <a:pt x="2498" y="0"/>
                  </a:moveTo>
                  <a:lnTo>
                    <a:pt x="2487" y="5"/>
                  </a:lnTo>
                  <a:lnTo>
                    <a:pt x="2455" y="22"/>
                  </a:lnTo>
                  <a:lnTo>
                    <a:pt x="2405" y="47"/>
                  </a:lnTo>
                  <a:lnTo>
                    <a:pt x="2341" y="79"/>
                  </a:lnTo>
                  <a:lnTo>
                    <a:pt x="2263" y="117"/>
                  </a:lnTo>
                  <a:lnTo>
                    <a:pt x="2176" y="161"/>
                  </a:lnTo>
                  <a:lnTo>
                    <a:pt x="2080" y="207"/>
                  </a:lnTo>
                  <a:lnTo>
                    <a:pt x="1980" y="256"/>
                  </a:lnTo>
                  <a:lnTo>
                    <a:pt x="1878" y="305"/>
                  </a:lnTo>
                  <a:lnTo>
                    <a:pt x="1776" y="353"/>
                  </a:lnTo>
                  <a:lnTo>
                    <a:pt x="1678" y="400"/>
                  </a:lnTo>
                  <a:lnTo>
                    <a:pt x="1585" y="442"/>
                  </a:lnTo>
                  <a:lnTo>
                    <a:pt x="1500" y="480"/>
                  </a:lnTo>
                  <a:lnTo>
                    <a:pt x="1427" y="511"/>
                  </a:lnTo>
                  <a:lnTo>
                    <a:pt x="1394" y="524"/>
                  </a:lnTo>
                  <a:lnTo>
                    <a:pt x="1366" y="535"/>
                  </a:lnTo>
                  <a:lnTo>
                    <a:pt x="1342" y="543"/>
                  </a:lnTo>
                  <a:lnTo>
                    <a:pt x="1323" y="549"/>
                  </a:lnTo>
                  <a:lnTo>
                    <a:pt x="0" y="1010"/>
                  </a:lnTo>
                  <a:lnTo>
                    <a:pt x="0" y="3165"/>
                  </a:lnTo>
                  <a:lnTo>
                    <a:pt x="1479" y="2646"/>
                  </a:lnTo>
                  <a:lnTo>
                    <a:pt x="2508" y="2146"/>
                  </a:lnTo>
                  <a:lnTo>
                    <a:pt x="249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274"/>
            <p:cNvSpPr/>
            <p:nvPr/>
          </p:nvSpPr>
          <p:spPr>
            <a:xfrm>
              <a:off x="6257880" y="3943440"/>
              <a:ext cx="23760" cy="1141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91" h="3959">
                  <a:moveTo>
                    <a:pt x="0" y="0"/>
                  </a:moveTo>
                  <a:lnTo>
                    <a:pt x="891" y="1872"/>
                  </a:lnTo>
                  <a:lnTo>
                    <a:pt x="891" y="3959"/>
                  </a:lnTo>
                  <a:lnTo>
                    <a:pt x="10" y="21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4" name="Rectangle 276"/>
          <p:cNvSpPr/>
          <p:nvPr/>
        </p:nvSpPr>
        <p:spPr>
          <a:xfrm>
            <a:off x="533520" y="1523880"/>
            <a:ext cx="8145000" cy="50288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66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Kentucky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binet for Health and Family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6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Louisiana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partment of Health and Hospit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6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ain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alth Data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6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arylan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Health Services Cost Review Com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6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assachusett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ivision of Health Care Finance and 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6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ichiga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Health &amp; Hospital Asso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6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innesota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spital Asso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6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issouri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Hospital Industry Data Instit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6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ebraska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spital Asso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6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evad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ivision of Health Care Financing and Policy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Department of Health and Human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60"/>
              </a:spcBef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ew Hampshir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partment of Health &amp; Human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752480" y="20628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urrent HCUP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45000" cy="419076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ew Jerse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partment of Health and Senior Ser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ew Mexico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alth Policy Commis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ew York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State Department of Heal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orth Carolin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partment of Health and Human Ser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Ohi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spital Associ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Oklahoma</a:t>
            </a:r>
            <a:r>
              <a:rPr b="1" lang="en-US" sz="2200" spc="-1" strike="noStrike">
                <a:solidFill>
                  <a:schemeClr val="hlink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alth Care Information Center for Health Stati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Orego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ssociation of Hospitals and Health System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ennsylvani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Health Care Cost Containment Counci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Rhode Islan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partment of Heal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outh Carolin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State Budget &amp; Control Boa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outh Dakota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sociation of Health Care Organiz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nnesse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Hospital Associ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Slide Number Placeholder 3"/>
          <p:cNvSpPr/>
          <p:nvPr/>
        </p:nvSpPr>
        <p:spPr>
          <a:xfrm>
            <a:off x="304920" y="6400800"/>
            <a:ext cx="574200" cy="22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</a:pPr>
            <a:fld id="{316C05D0-CB5D-4D97-8DE8-A8B195076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689120" y="22392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urrent HCUP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45000" cy="502884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0">
              <a:lnSpc>
                <a:spcPct val="9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xas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partment of State Health Ser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Utah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partment of Heal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Vermon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ssociation of Hospitals and Health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Virginia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alth Inform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Washington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te Department of Heal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West Virgini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Health Care Author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Wisconsi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partment of Health and Family Ser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Wyoming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spital Associ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304920" y="6400800"/>
            <a:ext cx="574200" cy="22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</a:pPr>
            <a:fld id="{0ACEED85-7B8F-42BD-A08D-9BDE2741D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4"/>
          <p:cNvGrpSpPr/>
          <p:nvPr/>
        </p:nvGrpSpPr>
        <p:grpSpPr>
          <a:xfrm>
            <a:off x="5411880" y="4917960"/>
            <a:ext cx="3045960" cy="1482480"/>
            <a:chOff x="5411880" y="4917960"/>
            <a:chExt cx="3045960" cy="1482480"/>
          </a:xfrm>
        </p:grpSpPr>
        <p:sp>
          <p:nvSpPr>
            <p:cNvPr id="942" name="Freeform 5"/>
            <p:cNvSpPr/>
            <p:nvPr/>
          </p:nvSpPr>
          <p:spPr>
            <a:xfrm>
              <a:off x="7939080" y="5105160"/>
              <a:ext cx="219960" cy="35208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1383" h="2042">
                  <a:moveTo>
                    <a:pt x="1220" y="0"/>
                  </a:moveTo>
                  <a:lnTo>
                    <a:pt x="1237" y="6"/>
                  </a:lnTo>
                  <a:lnTo>
                    <a:pt x="1250" y="11"/>
                  </a:lnTo>
                  <a:lnTo>
                    <a:pt x="1260" y="18"/>
                  </a:lnTo>
                  <a:lnTo>
                    <a:pt x="1267" y="24"/>
                  </a:lnTo>
                  <a:lnTo>
                    <a:pt x="1270" y="27"/>
                  </a:lnTo>
                  <a:lnTo>
                    <a:pt x="1272" y="30"/>
                  </a:lnTo>
                  <a:lnTo>
                    <a:pt x="1272" y="34"/>
                  </a:lnTo>
                  <a:lnTo>
                    <a:pt x="1272" y="36"/>
                  </a:lnTo>
                  <a:lnTo>
                    <a:pt x="1272" y="39"/>
                  </a:lnTo>
                  <a:lnTo>
                    <a:pt x="1270" y="43"/>
                  </a:lnTo>
                  <a:lnTo>
                    <a:pt x="1267" y="46"/>
                  </a:lnTo>
                  <a:lnTo>
                    <a:pt x="1264" y="49"/>
                  </a:lnTo>
                  <a:lnTo>
                    <a:pt x="1253" y="56"/>
                  </a:lnTo>
                  <a:lnTo>
                    <a:pt x="1239" y="63"/>
                  </a:lnTo>
                  <a:lnTo>
                    <a:pt x="1220" y="70"/>
                  </a:lnTo>
                  <a:lnTo>
                    <a:pt x="1198" y="77"/>
                  </a:lnTo>
                  <a:lnTo>
                    <a:pt x="1173" y="85"/>
                  </a:lnTo>
                  <a:lnTo>
                    <a:pt x="1141" y="93"/>
                  </a:lnTo>
                  <a:lnTo>
                    <a:pt x="1106" y="101"/>
                  </a:lnTo>
                  <a:lnTo>
                    <a:pt x="1065" y="110"/>
                  </a:lnTo>
                  <a:lnTo>
                    <a:pt x="1039" y="117"/>
                  </a:lnTo>
                  <a:lnTo>
                    <a:pt x="1016" y="124"/>
                  </a:lnTo>
                  <a:lnTo>
                    <a:pt x="1007" y="128"/>
                  </a:lnTo>
                  <a:lnTo>
                    <a:pt x="997" y="133"/>
                  </a:lnTo>
                  <a:lnTo>
                    <a:pt x="989" y="138"/>
                  </a:lnTo>
                  <a:lnTo>
                    <a:pt x="982" y="142"/>
                  </a:lnTo>
                  <a:lnTo>
                    <a:pt x="976" y="148"/>
                  </a:lnTo>
                  <a:lnTo>
                    <a:pt x="970" y="154"/>
                  </a:lnTo>
                  <a:lnTo>
                    <a:pt x="965" y="159"/>
                  </a:lnTo>
                  <a:lnTo>
                    <a:pt x="961" y="164"/>
                  </a:lnTo>
                  <a:lnTo>
                    <a:pt x="954" y="176"/>
                  </a:lnTo>
                  <a:lnTo>
                    <a:pt x="951" y="188"/>
                  </a:lnTo>
                  <a:lnTo>
                    <a:pt x="948" y="199"/>
                  </a:lnTo>
                  <a:lnTo>
                    <a:pt x="948" y="211"/>
                  </a:lnTo>
                  <a:lnTo>
                    <a:pt x="949" y="223"/>
                  </a:lnTo>
                  <a:lnTo>
                    <a:pt x="953" y="235"/>
                  </a:lnTo>
                  <a:lnTo>
                    <a:pt x="956" y="245"/>
                  </a:lnTo>
                  <a:lnTo>
                    <a:pt x="962" y="254"/>
                  </a:lnTo>
                  <a:lnTo>
                    <a:pt x="967" y="264"/>
                  </a:lnTo>
                  <a:lnTo>
                    <a:pt x="973" y="271"/>
                  </a:lnTo>
                  <a:lnTo>
                    <a:pt x="977" y="278"/>
                  </a:lnTo>
                  <a:lnTo>
                    <a:pt x="981" y="285"/>
                  </a:lnTo>
                  <a:lnTo>
                    <a:pt x="982" y="292"/>
                  </a:lnTo>
                  <a:lnTo>
                    <a:pt x="982" y="298"/>
                  </a:lnTo>
                  <a:lnTo>
                    <a:pt x="981" y="305"/>
                  </a:lnTo>
                  <a:lnTo>
                    <a:pt x="979" y="312"/>
                  </a:lnTo>
                  <a:lnTo>
                    <a:pt x="974" y="319"/>
                  </a:lnTo>
                  <a:lnTo>
                    <a:pt x="969" y="326"/>
                  </a:lnTo>
                  <a:lnTo>
                    <a:pt x="958" y="341"/>
                  </a:lnTo>
                  <a:lnTo>
                    <a:pt x="944" y="355"/>
                  </a:lnTo>
                  <a:lnTo>
                    <a:pt x="927" y="369"/>
                  </a:lnTo>
                  <a:lnTo>
                    <a:pt x="910" y="384"/>
                  </a:lnTo>
                  <a:lnTo>
                    <a:pt x="893" y="398"/>
                  </a:lnTo>
                  <a:lnTo>
                    <a:pt x="877" y="412"/>
                  </a:lnTo>
                  <a:lnTo>
                    <a:pt x="863" y="427"/>
                  </a:lnTo>
                  <a:lnTo>
                    <a:pt x="851" y="441"/>
                  </a:lnTo>
                  <a:lnTo>
                    <a:pt x="847" y="448"/>
                  </a:lnTo>
                  <a:lnTo>
                    <a:pt x="843" y="455"/>
                  </a:lnTo>
                  <a:lnTo>
                    <a:pt x="841" y="462"/>
                  </a:lnTo>
                  <a:lnTo>
                    <a:pt x="840" y="470"/>
                  </a:lnTo>
                  <a:lnTo>
                    <a:pt x="840" y="477"/>
                  </a:lnTo>
                  <a:lnTo>
                    <a:pt x="842" y="484"/>
                  </a:lnTo>
                  <a:lnTo>
                    <a:pt x="844" y="491"/>
                  </a:lnTo>
                  <a:lnTo>
                    <a:pt x="849" y="499"/>
                  </a:lnTo>
                  <a:lnTo>
                    <a:pt x="870" y="503"/>
                  </a:lnTo>
                  <a:lnTo>
                    <a:pt x="889" y="508"/>
                  </a:lnTo>
                  <a:lnTo>
                    <a:pt x="904" y="513"/>
                  </a:lnTo>
                  <a:lnTo>
                    <a:pt x="918" y="518"/>
                  </a:lnTo>
                  <a:lnTo>
                    <a:pt x="930" y="524"/>
                  </a:lnTo>
                  <a:lnTo>
                    <a:pt x="940" y="530"/>
                  </a:lnTo>
                  <a:lnTo>
                    <a:pt x="948" y="537"/>
                  </a:lnTo>
                  <a:lnTo>
                    <a:pt x="954" y="544"/>
                  </a:lnTo>
                  <a:lnTo>
                    <a:pt x="958" y="551"/>
                  </a:lnTo>
                  <a:lnTo>
                    <a:pt x="961" y="559"/>
                  </a:lnTo>
                  <a:lnTo>
                    <a:pt x="961" y="567"/>
                  </a:lnTo>
                  <a:lnTo>
                    <a:pt x="960" y="577"/>
                  </a:lnTo>
                  <a:lnTo>
                    <a:pt x="958" y="586"/>
                  </a:lnTo>
                  <a:lnTo>
                    <a:pt x="954" y="597"/>
                  </a:lnTo>
                  <a:lnTo>
                    <a:pt x="948" y="608"/>
                  </a:lnTo>
                  <a:lnTo>
                    <a:pt x="941" y="619"/>
                  </a:lnTo>
                  <a:lnTo>
                    <a:pt x="963" y="618"/>
                  </a:lnTo>
                  <a:lnTo>
                    <a:pt x="982" y="619"/>
                  </a:lnTo>
                  <a:lnTo>
                    <a:pt x="999" y="621"/>
                  </a:lnTo>
                  <a:lnTo>
                    <a:pt x="1013" y="626"/>
                  </a:lnTo>
                  <a:lnTo>
                    <a:pt x="1024" y="630"/>
                  </a:lnTo>
                  <a:lnTo>
                    <a:pt x="1036" y="638"/>
                  </a:lnTo>
                  <a:lnTo>
                    <a:pt x="1045" y="645"/>
                  </a:lnTo>
                  <a:lnTo>
                    <a:pt x="1055" y="653"/>
                  </a:lnTo>
                  <a:lnTo>
                    <a:pt x="1072" y="669"/>
                  </a:lnTo>
                  <a:lnTo>
                    <a:pt x="1091" y="683"/>
                  </a:lnTo>
                  <a:lnTo>
                    <a:pt x="1101" y="689"/>
                  </a:lnTo>
                  <a:lnTo>
                    <a:pt x="1113" y="694"/>
                  </a:lnTo>
                  <a:lnTo>
                    <a:pt x="1127" y="696"/>
                  </a:lnTo>
                  <a:lnTo>
                    <a:pt x="1143" y="697"/>
                  </a:lnTo>
                  <a:lnTo>
                    <a:pt x="1160" y="697"/>
                  </a:lnTo>
                  <a:lnTo>
                    <a:pt x="1176" y="695"/>
                  </a:lnTo>
                  <a:lnTo>
                    <a:pt x="1190" y="692"/>
                  </a:lnTo>
                  <a:lnTo>
                    <a:pt x="1205" y="690"/>
                  </a:lnTo>
                  <a:lnTo>
                    <a:pt x="1231" y="682"/>
                  </a:lnTo>
                  <a:lnTo>
                    <a:pt x="1254" y="674"/>
                  </a:lnTo>
                  <a:lnTo>
                    <a:pt x="1278" y="666"/>
                  </a:lnTo>
                  <a:lnTo>
                    <a:pt x="1300" y="659"/>
                  </a:lnTo>
                  <a:lnTo>
                    <a:pt x="1310" y="655"/>
                  </a:lnTo>
                  <a:lnTo>
                    <a:pt x="1322" y="653"/>
                  </a:lnTo>
                  <a:lnTo>
                    <a:pt x="1333" y="652"/>
                  </a:lnTo>
                  <a:lnTo>
                    <a:pt x="1345" y="652"/>
                  </a:lnTo>
                  <a:lnTo>
                    <a:pt x="1354" y="652"/>
                  </a:lnTo>
                  <a:lnTo>
                    <a:pt x="1361" y="654"/>
                  </a:lnTo>
                  <a:lnTo>
                    <a:pt x="1364" y="657"/>
                  </a:lnTo>
                  <a:lnTo>
                    <a:pt x="1366" y="662"/>
                  </a:lnTo>
                  <a:lnTo>
                    <a:pt x="1368" y="669"/>
                  </a:lnTo>
                  <a:lnTo>
                    <a:pt x="1368" y="676"/>
                  </a:lnTo>
                  <a:lnTo>
                    <a:pt x="1366" y="684"/>
                  </a:lnTo>
                  <a:lnTo>
                    <a:pt x="1365" y="692"/>
                  </a:lnTo>
                  <a:lnTo>
                    <a:pt x="1362" y="711"/>
                  </a:lnTo>
                  <a:lnTo>
                    <a:pt x="1361" y="732"/>
                  </a:lnTo>
                  <a:lnTo>
                    <a:pt x="1362" y="743"/>
                  </a:lnTo>
                  <a:lnTo>
                    <a:pt x="1365" y="754"/>
                  </a:lnTo>
                  <a:lnTo>
                    <a:pt x="1370" y="765"/>
                  </a:lnTo>
                  <a:lnTo>
                    <a:pt x="1377" y="775"/>
                  </a:lnTo>
                  <a:lnTo>
                    <a:pt x="1379" y="779"/>
                  </a:lnTo>
                  <a:lnTo>
                    <a:pt x="1382" y="782"/>
                  </a:lnTo>
                  <a:lnTo>
                    <a:pt x="1382" y="786"/>
                  </a:lnTo>
                  <a:lnTo>
                    <a:pt x="1383" y="789"/>
                  </a:lnTo>
                  <a:lnTo>
                    <a:pt x="1382" y="793"/>
                  </a:lnTo>
                  <a:lnTo>
                    <a:pt x="1380" y="796"/>
                  </a:lnTo>
                  <a:lnTo>
                    <a:pt x="1378" y="800"/>
                  </a:lnTo>
                  <a:lnTo>
                    <a:pt x="1376" y="802"/>
                  </a:lnTo>
                  <a:lnTo>
                    <a:pt x="1369" y="808"/>
                  </a:lnTo>
                  <a:lnTo>
                    <a:pt x="1359" y="814"/>
                  </a:lnTo>
                  <a:lnTo>
                    <a:pt x="1348" y="819"/>
                  </a:lnTo>
                  <a:lnTo>
                    <a:pt x="1336" y="823"/>
                  </a:lnTo>
                  <a:lnTo>
                    <a:pt x="1309" y="831"/>
                  </a:lnTo>
                  <a:lnTo>
                    <a:pt x="1281" y="838"/>
                  </a:lnTo>
                  <a:lnTo>
                    <a:pt x="1257" y="844"/>
                  </a:lnTo>
                  <a:lnTo>
                    <a:pt x="1236" y="850"/>
                  </a:lnTo>
                  <a:lnTo>
                    <a:pt x="1202" y="854"/>
                  </a:lnTo>
                  <a:lnTo>
                    <a:pt x="1171" y="857"/>
                  </a:lnTo>
                  <a:lnTo>
                    <a:pt x="1142" y="862"/>
                  </a:lnTo>
                  <a:lnTo>
                    <a:pt x="1114" y="868"/>
                  </a:lnTo>
                  <a:lnTo>
                    <a:pt x="1087" y="873"/>
                  </a:lnTo>
                  <a:lnTo>
                    <a:pt x="1063" y="879"/>
                  </a:lnTo>
                  <a:lnTo>
                    <a:pt x="1038" y="886"/>
                  </a:lnTo>
                  <a:lnTo>
                    <a:pt x="1014" y="893"/>
                  </a:lnTo>
                  <a:lnTo>
                    <a:pt x="966" y="908"/>
                  </a:lnTo>
                  <a:lnTo>
                    <a:pt x="917" y="925"/>
                  </a:lnTo>
                  <a:lnTo>
                    <a:pt x="863" y="942"/>
                  </a:lnTo>
                  <a:lnTo>
                    <a:pt x="803" y="959"/>
                  </a:lnTo>
                  <a:lnTo>
                    <a:pt x="806" y="966"/>
                  </a:lnTo>
                  <a:lnTo>
                    <a:pt x="807" y="973"/>
                  </a:lnTo>
                  <a:lnTo>
                    <a:pt x="807" y="980"/>
                  </a:lnTo>
                  <a:lnTo>
                    <a:pt x="806" y="986"/>
                  </a:lnTo>
                  <a:lnTo>
                    <a:pt x="803" y="993"/>
                  </a:lnTo>
                  <a:lnTo>
                    <a:pt x="801" y="998"/>
                  </a:lnTo>
                  <a:lnTo>
                    <a:pt x="796" y="1004"/>
                  </a:lnTo>
                  <a:lnTo>
                    <a:pt x="792" y="1009"/>
                  </a:lnTo>
                  <a:lnTo>
                    <a:pt x="781" y="1019"/>
                  </a:lnTo>
                  <a:lnTo>
                    <a:pt x="767" y="1028"/>
                  </a:lnTo>
                  <a:lnTo>
                    <a:pt x="752" y="1036"/>
                  </a:lnTo>
                  <a:lnTo>
                    <a:pt x="736" y="1043"/>
                  </a:lnTo>
                  <a:lnTo>
                    <a:pt x="719" y="1049"/>
                  </a:lnTo>
                  <a:lnTo>
                    <a:pt x="703" y="1055"/>
                  </a:lnTo>
                  <a:lnTo>
                    <a:pt x="688" y="1059"/>
                  </a:lnTo>
                  <a:lnTo>
                    <a:pt x="674" y="1063"/>
                  </a:lnTo>
                  <a:lnTo>
                    <a:pt x="653" y="1067"/>
                  </a:lnTo>
                  <a:lnTo>
                    <a:pt x="645" y="1069"/>
                  </a:lnTo>
                  <a:lnTo>
                    <a:pt x="849" y="1285"/>
                  </a:lnTo>
                  <a:lnTo>
                    <a:pt x="849" y="1422"/>
                  </a:lnTo>
                  <a:lnTo>
                    <a:pt x="828" y="1419"/>
                  </a:lnTo>
                  <a:lnTo>
                    <a:pt x="807" y="1415"/>
                  </a:lnTo>
                  <a:lnTo>
                    <a:pt x="787" y="1414"/>
                  </a:lnTo>
                  <a:lnTo>
                    <a:pt x="767" y="1412"/>
                  </a:lnTo>
                  <a:lnTo>
                    <a:pt x="750" y="1412"/>
                  </a:lnTo>
                  <a:lnTo>
                    <a:pt x="731" y="1412"/>
                  </a:lnTo>
                  <a:lnTo>
                    <a:pt x="715" y="1413"/>
                  </a:lnTo>
                  <a:lnTo>
                    <a:pt x="699" y="1414"/>
                  </a:lnTo>
                  <a:lnTo>
                    <a:pt x="684" y="1417"/>
                  </a:lnTo>
                  <a:lnTo>
                    <a:pt x="671" y="1419"/>
                  </a:lnTo>
                  <a:lnTo>
                    <a:pt x="660" y="1422"/>
                  </a:lnTo>
                  <a:lnTo>
                    <a:pt x="649" y="1426"/>
                  </a:lnTo>
                  <a:lnTo>
                    <a:pt x="640" y="1431"/>
                  </a:lnTo>
                  <a:lnTo>
                    <a:pt x="632" y="1435"/>
                  </a:lnTo>
                  <a:lnTo>
                    <a:pt x="626" y="1440"/>
                  </a:lnTo>
                  <a:lnTo>
                    <a:pt x="622" y="1446"/>
                  </a:lnTo>
                  <a:lnTo>
                    <a:pt x="620" y="1452"/>
                  </a:lnTo>
                  <a:lnTo>
                    <a:pt x="620" y="1457"/>
                  </a:lnTo>
                  <a:lnTo>
                    <a:pt x="621" y="1464"/>
                  </a:lnTo>
                  <a:lnTo>
                    <a:pt x="625" y="1472"/>
                  </a:lnTo>
                  <a:lnTo>
                    <a:pt x="631" y="1479"/>
                  </a:lnTo>
                  <a:lnTo>
                    <a:pt x="639" y="1486"/>
                  </a:lnTo>
                  <a:lnTo>
                    <a:pt x="649" y="1493"/>
                  </a:lnTo>
                  <a:lnTo>
                    <a:pt x="663" y="1501"/>
                  </a:lnTo>
                  <a:lnTo>
                    <a:pt x="678" y="1508"/>
                  </a:lnTo>
                  <a:lnTo>
                    <a:pt x="696" y="1516"/>
                  </a:lnTo>
                  <a:lnTo>
                    <a:pt x="717" y="1523"/>
                  </a:lnTo>
                  <a:lnTo>
                    <a:pt x="740" y="1531"/>
                  </a:lnTo>
                  <a:lnTo>
                    <a:pt x="767" y="1538"/>
                  </a:lnTo>
                  <a:lnTo>
                    <a:pt x="796" y="1546"/>
                  </a:lnTo>
                  <a:lnTo>
                    <a:pt x="828" y="1553"/>
                  </a:lnTo>
                  <a:lnTo>
                    <a:pt x="864" y="1561"/>
                  </a:lnTo>
                  <a:lnTo>
                    <a:pt x="878" y="1564"/>
                  </a:lnTo>
                  <a:lnTo>
                    <a:pt x="890" y="1567"/>
                  </a:lnTo>
                  <a:lnTo>
                    <a:pt x="902" y="1572"/>
                  </a:lnTo>
                  <a:lnTo>
                    <a:pt x="912" y="1575"/>
                  </a:lnTo>
                  <a:lnTo>
                    <a:pt x="921" y="1580"/>
                  </a:lnTo>
                  <a:lnTo>
                    <a:pt x="928" y="1585"/>
                  </a:lnTo>
                  <a:lnTo>
                    <a:pt x="935" y="1589"/>
                  </a:lnTo>
                  <a:lnTo>
                    <a:pt x="941" y="1594"/>
                  </a:lnTo>
                  <a:lnTo>
                    <a:pt x="947" y="1599"/>
                  </a:lnTo>
                  <a:lnTo>
                    <a:pt x="951" y="1604"/>
                  </a:lnTo>
                  <a:lnTo>
                    <a:pt x="954" y="1609"/>
                  </a:lnTo>
                  <a:lnTo>
                    <a:pt x="956" y="1614"/>
                  </a:lnTo>
                  <a:lnTo>
                    <a:pt x="960" y="1625"/>
                  </a:lnTo>
                  <a:lnTo>
                    <a:pt x="961" y="1635"/>
                  </a:lnTo>
                  <a:lnTo>
                    <a:pt x="960" y="1644"/>
                  </a:lnTo>
                  <a:lnTo>
                    <a:pt x="958" y="1654"/>
                  </a:lnTo>
                  <a:lnTo>
                    <a:pt x="955" y="1663"/>
                  </a:lnTo>
                  <a:lnTo>
                    <a:pt x="952" y="1670"/>
                  </a:lnTo>
                  <a:lnTo>
                    <a:pt x="945" y="1681"/>
                  </a:lnTo>
                  <a:lnTo>
                    <a:pt x="941" y="1685"/>
                  </a:lnTo>
                  <a:lnTo>
                    <a:pt x="942" y="1695"/>
                  </a:lnTo>
                  <a:lnTo>
                    <a:pt x="945" y="1704"/>
                  </a:lnTo>
                  <a:lnTo>
                    <a:pt x="948" y="1713"/>
                  </a:lnTo>
                  <a:lnTo>
                    <a:pt x="954" y="1721"/>
                  </a:lnTo>
                  <a:lnTo>
                    <a:pt x="966" y="1738"/>
                  </a:lnTo>
                  <a:lnTo>
                    <a:pt x="981" y="1754"/>
                  </a:lnTo>
                  <a:lnTo>
                    <a:pt x="995" y="1769"/>
                  </a:lnTo>
                  <a:lnTo>
                    <a:pt x="1007" y="1786"/>
                  </a:lnTo>
                  <a:lnTo>
                    <a:pt x="1013" y="1795"/>
                  </a:lnTo>
                  <a:lnTo>
                    <a:pt x="1016" y="1803"/>
                  </a:lnTo>
                  <a:lnTo>
                    <a:pt x="1018" y="1814"/>
                  </a:lnTo>
                  <a:lnTo>
                    <a:pt x="1020" y="1823"/>
                  </a:lnTo>
                  <a:lnTo>
                    <a:pt x="1020" y="1841"/>
                  </a:lnTo>
                  <a:lnTo>
                    <a:pt x="1022" y="1856"/>
                  </a:lnTo>
                  <a:lnTo>
                    <a:pt x="1025" y="1870"/>
                  </a:lnTo>
                  <a:lnTo>
                    <a:pt x="1029" y="1884"/>
                  </a:lnTo>
                  <a:lnTo>
                    <a:pt x="1038" y="1907"/>
                  </a:lnTo>
                  <a:lnTo>
                    <a:pt x="1049" y="1931"/>
                  </a:lnTo>
                  <a:lnTo>
                    <a:pt x="1053" y="1942"/>
                  </a:lnTo>
                  <a:lnTo>
                    <a:pt x="1058" y="1954"/>
                  </a:lnTo>
                  <a:lnTo>
                    <a:pt x="1063" y="1966"/>
                  </a:lnTo>
                  <a:lnTo>
                    <a:pt x="1065" y="1978"/>
                  </a:lnTo>
                  <a:lnTo>
                    <a:pt x="1067" y="1992"/>
                  </a:lnTo>
                  <a:lnTo>
                    <a:pt x="1069" y="2008"/>
                  </a:lnTo>
                  <a:lnTo>
                    <a:pt x="1067" y="2024"/>
                  </a:lnTo>
                  <a:lnTo>
                    <a:pt x="1065" y="2042"/>
                  </a:lnTo>
                  <a:lnTo>
                    <a:pt x="1053" y="2037"/>
                  </a:lnTo>
                  <a:lnTo>
                    <a:pt x="1043" y="2031"/>
                  </a:lnTo>
                  <a:lnTo>
                    <a:pt x="1031" y="2024"/>
                  </a:lnTo>
                  <a:lnTo>
                    <a:pt x="1021" y="2016"/>
                  </a:lnTo>
                  <a:lnTo>
                    <a:pt x="1010" y="2006"/>
                  </a:lnTo>
                  <a:lnTo>
                    <a:pt x="1000" y="1997"/>
                  </a:lnTo>
                  <a:lnTo>
                    <a:pt x="989" y="1987"/>
                  </a:lnTo>
                  <a:lnTo>
                    <a:pt x="980" y="1975"/>
                  </a:lnTo>
                  <a:lnTo>
                    <a:pt x="960" y="1952"/>
                  </a:lnTo>
                  <a:lnTo>
                    <a:pt x="941" y="1927"/>
                  </a:lnTo>
                  <a:lnTo>
                    <a:pt x="924" y="1901"/>
                  </a:lnTo>
                  <a:lnTo>
                    <a:pt x="905" y="1874"/>
                  </a:lnTo>
                  <a:lnTo>
                    <a:pt x="872" y="1824"/>
                  </a:lnTo>
                  <a:lnTo>
                    <a:pt x="841" y="1780"/>
                  </a:lnTo>
                  <a:lnTo>
                    <a:pt x="824" y="1762"/>
                  </a:lnTo>
                  <a:lnTo>
                    <a:pt x="809" y="1747"/>
                  </a:lnTo>
                  <a:lnTo>
                    <a:pt x="802" y="1741"/>
                  </a:lnTo>
                  <a:lnTo>
                    <a:pt x="795" y="1737"/>
                  </a:lnTo>
                  <a:lnTo>
                    <a:pt x="787" y="1733"/>
                  </a:lnTo>
                  <a:lnTo>
                    <a:pt x="780" y="1731"/>
                  </a:lnTo>
                  <a:lnTo>
                    <a:pt x="725" y="1748"/>
                  </a:lnTo>
                  <a:lnTo>
                    <a:pt x="524" y="1575"/>
                  </a:lnTo>
                  <a:lnTo>
                    <a:pt x="507" y="1581"/>
                  </a:lnTo>
                  <a:lnTo>
                    <a:pt x="492" y="1587"/>
                  </a:lnTo>
                  <a:lnTo>
                    <a:pt x="476" y="1593"/>
                  </a:lnTo>
                  <a:lnTo>
                    <a:pt x="462" y="1600"/>
                  </a:lnTo>
                  <a:lnTo>
                    <a:pt x="450" y="1607"/>
                  </a:lnTo>
                  <a:lnTo>
                    <a:pt x="438" y="1614"/>
                  </a:lnTo>
                  <a:lnTo>
                    <a:pt x="428" y="1621"/>
                  </a:lnTo>
                  <a:lnTo>
                    <a:pt x="419" y="1627"/>
                  </a:lnTo>
                  <a:lnTo>
                    <a:pt x="411" y="1634"/>
                  </a:lnTo>
                  <a:lnTo>
                    <a:pt x="405" y="1641"/>
                  </a:lnTo>
                  <a:lnTo>
                    <a:pt x="400" y="1647"/>
                  </a:lnTo>
                  <a:lnTo>
                    <a:pt x="397" y="1653"/>
                  </a:lnTo>
                  <a:lnTo>
                    <a:pt x="395" y="1657"/>
                  </a:lnTo>
                  <a:lnTo>
                    <a:pt x="395" y="1663"/>
                  </a:lnTo>
                  <a:lnTo>
                    <a:pt x="397" y="1667"/>
                  </a:lnTo>
                  <a:lnTo>
                    <a:pt x="400" y="1670"/>
                  </a:lnTo>
                  <a:lnTo>
                    <a:pt x="438" y="1700"/>
                  </a:lnTo>
                  <a:lnTo>
                    <a:pt x="478" y="1731"/>
                  </a:lnTo>
                  <a:lnTo>
                    <a:pt x="520" y="1761"/>
                  </a:lnTo>
                  <a:lnTo>
                    <a:pt x="562" y="1790"/>
                  </a:lnTo>
                  <a:lnTo>
                    <a:pt x="604" y="1818"/>
                  </a:lnTo>
                  <a:lnTo>
                    <a:pt x="643" y="1844"/>
                  </a:lnTo>
                  <a:lnTo>
                    <a:pt x="680" y="1867"/>
                  </a:lnTo>
                  <a:lnTo>
                    <a:pt x="711" y="1886"/>
                  </a:lnTo>
                  <a:lnTo>
                    <a:pt x="0" y="1886"/>
                  </a:lnTo>
                  <a:lnTo>
                    <a:pt x="0" y="0"/>
                  </a:lnTo>
                  <a:lnTo>
                    <a:pt x="1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6"/>
            <p:cNvSpPr/>
            <p:nvPr/>
          </p:nvSpPr>
          <p:spPr>
            <a:xfrm>
              <a:off x="7062840" y="6050160"/>
              <a:ext cx="133200" cy="98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41" h="565">
                  <a:moveTo>
                    <a:pt x="0" y="565"/>
                  </a:moveTo>
                  <a:lnTo>
                    <a:pt x="22" y="537"/>
                  </a:lnTo>
                  <a:lnTo>
                    <a:pt x="45" y="510"/>
                  </a:lnTo>
                  <a:lnTo>
                    <a:pt x="67" y="484"/>
                  </a:lnTo>
                  <a:lnTo>
                    <a:pt x="90" y="459"/>
                  </a:lnTo>
                  <a:lnTo>
                    <a:pt x="136" y="410"/>
                  </a:lnTo>
                  <a:lnTo>
                    <a:pt x="180" y="365"/>
                  </a:lnTo>
                  <a:lnTo>
                    <a:pt x="223" y="326"/>
                  </a:lnTo>
                  <a:lnTo>
                    <a:pt x="263" y="292"/>
                  </a:lnTo>
                  <a:lnTo>
                    <a:pt x="282" y="276"/>
                  </a:lnTo>
                  <a:lnTo>
                    <a:pt x="299" y="262"/>
                  </a:lnTo>
                  <a:lnTo>
                    <a:pt x="317" y="252"/>
                  </a:lnTo>
                  <a:lnTo>
                    <a:pt x="332" y="241"/>
                  </a:lnTo>
                  <a:lnTo>
                    <a:pt x="371" y="220"/>
                  </a:lnTo>
                  <a:lnTo>
                    <a:pt x="422" y="195"/>
                  </a:lnTo>
                  <a:lnTo>
                    <a:pt x="483" y="167"/>
                  </a:lnTo>
                  <a:lnTo>
                    <a:pt x="550" y="136"/>
                  </a:lnTo>
                  <a:lnTo>
                    <a:pt x="623" y="104"/>
                  </a:lnTo>
                  <a:lnTo>
                    <a:pt x="698" y="70"/>
                  </a:lnTo>
                  <a:lnTo>
                    <a:pt x="771" y="35"/>
                  </a:lnTo>
                  <a:lnTo>
                    <a:pt x="841" y="0"/>
                  </a:lnTo>
                  <a:lnTo>
                    <a:pt x="0" y="56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Freeform 7"/>
            <p:cNvSpPr/>
            <p:nvPr/>
          </p:nvSpPr>
          <p:spPr>
            <a:xfrm>
              <a:off x="7062840" y="6050160"/>
              <a:ext cx="133200" cy="98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41" h="565">
                  <a:moveTo>
                    <a:pt x="0" y="565"/>
                  </a:moveTo>
                  <a:lnTo>
                    <a:pt x="22" y="537"/>
                  </a:lnTo>
                  <a:lnTo>
                    <a:pt x="45" y="510"/>
                  </a:lnTo>
                  <a:lnTo>
                    <a:pt x="67" y="484"/>
                  </a:lnTo>
                  <a:lnTo>
                    <a:pt x="90" y="459"/>
                  </a:lnTo>
                  <a:lnTo>
                    <a:pt x="136" y="410"/>
                  </a:lnTo>
                  <a:lnTo>
                    <a:pt x="180" y="365"/>
                  </a:lnTo>
                  <a:lnTo>
                    <a:pt x="223" y="326"/>
                  </a:lnTo>
                  <a:lnTo>
                    <a:pt x="263" y="292"/>
                  </a:lnTo>
                  <a:lnTo>
                    <a:pt x="282" y="276"/>
                  </a:lnTo>
                  <a:lnTo>
                    <a:pt x="299" y="262"/>
                  </a:lnTo>
                  <a:lnTo>
                    <a:pt x="317" y="252"/>
                  </a:lnTo>
                  <a:lnTo>
                    <a:pt x="332" y="241"/>
                  </a:lnTo>
                  <a:lnTo>
                    <a:pt x="371" y="220"/>
                  </a:lnTo>
                  <a:lnTo>
                    <a:pt x="422" y="195"/>
                  </a:lnTo>
                  <a:lnTo>
                    <a:pt x="483" y="167"/>
                  </a:lnTo>
                  <a:lnTo>
                    <a:pt x="550" y="136"/>
                  </a:lnTo>
                  <a:lnTo>
                    <a:pt x="623" y="104"/>
                  </a:lnTo>
                  <a:lnTo>
                    <a:pt x="698" y="70"/>
                  </a:lnTo>
                  <a:lnTo>
                    <a:pt x="771" y="35"/>
                  </a:lnTo>
                  <a:lnTo>
                    <a:pt x="841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8"/>
            <p:cNvSpPr/>
            <p:nvPr/>
          </p:nvSpPr>
          <p:spPr>
            <a:xfrm>
              <a:off x="8037360" y="5920200"/>
              <a:ext cx="96120" cy="11232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605" h="646">
                  <a:moveTo>
                    <a:pt x="0" y="0"/>
                  </a:moveTo>
                  <a:lnTo>
                    <a:pt x="277" y="0"/>
                  </a:lnTo>
                  <a:lnTo>
                    <a:pt x="274" y="9"/>
                  </a:lnTo>
                  <a:lnTo>
                    <a:pt x="273" y="20"/>
                  </a:lnTo>
                  <a:lnTo>
                    <a:pt x="273" y="31"/>
                  </a:lnTo>
                  <a:lnTo>
                    <a:pt x="274" y="43"/>
                  </a:lnTo>
                  <a:lnTo>
                    <a:pt x="277" y="56"/>
                  </a:lnTo>
                  <a:lnTo>
                    <a:pt x="279" y="71"/>
                  </a:lnTo>
                  <a:lnTo>
                    <a:pt x="284" y="86"/>
                  </a:lnTo>
                  <a:lnTo>
                    <a:pt x="288" y="102"/>
                  </a:lnTo>
                  <a:lnTo>
                    <a:pt x="300" y="137"/>
                  </a:lnTo>
                  <a:lnTo>
                    <a:pt x="316" y="174"/>
                  </a:lnTo>
                  <a:lnTo>
                    <a:pt x="335" y="214"/>
                  </a:lnTo>
                  <a:lnTo>
                    <a:pt x="356" y="256"/>
                  </a:lnTo>
                  <a:lnTo>
                    <a:pt x="381" y="300"/>
                  </a:lnTo>
                  <a:lnTo>
                    <a:pt x="408" y="347"/>
                  </a:lnTo>
                  <a:lnTo>
                    <a:pt x="436" y="395"/>
                  </a:lnTo>
                  <a:lnTo>
                    <a:pt x="467" y="444"/>
                  </a:lnTo>
                  <a:lnTo>
                    <a:pt x="500" y="493"/>
                  </a:lnTo>
                  <a:lnTo>
                    <a:pt x="534" y="543"/>
                  </a:lnTo>
                  <a:lnTo>
                    <a:pt x="569" y="594"/>
                  </a:lnTo>
                  <a:lnTo>
                    <a:pt x="605" y="6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9"/>
            <p:cNvSpPr/>
            <p:nvPr/>
          </p:nvSpPr>
          <p:spPr>
            <a:xfrm>
              <a:off x="8037360" y="5920200"/>
              <a:ext cx="96120" cy="11232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605" h="646">
                  <a:moveTo>
                    <a:pt x="0" y="0"/>
                  </a:moveTo>
                  <a:lnTo>
                    <a:pt x="277" y="0"/>
                  </a:lnTo>
                  <a:lnTo>
                    <a:pt x="274" y="9"/>
                  </a:lnTo>
                  <a:lnTo>
                    <a:pt x="273" y="20"/>
                  </a:lnTo>
                  <a:lnTo>
                    <a:pt x="273" y="31"/>
                  </a:lnTo>
                  <a:lnTo>
                    <a:pt x="274" y="43"/>
                  </a:lnTo>
                  <a:lnTo>
                    <a:pt x="277" y="56"/>
                  </a:lnTo>
                  <a:lnTo>
                    <a:pt x="279" y="71"/>
                  </a:lnTo>
                  <a:lnTo>
                    <a:pt x="284" y="86"/>
                  </a:lnTo>
                  <a:lnTo>
                    <a:pt x="288" y="102"/>
                  </a:lnTo>
                  <a:lnTo>
                    <a:pt x="300" y="137"/>
                  </a:lnTo>
                  <a:lnTo>
                    <a:pt x="316" y="174"/>
                  </a:lnTo>
                  <a:lnTo>
                    <a:pt x="335" y="214"/>
                  </a:lnTo>
                  <a:lnTo>
                    <a:pt x="356" y="256"/>
                  </a:lnTo>
                  <a:lnTo>
                    <a:pt x="381" y="300"/>
                  </a:lnTo>
                  <a:lnTo>
                    <a:pt x="408" y="347"/>
                  </a:lnTo>
                  <a:lnTo>
                    <a:pt x="436" y="395"/>
                  </a:lnTo>
                  <a:lnTo>
                    <a:pt x="467" y="444"/>
                  </a:lnTo>
                  <a:lnTo>
                    <a:pt x="500" y="493"/>
                  </a:lnTo>
                  <a:lnTo>
                    <a:pt x="534" y="543"/>
                  </a:lnTo>
                  <a:lnTo>
                    <a:pt x="569" y="594"/>
                  </a:lnTo>
                  <a:lnTo>
                    <a:pt x="605" y="64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10"/>
            <p:cNvSpPr/>
            <p:nvPr/>
          </p:nvSpPr>
          <p:spPr>
            <a:xfrm>
              <a:off x="5891040" y="5627520"/>
              <a:ext cx="37800" cy="1616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44" h="1091">
                  <a:moveTo>
                    <a:pt x="0" y="567"/>
                  </a:moveTo>
                  <a:lnTo>
                    <a:pt x="17" y="591"/>
                  </a:lnTo>
                  <a:lnTo>
                    <a:pt x="36" y="616"/>
                  </a:lnTo>
                  <a:lnTo>
                    <a:pt x="53" y="642"/>
                  </a:lnTo>
                  <a:lnTo>
                    <a:pt x="71" y="670"/>
                  </a:lnTo>
                  <a:lnTo>
                    <a:pt x="87" y="699"/>
                  </a:lnTo>
                  <a:lnTo>
                    <a:pt x="102" y="730"/>
                  </a:lnTo>
                  <a:lnTo>
                    <a:pt x="109" y="746"/>
                  </a:lnTo>
                  <a:lnTo>
                    <a:pt x="116" y="761"/>
                  </a:lnTo>
                  <a:lnTo>
                    <a:pt x="122" y="777"/>
                  </a:lnTo>
                  <a:lnTo>
                    <a:pt x="127" y="794"/>
                  </a:lnTo>
                  <a:lnTo>
                    <a:pt x="132" y="811"/>
                  </a:lnTo>
                  <a:lnTo>
                    <a:pt x="136" y="828"/>
                  </a:lnTo>
                  <a:lnTo>
                    <a:pt x="140" y="845"/>
                  </a:lnTo>
                  <a:lnTo>
                    <a:pt x="142" y="863"/>
                  </a:lnTo>
                  <a:lnTo>
                    <a:pt x="143" y="880"/>
                  </a:lnTo>
                  <a:lnTo>
                    <a:pt x="144" y="899"/>
                  </a:lnTo>
                  <a:lnTo>
                    <a:pt x="144" y="916"/>
                  </a:lnTo>
                  <a:lnTo>
                    <a:pt x="143" y="935"/>
                  </a:lnTo>
                  <a:lnTo>
                    <a:pt x="141" y="954"/>
                  </a:lnTo>
                  <a:lnTo>
                    <a:pt x="137" y="973"/>
                  </a:lnTo>
                  <a:lnTo>
                    <a:pt x="133" y="992"/>
                  </a:lnTo>
                  <a:lnTo>
                    <a:pt x="128" y="1011"/>
                  </a:lnTo>
                  <a:lnTo>
                    <a:pt x="121" y="1031"/>
                  </a:lnTo>
                  <a:lnTo>
                    <a:pt x="113" y="1051"/>
                  </a:lnTo>
                  <a:lnTo>
                    <a:pt x="104" y="1071"/>
                  </a:lnTo>
                  <a:lnTo>
                    <a:pt x="92" y="1091"/>
                  </a:lnTo>
                  <a:lnTo>
                    <a:pt x="92" y="526"/>
                  </a:lnTo>
                  <a:lnTo>
                    <a:pt x="104" y="506"/>
                  </a:lnTo>
                  <a:lnTo>
                    <a:pt x="113" y="485"/>
                  </a:lnTo>
                  <a:lnTo>
                    <a:pt x="121" y="466"/>
                  </a:lnTo>
                  <a:lnTo>
                    <a:pt x="128" y="446"/>
                  </a:lnTo>
                  <a:lnTo>
                    <a:pt x="133" y="426"/>
                  </a:lnTo>
                  <a:lnTo>
                    <a:pt x="137" y="407"/>
                  </a:lnTo>
                  <a:lnTo>
                    <a:pt x="141" y="389"/>
                  </a:lnTo>
                  <a:lnTo>
                    <a:pt x="143" y="369"/>
                  </a:lnTo>
                  <a:lnTo>
                    <a:pt x="144" y="350"/>
                  </a:lnTo>
                  <a:lnTo>
                    <a:pt x="144" y="332"/>
                  </a:lnTo>
                  <a:lnTo>
                    <a:pt x="143" y="314"/>
                  </a:lnTo>
                  <a:lnTo>
                    <a:pt x="142" y="296"/>
                  </a:lnTo>
                  <a:lnTo>
                    <a:pt x="140" y="279"/>
                  </a:lnTo>
                  <a:lnTo>
                    <a:pt x="136" y="261"/>
                  </a:lnTo>
                  <a:lnTo>
                    <a:pt x="132" y="244"/>
                  </a:lnTo>
                  <a:lnTo>
                    <a:pt x="127" y="227"/>
                  </a:lnTo>
                  <a:lnTo>
                    <a:pt x="122" y="211"/>
                  </a:lnTo>
                  <a:lnTo>
                    <a:pt x="116" y="195"/>
                  </a:lnTo>
                  <a:lnTo>
                    <a:pt x="109" y="178"/>
                  </a:lnTo>
                  <a:lnTo>
                    <a:pt x="102" y="163"/>
                  </a:lnTo>
                  <a:lnTo>
                    <a:pt x="87" y="133"/>
                  </a:lnTo>
                  <a:lnTo>
                    <a:pt x="71" y="103"/>
                  </a:lnTo>
                  <a:lnTo>
                    <a:pt x="53" y="75"/>
                  </a:lnTo>
                  <a:lnTo>
                    <a:pt x="36" y="49"/>
                  </a:lnTo>
                  <a:lnTo>
                    <a:pt x="17" y="23"/>
                  </a:lnTo>
                  <a:lnTo>
                    <a:pt x="0" y="0"/>
                  </a:lnTo>
                  <a:lnTo>
                    <a:pt x="0" y="5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11"/>
            <p:cNvSpPr/>
            <p:nvPr/>
          </p:nvSpPr>
          <p:spPr>
            <a:xfrm>
              <a:off x="7026120" y="6149520"/>
              <a:ext cx="31680" cy="142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96" h="827">
                  <a:moveTo>
                    <a:pt x="196" y="411"/>
                  </a:moveTo>
                  <a:lnTo>
                    <a:pt x="175" y="439"/>
                  </a:lnTo>
                  <a:lnTo>
                    <a:pt x="153" y="467"/>
                  </a:lnTo>
                  <a:lnTo>
                    <a:pt x="134" y="495"/>
                  </a:lnTo>
                  <a:lnTo>
                    <a:pt x="114" y="523"/>
                  </a:lnTo>
                  <a:lnTo>
                    <a:pt x="96" y="551"/>
                  </a:lnTo>
                  <a:lnTo>
                    <a:pt x="79" y="579"/>
                  </a:lnTo>
                  <a:lnTo>
                    <a:pt x="64" y="607"/>
                  </a:lnTo>
                  <a:lnTo>
                    <a:pt x="50" y="634"/>
                  </a:lnTo>
                  <a:lnTo>
                    <a:pt x="37" y="661"/>
                  </a:lnTo>
                  <a:lnTo>
                    <a:pt x="25" y="687"/>
                  </a:lnTo>
                  <a:lnTo>
                    <a:pt x="17" y="713"/>
                  </a:lnTo>
                  <a:lnTo>
                    <a:pt x="9" y="737"/>
                  </a:lnTo>
                  <a:lnTo>
                    <a:pt x="4" y="762"/>
                  </a:lnTo>
                  <a:lnTo>
                    <a:pt x="0" y="784"/>
                  </a:lnTo>
                  <a:lnTo>
                    <a:pt x="0" y="795"/>
                  </a:lnTo>
                  <a:lnTo>
                    <a:pt x="0" y="806"/>
                  </a:lnTo>
                  <a:lnTo>
                    <a:pt x="2" y="816"/>
                  </a:lnTo>
                  <a:lnTo>
                    <a:pt x="3" y="827"/>
                  </a:lnTo>
                  <a:lnTo>
                    <a:pt x="3" y="417"/>
                  </a:lnTo>
                  <a:lnTo>
                    <a:pt x="2" y="408"/>
                  </a:lnTo>
                  <a:lnTo>
                    <a:pt x="0" y="397"/>
                  </a:lnTo>
                  <a:lnTo>
                    <a:pt x="0" y="387"/>
                  </a:lnTo>
                  <a:lnTo>
                    <a:pt x="0" y="375"/>
                  </a:lnTo>
                  <a:lnTo>
                    <a:pt x="4" y="352"/>
                  </a:lnTo>
                  <a:lnTo>
                    <a:pt x="9" y="328"/>
                  </a:lnTo>
                  <a:lnTo>
                    <a:pt x="17" y="303"/>
                  </a:lnTo>
                  <a:lnTo>
                    <a:pt x="25" y="277"/>
                  </a:lnTo>
                  <a:lnTo>
                    <a:pt x="37" y="251"/>
                  </a:lnTo>
                  <a:lnTo>
                    <a:pt x="50" y="224"/>
                  </a:lnTo>
                  <a:lnTo>
                    <a:pt x="64" y="196"/>
                  </a:lnTo>
                  <a:lnTo>
                    <a:pt x="79" y="168"/>
                  </a:lnTo>
                  <a:lnTo>
                    <a:pt x="96" y="140"/>
                  </a:lnTo>
                  <a:lnTo>
                    <a:pt x="114" y="112"/>
                  </a:lnTo>
                  <a:lnTo>
                    <a:pt x="134" y="84"/>
                  </a:lnTo>
                  <a:lnTo>
                    <a:pt x="153" y="56"/>
                  </a:lnTo>
                  <a:lnTo>
                    <a:pt x="175" y="28"/>
                  </a:lnTo>
                  <a:lnTo>
                    <a:pt x="196" y="0"/>
                  </a:lnTo>
                  <a:lnTo>
                    <a:pt x="196" y="41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12"/>
            <p:cNvSpPr/>
            <p:nvPr/>
          </p:nvSpPr>
          <p:spPr>
            <a:xfrm>
              <a:off x="7204320" y="5975640"/>
              <a:ext cx="54000" cy="115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340" h="668">
                  <a:moveTo>
                    <a:pt x="340" y="196"/>
                  </a:moveTo>
                  <a:lnTo>
                    <a:pt x="322" y="168"/>
                  </a:lnTo>
                  <a:lnTo>
                    <a:pt x="303" y="143"/>
                  </a:lnTo>
                  <a:lnTo>
                    <a:pt x="285" y="119"/>
                  </a:lnTo>
                  <a:lnTo>
                    <a:pt x="265" y="98"/>
                  </a:lnTo>
                  <a:lnTo>
                    <a:pt x="245" y="80"/>
                  </a:lnTo>
                  <a:lnTo>
                    <a:pt x="225" y="63"/>
                  </a:lnTo>
                  <a:lnTo>
                    <a:pt x="205" y="48"/>
                  </a:lnTo>
                  <a:lnTo>
                    <a:pt x="185" y="35"/>
                  </a:lnTo>
                  <a:lnTo>
                    <a:pt x="166" y="25"/>
                  </a:lnTo>
                  <a:lnTo>
                    <a:pt x="146" y="16"/>
                  </a:lnTo>
                  <a:lnTo>
                    <a:pt x="127" y="9"/>
                  </a:lnTo>
                  <a:lnTo>
                    <a:pt x="109" y="5"/>
                  </a:lnTo>
                  <a:lnTo>
                    <a:pt x="92" y="1"/>
                  </a:lnTo>
                  <a:lnTo>
                    <a:pt x="76" y="0"/>
                  </a:lnTo>
                  <a:lnTo>
                    <a:pt x="62" y="1"/>
                  </a:lnTo>
                  <a:lnTo>
                    <a:pt x="48" y="4"/>
                  </a:lnTo>
                  <a:lnTo>
                    <a:pt x="35" y="8"/>
                  </a:lnTo>
                  <a:lnTo>
                    <a:pt x="24" y="14"/>
                  </a:lnTo>
                  <a:lnTo>
                    <a:pt x="15" y="21"/>
                  </a:lnTo>
                  <a:lnTo>
                    <a:pt x="8" y="30"/>
                  </a:lnTo>
                  <a:lnTo>
                    <a:pt x="3" y="41"/>
                  </a:lnTo>
                  <a:lnTo>
                    <a:pt x="1" y="54"/>
                  </a:lnTo>
                  <a:lnTo>
                    <a:pt x="0" y="68"/>
                  </a:lnTo>
                  <a:lnTo>
                    <a:pt x="2" y="83"/>
                  </a:lnTo>
                  <a:lnTo>
                    <a:pt x="7" y="101"/>
                  </a:lnTo>
                  <a:lnTo>
                    <a:pt x="14" y="118"/>
                  </a:lnTo>
                  <a:lnTo>
                    <a:pt x="24" y="138"/>
                  </a:lnTo>
                  <a:lnTo>
                    <a:pt x="37" y="159"/>
                  </a:lnTo>
                  <a:lnTo>
                    <a:pt x="53" y="181"/>
                  </a:lnTo>
                  <a:lnTo>
                    <a:pt x="73" y="206"/>
                  </a:lnTo>
                  <a:lnTo>
                    <a:pt x="97" y="230"/>
                  </a:lnTo>
                  <a:lnTo>
                    <a:pt x="124" y="256"/>
                  </a:lnTo>
                  <a:lnTo>
                    <a:pt x="124" y="668"/>
                  </a:lnTo>
                  <a:lnTo>
                    <a:pt x="97" y="641"/>
                  </a:lnTo>
                  <a:lnTo>
                    <a:pt x="73" y="617"/>
                  </a:lnTo>
                  <a:lnTo>
                    <a:pt x="53" y="592"/>
                  </a:lnTo>
                  <a:lnTo>
                    <a:pt x="37" y="570"/>
                  </a:lnTo>
                  <a:lnTo>
                    <a:pt x="24" y="549"/>
                  </a:lnTo>
                  <a:lnTo>
                    <a:pt x="14" y="529"/>
                  </a:lnTo>
                  <a:lnTo>
                    <a:pt x="7" y="511"/>
                  </a:lnTo>
                  <a:lnTo>
                    <a:pt x="2" y="493"/>
                  </a:lnTo>
                  <a:lnTo>
                    <a:pt x="0" y="478"/>
                  </a:lnTo>
                  <a:lnTo>
                    <a:pt x="1" y="464"/>
                  </a:lnTo>
                  <a:lnTo>
                    <a:pt x="3" y="451"/>
                  </a:lnTo>
                  <a:lnTo>
                    <a:pt x="8" y="440"/>
                  </a:lnTo>
                  <a:lnTo>
                    <a:pt x="15" y="431"/>
                  </a:lnTo>
                  <a:lnTo>
                    <a:pt x="24" y="423"/>
                  </a:lnTo>
                  <a:lnTo>
                    <a:pt x="35" y="417"/>
                  </a:lnTo>
                  <a:lnTo>
                    <a:pt x="48" y="412"/>
                  </a:lnTo>
                  <a:lnTo>
                    <a:pt x="62" y="410"/>
                  </a:lnTo>
                  <a:lnTo>
                    <a:pt x="76" y="410"/>
                  </a:lnTo>
                  <a:lnTo>
                    <a:pt x="92" y="411"/>
                  </a:lnTo>
                  <a:lnTo>
                    <a:pt x="109" y="414"/>
                  </a:lnTo>
                  <a:lnTo>
                    <a:pt x="127" y="418"/>
                  </a:lnTo>
                  <a:lnTo>
                    <a:pt x="146" y="425"/>
                  </a:lnTo>
                  <a:lnTo>
                    <a:pt x="166" y="433"/>
                  </a:lnTo>
                  <a:lnTo>
                    <a:pt x="185" y="444"/>
                  </a:lnTo>
                  <a:lnTo>
                    <a:pt x="205" y="457"/>
                  </a:lnTo>
                  <a:lnTo>
                    <a:pt x="225" y="472"/>
                  </a:lnTo>
                  <a:lnTo>
                    <a:pt x="245" y="488"/>
                  </a:lnTo>
                  <a:lnTo>
                    <a:pt x="265" y="507"/>
                  </a:lnTo>
                  <a:lnTo>
                    <a:pt x="285" y="528"/>
                  </a:lnTo>
                  <a:lnTo>
                    <a:pt x="303" y="551"/>
                  </a:lnTo>
                  <a:lnTo>
                    <a:pt x="322" y="577"/>
                  </a:lnTo>
                  <a:lnTo>
                    <a:pt x="340" y="605"/>
                  </a:lnTo>
                  <a:lnTo>
                    <a:pt x="34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13"/>
            <p:cNvSpPr/>
            <p:nvPr/>
          </p:nvSpPr>
          <p:spPr>
            <a:xfrm>
              <a:off x="7567560" y="5905440"/>
              <a:ext cx="14040" cy="99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87" h="576">
                  <a:moveTo>
                    <a:pt x="87" y="413"/>
                  </a:moveTo>
                  <a:lnTo>
                    <a:pt x="75" y="417"/>
                  </a:lnTo>
                  <a:lnTo>
                    <a:pt x="66" y="423"/>
                  </a:lnTo>
                  <a:lnTo>
                    <a:pt x="56" y="429"/>
                  </a:lnTo>
                  <a:lnTo>
                    <a:pt x="46" y="436"/>
                  </a:lnTo>
                  <a:lnTo>
                    <a:pt x="35" y="448"/>
                  </a:lnTo>
                  <a:lnTo>
                    <a:pt x="24" y="460"/>
                  </a:lnTo>
                  <a:lnTo>
                    <a:pt x="16" y="472"/>
                  </a:lnTo>
                  <a:lnTo>
                    <a:pt x="10" y="484"/>
                  </a:lnTo>
                  <a:lnTo>
                    <a:pt x="5" y="497"/>
                  </a:lnTo>
                  <a:lnTo>
                    <a:pt x="2" y="509"/>
                  </a:lnTo>
                  <a:lnTo>
                    <a:pt x="1" y="519"/>
                  </a:lnTo>
                  <a:lnTo>
                    <a:pt x="0" y="530"/>
                  </a:lnTo>
                  <a:lnTo>
                    <a:pt x="0" y="548"/>
                  </a:lnTo>
                  <a:lnTo>
                    <a:pt x="2" y="563"/>
                  </a:lnTo>
                  <a:lnTo>
                    <a:pt x="5" y="573"/>
                  </a:lnTo>
                  <a:lnTo>
                    <a:pt x="7" y="576"/>
                  </a:lnTo>
                  <a:lnTo>
                    <a:pt x="7" y="167"/>
                  </a:lnTo>
                  <a:lnTo>
                    <a:pt x="5" y="164"/>
                  </a:lnTo>
                  <a:lnTo>
                    <a:pt x="2" y="155"/>
                  </a:lnTo>
                  <a:lnTo>
                    <a:pt x="0" y="139"/>
                  </a:lnTo>
                  <a:lnTo>
                    <a:pt x="0" y="120"/>
                  </a:lnTo>
                  <a:lnTo>
                    <a:pt x="1" y="109"/>
                  </a:lnTo>
                  <a:lnTo>
                    <a:pt x="2" y="97"/>
                  </a:lnTo>
                  <a:lnTo>
                    <a:pt x="5" y="86"/>
                  </a:lnTo>
                  <a:lnTo>
                    <a:pt x="10" y="74"/>
                  </a:lnTo>
                  <a:lnTo>
                    <a:pt x="16" y="62"/>
                  </a:lnTo>
                  <a:lnTo>
                    <a:pt x="24" y="50"/>
                  </a:lnTo>
                  <a:lnTo>
                    <a:pt x="35" y="38"/>
                  </a:lnTo>
                  <a:lnTo>
                    <a:pt x="46" y="26"/>
                  </a:lnTo>
                  <a:lnTo>
                    <a:pt x="56" y="20"/>
                  </a:lnTo>
                  <a:lnTo>
                    <a:pt x="66" y="13"/>
                  </a:lnTo>
                  <a:lnTo>
                    <a:pt x="75" y="7"/>
                  </a:lnTo>
                  <a:lnTo>
                    <a:pt x="87" y="0"/>
                  </a:lnTo>
                  <a:lnTo>
                    <a:pt x="87" y="4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14"/>
            <p:cNvSpPr/>
            <p:nvPr/>
          </p:nvSpPr>
          <p:spPr>
            <a:xfrm>
              <a:off x="5905440" y="5655240"/>
              <a:ext cx="7560" cy="644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51" h="375">
                  <a:moveTo>
                    <a:pt x="0" y="375"/>
                  </a:moveTo>
                  <a:lnTo>
                    <a:pt x="0" y="0"/>
                  </a:lnTo>
                  <a:lnTo>
                    <a:pt x="12" y="21"/>
                  </a:lnTo>
                  <a:lnTo>
                    <a:pt x="22" y="44"/>
                  </a:lnTo>
                  <a:lnTo>
                    <a:pt x="30" y="66"/>
                  </a:lnTo>
                  <a:lnTo>
                    <a:pt x="38" y="89"/>
                  </a:lnTo>
                  <a:lnTo>
                    <a:pt x="43" y="113"/>
                  </a:lnTo>
                  <a:lnTo>
                    <a:pt x="48" y="136"/>
                  </a:lnTo>
                  <a:lnTo>
                    <a:pt x="50" y="160"/>
                  </a:lnTo>
                  <a:lnTo>
                    <a:pt x="51" y="185"/>
                  </a:lnTo>
                  <a:lnTo>
                    <a:pt x="50" y="209"/>
                  </a:lnTo>
                  <a:lnTo>
                    <a:pt x="48" y="234"/>
                  </a:lnTo>
                  <a:lnTo>
                    <a:pt x="44" y="259"/>
                  </a:lnTo>
                  <a:lnTo>
                    <a:pt x="38" y="282"/>
                  </a:lnTo>
                  <a:lnTo>
                    <a:pt x="31" y="306"/>
                  </a:lnTo>
                  <a:lnTo>
                    <a:pt x="23" y="330"/>
                  </a:lnTo>
                  <a:lnTo>
                    <a:pt x="13" y="353"/>
                  </a:lnTo>
                  <a:lnTo>
                    <a:pt x="0" y="3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15"/>
            <p:cNvSpPr/>
            <p:nvPr/>
          </p:nvSpPr>
          <p:spPr>
            <a:xfrm>
              <a:off x="6359760" y="5825880"/>
              <a:ext cx="15480" cy="1026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92" h="596">
                  <a:moveTo>
                    <a:pt x="92" y="0"/>
                  </a:moveTo>
                  <a:lnTo>
                    <a:pt x="0" y="187"/>
                  </a:lnTo>
                  <a:lnTo>
                    <a:pt x="0" y="596"/>
                  </a:lnTo>
                  <a:lnTo>
                    <a:pt x="92" y="409"/>
                  </a:lnTo>
                  <a:lnTo>
                    <a:pt x="9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Freeform 16"/>
            <p:cNvSpPr/>
            <p:nvPr/>
          </p:nvSpPr>
          <p:spPr>
            <a:xfrm>
              <a:off x="6537240" y="5987520"/>
              <a:ext cx="69120" cy="15048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35" h="872">
                  <a:moveTo>
                    <a:pt x="435" y="463"/>
                  </a:moveTo>
                  <a:lnTo>
                    <a:pt x="0" y="0"/>
                  </a:lnTo>
                  <a:lnTo>
                    <a:pt x="0" y="408"/>
                  </a:lnTo>
                  <a:lnTo>
                    <a:pt x="435" y="872"/>
                  </a:lnTo>
                  <a:lnTo>
                    <a:pt x="435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Freeform 17"/>
            <p:cNvSpPr/>
            <p:nvPr/>
          </p:nvSpPr>
          <p:spPr>
            <a:xfrm>
              <a:off x="6636960" y="5992920"/>
              <a:ext cx="33120" cy="129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16" h="749">
                  <a:moveTo>
                    <a:pt x="216" y="0"/>
                  </a:moveTo>
                  <a:lnTo>
                    <a:pt x="0" y="340"/>
                  </a:lnTo>
                  <a:lnTo>
                    <a:pt x="0" y="749"/>
                  </a:lnTo>
                  <a:lnTo>
                    <a:pt x="216" y="409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Freeform 18"/>
            <p:cNvSpPr/>
            <p:nvPr/>
          </p:nvSpPr>
          <p:spPr>
            <a:xfrm>
              <a:off x="6748200" y="5987520"/>
              <a:ext cx="105840" cy="245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658" h="1423">
                  <a:moveTo>
                    <a:pt x="658" y="1423"/>
                  </a:moveTo>
                  <a:lnTo>
                    <a:pt x="618" y="1400"/>
                  </a:lnTo>
                  <a:lnTo>
                    <a:pt x="581" y="1375"/>
                  </a:lnTo>
                  <a:lnTo>
                    <a:pt x="547" y="1349"/>
                  </a:lnTo>
                  <a:lnTo>
                    <a:pt x="514" y="1324"/>
                  </a:lnTo>
                  <a:lnTo>
                    <a:pt x="485" y="1298"/>
                  </a:lnTo>
                  <a:lnTo>
                    <a:pt x="457" y="1271"/>
                  </a:lnTo>
                  <a:lnTo>
                    <a:pt x="431" y="1243"/>
                  </a:lnTo>
                  <a:lnTo>
                    <a:pt x="407" y="1215"/>
                  </a:lnTo>
                  <a:lnTo>
                    <a:pt x="385" y="1187"/>
                  </a:lnTo>
                  <a:lnTo>
                    <a:pt x="365" y="1158"/>
                  </a:lnTo>
                  <a:lnTo>
                    <a:pt x="346" y="1130"/>
                  </a:lnTo>
                  <a:lnTo>
                    <a:pt x="330" y="1101"/>
                  </a:lnTo>
                  <a:lnTo>
                    <a:pt x="313" y="1071"/>
                  </a:lnTo>
                  <a:lnTo>
                    <a:pt x="299" y="1042"/>
                  </a:lnTo>
                  <a:lnTo>
                    <a:pt x="286" y="1013"/>
                  </a:lnTo>
                  <a:lnTo>
                    <a:pt x="276" y="984"/>
                  </a:lnTo>
                  <a:lnTo>
                    <a:pt x="265" y="955"/>
                  </a:lnTo>
                  <a:lnTo>
                    <a:pt x="256" y="927"/>
                  </a:lnTo>
                  <a:lnTo>
                    <a:pt x="248" y="897"/>
                  </a:lnTo>
                  <a:lnTo>
                    <a:pt x="241" y="871"/>
                  </a:lnTo>
                  <a:lnTo>
                    <a:pt x="228" y="816"/>
                  </a:lnTo>
                  <a:lnTo>
                    <a:pt x="219" y="763"/>
                  </a:lnTo>
                  <a:lnTo>
                    <a:pt x="212" y="714"/>
                  </a:lnTo>
                  <a:lnTo>
                    <a:pt x="205" y="668"/>
                  </a:lnTo>
                  <a:lnTo>
                    <a:pt x="199" y="628"/>
                  </a:lnTo>
                  <a:lnTo>
                    <a:pt x="194" y="590"/>
                  </a:lnTo>
                  <a:lnTo>
                    <a:pt x="190" y="567"/>
                  </a:lnTo>
                  <a:lnTo>
                    <a:pt x="184" y="546"/>
                  </a:lnTo>
                  <a:lnTo>
                    <a:pt x="176" y="526"/>
                  </a:lnTo>
                  <a:lnTo>
                    <a:pt x="167" y="508"/>
                  </a:lnTo>
                  <a:lnTo>
                    <a:pt x="158" y="493"/>
                  </a:lnTo>
                  <a:lnTo>
                    <a:pt x="147" y="479"/>
                  </a:lnTo>
                  <a:lnTo>
                    <a:pt x="136" y="466"/>
                  </a:lnTo>
                  <a:lnTo>
                    <a:pt x="123" y="455"/>
                  </a:lnTo>
                  <a:lnTo>
                    <a:pt x="110" y="445"/>
                  </a:lnTo>
                  <a:lnTo>
                    <a:pt x="96" y="437"/>
                  </a:lnTo>
                  <a:lnTo>
                    <a:pt x="81" y="430"/>
                  </a:lnTo>
                  <a:lnTo>
                    <a:pt x="66" y="423"/>
                  </a:lnTo>
                  <a:lnTo>
                    <a:pt x="51" y="419"/>
                  </a:lnTo>
                  <a:lnTo>
                    <a:pt x="34" y="415"/>
                  </a:lnTo>
                  <a:lnTo>
                    <a:pt x="18" y="412"/>
                  </a:lnTo>
                  <a:lnTo>
                    <a:pt x="0" y="409"/>
                  </a:lnTo>
                  <a:lnTo>
                    <a:pt x="0" y="0"/>
                  </a:lnTo>
                  <a:lnTo>
                    <a:pt x="18" y="3"/>
                  </a:lnTo>
                  <a:lnTo>
                    <a:pt x="34" y="5"/>
                  </a:lnTo>
                  <a:lnTo>
                    <a:pt x="51" y="10"/>
                  </a:lnTo>
                  <a:lnTo>
                    <a:pt x="66" y="14"/>
                  </a:lnTo>
                  <a:lnTo>
                    <a:pt x="81" y="20"/>
                  </a:lnTo>
                  <a:lnTo>
                    <a:pt x="96" y="27"/>
                  </a:lnTo>
                  <a:lnTo>
                    <a:pt x="110" y="35"/>
                  </a:lnTo>
                  <a:lnTo>
                    <a:pt x="123" y="45"/>
                  </a:lnTo>
                  <a:lnTo>
                    <a:pt x="136" y="55"/>
                  </a:lnTo>
                  <a:lnTo>
                    <a:pt x="147" y="68"/>
                  </a:lnTo>
                  <a:lnTo>
                    <a:pt x="158" y="82"/>
                  </a:lnTo>
                  <a:lnTo>
                    <a:pt x="167" y="97"/>
                  </a:lnTo>
                  <a:lnTo>
                    <a:pt x="176" y="115"/>
                  </a:lnTo>
                  <a:lnTo>
                    <a:pt x="184" y="134"/>
                  </a:lnTo>
                  <a:lnTo>
                    <a:pt x="190" y="156"/>
                  </a:lnTo>
                  <a:lnTo>
                    <a:pt x="194" y="178"/>
                  </a:lnTo>
                  <a:lnTo>
                    <a:pt x="199" y="216"/>
                  </a:lnTo>
                  <a:lnTo>
                    <a:pt x="205" y="257"/>
                  </a:lnTo>
                  <a:lnTo>
                    <a:pt x="212" y="304"/>
                  </a:lnTo>
                  <a:lnTo>
                    <a:pt x="219" y="353"/>
                  </a:lnTo>
                  <a:lnTo>
                    <a:pt x="228" y="406"/>
                  </a:lnTo>
                  <a:lnTo>
                    <a:pt x="241" y="459"/>
                  </a:lnTo>
                  <a:lnTo>
                    <a:pt x="248" y="487"/>
                  </a:lnTo>
                  <a:lnTo>
                    <a:pt x="256" y="515"/>
                  </a:lnTo>
                  <a:lnTo>
                    <a:pt x="265" y="545"/>
                  </a:lnTo>
                  <a:lnTo>
                    <a:pt x="276" y="574"/>
                  </a:lnTo>
                  <a:lnTo>
                    <a:pt x="286" y="602"/>
                  </a:lnTo>
                  <a:lnTo>
                    <a:pt x="299" y="631"/>
                  </a:lnTo>
                  <a:lnTo>
                    <a:pt x="313" y="660"/>
                  </a:lnTo>
                  <a:lnTo>
                    <a:pt x="330" y="690"/>
                  </a:lnTo>
                  <a:lnTo>
                    <a:pt x="346" y="719"/>
                  </a:lnTo>
                  <a:lnTo>
                    <a:pt x="365" y="748"/>
                  </a:lnTo>
                  <a:lnTo>
                    <a:pt x="385" y="776"/>
                  </a:lnTo>
                  <a:lnTo>
                    <a:pt x="407" y="805"/>
                  </a:lnTo>
                  <a:lnTo>
                    <a:pt x="431" y="833"/>
                  </a:lnTo>
                  <a:lnTo>
                    <a:pt x="457" y="860"/>
                  </a:lnTo>
                  <a:lnTo>
                    <a:pt x="485" y="888"/>
                  </a:lnTo>
                  <a:lnTo>
                    <a:pt x="514" y="914"/>
                  </a:lnTo>
                  <a:lnTo>
                    <a:pt x="547" y="941"/>
                  </a:lnTo>
                  <a:lnTo>
                    <a:pt x="581" y="965"/>
                  </a:lnTo>
                  <a:lnTo>
                    <a:pt x="618" y="990"/>
                  </a:lnTo>
                  <a:lnTo>
                    <a:pt x="658" y="1013"/>
                  </a:lnTo>
                  <a:lnTo>
                    <a:pt x="658" y="14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Freeform 19"/>
            <p:cNvSpPr/>
            <p:nvPr/>
          </p:nvSpPr>
          <p:spPr>
            <a:xfrm>
              <a:off x="6878160" y="6244200"/>
              <a:ext cx="78840" cy="1562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496" h="905">
                  <a:moveTo>
                    <a:pt x="496" y="496"/>
                  </a:moveTo>
                  <a:lnTo>
                    <a:pt x="0" y="0"/>
                  </a:lnTo>
                  <a:lnTo>
                    <a:pt x="0" y="410"/>
                  </a:lnTo>
                  <a:lnTo>
                    <a:pt x="496" y="905"/>
                  </a:lnTo>
                  <a:lnTo>
                    <a:pt x="496" y="4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Freeform 20"/>
            <p:cNvSpPr/>
            <p:nvPr/>
          </p:nvSpPr>
          <p:spPr>
            <a:xfrm>
              <a:off x="7110720" y="6053400"/>
              <a:ext cx="82080" cy="1123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511" h="650">
                  <a:moveTo>
                    <a:pt x="511" y="409"/>
                  </a:moveTo>
                  <a:lnTo>
                    <a:pt x="441" y="443"/>
                  </a:lnTo>
                  <a:lnTo>
                    <a:pt x="367" y="478"/>
                  </a:lnTo>
                  <a:lnTo>
                    <a:pt x="292" y="511"/>
                  </a:lnTo>
                  <a:lnTo>
                    <a:pt x="220" y="544"/>
                  </a:lnTo>
                  <a:lnTo>
                    <a:pt x="152" y="576"/>
                  </a:lnTo>
                  <a:lnTo>
                    <a:pt x="91" y="604"/>
                  </a:lnTo>
                  <a:lnTo>
                    <a:pt x="40" y="628"/>
                  </a:lnTo>
                  <a:lnTo>
                    <a:pt x="0" y="650"/>
                  </a:lnTo>
                  <a:lnTo>
                    <a:pt x="0" y="242"/>
                  </a:lnTo>
                  <a:lnTo>
                    <a:pt x="40" y="219"/>
                  </a:lnTo>
                  <a:lnTo>
                    <a:pt x="91" y="195"/>
                  </a:lnTo>
                  <a:lnTo>
                    <a:pt x="152" y="166"/>
                  </a:lnTo>
                  <a:lnTo>
                    <a:pt x="220" y="135"/>
                  </a:lnTo>
                  <a:lnTo>
                    <a:pt x="292" y="103"/>
                  </a:lnTo>
                  <a:lnTo>
                    <a:pt x="367" y="69"/>
                  </a:lnTo>
                  <a:lnTo>
                    <a:pt x="441" y="34"/>
                  </a:lnTo>
                  <a:lnTo>
                    <a:pt x="511" y="0"/>
                  </a:lnTo>
                  <a:lnTo>
                    <a:pt x="511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21"/>
            <p:cNvSpPr/>
            <p:nvPr/>
          </p:nvSpPr>
          <p:spPr>
            <a:xfrm>
              <a:off x="7292880" y="5970240"/>
              <a:ext cx="50760" cy="75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09" h="437">
                  <a:moveTo>
                    <a:pt x="309" y="0"/>
                  </a:moveTo>
                  <a:lnTo>
                    <a:pt x="0" y="28"/>
                  </a:lnTo>
                  <a:lnTo>
                    <a:pt x="0" y="437"/>
                  </a:lnTo>
                  <a:lnTo>
                    <a:pt x="309" y="409"/>
                  </a:lnTo>
                  <a:lnTo>
                    <a:pt x="30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Freeform 22"/>
            <p:cNvSpPr/>
            <p:nvPr/>
          </p:nvSpPr>
          <p:spPr>
            <a:xfrm>
              <a:off x="7477200" y="5987520"/>
              <a:ext cx="42840" cy="964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75" h="556">
                  <a:moveTo>
                    <a:pt x="275" y="556"/>
                  </a:moveTo>
                  <a:lnTo>
                    <a:pt x="264" y="544"/>
                  </a:lnTo>
                  <a:lnTo>
                    <a:pt x="251" y="534"/>
                  </a:lnTo>
                  <a:lnTo>
                    <a:pt x="238" y="523"/>
                  </a:lnTo>
                  <a:lnTo>
                    <a:pt x="223" y="512"/>
                  </a:lnTo>
                  <a:lnTo>
                    <a:pt x="208" y="503"/>
                  </a:lnTo>
                  <a:lnTo>
                    <a:pt x="193" y="494"/>
                  </a:lnTo>
                  <a:lnTo>
                    <a:pt x="175" y="484"/>
                  </a:lnTo>
                  <a:lnTo>
                    <a:pt x="159" y="475"/>
                  </a:lnTo>
                  <a:lnTo>
                    <a:pt x="121" y="458"/>
                  </a:lnTo>
                  <a:lnTo>
                    <a:pt x="83" y="441"/>
                  </a:lnTo>
                  <a:lnTo>
                    <a:pt x="42" y="426"/>
                  </a:lnTo>
                  <a:lnTo>
                    <a:pt x="0" y="412"/>
                  </a:lnTo>
                  <a:lnTo>
                    <a:pt x="0" y="0"/>
                  </a:lnTo>
                  <a:lnTo>
                    <a:pt x="42" y="14"/>
                  </a:lnTo>
                  <a:lnTo>
                    <a:pt x="83" y="30"/>
                  </a:lnTo>
                  <a:lnTo>
                    <a:pt x="121" y="46"/>
                  </a:lnTo>
                  <a:lnTo>
                    <a:pt x="159" y="64"/>
                  </a:lnTo>
                  <a:lnTo>
                    <a:pt x="175" y="73"/>
                  </a:lnTo>
                  <a:lnTo>
                    <a:pt x="193" y="84"/>
                  </a:lnTo>
                  <a:lnTo>
                    <a:pt x="208" y="93"/>
                  </a:lnTo>
                  <a:lnTo>
                    <a:pt x="223" y="104"/>
                  </a:lnTo>
                  <a:lnTo>
                    <a:pt x="238" y="114"/>
                  </a:lnTo>
                  <a:lnTo>
                    <a:pt x="251" y="125"/>
                  </a:lnTo>
                  <a:lnTo>
                    <a:pt x="264" y="135"/>
                  </a:lnTo>
                  <a:lnTo>
                    <a:pt x="275" y="147"/>
                  </a:lnTo>
                  <a:lnTo>
                    <a:pt x="275" y="55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Freeform 23"/>
            <p:cNvSpPr/>
            <p:nvPr/>
          </p:nvSpPr>
          <p:spPr>
            <a:xfrm>
              <a:off x="7837560" y="5880240"/>
              <a:ext cx="37800" cy="102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248" h="597">
                  <a:moveTo>
                    <a:pt x="248" y="188"/>
                  </a:moveTo>
                  <a:lnTo>
                    <a:pt x="248" y="177"/>
                  </a:lnTo>
                  <a:lnTo>
                    <a:pt x="246" y="165"/>
                  </a:lnTo>
                  <a:lnTo>
                    <a:pt x="242" y="154"/>
                  </a:lnTo>
                  <a:lnTo>
                    <a:pt x="237" y="144"/>
                  </a:lnTo>
                  <a:lnTo>
                    <a:pt x="232" y="135"/>
                  </a:lnTo>
                  <a:lnTo>
                    <a:pt x="226" y="125"/>
                  </a:lnTo>
                  <a:lnTo>
                    <a:pt x="218" y="116"/>
                  </a:lnTo>
                  <a:lnTo>
                    <a:pt x="209" y="107"/>
                  </a:lnTo>
                  <a:lnTo>
                    <a:pt x="200" y="98"/>
                  </a:lnTo>
                  <a:lnTo>
                    <a:pt x="191" y="90"/>
                  </a:lnTo>
                  <a:lnTo>
                    <a:pt x="180" y="82"/>
                  </a:lnTo>
                  <a:lnTo>
                    <a:pt x="170" y="74"/>
                  </a:lnTo>
                  <a:lnTo>
                    <a:pt x="147" y="61"/>
                  </a:lnTo>
                  <a:lnTo>
                    <a:pt x="124" y="48"/>
                  </a:lnTo>
                  <a:lnTo>
                    <a:pt x="101" y="36"/>
                  </a:lnTo>
                  <a:lnTo>
                    <a:pt x="79" y="27"/>
                  </a:lnTo>
                  <a:lnTo>
                    <a:pt x="58" y="19"/>
                  </a:lnTo>
                  <a:lnTo>
                    <a:pt x="39" y="13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413"/>
                  </a:lnTo>
                  <a:lnTo>
                    <a:pt x="11" y="416"/>
                  </a:lnTo>
                  <a:lnTo>
                    <a:pt x="39" y="424"/>
                  </a:lnTo>
                  <a:lnTo>
                    <a:pt x="58" y="430"/>
                  </a:lnTo>
                  <a:lnTo>
                    <a:pt x="79" y="438"/>
                  </a:lnTo>
                  <a:lnTo>
                    <a:pt x="101" y="448"/>
                  </a:lnTo>
                  <a:lnTo>
                    <a:pt x="124" y="458"/>
                  </a:lnTo>
                  <a:lnTo>
                    <a:pt x="147" y="471"/>
                  </a:lnTo>
                  <a:lnTo>
                    <a:pt x="170" y="484"/>
                  </a:lnTo>
                  <a:lnTo>
                    <a:pt x="180" y="492"/>
                  </a:lnTo>
                  <a:lnTo>
                    <a:pt x="191" y="499"/>
                  </a:lnTo>
                  <a:lnTo>
                    <a:pt x="200" y="507"/>
                  </a:lnTo>
                  <a:lnTo>
                    <a:pt x="209" y="515"/>
                  </a:lnTo>
                  <a:lnTo>
                    <a:pt x="218" y="525"/>
                  </a:lnTo>
                  <a:lnTo>
                    <a:pt x="226" y="534"/>
                  </a:lnTo>
                  <a:lnTo>
                    <a:pt x="232" y="543"/>
                  </a:lnTo>
                  <a:lnTo>
                    <a:pt x="237" y="554"/>
                  </a:lnTo>
                  <a:lnTo>
                    <a:pt x="242" y="563"/>
                  </a:lnTo>
                  <a:lnTo>
                    <a:pt x="246" y="575"/>
                  </a:lnTo>
                  <a:lnTo>
                    <a:pt x="248" y="585"/>
                  </a:lnTo>
                  <a:lnTo>
                    <a:pt x="248" y="597"/>
                  </a:lnTo>
                  <a:lnTo>
                    <a:pt x="248" y="1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Rectangle 24"/>
            <p:cNvSpPr/>
            <p:nvPr/>
          </p:nvSpPr>
          <p:spPr>
            <a:xfrm>
              <a:off x="7934400" y="5875200"/>
              <a:ext cx="31680" cy="705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Rectangle 25"/>
            <p:cNvSpPr/>
            <p:nvPr/>
          </p:nvSpPr>
          <p:spPr>
            <a:xfrm>
              <a:off x="7990200" y="5895720"/>
              <a:ext cx="14040" cy="705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Freeform 26"/>
            <p:cNvSpPr/>
            <p:nvPr/>
          </p:nvSpPr>
          <p:spPr>
            <a:xfrm>
              <a:off x="8078760" y="5922720"/>
              <a:ext cx="52200" cy="1850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329" h="1068">
                  <a:moveTo>
                    <a:pt x="329" y="645"/>
                  </a:moveTo>
                  <a:lnTo>
                    <a:pt x="293" y="593"/>
                  </a:lnTo>
                  <a:lnTo>
                    <a:pt x="258" y="543"/>
                  </a:lnTo>
                  <a:lnTo>
                    <a:pt x="223" y="493"/>
                  </a:lnTo>
                  <a:lnTo>
                    <a:pt x="191" y="443"/>
                  </a:lnTo>
                  <a:lnTo>
                    <a:pt x="160" y="394"/>
                  </a:lnTo>
                  <a:lnTo>
                    <a:pt x="132" y="346"/>
                  </a:lnTo>
                  <a:lnTo>
                    <a:pt x="105" y="299"/>
                  </a:lnTo>
                  <a:lnTo>
                    <a:pt x="80" y="255"/>
                  </a:lnTo>
                  <a:lnTo>
                    <a:pt x="59" y="213"/>
                  </a:lnTo>
                  <a:lnTo>
                    <a:pt x="41" y="173"/>
                  </a:lnTo>
                  <a:lnTo>
                    <a:pt x="26" y="136"/>
                  </a:lnTo>
                  <a:lnTo>
                    <a:pt x="14" y="102"/>
                  </a:lnTo>
                  <a:lnTo>
                    <a:pt x="9" y="85"/>
                  </a:lnTo>
                  <a:lnTo>
                    <a:pt x="5" y="70"/>
                  </a:lnTo>
                  <a:lnTo>
                    <a:pt x="2" y="56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1" y="8"/>
                  </a:lnTo>
                  <a:lnTo>
                    <a:pt x="3" y="0"/>
                  </a:lnTo>
                  <a:lnTo>
                    <a:pt x="3" y="425"/>
                  </a:lnTo>
                  <a:lnTo>
                    <a:pt x="1" y="435"/>
                  </a:lnTo>
                  <a:lnTo>
                    <a:pt x="0" y="445"/>
                  </a:lnTo>
                  <a:lnTo>
                    <a:pt x="0" y="457"/>
                  </a:lnTo>
                  <a:lnTo>
                    <a:pt x="0" y="468"/>
                  </a:lnTo>
                  <a:lnTo>
                    <a:pt x="2" y="482"/>
                  </a:lnTo>
                  <a:lnTo>
                    <a:pt x="5" y="497"/>
                  </a:lnTo>
                  <a:lnTo>
                    <a:pt x="9" y="512"/>
                  </a:lnTo>
                  <a:lnTo>
                    <a:pt x="14" y="527"/>
                  </a:lnTo>
                  <a:lnTo>
                    <a:pt x="26" y="562"/>
                  </a:lnTo>
                  <a:lnTo>
                    <a:pt x="41" y="599"/>
                  </a:lnTo>
                  <a:lnTo>
                    <a:pt x="59" y="639"/>
                  </a:lnTo>
                  <a:lnTo>
                    <a:pt x="80" y="681"/>
                  </a:lnTo>
                  <a:lnTo>
                    <a:pt x="105" y="725"/>
                  </a:lnTo>
                  <a:lnTo>
                    <a:pt x="132" y="771"/>
                  </a:lnTo>
                  <a:lnTo>
                    <a:pt x="160" y="819"/>
                  </a:lnTo>
                  <a:lnTo>
                    <a:pt x="191" y="868"/>
                  </a:lnTo>
                  <a:lnTo>
                    <a:pt x="223" y="917"/>
                  </a:lnTo>
                  <a:lnTo>
                    <a:pt x="258" y="967"/>
                  </a:lnTo>
                  <a:lnTo>
                    <a:pt x="293" y="1017"/>
                  </a:lnTo>
                  <a:lnTo>
                    <a:pt x="329" y="1068"/>
                  </a:lnTo>
                  <a:lnTo>
                    <a:pt x="329" y="64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Freeform 27"/>
            <p:cNvSpPr/>
            <p:nvPr/>
          </p:nvSpPr>
          <p:spPr>
            <a:xfrm>
              <a:off x="8255160" y="6145200"/>
              <a:ext cx="86760" cy="1198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544" h="703">
                  <a:moveTo>
                    <a:pt x="544" y="703"/>
                  </a:moveTo>
                  <a:lnTo>
                    <a:pt x="468" y="658"/>
                  </a:lnTo>
                  <a:lnTo>
                    <a:pt x="395" y="614"/>
                  </a:lnTo>
                  <a:lnTo>
                    <a:pt x="321" y="576"/>
                  </a:lnTo>
                  <a:lnTo>
                    <a:pt x="251" y="540"/>
                  </a:lnTo>
                  <a:lnTo>
                    <a:pt x="183" y="507"/>
                  </a:lnTo>
                  <a:lnTo>
                    <a:pt x="119" y="478"/>
                  </a:lnTo>
                  <a:lnTo>
                    <a:pt x="57" y="451"/>
                  </a:lnTo>
                  <a:lnTo>
                    <a:pt x="0" y="426"/>
                  </a:lnTo>
                  <a:lnTo>
                    <a:pt x="0" y="0"/>
                  </a:lnTo>
                  <a:lnTo>
                    <a:pt x="57" y="24"/>
                  </a:lnTo>
                  <a:lnTo>
                    <a:pt x="119" y="51"/>
                  </a:lnTo>
                  <a:lnTo>
                    <a:pt x="183" y="82"/>
                  </a:lnTo>
                  <a:lnTo>
                    <a:pt x="251" y="114"/>
                  </a:lnTo>
                  <a:lnTo>
                    <a:pt x="321" y="151"/>
                  </a:lnTo>
                  <a:lnTo>
                    <a:pt x="395" y="190"/>
                  </a:lnTo>
                  <a:lnTo>
                    <a:pt x="468" y="232"/>
                  </a:lnTo>
                  <a:lnTo>
                    <a:pt x="544" y="277"/>
                  </a:lnTo>
                  <a:lnTo>
                    <a:pt x="544" y="7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Rectangle 28"/>
            <p:cNvSpPr/>
            <p:nvPr/>
          </p:nvSpPr>
          <p:spPr>
            <a:xfrm>
              <a:off x="8037360" y="5920200"/>
              <a:ext cx="46080" cy="705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29"/>
            <p:cNvSpPr/>
            <p:nvPr/>
          </p:nvSpPr>
          <p:spPr>
            <a:xfrm>
              <a:off x="5855040" y="5583240"/>
              <a:ext cx="34920" cy="102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220" h="599">
                  <a:moveTo>
                    <a:pt x="0" y="567"/>
                  </a:moveTo>
                  <a:lnTo>
                    <a:pt x="220" y="599"/>
                  </a:lnTo>
                  <a:lnTo>
                    <a:pt x="220" y="32"/>
                  </a:lnTo>
                  <a:lnTo>
                    <a:pt x="0" y="0"/>
                  </a:lnTo>
                  <a:lnTo>
                    <a:pt x="0" y="5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Rectangle 30"/>
            <p:cNvSpPr/>
            <p:nvPr/>
          </p:nvSpPr>
          <p:spPr>
            <a:xfrm>
              <a:off x="5908680" y="5716440"/>
              <a:ext cx="123480" cy="705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Freeform 31"/>
            <p:cNvSpPr/>
            <p:nvPr/>
          </p:nvSpPr>
          <p:spPr>
            <a:xfrm>
              <a:off x="7586640" y="5875200"/>
              <a:ext cx="253800" cy="982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590" h="570">
                  <a:moveTo>
                    <a:pt x="1590" y="14"/>
                  </a:moveTo>
                  <a:lnTo>
                    <a:pt x="1546" y="10"/>
                  </a:lnTo>
                  <a:lnTo>
                    <a:pt x="1500" y="6"/>
                  </a:lnTo>
                  <a:lnTo>
                    <a:pt x="1451" y="4"/>
                  </a:lnTo>
                  <a:lnTo>
                    <a:pt x="1399" y="1"/>
                  </a:lnTo>
                  <a:lnTo>
                    <a:pt x="1346" y="0"/>
                  </a:lnTo>
                  <a:lnTo>
                    <a:pt x="1291" y="1"/>
                  </a:lnTo>
                  <a:lnTo>
                    <a:pt x="1235" y="1"/>
                  </a:lnTo>
                  <a:lnTo>
                    <a:pt x="1176" y="4"/>
                  </a:lnTo>
                  <a:lnTo>
                    <a:pt x="1118" y="6"/>
                  </a:lnTo>
                  <a:lnTo>
                    <a:pt x="1057" y="10"/>
                  </a:lnTo>
                  <a:lnTo>
                    <a:pt x="996" y="13"/>
                  </a:lnTo>
                  <a:lnTo>
                    <a:pt x="936" y="18"/>
                  </a:lnTo>
                  <a:lnTo>
                    <a:pt x="875" y="22"/>
                  </a:lnTo>
                  <a:lnTo>
                    <a:pt x="814" y="28"/>
                  </a:lnTo>
                  <a:lnTo>
                    <a:pt x="753" y="34"/>
                  </a:lnTo>
                  <a:lnTo>
                    <a:pt x="694" y="40"/>
                  </a:lnTo>
                  <a:lnTo>
                    <a:pt x="658" y="43"/>
                  </a:lnTo>
                  <a:lnTo>
                    <a:pt x="621" y="48"/>
                  </a:lnTo>
                  <a:lnTo>
                    <a:pt x="585" y="52"/>
                  </a:lnTo>
                  <a:lnTo>
                    <a:pt x="550" y="56"/>
                  </a:lnTo>
                  <a:lnTo>
                    <a:pt x="515" y="61"/>
                  </a:lnTo>
                  <a:lnTo>
                    <a:pt x="481" y="66"/>
                  </a:lnTo>
                  <a:lnTo>
                    <a:pt x="447" y="70"/>
                  </a:lnTo>
                  <a:lnTo>
                    <a:pt x="415" y="75"/>
                  </a:lnTo>
                  <a:lnTo>
                    <a:pt x="339" y="87"/>
                  </a:lnTo>
                  <a:lnTo>
                    <a:pt x="269" y="98"/>
                  </a:lnTo>
                  <a:lnTo>
                    <a:pt x="203" y="110"/>
                  </a:lnTo>
                  <a:lnTo>
                    <a:pt x="146" y="122"/>
                  </a:lnTo>
                  <a:lnTo>
                    <a:pt x="96" y="132"/>
                  </a:lnTo>
                  <a:lnTo>
                    <a:pt x="54" y="143"/>
                  </a:lnTo>
                  <a:lnTo>
                    <a:pt x="36" y="147"/>
                  </a:lnTo>
                  <a:lnTo>
                    <a:pt x="21" y="152"/>
                  </a:lnTo>
                  <a:lnTo>
                    <a:pt x="9" y="157"/>
                  </a:lnTo>
                  <a:lnTo>
                    <a:pt x="0" y="161"/>
                  </a:lnTo>
                  <a:lnTo>
                    <a:pt x="0" y="570"/>
                  </a:lnTo>
                  <a:lnTo>
                    <a:pt x="21" y="562"/>
                  </a:lnTo>
                  <a:lnTo>
                    <a:pt x="54" y="553"/>
                  </a:lnTo>
                  <a:lnTo>
                    <a:pt x="96" y="542"/>
                  </a:lnTo>
                  <a:lnTo>
                    <a:pt x="146" y="532"/>
                  </a:lnTo>
                  <a:lnTo>
                    <a:pt x="203" y="520"/>
                  </a:lnTo>
                  <a:lnTo>
                    <a:pt x="269" y="508"/>
                  </a:lnTo>
                  <a:lnTo>
                    <a:pt x="339" y="496"/>
                  </a:lnTo>
                  <a:lnTo>
                    <a:pt x="415" y="484"/>
                  </a:lnTo>
                  <a:lnTo>
                    <a:pt x="447" y="479"/>
                  </a:lnTo>
                  <a:lnTo>
                    <a:pt x="481" y="476"/>
                  </a:lnTo>
                  <a:lnTo>
                    <a:pt x="515" y="471"/>
                  </a:lnTo>
                  <a:lnTo>
                    <a:pt x="550" y="466"/>
                  </a:lnTo>
                  <a:lnTo>
                    <a:pt x="585" y="463"/>
                  </a:lnTo>
                  <a:lnTo>
                    <a:pt x="621" y="458"/>
                  </a:lnTo>
                  <a:lnTo>
                    <a:pt x="658" y="453"/>
                  </a:lnTo>
                  <a:lnTo>
                    <a:pt x="694" y="449"/>
                  </a:lnTo>
                  <a:lnTo>
                    <a:pt x="753" y="443"/>
                  </a:lnTo>
                  <a:lnTo>
                    <a:pt x="814" y="437"/>
                  </a:lnTo>
                  <a:lnTo>
                    <a:pt x="875" y="431"/>
                  </a:lnTo>
                  <a:lnTo>
                    <a:pt x="936" y="427"/>
                  </a:lnTo>
                  <a:lnTo>
                    <a:pt x="996" y="422"/>
                  </a:lnTo>
                  <a:lnTo>
                    <a:pt x="1057" y="418"/>
                  </a:lnTo>
                  <a:lnTo>
                    <a:pt x="1118" y="415"/>
                  </a:lnTo>
                  <a:lnTo>
                    <a:pt x="1176" y="413"/>
                  </a:lnTo>
                  <a:lnTo>
                    <a:pt x="1235" y="411"/>
                  </a:lnTo>
                  <a:lnTo>
                    <a:pt x="1291" y="410"/>
                  </a:lnTo>
                  <a:lnTo>
                    <a:pt x="1346" y="410"/>
                  </a:lnTo>
                  <a:lnTo>
                    <a:pt x="1399" y="410"/>
                  </a:lnTo>
                  <a:lnTo>
                    <a:pt x="1451" y="413"/>
                  </a:lnTo>
                  <a:lnTo>
                    <a:pt x="1500" y="415"/>
                  </a:lnTo>
                  <a:lnTo>
                    <a:pt x="1546" y="418"/>
                  </a:lnTo>
                  <a:lnTo>
                    <a:pt x="1590" y="423"/>
                  </a:lnTo>
                  <a:lnTo>
                    <a:pt x="1590" y="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Freeform 32"/>
            <p:cNvSpPr/>
            <p:nvPr/>
          </p:nvSpPr>
          <p:spPr>
            <a:xfrm>
              <a:off x="8091720" y="5015160"/>
              <a:ext cx="50760" cy="1155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325" h="672">
                  <a:moveTo>
                    <a:pt x="34" y="672"/>
                  </a:moveTo>
                  <a:lnTo>
                    <a:pt x="33" y="665"/>
                  </a:lnTo>
                  <a:lnTo>
                    <a:pt x="32" y="658"/>
                  </a:lnTo>
                  <a:lnTo>
                    <a:pt x="29" y="652"/>
                  </a:lnTo>
                  <a:lnTo>
                    <a:pt x="25" y="645"/>
                  </a:lnTo>
                  <a:lnTo>
                    <a:pt x="19" y="637"/>
                  </a:lnTo>
                  <a:lnTo>
                    <a:pt x="14" y="628"/>
                  </a:lnTo>
                  <a:lnTo>
                    <a:pt x="8" y="618"/>
                  </a:lnTo>
                  <a:lnTo>
                    <a:pt x="5" y="607"/>
                  </a:lnTo>
                  <a:lnTo>
                    <a:pt x="1" y="596"/>
                  </a:lnTo>
                  <a:lnTo>
                    <a:pt x="0" y="584"/>
                  </a:lnTo>
                  <a:lnTo>
                    <a:pt x="0" y="572"/>
                  </a:lnTo>
                  <a:lnTo>
                    <a:pt x="3" y="559"/>
                  </a:lnTo>
                  <a:lnTo>
                    <a:pt x="6" y="548"/>
                  </a:lnTo>
                  <a:lnTo>
                    <a:pt x="13" y="536"/>
                  </a:lnTo>
                  <a:lnTo>
                    <a:pt x="17" y="530"/>
                  </a:lnTo>
                  <a:lnTo>
                    <a:pt x="22" y="524"/>
                  </a:lnTo>
                  <a:lnTo>
                    <a:pt x="28" y="520"/>
                  </a:lnTo>
                  <a:lnTo>
                    <a:pt x="34" y="514"/>
                  </a:lnTo>
                  <a:lnTo>
                    <a:pt x="41" y="509"/>
                  </a:lnTo>
                  <a:lnTo>
                    <a:pt x="49" y="505"/>
                  </a:lnTo>
                  <a:lnTo>
                    <a:pt x="59" y="500"/>
                  </a:lnTo>
                  <a:lnTo>
                    <a:pt x="68" y="495"/>
                  </a:lnTo>
                  <a:lnTo>
                    <a:pt x="91" y="488"/>
                  </a:lnTo>
                  <a:lnTo>
                    <a:pt x="117" y="481"/>
                  </a:lnTo>
                  <a:lnTo>
                    <a:pt x="167" y="471"/>
                  </a:lnTo>
                  <a:lnTo>
                    <a:pt x="211" y="460"/>
                  </a:lnTo>
                  <a:lnTo>
                    <a:pt x="246" y="451"/>
                  </a:lnTo>
                  <a:lnTo>
                    <a:pt x="274" y="441"/>
                  </a:lnTo>
                  <a:lnTo>
                    <a:pt x="296" y="433"/>
                  </a:lnTo>
                  <a:lnTo>
                    <a:pt x="311" y="425"/>
                  </a:lnTo>
                  <a:lnTo>
                    <a:pt x="317" y="420"/>
                  </a:lnTo>
                  <a:lnTo>
                    <a:pt x="322" y="417"/>
                  </a:lnTo>
                  <a:lnTo>
                    <a:pt x="324" y="412"/>
                  </a:lnTo>
                  <a:lnTo>
                    <a:pt x="325" y="409"/>
                  </a:lnTo>
                  <a:lnTo>
                    <a:pt x="325" y="0"/>
                  </a:lnTo>
                  <a:lnTo>
                    <a:pt x="324" y="3"/>
                  </a:lnTo>
                  <a:lnTo>
                    <a:pt x="322" y="8"/>
                  </a:lnTo>
                  <a:lnTo>
                    <a:pt x="317" y="12"/>
                  </a:lnTo>
                  <a:lnTo>
                    <a:pt x="311" y="15"/>
                  </a:lnTo>
                  <a:lnTo>
                    <a:pt x="296" y="24"/>
                  </a:lnTo>
                  <a:lnTo>
                    <a:pt x="274" y="33"/>
                  </a:lnTo>
                  <a:lnTo>
                    <a:pt x="246" y="42"/>
                  </a:lnTo>
                  <a:lnTo>
                    <a:pt x="211" y="51"/>
                  </a:lnTo>
                  <a:lnTo>
                    <a:pt x="167" y="62"/>
                  </a:lnTo>
                  <a:lnTo>
                    <a:pt x="117" y="72"/>
                  </a:lnTo>
                  <a:lnTo>
                    <a:pt x="91" y="78"/>
                  </a:lnTo>
                  <a:lnTo>
                    <a:pt x="68" y="86"/>
                  </a:lnTo>
                  <a:lnTo>
                    <a:pt x="59" y="91"/>
                  </a:lnTo>
                  <a:lnTo>
                    <a:pt x="49" y="96"/>
                  </a:lnTo>
                  <a:lnTo>
                    <a:pt x="41" y="100"/>
                  </a:lnTo>
                  <a:lnTo>
                    <a:pt x="34" y="105"/>
                  </a:lnTo>
                  <a:lnTo>
                    <a:pt x="28" y="111"/>
                  </a:lnTo>
                  <a:lnTo>
                    <a:pt x="22" y="116"/>
                  </a:lnTo>
                  <a:lnTo>
                    <a:pt x="17" y="121"/>
                  </a:lnTo>
                  <a:lnTo>
                    <a:pt x="13" y="127"/>
                  </a:lnTo>
                  <a:lnTo>
                    <a:pt x="6" y="139"/>
                  </a:lnTo>
                  <a:lnTo>
                    <a:pt x="3" y="151"/>
                  </a:lnTo>
                  <a:lnTo>
                    <a:pt x="0" y="162"/>
                  </a:lnTo>
                  <a:lnTo>
                    <a:pt x="0" y="174"/>
                  </a:lnTo>
                  <a:lnTo>
                    <a:pt x="1" y="186"/>
                  </a:lnTo>
                  <a:lnTo>
                    <a:pt x="5" y="196"/>
                  </a:lnTo>
                  <a:lnTo>
                    <a:pt x="8" y="207"/>
                  </a:lnTo>
                  <a:lnTo>
                    <a:pt x="14" y="217"/>
                  </a:lnTo>
                  <a:lnTo>
                    <a:pt x="19" y="225"/>
                  </a:lnTo>
                  <a:lnTo>
                    <a:pt x="25" y="234"/>
                  </a:lnTo>
                  <a:lnTo>
                    <a:pt x="29" y="241"/>
                  </a:lnTo>
                  <a:lnTo>
                    <a:pt x="32" y="248"/>
                  </a:lnTo>
                  <a:lnTo>
                    <a:pt x="33" y="255"/>
                  </a:lnTo>
                  <a:lnTo>
                    <a:pt x="34" y="262"/>
                  </a:lnTo>
                  <a:lnTo>
                    <a:pt x="34" y="6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33"/>
            <p:cNvSpPr/>
            <p:nvPr/>
          </p:nvSpPr>
          <p:spPr>
            <a:xfrm>
              <a:off x="8042040" y="5158080"/>
              <a:ext cx="78840" cy="1062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495" h="613">
                  <a:moveTo>
                    <a:pt x="0" y="613"/>
                  </a:moveTo>
                  <a:lnTo>
                    <a:pt x="8" y="612"/>
                  </a:lnTo>
                  <a:lnTo>
                    <a:pt x="29" y="607"/>
                  </a:lnTo>
                  <a:lnTo>
                    <a:pt x="43" y="604"/>
                  </a:lnTo>
                  <a:lnTo>
                    <a:pt x="58" y="599"/>
                  </a:lnTo>
                  <a:lnTo>
                    <a:pt x="74" y="593"/>
                  </a:lnTo>
                  <a:lnTo>
                    <a:pt x="91" y="587"/>
                  </a:lnTo>
                  <a:lnTo>
                    <a:pt x="107" y="580"/>
                  </a:lnTo>
                  <a:lnTo>
                    <a:pt x="122" y="572"/>
                  </a:lnTo>
                  <a:lnTo>
                    <a:pt x="136" y="563"/>
                  </a:lnTo>
                  <a:lnTo>
                    <a:pt x="147" y="554"/>
                  </a:lnTo>
                  <a:lnTo>
                    <a:pt x="151" y="548"/>
                  </a:lnTo>
                  <a:lnTo>
                    <a:pt x="156" y="543"/>
                  </a:lnTo>
                  <a:lnTo>
                    <a:pt x="158" y="537"/>
                  </a:lnTo>
                  <a:lnTo>
                    <a:pt x="161" y="530"/>
                  </a:lnTo>
                  <a:lnTo>
                    <a:pt x="162" y="524"/>
                  </a:lnTo>
                  <a:lnTo>
                    <a:pt x="162" y="517"/>
                  </a:lnTo>
                  <a:lnTo>
                    <a:pt x="161" y="510"/>
                  </a:lnTo>
                  <a:lnTo>
                    <a:pt x="158" y="503"/>
                  </a:lnTo>
                  <a:lnTo>
                    <a:pt x="208" y="489"/>
                  </a:lnTo>
                  <a:lnTo>
                    <a:pt x="252" y="475"/>
                  </a:lnTo>
                  <a:lnTo>
                    <a:pt x="293" y="462"/>
                  </a:lnTo>
                  <a:lnTo>
                    <a:pt x="332" y="450"/>
                  </a:lnTo>
                  <a:lnTo>
                    <a:pt x="371" y="438"/>
                  </a:lnTo>
                  <a:lnTo>
                    <a:pt x="410" y="426"/>
                  </a:lnTo>
                  <a:lnTo>
                    <a:pt x="450" y="417"/>
                  </a:lnTo>
                  <a:lnTo>
                    <a:pt x="495" y="409"/>
                  </a:lnTo>
                  <a:lnTo>
                    <a:pt x="495" y="0"/>
                  </a:lnTo>
                  <a:lnTo>
                    <a:pt x="450" y="8"/>
                  </a:lnTo>
                  <a:lnTo>
                    <a:pt x="410" y="17"/>
                  </a:lnTo>
                  <a:lnTo>
                    <a:pt x="371" y="29"/>
                  </a:lnTo>
                  <a:lnTo>
                    <a:pt x="332" y="41"/>
                  </a:lnTo>
                  <a:lnTo>
                    <a:pt x="293" y="54"/>
                  </a:lnTo>
                  <a:lnTo>
                    <a:pt x="252" y="67"/>
                  </a:lnTo>
                  <a:lnTo>
                    <a:pt x="208" y="81"/>
                  </a:lnTo>
                  <a:lnTo>
                    <a:pt x="158" y="95"/>
                  </a:lnTo>
                  <a:lnTo>
                    <a:pt x="161" y="102"/>
                  </a:lnTo>
                  <a:lnTo>
                    <a:pt x="162" y="109"/>
                  </a:lnTo>
                  <a:lnTo>
                    <a:pt x="162" y="116"/>
                  </a:lnTo>
                  <a:lnTo>
                    <a:pt x="161" y="121"/>
                  </a:lnTo>
                  <a:lnTo>
                    <a:pt x="158" y="127"/>
                  </a:lnTo>
                  <a:lnTo>
                    <a:pt x="156" y="133"/>
                  </a:lnTo>
                  <a:lnTo>
                    <a:pt x="151" y="139"/>
                  </a:lnTo>
                  <a:lnTo>
                    <a:pt x="147" y="145"/>
                  </a:lnTo>
                  <a:lnTo>
                    <a:pt x="136" y="154"/>
                  </a:lnTo>
                  <a:lnTo>
                    <a:pt x="122" y="163"/>
                  </a:lnTo>
                  <a:lnTo>
                    <a:pt x="107" y="172"/>
                  </a:lnTo>
                  <a:lnTo>
                    <a:pt x="91" y="179"/>
                  </a:lnTo>
                  <a:lnTo>
                    <a:pt x="74" y="184"/>
                  </a:lnTo>
                  <a:lnTo>
                    <a:pt x="58" y="190"/>
                  </a:lnTo>
                  <a:lnTo>
                    <a:pt x="43" y="194"/>
                  </a:lnTo>
                  <a:lnTo>
                    <a:pt x="29" y="197"/>
                  </a:lnTo>
                  <a:lnTo>
                    <a:pt x="8" y="202"/>
                  </a:lnTo>
                  <a:lnTo>
                    <a:pt x="0" y="204"/>
                  </a:lnTo>
                  <a:lnTo>
                    <a:pt x="0" y="6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Freeform 34"/>
            <p:cNvSpPr/>
            <p:nvPr/>
          </p:nvSpPr>
          <p:spPr>
            <a:xfrm>
              <a:off x="6191280" y="5838840"/>
              <a:ext cx="172800" cy="889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083" h="505">
                  <a:moveTo>
                    <a:pt x="1083" y="92"/>
                  </a:moveTo>
                  <a:lnTo>
                    <a:pt x="660" y="55"/>
                  </a:lnTo>
                  <a:lnTo>
                    <a:pt x="0" y="0"/>
                  </a:lnTo>
                  <a:lnTo>
                    <a:pt x="0" y="409"/>
                  </a:lnTo>
                  <a:lnTo>
                    <a:pt x="660" y="467"/>
                  </a:lnTo>
                  <a:lnTo>
                    <a:pt x="1083" y="505"/>
                  </a:lnTo>
                  <a:lnTo>
                    <a:pt x="1083" y="9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Freeform 35"/>
            <p:cNvSpPr/>
            <p:nvPr/>
          </p:nvSpPr>
          <p:spPr>
            <a:xfrm>
              <a:off x="6378120" y="5824800"/>
              <a:ext cx="88200" cy="759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548" h="438">
                  <a:moveTo>
                    <a:pt x="548" y="29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548" y="438"/>
                  </a:lnTo>
                  <a:lnTo>
                    <a:pt x="548" y="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Freeform 36"/>
            <p:cNvSpPr/>
            <p:nvPr/>
          </p:nvSpPr>
          <p:spPr>
            <a:xfrm>
              <a:off x="6610680" y="6050160"/>
              <a:ext cx="29880" cy="853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87" h="501">
                  <a:moveTo>
                    <a:pt x="187" y="0"/>
                  </a:moveTo>
                  <a:lnTo>
                    <a:pt x="0" y="92"/>
                  </a:lnTo>
                  <a:lnTo>
                    <a:pt x="0" y="501"/>
                  </a:lnTo>
                  <a:lnTo>
                    <a:pt x="187" y="409"/>
                  </a:lnTo>
                  <a:lnTo>
                    <a:pt x="18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Freeform 37"/>
            <p:cNvSpPr/>
            <p:nvPr/>
          </p:nvSpPr>
          <p:spPr>
            <a:xfrm>
              <a:off x="6675480" y="5985000"/>
              <a:ext cx="77040" cy="759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7" h="442">
                  <a:moveTo>
                    <a:pt x="487" y="415"/>
                  </a:moveTo>
                  <a:lnTo>
                    <a:pt x="457" y="411"/>
                  </a:lnTo>
                  <a:lnTo>
                    <a:pt x="426" y="410"/>
                  </a:lnTo>
                  <a:lnTo>
                    <a:pt x="398" y="409"/>
                  </a:lnTo>
                  <a:lnTo>
                    <a:pt x="372" y="409"/>
                  </a:lnTo>
                  <a:lnTo>
                    <a:pt x="320" y="411"/>
                  </a:lnTo>
                  <a:lnTo>
                    <a:pt x="262" y="415"/>
                  </a:lnTo>
                  <a:lnTo>
                    <a:pt x="200" y="420"/>
                  </a:lnTo>
                  <a:lnTo>
                    <a:pt x="139" y="426"/>
                  </a:lnTo>
                  <a:lnTo>
                    <a:pt x="85" y="431"/>
                  </a:lnTo>
                  <a:lnTo>
                    <a:pt x="41" y="436"/>
                  </a:lnTo>
                  <a:lnTo>
                    <a:pt x="11" y="440"/>
                  </a:lnTo>
                  <a:lnTo>
                    <a:pt x="0" y="442"/>
                  </a:lnTo>
                  <a:lnTo>
                    <a:pt x="0" y="32"/>
                  </a:lnTo>
                  <a:lnTo>
                    <a:pt x="11" y="31"/>
                  </a:lnTo>
                  <a:lnTo>
                    <a:pt x="41" y="27"/>
                  </a:lnTo>
                  <a:lnTo>
                    <a:pt x="85" y="23"/>
                  </a:lnTo>
                  <a:lnTo>
                    <a:pt x="139" y="17"/>
                  </a:lnTo>
                  <a:lnTo>
                    <a:pt x="200" y="11"/>
                  </a:lnTo>
                  <a:lnTo>
                    <a:pt x="262" y="6"/>
                  </a:lnTo>
                  <a:lnTo>
                    <a:pt x="320" y="2"/>
                  </a:lnTo>
                  <a:lnTo>
                    <a:pt x="372" y="0"/>
                  </a:lnTo>
                  <a:lnTo>
                    <a:pt x="398" y="0"/>
                  </a:lnTo>
                  <a:lnTo>
                    <a:pt x="426" y="2"/>
                  </a:lnTo>
                  <a:lnTo>
                    <a:pt x="457" y="3"/>
                  </a:lnTo>
                  <a:lnTo>
                    <a:pt x="487" y="6"/>
                  </a:lnTo>
                  <a:lnTo>
                    <a:pt x="487" y="41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Rectangle 38"/>
            <p:cNvSpPr/>
            <p:nvPr/>
          </p:nvSpPr>
          <p:spPr>
            <a:xfrm>
              <a:off x="6961320" y="6328080"/>
              <a:ext cx="73800" cy="69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Freeform 39"/>
            <p:cNvSpPr/>
            <p:nvPr/>
          </p:nvSpPr>
          <p:spPr>
            <a:xfrm>
              <a:off x="7347240" y="5967720"/>
              <a:ext cx="133200" cy="889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839" h="518">
                  <a:moveTo>
                    <a:pt x="839" y="518"/>
                  </a:moveTo>
                  <a:lnTo>
                    <a:pt x="780" y="500"/>
                  </a:lnTo>
                  <a:lnTo>
                    <a:pt x="719" y="484"/>
                  </a:lnTo>
                  <a:lnTo>
                    <a:pt x="657" y="470"/>
                  </a:lnTo>
                  <a:lnTo>
                    <a:pt x="594" y="457"/>
                  </a:lnTo>
                  <a:lnTo>
                    <a:pt x="531" y="446"/>
                  </a:lnTo>
                  <a:lnTo>
                    <a:pt x="468" y="436"/>
                  </a:lnTo>
                  <a:lnTo>
                    <a:pt x="406" y="429"/>
                  </a:lnTo>
                  <a:lnTo>
                    <a:pt x="347" y="422"/>
                  </a:lnTo>
                  <a:lnTo>
                    <a:pt x="290" y="416"/>
                  </a:lnTo>
                  <a:lnTo>
                    <a:pt x="235" y="412"/>
                  </a:lnTo>
                  <a:lnTo>
                    <a:pt x="183" y="410"/>
                  </a:lnTo>
                  <a:lnTo>
                    <a:pt x="135" y="409"/>
                  </a:lnTo>
                  <a:lnTo>
                    <a:pt x="93" y="409"/>
                  </a:lnTo>
                  <a:lnTo>
                    <a:pt x="56" y="410"/>
                  </a:lnTo>
                  <a:lnTo>
                    <a:pt x="24" y="412"/>
                  </a:lnTo>
                  <a:lnTo>
                    <a:pt x="0" y="416"/>
                  </a:lnTo>
                  <a:lnTo>
                    <a:pt x="0" y="7"/>
                  </a:lnTo>
                  <a:lnTo>
                    <a:pt x="24" y="4"/>
                  </a:lnTo>
                  <a:lnTo>
                    <a:pt x="56" y="1"/>
                  </a:lnTo>
                  <a:lnTo>
                    <a:pt x="93" y="0"/>
                  </a:lnTo>
                  <a:lnTo>
                    <a:pt x="135" y="0"/>
                  </a:lnTo>
                  <a:lnTo>
                    <a:pt x="183" y="1"/>
                  </a:lnTo>
                  <a:lnTo>
                    <a:pt x="235" y="4"/>
                  </a:lnTo>
                  <a:lnTo>
                    <a:pt x="290" y="7"/>
                  </a:lnTo>
                  <a:lnTo>
                    <a:pt x="347" y="13"/>
                  </a:lnTo>
                  <a:lnTo>
                    <a:pt x="406" y="19"/>
                  </a:lnTo>
                  <a:lnTo>
                    <a:pt x="468" y="27"/>
                  </a:lnTo>
                  <a:lnTo>
                    <a:pt x="531" y="37"/>
                  </a:lnTo>
                  <a:lnTo>
                    <a:pt x="594" y="48"/>
                  </a:lnTo>
                  <a:lnTo>
                    <a:pt x="657" y="61"/>
                  </a:lnTo>
                  <a:lnTo>
                    <a:pt x="719" y="75"/>
                  </a:lnTo>
                  <a:lnTo>
                    <a:pt x="780" y="91"/>
                  </a:lnTo>
                  <a:lnTo>
                    <a:pt x="839" y="109"/>
                  </a:lnTo>
                  <a:lnTo>
                    <a:pt x="839" y="5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Freeform 40"/>
            <p:cNvSpPr/>
            <p:nvPr/>
          </p:nvSpPr>
          <p:spPr>
            <a:xfrm>
              <a:off x="7574040" y="5986800"/>
              <a:ext cx="49320" cy="896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308" h="519">
                  <a:moveTo>
                    <a:pt x="308" y="519"/>
                  </a:moveTo>
                  <a:lnTo>
                    <a:pt x="287" y="504"/>
                  </a:lnTo>
                  <a:lnTo>
                    <a:pt x="266" y="489"/>
                  </a:lnTo>
                  <a:lnTo>
                    <a:pt x="246" y="476"/>
                  </a:lnTo>
                  <a:lnTo>
                    <a:pt x="225" y="464"/>
                  </a:lnTo>
                  <a:lnTo>
                    <a:pt x="205" y="454"/>
                  </a:lnTo>
                  <a:lnTo>
                    <a:pt x="185" y="444"/>
                  </a:lnTo>
                  <a:lnTo>
                    <a:pt x="165" y="436"/>
                  </a:lnTo>
                  <a:lnTo>
                    <a:pt x="147" y="429"/>
                  </a:lnTo>
                  <a:lnTo>
                    <a:pt x="127" y="423"/>
                  </a:lnTo>
                  <a:lnTo>
                    <a:pt x="108" y="419"/>
                  </a:lnTo>
                  <a:lnTo>
                    <a:pt x="90" y="415"/>
                  </a:lnTo>
                  <a:lnTo>
                    <a:pt x="71" y="413"/>
                  </a:lnTo>
                  <a:lnTo>
                    <a:pt x="53" y="410"/>
                  </a:lnTo>
                  <a:lnTo>
                    <a:pt x="35" y="409"/>
                  </a:lnTo>
                  <a:lnTo>
                    <a:pt x="17" y="409"/>
                  </a:lnTo>
                  <a:lnTo>
                    <a:pt x="0" y="410"/>
                  </a:lnTo>
                  <a:lnTo>
                    <a:pt x="0" y="2"/>
                  </a:lnTo>
                  <a:lnTo>
                    <a:pt x="17" y="0"/>
                  </a:lnTo>
                  <a:lnTo>
                    <a:pt x="35" y="0"/>
                  </a:lnTo>
                  <a:lnTo>
                    <a:pt x="53" y="2"/>
                  </a:lnTo>
                  <a:lnTo>
                    <a:pt x="71" y="3"/>
                  </a:lnTo>
                  <a:lnTo>
                    <a:pt x="90" y="6"/>
                  </a:lnTo>
                  <a:lnTo>
                    <a:pt x="108" y="10"/>
                  </a:lnTo>
                  <a:lnTo>
                    <a:pt x="127" y="14"/>
                  </a:lnTo>
                  <a:lnTo>
                    <a:pt x="147" y="20"/>
                  </a:lnTo>
                  <a:lnTo>
                    <a:pt x="165" y="27"/>
                  </a:lnTo>
                  <a:lnTo>
                    <a:pt x="185" y="35"/>
                  </a:lnTo>
                  <a:lnTo>
                    <a:pt x="205" y="45"/>
                  </a:lnTo>
                  <a:lnTo>
                    <a:pt x="225" y="55"/>
                  </a:lnTo>
                  <a:lnTo>
                    <a:pt x="246" y="67"/>
                  </a:lnTo>
                  <a:lnTo>
                    <a:pt x="266" y="80"/>
                  </a:lnTo>
                  <a:lnTo>
                    <a:pt x="287" y="95"/>
                  </a:lnTo>
                  <a:lnTo>
                    <a:pt x="308" y="110"/>
                  </a:lnTo>
                  <a:lnTo>
                    <a:pt x="308" y="5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41"/>
            <p:cNvSpPr/>
            <p:nvPr/>
          </p:nvSpPr>
          <p:spPr>
            <a:xfrm>
              <a:off x="7880760" y="5903640"/>
              <a:ext cx="44280" cy="85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279" h="489">
                  <a:moveTo>
                    <a:pt x="279" y="0"/>
                  </a:moveTo>
                  <a:lnTo>
                    <a:pt x="268" y="7"/>
                  </a:lnTo>
                  <a:lnTo>
                    <a:pt x="236" y="22"/>
                  </a:lnTo>
                  <a:lnTo>
                    <a:pt x="215" y="32"/>
                  </a:lnTo>
                  <a:lnTo>
                    <a:pt x="191" y="43"/>
                  </a:lnTo>
                  <a:lnTo>
                    <a:pt x="166" y="53"/>
                  </a:lnTo>
                  <a:lnTo>
                    <a:pt x="140" y="63"/>
                  </a:lnTo>
                  <a:lnTo>
                    <a:pt x="114" y="70"/>
                  </a:lnTo>
                  <a:lnTo>
                    <a:pt x="89" y="76"/>
                  </a:lnTo>
                  <a:lnTo>
                    <a:pt x="76" y="78"/>
                  </a:lnTo>
                  <a:lnTo>
                    <a:pt x="65" y="79"/>
                  </a:lnTo>
                  <a:lnTo>
                    <a:pt x="54" y="79"/>
                  </a:lnTo>
                  <a:lnTo>
                    <a:pt x="44" y="79"/>
                  </a:lnTo>
                  <a:lnTo>
                    <a:pt x="34" y="78"/>
                  </a:lnTo>
                  <a:lnTo>
                    <a:pt x="26" y="74"/>
                  </a:lnTo>
                  <a:lnTo>
                    <a:pt x="19" y="71"/>
                  </a:lnTo>
                  <a:lnTo>
                    <a:pt x="12" y="66"/>
                  </a:lnTo>
                  <a:lnTo>
                    <a:pt x="7" y="59"/>
                  </a:lnTo>
                  <a:lnTo>
                    <a:pt x="4" y="52"/>
                  </a:lnTo>
                  <a:lnTo>
                    <a:pt x="1" y="43"/>
                  </a:lnTo>
                  <a:lnTo>
                    <a:pt x="0" y="31"/>
                  </a:lnTo>
                  <a:lnTo>
                    <a:pt x="0" y="441"/>
                  </a:lnTo>
                  <a:lnTo>
                    <a:pt x="1" y="452"/>
                  </a:lnTo>
                  <a:lnTo>
                    <a:pt x="4" y="461"/>
                  </a:lnTo>
                  <a:lnTo>
                    <a:pt x="7" y="468"/>
                  </a:lnTo>
                  <a:lnTo>
                    <a:pt x="12" y="475"/>
                  </a:lnTo>
                  <a:lnTo>
                    <a:pt x="19" y="480"/>
                  </a:lnTo>
                  <a:lnTo>
                    <a:pt x="26" y="483"/>
                  </a:lnTo>
                  <a:lnTo>
                    <a:pt x="34" y="487"/>
                  </a:lnTo>
                  <a:lnTo>
                    <a:pt x="44" y="488"/>
                  </a:lnTo>
                  <a:lnTo>
                    <a:pt x="54" y="489"/>
                  </a:lnTo>
                  <a:lnTo>
                    <a:pt x="65" y="488"/>
                  </a:lnTo>
                  <a:lnTo>
                    <a:pt x="76" y="487"/>
                  </a:lnTo>
                  <a:lnTo>
                    <a:pt x="89" y="486"/>
                  </a:lnTo>
                  <a:lnTo>
                    <a:pt x="114" y="480"/>
                  </a:lnTo>
                  <a:lnTo>
                    <a:pt x="140" y="472"/>
                  </a:lnTo>
                  <a:lnTo>
                    <a:pt x="166" y="462"/>
                  </a:lnTo>
                  <a:lnTo>
                    <a:pt x="191" y="452"/>
                  </a:lnTo>
                  <a:lnTo>
                    <a:pt x="215" y="441"/>
                  </a:lnTo>
                  <a:lnTo>
                    <a:pt x="236" y="432"/>
                  </a:lnTo>
                  <a:lnTo>
                    <a:pt x="268" y="415"/>
                  </a:lnTo>
                  <a:lnTo>
                    <a:pt x="279" y="408"/>
                  </a:lnTo>
                  <a:lnTo>
                    <a:pt x="27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Freeform 42"/>
            <p:cNvSpPr/>
            <p:nvPr/>
          </p:nvSpPr>
          <p:spPr>
            <a:xfrm>
              <a:off x="7969320" y="5872320"/>
              <a:ext cx="23760" cy="93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156" h="534">
                  <a:moveTo>
                    <a:pt x="156" y="122"/>
                  </a:moveTo>
                  <a:lnTo>
                    <a:pt x="0" y="0"/>
                  </a:lnTo>
                  <a:lnTo>
                    <a:pt x="0" y="410"/>
                  </a:lnTo>
                  <a:lnTo>
                    <a:pt x="156" y="534"/>
                  </a:lnTo>
                  <a:lnTo>
                    <a:pt x="15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Freeform 43"/>
            <p:cNvSpPr/>
            <p:nvPr/>
          </p:nvSpPr>
          <p:spPr>
            <a:xfrm>
              <a:off x="8413560" y="6204240"/>
              <a:ext cx="44280" cy="1080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79" h="625">
                  <a:moveTo>
                    <a:pt x="279" y="0"/>
                  </a:moveTo>
                  <a:lnTo>
                    <a:pt x="0" y="216"/>
                  </a:lnTo>
                  <a:lnTo>
                    <a:pt x="0" y="625"/>
                  </a:lnTo>
                  <a:lnTo>
                    <a:pt x="279" y="409"/>
                  </a:lnTo>
                  <a:lnTo>
                    <a:pt x="27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Freeform 44"/>
            <p:cNvSpPr/>
            <p:nvPr/>
          </p:nvSpPr>
          <p:spPr>
            <a:xfrm>
              <a:off x="8102880" y="5548680"/>
              <a:ext cx="31680" cy="75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00" h="440">
                  <a:moveTo>
                    <a:pt x="200" y="0"/>
                  </a:moveTo>
                  <a:lnTo>
                    <a:pt x="0" y="31"/>
                  </a:lnTo>
                  <a:lnTo>
                    <a:pt x="0" y="440"/>
                  </a:lnTo>
                  <a:lnTo>
                    <a:pt x="200" y="409"/>
                  </a:lnTo>
                  <a:lnTo>
                    <a:pt x="2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Freeform 45"/>
            <p:cNvSpPr/>
            <p:nvPr/>
          </p:nvSpPr>
          <p:spPr>
            <a:xfrm>
              <a:off x="7924680" y="5872320"/>
              <a:ext cx="14040" cy="10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93" h="593">
                  <a:moveTo>
                    <a:pt x="93" y="0"/>
                  </a:moveTo>
                  <a:lnTo>
                    <a:pt x="0" y="185"/>
                  </a:lnTo>
                  <a:lnTo>
                    <a:pt x="0" y="593"/>
                  </a:lnTo>
                  <a:lnTo>
                    <a:pt x="93" y="410"/>
                  </a:lnTo>
                  <a:lnTo>
                    <a:pt x="9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Freeform 46"/>
            <p:cNvSpPr/>
            <p:nvPr/>
          </p:nvSpPr>
          <p:spPr>
            <a:xfrm>
              <a:off x="6464520" y="5830920"/>
              <a:ext cx="78840" cy="188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504" h="1091">
                  <a:moveTo>
                    <a:pt x="504" y="682"/>
                  </a:moveTo>
                  <a:lnTo>
                    <a:pt x="0" y="0"/>
                  </a:lnTo>
                  <a:lnTo>
                    <a:pt x="0" y="411"/>
                  </a:lnTo>
                  <a:lnTo>
                    <a:pt x="504" y="1091"/>
                  </a:lnTo>
                  <a:lnTo>
                    <a:pt x="504" y="68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Freeform 47"/>
            <p:cNvSpPr/>
            <p:nvPr/>
          </p:nvSpPr>
          <p:spPr>
            <a:xfrm>
              <a:off x="8129880" y="5474880"/>
              <a:ext cx="54000" cy="1461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342" h="844">
                  <a:moveTo>
                    <a:pt x="342" y="0"/>
                  </a:moveTo>
                  <a:lnTo>
                    <a:pt x="327" y="1"/>
                  </a:lnTo>
                  <a:lnTo>
                    <a:pt x="313" y="5"/>
                  </a:lnTo>
                  <a:lnTo>
                    <a:pt x="300" y="8"/>
                  </a:lnTo>
                  <a:lnTo>
                    <a:pt x="286" y="12"/>
                  </a:lnTo>
                  <a:lnTo>
                    <a:pt x="261" y="21"/>
                  </a:lnTo>
                  <a:lnTo>
                    <a:pt x="237" y="32"/>
                  </a:lnTo>
                  <a:lnTo>
                    <a:pt x="214" y="45"/>
                  </a:lnTo>
                  <a:lnTo>
                    <a:pt x="192" y="60"/>
                  </a:lnTo>
                  <a:lnTo>
                    <a:pt x="172" y="74"/>
                  </a:lnTo>
                  <a:lnTo>
                    <a:pt x="152" y="90"/>
                  </a:lnTo>
                  <a:lnTo>
                    <a:pt x="116" y="122"/>
                  </a:lnTo>
                  <a:lnTo>
                    <a:pt x="84" y="153"/>
                  </a:lnTo>
                  <a:lnTo>
                    <a:pt x="70" y="167"/>
                  </a:lnTo>
                  <a:lnTo>
                    <a:pt x="56" y="180"/>
                  </a:lnTo>
                  <a:lnTo>
                    <a:pt x="43" y="192"/>
                  </a:lnTo>
                  <a:lnTo>
                    <a:pt x="30" y="201"/>
                  </a:lnTo>
                  <a:lnTo>
                    <a:pt x="26" y="206"/>
                  </a:lnTo>
                  <a:lnTo>
                    <a:pt x="21" y="212"/>
                  </a:lnTo>
                  <a:lnTo>
                    <a:pt x="16" y="218"/>
                  </a:lnTo>
                  <a:lnTo>
                    <a:pt x="13" y="225"/>
                  </a:lnTo>
                  <a:lnTo>
                    <a:pt x="7" y="240"/>
                  </a:lnTo>
                  <a:lnTo>
                    <a:pt x="4" y="257"/>
                  </a:lnTo>
                  <a:lnTo>
                    <a:pt x="1" y="276"/>
                  </a:lnTo>
                  <a:lnTo>
                    <a:pt x="0" y="295"/>
                  </a:lnTo>
                  <a:lnTo>
                    <a:pt x="0" y="315"/>
                  </a:lnTo>
                  <a:lnTo>
                    <a:pt x="1" y="334"/>
                  </a:lnTo>
                  <a:lnTo>
                    <a:pt x="5" y="372"/>
                  </a:lnTo>
                  <a:lnTo>
                    <a:pt x="11" y="402"/>
                  </a:lnTo>
                  <a:lnTo>
                    <a:pt x="15" y="424"/>
                  </a:lnTo>
                  <a:lnTo>
                    <a:pt x="16" y="432"/>
                  </a:lnTo>
                  <a:lnTo>
                    <a:pt x="16" y="844"/>
                  </a:lnTo>
                  <a:lnTo>
                    <a:pt x="15" y="835"/>
                  </a:lnTo>
                  <a:lnTo>
                    <a:pt x="11" y="814"/>
                  </a:lnTo>
                  <a:lnTo>
                    <a:pt x="5" y="782"/>
                  </a:lnTo>
                  <a:lnTo>
                    <a:pt x="1" y="744"/>
                  </a:lnTo>
                  <a:lnTo>
                    <a:pt x="0" y="725"/>
                  </a:lnTo>
                  <a:lnTo>
                    <a:pt x="0" y="705"/>
                  </a:lnTo>
                  <a:lnTo>
                    <a:pt x="1" y="685"/>
                  </a:lnTo>
                  <a:lnTo>
                    <a:pt x="4" y="666"/>
                  </a:lnTo>
                  <a:lnTo>
                    <a:pt x="7" y="650"/>
                  </a:lnTo>
                  <a:lnTo>
                    <a:pt x="13" y="633"/>
                  </a:lnTo>
                  <a:lnTo>
                    <a:pt x="16" y="628"/>
                  </a:lnTo>
                  <a:lnTo>
                    <a:pt x="21" y="621"/>
                  </a:lnTo>
                  <a:lnTo>
                    <a:pt x="26" y="616"/>
                  </a:lnTo>
                  <a:lnTo>
                    <a:pt x="30" y="611"/>
                  </a:lnTo>
                  <a:lnTo>
                    <a:pt x="43" y="601"/>
                  </a:lnTo>
                  <a:lnTo>
                    <a:pt x="56" y="589"/>
                  </a:lnTo>
                  <a:lnTo>
                    <a:pt x="70" y="576"/>
                  </a:lnTo>
                  <a:lnTo>
                    <a:pt x="84" y="562"/>
                  </a:lnTo>
                  <a:lnTo>
                    <a:pt x="116" y="531"/>
                  </a:lnTo>
                  <a:lnTo>
                    <a:pt x="152" y="499"/>
                  </a:lnTo>
                  <a:lnTo>
                    <a:pt x="172" y="484"/>
                  </a:lnTo>
                  <a:lnTo>
                    <a:pt x="192" y="469"/>
                  </a:lnTo>
                  <a:lnTo>
                    <a:pt x="214" y="455"/>
                  </a:lnTo>
                  <a:lnTo>
                    <a:pt x="237" y="442"/>
                  </a:lnTo>
                  <a:lnTo>
                    <a:pt x="261" y="430"/>
                  </a:lnTo>
                  <a:lnTo>
                    <a:pt x="286" y="421"/>
                  </a:lnTo>
                  <a:lnTo>
                    <a:pt x="300" y="417"/>
                  </a:lnTo>
                  <a:lnTo>
                    <a:pt x="313" y="414"/>
                  </a:lnTo>
                  <a:lnTo>
                    <a:pt x="327" y="411"/>
                  </a:lnTo>
                  <a:lnTo>
                    <a:pt x="342" y="409"/>
                  </a:lnTo>
                  <a:lnTo>
                    <a:pt x="34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Freeform 48"/>
            <p:cNvSpPr/>
            <p:nvPr/>
          </p:nvSpPr>
          <p:spPr>
            <a:xfrm>
              <a:off x="8070840" y="5060880"/>
              <a:ext cx="23760" cy="1173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2" h="678">
                  <a:moveTo>
                    <a:pt x="142" y="409"/>
                  </a:moveTo>
                  <a:lnTo>
                    <a:pt x="140" y="416"/>
                  </a:lnTo>
                  <a:lnTo>
                    <a:pt x="139" y="422"/>
                  </a:lnTo>
                  <a:lnTo>
                    <a:pt x="135" y="428"/>
                  </a:lnTo>
                  <a:lnTo>
                    <a:pt x="132" y="434"/>
                  </a:lnTo>
                  <a:lnTo>
                    <a:pt x="121" y="445"/>
                  </a:lnTo>
                  <a:lnTo>
                    <a:pt x="109" y="458"/>
                  </a:lnTo>
                  <a:lnTo>
                    <a:pt x="83" y="483"/>
                  </a:lnTo>
                  <a:lnTo>
                    <a:pt x="52" y="508"/>
                  </a:lnTo>
                  <a:lnTo>
                    <a:pt x="38" y="521"/>
                  </a:lnTo>
                  <a:lnTo>
                    <a:pt x="27" y="534"/>
                  </a:lnTo>
                  <a:lnTo>
                    <a:pt x="15" y="547"/>
                  </a:lnTo>
                  <a:lnTo>
                    <a:pt x="7" y="560"/>
                  </a:lnTo>
                  <a:lnTo>
                    <a:pt x="3" y="566"/>
                  </a:lnTo>
                  <a:lnTo>
                    <a:pt x="1" y="573"/>
                  </a:lnTo>
                  <a:lnTo>
                    <a:pt x="0" y="578"/>
                  </a:lnTo>
                  <a:lnTo>
                    <a:pt x="0" y="585"/>
                  </a:lnTo>
                  <a:lnTo>
                    <a:pt x="0" y="591"/>
                  </a:lnTo>
                  <a:lnTo>
                    <a:pt x="2" y="598"/>
                  </a:lnTo>
                  <a:lnTo>
                    <a:pt x="4" y="604"/>
                  </a:lnTo>
                  <a:lnTo>
                    <a:pt x="9" y="611"/>
                  </a:lnTo>
                  <a:lnTo>
                    <a:pt x="36" y="617"/>
                  </a:lnTo>
                  <a:lnTo>
                    <a:pt x="59" y="623"/>
                  </a:lnTo>
                  <a:lnTo>
                    <a:pt x="78" y="630"/>
                  </a:lnTo>
                  <a:lnTo>
                    <a:pt x="93" y="638"/>
                  </a:lnTo>
                  <a:lnTo>
                    <a:pt x="100" y="642"/>
                  </a:lnTo>
                  <a:lnTo>
                    <a:pt x="105" y="646"/>
                  </a:lnTo>
                  <a:lnTo>
                    <a:pt x="109" y="651"/>
                  </a:lnTo>
                  <a:lnTo>
                    <a:pt x="114" y="656"/>
                  </a:lnTo>
                  <a:lnTo>
                    <a:pt x="116" y="660"/>
                  </a:lnTo>
                  <a:lnTo>
                    <a:pt x="119" y="666"/>
                  </a:lnTo>
                  <a:lnTo>
                    <a:pt x="120" y="672"/>
                  </a:lnTo>
                  <a:lnTo>
                    <a:pt x="121" y="678"/>
                  </a:lnTo>
                  <a:lnTo>
                    <a:pt x="121" y="265"/>
                  </a:lnTo>
                  <a:lnTo>
                    <a:pt x="120" y="261"/>
                  </a:lnTo>
                  <a:lnTo>
                    <a:pt x="119" y="255"/>
                  </a:lnTo>
                  <a:lnTo>
                    <a:pt x="116" y="250"/>
                  </a:lnTo>
                  <a:lnTo>
                    <a:pt x="114" y="246"/>
                  </a:lnTo>
                  <a:lnTo>
                    <a:pt x="109" y="241"/>
                  </a:lnTo>
                  <a:lnTo>
                    <a:pt x="105" y="236"/>
                  </a:lnTo>
                  <a:lnTo>
                    <a:pt x="100" y="233"/>
                  </a:lnTo>
                  <a:lnTo>
                    <a:pt x="93" y="228"/>
                  </a:lnTo>
                  <a:lnTo>
                    <a:pt x="78" y="221"/>
                  </a:lnTo>
                  <a:lnTo>
                    <a:pt x="59" y="214"/>
                  </a:lnTo>
                  <a:lnTo>
                    <a:pt x="36" y="208"/>
                  </a:lnTo>
                  <a:lnTo>
                    <a:pt x="9" y="202"/>
                  </a:lnTo>
                  <a:lnTo>
                    <a:pt x="4" y="195"/>
                  </a:lnTo>
                  <a:lnTo>
                    <a:pt x="2" y="189"/>
                  </a:lnTo>
                  <a:lnTo>
                    <a:pt x="0" y="182"/>
                  </a:lnTo>
                  <a:lnTo>
                    <a:pt x="0" y="177"/>
                  </a:lnTo>
                  <a:lnTo>
                    <a:pt x="0" y="170"/>
                  </a:lnTo>
                  <a:lnTo>
                    <a:pt x="1" y="164"/>
                  </a:lnTo>
                  <a:lnTo>
                    <a:pt x="3" y="157"/>
                  </a:lnTo>
                  <a:lnTo>
                    <a:pt x="7" y="151"/>
                  </a:lnTo>
                  <a:lnTo>
                    <a:pt x="15" y="138"/>
                  </a:lnTo>
                  <a:lnTo>
                    <a:pt x="27" y="125"/>
                  </a:lnTo>
                  <a:lnTo>
                    <a:pt x="38" y="112"/>
                  </a:lnTo>
                  <a:lnTo>
                    <a:pt x="52" y="100"/>
                  </a:lnTo>
                  <a:lnTo>
                    <a:pt x="83" y="74"/>
                  </a:lnTo>
                  <a:lnTo>
                    <a:pt x="109" y="49"/>
                  </a:lnTo>
                  <a:lnTo>
                    <a:pt x="121" y="36"/>
                  </a:lnTo>
                  <a:lnTo>
                    <a:pt x="132" y="25"/>
                  </a:lnTo>
                  <a:lnTo>
                    <a:pt x="135" y="19"/>
                  </a:lnTo>
                  <a:lnTo>
                    <a:pt x="139" y="13"/>
                  </a:lnTo>
                  <a:lnTo>
                    <a:pt x="140" y="6"/>
                  </a:lnTo>
                  <a:lnTo>
                    <a:pt x="142" y="0"/>
                  </a:lnTo>
                  <a:lnTo>
                    <a:pt x="142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Freeform 49"/>
            <p:cNvSpPr/>
            <p:nvPr/>
          </p:nvSpPr>
          <p:spPr>
            <a:xfrm>
              <a:off x="6016320" y="5747040"/>
              <a:ext cx="172800" cy="16596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081" h="965">
                  <a:moveTo>
                    <a:pt x="1081" y="556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1081" y="965"/>
                  </a:lnTo>
                  <a:lnTo>
                    <a:pt x="1081" y="55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Freeform 50"/>
            <p:cNvSpPr/>
            <p:nvPr/>
          </p:nvSpPr>
          <p:spPr>
            <a:xfrm>
              <a:off x="6856560" y="6164280"/>
              <a:ext cx="23760" cy="1486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57" h="872">
                  <a:moveTo>
                    <a:pt x="157" y="463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157" y="872"/>
                  </a:lnTo>
                  <a:lnTo>
                    <a:pt x="157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Freeform 51"/>
            <p:cNvSpPr/>
            <p:nvPr/>
          </p:nvSpPr>
          <p:spPr>
            <a:xfrm>
              <a:off x="7059600" y="6094080"/>
              <a:ext cx="52200" cy="1270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331" h="732">
                  <a:moveTo>
                    <a:pt x="331" y="409"/>
                  </a:moveTo>
                  <a:lnTo>
                    <a:pt x="316" y="419"/>
                  </a:lnTo>
                  <a:lnTo>
                    <a:pt x="299" y="431"/>
                  </a:lnTo>
                  <a:lnTo>
                    <a:pt x="282" y="444"/>
                  </a:lnTo>
                  <a:lnTo>
                    <a:pt x="263" y="459"/>
                  </a:lnTo>
                  <a:lnTo>
                    <a:pt x="222" y="494"/>
                  </a:lnTo>
                  <a:lnTo>
                    <a:pt x="180" y="534"/>
                  </a:lnTo>
                  <a:lnTo>
                    <a:pt x="135" y="578"/>
                  </a:lnTo>
                  <a:lnTo>
                    <a:pt x="89" y="627"/>
                  </a:lnTo>
                  <a:lnTo>
                    <a:pt x="43" y="679"/>
                  </a:lnTo>
                  <a:lnTo>
                    <a:pt x="0" y="732"/>
                  </a:lnTo>
                  <a:lnTo>
                    <a:pt x="0" y="322"/>
                  </a:lnTo>
                  <a:lnTo>
                    <a:pt x="21" y="296"/>
                  </a:lnTo>
                  <a:lnTo>
                    <a:pt x="43" y="269"/>
                  </a:lnTo>
                  <a:lnTo>
                    <a:pt x="67" y="243"/>
                  </a:lnTo>
                  <a:lnTo>
                    <a:pt x="89" y="217"/>
                  </a:lnTo>
                  <a:lnTo>
                    <a:pt x="135" y="168"/>
                  </a:lnTo>
                  <a:lnTo>
                    <a:pt x="180" y="124"/>
                  </a:lnTo>
                  <a:lnTo>
                    <a:pt x="222" y="84"/>
                  </a:lnTo>
                  <a:lnTo>
                    <a:pt x="263" y="49"/>
                  </a:lnTo>
                  <a:lnTo>
                    <a:pt x="282" y="35"/>
                  </a:lnTo>
                  <a:lnTo>
                    <a:pt x="299" y="21"/>
                  </a:lnTo>
                  <a:lnTo>
                    <a:pt x="316" y="9"/>
                  </a:lnTo>
                  <a:lnTo>
                    <a:pt x="331" y="0"/>
                  </a:lnTo>
                  <a:lnTo>
                    <a:pt x="331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Freeform 52"/>
            <p:cNvSpPr/>
            <p:nvPr/>
          </p:nvSpPr>
          <p:spPr>
            <a:xfrm>
              <a:off x="7194600" y="6018120"/>
              <a:ext cx="33120" cy="104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214" h="601">
                  <a:moveTo>
                    <a:pt x="201" y="412"/>
                  </a:moveTo>
                  <a:lnTo>
                    <a:pt x="206" y="415"/>
                  </a:lnTo>
                  <a:lnTo>
                    <a:pt x="209" y="420"/>
                  </a:lnTo>
                  <a:lnTo>
                    <a:pt x="212" y="425"/>
                  </a:lnTo>
                  <a:lnTo>
                    <a:pt x="213" y="429"/>
                  </a:lnTo>
                  <a:lnTo>
                    <a:pt x="214" y="434"/>
                  </a:lnTo>
                  <a:lnTo>
                    <a:pt x="213" y="439"/>
                  </a:lnTo>
                  <a:lnTo>
                    <a:pt x="213" y="443"/>
                  </a:lnTo>
                  <a:lnTo>
                    <a:pt x="211" y="449"/>
                  </a:lnTo>
                  <a:lnTo>
                    <a:pt x="206" y="460"/>
                  </a:lnTo>
                  <a:lnTo>
                    <a:pt x="198" y="470"/>
                  </a:lnTo>
                  <a:lnTo>
                    <a:pt x="186" y="482"/>
                  </a:lnTo>
                  <a:lnTo>
                    <a:pt x="173" y="495"/>
                  </a:lnTo>
                  <a:lnTo>
                    <a:pt x="158" y="507"/>
                  </a:lnTo>
                  <a:lnTo>
                    <a:pt x="140" y="519"/>
                  </a:lnTo>
                  <a:lnTo>
                    <a:pt x="121" y="533"/>
                  </a:lnTo>
                  <a:lnTo>
                    <a:pt x="100" y="546"/>
                  </a:lnTo>
                  <a:lnTo>
                    <a:pt x="52" y="573"/>
                  </a:lnTo>
                  <a:lnTo>
                    <a:pt x="0" y="601"/>
                  </a:lnTo>
                  <a:lnTo>
                    <a:pt x="0" y="192"/>
                  </a:lnTo>
                  <a:lnTo>
                    <a:pt x="52" y="164"/>
                  </a:lnTo>
                  <a:lnTo>
                    <a:pt x="100" y="137"/>
                  </a:lnTo>
                  <a:lnTo>
                    <a:pt x="121" y="123"/>
                  </a:lnTo>
                  <a:lnTo>
                    <a:pt x="140" y="111"/>
                  </a:lnTo>
                  <a:lnTo>
                    <a:pt x="158" y="98"/>
                  </a:lnTo>
                  <a:lnTo>
                    <a:pt x="173" y="85"/>
                  </a:lnTo>
                  <a:lnTo>
                    <a:pt x="186" y="73"/>
                  </a:lnTo>
                  <a:lnTo>
                    <a:pt x="198" y="61"/>
                  </a:lnTo>
                  <a:lnTo>
                    <a:pt x="206" y="50"/>
                  </a:lnTo>
                  <a:lnTo>
                    <a:pt x="211" y="38"/>
                  </a:lnTo>
                  <a:lnTo>
                    <a:pt x="213" y="33"/>
                  </a:lnTo>
                  <a:lnTo>
                    <a:pt x="213" y="28"/>
                  </a:lnTo>
                  <a:lnTo>
                    <a:pt x="214" y="23"/>
                  </a:lnTo>
                  <a:lnTo>
                    <a:pt x="213" y="18"/>
                  </a:lnTo>
                  <a:lnTo>
                    <a:pt x="212" y="14"/>
                  </a:lnTo>
                  <a:lnTo>
                    <a:pt x="209" y="9"/>
                  </a:lnTo>
                  <a:lnTo>
                    <a:pt x="206" y="4"/>
                  </a:lnTo>
                  <a:lnTo>
                    <a:pt x="201" y="0"/>
                  </a:lnTo>
                  <a:lnTo>
                    <a:pt x="201" y="41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Freeform 53"/>
            <p:cNvSpPr/>
            <p:nvPr/>
          </p:nvSpPr>
          <p:spPr>
            <a:xfrm>
              <a:off x="7260840" y="5975640"/>
              <a:ext cx="34920" cy="102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220" h="596">
                  <a:moveTo>
                    <a:pt x="220" y="0"/>
                  </a:moveTo>
                  <a:lnTo>
                    <a:pt x="0" y="187"/>
                  </a:lnTo>
                  <a:lnTo>
                    <a:pt x="0" y="596"/>
                  </a:lnTo>
                  <a:lnTo>
                    <a:pt x="220" y="409"/>
                  </a:ln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Freeform 54"/>
            <p:cNvSpPr/>
            <p:nvPr/>
          </p:nvSpPr>
          <p:spPr>
            <a:xfrm>
              <a:off x="7521120" y="5989320"/>
              <a:ext cx="50760" cy="95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09" h="550">
                  <a:moveTo>
                    <a:pt x="309" y="410"/>
                  </a:moveTo>
                  <a:lnTo>
                    <a:pt x="284" y="412"/>
                  </a:lnTo>
                  <a:lnTo>
                    <a:pt x="261" y="416"/>
                  </a:lnTo>
                  <a:lnTo>
                    <a:pt x="238" y="421"/>
                  </a:lnTo>
                  <a:lnTo>
                    <a:pt x="216" y="428"/>
                  </a:lnTo>
                  <a:lnTo>
                    <a:pt x="194" y="435"/>
                  </a:lnTo>
                  <a:lnTo>
                    <a:pt x="173" y="444"/>
                  </a:lnTo>
                  <a:lnTo>
                    <a:pt x="153" y="453"/>
                  </a:lnTo>
                  <a:lnTo>
                    <a:pt x="133" y="463"/>
                  </a:lnTo>
                  <a:lnTo>
                    <a:pt x="113" y="473"/>
                  </a:lnTo>
                  <a:lnTo>
                    <a:pt x="95" y="485"/>
                  </a:lnTo>
                  <a:lnTo>
                    <a:pt x="77" y="495"/>
                  </a:lnTo>
                  <a:lnTo>
                    <a:pt x="61" y="507"/>
                  </a:lnTo>
                  <a:lnTo>
                    <a:pt x="29" y="529"/>
                  </a:lnTo>
                  <a:lnTo>
                    <a:pt x="0" y="550"/>
                  </a:lnTo>
                  <a:lnTo>
                    <a:pt x="0" y="141"/>
                  </a:lnTo>
                  <a:lnTo>
                    <a:pt x="29" y="120"/>
                  </a:lnTo>
                  <a:lnTo>
                    <a:pt x="61" y="98"/>
                  </a:lnTo>
                  <a:lnTo>
                    <a:pt x="77" y="86"/>
                  </a:lnTo>
                  <a:lnTo>
                    <a:pt x="95" y="75"/>
                  </a:lnTo>
                  <a:lnTo>
                    <a:pt x="113" y="64"/>
                  </a:lnTo>
                  <a:lnTo>
                    <a:pt x="133" y="54"/>
                  </a:lnTo>
                  <a:lnTo>
                    <a:pt x="153" y="44"/>
                  </a:lnTo>
                  <a:lnTo>
                    <a:pt x="173" y="35"/>
                  </a:lnTo>
                  <a:lnTo>
                    <a:pt x="194" y="26"/>
                  </a:lnTo>
                  <a:lnTo>
                    <a:pt x="216" y="19"/>
                  </a:lnTo>
                  <a:lnTo>
                    <a:pt x="238" y="12"/>
                  </a:lnTo>
                  <a:lnTo>
                    <a:pt x="261" y="7"/>
                  </a:lnTo>
                  <a:lnTo>
                    <a:pt x="284" y="4"/>
                  </a:lnTo>
                  <a:lnTo>
                    <a:pt x="309" y="0"/>
                  </a:lnTo>
                  <a:lnTo>
                    <a:pt x="309" y="41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Freeform 55"/>
            <p:cNvSpPr/>
            <p:nvPr/>
          </p:nvSpPr>
          <p:spPr>
            <a:xfrm>
              <a:off x="7621920" y="5986800"/>
              <a:ext cx="23760" cy="91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49" h="533">
                  <a:moveTo>
                    <a:pt x="149" y="409"/>
                  </a:moveTo>
                  <a:lnTo>
                    <a:pt x="149" y="415"/>
                  </a:lnTo>
                  <a:lnTo>
                    <a:pt x="147" y="422"/>
                  </a:lnTo>
                  <a:lnTo>
                    <a:pt x="145" y="428"/>
                  </a:lnTo>
                  <a:lnTo>
                    <a:pt x="141" y="435"/>
                  </a:lnTo>
                  <a:lnTo>
                    <a:pt x="137" y="440"/>
                  </a:lnTo>
                  <a:lnTo>
                    <a:pt x="131" y="447"/>
                  </a:lnTo>
                  <a:lnTo>
                    <a:pt x="124" y="456"/>
                  </a:lnTo>
                  <a:lnTo>
                    <a:pt x="116" y="463"/>
                  </a:lnTo>
                  <a:lnTo>
                    <a:pt x="96" y="478"/>
                  </a:lnTo>
                  <a:lnTo>
                    <a:pt x="69" y="495"/>
                  </a:lnTo>
                  <a:lnTo>
                    <a:pt x="37" y="513"/>
                  </a:lnTo>
                  <a:lnTo>
                    <a:pt x="0" y="533"/>
                  </a:lnTo>
                  <a:lnTo>
                    <a:pt x="0" y="124"/>
                  </a:lnTo>
                  <a:lnTo>
                    <a:pt x="37" y="104"/>
                  </a:lnTo>
                  <a:lnTo>
                    <a:pt x="69" y="86"/>
                  </a:lnTo>
                  <a:lnTo>
                    <a:pt x="96" y="69"/>
                  </a:lnTo>
                  <a:lnTo>
                    <a:pt x="116" y="54"/>
                  </a:lnTo>
                  <a:lnTo>
                    <a:pt x="124" y="46"/>
                  </a:lnTo>
                  <a:lnTo>
                    <a:pt x="131" y="39"/>
                  </a:lnTo>
                  <a:lnTo>
                    <a:pt x="137" y="32"/>
                  </a:lnTo>
                  <a:lnTo>
                    <a:pt x="141" y="26"/>
                  </a:lnTo>
                  <a:lnTo>
                    <a:pt x="145" y="19"/>
                  </a:lnTo>
                  <a:lnTo>
                    <a:pt x="147" y="13"/>
                  </a:lnTo>
                  <a:lnTo>
                    <a:pt x="149" y="6"/>
                  </a:lnTo>
                  <a:lnTo>
                    <a:pt x="149" y="0"/>
                  </a:lnTo>
                  <a:lnTo>
                    <a:pt x="149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Freeform 56"/>
            <p:cNvSpPr/>
            <p:nvPr/>
          </p:nvSpPr>
          <p:spPr>
            <a:xfrm>
              <a:off x="8006040" y="5895720"/>
              <a:ext cx="29880" cy="96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87" h="561">
                  <a:moveTo>
                    <a:pt x="187" y="561"/>
                  </a:moveTo>
                  <a:lnTo>
                    <a:pt x="187" y="153"/>
                  </a:lnTo>
                  <a:lnTo>
                    <a:pt x="0" y="0"/>
                  </a:lnTo>
                  <a:lnTo>
                    <a:pt x="0" y="408"/>
                  </a:lnTo>
                  <a:lnTo>
                    <a:pt x="187" y="56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Freeform 57"/>
            <p:cNvSpPr/>
            <p:nvPr/>
          </p:nvSpPr>
          <p:spPr>
            <a:xfrm>
              <a:off x="8133120" y="6034320"/>
              <a:ext cx="123480" cy="183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77" h="1061">
                  <a:moveTo>
                    <a:pt x="777" y="1061"/>
                  </a:moveTo>
                  <a:lnTo>
                    <a:pt x="739" y="1046"/>
                  </a:lnTo>
                  <a:lnTo>
                    <a:pt x="704" y="1034"/>
                  </a:lnTo>
                  <a:lnTo>
                    <a:pt x="670" y="1022"/>
                  </a:lnTo>
                  <a:lnTo>
                    <a:pt x="639" y="1012"/>
                  </a:lnTo>
                  <a:lnTo>
                    <a:pt x="611" y="1004"/>
                  </a:lnTo>
                  <a:lnTo>
                    <a:pt x="584" y="997"/>
                  </a:lnTo>
                  <a:lnTo>
                    <a:pt x="559" y="991"/>
                  </a:lnTo>
                  <a:lnTo>
                    <a:pt x="538" y="986"/>
                  </a:lnTo>
                  <a:lnTo>
                    <a:pt x="529" y="984"/>
                  </a:lnTo>
                  <a:lnTo>
                    <a:pt x="519" y="980"/>
                  </a:lnTo>
                  <a:lnTo>
                    <a:pt x="508" y="976"/>
                  </a:lnTo>
                  <a:lnTo>
                    <a:pt x="496" y="969"/>
                  </a:lnTo>
                  <a:lnTo>
                    <a:pt x="484" y="962"/>
                  </a:lnTo>
                  <a:lnTo>
                    <a:pt x="471" y="952"/>
                  </a:lnTo>
                  <a:lnTo>
                    <a:pt x="457" y="943"/>
                  </a:lnTo>
                  <a:lnTo>
                    <a:pt x="443" y="931"/>
                  </a:lnTo>
                  <a:lnTo>
                    <a:pt x="412" y="906"/>
                  </a:lnTo>
                  <a:lnTo>
                    <a:pt x="380" y="876"/>
                  </a:lnTo>
                  <a:lnTo>
                    <a:pt x="346" y="843"/>
                  </a:lnTo>
                  <a:lnTo>
                    <a:pt x="310" y="805"/>
                  </a:lnTo>
                  <a:lnTo>
                    <a:pt x="273" y="765"/>
                  </a:lnTo>
                  <a:lnTo>
                    <a:pt x="235" y="722"/>
                  </a:lnTo>
                  <a:lnTo>
                    <a:pt x="196" y="677"/>
                  </a:lnTo>
                  <a:lnTo>
                    <a:pt x="156" y="629"/>
                  </a:lnTo>
                  <a:lnTo>
                    <a:pt x="117" y="580"/>
                  </a:lnTo>
                  <a:lnTo>
                    <a:pt x="77" y="528"/>
                  </a:lnTo>
                  <a:lnTo>
                    <a:pt x="38" y="477"/>
                  </a:lnTo>
                  <a:lnTo>
                    <a:pt x="0" y="424"/>
                  </a:lnTo>
                  <a:lnTo>
                    <a:pt x="0" y="0"/>
                  </a:lnTo>
                  <a:lnTo>
                    <a:pt x="38" y="53"/>
                  </a:lnTo>
                  <a:lnTo>
                    <a:pt x="77" y="104"/>
                  </a:lnTo>
                  <a:lnTo>
                    <a:pt x="117" y="155"/>
                  </a:lnTo>
                  <a:lnTo>
                    <a:pt x="156" y="204"/>
                  </a:lnTo>
                  <a:lnTo>
                    <a:pt x="196" y="251"/>
                  </a:lnTo>
                  <a:lnTo>
                    <a:pt x="235" y="297"/>
                  </a:lnTo>
                  <a:lnTo>
                    <a:pt x="273" y="339"/>
                  </a:lnTo>
                  <a:lnTo>
                    <a:pt x="310" y="380"/>
                  </a:lnTo>
                  <a:lnTo>
                    <a:pt x="346" y="417"/>
                  </a:lnTo>
                  <a:lnTo>
                    <a:pt x="380" y="451"/>
                  </a:lnTo>
                  <a:lnTo>
                    <a:pt x="412" y="480"/>
                  </a:lnTo>
                  <a:lnTo>
                    <a:pt x="443" y="506"/>
                  </a:lnTo>
                  <a:lnTo>
                    <a:pt x="457" y="518"/>
                  </a:lnTo>
                  <a:lnTo>
                    <a:pt x="471" y="528"/>
                  </a:lnTo>
                  <a:lnTo>
                    <a:pt x="484" y="536"/>
                  </a:lnTo>
                  <a:lnTo>
                    <a:pt x="496" y="545"/>
                  </a:lnTo>
                  <a:lnTo>
                    <a:pt x="508" y="552"/>
                  </a:lnTo>
                  <a:lnTo>
                    <a:pt x="519" y="556"/>
                  </a:lnTo>
                  <a:lnTo>
                    <a:pt x="529" y="560"/>
                  </a:lnTo>
                  <a:lnTo>
                    <a:pt x="538" y="562"/>
                  </a:lnTo>
                  <a:lnTo>
                    <a:pt x="559" y="567"/>
                  </a:lnTo>
                  <a:lnTo>
                    <a:pt x="584" y="572"/>
                  </a:lnTo>
                  <a:lnTo>
                    <a:pt x="611" y="579"/>
                  </a:lnTo>
                  <a:lnTo>
                    <a:pt x="639" y="587"/>
                  </a:lnTo>
                  <a:lnTo>
                    <a:pt x="670" y="596"/>
                  </a:lnTo>
                  <a:lnTo>
                    <a:pt x="704" y="608"/>
                  </a:lnTo>
                  <a:lnTo>
                    <a:pt x="739" y="621"/>
                  </a:lnTo>
                  <a:lnTo>
                    <a:pt x="777" y="635"/>
                  </a:lnTo>
                  <a:lnTo>
                    <a:pt x="777" y="106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Freeform 58"/>
            <p:cNvSpPr/>
            <p:nvPr/>
          </p:nvSpPr>
          <p:spPr>
            <a:xfrm>
              <a:off x="8344080" y="6193080"/>
              <a:ext cx="65880" cy="1252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23" h="726">
                  <a:moveTo>
                    <a:pt x="423" y="299"/>
                  </a:moveTo>
                  <a:lnTo>
                    <a:pt x="370" y="257"/>
                  </a:lnTo>
                  <a:lnTo>
                    <a:pt x="316" y="217"/>
                  </a:lnTo>
                  <a:lnTo>
                    <a:pt x="264" y="177"/>
                  </a:lnTo>
                  <a:lnTo>
                    <a:pt x="210" y="138"/>
                  </a:lnTo>
                  <a:lnTo>
                    <a:pt x="157" y="102"/>
                  </a:lnTo>
                  <a:lnTo>
                    <a:pt x="104" y="67"/>
                  </a:lnTo>
                  <a:lnTo>
                    <a:pt x="51" y="33"/>
                  </a:lnTo>
                  <a:lnTo>
                    <a:pt x="0" y="0"/>
                  </a:lnTo>
                  <a:lnTo>
                    <a:pt x="0" y="426"/>
                  </a:lnTo>
                  <a:lnTo>
                    <a:pt x="51" y="458"/>
                  </a:lnTo>
                  <a:lnTo>
                    <a:pt x="104" y="492"/>
                  </a:lnTo>
                  <a:lnTo>
                    <a:pt x="157" y="527"/>
                  </a:lnTo>
                  <a:lnTo>
                    <a:pt x="210" y="563"/>
                  </a:lnTo>
                  <a:lnTo>
                    <a:pt x="264" y="602"/>
                  </a:lnTo>
                  <a:lnTo>
                    <a:pt x="316" y="642"/>
                  </a:lnTo>
                  <a:lnTo>
                    <a:pt x="370" y="683"/>
                  </a:lnTo>
                  <a:lnTo>
                    <a:pt x="423" y="726"/>
                  </a:lnTo>
                  <a:lnTo>
                    <a:pt x="4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Freeform 59"/>
            <p:cNvSpPr/>
            <p:nvPr/>
          </p:nvSpPr>
          <p:spPr>
            <a:xfrm>
              <a:off x="8051760" y="5665680"/>
              <a:ext cx="18720" cy="1461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9" h="845">
                  <a:moveTo>
                    <a:pt x="119" y="0"/>
                  </a:moveTo>
                  <a:lnTo>
                    <a:pt x="101" y="13"/>
                  </a:lnTo>
                  <a:lnTo>
                    <a:pt x="85" y="25"/>
                  </a:lnTo>
                  <a:lnTo>
                    <a:pt x="71" y="38"/>
                  </a:lnTo>
                  <a:lnTo>
                    <a:pt x="58" y="50"/>
                  </a:lnTo>
                  <a:lnTo>
                    <a:pt x="48" y="62"/>
                  </a:lnTo>
                  <a:lnTo>
                    <a:pt x="37" y="74"/>
                  </a:lnTo>
                  <a:lnTo>
                    <a:pt x="29" y="85"/>
                  </a:lnTo>
                  <a:lnTo>
                    <a:pt x="22" y="97"/>
                  </a:lnTo>
                  <a:lnTo>
                    <a:pt x="16" y="109"/>
                  </a:lnTo>
                  <a:lnTo>
                    <a:pt x="10" y="120"/>
                  </a:lnTo>
                  <a:lnTo>
                    <a:pt x="7" y="131"/>
                  </a:lnTo>
                  <a:lnTo>
                    <a:pt x="4" y="143"/>
                  </a:lnTo>
                  <a:lnTo>
                    <a:pt x="2" y="153"/>
                  </a:lnTo>
                  <a:lnTo>
                    <a:pt x="1" y="162"/>
                  </a:lnTo>
                  <a:lnTo>
                    <a:pt x="0" y="173"/>
                  </a:lnTo>
                  <a:lnTo>
                    <a:pt x="1" y="182"/>
                  </a:lnTo>
                  <a:lnTo>
                    <a:pt x="1" y="196"/>
                  </a:lnTo>
                  <a:lnTo>
                    <a:pt x="3" y="210"/>
                  </a:lnTo>
                  <a:lnTo>
                    <a:pt x="7" y="222"/>
                  </a:lnTo>
                  <a:lnTo>
                    <a:pt x="9" y="234"/>
                  </a:lnTo>
                  <a:lnTo>
                    <a:pt x="17" y="254"/>
                  </a:lnTo>
                  <a:lnTo>
                    <a:pt x="27" y="278"/>
                  </a:lnTo>
                  <a:lnTo>
                    <a:pt x="37" y="305"/>
                  </a:lnTo>
                  <a:lnTo>
                    <a:pt x="48" y="333"/>
                  </a:lnTo>
                  <a:lnTo>
                    <a:pt x="57" y="361"/>
                  </a:lnTo>
                  <a:lnTo>
                    <a:pt x="65" y="388"/>
                  </a:lnTo>
                  <a:lnTo>
                    <a:pt x="69" y="401"/>
                  </a:lnTo>
                  <a:lnTo>
                    <a:pt x="71" y="412"/>
                  </a:lnTo>
                  <a:lnTo>
                    <a:pt x="72" y="423"/>
                  </a:lnTo>
                  <a:lnTo>
                    <a:pt x="72" y="432"/>
                  </a:lnTo>
                  <a:lnTo>
                    <a:pt x="72" y="845"/>
                  </a:lnTo>
                  <a:lnTo>
                    <a:pt x="72" y="834"/>
                  </a:lnTo>
                  <a:lnTo>
                    <a:pt x="71" y="824"/>
                  </a:lnTo>
                  <a:lnTo>
                    <a:pt x="69" y="812"/>
                  </a:lnTo>
                  <a:lnTo>
                    <a:pt x="65" y="799"/>
                  </a:lnTo>
                  <a:lnTo>
                    <a:pt x="57" y="771"/>
                  </a:lnTo>
                  <a:lnTo>
                    <a:pt x="48" y="742"/>
                  </a:lnTo>
                  <a:lnTo>
                    <a:pt x="37" y="714"/>
                  </a:lnTo>
                  <a:lnTo>
                    <a:pt x="27" y="687"/>
                  </a:lnTo>
                  <a:lnTo>
                    <a:pt x="17" y="662"/>
                  </a:lnTo>
                  <a:lnTo>
                    <a:pt x="9" y="643"/>
                  </a:lnTo>
                  <a:lnTo>
                    <a:pt x="7" y="631"/>
                  </a:lnTo>
                  <a:lnTo>
                    <a:pt x="3" y="619"/>
                  </a:lnTo>
                  <a:lnTo>
                    <a:pt x="1" y="605"/>
                  </a:lnTo>
                  <a:lnTo>
                    <a:pt x="1" y="591"/>
                  </a:lnTo>
                  <a:lnTo>
                    <a:pt x="0" y="582"/>
                  </a:lnTo>
                  <a:lnTo>
                    <a:pt x="1" y="571"/>
                  </a:lnTo>
                  <a:lnTo>
                    <a:pt x="2" y="562"/>
                  </a:lnTo>
                  <a:lnTo>
                    <a:pt x="4" y="551"/>
                  </a:lnTo>
                  <a:lnTo>
                    <a:pt x="7" y="541"/>
                  </a:lnTo>
                  <a:lnTo>
                    <a:pt x="10" y="529"/>
                  </a:lnTo>
                  <a:lnTo>
                    <a:pt x="16" y="518"/>
                  </a:lnTo>
                  <a:lnTo>
                    <a:pt x="22" y="507"/>
                  </a:lnTo>
                  <a:lnTo>
                    <a:pt x="29" y="495"/>
                  </a:lnTo>
                  <a:lnTo>
                    <a:pt x="37" y="483"/>
                  </a:lnTo>
                  <a:lnTo>
                    <a:pt x="48" y="471"/>
                  </a:lnTo>
                  <a:lnTo>
                    <a:pt x="58" y="459"/>
                  </a:lnTo>
                  <a:lnTo>
                    <a:pt x="71" y="446"/>
                  </a:lnTo>
                  <a:lnTo>
                    <a:pt x="85" y="435"/>
                  </a:lnTo>
                  <a:lnTo>
                    <a:pt x="101" y="422"/>
                  </a:lnTo>
                  <a:lnTo>
                    <a:pt x="119" y="409"/>
                  </a:lnTo>
                  <a:lnTo>
                    <a:pt x="11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Freeform 60"/>
            <p:cNvSpPr/>
            <p:nvPr/>
          </p:nvSpPr>
          <p:spPr>
            <a:xfrm>
              <a:off x="8120160" y="5146560"/>
              <a:ext cx="37800" cy="82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42" h="481">
                  <a:moveTo>
                    <a:pt x="0" y="481"/>
                  </a:moveTo>
                  <a:lnTo>
                    <a:pt x="22" y="477"/>
                  </a:lnTo>
                  <a:lnTo>
                    <a:pt x="45" y="474"/>
                  </a:lnTo>
                  <a:lnTo>
                    <a:pt x="70" y="472"/>
                  </a:lnTo>
                  <a:lnTo>
                    <a:pt x="94" y="470"/>
                  </a:lnTo>
                  <a:lnTo>
                    <a:pt x="134" y="458"/>
                  </a:lnTo>
                  <a:lnTo>
                    <a:pt x="181" y="445"/>
                  </a:lnTo>
                  <a:lnTo>
                    <a:pt x="203" y="438"/>
                  </a:lnTo>
                  <a:lnTo>
                    <a:pt x="222" y="430"/>
                  </a:lnTo>
                  <a:lnTo>
                    <a:pt x="230" y="425"/>
                  </a:lnTo>
                  <a:lnTo>
                    <a:pt x="236" y="421"/>
                  </a:lnTo>
                  <a:lnTo>
                    <a:pt x="239" y="415"/>
                  </a:lnTo>
                  <a:lnTo>
                    <a:pt x="242" y="409"/>
                  </a:lnTo>
                  <a:lnTo>
                    <a:pt x="242" y="0"/>
                  </a:lnTo>
                  <a:lnTo>
                    <a:pt x="239" y="6"/>
                  </a:lnTo>
                  <a:lnTo>
                    <a:pt x="236" y="11"/>
                  </a:lnTo>
                  <a:lnTo>
                    <a:pt x="230" y="17"/>
                  </a:lnTo>
                  <a:lnTo>
                    <a:pt x="222" y="21"/>
                  </a:lnTo>
                  <a:lnTo>
                    <a:pt x="203" y="29"/>
                  </a:lnTo>
                  <a:lnTo>
                    <a:pt x="181" y="36"/>
                  </a:lnTo>
                  <a:lnTo>
                    <a:pt x="134" y="49"/>
                  </a:lnTo>
                  <a:lnTo>
                    <a:pt x="94" y="61"/>
                  </a:lnTo>
                  <a:lnTo>
                    <a:pt x="70" y="63"/>
                  </a:lnTo>
                  <a:lnTo>
                    <a:pt x="45" y="66"/>
                  </a:lnTo>
                  <a:lnTo>
                    <a:pt x="22" y="68"/>
                  </a:lnTo>
                  <a:lnTo>
                    <a:pt x="0" y="73"/>
                  </a:lnTo>
                  <a:lnTo>
                    <a:pt x="0" y="48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Freeform 61"/>
            <p:cNvSpPr/>
            <p:nvPr/>
          </p:nvSpPr>
          <p:spPr>
            <a:xfrm>
              <a:off x="8001360" y="5283720"/>
              <a:ext cx="105840" cy="1504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668" h="873">
                  <a:moveTo>
                    <a:pt x="314" y="717"/>
                  </a:moveTo>
                  <a:lnTo>
                    <a:pt x="283" y="697"/>
                  </a:lnTo>
                  <a:lnTo>
                    <a:pt x="246" y="674"/>
                  </a:lnTo>
                  <a:lnTo>
                    <a:pt x="207" y="648"/>
                  </a:lnTo>
                  <a:lnTo>
                    <a:pt x="165" y="620"/>
                  </a:lnTo>
                  <a:lnTo>
                    <a:pt x="124" y="591"/>
                  </a:lnTo>
                  <a:lnTo>
                    <a:pt x="82" y="561"/>
                  </a:lnTo>
                  <a:lnTo>
                    <a:pt x="42" y="530"/>
                  </a:lnTo>
                  <a:lnTo>
                    <a:pt x="6" y="501"/>
                  </a:lnTo>
                  <a:lnTo>
                    <a:pt x="2" y="498"/>
                  </a:lnTo>
                  <a:lnTo>
                    <a:pt x="0" y="493"/>
                  </a:lnTo>
                  <a:lnTo>
                    <a:pt x="0" y="488"/>
                  </a:lnTo>
                  <a:lnTo>
                    <a:pt x="1" y="482"/>
                  </a:lnTo>
                  <a:lnTo>
                    <a:pt x="5" y="478"/>
                  </a:lnTo>
                  <a:lnTo>
                    <a:pt x="9" y="472"/>
                  </a:lnTo>
                  <a:lnTo>
                    <a:pt x="15" y="465"/>
                  </a:lnTo>
                  <a:lnTo>
                    <a:pt x="23" y="459"/>
                  </a:lnTo>
                  <a:lnTo>
                    <a:pt x="31" y="452"/>
                  </a:lnTo>
                  <a:lnTo>
                    <a:pt x="42" y="445"/>
                  </a:lnTo>
                  <a:lnTo>
                    <a:pt x="54" y="438"/>
                  </a:lnTo>
                  <a:lnTo>
                    <a:pt x="67" y="431"/>
                  </a:lnTo>
                  <a:lnTo>
                    <a:pt x="95" y="418"/>
                  </a:lnTo>
                  <a:lnTo>
                    <a:pt x="126" y="405"/>
                  </a:lnTo>
                  <a:lnTo>
                    <a:pt x="328" y="578"/>
                  </a:lnTo>
                  <a:lnTo>
                    <a:pt x="383" y="561"/>
                  </a:lnTo>
                  <a:lnTo>
                    <a:pt x="390" y="563"/>
                  </a:lnTo>
                  <a:lnTo>
                    <a:pt x="397" y="566"/>
                  </a:lnTo>
                  <a:lnTo>
                    <a:pt x="405" y="571"/>
                  </a:lnTo>
                  <a:lnTo>
                    <a:pt x="412" y="577"/>
                  </a:lnTo>
                  <a:lnTo>
                    <a:pt x="427" y="592"/>
                  </a:lnTo>
                  <a:lnTo>
                    <a:pt x="444" y="611"/>
                  </a:lnTo>
                  <a:lnTo>
                    <a:pt x="475" y="655"/>
                  </a:lnTo>
                  <a:lnTo>
                    <a:pt x="509" y="705"/>
                  </a:lnTo>
                  <a:lnTo>
                    <a:pt x="527" y="732"/>
                  </a:lnTo>
                  <a:lnTo>
                    <a:pt x="545" y="758"/>
                  </a:lnTo>
                  <a:lnTo>
                    <a:pt x="564" y="783"/>
                  </a:lnTo>
                  <a:lnTo>
                    <a:pt x="584" y="807"/>
                  </a:lnTo>
                  <a:lnTo>
                    <a:pt x="593" y="818"/>
                  </a:lnTo>
                  <a:lnTo>
                    <a:pt x="604" y="828"/>
                  </a:lnTo>
                  <a:lnTo>
                    <a:pt x="614" y="837"/>
                  </a:lnTo>
                  <a:lnTo>
                    <a:pt x="625" y="847"/>
                  </a:lnTo>
                  <a:lnTo>
                    <a:pt x="635" y="854"/>
                  </a:lnTo>
                  <a:lnTo>
                    <a:pt x="646" y="861"/>
                  </a:lnTo>
                  <a:lnTo>
                    <a:pt x="656" y="867"/>
                  </a:lnTo>
                  <a:lnTo>
                    <a:pt x="668" y="873"/>
                  </a:lnTo>
                  <a:lnTo>
                    <a:pt x="668" y="466"/>
                  </a:lnTo>
                  <a:lnTo>
                    <a:pt x="656" y="461"/>
                  </a:lnTo>
                  <a:lnTo>
                    <a:pt x="646" y="456"/>
                  </a:lnTo>
                  <a:lnTo>
                    <a:pt x="635" y="449"/>
                  </a:lnTo>
                  <a:lnTo>
                    <a:pt x="625" y="440"/>
                  </a:lnTo>
                  <a:lnTo>
                    <a:pt x="614" y="431"/>
                  </a:lnTo>
                  <a:lnTo>
                    <a:pt x="604" y="422"/>
                  </a:lnTo>
                  <a:lnTo>
                    <a:pt x="593" y="411"/>
                  </a:lnTo>
                  <a:lnTo>
                    <a:pt x="584" y="401"/>
                  </a:lnTo>
                  <a:lnTo>
                    <a:pt x="564" y="377"/>
                  </a:lnTo>
                  <a:lnTo>
                    <a:pt x="545" y="352"/>
                  </a:lnTo>
                  <a:lnTo>
                    <a:pt x="527" y="326"/>
                  </a:lnTo>
                  <a:lnTo>
                    <a:pt x="509" y="300"/>
                  </a:lnTo>
                  <a:lnTo>
                    <a:pt x="475" y="249"/>
                  </a:lnTo>
                  <a:lnTo>
                    <a:pt x="444" y="204"/>
                  </a:lnTo>
                  <a:lnTo>
                    <a:pt x="427" y="186"/>
                  </a:lnTo>
                  <a:lnTo>
                    <a:pt x="412" y="172"/>
                  </a:lnTo>
                  <a:lnTo>
                    <a:pt x="405" y="166"/>
                  </a:lnTo>
                  <a:lnTo>
                    <a:pt x="397" y="161"/>
                  </a:lnTo>
                  <a:lnTo>
                    <a:pt x="390" y="158"/>
                  </a:lnTo>
                  <a:lnTo>
                    <a:pt x="383" y="155"/>
                  </a:lnTo>
                  <a:lnTo>
                    <a:pt x="328" y="173"/>
                  </a:lnTo>
                  <a:lnTo>
                    <a:pt x="126" y="0"/>
                  </a:lnTo>
                  <a:lnTo>
                    <a:pt x="95" y="12"/>
                  </a:lnTo>
                  <a:lnTo>
                    <a:pt x="67" y="26"/>
                  </a:lnTo>
                  <a:lnTo>
                    <a:pt x="54" y="33"/>
                  </a:lnTo>
                  <a:lnTo>
                    <a:pt x="42" y="39"/>
                  </a:lnTo>
                  <a:lnTo>
                    <a:pt x="31" y="46"/>
                  </a:lnTo>
                  <a:lnTo>
                    <a:pt x="23" y="53"/>
                  </a:lnTo>
                  <a:lnTo>
                    <a:pt x="15" y="58"/>
                  </a:lnTo>
                  <a:lnTo>
                    <a:pt x="9" y="65"/>
                  </a:lnTo>
                  <a:lnTo>
                    <a:pt x="5" y="71"/>
                  </a:lnTo>
                  <a:lnTo>
                    <a:pt x="1" y="77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2" y="91"/>
                  </a:lnTo>
                  <a:lnTo>
                    <a:pt x="6" y="95"/>
                  </a:lnTo>
                  <a:lnTo>
                    <a:pt x="42" y="124"/>
                  </a:lnTo>
                  <a:lnTo>
                    <a:pt x="82" y="154"/>
                  </a:lnTo>
                  <a:lnTo>
                    <a:pt x="124" y="185"/>
                  </a:lnTo>
                  <a:lnTo>
                    <a:pt x="165" y="215"/>
                  </a:lnTo>
                  <a:lnTo>
                    <a:pt x="207" y="243"/>
                  </a:lnTo>
                  <a:lnTo>
                    <a:pt x="246" y="269"/>
                  </a:lnTo>
                  <a:lnTo>
                    <a:pt x="283" y="291"/>
                  </a:lnTo>
                  <a:lnTo>
                    <a:pt x="314" y="311"/>
                  </a:lnTo>
                  <a:lnTo>
                    <a:pt x="314" y="71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Freeform 62"/>
            <p:cNvSpPr/>
            <p:nvPr/>
          </p:nvSpPr>
          <p:spPr>
            <a:xfrm>
              <a:off x="5884560" y="5589360"/>
              <a:ext cx="7560" cy="1364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0" h="784">
                  <a:moveTo>
                    <a:pt x="21" y="568"/>
                  </a:moveTo>
                  <a:lnTo>
                    <a:pt x="18" y="572"/>
                  </a:lnTo>
                  <a:lnTo>
                    <a:pt x="13" y="584"/>
                  </a:lnTo>
                  <a:lnTo>
                    <a:pt x="9" y="593"/>
                  </a:lnTo>
                  <a:lnTo>
                    <a:pt x="6" y="604"/>
                  </a:lnTo>
                  <a:lnTo>
                    <a:pt x="3" y="616"/>
                  </a:lnTo>
                  <a:lnTo>
                    <a:pt x="1" y="630"/>
                  </a:lnTo>
                  <a:lnTo>
                    <a:pt x="0" y="645"/>
                  </a:lnTo>
                  <a:lnTo>
                    <a:pt x="0" y="661"/>
                  </a:lnTo>
                  <a:lnTo>
                    <a:pt x="2" y="679"/>
                  </a:lnTo>
                  <a:lnTo>
                    <a:pt x="7" y="697"/>
                  </a:lnTo>
                  <a:lnTo>
                    <a:pt x="13" y="718"/>
                  </a:lnTo>
                  <a:lnTo>
                    <a:pt x="22" y="739"/>
                  </a:lnTo>
                  <a:lnTo>
                    <a:pt x="28" y="750"/>
                  </a:lnTo>
                  <a:lnTo>
                    <a:pt x="35" y="762"/>
                  </a:lnTo>
                  <a:lnTo>
                    <a:pt x="42" y="772"/>
                  </a:lnTo>
                  <a:lnTo>
                    <a:pt x="50" y="784"/>
                  </a:lnTo>
                  <a:lnTo>
                    <a:pt x="50" y="216"/>
                  </a:lnTo>
                  <a:lnTo>
                    <a:pt x="42" y="204"/>
                  </a:lnTo>
                  <a:lnTo>
                    <a:pt x="35" y="194"/>
                  </a:lnTo>
                  <a:lnTo>
                    <a:pt x="28" y="182"/>
                  </a:lnTo>
                  <a:lnTo>
                    <a:pt x="22" y="172"/>
                  </a:lnTo>
                  <a:lnTo>
                    <a:pt x="13" y="151"/>
                  </a:lnTo>
                  <a:lnTo>
                    <a:pt x="7" y="131"/>
                  </a:lnTo>
                  <a:lnTo>
                    <a:pt x="2" y="111"/>
                  </a:lnTo>
                  <a:lnTo>
                    <a:pt x="0" y="93"/>
                  </a:lnTo>
                  <a:lnTo>
                    <a:pt x="0" y="77"/>
                  </a:lnTo>
                  <a:lnTo>
                    <a:pt x="1" y="62"/>
                  </a:lnTo>
                  <a:lnTo>
                    <a:pt x="3" y="48"/>
                  </a:lnTo>
                  <a:lnTo>
                    <a:pt x="6" y="36"/>
                  </a:lnTo>
                  <a:lnTo>
                    <a:pt x="9" y="26"/>
                  </a:lnTo>
                  <a:lnTo>
                    <a:pt x="13" y="16"/>
                  </a:lnTo>
                  <a:lnTo>
                    <a:pt x="18" y="5"/>
                  </a:lnTo>
                  <a:lnTo>
                    <a:pt x="21" y="0"/>
                  </a:lnTo>
                  <a:lnTo>
                    <a:pt x="21" y="56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Freeform 63"/>
            <p:cNvSpPr/>
            <p:nvPr/>
          </p:nvSpPr>
          <p:spPr>
            <a:xfrm>
              <a:off x="5842440" y="6004080"/>
              <a:ext cx="64440" cy="266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6" h="162">
                  <a:moveTo>
                    <a:pt x="372" y="130"/>
                  </a:moveTo>
                  <a:lnTo>
                    <a:pt x="364" y="136"/>
                  </a:lnTo>
                  <a:lnTo>
                    <a:pt x="353" y="141"/>
                  </a:lnTo>
                  <a:lnTo>
                    <a:pt x="340" y="145"/>
                  </a:lnTo>
                  <a:lnTo>
                    <a:pt x="326" y="149"/>
                  </a:lnTo>
                  <a:lnTo>
                    <a:pt x="311" y="152"/>
                  </a:lnTo>
                  <a:lnTo>
                    <a:pt x="295" y="156"/>
                  </a:lnTo>
                  <a:lnTo>
                    <a:pt x="278" y="158"/>
                  </a:lnTo>
                  <a:lnTo>
                    <a:pt x="262" y="160"/>
                  </a:lnTo>
                  <a:lnTo>
                    <a:pt x="246" y="162"/>
                  </a:lnTo>
                  <a:lnTo>
                    <a:pt x="230" y="162"/>
                  </a:lnTo>
                  <a:lnTo>
                    <a:pt x="215" y="162"/>
                  </a:lnTo>
                  <a:lnTo>
                    <a:pt x="202" y="160"/>
                  </a:lnTo>
                  <a:lnTo>
                    <a:pt x="191" y="159"/>
                  </a:lnTo>
                  <a:lnTo>
                    <a:pt x="181" y="156"/>
                  </a:lnTo>
                  <a:lnTo>
                    <a:pt x="178" y="155"/>
                  </a:lnTo>
                  <a:lnTo>
                    <a:pt x="174" y="152"/>
                  </a:lnTo>
                  <a:lnTo>
                    <a:pt x="172" y="150"/>
                  </a:lnTo>
                  <a:lnTo>
                    <a:pt x="171" y="148"/>
                  </a:lnTo>
                  <a:lnTo>
                    <a:pt x="167" y="141"/>
                  </a:lnTo>
                  <a:lnTo>
                    <a:pt x="163" y="135"/>
                  </a:lnTo>
                  <a:lnTo>
                    <a:pt x="158" y="129"/>
                  </a:lnTo>
                  <a:lnTo>
                    <a:pt x="153" y="124"/>
                  </a:lnTo>
                  <a:lnTo>
                    <a:pt x="142" y="115"/>
                  </a:lnTo>
                  <a:lnTo>
                    <a:pt x="130" y="107"/>
                  </a:lnTo>
                  <a:lnTo>
                    <a:pt x="116" y="101"/>
                  </a:lnTo>
                  <a:lnTo>
                    <a:pt x="102" y="96"/>
                  </a:lnTo>
                  <a:lnTo>
                    <a:pt x="87" y="92"/>
                  </a:lnTo>
                  <a:lnTo>
                    <a:pt x="73" y="89"/>
                  </a:lnTo>
                  <a:lnTo>
                    <a:pt x="46" y="85"/>
                  </a:lnTo>
                  <a:lnTo>
                    <a:pt x="22" y="83"/>
                  </a:lnTo>
                  <a:lnTo>
                    <a:pt x="6" y="83"/>
                  </a:lnTo>
                  <a:lnTo>
                    <a:pt x="0" y="85"/>
                  </a:lnTo>
                  <a:lnTo>
                    <a:pt x="79" y="6"/>
                  </a:lnTo>
                  <a:lnTo>
                    <a:pt x="93" y="4"/>
                  </a:lnTo>
                  <a:lnTo>
                    <a:pt x="107" y="4"/>
                  </a:lnTo>
                  <a:lnTo>
                    <a:pt x="121" y="4"/>
                  </a:lnTo>
                  <a:lnTo>
                    <a:pt x="133" y="5"/>
                  </a:lnTo>
                  <a:lnTo>
                    <a:pt x="159" y="9"/>
                  </a:lnTo>
                  <a:lnTo>
                    <a:pt x="185" y="13"/>
                  </a:lnTo>
                  <a:lnTo>
                    <a:pt x="196" y="14"/>
                  </a:lnTo>
                  <a:lnTo>
                    <a:pt x="209" y="17"/>
                  </a:lnTo>
                  <a:lnTo>
                    <a:pt x="221" y="18"/>
                  </a:lnTo>
                  <a:lnTo>
                    <a:pt x="233" y="18"/>
                  </a:lnTo>
                  <a:lnTo>
                    <a:pt x="244" y="17"/>
                  </a:lnTo>
                  <a:lnTo>
                    <a:pt x="256" y="14"/>
                  </a:lnTo>
                  <a:lnTo>
                    <a:pt x="268" y="11"/>
                  </a:lnTo>
                  <a:lnTo>
                    <a:pt x="279" y="6"/>
                  </a:lnTo>
                  <a:lnTo>
                    <a:pt x="285" y="4"/>
                  </a:lnTo>
                  <a:lnTo>
                    <a:pt x="292" y="3"/>
                  </a:lnTo>
                  <a:lnTo>
                    <a:pt x="298" y="2"/>
                  </a:lnTo>
                  <a:lnTo>
                    <a:pt x="305" y="0"/>
                  </a:lnTo>
                  <a:lnTo>
                    <a:pt x="319" y="2"/>
                  </a:lnTo>
                  <a:lnTo>
                    <a:pt x="333" y="5"/>
                  </a:lnTo>
                  <a:lnTo>
                    <a:pt x="347" y="10"/>
                  </a:lnTo>
                  <a:lnTo>
                    <a:pt x="360" y="17"/>
                  </a:lnTo>
                  <a:lnTo>
                    <a:pt x="373" y="25"/>
                  </a:lnTo>
                  <a:lnTo>
                    <a:pt x="383" y="34"/>
                  </a:lnTo>
                  <a:lnTo>
                    <a:pt x="393" y="45"/>
                  </a:lnTo>
                  <a:lnTo>
                    <a:pt x="400" y="57"/>
                  </a:lnTo>
                  <a:lnTo>
                    <a:pt x="402" y="62"/>
                  </a:lnTo>
                  <a:lnTo>
                    <a:pt x="403" y="69"/>
                  </a:lnTo>
                  <a:lnTo>
                    <a:pt x="404" y="75"/>
                  </a:lnTo>
                  <a:lnTo>
                    <a:pt x="406" y="81"/>
                  </a:lnTo>
                  <a:lnTo>
                    <a:pt x="404" y="88"/>
                  </a:lnTo>
                  <a:lnTo>
                    <a:pt x="403" y="94"/>
                  </a:lnTo>
                  <a:lnTo>
                    <a:pt x="401" y="100"/>
                  </a:lnTo>
                  <a:lnTo>
                    <a:pt x="397" y="107"/>
                  </a:lnTo>
                  <a:lnTo>
                    <a:pt x="393" y="113"/>
                  </a:lnTo>
                  <a:lnTo>
                    <a:pt x="387" y="118"/>
                  </a:lnTo>
                  <a:lnTo>
                    <a:pt x="380" y="124"/>
                  </a:lnTo>
                  <a:lnTo>
                    <a:pt x="372" y="1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Freeform 64"/>
            <p:cNvSpPr/>
            <p:nvPr/>
          </p:nvSpPr>
          <p:spPr>
            <a:xfrm>
              <a:off x="5796000" y="5878440"/>
              <a:ext cx="20520" cy="88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26" h="509">
                  <a:moveTo>
                    <a:pt x="0" y="100"/>
                  </a:moveTo>
                  <a:lnTo>
                    <a:pt x="15" y="98"/>
                  </a:lnTo>
                  <a:lnTo>
                    <a:pt x="30" y="96"/>
                  </a:lnTo>
                  <a:lnTo>
                    <a:pt x="43" y="91"/>
                  </a:lnTo>
                  <a:lnTo>
                    <a:pt x="56" y="88"/>
                  </a:lnTo>
                  <a:lnTo>
                    <a:pt x="68" y="82"/>
                  </a:lnTo>
                  <a:lnTo>
                    <a:pt x="78" y="76"/>
                  </a:lnTo>
                  <a:lnTo>
                    <a:pt x="88" y="70"/>
                  </a:lnTo>
                  <a:lnTo>
                    <a:pt x="96" y="63"/>
                  </a:lnTo>
                  <a:lnTo>
                    <a:pt x="103" y="56"/>
                  </a:lnTo>
                  <a:lnTo>
                    <a:pt x="109" y="48"/>
                  </a:lnTo>
                  <a:lnTo>
                    <a:pt x="115" y="41"/>
                  </a:lnTo>
                  <a:lnTo>
                    <a:pt x="119" y="33"/>
                  </a:lnTo>
                  <a:lnTo>
                    <a:pt x="123" y="24"/>
                  </a:lnTo>
                  <a:lnTo>
                    <a:pt x="125" y="16"/>
                  </a:lnTo>
                  <a:lnTo>
                    <a:pt x="126" y="8"/>
                  </a:lnTo>
                  <a:lnTo>
                    <a:pt x="126" y="0"/>
                  </a:lnTo>
                  <a:lnTo>
                    <a:pt x="126" y="409"/>
                  </a:lnTo>
                  <a:lnTo>
                    <a:pt x="126" y="417"/>
                  </a:lnTo>
                  <a:lnTo>
                    <a:pt x="125" y="425"/>
                  </a:lnTo>
                  <a:lnTo>
                    <a:pt x="123" y="433"/>
                  </a:lnTo>
                  <a:lnTo>
                    <a:pt x="119" y="441"/>
                  </a:lnTo>
                  <a:lnTo>
                    <a:pt x="115" y="450"/>
                  </a:lnTo>
                  <a:lnTo>
                    <a:pt x="109" y="457"/>
                  </a:lnTo>
                  <a:lnTo>
                    <a:pt x="103" y="465"/>
                  </a:lnTo>
                  <a:lnTo>
                    <a:pt x="96" y="472"/>
                  </a:lnTo>
                  <a:lnTo>
                    <a:pt x="88" y="479"/>
                  </a:lnTo>
                  <a:lnTo>
                    <a:pt x="78" y="485"/>
                  </a:lnTo>
                  <a:lnTo>
                    <a:pt x="68" y="490"/>
                  </a:lnTo>
                  <a:lnTo>
                    <a:pt x="56" y="496"/>
                  </a:lnTo>
                  <a:lnTo>
                    <a:pt x="43" y="501"/>
                  </a:lnTo>
                  <a:lnTo>
                    <a:pt x="30" y="505"/>
                  </a:lnTo>
                  <a:lnTo>
                    <a:pt x="15" y="507"/>
                  </a:lnTo>
                  <a:lnTo>
                    <a:pt x="0" y="509"/>
                  </a:lnTo>
                  <a:lnTo>
                    <a:pt x="0" y="1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Freeform 65"/>
            <p:cNvSpPr/>
            <p:nvPr/>
          </p:nvSpPr>
          <p:spPr>
            <a:xfrm>
              <a:off x="5708880" y="5865480"/>
              <a:ext cx="20520" cy="70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22" h="415">
                  <a:moveTo>
                    <a:pt x="0" y="415"/>
                  </a:moveTo>
                  <a:lnTo>
                    <a:pt x="40" y="411"/>
                  </a:lnTo>
                  <a:lnTo>
                    <a:pt x="72" y="411"/>
                  </a:lnTo>
                  <a:lnTo>
                    <a:pt x="99" y="412"/>
                  </a:lnTo>
                  <a:lnTo>
                    <a:pt x="122" y="415"/>
                  </a:lnTo>
                  <a:lnTo>
                    <a:pt x="122" y="5"/>
                  </a:lnTo>
                  <a:lnTo>
                    <a:pt x="111" y="4"/>
                  </a:lnTo>
                  <a:lnTo>
                    <a:pt x="99" y="1"/>
                  </a:lnTo>
                  <a:lnTo>
                    <a:pt x="86" y="0"/>
                  </a:lnTo>
                  <a:lnTo>
                    <a:pt x="72" y="0"/>
                  </a:lnTo>
                  <a:lnTo>
                    <a:pt x="57" y="0"/>
                  </a:lnTo>
                  <a:lnTo>
                    <a:pt x="40" y="1"/>
                  </a:lnTo>
                  <a:lnTo>
                    <a:pt x="21" y="2"/>
                  </a:lnTo>
                  <a:lnTo>
                    <a:pt x="0" y="5"/>
                  </a:lnTo>
                  <a:lnTo>
                    <a:pt x="0" y="41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Freeform 66"/>
            <p:cNvSpPr/>
            <p:nvPr/>
          </p:nvSpPr>
          <p:spPr>
            <a:xfrm>
              <a:off x="5670720" y="5861160"/>
              <a:ext cx="17280" cy="98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0" h="566">
                  <a:moveTo>
                    <a:pt x="0" y="566"/>
                  </a:moveTo>
                  <a:lnTo>
                    <a:pt x="110" y="409"/>
                  </a:lnTo>
                  <a:lnTo>
                    <a:pt x="110" y="0"/>
                  </a:lnTo>
                  <a:lnTo>
                    <a:pt x="0" y="156"/>
                  </a:lnTo>
                  <a:lnTo>
                    <a:pt x="0" y="5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Freeform 67"/>
            <p:cNvSpPr/>
            <p:nvPr/>
          </p:nvSpPr>
          <p:spPr>
            <a:xfrm>
              <a:off x="5842440" y="5920200"/>
              <a:ext cx="28440" cy="80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71" h="473">
                  <a:moveTo>
                    <a:pt x="0" y="409"/>
                  </a:moveTo>
                  <a:lnTo>
                    <a:pt x="6" y="409"/>
                  </a:lnTo>
                  <a:lnTo>
                    <a:pt x="22" y="409"/>
                  </a:lnTo>
                  <a:lnTo>
                    <a:pt x="46" y="410"/>
                  </a:lnTo>
                  <a:lnTo>
                    <a:pt x="73" y="414"/>
                  </a:lnTo>
                  <a:lnTo>
                    <a:pt x="87" y="417"/>
                  </a:lnTo>
                  <a:lnTo>
                    <a:pt x="102" y="421"/>
                  </a:lnTo>
                  <a:lnTo>
                    <a:pt x="116" y="427"/>
                  </a:lnTo>
                  <a:lnTo>
                    <a:pt x="130" y="432"/>
                  </a:lnTo>
                  <a:lnTo>
                    <a:pt x="142" y="441"/>
                  </a:lnTo>
                  <a:lnTo>
                    <a:pt x="153" y="450"/>
                  </a:lnTo>
                  <a:lnTo>
                    <a:pt x="158" y="455"/>
                  </a:lnTo>
                  <a:lnTo>
                    <a:pt x="163" y="460"/>
                  </a:lnTo>
                  <a:lnTo>
                    <a:pt x="167" y="466"/>
                  </a:lnTo>
                  <a:lnTo>
                    <a:pt x="171" y="473"/>
                  </a:lnTo>
                  <a:lnTo>
                    <a:pt x="171" y="64"/>
                  </a:lnTo>
                  <a:lnTo>
                    <a:pt x="167" y="57"/>
                  </a:lnTo>
                  <a:lnTo>
                    <a:pt x="163" y="52"/>
                  </a:lnTo>
                  <a:lnTo>
                    <a:pt x="158" y="46"/>
                  </a:lnTo>
                  <a:lnTo>
                    <a:pt x="153" y="41"/>
                  </a:lnTo>
                  <a:lnTo>
                    <a:pt x="142" y="32"/>
                  </a:lnTo>
                  <a:lnTo>
                    <a:pt x="130" y="24"/>
                  </a:lnTo>
                  <a:lnTo>
                    <a:pt x="116" y="18"/>
                  </a:lnTo>
                  <a:lnTo>
                    <a:pt x="102" y="12"/>
                  </a:lnTo>
                  <a:lnTo>
                    <a:pt x="87" y="8"/>
                  </a:lnTo>
                  <a:lnTo>
                    <a:pt x="73" y="5"/>
                  </a:lnTo>
                  <a:lnTo>
                    <a:pt x="46" y="1"/>
                  </a:lnTo>
                  <a:lnTo>
                    <a:pt x="2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Freeform 68"/>
            <p:cNvSpPr/>
            <p:nvPr/>
          </p:nvSpPr>
          <p:spPr>
            <a:xfrm>
              <a:off x="5775120" y="5891400"/>
              <a:ext cx="20520" cy="759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31" h="441">
                  <a:moveTo>
                    <a:pt x="1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3" y="13"/>
                  </a:lnTo>
                  <a:lnTo>
                    <a:pt x="5" y="18"/>
                  </a:lnTo>
                  <a:lnTo>
                    <a:pt x="8" y="20"/>
                  </a:lnTo>
                  <a:lnTo>
                    <a:pt x="14" y="24"/>
                  </a:lnTo>
                  <a:lnTo>
                    <a:pt x="20" y="26"/>
                  </a:lnTo>
                  <a:lnTo>
                    <a:pt x="27" y="28"/>
                  </a:lnTo>
                  <a:lnTo>
                    <a:pt x="46" y="31"/>
                  </a:lnTo>
                  <a:lnTo>
                    <a:pt x="68" y="32"/>
                  </a:lnTo>
                  <a:lnTo>
                    <a:pt x="97" y="32"/>
                  </a:lnTo>
                  <a:lnTo>
                    <a:pt x="131" y="29"/>
                  </a:lnTo>
                  <a:lnTo>
                    <a:pt x="131" y="438"/>
                  </a:lnTo>
                  <a:lnTo>
                    <a:pt x="97" y="441"/>
                  </a:lnTo>
                  <a:lnTo>
                    <a:pt x="68" y="441"/>
                  </a:lnTo>
                  <a:lnTo>
                    <a:pt x="46" y="439"/>
                  </a:lnTo>
                  <a:lnTo>
                    <a:pt x="27" y="437"/>
                  </a:lnTo>
                  <a:lnTo>
                    <a:pt x="20" y="435"/>
                  </a:lnTo>
                  <a:lnTo>
                    <a:pt x="14" y="432"/>
                  </a:lnTo>
                  <a:lnTo>
                    <a:pt x="8" y="429"/>
                  </a:lnTo>
                  <a:lnTo>
                    <a:pt x="5" y="427"/>
                  </a:lnTo>
                  <a:lnTo>
                    <a:pt x="3" y="423"/>
                  </a:lnTo>
                  <a:lnTo>
                    <a:pt x="1" y="418"/>
                  </a:lnTo>
                  <a:lnTo>
                    <a:pt x="0" y="414"/>
                  </a:lnTo>
                  <a:lnTo>
                    <a:pt x="1" y="409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Freeform 69"/>
            <p:cNvSpPr/>
            <p:nvPr/>
          </p:nvSpPr>
          <p:spPr>
            <a:xfrm>
              <a:off x="5808600" y="589932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82" h="550">
                  <a:moveTo>
                    <a:pt x="282" y="0"/>
                  </a:moveTo>
                  <a:lnTo>
                    <a:pt x="281" y="7"/>
                  </a:lnTo>
                  <a:lnTo>
                    <a:pt x="280" y="15"/>
                  </a:lnTo>
                  <a:lnTo>
                    <a:pt x="277" y="22"/>
                  </a:lnTo>
                  <a:lnTo>
                    <a:pt x="273" y="30"/>
                  </a:lnTo>
                  <a:lnTo>
                    <a:pt x="268" y="39"/>
                  </a:lnTo>
                  <a:lnTo>
                    <a:pt x="263" y="46"/>
                  </a:lnTo>
                  <a:lnTo>
                    <a:pt x="257" y="53"/>
                  </a:lnTo>
                  <a:lnTo>
                    <a:pt x="250" y="58"/>
                  </a:lnTo>
                  <a:lnTo>
                    <a:pt x="243" y="64"/>
                  </a:lnTo>
                  <a:lnTo>
                    <a:pt x="237" y="69"/>
                  </a:lnTo>
                  <a:lnTo>
                    <a:pt x="230" y="72"/>
                  </a:lnTo>
                  <a:lnTo>
                    <a:pt x="224" y="75"/>
                  </a:lnTo>
                  <a:lnTo>
                    <a:pt x="218" y="75"/>
                  </a:lnTo>
                  <a:lnTo>
                    <a:pt x="214" y="74"/>
                  </a:lnTo>
                  <a:lnTo>
                    <a:pt x="210" y="71"/>
                  </a:lnTo>
                  <a:lnTo>
                    <a:pt x="207" y="65"/>
                  </a:lnTo>
                  <a:lnTo>
                    <a:pt x="205" y="62"/>
                  </a:lnTo>
                  <a:lnTo>
                    <a:pt x="203" y="60"/>
                  </a:lnTo>
                  <a:lnTo>
                    <a:pt x="202" y="58"/>
                  </a:lnTo>
                  <a:lnTo>
                    <a:pt x="198" y="58"/>
                  </a:lnTo>
                  <a:lnTo>
                    <a:pt x="193" y="60"/>
                  </a:lnTo>
                  <a:lnTo>
                    <a:pt x="186" y="65"/>
                  </a:lnTo>
                  <a:lnTo>
                    <a:pt x="167" y="82"/>
                  </a:lnTo>
                  <a:lnTo>
                    <a:pt x="143" y="103"/>
                  </a:lnTo>
                  <a:lnTo>
                    <a:pt x="132" y="113"/>
                  </a:lnTo>
                  <a:lnTo>
                    <a:pt x="118" y="123"/>
                  </a:lnTo>
                  <a:lnTo>
                    <a:pt x="104" y="131"/>
                  </a:lnTo>
                  <a:lnTo>
                    <a:pt x="89" y="138"/>
                  </a:lnTo>
                  <a:lnTo>
                    <a:pt x="80" y="139"/>
                  </a:lnTo>
                  <a:lnTo>
                    <a:pt x="72" y="140"/>
                  </a:lnTo>
                  <a:lnTo>
                    <a:pt x="65" y="141"/>
                  </a:lnTo>
                  <a:lnTo>
                    <a:pt x="57" y="140"/>
                  </a:lnTo>
                  <a:lnTo>
                    <a:pt x="48" y="139"/>
                  </a:lnTo>
                  <a:lnTo>
                    <a:pt x="40" y="136"/>
                  </a:lnTo>
                  <a:lnTo>
                    <a:pt x="31" y="132"/>
                  </a:lnTo>
                  <a:lnTo>
                    <a:pt x="23" y="126"/>
                  </a:lnTo>
                  <a:lnTo>
                    <a:pt x="17" y="123"/>
                  </a:lnTo>
                  <a:lnTo>
                    <a:pt x="11" y="118"/>
                  </a:lnTo>
                  <a:lnTo>
                    <a:pt x="8" y="113"/>
                  </a:lnTo>
                  <a:lnTo>
                    <a:pt x="4" y="109"/>
                  </a:lnTo>
                  <a:lnTo>
                    <a:pt x="2" y="105"/>
                  </a:lnTo>
                  <a:lnTo>
                    <a:pt x="1" y="100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0" y="501"/>
                  </a:lnTo>
                  <a:lnTo>
                    <a:pt x="0" y="506"/>
                  </a:lnTo>
                  <a:lnTo>
                    <a:pt x="1" y="510"/>
                  </a:lnTo>
                  <a:lnTo>
                    <a:pt x="2" y="515"/>
                  </a:lnTo>
                  <a:lnTo>
                    <a:pt x="4" y="520"/>
                  </a:lnTo>
                  <a:lnTo>
                    <a:pt x="8" y="523"/>
                  </a:lnTo>
                  <a:lnTo>
                    <a:pt x="11" y="528"/>
                  </a:lnTo>
                  <a:lnTo>
                    <a:pt x="17" y="532"/>
                  </a:lnTo>
                  <a:lnTo>
                    <a:pt x="23" y="535"/>
                  </a:lnTo>
                  <a:lnTo>
                    <a:pt x="31" y="541"/>
                  </a:lnTo>
                  <a:lnTo>
                    <a:pt x="40" y="544"/>
                  </a:lnTo>
                  <a:lnTo>
                    <a:pt x="48" y="548"/>
                  </a:lnTo>
                  <a:lnTo>
                    <a:pt x="57" y="549"/>
                  </a:lnTo>
                  <a:lnTo>
                    <a:pt x="65" y="550"/>
                  </a:lnTo>
                  <a:lnTo>
                    <a:pt x="72" y="549"/>
                  </a:lnTo>
                  <a:lnTo>
                    <a:pt x="80" y="548"/>
                  </a:lnTo>
                  <a:lnTo>
                    <a:pt x="89" y="547"/>
                  </a:lnTo>
                  <a:lnTo>
                    <a:pt x="104" y="541"/>
                  </a:lnTo>
                  <a:lnTo>
                    <a:pt x="118" y="532"/>
                  </a:lnTo>
                  <a:lnTo>
                    <a:pt x="132" y="522"/>
                  </a:lnTo>
                  <a:lnTo>
                    <a:pt x="143" y="512"/>
                  </a:lnTo>
                  <a:lnTo>
                    <a:pt x="167" y="491"/>
                  </a:lnTo>
                  <a:lnTo>
                    <a:pt x="186" y="474"/>
                  </a:lnTo>
                  <a:lnTo>
                    <a:pt x="193" y="468"/>
                  </a:lnTo>
                  <a:lnTo>
                    <a:pt x="198" y="467"/>
                  </a:lnTo>
                  <a:lnTo>
                    <a:pt x="202" y="467"/>
                  </a:lnTo>
                  <a:lnTo>
                    <a:pt x="203" y="468"/>
                  </a:lnTo>
                  <a:lnTo>
                    <a:pt x="205" y="471"/>
                  </a:lnTo>
                  <a:lnTo>
                    <a:pt x="207" y="475"/>
                  </a:lnTo>
                  <a:lnTo>
                    <a:pt x="210" y="480"/>
                  </a:lnTo>
                  <a:lnTo>
                    <a:pt x="214" y="484"/>
                  </a:lnTo>
                  <a:lnTo>
                    <a:pt x="218" y="485"/>
                  </a:lnTo>
                  <a:lnTo>
                    <a:pt x="224" y="485"/>
                  </a:lnTo>
                  <a:lnTo>
                    <a:pt x="230" y="482"/>
                  </a:lnTo>
                  <a:lnTo>
                    <a:pt x="237" y="479"/>
                  </a:lnTo>
                  <a:lnTo>
                    <a:pt x="243" y="474"/>
                  </a:lnTo>
                  <a:lnTo>
                    <a:pt x="250" y="468"/>
                  </a:lnTo>
                  <a:lnTo>
                    <a:pt x="257" y="463"/>
                  </a:lnTo>
                  <a:lnTo>
                    <a:pt x="263" y="456"/>
                  </a:lnTo>
                  <a:lnTo>
                    <a:pt x="268" y="447"/>
                  </a:lnTo>
                  <a:lnTo>
                    <a:pt x="273" y="439"/>
                  </a:lnTo>
                  <a:lnTo>
                    <a:pt x="277" y="432"/>
                  </a:lnTo>
                  <a:lnTo>
                    <a:pt x="280" y="424"/>
                  </a:lnTo>
                  <a:lnTo>
                    <a:pt x="281" y="416"/>
                  </a:lnTo>
                  <a:lnTo>
                    <a:pt x="282" y="409"/>
                  </a:lnTo>
                  <a:lnTo>
                    <a:pt x="28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Freeform 70"/>
            <p:cNvSpPr/>
            <p:nvPr/>
          </p:nvSpPr>
          <p:spPr>
            <a:xfrm>
              <a:off x="5870160" y="5920920"/>
              <a:ext cx="36360" cy="835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234" h="489">
                  <a:moveTo>
                    <a:pt x="0" y="475"/>
                  </a:moveTo>
                  <a:lnTo>
                    <a:pt x="2" y="477"/>
                  </a:lnTo>
                  <a:lnTo>
                    <a:pt x="5" y="480"/>
                  </a:lnTo>
                  <a:lnTo>
                    <a:pt x="7" y="482"/>
                  </a:lnTo>
                  <a:lnTo>
                    <a:pt x="12" y="483"/>
                  </a:lnTo>
                  <a:lnTo>
                    <a:pt x="21" y="486"/>
                  </a:lnTo>
                  <a:lnTo>
                    <a:pt x="32" y="488"/>
                  </a:lnTo>
                  <a:lnTo>
                    <a:pt x="45" y="489"/>
                  </a:lnTo>
                  <a:lnTo>
                    <a:pt x="60" y="489"/>
                  </a:lnTo>
                  <a:lnTo>
                    <a:pt x="75" y="489"/>
                  </a:lnTo>
                  <a:lnTo>
                    <a:pt x="90" y="488"/>
                  </a:lnTo>
                  <a:lnTo>
                    <a:pt x="106" y="486"/>
                  </a:lnTo>
                  <a:lnTo>
                    <a:pt x="123" y="483"/>
                  </a:lnTo>
                  <a:lnTo>
                    <a:pt x="139" y="480"/>
                  </a:lnTo>
                  <a:lnTo>
                    <a:pt x="154" y="476"/>
                  </a:lnTo>
                  <a:lnTo>
                    <a:pt x="168" y="472"/>
                  </a:lnTo>
                  <a:lnTo>
                    <a:pt x="181" y="468"/>
                  </a:lnTo>
                  <a:lnTo>
                    <a:pt x="193" y="462"/>
                  </a:lnTo>
                  <a:lnTo>
                    <a:pt x="202" y="458"/>
                  </a:lnTo>
                  <a:lnTo>
                    <a:pt x="210" y="452"/>
                  </a:lnTo>
                  <a:lnTo>
                    <a:pt x="216" y="446"/>
                  </a:lnTo>
                  <a:lnTo>
                    <a:pt x="222" y="440"/>
                  </a:lnTo>
                  <a:lnTo>
                    <a:pt x="227" y="434"/>
                  </a:lnTo>
                  <a:lnTo>
                    <a:pt x="230" y="427"/>
                  </a:lnTo>
                  <a:lnTo>
                    <a:pt x="231" y="421"/>
                  </a:lnTo>
                  <a:lnTo>
                    <a:pt x="234" y="414"/>
                  </a:lnTo>
                  <a:lnTo>
                    <a:pt x="234" y="409"/>
                  </a:lnTo>
                  <a:lnTo>
                    <a:pt x="234" y="0"/>
                  </a:lnTo>
                  <a:lnTo>
                    <a:pt x="234" y="6"/>
                  </a:lnTo>
                  <a:lnTo>
                    <a:pt x="231" y="13"/>
                  </a:lnTo>
                  <a:lnTo>
                    <a:pt x="230" y="18"/>
                  </a:lnTo>
                  <a:lnTo>
                    <a:pt x="227" y="25"/>
                  </a:lnTo>
                  <a:lnTo>
                    <a:pt x="222" y="31"/>
                  </a:lnTo>
                  <a:lnTo>
                    <a:pt x="216" y="37"/>
                  </a:lnTo>
                  <a:lnTo>
                    <a:pt x="210" y="43"/>
                  </a:lnTo>
                  <a:lnTo>
                    <a:pt x="202" y="49"/>
                  </a:lnTo>
                  <a:lnTo>
                    <a:pt x="193" y="53"/>
                  </a:lnTo>
                  <a:lnTo>
                    <a:pt x="181" y="58"/>
                  </a:lnTo>
                  <a:lnTo>
                    <a:pt x="168" y="62"/>
                  </a:lnTo>
                  <a:lnTo>
                    <a:pt x="154" y="66"/>
                  </a:lnTo>
                  <a:lnTo>
                    <a:pt x="139" y="70"/>
                  </a:lnTo>
                  <a:lnTo>
                    <a:pt x="123" y="72"/>
                  </a:lnTo>
                  <a:lnTo>
                    <a:pt x="106" y="76"/>
                  </a:lnTo>
                  <a:lnTo>
                    <a:pt x="90" y="77"/>
                  </a:lnTo>
                  <a:lnTo>
                    <a:pt x="75" y="78"/>
                  </a:lnTo>
                  <a:lnTo>
                    <a:pt x="60" y="79"/>
                  </a:lnTo>
                  <a:lnTo>
                    <a:pt x="45" y="79"/>
                  </a:lnTo>
                  <a:lnTo>
                    <a:pt x="32" y="78"/>
                  </a:lnTo>
                  <a:lnTo>
                    <a:pt x="21" y="76"/>
                  </a:lnTo>
                  <a:lnTo>
                    <a:pt x="12" y="72"/>
                  </a:lnTo>
                  <a:lnTo>
                    <a:pt x="7" y="70"/>
                  </a:lnTo>
                  <a:lnTo>
                    <a:pt x="5" y="69"/>
                  </a:lnTo>
                  <a:lnTo>
                    <a:pt x="2" y="65"/>
                  </a:lnTo>
                  <a:lnTo>
                    <a:pt x="0" y="63"/>
                  </a:lnTo>
                  <a:lnTo>
                    <a:pt x="0" y="4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Freeform 71"/>
            <p:cNvSpPr/>
            <p:nvPr/>
          </p:nvSpPr>
          <p:spPr>
            <a:xfrm>
              <a:off x="5829480" y="6054480"/>
              <a:ext cx="9360" cy="87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60" h="507">
                  <a:moveTo>
                    <a:pt x="0" y="0"/>
                  </a:moveTo>
                  <a:lnTo>
                    <a:pt x="1" y="11"/>
                  </a:lnTo>
                  <a:lnTo>
                    <a:pt x="2" y="21"/>
                  </a:lnTo>
                  <a:lnTo>
                    <a:pt x="4" y="31"/>
                  </a:lnTo>
                  <a:lnTo>
                    <a:pt x="7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6" y="62"/>
                  </a:lnTo>
                  <a:lnTo>
                    <a:pt x="19" y="68"/>
                  </a:lnTo>
                  <a:lnTo>
                    <a:pt x="24" y="74"/>
                  </a:lnTo>
                  <a:lnTo>
                    <a:pt x="28" y="80"/>
                  </a:lnTo>
                  <a:lnTo>
                    <a:pt x="32" y="85"/>
                  </a:lnTo>
                  <a:lnTo>
                    <a:pt x="38" y="88"/>
                  </a:lnTo>
                  <a:lnTo>
                    <a:pt x="49" y="95"/>
                  </a:lnTo>
                  <a:lnTo>
                    <a:pt x="60" y="99"/>
                  </a:lnTo>
                  <a:lnTo>
                    <a:pt x="60" y="507"/>
                  </a:lnTo>
                  <a:lnTo>
                    <a:pt x="55" y="506"/>
                  </a:lnTo>
                  <a:lnTo>
                    <a:pt x="49" y="504"/>
                  </a:lnTo>
                  <a:lnTo>
                    <a:pt x="43" y="502"/>
                  </a:lnTo>
                  <a:lnTo>
                    <a:pt x="38" y="498"/>
                  </a:lnTo>
                  <a:lnTo>
                    <a:pt x="32" y="495"/>
                  </a:lnTo>
                  <a:lnTo>
                    <a:pt x="28" y="490"/>
                  </a:lnTo>
                  <a:lnTo>
                    <a:pt x="24" y="484"/>
                  </a:lnTo>
                  <a:lnTo>
                    <a:pt x="19" y="478"/>
                  </a:lnTo>
                  <a:lnTo>
                    <a:pt x="16" y="472"/>
                  </a:lnTo>
                  <a:lnTo>
                    <a:pt x="12" y="465"/>
                  </a:lnTo>
                  <a:lnTo>
                    <a:pt x="9" y="457"/>
                  </a:lnTo>
                  <a:lnTo>
                    <a:pt x="7" y="449"/>
                  </a:lnTo>
                  <a:lnTo>
                    <a:pt x="2" y="430"/>
                  </a:lnTo>
                  <a:lnTo>
                    <a:pt x="0" y="41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Freeform 72"/>
            <p:cNvSpPr/>
            <p:nvPr/>
          </p:nvSpPr>
          <p:spPr>
            <a:xfrm>
              <a:off x="5813640" y="5924520"/>
              <a:ext cx="36360" cy="835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234" h="487">
                  <a:moveTo>
                    <a:pt x="230" y="0"/>
                  </a:moveTo>
                  <a:lnTo>
                    <a:pt x="231" y="2"/>
                  </a:lnTo>
                  <a:lnTo>
                    <a:pt x="232" y="4"/>
                  </a:lnTo>
                  <a:lnTo>
                    <a:pt x="234" y="6"/>
                  </a:lnTo>
                  <a:lnTo>
                    <a:pt x="234" y="9"/>
                  </a:lnTo>
                  <a:lnTo>
                    <a:pt x="232" y="14"/>
                  </a:lnTo>
                  <a:lnTo>
                    <a:pt x="228" y="20"/>
                  </a:lnTo>
                  <a:lnTo>
                    <a:pt x="222" y="26"/>
                  </a:lnTo>
                  <a:lnTo>
                    <a:pt x="215" y="33"/>
                  </a:lnTo>
                  <a:lnTo>
                    <a:pt x="206" y="39"/>
                  </a:lnTo>
                  <a:lnTo>
                    <a:pt x="194" y="46"/>
                  </a:lnTo>
                  <a:lnTo>
                    <a:pt x="181" y="52"/>
                  </a:lnTo>
                  <a:lnTo>
                    <a:pt x="167" y="58"/>
                  </a:lnTo>
                  <a:lnTo>
                    <a:pt x="152" y="63"/>
                  </a:lnTo>
                  <a:lnTo>
                    <a:pt x="136" y="68"/>
                  </a:lnTo>
                  <a:lnTo>
                    <a:pt x="119" y="73"/>
                  </a:lnTo>
                  <a:lnTo>
                    <a:pt x="100" y="75"/>
                  </a:lnTo>
                  <a:lnTo>
                    <a:pt x="82" y="77"/>
                  </a:lnTo>
                  <a:lnTo>
                    <a:pt x="63" y="79"/>
                  </a:lnTo>
                  <a:lnTo>
                    <a:pt x="36" y="77"/>
                  </a:lnTo>
                  <a:lnTo>
                    <a:pt x="19" y="74"/>
                  </a:lnTo>
                  <a:lnTo>
                    <a:pt x="12" y="73"/>
                  </a:lnTo>
                  <a:lnTo>
                    <a:pt x="6" y="70"/>
                  </a:lnTo>
                  <a:lnTo>
                    <a:pt x="2" y="68"/>
                  </a:lnTo>
                  <a:lnTo>
                    <a:pt x="0" y="67"/>
                  </a:lnTo>
                  <a:lnTo>
                    <a:pt x="0" y="476"/>
                  </a:lnTo>
                  <a:lnTo>
                    <a:pt x="2" y="478"/>
                  </a:lnTo>
                  <a:lnTo>
                    <a:pt x="6" y="480"/>
                  </a:lnTo>
                  <a:lnTo>
                    <a:pt x="12" y="483"/>
                  </a:lnTo>
                  <a:lnTo>
                    <a:pt x="19" y="484"/>
                  </a:lnTo>
                  <a:lnTo>
                    <a:pt x="36" y="486"/>
                  </a:lnTo>
                  <a:lnTo>
                    <a:pt x="63" y="487"/>
                  </a:lnTo>
                  <a:lnTo>
                    <a:pt x="82" y="486"/>
                  </a:lnTo>
                  <a:lnTo>
                    <a:pt x="100" y="484"/>
                  </a:lnTo>
                  <a:lnTo>
                    <a:pt x="119" y="482"/>
                  </a:lnTo>
                  <a:lnTo>
                    <a:pt x="136" y="477"/>
                  </a:lnTo>
                  <a:lnTo>
                    <a:pt x="152" y="472"/>
                  </a:lnTo>
                  <a:lnTo>
                    <a:pt x="167" y="466"/>
                  </a:lnTo>
                  <a:lnTo>
                    <a:pt x="181" y="461"/>
                  </a:lnTo>
                  <a:lnTo>
                    <a:pt x="194" y="455"/>
                  </a:lnTo>
                  <a:lnTo>
                    <a:pt x="206" y="448"/>
                  </a:lnTo>
                  <a:lnTo>
                    <a:pt x="215" y="442"/>
                  </a:lnTo>
                  <a:lnTo>
                    <a:pt x="222" y="435"/>
                  </a:lnTo>
                  <a:lnTo>
                    <a:pt x="228" y="429"/>
                  </a:lnTo>
                  <a:lnTo>
                    <a:pt x="232" y="423"/>
                  </a:lnTo>
                  <a:lnTo>
                    <a:pt x="234" y="417"/>
                  </a:lnTo>
                  <a:lnTo>
                    <a:pt x="234" y="415"/>
                  </a:lnTo>
                  <a:lnTo>
                    <a:pt x="232" y="413"/>
                  </a:lnTo>
                  <a:lnTo>
                    <a:pt x="231" y="412"/>
                  </a:lnTo>
                  <a:lnTo>
                    <a:pt x="230" y="409"/>
                  </a:lnTo>
                  <a:lnTo>
                    <a:pt x="23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Freeform 73"/>
            <p:cNvSpPr/>
            <p:nvPr/>
          </p:nvSpPr>
          <p:spPr>
            <a:xfrm>
              <a:off x="5908680" y="5991120"/>
              <a:ext cx="26640" cy="108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167" h="631">
                  <a:moveTo>
                    <a:pt x="0" y="222"/>
                  </a:moveTo>
                  <a:lnTo>
                    <a:pt x="16" y="214"/>
                  </a:lnTo>
                  <a:lnTo>
                    <a:pt x="31" y="204"/>
                  </a:lnTo>
                  <a:lnTo>
                    <a:pt x="46" y="193"/>
                  </a:lnTo>
                  <a:lnTo>
                    <a:pt x="62" y="180"/>
                  </a:lnTo>
                  <a:lnTo>
                    <a:pt x="76" y="166"/>
                  </a:lnTo>
                  <a:lnTo>
                    <a:pt x="90" y="151"/>
                  </a:lnTo>
                  <a:lnTo>
                    <a:pt x="102" y="136"/>
                  </a:lnTo>
                  <a:lnTo>
                    <a:pt x="114" y="119"/>
                  </a:lnTo>
                  <a:lnTo>
                    <a:pt x="126" y="103"/>
                  </a:lnTo>
                  <a:lnTo>
                    <a:pt x="135" y="86"/>
                  </a:lnTo>
                  <a:lnTo>
                    <a:pt x="144" y="70"/>
                  </a:lnTo>
                  <a:lnTo>
                    <a:pt x="151" y="54"/>
                  </a:lnTo>
                  <a:lnTo>
                    <a:pt x="157" y="39"/>
                  </a:lnTo>
                  <a:lnTo>
                    <a:pt x="162" y="25"/>
                  </a:lnTo>
                  <a:lnTo>
                    <a:pt x="165" y="12"/>
                  </a:lnTo>
                  <a:lnTo>
                    <a:pt x="167" y="0"/>
                  </a:lnTo>
                  <a:lnTo>
                    <a:pt x="167" y="404"/>
                  </a:lnTo>
                  <a:lnTo>
                    <a:pt x="167" y="415"/>
                  </a:lnTo>
                  <a:lnTo>
                    <a:pt x="164" y="428"/>
                  </a:lnTo>
                  <a:lnTo>
                    <a:pt x="160" y="442"/>
                  </a:lnTo>
                  <a:lnTo>
                    <a:pt x="155" y="457"/>
                  </a:lnTo>
                  <a:lnTo>
                    <a:pt x="148" y="473"/>
                  </a:lnTo>
                  <a:lnTo>
                    <a:pt x="140" y="489"/>
                  </a:lnTo>
                  <a:lnTo>
                    <a:pt x="129" y="507"/>
                  </a:lnTo>
                  <a:lnTo>
                    <a:pt x="119" y="524"/>
                  </a:lnTo>
                  <a:lnTo>
                    <a:pt x="107" y="541"/>
                  </a:lnTo>
                  <a:lnTo>
                    <a:pt x="93" y="557"/>
                  </a:lnTo>
                  <a:lnTo>
                    <a:pt x="80" y="572"/>
                  </a:lnTo>
                  <a:lnTo>
                    <a:pt x="65" y="588"/>
                  </a:lnTo>
                  <a:lnTo>
                    <a:pt x="50" y="602"/>
                  </a:lnTo>
                  <a:lnTo>
                    <a:pt x="33" y="613"/>
                  </a:lnTo>
                  <a:lnTo>
                    <a:pt x="17" y="623"/>
                  </a:lnTo>
                  <a:lnTo>
                    <a:pt x="0" y="631"/>
                  </a:lnTo>
                  <a:lnTo>
                    <a:pt x="0" y="22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Freeform 74"/>
            <p:cNvSpPr/>
            <p:nvPr/>
          </p:nvSpPr>
          <p:spPr>
            <a:xfrm>
              <a:off x="5840640" y="6044760"/>
              <a:ext cx="26640" cy="964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67" h="559">
                  <a:moveTo>
                    <a:pt x="0" y="146"/>
                  </a:moveTo>
                  <a:lnTo>
                    <a:pt x="12" y="147"/>
                  </a:lnTo>
                  <a:lnTo>
                    <a:pt x="23" y="146"/>
                  </a:lnTo>
                  <a:lnTo>
                    <a:pt x="36" y="144"/>
                  </a:lnTo>
                  <a:lnTo>
                    <a:pt x="48" y="138"/>
                  </a:lnTo>
                  <a:lnTo>
                    <a:pt x="59" y="131"/>
                  </a:lnTo>
                  <a:lnTo>
                    <a:pt x="71" y="120"/>
                  </a:lnTo>
                  <a:lnTo>
                    <a:pt x="76" y="114"/>
                  </a:lnTo>
                  <a:lnTo>
                    <a:pt x="80" y="109"/>
                  </a:lnTo>
                  <a:lnTo>
                    <a:pt x="85" y="102"/>
                  </a:lnTo>
                  <a:lnTo>
                    <a:pt x="89" y="95"/>
                  </a:lnTo>
                  <a:lnTo>
                    <a:pt x="97" y="79"/>
                  </a:lnTo>
                  <a:lnTo>
                    <a:pt x="106" y="65"/>
                  </a:lnTo>
                  <a:lnTo>
                    <a:pt x="116" y="51"/>
                  </a:lnTo>
                  <a:lnTo>
                    <a:pt x="125" y="40"/>
                  </a:lnTo>
                  <a:lnTo>
                    <a:pt x="135" y="28"/>
                  </a:lnTo>
                  <a:lnTo>
                    <a:pt x="145" y="19"/>
                  </a:lnTo>
                  <a:lnTo>
                    <a:pt x="155" y="8"/>
                  </a:lnTo>
                  <a:lnTo>
                    <a:pt x="167" y="0"/>
                  </a:lnTo>
                  <a:lnTo>
                    <a:pt x="167" y="411"/>
                  </a:lnTo>
                  <a:lnTo>
                    <a:pt x="155" y="420"/>
                  </a:lnTo>
                  <a:lnTo>
                    <a:pt x="145" y="430"/>
                  </a:lnTo>
                  <a:lnTo>
                    <a:pt x="135" y="440"/>
                  </a:lnTo>
                  <a:lnTo>
                    <a:pt x="125" y="452"/>
                  </a:lnTo>
                  <a:lnTo>
                    <a:pt x="116" y="464"/>
                  </a:lnTo>
                  <a:lnTo>
                    <a:pt x="106" y="476"/>
                  </a:lnTo>
                  <a:lnTo>
                    <a:pt x="97" y="490"/>
                  </a:lnTo>
                  <a:lnTo>
                    <a:pt x="89" y="507"/>
                  </a:lnTo>
                  <a:lnTo>
                    <a:pt x="85" y="514"/>
                  </a:lnTo>
                  <a:lnTo>
                    <a:pt x="80" y="521"/>
                  </a:lnTo>
                  <a:lnTo>
                    <a:pt x="76" y="527"/>
                  </a:lnTo>
                  <a:lnTo>
                    <a:pt x="71" y="533"/>
                  </a:lnTo>
                  <a:lnTo>
                    <a:pt x="59" y="542"/>
                  </a:lnTo>
                  <a:lnTo>
                    <a:pt x="48" y="550"/>
                  </a:lnTo>
                  <a:lnTo>
                    <a:pt x="36" y="555"/>
                  </a:lnTo>
                  <a:lnTo>
                    <a:pt x="23" y="558"/>
                  </a:lnTo>
                  <a:lnTo>
                    <a:pt x="12" y="559"/>
                  </a:lnTo>
                  <a:lnTo>
                    <a:pt x="0" y="558"/>
                  </a:lnTo>
                  <a:lnTo>
                    <a:pt x="0" y="14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Freeform 75"/>
            <p:cNvSpPr/>
            <p:nvPr/>
          </p:nvSpPr>
          <p:spPr>
            <a:xfrm>
              <a:off x="5868720" y="6027480"/>
              <a:ext cx="41040" cy="853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262" h="501">
                  <a:moveTo>
                    <a:pt x="0" y="90"/>
                  </a:moveTo>
                  <a:lnTo>
                    <a:pt x="15" y="79"/>
                  </a:lnTo>
                  <a:lnTo>
                    <a:pt x="31" y="69"/>
                  </a:lnTo>
                  <a:lnTo>
                    <a:pt x="48" y="61"/>
                  </a:lnTo>
                  <a:lnTo>
                    <a:pt x="64" y="54"/>
                  </a:lnTo>
                  <a:lnTo>
                    <a:pt x="82" y="48"/>
                  </a:lnTo>
                  <a:lnTo>
                    <a:pt x="98" y="43"/>
                  </a:lnTo>
                  <a:lnTo>
                    <a:pt x="114" y="39"/>
                  </a:lnTo>
                  <a:lnTo>
                    <a:pt x="132" y="34"/>
                  </a:lnTo>
                  <a:lnTo>
                    <a:pt x="166" y="27"/>
                  </a:lnTo>
                  <a:lnTo>
                    <a:pt x="199" y="20"/>
                  </a:lnTo>
                  <a:lnTo>
                    <a:pt x="215" y="17"/>
                  </a:lnTo>
                  <a:lnTo>
                    <a:pt x="231" y="12"/>
                  </a:lnTo>
                  <a:lnTo>
                    <a:pt x="246" y="7"/>
                  </a:lnTo>
                  <a:lnTo>
                    <a:pt x="262" y="0"/>
                  </a:lnTo>
                  <a:lnTo>
                    <a:pt x="262" y="410"/>
                  </a:lnTo>
                  <a:lnTo>
                    <a:pt x="242" y="417"/>
                  </a:lnTo>
                  <a:lnTo>
                    <a:pt x="222" y="425"/>
                  </a:lnTo>
                  <a:lnTo>
                    <a:pt x="203" y="431"/>
                  </a:lnTo>
                  <a:lnTo>
                    <a:pt x="185" y="437"/>
                  </a:lnTo>
                  <a:lnTo>
                    <a:pt x="148" y="446"/>
                  </a:lnTo>
                  <a:lnTo>
                    <a:pt x="113" y="456"/>
                  </a:lnTo>
                  <a:lnTo>
                    <a:pt x="82" y="465"/>
                  </a:lnTo>
                  <a:lnTo>
                    <a:pt x="51" y="475"/>
                  </a:lnTo>
                  <a:lnTo>
                    <a:pt x="37" y="480"/>
                  </a:lnTo>
                  <a:lnTo>
                    <a:pt x="24" y="486"/>
                  </a:lnTo>
                  <a:lnTo>
                    <a:pt x="12" y="493"/>
                  </a:lnTo>
                  <a:lnTo>
                    <a:pt x="0" y="501"/>
                  </a:lnTo>
                  <a:lnTo>
                    <a:pt x="0" y="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Freeform 76"/>
            <p:cNvSpPr/>
            <p:nvPr/>
          </p:nvSpPr>
          <p:spPr>
            <a:xfrm>
              <a:off x="5697720" y="5863680"/>
              <a:ext cx="10800" cy="74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71" h="423">
                  <a:moveTo>
                    <a:pt x="0" y="409"/>
                  </a:moveTo>
                  <a:lnTo>
                    <a:pt x="1" y="413"/>
                  </a:lnTo>
                  <a:lnTo>
                    <a:pt x="6" y="416"/>
                  </a:lnTo>
                  <a:lnTo>
                    <a:pt x="11" y="418"/>
                  </a:lnTo>
                  <a:lnTo>
                    <a:pt x="20" y="421"/>
                  </a:lnTo>
                  <a:lnTo>
                    <a:pt x="29" y="422"/>
                  </a:lnTo>
                  <a:lnTo>
                    <a:pt x="41" y="423"/>
                  </a:lnTo>
                  <a:lnTo>
                    <a:pt x="55" y="422"/>
                  </a:lnTo>
                  <a:lnTo>
                    <a:pt x="71" y="421"/>
                  </a:lnTo>
                  <a:lnTo>
                    <a:pt x="71" y="11"/>
                  </a:lnTo>
                  <a:lnTo>
                    <a:pt x="55" y="13"/>
                  </a:lnTo>
                  <a:lnTo>
                    <a:pt x="41" y="13"/>
                  </a:lnTo>
                  <a:lnTo>
                    <a:pt x="29" y="13"/>
                  </a:lnTo>
                  <a:lnTo>
                    <a:pt x="20" y="12"/>
                  </a:lnTo>
                  <a:lnTo>
                    <a:pt x="11" y="10"/>
                  </a:lnTo>
                  <a:lnTo>
                    <a:pt x="6" y="7"/>
                  </a:lnTo>
                  <a:lnTo>
                    <a:pt x="1" y="4"/>
                  </a:lnTo>
                  <a:lnTo>
                    <a:pt x="0" y="0"/>
                  </a:lnTo>
                  <a:lnTo>
                    <a:pt x="0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Freeform 77"/>
            <p:cNvSpPr/>
            <p:nvPr/>
          </p:nvSpPr>
          <p:spPr>
            <a:xfrm>
              <a:off x="5729040" y="5856120"/>
              <a:ext cx="14040" cy="820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92" h="473">
                  <a:moveTo>
                    <a:pt x="0" y="470"/>
                  </a:moveTo>
                  <a:lnTo>
                    <a:pt x="21" y="472"/>
                  </a:lnTo>
                  <a:lnTo>
                    <a:pt x="38" y="473"/>
                  </a:lnTo>
                  <a:lnTo>
                    <a:pt x="45" y="473"/>
                  </a:lnTo>
                  <a:lnTo>
                    <a:pt x="52" y="473"/>
                  </a:lnTo>
                  <a:lnTo>
                    <a:pt x="59" y="472"/>
                  </a:lnTo>
                  <a:lnTo>
                    <a:pt x="66" y="470"/>
                  </a:lnTo>
                  <a:lnTo>
                    <a:pt x="70" y="466"/>
                  </a:lnTo>
                  <a:lnTo>
                    <a:pt x="74" y="462"/>
                  </a:lnTo>
                  <a:lnTo>
                    <a:pt x="78" y="456"/>
                  </a:lnTo>
                  <a:lnTo>
                    <a:pt x="81" y="448"/>
                  </a:lnTo>
                  <a:lnTo>
                    <a:pt x="85" y="439"/>
                  </a:lnTo>
                  <a:lnTo>
                    <a:pt x="88" y="430"/>
                  </a:lnTo>
                  <a:lnTo>
                    <a:pt x="89" y="420"/>
                  </a:lnTo>
                  <a:lnTo>
                    <a:pt x="92" y="409"/>
                  </a:lnTo>
                  <a:lnTo>
                    <a:pt x="92" y="0"/>
                  </a:lnTo>
                  <a:lnTo>
                    <a:pt x="89" y="10"/>
                  </a:lnTo>
                  <a:lnTo>
                    <a:pt x="88" y="19"/>
                  </a:lnTo>
                  <a:lnTo>
                    <a:pt x="85" y="29"/>
                  </a:lnTo>
                  <a:lnTo>
                    <a:pt x="81" y="38"/>
                  </a:lnTo>
                  <a:lnTo>
                    <a:pt x="78" y="46"/>
                  </a:lnTo>
                  <a:lnTo>
                    <a:pt x="74" y="52"/>
                  </a:lnTo>
                  <a:lnTo>
                    <a:pt x="70" y="57"/>
                  </a:lnTo>
                  <a:lnTo>
                    <a:pt x="66" y="60"/>
                  </a:lnTo>
                  <a:lnTo>
                    <a:pt x="59" y="63"/>
                  </a:lnTo>
                  <a:lnTo>
                    <a:pt x="52" y="64"/>
                  </a:lnTo>
                  <a:lnTo>
                    <a:pt x="45" y="64"/>
                  </a:lnTo>
                  <a:lnTo>
                    <a:pt x="38" y="64"/>
                  </a:lnTo>
                  <a:lnTo>
                    <a:pt x="21" y="63"/>
                  </a:lnTo>
                  <a:lnTo>
                    <a:pt x="0" y="60"/>
                  </a:lnTo>
                  <a:lnTo>
                    <a:pt x="0" y="47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Freeform 78"/>
            <p:cNvSpPr/>
            <p:nvPr/>
          </p:nvSpPr>
          <p:spPr>
            <a:xfrm>
              <a:off x="5653080" y="5888160"/>
              <a:ext cx="17280" cy="72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98" h="426">
                  <a:moveTo>
                    <a:pt x="0" y="410"/>
                  </a:moveTo>
                  <a:lnTo>
                    <a:pt x="1" y="412"/>
                  </a:lnTo>
                  <a:lnTo>
                    <a:pt x="1" y="415"/>
                  </a:lnTo>
                  <a:lnTo>
                    <a:pt x="3" y="418"/>
                  </a:lnTo>
                  <a:lnTo>
                    <a:pt x="5" y="420"/>
                  </a:lnTo>
                  <a:lnTo>
                    <a:pt x="10" y="424"/>
                  </a:lnTo>
                  <a:lnTo>
                    <a:pt x="15" y="425"/>
                  </a:lnTo>
                  <a:lnTo>
                    <a:pt x="24" y="426"/>
                  </a:lnTo>
                  <a:lnTo>
                    <a:pt x="32" y="426"/>
                  </a:lnTo>
                  <a:lnTo>
                    <a:pt x="40" y="425"/>
                  </a:lnTo>
                  <a:lnTo>
                    <a:pt x="49" y="424"/>
                  </a:lnTo>
                  <a:lnTo>
                    <a:pt x="83" y="414"/>
                  </a:lnTo>
                  <a:lnTo>
                    <a:pt x="98" y="410"/>
                  </a:lnTo>
                  <a:lnTo>
                    <a:pt x="98" y="0"/>
                  </a:lnTo>
                  <a:lnTo>
                    <a:pt x="83" y="5"/>
                  </a:lnTo>
                  <a:lnTo>
                    <a:pt x="49" y="14"/>
                  </a:lnTo>
                  <a:lnTo>
                    <a:pt x="40" y="15"/>
                  </a:lnTo>
                  <a:lnTo>
                    <a:pt x="32" y="15"/>
                  </a:lnTo>
                  <a:lnTo>
                    <a:pt x="24" y="16"/>
                  </a:lnTo>
                  <a:lnTo>
                    <a:pt x="15" y="15"/>
                  </a:lnTo>
                  <a:lnTo>
                    <a:pt x="10" y="12"/>
                  </a:lnTo>
                  <a:lnTo>
                    <a:pt x="5" y="10"/>
                  </a:lnTo>
                  <a:lnTo>
                    <a:pt x="3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0" y="41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Freeform 79"/>
            <p:cNvSpPr/>
            <p:nvPr/>
          </p:nvSpPr>
          <p:spPr>
            <a:xfrm>
              <a:off x="5829480" y="5968800"/>
              <a:ext cx="104400" cy="1026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655" h="595">
                  <a:moveTo>
                    <a:pt x="9" y="419"/>
                  </a:moveTo>
                  <a:lnTo>
                    <a:pt x="8" y="401"/>
                  </a:lnTo>
                  <a:lnTo>
                    <a:pt x="9" y="386"/>
                  </a:lnTo>
                  <a:lnTo>
                    <a:pt x="10" y="371"/>
                  </a:lnTo>
                  <a:lnTo>
                    <a:pt x="13" y="358"/>
                  </a:lnTo>
                  <a:lnTo>
                    <a:pt x="17" y="345"/>
                  </a:lnTo>
                  <a:lnTo>
                    <a:pt x="22" y="333"/>
                  </a:lnTo>
                  <a:lnTo>
                    <a:pt x="28" y="322"/>
                  </a:lnTo>
                  <a:lnTo>
                    <a:pt x="34" y="312"/>
                  </a:lnTo>
                  <a:lnTo>
                    <a:pt x="42" y="303"/>
                  </a:lnTo>
                  <a:lnTo>
                    <a:pt x="49" y="294"/>
                  </a:lnTo>
                  <a:lnTo>
                    <a:pt x="58" y="285"/>
                  </a:lnTo>
                  <a:lnTo>
                    <a:pt x="68" y="277"/>
                  </a:lnTo>
                  <a:lnTo>
                    <a:pt x="87" y="263"/>
                  </a:lnTo>
                  <a:lnTo>
                    <a:pt x="107" y="250"/>
                  </a:lnTo>
                  <a:lnTo>
                    <a:pt x="152" y="226"/>
                  </a:lnTo>
                  <a:lnTo>
                    <a:pt x="194" y="199"/>
                  </a:lnTo>
                  <a:lnTo>
                    <a:pt x="204" y="192"/>
                  </a:lnTo>
                  <a:lnTo>
                    <a:pt x="214" y="184"/>
                  </a:lnTo>
                  <a:lnTo>
                    <a:pt x="222" y="176"/>
                  </a:lnTo>
                  <a:lnTo>
                    <a:pt x="230" y="167"/>
                  </a:lnTo>
                  <a:lnTo>
                    <a:pt x="238" y="158"/>
                  </a:lnTo>
                  <a:lnTo>
                    <a:pt x="245" y="148"/>
                  </a:lnTo>
                  <a:lnTo>
                    <a:pt x="251" y="137"/>
                  </a:lnTo>
                  <a:lnTo>
                    <a:pt x="257" y="124"/>
                  </a:lnTo>
                  <a:lnTo>
                    <a:pt x="267" y="97"/>
                  </a:lnTo>
                  <a:lnTo>
                    <a:pt x="277" y="75"/>
                  </a:lnTo>
                  <a:lnTo>
                    <a:pt x="286" y="56"/>
                  </a:lnTo>
                  <a:lnTo>
                    <a:pt x="294" y="41"/>
                  </a:lnTo>
                  <a:lnTo>
                    <a:pt x="302" y="30"/>
                  </a:lnTo>
                  <a:lnTo>
                    <a:pt x="311" y="21"/>
                  </a:lnTo>
                  <a:lnTo>
                    <a:pt x="319" y="14"/>
                  </a:lnTo>
                  <a:lnTo>
                    <a:pt x="329" y="10"/>
                  </a:lnTo>
                  <a:lnTo>
                    <a:pt x="340" y="7"/>
                  </a:lnTo>
                  <a:lnTo>
                    <a:pt x="351" y="5"/>
                  </a:lnTo>
                  <a:lnTo>
                    <a:pt x="365" y="5"/>
                  </a:lnTo>
                  <a:lnTo>
                    <a:pt x="382" y="4"/>
                  </a:lnTo>
                  <a:lnTo>
                    <a:pt x="421" y="4"/>
                  </a:lnTo>
                  <a:lnTo>
                    <a:pt x="473" y="0"/>
                  </a:lnTo>
                  <a:lnTo>
                    <a:pt x="481" y="2"/>
                  </a:lnTo>
                  <a:lnTo>
                    <a:pt x="492" y="5"/>
                  </a:lnTo>
                  <a:lnTo>
                    <a:pt x="501" y="10"/>
                  </a:lnTo>
                  <a:lnTo>
                    <a:pt x="513" y="16"/>
                  </a:lnTo>
                  <a:lnTo>
                    <a:pt x="535" y="31"/>
                  </a:lnTo>
                  <a:lnTo>
                    <a:pt x="557" y="49"/>
                  </a:lnTo>
                  <a:lnTo>
                    <a:pt x="580" y="68"/>
                  </a:lnTo>
                  <a:lnTo>
                    <a:pt x="603" y="86"/>
                  </a:lnTo>
                  <a:lnTo>
                    <a:pt x="613" y="94"/>
                  </a:lnTo>
                  <a:lnTo>
                    <a:pt x="624" y="101"/>
                  </a:lnTo>
                  <a:lnTo>
                    <a:pt x="633" y="107"/>
                  </a:lnTo>
                  <a:lnTo>
                    <a:pt x="642" y="110"/>
                  </a:lnTo>
                  <a:lnTo>
                    <a:pt x="647" y="113"/>
                  </a:lnTo>
                  <a:lnTo>
                    <a:pt x="649" y="115"/>
                  </a:lnTo>
                  <a:lnTo>
                    <a:pt x="652" y="118"/>
                  </a:lnTo>
                  <a:lnTo>
                    <a:pt x="654" y="123"/>
                  </a:lnTo>
                  <a:lnTo>
                    <a:pt x="654" y="129"/>
                  </a:lnTo>
                  <a:lnTo>
                    <a:pt x="655" y="135"/>
                  </a:lnTo>
                  <a:lnTo>
                    <a:pt x="654" y="141"/>
                  </a:lnTo>
                  <a:lnTo>
                    <a:pt x="653" y="149"/>
                  </a:lnTo>
                  <a:lnTo>
                    <a:pt x="649" y="164"/>
                  </a:lnTo>
                  <a:lnTo>
                    <a:pt x="642" y="181"/>
                  </a:lnTo>
                  <a:lnTo>
                    <a:pt x="634" y="201"/>
                  </a:lnTo>
                  <a:lnTo>
                    <a:pt x="624" y="221"/>
                  </a:lnTo>
                  <a:lnTo>
                    <a:pt x="611" y="241"/>
                  </a:lnTo>
                  <a:lnTo>
                    <a:pt x="597" y="261"/>
                  </a:lnTo>
                  <a:lnTo>
                    <a:pt x="580" y="281"/>
                  </a:lnTo>
                  <a:lnTo>
                    <a:pt x="564" y="299"/>
                  </a:lnTo>
                  <a:lnTo>
                    <a:pt x="545" y="317"/>
                  </a:lnTo>
                  <a:lnTo>
                    <a:pt x="527" y="332"/>
                  </a:lnTo>
                  <a:lnTo>
                    <a:pt x="517" y="339"/>
                  </a:lnTo>
                  <a:lnTo>
                    <a:pt x="507" y="345"/>
                  </a:lnTo>
                  <a:lnTo>
                    <a:pt x="497" y="351"/>
                  </a:lnTo>
                  <a:lnTo>
                    <a:pt x="487" y="355"/>
                  </a:lnTo>
                  <a:lnTo>
                    <a:pt x="467" y="362"/>
                  </a:lnTo>
                  <a:lnTo>
                    <a:pt x="446" y="369"/>
                  </a:lnTo>
                  <a:lnTo>
                    <a:pt x="424" y="375"/>
                  </a:lnTo>
                  <a:lnTo>
                    <a:pt x="403" y="380"/>
                  </a:lnTo>
                  <a:lnTo>
                    <a:pt x="379" y="385"/>
                  </a:lnTo>
                  <a:lnTo>
                    <a:pt x="357" y="389"/>
                  </a:lnTo>
                  <a:lnTo>
                    <a:pt x="335" y="395"/>
                  </a:lnTo>
                  <a:lnTo>
                    <a:pt x="313" y="402"/>
                  </a:lnTo>
                  <a:lnTo>
                    <a:pt x="291" y="410"/>
                  </a:lnTo>
                  <a:lnTo>
                    <a:pt x="268" y="421"/>
                  </a:lnTo>
                  <a:lnTo>
                    <a:pt x="257" y="427"/>
                  </a:lnTo>
                  <a:lnTo>
                    <a:pt x="246" y="433"/>
                  </a:lnTo>
                  <a:lnTo>
                    <a:pt x="236" y="440"/>
                  </a:lnTo>
                  <a:lnTo>
                    <a:pt x="225" y="448"/>
                  </a:lnTo>
                  <a:lnTo>
                    <a:pt x="215" y="457"/>
                  </a:lnTo>
                  <a:lnTo>
                    <a:pt x="204" y="466"/>
                  </a:lnTo>
                  <a:lnTo>
                    <a:pt x="195" y="476"/>
                  </a:lnTo>
                  <a:lnTo>
                    <a:pt x="184" y="487"/>
                  </a:lnTo>
                  <a:lnTo>
                    <a:pt x="175" y="499"/>
                  </a:lnTo>
                  <a:lnTo>
                    <a:pt x="166" y="513"/>
                  </a:lnTo>
                  <a:lnTo>
                    <a:pt x="156" y="527"/>
                  </a:lnTo>
                  <a:lnTo>
                    <a:pt x="147" y="542"/>
                  </a:lnTo>
                  <a:lnTo>
                    <a:pt x="142" y="552"/>
                  </a:lnTo>
                  <a:lnTo>
                    <a:pt x="136" y="559"/>
                  </a:lnTo>
                  <a:lnTo>
                    <a:pt x="131" y="567"/>
                  </a:lnTo>
                  <a:lnTo>
                    <a:pt x="125" y="573"/>
                  </a:lnTo>
                  <a:lnTo>
                    <a:pt x="118" y="579"/>
                  </a:lnTo>
                  <a:lnTo>
                    <a:pt x="111" y="583"/>
                  </a:lnTo>
                  <a:lnTo>
                    <a:pt x="104" y="587"/>
                  </a:lnTo>
                  <a:lnTo>
                    <a:pt x="97" y="590"/>
                  </a:lnTo>
                  <a:lnTo>
                    <a:pt x="90" y="593"/>
                  </a:lnTo>
                  <a:lnTo>
                    <a:pt x="83" y="594"/>
                  </a:lnTo>
                  <a:lnTo>
                    <a:pt x="76" y="595"/>
                  </a:lnTo>
                  <a:lnTo>
                    <a:pt x="69" y="595"/>
                  </a:lnTo>
                  <a:lnTo>
                    <a:pt x="62" y="594"/>
                  </a:lnTo>
                  <a:lnTo>
                    <a:pt x="55" y="593"/>
                  </a:lnTo>
                  <a:lnTo>
                    <a:pt x="48" y="589"/>
                  </a:lnTo>
                  <a:lnTo>
                    <a:pt x="41" y="587"/>
                  </a:lnTo>
                  <a:lnTo>
                    <a:pt x="35" y="582"/>
                  </a:lnTo>
                  <a:lnTo>
                    <a:pt x="29" y="577"/>
                  </a:lnTo>
                  <a:lnTo>
                    <a:pt x="23" y="572"/>
                  </a:lnTo>
                  <a:lnTo>
                    <a:pt x="18" y="565"/>
                  </a:lnTo>
                  <a:lnTo>
                    <a:pt x="14" y="558"/>
                  </a:lnTo>
                  <a:lnTo>
                    <a:pt x="10" y="548"/>
                  </a:lnTo>
                  <a:lnTo>
                    <a:pt x="7" y="540"/>
                  </a:lnTo>
                  <a:lnTo>
                    <a:pt x="3" y="530"/>
                  </a:lnTo>
                  <a:lnTo>
                    <a:pt x="1" y="519"/>
                  </a:lnTo>
                  <a:lnTo>
                    <a:pt x="0" y="507"/>
                  </a:lnTo>
                  <a:lnTo>
                    <a:pt x="0" y="494"/>
                  </a:lnTo>
                  <a:lnTo>
                    <a:pt x="0" y="480"/>
                  </a:lnTo>
                  <a:lnTo>
                    <a:pt x="0" y="466"/>
                  </a:lnTo>
                  <a:lnTo>
                    <a:pt x="2" y="451"/>
                  </a:lnTo>
                  <a:lnTo>
                    <a:pt x="4" y="435"/>
                  </a:lnTo>
                  <a:lnTo>
                    <a:pt x="9" y="4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Freeform 80"/>
            <p:cNvSpPr/>
            <p:nvPr/>
          </p:nvSpPr>
          <p:spPr>
            <a:xfrm>
              <a:off x="5829480" y="5968800"/>
              <a:ext cx="104400" cy="1026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655" h="595">
                  <a:moveTo>
                    <a:pt x="9" y="419"/>
                  </a:moveTo>
                  <a:lnTo>
                    <a:pt x="8" y="401"/>
                  </a:lnTo>
                  <a:lnTo>
                    <a:pt x="9" y="386"/>
                  </a:lnTo>
                  <a:lnTo>
                    <a:pt x="10" y="371"/>
                  </a:lnTo>
                  <a:lnTo>
                    <a:pt x="13" y="358"/>
                  </a:lnTo>
                  <a:lnTo>
                    <a:pt x="17" y="345"/>
                  </a:lnTo>
                  <a:lnTo>
                    <a:pt x="22" y="333"/>
                  </a:lnTo>
                  <a:lnTo>
                    <a:pt x="28" y="322"/>
                  </a:lnTo>
                  <a:lnTo>
                    <a:pt x="34" y="312"/>
                  </a:lnTo>
                  <a:lnTo>
                    <a:pt x="42" y="303"/>
                  </a:lnTo>
                  <a:lnTo>
                    <a:pt x="49" y="294"/>
                  </a:lnTo>
                  <a:lnTo>
                    <a:pt x="58" y="285"/>
                  </a:lnTo>
                  <a:lnTo>
                    <a:pt x="68" y="277"/>
                  </a:lnTo>
                  <a:lnTo>
                    <a:pt x="87" y="263"/>
                  </a:lnTo>
                  <a:lnTo>
                    <a:pt x="107" y="250"/>
                  </a:lnTo>
                  <a:lnTo>
                    <a:pt x="152" y="226"/>
                  </a:lnTo>
                  <a:lnTo>
                    <a:pt x="194" y="199"/>
                  </a:lnTo>
                  <a:lnTo>
                    <a:pt x="204" y="192"/>
                  </a:lnTo>
                  <a:lnTo>
                    <a:pt x="214" y="184"/>
                  </a:lnTo>
                  <a:lnTo>
                    <a:pt x="222" y="176"/>
                  </a:lnTo>
                  <a:lnTo>
                    <a:pt x="230" y="167"/>
                  </a:lnTo>
                  <a:lnTo>
                    <a:pt x="238" y="158"/>
                  </a:lnTo>
                  <a:lnTo>
                    <a:pt x="245" y="148"/>
                  </a:lnTo>
                  <a:lnTo>
                    <a:pt x="251" y="137"/>
                  </a:lnTo>
                  <a:lnTo>
                    <a:pt x="257" y="124"/>
                  </a:lnTo>
                  <a:lnTo>
                    <a:pt x="267" y="97"/>
                  </a:lnTo>
                  <a:lnTo>
                    <a:pt x="277" y="75"/>
                  </a:lnTo>
                  <a:lnTo>
                    <a:pt x="286" y="56"/>
                  </a:lnTo>
                  <a:lnTo>
                    <a:pt x="294" y="41"/>
                  </a:lnTo>
                  <a:lnTo>
                    <a:pt x="302" y="30"/>
                  </a:lnTo>
                  <a:lnTo>
                    <a:pt x="311" y="21"/>
                  </a:lnTo>
                  <a:lnTo>
                    <a:pt x="319" y="14"/>
                  </a:lnTo>
                  <a:lnTo>
                    <a:pt x="329" y="10"/>
                  </a:lnTo>
                  <a:lnTo>
                    <a:pt x="340" y="7"/>
                  </a:lnTo>
                  <a:lnTo>
                    <a:pt x="351" y="5"/>
                  </a:lnTo>
                  <a:lnTo>
                    <a:pt x="365" y="5"/>
                  </a:lnTo>
                  <a:lnTo>
                    <a:pt x="382" y="4"/>
                  </a:lnTo>
                  <a:lnTo>
                    <a:pt x="421" y="4"/>
                  </a:lnTo>
                  <a:lnTo>
                    <a:pt x="473" y="0"/>
                  </a:lnTo>
                  <a:lnTo>
                    <a:pt x="481" y="2"/>
                  </a:lnTo>
                  <a:lnTo>
                    <a:pt x="492" y="5"/>
                  </a:lnTo>
                  <a:lnTo>
                    <a:pt x="501" y="10"/>
                  </a:lnTo>
                  <a:lnTo>
                    <a:pt x="513" y="16"/>
                  </a:lnTo>
                  <a:lnTo>
                    <a:pt x="535" y="31"/>
                  </a:lnTo>
                  <a:lnTo>
                    <a:pt x="557" y="49"/>
                  </a:lnTo>
                  <a:lnTo>
                    <a:pt x="580" y="68"/>
                  </a:lnTo>
                  <a:lnTo>
                    <a:pt x="603" y="86"/>
                  </a:lnTo>
                  <a:lnTo>
                    <a:pt x="613" y="94"/>
                  </a:lnTo>
                  <a:lnTo>
                    <a:pt x="624" y="101"/>
                  </a:lnTo>
                  <a:lnTo>
                    <a:pt x="633" y="107"/>
                  </a:lnTo>
                  <a:lnTo>
                    <a:pt x="642" y="110"/>
                  </a:lnTo>
                  <a:lnTo>
                    <a:pt x="647" y="113"/>
                  </a:lnTo>
                  <a:lnTo>
                    <a:pt x="649" y="115"/>
                  </a:lnTo>
                  <a:lnTo>
                    <a:pt x="652" y="118"/>
                  </a:lnTo>
                  <a:lnTo>
                    <a:pt x="654" y="123"/>
                  </a:lnTo>
                  <a:lnTo>
                    <a:pt x="654" y="129"/>
                  </a:lnTo>
                  <a:lnTo>
                    <a:pt x="655" y="135"/>
                  </a:lnTo>
                  <a:lnTo>
                    <a:pt x="654" y="141"/>
                  </a:lnTo>
                  <a:lnTo>
                    <a:pt x="653" y="149"/>
                  </a:lnTo>
                  <a:lnTo>
                    <a:pt x="649" y="164"/>
                  </a:lnTo>
                  <a:lnTo>
                    <a:pt x="642" y="181"/>
                  </a:lnTo>
                  <a:lnTo>
                    <a:pt x="634" y="201"/>
                  </a:lnTo>
                  <a:lnTo>
                    <a:pt x="624" y="221"/>
                  </a:lnTo>
                  <a:lnTo>
                    <a:pt x="611" y="241"/>
                  </a:lnTo>
                  <a:lnTo>
                    <a:pt x="597" y="261"/>
                  </a:lnTo>
                  <a:lnTo>
                    <a:pt x="580" y="281"/>
                  </a:lnTo>
                  <a:lnTo>
                    <a:pt x="564" y="299"/>
                  </a:lnTo>
                  <a:lnTo>
                    <a:pt x="545" y="317"/>
                  </a:lnTo>
                  <a:lnTo>
                    <a:pt x="527" y="332"/>
                  </a:lnTo>
                  <a:lnTo>
                    <a:pt x="517" y="339"/>
                  </a:lnTo>
                  <a:lnTo>
                    <a:pt x="507" y="345"/>
                  </a:lnTo>
                  <a:lnTo>
                    <a:pt x="497" y="351"/>
                  </a:lnTo>
                  <a:lnTo>
                    <a:pt x="487" y="355"/>
                  </a:lnTo>
                  <a:lnTo>
                    <a:pt x="467" y="362"/>
                  </a:lnTo>
                  <a:lnTo>
                    <a:pt x="446" y="369"/>
                  </a:lnTo>
                  <a:lnTo>
                    <a:pt x="424" y="375"/>
                  </a:lnTo>
                  <a:lnTo>
                    <a:pt x="403" y="380"/>
                  </a:lnTo>
                  <a:lnTo>
                    <a:pt x="379" y="385"/>
                  </a:lnTo>
                  <a:lnTo>
                    <a:pt x="357" y="389"/>
                  </a:lnTo>
                  <a:lnTo>
                    <a:pt x="335" y="395"/>
                  </a:lnTo>
                  <a:lnTo>
                    <a:pt x="313" y="402"/>
                  </a:lnTo>
                  <a:lnTo>
                    <a:pt x="291" y="410"/>
                  </a:lnTo>
                  <a:lnTo>
                    <a:pt x="268" y="421"/>
                  </a:lnTo>
                  <a:lnTo>
                    <a:pt x="257" y="427"/>
                  </a:lnTo>
                  <a:lnTo>
                    <a:pt x="246" y="433"/>
                  </a:lnTo>
                  <a:lnTo>
                    <a:pt x="236" y="440"/>
                  </a:lnTo>
                  <a:lnTo>
                    <a:pt x="225" y="448"/>
                  </a:lnTo>
                  <a:lnTo>
                    <a:pt x="215" y="457"/>
                  </a:lnTo>
                  <a:lnTo>
                    <a:pt x="204" y="466"/>
                  </a:lnTo>
                  <a:lnTo>
                    <a:pt x="195" y="476"/>
                  </a:lnTo>
                  <a:lnTo>
                    <a:pt x="184" y="487"/>
                  </a:lnTo>
                  <a:lnTo>
                    <a:pt x="175" y="499"/>
                  </a:lnTo>
                  <a:lnTo>
                    <a:pt x="166" y="513"/>
                  </a:lnTo>
                  <a:lnTo>
                    <a:pt x="156" y="527"/>
                  </a:lnTo>
                  <a:lnTo>
                    <a:pt x="147" y="542"/>
                  </a:lnTo>
                  <a:lnTo>
                    <a:pt x="142" y="552"/>
                  </a:lnTo>
                  <a:lnTo>
                    <a:pt x="136" y="559"/>
                  </a:lnTo>
                  <a:lnTo>
                    <a:pt x="131" y="567"/>
                  </a:lnTo>
                  <a:lnTo>
                    <a:pt x="125" y="573"/>
                  </a:lnTo>
                  <a:lnTo>
                    <a:pt x="118" y="579"/>
                  </a:lnTo>
                  <a:lnTo>
                    <a:pt x="111" y="583"/>
                  </a:lnTo>
                  <a:lnTo>
                    <a:pt x="104" y="587"/>
                  </a:lnTo>
                  <a:lnTo>
                    <a:pt x="97" y="590"/>
                  </a:lnTo>
                  <a:lnTo>
                    <a:pt x="90" y="593"/>
                  </a:lnTo>
                  <a:lnTo>
                    <a:pt x="83" y="594"/>
                  </a:lnTo>
                  <a:lnTo>
                    <a:pt x="76" y="595"/>
                  </a:lnTo>
                  <a:lnTo>
                    <a:pt x="69" y="595"/>
                  </a:lnTo>
                  <a:lnTo>
                    <a:pt x="62" y="594"/>
                  </a:lnTo>
                  <a:lnTo>
                    <a:pt x="55" y="593"/>
                  </a:lnTo>
                  <a:lnTo>
                    <a:pt x="48" y="589"/>
                  </a:lnTo>
                  <a:lnTo>
                    <a:pt x="41" y="587"/>
                  </a:lnTo>
                  <a:lnTo>
                    <a:pt x="35" y="582"/>
                  </a:lnTo>
                  <a:lnTo>
                    <a:pt x="29" y="577"/>
                  </a:lnTo>
                  <a:lnTo>
                    <a:pt x="23" y="572"/>
                  </a:lnTo>
                  <a:lnTo>
                    <a:pt x="18" y="565"/>
                  </a:lnTo>
                  <a:lnTo>
                    <a:pt x="14" y="558"/>
                  </a:lnTo>
                  <a:lnTo>
                    <a:pt x="10" y="548"/>
                  </a:lnTo>
                  <a:lnTo>
                    <a:pt x="7" y="540"/>
                  </a:lnTo>
                  <a:lnTo>
                    <a:pt x="3" y="530"/>
                  </a:lnTo>
                  <a:lnTo>
                    <a:pt x="1" y="519"/>
                  </a:lnTo>
                  <a:lnTo>
                    <a:pt x="0" y="507"/>
                  </a:lnTo>
                  <a:lnTo>
                    <a:pt x="0" y="494"/>
                  </a:lnTo>
                  <a:lnTo>
                    <a:pt x="0" y="480"/>
                  </a:lnTo>
                  <a:lnTo>
                    <a:pt x="0" y="466"/>
                  </a:lnTo>
                  <a:lnTo>
                    <a:pt x="2" y="451"/>
                  </a:lnTo>
                  <a:lnTo>
                    <a:pt x="4" y="435"/>
                  </a:lnTo>
                  <a:lnTo>
                    <a:pt x="9" y="4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Freeform 81"/>
            <p:cNvSpPr/>
            <p:nvPr/>
          </p:nvSpPr>
          <p:spPr>
            <a:xfrm>
              <a:off x="5842440" y="5905440"/>
              <a:ext cx="64440" cy="2808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6" h="160">
                  <a:moveTo>
                    <a:pt x="372" y="127"/>
                  </a:moveTo>
                  <a:lnTo>
                    <a:pt x="364" y="132"/>
                  </a:lnTo>
                  <a:lnTo>
                    <a:pt x="353" y="137"/>
                  </a:lnTo>
                  <a:lnTo>
                    <a:pt x="340" y="142"/>
                  </a:lnTo>
                  <a:lnTo>
                    <a:pt x="326" y="146"/>
                  </a:lnTo>
                  <a:lnTo>
                    <a:pt x="311" y="150"/>
                  </a:lnTo>
                  <a:lnTo>
                    <a:pt x="295" y="153"/>
                  </a:lnTo>
                  <a:lnTo>
                    <a:pt x="278" y="156"/>
                  </a:lnTo>
                  <a:lnTo>
                    <a:pt x="262" y="158"/>
                  </a:lnTo>
                  <a:lnTo>
                    <a:pt x="246" y="160"/>
                  </a:lnTo>
                  <a:lnTo>
                    <a:pt x="230" y="160"/>
                  </a:lnTo>
                  <a:lnTo>
                    <a:pt x="215" y="160"/>
                  </a:lnTo>
                  <a:lnTo>
                    <a:pt x="202" y="158"/>
                  </a:lnTo>
                  <a:lnTo>
                    <a:pt x="191" y="156"/>
                  </a:lnTo>
                  <a:lnTo>
                    <a:pt x="181" y="154"/>
                  </a:lnTo>
                  <a:lnTo>
                    <a:pt x="178" y="151"/>
                  </a:lnTo>
                  <a:lnTo>
                    <a:pt x="174" y="149"/>
                  </a:lnTo>
                  <a:lnTo>
                    <a:pt x="172" y="147"/>
                  </a:lnTo>
                  <a:lnTo>
                    <a:pt x="171" y="144"/>
                  </a:lnTo>
                  <a:lnTo>
                    <a:pt x="167" y="137"/>
                  </a:lnTo>
                  <a:lnTo>
                    <a:pt x="163" y="132"/>
                  </a:lnTo>
                  <a:lnTo>
                    <a:pt x="158" y="126"/>
                  </a:lnTo>
                  <a:lnTo>
                    <a:pt x="153" y="121"/>
                  </a:lnTo>
                  <a:lnTo>
                    <a:pt x="142" y="112"/>
                  </a:lnTo>
                  <a:lnTo>
                    <a:pt x="130" y="104"/>
                  </a:lnTo>
                  <a:lnTo>
                    <a:pt x="116" y="98"/>
                  </a:lnTo>
                  <a:lnTo>
                    <a:pt x="102" y="92"/>
                  </a:lnTo>
                  <a:lnTo>
                    <a:pt x="87" y="88"/>
                  </a:lnTo>
                  <a:lnTo>
                    <a:pt x="73" y="85"/>
                  </a:lnTo>
                  <a:lnTo>
                    <a:pt x="46" y="81"/>
                  </a:lnTo>
                  <a:lnTo>
                    <a:pt x="22" y="80"/>
                  </a:lnTo>
                  <a:lnTo>
                    <a:pt x="6" y="80"/>
                  </a:lnTo>
                  <a:lnTo>
                    <a:pt x="0" y="80"/>
                  </a:lnTo>
                  <a:lnTo>
                    <a:pt x="79" y="5"/>
                  </a:lnTo>
                  <a:lnTo>
                    <a:pt x="93" y="3"/>
                  </a:lnTo>
                  <a:lnTo>
                    <a:pt x="107" y="2"/>
                  </a:lnTo>
                  <a:lnTo>
                    <a:pt x="121" y="2"/>
                  </a:lnTo>
                  <a:lnTo>
                    <a:pt x="133" y="2"/>
                  </a:lnTo>
                  <a:lnTo>
                    <a:pt x="159" y="5"/>
                  </a:lnTo>
                  <a:lnTo>
                    <a:pt x="185" y="10"/>
                  </a:lnTo>
                  <a:lnTo>
                    <a:pt x="209" y="14"/>
                  </a:lnTo>
                  <a:lnTo>
                    <a:pt x="233" y="15"/>
                  </a:lnTo>
                  <a:lnTo>
                    <a:pt x="244" y="15"/>
                  </a:lnTo>
                  <a:lnTo>
                    <a:pt x="256" y="14"/>
                  </a:lnTo>
                  <a:lnTo>
                    <a:pt x="268" y="10"/>
                  </a:lnTo>
                  <a:lnTo>
                    <a:pt x="279" y="5"/>
                  </a:lnTo>
                  <a:lnTo>
                    <a:pt x="285" y="3"/>
                  </a:lnTo>
                  <a:lnTo>
                    <a:pt x="292" y="1"/>
                  </a:lnTo>
                  <a:lnTo>
                    <a:pt x="298" y="0"/>
                  </a:lnTo>
                  <a:lnTo>
                    <a:pt x="305" y="0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7" y="8"/>
                  </a:lnTo>
                  <a:lnTo>
                    <a:pt x="360" y="14"/>
                  </a:lnTo>
                  <a:lnTo>
                    <a:pt x="373" y="22"/>
                  </a:lnTo>
                  <a:lnTo>
                    <a:pt x="383" y="31"/>
                  </a:lnTo>
                  <a:lnTo>
                    <a:pt x="393" y="42"/>
                  </a:lnTo>
                  <a:lnTo>
                    <a:pt x="400" y="53"/>
                  </a:lnTo>
                  <a:lnTo>
                    <a:pt x="402" y="59"/>
                  </a:lnTo>
                  <a:lnTo>
                    <a:pt x="403" y="65"/>
                  </a:lnTo>
                  <a:lnTo>
                    <a:pt x="404" y="72"/>
                  </a:lnTo>
                  <a:lnTo>
                    <a:pt x="406" y="78"/>
                  </a:lnTo>
                  <a:lnTo>
                    <a:pt x="404" y="84"/>
                  </a:lnTo>
                  <a:lnTo>
                    <a:pt x="403" y="91"/>
                  </a:lnTo>
                  <a:lnTo>
                    <a:pt x="401" y="97"/>
                  </a:lnTo>
                  <a:lnTo>
                    <a:pt x="397" y="102"/>
                  </a:lnTo>
                  <a:lnTo>
                    <a:pt x="393" y="109"/>
                  </a:lnTo>
                  <a:lnTo>
                    <a:pt x="387" y="115"/>
                  </a:lnTo>
                  <a:lnTo>
                    <a:pt x="380" y="121"/>
                  </a:lnTo>
                  <a:lnTo>
                    <a:pt x="372" y="1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Freeform 82"/>
            <p:cNvSpPr/>
            <p:nvPr/>
          </p:nvSpPr>
          <p:spPr>
            <a:xfrm>
              <a:off x="5842440" y="5905440"/>
              <a:ext cx="64440" cy="2808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6" h="160">
                  <a:moveTo>
                    <a:pt x="372" y="127"/>
                  </a:moveTo>
                  <a:lnTo>
                    <a:pt x="364" y="132"/>
                  </a:lnTo>
                  <a:lnTo>
                    <a:pt x="353" y="137"/>
                  </a:lnTo>
                  <a:lnTo>
                    <a:pt x="340" y="142"/>
                  </a:lnTo>
                  <a:lnTo>
                    <a:pt x="326" y="146"/>
                  </a:lnTo>
                  <a:lnTo>
                    <a:pt x="311" y="150"/>
                  </a:lnTo>
                  <a:lnTo>
                    <a:pt x="295" y="153"/>
                  </a:lnTo>
                  <a:lnTo>
                    <a:pt x="278" y="156"/>
                  </a:lnTo>
                  <a:lnTo>
                    <a:pt x="262" y="158"/>
                  </a:lnTo>
                  <a:lnTo>
                    <a:pt x="246" y="160"/>
                  </a:lnTo>
                  <a:lnTo>
                    <a:pt x="230" y="160"/>
                  </a:lnTo>
                  <a:lnTo>
                    <a:pt x="215" y="160"/>
                  </a:lnTo>
                  <a:lnTo>
                    <a:pt x="202" y="158"/>
                  </a:lnTo>
                  <a:lnTo>
                    <a:pt x="191" y="156"/>
                  </a:lnTo>
                  <a:lnTo>
                    <a:pt x="181" y="154"/>
                  </a:lnTo>
                  <a:lnTo>
                    <a:pt x="178" y="151"/>
                  </a:lnTo>
                  <a:lnTo>
                    <a:pt x="174" y="149"/>
                  </a:lnTo>
                  <a:lnTo>
                    <a:pt x="172" y="147"/>
                  </a:lnTo>
                  <a:lnTo>
                    <a:pt x="171" y="144"/>
                  </a:lnTo>
                  <a:lnTo>
                    <a:pt x="167" y="137"/>
                  </a:lnTo>
                  <a:lnTo>
                    <a:pt x="163" y="132"/>
                  </a:lnTo>
                  <a:lnTo>
                    <a:pt x="158" y="126"/>
                  </a:lnTo>
                  <a:lnTo>
                    <a:pt x="153" y="121"/>
                  </a:lnTo>
                  <a:lnTo>
                    <a:pt x="142" y="112"/>
                  </a:lnTo>
                  <a:lnTo>
                    <a:pt x="130" y="104"/>
                  </a:lnTo>
                  <a:lnTo>
                    <a:pt x="116" y="98"/>
                  </a:lnTo>
                  <a:lnTo>
                    <a:pt x="102" y="92"/>
                  </a:lnTo>
                  <a:lnTo>
                    <a:pt x="87" y="88"/>
                  </a:lnTo>
                  <a:lnTo>
                    <a:pt x="73" y="85"/>
                  </a:lnTo>
                  <a:lnTo>
                    <a:pt x="46" y="81"/>
                  </a:lnTo>
                  <a:lnTo>
                    <a:pt x="22" y="80"/>
                  </a:lnTo>
                  <a:lnTo>
                    <a:pt x="6" y="80"/>
                  </a:lnTo>
                  <a:lnTo>
                    <a:pt x="0" y="80"/>
                  </a:lnTo>
                  <a:lnTo>
                    <a:pt x="79" y="5"/>
                  </a:lnTo>
                  <a:lnTo>
                    <a:pt x="93" y="3"/>
                  </a:lnTo>
                  <a:lnTo>
                    <a:pt x="107" y="2"/>
                  </a:lnTo>
                  <a:lnTo>
                    <a:pt x="121" y="2"/>
                  </a:lnTo>
                  <a:lnTo>
                    <a:pt x="133" y="2"/>
                  </a:lnTo>
                  <a:lnTo>
                    <a:pt x="159" y="5"/>
                  </a:lnTo>
                  <a:lnTo>
                    <a:pt x="185" y="10"/>
                  </a:lnTo>
                  <a:lnTo>
                    <a:pt x="209" y="14"/>
                  </a:lnTo>
                  <a:lnTo>
                    <a:pt x="233" y="15"/>
                  </a:lnTo>
                  <a:lnTo>
                    <a:pt x="244" y="15"/>
                  </a:lnTo>
                  <a:lnTo>
                    <a:pt x="256" y="14"/>
                  </a:lnTo>
                  <a:lnTo>
                    <a:pt x="268" y="10"/>
                  </a:lnTo>
                  <a:lnTo>
                    <a:pt x="279" y="5"/>
                  </a:lnTo>
                  <a:lnTo>
                    <a:pt x="285" y="3"/>
                  </a:lnTo>
                  <a:lnTo>
                    <a:pt x="292" y="1"/>
                  </a:lnTo>
                  <a:lnTo>
                    <a:pt x="298" y="0"/>
                  </a:lnTo>
                  <a:lnTo>
                    <a:pt x="305" y="0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7" y="8"/>
                  </a:lnTo>
                  <a:lnTo>
                    <a:pt x="360" y="14"/>
                  </a:lnTo>
                  <a:lnTo>
                    <a:pt x="373" y="22"/>
                  </a:lnTo>
                  <a:lnTo>
                    <a:pt x="383" y="31"/>
                  </a:lnTo>
                  <a:lnTo>
                    <a:pt x="393" y="42"/>
                  </a:lnTo>
                  <a:lnTo>
                    <a:pt x="400" y="53"/>
                  </a:lnTo>
                  <a:lnTo>
                    <a:pt x="402" y="59"/>
                  </a:lnTo>
                  <a:lnTo>
                    <a:pt x="403" y="65"/>
                  </a:lnTo>
                  <a:lnTo>
                    <a:pt x="404" y="72"/>
                  </a:lnTo>
                  <a:lnTo>
                    <a:pt x="406" y="78"/>
                  </a:lnTo>
                  <a:lnTo>
                    <a:pt x="404" y="84"/>
                  </a:lnTo>
                  <a:lnTo>
                    <a:pt x="403" y="91"/>
                  </a:lnTo>
                  <a:lnTo>
                    <a:pt x="401" y="97"/>
                  </a:lnTo>
                  <a:lnTo>
                    <a:pt x="397" y="102"/>
                  </a:lnTo>
                  <a:lnTo>
                    <a:pt x="393" y="109"/>
                  </a:lnTo>
                  <a:lnTo>
                    <a:pt x="387" y="115"/>
                  </a:lnTo>
                  <a:lnTo>
                    <a:pt x="380" y="121"/>
                  </a:lnTo>
                  <a:lnTo>
                    <a:pt x="372" y="1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Freeform 83"/>
            <p:cNvSpPr/>
            <p:nvPr/>
          </p:nvSpPr>
          <p:spPr>
            <a:xfrm>
              <a:off x="5810400" y="5924520"/>
              <a:ext cx="37800" cy="133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235" h="84">
                  <a:moveTo>
                    <a:pt x="170" y="6"/>
                  </a:moveTo>
                  <a:lnTo>
                    <a:pt x="124" y="17"/>
                  </a:lnTo>
                  <a:lnTo>
                    <a:pt x="81" y="30"/>
                  </a:lnTo>
                  <a:lnTo>
                    <a:pt x="62" y="37"/>
                  </a:lnTo>
                  <a:lnTo>
                    <a:pt x="45" y="43"/>
                  </a:lnTo>
                  <a:lnTo>
                    <a:pt x="30" y="50"/>
                  </a:lnTo>
                  <a:lnTo>
                    <a:pt x="18" y="56"/>
                  </a:lnTo>
                  <a:lnTo>
                    <a:pt x="9" y="62"/>
                  </a:lnTo>
                  <a:lnTo>
                    <a:pt x="3" y="66"/>
                  </a:lnTo>
                  <a:lnTo>
                    <a:pt x="1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6"/>
                  </a:lnTo>
                  <a:lnTo>
                    <a:pt x="10" y="79"/>
                  </a:lnTo>
                  <a:lnTo>
                    <a:pt x="23" y="82"/>
                  </a:lnTo>
                  <a:lnTo>
                    <a:pt x="40" y="84"/>
                  </a:lnTo>
                  <a:lnTo>
                    <a:pt x="63" y="84"/>
                  </a:lnTo>
                  <a:lnTo>
                    <a:pt x="89" y="83"/>
                  </a:lnTo>
                  <a:lnTo>
                    <a:pt x="114" y="79"/>
                  </a:lnTo>
                  <a:lnTo>
                    <a:pt x="137" y="75"/>
                  </a:lnTo>
                  <a:lnTo>
                    <a:pt x="158" y="68"/>
                  </a:lnTo>
                  <a:lnTo>
                    <a:pt x="178" y="59"/>
                  </a:lnTo>
                  <a:lnTo>
                    <a:pt x="195" y="51"/>
                  </a:lnTo>
                  <a:lnTo>
                    <a:pt x="209" y="42"/>
                  </a:lnTo>
                  <a:lnTo>
                    <a:pt x="221" y="34"/>
                  </a:lnTo>
                  <a:lnTo>
                    <a:pt x="229" y="24"/>
                  </a:lnTo>
                  <a:lnTo>
                    <a:pt x="235" y="17"/>
                  </a:lnTo>
                  <a:lnTo>
                    <a:pt x="235" y="14"/>
                  </a:lnTo>
                  <a:lnTo>
                    <a:pt x="235" y="10"/>
                  </a:lnTo>
                  <a:lnTo>
                    <a:pt x="234" y="7"/>
                  </a:lnTo>
                  <a:lnTo>
                    <a:pt x="233" y="5"/>
                  </a:lnTo>
                  <a:lnTo>
                    <a:pt x="229" y="3"/>
                  </a:lnTo>
                  <a:lnTo>
                    <a:pt x="225" y="1"/>
                  </a:lnTo>
                  <a:lnTo>
                    <a:pt x="219" y="1"/>
                  </a:lnTo>
                  <a:lnTo>
                    <a:pt x="212" y="0"/>
                  </a:lnTo>
                  <a:lnTo>
                    <a:pt x="193" y="2"/>
                  </a:lnTo>
                  <a:lnTo>
                    <a:pt x="170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Freeform 84"/>
            <p:cNvSpPr/>
            <p:nvPr/>
          </p:nvSpPr>
          <p:spPr>
            <a:xfrm>
              <a:off x="5810400" y="5924520"/>
              <a:ext cx="37800" cy="133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235" h="84">
                  <a:moveTo>
                    <a:pt x="170" y="6"/>
                  </a:moveTo>
                  <a:lnTo>
                    <a:pt x="124" y="17"/>
                  </a:lnTo>
                  <a:lnTo>
                    <a:pt x="81" y="30"/>
                  </a:lnTo>
                  <a:lnTo>
                    <a:pt x="62" y="37"/>
                  </a:lnTo>
                  <a:lnTo>
                    <a:pt x="45" y="43"/>
                  </a:lnTo>
                  <a:lnTo>
                    <a:pt x="30" y="50"/>
                  </a:lnTo>
                  <a:lnTo>
                    <a:pt x="18" y="56"/>
                  </a:lnTo>
                  <a:lnTo>
                    <a:pt x="9" y="62"/>
                  </a:lnTo>
                  <a:lnTo>
                    <a:pt x="3" y="66"/>
                  </a:lnTo>
                  <a:lnTo>
                    <a:pt x="1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6"/>
                  </a:lnTo>
                  <a:lnTo>
                    <a:pt x="10" y="79"/>
                  </a:lnTo>
                  <a:lnTo>
                    <a:pt x="23" y="82"/>
                  </a:lnTo>
                  <a:lnTo>
                    <a:pt x="40" y="84"/>
                  </a:lnTo>
                  <a:lnTo>
                    <a:pt x="63" y="84"/>
                  </a:lnTo>
                  <a:lnTo>
                    <a:pt x="89" y="83"/>
                  </a:lnTo>
                  <a:lnTo>
                    <a:pt x="114" y="79"/>
                  </a:lnTo>
                  <a:lnTo>
                    <a:pt x="137" y="75"/>
                  </a:lnTo>
                  <a:lnTo>
                    <a:pt x="158" y="68"/>
                  </a:lnTo>
                  <a:lnTo>
                    <a:pt x="178" y="59"/>
                  </a:lnTo>
                  <a:lnTo>
                    <a:pt x="195" y="51"/>
                  </a:lnTo>
                  <a:lnTo>
                    <a:pt x="209" y="42"/>
                  </a:lnTo>
                  <a:lnTo>
                    <a:pt x="221" y="34"/>
                  </a:lnTo>
                  <a:lnTo>
                    <a:pt x="229" y="24"/>
                  </a:lnTo>
                  <a:lnTo>
                    <a:pt x="235" y="17"/>
                  </a:lnTo>
                  <a:lnTo>
                    <a:pt x="235" y="14"/>
                  </a:lnTo>
                  <a:lnTo>
                    <a:pt x="235" y="10"/>
                  </a:lnTo>
                  <a:lnTo>
                    <a:pt x="234" y="7"/>
                  </a:lnTo>
                  <a:lnTo>
                    <a:pt x="233" y="5"/>
                  </a:lnTo>
                  <a:lnTo>
                    <a:pt x="229" y="3"/>
                  </a:lnTo>
                  <a:lnTo>
                    <a:pt x="225" y="1"/>
                  </a:lnTo>
                  <a:lnTo>
                    <a:pt x="219" y="1"/>
                  </a:lnTo>
                  <a:lnTo>
                    <a:pt x="212" y="0"/>
                  </a:lnTo>
                  <a:lnTo>
                    <a:pt x="193" y="2"/>
                  </a:lnTo>
                  <a:lnTo>
                    <a:pt x="170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Freeform 85"/>
            <p:cNvSpPr/>
            <p:nvPr/>
          </p:nvSpPr>
          <p:spPr>
            <a:xfrm>
              <a:off x="5807160" y="5892480"/>
              <a:ext cx="44280" cy="29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84" h="167">
                  <a:moveTo>
                    <a:pt x="23" y="152"/>
                  </a:moveTo>
                  <a:lnTo>
                    <a:pt x="32" y="158"/>
                  </a:lnTo>
                  <a:lnTo>
                    <a:pt x="41" y="162"/>
                  </a:lnTo>
                  <a:lnTo>
                    <a:pt x="49" y="165"/>
                  </a:lnTo>
                  <a:lnTo>
                    <a:pt x="57" y="166"/>
                  </a:lnTo>
                  <a:lnTo>
                    <a:pt x="65" y="167"/>
                  </a:lnTo>
                  <a:lnTo>
                    <a:pt x="74" y="166"/>
                  </a:lnTo>
                  <a:lnTo>
                    <a:pt x="82" y="165"/>
                  </a:lnTo>
                  <a:lnTo>
                    <a:pt x="90" y="164"/>
                  </a:lnTo>
                  <a:lnTo>
                    <a:pt x="105" y="157"/>
                  </a:lnTo>
                  <a:lnTo>
                    <a:pt x="119" y="149"/>
                  </a:lnTo>
                  <a:lnTo>
                    <a:pt x="133" y="139"/>
                  </a:lnTo>
                  <a:lnTo>
                    <a:pt x="146" y="129"/>
                  </a:lnTo>
                  <a:lnTo>
                    <a:pt x="168" y="108"/>
                  </a:lnTo>
                  <a:lnTo>
                    <a:pt x="187" y="91"/>
                  </a:lnTo>
                  <a:lnTo>
                    <a:pt x="195" y="86"/>
                  </a:lnTo>
                  <a:lnTo>
                    <a:pt x="201" y="84"/>
                  </a:lnTo>
                  <a:lnTo>
                    <a:pt x="204" y="84"/>
                  </a:lnTo>
                  <a:lnTo>
                    <a:pt x="207" y="86"/>
                  </a:lnTo>
                  <a:lnTo>
                    <a:pt x="208" y="88"/>
                  </a:lnTo>
                  <a:lnTo>
                    <a:pt x="210" y="91"/>
                  </a:lnTo>
                  <a:lnTo>
                    <a:pt x="211" y="96"/>
                  </a:lnTo>
                  <a:lnTo>
                    <a:pt x="214" y="98"/>
                  </a:lnTo>
                  <a:lnTo>
                    <a:pt x="217" y="101"/>
                  </a:lnTo>
                  <a:lnTo>
                    <a:pt x="220" y="101"/>
                  </a:lnTo>
                  <a:lnTo>
                    <a:pt x="223" y="102"/>
                  </a:lnTo>
                  <a:lnTo>
                    <a:pt x="228" y="101"/>
                  </a:lnTo>
                  <a:lnTo>
                    <a:pt x="231" y="100"/>
                  </a:lnTo>
                  <a:lnTo>
                    <a:pt x="236" y="97"/>
                  </a:lnTo>
                  <a:lnTo>
                    <a:pt x="245" y="91"/>
                  </a:lnTo>
                  <a:lnTo>
                    <a:pt x="255" y="83"/>
                  </a:lnTo>
                  <a:lnTo>
                    <a:pt x="263" y="74"/>
                  </a:lnTo>
                  <a:lnTo>
                    <a:pt x="271" y="63"/>
                  </a:lnTo>
                  <a:lnTo>
                    <a:pt x="277" y="52"/>
                  </a:lnTo>
                  <a:lnTo>
                    <a:pt x="281" y="41"/>
                  </a:lnTo>
                  <a:lnTo>
                    <a:pt x="283" y="35"/>
                  </a:lnTo>
                  <a:lnTo>
                    <a:pt x="284" y="31"/>
                  </a:lnTo>
                  <a:lnTo>
                    <a:pt x="284" y="26"/>
                  </a:lnTo>
                  <a:lnTo>
                    <a:pt x="283" y="20"/>
                  </a:lnTo>
                  <a:lnTo>
                    <a:pt x="280" y="17"/>
                  </a:lnTo>
                  <a:lnTo>
                    <a:pt x="278" y="12"/>
                  </a:lnTo>
                  <a:lnTo>
                    <a:pt x="274" y="9"/>
                  </a:lnTo>
                  <a:lnTo>
                    <a:pt x="270" y="6"/>
                  </a:lnTo>
                  <a:lnTo>
                    <a:pt x="264" y="4"/>
                  </a:lnTo>
                  <a:lnTo>
                    <a:pt x="257" y="2"/>
                  </a:lnTo>
                  <a:lnTo>
                    <a:pt x="249" y="0"/>
                  </a:lnTo>
                  <a:lnTo>
                    <a:pt x="239" y="0"/>
                  </a:lnTo>
                  <a:lnTo>
                    <a:pt x="218" y="0"/>
                  </a:lnTo>
                  <a:lnTo>
                    <a:pt x="195" y="4"/>
                  </a:lnTo>
                  <a:lnTo>
                    <a:pt x="172" y="9"/>
                  </a:lnTo>
                  <a:lnTo>
                    <a:pt x="147" y="16"/>
                  </a:lnTo>
                  <a:lnTo>
                    <a:pt x="123" y="23"/>
                  </a:lnTo>
                  <a:lnTo>
                    <a:pt x="99" y="32"/>
                  </a:lnTo>
                  <a:lnTo>
                    <a:pt x="77" y="42"/>
                  </a:lnTo>
                  <a:lnTo>
                    <a:pt x="56" y="54"/>
                  </a:lnTo>
                  <a:lnTo>
                    <a:pt x="39" y="66"/>
                  </a:lnTo>
                  <a:lnTo>
                    <a:pt x="22" y="77"/>
                  </a:lnTo>
                  <a:lnTo>
                    <a:pt x="16" y="84"/>
                  </a:lnTo>
                  <a:lnTo>
                    <a:pt x="10" y="90"/>
                  </a:lnTo>
                  <a:lnTo>
                    <a:pt x="6" y="97"/>
                  </a:lnTo>
                  <a:lnTo>
                    <a:pt x="2" y="103"/>
                  </a:lnTo>
                  <a:lnTo>
                    <a:pt x="1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1" y="129"/>
                  </a:lnTo>
                  <a:lnTo>
                    <a:pt x="5" y="135"/>
                  </a:lnTo>
                  <a:lnTo>
                    <a:pt x="9" y="141"/>
                  </a:lnTo>
                  <a:lnTo>
                    <a:pt x="15" y="146"/>
                  </a:lnTo>
                  <a:lnTo>
                    <a:pt x="23" y="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Freeform 86"/>
            <p:cNvSpPr/>
            <p:nvPr/>
          </p:nvSpPr>
          <p:spPr>
            <a:xfrm>
              <a:off x="5807160" y="5892480"/>
              <a:ext cx="44280" cy="29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84" h="167">
                  <a:moveTo>
                    <a:pt x="23" y="152"/>
                  </a:moveTo>
                  <a:lnTo>
                    <a:pt x="32" y="158"/>
                  </a:lnTo>
                  <a:lnTo>
                    <a:pt x="41" y="162"/>
                  </a:lnTo>
                  <a:lnTo>
                    <a:pt x="49" y="165"/>
                  </a:lnTo>
                  <a:lnTo>
                    <a:pt x="57" y="166"/>
                  </a:lnTo>
                  <a:lnTo>
                    <a:pt x="65" y="167"/>
                  </a:lnTo>
                  <a:lnTo>
                    <a:pt x="74" y="166"/>
                  </a:lnTo>
                  <a:lnTo>
                    <a:pt x="82" y="165"/>
                  </a:lnTo>
                  <a:lnTo>
                    <a:pt x="90" y="164"/>
                  </a:lnTo>
                  <a:lnTo>
                    <a:pt x="105" y="157"/>
                  </a:lnTo>
                  <a:lnTo>
                    <a:pt x="119" y="149"/>
                  </a:lnTo>
                  <a:lnTo>
                    <a:pt x="133" y="139"/>
                  </a:lnTo>
                  <a:lnTo>
                    <a:pt x="146" y="129"/>
                  </a:lnTo>
                  <a:lnTo>
                    <a:pt x="168" y="108"/>
                  </a:lnTo>
                  <a:lnTo>
                    <a:pt x="187" y="91"/>
                  </a:lnTo>
                  <a:lnTo>
                    <a:pt x="195" y="86"/>
                  </a:lnTo>
                  <a:lnTo>
                    <a:pt x="201" y="84"/>
                  </a:lnTo>
                  <a:lnTo>
                    <a:pt x="204" y="84"/>
                  </a:lnTo>
                  <a:lnTo>
                    <a:pt x="207" y="86"/>
                  </a:lnTo>
                  <a:lnTo>
                    <a:pt x="208" y="88"/>
                  </a:lnTo>
                  <a:lnTo>
                    <a:pt x="210" y="91"/>
                  </a:lnTo>
                  <a:lnTo>
                    <a:pt x="211" y="96"/>
                  </a:lnTo>
                  <a:lnTo>
                    <a:pt x="214" y="98"/>
                  </a:lnTo>
                  <a:lnTo>
                    <a:pt x="217" y="101"/>
                  </a:lnTo>
                  <a:lnTo>
                    <a:pt x="220" y="101"/>
                  </a:lnTo>
                  <a:lnTo>
                    <a:pt x="223" y="102"/>
                  </a:lnTo>
                  <a:lnTo>
                    <a:pt x="228" y="101"/>
                  </a:lnTo>
                  <a:lnTo>
                    <a:pt x="231" y="100"/>
                  </a:lnTo>
                  <a:lnTo>
                    <a:pt x="236" y="97"/>
                  </a:lnTo>
                  <a:lnTo>
                    <a:pt x="245" y="91"/>
                  </a:lnTo>
                  <a:lnTo>
                    <a:pt x="255" y="83"/>
                  </a:lnTo>
                  <a:lnTo>
                    <a:pt x="263" y="74"/>
                  </a:lnTo>
                  <a:lnTo>
                    <a:pt x="271" y="63"/>
                  </a:lnTo>
                  <a:lnTo>
                    <a:pt x="277" y="52"/>
                  </a:lnTo>
                  <a:lnTo>
                    <a:pt x="281" y="41"/>
                  </a:lnTo>
                  <a:lnTo>
                    <a:pt x="283" y="35"/>
                  </a:lnTo>
                  <a:lnTo>
                    <a:pt x="284" y="31"/>
                  </a:lnTo>
                  <a:lnTo>
                    <a:pt x="284" y="26"/>
                  </a:lnTo>
                  <a:lnTo>
                    <a:pt x="283" y="20"/>
                  </a:lnTo>
                  <a:lnTo>
                    <a:pt x="280" y="17"/>
                  </a:lnTo>
                  <a:lnTo>
                    <a:pt x="278" y="12"/>
                  </a:lnTo>
                  <a:lnTo>
                    <a:pt x="274" y="9"/>
                  </a:lnTo>
                  <a:lnTo>
                    <a:pt x="270" y="6"/>
                  </a:lnTo>
                  <a:lnTo>
                    <a:pt x="264" y="4"/>
                  </a:lnTo>
                  <a:lnTo>
                    <a:pt x="257" y="2"/>
                  </a:lnTo>
                  <a:lnTo>
                    <a:pt x="249" y="0"/>
                  </a:lnTo>
                  <a:lnTo>
                    <a:pt x="239" y="0"/>
                  </a:lnTo>
                  <a:lnTo>
                    <a:pt x="218" y="0"/>
                  </a:lnTo>
                  <a:lnTo>
                    <a:pt x="195" y="4"/>
                  </a:lnTo>
                  <a:lnTo>
                    <a:pt x="172" y="9"/>
                  </a:lnTo>
                  <a:lnTo>
                    <a:pt x="147" y="16"/>
                  </a:lnTo>
                  <a:lnTo>
                    <a:pt x="123" y="23"/>
                  </a:lnTo>
                  <a:lnTo>
                    <a:pt x="99" y="32"/>
                  </a:lnTo>
                  <a:lnTo>
                    <a:pt x="77" y="42"/>
                  </a:lnTo>
                  <a:lnTo>
                    <a:pt x="56" y="54"/>
                  </a:lnTo>
                  <a:lnTo>
                    <a:pt x="39" y="66"/>
                  </a:lnTo>
                  <a:lnTo>
                    <a:pt x="22" y="77"/>
                  </a:lnTo>
                  <a:lnTo>
                    <a:pt x="16" y="84"/>
                  </a:lnTo>
                  <a:lnTo>
                    <a:pt x="10" y="90"/>
                  </a:lnTo>
                  <a:lnTo>
                    <a:pt x="6" y="97"/>
                  </a:lnTo>
                  <a:lnTo>
                    <a:pt x="2" y="103"/>
                  </a:lnTo>
                  <a:lnTo>
                    <a:pt x="1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1" y="129"/>
                  </a:lnTo>
                  <a:lnTo>
                    <a:pt x="5" y="135"/>
                  </a:lnTo>
                  <a:lnTo>
                    <a:pt x="9" y="141"/>
                  </a:lnTo>
                  <a:lnTo>
                    <a:pt x="15" y="146"/>
                  </a:lnTo>
                  <a:lnTo>
                    <a:pt x="23" y="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Freeform 87"/>
            <p:cNvSpPr/>
            <p:nvPr/>
          </p:nvSpPr>
          <p:spPr>
            <a:xfrm>
              <a:off x="5775120" y="5865480"/>
              <a:ext cx="41040" cy="29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57" h="173">
                  <a:moveTo>
                    <a:pt x="163" y="0"/>
                  </a:moveTo>
                  <a:lnTo>
                    <a:pt x="131" y="64"/>
                  </a:lnTo>
                  <a:lnTo>
                    <a:pt x="70" y="64"/>
                  </a:lnTo>
                  <a:lnTo>
                    <a:pt x="54" y="77"/>
                  </a:lnTo>
                  <a:lnTo>
                    <a:pt x="39" y="91"/>
                  </a:lnTo>
                  <a:lnTo>
                    <a:pt x="26" y="103"/>
                  </a:lnTo>
                  <a:lnTo>
                    <a:pt x="15" y="114"/>
                  </a:lnTo>
                  <a:lnTo>
                    <a:pt x="8" y="125"/>
                  </a:lnTo>
                  <a:lnTo>
                    <a:pt x="3" y="134"/>
                  </a:lnTo>
                  <a:lnTo>
                    <a:pt x="1" y="139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1" y="151"/>
                  </a:lnTo>
                  <a:lnTo>
                    <a:pt x="3" y="154"/>
                  </a:lnTo>
                  <a:lnTo>
                    <a:pt x="5" y="158"/>
                  </a:lnTo>
                  <a:lnTo>
                    <a:pt x="8" y="160"/>
                  </a:lnTo>
                  <a:lnTo>
                    <a:pt x="12" y="162"/>
                  </a:lnTo>
                  <a:lnTo>
                    <a:pt x="22" y="167"/>
                  </a:lnTo>
                  <a:lnTo>
                    <a:pt x="36" y="170"/>
                  </a:lnTo>
                  <a:lnTo>
                    <a:pt x="54" y="173"/>
                  </a:lnTo>
                  <a:lnTo>
                    <a:pt x="75" y="173"/>
                  </a:lnTo>
                  <a:lnTo>
                    <a:pt x="101" y="173"/>
                  </a:lnTo>
                  <a:lnTo>
                    <a:pt x="131" y="170"/>
                  </a:lnTo>
                  <a:lnTo>
                    <a:pt x="146" y="168"/>
                  </a:lnTo>
                  <a:lnTo>
                    <a:pt x="160" y="166"/>
                  </a:lnTo>
                  <a:lnTo>
                    <a:pt x="174" y="162"/>
                  </a:lnTo>
                  <a:lnTo>
                    <a:pt x="186" y="159"/>
                  </a:lnTo>
                  <a:lnTo>
                    <a:pt x="198" y="154"/>
                  </a:lnTo>
                  <a:lnTo>
                    <a:pt x="207" y="148"/>
                  </a:lnTo>
                  <a:lnTo>
                    <a:pt x="216" y="142"/>
                  </a:lnTo>
                  <a:lnTo>
                    <a:pt x="224" y="135"/>
                  </a:lnTo>
                  <a:lnTo>
                    <a:pt x="233" y="128"/>
                  </a:lnTo>
                  <a:lnTo>
                    <a:pt x="239" y="121"/>
                  </a:lnTo>
                  <a:lnTo>
                    <a:pt x="243" y="114"/>
                  </a:lnTo>
                  <a:lnTo>
                    <a:pt x="248" y="106"/>
                  </a:lnTo>
                  <a:lnTo>
                    <a:pt x="251" y="99"/>
                  </a:lnTo>
                  <a:lnTo>
                    <a:pt x="254" y="91"/>
                  </a:lnTo>
                  <a:lnTo>
                    <a:pt x="256" y="83"/>
                  </a:lnTo>
                  <a:lnTo>
                    <a:pt x="257" y="75"/>
                  </a:lnTo>
                  <a:lnTo>
                    <a:pt x="257" y="66"/>
                  </a:lnTo>
                  <a:lnTo>
                    <a:pt x="256" y="59"/>
                  </a:lnTo>
                  <a:lnTo>
                    <a:pt x="254" y="51"/>
                  </a:lnTo>
                  <a:lnTo>
                    <a:pt x="251" y="44"/>
                  </a:lnTo>
                  <a:lnTo>
                    <a:pt x="248" y="37"/>
                  </a:lnTo>
                  <a:lnTo>
                    <a:pt x="244" y="30"/>
                  </a:lnTo>
                  <a:lnTo>
                    <a:pt x="240" y="24"/>
                  </a:lnTo>
                  <a:lnTo>
                    <a:pt x="234" y="19"/>
                  </a:lnTo>
                  <a:lnTo>
                    <a:pt x="227" y="14"/>
                  </a:lnTo>
                  <a:lnTo>
                    <a:pt x="220" y="9"/>
                  </a:lnTo>
                  <a:lnTo>
                    <a:pt x="212" y="6"/>
                  </a:lnTo>
                  <a:lnTo>
                    <a:pt x="203" y="3"/>
                  </a:lnTo>
                  <a:lnTo>
                    <a:pt x="194" y="1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Freeform 88"/>
            <p:cNvSpPr/>
            <p:nvPr/>
          </p:nvSpPr>
          <p:spPr>
            <a:xfrm>
              <a:off x="5775120" y="5865480"/>
              <a:ext cx="41040" cy="29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57" h="173">
                  <a:moveTo>
                    <a:pt x="163" y="0"/>
                  </a:moveTo>
                  <a:lnTo>
                    <a:pt x="131" y="64"/>
                  </a:lnTo>
                  <a:lnTo>
                    <a:pt x="70" y="64"/>
                  </a:lnTo>
                  <a:lnTo>
                    <a:pt x="54" y="77"/>
                  </a:lnTo>
                  <a:lnTo>
                    <a:pt x="39" y="91"/>
                  </a:lnTo>
                  <a:lnTo>
                    <a:pt x="26" y="103"/>
                  </a:lnTo>
                  <a:lnTo>
                    <a:pt x="15" y="114"/>
                  </a:lnTo>
                  <a:lnTo>
                    <a:pt x="8" y="125"/>
                  </a:lnTo>
                  <a:lnTo>
                    <a:pt x="3" y="134"/>
                  </a:lnTo>
                  <a:lnTo>
                    <a:pt x="1" y="139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1" y="151"/>
                  </a:lnTo>
                  <a:lnTo>
                    <a:pt x="3" y="154"/>
                  </a:lnTo>
                  <a:lnTo>
                    <a:pt x="5" y="158"/>
                  </a:lnTo>
                  <a:lnTo>
                    <a:pt x="8" y="160"/>
                  </a:lnTo>
                  <a:lnTo>
                    <a:pt x="12" y="162"/>
                  </a:lnTo>
                  <a:lnTo>
                    <a:pt x="22" y="167"/>
                  </a:lnTo>
                  <a:lnTo>
                    <a:pt x="36" y="170"/>
                  </a:lnTo>
                  <a:lnTo>
                    <a:pt x="54" y="173"/>
                  </a:lnTo>
                  <a:lnTo>
                    <a:pt x="75" y="173"/>
                  </a:lnTo>
                  <a:lnTo>
                    <a:pt x="101" y="173"/>
                  </a:lnTo>
                  <a:lnTo>
                    <a:pt x="131" y="170"/>
                  </a:lnTo>
                  <a:lnTo>
                    <a:pt x="146" y="168"/>
                  </a:lnTo>
                  <a:lnTo>
                    <a:pt x="160" y="166"/>
                  </a:lnTo>
                  <a:lnTo>
                    <a:pt x="174" y="162"/>
                  </a:lnTo>
                  <a:lnTo>
                    <a:pt x="186" y="159"/>
                  </a:lnTo>
                  <a:lnTo>
                    <a:pt x="198" y="154"/>
                  </a:lnTo>
                  <a:lnTo>
                    <a:pt x="207" y="148"/>
                  </a:lnTo>
                  <a:lnTo>
                    <a:pt x="216" y="142"/>
                  </a:lnTo>
                  <a:lnTo>
                    <a:pt x="224" y="135"/>
                  </a:lnTo>
                  <a:lnTo>
                    <a:pt x="233" y="128"/>
                  </a:lnTo>
                  <a:lnTo>
                    <a:pt x="239" y="121"/>
                  </a:lnTo>
                  <a:lnTo>
                    <a:pt x="243" y="114"/>
                  </a:lnTo>
                  <a:lnTo>
                    <a:pt x="248" y="106"/>
                  </a:lnTo>
                  <a:lnTo>
                    <a:pt x="251" y="99"/>
                  </a:lnTo>
                  <a:lnTo>
                    <a:pt x="254" y="91"/>
                  </a:lnTo>
                  <a:lnTo>
                    <a:pt x="256" y="83"/>
                  </a:lnTo>
                  <a:lnTo>
                    <a:pt x="257" y="75"/>
                  </a:lnTo>
                  <a:lnTo>
                    <a:pt x="257" y="66"/>
                  </a:lnTo>
                  <a:lnTo>
                    <a:pt x="256" y="59"/>
                  </a:lnTo>
                  <a:lnTo>
                    <a:pt x="254" y="51"/>
                  </a:lnTo>
                  <a:lnTo>
                    <a:pt x="251" y="44"/>
                  </a:lnTo>
                  <a:lnTo>
                    <a:pt x="248" y="37"/>
                  </a:lnTo>
                  <a:lnTo>
                    <a:pt x="244" y="30"/>
                  </a:lnTo>
                  <a:lnTo>
                    <a:pt x="240" y="24"/>
                  </a:lnTo>
                  <a:lnTo>
                    <a:pt x="234" y="19"/>
                  </a:lnTo>
                  <a:lnTo>
                    <a:pt x="227" y="14"/>
                  </a:lnTo>
                  <a:lnTo>
                    <a:pt x="220" y="9"/>
                  </a:lnTo>
                  <a:lnTo>
                    <a:pt x="212" y="6"/>
                  </a:lnTo>
                  <a:lnTo>
                    <a:pt x="203" y="3"/>
                  </a:lnTo>
                  <a:lnTo>
                    <a:pt x="194" y="1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63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Freeform 89"/>
            <p:cNvSpPr/>
            <p:nvPr/>
          </p:nvSpPr>
          <p:spPr>
            <a:xfrm>
              <a:off x="5697720" y="584460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85" h="123">
                  <a:moveTo>
                    <a:pt x="106" y="28"/>
                  </a:moveTo>
                  <a:lnTo>
                    <a:pt x="86" y="36"/>
                  </a:lnTo>
                  <a:lnTo>
                    <a:pt x="68" y="44"/>
                  </a:lnTo>
                  <a:lnTo>
                    <a:pt x="52" y="53"/>
                  </a:lnTo>
                  <a:lnTo>
                    <a:pt x="38" y="62"/>
                  </a:lnTo>
                  <a:lnTo>
                    <a:pt x="25" y="71"/>
                  </a:lnTo>
                  <a:lnTo>
                    <a:pt x="16" y="79"/>
                  </a:lnTo>
                  <a:lnTo>
                    <a:pt x="7" y="87"/>
                  </a:lnTo>
                  <a:lnTo>
                    <a:pt x="3" y="94"/>
                  </a:lnTo>
                  <a:lnTo>
                    <a:pt x="2" y="99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2" y="108"/>
                  </a:lnTo>
                  <a:lnTo>
                    <a:pt x="3" y="111"/>
                  </a:lnTo>
                  <a:lnTo>
                    <a:pt x="5" y="113"/>
                  </a:lnTo>
                  <a:lnTo>
                    <a:pt x="7" y="115"/>
                  </a:lnTo>
                  <a:lnTo>
                    <a:pt x="12" y="118"/>
                  </a:lnTo>
                  <a:lnTo>
                    <a:pt x="21" y="120"/>
                  </a:lnTo>
                  <a:lnTo>
                    <a:pt x="35" y="121"/>
                  </a:lnTo>
                  <a:lnTo>
                    <a:pt x="53" y="121"/>
                  </a:lnTo>
                  <a:lnTo>
                    <a:pt x="74" y="119"/>
                  </a:lnTo>
                  <a:lnTo>
                    <a:pt x="96" y="118"/>
                  </a:lnTo>
                  <a:lnTo>
                    <a:pt x="116" y="115"/>
                  </a:lnTo>
                  <a:lnTo>
                    <a:pt x="135" y="115"/>
                  </a:lnTo>
                  <a:lnTo>
                    <a:pt x="151" y="115"/>
                  </a:lnTo>
                  <a:lnTo>
                    <a:pt x="179" y="116"/>
                  </a:lnTo>
                  <a:lnTo>
                    <a:pt x="203" y="119"/>
                  </a:lnTo>
                  <a:lnTo>
                    <a:pt x="221" y="122"/>
                  </a:lnTo>
                  <a:lnTo>
                    <a:pt x="236" y="123"/>
                  </a:lnTo>
                  <a:lnTo>
                    <a:pt x="243" y="123"/>
                  </a:lnTo>
                  <a:lnTo>
                    <a:pt x="249" y="122"/>
                  </a:lnTo>
                  <a:lnTo>
                    <a:pt x="255" y="121"/>
                  </a:lnTo>
                  <a:lnTo>
                    <a:pt x="262" y="119"/>
                  </a:lnTo>
                  <a:lnTo>
                    <a:pt x="267" y="115"/>
                  </a:lnTo>
                  <a:lnTo>
                    <a:pt x="273" y="107"/>
                  </a:lnTo>
                  <a:lnTo>
                    <a:pt x="277" y="98"/>
                  </a:lnTo>
                  <a:lnTo>
                    <a:pt x="282" y="86"/>
                  </a:lnTo>
                  <a:lnTo>
                    <a:pt x="284" y="73"/>
                  </a:lnTo>
                  <a:lnTo>
                    <a:pt x="285" y="59"/>
                  </a:lnTo>
                  <a:lnTo>
                    <a:pt x="285" y="52"/>
                  </a:lnTo>
                  <a:lnTo>
                    <a:pt x="284" y="46"/>
                  </a:lnTo>
                  <a:lnTo>
                    <a:pt x="283" y="39"/>
                  </a:lnTo>
                  <a:lnTo>
                    <a:pt x="281" y="34"/>
                  </a:lnTo>
                  <a:lnTo>
                    <a:pt x="278" y="28"/>
                  </a:lnTo>
                  <a:lnTo>
                    <a:pt x="274" y="22"/>
                  </a:lnTo>
                  <a:lnTo>
                    <a:pt x="269" y="17"/>
                  </a:lnTo>
                  <a:lnTo>
                    <a:pt x="264" y="13"/>
                  </a:lnTo>
                  <a:lnTo>
                    <a:pt x="257" y="8"/>
                  </a:lnTo>
                  <a:lnTo>
                    <a:pt x="250" y="4"/>
                  </a:lnTo>
                  <a:lnTo>
                    <a:pt x="241" y="2"/>
                  </a:lnTo>
                  <a:lnTo>
                    <a:pt x="232" y="1"/>
                  </a:lnTo>
                  <a:lnTo>
                    <a:pt x="220" y="0"/>
                  </a:lnTo>
                  <a:lnTo>
                    <a:pt x="208" y="0"/>
                  </a:lnTo>
                  <a:lnTo>
                    <a:pt x="194" y="2"/>
                  </a:lnTo>
                  <a:lnTo>
                    <a:pt x="180" y="4"/>
                  </a:lnTo>
                  <a:lnTo>
                    <a:pt x="164" y="8"/>
                  </a:lnTo>
                  <a:lnTo>
                    <a:pt x="146" y="13"/>
                  </a:lnTo>
                  <a:lnTo>
                    <a:pt x="127" y="20"/>
                  </a:lnTo>
                  <a:lnTo>
                    <a:pt x="106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Freeform 90"/>
            <p:cNvSpPr/>
            <p:nvPr/>
          </p:nvSpPr>
          <p:spPr>
            <a:xfrm>
              <a:off x="5697720" y="584460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85" h="123">
                  <a:moveTo>
                    <a:pt x="106" y="28"/>
                  </a:moveTo>
                  <a:lnTo>
                    <a:pt x="86" y="36"/>
                  </a:lnTo>
                  <a:lnTo>
                    <a:pt x="68" y="44"/>
                  </a:lnTo>
                  <a:lnTo>
                    <a:pt x="52" y="53"/>
                  </a:lnTo>
                  <a:lnTo>
                    <a:pt x="38" y="62"/>
                  </a:lnTo>
                  <a:lnTo>
                    <a:pt x="25" y="71"/>
                  </a:lnTo>
                  <a:lnTo>
                    <a:pt x="16" y="79"/>
                  </a:lnTo>
                  <a:lnTo>
                    <a:pt x="7" y="87"/>
                  </a:lnTo>
                  <a:lnTo>
                    <a:pt x="3" y="94"/>
                  </a:lnTo>
                  <a:lnTo>
                    <a:pt x="2" y="99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2" y="108"/>
                  </a:lnTo>
                  <a:lnTo>
                    <a:pt x="3" y="111"/>
                  </a:lnTo>
                  <a:lnTo>
                    <a:pt x="5" y="113"/>
                  </a:lnTo>
                  <a:lnTo>
                    <a:pt x="7" y="115"/>
                  </a:lnTo>
                  <a:lnTo>
                    <a:pt x="12" y="118"/>
                  </a:lnTo>
                  <a:lnTo>
                    <a:pt x="21" y="120"/>
                  </a:lnTo>
                  <a:lnTo>
                    <a:pt x="35" y="121"/>
                  </a:lnTo>
                  <a:lnTo>
                    <a:pt x="53" y="121"/>
                  </a:lnTo>
                  <a:lnTo>
                    <a:pt x="74" y="119"/>
                  </a:lnTo>
                  <a:lnTo>
                    <a:pt x="96" y="118"/>
                  </a:lnTo>
                  <a:lnTo>
                    <a:pt x="116" y="115"/>
                  </a:lnTo>
                  <a:lnTo>
                    <a:pt x="135" y="115"/>
                  </a:lnTo>
                  <a:lnTo>
                    <a:pt x="151" y="115"/>
                  </a:lnTo>
                  <a:lnTo>
                    <a:pt x="179" y="116"/>
                  </a:lnTo>
                  <a:lnTo>
                    <a:pt x="203" y="119"/>
                  </a:lnTo>
                  <a:lnTo>
                    <a:pt x="221" y="122"/>
                  </a:lnTo>
                  <a:lnTo>
                    <a:pt x="236" y="123"/>
                  </a:lnTo>
                  <a:lnTo>
                    <a:pt x="243" y="123"/>
                  </a:lnTo>
                  <a:lnTo>
                    <a:pt x="249" y="122"/>
                  </a:lnTo>
                  <a:lnTo>
                    <a:pt x="255" y="121"/>
                  </a:lnTo>
                  <a:lnTo>
                    <a:pt x="262" y="119"/>
                  </a:lnTo>
                  <a:lnTo>
                    <a:pt x="267" y="115"/>
                  </a:lnTo>
                  <a:lnTo>
                    <a:pt x="273" y="107"/>
                  </a:lnTo>
                  <a:lnTo>
                    <a:pt x="277" y="98"/>
                  </a:lnTo>
                  <a:lnTo>
                    <a:pt x="282" y="86"/>
                  </a:lnTo>
                  <a:lnTo>
                    <a:pt x="284" y="73"/>
                  </a:lnTo>
                  <a:lnTo>
                    <a:pt x="285" y="59"/>
                  </a:lnTo>
                  <a:lnTo>
                    <a:pt x="285" y="52"/>
                  </a:lnTo>
                  <a:lnTo>
                    <a:pt x="284" y="46"/>
                  </a:lnTo>
                  <a:lnTo>
                    <a:pt x="283" y="39"/>
                  </a:lnTo>
                  <a:lnTo>
                    <a:pt x="281" y="34"/>
                  </a:lnTo>
                  <a:lnTo>
                    <a:pt x="278" y="28"/>
                  </a:lnTo>
                  <a:lnTo>
                    <a:pt x="274" y="22"/>
                  </a:lnTo>
                  <a:lnTo>
                    <a:pt x="269" y="17"/>
                  </a:lnTo>
                  <a:lnTo>
                    <a:pt x="264" y="13"/>
                  </a:lnTo>
                  <a:lnTo>
                    <a:pt x="257" y="8"/>
                  </a:lnTo>
                  <a:lnTo>
                    <a:pt x="250" y="4"/>
                  </a:lnTo>
                  <a:lnTo>
                    <a:pt x="241" y="2"/>
                  </a:lnTo>
                  <a:lnTo>
                    <a:pt x="232" y="1"/>
                  </a:lnTo>
                  <a:lnTo>
                    <a:pt x="220" y="0"/>
                  </a:lnTo>
                  <a:lnTo>
                    <a:pt x="208" y="0"/>
                  </a:lnTo>
                  <a:lnTo>
                    <a:pt x="194" y="2"/>
                  </a:lnTo>
                  <a:lnTo>
                    <a:pt x="180" y="4"/>
                  </a:lnTo>
                  <a:lnTo>
                    <a:pt x="164" y="8"/>
                  </a:lnTo>
                  <a:lnTo>
                    <a:pt x="146" y="13"/>
                  </a:lnTo>
                  <a:lnTo>
                    <a:pt x="127" y="20"/>
                  </a:lnTo>
                  <a:lnTo>
                    <a:pt x="106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Freeform 91"/>
            <p:cNvSpPr/>
            <p:nvPr/>
          </p:nvSpPr>
          <p:spPr>
            <a:xfrm>
              <a:off x="5653080" y="5853600"/>
              <a:ext cx="34920" cy="378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07" h="221">
                  <a:moveTo>
                    <a:pt x="207" y="50"/>
                  </a:moveTo>
                  <a:lnTo>
                    <a:pt x="97" y="206"/>
                  </a:lnTo>
                  <a:lnTo>
                    <a:pt x="90" y="208"/>
                  </a:lnTo>
                  <a:lnTo>
                    <a:pt x="73" y="214"/>
                  </a:lnTo>
                  <a:lnTo>
                    <a:pt x="61" y="216"/>
                  </a:lnTo>
                  <a:lnTo>
                    <a:pt x="49" y="218"/>
                  </a:lnTo>
                  <a:lnTo>
                    <a:pt x="38" y="221"/>
                  </a:lnTo>
                  <a:lnTo>
                    <a:pt x="26" y="221"/>
                  </a:lnTo>
                  <a:lnTo>
                    <a:pt x="17" y="221"/>
                  </a:lnTo>
                  <a:lnTo>
                    <a:pt x="9" y="218"/>
                  </a:lnTo>
                  <a:lnTo>
                    <a:pt x="5" y="216"/>
                  </a:lnTo>
                  <a:lnTo>
                    <a:pt x="3" y="214"/>
                  </a:lnTo>
                  <a:lnTo>
                    <a:pt x="2" y="210"/>
                  </a:lnTo>
                  <a:lnTo>
                    <a:pt x="0" y="206"/>
                  </a:lnTo>
                  <a:lnTo>
                    <a:pt x="0" y="202"/>
                  </a:lnTo>
                  <a:lnTo>
                    <a:pt x="2" y="196"/>
                  </a:lnTo>
                  <a:lnTo>
                    <a:pt x="5" y="190"/>
                  </a:lnTo>
                  <a:lnTo>
                    <a:pt x="9" y="183"/>
                  </a:lnTo>
                  <a:lnTo>
                    <a:pt x="20" y="166"/>
                  </a:lnTo>
                  <a:lnTo>
                    <a:pt x="37" y="146"/>
                  </a:lnTo>
                  <a:lnTo>
                    <a:pt x="73" y="102"/>
                  </a:lnTo>
                  <a:lnTo>
                    <a:pt x="102" y="63"/>
                  </a:lnTo>
                  <a:lnTo>
                    <a:pt x="115" y="47"/>
                  </a:lnTo>
                  <a:lnTo>
                    <a:pt x="125" y="33"/>
                  </a:lnTo>
                  <a:lnTo>
                    <a:pt x="136" y="21"/>
                  </a:lnTo>
                  <a:lnTo>
                    <a:pt x="145" y="12"/>
                  </a:lnTo>
                  <a:lnTo>
                    <a:pt x="153" y="5"/>
                  </a:lnTo>
                  <a:lnTo>
                    <a:pt x="162" y="1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72" y="1"/>
                  </a:lnTo>
                  <a:lnTo>
                    <a:pt x="176" y="4"/>
                  </a:lnTo>
                  <a:lnTo>
                    <a:pt x="179" y="6"/>
                  </a:lnTo>
                  <a:lnTo>
                    <a:pt x="184" y="9"/>
                  </a:lnTo>
                  <a:lnTo>
                    <a:pt x="187" y="14"/>
                  </a:lnTo>
                  <a:lnTo>
                    <a:pt x="191" y="19"/>
                  </a:lnTo>
                  <a:lnTo>
                    <a:pt x="199" y="33"/>
                  </a:lnTo>
                  <a:lnTo>
                    <a:pt x="207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Freeform 92"/>
            <p:cNvSpPr/>
            <p:nvPr/>
          </p:nvSpPr>
          <p:spPr>
            <a:xfrm>
              <a:off x="5653080" y="5853600"/>
              <a:ext cx="34920" cy="378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07" h="221">
                  <a:moveTo>
                    <a:pt x="207" y="50"/>
                  </a:moveTo>
                  <a:lnTo>
                    <a:pt x="97" y="206"/>
                  </a:lnTo>
                  <a:lnTo>
                    <a:pt x="90" y="208"/>
                  </a:lnTo>
                  <a:lnTo>
                    <a:pt x="73" y="214"/>
                  </a:lnTo>
                  <a:lnTo>
                    <a:pt x="61" y="216"/>
                  </a:lnTo>
                  <a:lnTo>
                    <a:pt x="49" y="218"/>
                  </a:lnTo>
                  <a:lnTo>
                    <a:pt x="38" y="221"/>
                  </a:lnTo>
                  <a:lnTo>
                    <a:pt x="26" y="221"/>
                  </a:lnTo>
                  <a:lnTo>
                    <a:pt x="17" y="221"/>
                  </a:lnTo>
                  <a:lnTo>
                    <a:pt x="9" y="218"/>
                  </a:lnTo>
                  <a:lnTo>
                    <a:pt x="5" y="216"/>
                  </a:lnTo>
                  <a:lnTo>
                    <a:pt x="3" y="214"/>
                  </a:lnTo>
                  <a:lnTo>
                    <a:pt x="2" y="210"/>
                  </a:lnTo>
                  <a:lnTo>
                    <a:pt x="0" y="206"/>
                  </a:lnTo>
                  <a:lnTo>
                    <a:pt x="0" y="202"/>
                  </a:lnTo>
                  <a:lnTo>
                    <a:pt x="2" y="196"/>
                  </a:lnTo>
                  <a:lnTo>
                    <a:pt x="5" y="190"/>
                  </a:lnTo>
                  <a:lnTo>
                    <a:pt x="9" y="183"/>
                  </a:lnTo>
                  <a:lnTo>
                    <a:pt x="20" y="166"/>
                  </a:lnTo>
                  <a:lnTo>
                    <a:pt x="37" y="146"/>
                  </a:lnTo>
                  <a:lnTo>
                    <a:pt x="73" y="102"/>
                  </a:lnTo>
                  <a:lnTo>
                    <a:pt x="102" y="63"/>
                  </a:lnTo>
                  <a:lnTo>
                    <a:pt x="115" y="47"/>
                  </a:lnTo>
                  <a:lnTo>
                    <a:pt x="125" y="33"/>
                  </a:lnTo>
                  <a:lnTo>
                    <a:pt x="136" y="21"/>
                  </a:lnTo>
                  <a:lnTo>
                    <a:pt x="145" y="12"/>
                  </a:lnTo>
                  <a:lnTo>
                    <a:pt x="153" y="5"/>
                  </a:lnTo>
                  <a:lnTo>
                    <a:pt x="162" y="1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72" y="1"/>
                  </a:lnTo>
                  <a:lnTo>
                    <a:pt x="176" y="4"/>
                  </a:lnTo>
                  <a:lnTo>
                    <a:pt x="179" y="6"/>
                  </a:lnTo>
                  <a:lnTo>
                    <a:pt x="184" y="9"/>
                  </a:lnTo>
                  <a:lnTo>
                    <a:pt x="187" y="14"/>
                  </a:lnTo>
                  <a:lnTo>
                    <a:pt x="191" y="19"/>
                  </a:lnTo>
                  <a:lnTo>
                    <a:pt x="199" y="33"/>
                  </a:lnTo>
                  <a:lnTo>
                    <a:pt x="207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Freeform 93"/>
            <p:cNvSpPr/>
            <p:nvPr/>
          </p:nvSpPr>
          <p:spPr>
            <a:xfrm>
              <a:off x="7319880" y="5053320"/>
              <a:ext cx="231120" cy="705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452" h="422">
                  <a:moveTo>
                    <a:pt x="0" y="206"/>
                  </a:moveTo>
                  <a:lnTo>
                    <a:pt x="24" y="230"/>
                  </a:lnTo>
                  <a:lnTo>
                    <a:pt x="50" y="250"/>
                  </a:lnTo>
                  <a:lnTo>
                    <a:pt x="75" y="268"/>
                  </a:lnTo>
                  <a:lnTo>
                    <a:pt x="98" y="282"/>
                  </a:lnTo>
                  <a:lnTo>
                    <a:pt x="122" y="295"/>
                  </a:lnTo>
                  <a:lnTo>
                    <a:pt x="147" y="306"/>
                  </a:lnTo>
                  <a:lnTo>
                    <a:pt x="171" y="315"/>
                  </a:lnTo>
                  <a:lnTo>
                    <a:pt x="195" y="321"/>
                  </a:lnTo>
                  <a:lnTo>
                    <a:pt x="218" y="327"/>
                  </a:lnTo>
                  <a:lnTo>
                    <a:pt x="243" y="330"/>
                  </a:lnTo>
                  <a:lnTo>
                    <a:pt x="266" y="332"/>
                  </a:lnTo>
                  <a:lnTo>
                    <a:pt x="289" y="334"/>
                  </a:lnTo>
                  <a:lnTo>
                    <a:pt x="336" y="332"/>
                  </a:lnTo>
                  <a:lnTo>
                    <a:pt x="383" y="330"/>
                  </a:lnTo>
                  <a:lnTo>
                    <a:pt x="411" y="329"/>
                  </a:lnTo>
                  <a:lnTo>
                    <a:pt x="438" y="329"/>
                  </a:lnTo>
                  <a:lnTo>
                    <a:pt x="464" y="330"/>
                  </a:lnTo>
                  <a:lnTo>
                    <a:pt x="489" y="331"/>
                  </a:lnTo>
                  <a:lnTo>
                    <a:pt x="514" y="334"/>
                  </a:lnTo>
                  <a:lnTo>
                    <a:pt x="537" y="336"/>
                  </a:lnTo>
                  <a:lnTo>
                    <a:pt x="559" y="341"/>
                  </a:lnTo>
                  <a:lnTo>
                    <a:pt x="581" y="345"/>
                  </a:lnTo>
                  <a:lnTo>
                    <a:pt x="601" y="351"/>
                  </a:lnTo>
                  <a:lnTo>
                    <a:pt x="620" y="357"/>
                  </a:lnTo>
                  <a:lnTo>
                    <a:pt x="638" y="365"/>
                  </a:lnTo>
                  <a:lnTo>
                    <a:pt x="653" y="374"/>
                  </a:lnTo>
                  <a:lnTo>
                    <a:pt x="667" y="384"/>
                  </a:lnTo>
                  <a:lnTo>
                    <a:pt x="678" y="396"/>
                  </a:lnTo>
                  <a:lnTo>
                    <a:pt x="684" y="401"/>
                  </a:lnTo>
                  <a:lnTo>
                    <a:pt x="689" y="408"/>
                  </a:lnTo>
                  <a:lnTo>
                    <a:pt x="694" y="415"/>
                  </a:lnTo>
                  <a:lnTo>
                    <a:pt x="697" y="422"/>
                  </a:lnTo>
                  <a:lnTo>
                    <a:pt x="708" y="405"/>
                  </a:lnTo>
                  <a:lnTo>
                    <a:pt x="718" y="390"/>
                  </a:lnTo>
                  <a:lnTo>
                    <a:pt x="730" y="374"/>
                  </a:lnTo>
                  <a:lnTo>
                    <a:pt x="744" y="360"/>
                  </a:lnTo>
                  <a:lnTo>
                    <a:pt x="758" y="348"/>
                  </a:lnTo>
                  <a:lnTo>
                    <a:pt x="774" y="337"/>
                  </a:lnTo>
                  <a:lnTo>
                    <a:pt x="782" y="332"/>
                  </a:lnTo>
                  <a:lnTo>
                    <a:pt x="791" y="328"/>
                  </a:lnTo>
                  <a:lnTo>
                    <a:pt x="800" y="324"/>
                  </a:lnTo>
                  <a:lnTo>
                    <a:pt x="809" y="322"/>
                  </a:lnTo>
                  <a:lnTo>
                    <a:pt x="871" y="304"/>
                  </a:lnTo>
                  <a:lnTo>
                    <a:pt x="939" y="287"/>
                  </a:lnTo>
                  <a:lnTo>
                    <a:pt x="1014" y="271"/>
                  </a:lnTo>
                  <a:lnTo>
                    <a:pt x="1093" y="254"/>
                  </a:lnTo>
                  <a:lnTo>
                    <a:pt x="1177" y="239"/>
                  </a:lnTo>
                  <a:lnTo>
                    <a:pt x="1265" y="223"/>
                  </a:lnTo>
                  <a:lnTo>
                    <a:pt x="1357" y="207"/>
                  </a:lnTo>
                  <a:lnTo>
                    <a:pt x="1452" y="192"/>
                  </a:lnTo>
                  <a:lnTo>
                    <a:pt x="1439" y="177"/>
                  </a:lnTo>
                  <a:lnTo>
                    <a:pt x="1407" y="146"/>
                  </a:lnTo>
                  <a:lnTo>
                    <a:pt x="1387" y="129"/>
                  </a:lnTo>
                  <a:lnTo>
                    <a:pt x="1366" y="114"/>
                  </a:lnTo>
                  <a:lnTo>
                    <a:pt x="1356" y="108"/>
                  </a:lnTo>
                  <a:lnTo>
                    <a:pt x="1347" y="103"/>
                  </a:lnTo>
                  <a:lnTo>
                    <a:pt x="1337" y="101"/>
                  </a:lnTo>
                  <a:lnTo>
                    <a:pt x="1328" y="100"/>
                  </a:lnTo>
                  <a:lnTo>
                    <a:pt x="1308" y="101"/>
                  </a:lnTo>
                  <a:lnTo>
                    <a:pt x="1284" y="106"/>
                  </a:lnTo>
                  <a:lnTo>
                    <a:pt x="1255" y="111"/>
                  </a:lnTo>
                  <a:lnTo>
                    <a:pt x="1227" y="115"/>
                  </a:lnTo>
                  <a:lnTo>
                    <a:pt x="1212" y="116"/>
                  </a:lnTo>
                  <a:lnTo>
                    <a:pt x="1198" y="115"/>
                  </a:lnTo>
                  <a:lnTo>
                    <a:pt x="1184" y="114"/>
                  </a:lnTo>
                  <a:lnTo>
                    <a:pt x="1170" y="112"/>
                  </a:lnTo>
                  <a:lnTo>
                    <a:pt x="1159" y="107"/>
                  </a:lnTo>
                  <a:lnTo>
                    <a:pt x="1146" y="101"/>
                  </a:lnTo>
                  <a:lnTo>
                    <a:pt x="1141" y="98"/>
                  </a:lnTo>
                  <a:lnTo>
                    <a:pt x="1135" y="93"/>
                  </a:lnTo>
                  <a:lnTo>
                    <a:pt x="1131" y="88"/>
                  </a:lnTo>
                  <a:lnTo>
                    <a:pt x="1126" y="82"/>
                  </a:lnTo>
                  <a:lnTo>
                    <a:pt x="1121" y="77"/>
                  </a:lnTo>
                  <a:lnTo>
                    <a:pt x="1116" y="73"/>
                  </a:lnTo>
                  <a:lnTo>
                    <a:pt x="1111" y="68"/>
                  </a:lnTo>
                  <a:lnTo>
                    <a:pt x="1104" y="66"/>
                  </a:lnTo>
                  <a:lnTo>
                    <a:pt x="1097" y="64"/>
                  </a:lnTo>
                  <a:lnTo>
                    <a:pt x="1090" y="61"/>
                  </a:lnTo>
                  <a:lnTo>
                    <a:pt x="1081" y="60"/>
                  </a:lnTo>
                  <a:lnTo>
                    <a:pt x="1073" y="59"/>
                  </a:lnTo>
                  <a:lnTo>
                    <a:pt x="1056" y="59"/>
                  </a:lnTo>
                  <a:lnTo>
                    <a:pt x="1037" y="61"/>
                  </a:lnTo>
                  <a:lnTo>
                    <a:pt x="1020" y="64"/>
                  </a:lnTo>
                  <a:lnTo>
                    <a:pt x="1001" y="68"/>
                  </a:lnTo>
                  <a:lnTo>
                    <a:pt x="967" y="78"/>
                  </a:lnTo>
                  <a:lnTo>
                    <a:pt x="938" y="88"/>
                  </a:lnTo>
                  <a:lnTo>
                    <a:pt x="918" y="96"/>
                  </a:lnTo>
                  <a:lnTo>
                    <a:pt x="910" y="100"/>
                  </a:lnTo>
                  <a:lnTo>
                    <a:pt x="910" y="106"/>
                  </a:lnTo>
                  <a:lnTo>
                    <a:pt x="907" y="121"/>
                  </a:lnTo>
                  <a:lnTo>
                    <a:pt x="905" y="130"/>
                  </a:lnTo>
                  <a:lnTo>
                    <a:pt x="902" y="141"/>
                  </a:lnTo>
                  <a:lnTo>
                    <a:pt x="897" y="153"/>
                  </a:lnTo>
                  <a:lnTo>
                    <a:pt x="891" y="163"/>
                  </a:lnTo>
                  <a:lnTo>
                    <a:pt x="883" y="174"/>
                  </a:lnTo>
                  <a:lnTo>
                    <a:pt x="872" y="183"/>
                  </a:lnTo>
                  <a:lnTo>
                    <a:pt x="867" y="188"/>
                  </a:lnTo>
                  <a:lnTo>
                    <a:pt x="860" y="191"/>
                  </a:lnTo>
                  <a:lnTo>
                    <a:pt x="852" y="195"/>
                  </a:lnTo>
                  <a:lnTo>
                    <a:pt x="844" y="197"/>
                  </a:lnTo>
                  <a:lnTo>
                    <a:pt x="836" y="199"/>
                  </a:lnTo>
                  <a:lnTo>
                    <a:pt x="827" y="200"/>
                  </a:lnTo>
                  <a:lnTo>
                    <a:pt x="816" y="202"/>
                  </a:lnTo>
                  <a:lnTo>
                    <a:pt x="806" y="202"/>
                  </a:lnTo>
                  <a:lnTo>
                    <a:pt x="794" y="200"/>
                  </a:lnTo>
                  <a:lnTo>
                    <a:pt x="782" y="198"/>
                  </a:lnTo>
                  <a:lnTo>
                    <a:pt x="768" y="196"/>
                  </a:lnTo>
                  <a:lnTo>
                    <a:pt x="754" y="192"/>
                  </a:lnTo>
                  <a:lnTo>
                    <a:pt x="742" y="184"/>
                  </a:lnTo>
                  <a:lnTo>
                    <a:pt x="728" y="177"/>
                  </a:lnTo>
                  <a:lnTo>
                    <a:pt x="715" y="172"/>
                  </a:lnTo>
                  <a:lnTo>
                    <a:pt x="699" y="168"/>
                  </a:lnTo>
                  <a:lnTo>
                    <a:pt x="685" y="164"/>
                  </a:lnTo>
                  <a:lnTo>
                    <a:pt x="671" y="162"/>
                  </a:lnTo>
                  <a:lnTo>
                    <a:pt x="657" y="161"/>
                  </a:lnTo>
                  <a:lnTo>
                    <a:pt x="643" y="160"/>
                  </a:lnTo>
                  <a:lnTo>
                    <a:pt x="589" y="161"/>
                  </a:lnTo>
                  <a:lnTo>
                    <a:pt x="542" y="164"/>
                  </a:lnTo>
                  <a:lnTo>
                    <a:pt x="531" y="164"/>
                  </a:lnTo>
                  <a:lnTo>
                    <a:pt x="522" y="164"/>
                  </a:lnTo>
                  <a:lnTo>
                    <a:pt x="514" y="163"/>
                  </a:lnTo>
                  <a:lnTo>
                    <a:pt x="507" y="162"/>
                  </a:lnTo>
                  <a:lnTo>
                    <a:pt x="500" y="160"/>
                  </a:lnTo>
                  <a:lnTo>
                    <a:pt x="495" y="156"/>
                  </a:lnTo>
                  <a:lnTo>
                    <a:pt x="492" y="153"/>
                  </a:lnTo>
                  <a:lnTo>
                    <a:pt x="488" y="148"/>
                  </a:lnTo>
                  <a:lnTo>
                    <a:pt x="487" y="141"/>
                  </a:lnTo>
                  <a:lnTo>
                    <a:pt x="488" y="134"/>
                  </a:lnTo>
                  <a:lnTo>
                    <a:pt x="489" y="125"/>
                  </a:lnTo>
                  <a:lnTo>
                    <a:pt x="493" y="114"/>
                  </a:lnTo>
                  <a:lnTo>
                    <a:pt x="499" y="101"/>
                  </a:lnTo>
                  <a:lnTo>
                    <a:pt x="504" y="87"/>
                  </a:lnTo>
                  <a:lnTo>
                    <a:pt x="514" y="72"/>
                  </a:lnTo>
                  <a:lnTo>
                    <a:pt x="524" y="53"/>
                  </a:lnTo>
                  <a:lnTo>
                    <a:pt x="523" y="50"/>
                  </a:lnTo>
                  <a:lnTo>
                    <a:pt x="518" y="42"/>
                  </a:lnTo>
                  <a:lnTo>
                    <a:pt x="511" y="31"/>
                  </a:lnTo>
                  <a:lnTo>
                    <a:pt x="501" y="18"/>
                  </a:lnTo>
                  <a:lnTo>
                    <a:pt x="494" y="14"/>
                  </a:lnTo>
                  <a:lnTo>
                    <a:pt x="487" y="8"/>
                  </a:lnTo>
                  <a:lnTo>
                    <a:pt x="480" y="4"/>
                  </a:lnTo>
                  <a:lnTo>
                    <a:pt x="471" y="2"/>
                  </a:lnTo>
                  <a:lnTo>
                    <a:pt x="461" y="0"/>
                  </a:lnTo>
                  <a:lnTo>
                    <a:pt x="452" y="1"/>
                  </a:lnTo>
                  <a:lnTo>
                    <a:pt x="441" y="3"/>
                  </a:lnTo>
                  <a:lnTo>
                    <a:pt x="430" y="8"/>
                  </a:lnTo>
                  <a:lnTo>
                    <a:pt x="417" y="15"/>
                  </a:lnTo>
                  <a:lnTo>
                    <a:pt x="400" y="24"/>
                  </a:lnTo>
                  <a:lnTo>
                    <a:pt x="383" y="36"/>
                  </a:lnTo>
                  <a:lnTo>
                    <a:pt x="363" y="50"/>
                  </a:lnTo>
                  <a:lnTo>
                    <a:pt x="315" y="82"/>
                  </a:lnTo>
                  <a:lnTo>
                    <a:pt x="261" y="116"/>
                  </a:lnTo>
                  <a:lnTo>
                    <a:pt x="232" y="134"/>
                  </a:lnTo>
                  <a:lnTo>
                    <a:pt x="201" y="150"/>
                  </a:lnTo>
                  <a:lnTo>
                    <a:pt x="169" y="164"/>
                  </a:lnTo>
                  <a:lnTo>
                    <a:pt x="136" y="178"/>
                  </a:lnTo>
                  <a:lnTo>
                    <a:pt x="120" y="184"/>
                  </a:lnTo>
                  <a:lnTo>
                    <a:pt x="103" y="189"/>
                  </a:lnTo>
                  <a:lnTo>
                    <a:pt x="86" y="195"/>
                  </a:lnTo>
                  <a:lnTo>
                    <a:pt x="69" y="198"/>
                  </a:lnTo>
                  <a:lnTo>
                    <a:pt x="52" y="202"/>
                  </a:lnTo>
                  <a:lnTo>
                    <a:pt x="35" y="204"/>
                  </a:lnTo>
                  <a:lnTo>
                    <a:pt x="17" y="205"/>
                  </a:lnTo>
                  <a:lnTo>
                    <a:pt x="0" y="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Freeform 94"/>
            <p:cNvSpPr/>
            <p:nvPr/>
          </p:nvSpPr>
          <p:spPr>
            <a:xfrm>
              <a:off x="7319880" y="5053320"/>
              <a:ext cx="231120" cy="705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452" h="422">
                  <a:moveTo>
                    <a:pt x="0" y="206"/>
                  </a:moveTo>
                  <a:lnTo>
                    <a:pt x="24" y="230"/>
                  </a:lnTo>
                  <a:lnTo>
                    <a:pt x="50" y="250"/>
                  </a:lnTo>
                  <a:lnTo>
                    <a:pt x="75" y="268"/>
                  </a:lnTo>
                  <a:lnTo>
                    <a:pt x="98" y="282"/>
                  </a:lnTo>
                  <a:lnTo>
                    <a:pt x="122" y="295"/>
                  </a:lnTo>
                  <a:lnTo>
                    <a:pt x="147" y="306"/>
                  </a:lnTo>
                  <a:lnTo>
                    <a:pt x="171" y="315"/>
                  </a:lnTo>
                  <a:lnTo>
                    <a:pt x="195" y="321"/>
                  </a:lnTo>
                  <a:lnTo>
                    <a:pt x="218" y="327"/>
                  </a:lnTo>
                  <a:lnTo>
                    <a:pt x="243" y="330"/>
                  </a:lnTo>
                  <a:lnTo>
                    <a:pt x="266" y="332"/>
                  </a:lnTo>
                  <a:lnTo>
                    <a:pt x="289" y="334"/>
                  </a:lnTo>
                  <a:lnTo>
                    <a:pt x="336" y="332"/>
                  </a:lnTo>
                  <a:lnTo>
                    <a:pt x="383" y="330"/>
                  </a:lnTo>
                  <a:lnTo>
                    <a:pt x="411" y="329"/>
                  </a:lnTo>
                  <a:lnTo>
                    <a:pt x="438" y="329"/>
                  </a:lnTo>
                  <a:lnTo>
                    <a:pt x="464" y="330"/>
                  </a:lnTo>
                  <a:lnTo>
                    <a:pt x="489" y="331"/>
                  </a:lnTo>
                  <a:lnTo>
                    <a:pt x="514" y="334"/>
                  </a:lnTo>
                  <a:lnTo>
                    <a:pt x="537" y="336"/>
                  </a:lnTo>
                  <a:lnTo>
                    <a:pt x="559" y="341"/>
                  </a:lnTo>
                  <a:lnTo>
                    <a:pt x="581" y="345"/>
                  </a:lnTo>
                  <a:lnTo>
                    <a:pt x="601" y="351"/>
                  </a:lnTo>
                  <a:lnTo>
                    <a:pt x="620" y="357"/>
                  </a:lnTo>
                  <a:lnTo>
                    <a:pt x="638" y="365"/>
                  </a:lnTo>
                  <a:lnTo>
                    <a:pt x="653" y="374"/>
                  </a:lnTo>
                  <a:lnTo>
                    <a:pt x="667" y="384"/>
                  </a:lnTo>
                  <a:lnTo>
                    <a:pt x="678" y="396"/>
                  </a:lnTo>
                  <a:lnTo>
                    <a:pt x="684" y="401"/>
                  </a:lnTo>
                  <a:lnTo>
                    <a:pt x="689" y="408"/>
                  </a:lnTo>
                  <a:lnTo>
                    <a:pt x="694" y="415"/>
                  </a:lnTo>
                  <a:lnTo>
                    <a:pt x="697" y="422"/>
                  </a:lnTo>
                  <a:lnTo>
                    <a:pt x="708" y="405"/>
                  </a:lnTo>
                  <a:lnTo>
                    <a:pt x="718" y="390"/>
                  </a:lnTo>
                  <a:lnTo>
                    <a:pt x="730" y="374"/>
                  </a:lnTo>
                  <a:lnTo>
                    <a:pt x="744" y="360"/>
                  </a:lnTo>
                  <a:lnTo>
                    <a:pt x="758" y="348"/>
                  </a:lnTo>
                  <a:lnTo>
                    <a:pt x="774" y="337"/>
                  </a:lnTo>
                  <a:lnTo>
                    <a:pt x="782" y="332"/>
                  </a:lnTo>
                  <a:lnTo>
                    <a:pt x="791" y="328"/>
                  </a:lnTo>
                  <a:lnTo>
                    <a:pt x="800" y="324"/>
                  </a:lnTo>
                  <a:lnTo>
                    <a:pt x="809" y="322"/>
                  </a:lnTo>
                  <a:lnTo>
                    <a:pt x="871" y="304"/>
                  </a:lnTo>
                  <a:lnTo>
                    <a:pt x="939" y="287"/>
                  </a:lnTo>
                  <a:lnTo>
                    <a:pt x="1014" y="271"/>
                  </a:lnTo>
                  <a:lnTo>
                    <a:pt x="1093" y="254"/>
                  </a:lnTo>
                  <a:lnTo>
                    <a:pt x="1177" y="239"/>
                  </a:lnTo>
                  <a:lnTo>
                    <a:pt x="1265" y="223"/>
                  </a:lnTo>
                  <a:lnTo>
                    <a:pt x="1357" y="207"/>
                  </a:lnTo>
                  <a:lnTo>
                    <a:pt x="1452" y="192"/>
                  </a:lnTo>
                  <a:lnTo>
                    <a:pt x="1439" y="177"/>
                  </a:lnTo>
                  <a:lnTo>
                    <a:pt x="1407" y="146"/>
                  </a:lnTo>
                  <a:lnTo>
                    <a:pt x="1387" y="129"/>
                  </a:lnTo>
                  <a:lnTo>
                    <a:pt x="1366" y="114"/>
                  </a:lnTo>
                  <a:lnTo>
                    <a:pt x="1356" y="108"/>
                  </a:lnTo>
                  <a:lnTo>
                    <a:pt x="1347" y="103"/>
                  </a:lnTo>
                  <a:lnTo>
                    <a:pt x="1337" y="101"/>
                  </a:lnTo>
                  <a:lnTo>
                    <a:pt x="1328" y="100"/>
                  </a:lnTo>
                  <a:lnTo>
                    <a:pt x="1308" y="101"/>
                  </a:lnTo>
                  <a:lnTo>
                    <a:pt x="1284" y="106"/>
                  </a:lnTo>
                  <a:lnTo>
                    <a:pt x="1255" y="111"/>
                  </a:lnTo>
                  <a:lnTo>
                    <a:pt x="1227" y="115"/>
                  </a:lnTo>
                  <a:lnTo>
                    <a:pt x="1212" y="116"/>
                  </a:lnTo>
                  <a:lnTo>
                    <a:pt x="1198" y="115"/>
                  </a:lnTo>
                  <a:lnTo>
                    <a:pt x="1184" y="114"/>
                  </a:lnTo>
                  <a:lnTo>
                    <a:pt x="1170" y="112"/>
                  </a:lnTo>
                  <a:lnTo>
                    <a:pt x="1159" y="107"/>
                  </a:lnTo>
                  <a:lnTo>
                    <a:pt x="1146" y="101"/>
                  </a:lnTo>
                  <a:lnTo>
                    <a:pt x="1141" y="98"/>
                  </a:lnTo>
                  <a:lnTo>
                    <a:pt x="1135" y="93"/>
                  </a:lnTo>
                  <a:lnTo>
                    <a:pt x="1131" y="88"/>
                  </a:lnTo>
                  <a:lnTo>
                    <a:pt x="1126" y="82"/>
                  </a:lnTo>
                  <a:lnTo>
                    <a:pt x="1121" y="77"/>
                  </a:lnTo>
                  <a:lnTo>
                    <a:pt x="1116" y="73"/>
                  </a:lnTo>
                  <a:lnTo>
                    <a:pt x="1111" y="68"/>
                  </a:lnTo>
                  <a:lnTo>
                    <a:pt x="1104" y="66"/>
                  </a:lnTo>
                  <a:lnTo>
                    <a:pt x="1097" y="64"/>
                  </a:lnTo>
                  <a:lnTo>
                    <a:pt x="1090" y="61"/>
                  </a:lnTo>
                  <a:lnTo>
                    <a:pt x="1081" y="60"/>
                  </a:lnTo>
                  <a:lnTo>
                    <a:pt x="1073" y="59"/>
                  </a:lnTo>
                  <a:lnTo>
                    <a:pt x="1056" y="59"/>
                  </a:lnTo>
                  <a:lnTo>
                    <a:pt x="1037" y="61"/>
                  </a:lnTo>
                  <a:lnTo>
                    <a:pt x="1020" y="64"/>
                  </a:lnTo>
                  <a:lnTo>
                    <a:pt x="1001" y="68"/>
                  </a:lnTo>
                  <a:lnTo>
                    <a:pt x="967" y="78"/>
                  </a:lnTo>
                  <a:lnTo>
                    <a:pt x="938" y="88"/>
                  </a:lnTo>
                  <a:lnTo>
                    <a:pt x="918" y="96"/>
                  </a:lnTo>
                  <a:lnTo>
                    <a:pt x="910" y="100"/>
                  </a:lnTo>
                  <a:lnTo>
                    <a:pt x="910" y="106"/>
                  </a:lnTo>
                  <a:lnTo>
                    <a:pt x="907" y="121"/>
                  </a:lnTo>
                  <a:lnTo>
                    <a:pt x="905" y="130"/>
                  </a:lnTo>
                  <a:lnTo>
                    <a:pt x="902" y="141"/>
                  </a:lnTo>
                  <a:lnTo>
                    <a:pt x="897" y="153"/>
                  </a:lnTo>
                  <a:lnTo>
                    <a:pt x="891" y="163"/>
                  </a:lnTo>
                  <a:lnTo>
                    <a:pt x="883" y="174"/>
                  </a:lnTo>
                  <a:lnTo>
                    <a:pt x="872" y="183"/>
                  </a:lnTo>
                  <a:lnTo>
                    <a:pt x="867" y="188"/>
                  </a:lnTo>
                  <a:lnTo>
                    <a:pt x="860" y="191"/>
                  </a:lnTo>
                  <a:lnTo>
                    <a:pt x="852" y="195"/>
                  </a:lnTo>
                  <a:lnTo>
                    <a:pt x="844" y="197"/>
                  </a:lnTo>
                  <a:lnTo>
                    <a:pt x="836" y="199"/>
                  </a:lnTo>
                  <a:lnTo>
                    <a:pt x="827" y="200"/>
                  </a:lnTo>
                  <a:lnTo>
                    <a:pt x="816" y="202"/>
                  </a:lnTo>
                  <a:lnTo>
                    <a:pt x="806" y="202"/>
                  </a:lnTo>
                  <a:lnTo>
                    <a:pt x="794" y="200"/>
                  </a:lnTo>
                  <a:lnTo>
                    <a:pt x="782" y="198"/>
                  </a:lnTo>
                  <a:lnTo>
                    <a:pt x="768" y="196"/>
                  </a:lnTo>
                  <a:lnTo>
                    <a:pt x="754" y="192"/>
                  </a:lnTo>
                  <a:lnTo>
                    <a:pt x="742" y="184"/>
                  </a:lnTo>
                  <a:lnTo>
                    <a:pt x="728" y="177"/>
                  </a:lnTo>
                  <a:lnTo>
                    <a:pt x="715" y="172"/>
                  </a:lnTo>
                  <a:lnTo>
                    <a:pt x="699" y="168"/>
                  </a:lnTo>
                  <a:lnTo>
                    <a:pt x="685" y="164"/>
                  </a:lnTo>
                  <a:lnTo>
                    <a:pt x="671" y="162"/>
                  </a:lnTo>
                  <a:lnTo>
                    <a:pt x="657" y="161"/>
                  </a:lnTo>
                  <a:lnTo>
                    <a:pt x="643" y="160"/>
                  </a:lnTo>
                  <a:lnTo>
                    <a:pt x="589" y="161"/>
                  </a:lnTo>
                  <a:lnTo>
                    <a:pt x="542" y="164"/>
                  </a:lnTo>
                  <a:lnTo>
                    <a:pt x="531" y="164"/>
                  </a:lnTo>
                  <a:lnTo>
                    <a:pt x="522" y="164"/>
                  </a:lnTo>
                  <a:lnTo>
                    <a:pt x="514" y="163"/>
                  </a:lnTo>
                  <a:lnTo>
                    <a:pt x="507" y="162"/>
                  </a:lnTo>
                  <a:lnTo>
                    <a:pt x="500" y="160"/>
                  </a:lnTo>
                  <a:lnTo>
                    <a:pt x="495" y="156"/>
                  </a:lnTo>
                  <a:lnTo>
                    <a:pt x="492" y="153"/>
                  </a:lnTo>
                  <a:lnTo>
                    <a:pt x="488" y="148"/>
                  </a:lnTo>
                  <a:lnTo>
                    <a:pt x="487" y="141"/>
                  </a:lnTo>
                  <a:lnTo>
                    <a:pt x="488" y="134"/>
                  </a:lnTo>
                  <a:lnTo>
                    <a:pt x="489" y="125"/>
                  </a:lnTo>
                  <a:lnTo>
                    <a:pt x="493" y="114"/>
                  </a:lnTo>
                  <a:lnTo>
                    <a:pt x="499" y="101"/>
                  </a:lnTo>
                  <a:lnTo>
                    <a:pt x="504" y="87"/>
                  </a:lnTo>
                  <a:lnTo>
                    <a:pt x="514" y="72"/>
                  </a:lnTo>
                  <a:lnTo>
                    <a:pt x="524" y="53"/>
                  </a:lnTo>
                  <a:lnTo>
                    <a:pt x="523" y="50"/>
                  </a:lnTo>
                  <a:lnTo>
                    <a:pt x="518" y="42"/>
                  </a:lnTo>
                  <a:lnTo>
                    <a:pt x="511" y="31"/>
                  </a:lnTo>
                  <a:lnTo>
                    <a:pt x="501" y="18"/>
                  </a:lnTo>
                  <a:lnTo>
                    <a:pt x="494" y="14"/>
                  </a:lnTo>
                  <a:lnTo>
                    <a:pt x="487" y="8"/>
                  </a:lnTo>
                  <a:lnTo>
                    <a:pt x="480" y="4"/>
                  </a:lnTo>
                  <a:lnTo>
                    <a:pt x="471" y="2"/>
                  </a:lnTo>
                  <a:lnTo>
                    <a:pt x="461" y="0"/>
                  </a:lnTo>
                  <a:lnTo>
                    <a:pt x="452" y="1"/>
                  </a:lnTo>
                  <a:lnTo>
                    <a:pt x="441" y="3"/>
                  </a:lnTo>
                  <a:lnTo>
                    <a:pt x="430" y="8"/>
                  </a:lnTo>
                  <a:lnTo>
                    <a:pt x="417" y="15"/>
                  </a:lnTo>
                  <a:lnTo>
                    <a:pt x="400" y="24"/>
                  </a:lnTo>
                  <a:lnTo>
                    <a:pt x="383" y="36"/>
                  </a:lnTo>
                  <a:lnTo>
                    <a:pt x="363" y="50"/>
                  </a:lnTo>
                  <a:lnTo>
                    <a:pt x="315" y="82"/>
                  </a:lnTo>
                  <a:lnTo>
                    <a:pt x="261" y="116"/>
                  </a:lnTo>
                  <a:lnTo>
                    <a:pt x="232" y="134"/>
                  </a:lnTo>
                  <a:lnTo>
                    <a:pt x="201" y="150"/>
                  </a:lnTo>
                  <a:lnTo>
                    <a:pt x="169" y="164"/>
                  </a:lnTo>
                  <a:lnTo>
                    <a:pt x="136" y="178"/>
                  </a:lnTo>
                  <a:lnTo>
                    <a:pt x="120" y="184"/>
                  </a:lnTo>
                  <a:lnTo>
                    <a:pt x="103" y="189"/>
                  </a:lnTo>
                  <a:lnTo>
                    <a:pt x="86" y="195"/>
                  </a:lnTo>
                  <a:lnTo>
                    <a:pt x="69" y="198"/>
                  </a:lnTo>
                  <a:lnTo>
                    <a:pt x="52" y="202"/>
                  </a:lnTo>
                  <a:lnTo>
                    <a:pt x="35" y="204"/>
                  </a:lnTo>
                  <a:lnTo>
                    <a:pt x="17" y="205"/>
                  </a:lnTo>
                  <a:lnTo>
                    <a:pt x="0" y="20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Freeform 95"/>
            <p:cNvSpPr/>
            <p:nvPr/>
          </p:nvSpPr>
          <p:spPr>
            <a:xfrm>
              <a:off x="6003720" y="5078160"/>
              <a:ext cx="379080" cy="1710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2375" h="987">
                  <a:moveTo>
                    <a:pt x="916" y="921"/>
                  </a:moveTo>
                  <a:lnTo>
                    <a:pt x="0" y="826"/>
                  </a:lnTo>
                  <a:lnTo>
                    <a:pt x="16" y="801"/>
                  </a:lnTo>
                  <a:lnTo>
                    <a:pt x="31" y="778"/>
                  </a:lnTo>
                  <a:lnTo>
                    <a:pt x="45" y="756"/>
                  </a:lnTo>
                  <a:lnTo>
                    <a:pt x="61" y="737"/>
                  </a:lnTo>
                  <a:lnTo>
                    <a:pt x="75" y="718"/>
                  </a:lnTo>
                  <a:lnTo>
                    <a:pt x="89" y="702"/>
                  </a:lnTo>
                  <a:lnTo>
                    <a:pt x="101" y="687"/>
                  </a:lnTo>
                  <a:lnTo>
                    <a:pt x="115" y="674"/>
                  </a:lnTo>
                  <a:lnTo>
                    <a:pt x="128" y="661"/>
                  </a:lnTo>
                  <a:lnTo>
                    <a:pt x="140" y="651"/>
                  </a:lnTo>
                  <a:lnTo>
                    <a:pt x="153" y="640"/>
                  </a:lnTo>
                  <a:lnTo>
                    <a:pt x="165" y="632"/>
                  </a:lnTo>
                  <a:lnTo>
                    <a:pt x="176" y="624"/>
                  </a:lnTo>
                  <a:lnTo>
                    <a:pt x="188" y="617"/>
                  </a:lnTo>
                  <a:lnTo>
                    <a:pt x="200" y="611"/>
                  </a:lnTo>
                  <a:lnTo>
                    <a:pt x="211" y="605"/>
                  </a:lnTo>
                  <a:lnTo>
                    <a:pt x="233" y="597"/>
                  </a:lnTo>
                  <a:lnTo>
                    <a:pt x="256" y="590"/>
                  </a:lnTo>
                  <a:lnTo>
                    <a:pt x="277" y="583"/>
                  </a:lnTo>
                  <a:lnTo>
                    <a:pt x="299" y="578"/>
                  </a:lnTo>
                  <a:lnTo>
                    <a:pt x="320" y="572"/>
                  </a:lnTo>
                  <a:lnTo>
                    <a:pt x="341" y="565"/>
                  </a:lnTo>
                  <a:lnTo>
                    <a:pt x="363" y="557"/>
                  </a:lnTo>
                  <a:lnTo>
                    <a:pt x="385" y="547"/>
                  </a:lnTo>
                  <a:lnTo>
                    <a:pt x="410" y="534"/>
                  </a:lnTo>
                  <a:lnTo>
                    <a:pt x="434" y="517"/>
                  </a:lnTo>
                  <a:lnTo>
                    <a:pt x="461" y="500"/>
                  </a:lnTo>
                  <a:lnTo>
                    <a:pt x="487" y="480"/>
                  </a:lnTo>
                  <a:lnTo>
                    <a:pt x="514" y="458"/>
                  </a:lnTo>
                  <a:lnTo>
                    <a:pt x="541" y="434"/>
                  </a:lnTo>
                  <a:lnTo>
                    <a:pt x="568" y="411"/>
                  </a:lnTo>
                  <a:lnTo>
                    <a:pt x="593" y="388"/>
                  </a:lnTo>
                  <a:lnTo>
                    <a:pt x="642" y="340"/>
                  </a:lnTo>
                  <a:lnTo>
                    <a:pt x="686" y="298"/>
                  </a:lnTo>
                  <a:lnTo>
                    <a:pt x="719" y="263"/>
                  </a:lnTo>
                  <a:lnTo>
                    <a:pt x="743" y="238"/>
                  </a:lnTo>
                  <a:lnTo>
                    <a:pt x="752" y="231"/>
                  </a:lnTo>
                  <a:lnTo>
                    <a:pt x="761" y="225"/>
                  </a:lnTo>
                  <a:lnTo>
                    <a:pt x="771" y="222"/>
                  </a:lnTo>
                  <a:lnTo>
                    <a:pt x="780" y="219"/>
                  </a:lnTo>
                  <a:lnTo>
                    <a:pt x="800" y="216"/>
                  </a:lnTo>
                  <a:lnTo>
                    <a:pt x="821" y="212"/>
                  </a:lnTo>
                  <a:lnTo>
                    <a:pt x="833" y="210"/>
                  </a:lnTo>
                  <a:lnTo>
                    <a:pt x="843" y="205"/>
                  </a:lnTo>
                  <a:lnTo>
                    <a:pt x="855" y="200"/>
                  </a:lnTo>
                  <a:lnTo>
                    <a:pt x="867" y="191"/>
                  </a:lnTo>
                  <a:lnTo>
                    <a:pt x="877" y="181"/>
                  </a:lnTo>
                  <a:lnTo>
                    <a:pt x="889" y="167"/>
                  </a:lnTo>
                  <a:lnTo>
                    <a:pt x="902" y="151"/>
                  </a:lnTo>
                  <a:lnTo>
                    <a:pt x="913" y="130"/>
                  </a:lnTo>
                  <a:lnTo>
                    <a:pt x="924" y="110"/>
                  </a:lnTo>
                  <a:lnTo>
                    <a:pt x="934" y="92"/>
                  </a:lnTo>
                  <a:lnTo>
                    <a:pt x="947" y="75"/>
                  </a:lnTo>
                  <a:lnTo>
                    <a:pt x="960" y="58"/>
                  </a:lnTo>
                  <a:lnTo>
                    <a:pt x="988" y="28"/>
                  </a:lnTo>
                  <a:lnTo>
                    <a:pt x="1016" y="0"/>
                  </a:lnTo>
                  <a:lnTo>
                    <a:pt x="1192" y="37"/>
                  </a:lnTo>
                  <a:lnTo>
                    <a:pt x="1192" y="49"/>
                  </a:lnTo>
                  <a:lnTo>
                    <a:pt x="1194" y="62"/>
                  </a:lnTo>
                  <a:lnTo>
                    <a:pt x="1195" y="72"/>
                  </a:lnTo>
                  <a:lnTo>
                    <a:pt x="1197" y="83"/>
                  </a:lnTo>
                  <a:lnTo>
                    <a:pt x="1199" y="93"/>
                  </a:lnTo>
                  <a:lnTo>
                    <a:pt x="1203" y="103"/>
                  </a:lnTo>
                  <a:lnTo>
                    <a:pt x="1206" y="112"/>
                  </a:lnTo>
                  <a:lnTo>
                    <a:pt x="1210" y="120"/>
                  </a:lnTo>
                  <a:lnTo>
                    <a:pt x="1215" y="127"/>
                  </a:lnTo>
                  <a:lnTo>
                    <a:pt x="1219" y="134"/>
                  </a:lnTo>
                  <a:lnTo>
                    <a:pt x="1224" y="141"/>
                  </a:lnTo>
                  <a:lnTo>
                    <a:pt x="1230" y="147"/>
                  </a:lnTo>
                  <a:lnTo>
                    <a:pt x="1243" y="159"/>
                  </a:lnTo>
                  <a:lnTo>
                    <a:pt x="1256" y="168"/>
                  </a:lnTo>
                  <a:lnTo>
                    <a:pt x="1270" y="176"/>
                  </a:lnTo>
                  <a:lnTo>
                    <a:pt x="1284" y="183"/>
                  </a:lnTo>
                  <a:lnTo>
                    <a:pt x="1300" y="189"/>
                  </a:lnTo>
                  <a:lnTo>
                    <a:pt x="1315" y="194"/>
                  </a:lnTo>
                  <a:lnTo>
                    <a:pt x="1347" y="201"/>
                  </a:lnTo>
                  <a:lnTo>
                    <a:pt x="1377" y="207"/>
                  </a:lnTo>
                  <a:lnTo>
                    <a:pt x="1400" y="209"/>
                  </a:lnTo>
                  <a:lnTo>
                    <a:pt x="1439" y="209"/>
                  </a:lnTo>
                  <a:lnTo>
                    <a:pt x="1492" y="209"/>
                  </a:lnTo>
                  <a:lnTo>
                    <a:pt x="1556" y="208"/>
                  </a:lnTo>
                  <a:lnTo>
                    <a:pt x="1628" y="205"/>
                  </a:lnTo>
                  <a:lnTo>
                    <a:pt x="1708" y="204"/>
                  </a:lnTo>
                  <a:lnTo>
                    <a:pt x="1792" y="203"/>
                  </a:lnTo>
                  <a:lnTo>
                    <a:pt x="1877" y="203"/>
                  </a:lnTo>
                  <a:lnTo>
                    <a:pt x="1962" y="203"/>
                  </a:lnTo>
                  <a:lnTo>
                    <a:pt x="2046" y="205"/>
                  </a:lnTo>
                  <a:lnTo>
                    <a:pt x="2086" y="208"/>
                  </a:lnTo>
                  <a:lnTo>
                    <a:pt x="2125" y="210"/>
                  </a:lnTo>
                  <a:lnTo>
                    <a:pt x="2161" y="212"/>
                  </a:lnTo>
                  <a:lnTo>
                    <a:pt x="2196" y="216"/>
                  </a:lnTo>
                  <a:lnTo>
                    <a:pt x="2227" y="221"/>
                  </a:lnTo>
                  <a:lnTo>
                    <a:pt x="2258" y="225"/>
                  </a:lnTo>
                  <a:lnTo>
                    <a:pt x="2285" y="230"/>
                  </a:lnTo>
                  <a:lnTo>
                    <a:pt x="2308" y="237"/>
                  </a:lnTo>
                  <a:lnTo>
                    <a:pt x="2328" y="244"/>
                  </a:lnTo>
                  <a:lnTo>
                    <a:pt x="2344" y="251"/>
                  </a:lnTo>
                  <a:lnTo>
                    <a:pt x="2357" y="260"/>
                  </a:lnTo>
                  <a:lnTo>
                    <a:pt x="2364" y="270"/>
                  </a:lnTo>
                  <a:lnTo>
                    <a:pt x="2370" y="280"/>
                  </a:lnTo>
                  <a:lnTo>
                    <a:pt x="2373" y="288"/>
                  </a:lnTo>
                  <a:lnTo>
                    <a:pt x="2375" y="298"/>
                  </a:lnTo>
                  <a:lnTo>
                    <a:pt x="2375" y="306"/>
                  </a:lnTo>
                  <a:lnTo>
                    <a:pt x="2373" y="313"/>
                  </a:lnTo>
                  <a:lnTo>
                    <a:pt x="2370" y="320"/>
                  </a:lnTo>
                  <a:lnTo>
                    <a:pt x="2366" y="327"/>
                  </a:lnTo>
                  <a:lnTo>
                    <a:pt x="2361" y="333"/>
                  </a:lnTo>
                  <a:lnTo>
                    <a:pt x="2355" y="339"/>
                  </a:lnTo>
                  <a:lnTo>
                    <a:pt x="2347" y="343"/>
                  </a:lnTo>
                  <a:lnTo>
                    <a:pt x="2338" y="348"/>
                  </a:lnTo>
                  <a:lnTo>
                    <a:pt x="2329" y="353"/>
                  </a:lnTo>
                  <a:lnTo>
                    <a:pt x="2308" y="362"/>
                  </a:lnTo>
                  <a:lnTo>
                    <a:pt x="2285" y="369"/>
                  </a:lnTo>
                  <a:lnTo>
                    <a:pt x="2233" y="382"/>
                  </a:lnTo>
                  <a:lnTo>
                    <a:pt x="2180" y="395"/>
                  </a:lnTo>
                  <a:lnTo>
                    <a:pt x="2153" y="401"/>
                  </a:lnTo>
                  <a:lnTo>
                    <a:pt x="2129" y="408"/>
                  </a:lnTo>
                  <a:lnTo>
                    <a:pt x="2107" y="415"/>
                  </a:lnTo>
                  <a:lnTo>
                    <a:pt x="2088" y="423"/>
                  </a:lnTo>
                  <a:lnTo>
                    <a:pt x="2059" y="438"/>
                  </a:lnTo>
                  <a:lnTo>
                    <a:pt x="2039" y="448"/>
                  </a:lnTo>
                  <a:lnTo>
                    <a:pt x="2034" y="453"/>
                  </a:lnTo>
                  <a:lnTo>
                    <a:pt x="2029" y="457"/>
                  </a:lnTo>
                  <a:lnTo>
                    <a:pt x="2027" y="461"/>
                  </a:lnTo>
                  <a:lnTo>
                    <a:pt x="2025" y="466"/>
                  </a:lnTo>
                  <a:lnTo>
                    <a:pt x="2027" y="471"/>
                  </a:lnTo>
                  <a:lnTo>
                    <a:pt x="2028" y="475"/>
                  </a:lnTo>
                  <a:lnTo>
                    <a:pt x="2031" y="481"/>
                  </a:lnTo>
                  <a:lnTo>
                    <a:pt x="2035" y="489"/>
                  </a:lnTo>
                  <a:lnTo>
                    <a:pt x="2045" y="507"/>
                  </a:lnTo>
                  <a:lnTo>
                    <a:pt x="2057" y="533"/>
                  </a:lnTo>
                  <a:lnTo>
                    <a:pt x="2062" y="547"/>
                  </a:lnTo>
                  <a:lnTo>
                    <a:pt x="2064" y="559"/>
                  </a:lnTo>
                  <a:lnTo>
                    <a:pt x="2065" y="571"/>
                  </a:lnTo>
                  <a:lnTo>
                    <a:pt x="2064" y="583"/>
                  </a:lnTo>
                  <a:lnTo>
                    <a:pt x="2060" y="593"/>
                  </a:lnTo>
                  <a:lnTo>
                    <a:pt x="2056" y="603"/>
                  </a:lnTo>
                  <a:lnTo>
                    <a:pt x="2049" y="612"/>
                  </a:lnTo>
                  <a:lnTo>
                    <a:pt x="2041" y="620"/>
                  </a:lnTo>
                  <a:lnTo>
                    <a:pt x="2031" y="628"/>
                  </a:lnTo>
                  <a:lnTo>
                    <a:pt x="2021" y="636"/>
                  </a:lnTo>
                  <a:lnTo>
                    <a:pt x="2009" y="645"/>
                  </a:lnTo>
                  <a:lnTo>
                    <a:pt x="1995" y="653"/>
                  </a:lnTo>
                  <a:lnTo>
                    <a:pt x="1966" y="668"/>
                  </a:lnTo>
                  <a:lnTo>
                    <a:pt x="1933" y="684"/>
                  </a:lnTo>
                  <a:lnTo>
                    <a:pt x="1916" y="694"/>
                  </a:lnTo>
                  <a:lnTo>
                    <a:pt x="1900" y="702"/>
                  </a:lnTo>
                  <a:lnTo>
                    <a:pt x="1888" y="711"/>
                  </a:lnTo>
                  <a:lnTo>
                    <a:pt x="1875" y="721"/>
                  </a:lnTo>
                  <a:lnTo>
                    <a:pt x="1863" y="729"/>
                  </a:lnTo>
                  <a:lnTo>
                    <a:pt x="1854" y="738"/>
                  </a:lnTo>
                  <a:lnTo>
                    <a:pt x="1845" y="747"/>
                  </a:lnTo>
                  <a:lnTo>
                    <a:pt x="1837" y="757"/>
                  </a:lnTo>
                  <a:lnTo>
                    <a:pt x="1831" y="767"/>
                  </a:lnTo>
                  <a:lnTo>
                    <a:pt x="1827" y="777"/>
                  </a:lnTo>
                  <a:lnTo>
                    <a:pt x="1823" y="787"/>
                  </a:lnTo>
                  <a:lnTo>
                    <a:pt x="1821" y="797"/>
                  </a:lnTo>
                  <a:lnTo>
                    <a:pt x="1820" y="807"/>
                  </a:lnTo>
                  <a:lnTo>
                    <a:pt x="1820" y="819"/>
                  </a:lnTo>
                  <a:lnTo>
                    <a:pt x="1821" y="829"/>
                  </a:lnTo>
                  <a:lnTo>
                    <a:pt x="1823" y="841"/>
                  </a:lnTo>
                  <a:lnTo>
                    <a:pt x="1826" y="851"/>
                  </a:lnTo>
                  <a:lnTo>
                    <a:pt x="1826" y="863"/>
                  </a:lnTo>
                  <a:lnTo>
                    <a:pt x="1823" y="874"/>
                  </a:lnTo>
                  <a:lnTo>
                    <a:pt x="1820" y="884"/>
                  </a:lnTo>
                  <a:lnTo>
                    <a:pt x="1815" y="893"/>
                  </a:lnTo>
                  <a:lnTo>
                    <a:pt x="1808" y="903"/>
                  </a:lnTo>
                  <a:lnTo>
                    <a:pt x="1801" y="912"/>
                  </a:lnTo>
                  <a:lnTo>
                    <a:pt x="1792" y="920"/>
                  </a:lnTo>
                  <a:lnTo>
                    <a:pt x="1772" y="938"/>
                  </a:lnTo>
                  <a:lnTo>
                    <a:pt x="1748" y="954"/>
                  </a:lnTo>
                  <a:lnTo>
                    <a:pt x="1725" y="971"/>
                  </a:lnTo>
                  <a:lnTo>
                    <a:pt x="1702" y="987"/>
                  </a:lnTo>
                  <a:lnTo>
                    <a:pt x="916" y="9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Freeform 96"/>
            <p:cNvSpPr/>
            <p:nvPr/>
          </p:nvSpPr>
          <p:spPr>
            <a:xfrm>
              <a:off x="6003720" y="5078160"/>
              <a:ext cx="379080" cy="1710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2375" h="987">
                  <a:moveTo>
                    <a:pt x="916" y="921"/>
                  </a:moveTo>
                  <a:lnTo>
                    <a:pt x="0" y="826"/>
                  </a:lnTo>
                  <a:lnTo>
                    <a:pt x="16" y="801"/>
                  </a:lnTo>
                  <a:lnTo>
                    <a:pt x="31" y="778"/>
                  </a:lnTo>
                  <a:lnTo>
                    <a:pt x="45" y="756"/>
                  </a:lnTo>
                  <a:lnTo>
                    <a:pt x="61" y="737"/>
                  </a:lnTo>
                  <a:lnTo>
                    <a:pt x="75" y="718"/>
                  </a:lnTo>
                  <a:lnTo>
                    <a:pt x="89" y="702"/>
                  </a:lnTo>
                  <a:lnTo>
                    <a:pt x="101" y="687"/>
                  </a:lnTo>
                  <a:lnTo>
                    <a:pt x="115" y="674"/>
                  </a:lnTo>
                  <a:lnTo>
                    <a:pt x="128" y="661"/>
                  </a:lnTo>
                  <a:lnTo>
                    <a:pt x="140" y="651"/>
                  </a:lnTo>
                  <a:lnTo>
                    <a:pt x="153" y="640"/>
                  </a:lnTo>
                  <a:lnTo>
                    <a:pt x="165" y="632"/>
                  </a:lnTo>
                  <a:lnTo>
                    <a:pt x="176" y="624"/>
                  </a:lnTo>
                  <a:lnTo>
                    <a:pt x="188" y="617"/>
                  </a:lnTo>
                  <a:lnTo>
                    <a:pt x="200" y="611"/>
                  </a:lnTo>
                  <a:lnTo>
                    <a:pt x="211" y="605"/>
                  </a:lnTo>
                  <a:lnTo>
                    <a:pt x="233" y="597"/>
                  </a:lnTo>
                  <a:lnTo>
                    <a:pt x="256" y="590"/>
                  </a:lnTo>
                  <a:lnTo>
                    <a:pt x="277" y="583"/>
                  </a:lnTo>
                  <a:lnTo>
                    <a:pt x="299" y="578"/>
                  </a:lnTo>
                  <a:lnTo>
                    <a:pt x="320" y="572"/>
                  </a:lnTo>
                  <a:lnTo>
                    <a:pt x="341" y="565"/>
                  </a:lnTo>
                  <a:lnTo>
                    <a:pt x="363" y="557"/>
                  </a:lnTo>
                  <a:lnTo>
                    <a:pt x="385" y="547"/>
                  </a:lnTo>
                  <a:lnTo>
                    <a:pt x="410" y="534"/>
                  </a:lnTo>
                  <a:lnTo>
                    <a:pt x="434" y="517"/>
                  </a:lnTo>
                  <a:lnTo>
                    <a:pt x="461" y="500"/>
                  </a:lnTo>
                  <a:lnTo>
                    <a:pt x="487" y="480"/>
                  </a:lnTo>
                  <a:lnTo>
                    <a:pt x="514" y="458"/>
                  </a:lnTo>
                  <a:lnTo>
                    <a:pt x="541" y="434"/>
                  </a:lnTo>
                  <a:lnTo>
                    <a:pt x="568" y="411"/>
                  </a:lnTo>
                  <a:lnTo>
                    <a:pt x="593" y="388"/>
                  </a:lnTo>
                  <a:lnTo>
                    <a:pt x="642" y="340"/>
                  </a:lnTo>
                  <a:lnTo>
                    <a:pt x="686" y="298"/>
                  </a:lnTo>
                  <a:lnTo>
                    <a:pt x="719" y="263"/>
                  </a:lnTo>
                  <a:lnTo>
                    <a:pt x="743" y="238"/>
                  </a:lnTo>
                  <a:lnTo>
                    <a:pt x="752" y="231"/>
                  </a:lnTo>
                  <a:lnTo>
                    <a:pt x="761" y="225"/>
                  </a:lnTo>
                  <a:lnTo>
                    <a:pt x="771" y="222"/>
                  </a:lnTo>
                  <a:lnTo>
                    <a:pt x="780" y="219"/>
                  </a:lnTo>
                  <a:lnTo>
                    <a:pt x="800" y="216"/>
                  </a:lnTo>
                  <a:lnTo>
                    <a:pt x="821" y="212"/>
                  </a:lnTo>
                  <a:lnTo>
                    <a:pt x="833" y="210"/>
                  </a:lnTo>
                  <a:lnTo>
                    <a:pt x="843" y="205"/>
                  </a:lnTo>
                  <a:lnTo>
                    <a:pt x="855" y="200"/>
                  </a:lnTo>
                  <a:lnTo>
                    <a:pt x="867" y="191"/>
                  </a:lnTo>
                  <a:lnTo>
                    <a:pt x="877" y="181"/>
                  </a:lnTo>
                  <a:lnTo>
                    <a:pt x="889" y="167"/>
                  </a:lnTo>
                  <a:lnTo>
                    <a:pt x="902" y="151"/>
                  </a:lnTo>
                  <a:lnTo>
                    <a:pt x="913" y="130"/>
                  </a:lnTo>
                  <a:lnTo>
                    <a:pt x="924" y="110"/>
                  </a:lnTo>
                  <a:lnTo>
                    <a:pt x="934" y="92"/>
                  </a:lnTo>
                  <a:lnTo>
                    <a:pt x="947" y="75"/>
                  </a:lnTo>
                  <a:lnTo>
                    <a:pt x="960" y="58"/>
                  </a:lnTo>
                  <a:lnTo>
                    <a:pt x="988" y="28"/>
                  </a:lnTo>
                  <a:lnTo>
                    <a:pt x="1016" y="0"/>
                  </a:lnTo>
                  <a:lnTo>
                    <a:pt x="1192" y="37"/>
                  </a:lnTo>
                  <a:lnTo>
                    <a:pt x="1192" y="49"/>
                  </a:lnTo>
                  <a:lnTo>
                    <a:pt x="1194" y="62"/>
                  </a:lnTo>
                  <a:lnTo>
                    <a:pt x="1195" y="72"/>
                  </a:lnTo>
                  <a:lnTo>
                    <a:pt x="1197" y="83"/>
                  </a:lnTo>
                  <a:lnTo>
                    <a:pt x="1199" y="93"/>
                  </a:lnTo>
                  <a:lnTo>
                    <a:pt x="1203" y="103"/>
                  </a:lnTo>
                  <a:lnTo>
                    <a:pt x="1206" y="112"/>
                  </a:lnTo>
                  <a:lnTo>
                    <a:pt x="1210" y="120"/>
                  </a:lnTo>
                  <a:lnTo>
                    <a:pt x="1215" y="127"/>
                  </a:lnTo>
                  <a:lnTo>
                    <a:pt x="1219" y="134"/>
                  </a:lnTo>
                  <a:lnTo>
                    <a:pt x="1224" y="141"/>
                  </a:lnTo>
                  <a:lnTo>
                    <a:pt x="1230" y="147"/>
                  </a:lnTo>
                  <a:lnTo>
                    <a:pt x="1243" y="159"/>
                  </a:lnTo>
                  <a:lnTo>
                    <a:pt x="1256" y="168"/>
                  </a:lnTo>
                  <a:lnTo>
                    <a:pt x="1270" y="176"/>
                  </a:lnTo>
                  <a:lnTo>
                    <a:pt x="1284" y="183"/>
                  </a:lnTo>
                  <a:lnTo>
                    <a:pt x="1300" y="189"/>
                  </a:lnTo>
                  <a:lnTo>
                    <a:pt x="1315" y="194"/>
                  </a:lnTo>
                  <a:lnTo>
                    <a:pt x="1347" y="201"/>
                  </a:lnTo>
                  <a:lnTo>
                    <a:pt x="1377" y="207"/>
                  </a:lnTo>
                  <a:lnTo>
                    <a:pt x="1400" y="209"/>
                  </a:lnTo>
                  <a:lnTo>
                    <a:pt x="1439" y="209"/>
                  </a:lnTo>
                  <a:lnTo>
                    <a:pt x="1492" y="209"/>
                  </a:lnTo>
                  <a:lnTo>
                    <a:pt x="1556" y="208"/>
                  </a:lnTo>
                  <a:lnTo>
                    <a:pt x="1628" y="205"/>
                  </a:lnTo>
                  <a:lnTo>
                    <a:pt x="1708" y="204"/>
                  </a:lnTo>
                  <a:lnTo>
                    <a:pt x="1792" y="203"/>
                  </a:lnTo>
                  <a:lnTo>
                    <a:pt x="1877" y="203"/>
                  </a:lnTo>
                  <a:lnTo>
                    <a:pt x="1962" y="203"/>
                  </a:lnTo>
                  <a:lnTo>
                    <a:pt x="2046" y="205"/>
                  </a:lnTo>
                  <a:lnTo>
                    <a:pt x="2086" y="208"/>
                  </a:lnTo>
                  <a:lnTo>
                    <a:pt x="2125" y="210"/>
                  </a:lnTo>
                  <a:lnTo>
                    <a:pt x="2161" y="212"/>
                  </a:lnTo>
                  <a:lnTo>
                    <a:pt x="2196" y="216"/>
                  </a:lnTo>
                  <a:lnTo>
                    <a:pt x="2227" y="221"/>
                  </a:lnTo>
                  <a:lnTo>
                    <a:pt x="2258" y="225"/>
                  </a:lnTo>
                  <a:lnTo>
                    <a:pt x="2285" y="230"/>
                  </a:lnTo>
                  <a:lnTo>
                    <a:pt x="2308" y="237"/>
                  </a:lnTo>
                  <a:lnTo>
                    <a:pt x="2328" y="244"/>
                  </a:lnTo>
                  <a:lnTo>
                    <a:pt x="2344" y="251"/>
                  </a:lnTo>
                  <a:lnTo>
                    <a:pt x="2357" y="260"/>
                  </a:lnTo>
                  <a:lnTo>
                    <a:pt x="2364" y="270"/>
                  </a:lnTo>
                  <a:lnTo>
                    <a:pt x="2370" y="280"/>
                  </a:lnTo>
                  <a:lnTo>
                    <a:pt x="2373" y="288"/>
                  </a:lnTo>
                  <a:lnTo>
                    <a:pt x="2375" y="298"/>
                  </a:lnTo>
                  <a:lnTo>
                    <a:pt x="2375" y="306"/>
                  </a:lnTo>
                  <a:lnTo>
                    <a:pt x="2373" y="313"/>
                  </a:lnTo>
                  <a:lnTo>
                    <a:pt x="2370" y="320"/>
                  </a:lnTo>
                  <a:lnTo>
                    <a:pt x="2366" y="327"/>
                  </a:lnTo>
                  <a:lnTo>
                    <a:pt x="2361" y="333"/>
                  </a:lnTo>
                  <a:lnTo>
                    <a:pt x="2355" y="339"/>
                  </a:lnTo>
                  <a:lnTo>
                    <a:pt x="2347" y="343"/>
                  </a:lnTo>
                  <a:lnTo>
                    <a:pt x="2338" y="348"/>
                  </a:lnTo>
                  <a:lnTo>
                    <a:pt x="2329" y="353"/>
                  </a:lnTo>
                  <a:lnTo>
                    <a:pt x="2308" y="362"/>
                  </a:lnTo>
                  <a:lnTo>
                    <a:pt x="2285" y="369"/>
                  </a:lnTo>
                  <a:lnTo>
                    <a:pt x="2233" y="382"/>
                  </a:lnTo>
                  <a:lnTo>
                    <a:pt x="2180" y="395"/>
                  </a:lnTo>
                  <a:lnTo>
                    <a:pt x="2153" y="401"/>
                  </a:lnTo>
                  <a:lnTo>
                    <a:pt x="2129" y="408"/>
                  </a:lnTo>
                  <a:lnTo>
                    <a:pt x="2107" y="415"/>
                  </a:lnTo>
                  <a:lnTo>
                    <a:pt x="2088" y="423"/>
                  </a:lnTo>
                  <a:lnTo>
                    <a:pt x="2059" y="438"/>
                  </a:lnTo>
                  <a:lnTo>
                    <a:pt x="2039" y="448"/>
                  </a:lnTo>
                  <a:lnTo>
                    <a:pt x="2034" y="453"/>
                  </a:lnTo>
                  <a:lnTo>
                    <a:pt x="2029" y="457"/>
                  </a:lnTo>
                  <a:lnTo>
                    <a:pt x="2027" y="461"/>
                  </a:lnTo>
                  <a:lnTo>
                    <a:pt x="2025" y="466"/>
                  </a:lnTo>
                  <a:lnTo>
                    <a:pt x="2027" y="471"/>
                  </a:lnTo>
                  <a:lnTo>
                    <a:pt x="2028" y="475"/>
                  </a:lnTo>
                  <a:lnTo>
                    <a:pt x="2031" y="481"/>
                  </a:lnTo>
                  <a:lnTo>
                    <a:pt x="2035" y="489"/>
                  </a:lnTo>
                  <a:lnTo>
                    <a:pt x="2045" y="507"/>
                  </a:lnTo>
                  <a:lnTo>
                    <a:pt x="2057" y="533"/>
                  </a:lnTo>
                  <a:lnTo>
                    <a:pt x="2062" y="547"/>
                  </a:lnTo>
                  <a:lnTo>
                    <a:pt x="2064" y="559"/>
                  </a:lnTo>
                  <a:lnTo>
                    <a:pt x="2065" y="571"/>
                  </a:lnTo>
                  <a:lnTo>
                    <a:pt x="2064" y="583"/>
                  </a:lnTo>
                  <a:lnTo>
                    <a:pt x="2060" y="593"/>
                  </a:lnTo>
                  <a:lnTo>
                    <a:pt x="2056" y="603"/>
                  </a:lnTo>
                  <a:lnTo>
                    <a:pt x="2049" y="612"/>
                  </a:lnTo>
                  <a:lnTo>
                    <a:pt x="2041" y="620"/>
                  </a:lnTo>
                  <a:lnTo>
                    <a:pt x="2031" y="628"/>
                  </a:lnTo>
                  <a:lnTo>
                    <a:pt x="2021" y="636"/>
                  </a:lnTo>
                  <a:lnTo>
                    <a:pt x="2009" y="645"/>
                  </a:lnTo>
                  <a:lnTo>
                    <a:pt x="1995" y="653"/>
                  </a:lnTo>
                  <a:lnTo>
                    <a:pt x="1966" y="668"/>
                  </a:lnTo>
                  <a:lnTo>
                    <a:pt x="1933" y="684"/>
                  </a:lnTo>
                  <a:lnTo>
                    <a:pt x="1916" y="694"/>
                  </a:lnTo>
                  <a:lnTo>
                    <a:pt x="1900" y="702"/>
                  </a:lnTo>
                  <a:lnTo>
                    <a:pt x="1888" y="711"/>
                  </a:lnTo>
                  <a:lnTo>
                    <a:pt x="1875" y="721"/>
                  </a:lnTo>
                  <a:lnTo>
                    <a:pt x="1863" y="729"/>
                  </a:lnTo>
                  <a:lnTo>
                    <a:pt x="1854" y="738"/>
                  </a:lnTo>
                  <a:lnTo>
                    <a:pt x="1845" y="747"/>
                  </a:lnTo>
                  <a:lnTo>
                    <a:pt x="1837" y="757"/>
                  </a:lnTo>
                  <a:lnTo>
                    <a:pt x="1831" y="767"/>
                  </a:lnTo>
                  <a:lnTo>
                    <a:pt x="1827" y="777"/>
                  </a:lnTo>
                  <a:lnTo>
                    <a:pt x="1823" y="787"/>
                  </a:lnTo>
                  <a:lnTo>
                    <a:pt x="1821" y="797"/>
                  </a:lnTo>
                  <a:lnTo>
                    <a:pt x="1820" y="807"/>
                  </a:lnTo>
                  <a:lnTo>
                    <a:pt x="1820" y="819"/>
                  </a:lnTo>
                  <a:lnTo>
                    <a:pt x="1821" y="829"/>
                  </a:lnTo>
                  <a:lnTo>
                    <a:pt x="1823" y="841"/>
                  </a:lnTo>
                  <a:lnTo>
                    <a:pt x="1826" y="851"/>
                  </a:lnTo>
                  <a:lnTo>
                    <a:pt x="1826" y="863"/>
                  </a:lnTo>
                  <a:lnTo>
                    <a:pt x="1823" y="874"/>
                  </a:lnTo>
                  <a:lnTo>
                    <a:pt x="1820" y="884"/>
                  </a:lnTo>
                  <a:lnTo>
                    <a:pt x="1815" y="893"/>
                  </a:lnTo>
                  <a:lnTo>
                    <a:pt x="1808" y="903"/>
                  </a:lnTo>
                  <a:lnTo>
                    <a:pt x="1801" y="912"/>
                  </a:lnTo>
                  <a:lnTo>
                    <a:pt x="1792" y="920"/>
                  </a:lnTo>
                  <a:lnTo>
                    <a:pt x="1772" y="938"/>
                  </a:lnTo>
                  <a:lnTo>
                    <a:pt x="1748" y="954"/>
                  </a:lnTo>
                  <a:lnTo>
                    <a:pt x="1725" y="971"/>
                  </a:lnTo>
                  <a:lnTo>
                    <a:pt x="1702" y="987"/>
                  </a:lnTo>
                  <a:lnTo>
                    <a:pt x="916" y="9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Freeform 97"/>
            <p:cNvSpPr/>
            <p:nvPr/>
          </p:nvSpPr>
          <p:spPr>
            <a:xfrm>
              <a:off x="6050160" y="5238360"/>
              <a:ext cx="329400" cy="33732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2069" h="1958">
                  <a:moveTo>
                    <a:pt x="564" y="1958"/>
                  </a:moveTo>
                  <a:lnTo>
                    <a:pt x="0" y="712"/>
                  </a:lnTo>
                  <a:lnTo>
                    <a:pt x="631" y="0"/>
                  </a:lnTo>
                  <a:lnTo>
                    <a:pt x="1417" y="66"/>
                  </a:lnTo>
                  <a:lnTo>
                    <a:pt x="1517" y="82"/>
                  </a:lnTo>
                  <a:lnTo>
                    <a:pt x="1617" y="96"/>
                  </a:lnTo>
                  <a:lnTo>
                    <a:pt x="1712" y="108"/>
                  </a:lnTo>
                  <a:lnTo>
                    <a:pt x="1803" y="120"/>
                  </a:lnTo>
                  <a:lnTo>
                    <a:pt x="1886" y="129"/>
                  </a:lnTo>
                  <a:lnTo>
                    <a:pt x="1959" y="139"/>
                  </a:lnTo>
                  <a:lnTo>
                    <a:pt x="1991" y="145"/>
                  </a:lnTo>
                  <a:lnTo>
                    <a:pt x="2021" y="150"/>
                  </a:lnTo>
                  <a:lnTo>
                    <a:pt x="2046" y="156"/>
                  </a:lnTo>
                  <a:lnTo>
                    <a:pt x="2069" y="162"/>
                  </a:lnTo>
                  <a:lnTo>
                    <a:pt x="1034" y="1685"/>
                  </a:lnTo>
                  <a:lnTo>
                    <a:pt x="1011" y="1680"/>
                  </a:lnTo>
                  <a:lnTo>
                    <a:pt x="990" y="1676"/>
                  </a:lnTo>
                  <a:lnTo>
                    <a:pt x="969" y="1673"/>
                  </a:lnTo>
                  <a:lnTo>
                    <a:pt x="950" y="1672"/>
                  </a:lnTo>
                  <a:lnTo>
                    <a:pt x="931" y="1671"/>
                  </a:lnTo>
                  <a:lnTo>
                    <a:pt x="913" y="1672"/>
                  </a:lnTo>
                  <a:lnTo>
                    <a:pt x="896" y="1673"/>
                  </a:lnTo>
                  <a:lnTo>
                    <a:pt x="879" y="1677"/>
                  </a:lnTo>
                  <a:lnTo>
                    <a:pt x="863" y="1680"/>
                  </a:lnTo>
                  <a:lnTo>
                    <a:pt x="848" y="1685"/>
                  </a:lnTo>
                  <a:lnTo>
                    <a:pt x="833" y="1690"/>
                  </a:lnTo>
                  <a:lnTo>
                    <a:pt x="819" y="1697"/>
                  </a:lnTo>
                  <a:lnTo>
                    <a:pt x="805" y="1704"/>
                  </a:lnTo>
                  <a:lnTo>
                    <a:pt x="792" y="1712"/>
                  </a:lnTo>
                  <a:lnTo>
                    <a:pt x="779" y="1720"/>
                  </a:lnTo>
                  <a:lnTo>
                    <a:pt x="766" y="1730"/>
                  </a:lnTo>
                  <a:lnTo>
                    <a:pt x="753" y="1740"/>
                  </a:lnTo>
                  <a:lnTo>
                    <a:pt x="740" y="1751"/>
                  </a:lnTo>
                  <a:lnTo>
                    <a:pt x="729" y="1763"/>
                  </a:lnTo>
                  <a:lnTo>
                    <a:pt x="717" y="1775"/>
                  </a:lnTo>
                  <a:lnTo>
                    <a:pt x="693" y="1802"/>
                  </a:lnTo>
                  <a:lnTo>
                    <a:pt x="669" y="1830"/>
                  </a:lnTo>
                  <a:lnTo>
                    <a:pt x="619" y="1892"/>
                  </a:lnTo>
                  <a:lnTo>
                    <a:pt x="564" y="19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Freeform 98"/>
            <p:cNvSpPr/>
            <p:nvPr/>
          </p:nvSpPr>
          <p:spPr>
            <a:xfrm>
              <a:off x="6050160" y="5238360"/>
              <a:ext cx="329400" cy="33732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2069" h="1958">
                  <a:moveTo>
                    <a:pt x="564" y="1958"/>
                  </a:moveTo>
                  <a:lnTo>
                    <a:pt x="0" y="712"/>
                  </a:lnTo>
                  <a:lnTo>
                    <a:pt x="631" y="0"/>
                  </a:lnTo>
                  <a:lnTo>
                    <a:pt x="1417" y="66"/>
                  </a:lnTo>
                  <a:lnTo>
                    <a:pt x="1517" y="82"/>
                  </a:lnTo>
                  <a:lnTo>
                    <a:pt x="1617" y="96"/>
                  </a:lnTo>
                  <a:lnTo>
                    <a:pt x="1712" y="108"/>
                  </a:lnTo>
                  <a:lnTo>
                    <a:pt x="1803" y="120"/>
                  </a:lnTo>
                  <a:lnTo>
                    <a:pt x="1886" y="129"/>
                  </a:lnTo>
                  <a:lnTo>
                    <a:pt x="1959" y="139"/>
                  </a:lnTo>
                  <a:lnTo>
                    <a:pt x="1991" y="145"/>
                  </a:lnTo>
                  <a:lnTo>
                    <a:pt x="2021" y="150"/>
                  </a:lnTo>
                  <a:lnTo>
                    <a:pt x="2046" y="156"/>
                  </a:lnTo>
                  <a:lnTo>
                    <a:pt x="2069" y="162"/>
                  </a:lnTo>
                  <a:lnTo>
                    <a:pt x="1034" y="1685"/>
                  </a:lnTo>
                  <a:lnTo>
                    <a:pt x="1011" y="1680"/>
                  </a:lnTo>
                  <a:lnTo>
                    <a:pt x="990" y="1676"/>
                  </a:lnTo>
                  <a:lnTo>
                    <a:pt x="969" y="1673"/>
                  </a:lnTo>
                  <a:lnTo>
                    <a:pt x="950" y="1672"/>
                  </a:lnTo>
                  <a:lnTo>
                    <a:pt x="931" y="1671"/>
                  </a:lnTo>
                  <a:lnTo>
                    <a:pt x="913" y="1672"/>
                  </a:lnTo>
                  <a:lnTo>
                    <a:pt x="896" y="1673"/>
                  </a:lnTo>
                  <a:lnTo>
                    <a:pt x="879" y="1677"/>
                  </a:lnTo>
                  <a:lnTo>
                    <a:pt x="863" y="1680"/>
                  </a:lnTo>
                  <a:lnTo>
                    <a:pt x="848" y="1685"/>
                  </a:lnTo>
                  <a:lnTo>
                    <a:pt x="833" y="1690"/>
                  </a:lnTo>
                  <a:lnTo>
                    <a:pt x="819" y="1697"/>
                  </a:lnTo>
                  <a:lnTo>
                    <a:pt x="805" y="1704"/>
                  </a:lnTo>
                  <a:lnTo>
                    <a:pt x="792" y="1712"/>
                  </a:lnTo>
                  <a:lnTo>
                    <a:pt x="779" y="1720"/>
                  </a:lnTo>
                  <a:lnTo>
                    <a:pt x="766" y="1730"/>
                  </a:lnTo>
                  <a:lnTo>
                    <a:pt x="753" y="1740"/>
                  </a:lnTo>
                  <a:lnTo>
                    <a:pt x="740" y="1751"/>
                  </a:lnTo>
                  <a:lnTo>
                    <a:pt x="729" y="1763"/>
                  </a:lnTo>
                  <a:lnTo>
                    <a:pt x="717" y="1775"/>
                  </a:lnTo>
                  <a:lnTo>
                    <a:pt x="693" y="1802"/>
                  </a:lnTo>
                  <a:lnTo>
                    <a:pt x="669" y="1830"/>
                  </a:lnTo>
                  <a:lnTo>
                    <a:pt x="619" y="1892"/>
                  </a:lnTo>
                  <a:lnTo>
                    <a:pt x="564" y="19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Freeform 99"/>
            <p:cNvSpPr/>
            <p:nvPr/>
          </p:nvSpPr>
          <p:spPr>
            <a:xfrm>
              <a:off x="6238440" y="5265360"/>
              <a:ext cx="311040" cy="2325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947" h="1344">
                  <a:moveTo>
                    <a:pt x="0" y="1293"/>
                  </a:moveTo>
                  <a:lnTo>
                    <a:pt x="1418" y="1344"/>
                  </a:lnTo>
                  <a:lnTo>
                    <a:pt x="1947" y="285"/>
                  </a:lnTo>
                  <a:lnTo>
                    <a:pt x="1509" y="253"/>
                  </a:lnTo>
                  <a:lnTo>
                    <a:pt x="1556" y="65"/>
                  </a:lnTo>
                  <a:lnTo>
                    <a:pt x="880" y="0"/>
                  </a:lnTo>
                  <a:lnTo>
                    <a:pt x="0" y="12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Freeform 100"/>
            <p:cNvSpPr/>
            <p:nvPr/>
          </p:nvSpPr>
          <p:spPr>
            <a:xfrm>
              <a:off x="6238440" y="5265360"/>
              <a:ext cx="311040" cy="2325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947" h="1344">
                  <a:moveTo>
                    <a:pt x="0" y="1293"/>
                  </a:moveTo>
                  <a:lnTo>
                    <a:pt x="1418" y="1344"/>
                  </a:lnTo>
                  <a:lnTo>
                    <a:pt x="1947" y="285"/>
                  </a:lnTo>
                  <a:lnTo>
                    <a:pt x="1509" y="253"/>
                  </a:lnTo>
                  <a:lnTo>
                    <a:pt x="1556" y="65"/>
                  </a:lnTo>
                  <a:lnTo>
                    <a:pt x="880" y="0"/>
                  </a:lnTo>
                  <a:lnTo>
                    <a:pt x="0" y="12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Freeform 101"/>
            <p:cNvSpPr/>
            <p:nvPr/>
          </p:nvSpPr>
          <p:spPr>
            <a:xfrm>
              <a:off x="6165720" y="5011560"/>
              <a:ext cx="272880" cy="11412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06" h="651">
                  <a:moveTo>
                    <a:pt x="1348" y="651"/>
                  </a:moveTo>
                  <a:lnTo>
                    <a:pt x="1341" y="641"/>
                  </a:lnTo>
                  <a:lnTo>
                    <a:pt x="1328" y="632"/>
                  </a:lnTo>
                  <a:lnTo>
                    <a:pt x="1312" y="625"/>
                  </a:lnTo>
                  <a:lnTo>
                    <a:pt x="1292" y="618"/>
                  </a:lnTo>
                  <a:lnTo>
                    <a:pt x="1269" y="611"/>
                  </a:lnTo>
                  <a:lnTo>
                    <a:pt x="1242" y="606"/>
                  </a:lnTo>
                  <a:lnTo>
                    <a:pt x="1211" y="602"/>
                  </a:lnTo>
                  <a:lnTo>
                    <a:pt x="1180" y="597"/>
                  </a:lnTo>
                  <a:lnTo>
                    <a:pt x="1145" y="593"/>
                  </a:lnTo>
                  <a:lnTo>
                    <a:pt x="1109" y="591"/>
                  </a:lnTo>
                  <a:lnTo>
                    <a:pt x="1070" y="589"/>
                  </a:lnTo>
                  <a:lnTo>
                    <a:pt x="1030" y="586"/>
                  </a:lnTo>
                  <a:lnTo>
                    <a:pt x="946" y="584"/>
                  </a:lnTo>
                  <a:lnTo>
                    <a:pt x="861" y="584"/>
                  </a:lnTo>
                  <a:lnTo>
                    <a:pt x="776" y="584"/>
                  </a:lnTo>
                  <a:lnTo>
                    <a:pt x="692" y="585"/>
                  </a:lnTo>
                  <a:lnTo>
                    <a:pt x="612" y="586"/>
                  </a:lnTo>
                  <a:lnTo>
                    <a:pt x="540" y="589"/>
                  </a:lnTo>
                  <a:lnTo>
                    <a:pt x="476" y="590"/>
                  </a:lnTo>
                  <a:lnTo>
                    <a:pt x="423" y="590"/>
                  </a:lnTo>
                  <a:lnTo>
                    <a:pt x="384" y="590"/>
                  </a:lnTo>
                  <a:lnTo>
                    <a:pt x="361" y="588"/>
                  </a:lnTo>
                  <a:lnTo>
                    <a:pt x="331" y="582"/>
                  </a:lnTo>
                  <a:lnTo>
                    <a:pt x="299" y="575"/>
                  </a:lnTo>
                  <a:lnTo>
                    <a:pt x="284" y="570"/>
                  </a:lnTo>
                  <a:lnTo>
                    <a:pt x="268" y="564"/>
                  </a:lnTo>
                  <a:lnTo>
                    <a:pt x="254" y="557"/>
                  </a:lnTo>
                  <a:lnTo>
                    <a:pt x="240" y="549"/>
                  </a:lnTo>
                  <a:lnTo>
                    <a:pt x="227" y="540"/>
                  </a:lnTo>
                  <a:lnTo>
                    <a:pt x="214" y="528"/>
                  </a:lnTo>
                  <a:lnTo>
                    <a:pt x="208" y="522"/>
                  </a:lnTo>
                  <a:lnTo>
                    <a:pt x="203" y="515"/>
                  </a:lnTo>
                  <a:lnTo>
                    <a:pt x="199" y="508"/>
                  </a:lnTo>
                  <a:lnTo>
                    <a:pt x="194" y="501"/>
                  </a:lnTo>
                  <a:lnTo>
                    <a:pt x="190" y="493"/>
                  </a:lnTo>
                  <a:lnTo>
                    <a:pt x="187" y="484"/>
                  </a:lnTo>
                  <a:lnTo>
                    <a:pt x="183" y="474"/>
                  </a:lnTo>
                  <a:lnTo>
                    <a:pt x="181" y="464"/>
                  </a:lnTo>
                  <a:lnTo>
                    <a:pt x="179" y="453"/>
                  </a:lnTo>
                  <a:lnTo>
                    <a:pt x="178" y="443"/>
                  </a:lnTo>
                  <a:lnTo>
                    <a:pt x="176" y="430"/>
                  </a:lnTo>
                  <a:lnTo>
                    <a:pt x="176" y="418"/>
                  </a:lnTo>
                  <a:lnTo>
                    <a:pt x="0" y="381"/>
                  </a:lnTo>
                  <a:lnTo>
                    <a:pt x="19" y="363"/>
                  </a:lnTo>
                  <a:lnTo>
                    <a:pt x="36" y="347"/>
                  </a:lnTo>
                  <a:lnTo>
                    <a:pt x="53" y="329"/>
                  </a:lnTo>
                  <a:lnTo>
                    <a:pt x="69" y="312"/>
                  </a:lnTo>
                  <a:lnTo>
                    <a:pt x="83" y="294"/>
                  </a:lnTo>
                  <a:lnTo>
                    <a:pt x="95" y="276"/>
                  </a:lnTo>
                  <a:lnTo>
                    <a:pt x="101" y="265"/>
                  </a:lnTo>
                  <a:lnTo>
                    <a:pt x="105" y="256"/>
                  </a:lnTo>
                  <a:lnTo>
                    <a:pt x="110" y="244"/>
                  </a:lnTo>
                  <a:lnTo>
                    <a:pt x="113" y="234"/>
                  </a:lnTo>
                  <a:lnTo>
                    <a:pt x="119" y="214"/>
                  </a:lnTo>
                  <a:lnTo>
                    <a:pt x="126" y="194"/>
                  </a:lnTo>
                  <a:lnTo>
                    <a:pt x="133" y="175"/>
                  </a:lnTo>
                  <a:lnTo>
                    <a:pt x="141" y="158"/>
                  </a:lnTo>
                  <a:lnTo>
                    <a:pt x="150" y="141"/>
                  </a:lnTo>
                  <a:lnTo>
                    <a:pt x="159" y="126"/>
                  </a:lnTo>
                  <a:lnTo>
                    <a:pt x="167" y="112"/>
                  </a:lnTo>
                  <a:lnTo>
                    <a:pt x="176" y="99"/>
                  </a:lnTo>
                  <a:lnTo>
                    <a:pt x="186" y="88"/>
                  </a:lnTo>
                  <a:lnTo>
                    <a:pt x="195" y="77"/>
                  </a:lnTo>
                  <a:lnTo>
                    <a:pt x="205" y="68"/>
                  </a:lnTo>
                  <a:lnTo>
                    <a:pt x="215" y="60"/>
                  </a:lnTo>
                  <a:lnTo>
                    <a:pt x="224" y="54"/>
                  </a:lnTo>
                  <a:lnTo>
                    <a:pt x="234" y="50"/>
                  </a:lnTo>
                  <a:lnTo>
                    <a:pt x="242" y="47"/>
                  </a:lnTo>
                  <a:lnTo>
                    <a:pt x="251" y="47"/>
                  </a:lnTo>
                  <a:lnTo>
                    <a:pt x="259" y="47"/>
                  </a:lnTo>
                  <a:lnTo>
                    <a:pt x="269" y="49"/>
                  </a:lnTo>
                  <a:lnTo>
                    <a:pt x="277" y="54"/>
                  </a:lnTo>
                  <a:lnTo>
                    <a:pt x="285" y="59"/>
                  </a:lnTo>
                  <a:lnTo>
                    <a:pt x="293" y="64"/>
                  </a:lnTo>
                  <a:lnTo>
                    <a:pt x="301" y="71"/>
                  </a:lnTo>
                  <a:lnTo>
                    <a:pt x="308" y="78"/>
                  </a:lnTo>
                  <a:lnTo>
                    <a:pt x="315" y="85"/>
                  </a:lnTo>
                  <a:lnTo>
                    <a:pt x="338" y="112"/>
                  </a:lnTo>
                  <a:lnTo>
                    <a:pt x="346" y="124"/>
                  </a:lnTo>
                  <a:lnTo>
                    <a:pt x="356" y="125"/>
                  </a:lnTo>
                  <a:lnTo>
                    <a:pt x="384" y="129"/>
                  </a:lnTo>
                  <a:lnTo>
                    <a:pt x="425" y="132"/>
                  </a:lnTo>
                  <a:lnTo>
                    <a:pt x="473" y="134"/>
                  </a:lnTo>
                  <a:lnTo>
                    <a:pt x="497" y="134"/>
                  </a:lnTo>
                  <a:lnTo>
                    <a:pt x="521" y="134"/>
                  </a:lnTo>
                  <a:lnTo>
                    <a:pt x="544" y="133"/>
                  </a:lnTo>
                  <a:lnTo>
                    <a:pt x="567" y="131"/>
                  </a:lnTo>
                  <a:lnTo>
                    <a:pt x="585" y="129"/>
                  </a:lnTo>
                  <a:lnTo>
                    <a:pt x="602" y="124"/>
                  </a:lnTo>
                  <a:lnTo>
                    <a:pt x="609" y="120"/>
                  </a:lnTo>
                  <a:lnTo>
                    <a:pt x="615" y="117"/>
                  </a:lnTo>
                  <a:lnTo>
                    <a:pt x="619" y="113"/>
                  </a:lnTo>
                  <a:lnTo>
                    <a:pt x="623" y="110"/>
                  </a:lnTo>
                  <a:lnTo>
                    <a:pt x="643" y="80"/>
                  </a:lnTo>
                  <a:lnTo>
                    <a:pt x="658" y="55"/>
                  </a:lnTo>
                  <a:lnTo>
                    <a:pt x="667" y="43"/>
                  </a:lnTo>
                  <a:lnTo>
                    <a:pt x="680" y="30"/>
                  </a:lnTo>
                  <a:lnTo>
                    <a:pt x="695" y="16"/>
                  </a:lnTo>
                  <a:lnTo>
                    <a:pt x="715" y="0"/>
                  </a:lnTo>
                  <a:lnTo>
                    <a:pt x="764" y="5"/>
                  </a:lnTo>
                  <a:lnTo>
                    <a:pt x="815" y="8"/>
                  </a:lnTo>
                  <a:lnTo>
                    <a:pt x="869" y="13"/>
                  </a:lnTo>
                  <a:lnTo>
                    <a:pt x="924" y="16"/>
                  </a:lnTo>
                  <a:lnTo>
                    <a:pt x="981" y="21"/>
                  </a:lnTo>
                  <a:lnTo>
                    <a:pt x="1040" y="25"/>
                  </a:lnTo>
                  <a:lnTo>
                    <a:pt x="1100" y="28"/>
                  </a:lnTo>
                  <a:lnTo>
                    <a:pt x="1161" y="33"/>
                  </a:lnTo>
                  <a:lnTo>
                    <a:pt x="1225" y="36"/>
                  </a:lnTo>
                  <a:lnTo>
                    <a:pt x="1290" y="40"/>
                  </a:lnTo>
                  <a:lnTo>
                    <a:pt x="1356" y="43"/>
                  </a:lnTo>
                  <a:lnTo>
                    <a:pt x="1423" y="46"/>
                  </a:lnTo>
                  <a:lnTo>
                    <a:pt x="1492" y="49"/>
                  </a:lnTo>
                  <a:lnTo>
                    <a:pt x="1562" y="53"/>
                  </a:lnTo>
                  <a:lnTo>
                    <a:pt x="1633" y="55"/>
                  </a:lnTo>
                  <a:lnTo>
                    <a:pt x="1706" y="57"/>
                  </a:lnTo>
                  <a:lnTo>
                    <a:pt x="1688" y="77"/>
                  </a:lnTo>
                  <a:lnTo>
                    <a:pt x="1644" y="131"/>
                  </a:lnTo>
                  <a:lnTo>
                    <a:pt x="1613" y="167"/>
                  </a:lnTo>
                  <a:lnTo>
                    <a:pt x="1581" y="208"/>
                  </a:lnTo>
                  <a:lnTo>
                    <a:pt x="1546" y="254"/>
                  </a:lnTo>
                  <a:lnTo>
                    <a:pt x="1509" y="301"/>
                  </a:lnTo>
                  <a:lnTo>
                    <a:pt x="1474" y="352"/>
                  </a:lnTo>
                  <a:lnTo>
                    <a:pt x="1442" y="402"/>
                  </a:lnTo>
                  <a:lnTo>
                    <a:pt x="1425" y="426"/>
                  </a:lnTo>
                  <a:lnTo>
                    <a:pt x="1411" y="451"/>
                  </a:lnTo>
                  <a:lnTo>
                    <a:pt x="1397" y="476"/>
                  </a:lnTo>
                  <a:lnTo>
                    <a:pt x="1384" y="499"/>
                  </a:lnTo>
                  <a:lnTo>
                    <a:pt x="1374" y="522"/>
                  </a:lnTo>
                  <a:lnTo>
                    <a:pt x="1364" y="544"/>
                  </a:lnTo>
                  <a:lnTo>
                    <a:pt x="1356" y="565"/>
                  </a:lnTo>
                  <a:lnTo>
                    <a:pt x="1350" y="585"/>
                  </a:lnTo>
                  <a:lnTo>
                    <a:pt x="1347" y="604"/>
                  </a:lnTo>
                  <a:lnTo>
                    <a:pt x="1345" y="622"/>
                  </a:lnTo>
                  <a:lnTo>
                    <a:pt x="1346" y="637"/>
                  </a:lnTo>
                  <a:lnTo>
                    <a:pt x="1348" y="6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Freeform 102"/>
            <p:cNvSpPr/>
            <p:nvPr/>
          </p:nvSpPr>
          <p:spPr>
            <a:xfrm>
              <a:off x="6165720" y="5011560"/>
              <a:ext cx="272880" cy="11412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06" h="651">
                  <a:moveTo>
                    <a:pt x="1348" y="651"/>
                  </a:moveTo>
                  <a:lnTo>
                    <a:pt x="1341" y="641"/>
                  </a:lnTo>
                  <a:lnTo>
                    <a:pt x="1328" y="632"/>
                  </a:lnTo>
                  <a:lnTo>
                    <a:pt x="1312" y="625"/>
                  </a:lnTo>
                  <a:lnTo>
                    <a:pt x="1292" y="618"/>
                  </a:lnTo>
                  <a:lnTo>
                    <a:pt x="1269" y="611"/>
                  </a:lnTo>
                  <a:lnTo>
                    <a:pt x="1242" y="606"/>
                  </a:lnTo>
                  <a:lnTo>
                    <a:pt x="1211" y="602"/>
                  </a:lnTo>
                  <a:lnTo>
                    <a:pt x="1180" y="597"/>
                  </a:lnTo>
                  <a:lnTo>
                    <a:pt x="1145" y="593"/>
                  </a:lnTo>
                  <a:lnTo>
                    <a:pt x="1109" y="591"/>
                  </a:lnTo>
                  <a:lnTo>
                    <a:pt x="1070" y="589"/>
                  </a:lnTo>
                  <a:lnTo>
                    <a:pt x="1030" y="586"/>
                  </a:lnTo>
                  <a:lnTo>
                    <a:pt x="946" y="584"/>
                  </a:lnTo>
                  <a:lnTo>
                    <a:pt x="861" y="584"/>
                  </a:lnTo>
                  <a:lnTo>
                    <a:pt x="776" y="584"/>
                  </a:lnTo>
                  <a:lnTo>
                    <a:pt x="692" y="585"/>
                  </a:lnTo>
                  <a:lnTo>
                    <a:pt x="612" y="586"/>
                  </a:lnTo>
                  <a:lnTo>
                    <a:pt x="540" y="589"/>
                  </a:lnTo>
                  <a:lnTo>
                    <a:pt x="476" y="590"/>
                  </a:lnTo>
                  <a:lnTo>
                    <a:pt x="423" y="590"/>
                  </a:lnTo>
                  <a:lnTo>
                    <a:pt x="384" y="590"/>
                  </a:lnTo>
                  <a:lnTo>
                    <a:pt x="361" y="588"/>
                  </a:lnTo>
                  <a:lnTo>
                    <a:pt x="331" y="582"/>
                  </a:lnTo>
                  <a:lnTo>
                    <a:pt x="299" y="575"/>
                  </a:lnTo>
                  <a:lnTo>
                    <a:pt x="284" y="570"/>
                  </a:lnTo>
                  <a:lnTo>
                    <a:pt x="268" y="564"/>
                  </a:lnTo>
                  <a:lnTo>
                    <a:pt x="254" y="557"/>
                  </a:lnTo>
                  <a:lnTo>
                    <a:pt x="240" y="549"/>
                  </a:lnTo>
                  <a:lnTo>
                    <a:pt x="227" y="540"/>
                  </a:lnTo>
                  <a:lnTo>
                    <a:pt x="214" y="528"/>
                  </a:lnTo>
                  <a:lnTo>
                    <a:pt x="208" y="522"/>
                  </a:lnTo>
                  <a:lnTo>
                    <a:pt x="203" y="515"/>
                  </a:lnTo>
                  <a:lnTo>
                    <a:pt x="199" y="508"/>
                  </a:lnTo>
                  <a:lnTo>
                    <a:pt x="194" y="501"/>
                  </a:lnTo>
                  <a:lnTo>
                    <a:pt x="190" y="493"/>
                  </a:lnTo>
                  <a:lnTo>
                    <a:pt x="187" y="484"/>
                  </a:lnTo>
                  <a:lnTo>
                    <a:pt x="183" y="474"/>
                  </a:lnTo>
                  <a:lnTo>
                    <a:pt x="181" y="464"/>
                  </a:lnTo>
                  <a:lnTo>
                    <a:pt x="179" y="453"/>
                  </a:lnTo>
                  <a:lnTo>
                    <a:pt x="178" y="443"/>
                  </a:lnTo>
                  <a:lnTo>
                    <a:pt x="176" y="430"/>
                  </a:lnTo>
                  <a:lnTo>
                    <a:pt x="176" y="418"/>
                  </a:lnTo>
                  <a:lnTo>
                    <a:pt x="0" y="381"/>
                  </a:lnTo>
                  <a:lnTo>
                    <a:pt x="19" y="363"/>
                  </a:lnTo>
                  <a:lnTo>
                    <a:pt x="36" y="347"/>
                  </a:lnTo>
                  <a:lnTo>
                    <a:pt x="53" y="329"/>
                  </a:lnTo>
                  <a:lnTo>
                    <a:pt x="69" y="312"/>
                  </a:lnTo>
                  <a:lnTo>
                    <a:pt x="83" y="294"/>
                  </a:lnTo>
                  <a:lnTo>
                    <a:pt x="95" y="276"/>
                  </a:lnTo>
                  <a:lnTo>
                    <a:pt x="101" y="265"/>
                  </a:lnTo>
                  <a:lnTo>
                    <a:pt x="105" y="256"/>
                  </a:lnTo>
                  <a:lnTo>
                    <a:pt x="110" y="244"/>
                  </a:lnTo>
                  <a:lnTo>
                    <a:pt x="113" y="234"/>
                  </a:lnTo>
                  <a:lnTo>
                    <a:pt x="119" y="214"/>
                  </a:lnTo>
                  <a:lnTo>
                    <a:pt x="126" y="194"/>
                  </a:lnTo>
                  <a:lnTo>
                    <a:pt x="133" y="175"/>
                  </a:lnTo>
                  <a:lnTo>
                    <a:pt x="141" y="158"/>
                  </a:lnTo>
                  <a:lnTo>
                    <a:pt x="150" y="141"/>
                  </a:lnTo>
                  <a:lnTo>
                    <a:pt x="159" y="126"/>
                  </a:lnTo>
                  <a:lnTo>
                    <a:pt x="167" y="112"/>
                  </a:lnTo>
                  <a:lnTo>
                    <a:pt x="176" y="99"/>
                  </a:lnTo>
                  <a:lnTo>
                    <a:pt x="186" y="88"/>
                  </a:lnTo>
                  <a:lnTo>
                    <a:pt x="195" y="77"/>
                  </a:lnTo>
                  <a:lnTo>
                    <a:pt x="205" y="68"/>
                  </a:lnTo>
                  <a:lnTo>
                    <a:pt x="215" y="60"/>
                  </a:lnTo>
                  <a:lnTo>
                    <a:pt x="224" y="54"/>
                  </a:lnTo>
                  <a:lnTo>
                    <a:pt x="234" y="50"/>
                  </a:lnTo>
                  <a:lnTo>
                    <a:pt x="242" y="47"/>
                  </a:lnTo>
                  <a:lnTo>
                    <a:pt x="251" y="47"/>
                  </a:lnTo>
                  <a:lnTo>
                    <a:pt x="259" y="47"/>
                  </a:lnTo>
                  <a:lnTo>
                    <a:pt x="269" y="49"/>
                  </a:lnTo>
                  <a:lnTo>
                    <a:pt x="277" y="54"/>
                  </a:lnTo>
                  <a:lnTo>
                    <a:pt x="285" y="59"/>
                  </a:lnTo>
                  <a:lnTo>
                    <a:pt x="293" y="64"/>
                  </a:lnTo>
                  <a:lnTo>
                    <a:pt x="301" y="71"/>
                  </a:lnTo>
                  <a:lnTo>
                    <a:pt x="308" y="78"/>
                  </a:lnTo>
                  <a:lnTo>
                    <a:pt x="315" y="85"/>
                  </a:lnTo>
                  <a:lnTo>
                    <a:pt x="338" y="112"/>
                  </a:lnTo>
                  <a:lnTo>
                    <a:pt x="346" y="124"/>
                  </a:lnTo>
                  <a:lnTo>
                    <a:pt x="356" y="125"/>
                  </a:lnTo>
                  <a:lnTo>
                    <a:pt x="384" y="129"/>
                  </a:lnTo>
                  <a:lnTo>
                    <a:pt x="425" y="132"/>
                  </a:lnTo>
                  <a:lnTo>
                    <a:pt x="473" y="134"/>
                  </a:lnTo>
                  <a:lnTo>
                    <a:pt x="497" y="134"/>
                  </a:lnTo>
                  <a:lnTo>
                    <a:pt x="521" y="134"/>
                  </a:lnTo>
                  <a:lnTo>
                    <a:pt x="544" y="133"/>
                  </a:lnTo>
                  <a:lnTo>
                    <a:pt x="567" y="131"/>
                  </a:lnTo>
                  <a:lnTo>
                    <a:pt x="585" y="129"/>
                  </a:lnTo>
                  <a:lnTo>
                    <a:pt x="602" y="124"/>
                  </a:lnTo>
                  <a:lnTo>
                    <a:pt x="609" y="120"/>
                  </a:lnTo>
                  <a:lnTo>
                    <a:pt x="615" y="117"/>
                  </a:lnTo>
                  <a:lnTo>
                    <a:pt x="619" y="113"/>
                  </a:lnTo>
                  <a:lnTo>
                    <a:pt x="623" y="110"/>
                  </a:lnTo>
                  <a:lnTo>
                    <a:pt x="643" y="80"/>
                  </a:lnTo>
                  <a:lnTo>
                    <a:pt x="658" y="55"/>
                  </a:lnTo>
                  <a:lnTo>
                    <a:pt x="667" y="43"/>
                  </a:lnTo>
                  <a:lnTo>
                    <a:pt x="680" y="30"/>
                  </a:lnTo>
                  <a:lnTo>
                    <a:pt x="695" y="16"/>
                  </a:lnTo>
                  <a:lnTo>
                    <a:pt x="715" y="0"/>
                  </a:lnTo>
                  <a:lnTo>
                    <a:pt x="764" y="5"/>
                  </a:lnTo>
                  <a:lnTo>
                    <a:pt x="815" y="8"/>
                  </a:lnTo>
                  <a:lnTo>
                    <a:pt x="869" y="13"/>
                  </a:lnTo>
                  <a:lnTo>
                    <a:pt x="924" y="16"/>
                  </a:lnTo>
                  <a:lnTo>
                    <a:pt x="981" y="21"/>
                  </a:lnTo>
                  <a:lnTo>
                    <a:pt x="1040" y="25"/>
                  </a:lnTo>
                  <a:lnTo>
                    <a:pt x="1100" y="28"/>
                  </a:lnTo>
                  <a:lnTo>
                    <a:pt x="1161" y="33"/>
                  </a:lnTo>
                  <a:lnTo>
                    <a:pt x="1225" y="36"/>
                  </a:lnTo>
                  <a:lnTo>
                    <a:pt x="1290" y="40"/>
                  </a:lnTo>
                  <a:lnTo>
                    <a:pt x="1356" y="43"/>
                  </a:lnTo>
                  <a:lnTo>
                    <a:pt x="1423" y="46"/>
                  </a:lnTo>
                  <a:lnTo>
                    <a:pt x="1492" y="49"/>
                  </a:lnTo>
                  <a:lnTo>
                    <a:pt x="1562" y="53"/>
                  </a:lnTo>
                  <a:lnTo>
                    <a:pt x="1633" y="55"/>
                  </a:lnTo>
                  <a:lnTo>
                    <a:pt x="1706" y="57"/>
                  </a:lnTo>
                  <a:lnTo>
                    <a:pt x="1688" y="77"/>
                  </a:lnTo>
                  <a:lnTo>
                    <a:pt x="1644" y="131"/>
                  </a:lnTo>
                  <a:lnTo>
                    <a:pt x="1613" y="167"/>
                  </a:lnTo>
                  <a:lnTo>
                    <a:pt x="1581" y="208"/>
                  </a:lnTo>
                  <a:lnTo>
                    <a:pt x="1546" y="254"/>
                  </a:lnTo>
                  <a:lnTo>
                    <a:pt x="1509" y="301"/>
                  </a:lnTo>
                  <a:lnTo>
                    <a:pt x="1474" y="352"/>
                  </a:lnTo>
                  <a:lnTo>
                    <a:pt x="1442" y="402"/>
                  </a:lnTo>
                  <a:lnTo>
                    <a:pt x="1425" y="426"/>
                  </a:lnTo>
                  <a:lnTo>
                    <a:pt x="1411" y="451"/>
                  </a:lnTo>
                  <a:lnTo>
                    <a:pt x="1397" y="476"/>
                  </a:lnTo>
                  <a:lnTo>
                    <a:pt x="1384" y="499"/>
                  </a:lnTo>
                  <a:lnTo>
                    <a:pt x="1374" y="522"/>
                  </a:lnTo>
                  <a:lnTo>
                    <a:pt x="1364" y="544"/>
                  </a:lnTo>
                  <a:lnTo>
                    <a:pt x="1356" y="565"/>
                  </a:lnTo>
                  <a:lnTo>
                    <a:pt x="1350" y="585"/>
                  </a:lnTo>
                  <a:lnTo>
                    <a:pt x="1347" y="604"/>
                  </a:lnTo>
                  <a:lnTo>
                    <a:pt x="1345" y="622"/>
                  </a:lnTo>
                  <a:lnTo>
                    <a:pt x="1346" y="637"/>
                  </a:lnTo>
                  <a:lnTo>
                    <a:pt x="1348" y="6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Freeform 103"/>
            <p:cNvSpPr/>
            <p:nvPr/>
          </p:nvSpPr>
          <p:spPr>
            <a:xfrm>
              <a:off x="6275160" y="5022720"/>
              <a:ext cx="266400" cy="2534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1670" h="1472">
                  <a:moveTo>
                    <a:pt x="1670" y="888"/>
                  </a:moveTo>
                  <a:lnTo>
                    <a:pt x="1328" y="1472"/>
                  </a:lnTo>
                  <a:lnTo>
                    <a:pt x="652" y="1407"/>
                  </a:lnTo>
                  <a:lnTo>
                    <a:pt x="629" y="1401"/>
                  </a:lnTo>
                  <a:lnTo>
                    <a:pt x="604" y="1395"/>
                  </a:lnTo>
                  <a:lnTo>
                    <a:pt x="574" y="1389"/>
                  </a:lnTo>
                  <a:lnTo>
                    <a:pt x="542" y="1383"/>
                  </a:lnTo>
                  <a:lnTo>
                    <a:pt x="469" y="1372"/>
                  </a:lnTo>
                  <a:lnTo>
                    <a:pt x="386" y="1361"/>
                  </a:lnTo>
                  <a:lnTo>
                    <a:pt x="295" y="1349"/>
                  </a:lnTo>
                  <a:lnTo>
                    <a:pt x="200" y="1338"/>
                  </a:lnTo>
                  <a:lnTo>
                    <a:pt x="100" y="1325"/>
                  </a:lnTo>
                  <a:lnTo>
                    <a:pt x="0" y="1311"/>
                  </a:lnTo>
                  <a:lnTo>
                    <a:pt x="23" y="1295"/>
                  </a:lnTo>
                  <a:lnTo>
                    <a:pt x="46" y="1278"/>
                  </a:lnTo>
                  <a:lnTo>
                    <a:pt x="70" y="1262"/>
                  </a:lnTo>
                  <a:lnTo>
                    <a:pt x="90" y="1244"/>
                  </a:lnTo>
                  <a:lnTo>
                    <a:pt x="99" y="1236"/>
                  </a:lnTo>
                  <a:lnTo>
                    <a:pt x="106" y="1227"/>
                  </a:lnTo>
                  <a:lnTo>
                    <a:pt x="113" y="1217"/>
                  </a:lnTo>
                  <a:lnTo>
                    <a:pt x="118" y="1208"/>
                  </a:lnTo>
                  <a:lnTo>
                    <a:pt x="121" y="1198"/>
                  </a:lnTo>
                  <a:lnTo>
                    <a:pt x="124" y="1187"/>
                  </a:lnTo>
                  <a:lnTo>
                    <a:pt x="124" y="1175"/>
                  </a:lnTo>
                  <a:lnTo>
                    <a:pt x="121" y="1165"/>
                  </a:lnTo>
                  <a:lnTo>
                    <a:pt x="119" y="1153"/>
                  </a:lnTo>
                  <a:lnTo>
                    <a:pt x="118" y="1143"/>
                  </a:lnTo>
                  <a:lnTo>
                    <a:pt x="118" y="1131"/>
                  </a:lnTo>
                  <a:lnTo>
                    <a:pt x="119" y="1121"/>
                  </a:lnTo>
                  <a:lnTo>
                    <a:pt x="121" y="1111"/>
                  </a:lnTo>
                  <a:lnTo>
                    <a:pt x="125" y="1101"/>
                  </a:lnTo>
                  <a:lnTo>
                    <a:pt x="129" y="1091"/>
                  </a:lnTo>
                  <a:lnTo>
                    <a:pt x="135" y="1081"/>
                  </a:lnTo>
                  <a:lnTo>
                    <a:pt x="143" y="1071"/>
                  </a:lnTo>
                  <a:lnTo>
                    <a:pt x="152" y="1062"/>
                  </a:lnTo>
                  <a:lnTo>
                    <a:pt x="161" y="1053"/>
                  </a:lnTo>
                  <a:lnTo>
                    <a:pt x="173" y="1045"/>
                  </a:lnTo>
                  <a:lnTo>
                    <a:pt x="186" y="1035"/>
                  </a:lnTo>
                  <a:lnTo>
                    <a:pt x="198" y="1026"/>
                  </a:lnTo>
                  <a:lnTo>
                    <a:pt x="214" y="1018"/>
                  </a:lnTo>
                  <a:lnTo>
                    <a:pt x="231" y="1008"/>
                  </a:lnTo>
                  <a:lnTo>
                    <a:pt x="264" y="992"/>
                  </a:lnTo>
                  <a:lnTo>
                    <a:pt x="293" y="977"/>
                  </a:lnTo>
                  <a:lnTo>
                    <a:pt x="307" y="969"/>
                  </a:lnTo>
                  <a:lnTo>
                    <a:pt x="319" y="960"/>
                  </a:lnTo>
                  <a:lnTo>
                    <a:pt x="329" y="952"/>
                  </a:lnTo>
                  <a:lnTo>
                    <a:pt x="339" y="944"/>
                  </a:lnTo>
                  <a:lnTo>
                    <a:pt x="347" y="936"/>
                  </a:lnTo>
                  <a:lnTo>
                    <a:pt x="354" y="927"/>
                  </a:lnTo>
                  <a:lnTo>
                    <a:pt x="358" y="917"/>
                  </a:lnTo>
                  <a:lnTo>
                    <a:pt x="362" y="907"/>
                  </a:lnTo>
                  <a:lnTo>
                    <a:pt x="363" y="895"/>
                  </a:lnTo>
                  <a:lnTo>
                    <a:pt x="362" y="883"/>
                  </a:lnTo>
                  <a:lnTo>
                    <a:pt x="360" y="871"/>
                  </a:lnTo>
                  <a:lnTo>
                    <a:pt x="355" y="857"/>
                  </a:lnTo>
                  <a:lnTo>
                    <a:pt x="343" y="831"/>
                  </a:lnTo>
                  <a:lnTo>
                    <a:pt x="333" y="813"/>
                  </a:lnTo>
                  <a:lnTo>
                    <a:pt x="329" y="805"/>
                  </a:lnTo>
                  <a:lnTo>
                    <a:pt x="326" y="799"/>
                  </a:lnTo>
                  <a:lnTo>
                    <a:pt x="325" y="795"/>
                  </a:lnTo>
                  <a:lnTo>
                    <a:pt x="323" y="790"/>
                  </a:lnTo>
                  <a:lnTo>
                    <a:pt x="325" y="785"/>
                  </a:lnTo>
                  <a:lnTo>
                    <a:pt x="327" y="781"/>
                  </a:lnTo>
                  <a:lnTo>
                    <a:pt x="332" y="777"/>
                  </a:lnTo>
                  <a:lnTo>
                    <a:pt x="337" y="772"/>
                  </a:lnTo>
                  <a:lnTo>
                    <a:pt x="357" y="762"/>
                  </a:lnTo>
                  <a:lnTo>
                    <a:pt x="386" y="747"/>
                  </a:lnTo>
                  <a:lnTo>
                    <a:pt x="405" y="739"/>
                  </a:lnTo>
                  <a:lnTo>
                    <a:pt x="427" y="732"/>
                  </a:lnTo>
                  <a:lnTo>
                    <a:pt x="451" y="725"/>
                  </a:lnTo>
                  <a:lnTo>
                    <a:pt x="478" y="719"/>
                  </a:lnTo>
                  <a:lnTo>
                    <a:pt x="531" y="706"/>
                  </a:lnTo>
                  <a:lnTo>
                    <a:pt x="583" y="693"/>
                  </a:lnTo>
                  <a:lnTo>
                    <a:pt x="606" y="686"/>
                  </a:lnTo>
                  <a:lnTo>
                    <a:pt x="627" y="677"/>
                  </a:lnTo>
                  <a:lnTo>
                    <a:pt x="636" y="672"/>
                  </a:lnTo>
                  <a:lnTo>
                    <a:pt x="645" y="667"/>
                  </a:lnTo>
                  <a:lnTo>
                    <a:pt x="653" y="663"/>
                  </a:lnTo>
                  <a:lnTo>
                    <a:pt x="659" y="657"/>
                  </a:lnTo>
                  <a:lnTo>
                    <a:pt x="664" y="651"/>
                  </a:lnTo>
                  <a:lnTo>
                    <a:pt x="668" y="644"/>
                  </a:lnTo>
                  <a:lnTo>
                    <a:pt x="671" y="637"/>
                  </a:lnTo>
                  <a:lnTo>
                    <a:pt x="673" y="630"/>
                  </a:lnTo>
                  <a:lnTo>
                    <a:pt x="673" y="622"/>
                  </a:lnTo>
                  <a:lnTo>
                    <a:pt x="671" y="612"/>
                  </a:lnTo>
                  <a:lnTo>
                    <a:pt x="668" y="604"/>
                  </a:lnTo>
                  <a:lnTo>
                    <a:pt x="662" y="594"/>
                  </a:lnTo>
                  <a:lnTo>
                    <a:pt x="660" y="580"/>
                  </a:lnTo>
                  <a:lnTo>
                    <a:pt x="659" y="565"/>
                  </a:lnTo>
                  <a:lnTo>
                    <a:pt x="661" y="547"/>
                  </a:lnTo>
                  <a:lnTo>
                    <a:pt x="664" y="528"/>
                  </a:lnTo>
                  <a:lnTo>
                    <a:pt x="670" y="508"/>
                  </a:lnTo>
                  <a:lnTo>
                    <a:pt x="678" y="487"/>
                  </a:lnTo>
                  <a:lnTo>
                    <a:pt x="688" y="465"/>
                  </a:lnTo>
                  <a:lnTo>
                    <a:pt x="698" y="442"/>
                  </a:lnTo>
                  <a:lnTo>
                    <a:pt x="711" y="419"/>
                  </a:lnTo>
                  <a:lnTo>
                    <a:pt x="725" y="394"/>
                  </a:lnTo>
                  <a:lnTo>
                    <a:pt x="739" y="369"/>
                  </a:lnTo>
                  <a:lnTo>
                    <a:pt x="756" y="345"/>
                  </a:lnTo>
                  <a:lnTo>
                    <a:pt x="788" y="295"/>
                  </a:lnTo>
                  <a:lnTo>
                    <a:pt x="823" y="244"/>
                  </a:lnTo>
                  <a:lnTo>
                    <a:pt x="860" y="197"/>
                  </a:lnTo>
                  <a:lnTo>
                    <a:pt x="895" y="151"/>
                  </a:lnTo>
                  <a:lnTo>
                    <a:pt x="927" y="110"/>
                  </a:lnTo>
                  <a:lnTo>
                    <a:pt x="958" y="74"/>
                  </a:lnTo>
                  <a:lnTo>
                    <a:pt x="1002" y="20"/>
                  </a:lnTo>
                  <a:lnTo>
                    <a:pt x="1020" y="0"/>
                  </a:lnTo>
                  <a:lnTo>
                    <a:pt x="1043" y="2"/>
                  </a:lnTo>
                  <a:lnTo>
                    <a:pt x="1065" y="3"/>
                  </a:lnTo>
                  <a:lnTo>
                    <a:pt x="1087" y="4"/>
                  </a:lnTo>
                  <a:lnTo>
                    <a:pt x="1111" y="5"/>
                  </a:lnTo>
                  <a:lnTo>
                    <a:pt x="1134" y="6"/>
                  </a:lnTo>
                  <a:lnTo>
                    <a:pt x="1157" y="7"/>
                  </a:lnTo>
                  <a:lnTo>
                    <a:pt x="1181" y="9"/>
                  </a:lnTo>
                  <a:lnTo>
                    <a:pt x="1204" y="10"/>
                  </a:lnTo>
                  <a:lnTo>
                    <a:pt x="1199" y="13"/>
                  </a:lnTo>
                  <a:lnTo>
                    <a:pt x="1189" y="25"/>
                  </a:lnTo>
                  <a:lnTo>
                    <a:pt x="1173" y="42"/>
                  </a:lnTo>
                  <a:lnTo>
                    <a:pt x="1153" y="66"/>
                  </a:lnTo>
                  <a:lnTo>
                    <a:pt x="1129" y="93"/>
                  </a:lnTo>
                  <a:lnTo>
                    <a:pt x="1107" y="124"/>
                  </a:lnTo>
                  <a:lnTo>
                    <a:pt x="1095" y="141"/>
                  </a:lnTo>
                  <a:lnTo>
                    <a:pt x="1085" y="157"/>
                  </a:lnTo>
                  <a:lnTo>
                    <a:pt x="1074" y="173"/>
                  </a:lnTo>
                  <a:lnTo>
                    <a:pt x="1066" y="191"/>
                  </a:lnTo>
                  <a:lnTo>
                    <a:pt x="1062" y="200"/>
                  </a:lnTo>
                  <a:lnTo>
                    <a:pt x="1058" y="208"/>
                  </a:lnTo>
                  <a:lnTo>
                    <a:pt x="1056" y="218"/>
                  </a:lnTo>
                  <a:lnTo>
                    <a:pt x="1052" y="228"/>
                  </a:lnTo>
                  <a:lnTo>
                    <a:pt x="1050" y="247"/>
                  </a:lnTo>
                  <a:lnTo>
                    <a:pt x="1049" y="267"/>
                  </a:lnTo>
                  <a:lnTo>
                    <a:pt x="1050" y="288"/>
                  </a:lnTo>
                  <a:lnTo>
                    <a:pt x="1053" y="309"/>
                  </a:lnTo>
                  <a:lnTo>
                    <a:pt x="1059" y="330"/>
                  </a:lnTo>
                  <a:lnTo>
                    <a:pt x="1067" y="350"/>
                  </a:lnTo>
                  <a:lnTo>
                    <a:pt x="1072" y="360"/>
                  </a:lnTo>
                  <a:lnTo>
                    <a:pt x="1078" y="369"/>
                  </a:lnTo>
                  <a:lnTo>
                    <a:pt x="1084" y="380"/>
                  </a:lnTo>
                  <a:lnTo>
                    <a:pt x="1091" y="389"/>
                  </a:lnTo>
                  <a:lnTo>
                    <a:pt x="1098" y="399"/>
                  </a:lnTo>
                  <a:lnTo>
                    <a:pt x="1106" y="408"/>
                  </a:lnTo>
                  <a:lnTo>
                    <a:pt x="1114" y="417"/>
                  </a:lnTo>
                  <a:lnTo>
                    <a:pt x="1124" y="427"/>
                  </a:lnTo>
                  <a:lnTo>
                    <a:pt x="1133" y="435"/>
                  </a:lnTo>
                  <a:lnTo>
                    <a:pt x="1143" y="443"/>
                  </a:lnTo>
                  <a:lnTo>
                    <a:pt x="1155" y="451"/>
                  </a:lnTo>
                  <a:lnTo>
                    <a:pt x="1166" y="458"/>
                  </a:lnTo>
                  <a:lnTo>
                    <a:pt x="1178" y="465"/>
                  </a:lnTo>
                  <a:lnTo>
                    <a:pt x="1191" y="472"/>
                  </a:lnTo>
                  <a:lnTo>
                    <a:pt x="1204" y="479"/>
                  </a:lnTo>
                  <a:lnTo>
                    <a:pt x="1218" y="485"/>
                  </a:lnTo>
                  <a:lnTo>
                    <a:pt x="1225" y="487"/>
                  </a:lnTo>
                  <a:lnTo>
                    <a:pt x="1230" y="492"/>
                  </a:lnTo>
                  <a:lnTo>
                    <a:pt x="1233" y="497"/>
                  </a:lnTo>
                  <a:lnTo>
                    <a:pt x="1236" y="501"/>
                  </a:lnTo>
                  <a:lnTo>
                    <a:pt x="1237" y="506"/>
                  </a:lnTo>
                  <a:lnTo>
                    <a:pt x="1236" y="512"/>
                  </a:lnTo>
                  <a:lnTo>
                    <a:pt x="1234" y="518"/>
                  </a:lnTo>
                  <a:lnTo>
                    <a:pt x="1232" y="525"/>
                  </a:lnTo>
                  <a:lnTo>
                    <a:pt x="1225" y="538"/>
                  </a:lnTo>
                  <a:lnTo>
                    <a:pt x="1215" y="553"/>
                  </a:lnTo>
                  <a:lnTo>
                    <a:pt x="1202" y="567"/>
                  </a:lnTo>
                  <a:lnTo>
                    <a:pt x="1187" y="582"/>
                  </a:lnTo>
                  <a:lnTo>
                    <a:pt x="1156" y="609"/>
                  </a:lnTo>
                  <a:lnTo>
                    <a:pt x="1127" y="632"/>
                  </a:lnTo>
                  <a:lnTo>
                    <a:pt x="1106" y="649"/>
                  </a:lnTo>
                  <a:lnTo>
                    <a:pt x="1098" y="654"/>
                  </a:lnTo>
                  <a:lnTo>
                    <a:pt x="1095" y="656"/>
                  </a:lnTo>
                  <a:lnTo>
                    <a:pt x="1092" y="659"/>
                  </a:lnTo>
                  <a:lnTo>
                    <a:pt x="1091" y="663"/>
                  </a:lnTo>
                  <a:lnTo>
                    <a:pt x="1090" y="665"/>
                  </a:lnTo>
                  <a:lnTo>
                    <a:pt x="1088" y="668"/>
                  </a:lnTo>
                  <a:lnTo>
                    <a:pt x="1088" y="673"/>
                  </a:lnTo>
                  <a:lnTo>
                    <a:pt x="1091" y="678"/>
                  </a:lnTo>
                  <a:lnTo>
                    <a:pt x="1093" y="682"/>
                  </a:lnTo>
                  <a:lnTo>
                    <a:pt x="1098" y="687"/>
                  </a:lnTo>
                  <a:lnTo>
                    <a:pt x="1105" y="692"/>
                  </a:lnTo>
                  <a:lnTo>
                    <a:pt x="1114" y="698"/>
                  </a:lnTo>
                  <a:lnTo>
                    <a:pt x="1126" y="704"/>
                  </a:lnTo>
                  <a:lnTo>
                    <a:pt x="1140" y="709"/>
                  </a:lnTo>
                  <a:lnTo>
                    <a:pt x="1157" y="715"/>
                  </a:lnTo>
                  <a:lnTo>
                    <a:pt x="1166" y="719"/>
                  </a:lnTo>
                  <a:lnTo>
                    <a:pt x="1173" y="721"/>
                  </a:lnTo>
                  <a:lnTo>
                    <a:pt x="1178" y="725"/>
                  </a:lnTo>
                  <a:lnTo>
                    <a:pt x="1184" y="728"/>
                  </a:lnTo>
                  <a:lnTo>
                    <a:pt x="1188" y="733"/>
                  </a:lnTo>
                  <a:lnTo>
                    <a:pt x="1191" y="736"/>
                  </a:lnTo>
                  <a:lnTo>
                    <a:pt x="1194" y="740"/>
                  </a:lnTo>
                  <a:lnTo>
                    <a:pt x="1196" y="744"/>
                  </a:lnTo>
                  <a:lnTo>
                    <a:pt x="1198" y="754"/>
                  </a:lnTo>
                  <a:lnTo>
                    <a:pt x="1198" y="763"/>
                  </a:lnTo>
                  <a:lnTo>
                    <a:pt x="1197" y="774"/>
                  </a:lnTo>
                  <a:lnTo>
                    <a:pt x="1195" y="784"/>
                  </a:lnTo>
                  <a:lnTo>
                    <a:pt x="1192" y="795"/>
                  </a:lnTo>
                  <a:lnTo>
                    <a:pt x="1190" y="806"/>
                  </a:lnTo>
                  <a:lnTo>
                    <a:pt x="1190" y="819"/>
                  </a:lnTo>
                  <a:lnTo>
                    <a:pt x="1190" y="831"/>
                  </a:lnTo>
                  <a:lnTo>
                    <a:pt x="1191" y="838"/>
                  </a:lnTo>
                  <a:lnTo>
                    <a:pt x="1192" y="845"/>
                  </a:lnTo>
                  <a:lnTo>
                    <a:pt x="1195" y="851"/>
                  </a:lnTo>
                  <a:lnTo>
                    <a:pt x="1198" y="858"/>
                  </a:lnTo>
                  <a:lnTo>
                    <a:pt x="1202" y="865"/>
                  </a:lnTo>
                  <a:lnTo>
                    <a:pt x="1206" y="872"/>
                  </a:lnTo>
                  <a:lnTo>
                    <a:pt x="1212" y="878"/>
                  </a:lnTo>
                  <a:lnTo>
                    <a:pt x="1218" y="885"/>
                  </a:lnTo>
                  <a:lnTo>
                    <a:pt x="1226" y="892"/>
                  </a:lnTo>
                  <a:lnTo>
                    <a:pt x="1234" y="899"/>
                  </a:lnTo>
                  <a:lnTo>
                    <a:pt x="1244" y="904"/>
                  </a:lnTo>
                  <a:lnTo>
                    <a:pt x="1254" y="909"/>
                  </a:lnTo>
                  <a:lnTo>
                    <a:pt x="1265" y="914"/>
                  </a:lnTo>
                  <a:lnTo>
                    <a:pt x="1275" y="918"/>
                  </a:lnTo>
                  <a:lnTo>
                    <a:pt x="1287" y="922"/>
                  </a:lnTo>
                  <a:lnTo>
                    <a:pt x="1300" y="924"/>
                  </a:lnTo>
                  <a:lnTo>
                    <a:pt x="1327" y="929"/>
                  </a:lnTo>
                  <a:lnTo>
                    <a:pt x="1355" y="932"/>
                  </a:lnTo>
                  <a:lnTo>
                    <a:pt x="1384" y="934"/>
                  </a:lnTo>
                  <a:lnTo>
                    <a:pt x="1416" y="932"/>
                  </a:lnTo>
                  <a:lnTo>
                    <a:pt x="1447" y="931"/>
                  </a:lnTo>
                  <a:lnTo>
                    <a:pt x="1480" y="928"/>
                  </a:lnTo>
                  <a:lnTo>
                    <a:pt x="1512" y="923"/>
                  </a:lnTo>
                  <a:lnTo>
                    <a:pt x="1545" y="917"/>
                  </a:lnTo>
                  <a:lnTo>
                    <a:pt x="1578" y="911"/>
                  </a:lnTo>
                  <a:lnTo>
                    <a:pt x="1609" y="904"/>
                  </a:lnTo>
                  <a:lnTo>
                    <a:pt x="1641" y="896"/>
                  </a:lnTo>
                  <a:lnTo>
                    <a:pt x="1670" y="8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Freeform 104"/>
            <p:cNvSpPr/>
            <p:nvPr/>
          </p:nvSpPr>
          <p:spPr>
            <a:xfrm>
              <a:off x="6275160" y="5022720"/>
              <a:ext cx="266400" cy="2534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1670" h="1472">
                  <a:moveTo>
                    <a:pt x="1670" y="888"/>
                  </a:moveTo>
                  <a:lnTo>
                    <a:pt x="1328" y="1472"/>
                  </a:lnTo>
                  <a:lnTo>
                    <a:pt x="652" y="1407"/>
                  </a:lnTo>
                  <a:lnTo>
                    <a:pt x="629" y="1401"/>
                  </a:lnTo>
                  <a:lnTo>
                    <a:pt x="604" y="1395"/>
                  </a:lnTo>
                  <a:lnTo>
                    <a:pt x="574" y="1389"/>
                  </a:lnTo>
                  <a:lnTo>
                    <a:pt x="542" y="1383"/>
                  </a:lnTo>
                  <a:lnTo>
                    <a:pt x="469" y="1372"/>
                  </a:lnTo>
                  <a:lnTo>
                    <a:pt x="386" y="1361"/>
                  </a:lnTo>
                  <a:lnTo>
                    <a:pt x="295" y="1349"/>
                  </a:lnTo>
                  <a:lnTo>
                    <a:pt x="200" y="1338"/>
                  </a:lnTo>
                  <a:lnTo>
                    <a:pt x="100" y="1325"/>
                  </a:lnTo>
                  <a:lnTo>
                    <a:pt x="0" y="1311"/>
                  </a:lnTo>
                  <a:lnTo>
                    <a:pt x="23" y="1295"/>
                  </a:lnTo>
                  <a:lnTo>
                    <a:pt x="46" y="1278"/>
                  </a:lnTo>
                  <a:lnTo>
                    <a:pt x="70" y="1262"/>
                  </a:lnTo>
                  <a:lnTo>
                    <a:pt x="90" y="1244"/>
                  </a:lnTo>
                  <a:lnTo>
                    <a:pt x="99" y="1236"/>
                  </a:lnTo>
                  <a:lnTo>
                    <a:pt x="106" y="1227"/>
                  </a:lnTo>
                  <a:lnTo>
                    <a:pt x="113" y="1217"/>
                  </a:lnTo>
                  <a:lnTo>
                    <a:pt x="118" y="1208"/>
                  </a:lnTo>
                  <a:lnTo>
                    <a:pt x="121" y="1198"/>
                  </a:lnTo>
                  <a:lnTo>
                    <a:pt x="124" y="1187"/>
                  </a:lnTo>
                  <a:lnTo>
                    <a:pt x="124" y="1175"/>
                  </a:lnTo>
                  <a:lnTo>
                    <a:pt x="121" y="1165"/>
                  </a:lnTo>
                  <a:lnTo>
                    <a:pt x="119" y="1153"/>
                  </a:lnTo>
                  <a:lnTo>
                    <a:pt x="118" y="1143"/>
                  </a:lnTo>
                  <a:lnTo>
                    <a:pt x="118" y="1131"/>
                  </a:lnTo>
                  <a:lnTo>
                    <a:pt x="119" y="1121"/>
                  </a:lnTo>
                  <a:lnTo>
                    <a:pt x="121" y="1111"/>
                  </a:lnTo>
                  <a:lnTo>
                    <a:pt x="125" y="1101"/>
                  </a:lnTo>
                  <a:lnTo>
                    <a:pt x="129" y="1091"/>
                  </a:lnTo>
                  <a:lnTo>
                    <a:pt x="135" y="1081"/>
                  </a:lnTo>
                  <a:lnTo>
                    <a:pt x="143" y="1071"/>
                  </a:lnTo>
                  <a:lnTo>
                    <a:pt x="152" y="1062"/>
                  </a:lnTo>
                  <a:lnTo>
                    <a:pt x="161" y="1053"/>
                  </a:lnTo>
                  <a:lnTo>
                    <a:pt x="173" y="1045"/>
                  </a:lnTo>
                  <a:lnTo>
                    <a:pt x="186" y="1035"/>
                  </a:lnTo>
                  <a:lnTo>
                    <a:pt x="198" y="1026"/>
                  </a:lnTo>
                  <a:lnTo>
                    <a:pt x="214" y="1018"/>
                  </a:lnTo>
                  <a:lnTo>
                    <a:pt x="231" y="1008"/>
                  </a:lnTo>
                  <a:lnTo>
                    <a:pt x="264" y="992"/>
                  </a:lnTo>
                  <a:lnTo>
                    <a:pt x="293" y="977"/>
                  </a:lnTo>
                  <a:lnTo>
                    <a:pt x="307" y="969"/>
                  </a:lnTo>
                  <a:lnTo>
                    <a:pt x="319" y="960"/>
                  </a:lnTo>
                  <a:lnTo>
                    <a:pt x="329" y="952"/>
                  </a:lnTo>
                  <a:lnTo>
                    <a:pt x="339" y="944"/>
                  </a:lnTo>
                  <a:lnTo>
                    <a:pt x="347" y="936"/>
                  </a:lnTo>
                  <a:lnTo>
                    <a:pt x="354" y="927"/>
                  </a:lnTo>
                  <a:lnTo>
                    <a:pt x="358" y="917"/>
                  </a:lnTo>
                  <a:lnTo>
                    <a:pt x="362" y="907"/>
                  </a:lnTo>
                  <a:lnTo>
                    <a:pt x="363" y="895"/>
                  </a:lnTo>
                  <a:lnTo>
                    <a:pt x="362" y="883"/>
                  </a:lnTo>
                  <a:lnTo>
                    <a:pt x="360" y="871"/>
                  </a:lnTo>
                  <a:lnTo>
                    <a:pt x="355" y="857"/>
                  </a:lnTo>
                  <a:lnTo>
                    <a:pt x="343" y="831"/>
                  </a:lnTo>
                  <a:lnTo>
                    <a:pt x="333" y="813"/>
                  </a:lnTo>
                  <a:lnTo>
                    <a:pt x="329" y="805"/>
                  </a:lnTo>
                  <a:lnTo>
                    <a:pt x="326" y="799"/>
                  </a:lnTo>
                  <a:lnTo>
                    <a:pt x="325" y="795"/>
                  </a:lnTo>
                  <a:lnTo>
                    <a:pt x="323" y="790"/>
                  </a:lnTo>
                  <a:lnTo>
                    <a:pt x="325" y="785"/>
                  </a:lnTo>
                  <a:lnTo>
                    <a:pt x="327" y="781"/>
                  </a:lnTo>
                  <a:lnTo>
                    <a:pt x="332" y="777"/>
                  </a:lnTo>
                  <a:lnTo>
                    <a:pt x="337" y="772"/>
                  </a:lnTo>
                  <a:lnTo>
                    <a:pt x="357" y="762"/>
                  </a:lnTo>
                  <a:lnTo>
                    <a:pt x="386" y="747"/>
                  </a:lnTo>
                  <a:lnTo>
                    <a:pt x="405" y="739"/>
                  </a:lnTo>
                  <a:lnTo>
                    <a:pt x="427" y="732"/>
                  </a:lnTo>
                  <a:lnTo>
                    <a:pt x="451" y="725"/>
                  </a:lnTo>
                  <a:lnTo>
                    <a:pt x="478" y="719"/>
                  </a:lnTo>
                  <a:lnTo>
                    <a:pt x="531" y="706"/>
                  </a:lnTo>
                  <a:lnTo>
                    <a:pt x="583" y="693"/>
                  </a:lnTo>
                  <a:lnTo>
                    <a:pt x="606" y="686"/>
                  </a:lnTo>
                  <a:lnTo>
                    <a:pt x="627" y="677"/>
                  </a:lnTo>
                  <a:lnTo>
                    <a:pt x="636" y="672"/>
                  </a:lnTo>
                  <a:lnTo>
                    <a:pt x="645" y="667"/>
                  </a:lnTo>
                  <a:lnTo>
                    <a:pt x="653" y="663"/>
                  </a:lnTo>
                  <a:lnTo>
                    <a:pt x="659" y="657"/>
                  </a:lnTo>
                  <a:lnTo>
                    <a:pt x="664" y="651"/>
                  </a:lnTo>
                  <a:lnTo>
                    <a:pt x="668" y="644"/>
                  </a:lnTo>
                  <a:lnTo>
                    <a:pt x="671" y="637"/>
                  </a:lnTo>
                  <a:lnTo>
                    <a:pt x="673" y="630"/>
                  </a:lnTo>
                  <a:lnTo>
                    <a:pt x="673" y="622"/>
                  </a:lnTo>
                  <a:lnTo>
                    <a:pt x="671" y="612"/>
                  </a:lnTo>
                  <a:lnTo>
                    <a:pt x="668" y="604"/>
                  </a:lnTo>
                  <a:lnTo>
                    <a:pt x="662" y="594"/>
                  </a:lnTo>
                  <a:lnTo>
                    <a:pt x="660" y="580"/>
                  </a:lnTo>
                  <a:lnTo>
                    <a:pt x="659" y="565"/>
                  </a:lnTo>
                  <a:lnTo>
                    <a:pt x="661" y="547"/>
                  </a:lnTo>
                  <a:lnTo>
                    <a:pt x="664" y="528"/>
                  </a:lnTo>
                  <a:lnTo>
                    <a:pt x="670" y="508"/>
                  </a:lnTo>
                  <a:lnTo>
                    <a:pt x="678" y="487"/>
                  </a:lnTo>
                  <a:lnTo>
                    <a:pt x="688" y="465"/>
                  </a:lnTo>
                  <a:lnTo>
                    <a:pt x="698" y="442"/>
                  </a:lnTo>
                  <a:lnTo>
                    <a:pt x="711" y="419"/>
                  </a:lnTo>
                  <a:lnTo>
                    <a:pt x="725" y="394"/>
                  </a:lnTo>
                  <a:lnTo>
                    <a:pt x="739" y="369"/>
                  </a:lnTo>
                  <a:lnTo>
                    <a:pt x="756" y="345"/>
                  </a:lnTo>
                  <a:lnTo>
                    <a:pt x="788" y="295"/>
                  </a:lnTo>
                  <a:lnTo>
                    <a:pt x="823" y="244"/>
                  </a:lnTo>
                  <a:lnTo>
                    <a:pt x="860" y="197"/>
                  </a:lnTo>
                  <a:lnTo>
                    <a:pt x="895" y="151"/>
                  </a:lnTo>
                  <a:lnTo>
                    <a:pt x="927" y="110"/>
                  </a:lnTo>
                  <a:lnTo>
                    <a:pt x="958" y="74"/>
                  </a:lnTo>
                  <a:lnTo>
                    <a:pt x="1002" y="20"/>
                  </a:lnTo>
                  <a:lnTo>
                    <a:pt x="1020" y="0"/>
                  </a:lnTo>
                  <a:lnTo>
                    <a:pt x="1043" y="2"/>
                  </a:lnTo>
                  <a:lnTo>
                    <a:pt x="1065" y="3"/>
                  </a:lnTo>
                  <a:lnTo>
                    <a:pt x="1087" y="4"/>
                  </a:lnTo>
                  <a:lnTo>
                    <a:pt x="1111" y="5"/>
                  </a:lnTo>
                  <a:lnTo>
                    <a:pt x="1134" y="6"/>
                  </a:lnTo>
                  <a:lnTo>
                    <a:pt x="1157" y="7"/>
                  </a:lnTo>
                  <a:lnTo>
                    <a:pt x="1181" y="9"/>
                  </a:lnTo>
                  <a:lnTo>
                    <a:pt x="1204" y="10"/>
                  </a:lnTo>
                  <a:lnTo>
                    <a:pt x="1199" y="13"/>
                  </a:lnTo>
                  <a:lnTo>
                    <a:pt x="1189" y="25"/>
                  </a:lnTo>
                  <a:lnTo>
                    <a:pt x="1173" y="42"/>
                  </a:lnTo>
                  <a:lnTo>
                    <a:pt x="1153" y="66"/>
                  </a:lnTo>
                  <a:lnTo>
                    <a:pt x="1129" y="93"/>
                  </a:lnTo>
                  <a:lnTo>
                    <a:pt x="1107" y="124"/>
                  </a:lnTo>
                  <a:lnTo>
                    <a:pt x="1095" y="141"/>
                  </a:lnTo>
                  <a:lnTo>
                    <a:pt x="1085" y="157"/>
                  </a:lnTo>
                  <a:lnTo>
                    <a:pt x="1074" y="173"/>
                  </a:lnTo>
                  <a:lnTo>
                    <a:pt x="1066" y="191"/>
                  </a:lnTo>
                  <a:lnTo>
                    <a:pt x="1062" y="200"/>
                  </a:lnTo>
                  <a:lnTo>
                    <a:pt x="1058" y="208"/>
                  </a:lnTo>
                  <a:lnTo>
                    <a:pt x="1056" y="218"/>
                  </a:lnTo>
                  <a:lnTo>
                    <a:pt x="1052" y="228"/>
                  </a:lnTo>
                  <a:lnTo>
                    <a:pt x="1050" y="247"/>
                  </a:lnTo>
                  <a:lnTo>
                    <a:pt x="1049" y="267"/>
                  </a:lnTo>
                  <a:lnTo>
                    <a:pt x="1050" y="288"/>
                  </a:lnTo>
                  <a:lnTo>
                    <a:pt x="1053" y="309"/>
                  </a:lnTo>
                  <a:lnTo>
                    <a:pt x="1059" y="330"/>
                  </a:lnTo>
                  <a:lnTo>
                    <a:pt x="1067" y="350"/>
                  </a:lnTo>
                  <a:lnTo>
                    <a:pt x="1072" y="360"/>
                  </a:lnTo>
                  <a:lnTo>
                    <a:pt x="1078" y="369"/>
                  </a:lnTo>
                  <a:lnTo>
                    <a:pt x="1084" y="380"/>
                  </a:lnTo>
                  <a:lnTo>
                    <a:pt x="1091" y="389"/>
                  </a:lnTo>
                  <a:lnTo>
                    <a:pt x="1098" y="399"/>
                  </a:lnTo>
                  <a:lnTo>
                    <a:pt x="1106" y="408"/>
                  </a:lnTo>
                  <a:lnTo>
                    <a:pt x="1114" y="417"/>
                  </a:lnTo>
                  <a:lnTo>
                    <a:pt x="1124" y="427"/>
                  </a:lnTo>
                  <a:lnTo>
                    <a:pt x="1133" y="435"/>
                  </a:lnTo>
                  <a:lnTo>
                    <a:pt x="1143" y="443"/>
                  </a:lnTo>
                  <a:lnTo>
                    <a:pt x="1155" y="451"/>
                  </a:lnTo>
                  <a:lnTo>
                    <a:pt x="1166" y="458"/>
                  </a:lnTo>
                  <a:lnTo>
                    <a:pt x="1178" y="465"/>
                  </a:lnTo>
                  <a:lnTo>
                    <a:pt x="1191" y="472"/>
                  </a:lnTo>
                  <a:lnTo>
                    <a:pt x="1204" y="479"/>
                  </a:lnTo>
                  <a:lnTo>
                    <a:pt x="1218" y="485"/>
                  </a:lnTo>
                  <a:lnTo>
                    <a:pt x="1225" y="487"/>
                  </a:lnTo>
                  <a:lnTo>
                    <a:pt x="1230" y="492"/>
                  </a:lnTo>
                  <a:lnTo>
                    <a:pt x="1233" y="497"/>
                  </a:lnTo>
                  <a:lnTo>
                    <a:pt x="1236" y="501"/>
                  </a:lnTo>
                  <a:lnTo>
                    <a:pt x="1237" y="506"/>
                  </a:lnTo>
                  <a:lnTo>
                    <a:pt x="1236" y="512"/>
                  </a:lnTo>
                  <a:lnTo>
                    <a:pt x="1234" y="518"/>
                  </a:lnTo>
                  <a:lnTo>
                    <a:pt x="1232" y="525"/>
                  </a:lnTo>
                  <a:lnTo>
                    <a:pt x="1225" y="538"/>
                  </a:lnTo>
                  <a:lnTo>
                    <a:pt x="1215" y="553"/>
                  </a:lnTo>
                  <a:lnTo>
                    <a:pt x="1202" y="567"/>
                  </a:lnTo>
                  <a:lnTo>
                    <a:pt x="1187" y="582"/>
                  </a:lnTo>
                  <a:lnTo>
                    <a:pt x="1156" y="609"/>
                  </a:lnTo>
                  <a:lnTo>
                    <a:pt x="1127" y="632"/>
                  </a:lnTo>
                  <a:lnTo>
                    <a:pt x="1106" y="649"/>
                  </a:lnTo>
                  <a:lnTo>
                    <a:pt x="1098" y="654"/>
                  </a:lnTo>
                  <a:lnTo>
                    <a:pt x="1095" y="656"/>
                  </a:lnTo>
                  <a:lnTo>
                    <a:pt x="1092" y="659"/>
                  </a:lnTo>
                  <a:lnTo>
                    <a:pt x="1091" y="663"/>
                  </a:lnTo>
                  <a:lnTo>
                    <a:pt x="1090" y="665"/>
                  </a:lnTo>
                  <a:lnTo>
                    <a:pt x="1088" y="668"/>
                  </a:lnTo>
                  <a:lnTo>
                    <a:pt x="1088" y="673"/>
                  </a:lnTo>
                  <a:lnTo>
                    <a:pt x="1091" y="678"/>
                  </a:lnTo>
                  <a:lnTo>
                    <a:pt x="1093" y="682"/>
                  </a:lnTo>
                  <a:lnTo>
                    <a:pt x="1098" y="687"/>
                  </a:lnTo>
                  <a:lnTo>
                    <a:pt x="1105" y="692"/>
                  </a:lnTo>
                  <a:lnTo>
                    <a:pt x="1114" y="698"/>
                  </a:lnTo>
                  <a:lnTo>
                    <a:pt x="1126" y="704"/>
                  </a:lnTo>
                  <a:lnTo>
                    <a:pt x="1140" y="709"/>
                  </a:lnTo>
                  <a:lnTo>
                    <a:pt x="1157" y="715"/>
                  </a:lnTo>
                  <a:lnTo>
                    <a:pt x="1166" y="719"/>
                  </a:lnTo>
                  <a:lnTo>
                    <a:pt x="1173" y="721"/>
                  </a:lnTo>
                  <a:lnTo>
                    <a:pt x="1178" y="725"/>
                  </a:lnTo>
                  <a:lnTo>
                    <a:pt x="1184" y="728"/>
                  </a:lnTo>
                  <a:lnTo>
                    <a:pt x="1188" y="733"/>
                  </a:lnTo>
                  <a:lnTo>
                    <a:pt x="1191" y="736"/>
                  </a:lnTo>
                  <a:lnTo>
                    <a:pt x="1194" y="740"/>
                  </a:lnTo>
                  <a:lnTo>
                    <a:pt x="1196" y="744"/>
                  </a:lnTo>
                  <a:lnTo>
                    <a:pt x="1198" y="754"/>
                  </a:lnTo>
                  <a:lnTo>
                    <a:pt x="1198" y="763"/>
                  </a:lnTo>
                  <a:lnTo>
                    <a:pt x="1197" y="774"/>
                  </a:lnTo>
                  <a:lnTo>
                    <a:pt x="1195" y="784"/>
                  </a:lnTo>
                  <a:lnTo>
                    <a:pt x="1192" y="795"/>
                  </a:lnTo>
                  <a:lnTo>
                    <a:pt x="1190" y="806"/>
                  </a:lnTo>
                  <a:lnTo>
                    <a:pt x="1190" y="819"/>
                  </a:lnTo>
                  <a:lnTo>
                    <a:pt x="1190" y="831"/>
                  </a:lnTo>
                  <a:lnTo>
                    <a:pt x="1191" y="838"/>
                  </a:lnTo>
                  <a:lnTo>
                    <a:pt x="1192" y="845"/>
                  </a:lnTo>
                  <a:lnTo>
                    <a:pt x="1195" y="851"/>
                  </a:lnTo>
                  <a:lnTo>
                    <a:pt x="1198" y="858"/>
                  </a:lnTo>
                  <a:lnTo>
                    <a:pt x="1202" y="865"/>
                  </a:lnTo>
                  <a:lnTo>
                    <a:pt x="1206" y="872"/>
                  </a:lnTo>
                  <a:lnTo>
                    <a:pt x="1212" y="878"/>
                  </a:lnTo>
                  <a:lnTo>
                    <a:pt x="1218" y="885"/>
                  </a:lnTo>
                  <a:lnTo>
                    <a:pt x="1226" y="892"/>
                  </a:lnTo>
                  <a:lnTo>
                    <a:pt x="1234" y="899"/>
                  </a:lnTo>
                  <a:lnTo>
                    <a:pt x="1244" y="904"/>
                  </a:lnTo>
                  <a:lnTo>
                    <a:pt x="1254" y="909"/>
                  </a:lnTo>
                  <a:lnTo>
                    <a:pt x="1265" y="914"/>
                  </a:lnTo>
                  <a:lnTo>
                    <a:pt x="1275" y="918"/>
                  </a:lnTo>
                  <a:lnTo>
                    <a:pt x="1287" y="922"/>
                  </a:lnTo>
                  <a:lnTo>
                    <a:pt x="1300" y="924"/>
                  </a:lnTo>
                  <a:lnTo>
                    <a:pt x="1327" y="929"/>
                  </a:lnTo>
                  <a:lnTo>
                    <a:pt x="1355" y="932"/>
                  </a:lnTo>
                  <a:lnTo>
                    <a:pt x="1384" y="934"/>
                  </a:lnTo>
                  <a:lnTo>
                    <a:pt x="1416" y="932"/>
                  </a:lnTo>
                  <a:lnTo>
                    <a:pt x="1447" y="931"/>
                  </a:lnTo>
                  <a:lnTo>
                    <a:pt x="1480" y="928"/>
                  </a:lnTo>
                  <a:lnTo>
                    <a:pt x="1512" y="923"/>
                  </a:lnTo>
                  <a:lnTo>
                    <a:pt x="1545" y="917"/>
                  </a:lnTo>
                  <a:lnTo>
                    <a:pt x="1578" y="911"/>
                  </a:lnTo>
                  <a:lnTo>
                    <a:pt x="1609" y="904"/>
                  </a:lnTo>
                  <a:lnTo>
                    <a:pt x="1641" y="896"/>
                  </a:lnTo>
                  <a:lnTo>
                    <a:pt x="1670" y="8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Freeform 105"/>
            <p:cNvSpPr/>
            <p:nvPr/>
          </p:nvSpPr>
          <p:spPr>
            <a:xfrm>
              <a:off x="6480360" y="5169960"/>
              <a:ext cx="331200" cy="15192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077" h="874">
                  <a:moveTo>
                    <a:pt x="438" y="837"/>
                  </a:moveTo>
                  <a:lnTo>
                    <a:pt x="0" y="805"/>
                  </a:lnTo>
                  <a:lnTo>
                    <a:pt x="47" y="617"/>
                  </a:lnTo>
                  <a:lnTo>
                    <a:pt x="389" y="33"/>
                  </a:lnTo>
                  <a:lnTo>
                    <a:pt x="407" y="32"/>
                  </a:lnTo>
                  <a:lnTo>
                    <a:pt x="457" y="31"/>
                  </a:lnTo>
                  <a:lnTo>
                    <a:pt x="535" y="28"/>
                  </a:lnTo>
                  <a:lnTo>
                    <a:pt x="637" y="26"/>
                  </a:lnTo>
                  <a:lnTo>
                    <a:pt x="758" y="23"/>
                  </a:lnTo>
                  <a:lnTo>
                    <a:pt x="893" y="19"/>
                  </a:lnTo>
                  <a:lnTo>
                    <a:pt x="1039" y="14"/>
                  </a:lnTo>
                  <a:lnTo>
                    <a:pt x="1191" y="11"/>
                  </a:lnTo>
                  <a:lnTo>
                    <a:pt x="1344" y="9"/>
                  </a:lnTo>
                  <a:lnTo>
                    <a:pt x="1493" y="5"/>
                  </a:lnTo>
                  <a:lnTo>
                    <a:pt x="1634" y="3"/>
                  </a:lnTo>
                  <a:lnTo>
                    <a:pt x="1765" y="2"/>
                  </a:lnTo>
                  <a:lnTo>
                    <a:pt x="1879" y="0"/>
                  </a:lnTo>
                  <a:lnTo>
                    <a:pt x="1972" y="2"/>
                  </a:lnTo>
                  <a:lnTo>
                    <a:pt x="2009" y="3"/>
                  </a:lnTo>
                  <a:lnTo>
                    <a:pt x="2040" y="4"/>
                  </a:lnTo>
                  <a:lnTo>
                    <a:pt x="2062" y="5"/>
                  </a:lnTo>
                  <a:lnTo>
                    <a:pt x="2077" y="7"/>
                  </a:lnTo>
                  <a:lnTo>
                    <a:pt x="1780" y="874"/>
                  </a:lnTo>
                  <a:lnTo>
                    <a:pt x="438" y="83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Freeform 106"/>
            <p:cNvSpPr/>
            <p:nvPr/>
          </p:nvSpPr>
          <p:spPr>
            <a:xfrm>
              <a:off x="6480360" y="5169960"/>
              <a:ext cx="331200" cy="15192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077" h="874">
                  <a:moveTo>
                    <a:pt x="438" y="837"/>
                  </a:moveTo>
                  <a:lnTo>
                    <a:pt x="0" y="805"/>
                  </a:lnTo>
                  <a:lnTo>
                    <a:pt x="47" y="617"/>
                  </a:lnTo>
                  <a:lnTo>
                    <a:pt x="389" y="33"/>
                  </a:lnTo>
                  <a:lnTo>
                    <a:pt x="407" y="32"/>
                  </a:lnTo>
                  <a:lnTo>
                    <a:pt x="457" y="31"/>
                  </a:lnTo>
                  <a:lnTo>
                    <a:pt x="535" y="28"/>
                  </a:lnTo>
                  <a:lnTo>
                    <a:pt x="637" y="26"/>
                  </a:lnTo>
                  <a:lnTo>
                    <a:pt x="758" y="23"/>
                  </a:lnTo>
                  <a:lnTo>
                    <a:pt x="893" y="19"/>
                  </a:lnTo>
                  <a:lnTo>
                    <a:pt x="1039" y="14"/>
                  </a:lnTo>
                  <a:lnTo>
                    <a:pt x="1191" y="11"/>
                  </a:lnTo>
                  <a:lnTo>
                    <a:pt x="1344" y="9"/>
                  </a:lnTo>
                  <a:lnTo>
                    <a:pt x="1493" y="5"/>
                  </a:lnTo>
                  <a:lnTo>
                    <a:pt x="1634" y="3"/>
                  </a:lnTo>
                  <a:lnTo>
                    <a:pt x="1765" y="2"/>
                  </a:lnTo>
                  <a:lnTo>
                    <a:pt x="1879" y="0"/>
                  </a:lnTo>
                  <a:lnTo>
                    <a:pt x="1972" y="2"/>
                  </a:lnTo>
                  <a:lnTo>
                    <a:pt x="2009" y="3"/>
                  </a:lnTo>
                  <a:lnTo>
                    <a:pt x="2040" y="4"/>
                  </a:lnTo>
                  <a:lnTo>
                    <a:pt x="2062" y="5"/>
                  </a:lnTo>
                  <a:lnTo>
                    <a:pt x="2077" y="7"/>
                  </a:lnTo>
                  <a:lnTo>
                    <a:pt x="1780" y="874"/>
                  </a:lnTo>
                  <a:lnTo>
                    <a:pt x="438" y="83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Freeform 107"/>
            <p:cNvSpPr/>
            <p:nvPr/>
          </p:nvSpPr>
          <p:spPr>
            <a:xfrm>
              <a:off x="6296040" y="5499360"/>
              <a:ext cx="477360" cy="356400"/>
            </a:xfrm>
            <a:custGeom>
              <a:avLst/>
              <a:gdLst>
                <a:gd name="textAreaLeft" fmla="*/ 0 w 477360"/>
                <a:gd name="textAreaRight" fmla="*/ 477720 w 47736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2989" h="2059">
                  <a:moveTo>
                    <a:pt x="2989" y="6"/>
                  </a:moveTo>
                  <a:lnTo>
                    <a:pt x="1057" y="0"/>
                  </a:lnTo>
                  <a:lnTo>
                    <a:pt x="0" y="2022"/>
                  </a:lnTo>
                  <a:lnTo>
                    <a:pt x="423" y="2059"/>
                  </a:lnTo>
                  <a:lnTo>
                    <a:pt x="515" y="1875"/>
                  </a:lnTo>
                  <a:lnTo>
                    <a:pt x="1068" y="1904"/>
                  </a:lnTo>
                  <a:lnTo>
                    <a:pt x="1071" y="1737"/>
                  </a:lnTo>
                  <a:lnTo>
                    <a:pt x="2462" y="1769"/>
                  </a:lnTo>
                  <a:lnTo>
                    <a:pt x="2989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Freeform 108"/>
            <p:cNvSpPr/>
            <p:nvPr/>
          </p:nvSpPr>
          <p:spPr>
            <a:xfrm>
              <a:off x="6296040" y="5499360"/>
              <a:ext cx="477360" cy="356400"/>
            </a:xfrm>
            <a:custGeom>
              <a:avLst/>
              <a:gdLst>
                <a:gd name="textAreaLeft" fmla="*/ 0 w 477360"/>
                <a:gd name="textAreaRight" fmla="*/ 477720 w 47736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2989" h="2059">
                  <a:moveTo>
                    <a:pt x="2989" y="6"/>
                  </a:moveTo>
                  <a:lnTo>
                    <a:pt x="1057" y="0"/>
                  </a:lnTo>
                  <a:lnTo>
                    <a:pt x="0" y="2022"/>
                  </a:lnTo>
                  <a:lnTo>
                    <a:pt x="423" y="2059"/>
                  </a:lnTo>
                  <a:lnTo>
                    <a:pt x="515" y="1875"/>
                  </a:lnTo>
                  <a:lnTo>
                    <a:pt x="1068" y="1904"/>
                  </a:lnTo>
                  <a:lnTo>
                    <a:pt x="1071" y="1737"/>
                  </a:lnTo>
                  <a:lnTo>
                    <a:pt x="2462" y="1769"/>
                  </a:lnTo>
                  <a:lnTo>
                    <a:pt x="2989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Freeform 109"/>
            <p:cNvSpPr/>
            <p:nvPr/>
          </p:nvSpPr>
          <p:spPr>
            <a:xfrm>
              <a:off x="6764040" y="5240160"/>
              <a:ext cx="377280" cy="11412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362" h="660">
                  <a:moveTo>
                    <a:pt x="2362" y="660"/>
                  </a:moveTo>
                  <a:lnTo>
                    <a:pt x="586" y="656"/>
                  </a:lnTo>
                  <a:lnTo>
                    <a:pt x="631" y="481"/>
                  </a:lnTo>
                  <a:lnTo>
                    <a:pt x="0" y="475"/>
                  </a:lnTo>
                  <a:lnTo>
                    <a:pt x="165" y="0"/>
                  </a:lnTo>
                  <a:lnTo>
                    <a:pt x="1535" y="2"/>
                  </a:lnTo>
                  <a:lnTo>
                    <a:pt x="1548" y="9"/>
                  </a:lnTo>
                  <a:lnTo>
                    <a:pt x="1561" y="15"/>
                  </a:lnTo>
                  <a:lnTo>
                    <a:pt x="1575" y="20"/>
                  </a:lnTo>
                  <a:lnTo>
                    <a:pt x="1588" y="23"/>
                  </a:lnTo>
                  <a:lnTo>
                    <a:pt x="1602" y="25"/>
                  </a:lnTo>
                  <a:lnTo>
                    <a:pt x="1617" y="28"/>
                  </a:lnTo>
                  <a:lnTo>
                    <a:pt x="1632" y="28"/>
                  </a:lnTo>
                  <a:lnTo>
                    <a:pt x="1646" y="29"/>
                  </a:lnTo>
                  <a:lnTo>
                    <a:pt x="1678" y="28"/>
                  </a:lnTo>
                  <a:lnTo>
                    <a:pt x="1709" y="25"/>
                  </a:lnTo>
                  <a:lnTo>
                    <a:pt x="1742" y="23"/>
                  </a:lnTo>
                  <a:lnTo>
                    <a:pt x="1774" y="20"/>
                  </a:lnTo>
                  <a:lnTo>
                    <a:pt x="1806" y="16"/>
                  </a:lnTo>
                  <a:lnTo>
                    <a:pt x="1838" y="15"/>
                  </a:lnTo>
                  <a:lnTo>
                    <a:pt x="1853" y="14"/>
                  </a:lnTo>
                  <a:lnTo>
                    <a:pt x="1869" y="15"/>
                  </a:lnTo>
                  <a:lnTo>
                    <a:pt x="1885" y="16"/>
                  </a:lnTo>
                  <a:lnTo>
                    <a:pt x="1899" y="17"/>
                  </a:lnTo>
                  <a:lnTo>
                    <a:pt x="1914" y="20"/>
                  </a:lnTo>
                  <a:lnTo>
                    <a:pt x="1928" y="23"/>
                  </a:lnTo>
                  <a:lnTo>
                    <a:pt x="1942" y="28"/>
                  </a:lnTo>
                  <a:lnTo>
                    <a:pt x="1956" y="32"/>
                  </a:lnTo>
                  <a:lnTo>
                    <a:pt x="1969" y="39"/>
                  </a:lnTo>
                  <a:lnTo>
                    <a:pt x="1982" y="46"/>
                  </a:lnTo>
                  <a:lnTo>
                    <a:pt x="1993" y="56"/>
                  </a:lnTo>
                  <a:lnTo>
                    <a:pt x="2005" y="66"/>
                  </a:lnTo>
                  <a:lnTo>
                    <a:pt x="2039" y="99"/>
                  </a:lnTo>
                  <a:lnTo>
                    <a:pt x="2066" y="128"/>
                  </a:lnTo>
                  <a:lnTo>
                    <a:pt x="2088" y="153"/>
                  </a:lnTo>
                  <a:lnTo>
                    <a:pt x="2104" y="173"/>
                  </a:lnTo>
                  <a:lnTo>
                    <a:pt x="2116" y="190"/>
                  </a:lnTo>
                  <a:lnTo>
                    <a:pt x="2125" y="205"/>
                  </a:lnTo>
                  <a:lnTo>
                    <a:pt x="2130" y="217"/>
                  </a:lnTo>
                  <a:lnTo>
                    <a:pt x="2133" y="226"/>
                  </a:lnTo>
                  <a:lnTo>
                    <a:pt x="2135" y="233"/>
                  </a:lnTo>
                  <a:lnTo>
                    <a:pt x="2133" y="239"/>
                  </a:lnTo>
                  <a:lnTo>
                    <a:pt x="2132" y="244"/>
                  </a:lnTo>
                  <a:lnTo>
                    <a:pt x="2131" y="248"/>
                  </a:lnTo>
                  <a:lnTo>
                    <a:pt x="2131" y="252"/>
                  </a:lnTo>
                  <a:lnTo>
                    <a:pt x="2131" y="255"/>
                  </a:lnTo>
                  <a:lnTo>
                    <a:pt x="2133" y="260"/>
                  </a:lnTo>
                  <a:lnTo>
                    <a:pt x="2138" y="265"/>
                  </a:lnTo>
                  <a:lnTo>
                    <a:pt x="2145" y="271"/>
                  </a:lnTo>
                  <a:lnTo>
                    <a:pt x="2152" y="275"/>
                  </a:lnTo>
                  <a:lnTo>
                    <a:pt x="2160" y="280"/>
                  </a:lnTo>
                  <a:lnTo>
                    <a:pt x="2170" y="285"/>
                  </a:lnTo>
                  <a:lnTo>
                    <a:pt x="2187" y="293"/>
                  </a:lnTo>
                  <a:lnTo>
                    <a:pt x="2204" y="303"/>
                  </a:lnTo>
                  <a:lnTo>
                    <a:pt x="2211" y="308"/>
                  </a:lnTo>
                  <a:lnTo>
                    <a:pt x="2218" y="315"/>
                  </a:lnTo>
                  <a:lnTo>
                    <a:pt x="2223" y="323"/>
                  </a:lnTo>
                  <a:lnTo>
                    <a:pt x="2228" y="333"/>
                  </a:lnTo>
                  <a:lnTo>
                    <a:pt x="2230" y="344"/>
                  </a:lnTo>
                  <a:lnTo>
                    <a:pt x="2233" y="356"/>
                  </a:lnTo>
                  <a:lnTo>
                    <a:pt x="2233" y="371"/>
                  </a:lnTo>
                  <a:lnTo>
                    <a:pt x="2230" y="389"/>
                  </a:lnTo>
                  <a:lnTo>
                    <a:pt x="2226" y="421"/>
                  </a:lnTo>
                  <a:lnTo>
                    <a:pt x="2225" y="447"/>
                  </a:lnTo>
                  <a:lnTo>
                    <a:pt x="2226" y="458"/>
                  </a:lnTo>
                  <a:lnTo>
                    <a:pt x="2227" y="466"/>
                  </a:lnTo>
                  <a:lnTo>
                    <a:pt x="2228" y="473"/>
                  </a:lnTo>
                  <a:lnTo>
                    <a:pt x="2232" y="480"/>
                  </a:lnTo>
                  <a:lnTo>
                    <a:pt x="2235" y="484"/>
                  </a:lnTo>
                  <a:lnTo>
                    <a:pt x="2240" y="489"/>
                  </a:lnTo>
                  <a:lnTo>
                    <a:pt x="2244" y="494"/>
                  </a:lnTo>
                  <a:lnTo>
                    <a:pt x="2251" y="497"/>
                  </a:lnTo>
                  <a:lnTo>
                    <a:pt x="2267" y="504"/>
                  </a:lnTo>
                  <a:lnTo>
                    <a:pt x="2285" y="512"/>
                  </a:lnTo>
                  <a:lnTo>
                    <a:pt x="2290" y="540"/>
                  </a:lnTo>
                  <a:lnTo>
                    <a:pt x="2297" y="569"/>
                  </a:lnTo>
                  <a:lnTo>
                    <a:pt x="2305" y="593"/>
                  </a:lnTo>
                  <a:lnTo>
                    <a:pt x="2313" y="615"/>
                  </a:lnTo>
                  <a:lnTo>
                    <a:pt x="2319" y="625"/>
                  </a:lnTo>
                  <a:lnTo>
                    <a:pt x="2324" y="633"/>
                  </a:lnTo>
                  <a:lnTo>
                    <a:pt x="2330" y="641"/>
                  </a:lnTo>
                  <a:lnTo>
                    <a:pt x="2336" y="647"/>
                  </a:lnTo>
                  <a:lnTo>
                    <a:pt x="2341" y="653"/>
                  </a:lnTo>
                  <a:lnTo>
                    <a:pt x="2348" y="656"/>
                  </a:lnTo>
                  <a:lnTo>
                    <a:pt x="2355" y="658"/>
                  </a:lnTo>
                  <a:lnTo>
                    <a:pt x="2362" y="6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Freeform 110"/>
            <p:cNvSpPr/>
            <p:nvPr/>
          </p:nvSpPr>
          <p:spPr>
            <a:xfrm>
              <a:off x="6764040" y="5240160"/>
              <a:ext cx="377280" cy="11412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362" h="660">
                  <a:moveTo>
                    <a:pt x="2362" y="660"/>
                  </a:moveTo>
                  <a:lnTo>
                    <a:pt x="586" y="656"/>
                  </a:lnTo>
                  <a:lnTo>
                    <a:pt x="631" y="481"/>
                  </a:lnTo>
                  <a:lnTo>
                    <a:pt x="0" y="475"/>
                  </a:lnTo>
                  <a:lnTo>
                    <a:pt x="165" y="0"/>
                  </a:lnTo>
                  <a:lnTo>
                    <a:pt x="1535" y="2"/>
                  </a:lnTo>
                  <a:lnTo>
                    <a:pt x="1548" y="9"/>
                  </a:lnTo>
                  <a:lnTo>
                    <a:pt x="1561" y="15"/>
                  </a:lnTo>
                  <a:lnTo>
                    <a:pt x="1575" y="20"/>
                  </a:lnTo>
                  <a:lnTo>
                    <a:pt x="1588" y="23"/>
                  </a:lnTo>
                  <a:lnTo>
                    <a:pt x="1602" y="25"/>
                  </a:lnTo>
                  <a:lnTo>
                    <a:pt x="1617" y="28"/>
                  </a:lnTo>
                  <a:lnTo>
                    <a:pt x="1632" y="28"/>
                  </a:lnTo>
                  <a:lnTo>
                    <a:pt x="1646" y="29"/>
                  </a:lnTo>
                  <a:lnTo>
                    <a:pt x="1678" y="28"/>
                  </a:lnTo>
                  <a:lnTo>
                    <a:pt x="1709" y="25"/>
                  </a:lnTo>
                  <a:lnTo>
                    <a:pt x="1742" y="23"/>
                  </a:lnTo>
                  <a:lnTo>
                    <a:pt x="1774" y="20"/>
                  </a:lnTo>
                  <a:lnTo>
                    <a:pt x="1806" y="16"/>
                  </a:lnTo>
                  <a:lnTo>
                    <a:pt x="1838" y="15"/>
                  </a:lnTo>
                  <a:lnTo>
                    <a:pt x="1853" y="14"/>
                  </a:lnTo>
                  <a:lnTo>
                    <a:pt x="1869" y="15"/>
                  </a:lnTo>
                  <a:lnTo>
                    <a:pt x="1885" y="16"/>
                  </a:lnTo>
                  <a:lnTo>
                    <a:pt x="1899" y="17"/>
                  </a:lnTo>
                  <a:lnTo>
                    <a:pt x="1914" y="20"/>
                  </a:lnTo>
                  <a:lnTo>
                    <a:pt x="1928" y="23"/>
                  </a:lnTo>
                  <a:lnTo>
                    <a:pt x="1942" y="28"/>
                  </a:lnTo>
                  <a:lnTo>
                    <a:pt x="1956" y="32"/>
                  </a:lnTo>
                  <a:lnTo>
                    <a:pt x="1969" y="39"/>
                  </a:lnTo>
                  <a:lnTo>
                    <a:pt x="1982" y="46"/>
                  </a:lnTo>
                  <a:lnTo>
                    <a:pt x="1993" y="56"/>
                  </a:lnTo>
                  <a:lnTo>
                    <a:pt x="2005" y="66"/>
                  </a:lnTo>
                  <a:lnTo>
                    <a:pt x="2039" y="99"/>
                  </a:lnTo>
                  <a:lnTo>
                    <a:pt x="2066" y="128"/>
                  </a:lnTo>
                  <a:lnTo>
                    <a:pt x="2088" y="153"/>
                  </a:lnTo>
                  <a:lnTo>
                    <a:pt x="2104" y="173"/>
                  </a:lnTo>
                  <a:lnTo>
                    <a:pt x="2116" y="190"/>
                  </a:lnTo>
                  <a:lnTo>
                    <a:pt x="2125" y="205"/>
                  </a:lnTo>
                  <a:lnTo>
                    <a:pt x="2130" y="217"/>
                  </a:lnTo>
                  <a:lnTo>
                    <a:pt x="2133" y="226"/>
                  </a:lnTo>
                  <a:lnTo>
                    <a:pt x="2135" y="233"/>
                  </a:lnTo>
                  <a:lnTo>
                    <a:pt x="2133" y="239"/>
                  </a:lnTo>
                  <a:lnTo>
                    <a:pt x="2132" y="244"/>
                  </a:lnTo>
                  <a:lnTo>
                    <a:pt x="2131" y="248"/>
                  </a:lnTo>
                  <a:lnTo>
                    <a:pt x="2131" y="252"/>
                  </a:lnTo>
                  <a:lnTo>
                    <a:pt x="2131" y="255"/>
                  </a:lnTo>
                  <a:lnTo>
                    <a:pt x="2133" y="260"/>
                  </a:lnTo>
                  <a:lnTo>
                    <a:pt x="2138" y="265"/>
                  </a:lnTo>
                  <a:lnTo>
                    <a:pt x="2145" y="271"/>
                  </a:lnTo>
                  <a:lnTo>
                    <a:pt x="2152" y="275"/>
                  </a:lnTo>
                  <a:lnTo>
                    <a:pt x="2160" y="280"/>
                  </a:lnTo>
                  <a:lnTo>
                    <a:pt x="2170" y="285"/>
                  </a:lnTo>
                  <a:lnTo>
                    <a:pt x="2187" y="293"/>
                  </a:lnTo>
                  <a:lnTo>
                    <a:pt x="2204" y="303"/>
                  </a:lnTo>
                  <a:lnTo>
                    <a:pt x="2211" y="308"/>
                  </a:lnTo>
                  <a:lnTo>
                    <a:pt x="2218" y="315"/>
                  </a:lnTo>
                  <a:lnTo>
                    <a:pt x="2223" y="323"/>
                  </a:lnTo>
                  <a:lnTo>
                    <a:pt x="2228" y="333"/>
                  </a:lnTo>
                  <a:lnTo>
                    <a:pt x="2230" y="344"/>
                  </a:lnTo>
                  <a:lnTo>
                    <a:pt x="2233" y="356"/>
                  </a:lnTo>
                  <a:lnTo>
                    <a:pt x="2233" y="371"/>
                  </a:lnTo>
                  <a:lnTo>
                    <a:pt x="2230" y="389"/>
                  </a:lnTo>
                  <a:lnTo>
                    <a:pt x="2226" y="421"/>
                  </a:lnTo>
                  <a:lnTo>
                    <a:pt x="2225" y="447"/>
                  </a:lnTo>
                  <a:lnTo>
                    <a:pt x="2226" y="458"/>
                  </a:lnTo>
                  <a:lnTo>
                    <a:pt x="2227" y="466"/>
                  </a:lnTo>
                  <a:lnTo>
                    <a:pt x="2228" y="473"/>
                  </a:lnTo>
                  <a:lnTo>
                    <a:pt x="2232" y="480"/>
                  </a:lnTo>
                  <a:lnTo>
                    <a:pt x="2235" y="484"/>
                  </a:lnTo>
                  <a:lnTo>
                    <a:pt x="2240" y="489"/>
                  </a:lnTo>
                  <a:lnTo>
                    <a:pt x="2244" y="494"/>
                  </a:lnTo>
                  <a:lnTo>
                    <a:pt x="2251" y="497"/>
                  </a:lnTo>
                  <a:lnTo>
                    <a:pt x="2267" y="504"/>
                  </a:lnTo>
                  <a:lnTo>
                    <a:pt x="2285" y="512"/>
                  </a:lnTo>
                  <a:lnTo>
                    <a:pt x="2290" y="540"/>
                  </a:lnTo>
                  <a:lnTo>
                    <a:pt x="2297" y="569"/>
                  </a:lnTo>
                  <a:lnTo>
                    <a:pt x="2305" y="593"/>
                  </a:lnTo>
                  <a:lnTo>
                    <a:pt x="2313" y="615"/>
                  </a:lnTo>
                  <a:lnTo>
                    <a:pt x="2319" y="625"/>
                  </a:lnTo>
                  <a:lnTo>
                    <a:pt x="2324" y="633"/>
                  </a:lnTo>
                  <a:lnTo>
                    <a:pt x="2330" y="641"/>
                  </a:lnTo>
                  <a:lnTo>
                    <a:pt x="2336" y="647"/>
                  </a:lnTo>
                  <a:lnTo>
                    <a:pt x="2341" y="653"/>
                  </a:lnTo>
                  <a:lnTo>
                    <a:pt x="2348" y="656"/>
                  </a:lnTo>
                  <a:lnTo>
                    <a:pt x="2355" y="658"/>
                  </a:lnTo>
                  <a:lnTo>
                    <a:pt x="2362" y="66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Freeform 111"/>
            <p:cNvSpPr/>
            <p:nvPr/>
          </p:nvSpPr>
          <p:spPr>
            <a:xfrm>
              <a:off x="6789600" y="5129280"/>
              <a:ext cx="301680" cy="121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886" h="703">
                  <a:moveTo>
                    <a:pt x="0" y="637"/>
                  </a:moveTo>
                  <a:lnTo>
                    <a:pt x="219" y="0"/>
                  </a:lnTo>
                  <a:lnTo>
                    <a:pt x="1886" y="6"/>
                  </a:lnTo>
                  <a:lnTo>
                    <a:pt x="1846" y="703"/>
                  </a:lnTo>
                  <a:lnTo>
                    <a:pt x="1835" y="693"/>
                  </a:lnTo>
                  <a:lnTo>
                    <a:pt x="1822" y="683"/>
                  </a:lnTo>
                  <a:lnTo>
                    <a:pt x="1809" y="676"/>
                  </a:lnTo>
                  <a:lnTo>
                    <a:pt x="1796" y="669"/>
                  </a:lnTo>
                  <a:lnTo>
                    <a:pt x="1782" y="665"/>
                  </a:lnTo>
                  <a:lnTo>
                    <a:pt x="1768" y="660"/>
                  </a:lnTo>
                  <a:lnTo>
                    <a:pt x="1753" y="657"/>
                  </a:lnTo>
                  <a:lnTo>
                    <a:pt x="1738" y="654"/>
                  </a:lnTo>
                  <a:lnTo>
                    <a:pt x="1724" y="653"/>
                  </a:lnTo>
                  <a:lnTo>
                    <a:pt x="1707" y="652"/>
                  </a:lnTo>
                  <a:lnTo>
                    <a:pt x="1692" y="651"/>
                  </a:lnTo>
                  <a:lnTo>
                    <a:pt x="1677" y="652"/>
                  </a:lnTo>
                  <a:lnTo>
                    <a:pt x="1644" y="653"/>
                  </a:lnTo>
                  <a:lnTo>
                    <a:pt x="1612" y="657"/>
                  </a:lnTo>
                  <a:lnTo>
                    <a:pt x="1580" y="660"/>
                  </a:lnTo>
                  <a:lnTo>
                    <a:pt x="1547" y="662"/>
                  </a:lnTo>
                  <a:lnTo>
                    <a:pt x="1516" y="665"/>
                  </a:lnTo>
                  <a:lnTo>
                    <a:pt x="1485" y="666"/>
                  </a:lnTo>
                  <a:lnTo>
                    <a:pt x="1470" y="665"/>
                  </a:lnTo>
                  <a:lnTo>
                    <a:pt x="1455" y="665"/>
                  </a:lnTo>
                  <a:lnTo>
                    <a:pt x="1440" y="662"/>
                  </a:lnTo>
                  <a:lnTo>
                    <a:pt x="1426" y="660"/>
                  </a:lnTo>
                  <a:lnTo>
                    <a:pt x="1413" y="657"/>
                  </a:lnTo>
                  <a:lnTo>
                    <a:pt x="1399" y="652"/>
                  </a:lnTo>
                  <a:lnTo>
                    <a:pt x="1386" y="646"/>
                  </a:lnTo>
                  <a:lnTo>
                    <a:pt x="1373" y="639"/>
                  </a:lnTo>
                  <a:lnTo>
                    <a:pt x="0" y="63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Freeform 112"/>
            <p:cNvSpPr/>
            <p:nvPr/>
          </p:nvSpPr>
          <p:spPr>
            <a:xfrm>
              <a:off x="6789600" y="5129280"/>
              <a:ext cx="301680" cy="121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886" h="703">
                  <a:moveTo>
                    <a:pt x="0" y="637"/>
                  </a:moveTo>
                  <a:lnTo>
                    <a:pt x="219" y="0"/>
                  </a:lnTo>
                  <a:lnTo>
                    <a:pt x="1886" y="6"/>
                  </a:lnTo>
                  <a:lnTo>
                    <a:pt x="1846" y="703"/>
                  </a:lnTo>
                  <a:lnTo>
                    <a:pt x="1835" y="693"/>
                  </a:lnTo>
                  <a:lnTo>
                    <a:pt x="1822" y="683"/>
                  </a:lnTo>
                  <a:lnTo>
                    <a:pt x="1809" y="676"/>
                  </a:lnTo>
                  <a:lnTo>
                    <a:pt x="1796" y="669"/>
                  </a:lnTo>
                  <a:lnTo>
                    <a:pt x="1782" y="665"/>
                  </a:lnTo>
                  <a:lnTo>
                    <a:pt x="1768" y="660"/>
                  </a:lnTo>
                  <a:lnTo>
                    <a:pt x="1753" y="657"/>
                  </a:lnTo>
                  <a:lnTo>
                    <a:pt x="1738" y="654"/>
                  </a:lnTo>
                  <a:lnTo>
                    <a:pt x="1724" y="653"/>
                  </a:lnTo>
                  <a:lnTo>
                    <a:pt x="1707" y="652"/>
                  </a:lnTo>
                  <a:lnTo>
                    <a:pt x="1692" y="651"/>
                  </a:lnTo>
                  <a:lnTo>
                    <a:pt x="1677" y="652"/>
                  </a:lnTo>
                  <a:lnTo>
                    <a:pt x="1644" y="653"/>
                  </a:lnTo>
                  <a:lnTo>
                    <a:pt x="1612" y="657"/>
                  </a:lnTo>
                  <a:lnTo>
                    <a:pt x="1580" y="660"/>
                  </a:lnTo>
                  <a:lnTo>
                    <a:pt x="1547" y="662"/>
                  </a:lnTo>
                  <a:lnTo>
                    <a:pt x="1516" y="665"/>
                  </a:lnTo>
                  <a:lnTo>
                    <a:pt x="1485" y="666"/>
                  </a:lnTo>
                  <a:lnTo>
                    <a:pt x="1470" y="665"/>
                  </a:lnTo>
                  <a:lnTo>
                    <a:pt x="1455" y="665"/>
                  </a:lnTo>
                  <a:lnTo>
                    <a:pt x="1440" y="662"/>
                  </a:lnTo>
                  <a:lnTo>
                    <a:pt x="1426" y="660"/>
                  </a:lnTo>
                  <a:lnTo>
                    <a:pt x="1413" y="657"/>
                  </a:lnTo>
                  <a:lnTo>
                    <a:pt x="1399" y="652"/>
                  </a:lnTo>
                  <a:lnTo>
                    <a:pt x="1386" y="646"/>
                  </a:lnTo>
                  <a:lnTo>
                    <a:pt x="1373" y="639"/>
                  </a:lnTo>
                  <a:lnTo>
                    <a:pt x="0" y="637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Freeform 113"/>
            <p:cNvSpPr/>
            <p:nvPr/>
          </p:nvSpPr>
          <p:spPr>
            <a:xfrm>
              <a:off x="6826320" y="5030640"/>
              <a:ext cx="264960" cy="993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1667" h="576">
                  <a:moveTo>
                    <a:pt x="1667" y="576"/>
                  </a:moveTo>
                  <a:lnTo>
                    <a:pt x="0" y="570"/>
                  </a:lnTo>
                  <a:lnTo>
                    <a:pt x="189" y="6"/>
                  </a:lnTo>
                  <a:lnTo>
                    <a:pt x="292" y="6"/>
                  </a:lnTo>
                  <a:lnTo>
                    <a:pt x="392" y="7"/>
                  </a:lnTo>
                  <a:lnTo>
                    <a:pt x="490" y="7"/>
                  </a:lnTo>
                  <a:lnTo>
                    <a:pt x="585" y="7"/>
                  </a:lnTo>
                  <a:lnTo>
                    <a:pt x="679" y="7"/>
                  </a:lnTo>
                  <a:lnTo>
                    <a:pt x="770" y="7"/>
                  </a:lnTo>
                  <a:lnTo>
                    <a:pt x="859" y="6"/>
                  </a:lnTo>
                  <a:lnTo>
                    <a:pt x="944" y="6"/>
                  </a:lnTo>
                  <a:lnTo>
                    <a:pt x="1028" y="6"/>
                  </a:lnTo>
                  <a:lnTo>
                    <a:pt x="1108" y="5"/>
                  </a:lnTo>
                  <a:lnTo>
                    <a:pt x="1185" y="5"/>
                  </a:lnTo>
                  <a:lnTo>
                    <a:pt x="1258" y="4"/>
                  </a:lnTo>
                  <a:lnTo>
                    <a:pt x="1328" y="2"/>
                  </a:lnTo>
                  <a:lnTo>
                    <a:pt x="1395" y="2"/>
                  </a:lnTo>
                  <a:lnTo>
                    <a:pt x="1458" y="1"/>
                  </a:lnTo>
                  <a:lnTo>
                    <a:pt x="1518" y="0"/>
                  </a:lnTo>
                  <a:lnTo>
                    <a:pt x="1521" y="20"/>
                  </a:lnTo>
                  <a:lnTo>
                    <a:pt x="1522" y="37"/>
                  </a:lnTo>
                  <a:lnTo>
                    <a:pt x="1521" y="53"/>
                  </a:lnTo>
                  <a:lnTo>
                    <a:pt x="1519" y="68"/>
                  </a:lnTo>
                  <a:lnTo>
                    <a:pt x="1515" y="81"/>
                  </a:lnTo>
                  <a:lnTo>
                    <a:pt x="1511" y="94"/>
                  </a:lnTo>
                  <a:lnTo>
                    <a:pt x="1506" y="104"/>
                  </a:lnTo>
                  <a:lnTo>
                    <a:pt x="1501" y="116"/>
                  </a:lnTo>
                  <a:lnTo>
                    <a:pt x="1498" y="125"/>
                  </a:lnTo>
                  <a:lnTo>
                    <a:pt x="1494" y="136"/>
                  </a:lnTo>
                  <a:lnTo>
                    <a:pt x="1492" y="146"/>
                  </a:lnTo>
                  <a:lnTo>
                    <a:pt x="1491" y="157"/>
                  </a:lnTo>
                  <a:lnTo>
                    <a:pt x="1492" y="167"/>
                  </a:lnTo>
                  <a:lnTo>
                    <a:pt x="1494" y="179"/>
                  </a:lnTo>
                  <a:lnTo>
                    <a:pt x="1500" y="190"/>
                  </a:lnTo>
                  <a:lnTo>
                    <a:pt x="1509" y="204"/>
                  </a:lnTo>
                  <a:lnTo>
                    <a:pt x="1530" y="234"/>
                  </a:lnTo>
                  <a:lnTo>
                    <a:pt x="1552" y="261"/>
                  </a:lnTo>
                  <a:lnTo>
                    <a:pt x="1573" y="287"/>
                  </a:lnTo>
                  <a:lnTo>
                    <a:pt x="1592" y="313"/>
                  </a:lnTo>
                  <a:lnTo>
                    <a:pt x="1610" y="338"/>
                  </a:lnTo>
                  <a:lnTo>
                    <a:pt x="1625" y="360"/>
                  </a:lnTo>
                  <a:lnTo>
                    <a:pt x="1631" y="370"/>
                  </a:lnTo>
                  <a:lnTo>
                    <a:pt x="1636" y="381"/>
                  </a:lnTo>
                  <a:lnTo>
                    <a:pt x="1639" y="391"/>
                  </a:lnTo>
                  <a:lnTo>
                    <a:pt x="1641" y="401"/>
                  </a:lnTo>
                  <a:lnTo>
                    <a:pt x="1645" y="421"/>
                  </a:lnTo>
                  <a:lnTo>
                    <a:pt x="1650" y="447"/>
                  </a:lnTo>
                  <a:lnTo>
                    <a:pt x="1653" y="477"/>
                  </a:lnTo>
                  <a:lnTo>
                    <a:pt x="1658" y="506"/>
                  </a:lnTo>
                  <a:lnTo>
                    <a:pt x="1661" y="533"/>
                  </a:lnTo>
                  <a:lnTo>
                    <a:pt x="1665" y="555"/>
                  </a:lnTo>
                  <a:lnTo>
                    <a:pt x="1667" y="570"/>
                  </a:lnTo>
                  <a:lnTo>
                    <a:pt x="1667" y="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Freeform 114"/>
            <p:cNvSpPr/>
            <p:nvPr/>
          </p:nvSpPr>
          <p:spPr>
            <a:xfrm>
              <a:off x="6826320" y="5030640"/>
              <a:ext cx="264960" cy="993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1667" h="576">
                  <a:moveTo>
                    <a:pt x="1667" y="576"/>
                  </a:moveTo>
                  <a:lnTo>
                    <a:pt x="0" y="570"/>
                  </a:lnTo>
                  <a:lnTo>
                    <a:pt x="189" y="6"/>
                  </a:lnTo>
                  <a:lnTo>
                    <a:pt x="292" y="6"/>
                  </a:lnTo>
                  <a:lnTo>
                    <a:pt x="392" y="7"/>
                  </a:lnTo>
                  <a:lnTo>
                    <a:pt x="490" y="7"/>
                  </a:lnTo>
                  <a:lnTo>
                    <a:pt x="585" y="7"/>
                  </a:lnTo>
                  <a:lnTo>
                    <a:pt x="679" y="7"/>
                  </a:lnTo>
                  <a:lnTo>
                    <a:pt x="770" y="7"/>
                  </a:lnTo>
                  <a:lnTo>
                    <a:pt x="859" y="6"/>
                  </a:lnTo>
                  <a:lnTo>
                    <a:pt x="944" y="6"/>
                  </a:lnTo>
                  <a:lnTo>
                    <a:pt x="1028" y="6"/>
                  </a:lnTo>
                  <a:lnTo>
                    <a:pt x="1108" y="5"/>
                  </a:lnTo>
                  <a:lnTo>
                    <a:pt x="1185" y="5"/>
                  </a:lnTo>
                  <a:lnTo>
                    <a:pt x="1258" y="4"/>
                  </a:lnTo>
                  <a:lnTo>
                    <a:pt x="1328" y="2"/>
                  </a:lnTo>
                  <a:lnTo>
                    <a:pt x="1395" y="2"/>
                  </a:lnTo>
                  <a:lnTo>
                    <a:pt x="1458" y="1"/>
                  </a:lnTo>
                  <a:lnTo>
                    <a:pt x="1518" y="0"/>
                  </a:lnTo>
                  <a:lnTo>
                    <a:pt x="1521" y="20"/>
                  </a:lnTo>
                  <a:lnTo>
                    <a:pt x="1522" y="37"/>
                  </a:lnTo>
                  <a:lnTo>
                    <a:pt x="1521" y="53"/>
                  </a:lnTo>
                  <a:lnTo>
                    <a:pt x="1519" y="68"/>
                  </a:lnTo>
                  <a:lnTo>
                    <a:pt x="1515" y="81"/>
                  </a:lnTo>
                  <a:lnTo>
                    <a:pt x="1511" y="94"/>
                  </a:lnTo>
                  <a:lnTo>
                    <a:pt x="1506" y="104"/>
                  </a:lnTo>
                  <a:lnTo>
                    <a:pt x="1501" y="116"/>
                  </a:lnTo>
                  <a:lnTo>
                    <a:pt x="1498" y="125"/>
                  </a:lnTo>
                  <a:lnTo>
                    <a:pt x="1494" y="136"/>
                  </a:lnTo>
                  <a:lnTo>
                    <a:pt x="1492" y="146"/>
                  </a:lnTo>
                  <a:lnTo>
                    <a:pt x="1491" y="157"/>
                  </a:lnTo>
                  <a:lnTo>
                    <a:pt x="1492" y="167"/>
                  </a:lnTo>
                  <a:lnTo>
                    <a:pt x="1494" y="179"/>
                  </a:lnTo>
                  <a:lnTo>
                    <a:pt x="1500" y="190"/>
                  </a:lnTo>
                  <a:lnTo>
                    <a:pt x="1509" y="204"/>
                  </a:lnTo>
                  <a:lnTo>
                    <a:pt x="1530" y="234"/>
                  </a:lnTo>
                  <a:lnTo>
                    <a:pt x="1552" y="261"/>
                  </a:lnTo>
                  <a:lnTo>
                    <a:pt x="1573" y="287"/>
                  </a:lnTo>
                  <a:lnTo>
                    <a:pt x="1592" y="313"/>
                  </a:lnTo>
                  <a:lnTo>
                    <a:pt x="1610" y="338"/>
                  </a:lnTo>
                  <a:lnTo>
                    <a:pt x="1625" y="360"/>
                  </a:lnTo>
                  <a:lnTo>
                    <a:pt x="1631" y="370"/>
                  </a:lnTo>
                  <a:lnTo>
                    <a:pt x="1636" y="381"/>
                  </a:lnTo>
                  <a:lnTo>
                    <a:pt x="1639" y="391"/>
                  </a:lnTo>
                  <a:lnTo>
                    <a:pt x="1641" y="401"/>
                  </a:lnTo>
                  <a:lnTo>
                    <a:pt x="1645" y="421"/>
                  </a:lnTo>
                  <a:lnTo>
                    <a:pt x="1650" y="447"/>
                  </a:lnTo>
                  <a:lnTo>
                    <a:pt x="1653" y="477"/>
                  </a:lnTo>
                  <a:lnTo>
                    <a:pt x="1658" y="506"/>
                  </a:lnTo>
                  <a:lnTo>
                    <a:pt x="1661" y="533"/>
                  </a:lnTo>
                  <a:lnTo>
                    <a:pt x="1665" y="555"/>
                  </a:lnTo>
                  <a:lnTo>
                    <a:pt x="1667" y="570"/>
                  </a:lnTo>
                  <a:lnTo>
                    <a:pt x="1667" y="57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Freeform 115"/>
            <p:cNvSpPr/>
            <p:nvPr/>
          </p:nvSpPr>
          <p:spPr>
            <a:xfrm>
              <a:off x="7064280" y="5011560"/>
              <a:ext cx="285480" cy="194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1792" h="1120">
                  <a:moveTo>
                    <a:pt x="1038" y="688"/>
                  </a:moveTo>
                  <a:lnTo>
                    <a:pt x="1052" y="695"/>
                  </a:lnTo>
                  <a:lnTo>
                    <a:pt x="1065" y="701"/>
                  </a:lnTo>
                  <a:lnTo>
                    <a:pt x="1076" y="708"/>
                  </a:lnTo>
                  <a:lnTo>
                    <a:pt x="1084" y="715"/>
                  </a:lnTo>
                  <a:lnTo>
                    <a:pt x="1091" y="722"/>
                  </a:lnTo>
                  <a:lnTo>
                    <a:pt x="1095" y="729"/>
                  </a:lnTo>
                  <a:lnTo>
                    <a:pt x="1099" y="737"/>
                  </a:lnTo>
                  <a:lnTo>
                    <a:pt x="1101" y="745"/>
                  </a:lnTo>
                  <a:lnTo>
                    <a:pt x="1106" y="778"/>
                  </a:lnTo>
                  <a:lnTo>
                    <a:pt x="1109" y="812"/>
                  </a:lnTo>
                  <a:lnTo>
                    <a:pt x="1112" y="820"/>
                  </a:lnTo>
                  <a:lnTo>
                    <a:pt x="1114" y="827"/>
                  </a:lnTo>
                  <a:lnTo>
                    <a:pt x="1116" y="833"/>
                  </a:lnTo>
                  <a:lnTo>
                    <a:pt x="1120" y="840"/>
                  </a:lnTo>
                  <a:lnTo>
                    <a:pt x="1129" y="852"/>
                  </a:lnTo>
                  <a:lnTo>
                    <a:pt x="1140" y="863"/>
                  </a:lnTo>
                  <a:lnTo>
                    <a:pt x="1154" y="875"/>
                  </a:lnTo>
                  <a:lnTo>
                    <a:pt x="1169" y="884"/>
                  </a:lnTo>
                  <a:lnTo>
                    <a:pt x="1185" y="894"/>
                  </a:lnTo>
                  <a:lnTo>
                    <a:pt x="1204" y="903"/>
                  </a:lnTo>
                  <a:lnTo>
                    <a:pt x="1223" y="911"/>
                  </a:lnTo>
                  <a:lnTo>
                    <a:pt x="1244" y="919"/>
                  </a:lnTo>
                  <a:lnTo>
                    <a:pt x="1266" y="926"/>
                  </a:lnTo>
                  <a:lnTo>
                    <a:pt x="1289" y="933"/>
                  </a:lnTo>
                  <a:lnTo>
                    <a:pt x="1337" y="947"/>
                  </a:lnTo>
                  <a:lnTo>
                    <a:pt x="1386" y="959"/>
                  </a:lnTo>
                  <a:lnTo>
                    <a:pt x="1398" y="963"/>
                  </a:lnTo>
                  <a:lnTo>
                    <a:pt x="1410" y="966"/>
                  </a:lnTo>
                  <a:lnTo>
                    <a:pt x="1420" y="971"/>
                  </a:lnTo>
                  <a:lnTo>
                    <a:pt x="1431" y="974"/>
                  </a:lnTo>
                  <a:lnTo>
                    <a:pt x="1448" y="985"/>
                  </a:lnTo>
                  <a:lnTo>
                    <a:pt x="1463" y="995"/>
                  </a:lnTo>
                  <a:lnTo>
                    <a:pt x="1477" y="1007"/>
                  </a:lnTo>
                  <a:lnTo>
                    <a:pt x="1488" y="1020"/>
                  </a:lnTo>
                  <a:lnTo>
                    <a:pt x="1497" y="1033"/>
                  </a:lnTo>
                  <a:lnTo>
                    <a:pt x="1505" y="1044"/>
                  </a:lnTo>
                  <a:lnTo>
                    <a:pt x="1511" y="1057"/>
                  </a:lnTo>
                  <a:lnTo>
                    <a:pt x="1516" y="1068"/>
                  </a:lnTo>
                  <a:lnTo>
                    <a:pt x="1519" y="1078"/>
                  </a:lnTo>
                  <a:lnTo>
                    <a:pt x="1522" y="1088"/>
                  </a:lnTo>
                  <a:lnTo>
                    <a:pt x="1524" y="1102"/>
                  </a:lnTo>
                  <a:lnTo>
                    <a:pt x="1524" y="1106"/>
                  </a:lnTo>
                  <a:lnTo>
                    <a:pt x="150" y="1120"/>
                  </a:lnTo>
                  <a:lnTo>
                    <a:pt x="176" y="680"/>
                  </a:lnTo>
                  <a:lnTo>
                    <a:pt x="176" y="674"/>
                  </a:lnTo>
                  <a:lnTo>
                    <a:pt x="174" y="659"/>
                  </a:lnTo>
                  <a:lnTo>
                    <a:pt x="170" y="637"/>
                  </a:lnTo>
                  <a:lnTo>
                    <a:pt x="167" y="610"/>
                  </a:lnTo>
                  <a:lnTo>
                    <a:pt x="162" y="581"/>
                  </a:lnTo>
                  <a:lnTo>
                    <a:pt x="159" y="551"/>
                  </a:lnTo>
                  <a:lnTo>
                    <a:pt x="154" y="525"/>
                  </a:lnTo>
                  <a:lnTo>
                    <a:pt x="150" y="505"/>
                  </a:lnTo>
                  <a:lnTo>
                    <a:pt x="148" y="495"/>
                  </a:lnTo>
                  <a:lnTo>
                    <a:pt x="145" y="485"/>
                  </a:lnTo>
                  <a:lnTo>
                    <a:pt x="140" y="474"/>
                  </a:lnTo>
                  <a:lnTo>
                    <a:pt x="134" y="464"/>
                  </a:lnTo>
                  <a:lnTo>
                    <a:pt x="119" y="442"/>
                  </a:lnTo>
                  <a:lnTo>
                    <a:pt x="101" y="417"/>
                  </a:lnTo>
                  <a:lnTo>
                    <a:pt x="82" y="391"/>
                  </a:lnTo>
                  <a:lnTo>
                    <a:pt x="61" y="365"/>
                  </a:lnTo>
                  <a:lnTo>
                    <a:pt x="39" y="338"/>
                  </a:lnTo>
                  <a:lnTo>
                    <a:pt x="18" y="308"/>
                  </a:lnTo>
                  <a:lnTo>
                    <a:pt x="9" y="294"/>
                  </a:lnTo>
                  <a:lnTo>
                    <a:pt x="3" y="283"/>
                  </a:lnTo>
                  <a:lnTo>
                    <a:pt x="1" y="271"/>
                  </a:lnTo>
                  <a:lnTo>
                    <a:pt x="0" y="261"/>
                  </a:lnTo>
                  <a:lnTo>
                    <a:pt x="1" y="250"/>
                  </a:lnTo>
                  <a:lnTo>
                    <a:pt x="3" y="240"/>
                  </a:lnTo>
                  <a:lnTo>
                    <a:pt x="7" y="229"/>
                  </a:lnTo>
                  <a:lnTo>
                    <a:pt x="10" y="220"/>
                  </a:lnTo>
                  <a:lnTo>
                    <a:pt x="15" y="208"/>
                  </a:lnTo>
                  <a:lnTo>
                    <a:pt x="20" y="198"/>
                  </a:lnTo>
                  <a:lnTo>
                    <a:pt x="24" y="185"/>
                  </a:lnTo>
                  <a:lnTo>
                    <a:pt x="28" y="172"/>
                  </a:lnTo>
                  <a:lnTo>
                    <a:pt x="30" y="157"/>
                  </a:lnTo>
                  <a:lnTo>
                    <a:pt x="31" y="141"/>
                  </a:lnTo>
                  <a:lnTo>
                    <a:pt x="30" y="124"/>
                  </a:lnTo>
                  <a:lnTo>
                    <a:pt x="27" y="104"/>
                  </a:lnTo>
                  <a:lnTo>
                    <a:pt x="90" y="103"/>
                  </a:lnTo>
                  <a:lnTo>
                    <a:pt x="147" y="102"/>
                  </a:lnTo>
                  <a:lnTo>
                    <a:pt x="200" y="101"/>
                  </a:lnTo>
                  <a:lnTo>
                    <a:pt x="245" y="99"/>
                  </a:lnTo>
                  <a:lnTo>
                    <a:pt x="285" y="98"/>
                  </a:lnTo>
                  <a:lnTo>
                    <a:pt x="319" y="96"/>
                  </a:lnTo>
                  <a:lnTo>
                    <a:pt x="346" y="95"/>
                  </a:lnTo>
                  <a:lnTo>
                    <a:pt x="367" y="92"/>
                  </a:lnTo>
                  <a:lnTo>
                    <a:pt x="375" y="80"/>
                  </a:lnTo>
                  <a:lnTo>
                    <a:pt x="384" y="68"/>
                  </a:lnTo>
                  <a:lnTo>
                    <a:pt x="392" y="57"/>
                  </a:lnTo>
                  <a:lnTo>
                    <a:pt x="400" y="49"/>
                  </a:lnTo>
                  <a:lnTo>
                    <a:pt x="409" y="42"/>
                  </a:lnTo>
                  <a:lnTo>
                    <a:pt x="416" y="36"/>
                  </a:lnTo>
                  <a:lnTo>
                    <a:pt x="424" y="30"/>
                  </a:lnTo>
                  <a:lnTo>
                    <a:pt x="430" y="27"/>
                  </a:lnTo>
                  <a:lnTo>
                    <a:pt x="441" y="21"/>
                  </a:lnTo>
                  <a:lnTo>
                    <a:pt x="451" y="19"/>
                  </a:lnTo>
                  <a:lnTo>
                    <a:pt x="456" y="18"/>
                  </a:lnTo>
                  <a:lnTo>
                    <a:pt x="459" y="18"/>
                  </a:lnTo>
                  <a:lnTo>
                    <a:pt x="583" y="0"/>
                  </a:lnTo>
                  <a:lnTo>
                    <a:pt x="706" y="124"/>
                  </a:lnTo>
                  <a:lnTo>
                    <a:pt x="757" y="120"/>
                  </a:lnTo>
                  <a:lnTo>
                    <a:pt x="803" y="118"/>
                  </a:lnTo>
                  <a:lnTo>
                    <a:pt x="845" y="118"/>
                  </a:lnTo>
                  <a:lnTo>
                    <a:pt x="882" y="119"/>
                  </a:lnTo>
                  <a:lnTo>
                    <a:pt x="912" y="120"/>
                  </a:lnTo>
                  <a:lnTo>
                    <a:pt x="935" y="122"/>
                  </a:lnTo>
                  <a:lnTo>
                    <a:pt x="949" y="124"/>
                  </a:lnTo>
                  <a:lnTo>
                    <a:pt x="954" y="124"/>
                  </a:lnTo>
                  <a:lnTo>
                    <a:pt x="1046" y="124"/>
                  </a:lnTo>
                  <a:lnTo>
                    <a:pt x="1109" y="187"/>
                  </a:lnTo>
                  <a:lnTo>
                    <a:pt x="1134" y="179"/>
                  </a:lnTo>
                  <a:lnTo>
                    <a:pt x="1157" y="173"/>
                  </a:lnTo>
                  <a:lnTo>
                    <a:pt x="1178" y="167"/>
                  </a:lnTo>
                  <a:lnTo>
                    <a:pt x="1197" y="164"/>
                  </a:lnTo>
                  <a:lnTo>
                    <a:pt x="1213" y="161"/>
                  </a:lnTo>
                  <a:lnTo>
                    <a:pt x="1229" y="160"/>
                  </a:lnTo>
                  <a:lnTo>
                    <a:pt x="1243" y="160"/>
                  </a:lnTo>
                  <a:lnTo>
                    <a:pt x="1253" y="160"/>
                  </a:lnTo>
                  <a:lnTo>
                    <a:pt x="1272" y="162"/>
                  </a:lnTo>
                  <a:lnTo>
                    <a:pt x="1285" y="166"/>
                  </a:lnTo>
                  <a:lnTo>
                    <a:pt x="1292" y="169"/>
                  </a:lnTo>
                  <a:lnTo>
                    <a:pt x="1294" y="171"/>
                  </a:lnTo>
                  <a:lnTo>
                    <a:pt x="1296" y="167"/>
                  </a:lnTo>
                  <a:lnTo>
                    <a:pt x="1302" y="159"/>
                  </a:lnTo>
                  <a:lnTo>
                    <a:pt x="1312" y="148"/>
                  </a:lnTo>
                  <a:lnTo>
                    <a:pt x="1323" y="139"/>
                  </a:lnTo>
                  <a:lnTo>
                    <a:pt x="1329" y="136"/>
                  </a:lnTo>
                  <a:lnTo>
                    <a:pt x="1337" y="132"/>
                  </a:lnTo>
                  <a:lnTo>
                    <a:pt x="1344" y="131"/>
                  </a:lnTo>
                  <a:lnTo>
                    <a:pt x="1352" y="131"/>
                  </a:lnTo>
                  <a:lnTo>
                    <a:pt x="1361" y="133"/>
                  </a:lnTo>
                  <a:lnTo>
                    <a:pt x="1369" y="138"/>
                  </a:lnTo>
                  <a:lnTo>
                    <a:pt x="1378" y="145"/>
                  </a:lnTo>
                  <a:lnTo>
                    <a:pt x="1386" y="155"/>
                  </a:lnTo>
                  <a:lnTo>
                    <a:pt x="1391" y="161"/>
                  </a:lnTo>
                  <a:lnTo>
                    <a:pt x="1397" y="166"/>
                  </a:lnTo>
                  <a:lnTo>
                    <a:pt x="1403" y="169"/>
                  </a:lnTo>
                  <a:lnTo>
                    <a:pt x="1410" y="173"/>
                  </a:lnTo>
                  <a:lnTo>
                    <a:pt x="1418" y="175"/>
                  </a:lnTo>
                  <a:lnTo>
                    <a:pt x="1426" y="176"/>
                  </a:lnTo>
                  <a:lnTo>
                    <a:pt x="1434" y="178"/>
                  </a:lnTo>
                  <a:lnTo>
                    <a:pt x="1445" y="179"/>
                  </a:lnTo>
                  <a:lnTo>
                    <a:pt x="1465" y="179"/>
                  </a:lnTo>
                  <a:lnTo>
                    <a:pt x="1488" y="178"/>
                  </a:lnTo>
                  <a:lnTo>
                    <a:pt x="1511" y="175"/>
                  </a:lnTo>
                  <a:lnTo>
                    <a:pt x="1537" y="172"/>
                  </a:lnTo>
                  <a:lnTo>
                    <a:pt x="1592" y="164"/>
                  </a:lnTo>
                  <a:lnTo>
                    <a:pt x="1648" y="157"/>
                  </a:lnTo>
                  <a:lnTo>
                    <a:pt x="1676" y="154"/>
                  </a:lnTo>
                  <a:lnTo>
                    <a:pt x="1704" y="153"/>
                  </a:lnTo>
                  <a:lnTo>
                    <a:pt x="1731" y="153"/>
                  </a:lnTo>
                  <a:lnTo>
                    <a:pt x="1758" y="155"/>
                  </a:lnTo>
                  <a:lnTo>
                    <a:pt x="1769" y="158"/>
                  </a:lnTo>
                  <a:lnTo>
                    <a:pt x="1779" y="159"/>
                  </a:lnTo>
                  <a:lnTo>
                    <a:pt x="1785" y="161"/>
                  </a:lnTo>
                  <a:lnTo>
                    <a:pt x="1789" y="164"/>
                  </a:lnTo>
                  <a:lnTo>
                    <a:pt x="1792" y="167"/>
                  </a:lnTo>
                  <a:lnTo>
                    <a:pt x="1792" y="169"/>
                  </a:lnTo>
                  <a:lnTo>
                    <a:pt x="1789" y="173"/>
                  </a:lnTo>
                  <a:lnTo>
                    <a:pt x="1785" y="176"/>
                  </a:lnTo>
                  <a:lnTo>
                    <a:pt x="1772" y="185"/>
                  </a:lnTo>
                  <a:lnTo>
                    <a:pt x="1753" y="193"/>
                  </a:lnTo>
                  <a:lnTo>
                    <a:pt x="1730" y="202"/>
                  </a:lnTo>
                  <a:lnTo>
                    <a:pt x="1703" y="212"/>
                  </a:lnTo>
                  <a:lnTo>
                    <a:pt x="1640" y="230"/>
                  </a:lnTo>
                  <a:lnTo>
                    <a:pt x="1574" y="249"/>
                  </a:lnTo>
                  <a:lnTo>
                    <a:pt x="1512" y="265"/>
                  </a:lnTo>
                  <a:lnTo>
                    <a:pt x="1463" y="279"/>
                  </a:lnTo>
                  <a:lnTo>
                    <a:pt x="1445" y="285"/>
                  </a:lnTo>
                  <a:lnTo>
                    <a:pt x="1426" y="292"/>
                  </a:lnTo>
                  <a:lnTo>
                    <a:pt x="1409" y="299"/>
                  </a:lnTo>
                  <a:lnTo>
                    <a:pt x="1393" y="307"/>
                  </a:lnTo>
                  <a:lnTo>
                    <a:pt x="1378" y="315"/>
                  </a:lnTo>
                  <a:lnTo>
                    <a:pt x="1365" y="325"/>
                  </a:lnTo>
                  <a:lnTo>
                    <a:pt x="1352" y="334"/>
                  </a:lnTo>
                  <a:lnTo>
                    <a:pt x="1342" y="344"/>
                  </a:lnTo>
                  <a:lnTo>
                    <a:pt x="1331" y="354"/>
                  </a:lnTo>
                  <a:lnTo>
                    <a:pt x="1322" y="365"/>
                  </a:lnTo>
                  <a:lnTo>
                    <a:pt x="1313" y="376"/>
                  </a:lnTo>
                  <a:lnTo>
                    <a:pt x="1306" y="387"/>
                  </a:lnTo>
                  <a:lnTo>
                    <a:pt x="1292" y="410"/>
                  </a:lnTo>
                  <a:lnTo>
                    <a:pt x="1280" y="432"/>
                  </a:lnTo>
                  <a:lnTo>
                    <a:pt x="1268" y="454"/>
                  </a:lnTo>
                  <a:lnTo>
                    <a:pt x="1255" y="478"/>
                  </a:lnTo>
                  <a:lnTo>
                    <a:pt x="1241" y="500"/>
                  </a:lnTo>
                  <a:lnTo>
                    <a:pt x="1226" y="521"/>
                  </a:lnTo>
                  <a:lnTo>
                    <a:pt x="1210" y="542"/>
                  </a:lnTo>
                  <a:lnTo>
                    <a:pt x="1194" y="563"/>
                  </a:lnTo>
                  <a:lnTo>
                    <a:pt x="1176" y="582"/>
                  </a:lnTo>
                  <a:lnTo>
                    <a:pt x="1159" y="600"/>
                  </a:lnTo>
                  <a:lnTo>
                    <a:pt x="1141" y="618"/>
                  </a:lnTo>
                  <a:lnTo>
                    <a:pt x="1123" y="633"/>
                  </a:lnTo>
                  <a:lnTo>
                    <a:pt x="1107" y="647"/>
                  </a:lnTo>
                  <a:lnTo>
                    <a:pt x="1091" y="659"/>
                  </a:lnTo>
                  <a:lnTo>
                    <a:pt x="1076" y="669"/>
                  </a:lnTo>
                  <a:lnTo>
                    <a:pt x="1062" y="679"/>
                  </a:lnTo>
                  <a:lnTo>
                    <a:pt x="1049" y="685"/>
                  </a:lnTo>
                  <a:lnTo>
                    <a:pt x="1038" y="6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Freeform 116"/>
            <p:cNvSpPr/>
            <p:nvPr/>
          </p:nvSpPr>
          <p:spPr>
            <a:xfrm>
              <a:off x="7064280" y="5011560"/>
              <a:ext cx="285480" cy="194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1792" h="1120">
                  <a:moveTo>
                    <a:pt x="1038" y="688"/>
                  </a:moveTo>
                  <a:lnTo>
                    <a:pt x="1052" y="695"/>
                  </a:lnTo>
                  <a:lnTo>
                    <a:pt x="1065" y="701"/>
                  </a:lnTo>
                  <a:lnTo>
                    <a:pt x="1076" y="708"/>
                  </a:lnTo>
                  <a:lnTo>
                    <a:pt x="1084" y="715"/>
                  </a:lnTo>
                  <a:lnTo>
                    <a:pt x="1091" y="722"/>
                  </a:lnTo>
                  <a:lnTo>
                    <a:pt x="1095" y="729"/>
                  </a:lnTo>
                  <a:lnTo>
                    <a:pt x="1099" y="737"/>
                  </a:lnTo>
                  <a:lnTo>
                    <a:pt x="1101" y="745"/>
                  </a:lnTo>
                  <a:lnTo>
                    <a:pt x="1106" y="778"/>
                  </a:lnTo>
                  <a:lnTo>
                    <a:pt x="1109" y="812"/>
                  </a:lnTo>
                  <a:lnTo>
                    <a:pt x="1112" y="820"/>
                  </a:lnTo>
                  <a:lnTo>
                    <a:pt x="1114" y="827"/>
                  </a:lnTo>
                  <a:lnTo>
                    <a:pt x="1116" y="833"/>
                  </a:lnTo>
                  <a:lnTo>
                    <a:pt x="1120" y="840"/>
                  </a:lnTo>
                  <a:lnTo>
                    <a:pt x="1129" y="852"/>
                  </a:lnTo>
                  <a:lnTo>
                    <a:pt x="1140" y="863"/>
                  </a:lnTo>
                  <a:lnTo>
                    <a:pt x="1154" y="875"/>
                  </a:lnTo>
                  <a:lnTo>
                    <a:pt x="1169" y="884"/>
                  </a:lnTo>
                  <a:lnTo>
                    <a:pt x="1185" y="894"/>
                  </a:lnTo>
                  <a:lnTo>
                    <a:pt x="1204" y="903"/>
                  </a:lnTo>
                  <a:lnTo>
                    <a:pt x="1223" y="911"/>
                  </a:lnTo>
                  <a:lnTo>
                    <a:pt x="1244" y="919"/>
                  </a:lnTo>
                  <a:lnTo>
                    <a:pt x="1266" y="926"/>
                  </a:lnTo>
                  <a:lnTo>
                    <a:pt x="1289" y="933"/>
                  </a:lnTo>
                  <a:lnTo>
                    <a:pt x="1337" y="947"/>
                  </a:lnTo>
                  <a:lnTo>
                    <a:pt x="1386" y="959"/>
                  </a:lnTo>
                  <a:lnTo>
                    <a:pt x="1398" y="963"/>
                  </a:lnTo>
                  <a:lnTo>
                    <a:pt x="1410" y="966"/>
                  </a:lnTo>
                  <a:lnTo>
                    <a:pt x="1420" y="971"/>
                  </a:lnTo>
                  <a:lnTo>
                    <a:pt x="1431" y="974"/>
                  </a:lnTo>
                  <a:lnTo>
                    <a:pt x="1448" y="985"/>
                  </a:lnTo>
                  <a:lnTo>
                    <a:pt x="1463" y="995"/>
                  </a:lnTo>
                  <a:lnTo>
                    <a:pt x="1477" y="1007"/>
                  </a:lnTo>
                  <a:lnTo>
                    <a:pt x="1488" y="1020"/>
                  </a:lnTo>
                  <a:lnTo>
                    <a:pt x="1497" y="1033"/>
                  </a:lnTo>
                  <a:lnTo>
                    <a:pt x="1505" y="1044"/>
                  </a:lnTo>
                  <a:lnTo>
                    <a:pt x="1511" y="1057"/>
                  </a:lnTo>
                  <a:lnTo>
                    <a:pt x="1516" y="1068"/>
                  </a:lnTo>
                  <a:lnTo>
                    <a:pt x="1519" y="1078"/>
                  </a:lnTo>
                  <a:lnTo>
                    <a:pt x="1522" y="1088"/>
                  </a:lnTo>
                  <a:lnTo>
                    <a:pt x="1524" y="1102"/>
                  </a:lnTo>
                  <a:lnTo>
                    <a:pt x="1524" y="1106"/>
                  </a:lnTo>
                  <a:lnTo>
                    <a:pt x="150" y="1120"/>
                  </a:lnTo>
                  <a:lnTo>
                    <a:pt x="176" y="680"/>
                  </a:lnTo>
                  <a:lnTo>
                    <a:pt x="176" y="674"/>
                  </a:lnTo>
                  <a:lnTo>
                    <a:pt x="174" y="659"/>
                  </a:lnTo>
                  <a:lnTo>
                    <a:pt x="170" y="637"/>
                  </a:lnTo>
                  <a:lnTo>
                    <a:pt x="167" y="610"/>
                  </a:lnTo>
                  <a:lnTo>
                    <a:pt x="162" y="581"/>
                  </a:lnTo>
                  <a:lnTo>
                    <a:pt x="159" y="551"/>
                  </a:lnTo>
                  <a:lnTo>
                    <a:pt x="154" y="525"/>
                  </a:lnTo>
                  <a:lnTo>
                    <a:pt x="150" y="505"/>
                  </a:lnTo>
                  <a:lnTo>
                    <a:pt x="148" y="495"/>
                  </a:lnTo>
                  <a:lnTo>
                    <a:pt x="145" y="485"/>
                  </a:lnTo>
                  <a:lnTo>
                    <a:pt x="140" y="474"/>
                  </a:lnTo>
                  <a:lnTo>
                    <a:pt x="134" y="464"/>
                  </a:lnTo>
                  <a:lnTo>
                    <a:pt x="119" y="442"/>
                  </a:lnTo>
                  <a:lnTo>
                    <a:pt x="101" y="417"/>
                  </a:lnTo>
                  <a:lnTo>
                    <a:pt x="82" y="391"/>
                  </a:lnTo>
                  <a:lnTo>
                    <a:pt x="61" y="365"/>
                  </a:lnTo>
                  <a:lnTo>
                    <a:pt x="39" y="338"/>
                  </a:lnTo>
                  <a:lnTo>
                    <a:pt x="18" y="308"/>
                  </a:lnTo>
                  <a:lnTo>
                    <a:pt x="9" y="294"/>
                  </a:lnTo>
                  <a:lnTo>
                    <a:pt x="3" y="283"/>
                  </a:lnTo>
                  <a:lnTo>
                    <a:pt x="1" y="271"/>
                  </a:lnTo>
                  <a:lnTo>
                    <a:pt x="0" y="261"/>
                  </a:lnTo>
                  <a:lnTo>
                    <a:pt x="1" y="250"/>
                  </a:lnTo>
                  <a:lnTo>
                    <a:pt x="3" y="240"/>
                  </a:lnTo>
                  <a:lnTo>
                    <a:pt x="7" y="229"/>
                  </a:lnTo>
                  <a:lnTo>
                    <a:pt x="10" y="220"/>
                  </a:lnTo>
                  <a:lnTo>
                    <a:pt x="15" y="208"/>
                  </a:lnTo>
                  <a:lnTo>
                    <a:pt x="20" y="198"/>
                  </a:lnTo>
                  <a:lnTo>
                    <a:pt x="24" y="185"/>
                  </a:lnTo>
                  <a:lnTo>
                    <a:pt x="28" y="172"/>
                  </a:lnTo>
                  <a:lnTo>
                    <a:pt x="30" y="157"/>
                  </a:lnTo>
                  <a:lnTo>
                    <a:pt x="31" y="141"/>
                  </a:lnTo>
                  <a:lnTo>
                    <a:pt x="30" y="124"/>
                  </a:lnTo>
                  <a:lnTo>
                    <a:pt x="27" y="104"/>
                  </a:lnTo>
                  <a:lnTo>
                    <a:pt x="90" y="103"/>
                  </a:lnTo>
                  <a:lnTo>
                    <a:pt x="147" y="102"/>
                  </a:lnTo>
                  <a:lnTo>
                    <a:pt x="200" y="101"/>
                  </a:lnTo>
                  <a:lnTo>
                    <a:pt x="245" y="99"/>
                  </a:lnTo>
                  <a:lnTo>
                    <a:pt x="285" y="98"/>
                  </a:lnTo>
                  <a:lnTo>
                    <a:pt x="319" y="96"/>
                  </a:lnTo>
                  <a:lnTo>
                    <a:pt x="346" y="95"/>
                  </a:lnTo>
                  <a:lnTo>
                    <a:pt x="367" y="92"/>
                  </a:lnTo>
                  <a:lnTo>
                    <a:pt x="375" y="80"/>
                  </a:lnTo>
                  <a:lnTo>
                    <a:pt x="384" y="68"/>
                  </a:lnTo>
                  <a:lnTo>
                    <a:pt x="392" y="57"/>
                  </a:lnTo>
                  <a:lnTo>
                    <a:pt x="400" y="49"/>
                  </a:lnTo>
                  <a:lnTo>
                    <a:pt x="409" y="42"/>
                  </a:lnTo>
                  <a:lnTo>
                    <a:pt x="416" y="36"/>
                  </a:lnTo>
                  <a:lnTo>
                    <a:pt x="424" y="30"/>
                  </a:lnTo>
                  <a:lnTo>
                    <a:pt x="430" y="27"/>
                  </a:lnTo>
                  <a:lnTo>
                    <a:pt x="441" y="21"/>
                  </a:lnTo>
                  <a:lnTo>
                    <a:pt x="451" y="19"/>
                  </a:lnTo>
                  <a:lnTo>
                    <a:pt x="456" y="18"/>
                  </a:lnTo>
                  <a:lnTo>
                    <a:pt x="459" y="18"/>
                  </a:lnTo>
                  <a:lnTo>
                    <a:pt x="583" y="0"/>
                  </a:lnTo>
                  <a:lnTo>
                    <a:pt x="706" y="124"/>
                  </a:lnTo>
                  <a:lnTo>
                    <a:pt x="757" y="120"/>
                  </a:lnTo>
                  <a:lnTo>
                    <a:pt x="803" y="118"/>
                  </a:lnTo>
                  <a:lnTo>
                    <a:pt x="845" y="118"/>
                  </a:lnTo>
                  <a:lnTo>
                    <a:pt x="882" y="119"/>
                  </a:lnTo>
                  <a:lnTo>
                    <a:pt x="912" y="120"/>
                  </a:lnTo>
                  <a:lnTo>
                    <a:pt x="935" y="122"/>
                  </a:lnTo>
                  <a:lnTo>
                    <a:pt x="949" y="124"/>
                  </a:lnTo>
                  <a:lnTo>
                    <a:pt x="954" y="124"/>
                  </a:lnTo>
                  <a:lnTo>
                    <a:pt x="1046" y="124"/>
                  </a:lnTo>
                  <a:lnTo>
                    <a:pt x="1109" y="187"/>
                  </a:lnTo>
                  <a:lnTo>
                    <a:pt x="1134" y="179"/>
                  </a:lnTo>
                  <a:lnTo>
                    <a:pt x="1157" y="173"/>
                  </a:lnTo>
                  <a:lnTo>
                    <a:pt x="1178" y="167"/>
                  </a:lnTo>
                  <a:lnTo>
                    <a:pt x="1197" y="164"/>
                  </a:lnTo>
                  <a:lnTo>
                    <a:pt x="1213" y="161"/>
                  </a:lnTo>
                  <a:lnTo>
                    <a:pt x="1229" y="160"/>
                  </a:lnTo>
                  <a:lnTo>
                    <a:pt x="1243" y="160"/>
                  </a:lnTo>
                  <a:lnTo>
                    <a:pt x="1253" y="160"/>
                  </a:lnTo>
                  <a:lnTo>
                    <a:pt x="1272" y="162"/>
                  </a:lnTo>
                  <a:lnTo>
                    <a:pt x="1285" y="166"/>
                  </a:lnTo>
                  <a:lnTo>
                    <a:pt x="1292" y="169"/>
                  </a:lnTo>
                  <a:lnTo>
                    <a:pt x="1294" y="171"/>
                  </a:lnTo>
                  <a:lnTo>
                    <a:pt x="1296" y="167"/>
                  </a:lnTo>
                  <a:lnTo>
                    <a:pt x="1302" y="159"/>
                  </a:lnTo>
                  <a:lnTo>
                    <a:pt x="1312" y="148"/>
                  </a:lnTo>
                  <a:lnTo>
                    <a:pt x="1323" y="139"/>
                  </a:lnTo>
                  <a:lnTo>
                    <a:pt x="1329" y="136"/>
                  </a:lnTo>
                  <a:lnTo>
                    <a:pt x="1337" y="132"/>
                  </a:lnTo>
                  <a:lnTo>
                    <a:pt x="1344" y="131"/>
                  </a:lnTo>
                  <a:lnTo>
                    <a:pt x="1352" y="131"/>
                  </a:lnTo>
                  <a:lnTo>
                    <a:pt x="1361" y="133"/>
                  </a:lnTo>
                  <a:lnTo>
                    <a:pt x="1369" y="138"/>
                  </a:lnTo>
                  <a:lnTo>
                    <a:pt x="1378" y="145"/>
                  </a:lnTo>
                  <a:lnTo>
                    <a:pt x="1386" y="155"/>
                  </a:lnTo>
                  <a:lnTo>
                    <a:pt x="1391" y="161"/>
                  </a:lnTo>
                  <a:lnTo>
                    <a:pt x="1397" y="166"/>
                  </a:lnTo>
                  <a:lnTo>
                    <a:pt x="1403" y="169"/>
                  </a:lnTo>
                  <a:lnTo>
                    <a:pt x="1410" y="173"/>
                  </a:lnTo>
                  <a:lnTo>
                    <a:pt x="1418" y="175"/>
                  </a:lnTo>
                  <a:lnTo>
                    <a:pt x="1426" y="176"/>
                  </a:lnTo>
                  <a:lnTo>
                    <a:pt x="1434" y="178"/>
                  </a:lnTo>
                  <a:lnTo>
                    <a:pt x="1445" y="179"/>
                  </a:lnTo>
                  <a:lnTo>
                    <a:pt x="1465" y="179"/>
                  </a:lnTo>
                  <a:lnTo>
                    <a:pt x="1488" y="178"/>
                  </a:lnTo>
                  <a:lnTo>
                    <a:pt x="1511" y="175"/>
                  </a:lnTo>
                  <a:lnTo>
                    <a:pt x="1537" y="172"/>
                  </a:lnTo>
                  <a:lnTo>
                    <a:pt x="1592" y="164"/>
                  </a:lnTo>
                  <a:lnTo>
                    <a:pt x="1648" y="157"/>
                  </a:lnTo>
                  <a:lnTo>
                    <a:pt x="1676" y="154"/>
                  </a:lnTo>
                  <a:lnTo>
                    <a:pt x="1704" y="153"/>
                  </a:lnTo>
                  <a:lnTo>
                    <a:pt x="1731" y="153"/>
                  </a:lnTo>
                  <a:lnTo>
                    <a:pt x="1758" y="155"/>
                  </a:lnTo>
                  <a:lnTo>
                    <a:pt x="1769" y="158"/>
                  </a:lnTo>
                  <a:lnTo>
                    <a:pt x="1779" y="159"/>
                  </a:lnTo>
                  <a:lnTo>
                    <a:pt x="1785" y="161"/>
                  </a:lnTo>
                  <a:lnTo>
                    <a:pt x="1789" y="164"/>
                  </a:lnTo>
                  <a:lnTo>
                    <a:pt x="1792" y="167"/>
                  </a:lnTo>
                  <a:lnTo>
                    <a:pt x="1792" y="169"/>
                  </a:lnTo>
                  <a:lnTo>
                    <a:pt x="1789" y="173"/>
                  </a:lnTo>
                  <a:lnTo>
                    <a:pt x="1785" y="176"/>
                  </a:lnTo>
                  <a:lnTo>
                    <a:pt x="1772" y="185"/>
                  </a:lnTo>
                  <a:lnTo>
                    <a:pt x="1753" y="193"/>
                  </a:lnTo>
                  <a:lnTo>
                    <a:pt x="1730" y="202"/>
                  </a:lnTo>
                  <a:lnTo>
                    <a:pt x="1703" y="212"/>
                  </a:lnTo>
                  <a:lnTo>
                    <a:pt x="1640" y="230"/>
                  </a:lnTo>
                  <a:lnTo>
                    <a:pt x="1574" y="249"/>
                  </a:lnTo>
                  <a:lnTo>
                    <a:pt x="1512" y="265"/>
                  </a:lnTo>
                  <a:lnTo>
                    <a:pt x="1463" y="279"/>
                  </a:lnTo>
                  <a:lnTo>
                    <a:pt x="1445" y="285"/>
                  </a:lnTo>
                  <a:lnTo>
                    <a:pt x="1426" y="292"/>
                  </a:lnTo>
                  <a:lnTo>
                    <a:pt x="1409" y="299"/>
                  </a:lnTo>
                  <a:lnTo>
                    <a:pt x="1393" y="307"/>
                  </a:lnTo>
                  <a:lnTo>
                    <a:pt x="1378" y="315"/>
                  </a:lnTo>
                  <a:lnTo>
                    <a:pt x="1365" y="325"/>
                  </a:lnTo>
                  <a:lnTo>
                    <a:pt x="1352" y="334"/>
                  </a:lnTo>
                  <a:lnTo>
                    <a:pt x="1342" y="344"/>
                  </a:lnTo>
                  <a:lnTo>
                    <a:pt x="1331" y="354"/>
                  </a:lnTo>
                  <a:lnTo>
                    <a:pt x="1322" y="365"/>
                  </a:lnTo>
                  <a:lnTo>
                    <a:pt x="1313" y="376"/>
                  </a:lnTo>
                  <a:lnTo>
                    <a:pt x="1306" y="387"/>
                  </a:lnTo>
                  <a:lnTo>
                    <a:pt x="1292" y="410"/>
                  </a:lnTo>
                  <a:lnTo>
                    <a:pt x="1280" y="432"/>
                  </a:lnTo>
                  <a:lnTo>
                    <a:pt x="1268" y="454"/>
                  </a:lnTo>
                  <a:lnTo>
                    <a:pt x="1255" y="478"/>
                  </a:lnTo>
                  <a:lnTo>
                    <a:pt x="1241" y="500"/>
                  </a:lnTo>
                  <a:lnTo>
                    <a:pt x="1226" y="521"/>
                  </a:lnTo>
                  <a:lnTo>
                    <a:pt x="1210" y="542"/>
                  </a:lnTo>
                  <a:lnTo>
                    <a:pt x="1194" y="563"/>
                  </a:lnTo>
                  <a:lnTo>
                    <a:pt x="1176" y="582"/>
                  </a:lnTo>
                  <a:lnTo>
                    <a:pt x="1159" y="600"/>
                  </a:lnTo>
                  <a:lnTo>
                    <a:pt x="1141" y="618"/>
                  </a:lnTo>
                  <a:lnTo>
                    <a:pt x="1123" y="633"/>
                  </a:lnTo>
                  <a:lnTo>
                    <a:pt x="1107" y="647"/>
                  </a:lnTo>
                  <a:lnTo>
                    <a:pt x="1091" y="659"/>
                  </a:lnTo>
                  <a:lnTo>
                    <a:pt x="1076" y="669"/>
                  </a:lnTo>
                  <a:lnTo>
                    <a:pt x="1062" y="679"/>
                  </a:lnTo>
                  <a:lnTo>
                    <a:pt x="1049" y="685"/>
                  </a:lnTo>
                  <a:lnTo>
                    <a:pt x="1038" y="688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Freeform 117"/>
            <p:cNvSpPr/>
            <p:nvPr/>
          </p:nvSpPr>
          <p:spPr>
            <a:xfrm>
              <a:off x="7267320" y="5720760"/>
              <a:ext cx="379080" cy="2890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372" h="1671">
                  <a:moveTo>
                    <a:pt x="1952" y="1069"/>
                  </a:moveTo>
                  <a:lnTo>
                    <a:pt x="1939" y="1081"/>
                  </a:lnTo>
                  <a:lnTo>
                    <a:pt x="1929" y="1092"/>
                  </a:lnTo>
                  <a:lnTo>
                    <a:pt x="1920" y="1104"/>
                  </a:lnTo>
                  <a:lnTo>
                    <a:pt x="1915" y="1117"/>
                  </a:lnTo>
                  <a:lnTo>
                    <a:pt x="1910" y="1129"/>
                  </a:lnTo>
                  <a:lnTo>
                    <a:pt x="1906" y="1140"/>
                  </a:lnTo>
                  <a:lnTo>
                    <a:pt x="1905" y="1152"/>
                  </a:lnTo>
                  <a:lnTo>
                    <a:pt x="1904" y="1163"/>
                  </a:lnTo>
                  <a:lnTo>
                    <a:pt x="1905" y="1181"/>
                  </a:lnTo>
                  <a:lnTo>
                    <a:pt x="1908" y="1196"/>
                  </a:lnTo>
                  <a:lnTo>
                    <a:pt x="1911" y="1207"/>
                  </a:lnTo>
                  <a:lnTo>
                    <a:pt x="1912" y="1210"/>
                  </a:lnTo>
                  <a:lnTo>
                    <a:pt x="1915" y="1215"/>
                  </a:lnTo>
                  <a:lnTo>
                    <a:pt x="1924" y="1230"/>
                  </a:lnTo>
                  <a:lnTo>
                    <a:pt x="1940" y="1251"/>
                  </a:lnTo>
                  <a:lnTo>
                    <a:pt x="1964" y="1277"/>
                  </a:lnTo>
                  <a:lnTo>
                    <a:pt x="1978" y="1292"/>
                  </a:lnTo>
                  <a:lnTo>
                    <a:pt x="1993" y="1306"/>
                  </a:lnTo>
                  <a:lnTo>
                    <a:pt x="2012" y="1321"/>
                  </a:lnTo>
                  <a:lnTo>
                    <a:pt x="2031" y="1337"/>
                  </a:lnTo>
                  <a:lnTo>
                    <a:pt x="2054" y="1352"/>
                  </a:lnTo>
                  <a:lnTo>
                    <a:pt x="2077" y="1366"/>
                  </a:lnTo>
                  <a:lnTo>
                    <a:pt x="2103" y="1380"/>
                  </a:lnTo>
                  <a:lnTo>
                    <a:pt x="2131" y="1392"/>
                  </a:lnTo>
                  <a:lnTo>
                    <a:pt x="2193" y="1414"/>
                  </a:lnTo>
                  <a:lnTo>
                    <a:pt x="2255" y="1434"/>
                  </a:lnTo>
                  <a:lnTo>
                    <a:pt x="2284" y="1445"/>
                  </a:lnTo>
                  <a:lnTo>
                    <a:pt x="2311" y="1456"/>
                  </a:lnTo>
                  <a:lnTo>
                    <a:pt x="2322" y="1462"/>
                  </a:lnTo>
                  <a:lnTo>
                    <a:pt x="2334" y="1467"/>
                  </a:lnTo>
                  <a:lnTo>
                    <a:pt x="2343" y="1473"/>
                  </a:lnTo>
                  <a:lnTo>
                    <a:pt x="2351" y="1480"/>
                  </a:lnTo>
                  <a:lnTo>
                    <a:pt x="2360" y="1486"/>
                  </a:lnTo>
                  <a:lnTo>
                    <a:pt x="2365" y="1493"/>
                  </a:lnTo>
                  <a:lnTo>
                    <a:pt x="2369" y="1501"/>
                  </a:lnTo>
                  <a:lnTo>
                    <a:pt x="2371" y="1508"/>
                  </a:lnTo>
                  <a:lnTo>
                    <a:pt x="2372" y="1517"/>
                  </a:lnTo>
                  <a:lnTo>
                    <a:pt x="2371" y="1526"/>
                  </a:lnTo>
                  <a:lnTo>
                    <a:pt x="2368" y="1534"/>
                  </a:lnTo>
                  <a:lnTo>
                    <a:pt x="2362" y="1543"/>
                  </a:lnTo>
                  <a:lnTo>
                    <a:pt x="2354" y="1554"/>
                  </a:lnTo>
                  <a:lnTo>
                    <a:pt x="2343" y="1564"/>
                  </a:lnTo>
                  <a:lnTo>
                    <a:pt x="2330" y="1575"/>
                  </a:lnTo>
                  <a:lnTo>
                    <a:pt x="2315" y="1587"/>
                  </a:lnTo>
                  <a:lnTo>
                    <a:pt x="2297" y="1599"/>
                  </a:lnTo>
                  <a:lnTo>
                    <a:pt x="2276" y="1612"/>
                  </a:lnTo>
                  <a:lnTo>
                    <a:pt x="2251" y="1625"/>
                  </a:lnTo>
                  <a:lnTo>
                    <a:pt x="2223" y="1639"/>
                  </a:lnTo>
                  <a:lnTo>
                    <a:pt x="2197" y="1620"/>
                  </a:lnTo>
                  <a:lnTo>
                    <a:pt x="2172" y="1603"/>
                  </a:lnTo>
                  <a:lnTo>
                    <a:pt x="2147" y="1588"/>
                  </a:lnTo>
                  <a:lnTo>
                    <a:pt x="2123" y="1575"/>
                  </a:lnTo>
                  <a:lnTo>
                    <a:pt x="2098" y="1563"/>
                  </a:lnTo>
                  <a:lnTo>
                    <a:pt x="2073" y="1554"/>
                  </a:lnTo>
                  <a:lnTo>
                    <a:pt x="2050" y="1546"/>
                  </a:lnTo>
                  <a:lnTo>
                    <a:pt x="2027" y="1540"/>
                  </a:lnTo>
                  <a:lnTo>
                    <a:pt x="2005" y="1535"/>
                  </a:lnTo>
                  <a:lnTo>
                    <a:pt x="1982" y="1532"/>
                  </a:lnTo>
                  <a:lnTo>
                    <a:pt x="1960" y="1531"/>
                  </a:lnTo>
                  <a:lnTo>
                    <a:pt x="1938" y="1529"/>
                  </a:lnTo>
                  <a:lnTo>
                    <a:pt x="1917" y="1531"/>
                  </a:lnTo>
                  <a:lnTo>
                    <a:pt x="1897" y="1532"/>
                  </a:lnTo>
                  <a:lnTo>
                    <a:pt x="1876" y="1535"/>
                  </a:lnTo>
                  <a:lnTo>
                    <a:pt x="1856" y="1539"/>
                  </a:lnTo>
                  <a:lnTo>
                    <a:pt x="1837" y="1543"/>
                  </a:lnTo>
                  <a:lnTo>
                    <a:pt x="1819" y="1549"/>
                  </a:lnTo>
                  <a:lnTo>
                    <a:pt x="1800" y="1555"/>
                  </a:lnTo>
                  <a:lnTo>
                    <a:pt x="1783" y="1562"/>
                  </a:lnTo>
                  <a:lnTo>
                    <a:pt x="1765" y="1570"/>
                  </a:lnTo>
                  <a:lnTo>
                    <a:pt x="1748" y="1578"/>
                  </a:lnTo>
                  <a:lnTo>
                    <a:pt x="1731" y="1587"/>
                  </a:lnTo>
                  <a:lnTo>
                    <a:pt x="1715" y="1596"/>
                  </a:lnTo>
                  <a:lnTo>
                    <a:pt x="1684" y="1615"/>
                  </a:lnTo>
                  <a:lnTo>
                    <a:pt x="1656" y="1633"/>
                  </a:lnTo>
                  <a:lnTo>
                    <a:pt x="1631" y="1653"/>
                  </a:lnTo>
                  <a:lnTo>
                    <a:pt x="1607" y="1671"/>
                  </a:lnTo>
                  <a:lnTo>
                    <a:pt x="1585" y="1651"/>
                  </a:lnTo>
                  <a:lnTo>
                    <a:pt x="1559" y="1632"/>
                  </a:lnTo>
                  <a:lnTo>
                    <a:pt x="1533" y="1613"/>
                  </a:lnTo>
                  <a:lnTo>
                    <a:pt x="1502" y="1596"/>
                  </a:lnTo>
                  <a:lnTo>
                    <a:pt x="1471" y="1580"/>
                  </a:lnTo>
                  <a:lnTo>
                    <a:pt x="1436" y="1564"/>
                  </a:lnTo>
                  <a:lnTo>
                    <a:pt x="1399" y="1549"/>
                  </a:lnTo>
                  <a:lnTo>
                    <a:pt x="1362" y="1535"/>
                  </a:lnTo>
                  <a:lnTo>
                    <a:pt x="1324" y="1522"/>
                  </a:lnTo>
                  <a:lnTo>
                    <a:pt x="1283" y="1511"/>
                  </a:lnTo>
                  <a:lnTo>
                    <a:pt x="1241" y="1499"/>
                  </a:lnTo>
                  <a:lnTo>
                    <a:pt x="1199" y="1488"/>
                  </a:lnTo>
                  <a:lnTo>
                    <a:pt x="1156" y="1478"/>
                  </a:lnTo>
                  <a:lnTo>
                    <a:pt x="1113" y="1470"/>
                  </a:lnTo>
                  <a:lnTo>
                    <a:pt x="1069" y="1460"/>
                  </a:lnTo>
                  <a:lnTo>
                    <a:pt x="1026" y="1453"/>
                  </a:lnTo>
                  <a:lnTo>
                    <a:pt x="982" y="1446"/>
                  </a:lnTo>
                  <a:lnTo>
                    <a:pt x="939" y="1441"/>
                  </a:lnTo>
                  <a:lnTo>
                    <a:pt x="897" y="1435"/>
                  </a:lnTo>
                  <a:lnTo>
                    <a:pt x="855" y="1430"/>
                  </a:lnTo>
                  <a:lnTo>
                    <a:pt x="776" y="1423"/>
                  </a:lnTo>
                  <a:lnTo>
                    <a:pt x="701" y="1418"/>
                  </a:lnTo>
                  <a:lnTo>
                    <a:pt x="634" y="1416"/>
                  </a:lnTo>
                  <a:lnTo>
                    <a:pt x="576" y="1416"/>
                  </a:lnTo>
                  <a:lnTo>
                    <a:pt x="550" y="1417"/>
                  </a:lnTo>
                  <a:lnTo>
                    <a:pt x="528" y="1418"/>
                  </a:lnTo>
                  <a:lnTo>
                    <a:pt x="508" y="1421"/>
                  </a:lnTo>
                  <a:lnTo>
                    <a:pt x="492" y="1423"/>
                  </a:lnTo>
                  <a:lnTo>
                    <a:pt x="187" y="1452"/>
                  </a:lnTo>
                  <a:lnTo>
                    <a:pt x="167" y="758"/>
                  </a:lnTo>
                  <a:lnTo>
                    <a:pt x="147" y="736"/>
                  </a:lnTo>
                  <a:lnTo>
                    <a:pt x="129" y="713"/>
                  </a:lnTo>
                  <a:lnTo>
                    <a:pt x="119" y="701"/>
                  </a:lnTo>
                  <a:lnTo>
                    <a:pt x="111" y="688"/>
                  </a:lnTo>
                  <a:lnTo>
                    <a:pt x="103" y="674"/>
                  </a:lnTo>
                  <a:lnTo>
                    <a:pt x="95" y="660"/>
                  </a:lnTo>
                  <a:lnTo>
                    <a:pt x="86" y="645"/>
                  </a:lnTo>
                  <a:lnTo>
                    <a:pt x="79" y="629"/>
                  </a:lnTo>
                  <a:lnTo>
                    <a:pt x="72" y="612"/>
                  </a:lnTo>
                  <a:lnTo>
                    <a:pt x="65" y="595"/>
                  </a:lnTo>
                  <a:lnTo>
                    <a:pt x="54" y="559"/>
                  </a:lnTo>
                  <a:lnTo>
                    <a:pt x="42" y="518"/>
                  </a:lnTo>
                  <a:lnTo>
                    <a:pt x="33" y="473"/>
                  </a:lnTo>
                  <a:lnTo>
                    <a:pt x="23" y="426"/>
                  </a:lnTo>
                  <a:lnTo>
                    <a:pt x="16" y="372"/>
                  </a:lnTo>
                  <a:lnTo>
                    <a:pt x="11" y="315"/>
                  </a:lnTo>
                  <a:lnTo>
                    <a:pt x="6" y="253"/>
                  </a:lnTo>
                  <a:lnTo>
                    <a:pt x="2" y="186"/>
                  </a:lnTo>
                  <a:lnTo>
                    <a:pt x="0" y="114"/>
                  </a:lnTo>
                  <a:lnTo>
                    <a:pt x="0" y="35"/>
                  </a:lnTo>
                  <a:lnTo>
                    <a:pt x="1034" y="0"/>
                  </a:lnTo>
                  <a:lnTo>
                    <a:pt x="1126" y="234"/>
                  </a:lnTo>
                  <a:lnTo>
                    <a:pt x="1020" y="372"/>
                  </a:lnTo>
                  <a:lnTo>
                    <a:pt x="1034" y="698"/>
                  </a:lnTo>
                  <a:lnTo>
                    <a:pt x="1698" y="712"/>
                  </a:lnTo>
                  <a:lnTo>
                    <a:pt x="1952" y="10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Freeform 118"/>
            <p:cNvSpPr/>
            <p:nvPr/>
          </p:nvSpPr>
          <p:spPr>
            <a:xfrm>
              <a:off x="7267320" y="5720760"/>
              <a:ext cx="379080" cy="2890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372" h="1671">
                  <a:moveTo>
                    <a:pt x="1952" y="1069"/>
                  </a:moveTo>
                  <a:lnTo>
                    <a:pt x="1939" y="1081"/>
                  </a:lnTo>
                  <a:lnTo>
                    <a:pt x="1929" y="1092"/>
                  </a:lnTo>
                  <a:lnTo>
                    <a:pt x="1920" y="1104"/>
                  </a:lnTo>
                  <a:lnTo>
                    <a:pt x="1915" y="1117"/>
                  </a:lnTo>
                  <a:lnTo>
                    <a:pt x="1910" y="1129"/>
                  </a:lnTo>
                  <a:lnTo>
                    <a:pt x="1906" y="1140"/>
                  </a:lnTo>
                  <a:lnTo>
                    <a:pt x="1905" y="1152"/>
                  </a:lnTo>
                  <a:lnTo>
                    <a:pt x="1904" y="1163"/>
                  </a:lnTo>
                  <a:lnTo>
                    <a:pt x="1905" y="1181"/>
                  </a:lnTo>
                  <a:lnTo>
                    <a:pt x="1908" y="1196"/>
                  </a:lnTo>
                  <a:lnTo>
                    <a:pt x="1911" y="1207"/>
                  </a:lnTo>
                  <a:lnTo>
                    <a:pt x="1912" y="1210"/>
                  </a:lnTo>
                  <a:lnTo>
                    <a:pt x="1915" y="1215"/>
                  </a:lnTo>
                  <a:lnTo>
                    <a:pt x="1924" y="1230"/>
                  </a:lnTo>
                  <a:lnTo>
                    <a:pt x="1940" y="1251"/>
                  </a:lnTo>
                  <a:lnTo>
                    <a:pt x="1964" y="1277"/>
                  </a:lnTo>
                  <a:lnTo>
                    <a:pt x="1978" y="1292"/>
                  </a:lnTo>
                  <a:lnTo>
                    <a:pt x="1993" y="1306"/>
                  </a:lnTo>
                  <a:lnTo>
                    <a:pt x="2012" y="1321"/>
                  </a:lnTo>
                  <a:lnTo>
                    <a:pt x="2031" y="1337"/>
                  </a:lnTo>
                  <a:lnTo>
                    <a:pt x="2054" y="1352"/>
                  </a:lnTo>
                  <a:lnTo>
                    <a:pt x="2077" y="1366"/>
                  </a:lnTo>
                  <a:lnTo>
                    <a:pt x="2103" y="1380"/>
                  </a:lnTo>
                  <a:lnTo>
                    <a:pt x="2131" y="1392"/>
                  </a:lnTo>
                  <a:lnTo>
                    <a:pt x="2193" y="1414"/>
                  </a:lnTo>
                  <a:lnTo>
                    <a:pt x="2255" y="1434"/>
                  </a:lnTo>
                  <a:lnTo>
                    <a:pt x="2284" y="1445"/>
                  </a:lnTo>
                  <a:lnTo>
                    <a:pt x="2311" y="1456"/>
                  </a:lnTo>
                  <a:lnTo>
                    <a:pt x="2322" y="1462"/>
                  </a:lnTo>
                  <a:lnTo>
                    <a:pt x="2334" y="1467"/>
                  </a:lnTo>
                  <a:lnTo>
                    <a:pt x="2343" y="1473"/>
                  </a:lnTo>
                  <a:lnTo>
                    <a:pt x="2351" y="1480"/>
                  </a:lnTo>
                  <a:lnTo>
                    <a:pt x="2360" y="1486"/>
                  </a:lnTo>
                  <a:lnTo>
                    <a:pt x="2365" y="1493"/>
                  </a:lnTo>
                  <a:lnTo>
                    <a:pt x="2369" y="1501"/>
                  </a:lnTo>
                  <a:lnTo>
                    <a:pt x="2371" y="1508"/>
                  </a:lnTo>
                  <a:lnTo>
                    <a:pt x="2372" y="1517"/>
                  </a:lnTo>
                  <a:lnTo>
                    <a:pt x="2371" y="1526"/>
                  </a:lnTo>
                  <a:lnTo>
                    <a:pt x="2368" y="1534"/>
                  </a:lnTo>
                  <a:lnTo>
                    <a:pt x="2362" y="1543"/>
                  </a:lnTo>
                  <a:lnTo>
                    <a:pt x="2354" y="1554"/>
                  </a:lnTo>
                  <a:lnTo>
                    <a:pt x="2343" y="1564"/>
                  </a:lnTo>
                  <a:lnTo>
                    <a:pt x="2330" y="1575"/>
                  </a:lnTo>
                  <a:lnTo>
                    <a:pt x="2315" y="1587"/>
                  </a:lnTo>
                  <a:lnTo>
                    <a:pt x="2297" y="1599"/>
                  </a:lnTo>
                  <a:lnTo>
                    <a:pt x="2276" y="1612"/>
                  </a:lnTo>
                  <a:lnTo>
                    <a:pt x="2251" y="1625"/>
                  </a:lnTo>
                  <a:lnTo>
                    <a:pt x="2223" y="1639"/>
                  </a:lnTo>
                  <a:lnTo>
                    <a:pt x="2197" y="1620"/>
                  </a:lnTo>
                  <a:lnTo>
                    <a:pt x="2172" y="1603"/>
                  </a:lnTo>
                  <a:lnTo>
                    <a:pt x="2147" y="1588"/>
                  </a:lnTo>
                  <a:lnTo>
                    <a:pt x="2123" y="1575"/>
                  </a:lnTo>
                  <a:lnTo>
                    <a:pt x="2098" y="1563"/>
                  </a:lnTo>
                  <a:lnTo>
                    <a:pt x="2073" y="1554"/>
                  </a:lnTo>
                  <a:lnTo>
                    <a:pt x="2050" y="1546"/>
                  </a:lnTo>
                  <a:lnTo>
                    <a:pt x="2027" y="1540"/>
                  </a:lnTo>
                  <a:lnTo>
                    <a:pt x="2005" y="1535"/>
                  </a:lnTo>
                  <a:lnTo>
                    <a:pt x="1982" y="1532"/>
                  </a:lnTo>
                  <a:lnTo>
                    <a:pt x="1960" y="1531"/>
                  </a:lnTo>
                  <a:lnTo>
                    <a:pt x="1938" y="1529"/>
                  </a:lnTo>
                  <a:lnTo>
                    <a:pt x="1917" y="1531"/>
                  </a:lnTo>
                  <a:lnTo>
                    <a:pt x="1897" y="1532"/>
                  </a:lnTo>
                  <a:lnTo>
                    <a:pt x="1876" y="1535"/>
                  </a:lnTo>
                  <a:lnTo>
                    <a:pt x="1856" y="1539"/>
                  </a:lnTo>
                  <a:lnTo>
                    <a:pt x="1837" y="1543"/>
                  </a:lnTo>
                  <a:lnTo>
                    <a:pt x="1819" y="1549"/>
                  </a:lnTo>
                  <a:lnTo>
                    <a:pt x="1800" y="1555"/>
                  </a:lnTo>
                  <a:lnTo>
                    <a:pt x="1783" y="1562"/>
                  </a:lnTo>
                  <a:lnTo>
                    <a:pt x="1765" y="1570"/>
                  </a:lnTo>
                  <a:lnTo>
                    <a:pt x="1748" y="1578"/>
                  </a:lnTo>
                  <a:lnTo>
                    <a:pt x="1731" y="1587"/>
                  </a:lnTo>
                  <a:lnTo>
                    <a:pt x="1715" y="1596"/>
                  </a:lnTo>
                  <a:lnTo>
                    <a:pt x="1684" y="1615"/>
                  </a:lnTo>
                  <a:lnTo>
                    <a:pt x="1656" y="1633"/>
                  </a:lnTo>
                  <a:lnTo>
                    <a:pt x="1631" y="1653"/>
                  </a:lnTo>
                  <a:lnTo>
                    <a:pt x="1607" y="1671"/>
                  </a:lnTo>
                  <a:lnTo>
                    <a:pt x="1585" y="1651"/>
                  </a:lnTo>
                  <a:lnTo>
                    <a:pt x="1559" y="1632"/>
                  </a:lnTo>
                  <a:lnTo>
                    <a:pt x="1533" y="1613"/>
                  </a:lnTo>
                  <a:lnTo>
                    <a:pt x="1502" y="1596"/>
                  </a:lnTo>
                  <a:lnTo>
                    <a:pt x="1471" y="1580"/>
                  </a:lnTo>
                  <a:lnTo>
                    <a:pt x="1436" y="1564"/>
                  </a:lnTo>
                  <a:lnTo>
                    <a:pt x="1399" y="1549"/>
                  </a:lnTo>
                  <a:lnTo>
                    <a:pt x="1362" y="1535"/>
                  </a:lnTo>
                  <a:lnTo>
                    <a:pt x="1324" y="1522"/>
                  </a:lnTo>
                  <a:lnTo>
                    <a:pt x="1283" y="1511"/>
                  </a:lnTo>
                  <a:lnTo>
                    <a:pt x="1241" y="1499"/>
                  </a:lnTo>
                  <a:lnTo>
                    <a:pt x="1199" y="1488"/>
                  </a:lnTo>
                  <a:lnTo>
                    <a:pt x="1156" y="1478"/>
                  </a:lnTo>
                  <a:lnTo>
                    <a:pt x="1113" y="1470"/>
                  </a:lnTo>
                  <a:lnTo>
                    <a:pt x="1069" y="1460"/>
                  </a:lnTo>
                  <a:lnTo>
                    <a:pt x="1026" y="1453"/>
                  </a:lnTo>
                  <a:lnTo>
                    <a:pt x="982" y="1446"/>
                  </a:lnTo>
                  <a:lnTo>
                    <a:pt x="939" y="1441"/>
                  </a:lnTo>
                  <a:lnTo>
                    <a:pt x="897" y="1435"/>
                  </a:lnTo>
                  <a:lnTo>
                    <a:pt x="855" y="1430"/>
                  </a:lnTo>
                  <a:lnTo>
                    <a:pt x="776" y="1423"/>
                  </a:lnTo>
                  <a:lnTo>
                    <a:pt x="701" y="1418"/>
                  </a:lnTo>
                  <a:lnTo>
                    <a:pt x="634" y="1416"/>
                  </a:lnTo>
                  <a:lnTo>
                    <a:pt x="576" y="1416"/>
                  </a:lnTo>
                  <a:lnTo>
                    <a:pt x="550" y="1417"/>
                  </a:lnTo>
                  <a:lnTo>
                    <a:pt x="528" y="1418"/>
                  </a:lnTo>
                  <a:lnTo>
                    <a:pt x="508" y="1421"/>
                  </a:lnTo>
                  <a:lnTo>
                    <a:pt x="492" y="1423"/>
                  </a:lnTo>
                  <a:lnTo>
                    <a:pt x="187" y="1452"/>
                  </a:lnTo>
                  <a:lnTo>
                    <a:pt x="167" y="758"/>
                  </a:lnTo>
                  <a:lnTo>
                    <a:pt x="147" y="736"/>
                  </a:lnTo>
                  <a:lnTo>
                    <a:pt x="129" y="713"/>
                  </a:lnTo>
                  <a:lnTo>
                    <a:pt x="119" y="701"/>
                  </a:lnTo>
                  <a:lnTo>
                    <a:pt x="111" y="688"/>
                  </a:lnTo>
                  <a:lnTo>
                    <a:pt x="103" y="674"/>
                  </a:lnTo>
                  <a:lnTo>
                    <a:pt x="95" y="660"/>
                  </a:lnTo>
                  <a:lnTo>
                    <a:pt x="86" y="645"/>
                  </a:lnTo>
                  <a:lnTo>
                    <a:pt x="79" y="629"/>
                  </a:lnTo>
                  <a:lnTo>
                    <a:pt x="72" y="612"/>
                  </a:lnTo>
                  <a:lnTo>
                    <a:pt x="65" y="595"/>
                  </a:lnTo>
                  <a:lnTo>
                    <a:pt x="54" y="559"/>
                  </a:lnTo>
                  <a:lnTo>
                    <a:pt x="42" y="518"/>
                  </a:lnTo>
                  <a:lnTo>
                    <a:pt x="33" y="473"/>
                  </a:lnTo>
                  <a:lnTo>
                    <a:pt x="23" y="426"/>
                  </a:lnTo>
                  <a:lnTo>
                    <a:pt x="16" y="372"/>
                  </a:lnTo>
                  <a:lnTo>
                    <a:pt x="11" y="315"/>
                  </a:lnTo>
                  <a:lnTo>
                    <a:pt x="6" y="253"/>
                  </a:lnTo>
                  <a:lnTo>
                    <a:pt x="2" y="186"/>
                  </a:lnTo>
                  <a:lnTo>
                    <a:pt x="0" y="114"/>
                  </a:lnTo>
                  <a:lnTo>
                    <a:pt x="0" y="35"/>
                  </a:lnTo>
                  <a:lnTo>
                    <a:pt x="1034" y="0"/>
                  </a:lnTo>
                  <a:lnTo>
                    <a:pt x="1126" y="234"/>
                  </a:lnTo>
                  <a:lnTo>
                    <a:pt x="1020" y="372"/>
                  </a:lnTo>
                  <a:lnTo>
                    <a:pt x="1034" y="698"/>
                  </a:lnTo>
                  <a:lnTo>
                    <a:pt x="1698" y="712"/>
                  </a:lnTo>
                  <a:lnTo>
                    <a:pt x="1952" y="106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Freeform 119"/>
            <p:cNvSpPr/>
            <p:nvPr/>
          </p:nvSpPr>
          <p:spPr>
            <a:xfrm>
              <a:off x="7424640" y="5567760"/>
              <a:ext cx="228240" cy="33912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1430" h="1967">
                  <a:moveTo>
                    <a:pt x="974" y="1967"/>
                  </a:moveTo>
                  <a:lnTo>
                    <a:pt x="720" y="1610"/>
                  </a:lnTo>
                  <a:lnTo>
                    <a:pt x="56" y="1596"/>
                  </a:lnTo>
                  <a:lnTo>
                    <a:pt x="42" y="1270"/>
                  </a:lnTo>
                  <a:lnTo>
                    <a:pt x="148" y="1132"/>
                  </a:lnTo>
                  <a:lnTo>
                    <a:pt x="56" y="898"/>
                  </a:lnTo>
                  <a:lnTo>
                    <a:pt x="46" y="874"/>
                  </a:lnTo>
                  <a:lnTo>
                    <a:pt x="37" y="849"/>
                  </a:lnTo>
                  <a:lnTo>
                    <a:pt x="30" y="825"/>
                  </a:lnTo>
                  <a:lnTo>
                    <a:pt x="23" y="800"/>
                  </a:lnTo>
                  <a:lnTo>
                    <a:pt x="17" y="776"/>
                  </a:lnTo>
                  <a:lnTo>
                    <a:pt x="13" y="751"/>
                  </a:lnTo>
                  <a:lnTo>
                    <a:pt x="8" y="727"/>
                  </a:lnTo>
                  <a:lnTo>
                    <a:pt x="6" y="702"/>
                  </a:lnTo>
                  <a:lnTo>
                    <a:pt x="3" y="679"/>
                  </a:lnTo>
                  <a:lnTo>
                    <a:pt x="1" y="654"/>
                  </a:lnTo>
                  <a:lnTo>
                    <a:pt x="0" y="631"/>
                  </a:lnTo>
                  <a:lnTo>
                    <a:pt x="0" y="609"/>
                  </a:lnTo>
                  <a:lnTo>
                    <a:pt x="1" y="563"/>
                  </a:lnTo>
                  <a:lnTo>
                    <a:pt x="4" y="520"/>
                  </a:lnTo>
                  <a:lnTo>
                    <a:pt x="9" y="479"/>
                  </a:lnTo>
                  <a:lnTo>
                    <a:pt x="16" y="440"/>
                  </a:lnTo>
                  <a:lnTo>
                    <a:pt x="24" y="404"/>
                  </a:lnTo>
                  <a:lnTo>
                    <a:pt x="32" y="373"/>
                  </a:lnTo>
                  <a:lnTo>
                    <a:pt x="42" y="344"/>
                  </a:lnTo>
                  <a:lnTo>
                    <a:pt x="51" y="318"/>
                  </a:lnTo>
                  <a:lnTo>
                    <a:pt x="60" y="297"/>
                  </a:lnTo>
                  <a:lnTo>
                    <a:pt x="70" y="279"/>
                  </a:lnTo>
                  <a:lnTo>
                    <a:pt x="79" y="264"/>
                  </a:lnTo>
                  <a:lnTo>
                    <a:pt x="90" y="244"/>
                  </a:lnTo>
                  <a:lnTo>
                    <a:pt x="101" y="222"/>
                  </a:lnTo>
                  <a:lnTo>
                    <a:pt x="114" y="196"/>
                  </a:lnTo>
                  <a:lnTo>
                    <a:pt x="126" y="169"/>
                  </a:lnTo>
                  <a:lnTo>
                    <a:pt x="139" y="139"/>
                  </a:lnTo>
                  <a:lnTo>
                    <a:pt x="150" y="108"/>
                  </a:lnTo>
                  <a:lnTo>
                    <a:pt x="162" y="75"/>
                  </a:lnTo>
                  <a:lnTo>
                    <a:pt x="871" y="0"/>
                  </a:lnTo>
                  <a:lnTo>
                    <a:pt x="872" y="11"/>
                  </a:lnTo>
                  <a:lnTo>
                    <a:pt x="877" y="42"/>
                  </a:lnTo>
                  <a:lnTo>
                    <a:pt x="885" y="91"/>
                  </a:lnTo>
                  <a:lnTo>
                    <a:pt x="896" y="155"/>
                  </a:lnTo>
                  <a:lnTo>
                    <a:pt x="907" y="233"/>
                  </a:lnTo>
                  <a:lnTo>
                    <a:pt x="923" y="319"/>
                  </a:lnTo>
                  <a:lnTo>
                    <a:pt x="940" y="412"/>
                  </a:lnTo>
                  <a:lnTo>
                    <a:pt x="959" y="512"/>
                  </a:lnTo>
                  <a:lnTo>
                    <a:pt x="979" y="612"/>
                  </a:lnTo>
                  <a:lnTo>
                    <a:pt x="1000" y="713"/>
                  </a:lnTo>
                  <a:lnTo>
                    <a:pt x="1022" y="810"/>
                  </a:lnTo>
                  <a:lnTo>
                    <a:pt x="1044" y="902"/>
                  </a:lnTo>
                  <a:lnTo>
                    <a:pt x="1056" y="945"/>
                  </a:lnTo>
                  <a:lnTo>
                    <a:pt x="1067" y="985"/>
                  </a:lnTo>
                  <a:lnTo>
                    <a:pt x="1079" y="1023"/>
                  </a:lnTo>
                  <a:lnTo>
                    <a:pt x="1092" y="1058"/>
                  </a:lnTo>
                  <a:lnTo>
                    <a:pt x="1104" y="1090"/>
                  </a:lnTo>
                  <a:lnTo>
                    <a:pt x="1115" y="1118"/>
                  </a:lnTo>
                  <a:lnTo>
                    <a:pt x="1127" y="1141"/>
                  </a:lnTo>
                  <a:lnTo>
                    <a:pt x="1139" y="1161"/>
                  </a:lnTo>
                  <a:lnTo>
                    <a:pt x="1430" y="1855"/>
                  </a:lnTo>
                  <a:lnTo>
                    <a:pt x="1354" y="1867"/>
                  </a:lnTo>
                  <a:lnTo>
                    <a:pt x="1284" y="1878"/>
                  </a:lnTo>
                  <a:lnTo>
                    <a:pt x="1218" y="1890"/>
                  </a:lnTo>
                  <a:lnTo>
                    <a:pt x="1161" y="1902"/>
                  </a:lnTo>
                  <a:lnTo>
                    <a:pt x="1111" y="1912"/>
                  </a:lnTo>
                  <a:lnTo>
                    <a:pt x="1069" y="1923"/>
                  </a:lnTo>
                  <a:lnTo>
                    <a:pt x="1051" y="1927"/>
                  </a:lnTo>
                  <a:lnTo>
                    <a:pt x="1036" y="1932"/>
                  </a:lnTo>
                  <a:lnTo>
                    <a:pt x="1024" y="1937"/>
                  </a:lnTo>
                  <a:lnTo>
                    <a:pt x="1015" y="1941"/>
                  </a:lnTo>
                  <a:lnTo>
                    <a:pt x="1003" y="1947"/>
                  </a:lnTo>
                  <a:lnTo>
                    <a:pt x="993" y="1954"/>
                  </a:lnTo>
                  <a:lnTo>
                    <a:pt x="983" y="1961"/>
                  </a:lnTo>
                  <a:lnTo>
                    <a:pt x="974" y="19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Freeform 120"/>
            <p:cNvSpPr/>
            <p:nvPr/>
          </p:nvSpPr>
          <p:spPr>
            <a:xfrm>
              <a:off x="7424640" y="5567760"/>
              <a:ext cx="228240" cy="33912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1430" h="1967">
                  <a:moveTo>
                    <a:pt x="974" y="1967"/>
                  </a:moveTo>
                  <a:lnTo>
                    <a:pt x="720" y="1610"/>
                  </a:lnTo>
                  <a:lnTo>
                    <a:pt x="56" y="1596"/>
                  </a:lnTo>
                  <a:lnTo>
                    <a:pt x="42" y="1270"/>
                  </a:lnTo>
                  <a:lnTo>
                    <a:pt x="148" y="1132"/>
                  </a:lnTo>
                  <a:lnTo>
                    <a:pt x="56" y="898"/>
                  </a:lnTo>
                  <a:lnTo>
                    <a:pt x="46" y="874"/>
                  </a:lnTo>
                  <a:lnTo>
                    <a:pt x="37" y="849"/>
                  </a:lnTo>
                  <a:lnTo>
                    <a:pt x="30" y="825"/>
                  </a:lnTo>
                  <a:lnTo>
                    <a:pt x="23" y="800"/>
                  </a:lnTo>
                  <a:lnTo>
                    <a:pt x="17" y="776"/>
                  </a:lnTo>
                  <a:lnTo>
                    <a:pt x="13" y="751"/>
                  </a:lnTo>
                  <a:lnTo>
                    <a:pt x="8" y="727"/>
                  </a:lnTo>
                  <a:lnTo>
                    <a:pt x="6" y="702"/>
                  </a:lnTo>
                  <a:lnTo>
                    <a:pt x="3" y="679"/>
                  </a:lnTo>
                  <a:lnTo>
                    <a:pt x="1" y="654"/>
                  </a:lnTo>
                  <a:lnTo>
                    <a:pt x="0" y="631"/>
                  </a:lnTo>
                  <a:lnTo>
                    <a:pt x="0" y="609"/>
                  </a:lnTo>
                  <a:lnTo>
                    <a:pt x="1" y="563"/>
                  </a:lnTo>
                  <a:lnTo>
                    <a:pt x="4" y="520"/>
                  </a:lnTo>
                  <a:lnTo>
                    <a:pt x="9" y="479"/>
                  </a:lnTo>
                  <a:lnTo>
                    <a:pt x="16" y="440"/>
                  </a:lnTo>
                  <a:lnTo>
                    <a:pt x="24" y="404"/>
                  </a:lnTo>
                  <a:lnTo>
                    <a:pt x="32" y="373"/>
                  </a:lnTo>
                  <a:lnTo>
                    <a:pt x="42" y="344"/>
                  </a:lnTo>
                  <a:lnTo>
                    <a:pt x="51" y="318"/>
                  </a:lnTo>
                  <a:lnTo>
                    <a:pt x="60" y="297"/>
                  </a:lnTo>
                  <a:lnTo>
                    <a:pt x="70" y="279"/>
                  </a:lnTo>
                  <a:lnTo>
                    <a:pt x="79" y="264"/>
                  </a:lnTo>
                  <a:lnTo>
                    <a:pt x="90" y="244"/>
                  </a:lnTo>
                  <a:lnTo>
                    <a:pt x="101" y="222"/>
                  </a:lnTo>
                  <a:lnTo>
                    <a:pt x="114" y="196"/>
                  </a:lnTo>
                  <a:lnTo>
                    <a:pt x="126" y="169"/>
                  </a:lnTo>
                  <a:lnTo>
                    <a:pt x="139" y="139"/>
                  </a:lnTo>
                  <a:lnTo>
                    <a:pt x="150" y="108"/>
                  </a:lnTo>
                  <a:lnTo>
                    <a:pt x="162" y="75"/>
                  </a:lnTo>
                  <a:lnTo>
                    <a:pt x="871" y="0"/>
                  </a:lnTo>
                  <a:lnTo>
                    <a:pt x="872" y="11"/>
                  </a:lnTo>
                  <a:lnTo>
                    <a:pt x="877" y="42"/>
                  </a:lnTo>
                  <a:lnTo>
                    <a:pt x="885" y="91"/>
                  </a:lnTo>
                  <a:lnTo>
                    <a:pt x="896" y="155"/>
                  </a:lnTo>
                  <a:lnTo>
                    <a:pt x="907" y="233"/>
                  </a:lnTo>
                  <a:lnTo>
                    <a:pt x="923" y="319"/>
                  </a:lnTo>
                  <a:lnTo>
                    <a:pt x="940" y="412"/>
                  </a:lnTo>
                  <a:lnTo>
                    <a:pt x="959" y="512"/>
                  </a:lnTo>
                  <a:lnTo>
                    <a:pt x="979" y="612"/>
                  </a:lnTo>
                  <a:lnTo>
                    <a:pt x="1000" y="713"/>
                  </a:lnTo>
                  <a:lnTo>
                    <a:pt x="1022" y="810"/>
                  </a:lnTo>
                  <a:lnTo>
                    <a:pt x="1044" y="902"/>
                  </a:lnTo>
                  <a:lnTo>
                    <a:pt x="1056" y="945"/>
                  </a:lnTo>
                  <a:lnTo>
                    <a:pt x="1067" y="985"/>
                  </a:lnTo>
                  <a:lnTo>
                    <a:pt x="1079" y="1023"/>
                  </a:lnTo>
                  <a:lnTo>
                    <a:pt x="1092" y="1058"/>
                  </a:lnTo>
                  <a:lnTo>
                    <a:pt x="1104" y="1090"/>
                  </a:lnTo>
                  <a:lnTo>
                    <a:pt x="1115" y="1118"/>
                  </a:lnTo>
                  <a:lnTo>
                    <a:pt x="1127" y="1141"/>
                  </a:lnTo>
                  <a:lnTo>
                    <a:pt x="1139" y="1161"/>
                  </a:lnTo>
                  <a:lnTo>
                    <a:pt x="1430" y="1855"/>
                  </a:lnTo>
                  <a:lnTo>
                    <a:pt x="1354" y="1867"/>
                  </a:lnTo>
                  <a:lnTo>
                    <a:pt x="1284" y="1878"/>
                  </a:lnTo>
                  <a:lnTo>
                    <a:pt x="1218" y="1890"/>
                  </a:lnTo>
                  <a:lnTo>
                    <a:pt x="1161" y="1902"/>
                  </a:lnTo>
                  <a:lnTo>
                    <a:pt x="1111" y="1912"/>
                  </a:lnTo>
                  <a:lnTo>
                    <a:pt x="1069" y="1923"/>
                  </a:lnTo>
                  <a:lnTo>
                    <a:pt x="1051" y="1927"/>
                  </a:lnTo>
                  <a:lnTo>
                    <a:pt x="1036" y="1932"/>
                  </a:lnTo>
                  <a:lnTo>
                    <a:pt x="1024" y="1937"/>
                  </a:lnTo>
                  <a:lnTo>
                    <a:pt x="1015" y="1941"/>
                  </a:lnTo>
                  <a:lnTo>
                    <a:pt x="1003" y="1947"/>
                  </a:lnTo>
                  <a:lnTo>
                    <a:pt x="993" y="1954"/>
                  </a:lnTo>
                  <a:lnTo>
                    <a:pt x="983" y="1961"/>
                  </a:lnTo>
                  <a:lnTo>
                    <a:pt x="974" y="19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Freeform 121"/>
            <p:cNvSpPr/>
            <p:nvPr/>
          </p:nvSpPr>
          <p:spPr>
            <a:xfrm>
              <a:off x="7562880" y="5551200"/>
              <a:ext cx="267840" cy="33660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1670" h="1941">
                  <a:moveTo>
                    <a:pt x="0" y="86"/>
                  </a:moveTo>
                  <a:lnTo>
                    <a:pt x="1" y="97"/>
                  </a:lnTo>
                  <a:lnTo>
                    <a:pt x="5" y="128"/>
                  </a:lnTo>
                  <a:lnTo>
                    <a:pt x="14" y="177"/>
                  </a:lnTo>
                  <a:lnTo>
                    <a:pt x="24" y="241"/>
                  </a:lnTo>
                  <a:lnTo>
                    <a:pt x="36" y="319"/>
                  </a:lnTo>
                  <a:lnTo>
                    <a:pt x="51" y="405"/>
                  </a:lnTo>
                  <a:lnTo>
                    <a:pt x="67" y="498"/>
                  </a:lnTo>
                  <a:lnTo>
                    <a:pt x="86" y="598"/>
                  </a:lnTo>
                  <a:lnTo>
                    <a:pt x="106" y="698"/>
                  </a:lnTo>
                  <a:lnTo>
                    <a:pt x="127" y="799"/>
                  </a:lnTo>
                  <a:lnTo>
                    <a:pt x="148" y="896"/>
                  </a:lnTo>
                  <a:lnTo>
                    <a:pt x="171" y="988"/>
                  </a:lnTo>
                  <a:lnTo>
                    <a:pt x="183" y="1031"/>
                  </a:lnTo>
                  <a:lnTo>
                    <a:pt x="195" y="1071"/>
                  </a:lnTo>
                  <a:lnTo>
                    <a:pt x="206" y="1109"/>
                  </a:lnTo>
                  <a:lnTo>
                    <a:pt x="218" y="1144"/>
                  </a:lnTo>
                  <a:lnTo>
                    <a:pt x="230" y="1176"/>
                  </a:lnTo>
                  <a:lnTo>
                    <a:pt x="241" y="1204"/>
                  </a:lnTo>
                  <a:lnTo>
                    <a:pt x="253" y="1227"/>
                  </a:lnTo>
                  <a:lnTo>
                    <a:pt x="265" y="1247"/>
                  </a:lnTo>
                  <a:lnTo>
                    <a:pt x="556" y="1941"/>
                  </a:lnTo>
                  <a:lnTo>
                    <a:pt x="588" y="1936"/>
                  </a:lnTo>
                  <a:lnTo>
                    <a:pt x="622" y="1932"/>
                  </a:lnTo>
                  <a:lnTo>
                    <a:pt x="656" y="1927"/>
                  </a:lnTo>
                  <a:lnTo>
                    <a:pt x="691" y="1922"/>
                  </a:lnTo>
                  <a:lnTo>
                    <a:pt x="726" y="1918"/>
                  </a:lnTo>
                  <a:lnTo>
                    <a:pt x="762" y="1914"/>
                  </a:lnTo>
                  <a:lnTo>
                    <a:pt x="799" y="1909"/>
                  </a:lnTo>
                  <a:lnTo>
                    <a:pt x="835" y="1906"/>
                  </a:lnTo>
                  <a:lnTo>
                    <a:pt x="837" y="1897"/>
                  </a:lnTo>
                  <a:lnTo>
                    <a:pt x="838" y="1886"/>
                  </a:lnTo>
                  <a:lnTo>
                    <a:pt x="838" y="1876"/>
                  </a:lnTo>
                  <a:lnTo>
                    <a:pt x="838" y="1865"/>
                  </a:lnTo>
                  <a:lnTo>
                    <a:pt x="837" y="1843"/>
                  </a:lnTo>
                  <a:lnTo>
                    <a:pt x="835" y="1820"/>
                  </a:lnTo>
                  <a:lnTo>
                    <a:pt x="829" y="1796"/>
                  </a:lnTo>
                  <a:lnTo>
                    <a:pt x="823" y="1772"/>
                  </a:lnTo>
                  <a:lnTo>
                    <a:pt x="815" y="1747"/>
                  </a:lnTo>
                  <a:lnTo>
                    <a:pt x="806" y="1724"/>
                  </a:lnTo>
                  <a:lnTo>
                    <a:pt x="795" y="1700"/>
                  </a:lnTo>
                  <a:lnTo>
                    <a:pt x="784" y="1679"/>
                  </a:lnTo>
                  <a:lnTo>
                    <a:pt x="773" y="1658"/>
                  </a:lnTo>
                  <a:lnTo>
                    <a:pt x="760" y="1640"/>
                  </a:lnTo>
                  <a:lnTo>
                    <a:pt x="748" y="1622"/>
                  </a:lnTo>
                  <a:lnTo>
                    <a:pt x="735" y="1608"/>
                  </a:lnTo>
                  <a:lnTo>
                    <a:pt x="723" y="1595"/>
                  </a:lnTo>
                  <a:lnTo>
                    <a:pt x="711" y="1587"/>
                  </a:lnTo>
                  <a:lnTo>
                    <a:pt x="1670" y="1495"/>
                  </a:lnTo>
                  <a:lnTo>
                    <a:pt x="1657" y="1482"/>
                  </a:lnTo>
                  <a:lnTo>
                    <a:pt x="1645" y="1469"/>
                  </a:lnTo>
                  <a:lnTo>
                    <a:pt x="1634" y="1456"/>
                  </a:lnTo>
                  <a:lnTo>
                    <a:pt x="1622" y="1442"/>
                  </a:lnTo>
                  <a:lnTo>
                    <a:pt x="1612" y="1427"/>
                  </a:lnTo>
                  <a:lnTo>
                    <a:pt x="1602" y="1411"/>
                  </a:lnTo>
                  <a:lnTo>
                    <a:pt x="1593" y="1396"/>
                  </a:lnTo>
                  <a:lnTo>
                    <a:pt x="1583" y="1379"/>
                  </a:lnTo>
                  <a:lnTo>
                    <a:pt x="1566" y="1345"/>
                  </a:lnTo>
                  <a:lnTo>
                    <a:pt x="1552" y="1311"/>
                  </a:lnTo>
                  <a:lnTo>
                    <a:pt x="1539" y="1276"/>
                  </a:lnTo>
                  <a:lnTo>
                    <a:pt x="1527" y="1242"/>
                  </a:lnTo>
                  <a:lnTo>
                    <a:pt x="1518" y="1209"/>
                  </a:lnTo>
                  <a:lnTo>
                    <a:pt x="1511" y="1177"/>
                  </a:lnTo>
                  <a:lnTo>
                    <a:pt x="1505" y="1147"/>
                  </a:lnTo>
                  <a:lnTo>
                    <a:pt x="1502" y="1120"/>
                  </a:lnTo>
                  <a:lnTo>
                    <a:pt x="1498" y="1095"/>
                  </a:lnTo>
                  <a:lnTo>
                    <a:pt x="1498" y="1075"/>
                  </a:lnTo>
                  <a:lnTo>
                    <a:pt x="1498" y="1059"/>
                  </a:lnTo>
                  <a:lnTo>
                    <a:pt x="1501" y="1049"/>
                  </a:lnTo>
                  <a:lnTo>
                    <a:pt x="1499" y="1040"/>
                  </a:lnTo>
                  <a:lnTo>
                    <a:pt x="1495" y="1029"/>
                  </a:lnTo>
                  <a:lnTo>
                    <a:pt x="1485" y="1011"/>
                  </a:lnTo>
                  <a:lnTo>
                    <a:pt x="1473" y="989"/>
                  </a:lnTo>
                  <a:lnTo>
                    <a:pt x="1436" y="933"/>
                  </a:lnTo>
                  <a:lnTo>
                    <a:pt x="1390" y="864"/>
                  </a:lnTo>
                  <a:lnTo>
                    <a:pt x="1334" y="783"/>
                  </a:lnTo>
                  <a:lnTo>
                    <a:pt x="1270" y="695"/>
                  </a:lnTo>
                  <a:lnTo>
                    <a:pt x="1203" y="601"/>
                  </a:lnTo>
                  <a:lnTo>
                    <a:pt x="1133" y="505"/>
                  </a:lnTo>
                  <a:lnTo>
                    <a:pt x="1062" y="411"/>
                  </a:lnTo>
                  <a:lnTo>
                    <a:pt x="994" y="319"/>
                  </a:lnTo>
                  <a:lnTo>
                    <a:pt x="931" y="233"/>
                  </a:lnTo>
                  <a:lnTo>
                    <a:pt x="873" y="156"/>
                  </a:lnTo>
                  <a:lnTo>
                    <a:pt x="824" y="92"/>
                  </a:lnTo>
                  <a:lnTo>
                    <a:pt x="787" y="43"/>
                  </a:lnTo>
                  <a:lnTo>
                    <a:pt x="762" y="11"/>
                  </a:lnTo>
                  <a:lnTo>
                    <a:pt x="754" y="0"/>
                  </a:lnTo>
                  <a:lnTo>
                    <a:pt x="0" y="8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Freeform 122"/>
            <p:cNvSpPr/>
            <p:nvPr/>
          </p:nvSpPr>
          <p:spPr>
            <a:xfrm>
              <a:off x="7562880" y="5551200"/>
              <a:ext cx="267840" cy="33660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1670" h="1941">
                  <a:moveTo>
                    <a:pt x="0" y="86"/>
                  </a:moveTo>
                  <a:lnTo>
                    <a:pt x="1" y="97"/>
                  </a:lnTo>
                  <a:lnTo>
                    <a:pt x="5" y="128"/>
                  </a:lnTo>
                  <a:lnTo>
                    <a:pt x="14" y="177"/>
                  </a:lnTo>
                  <a:lnTo>
                    <a:pt x="24" y="241"/>
                  </a:lnTo>
                  <a:lnTo>
                    <a:pt x="36" y="319"/>
                  </a:lnTo>
                  <a:lnTo>
                    <a:pt x="51" y="405"/>
                  </a:lnTo>
                  <a:lnTo>
                    <a:pt x="67" y="498"/>
                  </a:lnTo>
                  <a:lnTo>
                    <a:pt x="86" y="598"/>
                  </a:lnTo>
                  <a:lnTo>
                    <a:pt x="106" y="698"/>
                  </a:lnTo>
                  <a:lnTo>
                    <a:pt x="127" y="799"/>
                  </a:lnTo>
                  <a:lnTo>
                    <a:pt x="148" y="896"/>
                  </a:lnTo>
                  <a:lnTo>
                    <a:pt x="171" y="988"/>
                  </a:lnTo>
                  <a:lnTo>
                    <a:pt x="183" y="1031"/>
                  </a:lnTo>
                  <a:lnTo>
                    <a:pt x="195" y="1071"/>
                  </a:lnTo>
                  <a:lnTo>
                    <a:pt x="206" y="1109"/>
                  </a:lnTo>
                  <a:lnTo>
                    <a:pt x="218" y="1144"/>
                  </a:lnTo>
                  <a:lnTo>
                    <a:pt x="230" y="1176"/>
                  </a:lnTo>
                  <a:lnTo>
                    <a:pt x="241" y="1204"/>
                  </a:lnTo>
                  <a:lnTo>
                    <a:pt x="253" y="1227"/>
                  </a:lnTo>
                  <a:lnTo>
                    <a:pt x="265" y="1247"/>
                  </a:lnTo>
                  <a:lnTo>
                    <a:pt x="556" y="1941"/>
                  </a:lnTo>
                  <a:lnTo>
                    <a:pt x="588" y="1936"/>
                  </a:lnTo>
                  <a:lnTo>
                    <a:pt x="622" y="1932"/>
                  </a:lnTo>
                  <a:lnTo>
                    <a:pt x="656" y="1927"/>
                  </a:lnTo>
                  <a:lnTo>
                    <a:pt x="691" y="1922"/>
                  </a:lnTo>
                  <a:lnTo>
                    <a:pt x="726" y="1918"/>
                  </a:lnTo>
                  <a:lnTo>
                    <a:pt x="762" y="1914"/>
                  </a:lnTo>
                  <a:lnTo>
                    <a:pt x="799" y="1909"/>
                  </a:lnTo>
                  <a:lnTo>
                    <a:pt x="835" y="1906"/>
                  </a:lnTo>
                  <a:lnTo>
                    <a:pt x="837" y="1897"/>
                  </a:lnTo>
                  <a:lnTo>
                    <a:pt x="838" y="1886"/>
                  </a:lnTo>
                  <a:lnTo>
                    <a:pt x="838" y="1876"/>
                  </a:lnTo>
                  <a:lnTo>
                    <a:pt x="838" y="1865"/>
                  </a:lnTo>
                  <a:lnTo>
                    <a:pt x="837" y="1843"/>
                  </a:lnTo>
                  <a:lnTo>
                    <a:pt x="835" y="1820"/>
                  </a:lnTo>
                  <a:lnTo>
                    <a:pt x="829" y="1796"/>
                  </a:lnTo>
                  <a:lnTo>
                    <a:pt x="823" y="1772"/>
                  </a:lnTo>
                  <a:lnTo>
                    <a:pt x="815" y="1747"/>
                  </a:lnTo>
                  <a:lnTo>
                    <a:pt x="806" y="1724"/>
                  </a:lnTo>
                  <a:lnTo>
                    <a:pt x="795" y="1700"/>
                  </a:lnTo>
                  <a:lnTo>
                    <a:pt x="784" y="1679"/>
                  </a:lnTo>
                  <a:lnTo>
                    <a:pt x="773" y="1658"/>
                  </a:lnTo>
                  <a:lnTo>
                    <a:pt x="760" y="1640"/>
                  </a:lnTo>
                  <a:lnTo>
                    <a:pt x="748" y="1622"/>
                  </a:lnTo>
                  <a:lnTo>
                    <a:pt x="735" y="1608"/>
                  </a:lnTo>
                  <a:lnTo>
                    <a:pt x="723" y="1595"/>
                  </a:lnTo>
                  <a:lnTo>
                    <a:pt x="711" y="1587"/>
                  </a:lnTo>
                  <a:lnTo>
                    <a:pt x="1670" y="1495"/>
                  </a:lnTo>
                  <a:lnTo>
                    <a:pt x="1657" y="1482"/>
                  </a:lnTo>
                  <a:lnTo>
                    <a:pt x="1645" y="1469"/>
                  </a:lnTo>
                  <a:lnTo>
                    <a:pt x="1634" y="1456"/>
                  </a:lnTo>
                  <a:lnTo>
                    <a:pt x="1622" y="1442"/>
                  </a:lnTo>
                  <a:lnTo>
                    <a:pt x="1612" y="1427"/>
                  </a:lnTo>
                  <a:lnTo>
                    <a:pt x="1602" y="1411"/>
                  </a:lnTo>
                  <a:lnTo>
                    <a:pt x="1593" y="1396"/>
                  </a:lnTo>
                  <a:lnTo>
                    <a:pt x="1583" y="1379"/>
                  </a:lnTo>
                  <a:lnTo>
                    <a:pt x="1566" y="1345"/>
                  </a:lnTo>
                  <a:lnTo>
                    <a:pt x="1552" y="1311"/>
                  </a:lnTo>
                  <a:lnTo>
                    <a:pt x="1539" y="1276"/>
                  </a:lnTo>
                  <a:lnTo>
                    <a:pt x="1527" y="1242"/>
                  </a:lnTo>
                  <a:lnTo>
                    <a:pt x="1518" y="1209"/>
                  </a:lnTo>
                  <a:lnTo>
                    <a:pt x="1511" y="1177"/>
                  </a:lnTo>
                  <a:lnTo>
                    <a:pt x="1505" y="1147"/>
                  </a:lnTo>
                  <a:lnTo>
                    <a:pt x="1502" y="1120"/>
                  </a:lnTo>
                  <a:lnTo>
                    <a:pt x="1498" y="1095"/>
                  </a:lnTo>
                  <a:lnTo>
                    <a:pt x="1498" y="1075"/>
                  </a:lnTo>
                  <a:lnTo>
                    <a:pt x="1498" y="1059"/>
                  </a:lnTo>
                  <a:lnTo>
                    <a:pt x="1501" y="1049"/>
                  </a:lnTo>
                  <a:lnTo>
                    <a:pt x="1499" y="1040"/>
                  </a:lnTo>
                  <a:lnTo>
                    <a:pt x="1495" y="1029"/>
                  </a:lnTo>
                  <a:lnTo>
                    <a:pt x="1485" y="1011"/>
                  </a:lnTo>
                  <a:lnTo>
                    <a:pt x="1473" y="989"/>
                  </a:lnTo>
                  <a:lnTo>
                    <a:pt x="1436" y="933"/>
                  </a:lnTo>
                  <a:lnTo>
                    <a:pt x="1390" y="864"/>
                  </a:lnTo>
                  <a:lnTo>
                    <a:pt x="1334" y="783"/>
                  </a:lnTo>
                  <a:lnTo>
                    <a:pt x="1270" y="695"/>
                  </a:lnTo>
                  <a:lnTo>
                    <a:pt x="1203" y="601"/>
                  </a:lnTo>
                  <a:lnTo>
                    <a:pt x="1133" y="505"/>
                  </a:lnTo>
                  <a:lnTo>
                    <a:pt x="1062" y="411"/>
                  </a:lnTo>
                  <a:lnTo>
                    <a:pt x="994" y="319"/>
                  </a:lnTo>
                  <a:lnTo>
                    <a:pt x="931" y="233"/>
                  </a:lnTo>
                  <a:lnTo>
                    <a:pt x="873" y="156"/>
                  </a:lnTo>
                  <a:lnTo>
                    <a:pt x="824" y="92"/>
                  </a:lnTo>
                  <a:lnTo>
                    <a:pt x="787" y="43"/>
                  </a:lnTo>
                  <a:lnTo>
                    <a:pt x="762" y="11"/>
                  </a:lnTo>
                  <a:lnTo>
                    <a:pt x="754" y="0"/>
                  </a:lnTo>
                  <a:lnTo>
                    <a:pt x="0" y="8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Freeform 123"/>
            <p:cNvSpPr/>
            <p:nvPr/>
          </p:nvSpPr>
          <p:spPr>
            <a:xfrm>
              <a:off x="7331040" y="5235840"/>
              <a:ext cx="192960" cy="2455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1210" h="1423">
                  <a:moveTo>
                    <a:pt x="916" y="1423"/>
                  </a:moveTo>
                  <a:lnTo>
                    <a:pt x="915" y="1406"/>
                  </a:lnTo>
                  <a:lnTo>
                    <a:pt x="912" y="1392"/>
                  </a:lnTo>
                  <a:lnTo>
                    <a:pt x="910" y="1386"/>
                  </a:lnTo>
                  <a:lnTo>
                    <a:pt x="908" y="1381"/>
                  </a:lnTo>
                  <a:lnTo>
                    <a:pt x="905" y="1376"/>
                  </a:lnTo>
                  <a:lnTo>
                    <a:pt x="903" y="1373"/>
                  </a:lnTo>
                  <a:lnTo>
                    <a:pt x="896" y="1367"/>
                  </a:lnTo>
                  <a:lnTo>
                    <a:pt x="888" y="1364"/>
                  </a:lnTo>
                  <a:lnTo>
                    <a:pt x="879" y="1361"/>
                  </a:lnTo>
                  <a:lnTo>
                    <a:pt x="869" y="1360"/>
                  </a:lnTo>
                  <a:lnTo>
                    <a:pt x="847" y="1359"/>
                  </a:lnTo>
                  <a:lnTo>
                    <a:pt x="824" y="1357"/>
                  </a:lnTo>
                  <a:lnTo>
                    <a:pt x="811" y="1353"/>
                  </a:lnTo>
                  <a:lnTo>
                    <a:pt x="799" y="1348"/>
                  </a:lnTo>
                  <a:lnTo>
                    <a:pt x="793" y="1345"/>
                  </a:lnTo>
                  <a:lnTo>
                    <a:pt x="786" y="1341"/>
                  </a:lnTo>
                  <a:lnTo>
                    <a:pt x="780" y="1337"/>
                  </a:lnTo>
                  <a:lnTo>
                    <a:pt x="775" y="1331"/>
                  </a:lnTo>
                  <a:lnTo>
                    <a:pt x="775" y="1309"/>
                  </a:lnTo>
                  <a:lnTo>
                    <a:pt x="773" y="1288"/>
                  </a:lnTo>
                  <a:lnTo>
                    <a:pt x="771" y="1268"/>
                  </a:lnTo>
                  <a:lnTo>
                    <a:pt x="768" y="1249"/>
                  </a:lnTo>
                  <a:lnTo>
                    <a:pt x="763" y="1233"/>
                  </a:lnTo>
                  <a:lnTo>
                    <a:pt x="757" y="1216"/>
                  </a:lnTo>
                  <a:lnTo>
                    <a:pt x="749" y="1201"/>
                  </a:lnTo>
                  <a:lnTo>
                    <a:pt x="740" y="1187"/>
                  </a:lnTo>
                  <a:lnTo>
                    <a:pt x="728" y="1173"/>
                  </a:lnTo>
                  <a:lnTo>
                    <a:pt x="714" y="1160"/>
                  </a:lnTo>
                  <a:lnTo>
                    <a:pt x="698" y="1149"/>
                  </a:lnTo>
                  <a:lnTo>
                    <a:pt x="679" y="1138"/>
                  </a:lnTo>
                  <a:lnTo>
                    <a:pt x="658" y="1128"/>
                  </a:lnTo>
                  <a:lnTo>
                    <a:pt x="633" y="1117"/>
                  </a:lnTo>
                  <a:lnTo>
                    <a:pt x="606" y="1108"/>
                  </a:lnTo>
                  <a:lnTo>
                    <a:pt x="576" y="1098"/>
                  </a:lnTo>
                  <a:lnTo>
                    <a:pt x="546" y="1089"/>
                  </a:lnTo>
                  <a:lnTo>
                    <a:pt x="520" y="1080"/>
                  </a:lnTo>
                  <a:lnTo>
                    <a:pt x="498" y="1069"/>
                  </a:lnTo>
                  <a:lnTo>
                    <a:pt x="478" y="1059"/>
                  </a:lnTo>
                  <a:lnTo>
                    <a:pt x="462" y="1048"/>
                  </a:lnTo>
                  <a:lnTo>
                    <a:pt x="449" y="1037"/>
                  </a:lnTo>
                  <a:lnTo>
                    <a:pt x="437" y="1025"/>
                  </a:lnTo>
                  <a:lnTo>
                    <a:pt x="429" y="1012"/>
                  </a:lnTo>
                  <a:lnTo>
                    <a:pt x="423" y="1000"/>
                  </a:lnTo>
                  <a:lnTo>
                    <a:pt x="418" y="987"/>
                  </a:lnTo>
                  <a:lnTo>
                    <a:pt x="416" y="976"/>
                  </a:lnTo>
                  <a:lnTo>
                    <a:pt x="415" y="963"/>
                  </a:lnTo>
                  <a:lnTo>
                    <a:pt x="415" y="950"/>
                  </a:lnTo>
                  <a:lnTo>
                    <a:pt x="416" y="938"/>
                  </a:lnTo>
                  <a:lnTo>
                    <a:pt x="418" y="926"/>
                  </a:lnTo>
                  <a:lnTo>
                    <a:pt x="421" y="914"/>
                  </a:lnTo>
                  <a:lnTo>
                    <a:pt x="422" y="903"/>
                  </a:lnTo>
                  <a:lnTo>
                    <a:pt x="423" y="894"/>
                  </a:lnTo>
                  <a:lnTo>
                    <a:pt x="421" y="887"/>
                  </a:lnTo>
                  <a:lnTo>
                    <a:pt x="418" y="881"/>
                  </a:lnTo>
                  <a:lnTo>
                    <a:pt x="414" y="875"/>
                  </a:lnTo>
                  <a:lnTo>
                    <a:pt x="408" y="871"/>
                  </a:lnTo>
                  <a:lnTo>
                    <a:pt x="400" y="867"/>
                  </a:lnTo>
                  <a:lnTo>
                    <a:pt x="392" y="864"/>
                  </a:lnTo>
                  <a:lnTo>
                    <a:pt x="345" y="853"/>
                  </a:lnTo>
                  <a:lnTo>
                    <a:pt x="283" y="836"/>
                  </a:lnTo>
                  <a:lnTo>
                    <a:pt x="265" y="830"/>
                  </a:lnTo>
                  <a:lnTo>
                    <a:pt x="248" y="824"/>
                  </a:lnTo>
                  <a:lnTo>
                    <a:pt x="231" y="817"/>
                  </a:lnTo>
                  <a:lnTo>
                    <a:pt x="215" y="809"/>
                  </a:lnTo>
                  <a:lnTo>
                    <a:pt x="201" y="801"/>
                  </a:lnTo>
                  <a:lnTo>
                    <a:pt x="187" y="792"/>
                  </a:lnTo>
                  <a:lnTo>
                    <a:pt x="174" y="783"/>
                  </a:lnTo>
                  <a:lnTo>
                    <a:pt x="161" y="774"/>
                  </a:lnTo>
                  <a:lnTo>
                    <a:pt x="151" y="764"/>
                  </a:lnTo>
                  <a:lnTo>
                    <a:pt x="142" y="754"/>
                  </a:lnTo>
                  <a:lnTo>
                    <a:pt x="132" y="745"/>
                  </a:lnTo>
                  <a:lnTo>
                    <a:pt x="125" y="735"/>
                  </a:lnTo>
                  <a:lnTo>
                    <a:pt x="121" y="726"/>
                  </a:lnTo>
                  <a:lnTo>
                    <a:pt x="116" y="715"/>
                  </a:lnTo>
                  <a:lnTo>
                    <a:pt x="113" y="707"/>
                  </a:lnTo>
                  <a:lnTo>
                    <a:pt x="112" y="698"/>
                  </a:lnTo>
                  <a:lnTo>
                    <a:pt x="111" y="690"/>
                  </a:lnTo>
                  <a:lnTo>
                    <a:pt x="109" y="681"/>
                  </a:lnTo>
                  <a:lnTo>
                    <a:pt x="104" y="673"/>
                  </a:lnTo>
                  <a:lnTo>
                    <a:pt x="97" y="666"/>
                  </a:lnTo>
                  <a:lnTo>
                    <a:pt x="90" y="659"/>
                  </a:lnTo>
                  <a:lnTo>
                    <a:pt x="82" y="653"/>
                  </a:lnTo>
                  <a:lnTo>
                    <a:pt x="74" y="648"/>
                  </a:lnTo>
                  <a:lnTo>
                    <a:pt x="64" y="642"/>
                  </a:lnTo>
                  <a:lnTo>
                    <a:pt x="32" y="625"/>
                  </a:lnTo>
                  <a:lnTo>
                    <a:pt x="18" y="620"/>
                  </a:lnTo>
                  <a:lnTo>
                    <a:pt x="6" y="505"/>
                  </a:lnTo>
                  <a:lnTo>
                    <a:pt x="3" y="505"/>
                  </a:lnTo>
                  <a:lnTo>
                    <a:pt x="1" y="498"/>
                  </a:lnTo>
                  <a:lnTo>
                    <a:pt x="0" y="489"/>
                  </a:lnTo>
                  <a:lnTo>
                    <a:pt x="0" y="478"/>
                  </a:lnTo>
                  <a:lnTo>
                    <a:pt x="0" y="467"/>
                  </a:lnTo>
                  <a:lnTo>
                    <a:pt x="1" y="454"/>
                  </a:lnTo>
                  <a:lnTo>
                    <a:pt x="3" y="441"/>
                  </a:lnTo>
                  <a:lnTo>
                    <a:pt x="5" y="427"/>
                  </a:lnTo>
                  <a:lnTo>
                    <a:pt x="7" y="413"/>
                  </a:lnTo>
                  <a:lnTo>
                    <a:pt x="12" y="400"/>
                  </a:lnTo>
                  <a:lnTo>
                    <a:pt x="17" y="388"/>
                  </a:lnTo>
                  <a:lnTo>
                    <a:pt x="22" y="377"/>
                  </a:lnTo>
                  <a:lnTo>
                    <a:pt x="28" y="367"/>
                  </a:lnTo>
                  <a:lnTo>
                    <a:pt x="32" y="363"/>
                  </a:lnTo>
                  <a:lnTo>
                    <a:pt x="36" y="359"/>
                  </a:lnTo>
                  <a:lnTo>
                    <a:pt x="41" y="356"/>
                  </a:lnTo>
                  <a:lnTo>
                    <a:pt x="45" y="353"/>
                  </a:lnTo>
                  <a:lnTo>
                    <a:pt x="50" y="351"/>
                  </a:lnTo>
                  <a:lnTo>
                    <a:pt x="55" y="350"/>
                  </a:lnTo>
                  <a:lnTo>
                    <a:pt x="61" y="350"/>
                  </a:lnTo>
                  <a:lnTo>
                    <a:pt x="67" y="350"/>
                  </a:lnTo>
                  <a:lnTo>
                    <a:pt x="104" y="281"/>
                  </a:lnTo>
                  <a:lnTo>
                    <a:pt x="97" y="274"/>
                  </a:lnTo>
                  <a:lnTo>
                    <a:pt x="91" y="267"/>
                  </a:lnTo>
                  <a:lnTo>
                    <a:pt x="87" y="259"/>
                  </a:lnTo>
                  <a:lnTo>
                    <a:pt x="84" y="250"/>
                  </a:lnTo>
                  <a:lnTo>
                    <a:pt x="82" y="241"/>
                  </a:lnTo>
                  <a:lnTo>
                    <a:pt x="81" y="232"/>
                  </a:lnTo>
                  <a:lnTo>
                    <a:pt x="82" y="222"/>
                  </a:lnTo>
                  <a:lnTo>
                    <a:pt x="84" y="213"/>
                  </a:lnTo>
                  <a:lnTo>
                    <a:pt x="89" y="204"/>
                  </a:lnTo>
                  <a:lnTo>
                    <a:pt x="95" y="194"/>
                  </a:lnTo>
                  <a:lnTo>
                    <a:pt x="102" y="186"/>
                  </a:lnTo>
                  <a:lnTo>
                    <a:pt x="112" y="178"/>
                  </a:lnTo>
                  <a:lnTo>
                    <a:pt x="124" y="171"/>
                  </a:lnTo>
                  <a:lnTo>
                    <a:pt x="138" y="165"/>
                  </a:lnTo>
                  <a:lnTo>
                    <a:pt x="154" y="160"/>
                  </a:lnTo>
                  <a:lnTo>
                    <a:pt x="173" y="156"/>
                  </a:lnTo>
                  <a:lnTo>
                    <a:pt x="142" y="27"/>
                  </a:lnTo>
                  <a:lnTo>
                    <a:pt x="830" y="0"/>
                  </a:lnTo>
                  <a:lnTo>
                    <a:pt x="852" y="25"/>
                  </a:lnTo>
                  <a:lnTo>
                    <a:pt x="876" y="48"/>
                  </a:lnTo>
                  <a:lnTo>
                    <a:pt x="903" y="72"/>
                  </a:lnTo>
                  <a:lnTo>
                    <a:pt x="930" y="96"/>
                  </a:lnTo>
                  <a:lnTo>
                    <a:pt x="1077" y="629"/>
                  </a:lnTo>
                  <a:lnTo>
                    <a:pt x="1082" y="639"/>
                  </a:lnTo>
                  <a:lnTo>
                    <a:pt x="1088" y="650"/>
                  </a:lnTo>
                  <a:lnTo>
                    <a:pt x="1095" y="660"/>
                  </a:lnTo>
                  <a:lnTo>
                    <a:pt x="1102" y="672"/>
                  </a:lnTo>
                  <a:lnTo>
                    <a:pt x="1119" y="693"/>
                  </a:lnTo>
                  <a:lnTo>
                    <a:pt x="1137" y="715"/>
                  </a:lnTo>
                  <a:lnTo>
                    <a:pt x="1157" y="735"/>
                  </a:lnTo>
                  <a:lnTo>
                    <a:pt x="1175" y="753"/>
                  </a:lnTo>
                  <a:lnTo>
                    <a:pt x="1194" y="769"/>
                  </a:lnTo>
                  <a:lnTo>
                    <a:pt x="1210" y="782"/>
                  </a:lnTo>
                  <a:lnTo>
                    <a:pt x="1188" y="806"/>
                  </a:lnTo>
                  <a:lnTo>
                    <a:pt x="1169" y="831"/>
                  </a:lnTo>
                  <a:lnTo>
                    <a:pt x="1161" y="841"/>
                  </a:lnTo>
                  <a:lnTo>
                    <a:pt x="1154" y="853"/>
                  </a:lnTo>
                  <a:lnTo>
                    <a:pt x="1148" y="865"/>
                  </a:lnTo>
                  <a:lnTo>
                    <a:pt x="1143" y="877"/>
                  </a:lnTo>
                  <a:lnTo>
                    <a:pt x="1138" y="889"/>
                  </a:lnTo>
                  <a:lnTo>
                    <a:pt x="1134" y="902"/>
                  </a:lnTo>
                  <a:lnTo>
                    <a:pt x="1131" y="915"/>
                  </a:lnTo>
                  <a:lnTo>
                    <a:pt x="1127" y="930"/>
                  </a:lnTo>
                  <a:lnTo>
                    <a:pt x="1126" y="945"/>
                  </a:lnTo>
                  <a:lnTo>
                    <a:pt x="1124" y="963"/>
                  </a:lnTo>
                  <a:lnTo>
                    <a:pt x="1124" y="980"/>
                  </a:lnTo>
                  <a:lnTo>
                    <a:pt x="1124" y="1000"/>
                  </a:lnTo>
                  <a:lnTo>
                    <a:pt x="1124" y="1041"/>
                  </a:lnTo>
                  <a:lnTo>
                    <a:pt x="1125" y="1081"/>
                  </a:lnTo>
                  <a:lnTo>
                    <a:pt x="1127" y="1119"/>
                  </a:lnTo>
                  <a:lnTo>
                    <a:pt x="1131" y="1156"/>
                  </a:lnTo>
                  <a:lnTo>
                    <a:pt x="1133" y="1186"/>
                  </a:lnTo>
                  <a:lnTo>
                    <a:pt x="1136" y="1209"/>
                  </a:lnTo>
                  <a:lnTo>
                    <a:pt x="1137" y="1225"/>
                  </a:lnTo>
                  <a:lnTo>
                    <a:pt x="1138" y="1230"/>
                  </a:lnTo>
                  <a:lnTo>
                    <a:pt x="1123" y="1257"/>
                  </a:lnTo>
                  <a:lnTo>
                    <a:pt x="1108" y="1281"/>
                  </a:lnTo>
                  <a:lnTo>
                    <a:pt x="1094" y="1299"/>
                  </a:lnTo>
                  <a:lnTo>
                    <a:pt x="1080" y="1315"/>
                  </a:lnTo>
                  <a:lnTo>
                    <a:pt x="1067" y="1327"/>
                  </a:lnTo>
                  <a:lnTo>
                    <a:pt x="1053" y="1338"/>
                  </a:lnTo>
                  <a:lnTo>
                    <a:pt x="1040" y="1347"/>
                  </a:lnTo>
                  <a:lnTo>
                    <a:pt x="1027" y="1354"/>
                  </a:lnTo>
                  <a:lnTo>
                    <a:pt x="1001" y="1367"/>
                  </a:lnTo>
                  <a:lnTo>
                    <a:pt x="974" y="1380"/>
                  </a:lnTo>
                  <a:lnTo>
                    <a:pt x="960" y="1388"/>
                  </a:lnTo>
                  <a:lnTo>
                    <a:pt x="946" y="1397"/>
                  </a:lnTo>
                  <a:lnTo>
                    <a:pt x="931" y="1409"/>
                  </a:lnTo>
                  <a:lnTo>
                    <a:pt x="916" y="14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Freeform 124"/>
            <p:cNvSpPr/>
            <p:nvPr/>
          </p:nvSpPr>
          <p:spPr>
            <a:xfrm>
              <a:off x="7331040" y="5235840"/>
              <a:ext cx="192960" cy="2455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1210" h="1423">
                  <a:moveTo>
                    <a:pt x="916" y="1423"/>
                  </a:moveTo>
                  <a:lnTo>
                    <a:pt x="915" y="1406"/>
                  </a:lnTo>
                  <a:lnTo>
                    <a:pt x="912" y="1392"/>
                  </a:lnTo>
                  <a:lnTo>
                    <a:pt x="910" y="1386"/>
                  </a:lnTo>
                  <a:lnTo>
                    <a:pt x="908" y="1381"/>
                  </a:lnTo>
                  <a:lnTo>
                    <a:pt x="905" y="1376"/>
                  </a:lnTo>
                  <a:lnTo>
                    <a:pt x="903" y="1373"/>
                  </a:lnTo>
                  <a:lnTo>
                    <a:pt x="896" y="1367"/>
                  </a:lnTo>
                  <a:lnTo>
                    <a:pt x="888" y="1364"/>
                  </a:lnTo>
                  <a:lnTo>
                    <a:pt x="879" y="1361"/>
                  </a:lnTo>
                  <a:lnTo>
                    <a:pt x="869" y="1360"/>
                  </a:lnTo>
                  <a:lnTo>
                    <a:pt x="847" y="1359"/>
                  </a:lnTo>
                  <a:lnTo>
                    <a:pt x="824" y="1357"/>
                  </a:lnTo>
                  <a:lnTo>
                    <a:pt x="811" y="1353"/>
                  </a:lnTo>
                  <a:lnTo>
                    <a:pt x="799" y="1348"/>
                  </a:lnTo>
                  <a:lnTo>
                    <a:pt x="793" y="1345"/>
                  </a:lnTo>
                  <a:lnTo>
                    <a:pt x="786" y="1341"/>
                  </a:lnTo>
                  <a:lnTo>
                    <a:pt x="780" y="1337"/>
                  </a:lnTo>
                  <a:lnTo>
                    <a:pt x="775" y="1331"/>
                  </a:lnTo>
                  <a:lnTo>
                    <a:pt x="775" y="1309"/>
                  </a:lnTo>
                  <a:lnTo>
                    <a:pt x="773" y="1288"/>
                  </a:lnTo>
                  <a:lnTo>
                    <a:pt x="771" y="1268"/>
                  </a:lnTo>
                  <a:lnTo>
                    <a:pt x="768" y="1249"/>
                  </a:lnTo>
                  <a:lnTo>
                    <a:pt x="763" y="1233"/>
                  </a:lnTo>
                  <a:lnTo>
                    <a:pt x="757" y="1216"/>
                  </a:lnTo>
                  <a:lnTo>
                    <a:pt x="749" y="1201"/>
                  </a:lnTo>
                  <a:lnTo>
                    <a:pt x="740" y="1187"/>
                  </a:lnTo>
                  <a:lnTo>
                    <a:pt x="728" y="1173"/>
                  </a:lnTo>
                  <a:lnTo>
                    <a:pt x="714" y="1160"/>
                  </a:lnTo>
                  <a:lnTo>
                    <a:pt x="698" y="1149"/>
                  </a:lnTo>
                  <a:lnTo>
                    <a:pt x="679" y="1138"/>
                  </a:lnTo>
                  <a:lnTo>
                    <a:pt x="658" y="1128"/>
                  </a:lnTo>
                  <a:lnTo>
                    <a:pt x="633" y="1117"/>
                  </a:lnTo>
                  <a:lnTo>
                    <a:pt x="606" y="1108"/>
                  </a:lnTo>
                  <a:lnTo>
                    <a:pt x="576" y="1098"/>
                  </a:lnTo>
                  <a:lnTo>
                    <a:pt x="546" y="1089"/>
                  </a:lnTo>
                  <a:lnTo>
                    <a:pt x="520" y="1080"/>
                  </a:lnTo>
                  <a:lnTo>
                    <a:pt x="498" y="1069"/>
                  </a:lnTo>
                  <a:lnTo>
                    <a:pt x="478" y="1059"/>
                  </a:lnTo>
                  <a:lnTo>
                    <a:pt x="462" y="1048"/>
                  </a:lnTo>
                  <a:lnTo>
                    <a:pt x="449" y="1037"/>
                  </a:lnTo>
                  <a:lnTo>
                    <a:pt x="437" y="1025"/>
                  </a:lnTo>
                  <a:lnTo>
                    <a:pt x="429" y="1012"/>
                  </a:lnTo>
                  <a:lnTo>
                    <a:pt x="423" y="1000"/>
                  </a:lnTo>
                  <a:lnTo>
                    <a:pt x="418" y="987"/>
                  </a:lnTo>
                  <a:lnTo>
                    <a:pt x="416" y="976"/>
                  </a:lnTo>
                  <a:lnTo>
                    <a:pt x="415" y="963"/>
                  </a:lnTo>
                  <a:lnTo>
                    <a:pt x="415" y="950"/>
                  </a:lnTo>
                  <a:lnTo>
                    <a:pt x="416" y="938"/>
                  </a:lnTo>
                  <a:lnTo>
                    <a:pt x="418" y="926"/>
                  </a:lnTo>
                  <a:lnTo>
                    <a:pt x="421" y="914"/>
                  </a:lnTo>
                  <a:lnTo>
                    <a:pt x="422" y="903"/>
                  </a:lnTo>
                  <a:lnTo>
                    <a:pt x="423" y="894"/>
                  </a:lnTo>
                  <a:lnTo>
                    <a:pt x="421" y="887"/>
                  </a:lnTo>
                  <a:lnTo>
                    <a:pt x="418" y="881"/>
                  </a:lnTo>
                  <a:lnTo>
                    <a:pt x="414" y="875"/>
                  </a:lnTo>
                  <a:lnTo>
                    <a:pt x="408" y="871"/>
                  </a:lnTo>
                  <a:lnTo>
                    <a:pt x="400" y="867"/>
                  </a:lnTo>
                  <a:lnTo>
                    <a:pt x="392" y="864"/>
                  </a:lnTo>
                  <a:lnTo>
                    <a:pt x="345" y="853"/>
                  </a:lnTo>
                  <a:lnTo>
                    <a:pt x="283" y="836"/>
                  </a:lnTo>
                  <a:lnTo>
                    <a:pt x="265" y="830"/>
                  </a:lnTo>
                  <a:lnTo>
                    <a:pt x="248" y="824"/>
                  </a:lnTo>
                  <a:lnTo>
                    <a:pt x="231" y="817"/>
                  </a:lnTo>
                  <a:lnTo>
                    <a:pt x="215" y="809"/>
                  </a:lnTo>
                  <a:lnTo>
                    <a:pt x="201" y="801"/>
                  </a:lnTo>
                  <a:lnTo>
                    <a:pt x="187" y="792"/>
                  </a:lnTo>
                  <a:lnTo>
                    <a:pt x="174" y="783"/>
                  </a:lnTo>
                  <a:lnTo>
                    <a:pt x="161" y="774"/>
                  </a:lnTo>
                  <a:lnTo>
                    <a:pt x="151" y="764"/>
                  </a:lnTo>
                  <a:lnTo>
                    <a:pt x="142" y="754"/>
                  </a:lnTo>
                  <a:lnTo>
                    <a:pt x="132" y="745"/>
                  </a:lnTo>
                  <a:lnTo>
                    <a:pt x="125" y="735"/>
                  </a:lnTo>
                  <a:lnTo>
                    <a:pt x="121" y="726"/>
                  </a:lnTo>
                  <a:lnTo>
                    <a:pt x="116" y="715"/>
                  </a:lnTo>
                  <a:lnTo>
                    <a:pt x="113" y="707"/>
                  </a:lnTo>
                  <a:lnTo>
                    <a:pt x="112" y="698"/>
                  </a:lnTo>
                  <a:lnTo>
                    <a:pt x="111" y="690"/>
                  </a:lnTo>
                  <a:lnTo>
                    <a:pt x="109" y="681"/>
                  </a:lnTo>
                  <a:lnTo>
                    <a:pt x="104" y="673"/>
                  </a:lnTo>
                  <a:lnTo>
                    <a:pt x="97" y="666"/>
                  </a:lnTo>
                  <a:lnTo>
                    <a:pt x="90" y="659"/>
                  </a:lnTo>
                  <a:lnTo>
                    <a:pt x="82" y="653"/>
                  </a:lnTo>
                  <a:lnTo>
                    <a:pt x="74" y="648"/>
                  </a:lnTo>
                  <a:lnTo>
                    <a:pt x="64" y="642"/>
                  </a:lnTo>
                  <a:lnTo>
                    <a:pt x="32" y="625"/>
                  </a:lnTo>
                  <a:lnTo>
                    <a:pt x="18" y="620"/>
                  </a:lnTo>
                  <a:lnTo>
                    <a:pt x="6" y="505"/>
                  </a:lnTo>
                  <a:lnTo>
                    <a:pt x="3" y="505"/>
                  </a:lnTo>
                  <a:lnTo>
                    <a:pt x="1" y="498"/>
                  </a:lnTo>
                  <a:lnTo>
                    <a:pt x="0" y="489"/>
                  </a:lnTo>
                  <a:lnTo>
                    <a:pt x="0" y="478"/>
                  </a:lnTo>
                  <a:lnTo>
                    <a:pt x="0" y="467"/>
                  </a:lnTo>
                  <a:lnTo>
                    <a:pt x="1" y="454"/>
                  </a:lnTo>
                  <a:lnTo>
                    <a:pt x="3" y="441"/>
                  </a:lnTo>
                  <a:lnTo>
                    <a:pt x="5" y="427"/>
                  </a:lnTo>
                  <a:lnTo>
                    <a:pt x="7" y="413"/>
                  </a:lnTo>
                  <a:lnTo>
                    <a:pt x="12" y="400"/>
                  </a:lnTo>
                  <a:lnTo>
                    <a:pt x="17" y="388"/>
                  </a:lnTo>
                  <a:lnTo>
                    <a:pt x="22" y="377"/>
                  </a:lnTo>
                  <a:lnTo>
                    <a:pt x="28" y="367"/>
                  </a:lnTo>
                  <a:lnTo>
                    <a:pt x="32" y="363"/>
                  </a:lnTo>
                  <a:lnTo>
                    <a:pt x="36" y="359"/>
                  </a:lnTo>
                  <a:lnTo>
                    <a:pt x="41" y="356"/>
                  </a:lnTo>
                  <a:lnTo>
                    <a:pt x="45" y="353"/>
                  </a:lnTo>
                  <a:lnTo>
                    <a:pt x="50" y="351"/>
                  </a:lnTo>
                  <a:lnTo>
                    <a:pt x="55" y="350"/>
                  </a:lnTo>
                  <a:lnTo>
                    <a:pt x="61" y="350"/>
                  </a:lnTo>
                  <a:lnTo>
                    <a:pt x="67" y="350"/>
                  </a:lnTo>
                  <a:lnTo>
                    <a:pt x="104" y="281"/>
                  </a:lnTo>
                  <a:lnTo>
                    <a:pt x="97" y="274"/>
                  </a:lnTo>
                  <a:lnTo>
                    <a:pt x="91" y="267"/>
                  </a:lnTo>
                  <a:lnTo>
                    <a:pt x="87" y="259"/>
                  </a:lnTo>
                  <a:lnTo>
                    <a:pt x="84" y="250"/>
                  </a:lnTo>
                  <a:lnTo>
                    <a:pt x="82" y="241"/>
                  </a:lnTo>
                  <a:lnTo>
                    <a:pt x="81" y="232"/>
                  </a:lnTo>
                  <a:lnTo>
                    <a:pt x="82" y="222"/>
                  </a:lnTo>
                  <a:lnTo>
                    <a:pt x="84" y="213"/>
                  </a:lnTo>
                  <a:lnTo>
                    <a:pt x="89" y="204"/>
                  </a:lnTo>
                  <a:lnTo>
                    <a:pt x="95" y="194"/>
                  </a:lnTo>
                  <a:lnTo>
                    <a:pt x="102" y="186"/>
                  </a:lnTo>
                  <a:lnTo>
                    <a:pt x="112" y="178"/>
                  </a:lnTo>
                  <a:lnTo>
                    <a:pt x="124" y="171"/>
                  </a:lnTo>
                  <a:lnTo>
                    <a:pt x="138" y="165"/>
                  </a:lnTo>
                  <a:lnTo>
                    <a:pt x="154" y="160"/>
                  </a:lnTo>
                  <a:lnTo>
                    <a:pt x="173" y="156"/>
                  </a:lnTo>
                  <a:lnTo>
                    <a:pt x="142" y="27"/>
                  </a:lnTo>
                  <a:lnTo>
                    <a:pt x="830" y="0"/>
                  </a:lnTo>
                  <a:lnTo>
                    <a:pt x="852" y="25"/>
                  </a:lnTo>
                  <a:lnTo>
                    <a:pt x="876" y="48"/>
                  </a:lnTo>
                  <a:lnTo>
                    <a:pt x="903" y="72"/>
                  </a:lnTo>
                  <a:lnTo>
                    <a:pt x="930" y="96"/>
                  </a:lnTo>
                  <a:lnTo>
                    <a:pt x="1077" y="629"/>
                  </a:lnTo>
                  <a:lnTo>
                    <a:pt x="1082" y="639"/>
                  </a:lnTo>
                  <a:lnTo>
                    <a:pt x="1088" y="650"/>
                  </a:lnTo>
                  <a:lnTo>
                    <a:pt x="1095" y="660"/>
                  </a:lnTo>
                  <a:lnTo>
                    <a:pt x="1102" y="672"/>
                  </a:lnTo>
                  <a:lnTo>
                    <a:pt x="1119" y="693"/>
                  </a:lnTo>
                  <a:lnTo>
                    <a:pt x="1137" y="715"/>
                  </a:lnTo>
                  <a:lnTo>
                    <a:pt x="1157" y="735"/>
                  </a:lnTo>
                  <a:lnTo>
                    <a:pt x="1175" y="753"/>
                  </a:lnTo>
                  <a:lnTo>
                    <a:pt x="1194" y="769"/>
                  </a:lnTo>
                  <a:lnTo>
                    <a:pt x="1210" y="782"/>
                  </a:lnTo>
                  <a:lnTo>
                    <a:pt x="1188" y="806"/>
                  </a:lnTo>
                  <a:lnTo>
                    <a:pt x="1169" y="831"/>
                  </a:lnTo>
                  <a:lnTo>
                    <a:pt x="1161" y="841"/>
                  </a:lnTo>
                  <a:lnTo>
                    <a:pt x="1154" y="853"/>
                  </a:lnTo>
                  <a:lnTo>
                    <a:pt x="1148" y="865"/>
                  </a:lnTo>
                  <a:lnTo>
                    <a:pt x="1143" y="877"/>
                  </a:lnTo>
                  <a:lnTo>
                    <a:pt x="1138" y="889"/>
                  </a:lnTo>
                  <a:lnTo>
                    <a:pt x="1134" y="902"/>
                  </a:lnTo>
                  <a:lnTo>
                    <a:pt x="1131" y="915"/>
                  </a:lnTo>
                  <a:lnTo>
                    <a:pt x="1127" y="930"/>
                  </a:lnTo>
                  <a:lnTo>
                    <a:pt x="1126" y="945"/>
                  </a:lnTo>
                  <a:lnTo>
                    <a:pt x="1124" y="963"/>
                  </a:lnTo>
                  <a:lnTo>
                    <a:pt x="1124" y="980"/>
                  </a:lnTo>
                  <a:lnTo>
                    <a:pt x="1124" y="1000"/>
                  </a:lnTo>
                  <a:lnTo>
                    <a:pt x="1124" y="1041"/>
                  </a:lnTo>
                  <a:lnTo>
                    <a:pt x="1125" y="1081"/>
                  </a:lnTo>
                  <a:lnTo>
                    <a:pt x="1127" y="1119"/>
                  </a:lnTo>
                  <a:lnTo>
                    <a:pt x="1131" y="1156"/>
                  </a:lnTo>
                  <a:lnTo>
                    <a:pt x="1133" y="1186"/>
                  </a:lnTo>
                  <a:lnTo>
                    <a:pt x="1136" y="1209"/>
                  </a:lnTo>
                  <a:lnTo>
                    <a:pt x="1137" y="1225"/>
                  </a:lnTo>
                  <a:lnTo>
                    <a:pt x="1138" y="1230"/>
                  </a:lnTo>
                  <a:lnTo>
                    <a:pt x="1123" y="1257"/>
                  </a:lnTo>
                  <a:lnTo>
                    <a:pt x="1108" y="1281"/>
                  </a:lnTo>
                  <a:lnTo>
                    <a:pt x="1094" y="1299"/>
                  </a:lnTo>
                  <a:lnTo>
                    <a:pt x="1080" y="1315"/>
                  </a:lnTo>
                  <a:lnTo>
                    <a:pt x="1067" y="1327"/>
                  </a:lnTo>
                  <a:lnTo>
                    <a:pt x="1053" y="1338"/>
                  </a:lnTo>
                  <a:lnTo>
                    <a:pt x="1040" y="1347"/>
                  </a:lnTo>
                  <a:lnTo>
                    <a:pt x="1027" y="1354"/>
                  </a:lnTo>
                  <a:lnTo>
                    <a:pt x="1001" y="1367"/>
                  </a:lnTo>
                  <a:lnTo>
                    <a:pt x="974" y="1380"/>
                  </a:lnTo>
                  <a:lnTo>
                    <a:pt x="960" y="1388"/>
                  </a:lnTo>
                  <a:lnTo>
                    <a:pt x="946" y="1397"/>
                  </a:lnTo>
                  <a:lnTo>
                    <a:pt x="931" y="1409"/>
                  </a:lnTo>
                  <a:lnTo>
                    <a:pt x="916" y="142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Freeform 125"/>
            <p:cNvSpPr/>
            <p:nvPr/>
          </p:nvSpPr>
          <p:spPr>
            <a:xfrm>
              <a:off x="7767360" y="5246280"/>
              <a:ext cx="149040" cy="1598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32" h="925">
                  <a:moveTo>
                    <a:pt x="10" y="740"/>
                  </a:moveTo>
                  <a:lnTo>
                    <a:pt x="6" y="735"/>
                  </a:lnTo>
                  <a:lnTo>
                    <a:pt x="2" y="729"/>
                  </a:lnTo>
                  <a:lnTo>
                    <a:pt x="1" y="723"/>
                  </a:lnTo>
                  <a:lnTo>
                    <a:pt x="0" y="717"/>
                  </a:lnTo>
                  <a:lnTo>
                    <a:pt x="2" y="704"/>
                  </a:lnTo>
                  <a:lnTo>
                    <a:pt x="7" y="690"/>
                  </a:lnTo>
                  <a:lnTo>
                    <a:pt x="11" y="674"/>
                  </a:lnTo>
                  <a:lnTo>
                    <a:pt x="17" y="654"/>
                  </a:lnTo>
                  <a:lnTo>
                    <a:pt x="18" y="642"/>
                  </a:lnTo>
                  <a:lnTo>
                    <a:pt x="20" y="631"/>
                  </a:lnTo>
                  <a:lnTo>
                    <a:pt x="20" y="617"/>
                  </a:lnTo>
                  <a:lnTo>
                    <a:pt x="18" y="601"/>
                  </a:lnTo>
                  <a:lnTo>
                    <a:pt x="32" y="598"/>
                  </a:lnTo>
                  <a:lnTo>
                    <a:pt x="44" y="593"/>
                  </a:lnTo>
                  <a:lnTo>
                    <a:pt x="54" y="589"/>
                  </a:lnTo>
                  <a:lnTo>
                    <a:pt x="62" y="582"/>
                  </a:lnTo>
                  <a:lnTo>
                    <a:pt x="68" y="573"/>
                  </a:lnTo>
                  <a:lnTo>
                    <a:pt x="72" y="564"/>
                  </a:lnTo>
                  <a:lnTo>
                    <a:pt x="76" y="555"/>
                  </a:lnTo>
                  <a:lnTo>
                    <a:pt x="78" y="544"/>
                  </a:lnTo>
                  <a:lnTo>
                    <a:pt x="79" y="534"/>
                  </a:lnTo>
                  <a:lnTo>
                    <a:pt x="80" y="522"/>
                  </a:lnTo>
                  <a:lnTo>
                    <a:pt x="80" y="510"/>
                  </a:lnTo>
                  <a:lnTo>
                    <a:pt x="79" y="497"/>
                  </a:lnTo>
                  <a:lnTo>
                    <a:pt x="77" y="472"/>
                  </a:lnTo>
                  <a:lnTo>
                    <a:pt x="73" y="446"/>
                  </a:lnTo>
                  <a:lnTo>
                    <a:pt x="92" y="434"/>
                  </a:lnTo>
                  <a:lnTo>
                    <a:pt x="105" y="425"/>
                  </a:lnTo>
                  <a:lnTo>
                    <a:pt x="110" y="422"/>
                  </a:lnTo>
                  <a:lnTo>
                    <a:pt x="113" y="418"/>
                  </a:lnTo>
                  <a:lnTo>
                    <a:pt x="117" y="413"/>
                  </a:lnTo>
                  <a:lnTo>
                    <a:pt x="119" y="409"/>
                  </a:lnTo>
                  <a:lnTo>
                    <a:pt x="127" y="383"/>
                  </a:lnTo>
                  <a:lnTo>
                    <a:pt x="142" y="332"/>
                  </a:lnTo>
                  <a:lnTo>
                    <a:pt x="149" y="308"/>
                  </a:lnTo>
                  <a:lnTo>
                    <a:pt x="154" y="290"/>
                  </a:lnTo>
                  <a:lnTo>
                    <a:pt x="157" y="272"/>
                  </a:lnTo>
                  <a:lnTo>
                    <a:pt x="157" y="257"/>
                  </a:lnTo>
                  <a:lnTo>
                    <a:pt x="157" y="244"/>
                  </a:lnTo>
                  <a:lnTo>
                    <a:pt x="155" y="232"/>
                  </a:lnTo>
                  <a:lnTo>
                    <a:pt x="152" y="221"/>
                  </a:lnTo>
                  <a:lnTo>
                    <a:pt x="147" y="211"/>
                  </a:lnTo>
                  <a:lnTo>
                    <a:pt x="136" y="193"/>
                  </a:lnTo>
                  <a:lnTo>
                    <a:pt x="122" y="174"/>
                  </a:lnTo>
                  <a:lnTo>
                    <a:pt x="117" y="163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7" y="124"/>
                  </a:lnTo>
                  <a:lnTo>
                    <a:pt x="91" y="109"/>
                  </a:lnTo>
                  <a:lnTo>
                    <a:pt x="87" y="95"/>
                  </a:lnTo>
                  <a:lnTo>
                    <a:pt x="86" y="82"/>
                  </a:lnTo>
                  <a:lnTo>
                    <a:pt x="85" y="71"/>
                  </a:lnTo>
                  <a:lnTo>
                    <a:pt x="85" y="62"/>
                  </a:lnTo>
                  <a:lnTo>
                    <a:pt x="86" y="52"/>
                  </a:lnTo>
                  <a:lnTo>
                    <a:pt x="87" y="45"/>
                  </a:lnTo>
                  <a:lnTo>
                    <a:pt x="90" y="38"/>
                  </a:lnTo>
                  <a:lnTo>
                    <a:pt x="94" y="27"/>
                  </a:lnTo>
                  <a:lnTo>
                    <a:pt x="98" y="16"/>
                  </a:lnTo>
                  <a:lnTo>
                    <a:pt x="99" y="13"/>
                  </a:lnTo>
                  <a:lnTo>
                    <a:pt x="99" y="8"/>
                  </a:lnTo>
                  <a:lnTo>
                    <a:pt x="98" y="5"/>
                  </a:lnTo>
                  <a:lnTo>
                    <a:pt x="97" y="0"/>
                  </a:lnTo>
                  <a:lnTo>
                    <a:pt x="106" y="5"/>
                  </a:lnTo>
                  <a:lnTo>
                    <a:pt x="114" y="10"/>
                  </a:lnTo>
                  <a:lnTo>
                    <a:pt x="120" y="16"/>
                  </a:lnTo>
                  <a:lnTo>
                    <a:pt x="126" y="22"/>
                  </a:lnTo>
                  <a:lnTo>
                    <a:pt x="136" y="36"/>
                  </a:lnTo>
                  <a:lnTo>
                    <a:pt x="146" y="50"/>
                  </a:lnTo>
                  <a:lnTo>
                    <a:pt x="150" y="57"/>
                  </a:lnTo>
                  <a:lnTo>
                    <a:pt x="155" y="63"/>
                  </a:lnTo>
                  <a:lnTo>
                    <a:pt x="161" y="69"/>
                  </a:lnTo>
                  <a:lnTo>
                    <a:pt x="168" y="73"/>
                  </a:lnTo>
                  <a:lnTo>
                    <a:pt x="176" y="78"/>
                  </a:lnTo>
                  <a:lnTo>
                    <a:pt x="187" y="80"/>
                  </a:lnTo>
                  <a:lnTo>
                    <a:pt x="198" y="83"/>
                  </a:lnTo>
                  <a:lnTo>
                    <a:pt x="211" y="83"/>
                  </a:lnTo>
                  <a:lnTo>
                    <a:pt x="218" y="84"/>
                  </a:lnTo>
                  <a:lnTo>
                    <a:pt x="224" y="84"/>
                  </a:lnTo>
                  <a:lnTo>
                    <a:pt x="229" y="85"/>
                  </a:lnTo>
                  <a:lnTo>
                    <a:pt x="233" y="87"/>
                  </a:lnTo>
                  <a:lnTo>
                    <a:pt x="237" y="90"/>
                  </a:lnTo>
                  <a:lnTo>
                    <a:pt x="239" y="92"/>
                  </a:lnTo>
                  <a:lnTo>
                    <a:pt x="242" y="95"/>
                  </a:lnTo>
                  <a:lnTo>
                    <a:pt x="243" y="98"/>
                  </a:lnTo>
                  <a:lnTo>
                    <a:pt x="245" y="106"/>
                  </a:lnTo>
                  <a:lnTo>
                    <a:pt x="245" y="116"/>
                  </a:lnTo>
                  <a:lnTo>
                    <a:pt x="244" y="127"/>
                  </a:lnTo>
                  <a:lnTo>
                    <a:pt x="243" y="139"/>
                  </a:lnTo>
                  <a:lnTo>
                    <a:pt x="242" y="153"/>
                  </a:lnTo>
                  <a:lnTo>
                    <a:pt x="242" y="167"/>
                  </a:lnTo>
                  <a:lnTo>
                    <a:pt x="242" y="182"/>
                  </a:lnTo>
                  <a:lnTo>
                    <a:pt x="243" y="198"/>
                  </a:lnTo>
                  <a:lnTo>
                    <a:pt x="246" y="216"/>
                  </a:lnTo>
                  <a:lnTo>
                    <a:pt x="253" y="234"/>
                  </a:lnTo>
                  <a:lnTo>
                    <a:pt x="257" y="243"/>
                  </a:lnTo>
                  <a:lnTo>
                    <a:pt x="263" y="252"/>
                  </a:lnTo>
                  <a:lnTo>
                    <a:pt x="268" y="262"/>
                  </a:lnTo>
                  <a:lnTo>
                    <a:pt x="275" y="271"/>
                  </a:lnTo>
                  <a:lnTo>
                    <a:pt x="288" y="271"/>
                  </a:lnTo>
                  <a:lnTo>
                    <a:pt x="302" y="271"/>
                  </a:lnTo>
                  <a:lnTo>
                    <a:pt x="316" y="271"/>
                  </a:lnTo>
                  <a:lnTo>
                    <a:pt x="330" y="270"/>
                  </a:lnTo>
                  <a:lnTo>
                    <a:pt x="361" y="265"/>
                  </a:lnTo>
                  <a:lnTo>
                    <a:pt x="393" y="259"/>
                  </a:lnTo>
                  <a:lnTo>
                    <a:pt x="426" y="252"/>
                  </a:lnTo>
                  <a:lnTo>
                    <a:pt x="462" y="245"/>
                  </a:lnTo>
                  <a:lnTo>
                    <a:pt x="499" y="237"/>
                  </a:lnTo>
                  <a:lnTo>
                    <a:pt x="537" y="230"/>
                  </a:lnTo>
                  <a:lnTo>
                    <a:pt x="559" y="262"/>
                  </a:lnTo>
                  <a:lnTo>
                    <a:pt x="579" y="285"/>
                  </a:lnTo>
                  <a:lnTo>
                    <a:pt x="587" y="293"/>
                  </a:lnTo>
                  <a:lnTo>
                    <a:pt x="596" y="301"/>
                  </a:lnTo>
                  <a:lnTo>
                    <a:pt x="604" y="306"/>
                  </a:lnTo>
                  <a:lnTo>
                    <a:pt x="611" y="311"/>
                  </a:lnTo>
                  <a:lnTo>
                    <a:pt x="617" y="314"/>
                  </a:lnTo>
                  <a:lnTo>
                    <a:pt x="622" y="315"/>
                  </a:lnTo>
                  <a:lnTo>
                    <a:pt x="628" y="316"/>
                  </a:lnTo>
                  <a:lnTo>
                    <a:pt x="634" y="316"/>
                  </a:lnTo>
                  <a:lnTo>
                    <a:pt x="640" y="315"/>
                  </a:lnTo>
                  <a:lnTo>
                    <a:pt x="645" y="313"/>
                  </a:lnTo>
                  <a:lnTo>
                    <a:pt x="649" y="309"/>
                  </a:lnTo>
                  <a:lnTo>
                    <a:pt x="654" y="307"/>
                  </a:lnTo>
                  <a:lnTo>
                    <a:pt x="674" y="290"/>
                  </a:lnTo>
                  <a:lnTo>
                    <a:pt x="697" y="270"/>
                  </a:lnTo>
                  <a:lnTo>
                    <a:pt x="704" y="266"/>
                  </a:lnTo>
                  <a:lnTo>
                    <a:pt x="711" y="262"/>
                  </a:lnTo>
                  <a:lnTo>
                    <a:pt x="719" y="258"/>
                  </a:lnTo>
                  <a:lnTo>
                    <a:pt x="728" y="256"/>
                  </a:lnTo>
                  <a:lnTo>
                    <a:pt x="736" y="253"/>
                  </a:lnTo>
                  <a:lnTo>
                    <a:pt x="746" y="252"/>
                  </a:lnTo>
                  <a:lnTo>
                    <a:pt x="757" y="252"/>
                  </a:lnTo>
                  <a:lnTo>
                    <a:pt x="767" y="253"/>
                  </a:lnTo>
                  <a:lnTo>
                    <a:pt x="807" y="258"/>
                  </a:lnTo>
                  <a:lnTo>
                    <a:pt x="834" y="260"/>
                  </a:lnTo>
                  <a:lnTo>
                    <a:pt x="854" y="262"/>
                  </a:lnTo>
                  <a:lnTo>
                    <a:pt x="867" y="260"/>
                  </a:lnTo>
                  <a:lnTo>
                    <a:pt x="878" y="260"/>
                  </a:lnTo>
                  <a:lnTo>
                    <a:pt x="891" y="259"/>
                  </a:lnTo>
                  <a:lnTo>
                    <a:pt x="907" y="260"/>
                  </a:lnTo>
                  <a:lnTo>
                    <a:pt x="932" y="262"/>
                  </a:lnTo>
                  <a:lnTo>
                    <a:pt x="924" y="270"/>
                  </a:lnTo>
                  <a:lnTo>
                    <a:pt x="916" y="280"/>
                  </a:lnTo>
                  <a:lnTo>
                    <a:pt x="907" y="293"/>
                  </a:lnTo>
                  <a:lnTo>
                    <a:pt x="898" y="308"/>
                  </a:lnTo>
                  <a:lnTo>
                    <a:pt x="878" y="343"/>
                  </a:lnTo>
                  <a:lnTo>
                    <a:pt x="858" y="382"/>
                  </a:lnTo>
                  <a:lnTo>
                    <a:pt x="836" y="423"/>
                  </a:lnTo>
                  <a:lnTo>
                    <a:pt x="814" y="462"/>
                  </a:lnTo>
                  <a:lnTo>
                    <a:pt x="802" y="480"/>
                  </a:lnTo>
                  <a:lnTo>
                    <a:pt x="791" y="496"/>
                  </a:lnTo>
                  <a:lnTo>
                    <a:pt x="779" y="512"/>
                  </a:lnTo>
                  <a:lnTo>
                    <a:pt x="767" y="524"/>
                  </a:lnTo>
                  <a:lnTo>
                    <a:pt x="763" y="530"/>
                  </a:lnTo>
                  <a:lnTo>
                    <a:pt x="758" y="538"/>
                  </a:lnTo>
                  <a:lnTo>
                    <a:pt x="753" y="547"/>
                  </a:lnTo>
                  <a:lnTo>
                    <a:pt x="750" y="556"/>
                  </a:lnTo>
                  <a:lnTo>
                    <a:pt x="744" y="577"/>
                  </a:lnTo>
                  <a:lnTo>
                    <a:pt x="738" y="600"/>
                  </a:lnTo>
                  <a:lnTo>
                    <a:pt x="731" y="652"/>
                  </a:lnTo>
                  <a:lnTo>
                    <a:pt x="724" y="708"/>
                  </a:lnTo>
                  <a:lnTo>
                    <a:pt x="719" y="736"/>
                  </a:lnTo>
                  <a:lnTo>
                    <a:pt x="713" y="764"/>
                  </a:lnTo>
                  <a:lnTo>
                    <a:pt x="710" y="777"/>
                  </a:lnTo>
                  <a:lnTo>
                    <a:pt x="706" y="790"/>
                  </a:lnTo>
                  <a:lnTo>
                    <a:pt x="702" y="802"/>
                  </a:lnTo>
                  <a:lnTo>
                    <a:pt x="697" y="814"/>
                  </a:lnTo>
                  <a:lnTo>
                    <a:pt x="691" y="825"/>
                  </a:lnTo>
                  <a:lnTo>
                    <a:pt x="684" y="835"/>
                  </a:lnTo>
                  <a:lnTo>
                    <a:pt x="677" y="846"/>
                  </a:lnTo>
                  <a:lnTo>
                    <a:pt x="670" y="855"/>
                  </a:lnTo>
                  <a:lnTo>
                    <a:pt x="661" y="863"/>
                  </a:lnTo>
                  <a:lnTo>
                    <a:pt x="652" y="870"/>
                  </a:lnTo>
                  <a:lnTo>
                    <a:pt x="641" y="876"/>
                  </a:lnTo>
                  <a:lnTo>
                    <a:pt x="629" y="881"/>
                  </a:lnTo>
                  <a:lnTo>
                    <a:pt x="597" y="891"/>
                  </a:lnTo>
                  <a:lnTo>
                    <a:pt x="566" y="900"/>
                  </a:lnTo>
                  <a:lnTo>
                    <a:pt x="537" y="907"/>
                  </a:lnTo>
                  <a:lnTo>
                    <a:pt x="509" y="913"/>
                  </a:lnTo>
                  <a:lnTo>
                    <a:pt x="482" y="918"/>
                  </a:lnTo>
                  <a:lnTo>
                    <a:pt x="458" y="922"/>
                  </a:lnTo>
                  <a:lnTo>
                    <a:pt x="433" y="924"/>
                  </a:lnTo>
                  <a:lnTo>
                    <a:pt x="410" y="925"/>
                  </a:lnTo>
                  <a:lnTo>
                    <a:pt x="388" y="925"/>
                  </a:lnTo>
                  <a:lnTo>
                    <a:pt x="367" y="924"/>
                  </a:lnTo>
                  <a:lnTo>
                    <a:pt x="347" y="922"/>
                  </a:lnTo>
                  <a:lnTo>
                    <a:pt x="328" y="919"/>
                  </a:lnTo>
                  <a:lnTo>
                    <a:pt x="309" y="916"/>
                  </a:lnTo>
                  <a:lnTo>
                    <a:pt x="292" y="912"/>
                  </a:lnTo>
                  <a:lnTo>
                    <a:pt x="275" y="907"/>
                  </a:lnTo>
                  <a:lnTo>
                    <a:pt x="260" y="903"/>
                  </a:lnTo>
                  <a:lnTo>
                    <a:pt x="231" y="892"/>
                  </a:lnTo>
                  <a:lnTo>
                    <a:pt x="205" y="882"/>
                  </a:lnTo>
                  <a:lnTo>
                    <a:pt x="181" y="871"/>
                  </a:lnTo>
                  <a:lnTo>
                    <a:pt x="160" y="861"/>
                  </a:lnTo>
                  <a:lnTo>
                    <a:pt x="140" y="851"/>
                  </a:lnTo>
                  <a:lnTo>
                    <a:pt x="121" y="846"/>
                  </a:lnTo>
                  <a:lnTo>
                    <a:pt x="113" y="843"/>
                  </a:lnTo>
                  <a:lnTo>
                    <a:pt x="104" y="841"/>
                  </a:lnTo>
                  <a:lnTo>
                    <a:pt x="96" y="841"/>
                  </a:lnTo>
                  <a:lnTo>
                    <a:pt x="87" y="841"/>
                  </a:lnTo>
                  <a:lnTo>
                    <a:pt x="73" y="839"/>
                  </a:lnTo>
                  <a:lnTo>
                    <a:pt x="61" y="835"/>
                  </a:lnTo>
                  <a:lnTo>
                    <a:pt x="50" y="830"/>
                  </a:lnTo>
                  <a:lnTo>
                    <a:pt x="39" y="825"/>
                  </a:lnTo>
                  <a:lnTo>
                    <a:pt x="30" y="819"/>
                  </a:lnTo>
                  <a:lnTo>
                    <a:pt x="23" y="812"/>
                  </a:lnTo>
                  <a:lnTo>
                    <a:pt x="16" y="804"/>
                  </a:lnTo>
                  <a:lnTo>
                    <a:pt x="11" y="795"/>
                  </a:lnTo>
                  <a:lnTo>
                    <a:pt x="7" y="788"/>
                  </a:lnTo>
                  <a:lnTo>
                    <a:pt x="4" y="780"/>
                  </a:lnTo>
                  <a:lnTo>
                    <a:pt x="2" y="772"/>
                  </a:lnTo>
                  <a:lnTo>
                    <a:pt x="1" y="764"/>
                  </a:lnTo>
                  <a:lnTo>
                    <a:pt x="2" y="757"/>
                  </a:lnTo>
                  <a:lnTo>
                    <a:pt x="3" y="751"/>
                  </a:lnTo>
                  <a:lnTo>
                    <a:pt x="6" y="745"/>
                  </a:lnTo>
                  <a:lnTo>
                    <a:pt x="10" y="74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Freeform 126"/>
            <p:cNvSpPr/>
            <p:nvPr/>
          </p:nvSpPr>
          <p:spPr>
            <a:xfrm>
              <a:off x="7767360" y="5246280"/>
              <a:ext cx="149040" cy="1598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32" h="925">
                  <a:moveTo>
                    <a:pt x="10" y="740"/>
                  </a:moveTo>
                  <a:lnTo>
                    <a:pt x="6" y="735"/>
                  </a:lnTo>
                  <a:lnTo>
                    <a:pt x="2" y="729"/>
                  </a:lnTo>
                  <a:lnTo>
                    <a:pt x="1" y="723"/>
                  </a:lnTo>
                  <a:lnTo>
                    <a:pt x="0" y="717"/>
                  </a:lnTo>
                  <a:lnTo>
                    <a:pt x="2" y="704"/>
                  </a:lnTo>
                  <a:lnTo>
                    <a:pt x="7" y="690"/>
                  </a:lnTo>
                  <a:lnTo>
                    <a:pt x="11" y="674"/>
                  </a:lnTo>
                  <a:lnTo>
                    <a:pt x="17" y="654"/>
                  </a:lnTo>
                  <a:lnTo>
                    <a:pt x="18" y="642"/>
                  </a:lnTo>
                  <a:lnTo>
                    <a:pt x="20" y="631"/>
                  </a:lnTo>
                  <a:lnTo>
                    <a:pt x="20" y="617"/>
                  </a:lnTo>
                  <a:lnTo>
                    <a:pt x="18" y="601"/>
                  </a:lnTo>
                  <a:lnTo>
                    <a:pt x="32" y="598"/>
                  </a:lnTo>
                  <a:lnTo>
                    <a:pt x="44" y="593"/>
                  </a:lnTo>
                  <a:lnTo>
                    <a:pt x="54" y="589"/>
                  </a:lnTo>
                  <a:lnTo>
                    <a:pt x="62" y="582"/>
                  </a:lnTo>
                  <a:lnTo>
                    <a:pt x="68" y="573"/>
                  </a:lnTo>
                  <a:lnTo>
                    <a:pt x="72" y="564"/>
                  </a:lnTo>
                  <a:lnTo>
                    <a:pt x="76" y="555"/>
                  </a:lnTo>
                  <a:lnTo>
                    <a:pt x="78" y="544"/>
                  </a:lnTo>
                  <a:lnTo>
                    <a:pt x="79" y="534"/>
                  </a:lnTo>
                  <a:lnTo>
                    <a:pt x="80" y="522"/>
                  </a:lnTo>
                  <a:lnTo>
                    <a:pt x="80" y="510"/>
                  </a:lnTo>
                  <a:lnTo>
                    <a:pt x="79" y="497"/>
                  </a:lnTo>
                  <a:lnTo>
                    <a:pt x="77" y="472"/>
                  </a:lnTo>
                  <a:lnTo>
                    <a:pt x="73" y="446"/>
                  </a:lnTo>
                  <a:lnTo>
                    <a:pt x="92" y="434"/>
                  </a:lnTo>
                  <a:lnTo>
                    <a:pt x="105" y="425"/>
                  </a:lnTo>
                  <a:lnTo>
                    <a:pt x="110" y="422"/>
                  </a:lnTo>
                  <a:lnTo>
                    <a:pt x="113" y="418"/>
                  </a:lnTo>
                  <a:lnTo>
                    <a:pt x="117" y="413"/>
                  </a:lnTo>
                  <a:lnTo>
                    <a:pt x="119" y="409"/>
                  </a:lnTo>
                  <a:lnTo>
                    <a:pt x="127" y="383"/>
                  </a:lnTo>
                  <a:lnTo>
                    <a:pt x="142" y="332"/>
                  </a:lnTo>
                  <a:lnTo>
                    <a:pt x="149" y="308"/>
                  </a:lnTo>
                  <a:lnTo>
                    <a:pt x="154" y="290"/>
                  </a:lnTo>
                  <a:lnTo>
                    <a:pt x="157" y="272"/>
                  </a:lnTo>
                  <a:lnTo>
                    <a:pt x="157" y="257"/>
                  </a:lnTo>
                  <a:lnTo>
                    <a:pt x="157" y="244"/>
                  </a:lnTo>
                  <a:lnTo>
                    <a:pt x="155" y="232"/>
                  </a:lnTo>
                  <a:lnTo>
                    <a:pt x="152" y="221"/>
                  </a:lnTo>
                  <a:lnTo>
                    <a:pt x="147" y="211"/>
                  </a:lnTo>
                  <a:lnTo>
                    <a:pt x="136" y="193"/>
                  </a:lnTo>
                  <a:lnTo>
                    <a:pt x="122" y="174"/>
                  </a:lnTo>
                  <a:lnTo>
                    <a:pt x="117" y="163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7" y="124"/>
                  </a:lnTo>
                  <a:lnTo>
                    <a:pt x="91" y="109"/>
                  </a:lnTo>
                  <a:lnTo>
                    <a:pt x="87" y="95"/>
                  </a:lnTo>
                  <a:lnTo>
                    <a:pt x="86" y="82"/>
                  </a:lnTo>
                  <a:lnTo>
                    <a:pt x="85" y="71"/>
                  </a:lnTo>
                  <a:lnTo>
                    <a:pt x="85" y="62"/>
                  </a:lnTo>
                  <a:lnTo>
                    <a:pt x="86" y="52"/>
                  </a:lnTo>
                  <a:lnTo>
                    <a:pt x="87" y="45"/>
                  </a:lnTo>
                  <a:lnTo>
                    <a:pt x="90" y="38"/>
                  </a:lnTo>
                  <a:lnTo>
                    <a:pt x="94" y="27"/>
                  </a:lnTo>
                  <a:lnTo>
                    <a:pt x="98" y="16"/>
                  </a:lnTo>
                  <a:lnTo>
                    <a:pt x="99" y="13"/>
                  </a:lnTo>
                  <a:lnTo>
                    <a:pt x="99" y="8"/>
                  </a:lnTo>
                  <a:lnTo>
                    <a:pt x="98" y="5"/>
                  </a:lnTo>
                  <a:lnTo>
                    <a:pt x="97" y="0"/>
                  </a:lnTo>
                  <a:lnTo>
                    <a:pt x="106" y="5"/>
                  </a:lnTo>
                  <a:lnTo>
                    <a:pt x="114" y="10"/>
                  </a:lnTo>
                  <a:lnTo>
                    <a:pt x="120" y="16"/>
                  </a:lnTo>
                  <a:lnTo>
                    <a:pt x="126" y="22"/>
                  </a:lnTo>
                  <a:lnTo>
                    <a:pt x="136" y="36"/>
                  </a:lnTo>
                  <a:lnTo>
                    <a:pt x="146" y="50"/>
                  </a:lnTo>
                  <a:lnTo>
                    <a:pt x="150" y="57"/>
                  </a:lnTo>
                  <a:lnTo>
                    <a:pt x="155" y="63"/>
                  </a:lnTo>
                  <a:lnTo>
                    <a:pt x="161" y="69"/>
                  </a:lnTo>
                  <a:lnTo>
                    <a:pt x="168" y="73"/>
                  </a:lnTo>
                  <a:lnTo>
                    <a:pt x="176" y="78"/>
                  </a:lnTo>
                  <a:lnTo>
                    <a:pt x="187" y="80"/>
                  </a:lnTo>
                  <a:lnTo>
                    <a:pt x="198" y="83"/>
                  </a:lnTo>
                  <a:lnTo>
                    <a:pt x="211" y="83"/>
                  </a:lnTo>
                  <a:lnTo>
                    <a:pt x="218" y="84"/>
                  </a:lnTo>
                  <a:lnTo>
                    <a:pt x="224" y="84"/>
                  </a:lnTo>
                  <a:lnTo>
                    <a:pt x="229" y="85"/>
                  </a:lnTo>
                  <a:lnTo>
                    <a:pt x="233" y="87"/>
                  </a:lnTo>
                  <a:lnTo>
                    <a:pt x="237" y="90"/>
                  </a:lnTo>
                  <a:lnTo>
                    <a:pt x="239" y="92"/>
                  </a:lnTo>
                  <a:lnTo>
                    <a:pt x="242" y="95"/>
                  </a:lnTo>
                  <a:lnTo>
                    <a:pt x="243" y="98"/>
                  </a:lnTo>
                  <a:lnTo>
                    <a:pt x="245" y="106"/>
                  </a:lnTo>
                  <a:lnTo>
                    <a:pt x="245" y="116"/>
                  </a:lnTo>
                  <a:lnTo>
                    <a:pt x="244" y="127"/>
                  </a:lnTo>
                  <a:lnTo>
                    <a:pt x="243" y="139"/>
                  </a:lnTo>
                  <a:lnTo>
                    <a:pt x="242" y="153"/>
                  </a:lnTo>
                  <a:lnTo>
                    <a:pt x="242" y="167"/>
                  </a:lnTo>
                  <a:lnTo>
                    <a:pt x="242" y="182"/>
                  </a:lnTo>
                  <a:lnTo>
                    <a:pt x="243" y="198"/>
                  </a:lnTo>
                  <a:lnTo>
                    <a:pt x="246" y="216"/>
                  </a:lnTo>
                  <a:lnTo>
                    <a:pt x="253" y="234"/>
                  </a:lnTo>
                  <a:lnTo>
                    <a:pt x="257" y="243"/>
                  </a:lnTo>
                  <a:lnTo>
                    <a:pt x="263" y="252"/>
                  </a:lnTo>
                  <a:lnTo>
                    <a:pt x="268" y="262"/>
                  </a:lnTo>
                  <a:lnTo>
                    <a:pt x="275" y="271"/>
                  </a:lnTo>
                  <a:lnTo>
                    <a:pt x="288" y="271"/>
                  </a:lnTo>
                  <a:lnTo>
                    <a:pt x="302" y="271"/>
                  </a:lnTo>
                  <a:lnTo>
                    <a:pt x="316" y="271"/>
                  </a:lnTo>
                  <a:lnTo>
                    <a:pt x="330" y="270"/>
                  </a:lnTo>
                  <a:lnTo>
                    <a:pt x="361" y="265"/>
                  </a:lnTo>
                  <a:lnTo>
                    <a:pt x="393" y="259"/>
                  </a:lnTo>
                  <a:lnTo>
                    <a:pt x="426" y="252"/>
                  </a:lnTo>
                  <a:lnTo>
                    <a:pt x="462" y="245"/>
                  </a:lnTo>
                  <a:lnTo>
                    <a:pt x="499" y="237"/>
                  </a:lnTo>
                  <a:lnTo>
                    <a:pt x="537" y="230"/>
                  </a:lnTo>
                  <a:lnTo>
                    <a:pt x="559" y="262"/>
                  </a:lnTo>
                  <a:lnTo>
                    <a:pt x="579" y="285"/>
                  </a:lnTo>
                  <a:lnTo>
                    <a:pt x="587" y="293"/>
                  </a:lnTo>
                  <a:lnTo>
                    <a:pt x="596" y="301"/>
                  </a:lnTo>
                  <a:lnTo>
                    <a:pt x="604" y="306"/>
                  </a:lnTo>
                  <a:lnTo>
                    <a:pt x="611" y="311"/>
                  </a:lnTo>
                  <a:lnTo>
                    <a:pt x="617" y="314"/>
                  </a:lnTo>
                  <a:lnTo>
                    <a:pt x="622" y="315"/>
                  </a:lnTo>
                  <a:lnTo>
                    <a:pt x="628" y="316"/>
                  </a:lnTo>
                  <a:lnTo>
                    <a:pt x="634" y="316"/>
                  </a:lnTo>
                  <a:lnTo>
                    <a:pt x="640" y="315"/>
                  </a:lnTo>
                  <a:lnTo>
                    <a:pt x="645" y="313"/>
                  </a:lnTo>
                  <a:lnTo>
                    <a:pt x="649" y="309"/>
                  </a:lnTo>
                  <a:lnTo>
                    <a:pt x="654" y="307"/>
                  </a:lnTo>
                  <a:lnTo>
                    <a:pt x="674" y="290"/>
                  </a:lnTo>
                  <a:lnTo>
                    <a:pt x="697" y="270"/>
                  </a:lnTo>
                  <a:lnTo>
                    <a:pt x="704" y="266"/>
                  </a:lnTo>
                  <a:lnTo>
                    <a:pt x="711" y="262"/>
                  </a:lnTo>
                  <a:lnTo>
                    <a:pt x="719" y="258"/>
                  </a:lnTo>
                  <a:lnTo>
                    <a:pt x="728" y="256"/>
                  </a:lnTo>
                  <a:lnTo>
                    <a:pt x="736" y="253"/>
                  </a:lnTo>
                  <a:lnTo>
                    <a:pt x="746" y="252"/>
                  </a:lnTo>
                  <a:lnTo>
                    <a:pt x="757" y="252"/>
                  </a:lnTo>
                  <a:lnTo>
                    <a:pt x="767" y="253"/>
                  </a:lnTo>
                  <a:lnTo>
                    <a:pt x="807" y="258"/>
                  </a:lnTo>
                  <a:lnTo>
                    <a:pt x="834" y="260"/>
                  </a:lnTo>
                  <a:lnTo>
                    <a:pt x="854" y="262"/>
                  </a:lnTo>
                  <a:lnTo>
                    <a:pt x="867" y="260"/>
                  </a:lnTo>
                  <a:lnTo>
                    <a:pt x="878" y="260"/>
                  </a:lnTo>
                  <a:lnTo>
                    <a:pt x="891" y="259"/>
                  </a:lnTo>
                  <a:lnTo>
                    <a:pt x="907" y="260"/>
                  </a:lnTo>
                  <a:lnTo>
                    <a:pt x="932" y="262"/>
                  </a:lnTo>
                  <a:lnTo>
                    <a:pt x="924" y="270"/>
                  </a:lnTo>
                  <a:lnTo>
                    <a:pt x="916" y="280"/>
                  </a:lnTo>
                  <a:lnTo>
                    <a:pt x="907" y="293"/>
                  </a:lnTo>
                  <a:lnTo>
                    <a:pt x="898" y="308"/>
                  </a:lnTo>
                  <a:lnTo>
                    <a:pt x="878" y="343"/>
                  </a:lnTo>
                  <a:lnTo>
                    <a:pt x="858" y="382"/>
                  </a:lnTo>
                  <a:lnTo>
                    <a:pt x="836" y="423"/>
                  </a:lnTo>
                  <a:lnTo>
                    <a:pt x="814" y="462"/>
                  </a:lnTo>
                  <a:lnTo>
                    <a:pt x="802" y="480"/>
                  </a:lnTo>
                  <a:lnTo>
                    <a:pt x="791" y="496"/>
                  </a:lnTo>
                  <a:lnTo>
                    <a:pt x="779" y="512"/>
                  </a:lnTo>
                  <a:lnTo>
                    <a:pt x="767" y="524"/>
                  </a:lnTo>
                  <a:lnTo>
                    <a:pt x="763" y="530"/>
                  </a:lnTo>
                  <a:lnTo>
                    <a:pt x="758" y="538"/>
                  </a:lnTo>
                  <a:lnTo>
                    <a:pt x="753" y="547"/>
                  </a:lnTo>
                  <a:lnTo>
                    <a:pt x="750" y="556"/>
                  </a:lnTo>
                  <a:lnTo>
                    <a:pt x="744" y="577"/>
                  </a:lnTo>
                  <a:lnTo>
                    <a:pt x="738" y="600"/>
                  </a:lnTo>
                  <a:lnTo>
                    <a:pt x="731" y="652"/>
                  </a:lnTo>
                  <a:lnTo>
                    <a:pt x="724" y="708"/>
                  </a:lnTo>
                  <a:lnTo>
                    <a:pt x="719" y="736"/>
                  </a:lnTo>
                  <a:lnTo>
                    <a:pt x="713" y="764"/>
                  </a:lnTo>
                  <a:lnTo>
                    <a:pt x="710" y="777"/>
                  </a:lnTo>
                  <a:lnTo>
                    <a:pt x="706" y="790"/>
                  </a:lnTo>
                  <a:lnTo>
                    <a:pt x="702" y="802"/>
                  </a:lnTo>
                  <a:lnTo>
                    <a:pt x="697" y="814"/>
                  </a:lnTo>
                  <a:lnTo>
                    <a:pt x="691" y="825"/>
                  </a:lnTo>
                  <a:lnTo>
                    <a:pt x="684" y="835"/>
                  </a:lnTo>
                  <a:lnTo>
                    <a:pt x="677" y="846"/>
                  </a:lnTo>
                  <a:lnTo>
                    <a:pt x="670" y="855"/>
                  </a:lnTo>
                  <a:lnTo>
                    <a:pt x="661" y="863"/>
                  </a:lnTo>
                  <a:lnTo>
                    <a:pt x="652" y="870"/>
                  </a:lnTo>
                  <a:lnTo>
                    <a:pt x="641" y="876"/>
                  </a:lnTo>
                  <a:lnTo>
                    <a:pt x="629" y="881"/>
                  </a:lnTo>
                  <a:lnTo>
                    <a:pt x="597" y="891"/>
                  </a:lnTo>
                  <a:lnTo>
                    <a:pt x="566" y="900"/>
                  </a:lnTo>
                  <a:lnTo>
                    <a:pt x="537" y="907"/>
                  </a:lnTo>
                  <a:lnTo>
                    <a:pt x="509" y="913"/>
                  </a:lnTo>
                  <a:lnTo>
                    <a:pt x="482" y="918"/>
                  </a:lnTo>
                  <a:lnTo>
                    <a:pt x="458" y="922"/>
                  </a:lnTo>
                  <a:lnTo>
                    <a:pt x="433" y="924"/>
                  </a:lnTo>
                  <a:lnTo>
                    <a:pt x="410" y="925"/>
                  </a:lnTo>
                  <a:lnTo>
                    <a:pt x="388" y="925"/>
                  </a:lnTo>
                  <a:lnTo>
                    <a:pt x="367" y="924"/>
                  </a:lnTo>
                  <a:lnTo>
                    <a:pt x="347" y="922"/>
                  </a:lnTo>
                  <a:lnTo>
                    <a:pt x="328" y="919"/>
                  </a:lnTo>
                  <a:lnTo>
                    <a:pt x="309" y="916"/>
                  </a:lnTo>
                  <a:lnTo>
                    <a:pt x="292" y="912"/>
                  </a:lnTo>
                  <a:lnTo>
                    <a:pt x="275" y="907"/>
                  </a:lnTo>
                  <a:lnTo>
                    <a:pt x="260" y="903"/>
                  </a:lnTo>
                  <a:lnTo>
                    <a:pt x="231" y="892"/>
                  </a:lnTo>
                  <a:lnTo>
                    <a:pt x="205" y="882"/>
                  </a:lnTo>
                  <a:lnTo>
                    <a:pt x="181" y="871"/>
                  </a:lnTo>
                  <a:lnTo>
                    <a:pt x="160" y="861"/>
                  </a:lnTo>
                  <a:lnTo>
                    <a:pt x="140" y="851"/>
                  </a:lnTo>
                  <a:lnTo>
                    <a:pt x="121" y="846"/>
                  </a:lnTo>
                  <a:lnTo>
                    <a:pt x="113" y="843"/>
                  </a:lnTo>
                  <a:lnTo>
                    <a:pt x="104" y="841"/>
                  </a:lnTo>
                  <a:lnTo>
                    <a:pt x="96" y="841"/>
                  </a:lnTo>
                  <a:lnTo>
                    <a:pt x="87" y="841"/>
                  </a:lnTo>
                  <a:lnTo>
                    <a:pt x="73" y="839"/>
                  </a:lnTo>
                  <a:lnTo>
                    <a:pt x="61" y="835"/>
                  </a:lnTo>
                  <a:lnTo>
                    <a:pt x="50" y="830"/>
                  </a:lnTo>
                  <a:lnTo>
                    <a:pt x="39" y="825"/>
                  </a:lnTo>
                  <a:lnTo>
                    <a:pt x="30" y="819"/>
                  </a:lnTo>
                  <a:lnTo>
                    <a:pt x="23" y="812"/>
                  </a:lnTo>
                  <a:lnTo>
                    <a:pt x="16" y="804"/>
                  </a:lnTo>
                  <a:lnTo>
                    <a:pt x="11" y="795"/>
                  </a:lnTo>
                  <a:lnTo>
                    <a:pt x="7" y="788"/>
                  </a:lnTo>
                  <a:lnTo>
                    <a:pt x="4" y="780"/>
                  </a:lnTo>
                  <a:lnTo>
                    <a:pt x="2" y="772"/>
                  </a:lnTo>
                  <a:lnTo>
                    <a:pt x="1" y="764"/>
                  </a:lnTo>
                  <a:lnTo>
                    <a:pt x="2" y="757"/>
                  </a:lnTo>
                  <a:lnTo>
                    <a:pt x="3" y="751"/>
                  </a:lnTo>
                  <a:lnTo>
                    <a:pt x="6" y="745"/>
                  </a:lnTo>
                  <a:lnTo>
                    <a:pt x="10" y="74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Freeform 127"/>
            <p:cNvSpPr/>
            <p:nvPr/>
          </p:nvSpPr>
          <p:spPr>
            <a:xfrm>
              <a:off x="7765560" y="5175360"/>
              <a:ext cx="250560" cy="1184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568" h="689">
                  <a:moveTo>
                    <a:pt x="548" y="648"/>
                  </a:moveTo>
                  <a:lnTo>
                    <a:pt x="508" y="655"/>
                  </a:lnTo>
                  <a:lnTo>
                    <a:pt x="471" y="663"/>
                  </a:lnTo>
                  <a:lnTo>
                    <a:pt x="435" y="670"/>
                  </a:lnTo>
                  <a:lnTo>
                    <a:pt x="402" y="677"/>
                  </a:lnTo>
                  <a:lnTo>
                    <a:pt x="371" y="683"/>
                  </a:lnTo>
                  <a:lnTo>
                    <a:pt x="340" y="688"/>
                  </a:lnTo>
                  <a:lnTo>
                    <a:pt x="326" y="689"/>
                  </a:lnTo>
                  <a:lnTo>
                    <a:pt x="312" y="689"/>
                  </a:lnTo>
                  <a:lnTo>
                    <a:pt x="299" y="689"/>
                  </a:lnTo>
                  <a:lnTo>
                    <a:pt x="286" y="689"/>
                  </a:lnTo>
                  <a:lnTo>
                    <a:pt x="279" y="680"/>
                  </a:lnTo>
                  <a:lnTo>
                    <a:pt x="274" y="670"/>
                  </a:lnTo>
                  <a:lnTo>
                    <a:pt x="268" y="661"/>
                  </a:lnTo>
                  <a:lnTo>
                    <a:pt x="264" y="652"/>
                  </a:lnTo>
                  <a:lnTo>
                    <a:pt x="257" y="634"/>
                  </a:lnTo>
                  <a:lnTo>
                    <a:pt x="254" y="616"/>
                  </a:lnTo>
                  <a:lnTo>
                    <a:pt x="253" y="600"/>
                  </a:lnTo>
                  <a:lnTo>
                    <a:pt x="253" y="585"/>
                  </a:lnTo>
                  <a:lnTo>
                    <a:pt x="253" y="571"/>
                  </a:lnTo>
                  <a:lnTo>
                    <a:pt x="254" y="557"/>
                  </a:lnTo>
                  <a:lnTo>
                    <a:pt x="255" y="545"/>
                  </a:lnTo>
                  <a:lnTo>
                    <a:pt x="256" y="534"/>
                  </a:lnTo>
                  <a:lnTo>
                    <a:pt x="256" y="524"/>
                  </a:lnTo>
                  <a:lnTo>
                    <a:pt x="254" y="516"/>
                  </a:lnTo>
                  <a:lnTo>
                    <a:pt x="253" y="513"/>
                  </a:lnTo>
                  <a:lnTo>
                    <a:pt x="250" y="510"/>
                  </a:lnTo>
                  <a:lnTo>
                    <a:pt x="248" y="508"/>
                  </a:lnTo>
                  <a:lnTo>
                    <a:pt x="244" y="505"/>
                  </a:lnTo>
                  <a:lnTo>
                    <a:pt x="240" y="503"/>
                  </a:lnTo>
                  <a:lnTo>
                    <a:pt x="235" y="502"/>
                  </a:lnTo>
                  <a:lnTo>
                    <a:pt x="229" y="502"/>
                  </a:lnTo>
                  <a:lnTo>
                    <a:pt x="222" y="501"/>
                  </a:lnTo>
                  <a:lnTo>
                    <a:pt x="209" y="501"/>
                  </a:lnTo>
                  <a:lnTo>
                    <a:pt x="198" y="498"/>
                  </a:lnTo>
                  <a:lnTo>
                    <a:pt x="187" y="496"/>
                  </a:lnTo>
                  <a:lnTo>
                    <a:pt x="179" y="491"/>
                  </a:lnTo>
                  <a:lnTo>
                    <a:pt x="172" y="487"/>
                  </a:lnTo>
                  <a:lnTo>
                    <a:pt x="166" y="481"/>
                  </a:lnTo>
                  <a:lnTo>
                    <a:pt x="161" y="475"/>
                  </a:lnTo>
                  <a:lnTo>
                    <a:pt x="157" y="468"/>
                  </a:lnTo>
                  <a:lnTo>
                    <a:pt x="147" y="454"/>
                  </a:lnTo>
                  <a:lnTo>
                    <a:pt x="137" y="440"/>
                  </a:lnTo>
                  <a:lnTo>
                    <a:pt x="131" y="434"/>
                  </a:lnTo>
                  <a:lnTo>
                    <a:pt x="125" y="428"/>
                  </a:lnTo>
                  <a:lnTo>
                    <a:pt x="117" y="423"/>
                  </a:lnTo>
                  <a:lnTo>
                    <a:pt x="108" y="418"/>
                  </a:lnTo>
                  <a:lnTo>
                    <a:pt x="90" y="391"/>
                  </a:lnTo>
                  <a:lnTo>
                    <a:pt x="77" y="369"/>
                  </a:lnTo>
                  <a:lnTo>
                    <a:pt x="68" y="349"/>
                  </a:lnTo>
                  <a:lnTo>
                    <a:pt x="60" y="331"/>
                  </a:lnTo>
                  <a:lnTo>
                    <a:pt x="55" y="317"/>
                  </a:lnTo>
                  <a:lnTo>
                    <a:pt x="52" y="303"/>
                  </a:lnTo>
                  <a:lnTo>
                    <a:pt x="50" y="291"/>
                  </a:lnTo>
                  <a:lnTo>
                    <a:pt x="48" y="279"/>
                  </a:lnTo>
                  <a:lnTo>
                    <a:pt x="47" y="266"/>
                  </a:lnTo>
                  <a:lnTo>
                    <a:pt x="46" y="253"/>
                  </a:lnTo>
                  <a:lnTo>
                    <a:pt x="43" y="239"/>
                  </a:lnTo>
                  <a:lnTo>
                    <a:pt x="40" y="223"/>
                  </a:lnTo>
                  <a:lnTo>
                    <a:pt x="34" y="204"/>
                  </a:lnTo>
                  <a:lnTo>
                    <a:pt x="26" y="182"/>
                  </a:lnTo>
                  <a:lnTo>
                    <a:pt x="15" y="156"/>
                  </a:lnTo>
                  <a:lnTo>
                    <a:pt x="0" y="127"/>
                  </a:lnTo>
                  <a:lnTo>
                    <a:pt x="18" y="114"/>
                  </a:lnTo>
                  <a:lnTo>
                    <a:pt x="33" y="100"/>
                  </a:lnTo>
                  <a:lnTo>
                    <a:pt x="49" y="87"/>
                  </a:lnTo>
                  <a:lnTo>
                    <a:pt x="65" y="72"/>
                  </a:lnTo>
                  <a:lnTo>
                    <a:pt x="73" y="139"/>
                  </a:lnTo>
                  <a:lnTo>
                    <a:pt x="83" y="138"/>
                  </a:lnTo>
                  <a:lnTo>
                    <a:pt x="111" y="134"/>
                  </a:lnTo>
                  <a:lnTo>
                    <a:pt x="154" y="129"/>
                  </a:lnTo>
                  <a:lnTo>
                    <a:pt x="212" y="122"/>
                  </a:lnTo>
                  <a:lnTo>
                    <a:pt x="281" y="114"/>
                  </a:lnTo>
                  <a:lnTo>
                    <a:pt x="357" y="105"/>
                  </a:lnTo>
                  <a:lnTo>
                    <a:pt x="439" y="96"/>
                  </a:lnTo>
                  <a:lnTo>
                    <a:pt x="526" y="85"/>
                  </a:lnTo>
                  <a:lnTo>
                    <a:pt x="612" y="74"/>
                  </a:lnTo>
                  <a:lnTo>
                    <a:pt x="699" y="64"/>
                  </a:lnTo>
                  <a:lnTo>
                    <a:pt x="779" y="53"/>
                  </a:lnTo>
                  <a:lnTo>
                    <a:pt x="855" y="44"/>
                  </a:lnTo>
                  <a:lnTo>
                    <a:pt x="922" y="35"/>
                  </a:lnTo>
                  <a:lnTo>
                    <a:pt x="977" y="27"/>
                  </a:lnTo>
                  <a:lnTo>
                    <a:pt x="1018" y="20"/>
                  </a:lnTo>
                  <a:lnTo>
                    <a:pt x="1043" y="15"/>
                  </a:lnTo>
                  <a:lnTo>
                    <a:pt x="1071" y="8"/>
                  </a:lnTo>
                  <a:lnTo>
                    <a:pt x="1094" y="4"/>
                  </a:lnTo>
                  <a:lnTo>
                    <a:pt x="1111" y="3"/>
                  </a:lnTo>
                  <a:lnTo>
                    <a:pt x="1126" y="4"/>
                  </a:lnTo>
                  <a:lnTo>
                    <a:pt x="1139" y="6"/>
                  </a:lnTo>
                  <a:lnTo>
                    <a:pt x="1152" y="6"/>
                  </a:lnTo>
                  <a:lnTo>
                    <a:pt x="1166" y="4"/>
                  </a:lnTo>
                  <a:lnTo>
                    <a:pt x="1181" y="0"/>
                  </a:lnTo>
                  <a:lnTo>
                    <a:pt x="1366" y="84"/>
                  </a:lnTo>
                  <a:lnTo>
                    <a:pt x="1358" y="92"/>
                  </a:lnTo>
                  <a:lnTo>
                    <a:pt x="1352" y="99"/>
                  </a:lnTo>
                  <a:lnTo>
                    <a:pt x="1347" y="106"/>
                  </a:lnTo>
                  <a:lnTo>
                    <a:pt x="1345" y="113"/>
                  </a:lnTo>
                  <a:lnTo>
                    <a:pt x="1344" y="120"/>
                  </a:lnTo>
                  <a:lnTo>
                    <a:pt x="1345" y="127"/>
                  </a:lnTo>
                  <a:lnTo>
                    <a:pt x="1347" y="133"/>
                  </a:lnTo>
                  <a:lnTo>
                    <a:pt x="1351" y="140"/>
                  </a:lnTo>
                  <a:lnTo>
                    <a:pt x="1355" y="146"/>
                  </a:lnTo>
                  <a:lnTo>
                    <a:pt x="1361" y="152"/>
                  </a:lnTo>
                  <a:lnTo>
                    <a:pt x="1369" y="157"/>
                  </a:lnTo>
                  <a:lnTo>
                    <a:pt x="1377" y="163"/>
                  </a:lnTo>
                  <a:lnTo>
                    <a:pt x="1396" y="175"/>
                  </a:lnTo>
                  <a:lnTo>
                    <a:pt x="1417" y="187"/>
                  </a:lnTo>
                  <a:lnTo>
                    <a:pt x="1439" y="199"/>
                  </a:lnTo>
                  <a:lnTo>
                    <a:pt x="1463" y="213"/>
                  </a:lnTo>
                  <a:lnTo>
                    <a:pt x="1486" y="227"/>
                  </a:lnTo>
                  <a:lnTo>
                    <a:pt x="1508" y="243"/>
                  </a:lnTo>
                  <a:lnTo>
                    <a:pt x="1519" y="251"/>
                  </a:lnTo>
                  <a:lnTo>
                    <a:pt x="1528" y="260"/>
                  </a:lnTo>
                  <a:lnTo>
                    <a:pt x="1538" y="270"/>
                  </a:lnTo>
                  <a:lnTo>
                    <a:pt x="1546" y="279"/>
                  </a:lnTo>
                  <a:lnTo>
                    <a:pt x="1553" y="289"/>
                  </a:lnTo>
                  <a:lnTo>
                    <a:pt x="1559" y="300"/>
                  </a:lnTo>
                  <a:lnTo>
                    <a:pt x="1564" y="310"/>
                  </a:lnTo>
                  <a:lnTo>
                    <a:pt x="1568" y="323"/>
                  </a:lnTo>
                  <a:lnTo>
                    <a:pt x="1567" y="362"/>
                  </a:lnTo>
                  <a:lnTo>
                    <a:pt x="1563" y="393"/>
                  </a:lnTo>
                  <a:lnTo>
                    <a:pt x="1560" y="416"/>
                  </a:lnTo>
                  <a:lnTo>
                    <a:pt x="1559" y="424"/>
                  </a:lnTo>
                  <a:lnTo>
                    <a:pt x="1548" y="426"/>
                  </a:lnTo>
                  <a:lnTo>
                    <a:pt x="1539" y="428"/>
                  </a:lnTo>
                  <a:lnTo>
                    <a:pt x="1529" y="432"/>
                  </a:lnTo>
                  <a:lnTo>
                    <a:pt x="1521" y="435"/>
                  </a:lnTo>
                  <a:lnTo>
                    <a:pt x="1514" y="439"/>
                  </a:lnTo>
                  <a:lnTo>
                    <a:pt x="1508" y="444"/>
                  </a:lnTo>
                  <a:lnTo>
                    <a:pt x="1502" y="449"/>
                  </a:lnTo>
                  <a:lnTo>
                    <a:pt x="1499" y="455"/>
                  </a:lnTo>
                  <a:lnTo>
                    <a:pt x="1494" y="461"/>
                  </a:lnTo>
                  <a:lnTo>
                    <a:pt x="1492" y="467"/>
                  </a:lnTo>
                  <a:lnTo>
                    <a:pt x="1490" y="474"/>
                  </a:lnTo>
                  <a:lnTo>
                    <a:pt x="1488" y="481"/>
                  </a:lnTo>
                  <a:lnTo>
                    <a:pt x="1487" y="488"/>
                  </a:lnTo>
                  <a:lnTo>
                    <a:pt x="1487" y="495"/>
                  </a:lnTo>
                  <a:lnTo>
                    <a:pt x="1488" y="502"/>
                  </a:lnTo>
                  <a:lnTo>
                    <a:pt x="1490" y="510"/>
                  </a:lnTo>
                  <a:lnTo>
                    <a:pt x="548" y="6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Freeform 128"/>
            <p:cNvSpPr/>
            <p:nvPr/>
          </p:nvSpPr>
          <p:spPr>
            <a:xfrm>
              <a:off x="7765560" y="5175360"/>
              <a:ext cx="250560" cy="1184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568" h="689">
                  <a:moveTo>
                    <a:pt x="548" y="648"/>
                  </a:moveTo>
                  <a:lnTo>
                    <a:pt x="508" y="655"/>
                  </a:lnTo>
                  <a:lnTo>
                    <a:pt x="471" y="663"/>
                  </a:lnTo>
                  <a:lnTo>
                    <a:pt x="435" y="670"/>
                  </a:lnTo>
                  <a:lnTo>
                    <a:pt x="402" y="677"/>
                  </a:lnTo>
                  <a:lnTo>
                    <a:pt x="371" y="683"/>
                  </a:lnTo>
                  <a:lnTo>
                    <a:pt x="340" y="688"/>
                  </a:lnTo>
                  <a:lnTo>
                    <a:pt x="326" y="689"/>
                  </a:lnTo>
                  <a:lnTo>
                    <a:pt x="312" y="689"/>
                  </a:lnTo>
                  <a:lnTo>
                    <a:pt x="299" y="689"/>
                  </a:lnTo>
                  <a:lnTo>
                    <a:pt x="286" y="689"/>
                  </a:lnTo>
                  <a:lnTo>
                    <a:pt x="279" y="680"/>
                  </a:lnTo>
                  <a:lnTo>
                    <a:pt x="274" y="670"/>
                  </a:lnTo>
                  <a:lnTo>
                    <a:pt x="268" y="661"/>
                  </a:lnTo>
                  <a:lnTo>
                    <a:pt x="264" y="652"/>
                  </a:lnTo>
                  <a:lnTo>
                    <a:pt x="257" y="634"/>
                  </a:lnTo>
                  <a:lnTo>
                    <a:pt x="254" y="616"/>
                  </a:lnTo>
                  <a:lnTo>
                    <a:pt x="253" y="600"/>
                  </a:lnTo>
                  <a:lnTo>
                    <a:pt x="253" y="585"/>
                  </a:lnTo>
                  <a:lnTo>
                    <a:pt x="253" y="571"/>
                  </a:lnTo>
                  <a:lnTo>
                    <a:pt x="254" y="557"/>
                  </a:lnTo>
                  <a:lnTo>
                    <a:pt x="255" y="545"/>
                  </a:lnTo>
                  <a:lnTo>
                    <a:pt x="256" y="534"/>
                  </a:lnTo>
                  <a:lnTo>
                    <a:pt x="256" y="524"/>
                  </a:lnTo>
                  <a:lnTo>
                    <a:pt x="254" y="516"/>
                  </a:lnTo>
                  <a:lnTo>
                    <a:pt x="253" y="513"/>
                  </a:lnTo>
                  <a:lnTo>
                    <a:pt x="250" y="510"/>
                  </a:lnTo>
                  <a:lnTo>
                    <a:pt x="248" y="508"/>
                  </a:lnTo>
                  <a:lnTo>
                    <a:pt x="244" y="505"/>
                  </a:lnTo>
                  <a:lnTo>
                    <a:pt x="240" y="503"/>
                  </a:lnTo>
                  <a:lnTo>
                    <a:pt x="235" y="502"/>
                  </a:lnTo>
                  <a:lnTo>
                    <a:pt x="229" y="502"/>
                  </a:lnTo>
                  <a:lnTo>
                    <a:pt x="222" y="501"/>
                  </a:lnTo>
                  <a:lnTo>
                    <a:pt x="209" y="501"/>
                  </a:lnTo>
                  <a:lnTo>
                    <a:pt x="198" y="498"/>
                  </a:lnTo>
                  <a:lnTo>
                    <a:pt x="187" y="496"/>
                  </a:lnTo>
                  <a:lnTo>
                    <a:pt x="179" y="491"/>
                  </a:lnTo>
                  <a:lnTo>
                    <a:pt x="172" y="487"/>
                  </a:lnTo>
                  <a:lnTo>
                    <a:pt x="166" y="481"/>
                  </a:lnTo>
                  <a:lnTo>
                    <a:pt x="161" y="475"/>
                  </a:lnTo>
                  <a:lnTo>
                    <a:pt x="157" y="468"/>
                  </a:lnTo>
                  <a:lnTo>
                    <a:pt x="147" y="454"/>
                  </a:lnTo>
                  <a:lnTo>
                    <a:pt x="137" y="440"/>
                  </a:lnTo>
                  <a:lnTo>
                    <a:pt x="131" y="434"/>
                  </a:lnTo>
                  <a:lnTo>
                    <a:pt x="125" y="428"/>
                  </a:lnTo>
                  <a:lnTo>
                    <a:pt x="117" y="423"/>
                  </a:lnTo>
                  <a:lnTo>
                    <a:pt x="108" y="418"/>
                  </a:lnTo>
                  <a:lnTo>
                    <a:pt x="90" y="391"/>
                  </a:lnTo>
                  <a:lnTo>
                    <a:pt x="77" y="369"/>
                  </a:lnTo>
                  <a:lnTo>
                    <a:pt x="68" y="349"/>
                  </a:lnTo>
                  <a:lnTo>
                    <a:pt x="60" y="331"/>
                  </a:lnTo>
                  <a:lnTo>
                    <a:pt x="55" y="317"/>
                  </a:lnTo>
                  <a:lnTo>
                    <a:pt x="52" y="303"/>
                  </a:lnTo>
                  <a:lnTo>
                    <a:pt x="50" y="291"/>
                  </a:lnTo>
                  <a:lnTo>
                    <a:pt x="48" y="279"/>
                  </a:lnTo>
                  <a:lnTo>
                    <a:pt x="47" y="266"/>
                  </a:lnTo>
                  <a:lnTo>
                    <a:pt x="46" y="253"/>
                  </a:lnTo>
                  <a:lnTo>
                    <a:pt x="43" y="239"/>
                  </a:lnTo>
                  <a:lnTo>
                    <a:pt x="40" y="223"/>
                  </a:lnTo>
                  <a:lnTo>
                    <a:pt x="34" y="204"/>
                  </a:lnTo>
                  <a:lnTo>
                    <a:pt x="26" y="182"/>
                  </a:lnTo>
                  <a:lnTo>
                    <a:pt x="15" y="156"/>
                  </a:lnTo>
                  <a:lnTo>
                    <a:pt x="0" y="127"/>
                  </a:lnTo>
                  <a:lnTo>
                    <a:pt x="18" y="114"/>
                  </a:lnTo>
                  <a:lnTo>
                    <a:pt x="33" y="100"/>
                  </a:lnTo>
                  <a:lnTo>
                    <a:pt x="49" y="87"/>
                  </a:lnTo>
                  <a:lnTo>
                    <a:pt x="65" y="72"/>
                  </a:lnTo>
                  <a:lnTo>
                    <a:pt x="73" y="139"/>
                  </a:lnTo>
                  <a:lnTo>
                    <a:pt x="83" y="138"/>
                  </a:lnTo>
                  <a:lnTo>
                    <a:pt x="111" y="134"/>
                  </a:lnTo>
                  <a:lnTo>
                    <a:pt x="154" y="129"/>
                  </a:lnTo>
                  <a:lnTo>
                    <a:pt x="212" y="122"/>
                  </a:lnTo>
                  <a:lnTo>
                    <a:pt x="281" y="114"/>
                  </a:lnTo>
                  <a:lnTo>
                    <a:pt x="357" y="105"/>
                  </a:lnTo>
                  <a:lnTo>
                    <a:pt x="439" y="96"/>
                  </a:lnTo>
                  <a:lnTo>
                    <a:pt x="526" y="85"/>
                  </a:lnTo>
                  <a:lnTo>
                    <a:pt x="612" y="74"/>
                  </a:lnTo>
                  <a:lnTo>
                    <a:pt x="699" y="64"/>
                  </a:lnTo>
                  <a:lnTo>
                    <a:pt x="779" y="53"/>
                  </a:lnTo>
                  <a:lnTo>
                    <a:pt x="855" y="44"/>
                  </a:lnTo>
                  <a:lnTo>
                    <a:pt x="922" y="35"/>
                  </a:lnTo>
                  <a:lnTo>
                    <a:pt x="977" y="27"/>
                  </a:lnTo>
                  <a:lnTo>
                    <a:pt x="1018" y="20"/>
                  </a:lnTo>
                  <a:lnTo>
                    <a:pt x="1043" y="15"/>
                  </a:lnTo>
                  <a:lnTo>
                    <a:pt x="1071" y="8"/>
                  </a:lnTo>
                  <a:lnTo>
                    <a:pt x="1094" y="4"/>
                  </a:lnTo>
                  <a:lnTo>
                    <a:pt x="1111" y="3"/>
                  </a:lnTo>
                  <a:lnTo>
                    <a:pt x="1126" y="4"/>
                  </a:lnTo>
                  <a:lnTo>
                    <a:pt x="1139" y="6"/>
                  </a:lnTo>
                  <a:lnTo>
                    <a:pt x="1152" y="6"/>
                  </a:lnTo>
                  <a:lnTo>
                    <a:pt x="1166" y="4"/>
                  </a:lnTo>
                  <a:lnTo>
                    <a:pt x="1181" y="0"/>
                  </a:lnTo>
                  <a:lnTo>
                    <a:pt x="1366" y="84"/>
                  </a:lnTo>
                  <a:lnTo>
                    <a:pt x="1358" y="92"/>
                  </a:lnTo>
                  <a:lnTo>
                    <a:pt x="1352" y="99"/>
                  </a:lnTo>
                  <a:lnTo>
                    <a:pt x="1347" y="106"/>
                  </a:lnTo>
                  <a:lnTo>
                    <a:pt x="1345" y="113"/>
                  </a:lnTo>
                  <a:lnTo>
                    <a:pt x="1344" y="120"/>
                  </a:lnTo>
                  <a:lnTo>
                    <a:pt x="1345" y="127"/>
                  </a:lnTo>
                  <a:lnTo>
                    <a:pt x="1347" y="133"/>
                  </a:lnTo>
                  <a:lnTo>
                    <a:pt x="1351" y="140"/>
                  </a:lnTo>
                  <a:lnTo>
                    <a:pt x="1355" y="146"/>
                  </a:lnTo>
                  <a:lnTo>
                    <a:pt x="1361" y="152"/>
                  </a:lnTo>
                  <a:lnTo>
                    <a:pt x="1369" y="157"/>
                  </a:lnTo>
                  <a:lnTo>
                    <a:pt x="1377" y="163"/>
                  </a:lnTo>
                  <a:lnTo>
                    <a:pt x="1396" y="175"/>
                  </a:lnTo>
                  <a:lnTo>
                    <a:pt x="1417" y="187"/>
                  </a:lnTo>
                  <a:lnTo>
                    <a:pt x="1439" y="199"/>
                  </a:lnTo>
                  <a:lnTo>
                    <a:pt x="1463" y="213"/>
                  </a:lnTo>
                  <a:lnTo>
                    <a:pt x="1486" y="227"/>
                  </a:lnTo>
                  <a:lnTo>
                    <a:pt x="1508" y="243"/>
                  </a:lnTo>
                  <a:lnTo>
                    <a:pt x="1519" y="251"/>
                  </a:lnTo>
                  <a:lnTo>
                    <a:pt x="1528" y="260"/>
                  </a:lnTo>
                  <a:lnTo>
                    <a:pt x="1538" y="270"/>
                  </a:lnTo>
                  <a:lnTo>
                    <a:pt x="1546" y="279"/>
                  </a:lnTo>
                  <a:lnTo>
                    <a:pt x="1553" y="289"/>
                  </a:lnTo>
                  <a:lnTo>
                    <a:pt x="1559" y="300"/>
                  </a:lnTo>
                  <a:lnTo>
                    <a:pt x="1564" y="310"/>
                  </a:lnTo>
                  <a:lnTo>
                    <a:pt x="1568" y="323"/>
                  </a:lnTo>
                  <a:lnTo>
                    <a:pt x="1567" y="362"/>
                  </a:lnTo>
                  <a:lnTo>
                    <a:pt x="1563" y="393"/>
                  </a:lnTo>
                  <a:lnTo>
                    <a:pt x="1560" y="416"/>
                  </a:lnTo>
                  <a:lnTo>
                    <a:pt x="1559" y="424"/>
                  </a:lnTo>
                  <a:lnTo>
                    <a:pt x="1548" y="426"/>
                  </a:lnTo>
                  <a:lnTo>
                    <a:pt x="1539" y="428"/>
                  </a:lnTo>
                  <a:lnTo>
                    <a:pt x="1529" y="432"/>
                  </a:lnTo>
                  <a:lnTo>
                    <a:pt x="1521" y="435"/>
                  </a:lnTo>
                  <a:lnTo>
                    <a:pt x="1514" y="439"/>
                  </a:lnTo>
                  <a:lnTo>
                    <a:pt x="1508" y="444"/>
                  </a:lnTo>
                  <a:lnTo>
                    <a:pt x="1502" y="449"/>
                  </a:lnTo>
                  <a:lnTo>
                    <a:pt x="1499" y="455"/>
                  </a:lnTo>
                  <a:lnTo>
                    <a:pt x="1494" y="461"/>
                  </a:lnTo>
                  <a:lnTo>
                    <a:pt x="1492" y="467"/>
                  </a:lnTo>
                  <a:lnTo>
                    <a:pt x="1490" y="474"/>
                  </a:lnTo>
                  <a:lnTo>
                    <a:pt x="1488" y="481"/>
                  </a:lnTo>
                  <a:lnTo>
                    <a:pt x="1487" y="488"/>
                  </a:lnTo>
                  <a:lnTo>
                    <a:pt x="1487" y="495"/>
                  </a:lnTo>
                  <a:lnTo>
                    <a:pt x="1488" y="502"/>
                  </a:lnTo>
                  <a:lnTo>
                    <a:pt x="1490" y="510"/>
                  </a:lnTo>
                  <a:lnTo>
                    <a:pt x="548" y="6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Freeform 129"/>
            <p:cNvSpPr/>
            <p:nvPr/>
          </p:nvSpPr>
          <p:spPr>
            <a:xfrm>
              <a:off x="7943760" y="5045400"/>
              <a:ext cx="77040" cy="835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484" h="479">
                  <a:moveTo>
                    <a:pt x="369" y="479"/>
                  </a:moveTo>
                  <a:lnTo>
                    <a:pt x="0" y="58"/>
                  </a:lnTo>
                  <a:lnTo>
                    <a:pt x="40" y="54"/>
                  </a:lnTo>
                  <a:lnTo>
                    <a:pt x="79" y="48"/>
                  </a:lnTo>
                  <a:lnTo>
                    <a:pt x="114" y="42"/>
                  </a:lnTo>
                  <a:lnTo>
                    <a:pt x="149" y="35"/>
                  </a:lnTo>
                  <a:lnTo>
                    <a:pt x="181" y="27"/>
                  </a:lnTo>
                  <a:lnTo>
                    <a:pt x="213" y="19"/>
                  </a:lnTo>
                  <a:lnTo>
                    <a:pt x="243" y="9"/>
                  </a:lnTo>
                  <a:lnTo>
                    <a:pt x="274" y="0"/>
                  </a:lnTo>
                  <a:lnTo>
                    <a:pt x="332" y="70"/>
                  </a:lnTo>
                  <a:lnTo>
                    <a:pt x="329" y="74"/>
                  </a:lnTo>
                  <a:lnTo>
                    <a:pt x="320" y="84"/>
                  </a:lnTo>
                  <a:lnTo>
                    <a:pt x="317" y="91"/>
                  </a:lnTo>
                  <a:lnTo>
                    <a:pt x="312" y="99"/>
                  </a:lnTo>
                  <a:lnTo>
                    <a:pt x="309" y="109"/>
                  </a:lnTo>
                  <a:lnTo>
                    <a:pt x="305" y="118"/>
                  </a:lnTo>
                  <a:lnTo>
                    <a:pt x="304" y="128"/>
                  </a:lnTo>
                  <a:lnTo>
                    <a:pt x="304" y="139"/>
                  </a:lnTo>
                  <a:lnTo>
                    <a:pt x="305" y="145"/>
                  </a:lnTo>
                  <a:lnTo>
                    <a:pt x="306" y="150"/>
                  </a:lnTo>
                  <a:lnTo>
                    <a:pt x="309" y="155"/>
                  </a:lnTo>
                  <a:lnTo>
                    <a:pt x="311" y="161"/>
                  </a:lnTo>
                  <a:lnTo>
                    <a:pt x="315" y="166"/>
                  </a:lnTo>
                  <a:lnTo>
                    <a:pt x="319" y="172"/>
                  </a:lnTo>
                  <a:lnTo>
                    <a:pt x="324" y="176"/>
                  </a:lnTo>
                  <a:lnTo>
                    <a:pt x="330" y="181"/>
                  </a:lnTo>
                  <a:lnTo>
                    <a:pt x="337" y="186"/>
                  </a:lnTo>
                  <a:lnTo>
                    <a:pt x="345" y="190"/>
                  </a:lnTo>
                  <a:lnTo>
                    <a:pt x="353" y="195"/>
                  </a:lnTo>
                  <a:lnTo>
                    <a:pt x="364" y="200"/>
                  </a:lnTo>
                  <a:lnTo>
                    <a:pt x="372" y="204"/>
                  </a:lnTo>
                  <a:lnTo>
                    <a:pt x="380" y="211"/>
                  </a:lnTo>
                  <a:lnTo>
                    <a:pt x="390" y="222"/>
                  </a:lnTo>
                  <a:lnTo>
                    <a:pt x="402" y="234"/>
                  </a:lnTo>
                  <a:lnTo>
                    <a:pt x="413" y="249"/>
                  </a:lnTo>
                  <a:lnTo>
                    <a:pt x="424" y="264"/>
                  </a:lnTo>
                  <a:lnTo>
                    <a:pt x="436" y="281"/>
                  </a:lnTo>
                  <a:lnTo>
                    <a:pt x="447" y="299"/>
                  </a:lnTo>
                  <a:lnTo>
                    <a:pt x="457" y="318"/>
                  </a:lnTo>
                  <a:lnTo>
                    <a:pt x="466" y="336"/>
                  </a:lnTo>
                  <a:lnTo>
                    <a:pt x="473" y="355"/>
                  </a:lnTo>
                  <a:lnTo>
                    <a:pt x="479" y="374"/>
                  </a:lnTo>
                  <a:lnTo>
                    <a:pt x="483" y="392"/>
                  </a:lnTo>
                  <a:lnTo>
                    <a:pt x="484" y="409"/>
                  </a:lnTo>
                  <a:lnTo>
                    <a:pt x="484" y="417"/>
                  </a:lnTo>
                  <a:lnTo>
                    <a:pt x="483" y="424"/>
                  </a:lnTo>
                  <a:lnTo>
                    <a:pt x="482" y="431"/>
                  </a:lnTo>
                  <a:lnTo>
                    <a:pt x="478" y="438"/>
                  </a:lnTo>
                  <a:lnTo>
                    <a:pt x="369" y="47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Freeform 130"/>
            <p:cNvSpPr/>
            <p:nvPr/>
          </p:nvSpPr>
          <p:spPr>
            <a:xfrm>
              <a:off x="7943760" y="5045400"/>
              <a:ext cx="77040" cy="835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484" h="479">
                  <a:moveTo>
                    <a:pt x="369" y="479"/>
                  </a:moveTo>
                  <a:lnTo>
                    <a:pt x="0" y="58"/>
                  </a:lnTo>
                  <a:lnTo>
                    <a:pt x="40" y="54"/>
                  </a:lnTo>
                  <a:lnTo>
                    <a:pt x="79" y="48"/>
                  </a:lnTo>
                  <a:lnTo>
                    <a:pt x="114" y="42"/>
                  </a:lnTo>
                  <a:lnTo>
                    <a:pt x="149" y="35"/>
                  </a:lnTo>
                  <a:lnTo>
                    <a:pt x="181" y="27"/>
                  </a:lnTo>
                  <a:lnTo>
                    <a:pt x="213" y="19"/>
                  </a:lnTo>
                  <a:lnTo>
                    <a:pt x="243" y="9"/>
                  </a:lnTo>
                  <a:lnTo>
                    <a:pt x="274" y="0"/>
                  </a:lnTo>
                  <a:lnTo>
                    <a:pt x="332" y="70"/>
                  </a:lnTo>
                  <a:lnTo>
                    <a:pt x="329" y="74"/>
                  </a:lnTo>
                  <a:lnTo>
                    <a:pt x="320" y="84"/>
                  </a:lnTo>
                  <a:lnTo>
                    <a:pt x="317" y="91"/>
                  </a:lnTo>
                  <a:lnTo>
                    <a:pt x="312" y="99"/>
                  </a:lnTo>
                  <a:lnTo>
                    <a:pt x="309" y="109"/>
                  </a:lnTo>
                  <a:lnTo>
                    <a:pt x="305" y="118"/>
                  </a:lnTo>
                  <a:lnTo>
                    <a:pt x="304" y="128"/>
                  </a:lnTo>
                  <a:lnTo>
                    <a:pt x="304" y="139"/>
                  </a:lnTo>
                  <a:lnTo>
                    <a:pt x="305" y="145"/>
                  </a:lnTo>
                  <a:lnTo>
                    <a:pt x="306" y="150"/>
                  </a:lnTo>
                  <a:lnTo>
                    <a:pt x="309" y="155"/>
                  </a:lnTo>
                  <a:lnTo>
                    <a:pt x="311" y="161"/>
                  </a:lnTo>
                  <a:lnTo>
                    <a:pt x="315" y="166"/>
                  </a:lnTo>
                  <a:lnTo>
                    <a:pt x="319" y="172"/>
                  </a:lnTo>
                  <a:lnTo>
                    <a:pt x="324" y="176"/>
                  </a:lnTo>
                  <a:lnTo>
                    <a:pt x="330" y="181"/>
                  </a:lnTo>
                  <a:lnTo>
                    <a:pt x="337" y="186"/>
                  </a:lnTo>
                  <a:lnTo>
                    <a:pt x="345" y="190"/>
                  </a:lnTo>
                  <a:lnTo>
                    <a:pt x="353" y="195"/>
                  </a:lnTo>
                  <a:lnTo>
                    <a:pt x="364" y="200"/>
                  </a:lnTo>
                  <a:lnTo>
                    <a:pt x="372" y="204"/>
                  </a:lnTo>
                  <a:lnTo>
                    <a:pt x="380" y="211"/>
                  </a:lnTo>
                  <a:lnTo>
                    <a:pt x="390" y="222"/>
                  </a:lnTo>
                  <a:lnTo>
                    <a:pt x="402" y="234"/>
                  </a:lnTo>
                  <a:lnTo>
                    <a:pt x="413" y="249"/>
                  </a:lnTo>
                  <a:lnTo>
                    <a:pt x="424" y="264"/>
                  </a:lnTo>
                  <a:lnTo>
                    <a:pt x="436" y="281"/>
                  </a:lnTo>
                  <a:lnTo>
                    <a:pt x="447" y="299"/>
                  </a:lnTo>
                  <a:lnTo>
                    <a:pt x="457" y="318"/>
                  </a:lnTo>
                  <a:lnTo>
                    <a:pt x="466" y="336"/>
                  </a:lnTo>
                  <a:lnTo>
                    <a:pt x="473" y="355"/>
                  </a:lnTo>
                  <a:lnTo>
                    <a:pt x="479" y="374"/>
                  </a:lnTo>
                  <a:lnTo>
                    <a:pt x="483" y="392"/>
                  </a:lnTo>
                  <a:lnTo>
                    <a:pt x="484" y="409"/>
                  </a:lnTo>
                  <a:lnTo>
                    <a:pt x="484" y="417"/>
                  </a:lnTo>
                  <a:lnTo>
                    <a:pt x="483" y="424"/>
                  </a:lnTo>
                  <a:lnTo>
                    <a:pt x="482" y="431"/>
                  </a:lnTo>
                  <a:lnTo>
                    <a:pt x="478" y="438"/>
                  </a:lnTo>
                  <a:lnTo>
                    <a:pt x="369" y="47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Freeform 131"/>
            <p:cNvSpPr/>
            <p:nvPr/>
          </p:nvSpPr>
          <p:spPr>
            <a:xfrm>
              <a:off x="7988400" y="5034240"/>
              <a:ext cx="84960" cy="871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44" h="509">
                  <a:moveTo>
                    <a:pt x="204" y="509"/>
                  </a:moveTo>
                  <a:lnTo>
                    <a:pt x="208" y="502"/>
                  </a:lnTo>
                  <a:lnTo>
                    <a:pt x="209" y="495"/>
                  </a:lnTo>
                  <a:lnTo>
                    <a:pt x="210" y="488"/>
                  </a:lnTo>
                  <a:lnTo>
                    <a:pt x="210" y="480"/>
                  </a:lnTo>
                  <a:lnTo>
                    <a:pt x="209" y="463"/>
                  </a:lnTo>
                  <a:lnTo>
                    <a:pt x="205" y="445"/>
                  </a:lnTo>
                  <a:lnTo>
                    <a:pt x="199" y="426"/>
                  </a:lnTo>
                  <a:lnTo>
                    <a:pt x="192" y="407"/>
                  </a:lnTo>
                  <a:lnTo>
                    <a:pt x="183" y="389"/>
                  </a:lnTo>
                  <a:lnTo>
                    <a:pt x="173" y="370"/>
                  </a:lnTo>
                  <a:lnTo>
                    <a:pt x="162" y="352"/>
                  </a:lnTo>
                  <a:lnTo>
                    <a:pt x="150" y="335"/>
                  </a:lnTo>
                  <a:lnTo>
                    <a:pt x="139" y="320"/>
                  </a:lnTo>
                  <a:lnTo>
                    <a:pt x="128" y="305"/>
                  </a:lnTo>
                  <a:lnTo>
                    <a:pt x="116" y="293"/>
                  </a:lnTo>
                  <a:lnTo>
                    <a:pt x="106" y="282"/>
                  </a:lnTo>
                  <a:lnTo>
                    <a:pt x="98" y="275"/>
                  </a:lnTo>
                  <a:lnTo>
                    <a:pt x="90" y="271"/>
                  </a:lnTo>
                  <a:lnTo>
                    <a:pt x="79" y="266"/>
                  </a:lnTo>
                  <a:lnTo>
                    <a:pt x="71" y="261"/>
                  </a:lnTo>
                  <a:lnTo>
                    <a:pt x="63" y="257"/>
                  </a:lnTo>
                  <a:lnTo>
                    <a:pt x="56" y="252"/>
                  </a:lnTo>
                  <a:lnTo>
                    <a:pt x="50" y="247"/>
                  </a:lnTo>
                  <a:lnTo>
                    <a:pt x="45" y="243"/>
                  </a:lnTo>
                  <a:lnTo>
                    <a:pt x="41" y="237"/>
                  </a:lnTo>
                  <a:lnTo>
                    <a:pt x="37" y="232"/>
                  </a:lnTo>
                  <a:lnTo>
                    <a:pt x="35" y="226"/>
                  </a:lnTo>
                  <a:lnTo>
                    <a:pt x="32" y="221"/>
                  </a:lnTo>
                  <a:lnTo>
                    <a:pt x="31" y="216"/>
                  </a:lnTo>
                  <a:lnTo>
                    <a:pt x="30" y="210"/>
                  </a:lnTo>
                  <a:lnTo>
                    <a:pt x="30" y="199"/>
                  </a:lnTo>
                  <a:lnTo>
                    <a:pt x="31" y="189"/>
                  </a:lnTo>
                  <a:lnTo>
                    <a:pt x="35" y="180"/>
                  </a:lnTo>
                  <a:lnTo>
                    <a:pt x="38" y="170"/>
                  </a:lnTo>
                  <a:lnTo>
                    <a:pt x="43" y="162"/>
                  </a:lnTo>
                  <a:lnTo>
                    <a:pt x="46" y="155"/>
                  </a:lnTo>
                  <a:lnTo>
                    <a:pt x="55" y="145"/>
                  </a:lnTo>
                  <a:lnTo>
                    <a:pt x="58" y="141"/>
                  </a:lnTo>
                  <a:lnTo>
                    <a:pt x="0" y="71"/>
                  </a:lnTo>
                  <a:lnTo>
                    <a:pt x="4" y="69"/>
                  </a:lnTo>
                  <a:lnTo>
                    <a:pt x="17" y="59"/>
                  </a:lnTo>
                  <a:lnTo>
                    <a:pt x="25" y="50"/>
                  </a:lnTo>
                  <a:lnTo>
                    <a:pt x="36" y="37"/>
                  </a:lnTo>
                  <a:lnTo>
                    <a:pt x="46" y="21"/>
                  </a:lnTo>
                  <a:lnTo>
                    <a:pt x="58" y="0"/>
                  </a:lnTo>
                  <a:lnTo>
                    <a:pt x="544" y="351"/>
                  </a:lnTo>
                  <a:lnTo>
                    <a:pt x="204" y="5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Freeform 132"/>
            <p:cNvSpPr/>
            <p:nvPr/>
          </p:nvSpPr>
          <p:spPr>
            <a:xfrm>
              <a:off x="7988400" y="5034240"/>
              <a:ext cx="84960" cy="871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44" h="509">
                  <a:moveTo>
                    <a:pt x="204" y="509"/>
                  </a:moveTo>
                  <a:lnTo>
                    <a:pt x="208" y="502"/>
                  </a:lnTo>
                  <a:lnTo>
                    <a:pt x="209" y="495"/>
                  </a:lnTo>
                  <a:lnTo>
                    <a:pt x="210" y="488"/>
                  </a:lnTo>
                  <a:lnTo>
                    <a:pt x="210" y="480"/>
                  </a:lnTo>
                  <a:lnTo>
                    <a:pt x="209" y="463"/>
                  </a:lnTo>
                  <a:lnTo>
                    <a:pt x="205" y="445"/>
                  </a:lnTo>
                  <a:lnTo>
                    <a:pt x="199" y="426"/>
                  </a:lnTo>
                  <a:lnTo>
                    <a:pt x="192" y="407"/>
                  </a:lnTo>
                  <a:lnTo>
                    <a:pt x="183" y="389"/>
                  </a:lnTo>
                  <a:lnTo>
                    <a:pt x="173" y="370"/>
                  </a:lnTo>
                  <a:lnTo>
                    <a:pt x="162" y="352"/>
                  </a:lnTo>
                  <a:lnTo>
                    <a:pt x="150" y="335"/>
                  </a:lnTo>
                  <a:lnTo>
                    <a:pt x="139" y="320"/>
                  </a:lnTo>
                  <a:lnTo>
                    <a:pt x="128" y="305"/>
                  </a:lnTo>
                  <a:lnTo>
                    <a:pt x="116" y="293"/>
                  </a:lnTo>
                  <a:lnTo>
                    <a:pt x="106" y="282"/>
                  </a:lnTo>
                  <a:lnTo>
                    <a:pt x="98" y="275"/>
                  </a:lnTo>
                  <a:lnTo>
                    <a:pt x="90" y="271"/>
                  </a:lnTo>
                  <a:lnTo>
                    <a:pt x="79" y="266"/>
                  </a:lnTo>
                  <a:lnTo>
                    <a:pt x="71" y="261"/>
                  </a:lnTo>
                  <a:lnTo>
                    <a:pt x="63" y="257"/>
                  </a:lnTo>
                  <a:lnTo>
                    <a:pt x="56" y="252"/>
                  </a:lnTo>
                  <a:lnTo>
                    <a:pt x="50" y="247"/>
                  </a:lnTo>
                  <a:lnTo>
                    <a:pt x="45" y="243"/>
                  </a:lnTo>
                  <a:lnTo>
                    <a:pt x="41" y="237"/>
                  </a:lnTo>
                  <a:lnTo>
                    <a:pt x="37" y="232"/>
                  </a:lnTo>
                  <a:lnTo>
                    <a:pt x="35" y="226"/>
                  </a:lnTo>
                  <a:lnTo>
                    <a:pt x="32" y="221"/>
                  </a:lnTo>
                  <a:lnTo>
                    <a:pt x="31" y="216"/>
                  </a:lnTo>
                  <a:lnTo>
                    <a:pt x="30" y="210"/>
                  </a:lnTo>
                  <a:lnTo>
                    <a:pt x="30" y="199"/>
                  </a:lnTo>
                  <a:lnTo>
                    <a:pt x="31" y="189"/>
                  </a:lnTo>
                  <a:lnTo>
                    <a:pt x="35" y="180"/>
                  </a:lnTo>
                  <a:lnTo>
                    <a:pt x="38" y="170"/>
                  </a:lnTo>
                  <a:lnTo>
                    <a:pt x="43" y="162"/>
                  </a:lnTo>
                  <a:lnTo>
                    <a:pt x="46" y="155"/>
                  </a:lnTo>
                  <a:lnTo>
                    <a:pt x="55" y="145"/>
                  </a:lnTo>
                  <a:lnTo>
                    <a:pt x="58" y="141"/>
                  </a:lnTo>
                  <a:lnTo>
                    <a:pt x="0" y="71"/>
                  </a:lnTo>
                  <a:lnTo>
                    <a:pt x="4" y="69"/>
                  </a:lnTo>
                  <a:lnTo>
                    <a:pt x="17" y="59"/>
                  </a:lnTo>
                  <a:lnTo>
                    <a:pt x="25" y="50"/>
                  </a:lnTo>
                  <a:lnTo>
                    <a:pt x="36" y="37"/>
                  </a:lnTo>
                  <a:lnTo>
                    <a:pt x="46" y="21"/>
                  </a:lnTo>
                  <a:lnTo>
                    <a:pt x="58" y="0"/>
                  </a:lnTo>
                  <a:lnTo>
                    <a:pt x="544" y="351"/>
                  </a:lnTo>
                  <a:lnTo>
                    <a:pt x="204" y="50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Freeform 133"/>
            <p:cNvSpPr/>
            <p:nvPr/>
          </p:nvSpPr>
          <p:spPr>
            <a:xfrm>
              <a:off x="7980480" y="4951080"/>
              <a:ext cx="161640" cy="1425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016" h="821">
                  <a:moveTo>
                    <a:pt x="593" y="821"/>
                  </a:moveTo>
                  <a:lnTo>
                    <a:pt x="107" y="470"/>
                  </a:lnTo>
                  <a:lnTo>
                    <a:pt x="112" y="458"/>
                  </a:lnTo>
                  <a:lnTo>
                    <a:pt x="114" y="449"/>
                  </a:lnTo>
                  <a:lnTo>
                    <a:pt x="115" y="438"/>
                  </a:lnTo>
                  <a:lnTo>
                    <a:pt x="114" y="430"/>
                  </a:lnTo>
                  <a:lnTo>
                    <a:pt x="112" y="421"/>
                  </a:lnTo>
                  <a:lnTo>
                    <a:pt x="108" y="413"/>
                  </a:lnTo>
                  <a:lnTo>
                    <a:pt x="104" y="404"/>
                  </a:lnTo>
                  <a:lnTo>
                    <a:pt x="98" y="395"/>
                  </a:lnTo>
                  <a:lnTo>
                    <a:pt x="85" y="377"/>
                  </a:lnTo>
                  <a:lnTo>
                    <a:pt x="72" y="358"/>
                  </a:lnTo>
                  <a:lnTo>
                    <a:pt x="66" y="347"/>
                  </a:lnTo>
                  <a:lnTo>
                    <a:pt x="60" y="335"/>
                  </a:lnTo>
                  <a:lnTo>
                    <a:pt x="56" y="323"/>
                  </a:lnTo>
                  <a:lnTo>
                    <a:pt x="52" y="309"/>
                  </a:lnTo>
                  <a:lnTo>
                    <a:pt x="50" y="295"/>
                  </a:lnTo>
                  <a:lnTo>
                    <a:pt x="49" y="283"/>
                  </a:lnTo>
                  <a:lnTo>
                    <a:pt x="49" y="272"/>
                  </a:lnTo>
                  <a:lnTo>
                    <a:pt x="50" y="264"/>
                  </a:lnTo>
                  <a:lnTo>
                    <a:pt x="51" y="256"/>
                  </a:lnTo>
                  <a:lnTo>
                    <a:pt x="53" y="249"/>
                  </a:lnTo>
                  <a:lnTo>
                    <a:pt x="56" y="243"/>
                  </a:lnTo>
                  <a:lnTo>
                    <a:pt x="58" y="237"/>
                  </a:lnTo>
                  <a:lnTo>
                    <a:pt x="64" y="227"/>
                  </a:lnTo>
                  <a:lnTo>
                    <a:pt x="70" y="214"/>
                  </a:lnTo>
                  <a:lnTo>
                    <a:pt x="72" y="206"/>
                  </a:lnTo>
                  <a:lnTo>
                    <a:pt x="73" y="198"/>
                  </a:lnTo>
                  <a:lnTo>
                    <a:pt x="74" y="187"/>
                  </a:lnTo>
                  <a:lnTo>
                    <a:pt x="76" y="175"/>
                  </a:lnTo>
                  <a:lnTo>
                    <a:pt x="74" y="171"/>
                  </a:lnTo>
                  <a:lnTo>
                    <a:pt x="72" y="165"/>
                  </a:lnTo>
                  <a:lnTo>
                    <a:pt x="70" y="158"/>
                  </a:lnTo>
                  <a:lnTo>
                    <a:pt x="65" y="152"/>
                  </a:lnTo>
                  <a:lnTo>
                    <a:pt x="56" y="137"/>
                  </a:lnTo>
                  <a:lnTo>
                    <a:pt x="43" y="120"/>
                  </a:lnTo>
                  <a:lnTo>
                    <a:pt x="30" y="102"/>
                  </a:lnTo>
                  <a:lnTo>
                    <a:pt x="18" y="81"/>
                  </a:lnTo>
                  <a:lnTo>
                    <a:pt x="12" y="69"/>
                  </a:lnTo>
                  <a:lnTo>
                    <a:pt x="8" y="56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42" y="34"/>
                  </a:lnTo>
                  <a:lnTo>
                    <a:pt x="78" y="38"/>
                  </a:lnTo>
                  <a:lnTo>
                    <a:pt x="111" y="40"/>
                  </a:lnTo>
                  <a:lnTo>
                    <a:pt x="141" y="42"/>
                  </a:lnTo>
                  <a:lnTo>
                    <a:pt x="168" y="42"/>
                  </a:lnTo>
                  <a:lnTo>
                    <a:pt x="192" y="41"/>
                  </a:lnTo>
                  <a:lnTo>
                    <a:pt x="215" y="40"/>
                  </a:lnTo>
                  <a:lnTo>
                    <a:pt x="234" y="38"/>
                  </a:lnTo>
                  <a:lnTo>
                    <a:pt x="253" y="34"/>
                  </a:lnTo>
                  <a:lnTo>
                    <a:pt x="271" y="31"/>
                  </a:lnTo>
                  <a:lnTo>
                    <a:pt x="288" y="26"/>
                  </a:lnTo>
                  <a:lnTo>
                    <a:pt x="304" y="21"/>
                  </a:lnTo>
                  <a:lnTo>
                    <a:pt x="340" y="11"/>
                  </a:lnTo>
                  <a:lnTo>
                    <a:pt x="377" y="0"/>
                  </a:lnTo>
                  <a:lnTo>
                    <a:pt x="386" y="8"/>
                  </a:lnTo>
                  <a:lnTo>
                    <a:pt x="410" y="33"/>
                  </a:lnTo>
                  <a:lnTo>
                    <a:pt x="446" y="67"/>
                  </a:lnTo>
                  <a:lnTo>
                    <a:pt x="488" y="109"/>
                  </a:lnTo>
                  <a:lnTo>
                    <a:pt x="535" y="152"/>
                  </a:lnTo>
                  <a:lnTo>
                    <a:pt x="580" y="195"/>
                  </a:lnTo>
                  <a:lnTo>
                    <a:pt x="622" y="234"/>
                  </a:lnTo>
                  <a:lnTo>
                    <a:pt x="657" y="262"/>
                  </a:lnTo>
                  <a:lnTo>
                    <a:pt x="677" y="272"/>
                  </a:lnTo>
                  <a:lnTo>
                    <a:pt x="697" y="281"/>
                  </a:lnTo>
                  <a:lnTo>
                    <a:pt x="717" y="288"/>
                  </a:lnTo>
                  <a:lnTo>
                    <a:pt x="737" y="293"/>
                  </a:lnTo>
                  <a:lnTo>
                    <a:pt x="757" y="297"/>
                  </a:lnTo>
                  <a:lnTo>
                    <a:pt x="776" y="300"/>
                  </a:lnTo>
                  <a:lnTo>
                    <a:pt x="796" y="303"/>
                  </a:lnTo>
                  <a:lnTo>
                    <a:pt x="816" y="304"/>
                  </a:lnTo>
                  <a:lnTo>
                    <a:pt x="855" y="306"/>
                  </a:lnTo>
                  <a:lnTo>
                    <a:pt x="893" y="310"/>
                  </a:lnTo>
                  <a:lnTo>
                    <a:pt x="912" y="312"/>
                  </a:lnTo>
                  <a:lnTo>
                    <a:pt x="929" y="314"/>
                  </a:lnTo>
                  <a:lnTo>
                    <a:pt x="948" y="318"/>
                  </a:lnTo>
                  <a:lnTo>
                    <a:pt x="964" y="323"/>
                  </a:lnTo>
                  <a:lnTo>
                    <a:pt x="981" y="328"/>
                  </a:lnTo>
                  <a:lnTo>
                    <a:pt x="994" y="334"/>
                  </a:lnTo>
                  <a:lnTo>
                    <a:pt x="1004" y="340"/>
                  </a:lnTo>
                  <a:lnTo>
                    <a:pt x="1011" y="347"/>
                  </a:lnTo>
                  <a:lnTo>
                    <a:pt x="1014" y="349"/>
                  </a:lnTo>
                  <a:lnTo>
                    <a:pt x="1016" y="353"/>
                  </a:lnTo>
                  <a:lnTo>
                    <a:pt x="1016" y="355"/>
                  </a:lnTo>
                  <a:lnTo>
                    <a:pt x="1016" y="359"/>
                  </a:lnTo>
                  <a:lnTo>
                    <a:pt x="1016" y="362"/>
                  </a:lnTo>
                  <a:lnTo>
                    <a:pt x="1014" y="366"/>
                  </a:lnTo>
                  <a:lnTo>
                    <a:pt x="1011" y="368"/>
                  </a:lnTo>
                  <a:lnTo>
                    <a:pt x="1008" y="372"/>
                  </a:lnTo>
                  <a:lnTo>
                    <a:pt x="997" y="379"/>
                  </a:lnTo>
                  <a:lnTo>
                    <a:pt x="983" y="386"/>
                  </a:lnTo>
                  <a:lnTo>
                    <a:pt x="964" y="393"/>
                  </a:lnTo>
                  <a:lnTo>
                    <a:pt x="942" y="400"/>
                  </a:lnTo>
                  <a:lnTo>
                    <a:pt x="917" y="408"/>
                  </a:lnTo>
                  <a:lnTo>
                    <a:pt x="885" y="415"/>
                  </a:lnTo>
                  <a:lnTo>
                    <a:pt x="850" y="423"/>
                  </a:lnTo>
                  <a:lnTo>
                    <a:pt x="809" y="432"/>
                  </a:lnTo>
                  <a:lnTo>
                    <a:pt x="783" y="438"/>
                  </a:lnTo>
                  <a:lnTo>
                    <a:pt x="760" y="446"/>
                  </a:lnTo>
                  <a:lnTo>
                    <a:pt x="751" y="451"/>
                  </a:lnTo>
                  <a:lnTo>
                    <a:pt x="741" y="456"/>
                  </a:lnTo>
                  <a:lnTo>
                    <a:pt x="733" y="460"/>
                  </a:lnTo>
                  <a:lnTo>
                    <a:pt x="726" y="465"/>
                  </a:lnTo>
                  <a:lnTo>
                    <a:pt x="720" y="471"/>
                  </a:lnTo>
                  <a:lnTo>
                    <a:pt x="714" y="476"/>
                  </a:lnTo>
                  <a:lnTo>
                    <a:pt x="709" y="481"/>
                  </a:lnTo>
                  <a:lnTo>
                    <a:pt x="705" y="487"/>
                  </a:lnTo>
                  <a:lnTo>
                    <a:pt x="698" y="499"/>
                  </a:lnTo>
                  <a:lnTo>
                    <a:pt x="695" y="511"/>
                  </a:lnTo>
                  <a:lnTo>
                    <a:pt x="692" y="522"/>
                  </a:lnTo>
                  <a:lnTo>
                    <a:pt x="692" y="534"/>
                  </a:lnTo>
                  <a:lnTo>
                    <a:pt x="693" y="546"/>
                  </a:lnTo>
                  <a:lnTo>
                    <a:pt x="697" y="556"/>
                  </a:lnTo>
                  <a:lnTo>
                    <a:pt x="700" y="567"/>
                  </a:lnTo>
                  <a:lnTo>
                    <a:pt x="706" y="577"/>
                  </a:lnTo>
                  <a:lnTo>
                    <a:pt x="711" y="585"/>
                  </a:lnTo>
                  <a:lnTo>
                    <a:pt x="717" y="594"/>
                  </a:lnTo>
                  <a:lnTo>
                    <a:pt x="721" y="601"/>
                  </a:lnTo>
                  <a:lnTo>
                    <a:pt x="725" y="606"/>
                  </a:lnTo>
                  <a:lnTo>
                    <a:pt x="726" y="613"/>
                  </a:lnTo>
                  <a:lnTo>
                    <a:pt x="726" y="620"/>
                  </a:lnTo>
                  <a:lnTo>
                    <a:pt x="725" y="627"/>
                  </a:lnTo>
                  <a:lnTo>
                    <a:pt x="723" y="634"/>
                  </a:lnTo>
                  <a:lnTo>
                    <a:pt x="718" y="641"/>
                  </a:lnTo>
                  <a:lnTo>
                    <a:pt x="713" y="648"/>
                  </a:lnTo>
                  <a:lnTo>
                    <a:pt x="702" y="662"/>
                  </a:lnTo>
                  <a:lnTo>
                    <a:pt x="688" y="678"/>
                  </a:lnTo>
                  <a:lnTo>
                    <a:pt x="671" y="692"/>
                  </a:lnTo>
                  <a:lnTo>
                    <a:pt x="654" y="706"/>
                  </a:lnTo>
                  <a:lnTo>
                    <a:pt x="637" y="721"/>
                  </a:lnTo>
                  <a:lnTo>
                    <a:pt x="621" y="735"/>
                  </a:lnTo>
                  <a:lnTo>
                    <a:pt x="607" y="749"/>
                  </a:lnTo>
                  <a:lnTo>
                    <a:pt x="595" y="764"/>
                  </a:lnTo>
                  <a:lnTo>
                    <a:pt x="591" y="771"/>
                  </a:lnTo>
                  <a:lnTo>
                    <a:pt x="587" y="778"/>
                  </a:lnTo>
                  <a:lnTo>
                    <a:pt x="585" y="785"/>
                  </a:lnTo>
                  <a:lnTo>
                    <a:pt x="584" y="792"/>
                  </a:lnTo>
                  <a:lnTo>
                    <a:pt x="584" y="799"/>
                  </a:lnTo>
                  <a:lnTo>
                    <a:pt x="586" y="806"/>
                  </a:lnTo>
                  <a:lnTo>
                    <a:pt x="588" y="814"/>
                  </a:lnTo>
                  <a:lnTo>
                    <a:pt x="593" y="8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Freeform 134"/>
            <p:cNvSpPr/>
            <p:nvPr/>
          </p:nvSpPr>
          <p:spPr>
            <a:xfrm>
              <a:off x="7980480" y="4951080"/>
              <a:ext cx="161640" cy="1425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016" h="821">
                  <a:moveTo>
                    <a:pt x="593" y="821"/>
                  </a:moveTo>
                  <a:lnTo>
                    <a:pt x="107" y="470"/>
                  </a:lnTo>
                  <a:lnTo>
                    <a:pt x="112" y="458"/>
                  </a:lnTo>
                  <a:lnTo>
                    <a:pt x="114" y="449"/>
                  </a:lnTo>
                  <a:lnTo>
                    <a:pt x="115" y="438"/>
                  </a:lnTo>
                  <a:lnTo>
                    <a:pt x="114" y="430"/>
                  </a:lnTo>
                  <a:lnTo>
                    <a:pt x="112" y="421"/>
                  </a:lnTo>
                  <a:lnTo>
                    <a:pt x="108" y="413"/>
                  </a:lnTo>
                  <a:lnTo>
                    <a:pt x="104" y="404"/>
                  </a:lnTo>
                  <a:lnTo>
                    <a:pt x="98" y="395"/>
                  </a:lnTo>
                  <a:lnTo>
                    <a:pt x="85" y="377"/>
                  </a:lnTo>
                  <a:lnTo>
                    <a:pt x="72" y="358"/>
                  </a:lnTo>
                  <a:lnTo>
                    <a:pt x="66" y="347"/>
                  </a:lnTo>
                  <a:lnTo>
                    <a:pt x="60" y="335"/>
                  </a:lnTo>
                  <a:lnTo>
                    <a:pt x="56" y="323"/>
                  </a:lnTo>
                  <a:lnTo>
                    <a:pt x="52" y="309"/>
                  </a:lnTo>
                  <a:lnTo>
                    <a:pt x="50" y="295"/>
                  </a:lnTo>
                  <a:lnTo>
                    <a:pt x="49" y="283"/>
                  </a:lnTo>
                  <a:lnTo>
                    <a:pt x="49" y="272"/>
                  </a:lnTo>
                  <a:lnTo>
                    <a:pt x="50" y="264"/>
                  </a:lnTo>
                  <a:lnTo>
                    <a:pt x="51" y="256"/>
                  </a:lnTo>
                  <a:lnTo>
                    <a:pt x="53" y="249"/>
                  </a:lnTo>
                  <a:lnTo>
                    <a:pt x="56" y="243"/>
                  </a:lnTo>
                  <a:lnTo>
                    <a:pt x="58" y="237"/>
                  </a:lnTo>
                  <a:lnTo>
                    <a:pt x="64" y="227"/>
                  </a:lnTo>
                  <a:lnTo>
                    <a:pt x="70" y="214"/>
                  </a:lnTo>
                  <a:lnTo>
                    <a:pt x="72" y="206"/>
                  </a:lnTo>
                  <a:lnTo>
                    <a:pt x="73" y="198"/>
                  </a:lnTo>
                  <a:lnTo>
                    <a:pt x="74" y="187"/>
                  </a:lnTo>
                  <a:lnTo>
                    <a:pt x="76" y="175"/>
                  </a:lnTo>
                  <a:lnTo>
                    <a:pt x="74" y="171"/>
                  </a:lnTo>
                  <a:lnTo>
                    <a:pt x="72" y="165"/>
                  </a:lnTo>
                  <a:lnTo>
                    <a:pt x="70" y="158"/>
                  </a:lnTo>
                  <a:lnTo>
                    <a:pt x="65" y="152"/>
                  </a:lnTo>
                  <a:lnTo>
                    <a:pt x="56" y="137"/>
                  </a:lnTo>
                  <a:lnTo>
                    <a:pt x="43" y="120"/>
                  </a:lnTo>
                  <a:lnTo>
                    <a:pt x="30" y="102"/>
                  </a:lnTo>
                  <a:lnTo>
                    <a:pt x="18" y="81"/>
                  </a:lnTo>
                  <a:lnTo>
                    <a:pt x="12" y="69"/>
                  </a:lnTo>
                  <a:lnTo>
                    <a:pt x="8" y="56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42" y="34"/>
                  </a:lnTo>
                  <a:lnTo>
                    <a:pt x="78" y="38"/>
                  </a:lnTo>
                  <a:lnTo>
                    <a:pt x="111" y="40"/>
                  </a:lnTo>
                  <a:lnTo>
                    <a:pt x="141" y="42"/>
                  </a:lnTo>
                  <a:lnTo>
                    <a:pt x="168" y="42"/>
                  </a:lnTo>
                  <a:lnTo>
                    <a:pt x="192" y="41"/>
                  </a:lnTo>
                  <a:lnTo>
                    <a:pt x="215" y="40"/>
                  </a:lnTo>
                  <a:lnTo>
                    <a:pt x="234" y="38"/>
                  </a:lnTo>
                  <a:lnTo>
                    <a:pt x="253" y="34"/>
                  </a:lnTo>
                  <a:lnTo>
                    <a:pt x="271" y="31"/>
                  </a:lnTo>
                  <a:lnTo>
                    <a:pt x="288" y="26"/>
                  </a:lnTo>
                  <a:lnTo>
                    <a:pt x="304" y="21"/>
                  </a:lnTo>
                  <a:lnTo>
                    <a:pt x="340" y="11"/>
                  </a:lnTo>
                  <a:lnTo>
                    <a:pt x="377" y="0"/>
                  </a:lnTo>
                  <a:lnTo>
                    <a:pt x="386" y="8"/>
                  </a:lnTo>
                  <a:lnTo>
                    <a:pt x="410" y="33"/>
                  </a:lnTo>
                  <a:lnTo>
                    <a:pt x="446" y="67"/>
                  </a:lnTo>
                  <a:lnTo>
                    <a:pt x="488" y="109"/>
                  </a:lnTo>
                  <a:lnTo>
                    <a:pt x="535" y="152"/>
                  </a:lnTo>
                  <a:lnTo>
                    <a:pt x="580" y="195"/>
                  </a:lnTo>
                  <a:lnTo>
                    <a:pt x="622" y="234"/>
                  </a:lnTo>
                  <a:lnTo>
                    <a:pt x="657" y="262"/>
                  </a:lnTo>
                  <a:lnTo>
                    <a:pt x="677" y="272"/>
                  </a:lnTo>
                  <a:lnTo>
                    <a:pt x="697" y="281"/>
                  </a:lnTo>
                  <a:lnTo>
                    <a:pt x="717" y="288"/>
                  </a:lnTo>
                  <a:lnTo>
                    <a:pt x="737" y="293"/>
                  </a:lnTo>
                  <a:lnTo>
                    <a:pt x="757" y="297"/>
                  </a:lnTo>
                  <a:lnTo>
                    <a:pt x="776" y="300"/>
                  </a:lnTo>
                  <a:lnTo>
                    <a:pt x="796" y="303"/>
                  </a:lnTo>
                  <a:lnTo>
                    <a:pt x="816" y="304"/>
                  </a:lnTo>
                  <a:lnTo>
                    <a:pt x="855" y="306"/>
                  </a:lnTo>
                  <a:lnTo>
                    <a:pt x="893" y="310"/>
                  </a:lnTo>
                  <a:lnTo>
                    <a:pt x="912" y="312"/>
                  </a:lnTo>
                  <a:lnTo>
                    <a:pt x="929" y="314"/>
                  </a:lnTo>
                  <a:lnTo>
                    <a:pt x="948" y="318"/>
                  </a:lnTo>
                  <a:lnTo>
                    <a:pt x="964" y="323"/>
                  </a:lnTo>
                  <a:lnTo>
                    <a:pt x="981" y="328"/>
                  </a:lnTo>
                  <a:lnTo>
                    <a:pt x="994" y="334"/>
                  </a:lnTo>
                  <a:lnTo>
                    <a:pt x="1004" y="340"/>
                  </a:lnTo>
                  <a:lnTo>
                    <a:pt x="1011" y="347"/>
                  </a:lnTo>
                  <a:lnTo>
                    <a:pt x="1014" y="349"/>
                  </a:lnTo>
                  <a:lnTo>
                    <a:pt x="1016" y="353"/>
                  </a:lnTo>
                  <a:lnTo>
                    <a:pt x="1016" y="355"/>
                  </a:lnTo>
                  <a:lnTo>
                    <a:pt x="1016" y="359"/>
                  </a:lnTo>
                  <a:lnTo>
                    <a:pt x="1016" y="362"/>
                  </a:lnTo>
                  <a:lnTo>
                    <a:pt x="1014" y="366"/>
                  </a:lnTo>
                  <a:lnTo>
                    <a:pt x="1011" y="368"/>
                  </a:lnTo>
                  <a:lnTo>
                    <a:pt x="1008" y="372"/>
                  </a:lnTo>
                  <a:lnTo>
                    <a:pt x="997" y="379"/>
                  </a:lnTo>
                  <a:lnTo>
                    <a:pt x="983" y="386"/>
                  </a:lnTo>
                  <a:lnTo>
                    <a:pt x="964" y="393"/>
                  </a:lnTo>
                  <a:lnTo>
                    <a:pt x="942" y="400"/>
                  </a:lnTo>
                  <a:lnTo>
                    <a:pt x="917" y="408"/>
                  </a:lnTo>
                  <a:lnTo>
                    <a:pt x="885" y="415"/>
                  </a:lnTo>
                  <a:lnTo>
                    <a:pt x="850" y="423"/>
                  </a:lnTo>
                  <a:lnTo>
                    <a:pt x="809" y="432"/>
                  </a:lnTo>
                  <a:lnTo>
                    <a:pt x="783" y="438"/>
                  </a:lnTo>
                  <a:lnTo>
                    <a:pt x="760" y="446"/>
                  </a:lnTo>
                  <a:lnTo>
                    <a:pt x="751" y="451"/>
                  </a:lnTo>
                  <a:lnTo>
                    <a:pt x="741" y="456"/>
                  </a:lnTo>
                  <a:lnTo>
                    <a:pt x="733" y="460"/>
                  </a:lnTo>
                  <a:lnTo>
                    <a:pt x="726" y="465"/>
                  </a:lnTo>
                  <a:lnTo>
                    <a:pt x="720" y="471"/>
                  </a:lnTo>
                  <a:lnTo>
                    <a:pt x="714" y="476"/>
                  </a:lnTo>
                  <a:lnTo>
                    <a:pt x="709" y="481"/>
                  </a:lnTo>
                  <a:lnTo>
                    <a:pt x="705" y="487"/>
                  </a:lnTo>
                  <a:lnTo>
                    <a:pt x="698" y="499"/>
                  </a:lnTo>
                  <a:lnTo>
                    <a:pt x="695" y="511"/>
                  </a:lnTo>
                  <a:lnTo>
                    <a:pt x="692" y="522"/>
                  </a:lnTo>
                  <a:lnTo>
                    <a:pt x="692" y="534"/>
                  </a:lnTo>
                  <a:lnTo>
                    <a:pt x="693" y="546"/>
                  </a:lnTo>
                  <a:lnTo>
                    <a:pt x="697" y="556"/>
                  </a:lnTo>
                  <a:lnTo>
                    <a:pt x="700" y="567"/>
                  </a:lnTo>
                  <a:lnTo>
                    <a:pt x="706" y="577"/>
                  </a:lnTo>
                  <a:lnTo>
                    <a:pt x="711" y="585"/>
                  </a:lnTo>
                  <a:lnTo>
                    <a:pt x="717" y="594"/>
                  </a:lnTo>
                  <a:lnTo>
                    <a:pt x="721" y="601"/>
                  </a:lnTo>
                  <a:lnTo>
                    <a:pt x="725" y="606"/>
                  </a:lnTo>
                  <a:lnTo>
                    <a:pt x="726" y="613"/>
                  </a:lnTo>
                  <a:lnTo>
                    <a:pt x="726" y="620"/>
                  </a:lnTo>
                  <a:lnTo>
                    <a:pt x="725" y="627"/>
                  </a:lnTo>
                  <a:lnTo>
                    <a:pt x="723" y="634"/>
                  </a:lnTo>
                  <a:lnTo>
                    <a:pt x="718" y="641"/>
                  </a:lnTo>
                  <a:lnTo>
                    <a:pt x="713" y="648"/>
                  </a:lnTo>
                  <a:lnTo>
                    <a:pt x="702" y="662"/>
                  </a:lnTo>
                  <a:lnTo>
                    <a:pt x="688" y="678"/>
                  </a:lnTo>
                  <a:lnTo>
                    <a:pt x="671" y="692"/>
                  </a:lnTo>
                  <a:lnTo>
                    <a:pt x="654" y="706"/>
                  </a:lnTo>
                  <a:lnTo>
                    <a:pt x="637" y="721"/>
                  </a:lnTo>
                  <a:lnTo>
                    <a:pt x="621" y="735"/>
                  </a:lnTo>
                  <a:lnTo>
                    <a:pt x="607" y="749"/>
                  </a:lnTo>
                  <a:lnTo>
                    <a:pt x="595" y="764"/>
                  </a:lnTo>
                  <a:lnTo>
                    <a:pt x="591" y="771"/>
                  </a:lnTo>
                  <a:lnTo>
                    <a:pt x="587" y="778"/>
                  </a:lnTo>
                  <a:lnTo>
                    <a:pt x="585" y="785"/>
                  </a:lnTo>
                  <a:lnTo>
                    <a:pt x="584" y="792"/>
                  </a:lnTo>
                  <a:lnTo>
                    <a:pt x="584" y="799"/>
                  </a:lnTo>
                  <a:lnTo>
                    <a:pt x="586" y="806"/>
                  </a:lnTo>
                  <a:lnTo>
                    <a:pt x="588" y="814"/>
                  </a:lnTo>
                  <a:lnTo>
                    <a:pt x="593" y="821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Freeform 135"/>
            <p:cNvSpPr/>
            <p:nvPr/>
          </p:nvSpPr>
          <p:spPr>
            <a:xfrm>
              <a:off x="7850520" y="5512320"/>
              <a:ext cx="253800" cy="1825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588" h="1055">
                  <a:moveTo>
                    <a:pt x="1576" y="239"/>
                  </a:moveTo>
                  <a:lnTo>
                    <a:pt x="1580" y="281"/>
                  </a:lnTo>
                  <a:lnTo>
                    <a:pt x="1585" y="322"/>
                  </a:lnTo>
                  <a:lnTo>
                    <a:pt x="1587" y="361"/>
                  </a:lnTo>
                  <a:lnTo>
                    <a:pt x="1588" y="397"/>
                  </a:lnTo>
                  <a:lnTo>
                    <a:pt x="1588" y="432"/>
                  </a:lnTo>
                  <a:lnTo>
                    <a:pt x="1588" y="465"/>
                  </a:lnTo>
                  <a:lnTo>
                    <a:pt x="1586" y="496"/>
                  </a:lnTo>
                  <a:lnTo>
                    <a:pt x="1583" y="527"/>
                  </a:lnTo>
                  <a:lnTo>
                    <a:pt x="1579" y="555"/>
                  </a:lnTo>
                  <a:lnTo>
                    <a:pt x="1574" y="580"/>
                  </a:lnTo>
                  <a:lnTo>
                    <a:pt x="1570" y="606"/>
                  </a:lnTo>
                  <a:lnTo>
                    <a:pt x="1563" y="629"/>
                  </a:lnTo>
                  <a:lnTo>
                    <a:pt x="1557" y="652"/>
                  </a:lnTo>
                  <a:lnTo>
                    <a:pt x="1549" y="672"/>
                  </a:lnTo>
                  <a:lnTo>
                    <a:pt x="1542" y="691"/>
                  </a:lnTo>
                  <a:lnTo>
                    <a:pt x="1533" y="709"/>
                  </a:lnTo>
                  <a:lnTo>
                    <a:pt x="1524" y="726"/>
                  </a:lnTo>
                  <a:lnTo>
                    <a:pt x="1515" y="743"/>
                  </a:lnTo>
                  <a:lnTo>
                    <a:pt x="1505" y="757"/>
                  </a:lnTo>
                  <a:lnTo>
                    <a:pt x="1496" y="771"/>
                  </a:lnTo>
                  <a:lnTo>
                    <a:pt x="1477" y="795"/>
                  </a:lnTo>
                  <a:lnTo>
                    <a:pt x="1458" y="816"/>
                  </a:lnTo>
                  <a:lnTo>
                    <a:pt x="1439" y="834"/>
                  </a:lnTo>
                  <a:lnTo>
                    <a:pt x="1421" y="849"/>
                  </a:lnTo>
                  <a:lnTo>
                    <a:pt x="1405" y="862"/>
                  </a:lnTo>
                  <a:lnTo>
                    <a:pt x="1391" y="872"/>
                  </a:lnTo>
                  <a:lnTo>
                    <a:pt x="1373" y="885"/>
                  </a:lnTo>
                  <a:lnTo>
                    <a:pt x="1357" y="898"/>
                  </a:lnTo>
                  <a:lnTo>
                    <a:pt x="1342" y="910"/>
                  </a:lnTo>
                  <a:lnTo>
                    <a:pt x="1330" y="923"/>
                  </a:lnTo>
                  <a:lnTo>
                    <a:pt x="1319" y="934"/>
                  </a:lnTo>
                  <a:lnTo>
                    <a:pt x="1309" y="946"/>
                  </a:lnTo>
                  <a:lnTo>
                    <a:pt x="1300" y="959"/>
                  </a:lnTo>
                  <a:lnTo>
                    <a:pt x="1293" y="971"/>
                  </a:lnTo>
                  <a:lnTo>
                    <a:pt x="1287" y="981"/>
                  </a:lnTo>
                  <a:lnTo>
                    <a:pt x="1282" y="993"/>
                  </a:lnTo>
                  <a:lnTo>
                    <a:pt x="1279" y="1004"/>
                  </a:lnTo>
                  <a:lnTo>
                    <a:pt x="1277" y="1015"/>
                  </a:lnTo>
                  <a:lnTo>
                    <a:pt x="1274" y="1025"/>
                  </a:lnTo>
                  <a:lnTo>
                    <a:pt x="1273" y="1035"/>
                  </a:lnTo>
                  <a:lnTo>
                    <a:pt x="1273" y="1045"/>
                  </a:lnTo>
                  <a:lnTo>
                    <a:pt x="1273" y="1055"/>
                  </a:lnTo>
                  <a:lnTo>
                    <a:pt x="1260" y="1035"/>
                  </a:lnTo>
                  <a:lnTo>
                    <a:pt x="1246" y="1016"/>
                  </a:lnTo>
                  <a:lnTo>
                    <a:pt x="1230" y="1000"/>
                  </a:lnTo>
                  <a:lnTo>
                    <a:pt x="1212" y="985"/>
                  </a:lnTo>
                  <a:lnTo>
                    <a:pt x="1194" y="971"/>
                  </a:lnTo>
                  <a:lnTo>
                    <a:pt x="1173" y="958"/>
                  </a:lnTo>
                  <a:lnTo>
                    <a:pt x="1152" y="945"/>
                  </a:lnTo>
                  <a:lnTo>
                    <a:pt x="1130" y="934"/>
                  </a:lnTo>
                  <a:lnTo>
                    <a:pt x="1107" y="925"/>
                  </a:lnTo>
                  <a:lnTo>
                    <a:pt x="1084" y="916"/>
                  </a:lnTo>
                  <a:lnTo>
                    <a:pt x="1060" y="907"/>
                  </a:lnTo>
                  <a:lnTo>
                    <a:pt x="1037" y="899"/>
                  </a:lnTo>
                  <a:lnTo>
                    <a:pt x="989" y="885"/>
                  </a:lnTo>
                  <a:lnTo>
                    <a:pt x="941" y="872"/>
                  </a:lnTo>
                  <a:lnTo>
                    <a:pt x="920" y="867"/>
                  </a:lnTo>
                  <a:lnTo>
                    <a:pt x="903" y="858"/>
                  </a:lnTo>
                  <a:lnTo>
                    <a:pt x="886" y="850"/>
                  </a:lnTo>
                  <a:lnTo>
                    <a:pt x="875" y="841"/>
                  </a:lnTo>
                  <a:lnTo>
                    <a:pt x="863" y="830"/>
                  </a:lnTo>
                  <a:lnTo>
                    <a:pt x="855" y="820"/>
                  </a:lnTo>
                  <a:lnTo>
                    <a:pt x="848" y="807"/>
                  </a:lnTo>
                  <a:lnTo>
                    <a:pt x="841" y="794"/>
                  </a:lnTo>
                  <a:lnTo>
                    <a:pt x="830" y="767"/>
                  </a:lnTo>
                  <a:lnTo>
                    <a:pt x="820" y="737"/>
                  </a:lnTo>
                  <a:lnTo>
                    <a:pt x="814" y="722"/>
                  </a:lnTo>
                  <a:lnTo>
                    <a:pt x="806" y="705"/>
                  </a:lnTo>
                  <a:lnTo>
                    <a:pt x="798" y="688"/>
                  </a:lnTo>
                  <a:lnTo>
                    <a:pt x="786" y="672"/>
                  </a:lnTo>
                  <a:lnTo>
                    <a:pt x="753" y="659"/>
                  </a:lnTo>
                  <a:lnTo>
                    <a:pt x="722" y="646"/>
                  </a:lnTo>
                  <a:lnTo>
                    <a:pt x="692" y="632"/>
                  </a:lnTo>
                  <a:lnTo>
                    <a:pt x="666" y="617"/>
                  </a:lnTo>
                  <a:lnTo>
                    <a:pt x="640" y="601"/>
                  </a:lnTo>
                  <a:lnTo>
                    <a:pt x="618" y="586"/>
                  </a:lnTo>
                  <a:lnTo>
                    <a:pt x="597" y="571"/>
                  </a:lnTo>
                  <a:lnTo>
                    <a:pt x="579" y="556"/>
                  </a:lnTo>
                  <a:lnTo>
                    <a:pt x="549" y="529"/>
                  </a:lnTo>
                  <a:lnTo>
                    <a:pt x="527" y="507"/>
                  </a:lnTo>
                  <a:lnTo>
                    <a:pt x="514" y="493"/>
                  </a:lnTo>
                  <a:lnTo>
                    <a:pt x="510" y="487"/>
                  </a:lnTo>
                  <a:lnTo>
                    <a:pt x="354" y="441"/>
                  </a:lnTo>
                  <a:lnTo>
                    <a:pt x="0" y="112"/>
                  </a:lnTo>
                  <a:lnTo>
                    <a:pt x="15" y="47"/>
                  </a:lnTo>
                  <a:lnTo>
                    <a:pt x="548" y="0"/>
                  </a:lnTo>
                  <a:lnTo>
                    <a:pt x="579" y="55"/>
                  </a:lnTo>
                  <a:lnTo>
                    <a:pt x="927" y="23"/>
                  </a:lnTo>
                  <a:lnTo>
                    <a:pt x="1576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Freeform 136"/>
            <p:cNvSpPr/>
            <p:nvPr/>
          </p:nvSpPr>
          <p:spPr>
            <a:xfrm>
              <a:off x="7850520" y="5512320"/>
              <a:ext cx="253800" cy="1825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588" h="1055">
                  <a:moveTo>
                    <a:pt x="1576" y="239"/>
                  </a:moveTo>
                  <a:lnTo>
                    <a:pt x="1580" y="281"/>
                  </a:lnTo>
                  <a:lnTo>
                    <a:pt x="1585" y="322"/>
                  </a:lnTo>
                  <a:lnTo>
                    <a:pt x="1587" y="361"/>
                  </a:lnTo>
                  <a:lnTo>
                    <a:pt x="1588" y="397"/>
                  </a:lnTo>
                  <a:lnTo>
                    <a:pt x="1588" y="432"/>
                  </a:lnTo>
                  <a:lnTo>
                    <a:pt x="1588" y="465"/>
                  </a:lnTo>
                  <a:lnTo>
                    <a:pt x="1586" y="496"/>
                  </a:lnTo>
                  <a:lnTo>
                    <a:pt x="1583" y="527"/>
                  </a:lnTo>
                  <a:lnTo>
                    <a:pt x="1579" y="555"/>
                  </a:lnTo>
                  <a:lnTo>
                    <a:pt x="1574" y="580"/>
                  </a:lnTo>
                  <a:lnTo>
                    <a:pt x="1570" y="606"/>
                  </a:lnTo>
                  <a:lnTo>
                    <a:pt x="1563" y="629"/>
                  </a:lnTo>
                  <a:lnTo>
                    <a:pt x="1557" y="652"/>
                  </a:lnTo>
                  <a:lnTo>
                    <a:pt x="1549" y="672"/>
                  </a:lnTo>
                  <a:lnTo>
                    <a:pt x="1542" y="691"/>
                  </a:lnTo>
                  <a:lnTo>
                    <a:pt x="1533" y="709"/>
                  </a:lnTo>
                  <a:lnTo>
                    <a:pt x="1524" y="726"/>
                  </a:lnTo>
                  <a:lnTo>
                    <a:pt x="1515" y="743"/>
                  </a:lnTo>
                  <a:lnTo>
                    <a:pt x="1505" y="757"/>
                  </a:lnTo>
                  <a:lnTo>
                    <a:pt x="1496" y="771"/>
                  </a:lnTo>
                  <a:lnTo>
                    <a:pt x="1477" y="795"/>
                  </a:lnTo>
                  <a:lnTo>
                    <a:pt x="1458" y="816"/>
                  </a:lnTo>
                  <a:lnTo>
                    <a:pt x="1439" y="834"/>
                  </a:lnTo>
                  <a:lnTo>
                    <a:pt x="1421" y="849"/>
                  </a:lnTo>
                  <a:lnTo>
                    <a:pt x="1405" y="862"/>
                  </a:lnTo>
                  <a:lnTo>
                    <a:pt x="1391" y="872"/>
                  </a:lnTo>
                  <a:lnTo>
                    <a:pt x="1373" y="885"/>
                  </a:lnTo>
                  <a:lnTo>
                    <a:pt x="1357" y="898"/>
                  </a:lnTo>
                  <a:lnTo>
                    <a:pt x="1342" y="910"/>
                  </a:lnTo>
                  <a:lnTo>
                    <a:pt x="1330" y="923"/>
                  </a:lnTo>
                  <a:lnTo>
                    <a:pt x="1319" y="934"/>
                  </a:lnTo>
                  <a:lnTo>
                    <a:pt x="1309" y="946"/>
                  </a:lnTo>
                  <a:lnTo>
                    <a:pt x="1300" y="959"/>
                  </a:lnTo>
                  <a:lnTo>
                    <a:pt x="1293" y="971"/>
                  </a:lnTo>
                  <a:lnTo>
                    <a:pt x="1287" y="981"/>
                  </a:lnTo>
                  <a:lnTo>
                    <a:pt x="1282" y="993"/>
                  </a:lnTo>
                  <a:lnTo>
                    <a:pt x="1279" y="1004"/>
                  </a:lnTo>
                  <a:lnTo>
                    <a:pt x="1277" y="1015"/>
                  </a:lnTo>
                  <a:lnTo>
                    <a:pt x="1274" y="1025"/>
                  </a:lnTo>
                  <a:lnTo>
                    <a:pt x="1273" y="1035"/>
                  </a:lnTo>
                  <a:lnTo>
                    <a:pt x="1273" y="1045"/>
                  </a:lnTo>
                  <a:lnTo>
                    <a:pt x="1273" y="1055"/>
                  </a:lnTo>
                  <a:lnTo>
                    <a:pt x="1260" y="1035"/>
                  </a:lnTo>
                  <a:lnTo>
                    <a:pt x="1246" y="1016"/>
                  </a:lnTo>
                  <a:lnTo>
                    <a:pt x="1230" y="1000"/>
                  </a:lnTo>
                  <a:lnTo>
                    <a:pt x="1212" y="985"/>
                  </a:lnTo>
                  <a:lnTo>
                    <a:pt x="1194" y="971"/>
                  </a:lnTo>
                  <a:lnTo>
                    <a:pt x="1173" y="958"/>
                  </a:lnTo>
                  <a:lnTo>
                    <a:pt x="1152" y="945"/>
                  </a:lnTo>
                  <a:lnTo>
                    <a:pt x="1130" y="934"/>
                  </a:lnTo>
                  <a:lnTo>
                    <a:pt x="1107" y="925"/>
                  </a:lnTo>
                  <a:lnTo>
                    <a:pt x="1084" y="916"/>
                  </a:lnTo>
                  <a:lnTo>
                    <a:pt x="1060" y="907"/>
                  </a:lnTo>
                  <a:lnTo>
                    <a:pt x="1037" y="899"/>
                  </a:lnTo>
                  <a:lnTo>
                    <a:pt x="989" y="885"/>
                  </a:lnTo>
                  <a:lnTo>
                    <a:pt x="941" y="872"/>
                  </a:lnTo>
                  <a:lnTo>
                    <a:pt x="920" y="867"/>
                  </a:lnTo>
                  <a:lnTo>
                    <a:pt x="903" y="858"/>
                  </a:lnTo>
                  <a:lnTo>
                    <a:pt x="886" y="850"/>
                  </a:lnTo>
                  <a:lnTo>
                    <a:pt x="875" y="841"/>
                  </a:lnTo>
                  <a:lnTo>
                    <a:pt x="863" y="830"/>
                  </a:lnTo>
                  <a:lnTo>
                    <a:pt x="855" y="820"/>
                  </a:lnTo>
                  <a:lnTo>
                    <a:pt x="848" y="807"/>
                  </a:lnTo>
                  <a:lnTo>
                    <a:pt x="841" y="794"/>
                  </a:lnTo>
                  <a:lnTo>
                    <a:pt x="830" y="767"/>
                  </a:lnTo>
                  <a:lnTo>
                    <a:pt x="820" y="737"/>
                  </a:lnTo>
                  <a:lnTo>
                    <a:pt x="814" y="722"/>
                  </a:lnTo>
                  <a:lnTo>
                    <a:pt x="806" y="705"/>
                  </a:lnTo>
                  <a:lnTo>
                    <a:pt x="798" y="688"/>
                  </a:lnTo>
                  <a:lnTo>
                    <a:pt x="786" y="672"/>
                  </a:lnTo>
                  <a:lnTo>
                    <a:pt x="753" y="659"/>
                  </a:lnTo>
                  <a:lnTo>
                    <a:pt x="722" y="646"/>
                  </a:lnTo>
                  <a:lnTo>
                    <a:pt x="692" y="632"/>
                  </a:lnTo>
                  <a:lnTo>
                    <a:pt x="666" y="617"/>
                  </a:lnTo>
                  <a:lnTo>
                    <a:pt x="640" y="601"/>
                  </a:lnTo>
                  <a:lnTo>
                    <a:pt x="618" y="586"/>
                  </a:lnTo>
                  <a:lnTo>
                    <a:pt x="597" y="571"/>
                  </a:lnTo>
                  <a:lnTo>
                    <a:pt x="579" y="556"/>
                  </a:lnTo>
                  <a:lnTo>
                    <a:pt x="549" y="529"/>
                  </a:lnTo>
                  <a:lnTo>
                    <a:pt x="527" y="507"/>
                  </a:lnTo>
                  <a:lnTo>
                    <a:pt x="514" y="493"/>
                  </a:lnTo>
                  <a:lnTo>
                    <a:pt x="510" y="487"/>
                  </a:lnTo>
                  <a:lnTo>
                    <a:pt x="354" y="441"/>
                  </a:lnTo>
                  <a:lnTo>
                    <a:pt x="0" y="112"/>
                  </a:lnTo>
                  <a:lnTo>
                    <a:pt x="15" y="47"/>
                  </a:lnTo>
                  <a:lnTo>
                    <a:pt x="548" y="0"/>
                  </a:lnTo>
                  <a:lnTo>
                    <a:pt x="579" y="55"/>
                  </a:lnTo>
                  <a:lnTo>
                    <a:pt x="927" y="23"/>
                  </a:lnTo>
                  <a:lnTo>
                    <a:pt x="1576" y="23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Freeform 137"/>
            <p:cNvSpPr/>
            <p:nvPr/>
          </p:nvSpPr>
          <p:spPr>
            <a:xfrm>
              <a:off x="7764120" y="5400360"/>
              <a:ext cx="425520" cy="15192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666" h="882">
                  <a:moveTo>
                    <a:pt x="541" y="755"/>
                  </a:moveTo>
                  <a:lnTo>
                    <a:pt x="556" y="690"/>
                  </a:lnTo>
                  <a:lnTo>
                    <a:pt x="1089" y="643"/>
                  </a:lnTo>
                  <a:lnTo>
                    <a:pt x="1120" y="698"/>
                  </a:lnTo>
                  <a:lnTo>
                    <a:pt x="1468" y="666"/>
                  </a:lnTo>
                  <a:lnTo>
                    <a:pt x="2117" y="882"/>
                  </a:lnTo>
                  <a:lnTo>
                    <a:pt x="2317" y="851"/>
                  </a:lnTo>
                  <a:lnTo>
                    <a:pt x="2316" y="843"/>
                  </a:lnTo>
                  <a:lnTo>
                    <a:pt x="2312" y="822"/>
                  </a:lnTo>
                  <a:lnTo>
                    <a:pt x="2307" y="790"/>
                  </a:lnTo>
                  <a:lnTo>
                    <a:pt x="2302" y="753"/>
                  </a:lnTo>
                  <a:lnTo>
                    <a:pt x="2301" y="733"/>
                  </a:lnTo>
                  <a:lnTo>
                    <a:pt x="2301" y="713"/>
                  </a:lnTo>
                  <a:lnTo>
                    <a:pt x="2302" y="694"/>
                  </a:lnTo>
                  <a:lnTo>
                    <a:pt x="2305" y="676"/>
                  </a:lnTo>
                  <a:lnTo>
                    <a:pt x="2308" y="658"/>
                  </a:lnTo>
                  <a:lnTo>
                    <a:pt x="2314" y="643"/>
                  </a:lnTo>
                  <a:lnTo>
                    <a:pt x="2319" y="637"/>
                  </a:lnTo>
                  <a:lnTo>
                    <a:pt x="2322" y="630"/>
                  </a:lnTo>
                  <a:lnTo>
                    <a:pt x="2327" y="625"/>
                  </a:lnTo>
                  <a:lnTo>
                    <a:pt x="2333" y="621"/>
                  </a:lnTo>
                  <a:lnTo>
                    <a:pt x="2344" y="610"/>
                  </a:lnTo>
                  <a:lnTo>
                    <a:pt x="2357" y="599"/>
                  </a:lnTo>
                  <a:lnTo>
                    <a:pt x="2371" y="586"/>
                  </a:lnTo>
                  <a:lnTo>
                    <a:pt x="2386" y="572"/>
                  </a:lnTo>
                  <a:lnTo>
                    <a:pt x="2418" y="540"/>
                  </a:lnTo>
                  <a:lnTo>
                    <a:pt x="2453" y="507"/>
                  </a:lnTo>
                  <a:lnTo>
                    <a:pt x="2473" y="492"/>
                  </a:lnTo>
                  <a:lnTo>
                    <a:pt x="2494" y="477"/>
                  </a:lnTo>
                  <a:lnTo>
                    <a:pt x="2515" y="463"/>
                  </a:lnTo>
                  <a:lnTo>
                    <a:pt x="2538" y="450"/>
                  </a:lnTo>
                  <a:lnTo>
                    <a:pt x="2550" y="444"/>
                  </a:lnTo>
                  <a:lnTo>
                    <a:pt x="2563" y="438"/>
                  </a:lnTo>
                  <a:lnTo>
                    <a:pt x="2576" y="434"/>
                  </a:lnTo>
                  <a:lnTo>
                    <a:pt x="2588" y="429"/>
                  </a:lnTo>
                  <a:lnTo>
                    <a:pt x="2601" y="426"/>
                  </a:lnTo>
                  <a:lnTo>
                    <a:pt x="2615" y="422"/>
                  </a:lnTo>
                  <a:lnTo>
                    <a:pt x="2629" y="420"/>
                  </a:lnTo>
                  <a:lnTo>
                    <a:pt x="2643" y="419"/>
                  </a:lnTo>
                  <a:lnTo>
                    <a:pt x="2645" y="403"/>
                  </a:lnTo>
                  <a:lnTo>
                    <a:pt x="2646" y="387"/>
                  </a:lnTo>
                  <a:lnTo>
                    <a:pt x="2648" y="370"/>
                  </a:lnTo>
                  <a:lnTo>
                    <a:pt x="2652" y="351"/>
                  </a:lnTo>
                  <a:lnTo>
                    <a:pt x="2659" y="314"/>
                  </a:lnTo>
                  <a:lnTo>
                    <a:pt x="2664" y="276"/>
                  </a:lnTo>
                  <a:lnTo>
                    <a:pt x="2666" y="257"/>
                  </a:lnTo>
                  <a:lnTo>
                    <a:pt x="2666" y="239"/>
                  </a:lnTo>
                  <a:lnTo>
                    <a:pt x="2664" y="222"/>
                  </a:lnTo>
                  <a:lnTo>
                    <a:pt x="2662" y="206"/>
                  </a:lnTo>
                  <a:lnTo>
                    <a:pt x="2660" y="198"/>
                  </a:lnTo>
                  <a:lnTo>
                    <a:pt x="2656" y="191"/>
                  </a:lnTo>
                  <a:lnTo>
                    <a:pt x="2653" y="184"/>
                  </a:lnTo>
                  <a:lnTo>
                    <a:pt x="2649" y="178"/>
                  </a:lnTo>
                  <a:lnTo>
                    <a:pt x="2645" y="172"/>
                  </a:lnTo>
                  <a:lnTo>
                    <a:pt x="2639" y="166"/>
                  </a:lnTo>
                  <a:lnTo>
                    <a:pt x="2633" y="160"/>
                  </a:lnTo>
                  <a:lnTo>
                    <a:pt x="2626" y="157"/>
                  </a:lnTo>
                  <a:lnTo>
                    <a:pt x="2597" y="141"/>
                  </a:lnTo>
                  <a:lnTo>
                    <a:pt x="2569" y="128"/>
                  </a:lnTo>
                  <a:lnTo>
                    <a:pt x="2539" y="116"/>
                  </a:lnTo>
                  <a:lnTo>
                    <a:pt x="2511" y="102"/>
                  </a:lnTo>
                  <a:lnTo>
                    <a:pt x="2496" y="95"/>
                  </a:lnTo>
                  <a:lnTo>
                    <a:pt x="2482" y="86"/>
                  </a:lnTo>
                  <a:lnTo>
                    <a:pt x="2468" y="76"/>
                  </a:lnTo>
                  <a:lnTo>
                    <a:pt x="2454" y="65"/>
                  </a:lnTo>
                  <a:lnTo>
                    <a:pt x="2439" y="52"/>
                  </a:lnTo>
                  <a:lnTo>
                    <a:pt x="2425" y="37"/>
                  </a:lnTo>
                  <a:lnTo>
                    <a:pt x="2411" y="20"/>
                  </a:lnTo>
                  <a:lnTo>
                    <a:pt x="2396" y="0"/>
                  </a:lnTo>
                  <a:lnTo>
                    <a:pt x="625" y="240"/>
                  </a:lnTo>
                  <a:lnTo>
                    <a:pt x="618" y="246"/>
                  </a:lnTo>
                  <a:lnTo>
                    <a:pt x="613" y="252"/>
                  </a:lnTo>
                  <a:lnTo>
                    <a:pt x="611" y="260"/>
                  </a:lnTo>
                  <a:lnTo>
                    <a:pt x="607" y="269"/>
                  </a:lnTo>
                  <a:lnTo>
                    <a:pt x="605" y="290"/>
                  </a:lnTo>
                  <a:lnTo>
                    <a:pt x="603" y="311"/>
                  </a:lnTo>
                  <a:lnTo>
                    <a:pt x="600" y="323"/>
                  </a:lnTo>
                  <a:lnTo>
                    <a:pt x="598" y="333"/>
                  </a:lnTo>
                  <a:lnTo>
                    <a:pt x="593" y="343"/>
                  </a:lnTo>
                  <a:lnTo>
                    <a:pt x="589" y="351"/>
                  </a:lnTo>
                  <a:lnTo>
                    <a:pt x="582" y="359"/>
                  </a:lnTo>
                  <a:lnTo>
                    <a:pt x="573" y="365"/>
                  </a:lnTo>
                  <a:lnTo>
                    <a:pt x="569" y="367"/>
                  </a:lnTo>
                  <a:lnTo>
                    <a:pt x="563" y="370"/>
                  </a:lnTo>
                  <a:lnTo>
                    <a:pt x="557" y="372"/>
                  </a:lnTo>
                  <a:lnTo>
                    <a:pt x="550" y="372"/>
                  </a:lnTo>
                  <a:lnTo>
                    <a:pt x="538" y="374"/>
                  </a:lnTo>
                  <a:lnTo>
                    <a:pt x="528" y="377"/>
                  </a:lnTo>
                  <a:lnTo>
                    <a:pt x="517" y="380"/>
                  </a:lnTo>
                  <a:lnTo>
                    <a:pt x="507" y="385"/>
                  </a:lnTo>
                  <a:lnTo>
                    <a:pt x="498" y="389"/>
                  </a:lnTo>
                  <a:lnTo>
                    <a:pt x="488" y="395"/>
                  </a:lnTo>
                  <a:lnTo>
                    <a:pt x="480" y="401"/>
                  </a:lnTo>
                  <a:lnTo>
                    <a:pt x="472" y="408"/>
                  </a:lnTo>
                  <a:lnTo>
                    <a:pt x="455" y="423"/>
                  </a:lnTo>
                  <a:lnTo>
                    <a:pt x="440" y="438"/>
                  </a:lnTo>
                  <a:lnTo>
                    <a:pt x="424" y="456"/>
                  </a:lnTo>
                  <a:lnTo>
                    <a:pt x="409" y="474"/>
                  </a:lnTo>
                  <a:lnTo>
                    <a:pt x="394" y="491"/>
                  </a:lnTo>
                  <a:lnTo>
                    <a:pt x="377" y="507"/>
                  </a:lnTo>
                  <a:lnTo>
                    <a:pt x="360" y="524"/>
                  </a:lnTo>
                  <a:lnTo>
                    <a:pt x="341" y="539"/>
                  </a:lnTo>
                  <a:lnTo>
                    <a:pt x="332" y="545"/>
                  </a:lnTo>
                  <a:lnTo>
                    <a:pt x="321" y="552"/>
                  </a:lnTo>
                  <a:lnTo>
                    <a:pt x="311" y="556"/>
                  </a:lnTo>
                  <a:lnTo>
                    <a:pt x="299" y="562"/>
                  </a:lnTo>
                  <a:lnTo>
                    <a:pt x="287" y="566"/>
                  </a:lnTo>
                  <a:lnTo>
                    <a:pt x="274" y="569"/>
                  </a:lnTo>
                  <a:lnTo>
                    <a:pt x="262" y="573"/>
                  </a:lnTo>
                  <a:lnTo>
                    <a:pt x="248" y="574"/>
                  </a:lnTo>
                  <a:lnTo>
                    <a:pt x="236" y="575"/>
                  </a:lnTo>
                  <a:lnTo>
                    <a:pt x="224" y="577"/>
                  </a:lnTo>
                  <a:lnTo>
                    <a:pt x="213" y="580"/>
                  </a:lnTo>
                  <a:lnTo>
                    <a:pt x="201" y="583"/>
                  </a:lnTo>
                  <a:lnTo>
                    <a:pt x="177" y="592"/>
                  </a:lnTo>
                  <a:lnTo>
                    <a:pt x="154" y="601"/>
                  </a:lnTo>
                  <a:lnTo>
                    <a:pt x="132" y="613"/>
                  </a:lnTo>
                  <a:lnTo>
                    <a:pt x="111" y="625"/>
                  </a:lnTo>
                  <a:lnTo>
                    <a:pt x="91" y="639"/>
                  </a:lnTo>
                  <a:lnTo>
                    <a:pt x="72" y="653"/>
                  </a:lnTo>
                  <a:lnTo>
                    <a:pt x="56" y="669"/>
                  </a:lnTo>
                  <a:lnTo>
                    <a:pt x="41" y="683"/>
                  </a:lnTo>
                  <a:lnTo>
                    <a:pt x="28" y="697"/>
                  </a:lnTo>
                  <a:lnTo>
                    <a:pt x="19" y="709"/>
                  </a:lnTo>
                  <a:lnTo>
                    <a:pt x="12" y="720"/>
                  </a:lnTo>
                  <a:lnTo>
                    <a:pt x="7" y="731"/>
                  </a:lnTo>
                  <a:lnTo>
                    <a:pt x="6" y="735"/>
                  </a:lnTo>
                  <a:lnTo>
                    <a:pt x="6" y="739"/>
                  </a:lnTo>
                  <a:lnTo>
                    <a:pt x="7" y="741"/>
                  </a:lnTo>
                  <a:lnTo>
                    <a:pt x="8" y="745"/>
                  </a:lnTo>
                  <a:lnTo>
                    <a:pt x="12" y="748"/>
                  </a:lnTo>
                  <a:lnTo>
                    <a:pt x="15" y="754"/>
                  </a:lnTo>
                  <a:lnTo>
                    <a:pt x="17" y="759"/>
                  </a:lnTo>
                  <a:lnTo>
                    <a:pt x="19" y="763"/>
                  </a:lnTo>
                  <a:lnTo>
                    <a:pt x="20" y="775"/>
                  </a:lnTo>
                  <a:lnTo>
                    <a:pt x="17" y="785"/>
                  </a:lnTo>
                  <a:lnTo>
                    <a:pt x="15" y="795"/>
                  </a:lnTo>
                  <a:lnTo>
                    <a:pt x="10" y="803"/>
                  </a:lnTo>
                  <a:lnTo>
                    <a:pt x="5" y="810"/>
                  </a:lnTo>
                  <a:lnTo>
                    <a:pt x="0" y="813"/>
                  </a:lnTo>
                  <a:lnTo>
                    <a:pt x="541" y="75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Freeform 138"/>
            <p:cNvSpPr/>
            <p:nvPr/>
          </p:nvSpPr>
          <p:spPr>
            <a:xfrm>
              <a:off x="7764120" y="5400360"/>
              <a:ext cx="425520" cy="15192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666" h="882">
                  <a:moveTo>
                    <a:pt x="541" y="755"/>
                  </a:moveTo>
                  <a:lnTo>
                    <a:pt x="556" y="690"/>
                  </a:lnTo>
                  <a:lnTo>
                    <a:pt x="1089" y="643"/>
                  </a:lnTo>
                  <a:lnTo>
                    <a:pt x="1120" y="698"/>
                  </a:lnTo>
                  <a:lnTo>
                    <a:pt x="1468" y="666"/>
                  </a:lnTo>
                  <a:lnTo>
                    <a:pt x="2117" y="882"/>
                  </a:lnTo>
                  <a:lnTo>
                    <a:pt x="2317" y="851"/>
                  </a:lnTo>
                  <a:lnTo>
                    <a:pt x="2316" y="843"/>
                  </a:lnTo>
                  <a:lnTo>
                    <a:pt x="2312" y="822"/>
                  </a:lnTo>
                  <a:lnTo>
                    <a:pt x="2307" y="790"/>
                  </a:lnTo>
                  <a:lnTo>
                    <a:pt x="2302" y="753"/>
                  </a:lnTo>
                  <a:lnTo>
                    <a:pt x="2301" y="733"/>
                  </a:lnTo>
                  <a:lnTo>
                    <a:pt x="2301" y="713"/>
                  </a:lnTo>
                  <a:lnTo>
                    <a:pt x="2302" y="694"/>
                  </a:lnTo>
                  <a:lnTo>
                    <a:pt x="2305" y="676"/>
                  </a:lnTo>
                  <a:lnTo>
                    <a:pt x="2308" y="658"/>
                  </a:lnTo>
                  <a:lnTo>
                    <a:pt x="2314" y="643"/>
                  </a:lnTo>
                  <a:lnTo>
                    <a:pt x="2319" y="637"/>
                  </a:lnTo>
                  <a:lnTo>
                    <a:pt x="2322" y="630"/>
                  </a:lnTo>
                  <a:lnTo>
                    <a:pt x="2327" y="625"/>
                  </a:lnTo>
                  <a:lnTo>
                    <a:pt x="2333" y="621"/>
                  </a:lnTo>
                  <a:lnTo>
                    <a:pt x="2344" y="610"/>
                  </a:lnTo>
                  <a:lnTo>
                    <a:pt x="2357" y="599"/>
                  </a:lnTo>
                  <a:lnTo>
                    <a:pt x="2371" y="586"/>
                  </a:lnTo>
                  <a:lnTo>
                    <a:pt x="2386" y="572"/>
                  </a:lnTo>
                  <a:lnTo>
                    <a:pt x="2418" y="540"/>
                  </a:lnTo>
                  <a:lnTo>
                    <a:pt x="2453" y="507"/>
                  </a:lnTo>
                  <a:lnTo>
                    <a:pt x="2473" y="492"/>
                  </a:lnTo>
                  <a:lnTo>
                    <a:pt x="2494" y="477"/>
                  </a:lnTo>
                  <a:lnTo>
                    <a:pt x="2515" y="463"/>
                  </a:lnTo>
                  <a:lnTo>
                    <a:pt x="2538" y="450"/>
                  </a:lnTo>
                  <a:lnTo>
                    <a:pt x="2550" y="444"/>
                  </a:lnTo>
                  <a:lnTo>
                    <a:pt x="2563" y="438"/>
                  </a:lnTo>
                  <a:lnTo>
                    <a:pt x="2576" y="434"/>
                  </a:lnTo>
                  <a:lnTo>
                    <a:pt x="2588" y="429"/>
                  </a:lnTo>
                  <a:lnTo>
                    <a:pt x="2601" y="426"/>
                  </a:lnTo>
                  <a:lnTo>
                    <a:pt x="2615" y="422"/>
                  </a:lnTo>
                  <a:lnTo>
                    <a:pt x="2629" y="420"/>
                  </a:lnTo>
                  <a:lnTo>
                    <a:pt x="2643" y="419"/>
                  </a:lnTo>
                  <a:lnTo>
                    <a:pt x="2645" y="403"/>
                  </a:lnTo>
                  <a:lnTo>
                    <a:pt x="2646" y="387"/>
                  </a:lnTo>
                  <a:lnTo>
                    <a:pt x="2648" y="370"/>
                  </a:lnTo>
                  <a:lnTo>
                    <a:pt x="2652" y="351"/>
                  </a:lnTo>
                  <a:lnTo>
                    <a:pt x="2659" y="314"/>
                  </a:lnTo>
                  <a:lnTo>
                    <a:pt x="2664" y="276"/>
                  </a:lnTo>
                  <a:lnTo>
                    <a:pt x="2666" y="257"/>
                  </a:lnTo>
                  <a:lnTo>
                    <a:pt x="2666" y="239"/>
                  </a:lnTo>
                  <a:lnTo>
                    <a:pt x="2664" y="222"/>
                  </a:lnTo>
                  <a:lnTo>
                    <a:pt x="2662" y="206"/>
                  </a:lnTo>
                  <a:lnTo>
                    <a:pt x="2660" y="198"/>
                  </a:lnTo>
                  <a:lnTo>
                    <a:pt x="2656" y="191"/>
                  </a:lnTo>
                  <a:lnTo>
                    <a:pt x="2653" y="184"/>
                  </a:lnTo>
                  <a:lnTo>
                    <a:pt x="2649" y="178"/>
                  </a:lnTo>
                  <a:lnTo>
                    <a:pt x="2645" y="172"/>
                  </a:lnTo>
                  <a:lnTo>
                    <a:pt x="2639" y="166"/>
                  </a:lnTo>
                  <a:lnTo>
                    <a:pt x="2633" y="160"/>
                  </a:lnTo>
                  <a:lnTo>
                    <a:pt x="2626" y="157"/>
                  </a:lnTo>
                  <a:lnTo>
                    <a:pt x="2597" y="141"/>
                  </a:lnTo>
                  <a:lnTo>
                    <a:pt x="2569" y="128"/>
                  </a:lnTo>
                  <a:lnTo>
                    <a:pt x="2539" y="116"/>
                  </a:lnTo>
                  <a:lnTo>
                    <a:pt x="2511" y="102"/>
                  </a:lnTo>
                  <a:lnTo>
                    <a:pt x="2496" y="95"/>
                  </a:lnTo>
                  <a:lnTo>
                    <a:pt x="2482" y="86"/>
                  </a:lnTo>
                  <a:lnTo>
                    <a:pt x="2468" y="76"/>
                  </a:lnTo>
                  <a:lnTo>
                    <a:pt x="2454" y="65"/>
                  </a:lnTo>
                  <a:lnTo>
                    <a:pt x="2439" y="52"/>
                  </a:lnTo>
                  <a:lnTo>
                    <a:pt x="2425" y="37"/>
                  </a:lnTo>
                  <a:lnTo>
                    <a:pt x="2411" y="20"/>
                  </a:lnTo>
                  <a:lnTo>
                    <a:pt x="2396" y="0"/>
                  </a:lnTo>
                  <a:lnTo>
                    <a:pt x="625" y="240"/>
                  </a:lnTo>
                  <a:lnTo>
                    <a:pt x="618" y="246"/>
                  </a:lnTo>
                  <a:lnTo>
                    <a:pt x="613" y="252"/>
                  </a:lnTo>
                  <a:lnTo>
                    <a:pt x="611" y="260"/>
                  </a:lnTo>
                  <a:lnTo>
                    <a:pt x="607" y="269"/>
                  </a:lnTo>
                  <a:lnTo>
                    <a:pt x="605" y="290"/>
                  </a:lnTo>
                  <a:lnTo>
                    <a:pt x="603" y="311"/>
                  </a:lnTo>
                  <a:lnTo>
                    <a:pt x="600" y="323"/>
                  </a:lnTo>
                  <a:lnTo>
                    <a:pt x="598" y="333"/>
                  </a:lnTo>
                  <a:lnTo>
                    <a:pt x="593" y="343"/>
                  </a:lnTo>
                  <a:lnTo>
                    <a:pt x="589" y="351"/>
                  </a:lnTo>
                  <a:lnTo>
                    <a:pt x="582" y="359"/>
                  </a:lnTo>
                  <a:lnTo>
                    <a:pt x="573" y="365"/>
                  </a:lnTo>
                  <a:lnTo>
                    <a:pt x="569" y="367"/>
                  </a:lnTo>
                  <a:lnTo>
                    <a:pt x="563" y="370"/>
                  </a:lnTo>
                  <a:lnTo>
                    <a:pt x="557" y="372"/>
                  </a:lnTo>
                  <a:lnTo>
                    <a:pt x="550" y="372"/>
                  </a:lnTo>
                  <a:lnTo>
                    <a:pt x="538" y="374"/>
                  </a:lnTo>
                  <a:lnTo>
                    <a:pt x="528" y="377"/>
                  </a:lnTo>
                  <a:lnTo>
                    <a:pt x="517" y="380"/>
                  </a:lnTo>
                  <a:lnTo>
                    <a:pt x="507" y="385"/>
                  </a:lnTo>
                  <a:lnTo>
                    <a:pt x="498" y="389"/>
                  </a:lnTo>
                  <a:lnTo>
                    <a:pt x="488" y="395"/>
                  </a:lnTo>
                  <a:lnTo>
                    <a:pt x="480" y="401"/>
                  </a:lnTo>
                  <a:lnTo>
                    <a:pt x="472" y="408"/>
                  </a:lnTo>
                  <a:lnTo>
                    <a:pt x="455" y="423"/>
                  </a:lnTo>
                  <a:lnTo>
                    <a:pt x="440" y="438"/>
                  </a:lnTo>
                  <a:lnTo>
                    <a:pt x="424" y="456"/>
                  </a:lnTo>
                  <a:lnTo>
                    <a:pt x="409" y="474"/>
                  </a:lnTo>
                  <a:lnTo>
                    <a:pt x="394" y="491"/>
                  </a:lnTo>
                  <a:lnTo>
                    <a:pt x="377" y="507"/>
                  </a:lnTo>
                  <a:lnTo>
                    <a:pt x="360" y="524"/>
                  </a:lnTo>
                  <a:lnTo>
                    <a:pt x="341" y="539"/>
                  </a:lnTo>
                  <a:lnTo>
                    <a:pt x="332" y="545"/>
                  </a:lnTo>
                  <a:lnTo>
                    <a:pt x="321" y="552"/>
                  </a:lnTo>
                  <a:lnTo>
                    <a:pt x="311" y="556"/>
                  </a:lnTo>
                  <a:lnTo>
                    <a:pt x="299" y="562"/>
                  </a:lnTo>
                  <a:lnTo>
                    <a:pt x="287" y="566"/>
                  </a:lnTo>
                  <a:lnTo>
                    <a:pt x="274" y="569"/>
                  </a:lnTo>
                  <a:lnTo>
                    <a:pt x="262" y="573"/>
                  </a:lnTo>
                  <a:lnTo>
                    <a:pt x="248" y="574"/>
                  </a:lnTo>
                  <a:lnTo>
                    <a:pt x="236" y="575"/>
                  </a:lnTo>
                  <a:lnTo>
                    <a:pt x="224" y="577"/>
                  </a:lnTo>
                  <a:lnTo>
                    <a:pt x="213" y="580"/>
                  </a:lnTo>
                  <a:lnTo>
                    <a:pt x="201" y="583"/>
                  </a:lnTo>
                  <a:lnTo>
                    <a:pt x="177" y="592"/>
                  </a:lnTo>
                  <a:lnTo>
                    <a:pt x="154" y="601"/>
                  </a:lnTo>
                  <a:lnTo>
                    <a:pt x="132" y="613"/>
                  </a:lnTo>
                  <a:lnTo>
                    <a:pt x="111" y="625"/>
                  </a:lnTo>
                  <a:lnTo>
                    <a:pt x="91" y="639"/>
                  </a:lnTo>
                  <a:lnTo>
                    <a:pt x="72" y="653"/>
                  </a:lnTo>
                  <a:lnTo>
                    <a:pt x="56" y="669"/>
                  </a:lnTo>
                  <a:lnTo>
                    <a:pt x="41" y="683"/>
                  </a:lnTo>
                  <a:lnTo>
                    <a:pt x="28" y="697"/>
                  </a:lnTo>
                  <a:lnTo>
                    <a:pt x="19" y="709"/>
                  </a:lnTo>
                  <a:lnTo>
                    <a:pt x="12" y="720"/>
                  </a:lnTo>
                  <a:lnTo>
                    <a:pt x="7" y="731"/>
                  </a:lnTo>
                  <a:lnTo>
                    <a:pt x="6" y="735"/>
                  </a:lnTo>
                  <a:lnTo>
                    <a:pt x="6" y="739"/>
                  </a:lnTo>
                  <a:lnTo>
                    <a:pt x="7" y="741"/>
                  </a:lnTo>
                  <a:lnTo>
                    <a:pt x="8" y="745"/>
                  </a:lnTo>
                  <a:lnTo>
                    <a:pt x="12" y="748"/>
                  </a:lnTo>
                  <a:lnTo>
                    <a:pt x="15" y="754"/>
                  </a:lnTo>
                  <a:lnTo>
                    <a:pt x="17" y="759"/>
                  </a:lnTo>
                  <a:lnTo>
                    <a:pt x="19" y="763"/>
                  </a:lnTo>
                  <a:lnTo>
                    <a:pt x="20" y="775"/>
                  </a:lnTo>
                  <a:lnTo>
                    <a:pt x="17" y="785"/>
                  </a:lnTo>
                  <a:lnTo>
                    <a:pt x="15" y="795"/>
                  </a:lnTo>
                  <a:lnTo>
                    <a:pt x="10" y="803"/>
                  </a:lnTo>
                  <a:lnTo>
                    <a:pt x="5" y="810"/>
                  </a:lnTo>
                  <a:lnTo>
                    <a:pt x="0" y="813"/>
                  </a:lnTo>
                  <a:lnTo>
                    <a:pt x="541" y="75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Freeform 139"/>
            <p:cNvSpPr/>
            <p:nvPr/>
          </p:nvSpPr>
          <p:spPr>
            <a:xfrm>
              <a:off x="7450200" y="5442120"/>
              <a:ext cx="414360" cy="13752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2590" h="792">
                  <a:moveTo>
                    <a:pt x="2590" y="0"/>
                  </a:moveTo>
                  <a:lnTo>
                    <a:pt x="613" y="265"/>
                  </a:lnTo>
                  <a:lnTo>
                    <a:pt x="596" y="311"/>
                  </a:lnTo>
                  <a:lnTo>
                    <a:pt x="78" y="366"/>
                  </a:lnTo>
                  <a:lnTo>
                    <a:pt x="76" y="377"/>
                  </a:lnTo>
                  <a:lnTo>
                    <a:pt x="75" y="388"/>
                  </a:lnTo>
                  <a:lnTo>
                    <a:pt x="74" y="398"/>
                  </a:lnTo>
                  <a:lnTo>
                    <a:pt x="74" y="408"/>
                  </a:lnTo>
                  <a:lnTo>
                    <a:pt x="74" y="426"/>
                  </a:lnTo>
                  <a:lnTo>
                    <a:pt x="74" y="443"/>
                  </a:lnTo>
                  <a:lnTo>
                    <a:pt x="73" y="452"/>
                  </a:lnTo>
                  <a:lnTo>
                    <a:pt x="70" y="460"/>
                  </a:lnTo>
                  <a:lnTo>
                    <a:pt x="68" y="469"/>
                  </a:lnTo>
                  <a:lnTo>
                    <a:pt x="63" y="478"/>
                  </a:lnTo>
                  <a:lnTo>
                    <a:pt x="59" y="487"/>
                  </a:lnTo>
                  <a:lnTo>
                    <a:pt x="52" y="498"/>
                  </a:lnTo>
                  <a:lnTo>
                    <a:pt x="42" y="508"/>
                  </a:lnTo>
                  <a:lnTo>
                    <a:pt x="32" y="519"/>
                  </a:lnTo>
                  <a:lnTo>
                    <a:pt x="35" y="535"/>
                  </a:lnTo>
                  <a:lnTo>
                    <a:pt x="36" y="551"/>
                  </a:lnTo>
                  <a:lnTo>
                    <a:pt x="37" y="568"/>
                  </a:lnTo>
                  <a:lnTo>
                    <a:pt x="39" y="585"/>
                  </a:lnTo>
                  <a:lnTo>
                    <a:pt x="37" y="603"/>
                  </a:lnTo>
                  <a:lnTo>
                    <a:pt x="37" y="619"/>
                  </a:lnTo>
                  <a:lnTo>
                    <a:pt x="35" y="637"/>
                  </a:lnTo>
                  <a:lnTo>
                    <a:pt x="33" y="654"/>
                  </a:lnTo>
                  <a:lnTo>
                    <a:pt x="27" y="689"/>
                  </a:lnTo>
                  <a:lnTo>
                    <a:pt x="20" y="724"/>
                  </a:lnTo>
                  <a:lnTo>
                    <a:pt x="11" y="758"/>
                  </a:lnTo>
                  <a:lnTo>
                    <a:pt x="0" y="792"/>
                  </a:lnTo>
                  <a:lnTo>
                    <a:pt x="709" y="717"/>
                  </a:lnTo>
                  <a:lnTo>
                    <a:pt x="712" y="717"/>
                  </a:lnTo>
                  <a:lnTo>
                    <a:pt x="1466" y="631"/>
                  </a:lnTo>
                  <a:lnTo>
                    <a:pt x="1967" y="576"/>
                  </a:lnTo>
                  <a:lnTo>
                    <a:pt x="1972" y="563"/>
                  </a:lnTo>
                  <a:lnTo>
                    <a:pt x="1981" y="545"/>
                  </a:lnTo>
                  <a:lnTo>
                    <a:pt x="1982" y="541"/>
                  </a:lnTo>
                  <a:lnTo>
                    <a:pt x="1984" y="536"/>
                  </a:lnTo>
                  <a:lnTo>
                    <a:pt x="1985" y="530"/>
                  </a:lnTo>
                  <a:lnTo>
                    <a:pt x="1985" y="526"/>
                  </a:lnTo>
                  <a:lnTo>
                    <a:pt x="1984" y="520"/>
                  </a:lnTo>
                  <a:lnTo>
                    <a:pt x="1981" y="515"/>
                  </a:lnTo>
                  <a:lnTo>
                    <a:pt x="1978" y="509"/>
                  </a:lnTo>
                  <a:lnTo>
                    <a:pt x="1973" y="505"/>
                  </a:lnTo>
                  <a:lnTo>
                    <a:pt x="1972" y="501"/>
                  </a:lnTo>
                  <a:lnTo>
                    <a:pt x="1971" y="499"/>
                  </a:lnTo>
                  <a:lnTo>
                    <a:pt x="1971" y="495"/>
                  </a:lnTo>
                  <a:lnTo>
                    <a:pt x="1972" y="491"/>
                  </a:lnTo>
                  <a:lnTo>
                    <a:pt x="1977" y="480"/>
                  </a:lnTo>
                  <a:lnTo>
                    <a:pt x="1984" y="469"/>
                  </a:lnTo>
                  <a:lnTo>
                    <a:pt x="1993" y="457"/>
                  </a:lnTo>
                  <a:lnTo>
                    <a:pt x="2006" y="443"/>
                  </a:lnTo>
                  <a:lnTo>
                    <a:pt x="2021" y="429"/>
                  </a:lnTo>
                  <a:lnTo>
                    <a:pt x="2037" y="413"/>
                  </a:lnTo>
                  <a:lnTo>
                    <a:pt x="2056" y="399"/>
                  </a:lnTo>
                  <a:lnTo>
                    <a:pt x="2076" y="385"/>
                  </a:lnTo>
                  <a:lnTo>
                    <a:pt x="2097" y="373"/>
                  </a:lnTo>
                  <a:lnTo>
                    <a:pt x="2119" y="361"/>
                  </a:lnTo>
                  <a:lnTo>
                    <a:pt x="2142" y="352"/>
                  </a:lnTo>
                  <a:lnTo>
                    <a:pt x="2166" y="343"/>
                  </a:lnTo>
                  <a:lnTo>
                    <a:pt x="2178" y="340"/>
                  </a:lnTo>
                  <a:lnTo>
                    <a:pt x="2189" y="337"/>
                  </a:lnTo>
                  <a:lnTo>
                    <a:pt x="2201" y="335"/>
                  </a:lnTo>
                  <a:lnTo>
                    <a:pt x="2213" y="334"/>
                  </a:lnTo>
                  <a:lnTo>
                    <a:pt x="2227" y="333"/>
                  </a:lnTo>
                  <a:lnTo>
                    <a:pt x="2239" y="329"/>
                  </a:lnTo>
                  <a:lnTo>
                    <a:pt x="2252" y="326"/>
                  </a:lnTo>
                  <a:lnTo>
                    <a:pt x="2264" y="322"/>
                  </a:lnTo>
                  <a:lnTo>
                    <a:pt x="2276" y="316"/>
                  </a:lnTo>
                  <a:lnTo>
                    <a:pt x="2286" y="312"/>
                  </a:lnTo>
                  <a:lnTo>
                    <a:pt x="2297" y="305"/>
                  </a:lnTo>
                  <a:lnTo>
                    <a:pt x="2306" y="299"/>
                  </a:lnTo>
                  <a:lnTo>
                    <a:pt x="2325" y="284"/>
                  </a:lnTo>
                  <a:lnTo>
                    <a:pt x="2342" y="267"/>
                  </a:lnTo>
                  <a:lnTo>
                    <a:pt x="2359" y="251"/>
                  </a:lnTo>
                  <a:lnTo>
                    <a:pt x="2374" y="234"/>
                  </a:lnTo>
                  <a:lnTo>
                    <a:pt x="2389" y="216"/>
                  </a:lnTo>
                  <a:lnTo>
                    <a:pt x="2405" y="198"/>
                  </a:lnTo>
                  <a:lnTo>
                    <a:pt x="2420" y="183"/>
                  </a:lnTo>
                  <a:lnTo>
                    <a:pt x="2437" y="168"/>
                  </a:lnTo>
                  <a:lnTo>
                    <a:pt x="2445" y="161"/>
                  </a:lnTo>
                  <a:lnTo>
                    <a:pt x="2453" y="155"/>
                  </a:lnTo>
                  <a:lnTo>
                    <a:pt x="2463" y="149"/>
                  </a:lnTo>
                  <a:lnTo>
                    <a:pt x="2472" y="145"/>
                  </a:lnTo>
                  <a:lnTo>
                    <a:pt x="2482" y="140"/>
                  </a:lnTo>
                  <a:lnTo>
                    <a:pt x="2493" y="137"/>
                  </a:lnTo>
                  <a:lnTo>
                    <a:pt x="2503" y="134"/>
                  </a:lnTo>
                  <a:lnTo>
                    <a:pt x="2515" y="132"/>
                  </a:lnTo>
                  <a:lnTo>
                    <a:pt x="2522" y="132"/>
                  </a:lnTo>
                  <a:lnTo>
                    <a:pt x="2528" y="130"/>
                  </a:lnTo>
                  <a:lnTo>
                    <a:pt x="2534" y="127"/>
                  </a:lnTo>
                  <a:lnTo>
                    <a:pt x="2538" y="125"/>
                  </a:lnTo>
                  <a:lnTo>
                    <a:pt x="2547" y="119"/>
                  </a:lnTo>
                  <a:lnTo>
                    <a:pt x="2554" y="111"/>
                  </a:lnTo>
                  <a:lnTo>
                    <a:pt x="2558" y="103"/>
                  </a:lnTo>
                  <a:lnTo>
                    <a:pt x="2563" y="93"/>
                  </a:lnTo>
                  <a:lnTo>
                    <a:pt x="2565" y="83"/>
                  </a:lnTo>
                  <a:lnTo>
                    <a:pt x="2568" y="71"/>
                  </a:lnTo>
                  <a:lnTo>
                    <a:pt x="2570" y="50"/>
                  </a:lnTo>
                  <a:lnTo>
                    <a:pt x="2572" y="29"/>
                  </a:lnTo>
                  <a:lnTo>
                    <a:pt x="2576" y="20"/>
                  </a:lnTo>
                  <a:lnTo>
                    <a:pt x="2578" y="12"/>
                  </a:lnTo>
                  <a:lnTo>
                    <a:pt x="2583" y="6"/>
                  </a:lnTo>
                  <a:lnTo>
                    <a:pt x="25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Freeform 140"/>
            <p:cNvSpPr/>
            <p:nvPr/>
          </p:nvSpPr>
          <p:spPr>
            <a:xfrm>
              <a:off x="7450200" y="5442120"/>
              <a:ext cx="414360" cy="13752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2590" h="792">
                  <a:moveTo>
                    <a:pt x="2590" y="0"/>
                  </a:moveTo>
                  <a:lnTo>
                    <a:pt x="613" y="265"/>
                  </a:lnTo>
                  <a:lnTo>
                    <a:pt x="596" y="311"/>
                  </a:lnTo>
                  <a:lnTo>
                    <a:pt x="78" y="366"/>
                  </a:lnTo>
                  <a:lnTo>
                    <a:pt x="76" y="377"/>
                  </a:lnTo>
                  <a:lnTo>
                    <a:pt x="75" y="388"/>
                  </a:lnTo>
                  <a:lnTo>
                    <a:pt x="74" y="398"/>
                  </a:lnTo>
                  <a:lnTo>
                    <a:pt x="74" y="408"/>
                  </a:lnTo>
                  <a:lnTo>
                    <a:pt x="74" y="426"/>
                  </a:lnTo>
                  <a:lnTo>
                    <a:pt x="74" y="443"/>
                  </a:lnTo>
                  <a:lnTo>
                    <a:pt x="73" y="452"/>
                  </a:lnTo>
                  <a:lnTo>
                    <a:pt x="70" y="460"/>
                  </a:lnTo>
                  <a:lnTo>
                    <a:pt x="68" y="469"/>
                  </a:lnTo>
                  <a:lnTo>
                    <a:pt x="63" y="478"/>
                  </a:lnTo>
                  <a:lnTo>
                    <a:pt x="59" y="487"/>
                  </a:lnTo>
                  <a:lnTo>
                    <a:pt x="52" y="498"/>
                  </a:lnTo>
                  <a:lnTo>
                    <a:pt x="42" y="508"/>
                  </a:lnTo>
                  <a:lnTo>
                    <a:pt x="32" y="519"/>
                  </a:lnTo>
                  <a:lnTo>
                    <a:pt x="35" y="535"/>
                  </a:lnTo>
                  <a:lnTo>
                    <a:pt x="36" y="551"/>
                  </a:lnTo>
                  <a:lnTo>
                    <a:pt x="37" y="568"/>
                  </a:lnTo>
                  <a:lnTo>
                    <a:pt x="39" y="585"/>
                  </a:lnTo>
                  <a:lnTo>
                    <a:pt x="37" y="603"/>
                  </a:lnTo>
                  <a:lnTo>
                    <a:pt x="37" y="619"/>
                  </a:lnTo>
                  <a:lnTo>
                    <a:pt x="35" y="637"/>
                  </a:lnTo>
                  <a:lnTo>
                    <a:pt x="33" y="654"/>
                  </a:lnTo>
                  <a:lnTo>
                    <a:pt x="27" y="689"/>
                  </a:lnTo>
                  <a:lnTo>
                    <a:pt x="20" y="724"/>
                  </a:lnTo>
                  <a:lnTo>
                    <a:pt x="11" y="758"/>
                  </a:lnTo>
                  <a:lnTo>
                    <a:pt x="0" y="792"/>
                  </a:lnTo>
                  <a:lnTo>
                    <a:pt x="709" y="717"/>
                  </a:lnTo>
                  <a:lnTo>
                    <a:pt x="712" y="717"/>
                  </a:lnTo>
                  <a:lnTo>
                    <a:pt x="1466" y="631"/>
                  </a:lnTo>
                  <a:lnTo>
                    <a:pt x="1967" y="576"/>
                  </a:lnTo>
                  <a:lnTo>
                    <a:pt x="1972" y="563"/>
                  </a:lnTo>
                  <a:lnTo>
                    <a:pt x="1981" y="545"/>
                  </a:lnTo>
                  <a:lnTo>
                    <a:pt x="1982" y="541"/>
                  </a:lnTo>
                  <a:lnTo>
                    <a:pt x="1984" y="536"/>
                  </a:lnTo>
                  <a:lnTo>
                    <a:pt x="1985" y="530"/>
                  </a:lnTo>
                  <a:lnTo>
                    <a:pt x="1985" y="526"/>
                  </a:lnTo>
                  <a:lnTo>
                    <a:pt x="1984" y="520"/>
                  </a:lnTo>
                  <a:lnTo>
                    <a:pt x="1981" y="515"/>
                  </a:lnTo>
                  <a:lnTo>
                    <a:pt x="1978" y="509"/>
                  </a:lnTo>
                  <a:lnTo>
                    <a:pt x="1973" y="505"/>
                  </a:lnTo>
                  <a:lnTo>
                    <a:pt x="1972" y="501"/>
                  </a:lnTo>
                  <a:lnTo>
                    <a:pt x="1971" y="499"/>
                  </a:lnTo>
                  <a:lnTo>
                    <a:pt x="1971" y="495"/>
                  </a:lnTo>
                  <a:lnTo>
                    <a:pt x="1972" y="491"/>
                  </a:lnTo>
                  <a:lnTo>
                    <a:pt x="1977" y="480"/>
                  </a:lnTo>
                  <a:lnTo>
                    <a:pt x="1984" y="469"/>
                  </a:lnTo>
                  <a:lnTo>
                    <a:pt x="1993" y="457"/>
                  </a:lnTo>
                  <a:lnTo>
                    <a:pt x="2006" y="443"/>
                  </a:lnTo>
                  <a:lnTo>
                    <a:pt x="2021" y="429"/>
                  </a:lnTo>
                  <a:lnTo>
                    <a:pt x="2037" y="413"/>
                  </a:lnTo>
                  <a:lnTo>
                    <a:pt x="2056" y="399"/>
                  </a:lnTo>
                  <a:lnTo>
                    <a:pt x="2076" y="385"/>
                  </a:lnTo>
                  <a:lnTo>
                    <a:pt x="2097" y="373"/>
                  </a:lnTo>
                  <a:lnTo>
                    <a:pt x="2119" y="361"/>
                  </a:lnTo>
                  <a:lnTo>
                    <a:pt x="2142" y="352"/>
                  </a:lnTo>
                  <a:lnTo>
                    <a:pt x="2166" y="343"/>
                  </a:lnTo>
                  <a:lnTo>
                    <a:pt x="2178" y="340"/>
                  </a:lnTo>
                  <a:lnTo>
                    <a:pt x="2189" y="337"/>
                  </a:lnTo>
                  <a:lnTo>
                    <a:pt x="2201" y="335"/>
                  </a:lnTo>
                  <a:lnTo>
                    <a:pt x="2213" y="334"/>
                  </a:lnTo>
                  <a:lnTo>
                    <a:pt x="2227" y="333"/>
                  </a:lnTo>
                  <a:lnTo>
                    <a:pt x="2239" y="329"/>
                  </a:lnTo>
                  <a:lnTo>
                    <a:pt x="2252" y="326"/>
                  </a:lnTo>
                  <a:lnTo>
                    <a:pt x="2264" y="322"/>
                  </a:lnTo>
                  <a:lnTo>
                    <a:pt x="2276" y="316"/>
                  </a:lnTo>
                  <a:lnTo>
                    <a:pt x="2286" y="312"/>
                  </a:lnTo>
                  <a:lnTo>
                    <a:pt x="2297" y="305"/>
                  </a:lnTo>
                  <a:lnTo>
                    <a:pt x="2306" y="299"/>
                  </a:lnTo>
                  <a:lnTo>
                    <a:pt x="2325" y="284"/>
                  </a:lnTo>
                  <a:lnTo>
                    <a:pt x="2342" y="267"/>
                  </a:lnTo>
                  <a:lnTo>
                    <a:pt x="2359" y="251"/>
                  </a:lnTo>
                  <a:lnTo>
                    <a:pt x="2374" y="234"/>
                  </a:lnTo>
                  <a:lnTo>
                    <a:pt x="2389" y="216"/>
                  </a:lnTo>
                  <a:lnTo>
                    <a:pt x="2405" y="198"/>
                  </a:lnTo>
                  <a:lnTo>
                    <a:pt x="2420" y="183"/>
                  </a:lnTo>
                  <a:lnTo>
                    <a:pt x="2437" y="168"/>
                  </a:lnTo>
                  <a:lnTo>
                    <a:pt x="2445" y="161"/>
                  </a:lnTo>
                  <a:lnTo>
                    <a:pt x="2453" y="155"/>
                  </a:lnTo>
                  <a:lnTo>
                    <a:pt x="2463" y="149"/>
                  </a:lnTo>
                  <a:lnTo>
                    <a:pt x="2472" y="145"/>
                  </a:lnTo>
                  <a:lnTo>
                    <a:pt x="2482" y="140"/>
                  </a:lnTo>
                  <a:lnTo>
                    <a:pt x="2493" y="137"/>
                  </a:lnTo>
                  <a:lnTo>
                    <a:pt x="2503" y="134"/>
                  </a:lnTo>
                  <a:lnTo>
                    <a:pt x="2515" y="132"/>
                  </a:lnTo>
                  <a:lnTo>
                    <a:pt x="2522" y="132"/>
                  </a:lnTo>
                  <a:lnTo>
                    <a:pt x="2528" y="130"/>
                  </a:lnTo>
                  <a:lnTo>
                    <a:pt x="2534" y="127"/>
                  </a:lnTo>
                  <a:lnTo>
                    <a:pt x="2538" y="125"/>
                  </a:lnTo>
                  <a:lnTo>
                    <a:pt x="2547" y="119"/>
                  </a:lnTo>
                  <a:lnTo>
                    <a:pt x="2554" y="111"/>
                  </a:lnTo>
                  <a:lnTo>
                    <a:pt x="2558" y="103"/>
                  </a:lnTo>
                  <a:lnTo>
                    <a:pt x="2563" y="93"/>
                  </a:lnTo>
                  <a:lnTo>
                    <a:pt x="2565" y="83"/>
                  </a:lnTo>
                  <a:lnTo>
                    <a:pt x="2568" y="71"/>
                  </a:lnTo>
                  <a:lnTo>
                    <a:pt x="2570" y="50"/>
                  </a:lnTo>
                  <a:lnTo>
                    <a:pt x="2572" y="29"/>
                  </a:lnTo>
                  <a:lnTo>
                    <a:pt x="2576" y="20"/>
                  </a:lnTo>
                  <a:lnTo>
                    <a:pt x="2578" y="12"/>
                  </a:lnTo>
                  <a:lnTo>
                    <a:pt x="2583" y="6"/>
                  </a:lnTo>
                  <a:lnTo>
                    <a:pt x="25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Freeform 141"/>
            <p:cNvSpPr/>
            <p:nvPr/>
          </p:nvSpPr>
          <p:spPr>
            <a:xfrm>
              <a:off x="7462800" y="5351040"/>
              <a:ext cx="340560" cy="153720"/>
            </a:xfrm>
            <a:custGeom>
              <a:avLst/>
              <a:gdLst>
                <a:gd name="textAreaLeft" fmla="*/ 0 w 340560"/>
                <a:gd name="textAreaRight" fmla="*/ 340920 w 3405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135" h="893">
                  <a:moveTo>
                    <a:pt x="1872" y="611"/>
                  </a:moveTo>
                  <a:lnTo>
                    <a:pt x="535" y="792"/>
                  </a:lnTo>
                  <a:lnTo>
                    <a:pt x="518" y="838"/>
                  </a:lnTo>
                  <a:lnTo>
                    <a:pt x="0" y="893"/>
                  </a:lnTo>
                  <a:lnTo>
                    <a:pt x="7" y="870"/>
                  </a:lnTo>
                  <a:lnTo>
                    <a:pt x="16" y="849"/>
                  </a:lnTo>
                  <a:lnTo>
                    <a:pt x="25" y="829"/>
                  </a:lnTo>
                  <a:lnTo>
                    <a:pt x="37" y="812"/>
                  </a:lnTo>
                  <a:lnTo>
                    <a:pt x="49" y="794"/>
                  </a:lnTo>
                  <a:lnTo>
                    <a:pt x="63" y="778"/>
                  </a:lnTo>
                  <a:lnTo>
                    <a:pt x="79" y="764"/>
                  </a:lnTo>
                  <a:lnTo>
                    <a:pt x="95" y="751"/>
                  </a:lnTo>
                  <a:lnTo>
                    <a:pt x="110" y="737"/>
                  </a:lnTo>
                  <a:lnTo>
                    <a:pt x="125" y="725"/>
                  </a:lnTo>
                  <a:lnTo>
                    <a:pt x="139" y="716"/>
                  </a:lnTo>
                  <a:lnTo>
                    <a:pt x="153" y="708"/>
                  </a:lnTo>
                  <a:lnTo>
                    <a:pt x="180" y="695"/>
                  </a:lnTo>
                  <a:lnTo>
                    <a:pt x="206" y="682"/>
                  </a:lnTo>
                  <a:lnTo>
                    <a:pt x="219" y="675"/>
                  </a:lnTo>
                  <a:lnTo>
                    <a:pt x="232" y="666"/>
                  </a:lnTo>
                  <a:lnTo>
                    <a:pt x="246" y="655"/>
                  </a:lnTo>
                  <a:lnTo>
                    <a:pt x="259" y="643"/>
                  </a:lnTo>
                  <a:lnTo>
                    <a:pt x="273" y="627"/>
                  </a:lnTo>
                  <a:lnTo>
                    <a:pt x="287" y="609"/>
                  </a:lnTo>
                  <a:lnTo>
                    <a:pt x="302" y="585"/>
                  </a:lnTo>
                  <a:lnTo>
                    <a:pt x="317" y="558"/>
                  </a:lnTo>
                  <a:lnTo>
                    <a:pt x="326" y="539"/>
                  </a:lnTo>
                  <a:lnTo>
                    <a:pt x="331" y="527"/>
                  </a:lnTo>
                  <a:lnTo>
                    <a:pt x="336" y="520"/>
                  </a:lnTo>
                  <a:lnTo>
                    <a:pt x="344" y="509"/>
                  </a:lnTo>
                  <a:lnTo>
                    <a:pt x="359" y="495"/>
                  </a:lnTo>
                  <a:lnTo>
                    <a:pt x="380" y="476"/>
                  </a:lnTo>
                  <a:lnTo>
                    <a:pt x="391" y="466"/>
                  </a:lnTo>
                  <a:lnTo>
                    <a:pt x="402" y="458"/>
                  </a:lnTo>
                  <a:lnTo>
                    <a:pt x="415" y="451"/>
                  </a:lnTo>
                  <a:lnTo>
                    <a:pt x="430" y="444"/>
                  </a:lnTo>
                  <a:lnTo>
                    <a:pt x="444" y="438"/>
                  </a:lnTo>
                  <a:lnTo>
                    <a:pt x="461" y="432"/>
                  </a:lnTo>
                  <a:lnTo>
                    <a:pt x="478" y="428"/>
                  </a:lnTo>
                  <a:lnTo>
                    <a:pt x="496" y="423"/>
                  </a:lnTo>
                  <a:lnTo>
                    <a:pt x="575" y="407"/>
                  </a:lnTo>
                  <a:lnTo>
                    <a:pt x="663" y="391"/>
                  </a:lnTo>
                  <a:lnTo>
                    <a:pt x="708" y="382"/>
                  </a:lnTo>
                  <a:lnTo>
                    <a:pt x="755" y="370"/>
                  </a:lnTo>
                  <a:lnTo>
                    <a:pt x="778" y="363"/>
                  </a:lnTo>
                  <a:lnTo>
                    <a:pt x="802" y="356"/>
                  </a:lnTo>
                  <a:lnTo>
                    <a:pt x="825" y="348"/>
                  </a:lnTo>
                  <a:lnTo>
                    <a:pt x="848" y="340"/>
                  </a:lnTo>
                  <a:lnTo>
                    <a:pt x="872" y="330"/>
                  </a:lnTo>
                  <a:lnTo>
                    <a:pt x="894" y="319"/>
                  </a:lnTo>
                  <a:lnTo>
                    <a:pt x="916" y="306"/>
                  </a:lnTo>
                  <a:lnTo>
                    <a:pt x="938" y="293"/>
                  </a:lnTo>
                  <a:lnTo>
                    <a:pt x="961" y="279"/>
                  </a:lnTo>
                  <a:lnTo>
                    <a:pt x="982" y="263"/>
                  </a:lnTo>
                  <a:lnTo>
                    <a:pt x="1003" y="247"/>
                  </a:lnTo>
                  <a:lnTo>
                    <a:pt x="1022" y="228"/>
                  </a:lnTo>
                  <a:lnTo>
                    <a:pt x="1041" y="208"/>
                  </a:lnTo>
                  <a:lnTo>
                    <a:pt x="1054" y="191"/>
                  </a:lnTo>
                  <a:lnTo>
                    <a:pt x="1059" y="182"/>
                  </a:lnTo>
                  <a:lnTo>
                    <a:pt x="1062" y="175"/>
                  </a:lnTo>
                  <a:lnTo>
                    <a:pt x="1066" y="168"/>
                  </a:lnTo>
                  <a:lnTo>
                    <a:pt x="1068" y="161"/>
                  </a:lnTo>
                  <a:lnTo>
                    <a:pt x="1070" y="150"/>
                  </a:lnTo>
                  <a:lnTo>
                    <a:pt x="1070" y="139"/>
                  </a:lnTo>
                  <a:lnTo>
                    <a:pt x="1068" y="130"/>
                  </a:lnTo>
                  <a:lnTo>
                    <a:pt x="1067" y="120"/>
                  </a:lnTo>
                  <a:lnTo>
                    <a:pt x="1065" y="112"/>
                  </a:lnTo>
                  <a:lnTo>
                    <a:pt x="1062" y="104"/>
                  </a:lnTo>
                  <a:lnTo>
                    <a:pt x="1062" y="96"/>
                  </a:lnTo>
                  <a:lnTo>
                    <a:pt x="1063" y="87"/>
                  </a:lnTo>
                  <a:lnTo>
                    <a:pt x="1066" y="82"/>
                  </a:lnTo>
                  <a:lnTo>
                    <a:pt x="1068" y="77"/>
                  </a:lnTo>
                  <a:lnTo>
                    <a:pt x="1072" y="71"/>
                  </a:lnTo>
                  <a:lnTo>
                    <a:pt x="1076" y="66"/>
                  </a:lnTo>
                  <a:lnTo>
                    <a:pt x="1089" y="54"/>
                  </a:lnTo>
                  <a:lnTo>
                    <a:pt x="1105" y="40"/>
                  </a:lnTo>
                  <a:lnTo>
                    <a:pt x="1109" y="36"/>
                  </a:lnTo>
                  <a:lnTo>
                    <a:pt x="1112" y="34"/>
                  </a:lnTo>
                  <a:lnTo>
                    <a:pt x="1116" y="32"/>
                  </a:lnTo>
                  <a:lnTo>
                    <a:pt x="1121" y="30"/>
                  </a:lnTo>
                  <a:lnTo>
                    <a:pt x="1131" y="28"/>
                  </a:lnTo>
                  <a:lnTo>
                    <a:pt x="1142" y="28"/>
                  </a:lnTo>
                  <a:lnTo>
                    <a:pt x="1153" y="27"/>
                  </a:lnTo>
                  <a:lnTo>
                    <a:pt x="1164" y="25"/>
                  </a:lnTo>
                  <a:lnTo>
                    <a:pt x="1170" y="22"/>
                  </a:lnTo>
                  <a:lnTo>
                    <a:pt x="1174" y="20"/>
                  </a:lnTo>
                  <a:lnTo>
                    <a:pt x="1179" y="16"/>
                  </a:lnTo>
                  <a:lnTo>
                    <a:pt x="1184" y="12"/>
                  </a:lnTo>
                  <a:lnTo>
                    <a:pt x="1186" y="8"/>
                  </a:lnTo>
                  <a:lnTo>
                    <a:pt x="1190" y="6"/>
                  </a:lnTo>
                  <a:lnTo>
                    <a:pt x="1193" y="5"/>
                  </a:lnTo>
                  <a:lnTo>
                    <a:pt x="1197" y="2"/>
                  </a:lnTo>
                  <a:lnTo>
                    <a:pt x="1206" y="1"/>
                  </a:lnTo>
                  <a:lnTo>
                    <a:pt x="1216" y="0"/>
                  </a:lnTo>
                  <a:lnTo>
                    <a:pt x="1229" y="0"/>
                  </a:lnTo>
                  <a:lnTo>
                    <a:pt x="1242" y="1"/>
                  </a:lnTo>
                  <a:lnTo>
                    <a:pt x="1255" y="4"/>
                  </a:lnTo>
                  <a:lnTo>
                    <a:pt x="1269" y="6"/>
                  </a:lnTo>
                  <a:lnTo>
                    <a:pt x="1296" y="11"/>
                  </a:lnTo>
                  <a:lnTo>
                    <a:pt x="1320" y="15"/>
                  </a:lnTo>
                  <a:lnTo>
                    <a:pt x="1331" y="18"/>
                  </a:lnTo>
                  <a:lnTo>
                    <a:pt x="1340" y="18"/>
                  </a:lnTo>
                  <a:lnTo>
                    <a:pt x="1348" y="19"/>
                  </a:lnTo>
                  <a:lnTo>
                    <a:pt x="1353" y="18"/>
                  </a:lnTo>
                  <a:lnTo>
                    <a:pt x="1358" y="16"/>
                  </a:lnTo>
                  <a:lnTo>
                    <a:pt x="1364" y="18"/>
                  </a:lnTo>
                  <a:lnTo>
                    <a:pt x="1369" y="20"/>
                  </a:lnTo>
                  <a:lnTo>
                    <a:pt x="1376" y="23"/>
                  </a:lnTo>
                  <a:lnTo>
                    <a:pt x="1390" y="30"/>
                  </a:lnTo>
                  <a:lnTo>
                    <a:pt x="1404" y="40"/>
                  </a:lnTo>
                  <a:lnTo>
                    <a:pt x="1420" y="48"/>
                  </a:lnTo>
                  <a:lnTo>
                    <a:pt x="1435" y="53"/>
                  </a:lnTo>
                  <a:lnTo>
                    <a:pt x="1442" y="54"/>
                  </a:lnTo>
                  <a:lnTo>
                    <a:pt x="1449" y="54"/>
                  </a:lnTo>
                  <a:lnTo>
                    <a:pt x="1455" y="53"/>
                  </a:lnTo>
                  <a:lnTo>
                    <a:pt x="1461" y="49"/>
                  </a:lnTo>
                  <a:lnTo>
                    <a:pt x="1466" y="44"/>
                  </a:lnTo>
                  <a:lnTo>
                    <a:pt x="1473" y="41"/>
                  </a:lnTo>
                  <a:lnTo>
                    <a:pt x="1482" y="37"/>
                  </a:lnTo>
                  <a:lnTo>
                    <a:pt x="1490" y="34"/>
                  </a:lnTo>
                  <a:lnTo>
                    <a:pt x="1508" y="29"/>
                  </a:lnTo>
                  <a:lnTo>
                    <a:pt x="1529" y="25"/>
                  </a:lnTo>
                  <a:lnTo>
                    <a:pt x="1552" y="21"/>
                  </a:lnTo>
                  <a:lnTo>
                    <a:pt x="1576" y="19"/>
                  </a:lnTo>
                  <a:lnTo>
                    <a:pt x="1603" y="18"/>
                  </a:lnTo>
                  <a:lnTo>
                    <a:pt x="1630" y="18"/>
                  </a:lnTo>
                  <a:lnTo>
                    <a:pt x="1653" y="18"/>
                  </a:lnTo>
                  <a:lnTo>
                    <a:pt x="1673" y="19"/>
                  </a:lnTo>
                  <a:lnTo>
                    <a:pt x="1689" y="23"/>
                  </a:lnTo>
                  <a:lnTo>
                    <a:pt x="1704" y="29"/>
                  </a:lnTo>
                  <a:lnTo>
                    <a:pt x="1716" y="36"/>
                  </a:lnTo>
                  <a:lnTo>
                    <a:pt x="1729" y="44"/>
                  </a:lnTo>
                  <a:lnTo>
                    <a:pt x="1741" y="53"/>
                  </a:lnTo>
                  <a:lnTo>
                    <a:pt x="1753" y="63"/>
                  </a:lnTo>
                  <a:lnTo>
                    <a:pt x="1764" y="74"/>
                  </a:lnTo>
                  <a:lnTo>
                    <a:pt x="1778" y="84"/>
                  </a:lnTo>
                  <a:lnTo>
                    <a:pt x="1795" y="95"/>
                  </a:lnTo>
                  <a:lnTo>
                    <a:pt x="1813" y="105"/>
                  </a:lnTo>
                  <a:lnTo>
                    <a:pt x="1834" y="116"/>
                  </a:lnTo>
                  <a:lnTo>
                    <a:pt x="1860" y="125"/>
                  </a:lnTo>
                  <a:lnTo>
                    <a:pt x="1889" y="133"/>
                  </a:lnTo>
                  <a:lnTo>
                    <a:pt x="1924" y="141"/>
                  </a:lnTo>
                  <a:lnTo>
                    <a:pt x="1920" y="146"/>
                  </a:lnTo>
                  <a:lnTo>
                    <a:pt x="1917" y="152"/>
                  </a:lnTo>
                  <a:lnTo>
                    <a:pt x="1916" y="158"/>
                  </a:lnTo>
                  <a:lnTo>
                    <a:pt x="1915" y="165"/>
                  </a:lnTo>
                  <a:lnTo>
                    <a:pt x="1916" y="173"/>
                  </a:lnTo>
                  <a:lnTo>
                    <a:pt x="1918" y="181"/>
                  </a:lnTo>
                  <a:lnTo>
                    <a:pt x="1921" y="189"/>
                  </a:lnTo>
                  <a:lnTo>
                    <a:pt x="1925" y="196"/>
                  </a:lnTo>
                  <a:lnTo>
                    <a:pt x="1930" y="205"/>
                  </a:lnTo>
                  <a:lnTo>
                    <a:pt x="1937" y="213"/>
                  </a:lnTo>
                  <a:lnTo>
                    <a:pt x="1944" y="220"/>
                  </a:lnTo>
                  <a:lnTo>
                    <a:pt x="1953" y="226"/>
                  </a:lnTo>
                  <a:lnTo>
                    <a:pt x="1964" y="231"/>
                  </a:lnTo>
                  <a:lnTo>
                    <a:pt x="1975" y="236"/>
                  </a:lnTo>
                  <a:lnTo>
                    <a:pt x="1987" y="240"/>
                  </a:lnTo>
                  <a:lnTo>
                    <a:pt x="2001" y="242"/>
                  </a:lnTo>
                  <a:lnTo>
                    <a:pt x="2015" y="242"/>
                  </a:lnTo>
                  <a:lnTo>
                    <a:pt x="2029" y="244"/>
                  </a:lnTo>
                  <a:lnTo>
                    <a:pt x="2043" y="249"/>
                  </a:lnTo>
                  <a:lnTo>
                    <a:pt x="2060" y="256"/>
                  </a:lnTo>
                  <a:lnTo>
                    <a:pt x="2094" y="272"/>
                  </a:lnTo>
                  <a:lnTo>
                    <a:pt x="2135" y="291"/>
                  </a:lnTo>
                  <a:lnTo>
                    <a:pt x="2124" y="297"/>
                  </a:lnTo>
                  <a:lnTo>
                    <a:pt x="2114" y="301"/>
                  </a:lnTo>
                  <a:lnTo>
                    <a:pt x="2103" y="305"/>
                  </a:lnTo>
                  <a:lnTo>
                    <a:pt x="2094" y="306"/>
                  </a:lnTo>
                  <a:lnTo>
                    <a:pt x="2076" y="308"/>
                  </a:lnTo>
                  <a:lnTo>
                    <a:pt x="2061" y="310"/>
                  </a:lnTo>
                  <a:lnTo>
                    <a:pt x="2055" y="311"/>
                  </a:lnTo>
                  <a:lnTo>
                    <a:pt x="2050" y="313"/>
                  </a:lnTo>
                  <a:lnTo>
                    <a:pt x="2047" y="317"/>
                  </a:lnTo>
                  <a:lnTo>
                    <a:pt x="2045" y="320"/>
                  </a:lnTo>
                  <a:lnTo>
                    <a:pt x="2045" y="326"/>
                  </a:lnTo>
                  <a:lnTo>
                    <a:pt x="2047" y="334"/>
                  </a:lnTo>
                  <a:lnTo>
                    <a:pt x="2050" y="345"/>
                  </a:lnTo>
                  <a:lnTo>
                    <a:pt x="2056" y="358"/>
                  </a:lnTo>
                  <a:lnTo>
                    <a:pt x="2060" y="365"/>
                  </a:lnTo>
                  <a:lnTo>
                    <a:pt x="2061" y="373"/>
                  </a:lnTo>
                  <a:lnTo>
                    <a:pt x="2062" y="381"/>
                  </a:lnTo>
                  <a:lnTo>
                    <a:pt x="2063" y="389"/>
                  </a:lnTo>
                  <a:lnTo>
                    <a:pt x="2062" y="398"/>
                  </a:lnTo>
                  <a:lnTo>
                    <a:pt x="2061" y="408"/>
                  </a:lnTo>
                  <a:lnTo>
                    <a:pt x="2059" y="417"/>
                  </a:lnTo>
                  <a:lnTo>
                    <a:pt x="2056" y="426"/>
                  </a:lnTo>
                  <a:lnTo>
                    <a:pt x="2049" y="445"/>
                  </a:lnTo>
                  <a:lnTo>
                    <a:pt x="2039" y="465"/>
                  </a:lnTo>
                  <a:lnTo>
                    <a:pt x="2027" y="485"/>
                  </a:lnTo>
                  <a:lnTo>
                    <a:pt x="2013" y="505"/>
                  </a:lnTo>
                  <a:lnTo>
                    <a:pt x="1998" y="523"/>
                  </a:lnTo>
                  <a:lnTo>
                    <a:pt x="1980" y="541"/>
                  </a:lnTo>
                  <a:lnTo>
                    <a:pt x="1963" y="557"/>
                  </a:lnTo>
                  <a:lnTo>
                    <a:pt x="1945" y="572"/>
                  </a:lnTo>
                  <a:lnTo>
                    <a:pt x="1927" y="585"/>
                  </a:lnTo>
                  <a:lnTo>
                    <a:pt x="1908" y="596"/>
                  </a:lnTo>
                  <a:lnTo>
                    <a:pt x="1889" y="605"/>
                  </a:lnTo>
                  <a:lnTo>
                    <a:pt x="1872" y="61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Freeform 142"/>
            <p:cNvSpPr/>
            <p:nvPr/>
          </p:nvSpPr>
          <p:spPr>
            <a:xfrm>
              <a:off x="7462800" y="5351040"/>
              <a:ext cx="340560" cy="153720"/>
            </a:xfrm>
            <a:custGeom>
              <a:avLst/>
              <a:gdLst>
                <a:gd name="textAreaLeft" fmla="*/ 0 w 340560"/>
                <a:gd name="textAreaRight" fmla="*/ 340920 w 3405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135" h="893">
                  <a:moveTo>
                    <a:pt x="1872" y="611"/>
                  </a:moveTo>
                  <a:lnTo>
                    <a:pt x="535" y="792"/>
                  </a:lnTo>
                  <a:lnTo>
                    <a:pt x="518" y="838"/>
                  </a:lnTo>
                  <a:lnTo>
                    <a:pt x="0" y="893"/>
                  </a:lnTo>
                  <a:lnTo>
                    <a:pt x="7" y="870"/>
                  </a:lnTo>
                  <a:lnTo>
                    <a:pt x="16" y="849"/>
                  </a:lnTo>
                  <a:lnTo>
                    <a:pt x="25" y="829"/>
                  </a:lnTo>
                  <a:lnTo>
                    <a:pt x="37" y="812"/>
                  </a:lnTo>
                  <a:lnTo>
                    <a:pt x="49" y="794"/>
                  </a:lnTo>
                  <a:lnTo>
                    <a:pt x="63" y="778"/>
                  </a:lnTo>
                  <a:lnTo>
                    <a:pt x="79" y="764"/>
                  </a:lnTo>
                  <a:lnTo>
                    <a:pt x="95" y="751"/>
                  </a:lnTo>
                  <a:lnTo>
                    <a:pt x="110" y="737"/>
                  </a:lnTo>
                  <a:lnTo>
                    <a:pt x="125" y="725"/>
                  </a:lnTo>
                  <a:lnTo>
                    <a:pt x="139" y="716"/>
                  </a:lnTo>
                  <a:lnTo>
                    <a:pt x="153" y="708"/>
                  </a:lnTo>
                  <a:lnTo>
                    <a:pt x="180" y="695"/>
                  </a:lnTo>
                  <a:lnTo>
                    <a:pt x="206" y="682"/>
                  </a:lnTo>
                  <a:lnTo>
                    <a:pt x="219" y="675"/>
                  </a:lnTo>
                  <a:lnTo>
                    <a:pt x="232" y="666"/>
                  </a:lnTo>
                  <a:lnTo>
                    <a:pt x="246" y="655"/>
                  </a:lnTo>
                  <a:lnTo>
                    <a:pt x="259" y="643"/>
                  </a:lnTo>
                  <a:lnTo>
                    <a:pt x="273" y="627"/>
                  </a:lnTo>
                  <a:lnTo>
                    <a:pt x="287" y="609"/>
                  </a:lnTo>
                  <a:lnTo>
                    <a:pt x="302" y="585"/>
                  </a:lnTo>
                  <a:lnTo>
                    <a:pt x="317" y="558"/>
                  </a:lnTo>
                  <a:lnTo>
                    <a:pt x="326" y="539"/>
                  </a:lnTo>
                  <a:lnTo>
                    <a:pt x="331" y="527"/>
                  </a:lnTo>
                  <a:lnTo>
                    <a:pt x="336" y="520"/>
                  </a:lnTo>
                  <a:lnTo>
                    <a:pt x="344" y="509"/>
                  </a:lnTo>
                  <a:lnTo>
                    <a:pt x="359" y="495"/>
                  </a:lnTo>
                  <a:lnTo>
                    <a:pt x="380" y="476"/>
                  </a:lnTo>
                  <a:lnTo>
                    <a:pt x="391" y="466"/>
                  </a:lnTo>
                  <a:lnTo>
                    <a:pt x="402" y="458"/>
                  </a:lnTo>
                  <a:lnTo>
                    <a:pt x="415" y="451"/>
                  </a:lnTo>
                  <a:lnTo>
                    <a:pt x="430" y="444"/>
                  </a:lnTo>
                  <a:lnTo>
                    <a:pt x="444" y="438"/>
                  </a:lnTo>
                  <a:lnTo>
                    <a:pt x="461" y="432"/>
                  </a:lnTo>
                  <a:lnTo>
                    <a:pt x="478" y="428"/>
                  </a:lnTo>
                  <a:lnTo>
                    <a:pt x="496" y="423"/>
                  </a:lnTo>
                  <a:lnTo>
                    <a:pt x="575" y="407"/>
                  </a:lnTo>
                  <a:lnTo>
                    <a:pt x="663" y="391"/>
                  </a:lnTo>
                  <a:lnTo>
                    <a:pt x="708" y="382"/>
                  </a:lnTo>
                  <a:lnTo>
                    <a:pt x="755" y="370"/>
                  </a:lnTo>
                  <a:lnTo>
                    <a:pt x="778" y="363"/>
                  </a:lnTo>
                  <a:lnTo>
                    <a:pt x="802" y="356"/>
                  </a:lnTo>
                  <a:lnTo>
                    <a:pt x="825" y="348"/>
                  </a:lnTo>
                  <a:lnTo>
                    <a:pt x="848" y="340"/>
                  </a:lnTo>
                  <a:lnTo>
                    <a:pt x="872" y="330"/>
                  </a:lnTo>
                  <a:lnTo>
                    <a:pt x="894" y="319"/>
                  </a:lnTo>
                  <a:lnTo>
                    <a:pt x="916" y="306"/>
                  </a:lnTo>
                  <a:lnTo>
                    <a:pt x="938" y="293"/>
                  </a:lnTo>
                  <a:lnTo>
                    <a:pt x="961" y="279"/>
                  </a:lnTo>
                  <a:lnTo>
                    <a:pt x="982" y="263"/>
                  </a:lnTo>
                  <a:lnTo>
                    <a:pt x="1003" y="247"/>
                  </a:lnTo>
                  <a:lnTo>
                    <a:pt x="1022" y="228"/>
                  </a:lnTo>
                  <a:lnTo>
                    <a:pt x="1041" y="208"/>
                  </a:lnTo>
                  <a:lnTo>
                    <a:pt x="1054" y="191"/>
                  </a:lnTo>
                  <a:lnTo>
                    <a:pt x="1059" y="182"/>
                  </a:lnTo>
                  <a:lnTo>
                    <a:pt x="1062" y="175"/>
                  </a:lnTo>
                  <a:lnTo>
                    <a:pt x="1066" y="168"/>
                  </a:lnTo>
                  <a:lnTo>
                    <a:pt x="1068" y="161"/>
                  </a:lnTo>
                  <a:lnTo>
                    <a:pt x="1070" y="150"/>
                  </a:lnTo>
                  <a:lnTo>
                    <a:pt x="1070" y="139"/>
                  </a:lnTo>
                  <a:lnTo>
                    <a:pt x="1068" y="130"/>
                  </a:lnTo>
                  <a:lnTo>
                    <a:pt x="1067" y="120"/>
                  </a:lnTo>
                  <a:lnTo>
                    <a:pt x="1065" y="112"/>
                  </a:lnTo>
                  <a:lnTo>
                    <a:pt x="1062" y="104"/>
                  </a:lnTo>
                  <a:lnTo>
                    <a:pt x="1062" y="96"/>
                  </a:lnTo>
                  <a:lnTo>
                    <a:pt x="1063" y="87"/>
                  </a:lnTo>
                  <a:lnTo>
                    <a:pt x="1066" y="82"/>
                  </a:lnTo>
                  <a:lnTo>
                    <a:pt x="1068" y="77"/>
                  </a:lnTo>
                  <a:lnTo>
                    <a:pt x="1072" y="71"/>
                  </a:lnTo>
                  <a:lnTo>
                    <a:pt x="1076" y="66"/>
                  </a:lnTo>
                  <a:lnTo>
                    <a:pt x="1089" y="54"/>
                  </a:lnTo>
                  <a:lnTo>
                    <a:pt x="1105" y="40"/>
                  </a:lnTo>
                  <a:lnTo>
                    <a:pt x="1109" y="36"/>
                  </a:lnTo>
                  <a:lnTo>
                    <a:pt x="1112" y="34"/>
                  </a:lnTo>
                  <a:lnTo>
                    <a:pt x="1116" y="32"/>
                  </a:lnTo>
                  <a:lnTo>
                    <a:pt x="1121" y="30"/>
                  </a:lnTo>
                  <a:lnTo>
                    <a:pt x="1131" y="28"/>
                  </a:lnTo>
                  <a:lnTo>
                    <a:pt x="1142" y="28"/>
                  </a:lnTo>
                  <a:lnTo>
                    <a:pt x="1153" y="27"/>
                  </a:lnTo>
                  <a:lnTo>
                    <a:pt x="1164" y="25"/>
                  </a:lnTo>
                  <a:lnTo>
                    <a:pt x="1170" y="22"/>
                  </a:lnTo>
                  <a:lnTo>
                    <a:pt x="1174" y="20"/>
                  </a:lnTo>
                  <a:lnTo>
                    <a:pt x="1179" y="16"/>
                  </a:lnTo>
                  <a:lnTo>
                    <a:pt x="1184" y="12"/>
                  </a:lnTo>
                  <a:lnTo>
                    <a:pt x="1186" y="8"/>
                  </a:lnTo>
                  <a:lnTo>
                    <a:pt x="1190" y="6"/>
                  </a:lnTo>
                  <a:lnTo>
                    <a:pt x="1193" y="5"/>
                  </a:lnTo>
                  <a:lnTo>
                    <a:pt x="1197" y="2"/>
                  </a:lnTo>
                  <a:lnTo>
                    <a:pt x="1206" y="1"/>
                  </a:lnTo>
                  <a:lnTo>
                    <a:pt x="1216" y="0"/>
                  </a:lnTo>
                  <a:lnTo>
                    <a:pt x="1229" y="0"/>
                  </a:lnTo>
                  <a:lnTo>
                    <a:pt x="1242" y="1"/>
                  </a:lnTo>
                  <a:lnTo>
                    <a:pt x="1255" y="4"/>
                  </a:lnTo>
                  <a:lnTo>
                    <a:pt x="1269" y="6"/>
                  </a:lnTo>
                  <a:lnTo>
                    <a:pt x="1296" y="11"/>
                  </a:lnTo>
                  <a:lnTo>
                    <a:pt x="1320" y="15"/>
                  </a:lnTo>
                  <a:lnTo>
                    <a:pt x="1331" y="18"/>
                  </a:lnTo>
                  <a:lnTo>
                    <a:pt x="1340" y="18"/>
                  </a:lnTo>
                  <a:lnTo>
                    <a:pt x="1348" y="19"/>
                  </a:lnTo>
                  <a:lnTo>
                    <a:pt x="1353" y="18"/>
                  </a:lnTo>
                  <a:lnTo>
                    <a:pt x="1358" y="16"/>
                  </a:lnTo>
                  <a:lnTo>
                    <a:pt x="1364" y="18"/>
                  </a:lnTo>
                  <a:lnTo>
                    <a:pt x="1369" y="20"/>
                  </a:lnTo>
                  <a:lnTo>
                    <a:pt x="1376" y="23"/>
                  </a:lnTo>
                  <a:lnTo>
                    <a:pt x="1390" y="30"/>
                  </a:lnTo>
                  <a:lnTo>
                    <a:pt x="1404" y="40"/>
                  </a:lnTo>
                  <a:lnTo>
                    <a:pt x="1420" y="48"/>
                  </a:lnTo>
                  <a:lnTo>
                    <a:pt x="1435" y="53"/>
                  </a:lnTo>
                  <a:lnTo>
                    <a:pt x="1442" y="54"/>
                  </a:lnTo>
                  <a:lnTo>
                    <a:pt x="1449" y="54"/>
                  </a:lnTo>
                  <a:lnTo>
                    <a:pt x="1455" y="53"/>
                  </a:lnTo>
                  <a:lnTo>
                    <a:pt x="1461" y="49"/>
                  </a:lnTo>
                  <a:lnTo>
                    <a:pt x="1466" y="44"/>
                  </a:lnTo>
                  <a:lnTo>
                    <a:pt x="1473" y="41"/>
                  </a:lnTo>
                  <a:lnTo>
                    <a:pt x="1482" y="37"/>
                  </a:lnTo>
                  <a:lnTo>
                    <a:pt x="1490" y="34"/>
                  </a:lnTo>
                  <a:lnTo>
                    <a:pt x="1508" y="29"/>
                  </a:lnTo>
                  <a:lnTo>
                    <a:pt x="1529" y="25"/>
                  </a:lnTo>
                  <a:lnTo>
                    <a:pt x="1552" y="21"/>
                  </a:lnTo>
                  <a:lnTo>
                    <a:pt x="1576" y="19"/>
                  </a:lnTo>
                  <a:lnTo>
                    <a:pt x="1603" y="18"/>
                  </a:lnTo>
                  <a:lnTo>
                    <a:pt x="1630" y="18"/>
                  </a:lnTo>
                  <a:lnTo>
                    <a:pt x="1653" y="18"/>
                  </a:lnTo>
                  <a:lnTo>
                    <a:pt x="1673" y="19"/>
                  </a:lnTo>
                  <a:lnTo>
                    <a:pt x="1689" y="23"/>
                  </a:lnTo>
                  <a:lnTo>
                    <a:pt x="1704" y="29"/>
                  </a:lnTo>
                  <a:lnTo>
                    <a:pt x="1716" y="36"/>
                  </a:lnTo>
                  <a:lnTo>
                    <a:pt x="1729" y="44"/>
                  </a:lnTo>
                  <a:lnTo>
                    <a:pt x="1741" y="53"/>
                  </a:lnTo>
                  <a:lnTo>
                    <a:pt x="1753" y="63"/>
                  </a:lnTo>
                  <a:lnTo>
                    <a:pt x="1764" y="74"/>
                  </a:lnTo>
                  <a:lnTo>
                    <a:pt x="1778" y="84"/>
                  </a:lnTo>
                  <a:lnTo>
                    <a:pt x="1795" y="95"/>
                  </a:lnTo>
                  <a:lnTo>
                    <a:pt x="1813" y="105"/>
                  </a:lnTo>
                  <a:lnTo>
                    <a:pt x="1834" y="116"/>
                  </a:lnTo>
                  <a:lnTo>
                    <a:pt x="1860" y="125"/>
                  </a:lnTo>
                  <a:lnTo>
                    <a:pt x="1889" y="133"/>
                  </a:lnTo>
                  <a:lnTo>
                    <a:pt x="1924" y="141"/>
                  </a:lnTo>
                  <a:lnTo>
                    <a:pt x="1920" y="146"/>
                  </a:lnTo>
                  <a:lnTo>
                    <a:pt x="1917" y="152"/>
                  </a:lnTo>
                  <a:lnTo>
                    <a:pt x="1916" y="158"/>
                  </a:lnTo>
                  <a:lnTo>
                    <a:pt x="1915" y="165"/>
                  </a:lnTo>
                  <a:lnTo>
                    <a:pt x="1916" y="173"/>
                  </a:lnTo>
                  <a:lnTo>
                    <a:pt x="1918" y="181"/>
                  </a:lnTo>
                  <a:lnTo>
                    <a:pt x="1921" y="189"/>
                  </a:lnTo>
                  <a:lnTo>
                    <a:pt x="1925" y="196"/>
                  </a:lnTo>
                  <a:lnTo>
                    <a:pt x="1930" y="205"/>
                  </a:lnTo>
                  <a:lnTo>
                    <a:pt x="1937" y="213"/>
                  </a:lnTo>
                  <a:lnTo>
                    <a:pt x="1944" y="220"/>
                  </a:lnTo>
                  <a:lnTo>
                    <a:pt x="1953" y="226"/>
                  </a:lnTo>
                  <a:lnTo>
                    <a:pt x="1964" y="231"/>
                  </a:lnTo>
                  <a:lnTo>
                    <a:pt x="1975" y="236"/>
                  </a:lnTo>
                  <a:lnTo>
                    <a:pt x="1987" y="240"/>
                  </a:lnTo>
                  <a:lnTo>
                    <a:pt x="2001" y="242"/>
                  </a:lnTo>
                  <a:lnTo>
                    <a:pt x="2015" y="242"/>
                  </a:lnTo>
                  <a:lnTo>
                    <a:pt x="2029" y="244"/>
                  </a:lnTo>
                  <a:lnTo>
                    <a:pt x="2043" y="249"/>
                  </a:lnTo>
                  <a:lnTo>
                    <a:pt x="2060" y="256"/>
                  </a:lnTo>
                  <a:lnTo>
                    <a:pt x="2094" y="272"/>
                  </a:lnTo>
                  <a:lnTo>
                    <a:pt x="2135" y="291"/>
                  </a:lnTo>
                  <a:lnTo>
                    <a:pt x="2124" y="297"/>
                  </a:lnTo>
                  <a:lnTo>
                    <a:pt x="2114" y="301"/>
                  </a:lnTo>
                  <a:lnTo>
                    <a:pt x="2103" y="305"/>
                  </a:lnTo>
                  <a:lnTo>
                    <a:pt x="2094" y="306"/>
                  </a:lnTo>
                  <a:lnTo>
                    <a:pt x="2076" y="308"/>
                  </a:lnTo>
                  <a:lnTo>
                    <a:pt x="2061" y="310"/>
                  </a:lnTo>
                  <a:lnTo>
                    <a:pt x="2055" y="311"/>
                  </a:lnTo>
                  <a:lnTo>
                    <a:pt x="2050" y="313"/>
                  </a:lnTo>
                  <a:lnTo>
                    <a:pt x="2047" y="317"/>
                  </a:lnTo>
                  <a:lnTo>
                    <a:pt x="2045" y="320"/>
                  </a:lnTo>
                  <a:lnTo>
                    <a:pt x="2045" y="326"/>
                  </a:lnTo>
                  <a:lnTo>
                    <a:pt x="2047" y="334"/>
                  </a:lnTo>
                  <a:lnTo>
                    <a:pt x="2050" y="345"/>
                  </a:lnTo>
                  <a:lnTo>
                    <a:pt x="2056" y="358"/>
                  </a:lnTo>
                  <a:lnTo>
                    <a:pt x="2060" y="365"/>
                  </a:lnTo>
                  <a:lnTo>
                    <a:pt x="2061" y="373"/>
                  </a:lnTo>
                  <a:lnTo>
                    <a:pt x="2062" y="381"/>
                  </a:lnTo>
                  <a:lnTo>
                    <a:pt x="2063" y="389"/>
                  </a:lnTo>
                  <a:lnTo>
                    <a:pt x="2062" y="398"/>
                  </a:lnTo>
                  <a:lnTo>
                    <a:pt x="2061" y="408"/>
                  </a:lnTo>
                  <a:lnTo>
                    <a:pt x="2059" y="417"/>
                  </a:lnTo>
                  <a:lnTo>
                    <a:pt x="2056" y="426"/>
                  </a:lnTo>
                  <a:lnTo>
                    <a:pt x="2049" y="445"/>
                  </a:lnTo>
                  <a:lnTo>
                    <a:pt x="2039" y="465"/>
                  </a:lnTo>
                  <a:lnTo>
                    <a:pt x="2027" y="485"/>
                  </a:lnTo>
                  <a:lnTo>
                    <a:pt x="2013" y="505"/>
                  </a:lnTo>
                  <a:lnTo>
                    <a:pt x="1998" y="523"/>
                  </a:lnTo>
                  <a:lnTo>
                    <a:pt x="1980" y="541"/>
                  </a:lnTo>
                  <a:lnTo>
                    <a:pt x="1963" y="557"/>
                  </a:lnTo>
                  <a:lnTo>
                    <a:pt x="1945" y="572"/>
                  </a:lnTo>
                  <a:lnTo>
                    <a:pt x="1927" y="585"/>
                  </a:lnTo>
                  <a:lnTo>
                    <a:pt x="1908" y="596"/>
                  </a:lnTo>
                  <a:lnTo>
                    <a:pt x="1889" y="605"/>
                  </a:lnTo>
                  <a:lnTo>
                    <a:pt x="1872" y="611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Freeform 143"/>
            <p:cNvSpPr/>
            <p:nvPr/>
          </p:nvSpPr>
          <p:spPr>
            <a:xfrm>
              <a:off x="7760880" y="5291280"/>
              <a:ext cx="385560" cy="16524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411" h="954">
                  <a:moveTo>
                    <a:pt x="1823" y="245"/>
                  </a:moveTo>
                  <a:lnTo>
                    <a:pt x="1840" y="252"/>
                  </a:lnTo>
                  <a:lnTo>
                    <a:pt x="1855" y="260"/>
                  </a:lnTo>
                  <a:lnTo>
                    <a:pt x="1870" y="268"/>
                  </a:lnTo>
                  <a:lnTo>
                    <a:pt x="1883" y="277"/>
                  </a:lnTo>
                  <a:lnTo>
                    <a:pt x="1896" y="286"/>
                  </a:lnTo>
                  <a:lnTo>
                    <a:pt x="1907" y="296"/>
                  </a:lnTo>
                  <a:lnTo>
                    <a:pt x="1919" y="307"/>
                  </a:lnTo>
                  <a:lnTo>
                    <a:pt x="1929" y="319"/>
                  </a:lnTo>
                  <a:lnTo>
                    <a:pt x="1952" y="344"/>
                  </a:lnTo>
                  <a:lnTo>
                    <a:pt x="1974" y="375"/>
                  </a:lnTo>
                  <a:lnTo>
                    <a:pt x="1997" y="409"/>
                  </a:lnTo>
                  <a:lnTo>
                    <a:pt x="2025" y="447"/>
                  </a:lnTo>
                  <a:lnTo>
                    <a:pt x="2049" y="447"/>
                  </a:lnTo>
                  <a:lnTo>
                    <a:pt x="2073" y="451"/>
                  </a:lnTo>
                  <a:lnTo>
                    <a:pt x="2099" y="454"/>
                  </a:lnTo>
                  <a:lnTo>
                    <a:pt x="2126" y="460"/>
                  </a:lnTo>
                  <a:lnTo>
                    <a:pt x="2153" y="468"/>
                  </a:lnTo>
                  <a:lnTo>
                    <a:pt x="2179" y="476"/>
                  </a:lnTo>
                  <a:lnTo>
                    <a:pt x="2207" y="487"/>
                  </a:lnTo>
                  <a:lnTo>
                    <a:pt x="2234" y="498"/>
                  </a:lnTo>
                  <a:lnTo>
                    <a:pt x="2260" y="511"/>
                  </a:lnTo>
                  <a:lnTo>
                    <a:pt x="2287" y="525"/>
                  </a:lnTo>
                  <a:lnTo>
                    <a:pt x="2311" y="541"/>
                  </a:lnTo>
                  <a:lnTo>
                    <a:pt x="2335" y="557"/>
                  </a:lnTo>
                  <a:lnTo>
                    <a:pt x="2357" y="574"/>
                  </a:lnTo>
                  <a:lnTo>
                    <a:pt x="2377" y="592"/>
                  </a:lnTo>
                  <a:lnTo>
                    <a:pt x="2394" y="612"/>
                  </a:lnTo>
                  <a:lnTo>
                    <a:pt x="2411" y="630"/>
                  </a:lnTo>
                  <a:lnTo>
                    <a:pt x="640" y="870"/>
                  </a:lnTo>
                  <a:lnTo>
                    <a:pt x="0" y="954"/>
                  </a:lnTo>
                  <a:lnTo>
                    <a:pt x="17" y="948"/>
                  </a:lnTo>
                  <a:lnTo>
                    <a:pt x="36" y="939"/>
                  </a:lnTo>
                  <a:lnTo>
                    <a:pt x="55" y="928"/>
                  </a:lnTo>
                  <a:lnTo>
                    <a:pt x="73" y="915"/>
                  </a:lnTo>
                  <a:lnTo>
                    <a:pt x="91" y="900"/>
                  </a:lnTo>
                  <a:lnTo>
                    <a:pt x="108" y="884"/>
                  </a:lnTo>
                  <a:lnTo>
                    <a:pt x="126" y="866"/>
                  </a:lnTo>
                  <a:lnTo>
                    <a:pt x="141" y="848"/>
                  </a:lnTo>
                  <a:lnTo>
                    <a:pt x="155" y="828"/>
                  </a:lnTo>
                  <a:lnTo>
                    <a:pt x="167" y="808"/>
                  </a:lnTo>
                  <a:lnTo>
                    <a:pt x="177" y="788"/>
                  </a:lnTo>
                  <a:lnTo>
                    <a:pt x="184" y="769"/>
                  </a:lnTo>
                  <a:lnTo>
                    <a:pt x="187" y="760"/>
                  </a:lnTo>
                  <a:lnTo>
                    <a:pt x="189" y="751"/>
                  </a:lnTo>
                  <a:lnTo>
                    <a:pt x="190" y="741"/>
                  </a:lnTo>
                  <a:lnTo>
                    <a:pt x="191" y="732"/>
                  </a:lnTo>
                  <a:lnTo>
                    <a:pt x="190" y="724"/>
                  </a:lnTo>
                  <a:lnTo>
                    <a:pt x="189" y="716"/>
                  </a:lnTo>
                  <a:lnTo>
                    <a:pt x="188" y="708"/>
                  </a:lnTo>
                  <a:lnTo>
                    <a:pt x="184" y="701"/>
                  </a:lnTo>
                  <a:lnTo>
                    <a:pt x="178" y="688"/>
                  </a:lnTo>
                  <a:lnTo>
                    <a:pt x="175" y="677"/>
                  </a:lnTo>
                  <a:lnTo>
                    <a:pt x="173" y="669"/>
                  </a:lnTo>
                  <a:lnTo>
                    <a:pt x="173" y="663"/>
                  </a:lnTo>
                  <a:lnTo>
                    <a:pt x="175" y="660"/>
                  </a:lnTo>
                  <a:lnTo>
                    <a:pt x="178" y="656"/>
                  </a:lnTo>
                  <a:lnTo>
                    <a:pt x="183" y="654"/>
                  </a:lnTo>
                  <a:lnTo>
                    <a:pt x="189" y="653"/>
                  </a:lnTo>
                  <a:lnTo>
                    <a:pt x="204" y="651"/>
                  </a:lnTo>
                  <a:lnTo>
                    <a:pt x="222" y="649"/>
                  </a:lnTo>
                  <a:lnTo>
                    <a:pt x="231" y="648"/>
                  </a:lnTo>
                  <a:lnTo>
                    <a:pt x="242" y="644"/>
                  </a:lnTo>
                  <a:lnTo>
                    <a:pt x="252" y="640"/>
                  </a:lnTo>
                  <a:lnTo>
                    <a:pt x="263" y="634"/>
                  </a:lnTo>
                  <a:lnTo>
                    <a:pt x="278" y="640"/>
                  </a:lnTo>
                  <a:lnTo>
                    <a:pt x="294" y="647"/>
                  </a:lnTo>
                  <a:lnTo>
                    <a:pt x="313" y="651"/>
                  </a:lnTo>
                  <a:lnTo>
                    <a:pt x="331" y="657"/>
                  </a:lnTo>
                  <a:lnTo>
                    <a:pt x="351" y="662"/>
                  </a:lnTo>
                  <a:lnTo>
                    <a:pt x="374" y="666"/>
                  </a:lnTo>
                  <a:lnTo>
                    <a:pt x="396" y="668"/>
                  </a:lnTo>
                  <a:lnTo>
                    <a:pt x="420" y="669"/>
                  </a:lnTo>
                  <a:lnTo>
                    <a:pt x="446" y="670"/>
                  </a:lnTo>
                  <a:lnTo>
                    <a:pt x="473" y="669"/>
                  </a:lnTo>
                  <a:lnTo>
                    <a:pt x="502" y="666"/>
                  </a:lnTo>
                  <a:lnTo>
                    <a:pt x="532" y="662"/>
                  </a:lnTo>
                  <a:lnTo>
                    <a:pt x="564" y="656"/>
                  </a:lnTo>
                  <a:lnTo>
                    <a:pt x="598" y="648"/>
                  </a:lnTo>
                  <a:lnTo>
                    <a:pt x="634" y="637"/>
                  </a:lnTo>
                  <a:lnTo>
                    <a:pt x="671" y="625"/>
                  </a:lnTo>
                  <a:lnTo>
                    <a:pt x="683" y="620"/>
                  </a:lnTo>
                  <a:lnTo>
                    <a:pt x="694" y="614"/>
                  </a:lnTo>
                  <a:lnTo>
                    <a:pt x="703" y="607"/>
                  </a:lnTo>
                  <a:lnTo>
                    <a:pt x="712" y="599"/>
                  </a:lnTo>
                  <a:lnTo>
                    <a:pt x="719" y="590"/>
                  </a:lnTo>
                  <a:lnTo>
                    <a:pt x="726" y="579"/>
                  </a:lnTo>
                  <a:lnTo>
                    <a:pt x="733" y="569"/>
                  </a:lnTo>
                  <a:lnTo>
                    <a:pt x="739" y="558"/>
                  </a:lnTo>
                  <a:lnTo>
                    <a:pt x="744" y="546"/>
                  </a:lnTo>
                  <a:lnTo>
                    <a:pt x="748" y="534"/>
                  </a:lnTo>
                  <a:lnTo>
                    <a:pt x="752" y="521"/>
                  </a:lnTo>
                  <a:lnTo>
                    <a:pt x="755" y="508"/>
                  </a:lnTo>
                  <a:lnTo>
                    <a:pt x="761" y="480"/>
                  </a:lnTo>
                  <a:lnTo>
                    <a:pt x="766" y="452"/>
                  </a:lnTo>
                  <a:lnTo>
                    <a:pt x="773" y="396"/>
                  </a:lnTo>
                  <a:lnTo>
                    <a:pt x="780" y="344"/>
                  </a:lnTo>
                  <a:lnTo>
                    <a:pt x="786" y="321"/>
                  </a:lnTo>
                  <a:lnTo>
                    <a:pt x="792" y="300"/>
                  </a:lnTo>
                  <a:lnTo>
                    <a:pt x="795" y="291"/>
                  </a:lnTo>
                  <a:lnTo>
                    <a:pt x="800" y="282"/>
                  </a:lnTo>
                  <a:lnTo>
                    <a:pt x="805" y="274"/>
                  </a:lnTo>
                  <a:lnTo>
                    <a:pt x="809" y="268"/>
                  </a:lnTo>
                  <a:lnTo>
                    <a:pt x="821" y="256"/>
                  </a:lnTo>
                  <a:lnTo>
                    <a:pt x="833" y="240"/>
                  </a:lnTo>
                  <a:lnTo>
                    <a:pt x="844" y="224"/>
                  </a:lnTo>
                  <a:lnTo>
                    <a:pt x="856" y="206"/>
                  </a:lnTo>
                  <a:lnTo>
                    <a:pt x="878" y="167"/>
                  </a:lnTo>
                  <a:lnTo>
                    <a:pt x="900" y="126"/>
                  </a:lnTo>
                  <a:lnTo>
                    <a:pt x="920" y="87"/>
                  </a:lnTo>
                  <a:lnTo>
                    <a:pt x="940" y="52"/>
                  </a:lnTo>
                  <a:lnTo>
                    <a:pt x="949" y="37"/>
                  </a:lnTo>
                  <a:lnTo>
                    <a:pt x="958" y="24"/>
                  </a:lnTo>
                  <a:lnTo>
                    <a:pt x="966" y="14"/>
                  </a:lnTo>
                  <a:lnTo>
                    <a:pt x="974" y="6"/>
                  </a:lnTo>
                  <a:lnTo>
                    <a:pt x="1019" y="1"/>
                  </a:lnTo>
                  <a:lnTo>
                    <a:pt x="1060" y="0"/>
                  </a:lnTo>
                  <a:lnTo>
                    <a:pt x="1097" y="0"/>
                  </a:lnTo>
                  <a:lnTo>
                    <a:pt x="1128" y="1"/>
                  </a:lnTo>
                  <a:lnTo>
                    <a:pt x="1156" y="4"/>
                  </a:lnTo>
                  <a:lnTo>
                    <a:pt x="1180" y="8"/>
                  </a:lnTo>
                  <a:lnTo>
                    <a:pt x="1201" y="14"/>
                  </a:lnTo>
                  <a:lnTo>
                    <a:pt x="1218" y="20"/>
                  </a:lnTo>
                  <a:lnTo>
                    <a:pt x="1247" y="31"/>
                  </a:lnTo>
                  <a:lnTo>
                    <a:pt x="1271" y="41"/>
                  </a:lnTo>
                  <a:lnTo>
                    <a:pt x="1281" y="44"/>
                  </a:lnTo>
                  <a:lnTo>
                    <a:pt x="1292" y="45"/>
                  </a:lnTo>
                  <a:lnTo>
                    <a:pt x="1302" y="45"/>
                  </a:lnTo>
                  <a:lnTo>
                    <a:pt x="1314" y="43"/>
                  </a:lnTo>
                  <a:lnTo>
                    <a:pt x="1323" y="44"/>
                  </a:lnTo>
                  <a:lnTo>
                    <a:pt x="1330" y="45"/>
                  </a:lnTo>
                  <a:lnTo>
                    <a:pt x="1337" y="48"/>
                  </a:lnTo>
                  <a:lnTo>
                    <a:pt x="1342" y="51"/>
                  </a:lnTo>
                  <a:lnTo>
                    <a:pt x="1347" y="55"/>
                  </a:lnTo>
                  <a:lnTo>
                    <a:pt x="1350" y="59"/>
                  </a:lnTo>
                  <a:lnTo>
                    <a:pt x="1354" y="65"/>
                  </a:lnTo>
                  <a:lnTo>
                    <a:pt x="1356" y="71"/>
                  </a:lnTo>
                  <a:lnTo>
                    <a:pt x="1363" y="83"/>
                  </a:lnTo>
                  <a:lnTo>
                    <a:pt x="1372" y="95"/>
                  </a:lnTo>
                  <a:lnTo>
                    <a:pt x="1378" y="102"/>
                  </a:lnTo>
                  <a:lnTo>
                    <a:pt x="1385" y="108"/>
                  </a:lnTo>
                  <a:lnTo>
                    <a:pt x="1394" y="115"/>
                  </a:lnTo>
                  <a:lnTo>
                    <a:pt x="1406" y="121"/>
                  </a:lnTo>
                  <a:lnTo>
                    <a:pt x="1412" y="135"/>
                  </a:lnTo>
                  <a:lnTo>
                    <a:pt x="1419" y="148"/>
                  </a:lnTo>
                  <a:lnTo>
                    <a:pt x="1427" y="159"/>
                  </a:lnTo>
                  <a:lnTo>
                    <a:pt x="1435" y="169"/>
                  </a:lnTo>
                  <a:lnTo>
                    <a:pt x="1442" y="177"/>
                  </a:lnTo>
                  <a:lnTo>
                    <a:pt x="1452" y="185"/>
                  </a:lnTo>
                  <a:lnTo>
                    <a:pt x="1460" y="192"/>
                  </a:lnTo>
                  <a:lnTo>
                    <a:pt x="1469" y="198"/>
                  </a:lnTo>
                  <a:lnTo>
                    <a:pt x="1477" y="203"/>
                  </a:lnTo>
                  <a:lnTo>
                    <a:pt x="1487" y="208"/>
                  </a:lnTo>
                  <a:lnTo>
                    <a:pt x="1496" y="211"/>
                  </a:lnTo>
                  <a:lnTo>
                    <a:pt x="1505" y="213"/>
                  </a:lnTo>
                  <a:lnTo>
                    <a:pt x="1524" y="218"/>
                  </a:lnTo>
                  <a:lnTo>
                    <a:pt x="1543" y="219"/>
                  </a:lnTo>
                  <a:lnTo>
                    <a:pt x="1577" y="220"/>
                  </a:lnTo>
                  <a:lnTo>
                    <a:pt x="1607" y="220"/>
                  </a:lnTo>
                  <a:lnTo>
                    <a:pt x="1620" y="222"/>
                  </a:lnTo>
                  <a:lnTo>
                    <a:pt x="1630" y="225"/>
                  </a:lnTo>
                  <a:lnTo>
                    <a:pt x="1635" y="226"/>
                  </a:lnTo>
                  <a:lnTo>
                    <a:pt x="1639" y="229"/>
                  </a:lnTo>
                  <a:lnTo>
                    <a:pt x="1642" y="232"/>
                  </a:lnTo>
                  <a:lnTo>
                    <a:pt x="1644" y="237"/>
                  </a:lnTo>
                  <a:lnTo>
                    <a:pt x="1823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Freeform 144"/>
            <p:cNvSpPr/>
            <p:nvPr/>
          </p:nvSpPr>
          <p:spPr>
            <a:xfrm>
              <a:off x="7760880" y="5291280"/>
              <a:ext cx="385560" cy="16524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411" h="954">
                  <a:moveTo>
                    <a:pt x="1823" y="245"/>
                  </a:moveTo>
                  <a:lnTo>
                    <a:pt x="1840" y="252"/>
                  </a:lnTo>
                  <a:lnTo>
                    <a:pt x="1855" y="260"/>
                  </a:lnTo>
                  <a:lnTo>
                    <a:pt x="1870" y="268"/>
                  </a:lnTo>
                  <a:lnTo>
                    <a:pt x="1883" y="277"/>
                  </a:lnTo>
                  <a:lnTo>
                    <a:pt x="1896" y="286"/>
                  </a:lnTo>
                  <a:lnTo>
                    <a:pt x="1907" y="296"/>
                  </a:lnTo>
                  <a:lnTo>
                    <a:pt x="1919" y="307"/>
                  </a:lnTo>
                  <a:lnTo>
                    <a:pt x="1929" y="319"/>
                  </a:lnTo>
                  <a:lnTo>
                    <a:pt x="1952" y="344"/>
                  </a:lnTo>
                  <a:lnTo>
                    <a:pt x="1974" y="375"/>
                  </a:lnTo>
                  <a:lnTo>
                    <a:pt x="1997" y="409"/>
                  </a:lnTo>
                  <a:lnTo>
                    <a:pt x="2025" y="447"/>
                  </a:lnTo>
                  <a:lnTo>
                    <a:pt x="2049" y="447"/>
                  </a:lnTo>
                  <a:lnTo>
                    <a:pt x="2073" y="451"/>
                  </a:lnTo>
                  <a:lnTo>
                    <a:pt x="2099" y="454"/>
                  </a:lnTo>
                  <a:lnTo>
                    <a:pt x="2126" y="460"/>
                  </a:lnTo>
                  <a:lnTo>
                    <a:pt x="2153" y="468"/>
                  </a:lnTo>
                  <a:lnTo>
                    <a:pt x="2179" y="476"/>
                  </a:lnTo>
                  <a:lnTo>
                    <a:pt x="2207" y="487"/>
                  </a:lnTo>
                  <a:lnTo>
                    <a:pt x="2234" y="498"/>
                  </a:lnTo>
                  <a:lnTo>
                    <a:pt x="2260" y="511"/>
                  </a:lnTo>
                  <a:lnTo>
                    <a:pt x="2287" y="525"/>
                  </a:lnTo>
                  <a:lnTo>
                    <a:pt x="2311" y="541"/>
                  </a:lnTo>
                  <a:lnTo>
                    <a:pt x="2335" y="557"/>
                  </a:lnTo>
                  <a:lnTo>
                    <a:pt x="2357" y="574"/>
                  </a:lnTo>
                  <a:lnTo>
                    <a:pt x="2377" y="592"/>
                  </a:lnTo>
                  <a:lnTo>
                    <a:pt x="2394" y="612"/>
                  </a:lnTo>
                  <a:lnTo>
                    <a:pt x="2411" y="630"/>
                  </a:lnTo>
                  <a:lnTo>
                    <a:pt x="640" y="870"/>
                  </a:lnTo>
                  <a:lnTo>
                    <a:pt x="0" y="954"/>
                  </a:lnTo>
                  <a:lnTo>
                    <a:pt x="17" y="948"/>
                  </a:lnTo>
                  <a:lnTo>
                    <a:pt x="36" y="939"/>
                  </a:lnTo>
                  <a:lnTo>
                    <a:pt x="55" y="928"/>
                  </a:lnTo>
                  <a:lnTo>
                    <a:pt x="73" y="915"/>
                  </a:lnTo>
                  <a:lnTo>
                    <a:pt x="91" y="900"/>
                  </a:lnTo>
                  <a:lnTo>
                    <a:pt x="108" y="884"/>
                  </a:lnTo>
                  <a:lnTo>
                    <a:pt x="126" y="866"/>
                  </a:lnTo>
                  <a:lnTo>
                    <a:pt x="141" y="848"/>
                  </a:lnTo>
                  <a:lnTo>
                    <a:pt x="155" y="828"/>
                  </a:lnTo>
                  <a:lnTo>
                    <a:pt x="167" y="808"/>
                  </a:lnTo>
                  <a:lnTo>
                    <a:pt x="177" y="788"/>
                  </a:lnTo>
                  <a:lnTo>
                    <a:pt x="184" y="769"/>
                  </a:lnTo>
                  <a:lnTo>
                    <a:pt x="187" y="760"/>
                  </a:lnTo>
                  <a:lnTo>
                    <a:pt x="189" y="751"/>
                  </a:lnTo>
                  <a:lnTo>
                    <a:pt x="190" y="741"/>
                  </a:lnTo>
                  <a:lnTo>
                    <a:pt x="191" y="732"/>
                  </a:lnTo>
                  <a:lnTo>
                    <a:pt x="190" y="724"/>
                  </a:lnTo>
                  <a:lnTo>
                    <a:pt x="189" y="716"/>
                  </a:lnTo>
                  <a:lnTo>
                    <a:pt x="188" y="708"/>
                  </a:lnTo>
                  <a:lnTo>
                    <a:pt x="184" y="701"/>
                  </a:lnTo>
                  <a:lnTo>
                    <a:pt x="178" y="688"/>
                  </a:lnTo>
                  <a:lnTo>
                    <a:pt x="175" y="677"/>
                  </a:lnTo>
                  <a:lnTo>
                    <a:pt x="173" y="669"/>
                  </a:lnTo>
                  <a:lnTo>
                    <a:pt x="173" y="663"/>
                  </a:lnTo>
                  <a:lnTo>
                    <a:pt x="175" y="660"/>
                  </a:lnTo>
                  <a:lnTo>
                    <a:pt x="178" y="656"/>
                  </a:lnTo>
                  <a:lnTo>
                    <a:pt x="183" y="654"/>
                  </a:lnTo>
                  <a:lnTo>
                    <a:pt x="189" y="653"/>
                  </a:lnTo>
                  <a:lnTo>
                    <a:pt x="204" y="651"/>
                  </a:lnTo>
                  <a:lnTo>
                    <a:pt x="222" y="649"/>
                  </a:lnTo>
                  <a:lnTo>
                    <a:pt x="231" y="648"/>
                  </a:lnTo>
                  <a:lnTo>
                    <a:pt x="242" y="644"/>
                  </a:lnTo>
                  <a:lnTo>
                    <a:pt x="252" y="640"/>
                  </a:lnTo>
                  <a:lnTo>
                    <a:pt x="263" y="634"/>
                  </a:lnTo>
                  <a:lnTo>
                    <a:pt x="278" y="640"/>
                  </a:lnTo>
                  <a:lnTo>
                    <a:pt x="294" y="647"/>
                  </a:lnTo>
                  <a:lnTo>
                    <a:pt x="313" y="651"/>
                  </a:lnTo>
                  <a:lnTo>
                    <a:pt x="331" y="657"/>
                  </a:lnTo>
                  <a:lnTo>
                    <a:pt x="351" y="662"/>
                  </a:lnTo>
                  <a:lnTo>
                    <a:pt x="374" y="666"/>
                  </a:lnTo>
                  <a:lnTo>
                    <a:pt x="396" y="668"/>
                  </a:lnTo>
                  <a:lnTo>
                    <a:pt x="420" y="669"/>
                  </a:lnTo>
                  <a:lnTo>
                    <a:pt x="446" y="670"/>
                  </a:lnTo>
                  <a:lnTo>
                    <a:pt x="473" y="669"/>
                  </a:lnTo>
                  <a:lnTo>
                    <a:pt x="502" y="666"/>
                  </a:lnTo>
                  <a:lnTo>
                    <a:pt x="532" y="662"/>
                  </a:lnTo>
                  <a:lnTo>
                    <a:pt x="564" y="656"/>
                  </a:lnTo>
                  <a:lnTo>
                    <a:pt x="598" y="648"/>
                  </a:lnTo>
                  <a:lnTo>
                    <a:pt x="634" y="637"/>
                  </a:lnTo>
                  <a:lnTo>
                    <a:pt x="671" y="625"/>
                  </a:lnTo>
                  <a:lnTo>
                    <a:pt x="683" y="620"/>
                  </a:lnTo>
                  <a:lnTo>
                    <a:pt x="694" y="614"/>
                  </a:lnTo>
                  <a:lnTo>
                    <a:pt x="703" y="607"/>
                  </a:lnTo>
                  <a:lnTo>
                    <a:pt x="712" y="599"/>
                  </a:lnTo>
                  <a:lnTo>
                    <a:pt x="719" y="590"/>
                  </a:lnTo>
                  <a:lnTo>
                    <a:pt x="726" y="579"/>
                  </a:lnTo>
                  <a:lnTo>
                    <a:pt x="733" y="569"/>
                  </a:lnTo>
                  <a:lnTo>
                    <a:pt x="739" y="558"/>
                  </a:lnTo>
                  <a:lnTo>
                    <a:pt x="744" y="546"/>
                  </a:lnTo>
                  <a:lnTo>
                    <a:pt x="748" y="534"/>
                  </a:lnTo>
                  <a:lnTo>
                    <a:pt x="752" y="521"/>
                  </a:lnTo>
                  <a:lnTo>
                    <a:pt x="755" y="508"/>
                  </a:lnTo>
                  <a:lnTo>
                    <a:pt x="761" y="480"/>
                  </a:lnTo>
                  <a:lnTo>
                    <a:pt x="766" y="452"/>
                  </a:lnTo>
                  <a:lnTo>
                    <a:pt x="773" y="396"/>
                  </a:lnTo>
                  <a:lnTo>
                    <a:pt x="780" y="344"/>
                  </a:lnTo>
                  <a:lnTo>
                    <a:pt x="786" y="321"/>
                  </a:lnTo>
                  <a:lnTo>
                    <a:pt x="792" y="300"/>
                  </a:lnTo>
                  <a:lnTo>
                    <a:pt x="795" y="291"/>
                  </a:lnTo>
                  <a:lnTo>
                    <a:pt x="800" y="282"/>
                  </a:lnTo>
                  <a:lnTo>
                    <a:pt x="805" y="274"/>
                  </a:lnTo>
                  <a:lnTo>
                    <a:pt x="809" y="268"/>
                  </a:lnTo>
                  <a:lnTo>
                    <a:pt x="821" y="256"/>
                  </a:lnTo>
                  <a:lnTo>
                    <a:pt x="833" y="240"/>
                  </a:lnTo>
                  <a:lnTo>
                    <a:pt x="844" y="224"/>
                  </a:lnTo>
                  <a:lnTo>
                    <a:pt x="856" y="206"/>
                  </a:lnTo>
                  <a:lnTo>
                    <a:pt x="878" y="167"/>
                  </a:lnTo>
                  <a:lnTo>
                    <a:pt x="900" y="126"/>
                  </a:lnTo>
                  <a:lnTo>
                    <a:pt x="920" y="87"/>
                  </a:lnTo>
                  <a:lnTo>
                    <a:pt x="940" y="52"/>
                  </a:lnTo>
                  <a:lnTo>
                    <a:pt x="949" y="37"/>
                  </a:lnTo>
                  <a:lnTo>
                    <a:pt x="958" y="24"/>
                  </a:lnTo>
                  <a:lnTo>
                    <a:pt x="966" y="14"/>
                  </a:lnTo>
                  <a:lnTo>
                    <a:pt x="974" y="6"/>
                  </a:lnTo>
                  <a:lnTo>
                    <a:pt x="1019" y="1"/>
                  </a:lnTo>
                  <a:lnTo>
                    <a:pt x="1060" y="0"/>
                  </a:lnTo>
                  <a:lnTo>
                    <a:pt x="1097" y="0"/>
                  </a:lnTo>
                  <a:lnTo>
                    <a:pt x="1128" y="1"/>
                  </a:lnTo>
                  <a:lnTo>
                    <a:pt x="1156" y="4"/>
                  </a:lnTo>
                  <a:lnTo>
                    <a:pt x="1180" y="8"/>
                  </a:lnTo>
                  <a:lnTo>
                    <a:pt x="1201" y="14"/>
                  </a:lnTo>
                  <a:lnTo>
                    <a:pt x="1218" y="20"/>
                  </a:lnTo>
                  <a:lnTo>
                    <a:pt x="1247" y="31"/>
                  </a:lnTo>
                  <a:lnTo>
                    <a:pt x="1271" y="41"/>
                  </a:lnTo>
                  <a:lnTo>
                    <a:pt x="1281" y="44"/>
                  </a:lnTo>
                  <a:lnTo>
                    <a:pt x="1292" y="45"/>
                  </a:lnTo>
                  <a:lnTo>
                    <a:pt x="1302" y="45"/>
                  </a:lnTo>
                  <a:lnTo>
                    <a:pt x="1314" y="43"/>
                  </a:lnTo>
                  <a:lnTo>
                    <a:pt x="1323" y="44"/>
                  </a:lnTo>
                  <a:lnTo>
                    <a:pt x="1330" y="45"/>
                  </a:lnTo>
                  <a:lnTo>
                    <a:pt x="1337" y="48"/>
                  </a:lnTo>
                  <a:lnTo>
                    <a:pt x="1342" y="51"/>
                  </a:lnTo>
                  <a:lnTo>
                    <a:pt x="1347" y="55"/>
                  </a:lnTo>
                  <a:lnTo>
                    <a:pt x="1350" y="59"/>
                  </a:lnTo>
                  <a:lnTo>
                    <a:pt x="1354" y="65"/>
                  </a:lnTo>
                  <a:lnTo>
                    <a:pt x="1356" y="71"/>
                  </a:lnTo>
                  <a:lnTo>
                    <a:pt x="1363" y="83"/>
                  </a:lnTo>
                  <a:lnTo>
                    <a:pt x="1372" y="95"/>
                  </a:lnTo>
                  <a:lnTo>
                    <a:pt x="1378" y="102"/>
                  </a:lnTo>
                  <a:lnTo>
                    <a:pt x="1385" y="108"/>
                  </a:lnTo>
                  <a:lnTo>
                    <a:pt x="1394" y="115"/>
                  </a:lnTo>
                  <a:lnTo>
                    <a:pt x="1406" y="121"/>
                  </a:lnTo>
                  <a:lnTo>
                    <a:pt x="1412" y="135"/>
                  </a:lnTo>
                  <a:lnTo>
                    <a:pt x="1419" y="148"/>
                  </a:lnTo>
                  <a:lnTo>
                    <a:pt x="1427" y="159"/>
                  </a:lnTo>
                  <a:lnTo>
                    <a:pt x="1435" y="169"/>
                  </a:lnTo>
                  <a:lnTo>
                    <a:pt x="1442" y="177"/>
                  </a:lnTo>
                  <a:lnTo>
                    <a:pt x="1452" y="185"/>
                  </a:lnTo>
                  <a:lnTo>
                    <a:pt x="1460" y="192"/>
                  </a:lnTo>
                  <a:lnTo>
                    <a:pt x="1469" y="198"/>
                  </a:lnTo>
                  <a:lnTo>
                    <a:pt x="1477" y="203"/>
                  </a:lnTo>
                  <a:lnTo>
                    <a:pt x="1487" y="208"/>
                  </a:lnTo>
                  <a:lnTo>
                    <a:pt x="1496" y="211"/>
                  </a:lnTo>
                  <a:lnTo>
                    <a:pt x="1505" y="213"/>
                  </a:lnTo>
                  <a:lnTo>
                    <a:pt x="1524" y="218"/>
                  </a:lnTo>
                  <a:lnTo>
                    <a:pt x="1543" y="219"/>
                  </a:lnTo>
                  <a:lnTo>
                    <a:pt x="1577" y="220"/>
                  </a:lnTo>
                  <a:lnTo>
                    <a:pt x="1607" y="220"/>
                  </a:lnTo>
                  <a:lnTo>
                    <a:pt x="1620" y="222"/>
                  </a:lnTo>
                  <a:lnTo>
                    <a:pt x="1630" y="225"/>
                  </a:lnTo>
                  <a:lnTo>
                    <a:pt x="1635" y="226"/>
                  </a:lnTo>
                  <a:lnTo>
                    <a:pt x="1639" y="229"/>
                  </a:lnTo>
                  <a:lnTo>
                    <a:pt x="1642" y="232"/>
                  </a:lnTo>
                  <a:lnTo>
                    <a:pt x="1644" y="237"/>
                  </a:lnTo>
                  <a:lnTo>
                    <a:pt x="1823" y="245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Freeform 145"/>
            <p:cNvSpPr/>
            <p:nvPr/>
          </p:nvSpPr>
          <p:spPr>
            <a:xfrm>
              <a:off x="7201080" y="5519880"/>
              <a:ext cx="255240" cy="20736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1601" h="1200">
                  <a:moveTo>
                    <a:pt x="424" y="1200"/>
                  </a:moveTo>
                  <a:lnTo>
                    <a:pt x="415" y="1192"/>
                  </a:lnTo>
                  <a:lnTo>
                    <a:pt x="404" y="1184"/>
                  </a:lnTo>
                  <a:lnTo>
                    <a:pt x="391" y="1176"/>
                  </a:lnTo>
                  <a:lnTo>
                    <a:pt x="377" y="1167"/>
                  </a:lnTo>
                  <a:lnTo>
                    <a:pt x="345" y="1147"/>
                  </a:lnTo>
                  <a:lnTo>
                    <a:pt x="306" y="1126"/>
                  </a:lnTo>
                  <a:lnTo>
                    <a:pt x="263" y="1103"/>
                  </a:lnTo>
                  <a:lnTo>
                    <a:pt x="216" y="1081"/>
                  </a:lnTo>
                  <a:lnTo>
                    <a:pt x="166" y="1059"/>
                  </a:lnTo>
                  <a:lnTo>
                    <a:pt x="112" y="1036"/>
                  </a:lnTo>
                  <a:lnTo>
                    <a:pt x="106" y="308"/>
                  </a:lnTo>
                  <a:lnTo>
                    <a:pt x="0" y="55"/>
                  </a:lnTo>
                  <a:lnTo>
                    <a:pt x="1466" y="0"/>
                  </a:lnTo>
                  <a:lnTo>
                    <a:pt x="1458" y="83"/>
                  </a:lnTo>
                  <a:lnTo>
                    <a:pt x="1596" y="69"/>
                  </a:lnTo>
                  <a:lnTo>
                    <a:pt x="1598" y="85"/>
                  </a:lnTo>
                  <a:lnTo>
                    <a:pt x="1600" y="101"/>
                  </a:lnTo>
                  <a:lnTo>
                    <a:pt x="1601" y="118"/>
                  </a:lnTo>
                  <a:lnTo>
                    <a:pt x="1601" y="135"/>
                  </a:lnTo>
                  <a:lnTo>
                    <a:pt x="1600" y="169"/>
                  </a:lnTo>
                  <a:lnTo>
                    <a:pt x="1597" y="204"/>
                  </a:lnTo>
                  <a:lnTo>
                    <a:pt x="1591" y="239"/>
                  </a:lnTo>
                  <a:lnTo>
                    <a:pt x="1584" y="274"/>
                  </a:lnTo>
                  <a:lnTo>
                    <a:pt x="1575" y="309"/>
                  </a:lnTo>
                  <a:lnTo>
                    <a:pt x="1564" y="343"/>
                  </a:lnTo>
                  <a:lnTo>
                    <a:pt x="1552" y="376"/>
                  </a:lnTo>
                  <a:lnTo>
                    <a:pt x="1541" y="407"/>
                  </a:lnTo>
                  <a:lnTo>
                    <a:pt x="1529" y="436"/>
                  </a:lnTo>
                  <a:lnTo>
                    <a:pt x="1516" y="465"/>
                  </a:lnTo>
                  <a:lnTo>
                    <a:pt x="1505" y="489"/>
                  </a:lnTo>
                  <a:lnTo>
                    <a:pt x="1493" y="511"/>
                  </a:lnTo>
                  <a:lnTo>
                    <a:pt x="1482" y="531"/>
                  </a:lnTo>
                  <a:lnTo>
                    <a:pt x="1472" y="546"/>
                  </a:lnTo>
                  <a:lnTo>
                    <a:pt x="1462" y="564"/>
                  </a:lnTo>
                  <a:lnTo>
                    <a:pt x="1453" y="585"/>
                  </a:lnTo>
                  <a:lnTo>
                    <a:pt x="1444" y="611"/>
                  </a:lnTo>
                  <a:lnTo>
                    <a:pt x="1434" y="640"/>
                  </a:lnTo>
                  <a:lnTo>
                    <a:pt x="1426" y="671"/>
                  </a:lnTo>
                  <a:lnTo>
                    <a:pt x="1418" y="707"/>
                  </a:lnTo>
                  <a:lnTo>
                    <a:pt x="1411" y="746"/>
                  </a:lnTo>
                  <a:lnTo>
                    <a:pt x="1406" y="787"/>
                  </a:lnTo>
                  <a:lnTo>
                    <a:pt x="1403" y="830"/>
                  </a:lnTo>
                  <a:lnTo>
                    <a:pt x="1402" y="876"/>
                  </a:lnTo>
                  <a:lnTo>
                    <a:pt x="1402" y="898"/>
                  </a:lnTo>
                  <a:lnTo>
                    <a:pt x="1403" y="921"/>
                  </a:lnTo>
                  <a:lnTo>
                    <a:pt x="1405" y="946"/>
                  </a:lnTo>
                  <a:lnTo>
                    <a:pt x="1408" y="969"/>
                  </a:lnTo>
                  <a:lnTo>
                    <a:pt x="1410" y="994"/>
                  </a:lnTo>
                  <a:lnTo>
                    <a:pt x="1415" y="1018"/>
                  </a:lnTo>
                  <a:lnTo>
                    <a:pt x="1419" y="1043"/>
                  </a:lnTo>
                  <a:lnTo>
                    <a:pt x="1425" y="1067"/>
                  </a:lnTo>
                  <a:lnTo>
                    <a:pt x="1432" y="1092"/>
                  </a:lnTo>
                  <a:lnTo>
                    <a:pt x="1439" y="1116"/>
                  </a:lnTo>
                  <a:lnTo>
                    <a:pt x="1448" y="1141"/>
                  </a:lnTo>
                  <a:lnTo>
                    <a:pt x="1458" y="1165"/>
                  </a:lnTo>
                  <a:lnTo>
                    <a:pt x="424" y="1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Freeform 146"/>
            <p:cNvSpPr/>
            <p:nvPr/>
          </p:nvSpPr>
          <p:spPr>
            <a:xfrm>
              <a:off x="7201080" y="5519880"/>
              <a:ext cx="255240" cy="20736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1601" h="1200">
                  <a:moveTo>
                    <a:pt x="424" y="1200"/>
                  </a:moveTo>
                  <a:lnTo>
                    <a:pt x="415" y="1192"/>
                  </a:lnTo>
                  <a:lnTo>
                    <a:pt x="404" y="1184"/>
                  </a:lnTo>
                  <a:lnTo>
                    <a:pt x="391" y="1176"/>
                  </a:lnTo>
                  <a:lnTo>
                    <a:pt x="377" y="1167"/>
                  </a:lnTo>
                  <a:lnTo>
                    <a:pt x="345" y="1147"/>
                  </a:lnTo>
                  <a:lnTo>
                    <a:pt x="306" y="1126"/>
                  </a:lnTo>
                  <a:lnTo>
                    <a:pt x="263" y="1103"/>
                  </a:lnTo>
                  <a:lnTo>
                    <a:pt x="216" y="1081"/>
                  </a:lnTo>
                  <a:lnTo>
                    <a:pt x="166" y="1059"/>
                  </a:lnTo>
                  <a:lnTo>
                    <a:pt x="112" y="1036"/>
                  </a:lnTo>
                  <a:lnTo>
                    <a:pt x="106" y="308"/>
                  </a:lnTo>
                  <a:lnTo>
                    <a:pt x="0" y="55"/>
                  </a:lnTo>
                  <a:lnTo>
                    <a:pt x="1466" y="0"/>
                  </a:lnTo>
                  <a:lnTo>
                    <a:pt x="1458" y="83"/>
                  </a:lnTo>
                  <a:lnTo>
                    <a:pt x="1596" y="69"/>
                  </a:lnTo>
                  <a:lnTo>
                    <a:pt x="1598" y="85"/>
                  </a:lnTo>
                  <a:lnTo>
                    <a:pt x="1600" y="101"/>
                  </a:lnTo>
                  <a:lnTo>
                    <a:pt x="1601" y="118"/>
                  </a:lnTo>
                  <a:lnTo>
                    <a:pt x="1601" y="135"/>
                  </a:lnTo>
                  <a:lnTo>
                    <a:pt x="1600" y="169"/>
                  </a:lnTo>
                  <a:lnTo>
                    <a:pt x="1597" y="204"/>
                  </a:lnTo>
                  <a:lnTo>
                    <a:pt x="1591" y="239"/>
                  </a:lnTo>
                  <a:lnTo>
                    <a:pt x="1584" y="274"/>
                  </a:lnTo>
                  <a:lnTo>
                    <a:pt x="1575" y="309"/>
                  </a:lnTo>
                  <a:lnTo>
                    <a:pt x="1564" y="343"/>
                  </a:lnTo>
                  <a:lnTo>
                    <a:pt x="1552" y="376"/>
                  </a:lnTo>
                  <a:lnTo>
                    <a:pt x="1541" y="407"/>
                  </a:lnTo>
                  <a:lnTo>
                    <a:pt x="1529" y="436"/>
                  </a:lnTo>
                  <a:lnTo>
                    <a:pt x="1516" y="465"/>
                  </a:lnTo>
                  <a:lnTo>
                    <a:pt x="1505" y="489"/>
                  </a:lnTo>
                  <a:lnTo>
                    <a:pt x="1493" y="511"/>
                  </a:lnTo>
                  <a:lnTo>
                    <a:pt x="1482" y="531"/>
                  </a:lnTo>
                  <a:lnTo>
                    <a:pt x="1472" y="546"/>
                  </a:lnTo>
                  <a:lnTo>
                    <a:pt x="1462" y="564"/>
                  </a:lnTo>
                  <a:lnTo>
                    <a:pt x="1453" y="585"/>
                  </a:lnTo>
                  <a:lnTo>
                    <a:pt x="1444" y="611"/>
                  </a:lnTo>
                  <a:lnTo>
                    <a:pt x="1434" y="640"/>
                  </a:lnTo>
                  <a:lnTo>
                    <a:pt x="1426" y="671"/>
                  </a:lnTo>
                  <a:lnTo>
                    <a:pt x="1418" y="707"/>
                  </a:lnTo>
                  <a:lnTo>
                    <a:pt x="1411" y="746"/>
                  </a:lnTo>
                  <a:lnTo>
                    <a:pt x="1406" y="787"/>
                  </a:lnTo>
                  <a:lnTo>
                    <a:pt x="1403" y="830"/>
                  </a:lnTo>
                  <a:lnTo>
                    <a:pt x="1402" y="876"/>
                  </a:lnTo>
                  <a:lnTo>
                    <a:pt x="1402" y="898"/>
                  </a:lnTo>
                  <a:lnTo>
                    <a:pt x="1403" y="921"/>
                  </a:lnTo>
                  <a:lnTo>
                    <a:pt x="1405" y="946"/>
                  </a:lnTo>
                  <a:lnTo>
                    <a:pt x="1408" y="969"/>
                  </a:lnTo>
                  <a:lnTo>
                    <a:pt x="1410" y="994"/>
                  </a:lnTo>
                  <a:lnTo>
                    <a:pt x="1415" y="1018"/>
                  </a:lnTo>
                  <a:lnTo>
                    <a:pt x="1419" y="1043"/>
                  </a:lnTo>
                  <a:lnTo>
                    <a:pt x="1425" y="1067"/>
                  </a:lnTo>
                  <a:lnTo>
                    <a:pt x="1432" y="1092"/>
                  </a:lnTo>
                  <a:lnTo>
                    <a:pt x="1439" y="1116"/>
                  </a:lnTo>
                  <a:lnTo>
                    <a:pt x="1448" y="1141"/>
                  </a:lnTo>
                  <a:lnTo>
                    <a:pt x="1458" y="1165"/>
                  </a:lnTo>
                  <a:lnTo>
                    <a:pt x="424" y="120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Freeform 147"/>
            <p:cNvSpPr/>
            <p:nvPr/>
          </p:nvSpPr>
          <p:spPr>
            <a:xfrm>
              <a:off x="8062920" y="5299200"/>
              <a:ext cx="47520" cy="61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89" h="357">
                  <a:moveTo>
                    <a:pt x="285" y="357"/>
                  </a:moveTo>
                  <a:lnTo>
                    <a:pt x="273" y="353"/>
                  </a:lnTo>
                  <a:lnTo>
                    <a:pt x="263" y="347"/>
                  </a:lnTo>
                  <a:lnTo>
                    <a:pt x="251" y="340"/>
                  </a:lnTo>
                  <a:lnTo>
                    <a:pt x="241" y="332"/>
                  </a:lnTo>
                  <a:lnTo>
                    <a:pt x="230" y="322"/>
                  </a:lnTo>
                  <a:lnTo>
                    <a:pt x="220" y="313"/>
                  </a:lnTo>
                  <a:lnTo>
                    <a:pt x="209" y="302"/>
                  </a:lnTo>
                  <a:lnTo>
                    <a:pt x="200" y="292"/>
                  </a:lnTo>
                  <a:lnTo>
                    <a:pt x="180" y="269"/>
                  </a:lnTo>
                  <a:lnTo>
                    <a:pt x="161" y="243"/>
                  </a:lnTo>
                  <a:lnTo>
                    <a:pt x="144" y="217"/>
                  </a:lnTo>
                  <a:lnTo>
                    <a:pt x="125" y="191"/>
                  </a:lnTo>
                  <a:lnTo>
                    <a:pt x="92" y="140"/>
                  </a:lnTo>
                  <a:lnTo>
                    <a:pt x="61" y="96"/>
                  </a:lnTo>
                  <a:lnTo>
                    <a:pt x="44" y="78"/>
                  </a:lnTo>
                  <a:lnTo>
                    <a:pt x="29" y="63"/>
                  </a:lnTo>
                  <a:lnTo>
                    <a:pt x="22" y="57"/>
                  </a:lnTo>
                  <a:lnTo>
                    <a:pt x="15" y="52"/>
                  </a:lnTo>
                  <a:lnTo>
                    <a:pt x="7" y="49"/>
                  </a:lnTo>
                  <a:lnTo>
                    <a:pt x="0" y="47"/>
                  </a:lnTo>
                  <a:lnTo>
                    <a:pt x="161" y="0"/>
                  </a:lnTo>
                  <a:lnTo>
                    <a:pt x="162" y="10"/>
                  </a:lnTo>
                  <a:lnTo>
                    <a:pt x="165" y="20"/>
                  </a:lnTo>
                  <a:lnTo>
                    <a:pt x="168" y="29"/>
                  </a:lnTo>
                  <a:lnTo>
                    <a:pt x="174" y="37"/>
                  </a:lnTo>
                  <a:lnTo>
                    <a:pt x="186" y="55"/>
                  </a:lnTo>
                  <a:lnTo>
                    <a:pt x="201" y="71"/>
                  </a:lnTo>
                  <a:lnTo>
                    <a:pt x="215" y="88"/>
                  </a:lnTo>
                  <a:lnTo>
                    <a:pt x="227" y="104"/>
                  </a:lnTo>
                  <a:lnTo>
                    <a:pt x="233" y="113"/>
                  </a:lnTo>
                  <a:lnTo>
                    <a:pt x="236" y="123"/>
                  </a:lnTo>
                  <a:lnTo>
                    <a:pt x="238" y="132"/>
                  </a:lnTo>
                  <a:lnTo>
                    <a:pt x="240" y="141"/>
                  </a:lnTo>
                  <a:lnTo>
                    <a:pt x="240" y="158"/>
                  </a:lnTo>
                  <a:lnTo>
                    <a:pt x="242" y="173"/>
                  </a:lnTo>
                  <a:lnTo>
                    <a:pt x="245" y="187"/>
                  </a:lnTo>
                  <a:lnTo>
                    <a:pt x="249" y="200"/>
                  </a:lnTo>
                  <a:lnTo>
                    <a:pt x="258" y="224"/>
                  </a:lnTo>
                  <a:lnTo>
                    <a:pt x="269" y="246"/>
                  </a:lnTo>
                  <a:lnTo>
                    <a:pt x="273" y="258"/>
                  </a:lnTo>
                  <a:lnTo>
                    <a:pt x="278" y="270"/>
                  </a:lnTo>
                  <a:lnTo>
                    <a:pt x="283" y="281"/>
                  </a:lnTo>
                  <a:lnTo>
                    <a:pt x="285" y="294"/>
                  </a:lnTo>
                  <a:lnTo>
                    <a:pt x="287" y="308"/>
                  </a:lnTo>
                  <a:lnTo>
                    <a:pt x="289" y="323"/>
                  </a:lnTo>
                  <a:lnTo>
                    <a:pt x="287" y="340"/>
                  </a:lnTo>
                  <a:lnTo>
                    <a:pt x="285" y="35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Freeform 148"/>
            <p:cNvSpPr/>
            <p:nvPr/>
          </p:nvSpPr>
          <p:spPr>
            <a:xfrm>
              <a:off x="8062920" y="5299200"/>
              <a:ext cx="47520" cy="61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89" h="357">
                  <a:moveTo>
                    <a:pt x="285" y="357"/>
                  </a:moveTo>
                  <a:lnTo>
                    <a:pt x="273" y="353"/>
                  </a:lnTo>
                  <a:lnTo>
                    <a:pt x="263" y="347"/>
                  </a:lnTo>
                  <a:lnTo>
                    <a:pt x="251" y="340"/>
                  </a:lnTo>
                  <a:lnTo>
                    <a:pt x="241" y="332"/>
                  </a:lnTo>
                  <a:lnTo>
                    <a:pt x="230" y="322"/>
                  </a:lnTo>
                  <a:lnTo>
                    <a:pt x="220" y="313"/>
                  </a:lnTo>
                  <a:lnTo>
                    <a:pt x="209" y="302"/>
                  </a:lnTo>
                  <a:lnTo>
                    <a:pt x="200" y="292"/>
                  </a:lnTo>
                  <a:lnTo>
                    <a:pt x="180" y="269"/>
                  </a:lnTo>
                  <a:lnTo>
                    <a:pt x="161" y="243"/>
                  </a:lnTo>
                  <a:lnTo>
                    <a:pt x="144" y="217"/>
                  </a:lnTo>
                  <a:lnTo>
                    <a:pt x="125" y="191"/>
                  </a:lnTo>
                  <a:lnTo>
                    <a:pt x="92" y="140"/>
                  </a:lnTo>
                  <a:lnTo>
                    <a:pt x="61" y="96"/>
                  </a:lnTo>
                  <a:lnTo>
                    <a:pt x="44" y="78"/>
                  </a:lnTo>
                  <a:lnTo>
                    <a:pt x="29" y="63"/>
                  </a:lnTo>
                  <a:lnTo>
                    <a:pt x="22" y="57"/>
                  </a:lnTo>
                  <a:lnTo>
                    <a:pt x="15" y="52"/>
                  </a:lnTo>
                  <a:lnTo>
                    <a:pt x="7" y="49"/>
                  </a:lnTo>
                  <a:lnTo>
                    <a:pt x="0" y="47"/>
                  </a:lnTo>
                  <a:lnTo>
                    <a:pt x="161" y="0"/>
                  </a:lnTo>
                  <a:lnTo>
                    <a:pt x="162" y="10"/>
                  </a:lnTo>
                  <a:lnTo>
                    <a:pt x="165" y="20"/>
                  </a:lnTo>
                  <a:lnTo>
                    <a:pt x="168" y="29"/>
                  </a:lnTo>
                  <a:lnTo>
                    <a:pt x="174" y="37"/>
                  </a:lnTo>
                  <a:lnTo>
                    <a:pt x="186" y="55"/>
                  </a:lnTo>
                  <a:lnTo>
                    <a:pt x="201" y="71"/>
                  </a:lnTo>
                  <a:lnTo>
                    <a:pt x="215" y="88"/>
                  </a:lnTo>
                  <a:lnTo>
                    <a:pt x="227" y="104"/>
                  </a:lnTo>
                  <a:lnTo>
                    <a:pt x="233" y="113"/>
                  </a:lnTo>
                  <a:lnTo>
                    <a:pt x="236" y="123"/>
                  </a:lnTo>
                  <a:lnTo>
                    <a:pt x="238" y="132"/>
                  </a:lnTo>
                  <a:lnTo>
                    <a:pt x="240" y="141"/>
                  </a:lnTo>
                  <a:lnTo>
                    <a:pt x="240" y="158"/>
                  </a:lnTo>
                  <a:lnTo>
                    <a:pt x="242" y="173"/>
                  </a:lnTo>
                  <a:lnTo>
                    <a:pt x="245" y="187"/>
                  </a:lnTo>
                  <a:lnTo>
                    <a:pt x="249" y="200"/>
                  </a:lnTo>
                  <a:lnTo>
                    <a:pt x="258" y="224"/>
                  </a:lnTo>
                  <a:lnTo>
                    <a:pt x="269" y="246"/>
                  </a:lnTo>
                  <a:lnTo>
                    <a:pt x="273" y="258"/>
                  </a:lnTo>
                  <a:lnTo>
                    <a:pt x="278" y="270"/>
                  </a:lnTo>
                  <a:lnTo>
                    <a:pt x="283" y="281"/>
                  </a:lnTo>
                  <a:lnTo>
                    <a:pt x="285" y="294"/>
                  </a:lnTo>
                  <a:lnTo>
                    <a:pt x="287" y="308"/>
                  </a:lnTo>
                  <a:lnTo>
                    <a:pt x="289" y="323"/>
                  </a:lnTo>
                  <a:lnTo>
                    <a:pt x="287" y="340"/>
                  </a:lnTo>
                  <a:lnTo>
                    <a:pt x="285" y="357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Freeform 149"/>
            <p:cNvSpPr/>
            <p:nvPr/>
          </p:nvSpPr>
          <p:spPr>
            <a:xfrm>
              <a:off x="7085160" y="5205600"/>
              <a:ext cx="274320" cy="12348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714" h="717">
                  <a:moveTo>
                    <a:pt x="1388" y="0"/>
                  </a:moveTo>
                  <a:lnTo>
                    <a:pt x="1399" y="19"/>
                  </a:lnTo>
                  <a:lnTo>
                    <a:pt x="1410" y="38"/>
                  </a:lnTo>
                  <a:lnTo>
                    <a:pt x="1424" y="56"/>
                  </a:lnTo>
                  <a:lnTo>
                    <a:pt x="1440" y="75"/>
                  </a:lnTo>
                  <a:lnTo>
                    <a:pt x="1457" y="93"/>
                  </a:lnTo>
                  <a:lnTo>
                    <a:pt x="1475" y="109"/>
                  </a:lnTo>
                  <a:lnTo>
                    <a:pt x="1494" y="125"/>
                  </a:lnTo>
                  <a:lnTo>
                    <a:pt x="1514" y="140"/>
                  </a:lnTo>
                  <a:lnTo>
                    <a:pt x="1535" y="153"/>
                  </a:lnTo>
                  <a:lnTo>
                    <a:pt x="1558" y="166"/>
                  </a:lnTo>
                  <a:lnTo>
                    <a:pt x="1579" y="177"/>
                  </a:lnTo>
                  <a:lnTo>
                    <a:pt x="1601" y="186"/>
                  </a:lnTo>
                  <a:lnTo>
                    <a:pt x="1622" y="193"/>
                  </a:lnTo>
                  <a:lnTo>
                    <a:pt x="1643" y="198"/>
                  </a:lnTo>
                  <a:lnTo>
                    <a:pt x="1663" y="201"/>
                  </a:lnTo>
                  <a:lnTo>
                    <a:pt x="1683" y="202"/>
                  </a:lnTo>
                  <a:lnTo>
                    <a:pt x="1714" y="331"/>
                  </a:lnTo>
                  <a:lnTo>
                    <a:pt x="1695" y="335"/>
                  </a:lnTo>
                  <a:lnTo>
                    <a:pt x="1679" y="340"/>
                  </a:lnTo>
                  <a:lnTo>
                    <a:pt x="1665" y="346"/>
                  </a:lnTo>
                  <a:lnTo>
                    <a:pt x="1653" y="353"/>
                  </a:lnTo>
                  <a:lnTo>
                    <a:pt x="1643" y="361"/>
                  </a:lnTo>
                  <a:lnTo>
                    <a:pt x="1636" y="369"/>
                  </a:lnTo>
                  <a:lnTo>
                    <a:pt x="1630" y="379"/>
                  </a:lnTo>
                  <a:lnTo>
                    <a:pt x="1625" y="388"/>
                  </a:lnTo>
                  <a:lnTo>
                    <a:pt x="1623" y="397"/>
                  </a:lnTo>
                  <a:lnTo>
                    <a:pt x="1622" y="407"/>
                  </a:lnTo>
                  <a:lnTo>
                    <a:pt x="1623" y="416"/>
                  </a:lnTo>
                  <a:lnTo>
                    <a:pt x="1625" y="425"/>
                  </a:lnTo>
                  <a:lnTo>
                    <a:pt x="1628" y="434"/>
                  </a:lnTo>
                  <a:lnTo>
                    <a:pt x="1632" y="442"/>
                  </a:lnTo>
                  <a:lnTo>
                    <a:pt x="1638" y="449"/>
                  </a:lnTo>
                  <a:lnTo>
                    <a:pt x="1645" y="456"/>
                  </a:lnTo>
                  <a:lnTo>
                    <a:pt x="1608" y="525"/>
                  </a:lnTo>
                  <a:lnTo>
                    <a:pt x="1602" y="525"/>
                  </a:lnTo>
                  <a:lnTo>
                    <a:pt x="1596" y="525"/>
                  </a:lnTo>
                  <a:lnTo>
                    <a:pt x="1591" y="526"/>
                  </a:lnTo>
                  <a:lnTo>
                    <a:pt x="1586" y="528"/>
                  </a:lnTo>
                  <a:lnTo>
                    <a:pt x="1582" y="531"/>
                  </a:lnTo>
                  <a:lnTo>
                    <a:pt x="1577" y="534"/>
                  </a:lnTo>
                  <a:lnTo>
                    <a:pt x="1573" y="538"/>
                  </a:lnTo>
                  <a:lnTo>
                    <a:pt x="1569" y="542"/>
                  </a:lnTo>
                  <a:lnTo>
                    <a:pt x="1563" y="552"/>
                  </a:lnTo>
                  <a:lnTo>
                    <a:pt x="1558" y="563"/>
                  </a:lnTo>
                  <a:lnTo>
                    <a:pt x="1553" y="575"/>
                  </a:lnTo>
                  <a:lnTo>
                    <a:pt x="1548" y="588"/>
                  </a:lnTo>
                  <a:lnTo>
                    <a:pt x="1546" y="602"/>
                  </a:lnTo>
                  <a:lnTo>
                    <a:pt x="1544" y="616"/>
                  </a:lnTo>
                  <a:lnTo>
                    <a:pt x="1542" y="629"/>
                  </a:lnTo>
                  <a:lnTo>
                    <a:pt x="1541" y="642"/>
                  </a:lnTo>
                  <a:lnTo>
                    <a:pt x="1541" y="653"/>
                  </a:lnTo>
                  <a:lnTo>
                    <a:pt x="1541" y="664"/>
                  </a:lnTo>
                  <a:lnTo>
                    <a:pt x="1542" y="673"/>
                  </a:lnTo>
                  <a:lnTo>
                    <a:pt x="1544" y="680"/>
                  </a:lnTo>
                  <a:lnTo>
                    <a:pt x="277" y="717"/>
                  </a:lnTo>
                  <a:lnTo>
                    <a:pt x="259" y="709"/>
                  </a:lnTo>
                  <a:lnTo>
                    <a:pt x="243" y="702"/>
                  </a:lnTo>
                  <a:lnTo>
                    <a:pt x="236" y="699"/>
                  </a:lnTo>
                  <a:lnTo>
                    <a:pt x="232" y="694"/>
                  </a:lnTo>
                  <a:lnTo>
                    <a:pt x="227" y="689"/>
                  </a:lnTo>
                  <a:lnTo>
                    <a:pt x="224" y="685"/>
                  </a:lnTo>
                  <a:lnTo>
                    <a:pt x="220" y="678"/>
                  </a:lnTo>
                  <a:lnTo>
                    <a:pt x="219" y="671"/>
                  </a:lnTo>
                  <a:lnTo>
                    <a:pt x="218" y="663"/>
                  </a:lnTo>
                  <a:lnTo>
                    <a:pt x="217" y="652"/>
                  </a:lnTo>
                  <a:lnTo>
                    <a:pt x="218" y="626"/>
                  </a:lnTo>
                  <a:lnTo>
                    <a:pt x="222" y="594"/>
                  </a:lnTo>
                  <a:lnTo>
                    <a:pt x="225" y="576"/>
                  </a:lnTo>
                  <a:lnTo>
                    <a:pt x="225" y="561"/>
                  </a:lnTo>
                  <a:lnTo>
                    <a:pt x="222" y="549"/>
                  </a:lnTo>
                  <a:lnTo>
                    <a:pt x="220" y="538"/>
                  </a:lnTo>
                  <a:lnTo>
                    <a:pt x="215" y="528"/>
                  </a:lnTo>
                  <a:lnTo>
                    <a:pt x="210" y="520"/>
                  </a:lnTo>
                  <a:lnTo>
                    <a:pt x="203" y="513"/>
                  </a:lnTo>
                  <a:lnTo>
                    <a:pt x="196" y="508"/>
                  </a:lnTo>
                  <a:lnTo>
                    <a:pt x="179" y="498"/>
                  </a:lnTo>
                  <a:lnTo>
                    <a:pt x="162" y="490"/>
                  </a:lnTo>
                  <a:lnTo>
                    <a:pt x="152" y="485"/>
                  </a:lnTo>
                  <a:lnTo>
                    <a:pt x="144" y="480"/>
                  </a:lnTo>
                  <a:lnTo>
                    <a:pt x="137" y="476"/>
                  </a:lnTo>
                  <a:lnTo>
                    <a:pt x="130" y="470"/>
                  </a:lnTo>
                  <a:lnTo>
                    <a:pt x="125" y="465"/>
                  </a:lnTo>
                  <a:lnTo>
                    <a:pt x="123" y="460"/>
                  </a:lnTo>
                  <a:lnTo>
                    <a:pt x="123" y="457"/>
                  </a:lnTo>
                  <a:lnTo>
                    <a:pt x="123" y="453"/>
                  </a:lnTo>
                  <a:lnTo>
                    <a:pt x="124" y="449"/>
                  </a:lnTo>
                  <a:lnTo>
                    <a:pt x="125" y="444"/>
                  </a:lnTo>
                  <a:lnTo>
                    <a:pt x="127" y="438"/>
                  </a:lnTo>
                  <a:lnTo>
                    <a:pt x="125" y="431"/>
                  </a:lnTo>
                  <a:lnTo>
                    <a:pt x="123" y="422"/>
                  </a:lnTo>
                  <a:lnTo>
                    <a:pt x="117" y="410"/>
                  </a:lnTo>
                  <a:lnTo>
                    <a:pt x="109" y="395"/>
                  </a:lnTo>
                  <a:lnTo>
                    <a:pt x="97" y="378"/>
                  </a:lnTo>
                  <a:lnTo>
                    <a:pt x="81" y="358"/>
                  </a:lnTo>
                  <a:lnTo>
                    <a:pt x="60" y="333"/>
                  </a:lnTo>
                  <a:lnTo>
                    <a:pt x="33" y="304"/>
                  </a:lnTo>
                  <a:lnTo>
                    <a:pt x="0" y="271"/>
                  </a:lnTo>
                  <a:lnTo>
                    <a:pt x="14" y="14"/>
                  </a:lnTo>
                  <a:lnTo>
                    <a:pt x="13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Freeform 150"/>
            <p:cNvSpPr/>
            <p:nvPr/>
          </p:nvSpPr>
          <p:spPr>
            <a:xfrm>
              <a:off x="7085160" y="5205600"/>
              <a:ext cx="274320" cy="12348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714" h="717">
                  <a:moveTo>
                    <a:pt x="1388" y="0"/>
                  </a:moveTo>
                  <a:lnTo>
                    <a:pt x="1399" y="19"/>
                  </a:lnTo>
                  <a:lnTo>
                    <a:pt x="1410" y="38"/>
                  </a:lnTo>
                  <a:lnTo>
                    <a:pt x="1424" y="56"/>
                  </a:lnTo>
                  <a:lnTo>
                    <a:pt x="1440" y="75"/>
                  </a:lnTo>
                  <a:lnTo>
                    <a:pt x="1457" y="93"/>
                  </a:lnTo>
                  <a:lnTo>
                    <a:pt x="1475" y="109"/>
                  </a:lnTo>
                  <a:lnTo>
                    <a:pt x="1494" y="125"/>
                  </a:lnTo>
                  <a:lnTo>
                    <a:pt x="1514" y="140"/>
                  </a:lnTo>
                  <a:lnTo>
                    <a:pt x="1535" y="153"/>
                  </a:lnTo>
                  <a:lnTo>
                    <a:pt x="1558" y="166"/>
                  </a:lnTo>
                  <a:lnTo>
                    <a:pt x="1579" y="177"/>
                  </a:lnTo>
                  <a:lnTo>
                    <a:pt x="1601" y="186"/>
                  </a:lnTo>
                  <a:lnTo>
                    <a:pt x="1622" y="193"/>
                  </a:lnTo>
                  <a:lnTo>
                    <a:pt x="1643" y="198"/>
                  </a:lnTo>
                  <a:lnTo>
                    <a:pt x="1663" y="201"/>
                  </a:lnTo>
                  <a:lnTo>
                    <a:pt x="1683" y="202"/>
                  </a:lnTo>
                  <a:lnTo>
                    <a:pt x="1714" y="331"/>
                  </a:lnTo>
                  <a:lnTo>
                    <a:pt x="1695" y="335"/>
                  </a:lnTo>
                  <a:lnTo>
                    <a:pt x="1679" y="340"/>
                  </a:lnTo>
                  <a:lnTo>
                    <a:pt x="1665" y="346"/>
                  </a:lnTo>
                  <a:lnTo>
                    <a:pt x="1653" y="353"/>
                  </a:lnTo>
                  <a:lnTo>
                    <a:pt x="1643" y="361"/>
                  </a:lnTo>
                  <a:lnTo>
                    <a:pt x="1636" y="369"/>
                  </a:lnTo>
                  <a:lnTo>
                    <a:pt x="1630" y="379"/>
                  </a:lnTo>
                  <a:lnTo>
                    <a:pt x="1625" y="388"/>
                  </a:lnTo>
                  <a:lnTo>
                    <a:pt x="1623" y="397"/>
                  </a:lnTo>
                  <a:lnTo>
                    <a:pt x="1622" y="407"/>
                  </a:lnTo>
                  <a:lnTo>
                    <a:pt x="1623" y="416"/>
                  </a:lnTo>
                  <a:lnTo>
                    <a:pt x="1625" y="425"/>
                  </a:lnTo>
                  <a:lnTo>
                    <a:pt x="1628" y="434"/>
                  </a:lnTo>
                  <a:lnTo>
                    <a:pt x="1632" y="442"/>
                  </a:lnTo>
                  <a:lnTo>
                    <a:pt x="1638" y="449"/>
                  </a:lnTo>
                  <a:lnTo>
                    <a:pt x="1645" y="456"/>
                  </a:lnTo>
                  <a:lnTo>
                    <a:pt x="1608" y="525"/>
                  </a:lnTo>
                  <a:lnTo>
                    <a:pt x="1602" y="525"/>
                  </a:lnTo>
                  <a:lnTo>
                    <a:pt x="1596" y="525"/>
                  </a:lnTo>
                  <a:lnTo>
                    <a:pt x="1591" y="526"/>
                  </a:lnTo>
                  <a:lnTo>
                    <a:pt x="1586" y="528"/>
                  </a:lnTo>
                  <a:lnTo>
                    <a:pt x="1582" y="531"/>
                  </a:lnTo>
                  <a:lnTo>
                    <a:pt x="1577" y="534"/>
                  </a:lnTo>
                  <a:lnTo>
                    <a:pt x="1573" y="538"/>
                  </a:lnTo>
                  <a:lnTo>
                    <a:pt x="1569" y="542"/>
                  </a:lnTo>
                  <a:lnTo>
                    <a:pt x="1563" y="552"/>
                  </a:lnTo>
                  <a:lnTo>
                    <a:pt x="1558" y="563"/>
                  </a:lnTo>
                  <a:lnTo>
                    <a:pt x="1553" y="575"/>
                  </a:lnTo>
                  <a:lnTo>
                    <a:pt x="1548" y="588"/>
                  </a:lnTo>
                  <a:lnTo>
                    <a:pt x="1546" y="602"/>
                  </a:lnTo>
                  <a:lnTo>
                    <a:pt x="1544" y="616"/>
                  </a:lnTo>
                  <a:lnTo>
                    <a:pt x="1542" y="629"/>
                  </a:lnTo>
                  <a:lnTo>
                    <a:pt x="1541" y="642"/>
                  </a:lnTo>
                  <a:lnTo>
                    <a:pt x="1541" y="653"/>
                  </a:lnTo>
                  <a:lnTo>
                    <a:pt x="1541" y="664"/>
                  </a:lnTo>
                  <a:lnTo>
                    <a:pt x="1542" y="673"/>
                  </a:lnTo>
                  <a:lnTo>
                    <a:pt x="1544" y="680"/>
                  </a:lnTo>
                  <a:lnTo>
                    <a:pt x="277" y="717"/>
                  </a:lnTo>
                  <a:lnTo>
                    <a:pt x="259" y="709"/>
                  </a:lnTo>
                  <a:lnTo>
                    <a:pt x="243" y="702"/>
                  </a:lnTo>
                  <a:lnTo>
                    <a:pt x="236" y="699"/>
                  </a:lnTo>
                  <a:lnTo>
                    <a:pt x="232" y="694"/>
                  </a:lnTo>
                  <a:lnTo>
                    <a:pt x="227" y="689"/>
                  </a:lnTo>
                  <a:lnTo>
                    <a:pt x="224" y="685"/>
                  </a:lnTo>
                  <a:lnTo>
                    <a:pt x="220" y="678"/>
                  </a:lnTo>
                  <a:lnTo>
                    <a:pt x="219" y="671"/>
                  </a:lnTo>
                  <a:lnTo>
                    <a:pt x="218" y="663"/>
                  </a:lnTo>
                  <a:lnTo>
                    <a:pt x="217" y="652"/>
                  </a:lnTo>
                  <a:lnTo>
                    <a:pt x="218" y="626"/>
                  </a:lnTo>
                  <a:lnTo>
                    <a:pt x="222" y="594"/>
                  </a:lnTo>
                  <a:lnTo>
                    <a:pt x="225" y="576"/>
                  </a:lnTo>
                  <a:lnTo>
                    <a:pt x="225" y="561"/>
                  </a:lnTo>
                  <a:lnTo>
                    <a:pt x="222" y="549"/>
                  </a:lnTo>
                  <a:lnTo>
                    <a:pt x="220" y="538"/>
                  </a:lnTo>
                  <a:lnTo>
                    <a:pt x="215" y="528"/>
                  </a:lnTo>
                  <a:lnTo>
                    <a:pt x="210" y="520"/>
                  </a:lnTo>
                  <a:lnTo>
                    <a:pt x="203" y="513"/>
                  </a:lnTo>
                  <a:lnTo>
                    <a:pt x="196" y="508"/>
                  </a:lnTo>
                  <a:lnTo>
                    <a:pt x="179" y="498"/>
                  </a:lnTo>
                  <a:lnTo>
                    <a:pt x="162" y="490"/>
                  </a:lnTo>
                  <a:lnTo>
                    <a:pt x="152" y="485"/>
                  </a:lnTo>
                  <a:lnTo>
                    <a:pt x="144" y="480"/>
                  </a:lnTo>
                  <a:lnTo>
                    <a:pt x="137" y="476"/>
                  </a:lnTo>
                  <a:lnTo>
                    <a:pt x="130" y="470"/>
                  </a:lnTo>
                  <a:lnTo>
                    <a:pt x="125" y="465"/>
                  </a:lnTo>
                  <a:lnTo>
                    <a:pt x="123" y="460"/>
                  </a:lnTo>
                  <a:lnTo>
                    <a:pt x="123" y="457"/>
                  </a:lnTo>
                  <a:lnTo>
                    <a:pt x="123" y="453"/>
                  </a:lnTo>
                  <a:lnTo>
                    <a:pt x="124" y="449"/>
                  </a:lnTo>
                  <a:lnTo>
                    <a:pt x="125" y="444"/>
                  </a:lnTo>
                  <a:lnTo>
                    <a:pt x="127" y="438"/>
                  </a:lnTo>
                  <a:lnTo>
                    <a:pt x="125" y="431"/>
                  </a:lnTo>
                  <a:lnTo>
                    <a:pt x="123" y="422"/>
                  </a:lnTo>
                  <a:lnTo>
                    <a:pt x="117" y="410"/>
                  </a:lnTo>
                  <a:lnTo>
                    <a:pt x="109" y="395"/>
                  </a:lnTo>
                  <a:lnTo>
                    <a:pt x="97" y="378"/>
                  </a:lnTo>
                  <a:lnTo>
                    <a:pt x="81" y="358"/>
                  </a:lnTo>
                  <a:lnTo>
                    <a:pt x="60" y="333"/>
                  </a:lnTo>
                  <a:lnTo>
                    <a:pt x="33" y="304"/>
                  </a:lnTo>
                  <a:lnTo>
                    <a:pt x="0" y="271"/>
                  </a:lnTo>
                  <a:lnTo>
                    <a:pt x="14" y="14"/>
                  </a:lnTo>
                  <a:lnTo>
                    <a:pt x="1388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Freeform 151"/>
            <p:cNvSpPr/>
            <p:nvPr/>
          </p:nvSpPr>
          <p:spPr>
            <a:xfrm>
              <a:off x="5845680" y="5221080"/>
              <a:ext cx="304920" cy="502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1904" h="2906">
                  <a:moveTo>
                    <a:pt x="1147" y="2906"/>
                  </a:moveTo>
                  <a:lnTo>
                    <a:pt x="1175" y="2857"/>
                  </a:lnTo>
                  <a:lnTo>
                    <a:pt x="400" y="2857"/>
                  </a:lnTo>
                  <a:lnTo>
                    <a:pt x="411" y="2837"/>
                  </a:lnTo>
                  <a:lnTo>
                    <a:pt x="421" y="2817"/>
                  </a:lnTo>
                  <a:lnTo>
                    <a:pt x="428" y="2797"/>
                  </a:lnTo>
                  <a:lnTo>
                    <a:pt x="435" y="2777"/>
                  </a:lnTo>
                  <a:lnTo>
                    <a:pt x="441" y="2759"/>
                  </a:lnTo>
                  <a:lnTo>
                    <a:pt x="446" y="2739"/>
                  </a:lnTo>
                  <a:lnTo>
                    <a:pt x="449" y="2720"/>
                  </a:lnTo>
                  <a:lnTo>
                    <a:pt x="452" y="2701"/>
                  </a:lnTo>
                  <a:lnTo>
                    <a:pt x="453" y="2683"/>
                  </a:lnTo>
                  <a:lnTo>
                    <a:pt x="453" y="2665"/>
                  </a:lnTo>
                  <a:lnTo>
                    <a:pt x="452" y="2647"/>
                  </a:lnTo>
                  <a:lnTo>
                    <a:pt x="449" y="2629"/>
                  </a:lnTo>
                  <a:lnTo>
                    <a:pt x="447" y="2612"/>
                  </a:lnTo>
                  <a:lnTo>
                    <a:pt x="443" y="2594"/>
                  </a:lnTo>
                  <a:lnTo>
                    <a:pt x="440" y="2578"/>
                  </a:lnTo>
                  <a:lnTo>
                    <a:pt x="435" y="2560"/>
                  </a:lnTo>
                  <a:lnTo>
                    <a:pt x="429" y="2544"/>
                  </a:lnTo>
                  <a:lnTo>
                    <a:pt x="424" y="2527"/>
                  </a:lnTo>
                  <a:lnTo>
                    <a:pt x="418" y="2512"/>
                  </a:lnTo>
                  <a:lnTo>
                    <a:pt x="411" y="2496"/>
                  </a:lnTo>
                  <a:lnTo>
                    <a:pt x="396" y="2466"/>
                  </a:lnTo>
                  <a:lnTo>
                    <a:pt x="379" y="2436"/>
                  </a:lnTo>
                  <a:lnTo>
                    <a:pt x="362" y="2408"/>
                  </a:lnTo>
                  <a:lnTo>
                    <a:pt x="344" y="2383"/>
                  </a:lnTo>
                  <a:lnTo>
                    <a:pt x="325" y="2357"/>
                  </a:lnTo>
                  <a:lnTo>
                    <a:pt x="308" y="2332"/>
                  </a:lnTo>
                  <a:lnTo>
                    <a:pt x="300" y="2322"/>
                  </a:lnTo>
                  <a:lnTo>
                    <a:pt x="293" y="2310"/>
                  </a:lnTo>
                  <a:lnTo>
                    <a:pt x="286" y="2298"/>
                  </a:lnTo>
                  <a:lnTo>
                    <a:pt x="280" y="2288"/>
                  </a:lnTo>
                  <a:lnTo>
                    <a:pt x="272" y="2267"/>
                  </a:lnTo>
                  <a:lnTo>
                    <a:pt x="265" y="2247"/>
                  </a:lnTo>
                  <a:lnTo>
                    <a:pt x="260" y="2228"/>
                  </a:lnTo>
                  <a:lnTo>
                    <a:pt x="259" y="2210"/>
                  </a:lnTo>
                  <a:lnTo>
                    <a:pt x="258" y="2193"/>
                  </a:lnTo>
                  <a:lnTo>
                    <a:pt x="259" y="2178"/>
                  </a:lnTo>
                  <a:lnTo>
                    <a:pt x="261" y="2164"/>
                  </a:lnTo>
                  <a:lnTo>
                    <a:pt x="265" y="2152"/>
                  </a:lnTo>
                  <a:lnTo>
                    <a:pt x="267" y="2142"/>
                  </a:lnTo>
                  <a:lnTo>
                    <a:pt x="271" y="2133"/>
                  </a:lnTo>
                  <a:lnTo>
                    <a:pt x="276" y="2121"/>
                  </a:lnTo>
                  <a:lnTo>
                    <a:pt x="280" y="2117"/>
                  </a:lnTo>
                  <a:lnTo>
                    <a:pt x="60" y="2085"/>
                  </a:lnTo>
                  <a:lnTo>
                    <a:pt x="63" y="2077"/>
                  </a:lnTo>
                  <a:lnTo>
                    <a:pt x="65" y="2068"/>
                  </a:lnTo>
                  <a:lnTo>
                    <a:pt x="66" y="2060"/>
                  </a:lnTo>
                  <a:lnTo>
                    <a:pt x="67" y="2052"/>
                  </a:lnTo>
                  <a:lnTo>
                    <a:pt x="66" y="2037"/>
                  </a:lnTo>
                  <a:lnTo>
                    <a:pt x="64" y="2022"/>
                  </a:lnTo>
                  <a:lnTo>
                    <a:pt x="60" y="2009"/>
                  </a:lnTo>
                  <a:lnTo>
                    <a:pt x="56" y="1996"/>
                  </a:lnTo>
                  <a:lnTo>
                    <a:pt x="49" y="1983"/>
                  </a:lnTo>
                  <a:lnTo>
                    <a:pt x="42" y="1973"/>
                  </a:lnTo>
                  <a:lnTo>
                    <a:pt x="28" y="1955"/>
                  </a:lnTo>
                  <a:lnTo>
                    <a:pt x="14" y="1941"/>
                  </a:lnTo>
                  <a:lnTo>
                    <a:pt x="4" y="1933"/>
                  </a:lnTo>
                  <a:lnTo>
                    <a:pt x="0" y="1929"/>
                  </a:lnTo>
                  <a:lnTo>
                    <a:pt x="184" y="1713"/>
                  </a:lnTo>
                  <a:lnTo>
                    <a:pt x="184" y="1705"/>
                  </a:lnTo>
                  <a:lnTo>
                    <a:pt x="183" y="1697"/>
                  </a:lnTo>
                  <a:lnTo>
                    <a:pt x="181" y="1689"/>
                  </a:lnTo>
                  <a:lnTo>
                    <a:pt x="178" y="1681"/>
                  </a:lnTo>
                  <a:lnTo>
                    <a:pt x="170" y="1664"/>
                  </a:lnTo>
                  <a:lnTo>
                    <a:pt x="161" y="1649"/>
                  </a:lnTo>
                  <a:lnTo>
                    <a:pt x="137" y="1619"/>
                  </a:lnTo>
                  <a:lnTo>
                    <a:pt x="112" y="1587"/>
                  </a:lnTo>
                  <a:lnTo>
                    <a:pt x="99" y="1571"/>
                  </a:lnTo>
                  <a:lnTo>
                    <a:pt x="87" y="1554"/>
                  </a:lnTo>
                  <a:lnTo>
                    <a:pt x="77" y="1538"/>
                  </a:lnTo>
                  <a:lnTo>
                    <a:pt x="67" y="1519"/>
                  </a:lnTo>
                  <a:lnTo>
                    <a:pt x="64" y="1510"/>
                  </a:lnTo>
                  <a:lnTo>
                    <a:pt x="61" y="1501"/>
                  </a:lnTo>
                  <a:lnTo>
                    <a:pt x="59" y="1491"/>
                  </a:lnTo>
                  <a:lnTo>
                    <a:pt x="58" y="1481"/>
                  </a:lnTo>
                  <a:lnTo>
                    <a:pt x="57" y="1470"/>
                  </a:lnTo>
                  <a:lnTo>
                    <a:pt x="57" y="1460"/>
                  </a:lnTo>
                  <a:lnTo>
                    <a:pt x="58" y="1448"/>
                  </a:lnTo>
                  <a:lnTo>
                    <a:pt x="60" y="1438"/>
                  </a:lnTo>
                  <a:lnTo>
                    <a:pt x="67" y="1414"/>
                  </a:lnTo>
                  <a:lnTo>
                    <a:pt x="77" y="1391"/>
                  </a:lnTo>
                  <a:lnTo>
                    <a:pt x="86" y="1369"/>
                  </a:lnTo>
                  <a:lnTo>
                    <a:pt x="98" y="1347"/>
                  </a:lnTo>
                  <a:lnTo>
                    <a:pt x="111" y="1324"/>
                  </a:lnTo>
                  <a:lnTo>
                    <a:pt x="123" y="1304"/>
                  </a:lnTo>
                  <a:lnTo>
                    <a:pt x="137" y="1285"/>
                  </a:lnTo>
                  <a:lnTo>
                    <a:pt x="150" y="1267"/>
                  </a:lnTo>
                  <a:lnTo>
                    <a:pt x="175" y="1236"/>
                  </a:lnTo>
                  <a:lnTo>
                    <a:pt x="196" y="1211"/>
                  </a:lnTo>
                  <a:lnTo>
                    <a:pt x="211" y="1195"/>
                  </a:lnTo>
                  <a:lnTo>
                    <a:pt x="216" y="1190"/>
                  </a:lnTo>
                  <a:lnTo>
                    <a:pt x="224" y="1197"/>
                  </a:lnTo>
                  <a:lnTo>
                    <a:pt x="232" y="1203"/>
                  </a:lnTo>
                  <a:lnTo>
                    <a:pt x="239" y="1208"/>
                  </a:lnTo>
                  <a:lnTo>
                    <a:pt x="245" y="1209"/>
                  </a:lnTo>
                  <a:lnTo>
                    <a:pt x="251" y="1210"/>
                  </a:lnTo>
                  <a:lnTo>
                    <a:pt x="257" y="1210"/>
                  </a:lnTo>
                  <a:lnTo>
                    <a:pt x="261" y="1208"/>
                  </a:lnTo>
                  <a:lnTo>
                    <a:pt x="265" y="1204"/>
                  </a:lnTo>
                  <a:lnTo>
                    <a:pt x="268" y="1199"/>
                  </a:lnTo>
                  <a:lnTo>
                    <a:pt x="272" y="1195"/>
                  </a:lnTo>
                  <a:lnTo>
                    <a:pt x="274" y="1188"/>
                  </a:lnTo>
                  <a:lnTo>
                    <a:pt x="276" y="1181"/>
                  </a:lnTo>
                  <a:lnTo>
                    <a:pt x="280" y="1164"/>
                  </a:lnTo>
                  <a:lnTo>
                    <a:pt x="282" y="1147"/>
                  </a:lnTo>
                  <a:lnTo>
                    <a:pt x="283" y="1127"/>
                  </a:lnTo>
                  <a:lnTo>
                    <a:pt x="283" y="1107"/>
                  </a:lnTo>
                  <a:lnTo>
                    <a:pt x="283" y="1088"/>
                  </a:lnTo>
                  <a:lnTo>
                    <a:pt x="282" y="1071"/>
                  </a:lnTo>
                  <a:lnTo>
                    <a:pt x="280" y="1044"/>
                  </a:lnTo>
                  <a:lnTo>
                    <a:pt x="280" y="1033"/>
                  </a:lnTo>
                  <a:lnTo>
                    <a:pt x="296" y="1025"/>
                  </a:lnTo>
                  <a:lnTo>
                    <a:pt x="311" y="1016"/>
                  </a:lnTo>
                  <a:lnTo>
                    <a:pt x="325" y="1007"/>
                  </a:lnTo>
                  <a:lnTo>
                    <a:pt x="337" y="996"/>
                  </a:lnTo>
                  <a:lnTo>
                    <a:pt x="349" y="987"/>
                  </a:lnTo>
                  <a:lnTo>
                    <a:pt x="358" y="976"/>
                  </a:lnTo>
                  <a:lnTo>
                    <a:pt x="368" y="966"/>
                  </a:lnTo>
                  <a:lnTo>
                    <a:pt x="376" y="954"/>
                  </a:lnTo>
                  <a:lnTo>
                    <a:pt x="383" y="944"/>
                  </a:lnTo>
                  <a:lnTo>
                    <a:pt x="389" y="932"/>
                  </a:lnTo>
                  <a:lnTo>
                    <a:pt x="393" y="920"/>
                  </a:lnTo>
                  <a:lnTo>
                    <a:pt x="397" y="908"/>
                  </a:lnTo>
                  <a:lnTo>
                    <a:pt x="400" y="897"/>
                  </a:lnTo>
                  <a:lnTo>
                    <a:pt x="403" y="885"/>
                  </a:lnTo>
                  <a:lnTo>
                    <a:pt x="405" y="872"/>
                  </a:lnTo>
                  <a:lnTo>
                    <a:pt x="405" y="861"/>
                  </a:lnTo>
                  <a:lnTo>
                    <a:pt x="406" y="835"/>
                  </a:lnTo>
                  <a:lnTo>
                    <a:pt x="404" y="810"/>
                  </a:lnTo>
                  <a:lnTo>
                    <a:pt x="400" y="785"/>
                  </a:lnTo>
                  <a:lnTo>
                    <a:pt x="396" y="760"/>
                  </a:lnTo>
                  <a:lnTo>
                    <a:pt x="384" y="710"/>
                  </a:lnTo>
                  <a:lnTo>
                    <a:pt x="371" y="662"/>
                  </a:lnTo>
                  <a:lnTo>
                    <a:pt x="587" y="418"/>
                  </a:lnTo>
                  <a:lnTo>
                    <a:pt x="588" y="403"/>
                  </a:lnTo>
                  <a:lnTo>
                    <a:pt x="592" y="388"/>
                  </a:lnTo>
                  <a:lnTo>
                    <a:pt x="598" y="371"/>
                  </a:lnTo>
                  <a:lnTo>
                    <a:pt x="605" y="355"/>
                  </a:lnTo>
                  <a:lnTo>
                    <a:pt x="614" y="338"/>
                  </a:lnTo>
                  <a:lnTo>
                    <a:pt x="625" y="321"/>
                  </a:lnTo>
                  <a:lnTo>
                    <a:pt x="636" y="305"/>
                  </a:lnTo>
                  <a:lnTo>
                    <a:pt x="650" y="287"/>
                  </a:lnTo>
                  <a:lnTo>
                    <a:pt x="664" y="270"/>
                  </a:lnTo>
                  <a:lnTo>
                    <a:pt x="681" y="252"/>
                  </a:lnTo>
                  <a:lnTo>
                    <a:pt x="697" y="234"/>
                  </a:lnTo>
                  <a:lnTo>
                    <a:pt x="714" y="217"/>
                  </a:lnTo>
                  <a:lnTo>
                    <a:pt x="751" y="183"/>
                  </a:lnTo>
                  <a:lnTo>
                    <a:pt x="788" y="150"/>
                  </a:lnTo>
                  <a:lnTo>
                    <a:pt x="825" y="120"/>
                  </a:lnTo>
                  <a:lnTo>
                    <a:pt x="862" y="91"/>
                  </a:lnTo>
                  <a:lnTo>
                    <a:pt x="896" y="65"/>
                  </a:lnTo>
                  <a:lnTo>
                    <a:pt x="926" y="43"/>
                  </a:lnTo>
                  <a:lnTo>
                    <a:pt x="970" y="11"/>
                  </a:lnTo>
                  <a:lnTo>
                    <a:pt x="988" y="0"/>
                  </a:lnTo>
                  <a:lnTo>
                    <a:pt x="1904" y="95"/>
                  </a:lnTo>
                  <a:lnTo>
                    <a:pt x="1273" y="807"/>
                  </a:lnTo>
                  <a:lnTo>
                    <a:pt x="1837" y="2053"/>
                  </a:lnTo>
                  <a:lnTo>
                    <a:pt x="1824" y="2071"/>
                  </a:lnTo>
                  <a:lnTo>
                    <a:pt x="1814" y="2087"/>
                  </a:lnTo>
                  <a:lnTo>
                    <a:pt x="1805" y="2103"/>
                  </a:lnTo>
                  <a:lnTo>
                    <a:pt x="1798" y="2117"/>
                  </a:lnTo>
                  <a:lnTo>
                    <a:pt x="1794" y="2131"/>
                  </a:lnTo>
                  <a:lnTo>
                    <a:pt x="1790" y="2144"/>
                  </a:lnTo>
                  <a:lnTo>
                    <a:pt x="1788" y="2156"/>
                  </a:lnTo>
                  <a:lnTo>
                    <a:pt x="1787" y="2166"/>
                  </a:lnTo>
                  <a:lnTo>
                    <a:pt x="1787" y="2185"/>
                  </a:lnTo>
                  <a:lnTo>
                    <a:pt x="1788" y="2198"/>
                  </a:lnTo>
                  <a:lnTo>
                    <a:pt x="1790" y="2206"/>
                  </a:lnTo>
                  <a:lnTo>
                    <a:pt x="1791" y="2209"/>
                  </a:lnTo>
                  <a:lnTo>
                    <a:pt x="1809" y="2301"/>
                  </a:lnTo>
                  <a:lnTo>
                    <a:pt x="1787" y="2315"/>
                  </a:lnTo>
                  <a:lnTo>
                    <a:pt x="1763" y="2330"/>
                  </a:lnTo>
                  <a:lnTo>
                    <a:pt x="1738" y="2348"/>
                  </a:lnTo>
                  <a:lnTo>
                    <a:pt x="1712" y="2367"/>
                  </a:lnTo>
                  <a:lnTo>
                    <a:pt x="1685" y="2388"/>
                  </a:lnTo>
                  <a:lnTo>
                    <a:pt x="1658" y="2409"/>
                  </a:lnTo>
                  <a:lnTo>
                    <a:pt x="1633" y="2432"/>
                  </a:lnTo>
                  <a:lnTo>
                    <a:pt x="1607" y="2455"/>
                  </a:lnTo>
                  <a:lnTo>
                    <a:pt x="1582" y="2477"/>
                  </a:lnTo>
                  <a:lnTo>
                    <a:pt x="1561" y="2498"/>
                  </a:lnTo>
                  <a:lnTo>
                    <a:pt x="1542" y="2519"/>
                  </a:lnTo>
                  <a:lnTo>
                    <a:pt x="1525" y="2539"/>
                  </a:lnTo>
                  <a:lnTo>
                    <a:pt x="1511" y="2557"/>
                  </a:lnTo>
                  <a:lnTo>
                    <a:pt x="1503" y="2572"/>
                  </a:lnTo>
                  <a:lnTo>
                    <a:pt x="1499" y="2579"/>
                  </a:lnTo>
                  <a:lnTo>
                    <a:pt x="1497" y="2585"/>
                  </a:lnTo>
                  <a:lnTo>
                    <a:pt x="1497" y="2590"/>
                  </a:lnTo>
                  <a:lnTo>
                    <a:pt x="1497" y="2595"/>
                  </a:lnTo>
                  <a:lnTo>
                    <a:pt x="1475" y="2605"/>
                  </a:lnTo>
                  <a:lnTo>
                    <a:pt x="1454" y="2615"/>
                  </a:lnTo>
                  <a:lnTo>
                    <a:pt x="1433" y="2627"/>
                  </a:lnTo>
                  <a:lnTo>
                    <a:pt x="1414" y="2638"/>
                  </a:lnTo>
                  <a:lnTo>
                    <a:pt x="1397" y="2651"/>
                  </a:lnTo>
                  <a:lnTo>
                    <a:pt x="1380" y="2664"/>
                  </a:lnTo>
                  <a:lnTo>
                    <a:pt x="1365" y="2677"/>
                  </a:lnTo>
                  <a:lnTo>
                    <a:pt x="1352" y="2690"/>
                  </a:lnTo>
                  <a:lnTo>
                    <a:pt x="1329" y="2713"/>
                  </a:lnTo>
                  <a:lnTo>
                    <a:pt x="1313" y="2733"/>
                  </a:lnTo>
                  <a:lnTo>
                    <a:pt x="1302" y="2746"/>
                  </a:lnTo>
                  <a:lnTo>
                    <a:pt x="1299" y="2751"/>
                  </a:lnTo>
                  <a:lnTo>
                    <a:pt x="1328" y="2829"/>
                  </a:lnTo>
                  <a:lnTo>
                    <a:pt x="1313" y="2840"/>
                  </a:lnTo>
                  <a:lnTo>
                    <a:pt x="1297" y="2851"/>
                  </a:lnTo>
                  <a:lnTo>
                    <a:pt x="1282" y="2860"/>
                  </a:lnTo>
                  <a:lnTo>
                    <a:pt x="1268" y="2868"/>
                  </a:lnTo>
                  <a:lnTo>
                    <a:pt x="1254" y="2876"/>
                  </a:lnTo>
                  <a:lnTo>
                    <a:pt x="1241" y="2881"/>
                  </a:lnTo>
                  <a:lnTo>
                    <a:pt x="1228" y="2887"/>
                  </a:lnTo>
                  <a:lnTo>
                    <a:pt x="1217" y="2891"/>
                  </a:lnTo>
                  <a:lnTo>
                    <a:pt x="1195" y="2897"/>
                  </a:lnTo>
                  <a:lnTo>
                    <a:pt x="1175" y="2901"/>
                  </a:lnTo>
                  <a:lnTo>
                    <a:pt x="1158" y="2904"/>
                  </a:lnTo>
                  <a:lnTo>
                    <a:pt x="1147" y="29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Freeform 152"/>
            <p:cNvSpPr/>
            <p:nvPr/>
          </p:nvSpPr>
          <p:spPr>
            <a:xfrm>
              <a:off x="5845680" y="5221080"/>
              <a:ext cx="304920" cy="502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1904" h="2906">
                  <a:moveTo>
                    <a:pt x="1147" y="2906"/>
                  </a:moveTo>
                  <a:lnTo>
                    <a:pt x="1175" y="2857"/>
                  </a:lnTo>
                  <a:lnTo>
                    <a:pt x="400" y="2857"/>
                  </a:lnTo>
                  <a:lnTo>
                    <a:pt x="411" y="2837"/>
                  </a:lnTo>
                  <a:lnTo>
                    <a:pt x="421" y="2817"/>
                  </a:lnTo>
                  <a:lnTo>
                    <a:pt x="428" y="2797"/>
                  </a:lnTo>
                  <a:lnTo>
                    <a:pt x="435" y="2777"/>
                  </a:lnTo>
                  <a:lnTo>
                    <a:pt x="441" y="2759"/>
                  </a:lnTo>
                  <a:lnTo>
                    <a:pt x="446" y="2739"/>
                  </a:lnTo>
                  <a:lnTo>
                    <a:pt x="449" y="2720"/>
                  </a:lnTo>
                  <a:lnTo>
                    <a:pt x="452" y="2701"/>
                  </a:lnTo>
                  <a:lnTo>
                    <a:pt x="453" y="2683"/>
                  </a:lnTo>
                  <a:lnTo>
                    <a:pt x="453" y="2665"/>
                  </a:lnTo>
                  <a:lnTo>
                    <a:pt x="452" y="2647"/>
                  </a:lnTo>
                  <a:lnTo>
                    <a:pt x="449" y="2629"/>
                  </a:lnTo>
                  <a:lnTo>
                    <a:pt x="447" y="2612"/>
                  </a:lnTo>
                  <a:lnTo>
                    <a:pt x="443" y="2594"/>
                  </a:lnTo>
                  <a:lnTo>
                    <a:pt x="440" y="2578"/>
                  </a:lnTo>
                  <a:lnTo>
                    <a:pt x="435" y="2560"/>
                  </a:lnTo>
                  <a:lnTo>
                    <a:pt x="429" y="2544"/>
                  </a:lnTo>
                  <a:lnTo>
                    <a:pt x="424" y="2527"/>
                  </a:lnTo>
                  <a:lnTo>
                    <a:pt x="418" y="2512"/>
                  </a:lnTo>
                  <a:lnTo>
                    <a:pt x="411" y="2496"/>
                  </a:lnTo>
                  <a:lnTo>
                    <a:pt x="396" y="2466"/>
                  </a:lnTo>
                  <a:lnTo>
                    <a:pt x="379" y="2436"/>
                  </a:lnTo>
                  <a:lnTo>
                    <a:pt x="362" y="2408"/>
                  </a:lnTo>
                  <a:lnTo>
                    <a:pt x="344" y="2383"/>
                  </a:lnTo>
                  <a:lnTo>
                    <a:pt x="325" y="2357"/>
                  </a:lnTo>
                  <a:lnTo>
                    <a:pt x="308" y="2332"/>
                  </a:lnTo>
                  <a:lnTo>
                    <a:pt x="300" y="2322"/>
                  </a:lnTo>
                  <a:lnTo>
                    <a:pt x="293" y="2310"/>
                  </a:lnTo>
                  <a:lnTo>
                    <a:pt x="286" y="2298"/>
                  </a:lnTo>
                  <a:lnTo>
                    <a:pt x="280" y="2288"/>
                  </a:lnTo>
                  <a:lnTo>
                    <a:pt x="272" y="2267"/>
                  </a:lnTo>
                  <a:lnTo>
                    <a:pt x="265" y="2247"/>
                  </a:lnTo>
                  <a:lnTo>
                    <a:pt x="260" y="2228"/>
                  </a:lnTo>
                  <a:lnTo>
                    <a:pt x="259" y="2210"/>
                  </a:lnTo>
                  <a:lnTo>
                    <a:pt x="258" y="2193"/>
                  </a:lnTo>
                  <a:lnTo>
                    <a:pt x="259" y="2178"/>
                  </a:lnTo>
                  <a:lnTo>
                    <a:pt x="261" y="2164"/>
                  </a:lnTo>
                  <a:lnTo>
                    <a:pt x="265" y="2152"/>
                  </a:lnTo>
                  <a:lnTo>
                    <a:pt x="267" y="2142"/>
                  </a:lnTo>
                  <a:lnTo>
                    <a:pt x="271" y="2133"/>
                  </a:lnTo>
                  <a:lnTo>
                    <a:pt x="276" y="2121"/>
                  </a:lnTo>
                  <a:lnTo>
                    <a:pt x="280" y="2117"/>
                  </a:lnTo>
                  <a:lnTo>
                    <a:pt x="60" y="2085"/>
                  </a:lnTo>
                  <a:lnTo>
                    <a:pt x="63" y="2077"/>
                  </a:lnTo>
                  <a:lnTo>
                    <a:pt x="65" y="2068"/>
                  </a:lnTo>
                  <a:lnTo>
                    <a:pt x="66" y="2060"/>
                  </a:lnTo>
                  <a:lnTo>
                    <a:pt x="67" y="2052"/>
                  </a:lnTo>
                  <a:lnTo>
                    <a:pt x="66" y="2037"/>
                  </a:lnTo>
                  <a:lnTo>
                    <a:pt x="64" y="2022"/>
                  </a:lnTo>
                  <a:lnTo>
                    <a:pt x="60" y="2009"/>
                  </a:lnTo>
                  <a:lnTo>
                    <a:pt x="56" y="1996"/>
                  </a:lnTo>
                  <a:lnTo>
                    <a:pt x="49" y="1983"/>
                  </a:lnTo>
                  <a:lnTo>
                    <a:pt x="42" y="1973"/>
                  </a:lnTo>
                  <a:lnTo>
                    <a:pt x="28" y="1955"/>
                  </a:lnTo>
                  <a:lnTo>
                    <a:pt x="14" y="1941"/>
                  </a:lnTo>
                  <a:lnTo>
                    <a:pt x="4" y="1933"/>
                  </a:lnTo>
                  <a:lnTo>
                    <a:pt x="0" y="1929"/>
                  </a:lnTo>
                  <a:lnTo>
                    <a:pt x="184" y="1713"/>
                  </a:lnTo>
                  <a:lnTo>
                    <a:pt x="184" y="1705"/>
                  </a:lnTo>
                  <a:lnTo>
                    <a:pt x="183" y="1697"/>
                  </a:lnTo>
                  <a:lnTo>
                    <a:pt x="181" y="1689"/>
                  </a:lnTo>
                  <a:lnTo>
                    <a:pt x="178" y="1681"/>
                  </a:lnTo>
                  <a:lnTo>
                    <a:pt x="170" y="1664"/>
                  </a:lnTo>
                  <a:lnTo>
                    <a:pt x="161" y="1649"/>
                  </a:lnTo>
                  <a:lnTo>
                    <a:pt x="137" y="1619"/>
                  </a:lnTo>
                  <a:lnTo>
                    <a:pt x="112" y="1587"/>
                  </a:lnTo>
                  <a:lnTo>
                    <a:pt x="99" y="1571"/>
                  </a:lnTo>
                  <a:lnTo>
                    <a:pt x="87" y="1554"/>
                  </a:lnTo>
                  <a:lnTo>
                    <a:pt x="77" y="1538"/>
                  </a:lnTo>
                  <a:lnTo>
                    <a:pt x="67" y="1519"/>
                  </a:lnTo>
                  <a:lnTo>
                    <a:pt x="64" y="1510"/>
                  </a:lnTo>
                  <a:lnTo>
                    <a:pt x="61" y="1501"/>
                  </a:lnTo>
                  <a:lnTo>
                    <a:pt x="59" y="1491"/>
                  </a:lnTo>
                  <a:lnTo>
                    <a:pt x="58" y="1481"/>
                  </a:lnTo>
                  <a:lnTo>
                    <a:pt x="57" y="1470"/>
                  </a:lnTo>
                  <a:lnTo>
                    <a:pt x="57" y="1460"/>
                  </a:lnTo>
                  <a:lnTo>
                    <a:pt x="58" y="1448"/>
                  </a:lnTo>
                  <a:lnTo>
                    <a:pt x="60" y="1438"/>
                  </a:lnTo>
                  <a:lnTo>
                    <a:pt x="67" y="1414"/>
                  </a:lnTo>
                  <a:lnTo>
                    <a:pt x="77" y="1391"/>
                  </a:lnTo>
                  <a:lnTo>
                    <a:pt x="86" y="1369"/>
                  </a:lnTo>
                  <a:lnTo>
                    <a:pt x="98" y="1347"/>
                  </a:lnTo>
                  <a:lnTo>
                    <a:pt x="111" y="1324"/>
                  </a:lnTo>
                  <a:lnTo>
                    <a:pt x="123" y="1304"/>
                  </a:lnTo>
                  <a:lnTo>
                    <a:pt x="137" y="1285"/>
                  </a:lnTo>
                  <a:lnTo>
                    <a:pt x="150" y="1267"/>
                  </a:lnTo>
                  <a:lnTo>
                    <a:pt x="175" y="1236"/>
                  </a:lnTo>
                  <a:lnTo>
                    <a:pt x="196" y="1211"/>
                  </a:lnTo>
                  <a:lnTo>
                    <a:pt x="211" y="1195"/>
                  </a:lnTo>
                  <a:lnTo>
                    <a:pt x="216" y="1190"/>
                  </a:lnTo>
                  <a:lnTo>
                    <a:pt x="224" y="1197"/>
                  </a:lnTo>
                  <a:lnTo>
                    <a:pt x="232" y="1203"/>
                  </a:lnTo>
                  <a:lnTo>
                    <a:pt x="239" y="1208"/>
                  </a:lnTo>
                  <a:lnTo>
                    <a:pt x="245" y="1209"/>
                  </a:lnTo>
                  <a:lnTo>
                    <a:pt x="251" y="1210"/>
                  </a:lnTo>
                  <a:lnTo>
                    <a:pt x="257" y="1210"/>
                  </a:lnTo>
                  <a:lnTo>
                    <a:pt x="261" y="1208"/>
                  </a:lnTo>
                  <a:lnTo>
                    <a:pt x="265" y="1204"/>
                  </a:lnTo>
                  <a:lnTo>
                    <a:pt x="268" y="1199"/>
                  </a:lnTo>
                  <a:lnTo>
                    <a:pt x="272" y="1195"/>
                  </a:lnTo>
                  <a:lnTo>
                    <a:pt x="274" y="1188"/>
                  </a:lnTo>
                  <a:lnTo>
                    <a:pt x="276" y="1181"/>
                  </a:lnTo>
                  <a:lnTo>
                    <a:pt x="280" y="1164"/>
                  </a:lnTo>
                  <a:lnTo>
                    <a:pt x="282" y="1147"/>
                  </a:lnTo>
                  <a:lnTo>
                    <a:pt x="283" y="1127"/>
                  </a:lnTo>
                  <a:lnTo>
                    <a:pt x="283" y="1107"/>
                  </a:lnTo>
                  <a:lnTo>
                    <a:pt x="283" y="1088"/>
                  </a:lnTo>
                  <a:lnTo>
                    <a:pt x="282" y="1071"/>
                  </a:lnTo>
                  <a:lnTo>
                    <a:pt x="280" y="1044"/>
                  </a:lnTo>
                  <a:lnTo>
                    <a:pt x="280" y="1033"/>
                  </a:lnTo>
                  <a:lnTo>
                    <a:pt x="296" y="1025"/>
                  </a:lnTo>
                  <a:lnTo>
                    <a:pt x="311" y="1016"/>
                  </a:lnTo>
                  <a:lnTo>
                    <a:pt x="325" y="1007"/>
                  </a:lnTo>
                  <a:lnTo>
                    <a:pt x="337" y="996"/>
                  </a:lnTo>
                  <a:lnTo>
                    <a:pt x="349" y="987"/>
                  </a:lnTo>
                  <a:lnTo>
                    <a:pt x="358" y="976"/>
                  </a:lnTo>
                  <a:lnTo>
                    <a:pt x="368" y="966"/>
                  </a:lnTo>
                  <a:lnTo>
                    <a:pt x="376" y="954"/>
                  </a:lnTo>
                  <a:lnTo>
                    <a:pt x="383" y="944"/>
                  </a:lnTo>
                  <a:lnTo>
                    <a:pt x="389" y="932"/>
                  </a:lnTo>
                  <a:lnTo>
                    <a:pt x="393" y="920"/>
                  </a:lnTo>
                  <a:lnTo>
                    <a:pt x="397" y="908"/>
                  </a:lnTo>
                  <a:lnTo>
                    <a:pt x="400" y="897"/>
                  </a:lnTo>
                  <a:lnTo>
                    <a:pt x="403" y="885"/>
                  </a:lnTo>
                  <a:lnTo>
                    <a:pt x="405" y="872"/>
                  </a:lnTo>
                  <a:lnTo>
                    <a:pt x="405" y="861"/>
                  </a:lnTo>
                  <a:lnTo>
                    <a:pt x="406" y="835"/>
                  </a:lnTo>
                  <a:lnTo>
                    <a:pt x="404" y="810"/>
                  </a:lnTo>
                  <a:lnTo>
                    <a:pt x="400" y="785"/>
                  </a:lnTo>
                  <a:lnTo>
                    <a:pt x="396" y="760"/>
                  </a:lnTo>
                  <a:lnTo>
                    <a:pt x="384" y="710"/>
                  </a:lnTo>
                  <a:lnTo>
                    <a:pt x="371" y="662"/>
                  </a:lnTo>
                  <a:lnTo>
                    <a:pt x="587" y="418"/>
                  </a:lnTo>
                  <a:lnTo>
                    <a:pt x="588" y="403"/>
                  </a:lnTo>
                  <a:lnTo>
                    <a:pt x="592" y="388"/>
                  </a:lnTo>
                  <a:lnTo>
                    <a:pt x="598" y="371"/>
                  </a:lnTo>
                  <a:lnTo>
                    <a:pt x="605" y="355"/>
                  </a:lnTo>
                  <a:lnTo>
                    <a:pt x="614" y="338"/>
                  </a:lnTo>
                  <a:lnTo>
                    <a:pt x="625" y="321"/>
                  </a:lnTo>
                  <a:lnTo>
                    <a:pt x="636" y="305"/>
                  </a:lnTo>
                  <a:lnTo>
                    <a:pt x="650" y="287"/>
                  </a:lnTo>
                  <a:lnTo>
                    <a:pt x="664" y="270"/>
                  </a:lnTo>
                  <a:lnTo>
                    <a:pt x="681" y="252"/>
                  </a:lnTo>
                  <a:lnTo>
                    <a:pt x="697" y="234"/>
                  </a:lnTo>
                  <a:lnTo>
                    <a:pt x="714" y="217"/>
                  </a:lnTo>
                  <a:lnTo>
                    <a:pt x="751" y="183"/>
                  </a:lnTo>
                  <a:lnTo>
                    <a:pt x="788" y="150"/>
                  </a:lnTo>
                  <a:lnTo>
                    <a:pt x="825" y="120"/>
                  </a:lnTo>
                  <a:lnTo>
                    <a:pt x="862" y="91"/>
                  </a:lnTo>
                  <a:lnTo>
                    <a:pt x="896" y="65"/>
                  </a:lnTo>
                  <a:lnTo>
                    <a:pt x="926" y="43"/>
                  </a:lnTo>
                  <a:lnTo>
                    <a:pt x="970" y="11"/>
                  </a:lnTo>
                  <a:lnTo>
                    <a:pt x="988" y="0"/>
                  </a:lnTo>
                  <a:lnTo>
                    <a:pt x="1904" y="95"/>
                  </a:lnTo>
                  <a:lnTo>
                    <a:pt x="1273" y="807"/>
                  </a:lnTo>
                  <a:lnTo>
                    <a:pt x="1837" y="2053"/>
                  </a:lnTo>
                  <a:lnTo>
                    <a:pt x="1824" y="2071"/>
                  </a:lnTo>
                  <a:lnTo>
                    <a:pt x="1814" y="2087"/>
                  </a:lnTo>
                  <a:lnTo>
                    <a:pt x="1805" y="2103"/>
                  </a:lnTo>
                  <a:lnTo>
                    <a:pt x="1798" y="2117"/>
                  </a:lnTo>
                  <a:lnTo>
                    <a:pt x="1794" y="2131"/>
                  </a:lnTo>
                  <a:lnTo>
                    <a:pt x="1790" y="2144"/>
                  </a:lnTo>
                  <a:lnTo>
                    <a:pt x="1788" y="2156"/>
                  </a:lnTo>
                  <a:lnTo>
                    <a:pt x="1787" y="2166"/>
                  </a:lnTo>
                  <a:lnTo>
                    <a:pt x="1787" y="2185"/>
                  </a:lnTo>
                  <a:lnTo>
                    <a:pt x="1788" y="2198"/>
                  </a:lnTo>
                  <a:lnTo>
                    <a:pt x="1790" y="2206"/>
                  </a:lnTo>
                  <a:lnTo>
                    <a:pt x="1791" y="2209"/>
                  </a:lnTo>
                  <a:lnTo>
                    <a:pt x="1809" y="2301"/>
                  </a:lnTo>
                  <a:lnTo>
                    <a:pt x="1787" y="2315"/>
                  </a:lnTo>
                  <a:lnTo>
                    <a:pt x="1763" y="2330"/>
                  </a:lnTo>
                  <a:lnTo>
                    <a:pt x="1738" y="2348"/>
                  </a:lnTo>
                  <a:lnTo>
                    <a:pt x="1712" y="2367"/>
                  </a:lnTo>
                  <a:lnTo>
                    <a:pt x="1685" y="2388"/>
                  </a:lnTo>
                  <a:lnTo>
                    <a:pt x="1658" y="2409"/>
                  </a:lnTo>
                  <a:lnTo>
                    <a:pt x="1633" y="2432"/>
                  </a:lnTo>
                  <a:lnTo>
                    <a:pt x="1607" y="2455"/>
                  </a:lnTo>
                  <a:lnTo>
                    <a:pt x="1582" y="2477"/>
                  </a:lnTo>
                  <a:lnTo>
                    <a:pt x="1561" y="2498"/>
                  </a:lnTo>
                  <a:lnTo>
                    <a:pt x="1542" y="2519"/>
                  </a:lnTo>
                  <a:lnTo>
                    <a:pt x="1525" y="2539"/>
                  </a:lnTo>
                  <a:lnTo>
                    <a:pt x="1511" y="2557"/>
                  </a:lnTo>
                  <a:lnTo>
                    <a:pt x="1503" y="2572"/>
                  </a:lnTo>
                  <a:lnTo>
                    <a:pt x="1499" y="2579"/>
                  </a:lnTo>
                  <a:lnTo>
                    <a:pt x="1497" y="2585"/>
                  </a:lnTo>
                  <a:lnTo>
                    <a:pt x="1497" y="2590"/>
                  </a:lnTo>
                  <a:lnTo>
                    <a:pt x="1497" y="2595"/>
                  </a:lnTo>
                  <a:lnTo>
                    <a:pt x="1475" y="2605"/>
                  </a:lnTo>
                  <a:lnTo>
                    <a:pt x="1454" y="2615"/>
                  </a:lnTo>
                  <a:lnTo>
                    <a:pt x="1433" y="2627"/>
                  </a:lnTo>
                  <a:lnTo>
                    <a:pt x="1414" y="2638"/>
                  </a:lnTo>
                  <a:lnTo>
                    <a:pt x="1397" y="2651"/>
                  </a:lnTo>
                  <a:lnTo>
                    <a:pt x="1380" y="2664"/>
                  </a:lnTo>
                  <a:lnTo>
                    <a:pt x="1365" y="2677"/>
                  </a:lnTo>
                  <a:lnTo>
                    <a:pt x="1352" y="2690"/>
                  </a:lnTo>
                  <a:lnTo>
                    <a:pt x="1329" y="2713"/>
                  </a:lnTo>
                  <a:lnTo>
                    <a:pt x="1313" y="2733"/>
                  </a:lnTo>
                  <a:lnTo>
                    <a:pt x="1302" y="2746"/>
                  </a:lnTo>
                  <a:lnTo>
                    <a:pt x="1299" y="2751"/>
                  </a:lnTo>
                  <a:lnTo>
                    <a:pt x="1328" y="2829"/>
                  </a:lnTo>
                  <a:lnTo>
                    <a:pt x="1313" y="2840"/>
                  </a:lnTo>
                  <a:lnTo>
                    <a:pt x="1297" y="2851"/>
                  </a:lnTo>
                  <a:lnTo>
                    <a:pt x="1282" y="2860"/>
                  </a:lnTo>
                  <a:lnTo>
                    <a:pt x="1268" y="2868"/>
                  </a:lnTo>
                  <a:lnTo>
                    <a:pt x="1254" y="2876"/>
                  </a:lnTo>
                  <a:lnTo>
                    <a:pt x="1241" y="2881"/>
                  </a:lnTo>
                  <a:lnTo>
                    <a:pt x="1228" y="2887"/>
                  </a:lnTo>
                  <a:lnTo>
                    <a:pt x="1217" y="2891"/>
                  </a:lnTo>
                  <a:lnTo>
                    <a:pt x="1195" y="2897"/>
                  </a:lnTo>
                  <a:lnTo>
                    <a:pt x="1175" y="2901"/>
                  </a:lnTo>
                  <a:lnTo>
                    <a:pt x="1158" y="2904"/>
                  </a:lnTo>
                  <a:lnTo>
                    <a:pt x="1147" y="290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Freeform 153"/>
            <p:cNvSpPr/>
            <p:nvPr/>
          </p:nvSpPr>
          <p:spPr>
            <a:xfrm>
              <a:off x="6018120" y="5491440"/>
              <a:ext cx="446760" cy="35640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2798" h="2073">
                  <a:moveTo>
                    <a:pt x="1741" y="2073"/>
                  </a:moveTo>
                  <a:lnTo>
                    <a:pt x="1081" y="2018"/>
                  </a:lnTo>
                  <a:lnTo>
                    <a:pt x="0" y="1462"/>
                  </a:lnTo>
                  <a:lnTo>
                    <a:pt x="65" y="1356"/>
                  </a:lnTo>
                  <a:lnTo>
                    <a:pt x="76" y="1354"/>
                  </a:lnTo>
                  <a:lnTo>
                    <a:pt x="93" y="1351"/>
                  </a:lnTo>
                  <a:lnTo>
                    <a:pt x="113" y="1347"/>
                  </a:lnTo>
                  <a:lnTo>
                    <a:pt x="135" y="1341"/>
                  </a:lnTo>
                  <a:lnTo>
                    <a:pt x="146" y="1337"/>
                  </a:lnTo>
                  <a:lnTo>
                    <a:pt x="159" y="1331"/>
                  </a:lnTo>
                  <a:lnTo>
                    <a:pt x="172" y="1326"/>
                  </a:lnTo>
                  <a:lnTo>
                    <a:pt x="186" y="1318"/>
                  </a:lnTo>
                  <a:lnTo>
                    <a:pt x="200" y="1310"/>
                  </a:lnTo>
                  <a:lnTo>
                    <a:pt x="215" y="1301"/>
                  </a:lnTo>
                  <a:lnTo>
                    <a:pt x="231" y="1290"/>
                  </a:lnTo>
                  <a:lnTo>
                    <a:pt x="246" y="1279"/>
                  </a:lnTo>
                  <a:lnTo>
                    <a:pt x="217" y="1201"/>
                  </a:lnTo>
                  <a:lnTo>
                    <a:pt x="220" y="1196"/>
                  </a:lnTo>
                  <a:lnTo>
                    <a:pt x="231" y="1183"/>
                  </a:lnTo>
                  <a:lnTo>
                    <a:pt x="247" y="1163"/>
                  </a:lnTo>
                  <a:lnTo>
                    <a:pt x="270" y="1140"/>
                  </a:lnTo>
                  <a:lnTo>
                    <a:pt x="283" y="1127"/>
                  </a:lnTo>
                  <a:lnTo>
                    <a:pt x="298" y="1114"/>
                  </a:lnTo>
                  <a:lnTo>
                    <a:pt x="315" y="1101"/>
                  </a:lnTo>
                  <a:lnTo>
                    <a:pt x="332" y="1088"/>
                  </a:lnTo>
                  <a:lnTo>
                    <a:pt x="351" y="1077"/>
                  </a:lnTo>
                  <a:lnTo>
                    <a:pt x="372" y="1065"/>
                  </a:lnTo>
                  <a:lnTo>
                    <a:pt x="393" y="1055"/>
                  </a:lnTo>
                  <a:lnTo>
                    <a:pt x="415" y="1045"/>
                  </a:lnTo>
                  <a:lnTo>
                    <a:pt x="415" y="1040"/>
                  </a:lnTo>
                  <a:lnTo>
                    <a:pt x="415" y="1035"/>
                  </a:lnTo>
                  <a:lnTo>
                    <a:pt x="417" y="1029"/>
                  </a:lnTo>
                  <a:lnTo>
                    <a:pt x="421" y="1022"/>
                  </a:lnTo>
                  <a:lnTo>
                    <a:pt x="429" y="1007"/>
                  </a:lnTo>
                  <a:lnTo>
                    <a:pt x="443" y="989"/>
                  </a:lnTo>
                  <a:lnTo>
                    <a:pt x="460" y="969"/>
                  </a:lnTo>
                  <a:lnTo>
                    <a:pt x="479" y="948"/>
                  </a:lnTo>
                  <a:lnTo>
                    <a:pt x="500" y="927"/>
                  </a:lnTo>
                  <a:lnTo>
                    <a:pt x="525" y="905"/>
                  </a:lnTo>
                  <a:lnTo>
                    <a:pt x="551" y="882"/>
                  </a:lnTo>
                  <a:lnTo>
                    <a:pt x="576" y="859"/>
                  </a:lnTo>
                  <a:lnTo>
                    <a:pt x="603" y="838"/>
                  </a:lnTo>
                  <a:lnTo>
                    <a:pt x="630" y="817"/>
                  </a:lnTo>
                  <a:lnTo>
                    <a:pt x="656" y="798"/>
                  </a:lnTo>
                  <a:lnTo>
                    <a:pt x="681" y="780"/>
                  </a:lnTo>
                  <a:lnTo>
                    <a:pt x="705" y="765"/>
                  </a:lnTo>
                  <a:lnTo>
                    <a:pt x="727" y="751"/>
                  </a:lnTo>
                  <a:lnTo>
                    <a:pt x="709" y="659"/>
                  </a:lnTo>
                  <a:lnTo>
                    <a:pt x="708" y="656"/>
                  </a:lnTo>
                  <a:lnTo>
                    <a:pt x="706" y="648"/>
                  </a:lnTo>
                  <a:lnTo>
                    <a:pt x="705" y="635"/>
                  </a:lnTo>
                  <a:lnTo>
                    <a:pt x="705" y="616"/>
                  </a:lnTo>
                  <a:lnTo>
                    <a:pt x="706" y="606"/>
                  </a:lnTo>
                  <a:lnTo>
                    <a:pt x="708" y="594"/>
                  </a:lnTo>
                  <a:lnTo>
                    <a:pt x="712" y="581"/>
                  </a:lnTo>
                  <a:lnTo>
                    <a:pt x="716" y="567"/>
                  </a:lnTo>
                  <a:lnTo>
                    <a:pt x="723" y="553"/>
                  </a:lnTo>
                  <a:lnTo>
                    <a:pt x="732" y="537"/>
                  </a:lnTo>
                  <a:lnTo>
                    <a:pt x="742" y="521"/>
                  </a:lnTo>
                  <a:lnTo>
                    <a:pt x="755" y="503"/>
                  </a:lnTo>
                  <a:lnTo>
                    <a:pt x="810" y="437"/>
                  </a:lnTo>
                  <a:lnTo>
                    <a:pt x="860" y="375"/>
                  </a:lnTo>
                  <a:lnTo>
                    <a:pt x="884" y="347"/>
                  </a:lnTo>
                  <a:lnTo>
                    <a:pt x="908" y="320"/>
                  </a:lnTo>
                  <a:lnTo>
                    <a:pt x="920" y="308"/>
                  </a:lnTo>
                  <a:lnTo>
                    <a:pt x="931" y="296"/>
                  </a:lnTo>
                  <a:lnTo>
                    <a:pt x="944" y="285"/>
                  </a:lnTo>
                  <a:lnTo>
                    <a:pt x="957" y="275"/>
                  </a:lnTo>
                  <a:lnTo>
                    <a:pt x="970" y="265"/>
                  </a:lnTo>
                  <a:lnTo>
                    <a:pt x="983" y="257"/>
                  </a:lnTo>
                  <a:lnTo>
                    <a:pt x="996" y="249"/>
                  </a:lnTo>
                  <a:lnTo>
                    <a:pt x="1010" y="242"/>
                  </a:lnTo>
                  <a:lnTo>
                    <a:pt x="1024" y="235"/>
                  </a:lnTo>
                  <a:lnTo>
                    <a:pt x="1039" y="230"/>
                  </a:lnTo>
                  <a:lnTo>
                    <a:pt x="1054" y="225"/>
                  </a:lnTo>
                  <a:lnTo>
                    <a:pt x="1070" y="222"/>
                  </a:lnTo>
                  <a:lnTo>
                    <a:pt x="1087" y="218"/>
                  </a:lnTo>
                  <a:lnTo>
                    <a:pt x="1104" y="217"/>
                  </a:lnTo>
                  <a:lnTo>
                    <a:pt x="1122" y="216"/>
                  </a:lnTo>
                  <a:lnTo>
                    <a:pt x="1141" y="217"/>
                  </a:lnTo>
                  <a:lnTo>
                    <a:pt x="1160" y="218"/>
                  </a:lnTo>
                  <a:lnTo>
                    <a:pt x="1181" y="221"/>
                  </a:lnTo>
                  <a:lnTo>
                    <a:pt x="1202" y="225"/>
                  </a:lnTo>
                  <a:lnTo>
                    <a:pt x="1225" y="230"/>
                  </a:lnTo>
                  <a:lnTo>
                    <a:pt x="1380" y="0"/>
                  </a:lnTo>
                  <a:lnTo>
                    <a:pt x="2798" y="51"/>
                  </a:lnTo>
                  <a:lnTo>
                    <a:pt x="1741" y="207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Freeform 154"/>
            <p:cNvSpPr/>
            <p:nvPr/>
          </p:nvSpPr>
          <p:spPr>
            <a:xfrm>
              <a:off x="6018120" y="5491440"/>
              <a:ext cx="446760" cy="35640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2798" h="2073">
                  <a:moveTo>
                    <a:pt x="1741" y="2073"/>
                  </a:moveTo>
                  <a:lnTo>
                    <a:pt x="1081" y="2018"/>
                  </a:lnTo>
                  <a:lnTo>
                    <a:pt x="0" y="1462"/>
                  </a:lnTo>
                  <a:lnTo>
                    <a:pt x="65" y="1356"/>
                  </a:lnTo>
                  <a:lnTo>
                    <a:pt x="76" y="1354"/>
                  </a:lnTo>
                  <a:lnTo>
                    <a:pt x="93" y="1351"/>
                  </a:lnTo>
                  <a:lnTo>
                    <a:pt x="113" y="1347"/>
                  </a:lnTo>
                  <a:lnTo>
                    <a:pt x="135" y="1341"/>
                  </a:lnTo>
                  <a:lnTo>
                    <a:pt x="146" y="1337"/>
                  </a:lnTo>
                  <a:lnTo>
                    <a:pt x="159" y="1331"/>
                  </a:lnTo>
                  <a:lnTo>
                    <a:pt x="172" y="1326"/>
                  </a:lnTo>
                  <a:lnTo>
                    <a:pt x="186" y="1318"/>
                  </a:lnTo>
                  <a:lnTo>
                    <a:pt x="200" y="1310"/>
                  </a:lnTo>
                  <a:lnTo>
                    <a:pt x="215" y="1301"/>
                  </a:lnTo>
                  <a:lnTo>
                    <a:pt x="231" y="1290"/>
                  </a:lnTo>
                  <a:lnTo>
                    <a:pt x="246" y="1279"/>
                  </a:lnTo>
                  <a:lnTo>
                    <a:pt x="217" y="1201"/>
                  </a:lnTo>
                  <a:lnTo>
                    <a:pt x="220" y="1196"/>
                  </a:lnTo>
                  <a:lnTo>
                    <a:pt x="231" y="1183"/>
                  </a:lnTo>
                  <a:lnTo>
                    <a:pt x="247" y="1163"/>
                  </a:lnTo>
                  <a:lnTo>
                    <a:pt x="270" y="1140"/>
                  </a:lnTo>
                  <a:lnTo>
                    <a:pt x="283" y="1127"/>
                  </a:lnTo>
                  <a:lnTo>
                    <a:pt x="298" y="1114"/>
                  </a:lnTo>
                  <a:lnTo>
                    <a:pt x="315" y="1101"/>
                  </a:lnTo>
                  <a:lnTo>
                    <a:pt x="332" y="1088"/>
                  </a:lnTo>
                  <a:lnTo>
                    <a:pt x="351" y="1077"/>
                  </a:lnTo>
                  <a:lnTo>
                    <a:pt x="372" y="1065"/>
                  </a:lnTo>
                  <a:lnTo>
                    <a:pt x="393" y="1055"/>
                  </a:lnTo>
                  <a:lnTo>
                    <a:pt x="415" y="1045"/>
                  </a:lnTo>
                  <a:lnTo>
                    <a:pt x="415" y="1040"/>
                  </a:lnTo>
                  <a:lnTo>
                    <a:pt x="415" y="1035"/>
                  </a:lnTo>
                  <a:lnTo>
                    <a:pt x="417" y="1029"/>
                  </a:lnTo>
                  <a:lnTo>
                    <a:pt x="421" y="1022"/>
                  </a:lnTo>
                  <a:lnTo>
                    <a:pt x="429" y="1007"/>
                  </a:lnTo>
                  <a:lnTo>
                    <a:pt x="443" y="989"/>
                  </a:lnTo>
                  <a:lnTo>
                    <a:pt x="460" y="969"/>
                  </a:lnTo>
                  <a:lnTo>
                    <a:pt x="479" y="948"/>
                  </a:lnTo>
                  <a:lnTo>
                    <a:pt x="500" y="927"/>
                  </a:lnTo>
                  <a:lnTo>
                    <a:pt x="525" y="905"/>
                  </a:lnTo>
                  <a:lnTo>
                    <a:pt x="551" y="882"/>
                  </a:lnTo>
                  <a:lnTo>
                    <a:pt x="576" y="859"/>
                  </a:lnTo>
                  <a:lnTo>
                    <a:pt x="603" y="838"/>
                  </a:lnTo>
                  <a:lnTo>
                    <a:pt x="630" y="817"/>
                  </a:lnTo>
                  <a:lnTo>
                    <a:pt x="656" y="798"/>
                  </a:lnTo>
                  <a:lnTo>
                    <a:pt x="681" y="780"/>
                  </a:lnTo>
                  <a:lnTo>
                    <a:pt x="705" y="765"/>
                  </a:lnTo>
                  <a:lnTo>
                    <a:pt x="727" y="751"/>
                  </a:lnTo>
                  <a:lnTo>
                    <a:pt x="709" y="659"/>
                  </a:lnTo>
                  <a:lnTo>
                    <a:pt x="708" y="656"/>
                  </a:lnTo>
                  <a:lnTo>
                    <a:pt x="706" y="648"/>
                  </a:lnTo>
                  <a:lnTo>
                    <a:pt x="705" y="635"/>
                  </a:lnTo>
                  <a:lnTo>
                    <a:pt x="705" y="616"/>
                  </a:lnTo>
                  <a:lnTo>
                    <a:pt x="706" y="606"/>
                  </a:lnTo>
                  <a:lnTo>
                    <a:pt x="708" y="594"/>
                  </a:lnTo>
                  <a:lnTo>
                    <a:pt x="712" y="581"/>
                  </a:lnTo>
                  <a:lnTo>
                    <a:pt x="716" y="567"/>
                  </a:lnTo>
                  <a:lnTo>
                    <a:pt x="723" y="553"/>
                  </a:lnTo>
                  <a:lnTo>
                    <a:pt x="732" y="537"/>
                  </a:lnTo>
                  <a:lnTo>
                    <a:pt x="742" y="521"/>
                  </a:lnTo>
                  <a:lnTo>
                    <a:pt x="755" y="503"/>
                  </a:lnTo>
                  <a:lnTo>
                    <a:pt x="810" y="437"/>
                  </a:lnTo>
                  <a:lnTo>
                    <a:pt x="860" y="375"/>
                  </a:lnTo>
                  <a:lnTo>
                    <a:pt x="884" y="347"/>
                  </a:lnTo>
                  <a:lnTo>
                    <a:pt x="908" y="320"/>
                  </a:lnTo>
                  <a:lnTo>
                    <a:pt x="920" y="308"/>
                  </a:lnTo>
                  <a:lnTo>
                    <a:pt x="931" y="296"/>
                  </a:lnTo>
                  <a:lnTo>
                    <a:pt x="944" y="285"/>
                  </a:lnTo>
                  <a:lnTo>
                    <a:pt x="957" y="275"/>
                  </a:lnTo>
                  <a:lnTo>
                    <a:pt x="970" y="265"/>
                  </a:lnTo>
                  <a:lnTo>
                    <a:pt x="983" y="257"/>
                  </a:lnTo>
                  <a:lnTo>
                    <a:pt x="996" y="249"/>
                  </a:lnTo>
                  <a:lnTo>
                    <a:pt x="1010" y="242"/>
                  </a:lnTo>
                  <a:lnTo>
                    <a:pt x="1024" y="235"/>
                  </a:lnTo>
                  <a:lnTo>
                    <a:pt x="1039" y="230"/>
                  </a:lnTo>
                  <a:lnTo>
                    <a:pt x="1054" y="225"/>
                  </a:lnTo>
                  <a:lnTo>
                    <a:pt x="1070" y="222"/>
                  </a:lnTo>
                  <a:lnTo>
                    <a:pt x="1087" y="218"/>
                  </a:lnTo>
                  <a:lnTo>
                    <a:pt x="1104" y="217"/>
                  </a:lnTo>
                  <a:lnTo>
                    <a:pt x="1122" y="216"/>
                  </a:lnTo>
                  <a:lnTo>
                    <a:pt x="1141" y="217"/>
                  </a:lnTo>
                  <a:lnTo>
                    <a:pt x="1160" y="218"/>
                  </a:lnTo>
                  <a:lnTo>
                    <a:pt x="1181" y="221"/>
                  </a:lnTo>
                  <a:lnTo>
                    <a:pt x="1202" y="225"/>
                  </a:lnTo>
                  <a:lnTo>
                    <a:pt x="1225" y="230"/>
                  </a:lnTo>
                  <a:lnTo>
                    <a:pt x="1380" y="0"/>
                  </a:lnTo>
                  <a:lnTo>
                    <a:pt x="2798" y="51"/>
                  </a:lnTo>
                  <a:lnTo>
                    <a:pt x="1741" y="207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Freeform 155"/>
            <p:cNvSpPr/>
            <p:nvPr/>
          </p:nvSpPr>
          <p:spPr>
            <a:xfrm>
              <a:off x="6443640" y="5024520"/>
              <a:ext cx="412560" cy="15804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82" h="922">
                  <a:moveTo>
                    <a:pt x="2582" y="43"/>
                  </a:moveTo>
                  <a:lnTo>
                    <a:pt x="2309" y="852"/>
                  </a:lnTo>
                  <a:lnTo>
                    <a:pt x="2294" y="850"/>
                  </a:lnTo>
                  <a:lnTo>
                    <a:pt x="2272" y="849"/>
                  </a:lnTo>
                  <a:lnTo>
                    <a:pt x="2241" y="848"/>
                  </a:lnTo>
                  <a:lnTo>
                    <a:pt x="2204" y="847"/>
                  </a:lnTo>
                  <a:lnTo>
                    <a:pt x="2111" y="845"/>
                  </a:lnTo>
                  <a:lnTo>
                    <a:pt x="1997" y="845"/>
                  </a:lnTo>
                  <a:lnTo>
                    <a:pt x="1866" y="848"/>
                  </a:lnTo>
                  <a:lnTo>
                    <a:pt x="1725" y="849"/>
                  </a:lnTo>
                  <a:lnTo>
                    <a:pt x="1576" y="852"/>
                  </a:lnTo>
                  <a:lnTo>
                    <a:pt x="1423" y="855"/>
                  </a:lnTo>
                  <a:lnTo>
                    <a:pt x="1271" y="858"/>
                  </a:lnTo>
                  <a:lnTo>
                    <a:pt x="1125" y="862"/>
                  </a:lnTo>
                  <a:lnTo>
                    <a:pt x="990" y="865"/>
                  </a:lnTo>
                  <a:lnTo>
                    <a:pt x="869" y="869"/>
                  </a:lnTo>
                  <a:lnTo>
                    <a:pt x="767" y="871"/>
                  </a:lnTo>
                  <a:lnTo>
                    <a:pt x="689" y="873"/>
                  </a:lnTo>
                  <a:lnTo>
                    <a:pt x="639" y="875"/>
                  </a:lnTo>
                  <a:lnTo>
                    <a:pt x="621" y="875"/>
                  </a:lnTo>
                  <a:lnTo>
                    <a:pt x="592" y="884"/>
                  </a:lnTo>
                  <a:lnTo>
                    <a:pt x="562" y="891"/>
                  </a:lnTo>
                  <a:lnTo>
                    <a:pt x="530" y="899"/>
                  </a:lnTo>
                  <a:lnTo>
                    <a:pt x="497" y="905"/>
                  </a:lnTo>
                  <a:lnTo>
                    <a:pt x="465" y="911"/>
                  </a:lnTo>
                  <a:lnTo>
                    <a:pt x="432" y="915"/>
                  </a:lnTo>
                  <a:lnTo>
                    <a:pt x="399" y="919"/>
                  </a:lnTo>
                  <a:lnTo>
                    <a:pt x="368" y="921"/>
                  </a:lnTo>
                  <a:lnTo>
                    <a:pt x="336" y="922"/>
                  </a:lnTo>
                  <a:lnTo>
                    <a:pt x="307" y="921"/>
                  </a:lnTo>
                  <a:lnTo>
                    <a:pt x="278" y="919"/>
                  </a:lnTo>
                  <a:lnTo>
                    <a:pt x="251" y="914"/>
                  </a:lnTo>
                  <a:lnTo>
                    <a:pt x="239" y="912"/>
                  </a:lnTo>
                  <a:lnTo>
                    <a:pt x="226" y="908"/>
                  </a:lnTo>
                  <a:lnTo>
                    <a:pt x="216" y="904"/>
                  </a:lnTo>
                  <a:lnTo>
                    <a:pt x="205" y="899"/>
                  </a:lnTo>
                  <a:lnTo>
                    <a:pt x="195" y="894"/>
                  </a:lnTo>
                  <a:lnTo>
                    <a:pt x="185" y="889"/>
                  </a:lnTo>
                  <a:lnTo>
                    <a:pt x="177" y="882"/>
                  </a:lnTo>
                  <a:lnTo>
                    <a:pt x="169" y="875"/>
                  </a:lnTo>
                  <a:lnTo>
                    <a:pt x="163" y="868"/>
                  </a:lnTo>
                  <a:lnTo>
                    <a:pt x="157" y="862"/>
                  </a:lnTo>
                  <a:lnTo>
                    <a:pt x="153" y="855"/>
                  </a:lnTo>
                  <a:lnTo>
                    <a:pt x="149" y="848"/>
                  </a:lnTo>
                  <a:lnTo>
                    <a:pt x="146" y="841"/>
                  </a:lnTo>
                  <a:lnTo>
                    <a:pt x="143" y="835"/>
                  </a:lnTo>
                  <a:lnTo>
                    <a:pt x="142" y="828"/>
                  </a:lnTo>
                  <a:lnTo>
                    <a:pt x="141" y="821"/>
                  </a:lnTo>
                  <a:lnTo>
                    <a:pt x="141" y="809"/>
                  </a:lnTo>
                  <a:lnTo>
                    <a:pt x="141" y="796"/>
                  </a:lnTo>
                  <a:lnTo>
                    <a:pt x="143" y="785"/>
                  </a:lnTo>
                  <a:lnTo>
                    <a:pt x="146" y="774"/>
                  </a:lnTo>
                  <a:lnTo>
                    <a:pt x="148" y="764"/>
                  </a:lnTo>
                  <a:lnTo>
                    <a:pt x="149" y="753"/>
                  </a:lnTo>
                  <a:lnTo>
                    <a:pt x="149" y="744"/>
                  </a:lnTo>
                  <a:lnTo>
                    <a:pt x="147" y="734"/>
                  </a:lnTo>
                  <a:lnTo>
                    <a:pt x="145" y="730"/>
                  </a:lnTo>
                  <a:lnTo>
                    <a:pt x="142" y="726"/>
                  </a:lnTo>
                  <a:lnTo>
                    <a:pt x="139" y="723"/>
                  </a:lnTo>
                  <a:lnTo>
                    <a:pt x="135" y="718"/>
                  </a:lnTo>
                  <a:lnTo>
                    <a:pt x="129" y="715"/>
                  </a:lnTo>
                  <a:lnTo>
                    <a:pt x="124" y="711"/>
                  </a:lnTo>
                  <a:lnTo>
                    <a:pt x="117" y="709"/>
                  </a:lnTo>
                  <a:lnTo>
                    <a:pt x="108" y="705"/>
                  </a:lnTo>
                  <a:lnTo>
                    <a:pt x="91" y="699"/>
                  </a:lnTo>
                  <a:lnTo>
                    <a:pt x="77" y="694"/>
                  </a:lnTo>
                  <a:lnTo>
                    <a:pt x="65" y="688"/>
                  </a:lnTo>
                  <a:lnTo>
                    <a:pt x="56" y="682"/>
                  </a:lnTo>
                  <a:lnTo>
                    <a:pt x="49" y="677"/>
                  </a:lnTo>
                  <a:lnTo>
                    <a:pt x="44" y="672"/>
                  </a:lnTo>
                  <a:lnTo>
                    <a:pt x="42" y="668"/>
                  </a:lnTo>
                  <a:lnTo>
                    <a:pt x="39" y="663"/>
                  </a:lnTo>
                  <a:lnTo>
                    <a:pt x="39" y="658"/>
                  </a:lnTo>
                  <a:lnTo>
                    <a:pt x="41" y="655"/>
                  </a:lnTo>
                  <a:lnTo>
                    <a:pt x="42" y="653"/>
                  </a:lnTo>
                  <a:lnTo>
                    <a:pt x="43" y="649"/>
                  </a:lnTo>
                  <a:lnTo>
                    <a:pt x="46" y="646"/>
                  </a:lnTo>
                  <a:lnTo>
                    <a:pt x="49" y="644"/>
                  </a:lnTo>
                  <a:lnTo>
                    <a:pt x="57" y="639"/>
                  </a:lnTo>
                  <a:lnTo>
                    <a:pt x="78" y="622"/>
                  </a:lnTo>
                  <a:lnTo>
                    <a:pt x="107" y="599"/>
                  </a:lnTo>
                  <a:lnTo>
                    <a:pt x="138" y="572"/>
                  </a:lnTo>
                  <a:lnTo>
                    <a:pt x="153" y="557"/>
                  </a:lnTo>
                  <a:lnTo>
                    <a:pt x="166" y="543"/>
                  </a:lnTo>
                  <a:lnTo>
                    <a:pt x="176" y="528"/>
                  </a:lnTo>
                  <a:lnTo>
                    <a:pt x="183" y="515"/>
                  </a:lnTo>
                  <a:lnTo>
                    <a:pt x="185" y="508"/>
                  </a:lnTo>
                  <a:lnTo>
                    <a:pt x="187" y="502"/>
                  </a:lnTo>
                  <a:lnTo>
                    <a:pt x="188" y="496"/>
                  </a:lnTo>
                  <a:lnTo>
                    <a:pt x="187" y="491"/>
                  </a:lnTo>
                  <a:lnTo>
                    <a:pt x="184" y="487"/>
                  </a:lnTo>
                  <a:lnTo>
                    <a:pt x="181" y="482"/>
                  </a:lnTo>
                  <a:lnTo>
                    <a:pt x="176" y="477"/>
                  </a:lnTo>
                  <a:lnTo>
                    <a:pt x="169" y="475"/>
                  </a:lnTo>
                  <a:lnTo>
                    <a:pt x="155" y="469"/>
                  </a:lnTo>
                  <a:lnTo>
                    <a:pt x="142" y="462"/>
                  </a:lnTo>
                  <a:lnTo>
                    <a:pt x="129" y="455"/>
                  </a:lnTo>
                  <a:lnTo>
                    <a:pt x="117" y="448"/>
                  </a:lnTo>
                  <a:lnTo>
                    <a:pt x="106" y="441"/>
                  </a:lnTo>
                  <a:lnTo>
                    <a:pt x="94" y="433"/>
                  </a:lnTo>
                  <a:lnTo>
                    <a:pt x="84" y="425"/>
                  </a:lnTo>
                  <a:lnTo>
                    <a:pt x="75" y="417"/>
                  </a:lnTo>
                  <a:lnTo>
                    <a:pt x="65" y="407"/>
                  </a:lnTo>
                  <a:lnTo>
                    <a:pt x="57" y="398"/>
                  </a:lnTo>
                  <a:lnTo>
                    <a:pt x="49" y="389"/>
                  </a:lnTo>
                  <a:lnTo>
                    <a:pt x="42" y="379"/>
                  </a:lnTo>
                  <a:lnTo>
                    <a:pt x="35" y="370"/>
                  </a:lnTo>
                  <a:lnTo>
                    <a:pt x="29" y="359"/>
                  </a:lnTo>
                  <a:lnTo>
                    <a:pt x="23" y="350"/>
                  </a:lnTo>
                  <a:lnTo>
                    <a:pt x="18" y="340"/>
                  </a:lnTo>
                  <a:lnTo>
                    <a:pt x="10" y="320"/>
                  </a:lnTo>
                  <a:lnTo>
                    <a:pt x="4" y="299"/>
                  </a:lnTo>
                  <a:lnTo>
                    <a:pt x="1" y="278"/>
                  </a:lnTo>
                  <a:lnTo>
                    <a:pt x="0" y="257"/>
                  </a:lnTo>
                  <a:lnTo>
                    <a:pt x="1" y="237"/>
                  </a:lnTo>
                  <a:lnTo>
                    <a:pt x="3" y="218"/>
                  </a:lnTo>
                  <a:lnTo>
                    <a:pt x="7" y="208"/>
                  </a:lnTo>
                  <a:lnTo>
                    <a:pt x="9" y="198"/>
                  </a:lnTo>
                  <a:lnTo>
                    <a:pt x="13" y="190"/>
                  </a:lnTo>
                  <a:lnTo>
                    <a:pt x="17" y="181"/>
                  </a:lnTo>
                  <a:lnTo>
                    <a:pt x="25" y="163"/>
                  </a:lnTo>
                  <a:lnTo>
                    <a:pt x="36" y="147"/>
                  </a:lnTo>
                  <a:lnTo>
                    <a:pt x="46" y="131"/>
                  </a:lnTo>
                  <a:lnTo>
                    <a:pt x="58" y="114"/>
                  </a:lnTo>
                  <a:lnTo>
                    <a:pt x="80" y="83"/>
                  </a:lnTo>
                  <a:lnTo>
                    <a:pt x="104" y="56"/>
                  </a:lnTo>
                  <a:lnTo>
                    <a:pt x="124" y="32"/>
                  </a:lnTo>
                  <a:lnTo>
                    <a:pt x="140" y="15"/>
                  </a:lnTo>
                  <a:lnTo>
                    <a:pt x="150" y="3"/>
                  </a:lnTo>
                  <a:lnTo>
                    <a:pt x="155" y="0"/>
                  </a:lnTo>
                  <a:lnTo>
                    <a:pt x="300" y="4"/>
                  </a:lnTo>
                  <a:lnTo>
                    <a:pt x="447" y="9"/>
                  </a:lnTo>
                  <a:lnTo>
                    <a:pt x="597" y="13"/>
                  </a:lnTo>
                  <a:lnTo>
                    <a:pt x="749" y="17"/>
                  </a:lnTo>
                  <a:lnTo>
                    <a:pt x="903" y="21"/>
                  </a:lnTo>
                  <a:lnTo>
                    <a:pt x="1057" y="24"/>
                  </a:lnTo>
                  <a:lnTo>
                    <a:pt x="1213" y="27"/>
                  </a:lnTo>
                  <a:lnTo>
                    <a:pt x="1369" y="30"/>
                  </a:lnTo>
                  <a:lnTo>
                    <a:pt x="1525" y="32"/>
                  </a:lnTo>
                  <a:lnTo>
                    <a:pt x="1681" y="35"/>
                  </a:lnTo>
                  <a:lnTo>
                    <a:pt x="1835" y="37"/>
                  </a:lnTo>
                  <a:lnTo>
                    <a:pt x="1989" y="38"/>
                  </a:lnTo>
                  <a:lnTo>
                    <a:pt x="2141" y="39"/>
                  </a:lnTo>
                  <a:lnTo>
                    <a:pt x="2290" y="41"/>
                  </a:lnTo>
                  <a:lnTo>
                    <a:pt x="2439" y="42"/>
                  </a:lnTo>
                  <a:lnTo>
                    <a:pt x="2582" y="4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Freeform 156"/>
            <p:cNvSpPr/>
            <p:nvPr/>
          </p:nvSpPr>
          <p:spPr>
            <a:xfrm>
              <a:off x="6443640" y="5024520"/>
              <a:ext cx="412560" cy="15804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582" h="922">
                  <a:moveTo>
                    <a:pt x="2582" y="43"/>
                  </a:moveTo>
                  <a:lnTo>
                    <a:pt x="2309" y="852"/>
                  </a:lnTo>
                  <a:lnTo>
                    <a:pt x="2294" y="850"/>
                  </a:lnTo>
                  <a:lnTo>
                    <a:pt x="2272" y="849"/>
                  </a:lnTo>
                  <a:lnTo>
                    <a:pt x="2241" y="848"/>
                  </a:lnTo>
                  <a:lnTo>
                    <a:pt x="2204" y="847"/>
                  </a:lnTo>
                  <a:lnTo>
                    <a:pt x="2111" y="845"/>
                  </a:lnTo>
                  <a:lnTo>
                    <a:pt x="1997" y="845"/>
                  </a:lnTo>
                  <a:lnTo>
                    <a:pt x="1866" y="848"/>
                  </a:lnTo>
                  <a:lnTo>
                    <a:pt x="1725" y="849"/>
                  </a:lnTo>
                  <a:lnTo>
                    <a:pt x="1576" y="852"/>
                  </a:lnTo>
                  <a:lnTo>
                    <a:pt x="1423" y="855"/>
                  </a:lnTo>
                  <a:lnTo>
                    <a:pt x="1271" y="858"/>
                  </a:lnTo>
                  <a:lnTo>
                    <a:pt x="1125" y="862"/>
                  </a:lnTo>
                  <a:lnTo>
                    <a:pt x="990" y="865"/>
                  </a:lnTo>
                  <a:lnTo>
                    <a:pt x="869" y="869"/>
                  </a:lnTo>
                  <a:lnTo>
                    <a:pt x="767" y="871"/>
                  </a:lnTo>
                  <a:lnTo>
                    <a:pt x="689" y="873"/>
                  </a:lnTo>
                  <a:lnTo>
                    <a:pt x="639" y="875"/>
                  </a:lnTo>
                  <a:lnTo>
                    <a:pt x="621" y="875"/>
                  </a:lnTo>
                  <a:lnTo>
                    <a:pt x="592" y="884"/>
                  </a:lnTo>
                  <a:lnTo>
                    <a:pt x="562" y="891"/>
                  </a:lnTo>
                  <a:lnTo>
                    <a:pt x="530" y="899"/>
                  </a:lnTo>
                  <a:lnTo>
                    <a:pt x="497" y="905"/>
                  </a:lnTo>
                  <a:lnTo>
                    <a:pt x="465" y="911"/>
                  </a:lnTo>
                  <a:lnTo>
                    <a:pt x="432" y="915"/>
                  </a:lnTo>
                  <a:lnTo>
                    <a:pt x="399" y="919"/>
                  </a:lnTo>
                  <a:lnTo>
                    <a:pt x="368" y="921"/>
                  </a:lnTo>
                  <a:lnTo>
                    <a:pt x="336" y="922"/>
                  </a:lnTo>
                  <a:lnTo>
                    <a:pt x="307" y="921"/>
                  </a:lnTo>
                  <a:lnTo>
                    <a:pt x="278" y="919"/>
                  </a:lnTo>
                  <a:lnTo>
                    <a:pt x="251" y="914"/>
                  </a:lnTo>
                  <a:lnTo>
                    <a:pt x="239" y="912"/>
                  </a:lnTo>
                  <a:lnTo>
                    <a:pt x="226" y="908"/>
                  </a:lnTo>
                  <a:lnTo>
                    <a:pt x="216" y="904"/>
                  </a:lnTo>
                  <a:lnTo>
                    <a:pt x="205" y="899"/>
                  </a:lnTo>
                  <a:lnTo>
                    <a:pt x="195" y="894"/>
                  </a:lnTo>
                  <a:lnTo>
                    <a:pt x="185" y="889"/>
                  </a:lnTo>
                  <a:lnTo>
                    <a:pt x="177" y="882"/>
                  </a:lnTo>
                  <a:lnTo>
                    <a:pt x="169" y="875"/>
                  </a:lnTo>
                  <a:lnTo>
                    <a:pt x="163" y="868"/>
                  </a:lnTo>
                  <a:lnTo>
                    <a:pt x="157" y="862"/>
                  </a:lnTo>
                  <a:lnTo>
                    <a:pt x="153" y="855"/>
                  </a:lnTo>
                  <a:lnTo>
                    <a:pt x="149" y="848"/>
                  </a:lnTo>
                  <a:lnTo>
                    <a:pt x="146" y="841"/>
                  </a:lnTo>
                  <a:lnTo>
                    <a:pt x="143" y="835"/>
                  </a:lnTo>
                  <a:lnTo>
                    <a:pt x="142" y="828"/>
                  </a:lnTo>
                  <a:lnTo>
                    <a:pt x="141" y="821"/>
                  </a:lnTo>
                  <a:lnTo>
                    <a:pt x="141" y="809"/>
                  </a:lnTo>
                  <a:lnTo>
                    <a:pt x="141" y="796"/>
                  </a:lnTo>
                  <a:lnTo>
                    <a:pt x="143" y="785"/>
                  </a:lnTo>
                  <a:lnTo>
                    <a:pt x="146" y="774"/>
                  </a:lnTo>
                  <a:lnTo>
                    <a:pt x="148" y="764"/>
                  </a:lnTo>
                  <a:lnTo>
                    <a:pt x="149" y="753"/>
                  </a:lnTo>
                  <a:lnTo>
                    <a:pt x="149" y="744"/>
                  </a:lnTo>
                  <a:lnTo>
                    <a:pt x="147" y="734"/>
                  </a:lnTo>
                  <a:lnTo>
                    <a:pt x="145" y="730"/>
                  </a:lnTo>
                  <a:lnTo>
                    <a:pt x="142" y="726"/>
                  </a:lnTo>
                  <a:lnTo>
                    <a:pt x="139" y="723"/>
                  </a:lnTo>
                  <a:lnTo>
                    <a:pt x="135" y="718"/>
                  </a:lnTo>
                  <a:lnTo>
                    <a:pt x="129" y="715"/>
                  </a:lnTo>
                  <a:lnTo>
                    <a:pt x="124" y="711"/>
                  </a:lnTo>
                  <a:lnTo>
                    <a:pt x="117" y="709"/>
                  </a:lnTo>
                  <a:lnTo>
                    <a:pt x="108" y="705"/>
                  </a:lnTo>
                  <a:lnTo>
                    <a:pt x="91" y="699"/>
                  </a:lnTo>
                  <a:lnTo>
                    <a:pt x="77" y="694"/>
                  </a:lnTo>
                  <a:lnTo>
                    <a:pt x="65" y="688"/>
                  </a:lnTo>
                  <a:lnTo>
                    <a:pt x="56" y="682"/>
                  </a:lnTo>
                  <a:lnTo>
                    <a:pt x="49" y="677"/>
                  </a:lnTo>
                  <a:lnTo>
                    <a:pt x="44" y="672"/>
                  </a:lnTo>
                  <a:lnTo>
                    <a:pt x="42" y="668"/>
                  </a:lnTo>
                  <a:lnTo>
                    <a:pt x="39" y="663"/>
                  </a:lnTo>
                  <a:lnTo>
                    <a:pt x="39" y="658"/>
                  </a:lnTo>
                  <a:lnTo>
                    <a:pt x="41" y="655"/>
                  </a:lnTo>
                  <a:lnTo>
                    <a:pt x="42" y="653"/>
                  </a:lnTo>
                  <a:lnTo>
                    <a:pt x="43" y="649"/>
                  </a:lnTo>
                  <a:lnTo>
                    <a:pt x="46" y="646"/>
                  </a:lnTo>
                  <a:lnTo>
                    <a:pt x="49" y="644"/>
                  </a:lnTo>
                  <a:lnTo>
                    <a:pt x="57" y="639"/>
                  </a:lnTo>
                  <a:lnTo>
                    <a:pt x="78" y="622"/>
                  </a:lnTo>
                  <a:lnTo>
                    <a:pt x="107" y="599"/>
                  </a:lnTo>
                  <a:lnTo>
                    <a:pt x="138" y="572"/>
                  </a:lnTo>
                  <a:lnTo>
                    <a:pt x="153" y="557"/>
                  </a:lnTo>
                  <a:lnTo>
                    <a:pt x="166" y="543"/>
                  </a:lnTo>
                  <a:lnTo>
                    <a:pt x="176" y="528"/>
                  </a:lnTo>
                  <a:lnTo>
                    <a:pt x="183" y="515"/>
                  </a:lnTo>
                  <a:lnTo>
                    <a:pt x="185" y="508"/>
                  </a:lnTo>
                  <a:lnTo>
                    <a:pt x="187" y="502"/>
                  </a:lnTo>
                  <a:lnTo>
                    <a:pt x="188" y="496"/>
                  </a:lnTo>
                  <a:lnTo>
                    <a:pt x="187" y="491"/>
                  </a:lnTo>
                  <a:lnTo>
                    <a:pt x="184" y="487"/>
                  </a:lnTo>
                  <a:lnTo>
                    <a:pt x="181" y="482"/>
                  </a:lnTo>
                  <a:lnTo>
                    <a:pt x="176" y="477"/>
                  </a:lnTo>
                  <a:lnTo>
                    <a:pt x="169" y="475"/>
                  </a:lnTo>
                  <a:lnTo>
                    <a:pt x="155" y="469"/>
                  </a:lnTo>
                  <a:lnTo>
                    <a:pt x="142" y="462"/>
                  </a:lnTo>
                  <a:lnTo>
                    <a:pt x="129" y="455"/>
                  </a:lnTo>
                  <a:lnTo>
                    <a:pt x="117" y="448"/>
                  </a:lnTo>
                  <a:lnTo>
                    <a:pt x="106" y="441"/>
                  </a:lnTo>
                  <a:lnTo>
                    <a:pt x="94" y="433"/>
                  </a:lnTo>
                  <a:lnTo>
                    <a:pt x="84" y="425"/>
                  </a:lnTo>
                  <a:lnTo>
                    <a:pt x="75" y="417"/>
                  </a:lnTo>
                  <a:lnTo>
                    <a:pt x="65" y="407"/>
                  </a:lnTo>
                  <a:lnTo>
                    <a:pt x="57" y="398"/>
                  </a:lnTo>
                  <a:lnTo>
                    <a:pt x="49" y="389"/>
                  </a:lnTo>
                  <a:lnTo>
                    <a:pt x="42" y="379"/>
                  </a:lnTo>
                  <a:lnTo>
                    <a:pt x="35" y="370"/>
                  </a:lnTo>
                  <a:lnTo>
                    <a:pt x="29" y="359"/>
                  </a:lnTo>
                  <a:lnTo>
                    <a:pt x="23" y="350"/>
                  </a:lnTo>
                  <a:lnTo>
                    <a:pt x="18" y="340"/>
                  </a:lnTo>
                  <a:lnTo>
                    <a:pt x="10" y="320"/>
                  </a:lnTo>
                  <a:lnTo>
                    <a:pt x="4" y="299"/>
                  </a:lnTo>
                  <a:lnTo>
                    <a:pt x="1" y="278"/>
                  </a:lnTo>
                  <a:lnTo>
                    <a:pt x="0" y="257"/>
                  </a:lnTo>
                  <a:lnTo>
                    <a:pt x="1" y="237"/>
                  </a:lnTo>
                  <a:lnTo>
                    <a:pt x="3" y="218"/>
                  </a:lnTo>
                  <a:lnTo>
                    <a:pt x="7" y="208"/>
                  </a:lnTo>
                  <a:lnTo>
                    <a:pt x="9" y="198"/>
                  </a:lnTo>
                  <a:lnTo>
                    <a:pt x="13" y="190"/>
                  </a:lnTo>
                  <a:lnTo>
                    <a:pt x="17" y="181"/>
                  </a:lnTo>
                  <a:lnTo>
                    <a:pt x="25" y="163"/>
                  </a:lnTo>
                  <a:lnTo>
                    <a:pt x="36" y="147"/>
                  </a:lnTo>
                  <a:lnTo>
                    <a:pt x="46" y="131"/>
                  </a:lnTo>
                  <a:lnTo>
                    <a:pt x="58" y="114"/>
                  </a:lnTo>
                  <a:lnTo>
                    <a:pt x="80" y="83"/>
                  </a:lnTo>
                  <a:lnTo>
                    <a:pt x="104" y="56"/>
                  </a:lnTo>
                  <a:lnTo>
                    <a:pt x="124" y="32"/>
                  </a:lnTo>
                  <a:lnTo>
                    <a:pt x="140" y="15"/>
                  </a:lnTo>
                  <a:lnTo>
                    <a:pt x="150" y="3"/>
                  </a:lnTo>
                  <a:lnTo>
                    <a:pt x="155" y="0"/>
                  </a:lnTo>
                  <a:lnTo>
                    <a:pt x="300" y="4"/>
                  </a:lnTo>
                  <a:lnTo>
                    <a:pt x="447" y="9"/>
                  </a:lnTo>
                  <a:lnTo>
                    <a:pt x="597" y="13"/>
                  </a:lnTo>
                  <a:lnTo>
                    <a:pt x="749" y="17"/>
                  </a:lnTo>
                  <a:lnTo>
                    <a:pt x="903" y="21"/>
                  </a:lnTo>
                  <a:lnTo>
                    <a:pt x="1057" y="24"/>
                  </a:lnTo>
                  <a:lnTo>
                    <a:pt x="1213" y="27"/>
                  </a:lnTo>
                  <a:lnTo>
                    <a:pt x="1369" y="30"/>
                  </a:lnTo>
                  <a:lnTo>
                    <a:pt x="1525" y="32"/>
                  </a:lnTo>
                  <a:lnTo>
                    <a:pt x="1681" y="35"/>
                  </a:lnTo>
                  <a:lnTo>
                    <a:pt x="1835" y="37"/>
                  </a:lnTo>
                  <a:lnTo>
                    <a:pt x="1989" y="38"/>
                  </a:lnTo>
                  <a:lnTo>
                    <a:pt x="2141" y="39"/>
                  </a:lnTo>
                  <a:lnTo>
                    <a:pt x="2290" y="41"/>
                  </a:lnTo>
                  <a:lnTo>
                    <a:pt x="2439" y="42"/>
                  </a:lnTo>
                  <a:lnTo>
                    <a:pt x="2582" y="4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Freeform 157"/>
            <p:cNvSpPr/>
            <p:nvPr/>
          </p:nvSpPr>
          <p:spPr>
            <a:xfrm>
              <a:off x="6465960" y="5314680"/>
              <a:ext cx="399960" cy="18396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502" h="1059">
                  <a:moveTo>
                    <a:pt x="0" y="1059"/>
                  </a:moveTo>
                  <a:lnTo>
                    <a:pt x="529" y="0"/>
                  </a:lnTo>
                  <a:lnTo>
                    <a:pt x="1871" y="37"/>
                  </a:lnTo>
                  <a:lnTo>
                    <a:pt x="2502" y="43"/>
                  </a:lnTo>
                  <a:lnTo>
                    <a:pt x="2235" y="1057"/>
                  </a:lnTo>
                  <a:lnTo>
                    <a:pt x="0" y="10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Freeform 158"/>
            <p:cNvSpPr/>
            <p:nvPr/>
          </p:nvSpPr>
          <p:spPr>
            <a:xfrm>
              <a:off x="6465960" y="5314680"/>
              <a:ext cx="399960" cy="18396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502" h="1059">
                  <a:moveTo>
                    <a:pt x="0" y="1059"/>
                  </a:moveTo>
                  <a:lnTo>
                    <a:pt x="529" y="0"/>
                  </a:lnTo>
                  <a:lnTo>
                    <a:pt x="1871" y="37"/>
                  </a:lnTo>
                  <a:lnTo>
                    <a:pt x="2502" y="43"/>
                  </a:lnTo>
                  <a:lnTo>
                    <a:pt x="2235" y="1057"/>
                  </a:lnTo>
                  <a:lnTo>
                    <a:pt x="0" y="10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Freeform 159"/>
            <p:cNvSpPr/>
            <p:nvPr/>
          </p:nvSpPr>
          <p:spPr>
            <a:xfrm>
              <a:off x="6467760" y="5540760"/>
              <a:ext cx="829440" cy="786960"/>
            </a:xfrm>
            <a:custGeom>
              <a:avLst/>
              <a:gdLst>
                <a:gd name="textAreaLeft" fmla="*/ 0 w 829440"/>
                <a:gd name="textAreaRight" fmla="*/ 829800 w 829440"/>
                <a:gd name="textAreaTop" fmla="*/ 0 h 786960"/>
                <a:gd name="textAreaBottom" fmla="*/ 787320 h 786960"/>
              </a:gdLst>
              <a:ahLst/>
              <a:rect l="textAreaLeft" t="textAreaTop" r="textAreaRight" b="textAreaBottom"/>
              <a:pathLst>
                <a:path w="5200" h="4545">
                  <a:moveTo>
                    <a:pt x="5200" y="2503"/>
                  </a:moveTo>
                  <a:lnTo>
                    <a:pt x="5184" y="1809"/>
                  </a:lnTo>
                  <a:lnTo>
                    <a:pt x="5164" y="1787"/>
                  </a:lnTo>
                  <a:lnTo>
                    <a:pt x="5146" y="1764"/>
                  </a:lnTo>
                  <a:lnTo>
                    <a:pt x="5136" y="1752"/>
                  </a:lnTo>
                  <a:lnTo>
                    <a:pt x="5128" y="1739"/>
                  </a:lnTo>
                  <a:lnTo>
                    <a:pt x="5120" y="1725"/>
                  </a:lnTo>
                  <a:lnTo>
                    <a:pt x="5112" y="1711"/>
                  </a:lnTo>
                  <a:lnTo>
                    <a:pt x="5103" y="1696"/>
                  </a:lnTo>
                  <a:lnTo>
                    <a:pt x="5096" y="1680"/>
                  </a:lnTo>
                  <a:lnTo>
                    <a:pt x="5089" y="1663"/>
                  </a:lnTo>
                  <a:lnTo>
                    <a:pt x="5082" y="1646"/>
                  </a:lnTo>
                  <a:lnTo>
                    <a:pt x="5071" y="1610"/>
                  </a:lnTo>
                  <a:lnTo>
                    <a:pt x="5059" y="1569"/>
                  </a:lnTo>
                  <a:lnTo>
                    <a:pt x="5050" y="1524"/>
                  </a:lnTo>
                  <a:lnTo>
                    <a:pt x="5040" y="1477"/>
                  </a:lnTo>
                  <a:lnTo>
                    <a:pt x="5033" y="1423"/>
                  </a:lnTo>
                  <a:lnTo>
                    <a:pt x="5028" y="1366"/>
                  </a:lnTo>
                  <a:lnTo>
                    <a:pt x="5023" y="1304"/>
                  </a:lnTo>
                  <a:lnTo>
                    <a:pt x="5019" y="1237"/>
                  </a:lnTo>
                  <a:lnTo>
                    <a:pt x="5017" y="1165"/>
                  </a:lnTo>
                  <a:lnTo>
                    <a:pt x="5017" y="1086"/>
                  </a:lnTo>
                  <a:lnTo>
                    <a:pt x="5004" y="1076"/>
                  </a:lnTo>
                  <a:lnTo>
                    <a:pt x="4988" y="1064"/>
                  </a:lnTo>
                  <a:lnTo>
                    <a:pt x="4969" y="1053"/>
                  </a:lnTo>
                  <a:lnTo>
                    <a:pt x="4947" y="1039"/>
                  </a:lnTo>
                  <a:lnTo>
                    <a:pt x="4922" y="1026"/>
                  </a:lnTo>
                  <a:lnTo>
                    <a:pt x="4896" y="1010"/>
                  </a:lnTo>
                  <a:lnTo>
                    <a:pt x="4866" y="996"/>
                  </a:lnTo>
                  <a:lnTo>
                    <a:pt x="4836" y="981"/>
                  </a:lnTo>
                  <a:lnTo>
                    <a:pt x="4769" y="951"/>
                  </a:lnTo>
                  <a:lnTo>
                    <a:pt x="4698" y="921"/>
                  </a:lnTo>
                  <a:lnTo>
                    <a:pt x="4623" y="891"/>
                  </a:lnTo>
                  <a:lnTo>
                    <a:pt x="4547" y="864"/>
                  </a:lnTo>
                  <a:lnTo>
                    <a:pt x="4509" y="852"/>
                  </a:lnTo>
                  <a:lnTo>
                    <a:pt x="4472" y="840"/>
                  </a:lnTo>
                  <a:lnTo>
                    <a:pt x="4434" y="828"/>
                  </a:lnTo>
                  <a:lnTo>
                    <a:pt x="4398" y="819"/>
                  </a:lnTo>
                  <a:lnTo>
                    <a:pt x="4363" y="810"/>
                  </a:lnTo>
                  <a:lnTo>
                    <a:pt x="4329" y="803"/>
                  </a:lnTo>
                  <a:lnTo>
                    <a:pt x="4296" y="797"/>
                  </a:lnTo>
                  <a:lnTo>
                    <a:pt x="4265" y="792"/>
                  </a:lnTo>
                  <a:lnTo>
                    <a:pt x="4236" y="789"/>
                  </a:lnTo>
                  <a:lnTo>
                    <a:pt x="4209" y="787"/>
                  </a:lnTo>
                  <a:lnTo>
                    <a:pt x="4184" y="787"/>
                  </a:lnTo>
                  <a:lnTo>
                    <a:pt x="4162" y="791"/>
                  </a:lnTo>
                  <a:lnTo>
                    <a:pt x="4142" y="794"/>
                  </a:lnTo>
                  <a:lnTo>
                    <a:pt x="4126" y="801"/>
                  </a:lnTo>
                  <a:lnTo>
                    <a:pt x="4113" y="810"/>
                  </a:lnTo>
                  <a:lnTo>
                    <a:pt x="4104" y="821"/>
                  </a:lnTo>
                  <a:lnTo>
                    <a:pt x="4080" y="856"/>
                  </a:lnTo>
                  <a:lnTo>
                    <a:pt x="4059" y="884"/>
                  </a:lnTo>
                  <a:lnTo>
                    <a:pt x="4049" y="896"/>
                  </a:lnTo>
                  <a:lnTo>
                    <a:pt x="4039" y="907"/>
                  </a:lnTo>
                  <a:lnTo>
                    <a:pt x="4031" y="916"/>
                  </a:lnTo>
                  <a:lnTo>
                    <a:pt x="4022" y="923"/>
                  </a:lnTo>
                  <a:lnTo>
                    <a:pt x="4014" y="930"/>
                  </a:lnTo>
                  <a:lnTo>
                    <a:pt x="4007" y="935"/>
                  </a:lnTo>
                  <a:lnTo>
                    <a:pt x="4000" y="939"/>
                  </a:lnTo>
                  <a:lnTo>
                    <a:pt x="3993" y="942"/>
                  </a:lnTo>
                  <a:lnTo>
                    <a:pt x="3986" y="944"/>
                  </a:lnTo>
                  <a:lnTo>
                    <a:pt x="3980" y="945"/>
                  </a:lnTo>
                  <a:lnTo>
                    <a:pt x="3974" y="945"/>
                  </a:lnTo>
                  <a:lnTo>
                    <a:pt x="3968" y="944"/>
                  </a:lnTo>
                  <a:lnTo>
                    <a:pt x="3963" y="943"/>
                  </a:lnTo>
                  <a:lnTo>
                    <a:pt x="3959" y="940"/>
                  </a:lnTo>
                  <a:lnTo>
                    <a:pt x="3954" y="937"/>
                  </a:lnTo>
                  <a:lnTo>
                    <a:pt x="3949" y="933"/>
                  </a:lnTo>
                  <a:lnTo>
                    <a:pt x="3942" y="925"/>
                  </a:lnTo>
                  <a:lnTo>
                    <a:pt x="3937" y="915"/>
                  </a:lnTo>
                  <a:lnTo>
                    <a:pt x="3931" y="903"/>
                  </a:lnTo>
                  <a:lnTo>
                    <a:pt x="3926" y="891"/>
                  </a:lnTo>
                  <a:lnTo>
                    <a:pt x="3922" y="880"/>
                  </a:lnTo>
                  <a:lnTo>
                    <a:pt x="3919" y="868"/>
                  </a:lnTo>
                  <a:lnTo>
                    <a:pt x="3917" y="862"/>
                  </a:lnTo>
                  <a:lnTo>
                    <a:pt x="3913" y="857"/>
                  </a:lnTo>
                  <a:lnTo>
                    <a:pt x="3907" y="854"/>
                  </a:lnTo>
                  <a:lnTo>
                    <a:pt x="3900" y="850"/>
                  </a:lnTo>
                  <a:lnTo>
                    <a:pt x="3893" y="848"/>
                  </a:lnTo>
                  <a:lnTo>
                    <a:pt x="3884" y="847"/>
                  </a:lnTo>
                  <a:lnTo>
                    <a:pt x="3873" y="846"/>
                  </a:lnTo>
                  <a:lnTo>
                    <a:pt x="3862" y="845"/>
                  </a:lnTo>
                  <a:lnTo>
                    <a:pt x="3837" y="845"/>
                  </a:lnTo>
                  <a:lnTo>
                    <a:pt x="3808" y="847"/>
                  </a:lnTo>
                  <a:lnTo>
                    <a:pt x="3778" y="850"/>
                  </a:lnTo>
                  <a:lnTo>
                    <a:pt x="3746" y="854"/>
                  </a:lnTo>
                  <a:lnTo>
                    <a:pt x="3680" y="863"/>
                  </a:lnTo>
                  <a:lnTo>
                    <a:pt x="3615" y="870"/>
                  </a:lnTo>
                  <a:lnTo>
                    <a:pt x="3586" y="873"/>
                  </a:lnTo>
                  <a:lnTo>
                    <a:pt x="3559" y="873"/>
                  </a:lnTo>
                  <a:lnTo>
                    <a:pt x="3546" y="873"/>
                  </a:lnTo>
                  <a:lnTo>
                    <a:pt x="3536" y="871"/>
                  </a:lnTo>
                  <a:lnTo>
                    <a:pt x="3525" y="870"/>
                  </a:lnTo>
                  <a:lnTo>
                    <a:pt x="3516" y="868"/>
                  </a:lnTo>
                  <a:lnTo>
                    <a:pt x="3500" y="861"/>
                  </a:lnTo>
                  <a:lnTo>
                    <a:pt x="3483" y="853"/>
                  </a:lnTo>
                  <a:lnTo>
                    <a:pt x="3467" y="845"/>
                  </a:lnTo>
                  <a:lnTo>
                    <a:pt x="3453" y="835"/>
                  </a:lnTo>
                  <a:lnTo>
                    <a:pt x="3439" y="825"/>
                  </a:lnTo>
                  <a:lnTo>
                    <a:pt x="3426" y="814"/>
                  </a:lnTo>
                  <a:lnTo>
                    <a:pt x="3414" y="804"/>
                  </a:lnTo>
                  <a:lnTo>
                    <a:pt x="3404" y="793"/>
                  </a:lnTo>
                  <a:lnTo>
                    <a:pt x="3372" y="758"/>
                  </a:lnTo>
                  <a:lnTo>
                    <a:pt x="3361" y="743"/>
                  </a:lnTo>
                  <a:lnTo>
                    <a:pt x="3356" y="748"/>
                  </a:lnTo>
                  <a:lnTo>
                    <a:pt x="3344" y="759"/>
                  </a:lnTo>
                  <a:lnTo>
                    <a:pt x="3335" y="766"/>
                  </a:lnTo>
                  <a:lnTo>
                    <a:pt x="3324" y="775"/>
                  </a:lnTo>
                  <a:lnTo>
                    <a:pt x="3313" y="783"/>
                  </a:lnTo>
                  <a:lnTo>
                    <a:pt x="3299" y="791"/>
                  </a:lnTo>
                  <a:lnTo>
                    <a:pt x="3284" y="799"/>
                  </a:lnTo>
                  <a:lnTo>
                    <a:pt x="3267" y="805"/>
                  </a:lnTo>
                  <a:lnTo>
                    <a:pt x="3250" y="811"/>
                  </a:lnTo>
                  <a:lnTo>
                    <a:pt x="3231" y="814"/>
                  </a:lnTo>
                  <a:lnTo>
                    <a:pt x="3220" y="815"/>
                  </a:lnTo>
                  <a:lnTo>
                    <a:pt x="3210" y="815"/>
                  </a:lnTo>
                  <a:lnTo>
                    <a:pt x="3201" y="815"/>
                  </a:lnTo>
                  <a:lnTo>
                    <a:pt x="3189" y="814"/>
                  </a:lnTo>
                  <a:lnTo>
                    <a:pt x="3178" y="813"/>
                  </a:lnTo>
                  <a:lnTo>
                    <a:pt x="3168" y="811"/>
                  </a:lnTo>
                  <a:lnTo>
                    <a:pt x="3156" y="808"/>
                  </a:lnTo>
                  <a:lnTo>
                    <a:pt x="3145" y="804"/>
                  </a:lnTo>
                  <a:lnTo>
                    <a:pt x="3122" y="794"/>
                  </a:lnTo>
                  <a:lnTo>
                    <a:pt x="3100" y="784"/>
                  </a:lnTo>
                  <a:lnTo>
                    <a:pt x="3079" y="771"/>
                  </a:lnTo>
                  <a:lnTo>
                    <a:pt x="3058" y="758"/>
                  </a:lnTo>
                  <a:lnTo>
                    <a:pt x="3016" y="730"/>
                  </a:lnTo>
                  <a:lnTo>
                    <a:pt x="2972" y="702"/>
                  </a:lnTo>
                  <a:lnTo>
                    <a:pt x="2947" y="688"/>
                  </a:lnTo>
                  <a:lnTo>
                    <a:pt x="2923" y="675"/>
                  </a:lnTo>
                  <a:lnTo>
                    <a:pt x="2896" y="665"/>
                  </a:lnTo>
                  <a:lnTo>
                    <a:pt x="2867" y="654"/>
                  </a:lnTo>
                  <a:lnTo>
                    <a:pt x="2851" y="650"/>
                  </a:lnTo>
                  <a:lnTo>
                    <a:pt x="2836" y="646"/>
                  </a:lnTo>
                  <a:lnTo>
                    <a:pt x="2820" y="643"/>
                  </a:lnTo>
                  <a:lnTo>
                    <a:pt x="2802" y="639"/>
                  </a:lnTo>
                  <a:lnTo>
                    <a:pt x="2785" y="637"/>
                  </a:lnTo>
                  <a:lnTo>
                    <a:pt x="2766" y="636"/>
                  </a:lnTo>
                  <a:lnTo>
                    <a:pt x="2747" y="634"/>
                  </a:lnTo>
                  <a:lnTo>
                    <a:pt x="2726" y="634"/>
                  </a:lnTo>
                  <a:lnTo>
                    <a:pt x="2759" y="47"/>
                  </a:lnTo>
                  <a:lnTo>
                    <a:pt x="1857" y="0"/>
                  </a:lnTo>
                  <a:lnTo>
                    <a:pt x="1399" y="1533"/>
                  </a:lnTo>
                  <a:lnTo>
                    <a:pt x="8" y="1501"/>
                  </a:lnTo>
                  <a:lnTo>
                    <a:pt x="0" y="1668"/>
                  </a:lnTo>
                  <a:lnTo>
                    <a:pt x="503" y="2350"/>
                  </a:lnTo>
                  <a:lnTo>
                    <a:pt x="472" y="2566"/>
                  </a:lnTo>
                  <a:lnTo>
                    <a:pt x="904" y="3030"/>
                  </a:lnTo>
                  <a:lnTo>
                    <a:pt x="1091" y="2938"/>
                  </a:lnTo>
                  <a:lnTo>
                    <a:pt x="1307" y="2598"/>
                  </a:lnTo>
                  <a:lnTo>
                    <a:pt x="1318" y="2597"/>
                  </a:lnTo>
                  <a:lnTo>
                    <a:pt x="1348" y="2593"/>
                  </a:lnTo>
                  <a:lnTo>
                    <a:pt x="1392" y="2589"/>
                  </a:lnTo>
                  <a:lnTo>
                    <a:pt x="1446" y="2583"/>
                  </a:lnTo>
                  <a:lnTo>
                    <a:pt x="1507" y="2577"/>
                  </a:lnTo>
                  <a:lnTo>
                    <a:pt x="1569" y="2572"/>
                  </a:lnTo>
                  <a:lnTo>
                    <a:pt x="1627" y="2568"/>
                  </a:lnTo>
                  <a:lnTo>
                    <a:pt x="1679" y="2566"/>
                  </a:lnTo>
                  <a:lnTo>
                    <a:pt x="1725" y="2568"/>
                  </a:lnTo>
                  <a:lnTo>
                    <a:pt x="1773" y="2570"/>
                  </a:lnTo>
                  <a:lnTo>
                    <a:pt x="1798" y="2572"/>
                  </a:lnTo>
                  <a:lnTo>
                    <a:pt x="1821" y="2577"/>
                  </a:lnTo>
                  <a:lnTo>
                    <a:pt x="1844" y="2582"/>
                  </a:lnTo>
                  <a:lnTo>
                    <a:pt x="1867" y="2590"/>
                  </a:lnTo>
                  <a:lnTo>
                    <a:pt x="1877" y="2594"/>
                  </a:lnTo>
                  <a:lnTo>
                    <a:pt x="1888" y="2599"/>
                  </a:lnTo>
                  <a:lnTo>
                    <a:pt x="1897" y="2605"/>
                  </a:lnTo>
                  <a:lnTo>
                    <a:pt x="1907" y="2612"/>
                  </a:lnTo>
                  <a:lnTo>
                    <a:pt x="1917" y="2619"/>
                  </a:lnTo>
                  <a:lnTo>
                    <a:pt x="1925" y="2627"/>
                  </a:lnTo>
                  <a:lnTo>
                    <a:pt x="1934" y="2635"/>
                  </a:lnTo>
                  <a:lnTo>
                    <a:pt x="1943" y="2645"/>
                  </a:lnTo>
                  <a:lnTo>
                    <a:pt x="1950" y="2655"/>
                  </a:lnTo>
                  <a:lnTo>
                    <a:pt x="1957" y="2666"/>
                  </a:lnTo>
                  <a:lnTo>
                    <a:pt x="1964" y="2677"/>
                  </a:lnTo>
                  <a:lnTo>
                    <a:pt x="1969" y="2690"/>
                  </a:lnTo>
                  <a:lnTo>
                    <a:pt x="1974" y="2704"/>
                  </a:lnTo>
                  <a:lnTo>
                    <a:pt x="1980" y="2718"/>
                  </a:lnTo>
                  <a:lnTo>
                    <a:pt x="1983" y="2735"/>
                  </a:lnTo>
                  <a:lnTo>
                    <a:pt x="1987" y="2751"/>
                  </a:lnTo>
                  <a:lnTo>
                    <a:pt x="1993" y="2788"/>
                  </a:lnTo>
                  <a:lnTo>
                    <a:pt x="1997" y="2830"/>
                  </a:lnTo>
                  <a:lnTo>
                    <a:pt x="2004" y="2876"/>
                  </a:lnTo>
                  <a:lnTo>
                    <a:pt x="2011" y="2926"/>
                  </a:lnTo>
                  <a:lnTo>
                    <a:pt x="2021" y="2977"/>
                  </a:lnTo>
                  <a:lnTo>
                    <a:pt x="2034" y="3032"/>
                  </a:lnTo>
                  <a:lnTo>
                    <a:pt x="2041" y="3060"/>
                  </a:lnTo>
                  <a:lnTo>
                    <a:pt x="2049" y="3088"/>
                  </a:lnTo>
                  <a:lnTo>
                    <a:pt x="2058" y="3116"/>
                  </a:lnTo>
                  <a:lnTo>
                    <a:pt x="2069" y="3146"/>
                  </a:lnTo>
                  <a:lnTo>
                    <a:pt x="2080" y="3175"/>
                  </a:lnTo>
                  <a:lnTo>
                    <a:pt x="2092" y="3204"/>
                  </a:lnTo>
                  <a:lnTo>
                    <a:pt x="2107" y="3233"/>
                  </a:lnTo>
                  <a:lnTo>
                    <a:pt x="2122" y="3263"/>
                  </a:lnTo>
                  <a:lnTo>
                    <a:pt x="2139" y="3292"/>
                  </a:lnTo>
                  <a:lnTo>
                    <a:pt x="2157" y="3321"/>
                  </a:lnTo>
                  <a:lnTo>
                    <a:pt x="2178" y="3349"/>
                  </a:lnTo>
                  <a:lnTo>
                    <a:pt x="2201" y="3377"/>
                  </a:lnTo>
                  <a:lnTo>
                    <a:pt x="2224" y="3405"/>
                  </a:lnTo>
                  <a:lnTo>
                    <a:pt x="2250" y="3433"/>
                  </a:lnTo>
                  <a:lnTo>
                    <a:pt x="2278" y="3460"/>
                  </a:lnTo>
                  <a:lnTo>
                    <a:pt x="2308" y="3487"/>
                  </a:lnTo>
                  <a:lnTo>
                    <a:pt x="2340" y="3512"/>
                  </a:lnTo>
                  <a:lnTo>
                    <a:pt x="2375" y="3538"/>
                  </a:lnTo>
                  <a:lnTo>
                    <a:pt x="2411" y="3563"/>
                  </a:lnTo>
                  <a:lnTo>
                    <a:pt x="2451" y="3586"/>
                  </a:lnTo>
                  <a:lnTo>
                    <a:pt x="2606" y="4050"/>
                  </a:lnTo>
                  <a:lnTo>
                    <a:pt x="3099" y="4545"/>
                  </a:lnTo>
                  <a:lnTo>
                    <a:pt x="3563" y="4545"/>
                  </a:lnTo>
                  <a:lnTo>
                    <a:pt x="3562" y="4528"/>
                  </a:lnTo>
                  <a:lnTo>
                    <a:pt x="3562" y="4478"/>
                  </a:lnTo>
                  <a:lnTo>
                    <a:pt x="3560" y="4406"/>
                  </a:lnTo>
                  <a:lnTo>
                    <a:pt x="3558" y="4316"/>
                  </a:lnTo>
                  <a:lnTo>
                    <a:pt x="3555" y="4217"/>
                  </a:lnTo>
                  <a:lnTo>
                    <a:pt x="3549" y="4114"/>
                  </a:lnTo>
                  <a:lnTo>
                    <a:pt x="3545" y="4064"/>
                  </a:lnTo>
                  <a:lnTo>
                    <a:pt x="3541" y="4015"/>
                  </a:lnTo>
                  <a:lnTo>
                    <a:pt x="3536" y="3969"/>
                  </a:lnTo>
                  <a:lnTo>
                    <a:pt x="3530" y="3926"/>
                  </a:lnTo>
                  <a:lnTo>
                    <a:pt x="3529" y="3905"/>
                  </a:lnTo>
                  <a:lnTo>
                    <a:pt x="3530" y="3883"/>
                  </a:lnTo>
                  <a:lnTo>
                    <a:pt x="3534" y="3861"/>
                  </a:lnTo>
                  <a:lnTo>
                    <a:pt x="3538" y="3836"/>
                  </a:lnTo>
                  <a:lnTo>
                    <a:pt x="3546" y="3811"/>
                  </a:lnTo>
                  <a:lnTo>
                    <a:pt x="3555" y="3786"/>
                  </a:lnTo>
                  <a:lnTo>
                    <a:pt x="3566" y="3759"/>
                  </a:lnTo>
                  <a:lnTo>
                    <a:pt x="3579" y="3732"/>
                  </a:lnTo>
                  <a:lnTo>
                    <a:pt x="3593" y="3705"/>
                  </a:lnTo>
                  <a:lnTo>
                    <a:pt x="3608" y="3677"/>
                  </a:lnTo>
                  <a:lnTo>
                    <a:pt x="3626" y="3649"/>
                  </a:lnTo>
                  <a:lnTo>
                    <a:pt x="3643" y="3621"/>
                  </a:lnTo>
                  <a:lnTo>
                    <a:pt x="3663" y="3593"/>
                  </a:lnTo>
                  <a:lnTo>
                    <a:pt x="3683" y="3565"/>
                  </a:lnTo>
                  <a:lnTo>
                    <a:pt x="3703" y="3537"/>
                  </a:lnTo>
                  <a:lnTo>
                    <a:pt x="3725" y="3509"/>
                  </a:lnTo>
                  <a:lnTo>
                    <a:pt x="3747" y="3482"/>
                  </a:lnTo>
                  <a:lnTo>
                    <a:pt x="3769" y="3455"/>
                  </a:lnTo>
                  <a:lnTo>
                    <a:pt x="3792" y="3430"/>
                  </a:lnTo>
                  <a:lnTo>
                    <a:pt x="3815" y="3404"/>
                  </a:lnTo>
                  <a:lnTo>
                    <a:pt x="3861" y="3355"/>
                  </a:lnTo>
                  <a:lnTo>
                    <a:pt x="3905" y="3310"/>
                  </a:lnTo>
                  <a:lnTo>
                    <a:pt x="3948" y="3270"/>
                  </a:lnTo>
                  <a:lnTo>
                    <a:pt x="3989" y="3236"/>
                  </a:lnTo>
                  <a:lnTo>
                    <a:pt x="4008" y="3220"/>
                  </a:lnTo>
                  <a:lnTo>
                    <a:pt x="4025" y="3206"/>
                  </a:lnTo>
                  <a:lnTo>
                    <a:pt x="4043" y="3196"/>
                  </a:lnTo>
                  <a:lnTo>
                    <a:pt x="4058" y="3185"/>
                  </a:lnTo>
                  <a:lnTo>
                    <a:pt x="4092" y="3167"/>
                  </a:lnTo>
                  <a:lnTo>
                    <a:pt x="4137" y="3145"/>
                  </a:lnTo>
                  <a:lnTo>
                    <a:pt x="4190" y="3119"/>
                  </a:lnTo>
                  <a:lnTo>
                    <a:pt x="4250" y="3092"/>
                  </a:lnTo>
                  <a:lnTo>
                    <a:pt x="4313" y="3063"/>
                  </a:lnTo>
                  <a:lnTo>
                    <a:pt x="4379" y="3034"/>
                  </a:lnTo>
                  <a:lnTo>
                    <a:pt x="4446" y="3002"/>
                  </a:lnTo>
                  <a:lnTo>
                    <a:pt x="4511" y="2970"/>
                  </a:lnTo>
                  <a:lnTo>
                    <a:pt x="4574" y="2939"/>
                  </a:lnTo>
                  <a:lnTo>
                    <a:pt x="4632" y="2907"/>
                  </a:lnTo>
                  <a:lnTo>
                    <a:pt x="4658" y="2892"/>
                  </a:lnTo>
                  <a:lnTo>
                    <a:pt x="4683" y="2877"/>
                  </a:lnTo>
                  <a:lnTo>
                    <a:pt x="4705" y="2863"/>
                  </a:lnTo>
                  <a:lnTo>
                    <a:pt x="4725" y="2848"/>
                  </a:lnTo>
                  <a:lnTo>
                    <a:pt x="4741" y="2834"/>
                  </a:lnTo>
                  <a:lnTo>
                    <a:pt x="4757" y="2821"/>
                  </a:lnTo>
                  <a:lnTo>
                    <a:pt x="4767" y="2807"/>
                  </a:lnTo>
                  <a:lnTo>
                    <a:pt x="4775" y="2795"/>
                  </a:lnTo>
                  <a:lnTo>
                    <a:pt x="4780" y="2782"/>
                  </a:lnTo>
                  <a:lnTo>
                    <a:pt x="4780" y="2772"/>
                  </a:lnTo>
                  <a:lnTo>
                    <a:pt x="4776" y="2761"/>
                  </a:lnTo>
                  <a:lnTo>
                    <a:pt x="4769" y="2751"/>
                  </a:lnTo>
                  <a:lnTo>
                    <a:pt x="4741" y="2725"/>
                  </a:lnTo>
                  <a:lnTo>
                    <a:pt x="4718" y="2699"/>
                  </a:lnTo>
                  <a:lnTo>
                    <a:pt x="4698" y="2676"/>
                  </a:lnTo>
                  <a:lnTo>
                    <a:pt x="4682" y="2654"/>
                  </a:lnTo>
                  <a:lnTo>
                    <a:pt x="4669" y="2633"/>
                  </a:lnTo>
                  <a:lnTo>
                    <a:pt x="4658" y="2613"/>
                  </a:lnTo>
                  <a:lnTo>
                    <a:pt x="4651" y="2594"/>
                  </a:lnTo>
                  <a:lnTo>
                    <a:pt x="4647" y="2578"/>
                  </a:lnTo>
                  <a:lnTo>
                    <a:pt x="4644" y="2562"/>
                  </a:lnTo>
                  <a:lnTo>
                    <a:pt x="4644" y="2548"/>
                  </a:lnTo>
                  <a:lnTo>
                    <a:pt x="4648" y="2536"/>
                  </a:lnTo>
                  <a:lnTo>
                    <a:pt x="4653" y="2524"/>
                  </a:lnTo>
                  <a:lnTo>
                    <a:pt x="4660" y="2515"/>
                  </a:lnTo>
                  <a:lnTo>
                    <a:pt x="4669" y="2508"/>
                  </a:lnTo>
                  <a:lnTo>
                    <a:pt x="4679" y="2501"/>
                  </a:lnTo>
                  <a:lnTo>
                    <a:pt x="4691" y="2497"/>
                  </a:lnTo>
                  <a:lnTo>
                    <a:pt x="4705" y="2495"/>
                  </a:lnTo>
                  <a:lnTo>
                    <a:pt x="4720" y="2494"/>
                  </a:lnTo>
                  <a:lnTo>
                    <a:pt x="4736" y="2495"/>
                  </a:lnTo>
                  <a:lnTo>
                    <a:pt x="4753" y="2497"/>
                  </a:lnTo>
                  <a:lnTo>
                    <a:pt x="4771" y="2502"/>
                  </a:lnTo>
                  <a:lnTo>
                    <a:pt x="4789" y="2509"/>
                  </a:lnTo>
                  <a:lnTo>
                    <a:pt x="4809" y="2518"/>
                  </a:lnTo>
                  <a:lnTo>
                    <a:pt x="4829" y="2529"/>
                  </a:lnTo>
                  <a:lnTo>
                    <a:pt x="4849" y="2542"/>
                  </a:lnTo>
                  <a:lnTo>
                    <a:pt x="4869" y="2556"/>
                  </a:lnTo>
                  <a:lnTo>
                    <a:pt x="4890" y="2573"/>
                  </a:lnTo>
                  <a:lnTo>
                    <a:pt x="4910" y="2592"/>
                  </a:lnTo>
                  <a:lnTo>
                    <a:pt x="4929" y="2613"/>
                  </a:lnTo>
                  <a:lnTo>
                    <a:pt x="4948" y="2636"/>
                  </a:lnTo>
                  <a:lnTo>
                    <a:pt x="4967" y="2662"/>
                  </a:lnTo>
                  <a:lnTo>
                    <a:pt x="4985" y="2690"/>
                  </a:lnTo>
                  <a:lnTo>
                    <a:pt x="5200" y="25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Freeform 160"/>
            <p:cNvSpPr/>
            <p:nvPr/>
          </p:nvSpPr>
          <p:spPr>
            <a:xfrm>
              <a:off x="6467760" y="5540760"/>
              <a:ext cx="829440" cy="786960"/>
            </a:xfrm>
            <a:custGeom>
              <a:avLst/>
              <a:gdLst>
                <a:gd name="textAreaLeft" fmla="*/ 0 w 829440"/>
                <a:gd name="textAreaRight" fmla="*/ 829800 w 829440"/>
                <a:gd name="textAreaTop" fmla="*/ 0 h 786960"/>
                <a:gd name="textAreaBottom" fmla="*/ 787320 h 786960"/>
              </a:gdLst>
              <a:ahLst/>
              <a:rect l="textAreaLeft" t="textAreaTop" r="textAreaRight" b="textAreaBottom"/>
              <a:pathLst>
                <a:path w="5200" h="4545">
                  <a:moveTo>
                    <a:pt x="5200" y="2503"/>
                  </a:moveTo>
                  <a:lnTo>
                    <a:pt x="5184" y="1809"/>
                  </a:lnTo>
                  <a:lnTo>
                    <a:pt x="5164" y="1787"/>
                  </a:lnTo>
                  <a:lnTo>
                    <a:pt x="5146" y="1764"/>
                  </a:lnTo>
                  <a:lnTo>
                    <a:pt x="5136" y="1752"/>
                  </a:lnTo>
                  <a:lnTo>
                    <a:pt x="5128" y="1739"/>
                  </a:lnTo>
                  <a:lnTo>
                    <a:pt x="5120" y="1725"/>
                  </a:lnTo>
                  <a:lnTo>
                    <a:pt x="5112" y="1711"/>
                  </a:lnTo>
                  <a:lnTo>
                    <a:pt x="5103" y="1696"/>
                  </a:lnTo>
                  <a:lnTo>
                    <a:pt x="5096" y="1680"/>
                  </a:lnTo>
                  <a:lnTo>
                    <a:pt x="5089" y="1663"/>
                  </a:lnTo>
                  <a:lnTo>
                    <a:pt x="5082" y="1646"/>
                  </a:lnTo>
                  <a:lnTo>
                    <a:pt x="5071" y="1610"/>
                  </a:lnTo>
                  <a:lnTo>
                    <a:pt x="5059" y="1569"/>
                  </a:lnTo>
                  <a:lnTo>
                    <a:pt x="5050" y="1524"/>
                  </a:lnTo>
                  <a:lnTo>
                    <a:pt x="5040" y="1477"/>
                  </a:lnTo>
                  <a:lnTo>
                    <a:pt x="5033" y="1423"/>
                  </a:lnTo>
                  <a:lnTo>
                    <a:pt x="5028" y="1366"/>
                  </a:lnTo>
                  <a:lnTo>
                    <a:pt x="5023" y="1304"/>
                  </a:lnTo>
                  <a:lnTo>
                    <a:pt x="5019" y="1237"/>
                  </a:lnTo>
                  <a:lnTo>
                    <a:pt x="5017" y="1165"/>
                  </a:lnTo>
                  <a:lnTo>
                    <a:pt x="5017" y="1086"/>
                  </a:lnTo>
                  <a:lnTo>
                    <a:pt x="5004" y="1076"/>
                  </a:lnTo>
                  <a:lnTo>
                    <a:pt x="4988" y="1064"/>
                  </a:lnTo>
                  <a:lnTo>
                    <a:pt x="4969" y="1053"/>
                  </a:lnTo>
                  <a:lnTo>
                    <a:pt x="4947" y="1039"/>
                  </a:lnTo>
                  <a:lnTo>
                    <a:pt x="4922" y="1026"/>
                  </a:lnTo>
                  <a:lnTo>
                    <a:pt x="4896" y="1010"/>
                  </a:lnTo>
                  <a:lnTo>
                    <a:pt x="4866" y="996"/>
                  </a:lnTo>
                  <a:lnTo>
                    <a:pt x="4836" y="981"/>
                  </a:lnTo>
                  <a:lnTo>
                    <a:pt x="4769" y="951"/>
                  </a:lnTo>
                  <a:lnTo>
                    <a:pt x="4698" y="921"/>
                  </a:lnTo>
                  <a:lnTo>
                    <a:pt x="4623" y="891"/>
                  </a:lnTo>
                  <a:lnTo>
                    <a:pt x="4547" y="864"/>
                  </a:lnTo>
                  <a:lnTo>
                    <a:pt x="4509" y="852"/>
                  </a:lnTo>
                  <a:lnTo>
                    <a:pt x="4472" y="840"/>
                  </a:lnTo>
                  <a:lnTo>
                    <a:pt x="4434" y="828"/>
                  </a:lnTo>
                  <a:lnTo>
                    <a:pt x="4398" y="819"/>
                  </a:lnTo>
                  <a:lnTo>
                    <a:pt x="4363" y="810"/>
                  </a:lnTo>
                  <a:lnTo>
                    <a:pt x="4329" y="803"/>
                  </a:lnTo>
                  <a:lnTo>
                    <a:pt x="4296" y="797"/>
                  </a:lnTo>
                  <a:lnTo>
                    <a:pt x="4265" y="792"/>
                  </a:lnTo>
                  <a:lnTo>
                    <a:pt x="4236" y="789"/>
                  </a:lnTo>
                  <a:lnTo>
                    <a:pt x="4209" y="787"/>
                  </a:lnTo>
                  <a:lnTo>
                    <a:pt x="4184" y="787"/>
                  </a:lnTo>
                  <a:lnTo>
                    <a:pt x="4162" y="791"/>
                  </a:lnTo>
                  <a:lnTo>
                    <a:pt x="4142" y="794"/>
                  </a:lnTo>
                  <a:lnTo>
                    <a:pt x="4126" y="801"/>
                  </a:lnTo>
                  <a:lnTo>
                    <a:pt x="4113" y="810"/>
                  </a:lnTo>
                  <a:lnTo>
                    <a:pt x="4104" y="821"/>
                  </a:lnTo>
                  <a:lnTo>
                    <a:pt x="4080" y="856"/>
                  </a:lnTo>
                  <a:lnTo>
                    <a:pt x="4059" y="884"/>
                  </a:lnTo>
                  <a:lnTo>
                    <a:pt x="4049" y="896"/>
                  </a:lnTo>
                  <a:lnTo>
                    <a:pt x="4039" y="907"/>
                  </a:lnTo>
                  <a:lnTo>
                    <a:pt x="4031" y="916"/>
                  </a:lnTo>
                  <a:lnTo>
                    <a:pt x="4022" y="923"/>
                  </a:lnTo>
                  <a:lnTo>
                    <a:pt x="4014" y="930"/>
                  </a:lnTo>
                  <a:lnTo>
                    <a:pt x="4007" y="935"/>
                  </a:lnTo>
                  <a:lnTo>
                    <a:pt x="4000" y="939"/>
                  </a:lnTo>
                  <a:lnTo>
                    <a:pt x="3993" y="942"/>
                  </a:lnTo>
                  <a:lnTo>
                    <a:pt x="3986" y="944"/>
                  </a:lnTo>
                  <a:lnTo>
                    <a:pt x="3980" y="945"/>
                  </a:lnTo>
                  <a:lnTo>
                    <a:pt x="3974" y="945"/>
                  </a:lnTo>
                  <a:lnTo>
                    <a:pt x="3968" y="944"/>
                  </a:lnTo>
                  <a:lnTo>
                    <a:pt x="3963" y="943"/>
                  </a:lnTo>
                  <a:lnTo>
                    <a:pt x="3959" y="940"/>
                  </a:lnTo>
                  <a:lnTo>
                    <a:pt x="3954" y="937"/>
                  </a:lnTo>
                  <a:lnTo>
                    <a:pt x="3949" y="933"/>
                  </a:lnTo>
                  <a:lnTo>
                    <a:pt x="3942" y="925"/>
                  </a:lnTo>
                  <a:lnTo>
                    <a:pt x="3937" y="915"/>
                  </a:lnTo>
                  <a:lnTo>
                    <a:pt x="3931" y="903"/>
                  </a:lnTo>
                  <a:lnTo>
                    <a:pt x="3926" y="891"/>
                  </a:lnTo>
                  <a:lnTo>
                    <a:pt x="3922" y="880"/>
                  </a:lnTo>
                  <a:lnTo>
                    <a:pt x="3919" y="868"/>
                  </a:lnTo>
                  <a:lnTo>
                    <a:pt x="3917" y="862"/>
                  </a:lnTo>
                  <a:lnTo>
                    <a:pt x="3913" y="857"/>
                  </a:lnTo>
                  <a:lnTo>
                    <a:pt x="3907" y="854"/>
                  </a:lnTo>
                  <a:lnTo>
                    <a:pt x="3900" y="850"/>
                  </a:lnTo>
                  <a:lnTo>
                    <a:pt x="3893" y="848"/>
                  </a:lnTo>
                  <a:lnTo>
                    <a:pt x="3884" y="847"/>
                  </a:lnTo>
                  <a:lnTo>
                    <a:pt x="3873" y="846"/>
                  </a:lnTo>
                  <a:lnTo>
                    <a:pt x="3862" y="845"/>
                  </a:lnTo>
                  <a:lnTo>
                    <a:pt x="3837" y="845"/>
                  </a:lnTo>
                  <a:lnTo>
                    <a:pt x="3808" y="847"/>
                  </a:lnTo>
                  <a:lnTo>
                    <a:pt x="3778" y="850"/>
                  </a:lnTo>
                  <a:lnTo>
                    <a:pt x="3746" y="854"/>
                  </a:lnTo>
                  <a:lnTo>
                    <a:pt x="3680" y="863"/>
                  </a:lnTo>
                  <a:lnTo>
                    <a:pt x="3615" y="870"/>
                  </a:lnTo>
                  <a:lnTo>
                    <a:pt x="3586" y="873"/>
                  </a:lnTo>
                  <a:lnTo>
                    <a:pt x="3559" y="873"/>
                  </a:lnTo>
                  <a:lnTo>
                    <a:pt x="3546" y="873"/>
                  </a:lnTo>
                  <a:lnTo>
                    <a:pt x="3536" y="871"/>
                  </a:lnTo>
                  <a:lnTo>
                    <a:pt x="3525" y="870"/>
                  </a:lnTo>
                  <a:lnTo>
                    <a:pt x="3516" y="868"/>
                  </a:lnTo>
                  <a:lnTo>
                    <a:pt x="3500" y="861"/>
                  </a:lnTo>
                  <a:lnTo>
                    <a:pt x="3483" y="853"/>
                  </a:lnTo>
                  <a:lnTo>
                    <a:pt x="3467" y="845"/>
                  </a:lnTo>
                  <a:lnTo>
                    <a:pt x="3453" y="835"/>
                  </a:lnTo>
                  <a:lnTo>
                    <a:pt x="3439" y="825"/>
                  </a:lnTo>
                  <a:lnTo>
                    <a:pt x="3426" y="814"/>
                  </a:lnTo>
                  <a:lnTo>
                    <a:pt x="3414" y="804"/>
                  </a:lnTo>
                  <a:lnTo>
                    <a:pt x="3404" y="793"/>
                  </a:lnTo>
                  <a:lnTo>
                    <a:pt x="3372" y="758"/>
                  </a:lnTo>
                  <a:lnTo>
                    <a:pt x="3361" y="743"/>
                  </a:lnTo>
                  <a:lnTo>
                    <a:pt x="3356" y="748"/>
                  </a:lnTo>
                  <a:lnTo>
                    <a:pt x="3344" y="759"/>
                  </a:lnTo>
                  <a:lnTo>
                    <a:pt x="3335" y="766"/>
                  </a:lnTo>
                  <a:lnTo>
                    <a:pt x="3324" y="775"/>
                  </a:lnTo>
                  <a:lnTo>
                    <a:pt x="3313" y="783"/>
                  </a:lnTo>
                  <a:lnTo>
                    <a:pt x="3299" y="791"/>
                  </a:lnTo>
                  <a:lnTo>
                    <a:pt x="3284" y="799"/>
                  </a:lnTo>
                  <a:lnTo>
                    <a:pt x="3267" y="805"/>
                  </a:lnTo>
                  <a:lnTo>
                    <a:pt x="3250" y="811"/>
                  </a:lnTo>
                  <a:lnTo>
                    <a:pt x="3231" y="814"/>
                  </a:lnTo>
                  <a:lnTo>
                    <a:pt x="3220" y="815"/>
                  </a:lnTo>
                  <a:lnTo>
                    <a:pt x="3210" y="815"/>
                  </a:lnTo>
                  <a:lnTo>
                    <a:pt x="3201" y="815"/>
                  </a:lnTo>
                  <a:lnTo>
                    <a:pt x="3189" y="814"/>
                  </a:lnTo>
                  <a:lnTo>
                    <a:pt x="3178" y="813"/>
                  </a:lnTo>
                  <a:lnTo>
                    <a:pt x="3168" y="811"/>
                  </a:lnTo>
                  <a:lnTo>
                    <a:pt x="3156" y="808"/>
                  </a:lnTo>
                  <a:lnTo>
                    <a:pt x="3145" y="804"/>
                  </a:lnTo>
                  <a:lnTo>
                    <a:pt x="3122" y="794"/>
                  </a:lnTo>
                  <a:lnTo>
                    <a:pt x="3100" y="784"/>
                  </a:lnTo>
                  <a:lnTo>
                    <a:pt x="3079" y="771"/>
                  </a:lnTo>
                  <a:lnTo>
                    <a:pt x="3058" y="758"/>
                  </a:lnTo>
                  <a:lnTo>
                    <a:pt x="3016" y="730"/>
                  </a:lnTo>
                  <a:lnTo>
                    <a:pt x="2972" y="702"/>
                  </a:lnTo>
                  <a:lnTo>
                    <a:pt x="2947" y="688"/>
                  </a:lnTo>
                  <a:lnTo>
                    <a:pt x="2923" y="675"/>
                  </a:lnTo>
                  <a:lnTo>
                    <a:pt x="2896" y="665"/>
                  </a:lnTo>
                  <a:lnTo>
                    <a:pt x="2867" y="654"/>
                  </a:lnTo>
                  <a:lnTo>
                    <a:pt x="2851" y="650"/>
                  </a:lnTo>
                  <a:lnTo>
                    <a:pt x="2836" y="646"/>
                  </a:lnTo>
                  <a:lnTo>
                    <a:pt x="2820" y="643"/>
                  </a:lnTo>
                  <a:lnTo>
                    <a:pt x="2802" y="639"/>
                  </a:lnTo>
                  <a:lnTo>
                    <a:pt x="2785" y="637"/>
                  </a:lnTo>
                  <a:lnTo>
                    <a:pt x="2766" y="636"/>
                  </a:lnTo>
                  <a:lnTo>
                    <a:pt x="2747" y="634"/>
                  </a:lnTo>
                  <a:lnTo>
                    <a:pt x="2726" y="634"/>
                  </a:lnTo>
                  <a:lnTo>
                    <a:pt x="2759" y="47"/>
                  </a:lnTo>
                  <a:lnTo>
                    <a:pt x="1857" y="0"/>
                  </a:lnTo>
                  <a:lnTo>
                    <a:pt x="1399" y="1533"/>
                  </a:lnTo>
                  <a:lnTo>
                    <a:pt x="8" y="1501"/>
                  </a:lnTo>
                  <a:lnTo>
                    <a:pt x="0" y="1668"/>
                  </a:lnTo>
                  <a:lnTo>
                    <a:pt x="0" y="1668"/>
                  </a:lnTo>
                  <a:lnTo>
                    <a:pt x="503" y="2350"/>
                  </a:lnTo>
                  <a:lnTo>
                    <a:pt x="472" y="2566"/>
                  </a:lnTo>
                  <a:lnTo>
                    <a:pt x="904" y="3030"/>
                  </a:lnTo>
                  <a:lnTo>
                    <a:pt x="1091" y="2938"/>
                  </a:lnTo>
                  <a:lnTo>
                    <a:pt x="1307" y="2598"/>
                  </a:lnTo>
                  <a:lnTo>
                    <a:pt x="1318" y="2597"/>
                  </a:lnTo>
                  <a:lnTo>
                    <a:pt x="1348" y="2593"/>
                  </a:lnTo>
                  <a:lnTo>
                    <a:pt x="1392" y="2589"/>
                  </a:lnTo>
                  <a:lnTo>
                    <a:pt x="1446" y="2583"/>
                  </a:lnTo>
                  <a:lnTo>
                    <a:pt x="1507" y="2577"/>
                  </a:lnTo>
                  <a:lnTo>
                    <a:pt x="1569" y="2572"/>
                  </a:lnTo>
                  <a:lnTo>
                    <a:pt x="1627" y="2568"/>
                  </a:lnTo>
                  <a:lnTo>
                    <a:pt x="1679" y="2566"/>
                  </a:lnTo>
                  <a:lnTo>
                    <a:pt x="1725" y="2568"/>
                  </a:lnTo>
                  <a:lnTo>
                    <a:pt x="1773" y="2570"/>
                  </a:lnTo>
                  <a:lnTo>
                    <a:pt x="1798" y="2572"/>
                  </a:lnTo>
                  <a:lnTo>
                    <a:pt x="1821" y="2577"/>
                  </a:lnTo>
                  <a:lnTo>
                    <a:pt x="1844" y="2582"/>
                  </a:lnTo>
                  <a:lnTo>
                    <a:pt x="1867" y="2590"/>
                  </a:lnTo>
                  <a:lnTo>
                    <a:pt x="1877" y="2594"/>
                  </a:lnTo>
                  <a:lnTo>
                    <a:pt x="1888" y="2599"/>
                  </a:lnTo>
                  <a:lnTo>
                    <a:pt x="1897" y="2605"/>
                  </a:lnTo>
                  <a:lnTo>
                    <a:pt x="1907" y="2612"/>
                  </a:lnTo>
                  <a:lnTo>
                    <a:pt x="1917" y="2619"/>
                  </a:lnTo>
                  <a:lnTo>
                    <a:pt x="1925" y="2627"/>
                  </a:lnTo>
                  <a:lnTo>
                    <a:pt x="1934" y="2635"/>
                  </a:lnTo>
                  <a:lnTo>
                    <a:pt x="1943" y="2645"/>
                  </a:lnTo>
                  <a:lnTo>
                    <a:pt x="1950" y="2655"/>
                  </a:lnTo>
                  <a:lnTo>
                    <a:pt x="1957" y="2666"/>
                  </a:lnTo>
                  <a:lnTo>
                    <a:pt x="1964" y="2677"/>
                  </a:lnTo>
                  <a:lnTo>
                    <a:pt x="1969" y="2690"/>
                  </a:lnTo>
                  <a:lnTo>
                    <a:pt x="1974" y="2704"/>
                  </a:lnTo>
                  <a:lnTo>
                    <a:pt x="1980" y="2718"/>
                  </a:lnTo>
                  <a:lnTo>
                    <a:pt x="1983" y="2735"/>
                  </a:lnTo>
                  <a:lnTo>
                    <a:pt x="1987" y="2751"/>
                  </a:lnTo>
                  <a:lnTo>
                    <a:pt x="1993" y="2788"/>
                  </a:lnTo>
                  <a:lnTo>
                    <a:pt x="1997" y="2830"/>
                  </a:lnTo>
                  <a:lnTo>
                    <a:pt x="2004" y="2876"/>
                  </a:lnTo>
                  <a:lnTo>
                    <a:pt x="2011" y="2926"/>
                  </a:lnTo>
                  <a:lnTo>
                    <a:pt x="2021" y="2977"/>
                  </a:lnTo>
                  <a:lnTo>
                    <a:pt x="2034" y="3032"/>
                  </a:lnTo>
                  <a:lnTo>
                    <a:pt x="2041" y="3060"/>
                  </a:lnTo>
                  <a:lnTo>
                    <a:pt x="2049" y="3088"/>
                  </a:lnTo>
                  <a:lnTo>
                    <a:pt x="2058" y="3116"/>
                  </a:lnTo>
                  <a:lnTo>
                    <a:pt x="2069" y="3146"/>
                  </a:lnTo>
                  <a:lnTo>
                    <a:pt x="2080" y="3175"/>
                  </a:lnTo>
                  <a:lnTo>
                    <a:pt x="2092" y="3204"/>
                  </a:lnTo>
                  <a:lnTo>
                    <a:pt x="2107" y="3233"/>
                  </a:lnTo>
                  <a:lnTo>
                    <a:pt x="2122" y="3263"/>
                  </a:lnTo>
                  <a:lnTo>
                    <a:pt x="2139" y="3292"/>
                  </a:lnTo>
                  <a:lnTo>
                    <a:pt x="2157" y="3321"/>
                  </a:lnTo>
                  <a:lnTo>
                    <a:pt x="2178" y="3349"/>
                  </a:lnTo>
                  <a:lnTo>
                    <a:pt x="2201" y="3377"/>
                  </a:lnTo>
                  <a:lnTo>
                    <a:pt x="2224" y="3405"/>
                  </a:lnTo>
                  <a:lnTo>
                    <a:pt x="2250" y="3433"/>
                  </a:lnTo>
                  <a:lnTo>
                    <a:pt x="2278" y="3460"/>
                  </a:lnTo>
                  <a:lnTo>
                    <a:pt x="2308" y="3487"/>
                  </a:lnTo>
                  <a:lnTo>
                    <a:pt x="2340" y="3512"/>
                  </a:lnTo>
                  <a:lnTo>
                    <a:pt x="2375" y="3538"/>
                  </a:lnTo>
                  <a:lnTo>
                    <a:pt x="2411" y="3563"/>
                  </a:lnTo>
                  <a:lnTo>
                    <a:pt x="2451" y="3586"/>
                  </a:lnTo>
                  <a:lnTo>
                    <a:pt x="2606" y="4050"/>
                  </a:lnTo>
                  <a:lnTo>
                    <a:pt x="3099" y="4545"/>
                  </a:lnTo>
                  <a:lnTo>
                    <a:pt x="3563" y="4545"/>
                  </a:lnTo>
                  <a:lnTo>
                    <a:pt x="3562" y="4528"/>
                  </a:lnTo>
                  <a:lnTo>
                    <a:pt x="3562" y="4478"/>
                  </a:lnTo>
                  <a:lnTo>
                    <a:pt x="3560" y="4406"/>
                  </a:lnTo>
                  <a:lnTo>
                    <a:pt x="3558" y="4316"/>
                  </a:lnTo>
                  <a:lnTo>
                    <a:pt x="3555" y="4217"/>
                  </a:lnTo>
                  <a:lnTo>
                    <a:pt x="3549" y="4114"/>
                  </a:lnTo>
                  <a:lnTo>
                    <a:pt x="3545" y="4064"/>
                  </a:lnTo>
                  <a:lnTo>
                    <a:pt x="3541" y="4015"/>
                  </a:lnTo>
                  <a:lnTo>
                    <a:pt x="3536" y="3969"/>
                  </a:lnTo>
                  <a:lnTo>
                    <a:pt x="3530" y="3926"/>
                  </a:lnTo>
                  <a:lnTo>
                    <a:pt x="3529" y="3905"/>
                  </a:lnTo>
                  <a:lnTo>
                    <a:pt x="3530" y="3883"/>
                  </a:lnTo>
                  <a:lnTo>
                    <a:pt x="3534" y="3861"/>
                  </a:lnTo>
                  <a:lnTo>
                    <a:pt x="3538" y="3836"/>
                  </a:lnTo>
                  <a:lnTo>
                    <a:pt x="3546" y="3811"/>
                  </a:lnTo>
                  <a:lnTo>
                    <a:pt x="3555" y="3786"/>
                  </a:lnTo>
                  <a:lnTo>
                    <a:pt x="3566" y="3759"/>
                  </a:lnTo>
                  <a:lnTo>
                    <a:pt x="3579" y="3732"/>
                  </a:lnTo>
                  <a:lnTo>
                    <a:pt x="3593" y="3705"/>
                  </a:lnTo>
                  <a:lnTo>
                    <a:pt x="3608" y="3677"/>
                  </a:lnTo>
                  <a:lnTo>
                    <a:pt x="3626" y="3649"/>
                  </a:lnTo>
                  <a:lnTo>
                    <a:pt x="3643" y="3621"/>
                  </a:lnTo>
                  <a:lnTo>
                    <a:pt x="3663" y="3593"/>
                  </a:lnTo>
                  <a:lnTo>
                    <a:pt x="3683" y="3565"/>
                  </a:lnTo>
                  <a:lnTo>
                    <a:pt x="3703" y="3537"/>
                  </a:lnTo>
                  <a:lnTo>
                    <a:pt x="3725" y="3509"/>
                  </a:lnTo>
                  <a:lnTo>
                    <a:pt x="3747" y="3482"/>
                  </a:lnTo>
                  <a:lnTo>
                    <a:pt x="3769" y="3455"/>
                  </a:lnTo>
                  <a:lnTo>
                    <a:pt x="3792" y="3430"/>
                  </a:lnTo>
                  <a:lnTo>
                    <a:pt x="3815" y="3404"/>
                  </a:lnTo>
                  <a:lnTo>
                    <a:pt x="3861" y="3355"/>
                  </a:lnTo>
                  <a:lnTo>
                    <a:pt x="3905" y="3310"/>
                  </a:lnTo>
                  <a:lnTo>
                    <a:pt x="3948" y="3270"/>
                  </a:lnTo>
                  <a:lnTo>
                    <a:pt x="3989" y="3236"/>
                  </a:lnTo>
                  <a:lnTo>
                    <a:pt x="4008" y="3220"/>
                  </a:lnTo>
                  <a:lnTo>
                    <a:pt x="4025" y="3206"/>
                  </a:lnTo>
                  <a:lnTo>
                    <a:pt x="4043" y="3196"/>
                  </a:lnTo>
                  <a:lnTo>
                    <a:pt x="4058" y="3185"/>
                  </a:lnTo>
                  <a:lnTo>
                    <a:pt x="4092" y="3167"/>
                  </a:lnTo>
                  <a:lnTo>
                    <a:pt x="4137" y="3145"/>
                  </a:lnTo>
                  <a:lnTo>
                    <a:pt x="4190" y="3119"/>
                  </a:lnTo>
                  <a:lnTo>
                    <a:pt x="4250" y="3092"/>
                  </a:lnTo>
                  <a:lnTo>
                    <a:pt x="4313" y="3063"/>
                  </a:lnTo>
                  <a:lnTo>
                    <a:pt x="4379" y="3034"/>
                  </a:lnTo>
                  <a:lnTo>
                    <a:pt x="4446" y="3002"/>
                  </a:lnTo>
                  <a:lnTo>
                    <a:pt x="4511" y="2970"/>
                  </a:lnTo>
                  <a:lnTo>
                    <a:pt x="4574" y="2939"/>
                  </a:lnTo>
                  <a:lnTo>
                    <a:pt x="4632" y="2907"/>
                  </a:lnTo>
                  <a:lnTo>
                    <a:pt x="4658" y="2892"/>
                  </a:lnTo>
                  <a:lnTo>
                    <a:pt x="4683" y="2877"/>
                  </a:lnTo>
                  <a:lnTo>
                    <a:pt x="4705" y="2863"/>
                  </a:lnTo>
                  <a:lnTo>
                    <a:pt x="4725" y="2848"/>
                  </a:lnTo>
                  <a:lnTo>
                    <a:pt x="4741" y="2834"/>
                  </a:lnTo>
                  <a:lnTo>
                    <a:pt x="4757" y="2821"/>
                  </a:lnTo>
                  <a:lnTo>
                    <a:pt x="4767" y="2807"/>
                  </a:lnTo>
                  <a:lnTo>
                    <a:pt x="4775" y="2795"/>
                  </a:lnTo>
                  <a:lnTo>
                    <a:pt x="4780" y="2782"/>
                  </a:lnTo>
                  <a:lnTo>
                    <a:pt x="4780" y="2772"/>
                  </a:lnTo>
                  <a:lnTo>
                    <a:pt x="4776" y="2761"/>
                  </a:lnTo>
                  <a:lnTo>
                    <a:pt x="4769" y="2751"/>
                  </a:lnTo>
                  <a:lnTo>
                    <a:pt x="4741" y="2725"/>
                  </a:lnTo>
                  <a:lnTo>
                    <a:pt x="4718" y="2699"/>
                  </a:lnTo>
                  <a:lnTo>
                    <a:pt x="4698" y="2676"/>
                  </a:lnTo>
                  <a:lnTo>
                    <a:pt x="4682" y="2654"/>
                  </a:lnTo>
                  <a:lnTo>
                    <a:pt x="4669" y="2633"/>
                  </a:lnTo>
                  <a:lnTo>
                    <a:pt x="4658" y="2613"/>
                  </a:lnTo>
                  <a:lnTo>
                    <a:pt x="4651" y="2594"/>
                  </a:lnTo>
                  <a:lnTo>
                    <a:pt x="4647" y="2578"/>
                  </a:lnTo>
                  <a:lnTo>
                    <a:pt x="4644" y="2562"/>
                  </a:lnTo>
                  <a:lnTo>
                    <a:pt x="4644" y="2548"/>
                  </a:lnTo>
                  <a:lnTo>
                    <a:pt x="4648" y="2536"/>
                  </a:lnTo>
                  <a:lnTo>
                    <a:pt x="4653" y="2524"/>
                  </a:lnTo>
                  <a:lnTo>
                    <a:pt x="4660" y="2515"/>
                  </a:lnTo>
                  <a:lnTo>
                    <a:pt x="4669" y="2508"/>
                  </a:lnTo>
                  <a:lnTo>
                    <a:pt x="4679" y="2501"/>
                  </a:lnTo>
                  <a:lnTo>
                    <a:pt x="4691" y="2497"/>
                  </a:lnTo>
                  <a:lnTo>
                    <a:pt x="4705" y="2495"/>
                  </a:lnTo>
                  <a:lnTo>
                    <a:pt x="4720" y="2494"/>
                  </a:lnTo>
                  <a:lnTo>
                    <a:pt x="4736" y="2495"/>
                  </a:lnTo>
                  <a:lnTo>
                    <a:pt x="4753" y="2497"/>
                  </a:lnTo>
                  <a:lnTo>
                    <a:pt x="4771" y="2502"/>
                  </a:lnTo>
                  <a:lnTo>
                    <a:pt x="4789" y="2509"/>
                  </a:lnTo>
                  <a:lnTo>
                    <a:pt x="4809" y="2518"/>
                  </a:lnTo>
                  <a:lnTo>
                    <a:pt x="4829" y="2529"/>
                  </a:lnTo>
                  <a:lnTo>
                    <a:pt x="4849" y="2542"/>
                  </a:lnTo>
                  <a:lnTo>
                    <a:pt x="4869" y="2556"/>
                  </a:lnTo>
                  <a:lnTo>
                    <a:pt x="4890" y="2573"/>
                  </a:lnTo>
                  <a:lnTo>
                    <a:pt x="4910" y="2592"/>
                  </a:lnTo>
                  <a:lnTo>
                    <a:pt x="4929" y="2613"/>
                  </a:lnTo>
                  <a:lnTo>
                    <a:pt x="4948" y="2636"/>
                  </a:lnTo>
                  <a:lnTo>
                    <a:pt x="4967" y="2662"/>
                  </a:lnTo>
                  <a:lnTo>
                    <a:pt x="4985" y="2690"/>
                  </a:lnTo>
                  <a:lnTo>
                    <a:pt x="5200" y="25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Freeform 161"/>
            <p:cNvSpPr/>
            <p:nvPr/>
          </p:nvSpPr>
          <p:spPr>
            <a:xfrm>
              <a:off x="6762600" y="5500800"/>
              <a:ext cx="455040" cy="20304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848" h="1175">
                  <a:moveTo>
                    <a:pt x="2848" y="1152"/>
                  </a:moveTo>
                  <a:lnTo>
                    <a:pt x="2805" y="1135"/>
                  </a:lnTo>
                  <a:lnTo>
                    <a:pt x="2759" y="1118"/>
                  </a:lnTo>
                  <a:lnTo>
                    <a:pt x="2713" y="1101"/>
                  </a:lnTo>
                  <a:lnTo>
                    <a:pt x="2665" y="1085"/>
                  </a:lnTo>
                  <a:lnTo>
                    <a:pt x="2618" y="1070"/>
                  </a:lnTo>
                  <a:lnTo>
                    <a:pt x="2571" y="1056"/>
                  </a:lnTo>
                  <a:lnTo>
                    <a:pt x="2526" y="1044"/>
                  </a:lnTo>
                  <a:lnTo>
                    <a:pt x="2481" y="1034"/>
                  </a:lnTo>
                  <a:lnTo>
                    <a:pt x="2439" y="1026"/>
                  </a:lnTo>
                  <a:lnTo>
                    <a:pt x="2401" y="1020"/>
                  </a:lnTo>
                  <a:lnTo>
                    <a:pt x="2382" y="1017"/>
                  </a:lnTo>
                  <a:lnTo>
                    <a:pt x="2365" y="1016"/>
                  </a:lnTo>
                  <a:lnTo>
                    <a:pt x="2347" y="1016"/>
                  </a:lnTo>
                  <a:lnTo>
                    <a:pt x="2332" y="1016"/>
                  </a:lnTo>
                  <a:lnTo>
                    <a:pt x="2317" y="1017"/>
                  </a:lnTo>
                  <a:lnTo>
                    <a:pt x="2303" y="1020"/>
                  </a:lnTo>
                  <a:lnTo>
                    <a:pt x="2290" y="1022"/>
                  </a:lnTo>
                  <a:lnTo>
                    <a:pt x="2279" y="1027"/>
                  </a:lnTo>
                  <a:lnTo>
                    <a:pt x="2269" y="1031"/>
                  </a:lnTo>
                  <a:lnTo>
                    <a:pt x="2259" y="1037"/>
                  </a:lnTo>
                  <a:lnTo>
                    <a:pt x="2252" y="1043"/>
                  </a:lnTo>
                  <a:lnTo>
                    <a:pt x="2247" y="1051"/>
                  </a:lnTo>
                  <a:lnTo>
                    <a:pt x="2223" y="1086"/>
                  </a:lnTo>
                  <a:lnTo>
                    <a:pt x="2202" y="1114"/>
                  </a:lnTo>
                  <a:lnTo>
                    <a:pt x="2192" y="1126"/>
                  </a:lnTo>
                  <a:lnTo>
                    <a:pt x="2182" y="1137"/>
                  </a:lnTo>
                  <a:lnTo>
                    <a:pt x="2174" y="1146"/>
                  </a:lnTo>
                  <a:lnTo>
                    <a:pt x="2165" y="1153"/>
                  </a:lnTo>
                  <a:lnTo>
                    <a:pt x="2157" y="1160"/>
                  </a:lnTo>
                  <a:lnTo>
                    <a:pt x="2150" y="1165"/>
                  </a:lnTo>
                  <a:lnTo>
                    <a:pt x="2143" y="1169"/>
                  </a:lnTo>
                  <a:lnTo>
                    <a:pt x="2136" y="1172"/>
                  </a:lnTo>
                  <a:lnTo>
                    <a:pt x="2129" y="1174"/>
                  </a:lnTo>
                  <a:lnTo>
                    <a:pt x="2123" y="1175"/>
                  </a:lnTo>
                  <a:lnTo>
                    <a:pt x="2117" y="1175"/>
                  </a:lnTo>
                  <a:lnTo>
                    <a:pt x="2111" y="1174"/>
                  </a:lnTo>
                  <a:lnTo>
                    <a:pt x="2106" y="1173"/>
                  </a:lnTo>
                  <a:lnTo>
                    <a:pt x="2102" y="1170"/>
                  </a:lnTo>
                  <a:lnTo>
                    <a:pt x="2097" y="1167"/>
                  </a:lnTo>
                  <a:lnTo>
                    <a:pt x="2092" y="1163"/>
                  </a:lnTo>
                  <a:lnTo>
                    <a:pt x="2085" y="1155"/>
                  </a:lnTo>
                  <a:lnTo>
                    <a:pt x="2080" y="1145"/>
                  </a:lnTo>
                  <a:lnTo>
                    <a:pt x="2074" y="1133"/>
                  </a:lnTo>
                  <a:lnTo>
                    <a:pt x="2069" y="1121"/>
                  </a:lnTo>
                  <a:lnTo>
                    <a:pt x="2065" y="1110"/>
                  </a:lnTo>
                  <a:lnTo>
                    <a:pt x="2062" y="1098"/>
                  </a:lnTo>
                  <a:lnTo>
                    <a:pt x="2060" y="1092"/>
                  </a:lnTo>
                  <a:lnTo>
                    <a:pt x="2056" y="1087"/>
                  </a:lnTo>
                  <a:lnTo>
                    <a:pt x="2050" y="1084"/>
                  </a:lnTo>
                  <a:lnTo>
                    <a:pt x="2043" y="1080"/>
                  </a:lnTo>
                  <a:lnTo>
                    <a:pt x="2036" y="1078"/>
                  </a:lnTo>
                  <a:lnTo>
                    <a:pt x="2027" y="1077"/>
                  </a:lnTo>
                  <a:lnTo>
                    <a:pt x="2016" y="1076"/>
                  </a:lnTo>
                  <a:lnTo>
                    <a:pt x="2005" y="1075"/>
                  </a:lnTo>
                  <a:lnTo>
                    <a:pt x="1980" y="1075"/>
                  </a:lnTo>
                  <a:lnTo>
                    <a:pt x="1951" y="1077"/>
                  </a:lnTo>
                  <a:lnTo>
                    <a:pt x="1921" y="1080"/>
                  </a:lnTo>
                  <a:lnTo>
                    <a:pt x="1889" y="1084"/>
                  </a:lnTo>
                  <a:lnTo>
                    <a:pt x="1823" y="1093"/>
                  </a:lnTo>
                  <a:lnTo>
                    <a:pt x="1758" y="1100"/>
                  </a:lnTo>
                  <a:lnTo>
                    <a:pt x="1729" y="1103"/>
                  </a:lnTo>
                  <a:lnTo>
                    <a:pt x="1702" y="1103"/>
                  </a:lnTo>
                  <a:lnTo>
                    <a:pt x="1689" y="1103"/>
                  </a:lnTo>
                  <a:lnTo>
                    <a:pt x="1679" y="1101"/>
                  </a:lnTo>
                  <a:lnTo>
                    <a:pt x="1668" y="1100"/>
                  </a:lnTo>
                  <a:lnTo>
                    <a:pt x="1659" y="1098"/>
                  </a:lnTo>
                  <a:lnTo>
                    <a:pt x="1643" y="1091"/>
                  </a:lnTo>
                  <a:lnTo>
                    <a:pt x="1626" y="1083"/>
                  </a:lnTo>
                  <a:lnTo>
                    <a:pt x="1610" y="1075"/>
                  </a:lnTo>
                  <a:lnTo>
                    <a:pt x="1596" y="1065"/>
                  </a:lnTo>
                  <a:lnTo>
                    <a:pt x="1582" y="1055"/>
                  </a:lnTo>
                  <a:lnTo>
                    <a:pt x="1569" y="1044"/>
                  </a:lnTo>
                  <a:lnTo>
                    <a:pt x="1557" y="1034"/>
                  </a:lnTo>
                  <a:lnTo>
                    <a:pt x="1547" y="1023"/>
                  </a:lnTo>
                  <a:lnTo>
                    <a:pt x="1515" y="988"/>
                  </a:lnTo>
                  <a:lnTo>
                    <a:pt x="1504" y="973"/>
                  </a:lnTo>
                  <a:lnTo>
                    <a:pt x="1499" y="978"/>
                  </a:lnTo>
                  <a:lnTo>
                    <a:pt x="1487" y="989"/>
                  </a:lnTo>
                  <a:lnTo>
                    <a:pt x="1478" y="996"/>
                  </a:lnTo>
                  <a:lnTo>
                    <a:pt x="1467" y="1005"/>
                  </a:lnTo>
                  <a:lnTo>
                    <a:pt x="1456" y="1013"/>
                  </a:lnTo>
                  <a:lnTo>
                    <a:pt x="1442" y="1021"/>
                  </a:lnTo>
                  <a:lnTo>
                    <a:pt x="1427" y="1029"/>
                  </a:lnTo>
                  <a:lnTo>
                    <a:pt x="1410" y="1035"/>
                  </a:lnTo>
                  <a:lnTo>
                    <a:pt x="1393" y="1041"/>
                  </a:lnTo>
                  <a:lnTo>
                    <a:pt x="1374" y="1044"/>
                  </a:lnTo>
                  <a:lnTo>
                    <a:pt x="1363" y="1045"/>
                  </a:lnTo>
                  <a:lnTo>
                    <a:pt x="1353" y="1045"/>
                  </a:lnTo>
                  <a:lnTo>
                    <a:pt x="1344" y="1045"/>
                  </a:lnTo>
                  <a:lnTo>
                    <a:pt x="1332" y="1044"/>
                  </a:lnTo>
                  <a:lnTo>
                    <a:pt x="1321" y="1043"/>
                  </a:lnTo>
                  <a:lnTo>
                    <a:pt x="1311" y="1041"/>
                  </a:lnTo>
                  <a:lnTo>
                    <a:pt x="1299" y="1038"/>
                  </a:lnTo>
                  <a:lnTo>
                    <a:pt x="1288" y="1034"/>
                  </a:lnTo>
                  <a:lnTo>
                    <a:pt x="1265" y="1024"/>
                  </a:lnTo>
                  <a:lnTo>
                    <a:pt x="1243" y="1014"/>
                  </a:lnTo>
                  <a:lnTo>
                    <a:pt x="1222" y="1001"/>
                  </a:lnTo>
                  <a:lnTo>
                    <a:pt x="1201" y="988"/>
                  </a:lnTo>
                  <a:lnTo>
                    <a:pt x="1159" y="960"/>
                  </a:lnTo>
                  <a:lnTo>
                    <a:pt x="1115" y="932"/>
                  </a:lnTo>
                  <a:lnTo>
                    <a:pt x="1090" y="918"/>
                  </a:lnTo>
                  <a:lnTo>
                    <a:pt x="1066" y="905"/>
                  </a:lnTo>
                  <a:lnTo>
                    <a:pt x="1039" y="895"/>
                  </a:lnTo>
                  <a:lnTo>
                    <a:pt x="1010" y="884"/>
                  </a:lnTo>
                  <a:lnTo>
                    <a:pt x="994" y="880"/>
                  </a:lnTo>
                  <a:lnTo>
                    <a:pt x="979" y="876"/>
                  </a:lnTo>
                  <a:lnTo>
                    <a:pt x="963" y="873"/>
                  </a:lnTo>
                  <a:lnTo>
                    <a:pt x="945" y="869"/>
                  </a:lnTo>
                  <a:lnTo>
                    <a:pt x="928" y="867"/>
                  </a:lnTo>
                  <a:lnTo>
                    <a:pt x="909" y="866"/>
                  </a:lnTo>
                  <a:lnTo>
                    <a:pt x="890" y="864"/>
                  </a:lnTo>
                  <a:lnTo>
                    <a:pt x="869" y="864"/>
                  </a:lnTo>
                  <a:lnTo>
                    <a:pt x="902" y="277"/>
                  </a:lnTo>
                  <a:lnTo>
                    <a:pt x="0" y="230"/>
                  </a:lnTo>
                  <a:lnTo>
                    <a:pt x="69" y="0"/>
                  </a:lnTo>
                  <a:lnTo>
                    <a:pt x="2665" y="0"/>
                  </a:lnTo>
                  <a:lnTo>
                    <a:pt x="2842" y="424"/>
                  </a:lnTo>
                  <a:lnTo>
                    <a:pt x="2848" y="1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Freeform 162"/>
            <p:cNvSpPr/>
            <p:nvPr/>
          </p:nvSpPr>
          <p:spPr>
            <a:xfrm>
              <a:off x="6762600" y="5500800"/>
              <a:ext cx="455040" cy="20304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848" h="1175">
                  <a:moveTo>
                    <a:pt x="2848" y="1152"/>
                  </a:moveTo>
                  <a:lnTo>
                    <a:pt x="2805" y="1135"/>
                  </a:lnTo>
                  <a:lnTo>
                    <a:pt x="2759" y="1118"/>
                  </a:lnTo>
                  <a:lnTo>
                    <a:pt x="2713" y="1101"/>
                  </a:lnTo>
                  <a:lnTo>
                    <a:pt x="2665" y="1085"/>
                  </a:lnTo>
                  <a:lnTo>
                    <a:pt x="2618" y="1070"/>
                  </a:lnTo>
                  <a:lnTo>
                    <a:pt x="2571" y="1056"/>
                  </a:lnTo>
                  <a:lnTo>
                    <a:pt x="2526" y="1044"/>
                  </a:lnTo>
                  <a:lnTo>
                    <a:pt x="2481" y="1034"/>
                  </a:lnTo>
                  <a:lnTo>
                    <a:pt x="2439" y="1026"/>
                  </a:lnTo>
                  <a:lnTo>
                    <a:pt x="2401" y="1020"/>
                  </a:lnTo>
                  <a:lnTo>
                    <a:pt x="2382" y="1017"/>
                  </a:lnTo>
                  <a:lnTo>
                    <a:pt x="2365" y="1016"/>
                  </a:lnTo>
                  <a:lnTo>
                    <a:pt x="2347" y="1016"/>
                  </a:lnTo>
                  <a:lnTo>
                    <a:pt x="2332" y="1016"/>
                  </a:lnTo>
                  <a:lnTo>
                    <a:pt x="2317" y="1017"/>
                  </a:lnTo>
                  <a:lnTo>
                    <a:pt x="2303" y="1020"/>
                  </a:lnTo>
                  <a:lnTo>
                    <a:pt x="2290" y="1022"/>
                  </a:lnTo>
                  <a:lnTo>
                    <a:pt x="2279" y="1027"/>
                  </a:lnTo>
                  <a:lnTo>
                    <a:pt x="2269" y="1031"/>
                  </a:lnTo>
                  <a:lnTo>
                    <a:pt x="2259" y="1037"/>
                  </a:lnTo>
                  <a:lnTo>
                    <a:pt x="2252" y="1043"/>
                  </a:lnTo>
                  <a:lnTo>
                    <a:pt x="2247" y="1051"/>
                  </a:lnTo>
                  <a:lnTo>
                    <a:pt x="2223" y="1086"/>
                  </a:lnTo>
                  <a:lnTo>
                    <a:pt x="2202" y="1114"/>
                  </a:lnTo>
                  <a:lnTo>
                    <a:pt x="2192" y="1126"/>
                  </a:lnTo>
                  <a:lnTo>
                    <a:pt x="2182" y="1137"/>
                  </a:lnTo>
                  <a:lnTo>
                    <a:pt x="2174" y="1146"/>
                  </a:lnTo>
                  <a:lnTo>
                    <a:pt x="2165" y="1153"/>
                  </a:lnTo>
                  <a:lnTo>
                    <a:pt x="2157" y="1160"/>
                  </a:lnTo>
                  <a:lnTo>
                    <a:pt x="2150" y="1165"/>
                  </a:lnTo>
                  <a:lnTo>
                    <a:pt x="2143" y="1169"/>
                  </a:lnTo>
                  <a:lnTo>
                    <a:pt x="2136" y="1172"/>
                  </a:lnTo>
                  <a:lnTo>
                    <a:pt x="2129" y="1174"/>
                  </a:lnTo>
                  <a:lnTo>
                    <a:pt x="2123" y="1175"/>
                  </a:lnTo>
                  <a:lnTo>
                    <a:pt x="2117" y="1175"/>
                  </a:lnTo>
                  <a:lnTo>
                    <a:pt x="2111" y="1174"/>
                  </a:lnTo>
                  <a:lnTo>
                    <a:pt x="2106" y="1173"/>
                  </a:lnTo>
                  <a:lnTo>
                    <a:pt x="2102" y="1170"/>
                  </a:lnTo>
                  <a:lnTo>
                    <a:pt x="2097" y="1167"/>
                  </a:lnTo>
                  <a:lnTo>
                    <a:pt x="2092" y="1163"/>
                  </a:lnTo>
                  <a:lnTo>
                    <a:pt x="2085" y="1155"/>
                  </a:lnTo>
                  <a:lnTo>
                    <a:pt x="2080" y="1145"/>
                  </a:lnTo>
                  <a:lnTo>
                    <a:pt x="2074" y="1133"/>
                  </a:lnTo>
                  <a:lnTo>
                    <a:pt x="2069" y="1121"/>
                  </a:lnTo>
                  <a:lnTo>
                    <a:pt x="2065" y="1110"/>
                  </a:lnTo>
                  <a:lnTo>
                    <a:pt x="2062" y="1098"/>
                  </a:lnTo>
                  <a:lnTo>
                    <a:pt x="2060" y="1092"/>
                  </a:lnTo>
                  <a:lnTo>
                    <a:pt x="2056" y="1087"/>
                  </a:lnTo>
                  <a:lnTo>
                    <a:pt x="2050" y="1084"/>
                  </a:lnTo>
                  <a:lnTo>
                    <a:pt x="2043" y="1080"/>
                  </a:lnTo>
                  <a:lnTo>
                    <a:pt x="2036" y="1078"/>
                  </a:lnTo>
                  <a:lnTo>
                    <a:pt x="2027" y="1077"/>
                  </a:lnTo>
                  <a:lnTo>
                    <a:pt x="2016" y="1076"/>
                  </a:lnTo>
                  <a:lnTo>
                    <a:pt x="2005" y="1075"/>
                  </a:lnTo>
                  <a:lnTo>
                    <a:pt x="1980" y="1075"/>
                  </a:lnTo>
                  <a:lnTo>
                    <a:pt x="1951" y="1077"/>
                  </a:lnTo>
                  <a:lnTo>
                    <a:pt x="1921" y="1080"/>
                  </a:lnTo>
                  <a:lnTo>
                    <a:pt x="1889" y="1084"/>
                  </a:lnTo>
                  <a:lnTo>
                    <a:pt x="1823" y="1093"/>
                  </a:lnTo>
                  <a:lnTo>
                    <a:pt x="1758" y="1100"/>
                  </a:lnTo>
                  <a:lnTo>
                    <a:pt x="1729" y="1103"/>
                  </a:lnTo>
                  <a:lnTo>
                    <a:pt x="1702" y="1103"/>
                  </a:lnTo>
                  <a:lnTo>
                    <a:pt x="1689" y="1103"/>
                  </a:lnTo>
                  <a:lnTo>
                    <a:pt x="1679" y="1101"/>
                  </a:lnTo>
                  <a:lnTo>
                    <a:pt x="1668" y="1100"/>
                  </a:lnTo>
                  <a:lnTo>
                    <a:pt x="1659" y="1098"/>
                  </a:lnTo>
                  <a:lnTo>
                    <a:pt x="1643" y="1091"/>
                  </a:lnTo>
                  <a:lnTo>
                    <a:pt x="1626" y="1083"/>
                  </a:lnTo>
                  <a:lnTo>
                    <a:pt x="1610" y="1075"/>
                  </a:lnTo>
                  <a:lnTo>
                    <a:pt x="1596" y="1065"/>
                  </a:lnTo>
                  <a:lnTo>
                    <a:pt x="1582" y="1055"/>
                  </a:lnTo>
                  <a:lnTo>
                    <a:pt x="1569" y="1044"/>
                  </a:lnTo>
                  <a:lnTo>
                    <a:pt x="1557" y="1034"/>
                  </a:lnTo>
                  <a:lnTo>
                    <a:pt x="1547" y="1023"/>
                  </a:lnTo>
                  <a:lnTo>
                    <a:pt x="1515" y="988"/>
                  </a:lnTo>
                  <a:lnTo>
                    <a:pt x="1504" y="973"/>
                  </a:lnTo>
                  <a:lnTo>
                    <a:pt x="1499" y="978"/>
                  </a:lnTo>
                  <a:lnTo>
                    <a:pt x="1487" y="989"/>
                  </a:lnTo>
                  <a:lnTo>
                    <a:pt x="1478" y="996"/>
                  </a:lnTo>
                  <a:lnTo>
                    <a:pt x="1467" y="1005"/>
                  </a:lnTo>
                  <a:lnTo>
                    <a:pt x="1456" y="1013"/>
                  </a:lnTo>
                  <a:lnTo>
                    <a:pt x="1442" y="1021"/>
                  </a:lnTo>
                  <a:lnTo>
                    <a:pt x="1427" y="1029"/>
                  </a:lnTo>
                  <a:lnTo>
                    <a:pt x="1410" y="1035"/>
                  </a:lnTo>
                  <a:lnTo>
                    <a:pt x="1393" y="1041"/>
                  </a:lnTo>
                  <a:lnTo>
                    <a:pt x="1374" y="1044"/>
                  </a:lnTo>
                  <a:lnTo>
                    <a:pt x="1363" y="1045"/>
                  </a:lnTo>
                  <a:lnTo>
                    <a:pt x="1353" y="1045"/>
                  </a:lnTo>
                  <a:lnTo>
                    <a:pt x="1344" y="1045"/>
                  </a:lnTo>
                  <a:lnTo>
                    <a:pt x="1332" y="1044"/>
                  </a:lnTo>
                  <a:lnTo>
                    <a:pt x="1321" y="1043"/>
                  </a:lnTo>
                  <a:lnTo>
                    <a:pt x="1311" y="1041"/>
                  </a:lnTo>
                  <a:lnTo>
                    <a:pt x="1299" y="1038"/>
                  </a:lnTo>
                  <a:lnTo>
                    <a:pt x="1288" y="1034"/>
                  </a:lnTo>
                  <a:lnTo>
                    <a:pt x="1265" y="1024"/>
                  </a:lnTo>
                  <a:lnTo>
                    <a:pt x="1243" y="1014"/>
                  </a:lnTo>
                  <a:lnTo>
                    <a:pt x="1222" y="1001"/>
                  </a:lnTo>
                  <a:lnTo>
                    <a:pt x="1201" y="988"/>
                  </a:lnTo>
                  <a:lnTo>
                    <a:pt x="1159" y="960"/>
                  </a:lnTo>
                  <a:lnTo>
                    <a:pt x="1115" y="932"/>
                  </a:lnTo>
                  <a:lnTo>
                    <a:pt x="1090" y="918"/>
                  </a:lnTo>
                  <a:lnTo>
                    <a:pt x="1066" y="905"/>
                  </a:lnTo>
                  <a:lnTo>
                    <a:pt x="1039" y="895"/>
                  </a:lnTo>
                  <a:lnTo>
                    <a:pt x="1010" y="884"/>
                  </a:lnTo>
                  <a:lnTo>
                    <a:pt x="994" y="880"/>
                  </a:lnTo>
                  <a:lnTo>
                    <a:pt x="979" y="876"/>
                  </a:lnTo>
                  <a:lnTo>
                    <a:pt x="963" y="873"/>
                  </a:lnTo>
                  <a:lnTo>
                    <a:pt x="945" y="869"/>
                  </a:lnTo>
                  <a:lnTo>
                    <a:pt x="928" y="867"/>
                  </a:lnTo>
                  <a:lnTo>
                    <a:pt x="909" y="866"/>
                  </a:lnTo>
                  <a:lnTo>
                    <a:pt x="890" y="864"/>
                  </a:lnTo>
                  <a:lnTo>
                    <a:pt x="869" y="864"/>
                  </a:lnTo>
                  <a:lnTo>
                    <a:pt x="902" y="277"/>
                  </a:lnTo>
                  <a:lnTo>
                    <a:pt x="0" y="230"/>
                  </a:lnTo>
                  <a:lnTo>
                    <a:pt x="69" y="0"/>
                  </a:lnTo>
                  <a:lnTo>
                    <a:pt x="2665" y="0"/>
                  </a:lnTo>
                  <a:lnTo>
                    <a:pt x="2842" y="424"/>
                  </a:lnTo>
                  <a:lnTo>
                    <a:pt x="2848" y="1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Freeform 163"/>
            <p:cNvSpPr/>
            <p:nvPr/>
          </p:nvSpPr>
          <p:spPr>
            <a:xfrm>
              <a:off x="6823080" y="5352840"/>
              <a:ext cx="366120" cy="14688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293" h="847">
                  <a:moveTo>
                    <a:pt x="2293" y="224"/>
                  </a:moveTo>
                  <a:lnTo>
                    <a:pt x="2289" y="847"/>
                  </a:lnTo>
                  <a:lnTo>
                    <a:pt x="0" y="845"/>
                  </a:lnTo>
                  <a:lnTo>
                    <a:pt x="222" y="0"/>
                  </a:lnTo>
                  <a:lnTo>
                    <a:pt x="1998" y="4"/>
                  </a:lnTo>
                  <a:lnTo>
                    <a:pt x="2007" y="21"/>
                  </a:lnTo>
                  <a:lnTo>
                    <a:pt x="2014" y="36"/>
                  </a:lnTo>
                  <a:lnTo>
                    <a:pt x="2021" y="47"/>
                  </a:lnTo>
                  <a:lnTo>
                    <a:pt x="2028" y="54"/>
                  </a:lnTo>
                  <a:lnTo>
                    <a:pt x="2031" y="57"/>
                  </a:lnTo>
                  <a:lnTo>
                    <a:pt x="2036" y="59"/>
                  </a:lnTo>
                  <a:lnTo>
                    <a:pt x="2039" y="60"/>
                  </a:lnTo>
                  <a:lnTo>
                    <a:pt x="2044" y="61"/>
                  </a:lnTo>
                  <a:lnTo>
                    <a:pt x="2054" y="61"/>
                  </a:lnTo>
                  <a:lnTo>
                    <a:pt x="2067" y="57"/>
                  </a:lnTo>
                  <a:lnTo>
                    <a:pt x="2095" y="54"/>
                  </a:lnTo>
                  <a:lnTo>
                    <a:pt x="2122" y="50"/>
                  </a:lnTo>
                  <a:lnTo>
                    <a:pt x="2134" y="50"/>
                  </a:lnTo>
                  <a:lnTo>
                    <a:pt x="2144" y="52"/>
                  </a:lnTo>
                  <a:lnTo>
                    <a:pt x="2154" y="53"/>
                  </a:lnTo>
                  <a:lnTo>
                    <a:pt x="2163" y="55"/>
                  </a:lnTo>
                  <a:lnTo>
                    <a:pt x="2170" y="59"/>
                  </a:lnTo>
                  <a:lnTo>
                    <a:pt x="2177" y="63"/>
                  </a:lnTo>
                  <a:lnTo>
                    <a:pt x="2182" y="69"/>
                  </a:lnTo>
                  <a:lnTo>
                    <a:pt x="2185" y="76"/>
                  </a:lnTo>
                  <a:lnTo>
                    <a:pt x="2188" y="85"/>
                  </a:lnTo>
                  <a:lnTo>
                    <a:pt x="2188" y="96"/>
                  </a:lnTo>
                  <a:lnTo>
                    <a:pt x="2186" y="108"/>
                  </a:lnTo>
                  <a:lnTo>
                    <a:pt x="2183" y="122"/>
                  </a:lnTo>
                  <a:lnTo>
                    <a:pt x="2182" y="125"/>
                  </a:lnTo>
                  <a:lnTo>
                    <a:pt x="2182" y="130"/>
                  </a:lnTo>
                  <a:lnTo>
                    <a:pt x="2183" y="133"/>
                  </a:lnTo>
                  <a:lnTo>
                    <a:pt x="2184" y="137"/>
                  </a:lnTo>
                  <a:lnTo>
                    <a:pt x="2189" y="145"/>
                  </a:lnTo>
                  <a:lnTo>
                    <a:pt x="2196" y="151"/>
                  </a:lnTo>
                  <a:lnTo>
                    <a:pt x="2205" y="158"/>
                  </a:lnTo>
                  <a:lnTo>
                    <a:pt x="2214" y="164"/>
                  </a:lnTo>
                  <a:lnTo>
                    <a:pt x="2226" y="170"/>
                  </a:lnTo>
                  <a:lnTo>
                    <a:pt x="2238" y="175"/>
                  </a:lnTo>
                  <a:lnTo>
                    <a:pt x="2260" y="187"/>
                  </a:lnTo>
                  <a:lnTo>
                    <a:pt x="2279" y="199"/>
                  </a:lnTo>
                  <a:lnTo>
                    <a:pt x="2286" y="205"/>
                  </a:lnTo>
                  <a:lnTo>
                    <a:pt x="2292" y="210"/>
                  </a:lnTo>
                  <a:lnTo>
                    <a:pt x="2293" y="214"/>
                  </a:lnTo>
                  <a:lnTo>
                    <a:pt x="2293" y="217"/>
                  </a:lnTo>
                  <a:lnTo>
                    <a:pt x="2293" y="221"/>
                  </a:lnTo>
                  <a:lnTo>
                    <a:pt x="2293" y="22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Freeform 164"/>
            <p:cNvSpPr/>
            <p:nvPr/>
          </p:nvSpPr>
          <p:spPr>
            <a:xfrm>
              <a:off x="6823080" y="5352840"/>
              <a:ext cx="366120" cy="14688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293" h="847">
                  <a:moveTo>
                    <a:pt x="2293" y="224"/>
                  </a:moveTo>
                  <a:lnTo>
                    <a:pt x="2289" y="847"/>
                  </a:lnTo>
                  <a:lnTo>
                    <a:pt x="0" y="845"/>
                  </a:lnTo>
                  <a:lnTo>
                    <a:pt x="222" y="0"/>
                  </a:lnTo>
                  <a:lnTo>
                    <a:pt x="1998" y="4"/>
                  </a:lnTo>
                  <a:lnTo>
                    <a:pt x="2007" y="21"/>
                  </a:lnTo>
                  <a:lnTo>
                    <a:pt x="2014" y="36"/>
                  </a:lnTo>
                  <a:lnTo>
                    <a:pt x="2021" y="47"/>
                  </a:lnTo>
                  <a:lnTo>
                    <a:pt x="2028" y="54"/>
                  </a:lnTo>
                  <a:lnTo>
                    <a:pt x="2031" y="57"/>
                  </a:lnTo>
                  <a:lnTo>
                    <a:pt x="2036" y="59"/>
                  </a:lnTo>
                  <a:lnTo>
                    <a:pt x="2039" y="60"/>
                  </a:lnTo>
                  <a:lnTo>
                    <a:pt x="2044" y="61"/>
                  </a:lnTo>
                  <a:lnTo>
                    <a:pt x="2054" y="61"/>
                  </a:lnTo>
                  <a:lnTo>
                    <a:pt x="2067" y="57"/>
                  </a:lnTo>
                  <a:lnTo>
                    <a:pt x="2095" y="54"/>
                  </a:lnTo>
                  <a:lnTo>
                    <a:pt x="2122" y="50"/>
                  </a:lnTo>
                  <a:lnTo>
                    <a:pt x="2134" y="50"/>
                  </a:lnTo>
                  <a:lnTo>
                    <a:pt x="2144" y="52"/>
                  </a:lnTo>
                  <a:lnTo>
                    <a:pt x="2154" y="53"/>
                  </a:lnTo>
                  <a:lnTo>
                    <a:pt x="2163" y="55"/>
                  </a:lnTo>
                  <a:lnTo>
                    <a:pt x="2170" y="59"/>
                  </a:lnTo>
                  <a:lnTo>
                    <a:pt x="2177" y="63"/>
                  </a:lnTo>
                  <a:lnTo>
                    <a:pt x="2182" y="69"/>
                  </a:lnTo>
                  <a:lnTo>
                    <a:pt x="2185" y="76"/>
                  </a:lnTo>
                  <a:lnTo>
                    <a:pt x="2188" y="85"/>
                  </a:lnTo>
                  <a:lnTo>
                    <a:pt x="2188" y="96"/>
                  </a:lnTo>
                  <a:lnTo>
                    <a:pt x="2186" y="108"/>
                  </a:lnTo>
                  <a:lnTo>
                    <a:pt x="2183" y="122"/>
                  </a:lnTo>
                  <a:lnTo>
                    <a:pt x="2182" y="125"/>
                  </a:lnTo>
                  <a:lnTo>
                    <a:pt x="2182" y="130"/>
                  </a:lnTo>
                  <a:lnTo>
                    <a:pt x="2183" y="133"/>
                  </a:lnTo>
                  <a:lnTo>
                    <a:pt x="2184" y="137"/>
                  </a:lnTo>
                  <a:lnTo>
                    <a:pt x="2189" y="145"/>
                  </a:lnTo>
                  <a:lnTo>
                    <a:pt x="2196" y="151"/>
                  </a:lnTo>
                  <a:lnTo>
                    <a:pt x="2205" y="158"/>
                  </a:lnTo>
                  <a:lnTo>
                    <a:pt x="2214" y="164"/>
                  </a:lnTo>
                  <a:lnTo>
                    <a:pt x="2226" y="170"/>
                  </a:lnTo>
                  <a:lnTo>
                    <a:pt x="2238" y="175"/>
                  </a:lnTo>
                  <a:lnTo>
                    <a:pt x="2260" y="187"/>
                  </a:lnTo>
                  <a:lnTo>
                    <a:pt x="2279" y="199"/>
                  </a:lnTo>
                  <a:lnTo>
                    <a:pt x="2286" y="205"/>
                  </a:lnTo>
                  <a:lnTo>
                    <a:pt x="2292" y="210"/>
                  </a:lnTo>
                  <a:lnTo>
                    <a:pt x="2293" y="214"/>
                  </a:lnTo>
                  <a:lnTo>
                    <a:pt x="2293" y="217"/>
                  </a:lnTo>
                  <a:lnTo>
                    <a:pt x="2293" y="221"/>
                  </a:lnTo>
                  <a:lnTo>
                    <a:pt x="2293" y="224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Freeform 165"/>
            <p:cNvSpPr/>
            <p:nvPr/>
          </p:nvSpPr>
          <p:spPr>
            <a:xfrm>
              <a:off x="7229880" y="5087880"/>
              <a:ext cx="234360" cy="15048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1469" h="876">
                  <a:moveTo>
                    <a:pt x="781" y="876"/>
                  </a:moveTo>
                  <a:lnTo>
                    <a:pt x="761" y="875"/>
                  </a:lnTo>
                  <a:lnTo>
                    <a:pt x="741" y="872"/>
                  </a:lnTo>
                  <a:lnTo>
                    <a:pt x="720" y="867"/>
                  </a:lnTo>
                  <a:lnTo>
                    <a:pt x="699" y="860"/>
                  </a:lnTo>
                  <a:lnTo>
                    <a:pt x="677" y="851"/>
                  </a:lnTo>
                  <a:lnTo>
                    <a:pt x="656" y="840"/>
                  </a:lnTo>
                  <a:lnTo>
                    <a:pt x="633" y="827"/>
                  </a:lnTo>
                  <a:lnTo>
                    <a:pt x="612" y="814"/>
                  </a:lnTo>
                  <a:lnTo>
                    <a:pt x="592" y="799"/>
                  </a:lnTo>
                  <a:lnTo>
                    <a:pt x="573" y="783"/>
                  </a:lnTo>
                  <a:lnTo>
                    <a:pt x="555" y="767"/>
                  </a:lnTo>
                  <a:lnTo>
                    <a:pt x="538" y="749"/>
                  </a:lnTo>
                  <a:lnTo>
                    <a:pt x="522" y="730"/>
                  </a:lnTo>
                  <a:lnTo>
                    <a:pt x="508" y="712"/>
                  </a:lnTo>
                  <a:lnTo>
                    <a:pt x="497" y="693"/>
                  </a:lnTo>
                  <a:lnTo>
                    <a:pt x="486" y="674"/>
                  </a:lnTo>
                  <a:lnTo>
                    <a:pt x="486" y="670"/>
                  </a:lnTo>
                  <a:lnTo>
                    <a:pt x="484" y="656"/>
                  </a:lnTo>
                  <a:lnTo>
                    <a:pt x="481" y="646"/>
                  </a:lnTo>
                  <a:lnTo>
                    <a:pt x="478" y="636"/>
                  </a:lnTo>
                  <a:lnTo>
                    <a:pt x="473" y="625"/>
                  </a:lnTo>
                  <a:lnTo>
                    <a:pt x="467" y="612"/>
                  </a:lnTo>
                  <a:lnTo>
                    <a:pt x="459" y="601"/>
                  </a:lnTo>
                  <a:lnTo>
                    <a:pt x="450" y="588"/>
                  </a:lnTo>
                  <a:lnTo>
                    <a:pt x="439" y="575"/>
                  </a:lnTo>
                  <a:lnTo>
                    <a:pt x="425" y="563"/>
                  </a:lnTo>
                  <a:lnTo>
                    <a:pt x="410" y="553"/>
                  </a:lnTo>
                  <a:lnTo>
                    <a:pt x="393" y="542"/>
                  </a:lnTo>
                  <a:lnTo>
                    <a:pt x="382" y="539"/>
                  </a:lnTo>
                  <a:lnTo>
                    <a:pt x="372" y="534"/>
                  </a:lnTo>
                  <a:lnTo>
                    <a:pt x="360" y="531"/>
                  </a:lnTo>
                  <a:lnTo>
                    <a:pt x="348" y="527"/>
                  </a:lnTo>
                  <a:lnTo>
                    <a:pt x="299" y="515"/>
                  </a:lnTo>
                  <a:lnTo>
                    <a:pt x="251" y="501"/>
                  </a:lnTo>
                  <a:lnTo>
                    <a:pt x="228" y="494"/>
                  </a:lnTo>
                  <a:lnTo>
                    <a:pt x="206" y="487"/>
                  </a:lnTo>
                  <a:lnTo>
                    <a:pt x="185" y="479"/>
                  </a:lnTo>
                  <a:lnTo>
                    <a:pt x="166" y="471"/>
                  </a:lnTo>
                  <a:lnTo>
                    <a:pt x="147" y="462"/>
                  </a:lnTo>
                  <a:lnTo>
                    <a:pt x="131" y="452"/>
                  </a:lnTo>
                  <a:lnTo>
                    <a:pt x="116" y="443"/>
                  </a:lnTo>
                  <a:lnTo>
                    <a:pt x="102" y="431"/>
                  </a:lnTo>
                  <a:lnTo>
                    <a:pt x="91" y="420"/>
                  </a:lnTo>
                  <a:lnTo>
                    <a:pt x="82" y="408"/>
                  </a:lnTo>
                  <a:lnTo>
                    <a:pt x="78" y="401"/>
                  </a:lnTo>
                  <a:lnTo>
                    <a:pt x="76" y="395"/>
                  </a:lnTo>
                  <a:lnTo>
                    <a:pt x="74" y="388"/>
                  </a:lnTo>
                  <a:lnTo>
                    <a:pt x="71" y="380"/>
                  </a:lnTo>
                  <a:lnTo>
                    <a:pt x="68" y="346"/>
                  </a:lnTo>
                  <a:lnTo>
                    <a:pt x="63" y="313"/>
                  </a:lnTo>
                  <a:lnTo>
                    <a:pt x="61" y="305"/>
                  </a:lnTo>
                  <a:lnTo>
                    <a:pt x="57" y="297"/>
                  </a:lnTo>
                  <a:lnTo>
                    <a:pt x="53" y="290"/>
                  </a:lnTo>
                  <a:lnTo>
                    <a:pt x="46" y="283"/>
                  </a:lnTo>
                  <a:lnTo>
                    <a:pt x="38" y="276"/>
                  </a:lnTo>
                  <a:lnTo>
                    <a:pt x="27" y="269"/>
                  </a:lnTo>
                  <a:lnTo>
                    <a:pt x="14" y="263"/>
                  </a:lnTo>
                  <a:lnTo>
                    <a:pt x="0" y="256"/>
                  </a:lnTo>
                  <a:lnTo>
                    <a:pt x="11" y="253"/>
                  </a:lnTo>
                  <a:lnTo>
                    <a:pt x="24" y="247"/>
                  </a:lnTo>
                  <a:lnTo>
                    <a:pt x="38" y="237"/>
                  </a:lnTo>
                  <a:lnTo>
                    <a:pt x="53" y="227"/>
                  </a:lnTo>
                  <a:lnTo>
                    <a:pt x="69" y="215"/>
                  </a:lnTo>
                  <a:lnTo>
                    <a:pt x="87" y="201"/>
                  </a:lnTo>
                  <a:lnTo>
                    <a:pt x="104" y="186"/>
                  </a:lnTo>
                  <a:lnTo>
                    <a:pt x="122" y="168"/>
                  </a:lnTo>
                  <a:lnTo>
                    <a:pt x="140" y="150"/>
                  </a:lnTo>
                  <a:lnTo>
                    <a:pt x="158" y="131"/>
                  </a:lnTo>
                  <a:lnTo>
                    <a:pt x="174" y="110"/>
                  </a:lnTo>
                  <a:lnTo>
                    <a:pt x="191" y="89"/>
                  </a:lnTo>
                  <a:lnTo>
                    <a:pt x="206" y="68"/>
                  </a:lnTo>
                  <a:lnTo>
                    <a:pt x="221" y="46"/>
                  </a:lnTo>
                  <a:lnTo>
                    <a:pt x="234" y="22"/>
                  </a:lnTo>
                  <a:lnTo>
                    <a:pt x="244" y="0"/>
                  </a:lnTo>
                  <a:lnTo>
                    <a:pt x="564" y="0"/>
                  </a:lnTo>
                  <a:lnTo>
                    <a:pt x="589" y="24"/>
                  </a:lnTo>
                  <a:lnTo>
                    <a:pt x="613" y="44"/>
                  </a:lnTo>
                  <a:lnTo>
                    <a:pt x="638" y="62"/>
                  </a:lnTo>
                  <a:lnTo>
                    <a:pt x="663" y="76"/>
                  </a:lnTo>
                  <a:lnTo>
                    <a:pt x="687" y="89"/>
                  </a:lnTo>
                  <a:lnTo>
                    <a:pt x="712" y="100"/>
                  </a:lnTo>
                  <a:lnTo>
                    <a:pt x="736" y="109"/>
                  </a:lnTo>
                  <a:lnTo>
                    <a:pt x="761" y="115"/>
                  </a:lnTo>
                  <a:lnTo>
                    <a:pt x="784" y="121"/>
                  </a:lnTo>
                  <a:lnTo>
                    <a:pt x="809" y="124"/>
                  </a:lnTo>
                  <a:lnTo>
                    <a:pt x="832" y="126"/>
                  </a:lnTo>
                  <a:lnTo>
                    <a:pt x="856" y="128"/>
                  </a:lnTo>
                  <a:lnTo>
                    <a:pt x="903" y="126"/>
                  </a:lnTo>
                  <a:lnTo>
                    <a:pt x="950" y="124"/>
                  </a:lnTo>
                  <a:lnTo>
                    <a:pt x="978" y="123"/>
                  </a:lnTo>
                  <a:lnTo>
                    <a:pt x="1005" y="123"/>
                  </a:lnTo>
                  <a:lnTo>
                    <a:pt x="1031" y="124"/>
                  </a:lnTo>
                  <a:lnTo>
                    <a:pt x="1056" y="125"/>
                  </a:lnTo>
                  <a:lnTo>
                    <a:pt x="1081" y="128"/>
                  </a:lnTo>
                  <a:lnTo>
                    <a:pt x="1104" y="130"/>
                  </a:lnTo>
                  <a:lnTo>
                    <a:pt x="1126" y="135"/>
                  </a:lnTo>
                  <a:lnTo>
                    <a:pt x="1148" y="139"/>
                  </a:lnTo>
                  <a:lnTo>
                    <a:pt x="1168" y="145"/>
                  </a:lnTo>
                  <a:lnTo>
                    <a:pt x="1187" y="151"/>
                  </a:lnTo>
                  <a:lnTo>
                    <a:pt x="1205" y="159"/>
                  </a:lnTo>
                  <a:lnTo>
                    <a:pt x="1220" y="168"/>
                  </a:lnTo>
                  <a:lnTo>
                    <a:pt x="1234" y="178"/>
                  </a:lnTo>
                  <a:lnTo>
                    <a:pt x="1245" y="190"/>
                  </a:lnTo>
                  <a:lnTo>
                    <a:pt x="1251" y="195"/>
                  </a:lnTo>
                  <a:lnTo>
                    <a:pt x="1256" y="202"/>
                  </a:lnTo>
                  <a:lnTo>
                    <a:pt x="1261" y="209"/>
                  </a:lnTo>
                  <a:lnTo>
                    <a:pt x="1264" y="216"/>
                  </a:lnTo>
                  <a:lnTo>
                    <a:pt x="1256" y="234"/>
                  </a:lnTo>
                  <a:lnTo>
                    <a:pt x="1248" y="253"/>
                  </a:lnTo>
                  <a:lnTo>
                    <a:pt x="1242" y="270"/>
                  </a:lnTo>
                  <a:lnTo>
                    <a:pt x="1235" y="289"/>
                  </a:lnTo>
                  <a:lnTo>
                    <a:pt x="1224" y="325"/>
                  </a:lnTo>
                  <a:lnTo>
                    <a:pt x="1215" y="358"/>
                  </a:lnTo>
                  <a:lnTo>
                    <a:pt x="1254" y="327"/>
                  </a:lnTo>
                  <a:lnTo>
                    <a:pt x="1287" y="298"/>
                  </a:lnTo>
                  <a:lnTo>
                    <a:pt x="1318" y="270"/>
                  </a:lnTo>
                  <a:lnTo>
                    <a:pt x="1346" y="246"/>
                  </a:lnTo>
                  <a:lnTo>
                    <a:pt x="1359" y="234"/>
                  </a:lnTo>
                  <a:lnTo>
                    <a:pt x="1370" y="225"/>
                  </a:lnTo>
                  <a:lnTo>
                    <a:pt x="1382" y="216"/>
                  </a:lnTo>
                  <a:lnTo>
                    <a:pt x="1393" y="209"/>
                  </a:lnTo>
                  <a:lnTo>
                    <a:pt x="1403" y="205"/>
                  </a:lnTo>
                  <a:lnTo>
                    <a:pt x="1412" y="201"/>
                  </a:lnTo>
                  <a:lnTo>
                    <a:pt x="1422" y="200"/>
                  </a:lnTo>
                  <a:lnTo>
                    <a:pt x="1431" y="202"/>
                  </a:lnTo>
                  <a:lnTo>
                    <a:pt x="1411" y="235"/>
                  </a:lnTo>
                  <a:lnTo>
                    <a:pt x="1394" y="271"/>
                  </a:lnTo>
                  <a:lnTo>
                    <a:pt x="1384" y="289"/>
                  </a:lnTo>
                  <a:lnTo>
                    <a:pt x="1377" y="307"/>
                  </a:lnTo>
                  <a:lnTo>
                    <a:pt x="1370" y="326"/>
                  </a:lnTo>
                  <a:lnTo>
                    <a:pt x="1363" y="346"/>
                  </a:lnTo>
                  <a:lnTo>
                    <a:pt x="1358" y="365"/>
                  </a:lnTo>
                  <a:lnTo>
                    <a:pt x="1352" y="385"/>
                  </a:lnTo>
                  <a:lnTo>
                    <a:pt x="1347" y="404"/>
                  </a:lnTo>
                  <a:lnTo>
                    <a:pt x="1344" y="424"/>
                  </a:lnTo>
                  <a:lnTo>
                    <a:pt x="1340" y="445"/>
                  </a:lnTo>
                  <a:lnTo>
                    <a:pt x="1338" y="466"/>
                  </a:lnTo>
                  <a:lnTo>
                    <a:pt x="1337" y="486"/>
                  </a:lnTo>
                  <a:lnTo>
                    <a:pt x="1335" y="507"/>
                  </a:lnTo>
                  <a:lnTo>
                    <a:pt x="1335" y="528"/>
                  </a:lnTo>
                  <a:lnTo>
                    <a:pt x="1337" y="549"/>
                  </a:lnTo>
                  <a:lnTo>
                    <a:pt x="1339" y="571"/>
                  </a:lnTo>
                  <a:lnTo>
                    <a:pt x="1341" y="592"/>
                  </a:lnTo>
                  <a:lnTo>
                    <a:pt x="1346" y="614"/>
                  </a:lnTo>
                  <a:lnTo>
                    <a:pt x="1351" y="636"/>
                  </a:lnTo>
                  <a:lnTo>
                    <a:pt x="1358" y="657"/>
                  </a:lnTo>
                  <a:lnTo>
                    <a:pt x="1365" y="679"/>
                  </a:lnTo>
                  <a:lnTo>
                    <a:pt x="1373" y="700"/>
                  </a:lnTo>
                  <a:lnTo>
                    <a:pt x="1383" y="722"/>
                  </a:lnTo>
                  <a:lnTo>
                    <a:pt x="1394" y="743"/>
                  </a:lnTo>
                  <a:lnTo>
                    <a:pt x="1407" y="764"/>
                  </a:lnTo>
                  <a:lnTo>
                    <a:pt x="1419" y="786"/>
                  </a:lnTo>
                  <a:lnTo>
                    <a:pt x="1435" y="807"/>
                  </a:lnTo>
                  <a:lnTo>
                    <a:pt x="1451" y="828"/>
                  </a:lnTo>
                  <a:lnTo>
                    <a:pt x="1469" y="849"/>
                  </a:lnTo>
                  <a:lnTo>
                    <a:pt x="781" y="8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Freeform 166"/>
            <p:cNvSpPr/>
            <p:nvPr/>
          </p:nvSpPr>
          <p:spPr>
            <a:xfrm>
              <a:off x="7229880" y="5087880"/>
              <a:ext cx="234360" cy="15048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1469" h="876">
                  <a:moveTo>
                    <a:pt x="781" y="876"/>
                  </a:moveTo>
                  <a:lnTo>
                    <a:pt x="761" y="875"/>
                  </a:lnTo>
                  <a:lnTo>
                    <a:pt x="741" y="872"/>
                  </a:lnTo>
                  <a:lnTo>
                    <a:pt x="720" y="867"/>
                  </a:lnTo>
                  <a:lnTo>
                    <a:pt x="699" y="860"/>
                  </a:lnTo>
                  <a:lnTo>
                    <a:pt x="677" y="851"/>
                  </a:lnTo>
                  <a:lnTo>
                    <a:pt x="656" y="840"/>
                  </a:lnTo>
                  <a:lnTo>
                    <a:pt x="633" y="827"/>
                  </a:lnTo>
                  <a:lnTo>
                    <a:pt x="612" y="814"/>
                  </a:lnTo>
                  <a:lnTo>
                    <a:pt x="592" y="799"/>
                  </a:lnTo>
                  <a:lnTo>
                    <a:pt x="573" y="783"/>
                  </a:lnTo>
                  <a:lnTo>
                    <a:pt x="555" y="767"/>
                  </a:lnTo>
                  <a:lnTo>
                    <a:pt x="538" y="749"/>
                  </a:lnTo>
                  <a:lnTo>
                    <a:pt x="522" y="730"/>
                  </a:lnTo>
                  <a:lnTo>
                    <a:pt x="508" y="712"/>
                  </a:lnTo>
                  <a:lnTo>
                    <a:pt x="497" y="693"/>
                  </a:lnTo>
                  <a:lnTo>
                    <a:pt x="486" y="674"/>
                  </a:lnTo>
                  <a:lnTo>
                    <a:pt x="486" y="670"/>
                  </a:lnTo>
                  <a:lnTo>
                    <a:pt x="484" y="656"/>
                  </a:lnTo>
                  <a:lnTo>
                    <a:pt x="481" y="646"/>
                  </a:lnTo>
                  <a:lnTo>
                    <a:pt x="478" y="636"/>
                  </a:lnTo>
                  <a:lnTo>
                    <a:pt x="473" y="625"/>
                  </a:lnTo>
                  <a:lnTo>
                    <a:pt x="467" y="612"/>
                  </a:lnTo>
                  <a:lnTo>
                    <a:pt x="459" y="601"/>
                  </a:lnTo>
                  <a:lnTo>
                    <a:pt x="450" y="588"/>
                  </a:lnTo>
                  <a:lnTo>
                    <a:pt x="439" y="575"/>
                  </a:lnTo>
                  <a:lnTo>
                    <a:pt x="425" y="563"/>
                  </a:lnTo>
                  <a:lnTo>
                    <a:pt x="410" y="553"/>
                  </a:lnTo>
                  <a:lnTo>
                    <a:pt x="393" y="542"/>
                  </a:lnTo>
                  <a:lnTo>
                    <a:pt x="382" y="539"/>
                  </a:lnTo>
                  <a:lnTo>
                    <a:pt x="372" y="534"/>
                  </a:lnTo>
                  <a:lnTo>
                    <a:pt x="360" y="531"/>
                  </a:lnTo>
                  <a:lnTo>
                    <a:pt x="348" y="527"/>
                  </a:lnTo>
                  <a:lnTo>
                    <a:pt x="299" y="515"/>
                  </a:lnTo>
                  <a:lnTo>
                    <a:pt x="251" y="501"/>
                  </a:lnTo>
                  <a:lnTo>
                    <a:pt x="228" y="494"/>
                  </a:lnTo>
                  <a:lnTo>
                    <a:pt x="206" y="487"/>
                  </a:lnTo>
                  <a:lnTo>
                    <a:pt x="185" y="479"/>
                  </a:lnTo>
                  <a:lnTo>
                    <a:pt x="166" y="471"/>
                  </a:lnTo>
                  <a:lnTo>
                    <a:pt x="147" y="462"/>
                  </a:lnTo>
                  <a:lnTo>
                    <a:pt x="131" y="452"/>
                  </a:lnTo>
                  <a:lnTo>
                    <a:pt x="116" y="443"/>
                  </a:lnTo>
                  <a:lnTo>
                    <a:pt x="102" y="431"/>
                  </a:lnTo>
                  <a:lnTo>
                    <a:pt x="91" y="420"/>
                  </a:lnTo>
                  <a:lnTo>
                    <a:pt x="82" y="408"/>
                  </a:lnTo>
                  <a:lnTo>
                    <a:pt x="78" y="401"/>
                  </a:lnTo>
                  <a:lnTo>
                    <a:pt x="76" y="395"/>
                  </a:lnTo>
                  <a:lnTo>
                    <a:pt x="74" y="388"/>
                  </a:lnTo>
                  <a:lnTo>
                    <a:pt x="71" y="380"/>
                  </a:lnTo>
                  <a:lnTo>
                    <a:pt x="68" y="346"/>
                  </a:lnTo>
                  <a:lnTo>
                    <a:pt x="63" y="313"/>
                  </a:lnTo>
                  <a:lnTo>
                    <a:pt x="61" y="305"/>
                  </a:lnTo>
                  <a:lnTo>
                    <a:pt x="57" y="297"/>
                  </a:lnTo>
                  <a:lnTo>
                    <a:pt x="53" y="290"/>
                  </a:lnTo>
                  <a:lnTo>
                    <a:pt x="46" y="283"/>
                  </a:lnTo>
                  <a:lnTo>
                    <a:pt x="38" y="276"/>
                  </a:lnTo>
                  <a:lnTo>
                    <a:pt x="27" y="269"/>
                  </a:lnTo>
                  <a:lnTo>
                    <a:pt x="14" y="263"/>
                  </a:lnTo>
                  <a:lnTo>
                    <a:pt x="0" y="256"/>
                  </a:lnTo>
                  <a:lnTo>
                    <a:pt x="11" y="253"/>
                  </a:lnTo>
                  <a:lnTo>
                    <a:pt x="24" y="247"/>
                  </a:lnTo>
                  <a:lnTo>
                    <a:pt x="38" y="237"/>
                  </a:lnTo>
                  <a:lnTo>
                    <a:pt x="53" y="227"/>
                  </a:lnTo>
                  <a:lnTo>
                    <a:pt x="69" y="215"/>
                  </a:lnTo>
                  <a:lnTo>
                    <a:pt x="87" y="201"/>
                  </a:lnTo>
                  <a:lnTo>
                    <a:pt x="104" y="186"/>
                  </a:lnTo>
                  <a:lnTo>
                    <a:pt x="122" y="168"/>
                  </a:lnTo>
                  <a:lnTo>
                    <a:pt x="140" y="150"/>
                  </a:lnTo>
                  <a:lnTo>
                    <a:pt x="158" y="131"/>
                  </a:lnTo>
                  <a:lnTo>
                    <a:pt x="174" y="110"/>
                  </a:lnTo>
                  <a:lnTo>
                    <a:pt x="191" y="89"/>
                  </a:lnTo>
                  <a:lnTo>
                    <a:pt x="206" y="68"/>
                  </a:lnTo>
                  <a:lnTo>
                    <a:pt x="221" y="46"/>
                  </a:lnTo>
                  <a:lnTo>
                    <a:pt x="234" y="22"/>
                  </a:lnTo>
                  <a:lnTo>
                    <a:pt x="244" y="0"/>
                  </a:lnTo>
                  <a:lnTo>
                    <a:pt x="564" y="0"/>
                  </a:lnTo>
                  <a:lnTo>
                    <a:pt x="589" y="24"/>
                  </a:lnTo>
                  <a:lnTo>
                    <a:pt x="613" y="44"/>
                  </a:lnTo>
                  <a:lnTo>
                    <a:pt x="638" y="62"/>
                  </a:lnTo>
                  <a:lnTo>
                    <a:pt x="663" y="76"/>
                  </a:lnTo>
                  <a:lnTo>
                    <a:pt x="687" y="89"/>
                  </a:lnTo>
                  <a:lnTo>
                    <a:pt x="712" y="100"/>
                  </a:lnTo>
                  <a:lnTo>
                    <a:pt x="736" y="109"/>
                  </a:lnTo>
                  <a:lnTo>
                    <a:pt x="761" y="115"/>
                  </a:lnTo>
                  <a:lnTo>
                    <a:pt x="784" y="121"/>
                  </a:lnTo>
                  <a:lnTo>
                    <a:pt x="809" y="124"/>
                  </a:lnTo>
                  <a:lnTo>
                    <a:pt x="832" y="126"/>
                  </a:lnTo>
                  <a:lnTo>
                    <a:pt x="856" y="128"/>
                  </a:lnTo>
                  <a:lnTo>
                    <a:pt x="903" y="126"/>
                  </a:lnTo>
                  <a:lnTo>
                    <a:pt x="950" y="124"/>
                  </a:lnTo>
                  <a:lnTo>
                    <a:pt x="978" y="123"/>
                  </a:lnTo>
                  <a:lnTo>
                    <a:pt x="1005" y="123"/>
                  </a:lnTo>
                  <a:lnTo>
                    <a:pt x="1031" y="124"/>
                  </a:lnTo>
                  <a:lnTo>
                    <a:pt x="1056" y="125"/>
                  </a:lnTo>
                  <a:lnTo>
                    <a:pt x="1081" y="128"/>
                  </a:lnTo>
                  <a:lnTo>
                    <a:pt x="1104" y="130"/>
                  </a:lnTo>
                  <a:lnTo>
                    <a:pt x="1126" y="135"/>
                  </a:lnTo>
                  <a:lnTo>
                    <a:pt x="1148" y="139"/>
                  </a:lnTo>
                  <a:lnTo>
                    <a:pt x="1168" y="145"/>
                  </a:lnTo>
                  <a:lnTo>
                    <a:pt x="1187" y="151"/>
                  </a:lnTo>
                  <a:lnTo>
                    <a:pt x="1205" y="159"/>
                  </a:lnTo>
                  <a:lnTo>
                    <a:pt x="1220" y="168"/>
                  </a:lnTo>
                  <a:lnTo>
                    <a:pt x="1234" y="178"/>
                  </a:lnTo>
                  <a:lnTo>
                    <a:pt x="1245" y="190"/>
                  </a:lnTo>
                  <a:lnTo>
                    <a:pt x="1251" y="195"/>
                  </a:lnTo>
                  <a:lnTo>
                    <a:pt x="1256" y="202"/>
                  </a:lnTo>
                  <a:lnTo>
                    <a:pt x="1261" y="209"/>
                  </a:lnTo>
                  <a:lnTo>
                    <a:pt x="1264" y="216"/>
                  </a:lnTo>
                  <a:lnTo>
                    <a:pt x="1256" y="234"/>
                  </a:lnTo>
                  <a:lnTo>
                    <a:pt x="1248" y="253"/>
                  </a:lnTo>
                  <a:lnTo>
                    <a:pt x="1242" y="270"/>
                  </a:lnTo>
                  <a:lnTo>
                    <a:pt x="1235" y="289"/>
                  </a:lnTo>
                  <a:lnTo>
                    <a:pt x="1224" y="325"/>
                  </a:lnTo>
                  <a:lnTo>
                    <a:pt x="1215" y="358"/>
                  </a:lnTo>
                  <a:lnTo>
                    <a:pt x="1254" y="327"/>
                  </a:lnTo>
                  <a:lnTo>
                    <a:pt x="1287" y="298"/>
                  </a:lnTo>
                  <a:lnTo>
                    <a:pt x="1318" y="270"/>
                  </a:lnTo>
                  <a:lnTo>
                    <a:pt x="1346" y="246"/>
                  </a:lnTo>
                  <a:lnTo>
                    <a:pt x="1359" y="234"/>
                  </a:lnTo>
                  <a:lnTo>
                    <a:pt x="1370" y="225"/>
                  </a:lnTo>
                  <a:lnTo>
                    <a:pt x="1382" y="216"/>
                  </a:lnTo>
                  <a:lnTo>
                    <a:pt x="1393" y="209"/>
                  </a:lnTo>
                  <a:lnTo>
                    <a:pt x="1403" y="205"/>
                  </a:lnTo>
                  <a:lnTo>
                    <a:pt x="1412" y="201"/>
                  </a:lnTo>
                  <a:lnTo>
                    <a:pt x="1422" y="200"/>
                  </a:lnTo>
                  <a:lnTo>
                    <a:pt x="1431" y="202"/>
                  </a:lnTo>
                  <a:lnTo>
                    <a:pt x="1411" y="235"/>
                  </a:lnTo>
                  <a:lnTo>
                    <a:pt x="1394" y="271"/>
                  </a:lnTo>
                  <a:lnTo>
                    <a:pt x="1384" y="289"/>
                  </a:lnTo>
                  <a:lnTo>
                    <a:pt x="1377" y="307"/>
                  </a:lnTo>
                  <a:lnTo>
                    <a:pt x="1370" y="326"/>
                  </a:lnTo>
                  <a:lnTo>
                    <a:pt x="1363" y="346"/>
                  </a:lnTo>
                  <a:lnTo>
                    <a:pt x="1358" y="365"/>
                  </a:lnTo>
                  <a:lnTo>
                    <a:pt x="1352" y="385"/>
                  </a:lnTo>
                  <a:lnTo>
                    <a:pt x="1347" y="404"/>
                  </a:lnTo>
                  <a:lnTo>
                    <a:pt x="1344" y="424"/>
                  </a:lnTo>
                  <a:lnTo>
                    <a:pt x="1340" y="445"/>
                  </a:lnTo>
                  <a:lnTo>
                    <a:pt x="1338" y="466"/>
                  </a:lnTo>
                  <a:lnTo>
                    <a:pt x="1337" y="486"/>
                  </a:lnTo>
                  <a:lnTo>
                    <a:pt x="1335" y="507"/>
                  </a:lnTo>
                  <a:lnTo>
                    <a:pt x="1335" y="528"/>
                  </a:lnTo>
                  <a:lnTo>
                    <a:pt x="1337" y="549"/>
                  </a:lnTo>
                  <a:lnTo>
                    <a:pt x="1339" y="571"/>
                  </a:lnTo>
                  <a:lnTo>
                    <a:pt x="1341" y="592"/>
                  </a:lnTo>
                  <a:lnTo>
                    <a:pt x="1346" y="614"/>
                  </a:lnTo>
                  <a:lnTo>
                    <a:pt x="1351" y="636"/>
                  </a:lnTo>
                  <a:lnTo>
                    <a:pt x="1358" y="657"/>
                  </a:lnTo>
                  <a:lnTo>
                    <a:pt x="1365" y="679"/>
                  </a:lnTo>
                  <a:lnTo>
                    <a:pt x="1373" y="700"/>
                  </a:lnTo>
                  <a:lnTo>
                    <a:pt x="1383" y="722"/>
                  </a:lnTo>
                  <a:lnTo>
                    <a:pt x="1394" y="743"/>
                  </a:lnTo>
                  <a:lnTo>
                    <a:pt x="1407" y="764"/>
                  </a:lnTo>
                  <a:lnTo>
                    <a:pt x="1419" y="786"/>
                  </a:lnTo>
                  <a:lnTo>
                    <a:pt x="1435" y="807"/>
                  </a:lnTo>
                  <a:lnTo>
                    <a:pt x="1451" y="828"/>
                  </a:lnTo>
                  <a:lnTo>
                    <a:pt x="1469" y="849"/>
                  </a:lnTo>
                  <a:lnTo>
                    <a:pt x="781" y="87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Freeform 167"/>
            <p:cNvSpPr/>
            <p:nvPr/>
          </p:nvSpPr>
          <p:spPr>
            <a:xfrm>
              <a:off x="7129080" y="5322600"/>
              <a:ext cx="348840" cy="210960"/>
            </a:xfrm>
            <a:custGeom>
              <a:avLst/>
              <a:gdLst>
                <a:gd name="textAreaLeft" fmla="*/ 0 w 348840"/>
                <a:gd name="textAreaRight" fmla="*/ 349200 w 34884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180" h="1227">
                  <a:moveTo>
                    <a:pt x="1270" y="0"/>
                  </a:moveTo>
                  <a:lnTo>
                    <a:pt x="0" y="37"/>
                  </a:lnTo>
                  <a:lnTo>
                    <a:pt x="5" y="65"/>
                  </a:lnTo>
                  <a:lnTo>
                    <a:pt x="12" y="94"/>
                  </a:lnTo>
                  <a:lnTo>
                    <a:pt x="20" y="118"/>
                  </a:lnTo>
                  <a:lnTo>
                    <a:pt x="28" y="140"/>
                  </a:lnTo>
                  <a:lnTo>
                    <a:pt x="34" y="150"/>
                  </a:lnTo>
                  <a:lnTo>
                    <a:pt x="39" y="158"/>
                  </a:lnTo>
                  <a:lnTo>
                    <a:pt x="45" y="166"/>
                  </a:lnTo>
                  <a:lnTo>
                    <a:pt x="51" y="172"/>
                  </a:lnTo>
                  <a:lnTo>
                    <a:pt x="56" y="178"/>
                  </a:lnTo>
                  <a:lnTo>
                    <a:pt x="63" y="181"/>
                  </a:lnTo>
                  <a:lnTo>
                    <a:pt x="70" y="183"/>
                  </a:lnTo>
                  <a:lnTo>
                    <a:pt x="77" y="185"/>
                  </a:lnTo>
                  <a:lnTo>
                    <a:pt x="86" y="202"/>
                  </a:lnTo>
                  <a:lnTo>
                    <a:pt x="93" y="217"/>
                  </a:lnTo>
                  <a:lnTo>
                    <a:pt x="100" y="228"/>
                  </a:lnTo>
                  <a:lnTo>
                    <a:pt x="107" y="235"/>
                  </a:lnTo>
                  <a:lnTo>
                    <a:pt x="110" y="238"/>
                  </a:lnTo>
                  <a:lnTo>
                    <a:pt x="115" y="240"/>
                  </a:lnTo>
                  <a:lnTo>
                    <a:pt x="118" y="241"/>
                  </a:lnTo>
                  <a:lnTo>
                    <a:pt x="123" y="242"/>
                  </a:lnTo>
                  <a:lnTo>
                    <a:pt x="133" y="242"/>
                  </a:lnTo>
                  <a:lnTo>
                    <a:pt x="146" y="238"/>
                  </a:lnTo>
                  <a:lnTo>
                    <a:pt x="174" y="235"/>
                  </a:lnTo>
                  <a:lnTo>
                    <a:pt x="201" y="231"/>
                  </a:lnTo>
                  <a:lnTo>
                    <a:pt x="213" y="231"/>
                  </a:lnTo>
                  <a:lnTo>
                    <a:pt x="223" y="233"/>
                  </a:lnTo>
                  <a:lnTo>
                    <a:pt x="233" y="234"/>
                  </a:lnTo>
                  <a:lnTo>
                    <a:pt x="242" y="236"/>
                  </a:lnTo>
                  <a:lnTo>
                    <a:pt x="249" y="240"/>
                  </a:lnTo>
                  <a:lnTo>
                    <a:pt x="256" y="244"/>
                  </a:lnTo>
                  <a:lnTo>
                    <a:pt x="261" y="250"/>
                  </a:lnTo>
                  <a:lnTo>
                    <a:pt x="264" y="257"/>
                  </a:lnTo>
                  <a:lnTo>
                    <a:pt x="267" y="266"/>
                  </a:lnTo>
                  <a:lnTo>
                    <a:pt x="267" y="277"/>
                  </a:lnTo>
                  <a:lnTo>
                    <a:pt x="265" y="289"/>
                  </a:lnTo>
                  <a:lnTo>
                    <a:pt x="262" y="303"/>
                  </a:lnTo>
                  <a:lnTo>
                    <a:pt x="261" y="306"/>
                  </a:lnTo>
                  <a:lnTo>
                    <a:pt x="261" y="311"/>
                  </a:lnTo>
                  <a:lnTo>
                    <a:pt x="262" y="314"/>
                  </a:lnTo>
                  <a:lnTo>
                    <a:pt x="263" y="318"/>
                  </a:lnTo>
                  <a:lnTo>
                    <a:pt x="268" y="326"/>
                  </a:lnTo>
                  <a:lnTo>
                    <a:pt x="275" y="332"/>
                  </a:lnTo>
                  <a:lnTo>
                    <a:pt x="284" y="339"/>
                  </a:lnTo>
                  <a:lnTo>
                    <a:pt x="293" y="345"/>
                  </a:lnTo>
                  <a:lnTo>
                    <a:pt x="305" y="351"/>
                  </a:lnTo>
                  <a:lnTo>
                    <a:pt x="317" y="356"/>
                  </a:lnTo>
                  <a:lnTo>
                    <a:pt x="339" y="368"/>
                  </a:lnTo>
                  <a:lnTo>
                    <a:pt x="358" y="380"/>
                  </a:lnTo>
                  <a:lnTo>
                    <a:pt x="365" y="386"/>
                  </a:lnTo>
                  <a:lnTo>
                    <a:pt x="371" y="391"/>
                  </a:lnTo>
                  <a:lnTo>
                    <a:pt x="372" y="395"/>
                  </a:lnTo>
                  <a:lnTo>
                    <a:pt x="372" y="398"/>
                  </a:lnTo>
                  <a:lnTo>
                    <a:pt x="372" y="402"/>
                  </a:lnTo>
                  <a:lnTo>
                    <a:pt x="372" y="405"/>
                  </a:lnTo>
                  <a:lnTo>
                    <a:pt x="368" y="1028"/>
                  </a:lnTo>
                  <a:lnTo>
                    <a:pt x="443" y="1199"/>
                  </a:lnTo>
                  <a:lnTo>
                    <a:pt x="1909" y="1144"/>
                  </a:lnTo>
                  <a:lnTo>
                    <a:pt x="1901" y="1227"/>
                  </a:lnTo>
                  <a:lnTo>
                    <a:pt x="2039" y="1213"/>
                  </a:lnTo>
                  <a:lnTo>
                    <a:pt x="2049" y="1202"/>
                  </a:lnTo>
                  <a:lnTo>
                    <a:pt x="2059" y="1192"/>
                  </a:lnTo>
                  <a:lnTo>
                    <a:pt x="2066" y="1181"/>
                  </a:lnTo>
                  <a:lnTo>
                    <a:pt x="2070" y="1172"/>
                  </a:lnTo>
                  <a:lnTo>
                    <a:pt x="2075" y="1163"/>
                  </a:lnTo>
                  <a:lnTo>
                    <a:pt x="2077" y="1154"/>
                  </a:lnTo>
                  <a:lnTo>
                    <a:pt x="2080" y="1146"/>
                  </a:lnTo>
                  <a:lnTo>
                    <a:pt x="2081" y="1137"/>
                  </a:lnTo>
                  <a:lnTo>
                    <a:pt x="2081" y="1120"/>
                  </a:lnTo>
                  <a:lnTo>
                    <a:pt x="2081" y="1102"/>
                  </a:lnTo>
                  <a:lnTo>
                    <a:pt x="2081" y="1092"/>
                  </a:lnTo>
                  <a:lnTo>
                    <a:pt x="2082" y="1082"/>
                  </a:lnTo>
                  <a:lnTo>
                    <a:pt x="2083" y="1071"/>
                  </a:lnTo>
                  <a:lnTo>
                    <a:pt x="2085" y="1060"/>
                  </a:lnTo>
                  <a:lnTo>
                    <a:pt x="2092" y="1037"/>
                  </a:lnTo>
                  <a:lnTo>
                    <a:pt x="2101" y="1016"/>
                  </a:lnTo>
                  <a:lnTo>
                    <a:pt x="2110" y="996"/>
                  </a:lnTo>
                  <a:lnTo>
                    <a:pt x="2122" y="979"/>
                  </a:lnTo>
                  <a:lnTo>
                    <a:pt x="2134" y="961"/>
                  </a:lnTo>
                  <a:lnTo>
                    <a:pt x="2148" y="945"/>
                  </a:lnTo>
                  <a:lnTo>
                    <a:pt x="2164" y="931"/>
                  </a:lnTo>
                  <a:lnTo>
                    <a:pt x="2180" y="918"/>
                  </a:lnTo>
                  <a:lnTo>
                    <a:pt x="2179" y="901"/>
                  </a:lnTo>
                  <a:lnTo>
                    <a:pt x="2176" y="887"/>
                  </a:lnTo>
                  <a:lnTo>
                    <a:pt x="2174" y="881"/>
                  </a:lnTo>
                  <a:lnTo>
                    <a:pt x="2172" y="876"/>
                  </a:lnTo>
                  <a:lnTo>
                    <a:pt x="2169" y="871"/>
                  </a:lnTo>
                  <a:lnTo>
                    <a:pt x="2167" y="868"/>
                  </a:lnTo>
                  <a:lnTo>
                    <a:pt x="2160" y="862"/>
                  </a:lnTo>
                  <a:lnTo>
                    <a:pt x="2152" y="859"/>
                  </a:lnTo>
                  <a:lnTo>
                    <a:pt x="2143" y="856"/>
                  </a:lnTo>
                  <a:lnTo>
                    <a:pt x="2133" y="855"/>
                  </a:lnTo>
                  <a:lnTo>
                    <a:pt x="2111" y="854"/>
                  </a:lnTo>
                  <a:lnTo>
                    <a:pt x="2088" y="852"/>
                  </a:lnTo>
                  <a:lnTo>
                    <a:pt x="2075" y="848"/>
                  </a:lnTo>
                  <a:lnTo>
                    <a:pt x="2063" y="843"/>
                  </a:lnTo>
                  <a:lnTo>
                    <a:pt x="2057" y="840"/>
                  </a:lnTo>
                  <a:lnTo>
                    <a:pt x="2050" y="836"/>
                  </a:lnTo>
                  <a:lnTo>
                    <a:pt x="2044" y="832"/>
                  </a:lnTo>
                  <a:lnTo>
                    <a:pt x="2039" y="826"/>
                  </a:lnTo>
                  <a:lnTo>
                    <a:pt x="2039" y="804"/>
                  </a:lnTo>
                  <a:lnTo>
                    <a:pt x="2037" y="783"/>
                  </a:lnTo>
                  <a:lnTo>
                    <a:pt x="2035" y="763"/>
                  </a:lnTo>
                  <a:lnTo>
                    <a:pt x="2032" y="744"/>
                  </a:lnTo>
                  <a:lnTo>
                    <a:pt x="2027" y="728"/>
                  </a:lnTo>
                  <a:lnTo>
                    <a:pt x="2021" y="711"/>
                  </a:lnTo>
                  <a:lnTo>
                    <a:pt x="2013" y="696"/>
                  </a:lnTo>
                  <a:lnTo>
                    <a:pt x="2004" y="682"/>
                  </a:lnTo>
                  <a:lnTo>
                    <a:pt x="1992" y="668"/>
                  </a:lnTo>
                  <a:lnTo>
                    <a:pt x="1978" y="655"/>
                  </a:lnTo>
                  <a:lnTo>
                    <a:pt x="1962" y="644"/>
                  </a:lnTo>
                  <a:lnTo>
                    <a:pt x="1943" y="633"/>
                  </a:lnTo>
                  <a:lnTo>
                    <a:pt x="1922" y="623"/>
                  </a:lnTo>
                  <a:lnTo>
                    <a:pt x="1897" y="612"/>
                  </a:lnTo>
                  <a:lnTo>
                    <a:pt x="1870" y="603"/>
                  </a:lnTo>
                  <a:lnTo>
                    <a:pt x="1840" y="593"/>
                  </a:lnTo>
                  <a:lnTo>
                    <a:pt x="1810" y="584"/>
                  </a:lnTo>
                  <a:lnTo>
                    <a:pt x="1784" y="575"/>
                  </a:lnTo>
                  <a:lnTo>
                    <a:pt x="1762" y="564"/>
                  </a:lnTo>
                  <a:lnTo>
                    <a:pt x="1742" y="554"/>
                  </a:lnTo>
                  <a:lnTo>
                    <a:pt x="1726" y="543"/>
                  </a:lnTo>
                  <a:lnTo>
                    <a:pt x="1713" y="532"/>
                  </a:lnTo>
                  <a:lnTo>
                    <a:pt x="1701" y="520"/>
                  </a:lnTo>
                  <a:lnTo>
                    <a:pt x="1693" y="507"/>
                  </a:lnTo>
                  <a:lnTo>
                    <a:pt x="1687" y="495"/>
                  </a:lnTo>
                  <a:lnTo>
                    <a:pt x="1682" y="482"/>
                  </a:lnTo>
                  <a:lnTo>
                    <a:pt x="1680" y="471"/>
                  </a:lnTo>
                  <a:lnTo>
                    <a:pt x="1679" y="458"/>
                  </a:lnTo>
                  <a:lnTo>
                    <a:pt x="1679" y="445"/>
                  </a:lnTo>
                  <a:lnTo>
                    <a:pt x="1680" y="433"/>
                  </a:lnTo>
                  <a:lnTo>
                    <a:pt x="1682" y="421"/>
                  </a:lnTo>
                  <a:lnTo>
                    <a:pt x="1685" y="409"/>
                  </a:lnTo>
                  <a:lnTo>
                    <a:pt x="1686" y="398"/>
                  </a:lnTo>
                  <a:lnTo>
                    <a:pt x="1687" y="389"/>
                  </a:lnTo>
                  <a:lnTo>
                    <a:pt x="1685" y="382"/>
                  </a:lnTo>
                  <a:lnTo>
                    <a:pt x="1682" y="376"/>
                  </a:lnTo>
                  <a:lnTo>
                    <a:pt x="1678" y="370"/>
                  </a:lnTo>
                  <a:lnTo>
                    <a:pt x="1672" y="366"/>
                  </a:lnTo>
                  <a:lnTo>
                    <a:pt x="1664" y="362"/>
                  </a:lnTo>
                  <a:lnTo>
                    <a:pt x="1656" y="359"/>
                  </a:lnTo>
                  <a:lnTo>
                    <a:pt x="1609" y="348"/>
                  </a:lnTo>
                  <a:lnTo>
                    <a:pt x="1547" y="331"/>
                  </a:lnTo>
                  <a:lnTo>
                    <a:pt x="1529" y="325"/>
                  </a:lnTo>
                  <a:lnTo>
                    <a:pt x="1512" y="319"/>
                  </a:lnTo>
                  <a:lnTo>
                    <a:pt x="1495" y="312"/>
                  </a:lnTo>
                  <a:lnTo>
                    <a:pt x="1479" y="304"/>
                  </a:lnTo>
                  <a:lnTo>
                    <a:pt x="1465" y="296"/>
                  </a:lnTo>
                  <a:lnTo>
                    <a:pt x="1451" y="287"/>
                  </a:lnTo>
                  <a:lnTo>
                    <a:pt x="1438" y="278"/>
                  </a:lnTo>
                  <a:lnTo>
                    <a:pt x="1425" y="269"/>
                  </a:lnTo>
                  <a:lnTo>
                    <a:pt x="1415" y="259"/>
                  </a:lnTo>
                  <a:lnTo>
                    <a:pt x="1406" y="249"/>
                  </a:lnTo>
                  <a:lnTo>
                    <a:pt x="1396" y="240"/>
                  </a:lnTo>
                  <a:lnTo>
                    <a:pt x="1389" y="230"/>
                  </a:lnTo>
                  <a:lnTo>
                    <a:pt x="1385" y="221"/>
                  </a:lnTo>
                  <a:lnTo>
                    <a:pt x="1380" y="210"/>
                  </a:lnTo>
                  <a:lnTo>
                    <a:pt x="1377" y="202"/>
                  </a:lnTo>
                  <a:lnTo>
                    <a:pt x="1376" y="193"/>
                  </a:lnTo>
                  <a:lnTo>
                    <a:pt x="1375" y="185"/>
                  </a:lnTo>
                  <a:lnTo>
                    <a:pt x="1373" y="176"/>
                  </a:lnTo>
                  <a:lnTo>
                    <a:pt x="1368" y="168"/>
                  </a:lnTo>
                  <a:lnTo>
                    <a:pt x="1361" y="161"/>
                  </a:lnTo>
                  <a:lnTo>
                    <a:pt x="1354" y="154"/>
                  </a:lnTo>
                  <a:lnTo>
                    <a:pt x="1346" y="148"/>
                  </a:lnTo>
                  <a:lnTo>
                    <a:pt x="1338" y="143"/>
                  </a:lnTo>
                  <a:lnTo>
                    <a:pt x="1328" y="137"/>
                  </a:lnTo>
                  <a:lnTo>
                    <a:pt x="1296" y="120"/>
                  </a:lnTo>
                  <a:lnTo>
                    <a:pt x="1282" y="115"/>
                  </a:lnTo>
                  <a:lnTo>
                    <a:pt x="12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Freeform 168"/>
            <p:cNvSpPr/>
            <p:nvPr/>
          </p:nvSpPr>
          <p:spPr>
            <a:xfrm>
              <a:off x="7129080" y="5322600"/>
              <a:ext cx="348840" cy="210960"/>
            </a:xfrm>
            <a:custGeom>
              <a:avLst/>
              <a:gdLst>
                <a:gd name="textAreaLeft" fmla="*/ 0 w 348840"/>
                <a:gd name="textAreaRight" fmla="*/ 349200 w 34884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180" h="1227">
                  <a:moveTo>
                    <a:pt x="1270" y="0"/>
                  </a:moveTo>
                  <a:lnTo>
                    <a:pt x="0" y="37"/>
                  </a:lnTo>
                  <a:lnTo>
                    <a:pt x="5" y="65"/>
                  </a:lnTo>
                  <a:lnTo>
                    <a:pt x="12" y="94"/>
                  </a:lnTo>
                  <a:lnTo>
                    <a:pt x="20" y="118"/>
                  </a:lnTo>
                  <a:lnTo>
                    <a:pt x="28" y="140"/>
                  </a:lnTo>
                  <a:lnTo>
                    <a:pt x="34" y="150"/>
                  </a:lnTo>
                  <a:lnTo>
                    <a:pt x="39" y="158"/>
                  </a:lnTo>
                  <a:lnTo>
                    <a:pt x="45" y="166"/>
                  </a:lnTo>
                  <a:lnTo>
                    <a:pt x="51" y="172"/>
                  </a:lnTo>
                  <a:lnTo>
                    <a:pt x="56" y="178"/>
                  </a:lnTo>
                  <a:lnTo>
                    <a:pt x="63" y="181"/>
                  </a:lnTo>
                  <a:lnTo>
                    <a:pt x="70" y="183"/>
                  </a:lnTo>
                  <a:lnTo>
                    <a:pt x="77" y="185"/>
                  </a:lnTo>
                  <a:lnTo>
                    <a:pt x="86" y="202"/>
                  </a:lnTo>
                  <a:lnTo>
                    <a:pt x="93" y="217"/>
                  </a:lnTo>
                  <a:lnTo>
                    <a:pt x="100" y="228"/>
                  </a:lnTo>
                  <a:lnTo>
                    <a:pt x="107" y="235"/>
                  </a:lnTo>
                  <a:lnTo>
                    <a:pt x="110" y="238"/>
                  </a:lnTo>
                  <a:lnTo>
                    <a:pt x="115" y="240"/>
                  </a:lnTo>
                  <a:lnTo>
                    <a:pt x="118" y="241"/>
                  </a:lnTo>
                  <a:lnTo>
                    <a:pt x="123" y="242"/>
                  </a:lnTo>
                  <a:lnTo>
                    <a:pt x="133" y="242"/>
                  </a:lnTo>
                  <a:lnTo>
                    <a:pt x="146" y="238"/>
                  </a:lnTo>
                  <a:lnTo>
                    <a:pt x="174" y="235"/>
                  </a:lnTo>
                  <a:lnTo>
                    <a:pt x="201" y="231"/>
                  </a:lnTo>
                  <a:lnTo>
                    <a:pt x="213" y="231"/>
                  </a:lnTo>
                  <a:lnTo>
                    <a:pt x="223" y="233"/>
                  </a:lnTo>
                  <a:lnTo>
                    <a:pt x="233" y="234"/>
                  </a:lnTo>
                  <a:lnTo>
                    <a:pt x="242" y="236"/>
                  </a:lnTo>
                  <a:lnTo>
                    <a:pt x="249" y="240"/>
                  </a:lnTo>
                  <a:lnTo>
                    <a:pt x="256" y="244"/>
                  </a:lnTo>
                  <a:lnTo>
                    <a:pt x="261" y="250"/>
                  </a:lnTo>
                  <a:lnTo>
                    <a:pt x="264" y="257"/>
                  </a:lnTo>
                  <a:lnTo>
                    <a:pt x="267" y="266"/>
                  </a:lnTo>
                  <a:lnTo>
                    <a:pt x="267" y="277"/>
                  </a:lnTo>
                  <a:lnTo>
                    <a:pt x="265" y="289"/>
                  </a:lnTo>
                  <a:lnTo>
                    <a:pt x="262" y="303"/>
                  </a:lnTo>
                  <a:lnTo>
                    <a:pt x="261" y="306"/>
                  </a:lnTo>
                  <a:lnTo>
                    <a:pt x="261" y="311"/>
                  </a:lnTo>
                  <a:lnTo>
                    <a:pt x="262" y="314"/>
                  </a:lnTo>
                  <a:lnTo>
                    <a:pt x="263" y="318"/>
                  </a:lnTo>
                  <a:lnTo>
                    <a:pt x="268" y="326"/>
                  </a:lnTo>
                  <a:lnTo>
                    <a:pt x="275" y="332"/>
                  </a:lnTo>
                  <a:lnTo>
                    <a:pt x="284" y="339"/>
                  </a:lnTo>
                  <a:lnTo>
                    <a:pt x="293" y="345"/>
                  </a:lnTo>
                  <a:lnTo>
                    <a:pt x="305" y="351"/>
                  </a:lnTo>
                  <a:lnTo>
                    <a:pt x="317" y="356"/>
                  </a:lnTo>
                  <a:lnTo>
                    <a:pt x="339" y="368"/>
                  </a:lnTo>
                  <a:lnTo>
                    <a:pt x="358" y="380"/>
                  </a:lnTo>
                  <a:lnTo>
                    <a:pt x="365" y="386"/>
                  </a:lnTo>
                  <a:lnTo>
                    <a:pt x="371" y="391"/>
                  </a:lnTo>
                  <a:lnTo>
                    <a:pt x="372" y="395"/>
                  </a:lnTo>
                  <a:lnTo>
                    <a:pt x="372" y="398"/>
                  </a:lnTo>
                  <a:lnTo>
                    <a:pt x="372" y="402"/>
                  </a:lnTo>
                  <a:lnTo>
                    <a:pt x="372" y="405"/>
                  </a:lnTo>
                  <a:lnTo>
                    <a:pt x="368" y="1028"/>
                  </a:lnTo>
                  <a:lnTo>
                    <a:pt x="443" y="1199"/>
                  </a:lnTo>
                  <a:lnTo>
                    <a:pt x="1909" y="1144"/>
                  </a:lnTo>
                  <a:lnTo>
                    <a:pt x="1901" y="1227"/>
                  </a:lnTo>
                  <a:lnTo>
                    <a:pt x="2039" y="1213"/>
                  </a:lnTo>
                  <a:lnTo>
                    <a:pt x="2049" y="1202"/>
                  </a:lnTo>
                  <a:lnTo>
                    <a:pt x="2059" y="1192"/>
                  </a:lnTo>
                  <a:lnTo>
                    <a:pt x="2066" y="1181"/>
                  </a:lnTo>
                  <a:lnTo>
                    <a:pt x="2070" y="1172"/>
                  </a:lnTo>
                  <a:lnTo>
                    <a:pt x="2075" y="1163"/>
                  </a:lnTo>
                  <a:lnTo>
                    <a:pt x="2077" y="1154"/>
                  </a:lnTo>
                  <a:lnTo>
                    <a:pt x="2080" y="1146"/>
                  </a:lnTo>
                  <a:lnTo>
                    <a:pt x="2081" y="1137"/>
                  </a:lnTo>
                  <a:lnTo>
                    <a:pt x="2081" y="1120"/>
                  </a:lnTo>
                  <a:lnTo>
                    <a:pt x="2081" y="1102"/>
                  </a:lnTo>
                  <a:lnTo>
                    <a:pt x="2081" y="1092"/>
                  </a:lnTo>
                  <a:lnTo>
                    <a:pt x="2082" y="1082"/>
                  </a:lnTo>
                  <a:lnTo>
                    <a:pt x="2083" y="1071"/>
                  </a:lnTo>
                  <a:lnTo>
                    <a:pt x="2085" y="1060"/>
                  </a:lnTo>
                  <a:lnTo>
                    <a:pt x="2092" y="1037"/>
                  </a:lnTo>
                  <a:lnTo>
                    <a:pt x="2101" y="1016"/>
                  </a:lnTo>
                  <a:lnTo>
                    <a:pt x="2110" y="996"/>
                  </a:lnTo>
                  <a:lnTo>
                    <a:pt x="2122" y="979"/>
                  </a:lnTo>
                  <a:lnTo>
                    <a:pt x="2134" y="961"/>
                  </a:lnTo>
                  <a:lnTo>
                    <a:pt x="2148" y="945"/>
                  </a:lnTo>
                  <a:lnTo>
                    <a:pt x="2164" y="931"/>
                  </a:lnTo>
                  <a:lnTo>
                    <a:pt x="2180" y="918"/>
                  </a:lnTo>
                  <a:lnTo>
                    <a:pt x="2179" y="901"/>
                  </a:lnTo>
                  <a:lnTo>
                    <a:pt x="2176" y="887"/>
                  </a:lnTo>
                  <a:lnTo>
                    <a:pt x="2174" y="881"/>
                  </a:lnTo>
                  <a:lnTo>
                    <a:pt x="2172" y="876"/>
                  </a:lnTo>
                  <a:lnTo>
                    <a:pt x="2169" y="871"/>
                  </a:lnTo>
                  <a:lnTo>
                    <a:pt x="2167" y="868"/>
                  </a:lnTo>
                  <a:lnTo>
                    <a:pt x="2160" y="862"/>
                  </a:lnTo>
                  <a:lnTo>
                    <a:pt x="2152" y="859"/>
                  </a:lnTo>
                  <a:lnTo>
                    <a:pt x="2143" y="856"/>
                  </a:lnTo>
                  <a:lnTo>
                    <a:pt x="2133" y="855"/>
                  </a:lnTo>
                  <a:lnTo>
                    <a:pt x="2111" y="854"/>
                  </a:lnTo>
                  <a:lnTo>
                    <a:pt x="2088" y="852"/>
                  </a:lnTo>
                  <a:lnTo>
                    <a:pt x="2075" y="848"/>
                  </a:lnTo>
                  <a:lnTo>
                    <a:pt x="2063" y="843"/>
                  </a:lnTo>
                  <a:lnTo>
                    <a:pt x="2057" y="840"/>
                  </a:lnTo>
                  <a:lnTo>
                    <a:pt x="2050" y="836"/>
                  </a:lnTo>
                  <a:lnTo>
                    <a:pt x="2044" y="832"/>
                  </a:lnTo>
                  <a:lnTo>
                    <a:pt x="2039" y="826"/>
                  </a:lnTo>
                  <a:lnTo>
                    <a:pt x="2039" y="804"/>
                  </a:lnTo>
                  <a:lnTo>
                    <a:pt x="2037" y="783"/>
                  </a:lnTo>
                  <a:lnTo>
                    <a:pt x="2035" y="763"/>
                  </a:lnTo>
                  <a:lnTo>
                    <a:pt x="2032" y="744"/>
                  </a:lnTo>
                  <a:lnTo>
                    <a:pt x="2027" y="728"/>
                  </a:lnTo>
                  <a:lnTo>
                    <a:pt x="2021" y="711"/>
                  </a:lnTo>
                  <a:lnTo>
                    <a:pt x="2013" y="696"/>
                  </a:lnTo>
                  <a:lnTo>
                    <a:pt x="2004" y="682"/>
                  </a:lnTo>
                  <a:lnTo>
                    <a:pt x="1992" y="668"/>
                  </a:lnTo>
                  <a:lnTo>
                    <a:pt x="1978" y="655"/>
                  </a:lnTo>
                  <a:lnTo>
                    <a:pt x="1962" y="644"/>
                  </a:lnTo>
                  <a:lnTo>
                    <a:pt x="1943" y="633"/>
                  </a:lnTo>
                  <a:lnTo>
                    <a:pt x="1922" y="623"/>
                  </a:lnTo>
                  <a:lnTo>
                    <a:pt x="1897" y="612"/>
                  </a:lnTo>
                  <a:lnTo>
                    <a:pt x="1870" y="603"/>
                  </a:lnTo>
                  <a:lnTo>
                    <a:pt x="1840" y="593"/>
                  </a:lnTo>
                  <a:lnTo>
                    <a:pt x="1810" y="584"/>
                  </a:lnTo>
                  <a:lnTo>
                    <a:pt x="1784" y="575"/>
                  </a:lnTo>
                  <a:lnTo>
                    <a:pt x="1762" y="564"/>
                  </a:lnTo>
                  <a:lnTo>
                    <a:pt x="1742" y="554"/>
                  </a:lnTo>
                  <a:lnTo>
                    <a:pt x="1726" y="543"/>
                  </a:lnTo>
                  <a:lnTo>
                    <a:pt x="1713" y="532"/>
                  </a:lnTo>
                  <a:lnTo>
                    <a:pt x="1701" y="520"/>
                  </a:lnTo>
                  <a:lnTo>
                    <a:pt x="1693" y="507"/>
                  </a:lnTo>
                  <a:lnTo>
                    <a:pt x="1687" y="495"/>
                  </a:lnTo>
                  <a:lnTo>
                    <a:pt x="1682" y="482"/>
                  </a:lnTo>
                  <a:lnTo>
                    <a:pt x="1680" y="471"/>
                  </a:lnTo>
                  <a:lnTo>
                    <a:pt x="1679" y="458"/>
                  </a:lnTo>
                  <a:lnTo>
                    <a:pt x="1679" y="445"/>
                  </a:lnTo>
                  <a:lnTo>
                    <a:pt x="1680" y="433"/>
                  </a:lnTo>
                  <a:lnTo>
                    <a:pt x="1682" y="421"/>
                  </a:lnTo>
                  <a:lnTo>
                    <a:pt x="1685" y="409"/>
                  </a:lnTo>
                  <a:lnTo>
                    <a:pt x="1686" y="398"/>
                  </a:lnTo>
                  <a:lnTo>
                    <a:pt x="1687" y="389"/>
                  </a:lnTo>
                  <a:lnTo>
                    <a:pt x="1685" y="382"/>
                  </a:lnTo>
                  <a:lnTo>
                    <a:pt x="1682" y="376"/>
                  </a:lnTo>
                  <a:lnTo>
                    <a:pt x="1678" y="370"/>
                  </a:lnTo>
                  <a:lnTo>
                    <a:pt x="1672" y="366"/>
                  </a:lnTo>
                  <a:lnTo>
                    <a:pt x="1664" y="362"/>
                  </a:lnTo>
                  <a:lnTo>
                    <a:pt x="1656" y="359"/>
                  </a:lnTo>
                  <a:lnTo>
                    <a:pt x="1609" y="348"/>
                  </a:lnTo>
                  <a:lnTo>
                    <a:pt x="1547" y="331"/>
                  </a:lnTo>
                  <a:lnTo>
                    <a:pt x="1529" y="325"/>
                  </a:lnTo>
                  <a:lnTo>
                    <a:pt x="1512" y="319"/>
                  </a:lnTo>
                  <a:lnTo>
                    <a:pt x="1495" y="312"/>
                  </a:lnTo>
                  <a:lnTo>
                    <a:pt x="1479" y="304"/>
                  </a:lnTo>
                  <a:lnTo>
                    <a:pt x="1465" y="296"/>
                  </a:lnTo>
                  <a:lnTo>
                    <a:pt x="1451" y="287"/>
                  </a:lnTo>
                  <a:lnTo>
                    <a:pt x="1438" y="278"/>
                  </a:lnTo>
                  <a:lnTo>
                    <a:pt x="1425" y="269"/>
                  </a:lnTo>
                  <a:lnTo>
                    <a:pt x="1415" y="259"/>
                  </a:lnTo>
                  <a:lnTo>
                    <a:pt x="1406" y="249"/>
                  </a:lnTo>
                  <a:lnTo>
                    <a:pt x="1396" y="240"/>
                  </a:lnTo>
                  <a:lnTo>
                    <a:pt x="1389" y="230"/>
                  </a:lnTo>
                  <a:lnTo>
                    <a:pt x="1385" y="221"/>
                  </a:lnTo>
                  <a:lnTo>
                    <a:pt x="1380" y="210"/>
                  </a:lnTo>
                  <a:lnTo>
                    <a:pt x="1377" y="202"/>
                  </a:lnTo>
                  <a:lnTo>
                    <a:pt x="1376" y="193"/>
                  </a:lnTo>
                  <a:lnTo>
                    <a:pt x="1375" y="185"/>
                  </a:lnTo>
                  <a:lnTo>
                    <a:pt x="1373" y="176"/>
                  </a:lnTo>
                  <a:lnTo>
                    <a:pt x="1368" y="168"/>
                  </a:lnTo>
                  <a:lnTo>
                    <a:pt x="1361" y="161"/>
                  </a:lnTo>
                  <a:lnTo>
                    <a:pt x="1354" y="154"/>
                  </a:lnTo>
                  <a:lnTo>
                    <a:pt x="1346" y="148"/>
                  </a:lnTo>
                  <a:lnTo>
                    <a:pt x="1338" y="143"/>
                  </a:lnTo>
                  <a:lnTo>
                    <a:pt x="1328" y="137"/>
                  </a:lnTo>
                  <a:lnTo>
                    <a:pt x="1296" y="120"/>
                  </a:lnTo>
                  <a:lnTo>
                    <a:pt x="1282" y="115"/>
                  </a:lnTo>
                  <a:lnTo>
                    <a:pt x="1270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Freeform 169"/>
            <p:cNvSpPr/>
            <p:nvPr/>
          </p:nvSpPr>
          <p:spPr>
            <a:xfrm>
              <a:off x="7683480" y="5531400"/>
              <a:ext cx="404640" cy="2991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2529" h="1729">
                  <a:moveTo>
                    <a:pt x="1040" y="0"/>
                  </a:moveTo>
                  <a:lnTo>
                    <a:pt x="0" y="116"/>
                  </a:lnTo>
                  <a:lnTo>
                    <a:pt x="8" y="127"/>
                  </a:lnTo>
                  <a:lnTo>
                    <a:pt x="33" y="159"/>
                  </a:lnTo>
                  <a:lnTo>
                    <a:pt x="70" y="208"/>
                  </a:lnTo>
                  <a:lnTo>
                    <a:pt x="119" y="272"/>
                  </a:lnTo>
                  <a:lnTo>
                    <a:pt x="177" y="349"/>
                  </a:lnTo>
                  <a:lnTo>
                    <a:pt x="240" y="435"/>
                  </a:lnTo>
                  <a:lnTo>
                    <a:pt x="308" y="527"/>
                  </a:lnTo>
                  <a:lnTo>
                    <a:pt x="379" y="621"/>
                  </a:lnTo>
                  <a:lnTo>
                    <a:pt x="449" y="717"/>
                  </a:lnTo>
                  <a:lnTo>
                    <a:pt x="516" y="811"/>
                  </a:lnTo>
                  <a:lnTo>
                    <a:pt x="580" y="899"/>
                  </a:lnTo>
                  <a:lnTo>
                    <a:pt x="636" y="980"/>
                  </a:lnTo>
                  <a:lnTo>
                    <a:pt x="682" y="1049"/>
                  </a:lnTo>
                  <a:lnTo>
                    <a:pt x="719" y="1105"/>
                  </a:lnTo>
                  <a:lnTo>
                    <a:pt x="731" y="1127"/>
                  </a:lnTo>
                  <a:lnTo>
                    <a:pt x="741" y="1145"/>
                  </a:lnTo>
                  <a:lnTo>
                    <a:pt x="745" y="1156"/>
                  </a:lnTo>
                  <a:lnTo>
                    <a:pt x="747" y="1165"/>
                  </a:lnTo>
                  <a:lnTo>
                    <a:pt x="744" y="1175"/>
                  </a:lnTo>
                  <a:lnTo>
                    <a:pt x="744" y="1191"/>
                  </a:lnTo>
                  <a:lnTo>
                    <a:pt x="744" y="1211"/>
                  </a:lnTo>
                  <a:lnTo>
                    <a:pt x="748" y="1236"/>
                  </a:lnTo>
                  <a:lnTo>
                    <a:pt x="751" y="1263"/>
                  </a:lnTo>
                  <a:lnTo>
                    <a:pt x="757" y="1293"/>
                  </a:lnTo>
                  <a:lnTo>
                    <a:pt x="764" y="1325"/>
                  </a:lnTo>
                  <a:lnTo>
                    <a:pt x="773" y="1358"/>
                  </a:lnTo>
                  <a:lnTo>
                    <a:pt x="785" y="1392"/>
                  </a:lnTo>
                  <a:lnTo>
                    <a:pt x="798" y="1427"/>
                  </a:lnTo>
                  <a:lnTo>
                    <a:pt x="812" y="1461"/>
                  </a:lnTo>
                  <a:lnTo>
                    <a:pt x="829" y="1495"/>
                  </a:lnTo>
                  <a:lnTo>
                    <a:pt x="839" y="1512"/>
                  </a:lnTo>
                  <a:lnTo>
                    <a:pt x="848" y="1527"/>
                  </a:lnTo>
                  <a:lnTo>
                    <a:pt x="858" y="1543"/>
                  </a:lnTo>
                  <a:lnTo>
                    <a:pt x="868" y="1558"/>
                  </a:lnTo>
                  <a:lnTo>
                    <a:pt x="880" y="1572"/>
                  </a:lnTo>
                  <a:lnTo>
                    <a:pt x="891" y="1585"/>
                  </a:lnTo>
                  <a:lnTo>
                    <a:pt x="903" y="1598"/>
                  </a:lnTo>
                  <a:lnTo>
                    <a:pt x="916" y="1611"/>
                  </a:lnTo>
                  <a:lnTo>
                    <a:pt x="938" y="1628"/>
                  </a:lnTo>
                  <a:lnTo>
                    <a:pt x="958" y="1644"/>
                  </a:lnTo>
                  <a:lnTo>
                    <a:pt x="978" y="1658"/>
                  </a:lnTo>
                  <a:lnTo>
                    <a:pt x="997" y="1670"/>
                  </a:lnTo>
                  <a:lnTo>
                    <a:pt x="1015" y="1682"/>
                  </a:lnTo>
                  <a:lnTo>
                    <a:pt x="1033" y="1693"/>
                  </a:lnTo>
                  <a:lnTo>
                    <a:pt x="1050" y="1701"/>
                  </a:lnTo>
                  <a:lnTo>
                    <a:pt x="1068" y="1708"/>
                  </a:lnTo>
                  <a:lnTo>
                    <a:pt x="1085" y="1715"/>
                  </a:lnTo>
                  <a:lnTo>
                    <a:pt x="1103" y="1719"/>
                  </a:lnTo>
                  <a:lnTo>
                    <a:pt x="1120" y="1723"/>
                  </a:lnTo>
                  <a:lnTo>
                    <a:pt x="1139" y="1726"/>
                  </a:lnTo>
                  <a:lnTo>
                    <a:pt x="1159" y="1728"/>
                  </a:lnTo>
                  <a:lnTo>
                    <a:pt x="1179" y="1729"/>
                  </a:lnTo>
                  <a:lnTo>
                    <a:pt x="1200" y="1729"/>
                  </a:lnTo>
                  <a:lnTo>
                    <a:pt x="1222" y="1728"/>
                  </a:lnTo>
                  <a:lnTo>
                    <a:pt x="1272" y="1722"/>
                  </a:lnTo>
                  <a:lnTo>
                    <a:pt x="1328" y="1714"/>
                  </a:lnTo>
                  <a:lnTo>
                    <a:pt x="1393" y="1703"/>
                  </a:lnTo>
                  <a:lnTo>
                    <a:pt x="1467" y="1690"/>
                  </a:lnTo>
                  <a:lnTo>
                    <a:pt x="1553" y="1675"/>
                  </a:lnTo>
                  <a:lnTo>
                    <a:pt x="1651" y="1658"/>
                  </a:lnTo>
                  <a:lnTo>
                    <a:pt x="1763" y="1639"/>
                  </a:lnTo>
                  <a:lnTo>
                    <a:pt x="1890" y="1619"/>
                  </a:lnTo>
                  <a:lnTo>
                    <a:pt x="1960" y="1608"/>
                  </a:lnTo>
                  <a:lnTo>
                    <a:pt x="2019" y="1599"/>
                  </a:lnTo>
                  <a:lnTo>
                    <a:pt x="2068" y="1592"/>
                  </a:lnTo>
                  <a:lnTo>
                    <a:pt x="2109" y="1586"/>
                  </a:lnTo>
                  <a:lnTo>
                    <a:pt x="2142" y="1582"/>
                  </a:lnTo>
                  <a:lnTo>
                    <a:pt x="2169" y="1578"/>
                  </a:lnTo>
                  <a:lnTo>
                    <a:pt x="2194" y="1576"/>
                  </a:lnTo>
                  <a:lnTo>
                    <a:pt x="2215" y="1573"/>
                  </a:lnTo>
                  <a:lnTo>
                    <a:pt x="2220" y="1572"/>
                  </a:lnTo>
                  <a:lnTo>
                    <a:pt x="2224" y="1570"/>
                  </a:lnTo>
                  <a:lnTo>
                    <a:pt x="2229" y="1568"/>
                  </a:lnTo>
                  <a:lnTo>
                    <a:pt x="2232" y="1565"/>
                  </a:lnTo>
                  <a:lnTo>
                    <a:pt x="2239" y="1558"/>
                  </a:lnTo>
                  <a:lnTo>
                    <a:pt x="2245" y="1549"/>
                  </a:lnTo>
                  <a:lnTo>
                    <a:pt x="2257" y="1529"/>
                  </a:lnTo>
                  <a:lnTo>
                    <a:pt x="2265" y="1509"/>
                  </a:lnTo>
                  <a:lnTo>
                    <a:pt x="2270" y="1499"/>
                  </a:lnTo>
                  <a:lnTo>
                    <a:pt x="2274" y="1490"/>
                  </a:lnTo>
                  <a:lnTo>
                    <a:pt x="2278" y="1482"/>
                  </a:lnTo>
                  <a:lnTo>
                    <a:pt x="2283" y="1478"/>
                  </a:lnTo>
                  <a:lnTo>
                    <a:pt x="2286" y="1475"/>
                  </a:lnTo>
                  <a:lnTo>
                    <a:pt x="2288" y="1474"/>
                  </a:lnTo>
                  <a:lnTo>
                    <a:pt x="2291" y="1473"/>
                  </a:lnTo>
                  <a:lnTo>
                    <a:pt x="2294" y="1473"/>
                  </a:lnTo>
                  <a:lnTo>
                    <a:pt x="2297" y="1474"/>
                  </a:lnTo>
                  <a:lnTo>
                    <a:pt x="2300" y="1475"/>
                  </a:lnTo>
                  <a:lnTo>
                    <a:pt x="2304" y="1478"/>
                  </a:lnTo>
                  <a:lnTo>
                    <a:pt x="2307" y="1481"/>
                  </a:lnTo>
                  <a:lnTo>
                    <a:pt x="2317" y="1488"/>
                  </a:lnTo>
                  <a:lnTo>
                    <a:pt x="2327" y="1495"/>
                  </a:lnTo>
                  <a:lnTo>
                    <a:pt x="2338" y="1500"/>
                  </a:lnTo>
                  <a:lnTo>
                    <a:pt x="2349" y="1502"/>
                  </a:lnTo>
                  <a:lnTo>
                    <a:pt x="2362" y="1505"/>
                  </a:lnTo>
                  <a:lnTo>
                    <a:pt x="2376" y="1506"/>
                  </a:lnTo>
                  <a:lnTo>
                    <a:pt x="2390" y="1507"/>
                  </a:lnTo>
                  <a:lnTo>
                    <a:pt x="2404" y="1507"/>
                  </a:lnTo>
                  <a:lnTo>
                    <a:pt x="2434" y="1505"/>
                  </a:lnTo>
                  <a:lnTo>
                    <a:pt x="2466" y="1503"/>
                  </a:lnTo>
                  <a:lnTo>
                    <a:pt x="2481" y="1502"/>
                  </a:lnTo>
                  <a:lnTo>
                    <a:pt x="2498" y="1502"/>
                  </a:lnTo>
                  <a:lnTo>
                    <a:pt x="2513" y="1503"/>
                  </a:lnTo>
                  <a:lnTo>
                    <a:pt x="2529" y="1505"/>
                  </a:lnTo>
                  <a:lnTo>
                    <a:pt x="2522" y="1496"/>
                  </a:lnTo>
                  <a:lnTo>
                    <a:pt x="2516" y="1489"/>
                  </a:lnTo>
                  <a:lnTo>
                    <a:pt x="2510" y="1481"/>
                  </a:lnTo>
                  <a:lnTo>
                    <a:pt x="2505" y="1473"/>
                  </a:lnTo>
                  <a:lnTo>
                    <a:pt x="2496" y="1457"/>
                  </a:lnTo>
                  <a:lnTo>
                    <a:pt x="2489" y="1440"/>
                  </a:lnTo>
                  <a:lnTo>
                    <a:pt x="2485" y="1424"/>
                  </a:lnTo>
                  <a:lnTo>
                    <a:pt x="2480" y="1406"/>
                  </a:lnTo>
                  <a:lnTo>
                    <a:pt x="2478" y="1390"/>
                  </a:lnTo>
                  <a:lnTo>
                    <a:pt x="2477" y="1374"/>
                  </a:lnTo>
                  <a:lnTo>
                    <a:pt x="2474" y="1342"/>
                  </a:lnTo>
                  <a:lnTo>
                    <a:pt x="2472" y="1313"/>
                  </a:lnTo>
                  <a:lnTo>
                    <a:pt x="2471" y="1300"/>
                  </a:lnTo>
                  <a:lnTo>
                    <a:pt x="2468" y="1290"/>
                  </a:lnTo>
                  <a:lnTo>
                    <a:pt x="2465" y="1279"/>
                  </a:lnTo>
                  <a:lnTo>
                    <a:pt x="2460" y="1271"/>
                  </a:lnTo>
                  <a:lnTo>
                    <a:pt x="2454" y="1263"/>
                  </a:lnTo>
                  <a:lnTo>
                    <a:pt x="2449" y="1256"/>
                  </a:lnTo>
                  <a:lnTo>
                    <a:pt x="2443" y="1250"/>
                  </a:lnTo>
                  <a:lnTo>
                    <a:pt x="2436" y="1245"/>
                  </a:lnTo>
                  <a:lnTo>
                    <a:pt x="2424" y="1238"/>
                  </a:lnTo>
                  <a:lnTo>
                    <a:pt x="2411" y="1232"/>
                  </a:lnTo>
                  <a:lnTo>
                    <a:pt x="2406" y="1229"/>
                  </a:lnTo>
                  <a:lnTo>
                    <a:pt x="2401" y="1225"/>
                  </a:lnTo>
                  <a:lnTo>
                    <a:pt x="2397" y="1222"/>
                  </a:lnTo>
                  <a:lnTo>
                    <a:pt x="2392" y="1218"/>
                  </a:lnTo>
                  <a:lnTo>
                    <a:pt x="2389" y="1214"/>
                  </a:lnTo>
                  <a:lnTo>
                    <a:pt x="2387" y="1208"/>
                  </a:lnTo>
                  <a:lnTo>
                    <a:pt x="2385" y="1201"/>
                  </a:lnTo>
                  <a:lnTo>
                    <a:pt x="2385" y="1193"/>
                  </a:lnTo>
                  <a:lnTo>
                    <a:pt x="2384" y="1183"/>
                  </a:lnTo>
                  <a:lnTo>
                    <a:pt x="2383" y="1173"/>
                  </a:lnTo>
                  <a:lnTo>
                    <a:pt x="2381" y="1161"/>
                  </a:lnTo>
                  <a:lnTo>
                    <a:pt x="2377" y="1149"/>
                  </a:lnTo>
                  <a:lnTo>
                    <a:pt x="2369" y="1121"/>
                  </a:lnTo>
                  <a:lnTo>
                    <a:pt x="2360" y="1093"/>
                  </a:lnTo>
                  <a:lnTo>
                    <a:pt x="2349" y="1064"/>
                  </a:lnTo>
                  <a:lnTo>
                    <a:pt x="2339" y="1037"/>
                  </a:lnTo>
                  <a:lnTo>
                    <a:pt x="2329" y="1012"/>
                  </a:lnTo>
                  <a:lnTo>
                    <a:pt x="2321" y="992"/>
                  </a:lnTo>
                  <a:lnTo>
                    <a:pt x="2319" y="981"/>
                  </a:lnTo>
                  <a:lnTo>
                    <a:pt x="2317" y="970"/>
                  </a:lnTo>
                  <a:lnTo>
                    <a:pt x="2314" y="957"/>
                  </a:lnTo>
                  <a:lnTo>
                    <a:pt x="2313" y="943"/>
                  </a:lnTo>
                  <a:lnTo>
                    <a:pt x="2300" y="923"/>
                  </a:lnTo>
                  <a:lnTo>
                    <a:pt x="2286" y="904"/>
                  </a:lnTo>
                  <a:lnTo>
                    <a:pt x="2270" y="888"/>
                  </a:lnTo>
                  <a:lnTo>
                    <a:pt x="2252" y="873"/>
                  </a:lnTo>
                  <a:lnTo>
                    <a:pt x="2234" y="859"/>
                  </a:lnTo>
                  <a:lnTo>
                    <a:pt x="2213" y="846"/>
                  </a:lnTo>
                  <a:lnTo>
                    <a:pt x="2192" y="833"/>
                  </a:lnTo>
                  <a:lnTo>
                    <a:pt x="2170" y="822"/>
                  </a:lnTo>
                  <a:lnTo>
                    <a:pt x="2147" y="813"/>
                  </a:lnTo>
                  <a:lnTo>
                    <a:pt x="2124" y="804"/>
                  </a:lnTo>
                  <a:lnTo>
                    <a:pt x="2100" y="795"/>
                  </a:lnTo>
                  <a:lnTo>
                    <a:pt x="2077" y="787"/>
                  </a:lnTo>
                  <a:lnTo>
                    <a:pt x="2029" y="773"/>
                  </a:lnTo>
                  <a:lnTo>
                    <a:pt x="1981" y="760"/>
                  </a:lnTo>
                  <a:lnTo>
                    <a:pt x="1960" y="755"/>
                  </a:lnTo>
                  <a:lnTo>
                    <a:pt x="1943" y="746"/>
                  </a:lnTo>
                  <a:lnTo>
                    <a:pt x="1926" y="738"/>
                  </a:lnTo>
                  <a:lnTo>
                    <a:pt x="1915" y="729"/>
                  </a:lnTo>
                  <a:lnTo>
                    <a:pt x="1903" y="718"/>
                  </a:lnTo>
                  <a:lnTo>
                    <a:pt x="1895" y="708"/>
                  </a:lnTo>
                  <a:lnTo>
                    <a:pt x="1888" y="695"/>
                  </a:lnTo>
                  <a:lnTo>
                    <a:pt x="1881" y="682"/>
                  </a:lnTo>
                  <a:lnTo>
                    <a:pt x="1870" y="655"/>
                  </a:lnTo>
                  <a:lnTo>
                    <a:pt x="1860" y="625"/>
                  </a:lnTo>
                  <a:lnTo>
                    <a:pt x="1854" y="610"/>
                  </a:lnTo>
                  <a:lnTo>
                    <a:pt x="1846" y="593"/>
                  </a:lnTo>
                  <a:lnTo>
                    <a:pt x="1838" y="576"/>
                  </a:lnTo>
                  <a:lnTo>
                    <a:pt x="1826" y="560"/>
                  </a:lnTo>
                  <a:lnTo>
                    <a:pt x="1793" y="547"/>
                  </a:lnTo>
                  <a:lnTo>
                    <a:pt x="1762" y="534"/>
                  </a:lnTo>
                  <a:lnTo>
                    <a:pt x="1732" y="520"/>
                  </a:lnTo>
                  <a:lnTo>
                    <a:pt x="1706" y="505"/>
                  </a:lnTo>
                  <a:lnTo>
                    <a:pt x="1680" y="489"/>
                  </a:lnTo>
                  <a:lnTo>
                    <a:pt x="1658" y="474"/>
                  </a:lnTo>
                  <a:lnTo>
                    <a:pt x="1637" y="459"/>
                  </a:lnTo>
                  <a:lnTo>
                    <a:pt x="1619" y="444"/>
                  </a:lnTo>
                  <a:lnTo>
                    <a:pt x="1589" y="417"/>
                  </a:lnTo>
                  <a:lnTo>
                    <a:pt x="1567" y="395"/>
                  </a:lnTo>
                  <a:lnTo>
                    <a:pt x="1554" y="381"/>
                  </a:lnTo>
                  <a:lnTo>
                    <a:pt x="1550" y="375"/>
                  </a:lnTo>
                  <a:lnTo>
                    <a:pt x="1394" y="329"/>
                  </a:lnTo>
                  <a:lnTo>
                    <a:pt x="10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Freeform 170"/>
            <p:cNvSpPr/>
            <p:nvPr/>
          </p:nvSpPr>
          <p:spPr>
            <a:xfrm>
              <a:off x="7683480" y="5531400"/>
              <a:ext cx="404640" cy="2991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2529" h="1729">
                  <a:moveTo>
                    <a:pt x="1040" y="0"/>
                  </a:moveTo>
                  <a:lnTo>
                    <a:pt x="0" y="116"/>
                  </a:lnTo>
                  <a:lnTo>
                    <a:pt x="8" y="127"/>
                  </a:lnTo>
                  <a:lnTo>
                    <a:pt x="33" y="159"/>
                  </a:lnTo>
                  <a:lnTo>
                    <a:pt x="70" y="208"/>
                  </a:lnTo>
                  <a:lnTo>
                    <a:pt x="119" y="272"/>
                  </a:lnTo>
                  <a:lnTo>
                    <a:pt x="177" y="349"/>
                  </a:lnTo>
                  <a:lnTo>
                    <a:pt x="240" y="435"/>
                  </a:lnTo>
                  <a:lnTo>
                    <a:pt x="308" y="527"/>
                  </a:lnTo>
                  <a:lnTo>
                    <a:pt x="379" y="621"/>
                  </a:lnTo>
                  <a:lnTo>
                    <a:pt x="449" y="717"/>
                  </a:lnTo>
                  <a:lnTo>
                    <a:pt x="516" y="811"/>
                  </a:lnTo>
                  <a:lnTo>
                    <a:pt x="580" y="899"/>
                  </a:lnTo>
                  <a:lnTo>
                    <a:pt x="636" y="980"/>
                  </a:lnTo>
                  <a:lnTo>
                    <a:pt x="682" y="1049"/>
                  </a:lnTo>
                  <a:lnTo>
                    <a:pt x="719" y="1105"/>
                  </a:lnTo>
                  <a:lnTo>
                    <a:pt x="731" y="1127"/>
                  </a:lnTo>
                  <a:lnTo>
                    <a:pt x="741" y="1145"/>
                  </a:lnTo>
                  <a:lnTo>
                    <a:pt x="745" y="1156"/>
                  </a:lnTo>
                  <a:lnTo>
                    <a:pt x="747" y="1165"/>
                  </a:lnTo>
                  <a:lnTo>
                    <a:pt x="744" y="1175"/>
                  </a:lnTo>
                  <a:lnTo>
                    <a:pt x="744" y="1191"/>
                  </a:lnTo>
                  <a:lnTo>
                    <a:pt x="744" y="1211"/>
                  </a:lnTo>
                  <a:lnTo>
                    <a:pt x="748" y="1236"/>
                  </a:lnTo>
                  <a:lnTo>
                    <a:pt x="751" y="1263"/>
                  </a:lnTo>
                  <a:lnTo>
                    <a:pt x="757" y="1293"/>
                  </a:lnTo>
                  <a:lnTo>
                    <a:pt x="764" y="1325"/>
                  </a:lnTo>
                  <a:lnTo>
                    <a:pt x="773" y="1358"/>
                  </a:lnTo>
                  <a:lnTo>
                    <a:pt x="785" y="1392"/>
                  </a:lnTo>
                  <a:lnTo>
                    <a:pt x="798" y="1427"/>
                  </a:lnTo>
                  <a:lnTo>
                    <a:pt x="812" y="1461"/>
                  </a:lnTo>
                  <a:lnTo>
                    <a:pt x="829" y="1495"/>
                  </a:lnTo>
                  <a:lnTo>
                    <a:pt x="839" y="1512"/>
                  </a:lnTo>
                  <a:lnTo>
                    <a:pt x="848" y="1527"/>
                  </a:lnTo>
                  <a:lnTo>
                    <a:pt x="858" y="1543"/>
                  </a:lnTo>
                  <a:lnTo>
                    <a:pt x="868" y="1558"/>
                  </a:lnTo>
                  <a:lnTo>
                    <a:pt x="880" y="1572"/>
                  </a:lnTo>
                  <a:lnTo>
                    <a:pt x="891" y="1585"/>
                  </a:lnTo>
                  <a:lnTo>
                    <a:pt x="903" y="1598"/>
                  </a:lnTo>
                  <a:lnTo>
                    <a:pt x="916" y="1611"/>
                  </a:lnTo>
                  <a:lnTo>
                    <a:pt x="938" y="1628"/>
                  </a:lnTo>
                  <a:lnTo>
                    <a:pt x="958" y="1644"/>
                  </a:lnTo>
                  <a:lnTo>
                    <a:pt x="978" y="1658"/>
                  </a:lnTo>
                  <a:lnTo>
                    <a:pt x="997" y="1670"/>
                  </a:lnTo>
                  <a:lnTo>
                    <a:pt x="1015" y="1682"/>
                  </a:lnTo>
                  <a:lnTo>
                    <a:pt x="1033" y="1693"/>
                  </a:lnTo>
                  <a:lnTo>
                    <a:pt x="1050" y="1701"/>
                  </a:lnTo>
                  <a:lnTo>
                    <a:pt x="1068" y="1708"/>
                  </a:lnTo>
                  <a:lnTo>
                    <a:pt x="1085" y="1715"/>
                  </a:lnTo>
                  <a:lnTo>
                    <a:pt x="1103" y="1719"/>
                  </a:lnTo>
                  <a:lnTo>
                    <a:pt x="1120" y="1723"/>
                  </a:lnTo>
                  <a:lnTo>
                    <a:pt x="1139" y="1726"/>
                  </a:lnTo>
                  <a:lnTo>
                    <a:pt x="1159" y="1728"/>
                  </a:lnTo>
                  <a:lnTo>
                    <a:pt x="1179" y="1729"/>
                  </a:lnTo>
                  <a:lnTo>
                    <a:pt x="1200" y="1729"/>
                  </a:lnTo>
                  <a:lnTo>
                    <a:pt x="1222" y="1728"/>
                  </a:lnTo>
                  <a:lnTo>
                    <a:pt x="1272" y="1722"/>
                  </a:lnTo>
                  <a:lnTo>
                    <a:pt x="1328" y="1714"/>
                  </a:lnTo>
                  <a:lnTo>
                    <a:pt x="1393" y="1703"/>
                  </a:lnTo>
                  <a:lnTo>
                    <a:pt x="1467" y="1690"/>
                  </a:lnTo>
                  <a:lnTo>
                    <a:pt x="1553" y="1675"/>
                  </a:lnTo>
                  <a:lnTo>
                    <a:pt x="1651" y="1658"/>
                  </a:lnTo>
                  <a:lnTo>
                    <a:pt x="1763" y="1639"/>
                  </a:lnTo>
                  <a:lnTo>
                    <a:pt x="1890" y="1619"/>
                  </a:lnTo>
                  <a:lnTo>
                    <a:pt x="1960" y="1608"/>
                  </a:lnTo>
                  <a:lnTo>
                    <a:pt x="2019" y="1599"/>
                  </a:lnTo>
                  <a:lnTo>
                    <a:pt x="2068" y="1592"/>
                  </a:lnTo>
                  <a:lnTo>
                    <a:pt x="2109" y="1586"/>
                  </a:lnTo>
                  <a:lnTo>
                    <a:pt x="2142" y="1582"/>
                  </a:lnTo>
                  <a:lnTo>
                    <a:pt x="2169" y="1578"/>
                  </a:lnTo>
                  <a:lnTo>
                    <a:pt x="2194" y="1576"/>
                  </a:lnTo>
                  <a:lnTo>
                    <a:pt x="2215" y="1573"/>
                  </a:lnTo>
                  <a:lnTo>
                    <a:pt x="2220" y="1572"/>
                  </a:lnTo>
                  <a:lnTo>
                    <a:pt x="2224" y="1570"/>
                  </a:lnTo>
                  <a:lnTo>
                    <a:pt x="2229" y="1568"/>
                  </a:lnTo>
                  <a:lnTo>
                    <a:pt x="2232" y="1565"/>
                  </a:lnTo>
                  <a:lnTo>
                    <a:pt x="2239" y="1558"/>
                  </a:lnTo>
                  <a:lnTo>
                    <a:pt x="2245" y="1549"/>
                  </a:lnTo>
                  <a:lnTo>
                    <a:pt x="2257" y="1529"/>
                  </a:lnTo>
                  <a:lnTo>
                    <a:pt x="2265" y="1509"/>
                  </a:lnTo>
                  <a:lnTo>
                    <a:pt x="2270" y="1499"/>
                  </a:lnTo>
                  <a:lnTo>
                    <a:pt x="2274" y="1490"/>
                  </a:lnTo>
                  <a:lnTo>
                    <a:pt x="2278" y="1482"/>
                  </a:lnTo>
                  <a:lnTo>
                    <a:pt x="2283" y="1478"/>
                  </a:lnTo>
                  <a:lnTo>
                    <a:pt x="2286" y="1475"/>
                  </a:lnTo>
                  <a:lnTo>
                    <a:pt x="2288" y="1474"/>
                  </a:lnTo>
                  <a:lnTo>
                    <a:pt x="2291" y="1473"/>
                  </a:lnTo>
                  <a:lnTo>
                    <a:pt x="2294" y="1473"/>
                  </a:lnTo>
                  <a:lnTo>
                    <a:pt x="2297" y="1474"/>
                  </a:lnTo>
                  <a:lnTo>
                    <a:pt x="2300" y="1475"/>
                  </a:lnTo>
                  <a:lnTo>
                    <a:pt x="2304" y="1478"/>
                  </a:lnTo>
                  <a:lnTo>
                    <a:pt x="2307" y="1481"/>
                  </a:lnTo>
                  <a:lnTo>
                    <a:pt x="2317" y="1488"/>
                  </a:lnTo>
                  <a:lnTo>
                    <a:pt x="2327" y="1495"/>
                  </a:lnTo>
                  <a:lnTo>
                    <a:pt x="2338" y="1500"/>
                  </a:lnTo>
                  <a:lnTo>
                    <a:pt x="2349" y="1502"/>
                  </a:lnTo>
                  <a:lnTo>
                    <a:pt x="2362" y="1505"/>
                  </a:lnTo>
                  <a:lnTo>
                    <a:pt x="2376" y="1506"/>
                  </a:lnTo>
                  <a:lnTo>
                    <a:pt x="2390" y="1507"/>
                  </a:lnTo>
                  <a:lnTo>
                    <a:pt x="2404" y="1507"/>
                  </a:lnTo>
                  <a:lnTo>
                    <a:pt x="2434" y="1505"/>
                  </a:lnTo>
                  <a:lnTo>
                    <a:pt x="2466" y="1503"/>
                  </a:lnTo>
                  <a:lnTo>
                    <a:pt x="2481" y="1502"/>
                  </a:lnTo>
                  <a:lnTo>
                    <a:pt x="2498" y="1502"/>
                  </a:lnTo>
                  <a:lnTo>
                    <a:pt x="2513" y="1503"/>
                  </a:lnTo>
                  <a:lnTo>
                    <a:pt x="2529" y="1505"/>
                  </a:lnTo>
                  <a:lnTo>
                    <a:pt x="2522" y="1496"/>
                  </a:lnTo>
                  <a:lnTo>
                    <a:pt x="2516" y="1489"/>
                  </a:lnTo>
                  <a:lnTo>
                    <a:pt x="2510" y="1481"/>
                  </a:lnTo>
                  <a:lnTo>
                    <a:pt x="2505" y="1473"/>
                  </a:lnTo>
                  <a:lnTo>
                    <a:pt x="2496" y="1457"/>
                  </a:lnTo>
                  <a:lnTo>
                    <a:pt x="2489" y="1440"/>
                  </a:lnTo>
                  <a:lnTo>
                    <a:pt x="2485" y="1424"/>
                  </a:lnTo>
                  <a:lnTo>
                    <a:pt x="2480" y="1406"/>
                  </a:lnTo>
                  <a:lnTo>
                    <a:pt x="2478" y="1390"/>
                  </a:lnTo>
                  <a:lnTo>
                    <a:pt x="2477" y="1374"/>
                  </a:lnTo>
                  <a:lnTo>
                    <a:pt x="2474" y="1342"/>
                  </a:lnTo>
                  <a:lnTo>
                    <a:pt x="2472" y="1313"/>
                  </a:lnTo>
                  <a:lnTo>
                    <a:pt x="2471" y="1300"/>
                  </a:lnTo>
                  <a:lnTo>
                    <a:pt x="2468" y="1290"/>
                  </a:lnTo>
                  <a:lnTo>
                    <a:pt x="2465" y="1279"/>
                  </a:lnTo>
                  <a:lnTo>
                    <a:pt x="2460" y="1271"/>
                  </a:lnTo>
                  <a:lnTo>
                    <a:pt x="2454" y="1263"/>
                  </a:lnTo>
                  <a:lnTo>
                    <a:pt x="2449" y="1256"/>
                  </a:lnTo>
                  <a:lnTo>
                    <a:pt x="2443" y="1250"/>
                  </a:lnTo>
                  <a:lnTo>
                    <a:pt x="2436" y="1245"/>
                  </a:lnTo>
                  <a:lnTo>
                    <a:pt x="2424" y="1238"/>
                  </a:lnTo>
                  <a:lnTo>
                    <a:pt x="2411" y="1232"/>
                  </a:lnTo>
                  <a:lnTo>
                    <a:pt x="2406" y="1229"/>
                  </a:lnTo>
                  <a:lnTo>
                    <a:pt x="2401" y="1225"/>
                  </a:lnTo>
                  <a:lnTo>
                    <a:pt x="2397" y="1222"/>
                  </a:lnTo>
                  <a:lnTo>
                    <a:pt x="2392" y="1218"/>
                  </a:lnTo>
                  <a:lnTo>
                    <a:pt x="2389" y="1214"/>
                  </a:lnTo>
                  <a:lnTo>
                    <a:pt x="2387" y="1208"/>
                  </a:lnTo>
                  <a:lnTo>
                    <a:pt x="2385" y="1201"/>
                  </a:lnTo>
                  <a:lnTo>
                    <a:pt x="2385" y="1193"/>
                  </a:lnTo>
                  <a:lnTo>
                    <a:pt x="2384" y="1183"/>
                  </a:lnTo>
                  <a:lnTo>
                    <a:pt x="2383" y="1173"/>
                  </a:lnTo>
                  <a:lnTo>
                    <a:pt x="2381" y="1161"/>
                  </a:lnTo>
                  <a:lnTo>
                    <a:pt x="2377" y="1149"/>
                  </a:lnTo>
                  <a:lnTo>
                    <a:pt x="2369" y="1121"/>
                  </a:lnTo>
                  <a:lnTo>
                    <a:pt x="2360" y="1093"/>
                  </a:lnTo>
                  <a:lnTo>
                    <a:pt x="2349" y="1064"/>
                  </a:lnTo>
                  <a:lnTo>
                    <a:pt x="2339" y="1037"/>
                  </a:lnTo>
                  <a:lnTo>
                    <a:pt x="2329" y="1012"/>
                  </a:lnTo>
                  <a:lnTo>
                    <a:pt x="2321" y="992"/>
                  </a:lnTo>
                  <a:lnTo>
                    <a:pt x="2319" y="981"/>
                  </a:lnTo>
                  <a:lnTo>
                    <a:pt x="2317" y="970"/>
                  </a:lnTo>
                  <a:lnTo>
                    <a:pt x="2314" y="957"/>
                  </a:lnTo>
                  <a:lnTo>
                    <a:pt x="2313" y="943"/>
                  </a:lnTo>
                  <a:lnTo>
                    <a:pt x="2300" y="923"/>
                  </a:lnTo>
                  <a:lnTo>
                    <a:pt x="2286" y="904"/>
                  </a:lnTo>
                  <a:lnTo>
                    <a:pt x="2270" y="888"/>
                  </a:lnTo>
                  <a:lnTo>
                    <a:pt x="2252" y="873"/>
                  </a:lnTo>
                  <a:lnTo>
                    <a:pt x="2234" y="859"/>
                  </a:lnTo>
                  <a:lnTo>
                    <a:pt x="2213" y="846"/>
                  </a:lnTo>
                  <a:lnTo>
                    <a:pt x="2192" y="833"/>
                  </a:lnTo>
                  <a:lnTo>
                    <a:pt x="2170" y="822"/>
                  </a:lnTo>
                  <a:lnTo>
                    <a:pt x="2147" y="813"/>
                  </a:lnTo>
                  <a:lnTo>
                    <a:pt x="2124" y="804"/>
                  </a:lnTo>
                  <a:lnTo>
                    <a:pt x="2100" y="795"/>
                  </a:lnTo>
                  <a:lnTo>
                    <a:pt x="2077" y="787"/>
                  </a:lnTo>
                  <a:lnTo>
                    <a:pt x="2029" y="773"/>
                  </a:lnTo>
                  <a:lnTo>
                    <a:pt x="1981" y="760"/>
                  </a:lnTo>
                  <a:lnTo>
                    <a:pt x="1960" y="755"/>
                  </a:lnTo>
                  <a:lnTo>
                    <a:pt x="1943" y="746"/>
                  </a:lnTo>
                  <a:lnTo>
                    <a:pt x="1926" y="738"/>
                  </a:lnTo>
                  <a:lnTo>
                    <a:pt x="1915" y="729"/>
                  </a:lnTo>
                  <a:lnTo>
                    <a:pt x="1903" y="718"/>
                  </a:lnTo>
                  <a:lnTo>
                    <a:pt x="1895" y="708"/>
                  </a:lnTo>
                  <a:lnTo>
                    <a:pt x="1888" y="695"/>
                  </a:lnTo>
                  <a:lnTo>
                    <a:pt x="1881" y="682"/>
                  </a:lnTo>
                  <a:lnTo>
                    <a:pt x="1870" y="655"/>
                  </a:lnTo>
                  <a:lnTo>
                    <a:pt x="1860" y="625"/>
                  </a:lnTo>
                  <a:lnTo>
                    <a:pt x="1854" y="610"/>
                  </a:lnTo>
                  <a:lnTo>
                    <a:pt x="1846" y="593"/>
                  </a:lnTo>
                  <a:lnTo>
                    <a:pt x="1838" y="576"/>
                  </a:lnTo>
                  <a:lnTo>
                    <a:pt x="1826" y="560"/>
                  </a:lnTo>
                  <a:lnTo>
                    <a:pt x="1793" y="547"/>
                  </a:lnTo>
                  <a:lnTo>
                    <a:pt x="1762" y="534"/>
                  </a:lnTo>
                  <a:lnTo>
                    <a:pt x="1732" y="520"/>
                  </a:lnTo>
                  <a:lnTo>
                    <a:pt x="1706" y="505"/>
                  </a:lnTo>
                  <a:lnTo>
                    <a:pt x="1680" y="489"/>
                  </a:lnTo>
                  <a:lnTo>
                    <a:pt x="1658" y="474"/>
                  </a:lnTo>
                  <a:lnTo>
                    <a:pt x="1637" y="459"/>
                  </a:lnTo>
                  <a:lnTo>
                    <a:pt x="1619" y="444"/>
                  </a:lnTo>
                  <a:lnTo>
                    <a:pt x="1589" y="417"/>
                  </a:lnTo>
                  <a:lnTo>
                    <a:pt x="1567" y="395"/>
                  </a:lnTo>
                  <a:lnTo>
                    <a:pt x="1554" y="381"/>
                  </a:lnTo>
                  <a:lnTo>
                    <a:pt x="1550" y="375"/>
                  </a:lnTo>
                  <a:lnTo>
                    <a:pt x="1394" y="329"/>
                  </a:lnTo>
                  <a:lnTo>
                    <a:pt x="1040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Freeform 171"/>
            <p:cNvSpPr/>
            <p:nvPr/>
          </p:nvSpPr>
          <p:spPr>
            <a:xfrm>
              <a:off x="7677000" y="5786640"/>
              <a:ext cx="780840" cy="45504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455040"/>
                <a:gd name="textAreaBottom" fmla="*/ 455400 h 455040"/>
              </a:gdLst>
              <a:ahLst/>
              <a:rect l="textAreaLeft" t="textAreaTop" r="textAreaRight" b="textAreaBottom"/>
              <a:pathLst>
                <a:path w="4885" h="2626">
                  <a:moveTo>
                    <a:pt x="2572" y="32"/>
                  </a:moveTo>
                  <a:lnTo>
                    <a:pt x="2556" y="30"/>
                  </a:lnTo>
                  <a:lnTo>
                    <a:pt x="2541" y="29"/>
                  </a:lnTo>
                  <a:lnTo>
                    <a:pt x="2524" y="29"/>
                  </a:lnTo>
                  <a:lnTo>
                    <a:pt x="2509" y="30"/>
                  </a:lnTo>
                  <a:lnTo>
                    <a:pt x="2477" y="32"/>
                  </a:lnTo>
                  <a:lnTo>
                    <a:pt x="2447" y="34"/>
                  </a:lnTo>
                  <a:lnTo>
                    <a:pt x="2433" y="34"/>
                  </a:lnTo>
                  <a:lnTo>
                    <a:pt x="2419" y="33"/>
                  </a:lnTo>
                  <a:lnTo>
                    <a:pt x="2405" y="32"/>
                  </a:lnTo>
                  <a:lnTo>
                    <a:pt x="2392" y="29"/>
                  </a:lnTo>
                  <a:lnTo>
                    <a:pt x="2381" y="27"/>
                  </a:lnTo>
                  <a:lnTo>
                    <a:pt x="2370" y="22"/>
                  </a:lnTo>
                  <a:lnTo>
                    <a:pt x="2360" y="15"/>
                  </a:lnTo>
                  <a:lnTo>
                    <a:pt x="2350" y="8"/>
                  </a:lnTo>
                  <a:lnTo>
                    <a:pt x="2347" y="5"/>
                  </a:lnTo>
                  <a:lnTo>
                    <a:pt x="2343" y="2"/>
                  </a:lnTo>
                  <a:lnTo>
                    <a:pt x="2340" y="1"/>
                  </a:lnTo>
                  <a:lnTo>
                    <a:pt x="2337" y="0"/>
                  </a:lnTo>
                  <a:lnTo>
                    <a:pt x="2334" y="0"/>
                  </a:lnTo>
                  <a:lnTo>
                    <a:pt x="2331" y="1"/>
                  </a:lnTo>
                  <a:lnTo>
                    <a:pt x="2329" y="2"/>
                  </a:lnTo>
                  <a:lnTo>
                    <a:pt x="2326" y="5"/>
                  </a:lnTo>
                  <a:lnTo>
                    <a:pt x="2321" y="9"/>
                  </a:lnTo>
                  <a:lnTo>
                    <a:pt x="2317" y="17"/>
                  </a:lnTo>
                  <a:lnTo>
                    <a:pt x="2313" y="26"/>
                  </a:lnTo>
                  <a:lnTo>
                    <a:pt x="2308" y="36"/>
                  </a:lnTo>
                  <a:lnTo>
                    <a:pt x="2300" y="56"/>
                  </a:lnTo>
                  <a:lnTo>
                    <a:pt x="2288" y="76"/>
                  </a:lnTo>
                  <a:lnTo>
                    <a:pt x="2282" y="85"/>
                  </a:lnTo>
                  <a:lnTo>
                    <a:pt x="2275" y="92"/>
                  </a:lnTo>
                  <a:lnTo>
                    <a:pt x="2272" y="95"/>
                  </a:lnTo>
                  <a:lnTo>
                    <a:pt x="2267" y="97"/>
                  </a:lnTo>
                  <a:lnTo>
                    <a:pt x="2263" y="99"/>
                  </a:lnTo>
                  <a:lnTo>
                    <a:pt x="2258" y="100"/>
                  </a:lnTo>
                  <a:lnTo>
                    <a:pt x="2237" y="103"/>
                  </a:lnTo>
                  <a:lnTo>
                    <a:pt x="2212" y="105"/>
                  </a:lnTo>
                  <a:lnTo>
                    <a:pt x="2185" y="109"/>
                  </a:lnTo>
                  <a:lnTo>
                    <a:pt x="2152" y="113"/>
                  </a:lnTo>
                  <a:lnTo>
                    <a:pt x="2111" y="119"/>
                  </a:lnTo>
                  <a:lnTo>
                    <a:pt x="2062" y="126"/>
                  </a:lnTo>
                  <a:lnTo>
                    <a:pt x="2003" y="135"/>
                  </a:lnTo>
                  <a:lnTo>
                    <a:pt x="1933" y="146"/>
                  </a:lnTo>
                  <a:lnTo>
                    <a:pt x="1806" y="166"/>
                  </a:lnTo>
                  <a:lnTo>
                    <a:pt x="1694" y="185"/>
                  </a:lnTo>
                  <a:lnTo>
                    <a:pt x="1596" y="202"/>
                  </a:lnTo>
                  <a:lnTo>
                    <a:pt x="1510" y="217"/>
                  </a:lnTo>
                  <a:lnTo>
                    <a:pt x="1436" y="230"/>
                  </a:lnTo>
                  <a:lnTo>
                    <a:pt x="1371" y="241"/>
                  </a:lnTo>
                  <a:lnTo>
                    <a:pt x="1315" y="249"/>
                  </a:lnTo>
                  <a:lnTo>
                    <a:pt x="1265" y="255"/>
                  </a:lnTo>
                  <a:lnTo>
                    <a:pt x="1243" y="256"/>
                  </a:lnTo>
                  <a:lnTo>
                    <a:pt x="1222" y="256"/>
                  </a:lnTo>
                  <a:lnTo>
                    <a:pt x="1202" y="255"/>
                  </a:lnTo>
                  <a:lnTo>
                    <a:pt x="1182" y="253"/>
                  </a:lnTo>
                  <a:lnTo>
                    <a:pt x="1163" y="250"/>
                  </a:lnTo>
                  <a:lnTo>
                    <a:pt x="1146" y="246"/>
                  </a:lnTo>
                  <a:lnTo>
                    <a:pt x="1128" y="242"/>
                  </a:lnTo>
                  <a:lnTo>
                    <a:pt x="1111" y="235"/>
                  </a:lnTo>
                  <a:lnTo>
                    <a:pt x="1093" y="228"/>
                  </a:lnTo>
                  <a:lnTo>
                    <a:pt x="1076" y="220"/>
                  </a:lnTo>
                  <a:lnTo>
                    <a:pt x="1058" y="209"/>
                  </a:lnTo>
                  <a:lnTo>
                    <a:pt x="1040" y="197"/>
                  </a:lnTo>
                  <a:lnTo>
                    <a:pt x="1021" y="185"/>
                  </a:lnTo>
                  <a:lnTo>
                    <a:pt x="1001" y="171"/>
                  </a:lnTo>
                  <a:lnTo>
                    <a:pt x="981" y="155"/>
                  </a:lnTo>
                  <a:lnTo>
                    <a:pt x="959" y="138"/>
                  </a:lnTo>
                  <a:lnTo>
                    <a:pt x="0" y="230"/>
                  </a:lnTo>
                  <a:lnTo>
                    <a:pt x="12" y="238"/>
                  </a:lnTo>
                  <a:lnTo>
                    <a:pt x="24" y="251"/>
                  </a:lnTo>
                  <a:lnTo>
                    <a:pt x="37" y="265"/>
                  </a:lnTo>
                  <a:lnTo>
                    <a:pt x="49" y="283"/>
                  </a:lnTo>
                  <a:lnTo>
                    <a:pt x="62" y="301"/>
                  </a:lnTo>
                  <a:lnTo>
                    <a:pt x="73" y="322"/>
                  </a:lnTo>
                  <a:lnTo>
                    <a:pt x="84" y="343"/>
                  </a:lnTo>
                  <a:lnTo>
                    <a:pt x="95" y="367"/>
                  </a:lnTo>
                  <a:lnTo>
                    <a:pt x="104" y="390"/>
                  </a:lnTo>
                  <a:lnTo>
                    <a:pt x="112" y="415"/>
                  </a:lnTo>
                  <a:lnTo>
                    <a:pt x="118" y="439"/>
                  </a:lnTo>
                  <a:lnTo>
                    <a:pt x="124" y="463"/>
                  </a:lnTo>
                  <a:lnTo>
                    <a:pt x="126" y="486"/>
                  </a:lnTo>
                  <a:lnTo>
                    <a:pt x="127" y="508"/>
                  </a:lnTo>
                  <a:lnTo>
                    <a:pt x="127" y="519"/>
                  </a:lnTo>
                  <a:lnTo>
                    <a:pt x="127" y="529"/>
                  </a:lnTo>
                  <a:lnTo>
                    <a:pt x="126" y="540"/>
                  </a:lnTo>
                  <a:lnTo>
                    <a:pt x="124" y="549"/>
                  </a:lnTo>
                  <a:lnTo>
                    <a:pt x="183" y="543"/>
                  </a:lnTo>
                  <a:lnTo>
                    <a:pt x="244" y="537"/>
                  </a:lnTo>
                  <a:lnTo>
                    <a:pt x="305" y="531"/>
                  </a:lnTo>
                  <a:lnTo>
                    <a:pt x="366" y="527"/>
                  </a:lnTo>
                  <a:lnTo>
                    <a:pt x="426" y="522"/>
                  </a:lnTo>
                  <a:lnTo>
                    <a:pt x="487" y="519"/>
                  </a:lnTo>
                  <a:lnTo>
                    <a:pt x="548" y="515"/>
                  </a:lnTo>
                  <a:lnTo>
                    <a:pt x="606" y="513"/>
                  </a:lnTo>
                  <a:lnTo>
                    <a:pt x="665" y="510"/>
                  </a:lnTo>
                  <a:lnTo>
                    <a:pt x="721" y="510"/>
                  </a:lnTo>
                  <a:lnTo>
                    <a:pt x="776" y="509"/>
                  </a:lnTo>
                  <a:lnTo>
                    <a:pt x="829" y="510"/>
                  </a:lnTo>
                  <a:lnTo>
                    <a:pt x="881" y="513"/>
                  </a:lnTo>
                  <a:lnTo>
                    <a:pt x="930" y="515"/>
                  </a:lnTo>
                  <a:lnTo>
                    <a:pt x="976" y="519"/>
                  </a:lnTo>
                  <a:lnTo>
                    <a:pt x="1020" y="523"/>
                  </a:lnTo>
                  <a:lnTo>
                    <a:pt x="1030" y="527"/>
                  </a:lnTo>
                  <a:lnTo>
                    <a:pt x="1058" y="535"/>
                  </a:lnTo>
                  <a:lnTo>
                    <a:pt x="1077" y="542"/>
                  </a:lnTo>
                  <a:lnTo>
                    <a:pt x="1098" y="550"/>
                  </a:lnTo>
                  <a:lnTo>
                    <a:pt x="1120" y="559"/>
                  </a:lnTo>
                  <a:lnTo>
                    <a:pt x="1143" y="571"/>
                  </a:lnTo>
                  <a:lnTo>
                    <a:pt x="1167" y="583"/>
                  </a:lnTo>
                  <a:lnTo>
                    <a:pt x="1189" y="597"/>
                  </a:lnTo>
                  <a:lnTo>
                    <a:pt x="1200" y="605"/>
                  </a:lnTo>
                  <a:lnTo>
                    <a:pt x="1210" y="612"/>
                  </a:lnTo>
                  <a:lnTo>
                    <a:pt x="1219" y="620"/>
                  </a:lnTo>
                  <a:lnTo>
                    <a:pt x="1229" y="630"/>
                  </a:lnTo>
                  <a:lnTo>
                    <a:pt x="1237" y="638"/>
                  </a:lnTo>
                  <a:lnTo>
                    <a:pt x="1244" y="647"/>
                  </a:lnTo>
                  <a:lnTo>
                    <a:pt x="1251" y="658"/>
                  </a:lnTo>
                  <a:lnTo>
                    <a:pt x="1257" y="667"/>
                  </a:lnTo>
                  <a:lnTo>
                    <a:pt x="1261" y="677"/>
                  </a:lnTo>
                  <a:lnTo>
                    <a:pt x="1265" y="688"/>
                  </a:lnTo>
                  <a:lnTo>
                    <a:pt x="1266" y="700"/>
                  </a:lnTo>
                  <a:lnTo>
                    <a:pt x="1267" y="710"/>
                  </a:lnTo>
                  <a:lnTo>
                    <a:pt x="1268" y="722"/>
                  </a:lnTo>
                  <a:lnTo>
                    <a:pt x="1271" y="731"/>
                  </a:lnTo>
                  <a:lnTo>
                    <a:pt x="1274" y="738"/>
                  </a:lnTo>
                  <a:lnTo>
                    <a:pt x="1279" y="745"/>
                  </a:lnTo>
                  <a:lnTo>
                    <a:pt x="1286" y="750"/>
                  </a:lnTo>
                  <a:lnTo>
                    <a:pt x="1293" y="753"/>
                  </a:lnTo>
                  <a:lnTo>
                    <a:pt x="1301" y="757"/>
                  </a:lnTo>
                  <a:lnTo>
                    <a:pt x="1311" y="758"/>
                  </a:lnTo>
                  <a:lnTo>
                    <a:pt x="1321" y="758"/>
                  </a:lnTo>
                  <a:lnTo>
                    <a:pt x="1332" y="758"/>
                  </a:lnTo>
                  <a:lnTo>
                    <a:pt x="1343" y="757"/>
                  </a:lnTo>
                  <a:lnTo>
                    <a:pt x="1356" y="755"/>
                  </a:lnTo>
                  <a:lnTo>
                    <a:pt x="1381" y="749"/>
                  </a:lnTo>
                  <a:lnTo>
                    <a:pt x="1407" y="742"/>
                  </a:lnTo>
                  <a:lnTo>
                    <a:pt x="1433" y="732"/>
                  </a:lnTo>
                  <a:lnTo>
                    <a:pt x="1458" y="722"/>
                  </a:lnTo>
                  <a:lnTo>
                    <a:pt x="1482" y="711"/>
                  </a:lnTo>
                  <a:lnTo>
                    <a:pt x="1503" y="701"/>
                  </a:lnTo>
                  <a:lnTo>
                    <a:pt x="1535" y="686"/>
                  </a:lnTo>
                  <a:lnTo>
                    <a:pt x="1546" y="679"/>
                  </a:lnTo>
                  <a:lnTo>
                    <a:pt x="1639" y="494"/>
                  </a:lnTo>
                  <a:lnTo>
                    <a:pt x="1823" y="494"/>
                  </a:lnTo>
                  <a:lnTo>
                    <a:pt x="1979" y="616"/>
                  </a:lnTo>
                  <a:lnTo>
                    <a:pt x="2071" y="616"/>
                  </a:lnTo>
                  <a:lnTo>
                    <a:pt x="2258" y="771"/>
                  </a:lnTo>
                  <a:lnTo>
                    <a:pt x="2535" y="771"/>
                  </a:lnTo>
                  <a:lnTo>
                    <a:pt x="2531" y="791"/>
                  </a:lnTo>
                  <a:lnTo>
                    <a:pt x="2532" y="815"/>
                  </a:lnTo>
                  <a:lnTo>
                    <a:pt x="2537" y="843"/>
                  </a:lnTo>
                  <a:lnTo>
                    <a:pt x="2546" y="875"/>
                  </a:lnTo>
                  <a:lnTo>
                    <a:pt x="2559" y="910"/>
                  </a:lnTo>
                  <a:lnTo>
                    <a:pt x="2576" y="948"/>
                  </a:lnTo>
                  <a:lnTo>
                    <a:pt x="2595" y="989"/>
                  </a:lnTo>
                  <a:lnTo>
                    <a:pt x="2618" y="1033"/>
                  </a:lnTo>
                  <a:lnTo>
                    <a:pt x="2643" y="1079"/>
                  </a:lnTo>
                  <a:lnTo>
                    <a:pt x="2671" y="1126"/>
                  </a:lnTo>
                  <a:lnTo>
                    <a:pt x="2701" y="1175"/>
                  </a:lnTo>
                  <a:lnTo>
                    <a:pt x="2733" y="1225"/>
                  </a:lnTo>
                  <a:lnTo>
                    <a:pt x="2766" y="1277"/>
                  </a:lnTo>
                  <a:lnTo>
                    <a:pt x="2801" y="1328"/>
                  </a:lnTo>
                  <a:lnTo>
                    <a:pt x="2838" y="1381"/>
                  </a:lnTo>
                  <a:lnTo>
                    <a:pt x="2875" y="1432"/>
                  </a:lnTo>
                  <a:lnTo>
                    <a:pt x="2913" y="1483"/>
                  </a:lnTo>
                  <a:lnTo>
                    <a:pt x="2952" y="1534"/>
                  </a:lnTo>
                  <a:lnTo>
                    <a:pt x="2990" y="1583"/>
                  </a:lnTo>
                  <a:lnTo>
                    <a:pt x="3029" y="1631"/>
                  </a:lnTo>
                  <a:lnTo>
                    <a:pt x="3067" y="1677"/>
                  </a:lnTo>
                  <a:lnTo>
                    <a:pt x="3105" y="1721"/>
                  </a:lnTo>
                  <a:lnTo>
                    <a:pt x="3142" y="1763"/>
                  </a:lnTo>
                  <a:lnTo>
                    <a:pt x="3178" y="1802"/>
                  </a:lnTo>
                  <a:lnTo>
                    <a:pt x="3213" y="1837"/>
                  </a:lnTo>
                  <a:lnTo>
                    <a:pt x="3247" y="1870"/>
                  </a:lnTo>
                  <a:lnTo>
                    <a:pt x="3279" y="1899"/>
                  </a:lnTo>
                  <a:lnTo>
                    <a:pt x="3308" y="1925"/>
                  </a:lnTo>
                  <a:lnTo>
                    <a:pt x="3335" y="1945"/>
                  </a:lnTo>
                  <a:lnTo>
                    <a:pt x="3361" y="1961"/>
                  </a:lnTo>
                  <a:lnTo>
                    <a:pt x="3383" y="1972"/>
                  </a:lnTo>
                  <a:lnTo>
                    <a:pt x="3401" y="1978"/>
                  </a:lnTo>
                  <a:lnTo>
                    <a:pt x="3420" y="1981"/>
                  </a:lnTo>
                  <a:lnTo>
                    <a:pt x="3440" y="1986"/>
                  </a:lnTo>
                  <a:lnTo>
                    <a:pt x="3462" y="1990"/>
                  </a:lnTo>
                  <a:lnTo>
                    <a:pt x="3486" y="1997"/>
                  </a:lnTo>
                  <a:lnTo>
                    <a:pt x="3538" y="2014"/>
                  </a:lnTo>
                  <a:lnTo>
                    <a:pt x="3598" y="2035"/>
                  </a:lnTo>
                  <a:lnTo>
                    <a:pt x="3663" y="2059"/>
                  </a:lnTo>
                  <a:lnTo>
                    <a:pt x="3733" y="2090"/>
                  </a:lnTo>
                  <a:lnTo>
                    <a:pt x="3808" y="2124"/>
                  </a:lnTo>
                  <a:lnTo>
                    <a:pt x="3886" y="2162"/>
                  </a:lnTo>
                  <a:lnTo>
                    <a:pt x="3928" y="2182"/>
                  </a:lnTo>
                  <a:lnTo>
                    <a:pt x="3969" y="2204"/>
                  </a:lnTo>
                  <a:lnTo>
                    <a:pt x="4012" y="2227"/>
                  </a:lnTo>
                  <a:lnTo>
                    <a:pt x="4056" y="2251"/>
                  </a:lnTo>
                  <a:lnTo>
                    <a:pt x="4099" y="2277"/>
                  </a:lnTo>
                  <a:lnTo>
                    <a:pt x="4143" y="2302"/>
                  </a:lnTo>
                  <a:lnTo>
                    <a:pt x="4189" y="2330"/>
                  </a:lnTo>
                  <a:lnTo>
                    <a:pt x="4234" y="2358"/>
                  </a:lnTo>
                  <a:lnTo>
                    <a:pt x="4280" y="2389"/>
                  </a:lnTo>
                  <a:lnTo>
                    <a:pt x="4327" y="2419"/>
                  </a:lnTo>
                  <a:lnTo>
                    <a:pt x="4372" y="2451"/>
                  </a:lnTo>
                  <a:lnTo>
                    <a:pt x="4419" y="2483"/>
                  </a:lnTo>
                  <a:lnTo>
                    <a:pt x="4466" y="2517"/>
                  </a:lnTo>
                  <a:lnTo>
                    <a:pt x="4512" y="2552"/>
                  </a:lnTo>
                  <a:lnTo>
                    <a:pt x="4559" y="2588"/>
                  </a:lnTo>
                  <a:lnTo>
                    <a:pt x="4606" y="2626"/>
                  </a:lnTo>
                  <a:lnTo>
                    <a:pt x="4885" y="2410"/>
                  </a:lnTo>
                  <a:lnTo>
                    <a:pt x="4884" y="2390"/>
                  </a:lnTo>
                  <a:lnTo>
                    <a:pt x="4883" y="2369"/>
                  </a:lnTo>
                  <a:lnTo>
                    <a:pt x="4879" y="2349"/>
                  </a:lnTo>
                  <a:lnTo>
                    <a:pt x="4876" y="2328"/>
                  </a:lnTo>
                  <a:lnTo>
                    <a:pt x="4871" y="2307"/>
                  </a:lnTo>
                  <a:lnTo>
                    <a:pt x="4865" y="2287"/>
                  </a:lnTo>
                  <a:lnTo>
                    <a:pt x="4858" y="2266"/>
                  </a:lnTo>
                  <a:lnTo>
                    <a:pt x="4851" y="2246"/>
                  </a:lnTo>
                  <a:lnTo>
                    <a:pt x="4835" y="2206"/>
                  </a:lnTo>
                  <a:lnTo>
                    <a:pt x="4816" y="2168"/>
                  </a:lnTo>
                  <a:lnTo>
                    <a:pt x="4797" y="2132"/>
                  </a:lnTo>
                  <a:lnTo>
                    <a:pt x="4776" y="2097"/>
                  </a:lnTo>
                  <a:lnTo>
                    <a:pt x="4756" y="2065"/>
                  </a:lnTo>
                  <a:lnTo>
                    <a:pt x="4737" y="2036"/>
                  </a:lnTo>
                  <a:lnTo>
                    <a:pt x="4719" y="2010"/>
                  </a:lnTo>
                  <a:lnTo>
                    <a:pt x="4703" y="1988"/>
                  </a:lnTo>
                  <a:lnTo>
                    <a:pt x="4678" y="1958"/>
                  </a:lnTo>
                  <a:lnTo>
                    <a:pt x="4669" y="1946"/>
                  </a:lnTo>
                  <a:lnTo>
                    <a:pt x="4657" y="1924"/>
                  </a:lnTo>
                  <a:lnTo>
                    <a:pt x="4641" y="1898"/>
                  </a:lnTo>
                  <a:lnTo>
                    <a:pt x="4621" y="1869"/>
                  </a:lnTo>
                  <a:lnTo>
                    <a:pt x="4595" y="1836"/>
                  </a:lnTo>
                  <a:lnTo>
                    <a:pt x="4567" y="1800"/>
                  </a:lnTo>
                  <a:lnTo>
                    <a:pt x="4535" y="1763"/>
                  </a:lnTo>
                  <a:lnTo>
                    <a:pt x="4498" y="1722"/>
                  </a:lnTo>
                  <a:lnTo>
                    <a:pt x="4460" y="1678"/>
                  </a:lnTo>
                  <a:lnTo>
                    <a:pt x="4419" y="1634"/>
                  </a:lnTo>
                  <a:lnTo>
                    <a:pt x="4375" y="1587"/>
                  </a:lnTo>
                  <a:lnTo>
                    <a:pt x="4328" y="1538"/>
                  </a:lnTo>
                  <a:lnTo>
                    <a:pt x="4280" y="1489"/>
                  </a:lnTo>
                  <a:lnTo>
                    <a:pt x="4178" y="1389"/>
                  </a:lnTo>
                  <a:lnTo>
                    <a:pt x="4073" y="1286"/>
                  </a:lnTo>
                  <a:lnTo>
                    <a:pt x="3965" y="1183"/>
                  </a:lnTo>
                  <a:lnTo>
                    <a:pt x="3857" y="1084"/>
                  </a:lnTo>
                  <a:lnTo>
                    <a:pt x="3752" y="988"/>
                  </a:lnTo>
                  <a:lnTo>
                    <a:pt x="3650" y="899"/>
                  </a:lnTo>
                  <a:lnTo>
                    <a:pt x="3557" y="818"/>
                  </a:lnTo>
                  <a:lnTo>
                    <a:pt x="3472" y="748"/>
                  </a:lnTo>
                  <a:lnTo>
                    <a:pt x="3433" y="717"/>
                  </a:lnTo>
                  <a:lnTo>
                    <a:pt x="3398" y="690"/>
                  </a:lnTo>
                  <a:lnTo>
                    <a:pt x="3366" y="667"/>
                  </a:lnTo>
                  <a:lnTo>
                    <a:pt x="3338" y="647"/>
                  </a:lnTo>
                  <a:lnTo>
                    <a:pt x="3285" y="611"/>
                  </a:lnTo>
                  <a:lnTo>
                    <a:pt x="3231" y="571"/>
                  </a:lnTo>
                  <a:lnTo>
                    <a:pt x="3175" y="528"/>
                  </a:lnTo>
                  <a:lnTo>
                    <a:pt x="3119" y="484"/>
                  </a:lnTo>
                  <a:lnTo>
                    <a:pt x="3062" y="438"/>
                  </a:lnTo>
                  <a:lnTo>
                    <a:pt x="3007" y="391"/>
                  </a:lnTo>
                  <a:lnTo>
                    <a:pt x="2952" y="346"/>
                  </a:lnTo>
                  <a:lnTo>
                    <a:pt x="2900" y="300"/>
                  </a:lnTo>
                  <a:lnTo>
                    <a:pt x="2803" y="217"/>
                  </a:lnTo>
                  <a:lnTo>
                    <a:pt x="2722" y="146"/>
                  </a:lnTo>
                  <a:lnTo>
                    <a:pt x="2689" y="118"/>
                  </a:lnTo>
                  <a:lnTo>
                    <a:pt x="2661" y="95"/>
                  </a:lnTo>
                  <a:lnTo>
                    <a:pt x="2639" y="78"/>
                  </a:lnTo>
                  <a:lnTo>
                    <a:pt x="2624" y="69"/>
                  </a:lnTo>
                  <a:lnTo>
                    <a:pt x="2609" y="60"/>
                  </a:lnTo>
                  <a:lnTo>
                    <a:pt x="2595" y="50"/>
                  </a:lnTo>
                  <a:lnTo>
                    <a:pt x="2584" y="41"/>
                  </a:lnTo>
                  <a:lnTo>
                    <a:pt x="2572" y="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Freeform 172"/>
            <p:cNvSpPr/>
            <p:nvPr/>
          </p:nvSpPr>
          <p:spPr>
            <a:xfrm>
              <a:off x="7677000" y="5786640"/>
              <a:ext cx="780840" cy="45504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455040"/>
                <a:gd name="textAreaBottom" fmla="*/ 455400 h 455040"/>
              </a:gdLst>
              <a:ahLst/>
              <a:rect l="textAreaLeft" t="textAreaTop" r="textAreaRight" b="textAreaBottom"/>
              <a:pathLst>
                <a:path w="4885" h="2626">
                  <a:moveTo>
                    <a:pt x="2572" y="32"/>
                  </a:moveTo>
                  <a:lnTo>
                    <a:pt x="2556" y="30"/>
                  </a:lnTo>
                  <a:lnTo>
                    <a:pt x="2541" y="29"/>
                  </a:lnTo>
                  <a:lnTo>
                    <a:pt x="2524" y="29"/>
                  </a:lnTo>
                  <a:lnTo>
                    <a:pt x="2509" y="30"/>
                  </a:lnTo>
                  <a:lnTo>
                    <a:pt x="2477" y="32"/>
                  </a:lnTo>
                  <a:lnTo>
                    <a:pt x="2447" y="34"/>
                  </a:lnTo>
                  <a:lnTo>
                    <a:pt x="2433" y="34"/>
                  </a:lnTo>
                  <a:lnTo>
                    <a:pt x="2419" y="33"/>
                  </a:lnTo>
                  <a:lnTo>
                    <a:pt x="2405" y="32"/>
                  </a:lnTo>
                  <a:lnTo>
                    <a:pt x="2392" y="29"/>
                  </a:lnTo>
                  <a:lnTo>
                    <a:pt x="2381" y="27"/>
                  </a:lnTo>
                  <a:lnTo>
                    <a:pt x="2370" y="22"/>
                  </a:lnTo>
                  <a:lnTo>
                    <a:pt x="2360" y="15"/>
                  </a:lnTo>
                  <a:lnTo>
                    <a:pt x="2350" y="8"/>
                  </a:lnTo>
                  <a:lnTo>
                    <a:pt x="2347" y="5"/>
                  </a:lnTo>
                  <a:lnTo>
                    <a:pt x="2343" y="2"/>
                  </a:lnTo>
                  <a:lnTo>
                    <a:pt x="2340" y="1"/>
                  </a:lnTo>
                  <a:lnTo>
                    <a:pt x="2337" y="0"/>
                  </a:lnTo>
                  <a:lnTo>
                    <a:pt x="2334" y="0"/>
                  </a:lnTo>
                  <a:lnTo>
                    <a:pt x="2331" y="1"/>
                  </a:lnTo>
                  <a:lnTo>
                    <a:pt x="2329" y="2"/>
                  </a:lnTo>
                  <a:lnTo>
                    <a:pt x="2326" y="5"/>
                  </a:lnTo>
                  <a:lnTo>
                    <a:pt x="2321" y="9"/>
                  </a:lnTo>
                  <a:lnTo>
                    <a:pt x="2317" y="17"/>
                  </a:lnTo>
                  <a:lnTo>
                    <a:pt x="2313" y="26"/>
                  </a:lnTo>
                  <a:lnTo>
                    <a:pt x="2308" y="36"/>
                  </a:lnTo>
                  <a:lnTo>
                    <a:pt x="2300" y="56"/>
                  </a:lnTo>
                  <a:lnTo>
                    <a:pt x="2288" y="76"/>
                  </a:lnTo>
                  <a:lnTo>
                    <a:pt x="2282" y="85"/>
                  </a:lnTo>
                  <a:lnTo>
                    <a:pt x="2275" y="92"/>
                  </a:lnTo>
                  <a:lnTo>
                    <a:pt x="2272" y="95"/>
                  </a:lnTo>
                  <a:lnTo>
                    <a:pt x="2267" y="97"/>
                  </a:lnTo>
                  <a:lnTo>
                    <a:pt x="2263" y="99"/>
                  </a:lnTo>
                  <a:lnTo>
                    <a:pt x="2258" y="100"/>
                  </a:lnTo>
                  <a:lnTo>
                    <a:pt x="2237" y="103"/>
                  </a:lnTo>
                  <a:lnTo>
                    <a:pt x="2212" y="105"/>
                  </a:lnTo>
                  <a:lnTo>
                    <a:pt x="2185" y="109"/>
                  </a:lnTo>
                  <a:lnTo>
                    <a:pt x="2152" y="113"/>
                  </a:lnTo>
                  <a:lnTo>
                    <a:pt x="2111" y="119"/>
                  </a:lnTo>
                  <a:lnTo>
                    <a:pt x="2062" y="126"/>
                  </a:lnTo>
                  <a:lnTo>
                    <a:pt x="2003" y="135"/>
                  </a:lnTo>
                  <a:lnTo>
                    <a:pt x="1933" y="146"/>
                  </a:lnTo>
                  <a:lnTo>
                    <a:pt x="1806" y="166"/>
                  </a:lnTo>
                  <a:lnTo>
                    <a:pt x="1694" y="185"/>
                  </a:lnTo>
                  <a:lnTo>
                    <a:pt x="1596" y="202"/>
                  </a:lnTo>
                  <a:lnTo>
                    <a:pt x="1510" y="217"/>
                  </a:lnTo>
                  <a:lnTo>
                    <a:pt x="1436" y="230"/>
                  </a:lnTo>
                  <a:lnTo>
                    <a:pt x="1371" y="241"/>
                  </a:lnTo>
                  <a:lnTo>
                    <a:pt x="1315" y="249"/>
                  </a:lnTo>
                  <a:lnTo>
                    <a:pt x="1265" y="255"/>
                  </a:lnTo>
                  <a:lnTo>
                    <a:pt x="1243" y="256"/>
                  </a:lnTo>
                  <a:lnTo>
                    <a:pt x="1222" y="256"/>
                  </a:lnTo>
                  <a:lnTo>
                    <a:pt x="1202" y="255"/>
                  </a:lnTo>
                  <a:lnTo>
                    <a:pt x="1182" y="253"/>
                  </a:lnTo>
                  <a:lnTo>
                    <a:pt x="1163" y="250"/>
                  </a:lnTo>
                  <a:lnTo>
                    <a:pt x="1146" y="246"/>
                  </a:lnTo>
                  <a:lnTo>
                    <a:pt x="1128" y="242"/>
                  </a:lnTo>
                  <a:lnTo>
                    <a:pt x="1111" y="235"/>
                  </a:lnTo>
                  <a:lnTo>
                    <a:pt x="1093" y="228"/>
                  </a:lnTo>
                  <a:lnTo>
                    <a:pt x="1076" y="220"/>
                  </a:lnTo>
                  <a:lnTo>
                    <a:pt x="1058" y="209"/>
                  </a:lnTo>
                  <a:lnTo>
                    <a:pt x="1040" y="197"/>
                  </a:lnTo>
                  <a:lnTo>
                    <a:pt x="1021" y="185"/>
                  </a:lnTo>
                  <a:lnTo>
                    <a:pt x="1001" y="171"/>
                  </a:lnTo>
                  <a:lnTo>
                    <a:pt x="981" y="155"/>
                  </a:lnTo>
                  <a:lnTo>
                    <a:pt x="959" y="138"/>
                  </a:lnTo>
                  <a:lnTo>
                    <a:pt x="0" y="230"/>
                  </a:lnTo>
                  <a:lnTo>
                    <a:pt x="12" y="238"/>
                  </a:lnTo>
                  <a:lnTo>
                    <a:pt x="24" y="251"/>
                  </a:lnTo>
                  <a:lnTo>
                    <a:pt x="37" y="265"/>
                  </a:lnTo>
                  <a:lnTo>
                    <a:pt x="49" y="283"/>
                  </a:lnTo>
                  <a:lnTo>
                    <a:pt x="62" y="301"/>
                  </a:lnTo>
                  <a:lnTo>
                    <a:pt x="73" y="322"/>
                  </a:lnTo>
                  <a:lnTo>
                    <a:pt x="84" y="343"/>
                  </a:lnTo>
                  <a:lnTo>
                    <a:pt x="95" y="367"/>
                  </a:lnTo>
                  <a:lnTo>
                    <a:pt x="104" y="390"/>
                  </a:lnTo>
                  <a:lnTo>
                    <a:pt x="112" y="415"/>
                  </a:lnTo>
                  <a:lnTo>
                    <a:pt x="118" y="439"/>
                  </a:lnTo>
                  <a:lnTo>
                    <a:pt x="124" y="463"/>
                  </a:lnTo>
                  <a:lnTo>
                    <a:pt x="126" y="486"/>
                  </a:lnTo>
                  <a:lnTo>
                    <a:pt x="127" y="508"/>
                  </a:lnTo>
                  <a:lnTo>
                    <a:pt x="127" y="519"/>
                  </a:lnTo>
                  <a:lnTo>
                    <a:pt x="127" y="529"/>
                  </a:lnTo>
                  <a:lnTo>
                    <a:pt x="126" y="540"/>
                  </a:lnTo>
                  <a:lnTo>
                    <a:pt x="124" y="549"/>
                  </a:lnTo>
                  <a:lnTo>
                    <a:pt x="183" y="543"/>
                  </a:lnTo>
                  <a:lnTo>
                    <a:pt x="244" y="537"/>
                  </a:lnTo>
                  <a:lnTo>
                    <a:pt x="305" y="531"/>
                  </a:lnTo>
                  <a:lnTo>
                    <a:pt x="366" y="527"/>
                  </a:lnTo>
                  <a:lnTo>
                    <a:pt x="426" y="522"/>
                  </a:lnTo>
                  <a:lnTo>
                    <a:pt x="487" y="519"/>
                  </a:lnTo>
                  <a:lnTo>
                    <a:pt x="548" y="515"/>
                  </a:lnTo>
                  <a:lnTo>
                    <a:pt x="606" y="513"/>
                  </a:lnTo>
                  <a:lnTo>
                    <a:pt x="665" y="510"/>
                  </a:lnTo>
                  <a:lnTo>
                    <a:pt x="721" y="510"/>
                  </a:lnTo>
                  <a:lnTo>
                    <a:pt x="776" y="509"/>
                  </a:lnTo>
                  <a:lnTo>
                    <a:pt x="829" y="510"/>
                  </a:lnTo>
                  <a:lnTo>
                    <a:pt x="881" y="513"/>
                  </a:lnTo>
                  <a:lnTo>
                    <a:pt x="930" y="515"/>
                  </a:lnTo>
                  <a:lnTo>
                    <a:pt x="976" y="519"/>
                  </a:lnTo>
                  <a:lnTo>
                    <a:pt x="1020" y="523"/>
                  </a:lnTo>
                  <a:lnTo>
                    <a:pt x="1030" y="527"/>
                  </a:lnTo>
                  <a:lnTo>
                    <a:pt x="1058" y="535"/>
                  </a:lnTo>
                  <a:lnTo>
                    <a:pt x="1077" y="542"/>
                  </a:lnTo>
                  <a:lnTo>
                    <a:pt x="1098" y="550"/>
                  </a:lnTo>
                  <a:lnTo>
                    <a:pt x="1120" y="559"/>
                  </a:lnTo>
                  <a:lnTo>
                    <a:pt x="1143" y="571"/>
                  </a:lnTo>
                  <a:lnTo>
                    <a:pt x="1167" y="583"/>
                  </a:lnTo>
                  <a:lnTo>
                    <a:pt x="1189" y="597"/>
                  </a:lnTo>
                  <a:lnTo>
                    <a:pt x="1200" y="605"/>
                  </a:lnTo>
                  <a:lnTo>
                    <a:pt x="1210" y="612"/>
                  </a:lnTo>
                  <a:lnTo>
                    <a:pt x="1219" y="620"/>
                  </a:lnTo>
                  <a:lnTo>
                    <a:pt x="1229" y="630"/>
                  </a:lnTo>
                  <a:lnTo>
                    <a:pt x="1237" y="638"/>
                  </a:lnTo>
                  <a:lnTo>
                    <a:pt x="1244" y="647"/>
                  </a:lnTo>
                  <a:lnTo>
                    <a:pt x="1251" y="658"/>
                  </a:lnTo>
                  <a:lnTo>
                    <a:pt x="1257" y="667"/>
                  </a:lnTo>
                  <a:lnTo>
                    <a:pt x="1261" y="677"/>
                  </a:lnTo>
                  <a:lnTo>
                    <a:pt x="1265" y="688"/>
                  </a:lnTo>
                  <a:lnTo>
                    <a:pt x="1266" y="700"/>
                  </a:lnTo>
                  <a:lnTo>
                    <a:pt x="1267" y="710"/>
                  </a:lnTo>
                  <a:lnTo>
                    <a:pt x="1268" y="722"/>
                  </a:lnTo>
                  <a:lnTo>
                    <a:pt x="1271" y="731"/>
                  </a:lnTo>
                  <a:lnTo>
                    <a:pt x="1274" y="738"/>
                  </a:lnTo>
                  <a:lnTo>
                    <a:pt x="1279" y="745"/>
                  </a:lnTo>
                  <a:lnTo>
                    <a:pt x="1286" y="750"/>
                  </a:lnTo>
                  <a:lnTo>
                    <a:pt x="1293" y="753"/>
                  </a:lnTo>
                  <a:lnTo>
                    <a:pt x="1301" y="757"/>
                  </a:lnTo>
                  <a:lnTo>
                    <a:pt x="1311" y="758"/>
                  </a:lnTo>
                  <a:lnTo>
                    <a:pt x="1321" y="758"/>
                  </a:lnTo>
                  <a:lnTo>
                    <a:pt x="1332" y="758"/>
                  </a:lnTo>
                  <a:lnTo>
                    <a:pt x="1343" y="757"/>
                  </a:lnTo>
                  <a:lnTo>
                    <a:pt x="1356" y="755"/>
                  </a:lnTo>
                  <a:lnTo>
                    <a:pt x="1381" y="749"/>
                  </a:lnTo>
                  <a:lnTo>
                    <a:pt x="1407" y="742"/>
                  </a:lnTo>
                  <a:lnTo>
                    <a:pt x="1433" y="732"/>
                  </a:lnTo>
                  <a:lnTo>
                    <a:pt x="1458" y="722"/>
                  </a:lnTo>
                  <a:lnTo>
                    <a:pt x="1482" y="711"/>
                  </a:lnTo>
                  <a:lnTo>
                    <a:pt x="1503" y="701"/>
                  </a:lnTo>
                  <a:lnTo>
                    <a:pt x="1535" y="686"/>
                  </a:lnTo>
                  <a:lnTo>
                    <a:pt x="1546" y="679"/>
                  </a:lnTo>
                  <a:lnTo>
                    <a:pt x="1639" y="494"/>
                  </a:lnTo>
                  <a:lnTo>
                    <a:pt x="1823" y="494"/>
                  </a:lnTo>
                  <a:lnTo>
                    <a:pt x="1979" y="616"/>
                  </a:lnTo>
                  <a:lnTo>
                    <a:pt x="2071" y="616"/>
                  </a:lnTo>
                  <a:lnTo>
                    <a:pt x="2258" y="771"/>
                  </a:lnTo>
                  <a:lnTo>
                    <a:pt x="2535" y="771"/>
                  </a:lnTo>
                  <a:lnTo>
                    <a:pt x="2531" y="791"/>
                  </a:lnTo>
                  <a:lnTo>
                    <a:pt x="2532" y="815"/>
                  </a:lnTo>
                  <a:lnTo>
                    <a:pt x="2537" y="843"/>
                  </a:lnTo>
                  <a:lnTo>
                    <a:pt x="2546" y="875"/>
                  </a:lnTo>
                  <a:lnTo>
                    <a:pt x="2559" y="910"/>
                  </a:lnTo>
                  <a:lnTo>
                    <a:pt x="2576" y="948"/>
                  </a:lnTo>
                  <a:lnTo>
                    <a:pt x="2595" y="989"/>
                  </a:lnTo>
                  <a:lnTo>
                    <a:pt x="2618" y="1033"/>
                  </a:lnTo>
                  <a:lnTo>
                    <a:pt x="2643" y="1079"/>
                  </a:lnTo>
                  <a:lnTo>
                    <a:pt x="2671" y="1126"/>
                  </a:lnTo>
                  <a:lnTo>
                    <a:pt x="2701" y="1175"/>
                  </a:lnTo>
                  <a:lnTo>
                    <a:pt x="2733" y="1225"/>
                  </a:lnTo>
                  <a:lnTo>
                    <a:pt x="2766" y="1277"/>
                  </a:lnTo>
                  <a:lnTo>
                    <a:pt x="2801" y="1328"/>
                  </a:lnTo>
                  <a:lnTo>
                    <a:pt x="2838" y="1381"/>
                  </a:lnTo>
                  <a:lnTo>
                    <a:pt x="2875" y="1432"/>
                  </a:lnTo>
                  <a:lnTo>
                    <a:pt x="2913" y="1483"/>
                  </a:lnTo>
                  <a:lnTo>
                    <a:pt x="2952" y="1534"/>
                  </a:lnTo>
                  <a:lnTo>
                    <a:pt x="2990" y="1583"/>
                  </a:lnTo>
                  <a:lnTo>
                    <a:pt x="3029" y="1631"/>
                  </a:lnTo>
                  <a:lnTo>
                    <a:pt x="3067" y="1677"/>
                  </a:lnTo>
                  <a:lnTo>
                    <a:pt x="3105" y="1721"/>
                  </a:lnTo>
                  <a:lnTo>
                    <a:pt x="3142" y="1763"/>
                  </a:lnTo>
                  <a:lnTo>
                    <a:pt x="3178" y="1802"/>
                  </a:lnTo>
                  <a:lnTo>
                    <a:pt x="3213" y="1837"/>
                  </a:lnTo>
                  <a:lnTo>
                    <a:pt x="3247" y="1870"/>
                  </a:lnTo>
                  <a:lnTo>
                    <a:pt x="3279" y="1899"/>
                  </a:lnTo>
                  <a:lnTo>
                    <a:pt x="3308" y="1925"/>
                  </a:lnTo>
                  <a:lnTo>
                    <a:pt x="3335" y="1945"/>
                  </a:lnTo>
                  <a:lnTo>
                    <a:pt x="3361" y="1961"/>
                  </a:lnTo>
                  <a:lnTo>
                    <a:pt x="3383" y="1972"/>
                  </a:lnTo>
                  <a:lnTo>
                    <a:pt x="3401" y="1978"/>
                  </a:lnTo>
                  <a:lnTo>
                    <a:pt x="3420" y="1981"/>
                  </a:lnTo>
                  <a:lnTo>
                    <a:pt x="3440" y="1986"/>
                  </a:lnTo>
                  <a:lnTo>
                    <a:pt x="3462" y="1990"/>
                  </a:lnTo>
                  <a:lnTo>
                    <a:pt x="3486" y="1997"/>
                  </a:lnTo>
                  <a:lnTo>
                    <a:pt x="3538" y="2014"/>
                  </a:lnTo>
                  <a:lnTo>
                    <a:pt x="3598" y="2035"/>
                  </a:lnTo>
                  <a:lnTo>
                    <a:pt x="3663" y="2059"/>
                  </a:lnTo>
                  <a:lnTo>
                    <a:pt x="3733" y="2090"/>
                  </a:lnTo>
                  <a:lnTo>
                    <a:pt x="3808" y="2124"/>
                  </a:lnTo>
                  <a:lnTo>
                    <a:pt x="3886" y="2162"/>
                  </a:lnTo>
                  <a:lnTo>
                    <a:pt x="3928" y="2182"/>
                  </a:lnTo>
                  <a:lnTo>
                    <a:pt x="3969" y="2204"/>
                  </a:lnTo>
                  <a:lnTo>
                    <a:pt x="4012" y="2227"/>
                  </a:lnTo>
                  <a:lnTo>
                    <a:pt x="4056" y="2251"/>
                  </a:lnTo>
                  <a:lnTo>
                    <a:pt x="4099" y="2277"/>
                  </a:lnTo>
                  <a:lnTo>
                    <a:pt x="4143" y="2302"/>
                  </a:lnTo>
                  <a:lnTo>
                    <a:pt x="4189" y="2330"/>
                  </a:lnTo>
                  <a:lnTo>
                    <a:pt x="4234" y="2358"/>
                  </a:lnTo>
                  <a:lnTo>
                    <a:pt x="4280" y="2389"/>
                  </a:lnTo>
                  <a:lnTo>
                    <a:pt x="4327" y="2419"/>
                  </a:lnTo>
                  <a:lnTo>
                    <a:pt x="4372" y="2451"/>
                  </a:lnTo>
                  <a:lnTo>
                    <a:pt x="4419" y="2483"/>
                  </a:lnTo>
                  <a:lnTo>
                    <a:pt x="4466" y="2517"/>
                  </a:lnTo>
                  <a:lnTo>
                    <a:pt x="4512" y="2552"/>
                  </a:lnTo>
                  <a:lnTo>
                    <a:pt x="4559" y="2588"/>
                  </a:lnTo>
                  <a:lnTo>
                    <a:pt x="4606" y="2626"/>
                  </a:lnTo>
                  <a:lnTo>
                    <a:pt x="4885" y="2410"/>
                  </a:lnTo>
                  <a:lnTo>
                    <a:pt x="4884" y="2390"/>
                  </a:lnTo>
                  <a:lnTo>
                    <a:pt x="4883" y="2369"/>
                  </a:lnTo>
                  <a:lnTo>
                    <a:pt x="4879" y="2349"/>
                  </a:lnTo>
                  <a:lnTo>
                    <a:pt x="4876" y="2328"/>
                  </a:lnTo>
                  <a:lnTo>
                    <a:pt x="4871" y="2307"/>
                  </a:lnTo>
                  <a:lnTo>
                    <a:pt x="4865" y="2287"/>
                  </a:lnTo>
                  <a:lnTo>
                    <a:pt x="4858" y="2266"/>
                  </a:lnTo>
                  <a:lnTo>
                    <a:pt x="4851" y="2246"/>
                  </a:lnTo>
                  <a:lnTo>
                    <a:pt x="4835" y="2206"/>
                  </a:lnTo>
                  <a:lnTo>
                    <a:pt x="4816" y="2168"/>
                  </a:lnTo>
                  <a:lnTo>
                    <a:pt x="4797" y="2132"/>
                  </a:lnTo>
                  <a:lnTo>
                    <a:pt x="4776" y="2097"/>
                  </a:lnTo>
                  <a:lnTo>
                    <a:pt x="4756" y="2065"/>
                  </a:lnTo>
                  <a:lnTo>
                    <a:pt x="4737" y="2036"/>
                  </a:lnTo>
                  <a:lnTo>
                    <a:pt x="4719" y="2010"/>
                  </a:lnTo>
                  <a:lnTo>
                    <a:pt x="4703" y="1988"/>
                  </a:lnTo>
                  <a:lnTo>
                    <a:pt x="4678" y="1958"/>
                  </a:lnTo>
                  <a:lnTo>
                    <a:pt x="4669" y="1946"/>
                  </a:lnTo>
                  <a:lnTo>
                    <a:pt x="4657" y="1924"/>
                  </a:lnTo>
                  <a:lnTo>
                    <a:pt x="4641" y="1898"/>
                  </a:lnTo>
                  <a:lnTo>
                    <a:pt x="4621" y="1869"/>
                  </a:lnTo>
                  <a:lnTo>
                    <a:pt x="4595" y="1836"/>
                  </a:lnTo>
                  <a:lnTo>
                    <a:pt x="4567" y="1800"/>
                  </a:lnTo>
                  <a:lnTo>
                    <a:pt x="4535" y="1763"/>
                  </a:lnTo>
                  <a:lnTo>
                    <a:pt x="4498" y="1722"/>
                  </a:lnTo>
                  <a:lnTo>
                    <a:pt x="4460" y="1678"/>
                  </a:lnTo>
                  <a:lnTo>
                    <a:pt x="4419" y="1634"/>
                  </a:lnTo>
                  <a:lnTo>
                    <a:pt x="4375" y="1587"/>
                  </a:lnTo>
                  <a:lnTo>
                    <a:pt x="4328" y="1538"/>
                  </a:lnTo>
                  <a:lnTo>
                    <a:pt x="4280" y="1489"/>
                  </a:lnTo>
                  <a:lnTo>
                    <a:pt x="4178" y="1389"/>
                  </a:lnTo>
                  <a:lnTo>
                    <a:pt x="4073" y="1286"/>
                  </a:lnTo>
                  <a:lnTo>
                    <a:pt x="3965" y="1183"/>
                  </a:lnTo>
                  <a:lnTo>
                    <a:pt x="3857" y="1084"/>
                  </a:lnTo>
                  <a:lnTo>
                    <a:pt x="3752" y="988"/>
                  </a:lnTo>
                  <a:lnTo>
                    <a:pt x="3650" y="899"/>
                  </a:lnTo>
                  <a:lnTo>
                    <a:pt x="3557" y="818"/>
                  </a:lnTo>
                  <a:lnTo>
                    <a:pt x="3472" y="748"/>
                  </a:lnTo>
                  <a:lnTo>
                    <a:pt x="3433" y="717"/>
                  </a:lnTo>
                  <a:lnTo>
                    <a:pt x="3398" y="690"/>
                  </a:lnTo>
                  <a:lnTo>
                    <a:pt x="3366" y="667"/>
                  </a:lnTo>
                  <a:lnTo>
                    <a:pt x="3338" y="647"/>
                  </a:lnTo>
                  <a:lnTo>
                    <a:pt x="3285" y="611"/>
                  </a:lnTo>
                  <a:lnTo>
                    <a:pt x="3231" y="571"/>
                  </a:lnTo>
                  <a:lnTo>
                    <a:pt x="3175" y="528"/>
                  </a:lnTo>
                  <a:lnTo>
                    <a:pt x="3119" y="484"/>
                  </a:lnTo>
                  <a:lnTo>
                    <a:pt x="3062" y="438"/>
                  </a:lnTo>
                  <a:lnTo>
                    <a:pt x="3007" y="391"/>
                  </a:lnTo>
                  <a:lnTo>
                    <a:pt x="2952" y="346"/>
                  </a:lnTo>
                  <a:lnTo>
                    <a:pt x="2900" y="300"/>
                  </a:lnTo>
                  <a:lnTo>
                    <a:pt x="2803" y="217"/>
                  </a:lnTo>
                  <a:lnTo>
                    <a:pt x="2722" y="146"/>
                  </a:lnTo>
                  <a:lnTo>
                    <a:pt x="2689" y="118"/>
                  </a:lnTo>
                  <a:lnTo>
                    <a:pt x="2661" y="95"/>
                  </a:lnTo>
                  <a:lnTo>
                    <a:pt x="2639" y="78"/>
                  </a:lnTo>
                  <a:lnTo>
                    <a:pt x="2624" y="69"/>
                  </a:lnTo>
                  <a:lnTo>
                    <a:pt x="2609" y="60"/>
                  </a:lnTo>
                  <a:lnTo>
                    <a:pt x="2595" y="50"/>
                  </a:lnTo>
                  <a:lnTo>
                    <a:pt x="2584" y="41"/>
                  </a:lnTo>
                  <a:lnTo>
                    <a:pt x="2572" y="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Freeform 173"/>
            <p:cNvSpPr/>
            <p:nvPr/>
          </p:nvSpPr>
          <p:spPr>
            <a:xfrm>
              <a:off x="7485480" y="5097240"/>
              <a:ext cx="196200" cy="1425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38" h="822">
                  <a:moveTo>
                    <a:pt x="1124" y="762"/>
                  </a:moveTo>
                  <a:lnTo>
                    <a:pt x="1238" y="776"/>
                  </a:lnTo>
                  <a:lnTo>
                    <a:pt x="1238" y="762"/>
                  </a:lnTo>
                  <a:lnTo>
                    <a:pt x="1237" y="747"/>
                  </a:lnTo>
                  <a:lnTo>
                    <a:pt x="1236" y="732"/>
                  </a:lnTo>
                  <a:lnTo>
                    <a:pt x="1234" y="717"/>
                  </a:lnTo>
                  <a:lnTo>
                    <a:pt x="1230" y="703"/>
                  </a:lnTo>
                  <a:lnTo>
                    <a:pt x="1227" y="688"/>
                  </a:lnTo>
                  <a:lnTo>
                    <a:pt x="1222" y="672"/>
                  </a:lnTo>
                  <a:lnTo>
                    <a:pt x="1217" y="657"/>
                  </a:lnTo>
                  <a:lnTo>
                    <a:pt x="1212" y="641"/>
                  </a:lnTo>
                  <a:lnTo>
                    <a:pt x="1205" y="626"/>
                  </a:lnTo>
                  <a:lnTo>
                    <a:pt x="1198" y="611"/>
                  </a:lnTo>
                  <a:lnTo>
                    <a:pt x="1189" y="594"/>
                  </a:lnTo>
                  <a:lnTo>
                    <a:pt x="1181" y="579"/>
                  </a:lnTo>
                  <a:lnTo>
                    <a:pt x="1171" y="563"/>
                  </a:lnTo>
                  <a:lnTo>
                    <a:pt x="1160" y="546"/>
                  </a:lnTo>
                  <a:lnTo>
                    <a:pt x="1150" y="531"/>
                  </a:lnTo>
                  <a:lnTo>
                    <a:pt x="1124" y="497"/>
                  </a:lnTo>
                  <a:lnTo>
                    <a:pt x="1096" y="465"/>
                  </a:lnTo>
                  <a:lnTo>
                    <a:pt x="1064" y="431"/>
                  </a:lnTo>
                  <a:lnTo>
                    <a:pt x="1029" y="396"/>
                  </a:lnTo>
                  <a:lnTo>
                    <a:pt x="991" y="361"/>
                  </a:lnTo>
                  <a:lnTo>
                    <a:pt x="949" y="326"/>
                  </a:lnTo>
                  <a:lnTo>
                    <a:pt x="903" y="289"/>
                  </a:lnTo>
                  <a:lnTo>
                    <a:pt x="853" y="252"/>
                  </a:lnTo>
                  <a:lnTo>
                    <a:pt x="844" y="267"/>
                  </a:lnTo>
                  <a:lnTo>
                    <a:pt x="835" y="281"/>
                  </a:lnTo>
                  <a:lnTo>
                    <a:pt x="827" y="294"/>
                  </a:lnTo>
                  <a:lnTo>
                    <a:pt x="819" y="305"/>
                  </a:lnTo>
                  <a:lnTo>
                    <a:pt x="811" y="314"/>
                  </a:lnTo>
                  <a:lnTo>
                    <a:pt x="803" y="322"/>
                  </a:lnTo>
                  <a:lnTo>
                    <a:pt x="796" y="329"/>
                  </a:lnTo>
                  <a:lnTo>
                    <a:pt x="789" y="335"/>
                  </a:lnTo>
                  <a:lnTo>
                    <a:pt x="782" y="340"/>
                  </a:lnTo>
                  <a:lnTo>
                    <a:pt x="775" y="342"/>
                  </a:lnTo>
                  <a:lnTo>
                    <a:pt x="768" y="344"/>
                  </a:lnTo>
                  <a:lnTo>
                    <a:pt x="762" y="344"/>
                  </a:lnTo>
                  <a:lnTo>
                    <a:pt x="756" y="344"/>
                  </a:lnTo>
                  <a:lnTo>
                    <a:pt x="750" y="342"/>
                  </a:lnTo>
                  <a:lnTo>
                    <a:pt x="745" y="340"/>
                  </a:lnTo>
                  <a:lnTo>
                    <a:pt x="741" y="335"/>
                  </a:lnTo>
                  <a:lnTo>
                    <a:pt x="736" y="330"/>
                  </a:lnTo>
                  <a:lnTo>
                    <a:pt x="733" y="323"/>
                  </a:lnTo>
                  <a:lnTo>
                    <a:pt x="729" y="316"/>
                  </a:lnTo>
                  <a:lnTo>
                    <a:pt x="727" y="307"/>
                  </a:lnTo>
                  <a:lnTo>
                    <a:pt x="724" y="298"/>
                  </a:lnTo>
                  <a:lnTo>
                    <a:pt x="723" y="287"/>
                  </a:lnTo>
                  <a:lnTo>
                    <a:pt x="722" y="275"/>
                  </a:lnTo>
                  <a:lnTo>
                    <a:pt x="722" y="263"/>
                  </a:lnTo>
                  <a:lnTo>
                    <a:pt x="722" y="250"/>
                  </a:lnTo>
                  <a:lnTo>
                    <a:pt x="723" y="234"/>
                  </a:lnTo>
                  <a:lnTo>
                    <a:pt x="724" y="219"/>
                  </a:lnTo>
                  <a:lnTo>
                    <a:pt x="727" y="203"/>
                  </a:lnTo>
                  <a:lnTo>
                    <a:pt x="734" y="168"/>
                  </a:lnTo>
                  <a:lnTo>
                    <a:pt x="743" y="128"/>
                  </a:lnTo>
                  <a:lnTo>
                    <a:pt x="744" y="126"/>
                  </a:lnTo>
                  <a:lnTo>
                    <a:pt x="745" y="119"/>
                  </a:lnTo>
                  <a:lnTo>
                    <a:pt x="745" y="115"/>
                  </a:lnTo>
                  <a:lnTo>
                    <a:pt x="743" y="111"/>
                  </a:lnTo>
                  <a:lnTo>
                    <a:pt x="741" y="106"/>
                  </a:lnTo>
                  <a:lnTo>
                    <a:pt x="736" y="102"/>
                  </a:lnTo>
                  <a:lnTo>
                    <a:pt x="729" y="99"/>
                  </a:lnTo>
                  <a:lnTo>
                    <a:pt x="720" y="97"/>
                  </a:lnTo>
                  <a:lnTo>
                    <a:pt x="708" y="94"/>
                  </a:lnTo>
                  <a:lnTo>
                    <a:pt x="692" y="94"/>
                  </a:lnTo>
                  <a:lnTo>
                    <a:pt x="673" y="95"/>
                  </a:lnTo>
                  <a:lnTo>
                    <a:pt x="650" y="99"/>
                  </a:lnTo>
                  <a:lnTo>
                    <a:pt x="623" y="104"/>
                  </a:lnTo>
                  <a:lnTo>
                    <a:pt x="590" y="111"/>
                  </a:lnTo>
                  <a:lnTo>
                    <a:pt x="594" y="108"/>
                  </a:lnTo>
                  <a:lnTo>
                    <a:pt x="598" y="101"/>
                  </a:lnTo>
                  <a:lnTo>
                    <a:pt x="605" y="91"/>
                  </a:lnTo>
                  <a:lnTo>
                    <a:pt x="611" y="79"/>
                  </a:lnTo>
                  <a:lnTo>
                    <a:pt x="612" y="73"/>
                  </a:lnTo>
                  <a:lnTo>
                    <a:pt x="613" y="66"/>
                  </a:lnTo>
                  <a:lnTo>
                    <a:pt x="612" y="60"/>
                  </a:lnTo>
                  <a:lnTo>
                    <a:pt x="609" y="55"/>
                  </a:lnTo>
                  <a:lnTo>
                    <a:pt x="604" y="49"/>
                  </a:lnTo>
                  <a:lnTo>
                    <a:pt x="596" y="44"/>
                  </a:lnTo>
                  <a:lnTo>
                    <a:pt x="587" y="39"/>
                  </a:lnTo>
                  <a:lnTo>
                    <a:pt x="574" y="36"/>
                  </a:lnTo>
                  <a:lnTo>
                    <a:pt x="546" y="29"/>
                  </a:lnTo>
                  <a:lnTo>
                    <a:pt x="519" y="20"/>
                  </a:lnTo>
                  <a:lnTo>
                    <a:pt x="492" y="11"/>
                  </a:lnTo>
                  <a:lnTo>
                    <a:pt x="463" y="4"/>
                  </a:lnTo>
                  <a:lnTo>
                    <a:pt x="448" y="1"/>
                  </a:lnTo>
                  <a:lnTo>
                    <a:pt x="431" y="0"/>
                  </a:lnTo>
                  <a:lnTo>
                    <a:pt x="413" y="0"/>
                  </a:lnTo>
                  <a:lnTo>
                    <a:pt x="394" y="0"/>
                  </a:lnTo>
                  <a:lnTo>
                    <a:pt x="373" y="2"/>
                  </a:lnTo>
                  <a:lnTo>
                    <a:pt x="349" y="6"/>
                  </a:lnTo>
                  <a:lnTo>
                    <a:pt x="324" y="11"/>
                  </a:lnTo>
                  <a:lnTo>
                    <a:pt x="297" y="20"/>
                  </a:lnTo>
                  <a:lnTo>
                    <a:pt x="311" y="111"/>
                  </a:lnTo>
                  <a:lnTo>
                    <a:pt x="305" y="108"/>
                  </a:lnTo>
                  <a:lnTo>
                    <a:pt x="288" y="102"/>
                  </a:lnTo>
                  <a:lnTo>
                    <a:pt x="260" y="93"/>
                  </a:lnTo>
                  <a:lnTo>
                    <a:pt x="219" y="83"/>
                  </a:lnTo>
                  <a:lnTo>
                    <a:pt x="220" y="86"/>
                  </a:lnTo>
                  <a:lnTo>
                    <a:pt x="220" y="95"/>
                  </a:lnTo>
                  <a:lnTo>
                    <a:pt x="221" y="108"/>
                  </a:lnTo>
                  <a:lnTo>
                    <a:pt x="219" y="125"/>
                  </a:lnTo>
                  <a:lnTo>
                    <a:pt x="216" y="134"/>
                  </a:lnTo>
                  <a:lnTo>
                    <a:pt x="214" y="142"/>
                  </a:lnTo>
                  <a:lnTo>
                    <a:pt x="210" y="152"/>
                  </a:lnTo>
                  <a:lnTo>
                    <a:pt x="206" y="160"/>
                  </a:lnTo>
                  <a:lnTo>
                    <a:pt x="200" y="168"/>
                  </a:lnTo>
                  <a:lnTo>
                    <a:pt x="192" y="176"/>
                  </a:lnTo>
                  <a:lnTo>
                    <a:pt x="184" y="183"/>
                  </a:lnTo>
                  <a:lnTo>
                    <a:pt x="173" y="189"/>
                  </a:lnTo>
                  <a:lnTo>
                    <a:pt x="154" y="184"/>
                  </a:lnTo>
                  <a:lnTo>
                    <a:pt x="136" y="182"/>
                  </a:lnTo>
                  <a:lnTo>
                    <a:pt x="119" y="182"/>
                  </a:lnTo>
                  <a:lnTo>
                    <a:pt x="104" y="182"/>
                  </a:lnTo>
                  <a:lnTo>
                    <a:pt x="90" y="184"/>
                  </a:lnTo>
                  <a:lnTo>
                    <a:pt x="76" y="189"/>
                  </a:lnTo>
                  <a:lnTo>
                    <a:pt x="64" y="194"/>
                  </a:lnTo>
                  <a:lnTo>
                    <a:pt x="54" y="201"/>
                  </a:lnTo>
                  <a:lnTo>
                    <a:pt x="45" y="208"/>
                  </a:lnTo>
                  <a:lnTo>
                    <a:pt x="35" y="216"/>
                  </a:lnTo>
                  <a:lnTo>
                    <a:pt x="27" y="226"/>
                  </a:lnTo>
                  <a:lnTo>
                    <a:pt x="21" y="236"/>
                  </a:lnTo>
                  <a:lnTo>
                    <a:pt x="15" y="247"/>
                  </a:lnTo>
                  <a:lnTo>
                    <a:pt x="11" y="259"/>
                  </a:lnTo>
                  <a:lnTo>
                    <a:pt x="7" y="272"/>
                  </a:lnTo>
                  <a:lnTo>
                    <a:pt x="4" y="285"/>
                  </a:lnTo>
                  <a:lnTo>
                    <a:pt x="1" y="299"/>
                  </a:lnTo>
                  <a:lnTo>
                    <a:pt x="0" y="312"/>
                  </a:lnTo>
                  <a:lnTo>
                    <a:pt x="0" y="326"/>
                  </a:lnTo>
                  <a:lnTo>
                    <a:pt x="1" y="340"/>
                  </a:lnTo>
                  <a:lnTo>
                    <a:pt x="3" y="355"/>
                  </a:lnTo>
                  <a:lnTo>
                    <a:pt x="5" y="369"/>
                  </a:lnTo>
                  <a:lnTo>
                    <a:pt x="7" y="383"/>
                  </a:lnTo>
                  <a:lnTo>
                    <a:pt x="11" y="397"/>
                  </a:lnTo>
                  <a:lnTo>
                    <a:pt x="15" y="410"/>
                  </a:lnTo>
                  <a:lnTo>
                    <a:pt x="20" y="423"/>
                  </a:lnTo>
                  <a:lnTo>
                    <a:pt x="26" y="435"/>
                  </a:lnTo>
                  <a:lnTo>
                    <a:pt x="33" y="448"/>
                  </a:lnTo>
                  <a:lnTo>
                    <a:pt x="39" y="459"/>
                  </a:lnTo>
                  <a:lnTo>
                    <a:pt x="47" y="469"/>
                  </a:lnTo>
                  <a:lnTo>
                    <a:pt x="55" y="480"/>
                  </a:lnTo>
                  <a:lnTo>
                    <a:pt x="63" y="488"/>
                  </a:lnTo>
                  <a:lnTo>
                    <a:pt x="90" y="515"/>
                  </a:lnTo>
                  <a:lnTo>
                    <a:pt x="114" y="541"/>
                  </a:lnTo>
                  <a:lnTo>
                    <a:pt x="135" y="565"/>
                  </a:lnTo>
                  <a:lnTo>
                    <a:pt x="153" y="588"/>
                  </a:lnTo>
                  <a:lnTo>
                    <a:pt x="170" y="612"/>
                  </a:lnTo>
                  <a:lnTo>
                    <a:pt x="184" y="633"/>
                  </a:lnTo>
                  <a:lnTo>
                    <a:pt x="195" y="655"/>
                  </a:lnTo>
                  <a:lnTo>
                    <a:pt x="205" y="675"/>
                  </a:lnTo>
                  <a:lnTo>
                    <a:pt x="210" y="695"/>
                  </a:lnTo>
                  <a:lnTo>
                    <a:pt x="215" y="715"/>
                  </a:lnTo>
                  <a:lnTo>
                    <a:pt x="216" y="724"/>
                  </a:lnTo>
                  <a:lnTo>
                    <a:pt x="216" y="733"/>
                  </a:lnTo>
                  <a:lnTo>
                    <a:pt x="216" y="743"/>
                  </a:lnTo>
                  <a:lnTo>
                    <a:pt x="215" y="752"/>
                  </a:lnTo>
                  <a:lnTo>
                    <a:pt x="214" y="761"/>
                  </a:lnTo>
                  <a:lnTo>
                    <a:pt x="212" y="769"/>
                  </a:lnTo>
                  <a:lnTo>
                    <a:pt x="209" y="779"/>
                  </a:lnTo>
                  <a:lnTo>
                    <a:pt x="206" y="788"/>
                  </a:lnTo>
                  <a:lnTo>
                    <a:pt x="198" y="806"/>
                  </a:lnTo>
                  <a:lnTo>
                    <a:pt x="187" y="822"/>
                  </a:lnTo>
                  <a:lnTo>
                    <a:pt x="714" y="800"/>
                  </a:lnTo>
                  <a:lnTo>
                    <a:pt x="1124" y="76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Freeform 174"/>
            <p:cNvSpPr/>
            <p:nvPr/>
          </p:nvSpPr>
          <p:spPr>
            <a:xfrm>
              <a:off x="7485480" y="5097240"/>
              <a:ext cx="196200" cy="1425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38" h="822">
                  <a:moveTo>
                    <a:pt x="1124" y="762"/>
                  </a:moveTo>
                  <a:lnTo>
                    <a:pt x="1238" y="776"/>
                  </a:lnTo>
                  <a:lnTo>
                    <a:pt x="1238" y="762"/>
                  </a:lnTo>
                  <a:lnTo>
                    <a:pt x="1237" y="747"/>
                  </a:lnTo>
                  <a:lnTo>
                    <a:pt x="1236" y="732"/>
                  </a:lnTo>
                  <a:lnTo>
                    <a:pt x="1234" y="717"/>
                  </a:lnTo>
                  <a:lnTo>
                    <a:pt x="1230" y="703"/>
                  </a:lnTo>
                  <a:lnTo>
                    <a:pt x="1227" y="688"/>
                  </a:lnTo>
                  <a:lnTo>
                    <a:pt x="1222" y="672"/>
                  </a:lnTo>
                  <a:lnTo>
                    <a:pt x="1217" y="657"/>
                  </a:lnTo>
                  <a:lnTo>
                    <a:pt x="1212" y="641"/>
                  </a:lnTo>
                  <a:lnTo>
                    <a:pt x="1205" y="626"/>
                  </a:lnTo>
                  <a:lnTo>
                    <a:pt x="1198" y="611"/>
                  </a:lnTo>
                  <a:lnTo>
                    <a:pt x="1189" y="594"/>
                  </a:lnTo>
                  <a:lnTo>
                    <a:pt x="1181" y="579"/>
                  </a:lnTo>
                  <a:lnTo>
                    <a:pt x="1171" y="563"/>
                  </a:lnTo>
                  <a:lnTo>
                    <a:pt x="1160" y="546"/>
                  </a:lnTo>
                  <a:lnTo>
                    <a:pt x="1150" y="531"/>
                  </a:lnTo>
                  <a:lnTo>
                    <a:pt x="1124" y="497"/>
                  </a:lnTo>
                  <a:lnTo>
                    <a:pt x="1096" y="465"/>
                  </a:lnTo>
                  <a:lnTo>
                    <a:pt x="1064" y="431"/>
                  </a:lnTo>
                  <a:lnTo>
                    <a:pt x="1029" y="396"/>
                  </a:lnTo>
                  <a:lnTo>
                    <a:pt x="991" y="361"/>
                  </a:lnTo>
                  <a:lnTo>
                    <a:pt x="949" y="326"/>
                  </a:lnTo>
                  <a:lnTo>
                    <a:pt x="903" y="289"/>
                  </a:lnTo>
                  <a:lnTo>
                    <a:pt x="853" y="252"/>
                  </a:lnTo>
                  <a:lnTo>
                    <a:pt x="844" y="267"/>
                  </a:lnTo>
                  <a:lnTo>
                    <a:pt x="835" y="281"/>
                  </a:lnTo>
                  <a:lnTo>
                    <a:pt x="827" y="294"/>
                  </a:lnTo>
                  <a:lnTo>
                    <a:pt x="819" y="305"/>
                  </a:lnTo>
                  <a:lnTo>
                    <a:pt x="811" y="314"/>
                  </a:lnTo>
                  <a:lnTo>
                    <a:pt x="803" y="322"/>
                  </a:lnTo>
                  <a:lnTo>
                    <a:pt x="796" y="329"/>
                  </a:lnTo>
                  <a:lnTo>
                    <a:pt x="789" y="335"/>
                  </a:lnTo>
                  <a:lnTo>
                    <a:pt x="782" y="340"/>
                  </a:lnTo>
                  <a:lnTo>
                    <a:pt x="775" y="342"/>
                  </a:lnTo>
                  <a:lnTo>
                    <a:pt x="768" y="344"/>
                  </a:lnTo>
                  <a:lnTo>
                    <a:pt x="762" y="344"/>
                  </a:lnTo>
                  <a:lnTo>
                    <a:pt x="756" y="344"/>
                  </a:lnTo>
                  <a:lnTo>
                    <a:pt x="750" y="342"/>
                  </a:lnTo>
                  <a:lnTo>
                    <a:pt x="745" y="340"/>
                  </a:lnTo>
                  <a:lnTo>
                    <a:pt x="741" y="335"/>
                  </a:lnTo>
                  <a:lnTo>
                    <a:pt x="736" y="330"/>
                  </a:lnTo>
                  <a:lnTo>
                    <a:pt x="733" y="323"/>
                  </a:lnTo>
                  <a:lnTo>
                    <a:pt x="729" y="316"/>
                  </a:lnTo>
                  <a:lnTo>
                    <a:pt x="727" y="307"/>
                  </a:lnTo>
                  <a:lnTo>
                    <a:pt x="724" y="298"/>
                  </a:lnTo>
                  <a:lnTo>
                    <a:pt x="723" y="287"/>
                  </a:lnTo>
                  <a:lnTo>
                    <a:pt x="722" y="275"/>
                  </a:lnTo>
                  <a:lnTo>
                    <a:pt x="722" y="263"/>
                  </a:lnTo>
                  <a:lnTo>
                    <a:pt x="722" y="250"/>
                  </a:lnTo>
                  <a:lnTo>
                    <a:pt x="723" y="234"/>
                  </a:lnTo>
                  <a:lnTo>
                    <a:pt x="724" y="219"/>
                  </a:lnTo>
                  <a:lnTo>
                    <a:pt x="727" y="203"/>
                  </a:lnTo>
                  <a:lnTo>
                    <a:pt x="734" y="168"/>
                  </a:lnTo>
                  <a:lnTo>
                    <a:pt x="743" y="128"/>
                  </a:lnTo>
                  <a:lnTo>
                    <a:pt x="744" y="126"/>
                  </a:lnTo>
                  <a:lnTo>
                    <a:pt x="745" y="119"/>
                  </a:lnTo>
                  <a:lnTo>
                    <a:pt x="745" y="115"/>
                  </a:lnTo>
                  <a:lnTo>
                    <a:pt x="743" y="111"/>
                  </a:lnTo>
                  <a:lnTo>
                    <a:pt x="741" y="106"/>
                  </a:lnTo>
                  <a:lnTo>
                    <a:pt x="736" y="102"/>
                  </a:lnTo>
                  <a:lnTo>
                    <a:pt x="729" y="99"/>
                  </a:lnTo>
                  <a:lnTo>
                    <a:pt x="720" y="97"/>
                  </a:lnTo>
                  <a:lnTo>
                    <a:pt x="708" y="94"/>
                  </a:lnTo>
                  <a:lnTo>
                    <a:pt x="692" y="94"/>
                  </a:lnTo>
                  <a:lnTo>
                    <a:pt x="673" y="95"/>
                  </a:lnTo>
                  <a:lnTo>
                    <a:pt x="650" y="99"/>
                  </a:lnTo>
                  <a:lnTo>
                    <a:pt x="623" y="104"/>
                  </a:lnTo>
                  <a:lnTo>
                    <a:pt x="590" y="111"/>
                  </a:lnTo>
                  <a:lnTo>
                    <a:pt x="594" y="108"/>
                  </a:lnTo>
                  <a:lnTo>
                    <a:pt x="598" y="101"/>
                  </a:lnTo>
                  <a:lnTo>
                    <a:pt x="605" y="91"/>
                  </a:lnTo>
                  <a:lnTo>
                    <a:pt x="611" y="79"/>
                  </a:lnTo>
                  <a:lnTo>
                    <a:pt x="612" y="73"/>
                  </a:lnTo>
                  <a:lnTo>
                    <a:pt x="613" y="66"/>
                  </a:lnTo>
                  <a:lnTo>
                    <a:pt x="612" y="60"/>
                  </a:lnTo>
                  <a:lnTo>
                    <a:pt x="609" y="55"/>
                  </a:lnTo>
                  <a:lnTo>
                    <a:pt x="604" y="49"/>
                  </a:lnTo>
                  <a:lnTo>
                    <a:pt x="596" y="44"/>
                  </a:lnTo>
                  <a:lnTo>
                    <a:pt x="587" y="39"/>
                  </a:lnTo>
                  <a:lnTo>
                    <a:pt x="574" y="36"/>
                  </a:lnTo>
                  <a:lnTo>
                    <a:pt x="546" y="29"/>
                  </a:lnTo>
                  <a:lnTo>
                    <a:pt x="519" y="20"/>
                  </a:lnTo>
                  <a:lnTo>
                    <a:pt x="492" y="11"/>
                  </a:lnTo>
                  <a:lnTo>
                    <a:pt x="463" y="4"/>
                  </a:lnTo>
                  <a:lnTo>
                    <a:pt x="448" y="1"/>
                  </a:lnTo>
                  <a:lnTo>
                    <a:pt x="431" y="0"/>
                  </a:lnTo>
                  <a:lnTo>
                    <a:pt x="413" y="0"/>
                  </a:lnTo>
                  <a:lnTo>
                    <a:pt x="394" y="0"/>
                  </a:lnTo>
                  <a:lnTo>
                    <a:pt x="373" y="2"/>
                  </a:lnTo>
                  <a:lnTo>
                    <a:pt x="349" y="6"/>
                  </a:lnTo>
                  <a:lnTo>
                    <a:pt x="324" y="11"/>
                  </a:lnTo>
                  <a:lnTo>
                    <a:pt x="297" y="20"/>
                  </a:lnTo>
                  <a:lnTo>
                    <a:pt x="311" y="111"/>
                  </a:lnTo>
                  <a:lnTo>
                    <a:pt x="305" y="108"/>
                  </a:lnTo>
                  <a:lnTo>
                    <a:pt x="288" y="102"/>
                  </a:lnTo>
                  <a:lnTo>
                    <a:pt x="260" y="93"/>
                  </a:lnTo>
                  <a:lnTo>
                    <a:pt x="219" y="83"/>
                  </a:lnTo>
                  <a:lnTo>
                    <a:pt x="220" y="86"/>
                  </a:lnTo>
                  <a:lnTo>
                    <a:pt x="220" y="95"/>
                  </a:lnTo>
                  <a:lnTo>
                    <a:pt x="221" y="108"/>
                  </a:lnTo>
                  <a:lnTo>
                    <a:pt x="219" y="125"/>
                  </a:lnTo>
                  <a:lnTo>
                    <a:pt x="216" y="134"/>
                  </a:lnTo>
                  <a:lnTo>
                    <a:pt x="214" y="142"/>
                  </a:lnTo>
                  <a:lnTo>
                    <a:pt x="210" y="152"/>
                  </a:lnTo>
                  <a:lnTo>
                    <a:pt x="206" y="160"/>
                  </a:lnTo>
                  <a:lnTo>
                    <a:pt x="200" y="168"/>
                  </a:lnTo>
                  <a:lnTo>
                    <a:pt x="192" y="176"/>
                  </a:lnTo>
                  <a:lnTo>
                    <a:pt x="184" y="183"/>
                  </a:lnTo>
                  <a:lnTo>
                    <a:pt x="173" y="189"/>
                  </a:lnTo>
                  <a:lnTo>
                    <a:pt x="154" y="184"/>
                  </a:lnTo>
                  <a:lnTo>
                    <a:pt x="136" y="182"/>
                  </a:lnTo>
                  <a:lnTo>
                    <a:pt x="119" y="182"/>
                  </a:lnTo>
                  <a:lnTo>
                    <a:pt x="104" y="182"/>
                  </a:lnTo>
                  <a:lnTo>
                    <a:pt x="90" y="184"/>
                  </a:lnTo>
                  <a:lnTo>
                    <a:pt x="76" y="189"/>
                  </a:lnTo>
                  <a:lnTo>
                    <a:pt x="64" y="194"/>
                  </a:lnTo>
                  <a:lnTo>
                    <a:pt x="54" y="201"/>
                  </a:lnTo>
                  <a:lnTo>
                    <a:pt x="45" y="208"/>
                  </a:lnTo>
                  <a:lnTo>
                    <a:pt x="35" y="216"/>
                  </a:lnTo>
                  <a:lnTo>
                    <a:pt x="27" y="226"/>
                  </a:lnTo>
                  <a:lnTo>
                    <a:pt x="21" y="236"/>
                  </a:lnTo>
                  <a:lnTo>
                    <a:pt x="15" y="247"/>
                  </a:lnTo>
                  <a:lnTo>
                    <a:pt x="11" y="259"/>
                  </a:lnTo>
                  <a:lnTo>
                    <a:pt x="7" y="272"/>
                  </a:lnTo>
                  <a:lnTo>
                    <a:pt x="4" y="285"/>
                  </a:lnTo>
                  <a:lnTo>
                    <a:pt x="1" y="299"/>
                  </a:lnTo>
                  <a:lnTo>
                    <a:pt x="0" y="312"/>
                  </a:lnTo>
                  <a:lnTo>
                    <a:pt x="0" y="326"/>
                  </a:lnTo>
                  <a:lnTo>
                    <a:pt x="1" y="340"/>
                  </a:lnTo>
                  <a:lnTo>
                    <a:pt x="3" y="355"/>
                  </a:lnTo>
                  <a:lnTo>
                    <a:pt x="5" y="369"/>
                  </a:lnTo>
                  <a:lnTo>
                    <a:pt x="7" y="383"/>
                  </a:lnTo>
                  <a:lnTo>
                    <a:pt x="11" y="397"/>
                  </a:lnTo>
                  <a:lnTo>
                    <a:pt x="15" y="410"/>
                  </a:lnTo>
                  <a:lnTo>
                    <a:pt x="20" y="423"/>
                  </a:lnTo>
                  <a:lnTo>
                    <a:pt x="26" y="435"/>
                  </a:lnTo>
                  <a:lnTo>
                    <a:pt x="33" y="448"/>
                  </a:lnTo>
                  <a:lnTo>
                    <a:pt x="39" y="459"/>
                  </a:lnTo>
                  <a:lnTo>
                    <a:pt x="47" y="469"/>
                  </a:lnTo>
                  <a:lnTo>
                    <a:pt x="55" y="480"/>
                  </a:lnTo>
                  <a:lnTo>
                    <a:pt x="63" y="488"/>
                  </a:lnTo>
                  <a:lnTo>
                    <a:pt x="90" y="515"/>
                  </a:lnTo>
                  <a:lnTo>
                    <a:pt x="114" y="541"/>
                  </a:lnTo>
                  <a:lnTo>
                    <a:pt x="135" y="565"/>
                  </a:lnTo>
                  <a:lnTo>
                    <a:pt x="153" y="588"/>
                  </a:lnTo>
                  <a:lnTo>
                    <a:pt x="170" y="612"/>
                  </a:lnTo>
                  <a:lnTo>
                    <a:pt x="184" y="633"/>
                  </a:lnTo>
                  <a:lnTo>
                    <a:pt x="195" y="655"/>
                  </a:lnTo>
                  <a:lnTo>
                    <a:pt x="205" y="675"/>
                  </a:lnTo>
                  <a:lnTo>
                    <a:pt x="210" y="695"/>
                  </a:lnTo>
                  <a:lnTo>
                    <a:pt x="215" y="715"/>
                  </a:lnTo>
                  <a:lnTo>
                    <a:pt x="216" y="724"/>
                  </a:lnTo>
                  <a:lnTo>
                    <a:pt x="216" y="733"/>
                  </a:lnTo>
                  <a:lnTo>
                    <a:pt x="216" y="743"/>
                  </a:lnTo>
                  <a:lnTo>
                    <a:pt x="215" y="752"/>
                  </a:lnTo>
                  <a:lnTo>
                    <a:pt x="214" y="761"/>
                  </a:lnTo>
                  <a:lnTo>
                    <a:pt x="212" y="769"/>
                  </a:lnTo>
                  <a:lnTo>
                    <a:pt x="209" y="779"/>
                  </a:lnTo>
                  <a:lnTo>
                    <a:pt x="206" y="788"/>
                  </a:lnTo>
                  <a:lnTo>
                    <a:pt x="198" y="806"/>
                  </a:lnTo>
                  <a:lnTo>
                    <a:pt x="187" y="822"/>
                  </a:lnTo>
                  <a:lnTo>
                    <a:pt x="714" y="800"/>
                  </a:lnTo>
                  <a:lnTo>
                    <a:pt x="1124" y="762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Freeform 175"/>
            <p:cNvSpPr/>
            <p:nvPr/>
          </p:nvSpPr>
          <p:spPr>
            <a:xfrm>
              <a:off x="7480440" y="5236920"/>
              <a:ext cx="158760" cy="210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996" h="1220">
                  <a:moveTo>
                    <a:pt x="208" y="1220"/>
                  </a:moveTo>
                  <a:lnTo>
                    <a:pt x="207" y="1215"/>
                  </a:lnTo>
                  <a:lnTo>
                    <a:pt x="206" y="1199"/>
                  </a:lnTo>
                  <a:lnTo>
                    <a:pt x="203" y="1176"/>
                  </a:lnTo>
                  <a:lnTo>
                    <a:pt x="201" y="1146"/>
                  </a:lnTo>
                  <a:lnTo>
                    <a:pt x="197" y="1109"/>
                  </a:lnTo>
                  <a:lnTo>
                    <a:pt x="195" y="1071"/>
                  </a:lnTo>
                  <a:lnTo>
                    <a:pt x="194" y="1031"/>
                  </a:lnTo>
                  <a:lnTo>
                    <a:pt x="194" y="990"/>
                  </a:lnTo>
                  <a:lnTo>
                    <a:pt x="194" y="970"/>
                  </a:lnTo>
                  <a:lnTo>
                    <a:pt x="194" y="953"/>
                  </a:lnTo>
                  <a:lnTo>
                    <a:pt x="196" y="935"/>
                  </a:lnTo>
                  <a:lnTo>
                    <a:pt x="197" y="920"/>
                  </a:lnTo>
                  <a:lnTo>
                    <a:pt x="201" y="905"/>
                  </a:lnTo>
                  <a:lnTo>
                    <a:pt x="204" y="892"/>
                  </a:lnTo>
                  <a:lnTo>
                    <a:pt x="208" y="879"/>
                  </a:lnTo>
                  <a:lnTo>
                    <a:pt x="213" y="867"/>
                  </a:lnTo>
                  <a:lnTo>
                    <a:pt x="218" y="855"/>
                  </a:lnTo>
                  <a:lnTo>
                    <a:pt x="224" y="843"/>
                  </a:lnTo>
                  <a:lnTo>
                    <a:pt x="231" y="831"/>
                  </a:lnTo>
                  <a:lnTo>
                    <a:pt x="239" y="821"/>
                  </a:lnTo>
                  <a:lnTo>
                    <a:pt x="258" y="796"/>
                  </a:lnTo>
                  <a:lnTo>
                    <a:pt x="280" y="772"/>
                  </a:lnTo>
                  <a:lnTo>
                    <a:pt x="264" y="759"/>
                  </a:lnTo>
                  <a:lnTo>
                    <a:pt x="245" y="743"/>
                  </a:lnTo>
                  <a:lnTo>
                    <a:pt x="227" y="725"/>
                  </a:lnTo>
                  <a:lnTo>
                    <a:pt x="207" y="705"/>
                  </a:lnTo>
                  <a:lnTo>
                    <a:pt x="189" y="683"/>
                  </a:lnTo>
                  <a:lnTo>
                    <a:pt x="172" y="662"/>
                  </a:lnTo>
                  <a:lnTo>
                    <a:pt x="165" y="650"/>
                  </a:lnTo>
                  <a:lnTo>
                    <a:pt x="158" y="640"/>
                  </a:lnTo>
                  <a:lnTo>
                    <a:pt x="152" y="629"/>
                  </a:lnTo>
                  <a:lnTo>
                    <a:pt x="147" y="619"/>
                  </a:lnTo>
                  <a:lnTo>
                    <a:pt x="0" y="86"/>
                  </a:lnTo>
                  <a:lnTo>
                    <a:pt x="12" y="89"/>
                  </a:lnTo>
                  <a:lnTo>
                    <a:pt x="23" y="90"/>
                  </a:lnTo>
                  <a:lnTo>
                    <a:pt x="34" y="91"/>
                  </a:lnTo>
                  <a:lnTo>
                    <a:pt x="44" y="91"/>
                  </a:lnTo>
                  <a:lnTo>
                    <a:pt x="65" y="91"/>
                  </a:lnTo>
                  <a:lnTo>
                    <a:pt x="84" y="89"/>
                  </a:lnTo>
                  <a:lnTo>
                    <a:pt x="103" y="84"/>
                  </a:lnTo>
                  <a:lnTo>
                    <a:pt x="119" y="78"/>
                  </a:lnTo>
                  <a:lnTo>
                    <a:pt x="136" y="72"/>
                  </a:lnTo>
                  <a:lnTo>
                    <a:pt x="150" y="65"/>
                  </a:lnTo>
                  <a:lnTo>
                    <a:pt x="174" y="50"/>
                  </a:lnTo>
                  <a:lnTo>
                    <a:pt x="194" y="36"/>
                  </a:lnTo>
                  <a:lnTo>
                    <a:pt x="208" y="27"/>
                  </a:lnTo>
                  <a:lnTo>
                    <a:pt x="216" y="22"/>
                  </a:lnTo>
                  <a:lnTo>
                    <a:pt x="743" y="0"/>
                  </a:lnTo>
                  <a:lnTo>
                    <a:pt x="996" y="702"/>
                  </a:lnTo>
                  <a:lnTo>
                    <a:pt x="980" y="716"/>
                  </a:lnTo>
                  <a:lnTo>
                    <a:pt x="967" y="728"/>
                  </a:lnTo>
                  <a:lnTo>
                    <a:pt x="963" y="733"/>
                  </a:lnTo>
                  <a:lnTo>
                    <a:pt x="959" y="739"/>
                  </a:lnTo>
                  <a:lnTo>
                    <a:pt x="957" y="744"/>
                  </a:lnTo>
                  <a:lnTo>
                    <a:pt x="954" y="749"/>
                  </a:lnTo>
                  <a:lnTo>
                    <a:pt x="953" y="758"/>
                  </a:lnTo>
                  <a:lnTo>
                    <a:pt x="953" y="766"/>
                  </a:lnTo>
                  <a:lnTo>
                    <a:pt x="956" y="774"/>
                  </a:lnTo>
                  <a:lnTo>
                    <a:pt x="958" y="782"/>
                  </a:lnTo>
                  <a:lnTo>
                    <a:pt x="959" y="792"/>
                  </a:lnTo>
                  <a:lnTo>
                    <a:pt x="961" y="801"/>
                  </a:lnTo>
                  <a:lnTo>
                    <a:pt x="961" y="812"/>
                  </a:lnTo>
                  <a:lnTo>
                    <a:pt x="959" y="823"/>
                  </a:lnTo>
                  <a:lnTo>
                    <a:pt x="957" y="830"/>
                  </a:lnTo>
                  <a:lnTo>
                    <a:pt x="953" y="837"/>
                  </a:lnTo>
                  <a:lnTo>
                    <a:pt x="950" y="844"/>
                  </a:lnTo>
                  <a:lnTo>
                    <a:pt x="945" y="853"/>
                  </a:lnTo>
                  <a:lnTo>
                    <a:pt x="932" y="870"/>
                  </a:lnTo>
                  <a:lnTo>
                    <a:pt x="913" y="890"/>
                  </a:lnTo>
                  <a:lnTo>
                    <a:pt x="894" y="909"/>
                  </a:lnTo>
                  <a:lnTo>
                    <a:pt x="873" y="925"/>
                  </a:lnTo>
                  <a:lnTo>
                    <a:pt x="852" y="941"/>
                  </a:lnTo>
                  <a:lnTo>
                    <a:pt x="829" y="955"/>
                  </a:lnTo>
                  <a:lnTo>
                    <a:pt x="807" y="968"/>
                  </a:lnTo>
                  <a:lnTo>
                    <a:pt x="785" y="981"/>
                  </a:lnTo>
                  <a:lnTo>
                    <a:pt x="763" y="992"/>
                  </a:lnTo>
                  <a:lnTo>
                    <a:pt x="739" y="1002"/>
                  </a:lnTo>
                  <a:lnTo>
                    <a:pt x="716" y="1010"/>
                  </a:lnTo>
                  <a:lnTo>
                    <a:pt x="693" y="1018"/>
                  </a:lnTo>
                  <a:lnTo>
                    <a:pt x="669" y="1025"/>
                  </a:lnTo>
                  <a:lnTo>
                    <a:pt x="646" y="1032"/>
                  </a:lnTo>
                  <a:lnTo>
                    <a:pt x="599" y="1044"/>
                  </a:lnTo>
                  <a:lnTo>
                    <a:pt x="554" y="1053"/>
                  </a:lnTo>
                  <a:lnTo>
                    <a:pt x="466" y="1069"/>
                  </a:lnTo>
                  <a:lnTo>
                    <a:pt x="387" y="1085"/>
                  </a:lnTo>
                  <a:lnTo>
                    <a:pt x="369" y="1090"/>
                  </a:lnTo>
                  <a:lnTo>
                    <a:pt x="352" y="1094"/>
                  </a:lnTo>
                  <a:lnTo>
                    <a:pt x="335" y="1100"/>
                  </a:lnTo>
                  <a:lnTo>
                    <a:pt x="321" y="1106"/>
                  </a:lnTo>
                  <a:lnTo>
                    <a:pt x="306" y="1113"/>
                  </a:lnTo>
                  <a:lnTo>
                    <a:pt x="293" y="1120"/>
                  </a:lnTo>
                  <a:lnTo>
                    <a:pt x="282" y="1128"/>
                  </a:lnTo>
                  <a:lnTo>
                    <a:pt x="271" y="1138"/>
                  </a:lnTo>
                  <a:lnTo>
                    <a:pt x="250" y="1157"/>
                  </a:lnTo>
                  <a:lnTo>
                    <a:pt x="235" y="1171"/>
                  </a:lnTo>
                  <a:lnTo>
                    <a:pt x="227" y="1182"/>
                  </a:lnTo>
                  <a:lnTo>
                    <a:pt x="222" y="1189"/>
                  </a:lnTo>
                  <a:lnTo>
                    <a:pt x="217" y="1201"/>
                  </a:lnTo>
                  <a:lnTo>
                    <a:pt x="208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Freeform 176"/>
            <p:cNvSpPr/>
            <p:nvPr/>
          </p:nvSpPr>
          <p:spPr>
            <a:xfrm>
              <a:off x="7480440" y="5236920"/>
              <a:ext cx="158760" cy="210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996" h="1220">
                  <a:moveTo>
                    <a:pt x="208" y="1220"/>
                  </a:moveTo>
                  <a:lnTo>
                    <a:pt x="207" y="1215"/>
                  </a:lnTo>
                  <a:lnTo>
                    <a:pt x="206" y="1199"/>
                  </a:lnTo>
                  <a:lnTo>
                    <a:pt x="203" y="1176"/>
                  </a:lnTo>
                  <a:lnTo>
                    <a:pt x="201" y="1146"/>
                  </a:lnTo>
                  <a:lnTo>
                    <a:pt x="197" y="1109"/>
                  </a:lnTo>
                  <a:lnTo>
                    <a:pt x="195" y="1071"/>
                  </a:lnTo>
                  <a:lnTo>
                    <a:pt x="194" y="1031"/>
                  </a:lnTo>
                  <a:lnTo>
                    <a:pt x="194" y="990"/>
                  </a:lnTo>
                  <a:lnTo>
                    <a:pt x="194" y="970"/>
                  </a:lnTo>
                  <a:lnTo>
                    <a:pt x="194" y="953"/>
                  </a:lnTo>
                  <a:lnTo>
                    <a:pt x="196" y="935"/>
                  </a:lnTo>
                  <a:lnTo>
                    <a:pt x="197" y="920"/>
                  </a:lnTo>
                  <a:lnTo>
                    <a:pt x="201" y="905"/>
                  </a:lnTo>
                  <a:lnTo>
                    <a:pt x="204" y="892"/>
                  </a:lnTo>
                  <a:lnTo>
                    <a:pt x="208" y="879"/>
                  </a:lnTo>
                  <a:lnTo>
                    <a:pt x="213" y="867"/>
                  </a:lnTo>
                  <a:lnTo>
                    <a:pt x="218" y="855"/>
                  </a:lnTo>
                  <a:lnTo>
                    <a:pt x="224" y="843"/>
                  </a:lnTo>
                  <a:lnTo>
                    <a:pt x="231" y="831"/>
                  </a:lnTo>
                  <a:lnTo>
                    <a:pt x="239" y="821"/>
                  </a:lnTo>
                  <a:lnTo>
                    <a:pt x="258" y="796"/>
                  </a:lnTo>
                  <a:lnTo>
                    <a:pt x="280" y="772"/>
                  </a:lnTo>
                  <a:lnTo>
                    <a:pt x="264" y="759"/>
                  </a:lnTo>
                  <a:lnTo>
                    <a:pt x="245" y="743"/>
                  </a:lnTo>
                  <a:lnTo>
                    <a:pt x="227" y="725"/>
                  </a:lnTo>
                  <a:lnTo>
                    <a:pt x="207" y="705"/>
                  </a:lnTo>
                  <a:lnTo>
                    <a:pt x="189" y="683"/>
                  </a:lnTo>
                  <a:lnTo>
                    <a:pt x="172" y="662"/>
                  </a:lnTo>
                  <a:lnTo>
                    <a:pt x="165" y="650"/>
                  </a:lnTo>
                  <a:lnTo>
                    <a:pt x="158" y="640"/>
                  </a:lnTo>
                  <a:lnTo>
                    <a:pt x="152" y="629"/>
                  </a:lnTo>
                  <a:lnTo>
                    <a:pt x="147" y="619"/>
                  </a:lnTo>
                  <a:lnTo>
                    <a:pt x="0" y="86"/>
                  </a:lnTo>
                  <a:lnTo>
                    <a:pt x="12" y="89"/>
                  </a:lnTo>
                  <a:lnTo>
                    <a:pt x="23" y="90"/>
                  </a:lnTo>
                  <a:lnTo>
                    <a:pt x="34" y="91"/>
                  </a:lnTo>
                  <a:lnTo>
                    <a:pt x="44" y="91"/>
                  </a:lnTo>
                  <a:lnTo>
                    <a:pt x="65" y="91"/>
                  </a:lnTo>
                  <a:lnTo>
                    <a:pt x="84" y="89"/>
                  </a:lnTo>
                  <a:lnTo>
                    <a:pt x="103" y="84"/>
                  </a:lnTo>
                  <a:lnTo>
                    <a:pt x="119" y="78"/>
                  </a:lnTo>
                  <a:lnTo>
                    <a:pt x="136" y="72"/>
                  </a:lnTo>
                  <a:lnTo>
                    <a:pt x="150" y="65"/>
                  </a:lnTo>
                  <a:lnTo>
                    <a:pt x="174" y="50"/>
                  </a:lnTo>
                  <a:lnTo>
                    <a:pt x="194" y="36"/>
                  </a:lnTo>
                  <a:lnTo>
                    <a:pt x="208" y="27"/>
                  </a:lnTo>
                  <a:lnTo>
                    <a:pt x="216" y="22"/>
                  </a:lnTo>
                  <a:lnTo>
                    <a:pt x="743" y="0"/>
                  </a:lnTo>
                  <a:lnTo>
                    <a:pt x="996" y="702"/>
                  </a:lnTo>
                  <a:lnTo>
                    <a:pt x="980" y="716"/>
                  </a:lnTo>
                  <a:lnTo>
                    <a:pt x="967" y="728"/>
                  </a:lnTo>
                  <a:lnTo>
                    <a:pt x="963" y="733"/>
                  </a:lnTo>
                  <a:lnTo>
                    <a:pt x="959" y="739"/>
                  </a:lnTo>
                  <a:lnTo>
                    <a:pt x="957" y="744"/>
                  </a:lnTo>
                  <a:lnTo>
                    <a:pt x="954" y="749"/>
                  </a:lnTo>
                  <a:lnTo>
                    <a:pt x="953" y="758"/>
                  </a:lnTo>
                  <a:lnTo>
                    <a:pt x="953" y="766"/>
                  </a:lnTo>
                  <a:lnTo>
                    <a:pt x="956" y="774"/>
                  </a:lnTo>
                  <a:lnTo>
                    <a:pt x="958" y="782"/>
                  </a:lnTo>
                  <a:lnTo>
                    <a:pt x="959" y="792"/>
                  </a:lnTo>
                  <a:lnTo>
                    <a:pt x="961" y="801"/>
                  </a:lnTo>
                  <a:lnTo>
                    <a:pt x="961" y="812"/>
                  </a:lnTo>
                  <a:lnTo>
                    <a:pt x="959" y="823"/>
                  </a:lnTo>
                  <a:lnTo>
                    <a:pt x="957" y="830"/>
                  </a:lnTo>
                  <a:lnTo>
                    <a:pt x="953" y="837"/>
                  </a:lnTo>
                  <a:lnTo>
                    <a:pt x="950" y="844"/>
                  </a:lnTo>
                  <a:lnTo>
                    <a:pt x="945" y="853"/>
                  </a:lnTo>
                  <a:lnTo>
                    <a:pt x="932" y="870"/>
                  </a:lnTo>
                  <a:lnTo>
                    <a:pt x="913" y="890"/>
                  </a:lnTo>
                  <a:lnTo>
                    <a:pt x="894" y="909"/>
                  </a:lnTo>
                  <a:lnTo>
                    <a:pt x="873" y="925"/>
                  </a:lnTo>
                  <a:lnTo>
                    <a:pt x="852" y="941"/>
                  </a:lnTo>
                  <a:lnTo>
                    <a:pt x="829" y="955"/>
                  </a:lnTo>
                  <a:lnTo>
                    <a:pt x="807" y="968"/>
                  </a:lnTo>
                  <a:lnTo>
                    <a:pt x="785" y="981"/>
                  </a:lnTo>
                  <a:lnTo>
                    <a:pt x="763" y="992"/>
                  </a:lnTo>
                  <a:lnTo>
                    <a:pt x="739" y="1002"/>
                  </a:lnTo>
                  <a:lnTo>
                    <a:pt x="716" y="1010"/>
                  </a:lnTo>
                  <a:lnTo>
                    <a:pt x="693" y="1018"/>
                  </a:lnTo>
                  <a:lnTo>
                    <a:pt x="669" y="1025"/>
                  </a:lnTo>
                  <a:lnTo>
                    <a:pt x="646" y="1032"/>
                  </a:lnTo>
                  <a:lnTo>
                    <a:pt x="599" y="1044"/>
                  </a:lnTo>
                  <a:lnTo>
                    <a:pt x="554" y="1053"/>
                  </a:lnTo>
                  <a:lnTo>
                    <a:pt x="466" y="1069"/>
                  </a:lnTo>
                  <a:lnTo>
                    <a:pt x="387" y="1085"/>
                  </a:lnTo>
                  <a:lnTo>
                    <a:pt x="369" y="1090"/>
                  </a:lnTo>
                  <a:lnTo>
                    <a:pt x="352" y="1094"/>
                  </a:lnTo>
                  <a:lnTo>
                    <a:pt x="335" y="1100"/>
                  </a:lnTo>
                  <a:lnTo>
                    <a:pt x="321" y="1106"/>
                  </a:lnTo>
                  <a:lnTo>
                    <a:pt x="306" y="1113"/>
                  </a:lnTo>
                  <a:lnTo>
                    <a:pt x="293" y="1120"/>
                  </a:lnTo>
                  <a:lnTo>
                    <a:pt x="282" y="1128"/>
                  </a:lnTo>
                  <a:lnTo>
                    <a:pt x="271" y="1138"/>
                  </a:lnTo>
                  <a:lnTo>
                    <a:pt x="250" y="1157"/>
                  </a:lnTo>
                  <a:lnTo>
                    <a:pt x="235" y="1171"/>
                  </a:lnTo>
                  <a:lnTo>
                    <a:pt x="227" y="1182"/>
                  </a:lnTo>
                  <a:lnTo>
                    <a:pt x="222" y="1189"/>
                  </a:lnTo>
                  <a:lnTo>
                    <a:pt x="217" y="1201"/>
                  </a:lnTo>
                  <a:lnTo>
                    <a:pt x="208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Freeform 177"/>
            <p:cNvSpPr/>
            <p:nvPr/>
          </p:nvSpPr>
          <p:spPr>
            <a:xfrm>
              <a:off x="7599600" y="5197680"/>
              <a:ext cx="192960" cy="1771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1219" h="1031">
                  <a:moveTo>
                    <a:pt x="253" y="930"/>
                  </a:moveTo>
                  <a:lnTo>
                    <a:pt x="0" y="228"/>
                  </a:lnTo>
                  <a:lnTo>
                    <a:pt x="410" y="190"/>
                  </a:lnTo>
                  <a:lnTo>
                    <a:pt x="524" y="204"/>
                  </a:lnTo>
                  <a:lnTo>
                    <a:pt x="568" y="199"/>
                  </a:lnTo>
                  <a:lnTo>
                    <a:pt x="609" y="190"/>
                  </a:lnTo>
                  <a:lnTo>
                    <a:pt x="648" y="182"/>
                  </a:lnTo>
                  <a:lnTo>
                    <a:pt x="687" y="173"/>
                  </a:lnTo>
                  <a:lnTo>
                    <a:pt x="723" y="164"/>
                  </a:lnTo>
                  <a:lnTo>
                    <a:pt x="759" y="152"/>
                  </a:lnTo>
                  <a:lnTo>
                    <a:pt x="794" y="140"/>
                  </a:lnTo>
                  <a:lnTo>
                    <a:pt x="827" y="129"/>
                  </a:lnTo>
                  <a:lnTo>
                    <a:pt x="860" y="115"/>
                  </a:lnTo>
                  <a:lnTo>
                    <a:pt x="890" y="100"/>
                  </a:lnTo>
                  <a:lnTo>
                    <a:pt x="919" y="85"/>
                  </a:lnTo>
                  <a:lnTo>
                    <a:pt x="948" y="70"/>
                  </a:lnTo>
                  <a:lnTo>
                    <a:pt x="975" y="54"/>
                  </a:lnTo>
                  <a:lnTo>
                    <a:pt x="1002" y="36"/>
                  </a:lnTo>
                  <a:lnTo>
                    <a:pt x="1028" y="19"/>
                  </a:lnTo>
                  <a:lnTo>
                    <a:pt x="1051" y="0"/>
                  </a:lnTo>
                  <a:lnTo>
                    <a:pt x="1066" y="29"/>
                  </a:lnTo>
                  <a:lnTo>
                    <a:pt x="1077" y="55"/>
                  </a:lnTo>
                  <a:lnTo>
                    <a:pt x="1085" y="77"/>
                  </a:lnTo>
                  <a:lnTo>
                    <a:pt x="1091" y="96"/>
                  </a:lnTo>
                  <a:lnTo>
                    <a:pt x="1094" y="112"/>
                  </a:lnTo>
                  <a:lnTo>
                    <a:pt x="1097" y="126"/>
                  </a:lnTo>
                  <a:lnTo>
                    <a:pt x="1098" y="139"/>
                  </a:lnTo>
                  <a:lnTo>
                    <a:pt x="1099" y="152"/>
                  </a:lnTo>
                  <a:lnTo>
                    <a:pt x="1101" y="164"/>
                  </a:lnTo>
                  <a:lnTo>
                    <a:pt x="1103" y="176"/>
                  </a:lnTo>
                  <a:lnTo>
                    <a:pt x="1106" y="190"/>
                  </a:lnTo>
                  <a:lnTo>
                    <a:pt x="1111" y="204"/>
                  </a:lnTo>
                  <a:lnTo>
                    <a:pt x="1119" y="222"/>
                  </a:lnTo>
                  <a:lnTo>
                    <a:pt x="1128" y="242"/>
                  </a:lnTo>
                  <a:lnTo>
                    <a:pt x="1141" y="264"/>
                  </a:lnTo>
                  <a:lnTo>
                    <a:pt x="1159" y="291"/>
                  </a:lnTo>
                  <a:lnTo>
                    <a:pt x="1160" y="296"/>
                  </a:lnTo>
                  <a:lnTo>
                    <a:pt x="1161" y="299"/>
                  </a:lnTo>
                  <a:lnTo>
                    <a:pt x="1161" y="304"/>
                  </a:lnTo>
                  <a:lnTo>
                    <a:pt x="1160" y="307"/>
                  </a:lnTo>
                  <a:lnTo>
                    <a:pt x="1156" y="318"/>
                  </a:lnTo>
                  <a:lnTo>
                    <a:pt x="1152" y="329"/>
                  </a:lnTo>
                  <a:lnTo>
                    <a:pt x="1149" y="336"/>
                  </a:lnTo>
                  <a:lnTo>
                    <a:pt x="1148" y="343"/>
                  </a:lnTo>
                  <a:lnTo>
                    <a:pt x="1147" y="353"/>
                  </a:lnTo>
                  <a:lnTo>
                    <a:pt x="1147" y="362"/>
                  </a:lnTo>
                  <a:lnTo>
                    <a:pt x="1148" y="373"/>
                  </a:lnTo>
                  <a:lnTo>
                    <a:pt x="1149" y="386"/>
                  </a:lnTo>
                  <a:lnTo>
                    <a:pt x="1153" y="400"/>
                  </a:lnTo>
                  <a:lnTo>
                    <a:pt x="1159" y="415"/>
                  </a:lnTo>
                  <a:lnTo>
                    <a:pt x="1165" y="430"/>
                  </a:lnTo>
                  <a:lnTo>
                    <a:pt x="1172" y="443"/>
                  </a:lnTo>
                  <a:lnTo>
                    <a:pt x="1179" y="454"/>
                  </a:lnTo>
                  <a:lnTo>
                    <a:pt x="1184" y="465"/>
                  </a:lnTo>
                  <a:lnTo>
                    <a:pt x="1198" y="484"/>
                  </a:lnTo>
                  <a:lnTo>
                    <a:pt x="1209" y="502"/>
                  </a:lnTo>
                  <a:lnTo>
                    <a:pt x="1214" y="512"/>
                  </a:lnTo>
                  <a:lnTo>
                    <a:pt x="1217" y="523"/>
                  </a:lnTo>
                  <a:lnTo>
                    <a:pt x="1219" y="535"/>
                  </a:lnTo>
                  <a:lnTo>
                    <a:pt x="1219" y="548"/>
                  </a:lnTo>
                  <a:lnTo>
                    <a:pt x="1219" y="563"/>
                  </a:lnTo>
                  <a:lnTo>
                    <a:pt x="1216" y="581"/>
                  </a:lnTo>
                  <a:lnTo>
                    <a:pt x="1211" y="599"/>
                  </a:lnTo>
                  <a:lnTo>
                    <a:pt x="1204" y="623"/>
                  </a:lnTo>
                  <a:lnTo>
                    <a:pt x="1189" y="674"/>
                  </a:lnTo>
                  <a:lnTo>
                    <a:pt x="1181" y="700"/>
                  </a:lnTo>
                  <a:lnTo>
                    <a:pt x="1179" y="704"/>
                  </a:lnTo>
                  <a:lnTo>
                    <a:pt x="1175" y="709"/>
                  </a:lnTo>
                  <a:lnTo>
                    <a:pt x="1172" y="713"/>
                  </a:lnTo>
                  <a:lnTo>
                    <a:pt x="1167" y="716"/>
                  </a:lnTo>
                  <a:lnTo>
                    <a:pt x="1154" y="725"/>
                  </a:lnTo>
                  <a:lnTo>
                    <a:pt x="1135" y="737"/>
                  </a:lnTo>
                  <a:lnTo>
                    <a:pt x="1139" y="763"/>
                  </a:lnTo>
                  <a:lnTo>
                    <a:pt x="1141" y="788"/>
                  </a:lnTo>
                  <a:lnTo>
                    <a:pt x="1142" y="801"/>
                  </a:lnTo>
                  <a:lnTo>
                    <a:pt x="1142" y="813"/>
                  </a:lnTo>
                  <a:lnTo>
                    <a:pt x="1141" y="825"/>
                  </a:lnTo>
                  <a:lnTo>
                    <a:pt x="1140" y="835"/>
                  </a:lnTo>
                  <a:lnTo>
                    <a:pt x="1138" y="846"/>
                  </a:lnTo>
                  <a:lnTo>
                    <a:pt x="1134" y="855"/>
                  </a:lnTo>
                  <a:lnTo>
                    <a:pt x="1130" y="864"/>
                  </a:lnTo>
                  <a:lnTo>
                    <a:pt x="1124" y="873"/>
                  </a:lnTo>
                  <a:lnTo>
                    <a:pt x="1116" y="880"/>
                  </a:lnTo>
                  <a:lnTo>
                    <a:pt x="1106" y="884"/>
                  </a:lnTo>
                  <a:lnTo>
                    <a:pt x="1094" y="889"/>
                  </a:lnTo>
                  <a:lnTo>
                    <a:pt x="1080" y="892"/>
                  </a:lnTo>
                  <a:lnTo>
                    <a:pt x="1082" y="908"/>
                  </a:lnTo>
                  <a:lnTo>
                    <a:pt x="1082" y="922"/>
                  </a:lnTo>
                  <a:lnTo>
                    <a:pt x="1080" y="933"/>
                  </a:lnTo>
                  <a:lnTo>
                    <a:pt x="1079" y="945"/>
                  </a:lnTo>
                  <a:lnTo>
                    <a:pt x="1073" y="965"/>
                  </a:lnTo>
                  <a:lnTo>
                    <a:pt x="1069" y="981"/>
                  </a:lnTo>
                  <a:lnTo>
                    <a:pt x="1064" y="995"/>
                  </a:lnTo>
                  <a:lnTo>
                    <a:pt x="1062" y="1008"/>
                  </a:lnTo>
                  <a:lnTo>
                    <a:pt x="1063" y="1014"/>
                  </a:lnTo>
                  <a:lnTo>
                    <a:pt x="1064" y="1020"/>
                  </a:lnTo>
                  <a:lnTo>
                    <a:pt x="1068" y="1026"/>
                  </a:lnTo>
                  <a:lnTo>
                    <a:pt x="1072" y="1031"/>
                  </a:lnTo>
                  <a:lnTo>
                    <a:pt x="1037" y="1023"/>
                  </a:lnTo>
                  <a:lnTo>
                    <a:pt x="1008" y="1015"/>
                  </a:lnTo>
                  <a:lnTo>
                    <a:pt x="982" y="1006"/>
                  </a:lnTo>
                  <a:lnTo>
                    <a:pt x="961" y="995"/>
                  </a:lnTo>
                  <a:lnTo>
                    <a:pt x="943" y="985"/>
                  </a:lnTo>
                  <a:lnTo>
                    <a:pt x="926" y="974"/>
                  </a:lnTo>
                  <a:lnTo>
                    <a:pt x="912" y="964"/>
                  </a:lnTo>
                  <a:lnTo>
                    <a:pt x="901" y="953"/>
                  </a:lnTo>
                  <a:lnTo>
                    <a:pt x="889" y="943"/>
                  </a:lnTo>
                  <a:lnTo>
                    <a:pt x="877" y="934"/>
                  </a:lnTo>
                  <a:lnTo>
                    <a:pt x="864" y="926"/>
                  </a:lnTo>
                  <a:lnTo>
                    <a:pt x="852" y="919"/>
                  </a:lnTo>
                  <a:lnTo>
                    <a:pt x="837" y="913"/>
                  </a:lnTo>
                  <a:lnTo>
                    <a:pt x="821" y="909"/>
                  </a:lnTo>
                  <a:lnTo>
                    <a:pt x="801" y="908"/>
                  </a:lnTo>
                  <a:lnTo>
                    <a:pt x="778" y="908"/>
                  </a:lnTo>
                  <a:lnTo>
                    <a:pt x="751" y="908"/>
                  </a:lnTo>
                  <a:lnTo>
                    <a:pt x="724" y="909"/>
                  </a:lnTo>
                  <a:lnTo>
                    <a:pt x="700" y="911"/>
                  </a:lnTo>
                  <a:lnTo>
                    <a:pt x="677" y="915"/>
                  </a:lnTo>
                  <a:lnTo>
                    <a:pt x="656" y="919"/>
                  </a:lnTo>
                  <a:lnTo>
                    <a:pt x="638" y="924"/>
                  </a:lnTo>
                  <a:lnTo>
                    <a:pt x="630" y="927"/>
                  </a:lnTo>
                  <a:lnTo>
                    <a:pt x="621" y="931"/>
                  </a:lnTo>
                  <a:lnTo>
                    <a:pt x="614" y="934"/>
                  </a:lnTo>
                  <a:lnTo>
                    <a:pt x="609" y="939"/>
                  </a:lnTo>
                  <a:lnTo>
                    <a:pt x="603" y="943"/>
                  </a:lnTo>
                  <a:lnTo>
                    <a:pt x="597" y="944"/>
                  </a:lnTo>
                  <a:lnTo>
                    <a:pt x="590" y="944"/>
                  </a:lnTo>
                  <a:lnTo>
                    <a:pt x="583" y="943"/>
                  </a:lnTo>
                  <a:lnTo>
                    <a:pt x="568" y="938"/>
                  </a:lnTo>
                  <a:lnTo>
                    <a:pt x="552" y="930"/>
                  </a:lnTo>
                  <a:lnTo>
                    <a:pt x="538" y="920"/>
                  </a:lnTo>
                  <a:lnTo>
                    <a:pt x="524" y="913"/>
                  </a:lnTo>
                  <a:lnTo>
                    <a:pt x="517" y="910"/>
                  </a:lnTo>
                  <a:lnTo>
                    <a:pt x="512" y="908"/>
                  </a:lnTo>
                  <a:lnTo>
                    <a:pt x="506" y="906"/>
                  </a:lnTo>
                  <a:lnTo>
                    <a:pt x="501" y="908"/>
                  </a:lnTo>
                  <a:lnTo>
                    <a:pt x="496" y="909"/>
                  </a:lnTo>
                  <a:lnTo>
                    <a:pt x="488" y="908"/>
                  </a:lnTo>
                  <a:lnTo>
                    <a:pt x="479" y="908"/>
                  </a:lnTo>
                  <a:lnTo>
                    <a:pt x="468" y="905"/>
                  </a:lnTo>
                  <a:lnTo>
                    <a:pt x="444" y="901"/>
                  </a:lnTo>
                  <a:lnTo>
                    <a:pt x="417" y="896"/>
                  </a:lnTo>
                  <a:lnTo>
                    <a:pt x="403" y="894"/>
                  </a:lnTo>
                  <a:lnTo>
                    <a:pt x="390" y="891"/>
                  </a:lnTo>
                  <a:lnTo>
                    <a:pt x="377" y="890"/>
                  </a:lnTo>
                  <a:lnTo>
                    <a:pt x="364" y="890"/>
                  </a:lnTo>
                  <a:lnTo>
                    <a:pt x="354" y="891"/>
                  </a:lnTo>
                  <a:lnTo>
                    <a:pt x="345" y="892"/>
                  </a:lnTo>
                  <a:lnTo>
                    <a:pt x="341" y="895"/>
                  </a:lnTo>
                  <a:lnTo>
                    <a:pt x="338" y="896"/>
                  </a:lnTo>
                  <a:lnTo>
                    <a:pt x="334" y="898"/>
                  </a:lnTo>
                  <a:lnTo>
                    <a:pt x="332" y="902"/>
                  </a:lnTo>
                  <a:lnTo>
                    <a:pt x="327" y="906"/>
                  </a:lnTo>
                  <a:lnTo>
                    <a:pt x="322" y="910"/>
                  </a:lnTo>
                  <a:lnTo>
                    <a:pt x="318" y="912"/>
                  </a:lnTo>
                  <a:lnTo>
                    <a:pt x="312" y="915"/>
                  </a:lnTo>
                  <a:lnTo>
                    <a:pt x="301" y="917"/>
                  </a:lnTo>
                  <a:lnTo>
                    <a:pt x="290" y="918"/>
                  </a:lnTo>
                  <a:lnTo>
                    <a:pt x="279" y="918"/>
                  </a:lnTo>
                  <a:lnTo>
                    <a:pt x="269" y="920"/>
                  </a:lnTo>
                  <a:lnTo>
                    <a:pt x="264" y="922"/>
                  </a:lnTo>
                  <a:lnTo>
                    <a:pt x="260" y="924"/>
                  </a:lnTo>
                  <a:lnTo>
                    <a:pt x="257" y="926"/>
                  </a:lnTo>
                  <a:lnTo>
                    <a:pt x="253" y="9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Freeform 178"/>
            <p:cNvSpPr/>
            <p:nvPr/>
          </p:nvSpPr>
          <p:spPr>
            <a:xfrm>
              <a:off x="7599600" y="5197680"/>
              <a:ext cx="192960" cy="1771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1219" h="1031">
                  <a:moveTo>
                    <a:pt x="253" y="930"/>
                  </a:moveTo>
                  <a:lnTo>
                    <a:pt x="0" y="228"/>
                  </a:lnTo>
                  <a:lnTo>
                    <a:pt x="410" y="190"/>
                  </a:lnTo>
                  <a:lnTo>
                    <a:pt x="524" y="204"/>
                  </a:lnTo>
                  <a:lnTo>
                    <a:pt x="568" y="199"/>
                  </a:lnTo>
                  <a:lnTo>
                    <a:pt x="609" y="190"/>
                  </a:lnTo>
                  <a:lnTo>
                    <a:pt x="648" y="182"/>
                  </a:lnTo>
                  <a:lnTo>
                    <a:pt x="687" y="173"/>
                  </a:lnTo>
                  <a:lnTo>
                    <a:pt x="723" y="164"/>
                  </a:lnTo>
                  <a:lnTo>
                    <a:pt x="759" y="152"/>
                  </a:lnTo>
                  <a:lnTo>
                    <a:pt x="794" y="140"/>
                  </a:lnTo>
                  <a:lnTo>
                    <a:pt x="827" y="129"/>
                  </a:lnTo>
                  <a:lnTo>
                    <a:pt x="860" y="115"/>
                  </a:lnTo>
                  <a:lnTo>
                    <a:pt x="890" y="100"/>
                  </a:lnTo>
                  <a:lnTo>
                    <a:pt x="919" y="85"/>
                  </a:lnTo>
                  <a:lnTo>
                    <a:pt x="948" y="70"/>
                  </a:lnTo>
                  <a:lnTo>
                    <a:pt x="975" y="54"/>
                  </a:lnTo>
                  <a:lnTo>
                    <a:pt x="1002" y="36"/>
                  </a:lnTo>
                  <a:lnTo>
                    <a:pt x="1028" y="19"/>
                  </a:lnTo>
                  <a:lnTo>
                    <a:pt x="1051" y="0"/>
                  </a:lnTo>
                  <a:lnTo>
                    <a:pt x="1066" y="29"/>
                  </a:lnTo>
                  <a:lnTo>
                    <a:pt x="1077" y="55"/>
                  </a:lnTo>
                  <a:lnTo>
                    <a:pt x="1085" y="77"/>
                  </a:lnTo>
                  <a:lnTo>
                    <a:pt x="1091" y="96"/>
                  </a:lnTo>
                  <a:lnTo>
                    <a:pt x="1094" y="112"/>
                  </a:lnTo>
                  <a:lnTo>
                    <a:pt x="1097" y="126"/>
                  </a:lnTo>
                  <a:lnTo>
                    <a:pt x="1098" y="139"/>
                  </a:lnTo>
                  <a:lnTo>
                    <a:pt x="1099" y="152"/>
                  </a:lnTo>
                  <a:lnTo>
                    <a:pt x="1101" y="164"/>
                  </a:lnTo>
                  <a:lnTo>
                    <a:pt x="1103" y="176"/>
                  </a:lnTo>
                  <a:lnTo>
                    <a:pt x="1106" y="190"/>
                  </a:lnTo>
                  <a:lnTo>
                    <a:pt x="1111" y="204"/>
                  </a:lnTo>
                  <a:lnTo>
                    <a:pt x="1119" y="222"/>
                  </a:lnTo>
                  <a:lnTo>
                    <a:pt x="1128" y="242"/>
                  </a:lnTo>
                  <a:lnTo>
                    <a:pt x="1141" y="264"/>
                  </a:lnTo>
                  <a:lnTo>
                    <a:pt x="1159" y="291"/>
                  </a:lnTo>
                  <a:lnTo>
                    <a:pt x="1160" y="296"/>
                  </a:lnTo>
                  <a:lnTo>
                    <a:pt x="1161" y="299"/>
                  </a:lnTo>
                  <a:lnTo>
                    <a:pt x="1161" y="304"/>
                  </a:lnTo>
                  <a:lnTo>
                    <a:pt x="1160" y="307"/>
                  </a:lnTo>
                  <a:lnTo>
                    <a:pt x="1156" y="318"/>
                  </a:lnTo>
                  <a:lnTo>
                    <a:pt x="1152" y="329"/>
                  </a:lnTo>
                  <a:lnTo>
                    <a:pt x="1149" y="336"/>
                  </a:lnTo>
                  <a:lnTo>
                    <a:pt x="1148" y="343"/>
                  </a:lnTo>
                  <a:lnTo>
                    <a:pt x="1147" y="353"/>
                  </a:lnTo>
                  <a:lnTo>
                    <a:pt x="1147" y="362"/>
                  </a:lnTo>
                  <a:lnTo>
                    <a:pt x="1148" y="373"/>
                  </a:lnTo>
                  <a:lnTo>
                    <a:pt x="1149" y="386"/>
                  </a:lnTo>
                  <a:lnTo>
                    <a:pt x="1153" y="400"/>
                  </a:lnTo>
                  <a:lnTo>
                    <a:pt x="1159" y="415"/>
                  </a:lnTo>
                  <a:lnTo>
                    <a:pt x="1165" y="430"/>
                  </a:lnTo>
                  <a:lnTo>
                    <a:pt x="1172" y="443"/>
                  </a:lnTo>
                  <a:lnTo>
                    <a:pt x="1179" y="454"/>
                  </a:lnTo>
                  <a:lnTo>
                    <a:pt x="1184" y="465"/>
                  </a:lnTo>
                  <a:lnTo>
                    <a:pt x="1198" y="484"/>
                  </a:lnTo>
                  <a:lnTo>
                    <a:pt x="1209" y="502"/>
                  </a:lnTo>
                  <a:lnTo>
                    <a:pt x="1214" y="512"/>
                  </a:lnTo>
                  <a:lnTo>
                    <a:pt x="1217" y="523"/>
                  </a:lnTo>
                  <a:lnTo>
                    <a:pt x="1219" y="535"/>
                  </a:lnTo>
                  <a:lnTo>
                    <a:pt x="1219" y="548"/>
                  </a:lnTo>
                  <a:lnTo>
                    <a:pt x="1219" y="563"/>
                  </a:lnTo>
                  <a:lnTo>
                    <a:pt x="1216" y="581"/>
                  </a:lnTo>
                  <a:lnTo>
                    <a:pt x="1211" y="599"/>
                  </a:lnTo>
                  <a:lnTo>
                    <a:pt x="1204" y="623"/>
                  </a:lnTo>
                  <a:lnTo>
                    <a:pt x="1189" y="674"/>
                  </a:lnTo>
                  <a:lnTo>
                    <a:pt x="1181" y="700"/>
                  </a:lnTo>
                  <a:lnTo>
                    <a:pt x="1179" y="704"/>
                  </a:lnTo>
                  <a:lnTo>
                    <a:pt x="1175" y="709"/>
                  </a:lnTo>
                  <a:lnTo>
                    <a:pt x="1172" y="713"/>
                  </a:lnTo>
                  <a:lnTo>
                    <a:pt x="1167" y="716"/>
                  </a:lnTo>
                  <a:lnTo>
                    <a:pt x="1154" y="725"/>
                  </a:lnTo>
                  <a:lnTo>
                    <a:pt x="1135" y="737"/>
                  </a:lnTo>
                  <a:lnTo>
                    <a:pt x="1139" y="763"/>
                  </a:lnTo>
                  <a:lnTo>
                    <a:pt x="1141" y="788"/>
                  </a:lnTo>
                  <a:lnTo>
                    <a:pt x="1142" y="801"/>
                  </a:lnTo>
                  <a:lnTo>
                    <a:pt x="1142" y="813"/>
                  </a:lnTo>
                  <a:lnTo>
                    <a:pt x="1141" y="825"/>
                  </a:lnTo>
                  <a:lnTo>
                    <a:pt x="1140" y="835"/>
                  </a:lnTo>
                  <a:lnTo>
                    <a:pt x="1138" y="846"/>
                  </a:lnTo>
                  <a:lnTo>
                    <a:pt x="1134" y="855"/>
                  </a:lnTo>
                  <a:lnTo>
                    <a:pt x="1130" y="864"/>
                  </a:lnTo>
                  <a:lnTo>
                    <a:pt x="1124" y="873"/>
                  </a:lnTo>
                  <a:lnTo>
                    <a:pt x="1116" y="880"/>
                  </a:lnTo>
                  <a:lnTo>
                    <a:pt x="1106" y="884"/>
                  </a:lnTo>
                  <a:lnTo>
                    <a:pt x="1094" y="889"/>
                  </a:lnTo>
                  <a:lnTo>
                    <a:pt x="1080" y="892"/>
                  </a:lnTo>
                  <a:lnTo>
                    <a:pt x="1082" y="908"/>
                  </a:lnTo>
                  <a:lnTo>
                    <a:pt x="1082" y="922"/>
                  </a:lnTo>
                  <a:lnTo>
                    <a:pt x="1080" y="933"/>
                  </a:lnTo>
                  <a:lnTo>
                    <a:pt x="1079" y="945"/>
                  </a:lnTo>
                  <a:lnTo>
                    <a:pt x="1073" y="965"/>
                  </a:lnTo>
                  <a:lnTo>
                    <a:pt x="1069" y="981"/>
                  </a:lnTo>
                  <a:lnTo>
                    <a:pt x="1064" y="995"/>
                  </a:lnTo>
                  <a:lnTo>
                    <a:pt x="1062" y="1008"/>
                  </a:lnTo>
                  <a:lnTo>
                    <a:pt x="1063" y="1014"/>
                  </a:lnTo>
                  <a:lnTo>
                    <a:pt x="1064" y="1020"/>
                  </a:lnTo>
                  <a:lnTo>
                    <a:pt x="1068" y="1026"/>
                  </a:lnTo>
                  <a:lnTo>
                    <a:pt x="1072" y="1031"/>
                  </a:lnTo>
                  <a:lnTo>
                    <a:pt x="1037" y="1023"/>
                  </a:lnTo>
                  <a:lnTo>
                    <a:pt x="1008" y="1015"/>
                  </a:lnTo>
                  <a:lnTo>
                    <a:pt x="982" y="1006"/>
                  </a:lnTo>
                  <a:lnTo>
                    <a:pt x="961" y="995"/>
                  </a:lnTo>
                  <a:lnTo>
                    <a:pt x="943" y="985"/>
                  </a:lnTo>
                  <a:lnTo>
                    <a:pt x="926" y="974"/>
                  </a:lnTo>
                  <a:lnTo>
                    <a:pt x="912" y="964"/>
                  </a:lnTo>
                  <a:lnTo>
                    <a:pt x="901" y="953"/>
                  </a:lnTo>
                  <a:lnTo>
                    <a:pt x="889" y="943"/>
                  </a:lnTo>
                  <a:lnTo>
                    <a:pt x="877" y="934"/>
                  </a:lnTo>
                  <a:lnTo>
                    <a:pt x="864" y="926"/>
                  </a:lnTo>
                  <a:lnTo>
                    <a:pt x="852" y="919"/>
                  </a:lnTo>
                  <a:lnTo>
                    <a:pt x="837" y="913"/>
                  </a:lnTo>
                  <a:lnTo>
                    <a:pt x="821" y="909"/>
                  </a:lnTo>
                  <a:lnTo>
                    <a:pt x="801" y="908"/>
                  </a:lnTo>
                  <a:lnTo>
                    <a:pt x="778" y="908"/>
                  </a:lnTo>
                  <a:lnTo>
                    <a:pt x="751" y="908"/>
                  </a:lnTo>
                  <a:lnTo>
                    <a:pt x="724" y="909"/>
                  </a:lnTo>
                  <a:lnTo>
                    <a:pt x="700" y="911"/>
                  </a:lnTo>
                  <a:lnTo>
                    <a:pt x="677" y="915"/>
                  </a:lnTo>
                  <a:lnTo>
                    <a:pt x="656" y="919"/>
                  </a:lnTo>
                  <a:lnTo>
                    <a:pt x="638" y="924"/>
                  </a:lnTo>
                  <a:lnTo>
                    <a:pt x="630" y="927"/>
                  </a:lnTo>
                  <a:lnTo>
                    <a:pt x="621" y="931"/>
                  </a:lnTo>
                  <a:lnTo>
                    <a:pt x="614" y="934"/>
                  </a:lnTo>
                  <a:lnTo>
                    <a:pt x="609" y="939"/>
                  </a:lnTo>
                  <a:lnTo>
                    <a:pt x="603" y="943"/>
                  </a:lnTo>
                  <a:lnTo>
                    <a:pt x="597" y="944"/>
                  </a:lnTo>
                  <a:lnTo>
                    <a:pt x="590" y="944"/>
                  </a:lnTo>
                  <a:lnTo>
                    <a:pt x="583" y="943"/>
                  </a:lnTo>
                  <a:lnTo>
                    <a:pt x="568" y="938"/>
                  </a:lnTo>
                  <a:lnTo>
                    <a:pt x="552" y="930"/>
                  </a:lnTo>
                  <a:lnTo>
                    <a:pt x="538" y="920"/>
                  </a:lnTo>
                  <a:lnTo>
                    <a:pt x="524" y="913"/>
                  </a:lnTo>
                  <a:lnTo>
                    <a:pt x="517" y="910"/>
                  </a:lnTo>
                  <a:lnTo>
                    <a:pt x="512" y="908"/>
                  </a:lnTo>
                  <a:lnTo>
                    <a:pt x="506" y="906"/>
                  </a:lnTo>
                  <a:lnTo>
                    <a:pt x="501" y="908"/>
                  </a:lnTo>
                  <a:lnTo>
                    <a:pt x="496" y="909"/>
                  </a:lnTo>
                  <a:lnTo>
                    <a:pt x="488" y="908"/>
                  </a:lnTo>
                  <a:lnTo>
                    <a:pt x="479" y="908"/>
                  </a:lnTo>
                  <a:lnTo>
                    <a:pt x="468" y="905"/>
                  </a:lnTo>
                  <a:lnTo>
                    <a:pt x="444" y="901"/>
                  </a:lnTo>
                  <a:lnTo>
                    <a:pt x="417" y="896"/>
                  </a:lnTo>
                  <a:lnTo>
                    <a:pt x="403" y="894"/>
                  </a:lnTo>
                  <a:lnTo>
                    <a:pt x="390" y="891"/>
                  </a:lnTo>
                  <a:lnTo>
                    <a:pt x="377" y="890"/>
                  </a:lnTo>
                  <a:lnTo>
                    <a:pt x="364" y="890"/>
                  </a:lnTo>
                  <a:lnTo>
                    <a:pt x="354" y="891"/>
                  </a:lnTo>
                  <a:lnTo>
                    <a:pt x="345" y="892"/>
                  </a:lnTo>
                  <a:lnTo>
                    <a:pt x="341" y="895"/>
                  </a:lnTo>
                  <a:lnTo>
                    <a:pt x="338" y="896"/>
                  </a:lnTo>
                  <a:lnTo>
                    <a:pt x="334" y="898"/>
                  </a:lnTo>
                  <a:lnTo>
                    <a:pt x="332" y="902"/>
                  </a:lnTo>
                  <a:lnTo>
                    <a:pt x="327" y="906"/>
                  </a:lnTo>
                  <a:lnTo>
                    <a:pt x="322" y="910"/>
                  </a:lnTo>
                  <a:lnTo>
                    <a:pt x="318" y="912"/>
                  </a:lnTo>
                  <a:lnTo>
                    <a:pt x="312" y="915"/>
                  </a:lnTo>
                  <a:lnTo>
                    <a:pt x="301" y="917"/>
                  </a:lnTo>
                  <a:lnTo>
                    <a:pt x="290" y="918"/>
                  </a:lnTo>
                  <a:lnTo>
                    <a:pt x="279" y="918"/>
                  </a:lnTo>
                  <a:lnTo>
                    <a:pt x="269" y="920"/>
                  </a:lnTo>
                  <a:lnTo>
                    <a:pt x="264" y="922"/>
                  </a:lnTo>
                  <a:lnTo>
                    <a:pt x="260" y="924"/>
                  </a:lnTo>
                  <a:lnTo>
                    <a:pt x="257" y="926"/>
                  </a:lnTo>
                  <a:lnTo>
                    <a:pt x="253" y="93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Freeform 179"/>
            <p:cNvSpPr/>
            <p:nvPr/>
          </p:nvSpPr>
          <p:spPr>
            <a:xfrm>
              <a:off x="7776720" y="5054760"/>
              <a:ext cx="264960" cy="1443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61" h="830">
                  <a:moveTo>
                    <a:pt x="1301" y="775"/>
                  </a:moveTo>
                  <a:lnTo>
                    <a:pt x="1116" y="691"/>
                  </a:lnTo>
                  <a:lnTo>
                    <a:pt x="1101" y="695"/>
                  </a:lnTo>
                  <a:lnTo>
                    <a:pt x="1087" y="697"/>
                  </a:lnTo>
                  <a:lnTo>
                    <a:pt x="1074" y="697"/>
                  </a:lnTo>
                  <a:lnTo>
                    <a:pt x="1061" y="695"/>
                  </a:lnTo>
                  <a:lnTo>
                    <a:pt x="1046" y="694"/>
                  </a:lnTo>
                  <a:lnTo>
                    <a:pt x="1029" y="695"/>
                  </a:lnTo>
                  <a:lnTo>
                    <a:pt x="1006" y="699"/>
                  </a:lnTo>
                  <a:lnTo>
                    <a:pt x="978" y="706"/>
                  </a:lnTo>
                  <a:lnTo>
                    <a:pt x="953" y="711"/>
                  </a:lnTo>
                  <a:lnTo>
                    <a:pt x="912" y="718"/>
                  </a:lnTo>
                  <a:lnTo>
                    <a:pt x="857" y="726"/>
                  </a:lnTo>
                  <a:lnTo>
                    <a:pt x="790" y="735"/>
                  </a:lnTo>
                  <a:lnTo>
                    <a:pt x="714" y="744"/>
                  </a:lnTo>
                  <a:lnTo>
                    <a:pt x="634" y="755"/>
                  </a:lnTo>
                  <a:lnTo>
                    <a:pt x="547" y="765"/>
                  </a:lnTo>
                  <a:lnTo>
                    <a:pt x="461" y="776"/>
                  </a:lnTo>
                  <a:lnTo>
                    <a:pt x="374" y="787"/>
                  </a:lnTo>
                  <a:lnTo>
                    <a:pt x="292" y="796"/>
                  </a:lnTo>
                  <a:lnTo>
                    <a:pt x="216" y="805"/>
                  </a:lnTo>
                  <a:lnTo>
                    <a:pt x="147" y="813"/>
                  </a:lnTo>
                  <a:lnTo>
                    <a:pt x="89" y="820"/>
                  </a:lnTo>
                  <a:lnTo>
                    <a:pt x="46" y="825"/>
                  </a:lnTo>
                  <a:lnTo>
                    <a:pt x="18" y="829"/>
                  </a:lnTo>
                  <a:lnTo>
                    <a:pt x="8" y="830"/>
                  </a:lnTo>
                  <a:lnTo>
                    <a:pt x="0" y="763"/>
                  </a:lnTo>
                  <a:lnTo>
                    <a:pt x="18" y="743"/>
                  </a:lnTo>
                  <a:lnTo>
                    <a:pt x="38" y="725"/>
                  </a:lnTo>
                  <a:lnTo>
                    <a:pt x="57" y="704"/>
                  </a:lnTo>
                  <a:lnTo>
                    <a:pt x="74" y="683"/>
                  </a:lnTo>
                  <a:lnTo>
                    <a:pt x="74" y="498"/>
                  </a:lnTo>
                  <a:lnTo>
                    <a:pt x="141" y="498"/>
                  </a:lnTo>
                  <a:lnTo>
                    <a:pt x="202" y="496"/>
                  </a:lnTo>
                  <a:lnTo>
                    <a:pt x="231" y="494"/>
                  </a:lnTo>
                  <a:lnTo>
                    <a:pt x="258" y="492"/>
                  </a:lnTo>
                  <a:lnTo>
                    <a:pt x="283" y="490"/>
                  </a:lnTo>
                  <a:lnTo>
                    <a:pt x="309" y="486"/>
                  </a:lnTo>
                  <a:lnTo>
                    <a:pt x="332" y="483"/>
                  </a:lnTo>
                  <a:lnTo>
                    <a:pt x="355" y="478"/>
                  </a:lnTo>
                  <a:lnTo>
                    <a:pt x="376" y="473"/>
                  </a:lnTo>
                  <a:lnTo>
                    <a:pt x="395" y="469"/>
                  </a:lnTo>
                  <a:lnTo>
                    <a:pt x="414" y="462"/>
                  </a:lnTo>
                  <a:lnTo>
                    <a:pt x="432" y="455"/>
                  </a:lnTo>
                  <a:lnTo>
                    <a:pt x="448" y="447"/>
                  </a:lnTo>
                  <a:lnTo>
                    <a:pt x="463" y="438"/>
                  </a:lnTo>
                  <a:lnTo>
                    <a:pt x="477" y="429"/>
                  </a:lnTo>
                  <a:lnTo>
                    <a:pt x="490" y="419"/>
                  </a:lnTo>
                  <a:lnTo>
                    <a:pt x="502" y="407"/>
                  </a:lnTo>
                  <a:lnTo>
                    <a:pt x="512" y="395"/>
                  </a:lnTo>
                  <a:lnTo>
                    <a:pt x="522" y="382"/>
                  </a:lnTo>
                  <a:lnTo>
                    <a:pt x="530" y="367"/>
                  </a:lnTo>
                  <a:lnTo>
                    <a:pt x="537" y="352"/>
                  </a:lnTo>
                  <a:lnTo>
                    <a:pt x="543" y="336"/>
                  </a:lnTo>
                  <a:lnTo>
                    <a:pt x="547" y="318"/>
                  </a:lnTo>
                  <a:lnTo>
                    <a:pt x="551" y="299"/>
                  </a:lnTo>
                  <a:lnTo>
                    <a:pt x="554" y="278"/>
                  </a:lnTo>
                  <a:lnTo>
                    <a:pt x="556" y="257"/>
                  </a:lnTo>
                  <a:lnTo>
                    <a:pt x="557" y="235"/>
                  </a:lnTo>
                  <a:lnTo>
                    <a:pt x="556" y="211"/>
                  </a:lnTo>
                  <a:lnTo>
                    <a:pt x="554" y="185"/>
                  </a:lnTo>
                  <a:lnTo>
                    <a:pt x="552" y="158"/>
                  </a:lnTo>
                  <a:lnTo>
                    <a:pt x="690" y="17"/>
                  </a:lnTo>
                  <a:lnTo>
                    <a:pt x="699" y="17"/>
                  </a:lnTo>
                  <a:lnTo>
                    <a:pt x="723" y="17"/>
                  </a:lnTo>
                  <a:lnTo>
                    <a:pt x="759" y="17"/>
                  </a:lnTo>
                  <a:lnTo>
                    <a:pt x="806" y="16"/>
                  </a:lnTo>
                  <a:lnTo>
                    <a:pt x="859" y="13"/>
                  </a:lnTo>
                  <a:lnTo>
                    <a:pt x="920" y="10"/>
                  </a:lnTo>
                  <a:lnTo>
                    <a:pt x="983" y="6"/>
                  </a:lnTo>
                  <a:lnTo>
                    <a:pt x="1047" y="0"/>
                  </a:lnTo>
                  <a:lnTo>
                    <a:pt x="1416" y="421"/>
                  </a:lnTo>
                  <a:lnTo>
                    <a:pt x="1416" y="521"/>
                  </a:lnTo>
                  <a:lnTo>
                    <a:pt x="1471" y="545"/>
                  </a:lnTo>
                  <a:lnTo>
                    <a:pt x="1661" y="792"/>
                  </a:lnTo>
                  <a:lnTo>
                    <a:pt x="1651" y="796"/>
                  </a:lnTo>
                  <a:lnTo>
                    <a:pt x="1641" y="801"/>
                  </a:lnTo>
                  <a:lnTo>
                    <a:pt x="1627" y="805"/>
                  </a:lnTo>
                  <a:lnTo>
                    <a:pt x="1613" y="809"/>
                  </a:lnTo>
                  <a:lnTo>
                    <a:pt x="1596" y="812"/>
                  </a:lnTo>
                  <a:lnTo>
                    <a:pt x="1578" y="815"/>
                  </a:lnTo>
                  <a:lnTo>
                    <a:pt x="1558" y="817"/>
                  </a:lnTo>
                  <a:lnTo>
                    <a:pt x="1536" y="818"/>
                  </a:lnTo>
                  <a:lnTo>
                    <a:pt x="1512" y="818"/>
                  </a:lnTo>
                  <a:lnTo>
                    <a:pt x="1488" y="817"/>
                  </a:lnTo>
                  <a:lnTo>
                    <a:pt x="1461" y="815"/>
                  </a:lnTo>
                  <a:lnTo>
                    <a:pt x="1432" y="810"/>
                  </a:lnTo>
                  <a:lnTo>
                    <a:pt x="1402" y="804"/>
                  </a:lnTo>
                  <a:lnTo>
                    <a:pt x="1370" y="796"/>
                  </a:lnTo>
                  <a:lnTo>
                    <a:pt x="1336" y="787"/>
                  </a:lnTo>
                  <a:lnTo>
                    <a:pt x="1301" y="7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Freeform 180"/>
            <p:cNvSpPr/>
            <p:nvPr/>
          </p:nvSpPr>
          <p:spPr>
            <a:xfrm>
              <a:off x="7776720" y="5054760"/>
              <a:ext cx="264960" cy="1443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61" h="830">
                  <a:moveTo>
                    <a:pt x="1301" y="775"/>
                  </a:moveTo>
                  <a:lnTo>
                    <a:pt x="1116" y="691"/>
                  </a:lnTo>
                  <a:lnTo>
                    <a:pt x="1101" y="695"/>
                  </a:lnTo>
                  <a:lnTo>
                    <a:pt x="1087" y="697"/>
                  </a:lnTo>
                  <a:lnTo>
                    <a:pt x="1074" y="697"/>
                  </a:lnTo>
                  <a:lnTo>
                    <a:pt x="1061" y="695"/>
                  </a:lnTo>
                  <a:lnTo>
                    <a:pt x="1046" y="694"/>
                  </a:lnTo>
                  <a:lnTo>
                    <a:pt x="1029" y="695"/>
                  </a:lnTo>
                  <a:lnTo>
                    <a:pt x="1006" y="699"/>
                  </a:lnTo>
                  <a:lnTo>
                    <a:pt x="978" y="706"/>
                  </a:lnTo>
                  <a:lnTo>
                    <a:pt x="953" y="711"/>
                  </a:lnTo>
                  <a:lnTo>
                    <a:pt x="912" y="718"/>
                  </a:lnTo>
                  <a:lnTo>
                    <a:pt x="857" y="726"/>
                  </a:lnTo>
                  <a:lnTo>
                    <a:pt x="790" y="735"/>
                  </a:lnTo>
                  <a:lnTo>
                    <a:pt x="714" y="744"/>
                  </a:lnTo>
                  <a:lnTo>
                    <a:pt x="634" y="755"/>
                  </a:lnTo>
                  <a:lnTo>
                    <a:pt x="547" y="765"/>
                  </a:lnTo>
                  <a:lnTo>
                    <a:pt x="461" y="776"/>
                  </a:lnTo>
                  <a:lnTo>
                    <a:pt x="374" y="787"/>
                  </a:lnTo>
                  <a:lnTo>
                    <a:pt x="292" y="796"/>
                  </a:lnTo>
                  <a:lnTo>
                    <a:pt x="216" y="805"/>
                  </a:lnTo>
                  <a:lnTo>
                    <a:pt x="147" y="813"/>
                  </a:lnTo>
                  <a:lnTo>
                    <a:pt x="89" y="820"/>
                  </a:lnTo>
                  <a:lnTo>
                    <a:pt x="46" y="825"/>
                  </a:lnTo>
                  <a:lnTo>
                    <a:pt x="18" y="829"/>
                  </a:lnTo>
                  <a:lnTo>
                    <a:pt x="8" y="830"/>
                  </a:lnTo>
                  <a:lnTo>
                    <a:pt x="0" y="763"/>
                  </a:lnTo>
                  <a:lnTo>
                    <a:pt x="18" y="743"/>
                  </a:lnTo>
                  <a:lnTo>
                    <a:pt x="38" y="725"/>
                  </a:lnTo>
                  <a:lnTo>
                    <a:pt x="57" y="704"/>
                  </a:lnTo>
                  <a:lnTo>
                    <a:pt x="74" y="683"/>
                  </a:lnTo>
                  <a:lnTo>
                    <a:pt x="74" y="498"/>
                  </a:lnTo>
                  <a:lnTo>
                    <a:pt x="141" y="498"/>
                  </a:lnTo>
                  <a:lnTo>
                    <a:pt x="202" y="496"/>
                  </a:lnTo>
                  <a:lnTo>
                    <a:pt x="231" y="494"/>
                  </a:lnTo>
                  <a:lnTo>
                    <a:pt x="258" y="492"/>
                  </a:lnTo>
                  <a:lnTo>
                    <a:pt x="283" y="490"/>
                  </a:lnTo>
                  <a:lnTo>
                    <a:pt x="309" y="486"/>
                  </a:lnTo>
                  <a:lnTo>
                    <a:pt x="332" y="483"/>
                  </a:lnTo>
                  <a:lnTo>
                    <a:pt x="355" y="478"/>
                  </a:lnTo>
                  <a:lnTo>
                    <a:pt x="376" y="473"/>
                  </a:lnTo>
                  <a:lnTo>
                    <a:pt x="395" y="469"/>
                  </a:lnTo>
                  <a:lnTo>
                    <a:pt x="414" y="462"/>
                  </a:lnTo>
                  <a:lnTo>
                    <a:pt x="432" y="455"/>
                  </a:lnTo>
                  <a:lnTo>
                    <a:pt x="448" y="447"/>
                  </a:lnTo>
                  <a:lnTo>
                    <a:pt x="463" y="438"/>
                  </a:lnTo>
                  <a:lnTo>
                    <a:pt x="477" y="429"/>
                  </a:lnTo>
                  <a:lnTo>
                    <a:pt x="490" y="419"/>
                  </a:lnTo>
                  <a:lnTo>
                    <a:pt x="502" y="407"/>
                  </a:lnTo>
                  <a:lnTo>
                    <a:pt x="512" y="395"/>
                  </a:lnTo>
                  <a:lnTo>
                    <a:pt x="522" y="382"/>
                  </a:lnTo>
                  <a:lnTo>
                    <a:pt x="530" y="367"/>
                  </a:lnTo>
                  <a:lnTo>
                    <a:pt x="537" y="352"/>
                  </a:lnTo>
                  <a:lnTo>
                    <a:pt x="543" y="336"/>
                  </a:lnTo>
                  <a:lnTo>
                    <a:pt x="547" y="318"/>
                  </a:lnTo>
                  <a:lnTo>
                    <a:pt x="551" y="299"/>
                  </a:lnTo>
                  <a:lnTo>
                    <a:pt x="554" y="278"/>
                  </a:lnTo>
                  <a:lnTo>
                    <a:pt x="556" y="257"/>
                  </a:lnTo>
                  <a:lnTo>
                    <a:pt x="557" y="235"/>
                  </a:lnTo>
                  <a:lnTo>
                    <a:pt x="556" y="211"/>
                  </a:lnTo>
                  <a:lnTo>
                    <a:pt x="554" y="185"/>
                  </a:lnTo>
                  <a:lnTo>
                    <a:pt x="552" y="158"/>
                  </a:lnTo>
                  <a:lnTo>
                    <a:pt x="690" y="17"/>
                  </a:lnTo>
                  <a:lnTo>
                    <a:pt x="699" y="17"/>
                  </a:lnTo>
                  <a:lnTo>
                    <a:pt x="723" y="17"/>
                  </a:lnTo>
                  <a:lnTo>
                    <a:pt x="759" y="17"/>
                  </a:lnTo>
                  <a:lnTo>
                    <a:pt x="806" y="16"/>
                  </a:lnTo>
                  <a:lnTo>
                    <a:pt x="859" y="13"/>
                  </a:lnTo>
                  <a:lnTo>
                    <a:pt x="920" y="10"/>
                  </a:lnTo>
                  <a:lnTo>
                    <a:pt x="983" y="6"/>
                  </a:lnTo>
                  <a:lnTo>
                    <a:pt x="1047" y="0"/>
                  </a:lnTo>
                  <a:lnTo>
                    <a:pt x="1416" y="421"/>
                  </a:lnTo>
                  <a:lnTo>
                    <a:pt x="1416" y="521"/>
                  </a:lnTo>
                  <a:lnTo>
                    <a:pt x="1471" y="545"/>
                  </a:lnTo>
                  <a:lnTo>
                    <a:pt x="1661" y="792"/>
                  </a:lnTo>
                  <a:lnTo>
                    <a:pt x="1651" y="796"/>
                  </a:lnTo>
                  <a:lnTo>
                    <a:pt x="1641" y="801"/>
                  </a:lnTo>
                  <a:lnTo>
                    <a:pt x="1627" y="805"/>
                  </a:lnTo>
                  <a:lnTo>
                    <a:pt x="1613" y="809"/>
                  </a:lnTo>
                  <a:lnTo>
                    <a:pt x="1596" y="812"/>
                  </a:lnTo>
                  <a:lnTo>
                    <a:pt x="1578" y="815"/>
                  </a:lnTo>
                  <a:lnTo>
                    <a:pt x="1558" y="817"/>
                  </a:lnTo>
                  <a:lnTo>
                    <a:pt x="1536" y="818"/>
                  </a:lnTo>
                  <a:lnTo>
                    <a:pt x="1512" y="818"/>
                  </a:lnTo>
                  <a:lnTo>
                    <a:pt x="1488" y="817"/>
                  </a:lnTo>
                  <a:lnTo>
                    <a:pt x="1461" y="815"/>
                  </a:lnTo>
                  <a:lnTo>
                    <a:pt x="1432" y="810"/>
                  </a:lnTo>
                  <a:lnTo>
                    <a:pt x="1402" y="804"/>
                  </a:lnTo>
                  <a:lnTo>
                    <a:pt x="1370" y="796"/>
                  </a:lnTo>
                  <a:lnTo>
                    <a:pt x="1336" y="787"/>
                  </a:lnTo>
                  <a:lnTo>
                    <a:pt x="1301" y="775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Freeform 181"/>
            <p:cNvSpPr/>
            <p:nvPr/>
          </p:nvSpPr>
          <p:spPr>
            <a:xfrm>
              <a:off x="7982280" y="5189040"/>
              <a:ext cx="110520" cy="11988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698" h="697">
                  <a:moveTo>
                    <a:pt x="146" y="426"/>
                  </a:moveTo>
                  <a:lnTo>
                    <a:pt x="144" y="418"/>
                  </a:lnTo>
                  <a:lnTo>
                    <a:pt x="143" y="411"/>
                  </a:lnTo>
                  <a:lnTo>
                    <a:pt x="143" y="404"/>
                  </a:lnTo>
                  <a:lnTo>
                    <a:pt x="144" y="397"/>
                  </a:lnTo>
                  <a:lnTo>
                    <a:pt x="146" y="390"/>
                  </a:lnTo>
                  <a:lnTo>
                    <a:pt x="148" y="383"/>
                  </a:lnTo>
                  <a:lnTo>
                    <a:pt x="150" y="377"/>
                  </a:lnTo>
                  <a:lnTo>
                    <a:pt x="155" y="371"/>
                  </a:lnTo>
                  <a:lnTo>
                    <a:pt x="158" y="365"/>
                  </a:lnTo>
                  <a:lnTo>
                    <a:pt x="164" y="360"/>
                  </a:lnTo>
                  <a:lnTo>
                    <a:pt x="170" y="355"/>
                  </a:lnTo>
                  <a:lnTo>
                    <a:pt x="177" y="351"/>
                  </a:lnTo>
                  <a:lnTo>
                    <a:pt x="185" y="348"/>
                  </a:lnTo>
                  <a:lnTo>
                    <a:pt x="195" y="344"/>
                  </a:lnTo>
                  <a:lnTo>
                    <a:pt x="204" y="342"/>
                  </a:lnTo>
                  <a:lnTo>
                    <a:pt x="215" y="340"/>
                  </a:lnTo>
                  <a:lnTo>
                    <a:pt x="216" y="332"/>
                  </a:lnTo>
                  <a:lnTo>
                    <a:pt x="219" y="309"/>
                  </a:lnTo>
                  <a:lnTo>
                    <a:pt x="223" y="278"/>
                  </a:lnTo>
                  <a:lnTo>
                    <a:pt x="224" y="239"/>
                  </a:lnTo>
                  <a:lnTo>
                    <a:pt x="220" y="226"/>
                  </a:lnTo>
                  <a:lnTo>
                    <a:pt x="215" y="216"/>
                  </a:lnTo>
                  <a:lnTo>
                    <a:pt x="209" y="205"/>
                  </a:lnTo>
                  <a:lnTo>
                    <a:pt x="202" y="195"/>
                  </a:lnTo>
                  <a:lnTo>
                    <a:pt x="194" y="186"/>
                  </a:lnTo>
                  <a:lnTo>
                    <a:pt x="184" y="176"/>
                  </a:lnTo>
                  <a:lnTo>
                    <a:pt x="175" y="167"/>
                  </a:lnTo>
                  <a:lnTo>
                    <a:pt x="164" y="159"/>
                  </a:lnTo>
                  <a:lnTo>
                    <a:pt x="142" y="143"/>
                  </a:lnTo>
                  <a:lnTo>
                    <a:pt x="119" y="129"/>
                  </a:lnTo>
                  <a:lnTo>
                    <a:pt x="95" y="115"/>
                  </a:lnTo>
                  <a:lnTo>
                    <a:pt x="73" y="103"/>
                  </a:lnTo>
                  <a:lnTo>
                    <a:pt x="52" y="91"/>
                  </a:lnTo>
                  <a:lnTo>
                    <a:pt x="33" y="79"/>
                  </a:lnTo>
                  <a:lnTo>
                    <a:pt x="25" y="73"/>
                  </a:lnTo>
                  <a:lnTo>
                    <a:pt x="17" y="68"/>
                  </a:lnTo>
                  <a:lnTo>
                    <a:pt x="11" y="62"/>
                  </a:lnTo>
                  <a:lnTo>
                    <a:pt x="7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8" y="15"/>
                  </a:lnTo>
                  <a:lnTo>
                    <a:pt x="14" y="8"/>
                  </a:lnTo>
                  <a:lnTo>
                    <a:pt x="22" y="0"/>
                  </a:lnTo>
                  <a:lnTo>
                    <a:pt x="57" y="12"/>
                  </a:lnTo>
                  <a:lnTo>
                    <a:pt x="91" y="21"/>
                  </a:lnTo>
                  <a:lnTo>
                    <a:pt x="123" y="29"/>
                  </a:lnTo>
                  <a:lnTo>
                    <a:pt x="153" y="35"/>
                  </a:lnTo>
                  <a:lnTo>
                    <a:pt x="182" y="40"/>
                  </a:lnTo>
                  <a:lnTo>
                    <a:pt x="209" y="42"/>
                  </a:lnTo>
                  <a:lnTo>
                    <a:pt x="233" y="43"/>
                  </a:lnTo>
                  <a:lnTo>
                    <a:pt x="257" y="43"/>
                  </a:lnTo>
                  <a:lnTo>
                    <a:pt x="279" y="42"/>
                  </a:lnTo>
                  <a:lnTo>
                    <a:pt x="299" y="40"/>
                  </a:lnTo>
                  <a:lnTo>
                    <a:pt x="317" y="37"/>
                  </a:lnTo>
                  <a:lnTo>
                    <a:pt x="334" y="34"/>
                  </a:lnTo>
                  <a:lnTo>
                    <a:pt x="348" y="30"/>
                  </a:lnTo>
                  <a:lnTo>
                    <a:pt x="362" y="26"/>
                  </a:lnTo>
                  <a:lnTo>
                    <a:pt x="372" y="21"/>
                  </a:lnTo>
                  <a:lnTo>
                    <a:pt x="382" y="17"/>
                  </a:lnTo>
                  <a:lnTo>
                    <a:pt x="586" y="233"/>
                  </a:lnTo>
                  <a:lnTo>
                    <a:pt x="586" y="371"/>
                  </a:lnTo>
                  <a:lnTo>
                    <a:pt x="565" y="368"/>
                  </a:lnTo>
                  <a:lnTo>
                    <a:pt x="544" y="364"/>
                  </a:lnTo>
                  <a:lnTo>
                    <a:pt x="524" y="362"/>
                  </a:lnTo>
                  <a:lnTo>
                    <a:pt x="504" y="361"/>
                  </a:lnTo>
                  <a:lnTo>
                    <a:pt x="487" y="361"/>
                  </a:lnTo>
                  <a:lnTo>
                    <a:pt x="468" y="361"/>
                  </a:lnTo>
                  <a:lnTo>
                    <a:pt x="452" y="361"/>
                  </a:lnTo>
                  <a:lnTo>
                    <a:pt x="436" y="363"/>
                  </a:lnTo>
                  <a:lnTo>
                    <a:pt x="421" y="364"/>
                  </a:lnTo>
                  <a:lnTo>
                    <a:pt x="408" y="368"/>
                  </a:lnTo>
                  <a:lnTo>
                    <a:pt x="397" y="370"/>
                  </a:lnTo>
                  <a:lnTo>
                    <a:pt x="386" y="375"/>
                  </a:lnTo>
                  <a:lnTo>
                    <a:pt x="377" y="378"/>
                  </a:lnTo>
                  <a:lnTo>
                    <a:pt x="369" y="383"/>
                  </a:lnTo>
                  <a:lnTo>
                    <a:pt x="363" y="389"/>
                  </a:lnTo>
                  <a:lnTo>
                    <a:pt x="359" y="393"/>
                  </a:lnTo>
                  <a:lnTo>
                    <a:pt x="357" y="400"/>
                  </a:lnTo>
                  <a:lnTo>
                    <a:pt x="357" y="406"/>
                  </a:lnTo>
                  <a:lnTo>
                    <a:pt x="358" y="412"/>
                  </a:lnTo>
                  <a:lnTo>
                    <a:pt x="362" y="419"/>
                  </a:lnTo>
                  <a:lnTo>
                    <a:pt x="368" y="426"/>
                  </a:lnTo>
                  <a:lnTo>
                    <a:pt x="376" y="434"/>
                  </a:lnTo>
                  <a:lnTo>
                    <a:pt x="386" y="441"/>
                  </a:lnTo>
                  <a:lnTo>
                    <a:pt x="400" y="448"/>
                  </a:lnTo>
                  <a:lnTo>
                    <a:pt x="415" y="457"/>
                  </a:lnTo>
                  <a:lnTo>
                    <a:pt x="433" y="464"/>
                  </a:lnTo>
                  <a:lnTo>
                    <a:pt x="454" y="472"/>
                  </a:lnTo>
                  <a:lnTo>
                    <a:pt x="477" y="480"/>
                  </a:lnTo>
                  <a:lnTo>
                    <a:pt x="504" y="487"/>
                  </a:lnTo>
                  <a:lnTo>
                    <a:pt x="533" y="495"/>
                  </a:lnTo>
                  <a:lnTo>
                    <a:pt x="565" y="502"/>
                  </a:lnTo>
                  <a:lnTo>
                    <a:pt x="601" y="509"/>
                  </a:lnTo>
                  <a:lnTo>
                    <a:pt x="615" y="513"/>
                  </a:lnTo>
                  <a:lnTo>
                    <a:pt x="627" y="516"/>
                  </a:lnTo>
                  <a:lnTo>
                    <a:pt x="639" y="520"/>
                  </a:lnTo>
                  <a:lnTo>
                    <a:pt x="649" y="524"/>
                  </a:lnTo>
                  <a:lnTo>
                    <a:pt x="658" y="528"/>
                  </a:lnTo>
                  <a:lnTo>
                    <a:pt x="665" y="532"/>
                  </a:lnTo>
                  <a:lnTo>
                    <a:pt x="672" y="537"/>
                  </a:lnTo>
                  <a:lnTo>
                    <a:pt x="678" y="542"/>
                  </a:lnTo>
                  <a:lnTo>
                    <a:pt x="684" y="548"/>
                  </a:lnTo>
                  <a:lnTo>
                    <a:pt x="688" y="552"/>
                  </a:lnTo>
                  <a:lnTo>
                    <a:pt x="691" y="557"/>
                  </a:lnTo>
                  <a:lnTo>
                    <a:pt x="693" y="563"/>
                  </a:lnTo>
                  <a:lnTo>
                    <a:pt x="697" y="573"/>
                  </a:lnTo>
                  <a:lnTo>
                    <a:pt x="698" y="584"/>
                  </a:lnTo>
                  <a:lnTo>
                    <a:pt x="697" y="593"/>
                  </a:lnTo>
                  <a:lnTo>
                    <a:pt x="695" y="603"/>
                  </a:lnTo>
                  <a:lnTo>
                    <a:pt x="692" y="611"/>
                  </a:lnTo>
                  <a:lnTo>
                    <a:pt x="689" y="619"/>
                  </a:lnTo>
                  <a:lnTo>
                    <a:pt x="682" y="629"/>
                  </a:lnTo>
                  <a:lnTo>
                    <a:pt x="678" y="633"/>
                  </a:lnTo>
                  <a:lnTo>
                    <a:pt x="462" y="697"/>
                  </a:lnTo>
                  <a:lnTo>
                    <a:pt x="146" y="4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Freeform 182"/>
            <p:cNvSpPr/>
            <p:nvPr/>
          </p:nvSpPr>
          <p:spPr>
            <a:xfrm>
              <a:off x="7982280" y="5189040"/>
              <a:ext cx="110520" cy="11988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698" h="697">
                  <a:moveTo>
                    <a:pt x="146" y="426"/>
                  </a:moveTo>
                  <a:lnTo>
                    <a:pt x="144" y="418"/>
                  </a:lnTo>
                  <a:lnTo>
                    <a:pt x="143" y="411"/>
                  </a:lnTo>
                  <a:lnTo>
                    <a:pt x="143" y="404"/>
                  </a:lnTo>
                  <a:lnTo>
                    <a:pt x="144" y="397"/>
                  </a:lnTo>
                  <a:lnTo>
                    <a:pt x="146" y="390"/>
                  </a:lnTo>
                  <a:lnTo>
                    <a:pt x="148" y="383"/>
                  </a:lnTo>
                  <a:lnTo>
                    <a:pt x="150" y="377"/>
                  </a:lnTo>
                  <a:lnTo>
                    <a:pt x="155" y="371"/>
                  </a:lnTo>
                  <a:lnTo>
                    <a:pt x="158" y="365"/>
                  </a:lnTo>
                  <a:lnTo>
                    <a:pt x="164" y="360"/>
                  </a:lnTo>
                  <a:lnTo>
                    <a:pt x="170" y="355"/>
                  </a:lnTo>
                  <a:lnTo>
                    <a:pt x="177" y="351"/>
                  </a:lnTo>
                  <a:lnTo>
                    <a:pt x="185" y="348"/>
                  </a:lnTo>
                  <a:lnTo>
                    <a:pt x="195" y="344"/>
                  </a:lnTo>
                  <a:lnTo>
                    <a:pt x="204" y="342"/>
                  </a:lnTo>
                  <a:lnTo>
                    <a:pt x="215" y="340"/>
                  </a:lnTo>
                  <a:lnTo>
                    <a:pt x="216" y="332"/>
                  </a:lnTo>
                  <a:lnTo>
                    <a:pt x="219" y="309"/>
                  </a:lnTo>
                  <a:lnTo>
                    <a:pt x="223" y="278"/>
                  </a:lnTo>
                  <a:lnTo>
                    <a:pt x="224" y="239"/>
                  </a:lnTo>
                  <a:lnTo>
                    <a:pt x="220" y="226"/>
                  </a:lnTo>
                  <a:lnTo>
                    <a:pt x="215" y="216"/>
                  </a:lnTo>
                  <a:lnTo>
                    <a:pt x="209" y="205"/>
                  </a:lnTo>
                  <a:lnTo>
                    <a:pt x="202" y="195"/>
                  </a:lnTo>
                  <a:lnTo>
                    <a:pt x="194" y="186"/>
                  </a:lnTo>
                  <a:lnTo>
                    <a:pt x="184" y="176"/>
                  </a:lnTo>
                  <a:lnTo>
                    <a:pt x="175" y="167"/>
                  </a:lnTo>
                  <a:lnTo>
                    <a:pt x="164" y="159"/>
                  </a:lnTo>
                  <a:lnTo>
                    <a:pt x="142" y="143"/>
                  </a:lnTo>
                  <a:lnTo>
                    <a:pt x="119" y="129"/>
                  </a:lnTo>
                  <a:lnTo>
                    <a:pt x="95" y="115"/>
                  </a:lnTo>
                  <a:lnTo>
                    <a:pt x="73" y="103"/>
                  </a:lnTo>
                  <a:lnTo>
                    <a:pt x="52" y="91"/>
                  </a:lnTo>
                  <a:lnTo>
                    <a:pt x="33" y="79"/>
                  </a:lnTo>
                  <a:lnTo>
                    <a:pt x="25" y="73"/>
                  </a:lnTo>
                  <a:lnTo>
                    <a:pt x="17" y="68"/>
                  </a:lnTo>
                  <a:lnTo>
                    <a:pt x="11" y="62"/>
                  </a:lnTo>
                  <a:lnTo>
                    <a:pt x="7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8" y="15"/>
                  </a:lnTo>
                  <a:lnTo>
                    <a:pt x="14" y="8"/>
                  </a:lnTo>
                  <a:lnTo>
                    <a:pt x="22" y="0"/>
                  </a:lnTo>
                  <a:lnTo>
                    <a:pt x="57" y="12"/>
                  </a:lnTo>
                  <a:lnTo>
                    <a:pt x="91" y="21"/>
                  </a:lnTo>
                  <a:lnTo>
                    <a:pt x="123" y="29"/>
                  </a:lnTo>
                  <a:lnTo>
                    <a:pt x="153" y="35"/>
                  </a:lnTo>
                  <a:lnTo>
                    <a:pt x="182" y="40"/>
                  </a:lnTo>
                  <a:lnTo>
                    <a:pt x="209" y="42"/>
                  </a:lnTo>
                  <a:lnTo>
                    <a:pt x="233" y="43"/>
                  </a:lnTo>
                  <a:lnTo>
                    <a:pt x="257" y="43"/>
                  </a:lnTo>
                  <a:lnTo>
                    <a:pt x="279" y="42"/>
                  </a:lnTo>
                  <a:lnTo>
                    <a:pt x="299" y="40"/>
                  </a:lnTo>
                  <a:lnTo>
                    <a:pt x="317" y="37"/>
                  </a:lnTo>
                  <a:lnTo>
                    <a:pt x="334" y="34"/>
                  </a:lnTo>
                  <a:lnTo>
                    <a:pt x="348" y="30"/>
                  </a:lnTo>
                  <a:lnTo>
                    <a:pt x="362" y="26"/>
                  </a:lnTo>
                  <a:lnTo>
                    <a:pt x="372" y="21"/>
                  </a:lnTo>
                  <a:lnTo>
                    <a:pt x="382" y="17"/>
                  </a:lnTo>
                  <a:lnTo>
                    <a:pt x="586" y="233"/>
                  </a:lnTo>
                  <a:lnTo>
                    <a:pt x="586" y="371"/>
                  </a:lnTo>
                  <a:lnTo>
                    <a:pt x="565" y="368"/>
                  </a:lnTo>
                  <a:lnTo>
                    <a:pt x="544" y="364"/>
                  </a:lnTo>
                  <a:lnTo>
                    <a:pt x="524" y="362"/>
                  </a:lnTo>
                  <a:lnTo>
                    <a:pt x="504" y="361"/>
                  </a:lnTo>
                  <a:lnTo>
                    <a:pt x="487" y="361"/>
                  </a:lnTo>
                  <a:lnTo>
                    <a:pt x="468" y="361"/>
                  </a:lnTo>
                  <a:lnTo>
                    <a:pt x="452" y="361"/>
                  </a:lnTo>
                  <a:lnTo>
                    <a:pt x="436" y="363"/>
                  </a:lnTo>
                  <a:lnTo>
                    <a:pt x="421" y="364"/>
                  </a:lnTo>
                  <a:lnTo>
                    <a:pt x="408" y="368"/>
                  </a:lnTo>
                  <a:lnTo>
                    <a:pt x="397" y="370"/>
                  </a:lnTo>
                  <a:lnTo>
                    <a:pt x="386" y="375"/>
                  </a:lnTo>
                  <a:lnTo>
                    <a:pt x="377" y="378"/>
                  </a:lnTo>
                  <a:lnTo>
                    <a:pt x="369" y="383"/>
                  </a:lnTo>
                  <a:lnTo>
                    <a:pt x="363" y="389"/>
                  </a:lnTo>
                  <a:lnTo>
                    <a:pt x="359" y="393"/>
                  </a:lnTo>
                  <a:lnTo>
                    <a:pt x="357" y="400"/>
                  </a:lnTo>
                  <a:lnTo>
                    <a:pt x="357" y="406"/>
                  </a:lnTo>
                  <a:lnTo>
                    <a:pt x="358" y="412"/>
                  </a:lnTo>
                  <a:lnTo>
                    <a:pt x="362" y="419"/>
                  </a:lnTo>
                  <a:lnTo>
                    <a:pt x="368" y="426"/>
                  </a:lnTo>
                  <a:lnTo>
                    <a:pt x="376" y="434"/>
                  </a:lnTo>
                  <a:lnTo>
                    <a:pt x="386" y="441"/>
                  </a:lnTo>
                  <a:lnTo>
                    <a:pt x="400" y="448"/>
                  </a:lnTo>
                  <a:lnTo>
                    <a:pt x="415" y="457"/>
                  </a:lnTo>
                  <a:lnTo>
                    <a:pt x="433" y="464"/>
                  </a:lnTo>
                  <a:lnTo>
                    <a:pt x="454" y="472"/>
                  </a:lnTo>
                  <a:lnTo>
                    <a:pt x="477" y="480"/>
                  </a:lnTo>
                  <a:lnTo>
                    <a:pt x="504" y="487"/>
                  </a:lnTo>
                  <a:lnTo>
                    <a:pt x="533" y="495"/>
                  </a:lnTo>
                  <a:lnTo>
                    <a:pt x="565" y="502"/>
                  </a:lnTo>
                  <a:lnTo>
                    <a:pt x="601" y="509"/>
                  </a:lnTo>
                  <a:lnTo>
                    <a:pt x="615" y="513"/>
                  </a:lnTo>
                  <a:lnTo>
                    <a:pt x="627" y="516"/>
                  </a:lnTo>
                  <a:lnTo>
                    <a:pt x="639" y="520"/>
                  </a:lnTo>
                  <a:lnTo>
                    <a:pt x="649" y="524"/>
                  </a:lnTo>
                  <a:lnTo>
                    <a:pt x="658" y="528"/>
                  </a:lnTo>
                  <a:lnTo>
                    <a:pt x="665" y="532"/>
                  </a:lnTo>
                  <a:lnTo>
                    <a:pt x="672" y="537"/>
                  </a:lnTo>
                  <a:lnTo>
                    <a:pt x="678" y="542"/>
                  </a:lnTo>
                  <a:lnTo>
                    <a:pt x="684" y="548"/>
                  </a:lnTo>
                  <a:lnTo>
                    <a:pt x="688" y="552"/>
                  </a:lnTo>
                  <a:lnTo>
                    <a:pt x="691" y="557"/>
                  </a:lnTo>
                  <a:lnTo>
                    <a:pt x="693" y="563"/>
                  </a:lnTo>
                  <a:lnTo>
                    <a:pt x="697" y="573"/>
                  </a:lnTo>
                  <a:lnTo>
                    <a:pt x="698" y="584"/>
                  </a:lnTo>
                  <a:lnTo>
                    <a:pt x="697" y="593"/>
                  </a:lnTo>
                  <a:lnTo>
                    <a:pt x="695" y="603"/>
                  </a:lnTo>
                  <a:lnTo>
                    <a:pt x="692" y="611"/>
                  </a:lnTo>
                  <a:lnTo>
                    <a:pt x="689" y="619"/>
                  </a:lnTo>
                  <a:lnTo>
                    <a:pt x="682" y="629"/>
                  </a:lnTo>
                  <a:lnTo>
                    <a:pt x="678" y="633"/>
                  </a:lnTo>
                  <a:lnTo>
                    <a:pt x="462" y="697"/>
                  </a:lnTo>
                  <a:lnTo>
                    <a:pt x="146" y="42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Freeform 183"/>
            <p:cNvSpPr/>
            <p:nvPr/>
          </p:nvSpPr>
          <p:spPr>
            <a:xfrm>
              <a:off x="8002800" y="5094000"/>
              <a:ext cx="156960" cy="601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83" h="354">
                  <a:moveTo>
                    <a:pt x="55" y="323"/>
                  </a:moveTo>
                  <a:lnTo>
                    <a:pt x="596" y="268"/>
                  </a:lnTo>
                  <a:lnTo>
                    <a:pt x="609" y="271"/>
                  </a:lnTo>
                  <a:lnTo>
                    <a:pt x="644" y="281"/>
                  </a:lnTo>
                  <a:lnTo>
                    <a:pt x="666" y="285"/>
                  </a:lnTo>
                  <a:lnTo>
                    <a:pt x="691" y="291"/>
                  </a:lnTo>
                  <a:lnTo>
                    <a:pt x="718" y="296"/>
                  </a:lnTo>
                  <a:lnTo>
                    <a:pt x="743" y="299"/>
                  </a:lnTo>
                  <a:lnTo>
                    <a:pt x="752" y="301"/>
                  </a:lnTo>
                  <a:lnTo>
                    <a:pt x="761" y="303"/>
                  </a:lnTo>
                  <a:lnTo>
                    <a:pt x="769" y="306"/>
                  </a:lnTo>
                  <a:lnTo>
                    <a:pt x="777" y="310"/>
                  </a:lnTo>
                  <a:lnTo>
                    <a:pt x="792" y="319"/>
                  </a:lnTo>
                  <a:lnTo>
                    <a:pt x="806" y="329"/>
                  </a:lnTo>
                  <a:lnTo>
                    <a:pt x="827" y="346"/>
                  </a:lnTo>
                  <a:lnTo>
                    <a:pt x="836" y="354"/>
                  </a:lnTo>
                  <a:lnTo>
                    <a:pt x="857" y="347"/>
                  </a:lnTo>
                  <a:lnTo>
                    <a:pt x="881" y="340"/>
                  </a:lnTo>
                  <a:lnTo>
                    <a:pt x="909" y="333"/>
                  </a:lnTo>
                  <a:lnTo>
                    <a:pt x="936" y="325"/>
                  </a:lnTo>
                  <a:lnTo>
                    <a:pt x="948" y="320"/>
                  </a:lnTo>
                  <a:lnTo>
                    <a:pt x="959" y="316"/>
                  </a:lnTo>
                  <a:lnTo>
                    <a:pt x="969" y="310"/>
                  </a:lnTo>
                  <a:lnTo>
                    <a:pt x="976" y="304"/>
                  </a:lnTo>
                  <a:lnTo>
                    <a:pt x="978" y="302"/>
                  </a:lnTo>
                  <a:lnTo>
                    <a:pt x="980" y="298"/>
                  </a:lnTo>
                  <a:lnTo>
                    <a:pt x="982" y="295"/>
                  </a:lnTo>
                  <a:lnTo>
                    <a:pt x="983" y="291"/>
                  </a:lnTo>
                  <a:lnTo>
                    <a:pt x="982" y="288"/>
                  </a:lnTo>
                  <a:lnTo>
                    <a:pt x="982" y="284"/>
                  </a:lnTo>
                  <a:lnTo>
                    <a:pt x="979" y="281"/>
                  </a:lnTo>
                  <a:lnTo>
                    <a:pt x="977" y="276"/>
                  </a:lnTo>
                  <a:lnTo>
                    <a:pt x="970" y="265"/>
                  </a:lnTo>
                  <a:lnTo>
                    <a:pt x="965" y="255"/>
                  </a:lnTo>
                  <a:lnTo>
                    <a:pt x="962" y="244"/>
                  </a:lnTo>
                  <a:lnTo>
                    <a:pt x="961" y="234"/>
                  </a:lnTo>
                  <a:lnTo>
                    <a:pt x="962" y="213"/>
                  </a:lnTo>
                  <a:lnTo>
                    <a:pt x="965" y="194"/>
                  </a:lnTo>
                  <a:lnTo>
                    <a:pt x="966" y="185"/>
                  </a:lnTo>
                  <a:lnTo>
                    <a:pt x="968" y="177"/>
                  </a:lnTo>
                  <a:lnTo>
                    <a:pt x="968" y="170"/>
                  </a:lnTo>
                  <a:lnTo>
                    <a:pt x="966" y="164"/>
                  </a:lnTo>
                  <a:lnTo>
                    <a:pt x="964" y="159"/>
                  </a:lnTo>
                  <a:lnTo>
                    <a:pt x="961" y="156"/>
                  </a:lnTo>
                  <a:lnTo>
                    <a:pt x="954" y="153"/>
                  </a:lnTo>
                  <a:lnTo>
                    <a:pt x="945" y="152"/>
                  </a:lnTo>
                  <a:lnTo>
                    <a:pt x="933" y="153"/>
                  </a:lnTo>
                  <a:lnTo>
                    <a:pt x="922" y="155"/>
                  </a:lnTo>
                  <a:lnTo>
                    <a:pt x="910" y="157"/>
                  </a:lnTo>
                  <a:lnTo>
                    <a:pt x="900" y="159"/>
                  </a:lnTo>
                  <a:lnTo>
                    <a:pt x="878" y="167"/>
                  </a:lnTo>
                  <a:lnTo>
                    <a:pt x="854" y="176"/>
                  </a:lnTo>
                  <a:lnTo>
                    <a:pt x="831" y="184"/>
                  </a:lnTo>
                  <a:lnTo>
                    <a:pt x="805" y="192"/>
                  </a:lnTo>
                  <a:lnTo>
                    <a:pt x="790" y="194"/>
                  </a:lnTo>
                  <a:lnTo>
                    <a:pt x="776" y="197"/>
                  </a:lnTo>
                  <a:lnTo>
                    <a:pt x="760" y="198"/>
                  </a:lnTo>
                  <a:lnTo>
                    <a:pt x="743" y="199"/>
                  </a:lnTo>
                  <a:lnTo>
                    <a:pt x="727" y="198"/>
                  </a:lnTo>
                  <a:lnTo>
                    <a:pt x="713" y="194"/>
                  </a:lnTo>
                  <a:lnTo>
                    <a:pt x="701" y="190"/>
                  </a:lnTo>
                  <a:lnTo>
                    <a:pt x="691" y="185"/>
                  </a:lnTo>
                  <a:lnTo>
                    <a:pt x="672" y="170"/>
                  </a:lnTo>
                  <a:lnTo>
                    <a:pt x="655" y="155"/>
                  </a:lnTo>
                  <a:lnTo>
                    <a:pt x="645" y="146"/>
                  </a:lnTo>
                  <a:lnTo>
                    <a:pt x="636" y="139"/>
                  </a:lnTo>
                  <a:lnTo>
                    <a:pt x="624" y="132"/>
                  </a:lnTo>
                  <a:lnTo>
                    <a:pt x="613" y="126"/>
                  </a:lnTo>
                  <a:lnTo>
                    <a:pt x="599" y="123"/>
                  </a:lnTo>
                  <a:lnTo>
                    <a:pt x="582" y="119"/>
                  </a:lnTo>
                  <a:lnTo>
                    <a:pt x="563" y="119"/>
                  </a:lnTo>
                  <a:lnTo>
                    <a:pt x="541" y="121"/>
                  </a:lnTo>
                  <a:lnTo>
                    <a:pt x="548" y="110"/>
                  </a:lnTo>
                  <a:lnTo>
                    <a:pt x="554" y="100"/>
                  </a:lnTo>
                  <a:lnTo>
                    <a:pt x="558" y="89"/>
                  </a:lnTo>
                  <a:lnTo>
                    <a:pt x="560" y="80"/>
                  </a:lnTo>
                  <a:lnTo>
                    <a:pt x="561" y="72"/>
                  </a:lnTo>
                  <a:lnTo>
                    <a:pt x="561" y="62"/>
                  </a:lnTo>
                  <a:lnTo>
                    <a:pt x="558" y="55"/>
                  </a:lnTo>
                  <a:lnTo>
                    <a:pt x="554" y="47"/>
                  </a:lnTo>
                  <a:lnTo>
                    <a:pt x="548" y="40"/>
                  </a:lnTo>
                  <a:lnTo>
                    <a:pt x="540" y="33"/>
                  </a:lnTo>
                  <a:lnTo>
                    <a:pt x="530" y="27"/>
                  </a:lnTo>
                  <a:lnTo>
                    <a:pt x="518" y="21"/>
                  </a:lnTo>
                  <a:lnTo>
                    <a:pt x="504" y="16"/>
                  </a:lnTo>
                  <a:lnTo>
                    <a:pt x="489" y="10"/>
                  </a:lnTo>
                  <a:lnTo>
                    <a:pt x="470" y="5"/>
                  </a:lnTo>
                  <a:lnTo>
                    <a:pt x="449" y="0"/>
                  </a:lnTo>
                  <a:lnTo>
                    <a:pt x="109" y="158"/>
                  </a:lnTo>
                  <a:lnTo>
                    <a:pt x="0" y="199"/>
                  </a:lnTo>
                  <a:lnTo>
                    <a:pt x="0" y="299"/>
                  </a:lnTo>
                  <a:lnTo>
                    <a:pt x="55" y="3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Freeform 184"/>
            <p:cNvSpPr/>
            <p:nvPr/>
          </p:nvSpPr>
          <p:spPr>
            <a:xfrm>
              <a:off x="8002800" y="5094000"/>
              <a:ext cx="156960" cy="601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83" h="354">
                  <a:moveTo>
                    <a:pt x="55" y="323"/>
                  </a:moveTo>
                  <a:lnTo>
                    <a:pt x="596" y="268"/>
                  </a:lnTo>
                  <a:lnTo>
                    <a:pt x="609" y="271"/>
                  </a:lnTo>
                  <a:lnTo>
                    <a:pt x="644" y="281"/>
                  </a:lnTo>
                  <a:lnTo>
                    <a:pt x="666" y="285"/>
                  </a:lnTo>
                  <a:lnTo>
                    <a:pt x="691" y="291"/>
                  </a:lnTo>
                  <a:lnTo>
                    <a:pt x="718" y="296"/>
                  </a:lnTo>
                  <a:lnTo>
                    <a:pt x="743" y="299"/>
                  </a:lnTo>
                  <a:lnTo>
                    <a:pt x="752" y="301"/>
                  </a:lnTo>
                  <a:lnTo>
                    <a:pt x="761" y="303"/>
                  </a:lnTo>
                  <a:lnTo>
                    <a:pt x="769" y="306"/>
                  </a:lnTo>
                  <a:lnTo>
                    <a:pt x="777" y="310"/>
                  </a:lnTo>
                  <a:lnTo>
                    <a:pt x="792" y="319"/>
                  </a:lnTo>
                  <a:lnTo>
                    <a:pt x="806" y="329"/>
                  </a:lnTo>
                  <a:lnTo>
                    <a:pt x="827" y="346"/>
                  </a:lnTo>
                  <a:lnTo>
                    <a:pt x="836" y="354"/>
                  </a:lnTo>
                  <a:lnTo>
                    <a:pt x="857" y="347"/>
                  </a:lnTo>
                  <a:lnTo>
                    <a:pt x="881" y="340"/>
                  </a:lnTo>
                  <a:lnTo>
                    <a:pt x="909" y="333"/>
                  </a:lnTo>
                  <a:lnTo>
                    <a:pt x="936" y="325"/>
                  </a:lnTo>
                  <a:lnTo>
                    <a:pt x="948" y="320"/>
                  </a:lnTo>
                  <a:lnTo>
                    <a:pt x="959" y="316"/>
                  </a:lnTo>
                  <a:lnTo>
                    <a:pt x="969" y="310"/>
                  </a:lnTo>
                  <a:lnTo>
                    <a:pt x="976" y="304"/>
                  </a:lnTo>
                  <a:lnTo>
                    <a:pt x="978" y="302"/>
                  </a:lnTo>
                  <a:lnTo>
                    <a:pt x="980" y="298"/>
                  </a:lnTo>
                  <a:lnTo>
                    <a:pt x="982" y="295"/>
                  </a:lnTo>
                  <a:lnTo>
                    <a:pt x="983" y="291"/>
                  </a:lnTo>
                  <a:lnTo>
                    <a:pt x="982" y="288"/>
                  </a:lnTo>
                  <a:lnTo>
                    <a:pt x="982" y="284"/>
                  </a:lnTo>
                  <a:lnTo>
                    <a:pt x="979" y="281"/>
                  </a:lnTo>
                  <a:lnTo>
                    <a:pt x="977" y="276"/>
                  </a:lnTo>
                  <a:lnTo>
                    <a:pt x="970" y="265"/>
                  </a:lnTo>
                  <a:lnTo>
                    <a:pt x="965" y="255"/>
                  </a:lnTo>
                  <a:lnTo>
                    <a:pt x="962" y="244"/>
                  </a:lnTo>
                  <a:lnTo>
                    <a:pt x="961" y="234"/>
                  </a:lnTo>
                  <a:lnTo>
                    <a:pt x="962" y="213"/>
                  </a:lnTo>
                  <a:lnTo>
                    <a:pt x="965" y="194"/>
                  </a:lnTo>
                  <a:lnTo>
                    <a:pt x="966" y="185"/>
                  </a:lnTo>
                  <a:lnTo>
                    <a:pt x="968" y="177"/>
                  </a:lnTo>
                  <a:lnTo>
                    <a:pt x="968" y="170"/>
                  </a:lnTo>
                  <a:lnTo>
                    <a:pt x="966" y="164"/>
                  </a:lnTo>
                  <a:lnTo>
                    <a:pt x="964" y="159"/>
                  </a:lnTo>
                  <a:lnTo>
                    <a:pt x="961" y="156"/>
                  </a:lnTo>
                  <a:lnTo>
                    <a:pt x="954" y="153"/>
                  </a:lnTo>
                  <a:lnTo>
                    <a:pt x="945" y="152"/>
                  </a:lnTo>
                  <a:lnTo>
                    <a:pt x="933" y="153"/>
                  </a:lnTo>
                  <a:lnTo>
                    <a:pt x="922" y="155"/>
                  </a:lnTo>
                  <a:lnTo>
                    <a:pt x="910" y="157"/>
                  </a:lnTo>
                  <a:lnTo>
                    <a:pt x="900" y="159"/>
                  </a:lnTo>
                  <a:lnTo>
                    <a:pt x="878" y="167"/>
                  </a:lnTo>
                  <a:lnTo>
                    <a:pt x="854" y="176"/>
                  </a:lnTo>
                  <a:lnTo>
                    <a:pt x="831" y="184"/>
                  </a:lnTo>
                  <a:lnTo>
                    <a:pt x="805" y="192"/>
                  </a:lnTo>
                  <a:lnTo>
                    <a:pt x="790" y="194"/>
                  </a:lnTo>
                  <a:lnTo>
                    <a:pt x="776" y="197"/>
                  </a:lnTo>
                  <a:lnTo>
                    <a:pt x="760" y="198"/>
                  </a:lnTo>
                  <a:lnTo>
                    <a:pt x="743" y="199"/>
                  </a:lnTo>
                  <a:lnTo>
                    <a:pt x="727" y="198"/>
                  </a:lnTo>
                  <a:lnTo>
                    <a:pt x="713" y="194"/>
                  </a:lnTo>
                  <a:lnTo>
                    <a:pt x="701" y="190"/>
                  </a:lnTo>
                  <a:lnTo>
                    <a:pt x="691" y="185"/>
                  </a:lnTo>
                  <a:lnTo>
                    <a:pt x="672" y="170"/>
                  </a:lnTo>
                  <a:lnTo>
                    <a:pt x="655" y="155"/>
                  </a:lnTo>
                  <a:lnTo>
                    <a:pt x="645" y="146"/>
                  </a:lnTo>
                  <a:lnTo>
                    <a:pt x="636" y="139"/>
                  </a:lnTo>
                  <a:lnTo>
                    <a:pt x="624" y="132"/>
                  </a:lnTo>
                  <a:lnTo>
                    <a:pt x="613" y="126"/>
                  </a:lnTo>
                  <a:lnTo>
                    <a:pt x="599" y="123"/>
                  </a:lnTo>
                  <a:lnTo>
                    <a:pt x="582" y="119"/>
                  </a:lnTo>
                  <a:lnTo>
                    <a:pt x="563" y="119"/>
                  </a:lnTo>
                  <a:lnTo>
                    <a:pt x="541" y="121"/>
                  </a:lnTo>
                  <a:lnTo>
                    <a:pt x="548" y="110"/>
                  </a:lnTo>
                  <a:lnTo>
                    <a:pt x="554" y="100"/>
                  </a:lnTo>
                  <a:lnTo>
                    <a:pt x="558" y="89"/>
                  </a:lnTo>
                  <a:lnTo>
                    <a:pt x="560" y="80"/>
                  </a:lnTo>
                  <a:lnTo>
                    <a:pt x="561" y="72"/>
                  </a:lnTo>
                  <a:lnTo>
                    <a:pt x="561" y="62"/>
                  </a:lnTo>
                  <a:lnTo>
                    <a:pt x="558" y="55"/>
                  </a:lnTo>
                  <a:lnTo>
                    <a:pt x="554" y="47"/>
                  </a:lnTo>
                  <a:lnTo>
                    <a:pt x="548" y="40"/>
                  </a:lnTo>
                  <a:lnTo>
                    <a:pt x="540" y="33"/>
                  </a:lnTo>
                  <a:lnTo>
                    <a:pt x="530" y="27"/>
                  </a:lnTo>
                  <a:lnTo>
                    <a:pt x="518" y="21"/>
                  </a:lnTo>
                  <a:lnTo>
                    <a:pt x="504" y="16"/>
                  </a:lnTo>
                  <a:lnTo>
                    <a:pt x="489" y="10"/>
                  </a:lnTo>
                  <a:lnTo>
                    <a:pt x="470" y="5"/>
                  </a:lnTo>
                  <a:lnTo>
                    <a:pt x="449" y="0"/>
                  </a:lnTo>
                  <a:lnTo>
                    <a:pt x="109" y="158"/>
                  </a:lnTo>
                  <a:lnTo>
                    <a:pt x="0" y="199"/>
                  </a:lnTo>
                  <a:lnTo>
                    <a:pt x="0" y="299"/>
                  </a:lnTo>
                  <a:lnTo>
                    <a:pt x="55" y="32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Freeform 185"/>
            <p:cNvSpPr/>
            <p:nvPr/>
          </p:nvSpPr>
          <p:spPr>
            <a:xfrm>
              <a:off x="7855200" y="5264640"/>
              <a:ext cx="197640" cy="698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44" h="409">
                  <a:moveTo>
                    <a:pt x="933" y="193"/>
                  </a:moveTo>
                  <a:lnTo>
                    <a:pt x="971" y="223"/>
                  </a:lnTo>
                  <a:lnTo>
                    <a:pt x="1011" y="254"/>
                  </a:lnTo>
                  <a:lnTo>
                    <a:pt x="1053" y="283"/>
                  </a:lnTo>
                  <a:lnTo>
                    <a:pt x="1095" y="313"/>
                  </a:lnTo>
                  <a:lnTo>
                    <a:pt x="1137" y="341"/>
                  </a:lnTo>
                  <a:lnTo>
                    <a:pt x="1176" y="367"/>
                  </a:lnTo>
                  <a:lnTo>
                    <a:pt x="1213" y="389"/>
                  </a:lnTo>
                  <a:lnTo>
                    <a:pt x="1244" y="409"/>
                  </a:lnTo>
                  <a:lnTo>
                    <a:pt x="1065" y="401"/>
                  </a:lnTo>
                  <a:lnTo>
                    <a:pt x="1063" y="396"/>
                  </a:lnTo>
                  <a:lnTo>
                    <a:pt x="1060" y="393"/>
                  </a:lnTo>
                  <a:lnTo>
                    <a:pt x="1056" y="390"/>
                  </a:lnTo>
                  <a:lnTo>
                    <a:pt x="1051" y="389"/>
                  </a:lnTo>
                  <a:lnTo>
                    <a:pt x="1041" y="386"/>
                  </a:lnTo>
                  <a:lnTo>
                    <a:pt x="1028" y="384"/>
                  </a:lnTo>
                  <a:lnTo>
                    <a:pt x="998" y="384"/>
                  </a:lnTo>
                  <a:lnTo>
                    <a:pt x="964" y="383"/>
                  </a:lnTo>
                  <a:lnTo>
                    <a:pt x="945" y="382"/>
                  </a:lnTo>
                  <a:lnTo>
                    <a:pt x="926" y="377"/>
                  </a:lnTo>
                  <a:lnTo>
                    <a:pt x="917" y="375"/>
                  </a:lnTo>
                  <a:lnTo>
                    <a:pt x="908" y="372"/>
                  </a:lnTo>
                  <a:lnTo>
                    <a:pt x="898" y="367"/>
                  </a:lnTo>
                  <a:lnTo>
                    <a:pt x="890" y="362"/>
                  </a:lnTo>
                  <a:lnTo>
                    <a:pt x="881" y="356"/>
                  </a:lnTo>
                  <a:lnTo>
                    <a:pt x="873" y="349"/>
                  </a:lnTo>
                  <a:lnTo>
                    <a:pt x="863" y="341"/>
                  </a:lnTo>
                  <a:lnTo>
                    <a:pt x="856" y="333"/>
                  </a:lnTo>
                  <a:lnTo>
                    <a:pt x="848" y="323"/>
                  </a:lnTo>
                  <a:lnTo>
                    <a:pt x="840" y="312"/>
                  </a:lnTo>
                  <a:lnTo>
                    <a:pt x="833" y="299"/>
                  </a:lnTo>
                  <a:lnTo>
                    <a:pt x="827" y="285"/>
                  </a:lnTo>
                  <a:lnTo>
                    <a:pt x="815" y="279"/>
                  </a:lnTo>
                  <a:lnTo>
                    <a:pt x="806" y="272"/>
                  </a:lnTo>
                  <a:lnTo>
                    <a:pt x="799" y="266"/>
                  </a:lnTo>
                  <a:lnTo>
                    <a:pt x="793" y="259"/>
                  </a:lnTo>
                  <a:lnTo>
                    <a:pt x="784" y="247"/>
                  </a:lnTo>
                  <a:lnTo>
                    <a:pt x="777" y="235"/>
                  </a:lnTo>
                  <a:lnTo>
                    <a:pt x="775" y="229"/>
                  </a:lnTo>
                  <a:lnTo>
                    <a:pt x="771" y="223"/>
                  </a:lnTo>
                  <a:lnTo>
                    <a:pt x="768" y="219"/>
                  </a:lnTo>
                  <a:lnTo>
                    <a:pt x="763" y="215"/>
                  </a:lnTo>
                  <a:lnTo>
                    <a:pt x="758" y="212"/>
                  </a:lnTo>
                  <a:lnTo>
                    <a:pt x="751" y="209"/>
                  </a:lnTo>
                  <a:lnTo>
                    <a:pt x="744" y="208"/>
                  </a:lnTo>
                  <a:lnTo>
                    <a:pt x="735" y="207"/>
                  </a:lnTo>
                  <a:lnTo>
                    <a:pt x="723" y="209"/>
                  </a:lnTo>
                  <a:lnTo>
                    <a:pt x="713" y="209"/>
                  </a:lnTo>
                  <a:lnTo>
                    <a:pt x="702" y="208"/>
                  </a:lnTo>
                  <a:lnTo>
                    <a:pt x="692" y="205"/>
                  </a:lnTo>
                  <a:lnTo>
                    <a:pt x="668" y="195"/>
                  </a:lnTo>
                  <a:lnTo>
                    <a:pt x="639" y="184"/>
                  </a:lnTo>
                  <a:lnTo>
                    <a:pt x="622" y="178"/>
                  </a:lnTo>
                  <a:lnTo>
                    <a:pt x="601" y="172"/>
                  </a:lnTo>
                  <a:lnTo>
                    <a:pt x="577" y="168"/>
                  </a:lnTo>
                  <a:lnTo>
                    <a:pt x="549" y="165"/>
                  </a:lnTo>
                  <a:lnTo>
                    <a:pt x="518" y="164"/>
                  </a:lnTo>
                  <a:lnTo>
                    <a:pt x="481" y="164"/>
                  </a:lnTo>
                  <a:lnTo>
                    <a:pt x="440" y="165"/>
                  </a:lnTo>
                  <a:lnTo>
                    <a:pt x="395" y="170"/>
                  </a:lnTo>
                  <a:lnTo>
                    <a:pt x="370" y="168"/>
                  </a:lnTo>
                  <a:lnTo>
                    <a:pt x="354" y="167"/>
                  </a:lnTo>
                  <a:lnTo>
                    <a:pt x="341" y="168"/>
                  </a:lnTo>
                  <a:lnTo>
                    <a:pt x="330" y="168"/>
                  </a:lnTo>
                  <a:lnTo>
                    <a:pt x="317" y="170"/>
                  </a:lnTo>
                  <a:lnTo>
                    <a:pt x="297" y="168"/>
                  </a:lnTo>
                  <a:lnTo>
                    <a:pt x="270" y="166"/>
                  </a:lnTo>
                  <a:lnTo>
                    <a:pt x="230" y="161"/>
                  </a:lnTo>
                  <a:lnTo>
                    <a:pt x="220" y="160"/>
                  </a:lnTo>
                  <a:lnTo>
                    <a:pt x="209" y="160"/>
                  </a:lnTo>
                  <a:lnTo>
                    <a:pt x="199" y="161"/>
                  </a:lnTo>
                  <a:lnTo>
                    <a:pt x="191" y="164"/>
                  </a:lnTo>
                  <a:lnTo>
                    <a:pt x="182" y="166"/>
                  </a:lnTo>
                  <a:lnTo>
                    <a:pt x="174" y="170"/>
                  </a:lnTo>
                  <a:lnTo>
                    <a:pt x="167" y="174"/>
                  </a:lnTo>
                  <a:lnTo>
                    <a:pt x="160" y="178"/>
                  </a:lnTo>
                  <a:lnTo>
                    <a:pt x="137" y="198"/>
                  </a:lnTo>
                  <a:lnTo>
                    <a:pt x="117" y="215"/>
                  </a:lnTo>
                  <a:lnTo>
                    <a:pt x="112" y="217"/>
                  </a:lnTo>
                  <a:lnTo>
                    <a:pt x="108" y="221"/>
                  </a:lnTo>
                  <a:lnTo>
                    <a:pt x="103" y="223"/>
                  </a:lnTo>
                  <a:lnTo>
                    <a:pt x="97" y="224"/>
                  </a:lnTo>
                  <a:lnTo>
                    <a:pt x="91" y="224"/>
                  </a:lnTo>
                  <a:lnTo>
                    <a:pt x="85" y="223"/>
                  </a:lnTo>
                  <a:lnTo>
                    <a:pt x="80" y="222"/>
                  </a:lnTo>
                  <a:lnTo>
                    <a:pt x="74" y="219"/>
                  </a:lnTo>
                  <a:lnTo>
                    <a:pt x="67" y="214"/>
                  </a:lnTo>
                  <a:lnTo>
                    <a:pt x="59" y="209"/>
                  </a:lnTo>
                  <a:lnTo>
                    <a:pt x="50" y="201"/>
                  </a:lnTo>
                  <a:lnTo>
                    <a:pt x="42" y="193"/>
                  </a:lnTo>
                  <a:lnTo>
                    <a:pt x="22" y="170"/>
                  </a:lnTo>
                  <a:lnTo>
                    <a:pt x="0" y="138"/>
                  </a:lnTo>
                  <a:lnTo>
                    <a:pt x="942" y="0"/>
                  </a:lnTo>
                  <a:lnTo>
                    <a:pt x="1057" y="98"/>
                  </a:lnTo>
                  <a:lnTo>
                    <a:pt x="1025" y="110"/>
                  </a:lnTo>
                  <a:lnTo>
                    <a:pt x="995" y="124"/>
                  </a:lnTo>
                  <a:lnTo>
                    <a:pt x="983" y="131"/>
                  </a:lnTo>
                  <a:lnTo>
                    <a:pt x="971" y="138"/>
                  </a:lnTo>
                  <a:lnTo>
                    <a:pt x="961" y="144"/>
                  </a:lnTo>
                  <a:lnTo>
                    <a:pt x="952" y="151"/>
                  </a:lnTo>
                  <a:lnTo>
                    <a:pt x="944" y="158"/>
                  </a:lnTo>
                  <a:lnTo>
                    <a:pt x="938" y="164"/>
                  </a:lnTo>
                  <a:lnTo>
                    <a:pt x="933" y="170"/>
                  </a:lnTo>
                  <a:lnTo>
                    <a:pt x="930" y="175"/>
                  </a:lnTo>
                  <a:lnTo>
                    <a:pt x="928" y="180"/>
                  </a:lnTo>
                  <a:lnTo>
                    <a:pt x="928" y="185"/>
                  </a:lnTo>
                  <a:lnTo>
                    <a:pt x="930" y="189"/>
                  </a:lnTo>
                  <a:lnTo>
                    <a:pt x="933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Freeform 186"/>
            <p:cNvSpPr/>
            <p:nvPr/>
          </p:nvSpPr>
          <p:spPr>
            <a:xfrm>
              <a:off x="7855200" y="5264640"/>
              <a:ext cx="197640" cy="698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44" h="409">
                  <a:moveTo>
                    <a:pt x="933" y="193"/>
                  </a:moveTo>
                  <a:lnTo>
                    <a:pt x="971" y="223"/>
                  </a:lnTo>
                  <a:lnTo>
                    <a:pt x="1011" y="254"/>
                  </a:lnTo>
                  <a:lnTo>
                    <a:pt x="1053" y="283"/>
                  </a:lnTo>
                  <a:lnTo>
                    <a:pt x="1095" y="313"/>
                  </a:lnTo>
                  <a:lnTo>
                    <a:pt x="1137" y="341"/>
                  </a:lnTo>
                  <a:lnTo>
                    <a:pt x="1176" y="367"/>
                  </a:lnTo>
                  <a:lnTo>
                    <a:pt x="1213" y="389"/>
                  </a:lnTo>
                  <a:lnTo>
                    <a:pt x="1244" y="409"/>
                  </a:lnTo>
                  <a:lnTo>
                    <a:pt x="1065" y="401"/>
                  </a:lnTo>
                  <a:lnTo>
                    <a:pt x="1063" y="396"/>
                  </a:lnTo>
                  <a:lnTo>
                    <a:pt x="1060" y="393"/>
                  </a:lnTo>
                  <a:lnTo>
                    <a:pt x="1056" y="390"/>
                  </a:lnTo>
                  <a:lnTo>
                    <a:pt x="1051" y="389"/>
                  </a:lnTo>
                  <a:lnTo>
                    <a:pt x="1041" y="386"/>
                  </a:lnTo>
                  <a:lnTo>
                    <a:pt x="1028" y="384"/>
                  </a:lnTo>
                  <a:lnTo>
                    <a:pt x="998" y="384"/>
                  </a:lnTo>
                  <a:lnTo>
                    <a:pt x="964" y="383"/>
                  </a:lnTo>
                  <a:lnTo>
                    <a:pt x="945" y="382"/>
                  </a:lnTo>
                  <a:lnTo>
                    <a:pt x="926" y="377"/>
                  </a:lnTo>
                  <a:lnTo>
                    <a:pt x="917" y="375"/>
                  </a:lnTo>
                  <a:lnTo>
                    <a:pt x="908" y="372"/>
                  </a:lnTo>
                  <a:lnTo>
                    <a:pt x="898" y="367"/>
                  </a:lnTo>
                  <a:lnTo>
                    <a:pt x="890" y="362"/>
                  </a:lnTo>
                  <a:lnTo>
                    <a:pt x="881" y="356"/>
                  </a:lnTo>
                  <a:lnTo>
                    <a:pt x="873" y="349"/>
                  </a:lnTo>
                  <a:lnTo>
                    <a:pt x="863" y="341"/>
                  </a:lnTo>
                  <a:lnTo>
                    <a:pt x="856" y="333"/>
                  </a:lnTo>
                  <a:lnTo>
                    <a:pt x="848" y="323"/>
                  </a:lnTo>
                  <a:lnTo>
                    <a:pt x="840" y="312"/>
                  </a:lnTo>
                  <a:lnTo>
                    <a:pt x="833" y="299"/>
                  </a:lnTo>
                  <a:lnTo>
                    <a:pt x="827" y="285"/>
                  </a:lnTo>
                  <a:lnTo>
                    <a:pt x="815" y="279"/>
                  </a:lnTo>
                  <a:lnTo>
                    <a:pt x="806" y="272"/>
                  </a:lnTo>
                  <a:lnTo>
                    <a:pt x="799" y="266"/>
                  </a:lnTo>
                  <a:lnTo>
                    <a:pt x="793" y="259"/>
                  </a:lnTo>
                  <a:lnTo>
                    <a:pt x="784" y="247"/>
                  </a:lnTo>
                  <a:lnTo>
                    <a:pt x="777" y="235"/>
                  </a:lnTo>
                  <a:lnTo>
                    <a:pt x="775" y="229"/>
                  </a:lnTo>
                  <a:lnTo>
                    <a:pt x="771" y="223"/>
                  </a:lnTo>
                  <a:lnTo>
                    <a:pt x="768" y="219"/>
                  </a:lnTo>
                  <a:lnTo>
                    <a:pt x="763" y="215"/>
                  </a:lnTo>
                  <a:lnTo>
                    <a:pt x="758" y="212"/>
                  </a:lnTo>
                  <a:lnTo>
                    <a:pt x="751" y="209"/>
                  </a:lnTo>
                  <a:lnTo>
                    <a:pt x="744" y="208"/>
                  </a:lnTo>
                  <a:lnTo>
                    <a:pt x="735" y="207"/>
                  </a:lnTo>
                  <a:lnTo>
                    <a:pt x="723" y="209"/>
                  </a:lnTo>
                  <a:lnTo>
                    <a:pt x="713" y="209"/>
                  </a:lnTo>
                  <a:lnTo>
                    <a:pt x="702" y="208"/>
                  </a:lnTo>
                  <a:lnTo>
                    <a:pt x="692" y="205"/>
                  </a:lnTo>
                  <a:lnTo>
                    <a:pt x="668" y="195"/>
                  </a:lnTo>
                  <a:lnTo>
                    <a:pt x="639" y="184"/>
                  </a:lnTo>
                  <a:lnTo>
                    <a:pt x="622" y="178"/>
                  </a:lnTo>
                  <a:lnTo>
                    <a:pt x="601" y="172"/>
                  </a:lnTo>
                  <a:lnTo>
                    <a:pt x="577" y="168"/>
                  </a:lnTo>
                  <a:lnTo>
                    <a:pt x="549" y="165"/>
                  </a:lnTo>
                  <a:lnTo>
                    <a:pt x="518" y="164"/>
                  </a:lnTo>
                  <a:lnTo>
                    <a:pt x="481" y="164"/>
                  </a:lnTo>
                  <a:lnTo>
                    <a:pt x="440" y="165"/>
                  </a:lnTo>
                  <a:lnTo>
                    <a:pt x="395" y="170"/>
                  </a:lnTo>
                  <a:lnTo>
                    <a:pt x="370" y="168"/>
                  </a:lnTo>
                  <a:lnTo>
                    <a:pt x="354" y="167"/>
                  </a:lnTo>
                  <a:lnTo>
                    <a:pt x="341" y="168"/>
                  </a:lnTo>
                  <a:lnTo>
                    <a:pt x="330" y="168"/>
                  </a:lnTo>
                  <a:lnTo>
                    <a:pt x="317" y="170"/>
                  </a:lnTo>
                  <a:lnTo>
                    <a:pt x="297" y="168"/>
                  </a:lnTo>
                  <a:lnTo>
                    <a:pt x="270" y="166"/>
                  </a:lnTo>
                  <a:lnTo>
                    <a:pt x="230" y="161"/>
                  </a:lnTo>
                  <a:lnTo>
                    <a:pt x="220" y="160"/>
                  </a:lnTo>
                  <a:lnTo>
                    <a:pt x="209" y="160"/>
                  </a:lnTo>
                  <a:lnTo>
                    <a:pt x="199" y="161"/>
                  </a:lnTo>
                  <a:lnTo>
                    <a:pt x="191" y="164"/>
                  </a:lnTo>
                  <a:lnTo>
                    <a:pt x="182" y="166"/>
                  </a:lnTo>
                  <a:lnTo>
                    <a:pt x="174" y="170"/>
                  </a:lnTo>
                  <a:lnTo>
                    <a:pt x="167" y="174"/>
                  </a:lnTo>
                  <a:lnTo>
                    <a:pt x="160" y="178"/>
                  </a:lnTo>
                  <a:lnTo>
                    <a:pt x="137" y="198"/>
                  </a:lnTo>
                  <a:lnTo>
                    <a:pt x="117" y="215"/>
                  </a:lnTo>
                  <a:lnTo>
                    <a:pt x="112" y="217"/>
                  </a:lnTo>
                  <a:lnTo>
                    <a:pt x="108" y="221"/>
                  </a:lnTo>
                  <a:lnTo>
                    <a:pt x="103" y="223"/>
                  </a:lnTo>
                  <a:lnTo>
                    <a:pt x="97" y="224"/>
                  </a:lnTo>
                  <a:lnTo>
                    <a:pt x="91" y="224"/>
                  </a:lnTo>
                  <a:lnTo>
                    <a:pt x="85" y="223"/>
                  </a:lnTo>
                  <a:lnTo>
                    <a:pt x="80" y="222"/>
                  </a:lnTo>
                  <a:lnTo>
                    <a:pt x="74" y="219"/>
                  </a:lnTo>
                  <a:lnTo>
                    <a:pt x="67" y="214"/>
                  </a:lnTo>
                  <a:lnTo>
                    <a:pt x="59" y="209"/>
                  </a:lnTo>
                  <a:lnTo>
                    <a:pt x="50" y="201"/>
                  </a:lnTo>
                  <a:lnTo>
                    <a:pt x="42" y="193"/>
                  </a:lnTo>
                  <a:lnTo>
                    <a:pt x="22" y="170"/>
                  </a:lnTo>
                  <a:lnTo>
                    <a:pt x="0" y="138"/>
                  </a:lnTo>
                  <a:lnTo>
                    <a:pt x="942" y="0"/>
                  </a:lnTo>
                  <a:lnTo>
                    <a:pt x="1057" y="98"/>
                  </a:lnTo>
                  <a:lnTo>
                    <a:pt x="1025" y="110"/>
                  </a:lnTo>
                  <a:lnTo>
                    <a:pt x="995" y="124"/>
                  </a:lnTo>
                  <a:lnTo>
                    <a:pt x="983" y="131"/>
                  </a:lnTo>
                  <a:lnTo>
                    <a:pt x="971" y="138"/>
                  </a:lnTo>
                  <a:lnTo>
                    <a:pt x="961" y="144"/>
                  </a:lnTo>
                  <a:lnTo>
                    <a:pt x="952" y="151"/>
                  </a:lnTo>
                  <a:lnTo>
                    <a:pt x="944" y="158"/>
                  </a:lnTo>
                  <a:lnTo>
                    <a:pt x="938" y="164"/>
                  </a:lnTo>
                  <a:lnTo>
                    <a:pt x="933" y="170"/>
                  </a:lnTo>
                  <a:lnTo>
                    <a:pt x="930" y="175"/>
                  </a:lnTo>
                  <a:lnTo>
                    <a:pt x="928" y="180"/>
                  </a:lnTo>
                  <a:lnTo>
                    <a:pt x="928" y="185"/>
                  </a:lnTo>
                  <a:lnTo>
                    <a:pt x="930" y="189"/>
                  </a:lnTo>
                  <a:lnTo>
                    <a:pt x="933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Freeform 187"/>
            <p:cNvSpPr/>
            <p:nvPr/>
          </p:nvSpPr>
          <p:spPr>
            <a:xfrm>
              <a:off x="8012520" y="5141520"/>
              <a:ext cx="91440" cy="5076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73" h="294">
                  <a:moveTo>
                    <a:pt x="573" y="116"/>
                  </a:moveTo>
                  <a:lnTo>
                    <a:pt x="547" y="124"/>
                  </a:lnTo>
                  <a:lnTo>
                    <a:pt x="521" y="132"/>
                  </a:lnTo>
                  <a:lnTo>
                    <a:pt x="496" y="140"/>
                  </a:lnTo>
                  <a:lnTo>
                    <a:pt x="470" y="150"/>
                  </a:lnTo>
                  <a:lnTo>
                    <a:pt x="442" y="159"/>
                  </a:lnTo>
                  <a:lnTo>
                    <a:pt x="413" y="168"/>
                  </a:lnTo>
                  <a:lnTo>
                    <a:pt x="381" y="178"/>
                  </a:lnTo>
                  <a:lnTo>
                    <a:pt x="348" y="188"/>
                  </a:lnTo>
                  <a:lnTo>
                    <a:pt x="351" y="194"/>
                  </a:lnTo>
                  <a:lnTo>
                    <a:pt x="352" y="201"/>
                  </a:lnTo>
                  <a:lnTo>
                    <a:pt x="352" y="208"/>
                  </a:lnTo>
                  <a:lnTo>
                    <a:pt x="351" y="214"/>
                  </a:lnTo>
                  <a:lnTo>
                    <a:pt x="348" y="220"/>
                  </a:lnTo>
                  <a:lnTo>
                    <a:pt x="346" y="225"/>
                  </a:lnTo>
                  <a:lnTo>
                    <a:pt x="341" y="230"/>
                  </a:lnTo>
                  <a:lnTo>
                    <a:pt x="337" y="236"/>
                  </a:lnTo>
                  <a:lnTo>
                    <a:pt x="326" y="245"/>
                  </a:lnTo>
                  <a:lnTo>
                    <a:pt x="312" y="255"/>
                  </a:lnTo>
                  <a:lnTo>
                    <a:pt x="297" y="262"/>
                  </a:lnTo>
                  <a:lnTo>
                    <a:pt x="281" y="269"/>
                  </a:lnTo>
                  <a:lnTo>
                    <a:pt x="248" y="280"/>
                  </a:lnTo>
                  <a:lnTo>
                    <a:pt x="219" y="289"/>
                  </a:lnTo>
                  <a:lnTo>
                    <a:pt x="198" y="292"/>
                  </a:lnTo>
                  <a:lnTo>
                    <a:pt x="190" y="294"/>
                  </a:lnTo>
                  <a:lnTo>
                    <a:pt x="0" y="47"/>
                  </a:lnTo>
                  <a:lnTo>
                    <a:pt x="478" y="0"/>
                  </a:lnTo>
                  <a:lnTo>
                    <a:pt x="573" y="1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Freeform 188"/>
            <p:cNvSpPr/>
            <p:nvPr/>
          </p:nvSpPr>
          <p:spPr>
            <a:xfrm>
              <a:off x="8012520" y="5141520"/>
              <a:ext cx="91440" cy="5076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73" h="294">
                  <a:moveTo>
                    <a:pt x="573" y="116"/>
                  </a:moveTo>
                  <a:lnTo>
                    <a:pt x="547" y="124"/>
                  </a:lnTo>
                  <a:lnTo>
                    <a:pt x="521" y="132"/>
                  </a:lnTo>
                  <a:lnTo>
                    <a:pt x="496" y="140"/>
                  </a:lnTo>
                  <a:lnTo>
                    <a:pt x="470" y="150"/>
                  </a:lnTo>
                  <a:lnTo>
                    <a:pt x="442" y="159"/>
                  </a:lnTo>
                  <a:lnTo>
                    <a:pt x="413" y="168"/>
                  </a:lnTo>
                  <a:lnTo>
                    <a:pt x="381" y="178"/>
                  </a:lnTo>
                  <a:lnTo>
                    <a:pt x="348" y="188"/>
                  </a:lnTo>
                  <a:lnTo>
                    <a:pt x="351" y="194"/>
                  </a:lnTo>
                  <a:lnTo>
                    <a:pt x="352" y="201"/>
                  </a:lnTo>
                  <a:lnTo>
                    <a:pt x="352" y="208"/>
                  </a:lnTo>
                  <a:lnTo>
                    <a:pt x="351" y="214"/>
                  </a:lnTo>
                  <a:lnTo>
                    <a:pt x="348" y="220"/>
                  </a:lnTo>
                  <a:lnTo>
                    <a:pt x="346" y="225"/>
                  </a:lnTo>
                  <a:lnTo>
                    <a:pt x="341" y="230"/>
                  </a:lnTo>
                  <a:lnTo>
                    <a:pt x="337" y="236"/>
                  </a:lnTo>
                  <a:lnTo>
                    <a:pt x="326" y="245"/>
                  </a:lnTo>
                  <a:lnTo>
                    <a:pt x="312" y="255"/>
                  </a:lnTo>
                  <a:lnTo>
                    <a:pt x="297" y="262"/>
                  </a:lnTo>
                  <a:lnTo>
                    <a:pt x="281" y="269"/>
                  </a:lnTo>
                  <a:lnTo>
                    <a:pt x="248" y="280"/>
                  </a:lnTo>
                  <a:lnTo>
                    <a:pt x="219" y="289"/>
                  </a:lnTo>
                  <a:lnTo>
                    <a:pt x="198" y="292"/>
                  </a:lnTo>
                  <a:lnTo>
                    <a:pt x="190" y="294"/>
                  </a:lnTo>
                  <a:lnTo>
                    <a:pt x="0" y="47"/>
                  </a:lnTo>
                  <a:lnTo>
                    <a:pt x="478" y="0"/>
                  </a:lnTo>
                  <a:lnTo>
                    <a:pt x="573" y="11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Freeform 189"/>
            <p:cNvSpPr/>
            <p:nvPr/>
          </p:nvSpPr>
          <p:spPr>
            <a:xfrm>
              <a:off x="8088480" y="5140800"/>
              <a:ext cx="49320" cy="205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03" h="124">
                  <a:moveTo>
                    <a:pt x="95" y="124"/>
                  </a:moveTo>
                  <a:lnTo>
                    <a:pt x="118" y="117"/>
                  </a:lnTo>
                  <a:lnTo>
                    <a:pt x="141" y="111"/>
                  </a:lnTo>
                  <a:lnTo>
                    <a:pt x="165" y="106"/>
                  </a:lnTo>
                  <a:lnTo>
                    <a:pt x="191" y="100"/>
                  </a:lnTo>
                  <a:lnTo>
                    <a:pt x="216" y="96"/>
                  </a:lnTo>
                  <a:lnTo>
                    <a:pt x="243" y="92"/>
                  </a:lnTo>
                  <a:lnTo>
                    <a:pt x="272" y="89"/>
                  </a:lnTo>
                  <a:lnTo>
                    <a:pt x="303" y="86"/>
                  </a:lnTo>
                  <a:lnTo>
                    <a:pt x="294" y="78"/>
                  </a:lnTo>
                  <a:lnTo>
                    <a:pt x="273" y="61"/>
                  </a:lnTo>
                  <a:lnTo>
                    <a:pt x="259" y="51"/>
                  </a:lnTo>
                  <a:lnTo>
                    <a:pt x="244" y="42"/>
                  </a:lnTo>
                  <a:lnTo>
                    <a:pt x="236" y="38"/>
                  </a:lnTo>
                  <a:lnTo>
                    <a:pt x="228" y="35"/>
                  </a:lnTo>
                  <a:lnTo>
                    <a:pt x="219" y="33"/>
                  </a:lnTo>
                  <a:lnTo>
                    <a:pt x="210" y="31"/>
                  </a:lnTo>
                  <a:lnTo>
                    <a:pt x="185" y="28"/>
                  </a:lnTo>
                  <a:lnTo>
                    <a:pt x="158" y="24"/>
                  </a:lnTo>
                  <a:lnTo>
                    <a:pt x="133" y="19"/>
                  </a:lnTo>
                  <a:lnTo>
                    <a:pt x="111" y="14"/>
                  </a:lnTo>
                  <a:lnTo>
                    <a:pt x="76" y="3"/>
                  </a:lnTo>
                  <a:lnTo>
                    <a:pt x="63" y="0"/>
                  </a:lnTo>
                  <a:lnTo>
                    <a:pt x="0" y="8"/>
                  </a:lnTo>
                  <a:lnTo>
                    <a:pt x="95" y="12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Freeform 190"/>
            <p:cNvSpPr/>
            <p:nvPr/>
          </p:nvSpPr>
          <p:spPr>
            <a:xfrm>
              <a:off x="8088480" y="5140800"/>
              <a:ext cx="49320" cy="205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03" h="124">
                  <a:moveTo>
                    <a:pt x="95" y="124"/>
                  </a:moveTo>
                  <a:lnTo>
                    <a:pt x="118" y="117"/>
                  </a:lnTo>
                  <a:lnTo>
                    <a:pt x="141" y="111"/>
                  </a:lnTo>
                  <a:lnTo>
                    <a:pt x="165" y="106"/>
                  </a:lnTo>
                  <a:lnTo>
                    <a:pt x="191" y="100"/>
                  </a:lnTo>
                  <a:lnTo>
                    <a:pt x="216" y="96"/>
                  </a:lnTo>
                  <a:lnTo>
                    <a:pt x="243" y="92"/>
                  </a:lnTo>
                  <a:lnTo>
                    <a:pt x="272" y="89"/>
                  </a:lnTo>
                  <a:lnTo>
                    <a:pt x="303" y="86"/>
                  </a:lnTo>
                  <a:lnTo>
                    <a:pt x="294" y="78"/>
                  </a:lnTo>
                  <a:lnTo>
                    <a:pt x="273" y="61"/>
                  </a:lnTo>
                  <a:lnTo>
                    <a:pt x="259" y="51"/>
                  </a:lnTo>
                  <a:lnTo>
                    <a:pt x="244" y="42"/>
                  </a:lnTo>
                  <a:lnTo>
                    <a:pt x="236" y="38"/>
                  </a:lnTo>
                  <a:lnTo>
                    <a:pt x="228" y="35"/>
                  </a:lnTo>
                  <a:lnTo>
                    <a:pt x="219" y="33"/>
                  </a:lnTo>
                  <a:lnTo>
                    <a:pt x="210" y="31"/>
                  </a:lnTo>
                  <a:lnTo>
                    <a:pt x="185" y="28"/>
                  </a:lnTo>
                  <a:lnTo>
                    <a:pt x="158" y="24"/>
                  </a:lnTo>
                  <a:lnTo>
                    <a:pt x="133" y="19"/>
                  </a:lnTo>
                  <a:lnTo>
                    <a:pt x="111" y="14"/>
                  </a:lnTo>
                  <a:lnTo>
                    <a:pt x="76" y="3"/>
                  </a:lnTo>
                  <a:lnTo>
                    <a:pt x="63" y="0"/>
                  </a:lnTo>
                  <a:lnTo>
                    <a:pt x="0" y="8"/>
                  </a:lnTo>
                  <a:lnTo>
                    <a:pt x="95" y="124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8" name="Group 191"/>
            <p:cNvGrpSpPr/>
            <p:nvPr/>
          </p:nvGrpSpPr>
          <p:grpSpPr>
            <a:xfrm>
              <a:off x="5601240" y="5843880"/>
              <a:ext cx="399600" cy="227520"/>
              <a:chOff x="5601240" y="5843880"/>
              <a:chExt cx="399600" cy="227520"/>
            </a:xfrm>
          </p:grpSpPr>
          <p:sp>
            <p:nvSpPr>
              <p:cNvPr id="1129" name="Freeform 192"/>
              <p:cNvSpPr/>
              <p:nvPr/>
            </p:nvSpPr>
            <p:spPr>
              <a:xfrm>
                <a:off x="5842440" y="6004080"/>
                <a:ext cx="65880" cy="266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406" h="162">
                    <a:moveTo>
                      <a:pt x="372" y="130"/>
                    </a:moveTo>
                    <a:lnTo>
                      <a:pt x="364" y="136"/>
                    </a:lnTo>
                    <a:lnTo>
                      <a:pt x="353" y="141"/>
                    </a:lnTo>
                    <a:lnTo>
                      <a:pt x="340" y="145"/>
                    </a:lnTo>
                    <a:lnTo>
                      <a:pt x="326" y="149"/>
                    </a:lnTo>
                    <a:lnTo>
                      <a:pt x="311" y="152"/>
                    </a:lnTo>
                    <a:lnTo>
                      <a:pt x="295" y="156"/>
                    </a:lnTo>
                    <a:lnTo>
                      <a:pt x="278" y="158"/>
                    </a:lnTo>
                    <a:lnTo>
                      <a:pt x="262" y="160"/>
                    </a:lnTo>
                    <a:lnTo>
                      <a:pt x="246" y="162"/>
                    </a:lnTo>
                    <a:lnTo>
                      <a:pt x="230" y="162"/>
                    </a:lnTo>
                    <a:lnTo>
                      <a:pt x="215" y="162"/>
                    </a:lnTo>
                    <a:lnTo>
                      <a:pt x="202" y="160"/>
                    </a:lnTo>
                    <a:lnTo>
                      <a:pt x="191" y="159"/>
                    </a:lnTo>
                    <a:lnTo>
                      <a:pt x="181" y="156"/>
                    </a:lnTo>
                    <a:lnTo>
                      <a:pt x="178" y="155"/>
                    </a:lnTo>
                    <a:lnTo>
                      <a:pt x="174" y="152"/>
                    </a:lnTo>
                    <a:lnTo>
                      <a:pt x="172" y="150"/>
                    </a:lnTo>
                    <a:lnTo>
                      <a:pt x="171" y="148"/>
                    </a:lnTo>
                    <a:lnTo>
                      <a:pt x="167" y="141"/>
                    </a:lnTo>
                    <a:lnTo>
                      <a:pt x="163" y="135"/>
                    </a:lnTo>
                    <a:lnTo>
                      <a:pt x="158" y="129"/>
                    </a:lnTo>
                    <a:lnTo>
                      <a:pt x="153" y="124"/>
                    </a:lnTo>
                    <a:lnTo>
                      <a:pt x="142" y="115"/>
                    </a:lnTo>
                    <a:lnTo>
                      <a:pt x="130" y="107"/>
                    </a:lnTo>
                    <a:lnTo>
                      <a:pt x="116" y="101"/>
                    </a:lnTo>
                    <a:lnTo>
                      <a:pt x="102" y="96"/>
                    </a:lnTo>
                    <a:lnTo>
                      <a:pt x="87" y="92"/>
                    </a:lnTo>
                    <a:lnTo>
                      <a:pt x="73" y="89"/>
                    </a:lnTo>
                    <a:lnTo>
                      <a:pt x="46" y="85"/>
                    </a:lnTo>
                    <a:lnTo>
                      <a:pt x="22" y="83"/>
                    </a:lnTo>
                    <a:lnTo>
                      <a:pt x="6" y="83"/>
                    </a:lnTo>
                    <a:lnTo>
                      <a:pt x="0" y="85"/>
                    </a:lnTo>
                    <a:lnTo>
                      <a:pt x="79" y="6"/>
                    </a:lnTo>
                    <a:lnTo>
                      <a:pt x="93" y="4"/>
                    </a:lnTo>
                    <a:lnTo>
                      <a:pt x="107" y="4"/>
                    </a:lnTo>
                    <a:lnTo>
                      <a:pt x="121" y="4"/>
                    </a:lnTo>
                    <a:lnTo>
                      <a:pt x="133" y="5"/>
                    </a:lnTo>
                    <a:lnTo>
                      <a:pt x="159" y="9"/>
                    </a:lnTo>
                    <a:lnTo>
                      <a:pt x="185" y="13"/>
                    </a:lnTo>
                    <a:lnTo>
                      <a:pt x="196" y="14"/>
                    </a:lnTo>
                    <a:lnTo>
                      <a:pt x="209" y="17"/>
                    </a:lnTo>
                    <a:lnTo>
                      <a:pt x="221" y="18"/>
                    </a:lnTo>
                    <a:lnTo>
                      <a:pt x="233" y="18"/>
                    </a:lnTo>
                    <a:lnTo>
                      <a:pt x="244" y="17"/>
                    </a:lnTo>
                    <a:lnTo>
                      <a:pt x="256" y="14"/>
                    </a:lnTo>
                    <a:lnTo>
                      <a:pt x="268" y="11"/>
                    </a:lnTo>
                    <a:lnTo>
                      <a:pt x="279" y="6"/>
                    </a:lnTo>
                    <a:lnTo>
                      <a:pt x="285" y="4"/>
                    </a:lnTo>
                    <a:lnTo>
                      <a:pt x="292" y="3"/>
                    </a:lnTo>
                    <a:lnTo>
                      <a:pt x="298" y="2"/>
                    </a:lnTo>
                    <a:lnTo>
                      <a:pt x="305" y="0"/>
                    </a:lnTo>
                    <a:lnTo>
                      <a:pt x="319" y="2"/>
                    </a:lnTo>
                    <a:lnTo>
                      <a:pt x="333" y="5"/>
                    </a:lnTo>
                    <a:lnTo>
                      <a:pt x="347" y="10"/>
                    </a:lnTo>
                    <a:lnTo>
                      <a:pt x="360" y="17"/>
                    </a:lnTo>
                    <a:lnTo>
                      <a:pt x="373" y="25"/>
                    </a:lnTo>
                    <a:lnTo>
                      <a:pt x="383" y="34"/>
                    </a:lnTo>
                    <a:lnTo>
                      <a:pt x="393" y="45"/>
                    </a:lnTo>
                    <a:lnTo>
                      <a:pt x="400" y="57"/>
                    </a:lnTo>
                    <a:lnTo>
                      <a:pt x="402" y="62"/>
                    </a:lnTo>
                    <a:lnTo>
                      <a:pt x="403" y="69"/>
                    </a:lnTo>
                    <a:lnTo>
                      <a:pt x="404" y="75"/>
                    </a:lnTo>
                    <a:lnTo>
                      <a:pt x="406" y="81"/>
                    </a:lnTo>
                    <a:lnTo>
                      <a:pt x="404" y="88"/>
                    </a:lnTo>
                    <a:lnTo>
                      <a:pt x="403" y="94"/>
                    </a:lnTo>
                    <a:lnTo>
                      <a:pt x="401" y="100"/>
                    </a:lnTo>
                    <a:lnTo>
                      <a:pt x="397" y="107"/>
                    </a:lnTo>
                    <a:lnTo>
                      <a:pt x="393" y="113"/>
                    </a:lnTo>
                    <a:lnTo>
                      <a:pt x="387" y="118"/>
                    </a:lnTo>
                    <a:lnTo>
                      <a:pt x="380" y="124"/>
                    </a:lnTo>
                    <a:lnTo>
                      <a:pt x="372" y="1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93"/>
              <p:cNvSpPr/>
              <p:nvPr/>
            </p:nvSpPr>
            <p:spPr>
              <a:xfrm>
                <a:off x="5829480" y="5968800"/>
                <a:ext cx="171360" cy="10260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655" h="595">
                    <a:moveTo>
                      <a:pt x="9" y="419"/>
                    </a:moveTo>
                    <a:lnTo>
                      <a:pt x="8" y="401"/>
                    </a:lnTo>
                    <a:lnTo>
                      <a:pt x="9" y="386"/>
                    </a:lnTo>
                    <a:lnTo>
                      <a:pt x="10" y="371"/>
                    </a:lnTo>
                    <a:lnTo>
                      <a:pt x="13" y="358"/>
                    </a:lnTo>
                    <a:lnTo>
                      <a:pt x="17" y="345"/>
                    </a:lnTo>
                    <a:lnTo>
                      <a:pt x="22" y="333"/>
                    </a:lnTo>
                    <a:lnTo>
                      <a:pt x="28" y="322"/>
                    </a:lnTo>
                    <a:lnTo>
                      <a:pt x="34" y="312"/>
                    </a:lnTo>
                    <a:lnTo>
                      <a:pt x="42" y="303"/>
                    </a:lnTo>
                    <a:lnTo>
                      <a:pt x="49" y="294"/>
                    </a:lnTo>
                    <a:lnTo>
                      <a:pt x="58" y="285"/>
                    </a:lnTo>
                    <a:lnTo>
                      <a:pt x="68" y="277"/>
                    </a:lnTo>
                    <a:lnTo>
                      <a:pt x="87" y="263"/>
                    </a:lnTo>
                    <a:lnTo>
                      <a:pt x="107" y="250"/>
                    </a:lnTo>
                    <a:lnTo>
                      <a:pt x="152" y="226"/>
                    </a:lnTo>
                    <a:lnTo>
                      <a:pt x="194" y="199"/>
                    </a:lnTo>
                    <a:lnTo>
                      <a:pt x="204" y="192"/>
                    </a:lnTo>
                    <a:lnTo>
                      <a:pt x="214" y="184"/>
                    </a:lnTo>
                    <a:lnTo>
                      <a:pt x="222" y="176"/>
                    </a:lnTo>
                    <a:lnTo>
                      <a:pt x="230" y="167"/>
                    </a:lnTo>
                    <a:lnTo>
                      <a:pt x="238" y="158"/>
                    </a:lnTo>
                    <a:lnTo>
                      <a:pt x="245" y="148"/>
                    </a:lnTo>
                    <a:lnTo>
                      <a:pt x="251" y="137"/>
                    </a:lnTo>
                    <a:lnTo>
                      <a:pt x="257" y="124"/>
                    </a:lnTo>
                    <a:lnTo>
                      <a:pt x="267" y="97"/>
                    </a:lnTo>
                    <a:lnTo>
                      <a:pt x="277" y="75"/>
                    </a:lnTo>
                    <a:lnTo>
                      <a:pt x="286" y="56"/>
                    </a:lnTo>
                    <a:lnTo>
                      <a:pt x="294" y="41"/>
                    </a:lnTo>
                    <a:lnTo>
                      <a:pt x="302" y="30"/>
                    </a:lnTo>
                    <a:lnTo>
                      <a:pt x="311" y="21"/>
                    </a:lnTo>
                    <a:lnTo>
                      <a:pt x="319" y="14"/>
                    </a:lnTo>
                    <a:lnTo>
                      <a:pt x="329" y="10"/>
                    </a:lnTo>
                    <a:lnTo>
                      <a:pt x="340" y="7"/>
                    </a:lnTo>
                    <a:lnTo>
                      <a:pt x="351" y="5"/>
                    </a:lnTo>
                    <a:lnTo>
                      <a:pt x="365" y="5"/>
                    </a:lnTo>
                    <a:lnTo>
                      <a:pt x="382" y="4"/>
                    </a:lnTo>
                    <a:lnTo>
                      <a:pt x="421" y="4"/>
                    </a:lnTo>
                    <a:lnTo>
                      <a:pt x="473" y="0"/>
                    </a:lnTo>
                    <a:lnTo>
                      <a:pt x="481" y="2"/>
                    </a:lnTo>
                    <a:lnTo>
                      <a:pt x="492" y="5"/>
                    </a:lnTo>
                    <a:lnTo>
                      <a:pt x="501" y="10"/>
                    </a:lnTo>
                    <a:lnTo>
                      <a:pt x="513" y="16"/>
                    </a:lnTo>
                    <a:lnTo>
                      <a:pt x="535" y="31"/>
                    </a:lnTo>
                    <a:lnTo>
                      <a:pt x="557" y="49"/>
                    </a:lnTo>
                    <a:lnTo>
                      <a:pt x="580" y="68"/>
                    </a:lnTo>
                    <a:lnTo>
                      <a:pt x="603" y="86"/>
                    </a:lnTo>
                    <a:lnTo>
                      <a:pt x="613" y="94"/>
                    </a:lnTo>
                    <a:lnTo>
                      <a:pt x="624" y="101"/>
                    </a:lnTo>
                    <a:lnTo>
                      <a:pt x="633" y="107"/>
                    </a:lnTo>
                    <a:lnTo>
                      <a:pt x="642" y="110"/>
                    </a:lnTo>
                    <a:lnTo>
                      <a:pt x="647" y="113"/>
                    </a:lnTo>
                    <a:lnTo>
                      <a:pt x="649" y="115"/>
                    </a:lnTo>
                    <a:lnTo>
                      <a:pt x="652" y="118"/>
                    </a:lnTo>
                    <a:lnTo>
                      <a:pt x="654" y="123"/>
                    </a:lnTo>
                    <a:lnTo>
                      <a:pt x="654" y="129"/>
                    </a:lnTo>
                    <a:lnTo>
                      <a:pt x="655" y="135"/>
                    </a:lnTo>
                    <a:lnTo>
                      <a:pt x="654" y="141"/>
                    </a:lnTo>
                    <a:lnTo>
                      <a:pt x="653" y="149"/>
                    </a:lnTo>
                    <a:lnTo>
                      <a:pt x="649" y="164"/>
                    </a:lnTo>
                    <a:lnTo>
                      <a:pt x="642" y="181"/>
                    </a:lnTo>
                    <a:lnTo>
                      <a:pt x="634" y="201"/>
                    </a:lnTo>
                    <a:lnTo>
                      <a:pt x="624" y="221"/>
                    </a:lnTo>
                    <a:lnTo>
                      <a:pt x="611" y="241"/>
                    </a:lnTo>
                    <a:lnTo>
                      <a:pt x="597" y="261"/>
                    </a:lnTo>
                    <a:lnTo>
                      <a:pt x="580" y="281"/>
                    </a:lnTo>
                    <a:lnTo>
                      <a:pt x="564" y="299"/>
                    </a:lnTo>
                    <a:lnTo>
                      <a:pt x="545" y="317"/>
                    </a:lnTo>
                    <a:lnTo>
                      <a:pt x="527" y="332"/>
                    </a:lnTo>
                    <a:lnTo>
                      <a:pt x="517" y="339"/>
                    </a:lnTo>
                    <a:lnTo>
                      <a:pt x="507" y="345"/>
                    </a:lnTo>
                    <a:lnTo>
                      <a:pt x="497" y="351"/>
                    </a:lnTo>
                    <a:lnTo>
                      <a:pt x="487" y="355"/>
                    </a:lnTo>
                    <a:lnTo>
                      <a:pt x="467" y="362"/>
                    </a:lnTo>
                    <a:lnTo>
                      <a:pt x="446" y="369"/>
                    </a:lnTo>
                    <a:lnTo>
                      <a:pt x="424" y="375"/>
                    </a:lnTo>
                    <a:lnTo>
                      <a:pt x="403" y="380"/>
                    </a:lnTo>
                    <a:lnTo>
                      <a:pt x="379" y="385"/>
                    </a:lnTo>
                    <a:lnTo>
                      <a:pt x="357" y="389"/>
                    </a:lnTo>
                    <a:lnTo>
                      <a:pt x="335" y="395"/>
                    </a:lnTo>
                    <a:lnTo>
                      <a:pt x="313" y="402"/>
                    </a:lnTo>
                    <a:lnTo>
                      <a:pt x="291" y="410"/>
                    </a:lnTo>
                    <a:lnTo>
                      <a:pt x="268" y="421"/>
                    </a:lnTo>
                    <a:lnTo>
                      <a:pt x="257" y="427"/>
                    </a:lnTo>
                    <a:lnTo>
                      <a:pt x="246" y="433"/>
                    </a:lnTo>
                    <a:lnTo>
                      <a:pt x="236" y="440"/>
                    </a:lnTo>
                    <a:lnTo>
                      <a:pt x="225" y="448"/>
                    </a:lnTo>
                    <a:lnTo>
                      <a:pt x="215" y="457"/>
                    </a:lnTo>
                    <a:lnTo>
                      <a:pt x="204" y="466"/>
                    </a:lnTo>
                    <a:lnTo>
                      <a:pt x="195" y="476"/>
                    </a:lnTo>
                    <a:lnTo>
                      <a:pt x="184" y="487"/>
                    </a:lnTo>
                    <a:lnTo>
                      <a:pt x="175" y="499"/>
                    </a:lnTo>
                    <a:lnTo>
                      <a:pt x="166" y="513"/>
                    </a:lnTo>
                    <a:lnTo>
                      <a:pt x="156" y="527"/>
                    </a:lnTo>
                    <a:lnTo>
                      <a:pt x="147" y="542"/>
                    </a:lnTo>
                    <a:lnTo>
                      <a:pt x="142" y="552"/>
                    </a:lnTo>
                    <a:lnTo>
                      <a:pt x="136" y="559"/>
                    </a:lnTo>
                    <a:lnTo>
                      <a:pt x="131" y="567"/>
                    </a:lnTo>
                    <a:lnTo>
                      <a:pt x="125" y="573"/>
                    </a:lnTo>
                    <a:lnTo>
                      <a:pt x="118" y="579"/>
                    </a:lnTo>
                    <a:lnTo>
                      <a:pt x="111" y="583"/>
                    </a:lnTo>
                    <a:lnTo>
                      <a:pt x="104" y="587"/>
                    </a:lnTo>
                    <a:lnTo>
                      <a:pt x="97" y="590"/>
                    </a:lnTo>
                    <a:lnTo>
                      <a:pt x="90" y="593"/>
                    </a:lnTo>
                    <a:lnTo>
                      <a:pt x="83" y="594"/>
                    </a:lnTo>
                    <a:lnTo>
                      <a:pt x="76" y="595"/>
                    </a:lnTo>
                    <a:lnTo>
                      <a:pt x="69" y="595"/>
                    </a:lnTo>
                    <a:lnTo>
                      <a:pt x="62" y="594"/>
                    </a:lnTo>
                    <a:lnTo>
                      <a:pt x="55" y="593"/>
                    </a:lnTo>
                    <a:lnTo>
                      <a:pt x="48" y="589"/>
                    </a:lnTo>
                    <a:lnTo>
                      <a:pt x="41" y="587"/>
                    </a:lnTo>
                    <a:lnTo>
                      <a:pt x="35" y="582"/>
                    </a:lnTo>
                    <a:lnTo>
                      <a:pt x="29" y="577"/>
                    </a:lnTo>
                    <a:lnTo>
                      <a:pt x="23" y="572"/>
                    </a:lnTo>
                    <a:lnTo>
                      <a:pt x="18" y="565"/>
                    </a:lnTo>
                    <a:lnTo>
                      <a:pt x="14" y="558"/>
                    </a:lnTo>
                    <a:lnTo>
                      <a:pt x="10" y="548"/>
                    </a:lnTo>
                    <a:lnTo>
                      <a:pt x="7" y="540"/>
                    </a:lnTo>
                    <a:lnTo>
                      <a:pt x="3" y="530"/>
                    </a:lnTo>
                    <a:lnTo>
                      <a:pt x="1" y="519"/>
                    </a:lnTo>
                    <a:lnTo>
                      <a:pt x="0" y="507"/>
                    </a:lnTo>
                    <a:lnTo>
                      <a:pt x="0" y="494"/>
                    </a:lnTo>
                    <a:lnTo>
                      <a:pt x="0" y="480"/>
                    </a:lnTo>
                    <a:lnTo>
                      <a:pt x="0" y="466"/>
                    </a:lnTo>
                    <a:lnTo>
                      <a:pt x="2" y="451"/>
                    </a:lnTo>
                    <a:lnTo>
                      <a:pt x="4" y="435"/>
                    </a:lnTo>
                    <a:lnTo>
                      <a:pt x="9" y="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94"/>
              <p:cNvSpPr/>
              <p:nvPr/>
            </p:nvSpPr>
            <p:spPr>
              <a:xfrm>
                <a:off x="5829480" y="5968800"/>
                <a:ext cx="171360" cy="10260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655" h="595">
                    <a:moveTo>
                      <a:pt x="9" y="419"/>
                    </a:moveTo>
                    <a:lnTo>
                      <a:pt x="8" y="401"/>
                    </a:lnTo>
                    <a:lnTo>
                      <a:pt x="9" y="386"/>
                    </a:lnTo>
                    <a:lnTo>
                      <a:pt x="10" y="371"/>
                    </a:lnTo>
                    <a:lnTo>
                      <a:pt x="13" y="358"/>
                    </a:lnTo>
                    <a:lnTo>
                      <a:pt x="17" y="345"/>
                    </a:lnTo>
                    <a:lnTo>
                      <a:pt x="22" y="333"/>
                    </a:lnTo>
                    <a:lnTo>
                      <a:pt x="28" y="322"/>
                    </a:lnTo>
                    <a:lnTo>
                      <a:pt x="34" y="312"/>
                    </a:lnTo>
                    <a:lnTo>
                      <a:pt x="42" y="303"/>
                    </a:lnTo>
                    <a:lnTo>
                      <a:pt x="49" y="294"/>
                    </a:lnTo>
                    <a:lnTo>
                      <a:pt x="58" y="285"/>
                    </a:lnTo>
                    <a:lnTo>
                      <a:pt x="68" y="277"/>
                    </a:lnTo>
                    <a:lnTo>
                      <a:pt x="87" y="263"/>
                    </a:lnTo>
                    <a:lnTo>
                      <a:pt x="107" y="250"/>
                    </a:lnTo>
                    <a:lnTo>
                      <a:pt x="152" y="226"/>
                    </a:lnTo>
                    <a:lnTo>
                      <a:pt x="194" y="199"/>
                    </a:lnTo>
                    <a:lnTo>
                      <a:pt x="204" y="192"/>
                    </a:lnTo>
                    <a:lnTo>
                      <a:pt x="214" y="184"/>
                    </a:lnTo>
                    <a:lnTo>
                      <a:pt x="222" y="176"/>
                    </a:lnTo>
                    <a:lnTo>
                      <a:pt x="230" y="167"/>
                    </a:lnTo>
                    <a:lnTo>
                      <a:pt x="238" y="158"/>
                    </a:lnTo>
                    <a:lnTo>
                      <a:pt x="245" y="148"/>
                    </a:lnTo>
                    <a:lnTo>
                      <a:pt x="251" y="137"/>
                    </a:lnTo>
                    <a:lnTo>
                      <a:pt x="257" y="124"/>
                    </a:lnTo>
                    <a:lnTo>
                      <a:pt x="267" y="97"/>
                    </a:lnTo>
                    <a:lnTo>
                      <a:pt x="277" y="75"/>
                    </a:lnTo>
                    <a:lnTo>
                      <a:pt x="286" y="56"/>
                    </a:lnTo>
                    <a:lnTo>
                      <a:pt x="294" y="41"/>
                    </a:lnTo>
                    <a:lnTo>
                      <a:pt x="302" y="30"/>
                    </a:lnTo>
                    <a:lnTo>
                      <a:pt x="311" y="21"/>
                    </a:lnTo>
                    <a:lnTo>
                      <a:pt x="319" y="14"/>
                    </a:lnTo>
                    <a:lnTo>
                      <a:pt x="329" y="10"/>
                    </a:lnTo>
                    <a:lnTo>
                      <a:pt x="340" y="7"/>
                    </a:lnTo>
                    <a:lnTo>
                      <a:pt x="351" y="5"/>
                    </a:lnTo>
                    <a:lnTo>
                      <a:pt x="365" y="5"/>
                    </a:lnTo>
                    <a:lnTo>
                      <a:pt x="382" y="4"/>
                    </a:lnTo>
                    <a:lnTo>
                      <a:pt x="421" y="4"/>
                    </a:lnTo>
                    <a:lnTo>
                      <a:pt x="473" y="0"/>
                    </a:lnTo>
                    <a:lnTo>
                      <a:pt x="481" y="2"/>
                    </a:lnTo>
                    <a:lnTo>
                      <a:pt x="492" y="5"/>
                    </a:lnTo>
                    <a:lnTo>
                      <a:pt x="501" y="10"/>
                    </a:lnTo>
                    <a:lnTo>
                      <a:pt x="513" y="16"/>
                    </a:lnTo>
                    <a:lnTo>
                      <a:pt x="535" y="31"/>
                    </a:lnTo>
                    <a:lnTo>
                      <a:pt x="557" y="49"/>
                    </a:lnTo>
                    <a:lnTo>
                      <a:pt x="580" y="68"/>
                    </a:lnTo>
                    <a:lnTo>
                      <a:pt x="603" y="86"/>
                    </a:lnTo>
                    <a:lnTo>
                      <a:pt x="613" y="94"/>
                    </a:lnTo>
                    <a:lnTo>
                      <a:pt x="624" y="101"/>
                    </a:lnTo>
                    <a:lnTo>
                      <a:pt x="633" y="107"/>
                    </a:lnTo>
                    <a:lnTo>
                      <a:pt x="642" y="110"/>
                    </a:lnTo>
                    <a:lnTo>
                      <a:pt x="647" y="113"/>
                    </a:lnTo>
                    <a:lnTo>
                      <a:pt x="649" y="115"/>
                    </a:lnTo>
                    <a:lnTo>
                      <a:pt x="652" y="118"/>
                    </a:lnTo>
                    <a:lnTo>
                      <a:pt x="654" y="123"/>
                    </a:lnTo>
                    <a:lnTo>
                      <a:pt x="654" y="129"/>
                    </a:lnTo>
                    <a:lnTo>
                      <a:pt x="655" y="135"/>
                    </a:lnTo>
                    <a:lnTo>
                      <a:pt x="654" y="141"/>
                    </a:lnTo>
                    <a:lnTo>
                      <a:pt x="653" y="149"/>
                    </a:lnTo>
                    <a:lnTo>
                      <a:pt x="649" y="164"/>
                    </a:lnTo>
                    <a:lnTo>
                      <a:pt x="642" y="181"/>
                    </a:lnTo>
                    <a:lnTo>
                      <a:pt x="634" y="201"/>
                    </a:lnTo>
                    <a:lnTo>
                      <a:pt x="624" y="221"/>
                    </a:lnTo>
                    <a:lnTo>
                      <a:pt x="611" y="241"/>
                    </a:lnTo>
                    <a:lnTo>
                      <a:pt x="597" y="261"/>
                    </a:lnTo>
                    <a:lnTo>
                      <a:pt x="580" y="281"/>
                    </a:lnTo>
                    <a:lnTo>
                      <a:pt x="564" y="299"/>
                    </a:lnTo>
                    <a:lnTo>
                      <a:pt x="545" y="317"/>
                    </a:lnTo>
                    <a:lnTo>
                      <a:pt x="527" y="332"/>
                    </a:lnTo>
                    <a:lnTo>
                      <a:pt x="517" y="339"/>
                    </a:lnTo>
                    <a:lnTo>
                      <a:pt x="507" y="345"/>
                    </a:lnTo>
                    <a:lnTo>
                      <a:pt x="497" y="351"/>
                    </a:lnTo>
                    <a:lnTo>
                      <a:pt x="487" y="355"/>
                    </a:lnTo>
                    <a:lnTo>
                      <a:pt x="467" y="362"/>
                    </a:lnTo>
                    <a:lnTo>
                      <a:pt x="446" y="369"/>
                    </a:lnTo>
                    <a:lnTo>
                      <a:pt x="424" y="375"/>
                    </a:lnTo>
                    <a:lnTo>
                      <a:pt x="403" y="380"/>
                    </a:lnTo>
                    <a:lnTo>
                      <a:pt x="379" y="385"/>
                    </a:lnTo>
                    <a:lnTo>
                      <a:pt x="357" y="389"/>
                    </a:lnTo>
                    <a:lnTo>
                      <a:pt x="335" y="395"/>
                    </a:lnTo>
                    <a:lnTo>
                      <a:pt x="313" y="402"/>
                    </a:lnTo>
                    <a:lnTo>
                      <a:pt x="291" y="410"/>
                    </a:lnTo>
                    <a:lnTo>
                      <a:pt x="268" y="421"/>
                    </a:lnTo>
                    <a:lnTo>
                      <a:pt x="257" y="427"/>
                    </a:lnTo>
                    <a:lnTo>
                      <a:pt x="246" y="433"/>
                    </a:lnTo>
                    <a:lnTo>
                      <a:pt x="236" y="440"/>
                    </a:lnTo>
                    <a:lnTo>
                      <a:pt x="225" y="448"/>
                    </a:lnTo>
                    <a:lnTo>
                      <a:pt x="215" y="457"/>
                    </a:lnTo>
                    <a:lnTo>
                      <a:pt x="204" y="466"/>
                    </a:lnTo>
                    <a:lnTo>
                      <a:pt x="195" y="476"/>
                    </a:lnTo>
                    <a:lnTo>
                      <a:pt x="184" y="487"/>
                    </a:lnTo>
                    <a:lnTo>
                      <a:pt x="175" y="499"/>
                    </a:lnTo>
                    <a:lnTo>
                      <a:pt x="166" y="513"/>
                    </a:lnTo>
                    <a:lnTo>
                      <a:pt x="156" y="527"/>
                    </a:lnTo>
                    <a:lnTo>
                      <a:pt x="147" y="542"/>
                    </a:lnTo>
                    <a:lnTo>
                      <a:pt x="142" y="552"/>
                    </a:lnTo>
                    <a:lnTo>
                      <a:pt x="136" y="559"/>
                    </a:lnTo>
                    <a:lnTo>
                      <a:pt x="131" y="567"/>
                    </a:lnTo>
                    <a:lnTo>
                      <a:pt x="125" y="573"/>
                    </a:lnTo>
                    <a:lnTo>
                      <a:pt x="118" y="579"/>
                    </a:lnTo>
                    <a:lnTo>
                      <a:pt x="111" y="583"/>
                    </a:lnTo>
                    <a:lnTo>
                      <a:pt x="104" y="587"/>
                    </a:lnTo>
                    <a:lnTo>
                      <a:pt x="97" y="590"/>
                    </a:lnTo>
                    <a:lnTo>
                      <a:pt x="90" y="593"/>
                    </a:lnTo>
                    <a:lnTo>
                      <a:pt x="83" y="594"/>
                    </a:lnTo>
                    <a:lnTo>
                      <a:pt x="76" y="595"/>
                    </a:lnTo>
                    <a:lnTo>
                      <a:pt x="69" y="595"/>
                    </a:lnTo>
                    <a:lnTo>
                      <a:pt x="62" y="594"/>
                    </a:lnTo>
                    <a:lnTo>
                      <a:pt x="55" y="593"/>
                    </a:lnTo>
                    <a:lnTo>
                      <a:pt x="48" y="589"/>
                    </a:lnTo>
                    <a:lnTo>
                      <a:pt x="41" y="587"/>
                    </a:lnTo>
                    <a:lnTo>
                      <a:pt x="35" y="582"/>
                    </a:lnTo>
                    <a:lnTo>
                      <a:pt x="29" y="577"/>
                    </a:lnTo>
                    <a:lnTo>
                      <a:pt x="23" y="572"/>
                    </a:lnTo>
                    <a:lnTo>
                      <a:pt x="18" y="565"/>
                    </a:lnTo>
                    <a:lnTo>
                      <a:pt x="14" y="558"/>
                    </a:lnTo>
                    <a:lnTo>
                      <a:pt x="10" y="548"/>
                    </a:lnTo>
                    <a:lnTo>
                      <a:pt x="7" y="540"/>
                    </a:lnTo>
                    <a:lnTo>
                      <a:pt x="3" y="530"/>
                    </a:lnTo>
                    <a:lnTo>
                      <a:pt x="1" y="519"/>
                    </a:lnTo>
                    <a:lnTo>
                      <a:pt x="0" y="507"/>
                    </a:lnTo>
                    <a:lnTo>
                      <a:pt x="0" y="494"/>
                    </a:lnTo>
                    <a:lnTo>
                      <a:pt x="0" y="480"/>
                    </a:lnTo>
                    <a:lnTo>
                      <a:pt x="0" y="466"/>
                    </a:lnTo>
                    <a:lnTo>
                      <a:pt x="2" y="451"/>
                    </a:lnTo>
                    <a:lnTo>
                      <a:pt x="4" y="435"/>
                    </a:lnTo>
                    <a:lnTo>
                      <a:pt x="9" y="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Freeform 195"/>
              <p:cNvSpPr/>
              <p:nvPr/>
            </p:nvSpPr>
            <p:spPr>
              <a:xfrm>
                <a:off x="5842440" y="5905440"/>
                <a:ext cx="65880" cy="280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406" h="160">
                    <a:moveTo>
                      <a:pt x="372" y="127"/>
                    </a:moveTo>
                    <a:lnTo>
                      <a:pt x="364" y="132"/>
                    </a:lnTo>
                    <a:lnTo>
                      <a:pt x="353" y="137"/>
                    </a:lnTo>
                    <a:lnTo>
                      <a:pt x="340" y="142"/>
                    </a:lnTo>
                    <a:lnTo>
                      <a:pt x="326" y="146"/>
                    </a:lnTo>
                    <a:lnTo>
                      <a:pt x="311" y="150"/>
                    </a:lnTo>
                    <a:lnTo>
                      <a:pt x="295" y="153"/>
                    </a:lnTo>
                    <a:lnTo>
                      <a:pt x="278" y="156"/>
                    </a:lnTo>
                    <a:lnTo>
                      <a:pt x="262" y="158"/>
                    </a:lnTo>
                    <a:lnTo>
                      <a:pt x="246" y="160"/>
                    </a:lnTo>
                    <a:lnTo>
                      <a:pt x="230" y="160"/>
                    </a:lnTo>
                    <a:lnTo>
                      <a:pt x="215" y="160"/>
                    </a:lnTo>
                    <a:lnTo>
                      <a:pt x="202" y="158"/>
                    </a:lnTo>
                    <a:lnTo>
                      <a:pt x="191" y="156"/>
                    </a:lnTo>
                    <a:lnTo>
                      <a:pt x="181" y="154"/>
                    </a:lnTo>
                    <a:lnTo>
                      <a:pt x="178" y="151"/>
                    </a:lnTo>
                    <a:lnTo>
                      <a:pt x="174" y="149"/>
                    </a:lnTo>
                    <a:lnTo>
                      <a:pt x="172" y="147"/>
                    </a:lnTo>
                    <a:lnTo>
                      <a:pt x="171" y="144"/>
                    </a:lnTo>
                    <a:lnTo>
                      <a:pt x="167" y="137"/>
                    </a:lnTo>
                    <a:lnTo>
                      <a:pt x="163" y="132"/>
                    </a:lnTo>
                    <a:lnTo>
                      <a:pt x="158" y="126"/>
                    </a:lnTo>
                    <a:lnTo>
                      <a:pt x="153" y="121"/>
                    </a:lnTo>
                    <a:lnTo>
                      <a:pt x="142" y="112"/>
                    </a:lnTo>
                    <a:lnTo>
                      <a:pt x="130" y="104"/>
                    </a:lnTo>
                    <a:lnTo>
                      <a:pt x="116" y="98"/>
                    </a:lnTo>
                    <a:lnTo>
                      <a:pt x="102" y="92"/>
                    </a:lnTo>
                    <a:lnTo>
                      <a:pt x="87" y="88"/>
                    </a:lnTo>
                    <a:lnTo>
                      <a:pt x="73" y="85"/>
                    </a:lnTo>
                    <a:lnTo>
                      <a:pt x="46" y="81"/>
                    </a:lnTo>
                    <a:lnTo>
                      <a:pt x="22" y="80"/>
                    </a:lnTo>
                    <a:lnTo>
                      <a:pt x="6" y="80"/>
                    </a:lnTo>
                    <a:lnTo>
                      <a:pt x="0" y="80"/>
                    </a:lnTo>
                    <a:lnTo>
                      <a:pt x="79" y="5"/>
                    </a:lnTo>
                    <a:lnTo>
                      <a:pt x="93" y="3"/>
                    </a:lnTo>
                    <a:lnTo>
                      <a:pt x="107" y="2"/>
                    </a:lnTo>
                    <a:lnTo>
                      <a:pt x="121" y="2"/>
                    </a:lnTo>
                    <a:lnTo>
                      <a:pt x="133" y="2"/>
                    </a:lnTo>
                    <a:lnTo>
                      <a:pt x="159" y="5"/>
                    </a:lnTo>
                    <a:lnTo>
                      <a:pt x="185" y="10"/>
                    </a:lnTo>
                    <a:lnTo>
                      <a:pt x="209" y="14"/>
                    </a:lnTo>
                    <a:lnTo>
                      <a:pt x="233" y="15"/>
                    </a:lnTo>
                    <a:lnTo>
                      <a:pt x="244" y="15"/>
                    </a:lnTo>
                    <a:lnTo>
                      <a:pt x="256" y="14"/>
                    </a:lnTo>
                    <a:lnTo>
                      <a:pt x="268" y="10"/>
                    </a:lnTo>
                    <a:lnTo>
                      <a:pt x="279" y="5"/>
                    </a:lnTo>
                    <a:lnTo>
                      <a:pt x="285" y="3"/>
                    </a:lnTo>
                    <a:lnTo>
                      <a:pt x="292" y="1"/>
                    </a:lnTo>
                    <a:lnTo>
                      <a:pt x="298" y="0"/>
                    </a:lnTo>
                    <a:lnTo>
                      <a:pt x="305" y="0"/>
                    </a:lnTo>
                    <a:lnTo>
                      <a:pt x="319" y="0"/>
                    </a:lnTo>
                    <a:lnTo>
                      <a:pt x="333" y="3"/>
                    </a:lnTo>
                    <a:lnTo>
                      <a:pt x="347" y="8"/>
                    </a:lnTo>
                    <a:lnTo>
                      <a:pt x="360" y="14"/>
                    </a:lnTo>
                    <a:lnTo>
                      <a:pt x="373" y="22"/>
                    </a:lnTo>
                    <a:lnTo>
                      <a:pt x="383" y="31"/>
                    </a:lnTo>
                    <a:lnTo>
                      <a:pt x="393" y="42"/>
                    </a:lnTo>
                    <a:lnTo>
                      <a:pt x="400" y="53"/>
                    </a:lnTo>
                    <a:lnTo>
                      <a:pt x="402" y="59"/>
                    </a:lnTo>
                    <a:lnTo>
                      <a:pt x="403" y="65"/>
                    </a:lnTo>
                    <a:lnTo>
                      <a:pt x="404" y="72"/>
                    </a:lnTo>
                    <a:lnTo>
                      <a:pt x="406" y="78"/>
                    </a:lnTo>
                    <a:lnTo>
                      <a:pt x="404" y="84"/>
                    </a:lnTo>
                    <a:lnTo>
                      <a:pt x="403" y="91"/>
                    </a:lnTo>
                    <a:lnTo>
                      <a:pt x="401" y="97"/>
                    </a:lnTo>
                    <a:lnTo>
                      <a:pt x="397" y="102"/>
                    </a:lnTo>
                    <a:lnTo>
                      <a:pt x="393" y="109"/>
                    </a:lnTo>
                    <a:lnTo>
                      <a:pt x="387" y="115"/>
                    </a:lnTo>
                    <a:lnTo>
                      <a:pt x="380" y="121"/>
                    </a:lnTo>
                    <a:lnTo>
                      <a:pt x="372" y="1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Freeform 196"/>
              <p:cNvSpPr/>
              <p:nvPr/>
            </p:nvSpPr>
            <p:spPr>
              <a:xfrm>
                <a:off x="5842440" y="5905440"/>
                <a:ext cx="65880" cy="280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406" h="160">
                    <a:moveTo>
                      <a:pt x="372" y="127"/>
                    </a:moveTo>
                    <a:lnTo>
                      <a:pt x="364" y="132"/>
                    </a:lnTo>
                    <a:lnTo>
                      <a:pt x="353" y="137"/>
                    </a:lnTo>
                    <a:lnTo>
                      <a:pt x="340" y="142"/>
                    </a:lnTo>
                    <a:lnTo>
                      <a:pt x="326" y="146"/>
                    </a:lnTo>
                    <a:lnTo>
                      <a:pt x="311" y="150"/>
                    </a:lnTo>
                    <a:lnTo>
                      <a:pt x="295" y="153"/>
                    </a:lnTo>
                    <a:lnTo>
                      <a:pt x="278" y="156"/>
                    </a:lnTo>
                    <a:lnTo>
                      <a:pt x="262" y="158"/>
                    </a:lnTo>
                    <a:lnTo>
                      <a:pt x="246" y="160"/>
                    </a:lnTo>
                    <a:lnTo>
                      <a:pt x="230" y="160"/>
                    </a:lnTo>
                    <a:lnTo>
                      <a:pt x="215" y="160"/>
                    </a:lnTo>
                    <a:lnTo>
                      <a:pt x="202" y="158"/>
                    </a:lnTo>
                    <a:lnTo>
                      <a:pt x="191" y="156"/>
                    </a:lnTo>
                    <a:lnTo>
                      <a:pt x="181" y="154"/>
                    </a:lnTo>
                    <a:lnTo>
                      <a:pt x="178" y="151"/>
                    </a:lnTo>
                    <a:lnTo>
                      <a:pt x="174" y="149"/>
                    </a:lnTo>
                    <a:lnTo>
                      <a:pt x="172" y="147"/>
                    </a:lnTo>
                    <a:lnTo>
                      <a:pt x="171" y="144"/>
                    </a:lnTo>
                    <a:lnTo>
                      <a:pt x="167" y="137"/>
                    </a:lnTo>
                    <a:lnTo>
                      <a:pt x="163" y="132"/>
                    </a:lnTo>
                    <a:lnTo>
                      <a:pt x="158" y="126"/>
                    </a:lnTo>
                    <a:lnTo>
                      <a:pt x="153" y="121"/>
                    </a:lnTo>
                    <a:lnTo>
                      <a:pt x="142" y="112"/>
                    </a:lnTo>
                    <a:lnTo>
                      <a:pt x="130" y="104"/>
                    </a:lnTo>
                    <a:lnTo>
                      <a:pt x="116" y="98"/>
                    </a:lnTo>
                    <a:lnTo>
                      <a:pt x="102" y="92"/>
                    </a:lnTo>
                    <a:lnTo>
                      <a:pt x="87" y="88"/>
                    </a:lnTo>
                    <a:lnTo>
                      <a:pt x="73" y="85"/>
                    </a:lnTo>
                    <a:lnTo>
                      <a:pt x="46" y="81"/>
                    </a:lnTo>
                    <a:lnTo>
                      <a:pt x="22" y="80"/>
                    </a:lnTo>
                    <a:lnTo>
                      <a:pt x="6" y="80"/>
                    </a:lnTo>
                    <a:lnTo>
                      <a:pt x="0" y="80"/>
                    </a:lnTo>
                    <a:lnTo>
                      <a:pt x="79" y="5"/>
                    </a:lnTo>
                    <a:lnTo>
                      <a:pt x="93" y="3"/>
                    </a:lnTo>
                    <a:lnTo>
                      <a:pt x="107" y="2"/>
                    </a:lnTo>
                    <a:lnTo>
                      <a:pt x="121" y="2"/>
                    </a:lnTo>
                    <a:lnTo>
                      <a:pt x="133" y="2"/>
                    </a:lnTo>
                    <a:lnTo>
                      <a:pt x="159" y="5"/>
                    </a:lnTo>
                    <a:lnTo>
                      <a:pt x="185" y="10"/>
                    </a:lnTo>
                    <a:lnTo>
                      <a:pt x="209" y="14"/>
                    </a:lnTo>
                    <a:lnTo>
                      <a:pt x="233" y="15"/>
                    </a:lnTo>
                    <a:lnTo>
                      <a:pt x="244" y="15"/>
                    </a:lnTo>
                    <a:lnTo>
                      <a:pt x="256" y="14"/>
                    </a:lnTo>
                    <a:lnTo>
                      <a:pt x="268" y="10"/>
                    </a:lnTo>
                    <a:lnTo>
                      <a:pt x="279" y="5"/>
                    </a:lnTo>
                    <a:lnTo>
                      <a:pt x="285" y="3"/>
                    </a:lnTo>
                    <a:lnTo>
                      <a:pt x="292" y="1"/>
                    </a:lnTo>
                    <a:lnTo>
                      <a:pt x="298" y="0"/>
                    </a:lnTo>
                    <a:lnTo>
                      <a:pt x="305" y="0"/>
                    </a:lnTo>
                    <a:lnTo>
                      <a:pt x="319" y="0"/>
                    </a:lnTo>
                    <a:lnTo>
                      <a:pt x="333" y="3"/>
                    </a:lnTo>
                    <a:lnTo>
                      <a:pt x="347" y="8"/>
                    </a:lnTo>
                    <a:lnTo>
                      <a:pt x="360" y="14"/>
                    </a:lnTo>
                    <a:lnTo>
                      <a:pt x="373" y="22"/>
                    </a:lnTo>
                    <a:lnTo>
                      <a:pt x="383" y="31"/>
                    </a:lnTo>
                    <a:lnTo>
                      <a:pt x="393" y="42"/>
                    </a:lnTo>
                    <a:lnTo>
                      <a:pt x="400" y="53"/>
                    </a:lnTo>
                    <a:lnTo>
                      <a:pt x="402" y="59"/>
                    </a:lnTo>
                    <a:lnTo>
                      <a:pt x="403" y="65"/>
                    </a:lnTo>
                    <a:lnTo>
                      <a:pt x="404" y="72"/>
                    </a:lnTo>
                    <a:lnTo>
                      <a:pt x="406" y="78"/>
                    </a:lnTo>
                    <a:lnTo>
                      <a:pt x="404" y="84"/>
                    </a:lnTo>
                    <a:lnTo>
                      <a:pt x="403" y="91"/>
                    </a:lnTo>
                    <a:lnTo>
                      <a:pt x="401" y="97"/>
                    </a:lnTo>
                    <a:lnTo>
                      <a:pt x="397" y="102"/>
                    </a:lnTo>
                    <a:lnTo>
                      <a:pt x="393" y="109"/>
                    </a:lnTo>
                    <a:lnTo>
                      <a:pt x="387" y="115"/>
                    </a:lnTo>
                    <a:lnTo>
                      <a:pt x="380" y="121"/>
                    </a:lnTo>
                    <a:lnTo>
                      <a:pt x="372" y="1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97"/>
              <p:cNvSpPr/>
              <p:nvPr/>
            </p:nvSpPr>
            <p:spPr>
              <a:xfrm>
                <a:off x="5810400" y="5924520"/>
                <a:ext cx="37800" cy="133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35" h="84">
                    <a:moveTo>
                      <a:pt x="170" y="6"/>
                    </a:moveTo>
                    <a:lnTo>
                      <a:pt x="124" y="17"/>
                    </a:lnTo>
                    <a:lnTo>
                      <a:pt x="81" y="30"/>
                    </a:lnTo>
                    <a:lnTo>
                      <a:pt x="62" y="37"/>
                    </a:lnTo>
                    <a:lnTo>
                      <a:pt x="45" y="43"/>
                    </a:lnTo>
                    <a:lnTo>
                      <a:pt x="30" y="50"/>
                    </a:lnTo>
                    <a:lnTo>
                      <a:pt x="18" y="56"/>
                    </a:lnTo>
                    <a:lnTo>
                      <a:pt x="9" y="62"/>
                    </a:lnTo>
                    <a:lnTo>
                      <a:pt x="3" y="66"/>
                    </a:lnTo>
                    <a:lnTo>
                      <a:pt x="1" y="70"/>
                    </a:lnTo>
                    <a:lnTo>
                      <a:pt x="0" y="72"/>
                    </a:lnTo>
                    <a:lnTo>
                      <a:pt x="1" y="73"/>
                    </a:lnTo>
                    <a:lnTo>
                      <a:pt x="3" y="76"/>
                    </a:lnTo>
                    <a:lnTo>
                      <a:pt x="10" y="79"/>
                    </a:lnTo>
                    <a:lnTo>
                      <a:pt x="23" y="82"/>
                    </a:lnTo>
                    <a:lnTo>
                      <a:pt x="40" y="84"/>
                    </a:lnTo>
                    <a:lnTo>
                      <a:pt x="63" y="84"/>
                    </a:lnTo>
                    <a:lnTo>
                      <a:pt x="89" y="83"/>
                    </a:lnTo>
                    <a:lnTo>
                      <a:pt x="114" y="79"/>
                    </a:lnTo>
                    <a:lnTo>
                      <a:pt x="137" y="75"/>
                    </a:lnTo>
                    <a:lnTo>
                      <a:pt x="158" y="68"/>
                    </a:lnTo>
                    <a:lnTo>
                      <a:pt x="178" y="59"/>
                    </a:lnTo>
                    <a:lnTo>
                      <a:pt x="195" y="51"/>
                    </a:lnTo>
                    <a:lnTo>
                      <a:pt x="209" y="42"/>
                    </a:lnTo>
                    <a:lnTo>
                      <a:pt x="221" y="34"/>
                    </a:lnTo>
                    <a:lnTo>
                      <a:pt x="229" y="24"/>
                    </a:lnTo>
                    <a:lnTo>
                      <a:pt x="235" y="17"/>
                    </a:lnTo>
                    <a:lnTo>
                      <a:pt x="235" y="14"/>
                    </a:lnTo>
                    <a:lnTo>
                      <a:pt x="235" y="10"/>
                    </a:lnTo>
                    <a:lnTo>
                      <a:pt x="234" y="7"/>
                    </a:lnTo>
                    <a:lnTo>
                      <a:pt x="233" y="5"/>
                    </a:lnTo>
                    <a:lnTo>
                      <a:pt x="229" y="3"/>
                    </a:lnTo>
                    <a:lnTo>
                      <a:pt x="225" y="1"/>
                    </a:lnTo>
                    <a:lnTo>
                      <a:pt x="219" y="1"/>
                    </a:lnTo>
                    <a:lnTo>
                      <a:pt x="212" y="0"/>
                    </a:lnTo>
                    <a:lnTo>
                      <a:pt x="193" y="2"/>
                    </a:lnTo>
                    <a:lnTo>
                      <a:pt x="17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98"/>
              <p:cNvSpPr/>
              <p:nvPr/>
            </p:nvSpPr>
            <p:spPr>
              <a:xfrm>
                <a:off x="5810400" y="5924520"/>
                <a:ext cx="37800" cy="133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235" h="84">
                    <a:moveTo>
                      <a:pt x="170" y="6"/>
                    </a:moveTo>
                    <a:lnTo>
                      <a:pt x="124" y="17"/>
                    </a:lnTo>
                    <a:lnTo>
                      <a:pt x="81" y="30"/>
                    </a:lnTo>
                    <a:lnTo>
                      <a:pt x="62" y="37"/>
                    </a:lnTo>
                    <a:lnTo>
                      <a:pt x="45" y="43"/>
                    </a:lnTo>
                    <a:lnTo>
                      <a:pt x="30" y="50"/>
                    </a:lnTo>
                    <a:lnTo>
                      <a:pt x="18" y="56"/>
                    </a:lnTo>
                    <a:lnTo>
                      <a:pt x="9" y="62"/>
                    </a:lnTo>
                    <a:lnTo>
                      <a:pt x="3" y="66"/>
                    </a:lnTo>
                    <a:lnTo>
                      <a:pt x="1" y="70"/>
                    </a:lnTo>
                    <a:lnTo>
                      <a:pt x="0" y="72"/>
                    </a:lnTo>
                    <a:lnTo>
                      <a:pt x="1" y="73"/>
                    </a:lnTo>
                    <a:lnTo>
                      <a:pt x="3" y="76"/>
                    </a:lnTo>
                    <a:lnTo>
                      <a:pt x="10" y="79"/>
                    </a:lnTo>
                    <a:lnTo>
                      <a:pt x="23" y="82"/>
                    </a:lnTo>
                    <a:lnTo>
                      <a:pt x="40" y="84"/>
                    </a:lnTo>
                    <a:lnTo>
                      <a:pt x="63" y="84"/>
                    </a:lnTo>
                    <a:lnTo>
                      <a:pt x="89" y="83"/>
                    </a:lnTo>
                    <a:lnTo>
                      <a:pt x="114" y="79"/>
                    </a:lnTo>
                    <a:lnTo>
                      <a:pt x="137" y="75"/>
                    </a:lnTo>
                    <a:lnTo>
                      <a:pt x="158" y="68"/>
                    </a:lnTo>
                    <a:lnTo>
                      <a:pt x="178" y="59"/>
                    </a:lnTo>
                    <a:lnTo>
                      <a:pt x="195" y="51"/>
                    </a:lnTo>
                    <a:lnTo>
                      <a:pt x="209" y="42"/>
                    </a:lnTo>
                    <a:lnTo>
                      <a:pt x="221" y="34"/>
                    </a:lnTo>
                    <a:lnTo>
                      <a:pt x="229" y="24"/>
                    </a:lnTo>
                    <a:lnTo>
                      <a:pt x="235" y="17"/>
                    </a:lnTo>
                    <a:lnTo>
                      <a:pt x="235" y="14"/>
                    </a:lnTo>
                    <a:lnTo>
                      <a:pt x="235" y="10"/>
                    </a:lnTo>
                    <a:lnTo>
                      <a:pt x="234" y="7"/>
                    </a:lnTo>
                    <a:lnTo>
                      <a:pt x="233" y="5"/>
                    </a:lnTo>
                    <a:lnTo>
                      <a:pt x="229" y="3"/>
                    </a:lnTo>
                    <a:lnTo>
                      <a:pt x="225" y="1"/>
                    </a:lnTo>
                    <a:lnTo>
                      <a:pt x="219" y="1"/>
                    </a:lnTo>
                    <a:lnTo>
                      <a:pt x="212" y="0"/>
                    </a:lnTo>
                    <a:lnTo>
                      <a:pt x="193" y="2"/>
                    </a:lnTo>
                    <a:lnTo>
                      <a:pt x="17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Freeform 199"/>
              <p:cNvSpPr/>
              <p:nvPr/>
            </p:nvSpPr>
            <p:spPr>
              <a:xfrm>
                <a:off x="5807160" y="5892480"/>
                <a:ext cx="44280" cy="298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84" h="167">
                    <a:moveTo>
                      <a:pt x="23" y="152"/>
                    </a:moveTo>
                    <a:lnTo>
                      <a:pt x="32" y="158"/>
                    </a:lnTo>
                    <a:lnTo>
                      <a:pt x="41" y="162"/>
                    </a:lnTo>
                    <a:lnTo>
                      <a:pt x="49" y="165"/>
                    </a:lnTo>
                    <a:lnTo>
                      <a:pt x="57" y="166"/>
                    </a:lnTo>
                    <a:lnTo>
                      <a:pt x="65" y="167"/>
                    </a:lnTo>
                    <a:lnTo>
                      <a:pt x="74" y="166"/>
                    </a:lnTo>
                    <a:lnTo>
                      <a:pt x="82" y="165"/>
                    </a:lnTo>
                    <a:lnTo>
                      <a:pt x="90" y="164"/>
                    </a:lnTo>
                    <a:lnTo>
                      <a:pt x="105" y="157"/>
                    </a:lnTo>
                    <a:lnTo>
                      <a:pt x="119" y="149"/>
                    </a:lnTo>
                    <a:lnTo>
                      <a:pt x="133" y="139"/>
                    </a:lnTo>
                    <a:lnTo>
                      <a:pt x="146" y="129"/>
                    </a:lnTo>
                    <a:lnTo>
                      <a:pt x="168" y="108"/>
                    </a:lnTo>
                    <a:lnTo>
                      <a:pt x="187" y="91"/>
                    </a:lnTo>
                    <a:lnTo>
                      <a:pt x="195" y="86"/>
                    </a:lnTo>
                    <a:lnTo>
                      <a:pt x="201" y="84"/>
                    </a:lnTo>
                    <a:lnTo>
                      <a:pt x="204" y="84"/>
                    </a:lnTo>
                    <a:lnTo>
                      <a:pt x="207" y="86"/>
                    </a:lnTo>
                    <a:lnTo>
                      <a:pt x="208" y="88"/>
                    </a:lnTo>
                    <a:lnTo>
                      <a:pt x="210" y="91"/>
                    </a:lnTo>
                    <a:lnTo>
                      <a:pt x="211" y="96"/>
                    </a:lnTo>
                    <a:lnTo>
                      <a:pt x="214" y="98"/>
                    </a:lnTo>
                    <a:lnTo>
                      <a:pt x="217" y="101"/>
                    </a:lnTo>
                    <a:lnTo>
                      <a:pt x="220" y="101"/>
                    </a:lnTo>
                    <a:lnTo>
                      <a:pt x="223" y="102"/>
                    </a:lnTo>
                    <a:lnTo>
                      <a:pt x="228" y="101"/>
                    </a:lnTo>
                    <a:lnTo>
                      <a:pt x="231" y="100"/>
                    </a:lnTo>
                    <a:lnTo>
                      <a:pt x="236" y="97"/>
                    </a:lnTo>
                    <a:lnTo>
                      <a:pt x="245" y="91"/>
                    </a:lnTo>
                    <a:lnTo>
                      <a:pt x="255" y="83"/>
                    </a:lnTo>
                    <a:lnTo>
                      <a:pt x="263" y="74"/>
                    </a:lnTo>
                    <a:lnTo>
                      <a:pt x="271" y="63"/>
                    </a:lnTo>
                    <a:lnTo>
                      <a:pt x="277" y="52"/>
                    </a:lnTo>
                    <a:lnTo>
                      <a:pt x="281" y="41"/>
                    </a:lnTo>
                    <a:lnTo>
                      <a:pt x="283" y="35"/>
                    </a:lnTo>
                    <a:lnTo>
                      <a:pt x="284" y="31"/>
                    </a:lnTo>
                    <a:lnTo>
                      <a:pt x="284" y="26"/>
                    </a:lnTo>
                    <a:lnTo>
                      <a:pt x="283" y="20"/>
                    </a:lnTo>
                    <a:lnTo>
                      <a:pt x="280" y="17"/>
                    </a:lnTo>
                    <a:lnTo>
                      <a:pt x="278" y="12"/>
                    </a:lnTo>
                    <a:lnTo>
                      <a:pt x="274" y="9"/>
                    </a:lnTo>
                    <a:lnTo>
                      <a:pt x="270" y="6"/>
                    </a:lnTo>
                    <a:lnTo>
                      <a:pt x="264" y="4"/>
                    </a:lnTo>
                    <a:lnTo>
                      <a:pt x="257" y="2"/>
                    </a:lnTo>
                    <a:lnTo>
                      <a:pt x="249" y="0"/>
                    </a:lnTo>
                    <a:lnTo>
                      <a:pt x="239" y="0"/>
                    </a:lnTo>
                    <a:lnTo>
                      <a:pt x="218" y="0"/>
                    </a:lnTo>
                    <a:lnTo>
                      <a:pt x="195" y="4"/>
                    </a:lnTo>
                    <a:lnTo>
                      <a:pt x="172" y="9"/>
                    </a:lnTo>
                    <a:lnTo>
                      <a:pt x="147" y="16"/>
                    </a:lnTo>
                    <a:lnTo>
                      <a:pt x="123" y="23"/>
                    </a:lnTo>
                    <a:lnTo>
                      <a:pt x="99" y="32"/>
                    </a:lnTo>
                    <a:lnTo>
                      <a:pt x="77" y="42"/>
                    </a:lnTo>
                    <a:lnTo>
                      <a:pt x="56" y="54"/>
                    </a:lnTo>
                    <a:lnTo>
                      <a:pt x="39" y="66"/>
                    </a:lnTo>
                    <a:lnTo>
                      <a:pt x="22" y="77"/>
                    </a:lnTo>
                    <a:lnTo>
                      <a:pt x="16" y="84"/>
                    </a:lnTo>
                    <a:lnTo>
                      <a:pt x="10" y="90"/>
                    </a:lnTo>
                    <a:lnTo>
                      <a:pt x="6" y="97"/>
                    </a:lnTo>
                    <a:lnTo>
                      <a:pt x="2" y="103"/>
                    </a:lnTo>
                    <a:lnTo>
                      <a:pt x="1" y="110"/>
                    </a:lnTo>
                    <a:lnTo>
                      <a:pt x="0" y="116"/>
                    </a:lnTo>
                    <a:lnTo>
                      <a:pt x="0" y="122"/>
                    </a:lnTo>
                    <a:lnTo>
                      <a:pt x="1" y="129"/>
                    </a:lnTo>
                    <a:lnTo>
                      <a:pt x="5" y="135"/>
                    </a:lnTo>
                    <a:lnTo>
                      <a:pt x="9" y="141"/>
                    </a:lnTo>
                    <a:lnTo>
                      <a:pt x="15" y="146"/>
                    </a:lnTo>
                    <a:lnTo>
                      <a:pt x="23" y="1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200"/>
              <p:cNvSpPr/>
              <p:nvPr/>
            </p:nvSpPr>
            <p:spPr>
              <a:xfrm>
                <a:off x="5807160" y="5892480"/>
                <a:ext cx="44280" cy="298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84" h="167">
                    <a:moveTo>
                      <a:pt x="23" y="152"/>
                    </a:moveTo>
                    <a:lnTo>
                      <a:pt x="32" y="158"/>
                    </a:lnTo>
                    <a:lnTo>
                      <a:pt x="41" y="162"/>
                    </a:lnTo>
                    <a:lnTo>
                      <a:pt x="49" y="165"/>
                    </a:lnTo>
                    <a:lnTo>
                      <a:pt x="57" y="166"/>
                    </a:lnTo>
                    <a:lnTo>
                      <a:pt x="65" y="167"/>
                    </a:lnTo>
                    <a:lnTo>
                      <a:pt x="74" y="166"/>
                    </a:lnTo>
                    <a:lnTo>
                      <a:pt x="82" y="165"/>
                    </a:lnTo>
                    <a:lnTo>
                      <a:pt x="90" y="164"/>
                    </a:lnTo>
                    <a:lnTo>
                      <a:pt x="105" y="157"/>
                    </a:lnTo>
                    <a:lnTo>
                      <a:pt x="119" y="149"/>
                    </a:lnTo>
                    <a:lnTo>
                      <a:pt x="133" y="139"/>
                    </a:lnTo>
                    <a:lnTo>
                      <a:pt x="146" y="129"/>
                    </a:lnTo>
                    <a:lnTo>
                      <a:pt x="168" y="108"/>
                    </a:lnTo>
                    <a:lnTo>
                      <a:pt x="187" y="91"/>
                    </a:lnTo>
                    <a:lnTo>
                      <a:pt x="195" y="86"/>
                    </a:lnTo>
                    <a:lnTo>
                      <a:pt x="201" y="84"/>
                    </a:lnTo>
                    <a:lnTo>
                      <a:pt x="204" y="84"/>
                    </a:lnTo>
                    <a:lnTo>
                      <a:pt x="207" y="86"/>
                    </a:lnTo>
                    <a:lnTo>
                      <a:pt x="208" y="88"/>
                    </a:lnTo>
                    <a:lnTo>
                      <a:pt x="210" y="91"/>
                    </a:lnTo>
                    <a:lnTo>
                      <a:pt x="211" y="96"/>
                    </a:lnTo>
                    <a:lnTo>
                      <a:pt x="214" y="98"/>
                    </a:lnTo>
                    <a:lnTo>
                      <a:pt x="217" y="101"/>
                    </a:lnTo>
                    <a:lnTo>
                      <a:pt x="220" y="101"/>
                    </a:lnTo>
                    <a:lnTo>
                      <a:pt x="223" y="102"/>
                    </a:lnTo>
                    <a:lnTo>
                      <a:pt x="228" y="101"/>
                    </a:lnTo>
                    <a:lnTo>
                      <a:pt x="231" y="100"/>
                    </a:lnTo>
                    <a:lnTo>
                      <a:pt x="236" y="97"/>
                    </a:lnTo>
                    <a:lnTo>
                      <a:pt x="245" y="91"/>
                    </a:lnTo>
                    <a:lnTo>
                      <a:pt x="255" y="83"/>
                    </a:lnTo>
                    <a:lnTo>
                      <a:pt x="263" y="74"/>
                    </a:lnTo>
                    <a:lnTo>
                      <a:pt x="271" y="63"/>
                    </a:lnTo>
                    <a:lnTo>
                      <a:pt x="277" y="52"/>
                    </a:lnTo>
                    <a:lnTo>
                      <a:pt x="281" y="41"/>
                    </a:lnTo>
                    <a:lnTo>
                      <a:pt x="283" y="35"/>
                    </a:lnTo>
                    <a:lnTo>
                      <a:pt x="284" y="31"/>
                    </a:lnTo>
                    <a:lnTo>
                      <a:pt x="284" y="26"/>
                    </a:lnTo>
                    <a:lnTo>
                      <a:pt x="283" y="20"/>
                    </a:lnTo>
                    <a:lnTo>
                      <a:pt x="280" y="17"/>
                    </a:lnTo>
                    <a:lnTo>
                      <a:pt x="278" y="12"/>
                    </a:lnTo>
                    <a:lnTo>
                      <a:pt x="274" y="9"/>
                    </a:lnTo>
                    <a:lnTo>
                      <a:pt x="270" y="6"/>
                    </a:lnTo>
                    <a:lnTo>
                      <a:pt x="264" y="4"/>
                    </a:lnTo>
                    <a:lnTo>
                      <a:pt x="257" y="2"/>
                    </a:lnTo>
                    <a:lnTo>
                      <a:pt x="249" y="0"/>
                    </a:lnTo>
                    <a:lnTo>
                      <a:pt x="239" y="0"/>
                    </a:lnTo>
                    <a:lnTo>
                      <a:pt x="218" y="0"/>
                    </a:lnTo>
                    <a:lnTo>
                      <a:pt x="195" y="4"/>
                    </a:lnTo>
                    <a:lnTo>
                      <a:pt x="172" y="9"/>
                    </a:lnTo>
                    <a:lnTo>
                      <a:pt x="147" y="16"/>
                    </a:lnTo>
                    <a:lnTo>
                      <a:pt x="123" y="23"/>
                    </a:lnTo>
                    <a:lnTo>
                      <a:pt x="99" y="32"/>
                    </a:lnTo>
                    <a:lnTo>
                      <a:pt x="77" y="42"/>
                    </a:lnTo>
                    <a:lnTo>
                      <a:pt x="56" y="54"/>
                    </a:lnTo>
                    <a:lnTo>
                      <a:pt x="39" y="66"/>
                    </a:lnTo>
                    <a:lnTo>
                      <a:pt x="22" y="77"/>
                    </a:lnTo>
                    <a:lnTo>
                      <a:pt x="16" y="84"/>
                    </a:lnTo>
                    <a:lnTo>
                      <a:pt x="10" y="90"/>
                    </a:lnTo>
                    <a:lnTo>
                      <a:pt x="6" y="97"/>
                    </a:lnTo>
                    <a:lnTo>
                      <a:pt x="2" y="103"/>
                    </a:lnTo>
                    <a:lnTo>
                      <a:pt x="1" y="110"/>
                    </a:lnTo>
                    <a:lnTo>
                      <a:pt x="0" y="116"/>
                    </a:lnTo>
                    <a:lnTo>
                      <a:pt x="0" y="122"/>
                    </a:lnTo>
                    <a:lnTo>
                      <a:pt x="1" y="129"/>
                    </a:lnTo>
                    <a:lnTo>
                      <a:pt x="5" y="135"/>
                    </a:lnTo>
                    <a:lnTo>
                      <a:pt x="9" y="141"/>
                    </a:lnTo>
                    <a:lnTo>
                      <a:pt x="15" y="146"/>
                    </a:lnTo>
                    <a:lnTo>
                      <a:pt x="23" y="1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201"/>
              <p:cNvSpPr/>
              <p:nvPr/>
            </p:nvSpPr>
            <p:spPr>
              <a:xfrm>
                <a:off x="5775120" y="5865480"/>
                <a:ext cx="41040" cy="298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57" h="173">
                    <a:moveTo>
                      <a:pt x="163" y="0"/>
                    </a:moveTo>
                    <a:lnTo>
                      <a:pt x="131" y="64"/>
                    </a:lnTo>
                    <a:lnTo>
                      <a:pt x="70" y="64"/>
                    </a:lnTo>
                    <a:lnTo>
                      <a:pt x="54" y="77"/>
                    </a:lnTo>
                    <a:lnTo>
                      <a:pt x="39" y="91"/>
                    </a:lnTo>
                    <a:lnTo>
                      <a:pt x="26" y="103"/>
                    </a:lnTo>
                    <a:lnTo>
                      <a:pt x="15" y="114"/>
                    </a:lnTo>
                    <a:lnTo>
                      <a:pt x="8" y="125"/>
                    </a:lnTo>
                    <a:lnTo>
                      <a:pt x="3" y="134"/>
                    </a:lnTo>
                    <a:lnTo>
                      <a:pt x="1" y="139"/>
                    </a:lnTo>
                    <a:lnTo>
                      <a:pt x="0" y="142"/>
                    </a:lnTo>
                    <a:lnTo>
                      <a:pt x="0" y="147"/>
                    </a:lnTo>
                    <a:lnTo>
                      <a:pt x="1" y="151"/>
                    </a:lnTo>
                    <a:lnTo>
                      <a:pt x="3" y="154"/>
                    </a:lnTo>
                    <a:lnTo>
                      <a:pt x="5" y="158"/>
                    </a:lnTo>
                    <a:lnTo>
                      <a:pt x="8" y="160"/>
                    </a:lnTo>
                    <a:lnTo>
                      <a:pt x="12" y="162"/>
                    </a:lnTo>
                    <a:lnTo>
                      <a:pt x="22" y="167"/>
                    </a:lnTo>
                    <a:lnTo>
                      <a:pt x="36" y="170"/>
                    </a:lnTo>
                    <a:lnTo>
                      <a:pt x="54" y="173"/>
                    </a:lnTo>
                    <a:lnTo>
                      <a:pt x="75" y="173"/>
                    </a:lnTo>
                    <a:lnTo>
                      <a:pt x="101" y="173"/>
                    </a:lnTo>
                    <a:lnTo>
                      <a:pt x="131" y="170"/>
                    </a:lnTo>
                    <a:lnTo>
                      <a:pt x="146" y="168"/>
                    </a:lnTo>
                    <a:lnTo>
                      <a:pt x="160" y="166"/>
                    </a:lnTo>
                    <a:lnTo>
                      <a:pt x="174" y="162"/>
                    </a:lnTo>
                    <a:lnTo>
                      <a:pt x="186" y="159"/>
                    </a:lnTo>
                    <a:lnTo>
                      <a:pt x="198" y="154"/>
                    </a:lnTo>
                    <a:lnTo>
                      <a:pt x="207" y="148"/>
                    </a:lnTo>
                    <a:lnTo>
                      <a:pt x="216" y="142"/>
                    </a:lnTo>
                    <a:lnTo>
                      <a:pt x="224" y="135"/>
                    </a:lnTo>
                    <a:lnTo>
                      <a:pt x="233" y="128"/>
                    </a:lnTo>
                    <a:lnTo>
                      <a:pt x="239" y="121"/>
                    </a:lnTo>
                    <a:lnTo>
                      <a:pt x="243" y="114"/>
                    </a:lnTo>
                    <a:lnTo>
                      <a:pt x="248" y="106"/>
                    </a:lnTo>
                    <a:lnTo>
                      <a:pt x="251" y="99"/>
                    </a:lnTo>
                    <a:lnTo>
                      <a:pt x="254" y="91"/>
                    </a:lnTo>
                    <a:lnTo>
                      <a:pt x="256" y="83"/>
                    </a:lnTo>
                    <a:lnTo>
                      <a:pt x="257" y="75"/>
                    </a:lnTo>
                    <a:lnTo>
                      <a:pt x="257" y="66"/>
                    </a:lnTo>
                    <a:lnTo>
                      <a:pt x="256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48" y="37"/>
                    </a:lnTo>
                    <a:lnTo>
                      <a:pt x="244" y="30"/>
                    </a:lnTo>
                    <a:lnTo>
                      <a:pt x="240" y="24"/>
                    </a:lnTo>
                    <a:lnTo>
                      <a:pt x="234" y="19"/>
                    </a:lnTo>
                    <a:lnTo>
                      <a:pt x="227" y="14"/>
                    </a:lnTo>
                    <a:lnTo>
                      <a:pt x="220" y="9"/>
                    </a:lnTo>
                    <a:lnTo>
                      <a:pt x="212" y="6"/>
                    </a:lnTo>
                    <a:lnTo>
                      <a:pt x="203" y="3"/>
                    </a:lnTo>
                    <a:lnTo>
                      <a:pt x="194" y="1"/>
                    </a:lnTo>
                    <a:lnTo>
                      <a:pt x="185" y="0"/>
                    </a:lnTo>
                    <a:lnTo>
                      <a:pt x="174" y="0"/>
                    </a:lnTo>
                    <a:lnTo>
                      <a:pt x="1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Freeform 202"/>
              <p:cNvSpPr/>
              <p:nvPr/>
            </p:nvSpPr>
            <p:spPr>
              <a:xfrm>
                <a:off x="5775120" y="5865480"/>
                <a:ext cx="41040" cy="298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57" h="173">
                    <a:moveTo>
                      <a:pt x="163" y="0"/>
                    </a:moveTo>
                    <a:lnTo>
                      <a:pt x="131" y="64"/>
                    </a:lnTo>
                    <a:lnTo>
                      <a:pt x="70" y="64"/>
                    </a:lnTo>
                    <a:lnTo>
                      <a:pt x="54" y="77"/>
                    </a:lnTo>
                    <a:lnTo>
                      <a:pt x="39" y="91"/>
                    </a:lnTo>
                    <a:lnTo>
                      <a:pt x="26" y="103"/>
                    </a:lnTo>
                    <a:lnTo>
                      <a:pt x="15" y="114"/>
                    </a:lnTo>
                    <a:lnTo>
                      <a:pt x="8" y="125"/>
                    </a:lnTo>
                    <a:lnTo>
                      <a:pt x="3" y="134"/>
                    </a:lnTo>
                    <a:lnTo>
                      <a:pt x="1" y="139"/>
                    </a:lnTo>
                    <a:lnTo>
                      <a:pt x="0" y="142"/>
                    </a:lnTo>
                    <a:lnTo>
                      <a:pt x="0" y="147"/>
                    </a:lnTo>
                    <a:lnTo>
                      <a:pt x="1" y="151"/>
                    </a:lnTo>
                    <a:lnTo>
                      <a:pt x="3" y="154"/>
                    </a:lnTo>
                    <a:lnTo>
                      <a:pt x="5" y="158"/>
                    </a:lnTo>
                    <a:lnTo>
                      <a:pt x="8" y="160"/>
                    </a:lnTo>
                    <a:lnTo>
                      <a:pt x="12" y="162"/>
                    </a:lnTo>
                    <a:lnTo>
                      <a:pt x="22" y="167"/>
                    </a:lnTo>
                    <a:lnTo>
                      <a:pt x="36" y="170"/>
                    </a:lnTo>
                    <a:lnTo>
                      <a:pt x="54" y="173"/>
                    </a:lnTo>
                    <a:lnTo>
                      <a:pt x="75" y="173"/>
                    </a:lnTo>
                    <a:lnTo>
                      <a:pt x="101" y="173"/>
                    </a:lnTo>
                    <a:lnTo>
                      <a:pt x="131" y="170"/>
                    </a:lnTo>
                    <a:lnTo>
                      <a:pt x="146" y="168"/>
                    </a:lnTo>
                    <a:lnTo>
                      <a:pt x="160" y="166"/>
                    </a:lnTo>
                    <a:lnTo>
                      <a:pt x="174" y="162"/>
                    </a:lnTo>
                    <a:lnTo>
                      <a:pt x="186" y="159"/>
                    </a:lnTo>
                    <a:lnTo>
                      <a:pt x="198" y="154"/>
                    </a:lnTo>
                    <a:lnTo>
                      <a:pt x="207" y="148"/>
                    </a:lnTo>
                    <a:lnTo>
                      <a:pt x="216" y="142"/>
                    </a:lnTo>
                    <a:lnTo>
                      <a:pt x="224" y="135"/>
                    </a:lnTo>
                    <a:lnTo>
                      <a:pt x="233" y="128"/>
                    </a:lnTo>
                    <a:lnTo>
                      <a:pt x="239" y="121"/>
                    </a:lnTo>
                    <a:lnTo>
                      <a:pt x="243" y="114"/>
                    </a:lnTo>
                    <a:lnTo>
                      <a:pt x="248" y="106"/>
                    </a:lnTo>
                    <a:lnTo>
                      <a:pt x="251" y="99"/>
                    </a:lnTo>
                    <a:lnTo>
                      <a:pt x="254" y="91"/>
                    </a:lnTo>
                    <a:lnTo>
                      <a:pt x="256" y="83"/>
                    </a:lnTo>
                    <a:lnTo>
                      <a:pt x="257" y="75"/>
                    </a:lnTo>
                    <a:lnTo>
                      <a:pt x="257" y="66"/>
                    </a:lnTo>
                    <a:lnTo>
                      <a:pt x="256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48" y="37"/>
                    </a:lnTo>
                    <a:lnTo>
                      <a:pt x="244" y="30"/>
                    </a:lnTo>
                    <a:lnTo>
                      <a:pt x="240" y="24"/>
                    </a:lnTo>
                    <a:lnTo>
                      <a:pt x="234" y="19"/>
                    </a:lnTo>
                    <a:lnTo>
                      <a:pt x="227" y="14"/>
                    </a:lnTo>
                    <a:lnTo>
                      <a:pt x="220" y="9"/>
                    </a:lnTo>
                    <a:lnTo>
                      <a:pt x="212" y="6"/>
                    </a:lnTo>
                    <a:lnTo>
                      <a:pt x="203" y="3"/>
                    </a:lnTo>
                    <a:lnTo>
                      <a:pt x="194" y="1"/>
                    </a:lnTo>
                    <a:lnTo>
                      <a:pt x="185" y="0"/>
                    </a:lnTo>
                    <a:lnTo>
                      <a:pt x="174" y="0"/>
                    </a:lnTo>
                    <a:lnTo>
                      <a:pt x="163" y="0"/>
                    </a:lnTo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Freeform 203"/>
              <p:cNvSpPr/>
              <p:nvPr/>
            </p:nvSpPr>
            <p:spPr>
              <a:xfrm>
                <a:off x="5697720" y="5843880"/>
                <a:ext cx="46080" cy="230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85" h="123">
                    <a:moveTo>
                      <a:pt x="106" y="28"/>
                    </a:moveTo>
                    <a:lnTo>
                      <a:pt x="86" y="36"/>
                    </a:lnTo>
                    <a:lnTo>
                      <a:pt x="68" y="44"/>
                    </a:lnTo>
                    <a:lnTo>
                      <a:pt x="52" y="53"/>
                    </a:lnTo>
                    <a:lnTo>
                      <a:pt x="38" y="62"/>
                    </a:lnTo>
                    <a:lnTo>
                      <a:pt x="25" y="71"/>
                    </a:lnTo>
                    <a:lnTo>
                      <a:pt x="16" y="79"/>
                    </a:lnTo>
                    <a:lnTo>
                      <a:pt x="7" y="87"/>
                    </a:lnTo>
                    <a:lnTo>
                      <a:pt x="3" y="94"/>
                    </a:lnTo>
                    <a:lnTo>
                      <a:pt x="2" y="99"/>
                    </a:lnTo>
                    <a:lnTo>
                      <a:pt x="0" y="101"/>
                    </a:lnTo>
                    <a:lnTo>
                      <a:pt x="0" y="105"/>
                    </a:lnTo>
                    <a:lnTo>
                      <a:pt x="2" y="108"/>
                    </a:lnTo>
                    <a:lnTo>
                      <a:pt x="3" y="111"/>
                    </a:lnTo>
                    <a:lnTo>
                      <a:pt x="5" y="113"/>
                    </a:lnTo>
                    <a:lnTo>
                      <a:pt x="7" y="115"/>
                    </a:lnTo>
                    <a:lnTo>
                      <a:pt x="12" y="118"/>
                    </a:lnTo>
                    <a:lnTo>
                      <a:pt x="21" y="120"/>
                    </a:lnTo>
                    <a:lnTo>
                      <a:pt x="35" y="121"/>
                    </a:lnTo>
                    <a:lnTo>
                      <a:pt x="53" y="121"/>
                    </a:lnTo>
                    <a:lnTo>
                      <a:pt x="74" y="119"/>
                    </a:lnTo>
                    <a:lnTo>
                      <a:pt x="96" y="118"/>
                    </a:lnTo>
                    <a:lnTo>
                      <a:pt x="116" y="115"/>
                    </a:lnTo>
                    <a:lnTo>
                      <a:pt x="135" y="115"/>
                    </a:lnTo>
                    <a:lnTo>
                      <a:pt x="151" y="115"/>
                    </a:lnTo>
                    <a:lnTo>
                      <a:pt x="179" y="116"/>
                    </a:lnTo>
                    <a:lnTo>
                      <a:pt x="203" y="119"/>
                    </a:lnTo>
                    <a:lnTo>
                      <a:pt x="221" y="122"/>
                    </a:lnTo>
                    <a:lnTo>
                      <a:pt x="236" y="123"/>
                    </a:lnTo>
                    <a:lnTo>
                      <a:pt x="243" y="123"/>
                    </a:lnTo>
                    <a:lnTo>
                      <a:pt x="249" y="122"/>
                    </a:lnTo>
                    <a:lnTo>
                      <a:pt x="255" y="121"/>
                    </a:lnTo>
                    <a:lnTo>
                      <a:pt x="262" y="119"/>
                    </a:lnTo>
                    <a:lnTo>
                      <a:pt x="267" y="115"/>
                    </a:lnTo>
                    <a:lnTo>
                      <a:pt x="273" y="107"/>
                    </a:lnTo>
                    <a:lnTo>
                      <a:pt x="277" y="98"/>
                    </a:lnTo>
                    <a:lnTo>
                      <a:pt x="282" y="86"/>
                    </a:lnTo>
                    <a:lnTo>
                      <a:pt x="284" y="73"/>
                    </a:lnTo>
                    <a:lnTo>
                      <a:pt x="285" y="59"/>
                    </a:lnTo>
                    <a:lnTo>
                      <a:pt x="285" y="52"/>
                    </a:lnTo>
                    <a:lnTo>
                      <a:pt x="284" y="46"/>
                    </a:lnTo>
                    <a:lnTo>
                      <a:pt x="283" y="39"/>
                    </a:lnTo>
                    <a:lnTo>
                      <a:pt x="281" y="34"/>
                    </a:lnTo>
                    <a:lnTo>
                      <a:pt x="278" y="28"/>
                    </a:lnTo>
                    <a:lnTo>
                      <a:pt x="274" y="22"/>
                    </a:lnTo>
                    <a:lnTo>
                      <a:pt x="269" y="17"/>
                    </a:lnTo>
                    <a:lnTo>
                      <a:pt x="264" y="13"/>
                    </a:lnTo>
                    <a:lnTo>
                      <a:pt x="257" y="8"/>
                    </a:lnTo>
                    <a:lnTo>
                      <a:pt x="250" y="4"/>
                    </a:lnTo>
                    <a:lnTo>
                      <a:pt x="241" y="2"/>
                    </a:lnTo>
                    <a:lnTo>
                      <a:pt x="232" y="1"/>
                    </a:lnTo>
                    <a:lnTo>
                      <a:pt x="220" y="0"/>
                    </a:lnTo>
                    <a:lnTo>
                      <a:pt x="208" y="0"/>
                    </a:lnTo>
                    <a:lnTo>
                      <a:pt x="194" y="2"/>
                    </a:lnTo>
                    <a:lnTo>
                      <a:pt x="180" y="4"/>
                    </a:lnTo>
                    <a:lnTo>
                      <a:pt x="164" y="8"/>
                    </a:lnTo>
                    <a:lnTo>
                      <a:pt x="146" y="13"/>
                    </a:lnTo>
                    <a:lnTo>
                      <a:pt x="127" y="20"/>
                    </a:lnTo>
                    <a:lnTo>
                      <a:pt x="106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204"/>
              <p:cNvSpPr/>
              <p:nvPr/>
            </p:nvSpPr>
            <p:spPr>
              <a:xfrm>
                <a:off x="5697720" y="5843880"/>
                <a:ext cx="46080" cy="230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85" h="123">
                    <a:moveTo>
                      <a:pt x="106" y="28"/>
                    </a:moveTo>
                    <a:lnTo>
                      <a:pt x="86" y="36"/>
                    </a:lnTo>
                    <a:lnTo>
                      <a:pt x="68" y="44"/>
                    </a:lnTo>
                    <a:lnTo>
                      <a:pt x="52" y="53"/>
                    </a:lnTo>
                    <a:lnTo>
                      <a:pt x="38" y="62"/>
                    </a:lnTo>
                    <a:lnTo>
                      <a:pt x="25" y="71"/>
                    </a:lnTo>
                    <a:lnTo>
                      <a:pt x="16" y="79"/>
                    </a:lnTo>
                    <a:lnTo>
                      <a:pt x="7" y="87"/>
                    </a:lnTo>
                    <a:lnTo>
                      <a:pt x="3" y="94"/>
                    </a:lnTo>
                    <a:lnTo>
                      <a:pt x="2" y="99"/>
                    </a:lnTo>
                    <a:lnTo>
                      <a:pt x="0" y="101"/>
                    </a:lnTo>
                    <a:lnTo>
                      <a:pt x="0" y="105"/>
                    </a:lnTo>
                    <a:lnTo>
                      <a:pt x="2" y="108"/>
                    </a:lnTo>
                    <a:lnTo>
                      <a:pt x="3" y="111"/>
                    </a:lnTo>
                    <a:lnTo>
                      <a:pt x="5" y="113"/>
                    </a:lnTo>
                    <a:lnTo>
                      <a:pt x="7" y="115"/>
                    </a:lnTo>
                    <a:lnTo>
                      <a:pt x="12" y="118"/>
                    </a:lnTo>
                    <a:lnTo>
                      <a:pt x="21" y="120"/>
                    </a:lnTo>
                    <a:lnTo>
                      <a:pt x="35" y="121"/>
                    </a:lnTo>
                    <a:lnTo>
                      <a:pt x="53" y="121"/>
                    </a:lnTo>
                    <a:lnTo>
                      <a:pt x="74" y="119"/>
                    </a:lnTo>
                    <a:lnTo>
                      <a:pt x="96" y="118"/>
                    </a:lnTo>
                    <a:lnTo>
                      <a:pt x="116" y="115"/>
                    </a:lnTo>
                    <a:lnTo>
                      <a:pt x="135" y="115"/>
                    </a:lnTo>
                    <a:lnTo>
                      <a:pt x="151" y="115"/>
                    </a:lnTo>
                    <a:lnTo>
                      <a:pt x="179" y="116"/>
                    </a:lnTo>
                    <a:lnTo>
                      <a:pt x="203" y="119"/>
                    </a:lnTo>
                    <a:lnTo>
                      <a:pt x="221" y="122"/>
                    </a:lnTo>
                    <a:lnTo>
                      <a:pt x="236" y="123"/>
                    </a:lnTo>
                    <a:lnTo>
                      <a:pt x="243" y="123"/>
                    </a:lnTo>
                    <a:lnTo>
                      <a:pt x="249" y="122"/>
                    </a:lnTo>
                    <a:lnTo>
                      <a:pt x="255" y="121"/>
                    </a:lnTo>
                    <a:lnTo>
                      <a:pt x="262" y="119"/>
                    </a:lnTo>
                    <a:lnTo>
                      <a:pt x="267" y="115"/>
                    </a:lnTo>
                    <a:lnTo>
                      <a:pt x="273" y="107"/>
                    </a:lnTo>
                    <a:lnTo>
                      <a:pt x="277" y="98"/>
                    </a:lnTo>
                    <a:lnTo>
                      <a:pt x="282" y="86"/>
                    </a:lnTo>
                    <a:lnTo>
                      <a:pt x="284" y="73"/>
                    </a:lnTo>
                    <a:lnTo>
                      <a:pt x="285" y="59"/>
                    </a:lnTo>
                    <a:lnTo>
                      <a:pt x="285" y="52"/>
                    </a:lnTo>
                    <a:lnTo>
                      <a:pt x="284" y="46"/>
                    </a:lnTo>
                    <a:lnTo>
                      <a:pt x="283" y="39"/>
                    </a:lnTo>
                    <a:lnTo>
                      <a:pt x="281" y="34"/>
                    </a:lnTo>
                    <a:lnTo>
                      <a:pt x="278" y="28"/>
                    </a:lnTo>
                    <a:lnTo>
                      <a:pt x="274" y="22"/>
                    </a:lnTo>
                    <a:lnTo>
                      <a:pt x="269" y="17"/>
                    </a:lnTo>
                    <a:lnTo>
                      <a:pt x="264" y="13"/>
                    </a:lnTo>
                    <a:lnTo>
                      <a:pt x="257" y="8"/>
                    </a:lnTo>
                    <a:lnTo>
                      <a:pt x="250" y="4"/>
                    </a:lnTo>
                    <a:lnTo>
                      <a:pt x="241" y="2"/>
                    </a:lnTo>
                    <a:lnTo>
                      <a:pt x="232" y="1"/>
                    </a:lnTo>
                    <a:lnTo>
                      <a:pt x="220" y="0"/>
                    </a:lnTo>
                    <a:lnTo>
                      <a:pt x="208" y="0"/>
                    </a:lnTo>
                    <a:lnTo>
                      <a:pt x="194" y="2"/>
                    </a:lnTo>
                    <a:lnTo>
                      <a:pt x="180" y="4"/>
                    </a:lnTo>
                    <a:lnTo>
                      <a:pt x="164" y="8"/>
                    </a:lnTo>
                    <a:lnTo>
                      <a:pt x="146" y="13"/>
                    </a:lnTo>
                    <a:lnTo>
                      <a:pt x="127" y="20"/>
                    </a:lnTo>
                    <a:lnTo>
                      <a:pt x="106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Freeform 205"/>
              <p:cNvSpPr/>
              <p:nvPr/>
            </p:nvSpPr>
            <p:spPr>
              <a:xfrm>
                <a:off x="5601240" y="5851800"/>
                <a:ext cx="62640" cy="37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07" h="221">
                    <a:moveTo>
                      <a:pt x="207" y="50"/>
                    </a:moveTo>
                    <a:lnTo>
                      <a:pt x="97" y="206"/>
                    </a:lnTo>
                    <a:lnTo>
                      <a:pt x="90" y="208"/>
                    </a:lnTo>
                    <a:lnTo>
                      <a:pt x="73" y="214"/>
                    </a:lnTo>
                    <a:lnTo>
                      <a:pt x="61" y="216"/>
                    </a:lnTo>
                    <a:lnTo>
                      <a:pt x="49" y="218"/>
                    </a:lnTo>
                    <a:lnTo>
                      <a:pt x="38" y="221"/>
                    </a:lnTo>
                    <a:lnTo>
                      <a:pt x="26" y="221"/>
                    </a:lnTo>
                    <a:lnTo>
                      <a:pt x="17" y="221"/>
                    </a:lnTo>
                    <a:lnTo>
                      <a:pt x="9" y="218"/>
                    </a:lnTo>
                    <a:lnTo>
                      <a:pt x="5" y="216"/>
                    </a:lnTo>
                    <a:lnTo>
                      <a:pt x="3" y="214"/>
                    </a:lnTo>
                    <a:lnTo>
                      <a:pt x="2" y="210"/>
                    </a:lnTo>
                    <a:lnTo>
                      <a:pt x="0" y="206"/>
                    </a:lnTo>
                    <a:lnTo>
                      <a:pt x="0" y="202"/>
                    </a:lnTo>
                    <a:lnTo>
                      <a:pt x="2" y="196"/>
                    </a:lnTo>
                    <a:lnTo>
                      <a:pt x="5" y="190"/>
                    </a:lnTo>
                    <a:lnTo>
                      <a:pt x="9" y="183"/>
                    </a:lnTo>
                    <a:lnTo>
                      <a:pt x="20" y="166"/>
                    </a:lnTo>
                    <a:lnTo>
                      <a:pt x="37" y="146"/>
                    </a:lnTo>
                    <a:lnTo>
                      <a:pt x="73" y="102"/>
                    </a:lnTo>
                    <a:lnTo>
                      <a:pt x="102" y="63"/>
                    </a:lnTo>
                    <a:lnTo>
                      <a:pt x="115" y="47"/>
                    </a:lnTo>
                    <a:lnTo>
                      <a:pt x="125" y="33"/>
                    </a:lnTo>
                    <a:lnTo>
                      <a:pt x="136" y="21"/>
                    </a:lnTo>
                    <a:lnTo>
                      <a:pt x="145" y="12"/>
                    </a:lnTo>
                    <a:lnTo>
                      <a:pt x="153" y="5"/>
                    </a:lnTo>
                    <a:lnTo>
                      <a:pt x="162" y="1"/>
                    </a:lnTo>
                    <a:lnTo>
                      <a:pt x="165" y="0"/>
                    </a:lnTo>
                    <a:lnTo>
                      <a:pt x="169" y="0"/>
                    </a:lnTo>
                    <a:lnTo>
                      <a:pt x="172" y="1"/>
                    </a:lnTo>
                    <a:lnTo>
                      <a:pt x="176" y="4"/>
                    </a:lnTo>
                    <a:lnTo>
                      <a:pt x="179" y="6"/>
                    </a:lnTo>
                    <a:lnTo>
                      <a:pt x="184" y="9"/>
                    </a:lnTo>
                    <a:lnTo>
                      <a:pt x="187" y="14"/>
                    </a:lnTo>
                    <a:lnTo>
                      <a:pt x="191" y="19"/>
                    </a:lnTo>
                    <a:lnTo>
                      <a:pt x="199" y="33"/>
                    </a:lnTo>
                    <a:lnTo>
                      <a:pt x="207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Freeform 206"/>
              <p:cNvSpPr/>
              <p:nvPr/>
            </p:nvSpPr>
            <p:spPr>
              <a:xfrm>
                <a:off x="5601240" y="5851800"/>
                <a:ext cx="62640" cy="37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07" h="221">
                    <a:moveTo>
                      <a:pt x="207" y="50"/>
                    </a:moveTo>
                    <a:lnTo>
                      <a:pt x="97" y="206"/>
                    </a:lnTo>
                    <a:lnTo>
                      <a:pt x="90" y="208"/>
                    </a:lnTo>
                    <a:lnTo>
                      <a:pt x="73" y="214"/>
                    </a:lnTo>
                    <a:lnTo>
                      <a:pt x="61" y="216"/>
                    </a:lnTo>
                    <a:lnTo>
                      <a:pt x="49" y="218"/>
                    </a:lnTo>
                    <a:lnTo>
                      <a:pt x="38" y="221"/>
                    </a:lnTo>
                    <a:lnTo>
                      <a:pt x="26" y="221"/>
                    </a:lnTo>
                    <a:lnTo>
                      <a:pt x="17" y="221"/>
                    </a:lnTo>
                    <a:lnTo>
                      <a:pt x="9" y="218"/>
                    </a:lnTo>
                    <a:lnTo>
                      <a:pt x="5" y="216"/>
                    </a:lnTo>
                    <a:lnTo>
                      <a:pt x="3" y="214"/>
                    </a:lnTo>
                    <a:lnTo>
                      <a:pt x="2" y="210"/>
                    </a:lnTo>
                    <a:lnTo>
                      <a:pt x="0" y="206"/>
                    </a:lnTo>
                    <a:lnTo>
                      <a:pt x="0" y="202"/>
                    </a:lnTo>
                    <a:lnTo>
                      <a:pt x="2" y="196"/>
                    </a:lnTo>
                    <a:lnTo>
                      <a:pt x="5" y="190"/>
                    </a:lnTo>
                    <a:lnTo>
                      <a:pt x="9" y="183"/>
                    </a:lnTo>
                    <a:lnTo>
                      <a:pt x="20" y="166"/>
                    </a:lnTo>
                    <a:lnTo>
                      <a:pt x="37" y="146"/>
                    </a:lnTo>
                    <a:lnTo>
                      <a:pt x="73" y="102"/>
                    </a:lnTo>
                    <a:lnTo>
                      <a:pt x="102" y="63"/>
                    </a:lnTo>
                    <a:lnTo>
                      <a:pt x="115" y="47"/>
                    </a:lnTo>
                    <a:lnTo>
                      <a:pt x="125" y="33"/>
                    </a:lnTo>
                    <a:lnTo>
                      <a:pt x="136" y="21"/>
                    </a:lnTo>
                    <a:lnTo>
                      <a:pt x="145" y="12"/>
                    </a:lnTo>
                    <a:lnTo>
                      <a:pt x="153" y="5"/>
                    </a:lnTo>
                    <a:lnTo>
                      <a:pt x="162" y="1"/>
                    </a:lnTo>
                    <a:lnTo>
                      <a:pt x="165" y="0"/>
                    </a:lnTo>
                    <a:lnTo>
                      <a:pt x="169" y="0"/>
                    </a:lnTo>
                    <a:lnTo>
                      <a:pt x="172" y="1"/>
                    </a:lnTo>
                    <a:lnTo>
                      <a:pt x="176" y="4"/>
                    </a:lnTo>
                    <a:lnTo>
                      <a:pt x="179" y="6"/>
                    </a:lnTo>
                    <a:lnTo>
                      <a:pt x="184" y="9"/>
                    </a:lnTo>
                    <a:lnTo>
                      <a:pt x="187" y="14"/>
                    </a:lnTo>
                    <a:lnTo>
                      <a:pt x="191" y="19"/>
                    </a:lnTo>
                    <a:lnTo>
                      <a:pt x="199" y="33"/>
                    </a:lnTo>
                    <a:lnTo>
                      <a:pt x="207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4" name="Freeform 207"/>
            <p:cNvSpPr/>
            <p:nvPr/>
          </p:nvSpPr>
          <p:spPr>
            <a:xfrm>
              <a:off x="7319880" y="5053320"/>
              <a:ext cx="231120" cy="705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452" h="422">
                  <a:moveTo>
                    <a:pt x="0" y="206"/>
                  </a:moveTo>
                  <a:lnTo>
                    <a:pt x="24" y="230"/>
                  </a:lnTo>
                  <a:lnTo>
                    <a:pt x="50" y="250"/>
                  </a:lnTo>
                  <a:lnTo>
                    <a:pt x="75" y="268"/>
                  </a:lnTo>
                  <a:lnTo>
                    <a:pt x="98" y="282"/>
                  </a:lnTo>
                  <a:lnTo>
                    <a:pt x="122" y="295"/>
                  </a:lnTo>
                  <a:lnTo>
                    <a:pt x="147" y="306"/>
                  </a:lnTo>
                  <a:lnTo>
                    <a:pt x="171" y="315"/>
                  </a:lnTo>
                  <a:lnTo>
                    <a:pt x="195" y="321"/>
                  </a:lnTo>
                  <a:lnTo>
                    <a:pt x="218" y="327"/>
                  </a:lnTo>
                  <a:lnTo>
                    <a:pt x="243" y="330"/>
                  </a:lnTo>
                  <a:lnTo>
                    <a:pt x="266" y="332"/>
                  </a:lnTo>
                  <a:lnTo>
                    <a:pt x="289" y="334"/>
                  </a:lnTo>
                  <a:lnTo>
                    <a:pt x="336" y="332"/>
                  </a:lnTo>
                  <a:lnTo>
                    <a:pt x="383" y="330"/>
                  </a:lnTo>
                  <a:lnTo>
                    <a:pt x="411" y="329"/>
                  </a:lnTo>
                  <a:lnTo>
                    <a:pt x="438" y="329"/>
                  </a:lnTo>
                  <a:lnTo>
                    <a:pt x="464" y="330"/>
                  </a:lnTo>
                  <a:lnTo>
                    <a:pt x="489" y="331"/>
                  </a:lnTo>
                  <a:lnTo>
                    <a:pt x="514" y="334"/>
                  </a:lnTo>
                  <a:lnTo>
                    <a:pt x="537" y="336"/>
                  </a:lnTo>
                  <a:lnTo>
                    <a:pt x="559" y="341"/>
                  </a:lnTo>
                  <a:lnTo>
                    <a:pt x="581" y="345"/>
                  </a:lnTo>
                  <a:lnTo>
                    <a:pt x="601" y="351"/>
                  </a:lnTo>
                  <a:lnTo>
                    <a:pt x="620" y="357"/>
                  </a:lnTo>
                  <a:lnTo>
                    <a:pt x="638" y="365"/>
                  </a:lnTo>
                  <a:lnTo>
                    <a:pt x="653" y="374"/>
                  </a:lnTo>
                  <a:lnTo>
                    <a:pt x="667" y="384"/>
                  </a:lnTo>
                  <a:lnTo>
                    <a:pt x="678" y="396"/>
                  </a:lnTo>
                  <a:lnTo>
                    <a:pt x="684" y="401"/>
                  </a:lnTo>
                  <a:lnTo>
                    <a:pt x="689" y="408"/>
                  </a:lnTo>
                  <a:lnTo>
                    <a:pt x="694" y="415"/>
                  </a:lnTo>
                  <a:lnTo>
                    <a:pt x="697" y="422"/>
                  </a:lnTo>
                  <a:lnTo>
                    <a:pt x="708" y="405"/>
                  </a:lnTo>
                  <a:lnTo>
                    <a:pt x="718" y="390"/>
                  </a:lnTo>
                  <a:lnTo>
                    <a:pt x="730" y="374"/>
                  </a:lnTo>
                  <a:lnTo>
                    <a:pt x="744" y="360"/>
                  </a:lnTo>
                  <a:lnTo>
                    <a:pt x="758" y="348"/>
                  </a:lnTo>
                  <a:lnTo>
                    <a:pt x="774" y="337"/>
                  </a:lnTo>
                  <a:lnTo>
                    <a:pt x="782" y="332"/>
                  </a:lnTo>
                  <a:lnTo>
                    <a:pt x="791" y="328"/>
                  </a:lnTo>
                  <a:lnTo>
                    <a:pt x="800" y="324"/>
                  </a:lnTo>
                  <a:lnTo>
                    <a:pt x="809" y="322"/>
                  </a:lnTo>
                  <a:lnTo>
                    <a:pt x="871" y="304"/>
                  </a:lnTo>
                  <a:lnTo>
                    <a:pt x="939" y="287"/>
                  </a:lnTo>
                  <a:lnTo>
                    <a:pt x="1014" y="271"/>
                  </a:lnTo>
                  <a:lnTo>
                    <a:pt x="1093" y="254"/>
                  </a:lnTo>
                  <a:lnTo>
                    <a:pt x="1177" y="239"/>
                  </a:lnTo>
                  <a:lnTo>
                    <a:pt x="1265" y="223"/>
                  </a:lnTo>
                  <a:lnTo>
                    <a:pt x="1357" y="207"/>
                  </a:lnTo>
                  <a:lnTo>
                    <a:pt x="1452" y="192"/>
                  </a:lnTo>
                  <a:lnTo>
                    <a:pt x="1439" y="177"/>
                  </a:lnTo>
                  <a:lnTo>
                    <a:pt x="1407" y="146"/>
                  </a:lnTo>
                  <a:lnTo>
                    <a:pt x="1387" y="129"/>
                  </a:lnTo>
                  <a:lnTo>
                    <a:pt x="1366" y="114"/>
                  </a:lnTo>
                  <a:lnTo>
                    <a:pt x="1356" y="108"/>
                  </a:lnTo>
                  <a:lnTo>
                    <a:pt x="1347" y="103"/>
                  </a:lnTo>
                  <a:lnTo>
                    <a:pt x="1337" y="101"/>
                  </a:lnTo>
                  <a:lnTo>
                    <a:pt x="1328" y="100"/>
                  </a:lnTo>
                  <a:lnTo>
                    <a:pt x="1308" y="101"/>
                  </a:lnTo>
                  <a:lnTo>
                    <a:pt x="1284" y="106"/>
                  </a:lnTo>
                  <a:lnTo>
                    <a:pt x="1255" y="111"/>
                  </a:lnTo>
                  <a:lnTo>
                    <a:pt x="1227" y="115"/>
                  </a:lnTo>
                  <a:lnTo>
                    <a:pt x="1212" y="116"/>
                  </a:lnTo>
                  <a:lnTo>
                    <a:pt x="1198" y="115"/>
                  </a:lnTo>
                  <a:lnTo>
                    <a:pt x="1184" y="114"/>
                  </a:lnTo>
                  <a:lnTo>
                    <a:pt x="1170" y="112"/>
                  </a:lnTo>
                  <a:lnTo>
                    <a:pt x="1159" y="107"/>
                  </a:lnTo>
                  <a:lnTo>
                    <a:pt x="1146" y="101"/>
                  </a:lnTo>
                  <a:lnTo>
                    <a:pt x="1141" y="98"/>
                  </a:lnTo>
                  <a:lnTo>
                    <a:pt x="1135" y="93"/>
                  </a:lnTo>
                  <a:lnTo>
                    <a:pt x="1131" y="88"/>
                  </a:lnTo>
                  <a:lnTo>
                    <a:pt x="1126" y="82"/>
                  </a:lnTo>
                  <a:lnTo>
                    <a:pt x="1121" y="77"/>
                  </a:lnTo>
                  <a:lnTo>
                    <a:pt x="1116" y="73"/>
                  </a:lnTo>
                  <a:lnTo>
                    <a:pt x="1111" y="68"/>
                  </a:lnTo>
                  <a:lnTo>
                    <a:pt x="1104" y="66"/>
                  </a:lnTo>
                  <a:lnTo>
                    <a:pt x="1097" y="64"/>
                  </a:lnTo>
                  <a:lnTo>
                    <a:pt x="1090" y="61"/>
                  </a:lnTo>
                  <a:lnTo>
                    <a:pt x="1081" y="60"/>
                  </a:lnTo>
                  <a:lnTo>
                    <a:pt x="1073" y="59"/>
                  </a:lnTo>
                  <a:lnTo>
                    <a:pt x="1056" y="59"/>
                  </a:lnTo>
                  <a:lnTo>
                    <a:pt x="1037" y="61"/>
                  </a:lnTo>
                  <a:lnTo>
                    <a:pt x="1020" y="64"/>
                  </a:lnTo>
                  <a:lnTo>
                    <a:pt x="1001" y="68"/>
                  </a:lnTo>
                  <a:lnTo>
                    <a:pt x="967" y="78"/>
                  </a:lnTo>
                  <a:lnTo>
                    <a:pt x="938" y="88"/>
                  </a:lnTo>
                  <a:lnTo>
                    <a:pt x="918" y="96"/>
                  </a:lnTo>
                  <a:lnTo>
                    <a:pt x="910" y="100"/>
                  </a:lnTo>
                  <a:lnTo>
                    <a:pt x="910" y="106"/>
                  </a:lnTo>
                  <a:lnTo>
                    <a:pt x="907" y="121"/>
                  </a:lnTo>
                  <a:lnTo>
                    <a:pt x="905" y="130"/>
                  </a:lnTo>
                  <a:lnTo>
                    <a:pt x="902" y="141"/>
                  </a:lnTo>
                  <a:lnTo>
                    <a:pt x="897" y="153"/>
                  </a:lnTo>
                  <a:lnTo>
                    <a:pt x="891" y="163"/>
                  </a:lnTo>
                  <a:lnTo>
                    <a:pt x="883" y="174"/>
                  </a:lnTo>
                  <a:lnTo>
                    <a:pt x="872" y="183"/>
                  </a:lnTo>
                  <a:lnTo>
                    <a:pt x="867" y="188"/>
                  </a:lnTo>
                  <a:lnTo>
                    <a:pt x="860" y="191"/>
                  </a:lnTo>
                  <a:lnTo>
                    <a:pt x="852" y="195"/>
                  </a:lnTo>
                  <a:lnTo>
                    <a:pt x="844" y="197"/>
                  </a:lnTo>
                  <a:lnTo>
                    <a:pt x="836" y="199"/>
                  </a:lnTo>
                  <a:lnTo>
                    <a:pt x="827" y="200"/>
                  </a:lnTo>
                  <a:lnTo>
                    <a:pt x="816" y="202"/>
                  </a:lnTo>
                  <a:lnTo>
                    <a:pt x="806" y="202"/>
                  </a:lnTo>
                  <a:lnTo>
                    <a:pt x="794" y="200"/>
                  </a:lnTo>
                  <a:lnTo>
                    <a:pt x="782" y="198"/>
                  </a:lnTo>
                  <a:lnTo>
                    <a:pt x="768" y="196"/>
                  </a:lnTo>
                  <a:lnTo>
                    <a:pt x="754" y="192"/>
                  </a:lnTo>
                  <a:lnTo>
                    <a:pt x="742" y="184"/>
                  </a:lnTo>
                  <a:lnTo>
                    <a:pt x="728" y="177"/>
                  </a:lnTo>
                  <a:lnTo>
                    <a:pt x="715" y="172"/>
                  </a:lnTo>
                  <a:lnTo>
                    <a:pt x="699" y="168"/>
                  </a:lnTo>
                  <a:lnTo>
                    <a:pt x="685" y="164"/>
                  </a:lnTo>
                  <a:lnTo>
                    <a:pt x="671" y="162"/>
                  </a:lnTo>
                  <a:lnTo>
                    <a:pt x="657" y="161"/>
                  </a:lnTo>
                  <a:lnTo>
                    <a:pt x="643" y="160"/>
                  </a:lnTo>
                  <a:lnTo>
                    <a:pt x="589" y="161"/>
                  </a:lnTo>
                  <a:lnTo>
                    <a:pt x="542" y="164"/>
                  </a:lnTo>
                  <a:lnTo>
                    <a:pt x="531" y="164"/>
                  </a:lnTo>
                  <a:lnTo>
                    <a:pt x="522" y="164"/>
                  </a:lnTo>
                  <a:lnTo>
                    <a:pt x="514" y="163"/>
                  </a:lnTo>
                  <a:lnTo>
                    <a:pt x="507" y="162"/>
                  </a:lnTo>
                  <a:lnTo>
                    <a:pt x="500" y="160"/>
                  </a:lnTo>
                  <a:lnTo>
                    <a:pt x="495" y="156"/>
                  </a:lnTo>
                  <a:lnTo>
                    <a:pt x="492" y="153"/>
                  </a:lnTo>
                  <a:lnTo>
                    <a:pt x="488" y="148"/>
                  </a:lnTo>
                  <a:lnTo>
                    <a:pt x="487" y="141"/>
                  </a:lnTo>
                  <a:lnTo>
                    <a:pt x="488" y="134"/>
                  </a:lnTo>
                  <a:lnTo>
                    <a:pt x="489" y="125"/>
                  </a:lnTo>
                  <a:lnTo>
                    <a:pt x="493" y="114"/>
                  </a:lnTo>
                  <a:lnTo>
                    <a:pt x="499" y="101"/>
                  </a:lnTo>
                  <a:lnTo>
                    <a:pt x="504" y="87"/>
                  </a:lnTo>
                  <a:lnTo>
                    <a:pt x="514" y="72"/>
                  </a:lnTo>
                  <a:lnTo>
                    <a:pt x="524" y="53"/>
                  </a:lnTo>
                  <a:lnTo>
                    <a:pt x="523" y="50"/>
                  </a:lnTo>
                  <a:lnTo>
                    <a:pt x="518" y="42"/>
                  </a:lnTo>
                  <a:lnTo>
                    <a:pt x="511" y="31"/>
                  </a:lnTo>
                  <a:lnTo>
                    <a:pt x="501" y="18"/>
                  </a:lnTo>
                  <a:lnTo>
                    <a:pt x="494" y="14"/>
                  </a:lnTo>
                  <a:lnTo>
                    <a:pt x="487" y="8"/>
                  </a:lnTo>
                  <a:lnTo>
                    <a:pt x="480" y="4"/>
                  </a:lnTo>
                  <a:lnTo>
                    <a:pt x="471" y="2"/>
                  </a:lnTo>
                  <a:lnTo>
                    <a:pt x="461" y="0"/>
                  </a:lnTo>
                  <a:lnTo>
                    <a:pt x="452" y="1"/>
                  </a:lnTo>
                  <a:lnTo>
                    <a:pt x="441" y="3"/>
                  </a:lnTo>
                  <a:lnTo>
                    <a:pt x="430" y="8"/>
                  </a:lnTo>
                  <a:lnTo>
                    <a:pt x="417" y="15"/>
                  </a:lnTo>
                  <a:lnTo>
                    <a:pt x="400" y="24"/>
                  </a:lnTo>
                  <a:lnTo>
                    <a:pt x="383" y="36"/>
                  </a:lnTo>
                  <a:lnTo>
                    <a:pt x="363" y="50"/>
                  </a:lnTo>
                  <a:lnTo>
                    <a:pt x="315" y="82"/>
                  </a:lnTo>
                  <a:lnTo>
                    <a:pt x="261" y="116"/>
                  </a:lnTo>
                  <a:lnTo>
                    <a:pt x="232" y="134"/>
                  </a:lnTo>
                  <a:lnTo>
                    <a:pt x="201" y="150"/>
                  </a:lnTo>
                  <a:lnTo>
                    <a:pt x="169" y="164"/>
                  </a:lnTo>
                  <a:lnTo>
                    <a:pt x="136" y="178"/>
                  </a:lnTo>
                  <a:lnTo>
                    <a:pt x="120" y="184"/>
                  </a:lnTo>
                  <a:lnTo>
                    <a:pt x="103" y="189"/>
                  </a:lnTo>
                  <a:lnTo>
                    <a:pt x="86" y="195"/>
                  </a:lnTo>
                  <a:lnTo>
                    <a:pt x="69" y="198"/>
                  </a:lnTo>
                  <a:lnTo>
                    <a:pt x="52" y="202"/>
                  </a:lnTo>
                  <a:lnTo>
                    <a:pt x="35" y="204"/>
                  </a:lnTo>
                  <a:lnTo>
                    <a:pt x="17" y="205"/>
                  </a:lnTo>
                  <a:lnTo>
                    <a:pt x="0" y="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Freeform 208"/>
            <p:cNvSpPr/>
            <p:nvPr/>
          </p:nvSpPr>
          <p:spPr>
            <a:xfrm>
              <a:off x="6003720" y="5078160"/>
              <a:ext cx="379080" cy="1710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2375" h="987">
                  <a:moveTo>
                    <a:pt x="916" y="921"/>
                  </a:moveTo>
                  <a:lnTo>
                    <a:pt x="0" y="826"/>
                  </a:lnTo>
                  <a:lnTo>
                    <a:pt x="16" y="801"/>
                  </a:lnTo>
                  <a:lnTo>
                    <a:pt x="31" y="778"/>
                  </a:lnTo>
                  <a:lnTo>
                    <a:pt x="45" y="756"/>
                  </a:lnTo>
                  <a:lnTo>
                    <a:pt x="61" y="737"/>
                  </a:lnTo>
                  <a:lnTo>
                    <a:pt x="75" y="718"/>
                  </a:lnTo>
                  <a:lnTo>
                    <a:pt x="89" y="702"/>
                  </a:lnTo>
                  <a:lnTo>
                    <a:pt x="101" y="687"/>
                  </a:lnTo>
                  <a:lnTo>
                    <a:pt x="115" y="674"/>
                  </a:lnTo>
                  <a:lnTo>
                    <a:pt x="128" y="661"/>
                  </a:lnTo>
                  <a:lnTo>
                    <a:pt x="140" y="651"/>
                  </a:lnTo>
                  <a:lnTo>
                    <a:pt x="153" y="640"/>
                  </a:lnTo>
                  <a:lnTo>
                    <a:pt x="165" y="632"/>
                  </a:lnTo>
                  <a:lnTo>
                    <a:pt x="176" y="624"/>
                  </a:lnTo>
                  <a:lnTo>
                    <a:pt x="188" y="617"/>
                  </a:lnTo>
                  <a:lnTo>
                    <a:pt x="200" y="611"/>
                  </a:lnTo>
                  <a:lnTo>
                    <a:pt x="211" y="605"/>
                  </a:lnTo>
                  <a:lnTo>
                    <a:pt x="233" y="597"/>
                  </a:lnTo>
                  <a:lnTo>
                    <a:pt x="256" y="590"/>
                  </a:lnTo>
                  <a:lnTo>
                    <a:pt x="277" y="583"/>
                  </a:lnTo>
                  <a:lnTo>
                    <a:pt x="299" y="578"/>
                  </a:lnTo>
                  <a:lnTo>
                    <a:pt x="320" y="572"/>
                  </a:lnTo>
                  <a:lnTo>
                    <a:pt x="341" y="565"/>
                  </a:lnTo>
                  <a:lnTo>
                    <a:pt x="363" y="557"/>
                  </a:lnTo>
                  <a:lnTo>
                    <a:pt x="385" y="547"/>
                  </a:lnTo>
                  <a:lnTo>
                    <a:pt x="410" y="534"/>
                  </a:lnTo>
                  <a:lnTo>
                    <a:pt x="434" y="517"/>
                  </a:lnTo>
                  <a:lnTo>
                    <a:pt x="461" y="500"/>
                  </a:lnTo>
                  <a:lnTo>
                    <a:pt x="487" y="480"/>
                  </a:lnTo>
                  <a:lnTo>
                    <a:pt x="514" y="458"/>
                  </a:lnTo>
                  <a:lnTo>
                    <a:pt x="541" y="434"/>
                  </a:lnTo>
                  <a:lnTo>
                    <a:pt x="568" y="411"/>
                  </a:lnTo>
                  <a:lnTo>
                    <a:pt x="593" y="388"/>
                  </a:lnTo>
                  <a:lnTo>
                    <a:pt x="642" y="340"/>
                  </a:lnTo>
                  <a:lnTo>
                    <a:pt x="686" y="298"/>
                  </a:lnTo>
                  <a:lnTo>
                    <a:pt x="719" y="263"/>
                  </a:lnTo>
                  <a:lnTo>
                    <a:pt x="743" y="238"/>
                  </a:lnTo>
                  <a:lnTo>
                    <a:pt x="752" y="231"/>
                  </a:lnTo>
                  <a:lnTo>
                    <a:pt x="761" y="225"/>
                  </a:lnTo>
                  <a:lnTo>
                    <a:pt x="771" y="222"/>
                  </a:lnTo>
                  <a:lnTo>
                    <a:pt x="780" y="219"/>
                  </a:lnTo>
                  <a:lnTo>
                    <a:pt x="800" y="216"/>
                  </a:lnTo>
                  <a:lnTo>
                    <a:pt x="821" y="212"/>
                  </a:lnTo>
                  <a:lnTo>
                    <a:pt x="833" y="210"/>
                  </a:lnTo>
                  <a:lnTo>
                    <a:pt x="843" y="205"/>
                  </a:lnTo>
                  <a:lnTo>
                    <a:pt x="855" y="200"/>
                  </a:lnTo>
                  <a:lnTo>
                    <a:pt x="867" y="191"/>
                  </a:lnTo>
                  <a:lnTo>
                    <a:pt x="877" y="181"/>
                  </a:lnTo>
                  <a:lnTo>
                    <a:pt x="889" y="167"/>
                  </a:lnTo>
                  <a:lnTo>
                    <a:pt x="902" y="151"/>
                  </a:lnTo>
                  <a:lnTo>
                    <a:pt x="913" y="130"/>
                  </a:lnTo>
                  <a:lnTo>
                    <a:pt x="924" y="110"/>
                  </a:lnTo>
                  <a:lnTo>
                    <a:pt x="934" y="92"/>
                  </a:lnTo>
                  <a:lnTo>
                    <a:pt x="947" y="75"/>
                  </a:lnTo>
                  <a:lnTo>
                    <a:pt x="960" y="58"/>
                  </a:lnTo>
                  <a:lnTo>
                    <a:pt x="988" y="28"/>
                  </a:lnTo>
                  <a:lnTo>
                    <a:pt x="1016" y="0"/>
                  </a:lnTo>
                  <a:lnTo>
                    <a:pt x="1192" y="37"/>
                  </a:lnTo>
                  <a:lnTo>
                    <a:pt x="1192" y="49"/>
                  </a:lnTo>
                  <a:lnTo>
                    <a:pt x="1194" y="62"/>
                  </a:lnTo>
                  <a:lnTo>
                    <a:pt x="1195" y="72"/>
                  </a:lnTo>
                  <a:lnTo>
                    <a:pt x="1197" y="83"/>
                  </a:lnTo>
                  <a:lnTo>
                    <a:pt x="1199" y="93"/>
                  </a:lnTo>
                  <a:lnTo>
                    <a:pt x="1203" y="103"/>
                  </a:lnTo>
                  <a:lnTo>
                    <a:pt x="1206" y="112"/>
                  </a:lnTo>
                  <a:lnTo>
                    <a:pt x="1210" y="120"/>
                  </a:lnTo>
                  <a:lnTo>
                    <a:pt x="1215" y="127"/>
                  </a:lnTo>
                  <a:lnTo>
                    <a:pt x="1219" y="134"/>
                  </a:lnTo>
                  <a:lnTo>
                    <a:pt x="1224" y="141"/>
                  </a:lnTo>
                  <a:lnTo>
                    <a:pt x="1230" y="147"/>
                  </a:lnTo>
                  <a:lnTo>
                    <a:pt x="1243" y="159"/>
                  </a:lnTo>
                  <a:lnTo>
                    <a:pt x="1256" y="168"/>
                  </a:lnTo>
                  <a:lnTo>
                    <a:pt x="1270" y="176"/>
                  </a:lnTo>
                  <a:lnTo>
                    <a:pt x="1284" y="183"/>
                  </a:lnTo>
                  <a:lnTo>
                    <a:pt x="1300" y="189"/>
                  </a:lnTo>
                  <a:lnTo>
                    <a:pt x="1315" y="194"/>
                  </a:lnTo>
                  <a:lnTo>
                    <a:pt x="1347" y="201"/>
                  </a:lnTo>
                  <a:lnTo>
                    <a:pt x="1377" y="207"/>
                  </a:lnTo>
                  <a:lnTo>
                    <a:pt x="1400" y="209"/>
                  </a:lnTo>
                  <a:lnTo>
                    <a:pt x="1439" y="209"/>
                  </a:lnTo>
                  <a:lnTo>
                    <a:pt x="1492" y="209"/>
                  </a:lnTo>
                  <a:lnTo>
                    <a:pt x="1556" y="208"/>
                  </a:lnTo>
                  <a:lnTo>
                    <a:pt x="1628" y="205"/>
                  </a:lnTo>
                  <a:lnTo>
                    <a:pt x="1708" y="204"/>
                  </a:lnTo>
                  <a:lnTo>
                    <a:pt x="1792" y="203"/>
                  </a:lnTo>
                  <a:lnTo>
                    <a:pt x="1877" y="203"/>
                  </a:lnTo>
                  <a:lnTo>
                    <a:pt x="1962" y="203"/>
                  </a:lnTo>
                  <a:lnTo>
                    <a:pt x="2046" y="205"/>
                  </a:lnTo>
                  <a:lnTo>
                    <a:pt x="2086" y="208"/>
                  </a:lnTo>
                  <a:lnTo>
                    <a:pt x="2125" y="210"/>
                  </a:lnTo>
                  <a:lnTo>
                    <a:pt x="2161" y="212"/>
                  </a:lnTo>
                  <a:lnTo>
                    <a:pt x="2196" y="216"/>
                  </a:lnTo>
                  <a:lnTo>
                    <a:pt x="2227" y="221"/>
                  </a:lnTo>
                  <a:lnTo>
                    <a:pt x="2258" y="225"/>
                  </a:lnTo>
                  <a:lnTo>
                    <a:pt x="2285" y="230"/>
                  </a:lnTo>
                  <a:lnTo>
                    <a:pt x="2308" y="237"/>
                  </a:lnTo>
                  <a:lnTo>
                    <a:pt x="2328" y="244"/>
                  </a:lnTo>
                  <a:lnTo>
                    <a:pt x="2344" y="251"/>
                  </a:lnTo>
                  <a:lnTo>
                    <a:pt x="2357" y="260"/>
                  </a:lnTo>
                  <a:lnTo>
                    <a:pt x="2364" y="270"/>
                  </a:lnTo>
                  <a:lnTo>
                    <a:pt x="2370" y="280"/>
                  </a:lnTo>
                  <a:lnTo>
                    <a:pt x="2373" y="288"/>
                  </a:lnTo>
                  <a:lnTo>
                    <a:pt x="2375" y="298"/>
                  </a:lnTo>
                  <a:lnTo>
                    <a:pt x="2375" y="306"/>
                  </a:lnTo>
                  <a:lnTo>
                    <a:pt x="2373" y="313"/>
                  </a:lnTo>
                  <a:lnTo>
                    <a:pt x="2370" y="320"/>
                  </a:lnTo>
                  <a:lnTo>
                    <a:pt x="2366" y="327"/>
                  </a:lnTo>
                  <a:lnTo>
                    <a:pt x="2361" y="333"/>
                  </a:lnTo>
                  <a:lnTo>
                    <a:pt x="2355" y="339"/>
                  </a:lnTo>
                  <a:lnTo>
                    <a:pt x="2347" y="343"/>
                  </a:lnTo>
                  <a:lnTo>
                    <a:pt x="2338" y="348"/>
                  </a:lnTo>
                  <a:lnTo>
                    <a:pt x="2329" y="353"/>
                  </a:lnTo>
                  <a:lnTo>
                    <a:pt x="2308" y="362"/>
                  </a:lnTo>
                  <a:lnTo>
                    <a:pt x="2285" y="369"/>
                  </a:lnTo>
                  <a:lnTo>
                    <a:pt x="2233" y="382"/>
                  </a:lnTo>
                  <a:lnTo>
                    <a:pt x="2180" y="395"/>
                  </a:lnTo>
                  <a:lnTo>
                    <a:pt x="2153" y="401"/>
                  </a:lnTo>
                  <a:lnTo>
                    <a:pt x="2129" y="408"/>
                  </a:lnTo>
                  <a:lnTo>
                    <a:pt x="2107" y="415"/>
                  </a:lnTo>
                  <a:lnTo>
                    <a:pt x="2088" y="423"/>
                  </a:lnTo>
                  <a:lnTo>
                    <a:pt x="2059" y="438"/>
                  </a:lnTo>
                  <a:lnTo>
                    <a:pt x="2039" y="448"/>
                  </a:lnTo>
                  <a:lnTo>
                    <a:pt x="2034" y="453"/>
                  </a:lnTo>
                  <a:lnTo>
                    <a:pt x="2029" y="457"/>
                  </a:lnTo>
                  <a:lnTo>
                    <a:pt x="2027" y="461"/>
                  </a:lnTo>
                  <a:lnTo>
                    <a:pt x="2025" y="466"/>
                  </a:lnTo>
                  <a:lnTo>
                    <a:pt x="2027" y="471"/>
                  </a:lnTo>
                  <a:lnTo>
                    <a:pt x="2028" y="475"/>
                  </a:lnTo>
                  <a:lnTo>
                    <a:pt x="2031" y="481"/>
                  </a:lnTo>
                  <a:lnTo>
                    <a:pt x="2035" y="489"/>
                  </a:lnTo>
                  <a:lnTo>
                    <a:pt x="2045" y="507"/>
                  </a:lnTo>
                  <a:lnTo>
                    <a:pt x="2057" y="533"/>
                  </a:lnTo>
                  <a:lnTo>
                    <a:pt x="2062" y="547"/>
                  </a:lnTo>
                  <a:lnTo>
                    <a:pt x="2064" y="559"/>
                  </a:lnTo>
                  <a:lnTo>
                    <a:pt x="2065" y="571"/>
                  </a:lnTo>
                  <a:lnTo>
                    <a:pt x="2064" y="583"/>
                  </a:lnTo>
                  <a:lnTo>
                    <a:pt x="2060" y="593"/>
                  </a:lnTo>
                  <a:lnTo>
                    <a:pt x="2056" y="603"/>
                  </a:lnTo>
                  <a:lnTo>
                    <a:pt x="2049" y="612"/>
                  </a:lnTo>
                  <a:lnTo>
                    <a:pt x="2041" y="620"/>
                  </a:lnTo>
                  <a:lnTo>
                    <a:pt x="2031" y="628"/>
                  </a:lnTo>
                  <a:lnTo>
                    <a:pt x="2021" y="636"/>
                  </a:lnTo>
                  <a:lnTo>
                    <a:pt x="2009" y="645"/>
                  </a:lnTo>
                  <a:lnTo>
                    <a:pt x="1995" y="653"/>
                  </a:lnTo>
                  <a:lnTo>
                    <a:pt x="1966" y="668"/>
                  </a:lnTo>
                  <a:lnTo>
                    <a:pt x="1933" y="684"/>
                  </a:lnTo>
                  <a:lnTo>
                    <a:pt x="1916" y="694"/>
                  </a:lnTo>
                  <a:lnTo>
                    <a:pt x="1900" y="702"/>
                  </a:lnTo>
                  <a:lnTo>
                    <a:pt x="1888" y="711"/>
                  </a:lnTo>
                  <a:lnTo>
                    <a:pt x="1875" y="721"/>
                  </a:lnTo>
                  <a:lnTo>
                    <a:pt x="1863" y="729"/>
                  </a:lnTo>
                  <a:lnTo>
                    <a:pt x="1854" y="738"/>
                  </a:lnTo>
                  <a:lnTo>
                    <a:pt x="1845" y="747"/>
                  </a:lnTo>
                  <a:lnTo>
                    <a:pt x="1837" y="757"/>
                  </a:lnTo>
                  <a:lnTo>
                    <a:pt x="1831" y="767"/>
                  </a:lnTo>
                  <a:lnTo>
                    <a:pt x="1827" y="777"/>
                  </a:lnTo>
                  <a:lnTo>
                    <a:pt x="1823" y="787"/>
                  </a:lnTo>
                  <a:lnTo>
                    <a:pt x="1821" y="797"/>
                  </a:lnTo>
                  <a:lnTo>
                    <a:pt x="1820" y="807"/>
                  </a:lnTo>
                  <a:lnTo>
                    <a:pt x="1820" y="819"/>
                  </a:lnTo>
                  <a:lnTo>
                    <a:pt x="1821" y="829"/>
                  </a:lnTo>
                  <a:lnTo>
                    <a:pt x="1823" y="841"/>
                  </a:lnTo>
                  <a:lnTo>
                    <a:pt x="1826" y="851"/>
                  </a:lnTo>
                  <a:lnTo>
                    <a:pt x="1826" y="863"/>
                  </a:lnTo>
                  <a:lnTo>
                    <a:pt x="1823" y="874"/>
                  </a:lnTo>
                  <a:lnTo>
                    <a:pt x="1820" y="884"/>
                  </a:lnTo>
                  <a:lnTo>
                    <a:pt x="1815" y="893"/>
                  </a:lnTo>
                  <a:lnTo>
                    <a:pt x="1808" y="903"/>
                  </a:lnTo>
                  <a:lnTo>
                    <a:pt x="1801" y="912"/>
                  </a:lnTo>
                  <a:lnTo>
                    <a:pt x="1792" y="920"/>
                  </a:lnTo>
                  <a:lnTo>
                    <a:pt x="1772" y="938"/>
                  </a:lnTo>
                  <a:lnTo>
                    <a:pt x="1748" y="954"/>
                  </a:lnTo>
                  <a:lnTo>
                    <a:pt x="1725" y="971"/>
                  </a:lnTo>
                  <a:lnTo>
                    <a:pt x="1702" y="987"/>
                  </a:lnTo>
                  <a:lnTo>
                    <a:pt x="916" y="9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Freeform 209"/>
            <p:cNvSpPr/>
            <p:nvPr/>
          </p:nvSpPr>
          <p:spPr>
            <a:xfrm>
              <a:off x="6238440" y="5265360"/>
              <a:ext cx="311040" cy="2325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947" h="1344">
                  <a:moveTo>
                    <a:pt x="0" y="1293"/>
                  </a:moveTo>
                  <a:lnTo>
                    <a:pt x="1418" y="1344"/>
                  </a:lnTo>
                  <a:lnTo>
                    <a:pt x="1947" y="285"/>
                  </a:lnTo>
                  <a:lnTo>
                    <a:pt x="1509" y="253"/>
                  </a:lnTo>
                  <a:lnTo>
                    <a:pt x="1556" y="65"/>
                  </a:lnTo>
                  <a:lnTo>
                    <a:pt x="880" y="0"/>
                  </a:lnTo>
                  <a:lnTo>
                    <a:pt x="0" y="12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Freeform 210"/>
            <p:cNvSpPr/>
            <p:nvPr/>
          </p:nvSpPr>
          <p:spPr>
            <a:xfrm>
              <a:off x="6165720" y="5011560"/>
              <a:ext cx="272880" cy="11412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06" h="651">
                  <a:moveTo>
                    <a:pt x="1348" y="651"/>
                  </a:moveTo>
                  <a:lnTo>
                    <a:pt x="1341" y="641"/>
                  </a:lnTo>
                  <a:lnTo>
                    <a:pt x="1328" y="632"/>
                  </a:lnTo>
                  <a:lnTo>
                    <a:pt x="1312" y="625"/>
                  </a:lnTo>
                  <a:lnTo>
                    <a:pt x="1292" y="618"/>
                  </a:lnTo>
                  <a:lnTo>
                    <a:pt x="1269" y="611"/>
                  </a:lnTo>
                  <a:lnTo>
                    <a:pt x="1242" y="606"/>
                  </a:lnTo>
                  <a:lnTo>
                    <a:pt x="1211" y="602"/>
                  </a:lnTo>
                  <a:lnTo>
                    <a:pt x="1180" y="597"/>
                  </a:lnTo>
                  <a:lnTo>
                    <a:pt x="1145" y="593"/>
                  </a:lnTo>
                  <a:lnTo>
                    <a:pt x="1109" y="591"/>
                  </a:lnTo>
                  <a:lnTo>
                    <a:pt x="1070" y="589"/>
                  </a:lnTo>
                  <a:lnTo>
                    <a:pt x="1030" y="586"/>
                  </a:lnTo>
                  <a:lnTo>
                    <a:pt x="946" y="584"/>
                  </a:lnTo>
                  <a:lnTo>
                    <a:pt x="861" y="584"/>
                  </a:lnTo>
                  <a:lnTo>
                    <a:pt x="776" y="584"/>
                  </a:lnTo>
                  <a:lnTo>
                    <a:pt x="692" y="585"/>
                  </a:lnTo>
                  <a:lnTo>
                    <a:pt x="612" y="586"/>
                  </a:lnTo>
                  <a:lnTo>
                    <a:pt x="540" y="589"/>
                  </a:lnTo>
                  <a:lnTo>
                    <a:pt x="476" y="590"/>
                  </a:lnTo>
                  <a:lnTo>
                    <a:pt x="423" y="590"/>
                  </a:lnTo>
                  <a:lnTo>
                    <a:pt x="384" y="590"/>
                  </a:lnTo>
                  <a:lnTo>
                    <a:pt x="361" y="588"/>
                  </a:lnTo>
                  <a:lnTo>
                    <a:pt x="331" y="582"/>
                  </a:lnTo>
                  <a:lnTo>
                    <a:pt x="299" y="575"/>
                  </a:lnTo>
                  <a:lnTo>
                    <a:pt x="284" y="570"/>
                  </a:lnTo>
                  <a:lnTo>
                    <a:pt x="268" y="564"/>
                  </a:lnTo>
                  <a:lnTo>
                    <a:pt x="254" y="557"/>
                  </a:lnTo>
                  <a:lnTo>
                    <a:pt x="240" y="549"/>
                  </a:lnTo>
                  <a:lnTo>
                    <a:pt x="227" y="540"/>
                  </a:lnTo>
                  <a:lnTo>
                    <a:pt x="214" y="528"/>
                  </a:lnTo>
                  <a:lnTo>
                    <a:pt x="208" y="522"/>
                  </a:lnTo>
                  <a:lnTo>
                    <a:pt x="203" y="515"/>
                  </a:lnTo>
                  <a:lnTo>
                    <a:pt x="199" y="508"/>
                  </a:lnTo>
                  <a:lnTo>
                    <a:pt x="194" y="501"/>
                  </a:lnTo>
                  <a:lnTo>
                    <a:pt x="190" y="493"/>
                  </a:lnTo>
                  <a:lnTo>
                    <a:pt x="187" y="484"/>
                  </a:lnTo>
                  <a:lnTo>
                    <a:pt x="183" y="474"/>
                  </a:lnTo>
                  <a:lnTo>
                    <a:pt x="181" y="464"/>
                  </a:lnTo>
                  <a:lnTo>
                    <a:pt x="179" y="453"/>
                  </a:lnTo>
                  <a:lnTo>
                    <a:pt x="178" y="443"/>
                  </a:lnTo>
                  <a:lnTo>
                    <a:pt x="176" y="430"/>
                  </a:lnTo>
                  <a:lnTo>
                    <a:pt x="176" y="418"/>
                  </a:lnTo>
                  <a:lnTo>
                    <a:pt x="0" y="381"/>
                  </a:lnTo>
                  <a:lnTo>
                    <a:pt x="19" y="363"/>
                  </a:lnTo>
                  <a:lnTo>
                    <a:pt x="36" y="347"/>
                  </a:lnTo>
                  <a:lnTo>
                    <a:pt x="53" y="329"/>
                  </a:lnTo>
                  <a:lnTo>
                    <a:pt x="69" y="312"/>
                  </a:lnTo>
                  <a:lnTo>
                    <a:pt x="83" y="294"/>
                  </a:lnTo>
                  <a:lnTo>
                    <a:pt x="95" y="276"/>
                  </a:lnTo>
                  <a:lnTo>
                    <a:pt x="101" y="265"/>
                  </a:lnTo>
                  <a:lnTo>
                    <a:pt x="105" y="256"/>
                  </a:lnTo>
                  <a:lnTo>
                    <a:pt x="110" y="244"/>
                  </a:lnTo>
                  <a:lnTo>
                    <a:pt x="113" y="234"/>
                  </a:lnTo>
                  <a:lnTo>
                    <a:pt x="119" y="214"/>
                  </a:lnTo>
                  <a:lnTo>
                    <a:pt x="126" y="194"/>
                  </a:lnTo>
                  <a:lnTo>
                    <a:pt x="133" y="175"/>
                  </a:lnTo>
                  <a:lnTo>
                    <a:pt x="141" y="158"/>
                  </a:lnTo>
                  <a:lnTo>
                    <a:pt x="150" y="141"/>
                  </a:lnTo>
                  <a:lnTo>
                    <a:pt x="159" y="126"/>
                  </a:lnTo>
                  <a:lnTo>
                    <a:pt x="167" y="112"/>
                  </a:lnTo>
                  <a:lnTo>
                    <a:pt x="176" y="99"/>
                  </a:lnTo>
                  <a:lnTo>
                    <a:pt x="186" y="88"/>
                  </a:lnTo>
                  <a:lnTo>
                    <a:pt x="195" y="77"/>
                  </a:lnTo>
                  <a:lnTo>
                    <a:pt x="205" y="68"/>
                  </a:lnTo>
                  <a:lnTo>
                    <a:pt x="215" y="60"/>
                  </a:lnTo>
                  <a:lnTo>
                    <a:pt x="224" y="54"/>
                  </a:lnTo>
                  <a:lnTo>
                    <a:pt x="234" y="50"/>
                  </a:lnTo>
                  <a:lnTo>
                    <a:pt x="242" y="47"/>
                  </a:lnTo>
                  <a:lnTo>
                    <a:pt x="251" y="47"/>
                  </a:lnTo>
                  <a:lnTo>
                    <a:pt x="259" y="47"/>
                  </a:lnTo>
                  <a:lnTo>
                    <a:pt x="269" y="49"/>
                  </a:lnTo>
                  <a:lnTo>
                    <a:pt x="277" y="54"/>
                  </a:lnTo>
                  <a:lnTo>
                    <a:pt x="285" y="59"/>
                  </a:lnTo>
                  <a:lnTo>
                    <a:pt x="293" y="64"/>
                  </a:lnTo>
                  <a:lnTo>
                    <a:pt x="301" y="71"/>
                  </a:lnTo>
                  <a:lnTo>
                    <a:pt x="308" y="78"/>
                  </a:lnTo>
                  <a:lnTo>
                    <a:pt x="315" y="85"/>
                  </a:lnTo>
                  <a:lnTo>
                    <a:pt x="338" y="112"/>
                  </a:lnTo>
                  <a:lnTo>
                    <a:pt x="346" y="124"/>
                  </a:lnTo>
                  <a:lnTo>
                    <a:pt x="356" y="125"/>
                  </a:lnTo>
                  <a:lnTo>
                    <a:pt x="384" y="129"/>
                  </a:lnTo>
                  <a:lnTo>
                    <a:pt x="425" y="132"/>
                  </a:lnTo>
                  <a:lnTo>
                    <a:pt x="473" y="134"/>
                  </a:lnTo>
                  <a:lnTo>
                    <a:pt x="497" y="134"/>
                  </a:lnTo>
                  <a:lnTo>
                    <a:pt x="521" y="134"/>
                  </a:lnTo>
                  <a:lnTo>
                    <a:pt x="544" y="133"/>
                  </a:lnTo>
                  <a:lnTo>
                    <a:pt x="567" y="131"/>
                  </a:lnTo>
                  <a:lnTo>
                    <a:pt x="585" y="129"/>
                  </a:lnTo>
                  <a:lnTo>
                    <a:pt x="602" y="124"/>
                  </a:lnTo>
                  <a:lnTo>
                    <a:pt x="609" y="120"/>
                  </a:lnTo>
                  <a:lnTo>
                    <a:pt x="615" y="117"/>
                  </a:lnTo>
                  <a:lnTo>
                    <a:pt x="619" y="113"/>
                  </a:lnTo>
                  <a:lnTo>
                    <a:pt x="623" y="110"/>
                  </a:lnTo>
                  <a:lnTo>
                    <a:pt x="643" y="80"/>
                  </a:lnTo>
                  <a:lnTo>
                    <a:pt x="658" y="55"/>
                  </a:lnTo>
                  <a:lnTo>
                    <a:pt x="667" y="43"/>
                  </a:lnTo>
                  <a:lnTo>
                    <a:pt x="680" y="30"/>
                  </a:lnTo>
                  <a:lnTo>
                    <a:pt x="695" y="16"/>
                  </a:lnTo>
                  <a:lnTo>
                    <a:pt x="715" y="0"/>
                  </a:lnTo>
                  <a:lnTo>
                    <a:pt x="764" y="5"/>
                  </a:lnTo>
                  <a:lnTo>
                    <a:pt x="815" y="8"/>
                  </a:lnTo>
                  <a:lnTo>
                    <a:pt x="869" y="13"/>
                  </a:lnTo>
                  <a:lnTo>
                    <a:pt x="924" y="16"/>
                  </a:lnTo>
                  <a:lnTo>
                    <a:pt x="981" y="21"/>
                  </a:lnTo>
                  <a:lnTo>
                    <a:pt x="1040" y="25"/>
                  </a:lnTo>
                  <a:lnTo>
                    <a:pt x="1100" y="28"/>
                  </a:lnTo>
                  <a:lnTo>
                    <a:pt x="1161" y="33"/>
                  </a:lnTo>
                  <a:lnTo>
                    <a:pt x="1225" y="36"/>
                  </a:lnTo>
                  <a:lnTo>
                    <a:pt x="1290" y="40"/>
                  </a:lnTo>
                  <a:lnTo>
                    <a:pt x="1356" y="43"/>
                  </a:lnTo>
                  <a:lnTo>
                    <a:pt x="1423" y="46"/>
                  </a:lnTo>
                  <a:lnTo>
                    <a:pt x="1492" y="49"/>
                  </a:lnTo>
                  <a:lnTo>
                    <a:pt x="1562" y="53"/>
                  </a:lnTo>
                  <a:lnTo>
                    <a:pt x="1633" y="55"/>
                  </a:lnTo>
                  <a:lnTo>
                    <a:pt x="1706" y="57"/>
                  </a:lnTo>
                  <a:lnTo>
                    <a:pt x="1688" y="77"/>
                  </a:lnTo>
                  <a:lnTo>
                    <a:pt x="1644" y="131"/>
                  </a:lnTo>
                  <a:lnTo>
                    <a:pt x="1613" y="167"/>
                  </a:lnTo>
                  <a:lnTo>
                    <a:pt x="1581" y="208"/>
                  </a:lnTo>
                  <a:lnTo>
                    <a:pt x="1546" y="254"/>
                  </a:lnTo>
                  <a:lnTo>
                    <a:pt x="1509" y="301"/>
                  </a:lnTo>
                  <a:lnTo>
                    <a:pt x="1474" y="352"/>
                  </a:lnTo>
                  <a:lnTo>
                    <a:pt x="1442" y="402"/>
                  </a:lnTo>
                  <a:lnTo>
                    <a:pt x="1425" y="426"/>
                  </a:lnTo>
                  <a:lnTo>
                    <a:pt x="1411" y="451"/>
                  </a:lnTo>
                  <a:lnTo>
                    <a:pt x="1397" y="476"/>
                  </a:lnTo>
                  <a:lnTo>
                    <a:pt x="1384" y="499"/>
                  </a:lnTo>
                  <a:lnTo>
                    <a:pt x="1374" y="522"/>
                  </a:lnTo>
                  <a:lnTo>
                    <a:pt x="1364" y="544"/>
                  </a:lnTo>
                  <a:lnTo>
                    <a:pt x="1356" y="565"/>
                  </a:lnTo>
                  <a:lnTo>
                    <a:pt x="1350" y="585"/>
                  </a:lnTo>
                  <a:lnTo>
                    <a:pt x="1347" y="604"/>
                  </a:lnTo>
                  <a:lnTo>
                    <a:pt x="1345" y="622"/>
                  </a:lnTo>
                  <a:lnTo>
                    <a:pt x="1346" y="637"/>
                  </a:lnTo>
                  <a:lnTo>
                    <a:pt x="1348" y="6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Freeform 211"/>
            <p:cNvSpPr/>
            <p:nvPr/>
          </p:nvSpPr>
          <p:spPr>
            <a:xfrm>
              <a:off x="7064280" y="5011560"/>
              <a:ext cx="285480" cy="1944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1792" h="1120">
                  <a:moveTo>
                    <a:pt x="1038" y="688"/>
                  </a:moveTo>
                  <a:lnTo>
                    <a:pt x="1052" y="695"/>
                  </a:lnTo>
                  <a:lnTo>
                    <a:pt x="1065" y="701"/>
                  </a:lnTo>
                  <a:lnTo>
                    <a:pt x="1076" y="708"/>
                  </a:lnTo>
                  <a:lnTo>
                    <a:pt x="1084" y="715"/>
                  </a:lnTo>
                  <a:lnTo>
                    <a:pt x="1091" y="722"/>
                  </a:lnTo>
                  <a:lnTo>
                    <a:pt x="1095" y="729"/>
                  </a:lnTo>
                  <a:lnTo>
                    <a:pt x="1099" y="737"/>
                  </a:lnTo>
                  <a:lnTo>
                    <a:pt x="1101" y="745"/>
                  </a:lnTo>
                  <a:lnTo>
                    <a:pt x="1106" y="778"/>
                  </a:lnTo>
                  <a:lnTo>
                    <a:pt x="1109" y="812"/>
                  </a:lnTo>
                  <a:lnTo>
                    <a:pt x="1112" y="820"/>
                  </a:lnTo>
                  <a:lnTo>
                    <a:pt x="1114" y="827"/>
                  </a:lnTo>
                  <a:lnTo>
                    <a:pt x="1116" y="833"/>
                  </a:lnTo>
                  <a:lnTo>
                    <a:pt x="1120" y="840"/>
                  </a:lnTo>
                  <a:lnTo>
                    <a:pt x="1129" y="852"/>
                  </a:lnTo>
                  <a:lnTo>
                    <a:pt x="1140" y="863"/>
                  </a:lnTo>
                  <a:lnTo>
                    <a:pt x="1154" y="875"/>
                  </a:lnTo>
                  <a:lnTo>
                    <a:pt x="1169" y="884"/>
                  </a:lnTo>
                  <a:lnTo>
                    <a:pt x="1185" y="894"/>
                  </a:lnTo>
                  <a:lnTo>
                    <a:pt x="1204" y="903"/>
                  </a:lnTo>
                  <a:lnTo>
                    <a:pt x="1223" y="911"/>
                  </a:lnTo>
                  <a:lnTo>
                    <a:pt x="1244" y="919"/>
                  </a:lnTo>
                  <a:lnTo>
                    <a:pt x="1266" y="926"/>
                  </a:lnTo>
                  <a:lnTo>
                    <a:pt x="1289" y="933"/>
                  </a:lnTo>
                  <a:lnTo>
                    <a:pt x="1337" y="947"/>
                  </a:lnTo>
                  <a:lnTo>
                    <a:pt x="1386" y="959"/>
                  </a:lnTo>
                  <a:lnTo>
                    <a:pt x="1398" y="963"/>
                  </a:lnTo>
                  <a:lnTo>
                    <a:pt x="1410" y="966"/>
                  </a:lnTo>
                  <a:lnTo>
                    <a:pt x="1420" y="971"/>
                  </a:lnTo>
                  <a:lnTo>
                    <a:pt x="1431" y="974"/>
                  </a:lnTo>
                  <a:lnTo>
                    <a:pt x="1448" y="985"/>
                  </a:lnTo>
                  <a:lnTo>
                    <a:pt x="1463" y="995"/>
                  </a:lnTo>
                  <a:lnTo>
                    <a:pt x="1477" y="1007"/>
                  </a:lnTo>
                  <a:lnTo>
                    <a:pt x="1488" y="1020"/>
                  </a:lnTo>
                  <a:lnTo>
                    <a:pt x="1497" y="1033"/>
                  </a:lnTo>
                  <a:lnTo>
                    <a:pt x="1505" y="1044"/>
                  </a:lnTo>
                  <a:lnTo>
                    <a:pt x="1511" y="1057"/>
                  </a:lnTo>
                  <a:lnTo>
                    <a:pt x="1516" y="1068"/>
                  </a:lnTo>
                  <a:lnTo>
                    <a:pt x="1519" y="1078"/>
                  </a:lnTo>
                  <a:lnTo>
                    <a:pt x="1522" y="1088"/>
                  </a:lnTo>
                  <a:lnTo>
                    <a:pt x="1524" y="1102"/>
                  </a:lnTo>
                  <a:lnTo>
                    <a:pt x="1524" y="1106"/>
                  </a:lnTo>
                  <a:lnTo>
                    <a:pt x="150" y="1120"/>
                  </a:lnTo>
                  <a:lnTo>
                    <a:pt x="176" y="680"/>
                  </a:lnTo>
                  <a:lnTo>
                    <a:pt x="176" y="674"/>
                  </a:lnTo>
                  <a:lnTo>
                    <a:pt x="174" y="659"/>
                  </a:lnTo>
                  <a:lnTo>
                    <a:pt x="170" y="637"/>
                  </a:lnTo>
                  <a:lnTo>
                    <a:pt x="167" y="610"/>
                  </a:lnTo>
                  <a:lnTo>
                    <a:pt x="162" y="581"/>
                  </a:lnTo>
                  <a:lnTo>
                    <a:pt x="159" y="551"/>
                  </a:lnTo>
                  <a:lnTo>
                    <a:pt x="154" y="525"/>
                  </a:lnTo>
                  <a:lnTo>
                    <a:pt x="150" y="505"/>
                  </a:lnTo>
                  <a:lnTo>
                    <a:pt x="148" y="495"/>
                  </a:lnTo>
                  <a:lnTo>
                    <a:pt x="145" y="485"/>
                  </a:lnTo>
                  <a:lnTo>
                    <a:pt x="140" y="474"/>
                  </a:lnTo>
                  <a:lnTo>
                    <a:pt x="134" y="464"/>
                  </a:lnTo>
                  <a:lnTo>
                    <a:pt x="119" y="442"/>
                  </a:lnTo>
                  <a:lnTo>
                    <a:pt x="101" y="417"/>
                  </a:lnTo>
                  <a:lnTo>
                    <a:pt x="82" y="391"/>
                  </a:lnTo>
                  <a:lnTo>
                    <a:pt x="61" y="365"/>
                  </a:lnTo>
                  <a:lnTo>
                    <a:pt x="39" y="338"/>
                  </a:lnTo>
                  <a:lnTo>
                    <a:pt x="18" y="308"/>
                  </a:lnTo>
                  <a:lnTo>
                    <a:pt x="9" y="294"/>
                  </a:lnTo>
                  <a:lnTo>
                    <a:pt x="3" y="283"/>
                  </a:lnTo>
                  <a:lnTo>
                    <a:pt x="1" y="271"/>
                  </a:lnTo>
                  <a:lnTo>
                    <a:pt x="0" y="261"/>
                  </a:lnTo>
                  <a:lnTo>
                    <a:pt x="1" y="250"/>
                  </a:lnTo>
                  <a:lnTo>
                    <a:pt x="3" y="240"/>
                  </a:lnTo>
                  <a:lnTo>
                    <a:pt x="7" y="229"/>
                  </a:lnTo>
                  <a:lnTo>
                    <a:pt x="10" y="220"/>
                  </a:lnTo>
                  <a:lnTo>
                    <a:pt x="15" y="208"/>
                  </a:lnTo>
                  <a:lnTo>
                    <a:pt x="20" y="198"/>
                  </a:lnTo>
                  <a:lnTo>
                    <a:pt x="24" y="185"/>
                  </a:lnTo>
                  <a:lnTo>
                    <a:pt x="28" y="172"/>
                  </a:lnTo>
                  <a:lnTo>
                    <a:pt x="30" y="157"/>
                  </a:lnTo>
                  <a:lnTo>
                    <a:pt x="31" y="141"/>
                  </a:lnTo>
                  <a:lnTo>
                    <a:pt x="30" y="124"/>
                  </a:lnTo>
                  <a:lnTo>
                    <a:pt x="27" y="104"/>
                  </a:lnTo>
                  <a:lnTo>
                    <a:pt x="90" y="103"/>
                  </a:lnTo>
                  <a:lnTo>
                    <a:pt x="147" y="102"/>
                  </a:lnTo>
                  <a:lnTo>
                    <a:pt x="200" y="101"/>
                  </a:lnTo>
                  <a:lnTo>
                    <a:pt x="245" y="99"/>
                  </a:lnTo>
                  <a:lnTo>
                    <a:pt x="285" y="98"/>
                  </a:lnTo>
                  <a:lnTo>
                    <a:pt x="319" y="96"/>
                  </a:lnTo>
                  <a:lnTo>
                    <a:pt x="346" y="95"/>
                  </a:lnTo>
                  <a:lnTo>
                    <a:pt x="367" y="92"/>
                  </a:lnTo>
                  <a:lnTo>
                    <a:pt x="375" y="80"/>
                  </a:lnTo>
                  <a:lnTo>
                    <a:pt x="384" y="68"/>
                  </a:lnTo>
                  <a:lnTo>
                    <a:pt x="392" y="57"/>
                  </a:lnTo>
                  <a:lnTo>
                    <a:pt x="400" y="49"/>
                  </a:lnTo>
                  <a:lnTo>
                    <a:pt x="409" y="42"/>
                  </a:lnTo>
                  <a:lnTo>
                    <a:pt x="416" y="36"/>
                  </a:lnTo>
                  <a:lnTo>
                    <a:pt x="424" y="30"/>
                  </a:lnTo>
                  <a:lnTo>
                    <a:pt x="430" y="27"/>
                  </a:lnTo>
                  <a:lnTo>
                    <a:pt x="441" y="21"/>
                  </a:lnTo>
                  <a:lnTo>
                    <a:pt x="451" y="19"/>
                  </a:lnTo>
                  <a:lnTo>
                    <a:pt x="456" y="18"/>
                  </a:lnTo>
                  <a:lnTo>
                    <a:pt x="459" y="18"/>
                  </a:lnTo>
                  <a:lnTo>
                    <a:pt x="583" y="0"/>
                  </a:lnTo>
                  <a:lnTo>
                    <a:pt x="706" y="124"/>
                  </a:lnTo>
                  <a:lnTo>
                    <a:pt x="757" y="120"/>
                  </a:lnTo>
                  <a:lnTo>
                    <a:pt x="803" y="118"/>
                  </a:lnTo>
                  <a:lnTo>
                    <a:pt x="845" y="118"/>
                  </a:lnTo>
                  <a:lnTo>
                    <a:pt x="882" y="119"/>
                  </a:lnTo>
                  <a:lnTo>
                    <a:pt x="912" y="120"/>
                  </a:lnTo>
                  <a:lnTo>
                    <a:pt x="935" y="122"/>
                  </a:lnTo>
                  <a:lnTo>
                    <a:pt x="949" y="124"/>
                  </a:lnTo>
                  <a:lnTo>
                    <a:pt x="954" y="124"/>
                  </a:lnTo>
                  <a:lnTo>
                    <a:pt x="1046" y="124"/>
                  </a:lnTo>
                  <a:lnTo>
                    <a:pt x="1109" y="187"/>
                  </a:lnTo>
                  <a:lnTo>
                    <a:pt x="1134" y="179"/>
                  </a:lnTo>
                  <a:lnTo>
                    <a:pt x="1157" y="173"/>
                  </a:lnTo>
                  <a:lnTo>
                    <a:pt x="1178" y="167"/>
                  </a:lnTo>
                  <a:lnTo>
                    <a:pt x="1197" y="164"/>
                  </a:lnTo>
                  <a:lnTo>
                    <a:pt x="1213" y="161"/>
                  </a:lnTo>
                  <a:lnTo>
                    <a:pt x="1229" y="160"/>
                  </a:lnTo>
                  <a:lnTo>
                    <a:pt x="1243" y="160"/>
                  </a:lnTo>
                  <a:lnTo>
                    <a:pt x="1253" y="160"/>
                  </a:lnTo>
                  <a:lnTo>
                    <a:pt x="1272" y="162"/>
                  </a:lnTo>
                  <a:lnTo>
                    <a:pt x="1285" y="166"/>
                  </a:lnTo>
                  <a:lnTo>
                    <a:pt x="1292" y="169"/>
                  </a:lnTo>
                  <a:lnTo>
                    <a:pt x="1294" y="171"/>
                  </a:lnTo>
                  <a:lnTo>
                    <a:pt x="1296" y="167"/>
                  </a:lnTo>
                  <a:lnTo>
                    <a:pt x="1302" y="159"/>
                  </a:lnTo>
                  <a:lnTo>
                    <a:pt x="1312" y="148"/>
                  </a:lnTo>
                  <a:lnTo>
                    <a:pt x="1323" y="139"/>
                  </a:lnTo>
                  <a:lnTo>
                    <a:pt x="1329" y="136"/>
                  </a:lnTo>
                  <a:lnTo>
                    <a:pt x="1337" y="132"/>
                  </a:lnTo>
                  <a:lnTo>
                    <a:pt x="1344" y="131"/>
                  </a:lnTo>
                  <a:lnTo>
                    <a:pt x="1352" y="131"/>
                  </a:lnTo>
                  <a:lnTo>
                    <a:pt x="1361" y="133"/>
                  </a:lnTo>
                  <a:lnTo>
                    <a:pt x="1369" y="138"/>
                  </a:lnTo>
                  <a:lnTo>
                    <a:pt x="1378" y="145"/>
                  </a:lnTo>
                  <a:lnTo>
                    <a:pt x="1386" y="155"/>
                  </a:lnTo>
                  <a:lnTo>
                    <a:pt x="1391" y="161"/>
                  </a:lnTo>
                  <a:lnTo>
                    <a:pt x="1397" y="166"/>
                  </a:lnTo>
                  <a:lnTo>
                    <a:pt x="1403" y="169"/>
                  </a:lnTo>
                  <a:lnTo>
                    <a:pt x="1410" y="173"/>
                  </a:lnTo>
                  <a:lnTo>
                    <a:pt x="1418" y="175"/>
                  </a:lnTo>
                  <a:lnTo>
                    <a:pt x="1426" y="176"/>
                  </a:lnTo>
                  <a:lnTo>
                    <a:pt x="1434" y="178"/>
                  </a:lnTo>
                  <a:lnTo>
                    <a:pt x="1445" y="179"/>
                  </a:lnTo>
                  <a:lnTo>
                    <a:pt x="1465" y="179"/>
                  </a:lnTo>
                  <a:lnTo>
                    <a:pt x="1488" y="178"/>
                  </a:lnTo>
                  <a:lnTo>
                    <a:pt x="1511" y="175"/>
                  </a:lnTo>
                  <a:lnTo>
                    <a:pt x="1537" y="172"/>
                  </a:lnTo>
                  <a:lnTo>
                    <a:pt x="1592" y="164"/>
                  </a:lnTo>
                  <a:lnTo>
                    <a:pt x="1648" y="157"/>
                  </a:lnTo>
                  <a:lnTo>
                    <a:pt x="1676" y="154"/>
                  </a:lnTo>
                  <a:lnTo>
                    <a:pt x="1704" y="153"/>
                  </a:lnTo>
                  <a:lnTo>
                    <a:pt x="1731" y="153"/>
                  </a:lnTo>
                  <a:lnTo>
                    <a:pt x="1758" y="155"/>
                  </a:lnTo>
                  <a:lnTo>
                    <a:pt x="1769" y="158"/>
                  </a:lnTo>
                  <a:lnTo>
                    <a:pt x="1779" y="159"/>
                  </a:lnTo>
                  <a:lnTo>
                    <a:pt x="1785" y="161"/>
                  </a:lnTo>
                  <a:lnTo>
                    <a:pt x="1789" y="164"/>
                  </a:lnTo>
                  <a:lnTo>
                    <a:pt x="1792" y="167"/>
                  </a:lnTo>
                  <a:lnTo>
                    <a:pt x="1792" y="169"/>
                  </a:lnTo>
                  <a:lnTo>
                    <a:pt x="1789" y="173"/>
                  </a:lnTo>
                  <a:lnTo>
                    <a:pt x="1785" y="176"/>
                  </a:lnTo>
                  <a:lnTo>
                    <a:pt x="1772" y="185"/>
                  </a:lnTo>
                  <a:lnTo>
                    <a:pt x="1753" y="193"/>
                  </a:lnTo>
                  <a:lnTo>
                    <a:pt x="1730" y="202"/>
                  </a:lnTo>
                  <a:lnTo>
                    <a:pt x="1703" y="212"/>
                  </a:lnTo>
                  <a:lnTo>
                    <a:pt x="1640" y="230"/>
                  </a:lnTo>
                  <a:lnTo>
                    <a:pt x="1574" y="249"/>
                  </a:lnTo>
                  <a:lnTo>
                    <a:pt x="1512" y="265"/>
                  </a:lnTo>
                  <a:lnTo>
                    <a:pt x="1463" y="279"/>
                  </a:lnTo>
                  <a:lnTo>
                    <a:pt x="1445" y="285"/>
                  </a:lnTo>
                  <a:lnTo>
                    <a:pt x="1426" y="292"/>
                  </a:lnTo>
                  <a:lnTo>
                    <a:pt x="1409" y="299"/>
                  </a:lnTo>
                  <a:lnTo>
                    <a:pt x="1393" y="307"/>
                  </a:lnTo>
                  <a:lnTo>
                    <a:pt x="1378" y="315"/>
                  </a:lnTo>
                  <a:lnTo>
                    <a:pt x="1365" y="325"/>
                  </a:lnTo>
                  <a:lnTo>
                    <a:pt x="1352" y="334"/>
                  </a:lnTo>
                  <a:lnTo>
                    <a:pt x="1342" y="344"/>
                  </a:lnTo>
                  <a:lnTo>
                    <a:pt x="1331" y="354"/>
                  </a:lnTo>
                  <a:lnTo>
                    <a:pt x="1322" y="365"/>
                  </a:lnTo>
                  <a:lnTo>
                    <a:pt x="1313" y="376"/>
                  </a:lnTo>
                  <a:lnTo>
                    <a:pt x="1306" y="387"/>
                  </a:lnTo>
                  <a:lnTo>
                    <a:pt x="1292" y="410"/>
                  </a:lnTo>
                  <a:lnTo>
                    <a:pt x="1280" y="432"/>
                  </a:lnTo>
                  <a:lnTo>
                    <a:pt x="1268" y="454"/>
                  </a:lnTo>
                  <a:lnTo>
                    <a:pt x="1255" y="478"/>
                  </a:lnTo>
                  <a:lnTo>
                    <a:pt x="1241" y="500"/>
                  </a:lnTo>
                  <a:lnTo>
                    <a:pt x="1226" y="521"/>
                  </a:lnTo>
                  <a:lnTo>
                    <a:pt x="1210" y="542"/>
                  </a:lnTo>
                  <a:lnTo>
                    <a:pt x="1194" y="563"/>
                  </a:lnTo>
                  <a:lnTo>
                    <a:pt x="1176" y="582"/>
                  </a:lnTo>
                  <a:lnTo>
                    <a:pt x="1159" y="600"/>
                  </a:lnTo>
                  <a:lnTo>
                    <a:pt x="1141" y="618"/>
                  </a:lnTo>
                  <a:lnTo>
                    <a:pt x="1123" y="633"/>
                  </a:lnTo>
                  <a:lnTo>
                    <a:pt x="1107" y="647"/>
                  </a:lnTo>
                  <a:lnTo>
                    <a:pt x="1091" y="659"/>
                  </a:lnTo>
                  <a:lnTo>
                    <a:pt x="1076" y="669"/>
                  </a:lnTo>
                  <a:lnTo>
                    <a:pt x="1062" y="679"/>
                  </a:lnTo>
                  <a:lnTo>
                    <a:pt x="1049" y="685"/>
                  </a:lnTo>
                  <a:lnTo>
                    <a:pt x="1038" y="6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Freeform 212"/>
            <p:cNvSpPr/>
            <p:nvPr/>
          </p:nvSpPr>
          <p:spPr>
            <a:xfrm>
              <a:off x="7331040" y="5235840"/>
              <a:ext cx="192960" cy="2455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1210" h="1423">
                  <a:moveTo>
                    <a:pt x="916" y="1423"/>
                  </a:moveTo>
                  <a:lnTo>
                    <a:pt x="915" y="1406"/>
                  </a:lnTo>
                  <a:lnTo>
                    <a:pt x="912" y="1392"/>
                  </a:lnTo>
                  <a:lnTo>
                    <a:pt x="910" y="1386"/>
                  </a:lnTo>
                  <a:lnTo>
                    <a:pt x="908" y="1381"/>
                  </a:lnTo>
                  <a:lnTo>
                    <a:pt x="905" y="1376"/>
                  </a:lnTo>
                  <a:lnTo>
                    <a:pt x="903" y="1373"/>
                  </a:lnTo>
                  <a:lnTo>
                    <a:pt x="896" y="1367"/>
                  </a:lnTo>
                  <a:lnTo>
                    <a:pt x="888" y="1364"/>
                  </a:lnTo>
                  <a:lnTo>
                    <a:pt x="879" y="1361"/>
                  </a:lnTo>
                  <a:lnTo>
                    <a:pt x="869" y="1360"/>
                  </a:lnTo>
                  <a:lnTo>
                    <a:pt x="847" y="1359"/>
                  </a:lnTo>
                  <a:lnTo>
                    <a:pt x="824" y="1357"/>
                  </a:lnTo>
                  <a:lnTo>
                    <a:pt x="811" y="1353"/>
                  </a:lnTo>
                  <a:lnTo>
                    <a:pt x="799" y="1348"/>
                  </a:lnTo>
                  <a:lnTo>
                    <a:pt x="793" y="1345"/>
                  </a:lnTo>
                  <a:lnTo>
                    <a:pt x="786" y="1341"/>
                  </a:lnTo>
                  <a:lnTo>
                    <a:pt x="780" y="1337"/>
                  </a:lnTo>
                  <a:lnTo>
                    <a:pt x="775" y="1331"/>
                  </a:lnTo>
                  <a:lnTo>
                    <a:pt x="775" y="1309"/>
                  </a:lnTo>
                  <a:lnTo>
                    <a:pt x="773" y="1288"/>
                  </a:lnTo>
                  <a:lnTo>
                    <a:pt x="771" y="1268"/>
                  </a:lnTo>
                  <a:lnTo>
                    <a:pt x="768" y="1249"/>
                  </a:lnTo>
                  <a:lnTo>
                    <a:pt x="763" y="1233"/>
                  </a:lnTo>
                  <a:lnTo>
                    <a:pt x="757" y="1216"/>
                  </a:lnTo>
                  <a:lnTo>
                    <a:pt x="749" y="1201"/>
                  </a:lnTo>
                  <a:lnTo>
                    <a:pt x="740" y="1187"/>
                  </a:lnTo>
                  <a:lnTo>
                    <a:pt x="728" y="1173"/>
                  </a:lnTo>
                  <a:lnTo>
                    <a:pt x="714" y="1160"/>
                  </a:lnTo>
                  <a:lnTo>
                    <a:pt x="698" y="1149"/>
                  </a:lnTo>
                  <a:lnTo>
                    <a:pt x="679" y="1138"/>
                  </a:lnTo>
                  <a:lnTo>
                    <a:pt x="658" y="1128"/>
                  </a:lnTo>
                  <a:lnTo>
                    <a:pt x="633" y="1117"/>
                  </a:lnTo>
                  <a:lnTo>
                    <a:pt x="606" y="1108"/>
                  </a:lnTo>
                  <a:lnTo>
                    <a:pt x="576" y="1098"/>
                  </a:lnTo>
                  <a:lnTo>
                    <a:pt x="546" y="1089"/>
                  </a:lnTo>
                  <a:lnTo>
                    <a:pt x="520" y="1080"/>
                  </a:lnTo>
                  <a:lnTo>
                    <a:pt x="498" y="1069"/>
                  </a:lnTo>
                  <a:lnTo>
                    <a:pt x="478" y="1059"/>
                  </a:lnTo>
                  <a:lnTo>
                    <a:pt x="462" y="1048"/>
                  </a:lnTo>
                  <a:lnTo>
                    <a:pt x="449" y="1037"/>
                  </a:lnTo>
                  <a:lnTo>
                    <a:pt x="437" y="1025"/>
                  </a:lnTo>
                  <a:lnTo>
                    <a:pt x="429" y="1012"/>
                  </a:lnTo>
                  <a:lnTo>
                    <a:pt x="423" y="1000"/>
                  </a:lnTo>
                  <a:lnTo>
                    <a:pt x="418" y="987"/>
                  </a:lnTo>
                  <a:lnTo>
                    <a:pt x="416" y="976"/>
                  </a:lnTo>
                  <a:lnTo>
                    <a:pt x="415" y="963"/>
                  </a:lnTo>
                  <a:lnTo>
                    <a:pt x="415" y="950"/>
                  </a:lnTo>
                  <a:lnTo>
                    <a:pt x="416" y="938"/>
                  </a:lnTo>
                  <a:lnTo>
                    <a:pt x="418" y="926"/>
                  </a:lnTo>
                  <a:lnTo>
                    <a:pt x="421" y="914"/>
                  </a:lnTo>
                  <a:lnTo>
                    <a:pt x="422" y="903"/>
                  </a:lnTo>
                  <a:lnTo>
                    <a:pt x="423" y="894"/>
                  </a:lnTo>
                  <a:lnTo>
                    <a:pt x="421" y="887"/>
                  </a:lnTo>
                  <a:lnTo>
                    <a:pt x="418" y="881"/>
                  </a:lnTo>
                  <a:lnTo>
                    <a:pt x="414" y="875"/>
                  </a:lnTo>
                  <a:lnTo>
                    <a:pt x="408" y="871"/>
                  </a:lnTo>
                  <a:lnTo>
                    <a:pt x="400" y="867"/>
                  </a:lnTo>
                  <a:lnTo>
                    <a:pt x="392" y="864"/>
                  </a:lnTo>
                  <a:lnTo>
                    <a:pt x="345" y="853"/>
                  </a:lnTo>
                  <a:lnTo>
                    <a:pt x="283" y="836"/>
                  </a:lnTo>
                  <a:lnTo>
                    <a:pt x="265" y="830"/>
                  </a:lnTo>
                  <a:lnTo>
                    <a:pt x="248" y="824"/>
                  </a:lnTo>
                  <a:lnTo>
                    <a:pt x="231" y="817"/>
                  </a:lnTo>
                  <a:lnTo>
                    <a:pt x="215" y="809"/>
                  </a:lnTo>
                  <a:lnTo>
                    <a:pt x="201" y="801"/>
                  </a:lnTo>
                  <a:lnTo>
                    <a:pt x="187" y="792"/>
                  </a:lnTo>
                  <a:lnTo>
                    <a:pt x="174" y="783"/>
                  </a:lnTo>
                  <a:lnTo>
                    <a:pt x="161" y="774"/>
                  </a:lnTo>
                  <a:lnTo>
                    <a:pt x="151" y="764"/>
                  </a:lnTo>
                  <a:lnTo>
                    <a:pt x="142" y="754"/>
                  </a:lnTo>
                  <a:lnTo>
                    <a:pt x="132" y="745"/>
                  </a:lnTo>
                  <a:lnTo>
                    <a:pt x="125" y="735"/>
                  </a:lnTo>
                  <a:lnTo>
                    <a:pt x="121" y="726"/>
                  </a:lnTo>
                  <a:lnTo>
                    <a:pt x="116" y="715"/>
                  </a:lnTo>
                  <a:lnTo>
                    <a:pt x="113" y="707"/>
                  </a:lnTo>
                  <a:lnTo>
                    <a:pt x="112" y="698"/>
                  </a:lnTo>
                  <a:lnTo>
                    <a:pt x="111" y="690"/>
                  </a:lnTo>
                  <a:lnTo>
                    <a:pt x="109" y="681"/>
                  </a:lnTo>
                  <a:lnTo>
                    <a:pt x="104" y="673"/>
                  </a:lnTo>
                  <a:lnTo>
                    <a:pt x="97" y="666"/>
                  </a:lnTo>
                  <a:lnTo>
                    <a:pt x="90" y="659"/>
                  </a:lnTo>
                  <a:lnTo>
                    <a:pt x="82" y="653"/>
                  </a:lnTo>
                  <a:lnTo>
                    <a:pt x="74" y="648"/>
                  </a:lnTo>
                  <a:lnTo>
                    <a:pt x="64" y="642"/>
                  </a:lnTo>
                  <a:lnTo>
                    <a:pt x="32" y="625"/>
                  </a:lnTo>
                  <a:lnTo>
                    <a:pt x="18" y="620"/>
                  </a:lnTo>
                  <a:lnTo>
                    <a:pt x="6" y="505"/>
                  </a:lnTo>
                  <a:lnTo>
                    <a:pt x="3" y="505"/>
                  </a:lnTo>
                  <a:lnTo>
                    <a:pt x="1" y="498"/>
                  </a:lnTo>
                  <a:lnTo>
                    <a:pt x="0" y="489"/>
                  </a:lnTo>
                  <a:lnTo>
                    <a:pt x="0" y="478"/>
                  </a:lnTo>
                  <a:lnTo>
                    <a:pt x="0" y="467"/>
                  </a:lnTo>
                  <a:lnTo>
                    <a:pt x="1" y="454"/>
                  </a:lnTo>
                  <a:lnTo>
                    <a:pt x="3" y="441"/>
                  </a:lnTo>
                  <a:lnTo>
                    <a:pt x="5" y="427"/>
                  </a:lnTo>
                  <a:lnTo>
                    <a:pt x="7" y="413"/>
                  </a:lnTo>
                  <a:lnTo>
                    <a:pt x="12" y="400"/>
                  </a:lnTo>
                  <a:lnTo>
                    <a:pt x="17" y="388"/>
                  </a:lnTo>
                  <a:lnTo>
                    <a:pt x="22" y="377"/>
                  </a:lnTo>
                  <a:lnTo>
                    <a:pt x="28" y="367"/>
                  </a:lnTo>
                  <a:lnTo>
                    <a:pt x="32" y="363"/>
                  </a:lnTo>
                  <a:lnTo>
                    <a:pt x="36" y="359"/>
                  </a:lnTo>
                  <a:lnTo>
                    <a:pt x="41" y="356"/>
                  </a:lnTo>
                  <a:lnTo>
                    <a:pt x="45" y="353"/>
                  </a:lnTo>
                  <a:lnTo>
                    <a:pt x="50" y="351"/>
                  </a:lnTo>
                  <a:lnTo>
                    <a:pt x="55" y="350"/>
                  </a:lnTo>
                  <a:lnTo>
                    <a:pt x="61" y="350"/>
                  </a:lnTo>
                  <a:lnTo>
                    <a:pt x="67" y="350"/>
                  </a:lnTo>
                  <a:lnTo>
                    <a:pt x="104" y="281"/>
                  </a:lnTo>
                  <a:lnTo>
                    <a:pt x="97" y="274"/>
                  </a:lnTo>
                  <a:lnTo>
                    <a:pt x="91" y="267"/>
                  </a:lnTo>
                  <a:lnTo>
                    <a:pt x="87" y="259"/>
                  </a:lnTo>
                  <a:lnTo>
                    <a:pt x="84" y="250"/>
                  </a:lnTo>
                  <a:lnTo>
                    <a:pt x="82" y="241"/>
                  </a:lnTo>
                  <a:lnTo>
                    <a:pt x="81" y="232"/>
                  </a:lnTo>
                  <a:lnTo>
                    <a:pt x="82" y="222"/>
                  </a:lnTo>
                  <a:lnTo>
                    <a:pt x="84" y="213"/>
                  </a:lnTo>
                  <a:lnTo>
                    <a:pt x="89" y="204"/>
                  </a:lnTo>
                  <a:lnTo>
                    <a:pt x="95" y="194"/>
                  </a:lnTo>
                  <a:lnTo>
                    <a:pt x="102" y="186"/>
                  </a:lnTo>
                  <a:lnTo>
                    <a:pt x="112" y="178"/>
                  </a:lnTo>
                  <a:lnTo>
                    <a:pt x="124" y="171"/>
                  </a:lnTo>
                  <a:lnTo>
                    <a:pt x="138" y="165"/>
                  </a:lnTo>
                  <a:lnTo>
                    <a:pt x="154" y="160"/>
                  </a:lnTo>
                  <a:lnTo>
                    <a:pt x="173" y="156"/>
                  </a:lnTo>
                  <a:lnTo>
                    <a:pt x="142" y="27"/>
                  </a:lnTo>
                  <a:lnTo>
                    <a:pt x="830" y="0"/>
                  </a:lnTo>
                  <a:lnTo>
                    <a:pt x="852" y="25"/>
                  </a:lnTo>
                  <a:lnTo>
                    <a:pt x="876" y="48"/>
                  </a:lnTo>
                  <a:lnTo>
                    <a:pt x="903" y="72"/>
                  </a:lnTo>
                  <a:lnTo>
                    <a:pt x="930" y="96"/>
                  </a:lnTo>
                  <a:lnTo>
                    <a:pt x="1077" y="629"/>
                  </a:lnTo>
                  <a:lnTo>
                    <a:pt x="1082" y="639"/>
                  </a:lnTo>
                  <a:lnTo>
                    <a:pt x="1088" y="650"/>
                  </a:lnTo>
                  <a:lnTo>
                    <a:pt x="1095" y="660"/>
                  </a:lnTo>
                  <a:lnTo>
                    <a:pt x="1102" y="672"/>
                  </a:lnTo>
                  <a:lnTo>
                    <a:pt x="1119" y="693"/>
                  </a:lnTo>
                  <a:lnTo>
                    <a:pt x="1137" y="715"/>
                  </a:lnTo>
                  <a:lnTo>
                    <a:pt x="1157" y="735"/>
                  </a:lnTo>
                  <a:lnTo>
                    <a:pt x="1175" y="753"/>
                  </a:lnTo>
                  <a:lnTo>
                    <a:pt x="1194" y="769"/>
                  </a:lnTo>
                  <a:lnTo>
                    <a:pt x="1210" y="782"/>
                  </a:lnTo>
                  <a:lnTo>
                    <a:pt x="1188" y="806"/>
                  </a:lnTo>
                  <a:lnTo>
                    <a:pt x="1169" y="831"/>
                  </a:lnTo>
                  <a:lnTo>
                    <a:pt x="1161" y="841"/>
                  </a:lnTo>
                  <a:lnTo>
                    <a:pt x="1154" y="853"/>
                  </a:lnTo>
                  <a:lnTo>
                    <a:pt x="1148" y="865"/>
                  </a:lnTo>
                  <a:lnTo>
                    <a:pt x="1143" y="877"/>
                  </a:lnTo>
                  <a:lnTo>
                    <a:pt x="1138" y="889"/>
                  </a:lnTo>
                  <a:lnTo>
                    <a:pt x="1134" y="902"/>
                  </a:lnTo>
                  <a:lnTo>
                    <a:pt x="1131" y="915"/>
                  </a:lnTo>
                  <a:lnTo>
                    <a:pt x="1127" y="930"/>
                  </a:lnTo>
                  <a:lnTo>
                    <a:pt x="1126" y="945"/>
                  </a:lnTo>
                  <a:lnTo>
                    <a:pt x="1124" y="963"/>
                  </a:lnTo>
                  <a:lnTo>
                    <a:pt x="1124" y="980"/>
                  </a:lnTo>
                  <a:lnTo>
                    <a:pt x="1124" y="1000"/>
                  </a:lnTo>
                  <a:lnTo>
                    <a:pt x="1124" y="1041"/>
                  </a:lnTo>
                  <a:lnTo>
                    <a:pt x="1125" y="1081"/>
                  </a:lnTo>
                  <a:lnTo>
                    <a:pt x="1127" y="1119"/>
                  </a:lnTo>
                  <a:lnTo>
                    <a:pt x="1131" y="1156"/>
                  </a:lnTo>
                  <a:lnTo>
                    <a:pt x="1133" y="1186"/>
                  </a:lnTo>
                  <a:lnTo>
                    <a:pt x="1136" y="1209"/>
                  </a:lnTo>
                  <a:lnTo>
                    <a:pt x="1137" y="1225"/>
                  </a:lnTo>
                  <a:lnTo>
                    <a:pt x="1138" y="1230"/>
                  </a:lnTo>
                  <a:lnTo>
                    <a:pt x="1123" y="1257"/>
                  </a:lnTo>
                  <a:lnTo>
                    <a:pt x="1108" y="1281"/>
                  </a:lnTo>
                  <a:lnTo>
                    <a:pt x="1094" y="1299"/>
                  </a:lnTo>
                  <a:lnTo>
                    <a:pt x="1080" y="1315"/>
                  </a:lnTo>
                  <a:lnTo>
                    <a:pt x="1067" y="1327"/>
                  </a:lnTo>
                  <a:lnTo>
                    <a:pt x="1053" y="1338"/>
                  </a:lnTo>
                  <a:lnTo>
                    <a:pt x="1040" y="1347"/>
                  </a:lnTo>
                  <a:lnTo>
                    <a:pt x="1027" y="1354"/>
                  </a:lnTo>
                  <a:lnTo>
                    <a:pt x="1001" y="1367"/>
                  </a:lnTo>
                  <a:lnTo>
                    <a:pt x="974" y="1380"/>
                  </a:lnTo>
                  <a:lnTo>
                    <a:pt x="960" y="1388"/>
                  </a:lnTo>
                  <a:lnTo>
                    <a:pt x="946" y="1397"/>
                  </a:lnTo>
                  <a:lnTo>
                    <a:pt x="931" y="1409"/>
                  </a:lnTo>
                  <a:lnTo>
                    <a:pt x="916" y="14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Freeform 213"/>
            <p:cNvSpPr/>
            <p:nvPr/>
          </p:nvSpPr>
          <p:spPr>
            <a:xfrm>
              <a:off x="7767360" y="5246280"/>
              <a:ext cx="149040" cy="1598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32" h="925">
                  <a:moveTo>
                    <a:pt x="10" y="740"/>
                  </a:moveTo>
                  <a:lnTo>
                    <a:pt x="6" y="735"/>
                  </a:lnTo>
                  <a:lnTo>
                    <a:pt x="2" y="729"/>
                  </a:lnTo>
                  <a:lnTo>
                    <a:pt x="1" y="723"/>
                  </a:lnTo>
                  <a:lnTo>
                    <a:pt x="0" y="717"/>
                  </a:lnTo>
                  <a:lnTo>
                    <a:pt x="2" y="704"/>
                  </a:lnTo>
                  <a:lnTo>
                    <a:pt x="7" y="690"/>
                  </a:lnTo>
                  <a:lnTo>
                    <a:pt x="11" y="674"/>
                  </a:lnTo>
                  <a:lnTo>
                    <a:pt x="17" y="654"/>
                  </a:lnTo>
                  <a:lnTo>
                    <a:pt x="18" y="642"/>
                  </a:lnTo>
                  <a:lnTo>
                    <a:pt x="20" y="631"/>
                  </a:lnTo>
                  <a:lnTo>
                    <a:pt x="20" y="617"/>
                  </a:lnTo>
                  <a:lnTo>
                    <a:pt x="18" y="601"/>
                  </a:lnTo>
                  <a:lnTo>
                    <a:pt x="32" y="598"/>
                  </a:lnTo>
                  <a:lnTo>
                    <a:pt x="44" y="593"/>
                  </a:lnTo>
                  <a:lnTo>
                    <a:pt x="54" y="589"/>
                  </a:lnTo>
                  <a:lnTo>
                    <a:pt x="62" y="582"/>
                  </a:lnTo>
                  <a:lnTo>
                    <a:pt x="68" y="573"/>
                  </a:lnTo>
                  <a:lnTo>
                    <a:pt x="72" y="564"/>
                  </a:lnTo>
                  <a:lnTo>
                    <a:pt x="76" y="555"/>
                  </a:lnTo>
                  <a:lnTo>
                    <a:pt x="78" y="544"/>
                  </a:lnTo>
                  <a:lnTo>
                    <a:pt x="79" y="534"/>
                  </a:lnTo>
                  <a:lnTo>
                    <a:pt x="80" y="522"/>
                  </a:lnTo>
                  <a:lnTo>
                    <a:pt x="80" y="510"/>
                  </a:lnTo>
                  <a:lnTo>
                    <a:pt x="79" y="497"/>
                  </a:lnTo>
                  <a:lnTo>
                    <a:pt x="77" y="472"/>
                  </a:lnTo>
                  <a:lnTo>
                    <a:pt x="73" y="446"/>
                  </a:lnTo>
                  <a:lnTo>
                    <a:pt x="92" y="434"/>
                  </a:lnTo>
                  <a:lnTo>
                    <a:pt x="105" y="425"/>
                  </a:lnTo>
                  <a:lnTo>
                    <a:pt x="110" y="422"/>
                  </a:lnTo>
                  <a:lnTo>
                    <a:pt x="113" y="418"/>
                  </a:lnTo>
                  <a:lnTo>
                    <a:pt x="117" y="413"/>
                  </a:lnTo>
                  <a:lnTo>
                    <a:pt x="119" y="409"/>
                  </a:lnTo>
                  <a:lnTo>
                    <a:pt x="127" y="383"/>
                  </a:lnTo>
                  <a:lnTo>
                    <a:pt x="142" y="332"/>
                  </a:lnTo>
                  <a:lnTo>
                    <a:pt x="149" y="308"/>
                  </a:lnTo>
                  <a:lnTo>
                    <a:pt x="154" y="290"/>
                  </a:lnTo>
                  <a:lnTo>
                    <a:pt x="157" y="272"/>
                  </a:lnTo>
                  <a:lnTo>
                    <a:pt x="157" y="257"/>
                  </a:lnTo>
                  <a:lnTo>
                    <a:pt x="157" y="244"/>
                  </a:lnTo>
                  <a:lnTo>
                    <a:pt x="155" y="232"/>
                  </a:lnTo>
                  <a:lnTo>
                    <a:pt x="152" y="221"/>
                  </a:lnTo>
                  <a:lnTo>
                    <a:pt x="147" y="211"/>
                  </a:lnTo>
                  <a:lnTo>
                    <a:pt x="136" y="193"/>
                  </a:lnTo>
                  <a:lnTo>
                    <a:pt x="122" y="174"/>
                  </a:lnTo>
                  <a:lnTo>
                    <a:pt x="117" y="163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7" y="124"/>
                  </a:lnTo>
                  <a:lnTo>
                    <a:pt x="91" y="109"/>
                  </a:lnTo>
                  <a:lnTo>
                    <a:pt x="87" y="95"/>
                  </a:lnTo>
                  <a:lnTo>
                    <a:pt x="86" y="82"/>
                  </a:lnTo>
                  <a:lnTo>
                    <a:pt x="85" y="71"/>
                  </a:lnTo>
                  <a:lnTo>
                    <a:pt x="85" y="62"/>
                  </a:lnTo>
                  <a:lnTo>
                    <a:pt x="86" y="52"/>
                  </a:lnTo>
                  <a:lnTo>
                    <a:pt x="87" y="45"/>
                  </a:lnTo>
                  <a:lnTo>
                    <a:pt x="90" y="38"/>
                  </a:lnTo>
                  <a:lnTo>
                    <a:pt x="94" y="27"/>
                  </a:lnTo>
                  <a:lnTo>
                    <a:pt x="98" y="16"/>
                  </a:lnTo>
                  <a:lnTo>
                    <a:pt x="99" y="13"/>
                  </a:lnTo>
                  <a:lnTo>
                    <a:pt x="99" y="8"/>
                  </a:lnTo>
                  <a:lnTo>
                    <a:pt x="98" y="5"/>
                  </a:lnTo>
                  <a:lnTo>
                    <a:pt x="97" y="0"/>
                  </a:lnTo>
                  <a:lnTo>
                    <a:pt x="106" y="5"/>
                  </a:lnTo>
                  <a:lnTo>
                    <a:pt x="114" y="10"/>
                  </a:lnTo>
                  <a:lnTo>
                    <a:pt x="120" y="16"/>
                  </a:lnTo>
                  <a:lnTo>
                    <a:pt x="126" y="22"/>
                  </a:lnTo>
                  <a:lnTo>
                    <a:pt x="136" y="36"/>
                  </a:lnTo>
                  <a:lnTo>
                    <a:pt x="146" y="50"/>
                  </a:lnTo>
                  <a:lnTo>
                    <a:pt x="150" y="57"/>
                  </a:lnTo>
                  <a:lnTo>
                    <a:pt x="155" y="63"/>
                  </a:lnTo>
                  <a:lnTo>
                    <a:pt x="161" y="69"/>
                  </a:lnTo>
                  <a:lnTo>
                    <a:pt x="168" y="73"/>
                  </a:lnTo>
                  <a:lnTo>
                    <a:pt x="176" y="78"/>
                  </a:lnTo>
                  <a:lnTo>
                    <a:pt x="187" y="80"/>
                  </a:lnTo>
                  <a:lnTo>
                    <a:pt x="198" y="83"/>
                  </a:lnTo>
                  <a:lnTo>
                    <a:pt x="211" y="83"/>
                  </a:lnTo>
                  <a:lnTo>
                    <a:pt x="218" y="84"/>
                  </a:lnTo>
                  <a:lnTo>
                    <a:pt x="224" y="84"/>
                  </a:lnTo>
                  <a:lnTo>
                    <a:pt x="229" y="85"/>
                  </a:lnTo>
                  <a:lnTo>
                    <a:pt x="233" y="87"/>
                  </a:lnTo>
                  <a:lnTo>
                    <a:pt x="237" y="90"/>
                  </a:lnTo>
                  <a:lnTo>
                    <a:pt x="239" y="92"/>
                  </a:lnTo>
                  <a:lnTo>
                    <a:pt x="242" y="95"/>
                  </a:lnTo>
                  <a:lnTo>
                    <a:pt x="243" y="98"/>
                  </a:lnTo>
                  <a:lnTo>
                    <a:pt x="245" y="106"/>
                  </a:lnTo>
                  <a:lnTo>
                    <a:pt x="245" y="116"/>
                  </a:lnTo>
                  <a:lnTo>
                    <a:pt x="244" y="127"/>
                  </a:lnTo>
                  <a:lnTo>
                    <a:pt x="243" y="139"/>
                  </a:lnTo>
                  <a:lnTo>
                    <a:pt x="242" y="153"/>
                  </a:lnTo>
                  <a:lnTo>
                    <a:pt x="242" y="167"/>
                  </a:lnTo>
                  <a:lnTo>
                    <a:pt x="242" y="182"/>
                  </a:lnTo>
                  <a:lnTo>
                    <a:pt x="243" y="198"/>
                  </a:lnTo>
                  <a:lnTo>
                    <a:pt x="246" y="216"/>
                  </a:lnTo>
                  <a:lnTo>
                    <a:pt x="253" y="234"/>
                  </a:lnTo>
                  <a:lnTo>
                    <a:pt x="257" y="243"/>
                  </a:lnTo>
                  <a:lnTo>
                    <a:pt x="263" y="252"/>
                  </a:lnTo>
                  <a:lnTo>
                    <a:pt x="268" y="262"/>
                  </a:lnTo>
                  <a:lnTo>
                    <a:pt x="275" y="271"/>
                  </a:lnTo>
                  <a:lnTo>
                    <a:pt x="288" y="271"/>
                  </a:lnTo>
                  <a:lnTo>
                    <a:pt x="302" y="271"/>
                  </a:lnTo>
                  <a:lnTo>
                    <a:pt x="316" y="271"/>
                  </a:lnTo>
                  <a:lnTo>
                    <a:pt x="330" y="270"/>
                  </a:lnTo>
                  <a:lnTo>
                    <a:pt x="361" y="265"/>
                  </a:lnTo>
                  <a:lnTo>
                    <a:pt x="393" y="259"/>
                  </a:lnTo>
                  <a:lnTo>
                    <a:pt x="426" y="252"/>
                  </a:lnTo>
                  <a:lnTo>
                    <a:pt x="462" y="245"/>
                  </a:lnTo>
                  <a:lnTo>
                    <a:pt x="499" y="237"/>
                  </a:lnTo>
                  <a:lnTo>
                    <a:pt x="537" y="230"/>
                  </a:lnTo>
                  <a:lnTo>
                    <a:pt x="559" y="262"/>
                  </a:lnTo>
                  <a:lnTo>
                    <a:pt x="579" y="285"/>
                  </a:lnTo>
                  <a:lnTo>
                    <a:pt x="587" y="293"/>
                  </a:lnTo>
                  <a:lnTo>
                    <a:pt x="596" y="301"/>
                  </a:lnTo>
                  <a:lnTo>
                    <a:pt x="604" y="306"/>
                  </a:lnTo>
                  <a:lnTo>
                    <a:pt x="611" y="311"/>
                  </a:lnTo>
                  <a:lnTo>
                    <a:pt x="617" y="314"/>
                  </a:lnTo>
                  <a:lnTo>
                    <a:pt x="622" y="315"/>
                  </a:lnTo>
                  <a:lnTo>
                    <a:pt x="628" y="316"/>
                  </a:lnTo>
                  <a:lnTo>
                    <a:pt x="634" y="316"/>
                  </a:lnTo>
                  <a:lnTo>
                    <a:pt x="640" y="315"/>
                  </a:lnTo>
                  <a:lnTo>
                    <a:pt x="645" y="313"/>
                  </a:lnTo>
                  <a:lnTo>
                    <a:pt x="649" y="309"/>
                  </a:lnTo>
                  <a:lnTo>
                    <a:pt x="654" y="307"/>
                  </a:lnTo>
                  <a:lnTo>
                    <a:pt x="674" y="290"/>
                  </a:lnTo>
                  <a:lnTo>
                    <a:pt x="697" y="270"/>
                  </a:lnTo>
                  <a:lnTo>
                    <a:pt x="704" y="266"/>
                  </a:lnTo>
                  <a:lnTo>
                    <a:pt x="711" y="262"/>
                  </a:lnTo>
                  <a:lnTo>
                    <a:pt x="719" y="258"/>
                  </a:lnTo>
                  <a:lnTo>
                    <a:pt x="728" y="256"/>
                  </a:lnTo>
                  <a:lnTo>
                    <a:pt x="736" y="253"/>
                  </a:lnTo>
                  <a:lnTo>
                    <a:pt x="746" y="252"/>
                  </a:lnTo>
                  <a:lnTo>
                    <a:pt x="757" y="252"/>
                  </a:lnTo>
                  <a:lnTo>
                    <a:pt x="767" y="253"/>
                  </a:lnTo>
                  <a:lnTo>
                    <a:pt x="807" y="258"/>
                  </a:lnTo>
                  <a:lnTo>
                    <a:pt x="834" y="260"/>
                  </a:lnTo>
                  <a:lnTo>
                    <a:pt x="854" y="262"/>
                  </a:lnTo>
                  <a:lnTo>
                    <a:pt x="867" y="260"/>
                  </a:lnTo>
                  <a:lnTo>
                    <a:pt x="878" y="260"/>
                  </a:lnTo>
                  <a:lnTo>
                    <a:pt x="891" y="259"/>
                  </a:lnTo>
                  <a:lnTo>
                    <a:pt x="907" y="260"/>
                  </a:lnTo>
                  <a:lnTo>
                    <a:pt x="932" y="262"/>
                  </a:lnTo>
                  <a:lnTo>
                    <a:pt x="924" y="270"/>
                  </a:lnTo>
                  <a:lnTo>
                    <a:pt x="916" y="280"/>
                  </a:lnTo>
                  <a:lnTo>
                    <a:pt x="907" y="293"/>
                  </a:lnTo>
                  <a:lnTo>
                    <a:pt x="898" y="308"/>
                  </a:lnTo>
                  <a:lnTo>
                    <a:pt x="878" y="343"/>
                  </a:lnTo>
                  <a:lnTo>
                    <a:pt x="858" y="382"/>
                  </a:lnTo>
                  <a:lnTo>
                    <a:pt x="836" y="423"/>
                  </a:lnTo>
                  <a:lnTo>
                    <a:pt x="814" y="462"/>
                  </a:lnTo>
                  <a:lnTo>
                    <a:pt x="802" y="480"/>
                  </a:lnTo>
                  <a:lnTo>
                    <a:pt x="791" y="496"/>
                  </a:lnTo>
                  <a:lnTo>
                    <a:pt x="779" y="512"/>
                  </a:lnTo>
                  <a:lnTo>
                    <a:pt x="767" y="524"/>
                  </a:lnTo>
                  <a:lnTo>
                    <a:pt x="763" y="530"/>
                  </a:lnTo>
                  <a:lnTo>
                    <a:pt x="758" y="538"/>
                  </a:lnTo>
                  <a:lnTo>
                    <a:pt x="753" y="547"/>
                  </a:lnTo>
                  <a:lnTo>
                    <a:pt x="750" y="556"/>
                  </a:lnTo>
                  <a:lnTo>
                    <a:pt x="744" y="577"/>
                  </a:lnTo>
                  <a:lnTo>
                    <a:pt x="738" y="600"/>
                  </a:lnTo>
                  <a:lnTo>
                    <a:pt x="731" y="652"/>
                  </a:lnTo>
                  <a:lnTo>
                    <a:pt x="724" y="708"/>
                  </a:lnTo>
                  <a:lnTo>
                    <a:pt x="719" y="736"/>
                  </a:lnTo>
                  <a:lnTo>
                    <a:pt x="713" y="764"/>
                  </a:lnTo>
                  <a:lnTo>
                    <a:pt x="710" y="777"/>
                  </a:lnTo>
                  <a:lnTo>
                    <a:pt x="706" y="790"/>
                  </a:lnTo>
                  <a:lnTo>
                    <a:pt x="702" y="802"/>
                  </a:lnTo>
                  <a:lnTo>
                    <a:pt x="697" y="814"/>
                  </a:lnTo>
                  <a:lnTo>
                    <a:pt x="691" y="825"/>
                  </a:lnTo>
                  <a:lnTo>
                    <a:pt x="684" y="835"/>
                  </a:lnTo>
                  <a:lnTo>
                    <a:pt x="677" y="846"/>
                  </a:lnTo>
                  <a:lnTo>
                    <a:pt x="670" y="855"/>
                  </a:lnTo>
                  <a:lnTo>
                    <a:pt x="661" y="863"/>
                  </a:lnTo>
                  <a:lnTo>
                    <a:pt x="652" y="870"/>
                  </a:lnTo>
                  <a:lnTo>
                    <a:pt x="641" y="876"/>
                  </a:lnTo>
                  <a:lnTo>
                    <a:pt x="629" y="881"/>
                  </a:lnTo>
                  <a:lnTo>
                    <a:pt x="597" y="891"/>
                  </a:lnTo>
                  <a:lnTo>
                    <a:pt x="566" y="900"/>
                  </a:lnTo>
                  <a:lnTo>
                    <a:pt x="537" y="907"/>
                  </a:lnTo>
                  <a:lnTo>
                    <a:pt x="509" y="913"/>
                  </a:lnTo>
                  <a:lnTo>
                    <a:pt x="482" y="918"/>
                  </a:lnTo>
                  <a:lnTo>
                    <a:pt x="458" y="922"/>
                  </a:lnTo>
                  <a:lnTo>
                    <a:pt x="433" y="924"/>
                  </a:lnTo>
                  <a:lnTo>
                    <a:pt x="410" y="925"/>
                  </a:lnTo>
                  <a:lnTo>
                    <a:pt x="388" y="925"/>
                  </a:lnTo>
                  <a:lnTo>
                    <a:pt x="367" y="924"/>
                  </a:lnTo>
                  <a:lnTo>
                    <a:pt x="347" y="922"/>
                  </a:lnTo>
                  <a:lnTo>
                    <a:pt x="328" y="919"/>
                  </a:lnTo>
                  <a:lnTo>
                    <a:pt x="309" y="916"/>
                  </a:lnTo>
                  <a:lnTo>
                    <a:pt x="292" y="912"/>
                  </a:lnTo>
                  <a:lnTo>
                    <a:pt x="275" y="907"/>
                  </a:lnTo>
                  <a:lnTo>
                    <a:pt x="260" y="903"/>
                  </a:lnTo>
                  <a:lnTo>
                    <a:pt x="231" y="892"/>
                  </a:lnTo>
                  <a:lnTo>
                    <a:pt x="205" y="882"/>
                  </a:lnTo>
                  <a:lnTo>
                    <a:pt x="181" y="871"/>
                  </a:lnTo>
                  <a:lnTo>
                    <a:pt x="160" y="861"/>
                  </a:lnTo>
                  <a:lnTo>
                    <a:pt x="140" y="851"/>
                  </a:lnTo>
                  <a:lnTo>
                    <a:pt x="121" y="846"/>
                  </a:lnTo>
                  <a:lnTo>
                    <a:pt x="113" y="843"/>
                  </a:lnTo>
                  <a:lnTo>
                    <a:pt x="104" y="841"/>
                  </a:lnTo>
                  <a:lnTo>
                    <a:pt x="96" y="841"/>
                  </a:lnTo>
                  <a:lnTo>
                    <a:pt x="87" y="841"/>
                  </a:lnTo>
                  <a:lnTo>
                    <a:pt x="73" y="839"/>
                  </a:lnTo>
                  <a:lnTo>
                    <a:pt x="61" y="835"/>
                  </a:lnTo>
                  <a:lnTo>
                    <a:pt x="50" y="830"/>
                  </a:lnTo>
                  <a:lnTo>
                    <a:pt x="39" y="825"/>
                  </a:lnTo>
                  <a:lnTo>
                    <a:pt x="30" y="819"/>
                  </a:lnTo>
                  <a:lnTo>
                    <a:pt x="23" y="812"/>
                  </a:lnTo>
                  <a:lnTo>
                    <a:pt x="16" y="804"/>
                  </a:lnTo>
                  <a:lnTo>
                    <a:pt x="11" y="795"/>
                  </a:lnTo>
                  <a:lnTo>
                    <a:pt x="7" y="788"/>
                  </a:lnTo>
                  <a:lnTo>
                    <a:pt x="4" y="780"/>
                  </a:lnTo>
                  <a:lnTo>
                    <a:pt x="2" y="772"/>
                  </a:lnTo>
                  <a:lnTo>
                    <a:pt x="1" y="764"/>
                  </a:lnTo>
                  <a:lnTo>
                    <a:pt x="2" y="757"/>
                  </a:lnTo>
                  <a:lnTo>
                    <a:pt x="3" y="751"/>
                  </a:lnTo>
                  <a:lnTo>
                    <a:pt x="6" y="745"/>
                  </a:lnTo>
                  <a:lnTo>
                    <a:pt x="10" y="74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Freeform 214"/>
            <p:cNvSpPr/>
            <p:nvPr/>
          </p:nvSpPr>
          <p:spPr>
            <a:xfrm>
              <a:off x="7765560" y="5175360"/>
              <a:ext cx="250560" cy="1184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568" h="689">
                  <a:moveTo>
                    <a:pt x="548" y="648"/>
                  </a:moveTo>
                  <a:lnTo>
                    <a:pt x="508" y="655"/>
                  </a:lnTo>
                  <a:lnTo>
                    <a:pt x="471" y="663"/>
                  </a:lnTo>
                  <a:lnTo>
                    <a:pt x="435" y="670"/>
                  </a:lnTo>
                  <a:lnTo>
                    <a:pt x="402" y="677"/>
                  </a:lnTo>
                  <a:lnTo>
                    <a:pt x="371" y="683"/>
                  </a:lnTo>
                  <a:lnTo>
                    <a:pt x="340" y="688"/>
                  </a:lnTo>
                  <a:lnTo>
                    <a:pt x="326" y="689"/>
                  </a:lnTo>
                  <a:lnTo>
                    <a:pt x="312" y="689"/>
                  </a:lnTo>
                  <a:lnTo>
                    <a:pt x="299" y="689"/>
                  </a:lnTo>
                  <a:lnTo>
                    <a:pt x="286" y="689"/>
                  </a:lnTo>
                  <a:lnTo>
                    <a:pt x="279" y="680"/>
                  </a:lnTo>
                  <a:lnTo>
                    <a:pt x="274" y="670"/>
                  </a:lnTo>
                  <a:lnTo>
                    <a:pt x="268" y="661"/>
                  </a:lnTo>
                  <a:lnTo>
                    <a:pt x="264" y="652"/>
                  </a:lnTo>
                  <a:lnTo>
                    <a:pt x="257" y="634"/>
                  </a:lnTo>
                  <a:lnTo>
                    <a:pt x="254" y="616"/>
                  </a:lnTo>
                  <a:lnTo>
                    <a:pt x="253" y="600"/>
                  </a:lnTo>
                  <a:lnTo>
                    <a:pt x="253" y="585"/>
                  </a:lnTo>
                  <a:lnTo>
                    <a:pt x="253" y="571"/>
                  </a:lnTo>
                  <a:lnTo>
                    <a:pt x="254" y="557"/>
                  </a:lnTo>
                  <a:lnTo>
                    <a:pt x="255" y="545"/>
                  </a:lnTo>
                  <a:lnTo>
                    <a:pt x="256" y="534"/>
                  </a:lnTo>
                  <a:lnTo>
                    <a:pt x="256" y="524"/>
                  </a:lnTo>
                  <a:lnTo>
                    <a:pt x="254" y="516"/>
                  </a:lnTo>
                  <a:lnTo>
                    <a:pt x="253" y="513"/>
                  </a:lnTo>
                  <a:lnTo>
                    <a:pt x="250" y="510"/>
                  </a:lnTo>
                  <a:lnTo>
                    <a:pt x="248" y="508"/>
                  </a:lnTo>
                  <a:lnTo>
                    <a:pt x="244" y="505"/>
                  </a:lnTo>
                  <a:lnTo>
                    <a:pt x="240" y="503"/>
                  </a:lnTo>
                  <a:lnTo>
                    <a:pt x="235" y="502"/>
                  </a:lnTo>
                  <a:lnTo>
                    <a:pt x="229" y="502"/>
                  </a:lnTo>
                  <a:lnTo>
                    <a:pt x="222" y="501"/>
                  </a:lnTo>
                  <a:lnTo>
                    <a:pt x="209" y="501"/>
                  </a:lnTo>
                  <a:lnTo>
                    <a:pt x="198" y="498"/>
                  </a:lnTo>
                  <a:lnTo>
                    <a:pt x="187" y="496"/>
                  </a:lnTo>
                  <a:lnTo>
                    <a:pt x="179" y="491"/>
                  </a:lnTo>
                  <a:lnTo>
                    <a:pt x="172" y="487"/>
                  </a:lnTo>
                  <a:lnTo>
                    <a:pt x="166" y="481"/>
                  </a:lnTo>
                  <a:lnTo>
                    <a:pt x="161" y="475"/>
                  </a:lnTo>
                  <a:lnTo>
                    <a:pt x="157" y="468"/>
                  </a:lnTo>
                  <a:lnTo>
                    <a:pt x="147" y="454"/>
                  </a:lnTo>
                  <a:lnTo>
                    <a:pt x="137" y="440"/>
                  </a:lnTo>
                  <a:lnTo>
                    <a:pt x="131" y="434"/>
                  </a:lnTo>
                  <a:lnTo>
                    <a:pt x="125" y="428"/>
                  </a:lnTo>
                  <a:lnTo>
                    <a:pt x="117" y="423"/>
                  </a:lnTo>
                  <a:lnTo>
                    <a:pt x="108" y="418"/>
                  </a:lnTo>
                  <a:lnTo>
                    <a:pt x="90" y="391"/>
                  </a:lnTo>
                  <a:lnTo>
                    <a:pt x="77" y="369"/>
                  </a:lnTo>
                  <a:lnTo>
                    <a:pt x="68" y="349"/>
                  </a:lnTo>
                  <a:lnTo>
                    <a:pt x="60" y="331"/>
                  </a:lnTo>
                  <a:lnTo>
                    <a:pt x="55" y="317"/>
                  </a:lnTo>
                  <a:lnTo>
                    <a:pt x="52" y="303"/>
                  </a:lnTo>
                  <a:lnTo>
                    <a:pt x="50" y="291"/>
                  </a:lnTo>
                  <a:lnTo>
                    <a:pt x="48" y="279"/>
                  </a:lnTo>
                  <a:lnTo>
                    <a:pt x="47" y="266"/>
                  </a:lnTo>
                  <a:lnTo>
                    <a:pt x="46" y="253"/>
                  </a:lnTo>
                  <a:lnTo>
                    <a:pt x="43" y="239"/>
                  </a:lnTo>
                  <a:lnTo>
                    <a:pt x="40" y="223"/>
                  </a:lnTo>
                  <a:lnTo>
                    <a:pt x="34" y="204"/>
                  </a:lnTo>
                  <a:lnTo>
                    <a:pt x="26" y="182"/>
                  </a:lnTo>
                  <a:lnTo>
                    <a:pt x="15" y="156"/>
                  </a:lnTo>
                  <a:lnTo>
                    <a:pt x="0" y="127"/>
                  </a:lnTo>
                  <a:lnTo>
                    <a:pt x="18" y="114"/>
                  </a:lnTo>
                  <a:lnTo>
                    <a:pt x="33" y="100"/>
                  </a:lnTo>
                  <a:lnTo>
                    <a:pt x="49" y="87"/>
                  </a:lnTo>
                  <a:lnTo>
                    <a:pt x="65" y="72"/>
                  </a:lnTo>
                  <a:lnTo>
                    <a:pt x="73" y="139"/>
                  </a:lnTo>
                  <a:lnTo>
                    <a:pt x="83" y="138"/>
                  </a:lnTo>
                  <a:lnTo>
                    <a:pt x="111" y="134"/>
                  </a:lnTo>
                  <a:lnTo>
                    <a:pt x="154" y="129"/>
                  </a:lnTo>
                  <a:lnTo>
                    <a:pt x="212" y="122"/>
                  </a:lnTo>
                  <a:lnTo>
                    <a:pt x="281" y="114"/>
                  </a:lnTo>
                  <a:lnTo>
                    <a:pt x="357" y="105"/>
                  </a:lnTo>
                  <a:lnTo>
                    <a:pt x="439" y="96"/>
                  </a:lnTo>
                  <a:lnTo>
                    <a:pt x="526" y="85"/>
                  </a:lnTo>
                  <a:lnTo>
                    <a:pt x="612" y="74"/>
                  </a:lnTo>
                  <a:lnTo>
                    <a:pt x="699" y="64"/>
                  </a:lnTo>
                  <a:lnTo>
                    <a:pt x="779" y="53"/>
                  </a:lnTo>
                  <a:lnTo>
                    <a:pt x="855" y="44"/>
                  </a:lnTo>
                  <a:lnTo>
                    <a:pt x="922" y="35"/>
                  </a:lnTo>
                  <a:lnTo>
                    <a:pt x="977" y="27"/>
                  </a:lnTo>
                  <a:lnTo>
                    <a:pt x="1018" y="20"/>
                  </a:lnTo>
                  <a:lnTo>
                    <a:pt x="1043" y="15"/>
                  </a:lnTo>
                  <a:lnTo>
                    <a:pt x="1071" y="8"/>
                  </a:lnTo>
                  <a:lnTo>
                    <a:pt x="1094" y="4"/>
                  </a:lnTo>
                  <a:lnTo>
                    <a:pt x="1111" y="3"/>
                  </a:lnTo>
                  <a:lnTo>
                    <a:pt x="1126" y="4"/>
                  </a:lnTo>
                  <a:lnTo>
                    <a:pt x="1139" y="6"/>
                  </a:lnTo>
                  <a:lnTo>
                    <a:pt x="1152" y="6"/>
                  </a:lnTo>
                  <a:lnTo>
                    <a:pt x="1166" y="4"/>
                  </a:lnTo>
                  <a:lnTo>
                    <a:pt x="1181" y="0"/>
                  </a:lnTo>
                  <a:lnTo>
                    <a:pt x="1366" y="84"/>
                  </a:lnTo>
                  <a:lnTo>
                    <a:pt x="1358" y="92"/>
                  </a:lnTo>
                  <a:lnTo>
                    <a:pt x="1352" y="99"/>
                  </a:lnTo>
                  <a:lnTo>
                    <a:pt x="1347" y="106"/>
                  </a:lnTo>
                  <a:lnTo>
                    <a:pt x="1345" y="113"/>
                  </a:lnTo>
                  <a:lnTo>
                    <a:pt x="1344" y="120"/>
                  </a:lnTo>
                  <a:lnTo>
                    <a:pt x="1345" y="127"/>
                  </a:lnTo>
                  <a:lnTo>
                    <a:pt x="1347" y="133"/>
                  </a:lnTo>
                  <a:lnTo>
                    <a:pt x="1351" y="140"/>
                  </a:lnTo>
                  <a:lnTo>
                    <a:pt x="1355" y="146"/>
                  </a:lnTo>
                  <a:lnTo>
                    <a:pt x="1361" y="152"/>
                  </a:lnTo>
                  <a:lnTo>
                    <a:pt x="1369" y="157"/>
                  </a:lnTo>
                  <a:lnTo>
                    <a:pt x="1377" y="163"/>
                  </a:lnTo>
                  <a:lnTo>
                    <a:pt x="1396" y="175"/>
                  </a:lnTo>
                  <a:lnTo>
                    <a:pt x="1417" y="187"/>
                  </a:lnTo>
                  <a:lnTo>
                    <a:pt x="1439" y="199"/>
                  </a:lnTo>
                  <a:lnTo>
                    <a:pt x="1463" y="213"/>
                  </a:lnTo>
                  <a:lnTo>
                    <a:pt x="1486" y="227"/>
                  </a:lnTo>
                  <a:lnTo>
                    <a:pt x="1508" y="243"/>
                  </a:lnTo>
                  <a:lnTo>
                    <a:pt x="1519" y="251"/>
                  </a:lnTo>
                  <a:lnTo>
                    <a:pt x="1528" y="260"/>
                  </a:lnTo>
                  <a:lnTo>
                    <a:pt x="1538" y="270"/>
                  </a:lnTo>
                  <a:lnTo>
                    <a:pt x="1546" y="279"/>
                  </a:lnTo>
                  <a:lnTo>
                    <a:pt x="1553" y="289"/>
                  </a:lnTo>
                  <a:lnTo>
                    <a:pt x="1559" y="300"/>
                  </a:lnTo>
                  <a:lnTo>
                    <a:pt x="1564" y="310"/>
                  </a:lnTo>
                  <a:lnTo>
                    <a:pt x="1568" y="323"/>
                  </a:lnTo>
                  <a:lnTo>
                    <a:pt x="1567" y="362"/>
                  </a:lnTo>
                  <a:lnTo>
                    <a:pt x="1563" y="393"/>
                  </a:lnTo>
                  <a:lnTo>
                    <a:pt x="1560" y="416"/>
                  </a:lnTo>
                  <a:lnTo>
                    <a:pt x="1559" y="424"/>
                  </a:lnTo>
                  <a:lnTo>
                    <a:pt x="1548" y="426"/>
                  </a:lnTo>
                  <a:lnTo>
                    <a:pt x="1539" y="428"/>
                  </a:lnTo>
                  <a:lnTo>
                    <a:pt x="1529" y="432"/>
                  </a:lnTo>
                  <a:lnTo>
                    <a:pt x="1521" y="435"/>
                  </a:lnTo>
                  <a:lnTo>
                    <a:pt x="1514" y="439"/>
                  </a:lnTo>
                  <a:lnTo>
                    <a:pt x="1508" y="444"/>
                  </a:lnTo>
                  <a:lnTo>
                    <a:pt x="1502" y="449"/>
                  </a:lnTo>
                  <a:lnTo>
                    <a:pt x="1499" y="455"/>
                  </a:lnTo>
                  <a:lnTo>
                    <a:pt x="1494" y="461"/>
                  </a:lnTo>
                  <a:lnTo>
                    <a:pt x="1492" y="467"/>
                  </a:lnTo>
                  <a:lnTo>
                    <a:pt x="1490" y="474"/>
                  </a:lnTo>
                  <a:lnTo>
                    <a:pt x="1488" y="481"/>
                  </a:lnTo>
                  <a:lnTo>
                    <a:pt x="1487" y="488"/>
                  </a:lnTo>
                  <a:lnTo>
                    <a:pt x="1487" y="495"/>
                  </a:lnTo>
                  <a:lnTo>
                    <a:pt x="1488" y="502"/>
                  </a:lnTo>
                  <a:lnTo>
                    <a:pt x="1490" y="510"/>
                  </a:lnTo>
                  <a:lnTo>
                    <a:pt x="548" y="6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Freeform 215"/>
            <p:cNvSpPr/>
            <p:nvPr/>
          </p:nvSpPr>
          <p:spPr>
            <a:xfrm>
              <a:off x="7980480" y="4951080"/>
              <a:ext cx="161640" cy="1425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016" h="821">
                  <a:moveTo>
                    <a:pt x="593" y="821"/>
                  </a:moveTo>
                  <a:lnTo>
                    <a:pt x="107" y="470"/>
                  </a:lnTo>
                  <a:lnTo>
                    <a:pt x="112" y="458"/>
                  </a:lnTo>
                  <a:lnTo>
                    <a:pt x="114" y="449"/>
                  </a:lnTo>
                  <a:lnTo>
                    <a:pt x="115" y="438"/>
                  </a:lnTo>
                  <a:lnTo>
                    <a:pt x="114" y="430"/>
                  </a:lnTo>
                  <a:lnTo>
                    <a:pt x="112" y="421"/>
                  </a:lnTo>
                  <a:lnTo>
                    <a:pt x="108" y="413"/>
                  </a:lnTo>
                  <a:lnTo>
                    <a:pt x="104" y="404"/>
                  </a:lnTo>
                  <a:lnTo>
                    <a:pt x="98" y="395"/>
                  </a:lnTo>
                  <a:lnTo>
                    <a:pt x="85" y="377"/>
                  </a:lnTo>
                  <a:lnTo>
                    <a:pt x="72" y="358"/>
                  </a:lnTo>
                  <a:lnTo>
                    <a:pt x="66" y="347"/>
                  </a:lnTo>
                  <a:lnTo>
                    <a:pt x="60" y="335"/>
                  </a:lnTo>
                  <a:lnTo>
                    <a:pt x="56" y="323"/>
                  </a:lnTo>
                  <a:lnTo>
                    <a:pt x="52" y="309"/>
                  </a:lnTo>
                  <a:lnTo>
                    <a:pt x="50" y="295"/>
                  </a:lnTo>
                  <a:lnTo>
                    <a:pt x="49" y="283"/>
                  </a:lnTo>
                  <a:lnTo>
                    <a:pt x="49" y="272"/>
                  </a:lnTo>
                  <a:lnTo>
                    <a:pt x="50" y="264"/>
                  </a:lnTo>
                  <a:lnTo>
                    <a:pt x="51" y="256"/>
                  </a:lnTo>
                  <a:lnTo>
                    <a:pt x="53" y="249"/>
                  </a:lnTo>
                  <a:lnTo>
                    <a:pt x="56" y="243"/>
                  </a:lnTo>
                  <a:lnTo>
                    <a:pt x="58" y="237"/>
                  </a:lnTo>
                  <a:lnTo>
                    <a:pt x="64" y="227"/>
                  </a:lnTo>
                  <a:lnTo>
                    <a:pt x="70" y="214"/>
                  </a:lnTo>
                  <a:lnTo>
                    <a:pt x="72" y="206"/>
                  </a:lnTo>
                  <a:lnTo>
                    <a:pt x="73" y="198"/>
                  </a:lnTo>
                  <a:lnTo>
                    <a:pt x="74" y="187"/>
                  </a:lnTo>
                  <a:lnTo>
                    <a:pt x="76" y="175"/>
                  </a:lnTo>
                  <a:lnTo>
                    <a:pt x="74" y="171"/>
                  </a:lnTo>
                  <a:lnTo>
                    <a:pt x="72" y="165"/>
                  </a:lnTo>
                  <a:lnTo>
                    <a:pt x="70" y="158"/>
                  </a:lnTo>
                  <a:lnTo>
                    <a:pt x="65" y="152"/>
                  </a:lnTo>
                  <a:lnTo>
                    <a:pt x="56" y="137"/>
                  </a:lnTo>
                  <a:lnTo>
                    <a:pt x="43" y="120"/>
                  </a:lnTo>
                  <a:lnTo>
                    <a:pt x="30" y="102"/>
                  </a:lnTo>
                  <a:lnTo>
                    <a:pt x="18" y="81"/>
                  </a:lnTo>
                  <a:lnTo>
                    <a:pt x="12" y="69"/>
                  </a:lnTo>
                  <a:lnTo>
                    <a:pt x="8" y="56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42" y="34"/>
                  </a:lnTo>
                  <a:lnTo>
                    <a:pt x="78" y="38"/>
                  </a:lnTo>
                  <a:lnTo>
                    <a:pt x="111" y="40"/>
                  </a:lnTo>
                  <a:lnTo>
                    <a:pt x="141" y="42"/>
                  </a:lnTo>
                  <a:lnTo>
                    <a:pt x="168" y="42"/>
                  </a:lnTo>
                  <a:lnTo>
                    <a:pt x="192" y="41"/>
                  </a:lnTo>
                  <a:lnTo>
                    <a:pt x="215" y="40"/>
                  </a:lnTo>
                  <a:lnTo>
                    <a:pt x="234" y="38"/>
                  </a:lnTo>
                  <a:lnTo>
                    <a:pt x="253" y="34"/>
                  </a:lnTo>
                  <a:lnTo>
                    <a:pt x="271" y="31"/>
                  </a:lnTo>
                  <a:lnTo>
                    <a:pt x="288" y="26"/>
                  </a:lnTo>
                  <a:lnTo>
                    <a:pt x="304" y="21"/>
                  </a:lnTo>
                  <a:lnTo>
                    <a:pt x="340" y="11"/>
                  </a:lnTo>
                  <a:lnTo>
                    <a:pt x="377" y="0"/>
                  </a:lnTo>
                  <a:lnTo>
                    <a:pt x="386" y="8"/>
                  </a:lnTo>
                  <a:lnTo>
                    <a:pt x="410" y="33"/>
                  </a:lnTo>
                  <a:lnTo>
                    <a:pt x="446" y="67"/>
                  </a:lnTo>
                  <a:lnTo>
                    <a:pt x="488" y="109"/>
                  </a:lnTo>
                  <a:lnTo>
                    <a:pt x="535" y="152"/>
                  </a:lnTo>
                  <a:lnTo>
                    <a:pt x="580" y="195"/>
                  </a:lnTo>
                  <a:lnTo>
                    <a:pt x="622" y="234"/>
                  </a:lnTo>
                  <a:lnTo>
                    <a:pt x="657" y="262"/>
                  </a:lnTo>
                  <a:lnTo>
                    <a:pt x="677" y="272"/>
                  </a:lnTo>
                  <a:lnTo>
                    <a:pt x="697" y="281"/>
                  </a:lnTo>
                  <a:lnTo>
                    <a:pt x="717" y="288"/>
                  </a:lnTo>
                  <a:lnTo>
                    <a:pt x="737" y="293"/>
                  </a:lnTo>
                  <a:lnTo>
                    <a:pt x="757" y="297"/>
                  </a:lnTo>
                  <a:lnTo>
                    <a:pt x="776" y="300"/>
                  </a:lnTo>
                  <a:lnTo>
                    <a:pt x="796" y="303"/>
                  </a:lnTo>
                  <a:lnTo>
                    <a:pt x="816" y="304"/>
                  </a:lnTo>
                  <a:lnTo>
                    <a:pt x="855" y="306"/>
                  </a:lnTo>
                  <a:lnTo>
                    <a:pt x="893" y="310"/>
                  </a:lnTo>
                  <a:lnTo>
                    <a:pt x="912" y="312"/>
                  </a:lnTo>
                  <a:lnTo>
                    <a:pt x="929" y="314"/>
                  </a:lnTo>
                  <a:lnTo>
                    <a:pt x="948" y="318"/>
                  </a:lnTo>
                  <a:lnTo>
                    <a:pt x="964" y="323"/>
                  </a:lnTo>
                  <a:lnTo>
                    <a:pt x="981" y="328"/>
                  </a:lnTo>
                  <a:lnTo>
                    <a:pt x="994" y="334"/>
                  </a:lnTo>
                  <a:lnTo>
                    <a:pt x="1004" y="340"/>
                  </a:lnTo>
                  <a:lnTo>
                    <a:pt x="1011" y="347"/>
                  </a:lnTo>
                  <a:lnTo>
                    <a:pt x="1014" y="349"/>
                  </a:lnTo>
                  <a:lnTo>
                    <a:pt x="1016" y="353"/>
                  </a:lnTo>
                  <a:lnTo>
                    <a:pt x="1016" y="355"/>
                  </a:lnTo>
                  <a:lnTo>
                    <a:pt x="1016" y="359"/>
                  </a:lnTo>
                  <a:lnTo>
                    <a:pt x="1016" y="362"/>
                  </a:lnTo>
                  <a:lnTo>
                    <a:pt x="1014" y="366"/>
                  </a:lnTo>
                  <a:lnTo>
                    <a:pt x="1011" y="368"/>
                  </a:lnTo>
                  <a:lnTo>
                    <a:pt x="1008" y="372"/>
                  </a:lnTo>
                  <a:lnTo>
                    <a:pt x="997" y="379"/>
                  </a:lnTo>
                  <a:lnTo>
                    <a:pt x="983" y="386"/>
                  </a:lnTo>
                  <a:lnTo>
                    <a:pt x="964" y="393"/>
                  </a:lnTo>
                  <a:lnTo>
                    <a:pt x="942" y="400"/>
                  </a:lnTo>
                  <a:lnTo>
                    <a:pt x="917" y="408"/>
                  </a:lnTo>
                  <a:lnTo>
                    <a:pt x="885" y="415"/>
                  </a:lnTo>
                  <a:lnTo>
                    <a:pt x="850" y="423"/>
                  </a:lnTo>
                  <a:lnTo>
                    <a:pt x="809" y="432"/>
                  </a:lnTo>
                  <a:lnTo>
                    <a:pt x="783" y="438"/>
                  </a:lnTo>
                  <a:lnTo>
                    <a:pt x="760" y="446"/>
                  </a:lnTo>
                  <a:lnTo>
                    <a:pt x="751" y="451"/>
                  </a:lnTo>
                  <a:lnTo>
                    <a:pt x="741" y="456"/>
                  </a:lnTo>
                  <a:lnTo>
                    <a:pt x="733" y="460"/>
                  </a:lnTo>
                  <a:lnTo>
                    <a:pt x="726" y="465"/>
                  </a:lnTo>
                  <a:lnTo>
                    <a:pt x="720" y="471"/>
                  </a:lnTo>
                  <a:lnTo>
                    <a:pt x="714" y="476"/>
                  </a:lnTo>
                  <a:lnTo>
                    <a:pt x="709" y="481"/>
                  </a:lnTo>
                  <a:lnTo>
                    <a:pt x="705" y="487"/>
                  </a:lnTo>
                  <a:lnTo>
                    <a:pt x="698" y="499"/>
                  </a:lnTo>
                  <a:lnTo>
                    <a:pt x="695" y="511"/>
                  </a:lnTo>
                  <a:lnTo>
                    <a:pt x="692" y="522"/>
                  </a:lnTo>
                  <a:lnTo>
                    <a:pt x="692" y="534"/>
                  </a:lnTo>
                  <a:lnTo>
                    <a:pt x="693" y="546"/>
                  </a:lnTo>
                  <a:lnTo>
                    <a:pt x="697" y="556"/>
                  </a:lnTo>
                  <a:lnTo>
                    <a:pt x="700" y="567"/>
                  </a:lnTo>
                  <a:lnTo>
                    <a:pt x="706" y="577"/>
                  </a:lnTo>
                  <a:lnTo>
                    <a:pt x="711" y="585"/>
                  </a:lnTo>
                  <a:lnTo>
                    <a:pt x="717" y="594"/>
                  </a:lnTo>
                  <a:lnTo>
                    <a:pt x="721" y="601"/>
                  </a:lnTo>
                  <a:lnTo>
                    <a:pt x="725" y="606"/>
                  </a:lnTo>
                  <a:lnTo>
                    <a:pt x="726" y="613"/>
                  </a:lnTo>
                  <a:lnTo>
                    <a:pt x="726" y="620"/>
                  </a:lnTo>
                  <a:lnTo>
                    <a:pt x="725" y="627"/>
                  </a:lnTo>
                  <a:lnTo>
                    <a:pt x="723" y="634"/>
                  </a:lnTo>
                  <a:lnTo>
                    <a:pt x="718" y="641"/>
                  </a:lnTo>
                  <a:lnTo>
                    <a:pt x="713" y="648"/>
                  </a:lnTo>
                  <a:lnTo>
                    <a:pt x="702" y="662"/>
                  </a:lnTo>
                  <a:lnTo>
                    <a:pt x="688" y="678"/>
                  </a:lnTo>
                  <a:lnTo>
                    <a:pt x="671" y="692"/>
                  </a:lnTo>
                  <a:lnTo>
                    <a:pt x="654" y="706"/>
                  </a:lnTo>
                  <a:lnTo>
                    <a:pt x="637" y="721"/>
                  </a:lnTo>
                  <a:lnTo>
                    <a:pt x="621" y="735"/>
                  </a:lnTo>
                  <a:lnTo>
                    <a:pt x="607" y="749"/>
                  </a:lnTo>
                  <a:lnTo>
                    <a:pt x="595" y="764"/>
                  </a:lnTo>
                  <a:lnTo>
                    <a:pt x="591" y="771"/>
                  </a:lnTo>
                  <a:lnTo>
                    <a:pt x="587" y="778"/>
                  </a:lnTo>
                  <a:lnTo>
                    <a:pt x="585" y="785"/>
                  </a:lnTo>
                  <a:lnTo>
                    <a:pt x="584" y="792"/>
                  </a:lnTo>
                  <a:lnTo>
                    <a:pt x="584" y="799"/>
                  </a:lnTo>
                  <a:lnTo>
                    <a:pt x="586" y="806"/>
                  </a:lnTo>
                  <a:lnTo>
                    <a:pt x="588" y="814"/>
                  </a:lnTo>
                  <a:lnTo>
                    <a:pt x="593" y="8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Freeform 216"/>
            <p:cNvSpPr/>
            <p:nvPr/>
          </p:nvSpPr>
          <p:spPr>
            <a:xfrm>
              <a:off x="7850520" y="5512320"/>
              <a:ext cx="253800" cy="1825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588" h="1055">
                  <a:moveTo>
                    <a:pt x="1576" y="239"/>
                  </a:moveTo>
                  <a:lnTo>
                    <a:pt x="1580" y="281"/>
                  </a:lnTo>
                  <a:lnTo>
                    <a:pt x="1585" y="322"/>
                  </a:lnTo>
                  <a:lnTo>
                    <a:pt x="1587" y="361"/>
                  </a:lnTo>
                  <a:lnTo>
                    <a:pt x="1588" y="397"/>
                  </a:lnTo>
                  <a:lnTo>
                    <a:pt x="1588" y="432"/>
                  </a:lnTo>
                  <a:lnTo>
                    <a:pt x="1588" y="465"/>
                  </a:lnTo>
                  <a:lnTo>
                    <a:pt x="1586" y="496"/>
                  </a:lnTo>
                  <a:lnTo>
                    <a:pt x="1583" y="527"/>
                  </a:lnTo>
                  <a:lnTo>
                    <a:pt x="1579" y="555"/>
                  </a:lnTo>
                  <a:lnTo>
                    <a:pt x="1574" y="580"/>
                  </a:lnTo>
                  <a:lnTo>
                    <a:pt x="1570" y="606"/>
                  </a:lnTo>
                  <a:lnTo>
                    <a:pt x="1563" y="629"/>
                  </a:lnTo>
                  <a:lnTo>
                    <a:pt x="1557" y="652"/>
                  </a:lnTo>
                  <a:lnTo>
                    <a:pt x="1549" y="672"/>
                  </a:lnTo>
                  <a:lnTo>
                    <a:pt x="1542" y="691"/>
                  </a:lnTo>
                  <a:lnTo>
                    <a:pt x="1533" y="709"/>
                  </a:lnTo>
                  <a:lnTo>
                    <a:pt x="1524" y="726"/>
                  </a:lnTo>
                  <a:lnTo>
                    <a:pt x="1515" y="743"/>
                  </a:lnTo>
                  <a:lnTo>
                    <a:pt x="1505" y="757"/>
                  </a:lnTo>
                  <a:lnTo>
                    <a:pt x="1496" y="771"/>
                  </a:lnTo>
                  <a:lnTo>
                    <a:pt x="1477" y="795"/>
                  </a:lnTo>
                  <a:lnTo>
                    <a:pt x="1458" y="816"/>
                  </a:lnTo>
                  <a:lnTo>
                    <a:pt x="1439" y="834"/>
                  </a:lnTo>
                  <a:lnTo>
                    <a:pt x="1421" y="849"/>
                  </a:lnTo>
                  <a:lnTo>
                    <a:pt x="1405" y="862"/>
                  </a:lnTo>
                  <a:lnTo>
                    <a:pt x="1391" y="872"/>
                  </a:lnTo>
                  <a:lnTo>
                    <a:pt x="1373" y="885"/>
                  </a:lnTo>
                  <a:lnTo>
                    <a:pt x="1357" y="898"/>
                  </a:lnTo>
                  <a:lnTo>
                    <a:pt x="1342" y="910"/>
                  </a:lnTo>
                  <a:lnTo>
                    <a:pt x="1330" y="923"/>
                  </a:lnTo>
                  <a:lnTo>
                    <a:pt x="1319" y="934"/>
                  </a:lnTo>
                  <a:lnTo>
                    <a:pt x="1309" y="946"/>
                  </a:lnTo>
                  <a:lnTo>
                    <a:pt x="1300" y="959"/>
                  </a:lnTo>
                  <a:lnTo>
                    <a:pt x="1293" y="971"/>
                  </a:lnTo>
                  <a:lnTo>
                    <a:pt x="1287" y="981"/>
                  </a:lnTo>
                  <a:lnTo>
                    <a:pt x="1282" y="993"/>
                  </a:lnTo>
                  <a:lnTo>
                    <a:pt x="1279" y="1004"/>
                  </a:lnTo>
                  <a:lnTo>
                    <a:pt x="1277" y="1015"/>
                  </a:lnTo>
                  <a:lnTo>
                    <a:pt x="1274" y="1025"/>
                  </a:lnTo>
                  <a:lnTo>
                    <a:pt x="1273" y="1035"/>
                  </a:lnTo>
                  <a:lnTo>
                    <a:pt x="1273" y="1045"/>
                  </a:lnTo>
                  <a:lnTo>
                    <a:pt x="1273" y="1055"/>
                  </a:lnTo>
                  <a:lnTo>
                    <a:pt x="1260" y="1035"/>
                  </a:lnTo>
                  <a:lnTo>
                    <a:pt x="1246" y="1016"/>
                  </a:lnTo>
                  <a:lnTo>
                    <a:pt x="1230" y="1000"/>
                  </a:lnTo>
                  <a:lnTo>
                    <a:pt x="1212" y="985"/>
                  </a:lnTo>
                  <a:lnTo>
                    <a:pt x="1194" y="971"/>
                  </a:lnTo>
                  <a:lnTo>
                    <a:pt x="1173" y="958"/>
                  </a:lnTo>
                  <a:lnTo>
                    <a:pt x="1152" y="945"/>
                  </a:lnTo>
                  <a:lnTo>
                    <a:pt x="1130" y="934"/>
                  </a:lnTo>
                  <a:lnTo>
                    <a:pt x="1107" y="925"/>
                  </a:lnTo>
                  <a:lnTo>
                    <a:pt x="1084" y="916"/>
                  </a:lnTo>
                  <a:lnTo>
                    <a:pt x="1060" y="907"/>
                  </a:lnTo>
                  <a:lnTo>
                    <a:pt x="1037" y="899"/>
                  </a:lnTo>
                  <a:lnTo>
                    <a:pt x="989" y="885"/>
                  </a:lnTo>
                  <a:lnTo>
                    <a:pt x="941" y="872"/>
                  </a:lnTo>
                  <a:lnTo>
                    <a:pt x="920" y="867"/>
                  </a:lnTo>
                  <a:lnTo>
                    <a:pt x="903" y="858"/>
                  </a:lnTo>
                  <a:lnTo>
                    <a:pt x="886" y="850"/>
                  </a:lnTo>
                  <a:lnTo>
                    <a:pt x="875" y="841"/>
                  </a:lnTo>
                  <a:lnTo>
                    <a:pt x="863" y="830"/>
                  </a:lnTo>
                  <a:lnTo>
                    <a:pt x="855" y="820"/>
                  </a:lnTo>
                  <a:lnTo>
                    <a:pt x="848" y="807"/>
                  </a:lnTo>
                  <a:lnTo>
                    <a:pt x="841" y="794"/>
                  </a:lnTo>
                  <a:lnTo>
                    <a:pt x="830" y="767"/>
                  </a:lnTo>
                  <a:lnTo>
                    <a:pt x="820" y="737"/>
                  </a:lnTo>
                  <a:lnTo>
                    <a:pt x="814" y="722"/>
                  </a:lnTo>
                  <a:lnTo>
                    <a:pt x="806" y="705"/>
                  </a:lnTo>
                  <a:lnTo>
                    <a:pt x="798" y="688"/>
                  </a:lnTo>
                  <a:lnTo>
                    <a:pt x="786" y="672"/>
                  </a:lnTo>
                  <a:lnTo>
                    <a:pt x="753" y="659"/>
                  </a:lnTo>
                  <a:lnTo>
                    <a:pt x="722" y="646"/>
                  </a:lnTo>
                  <a:lnTo>
                    <a:pt x="692" y="632"/>
                  </a:lnTo>
                  <a:lnTo>
                    <a:pt x="666" y="617"/>
                  </a:lnTo>
                  <a:lnTo>
                    <a:pt x="640" y="601"/>
                  </a:lnTo>
                  <a:lnTo>
                    <a:pt x="618" y="586"/>
                  </a:lnTo>
                  <a:lnTo>
                    <a:pt x="597" y="571"/>
                  </a:lnTo>
                  <a:lnTo>
                    <a:pt x="579" y="556"/>
                  </a:lnTo>
                  <a:lnTo>
                    <a:pt x="549" y="529"/>
                  </a:lnTo>
                  <a:lnTo>
                    <a:pt x="527" y="507"/>
                  </a:lnTo>
                  <a:lnTo>
                    <a:pt x="514" y="493"/>
                  </a:lnTo>
                  <a:lnTo>
                    <a:pt x="510" y="487"/>
                  </a:lnTo>
                  <a:lnTo>
                    <a:pt x="354" y="441"/>
                  </a:lnTo>
                  <a:lnTo>
                    <a:pt x="0" y="112"/>
                  </a:lnTo>
                  <a:lnTo>
                    <a:pt x="15" y="47"/>
                  </a:lnTo>
                  <a:lnTo>
                    <a:pt x="548" y="0"/>
                  </a:lnTo>
                  <a:lnTo>
                    <a:pt x="579" y="55"/>
                  </a:lnTo>
                  <a:lnTo>
                    <a:pt x="927" y="23"/>
                  </a:lnTo>
                  <a:lnTo>
                    <a:pt x="1576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Freeform 217"/>
            <p:cNvSpPr/>
            <p:nvPr/>
          </p:nvSpPr>
          <p:spPr>
            <a:xfrm>
              <a:off x="7764120" y="5400360"/>
              <a:ext cx="425520" cy="15192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666" h="882">
                  <a:moveTo>
                    <a:pt x="541" y="755"/>
                  </a:moveTo>
                  <a:lnTo>
                    <a:pt x="556" y="690"/>
                  </a:lnTo>
                  <a:lnTo>
                    <a:pt x="1089" y="643"/>
                  </a:lnTo>
                  <a:lnTo>
                    <a:pt x="1120" y="698"/>
                  </a:lnTo>
                  <a:lnTo>
                    <a:pt x="1468" y="666"/>
                  </a:lnTo>
                  <a:lnTo>
                    <a:pt x="2117" y="882"/>
                  </a:lnTo>
                  <a:lnTo>
                    <a:pt x="2317" y="851"/>
                  </a:lnTo>
                  <a:lnTo>
                    <a:pt x="2316" y="843"/>
                  </a:lnTo>
                  <a:lnTo>
                    <a:pt x="2312" y="822"/>
                  </a:lnTo>
                  <a:lnTo>
                    <a:pt x="2307" y="790"/>
                  </a:lnTo>
                  <a:lnTo>
                    <a:pt x="2302" y="753"/>
                  </a:lnTo>
                  <a:lnTo>
                    <a:pt x="2301" y="733"/>
                  </a:lnTo>
                  <a:lnTo>
                    <a:pt x="2301" y="713"/>
                  </a:lnTo>
                  <a:lnTo>
                    <a:pt x="2302" y="694"/>
                  </a:lnTo>
                  <a:lnTo>
                    <a:pt x="2305" y="676"/>
                  </a:lnTo>
                  <a:lnTo>
                    <a:pt x="2308" y="658"/>
                  </a:lnTo>
                  <a:lnTo>
                    <a:pt x="2314" y="643"/>
                  </a:lnTo>
                  <a:lnTo>
                    <a:pt x="2319" y="637"/>
                  </a:lnTo>
                  <a:lnTo>
                    <a:pt x="2322" y="630"/>
                  </a:lnTo>
                  <a:lnTo>
                    <a:pt x="2327" y="625"/>
                  </a:lnTo>
                  <a:lnTo>
                    <a:pt x="2333" y="621"/>
                  </a:lnTo>
                  <a:lnTo>
                    <a:pt x="2344" y="610"/>
                  </a:lnTo>
                  <a:lnTo>
                    <a:pt x="2357" y="599"/>
                  </a:lnTo>
                  <a:lnTo>
                    <a:pt x="2371" y="586"/>
                  </a:lnTo>
                  <a:lnTo>
                    <a:pt x="2386" y="572"/>
                  </a:lnTo>
                  <a:lnTo>
                    <a:pt x="2418" y="540"/>
                  </a:lnTo>
                  <a:lnTo>
                    <a:pt x="2453" y="507"/>
                  </a:lnTo>
                  <a:lnTo>
                    <a:pt x="2473" y="492"/>
                  </a:lnTo>
                  <a:lnTo>
                    <a:pt x="2494" y="477"/>
                  </a:lnTo>
                  <a:lnTo>
                    <a:pt x="2515" y="463"/>
                  </a:lnTo>
                  <a:lnTo>
                    <a:pt x="2538" y="450"/>
                  </a:lnTo>
                  <a:lnTo>
                    <a:pt x="2550" y="444"/>
                  </a:lnTo>
                  <a:lnTo>
                    <a:pt x="2563" y="438"/>
                  </a:lnTo>
                  <a:lnTo>
                    <a:pt x="2576" y="434"/>
                  </a:lnTo>
                  <a:lnTo>
                    <a:pt x="2588" y="429"/>
                  </a:lnTo>
                  <a:lnTo>
                    <a:pt x="2601" y="426"/>
                  </a:lnTo>
                  <a:lnTo>
                    <a:pt x="2615" y="422"/>
                  </a:lnTo>
                  <a:lnTo>
                    <a:pt x="2629" y="420"/>
                  </a:lnTo>
                  <a:lnTo>
                    <a:pt x="2643" y="419"/>
                  </a:lnTo>
                  <a:lnTo>
                    <a:pt x="2645" y="403"/>
                  </a:lnTo>
                  <a:lnTo>
                    <a:pt x="2646" y="387"/>
                  </a:lnTo>
                  <a:lnTo>
                    <a:pt x="2648" y="370"/>
                  </a:lnTo>
                  <a:lnTo>
                    <a:pt x="2652" y="351"/>
                  </a:lnTo>
                  <a:lnTo>
                    <a:pt x="2659" y="314"/>
                  </a:lnTo>
                  <a:lnTo>
                    <a:pt x="2664" y="276"/>
                  </a:lnTo>
                  <a:lnTo>
                    <a:pt x="2666" y="257"/>
                  </a:lnTo>
                  <a:lnTo>
                    <a:pt x="2666" y="239"/>
                  </a:lnTo>
                  <a:lnTo>
                    <a:pt x="2664" y="222"/>
                  </a:lnTo>
                  <a:lnTo>
                    <a:pt x="2662" y="206"/>
                  </a:lnTo>
                  <a:lnTo>
                    <a:pt x="2660" y="198"/>
                  </a:lnTo>
                  <a:lnTo>
                    <a:pt x="2656" y="191"/>
                  </a:lnTo>
                  <a:lnTo>
                    <a:pt x="2653" y="184"/>
                  </a:lnTo>
                  <a:lnTo>
                    <a:pt x="2649" y="178"/>
                  </a:lnTo>
                  <a:lnTo>
                    <a:pt x="2645" y="172"/>
                  </a:lnTo>
                  <a:lnTo>
                    <a:pt x="2639" y="166"/>
                  </a:lnTo>
                  <a:lnTo>
                    <a:pt x="2633" y="160"/>
                  </a:lnTo>
                  <a:lnTo>
                    <a:pt x="2626" y="157"/>
                  </a:lnTo>
                  <a:lnTo>
                    <a:pt x="2597" y="141"/>
                  </a:lnTo>
                  <a:lnTo>
                    <a:pt x="2569" y="128"/>
                  </a:lnTo>
                  <a:lnTo>
                    <a:pt x="2539" y="116"/>
                  </a:lnTo>
                  <a:lnTo>
                    <a:pt x="2511" y="102"/>
                  </a:lnTo>
                  <a:lnTo>
                    <a:pt x="2496" y="95"/>
                  </a:lnTo>
                  <a:lnTo>
                    <a:pt x="2482" y="86"/>
                  </a:lnTo>
                  <a:lnTo>
                    <a:pt x="2468" y="76"/>
                  </a:lnTo>
                  <a:lnTo>
                    <a:pt x="2454" y="65"/>
                  </a:lnTo>
                  <a:lnTo>
                    <a:pt x="2439" y="52"/>
                  </a:lnTo>
                  <a:lnTo>
                    <a:pt x="2425" y="37"/>
                  </a:lnTo>
                  <a:lnTo>
                    <a:pt x="2411" y="20"/>
                  </a:lnTo>
                  <a:lnTo>
                    <a:pt x="2396" y="0"/>
                  </a:lnTo>
                  <a:lnTo>
                    <a:pt x="625" y="240"/>
                  </a:lnTo>
                  <a:lnTo>
                    <a:pt x="618" y="246"/>
                  </a:lnTo>
                  <a:lnTo>
                    <a:pt x="613" y="252"/>
                  </a:lnTo>
                  <a:lnTo>
                    <a:pt x="611" y="260"/>
                  </a:lnTo>
                  <a:lnTo>
                    <a:pt x="607" y="269"/>
                  </a:lnTo>
                  <a:lnTo>
                    <a:pt x="605" y="290"/>
                  </a:lnTo>
                  <a:lnTo>
                    <a:pt x="603" y="311"/>
                  </a:lnTo>
                  <a:lnTo>
                    <a:pt x="600" y="323"/>
                  </a:lnTo>
                  <a:lnTo>
                    <a:pt x="598" y="333"/>
                  </a:lnTo>
                  <a:lnTo>
                    <a:pt x="593" y="343"/>
                  </a:lnTo>
                  <a:lnTo>
                    <a:pt x="589" y="351"/>
                  </a:lnTo>
                  <a:lnTo>
                    <a:pt x="582" y="359"/>
                  </a:lnTo>
                  <a:lnTo>
                    <a:pt x="573" y="365"/>
                  </a:lnTo>
                  <a:lnTo>
                    <a:pt x="569" y="367"/>
                  </a:lnTo>
                  <a:lnTo>
                    <a:pt x="563" y="370"/>
                  </a:lnTo>
                  <a:lnTo>
                    <a:pt x="557" y="372"/>
                  </a:lnTo>
                  <a:lnTo>
                    <a:pt x="550" y="372"/>
                  </a:lnTo>
                  <a:lnTo>
                    <a:pt x="538" y="374"/>
                  </a:lnTo>
                  <a:lnTo>
                    <a:pt x="528" y="377"/>
                  </a:lnTo>
                  <a:lnTo>
                    <a:pt x="517" y="380"/>
                  </a:lnTo>
                  <a:lnTo>
                    <a:pt x="507" y="385"/>
                  </a:lnTo>
                  <a:lnTo>
                    <a:pt x="498" y="389"/>
                  </a:lnTo>
                  <a:lnTo>
                    <a:pt x="488" y="395"/>
                  </a:lnTo>
                  <a:lnTo>
                    <a:pt x="480" y="401"/>
                  </a:lnTo>
                  <a:lnTo>
                    <a:pt x="472" y="408"/>
                  </a:lnTo>
                  <a:lnTo>
                    <a:pt x="455" y="423"/>
                  </a:lnTo>
                  <a:lnTo>
                    <a:pt x="440" y="438"/>
                  </a:lnTo>
                  <a:lnTo>
                    <a:pt x="424" y="456"/>
                  </a:lnTo>
                  <a:lnTo>
                    <a:pt x="409" y="474"/>
                  </a:lnTo>
                  <a:lnTo>
                    <a:pt x="394" y="491"/>
                  </a:lnTo>
                  <a:lnTo>
                    <a:pt x="377" y="507"/>
                  </a:lnTo>
                  <a:lnTo>
                    <a:pt x="360" y="524"/>
                  </a:lnTo>
                  <a:lnTo>
                    <a:pt x="341" y="539"/>
                  </a:lnTo>
                  <a:lnTo>
                    <a:pt x="332" y="545"/>
                  </a:lnTo>
                  <a:lnTo>
                    <a:pt x="321" y="552"/>
                  </a:lnTo>
                  <a:lnTo>
                    <a:pt x="311" y="556"/>
                  </a:lnTo>
                  <a:lnTo>
                    <a:pt x="299" y="562"/>
                  </a:lnTo>
                  <a:lnTo>
                    <a:pt x="287" y="566"/>
                  </a:lnTo>
                  <a:lnTo>
                    <a:pt x="274" y="569"/>
                  </a:lnTo>
                  <a:lnTo>
                    <a:pt x="262" y="573"/>
                  </a:lnTo>
                  <a:lnTo>
                    <a:pt x="248" y="574"/>
                  </a:lnTo>
                  <a:lnTo>
                    <a:pt x="236" y="575"/>
                  </a:lnTo>
                  <a:lnTo>
                    <a:pt x="224" y="577"/>
                  </a:lnTo>
                  <a:lnTo>
                    <a:pt x="213" y="580"/>
                  </a:lnTo>
                  <a:lnTo>
                    <a:pt x="201" y="583"/>
                  </a:lnTo>
                  <a:lnTo>
                    <a:pt x="177" y="592"/>
                  </a:lnTo>
                  <a:lnTo>
                    <a:pt x="154" y="601"/>
                  </a:lnTo>
                  <a:lnTo>
                    <a:pt x="132" y="613"/>
                  </a:lnTo>
                  <a:lnTo>
                    <a:pt x="111" y="625"/>
                  </a:lnTo>
                  <a:lnTo>
                    <a:pt x="91" y="639"/>
                  </a:lnTo>
                  <a:lnTo>
                    <a:pt x="72" y="653"/>
                  </a:lnTo>
                  <a:lnTo>
                    <a:pt x="56" y="669"/>
                  </a:lnTo>
                  <a:lnTo>
                    <a:pt x="41" y="683"/>
                  </a:lnTo>
                  <a:lnTo>
                    <a:pt x="28" y="697"/>
                  </a:lnTo>
                  <a:lnTo>
                    <a:pt x="19" y="709"/>
                  </a:lnTo>
                  <a:lnTo>
                    <a:pt x="12" y="720"/>
                  </a:lnTo>
                  <a:lnTo>
                    <a:pt x="7" y="731"/>
                  </a:lnTo>
                  <a:lnTo>
                    <a:pt x="6" y="735"/>
                  </a:lnTo>
                  <a:lnTo>
                    <a:pt x="6" y="739"/>
                  </a:lnTo>
                  <a:lnTo>
                    <a:pt x="7" y="741"/>
                  </a:lnTo>
                  <a:lnTo>
                    <a:pt x="8" y="745"/>
                  </a:lnTo>
                  <a:lnTo>
                    <a:pt x="12" y="748"/>
                  </a:lnTo>
                  <a:lnTo>
                    <a:pt x="15" y="754"/>
                  </a:lnTo>
                  <a:lnTo>
                    <a:pt x="17" y="759"/>
                  </a:lnTo>
                  <a:lnTo>
                    <a:pt x="19" y="763"/>
                  </a:lnTo>
                  <a:lnTo>
                    <a:pt x="20" y="775"/>
                  </a:lnTo>
                  <a:lnTo>
                    <a:pt x="17" y="785"/>
                  </a:lnTo>
                  <a:lnTo>
                    <a:pt x="15" y="795"/>
                  </a:lnTo>
                  <a:lnTo>
                    <a:pt x="10" y="803"/>
                  </a:lnTo>
                  <a:lnTo>
                    <a:pt x="5" y="810"/>
                  </a:lnTo>
                  <a:lnTo>
                    <a:pt x="0" y="813"/>
                  </a:lnTo>
                  <a:lnTo>
                    <a:pt x="541" y="75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Freeform 218"/>
            <p:cNvSpPr/>
            <p:nvPr/>
          </p:nvSpPr>
          <p:spPr>
            <a:xfrm>
              <a:off x="7450200" y="5442120"/>
              <a:ext cx="414360" cy="13752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2590" h="792">
                  <a:moveTo>
                    <a:pt x="2590" y="0"/>
                  </a:moveTo>
                  <a:lnTo>
                    <a:pt x="613" y="265"/>
                  </a:lnTo>
                  <a:lnTo>
                    <a:pt x="596" y="311"/>
                  </a:lnTo>
                  <a:lnTo>
                    <a:pt x="78" y="366"/>
                  </a:lnTo>
                  <a:lnTo>
                    <a:pt x="76" y="377"/>
                  </a:lnTo>
                  <a:lnTo>
                    <a:pt x="75" y="388"/>
                  </a:lnTo>
                  <a:lnTo>
                    <a:pt x="74" y="398"/>
                  </a:lnTo>
                  <a:lnTo>
                    <a:pt x="74" y="408"/>
                  </a:lnTo>
                  <a:lnTo>
                    <a:pt x="74" y="426"/>
                  </a:lnTo>
                  <a:lnTo>
                    <a:pt x="74" y="443"/>
                  </a:lnTo>
                  <a:lnTo>
                    <a:pt x="73" y="452"/>
                  </a:lnTo>
                  <a:lnTo>
                    <a:pt x="70" y="460"/>
                  </a:lnTo>
                  <a:lnTo>
                    <a:pt x="68" y="469"/>
                  </a:lnTo>
                  <a:lnTo>
                    <a:pt x="63" y="478"/>
                  </a:lnTo>
                  <a:lnTo>
                    <a:pt x="59" y="487"/>
                  </a:lnTo>
                  <a:lnTo>
                    <a:pt x="52" y="498"/>
                  </a:lnTo>
                  <a:lnTo>
                    <a:pt x="42" y="508"/>
                  </a:lnTo>
                  <a:lnTo>
                    <a:pt x="32" y="519"/>
                  </a:lnTo>
                  <a:lnTo>
                    <a:pt x="35" y="535"/>
                  </a:lnTo>
                  <a:lnTo>
                    <a:pt x="36" y="551"/>
                  </a:lnTo>
                  <a:lnTo>
                    <a:pt x="37" y="568"/>
                  </a:lnTo>
                  <a:lnTo>
                    <a:pt x="39" y="585"/>
                  </a:lnTo>
                  <a:lnTo>
                    <a:pt x="37" y="603"/>
                  </a:lnTo>
                  <a:lnTo>
                    <a:pt x="37" y="619"/>
                  </a:lnTo>
                  <a:lnTo>
                    <a:pt x="35" y="637"/>
                  </a:lnTo>
                  <a:lnTo>
                    <a:pt x="33" y="654"/>
                  </a:lnTo>
                  <a:lnTo>
                    <a:pt x="27" y="689"/>
                  </a:lnTo>
                  <a:lnTo>
                    <a:pt x="20" y="724"/>
                  </a:lnTo>
                  <a:lnTo>
                    <a:pt x="11" y="758"/>
                  </a:lnTo>
                  <a:lnTo>
                    <a:pt x="0" y="792"/>
                  </a:lnTo>
                  <a:lnTo>
                    <a:pt x="709" y="717"/>
                  </a:lnTo>
                  <a:lnTo>
                    <a:pt x="712" y="717"/>
                  </a:lnTo>
                  <a:lnTo>
                    <a:pt x="1466" y="631"/>
                  </a:lnTo>
                  <a:lnTo>
                    <a:pt x="1967" y="576"/>
                  </a:lnTo>
                  <a:lnTo>
                    <a:pt x="1972" y="563"/>
                  </a:lnTo>
                  <a:lnTo>
                    <a:pt x="1981" y="545"/>
                  </a:lnTo>
                  <a:lnTo>
                    <a:pt x="1982" y="541"/>
                  </a:lnTo>
                  <a:lnTo>
                    <a:pt x="1984" y="536"/>
                  </a:lnTo>
                  <a:lnTo>
                    <a:pt x="1985" y="530"/>
                  </a:lnTo>
                  <a:lnTo>
                    <a:pt x="1985" y="526"/>
                  </a:lnTo>
                  <a:lnTo>
                    <a:pt x="1984" y="520"/>
                  </a:lnTo>
                  <a:lnTo>
                    <a:pt x="1981" y="515"/>
                  </a:lnTo>
                  <a:lnTo>
                    <a:pt x="1978" y="509"/>
                  </a:lnTo>
                  <a:lnTo>
                    <a:pt x="1973" y="505"/>
                  </a:lnTo>
                  <a:lnTo>
                    <a:pt x="1972" y="501"/>
                  </a:lnTo>
                  <a:lnTo>
                    <a:pt x="1971" y="499"/>
                  </a:lnTo>
                  <a:lnTo>
                    <a:pt x="1971" y="495"/>
                  </a:lnTo>
                  <a:lnTo>
                    <a:pt x="1972" y="491"/>
                  </a:lnTo>
                  <a:lnTo>
                    <a:pt x="1977" y="480"/>
                  </a:lnTo>
                  <a:lnTo>
                    <a:pt x="1984" y="469"/>
                  </a:lnTo>
                  <a:lnTo>
                    <a:pt x="1993" y="457"/>
                  </a:lnTo>
                  <a:lnTo>
                    <a:pt x="2006" y="443"/>
                  </a:lnTo>
                  <a:lnTo>
                    <a:pt x="2021" y="429"/>
                  </a:lnTo>
                  <a:lnTo>
                    <a:pt x="2037" y="413"/>
                  </a:lnTo>
                  <a:lnTo>
                    <a:pt x="2056" y="399"/>
                  </a:lnTo>
                  <a:lnTo>
                    <a:pt x="2076" y="385"/>
                  </a:lnTo>
                  <a:lnTo>
                    <a:pt x="2097" y="373"/>
                  </a:lnTo>
                  <a:lnTo>
                    <a:pt x="2119" y="361"/>
                  </a:lnTo>
                  <a:lnTo>
                    <a:pt x="2142" y="352"/>
                  </a:lnTo>
                  <a:lnTo>
                    <a:pt x="2166" y="343"/>
                  </a:lnTo>
                  <a:lnTo>
                    <a:pt x="2178" y="340"/>
                  </a:lnTo>
                  <a:lnTo>
                    <a:pt x="2189" y="337"/>
                  </a:lnTo>
                  <a:lnTo>
                    <a:pt x="2201" y="335"/>
                  </a:lnTo>
                  <a:lnTo>
                    <a:pt x="2213" y="334"/>
                  </a:lnTo>
                  <a:lnTo>
                    <a:pt x="2227" y="333"/>
                  </a:lnTo>
                  <a:lnTo>
                    <a:pt x="2239" y="329"/>
                  </a:lnTo>
                  <a:lnTo>
                    <a:pt x="2252" y="326"/>
                  </a:lnTo>
                  <a:lnTo>
                    <a:pt x="2264" y="322"/>
                  </a:lnTo>
                  <a:lnTo>
                    <a:pt x="2276" y="316"/>
                  </a:lnTo>
                  <a:lnTo>
                    <a:pt x="2286" y="312"/>
                  </a:lnTo>
                  <a:lnTo>
                    <a:pt x="2297" y="305"/>
                  </a:lnTo>
                  <a:lnTo>
                    <a:pt x="2306" y="299"/>
                  </a:lnTo>
                  <a:lnTo>
                    <a:pt x="2325" y="284"/>
                  </a:lnTo>
                  <a:lnTo>
                    <a:pt x="2342" y="267"/>
                  </a:lnTo>
                  <a:lnTo>
                    <a:pt x="2359" y="251"/>
                  </a:lnTo>
                  <a:lnTo>
                    <a:pt x="2374" y="234"/>
                  </a:lnTo>
                  <a:lnTo>
                    <a:pt x="2389" y="216"/>
                  </a:lnTo>
                  <a:lnTo>
                    <a:pt x="2405" y="198"/>
                  </a:lnTo>
                  <a:lnTo>
                    <a:pt x="2420" y="183"/>
                  </a:lnTo>
                  <a:lnTo>
                    <a:pt x="2437" y="168"/>
                  </a:lnTo>
                  <a:lnTo>
                    <a:pt x="2445" y="161"/>
                  </a:lnTo>
                  <a:lnTo>
                    <a:pt x="2453" y="155"/>
                  </a:lnTo>
                  <a:lnTo>
                    <a:pt x="2463" y="149"/>
                  </a:lnTo>
                  <a:lnTo>
                    <a:pt x="2472" y="145"/>
                  </a:lnTo>
                  <a:lnTo>
                    <a:pt x="2482" y="140"/>
                  </a:lnTo>
                  <a:lnTo>
                    <a:pt x="2493" y="137"/>
                  </a:lnTo>
                  <a:lnTo>
                    <a:pt x="2503" y="134"/>
                  </a:lnTo>
                  <a:lnTo>
                    <a:pt x="2515" y="132"/>
                  </a:lnTo>
                  <a:lnTo>
                    <a:pt x="2522" y="132"/>
                  </a:lnTo>
                  <a:lnTo>
                    <a:pt x="2528" y="130"/>
                  </a:lnTo>
                  <a:lnTo>
                    <a:pt x="2534" y="127"/>
                  </a:lnTo>
                  <a:lnTo>
                    <a:pt x="2538" y="125"/>
                  </a:lnTo>
                  <a:lnTo>
                    <a:pt x="2547" y="119"/>
                  </a:lnTo>
                  <a:lnTo>
                    <a:pt x="2554" y="111"/>
                  </a:lnTo>
                  <a:lnTo>
                    <a:pt x="2558" y="103"/>
                  </a:lnTo>
                  <a:lnTo>
                    <a:pt x="2563" y="93"/>
                  </a:lnTo>
                  <a:lnTo>
                    <a:pt x="2565" y="83"/>
                  </a:lnTo>
                  <a:lnTo>
                    <a:pt x="2568" y="71"/>
                  </a:lnTo>
                  <a:lnTo>
                    <a:pt x="2570" y="50"/>
                  </a:lnTo>
                  <a:lnTo>
                    <a:pt x="2572" y="29"/>
                  </a:lnTo>
                  <a:lnTo>
                    <a:pt x="2576" y="20"/>
                  </a:lnTo>
                  <a:lnTo>
                    <a:pt x="2578" y="12"/>
                  </a:lnTo>
                  <a:lnTo>
                    <a:pt x="2583" y="6"/>
                  </a:lnTo>
                  <a:lnTo>
                    <a:pt x="25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Freeform 219"/>
            <p:cNvSpPr/>
            <p:nvPr/>
          </p:nvSpPr>
          <p:spPr>
            <a:xfrm>
              <a:off x="7462800" y="5351040"/>
              <a:ext cx="340560" cy="153720"/>
            </a:xfrm>
            <a:custGeom>
              <a:avLst/>
              <a:gdLst>
                <a:gd name="textAreaLeft" fmla="*/ 0 w 340560"/>
                <a:gd name="textAreaRight" fmla="*/ 340920 w 3405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135" h="893">
                  <a:moveTo>
                    <a:pt x="1872" y="611"/>
                  </a:moveTo>
                  <a:lnTo>
                    <a:pt x="535" y="792"/>
                  </a:lnTo>
                  <a:lnTo>
                    <a:pt x="518" y="838"/>
                  </a:lnTo>
                  <a:lnTo>
                    <a:pt x="0" y="893"/>
                  </a:lnTo>
                  <a:lnTo>
                    <a:pt x="7" y="870"/>
                  </a:lnTo>
                  <a:lnTo>
                    <a:pt x="16" y="849"/>
                  </a:lnTo>
                  <a:lnTo>
                    <a:pt x="25" y="829"/>
                  </a:lnTo>
                  <a:lnTo>
                    <a:pt x="37" y="812"/>
                  </a:lnTo>
                  <a:lnTo>
                    <a:pt x="49" y="794"/>
                  </a:lnTo>
                  <a:lnTo>
                    <a:pt x="63" y="778"/>
                  </a:lnTo>
                  <a:lnTo>
                    <a:pt x="79" y="764"/>
                  </a:lnTo>
                  <a:lnTo>
                    <a:pt x="95" y="751"/>
                  </a:lnTo>
                  <a:lnTo>
                    <a:pt x="110" y="737"/>
                  </a:lnTo>
                  <a:lnTo>
                    <a:pt x="125" y="725"/>
                  </a:lnTo>
                  <a:lnTo>
                    <a:pt x="139" y="716"/>
                  </a:lnTo>
                  <a:lnTo>
                    <a:pt x="153" y="708"/>
                  </a:lnTo>
                  <a:lnTo>
                    <a:pt x="180" y="695"/>
                  </a:lnTo>
                  <a:lnTo>
                    <a:pt x="206" y="682"/>
                  </a:lnTo>
                  <a:lnTo>
                    <a:pt x="219" y="675"/>
                  </a:lnTo>
                  <a:lnTo>
                    <a:pt x="232" y="666"/>
                  </a:lnTo>
                  <a:lnTo>
                    <a:pt x="246" y="655"/>
                  </a:lnTo>
                  <a:lnTo>
                    <a:pt x="259" y="643"/>
                  </a:lnTo>
                  <a:lnTo>
                    <a:pt x="273" y="627"/>
                  </a:lnTo>
                  <a:lnTo>
                    <a:pt x="287" y="609"/>
                  </a:lnTo>
                  <a:lnTo>
                    <a:pt x="302" y="585"/>
                  </a:lnTo>
                  <a:lnTo>
                    <a:pt x="317" y="558"/>
                  </a:lnTo>
                  <a:lnTo>
                    <a:pt x="326" y="539"/>
                  </a:lnTo>
                  <a:lnTo>
                    <a:pt x="331" y="527"/>
                  </a:lnTo>
                  <a:lnTo>
                    <a:pt x="336" y="520"/>
                  </a:lnTo>
                  <a:lnTo>
                    <a:pt x="344" y="509"/>
                  </a:lnTo>
                  <a:lnTo>
                    <a:pt x="359" y="495"/>
                  </a:lnTo>
                  <a:lnTo>
                    <a:pt x="380" y="476"/>
                  </a:lnTo>
                  <a:lnTo>
                    <a:pt x="391" y="466"/>
                  </a:lnTo>
                  <a:lnTo>
                    <a:pt x="402" y="458"/>
                  </a:lnTo>
                  <a:lnTo>
                    <a:pt x="415" y="451"/>
                  </a:lnTo>
                  <a:lnTo>
                    <a:pt x="430" y="444"/>
                  </a:lnTo>
                  <a:lnTo>
                    <a:pt x="444" y="438"/>
                  </a:lnTo>
                  <a:lnTo>
                    <a:pt x="461" y="432"/>
                  </a:lnTo>
                  <a:lnTo>
                    <a:pt x="478" y="428"/>
                  </a:lnTo>
                  <a:lnTo>
                    <a:pt x="496" y="423"/>
                  </a:lnTo>
                  <a:lnTo>
                    <a:pt x="575" y="407"/>
                  </a:lnTo>
                  <a:lnTo>
                    <a:pt x="663" y="391"/>
                  </a:lnTo>
                  <a:lnTo>
                    <a:pt x="708" y="382"/>
                  </a:lnTo>
                  <a:lnTo>
                    <a:pt x="755" y="370"/>
                  </a:lnTo>
                  <a:lnTo>
                    <a:pt x="778" y="363"/>
                  </a:lnTo>
                  <a:lnTo>
                    <a:pt x="802" y="356"/>
                  </a:lnTo>
                  <a:lnTo>
                    <a:pt x="825" y="348"/>
                  </a:lnTo>
                  <a:lnTo>
                    <a:pt x="848" y="340"/>
                  </a:lnTo>
                  <a:lnTo>
                    <a:pt x="872" y="330"/>
                  </a:lnTo>
                  <a:lnTo>
                    <a:pt x="894" y="319"/>
                  </a:lnTo>
                  <a:lnTo>
                    <a:pt x="916" y="306"/>
                  </a:lnTo>
                  <a:lnTo>
                    <a:pt x="938" y="293"/>
                  </a:lnTo>
                  <a:lnTo>
                    <a:pt x="961" y="279"/>
                  </a:lnTo>
                  <a:lnTo>
                    <a:pt x="982" y="263"/>
                  </a:lnTo>
                  <a:lnTo>
                    <a:pt x="1003" y="247"/>
                  </a:lnTo>
                  <a:lnTo>
                    <a:pt x="1022" y="228"/>
                  </a:lnTo>
                  <a:lnTo>
                    <a:pt x="1041" y="208"/>
                  </a:lnTo>
                  <a:lnTo>
                    <a:pt x="1054" y="191"/>
                  </a:lnTo>
                  <a:lnTo>
                    <a:pt x="1059" y="182"/>
                  </a:lnTo>
                  <a:lnTo>
                    <a:pt x="1062" y="175"/>
                  </a:lnTo>
                  <a:lnTo>
                    <a:pt x="1066" y="168"/>
                  </a:lnTo>
                  <a:lnTo>
                    <a:pt x="1068" y="161"/>
                  </a:lnTo>
                  <a:lnTo>
                    <a:pt x="1070" y="150"/>
                  </a:lnTo>
                  <a:lnTo>
                    <a:pt x="1070" y="139"/>
                  </a:lnTo>
                  <a:lnTo>
                    <a:pt x="1068" y="130"/>
                  </a:lnTo>
                  <a:lnTo>
                    <a:pt x="1067" y="120"/>
                  </a:lnTo>
                  <a:lnTo>
                    <a:pt x="1065" y="112"/>
                  </a:lnTo>
                  <a:lnTo>
                    <a:pt x="1062" y="104"/>
                  </a:lnTo>
                  <a:lnTo>
                    <a:pt x="1062" y="96"/>
                  </a:lnTo>
                  <a:lnTo>
                    <a:pt x="1063" y="87"/>
                  </a:lnTo>
                  <a:lnTo>
                    <a:pt x="1066" y="82"/>
                  </a:lnTo>
                  <a:lnTo>
                    <a:pt x="1068" y="77"/>
                  </a:lnTo>
                  <a:lnTo>
                    <a:pt x="1072" y="71"/>
                  </a:lnTo>
                  <a:lnTo>
                    <a:pt x="1076" y="66"/>
                  </a:lnTo>
                  <a:lnTo>
                    <a:pt x="1089" y="54"/>
                  </a:lnTo>
                  <a:lnTo>
                    <a:pt x="1105" y="40"/>
                  </a:lnTo>
                  <a:lnTo>
                    <a:pt x="1109" y="36"/>
                  </a:lnTo>
                  <a:lnTo>
                    <a:pt x="1112" y="34"/>
                  </a:lnTo>
                  <a:lnTo>
                    <a:pt x="1116" y="32"/>
                  </a:lnTo>
                  <a:lnTo>
                    <a:pt x="1121" y="30"/>
                  </a:lnTo>
                  <a:lnTo>
                    <a:pt x="1131" y="28"/>
                  </a:lnTo>
                  <a:lnTo>
                    <a:pt x="1142" y="28"/>
                  </a:lnTo>
                  <a:lnTo>
                    <a:pt x="1153" y="27"/>
                  </a:lnTo>
                  <a:lnTo>
                    <a:pt x="1164" y="25"/>
                  </a:lnTo>
                  <a:lnTo>
                    <a:pt x="1170" y="22"/>
                  </a:lnTo>
                  <a:lnTo>
                    <a:pt x="1174" y="20"/>
                  </a:lnTo>
                  <a:lnTo>
                    <a:pt x="1179" y="16"/>
                  </a:lnTo>
                  <a:lnTo>
                    <a:pt x="1184" y="12"/>
                  </a:lnTo>
                  <a:lnTo>
                    <a:pt x="1186" y="8"/>
                  </a:lnTo>
                  <a:lnTo>
                    <a:pt x="1190" y="6"/>
                  </a:lnTo>
                  <a:lnTo>
                    <a:pt x="1193" y="5"/>
                  </a:lnTo>
                  <a:lnTo>
                    <a:pt x="1197" y="2"/>
                  </a:lnTo>
                  <a:lnTo>
                    <a:pt x="1206" y="1"/>
                  </a:lnTo>
                  <a:lnTo>
                    <a:pt x="1216" y="0"/>
                  </a:lnTo>
                  <a:lnTo>
                    <a:pt x="1229" y="0"/>
                  </a:lnTo>
                  <a:lnTo>
                    <a:pt x="1242" y="1"/>
                  </a:lnTo>
                  <a:lnTo>
                    <a:pt x="1255" y="4"/>
                  </a:lnTo>
                  <a:lnTo>
                    <a:pt x="1269" y="6"/>
                  </a:lnTo>
                  <a:lnTo>
                    <a:pt x="1296" y="11"/>
                  </a:lnTo>
                  <a:lnTo>
                    <a:pt x="1320" y="15"/>
                  </a:lnTo>
                  <a:lnTo>
                    <a:pt x="1331" y="18"/>
                  </a:lnTo>
                  <a:lnTo>
                    <a:pt x="1340" y="18"/>
                  </a:lnTo>
                  <a:lnTo>
                    <a:pt x="1348" y="19"/>
                  </a:lnTo>
                  <a:lnTo>
                    <a:pt x="1353" y="18"/>
                  </a:lnTo>
                  <a:lnTo>
                    <a:pt x="1358" y="16"/>
                  </a:lnTo>
                  <a:lnTo>
                    <a:pt x="1364" y="18"/>
                  </a:lnTo>
                  <a:lnTo>
                    <a:pt x="1369" y="20"/>
                  </a:lnTo>
                  <a:lnTo>
                    <a:pt x="1376" y="23"/>
                  </a:lnTo>
                  <a:lnTo>
                    <a:pt x="1390" y="30"/>
                  </a:lnTo>
                  <a:lnTo>
                    <a:pt x="1404" y="40"/>
                  </a:lnTo>
                  <a:lnTo>
                    <a:pt x="1420" y="48"/>
                  </a:lnTo>
                  <a:lnTo>
                    <a:pt x="1435" y="53"/>
                  </a:lnTo>
                  <a:lnTo>
                    <a:pt x="1442" y="54"/>
                  </a:lnTo>
                  <a:lnTo>
                    <a:pt x="1449" y="54"/>
                  </a:lnTo>
                  <a:lnTo>
                    <a:pt x="1455" y="53"/>
                  </a:lnTo>
                  <a:lnTo>
                    <a:pt x="1461" y="49"/>
                  </a:lnTo>
                  <a:lnTo>
                    <a:pt x="1466" y="44"/>
                  </a:lnTo>
                  <a:lnTo>
                    <a:pt x="1473" y="41"/>
                  </a:lnTo>
                  <a:lnTo>
                    <a:pt x="1482" y="37"/>
                  </a:lnTo>
                  <a:lnTo>
                    <a:pt x="1490" y="34"/>
                  </a:lnTo>
                  <a:lnTo>
                    <a:pt x="1508" y="29"/>
                  </a:lnTo>
                  <a:lnTo>
                    <a:pt x="1529" y="25"/>
                  </a:lnTo>
                  <a:lnTo>
                    <a:pt x="1552" y="21"/>
                  </a:lnTo>
                  <a:lnTo>
                    <a:pt x="1576" y="19"/>
                  </a:lnTo>
                  <a:lnTo>
                    <a:pt x="1603" y="18"/>
                  </a:lnTo>
                  <a:lnTo>
                    <a:pt x="1630" y="18"/>
                  </a:lnTo>
                  <a:lnTo>
                    <a:pt x="1653" y="18"/>
                  </a:lnTo>
                  <a:lnTo>
                    <a:pt x="1673" y="19"/>
                  </a:lnTo>
                  <a:lnTo>
                    <a:pt x="1689" y="23"/>
                  </a:lnTo>
                  <a:lnTo>
                    <a:pt x="1704" y="29"/>
                  </a:lnTo>
                  <a:lnTo>
                    <a:pt x="1716" y="36"/>
                  </a:lnTo>
                  <a:lnTo>
                    <a:pt x="1729" y="44"/>
                  </a:lnTo>
                  <a:lnTo>
                    <a:pt x="1741" y="53"/>
                  </a:lnTo>
                  <a:lnTo>
                    <a:pt x="1753" y="63"/>
                  </a:lnTo>
                  <a:lnTo>
                    <a:pt x="1764" y="74"/>
                  </a:lnTo>
                  <a:lnTo>
                    <a:pt x="1778" y="84"/>
                  </a:lnTo>
                  <a:lnTo>
                    <a:pt x="1795" y="95"/>
                  </a:lnTo>
                  <a:lnTo>
                    <a:pt x="1813" y="105"/>
                  </a:lnTo>
                  <a:lnTo>
                    <a:pt x="1834" y="116"/>
                  </a:lnTo>
                  <a:lnTo>
                    <a:pt x="1860" y="125"/>
                  </a:lnTo>
                  <a:lnTo>
                    <a:pt x="1889" y="133"/>
                  </a:lnTo>
                  <a:lnTo>
                    <a:pt x="1924" y="141"/>
                  </a:lnTo>
                  <a:lnTo>
                    <a:pt x="1920" y="146"/>
                  </a:lnTo>
                  <a:lnTo>
                    <a:pt x="1917" y="152"/>
                  </a:lnTo>
                  <a:lnTo>
                    <a:pt x="1916" y="158"/>
                  </a:lnTo>
                  <a:lnTo>
                    <a:pt x="1915" y="165"/>
                  </a:lnTo>
                  <a:lnTo>
                    <a:pt x="1916" y="173"/>
                  </a:lnTo>
                  <a:lnTo>
                    <a:pt x="1918" y="181"/>
                  </a:lnTo>
                  <a:lnTo>
                    <a:pt x="1921" y="189"/>
                  </a:lnTo>
                  <a:lnTo>
                    <a:pt x="1925" y="196"/>
                  </a:lnTo>
                  <a:lnTo>
                    <a:pt x="1930" y="205"/>
                  </a:lnTo>
                  <a:lnTo>
                    <a:pt x="1937" y="213"/>
                  </a:lnTo>
                  <a:lnTo>
                    <a:pt x="1944" y="220"/>
                  </a:lnTo>
                  <a:lnTo>
                    <a:pt x="1953" y="226"/>
                  </a:lnTo>
                  <a:lnTo>
                    <a:pt x="1964" y="231"/>
                  </a:lnTo>
                  <a:lnTo>
                    <a:pt x="1975" y="236"/>
                  </a:lnTo>
                  <a:lnTo>
                    <a:pt x="1987" y="240"/>
                  </a:lnTo>
                  <a:lnTo>
                    <a:pt x="2001" y="242"/>
                  </a:lnTo>
                  <a:lnTo>
                    <a:pt x="2015" y="242"/>
                  </a:lnTo>
                  <a:lnTo>
                    <a:pt x="2029" y="244"/>
                  </a:lnTo>
                  <a:lnTo>
                    <a:pt x="2043" y="249"/>
                  </a:lnTo>
                  <a:lnTo>
                    <a:pt x="2060" y="256"/>
                  </a:lnTo>
                  <a:lnTo>
                    <a:pt x="2094" y="272"/>
                  </a:lnTo>
                  <a:lnTo>
                    <a:pt x="2135" y="291"/>
                  </a:lnTo>
                  <a:lnTo>
                    <a:pt x="2124" y="297"/>
                  </a:lnTo>
                  <a:lnTo>
                    <a:pt x="2114" y="301"/>
                  </a:lnTo>
                  <a:lnTo>
                    <a:pt x="2103" y="305"/>
                  </a:lnTo>
                  <a:lnTo>
                    <a:pt x="2094" y="306"/>
                  </a:lnTo>
                  <a:lnTo>
                    <a:pt x="2076" y="308"/>
                  </a:lnTo>
                  <a:lnTo>
                    <a:pt x="2061" y="310"/>
                  </a:lnTo>
                  <a:lnTo>
                    <a:pt x="2055" y="311"/>
                  </a:lnTo>
                  <a:lnTo>
                    <a:pt x="2050" y="313"/>
                  </a:lnTo>
                  <a:lnTo>
                    <a:pt x="2047" y="317"/>
                  </a:lnTo>
                  <a:lnTo>
                    <a:pt x="2045" y="320"/>
                  </a:lnTo>
                  <a:lnTo>
                    <a:pt x="2045" y="326"/>
                  </a:lnTo>
                  <a:lnTo>
                    <a:pt x="2047" y="334"/>
                  </a:lnTo>
                  <a:lnTo>
                    <a:pt x="2050" y="345"/>
                  </a:lnTo>
                  <a:lnTo>
                    <a:pt x="2056" y="358"/>
                  </a:lnTo>
                  <a:lnTo>
                    <a:pt x="2060" y="365"/>
                  </a:lnTo>
                  <a:lnTo>
                    <a:pt x="2061" y="373"/>
                  </a:lnTo>
                  <a:lnTo>
                    <a:pt x="2062" y="381"/>
                  </a:lnTo>
                  <a:lnTo>
                    <a:pt x="2063" y="389"/>
                  </a:lnTo>
                  <a:lnTo>
                    <a:pt x="2062" y="398"/>
                  </a:lnTo>
                  <a:lnTo>
                    <a:pt x="2061" y="408"/>
                  </a:lnTo>
                  <a:lnTo>
                    <a:pt x="2059" y="417"/>
                  </a:lnTo>
                  <a:lnTo>
                    <a:pt x="2056" y="426"/>
                  </a:lnTo>
                  <a:lnTo>
                    <a:pt x="2049" y="445"/>
                  </a:lnTo>
                  <a:lnTo>
                    <a:pt x="2039" y="465"/>
                  </a:lnTo>
                  <a:lnTo>
                    <a:pt x="2027" y="485"/>
                  </a:lnTo>
                  <a:lnTo>
                    <a:pt x="2013" y="505"/>
                  </a:lnTo>
                  <a:lnTo>
                    <a:pt x="1998" y="523"/>
                  </a:lnTo>
                  <a:lnTo>
                    <a:pt x="1980" y="541"/>
                  </a:lnTo>
                  <a:lnTo>
                    <a:pt x="1963" y="557"/>
                  </a:lnTo>
                  <a:lnTo>
                    <a:pt x="1945" y="572"/>
                  </a:lnTo>
                  <a:lnTo>
                    <a:pt x="1927" y="585"/>
                  </a:lnTo>
                  <a:lnTo>
                    <a:pt x="1908" y="596"/>
                  </a:lnTo>
                  <a:lnTo>
                    <a:pt x="1889" y="605"/>
                  </a:lnTo>
                  <a:lnTo>
                    <a:pt x="1872" y="61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Freeform 220"/>
            <p:cNvSpPr/>
            <p:nvPr/>
          </p:nvSpPr>
          <p:spPr>
            <a:xfrm>
              <a:off x="7760880" y="5291280"/>
              <a:ext cx="385560" cy="16524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411" h="954">
                  <a:moveTo>
                    <a:pt x="1823" y="245"/>
                  </a:moveTo>
                  <a:lnTo>
                    <a:pt x="1840" y="252"/>
                  </a:lnTo>
                  <a:lnTo>
                    <a:pt x="1855" y="260"/>
                  </a:lnTo>
                  <a:lnTo>
                    <a:pt x="1870" y="268"/>
                  </a:lnTo>
                  <a:lnTo>
                    <a:pt x="1883" y="277"/>
                  </a:lnTo>
                  <a:lnTo>
                    <a:pt x="1896" y="286"/>
                  </a:lnTo>
                  <a:lnTo>
                    <a:pt x="1907" y="296"/>
                  </a:lnTo>
                  <a:lnTo>
                    <a:pt x="1919" y="307"/>
                  </a:lnTo>
                  <a:lnTo>
                    <a:pt x="1929" y="319"/>
                  </a:lnTo>
                  <a:lnTo>
                    <a:pt x="1952" y="344"/>
                  </a:lnTo>
                  <a:lnTo>
                    <a:pt x="1974" y="375"/>
                  </a:lnTo>
                  <a:lnTo>
                    <a:pt x="1997" y="409"/>
                  </a:lnTo>
                  <a:lnTo>
                    <a:pt x="2025" y="447"/>
                  </a:lnTo>
                  <a:lnTo>
                    <a:pt x="2049" y="447"/>
                  </a:lnTo>
                  <a:lnTo>
                    <a:pt x="2073" y="451"/>
                  </a:lnTo>
                  <a:lnTo>
                    <a:pt x="2099" y="454"/>
                  </a:lnTo>
                  <a:lnTo>
                    <a:pt x="2126" y="460"/>
                  </a:lnTo>
                  <a:lnTo>
                    <a:pt x="2153" y="468"/>
                  </a:lnTo>
                  <a:lnTo>
                    <a:pt x="2179" y="476"/>
                  </a:lnTo>
                  <a:lnTo>
                    <a:pt x="2207" y="487"/>
                  </a:lnTo>
                  <a:lnTo>
                    <a:pt x="2234" y="498"/>
                  </a:lnTo>
                  <a:lnTo>
                    <a:pt x="2260" y="511"/>
                  </a:lnTo>
                  <a:lnTo>
                    <a:pt x="2287" y="525"/>
                  </a:lnTo>
                  <a:lnTo>
                    <a:pt x="2311" y="541"/>
                  </a:lnTo>
                  <a:lnTo>
                    <a:pt x="2335" y="557"/>
                  </a:lnTo>
                  <a:lnTo>
                    <a:pt x="2357" y="574"/>
                  </a:lnTo>
                  <a:lnTo>
                    <a:pt x="2377" y="592"/>
                  </a:lnTo>
                  <a:lnTo>
                    <a:pt x="2394" y="612"/>
                  </a:lnTo>
                  <a:lnTo>
                    <a:pt x="2411" y="630"/>
                  </a:lnTo>
                  <a:lnTo>
                    <a:pt x="640" y="870"/>
                  </a:lnTo>
                  <a:lnTo>
                    <a:pt x="0" y="954"/>
                  </a:lnTo>
                  <a:lnTo>
                    <a:pt x="17" y="948"/>
                  </a:lnTo>
                  <a:lnTo>
                    <a:pt x="36" y="939"/>
                  </a:lnTo>
                  <a:lnTo>
                    <a:pt x="55" y="928"/>
                  </a:lnTo>
                  <a:lnTo>
                    <a:pt x="73" y="915"/>
                  </a:lnTo>
                  <a:lnTo>
                    <a:pt x="91" y="900"/>
                  </a:lnTo>
                  <a:lnTo>
                    <a:pt x="108" y="884"/>
                  </a:lnTo>
                  <a:lnTo>
                    <a:pt x="126" y="866"/>
                  </a:lnTo>
                  <a:lnTo>
                    <a:pt x="141" y="848"/>
                  </a:lnTo>
                  <a:lnTo>
                    <a:pt x="155" y="828"/>
                  </a:lnTo>
                  <a:lnTo>
                    <a:pt x="167" y="808"/>
                  </a:lnTo>
                  <a:lnTo>
                    <a:pt x="177" y="788"/>
                  </a:lnTo>
                  <a:lnTo>
                    <a:pt x="184" y="769"/>
                  </a:lnTo>
                  <a:lnTo>
                    <a:pt x="187" y="760"/>
                  </a:lnTo>
                  <a:lnTo>
                    <a:pt x="189" y="751"/>
                  </a:lnTo>
                  <a:lnTo>
                    <a:pt x="190" y="741"/>
                  </a:lnTo>
                  <a:lnTo>
                    <a:pt x="191" y="732"/>
                  </a:lnTo>
                  <a:lnTo>
                    <a:pt x="190" y="724"/>
                  </a:lnTo>
                  <a:lnTo>
                    <a:pt x="189" y="716"/>
                  </a:lnTo>
                  <a:lnTo>
                    <a:pt x="188" y="708"/>
                  </a:lnTo>
                  <a:lnTo>
                    <a:pt x="184" y="701"/>
                  </a:lnTo>
                  <a:lnTo>
                    <a:pt x="178" y="688"/>
                  </a:lnTo>
                  <a:lnTo>
                    <a:pt x="175" y="677"/>
                  </a:lnTo>
                  <a:lnTo>
                    <a:pt x="173" y="669"/>
                  </a:lnTo>
                  <a:lnTo>
                    <a:pt x="173" y="663"/>
                  </a:lnTo>
                  <a:lnTo>
                    <a:pt x="175" y="660"/>
                  </a:lnTo>
                  <a:lnTo>
                    <a:pt x="178" y="656"/>
                  </a:lnTo>
                  <a:lnTo>
                    <a:pt x="183" y="654"/>
                  </a:lnTo>
                  <a:lnTo>
                    <a:pt x="189" y="653"/>
                  </a:lnTo>
                  <a:lnTo>
                    <a:pt x="204" y="651"/>
                  </a:lnTo>
                  <a:lnTo>
                    <a:pt x="222" y="649"/>
                  </a:lnTo>
                  <a:lnTo>
                    <a:pt x="231" y="648"/>
                  </a:lnTo>
                  <a:lnTo>
                    <a:pt x="242" y="644"/>
                  </a:lnTo>
                  <a:lnTo>
                    <a:pt x="252" y="640"/>
                  </a:lnTo>
                  <a:lnTo>
                    <a:pt x="263" y="634"/>
                  </a:lnTo>
                  <a:lnTo>
                    <a:pt x="278" y="640"/>
                  </a:lnTo>
                  <a:lnTo>
                    <a:pt x="294" y="647"/>
                  </a:lnTo>
                  <a:lnTo>
                    <a:pt x="313" y="651"/>
                  </a:lnTo>
                  <a:lnTo>
                    <a:pt x="331" y="657"/>
                  </a:lnTo>
                  <a:lnTo>
                    <a:pt x="351" y="662"/>
                  </a:lnTo>
                  <a:lnTo>
                    <a:pt x="374" y="666"/>
                  </a:lnTo>
                  <a:lnTo>
                    <a:pt x="396" y="668"/>
                  </a:lnTo>
                  <a:lnTo>
                    <a:pt x="420" y="669"/>
                  </a:lnTo>
                  <a:lnTo>
                    <a:pt x="446" y="670"/>
                  </a:lnTo>
                  <a:lnTo>
                    <a:pt x="473" y="669"/>
                  </a:lnTo>
                  <a:lnTo>
                    <a:pt x="502" y="666"/>
                  </a:lnTo>
                  <a:lnTo>
                    <a:pt x="532" y="662"/>
                  </a:lnTo>
                  <a:lnTo>
                    <a:pt x="564" y="656"/>
                  </a:lnTo>
                  <a:lnTo>
                    <a:pt x="598" y="648"/>
                  </a:lnTo>
                  <a:lnTo>
                    <a:pt x="634" y="637"/>
                  </a:lnTo>
                  <a:lnTo>
                    <a:pt x="671" y="625"/>
                  </a:lnTo>
                  <a:lnTo>
                    <a:pt x="683" y="620"/>
                  </a:lnTo>
                  <a:lnTo>
                    <a:pt x="694" y="614"/>
                  </a:lnTo>
                  <a:lnTo>
                    <a:pt x="703" y="607"/>
                  </a:lnTo>
                  <a:lnTo>
                    <a:pt x="712" y="599"/>
                  </a:lnTo>
                  <a:lnTo>
                    <a:pt x="719" y="590"/>
                  </a:lnTo>
                  <a:lnTo>
                    <a:pt x="726" y="579"/>
                  </a:lnTo>
                  <a:lnTo>
                    <a:pt x="733" y="569"/>
                  </a:lnTo>
                  <a:lnTo>
                    <a:pt x="739" y="558"/>
                  </a:lnTo>
                  <a:lnTo>
                    <a:pt x="744" y="546"/>
                  </a:lnTo>
                  <a:lnTo>
                    <a:pt x="748" y="534"/>
                  </a:lnTo>
                  <a:lnTo>
                    <a:pt x="752" y="521"/>
                  </a:lnTo>
                  <a:lnTo>
                    <a:pt x="755" y="508"/>
                  </a:lnTo>
                  <a:lnTo>
                    <a:pt x="761" y="480"/>
                  </a:lnTo>
                  <a:lnTo>
                    <a:pt x="766" y="452"/>
                  </a:lnTo>
                  <a:lnTo>
                    <a:pt x="773" y="396"/>
                  </a:lnTo>
                  <a:lnTo>
                    <a:pt x="780" y="344"/>
                  </a:lnTo>
                  <a:lnTo>
                    <a:pt x="786" y="321"/>
                  </a:lnTo>
                  <a:lnTo>
                    <a:pt x="792" y="300"/>
                  </a:lnTo>
                  <a:lnTo>
                    <a:pt x="795" y="291"/>
                  </a:lnTo>
                  <a:lnTo>
                    <a:pt x="800" y="282"/>
                  </a:lnTo>
                  <a:lnTo>
                    <a:pt x="805" y="274"/>
                  </a:lnTo>
                  <a:lnTo>
                    <a:pt x="809" y="268"/>
                  </a:lnTo>
                  <a:lnTo>
                    <a:pt x="821" y="256"/>
                  </a:lnTo>
                  <a:lnTo>
                    <a:pt x="833" y="240"/>
                  </a:lnTo>
                  <a:lnTo>
                    <a:pt x="844" y="224"/>
                  </a:lnTo>
                  <a:lnTo>
                    <a:pt x="856" y="206"/>
                  </a:lnTo>
                  <a:lnTo>
                    <a:pt x="878" y="167"/>
                  </a:lnTo>
                  <a:lnTo>
                    <a:pt x="900" y="126"/>
                  </a:lnTo>
                  <a:lnTo>
                    <a:pt x="920" y="87"/>
                  </a:lnTo>
                  <a:lnTo>
                    <a:pt x="940" y="52"/>
                  </a:lnTo>
                  <a:lnTo>
                    <a:pt x="949" y="37"/>
                  </a:lnTo>
                  <a:lnTo>
                    <a:pt x="958" y="24"/>
                  </a:lnTo>
                  <a:lnTo>
                    <a:pt x="966" y="14"/>
                  </a:lnTo>
                  <a:lnTo>
                    <a:pt x="974" y="6"/>
                  </a:lnTo>
                  <a:lnTo>
                    <a:pt x="1019" y="1"/>
                  </a:lnTo>
                  <a:lnTo>
                    <a:pt x="1060" y="0"/>
                  </a:lnTo>
                  <a:lnTo>
                    <a:pt x="1097" y="0"/>
                  </a:lnTo>
                  <a:lnTo>
                    <a:pt x="1128" y="1"/>
                  </a:lnTo>
                  <a:lnTo>
                    <a:pt x="1156" y="4"/>
                  </a:lnTo>
                  <a:lnTo>
                    <a:pt x="1180" y="8"/>
                  </a:lnTo>
                  <a:lnTo>
                    <a:pt x="1201" y="14"/>
                  </a:lnTo>
                  <a:lnTo>
                    <a:pt x="1218" y="20"/>
                  </a:lnTo>
                  <a:lnTo>
                    <a:pt x="1247" y="31"/>
                  </a:lnTo>
                  <a:lnTo>
                    <a:pt x="1271" y="41"/>
                  </a:lnTo>
                  <a:lnTo>
                    <a:pt x="1281" y="44"/>
                  </a:lnTo>
                  <a:lnTo>
                    <a:pt x="1292" y="45"/>
                  </a:lnTo>
                  <a:lnTo>
                    <a:pt x="1302" y="45"/>
                  </a:lnTo>
                  <a:lnTo>
                    <a:pt x="1314" y="43"/>
                  </a:lnTo>
                  <a:lnTo>
                    <a:pt x="1323" y="44"/>
                  </a:lnTo>
                  <a:lnTo>
                    <a:pt x="1330" y="45"/>
                  </a:lnTo>
                  <a:lnTo>
                    <a:pt x="1337" y="48"/>
                  </a:lnTo>
                  <a:lnTo>
                    <a:pt x="1342" y="51"/>
                  </a:lnTo>
                  <a:lnTo>
                    <a:pt x="1347" y="55"/>
                  </a:lnTo>
                  <a:lnTo>
                    <a:pt x="1350" y="59"/>
                  </a:lnTo>
                  <a:lnTo>
                    <a:pt x="1354" y="65"/>
                  </a:lnTo>
                  <a:lnTo>
                    <a:pt x="1356" y="71"/>
                  </a:lnTo>
                  <a:lnTo>
                    <a:pt x="1363" y="83"/>
                  </a:lnTo>
                  <a:lnTo>
                    <a:pt x="1372" y="95"/>
                  </a:lnTo>
                  <a:lnTo>
                    <a:pt x="1378" y="102"/>
                  </a:lnTo>
                  <a:lnTo>
                    <a:pt x="1385" y="108"/>
                  </a:lnTo>
                  <a:lnTo>
                    <a:pt x="1394" y="115"/>
                  </a:lnTo>
                  <a:lnTo>
                    <a:pt x="1406" y="121"/>
                  </a:lnTo>
                  <a:lnTo>
                    <a:pt x="1412" y="135"/>
                  </a:lnTo>
                  <a:lnTo>
                    <a:pt x="1419" y="148"/>
                  </a:lnTo>
                  <a:lnTo>
                    <a:pt x="1427" y="159"/>
                  </a:lnTo>
                  <a:lnTo>
                    <a:pt x="1435" y="169"/>
                  </a:lnTo>
                  <a:lnTo>
                    <a:pt x="1442" y="177"/>
                  </a:lnTo>
                  <a:lnTo>
                    <a:pt x="1452" y="185"/>
                  </a:lnTo>
                  <a:lnTo>
                    <a:pt x="1460" y="192"/>
                  </a:lnTo>
                  <a:lnTo>
                    <a:pt x="1469" y="198"/>
                  </a:lnTo>
                  <a:lnTo>
                    <a:pt x="1477" y="203"/>
                  </a:lnTo>
                  <a:lnTo>
                    <a:pt x="1487" y="208"/>
                  </a:lnTo>
                  <a:lnTo>
                    <a:pt x="1496" y="211"/>
                  </a:lnTo>
                  <a:lnTo>
                    <a:pt x="1505" y="213"/>
                  </a:lnTo>
                  <a:lnTo>
                    <a:pt x="1524" y="218"/>
                  </a:lnTo>
                  <a:lnTo>
                    <a:pt x="1543" y="219"/>
                  </a:lnTo>
                  <a:lnTo>
                    <a:pt x="1577" y="220"/>
                  </a:lnTo>
                  <a:lnTo>
                    <a:pt x="1607" y="220"/>
                  </a:lnTo>
                  <a:lnTo>
                    <a:pt x="1620" y="222"/>
                  </a:lnTo>
                  <a:lnTo>
                    <a:pt x="1630" y="225"/>
                  </a:lnTo>
                  <a:lnTo>
                    <a:pt x="1635" y="226"/>
                  </a:lnTo>
                  <a:lnTo>
                    <a:pt x="1639" y="229"/>
                  </a:lnTo>
                  <a:lnTo>
                    <a:pt x="1642" y="232"/>
                  </a:lnTo>
                  <a:lnTo>
                    <a:pt x="1644" y="237"/>
                  </a:lnTo>
                  <a:lnTo>
                    <a:pt x="1823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Freeform 221"/>
            <p:cNvSpPr/>
            <p:nvPr/>
          </p:nvSpPr>
          <p:spPr>
            <a:xfrm>
              <a:off x="8062920" y="5299200"/>
              <a:ext cx="47520" cy="61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89" h="357">
                  <a:moveTo>
                    <a:pt x="285" y="357"/>
                  </a:moveTo>
                  <a:lnTo>
                    <a:pt x="273" y="353"/>
                  </a:lnTo>
                  <a:lnTo>
                    <a:pt x="263" y="347"/>
                  </a:lnTo>
                  <a:lnTo>
                    <a:pt x="251" y="340"/>
                  </a:lnTo>
                  <a:lnTo>
                    <a:pt x="241" y="332"/>
                  </a:lnTo>
                  <a:lnTo>
                    <a:pt x="230" y="322"/>
                  </a:lnTo>
                  <a:lnTo>
                    <a:pt x="220" y="313"/>
                  </a:lnTo>
                  <a:lnTo>
                    <a:pt x="209" y="302"/>
                  </a:lnTo>
                  <a:lnTo>
                    <a:pt x="200" y="292"/>
                  </a:lnTo>
                  <a:lnTo>
                    <a:pt x="180" y="269"/>
                  </a:lnTo>
                  <a:lnTo>
                    <a:pt x="161" y="243"/>
                  </a:lnTo>
                  <a:lnTo>
                    <a:pt x="144" y="217"/>
                  </a:lnTo>
                  <a:lnTo>
                    <a:pt x="125" y="191"/>
                  </a:lnTo>
                  <a:lnTo>
                    <a:pt x="92" y="140"/>
                  </a:lnTo>
                  <a:lnTo>
                    <a:pt x="61" y="96"/>
                  </a:lnTo>
                  <a:lnTo>
                    <a:pt x="44" y="78"/>
                  </a:lnTo>
                  <a:lnTo>
                    <a:pt x="29" y="63"/>
                  </a:lnTo>
                  <a:lnTo>
                    <a:pt x="22" y="57"/>
                  </a:lnTo>
                  <a:lnTo>
                    <a:pt x="15" y="52"/>
                  </a:lnTo>
                  <a:lnTo>
                    <a:pt x="7" y="49"/>
                  </a:lnTo>
                  <a:lnTo>
                    <a:pt x="0" y="47"/>
                  </a:lnTo>
                  <a:lnTo>
                    <a:pt x="161" y="0"/>
                  </a:lnTo>
                  <a:lnTo>
                    <a:pt x="162" y="10"/>
                  </a:lnTo>
                  <a:lnTo>
                    <a:pt x="165" y="20"/>
                  </a:lnTo>
                  <a:lnTo>
                    <a:pt x="168" y="29"/>
                  </a:lnTo>
                  <a:lnTo>
                    <a:pt x="174" y="37"/>
                  </a:lnTo>
                  <a:lnTo>
                    <a:pt x="186" y="55"/>
                  </a:lnTo>
                  <a:lnTo>
                    <a:pt x="201" y="71"/>
                  </a:lnTo>
                  <a:lnTo>
                    <a:pt x="215" y="88"/>
                  </a:lnTo>
                  <a:lnTo>
                    <a:pt x="227" y="104"/>
                  </a:lnTo>
                  <a:lnTo>
                    <a:pt x="233" y="113"/>
                  </a:lnTo>
                  <a:lnTo>
                    <a:pt x="236" y="123"/>
                  </a:lnTo>
                  <a:lnTo>
                    <a:pt x="238" y="132"/>
                  </a:lnTo>
                  <a:lnTo>
                    <a:pt x="240" y="141"/>
                  </a:lnTo>
                  <a:lnTo>
                    <a:pt x="240" y="158"/>
                  </a:lnTo>
                  <a:lnTo>
                    <a:pt x="242" y="173"/>
                  </a:lnTo>
                  <a:lnTo>
                    <a:pt x="245" y="187"/>
                  </a:lnTo>
                  <a:lnTo>
                    <a:pt x="249" y="200"/>
                  </a:lnTo>
                  <a:lnTo>
                    <a:pt x="258" y="224"/>
                  </a:lnTo>
                  <a:lnTo>
                    <a:pt x="269" y="246"/>
                  </a:lnTo>
                  <a:lnTo>
                    <a:pt x="273" y="258"/>
                  </a:lnTo>
                  <a:lnTo>
                    <a:pt x="278" y="270"/>
                  </a:lnTo>
                  <a:lnTo>
                    <a:pt x="283" y="281"/>
                  </a:lnTo>
                  <a:lnTo>
                    <a:pt x="285" y="294"/>
                  </a:lnTo>
                  <a:lnTo>
                    <a:pt x="287" y="308"/>
                  </a:lnTo>
                  <a:lnTo>
                    <a:pt x="289" y="323"/>
                  </a:lnTo>
                  <a:lnTo>
                    <a:pt x="287" y="340"/>
                  </a:lnTo>
                  <a:lnTo>
                    <a:pt x="285" y="35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Freeform 222"/>
            <p:cNvSpPr/>
            <p:nvPr/>
          </p:nvSpPr>
          <p:spPr>
            <a:xfrm>
              <a:off x="7085160" y="5205600"/>
              <a:ext cx="274320" cy="12348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714" h="717">
                  <a:moveTo>
                    <a:pt x="1388" y="0"/>
                  </a:moveTo>
                  <a:lnTo>
                    <a:pt x="1399" y="19"/>
                  </a:lnTo>
                  <a:lnTo>
                    <a:pt x="1410" y="38"/>
                  </a:lnTo>
                  <a:lnTo>
                    <a:pt x="1424" y="56"/>
                  </a:lnTo>
                  <a:lnTo>
                    <a:pt x="1440" y="75"/>
                  </a:lnTo>
                  <a:lnTo>
                    <a:pt x="1457" y="93"/>
                  </a:lnTo>
                  <a:lnTo>
                    <a:pt x="1475" y="109"/>
                  </a:lnTo>
                  <a:lnTo>
                    <a:pt x="1494" y="125"/>
                  </a:lnTo>
                  <a:lnTo>
                    <a:pt x="1514" y="140"/>
                  </a:lnTo>
                  <a:lnTo>
                    <a:pt x="1535" y="153"/>
                  </a:lnTo>
                  <a:lnTo>
                    <a:pt x="1558" y="166"/>
                  </a:lnTo>
                  <a:lnTo>
                    <a:pt x="1579" y="177"/>
                  </a:lnTo>
                  <a:lnTo>
                    <a:pt x="1601" y="186"/>
                  </a:lnTo>
                  <a:lnTo>
                    <a:pt x="1622" y="193"/>
                  </a:lnTo>
                  <a:lnTo>
                    <a:pt x="1643" y="198"/>
                  </a:lnTo>
                  <a:lnTo>
                    <a:pt x="1663" y="201"/>
                  </a:lnTo>
                  <a:lnTo>
                    <a:pt x="1683" y="202"/>
                  </a:lnTo>
                  <a:lnTo>
                    <a:pt x="1714" y="331"/>
                  </a:lnTo>
                  <a:lnTo>
                    <a:pt x="1695" y="335"/>
                  </a:lnTo>
                  <a:lnTo>
                    <a:pt x="1679" y="340"/>
                  </a:lnTo>
                  <a:lnTo>
                    <a:pt x="1665" y="346"/>
                  </a:lnTo>
                  <a:lnTo>
                    <a:pt x="1653" y="353"/>
                  </a:lnTo>
                  <a:lnTo>
                    <a:pt x="1643" y="361"/>
                  </a:lnTo>
                  <a:lnTo>
                    <a:pt x="1636" y="369"/>
                  </a:lnTo>
                  <a:lnTo>
                    <a:pt x="1630" y="379"/>
                  </a:lnTo>
                  <a:lnTo>
                    <a:pt x="1625" y="388"/>
                  </a:lnTo>
                  <a:lnTo>
                    <a:pt x="1623" y="397"/>
                  </a:lnTo>
                  <a:lnTo>
                    <a:pt x="1622" y="407"/>
                  </a:lnTo>
                  <a:lnTo>
                    <a:pt x="1623" y="416"/>
                  </a:lnTo>
                  <a:lnTo>
                    <a:pt x="1625" y="425"/>
                  </a:lnTo>
                  <a:lnTo>
                    <a:pt x="1628" y="434"/>
                  </a:lnTo>
                  <a:lnTo>
                    <a:pt x="1632" y="442"/>
                  </a:lnTo>
                  <a:lnTo>
                    <a:pt x="1638" y="449"/>
                  </a:lnTo>
                  <a:lnTo>
                    <a:pt x="1645" y="456"/>
                  </a:lnTo>
                  <a:lnTo>
                    <a:pt x="1608" y="525"/>
                  </a:lnTo>
                  <a:lnTo>
                    <a:pt x="1602" y="525"/>
                  </a:lnTo>
                  <a:lnTo>
                    <a:pt x="1596" y="525"/>
                  </a:lnTo>
                  <a:lnTo>
                    <a:pt x="1591" y="526"/>
                  </a:lnTo>
                  <a:lnTo>
                    <a:pt x="1586" y="528"/>
                  </a:lnTo>
                  <a:lnTo>
                    <a:pt x="1582" y="531"/>
                  </a:lnTo>
                  <a:lnTo>
                    <a:pt x="1577" y="534"/>
                  </a:lnTo>
                  <a:lnTo>
                    <a:pt x="1573" y="538"/>
                  </a:lnTo>
                  <a:lnTo>
                    <a:pt x="1569" y="542"/>
                  </a:lnTo>
                  <a:lnTo>
                    <a:pt x="1563" y="552"/>
                  </a:lnTo>
                  <a:lnTo>
                    <a:pt x="1558" y="563"/>
                  </a:lnTo>
                  <a:lnTo>
                    <a:pt x="1553" y="575"/>
                  </a:lnTo>
                  <a:lnTo>
                    <a:pt x="1548" y="588"/>
                  </a:lnTo>
                  <a:lnTo>
                    <a:pt x="1546" y="602"/>
                  </a:lnTo>
                  <a:lnTo>
                    <a:pt x="1544" y="616"/>
                  </a:lnTo>
                  <a:lnTo>
                    <a:pt x="1542" y="629"/>
                  </a:lnTo>
                  <a:lnTo>
                    <a:pt x="1541" y="642"/>
                  </a:lnTo>
                  <a:lnTo>
                    <a:pt x="1541" y="653"/>
                  </a:lnTo>
                  <a:lnTo>
                    <a:pt x="1541" y="664"/>
                  </a:lnTo>
                  <a:lnTo>
                    <a:pt x="1542" y="673"/>
                  </a:lnTo>
                  <a:lnTo>
                    <a:pt x="1544" y="680"/>
                  </a:lnTo>
                  <a:lnTo>
                    <a:pt x="277" y="717"/>
                  </a:lnTo>
                  <a:lnTo>
                    <a:pt x="259" y="709"/>
                  </a:lnTo>
                  <a:lnTo>
                    <a:pt x="243" y="702"/>
                  </a:lnTo>
                  <a:lnTo>
                    <a:pt x="236" y="699"/>
                  </a:lnTo>
                  <a:lnTo>
                    <a:pt x="232" y="694"/>
                  </a:lnTo>
                  <a:lnTo>
                    <a:pt x="227" y="689"/>
                  </a:lnTo>
                  <a:lnTo>
                    <a:pt x="224" y="685"/>
                  </a:lnTo>
                  <a:lnTo>
                    <a:pt x="220" y="678"/>
                  </a:lnTo>
                  <a:lnTo>
                    <a:pt x="219" y="671"/>
                  </a:lnTo>
                  <a:lnTo>
                    <a:pt x="218" y="663"/>
                  </a:lnTo>
                  <a:lnTo>
                    <a:pt x="217" y="652"/>
                  </a:lnTo>
                  <a:lnTo>
                    <a:pt x="218" y="626"/>
                  </a:lnTo>
                  <a:lnTo>
                    <a:pt x="222" y="594"/>
                  </a:lnTo>
                  <a:lnTo>
                    <a:pt x="225" y="576"/>
                  </a:lnTo>
                  <a:lnTo>
                    <a:pt x="225" y="561"/>
                  </a:lnTo>
                  <a:lnTo>
                    <a:pt x="222" y="549"/>
                  </a:lnTo>
                  <a:lnTo>
                    <a:pt x="220" y="538"/>
                  </a:lnTo>
                  <a:lnTo>
                    <a:pt x="215" y="528"/>
                  </a:lnTo>
                  <a:lnTo>
                    <a:pt x="210" y="520"/>
                  </a:lnTo>
                  <a:lnTo>
                    <a:pt x="203" y="513"/>
                  </a:lnTo>
                  <a:lnTo>
                    <a:pt x="196" y="508"/>
                  </a:lnTo>
                  <a:lnTo>
                    <a:pt x="179" y="498"/>
                  </a:lnTo>
                  <a:lnTo>
                    <a:pt x="162" y="490"/>
                  </a:lnTo>
                  <a:lnTo>
                    <a:pt x="152" y="485"/>
                  </a:lnTo>
                  <a:lnTo>
                    <a:pt x="144" y="480"/>
                  </a:lnTo>
                  <a:lnTo>
                    <a:pt x="137" y="476"/>
                  </a:lnTo>
                  <a:lnTo>
                    <a:pt x="130" y="470"/>
                  </a:lnTo>
                  <a:lnTo>
                    <a:pt x="125" y="465"/>
                  </a:lnTo>
                  <a:lnTo>
                    <a:pt x="123" y="460"/>
                  </a:lnTo>
                  <a:lnTo>
                    <a:pt x="123" y="457"/>
                  </a:lnTo>
                  <a:lnTo>
                    <a:pt x="123" y="453"/>
                  </a:lnTo>
                  <a:lnTo>
                    <a:pt x="124" y="449"/>
                  </a:lnTo>
                  <a:lnTo>
                    <a:pt x="125" y="444"/>
                  </a:lnTo>
                  <a:lnTo>
                    <a:pt x="127" y="438"/>
                  </a:lnTo>
                  <a:lnTo>
                    <a:pt x="125" y="431"/>
                  </a:lnTo>
                  <a:lnTo>
                    <a:pt x="123" y="422"/>
                  </a:lnTo>
                  <a:lnTo>
                    <a:pt x="117" y="410"/>
                  </a:lnTo>
                  <a:lnTo>
                    <a:pt x="109" y="395"/>
                  </a:lnTo>
                  <a:lnTo>
                    <a:pt x="97" y="378"/>
                  </a:lnTo>
                  <a:lnTo>
                    <a:pt x="81" y="358"/>
                  </a:lnTo>
                  <a:lnTo>
                    <a:pt x="60" y="333"/>
                  </a:lnTo>
                  <a:lnTo>
                    <a:pt x="33" y="304"/>
                  </a:lnTo>
                  <a:lnTo>
                    <a:pt x="0" y="271"/>
                  </a:lnTo>
                  <a:lnTo>
                    <a:pt x="14" y="14"/>
                  </a:lnTo>
                  <a:lnTo>
                    <a:pt x="13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Freeform 223"/>
            <p:cNvSpPr/>
            <p:nvPr/>
          </p:nvSpPr>
          <p:spPr>
            <a:xfrm>
              <a:off x="5845680" y="5221080"/>
              <a:ext cx="304920" cy="502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1904" h="2906">
                  <a:moveTo>
                    <a:pt x="1147" y="2906"/>
                  </a:moveTo>
                  <a:lnTo>
                    <a:pt x="1175" y="2857"/>
                  </a:lnTo>
                  <a:lnTo>
                    <a:pt x="400" y="2857"/>
                  </a:lnTo>
                  <a:lnTo>
                    <a:pt x="411" y="2837"/>
                  </a:lnTo>
                  <a:lnTo>
                    <a:pt x="421" y="2817"/>
                  </a:lnTo>
                  <a:lnTo>
                    <a:pt x="428" y="2797"/>
                  </a:lnTo>
                  <a:lnTo>
                    <a:pt x="435" y="2777"/>
                  </a:lnTo>
                  <a:lnTo>
                    <a:pt x="441" y="2759"/>
                  </a:lnTo>
                  <a:lnTo>
                    <a:pt x="446" y="2739"/>
                  </a:lnTo>
                  <a:lnTo>
                    <a:pt x="449" y="2720"/>
                  </a:lnTo>
                  <a:lnTo>
                    <a:pt x="452" y="2701"/>
                  </a:lnTo>
                  <a:lnTo>
                    <a:pt x="453" y="2683"/>
                  </a:lnTo>
                  <a:lnTo>
                    <a:pt x="453" y="2665"/>
                  </a:lnTo>
                  <a:lnTo>
                    <a:pt x="452" y="2647"/>
                  </a:lnTo>
                  <a:lnTo>
                    <a:pt x="449" y="2629"/>
                  </a:lnTo>
                  <a:lnTo>
                    <a:pt x="447" y="2612"/>
                  </a:lnTo>
                  <a:lnTo>
                    <a:pt x="443" y="2594"/>
                  </a:lnTo>
                  <a:lnTo>
                    <a:pt x="440" y="2578"/>
                  </a:lnTo>
                  <a:lnTo>
                    <a:pt x="435" y="2560"/>
                  </a:lnTo>
                  <a:lnTo>
                    <a:pt x="429" y="2544"/>
                  </a:lnTo>
                  <a:lnTo>
                    <a:pt x="424" y="2527"/>
                  </a:lnTo>
                  <a:lnTo>
                    <a:pt x="418" y="2512"/>
                  </a:lnTo>
                  <a:lnTo>
                    <a:pt x="411" y="2496"/>
                  </a:lnTo>
                  <a:lnTo>
                    <a:pt x="396" y="2466"/>
                  </a:lnTo>
                  <a:lnTo>
                    <a:pt x="379" y="2436"/>
                  </a:lnTo>
                  <a:lnTo>
                    <a:pt x="362" y="2408"/>
                  </a:lnTo>
                  <a:lnTo>
                    <a:pt x="344" y="2383"/>
                  </a:lnTo>
                  <a:lnTo>
                    <a:pt x="325" y="2357"/>
                  </a:lnTo>
                  <a:lnTo>
                    <a:pt x="308" y="2332"/>
                  </a:lnTo>
                  <a:lnTo>
                    <a:pt x="300" y="2322"/>
                  </a:lnTo>
                  <a:lnTo>
                    <a:pt x="293" y="2310"/>
                  </a:lnTo>
                  <a:lnTo>
                    <a:pt x="286" y="2298"/>
                  </a:lnTo>
                  <a:lnTo>
                    <a:pt x="280" y="2288"/>
                  </a:lnTo>
                  <a:lnTo>
                    <a:pt x="272" y="2267"/>
                  </a:lnTo>
                  <a:lnTo>
                    <a:pt x="265" y="2247"/>
                  </a:lnTo>
                  <a:lnTo>
                    <a:pt x="260" y="2228"/>
                  </a:lnTo>
                  <a:lnTo>
                    <a:pt x="259" y="2210"/>
                  </a:lnTo>
                  <a:lnTo>
                    <a:pt x="258" y="2193"/>
                  </a:lnTo>
                  <a:lnTo>
                    <a:pt x="259" y="2178"/>
                  </a:lnTo>
                  <a:lnTo>
                    <a:pt x="261" y="2164"/>
                  </a:lnTo>
                  <a:lnTo>
                    <a:pt x="265" y="2152"/>
                  </a:lnTo>
                  <a:lnTo>
                    <a:pt x="267" y="2142"/>
                  </a:lnTo>
                  <a:lnTo>
                    <a:pt x="271" y="2133"/>
                  </a:lnTo>
                  <a:lnTo>
                    <a:pt x="276" y="2121"/>
                  </a:lnTo>
                  <a:lnTo>
                    <a:pt x="280" y="2117"/>
                  </a:lnTo>
                  <a:lnTo>
                    <a:pt x="60" y="2085"/>
                  </a:lnTo>
                  <a:lnTo>
                    <a:pt x="63" y="2077"/>
                  </a:lnTo>
                  <a:lnTo>
                    <a:pt x="65" y="2068"/>
                  </a:lnTo>
                  <a:lnTo>
                    <a:pt x="66" y="2060"/>
                  </a:lnTo>
                  <a:lnTo>
                    <a:pt x="67" y="2052"/>
                  </a:lnTo>
                  <a:lnTo>
                    <a:pt x="66" y="2037"/>
                  </a:lnTo>
                  <a:lnTo>
                    <a:pt x="64" y="2022"/>
                  </a:lnTo>
                  <a:lnTo>
                    <a:pt x="60" y="2009"/>
                  </a:lnTo>
                  <a:lnTo>
                    <a:pt x="56" y="1996"/>
                  </a:lnTo>
                  <a:lnTo>
                    <a:pt x="49" y="1983"/>
                  </a:lnTo>
                  <a:lnTo>
                    <a:pt x="42" y="1973"/>
                  </a:lnTo>
                  <a:lnTo>
                    <a:pt x="28" y="1955"/>
                  </a:lnTo>
                  <a:lnTo>
                    <a:pt x="14" y="1941"/>
                  </a:lnTo>
                  <a:lnTo>
                    <a:pt x="4" y="1933"/>
                  </a:lnTo>
                  <a:lnTo>
                    <a:pt x="0" y="1929"/>
                  </a:lnTo>
                  <a:lnTo>
                    <a:pt x="184" y="1713"/>
                  </a:lnTo>
                  <a:lnTo>
                    <a:pt x="184" y="1705"/>
                  </a:lnTo>
                  <a:lnTo>
                    <a:pt x="183" y="1697"/>
                  </a:lnTo>
                  <a:lnTo>
                    <a:pt x="181" y="1689"/>
                  </a:lnTo>
                  <a:lnTo>
                    <a:pt x="178" y="1681"/>
                  </a:lnTo>
                  <a:lnTo>
                    <a:pt x="170" y="1664"/>
                  </a:lnTo>
                  <a:lnTo>
                    <a:pt x="161" y="1649"/>
                  </a:lnTo>
                  <a:lnTo>
                    <a:pt x="137" y="1619"/>
                  </a:lnTo>
                  <a:lnTo>
                    <a:pt x="112" y="1587"/>
                  </a:lnTo>
                  <a:lnTo>
                    <a:pt x="99" y="1571"/>
                  </a:lnTo>
                  <a:lnTo>
                    <a:pt x="87" y="1554"/>
                  </a:lnTo>
                  <a:lnTo>
                    <a:pt x="77" y="1538"/>
                  </a:lnTo>
                  <a:lnTo>
                    <a:pt x="67" y="1519"/>
                  </a:lnTo>
                  <a:lnTo>
                    <a:pt x="64" y="1510"/>
                  </a:lnTo>
                  <a:lnTo>
                    <a:pt x="61" y="1501"/>
                  </a:lnTo>
                  <a:lnTo>
                    <a:pt x="59" y="1491"/>
                  </a:lnTo>
                  <a:lnTo>
                    <a:pt x="58" y="1481"/>
                  </a:lnTo>
                  <a:lnTo>
                    <a:pt x="57" y="1470"/>
                  </a:lnTo>
                  <a:lnTo>
                    <a:pt x="57" y="1460"/>
                  </a:lnTo>
                  <a:lnTo>
                    <a:pt x="58" y="1448"/>
                  </a:lnTo>
                  <a:lnTo>
                    <a:pt x="60" y="1438"/>
                  </a:lnTo>
                  <a:lnTo>
                    <a:pt x="67" y="1414"/>
                  </a:lnTo>
                  <a:lnTo>
                    <a:pt x="77" y="1391"/>
                  </a:lnTo>
                  <a:lnTo>
                    <a:pt x="86" y="1369"/>
                  </a:lnTo>
                  <a:lnTo>
                    <a:pt x="98" y="1347"/>
                  </a:lnTo>
                  <a:lnTo>
                    <a:pt x="111" y="1324"/>
                  </a:lnTo>
                  <a:lnTo>
                    <a:pt x="123" y="1304"/>
                  </a:lnTo>
                  <a:lnTo>
                    <a:pt x="137" y="1285"/>
                  </a:lnTo>
                  <a:lnTo>
                    <a:pt x="150" y="1267"/>
                  </a:lnTo>
                  <a:lnTo>
                    <a:pt x="175" y="1236"/>
                  </a:lnTo>
                  <a:lnTo>
                    <a:pt x="196" y="1211"/>
                  </a:lnTo>
                  <a:lnTo>
                    <a:pt x="211" y="1195"/>
                  </a:lnTo>
                  <a:lnTo>
                    <a:pt x="216" y="1190"/>
                  </a:lnTo>
                  <a:lnTo>
                    <a:pt x="224" y="1197"/>
                  </a:lnTo>
                  <a:lnTo>
                    <a:pt x="232" y="1203"/>
                  </a:lnTo>
                  <a:lnTo>
                    <a:pt x="239" y="1208"/>
                  </a:lnTo>
                  <a:lnTo>
                    <a:pt x="245" y="1209"/>
                  </a:lnTo>
                  <a:lnTo>
                    <a:pt x="251" y="1210"/>
                  </a:lnTo>
                  <a:lnTo>
                    <a:pt x="257" y="1210"/>
                  </a:lnTo>
                  <a:lnTo>
                    <a:pt x="261" y="1208"/>
                  </a:lnTo>
                  <a:lnTo>
                    <a:pt x="265" y="1204"/>
                  </a:lnTo>
                  <a:lnTo>
                    <a:pt x="268" y="1199"/>
                  </a:lnTo>
                  <a:lnTo>
                    <a:pt x="272" y="1195"/>
                  </a:lnTo>
                  <a:lnTo>
                    <a:pt x="274" y="1188"/>
                  </a:lnTo>
                  <a:lnTo>
                    <a:pt x="276" y="1181"/>
                  </a:lnTo>
                  <a:lnTo>
                    <a:pt x="280" y="1164"/>
                  </a:lnTo>
                  <a:lnTo>
                    <a:pt x="282" y="1147"/>
                  </a:lnTo>
                  <a:lnTo>
                    <a:pt x="283" y="1127"/>
                  </a:lnTo>
                  <a:lnTo>
                    <a:pt x="283" y="1107"/>
                  </a:lnTo>
                  <a:lnTo>
                    <a:pt x="283" y="1088"/>
                  </a:lnTo>
                  <a:lnTo>
                    <a:pt x="282" y="1071"/>
                  </a:lnTo>
                  <a:lnTo>
                    <a:pt x="280" y="1044"/>
                  </a:lnTo>
                  <a:lnTo>
                    <a:pt x="280" y="1033"/>
                  </a:lnTo>
                  <a:lnTo>
                    <a:pt x="296" y="1025"/>
                  </a:lnTo>
                  <a:lnTo>
                    <a:pt x="311" y="1016"/>
                  </a:lnTo>
                  <a:lnTo>
                    <a:pt x="325" y="1007"/>
                  </a:lnTo>
                  <a:lnTo>
                    <a:pt x="337" y="996"/>
                  </a:lnTo>
                  <a:lnTo>
                    <a:pt x="349" y="987"/>
                  </a:lnTo>
                  <a:lnTo>
                    <a:pt x="358" y="976"/>
                  </a:lnTo>
                  <a:lnTo>
                    <a:pt x="368" y="966"/>
                  </a:lnTo>
                  <a:lnTo>
                    <a:pt x="376" y="954"/>
                  </a:lnTo>
                  <a:lnTo>
                    <a:pt x="383" y="944"/>
                  </a:lnTo>
                  <a:lnTo>
                    <a:pt x="389" y="932"/>
                  </a:lnTo>
                  <a:lnTo>
                    <a:pt x="393" y="920"/>
                  </a:lnTo>
                  <a:lnTo>
                    <a:pt x="397" y="908"/>
                  </a:lnTo>
                  <a:lnTo>
                    <a:pt x="400" y="897"/>
                  </a:lnTo>
                  <a:lnTo>
                    <a:pt x="403" y="885"/>
                  </a:lnTo>
                  <a:lnTo>
                    <a:pt x="405" y="872"/>
                  </a:lnTo>
                  <a:lnTo>
                    <a:pt x="405" y="861"/>
                  </a:lnTo>
                  <a:lnTo>
                    <a:pt x="406" y="835"/>
                  </a:lnTo>
                  <a:lnTo>
                    <a:pt x="404" y="810"/>
                  </a:lnTo>
                  <a:lnTo>
                    <a:pt x="400" y="785"/>
                  </a:lnTo>
                  <a:lnTo>
                    <a:pt x="396" y="760"/>
                  </a:lnTo>
                  <a:lnTo>
                    <a:pt x="384" y="710"/>
                  </a:lnTo>
                  <a:lnTo>
                    <a:pt x="371" y="662"/>
                  </a:lnTo>
                  <a:lnTo>
                    <a:pt x="587" y="418"/>
                  </a:lnTo>
                  <a:lnTo>
                    <a:pt x="588" y="403"/>
                  </a:lnTo>
                  <a:lnTo>
                    <a:pt x="592" y="388"/>
                  </a:lnTo>
                  <a:lnTo>
                    <a:pt x="598" y="371"/>
                  </a:lnTo>
                  <a:lnTo>
                    <a:pt x="605" y="355"/>
                  </a:lnTo>
                  <a:lnTo>
                    <a:pt x="614" y="338"/>
                  </a:lnTo>
                  <a:lnTo>
                    <a:pt x="625" y="321"/>
                  </a:lnTo>
                  <a:lnTo>
                    <a:pt x="636" y="305"/>
                  </a:lnTo>
                  <a:lnTo>
                    <a:pt x="650" y="287"/>
                  </a:lnTo>
                  <a:lnTo>
                    <a:pt x="664" y="270"/>
                  </a:lnTo>
                  <a:lnTo>
                    <a:pt x="681" y="252"/>
                  </a:lnTo>
                  <a:lnTo>
                    <a:pt x="697" y="234"/>
                  </a:lnTo>
                  <a:lnTo>
                    <a:pt x="714" y="217"/>
                  </a:lnTo>
                  <a:lnTo>
                    <a:pt x="751" y="183"/>
                  </a:lnTo>
                  <a:lnTo>
                    <a:pt x="788" y="150"/>
                  </a:lnTo>
                  <a:lnTo>
                    <a:pt x="825" y="120"/>
                  </a:lnTo>
                  <a:lnTo>
                    <a:pt x="862" y="91"/>
                  </a:lnTo>
                  <a:lnTo>
                    <a:pt x="896" y="65"/>
                  </a:lnTo>
                  <a:lnTo>
                    <a:pt x="926" y="43"/>
                  </a:lnTo>
                  <a:lnTo>
                    <a:pt x="970" y="11"/>
                  </a:lnTo>
                  <a:lnTo>
                    <a:pt x="988" y="0"/>
                  </a:lnTo>
                  <a:lnTo>
                    <a:pt x="1904" y="95"/>
                  </a:lnTo>
                  <a:lnTo>
                    <a:pt x="1273" y="807"/>
                  </a:lnTo>
                  <a:lnTo>
                    <a:pt x="1837" y="2053"/>
                  </a:lnTo>
                  <a:lnTo>
                    <a:pt x="1824" y="2071"/>
                  </a:lnTo>
                  <a:lnTo>
                    <a:pt x="1814" y="2087"/>
                  </a:lnTo>
                  <a:lnTo>
                    <a:pt x="1805" y="2103"/>
                  </a:lnTo>
                  <a:lnTo>
                    <a:pt x="1798" y="2117"/>
                  </a:lnTo>
                  <a:lnTo>
                    <a:pt x="1794" y="2131"/>
                  </a:lnTo>
                  <a:lnTo>
                    <a:pt x="1790" y="2144"/>
                  </a:lnTo>
                  <a:lnTo>
                    <a:pt x="1788" y="2156"/>
                  </a:lnTo>
                  <a:lnTo>
                    <a:pt x="1787" y="2166"/>
                  </a:lnTo>
                  <a:lnTo>
                    <a:pt x="1787" y="2185"/>
                  </a:lnTo>
                  <a:lnTo>
                    <a:pt x="1788" y="2198"/>
                  </a:lnTo>
                  <a:lnTo>
                    <a:pt x="1790" y="2206"/>
                  </a:lnTo>
                  <a:lnTo>
                    <a:pt x="1791" y="2209"/>
                  </a:lnTo>
                  <a:lnTo>
                    <a:pt x="1809" y="2301"/>
                  </a:lnTo>
                  <a:lnTo>
                    <a:pt x="1787" y="2315"/>
                  </a:lnTo>
                  <a:lnTo>
                    <a:pt x="1763" y="2330"/>
                  </a:lnTo>
                  <a:lnTo>
                    <a:pt x="1738" y="2348"/>
                  </a:lnTo>
                  <a:lnTo>
                    <a:pt x="1712" y="2367"/>
                  </a:lnTo>
                  <a:lnTo>
                    <a:pt x="1685" y="2388"/>
                  </a:lnTo>
                  <a:lnTo>
                    <a:pt x="1658" y="2409"/>
                  </a:lnTo>
                  <a:lnTo>
                    <a:pt x="1633" y="2432"/>
                  </a:lnTo>
                  <a:lnTo>
                    <a:pt x="1607" y="2455"/>
                  </a:lnTo>
                  <a:lnTo>
                    <a:pt x="1582" y="2477"/>
                  </a:lnTo>
                  <a:lnTo>
                    <a:pt x="1561" y="2498"/>
                  </a:lnTo>
                  <a:lnTo>
                    <a:pt x="1542" y="2519"/>
                  </a:lnTo>
                  <a:lnTo>
                    <a:pt x="1525" y="2539"/>
                  </a:lnTo>
                  <a:lnTo>
                    <a:pt x="1511" y="2557"/>
                  </a:lnTo>
                  <a:lnTo>
                    <a:pt x="1503" y="2572"/>
                  </a:lnTo>
                  <a:lnTo>
                    <a:pt x="1499" y="2579"/>
                  </a:lnTo>
                  <a:lnTo>
                    <a:pt x="1497" y="2585"/>
                  </a:lnTo>
                  <a:lnTo>
                    <a:pt x="1497" y="2590"/>
                  </a:lnTo>
                  <a:lnTo>
                    <a:pt x="1497" y="2595"/>
                  </a:lnTo>
                  <a:lnTo>
                    <a:pt x="1475" y="2605"/>
                  </a:lnTo>
                  <a:lnTo>
                    <a:pt x="1454" y="2615"/>
                  </a:lnTo>
                  <a:lnTo>
                    <a:pt x="1433" y="2627"/>
                  </a:lnTo>
                  <a:lnTo>
                    <a:pt x="1414" y="2638"/>
                  </a:lnTo>
                  <a:lnTo>
                    <a:pt x="1397" y="2651"/>
                  </a:lnTo>
                  <a:lnTo>
                    <a:pt x="1380" y="2664"/>
                  </a:lnTo>
                  <a:lnTo>
                    <a:pt x="1365" y="2677"/>
                  </a:lnTo>
                  <a:lnTo>
                    <a:pt x="1352" y="2690"/>
                  </a:lnTo>
                  <a:lnTo>
                    <a:pt x="1329" y="2713"/>
                  </a:lnTo>
                  <a:lnTo>
                    <a:pt x="1313" y="2733"/>
                  </a:lnTo>
                  <a:lnTo>
                    <a:pt x="1302" y="2746"/>
                  </a:lnTo>
                  <a:lnTo>
                    <a:pt x="1299" y="2751"/>
                  </a:lnTo>
                  <a:lnTo>
                    <a:pt x="1328" y="2829"/>
                  </a:lnTo>
                  <a:lnTo>
                    <a:pt x="1313" y="2840"/>
                  </a:lnTo>
                  <a:lnTo>
                    <a:pt x="1297" y="2851"/>
                  </a:lnTo>
                  <a:lnTo>
                    <a:pt x="1282" y="2860"/>
                  </a:lnTo>
                  <a:lnTo>
                    <a:pt x="1268" y="2868"/>
                  </a:lnTo>
                  <a:lnTo>
                    <a:pt x="1254" y="2876"/>
                  </a:lnTo>
                  <a:lnTo>
                    <a:pt x="1241" y="2881"/>
                  </a:lnTo>
                  <a:lnTo>
                    <a:pt x="1228" y="2887"/>
                  </a:lnTo>
                  <a:lnTo>
                    <a:pt x="1217" y="2891"/>
                  </a:lnTo>
                  <a:lnTo>
                    <a:pt x="1195" y="2897"/>
                  </a:lnTo>
                  <a:lnTo>
                    <a:pt x="1175" y="2901"/>
                  </a:lnTo>
                  <a:lnTo>
                    <a:pt x="1158" y="2904"/>
                  </a:lnTo>
                  <a:lnTo>
                    <a:pt x="1147" y="29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Freeform 224"/>
            <p:cNvSpPr/>
            <p:nvPr/>
          </p:nvSpPr>
          <p:spPr>
            <a:xfrm>
              <a:off x="6018120" y="5491440"/>
              <a:ext cx="446760" cy="35640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2798" h="2073">
                  <a:moveTo>
                    <a:pt x="1741" y="2073"/>
                  </a:moveTo>
                  <a:lnTo>
                    <a:pt x="1081" y="2018"/>
                  </a:lnTo>
                  <a:lnTo>
                    <a:pt x="0" y="1462"/>
                  </a:lnTo>
                  <a:lnTo>
                    <a:pt x="65" y="1356"/>
                  </a:lnTo>
                  <a:lnTo>
                    <a:pt x="76" y="1354"/>
                  </a:lnTo>
                  <a:lnTo>
                    <a:pt x="93" y="1351"/>
                  </a:lnTo>
                  <a:lnTo>
                    <a:pt x="113" y="1347"/>
                  </a:lnTo>
                  <a:lnTo>
                    <a:pt x="135" y="1341"/>
                  </a:lnTo>
                  <a:lnTo>
                    <a:pt x="146" y="1337"/>
                  </a:lnTo>
                  <a:lnTo>
                    <a:pt x="159" y="1331"/>
                  </a:lnTo>
                  <a:lnTo>
                    <a:pt x="172" y="1326"/>
                  </a:lnTo>
                  <a:lnTo>
                    <a:pt x="186" y="1318"/>
                  </a:lnTo>
                  <a:lnTo>
                    <a:pt x="200" y="1310"/>
                  </a:lnTo>
                  <a:lnTo>
                    <a:pt x="215" y="1301"/>
                  </a:lnTo>
                  <a:lnTo>
                    <a:pt x="231" y="1290"/>
                  </a:lnTo>
                  <a:lnTo>
                    <a:pt x="246" y="1279"/>
                  </a:lnTo>
                  <a:lnTo>
                    <a:pt x="217" y="1201"/>
                  </a:lnTo>
                  <a:lnTo>
                    <a:pt x="220" y="1196"/>
                  </a:lnTo>
                  <a:lnTo>
                    <a:pt x="231" y="1183"/>
                  </a:lnTo>
                  <a:lnTo>
                    <a:pt x="247" y="1163"/>
                  </a:lnTo>
                  <a:lnTo>
                    <a:pt x="270" y="1140"/>
                  </a:lnTo>
                  <a:lnTo>
                    <a:pt x="283" y="1127"/>
                  </a:lnTo>
                  <a:lnTo>
                    <a:pt x="298" y="1114"/>
                  </a:lnTo>
                  <a:lnTo>
                    <a:pt x="315" y="1101"/>
                  </a:lnTo>
                  <a:lnTo>
                    <a:pt x="332" y="1088"/>
                  </a:lnTo>
                  <a:lnTo>
                    <a:pt x="351" y="1077"/>
                  </a:lnTo>
                  <a:lnTo>
                    <a:pt x="372" y="1065"/>
                  </a:lnTo>
                  <a:lnTo>
                    <a:pt x="393" y="1055"/>
                  </a:lnTo>
                  <a:lnTo>
                    <a:pt x="415" y="1045"/>
                  </a:lnTo>
                  <a:lnTo>
                    <a:pt x="415" y="1040"/>
                  </a:lnTo>
                  <a:lnTo>
                    <a:pt x="415" y="1035"/>
                  </a:lnTo>
                  <a:lnTo>
                    <a:pt x="417" y="1029"/>
                  </a:lnTo>
                  <a:lnTo>
                    <a:pt x="421" y="1022"/>
                  </a:lnTo>
                  <a:lnTo>
                    <a:pt x="429" y="1007"/>
                  </a:lnTo>
                  <a:lnTo>
                    <a:pt x="443" y="989"/>
                  </a:lnTo>
                  <a:lnTo>
                    <a:pt x="460" y="969"/>
                  </a:lnTo>
                  <a:lnTo>
                    <a:pt x="479" y="948"/>
                  </a:lnTo>
                  <a:lnTo>
                    <a:pt x="500" y="927"/>
                  </a:lnTo>
                  <a:lnTo>
                    <a:pt x="525" y="905"/>
                  </a:lnTo>
                  <a:lnTo>
                    <a:pt x="551" y="882"/>
                  </a:lnTo>
                  <a:lnTo>
                    <a:pt x="576" y="859"/>
                  </a:lnTo>
                  <a:lnTo>
                    <a:pt x="603" y="838"/>
                  </a:lnTo>
                  <a:lnTo>
                    <a:pt x="630" y="817"/>
                  </a:lnTo>
                  <a:lnTo>
                    <a:pt x="656" y="798"/>
                  </a:lnTo>
                  <a:lnTo>
                    <a:pt x="681" y="780"/>
                  </a:lnTo>
                  <a:lnTo>
                    <a:pt x="705" y="765"/>
                  </a:lnTo>
                  <a:lnTo>
                    <a:pt x="727" y="751"/>
                  </a:lnTo>
                  <a:lnTo>
                    <a:pt x="709" y="659"/>
                  </a:lnTo>
                  <a:lnTo>
                    <a:pt x="708" y="656"/>
                  </a:lnTo>
                  <a:lnTo>
                    <a:pt x="706" y="648"/>
                  </a:lnTo>
                  <a:lnTo>
                    <a:pt x="705" y="635"/>
                  </a:lnTo>
                  <a:lnTo>
                    <a:pt x="705" y="616"/>
                  </a:lnTo>
                  <a:lnTo>
                    <a:pt x="706" y="606"/>
                  </a:lnTo>
                  <a:lnTo>
                    <a:pt x="708" y="594"/>
                  </a:lnTo>
                  <a:lnTo>
                    <a:pt x="712" y="581"/>
                  </a:lnTo>
                  <a:lnTo>
                    <a:pt x="716" y="567"/>
                  </a:lnTo>
                  <a:lnTo>
                    <a:pt x="723" y="553"/>
                  </a:lnTo>
                  <a:lnTo>
                    <a:pt x="732" y="537"/>
                  </a:lnTo>
                  <a:lnTo>
                    <a:pt x="742" y="521"/>
                  </a:lnTo>
                  <a:lnTo>
                    <a:pt x="755" y="503"/>
                  </a:lnTo>
                  <a:lnTo>
                    <a:pt x="810" y="437"/>
                  </a:lnTo>
                  <a:lnTo>
                    <a:pt x="860" y="375"/>
                  </a:lnTo>
                  <a:lnTo>
                    <a:pt x="884" y="347"/>
                  </a:lnTo>
                  <a:lnTo>
                    <a:pt x="908" y="320"/>
                  </a:lnTo>
                  <a:lnTo>
                    <a:pt x="920" y="308"/>
                  </a:lnTo>
                  <a:lnTo>
                    <a:pt x="931" y="296"/>
                  </a:lnTo>
                  <a:lnTo>
                    <a:pt x="944" y="285"/>
                  </a:lnTo>
                  <a:lnTo>
                    <a:pt x="957" y="275"/>
                  </a:lnTo>
                  <a:lnTo>
                    <a:pt x="970" y="265"/>
                  </a:lnTo>
                  <a:lnTo>
                    <a:pt x="983" y="257"/>
                  </a:lnTo>
                  <a:lnTo>
                    <a:pt x="996" y="249"/>
                  </a:lnTo>
                  <a:lnTo>
                    <a:pt x="1010" y="242"/>
                  </a:lnTo>
                  <a:lnTo>
                    <a:pt x="1024" y="235"/>
                  </a:lnTo>
                  <a:lnTo>
                    <a:pt x="1039" y="230"/>
                  </a:lnTo>
                  <a:lnTo>
                    <a:pt x="1054" y="225"/>
                  </a:lnTo>
                  <a:lnTo>
                    <a:pt x="1070" y="222"/>
                  </a:lnTo>
                  <a:lnTo>
                    <a:pt x="1087" y="218"/>
                  </a:lnTo>
                  <a:lnTo>
                    <a:pt x="1104" y="217"/>
                  </a:lnTo>
                  <a:lnTo>
                    <a:pt x="1122" y="216"/>
                  </a:lnTo>
                  <a:lnTo>
                    <a:pt x="1141" y="217"/>
                  </a:lnTo>
                  <a:lnTo>
                    <a:pt x="1160" y="218"/>
                  </a:lnTo>
                  <a:lnTo>
                    <a:pt x="1181" y="221"/>
                  </a:lnTo>
                  <a:lnTo>
                    <a:pt x="1202" y="225"/>
                  </a:lnTo>
                  <a:lnTo>
                    <a:pt x="1225" y="230"/>
                  </a:lnTo>
                  <a:lnTo>
                    <a:pt x="1380" y="0"/>
                  </a:lnTo>
                  <a:lnTo>
                    <a:pt x="2798" y="51"/>
                  </a:lnTo>
                  <a:lnTo>
                    <a:pt x="1741" y="207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Freeform 225"/>
            <p:cNvSpPr/>
            <p:nvPr/>
          </p:nvSpPr>
          <p:spPr>
            <a:xfrm>
              <a:off x="6465960" y="5314680"/>
              <a:ext cx="399960" cy="18396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502" h="1059">
                  <a:moveTo>
                    <a:pt x="0" y="1059"/>
                  </a:moveTo>
                  <a:lnTo>
                    <a:pt x="529" y="0"/>
                  </a:lnTo>
                  <a:lnTo>
                    <a:pt x="1871" y="37"/>
                  </a:lnTo>
                  <a:lnTo>
                    <a:pt x="2502" y="43"/>
                  </a:lnTo>
                  <a:lnTo>
                    <a:pt x="2235" y="1057"/>
                  </a:lnTo>
                  <a:lnTo>
                    <a:pt x="0" y="10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Freeform 226"/>
            <p:cNvSpPr/>
            <p:nvPr/>
          </p:nvSpPr>
          <p:spPr>
            <a:xfrm>
              <a:off x="6467760" y="5540760"/>
              <a:ext cx="829440" cy="786960"/>
            </a:xfrm>
            <a:custGeom>
              <a:avLst/>
              <a:gdLst>
                <a:gd name="textAreaLeft" fmla="*/ 0 w 829440"/>
                <a:gd name="textAreaRight" fmla="*/ 829800 w 829440"/>
                <a:gd name="textAreaTop" fmla="*/ 0 h 786960"/>
                <a:gd name="textAreaBottom" fmla="*/ 787320 h 786960"/>
              </a:gdLst>
              <a:ahLst/>
              <a:rect l="textAreaLeft" t="textAreaTop" r="textAreaRight" b="textAreaBottom"/>
              <a:pathLst>
                <a:path w="5200" h="4545">
                  <a:moveTo>
                    <a:pt x="5200" y="2503"/>
                  </a:moveTo>
                  <a:lnTo>
                    <a:pt x="5184" y="1809"/>
                  </a:lnTo>
                  <a:lnTo>
                    <a:pt x="5164" y="1787"/>
                  </a:lnTo>
                  <a:lnTo>
                    <a:pt x="5146" y="1764"/>
                  </a:lnTo>
                  <a:lnTo>
                    <a:pt x="5136" y="1752"/>
                  </a:lnTo>
                  <a:lnTo>
                    <a:pt x="5128" y="1739"/>
                  </a:lnTo>
                  <a:lnTo>
                    <a:pt x="5120" y="1725"/>
                  </a:lnTo>
                  <a:lnTo>
                    <a:pt x="5112" y="1711"/>
                  </a:lnTo>
                  <a:lnTo>
                    <a:pt x="5103" y="1696"/>
                  </a:lnTo>
                  <a:lnTo>
                    <a:pt x="5096" y="1680"/>
                  </a:lnTo>
                  <a:lnTo>
                    <a:pt x="5089" y="1663"/>
                  </a:lnTo>
                  <a:lnTo>
                    <a:pt x="5082" y="1646"/>
                  </a:lnTo>
                  <a:lnTo>
                    <a:pt x="5071" y="1610"/>
                  </a:lnTo>
                  <a:lnTo>
                    <a:pt x="5059" y="1569"/>
                  </a:lnTo>
                  <a:lnTo>
                    <a:pt x="5050" y="1524"/>
                  </a:lnTo>
                  <a:lnTo>
                    <a:pt x="5040" y="1477"/>
                  </a:lnTo>
                  <a:lnTo>
                    <a:pt x="5033" y="1423"/>
                  </a:lnTo>
                  <a:lnTo>
                    <a:pt x="5028" y="1366"/>
                  </a:lnTo>
                  <a:lnTo>
                    <a:pt x="5023" y="1304"/>
                  </a:lnTo>
                  <a:lnTo>
                    <a:pt x="5019" y="1237"/>
                  </a:lnTo>
                  <a:lnTo>
                    <a:pt x="5017" y="1165"/>
                  </a:lnTo>
                  <a:lnTo>
                    <a:pt x="5017" y="1086"/>
                  </a:lnTo>
                  <a:lnTo>
                    <a:pt x="5004" y="1076"/>
                  </a:lnTo>
                  <a:lnTo>
                    <a:pt x="4988" y="1064"/>
                  </a:lnTo>
                  <a:lnTo>
                    <a:pt x="4969" y="1053"/>
                  </a:lnTo>
                  <a:lnTo>
                    <a:pt x="4947" y="1039"/>
                  </a:lnTo>
                  <a:lnTo>
                    <a:pt x="4922" y="1026"/>
                  </a:lnTo>
                  <a:lnTo>
                    <a:pt x="4896" y="1010"/>
                  </a:lnTo>
                  <a:lnTo>
                    <a:pt x="4866" y="996"/>
                  </a:lnTo>
                  <a:lnTo>
                    <a:pt x="4836" y="981"/>
                  </a:lnTo>
                  <a:lnTo>
                    <a:pt x="4769" y="951"/>
                  </a:lnTo>
                  <a:lnTo>
                    <a:pt x="4698" y="921"/>
                  </a:lnTo>
                  <a:lnTo>
                    <a:pt x="4623" y="891"/>
                  </a:lnTo>
                  <a:lnTo>
                    <a:pt x="4547" y="864"/>
                  </a:lnTo>
                  <a:lnTo>
                    <a:pt x="4509" y="852"/>
                  </a:lnTo>
                  <a:lnTo>
                    <a:pt x="4472" y="840"/>
                  </a:lnTo>
                  <a:lnTo>
                    <a:pt x="4434" y="828"/>
                  </a:lnTo>
                  <a:lnTo>
                    <a:pt x="4398" y="819"/>
                  </a:lnTo>
                  <a:lnTo>
                    <a:pt x="4363" y="810"/>
                  </a:lnTo>
                  <a:lnTo>
                    <a:pt x="4329" y="803"/>
                  </a:lnTo>
                  <a:lnTo>
                    <a:pt x="4296" y="797"/>
                  </a:lnTo>
                  <a:lnTo>
                    <a:pt x="4265" y="792"/>
                  </a:lnTo>
                  <a:lnTo>
                    <a:pt x="4236" y="789"/>
                  </a:lnTo>
                  <a:lnTo>
                    <a:pt x="4209" y="787"/>
                  </a:lnTo>
                  <a:lnTo>
                    <a:pt x="4184" y="787"/>
                  </a:lnTo>
                  <a:lnTo>
                    <a:pt x="4162" y="791"/>
                  </a:lnTo>
                  <a:lnTo>
                    <a:pt x="4142" y="794"/>
                  </a:lnTo>
                  <a:lnTo>
                    <a:pt x="4126" y="801"/>
                  </a:lnTo>
                  <a:lnTo>
                    <a:pt x="4113" y="810"/>
                  </a:lnTo>
                  <a:lnTo>
                    <a:pt x="4104" y="821"/>
                  </a:lnTo>
                  <a:lnTo>
                    <a:pt x="4080" y="856"/>
                  </a:lnTo>
                  <a:lnTo>
                    <a:pt x="4059" y="884"/>
                  </a:lnTo>
                  <a:lnTo>
                    <a:pt x="4049" y="896"/>
                  </a:lnTo>
                  <a:lnTo>
                    <a:pt x="4039" y="907"/>
                  </a:lnTo>
                  <a:lnTo>
                    <a:pt x="4031" y="916"/>
                  </a:lnTo>
                  <a:lnTo>
                    <a:pt x="4022" y="923"/>
                  </a:lnTo>
                  <a:lnTo>
                    <a:pt x="4014" y="930"/>
                  </a:lnTo>
                  <a:lnTo>
                    <a:pt x="4007" y="935"/>
                  </a:lnTo>
                  <a:lnTo>
                    <a:pt x="4000" y="939"/>
                  </a:lnTo>
                  <a:lnTo>
                    <a:pt x="3993" y="942"/>
                  </a:lnTo>
                  <a:lnTo>
                    <a:pt x="3986" y="944"/>
                  </a:lnTo>
                  <a:lnTo>
                    <a:pt x="3980" y="945"/>
                  </a:lnTo>
                  <a:lnTo>
                    <a:pt x="3974" y="945"/>
                  </a:lnTo>
                  <a:lnTo>
                    <a:pt x="3968" y="944"/>
                  </a:lnTo>
                  <a:lnTo>
                    <a:pt x="3963" y="943"/>
                  </a:lnTo>
                  <a:lnTo>
                    <a:pt x="3959" y="940"/>
                  </a:lnTo>
                  <a:lnTo>
                    <a:pt x="3954" y="937"/>
                  </a:lnTo>
                  <a:lnTo>
                    <a:pt x="3949" y="933"/>
                  </a:lnTo>
                  <a:lnTo>
                    <a:pt x="3942" y="925"/>
                  </a:lnTo>
                  <a:lnTo>
                    <a:pt x="3937" y="915"/>
                  </a:lnTo>
                  <a:lnTo>
                    <a:pt x="3931" y="903"/>
                  </a:lnTo>
                  <a:lnTo>
                    <a:pt x="3926" y="891"/>
                  </a:lnTo>
                  <a:lnTo>
                    <a:pt x="3922" y="880"/>
                  </a:lnTo>
                  <a:lnTo>
                    <a:pt x="3919" y="868"/>
                  </a:lnTo>
                  <a:lnTo>
                    <a:pt x="3917" y="862"/>
                  </a:lnTo>
                  <a:lnTo>
                    <a:pt x="3913" y="857"/>
                  </a:lnTo>
                  <a:lnTo>
                    <a:pt x="3907" y="854"/>
                  </a:lnTo>
                  <a:lnTo>
                    <a:pt x="3900" y="850"/>
                  </a:lnTo>
                  <a:lnTo>
                    <a:pt x="3893" y="848"/>
                  </a:lnTo>
                  <a:lnTo>
                    <a:pt x="3884" y="847"/>
                  </a:lnTo>
                  <a:lnTo>
                    <a:pt x="3873" y="846"/>
                  </a:lnTo>
                  <a:lnTo>
                    <a:pt x="3862" y="845"/>
                  </a:lnTo>
                  <a:lnTo>
                    <a:pt x="3837" y="845"/>
                  </a:lnTo>
                  <a:lnTo>
                    <a:pt x="3808" y="847"/>
                  </a:lnTo>
                  <a:lnTo>
                    <a:pt x="3778" y="850"/>
                  </a:lnTo>
                  <a:lnTo>
                    <a:pt x="3746" y="854"/>
                  </a:lnTo>
                  <a:lnTo>
                    <a:pt x="3680" y="863"/>
                  </a:lnTo>
                  <a:lnTo>
                    <a:pt x="3615" y="870"/>
                  </a:lnTo>
                  <a:lnTo>
                    <a:pt x="3586" y="873"/>
                  </a:lnTo>
                  <a:lnTo>
                    <a:pt x="3559" y="873"/>
                  </a:lnTo>
                  <a:lnTo>
                    <a:pt x="3546" y="873"/>
                  </a:lnTo>
                  <a:lnTo>
                    <a:pt x="3536" y="871"/>
                  </a:lnTo>
                  <a:lnTo>
                    <a:pt x="3525" y="870"/>
                  </a:lnTo>
                  <a:lnTo>
                    <a:pt x="3516" y="868"/>
                  </a:lnTo>
                  <a:lnTo>
                    <a:pt x="3500" y="861"/>
                  </a:lnTo>
                  <a:lnTo>
                    <a:pt x="3483" y="853"/>
                  </a:lnTo>
                  <a:lnTo>
                    <a:pt x="3467" y="845"/>
                  </a:lnTo>
                  <a:lnTo>
                    <a:pt x="3453" y="835"/>
                  </a:lnTo>
                  <a:lnTo>
                    <a:pt x="3439" y="825"/>
                  </a:lnTo>
                  <a:lnTo>
                    <a:pt x="3426" y="814"/>
                  </a:lnTo>
                  <a:lnTo>
                    <a:pt x="3414" y="804"/>
                  </a:lnTo>
                  <a:lnTo>
                    <a:pt x="3404" y="793"/>
                  </a:lnTo>
                  <a:lnTo>
                    <a:pt x="3372" y="758"/>
                  </a:lnTo>
                  <a:lnTo>
                    <a:pt x="3361" y="743"/>
                  </a:lnTo>
                  <a:lnTo>
                    <a:pt x="3356" y="748"/>
                  </a:lnTo>
                  <a:lnTo>
                    <a:pt x="3344" y="759"/>
                  </a:lnTo>
                  <a:lnTo>
                    <a:pt x="3335" y="766"/>
                  </a:lnTo>
                  <a:lnTo>
                    <a:pt x="3324" y="775"/>
                  </a:lnTo>
                  <a:lnTo>
                    <a:pt x="3313" y="783"/>
                  </a:lnTo>
                  <a:lnTo>
                    <a:pt x="3299" y="791"/>
                  </a:lnTo>
                  <a:lnTo>
                    <a:pt x="3284" y="799"/>
                  </a:lnTo>
                  <a:lnTo>
                    <a:pt x="3267" y="805"/>
                  </a:lnTo>
                  <a:lnTo>
                    <a:pt x="3250" y="811"/>
                  </a:lnTo>
                  <a:lnTo>
                    <a:pt x="3231" y="814"/>
                  </a:lnTo>
                  <a:lnTo>
                    <a:pt x="3220" y="815"/>
                  </a:lnTo>
                  <a:lnTo>
                    <a:pt x="3210" y="815"/>
                  </a:lnTo>
                  <a:lnTo>
                    <a:pt x="3201" y="815"/>
                  </a:lnTo>
                  <a:lnTo>
                    <a:pt x="3189" y="814"/>
                  </a:lnTo>
                  <a:lnTo>
                    <a:pt x="3178" y="813"/>
                  </a:lnTo>
                  <a:lnTo>
                    <a:pt x="3168" y="811"/>
                  </a:lnTo>
                  <a:lnTo>
                    <a:pt x="3156" y="808"/>
                  </a:lnTo>
                  <a:lnTo>
                    <a:pt x="3145" y="804"/>
                  </a:lnTo>
                  <a:lnTo>
                    <a:pt x="3122" y="794"/>
                  </a:lnTo>
                  <a:lnTo>
                    <a:pt x="3100" y="784"/>
                  </a:lnTo>
                  <a:lnTo>
                    <a:pt x="3079" y="771"/>
                  </a:lnTo>
                  <a:lnTo>
                    <a:pt x="3058" y="758"/>
                  </a:lnTo>
                  <a:lnTo>
                    <a:pt x="3016" y="730"/>
                  </a:lnTo>
                  <a:lnTo>
                    <a:pt x="2972" y="702"/>
                  </a:lnTo>
                  <a:lnTo>
                    <a:pt x="2947" y="688"/>
                  </a:lnTo>
                  <a:lnTo>
                    <a:pt x="2923" y="675"/>
                  </a:lnTo>
                  <a:lnTo>
                    <a:pt x="2896" y="665"/>
                  </a:lnTo>
                  <a:lnTo>
                    <a:pt x="2867" y="654"/>
                  </a:lnTo>
                  <a:lnTo>
                    <a:pt x="2851" y="650"/>
                  </a:lnTo>
                  <a:lnTo>
                    <a:pt x="2836" y="646"/>
                  </a:lnTo>
                  <a:lnTo>
                    <a:pt x="2820" y="643"/>
                  </a:lnTo>
                  <a:lnTo>
                    <a:pt x="2802" y="639"/>
                  </a:lnTo>
                  <a:lnTo>
                    <a:pt x="2785" y="637"/>
                  </a:lnTo>
                  <a:lnTo>
                    <a:pt x="2766" y="636"/>
                  </a:lnTo>
                  <a:lnTo>
                    <a:pt x="2747" y="634"/>
                  </a:lnTo>
                  <a:lnTo>
                    <a:pt x="2726" y="634"/>
                  </a:lnTo>
                  <a:lnTo>
                    <a:pt x="2759" y="47"/>
                  </a:lnTo>
                  <a:lnTo>
                    <a:pt x="1857" y="0"/>
                  </a:lnTo>
                  <a:lnTo>
                    <a:pt x="1399" y="1533"/>
                  </a:lnTo>
                  <a:lnTo>
                    <a:pt x="8" y="1501"/>
                  </a:lnTo>
                  <a:lnTo>
                    <a:pt x="0" y="1668"/>
                  </a:lnTo>
                  <a:lnTo>
                    <a:pt x="503" y="2350"/>
                  </a:lnTo>
                  <a:lnTo>
                    <a:pt x="472" y="2566"/>
                  </a:lnTo>
                  <a:lnTo>
                    <a:pt x="904" y="3030"/>
                  </a:lnTo>
                  <a:lnTo>
                    <a:pt x="1091" y="2938"/>
                  </a:lnTo>
                  <a:lnTo>
                    <a:pt x="1307" y="2598"/>
                  </a:lnTo>
                  <a:lnTo>
                    <a:pt x="1318" y="2597"/>
                  </a:lnTo>
                  <a:lnTo>
                    <a:pt x="1348" y="2593"/>
                  </a:lnTo>
                  <a:lnTo>
                    <a:pt x="1392" y="2589"/>
                  </a:lnTo>
                  <a:lnTo>
                    <a:pt x="1446" y="2583"/>
                  </a:lnTo>
                  <a:lnTo>
                    <a:pt x="1507" y="2577"/>
                  </a:lnTo>
                  <a:lnTo>
                    <a:pt x="1569" y="2572"/>
                  </a:lnTo>
                  <a:lnTo>
                    <a:pt x="1627" y="2568"/>
                  </a:lnTo>
                  <a:lnTo>
                    <a:pt x="1679" y="2566"/>
                  </a:lnTo>
                  <a:lnTo>
                    <a:pt x="1725" y="2568"/>
                  </a:lnTo>
                  <a:lnTo>
                    <a:pt x="1773" y="2570"/>
                  </a:lnTo>
                  <a:lnTo>
                    <a:pt x="1798" y="2572"/>
                  </a:lnTo>
                  <a:lnTo>
                    <a:pt x="1821" y="2577"/>
                  </a:lnTo>
                  <a:lnTo>
                    <a:pt x="1844" y="2582"/>
                  </a:lnTo>
                  <a:lnTo>
                    <a:pt x="1867" y="2590"/>
                  </a:lnTo>
                  <a:lnTo>
                    <a:pt x="1877" y="2594"/>
                  </a:lnTo>
                  <a:lnTo>
                    <a:pt x="1888" y="2599"/>
                  </a:lnTo>
                  <a:lnTo>
                    <a:pt x="1897" y="2605"/>
                  </a:lnTo>
                  <a:lnTo>
                    <a:pt x="1907" y="2612"/>
                  </a:lnTo>
                  <a:lnTo>
                    <a:pt x="1917" y="2619"/>
                  </a:lnTo>
                  <a:lnTo>
                    <a:pt x="1925" y="2627"/>
                  </a:lnTo>
                  <a:lnTo>
                    <a:pt x="1934" y="2635"/>
                  </a:lnTo>
                  <a:lnTo>
                    <a:pt x="1943" y="2645"/>
                  </a:lnTo>
                  <a:lnTo>
                    <a:pt x="1950" y="2655"/>
                  </a:lnTo>
                  <a:lnTo>
                    <a:pt x="1957" y="2666"/>
                  </a:lnTo>
                  <a:lnTo>
                    <a:pt x="1964" y="2677"/>
                  </a:lnTo>
                  <a:lnTo>
                    <a:pt x="1969" y="2690"/>
                  </a:lnTo>
                  <a:lnTo>
                    <a:pt x="1974" y="2704"/>
                  </a:lnTo>
                  <a:lnTo>
                    <a:pt x="1980" y="2718"/>
                  </a:lnTo>
                  <a:lnTo>
                    <a:pt x="1983" y="2735"/>
                  </a:lnTo>
                  <a:lnTo>
                    <a:pt x="1987" y="2751"/>
                  </a:lnTo>
                  <a:lnTo>
                    <a:pt x="1993" y="2788"/>
                  </a:lnTo>
                  <a:lnTo>
                    <a:pt x="1997" y="2830"/>
                  </a:lnTo>
                  <a:lnTo>
                    <a:pt x="2004" y="2876"/>
                  </a:lnTo>
                  <a:lnTo>
                    <a:pt x="2011" y="2926"/>
                  </a:lnTo>
                  <a:lnTo>
                    <a:pt x="2021" y="2977"/>
                  </a:lnTo>
                  <a:lnTo>
                    <a:pt x="2034" y="3032"/>
                  </a:lnTo>
                  <a:lnTo>
                    <a:pt x="2041" y="3060"/>
                  </a:lnTo>
                  <a:lnTo>
                    <a:pt x="2049" y="3088"/>
                  </a:lnTo>
                  <a:lnTo>
                    <a:pt x="2058" y="3116"/>
                  </a:lnTo>
                  <a:lnTo>
                    <a:pt x="2069" y="3146"/>
                  </a:lnTo>
                  <a:lnTo>
                    <a:pt x="2080" y="3175"/>
                  </a:lnTo>
                  <a:lnTo>
                    <a:pt x="2092" y="3204"/>
                  </a:lnTo>
                  <a:lnTo>
                    <a:pt x="2107" y="3233"/>
                  </a:lnTo>
                  <a:lnTo>
                    <a:pt x="2122" y="3263"/>
                  </a:lnTo>
                  <a:lnTo>
                    <a:pt x="2139" y="3292"/>
                  </a:lnTo>
                  <a:lnTo>
                    <a:pt x="2157" y="3321"/>
                  </a:lnTo>
                  <a:lnTo>
                    <a:pt x="2178" y="3349"/>
                  </a:lnTo>
                  <a:lnTo>
                    <a:pt x="2201" y="3377"/>
                  </a:lnTo>
                  <a:lnTo>
                    <a:pt x="2224" y="3405"/>
                  </a:lnTo>
                  <a:lnTo>
                    <a:pt x="2250" y="3433"/>
                  </a:lnTo>
                  <a:lnTo>
                    <a:pt x="2278" y="3460"/>
                  </a:lnTo>
                  <a:lnTo>
                    <a:pt x="2308" y="3487"/>
                  </a:lnTo>
                  <a:lnTo>
                    <a:pt x="2340" y="3512"/>
                  </a:lnTo>
                  <a:lnTo>
                    <a:pt x="2375" y="3538"/>
                  </a:lnTo>
                  <a:lnTo>
                    <a:pt x="2411" y="3563"/>
                  </a:lnTo>
                  <a:lnTo>
                    <a:pt x="2451" y="3586"/>
                  </a:lnTo>
                  <a:lnTo>
                    <a:pt x="2606" y="4050"/>
                  </a:lnTo>
                  <a:lnTo>
                    <a:pt x="3099" y="4545"/>
                  </a:lnTo>
                  <a:lnTo>
                    <a:pt x="3563" y="4545"/>
                  </a:lnTo>
                  <a:lnTo>
                    <a:pt x="3562" y="4528"/>
                  </a:lnTo>
                  <a:lnTo>
                    <a:pt x="3562" y="4478"/>
                  </a:lnTo>
                  <a:lnTo>
                    <a:pt x="3560" y="4406"/>
                  </a:lnTo>
                  <a:lnTo>
                    <a:pt x="3558" y="4316"/>
                  </a:lnTo>
                  <a:lnTo>
                    <a:pt x="3555" y="4217"/>
                  </a:lnTo>
                  <a:lnTo>
                    <a:pt x="3549" y="4114"/>
                  </a:lnTo>
                  <a:lnTo>
                    <a:pt x="3545" y="4064"/>
                  </a:lnTo>
                  <a:lnTo>
                    <a:pt x="3541" y="4015"/>
                  </a:lnTo>
                  <a:lnTo>
                    <a:pt x="3536" y="3969"/>
                  </a:lnTo>
                  <a:lnTo>
                    <a:pt x="3530" y="3926"/>
                  </a:lnTo>
                  <a:lnTo>
                    <a:pt x="3529" y="3905"/>
                  </a:lnTo>
                  <a:lnTo>
                    <a:pt x="3530" y="3883"/>
                  </a:lnTo>
                  <a:lnTo>
                    <a:pt x="3534" y="3861"/>
                  </a:lnTo>
                  <a:lnTo>
                    <a:pt x="3538" y="3836"/>
                  </a:lnTo>
                  <a:lnTo>
                    <a:pt x="3546" y="3811"/>
                  </a:lnTo>
                  <a:lnTo>
                    <a:pt x="3555" y="3786"/>
                  </a:lnTo>
                  <a:lnTo>
                    <a:pt x="3566" y="3759"/>
                  </a:lnTo>
                  <a:lnTo>
                    <a:pt x="3579" y="3732"/>
                  </a:lnTo>
                  <a:lnTo>
                    <a:pt x="3593" y="3705"/>
                  </a:lnTo>
                  <a:lnTo>
                    <a:pt x="3608" y="3677"/>
                  </a:lnTo>
                  <a:lnTo>
                    <a:pt x="3626" y="3649"/>
                  </a:lnTo>
                  <a:lnTo>
                    <a:pt x="3643" y="3621"/>
                  </a:lnTo>
                  <a:lnTo>
                    <a:pt x="3663" y="3593"/>
                  </a:lnTo>
                  <a:lnTo>
                    <a:pt x="3683" y="3565"/>
                  </a:lnTo>
                  <a:lnTo>
                    <a:pt x="3703" y="3537"/>
                  </a:lnTo>
                  <a:lnTo>
                    <a:pt x="3725" y="3509"/>
                  </a:lnTo>
                  <a:lnTo>
                    <a:pt x="3747" y="3482"/>
                  </a:lnTo>
                  <a:lnTo>
                    <a:pt x="3769" y="3455"/>
                  </a:lnTo>
                  <a:lnTo>
                    <a:pt x="3792" y="3430"/>
                  </a:lnTo>
                  <a:lnTo>
                    <a:pt x="3815" y="3404"/>
                  </a:lnTo>
                  <a:lnTo>
                    <a:pt x="3861" y="3355"/>
                  </a:lnTo>
                  <a:lnTo>
                    <a:pt x="3905" y="3310"/>
                  </a:lnTo>
                  <a:lnTo>
                    <a:pt x="3948" y="3270"/>
                  </a:lnTo>
                  <a:lnTo>
                    <a:pt x="3989" y="3236"/>
                  </a:lnTo>
                  <a:lnTo>
                    <a:pt x="4008" y="3220"/>
                  </a:lnTo>
                  <a:lnTo>
                    <a:pt x="4025" y="3206"/>
                  </a:lnTo>
                  <a:lnTo>
                    <a:pt x="4043" y="3196"/>
                  </a:lnTo>
                  <a:lnTo>
                    <a:pt x="4058" y="3185"/>
                  </a:lnTo>
                  <a:lnTo>
                    <a:pt x="4092" y="3167"/>
                  </a:lnTo>
                  <a:lnTo>
                    <a:pt x="4137" y="3145"/>
                  </a:lnTo>
                  <a:lnTo>
                    <a:pt x="4190" y="3119"/>
                  </a:lnTo>
                  <a:lnTo>
                    <a:pt x="4250" y="3092"/>
                  </a:lnTo>
                  <a:lnTo>
                    <a:pt x="4313" y="3063"/>
                  </a:lnTo>
                  <a:lnTo>
                    <a:pt x="4379" y="3034"/>
                  </a:lnTo>
                  <a:lnTo>
                    <a:pt x="4446" y="3002"/>
                  </a:lnTo>
                  <a:lnTo>
                    <a:pt x="4511" y="2970"/>
                  </a:lnTo>
                  <a:lnTo>
                    <a:pt x="4574" y="2939"/>
                  </a:lnTo>
                  <a:lnTo>
                    <a:pt x="4632" y="2907"/>
                  </a:lnTo>
                  <a:lnTo>
                    <a:pt x="4658" y="2892"/>
                  </a:lnTo>
                  <a:lnTo>
                    <a:pt x="4683" y="2877"/>
                  </a:lnTo>
                  <a:lnTo>
                    <a:pt x="4705" y="2863"/>
                  </a:lnTo>
                  <a:lnTo>
                    <a:pt x="4725" y="2848"/>
                  </a:lnTo>
                  <a:lnTo>
                    <a:pt x="4741" y="2834"/>
                  </a:lnTo>
                  <a:lnTo>
                    <a:pt x="4757" y="2821"/>
                  </a:lnTo>
                  <a:lnTo>
                    <a:pt x="4767" y="2807"/>
                  </a:lnTo>
                  <a:lnTo>
                    <a:pt x="4775" y="2795"/>
                  </a:lnTo>
                  <a:lnTo>
                    <a:pt x="4780" y="2782"/>
                  </a:lnTo>
                  <a:lnTo>
                    <a:pt x="4780" y="2772"/>
                  </a:lnTo>
                  <a:lnTo>
                    <a:pt x="4776" y="2761"/>
                  </a:lnTo>
                  <a:lnTo>
                    <a:pt x="4769" y="2751"/>
                  </a:lnTo>
                  <a:lnTo>
                    <a:pt x="4741" y="2725"/>
                  </a:lnTo>
                  <a:lnTo>
                    <a:pt x="4718" y="2699"/>
                  </a:lnTo>
                  <a:lnTo>
                    <a:pt x="4698" y="2676"/>
                  </a:lnTo>
                  <a:lnTo>
                    <a:pt x="4682" y="2654"/>
                  </a:lnTo>
                  <a:lnTo>
                    <a:pt x="4669" y="2633"/>
                  </a:lnTo>
                  <a:lnTo>
                    <a:pt x="4658" y="2613"/>
                  </a:lnTo>
                  <a:lnTo>
                    <a:pt x="4651" y="2594"/>
                  </a:lnTo>
                  <a:lnTo>
                    <a:pt x="4647" y="2578"/>
                  </a:lnTo>
                  <a:lnTo>
                    <a:pt x="4644" y="2562"/>
                  </a:lnTo>
                  <a:lnTo>
                    <a:pt x="4644" y="2548"/>
                  </a:lnTo>
                  <a:lnTo>
                    <a:pt x="4648" y="2536"/>
                  </a:lnTo>
                  <a:lnTo>
                    <a:pt x="4653" y="2524"/>
                  </a:lnTo>
                  <a:lnTo>
                    <a:pt x="4660" y="2515"/>
                  </a:lnTo>
                  <a:lnTo>
                    <a:pt x="4669" y="2508"/>
                  </a:lnTo>
                  <a:lnTo>
                    <a:pt x="4679" y="2501"/>
                  </a:lnTo>
                  <a:lnTo>
                    <a:pt x="4691" y="2497"/>
                  </a:lnTo>
                  <a:lnTo>
                    <a:pt x="4705" y="2495"/>
                  </a:lnTo>
                  <a:lnTo>
                    <a:pt x="4720" y="2494"/>
                  </a:lnTo>
                  <a:lnTo>
                    <a:pt x="4736" y="2495"/>
                  </a:lnTo>
                  <a:lnTo>
                    <a:pt x="4753" y="2497"/>
                  </a:lnTo>
                  <a:lnTo>
                    <a:pt x="4771" y="2502"/>
                  </a:lnTo>
                  <a:lnTo>
                    <a:pt x="4789" y="2509"/>
                  </a:lnTo>
                  <a:lnTo>
                    <a:pt x="4809" y="2518"/>
                  </a:lnTo>
                  <a:lnTo>
                    <a:pt x="4829" y="2529"/>
                  </a:lnTo>
                  <a:lnTo>
                    <a:pt x="4849" y="2542"/>
                  </a:lnTo>
                  <a:lnTo>
                    <a:pt x="4869" y="2556"/>
                  </a:lnTo>
                  <a:lnTo>
                    <a:pt x="4890" y="2573"/>
                  </a:lnTo>
                  <a:lnTo>
                    <a:pt x="4910" y="2592"/>
                  </a:lnTo>
                  <a:lnTo>
                    <a:pt x="4929" y="2613"/>
                  </a:lnTo>
                  <a:lnTo>
                    <a:pt x="4948" y="2636"/>
                  </a:lnTo>
                  <a:lnTo>
                    <a:pt x="4967" y="2662"/>
                  </a:lnTo>
                  <a:lnTo>
                    <a:pt x="4985" y="2690"/>
                  </a:lnTo>
                  <a:lnTo>
                    <a:pt x="5200" y="25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Freeform 227"/>
            <p:cNvSpPr/>
            <p:nvPr/>
          </p:nvSpPr>
          <p:spPr>
            <a:xfrm>
              <a:off x="6823080" y="5352840"/>
              <a:ext cx="366120" cy="14688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293" h="847">
                  <a:moveTo>
                    <a:pt x="2293" y="224"/>
                  </a:moveTo>
                  <a:lnTo>
                    <a:pt x="2289" y="847"/>
                  </a:lnTo>
                  <a:lnTo>
                    <a:pt x="0" y="845"/>
                  </a:lnTo>
                  <a:lnTo>
                    <a:pt x="222" y="0"/>
                  </a:lnTo>
                  <a:lnTo>
                    <a:pt x="1998" y="4"/>
                  </a:lnTo>
                  <a:lnTo>
                    <a:pt x="2007" y="21"/>
                  </a:lnTo>
                  <a:lnTo>
                    <a:pt x="2014" y="36"/>
                  </a:lnTo>
                  <a:lnTo>
                    <a:pt x="2021" y="47"/>
                  </a:lnTo>
                  <a:lnTo>
                    <a:pt x="2028" y="54"/>
                  </a:lnTo>
                  <a:lnTo>
                    <a:pt x="2031" y="57"/>
                  </a:lnTo>
                  <a:lnTo>
                    <a:pt x="2036" y="59"/>
                  </a:lnTo>
                  <a:lnTo>
                    <a:pt x="2039" y="60"/>
                  </a:lnTo>
                  <a:lnTo>
                    <a:pt x="2044" y="61"/>
                  </a:lnTo>
                  <a:lnTo>
                    <a:pt x="2054" y="61"/>
                  </a:lnTo>
                  <a:lnTo>
                    <a:pt x="2067" y="57"/>
                  </a:lnTo>
                  <a:lnTo>
                    <a:pt x="2095" y="54"/>
                  </a:lnTo>
                  <a:lnTo>
                    <a:pt x="2122" y="50"/>
                  </a:lnTo>
                  <a:lnTo>
                    <a:pt x="2134" y="50"/>
                  </a:lnTo>
                  <a:lnTo>
                    <a:pt x="2144" y="52"/>
                  </a:lnTo>
                  <a:lnTo>
                    <a:pt x="2154" y="53"/>
                  </a:lnTo>
                  <a:lnTo>
                    <a:pt x="2163" y="55"/>
                  </a:lnTo>
                  <a:lnTo>
                    <a:pt x="2170" y="59"/>
                  </a:lnTo>
                  <a:lnTo>
                    <a:pt x="2177" y="63"/>
                  </a:lnTo>
                  <a:lnTo>
                    <a:pt x="2182" y="69"/>
                  </a:lnTo>
                  <a:lnTo>
                    <a:pt x="2185" y="76"/>
                  </a:lnTo>
                  <a:lnTo>
                    <a:pt x="2188" y="85"/>
                  </a:lnTo>
                  <a:lnTo>
                    <a:pt x="2188" y="96"/>
                  </a:lnTo>
                  <a:lnTo>
                    <a:pt x="2186" y="108"/>
                  </a:lnTo>
                  <a:lnTo>
                    <a:pt x="2183" y="122"/>
                  </a:lnTo>
                  <a:lnTo>
                    <a:pt x="2182" y="125"/>
                  </a:lnTo>
                  <a:lnTo>
                    <a:pt x="2182" y="130"/>
                  </a:lnTo>
                  <a:lnTo>
                    <a:pt x="2183" y="133"/>
                  </a:lnTo>
                  <a:lnTo>
                    <a:pt x="2184" y="137"/>
                  </a:lnTo>
                  <a:lnTo>
                    <a:pt x="2189" y="145"/>
                  </a:lnTo>
                  <a:lnTo>
                    <a:pt x="2196" y="151"/>
                  </a:lnTo>
                  <a:lnTo>
                    <a:pt x="2205" y="158"/>
                  </a:lnTo>
                  <a:lnTo>
                    <a:pt x="2214" y="164"/>
                  </a:lnTo>
                  <a:lnTo>
                    <a:pt x="2226" y="170"/>
                  </a:lnTo>
                  <a:lnTo>
                    <a:pt x="2238" y="175"/>
                  </a:lnTo>
                  <a:lnTo>
                    <a:pt x="2260" y="187"/>
                  </a:lnTo>
                  <a:lnTo>
                    <a:pt x="2279" y="199"/>
                  </a:lnTo>
                  <a:lnTo>
                    <a:pt x="2286" y="205"/>
                  </a:lnTo>
                  <a:lnTo>
                    <a:pt x="2292" y="210"/>
                  </a:lnTo>
                  <a:lnTo>
                    <a:pt x="2293" y="214"/>
                  </a:lnTo>
                  <a:lnTo>
                    <a:pt x="2293" y="217"/>
                  </a:lnTo>
                  <a:lnTo>
                    <a:pt x="2293" y="221"/>
                  </a:lnTo>
                  <a:lnTo>
                    <a:pt x="2293" y="22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Freeform 228"/>
            <p:cNvSpPr/>
            <p:nvPr/>
          </p:nvSpPr>
          <p:spPr>
            <a:xfrm>
              <a:off x="7229880" y="5087880"/>
              <a:ext cx="234360" cy="15048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1469" h="876">
                  <a:moveTo>
                    <a:pt x="781" y="876"/>
                  </a:moveTo>
                  <a:lnTo>
                    <a:pt x="761" y="875"/>
                  </a:lnTo>
                  <a:lnTo>
                    <a:pt x="741" y="872"/>
                  </a:lnTo>
                  <a:lnTo>
                    <a:pt x="720" y="867"/>
                  </a:lnTo>
                  <a:lnTo>
                    <a:pt x="699" y="860"/>
                  </a:lnTo>
                  <a:lnTo>
                    <a:pt x="677" y="851"/>
                  </a:lnTo>
                  <a:lnTo>
                    <a:pt x="656" y="840"/>
                  </a:lnTo>
                  <a:lnTo>
                    <a:pt x="633" y="827"/>
                  </a:lnTo>
                  <a:lnTo>
                    <a:pt x="612" y="814"/>
                  </a:lnTo>
                  <a:lnTo>
                    <a:pt x="592" y="799"/>
                  </a:lnTo>
                  <a:lnTo>
                    <a:pt x="573" y="783"/>
                  </a:lnTo>
                  <a:lnTo>
                    <a:pt x="555" y="767"/>
                  </a:lnTo>
                  <a:lnTo>
                    <a:pt x="538" y="749"/>
                  </a:lnTo>
                  <a:lnTo>
                    <a:pt x="522" y="730"/>
                  </a:lnTo>
                  <a:lnTo>
                    <a:pt x="508" y="712"/>
                  </a:lnTo>
                  <a:lnTo>
                    <a:pt x="497" y="693"/>
                  </a:lnTo>
                  <a:lnTo>
                    <a:pt x="486" y="674"/>
                  </a:lnTo>
                  <a:lnTo>
                    <a:pt x="486" y="670"/>
                  </a:lnTo>
                  <a:lnTo>
                    <a:pt x="484" y="656"/>
                  </a:lnTo>
                  <a:lnTo>
                    <a:pt x="481" y="646"/>
                  </a:lnTo>
                  <a:lnTo>
                    <a:pt x="478" y="636"/>
                  </a:lnTo>
                  <a:lnTo>
                    <a:pt x="473" y="625"/>
                  </a:lnTo>
                  <a:lnTo>
                    <a:pt x="467" y="612"/>
                  </a:lnTo>
                  <a:lnTo>
                    <a:pt x="459" y="601"/>
                  </a:lnTo>
                  <a:lnTo>
                    <a:pt x="450" y="588"/>
                  </a:lnTo>
                  <a:lnTo>
                    <a:pt x="439" y="575"/>
                  </a:lnTo>
                  <a:lnTo>
                    <a:pt x="425" y="563"/>
                  </a:lnTo>
                  <a:lnTo>
                    <a:pt x="410" y="553"/>
                  </a:lnTo>
                  <a:lnTo>
                    <a:pt x="393" y="542"/>
                  </a:lnTo>
                  <a:lnTo>
                    <a:pt x="382" y="539"/>
                  </a:lnTo>
                  <a:lnTo>
                    <a:pt x="372" y="534"/>
                  </a:lnTo>
                  <a:lnTo>
                    <a:pt x="360" y="531"/>
                  </a:lnTo>
                  <a:lnTo>
                    <a:pt x="348" y="527"/>
                  </a:lnTo>
                  <a:lnTo>
                    <a:pt x="299" y="515"/>
                  </a:lnTo>
                  <a:lnTo>
                    <a:pt x="251" y="501"/>
                  </a:lnTo>
                  <a:lnTo>
                    <a:pt x="228" y="494"/>
                  </a:lnTo>
                  <a:lnTo>
                    <a:pt x="206" y="487"/>
                  </a:lnTo>
                  <a:lnTo>
                    <a:pt x="185" y="479"/>
                  </a:lnTo>
                  <a:lnTo>
                    <a:pt x="166" y="471"/>
                  </a:lnTo>
                  <a:lnTo>
                    <a:pt x="147" y="462"/>
                  </a:lnTo>
                  <a:lnTo>
                    <a:pt x="131" y="452"/>
                  </a:lnTo>
                  <a:lnTo>
                    <a:pt x="116" y="443"/>
                  </a:lnTo>
                  <a:lnTo>
                    <a:pt x="102" y="431"/>
                  </a:lnTo>
                  <a:lnTo>
                    <a:pt x="91" y="420"/>
                  </a:lnTo>
                  <a:lnTo>
                    <a:pt x="82" y="408"/>
                  </a:lnTo>
                  <a:lnTo>
                    <a:pt x="78" y="401"/>
                  </a:lnTo>
                  <a:lnTo>
                    <a:pt x="76" y="395"/>
                  </a:lnTo>
                  <a:lnTo>
                    <a:pt x="74" y="388"/>
                  </a:lnTo>
                  <a:lnTo>
                    <a:pt x="71" y="380"/>
                  </a:lnTo>
                  <a:lnTo>
                    <a:pt x="68" y="346"/>
                  </a:lnTo>
                  <a:lnTo>
                    <a:pt x="63" y="313"/>
                  </a:lnTo>
                  <a:lnTo>
                    <a:pt x="61" y="305"/>
                  </a:lnTo>
                  <a:lnTo>
                    <a:pt x="57" y="297"/>
                  </a:lnTo>
                  <a:lnTo>
                    <a:pt x="53" y="290"/>
                  </a:lnTo>
                  <a:lnTo>
                    <a:pt x="46" y="283"/>
                  </a:lnTo>
                  <a:lnTo>
                    <a:pt x="38" y="276"/>
                  </a:lnTo>
                  <a:lnTo>
                    <a:pt x="27" y="269"/>
                  </a:lnTo>
                  <a:lnTo>
                    <a:pt x="14" y="263"/>
                  </a:lnTo>
                  <a:lnTo>
                    <a:pt x="0" y="256"/>
                  </a:lnTo>
                  <a:lnTo>
                    <a:pt x="11" y="253"/>
                  </a:lnTo>
                  <a:lnTo>
                    <a:pt x="24" y="247"/>
                  </a:lnTo>
                  <a:lnTo>
                    <a:pt x="38" y="237"/>
                  </a:lnTo>
                  <a:lnTo>
                    <a:pt x="53" y="227"/>
                  </a:lnTo>
                  <a:lnTo>
                    <a:pt x="69" y="215"/>
                  </a:lnTo>
                  <a:lnTo>
                    <a:pt x="87" y="201"/>
                  </a:lnTo>
                  <a:lnTo>
                    <a:pt x="104" y="186"/>
                  </a:lnTo>
                  <a:lnTo>
                    <a:pt x="122" y="168"/>
                  </a:lnTo>
                  <a:lnTo>
                    <a:pt x="140" y="150"/>
                  </a:lnTo>
                  <a:lnTo>
                    <a:pt x="158" y="131"/>
                  </a:lnTo>
                  <a:lnTo>
                    <a:pt x="174" y="110"/>
                  </a:lnTo>
                  <a:lnTo>
                    <a:pt x="191" y="89"/>
                  </a:lnTo>
                  <a:lnTo>
                    <a:pt x="206" y="68"/>
                  </a:lnTo>
                  <a:lnTo>
                    <a:pt x="221" y="46"/>
                  </a:lnTo>
                  <a:lnTo>
                    <a:pt x="234" y="22"/>
                  </a:lnTo>
                  <a:lnTo>
                    <a:pt x="244" y="0"/>
                  </a:lnTo>
                  <a:lnTo>
                    <a:pt x="564" y="0"/>
                  </a:lnTo>
                  <a:lnTo>
                    <a:pt x="589" y="24"/>
                  </a:lnTo>
                  <a:lnTo>
                    <a:pt x="613" y="44"/>
                  </a:lnTo>
                  <a:lnTo>
                    <a:pt x="638" y="62"/>
                  </a:lnTo>
                  <a:lnTo>
                    <a:pt x="663" y="76"/>
                  </a:lnTo>
                  <a:lnTo>
                    <a:pt x="687" y="89"/>
                  </a:lnTo>
                  <a:lnTo>
                    <a:pt x="712" y="100"/>
                  </a:lnTo>
                  <a:lnTo>
                    <a:pt x="736" y="109"/>
                  </a:lnTo>
                  <a:lnTo>
                    <a:pt x="761" y="115"/>
                  </a:lnTo>
                  <a:lnTo>
                    <a:pt x="784" y="121"/>
                  </a:lnTo>
                  <a:lnTo>
                    <a:pt x="809" y="124"/>
                  </a:lnTo>
                  <a:lnTo>
                    <a:pt x="832" y="126"/>
                  </a:lnTo>
                  <a:lnTo>
                    <a:pt x="856" y="128"/>
                  </a:lnTo>
                  <a:lnTo>
                    <a:pt x="903" y="126"/>
                  </a:lnTo>
                  <a:lnTo>
                    <a:pt x="950" y="124"/>
                  </a:lnTo>
                  <a:lnTo>
                    <a:pt x="978" y="123"/>
                  </a:lnTo>
                  <a:lnTo>
                    <a:pt x="1005" y="123"/>
                  </a:lnTo>
                  <a:lnTo>
                    <a:pt x="1031" y="124"/>
                  </a:lnTo>
                  <a:lnTo>
                    <a:pt x="1056" y="125"/>
                  </a:lnTo>
                  <a:lnTo>
                    <a:pt x="1081" y="128"/>
                  </a:lnTo>
                  <a:lnTo>
                    <a:pt x="1104" y="130"/>
                  </a:lnTo>
                  <a:lnTo>
                    <a:pt x="1126" y="135"/>
                  </a:lnTo>
                  <a:lnTo>
                    <a:pt x="1148" y="139"/>
                  </a:lnTo>
                  <a:lnTo>
                    <a:pt x="1168" y="145"/>
                  </a:lnTo>
                  <a:lnTo>
                    <a:pt x="1187" y="151"/>
                  </a:lnTo>
                  <a:lnTo>
                    <a:pt x="1205" y="159"/>
                  </a:lnTo>
                  <a:lnTo>
                    <a:pt x="1220" y="168"/>
                  </a:lnTo>
                  <a:lnTo>
                    <a:pt x="1234" y="178"/>
                  </a:lnTo>
                  <a:lnTo>
                    <a:pt x="1245" y="190"/>
                  </a:lnTo>
                  <a:lnTo>
                    <a:pt x="1251" y="195"/>
                  </a:lnTo>
                  <a:lnTo>
                    <a:pt x="1256" y="202"/>
                  </a:lnTo>
                  <a:lnTo>
                    <a:pt x="1261" y="209"/>
                  </a:lnTo>
                  <a:lnTo>
                    <a:pt x="1264" y="216"/>
                  </a:lnTo>
                  <a:lnTo>
                    <a:pt x="1256" y="234"/>
                  </a:lnTo>
                  <a:lnTo>
                    <a:pt x="1248" y="253"/>
                  </a:lnTo>
                  <a:lnTo>
                    <a:pt x="1242" y="270"/>
                  </a:lnTo>
                  <a:lnTo>
                    <a:pt x="1235" y="289"/>
                  </a:lnTo>
                  <a:lnTo>
                    <a:pt x="1224" y="325"/>
                  </a:lnTo>
                  <a:lnTo>
                    <a:pt x="1215" y="358"/>
                  </a:lnTo>
                  <a:lnTo>
                    <a:pt x="1254" y="327"/>
                  </a:lnTo>
                  <a:lnTo>
                    <a:pt x="1287" y="298"/>
                  </a:lnTo>
                  <a:lnTo>
                    <a:pt x="1318" y="270"/>
                  </a:lnTo>
                  <a:lnTo>
                    <a:pt x="1346" y="246"/>
                  </a:lnTo>
                  <a:lnTo>
                    <a:pt x="1359" y="234"/>
                  </a:lnTo>
                  <a:lnTo>
                    <a:pt x="1370" y="225"/>
                  </a:lnTo>
                  <a:lnTo>
                    <a:pt x="1382" y="216"/>
                  </a:lnTo>
                  <a:lnTo>
                    <a:pt x="1393" y="209"/>
                  </a:lnTo>
                  <a:lnTo>
                    <a:pt x="1403" y="205"/>
                  </a:lnTo>
                  <a:lnTo>
                    <a:pt x="1412" y="201"/>
                  </a:lnTo>
                  <a:lnTo>
                    <a:pt x="1422" y="200"/>
                  </a:lnTo>
                  <a:lnTo>
                    <a:pt x="1431" y="202"/>
                  </a:lnTo>
                  <a:lnTo>
                    <a:pt x="1411" y="235"/>
                  </a:lnTo>
                  <a:lnTo>
                    <a:pt x="1394" y="271"/>
                  </a:lnTo>
                  <a:lnTo>
                    <a:pt x="1384" y="289"/>
                  </a:lnTo>
                  <a:lnTo>
                    <a:pt x="1377" y="307"/>
                  </a:lnTo>
                  <a:lnTo>
                    <a:pt x="1370" y="326"/>
                  </a:lnTo>
                  <a:lnTo>
                    <a:pt x="1363" y="346"/>
                  </a:lnTo>
                  <a:lnTo>
                    <a:pt x="1358" y="365"/>
                  </a:lnTo>
                  <a:lnTo>
                    <a:pt x="1352" y="385"/>
                  </a:lnTo>
                  <a:lnTo>
                    <a:pt x="1347" y="404"/>
                  </a:lnTo>
                  <a:lnTo>
                    <a:pt x="1344" y="424"/>
                  </a:lnTo>
                  <a:lnTo>
                    <a:pt x="1340" y="445"/>
                  </a:lnTo>
                  <a:lnTo>
                    <a:pt x="1338" y="466"/>
                  </a:lnTo>
                  <a:lnTo>
                    <a:pt x="1337" y="486"/>
                  </a:lnTo>
                  <a:lnTo>
                    <a:pt x="1335" y="507"/>
                  </a:lnTo>
                  <a:lnTo>
                    <a:pt x="1335" y="528"/>
                  </a:lnTo>
                  <a:lnTo>
                    <a:pt x="1337" y="549"/>
                  </a:lnTo>
                  <a:lnTo>
                    <a:pt x="1339" y="571"/>
                  </a:lnTo>
                  <a:lnTo>
                    <a:pt x="1341" y="592"/>
                  </a:lnTo>
                  <a:lnTo>
                    <a:pt x="1346" y="614"/>
                  </a:lnTo>
                  <a:lnTo>
                    <a:pt x="1351" y="636"/>
                  </a:lnTo>
                  <a:lnTo>
                    <a:pt x="1358" y="657"/>
                  </a:lnTo>
                  <a:lnTo>
                    <a:pt x="1365" y="679"/>
                  </a:lnTo>
                  <a:lnTo>
                    <a:pt x="1373" y="700"/>
                  </a:lnTo>
                  <a:lnTo>
                    <a:pt x="1383" y="722"/>
                  </a:lnTo>
                  <a:lnTo>
                    <a:pt x="1394" y="743"/>
                  </a:lnTo>
                  <a:lnTo>
                    <a:pt x="1407" y="764"/>
                  </a:lnTo>
                  <a:lnTo>
                    <a:pt x="1419" y="786"/>
                  </a:lnTo>
                  <a:lnTo>
                    <a:pt x="1435" y="807"/>
                  </a:lnTo>
                  <a:lnTo>
                    <a:pt x="1451" y="828"/>
                  </a:lnTo>
                  <a:lnTo>
                    <a:pt x="1469" y="849"/>
                  </a:lnTo>
                  <a:lnTo>
                    <a:pt x="781" y="8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Freeform 229"/>
            <p:cNvSpPr/>
            <p:nvPr/>
          </p:nvSpPr>
          <p:spPr>
            <a:xfrm>
              <a:off x="7129080" y="5322600"/>
              <a:ext cx="348840" cy="210960"/>
            </a:xfrm>
            <a:custGeom>
              <a:avLst/>
              <a:gdLst>
                <a:gd name="textAreaLeft" fmla="*/ 0 w 348840"/>
                <a:gd name="textAreaRight" fmla="*/ 349200 w 34884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180" h="1227">
                  <a:moveTo>
                    <a:pt x="1270" y="0"/>
                  </a:moveTo>
                  <a:lnTo>
                    <a:pt x="0" y="37"/>
                  </a:lnTo>
                  <a:lnTo>
                    <a:pt x="5" y="65"/>
                  </a:lnTo>
                  <a:lnTo>
                    <a:pt x="12" y="94"/>
                  </a:lnTo>
                  <a:lnTo>
                    <a:pt x="20" y="118"/>
                  </a:lnTo>
                  <a:lnTo>
                    <a:pt x="28" y="140"/>
                  </a:lnTo>
                  <a:lnTo>
                    <a:pt x="34" y="150"/>
                  </a:lnTo>
                  <a:lnTo>
                    <a:pt x="39" y="158"/>
                  </a:lnTo>
                  <a:lnTo>
                    <a:pt x="45" y="166"/>
                  </a:lnTo>
                  <a:lnTo>
                    <a:pt x="51" y="172"/>
                  </a:lnTo>
                  <a:lnTo>
                    <a:pt x="56" y="178"/>
                  </a:lnTo>
                  <a:lnTo>
                    <a:pt x="63" y="181"/>
                  </a:lnTo>
                  <a:lnTo>
                    <a:pt x="70" y="183"/>
                  </a:lnTo>
                  <a:lnTo>
                    <a:pt x="77" y="185"/>
                  </a:lnTo>
                  <a:lnTo>
                    <a:pt x="86" y="202"/>
                  </a:lnTo>
                  <a:lnTo>
                    <a:pt x="93" y="217"/>
                  </a:lnTo>
                  <a:lnTo>
                    <a:pt x="100" y="228"/>
                  </a:lnTo>
                  <a:lnTo>
                    <a:pt x="107" y="235"/>
                  </a:lnTo>
                  <a:lnTo>
                    <a:pt x="110" y="238"/>
                  </a:lnTo>
                  <a:lnTo>
                    <a:pt x="115" y="240"/>
                  </a:lnTo>
                  <a:lnTo>
                    <a:pt x="118" y="241"/>
                  </a:lnTo>
                  <a:lnTo>
                    <a:pt x="123" y="242"/>
                  </a:lnTo>
                  <a:lnTo>
                    <a:pt x="133" y="242"/>
                  </a:lnTo>
                  <a:lnTo>
                    <a:pt x="146" y="238"/>
                  </a:lnTo>
                  <a:lnTo>
                    <a:pt x="174" y="235"/>
                  </a:lnTo>
                  <a:lnTo>
                    <a:pt x="201" y="231"/>
                  </a:lnTo>
                  <a:lnTo>
                    <a:pt x="213" y="231"/>
                  </a:lnTo>
                  <a:lnTo>
                    <a:pt x="223" y="233"/>
                  </a:lnTo>
                  <a:lnTo>
                    <a:pt x="233" y="234"/>
                  </a:lnTo>
                  <a:lnTo>
                    <a:pt x="242" y="236"/>
                  </a:lnTo>
                  <a:lnTo>
                    <a:pt x="249" y="240"/>
                  </a:lnTo>
                  <a:lnTo>
                    <a:pt x="256" y="244"/>
                  </a:lnTo>
                  <a:lnTo>
                    <a:pt x="261" y="250"/>
                  </a:lnTo>
                  <a:lnTo>
                    <a:pt x="264" y="257"/>
                  </a:lnTo>
                  <a:lnTo>
                    <a:pt x="267" y="266"/>
                  </a:lnTo>
                  <a:lnTo>
                    <a:pt x="267" y="277"/>
                  </a:lnTo>
                  <a:lnTo>
                    <a:pt x="265" y="289"/>
                  </a:lnTo>
                  <a:lnTo>
                    <a:pt x="262" y="303"/>
                  </a:lnTo>
                  <a:lnTo>
                    <a:pt x="261" y="306"/>
                  </a:lnTo>
                  <a:lnTo>
                    <a:pt x="261" y="311"/>
                  </a:lnTo>
                  <a:lnTo>
                    <a:pt x="262" y="314"/>
                  </a:lnTo>
                  <a:lnTo>
                    <a:pt x="263" y="318"/>
                  </a:lnTo>
                  <a:lnTo>
                    <a:pt x="268" y="326"/>
                  </a:lnTo>
                  <a:lnTo>
                    <a:pt x="275" y="332"/>
                  </a:lnTo>
                  <a:lnTo>
                    <a:pt x="284" y="339"/>
                  </a:lnTo>
                  <a:lnTo>
                    <a:pt x="293" y="345"/>
                  </a:lnTo>
                  <a:lnTo>
                    <a:pt x="305" y="351"/>
                  </a:lnTo>
                  <a:lnTo>
                    <a:pt x="317" y="356"/>
                  </a:lnTo>
                  <a:lnTo>
                    <a:pt x="339" y="368"/>
                  </a:lnTo>
                  <a:lnTo>
                    <a:pt x="358" y="380"/>
                  </a:lnTo>
                  <a:lnTo>
                    <a:pt x="365" y="386"/>
                  </a:lnTo>
                  <a:lnTo>
                    <a:pt x="371" y="391"/>
                  </a:lnTo>
                  <a:lnTo>
                    <a:pt x="372" y="395"/>
                  </a:lnTo>
                  <a:lnTo>
                    <a:pt x="372" y="398"/>
                  </a:lnTo>
                  <a:lnTo>
                    <a:pt x="372" y="402"/>
                  </a:lnTo>
                  <a:lnTo>
                    <a:pt x="372" y="405"/>
                  </a:lnTo>
                  <a:lnTo>
                    <a:pt x="368" y="1028"/>
                  </a:lnTo>
                  <a:lnTo>
                    <a:pt x="443" y="1199"/>
                  </a:lnTo>
                  <a:lnTo>
                    <a:pt x="1909" y="1144"/>
                  </a:lnTo>
                  <a:lnTo>
                    <a:pt x="1901" y="1227"/>
                  </a:lnTo>
                  <a:lnTo>
                    <a:pt x="2039" y="1213"/>
                  </a:lnTo>
                  <a:lnTo>
                    <a:pt x="2049" y="1202"/>
                  </a:lnTo>
                  <a:lnTo>
                    <a:pt x="2059" y="1192"/>
                  </a:lnTo>
                  <a:lnTo>
                    <a:pt x="2066" y="1181"/>
                  </a:lnTo>
                  <a:lnTo>
                    <a:pt x="2070" y="1172"/>
                  </a:lnTo>
                  <a:lnTo>
                    <a:pt x="2075" y="1163"/>
                  </a:lnTo>
                  <a:lnTo>
                    <a:pt x="2077" y="1154"/>
                  </a:lnTo>
                  <a:lnTo>
                    <a:pt x="2080" y="1146"/>
                  </a:lnTo>
                  <a:lnTo>
                    <a:pt x="2081" y="1137"/>
                  </a:lnTo>
                  <a:lnTo>
                    <a:pt x="2081" y="1120"/>
                  </a:lnTo>
                  <a:lnTo>
                    <a:pt x="2081" y="1102"/>
                  </a:lnTo>
                  <a:lnTo>
                    <a:pt x="2081" y="1092"/>
                  </a:lnTo>
                  <a:lnTo>
                    <a:pt x="2082" y="1082"/>
                  </a:lnTo>
                  <a:lnTo>
                    <a:pt x="2083" y="1071"/>
                  </a:lnTo>
                  <a:lnTo>
                    <a:pt x="2085" y="1060"/>
                  </a:lnTo>
                  <a:lnTo>
                    <a:pt x="2092" y="1037"/>
                  </a:lnTo>
                  <a:lnTo>
                    <a:pt x="2101" y="1016"/>
                  </a:lnTo>
                  <a:lnTo>
                    <a:pt x="2110" y="996"/>
                  </a:lnTo>
                  <a:lnTo>
                    <a:pt x="2122" y="979"/>
                  </a:lnTo>
                  <a:lnTo>
                    <a:pt x="2134" y="961"/>
                  </a:lnTo>
                  <a:lnTo>
                    <a:pt x="2148" y="945"/>
                  </a:lnTo>
                  <a:lnTo>
                    <a:pt x="2164" y="931"/>
                  </a:lnTo>
                  <a:lnTo>
                    <a:pt x="2180" y="918"/>
                  </a:lnTo>
                  <a:lnTo>
                    <a:pt x="2179" y="901"/>
                  </a:lnTo>
                  <a:lnTo>
                    <a:pt x="2176" y="887"/>
                  </a:lnTo>
                  <a:lnTo>
                    <a:pt x="2174" y="881"/>
                  </a:lnTo>
                  <a:lnTo>
                    <a:pt x="2172" y="876"/>
                  </a:lnTo>
                  <a:lnTo>
                    <a:pt x="2169" y="871"/>
                  </a:lnTo>
                  <a:lnTo>
                    <a:pt x="2167" y="868"/>
                  </a:lnTo>
                  <a:lnTo>
                    <a:pt x="2160" y="862"/>
                  </a:lnTo>
                  <a:lnTo>
                    <a:pt x="2152" y="859"/>
                  </a:lnTo>
                  <a:lnTo>
                    <a:pt x="2143" y="856"/>
                  </a:lnTo>
                  <a:lnTo>
                    <a:pt x="2133" y="855"/>
                  </a:lnTo>
                  <a:lnTo>
                    <a:pt x="2111" y="854"/>
                  </a:lnTo>
                  <a:lnTo>
                    <a:pt x="2088" y="852"/>
                  </a:lnTo>
                  <a:lnTo>
                    <a:pt x="2075" y="848"/>
                  </a:lnTo>
                  <a:lnTo>
                    <a:pt x="2063" y="843"/>
                  </a:lnTo>
                  <a:lnTo>
                    <a:pt x="2057" y="840"/>
                  </a:lnTo>
                  <a:lnTo>
                    <a:pt x="2050" y="836"/>
                  </a:lnTo>
                  <a:lnTo>
                    <a:pt x="2044" y="832"/>
                  </a:lnTo>
                  <a:lnTo>
                    <a:pt x="2039" y="826"/>
                  </a:lnTo>
                  <a:lnTo>
                    <a:pt x="2039" y="804"/>
                  </a:lnTo>
                  <a:lnTo>
                    <a:pt x="2037" y="783"/>
                  </a:lnTo>
                  <a:lnTo>
                    <a:pt x="2035" y="763"/>
                  </a:lnTo>
                  <a:lnTo>
                    <a:pt x="2032" y="744"/>
                  </a:lnTo>
                  <a:lnTo>
                    <a:pt x="2027" y="728"/>
                  </a:lnTo>
                  <a:lnTo>
                    <a:pt x="2021" y="711"/>
                  </a:lnTo>
                  <a:lnTo>
                    <a:pt x="2013" y="696"/>
                  </a:lnTo>
                  <a:lnTo>
                    <a:pt x="2004" y="682"/>
                  </a:lnTo>
                  <a:lnTo>
                    <a:pt x="1992" y="668"/>
                  </a:lnTo>
                  <a:lnTo>
                    <a:pt x="1978" y="655"/>
                  </a:lnTo>
                  <a:lnTo>
                    <a:pt x="1962" y="644"/>
                  </a:lnTo>
                  <a:lnTo>
                    <a:pt x="1943" y="633"/>
                  </a:lnTo>
                  <a:lnTo>
                    <a:pt x="1922" y="623"/>
                  </a:lnTo>
                  <a:lnTo>
                    <a:pt x="1897" y="612"/>
                  </a:lnTo>
                  <a:lnTo>
                    <a:pt x="1870" y="603"/>
                  </a:lnTo>
                  <a:lnTo>
                    <a:pt x="1840" y="593"/>
                  </a:lnTo>
                  <a:lnTo>
                    <a:pt x="1810" y="584"/>
                  </a:lnTo>
                  <a:lnTo>
                    <a:pt x="1784" y="575"/>
                  </a:lnTo>
                  <a:lnTo>
                    <a:pt x="1762" y="564"/>
                  </a:lnTo>
                  <a:lnTo>
                    <a:pt x="1742" y="554"/>
                  </a:lnTo>
                  <a:lnTo>
                    <a:pt x="1726" y="543"/>
                  </a:lnTo>
                  <a:lnTo>
                    <a:pt x="1713" y="532"/>
                  </a:lnTo>
                  <a:lnTo>
                    <a:pt x="1701" y="520"/>
                  </a:lnTo>
                  <a:lnTo>
                    <a:pt x="1693" y="507"/>
                  </a:lnTo>
                  <a:lnTo>
                    <a:pt x="1687" y="495"/>
                  </a:lnTo>
                  <a:lnTo>
                    <a:pt x="1682" y="482"/>
                  </a:lnTo>
                  <a:lnTo>
                    <a:pt x="1680" y="471"/>
                  </a:lnTo>
                  <a:lnTo>
                    <a:pt x="1679" y="458"/>
                  </a:lnTo>
                  <a:lnTo>
                    <a:pt x="1679" y="445"/>
                  </a:lnTo>
                  <a:lnTo>
                    <a:pt x="1680" y="433"/>
                  </a:lnTo>
                  <a:lnTo>
                    <a:pt x="1682" y="421"/>
                  </a:lnTo>
                  <a:lnTo>
                    <a:pt x="1685" y="409"/>
                  </a:lnTo>
                  <a:lnTo>
                    <a:pt x="1686" y="398"/>
                  </a:lnTo>
                  <a:lnTo>
                    <a:pt x="1687" y="389"/>
                  </a:lnTo>
                  <a:lnTo>
                    <a:pt x="1685" y="382"/>
                  </a:lnTo>
                  <a:lnTo>
                    <a:pt x="1682" y="376"/>
                  </a:lnTo>
                  <a:lnTo>
                    <a:pt x="1678" y="370"/>
                  </a:lnTo>
                  <a:lnTo>
                    <a:pt x="1672" y="366"/>
                  </a:lnTo>
                  <a:lnTo>
                    <a:pt x="1664" y="362"/>
                  </a:lnTo>
                  <a:lnTo>
                    <a:pt x="1656" y="359"/>
                  </a:lnTo>
                  <a:lnTo>
                    <a:pt x="1609" y="348"/>
                  </a:lnTo>
                  <a:lnTo>
                    <a:pt x="1547" y="331"/>
                  </a:lnTo>
                  <a:lnTo>
                    <a:pt x="1529" y="325"/>
                  </a:lnTo>
                  <a:lnTo>
                    <a:pt x="1512" y="319"/>
                  </a:lnTo>
                  <a:lnTo>
                    <a:pt x="1495" y="312"/>
                  </a:lnTo>
                  <a:lnTo>
                    <a:pt x="1479" y="304"/>
                  </a:lnTo>
                  <a:lnTo>
                    <a:pt x="1465" y="296"/>
                  </a:lnTo>
                  <a:lnTo>
                    <a:pt x="1451" y="287"/>
                  </a:lnTo>
                  <a:lnTo>
                    <a:pt x="1438" y="278"/>
                  </a:lnTo>
                  <a:lnTo>
                    <a:pt x="1425" y="269"/>
                  </a:lnTo>
                  <a:lnTo>
                    <a:pt x="1415" y="259"/>
                  </a:lnTo>
                  <a:lnTo>
                    <a:pt x="1406" y="249"/>
                  </a:lnTo>
                  <a:lnTo>
                    <a:pt x="1396" y="240"/>
                  </a:lnTo>
                  <a:lnTo>
                    <a:pt x="1389" y="230"/>
                  </a:lnTo>
                  <a:lnTo>
                    <a:pt x="1385" y="221"/>
                  </a:lnTo>
                  <a:lnTo>
                    <a:pt x="1380" y="210"/>
                  </a:lnTo>
                  <a:lnTo>
                    <a:pt x="1377" y="202"/>
                  </a:lnTo>
                  <a:lnTo>
                    <a:pt x="1376" y="193"/>
                  </a:lnTo>
                  <a:lnTo>
                    <a:pt x="1375" y="185"/>
                  </a:lnTo>
                  <a:lnTo>
                    <a:pt x="1373" y="176"/>
                  </a:lnTo>
                  <a:lnTo>
                    <a:pt x="1368" y="168"/>
                  </a:lnTo>
                  <a:lnTo>
                    <a:pt x="1361" y="161"/>
                  </a:lnTo>
                  <a:lnTo>
                    <a:pt x="1354" y="154"/>
                  </a:lnTo>
                  <a:lnTo>
                    <a:pt x="1346" y="148"/>
                  </a:lnTo>
                  <a:lnTo>
                    <a:pt x="1338" y="143"/>
                  </a:lnTo>
                  <a:lnTo>
                    <a:pt x="1328" y="137"/>
                  </a:lnTo>
                  <a:lnTo>
                    <a:pt x="1296" y="120"/>
                  </a:lnTo>
                  <a:lnTo>
                    <a:pt x="1282" y="115"/>
                  </a:lnTo>
                  <a:lnTo>
                    <a:pt x="12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Freeform 230"/>
            <p:cNvSpPr/>
            <p:nvPr/>
          </p:nvSpPr>
          <p:spPr>
            <a:xfrm>
              <a:off x="7683480" y="5531400"/>
              <a:ext cx="404640" cy="2991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2529" h="1729">
                  <a:moveTo>
                    <a:pt x="1040" y="0"/>
                  </a:moveTo>
                  <a:lnTo>
                    <a:pt x="0" y="116"/>
                  </a:lnTo>
                  <a:lnTo>
                    <a:pt x="8" y="127"/>
                  </a:lnTo>
                  <a:lnTo>
                    <a:pt x="33" y="159"/>
                  </a:lnTo>
                  <a:lnTo>
                    <a:pt x="70" y="208"/>
                  </a:lnTo>
                  <a:lnTo>
                    <a:pt x="119" y="272"/>
                  </a:lnTo>
                  <a:lnTo>
                    <a:pt x="177" y="349"/>
                  </a:lnTo>
                  <a:lnTo>
                    <a:pt x="240" y="435"/>
                  </a:lnTo>
                  <a:lnTo>
                    <a:pt x="308" y="527"/>
                  </a:lnTo>
                  <a:lnTo>
                    <a:pt x="379" y="621"/>
                  </a:lnTo>
                  <a:lnTo>
                    <a:pt x="449" y="717"/>
                  </a:lnTo>
                  <a:lnTo>
                    <a:pt x="516" y="811"/>
                  </a:lnTo>
                  <a:lnTo>
                    <a:pt x="580" y="899"/>
                  </a:lnTo>
                  <a:lnTo>
                    <a:pt x="636" y="980"/>
                  </a:lnTo>
                  <a:lnTo>
                    <a:pt x="682" y="1049"/>
                  </a:lnTo>
                  <a:lnTo>
                    <a:pt x="719" y="1105"/>
                  </a:lnTo>
                  <a:lnTo>
                    <a:pt x="731" y="1127"/>
                  </a:lnTo>
                  <a:lnTo>
                    <a:pt x="741" y="1145"/>
                  </a:lnTo>
                  <a:lnTo>
                    <a:pt x="745" y="1156"/>
                  </a:lnTo>
                  <a:lnTo>
                    <a:pt x="747" y="1165"/>
                  </a:lnTo>
                  <a:lnTo>
                    <a:pt x="744" y="1175"/>
                  </a:lnTo>
                  <a:lnTo>
                    <a:pt x="744" y="1191"/>
                  </a:lnTo>
                  <a:lnTo>
                    <a:pt x="744" y="1211"/>
                  </a:lnTo>
                  <a:lnTo>
                    <a:pt x="748" y="1236"/>
                  </a:lnTo>
                  <a:lnTo>
                    <a:pt x="751" y="1263"/>
                  </a:lnTo>
                  <a:lnTo>
                    <a:pt x="757" y="1293"/>
                  </a:lnTo>
                  <a:lnTo>
                    <a:pt x="764" y="1325"/>
                  </a:lnTo>
                  <a:lnTo>
                    <a:pt x="773" y="1358"/>
                  </a:lnTo>
                  <a:lnTo>
                    <a:pt x="785" y="1392"/>
                  </a:lnTo>
                  <a:lnTo>
                    <a:pt x="798" y="1427"/>
                  </a:lnTo>
                  <a:lnTo>
                    <a:pt x="812" y="1461"/>
                  </a:lnTo>
                  <a:lnTo>
                    <a:pt x="829" y="1495"/>
                  </a:lnTo>
                  <a:lnTo>
                    <a:pt x="839" y="1512"/>
                  </a:lnTo>
                  <a:lnTo>
                    <a:pt x="848" y="1527"/>
                  </a:lnTo>
                  <a:lnTo>
                    <a:pt x="858" y="1543"/>
                  </a:lnTo>
                  <a:lnTo>
                    <a:pt x="868" y="1558"/>
                  </a:lnTo>
                  <a:lnTo>
                    <a:pt x="880" y="1572"/>
                  </a:lnTo>
                  <a:lnTo>
                    <a:pt x="891" y="1585"/>
                  </a:lnTo>
                  <a:lnTo>
                    <a:pt x="903" y="1598"/>
                  </a:lnTo>
                  <a:lnTo>
                    <a:pt x="916" y="1611"/>
                  </a:lnTo>
                  <a:lnTo>
                    <a:pt x="938" y="1628"/>
                  </a:lnTo>
                  <a:lnTo>
                    <a:pt x="958" y="1644"/>
                  </a:lnTo>
                  <a:lnTo>
                    <a:pt x="978" y="1658"/>
                  </a:lnTo>
                  <a:lnTo>
                    <a:pt x="997" y="1670"/>
                  </a:lnTo>
                  <a:lnTo>
                    <a:pt x="1015" y="1682"/>
                  </a:lnTo>
                  <a:lnTo>
                    <a:pt x="1033" y="1693"/>
                  </a:lnTo>
                  <a:lnTo>
                    <a:pt x="1050" y="1701"/>
                  </a:lnTo>
                  <a:lnTo>
                    <a:pt x="1068" y="1708"/>
                  </a:lnTo>
                  <a:lnTo>
                    <a:pt x="1085" y="1715"/>
                  </a:lnTo>
                  <a:lnTo>
                    <a:pt x="1103" y="1719"/>
                  </a:lnTo>
                  <a:lnTo>
                    <a:pt x="1120" y="1723"/>
                  </a:lnTo>
                  <a:lnTo>
                    <a:pt x="1139" y="1726"/>
                  </a:lnTo>
                  <a:lnTo>
                    <a:pt x="1159" y="1728"/>
                  </a:lnTo>
                  <a:lnTo>
                    <a:pt x="1179" y="1729"/>
                  </a:lnTo>
                  <a:lnTo>
                    <a:pt x="1200" y="1729"/>
                  </a:lnTo>
                  <a:lnTo>
                    <a:pt x="1222" y="1728"/>
                  </a:lnTo>
                  <a:lnTo>
                    <a:pt x="1272" y="1722"/>
                  </a:lnTo>
                  <a:lnTo>
                    <a:pt x="1328" y="1714"/>
                  </a:lnTo>
                  <a:lnTo>
                    <a:pt x="1393" y="1703"/>
                  </a:lnTo>
                  <a:lnTo>
                    <a:pt x="1467" y="1690"/>
                  </a:lnTo>
                  <a:lnTo>
                    <a:pt x="1553" y="1675"/>
                  </a:lnTo>
                  <a:lnTo>
                    <a:pt x="1651" y="1658"/>
                  </a:lnTo>
                  <a:lnTo>
                    <a:pt x="1763" y="1639"/>
                  </a:lnTo>
                  <a:lnTo>
                    <a:pt x="1890" y="1619"/>
                  </a:lnTo>
                  <a:lnTo>
                    <a:pt x="1960" y="1608"/>
                  </a:lnTo>
                  <a:lnTo>
                    <a:pt x="2019" y="1599"/>
                  </a:lnTo>
                  <a:lnTo>
                    <a:pt x="2068" y="1592"/>
                  </a:lnTo>
                  <a:lnTo>
                    <a:pt x="2109" y="1586"/>
                  </a:lnTo>
                  <a:lnTo>
                    <a:pt x="2142" y="1582"/>
                  </a:lnTo>
                  <a:lnTo>
                    <a:pt x="2169" y="1578"/>
                  </a:lnTo>
                  <a:lnTo>
                    <a:pt x="2194" y="1576"/>
                  </a:lnTo>
                  <a:lnTo>
                    <a:pt x="2215" y="1573"/>
                  </a:lnTo>
                  <a:lnTo>
                    <a:pt x="2220" y="1572"/>
                  </a:lnTo>
                  <a:lnTo>
                    <a:pt x="2224" y="1570"/>
                  </a:lnTo>
                  <a:lnTo>
                    <a:pt x="2229" y="1568"/>
                  </a:lnTo>
                  <a:lnTo>
                    <a:pt x="2232" y="1565"/>
                  </a:lnTo>
                  <a:lnTo>
                    <a:pt x="2239" y="1558"/>
                  </a:lnTo>
                  <a:lnTo>
                    <a:pt x="2245" y="1549"/>
                  </a:lnTo>
                  <a:lnTo>
                    <a:pt x="2257" y="1529"/>
                  </a:lnTo>
                  <a:lnTo>
                    <a:pt x="2265" y="1509"/>
                  </a:lnTo>
                  <a:lnTo>
                    <a:pt x="2270" y="1499"/>
                  </a:lnTo>
                  <a:lnTo>
                    <a:pt x="2274" y="1490"/>
                  </a:lnTo>
                  <a:lnTo>
                    <a:pt x="2278" y="1482"/>
                  </a:lnTo>
                  <a:lnTo>
                    <a:pt x="2283" y="1478"/>
                  </a:lnTo>
                  <a:lnTo>
                    <a:pt x="2286" y="1475"/>
                  </a:lnTo>
                  <a:lnTo>
                    <a:pt x="2288" y="1474"/>
                  </a:lnTo>
                  <a:lnTo>
                    <a:pt x="2291" y="1473"/>
                  </a:lnTo>
                  <a:lnTo>
                    <a:pt x="2294" y="1473"/>
                  </a:lnTo>
                  <a:lnTo>
                    <a:pt x="2297" y="1474"/>
                  </a:lnTo>
                  <a:lnTo>
                    <a:pt x="2300" y="1475"/>
                  </a:lnTo>
                  <a:lnTo>
                    <a:pt x="2304" y="1478"/>
                  </a:lnTo>
                  <a:lnTo>
                    <a:pt x="2307" y="1481"/>
                  </a:lnTo>
                  <a:lnTo>
                    <a:pt x="2317" y="1488"/>
                  </a:lnTo>
                  <a:lnTo>
                    <a:pt x="2327" y="1495"/>
                  </a:lnTo>
                  <a:lnTo>
                    <a:pt x="2338" y="1500"/>
                  </a:lnTo>
                  <a:lnTo>
                    <a:pt x="2349" y="1502"/>
                  </a:lnTo>
                  <a:lnTo>
                    <a:pt x="2362" y="1505"/>
                  </a:lnTo>
                  <a:lnTo>
                    <a:pt x="2376" y="1506"/>
                  </a:lnTo>
                  <a:lnTo>
                    <a:pt x="2390" y="1507"/>
                  </a:lnTo>
                  <a:lnTo>
                    <a:pt x="2404" y="1507"/>
                  </a:lnTo>
                  <a:lnTo>
                    <a:pt x="2434" y="1505"/>
                  </a:lnTo>
                  <a:lnTo>
                    <a:pt x="2466" y="1503"/>
                  </a:lnTo>
                  <a:lnTo>
                    <a:pt x="2481" y="1502"/>
                  </a:lnTo>
                  <a:lnTo>
                    <a:pt x="2498" y="1502"/>
                  </a:lnTo>
                  <a:lnTo>
                    <a:pt x="2513" y="1503"/>
                  </a:lnTo>
                  <a:lnTo>
                    <a:pt x="2529" y="1505"/>
                  </a:lnTo>
                  <a:lnTo>
                    <a:pt x="2522" y="1496"/>
                  </a:lnTo>
                  <a:lnTo>
                    <a:pt x="2516" y="1489"/>
                  </a:lnTo>
                  <a:lnTo>
                    <a:pt x="2510" y="1481"/>
                  </a:lnTo>
                  <a:lnTo>
                    <a:pt x="2505" y="1473"/>
                  </a:lnTo>
                  <a:lnTo>
                    <a:pt x="2496" y="1457"/>
                  </a:lnTo>
                  <a:lnTo>
                    <a:pt x="2489" y="1440"/>
                  </a:lnTo>
                  <a:lnTo>
                    <a:pt x="2485" y="1424"/>
                  </a:lnTo>
                  <a:lnTo>
                    <a:pt x="2480" y="1406"/>
                  </a:lnTo>
                  <a:lnTo>
                    <a:pt x="2478" y="1390"/>
                  </a:lnTo>
                  <a:lnTo>
                    <a:pt x="2477" y="1374"/>
                  </a:lnTo>
                  <a:lnTo>
                    <a:pt x="2474" y="1342"/>
                  </a:lnTo>
                  <a:lnTo>
                    <a:pt x="2472" y="1313"/>
                  </a:lnTo>
                  <a:lnTo>
                    <a:pt x="2471" y="1300"/>
                  </a:lnTo>
                  <a:lnTo>
                    <a:pt x="2468" y="1290"/>
                  </a:lnTo>
                  <a:lnTo>
                    <a:pt x="2465" y="1279"/>
                  </a:lnTo>
                  <a:lnTo>
                    <a:pt x="2460" y="1271"/>
                  </a:lnTo>
                  <a:lnTo>
                    <a:pt x="2454" y="1263"/>
                  </a:lnTo>
                  <a:lnTo>
                    <a:pt x="2449" y="1256"/>
                  </a:lnTo>
                  <a:lnTo>
                    <a:pt x="2443" y="1250"/>
                  </a:lnTo>
                  <a:lnTo>
                    <a:pt x="2436" y="1245"/>
                  </a:lnTo>
                  <a:lnTo>
                    <a:pt x="2424" y="1238"/>
                  </a:lnTo>
                  <a:lnTo>
                    <a:pt x="2411" y="1232"/>
                  </a:lnTo>
                  <a:lnTo>
                    <a:pt x="2406" y="1229"/>
                  </a:lnTo>
                  <a:lnTo>
                    <a:pt x="2401" y="1225"/>
                  </a:lnTo>
                  <a:lnTo>
                    <a:pt x="2397" y="1222"/>
                  </a:lnTo>
                  <a:lnTo>
                    <a:pt x="2392" y="1218"/>
                  </a:lnTo>
                  <a:lnTo>
                    <a:pt x="2389" y="1214"/>
                  </a:lnTo>
                  <a:lnTo>
                    <a:pt x="2387" y="1208"/>
                  </a:lnTo>
                  <a:lnTo>
                    <a:pt x="2385" y="1201"/>
                  </a:lnTo>
                  <a:lnTo>
                    <a:pt x="2385" y="1193"/>
                  </a:lnTo>
                  <a:lnTo>
                    <a:pt x="2384" y="1183"/>
                  </a:lnTo>
                  <a:lnTo>
                    <a:pt x="2383" y="1173"/>
                  </a:lnTo>
                  <a:lnTo>
                    <a:pt x="2381" y="1161"/>
                  </a:lnTo>
                  <a:lnTo>
                    <a:pt x="2377" y="1149"/>
                  </a:lnTo>
                  <a:lnTo>
                    <a:pt x="2369" y="1121"/>
                  </a:lnTo>
                  <a:lnTo>
                    <a:pt x="2360" y="1093"/>
                  </a:lnTo>
                  <a:lnTo>
                    <a:pt x="2349" y="1064"/>
                  </a:lnTo>
                  <a:lnTo>
                    <a:pt x="2339" y="1037"/>
                  </a:lnTo>
                  <a:lnTo>
                    <a:pt x="2329" y="1012"/>
                  </a:lnTo>
                  <a:lnTo>
                    <a:pt x="2321" y="992"/>
                  </a:lnTo>
                  <a:lnTo>
                    <a:pt x="2319" y="981"/>
                  </a:lnTo>
                  <a:lnTo>
                    <a:pt x="2317" y="970"/>
                  </a:lnTo>
                  <a:lnTo>
                    <a:pt x="2314" y="957"/>
                  </a:lnTo>
                  <a:lnTo>
                    <a:pt x="2313" y="943"/>
                  </a:lnTo>
                  <a:lnTo>
                    <a:pt x="2300" y="923"/>
                  </a:lnTo>
                  <a:lnTo>
                    <a:pt x="2286" y="904"/>
                  </a:lnTo>
                  <a:lnTo>
                    <a:pt x="2270" y="888"/>
                  </a:lnTo>
                  <a:lnTo>
                    <a:pt x="2252" y="873"/>
                  </a:lnTo>
                  <a:lnTo>
                    <a:pt x="2234" y="859"/>
                  </a:lnTo>
                  <a:lnTo>
                    <a:pt x="2213" y="846"/>
                  </a:lnTo>
                  <a:lnTo>
                    <a:pt x="2192" y="833"/>
                  </a:lnTo>
                  <a:lnTo>
                    <a:pt x="2170" y="822"/>
                  </a:lnTo>
                  <a:lnTo>
                    <a:pt x="2147" y="813"/>
                  </a:lnTo>
                  <a:lnTo>
                    <a:pt x="2124" y="804"/>
                  </a:lnTo>
                  <a:lnTo>
                    <a:pt x="2100" y="795"/>
                  </a:lnTo>
                  <a:lnTo>
                    <a:pt x="2077" y="787"/>
                  </a:lnTo>
                  <a:lnTo>
                    <a:pt x="2029" y="773"/>
                  </a:lnTo>
                  <a:lnTo>
                    <a:pt x="1981" y="760"/>
                  </a:lnTo>
                  <a:lnTo>
                    <a:pt x="1960" y="755"/>
                  </a:lnTo>
                  <a:lnTo>
                    <a:pt x="1943" y="746"/>
                  </a:lnTo>
                  <a:lnTo>
                    <a:pt x="1926" y="738"/>
                  </a:lnTo>
                  <a:lnTo>
                    <a:pt x="1915" y="729"/>
                  </a:lnTo>
                  <a:lnTo>
                    <a:pt x="1903" y="718"/>
                  </a:lnTo>
                  <a:lnTo>
                    <a:pt x="1895" y="708"/>
                  </a:lnTo>
                  <a:lnTo>
                    <a:pt x="1888" y="695"/>
                  </a:lnTo>
                  <a:lnTo>
                    <a:pt x="1881" y="682"/>
                  </a:lnTo>
                  <a:lnTo>
                    <a:pt x="1870" y="655"/>
                  </a:lnTo>
                  <a:lnTo>
                    <a:pt x="1860" y="625"/>
                  </a:lnTo>
                  <a:lnTo>
                    <a:pt x="1854" y="610"/>
                  </a:lnTo>
                  <a:lnTo>
                    <a:pt x="1846" y="593"/>
                  </a:lnTo>
                  <a:lnTo>
                    <a:pt x="1838" y="576"/>
                  </a:lnTo>
                  <a:lnTo>
                    <a:pt x="1826" y="560"/>
                  </a:lnTo>
                  <a:lnTo>
                    <a:pt x="1793" y="547"/>
                  </a:lnTo>
                  <a:lnTo>
                    <a:pt x="1762" y="534"/>
                  </a:lnTo>
                  <a:lnTo>
                    <a:pt x="1732" y="520"/>
                  </a:lnTo>
                  <a:lnTo>
                    <a:pt x="1706" y="505"/>
                  </a:lnTo>
                  <a:lnTo>
                    <a:pt x="1680" y="489"/>
                  </a:lnTo>
                  <a:lnTo>
                    <a:pt x="1658" y="474"/>
                  </a:lnTo>
                  <a:lnTo>
                    <a:pt x="1637" y="459"/>
                  </a:lnTo>
                  <a:lnTo>
                    <a:pt x="1619" y="444"/>
                  </a:lnTo>
                  <a:lnTo>
                    <a:pt x="1589" y="417"/>
                  </a:lnTo>
                  <a:lnTo>
                    <a:pt x="1567" y="395"/>
                  </a:lnTo>
                  <a:lnTo>
                    <a:pt x="1554" y="381"/>
                  </a:lnTo>
                  <a:lnTo>
                    <a:pt x="1550" y="375"/>
                  </a:lnTo>
                  <a:lnTo>
                    <a:pt x="1394" y="329"/>
                  </a:lnTo>
                  <a:lnTo>
                    <a:pt x="10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Freeform 231"/>
            <p:cNvSpPr/>
            <p:nvPr/>
          </p:nvSpPr>
          <p:spPr>
            <a:xfrm>
              <a:off x="7677000" y="5786640"/>
              <a:ext cx="780840" cy="45504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455040"/>
                <a:gd name="textAreaBottom" fmla="*/ 455400 h 455040"/>
              </a:gdLst>
              <a:ahLst/>
              <a:rect l="textAreaLeft" t="textAreaTop" r="textAreaRight" b="textAreaBottom"/>
              <a:pathLst>
                <a:path w="4885" h="2626">
                  <a:moveTo>
                    <a:pt x="2572" y="32"/>
                  </a:moveTo>
                  <a:lnTo>
                    <a:pt x="2556" y="30"/>
                  </a:lnTo>
                  <a:lnTo>
                    <a:pt x="2541" y="29"/>
                  </a:lnTo>
                  <a:lnTo>
                    <a:pt x="2524" y="29"/>
                  </a:lnTo>
                  <a:lnTo>
                    <a:pt x="2509" y="30"/>
                  </a:lnTo>
                  <a:lnTo>
                    <a:pt x="2477" y="32"/>
                  </a:lnTo>
                  <a:lnTo>
                    <a:pt x="2447" y="34"/>
                  </a:lnTo>
                  <a:lnTo>
                    <a:pt x="2433" y="34"/>
                  </a:lnTo>
                  <a:lnTo>
                    <a:pt x="2419" y="33"/>
                  </a:lnTo>
                  <a:lnTo>
                    <a:pt x="2405" y="32"/>
                  </a:lnTo>
                  <a:lnTo>
                    <a:pt x="2392" y="29"/>
                  </a:lnTo>
                  <a:lnTo>
                    <a:pt x="2381" y="27"/>
                  </a:lnTo>
                  <a:lnTo>
                    <a:pt x="2370" y="22"/>
                  </a:lnTo>
                  <a:lnTo>
                    <a:pt x="2360" y="15"/>
                  </a:lnTo>
                  <a:lnTo>
                    <a:pt x="2350" y="8"/>
                  </a:lnTo>
                  <a:lnTo>
                    <a:pt x="2347" y="5"/>
                  </a:lnTo>
                  <a:lnTo>
                    <a:pt x="2343" y="2"/>
                  </a:lnTo>
                  <a:lnTo>
                    <a:pt x="2340" y="1"/>
                  </a:lnTo>
                  <a:lnTo>
                    <a:pt x="2337" y="0"/>
                  </a:lnTo>
                  <a:lnTo>
                    <a:pt x="2334" y="0"/>
                  </a:lnTo>
                  <a:lnTo>
                    <a:pt x="2331" y="1"/>
                  </a:lnTo>
                  <a:lnTo>
                    <a:pt x="2329" y="2"/>
                  </a:lnTo>
                  <a:lnTo>
                    <a:pt x="2326" y="5"/>
                  </a:lnTo>
                  <a:lnTo>
                    <a:pt x="2321" y="9"/>
                  </a:lnTo>
                  <a:lnTo>
                    <a:pt x="2317" y="17"/>
                  </a:lnTo>
                  <a:lnTo>
                    <a:pt x="2313" y="26"/>
                  </a:lnTo>
                  <a:lnTo>
                    <a:pt x="2308" y="36"/>
                  </a:lnTo>
                  <a:lnTo>
                    <a:pt x="2300" y="56"/>
                  </a:lnTo>
                  <a:lnTo>
                    <a:pt x="2288" y="76"/>
                  </a:lnTo>
                  <a:lnTo>
                    <a:pt x="2282" y="85"/>
                  </a:lnTo>
                  <a:lnTo>
                    <a:pt x="2275" y="92"/>
                  </a:lnTo>
                  <a:lnTo>
                    <a:pt x="2272" y="95"/>
                  </a:lnTo>
                  <a:lnTo>
                    <a:pt x="2267" y="97"/>
                  </a:lnTo>
                  <a:lnTo>
                    <a:pt x="2263" y="99"/>
                  </a:lnTo>
                  <a:lnTo>
                    <a:pt x="2258" y="100"/>
                  </a:lnTo>
                  <a:lnTo>
                    <a:pt x="2237" y="103"/>
                  </a:lnTo>
                  <a:lnTo>
                    <a:pt x="2212" y="105"/>
                  </a:lnTo>
                  <a:lnTo>
                    <a:pt x="2185" y="109"/>
                  </a:lnTo>
                  <a:lnTo>
                    <a:pt x="2152" y="113"/>
                  </a:lnTo>
                  <a:lnTo>
                    <a:pt x="2111" y="119"/>
                  </a:lnTo>
                  <a:lnTo>
                    <a:pt x="2062" y="126"/>
                  </a:lnTo>
                  <a:lnTo>
                    <a:pt x="2003" y="135"/>
                  </a:lnTo>
                  <a:lnTo>
                    <a:pt x="1933" y="146"/>
                  </a:lnTo>
                  <a:lnTo>
                    <a:pt x="1806" y="166"/>
                  </a:lnTo>
                  <a:lnTo>
                    <a:pt x="1694" y="185"/>
                  </a:lnTo>
                  <a:lnTo>
                    <a:pt x="1596" y="202"/>
                  </a:lnTo>
                  <a:lnTo>
                    <a:pt x="1510" y="217"/>
                  </a:lnTo>
                  <a:lnTo>
                    <a:pt x="1436" y="230"/>
                  </a:lnTo>
                  <a:lnTo>
                    <a:pt x="1371" y="241"/>
                  </a:lnTo>
                  <a:lnTo>
                    <a:pt x="1315" y="249"/>
                  </a:lnTo>
                  <a:lnTo>
                    <a:pt x="1265" y="255"/>
                  </a:lnTo>
                  <a:lnTo>
                    <a:pt x="1243" y="256"/>
                  </a:lnTo>
                  <a:lnTo>
                    <a:pt x="1222" y="256"/>
                  </a:lnTo>
                  <a:lnTo>
                    <a:pt x="1202" y="255"/>
                  </a:lnTo>
                  <a:lnTo>
                    <a:pt x="1182" y="253"/>
                  </a:lnTo>
                  <a:lnTo>
                    <a:pt x="1163" y="250"/>
                  </a:lnTo>
                  <a:lnTo>
                    <a:pt x="1146" y="246"/>
                  </a:lnTo>
                  <a:lnTo>
                    <a:pt x="1128" y="242"/>
                  </a:lnTo>
                  <a:lnTo>
                    <a:pt x="1111" y="235"/>
                  </a:lnTo>
                  <a:lnTo>
                    <a:pt x="1093" y="228"/>
                  </a:lnTo>
                  <a:lnTo>
                    <a:pt x="1076" y="220"/>
                  </a:lnTo>
                  <a:lnTo>
                    <a:pt x="1058" y="209"/>
                  </a:lnTo>
                  <a:lnTo>
                    <a:pt x="1040" y="197"/>
                  </a:lnTo>
                  <a:lnTo>
                    <a:pt x="1021" y="185"/>
                  </a:lnTo>
                  <a:lnTo>
                    <a:pt x="1001" y="171"/>
                  </a:lnTo>
                  <a:lnTo>
                    <a:pt x="981" y="155"/>
                  </a:lnTo>
                  <a:lnTo>
                    <a:pt x="959" y="138"/>
                  </a:lnTo>
                  <a:lnTo>
                    <a:pt x="0" y="230"/>
                  </a:lnTo>
                  <a:lnTo>
                    <a:pt x="12" y="238"/>
                  </a:lnTo>
                  <a:lnTo>
                    <a:pt x="24" y="251"/>
                  </a:lnTo>
                  <a:lnTo>
                    <a:pt x="37" y="265"/>
                  </a:lnTo>
                  <a:lnTo>
                    <a:pt x="49" y="283"/>
                  </a:lnTo>
                  <a:lnTo>
                    <a:pt x="62" y="301"/>
                  </a:lnTo>
                  <a:lnTo>
                    <a:pt x="73" y="322"/>
                  </a:lnTo>
                  <a:lnTo>
                    <a:pt x="84" y="343"/>
                  </a:lnTo>
                  <a:lnTo>
                    <a:pt x="95" y="367"/>
                  </a:lnTo>
                  <a:lnTo>
                    <a:pt x="104" y="390"/>
                  </a:lnTo>
                  <a:lnTo>
                    <a:pt x="112" y="415"/>
                  </a:lnTo>
                  <a:lnTo>
                    <a:pt x="118" y="439"/>
                  </a:lnTo>
                  <a:lnTo>
                    <a:pt x="124" y="463"/>
                  </a:lnTo>
                  <a:lnTo>
                    <a:pt x="126" y="486"/>
                  </a:lnTo>
                  <a:lnTo>
                    <a:pt x="127" y="508"/>
                  </a:lnTo>
                  <a:lnTo>
                    <a:pt x="127" y="519"/>
                  </a:lnTo>
                  <a:lnTo>
                    <a:pt x="127" y="529"/>
                  </a:lnTo>
                  <a:lnTo>
                    <a:pt x="126" y="540"/>
                  </a:lnTo>
                  <a:lnTo>
                    <a:pt x="124" y="549"/>
                  </a:lnTo>
                  <a:lnTo>
                    <a:pt x="183" y="543"/>
                  </a:lnTo>
                  <a:lnTo>
                    <a:pt x="244" y="537"/>
                  </a:lnTo>
                  <a:lnTo>
                    <a:pt x="305" y="531"/>
                  </a:lnTo>
                  <a:lnTo>
                    <a:pt x="366" y="527"/>
                  </a:lnTo>
                  <a:lnTo>
                    <a:pt x="426" y="522"/>
                  </a:lnTo>
                  <a:lnTo>
                    <a:pt x="487" y="519"/>
                  </a:lnTo>
                  <a:lnTo>
                    <a:pt x="548" y="515"/>
                  </a:lnTo>
                  <a:lnTo>
                    <a:pt x="606" y="513"/>
                  </a:lnTo>
                  <a:lnTo>
                    <a:pt x="665" y="510"/>
                  </a:lnTo>
                  <a:lnTo>
                    <a:pt x="721" y="510"/>
                  </a:lnTo>
                  <a:lnTo>
                    <a:pt x="776" y="509"/>
                  </a:lnTo>
                  <a:lnTo>
                    <a:pt x="829" y="510"/>
                  </a:lnTo>
                  <a:lnTo>
                    <a:pt x="881" y="513"/>
                  </a:lnTo>
                  <a:lnTo>
                    <a:pt x="930" y="515"/>
                  </a:lnTo>
                  <a:lnTo>
                    <a:pt x="976" y="519"/>
                  </a:lnTo>
                  <a:lnTo>
                    <a:pt x="1020" y="523"/>
                  </a:lnTo>
                  <a:lnTo>
                    <a:pt x="1030" y="527"/>
                  </a:lnTo>
                  <a:lnTo>
                    <a:pt x="1058" y="535"/>
                  </a:lnTo>
                  <a:lnTo>
                    <a:pt x="1077" y="542"/>
                  </a:lnTo>
                  <a:lnTo>
                    <a:pt x="1098" y="550"/>
                  </a:lnTo>
                  <a:lnTo>
                    <a:pt x="1120" y="559"/>
                  </a:lnTo>
                  <a:lnTo>
                    <a:pt x="1143" y="571"/>
                  </a:lnTo>
                  <a:lnTo>
                    <a:pt x="1167" y="583"/>
                  </a:lnTo>
                  <a:lnTo>
                    <a:pt x="1189" y="597"/>
                  </a:lnTo>
                  <a:lnTo>
                    <a:pt x="1200" y="605"/>
                  </a:lnTo>
                  <a:lnTo>
                    <a:pt x="1210" y="612"/>
                  </a:lnTo>
                  <a:lnTo>
                    <a:pt x="1219" y="620"/>
                  </a:lnTo>
                  <a:lnTo>
                    <a:pt x="1229" y="630"/>
                  </a:lnTo>
                  <a:lnTo>
                    <a:pt x="1237" y="638"/>
                  </a:lnTo>
                  <a:lnTo>
                    <a:pt x="1244" y="647"/>
                  </a:lnTo>
                  <a:lnTo>
                    <a:pt x="1251" y="658"/>
                  </a:lnTo>
                  <a:lnTo>
                    <a:pt x="1257" y="667"/>
                  </a:lnTo>
                  <a:lnTo>
                    <a:pt x="1261" y="677"/>
                  </a:lnTo>
                  <a:lnTo>
                    <a:pt x="1265" y="688"/>
                  </a:lnTo>
                  <a:lnTo>
                    <a:pt x="1266" y="700"/>
                  </a:lnTo>
                  <a:lnTo>
                    <a:pt x="1267" y="710"/>
                  </a:lnTo>
                  <a:lnTo>
                    <a:pt x="1268" y="722"/>
                  </a:lnTo>
                  <a:lnTo>
                    <a:pt x="1271" y="731"/>
                  </a:lnTo>
                  <a:lnTo>
                    <a:pt x="1274" y="738"/>
                  </a:lnTo>
                  <a:lnTo>
                    <a:pt x="1279" y="745"/>
                  </a:lnTo>
                  <a:lnTo>
                    <a:pt x="1286" y="750"/>
                  </a:lnTo>
                  <a:lnTo>
                    <a:pt x="1293" y="753"/>
                  </a:lnTo>
                  <a:lnTo>
                    <a:pt x="1301" y="757"/>
                  </a:lnTo>
                  <a:lnTo>
                    <a:pt x="1311" y="758"/>
                  </a:lnTo>
                  <a:lnTo>
                    <a:pt x="1321" y="758"/>
                  </a:lnTo>
                  <a:lnTo>
                    <a:pt x="1332" y="758"/>
                  </a:lnTo>
                  <a:lnTo>
                    <a:pt x="1343" y="757"/>
                  </a:lnTo>
                  <a:lnTo>
                    <a:pt x="1356" y="755"/>
                  </a:lnTo>
                  <a:lnTo>
                    <a:pt x="1381" y="749"/>
                  </a:lnTo>
                  <a:lnTo>
                    <a:pt x="1407" y="742"/>
                  </a:lnTo>
                  <a:lnTo>
                    <a:pt x="1433" y="732"/>
                  </a:lnTo>
                  <a:lnTo>
                    <a:pt x="1458" y="722"/>
                  </a:lnTo>
                  <a:lnTo>
                    <a:pt x="1482" y="711"/>
                  </a:lnTo>
                  <a:lnTo>
                    <a:pt x="1503" y="701"/>
                  </a:lnTo>
                  <a:lnTo>
                    <a:pt x="1535" y="686"/>
                  </a:lnTo>
                  <a:lnTo>
                    <a:pt x="1546" y="679"/>
                  </a:lnTo>
                  <a:lnTo>
                    <a:pt x="1639" y="494"/>
                  </a:lnTo>
                  <a:lnTo>
                    <a:pt x="1823" y="494"/>
                  </a:lnTo>
                  <a:lnTo>
                    <a:pt x="1979" y="616"/>
                  </a:lnTo>
                  <a:lnTo>
                    <a:pt x="2071" y="616"/>
                  </a:lnTo>
                  <a:lnTo>
                    <a:pt x="2258" y="771"/>
                  </a:lnTo>
                  <a:lnTo>
                    <a:pt x="2535" y="771"/>
                  </a:lnTo>
                  <a:lnTo>
                    <a:pt x="2531" y="791"/>
                  </a:lnTo>
                  <a:lnTo>
                    <a:pt x="2532" y="815"/>
                  </a:lnTo>
                  <a:lnTo>
                    <a:pt x="2537" y="843"/>
                  </a:lnTo>
                  <a:lnTo>
                    <a:pt x="2546" y="875"/>
                  </a:lnTo>
                  <a:lnTo>
                    <a:pt x="2559" y="910"/>
                  </a:lnTo>
                  <a:lnTo>
                    <a:pt x="2576" y="948"/>
                  </a:lnTo>
                  <a:lnTo>
                    <a:pt x="2595" y="989"/>
                  </a:lnTo>
                  <a:lnTo>
                    <a:pt x="2618" y="1033"/>
                  </a:lnTo>
                  <a:lnTo>
                    <a:pt x="2643" y="1079"/>
                  </a:lnTo>
                  <a:lnTo>
                    <a:pt x="2671" y="1126"/>
                  </a:lnTo>
                  <a:lnTo>
                    <a:pt x="2701" y="1175"/>
                  </a:lnTo>
                  <a:lnTo>
                    <a:pt x="2733" y="1225"/>
                  </a:lnTo>
                  <a:lnTo>
                    <a:pt x="2766" y="1277"/>
                  </a:lnTo>
                  <a:lnTo>
                    <a:pt x="2801" y="1328"/>
                  </a:lnTo>
                  <a:lnTo>
                    <a:pt x="2838" y="1381"/>
                  </a:lnTo>
                  <a:lnTo>
                    <a:pt x="2875" y="1432"/>
                  </a:lnTo>
                  <a:lnTo>
                    <a:pt x="2913" y="1483"/>
                  </a:lnTo>
                  <a:lnTo>
                    <a:pt x="2952" y="1534"/>
                  </a:lnTo>
                  <a:lnTo>
                    <a:pt x="2990" y="1583"/>
                  </a:lnTo>
                  <a:lnTo>
                    <a:pt x="3029" y="1631"/>
                  </a:lnTo>
                  <a:lnTo>
                    <a:pt x="3067" y="1677"/>
                  </a:lnTo>
                  <a:lnTo>
                    <a:pt x="3105" y="1721"/>
                  </a:lnTo>
                  <a:lnTo>
                    <a:pt x="3142" y="1763"/>
                  </a:lnTo>
                  <a:lnTo>
                    <a:pt x="3178" y="1802"/>
                  </a:lnTo>
                  <a:lnTo>
                    <a:pt x="3213" y="1837"/>
                  </a:lnTo>
                  <a:lnTo>
                    <a:pt x="3247" y="1870"/>
                  </a:lnTo>
                  <a:lnTo>
                    <a:pt x="3279" y="1899"/>
                  </a:lnTo>
                  <a:lnTo>
                    <a:pt x="3308" y="1925"/>
                  </a:lnTo>
                  <a:lnTo>
                    <a:pt x="3335" y="1945"/>
                  </a:lnTo>
                  <a:lnTo>
                    <a:pt x="3361" y="1961"/>
                  </a:lnTo>
                  <a:lnTo>
                    <a:pt x="3383" y="1972"/>
                  </a:lnTo>
                  <a:lnTo>
                    <a:pt x="3401" y="1978"/>
                  </a:lnTo>
                  <a:lnTo>
                    <a:pt x="3420" y="1981"/>
                  </a:lnTo>
                  <a:lnTo>
                    <a:pt x="3440" y="1986"/>
                  </a:lnTo>
                  <a:lnTo>
                    <a:pt x="3462" y="1990"/>
                  </a:lnTo>
                  <a:lnTo>
                    <a:pt x="3486" y="1997"/>
                  </a:lnTo>
                  <a:lnTo>
                    <a:pt x="3538" y="2014"/>
                  </a:lnTo>
                  <a:lnTo>
                    <a:pt x="3598" y="2035"/>
                  </a:lnTo>
                  <a:lnTo>
                    <a:pt x="3663" y="2059"/>
                  </a:lnTo>
                  <a:lnTo>
                    <a:pt x="3733" y="2090"/>
                  </a:lnTo>
                  <a:lnTo>
                    <a:pt x="3808" y="2124"/>
                  </a:lnTo>
                  <a:lnTo>
                    <a:pt x="3886" y="2162"/>
                  </a:lnTo>
                  <a:lnTo>
                    <a:pt x="3928" y="2182"/>
                  </a:lnTo>
                  <a:lnTo>
                    <a:pt x="3969" y="2204"/>
                  </a:lnTo>
                  <a:lnTo>
                    <a:pt x="4012" y="2227"/>
                  </a:lnTo>
                  <a:lnTo>
                    <a:pt x="4056" y="2251"/>
                  </a:lnTo>
                  <a:lnTo>
                    <a:pt x="4099" y="2277"/>
                  </a:lnTo>
                  <a:lnTo>
                    <a:pt x="4143" y="2302"/>
                  </a:lnTo>
                  <a:lnTo>
                    <a:pt x="4189" y="2330"/>
                  </a:lnTo>
                  <a:lnTo>
                    <a:pt x="4234" y="2358"/>
                  </a:lnTo>
                  <a:lnTo>
                    <a:pt x="4280" y="2389"/>
                  </a:lnTo>
                  <a:lnTo>
                    <a:pt x="4327" y="2419"/>
                  </a:lnTo>
                  <a:lnTo>
                    <a:pt x="4372" y="2451"/>
                  </a:lnTo>
                  <a:lnTo>
                    <a:pt x="4419" y="2483"/>
                  </a:lnTo>
                  <a:lnTo>
                    <a:pt x="4466" y="2517"/>
                  </a:lnTo>
                  <a:lnTo>
                    <a:pt x="4512" y="2552"/>
                  </a:lnTo>
                  <a:lnTo>
                    <a:pt x="4559" y="2588"/>
                  </a:lnTo>
                  <a:lnTo>
                    <a:pt x="4606" y="2626"/>
                  </a:lnTo>
                  <a:lnTo>
                    <a:pt x="4885" y="2410"/>
                  </a:lnTo>
                  <a:lnTo>
                    <a:pt x="4884" y="2390"/>
                  </a:lnTo>
                  <a:lnTo>
                    <a:pt x="4883" y="2369"/>
                  </a:lnTo>
                  <a:lnTo>
                    <a:pt x="4879" y="2349"/>
                  </a:lnTo>
                  <a:lnTo>
                    <a:pt x="4876" y="2328"/>
                  </a:lnTo>
                  <a:lnTo>
                    <a:pt x="4871" y="2307"/>
                  </a:lnTo>
                  <a:lnTo>
                    <a:pt x="4865" y="2287"/>
                  </a:lnTo>
                  <a:lnTo>
                    <a:pt x="4858" y="2266"/>
                  </a:lnTo>
                  <a:lnTo>
                    <a:pt x="4851" y="2246"/>
                  </a:lnTo>
                  <a:lnTo>
                    <a:pt x="4835" y="2206"/>
                  </a:lnTo>
                  <a:lnTo>
                    <a:pt x="4816" y="2168"/>
                  </a:lnTo>
                  <a:lnTo>
                    <a:pt x="4797" y="2132"/>
                  </a:lnTo>
                  <a:lnTo>
                    <a:pt x="4776" y="2097"/>
                  </a:lnTo>
                  <a:lnTo>
                    <a:pt x="4756" y="2065"/>
                  </a:lnTo>
                  <a:lnTo>
                    <a:pt x="4737" y="2036"/>
                  </a:lnTo>
                  <a:lnTo>
                    <a:pt x="4719" y="2010"/>
                  </a:lnTo>
                  <a:lnTo>
                    <a:pt x="4703" y="1988"/>
                  </a:lnTo>
                  <a:lnTo>
                    <a:pt x="4678" y="1958"/>
                  </a:lnTo>
                  <a:lnTo>
                    <a:pt x="4669" y="1946"/>
                  </a:lnTo>
                  <a:lnTo>
                    <a:pt x="4657" y="1924"/>
                  </a:lnTo>
                  <a:lnTo>
                    <a:pt x="4641" y="1898"/>
                  </a:lnTo>
                  <a:lnTo>
                    <a:pt x="4621" y="1869"/>
                  </a:lnTo>
                  <a:lnTo>
                    <a:pt x="4595" y="1836"/>
                  </a:lnTo>
                  <a:lnTo>
                    <a:pt x="4567" y="1800"/>
                  </a:lnTo>
                  <a:lnTo>
                    <a:pt x="4535" y="1763"/>
                  </a:lnTo>
                  <a:lnTo>
                    <a:pt x="4498" y="1722"/>
                  </a:lnTo>
                  <a:lnTo>
                    <a:pt x="4460" y="1678"/>
                  </a:lnTo>
                  <a:lnTo>
                    <a:pt x="4419" y="1634"/>
                  </a:lnTo>
                  <a:lnTo>
                    <a:pt x="4375" y="1587"/>
                  </a:lnTo>
                  <a:lnTo>
                    <a:pt x="4328" y="1538"/>
                  </a:lnTo>
                  <a:lnTo>
                    <a:pt x="4280" y="1489"/>
                  </a:lnTo>
                  <a:lnTo>
                    <a:pt x="4178" y="1389"/>
                  </a:lnTo>
                  <a:lnTo>
                    <a:pt x="4073" y="1286"/>
                  </a:lnTo>
                  <a:lnTo>
                    <a:pt x="3965" y="1183"/>
                  </a:lnTo>
                  <a:lnTo>
                    <a:pt x="3857" y="1084"/>
                  </a:lnTo>
                  <a:lnTo>
                    <a:pt x="3752" y="988"/>
                  </a:lnTo>
                  <a:lnTo>
                    <a:pt x="3650" y="899"/>
                  </a:lnTo>
                  <a:lnTo>
                    <a:pt x="3557" y="818"/>
                  </a:lnTo>
                  <a:lnTo>
                    <a:pt x="3472" y="748"/>
                  </a:lnTo>
                  <a:lnTo>
                    <a:pt x="3433" y="717"/>
                  </a:lnTo>
                  <a:lnTo>
                    <a:pt x="3398" y="690"/>
                  </a:lnTo>
                  <a:lnTo>
                    <a:pt x="3366" y="667"/>
                  </a:lnTo>
                  <a:lnTo>
                    <a:pt x="3338" y="647"/>
                  </a:lnTo>
                  <a:lnTo>
                    <a:pt x="3285" y="611"/>
                  </a:lnTo>
                  <a:lnTo>
                    <a:pt x="3231" y="571"/>
                  </a:lnTo>
                  <a:lnTo>
                    <a:pt x="3175" y="528"/>
                  </a:lnTo>
                  <a:lnTo>
                    <a:pt x="3119" y="484"/>
                  </a:lnTo>
                  <a:lnTo>
                    <a:pt x="3062" y="438"/>
                  </a:lnTo>
                  <a:lnTo>
                    <a:pt x="3007" y="391"/>
                  </a:lnTo>
                  <a:lnTo>
                    <a:pt x="2952" y="346"/>
                  </a:lnTo>
                  <a:lnTo>
                    <a:pt x="2900" y="300"/>
                  </a:lnTo>
                  <a:lnTo>
                    <a:pt x="2803" y="217"/>
                  </a:lnTo>
                  <a:lnTo>
                    <a:pt x="2722" y="146"/>
                  </a:lnTo>
                  <a:lnTo>
                    <a:pt x="2689" y="118"/>
                  </a:lnTo>
                  <a:lnTo>
                    <a:pt x="2661" y="95"/>
                  </a:lnTo>
                  <a:lnTo>
                    <a:pt x="2639" y="78"/>
                  </a:lnTo>
                  <a:lnTo>
                    <a:pt x="2624" y="69"/>
                  </a:lnTo>
                  <a:lnTo>
                    <a:pt x="2609" y="60"/>
                  </a:lnTo>
                  <a:lnTo>
                    <a:pt x="2595" y="50"/>
                  </a:lnTo>
                  <a:lnTo>
                    <a:pt x="2584" y="41"/>
                  </a:lnTo>
                  <a:lnTo>
                    <a:pt x="2572" y="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Freeform 232"/>
            <p:cNvSpPr/>
            <p:nvPr/>
          </p:nvSpPr>
          <p:spPr>
            <a:xfrm>
              <a:off x="7485480" y="5097240"/>
              <a:ext cx="196200" cy="1425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238" h="822">
                  <a:moveTo>
                    <a:pt x="1124" y="762"/>
                  </a:moveTo>
                  <a:lnTo>
                    <a:pt x="1238" y="776"/>
                  </a:lnTo>
                  <a:lnTo>
                    <a:pt x="1238" y="762"/>
                  </a:lnTo>
                  <a:lnTo>
                    <a:pt x="1237" y="747"/>
                  </a:lnTo>
                  <a:lnTo>
                    <a:pt x="1236" y="732"/>
                  </a:lnTo>
                  <a:lnTo>
                    <a:pt x="1234" y="717"/>
                  </a:lnTo>
                  <a:lnTo>
                    <a:pt x="1230" y="703"/>
                  </a:lnTo>
                  <a:lnTo>
                    <a:pt x="1227" y="688"/>
                  </a:lnTo>
                  <a:lnTo>
                    <a:pt x="1222" y="672"/>
                  </a:lnTo>
                  <a:lnTo>
                    <a:pt x="1217" y="657"/>
                  </a:lnTo>
                  <a:lnTo>
                    <a:pt x="1212" y="641"/>
                  </a:lnTo>
                  <a:lnTo>
                    <a:pt x="1205" y="626"/>
                  </a:lnTo>
                  <a:lnTo>
                    <a:pt x="1198" y="611"/>
                  </a:lnTo>
                  <a:lnTo>
                    <a:pt x="1189" y="594"/>
                  </a:lnTo>
                  <a:lnTo>
                    <a:pt x="1181" y="579"/>
                  </a:lnTo>
                  <a:lnTo>
                    <a:pt x="1171" y="563"/>
                  </a:lnTo>
                  <a:lnTo>
                    <a:pt x="1160" y="546"/>
                  </a:lnTo>
                  <a:lnTo>
                    <a:pt x="1150" y="531"/>
                  </a:lnTo>
                  <a:lnTo>
                    <a:pt x="1124" y="497"/>
                  </a:lnTo>
                  <a:lnTo>
                    <a:pt x="1096" y="465"/>
                  </a:lnTo>
                  <a:lnTo>
                    <a:pt x="1064" y="431"/>
                  </a:lnTo>
                  <a:lnTo>
                    <a:pt x="1029" y="396"/>
                  </a:lnTo>
                  <a:lnTo>
                    <a:pt x="991" y="361"/>
                  </a:lnTo>
                  <a:lnTo>
                    <a:pt x="949" y="326"/>
                  </a:lnTo>
                  <a:lnTo>
                    <a:pt x="903" y="289"/>
                  </a:lnTo>
                  <a:lnTo>
                    <a:pt x="853" y="252"/>
                  </a:lnTo>
                  <a:lnTo>
                    <a:pt x="844" y="267"/>
                  </a:lnTo>
                  <a:lnTo>
                    <a:pt x="835" y="281"/>
                  </a:lnTo>
                  <a:lnTo>
                    <a:pt x="827" y="294"/>
                  </a:lnTo>
                  <a:lnTo>
                    <a:pt x="819" y="305"/>
                  </a:lnTo>
                  <a:lnTo>
                    <a:pt x="811" y="314"/>
                  </a:lnTo>
                  <a:lnTo>
                    <a:pt x="803" y="322"/>
                  </a:lnTo>
                  <a:lnTo>
                    <a:pt x="796" y="329"/>
                  </a:lnTo>
                  <a:lnTo>
                    <a:pt x="789" y="335"/>
                  </a:lnTo>
                  <a:lnTo>
                    <a:pt x="782" y="340"/>
                  </a:lnTo>
                  <a:lnTo>
                    <a:pt x="775" y="342"/>
                  </a:lnTo>
                  <a:lnTo>
                    <a:pt x="768" y="344"/>
                  </a:lnTo>
                  <a:lnTo>
                    <a:pt x="762" y="344"/>
                  </a:lnTo>
                  <a:lnTo>
                    <a:pt x="756" y="344"/>
                  </a:lnTo>
                  <a:lnTo>
                    <a:pt x="750" y="342"/>
                  </a:lnTo>
                  <a:lnTo>
                    <a:pt x="745" y="340"/>
                  </a:lnTo>
                  <a:lnTo>
                    <a:pt x="741" y="335"/>
                  </a:lnTo>
                  <a:lnTo>
                    <a:pt x="736" y="330"/>
                  </a:lnTo>
                  <a:lnTo>
                    <a:pt x="733" y="323"/>
                  </a:lnTo>
                  <a:lnTo>
                    <a:pt x="729" y="316"/>
                  </a:lnTo>
                  <a:lnTo>
                    <a:pt x="727" y="307"/>
                  </a:lnTo>
                  <a:lnTo>
                    <a:pt x="724" y="298"/>
                  </a:lnTo>
                  <a:lnTo>
                    <a:pt x="723" y="287"/>
                  </a:lnTo>
                  <a:lnTo>
                    <a:pt x="722" y="275"/>
                  </a:lnTo>
                  <a:lnTo>
                    <a:pt x="722" y="263"/>
                  </a:lnTo>
                  <a:lnTo>
                    <a:pt x="722" y="250"/>
                  </a:lnTo>
                  <a:lnTo>
                    <a:pt x="723" y="234"/>
                  </a:lnTo>
                  <a:lnTo>
                    <a:pt x="724" y="219"/>
                  </a:lnTo>
                  <a:lnTo>
                    <a:pt x="727" y="203"/>
                  </a:lnTo>
                  <a:lnTo>
                    <a:pt x="734" y="168"/>
                  </a:lnTo>
                  <a:lnTo>
                    <a:pt x="743" y="128"/>
                  </a:lnTo>
                  <a:lnTo>
                    <a:pt x="744" y="126"/>
                  </a:lnTo>
                  <a:lnTo>
                    <a:pt x="745" y="119"/>
                  </a:lnTo>
                  <a:lnTo>
                    <a:pt x="745" y="115"/>
                  </a:lnTo>
                  <a:lnTo>
                    <a:pt x="743" y="111"/>
                  </a:lnTo>
                  <a:lnTo>
                    <a:pt x="741" y="106"/>
                  </a:lnTo>
                  <a:lnTo>
                    <a:pt x="736" y="102"/>
                  </a:lnTo>
                  <a:lnTo>
                    <a:pt x="729" y="99"/>
                  </a:lnTo>
                  <a:lnTo>
                    <a:pt x="720" y="97"/>
                  </a:lnTo>
                  <a:lnTo>
                    <a:pt x="708" y="94"/>
                  </a:lnTo>
                  <a:lnTo>
                    <a:pt x="692" y="94"/>
                  </a:lnTo>
                  <a:lnTo>
                    <a:pt x="673" y="95"/>
                  </a:lnTo>
                  <a:lnTo>
                    <a:pt x="650" y="99"/>
                  </a:lnTo>
                  <a:lnTo>
                    <a:pt x="623" y="104"/>
                  </a:lnTo>
                  <a:lnTo>
                    <a:pt x="590" y="111"/>
                  </a:lnTo>
                  <a:lnTo>
                    <a:pt x="594" y="108"/>
                  </a:lnTo>
                  <a:lnTo>
                    <a:pt x="598" y="101"/>
                  </a:lnTo>
                  <a:lnTo>
                    <a:pt x="605" y="91"/>
                  </a:lnTo>
                  <a:lnTo>
                    <a:pt x="611" y="79"/>
                  </a:lnTo>
                  <a:lnTo>
                    <a:pt x="612" y="73"/>
                  </a:lnTo>
                  <a:lnTo>
                    <a:pt x="613" y="66"/>
                  </a:lnTo>
                  <a:lnTo>
                    <a:pt x="612" y="60"/>
                  </a:lnTo>
                  <a:lnTo>
                    <a:pt x="609" y="55"/>
                  </a:lnTo>
                  <a:lnTo>
                    <a:pt x="604" y="49"/>
                  </a:lnTo>
                  <a:lnTo>
                    <a:pt x="596" y="44"/>
                  </a:lnTo>
                  <a:lnTo>
                    <a:pt x="587" y="39"/>
                  </a:lnTo>
                  <a:lnTo>
                    <a:pt x="574" y="36"/>
                  </a:lnTo>
                  <a:lnTo>
                    <a:pt x="546" y="29"/>
                  </a:lnTo>
                  <a:lnTo>
                    <a:pt x="519" y="20"/>
                  </a:lnTo>
                  <a:lnTo>
                    <a:pt x="492" y="11"/>
                  </a:lnTo>
                  <a:lnTo>
                    <a:pt x="463" y="4"/>
                  </a:lnTo>
                  <a:lnTo>
                    <a:pt x="448" y="1"/>
                  </a:lnTo>
                  <a:lnTo>
                    <a:pt x="431" y="0"/>
                  </a:lnTo>
                  <a:lnTo>
                    <a:pt x="413" y="0"/>
                  </a:lnTo>
                  <a:lnTo>
                    <a:pt x="394" y="0"/>
                  </a:lnTo>
                  <a:lnTo>
                    <a:pt x="373" y="2"/>
                  </a:lnTo>
                  <a:lnTo>
                    <a:pt x="349" y="6"/>
                  </a:lnTo>
                  <a:lnTo>
                    <a:pt x="324" y="11"/>
                  </a:lnTo>
                  <a:lnTo>
                    <a:pt x="297" y="20"/>
                  </a:lnTo>
                  <a:lnTo>
                    <a:pt x="311" y="111"/>
                  </a:lnTo>
                  <a:lnTo>
                    <a:pt x="305" y="108"/>
                  </a:lnTo>
                  <a:lnTo>
                    <a:pt x="288" y="102"/>
                  </a:lnTo>
                  <a:lnTo>
                    <a:pt x="260" y="93"/>
                  </a:lnTo>
                  <a:lnTo>
                    <a:pt x="219" y="83"/>
                  </a:lnTo>
                  <a:lnTo>
                    <a:pt x="220" y="86"/>
                  </a:lnTo>
                  <a:lnTo>
                    <a:pt x="220" y="95"/>
                  </a:lnTo>
                  <a:lnTo>
                    <a:pt x="221" y="108"/>
                  </a:lnTo>
                  <a:lnTo>
                    <a:pt x="219" y="125"/>
                  </a:lnTo>
                  <a:lnTo>
                    <a:pt x="216" y="134"/>
                  </a:lnTo>
                  <a:lnTo>
                    <a:pt x="214" y="142"/>
                  </a:lnTo>
                  <a:lnTo>
                    <a:pt x="210" y="152"/>
                  </a:lnTo>
                  <a:lnTo>
                    <a:pt x="206" y="160"/>
                  </a:lnTo>
                  <a:lnTo>
                    <a:pt x="200" y="168"/>
                  </a:lnTo>
                  <a:lnTo>
                    <a:pt x="192" y="176"/>
                  </a:lnTo>
                  <a:lnTo>
                    <a:pt x="184" y="183"/>
                  </a:lnTo>
                  <a:lnTo>
                    <a:pt x="173" y="189"/>
                  </a:lnTo>
                  <a:lnTo>
                    <a:pt x="154" y="184"/>
                  </a:lnTo>
                  <a:lnTo>
                    <a:pt x="136" y="182"/>
                  </a:lnTo>
                  <a:lnTo>
                    <a:pt x="119" y="182"/>
                  </a:lnTo>
                  <a:lnTo>
                    <a:pt x="104" y="182"/>
                  </a:lnTo>
                  <a:lnTo>
                    <a:pt x="90" y="184"/>
                  </a:lnTo>
                  <a:lnTo>
                    <a:pt x="76" y="189"/>
                  </a:lnTo>
                  <a:lnTo>
                    <a:pt x="64" y="194"/>
                  </a:lnTo>
                  <a:lnTo>
                    <a:pt x="54" y="201"/>
                  </a:lnTo>
                  <a:lnTo>
                    <a:pt x="45" y="208"/>
                  </a:lnTo>
                  <a:lnTo>
                    <a:pt x="35" y="216"/>
                  </a:lnTo>
                  <a:lnTo>
                    <a:pt x="27" y="226"/>
                  </a:lnTo>
                  <a:lnTo>
                    <a:pt x="21" y="236"/>
                  </a:lnTo>
                  <a:lnTo>
                    <a:pt x="15" y="247"/>
                  </a:lnTo>
                  <a:lnTo>
                    <a:pt x="11" y="259"/>
                  </a:lnTo>
                  <a:lnTo>
                    <a:pt x="7" y="272"/>
                  </a:lnTo>
                  <a:lnTo>
                    <a:pt x="4" y="285"/>
                  </a:lnTo>
                  <a:lnTo>
                    <a:pt x="1" y="299"/>
                  </a:lnTo>
                  <a:lnTo>
                    <a:pt x="0" y="312"/>
                  </a:lnTo>
                  <a:lnTo>
                    <a:pt x="0" y="326"/>
                  </a:lnTo>
                  <a:lnTo>
                    <a:pt x="1" y="340"/>
                  </a:lnTo>
                  <a:lnTo>
                    <a:pt x="3" y="355"/>
                  </a:lnTo>
                  <a:lnTo>
                    <a:pt x="5" y="369"/>
                  </a:lnTo>
                  <a:lnTo>
                    <a:pt x="7" y="383"/>
                  </a:lnTo>
                  <a:lnTo>
                    <a:pt x="11" y="397"/>
                  </a:lnTo>
                  <a:lnTo>
                    <a:pt x="15" y="410"/>
                  </a:lnTo>
                  <a:lnTo>
                    <a:pt x="20" y="423"/>
                  </a:lnTo>
                  <a:lnTo>
                    <a:pt x="26" y="435"/>
                  </a:lnTo>
                  <a:lnTo>
                    <a:pt x="33" y="448"/>
                  </a:lnTo>
                  <a:lnTo>
                    <a:pt x="39" y="459"/>
                  </a:lnTo>
                  <a:lnTo>
                    <a:pt x="47" y="469"/>
                  </a:lnTo>
                  <a:lnTo>
                    <a:pt x="55" y="480"/>
                  </a:lnTo>
                  <a:lnTo>
                    <a:pt x="63" y="488"/>
                  </a:lnTo>
                  <a:lnTo>
                    <a:pt x="90" y="515"/>
                  </a:lnTo>
                  <a:lnTo>
                    <a:pt x="114" y="541"/>
                  </a:lnTo>
                  <a:lnTo>
                    <a:pt x="135" y="565"/>
                  </a:lnTo>
                  <a:lnTo>
                    <a:pt x="153" y="588"/>
                  </a:lnTo>
                  <a:lnTo>
                    <a:pt x="170" y="612"/>
                  </a:lnTo>
                  <a:lnTo>
                    <a:pt x="184" y="633"/>
                  </a:lnTo>
                  <a:lnTo>
                    <a:pt x="195" y="655"/>
                  </a:lnTo>
                  <a:lnTo>
                    <a:pt x="205" y="675"/>
                  </a:lnTo>
                  <a:lnTo>
                    <a:pt x="210" y="695"/>
                  </a:lnTo>
                  <a:lnTo>
                    <a:pt x="215" y="715"/>
                  </a:lnTo>
                  <a:lnTo>
                    <a:pt x="216" y="724"/>
                  </a:lnTo>
                  <a:lnTo>
                    <a:pt x="216" y="733"/>
                  </a:lnTo>
                  <a:lnTo>
                    <a:pt x="216" y="743"/>
                  </a:lnTo>
                  <a:lnTo>
                    <a:pt x="215" y="752"/>
                  </a:lnTo>
                  <a:lnTo>
                    <a:pt x="214" y="761"/>
                  </a:lnTo>
                  <a:lnTo>
                    <a:pt x="212" y="769"/>
                  </a:lnTo>
                  <a:lnTo>
                    <a:pt x="209" y="779"/>
                  </a:lnTo>
                  <a:lnTo>
                    <a:pt x="206" y="788"/>
                  </a:lnTo>
                  <a:lnTo>
                    <a:pt x="198" y="806"/>
                  </a:lnTo>
                  <a:lnTo>
                    <a:pt x="187" y="822"/>
                  </a:lnTo>
                  <a:lnTo>
                    <a:pt x="714" y="800"/>
                  </a:lnTo>
                  <a:lnTo>
                    <a:pt x="1124" y="762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Freeform 233"/>
            <p:cNvSpPr/>
            <p:nvPr/>
          </p:nvSpPr>
          <p:spPr>
            <a:xfrm>
              <a:off x="7776720" y="5054760"/>
              <a:ext cx="264960" cy="1443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61" h="830">
                  <a:moveTo>
                    <a:pt x="1301" y="775"/>
                  </a:moveTo>
                  <a:lnTo>
                    <a:pt x="1116" y="691"/>
                  </a:lnTo>
                  <a:lnTo>
                    <a:pt x="1101" y="695"/>
                  </a:lnTo>
                  <a:lnTo>
                    <a:pt x="1087" y="697"/>
                  </a:lnTo>
                  <a:lnTo>
                    <a:pt x="1074" y="697"/>
                  </a:lnTo>
                  <a:lnTo>
                    <a:pt x="1061" y="695"/>
                  </a:lnTo>
                  <a:lnTo>
                    <a:pt x="1046" y="694"/>
                  </a:lnTo>
                  <a:lnTo>
                    <a:pt x="1029" y="695"/>
                  </a:lnTo>
                  <a:lnTo>
                    <a:pt x="1006" y="699"/>
                  </a:lnTo>
                  <a:lnTo>
                    <a:pt x="978" y="706"/>
                  </a:lnTo>
                  <a:lnTo>
                    <a:pt x="953" y="711"/>
                  </a:lnTo>
                  <a:lnTo>
                    <a:pt x="912" y="718"/>
                  </a:lnTo>
                  <a:lnTo>
                    <a:pt x="857" y="726"/>
                  </a:lnTo>
                  <a:lnTo>
                    <a:pt x="790" y="735"/>
                  </a:lnTo>
                  <a:lnTo>
                    <a:pt x="714" y="744"/>
                  </a:lnTo>
                  <a:lnTo>
                    <a:pt x="634" y="755"/>
                  </a:lnTo>
                  <a:lnTo>
                    <a:pt x="547" y="765"/>
                  </a:lnTo>
                  <a:lnTo>
                    <a:pt x="461" y="776"/>
                  </a:lnTo>
                  <a:lnTo>
                    <a:pt x="374" y="787"/>
                  </a:lnTo>
                  <a:lnTo>
                    <a:pt x="292" y="796"/>
                  </a:lnTo>
                  <a:lnTo>
                    <a:pt x="216" y="805"/>
                  </a:lnTo>
                  <a:lnTo>
                    <a:pt x="147" y="813"/>
                  </a:lnTo>
                  <a:lnTo>
                    <a:pt x="89" y="820"/>
                  </a:lnTo>
                  <a:lnTo>
                    <a:pt x="46" y="825"/>
                  </a:lnTo>
                  <a:lnTo>
                    <a:pt x="18" y="829"/>
                  </a:lnTo>
                  <a:lnTo>
                    <a:pt x="8" y="830"/>
                  </a:lnTo>
                  <a:lnTo>
                    <a:pt x="0" y="763"/>
                  </a:lnTo>
                  <a:lnTo>
                    <a:pt x="18" y="743"/>
                  </a:lnTo>
                  <a:lnTo>
                    <a:pt x="38" y="725"/>
                  </a:lnTo>
                  <a:lnTo>
                    <a:pt x="57" y="704"/>
                  </a:lnTo>
                  <a:lnTo>
                    <a:pt x="74" y="683"/>
                  </a:lnTo>
                  <a:lnTo>
                    <a:pt x="74" y="498"/>
                  </a:lnTo>
                  <a:lnTo>
                    <a:pt x="141" y="498"/>
                  </a:lnTo>
                  <a:lnTo>
                    <a:pt x="202" y="496"/>
                  </a:lnTo>
                  <a:lnTo>
                    <a:pt x="231" y="494"/>
                  </a:lnTo>
                  <a:lnTo>
                    <a:pt x="258" y="492"/>
                  </a:lnTo>
                  <a:lnTo>
                    <a:pt x="283" y="490"/>
                  </a:lnTo>
                  <a:lnTo>
                    <a:pt x="309" y="486"/>
                  </a:lnTo>
                  <a:lnTo>
                    <a:pt x="332" y="483"/>
                  </a:lnTo>
                  <a:lnTo>
                    <a:pt x="355" y="478"/>
                  </a:lnTo>
                  <a:lnTo>
                    <a:pt x="376" y="473"/>
                  </a:lnTo>
                  <a:lnTo>
                    <a:pt x="395" y="469"/>
                  </a:lnTo>
                  <a:lnTo>
                    <a:pt x="414" y="462"/>
                  </a:lnTo>
                  <a:lnTo>
                    <a:pt x="432" y="455"/>
                  </a:lnTo>
                  <a:lnTo>
                    <a:pt x="448" y="447"/>
                  </a:lnTo>
                  <a:lnTo>
                    <a:pt x="463" y="438"/>
                  </a:lnTo>
                  <a:lnTo>
                    <a:pt x="477" y="429"/>
                  </a:lnTo>
                  <a:lnTo>
                    <a:pt x="490" y="419"/>
                  </a:lnTo>
                  <a:lnTo>
                    <a:pt x="502" y="407"/>
                  </a:lnTo>
                  <a:lnTo>
                    <a:pt x="512" y="395"/>
                  </a:lnTo>
                  <a:lnTo>
                    <a:pt x="522" y="382"/>
                  </a:lnTo>
                  <a:lnTo>
                    <a:pt x="530" y="367"/>
                  </a:lnTo>
                  <a:lnTo>
                    <a:pt x="537" y="352"/>
                  </a:lnTo>
                  <a:lnTo>
                    <a:pt x="543" y="336"/>
                  </a:lnTo>
                  <a:lnTo>
                    <a:pt x="547" y="318"/>
                  </a:lnTo>
                  <a:lnTo>
                    <a:pt x="551" y="299"/>
                  </a:lnTo>
                  <a:lnTo>
                    <a:pt x="554" y="278"/>
                  </a:lnTo>
                  <a:lnTo>
                    <a:pt x="556" y="257"/>
                  </a:lnTo>
                  <a:lnTo>
                    <a:pt x="557" y="235"/>
                  </a:lnTo>
                  <a:lnTo>
                    <a:pt x="556" y="211"/>
                  </a:lnTo>
                  <a:lnTo>
                    <a:pt x="554" y="185"/>
                  </a:lnTo>
                  <a:lnTo>
                    <a:pt x="552" y="158"/>
                  </a:lnTo>
                  <a:lnTo>
                    <a:pt x="690" y="17"/>
                  </a:lnTo>
                  <a:lnTo>
                    <a:pt x="699" y="17"/>
                  </a:lnTo>
                  <a:lnTo>
                    <a:pt x="723" y="17"/>
                  </a:lnTo>
                  <a:lnTo>
                    <a:pt x="759" y="17"/>
                  </a:lnTo>
                  <a:lnTo>
                    <a:pt x="806" y="16"/>
                  </a:lnTo>
                  <a:lnTo>
                    <a:pt x="859" y="13"/>
                  </a:lnTo>
                  <a:lnTo>
                    <a:pt x="920" y="10"/>
                  </a:lnTo>
                  <a:lnTo>
                    <a:pt x="983" y="6"/>
                  </a:lnTo>
                  <a:lnTo>
                    <a:pt x="1047" y="0"/>
                  </a:lnTo>
                  <a:lnTo>
                    <a:pt x="1416" y="421"/>
                  </a:lnTo>
                  <a:lnTo>
                    <a:pt x="1416" y="521"/>
                  </a:lnTo>
                  <a:lnTo>
                    <a:pt x="1471" y="545"/>
                  </a:lnTo>
                  <a:lnTo>
                    <a:pt x="1661" y="792"/>
                  </a:lnTo>
                  <a:lnTo>
                    <a:pt x="1651" y="796"/>
                  </a:lnTo>
                  <a:lnTo>
                    <a:pt x="1641" y="801"/>
                  </a:lnTo>
                  <a:lnTo>
                    <a:pt x="1627" y="805"/>
                  </a:lnTo>
                  <a:lnTo>
                    <a:pt x="1613" y="809"/>
                  </a:lnTo>
                  <a:lnTo>
                    <a:pt x="1596" y="812"/>
                  </a:lnTo>
                  <a:lnTo>
                    <a:pt x="1578" y="815"/>
                  </a:lnTo>
                  <a:lnTo>
                    <a:pt x="1558" y="817"/>
                  </a:lnTo>
                  <a:lnTo>
                    <a:pt x="1536" y="818"/>
                  </a:lnTo>
                  <a:lnTo>
                    <a:pt x="1512" y="818"/>
                  </a:lnTo>
                  <a:lnTo>
                    <a:pt x="1488" y="817"/>
                  </a:lnTo>
                  <a:lnTo>
                    <a:pt x="1461" y="815"/>
                  </a:lnTo>
                  <a:lnTo>
                    <a:pt x="1432" y="810"/>
                  </a:lnTo>
                  <a:lnTo>
                    <a:pt x="1402" y="804"/>
                  </a:lnTo>
                  <a:lnTo>
                    <a:pt x="1370" y="796"/>
                  </a:lnTo>
                  <a:lnTo>
                    <a:pt x="1336" y="787"/>
                  </a:lnTo>
                  <a:lnTo>
                    <a:pt x="1301" y="7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Freeform 234"/>
            <p:cNvSpPr/>
            <p:nvPr/>
          </p:nvSpPr>
          <p:spPr>
            <a:xfrm>
              <a:off x="7982280" y="5189040"/>
              <a:ext cx="110520" cy="11988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698" h="697">
                  <a:moveTo>
                    <a:pt x="146" y="426"/>
                  </a:moveTo>
                  <a:lnTo>
                    <a:pt x="144" y="418"/>
                  </a:lnTo>
                  <a:lnTo>
                    <a:pt x="143" y="411"/>
                  </a:lnTo>
                  <a:lnTo>
                    <a:pt x="143" y="404"/>
                  </a:lnTo>
                  <a:lnTo>
                    <a:pt x="144" y="397"/>
                  </a:lnTo>
                  <a:lnTo>
                    <a:pt x="146" y="390"/>
                  </a:lnTo>
                  <a:lnTo>
                    <a:pt x="148" y="383"/>
                  </a:lnTo>
                  <a:lnTo>
                    <a:pt x="150" y="377"/>
                  </a:lnTo>
                  <a:lnTo>
                    <a:pt x="155" y="371"/>
                  </a:lnTo>
                  <a:lnTo>
                    <a:pt x="158" y="365"/>
                  </a:lnTo>
                  <a:lnTo>
                    <a:pt x="164" y="360"/>
                  </a:lnTo>
                  <a:lnTo>
                    <a:pt x="170" y="355"/>
                  </a:lnTo>
                  <a:lnTo>
                    <a:pt x="177" y="351"/>
                  </a:lnTo>
                  <a:lnTo>
                    <a:pt x="185" y="348"/>
                  </a:lnTo>
                  <a:lnTo>
                    <a:pt x="195" y="344"/>
                  </a:lnTo>
                  <a:lnTo>
                    <a:pt x="204" y="342"/>
                  </a:lnTo>
                  <a:lnTo>
                    <a:pt x="215" y="340"/>
                  </a:lnTo>
                  <a:lnTo>
                    <a:pt x="216" y="332"/>
                  </a:lnTo>
                  <a:lnTo>
                    <a:pt x="219" y="309"/>
                  </a:lnTo>
                  <a:lnTo>
                    <a:pt x="223" y="278"/>
                  </a:lnTo>
                  <a:lnTo>
                    <a:pt x="224" y="239"/>
                  </a:lnTo>
                  <a:lnTo>
                    <a:pt x="220" y="226"/>
                  </a:lnTo>
                  <a:lnTo>
                    <a:pt x="215" y="216"/>
                  </a:lnTo>
                  <a:lnTo>
                    <a:pt x="209" y="205"/>
                  </a:lnTo>
                  <a:lnTo>
                    <a:pt x="202" y="195"/>
                  </a:lnTo>
                  <a:lnTo>
                    <a:pt x="194" y="186"/>
                  </a:lnTo>
                  <a:lnTo>
                    <a:pt x="184" y="176"/>
                  </a:lnTo>
                  <a:lnTo>
                    <a:pt x="175" y="167"/>
                  </a:lnTo>
                  <a:lnTo>
                    <a:pt x="164" y="159"/>
                  </a:lnTo>
                  <a:lnTo>
                    <a:pt x="142" y="143"/>
                  </a:lnTo>
                  <a:lnTo>
                    <a:pt x="119" y="129"/>
                  </a:lnTo>
                  <a:lnTo>
                    <a:pt x="95" y="115"/>
                  </a:lnTo>
                  <a:lnTo>
                    <a:pt x="73" y="103"/>
                  </a:lnTo>
                  <a:lnTo>
                    <a:pt x="52" y="91"/>
                  </a:lnTo>
                  <a:lnTo>
                    <a:pt x="33" y="79"/>
                  </a:lnTo>
                  <a:lnTo>
                    <a:pt x="25" y="73"/>
                  </a:lnTo>
                  <a:lnTo>
                    <a:pt x="17" y="68"/>
                  </a:lnTo>
                  <a:lnTo>
                    <a:pt x="11" y="62"/>
                  </a:lnTo>
                  <a:lnTo>
                    <a:pt x="7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8" y="15"/>
                  </a:lnTo>
                  <a:lnTo>
                    <a:pt x="14" y="8"/>
                  </a:lnTo>
                  <a:lnTo>
                    <a:pt x="22" y="0"/>
                  </a:lnTo>
                  <a:lnTo>
                    <a:pt x="57" y="12"/>
                  </a:lnTo>
                  <a:lnTo>
                    <a:pt x="91" y="21"/>
                  </a:lnTo>
                  <a:lnTo>
                    <a:pt x="123" y="29"/>
                  </a:lnTo>
                  <a:lnTo>
                    <a:pt x="153" y="35"/>
                  </a:lnTo>
                  <a:lnTo>
                    <a:pt x="182" y="40"/>
                  </a:lnTo>
                  <a:lnTo>
                    <a:pt x="209" y="42"/>
                  </a:lnTo>
                  <a:lnTo>
                    <a:pt x="233" y="43"/>
                  </a:lnTo>
                  <a:lnTo>
                    <a:pt x="257" y="43"/>
                  </a:lnTo>
                  <a:lnTo>
                    <a:pt x="279" y="42"/>
                  </a:lnTo>
                  <a:lnTo>
                    <a:pt x="299" y="40"/>
                  </a:lnTo>
                  <a:lnTo>
                    <a:pt x="317" y="37"/>
                  </a:lnTo>
                  <a:lnTo>
                    <a:pt x="334" y="34"/>
                  </a:lnTo>
                  <a:lnTo>
                    <a:pt x="348" y="30"/>
                  </a:lnTo>
                  <a:lnTo>
                    <a:pt x="362" y="26"/>
                  </a:lnTo>
                  <a:lnTo>
                    <a:pt x="372" y="21"/>
                  </a:lnTo>
                  <a:lnTo>
                    <a:pt x="382" y="17"/>
                  </a:lnTo>
                  <a:lnTo>
                    <a:pt x="586" y="233"/>
                  </a:lnTo>
                  <a:lnTo>
                    <a:pt x="586" y="371"/>
                  </a:lnTo>
                  <a:lnTo>
                    <a:pt x="565" y="368"/>
                  </a:lnTo>
                  <a:lnTo>
                    <a:pt x="544" y="364"/>
                  </a:lnTo>
                  <a:lnTo>
                    <a:pt x="524" y="362"/>
                  </a:lnTo>
                  <a:lnTo>
                    <a:pt x="504" y="361"/>
                  </a:lnTo>
                  <a:lnTo>
                    <a:pt x="487" y="361"/>
                  </a:lnTo>
                  <a:lnTo>
                    <a:pt x="468" y="361"/>
                  </a:lnTo>
                  <a:lnTo>
                    <a:pt x="452" y="361"/>
                  </a:lnTo>
                  <a:lnTo>
                    <a:pt x="436" y="363"/>
                  </a:lnTo>
                  <a:lnTo>
                    <a:pt x="421" y="364"/>
                  </a:lnTo>
                  <a:lnTo>
                    <a:pt x="408" y="368"/>
                  </a:lnTo>
                  <a:lnTo>
                    <a:pt x="397" y="370"/>
                  </a:lnTo>
                  <a:lnTo>
                    <a:pt x="386" y="375"/>
                  </a:lnTo>
                  <a:lnTo>
                    <a:pt x="377" y="378"/>
                  </a:lnTo>
                  <a:lnTo>
                    <a:pt x="369" y="383"/>
                  </a:lnTo>
                  <a:lnTo>
                    <a:pt x="363" y="389"/>
                  </a:lnTo>
                  <a:lnTo>
                    <a:pt x="359" y="393"/>
                  </a:lnTo>
                  <a:lnTo>
                    <a:pt x="357" y="400"/>
                  </a:lnTo>
                  <a:lnTo>
                    <a:pt x="357" y="406"/>
                  </a:lnTo>
                  <a:lnTo>
                    <a:pt x="358" y="412"/>
                  </a:lnTo>
                  <a:lnTo>
                    <a:pt x="362" y="419"/>
                  </a:lnTo>
                  <a:lnTo>
                    <a:pt x="368" y="426"/>
                  </a:lnTo>
                  <a:lnTo>
                    <a:pt x="376" y="434"/>
                  </a:lnTo>
                  <a:lnTo>
                    <a:pt x="386" y="441"/>
                  </a:lnTo>
                  <a:lnTo>
                    <a:pt x="400" y="448"/>
                  </a:lnTo>
                  <a:lnTo>
                    <a:pt x="415" y="457"/>
                  </a:lnTo>
                  <a:lnTo>
                    <a:pt x="433" y="464"/>
                  </a:lnTo>
                  <a:lnTo>
                    <a:pt x="454" y="472"/>
                  </a:lnTo>
                  <a:lnTo>
                    <a:pt x="477" y="480"/>
                  </a:lnTo>
                  <a:lnTo>
                    <a:pt x="504" y="487"/>
                  </a:lnTo>
                  <a:lnTo>
                    <a:pt x="533" y="495"/>
                  </a:lnTo>
                  <a:lnTo>
                    <a:pt x="565" y="502"/>
                  </a:lnTo>
                  <a:lnTo>
                    <a:pt x="601" y="509"/>
                  </a:lnTo>
                  <a:lnTo>
                    <a:pt x="615" y="513"/>
                  </a:lnTo>
                  <a:lnTo>
                    <a:pt x="627" y="516"/>
                  </a:lnTo>
                  <a:lnTo>
                    <a:pt x="639" y="520"/>
                  </a:lnTo>
                  <a:lnTo>
                    <a:pt x="649" y="524"/>
                  </a:lnTo>
                  <a:lnTo>
                    <a:pt x="658" y="528"/>
                  </a:lnTo>
                  <a:lnTo>
                    <a:pt x="665" y="532"/>
                  </a:lnTo>
                  <a:lnTo>
                    <a:pt x="672" y="537"/>
                  </a:lnTo>
                  <a:lnTo>
                    <a:pt x="678" y="542"/>
                  </a:lnTo>
                  <a:lnTo>
                    <a:pt x="684" y="548"/>
                  </a:lnTo>
                  <a:lnTo>
                    <a:pt x="688" y="552"/>
                  </a:lnTo>
                  <a:lnTo>
                    <a:pt x="691" y="557"/>
                  </a:lnTo>
                  <a:lnTo>
                    <a:pt x="693" y="563"/>
                  </a:lnTo>
                  <a:lnTo>
                    <a:pt x="697" y="573"/>
                  </a:lnTo>
                  <a:lnTo>
                    <a:pt x="698" y="584"/>
                  </a:lnTo>
                  <a:lnTo>
                    <a:pt x="697" y="593"/>
                  </a:lnTo>
                  <a:lnTo>
                    <a:pt x="695" y="603"/>
                  </a:lnTo>
                  <a:lnTo>
                    <a:pt x="692" y="611"/>
                  </a:lnTo>
                  <a:lnTo>
                    <a:pt x="689" y="619"/>
                  </a:lnTo>
                  <a:lnTo>
                    <a:pt x="682" y="629"/>
                  </a:lnTo>
                  <a:lnTo>
                    <a:pt x="678" y="633"/>
                  </a:lnTo>
                  <a:lnTo>
                    <a:pt x="462" y="697"/>
                  </a:lnTo>
                  <a:lnTo>
                    <a:pt x="146" y="4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Freeform 235"/>
            <p:cNvSpPr/>
            <p:nvPr/>
          </p:nvSpPr>
          <p:spPr>
            <a:xfrm>
              <a:off x="8002800" y="5094000"/>
              <a:ext cx="156960" cy="601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83" h="354">
                  <a:moveTo>
                    <a:pt x="55" y="323"/>
                  </a:moveTo>
                  <a:lnTo>
                    <a:pt x="596" y="268"/>
                  </a:lnTo>
                  <a:lnTo>
                    <a:pt x="609" y="271"/>
                  </a:lnTo>
                  <a:lnTo>
                    <a:pt x="644" y="281"/>
                  </a:lnTo>
                  <a:lnTo>
                    <a:pt x="666" y="285"/>
                  </a:lnTo>
                  <a:lnTo>
                    <a:pt x="691" y="291"/>
                  </a:lnTo>
                  <a:lnTo>
                    <a:pt x="718" y="296"/>
                  </a:lnTo>
                  <a:lnTo>
                    <a:pt x="743" y="299"/>
                  </a:lnTo>
                  <a:lnTo>
                    <a:pt x="752" y="301"/>
                  </a:lnTo>
                  <a:lnTo>
                    <a:pt x="761" y="303"/>
                  </a:lnTo>
                  <a:lnTo>
                    <a:pt x="769" y="306"/>
                  </a:lnTo>
                  <a:lnTo>
                    <a:pt x="777" y="310"/>
                  </a:lnTo>
                  <a:lnTo>
                    <a:pt x="792" y="319"/>
                  </a:lnTo>
                  <a:lnTo>
                    <a:pt x="806" y="329"/>
                  </a:lnTo>
                  <a:lnTo>
                    <a:pt x="827" y="346"/>
                  </a:lnTo>
                  <a:lnTo>
                    <a:pt x="836" y="354"/>
                  </a:lnTo>
                  <a:lnTo>
                    <a:pt x="857" y="347"/>
                  </a:lnTo>
                  <a:lnTo>
                    <a:pt x="881" y="340"/>
                  </a:lnTo>
                  <a:lnTo>
                    <a:pt x="909" y="333"/>
                  </a:lnTo>
                  <a:lnTo>
                    <a:pt x="936" y="325"/>
                  </a:lnTo>
                  <a:lnTo>
                    <a:pt x="948" y="320"/>
                  </a:lnTo>
                  <a:lnTo>
                    <a:pt x="959" y="316"/>
                  </a:lnTo>
                  <a:lnTo>
                    <a:pt x="969" y="310"/>
                  </a:lnTo>
                  <a:lnTo>
                    <a:pt x="976" y="304"/>
                  </a:lnTo>
                  <a:lnTo>
                    <a:pt x="978" y="302"/>
                  </a:lnTo>
                  <a:lnTo>
                    <a:pt x="980" y="298"/>
                  </a:lnTo>
                  <a:lnTo>
                    <a:pt x="982" y="295"/>
                  </a:lnTo>
                  <a:lnTo>
                    <a:pt x="983" y="291"/>
                  </a:lnTo>
                  <a:lnTo>
                    <a:pt x="982" y="288"/>
                  </a:lnTo>
                  <a:lnTo>
                    <a:pt x="982" y="284"/>
                  </a:lnTo>
                  <a:lnTo>
                    <a:pt x="979" y="281"/>
                  </a:lnTo>
                  <a:lnTo>
                    <a:pt x="977" y="276"/>
                  </a:lnTo>
                  <a:lnTo>
                    <a:pt x="970" y="265"/>
                  </a:lnTo>
                  <a:lnTo>
                    <a:pt x="965" y="255"/>
                  </a:lnTo>
                  <a:lnTo>
                    <a:pt x="962" y="244"/>
                  </a:lnTo>
                  <a:lnTo>
                    <a:pt x="961" y="234"/>
                  </a:lnTo>
                  <a:lnTo>
                    <a:pt x="962" y="213"/>
                  </a:lnTo>
                  <a:lnTo>
                    <a:pt x="965" y="194"/>
                  </a:lnTo>
                  <a:lnTo>
                    <a:pt x="966" y="185"/>
                  </a:lnTo>
                  <a:lnTo>
                    <a:pt x="968" y="177"/>
                  </a:lnTo>
                  <a:lnTo>
                    <a:pt x="968" y="170"/>
                  </a:lnTo>
                  <a:lnTo>
                    <a:pt x="966" y="164"/>
                  </a:lnTo>
                  <a:lnTo>
                    <a:pt x="964" y="159"/>
                  </a:lnTo>
                  <a:lnTo>
                    <a:pt x="961" y="156"/>
                  </a:lnTo>
                  <a:lnTo>
                    <a:pt x="954" y="153"/>
                  </a:lnTo>
                  <a:lnTo>
                    <a:pt x="945" y="152"/>
                  </a:lnTo>
                  <a:lnTo>
                    <a:pt x="933" y="153"/>
                  </a:lnTo>
                  <a:lnTo>
                    <a:pt x="922" y="155"/>
                  </a:lnTo>
                  <a:lnTo>
                    <a:pt x="910" y="157"/>
                  </a:lnTo>
                  <a:lnTo>
                    <a:pt x="900" y="159"/>
                  </a:lnTo>
                  <a:lnTo>
                    <a:pt x="878" y="167"/>
                  </a:lnTo>
                  <a:lnTo>
                    <a:pt x="854" y="176"/>
                  </a:lnTo>
                  <a:lnTo>
                    <a:pt x="831" y="184"/>
                  </a:lnTo>
                  <a:lnTo>
                    <a:pt x="805" y="192"/>
                  </a:lnTo>
                  <a:lnTo>
                    <a:pt x="790" y="194"/>
                  </a:lnTo>
                  <a:lnTo>
                    <a:pt x="776" y="197"/>
                  </a:lnTo>
                  <a:lnTo>
                    <a:pt x="760" y="198"/>
                  </a:lnTo>
                  <a:lnTo>
                    <a:pt x="743" y="199"/>
                  </a:lnTo>
                  <a:lnTo>
                    <a:pt x="727" y="198"/>
                  </a:lnTo>
                  <a:lnTo>
                    <a:pt x="713" y="194"/>
                  </a:lnTo>
                  <a:lnTo>
                    <a:pt x="701" y="190"/>
                  </a:lnTo>
                  <a:lnTo>
                    <a:pt x="691" y="185"/>
                  </a:lnTo>
                  <a:lnTo>
                    <a:pt x="672" y="170"/>
                  </a:lnTo>
                  <a:lnTo>
                    <a:pt x="655" y="155"/>
                  </a:lnTo>
                  <a:lnTo>
                    <a:pt x="645" y="146"/>
                  </a:lnTo>
                  <a:lnTo>
                    <a:pt x="636" y="139"/>
                  </a:lnTo>
                  <a:lnTo>
                    <a:pt x="624" y="132"/>
                  </a:lnTo>
                  <a:lnTo>
                    <a:pt x="613" y="126"/>
                  </a:lnTo>
                  <a:lnTo>
                    <a:pt x="599" y="123"/>
                  </a:lnTo>
                  <a:lnTo>
                    <a:pt x="582" y="119"/>
                  </a:lnTo>
                  <a:lnTo>
                    <a:pt x="563" y="119"/>
                  </a:lnTo>
                  <a:lnTo>
                    <a:pt x="541" y="121"/>
                  </a:lnTo>
                  <a:lnTo>
                    <a:pt x="548" y="110"/>
                  </a:lnTo>
                  <a:lnTo>
                    <a:pt x="554" y="100"/>
                  </a:lnTo>
                  <a:lnTo>
                    <a:pt x="558" y="89"/>
                  </a:lnTo>
                  <a:lnTo>
                    <a:pt x="560" y="80"/>
                  </a:lnTo>
                  <a:lnTo>
                    <a:pt x="561" y="72"/>
                  </a:lnTo>
                  <a:lnTo>
                    <a:pt x="561" y="62"/>
                  </a:lnTo>
                  <a:lnTo>
                    <a:pt x="558" y="55"/>
                  </a:lnTo>
                  <a:lnTo>
                    <a:pt x="554" y="47"/>
                  </a:lnTo>
                  <a:lnTo>
                    <a:pt x="548" y="40"/>
                  </a:lnTo>
                  <a:lnTo>
                    <a:pt x="540" y="33"/>
                  </a:lnTo>
                  <a:lnTo>
                    <a:pt x="530" y="27"/>
                  </a:lnTo>
                  <a:lnTo>
                    <a:pt x="518" y="21"/>
                  </a:lnTo>
                  <a:lnTo>
                    <a:pt x="504" y="16"/>
                  </a:lnTo>
                  <a:lnTo>
                    <a:pt x="489" y="10"/>
                  </a:lnTo>
                  <a:lnTo>
                    <a:pt x="470" y="5"/>
                  </a:lnTo>
                  <a:lnTo>
                    <a:pt x="449" y="0"/>
                  </a:lnTo>
                  <a:lnTo>
                    <a:pt x="109" y="158"/>
                  </a:lnTo>
                  <a:lnTo>
                    <a:pt x="0" y="199"/>
                  </a:lnTo>
                  <a:lnTo>
                    <a:pt x="0" y="299"/>
                  </a:lnTo>
                  <a:lnTo>
                    <a:pt x="55" y="3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Freeform 236"/>
            <p:cNvSpPr/>
            <p:nvPr/>
          </p:nvSpPr>
          <p:spPr>
            <a:xfrm>
              <a:off x="7855200" y="5264640"/>
              <a:ext cx="197640" cy="698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44" h="409">
                  <a:moveTo>
                    <a:pt x="933" y="193"/>
                  </a:moveTo>
                  <a:lnTo>
                    <a:pt x="971" y="223"/>
                  </a:lnTo>
                  <a:lnTo>
                    <a:pt x="1011" y="254"/>
                  </a:lnTo>
                  <a:lnTo>
                    <a:pt x="1053" y="283"/>
                  </a:lnTo>
                  <a:lnTo>
                    <a:pt x="1095" y="313"/>
                  </a:lnTo>
                  <a:lnTo>
                    <a:pt x="1137" y="341"/>
                  </a:lnTo>
                  <a:lnTo>
                    <a:pt x="1176" y="367"/>
                  </a:lnTo>
                  <a:lnTo>
                    <a:pt x="1213" y="389"/>
                  </a:lnTo>
                  <a:lnTo>
                    <a:pt x="1244" y="409"/>
                  </a:lnTo>
                  <a:lnTo>
                    <a:pt x="1065" y="401"/>
                  </a:lnTo>
                  <a:lnTo>
                    <a:pt x="1063" y="396"/>
                  </a:lnTo>
                  <a:lnTo>
                    <a:pt x="1060" y="393"/>
                  </a:lnTo>
                  <a:lnTo>
                    <a:pt x="1056" y="390"/>
                  </a:lnTo>
                  <a:lnTo>
                    <a:pt x="1051" y="389"/>
                  </a:lnTo>
                  <a:lnTo>
                    <a:pt x="1041" y="386"/>
                  </a:lnTo>
                  <a:lnTo>
                    <a:pt x="1028" y="384"/>
                  </a:lnTo>
                  <a:lnTo>
                    <a:pt x="998" y="384"/>
                  </a:lnTo>
                  <a:lnTo>
                    <a:pt x="964" y="383"/>
                  </a:lnTo>
                  <a:lnTo>
                    <a:pt x="945" y="382"/>
                  </a:lnTo>
                  <a:lnTo>
                    <a:pt x="926" y="377"/>
                  </a:lnTo>
                  <a:lnTo>
                    <a:pt x="917" y="375"/>
                  </a:lnTo>
                  <a:lnTo>
                    <a:pt x="908" y="372"/>
                  </a:lnTo>
                  <a:lnTo>
                    <a:pt x="898" y="367"/>
                  </a:lnTo>
                  <a:lnTo>
                    <a:pt x="890" y="362"/>
                  </a:lnTo>
                  <a:lnTo>
                    <a:pt x="881" y="356"/>
                  </a:lnTo>
                  <a:lnTo>
                    <a:pt x="873" y="349"/>
                  </a:lnTo>
                  <a:lnTo>
                    <a:pt x="863" y="341"/>
                  </a:lnTo>
                  <a:lnTo>
                    <a:pt x="856" y="333"/>
                  </a:lnTo>
                  <a:lnTo>
                    <a:pt x="848" y="323"/>
                  </a:lnTo>
                  <a:lnTo>
                    <a:pt x="840" y="312"/>
                  </a:lnTo>
                  <a:lnTo>
                    <a:pt x="833" y="299"/>
                  </a:lnTo>
                  <a:lnTo>
                    <a:pt x="827" y="285"/>
                  </a:lnTo>
                  <a:lnTo>
                    <a:pt x="815" y="279"/>
                  </a:lnTo>
                  <a:lnTo>
                    <a:pt x="806" y="272"/>
                  </a:lnTo>
                  <a:lnTo>
                    <a:pt x="799" y="266"/>
                  </a:lnTo>
                  <a:lnTo>
                    <a:pt x="793" y="259"/>
                  </a:lnTo>
                  <a:lnTo>
                    <a:pt x="784" y="247"/>
                  </a:lnTo>
                  <a:lnTo>
                    <a:pt x="777" y="235"/>
                  </a:lnTo>
                  <a:lnTo>
                    <a:pt x="775" y="229"/>
                  </a:lnTo>
                  <a:lnTo>
                    <a:pt x="771" y="223"/>
                  </a:lnTo>
                  <a:lnTo>
                    <a:pt x="768" y="219"/>
                  </a:lnTo>
                  <a:lnTo>
                    <a:pt x="763" y="215"/>
                  </a:lnTo>
                  <a:lnTo>
                    <a:pt x="758" y="212"/>
                  </a:lnTo>
                  <a:lnTo>
                    <a:pt x="751" y="209"/>
                  </a:lnTo>
                  <a:lnTo>
                    <a:pt x="744" y="208"/>
                  </a:lnTo>
                  <a:lnTo>
                    <a:pt x="735" y="207"/>
                  </a:lnTo>
                  <a:lnTo>
                    <a:pt x="723" y="209"/>
                  </a:lnTo>
                  <a:lnTo>
                    <a:pt x="713" y="209"/>
                  </a:lnTo>
                  <a:lnTo>
                    <a:pt x="702" y="208"/>
                  </a:lnTo>
                  <a:lnTo>
                    <a:pt x="692" y="205"/>
                  </a:lnTo>
                  <a:lnTo>
                    <a:pt x="668" y="195"/>
                  </a:lnTo>
                  <a:lnTo>
                    <a:pt x="639" y="184"/>
                  </a:lnTo>
                  <a:lnTo>
                    <a:pt x="622" y="178"/>
                  </a:lnTo>
                  <a:lnTo>
                    <a:pt x="601" y="172"/>
                  </a:lnTo>
                  <a:lnTo>
                    <a:pt x="577" y="168"/>
                  </a:lnTo>
                  <a:lnTo>
                    <a:pt x="549" y="165"/>
                  </a:lnTo>
                  <a:lnTo>
                    <a:pt x="518" y="164"/>
                  </a:lnTo>
                  <a:lnTo>
                    <a:pt x="481" y="164"/>
                  </a:lnTo>
                  <a:lnTo>
                    <a:pt x="440" y="165"/>
                  </a:lnTo>
                  <a:lnTo>
                    <a:pt x="395" y="170"/>
                  </a:lnTo>
                  <a:lnTo>
                    <a:pt x="370" y="168"/>
                  </a:lnTo>
                  <a:lnTo>
                    <a:pt x="354" y="167"/>
                  </a:lnTo>
                  <a:lnTo>
                    <a:pt x="341" y="168"/>
                  </a:lnTo>
                  <a:lnTo>
                    <a:pt x="330" y="168"/>
                  </a:lnTo>
                  <a:lnTo>
                    <a:pt x="317" y="170"/>
                  </a:lnTo>
                  <a:lnTo>
                    <a:pt x="297" y="168"/>
                  </a:lnTo>
                  <a:lnTo>
                    <a:pt x="270" y="166"/>
                  </a:lnTo>
                  <a:lnTo>
                    <a:pt x="230" y="161"/>
                  </a:lnTo>
                  <a:lnTo>
                    <a:pt x="220" y="160"/>
                  </a:lnTo>
                  <a:lnTo>
                    <a:pt x="209" y="160"/>
                  </a:lnTo>
                  <a:lnTo>
                    <a:pt x="199" y="161"/>
                  </a:lnTo>
                  <a:lnTo>
                    <a:pt x="191" y="164"/>
                  </a:lnTo>
                  <a:lnTo>
                    <a:pt x="182" y="166"/>
                  </a:lnTo>
                  <a:lnTo>
                    <a:pt x="174" y="170"/>
                  </a:lnTo>
                  <a:lnTo>
                    <a:pt x="167" y="174"/>
                  </a:lnTo>
                  <a:lnTo>
                    <a:pt x="160" y="178"/>
                  </a:lnTo>
                  <a:lnTo>
                    <a:pt x="137" y="198"/>
                  </a:lnTo>
                  <a:lnTo>
                    <a:pt x="117" y="215"/>
                  </a:lnTo>
                  <a:lnTo>
                    <a:pt x="112" y="217"/>
                  </a:lnTo>
                  <a:lnTo>
                    <a:pt x="108" y="221"/>
                  </a:lnTo>
                  <a:lnTo>
                    <a:pt x="103" y="223"/>
                  </a:lnTo>
                  <a:lnTo>
                    <a:pt x="97" y="224"/>
                  </a:lnTo>
                  <a:lnTo>
                    <a:pt x="91" y="224"/>
                  </a:lnTo>
                  <a:lnTo>
                    <a:pt x="85" y="223"/>
                  </a:lnTo>
                  <a:lnTo>
                    <a:pt x="80" y="222"/>
                  </a:lnTo>
                  <a:lnTo>
                    <a:pt x="74" y="219"/>
                  </a:lnTo>
                  <a:lnTo>
                    <a:pt x="67" y="214"/>
                  </a:lnTo>
                  <a:lnTo>
                    <a:pt x="59" y="209"/>
                  </a:lnTo>
                  <a:lnTo>
                    <a:pt x="50" y="201"/>
                  </a:lnTo>
                  <a:lnTo>
                    <a:pt x="42" y="193"/>
                  </a:lnTo>
                  <a:lnTo>
                    <a:pt x="22" y="170"/>
                  </a:lnTo>
                  <a:lnTo>
                    <a:pt x="0" y="138"/>
                  </a:lnTo>
                  <a:lnTo>
                    <a:pt x="942" y="0"/>
                  </a:lnTo>
                  <a:lnTo>
                    <a:pt x="1057" y="98"/>
                  </a:lnTo>
                  <a:lnTo>
                    <a:pt x="1025" y="110"/>
                  </a:lnTo>
                  <a:lnTo>
                    <a:pt x="995" y="124"/>
                  </a:lnTo>
                  <a:lnTo>
                    <a:pt x="983" y="131"/>
                  </a:lnTo>
                  <a:lnTo>
                    <a:pt x="971" y="138"/>
                  </a:lnTo>
                  <a:lnTo>
                    <a:pt x="961" y="144"/>
                  </a:lnTo>
                  <a:lnTo>
                    <a:pt x="952" y="151"/>
                  </a:lnTo>
                  <a:lnTo>
                    <a:pt x="944" y="158"/>
                  </a:lnTo>
                  <a:lnTo>
                    <a:pt x="938" y="164"/>
                  </a:lnTo>
                  <a:lnTo>
                    <a:pt x="933" y="170"/>
                  </a:lnTo>
                  <a:lnTo>
                    <a:pt x="930" y="175"/>
                  </a:lnTo>
                  <a:lnTo>
                    <a:pt x="928" y="180"/>
                  </a:lnTo>
                  <a:lnTo>
                    <a:pt x="928" y="185"/>
                  </a:lnTo>
                  <a:lnTo>
                    <a:pt x="930" y="189"/>
                  </a:lnTo>
                  <a:lnTo>
                    <a:pt x="933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Freeform 237"/>
            <p:cNvSpPr/>
            <p:nvPr/>
          </p:nvSpPr>
          <p:spPr>
            <a:xfrm>
              <a:off x="8012520" y="5141520"/>
              <a:ext cx="91440" cy="5076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73" h="294">
                  <a:moveTo>
                    <a:pt x="573" y="116"/>
                  </a:moveTo>
                  <a:lnTo>
                    <a:pt x="547" y="124"/>
                  </a:lnTo>
                  <a:lnTo>
                    <a:pt x="521" y="132"/>
                  </a:lnTo>
                  <a:lnTo>
                    <a:pt x="496" y="140"/>
                  </a:lnTo>
                  <a:lnTo>
                    <a:pt x="470" y="150"/>
                  </a:lnTo>
                  <a:lnTo>
                    <a:pt x="442" y="159"/>
                  </a:lnTo>
                  <a:lnTo>
                    <a:pt x="413" y="168"/>
                  </a:lnTo>
                  <a:lnTo>
                    <a:pt x="381" y="178"/>
                  </a:lnTo>
                  <a:lnTo>
                    <a:pt x="348" y="188"/>
                  </a:lnTo>
                  <a:lnTo>
                    <a:pt x="351" y="194"/>
                  </a:lnTo>
                  <a:lnTo>
                    <a:pt x="352" y="201"/>
                  </a:lnTo>
                  <a:lnTo>
                    <a:pt x="352" y="208"/>
                  </a:lnTo>
                  <a:lnTo>
                    <a:pt x="351" y="214"/>
                  </a:lnTo>
                  <a:lnTo>
                    <a:pt x="348" y="220"/>
                  </a:lnTo>
                  <a:lnTo>
                    <a:pt x="346" y="225"/>
                  </a:lnTo>
                  <a:lnTo>
                    <a:pt x="341" y="230"/>
                  </a:lnTo>
                  <a:lnTo>
                    <a:pt x="337" y="236"/>
                  </a:lnTo>
                  <a:lnTo>
                    <a:pt x="326" y="245"/>
                  </a:lnTo>
                  <a:lnTo>
                    <a:pt x="312" y="255"/>
                  </a:lnTo>
                  <a:lnTo>
                    <a:pt x="297" y="262"/>
                  </a:lnTo>
                  <a:lnTo>
                    <a:pt x="281" y="269"/>
                  </a:lnTo>
                  <a:lnTo>
                    <a:pt x="248" y="280"/>
                  </a:lnTo>
                  <a:lnTo>
                    <a:pt x="219" y="289"/>
                  </a:lnTo>
                  <a:lnTo>
                    <a:pt x="198" y="292"/>
                  </a:lnTo>
                  <a:lnTo>
                    <a:pt x="190" y="294"/>
                  </a:lnTo>
                  <a:lnTo>
                    <a:pt x="0" y="47"/>
                  </a:lnTo>
                  <a:lnTo>
                    <a:pt x="478" y="0"/>
                  </a:lnTo>
                  <a:lnTo>
                    <a:pt x="573" y="1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Freeform 238"/>
            <p:cNvSpPr/>
            <p:nvPr/>
          </p:nvSpPr>
          <p:spPr>
            <a:xfrm>
              <a:off x="5450040" y="4984920"/>
              <a:ext cx="420480" cy="3884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14755" h="12586">
                  <a:moveTo>
                    <a:pt x="10804" y="9205"/>
                  </a:moveTo>
                  <a:lnTo>
                    <a:pt x="10829" y="9193"/>
                  </a:lnTo>
                  <a:lnTo>
                    <a:pt x="10894" y="9163"/>
                  </a:lnTo>
                  <a:lnTo>
                    <a:pt x="10939" y="9144"/>
                  </a:lnTo>
                  <a:lnTo>
                    <a:pt x="10988" y="9123"/>
                  </a:lnTo>
                  <a:lnTo>
                    <a:pt x="11014" y="9113"/>
                  </a:lnTo>
                  <a:lnTo>
                    <a:pt x="11041" y="9104"/>
                  </a:lnTo>
                  <a:lnTo>
                    <a:pt x="11069" y="9095"/>
                  </a:lnTo>
                  <a:lnTo>
                    <a:pt x="11097" y="9087"/>
                  </a:lnTo>
                  <a:lnTo>
                    <a:pt x="11125" y="9079"/>
                  </a:lnTo>
                  <a:lnTo>
                    <a:pt x="11153" y="9072"/>
                  </a:lnTo>
                  <a:lnTo>
                    <a:pt x="11181" y="9067"/>
                  </a:lnTo>
                  <a:lnTo>
                    <a:pt x="11210" y="9063"/>
                  </a:lnTo>
                  <a:lnTo>
                    <a:pt x="11237" y="9060"/>
                  </a:lnTo>
                  <a:lnTo>
                    <a:pt x="11263" y="9058"/>
                  </a:lnTo>
                  <a:lnTo>
                    <a:pt x="11288" y="9059"/>
                  </a:lnTo>
                  <a:lnTo>
                    <a:pt x="11312" y="9061"/>
                  </a:lnTo>
                  <a:lnTo>
                    <a:pt x="11336" y="9065"/>
                  </a:lnTo>
                  <a:lnTo>
                    <a:pt x="11357" y="9072"/>
                  </a:lnTo>
                  <a:lnTo>
                    <a:pt x="11376" y="9081"/>
                  </a:lnTo>
                  <a:lnTo>
                    <a:pt x="11394" y="9092"/>
                  </a:lnTo>
                  <a:lnTo>
                    <a:pt x="11409" y="9106"/>
                  </a:lnTo>
                  <a:lnTo>
                    <a:pt x="11422" y="9123"/>
                  </a:lnTo>
                  <a:lnTo>
                    <a:pt x="11433" y="9144"/>
                  </a:lnTo>
                  <a:lnTo>
                    <a:pt x="11442" y="9167"/>
                  </a:lnTo>
                  <a:lnTo>
                    <a:pt x="11451" y="9193"/>
                  </a:lnTo>
                  <a:lnTo>
                    <a:pt x="11465" y="9223"/>
                  </a:lnTo>
                  <a:lnTo>
                    <a:pt x="11484" y="9257"/>
                  </a:lnTo>
                  <a:lnTo>
                    <a:pt x="11506" y="9292"/>
                  </a:lnTo>
                  <a:lnTo>
                    <a:pt x="11532" y="9330"/>
                  </a:lnTo>
                  <a:lnTo>
                    <a:pt x="11561" y="9371"/>
                  </a:lnTo>
                  <a:lnTo>
                    <a:pt x="11594" y="9414"/>
                  </a:lnTo>
                  <a:lnTo>
                    <a:pt x="11629" y="9458"/>
                  </a:lnTo>
                  <a:lnTo>
                    <a:pt x="11666" y="9505"/>
                  </a:lnTo>
                  <a:lnTo>
                    <a:pt x="11706" y="9552"/>
                  </a:lnTo>
                  <a:lnTo>
                    <a:pt x="11746" y="9600"/>
                  </a:lnTo>
                  <a:lnTo>
                    <a:pt x="11788" y="9649"/>
                  </a:lnTo>
                  <a:lnTo>
                    <a:pt x="11876" y="9747"/>
                  </a:lnTo>
                  <a:lnTo>
                    <a:pt x="11966" y="9843"/>
                  </a:lnTo>
                  <a:lnTo>
                    <a:pt x="12053" y="9938"/>
                  </a:lnTo>
                  <a:lnTo>
                    <a:pt x="12138" y="10027"/>
                  </a:lnTo>
                  <a:lnTo>
                    <a:pt x="12217" y="10108"/>
                  </a:lnTo>
                  <a:lnTo>
                    <a:pt x="12287" y="10179"/>
                  </a:lnTo>
                  <a:lnTo>
                    <a:pt x="12346" y="10239"/>
                  </a:lnTo>
                  <a:lnTo>
                    <a:pt x="12391" y="10284"/>
                  </a:lnTo>
                  <a:lnTo>
                    <a:pt x="12420" y="10312"/>
                  </a:lnTo>
                  <a:lnTo>
                    <a:pt x="12430" y="10322"/>
                  </a:lnTo>
                  <a:lnTo>
                    <a:pt x="13175" y="9774"/>
                  </a:lnTo>
                  <a:lnTo>
                    <a:pt x="14066" y="11645"/>
                  </a:lnTo>
                  <a:lnTo>
                    <a:pt x="14076" y="11683"/>
                  </a:lnTo>
                  <a:lnTo>
                    <a:pt x="14083" y="11716"/>
                  </a:lnTo>
                  <a:lnTo>
                    <a:pt x="14085" y="11732"/>
                  </a:lnTo>
                  <a:lnTo>
                    <a:pt x="14088" y="11747"/>
                  </a:lnTo>
                  <a:lnTo>
                    <a:pt x="14089" y="11761"/>
                  </a:lnTo>
                  <a:lnTo>
                    <a:pt x="14089" y="11776"/>
                  </a:lnTo>
                  <a:lnTo>
                    <a:pt x="14089" y="11790"/>
                  </a:lnTo>
                  <a:lnTo>
                    <a:pt x="14088" y="11803"/>
                  </a:lnTo>
                  <a:lnTo>
                    <a:pt x="14087" y="11816"/>
                  </a:lnTo>
                  <a:lnTo>
                    <a:pt x="14084" y="11829"/>
                  </a:lnTo>
                  <a:lnTo>
                    <a:pt x="14081" y="11841"/>
                  </a:lnTo>
                  <a:lnTo>
                    <a:pt x="14078" y="11853"/>
                  </a:lnTo>
                  <a:lnTo>
                    <a:pt x="14074" y="11866"/>
                  </a:lnTo>
                  <a:lnTo>
                    <a:pt x="14070" y="11878"/>
                  </a:lnTo>
                  <a:lnTo>
                    <a:pt x="14059" y="11904"/>
                  </a:lnTo>
                  <a:lnTo>
                    <a:pt x="14046" y="11929"/>
                  </a:lnTo>
                  <a:lnTo>
                    <a:pt x="14030" y="11956"/>
                  </a:lnTo>
                  <a:lnTo>
                    <a:pt x="14013" y="11984"/>
                  </a:lnTo>
                  <a:lnTo>
                    <a:pt x="13971" y="12049"/>
                  </a:lnTo>
                  <a:lnTo>
                    <a:pt x="13919" y="12125"/>
                  </a:lnTo>
                  <a:lnTo>
                    <a:pt x="13906" y="12148"/>
                  </a:lnTo>
                  <a:lnTo>
                    <a:pt x="13895" y="12170"/>
                  </a:lnTo>
                  <a:lnTo>
                    <a:pt x="13887" y="12192"/>
                  </a:lnTo>
                  <a:lnTo>
                    <a:pt x="13881" y="12213"/>
                  </a:lnTo>
                  <a:lnTo>
                    <a:pt x="13878" y="12234"/>
                  </a:lnTo>
                  <a:lnTo>
                    <a:pt x="13876" y="12256"/>
                  </a:lnTo>
                  <a:lnTo>
                    <a:pt x="13876" y="12277"/>
                  </a:lnTo>
                  <a:lnTo>
                    <a:pt x="13878" y="12297"/>
                  </a:lnTo>
                  <a:lnTo>
                    <a:pt x="13881" y="12317"/>
                  </a:lnTo>
                  <a:lnTo>
                    <a:pt x="13886" y="12337"/>
                  </a:lnTo>
                  <a:lnTo>
                    <a:pt x="13893" y="12356"/>
                  </a:lnTo>
                  <a:lnTo>
                    <a:pt x="13900" y="12375"/>
                  </a:lnTo>
                  <a:lnTo>
                    <a:pt x="13909" y="12394"/>
                  </a:lnTo>
                  <a:lnTo>
                    <a:pt x="13918" y="12411"/>
                  </a:lnTo>
                  <a:lnTo>
                    <a:pt x="13928" y="12428"/>
                  </a:lnTo>
                  <a:lnTo>
                    <a:pt x="13939" y="12444"/>
                  </a:lnTo>
                  <a:lnTo>
                    <a:pt x="13950" y="12460"/>
                  </a:lnTo>
                  <a:lnTo>
                    <a:pt x="13962" y="12475"/>
                  </a:lnTo>
                  <a:lnTo>
                    <a:pt x="13974" y="12490"/>
                  </a:lnTo>
                  <a:lnTo>
                    <a:pt x="13986" y="12503"/>
                  </a:lnTo>
                  <a:lnTo>
                    <a:pt x="14008" y="12527"/>
                  </a:lnTo>
                  <a:lnTo>
                    <a:pt x="14030" y="12548"/>
                  </a:lnTo>
                  <a:lnTo>
                    <a:pt x="14063" y="12576"/>
                  </a:lnTo>
                  <a:lnTo>
                    <a:pt x="14076" y="12586"/>
                  </a:lnTo>
                  <a:lnTo>
                    <a:pt x="14084" y="12577"/>
                  </a:lnTo>
                  <a:lnTo>
                    <a:pt x="14108" y="12552"/>
                  </a:lnTo>
                  <a:lnTo>
                    <a:pt x="14143" y="12513"/>
                  </a:lnTo>
                  <a:lnTo>
                    <a:pt x="14188" y="12461"/>
                  </a:lnTo>
                  <a:lnTo>
                    <a:pt x="14243" y="12399"/>
                  </a:lnTo>
                  <a:lnTo>
                    <a:pt x="14303" y="12329"/>
                  </a:lnTo>
                  <a:lnTo>
                    <a:pt x="14367" y="12253"/>
                  </a:lnTo>
                  <a:lnTo>
                    <a:pt x="14432" y="12173"/>
                  </a:lnTo>
                  <a:lnTo>
                    <a:pt x="14466" y="12132"/>
                  </a:lnTo>
                  <a:lnTo>
                    <a:pt x="14498" y="12090"/>
                  </a:lnTo>
                  <a:lnTo>
                    <a:pt x="14529" y="12049"/>
                  </a:lnTo>
                  <a:lnTo>
                    <a:pt x="14560" y="12007"/>
                  </a:lnTo>
                  <a:lnTo>
                    <a:pt x="14589" y="11967"/>
                  </a:lnTo>
                  <a:lnTo>
                    <a:pt x="14617" y="11927"/>
                  </a:lnTo>
                  <a:lnTo>
                    <a:pt x="14643" y="11888"/>
                  </a:lnTo>
                  <a:lnTo>
                    <a:pt x="14667" y="11850"/>
                  </a:lnTo>
                  <a:lnTo>
                    <a:pt x="14689" y="11815"/>
                  </a:lnTo>
                  <a:lnTo>
                    <a:pt x="14707" y="11781"/>
                  </a:lnTo>
                  <a:lnTo>
                    <a:pt x="14725" y="11748"/>
                  </a:lnTo>
                  <a:lnTo>
                    <a:pt x="14737" y="11718"/>
                  </a:lnTo>
                  <a:lnTo>
                    <a:pt x="14747" y="11691"/>
                  </a:lnTo>
                  <a:lnTo>
                    <a:pt x="14753" y="11666"/>
                  </a:lnTo>
                  <a:lnTo>
                    <a:pt x="14755" y="11644"/>
                  </a:lnTo>
                  <a:lnTo>
                    <a:pt x="14752" y="11626"/>
                  </a:lnTo>
                  <a:lnTo>
                    <a:pt x="14735" y="11614"/>
                  </a:lnTo>
                  <a:lnTo>
                    <a:pt x="14689" y="11581"/>
                  </a:lnTo>
                  <a:lnTo>
                    <a:pt x="14658" y="11556"/>
                  </a:lnTo>
                  <a:lnTo>
                    <a:pt x="14624" y="11525"/>
                  </a:lnTo>
                  <a:lnTo>
                    <a:pt x="14605" y="11508"/>
                  </a:lnTo>
                  <a:lnTo>
                    <a:pt x="14585" y="11489"/>
                  </a:lnTo>
                  <a:lnTo>
                    <a:pt x="14565" y="11470"/>
                  </a:lnTo>
                  <a:lnTo>
                    <a:pt x="14545" y="11449"/>
                  </a:lnTo>
                  <a:lnTo>
                    <a:pt x="14525" y="11426"/>
                  </a:lnTo>
                  <a:lnTo>
                    <a:pt x="14504" y="11402"/>
                  </a:lnTo>
                  <a:lnTo>
                    <a:pt x="14484" y="11377"/>
                  </a:lnTo>
                  <a:lnTo>
                    <a:pt x="14462" y="11351"/>
                  </a:lnTo>
                  <a:lnTo>
                    <a:pt x="14442" y="11324"/>
                  </a:lnTo>
                  <a:lnTo>
                    <a:pt x="14422" y="11295"/>
                  </a:lnTo>
                  <a:lnTo>
                    <a:pt x="14403" y="11264"/>
                  </a:lnTo>
                  <a:lnTo>
                    <a:pt x="14384" y="11233"/>
                  </a:lnTo>
                  <a:lnTo>
                    <a:pt x="14366" y="11201"/>
                  </a:lnTo>
                  <a:lnTo>
                    <a:pt x="14350" y="11167"/>
                  </a:lnTo>
                  <a:lnTo>
                    <a:pt x="14332" y="11132"/>
                  </a:lnTo>
                  <a:lnTo>
                    <a:pt x="14318" y="11096"/>
                  </a:lnTo>
                  <a:lnTo>
                    <a:pt x="14304" y="11059"/>
                  </a:lnTo>
                  <a:lnTo>
                    <a:pt x="14292" y="11020"/>
                  </a:lnTo>
                  <a:lnTo>
                    <a:pt x="14281" y="10981"/>
                  </a:lnTo>
                  <a:lnTo>
                    <a:pt x="14272" y="10940"/>
                  </a:lnTo>
                  <a:lnTo>
                    <a:pt x="14265" y="10923"/>
                  </a:lnTo>
                  <a:lnTo>
                    <a:pt x="14243" y="10875"/>
                  </a:lnTo>
                  <a:lnTo>
                    <a:pt x="14207" y="10800"/>
                  </a:lnTo>
                  <a:lnTo>
                    <a:pt x="14161" y="10704"/>
                  </a:lnTo>
                  <a:lnTo>
                    <a:pt x="14106" y="10588"/>
                  </a:lnTo>
                  <a:lnTo>
                    <a:pt x="14041" y="10458"/>
                  </a:lnTo>
                  <a:lnTo>
                    <a:pt x="13970" y="10317"/>
                  </a:lnTo>
                  <a:lnTo>
                    <a:pt x="13893" y="10171"/>
                  </a:lnTo>
                  <a:lnTo>
                    <a:pt x="13853" y="10097"/>
                  </a:lnTo>
                  <a:lnTo>
                    <a:pt x="13811" y="10023"/>
                  </a:lnTo>
                  <a:lnTo>
                    <a:pt x="13770" y="9949"/>
                  </a:lnTo>
                  <a:lnTo>
                    <a:pt x="13729" y="9877"/>
                  </a:lnTo>
                  <a:lnTo>
                    <a:pt x="13686" y="9806"/>
                  </a:lnTo>
                  <a:lnTo>
                    <a:pt x="13645" y="9738"/>
                  </a:lnTo>
                  <a:lnTo>
                    <a:pt x="13603" y="9672"/>
                  </a:lnTo>
                  <a:lnTo>
                    <a:pt x="13561" y="9608"/>
                  </a:lnTo>
                  <a:lnTo>
                    <a:pt x="13520" y="9550"/>
                  </a:lnTo>
                  <a:lnTo>
                    <a:pt x="13480" y="9496"/>
                  </a:lnTo>
                  <a:lnTo>
                    <a:pt x="13440" y="9445"/>
                  </a:lnTo>
                  <a:lnTo>
                    <a:pt x="13402" y="9400"/>
                  </a:lnTo>
                  <a:lnTo>
                    <a:pt x="13365" y="9361"/>
                  </a:lnTo>
                  <a:lnTo>
                    <a:pt x="13329" y="9328"/>
                  </a:lnTo>
                  <a:lnTo>
                    <a:pt x="13295" y="9303"/>
                  </a:lnTo>
                  <a:lnTo>
                    <a:pt x="13263" y="9284"/>
                  </a:lnTo>
                  <a:lnTo>
                    <a:pt x="13257" y="9287"/>
                  </a:lnTo>
                  <a:lnTo>
                    <a:pt x="13240" y="9296"/>
                  </a:lnTo>
                  <a:lnTo>
                    <a:pt x="13213" y="9308"/>
                  </a:lnTo>
                  <a:lnTo>
                    <a:pt x="13176" y="9325"/>
                  </a:lnTo>
                  <a:lnTo>
                    <a:pt x="13132" y="9345"/>
                  </a:lnTo>
                  <a:lnTo>
                    <a:pt x="13081" y="9367"/>
                  </a:lnTo>
                  <a:lnTo>
                    <a:pt x="13023" y="9392"/>
                  </a:lnTo>
                  <a:lnTo>
                    <a:pt x="12961" y="9416"/>
                  </a:lnTo>
                  <a:lnTo>
                    <a:pt x="12894" y="9441"/>
                  </a:lnTo>
                  <a:lnTo>
                    <a:pt x="12824" y="9465"/>
                  </a:lnTo>
                  <a:lnTo>
                    <a:pt x="12789" y="9476"/>
                  </a:lnTo>
                  <a:lnTo>
                    <a:pt x="12753" y="9487"/>
                  </a:lnTo>
                  <a:lnTo>
                    <a:pt x="12717" y="9498"/>
                  </a:lnTo>
                  <a:lnTo>
                    <a:pt x="12680" y="9508"/>
                  </a:lnTo>
                  <a:lnTo>
                    <a:pt x="12644" y="9516"/>
                  </a:lnTo>
                  <a:lnTo>
                    <a:pt x="12608" y="9524"/>
                  </a:lnTo>
                  <a:lnTo>
                    <a:pt x="12572" y="9531"/>
                  </a:lnTo>
                  <a:lnTo>
                    <a:pt x="12536" y="9537"/>
                  </a:lnTo>
                  <a:lnTo>
                    <a:pt x="12502" y="9542"/>
                  </a:lnTo>
                  <a:lnTo>
                    <a:pt x="12468" y="9546"/>
                  </a:lnTo>
                  <a:lnTo>
                    <a:pt x="12433" y="9548"/>
                  </a:lnTo>
                  <a:lnTo>
                    <a:pt x="12401" y="9549"/>
                  </a:lnTo>
                  <a:lnTo>
                    <a:pt x="12391" y="9540"/>
                  </a:lnTo>
                  <a:lnTo>
                    <a:pt x="12361" y="9514"/>
                  </a:lnTo>
                  <a:lnTo>
                    <a:pt x="12313" y="9472"/>
                  </a:lnTo>
                  <a:lnTo>
                    <a:pt x="12252" y="9419"/>
                  </a:lnTo>
                  <a:lnTo>
                    <a:pt x="12177" y="9355"/>
                  </a:lnTo>
                  <a:lnTo>
                    <a:pt x="12092" y="9284"/>
                  </a:lnTo>
                  <a:lnTo>
                    <a:pt x="11999" y="9205"/>
                  </a:lnTo>
                  <a:lnTo>
                    <a:pt x="11899" y="9123"/>
                  </a:lnTo>
                  <a:lnTo>
                    <a:pt x="11795" y="9040"/>
                  </a:lnTo>
                  <a:lnTo>
                    <a:pt x="11690" y="8957"/>
                  </a:lnTo>
                  <a:lnTo>
                    <a:pt x="11638" y="8916"/>
                  </a:lnTo>
                  <a:lnTo>
                    <a:pt x="11586" y="8876"/>
                  </a:lnTo>
                  <a:lnTo>
                    <a:pt x="11534" y="8837"/>
                  </a:lnTo>
                  <a:lnTo>
                    <a:pt x="11484" y="8801"/>
                  </a:lnTo>
                  <a:lnTo>
                    <a:pt x="11434" y="8764"/>
                  </a:lnTo>
                  <a:lnTo>
                    <a:pt x="11387" y="8731"/>
                  </a:lnTo>
                  <a:lnTo>
                    <a:pt x="11341" y="8700"/>
                  </a:lnTo>
                  <a:lnTo>
                    <a:pt x="11296" y="8672"/>
                  </a:lnTo>
                  <a:lnTo>
                    <a:pt x="11255" y="8645"/>
                  </a:lnTo>
                  <a:lnTo>
                    <a:pt x="11216" y="8623"/>
                  </a:lnTo>
                  <a:lnTo>
                    <a:pt x="11180" y="8604"/>
                  </a:lnTo>
                  <a:lnTo>
                    <a:pt x="11147" y="8588"/>
                  </a:lnTo>
                  <a:lnTo>
                    <a:pt x="10736" y="8509"/>
                  </a:lnTo>
                  <a:lnTo>
                    <a:pt x="13782" y="1660"/>
                  </a:lnTo>
                  <a:lnTo>
                    <a:pt x="13780" y="1656"/>
                  </a:lnTo>
                  <a:lnTo>
                    <a:pt x="13771" y="1646"/>
                  </a:lnTo>
                  <a:lnTo>
                    <a:pt x="13757" y="1632"/>
                  </a:lnTo>
                  <a:lnTo>
                    <a:pt x="13737" y="1613"/>
                  </a:lnTo>
                  <a:lnTo>
                    <a:pt x="13725" y="1603"/>
                  </a:lnTo>
                  <a:lnTo>
                    <a:pt x="13710" y="1591"/>
                  </a:lnTo>
                  <a:lnTo>
                    <a:pt x="13694" y="1580"/>
                  </a:lnTo>
                  <a:lnTo>
                    <a:pt x="13676" y="1568"/>
                  </a:lnTo>
                  <a:lnTo>
                    <a:pt x="13657" y="1557"/>
                  </a:lnTo>
                  <a:lnTo>
                    <a:pt x="13636" y="1545"/>
                  </a:lnTo>
                  <a:lnTo>
                    <a:pt x="13613" y="1534"/>
                  </a:lnTo>
                  <a:lnTo>
                    <a:pt x="13588" y="1524"/>
                  </a:lnTo>
                  <a:lnTo>
                    <a:pt x="13560" y="1514"/>
                  </a:lnTo>
                  <a:lnTo>
                    <a:pt x="13532" y="1505"/>
                  </a:lnTo>
                  <a:lnTo>
                    <a:pt x="13501" y="1497"/>
                  </a:lnTo>
                  <a:lnTo>
                    <a:pt x="13468" y="1489"/>
                  </a:lnTo>
                  <a:lnTo>
                    <a:pt x="13433" y="1483"/>
                  </a:lnTo>
                  <a:lnTo>
                    <a:pt x="13396" y="1478"/>
                  </a:lnTo>
                  <a:lnTo>
                    <a:pt x="13357" y="1475"/>
                  </a:lnTo>
                  <a:lnTo>
                    <a:pt x="13315" y="1473"/>
                  </a:lnTo>
                  <a:lnTo>
                    <a:pt x="13272" y="1474"/>
                  </a:lnTo>
                  <a:lnTo>
                    <a:pt x="13226" y="1476"/>
                  </a:lnTo>
                  <a:lnTo>
                    <a:pt x="13177" y="1482"/>
                  </a:lnTo>
                  <a:lnTo>
                    <a:pt x="13127" y="1489"/>
                  </a:lnTo>
                  <a:lnTo>
                    <a:pt x="13074" y="1498"/>
                  </a:lnTo>
                  <a:lnTo>
                    <a:pt x="13019" y="1510"/>
                  </a:lnTo>
                  <a:lnTo>
                    <a:pt x="12961" y="1525"/>
                  </a:lnTo>
                  <a:lnTo>
                    <a:pt x="12901" y="1542"/>
                  </a:lnTo>
                  <a:lnTo>
                    <a:pt x="12894" y="1542"/>
                  </a:lnTo>
                  <a:lnTo>
                    <a:pt x="12873" y="1542"/>
                  </a:lnTo>
                  <a:lnTo>
                    <a:pt x="12841" y="1541"/>
                  </a:lnTo>
                  <a:lnTo>
                    <a:pt x="12798" y="1538"/>
                  </a:lnTo>
                  <a:lnTo>
                    <a:pt x="12747" y="1535"/>
                  </a:lnTo>
                  <a:lnTo>
                    <a:pt x="12688" y="1530"/>
                  </a:lnTo>
                  <a:lnTo>
                    <a:pt x="12624" y="1523"/>
                  </a:lnTo>
                  <a:lnTo>
                    <a:pt x="12554" y="1513"/>
                  </a:lnTo>
                  <a:lnTo>
                    <a:pt x="12518" y="1507"/>
                  </a:lnTo>
                  <a:lnTo>
                    <a:pt x="12482" y="1501"/>
                  </a:lnTo>
                  <a:lnTo>
                    <a:pt x="12444" y="1493"/>
                  </a:lnTo>
                  <a:lnTo>
                    <a:pt x="12407" y="1485"/>
                  </a:lnTo>
                  <a:lnTo>
                    <a:pt x="12370" y="1475"/>
                  </a:lnTo>
                  <a:lnTo>
                    <a:pt x="12334" y="1465"/>
                  </a:lnTo>
                  <a:lnTo>
                    <a:pt x="12296" y="1455"/>
                  </a:lnTo>
                  <a:lnTo>
                    <a:pt x="12260" y="1443"/>
                  </a:lnTo>
                  <a:lnTo>
                    <a:pt x="12225" y="1430"/>
                  </a:lnTo>
                  <a:lnTo>
                    <a:pt x="12189" y="1416"/>
                  </a:lnTo>
                  <a:lnTo>
                    <a:pt x="12156" y="1401"/>
                  </a:lnTo>
                  <a:lnTo>
                    <a:pt x="12124" y="1385"/>
                  </a:lnTo>
                  <a:lnTo>
                    <a:pt x="12093" y="1368"/>
                  </a:lnTo>
                  <a:lnTo>
                    <a:pt x="12062" y="1348"/>
                  </a:lnTo>
                  <a:lnTo>
                    <a:pt x="12035" y="1328"/>
                  </a:lnTo>
                  <a:lnTo>
                    <a:pt x="12009" y="1307"/>
                  </a:lnTo>
                  <a:lnTo>
                    <a:pt x="11983" y="1306"/>
                  </a:lnTo>
                  <a:lnTo>
                    <a:pt x="11911" y="1301"/>
                  </a:lnTo>
                  <a:lnTo>
                    <a:pt x="11864" y="1297"/>
                  </a:lnTo>
                  <a:lnTo>
                    <a:pt x="11810" y="1291"/>
                  </a:lnTo>
                  <a:lnTo>
                    <a:pt x="11782" y="1287"/>
                  </a:lnTo>
                  <a:lnTo>
                    <a:pt x="11753" y="1282"/>
                  </a:lnTo>
                  <a:lnTo>
                    <a:pt x="11724" y="1277"/>
                  </a:lnTo>
                  <a:lnTo>
                    <a:pt x="11695" y="1270"/>
                  </a:lnTo>
                  <a:lnTo>
                    <a:pt x="11665" y="1264"/>
                  </a:lnTo>
                  <a:lnTo>
                    <a:pt x="11636" y="1256"/>
                  </a:lnTo>
                  <a:lnTo>
                    <a:pt x="11607" y="1248"/>
                  </a:lnTo>
                  <a:lnTo>
                    <a:pt x="11579" y="1238"/>
                  </a:lnTo>
                  <a:lnTo>
                    <a:pt x="11550" y="1228"/>
                  </a:lnTo>
                  <a:lnTo>
                    <a:pt x="11524" y="1216"/>
                  </a:lnTo>
                  <a:lnTo>
                    <a:pt x="11500" y="1204"/>
                  </a:lnTo>
                  <a:lnTo>
                    <a:pt x="11476" y="1191"/>
                  </a:lnTo>
                  <a:lnTo>
                    <a:pt x="11455" y="1177"/>
                  </a:lnTo>
                  <a:lnTo>
                    <a:pt x="11434" y="1162"/>
                  </a:lnTo>
                  <a:lnTo>
                    <a:pt x="11417" y="1145"/>
                  </a:lnTo>
                  <a:lnTo>
                    <a:pt x="11403" y="1127"/>
                  </a:lnTo>
                  <a:lnTo>
                    <a:pt x="11390" y="1107"/>
                  </a:lnTo>
                  <a:lnTo>
                    <a:pt x="11381" y="1087"/>
                  </a:lnTo>
                  <a:lnTo>
                    <a:pt x="11375" y="1066"/>
                  </a:lnTo>
                  <a:lnTo>
                    <a:pt x="11373" y="1043"/>
                  </a:lnTo>
                  <a:lnTo>
                    <a:pt x="11362" y="1036"/>
                  </a:lnTo>
                  <a:lnTo>
                    <a:pt x="11331" y="1019"/>
                  </a:lnTo>
                  <a:lnTo>
                    <a:pt x="11308" y="1008"/>
                  </a:lnTo>
                  <a:lnTo>
                    <a:pt x="11282" y="994"/>
                  </a:lnTo>
                  <a:lnTo>
                    <a:pt x="11253" y="981"/>
                  </a:lnTo>
                  <a:lnTo>
                    <a:pt x="11221" y="966"/>
                  </a:lnTo>
                  <a:lnTo>
                    <a:pt x="11185" y="952"/>
                  </a:lnTo>
                  <a:lnTo>
                    <a:pt x="11148" y="937"/>
                  </a:lnTo>
                  <a:lnTo>
                    <a:pt x="11108" y="923"/>
                  </a:lnTo>
                  <a:lnTo>
                    <a:pt x="11067" y="910"/>
                  </a:lnTo>
                  <a:lnTo>
                    <a:pt x="11024" y="899"/>
                  </a:lnTo>
                  <a:lnTo>
                    <a:pt x="10981" y="889"/>
                  </a:lnTo>
                  <a:lnTo>
                    <a:pt x="10959" y="885"/>
                  </a:lnTo>
                  <a:lnTo>
                    <a:pt x="10937" y="881"/>
                  </a:lnTo>
                  <a:lnTo>
                    <a:pt x="10914" y="878"/>
                  </a:lnTo>
                  <a:lnTo>
                    <a:pt x="10892" y="875"/>
                  </a:lnTo>
                  <a:lnTo>
                    <a:pt x="10875" y="865"/>
                  </a:lnTo>
                  <a:lnTo>
                    <a:pt x="10830" y="839"/>
                  </a:lnTo>
                  <a:lnTo>
                    <a:pt x="10798" y="823"/>
                  </a:lnTo>
                  <a:lnTo>
                    <a:pt x="10762" y="805"/>
                  </a:lnTo>
                  <a:lnTo>
                    <a:pt x="10724" y="786"/>
                  </a:lnTo>
                  <a:lnTo>
                    <a:pt x="10681" y="768"/>
                  </a:lnTo>
                  <a:lnTo>
                    <a:pt x="10660" y="759"/>
                  </a:lnTo>
                  <a:lnTo>
                    <a:pt x="10639" y="751"/>
                  </a:lnTo>
                  <a:lnTo>
                    <a:pt x="10618" y="744"/>
                  </a:lnTo>
                  <a:lnTo>
                    <a:pt x="10596" y="737"/>
                  </a:lnTo>
                  <a:lnTo>
                    <a:pt x="10575" y="731"/>
                  </a:lnTo>
                  <a:lnTo>
                    <a:pt x="10553" y="726"/>
                  </a:lnTo>
                  <a:lnTo>
                    <a:pt x="10532" y="722"/>
                  </a:lnTo>
                  <a:lnTo>
                    <a:pt x="10512" y="719"/>
                  </a:lnTo>
                  <a:lnTo>
                    <a:pt x="10493" y="717"/>
                  </a:lnTo>
                  <a:lnTo>
                    <a:pt x="10474" y="716"/>
                  </a:lnTo>
                  <a:lnTo>
                    <a:pt x="10456" y="717"/>
                  </a:lnTo>
                  <a:lnTo>
                    <a:pt x="10439" y="720"/>
                  </a:lnTo>
                  <a:lnTo>
                    <a:pt x="10422" y="724"/>
                  </a:lnTo>
                  <a:lnTo>
                    <a:pt x="10408" y="730"/>
                  </a:lnTo>
                  <a:lnTo>
                    <a:pt x="10395" y="738"/>
                  </a:lnTo>
                  <a:lnTo>
                    <a:pt x="10383" y="748"/>
                  </a:lnTo>
                  <a:lnTo>
                    <a:pt x="10373" y="759"/>
                  </a:lnTo>
                  <a:lnTo>
                    <a:pt x="10364" y="773"/>
                  </a:lnTo>
                  <a:lnTo>
                    <a:pt x="10356" y="786"/>
                  </a:lnTo>
                  <a:lnTo>
                    <a:pt x="10350" y="799"/>
                  </a:lnTo>
                  <a:lnTo>
                    <a:pt x="10344" y="813"/>
                  </a:lnTo>
                  <a:lnTo>
                    <a:pt x="10339" y="828"/>
                  </a:lnTo>
                  <a:lnTo>
                    <a:pt x="10335" y="843"/>
                  </a:lnTo>
                  <a:lnTo>
                    <a:pt x="10332" y="858"/>
                  </a:lnTo>
                  <a:lnTo>
                    <a:pt x="10327" y="890"/>
                  </a:lnTo>
                  <a:lnTo>
                    <a:pt x="10324" y="921"/>
                  </a:lnTo>
                  <a:lnTo>
                    <a:pt x="10321" y="952"/>
                  </a:lnTo>
                  <a:lnTo>
                    <a:pt x="10317" y="981"/>
                  </a:lnTo>
                  <a:lnTo>
                    <a:pt x="10315" y="995"/>
                  </a:lnTo>
                  <a:lnTo>
                    <a:pt x="10313" y="1009"/>
                  </a:lnTo>
                  <a:lnTo>
                    <a:pt x="10310" y="1022"/>
                  </a:lnTo>
                  <a:lnTo>
                    <a:pt x="10307" y="1033"/>
                  </a:lnTo>
                  <a:lnTo>
                    <a:pt x="10301" y="1044"/>
                  </a:lnTo>
                  <a:lnTo>
                    <a:pt x="10297" y="1054"/>
                  </a:lnTo>
                  <a:lnTo>
                    <a:pt x="10291" y="1063"/>
                  </a:lnTo>
                  <a:lnTo>
                    <a:pt x="10284" y="1071"/>
                  </a:lnTo>
                  <a:lnTo>
                    <a:pt x="10275" y="1077"/>
                  </a:lnTo>
                  <a:lnTo>
                    <a:pt x="10266" y="1083"/>
                  </a:lnTo>
                  <a:lnTo>
                    <a:pt x="10255" y="1086"/>
                  </a:lnTo>
                  <a:lnTo>
                    <a:pt x="10243" y="1089"/>
                  </a:lnTo>
                  <a:lnTo>
                    <a:pt x="10230" y="1090"/>
                  </a:lnTo>
                  <a:lnTo>
                    <a:pt x="10214" y="1089"/>
                  </a:lnTo>
                  <a:lnTo>
                    <a:pt x="10197" y="1086"/>
                  </a:lnTo>
                  <a:lnTo>
                    <a:pt x="10177" y="1081"/>
                  </a:lnTo>
                  <a:lnTo>
                    <a:pt x="10157" y="1075"/>
                  </a:lnTo>
                  <a:lnTo>
                    <a:pt x="10137" y="1067"/>
                  </a:lnTo>
                  <a:lnTo>
                    <a:pt x="10119" y="1059"/>
                  </a:lnTo>
                  <a:lnTo>
                    <a:pt x="10101" y="1050"/>
                  </a:lnTo>
                  <a:lnTo>
                    <a:pt x="10085" y="1040"/>
                  </a:lnTo>
                  <a:lnTo>
                    <a:pt x="10069" y="1029"/>
                  </a:lnTo>
                  <a:lnTo>
                    <a:pt x="10053" y="1018"/>
                  </a:lnTo>
                  <a:lnTo>
                    <a:pt x="10038" y="1006"/>
                  </a:lnTo>
                  <a:lnTo>
                    <a:pt x="10024" y="993"/>
                  </a:lnTo>
                  <a:lnTo>
                    <a:pt x="10011" y="981"/>
                  </a:lnTo>
                  <a:lnTo>
                    <a:pt x="9998" y="967"/>
                  </a:lnTo>
                  <a:lnTo>
                    <a:pt x="9985" y="954"/>
                  </a:lnTo>
                  <a:lnTo>
                    <a:pt x="9960" y="925"/>
                  </a:lnTo>
                  <a:lnTo>
                    <a:pt x="9935" y="896"/>
                  </a:lnTo>
                  <a:lnTo>
                    <a:pt x="9910" y="864"/>
                  </a:lnTo>
                  <a:lnTo>
                    <a:pt x="9884" y="833"/>
                  </a:lnTo>
                  <a:lnTo>
                    <a:pt x="9857" y="802"/>
                  </a:lnTo>
                  <a:lnTo>
                    <a:pt x="9828" y="771"/>
                  </a:lnTo>
                  <a:lnTo>
                    <a:pt x="9812" y="754"/>
                  </a:lnTo>
                  <a:lnTo>
                    <a:pt x="9795" y="739"/>
                  </a:lnTo>
                  <a:lnTo>
                    <a:pt x="9778" y="723"/>
                  </a:lnTo>
                  <a:lnTo>
                    <a:pt x="9760" y="708"/>
                  </a:lnTo>
                  <a:lnTo>
                    <a:pt x="9741" y="694"/>
                  </a:lnTo>
                  <a:lnTo>
                    <a:pt x="9721" y="679"/>
                  </a:lnTo>
                  <a:lnTo>
                    <a:pt x="9700" y="665"/>
                  </a:lnTo>
                  <a:lnTo>
                    <a:pt x="9678" y="651"/>
                  </a:lnTo>
                  <a:lnTo>
                    <a:pt x="9627" y="621"/>
                  </a:lnTo>
                  <a:lnTo>
                    <a:pt x="9568" y="588"/>
                  </a:lnTo>
                  <a:lnTo>
                    <a:pt x="9502" y="554"/>
                  </a:lnTo>
                  <a:lnTo>
                    <a:pt x="9431" y="516"/>
                  </a:lnTo>
                  <a:lnTo>
                    <a:pt x="9356" y="478"/>
                  </a:lnTo>
                  <a:lnTo>
                    <a:pt x="9279" y="440"/>
                  </a:lnTo>
                  <a:lnTo>
                    <a:pt x="9202" y="403"/>
                  </a:lnTo>
                  <a:lnTo>
                    <a:pt x="9125" y="365"/>
                  </a:lnTo>
                  <a:lnTo>
                    <a:pt x="9053" y="330"/>
                  </a:lnTo>
                  <a:lnTo>
                    <a:pt x="8984" y="297"/>
                  </a:lnTo>
                  <a:lnTo>
                    <a:pt x="8922" y="267"/>
                  </a:lnTo>
                  <a:lnTo>
                    <a:pt x="8866" y="241"/>
                  </a:lnTo>
                  <a:lnTo>
                    <a:pt x="8821" y="220"/>
                  </a:lnTo>
                  <a:lnTo>
                    <a:pt x="8786" y="204"/>
                  </a:lnTo>
                  <a:lnTo>
                    <a:pt x="8764" y="194"/>
                  </a:lnTo>
                  <a:lnTo>
                    <a:pt x="8757" y="190"/>
                  </a:lnTo>
                  <a:lnTo>
                    <a:pt x="8751" y="186"/>
                  </a:lnTo>
                  <a:lnTo>
                    <a:pt x="8735" y="176"/>
                  </a:lnTo>
                  <a:lnTo>
                    <a:pt x="8708" y="159"/>
                  </a:lnTo>
                  <a:lnTo>
                    <a:pt x="8670" y="140"/>
                  </a:lnTo>
                  <a:lnTo>
                    <a:pt x="8646" y="129"/>
                  </a:lnTo>
                  <a:lnTo>
                    <a:pt x="8620" y="117"/>
                  </a:lnTo>
                  <a:lnTo>
                    <a:pt x="8591" y="106"/>
                  </a:lnTo>
                  <a:lnTo>
                    <a:pt x="8560" y="94"/>
                  </a:lnTo>
                  <a:lnTo>
                    <a:pt x="8525" y="82"/>
                  </a:lnTo>
                  <a:lnTo>
                    <a:pt x="8489" y="70"/>
                  </a:lnTo>
                  <a:lnTo>
                    <a:pt x="8449" y="59"/>
                  </a:lnTo>
                  <a:lnTo>
                    <a:pt x="8406" y="48"/>
                  </a:lnTo>
                  <a:lnTo>
                    <a:pt x="8362" y="37"/>
                  </a:lnTo>
                  <a:lnTo>
                    <a:pt x="8315" y="28"/>
                  </a:lnTo>
                  <a:lnTo>
                    <a:pt x="8264" y="20"/>
                  </a:lnTo>
                  <a:lnTo>
                    <a:pt x="8211" y="13"/>
                  </a:lnTo>
                  <a:lnTo>
                    <a:pt x="8155" y="7"/>
                  </a:lnTo>
                  <a:lnTo>
                    <a:pt x="8097" y="3"/>
                  </a:lnTo>
                  <a:lnTo>
                    <a:pt x="8035" y="0"/>
                  </a:lnTo>
                  <a:lnTo>
                    <a:pt x="7972" y="0"/>
                  </a:lnTo>
                  <a:lnTo>
                    <a:pt x="7905" y="1"/>
                  </a:lnTo>
                  <a:lnTo>
                    <a:pt x="7836" y="5"/>
                  </a:lnTo>
                  <a:lnTo>
                    <a:pt x="7764" y="10"/>
                  </a:lnTo>
                  <a:lnTo>
                    <a:pt x="7690" y="19"/>
                  </a:lnTo>
                  <a:lnTo>
                    <a:pt x="7613" y="30"/>
                  </a:lnTo>
                  <a:lnTo>
                    <a:pt x="7533" y="45"/>
                  </a:lnTo>
                  <a:lnTo>
                    <a:pt x="7451" y="62"/>
                  </a:lnTo>
                  <a:lnTo>
                    <a:pt x="7366" y="82"/>
                  </a:lnTo>
                  <a:lnTo>
                    <a:pt x="7284" y="103"/>
                  </a:lnTo>
                  <a:lnTo>
                    <a:pt x="7207" y="121"/>
                  </a:lnTo>
                  <a:lnTo>
                    <a:pt x="7136" y="138"/>
                  </a:lnTo>
                  <a:lnTo>
                    <a:pt x="7071" y="152"/>
                  </a:lnTo>
                  <a:lnTo>
                    <a:pt x="7010" y="166"/>
                  </a:lnTo>
                  <a:lnTo>
                    <a:pt x="6954" y="176"/>
                  </a:lnTo>
                  <a:lnTo>
                    <a:pt x="6902" y="185"/>
                  </a:lnTo>
                  <a:lnTo>
                    <a:pt x="6856" y="193"/>
                  </a:lnTo>
                  <a:lnTo>
                    <a:pt x="6813" y="198"/>
                  </a:lnTo>
                  <a:lnTo>
                    <a:pt x="6773" y="203"/>
                  </a:lnTo>
                  <a:lnTo>
                    <a:pt x="6737" y="206"/>
                  </a:lnTo>
                  <a:lnTo>
                    <a:pt x="6704" y="208"/>
                  </a:lnTo>
                  <a:lnTo>
                    <a:pt x="6674" y="209"/>
                  </a:lnTo>
                  <a:lnTo>
                    <a:pt x="6645" y="209"/>
                  </a:lnTo>
                  <a:lnTo>
                    <a:pt x="6620" y="209"/>
                  </a:lnTo>
                  <a:lnTo>
                    <a:pt x="6597" y="207"/>
                  </a:lnTo>
                  <a:lnTo>
                    <a:pt x="6575" y="205"/>
                  </a:lnTo>
                  <a:lnTo>
                    <a:pt x="6555" y="202"/>
                  </a:lnTo>
                  <a:lnTo>
                    <a:pt x="6536" y="199"/>
                  </a:lnTo>
                  <a:lnTo>
                    <a:pt x="6517" y="196"/>
                  </a:lnTo>
                  <a:lnTo>
                    <a:pt x="6483" y="189"/>
                  </a:lnTo>
                  <a:lnTo>
                    <a:pt x="6449" y="182"/>
                  </a:lnTo>
                  <a:lnTo>
                    <a:pt x="6431" y="178"/>
                  </a:lnTo>
                  <a:lnTo>
                    <a:pt x="6413" y="175"/>
                  </a:lnTo>
                  <a:lnTo>
                    <a:pt x="6392" y="173"/>
                  </a:lnTo>
                  <a:lnTo>
                    <a:pt x="6371" y="171"/>
                  </a:lnTo>
                  <a:lnTo>
                    <a:pt x="6349" y="170"/>
                  </a:lnTo>
                  <a:lnTo>
                    <a:pt x="6325" y="169"/>
                  </a:lnTo>
                  <a:lnTo>
                    <a:pt x="6298" y="169"/>
                  </a:lnTo>
                  <a:lnTo>
                    <a:pt x="6268" y="171"/>
                  </a:lnTo>
                  <a:lnTo>
                    <a:pt x="6209" y="175"/>
                  </a:lnTo>
                  <a:lnTo>
                    <a:pt x="6147" y="182"/>
                  </a:lnTo>
                  <a:lnTo>
                    <a:pt x="6084" y="190"/>
                  </a:lnTo>
                  <a:lnTo>
                    <a:pt x="6019" y="200"/>
                  </a:lnTo>
                  <a:lnTo>
                    <a:pt x="5987" y="206"/>
                  </a:lnTo>
                  <a:lnTo>
                    <a:pt x="5955" y="213"/>
                  </a:lnTo>
                  <a:lnTo>
                    <a:pt x="5923" y="219"/>
                  </a:lnTo>
                  <a:lnTo>
                    <a:pt x="5890" y="227"/>
                  </a:lnTo>
                  <a:lnTo>
                    <a:pt x="5858" y="235"/>
                  </a:lnTo>
                  <a:lnTo>
                    <a:pt x="5827" y="243"/>
                  </a:lnTo>
                  <a:lnTo>
                    <a:pt x="5796" y="252"/>
                  </a:lnTo>
                  <a:lnTo>
                    <a:pt x="5764" y="262"/>
                  </a:lnTo>
                  <a:lnTo>
                    <a:pt x="5734" y="272"/>
                  </a:lnTo>
                  <a:lnTo>
                    <a:pt x="5704" y="284"/>
                  </a:lnTo>
                  <a:lnTo>
                    <a:pt x="5675" y="295"/>
                  </a:lnTo>
                  <a:lnTo>
                    <a:pt x="5646" y="306"/>
                  </a:lnTo>
                  <a:lnTo>
                    <a:pt x="5617" y="319"/>
                  </a:lnTo>
                  <a:lnTo>
                    <a:pt x="5590" y="331"/>
                  </a:lnTo>
                  <a:lnTo>
                    <a:pt x="5564" y="345"/>
                  </a:lnTo>
                  <a:lnTo>
                    <a:pt x="5539" y="359"/>
                  </a:lnTo>
                  <a:lnTo>
                    <a:pt x="5514" y="373"/>
                  </a:lnTo>
                  <a:lnTo>
                    <a:pt x="5491" y="389"/>
                  </a:lnTo>
                  <a:lnTo>
                    <a:pt x="5469" y="405"/>
                  </a:lnTo>
                  <a:lnTo>
                    <a:pt x="5448" y="422"/>
                  </a:lnTo>
                  <a:lnTo>
                    <a:pt x="5428" y="439"/>
                  </a:lnTo>
                  <a:lnTo>
                    <a:pt x="5410" y="456"/>
                  </a:lnTo>
                  <a:lnTo>
                    <a:pt x="5393" y="475"/>
                  </a:lnTo>
                  <a:lnTo>
                    <a:pt x="5377" y="493"/>
                  </a:lnTo>
                  <a:lnTo>
                    <a:pt x="5361" y="514"/>
                  </a:lnTo>
                  <a:lnTo>
                    <a:pt x="5340" y="539"/>
                  </a:lnTo>
                  <a:lnTo>
                    <a:pt x="5315" y="567"/>
                  </a:lnTo>
                  <a:lnTo>
                    <a:pt x="5285" y="597"/>
                  </a:lnTo>
                  <a:lnTo>
                    <a:pt x="5251" y="629"/>
                  </a:lnTo>
                  <a:lnTo>
                    <a:pt x="5214" y="665"/>
                  </a:lnTo>
                  <a:lnTo>
                    <a:pt x="5173" y="702"/>
                  </a:lnTo>
                  <a:lnTo>
                    <a:pt x="5129" y="740"/>
                  </a:lnTo>
                  <a:lnTo>
                    <a:pt x="5082" y="781"/>
                  </a:lnTo>
                  <a:lnTo>
                    <a:pt x="5032" y="823"/>
                  </a:lnTo>
                  <a:lnTo>
                    <a:pt x="4979" y="865"/>
                  </a:lnTo>
                  <a:lnTo>
                    <a:pt x="4925" y="908"/>
                  </a:lnTo>
                  <a:lnTo>
                    <a:pt x="4868" y="952"/>
                  </a:lnTo>
                  <a:lnTo>
                    <a:pt x="4810" y="995"/>
                  </a:lnTo>
                  <a:lnTo>
                    <a:pt x="4750" y="1039"/>
                  </a:lnTo>
                  <a:lnTo>
                    <a:pt x="4689" y="1081"/>
                  </a:lnTo>
                  <a:lnTo>
                    <a:pt x="4627" y="1124"/>
                  </a:lnTo>
                  <a:lnTo>
                    <a:pt x="4565" y="1165"/>
                  </a:lnTo>
                  <a:lnTo>
                    <a:pt x="4501" y="1205"/>
                  </a:lnTo>
                  <a:lnTo>
                    <a:pt x="4438" y="1245"/>
                  </a:lnTo>
                  <a:lnTo>
                    <a:pt x="4374" y="1281"/>
                  </a:lnTo>
                  <a:lnTo>
                    <a:pt x="4312" y="1316"/>
                  </a:lnTo>
                  <a:lnTo>
                    <a:pt x="4249" y="1348"/>
                  </a:lnTo>
                  <a:lnTo>
                    <a:pt x="4187" y="1379"/>
                  </a:lnTo>
                  <a:lnTo>
                    <a:pt x="4126" y="1406"/>
                  </a:lnTo>
                  <a:lnTo>
                    <a:pt x="4067" y="1429"/>
                  </a:lnTo>
                  <a:lnTo>
                    <a:pt x="4010" y="1450"/>
                  </a:lnTo>
                  <a:lnTo>
                    <a:pt x="3953" y="1467"/>
                  </a:lnTo>
                  <a:lnTo>
                    <a:pt x="3899" y="1481"/>
                  </a:lnTo>
                  <a:lnTo>
                    <a:pt x="3847" y="1490"/>
                  </a:lnTo>
                  <a:lnTo>
                    <a:pt x="3798" y="1494"/>
                  </a:lnTo>
                  <a:lnTo>
                    <a:pt x="3751" y="1494"/>
                  </a:lnTo>
                  <a:lnTo>
                    <a:pt x="3706" y="1490"/>
                  </a:lnTo>
                  <a:lnTo>
                    <a:pt x="3660" y="1488"/>
                  </a:lnTo>
                  <a:lnTo>
                    <a:pt x="3612" y="1486"/>
                  </a:lnTo>
                  <a:lnTo>
                    <a:pt x="3564" y="1485"/>
                  </a:lnTo>
                  <a:lnTo>
                    <a:pt x="3516" y="1484"/>
                  </a:lnTo>
                  <a:lnTo>
                    <a:pt x="3466" y="1485"/>
                  </a:lnTo>
                  <a:lnTo>
                    <a:pt x="3417" y="1486"/>
                  </a:lnTo>
                  <a:lnTo>
                    <a:pt x="3367" y="1488"/>
                  </a:lnTo>
                  <a:lnTo>
                    <a:pt x="3318" y="1491"/>
                  </a:lnTo>
                  <a:lnTo>
                    <a:pt x="3269" y="1494"/>
                  </a:lnTo>
                  <a:lnTo>
                    <a:pt x="3219" y="1499"/>
                  </a:lnTo>
                  <a:lnTo>
                    <a:pt x="3171" y="1504"/>
                  </a:lnTo>
                  <a:lnTo>
                    <a:pt x="3122" y="1510"/>
                  </a:lnTo>
                  <a:lnTo>
                    <a:pt x="3075" y="1518"/>
                  </a:lnTo>
                  <a:lnTo>
                    <a:pt x="3029" y="1526"/>
                  </a:lnTo>
                  <a:lnTo>
                    <a:pt x="2982" y="1535"/>
                  </a:lnTo>
                  <a:lnTo>
                    <a:pt x="2937" y="1545"/>
                  </a:lnTo>
                  <a:lnTo>
                    <a:pt x="2894" y="1556"/>
                  </a:lnTo>
                  <a:lnTo>
                    <a:pt x="2851" y="1568"/>
                  </a:lnTo>
                  <a:lnTo>
                    <a:pt x="2810" y="1581"/>
                  </a:lnTo>
                  <a:lnTo>
                    <a:pt x="2771" y="1595"/>
                  </a:lnTo>
                  <a:lnTo>
                    <a:pt x="2733" y="1611"/>
                  </a:lnTo>
                  <a:lnTo>
                    <a:pt x="2697" y="1628"/>
                  </a:lnTo>
                  <a:lnTo>
                    <a:pt x="2663" y="1645"/>
                  </a:lnTo>
                  <a:lnTo>
                    <a:pt x="2632" y="1663"/>
                  </a:lnTo>
                  <a:lnTo>
                    <a:pt x="2601" y="1683"/>
                  </a:lnTo>
                  <a:lnTo>
                    <a:pt x="2574" y="1704"/>
                  </a:lnTo>
                  <a:lnTo>
                    <a:pt x="2550" y="1727"/>
                  </a:lnTo>
                  <a:lnTo>
                    <a:pt x="2528" y="1750"/>
                  </a:lnTo>
                  <a:lnTo>
                    <a:pt x="2508" y="1774"/>
                  </a:lnTo>
                  <a:lnTo>
                    <a:pt x="2491" y="1799"/>
                  </a:lnTo>
                  <a:lnTo>
                    <a:pt x="2478" y="1826"/>
                  </a:lnTo>
                  <a:lnTo>
                    <a:pt x="2467" y="1854"/>
                  </a:lnTo>
                  <a:lnTo>
                    <a:pt x="2458" y="1879"/>
                  </a:lnTo>
                  <a:lnTo>
                    <a:pt x="2451" y="1903"/>
                  </a:lnTo>
                  <a:lnTo>
                    <a:pt x="2446" y="1926"/>
                  </a:lnTo>
                  <a:lnTo>
                    <a:pt x="2443" y="1949"/>
                  </a:lnTo>
                  <a:lnTo>
                    <a:pt x="2442" y="1971"/>
                  </a:lnTo>
                  <a:lnTo>
                    <a:pt x="2442" y="1992"/>
                  </a:lnTo>
                  <a:lnTo>
                    <a:pt x="2445" y="2011"/>
                  </a:lnTo>
                  <a:lnTo>
                    <a:pt x="2449" y="2031"/>
                  </a:lnTo>
                  <a:lnTo>
                    <a:pt x="2454" y="2050"/>
                  </a:lnTo>
                  <a:lnTo>
                    <a:pt x="2461" y="2068"/>
                  </a:lnTo>
                  <a:lnTo>
                    <a:pt x="2470" y="2087"/>
                  </a:lnTo>
                  <a:lnTo>
                    <a:pt x="2480" y="2105"/>
                  </a:lnTo>
                  <a:lnTo>
                    <a:pt x="2492" y="2123"/>
                  </a:lnTo>
                  <a:lnTo>
                    <a:pt x="2506" y="2141"/>
                  </a:lnTo>
                  <a:lnTo>
                    <a:pt x="2521" y="2159"/>
                  </a:lnTo>
                  <a:lnTo>
                    <a:pt x="2537" y="2178"/>
                  </a:lnTo>
                  <a:lnTo>
                    <a:pt x="2554" y="2197"/>
                  </a:lnTo>
                  <a:lnTo>
                    <a:pt x="2573" y="2217"/>
                  </a:lnTo>
                  <a:lnTo>
                    <a:pt x="2592" y="2236"/>
                  </a:lnTo>
                  <a:lnTo>
                    <a:pt x="2636" y="2277"/>
                  </a:lnTo>
                  <a:lnTo>
                    <a:pt x="2683" y="2323"/>
                  </a:lnTo>
                  <a:lnTo>
                    <a:pt x="2734" y="2372"/>
                  </a:lnTo>
                  <a:lnTo>
                    <a:pt x="2790" y="2425"/>
                  </a:lnTo>
                  <a:lnTo>
                    <a:pt x="2818" y="2455"/>
                  </a:lnTo>
                  <a:lnTo>
                    <a:pt x="2847" y="2485"/>
                  </a:lnTo>
                  <a:lnTo>
                    <a:pt x="2878" y="2517"/>
                  </a:lnTo>
                  <a:lnTo>
                    <a:pt x="2909" y="2551"/>
                  </a:lnTo>
                  <a:lnTo>
                    <a:pt x="2976" y="2626"/>
                  </a:lnTo>
                  <a:lnTo>
                    <a:pt x="3050" y="2711"/>
                  </a:lnTo>
                  <a:lnTo>
                    <a:pt x="3089" y="2756"/>
                  </a:lnTo>
                  <a:lnTo>
                    <a:pt x="3130" y="2803"/>
                  </a:lnTo>
                  <a:lnTo>
                    <a:pt x="3170" y="2851"/>
                  </a:lnTo>
                  <a:lnTo>
                    <a:pt x="3211" y="2900"/>
                  </a:lnTo>
                  <a:lnTo>
                    <a:pt x="3252" y="2951"/>
                  </a:lnTo>
                  <a:lnTo>
                    <a:pt x="3292" y="3003"/>
                  </a:lnTo>
                  <a:lnTo>
                    <a:pt x="3332" y="3055"/>
                  </a:lnTo>
                  <a:lnTo>
                    <a:pt x="3370" y="3108"/>
                  </a:lnTo>
                  <a:lnTo>
                    <a:pt x="3409" y="3162"/>
                  </a:lnTo>
                  <a:lnTo>
                    <a:pt x="3444" y="3215"/>
                  </a:lnTo>
                  <a:lnTo>
                    <a:pt x="3478" y="3267"/>
                  </a:lnTo>
                  <a:lnTo>
                    <a:pt x="3511" y="3321"/>
                  </a:lnTo>
                  <a:lnTo>
                    <a:pt x="3539" y="3373"/>
                  </a:lnTo>
                  <a:lnTo>
                    <a:pt x="3566" y="3426"/>
                  </a:lnTo>
                  <a:lnTo>
                    <a:pt x="3589" y="3476"/>
                  </a:lnTo>
                  <a:lnTo>
                    <a:pt x="3608" y="3527"/>
                  </a:lnTo>
                  <a:lnTo>
                    <a:pt x="3624" y="3575"/>
                  </a:lnTo>
                  <a:lnTo>
                    <a:pt x="3636" y="3622"/>
                  </a:lnTo>
                  <a:lnTo>
                    <a:pt x="3644" y="3668"/>
                  </a:lnTo>
                  <a:lnTo>
                    <a:pt x="3646" y="3712"/>
                  </a:lnTo>
                  <a:lnTo>
                    <a:pt x="3644" y="3754"/>
                  </a:lnTo>
                  <a:lnTo>
                    <a:pt x="3636" y="3793"/>
                  </a:lnTo>
                  <a:lnTo>
                    <a:pt x="3621" y="3830"/>
                  </a:lnTo>
                  <a:lnTo>
                    <a:pt x="3602" y="3864"/>
                  </a:lnTo>
                  <a:lnTo>
                    <a:pt x="3576" y="3897"/>
                  </a:lnTo>
                  <a:lnTo>
                    <a:pt x="3544" y="3925"/>
                  </a:lnTo>
                  <a:lnTo>
                    <a:pt x="3505" y="3950"/>
                  </a:lnTo>
                  <a:lnTo>
                    <a:pt x="3457" y="3972"/>
                  </a:lnTo>
                  <a:lnTo>
                    <a:pt x="3410" y="3992"/>
                  </a:lnTo>
                  <a:lnTo>
                    <a:pt x="3364" y="4007"/>
                  </a:lnTo>
                  <a:lnTo>
                    <a:pt x="3321" y="4018"/>
                  </a:lnTo>
                  <a:lnTo>
                    <a:pt x="3282" y="4027"/>
                  </a:lnTo>
                  <a:lnTo>
                    <a:pt x="3243" y="4033"/>
                  </a:lnTo>
                  <a:lnTo>
                    <a:pt x="3209" y="4037"/>
                  </a:lnTo>
                  <a:lnTo>
                    <a:pt x="3176" y="4037"/>
                  </a:lnTo>
                  <a:lnTo>
                    <a:pt x="3145" y="4036"/>
                  </a:lnTo>
                  <a:lnTo>
                    <a:pt x="3115" y="4032"/>
                  </a:lnTo>
                  <a:lnTo>
                    <a:pt x="3088" y="4026"/>
                  </a:lnTo>
                  <a:lnTo>
                    <a:pt x="3062" y="4019"/>
                  </a:lnTo>
                  <a:lnTo>
                    <a:pt x="3038" y="4009"/>
                  </a:lnTo>
                  <a:lnTo>
                    <a:pt x="3015" y="3998"/>
                  </a:lnTo>
                  <a:lnTo>
                    <a:pt x="2992" y="3985"/>
                  </a:lnTo>
                  <a:lnTo>
                    <a:pt x="2971" y="3971"/>
                  </a:lnTo>
                  <a:lnTo>
                    <a:pt x="2952" y="3956"/>
                  </a:lnTo>
                  <a:lnTo>
                    <a:pt x="2933" y="3941"/>
                  </a:lnTo>
                  <a:lnTo>
                    <a:pt x="2914" y="3924"/>
                  </a:lnTo>
                  <a:lnTo>
                    <a:pt x="2896" y="3907"/>
                  </a:lnTo>
                  <a:lnTo>
                    <a:pt x="2879" y="3890"/>
                  </a:lnTo>
                  <a:lnTo>
                    <a:pt x="2843" y="3853"/>
                  </a:lnTo>
                  <a:lnTo>
                    <a:pt x="2809" y="3817"/>
                  </a:lnTo>
                  <a:lnTo>
                    <a:pt x="2791" y="3799"/>
                  </a:lnTo>
                  <a:lnTo>
                    <a:pt x="2773" y="3782"/>
                  </a:lnTo>
                  <a:lnTo>
                    <a:pt x="2754" y="3766"/>
                  </a:lnTo>
                  <a:lnTo>
                    <a:pt x="2733" y="3749"/>
                  </a:lnTo>
                  <a:lnTo>
                    <a:pt x="2713" y="3735"/>
                  </a:lnTo>
                  <a:lnTo>
                    <a:pt x="2691" y="3721"/>
                  </a:lnTo>
                  <a:lnTo>
                    <a:pt x="2669" y="3709"/>
                  </a:lnTo>
                  <a:lnTo>
                    <a:pt x="2645" y="3698"/>
                  </a:lnTo>
                  <a:lnTo>
                    <a:pt x="2618" y="3689"/>
                  </a:lnTo>
                  <a:lnTo>
                    <a:pt x="2589" y="3680"/>
                  </a:lnTo>
                  <a:lnTo>
                    <a:pt x="2559" y="3673"/>
                  </a:lnTo>
                  <a:lnTo>
                    <a:pt x="2526" y="3666"/>
                  </a:lnTo>
                  <a:lnTo>
                    <a:pt x="2490" y="3661"/>
                  </a:lnTo>
                  <a:lnTo>
                    <a:pt x="2453" y="3657"/>
                  </a:lnTo>
                  <a:lnTo>
                    <a:pt x="2414" y="3653"/>
                  </a:lnTo>
                  <a:lnTo>
                    <a:pt x="2374" y="3651"/>
                  </a:lnTo>
                  <a:lnTo>
                    <a:pt x="2330" y="3650"/>
                  </a:lnTo>
                  <a:lnTo>
                    <a:pt x="2287" y="3650"/>
                  </a:lnTo>
                  <a:lnTo>
                    <a:pt x="2241" y="3651"/>
                  </a:lnTo>
                  <a:lnTo>
                    <a:pt x="2195" y="3653"/>
                  </a:lnTo>
                  <a:lnTo>
                    <a:pt x="2148" y="3656"/>
                  </a:lnTo>
                  <a:lnTo>
                    <a:pt x="2100" y="3661"/>
                  </a:lnTo>
                  <a:lnTo>
                    <a:pt x="2051" y="3666"/>
                  </a:lnTo>
                  <a:lnTo>
                    <a:pt x="2002" y="3673"/>
                  </a:lnTo>
                  <a:lnTo>
                    <a:pt x="1951" y="3680"/>
                  </a:lnTo>
                  <a:lnTo>
                    <a:pt x="1901" y="3689"/>
                  </a:lnTo>
                  <a:lnTo>
                    <a:pt x="1850" y="3699"/>
                  </a:lnTo>
                  <a:lnTo>
                    <a:pt x="1800" y="3710"/>
                  </a:lnTo>
                  <a:lnTo>
                    <a:pt x="1750" y="3722"/>
                  </a:lnTo>
                  <a:lnTo>
                    <a:pt x="1698" y="3735"/>
                  </a:lnTo>
                  <a:lnTo>
                    <a:pt x="1649" y="3750"/>
                  </a:lnTo>
                  <a:lnTo>
                    <a:pt x="1599" y="3766"/>
                  </a:lnTo>
                  <a:lnTo>
                    <a:pt x="1550" y="3783"/>
                  </a:lnTo>
                  <a:lnTo>
                    <a:pt x="1502" y="3801"/>
                  </a:lnTo>
                  <a:lnTo>
                    <a:pt x="1454" y="3820"/>
                  </a:lnTo>
                  <a:lnTo>
                    <a:pt x="1407" y="3840"/>
                  </a:lnTo>
                  <a:lnTo>
                    <a:pt x="1362" y="3861"/>
                  </a:lnTo>
                  <a:lnTo>
                    <a:pt x="1318" y="3885"/>
                  </a:lnTo>
                  <a:lnTo>
                    <a:pt x="1275" y="3908"/>
                  </a:lnTo>
                  <a:lnTo>
                    <a:pt x="1233" y="3933"/>
                  </a:lnTo>
                  <a:lnTo>
                    <a:pt x="1154" y="3982"/>
                  </a:lnTo>
                  <a:lnTo>
                    <a:pt x="1077" y="4032"/>
                  </a:lnTo>
                  <a:lnTo>
                    <a:pt x="1040" y="4056"/>
                  </a:lnTo>
                  <a:lnTo>
                    <a:pt x="1005" y="4079"/>
                  </a:lnTo>
                  <a:lnTo>
                    <a:pt x="969" y="4103"/>
                  </a:lnTo>
                  <a:lnTo>
                    <a:pt x="936" y="4128"/>
                  </a:lnTo>
                  <a:lnTo>
                    <a:pt x="905" y="4152"/>
                  </a:lnTo>
                  <a:lnTo>
                    <a:pt x="875" y="4175"/>
                  </a:lnTo>
                  <a:lnTo>
                    <a:pt x="845" y="4199"/>
                  </a:lnTo>
                  <a:lnTo>
                    <a:pt x="819" y="4223"/>
                  </a:lnTo>
                  <a:lnTo>
                    <a:pt x="795" y="4248"/>
                  </a:lnTo>
                  <a:lnTo>
                    <a:pt x="772" y="4271"/>
                  </a:lnTo>
                  <a:lnTo>
                    <a:pt x="752" y="4295"/>
                  </a:lnTo>
                  <a:lnTo>
                    <a:pt x="735" y="4319"/>
                  </a:lnTo>
                  <a:lnTo>
                    <a:pt x="719" y="4343"/>
                  </a:lnTo>
                  <a:lnTo>
                    <a:pt x="706" y="4368"/>
                  </a:lnTo>
                  <a:lnTo>
                    <a:pt x="696" y="4392"/>
                  </a:lnTo>
                  <a:lnTo>
                    <a:pt x="690" y="4417"/>
                  </a:lnTo>
                  <a:lnTo>
                    <a:pt x="686" y="4441"/>
                  </a:lnTo>
                  <a:lnTo>
                    <a:pt x="685" y="4466"/>
                  </a:lnTo>
                  <a:lnTo>
                    <a:pt x="688" y="4491"/>
                  </a:lnTo>
                  <a:lnTo>
                    <a:pt x="694" y="4516"/>
                  </a:lnTo>
                  <a:lnTo>
                    <a:pt x="703" y="4542"/>
                  </a:lnTo>
                  <a:lnTo>
                    <a:pt x="716" y="4567"/>
                  </a:lnTo>
                  <a:lnTo>
                    <a:pt x="734" y="4594"/>
                  </a:lnTo>
                  <a:lnTo>
                    <a:pt x="755" y="4620"/>
                  </a:lnTo>
                  <a:lnTo>
                    <a:pt x="780" y="4646"/>
                  </a:lnTo>
                  <a:lnTo>
                    <a:pt x="809" y="4672"/>
                  </a:lnTo>
                  <a:lnTo>
                    <a:pt x="843" y="4699"/>
                  </a:lnTo>
                  <a:lnTo>
                    <a:pt x="882" y="4727"/>
                  </a:lnTo>
                  <a:lnTo>
                    <a:pt x="922" y="4755"/>
                  </a:lnTo>
                  <a:lnTo>
                    <a:pt x="963" y="4782"/>
                  </a:lnTo>
                  <a:lnTo>
                    <a:pt x="1006" y="4808"/>
                  </a:lnTo>
                  <a:lnTo>
                    <a:pt x="1049" y="4835"/>
                  </a:lnTo>
                  <a:lnTo>
                    <a:pt x="1093" y="4861"/>
                  </a:lnTo>
                  <a:lnTo>
                    <a:pt x="1138" y="4886"/>
                  </a:lnTo>
                  <a:lnTo>
                    <a:pt x="1183" y="4911"/>
                  </a:lnTo>
                  <a:lnTo>
                    <a:pt x="1229" y="4935"/>
                  </a:lnTo>
                  <a:lnTo>
                    <a:pt x="1277" y="4959"/>
                  </a:lnTo>
                  <a:lnTo>
                    <a:pt x="1324" y="4981"/>
                  </a:lnTo>
                  <a:lnTo>
                    <a:pt x="1373" y="5003"/>
                  </a:lnTo>
                  <a:lnTo>
                    <a:pt x="1422" y="5024"/>
                  </a:lnTo>
                  <a:lnTo>
                    <a:pt x="1472" y="5043"/>
                  </a:lnTo>
                  <a:lnTo>
                    <a:pt x="1523" y="5062"/>
                  </a:lnTo>
                  <a:lnTo>
                    <a:pt x="1574" y="5081"/>
                  </a:lnTo>
                  <a:lnTo>
                    <a:pt x="1627" y="5097"/>
                  </a:lnTo>
                  <a:lnTo>
                    <a:pt x="1680" y="5113"/>
                  </a:lnTo>
                  <a:lnTo>
                    <a:pt x="1733" y="5127"/>
                  </a:lnTo>
                  <a:lnTo>
                    <a:pt x="1788" y="5139"/>
                  </a:lnTo>
                  <a:lnTo>
                    <a:pt x="1842" y="5151"/>
                  </a:lnTo>
                  <a:lnTo>
                    <a:pt x="1899" y="5161"/>
                  </a:lnTo>
                  <a:lnTo>
                    <a:pt x="1955" y="5169"/>
                  </a:lnTo>
                  <a:lnTo>
                    <a:pt x="2012" y="5176"/>
                  </a:lnTo>
                  <a:lnTo>
                    <a:pt x="2070" y="5181"/>
                  </a:lnTo>
                  <a:lnTo>
                    <a:pt x="2129" y="5185"/>
                  </a:lnTo>
                  <a:lnTo>
                    <a:pt x="2188" y="5187"/>
                  </a:lnTo>
                  <a:lnTo>
                    <a:pt x="2248" y="5187"/>
                  </a:lnTo>
                  <a:lnTo>
                    <a:pt x="2308" y="5185"/>
                  </a:lnTo>
                  <a:lnTo>
                    <a:pt x="2369" y="5181"/>
                  </a:lnTo>
                  <a:lnTo>
                    <a:pt x="2431" y="5176"/>
                  </a:lnTo>
                  <a:lnTo>
                    <a:pt x="2493" y="5168"/>
                  </a:lnTo>
                  <a:lnTo>
                    <a:pt x="2556" y="5158"/>
                  </a:lnTo>
                  <a:lnTo>
                    <a:pt x="2567" y="5155"/>
                  </a:lnTo>
                  <a:lnTo>
                    <a:pt x="2596" y="5147"/>
                  </a:lnTo>
                  <a:lnTo>
                    <a:pt x="2643" y="5134"/>
                  </a:lnTo>
                  <a:lnTo>
                    <a:pt x="2702" y="5118"/>
                  </a:lnTo>
                  <a:lnTo>
                    <a:pt x="2774" y="5100"/>
                  </a:lnTo>
                  <a:lnTo>
                    <a:pt x="2853" y="5081"/>
                  </a:lnTo>
                  <a:lnTo>
                    <a:pt x="2939" y="5061"/>
                  </a:lnTo>
                  <a:lnTo>
                    <a:pt x="3028" y="5043"/>
                  </a:lnTo>
                  <a:lnTo>
                    <a:pt x="3072" y="5034"/>
                  </a:lnTo>
                  <a:lnTo>
                    <a:pt x="3117" y="5027"/>
                  </a:lnTo>
                  <a:lnTo>
                    <a:pt x="3161" y="5020"/>
                  </a:lnTo>
                  <a:lnTo>
                    <a:pt x="3204" y="5014"/>
                  </a:lnTo>
                  <a:lnTo>
                    <a:pt x="3246" y="5009"/>
                  </a:lnTo>
                  <a:lnTo>
                    <a:pt x="3287" y="5005"/>
                  </a:lnTo>
                  <a:lnTo>
                    <a:pt x="3325" y="5002"/>
                  </a:lnTo>
                  <a:lnTo>
                    <a:pt x="3362" y="5001"/>
                  </a:lnTo>
                  <a:lnTo>
                    <a:pt x="3396" y="5002"/>
                  </a:lnTo>
                  <a:lnTo>
                    <a:pt x="3427" y="5004"/>
                  </a:lnTo>
                  <a:lnTo>
                    <a:pt x="3455" y="5008"/>
                  </a:lnTo>
                  <a:lnTo>
                    <a:pt x="3479" y="5014"/>
                  </a:lnTo>
                  <a:lnTo>
                    <a:pt x="3500" y="5022"/>
                  </a:lnTo>
                  <a:lnTo>
                    <a:pt x="3517" y="5032"/>
                  </a:lnTo>
                  <a:lnTo>
                    <a:pt x="3529" y="5045"/>
                  </a:lnTo>
                  <a:lnTo>
                    <a:pt x="3536" y="5060"/>
                  </a:lnTo>
                  <a:lnTo>
                    <a:pt x="3539" y="5077"/>
                  </a:lnTo>
                  <a:lnTo>
                    <a:pt x="3541" y="5091"/>
                  </a:lnTo>
                  <a:lnTo>
                    <a:pt x="3540" y="5105"/>
                  </a:lnTo>
                  <a:lnTo>
                    <a:pt x="3537" y="5118"/>
                  </a:lnTo>
                  <a:lnTo>
                    <a:pt x="3532" y="5129"/>
                  </a:lnTo>
                  <a:lnTo>
                    <a:pt x="3526" y="5140"/>
                  </a:lnTo>
                  <a:lnTo>
                    <a:pt x="3518" y="5151"/>
                  </a:lnTo>
                  <a:lnTo>
                    <a:pt x="3509" y="5160"/>
                  </a:lnTo>
                  <a:lnTo>
                    <a:pt x="3497" y="5169"/>
                  </a:lnTo>
                  <a:lnTo>
                    <a:pt x="3486" y="5178"/>
                  </a:lnTo>
                  <a:lnTo>
                    <a:pt x="3474" y="5186"/>
                  </a:lnTo>
                  <a:lnTo>
                    <a:pt x="3461" y="5194"/>
                  </a:lnTo>
                  <a:lnTo>
                    <a:pt x="3433" y="5208"/>
                  </a:lnTo>
                  <a:lnTo>
                    <a:pt x="3404" y="5222"/>
                  </a:lnTo>
                  <a:lnTo>
                    <a:pt x="3374" y="5236"/>
                  </a:lnTo>
                  <a:lnTo>
                    <a:pt x="3346" y="5250"/>
                  </a:lnTo>
                  <a:lnTo>
                    <a:pt x="3333" y="5258"/>
                  </a:lnTo>
                  <a:lnTo>
                    <a:pt x="3321" y="5266"/>
                  </a:lnTo>
                  <a:lnTo>
                    <a:pt x="3309" y="5274"/>
                  </a:lnTo>
                  <a:lnTo>
                    <a:pt x="3299" y="5283"/>
                  </a:lnTo>
                  <a:lnTo>
                    <a:pt x="3290" y="5293"/>
                  </a:lnTo>
                  <a:lnTo>
                    <a:pt x="3282" y="5303"/>
                  </a:lnTo>
                  <a:lnTo>
                    <a:pt x="3276" y="5315"/>
                  </a:lnTo>
                  <a:lnTo>
                    <a:pt x="3271" y="5327"/>
                  </a:lnTo>
                  <a:lnTo>
                    <a:pt x="3268" y="5339"/>
                  </a:lnTo>
                  <a:lnTo>
                    <a:pt x="3267" y="5353"/>
                  </a:lnTo>
                  <a:lnTo>
                    <a:pt x="3268" y="5368"/>
                  </a:lnTo>
                  <a:lnTo>
                    <a:pt x="3272" y="5384"/>
                  </a:lnTo>
                  <a:lnTo>
                    <a:pt x="3276" y="5400"/>
                  </a:lnTo>
                  <a:lnTo>
                    <a:pt x="3281" y="5416"/>
                  </a:lnTo>
                  <a:lnTo>
                    <a:pt x="3288" y="5433"/>
                  </a:lnTo>
                  <a:lnTo>
                    <a:pt x="3295" y="5449"/>
                  </a:lnTo>
                  <a:lnTo>
                    <a:pt x="3310" y="5480"/>
                  </a:lnTo>
                  <a:lnTo>
                    <a:pt x="3327" y="5511"/>
                  </a:lnTo>
                  <a:lnTo>
                    <a:pt x="3343" y="5541"/>
                  </a:lnTo>
                  <a:lnTo>
                    <a:pt x="3358" y="5572"/>
                  </a:lnTo>
                  <a:lnTo>
                    <a:pt x="3364" y="5586"/>
                  </a:lnTo>
                  <a:lnTo>
                    <a:pt x="3370" y="5601"/>
                  </a:lnTo>
                  <a:lnTo>
                    <a:pt x="3374" y="5615"/>
                  </a:lnTo>
                  <a:lnTo>
                    <a:pt x="3378" y="5630"/>
                  </a:lnTo>
                  <a:lnTo>
                    <a:pt x="3380" y="5644"/>
                  </a:lnTo>
                  <a:lnTo>
                    <a:pt x="3380" y="5658"/>
                  </a:lnTo>
                  <a:lnTo>
                    <a:pt x="3379" y="5673"/>
                  </a:lnTo>
                  <a:lnTo>
                    <a:pt x="3374" y="5687"/>
                  </a:lnTo>
                  <a:lnTo>
                    <a:pt x="3369" y="5702"/>
                  </a:lnTo>
                  <a:lnTo>
                    <a:pt x="3361" y="5715"/>
                  </a:lnTo>
                  <a:lnTo>
                    <a:pt x="3351" y="5729"/>
                  </a:lnTo>
                  <a:lnTo>
                    <a:pt x="3339" y="5743"/>
                  </a:lnTo>
                  <a:lnTo>
                    <a:pt x="3323" y="5757"/>
                  </a:lnTo>
                  <a:lnTo>
                    <a:pt x="3305" y="5771"/>
                  </a:lnTo>
                  <a:lnTo>
                    <a:pt x="3284" y="5785"/>
                  </a:lnTo>
                  <a:lnTo>
                    <a:pt x="3259" y="5799"/>
                  </a:lnTo>
                  <a:lnTo>
                    <a:pt x="3230" y="5813"/>
                  </a:lnTo>
                  <a:lnTo>
                    <a:pt x="3199" y="5827"/>
                  </a:lnTo>
                  <a:lnTo>
                    <a:pt x="3164" y="5840"/>
                  </a:lnTo>
                  <a:lnTo>
                    <a:pt x="3125" y="5854"/>
                  </a:lnTo>
                  <a:lnTo>
                    <a:pt x="3081" y="5867"/>
                  </a:lnTo>
                  <a:lnTo>
                    <a:pt x="3036" y="5879"/>
                  </a:lnTo>
                  <a:lnTo>
                    <a:pt x="2987" y="5890"/>
                  </a:lnTo>
                  <a:lnTo>
                    <a:pt x="2938" y="5902"/>
                  </a:lnTo>
                  <a:lnTo>
                    <a:pt x="2831" y="5925"/>
                  </a:lnTo>
                  <a:lnTo>
                    <a:pt x="2719" y="5947"/>
                  </a:lnTo>
                  <a:lnTo>
                    <a:pt x="2603" y="5970"/>
                  </a:lnTo>
                  <a:lnTo>
                    <a:pt x="2485" y="5994"/>
                  </a:lnTo>
                  <a:lnTo>
                    <a:pt x="2427" y="6006"/>
                  </a:lnTo>
                  <a:lnTo>
                    <a:pt x="2369" y="6019"/>
                  </a:lnTo>
                  <a:lnTo>
                    <a:pt x="2311" y="6034"/>
                  </a:lnTo>
                  <a:lnTo>
                    <a:pt x="2254" y="6048"/>
                  </a:lnTo>
                  <a:lnTo>
                    <a:pt x="2198" y="6063"/>
                  </a:lnTo>
                  <a:lnTo>
                    <a:pt x="2144" y="6079"/>
                  </a:lnTo>
                  <a:lnTo>
                    <a:pt x="2091" y="6095"/>
                  </a:lnTo>
                  <a:lnTo>
                    <a:pt x="2041" y="6113"/>
                  </a:lnTo>
                  <a:lnTo>
                    <a:pt x="1993" y="6132"/>
                  </a:lnTo>
                  <a:lnTo>
                    <a:pt x="1947" y="6153"/>
                  </a:lnTo>
                  <a:lnTo>
                    <a:pt x="1904" y="6174"/>
                  </a:lnTo>
                  <a:lnTo>
                    <a:pt x="1865" y="6196"/>
                  </a:lnTo>
                  <a:lnTo>
                    <a:pt x="1827" y="6220"/>
                  </a:lnTo>
                  <a:lnTo>
                    <a:pt x="1794" y="6245"/>
                  </a:lnTo>
                  <a:lnTo>
                    <a:pt x="1765" y="6272"/>
                  </a:lnTo>
                  <a:lnTo>
                    <a:pt x="1740" y="6301"/>
                  </a:lnTo>
                  <a:lnTo>
                    <a:pt x="1718" y="6331"/>
                  </a:lnTo>
                  <a:lnTo>
                    <a:pt x="1702" y="6362"/>
                  </a:lnTo>
                  <a:lnTo>
                    <a:pt x="1691" y="6397"/>
                  </a:lnTo>
                  <a:lnTo>
                    <a:pt x="1684" y="6432"/>
                  </a:lnTo>
                  <a:lnTo>
                    <a:pt x="1686" y="6432"/>
                  </a:lnTo>
                  <a:lnTo>
                    <a:pt x="1691" y="6432"/>
                  </a:lnTo>
                  <a:lnTo>
                    <a:pt x="1697" y="6431"/>
                  </a:lnTo>
                  <a:lnTo>
                    <a:pt x="1702" y="6431"/>
                  </a:lnTo>
                  <a:lnTo>
                    <a:pt x="1703" y="6432"/>
                  </a:lnTo>
                  <a:lnTo>
                    <a:pt x="1704" y="6433"/>
                  </a:lnTo>
                  <a:lnTo>
                    <a:pt x="1703" y="6434"/>
                  </a:lnTo>
                  <a:lnTo>
                    <a:pt x="1701" y="6435"/>
                  </a:lnTo>
                  <a:lnTo>
                    <a:pt x="1693" y="6440"/>
                  </a:lnTo>
                  <a:lnTo>
                    <a:pt x="1676" y="6447"/>
                  </a:lnTo>
                  <a:lnTo>
                    <a:pt x="1649" y="6457"/>
                  </a:lnTo>
                  <a:lnTo>
                    <a:pt x="1610" y="6469"/>
                  </a:lnTo>
                  <a:lnTo>
                    <a:pt x="1558" y="6486"/>
                  </a:lnTo>
                  <a:lnTo>
                    <a:pt x="1491" y="6507"/>
                  </a:lnTo>
                  <a:lnTo>
                    <a:pt x="1405" y="6532"/>
                  </a:lnTo>
                  <a:lnTo>
                    <a:pt x="1301" y="6562"/>
                  </a:lnTo>
                  <a:lnTo>
                    <a:pt x="1176" y="6597"/>
                  </a:lnTo>
                  <a:lnTo>
                    <a:pt x="1028" y="6638"/>
                  </a:lnTo>
                  <a:lnTo>
                    <a:pt x="875" y="6681"/>
                  </a:lnTo>
                  <a:lnTo>
                    <a:pt x="735" y="6721"/>
                  </a:lnTo>
                  <a:lnTo>
                    <a:pt x="669" y="6740"/>
                  </a:lnTo>
                  <a:lnTo>
                    <a:pt x="607" y="6760"/>
                  </a:lnTo>
                  <a:lnTo>
                    <a:pt x="548" y="6778"/>
                  </a:lnTo>
                  <a:lnTo>
                    <a:pt x="493" y="6796"/>
                  </a:lnTo>
                  <a:lnTo>
                    <a:pt x="440" y="6814"/>
                  </a:lnTo>
                  <a:lnTo>
                    <a:pt x="391" y="6831"/>
                  </a:lnTo>
                  <a:lnTo>
                    <a:pt x="345" y="6849"/>
                  </a:lnTo>
                  <a:lnTo>
                    <a:pt x="303" y="6867"/>
                  </a:lnTo>
                  <a:lnTo>
                    <a:pt x="265" y="6885"/>
                  </a:lnTo>
                  <a:lnTo>
                    <a:pt x="229" y="6902"/>
                  </a:lnTo>
                  <a:lnTo>
                    <a:pt x="196" y="6920"/>
                  </a:lnTo>
                  <a:lnTo>
                    <a:pt x="167" y="6938"/>
                  </a:lnTo>
                  <a:lnTo>
                    <a:pt x="142" y="6956"/>
                  </a:lnTo>
                  <a:lnTo>
                    <a:pt x="120" y="6975"/>
                  </a:lnTo>
                  <a:lnTo>
                    <a:pt x="101" y="6994"/>
                  </a:lnTo>
                  <a:lnTo>
                    <a:pt x="85" y="7014"/>
                  </a:lnTo>
                  <a:lnTo>
                    <a:pt x="73" y="7034"/>
                  </a:lnTo>
                  <a:lnTo>
                    <a:pt x="64" y="7054"/>
                  </a:lnTo>
                  <a:lnTo>
                    <a:pt x="59" y="7075"/>
                  </a:lnTo>
                  <a:lnTo>
                    <a:pt x="57" y="7096"/>
                  </a:lnTo>
                  <a:lnTo>
                    <a:pt x="58" y="7120"/>
                  </a:lnTo>
                  <a:lnTo>
                    <a:pt x="63" y="7143"/>
                  </a:lnTo>
                  <a:lnTo>
                    <a:pt x="72" y="7167"/>
                  </a:lnTo>
                  <a:lnTo>
                    <a:pt x="83" y="7192"/>
                  </a:lnTo>
                  <a:lnTo>
                    <a:pt x="99" y="7218"/>
                  </a:lnTo>
                  <a:lnTo>
                    <a:pt x="118" y="7247"/>
                  </a:lnTo>
                  <a:lnTo>
                    <a:pt x="140" y="7275"/>
                  </a:lnTo>
                  <a:lnTo>
                    <a:pt x="166" y="7304"/>
                  </a:lnTo>
                  <a:lnTo>
                    <a:pt x="177" y="7311"/>
                  </a:lnTo>
                  <a:lnTo>
                    <a:pt x="208" y="7328"/>
                  </a:lnTo>
                  <a:lnTo>
                    <a:pt x="259" y="7355"/>
                  </a:lnTo>
                  <a:lnTo>
                    <a:pt x="324" y="7387"/>
                  </a:lnTo>
                  <a:lnTo>
                    <a:pt x="362" y="7404"/>
                  </a:lnTo>
                  <a:lnTo>
                    <a:pt x="403" y="7421"/>
                  </a:lnTo>
                  <a:lnTo>
                    <a:pt x="446" y="7439"/>
                  </a:lnTo>
                  <a:lnTo>
                    <a:pt x="493" y="7457"/>
                  </a:lnTo>
                  <a:lnTo>
                    <a:pt x="541" y="7475"/>
                  </a:lnTo>
                  <a:lnTo>
                    <a:pt x="590" y="7491"/>
                  </a:lnTo>
                  <a:lnTo>
                    <a:pt x="642" y="7506"/>
                  </a:lnTo>
                  <a:lnTo>
                    <a:pt x="695" y="7520"/>
                  </a:lnTo>
                  <a:lnTo>
                    <a:pt x="690" y="7525"/>
                  </a:lnTo>
                  <a:lnTo>
                    <a:pt x="677" y="7539"/>
                  </a:lnTo>
                  <a:lnTo>
                    <a:pt x="657" y="7562"/>
                  </a:lnTo>
                  <a:lnTo>
                    <a:pt x="633" y="7594"/>
                  </a:lnTo>
                  <a:lnTo>
                    <a:pt x="620" y="7612"/>
                  </a:lnTo>
                  <a:lnTo>
                    <a:pt x="606" y="7631"/>
                  </a:lnTo>
                  <a:lnTo>
                    <a:pt x="592" y="7652"/>
                  </a:lnTo>
                  <a:lnTo>
                    <a:pt x="578" y="7675"/>
                  </a:lnTo>
                  <a:lnTo>
                    <a:pt x="565" y="7699"/>
                  </a:lnTo>
                  <a:lnTo>
                    <a:pt x="552" y="7724"/>
                  </a:lnTo>
                  <a:lnTo>
                    <a:pt x="540" y="7750"/>
                  </a:lnTo>
                  <a:lnTo>
                    <a:pt x="529" y="7777"/>
                  </a:lnTo>
                  <a:lnTo>
                    <a:pt x="519" y="7805"/>
                  </a:lnTo>
                  <a:lnTo>
                    <a:pt x="510" y="7834"/>
                  </a:lnTo>
                  <a:lnTo>
                    <a:pt x="504" y="7864"/>
                  </a:lnTo>
                  <a:lnTo>
                    <a:pt x="499" y="7893"/>
                  </a:lnTo>
                  <a:lnTo>
                    <a:pt x="497" y="7923"/>
                  </a:lnTo>
                  <a:lnTo>
                    <a:pt x="497" y="7955"/>
                  </a:lnTo>
                  <a:lnTo>
                    <a:pt x="500" y="7985"/>
                  </a:lnTo>
                  <a:lnTo>
                    <a:pt x="505" y="8016"/>
                  </a:lnTo>
                  <a:lnTo>
                    <a:pt x="514" y="8047"/>
                  </a:lnTo>
                  <a:lnTo>
                    <a:pt x="526" y="8078"/>
                  </a:lnTo>
                  <a:lnTo>
                    <a:pt x="542" y="8109"/>
                  </a:lnTo>
                  <a:lnTo>
                    <a:pt x="562" y="8139"/>
                  </a:lnTo>
                  <a:lnTo>
                    <a:pt x="586" y="8169"/>
                  </a:lnTo>
                  <a:lnTo>
                    <a:pt x="615" y="8199"/>
                  </a:lnTo>
                  <a:lnTo>
                    <a:pt x="648" y="8227"/>
                  </a:lnTo>
                  <a:lnTo>
                    <a:pt x="685" y="8255"/>
                  </a:lnTo>
                  <a:lnTo>
                    <a:pt x="706" y="8257"/>
                  </a:lnTo>
                  <a:lnTo>
                    <a:pt x="763" y="8261"/>
                  </a:lnTo>
                  <a:lnTo>
                    <a:pt x="847" y="8268"/>
                  </a:lnTo>
                  <a:lnTo>
                    <a:pt x="948" y="8275"/>
                  </a:lnTo>
                  <a:lnTo>
                    <a:pt x="1059" y="8284"/>
                  </a:lnTo>
                  <a:lnTo>
                    <a:pt x="1169" y="8292"/>
                  </a:lnTo>
                  <a:lnTo>
                    <a:pt x="1270" y="8300"/>
                  </a:lnTo>
                  <a:lnTo>
                    <a:pt x="1351" y="8304"/>
                  </a:lnTo>
                  <a:lnTo>
                    <a:pt x="1356" y="8317"/>
                  </a:lnTo>
                  <a:lnTo>
                    <a:pt x="1370" y="8352"/>
                  </a:lnTo>
                  <a:lnTo>
                    <a:pt x="1377" y="8376"/>
                  </a:lnTo>
                  <a:lnTo>
                    <a:pt x="1385" y="8406"/>
                  </a:lnTo>
                  <a:lnTo>
                    <a:pt x="1393" y="8441"/>
                  </a:lnTo>
                  <a:lnTo>
                    <a:pt x="1399" y="8478"/>
                  </a:lnTo>
                  <a:lnTo>
                    <a:pt x="1402" y="8498"/>
                  </a:lnTo>
                  <a:lnTo>
                    <a:pt x="1404" y="8519"/>
                  </a:lnTo>
                  <a:lnTo>
                    <a:pt x="1406" y="8541"/>
                  </a:lnTo>
                  <a:lnTo>
                    <a:pt x="1407" y="8564"/>
                  </a:lnTo>
                  <a:lnTo>
                    <a:pt x="1408" y="8587"/>
                  </a:lnTo>
                  <a:lnTo>
                    <a:pt x="1408" y="8610"/>
                  </a:lnTo>
                  <a:lnTo>
                    <a:pt x="1407" y="8634"/>
                  </a:lnTo>
                  <a:lnTo>
                    <a:pt x="1405" y="8660"/>
                  </a:lnTo>
                  <a:lnTo>
                    <a:pt x="1402" y="8685"/>
                  </a:lnTo>
                  <a:lnTo>
                    <a:pt x="1399" y="8711"/>
                  </a:lnTo>
                  <a:lnTo>
                    <a:pt x="1394" y="8737"/>
                  </a:lnTo>
                  <a:lnTo>
                    <a:pt x="1388" y="8763"/>
                  </a:lnTo>
                  <a:lnTo>
                    <a:pt x="1381" y="8791"/>
                  </a:lnTo>
                  <a:lnTo>
                    <a:pt x="1373" y="8818"/>
                  </a:lnTo>
                  <a:lnTo>
                    <a:pt x="1363" y="8845"/>
                  </a:lnTo>
                  <a:lnTo>
                    <a:pt x="1351" y="8872"/>
                  </a:lnTo>
                  <a:lnTo>
                    <a:pt x="1353" y="8875"/>
                  </a:lnTo>
                  <a:lnTo>
                    <a:pt x="1358" y="8881"/>
                  </a:lnTo>
                  <a:lnTo>
                    <a:pt x="1368" y="8891"/>
                  </a:lnTo>
                  <a:lnTo>
                    <a:pt x="1381" y="8904"/>
                  </a:lnTo>
                  <a:lnTo>
                    <a:pt x="1390" y="8910"/>
                  </a:lnTo>
                  <a:lnTo>
                    <a:pt x="1399" y="8917"/>
                  </a:lnTo>
                  <a:lnTo>
                    <a:pt x="1409" y="8923"/>
                  </a:lnTo>
                  <a:lnTo>
                    <a:pt x="1421" y="8929"/>
                  </a:lnTo>
                  <a:lnTo>
                    <a:pt x="1433" y="8936"/>
                  </a:lnTo>
                  <a:lnTo>
                    <a:pt x="1447" y="8941"/>
                  </a:lnTo>
                  <a:lnTo>
                    <a:pt x="1462" y="8946"/>
                  </a:lnTo>
                  <a:lnTo>
                    <a:pt x="1478" y="8951"/>
                  </a:lnTo>
                  <a:lnTo>
                    <a:pt x="1497" y="8955"/>
                  </a:lnTo>
                  <a:lnTo>
                    <a:pt x="1515" y="8957"/>
                  </a:lnTo>
                  <a:lnTo>
                    <a:pt x="1536" y="8959"/>
                  </a:lnTo>
                  <a:lnTo>
                    <a:pt x="1557" y="8959"/>
                  </a:lnTo>
                  <a:lnTo>
                    <a:pt x="1580" y="8959"/>
                  </a:lnTo>
                  <a:lnTo>
                    <a:pt x="1604" y="8956"/>
                  </a:lnTo>
                  <a:lnTo>
                    <a:pt x="1630" y="8953"/>
                  </a:lnTo>
                  <a:lnTo>
                    <a:pt x="1657" y="8947"/>
                  </a:lnTo>
                  <a:lnTo>
                    <a:pt x="1686" y="8939"/>
                  </a:lnTo>
                  <a:lnTo>
                    <a:pt x="1716" y="8930"/>
                  </a:lnTo>
                  <a:lnTo>
                    <a:pt x="1748" y="8919"/>
                  </a:lnTo>
                  <a:lnTo>
                    <a:pt x="1781" y="8905"/>
                  </a:lnTo>
                  <a:lnTo>
                    <a:pt x="1815" y="8888"/>
                  </a:lnTo>
                  <a:lnTo>
                    <a:pt x="1851" y="8869"/>
                  </a:lnTo>
                  <a:lnTo>
                    <a:pt x="1890" y="8848"/>
                  </a:lnTo>
                  <a:lnTo>
                    <a:pt x="1929" y="8823"/>
                  </a:lnTo>
                  <a:lnTo>
                    <a:pt x="1943" y="8821"/>
                  </a:lnTo>
                  <a:lnTo>
                    <a:pt x="1979" y="8818"/>
                  </a:lnTo>
                  <a:lnTo>
                    <a:pt x="2004" y="8818"/>
                  </a:lnTo>
                  <a:lnTo>
                    <a:pt x="2029" y="8818"/>
                  </a:lnTo>
                  <a:lnTo>
                    <a:pt x="2042" y="8819"/>
                  </a:lnTo>
                  <a:lnTo>
                    <a:pt x="2056" y="8821"/>
                  </a:lnTo>
                  <a:lnTo>
                    <a:pt x="2069" y="8823"/>
                  </a:lnTo>
                  <a:lnTo>
                    <a:pt x="2082" y="8826"/>
                  </a:lnTo>
                  <a:lnTo>
                    <a:pt x="2095" y="8830"/>
                  </a:lnTo>
                  <a:lnTo>
                    <a:pt x="2107" y="8834"/>
                  </a:lnTo>
                  <a:lnTo>
                    <a:pt x="2120" y="8839"/>
                  </a:lnTo>
                  <a:lnTo>
                    <a:pt x="2131" y="8845"/>
                  </a:lnTo>
                  <a:lnTo>
                    <a:pt x="2141" y="8853"/>
                  </a:lnTo>
                  <a:lnTo>
                    <a:pt x="2150" y="8861"/>
                  </a:lnTo>
                  <a:lnTo>
                    <a:pt x="2158" y="8870"/>
                  </a:lnTo>
                  <a:lnTo>
                    <a:pt x="2165" y="8881"/>
                  </a:lnTo>
                  <a:lnTo>
                    <a:pt x="2170" y="8893"/>
                  </a:lnTo>
                  <a:lnTo>
                    <a:pt x="2174" y="8907"/>
                  </a:lnTo>
                  <a:lnTo>
                    <a:pt x="2176" y="8922"/>
                  </a:lnTo>
                  <a:lnTo>
                    <a:pt x="2176" y="8938"/>
                  </a:lnTo>
                  <a:lnTo>
                    <a:pt x="2174" y="8956"/>
                  </a:lnTo>
                  <a:lnTo>
                    <a:pt x="2170" y="8975"/>
                  </a:lnTo>
                  <a:lnTo>
                    <a:pt x="2164" y="8996"/>
                  </a:lnTo>
                  <a:lnTo>
                    <a:pt x="2155" y="9020"/>
                  </a:lnTo>
                  <a:lnTo>
                    <a:pt x="2155" y="9025"/>
                  </a:lnTo>
                  <a:lnTo>
                    <a:pt x="2156" y="9038"/>
                  </a:lnTo>
                  <a:lnTo>
                    <a:pt x="2157" y="9047"/>
                  </a:lnTo>
                  <a:lnTo>
                    <a:pt x="2158" y="9057"/>
                  </a:lnTo>
                  <a:lnTo>
                    <a:pt x="2161" y="9069"/>
                  </a:lnTo>
                  <a:lnTo>
                    <a:pt x="2164" y="9082"/>
                  </a:lnTo>
                  <a:lnTo>
                    <a:pt x="2168" y="9096"/>
                  </a:lnTo>
                  <a:lnTo>
                    <a:pt x="2174" y="9110"/>
                  </a:lnTo>
                  <a:lnTo>
                    <a:pt x="2180" y="9125"/>
                  </a:lnTo>
                  <a:lnTo>
                    <a:pt x="2188" y="9141"/>
                  </a:lnTo>
                  <a:lnTo>
                    <a:pt x="2198" y="9156"/>
                  </a:lnTo>
                  <a:lnTo>
                    <a:pt x="2209" y="9170"/>
                  </a:lnTo>
                  <a:lnTo>
                    <a:pt x="2221" y="9185"/>
                  </a:lnTo>
                  <a:lnTo>
                    <a:pt x="2236" y="9198"/>
                  </a:lnTo>
                  <a:lnTo>
                    <a:pt x="2254" y="9211"/>
                  </a:lnTo>
                  <a:lnTo>
                    <a:pt x="2273" y="9223"/>
                  </a:lnTo>
                  <a:lnTo>
                    <a:pt x="2294" y="9233"/>
                  </a:lnTo>
                  <a:lnTo>
                    <a:pt x="2318" y="9242"/>
                  </a:lnTo>
                  <a:lnTo>
                    <a:pt x="2344" y="9249"/>
                  </a:lnTo>
                  <a:lnTo>
                    <a:pt x="2374" y="9255"/>
                  </a:lnTo>
                  <a:lnTo>
                    <a:pt x="2405" y="9259"/>
                  </a:lnTo>
                  <a:lnTo>
                    <a:pt x="2440" y="9260"/>
                  </a:lnTo>
                  <a:lnTo>
                    <a:pt x="2477" y="9258"/>
                  </a:lnTo>
                  <a:lnTo>
                    <a:pt x="2519" y="9253"/>
                  </a:lnTo>
                  <a:lnTo>
                    <a:pt x="2563" y="9245"/>
                  </a:lnTo>
                  <a:lnTo>
                    <a:pt x="2611" y="9235"/>
                  </a:lnTo>
                  <a:lnTo>
                    <a:pt x="2663" y="9221"/>
                  </a:lnTo>
                  <a:lnTo>
                    <a:pt x="2718" y="9203"/>
                  </a:lnTo>
                  <a:lnTo>
                    <a:pt x="2777" y="9182"/>
                  </a:lnTo>
                  <a:lnTo>
                    <a:pt x="2840" y="9157"/>
                  </a:lnTo>
                  <a:lnTo>
                    <a:pt x="2849" y="9152"/>
                  </a:lnTo>
                  <a:lnTo>
                    <a:pt x="2876" y="9138"/>
                  </a:lnTo>
                  <a:lnTo>
                    <a:pt x="2916" y="9116"/>
                  </a:lnTo>
                  <a:lnTo>
                    <a:pt x="2967" y="9089"/>
                  </a:lnTo>
                  <a:lnTo>
                    <a:pt x="3028" y="9059"/>
                  </a:lnTo>
                  <a:lnTo>
                    <a:pt x="3094" y="9027"/>
                  </a:lnTo>
                  <a:lnTo>
                    <a:pt x="3165" y="8994"/>
                  </a:lnTo>
                  <a:lnTo>
                    <a:pt x="3235" y="8963"/>
                  </a:lnTo>
                  <a:lnTo>
                    <a:pt x="3272" y="8949"/>
                  </a:lnTo>
                  <a:lnTo>
                    <a:pt x="3306" y="8936"/>
                  </a:lnTo>
                  <a:lnTo>
                    <a:pt x="3339" y="8924"/>
                  </a:lnTo>
                  <a:lnTo>
                    <a:pt x="3371" y="8914"/>
                  </a:lnTo>
                  <a:lnTo>
                    <a:pt x="3403" y="8905"/>
                  </a:lnTo>
                  <a:lnTo>
                    <a:pt x="3431" y="8899"/>
                  </a:lnTo>
                  <a:lnTo>
                    <a:pt x="3457" y="8894"/>
                  </a:lnTo>
                  <a:lnTo>
                    <a:pt x="3481" y="8892"/>
                  </a:lnTo>
                  <a:lnTo>
                    <a:pt x="3501" y="8892"/>
                  </a:lnTo>
                  <a:lnTo>
                    <a:pt x="3519" y="8896"/>
                  </a:lnTo>
                  <a:lnTo>
                    <a:pt x="3533" y="8903"/>
                  </a:lnTo>
                  <a:lnTo>
                    <a:pt x="3543" y="8913"/>
                  </a:lnTo>
                  <a:lnTo>
                    <a:pt x="3548" y="8926"/>
                  </a:lnTo>
                  <a:lnTo>
                    <a:pt x="3549" y="8944"/>
                  </a:lnTo>
                  <a:lnTo>
                    <a:pt x="3545" y="8965"/>
                  </a:lnTo>
                  <a:lnTo>
                    <a:pt x="3536" y="8990"/>
                  </a:lnTo>
                  <a:lnTo>
                    <a:pt x="3532" y="8996"/>
                  </a:lnTo>
                  <a:lnTo>
                    <a:pt x="3520" y="9013"/>
                  </a:lnTo>
                  <a:lnTo>
                    <a:pt x="3499" y="9042"/>
                  </a:lnTo>
                  <a:lnTo>
                    <a:pt x="3473" y="9078"/>
                  </a:lnTo>
                  <a:lnTo>
                    <a:pt x="3439" y="9122"/>
                  </a:lnTo>
                  <a:lnTo>
                    <a:pt x="3400" y="9173"/>
                  </a:lnTo>
                  <a:lnTo>
                    <a:pt x="3354" y="9228"/>
                  </a:lnTo>
                  <a:lnTo>
                    <a:pt x="3303" y="9288"/>
                  </a:lnTo>
                  <a:lnTo>
                    <a:pt x="3276" y="9319"/>
                  </a:lnTo>
                  <a:lnTo>
                    <a:pt x="3247" y="9350"/>
                  </a:lnTo>
                  <a:lnTo>
                    <a:pt x="3218" y="9382"/>
                  </a:lnTo>
                  <a:lnTo>
                    <a:pt x="3188" y="9414"/>
                  </a:lnTo>
                  <a:lnTo>
                    <a:pt x="3156" y="9445"/>
                  </a:lnTo>
                  <a:lnTo>
                    <a:pt x="3123" y="9477"/>
                  </a:lnTo>
                  <a:lnTo>
                    <a:pt x="3090" y="9509"/>
                  </a:lnTo>
                  <a:lnTo>
                    <a:pt x="3057" y="9540"/>
                  </a:lnTo>
                  <a:lnTo>
                    <a:pt x="3022" y="9570"/>
                  </a:lnTo>
                  <a:lnTo>
                    <a:pt x="2986" y="9600"/>
                  </a:lnTo>
                  <a:lnTo>
                    <a:pt x="2950" y="9629"/>
                  </a:lnTo>
                  <a:lnTo>
                    <a:pt x="2914" y="9657"/>
                  </a:lnTo>
                  <a:lnTo>
                    <a:pt x="2877" y="9683"/>
                  </a:lnTo>
                  <a:lnTo>
                    <a:pt x="2838" y="9708"/>
                  </a:lnTo>
                  <a:lnTo>
                    <a:pt x="2800" y="9732"/>
                  </a:lnTo>
                  <a:lnTo>
                    <a:pt x="2762" y="9755"/>
                  </a:lnTo>
                  <a:lnTo>
                    <a:pt x="2748" y="9759"/>
                  </a:lnTo>
                  <a:lnTo>
                    <a:pt x="2707" y="9773"/>
                  </a:lnTo>
                  <a:lnTo>
                    <a:pt x="2644" y="9796"/>
                  </a:lnTo>
                  <a:lnTo>
                    <a:pt x="2559" y="9825"/>
                  </a:lnTo>
                  <a:lnTo>
                    <a:pt x="2457" y="9863"/>
                  </a:lnTo>
                  <a:lnTo>
                    <a:pt x="2340" y="9906"/>
                  </a:lnTo>
                  <a:lnTo>
                    <a:pt x="2211" y="9955"/>
                  </a:lnTo>
                  <a:lnTo>
                    <a:pt x="2074" y="10009"/>
                  </a:lnTo>
                  <a:lnTo>
                    <a:pt x="1930" y="10067"/>
                  </a:lnTo>
                  <a:lnTo>
                    <a:pt x="1783" y="10129"/>
                  </a:lnTo>
                  <a:lnTo>
                    <a:pt x="1708" y="10160"/>
                  </a:lnTo>
                  <a:lnTo>
                    <a:pt x="1635" y="10192"/>
                  </a:lnTo>
                  <a:lnTo>
                    <a:pt x="1561" y="10226"/>
                  </a:lnTo>
                  <a:lnTo>
                    <a:pt x="1490" y="10259"/>
                  </a:lnTo>
                  <a:lnTo>
                    <a:pt x="1418" y="10292"/>
                  </a:lnTo>
                  <a:lnTo>
                    <a:pt x="1349" y="10326"/>
                  </a:lnTo>
                  <a:lnTo>
                    <a:pt x="1282" y="10360"/>
                  </a:lnTo>
                  <a:lnTo>
                    <a:pt x="1217" y="10394"/>
                  </a:lnTo>
                  <a:lnTo>
                    <a:pt x="1155" y="10428"/>
                  </a:lnTo>
                  <a:lnTo>
                    <a:pt x="1096" y="10462"/>
                  </a:lnTo>
                  <a:lnTo>
                    <a:pt x="1041" y="10495"/>
                  </a:lnTo>
                  <a:lnTo>
                    <a:pt x="989" y="10528"/>
                  </a:lnTo>
                  <a:lnTo>
                    <a:pt x="981" y="10530"/>
                  </a:lnTo>
                  <a:lnTo>
                    <a:pt x="959" y="10534"/>
                  </a:lnTo>
                  <a:lnTo>
                    <a:pt x="924" y="10541"/>
                  </a:lnTo>
                  <a:lnTo>
                    <a:pt x="877" y="10551"/>
                  </a:lnTo>
                  <a:lnTo>
                    <a:pt x="820" y="10564"/>
                  </a:lnTo>
                  <a:lnTo>
                    <a:pt x="756" y="10581"/>
                  </a:lnTo>
                  <a:lnTo>
                    <a:pt x="684" y="10600"/>
                  </a:lnTo>
                  <a:lnTo>
                    <a:pt x="609" y="10622"/>
                  </a:lnTo>
                  <a:lnTo>
                    <a:pt x="568" y="10634"/>
                  </a:lnTo>
                  <a:lnTo>
                    <a:pt x="528" y="10647"/>
                  </a:lnTo>
                  <a:lnTo>
                    <a:pt x="488" y="10661"/>
                  </a:lnTo>
                  <a:lnTo>
                    <a:pt x="446" y="10676"/>
                  </a:lnTo>
                  <a:lnTo>
                    <a:pt x="405" y="10691"/>
                  </a:lnTo>
                  <a:lnTo>
                    <a:pt x="364" y="10708"/>
                  </a:lnTo>
                  <a:lnTo>
                    <a:pt x="322" y="10726"/>
                  </a:lnTo>
                  <a:lnTo>
                    <a:pt x="282" y="10744"/>
                  </a:lnTo>
                  <a:lnTo>
                    <a:pt x="243" y="10762"/>
                  </a:lnTo>
                  <a:lnTo>
                    <a:pt x="203" y="10782"/>
                  </a:lnTo>
                  <a:lnTo>
                    <a:pt x="166" y="10803"/>
                  </a:lnTo>
                  <a:lnTo>
                    <a:pt x="129" y="10825"/>
                  </a:lnTo>
                  <a:lnTo>
                    <a:pt x="94" y="10848"/>
                  </a:lnTo>
                  <a:lnTo>
                    <a:pt x="60" y="10871"/>
                  </a:lnTo>
                  <a:lnTo>
                    <a:pt x="29" y="10895"/>
                  </a:lnTo>
                  <a:lnTo>
                    <a:pt x="0" y="10920"/>
                  </a:lnTo>
                  <a:lnTo>
                    <a:pt x="7" y="10919"/>
                  </a:lnTo>
                  <a:lnTo>
                    <a:pt x="27" y="10915"/>
                  </a:lnTo>
                  <a:lnTo>
                    <a:pt x="60" y="10909"/>
                  </a:lnTo>
                  <a:lnTo>
                    <a:pt x="105" y="10901"/>
                  </a:lnTo>
                  <a:lnTo>
                    <a:pt x="160" y="10892"/>
                  </a:lnTo>
                  <a:lnTo>
                    <a:pt x="225" y="10881"/>
                  </a:lnTo>
                  <a:lnTo>
                    <a:pt x="299" y="10869"/>
                  </a:lnTo>
                  <a:lnTo>
                    <a:pt x="381" y="10856"/>
                  </a:lnTo>
                  <a:lnTo>
                    <a:pt x="468" y="10842"/>
                  </a:lnTo>
                  <a:lnTo>
                    <a:pt x="562" y="10829"/>
                  </a:lnTo>
                  <a:lnTo>
                    <a:pt x="661" y="10815"/>
                  </a:lnTo>
                  <a:lnTo>
                    <a:pt x="764" y="10800"/>
                  </a:lnTo>
                  <a:lnTo>
                    <a:pt x="870" y="10787"/>
                  </a:lnTo>
                  <a:lnTo>
                    <a:pt x="977" y="10775"/>
                  </a:lnTo>
                  <a:lnTo>
                    <a:pt x="1086" y="10764"/>
                  </a:lnTo>
                  <a:lnTo>
                    <a:pt x="1194" y="10754"/>
                  </a:lnTo>
                  <a:lnTo>
                    <a:pt x="1252" y="10749"/>
                  </a:lnTo>
                  <a:lnTo>
                    <a:pt x="1313" y="10740"/>
                  </a:lnTo>
                  <a:lnTo>
                    <a:pt x="1381" y="10729"/>
                  </a:lnTo>
                  <a:lnTo>
                    <a:pt x="1452" y="10714"/>
                  </a:lnTo>
                  <a:lnTo>
                    <a:pt x="1528" y="10697"/>
                  </a:lnTo>
                  <a:lnTo>
                    <a:pt x="1607" y="10676"/>
                  </a:lnTo>
                  <a:lnTo>
                    <a:pt x="1690" y="10654"/>
                  </a:lnTo>
                  <a:lnTo>
                    <a:pt x="1777" y="10629"/>
                  </a:lnTo>
                  <a:lnTo>
                    <a:pt x="1866" y="10602"/>
                  </a:lnTo>
                  <a:lnTo>
                    <a:pt x="1957" y="10573"/>
                  </a:lnTo>
                  <a:lnTo>
                    <a:pt x="2052" y="10541"/>
                  </a:lnTo>
                  <a:lnTo>
                    <a:pt x="2148" y="10509"/>
                  </a:lnTo>
                  <a:lnTo>
                    <a:pt x="2246" y="10475"/>
                  </a:lnTo>
                  <a:lnTo>
                    <a:pt x="2344" y="10438"/>
                  </a:lnTo>
                  <a:lnTo>
                    <a:pt x="2444" y="10401"/>
                  </a:lnTo>
                  <a:lnTo>
                    <a:pt x="2544" y="10363"/>
                  </a:lnTo>
                  <a:lnTo>
                    <a:pt x="2645" y="10323"/>
                  </a:lnTo>
                  <a:lnTo>
                    <a:pt x="2745" y="10284"/>
                  </a:lnTo>
                  <a:lnTo>
                    <a:pt x="2845" y="10243"/>
                  </a:lnTo>
                  <a:lnTo>
                    <a:pt x="2945" y="10201"/>
                  </a:lnTo>
                  <a:lnTo>
                    <a:pt x="3044" y="10160"/>
                  </a:lnTo>
                  <a:lnTo>
                    <a:pt x="3141" y="10118"/>
                  </a:lnTo>
                  <a:lnTo>
                    <a:pt x="3236" y="10075"/>
                  </a:lnTo>
                  <a:lnTo>
                    <a:pt x="3330" y="10033"/>
                  </a:lnTo>
                  <a:lnTo>
                    <a:pt x="3421" y="9992"/>
                  </a:lnTo>
                  <a:lnTo>
                    <a:pt x="3510" y="9949"/>
                  </a:lnTo>
                  <a:lnTo>
                    <a:pt x="3595" y="9909"/>
                  </a:lnTo>
                  <a:lnTo>
                    <a:pt x="3678" y="9868"/>
                  </a:lnTo>
                  <a:lnTo>
                    <a:pt x="3756" y="9828"/>
                  </a:lnTo>
                  <a:lnTo>
                    <a:pt x="3831" y="9789"/>
                  </a:lnTo>
                  <a:lnTo>
                    <a:pt x="3901" y="9752"/>
                  </a:lnTo>
                  <a:lnTo>
                    <a:pt x="3967" y="9715"/>
                  </a:lnTo>
                  <a:lnTo>
                    <a:pt x="3983" y="9711"/>
                  </a:lnTo>
                  <a:lnTo>
                    <a:pt x="4029" y="9701"/>
                  </a:lnTo>
                  <a:lnTo>
                    <a:pt x="4098" y="9684"/>
                  </a:lnTo>
                  <a:lnTo>
                    <a:pt x="4187" y="9661"/>
                  </a:lnTo>
                  <a:lnTo>
                    <a:pt x="4237" y="9647"/>
                  </a:lnTo>
                  <a:lnTo>
                    <a:pt x="4291" y="9632"/>
                  </a:lnTo>
                  <a:lnTo>
                    <a:pt x="4346" y="9616"/>
                  </a:lnTo>
                  <a:lnTo>
                    <a:pt x="4404" y="9598"/>
                  </a:lnTo>
                  <a:lnTo>
                    <a:pt x="4463" y="9579"/>
                  </a:lnTo>
                  <a:lnTo>
                    <a:pt x="4523" y="9559"/>
                  </a:lnTo>
                  <a:lnTo>
                    <a:pt x="4581" y="9538"/>
                  </a:lnTo>
                  <a:lnTo>
                    <a:pt x="4641" y="9516"/>
                  </a:lnTo>
                  <a:lnTo>
                    <a:pt x="4698" y="9492"/>
                  </a:lnTo>
                  <a:lnTo>
                    <a:pt x="4753" y="9468"/>
                  </a:lnTo>
                  <a:lnTo>
                    <a:pt x="4807" y="9443"/>
                  </a:lnTo>
                  <a:lnTo>
                    <a:pt x="4857" y="9417"/>
                  </a:lnTo>
                  <a:lnTo>
                    <a:pt x="4905" y="9391"/>
                  </a:lnTo>
                  <a:lnTo>
                    <a:pt x="4947" y="9362"/>
                  </a:lnTo>
                  <a:lnTo>
                    <a:pt x="4984" y="9335"/>
                  </a:lnTo>
                  <a:lnTo>
                    <a:pt x="5017" y="9306"/>
                  </a:lnTo>
                  <a:lnTo>
                    <a:pt x="5043" y="9277"/>
                  </a:lnTo>
                  <a:lnTo>
                    <a:pt x="5062" y="9246"/>
                  </a:lnTo>
                  <a:lnTo>
                    <a:pt x="5074" y="9216"/>
                  </a:lnTo>
                  <a:lnTo>
                    <a:pt x="5079" y="9185"/>
                  </a:lnTo>
                  <a:lnTo>
                    <a:pt x="5075" y="9154"/>
                  </a:lnTo>
                  <a:lnTo>
                    <a:pt x="5061" y="9122"/>
                  </a:lnTo>
                  <a:lnTo>
                    <a:pt x="5039" y="9091"/>
                  </a:lnTo>
                  <a:lnTo>
                    <a:pt x="5005" y="9059"/>
                  </a:lnTo>
                  <a:lnTo>
                    <a:pt x="5002" y="9057"/>
                  </a:lnTo>
                  <a:lnTo>
                    <a:pt x="4993" y="9052"/>
                  </a:lnTo>
                  <a:lnTo>
                    <a:pt x="4980" y="9045"/>
                  </a:lnTo>
                  <a:lnTo>
                    <a:pt x="4964" y="9034"/>
                  </a:lnTo>
                  <a:lnTo>
                    <a:pt x="4947" y="9022"/>
                  </a:lnTo>
                  <a:lnTo>
                    <a:pt x="4931" y="9006"/>
                  </a:lnTo>
                  <a:lnTo>
                    <a:pt x="4923" y="8999"/>
                  </a:lnTo>
                  <a:lnTo>
                    <a:pt x="4916" y="8990"/>
                  </a:lnTo>
                  <a:lnTo>
                    <a:pt x="4910" y="8982"/>
                  </a:lnTo>
                  <a:lnTo>
                    <a:pt x="4905" y="8973"/>
                  </a:lnTo>
                  <a:lnTo>
                    <a:pt x="4901" y="8963"/>
                  </a:lnTo>
                  <a:lnTo>
                    <a:pt x="4899" y="8954"/>
                  </a:lnTo>
                  <a:lnTo>
                    <a:pt x="4898" y="8944"/>
                  </a:lnTo>
                  <a:lnTo>
                    <a:pt x="4898" y="8934"/>
                  </a:lnTo>
                  <a:lnTo>
                    <a:pt x="4901" y="8924"/>
                  </a:lnTo>
                  <a:lnTo>
                    <a:pt x="4906" y="8914"/>
                  </a:lnTo>
                  <a:lnTo>
                    <a:pt x="4913" y="8904"/>
                  </a:lnTo>
                  <a:lnTo>
                    <a:pt x="4923" y="8893"/>
                  </a:lnTo>
                  <a:lnTo>
                    <a:pt x="4935" y="8883"/>
                  </a:lnTo>
                  <a:lnTo>
                    <a:pt x="4950" y="8872"/>
                  </a:lnTo>
                  <a:lnTo>
                    <a:pt x="4968" y="8862"/>
                  </a:lnTo>
                  <a:lnTo>
                    <a:pt x="4990" y="8852"/>
                  </a:lnTo>
                  <a:lnTo>
                    <a:pt x="5016" y="8842"/>
                  </a:lnTo>
                  <a:lnTo>
                    <a:pt x="5044" y="8833"/>
                  </a:lnTo>
                  <a:lnTo>
                    <a:pt x="5076" y="8823"/>
                  </a:lnTo>
                  <a:lnTo>
                    <a:pt x="5113" y="8814"/>
                  </a:lnTo>
                  <a:lnTo>
                    <a:pt x="5123" y="8807"/>
                  </a:lnTo>
                  <a:lnTo>
                    <a:pt x="5154" y="8788"/>
                  </a:lnTo>
                  <a:lnTo>
                    <a:pt x="5202" y="8758"/>
                  </a:lnTo>
                  <a:lnTo>
                    <a:pt x="5264" y="8718"/>
                  </a:lnTo>
                  <a:lnTo>
                    <a:pt x="5340" y="8669"/>
                  </a:lnTo>
                  <a:lnTo>
                    <a:pt x="5426" y="8611"/>
                  </a:lnTo>
                  <a:lnTo>
                    <a:pt x="5521" y="8549"/>
                  </a:lnTo>
                  <a:lnTo>
                    <a:pt x="5620" y="8479"/>
                  </a:lnTo>
                  <a:lnTo>
                    <a:pt x="5723" y="8406"/>
                  </a:lnTo>
                  <a:lnTo>
                    <a:pt x="5828" y="8330"/>
                  </a:lnTo>
                  <a:lnTo>
                    <a:pt x="5879" y="8291"/>
                  </a:lnTo>
                  <a:lnTo>
                    <a:pt x="5931" y="8252"/>
                  </a:lnTo>
                  <a:lnTo>
                    <a:pt x="5981" y="8213"/>
                  </a:lnTo>
                  <a:lnTo>
                    <a:pt x="6031" y="8172"/>
                  </a:lnTo>
                  <a:lnTo>
                    <a:pt x="6078" y="8133"/>
                  </a:lnTo>
                  <a:lnTo>
                    <a:pt x="6124" y="8095"/>
                  </a:lnTo>
                  <a:lnTo>
                    <a:pt x="6169" y="8055"/>
                  </a:lnTo>
                  <a:lnTo>
                    <a:pt x="6210" y="8017"/>
                  </a:lnTo>
                  <a:lnTo>
                    <a:pt x="6249" y="7980"/>
                  </a:lnTo>
                  <a:lnTo>
                    <a:pt x="6285" y="7944"/>
                  </a:lnTo>
                  <a:lnTo>
                    <a:pt x="6318" y="7907"/>
                  </a:lnTo>
                  <a:lnTo>
                    <a:pt x="6347" y="7873"/>
                  </a:lnTo>
                  <a:lnTo>
                    <a:pt x="6354" y="7870"/>
                  </a:lnTo>
                  <a:lnTo>
                    <a:pt x="6375" y="7862"/>
                  </a:lnTo>
                  <a:lnTo>
                    <a:pt x="6409" y="7850"/>
                  </a:lnTo>
                  <a:lnTo>
                    <a:pt x="6455" y="7835"/>
                  </a:lnTo>
                  <a:lnTo>
                    <a:pt x="6513" y="7817"/>
                  </a:lnTo>
                  <a:lnTo>
                    <a:pt x="6583" y="7798"/>
                  </a:lnTo>
                  <a:lnTo>
                    <a:pt x="6622" y="7788"/>
                  </a:lnTo>
                  <a:lnTo>
                    <a:pt x="6664" y="7778"/>
                  </a:lnTo>
                  <a:lnTo>
                    <a:pt x="6708" y="7768"/>
                  </a:lnTo>
                  <a:lnTo>
                    <a:pt x="6755" y="7759"/>
                  </a:lnTo>
                  <a:lnTo>
                    <a:pt x="6804" y="7750"/>
                  </a:lnTo>
                  <a:lnTo>
                    <a:pt x="6856" y="7741"/>
                  </a:lnTo>
                  <a:lnTo>
                    <a:pt x="6910" y="7733"/>
                  </a:lnTo>
                  <a:lnTo>
                    <a:pt x="6966" y="7725"/>
                  </a:lnTo>
                  <a:lnTo>
                    <a:pt x="7023" y="7719"/>
                  </a:lnTo>
                  <a:lnTo>
                    <a:pt x="7084" y="7713"/>
                  </a:lnTo>
                  <a:lnTo>
                    <a:pt x="7146" y="7708"/>
                  </a:lnTo>
                  <a:lnTo>
                    <a:pt x="7211" y="7704"/>
                  </a:lnTo>
                  <a:lnTo>
                    <a:pt x="7277" y="7700"/>
                  </a:lnTo>
                  <a:lnTo>
                    <a:pt x="7345" y="7699"/>
                  </a:lnTo>
                  <a:lnTo>
                    <a:pt x="7415" y="7699"/>
                  </a:lnTo>
                  <a:lnTo>
                    <a:pt x="7486" y="7702"/>
                  </a:lnTo>
                  <a:lnTo>
                    <a:pt x="7560" y="7705"/>
                  </a:lnTo>
                  <a:lnTo>
                    <a:pt x="7634" y="7710"/>
                  </a:lnTo>
                  <a:lnTo>
                    <a:pt x="7710" y="7717"/>
                  </a:lnTo>
                  <a:lnTo>
                    <a:pt x="7788" y="7726"/>
                  </a:lnTo>
                  <a:lnTo>
                    <a:pt x="7792" y="7728"/>
                  </a:lnTo>
                  <a:lnTo>
                    <a:pt x="7804" y="7735"/>
                  </a:lnTo>
                  <a:lnTo>
                    <a:pt x="7822" y="7744"/>
                  </a:lnTo>
                  <a:lnTo>
                    <a:pt x="7845" y="7758"/>
                  </a:lnTo>
                  <a:lnTo>
                    <a:pt x="7870" y="7773"/>
                  </a:lnTo>
                  <a:lnTo>
                    <a:pt x="7896" y="7791"/>
                  </a:lnTo>
                  <a:lnTo>
                    <a:pt x="7909" y="7801"/>
                  </a:lnTo>
                  <a:lnTo>
                    <a:pt x="7923" y="7811"/>
                  </a:lnTo>
                  <a:lnTo>
                    <a:pt x="7935" y="7822"/>
                  </a:lnTo>
                  <a:lnTo>
                    <a:pt x="7947" y="7833"/>
                  </a:lnTo>
                  <a:lnTo>
                    <a:pt x="7957" y="7844"/>
                  </a:lnTo>
                  <a:lnTo>
                    <a:pt x="7966" y="7855"/>
                  </a:lnTo>
                  <a:lnTo>
                    <a:pt x="7974" y="7866"/>
                  </a:lnTo>
                  <a:lnTo>
                    <a:pt x="7980" y="7877"/>
                  </a:lnTo>
                  <a:lnTo>
                    <a:pt x="7985" y="7888"/>
                  </a:lnTo>
                  <a:lnTo>
                    <a:pt x="7987" y="7898"/>
                  </a:lnTo>
                  <a:lnTo>
                    <a:pt x="7988" y="7909"/>
                  </a:lnTo>
                  <a:lnTo>
                    <a:pt x="7986" y="7920"/>
                  </a:lnTo>
                  <a:lnTo>
                    <a:pt x="7981" y="7930"/>
                  </a:lnTo>
                  <a:lnTo>
                    <a:pt x="7973" y="7941"/>
                  </a:lnTo>
                  <a:lnTo>
                    <a:pt x="7963" y="7951"/>
                  </a:lnTo>
                  <a:lnTo>
                    <a:pt x="7949" y="7960"/>
                  </a:lnTo>
                  <a:lnTo>
                    <a:pt x="7931" y="7968"/>
                  </a:lnTo>
                  <a:lnTo>
                    <a:pt x="7909" y="7976"/>
                  </a:lnTo>
                  <a:lnTo>
                    <a:pt x="7885" y="7984"/>
                  </a:lnTo>
                  <a:lnTo>
                    <a:pt x="7856" y="7990"/>
                  </a:lnTo>
                  <a:lnTo>
                    <a:pt x="7844" y="7990"/>
                  </a:lnTo>
                  <a:lnTo>
                    <a:pt x="7810" y="7990"/>
                  </a:lnTo>
                  <a:lnTo>
                    <a:pt x="7757" y="7989"/>
                  </a:lnTo>
                  <a:lnTo>
                    <a:pt x="7687" y="7990"/>
                  </a:lnTo>
                  <a:lnTo>
                    <a:pt x="7602" y="7992"/>
                  </a:lnTo>
                  <a:lnTo>
                    <a:pt x="7506" y="7997"/>
                  </a:lnTo>
                  <a:lnTo>
                    <a:pt x="7455" y="8001"/>
                  </a:lnTo>
                  <a:lnTo>
                    <a:pt x="7400" y="8005"/>
                  </a:lnTo>
                  <a:lnTo>
                    <a:pt x="7345" y="8010"/>
                  </a:lnTo>
                  <a:lnTo>
                    <a:pt x="7289" y="8016"/>
                  </a:lnTo>
                  <a:lnTo>
                    <a:pt x="7231" y="8023"/>
                  </a:lnTo>
                  <a:lnTo>
                    <a:pt x="7173" y="8031"/>
                  </a:lnTo>
                  <a:lnTo>
                    <a:pt x="7114" y="8041"/>
                  </a:lnTo>
                  <a:lnTo>
                    <a:pt x="7056" y="8052"/>
                  </a:lnTo>
                  <a:lnTo>
                    <a:pt x="6997" y="8065"/>
                  </a:lnTo>
                  <a:lnTo>
                    <a:pt x="6940" y="8079"/>
                  </a:lnTo>
                  <a:lnTo>
                    <a:pt x="6882" y="8094"/>
                  </a:lnTo>
                  <a:lnTo>
                    <a:pt x="6827" y="8110"/>
                  </a:lnTo>
                  <a:lnTo>
                    <a:pt x="6772" y="8129"/>
                  </a:lnTo>
                  <a:lnTo>
                    <a:pt x="6720" y="8149"/>
                  </a:lnTo>
                  <a:lnTo>
                    <a:pt x="6671" y="8171"/>
                  </a:lnTo>
                  <a:lnTo>
                    <a:pt x="6623" y="8196"/>
                  </a:lnTo>
                  <a:lnTo>
                    <a:pt x="6578" y="8222"/>
                  </a:lnTo>
                  <a:lnTo>
                    <a:pt x="6537" y="8250"/>
                  </a:lnTo>
                  <a:lnTo>
                    <a:pt x="6499" y="8281"/>
                  </a:lnTo>
                  <a:lnTo>
                    <a:pt x="6465" y="8314"/>
                  </a:lnTo>
                  <a:lnTo>
                    <a:pt x="6456" y="8326"/>
                  </a:lnTo>
                  <a:lnTo>
                    <a:pt x="6431" y="8359"/>
                  </a:lnTo>
                  <a:lnTo>
                    <a:pt x="6414" y="8380"/>
                  </a:lnTo>
                  <a:lnTo>
                    <a:pt x="6392" y="8405"/>
                  </a:lnTo>
                  <a:lnTo>
                    <a:pt x="6368" y="8432"/>
                  </a:lnTo>
                  <a:lnTo>
                    <a:pt x="6342" y="8460"/>
                  </a:lnTo>
                  <a:lnTo>
                    <a:pt x="6314" y="8488"/>
                  </a:lnTo>
                  <a:lnTo>
                    <a:pt x="6283" y="8515"/>
                  </a:lnTo>
                  <a:lnTo>
                    <a:pt x="6267" y="8528"/>
                  </a:lnTo>
                  <a:lnTo>
                    <a:pt x="6250" y="8542"/>
                  </a:lnTo>
                  <a:lnTo>
                    <a:pt x="6234" y="8555"/>
                  </a:lnTo>
                  <a:lnTo>
                    <a:pt x="6217" y="8566"/>
                  </a:lnTo>
                  <a:lnTo>
                    <a:pt x="6200" y="8577"/>
                  </a:lnTo>
                  <a:lnTo>
                    <a:pt x="6182" y="8588"/>
                  </a:lnTo>
                  <a:lnTo>
                    <a:pt x="6164" y="8597"/>
                  </a:lnTo>
                  <a:lnTo>
                    <a:pt x="6146" y="8605"/>
                  </a:lnTo>
                  <a:lnTo>
                    <a:pt x="6128" y="8613"/>
                  </a:lnTo>
                  <a:lnTo>
                    <a:pt x="6109" y="8619"/>
                  </a:lnTo>
                  <a:lnTo>
                    <a:pt x="6091" y="8624"/>
                  </a:lnTo>
                  <a:lnTo>
                    <a:pt x="6073" y="8627"/>
                  </a:lnTo>
                  <a:lnTo>
                    <a:pt x="6069" y="8633"/>
                  </a:lnTo>
                  <a:lnTo>
                    <a:pt x="6059" y="8649"/>
                  </a:lnTo>
                  <a:lnTo>
                    <a:pt x="6044" y="8676"/>
                  </a:lnTo>
                  <a:lnTo>
                    <a:pt x="6028" y="8708"/>
                  </a:lnTo>
                  <a:lnTo>
                    <a:pt x="6018" y="8726"/>
                  </a:lnTo>
                  <a:lnTo>
                    <a:pt x="6010" y="8745"/>
                  </a:lnTo>
                  <a:lnTo>
                    <a:pt x="6002" y="8765"/>
                  </a:lnTo>
                  <a:lnTo>
                    <a:pt x="5995" y="8787"/>
                  </a:lnTo>
                  <a:lnTo>
                    <a:pt x="5988" y="8808"/>
                  </a:lnTo>
                  <a:lnTo>
                    <a:pt x="5984" y="8830"/>
                  </a:lnTo>
                  <a:lnTo>
                    <a:pt x="5980" y="8851"/>
                  </a:lnTo>
                  <a:lnTo>
                    <a:pt x="5979" y="8872"/>
                  </a:lnTo>
                  <a:lnTo>
                    <a:pt x="5979" y="8893"/>
                  </a:lnTo>
                  <a:lnTo>
                    <a:pt x="5982" y="8914"/>
                  </a:lnTo>
                  <a:lnTo>
                    <a:pt x="5987" y="8933"/>
                  </a:lnTo>
                  <a:lnTo>
                    <a:pt x="5995" y="8951"/>
                  </a:lnTo>
                  <a:lnTo>
                    <a:pt x="6006" y="8968"/>
                  </a:lnTo>
                  <a:lnTo>
                    <a:pt x="6020" y="8983"/>
                  </a:lnTo>
                  <a:lnTo>
                    <a:pt x="6039" y="8996"/>
                  </a:lnTo>
                  <a:lnTo>
                    <a:pt x="6061" y="9007"/>
                  </a:lnTo>
                  <a:lnTo>
                    <a:pt x="6087" y="9016"/>
                  </a:lnTo>
                  <a:lnTo>
                    <a:pt x="6117" y="9024"/>
                  </a:lnTo>
                  <a:lnTo>
                    <a:pt x="6153" y="9028"/>
                  </a:lnTo>
                  <a:lnTo>
                    <a:pt x="6192" y="9029"/>
                  </a:lnTo>
                  <a:lnTo>
                    <a:pt x="6237" y="9027"/>
                  </a:lnTo>
                  <a:lnTo>
                    <a:pt x="6288" y="9022"/>
                  </a:lnTo>
                  <a:lnTo>
                    <a:pt x="6344" y="9012"/>
                  </a:lnTo>
                  <a:lnTo>
                    <a:pt x="6407" y="8999"/>
                  </a:lnTo>
                  <a:lnTo>
                    <a:pt x="6419" y="8996"/>
                  </a:lnTo>
                  <a:lnTo>
                    <a:pt x="6455" y="8986"/>
                  </a:lnTo>
                  <a:lnTo>
                    <a:pt x="6511" y="8970"/>
                  </a:lnTo>
                  <a:lnTo>
                    <a:pt x="6586" y="8949"/>
                  </a:lnTo>
                  <a:lnTo>
                    <a:pt x="6674" y="8923"/>
                  </a:lnTo>
                  <a:lnTo>
                    <a:pt x="6773" y="8892"/>
                  </a:lnTo>
                  <a:lnTo>
                    <a:pt x="6880" y="8859"/>
                  </a:lnTo>
                  <a:lnTo>
                    <a:pt x="6992" y="8822"/>
                  </a:lnTo>
                  <a:lnTo>
                    <a:pt x="7050" y="8803"/>
                  </a:lnTo>
                  <a:lnTo>
                    <a:pt x="7106" y="8783"/>
                  </a:lnTo>
                  <a:lnTo>
                    <a:pt x="7163" y="8762"/>
                  </a:lnTo>
                  <a:lnTo>
                    <a:pt x="7219" y="8742"/>
                  </a:lnTo>
                  <a:lnTo>
                    <a:pt x="7273" y="8721"/>
                  </a:lnTo>
                  <a:lnTo>
                    <a:pt x="7327" y="8700"/>
                  </a:lnTo>
                  <a:lnTo>
                    <a:pt x="7378" y="8678"/>
                  </a:lnTo>
                  <a:lnTo>
                    <a:pt x="7427" y="8656"/>
                  </a:lnTo>
                  <a:lnTo>
                    <a:pt x="7473" y="8635"/>
                  </a:lnTo>
                  <a:lnTo>
                    <a:pt x="7516" y="8614"/>
                  </a:lnTo>
                  <a:lnTo>
                    <a:pt x="7556" y="8592"/>
                  </a:lnTo>
                  <a:lnTo>
                    <a:pt x="7592" y="8571"/>
                  </a:lnTo>
                  <a:lnTo>
                    <a:pt x="7623" y="8551"/>
                  </a:lnTo>
                  <a:lnTo>
                    <a:pt x="7650" y="8529"/>
                  </a:lnTo>
                  <a:lnTo>
                    <a:pt x="7673" y="8510"/>
                  </a:lnTo>
                  <a:lnTo>
                    <a:pt x="7690" y="8490"/>
                  </a:lnTo>
                  <a:lnTo>
                    <a:pt x="7695" y="8485"/>
                  </a:lnTo>
                  <a:lnTo>
                    <a:pt x="7710" y="8472"/>
                  </a:lnTo>
                  <a:lnTo>
                    <a:pt x="7734" y="8452"/>
                  </a:lnTo>
                  <a:lnTo>
                    <a:pt x="7767" y="8428"/>
                  </a:lnTo>
                  <a:lnTo>
                    <a:pt x="7788" y="8414"/>
                  </a:lnTo>
                  <a:lnTo>
                    <a:pt x="7810" y="8400"/>
                  </a:lnTo>
                  <a:lnTo>
                    <a:pt x="7834" y="8386"/>
                  </a:lnTo>
                  <a:lnTo>
                    <a:pt x="7861" y="8372"/>
                  </a:lnTo>
                  <a:lnTo>
                    <a:pt x="7889" y="8358"/>
                  </a:lnTo>
                  <a:lnTo>
                    <a:pt x="7920" y="8345"/>
                  </a:lnTo>
                  <a:lnTo>
                    <a:pt x="7952" y="8332"/>
                  </a:lnTo>
                  <a:lnTo>
                    <a:pt x="7986" y="8320"/>
                  </a:lnTo>
                  <a:lnTo>
                    <a:pt x="8021" y="8310"/>
                  </a:lnTo>
                  <a:lnTo>
                    <a:pt x="8059" y="8301"/>
                  </a:lnTo>
                  <a:lnTo>
                    <a:pt x="8098" y="8292"/>
                  </a:lnTo>
                  <a:lnTo>
                    <a:pt x="8139" y="8286"/>
                  </a:lnTo>
                  <a:lnTo>
                    <a:pt x="8182" y="8283"/>
                  </a:lnTo>
                  <a:lnTo>
                    <a:pt x="8225" y="8282"/>
                  </a:lnTo>
                  <a:lnTo>
                    <a:pt x="8270" y="8283"/>
                  </a:lnTo>
                  <a:lnTo>
                    <a:pt x="8318" y="8287"/>
                  </a:lnTo>
                  <a:lnTo>
                    <a:pt x="8366" y="8294"/>
                  </a:lnTo>
                  <a:lnTo>
                    <a:pt x="8415" y="8306"/>
                  </a:lnTo>
                  <a:lnTo>
                    <a:pt x="8466" y="8320"/>
                  </a:lnTo>
                  <a:lnTo>
                    <a:pt x="8518" y="8338"/>
                  </a:lnTo>
                  <a:lnTo>
                    <a:pt x="8572" y="8359"/>
                  </a:lnTo>
                  <a:lnTo>
                    <a:pt x="8625" y="8385"/>
                  </a:lnTo>
                  <a:lnTo>
                    <a:pt x="8681" y="8415"/>
                  </a:lnTo>
                  <a:lnTo>
                    <a:pt x="8737" y="8451"/>
                  </a:lnTo>
                  <a:lnTo>
                    <a:pt x="8758" y="8461"/>
                  </a:lnTo>
                  <a:lnTo>
                    <a:pt x="8817" y="8489"/>
                  </a:lnTo>
                  <a:lnTo>
                    <a:pt x="8908" y="8532"/>
                  </a:lnTo>
                  <a:lnTo>
                    <a:pt x="9028" y="8588"/>
                  </a:lnTo>
                  <a:lnTo>
                    <a:pt x="9171" y="8653"/>
                  </a:lnTo>
                  <a:lnTo>
                    <a:pt x="9332" y="8726"/>
                  </a:lnTo>
                  <a:lnTo>
                    <a:pt x="9417" y="8763"/>
                  </a:lnTo>
                  <a:lnTo>
                    <a:pt x="9505" y="8803"/>
                  </a:lnTo>
                  <a:lnTo>
                    <a:pt x="9595" y="8841"/>
                  </a:lnTo>
                  <a:lnTo>
                    <a:pt x="9687" y="8879"/>
                  </a:lnTo>
                  <a:lnTo>
                    <a:pt x="9778" y="8918"/>
                  </a:lnTo>
                  <a:lnTo>
                    <a:pt x="9870" y="8956"/>
                  </a:lnTo>
                  <a:lnTo>
                    <a:pt x="9962" y="8992"/>
                  </a:lnTo>
                  <a:lnTo>
                    <a:pt x="10051" y="9028"/>
                  </a:lnTo>
                  <a:lnTo>
                    <a:pt x="10139" y="9060"/>
                  </a:lnTo>
                  <a:lnTo>
                    <a:pt x="10225" y="9091"/>
                  </a:lnTo>
                  <a:lnTo>
                    <a:pt x="10308" y="9120"/>
                  </a:lnTo>
                  <a:lnTo>
                    <a:pt x="10386" y="9146"/>
                  </a:lnTo>
                  <a:lnTo>
                    <a:pt x="10461" y="9168"/>
                  </a:lnTo>
                  <a:lnTo>
                    <a:pt x="10530" y="9187"/>
                  </a:lnTo>
                  <a:lnTo>
                    <a:pt x="10594" y="9202"/>
                  </a:lnTo>
                  <a:lnTo>
                    <a:pt x="10651" y="9212"/>
                  </a:lnTo>
                  <a:lnTo>
                    <a:pt x="10702" y="9218"/>
                  </a:lnTo>
                  <a:lnTo>
                    <a:pt x="10744" y="9220"/>
                  </a:lnTo>
                  <a:lnTo>
                    <a:pt x="10778" y="9215"/>
                  </a:lnTo>
                  <a:lnTo>
                    <a:pt x="10804" y="9205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Freeform 239"/>
            <p:cNvSpPr/>
            <p:nvPr/>
          </p:nvSpPr>
          <p:spPr>
            <a:xfrm>
              <a:off x="5411880" y="515268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45" h="610">
                  <a:moveTo>
                    <a:pt x="541" y="50"/>
                  </a:moveTo>
                  <a:lnTo>
                    <a:pt x="532" y="48"/>
                  </a:lnTo>
                  <a:lnTo>
                    <a:pt x="510" y="42"/>
                  </a:lnTo>
                  <a:lnTo>
                    <a:pt x="476" y="33"/>
                  </a:lnTo>
                  <a:lnTo>
                    <a:pt x="433" y="23"/>
                  </a:lnTo>
                  <a:lnTo>
                    <a:pt x="408" y="18"/>
                  </a:lnTo>
                  <a:lnTo>
                    <a:pt x="381" y="14"/>
                  </a:lnTo>
                  <a:lnTo>
                    <a:pt x="354" y="9"/>
                  </a:lnTo>
                  <a:lnTo>
                    <a:pt x="326" y="6"/>
                  </a:lnTo>
                  <a:lnTo>
                    <a:pt x="297" y="3"/>
                  </a:lnTo>
                  <a:lnTo>
                    <a:pt x="267" y="1"/>
                  </a:lnTo>
                  <a:lnTo>
                    <a:pt x="239" y="0"/>
                  </a:lnTo>
                  <a:lnTo>
                    <a:pt x="210" y="0"/>
                  </a:lnTo>
                  <a:lnTo>
                    <a:pt x="182" y="2"/>
                  </a:lnTo>
                  <a:lnTo>
                    <a:pt x="154" y="6"/>
                  </a:lnTo>
                  <a:lnTo>
                    <a:pt x="128" y="11"/>
                  </a:lnTo>
                  <a:lnTo>
                    <a:pt x="104" y="18"/>
                  </a:lnTo>
                  <a:lnTo>
                    <a:pt x="82" y="28"/>
                  </a:lnTo>
                  <a:lnTo>
                    <a:pt x="62" y="40"/>
                  </a:lnTo>
                  <a:lnTo>
                    <a:pt x="44" y="54"/>
                  </a:lnTo>
                  <a:lnTo>
                    <a:pt x="28" y="71"/>
                  </a:lnTo>
                  <a:lnTo>
                    <a:pt x="16" y="90"/>
                  </a:lnTo>
                  <a:lnTo>
                    <a:pt x="7" y="114"/>
                  </a:lnTo>
                  <a:lnTo>
                    <a:pt x="2" y="140"/>
                  </a:lnTo>
                  <a:lnTo>
                    <a:pt x="0" y="169"/>
                  </a:lnTo>
                  <a:lnTo>
                    <a:pt x="3" y="202"/>
                  </a:lnTo>
                  <a:lnTo>
                    <a:pt x="11" y="240"/>
                  </a:lnTo>
                  <a:lnTo>
                    <a:pt x="23" y="280"/>
                  </a:lnTo>
                  <a:lnTo>
                    <a:pt x="42" y="324"/>
                  </a:lnTo>
                  <a:lnTo>
                    <a:pt x="53" y="337"/>
                  </a:lnTo>
                  <a:lnTo>
                    <a:pt x="84" y="368"/>
                  </a:lnTo>
                  <a:lnTo>
                    <a:pt x="105" y="389"/>
                  </a:lnTo>
                  <a:lnTo>
                    <a:pt x="131" y="412"/>
                  </a:lnTo>
                  <a:lnTo>
                    <a:pt x="160" y="437"/>
                  </a:lnTo>
                  <a:lnTo>
                    <a:pt x="191" y="463"/>
                  </a:lnTo>
                  <a:lnTo>
                    <a:pt x="223" y="489"/>
                  </a:lnTo>
                  <a:lnTo>
                    <a:pt x="258" y="515"/>
                  </a:lnTo>
                  <a:lnTo>
                    <a:pt x="275" y="527"/>
                  </a:lnTo>
                  <a:lnTo>
                    <a:pt x="294" y="538"/>
                  </a:lnTo>
                  <a:lnTo>
                    <a:pt x="312" y="550"/>
                  </a:lnTo>
                  <a:lnTo>
                    <a:pt x="330" y="560"/>
                  </a:lnTo>
                  <a:lnTo>
                    <a:pt x="349" y="570"/>
                  </a:lnTo>
                  <a:lnTo>
                    <a:pt x="367" y="579"/>
                  </a:lnTo>
                  <a:lnTo>
                    <a:pt x="385" y="587"/>
                  </a:lnTo>
                  <a:lnTo>
                    <a:pt x="402" y="594"/>
                  </a:lnTo>
                  <a:lnTo>
                    <a:pt x="421" y="600"/>
                  </a:lnTo>
                  <a:lnTo>
                    <a:pt x="438" y="604"/>
                  </a:lnTo>
                  <a:lnTo>
                    <a:pt x="455" y="607"/>
                  </a:lnTo>
                  <a:lnTo>
                    <a:pt x="472" y="609"/>
                  </a:lnTo>
                  <a:lnTo>
                    <a:pt x="490" y="610"/>
                  </a:lnTo>
                  <a:lnTo>
                    <a:pt x="508" y="610"/>
                  </a:lnTo>
                  <a:lnTo>
                    <a:pt x="526" y="608"/>
                  </a:lnTo>
                  <a:lnTo>
                    <a:pt x="546" y="605"/>
                  </a:lnTo>
                  <a:lnTo>
                    <a:pt x="565" y="601"/>
                  </a:lnTo>
                  <a:lnTo>
                    <a:pt x="585" y="596"/>
                  </a:lnTo>
                  <a:lnTo>
                    <a:pt x="604" y="590"/>
                  </a:lnTo>
                  <a:lnTo>
                    <a:pt x="623" y="582"/>
                  </a:lnTo>
                  <a:lnTo>
                    <a:pt x="642" y="573"/>
                  </a:lnTo>
                  <a:lnTo>
                    <a:pt x="662" y="564"/>
                  </a:lnTo>
                  <a:lnTo>
                    <a:pt x="680" y="554"/>
                  </a:lnTo>
                  <a:lnTo>
                    <a:pt x="698" y="544"/>
                  </a:lnTo>
                  <a:lnTo>
                    <a:pt x="716" y="533"/>
                  </a:lnTo>
                  <a:lnTo>
                    <a:pt x="732" y="521"/>
                  </a:lnTo>
                  <a:lnTo>
                    <a:pt x="748" y="509"/>
                  </a:lnTo>
                  <a:lnTo>
                    <a:pt x="763" y="496"/>
                  </a:lnTo>
                  <a:lnTo>
                    <a:pt x="777" y="483"/>
                  </a:lnTo>
                  <a:lnTo>
                    <a:pt x="791" y="470"/>
                  </a:lnTo>
                  <a:lnTo>
                    <a:pt x="803" y="457"/>
                  </a:lnTo>
                  <a:lnTo>
                    <a:pt x="814" y="442"/>
                  </a:lnTo>
                  <a:lnTo>
                    <a:pt x="823" y="429"/>
                  </a:lnTo>
                  <a:lnTo>
                    <a:pt x="831" y="415"/>
                  </a:lnTo>
                  <a:lnTo>
                    <a:pt x="837" y="402"/>
                  </a:lnTo>
                  <a:lnTo>
                    <a:pt x="841" y="388"/>
                  </a:lnTo>
                  <a:lnTo>
                    <a:pt x="844" y="375"/>
                  </a:lnTo>
                  <a:lnTo>
                    <a:pt x="845" y="363"/>
                  </a:lnTo>
                  <a:lnTo>
                    <a:pt x="844" y="350"/>
                  </a:lnTo>
                  <a:lnTo>
                    <a:pt x="841" y="338"/>
                  </a:lnTo>
                  <a:lnTo>
                    <a:pt x="835" y="326"/>
                  </a:lnTo>
                  <a:lnTo>
                    <a:pt x="828" y="315"/>
                  </a:lnTo>
                  <a:lnTo>
                    <a:pt x="818" y="305"/>
                  </a:lnTo>
                  <a:lnTo>
                    <a:pt x="806" y="295"/>
                  </a:lnTo>
                  <a:lnTo>
                    <a:pt x="777" y="276"/>
                  </a:lnTo>
                  <a:lnTo>
                    <a:pt x="751" y="257"/>
                  </a:lnTo>
                  <a:lnTo>
                    <a:pt x="726" y="237"/>
                  </a:lnTo>
                  <a:lnTo>
                    <a:pt x="702" y="216"/>
                  </a:lnTo>
                  <a:lnTo>
                    <a:pt x="679" y="195"/>
                  </a:lnTo>
                  <a:lnTo>
                    <a:pt x="656" y="175"/>
                  </a:lnTo>
                  <a:lnTo>
                    <a:pt x="636" y="155"/>
                  </a:lnTo>
                  <a:lnTo>
                    <a:pt x="618" y="136"/>
                  </a:lnTo>
                  <a:lnTo>
                    <a:pt x="586" y="102"/>
                  </a:lnTo>
                  <a:lnTo>
                    <a:pt x="562" y="74"/>
                  </a:lnTo>
                  <a:lnTo>
                    <a:pt x="546" y="57"/>
                  </a:lnTo>
                  <a:lnTo>
                    <a:pt x="541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Freeform 240"/>
            <p:cNvSpPr/>
            <p:nvPr/>
          </p:nvSpPr>
          <p:spPr>
            <a:xfrm>
              <a:off x="5756040" y="4969080"/>
              <a:ext cx="84960" cy="2552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046" h="8222">
                  <a:moveTo>
                    <a:pt x="3046" y="2097"/>
                  </a:moveTo>
                  <a:lnTo>
                    <a:pt x="3046" y="0"/>
                  </a:lnTo>
                  <a:lnTo>
                    <a:pt x="0" y="6752"/>
                  </a:lnTo>
                  <a:lnTo>
                    <a:pt x="343" y="8222"/>
                  </a:lnTo>
                  <a:lnTo>
                    <a:pt x="3046" y="209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Freeform 241"/>
            <p:cNvSpPr/>
            <p:nvPr/>
          </p:nvSpPr>
          <p:spPr>
            <a:xfrm>
              <a:off x="5803920" y="5219640"/>
              <a:ext cx="21960" cy="83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755" h="2694">
                  <a:moveTo>
                    <a:pt x="755" y="2146"/>
                  </a:moveTo>
                  <a:lnTo>
                    <a:pt x="10" y="2694"/>
                  </a:lnTo>
                  <a:lnTo>
                    <a:pt x="0" y="548"/>
                  </a:lnTo>
                  <a:lnTo>
                    <a:pt x="745" y="0"/>
                  </a:lnTo>
                  <a:lnTo>
                    <a:pt x="755" y="214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Freeform 242"/>
            <p:cNvSpPr/>
            <p:nvPr/>
          </p:nvSpPr>
          <p:spPr>
            <a:xfrm>
              <a:off x="5778360" y="5208120"/>
              <a:ext cx="25200" cy="95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91" h="3096">
                  <a:moveTo>
                    <a:pt x="881" y="950"/>
                  </a:moveTo>
                  <a:lnTo>
                    <a:pt x="891" y="3096"/>
                  </a:lnTo>
                  <a:lnTo>
                    <a:pt x="882" y="3087"/>
                  </a:lnTo>
                  <a:lnTo>
                    <a:pt x="855" y="3061"/>
                  </a:lnTo>
                  <a:lnTo>
                    <a:pt x="814" y="3020"/>
                  </a:lnTo>
                  <a:lnTo>
                    <a:pt x="759" y="2965"/>
                  </a:lnTo>
                  <a:lnTo>
                    <a:pt x="695" y="2900"/>
                  </a:lnTo>
                  <a:lnTo>
                    <a:pt x="622" y="2826"/>
                  </a:lnTo>
                  <a:lnTo>
                    <a:pt x="545" y="2746"/>
                  </a:lnTo>
                  <a:lnTo>
                    <a:pt x="464" y="2662"/>
                  </a:lnTo>
                  <a:lnTo>
                    <a:pt x="383" y="2575"/>
                  </a:lnTo>
                  <a:lnTo>
                    <a:pt x="304" y="2488"/>
                  </a:lnTo>
                  <a:lnTo>
                    <a:pt x="265" y="2446"/>
                  </a:lnTo>
                  <a:lnTo>
                    <a:pt x="228" y="2404"/>
                  </a:lnTo>
                  <a:lnTo>
                    <a:pt x="193" y="2363"/>
                  </a:lnTo>
                  <a:lnTo>
                    <a:pt x="160" y="2324"/>
                  </a:lnTo>
                  <a:lnTo>
                    <a:pt x="129" y="2286"/>
                  </a:lnTo>
                  <a:lnTo>
                    <a:pt x="100" y="2249"/>
                  </a:lnTo>
                  <a:lnTo>
                    <a:pt x="75" y="2216"/>
                  </a:lnTo>
                  <a:lnTo>
                    <a:pt x="53" y="2184"/>
                  </a:lnTo>
                  <a:lnTo>
                    <a:pt x="34" y="2156"/>
                  </a:lnTo>
                  <a:lnTo>
                    <a:pt x="18" y="2129"/>
                  </a:lnTo>
                  <a:lnTo>
                    <a:pt x="7" y="210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6" y="8"/>
                  </a:lnTo>
                  <a:lnTo>
                    <a:pt x="23" y="30"/>
                  </a:lnTo>
                  <a:lnTo>
                    <a:pt x="52" y="64"/>
                  </a:lnTo>
                  <a:lnTo>
                    <a:pt x="90" y="110"/>
                  </a:lnTo>
                  <a:lnTo>
                    <a:pt x="135" y="165"/>
                  </a:lnTo>
                  <a:lnTo>
                    <a:pt x="189" y="228"/>
                  </a:lnTo>
                  <a:lnTo>
                    <a:pt x="248" y="298"/>
                  </a:lnTo>
                  <a:lnTo>
                    <a:pt x="313" y="373"/>
                  </a:lnTo>
                  <a:lnTo>
                    <a:pt x="380" y="450"/>
                  </a:lnTo>
                  <a:lnTo>
                    <a:pt x="452" y="529"/>
                  </a:lnTo>
                  <a:lnTo>
                    <a:pt x="525" y="609"/>
                  </a:lnTo>
                  <a:lnTo>
                    <a:pt x="599" y="686"/>
                  </a:lnTo>
                  <a:lnTo>
                    <a:pt x="636" y="725"/>
                  </a:lnTo>
                  <a:lnTo>
                    <a:pt x="673" y="761"/>
                  </a:lnTo>
                  <a:lnTo>
                    <a:pt x="710" y="797"/>
                  </a:lnTo>
                  <a:lnTo>
                    <a:pt x="745" y="831"/>
                  </a:lnTo>
                  <a:lnTo>
                    <a:pt x="780" y="864"/>
                  </a:lnTo>
                  <a:lnTo>
                    <a:pt x="816" y="895"/>
                  </a:lnTo>
                  <a:lnTo>
                    <a:pt x="849" y="923"/>
                  </a:lnTo>
                  <a:lnTo>
                    <a:pt x="881" y="9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Freeform 243"/>
            <p:cNvSpPr/>
            <p:nvPr/>
          </p:nvSpPr>
          <p:spPr>
            <a:xfrm>
              <a:off x="5749560" y="5202000"/>
              <a:ext cx="7560" cy="680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84" h="2192">
                  <a:moveTo>
                    <a:pt x="284" y="9"/>
                  </a:moveTo>
                  <a:lnTo>
                    <a:pt x="273" y="11"/>
                  </a:lnTo>
                  <a:lnTo>
                    <a:pt x="241" y="16"/>
                  </a:lnTo>
                  <a:lnTo>
                    <a:pt x="197" y="22"/>
                  </a:lnTo>
                  <a:lnTo>
                    <a:pt x="146" y="26"/>
                  </a:lnTo>
                  <a:lnTo>
                    <a:pt x="119" y="28"/>
                  </a:lnTo>
                  <a:lnTo>
                    <a:pt x="94" y="28"/>
                  </a:lnTo>
                  <a:lnTo>
                    <a:pt x="70" y="28"/>
                  </a:lnTo>
                  <a:lnTo>
                    <a:pt x="49" y="26"/>
                  </a:lnTo>
                  <a:lnTo>
                    <a:pt x="39" y="24"/>
                  </a:lnTo>
                  <a:lnTo>
                    <a:pt x="30" y="22"/>
                  </a:lnTo>
                  <a:lnTo>
                    <a:pt x="22" y="20"/>
                  </a:lnTo>
                  <a:lnTo>
                    <a:pt x="14" y="17"/>
                  </a:lnTo>
                  <a:lnTo>
                    <a:pt x="9" y="13"/>
                  </a:lnTo>
                  <a:lnTo>
                    <a:pt x="4" y="9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2126"/>
                  </a:lnTo>
                  <a:lnTo>
                    <a:pt x="12" y="2132"/>
                  </a:lnTo>
                  <a:lnTo>
                    <a:pt x="45" y="2145"/>
                  </a:lnTo>
                  <a:lnTo>
                    <a:pt x="66" y="2153"/>
                  </a:lnTo>
                  <a:lnTo>
                    <a:pt x="90" y="2161"/>
                  </a:lnTo>
                  <a:lnTo>
                    <a:pt x="115" y="2170"/>
                  </a:lnTo>
                  <a:lnTo>
                    <a:pt x="141" y="2177"/>
                  </a:lnTo>
                  <a:lnTo>
                    <a:pt x="169" y="2184"/>
                  </a:lnTo>
                  <a:lnTo>
                    <a:pt x="194" y="2189"/>
                  </a:lnTo>
                  <a:lnTo>
                    <a:pt x="206" y="2191"/>
                  </a:lnTo>
                  <a:lnTo>
                    <a:pt x="218" y="2192"/>
                  </a:lnTo>
                  <a:lnTo>
                    <a:pt x="229" y="2192"/>
                  </a:lnTo>
                  <a:lnTo>
                    <a:pt x="239" y="2192"/>
                  </a:lnTo>
                  <a:lnTo>
                    <a:pt x="249" y="2191"/>
                  </a:lnTo>
                  <a:lnTo>
                    <a:pt x="257" y="2189"/>
                  </a:lnTo>
                  <a:lnTo>
                    <a:pt x="265" y="2186"/>
                  </a:lnTo>
                  <a:lnTo>
                    <a:pt x="272" y="2182"/>
                  </a:lnTo>
                  <a:lnTo>
                    <a:pt x="277" y="2177"/>
                  </a:lnTo>
                  <a:lnTo>
                    <a:pt x="281" y="2171"/>
                  </a:lnTo>
                  <a:lnTo>
                    <a:pt x="284" y="2164"/>
                  </a:lnTo>
                  <a:lnTo>
                    <a:pt x="284" y="2155"/>
                  </a:lnTo>
                  <a:lnTo>
                    <a:pt x="284" y="2127"/>
                  </a:lnTo>
                  <a:lnTo>
                    <a:pt x="284" y="2055"/>
                  </a:lnTo>
                  <a:lnTo>
                    <a:pt x="284" y="1946"/>
                  </a:lnTo>
                  <a:lnTo>
                    <a:pt x="284" y="1808"/>
                  </a:lnTo>
                  <a:lnTo>
                    <a:pt x="284" y="1645"/>
                  </a:lnTo>
                  <a:lnTo>
                    <a:pt x="284" y="1463"/>
                  </a:lnTo>
                  <a:lnTo>
                    <a:pt x="284" y="1271"/>
                  </a:lnTo>
                  <a:lnTo>
                    <a:pt x="284" y="1071"/>
                  </a:lnTo>
                  <a:lnTo>
                    <a:pt x="284" y="872"/>
                  </a:lnTo>
                  <a:lnTo>
                    <a:pt x="284" y="681"/>
                  </a:lnTo>
                  <a:lnTo>
                    <a:pt x="284" y="501"/>
                  </a:lnTo>
                  <a:lnTo>
                    <a:pt x="284" y="341"/>
                  </a:lnTo>
                  <a:lnTo>
                    <a:pt x="284" y="205"/>
                  </a:lnTo>
                  <a:lnTo>
                    <a:pt x="284" y="101"/>
                  </a:lnTo>
                  <a:lnTo>
                    <a:pt x="284" y="33"/>
                  </a:lnTo>
                  <a:lnTo>
                    <a:pt x="284" y="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Freeform 244"/>
            <p:cNvSpPr/>
            <p:nvPr/>
          </p:nvSpPr>
          <p:spPr>
            <a:xfrm>
              <a:off x="5619600" y="5190840"/>
              <a:ext cx="6120" cy="72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32" h="2324">
                  <a:moveTo>
                    <a:pt x="232" y="148"/>
                  </a:moveTo>
                  <a:lnTo>
                    <a:pt x="232" y="2323"/>
                  </a:lnTo>
                  <a:lnTo>
                    <a:pt x="222" y="2324"/>
                  </a:lnTo>
                  <a:lnTo>
                    <a:pt x="193" y="2323"/>
                  </a:lnTo>
                  <a:lnTo>
                    <a:pt x="174" y="2322"/>
                  </a:lnTo>
                  <a:lnTo>
                    <a:pt x="153" y="2319"/>
                  </a:lnTo>
                  <a:lnTo>
                    <a:pt x="131" y="2315"/>
                  </a:lnTo>
                  <a:lnTo>
                    <a:pt x="109" y="2309"/>
                  </a:lnTo>
                  <a:lnTo>
                    <a:pt x="98" y="2305"/>
                  </a:lnTo>
                  <a:lnTo>
                    <a:pt x="87" y="2299"/>
                  </a:lnTo>
                  <a:lnTo>
                    <a:pt x="76" y="2294"/>
                  </a:lnTo>
                  <a:lnTo>
                    <a:pt x="66" y="2288"/>
                  </a:lnTo>
                  <a:lnTo>
                    <a:pt x="56" y="2281"/>
                  </a:lnTo>
                  <a:lnTo>
                    <a:pt x="46" y="2274"/>
                  </a:lnTo>
                  <a:lnTo>
                    <a:pt x="37" y="2266"/>
                  </a:lnTo>
                  <a:lnTo>
                    <a:pt x="30" y="2257"/>
                  </a:lnTo>
                  <a:lnTo>
                    <a:pt x="23" y="2247"/>
                  </a:lnTo>
                  <a:lnTo>
                    <a:pt x="17" y="2236"/>
                  </a:lnTo>
                  <a:lnTo>
                    <a:pt x="12" y="2224"/>
                  </a:lnTo>
                  <a:lnTo>
                    <a:pt x="8" y="2211"/>
                  </a:lnTo>
                  <a:lnTo>
                    <a:pt x="6" y="2197"/>
                  </a:lnTo>
                  <a:lnTo>
                    <a:pt x="5" y="2180"/>
                  </a:lnTo>
                  <a:lnTo>
                    <a:pt x="5" y="2164"/>
                  </a:lnTo>
                  <a:lnTo>
                    <a:pt x="7" y="2146"/>
                  </a:lnTo>
                  <a:lnTo>
                    <a:pt x="7" y="0"/>
                  </a:lnTo>
                  <a:lnTo>
                    <a:pt x="5" y="8"/>
                  </a:lnTo>
                  <a:lnTo>
                    <a:pt x="1" y="29"/>
                  </a:lnTo>
                  <a:lnTo>
                    <a:pt x="0" y="43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4" y="73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3" y="96"/>
                  </a:lnTo>
                  <a:lnTo>
                    <a:pt x="18" y="104"/>
                  </a:lnTo>
                  <a:lnTo>
                    <a:pt x="24" y="111"/>
                  </a:lnTo>
                  <a:lnTo>
                    <a:pt x="32" y="118"/>
                  </a:lnTo>
                  <a:lnTo>
                    <a:pt x="40" y="124"/>
                  </a:lnTo>
                  <a:lnTo>
                    <a:pt x="49" y="130"/>
                  </a:lnTo>
                  <a:lnTo>
                    <a:pt x="61" y="136"/>
                  </a:lnTo>
                  <a:lnTo>
                    <a:pt x="74" y="141"/>
                  </a:lnTo>
                  <a:lnTo>
                    <a:pt x="87" y="145"/>
                  </a:lnTo>
                  <a:lnTo>
                    <a:pt x="103" y="149"/>
                  </a:lnTo>
                  <a:lnTo>
                    <a:pt x="119" y="151"/>
                  </a:lnTo>
                  <a:lnTo>
                    <a:pt x="138" y="153"/>
                  </a:lnTo>
                  <a:lnTo>
                    <a:pt x="159" y="153"/>
                  </a:lnTo>
                  <a:lnTo>
                    <a:pt x="182" y="153"/>
                  </a:lnTo>
                  <a:lnTo>
                    <a:pt x="206" y="151"/>
                  </a:lnTo>
                  <a:lnTo>
                    <a:pt x="232" y="1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Freeform 245"/>
            <p:cNvSpPr/>
            <p:nvPr/>
          </p:nvSpPr>
          <p:spPr>
            <a:xfrm>
              <a:off x="5619600" y="5190840"/>
              <a:ext cx="6120" cy="72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32" h="2324">
                  <a:moveTo>
                    <a:pt x="232" y="148"/>
                  </a:moveTo>
                  <a:lnTo>
                    <a:pt x="232" y="2323"/>
                  </a:lnTo>
                  <a:lnTo>
                    <a:pt x="222" y="2324"/>
                  </a:lnTo>
                  <a:lnTo>
                    <a:pt x="193" y="2323"/>
                  </a:lnTo>
                  <a:lnTo>
                    <a:pt x="174" y="2322"/>
                  </a:lnTo>
                  <a:lnTo>
                    <a:pt x="153" y="2319"/>
                  </a:lnTo>
                  <a:lnTo>
                    <a:pt x="131" y="2315"/>
                  </a:lnTo>
                  <a:lnTo>
                    <a:pt x="109" y="2309"/>
                  </a:lnTo>
                  <a:lnTo>
                    <a:pt x="98" y="2305"/>
                  </a:lnTo>
                  <a:lnTo>
                    <a:pt x="87" y="2299"/>
                  </a:lnTo>
                  <a:lnTo>
                    <a:pt x="76" y="2294"/>
                  </a:lnTo>
                  <a:lnTo>
                    <a:pt x="66" y="2288"/>
                  </a:lnTo>
                  <a:lnTo>
                    <a:pt x="56" y="2281"/>
                  </a:lnTo>
                  <a:lnTo>
                    <a:pt x="46" y="2274"/>
                  </a:lnTo>
                  <a:lnTo>
                    <a:pt x="37" y="2266"/>
                  </a:lnTo>
                  <a:lnTo>
                    <a:pt x="30" y="2257"/>
                  </a:lnTo>
                  <a:lnTo>
                    <a:pt x="23" y="2247"/>
                  </a:lnTo>
                  <a:lnTo>
                    <a:pt x="17" y="2236"/>
                  </a:lnTo>
                  <a:lnTo>
                    <a:pt x="12" y="2224"/>
                  </a:lnTo>
                  <a:lnTo>
                    <a:pt x="8" y="2211"/>
                  </a:lnTo>
                  <a:lnTo>
                    <a:pt x="6" y="2197"/>
                  </a:lnTo>
                  <a:lnTo>
                    <a:pt x="5" y="2180"/>
                  </a:lnTo>
                  <a:lnTo>
                    <a:pt x="5" y="2164"/>
                  </a:lnTo>
                  <a:lnTo>
                    <a:pt x="7" y="2146"/>
                  </a:lnTo>
                  <a:lnTo>
                    <a:pt x="7" y="0"/>
                  </a:lnTo>
                  <a:lnTo>
                    <a:pt x="5" y="8"/>
                  </a:lnTo>
                  <a:lnTo>
                    <a:pt x="1" y="29"/>
                  </a:lnTo>
                  <a:lnTo>
                    <a:pt x="0" y="43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4" y="73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3" y="96"/>
                  </a:lnTo>
                  <a:lnTo>
                    <a:pt x="18" y="104"/>
                  </a:lnTo>
                  <a:lnTo>
                    <a:pt x="24" y="111"/>
                  </a:lnTo>
                  <a:lnTo>
                    <a:pt x="32" y="118"/>
                  </a:lnTo>
                  <a:lnTo>
                    <a:pt x="40" y="124"/>
                  </a:lnTo>
                  <a:lnTo>
                    <a:pt x="49" y="130"/>
                  </a:lnTo>
                  <a:lnTo>
                    <a:pt x="61" y="136"/>
                  </a:lnTo>
                  <a:lnTo>
                    <a:pt x="74" y="141"/>
                  </a:lnTo>
                  <a:lnTo>
                    <a:pt x="87" y="145"/>
                  </a:lnTo>
                  <a:lnTo>
                    <a:pt x="103" y="149"/>
                  </a:lnTo>
                  <a:lnTo>
                    <a:pt x="119" y="151"/>
                  </a:lnTo>
                  <a:lnTo>
                    <a:pt x="138" y="153"/>
                  </a:lnTo>
                  <a:lnTo>
                    <a:pt x="159" y="153"/>
                  </a:lnTo>
                  <a:lnTo>
                    <a:pt x="182" y="153"/>
                  </a:lnTo>
                  <a:lnTo>
                    <a:pt x="206" y="151"/>
                  </a:lnTo>
                  <a:lnTo>
                    <a:pt x="232" y="1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Freeform 246"/>
            <p:cNvSpPr/>
            <p:nvPr/>
          </p:nvSpPr>
          <p:spPr>
            <a:xfrm>
              <a:off x="5591520" y="5200560"/>
              <a:ext cx="2880" cy="72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112" h="2381">
                  <a:moveTo>
                    <a:pt x="0" y="225"/>
                  </a:moveTo>
                  <a:lnTo>
                    <a:pt x="6" y="222"/>
                  </a:lnTo>
                  <a:lnTo>
                    <a:pt x="21" y="212"/>
                  </a:lnTo>
                  <a:lnTo>
                    <a:pt x="31" y="204"/>
                  </a:lnTo>
                  <a:lnTo>
                    <a:pt x="42" y="195"/>
                  </a:lnTo>
                  <a:lnTo>
                    <a:pt x="53" y="184"/>
                  </a:lnTo>
                  <a:lnTo>
                    <a:pt x="66" y="171"/>
                  </a:lnTo>
                  <a:lnTo>
                    <a:pt x="77" y="157"/>
                  </a:lnTo>
                  <a:lnTo>
                    <a:pt x="87" y="140"/>
                  </a:lnTo>
                  <a:lnTo>
                    <a:pt x="92" y="131"/>
                  </a:lnTo>
                  <a:lnTo>
                    <a:pt x="96" y="122"/>
                  </a:lnTo>
                  <a:lnTo>
                    <a:pt x="100" y="112"/>
                  </a:lnTo>
                  <a:lnTo>
                    <a:pt x="104" y="101"/>
                  </a:lnTo>
                  <a:lnTo>
                    <a:pt x="107" y="90"/>
                  </a:lnTo>
                  <a:lnTo>
                    <a:pt x="109" y="79"/>
                  </a:lnTo>
                  <a:lnTo>
                    <a:pt x="111" y="67"/>
                  </a:lnTo>
                  <a:lnTo>
                    <a:pt x="112" y="55"/>
                  </a:lnTo>
                  <a:lnTo>
                    <a:pt x="112" y="42"/>
                  </a:lnTo>
                  <a:lnTo>
                    <a:pt x="112" y="28"/>
                  </a:lnTo>
                  <a:lnTo>
                    <a:pt x="110" y="15"/>
                  </a:lnTo>
                  <a:lnTo>
                    <a:pt x="108" y="0"/>
                  </a:lnTo>
                  <a:lnTo>
                    <a:pt x="98" y="2224"/>
                  </a:lnTo>
                  <a:lnTo>
                    <a:pt x="99" y="2228"/>
                  </a:lnTo>
                  <a:lnTo>
                    <a:pt x="98" y="2238"/>
                  </a:lnTo>
                  <a:lnTo>
                    <a:pt x="97" y="2245"/>
                  </a:lnTo>
                  <a:lnTo>
                    <a:pt x="96" y="2253"/>
                  </a:lnTo>
                  <a:lnTo>
                    <a:pt x="93" y="2262"/>
                  </a:lnTo>
                  <a:lnTo>
                    <a:pt x="90" y="2274"/>
                  </a:lnTo>
                  <a:lnTo>
                    <a:pt x="85" y="2285"/>
                  </a:lnTo>
                  <a:lnTo>
                    <a:pt x="79" y="2297"/>
                  </a:lnTo>
                  <a:lnTo>
                    <a:pt x="71" y="2310"/>
                  </a:lnTo>
                  <a:lnTo>
                    <a:pt x="62" y="2324"/>
                  </a:lnTo>
                  <a:lnTo>
                    <a:pt x="49" y="2337"/>
                  </a:lnTo>
                  <a:lnTo>
                    <a:pt x="35" y="2352"/>
                  </a:lnTo>
                  <a:lnTo>
                    <a:pt x="19" y="2366"/>
                  </a:lnTo>
                  <a:lnTo>
                    <a:pt x="0" y="2381"/>
                  </a:lnTo>
                  <a:lnTo>
                    <a:pt x="0" y="22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Freeform 247"/>
            <p:cNvSpPr/>
            <p:nvPr/>
          </p:nvSpPr>
          <p:spPr>
            <a:xfrm>
              <a:off x="5546880" y="5192640"/>
              <a:ext cx="4320" cy="662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77" h="2156">
                  <a:moveTo>
                    <a:pt x="138" y="108"/>
                  </a:moveTo>
                  <a:lnTo>
                    <a:pt x="140" y="101"/>
                  </a:lnTo>
                  <a:lnTo>
                    <a:pt x="145" y="85"/>
                  </a:lnTo>
                  <a:lnTo>
                    <a:pt x="147" y="75"/>
                  </a:lnTo>
                  <a:lnTo>
                    <a:pt x="149" y="63"/>
                  </a:lnTo>
                  <a:lnTo>
                    <a:pt x="148" y="52"/>
                  </a:lnTo>
                  <a:lnTo>
                    <a:pt x="146" y="40"/>
                  </a:lnTo>
                  <a:lnTo>
                    <a:pt x="145" y="35"/>
                  </a:lnTo>
                  <a:lnTo>
                    <a:pt x="142" y="29"/>
                  </a:lnTo>
                  <a:lnTo>
                    <a:pt x="139" y="24"/>
                  </a:lnTo>
                  <a:lnTo>
                    <a:pt x="135" y="19"/>
                  </a:lnTo>
                  <a:lnTo>
                    <a:pt x="129" y="15"/>
                  </a:lnTo>
                  <a:lnTo>
                    <a:pt x="123" y="11"/>
                  </a:lnTo>
                  <a:lnTo>
                    <a:pt x="116" y="7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89" y="1"/>
                  </a:lnTo>
                  <a:lnTo>
                    <a:pt x="78" y="0"/>
                  </a:lnTo>
                  <a:lnTo>
                    <a:pt x="65" y="0"/>
                  </a:lnTo>
                  <a:lnTo>
                    <a:pt x="51" y="1"/>
                  </a:lnTo>
                  <a:lnTo>
                    <a:pt x="36" y="3"/>
                  </a:lnTo>
                  <a:lnTo>
                    <a:pt x="19" y="6"/>
                  </a:lnTo>
                  <a:lnTo>
                    <a:pt x="0" y="10"/>
                  </a:lnTo>
                  <a:lnTo>
                    <a:pt x="0" y="2156"/>
                  </a:lnTo>
                  <a:lnTo>
                    <a:pt x="8" y="2153"/>
                  </a:lnTo>
                  <a:lnTo>
                    <a:pt x="25" y="2145"/>
                  </a:lnTo>
                  <a:lnTo>
                    <a:pt x="37" y="2139"/>
                  </a:lnTo>
                  <a:lnTo>
                    <a:pt x="51" y="2134"/>
                  </a:lnTo>
                  <a:lnTo>
                    <a:pt x="66" y="2130"/>
                  </a:lnTo>
                  <a:lnTo>
                    <a:pt x="81" y="2126"/>
                  </a:lnTo>
                  <a:lnTo>
                    <a:pt x="97" y="2123"/>
                  </a:lnTo>
                  <a:lnTo>
                    <a:pt x="112" y="2121"/>
                  </a:lnTo>
                  <a:lnTo>
                    <a:pt x="127" y="2121"/>
                  </a:lnTo>
                  <a:lnTo>
                    <a:pt x="141" y="2122"/>
                  </a:lnTo>
                  <a:lnTo>
                    <a:pt x="148" y="2124"/>
                  </a:lnTo>
                  <a:lnTo>
                    <a:pt x="153" y="2126"/>
                  </a:lnTo>
                  <a:lnTo>
                    <a:pt x="159" y="2129"/>
                  </a:lnTo>
                  <a:lnTo>
                    <a:pt x="164" y="2133"/>
                  </a:lnTo>
                  <a:lnTo>
                    <a:pt x="168" y="2137"/>
                  </a:lnTo>
                  <a:lnTo>
                    <a:pt x="172" y="2143"/>
                  </a:lnTo>
                  <a:lnTo>
                    <a:pt x="175" y="2149"/>
                  </a:lnTo>
                  <a:lnTo>
                    <a:pt x="177" y="2156"/>
                  </a:lnTo>
                  <a:lnTo>
                    <a:pt x="138" y="1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Freeform 248"/>
            <p:cNvSpPr/>
            <p:nvPr/>
          </p:nvSpPr>
          <p:spPr>
            <a:xfrm>
              <a:off x="5511600" y="5200560"/>
              <a:ext cx="12240" cy="69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61" h="2287">
                  <a:moveTo>
                    <a:pt x="461" y="127"/>
                  </a:moveTo>
                  <a:lnTo>
                    <a:pt x="440" y="130"/>
                  </a:lnTo>
                  <a:lnTo>
                    <a:pt x="389" y="138"/>
                  </a:lnTo>
                  <a:lnTo>
                    <a:pt x="354" y="142"/>
                  </a:lnTo>
                  <a:lnTo>
                    <a:pt x="314" y="145"/>
                  </a:lnTo>
                  <a:lnTo>
                    <a:pt x="294" y="145"/>
                  </a:lnTo>
                  <a:lnTo>
                    <a:pt x="273" y="146"/>
                  </a:lnTo>
                  <a:lnTo>
                    <a:pt x="252" y="146"/>
                  </a:lnTo>
                  <a:lnTo>
                    <a:pt x="231" y="145"/>
                  </a:lnTo>
                  <a:lnTo>
                    <a:pt x="209" y="144"/>
                  </a:lnTo>
                  <a:lnTo>
                    <a:pt x="187" y="142"/>
                  </a:lnTo>
                  <a:lnTo>
                    <a:pt x="166" y="139"/>
                  </a:lnTo>
                  <a:lnTo>
                    <a:pt x="146" y="136"/>
                  </a:lnTo>
                  <a:lnTo>
                    <a:pt x="126" y="130"/>
                  </a:lnTo>
                  <a:lnTo>
                    <a:pt x="107" y="125"/>
                  </a:lnTo>
                  <a:lnTo>
                    <a:pt x="89" y="118"/>
                  </a:lnTo>
                  <a:lnTo>
                    <a:pt x="73" y="111"/>
                  </a:lnTo>
                  <a:lnTo>
                    <a:pt x="56" y="102"/>
                  </a:lnTo>
                  <a:lnTo>
                    <a:pt x="42" y="92"/>
                  </a:lnTo>
                  <a:lnTo>
                    <a:pt x="30" y="80"/>
                  </a:lnTo>
                  <a:lnTo>
                    <a:pt x="20" y="68"/>
                  </a:lnTo>
                  <a:lnTo>
                    <a:pt x="12" y="53"/>
                  </a:lnTo>
                  <a:lnTo>
                    <a:pt x="5" y="37"/>
                  </a:lnTo>
                  <a:lnTo>
                    <a:pt x="2" y="20"/>
                  </a:lnTo>
                  <a:lnTo>
                    <a:pt x="0" y="0"/>
                  </a:lnTo>
                  <a:lnTo>
                    <a:pt x="0" y="2117"/>
                  </a:lnTo>
                  <a:lnTo>
                    <a:pt x="5" y="2126"/>
                  </a:lnTo>
                  <a:lnTo>
                    <a:pt x="21" y="2151"/>
                  </a:lnTo>
                  <a:lnTo>
                    <a:pt x="34" y="2168"/>
                  </a:lnTo>
                  <a:lnTo>
                    <a:pt x="50" y="2185"/>
                  </a:lnTo>
                  <a:lnTo>
                    <a:pt x="59" y="2194"/>
                  </a:lnTo>
                  <a:lnTo>
                    <a:pt x="71" y="2203"/>
                  </a:lnTo>
                  <a:lnTo>
                    <a:pt x="82" y="2212"/>
                  </a:lnTo>
                  <a:lnTo>
                    <a:pt x="95" y="2221"/>
                  </a:lnTo>
                  <a:lnTo>
                    <a:pt x="108" y="2230"/>
                  </a:lnTo>
                  <a:lnTo>
                    <a:pt x="123" y="2238"/>
                  </a:lnTo>
                  <a:lnTo>
                    <a:pt x="139" y="2246"/>
                  </a:lnTo>
                  <a:lnTo>
                    <a:pt x="155" y="2254"/>
                  </a:lnTo>
                  <a:lnTo>
                    <a:pt x="173" y="2261"/>
                  </a:lnTo>
                  <a:lnTo>
                    <a:pt x="193" y="2267"/>
                  </a:lnTo>
                  <a:lnTo>
                    <a:pt x="214" y="2273"/>
                  </a:lnTo>
                  <a:lnTo>
                    <a:pt x="236" y="2278"/>
                  </a:lnTo>
                  <a:lnTo>
                    <a:pt x="259" y="2282"/>
                  </a:lnTo>
                  <a:lnTo>
                    <a:pt x="283" y="2284"/>
                  </a:lnTo>
                  <a:lnTo>
                    <a:pt x="309" y="2287"/>
                  </a:lnTo>
                  <a:lnTo>
                    <a:pt x="337" y="2287"/>
                  </a:lnTo>
                  <a:lnTo>
                    <a:pt x="366" y="2286"/>
                  </a:lnTo>
                  <a:lnTo>
                    <a:pt x="396" y="2283"/>
                  </a:lnTo>
                  <a:lnTo>
                    <a:pt x="427" y="2279"/>
                  </a:lnTo>
                  <a:lnTo>
                    <a:pt x="461" y="2273"/>
                  </a:lnTo>
                  <a:lnTo>
                    <a:pt x="461" y="1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Freeform 249"/>
            <p:cNvSpPr/>
            <p:nvPr/>
          </p:nvSpPr>
          <p:spPr>
            <a:xfrm>
              <a:off x="5487840" y="5190840"/>
              <a:ext cx="10800" cy="69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31" h="2221">
                  <a:moveTo>
                    <a:pt x="431" y="50"/>
                  </a:moveTo>
                  <a:lnTo>
                    <a:pt x="414" y="54"/>
                  </a:lnTo>
                  <a:lnTo>
                    <a:pt x="369" y="64"/>
                  </a:lnTo>
                  <a:lnTo>
                    <a:pt x="339" y="70"/>
                  </a:lnTo>
                  <a:lnTo>
                    <a:pt x="305" y="75"/>
                  </a:lnTo>
                  <a:lnTo>
                    <a:pt x="268" y="80"/>
                  </a:lnTo>
                  <a:lnTo>
                    <a:pt x="230" y="84"/>
                  </a:lnTo>
                  <a:lnTo>
                    <a:pt x="211" y="85"/>
                  </a:lnTo>
                  <a:lnTo>
                    <a:pt x="192" y="86"/>
                  </a:lnTo>
                  <a:lnTo>
                    <a:pt x="173" y="86"/>
                  </a:lnTo>
                  <a:lnTo>
                    <a:pt x="153" y="85"/>
                  </a:lnTo>
                  <a:lnTo>
                    <a:pt x="135" y="84"/>
                  </a:lnTo>
                  <a:lnTo>
                    <a:pt x="117" y="81"/>
                  </a:lnTo>
                  <a:lnTo>
                    <a:pt x="100" y="78"/>
                  </a:lnTo>
                  <a:lnTo>
                    <a:pt x="84" y="74"/>
                  </a:lnTo>
                  <a:lnTo>
                    <a:pt x="69" y="69"/>
                  </a:lnTo>
                  <a:lnTo>
                    <a:pt x="54" y="63"/>
                  </a:lnTo>
                  <a:lnTo>
                    <a:pt x="41" y="56"/>
                  </a:lnTo>
                  <a:lnTo>
                    <a:pt x="30" y="48"/>
                  </a:lnTo>
                  <a:lnTo>
                    <a:pt x="19" y="38"/>
                  </a:lnTo>
                  <a:lnTo>
                    <a:pt x="11" y="26"/>
                  </a:lnTo>
                  <a:lnTo>
                    <a:pt x="4" y="14"/>
                  </a:lnTo>
                  <a:lnTo>
                    <a:pt x="0" y="0"/>
                  </a:lnTo>
                  <a:lnTo>
                    <a:pt x="0" y="2156"/>
                  </a:lnTo>
                  <a:lnTo>
                    <a:pt x="8" y="2162"/>
                  </a:lnTo>
                  <a:lnTo>
                    <a:pt x="32" y="2175"/>
                  </a:lnTo>
                  <a:lnTo>
                    <a:pt x="49" y="2185"/>
                  </a:lnTo>
                  <a:lnTo>
                    <a:pt x="69" y="2194"/>
                  </a:lnTo>
                  <a:lnTo>
                    <a:pt x="93" y="2202"/>
                  </a:lnTo>
                  <a:lnTo>
                    <a:pt x="120" y="2209"/>
                  </a:lnTo>
                  <a:lnTo>
                    <a:pt x="134" y="2213"/>
                  </a:lnTo>
                  <a:lnTo>
                    <a:pt x="149" y="2215"/>
                  </a:lnTo>
                  <a:lnTo>
                    <a:pt x="166" y="2218"/>
                  </a:lnTo>
                  <a:lnTo>
                    <a:pt x="183" y="2219"/>
                  </a:lnTo>
                  <a:lnTo>
                    <a:pt x="200" y="2220"/>
                  </a:lnTo>
                  <a:lnTo>
                    <a:pt x="218" y="2221"/>
                  </a:lnTo>
                  <a:lnTo>
                    <a:pt x="236" y="2220"/>
                  </a:lnTo>
                  <a:lnTo>
                    <a:pt x="256" y="2219"/>
                  </a:lnTo>
                  <a:lnTo>
                    <a:pt x="275" y="2216"/>
                  </a:lnTo>
                  <a:lnTo>
                    <a:pt x="297" y="2213"/>
                  </a:lnTo>
                  <a:lnTo>
                    <a:pt x="318" y="2208"/>
                  </a:lnTo>
                  <a:lnTo>
                    <a:pt x="339" y="2203"/>
                  </a:lnTo>
                  <a:lnTo>
                    <a:pt x="361" y="2196"/>
                  </a:lnTo>
                  <a:lnTo>
                    <a:pt x="384" y="2188"/>
                  </a:lnTo>
                  <a:lnTo>
                    <a:pt x="408" y="2177"/>
                  </a:lnTo>
                  <a:lnTo>
                    <a:pt x="431" y="2166"/>
                  </a:lnTo>
                  <a:lnTo>
                    <a:pt x="431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Freeform 250"/>
            <p:cNvSpPr/>
            <p:nvPr/>
          </p:nvSpPr>
          <p:spPr>
            <a:xfrm>
              <a:off x="5455080" y="5143320"/>
              <a:ext cx="14040" cy="72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519" h="2362">
                  <a:moveTo>
                    <a:pt x="519" y="216"/>
                  </a:moveTo>
                  <a:lnTo>
                    <a:pt x="519" y="2362"/>
                  </a:lnTo>
                  <a:lnTo>
                    <a:pt x="0" y="2146"/>
                  </a:lnTo>
                  <a:lnTo>
                    <a:pt x="0" y="0"/>
                  </a:lnTo>
                  <a:lnTo>
                    <a:pt x="519" y="2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Freeform 251"/>
            <p:cNvSpPr/>
            <p:nvPr/>
          </p:nvSpPr>
          <p:spPr>
            <a:xfrm>
              <a:off x="5543640" y="5083560"/>
              <a:ext cx="2880" cy="759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7" h="2499">
                  <a:moveTo>
                    <a:pt x="97" y="274"/>
                  </a:moveTo>
                  <a:lnTo>
                    <a:pt x="97" y="2499"/>
                  </a:lnTo>
                  <a:lnTo>
                    <a:pt x="0" y="2215"/>
                  </a:lnTo>
                  <a:lnTo>
                    <a:pt x="0" y="0"/>
                  </a:lnTo>
                  <a:lnTo>
                    <a:pt x="97" y="27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Freeform 252"/>
            <p:cNvSpPr/>
            <p:nvPr/>
          </p:nvSpPr>
          <p:spPr>
            <a:xfrm>
              <a:off x="5851800" y="5276520"/>
              <a:ext cx="18720" cy="964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686" h="3106">
                  <a:moveTo>
                    <a:pt x="677" y="0"/>
                  </a:moveTo>
                  <a:lnTo>
                    <a:pt x="676" y="3"/>
                  </a:lnTo>
                  <a:lnTo>
                    <a:pt x="674" y="12"/>
                  </a:lnTo>
                  <a:lnTo>
                    <a:pt x="669" y="29"/>
                  </a:lnTo>
                  <a:lnTo>
                    <a:pt x="661" y="51"/>
                  </a:lnTo>
                  <a:lnTo>
                    <a:pt x="647" y="81"/>
                  </a:lnTo>
                  <a:lnTo>
                    <a:pt x="630" y="117"/>
                  </a:lnTo>
                  <a:lnTo>
                    <a:pt x="619" y="140"/>
                  </a:lnTo>
                  <a:lnTo>
                    <a:pt x="607" y="163"/>
                  </a:lnTo>
                  <a:lnTo>
                    <a:pt x="593" y="188"/>
                  </a:lnTo>
                  <a:lnTo>
                    <a:pt x="577" y="215"/>
                  </a:lnTo>
                  <a:lnTo>
                    <a:pt x="560" y="245"/>
                  </a:lnTo>
                  <a:lnTo>
                    <a:pt x="540" y="277"/>
                  </a:lnTo>
                  <a:lnTo>
                    <a:pt x="517" y="311"/>
                  </a:lnTo>
                  <a:lnTo>
                    <a:pt x="494" y="346"/>
                  </a:lnTo>
                  <a:lnTo>
                    <a:pt x="468" y="385"/>
                  </a:lnTo>
                  <a:lnTo>
                    <a:pt x="439" y="425"/>
                  </a:lnTo>
                  <a:lnTo>
                    <a:pt x="409" y="467"/>
                  </a:lnTo>
                  <a:lnTo>
                    <a:pt x="374" y="513"/>
                  </a:lnTo>
                  <a:lnTo>
                    <a:pt x="338" y="560"/>
                  </a:lnTo>
                  <a:lnTo>
                    <a:pt x="299" y="609"/>
                  </a:lnTo>
                  <a:lnTo>
                    <a:pt x="257" y="662"/>
                  </a:lnTo>
                  <a:lnTo>
                    <a:pt x="212" y="716"/>
                  </a:lnTo>
                  <a:lnTo>
                    <a:pt x="165" y="774"/>
                  </a:lnTo>
                  <a:lnTo>
                    <a:pt x="113" y="833"/>
                  </a:lnTo>
                  <a:lnTo>
                    <a:pt x="59" y="896"/>
                  </a:lnTo>
                  <a:lnTo>
                    <a:pt x="0" y="960"/>
                  </a:lnTo>
                  <a:lnTo>
                    <a:pt x="10" y="3106"/>
                  </a:lnTo>
                  <a:lnTo>
                    <a:pt x="17" y="3099"/>
                  </a:lnTo>
                  <a:lnTo>
                    <a:pt x="40" y="3077"/>
                  </a:lnTo>
                  <a:lnTo>
                    <a:pt x="73" y="3043"/>
                  </a:lnTo>
                  <a:lnTo>
                    <a:pt x="116" y="2997"/>
                  </a:lnTo>
                  <a:lnTo>
                    <a:pt x="167" y="2943"/>
                  </a:lnTo>
                  <a:lnTo>
                    <a:pt x="224" y="2880"/>
                  </a:lnTo>
                  <a:lnTo>
                    <a:pt x="285" y="2811"/>
                  </a:lnTo>
                  <a:lnTo>
                    <a:pt x="348" y="2736"/>
                  </a:lnTo>
                  <a:lnTo>
                    <a:pt x="379" y="2698"/>
                  </a:lnTo>
                  <a:lnTo>
                    <a:pt x="412" y="2659"/>
                  </a:lnTo>
                  <a:lnTo>
                    <a:pt x="442" y="2619"/>
                  </a:lnTo>
                  <a:lnTo>
                    <a:pt x="472" y="2579"/>
                  </a:lnTo>
                  <a:lnTo>
                    <a:pt x="501" y="2540"/>
                  </a:lnTo>
                  <a:lnTo>
                    <a:pt x="530" y="2499"/>
                  </a:lnTo>
                  <a:lnTo>
                    <a:pt x="556" y="2460"/>
                  </a:lnTo>
                  <a:lnTo>
                    <a:pt x="581" y="2421"/>
                  </a:lnTo>
                  <a:lnTo>
                    <a:pt x="603" y="2381"/>
                  </a:lnTo>
                  <a:lnTo>
                    <a:pt x="623" y="2344"/>
                  </a:lnTo>
                  <a:lnTo>
                    <a:pt x="641" y="2308"/>
                  </a:lnTo>
                  <a:lnTo>
                    <a:pt x="658" y="2271"/>
                  </a:lnTo>
                  <a:lnTo>
                    <a:pt x="670" y="2238"/>
                  </a:lnTo>
                  <a:lnTo>
                    <a:pt x="679" y="2206"/>
                  </a:lnTo>
                  <a:lnTo>
                    <a:pt x="684" y="2175"/>
                  </a:lnTo>
                  <a:lnTo>
                    <a:pt x="686" y="2146"/>
                  </a:lnTo>
                  <a:lnTo>
                    <a:pt x="6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Freeform 253"/>
            <p:cNvSpPr/>
            <p:nvPr/>
          </p:nvSpPr>
          <p:spPr>
            <a:xfrm>
              <a:off x="5588280" y="5154480"/>
              <a:ext cx="88200" cy="108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3088" h="3451">
                  <a:moveTo>
                    <a:pt x="3088" y="158"/>
                  </a:moveTo>
                  <a:lnTo>
                    <a:pt x="3088" y="2353"/>
                  </a:lnTo>
                  <a:lnTo>
                    <a:pt x="3087" y="2349"/>
                  </a:lnTo>
                  <a:lnTo>
                    <a:pt x="3086" y="2338"/>
                  </a:lnTo>
                  <a:lnTo>
                    <a:pt x="3084" y="2331"/>
                  </a:lnTo>
                  <a:lnTo>
                    <a:pt x="3081" y="2322"/>
                  </a:lnTo>
                  <a:lnTo>
                    <a:pt x="3077" y="2311"/>
                  </a:lnTo>
                  <a:lnTo>
                    <a:pt x="3072" y="2300"/>
                  </a:lnTo>
                  <a:lnTo>
                    <a:pt x="3066" y="2289"/>
                  </a:lnTo>
                  <a:lnTo>
                    <a:pt x="3057" y="2275"/>
                  </a:lnTo>
                  <a:lnTo>
                    <a:pt x="3047" y="2262"/>
                  </a:lnTo>
                  <a:lnTo>
                    <a:pt x="3034" y="2249"/>
                  </a:lnTo>
                  <a:lnTo>
                    <a:pt x="3020" y="2236"/>
                  </a:lnTo>
                  <a:lnTo>
                    <a:pt x="3004" y="2223"/>
                  </a:lnTo>
                  <a:lnTo>
                    <a:pt x="2985" y="2210"/>
                  </a:lnTo>
                  <a:lnTo>
                    <a:pt x="2963" y="2198"/>
                  </a:lnTo>
                  <a:lnTo>
                    <a:pt x="2938" y="2186"/>
                  </a:lnTo>
                  <a:lnTo>
                    <a:pt x="2909" y="2175"/>
                  </a:lnTo>
                  <a:lnTo>
                    <a:pt x="2878" y="2165"/>
                  </a:lnTo>
                  <a:lnTo>
                    <a:pt x="2844" y="2155"/>
                  </a:lnTo>
                  <a:lnTo>
                    <a:pt x="2805" y="2148"/>
                  </a:lnTo>
                  <a:lnTo>
                    <a:pt x="2763" y="2141"/>
                  </a:lnTo>
                  <a:lnTo>
                    <a:pt x="2717" y="2137"/>
                  </a:lnTo>
                  <a:lnTo>
                    <a:pt x="2666" y="2134"/>
                  </a:lnTo>
                  <a:lnTo>
                    <a:pt x="2611" y="2133"/>
                  </a:lnTo>
                  <a:lnTo>
                    <a:pt x="2552" y="2134"/>
                  </a:lnTo>
                  <a:lnTo>
                    <a:pt x="2487" y="2138"/>
                  </a:lnTo>
                  <a:lnTo>
                    <a:pt x="2419" y="2144"/>
                  </a:lnTo>
                  <a:lnTo>
                    <a:pt x="2344" y="2153"/>
                  </a:lnTo>
                  <a:lnTo>
                    <a:pt x="2264" y="2165"/>
                  </a:lnTo>
                  <a:lnTo>
                    <a:pt x="2179" y="2179"/>
                  </a:lnTo>
                  <a:lnTo>
                    <a:pt x="2088" y="2197"/>
                  </a:lnTo>
                  <a:lnTo>
                    <a:pt x="2082" y="2197"/>
                  </a:lnTo>
                  <a:lnTo>
                    <a:pt x="2062" y="2197"/>
                  </a:lnTo>
                  <a:lnTo>
                    <a:pt x="2032" y="2199"/>
                  </a:lnTo>
                  <a:lnTo>
                    <a:pt x="1991" y="2202"/>
                  </a:lnTo>
                  <a:lnTo>
                    <a:pt x="1942" y="2206"/>
                  </a:lnTo>
                  <a:lnTo>
                    <a:pt x="1887" y="2213"/>
                  </a:lnTo>
                  <a:lnTo>
                    <a:pt x="1857" y="2217"/>
                  </a:lnTo>
                  <a:lnTo>
                    <a:pt x="1827" y="2222"/>
                  </a:lnTo>
                  <a:lnTo>
                    <a:pt x="1795" y="2228"/>
                  </a:lnTo>
                  <a:lnTo>
                    <a:pt x="1762" y="2234"/>
                  </a:lnTo>
                  <a:lnTo>
                    <a:pt x="1730" y="2242"/>
                  </a:lnTo>
                  <a:lnTo>
                    <a:pt x="1697" y="2250"/>
                  </a:lnTo>
                  <a:lnTo>
                    <a:pt x="1664" y="2260"/>
                  </a:lnTo>
                  <a:lnTo>
                    <a:pt x="1630" y="2270"/>
                  </a:lnTo>
                  <a:lnTo>
                    <a:pt x="1597" y="2283"/>
                  </a:lnTo>
                  <a:lnTo>
                    <a:pt x="1565" y="2296"/>
                  </a:lnTo>
                  <a:lnTo>
                    <a:pt x="1533" y="2310"/>
                  </a:lnTo>
                  <a:lnTo>
                    <a:pt x="1501" y="2325"/>
                  </a:lnTo>
                  <a:lnTo>
                    <a:pt x="1471" y="2342"/>
                  </a:lnTo>
                  <a:lnTo>
                    <a:pt x="1443" y="2359"/>
                  </a:lnTo>
                  <a:lnTo>
                    <a:pt x="1415" y="2379"/>
                  </a:lnTo>
                  <a:lnTo>
                    <a:pt x="1389" y="2400"/>
                  </a:lnTo>
                  <a:lnTo>
                    <a:pt x="1365" y="2423"/>
                  </a:lnTo>
                  <a:lnTo>
                    <a:pt x="1343" y="2447"/>
                  </a:lnTo>
                  <a:lnTo>
                    <a:pt x="1323" y="2473"/>
                  </a:lnTo>
                  <a:lnTo>
                    <a:pt x="1305" y="2500"/>
                  </a:lnTo>
                  <a:lnTo>
                    <a:pt x="1283" y="2517"/>
                  </a:lnTo>
                  <a:lnTo>
                    <a:pt x="1223" y="2562"/>
                  </a:lnTo>
                  <a:lnTo>
                    <a:pt x="1136" y="2628"/>
                  </a:lnTo>
                  <a:lnTo>
                    <a:pt x="1035" y="2707"/>
                  </a:lnTo>
                  <a:lnTo>
                    <a:pt x="926" y="2793"/>
                  </a:lnTo>
                  <a:lnTo>
                    <a:pt x="821" y="2876"/>
                  </a:lnTo>
                  <a:lnTo>
                    <a:pt x="774" y="2916"/>
                  </a:lnTo>
                  <a:lnTo>
                    <a:pt x="732" y="2951"/>
                  </a:lnTo>
                  <a:lnTo>
                    <a:pt x="696" y="2983"/>
                  </a:lnTo>
                  <a:lnTo>
                    <a:pt x="668" y="3010"/>
                  </a:lnTo>
                  <a:lnTo>
                    <a:pt x="51" y="3343"/>
                  </a:lnTo>
                  <a:lnTo>
                    <a:pt x="22" y="3451"/>
                  </a:lnTo>
                  <a:lnTo>
                    <a:pt x="22" y="1275"/>
                  </a:lnTo>
                  <a:lnTo>
                    <a:pt x="18" y="1271"/>
                  </a:lnTo>
                  <a:lnTo>
                    <a:pt x="9" y="1260"/>
                  </a:lnTo>
                  <a:lnTo>
                    <a:pt x="5" y="1252"/>
                  </a:lnTo>
                  <a:lnTo>
                    <a:pt x="2" y="1243"/>
                  </a:lnTo>
                  <a:lnTo>
                    <a:pt x="1" y="1238"/>
                  </a:lnTo>
                  <a:lnTo>
                    <a:pt x="0" y="1233"/>
                  </a:lnTo>
                  <a:lnTo>
                    <a:pt x="0" y="1228"/>
                  </a:lnTo>
                  <a:lnTo>
                    <a:pt x="0" y="1223"/>
                  </a:lnTo>
                  <a:lnTo>
                    <a:pt x="1" y="1218"/>
                  </a:lnTo>
                  <a:lnTo>
                    <a:pt x="3" y="1213"/>
                  </a:lnTo>
                  <a:lnTo>
                    <a:pt x="6" y="1207"/>
                  </a:lnTo>
                  <a:lnTo>
                    <a:pt x="9" y="1201"/>
                  </a:lnTo>
                  <a:lnTo>
                    <a:pt x="14" y="1196"/>
                  </a:lnTo>
                  <a:lnTo>
                    <a:pt x="20" y="1190"/>
                  </a:lnTo>
                  <a:lnTo>
                    <a:pt x="26" y="1185"/>
                  </a:lnTo>
                  <a:lnTo>
                    <a:pt x="34" y="1180"/>
                  </a:lnTo>
                  <a:lnTo>
                    <a:pt x="43" y="1175"/>
                  </a:lnTo>
                  <a:lnTo>
                    <a:pt x="54" y="1171"/>
                  </a:lnTo>
                  <a:lnTo>
                    <a:pt x="65" y="1166"/>
                  </a:lnTo>
                  <a:lnTo>
                    <a:pt x="79" y="1162"/>
                  </a:lnTo>
                  <a:lnTo>
                    <a:pt x="93" y="1158"/>
                  </a:lnTo>
                  <a:lnTo>
                    <a:pt x="110" y="1154"/>
                  </a:lnTo>
                  <a:lnTo>
                    <a:pt x="128" y="1151"/>
                  </a:lnTo>
                  <a:lnTo>
                    <a:pt x="149" y="1148"/>
                  </a:lnTo>
                  <a:lnTo>
                    <a:pt x="158" y="1143"/>
                  </a:lnTo>
                  <a:lnTo>
                    <a:pt x="181" y="1129"/>
                  </a:lnTo>
                  <a:lnTo>
                    <a:pt x="219" y="1107"/>
                  </a:lnTo>
                  <a:lnTo>
                    <a:pt x="269" y="1077"/>
                  </a:lnTo>
                  <a:lnTo>
                    <a:pt x="328" y="1043"/>
                  </a:lnTo>
                  <a:lnTo>
                    <a:pt x="397" y="1003"/>
                  </a:lnTo>
                  <a:lnTo>
                    <a:pt x="470" y="957"/>
                  </a:lnTo>
                  <a:lnTo>
                    <a:pt x="549" y="910"/>
                  </a:lnTo>
                  <a:lnTo>
                    <a:pt x="630" y="861"/>
                  </a:lnTo>
                  <a:lnTo>
                    <a:pt x="713" y="810"/>
                  </a:lnTo>
                  <a:lnTo>
                    <a:pt x="794" y="760"/>
                  </a:lnTo>
                  <a:lnTo>
                    <a:pt x="872" y="709"/>
                  </a:lnTo>
                  <a:lnTo>
                    <a:pt x="946" y="662"/>
                  </a:lnTo>
                  <a:lnTo>
                    <a:pt x="1012" y="618"/>
                  </a:lnTo>
                  <a:lnTo>
                    <a:pt x="1043" y="596"/>
                  </a:lnTo>
                  <a:lnTo>
                    <a:pt x="1071" y="576"/>
                  </a:lnTo>
                  <a:lnTo>
                    <a:pt x="1096" y="558"/>
                  </a:lnTo>
                  <a:lnTo>
                    <a:pt x="1118" y="540"/>
                  </a:lnTo>
                  <a:lnTo>
                    <a:pt x="1462" y="178"/>
                  </a:lnTo>
                  <a:lnTo>
                    <a:pt x="1472" y="175"/>
                  </a:lnTo>
                  <a:lnTo>
                    <a:pt x="1501" y="167"/>
                  </a:lnTo>
                  <a:lnTo>
                    <a:pt x="1549" y="155"/>
                  </a:lnTo>
                  <a:lnTo>
                    <a:pt x="1612" y="139"/>
                  </a:lnTo>
                  <a:lnTo>
                    <a:pt x="1689" y="120"/>
                  </a:lnTo>
                  <a:lnTo>
                    <a:pt x="1778" y="100"/>
                  </a:lnTo>
                  <a:lnTo>
                    <a:pt x="1875" y="80"/>
                  </a:lnTo>
                  <a:lnTo>
                    <a:pt x="1982" y="60"/>
                  </a:lnTo>
                  <a:lnTo>
                    <a:pt x="2038" y="51"/>
                  </a:lnTo>
                  <a:lnTo>
                    <a:pt x="2094" y="42"/>
                  </a:lnTo>
                  <a:lnTo>
                    <a:pt x="2152" y="34"/>
                  </a:lnTo>
                  <a:lnTo>
                    <a:pt x="2211" y="26"/>
                  </a:lnTo>
                  <a:lnTo>
                    <a:pt x="2270" y="19"/>
                  </a:lnTo>
                  <a:lnTo>
                    <a:pt x="2330" y="13"/>
                  </a:lnTo>
                  <a:lnTo>
                    <a:pt x="2389" y="9"/>
                  </a:lnTo>
                  <a:lnTo>
                    <a:pt x="2449" y="4"/>
                  </a:lnTo>
                  <a:lnTo>
                    <a:pt x="2508" y="1"/>
                  </a:lnTo>
                  <a:lnTo>
                    <a:pt x="2567" y="0"/>
                  </a:lnTo>
                  <a:lnTo>
                    <a:pt x="2624" y="1"/>
                  </a:lnTo>
                  <a:lnTo>
                    <a:pt x="2681" y="3"/>
                  </a:lnTo>
                  <a:lnTo>
                    <a:pt x="2736" y="7"/>
                  </a:lnTo>
                  <a:lnTo>
                    <a:pt x="2790" y="14"/>
                  </a:lnTo>
                  <a:lnTo>
                    <a:pt x="2842" y="21"/>
                  </a:lnTo>
                  <a:lnTo>
                    <a:pt x="2891" y="31"/>
                  </a:lnTo>
                  <a:lnTo>
                    <a:pt x="3088" y="1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Freeform 254"/>
            <p:cNvSpPr/>
            <p:nvPr/>
          </p:nvSpPr>
          <p:spPr>
            <a:xfrm>
              <a:off x="5625720" y="5173560"/>
              <a:ext cx="62640" cy="896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2194" h="2905">
                  <a:moveTo>
                    <a:pt x="0" y="2905"/>
                  </a:moveTo>
                  <a:lnTo>
                    <a:pt x="9" y="2903"/>
                  </a:lnTo>
                  <a:lnTo>
                    <a:pt x="32" y="2898"/>
                  </a:lnTo>
                  <a:lnTo>
                    <a:pt x="70" y="2890"/>
                  </a:lnTo>
                  <a:lnTo>
                    <a:pt x="121" y="2877"/>
                  </a:lnTo>
                  <a:lnTo>
                    <a:pt x="182" y="2862"/>
                  </a:lnTo>
                  <a:lnTo>
                    <a:pt x="253" y="2844"/>
                  </a:lnTo>
                  <a:lnTo>
                    <a:pt x="332" y="2824"/>
                  </a:lnTo>
                  <a:lnTo>
                    <a:pt x="418" y="2801"/>
                  </a:lnTo>
                  <a:lnTo>
                    <a:pt x="509" y="2776"/>
                  </a:lnTo>
                  <a:lnTo>
                    <a:pt x="604" y="2747"/>
                  </a:lnTo>
                  <a:lnTo>
                    <a:pt x="700" y="2718"/>
                  </a:lnTo>
                  <a:lnTo>
                    <a:pt x="798" y="2686"/>
                  </a:lnTo>
                  <a:lnTo>
                    <a:pt x="847" y="2670"/>
                  </a:lnTo>
                  <a:lnTo>
                    <a:pt x="895" y="2653"/>
                  </a:lnTo>
                  <a:lnTo>
                    <a:pt x="942" y="2634"/>
                  </a:lnTo>
                  <a:lnTo>
                    <a:pt x="990" y="2617"/>
                  </a:lnTo>
                  <a:lnTo>
                    <a:pt x="1035" y="2599"/>
                  </a:lnTo>
                  <a:lnTo>
                    <a:pt x="1080" y="2580"/>
                  </a:lnTo>
                  <a:lnTo>
                    <a:pt x="1124" y="2562"/>
                  </a:lnTo>
                  <a:lnTo>
                    <a:pt x="1166" y="2543"/>
                  </a:lnTo>
                  <a:lnTo>
                    <a:pt x="1401" y="2445"/>
                  </a:lnTo>
                  <a:lnTo>
                    <a:pt x="1408" y="2437"/>
                  </a:lnTo>
                  <a:lnTo>
                    <a:pt x="1429" y="2417"/>
                  </a:lnTo>
                  <a:lnTo>
                    <a:pt x="1461" y="2386"/>
                  </a:lnTo>
                  <a:lnTo>
                    <a:pt x="1501" y="2351"/>
                  </a:lnTo>
                  <a:lnTo>
                    <a:pt x="1523" y="2333"/>
                  </a:lnTo>
                  <a:lnTo>
                    <a:pt x="1546" y="2314"/>
                  </a:lnTo>
                  <a:lnTo>
                    <a:pt x="1570" y="2297"/>
                  </a:lnTo>
                  <a:lnTo>
                    <a:pt x="1596" y="2279"/>
                  </a:lnTo>
                  <a:lnTo>
                    <a:pt x="1621" y="2263"/>
                  </a:lnTo>
                  <a:lnTo>
                    <a:pt x="1646" y="2249"/>
                  </a:lnTo>
                  <a:lnTo>
                    <a:pt x="1658" y="2243"/>
                  </a:lnTo>
                  <a:lnTo>
                    <a:pt x="1671" y="2238"/>
                  </a:lnTo>
                  <a:lnTo>
                    <a:pt x="1683" y="2233"/>
                  </a:lnTo>
                  <a:lnTo>
                    <a:pt x="1695" y="2229"/>
                  </a:lnTo>
                  <a:lnTo>
                    <a:pt x="1707" y="2221"/>
                  </a:lnTo>
                  <a:lnTo>
                    <a:pt x="1743" y="2203"/>
                  </a:lnTo>
                  <a:lnTo>
                    <a:pt x="1768" y="2192"/>
                  </a:lnTo>
                  <a:lnTo>
                    <a:pt x="1796" y="2180"/>
                  </a:lnTo>
                  <a:lnTo>
                    <a:pt x="1828" y="2168"/>
                  </a:lnTo>
                  <a:lnTo>
                    <a:pt x="1864" y="2156"/>
                  </a:lnTo>
                  <a:lnTo>
                    <a:pt x="1883" y="2151"/>
                  </a:lnTo>
                  <a:lnTo>
                    <a:pt x="1902" y="2146"/>
                  </a:lnTo>
                  <a:lnTo>
                    <a:pt x="1921" y="2142"/>
                  </a:lnTo>
                  <a:lnTo>
                    <a:pt x="1941" y="2139"/>
                  </a:lnTo>
                  <a:lnTo>
                    <a:pt x="1962" y="2136"/>
                  </a:lnTo>
                  <a:lnTo>
                    <a:pt x="1984" y="2134"/>
                  </a:lnTo>
                  <a:lnTo>
                    <a:pt x="2004" y="2133"/>
                  </a:lnTo>
                  <a:lnTo>
                    <a:pt x="2026" y="2133"/>
                  </a:lnTo>
                  <a:lnTo>
                    <a:pt x="2047" y="2135"/>
                  </a:lnTo>
                  <a:lnTo>
                    <a:pt x="2068" y="2137"/>
                  </a:lnTo>
                  <a:lnTo>
                    <a:pt x="2089" y="2140"/>
                  </a:lnTo>
                  <a:lnTo>
                    <a:pt x="2112" y="2145"/>
                  </a:lnTo>
                  <a:lnTo>
                    <a:pt x="2133" y="2151"/>
                  </a:lnTo>
                  <a:lnTo>
                    <a:pt x="2153" y="2159"/>
                  </a:lnTo>
                  <a:lnTo>
                    <a:pt x="2174" y="2169"/>
                  </a:lnTo>
                  <a:lnTo>
                    <a:pt x="2194" y="2180"/>
                  </a:lnTo>
                  <a:lnTo>
                    <a:pt x="2194" y="24"/>
                  </a:lnTo>
                  <a:lnTo>
                    <a:pt x="2180" y="20"/>
                  </a:lnTo>
                  <a:lnTo>
                    <a:pt x="2141" y="12"/>
                  </a:lnTo>
                  <a:lnTo>
                    <a:pt x="2112" y="7"/>
                  </a:lnTo>
                  <a:lnTo>
                    <a:pt x="2078" y="3"/>
                  </a:lnTo>
                  <a:lnTo>
                    <a:pt x="2040" y="1"/>
                  </a:lnTo>
                  <a:lnTo>
                    <a:pt x="1998" y="0"/>
                  </a:lnTo>
                  <a:lnTo>
                    <a:pt x="1975" y="1"/>
                  </a:lnTo>
                  <a:lnTo>
                    <a:pt x="1951" y="2"/>
                  </a:lnTo>
                  <a:lnTo>
                    <a:pt x="1926" y="4"/>
                  </a:lnTo>
                  <a:lnTo>
                    <a:pt x="1901" y="7"/>
                  </a:lnTo>
                  <a:lnTo>
                    <a:pt x="1876" y="10"/>
                  </a:lnTo>
                  <a:lnTo>
                    <a:pt x="1849" y="16"/>
                  </a:lnTo>
                  <a:lnTo>
                    <a:pt x="1821" y="22"/>
                  </a:lnTo>
                  <a:lnTo>
                    <a:pt x="1794" y="28"/>
                  </a:lnTo>
                  <a:lnTo>
                    <a:pt x="1765" y="36"/>
                  </a:lnTo>
                  <a:lnTo>
                    <a:pt x="1737" y="46"/>
                  </a:lnTo>
                  <a:lnTo>
                    <a:pt x="1707" y="56"/>
                  </a:lnTo>
                  <a:lnTo>
                    <a:pt x="1678" y="68"/>
                  </a:lnTo>
                  <a:lnTo>
                    <a:pt x="1648" y="81"/>
                  </a:lnTo>
                  <a:lnTo>
                    <a:pt x="1619" y="96"/>
                  </a:lnTo>
                  <a:lnTo>
                    <a:pt x="1589" y="113"/>
                  </a:lnTo>
                  <a:lnTo>
                    <a:pt x="1558" y="132"/>
                  </a:lnTo>
                  <a:lnTo>
                    <a:pt x="1382" y="298"/>
                  </a:lnTo>
                  <a:lnTo>
                    <a:pt x="1371" y="303"/>
                  </a:lnTo>
                  <a:lnTo>
                    <a:pt x="1339" y="317"/>
                  </a:lnTo>
                  <a:lnTo>
                    <a:pt x="1288" y="338"/>
                  </a:lnTo>
                  <a:lnTo>
                    <a:pt x="1223" y="365"/>
                  </a:lnTo>
                  <a:lnTo>
                    <a:pt x="1142" y="399"/>
                  </a:lnTo>
                  <a:lnTo>
                    <a:pt x="1050" y="435"/>
                  </a:lnTo>
                  <a:lnTo>
                    <a:pt x="949" y="473"/>
                  </a:lnTo>
                  <a:lnTo>
                    <a:pt x="842" y="514"/>
                  </a:lnTo>
                  <a:lnTo>
                    <a:pt x="786" y="534"/>
                  </a:lnTo>
                  <a:lnTo>
                    <a:pt x="729" y="554"/>
                  </a:lnTo>
                  <a:lnTo>
                    <a:pt x="671" y="574"/>
                  </a:lnTo>
                  <a:lnTo>
                    <a:pt x="614" y="593"/>
                  </a:lnTo>
                  <a:lnTo>
                    <a:pt x="556" y="612"/>
                  </a:lnTo>
                  <a:lnTo>
                    <a:pt x="499" y="630"/>
                  </a:lnTo>
                  <a:lnTo>
                    <a:pt x="441" y="646"/>
                  </a:lnTo>
                  <a:lnTo>
                    <a:pt x="386" y="662"/>
                  </a:lnTo>
                  <a:lnTo>
                    <a:pt x="331" y="677"/>
                  </a:lnTo>
                  <a:lnTo>
                    <a:pt x="277" y="689"/>
                  </a:lnTo>
                  <a:lnTo>
                    <a:pt x="225" y="701"/>
                  </a:lnTo>
                  <a:lnTo>
                    <a:pt x="175" y="711"/>
                  </a:lnTo>
                  <a:lnTo>
                    <a:pt x="127" y="718"/>
                  </a:lnTo>
                  <a:lnTo>
                    <a:pt x="82" y="724"/>
                  </a:lnTo>
                  <a:lnTo>
                    <a:pt x="39" y="728"/>
                  </a:lnTo>
                  <a:lnTo>
                    <a:pt x="0" y="730"/>
                  </a:lnTo>
                  <a:lnTo>
                    <a:pt x="0" y="29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Freeform 255"/>
            <p:cNvSpPr/>
            <p:nvPr/>
          </p:nvSpPr>
          <p:spPr>
            <a:xfrm>
              <a:off x="5450040" y="5249880"/>
              <a:ext cx="41040" cy="72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1459" h="2341">
                  <a:moveTo>
                    <a:pt x="1459" y="0"/>
                  </a:moveTo>
                  <a:lnTo>
                    <a:pt x="1459" y="2155"/>
                  </a:lnTo>
                  <a:lnTo>
                    <a:pt x="1452" y="2156"/>
                  </a:lnTo>
                  <a:lnTo>
                    <a:pt x="1434" y="2158"/>
                  </a:lnTo>
                  <a:lnTo>
                    <a:pt x="1405" y="2160"/>
                  </a:lnTo>
                  <a:lnTo>
                    <a:pt x="1367" y="2163"/>
                  </a:lnTo>
                  <a:lnTo>
                    <a:pt x="1319" y="2168"/>
                  </a:lnTo>
                  <a:lnTo>
                    <a:pt x="1267" y="2172"/>
                  </a:lnTo>
                  <a:lnTo>
                    <a:pt x="1209" y="2178"/>
                  </a:lnTo>
                  <a:lnTo>
                    <a:pt x="1148" y="2183"/>
                  </a:lnTo>
                  <a:lnTo>
                    <a:pt x="1085" y="2189"/>
                  </a:lnTo>
                  <a:lnTo>
                    <a:pt x="1021" y="2196"/>
                  </a:lnTo>
                  <a:lnTo>
                    <a:pt x="958" y="2202"/>
                  </a:lnTo>
                  <a:lnTo>
                    <a:pt x="897" y="2209"/>
                  </a:lnTo>
                  <a:lnTo>
                    <a:pt x="840" y="2215"/>
                  </a:lnTo>
                  <a:lnTo>
                    <a:pt x="788" y="2221"/>
                  </a:lnTo>
                  <a:lnTo>
                    <a:pt x="743" y="2228"/>
                  </a:lnTo>
                  <a:lnTo>
                    <a:pt x="705" y="2234"/>
                  </a:lnTo>
                  <a:lnTo>
                    <a:pt x="0" y="2341"/>
                  </a:lnTo>
                  <a:lnTo>
                    <a:pt x="0" y="195"/>
                  </a:lnTo>
                  <a:lnTo>
                    <a:pt x="5" y="194"/>
                  </a:lnTo>
                  <a:lnTo>
                    <a:pt x="18" y="191"/>
                  </a:lnTo>
                  <a:lnTo>
                    <a:pt x="40" y="186"/>
                  </a:lnTo>
                  <a:lnTo>
                    <a:pt x="69" y="179"/>
                  </a:lnTo>
                  <a:lnTo>
                    <a:pt x="105" y="172"/>
                  </a:lnTo>
                  <a:lnTo>
                    <a:pt x="147" y="163"/>
                  </a:lnTo>
                  <a:lnTo>
                    <a:pt x="194" y="154"/>
                  </a:lnTo>
                  <a:lnTo>
                    <a:pt x="246" y="144"/>
                  </a:lnTo>
                  <a:lnTo>
                    <a:pt x="301" y="134"/>
                  </a:lnTo>
                  <a:lnTo>
                    <a:pt x="360" y="124"/>
                  </a:lnTo>
                  <a:lnTo>
                    <a:pt x="420" y="114"/>
                  </a:lnTo>
                  <a:lnTo>
                    <a:pt x="484" y="105"/>
                  </a:lnTo>
                  <a:lnTo>
                    <a:pt x="546" y="96"/>
                  </a:lnTo>
                  <a:lnTo>
                    <a:pt x="610" y="89"/>
                  </a:lnTo>
                  <a:lnTo>
                    <a:pt x="673" y="83"/>
                  </a:lnTo>
                  <a:lnTo>
                    <a:pt x="735" y="77"/>
                  </a:lnTo>
                  <a:lnTo>
                    <a:pt x="145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Freeform 256"/>
            <p:cNvSpPr/>
            <p:nvPr/>
          </p:nvSpPr>
          <p:spPr>
            <a:xfrm>
              <a:off x="5757480" y="5198760"/>
              <a:ext cx="14040" cy="69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80" h="2286">
                  <a:moveTo>
                    <a:pt x="480" y="3"/>
                  </a:moveTo>
                  <a:lnTo>
                    <a:pt x="470" y="2"/>
                  </a:lnTo>
                  <a:lnTo>
                    <a:pt x="443" y="0"/>
                  </a:lnTo>
                  <a:lnTo>
                    <a:pt x="424" y="0"/>
                  </a:lnTo>
                  <a:lnTo>
                    <a:pt x="401" y="0"/>
                  </a:lnTo>
                  <a:lnTo>
                    <a:pt x="374" y="2"/>
                  </a:lnTo>
                  <a:lnTo>
                    <a:pt x="343" y="6"/>
                  </a:lnTo>
                  <a:lnTo>
                    <a:pt x="309" y="11"/>
                  </a:lnTo>
                  <a:lnTo>
                    <a:pt x="273" y="19"/>
                  </a:lnTo>
                  <a:lnTo>
                    <a:pt x="253" y="24"/>
                  </a:lnTo>
                  <a:lnTo>
                    <a:pt x="232" y="30"/>
                  </a:lnTo>
                  <a:lnTo>
                    <a:pt x="212" y="37"/>
                  </a:lnTo>
                  <a:lnTo>
                    <a:pt x="191" y="44"/>
                  </a:lnTo>
                  <a:lnTo>
                    <a:pt x="169" y="53"/>
                  </a:lnTo>
                  <a:lnTo>
                    <a:pt x="146" y="62"/>
                  </a:lnTo>
                  <a:lnTo>
                    <a:pt x="123" y="73"/>
                  </a:lnTo>
                  <a:lnTo>
                    <a:pt x="99" y="84"/>
                  </a:lnTo>
                  <a:lnTo>
                    <a:pt x="75" y="97"/>
                  </a:lnTo>
                  <a:lnTo>
                    <a:pt x="51" y="110"/>
                  </a:lnTo>
                  <a:lnTo>
                    <a:pt x="26" y="125"/>
                  </a:lnTo>
                  <a:lnTo>
                    <a:pt x="0" y="140"/>
                  </a:lnTo>
                  <a:lnTo>
                    <a:pt x="0" y="2286"/>
                  </a:lnTo>
                  <a:lnTo>
                    <a:pt x="16" y="2278"/>
                  </a:lnTo>
                  <a:lnTo>
                    <a:pt x="58" y="2257"/>
                  </a:lnTo>
                  <a:lnTo>
                    <a:pt x="87" y="2243"/>
                  </a:lnTo>
                  <a:lnTo>
                    <a:pt x="121" y="2228"/>
                  </a:lnTo>
                  <a:lnTo>
                    <a:pt x="157" y="2210"/>
                  </a:lnTo>
                  <a:lnTo>
                    <a:pt x="196" y="2194"/>
                  </a:lnTo>
                  <a:lnTo>
                    <a:pt x="235" y="2179"/>
                  </a:lnTo>
                  <a:lnTo>
                    <a:pt x="277" y="2165"/>
                  </a:lnTo>
                  <a:lnTo>
                    <a:pt x="297" y="2158"/>
                  </a:lnTo>
                  <a:lnTo>
                    <a:pt x="316" y="2152"/>
                  </a:lnTo>
                  <a:lnTo>
                    <a:pt x="336" y="2147"/>
                  </a:lnTo>
                  <a:lnTo>
                    <a:pt x="355" y="2142"/>
                  </a:lnTo>
                  <a:lnTo>
                    <a:pt x="374" y="2138"/>
                  </a:lnTo>
                  <a:lnTo>
                    <a:pt x="392" y="2135"/>
                  </a:lnTo>
                  <a:lnTo>
                    <a:pt x="409" y="2133"/>
                  </a:lnTo>
                  <a:lnTo>
                    <a:pt x="426" y="2132"/>
                  </a:lnTo>
                  <a:lnTo>
                    <a:pt x="441" y="2132"/>
                  </a:lnTo>
                  <a:lnTo>
                    <a:pt x="455" y="2133"/>
                  </a:lnTo>
                  <a:lnTo>
                    <a:pt x="468" y="2136"/>
                  </a:lnTo>
                  <a:lnTo>
                    <a:pt x="480" y="2140"/>
                  </a:lnTo>
                  <a:lnTo>
                    <a:pt x="480" y="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Freeform 257"/>
            <p:cNvSpPr/>
            <p:nvPr/>
          </p:nvSpPr>
          <p:spPr>
            <a:xfrm>
              <a:off x="5524560" y="5192640"/>
              <a:ext cx="21960" cy="777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734" h="2478">
                  <a:moveTo>
                    <a:pt x="734" y="0"/>
                  </a:moveTo>
                  <a:lnTo>
                    <a:pt x="0" y="332"/>
                  </a:lnTo>
                  <a:lnTo>
                    <a:pt x="0" y="2478"/>
                  </a:lnTo>
                  <a:lnTo>
                    <a:pt x="734" y="2146"/>
                  </a:lnTo>
                  <a:lnTo>
                    <a:pt x="73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Freeform 258"/>
            <p:cNvSpPr/>
            <p:nvPr/>
          </p:nvSpPr>
          <p:spPr>
            <a:xfrm>
              <a:off x="5499000" y="5190840"/>
              <a:ext cx="10800" cy="68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82" h="2186">
                  <a:moveTo>
                    <a:pt x="382" y="70"/>
                  </a:moveTo>
                  <a:lnTo>
                    <a:pt x="382" y="2166"/>
                  </a:lnTo>
                  <a:lnTo>
                    <a:pt x="374" y="2162"/>
                  </a:lnTo>
                  <a:lnTo>
                    <a:pt x="351" y="2152"/>
                  </a:lnTo>
                  <a:lnTo>
                    <a:pt x="334" y="2145"/>
                  </a:lnTo>
                  <a:lnTo>
                    <a:pt x="315" y="2139"/>
                  </a:lnTo>
                  <a:lnTo>
                    <a:pt x="293" y="2133"/>
                  </a:lnTo>
                  <a:lnTo>
                    <a:pt x="268" y="2129"/>
                  </a:lnTo>
                  <a:lnTo>
                    <a:pt x="255" y="2127"/>
                  </a:lnTo>
                  <a:lnTo>
                    <a:pt x="241" y="2125"/>
                  </a:lnTo>
                  <a:lnTo>
                    <a:pt x="226" y="2125"/>
                  </a:lnTo>
                  <a:lnTo>
                    <a:pt x="211" y="2124"/>
                  </a:lnTo>
                  <a:lnTo>
                    <a:pt x="195" y="2124"/>
                  </a:lnTo>
                  <a:lnTo>
                    <a:pt x="179" y="2125"/>
                  </a:lnTo>
                  <a:lnTo>
                    <a:pt x="163" y="2127"/>
                  </a:lnTo>
                  <a:lnTo>
                    <a:pt x="146" y="2129"/>
                  </a:lnTo>
                  <a:lnTo>
                    <a:pt x="129" y="2133"/>
                  </a:lnTo>
                  <a:lnTo>
                    <a:pt x="112" y="2137"/>
                  </a:lnTo>
                  <a:lnTo>
                    <a:pt x="93" y="2142"/>
                  </a:lnTo>
                  <a:lnTo>
                    <a:pt x="75" y="2149"/>
                  </a:lnTo>
                  <a:lnTo>
                    <a:pt x="57" y="2156"/>
                  </a:lnTo>
                  <a:lnTo>
                    <a:pt x="38" y="2165"/>
                  </a:lnTo>
                  <a:lnTo>
                    <a:pt x="19" y="2175"/>
                  </a:lnTo>
                  <a:lnTo>
                    <a:pt x="0" y="2186"/>
                  </a:lnTo>
                  <a:lnTo>
                    <a:pt x="0" y="70"/>
                  </a:lnTo>
                  <a:lnTo>
                    <a:pt x="8" y="63"/>
                  </a:lnTo>
                  <a:lnTo>
                    <a:pt x="31" y="48"/>
                  </a:lnTo>
                  <a:lnTo>
                    <a:pt x="47" y="37"/>
                  </a:lnTo>
                  <a:lnTo>
                    <a:pt x="66" y="28"/>
                  </a:lnTo>
                  <a:lnTo>
                    <a:pt x="88" y="19"/>
                  </a:lnTo>
                  <a:lnTo>
                    <a:pt x="114" y="10"/>
                  </a:lnTo>
                  <a:lnTo>
                    <a:pt x="127" y="7"/>
                  </a:lnTo>
                  <a:lnTo>
                    <a:pt x="141" y="4"/>
                  </a:lnTo>
                  <a:lnTo>
                    <a:pt x="156" y="2"/>
                  </a:lnTo>
                  <a:lnTo>
                    <a:pt x="170" y="0"/>
                  </a:lnTo>
                  <a:lnTo>
                    <a:pt x="186" y="0"/>
                  </a:lnTo>
                  <a:lnTo>
                    <a:pt x="202" y="0"/>
                  </a:lnTo>
                  <a:lnTo>
                    <a:pt x="218" y="1"/>
                  </a:lnTo>
                  <a:lnTo>
                    <a:pt x="236" y="3"/>
                  </a:lnTo>
                  <a:lnTo>
                    <a:pt x="253" y="7"/>
                  </a:lnTo>
                  <a:lnTo>
                    <a:pt x="270" y="11"/>
                  </a:lnTo>
                  <a:lnTo>
                    <a:pt x="288" y="17"/>
                  </a:lnTo>
                  <a:lnTo>
                    <a:pt x="306" y="24"/>
                  </a:lnTo>
                  <a:lnTo>
                    <a:pt x="325" y="33"/>
                  </a:lnTo>
                  <a:lnTo>
                    <a:pt x="343" y="43"/>
                  </a:lnTo>
                  <a:lnTo>
                    <a:pt x="363" y="56"/>
                  </a:lnTo>
                  <a:lnTo>
                    <a:pt x="382" y="7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Freeform 259"/>
            <p:cNvSpPr/>
            <p:nvPr/>
          </p:nvSpPr>
          <p:spPr>
            <a:xfrm>
              <a:off x="5464440" y="5164200"/>
              <a:ext cx="23760" cy="75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822" h="2458">
                  <a:moveTo>
                    <a:pt x="822" y="314"/>
                  </a:moveTo>
                  <a:lnTo>
                    <a:pt x="822" y="2450"/>
                  </a:lnTo>
                  <a:lnTo>
                    <a:pt x="812" y="2450"/>
                  </a:lnTo>
                  <a:lnTo>
                    <a:pt x="787" y="2452"/>
                  </a:lnTo>
                  <a:lnTo>
                    <a:pt x="747" y="2456"/>
                  </a:lnTo>
                  <a:lnTo>
                    <a:pt x="694" y="2457"/>
                  </a:lnTo>
                  <a:lnTo>
                    <a:pt x="633" y="2458"/>
                  </a:lnTo>
                  <a:lnTo>
                    <a:pt x="564" y="2457"/>
                  </a:lnTo>
                  <a:lnTo>
                    <a:pt x="528" y="2454"/>
                  </a:lnTo>
                  <a:lnTo>
                    <a:pt x="491" y="2452"/>
                  </a:lnTo>
                  <a:lnTo>
                    <a:pt x="453" y="2449"/>
                  </a:lnTo>
                  <a:lnTo>
                    <a:pt x="415" y="2445"/>
                  </a:lnTo>
                  <a:lnTo>
                    <a:pt x="377" y="2440"/>
                  </a:lnTo>
                  <a:lnTo>
                    <a:pt x="339" y="2434"/>
                  </a:lnTo>
                  <a:lnTo>
                    <a:pt x="302" y="2426"/>
                  </a:lnTo>
                  <a:lnTo>
                    <a:pt x="266" y="2417"/>
                  </a:lnTo>
                  <a:lnTo>
                    <a:pt x="231" y="2407"/>
                  </a:lnTo>
                  <a:lnTo>
                    <a:pt x="197" y="2396"/>
                  </a:lnTo>
                  <a:lnTo>
                    <a:pt x="165" y="2383"/>
                  </a:lnTo>
                  <a:lnTo>
                    <a:pt x="136" y="2368"/>
                  </a:lnTo>
                  <a:lnTo>
                    <a:pt x="109" y="2351"/>
                  </a:lnTo>
                  <a:lnTo>
                    <a:pt x="83" y="2332"/>
                  </a:lnTo>
                  <a:lnTo>
                    <a:pt x="62" y="2311"/>
                  </a:lnTo>
                  <a:lnTo>
                    <a:pt x="44" y="2289"/>
                  </a:lnTo>
                  <a:lnTo>
                    <a:pt x="29" y="2264"/>
                  </a:lnTo>
                  <a:lnTo>
                    <a:pt x="18" y="2237"/>
                  </a:lnTo>
                  <a:lnTo>
                    <a:pt x="11" y="2207"/>
                  </a:lnTo>
                  <a:lnTo>
                    <a:pt x="9" y="2176"/>
                  </a:lnTo>
                  <a:lnTo>
                    <a:pt x="9" y="0"/>
                  </a:lnTo>
                  <a:lnTo>
                    <a:pt x="7" y="4"/>
                  </a:lnTo>
                  <a:lnTo>
                    <a:pt x="4" y="16"/>
                  </a:lnTo>
                  <a:lnTo>
                    <a:pt x="2" y="24"/>
                  </a:lnTo>
                  <a:lnTo>
                    <a:pt x="1" y="33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0" y="70"/>
                  </a:lnTo>
                  <a:lnTo>
                    <a:pt x="2" y="83"/>
                  </a:lnTo>
                  <a:lnTo>
                    <a:pt x="5" y="98"/>
                  </a:lnTo>
                  <a:lnTo>
                    <a:pt x="10" y="113"/>
                  </a:lnTo>
                  <a:lnTo>
                    <a:pt x="17" y="128"/>
                  </a:lnTo>
                  <a:lnTo>
                    <a:pt x="26" y="144"/>
                  </a:lnTo>
                  <a:lnTo>
                    <a:pt x="38" y="159"/>
                  </a:lnTo>
                  <a:lnTo>
                    <a:pt x="51" y="175"/>
                  </a:lnTo>
                  <a:lnTo>
                    <a:pt x="68" y="192"/>
                  </a:lnTo>
                  <a:lnTo>
                    <a:pt x="88" y="207"/>
                  </a:lnTo>
                  <a:lnTo>
                    <a:pt x="112" y="222"/>
                  </a:lnTo>
                  <a:lnTo>
                    <a:pt x="138" y="236"/>
                  </a:lnTo>
                  <a:lnTo>
                    <a:pt x="169" y="250"/>
                  </a:lnTo>
                  <a:lnTo>
                    <a:pt x="203" y="263"/>
                  </a:lnTo>
                  <a:lnTo>
                    <a:pt x="243" y="275"/>
                  </a:lnTo>
                  <a:lnTo>
                    <a:pt x="286" y="285"/>
                  </a:lnTo>
                  <a:lnTo>
                    <a:pt x="333" y="295"/>
                  </a:lnTo>
                  <a:lnTo>
                    <a:pt x="387" y="304"/>
                  </a:lnTo>
                  <a:lnTo>
                    <a:pt x="444" y="310"/>
                  </a:lnTo>
                  <a:lnTo>
                    <a:pt x="509" y="315"/>
                  </a:lnTo>
                  <a:lnTo>
                    <a:pt x="577" y="318"/>
                  </a:lnTo>
                  <a:lnTo>
                    <a:pt x="653" y="319"/>
                  </a:lnTo>
                  <a:lnTo>
                    <a:pt x="735" y="318"/>
                  </a:lnTo>
                  <a:lnTo>
                    <a:pt x="822" y="3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Freeform 260"/>
            <p:cNvSpPr/>
            <p:nvPr/>
          </p:nvSpPr>
          <p:spPr>
            <a:xfrm>
              <a:off x="5413320" y="5092920"/>
              <a:ext cx="12240" cy="792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56" h="2587">
                  <a:moveTo>
                    <a:pt x="446" y="441"/>
                  </a:moveTo>
                  <a:lnTo>
                    <a:pt x="425" y="432"/>
                  </a:lnTo>
                  <a:lnTo>
                    <a:pt x="369" y="408"/>
                  </a:lnTo>
                  <a:lnTo>
                    <a:pt x="332" y="389"/>
                  </a:lnTo>
                  <a:lnTo>
                    <a:pt x="292" y="368"/>
                  </a:lnTo>
                  <a:lnTo>
                    <a:pt x="270" y="356"/>
                  </a:lnTo>
                  <a:lnTo>
                    <a:pt x="248" y="344"/>
                  </a:lnTo>
                  <a:lnTo>
                    <a:pt x="226" y="330"/>
                  </a:lnTo>
                  <a:lnTo>
                    <a:pt x="204" y="316"/>
                  </a:lnTo>
                  <a:lnTo>
                    <a:pt x="182" y="301"/>
                  </a:lnTo>
                  <a:lnTo>
                    <a:pt x="161" y="285"/>
                  </a:lnTo>
                  <a:lnTo>
                    <a:pt x="140" y="268"/>
                  </a:lnTo>
                  <a:lnTo>
                    <a:pt x="119" y="251"/>
                  </a:lnTo>
                  <a:lnTo>
                    <a:pt x="100" y="233"/>
                  </a:lnTo>
                  <a:lnTo>
                    <a:pt x="82" y="215"/>
                  </a:lnTo>
                  <a:lnTo>
                    <a:pt x="65" y="196"/>
                  </a:lnTo>
                  <a:lnTo>
                    <a:pt x="50" y="176"/>
                  </a:lnTo>
                  <a:lnTo>
                    <a:pt x="36" y="155"/>
                  </a:lnTo>
                  <a:lnTo>
                    <a:pt x="25" y="135"/>
                  </a:lnTo>
                  <a:lnTo>
                    <a:pt x="15" y="114"/>
                  </a:lnTo>
                  <a:lnTo>
                    <a:pt x="7" y="92"/>
                  </a:lnTo>
                  <a:lnTo>
                    <a:pt x="2" y="70"/>
                  </a:lnTo>
                  <a:lnTo>
                    <a:pt x="0" y="47"/>
                  </a:lnTo>
                  <a:lnTo>
                    <a:pt x="1" y="23"/>
                  </a:lnTo>
                  <a:lnTo>
                    <a:pt x="5" y="0"/>
                  </a:lnTo>
                  <a:lnTo>
                    <a:pt x="5" y="2165"/>
                  </a:lnTo>
                  <a:lnTo>
                    <a:pt x="9" y="2180"/>
                  </a:lnTo>
                  <a:lnTo>
                    <a:pt x="23" y="2219"/>
                  </a:lnTo>
                  <a:lnTo>
                    <a:pt x="33" y="2246"/>
                  </a:lnTo>
                  <a:lnTo>
                    <a:pt x="48" y="2275"/>
                  </a:lnTo>
                  <a:lnTo>
                    <a:pt x="56" y="2291"/>
                  </a:lnTo>
                  <a:lnTo>
                    <a:pt x="65" y="2308"/>
                  </a:lnTo>
                  <a:lnTo>
                    <a:pt x="76" y="2326"/>
                  </a:lnTo>
                  <a:lnTo>
                    <a:pt x="87" y="2343"/>
                  </a:lnTo>
                  <a:lnTo>
                    <a:pt x="100" y="2361"/>
                  </a:lnTo>
                  <a:lnTo>
                    <a:pt x="114" y="2379"/>
                  </a:lnTo>
                  <a:lnTo>
                    <a:pt x="129" y="2397"/>
                  </a:lnTo>
                  <a:lnTo>
                    <a:pt x="146" y="2414"/>
                  </a:lnTo>
                  <a:lnTo>
                    <a:pt x="164" y="2432"/>
                  </a:lnTo>
                  <a:lnTo>
                    <a:pt x="182" y="2450"/>
                  </a:lnTo>
                  <a:lnTo>
                    <a:pt x="203" y="2467"/>
                  </a:lnTo>
                  <a:lnTo>
                    <a:pt x="224" y="2484"/>
                  </a:lnTo>
                  <a:lnTo>
                    <a:pt x="247" y="2500"/>
                  </a:lnTo>
                  <a:lnTo>
                    <a:pt x="273" y="2515"/>
                  </a:lnTo>
                  <a:lnTo>
                    <a:pt x="299" y="2530"/>
                  </a:lnTo>
                  <a:lnTo>
                    <a:pt x="327" y="2543"/>
                  </a:lnTo>
                  <a:lnTo>
                    <a:pt x="356" y="2557"/>
                  </a:lnTo>
                  <a:lnTo>
                    <a:pt x="388" y="2568"/>
                  </a:lnTo>
                  <a:lnTo>
                    <a:pt x="421" y="2578"/>
                  </a:lnTo>
                  <a:lnTo>
                    <a:pt x="456" y="2587"/>
                  </a:lnTo>
                  <a:lnTo>
                    <a:pt x="446" y="4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Freeform 261"/>
            <p:cNvSpPr/>
            <p:nvPr/>
          </p:nvSpPr>
          <p:spPr>
            <a:xfrm>
              <a:off x="5469120" y="5055840"/>
              <a:ext cx="60480" cy="889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16" h="2853">
                  <a:moveTo>
                    <a:pt x="2116" y="636"/>
                  </a:moveTo>
                  <a:lnTo>
                    <a:pt x="2098" y="640"/>
                  </a:lnTo>
                  <a:lnTo>
                    <a:pt x="2047" y="649"/>
                  </a:lnTo>
                  <a:lnTo>
                    <a:pt x="2011" y="654"/>
                  </a:lnTo>
                  <a:lnTo>
                    <a:pt x="1969" y="660"/>
                  </a:lnTo>
                  <a:lnTo>
                    <a:pt x="1919" y="667"/>
                  </a:lnTo>
                  <a:lnTo>
                    <a:pt x="1864" y="673"/>
                  </a:lnTo>
                  <a:lnTo>
                    <a:pt x="1804" y="679"/>
                  </a:lnTo>
                  <a:lnTo>
                    <a:pt x="1738" y="684"/>
                  </a:lnTo>
                  <a:lnTo>
                    <a:pt x="1667" y="688"/>
                  </a:lnTo>
                  <a:lnTo>
                    <a:pt x="1594" y="690"/>
                  </a:lnTo>
                  <a:lnTo>
                    <a:pt x="1516" y="691"/>
                  </a:lnTo>
                  <a:lnTo>
                    <a:pt x="1436" y="690"/>
                  </a:lnTo>
                  <a:lnTo>
                    <a:pt x="1353" y="687"/>
                  </a:lnTo>
                  <a:lnTo>
                    <a:pt x="1267" y="681"/>
                  </a:lnTo>
                  <a:lnTo>
                    <a:pt x="1181" y="673"/>
                  </a:lnTo>
                  <a:lnTo>
                    <a:pt x="1093" y="661"/>
                  </a:lnTo>
                  <a:lnTo>
                    <a:pt x="1004" y="646"/>
                  </a:lnTo>
                  <a:lnTo>
                    <a:pt x="914" y="627"/>
                  </a:lnTo>
                  <a:lnTo>
                    <a:pt x="826" y="604"/>
                  </a:lnTo>
                  <a:lnTo>
                    <a:pt x="738" y="576"/>
                  </a:lnTo>
                  <a:lnTo>
                    <a:pt x="651" y="545"/>
                  </a:lnTo>
                  <a:lnTo>
                    <a:pt x="567" y="508"/>
                  </a:lnTo>
                  <a:lnTo>
                    <a:pt x="483" y="465"/>
                  </a:lnTo>
                  <a:lnTo>
                    <a:pt x="402" y="418"/>
                  </a:lnTo>
                  <a:lnTo>
                    <a:pt x="325" y="365"/>
                  </a:lnTo>
                  <a:lnTo>
                    <a:pt x="251" y="305"/>
                  </a:lnTo>
                  <a:lnTo>
                    <a:pt x="182" y="239"/>
                  </a:lnTo>
                  <a:lnTo>
                    <a:pt x="116" y="166"/>
                  </a:lnTo>
                  <a:lnTo>
                    <a:pt x="56" y="86"/>
                  </a:lnTo>
                  <a:lnTo>
                    <a:pt x="0" y="0"/>
                  </a:lnTo>
                  <a:lnTo>
                    <a:pt x="0" y="2165"/>
                  </a:lnTo>
                  <a:lnTo>
                    <a:pt x="7" y="2176"/>
                  </a:lnTo>
                  <a:lnTo>
                    <a:pt x="30" y="2205"/>
                  </a:lnTo>
                  <a:lnTo>
                    <a:pt x="48" y="2226"/>
                  </a:lnTo>
                  <a:lnTo>
                    <a:pt x="69" y="2250"/>
                  </a:lnTo>
                  <a:lnTo>
                    <a:pt x="94" y="2278"/>
                  </a:lnTo>
                  <a:lnTo>
                    <a:pt x="122" y="2308"/>
                  </a:lnTo>
                  <a:lnTo>
                    <a:pt x="155" y="2341"/>
                  </a:lnTo>
                  <a:lnTo>
                    <a:pt x="193" y="2375"/>
                  </a:lnTo>
                  <a:lnTo>
                    <a:pt x="234" y="2411"/>
                  </a:lnTo>
                  <a:lnTo>
                    <a:pt x="279" y="2448"/>
                  </a:lnTo>
                  <a:lnTo>
                    <a:pt x="329" y="2485"/>
                  </a:lnTo>
                  <a:lnTo>
                    <a:pt x="383" y="2524"/>
                  </a:lnTo>
                  <a:lnTo>
                    <a:pt x="441" y="2561"/>
                  </a:lnTo>
                  <a:lnTo>
                    <a:pt x="503" y="2598"/>
                  </a:lnTo>
                  <a:lnTo>
                    <a:pt x="570" y="2635"/>
                  </a:lnTo>
                  <a:lnTo>
                    <a:pt x="641" y="2670"/>
                  </a:lnTo>
                  <a:lnTo>
                    <a:pt x="717" y="2702"/>
                  </a:lnTo>
                  <a:lnTo>
                    <a:pt x="797" y="2733"/>
                  </a:lnTo>
                  <a:lnTo>
                    <a:pt x="881" y="2762"/>
                  </a:lnTo>
                  <a:lnTo>
                    <a:pt x="970" y="2787"/>
                  </a:lnTo>
                  <a:lnTo>
                    <a:pt x="1064" y="2808"/>
                  </a:lnTo>
                  <a:lnTo>
                    <a:pt x="1161" y="2826"/>
                  </a:lnTo>
                  <a:lnTo>
                    <a:pt x="1264" y="2840"/>
                  </a:lnTo>
                  <a:lnTo>
                    <a:pt x="1371" y="2849"/>
                  </a:lnTo>
                  <a:lnTo>
                    <a:pt x="1483" y="2853"/>
                  </a:lnTo>
                  <a:lnTo>
                    <a:pt x="1600" y="2851"/>
                  </a:lnTo>
                  <a:lnTo>
                    <a:pt x="1722" y="2844"/>
                  </a:lnTo>
                  <a:lnTo>
                    <a:pt x="1849" y="2830"/>
                  </a:lnTo>
                  <a:lnTo>
                    <a:pt x="1980" y="2810"/>
                  </a:lnTo>
                  <a:lnTo>
                    <a:pt x="2116" y="2782"/>
                  </a:lnTo>
                  <a:lnTo>
                    <a:pt x="2116" y="63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Freeform 262"/>
            <p:cNvSpPr/>
            <p:nvPr/>
          </p:nvSpPr>
          <p:spPr>
            <a:xfrm>
              <a:off x="5845680" y="5299200"/>
              <a:ext cx="6120" cy="74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15" h="2440">
                  <a:moveTo>
                    <a:pt x="215" y="343"/>
                  </a:moveTo>
                  <a:lnTo>
                    <a:pt x="215" y="2440"/>
                  </a:lnTo>
                  <a:lnTo>
                    <a:pt x="202" y="2428"/>
                  </a:lnTo>
                  <a:lnTo>
                    <a:pt x="171" y="2396"/>
                  </a:lnTo>
                  <a:lnTo>
                    <a:pt x="150" y="2374"/>
                  </a:lnTo>
                  <a:lnTo>
                    <a:pt x="128" y="2349"/>
                  </a:lnTo>
                  <a:lnTo>
                    <a:pt x="104" y="2320"/>
                  </a:lnTo>
                  <a:lnTo>
                    <a:pt x="80" y="2291"/>
                  </a:lnTo>
                  <a:lnTo>
                    <a:pt x="69" y="2276"/>
                  </a:lnTo>
                  <a:lnTo>
                    <a:pt x="58" y="2260"/>
                  </a:lnTo>
                  <a:lnTo>
                    <a:pt x="48" y="2245"/>
                  </a:lnTo>
                  <a:lnTo>
                    <a:pt x="38" y="2229"/>
                  </a:lnTo>
                  <a:lnTo>
                    <a:pt x="29" y="2213"/>
                  </a:lnTo>
                  <a:lnTo>
                    <a:pt x="21" y="2198"/>
                  </a:lnTo>
                  <a:lnTo>
                    <a:pt x="15" y="2182"/>
                  </a:lnTo>
                  <a:lnTo>
                    <a:pt x="9" y="2168"/>
                  </a:lnTo>
                  <a:lnTo>
                    <a:pt x="4" y="2153"/>
                  </a:lnTo>
                  <a:lnTo>
                    <a:pt x="1" y="2139"/>
                  </a:lnTo>
                  <a:lnTo>
                    <a:pt x="0" y="2126"/>
                  </a:lnTo>
                  <a:lnTo>
                    <a:pt x="0" y="2113"/>
                  </a:lnTo>
                  <a:lnTo>
                    <a:pt x="2" y="2099"/>
                  </a:lnTo>
                  <a:lnTo>
                    <a:pt x="6" y="2088"/>
                  </a:lnTo>
                  <a:lnTo>
                    <a:pt x="11" y="2077"/>
                  </a:lnTo>
                  <a:lnTo>
                    <a:pt x="19" y="2068"/>
                  </a:lnTo>
                  <a:lnTo>
                    <a:pt x="19" y="0"/>
                  </a:lnTo>
                  <a:lnTo>
                    <a:pt x="21" y="7"/>
                  </a:lnTo>
                  <a:lnTo>
                    <a:pt x="28" y="25"/>
                  </a:lnTo>
                  <a:lnTo>
                    <a:pt x="40" y="54"/>
                  </a:lnTo>
                  <a:lnTo>
                    <a:pt x="58" y="95"/>
                  </a:lnTo>
                  <a:lnTo>
                    <a:pt x="70" y="118"/>
                  </a:lnTo>
                  <a:lnTo>
                    <a:pt x="84" y="144"/>
                  </a:lnTo>
                  <a:lnTo>
                    <a:pt x="101" y="172"/>
                  </a:lnTo>
                  <a:lnTo>
                    <a:pt x="119" y="203"/>
                  </a:lnTo>
                  <a:lnTo>
                    <a:pt x="139" y="235"/>
                  </a:lnTo>
                  <a:lnTo>
                    <a:pt x="162" y="269"/>
                  </a:lnTo>
                  <a:lnTo>
                    <a:pt x="187" y="305"/>
                  </a:lnTo>
                  <a:lnTo>
                    <a:pt x="215" y="34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Freeform 263"/>
            <p:cNvSpPr/>
            <p:nvPr/>
          </p:nvSpPr>
          <p:spPr>
            <a:xfrm>
              <a:off x="5562720" y="5207400"/>
              <a:ext cx="28440" cy="777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999" h="2499">
                  <a:moveTo>
                    <a:pt x="999" y="0"/>
                  </a:moveTo>
                  <a:lnTo>
                    <a:pt x="999" y="2156"/>
                  </a:lnTo>
                  <a:lnTo>
                    <a:pt x="995" y="2158"/>
                  </a:lnTo>
                  <a:lnTo>
                    <a:pt x="984" y="2164"/>
                  </a:lnTo>
                  <a:lnTo>
                    <a:pt x="966" y="2173"/>
                  </a:lnTo>
                  <a:lnTo>
                    <a:pt x="941" y="2186"/>
                  </a:lnTo>
                  <a:lnTo>
                    <a:pt x="909" y="2200"/>
                  </a:lnTo>
                  <a:lnTo>
                    <a:pt x="872" y="2217"/>
                  </a:lnTo>
                  <a:lnTo>
                    <a:pt x="830" y="2236"/>
                  </a:lnTo>
                  <a:lnTo>
                    <a:pt x="781" y="2256"/>
                  </a:lnTo>
                  <a:lnTo>
                    <a:pt x="729" y="2278"/>
                  </a:lnTo>
                  <a:lnTo>
                    <a:pt x="671" y="2301"/>
                  </a:lnTo>
                  <a:lnTo>
                    <a:pt x="610" y="2324"/>
                  </a:lnTo>
                  <a:lnTo>
                    <a:pt x="544" y="2346"/>
                  </a:lnTo>
                  <a:lnTo>
                    <a:pt x="476" y="2369"/>
                  </a:lnTo>
                  <a:lnTo>
                    <a:pt x="405" y="2390"/>
                  </a:lnTo>
                  <a:lnTo>
                    <a:pt x="368" y="2402"/>
                  </a:lnTo>
                  <a:lnTo>
                    <a:pt x="331" y="2412"/>
                  </a:lnTo>
                  <a:lnTo>
                    <a:pt x="293" y="2421"/>
                  </a:lnTo>
                  <a:lnTo>
                    <a:pt x="255" y="2431"/>
                  </a:lnTo>
                  <a:lnTo>
                    <a:pt x="10" y="2499"/>
                  </a:lnTo>
                  <a:lnTo>
                    <a:pt x="0" y="353"/>
                  </a:lnTo>
                  <a:lnTo>
                    <a:pt x="19" y="347"/>
                  </a:lnTo>
                  <a:lnTo>
                    <a:pt x="73" y="333"/>
                  </a:lnTo>
                  <a:lnTo>
                    <a:pt x="150" y="313"/>
                  </a:lnTo>
                  <a:lnTo>
                    <a:pt x="243" y="287"/>
                  </a:lnTo>
                  <a:lnTo>
                    <a:pt x="342" y="259"/>
                  </a:lnTo>
                  <a:lnTo>
                    <a:pt x="439" y="229"/>
                  </a:lnTo>
                  <a:lnTo>
                    <a:pt x="483" y="214"/>
                  </a:lnTo>
                  <a:lnTo>
                    <a:pt x="523" y="201"/>
                  </a:lnTo>
                  <a:lnTo>
                    <a:pt x="559" y="188"/>
                  </a:lnTo>
                  <a:lnTo>
                    <a:pt x="588" y="177"/>
                  </a:lnTo>
                  <a:lnTo>
                    <a:pt x="606" y="171"/>
                  </a:lnTo>
                  <a:lnTo>
                    <a:pt x="652" y="155"/>
                  </a:lnTo>
                  <a:lnTo>
                    <a:pt x="718" y="132"/>
                  </a:lnTo>
                  <a:lnTo>
                    <a:pt x="793" y="103"/>
                  </a:lnTo>
                  <a:lnTo>
                    <a:pt x="832" y="88"/>
                  </a:lnTo>
                  <a:lnTo>
                    <a:pt x="869" y="73"/>
                  </a:lnTo>
                  <a:lnTo>
                    <a:pt x="904" y="59"/>
                  </a:lnTo>
                  <a:lnTo>
                    <a:pt x="935" y="45"/>
                  </a:lnTo>
                  <a:lnTo>
                    <a:pt x="962" y="31"/>
                  </a:lnTo>
                  <a:lnTo>
                    <a:pt x="982" y="19"/>
                  </a:lnTo>
                  <a:lnTo>
                    <a:pt x="989" y="14"/>
                  </a:lnTo>
                  <a:lnTo>
                    <a:pt x="995" y="9"/>
                  </a:lnTo>
                  <a:lnTo>
                    <a:pt x="998" y="4"/>
                  </a:lnTo>
                  <a:lnTo>
                    <a:pt x="99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Freeform 264"/>
            <p:cNvSpPr/>
            <p:nvPr/>
          </p:nvSpPr>
          <p:spPr>
            <a:xfrm>
              <a:off x="5771880" y="5198760"/>
              <a:ext cx="6120" cy="72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35" h="2392">
                  <a:moveTo>
                    <a:pt x="235" y="305"/>
                  </a:moveTo>
                  <a:lnTo>
                    <a:pt x="235" y="2392"/>
                  </a:lnTo>
                  <a:lnTo>
                    <a:pt x="228" y="2381"/>
                  </a:lnTo>
                  <a:lnTo>
                    <a:pt x="211" y="2350"/>
                  </a:lnTo>
                  <a:lnTo>
                    <a:pt x="198" y="2329"/>
                  </a:lnTo>
                  <a:lnTo>
                    <a:pt x="184" y="2306"/>
                  </a:lnTo>
                  <a:lnTo>
                    <a:pt x="168" y="2282"/>
                  </a:lnTo>
                  <a:lnTo>
                    <a:pt x="151" y="2258"/>
                  </a:lnTo>
                  <a:lnTo>
                    <a:pt x="132" y="2233"/>
                  </a:lnTo>
                  <a:lnTo>
                    <a:pt x="113" y="2209"/>
                  </a:lnTo>
                  <a:lnTo>
                    <a:pt x="93" y="2188"/>
                  </a:lnTo>
                  <a:lnTo>
                    <a:pt x="74" y="2169"/>
                  </a:lnTo>
                  <a:lnTo>
                    <a:pt x="64" y="2161"/>
                  </a:lnTo>
                  <a:lnTo>
                    <a:pt x="55" y="2154"/>
                  </a:lnTo>
                  <a:lnTo>
                    <a:pt x="45" y="2148"/>
                  </a:lnTo>
                  <a:lnTo>
                    <a:pt x="36" y="2143"/>
                  </a:lnTo>
                  <a:lnTo>
                    <a:pt x="26" y="2140"/>
                  </a:lnTo>
                  <a:lnTo>
                    <a:pt x="18" y="2137"/>
                  </a:lnTo>
                  <a:lnTo>
                    <a:pt x="8" y="2137"/>
                  </a:lnTo>
                  <a:lnTo>
                    <a:pt x="0" y="2138"/>
                  </a:lnTo>
                  <a:lnTo>
                    <a:pt x="0" y="1"/>
                  </a:lnTo>
                  <a:lnTo>
                    <a:pt x="3" y="1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6" y="3"/>
                  </a:lnTo>
                  <a:lnTo>
                    <a:pt x="46" y="6"/>
                  </a:lnTo>
                  <a:lnTo>
                    <a:pt x="55" y="10"/>
                  </a:lnTo>
                  <a:lnTo>
                    <a:pt x="66" y="16"/>
                  </a:lnTo>
                  <a:lnTo>
                    <a:pt x="76" y="24"/>
                  </a:lnTo>
                  <a:lnTo>
                    <a:pt x="87" y="34"/>
                  </a:lnTo>
                  <a:lnTo>
                    <a:pt x="97" y="46"/>
                  </a:lnTo>
                  <a:lnTo>
                    <a:pt x="107" y="61"/>
                  </a:lnTo>
                  <a:lnTo>
                    <a:pt x="117" y="79"/>
                  </a:lnTo>
                  <a:lnTo>
                    <a:pt x="127" y="99"/>
                  </a:lnTo>
                  <a:lnTo>
                    <a:pt x="235" y="3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Freeform 265"/>
            <p:cNvSpPr/>
            <p:nvPr/>
          </p:nvSpPr>
          <p:spPr>
            <a:xfrm>
              <a:off x="5689800" y="5173560"/>
              <a:ext cx="60480" cy="932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2146" h="3018">
                  <a:moveTo>
                    <a:pt x="2146" y="892"/>
                  </a:moveTo>
                  <a:lnTo>
                    <a:pt x="2131" y="887"/>
                  </a:lnTo>
                  <a:lnTo>
                    <a:pt x="2090" y="873"/>
                  </a:lnTo>
                  <a:lnTo>
                    <a:pt x="2024" y="850"/>
                  </a:lnTo>
                  <a:lnTo>
                    <a:pt x="1936" y="818"/>
                  </a:lnTo>
                  <a:lnTo>
                    <a:pt x="1828" y="779"/>
                  </a:lnTo>
                  <a:lnTo>
                    <a:pt x="1702" y="734"/>
                  </a:lnTo>
                  <a:lnTo>
                    <a:pt x="1562" y="681"/>
                  </a:lnTo>
                  <a:lnTo>
                    <a:pt x="1407" y="622"/>
                  </a:lnTo>
                  <a:lnTo>
                    <a:pt x="1243" y="558"/>
                  </a:lnTo>
                  <a:lnTo>
                    <a:pt x="1071" y="489"/>
                  </a:lnTo>
                  <a:lnTo>
                    <a:pt x="983" y="452"/>
                  </a:lnTo>
                  <a:lnTo>
                    <a:pt x="893" y="415"/>
                  </a:lnTo>
                  <a:lnTo>
                    <a:pt x="803" y="377"/>
                  </a:lnTo>
                  <a:lnTo>
                    <a:pt x="712" y="337"/>
                  </a:lnTo>
                  <a:lnTo>
                    <a:pt x="620" y="298"/>
                  </a:lnTo>
                  <a:lnTo>
                    <a:pt x="530" y="257"/>
                  </a:lnTo>
                  <a:lnTo>
                    <a:pt x="439" y="215"/>
                  </a:lnTo>
                  <a:lnTo>
                    <a:pt x="349" y="173"/>
                  </a:lnTo>
                  <a:lnTo>
                    <a:pt x="259" y="131"/>
                  </a:lnTo>
                  <a:lnTo>
                    <a:pt x="172" y="87"/>
                  </a:lnTo>
                  <a:lnTo>
                    <a:pt x="85" y="44"/>
                  </a:lnTo>
                  <a:lnTo>
                    <a:pt x="0" y="0"/>
                  </a:lnTo>
                  <a:lnTo>
                    <a:pt x="0" y="2156"/>
                  </a:lnTo>
                  <a:lnTo>
                    <a:pt x="5" y="2156"/>
                  </a:lnTo>
                  <a:lnTo>
                    <a:pt x="20" y="2155"/>
                  </a:lnTo>
                  <a:lnTo>
                    <a:pt x="31" y="2155"/>
                  </a:lnTo>
                  <a:lnTo>
                    <a:pt x="44" y="2156"/>
                  </a:lnTo>
                  <a:lnTo>
                    <a:pt x="59" y="2158"/>
                  </a:lnTo>
                  <a:lnTo>
                    <a:pt x="75" y="2161"/>
                  </a:lnTo>
                  <a:lnTo>
                    <a:pt x="94" y="2165"/>
                  </a:lnTo>
                  <a:lnTo>
                    <a:pt x="115" y="2171"/>
                  </a:lnTo>
                  <a:lnTo>
                    <a:pt x="137" y="2179"/>
                  </a:lnTo>
                  <a:lnTo>
                    <a:pt x="162" y="2189"/>
                  </a:lnTo>
                  <a:lnTo>
                    <a:pt x="188" y="2201"/>
                  </a:lnTo>
                  <a:lnTo>
                    <a:pt x="215" y="2216"/>
                  </a:lnTo>
                  <a:lnTo>
                    <a:pt x="244" y="2233"/>
                  </a:lnTo>
                  <a:lnTo>
                    <a:pt x="275" y="2253"/>
                  </a:lnTo>
                  <a:lnTo>
                    <a:pt x="293" y="2263"/>
                  </a:lnTo>
                  <a:lnTo>
                    <a:pt x="345" y="2287"/>
                  </a:lnTo>
                  <a:lnTo>
                    <a:pt x="426" y="2325"/>
                  </a:lnTo>
                  <a:lnTo>
                    <a:pt x="532" y="2374"/>
                  </a:lnTo>
                  <a:lnTo>
                    <a:pt x="658" y="2433"/>
                  </a:lnTo>
                  <a:lnTo>
                    <a:pt x="800" y="2498"/>
                  </a:lnTo>
                  <a:lnTo>
                    <a:pt x="954" y="2568"/>
                  </a:lnTo>
                  <a:lnTo>
                    <a:pt x="1115" y="2640"/>
                  </a:lnTo>
                  <a:lnTo>
                    <a:pt x="1279" y="2711"/>
                  </a:lnTo>
                  <a:lnTo>
                    <a:pt x="1442" y="2781"/>
                  </a:lnTo>
                  <a:lnTo>
                    <a:pt x="1521" y="2814"/>
                  </a:lnTo>
                  <a:lnTo>
                    <a:pt x="1599" y="2845"/>
                  </a:lnTo>
                  <a:lnTo>
                    <a:pt x="1674" y="2876"/>
                  </a:lnTo>
                  <a:lnTo>
                    <a:pt x="1746" y="2903"/>
                  </a:lnTo>
                  <a:lnTo>
                    <a:pt x="1815" y="2928"/>
                  </a:lnTo>
                  <a:lnTo>
                    <a:pt x="1878" y="2951"/>
                  </a:lnTo>
                  <a:lnTo>
                    <a:pt x="1938" y="2971"/>
                  </a:lnTo>
                  <a:lnTo>
                    <a:pt x="1992" y="2989"/>
                  </a:lnTo>
                  <a:lnTo>
                    <a:pt x="2041" y="3002"/>
                  </a:lnTo>
                  <a:lnTo>
                    <a:pt x="2083" y="3011"/>
                  </a:lnTo>
                  <a:lnTo>
                    <a:pt x="2118" y="3017"/>
                  </a:lnTo>
                  <a:lnTo>
                    <a:pt x="2146" y="3018"/>
                  </a:lnTo>
                  <a:lnTo>
                    <a:pt x="2146" y="89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Freeform 266"/>
            <p:cNvSpPr/>
            <p:nvPr/>
          </p:nvSpPr>
          <p:spPr>
            <a:xfrm>
              <a:off x="5451840" y="5139000"/>
              <a:ext cx="2880" cy="705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88" h="2322">
                  <a:moveTo>
                    <a:pt x="88" y="176"/>
                  </a:moveTo>
                  <a:lnTo>
                    <a:pt x="0" y="0"/>
                  </a:lnTo>
                  <a:lnTo>
                    <a:pt x="0" y="2116"/>
                  </a:lnTo>
                  <a:lnTo>
                    <a:pt x="88" y="2322"/>
                  </a:lnTo>
                  <a:lnTo>
                    <a:pt x="88" y="1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Freeform 267"/>
            <p:cNvSpPr/>
            <p:nvPr/>
          </p:nvSpPr>
          <p:spPr>
            <a:xfrm>
              <a:off x="5426280" y="5097240"/>
              <a:ext cx="9360" cy="741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373" h="2381">
                  <a:moveTo>
                    <a:pt x="0" y="235"/>
                  </a:moveTo>
                  <a:lnTo>
                    <a:pt x="10" y="2381"/>
                  </a:lnTo>
                  <a:lnTo>
                    <a:pt x="24" y="2379"/>
                  </a:lnTo>
                  <a:lnTo>
                    <a:pt x="62" y="2373"/>
                  </a:lnTo>
                  <a:lnTo>
                    <a:pt x="89" y="2367"/>
                  </a:lnTo>
                  <a:lnTo>
                    <a:pt x="117" y="2360"/>
                  </a:lnTo>
                  <a:lnTo>
                    <a:pt x="148" y="2350"/>
                  </a:lnTo>
                  <a:lnTo>
                    <a:pt x="180" y="2336"/>
                  </a:lnTo>
                  <a:lnTo>
                    <a:pt x="196" y="2329"/>
                  </a:lnTo>
                  <a:lnTo>
                    <a:pt x="213" y="2321"/>
                  </a:lnTo>
                  <a:lnTo>
                    <a:pt x="229" y="2313"/>
                  </a:lnTo>
                  <a:lnTo>
                    <a:pt x="245" y="2303"/>
                  </a:lnTo>
                  <a:lnTo>
                    <a:pt x="260" y="2293"/>
                  </a:lnTo>
                  <a:lnTo>
                    <a:pt x="275" y="2282"/>
                  </a:lnTo>
                  <a:lnTo>
                    <a:pt x="290" y="2270"/>
                  </a:lnTo>
                  <a:lnTo>
                    <a:pt x="303" y="2257"/>
                  </a:lnTo>
                  <a:lnTo>
                    <a:pt x="316" y="2243"/>
                  </a:lnTo>
                  <a:lnTo>
                    <a:pt x="329" y="2229"/>
                  </a:lnTo>
                  <a:lnTo>
                    <a:pt x="339" y="2212"/>
                  </a:lnTo>
                  <a:lnTo>
                    <a:pt x="349" y="2195"/>
                  </a:lnTo>
                  <a:lnTo>
                    <a:pt x="357" y="2177"/>
                  </a:lnTo>
                  <a:lnTo>
                    <a:pt x="364" y="2158"/>
                  </a:lnTo>
                  <a:lnTo>
                    <a:pt x="369" y="2138"/>
                  </a:lnTo>
                  <a:lnTo>
                    <a:pt x="373" y="2117"/>
                  </a:lnTo>
                  <a:lnTo>
                    <a:pt x="373" y="0"/>
                  </a:lnTo>
                  <a:lnTo>
                    <a:pt x="365" y="11"/>
                  </a:lnTo>
                  <a:lnTo>
                    <a:pt x="342" y="42"/>
                  </a:lnTo>
                  <a:lnTo>
                    <a:pt x="326" y="62"/>
                  </a:lnTo>
                  <a:lnTo>
                    <a:pt x="306" y="85"/>
                  </a:lnTo>
                  <a:lnTo>
                    <a:pt x="284" y="108"/>
                  </a:lnTo>
                  <a:lnTo>
                    <a:pt x="260" y="132"/>
                  </a:lnTo>
                  <a:lnTo>
                    <a:pt x="247" y="144"/>
                  </a:lnTo>
                  <a:lnTo>
                    <a:pt x="233" y="155"/>
                  </a:lnTo>
                  <a:lnTo>
                    <a:pt x="219" y="166"/>
                  </a:lnTo>
                  <a:lnTo>
                    <a:pt x="205" y="177"/>
                  </a:lnTo>
                  <a:lnTo>
                    <a:pt x="189" y="187"/>
                  </a:lnTo>
                  <a:lnTo>
                    <a:pt x="173" y="198"/>
                  </a:lnTo>
                  <a:lnTo>
                    <a:pt x="157" y="207"/>
                  </a:lnTo>
                  <a:lnTo>
                    <a:pt x="141" y="215"/>
                  </a:lnTo>
                  <a:lnTo>
                    <a:pt x="124" y="222"/>
                  </a:lnTo>
                  <a:lnTo>
                    <a:pt x="108" y="228"/>
                  </a:lnTo>
                  <a:lnTo>
                    <a:pt x="90" y="233"/>
                  </a:lnTo>
                  <a:lnTo>
                    <a:pt x="73" y="236"/>
                  </a:lnTo>
                  <a:lnTo>
                    <a:pt x="54" y="238"/>
                  </a:lnTo>
                  <a:lnTo>
                    <a:pt x="37" y="239"/>
                  </a:lnTo>
                  <a:lnTo>
                    <a:pt x="19" y="238"/>
                  </a:lnTo>
                  <a:lnTo>
                    <a:pt x="0" y="23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Freeform 268"/>
            <p:cNvSpPr/>
            <p:nvPr/>
          </p:nvSpPr>
          <p:spPr>
            <a:xfrm>
              <a:off x="5529240" y="5073840"/>
              <a:ext cx="20520" cy="680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715" h="2254">
                  <a:moveTo>
                    <a:pt x="715" y="60"/>
                  </a:moveTo>
                  <a:lnTo>
                    <a:pt x="715" y="2205"/>
                  </a:lnTo>
                  <a:lnTo>
                    <a:pt x="712" y="2203"/>
                  </a:lnTo>
                  <a:lnTo>
                    <a:pt x="702" y="2199"/>
                  </a:lnTo>
                  <a:lnTo>
                    <a:pt x="684" y="2192"/>
                  </a:lnTo>
                  <a:lnTo>
                    <a:pt x="661" y="2184"/>
                  </a:lnTo>
                  <a:lnTo>
                    <a:pt x="632" y="2175"/>
                  </a:lnTo>
                  <a:lnTo>
                    <a:pt x="597" y="2166"/>
                  </a:lnTo>
                  <a:lnTo>
                    <a:pt x="578" y="2162"/>
                  </a:lnTo>
                  <a:lnTo>
                    <a:pt x="557" y="2159"/>
                  </a:lnTo>
                  <a:lnTo>
                    <a:pt x="535" y="2155"/>
                  </a:lnTo>
                  <a:lnTo>
                    <a:pt x="512" y="2153"/>
                  </a:lnTo>
                  <a:lnTo>
                    <a:pt x="487" y="2150"/>
                  </a:lnTo>
                  <a:lnTo>
                    <a:pt x="462" y="2149"/>
                  </a:lnTo>
                  <a:lnTo>
                    <a:pt x="434" y="2148"/>
                  </a:lnTo>
                  <a:lnTo>
                    <a:pt x="407" y="2148"/>
                  </a:lnTo>
                  <a:lnTo>
                    <a:pt x="378" y="2150"/>
                  </a:lnTo>
                  <a:lnTo>
                    <a:pt x="348" y="2152"/>
                  </a:lnTo>
                  <a:lnTo>
                    <a:pt x="318" y="2155"/>
                  </a:lnTo>
                  <a:lnTo>
                    <a:pt x="285" y="2160"/>
                  </a:lnTo>
                  <a:lnTo>
                    <a:pt x="252" y="2166"/>
                  </a:lnTo>
                  <a:lnTo>
                    <a:pt x="219" y="2173"/>
                  </a:lnTo>
                  <a:lnTo>
                    <a:pt x="184" y="2182"/>
                  </a:lnTo>
                  <a:lnTo>
                    <a:pt x="149" y="2193"/>
                  </a:lnTo>
                  <a:lnTo>
                    <a:pt x="113" y="2205"/>
                  </a:lnTo>
                  <a:lnTo>
                    <a:pt x="76" y="2220"/>
                  </a:lnTo>
                  <a:lnTo>
                    <a:pt x="38" y="2236"/>
                  </a:lnTo>
                  <a:lnTo>
                    <a:pt x="0" y="2254"/>
                  </a:lnTo>
                  <a:lnTo>
                    <a:pt x="0" y="108"/>
                  </a:lnTo>
                  <a:lnTo>
                    <a:pt x="6" y="106"/>
                  </a:lnTo>
                  <a:lnTo>
                    <a:pt x="24" y="100"/>
                  </a:lnTo>
                  <a:lnTo>
                    <a:pt x="53" y="90"/>
                  </a:lnTo>
                  <a:lnTo>
                    <a:pt x="91" y="79"/>
                  </a:lnTo>
                  <a:lnTo>
                    <a:pt x="136" y="66"/>
                  </a:lnTo>
                  <a:lnTo>
                    <a:pt x="188" y="51"/>
                  </a:lnTo>
                  <a:lnTo>
                    <a:pt x="243" y="37"/>
                  </a:lnTo>
                  <a:lnTo>
                    <a:pt x="302" y="25"/>
                  </a:lnTo>
                  <a:lnTo>
                    <a:pt x="333" y="19"/>
                  </a:lnTo>
                  <a:lnTo>
                    <a:pt x="363" y="14"/>
                  </a:lnTo>
                  <a:lnTo>
                    <a:pt x="394" y="9"/>
                  </a:lnTo>
                  <a:lnTo>
                    <a:pt x="424" y="6"/>
                  </a:lnTo>
                  <a:lnTo>
                    <a:pt x="455" y="3"/>
                  </a:lnTo>
                  <a:lnTo>
                    <a:pt x="484" y="1"/>
                  </a:lnTo>
                  <a:lnTo>
                    <a:pt x="513" y="0"/>
                  </a:lnTo>
                  <a:lnTo>
                    <a:pt x="541" y="1"/>
                  </a:lnTo>
                  <a:lnTo>
                    <a:pt x="569" y="2"/>
                  </a:lnTo>
                  <a:lnTo>
                    <a:pt x="595" y="5"/>
                  </a:lnTo>
                  <a:lnTo>
                    <a:pt x="619" y="10"/>
                  </a:lnTo>
                  <a:lnTo>
                    <a:pt x="642" y="16"/>
                  </a:lnTo>
                  <a:lnTo>
                    <a:pt x="663" y="24"/>
                  </a:lnTo>
                  <a:lnTo>
                    <a:pt x="682" y="34"/>
                  </a:lnTo>
                  <a:lnTo>
                    <a:pt x="700" y="45"/>
                  </a:lnTo>
                  <a:lnTo>
                    <a:pt x="715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Freeform 269"/>
            <p:cNvSpPr/>
            <p:nvPr/>
          </p:nvSpPr>
          <p:spPr>
            <a:xfrm>
              <a:off x="5519520" y="4978800"/>
              <a:ext cx="33120" cy="104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157" h="3390">
                  <a:moveTo>
                    <a:pt x="1157" y="1558"/>
                  </a:moveTo>
                  <a:lnTo>
                    <a:pt x="1153" y="1549"/>
                  </a:lnTo>
                  <a:lnTo>
                    <a:pt x="1140" y="1525"/>
                  </a:lnTo>
                  <a:lnTo>
                    <a:pt x="1119" y="1487"/>
                  </a:lnTo>
                  <a:lnTo>
                    <a:pt x="1092" y="1438"/>
                  </a:lnTo>
                  <a:lnTo>
                    <a:pt x="1057" y="1377"/>
                  </a:lnTo>
                  <a:lnTo>
                    <a:pt x="1017" y="1310"/>
                  </a:lnTo>
                  <a:lnTo>
                    <a:pt x="972" y="1235"/>
                  </a:lnTo>
                  <a:lnTo>
                    <a:pt x="922" y="1155"/>
                  </a:lnTo>
                  <a:lnTo>
                    <a:pt x="869" y="1074"/>
                  </a:lnTo>
                  <a:lnTo>
                    <a:pt x="813" y="991"/>
                  </a:lnTo>
                  <a:lnTo>
                    <a:pt x="784" y="950"/>
                  </a:lnTo>
                  <a:lnTo>
                    <a:pt x="755" y="909"/>
                  </a:lnTo>
                  <a:lnTo>
                    <a:pt x="725" y="869"/>
                  </a:lnTo>
                  <a:lnTo>
                    <a:pt x="695" y="830"/>
                  </a:lnTo>
                  <a:lnTo>
                    <a:pt x="664" y="792"/>
                  </a:lnTo>
                  <a:lnTo>
                    <a:pt x="633" y="755"/>
                  </a:lnTo>
                  <a:lnTo>
                    <a:pt x="603" y="721"/>
                  </a:lnTo>
                  <a:lnTo>
                    <a:pt x="573" y="687"/>
                  </a:lnTo>
                  <a:lnTo>
                    <a:pt x="541" y="656"/>
                  </a:lnTo>
                  <a:lnTo>
                    <a:pt x="511" y="627"/>
                  </a:lnTo>
                  <a:lnTo>
                    <a:pt x="482" y="601"/>
                  </a:lnTo>
                  <a:lnTo>
                    <a:pt x="452" y="578"/>
                  </a:lnTo>
                  <a:lnTo>
                    <a:pt x="432" y="559"/>
                  </a:lnTo>
                  <a:lnTo>
                    <a:pt x="379" y="512"/>
                  </a:lnTo>
                  <a:lnTo>
                    <a:pt x="344" y="479"/>
                  </a:lnTo>
                  <a:lnTo>
                    <a:pt x="305" y="441"/>
                  </a:lnTo>
                  <a:lnTo>
                    <a:pt x="262" y="399"/>
                  </a:lnTo>
                  <a:lnTo>
                    <a:pt x="220" y="355"/>
                  </a:lnTo>
                  <a:lnTo>
                    <a:pt x="198" y="331"/>
                  </a:lnTo>
                  <a:lnTo>
                    <a:pt x="177" y="307"/>
                  </a:lnTo>
                  <a:lnTo>
                    <a:pt x="155" y="284"/>
                  </a:lnTo>
                  <a:lnTo>
                    <a:pt x="135" y="260"/>
                  </a:lnTo>
                  <a:lnTo>
                    <a:pt x="116" y="236"/>
                  </a:lnTo>
                  <a:lnTo>
                    <a:pt x="97" y="211"/>
                  </a:lnTo>
                  <a:lnTo>
                    <a:pt x="80" y="187"/>
                  </a:lnTo>
                  <a:lnTo>
                    <a:pt x="64" y="164"/>
                  </a:lnTo>
                  <a:lnTo>
                    <a:pt x="49" y="141"/>
                  </a:lnTo>
                  <a:lnTo>
                    <a:pt x="35" y="118"/>
                  </a:lnTo>
                  <a:lnTo>
                    <a:pt x="24" y="97"/>
                  </a:lnTo>
                  <a:lnTo>
                    <a:pt x="15" y="74"/>
                  </a:lnTo>
                  <a:lnTo>
                    <a:pt x="8" y="54"/>
                  </a:lnTo>
                  <a:lnTo>
                    <a:pt x="3" y="35"/>
                  </a:lnTo>
                  <a:lnTo>
                    <a:pt x="1" y="17"/>
                  </a:lnTo>
                  <a:lnTo>
                    <a:pt x="1" y="0"/>
                  </a:lnTo>
                  <a:lnTo>
                    <a:pt x="1" y="2067"/>
                  </a:lnTo>
                  <a:lnTo>
                    <a:pt x="1" y="2069"/>
                  </a:lnTo>
                  <a:lnTo>
                    <a:pt x="0" y="2076"/>
                  </a:lnTo>
                  <a:lnTo>
                    <a:pt x="0" y="2088"/>
                  </a:lnTo>
                  <a:lnTo>
                    <a:pt x="1" y="2103"/>
                  </a:lnTo>
                  <a:lnTo>
                    <a:pt x="2" y="2113"/>
                  </a:lnTo>
                  <a:lnTo>
                    <a:pt x="4" y="2124"/>
                  </a:lnTo>
                  <a:lnTo>
                    <a:pt x="7" y="2137"/>
                  </a:lnTo>
                  <a:lnTo>
                    <a:pt x="10" y="2150"/>
                  </a:lnTo>
                  <a:lnTo>
                    <a:pt x="14" y="2164"/>
                  </a:lnTo>
                  <a:lnTo>
                    <a:pt x="20" y="2180"/>
                  </a:lnTo>
                  <a:lnTo>
                    <a:pt x="26" y="2196"/>
                  </a:lnTo>
                  <a:lnTo>
                    <a:pt x="34" y="2214"/>
                  </a:lnTo>
                  <a:lnTo>
                    <a:pt x="43" y="2233"/>
                  </a:lnTo>
                  <a:lnTo>
                    <a:pt x="55" y="2253"/>
                  </a:lnTo>
                  <a:lnTo>
                    <a:pt x="67" y="2275"/>
                  </a:lnTo>
                  <a:lnTo>
                    <a:pt x="81" y="2297"/>
                  </a:lnTo>
                  <a:lnTo>
                    <a:pt x="96" y="2320"/>
                  </a:lnTo>
                  <a:lnTo>
                    <a:pt x="113" y="2345"/>
                  </a:lnTo>
                  <a:lnTo>
                    <a:pt x="133" y="2371"/>
                  </a:lnTo>
                  <a:lnTo>
                    <a:pt x="154" y="2398"/>
                  </a:lnTo>
                  <a:lnTo>
                    <a:pt x="179" y="2426"/>
                  </a:lnTo>
                  <a:lnTo>
                    <a:pt x="204" y="2455"/>
                  </a:lnTo>
                  <a:lnTo>
                    <a:pt x="232" y="2485"/>
                  </a:lnTo>
                  <a:lnTo>
                    <a:pt x="263" y="2517"/>
                  </a:lnTo>
                  <a:lnTo>
                    <a:pt x="296" y="2550"/>
                  </a:lnTo>
                  <a:lnTo>
                    <a:pt x="333" y="2583"/>
                  </a:lnTo>
                  <a:lnTo>
                    <a:pt x="371" y="2619"/>
                  </a:lnTo>
                  <a:lnTo>
                    <a:pt x="413" y="2655"/>
                  </a:lnTo>
                  <a:lnTo>
                    <a:pt x="1001" y="3390"/>
                  </a:lnTo>
                  <a:lnTo>
                    <a:pt x="1157" y="15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Freeform 270"/>
            <p:cNvSpPr/>
            <p:nvPr/>
          </p:nvSpPr>
          <p:spPr>
            <a:xfrm>
              <a:off x="5619600" y="5190840"/>
              <a:ext cx="6120" cy="72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40" h="2323">
                  <a:moveTo>
                    <a:pt x="240" y="146"/>
                  </a:moveTo>
                  <a:lnTo>
                    <a:pt x="240" y="2323"/>
                  </a:lnTo>
                  <a:lnTo>
                    <a:pt x="229" y="2323"/>
                  </a:lnTo>
                  <a:lnTo>
                    <a:pt x="201" y="2323"/>
                  </a:lnTo>
                  <a:lnTo>
                    <a:pt x="182" y="2321"/>
                  </a:lnTo>
                  <a:lnTo>
                    <a:pt x="160" y="2318"/>
                  </a:lnTo>
                  <a:lnTo>
                    <a:pt x="138" y="2313"/>
                  </a:lnTo>
                  <a:lnTo>
                    <a:pt x="115" y="2307"/>
                  </a:lnTo>
                  <a:lnTo>
                    <a:pt x="104" y="2303"/>
                  </a:lnTo>
                  <a:lnTo>
                    <a:pt x="92" y="2299"/>
                  </a:lnTo>
                  <a:lnTo>
                    <a:pt x="81" y="2294"/>
                  </a:lnTo>
                  <a:lnTo>
                    <a:pt x="71" y="2288"/>
                  </a:lnTo>
                  <a:lnTo>
                    <a:pt x="61" y="2281"/>
                  </a:lnTo>
                  <a:lnTo>
                    <a:pt x="51" y="2274"/>
                  </a:lnTo>
                  <a:lnTo>
                    <a:pt x="41" y="2265"/>
                  </a:lnTo>
                  <a:lnTo>
                    <a:pt x="33" y="2256"/>
                  </a:lnTo>
                  <a:lnTo>
                    <a:pt x="25" y="2246"/>
                  </a:lnTo>
                  <a:lnTo>
                    <a:pt x="19" y="2235"/>
                  </a:lnTo>
                  <a:lnTo>
                    <a:pt x="13" y="2223"/>
                  </a:lnTo>
                  <a:lnTo>
                    <a:pt x="9" y="2210"/>
                  </a:lnTo>
                  <a:lnTo>
                    <a:pt x="6" y="2195"/>
                  </a:lnTo>
                  <a:lnTo>
                    <a:pt x="4" y="2180"/>
                  </a:lnTo>
                  <a:lnTo>
                    <a:pt x="4" y="2164"/>
                  </a:lnTo>
                  <a:lnTo>
                    <a:pt x="5" y="2146"/>
                  </a:lnTo>
                  <a:lnTo>
                    <a:pt x="5" y="0"/>
                  </a:lnTo>
                  <a:lnTo>
                    <a:pt x="3" y="8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3" y="65"/>
                  </a:lnTo>
                  <a:lnTo>
                    <a:pt x="5" y="73"/>
                  </a:lnTo>
                  <a:lnTo>
                    <a:pt x="8" y="80"/>
                  </a:lnTo>
                  <a:lnTo>
                    <a:pt x="12" y="88"/>
                  </a:lnTo>
                  <a:lnTo>
                    <a:pt x="16" y="96"/>
                  </a:lnTo>
                  <a:lnTo>
                    <a:pt x="22" y="103"/>
                  </a:lnTo>
                  <a:lnTo>
                    <a:pt x="28" y="111"/>
                  </a:lnTo>
                  <a:lnTo>
                    <a:pt x="36" y="117"/>
                  </a:lnTo>
                  <a:lnTo>
                    <a:pt x="46" y="124"/>
                  </a:lnTo>
                  <a:lnTo>
                    <a:pt x="56" y="130"/>
                  </a:lnTo>
                  <a:lnTo>
                    <a:pt x="67" y="135"/>
                  </a:lnTo>
                  <a:lnTo>
                    <a:pt x="79" y="140"/>
                  </a:lnTo>
                  <a:lnTo>
                    <a:pt x="93" y="144"/>
                  </a:lnTo>
                  <a:lnTo>
                    <a:pt x="109" y="147"/>
                  </a:lnTo>
                  <a:lnTo>
                    <a:pt x="126" y="150"/>
                  </a:lnTo>
                  <a:lnTo>
                    <a:pt x="145" y="151"/>
                  </a:lnTo>
                  <a:lnTo>
                    <a:pt x="166" y="152"/>
                  </a:lnTo>
                  <a:lnTo>
                    <a:pt x="189" y="151"/>
                  </a:lnTo>
                  <a:lnTo>
                    <a:pt x="213" y="150"/>
                  </a:lnTo>
                  <a:lnTo>
                    <a:pt x="240" y="14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Freeform 271"/>
            <p:cNvSpPr/>
            <p:nvPr/>
          </p:nvSpPr>
          <p:spPr>
            <a:xfrm>
              <a:off x="5450040" y="4917960"/>
              <a:ext cx="420480" cy="3884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14755" h="12587">
                  <a:moveTo>
                    <a:pt x="10804" y="9206"/>
                  </a:moveTo>
                  <a:lnTo>
                    <a:pt x="10830" y="9194"/>
                  </a:lnTo>
                  <a:lnTo>
                    <a:pt x="10894" y="9163"/>
                  </a:lnTo>
                  <a:lnTo>
                    <a:pt x="10938" y="9144"/>
                  </a:lnTo>
                  <a:lnTo>
                    <a:pt x="10988" y="9124"/>
                  </a:lnTo>
                  <a:lnTo>
                    <a:pt x="11014" y="9114"/>
                  </a:lnTo>
                  <a:lnTo>
                    <a:pt x="11041" y="9105"/>
                  </a:lnTo>
                  <a:lnTo>
                    <a:pt x="11069" y="9096"/>
                  </a:lnTo>
                  <a:lnTo>
                    <a:pt x="11098" y="9087"/>
                  </a:lnTo>
                  <a:lnTo>
                    <a:pt x="11126" y="9080"/>
                  </a:lnTo>
                  <a:lnTo>
                    <a:pt x="11154" y="9073"/>
                  </a:lnTo>
                  <a:lnTo>
                    <a:pt x="11182" y="9068"/>
                  </a:lnTo>
                  <a:lnTo>
                    <a:pt x="11210" y="9063"/>
                  </a:lnTo>
                  <a:lnTo>
                    <a:pt x="11237" y="9061"/>
                  </a:lnTo>
                  <a:lnTo>
                    <a:pt x="11263" y="9059"/>
                  </a:lnTo>
                  <a:lnTo>
                    <a:pt x="11288" y="9060"/>
                  </a:lnTo>
                  <a:lnTo>
                    <a:pt x="11312" y="9062"/>
                  </a:lnTo>
                  <a:lnTo>
                    <a:pt x="11336" y="9066"/>
                  </a:lnTo>
                  <a:lnTo>
                    <a:pt x="11357" y="9073"/>
                  </a:lnTo>
                  <a:lnTo>
                    <a:pt x="11377" y="9081"/>
                  </a:lnTo>
                  <a:lnTo>
                    <a:pt x="11394" y="9093"/>
                  </a:lnTo>
                  <a:lnTo>
                    <a:pt x="11410" y="9107"/>
                  </a:lnTo>
                  <a:lnTo>
                    <a:pt x="11423" y="9124"/>
                  </a:lnTo>
                  <a:lnTo>
                    <a:pt x="11433" y="9144"/>
                  </a:lnTo>
                  <a:lnTo>
                    <a:pt x="11441" y="9167"/>
                  </a:lnTo>
                  <a:lnTo>
                    <a:pt x="11451" y="9194"/>
                  </a:lnTo>
                  <a:lnTo>
                    <a:pt x="11464" y="9224"/>
                  </a:lnTo>
                  <a:lnTo>
                    <a:pt x="11482" y="9257"/>
                  </a:lnTo>
                  <a:lnTo>
                    <a:pt x="11504" y="9293"/>
                  </a:lnTo>
                  <a:lnTo>
                    <a:pt x="11529" y="9331"/>
                  </a:lnTo>
                  <a:lnTo>
                    <a:pt x="11558" y="9373"/>
                  </a:lnTo>
                  <a:lnTo>
                    <a:pt x="11590" y="9415"/>
                  </a:lnTo>
                  <a:lnTo>
                    <a:pt x="11625" y="9459"/>
                  </a:lnTo>
                  <a:lnTo>
                    <a:pt x="11662" y="9506"/>
                  </a:lnTo>
                  <a:lnTo>
                    <a:pt x="11701" y="9553"/>
                  </a:lnTo>
                  <a:lnTo>
                    <a:pt x="11742" y="9600"/>
                  </a:lnTo>
                  <a:lnTo>
                    <a:pt x="11784" y="9650"/>
                  </a:lnTo>
                  <a:lnTo>
                    <a:pt x="11872" y="9748"/>
                  </a:lnTo>
                  <a:lnTo>
                    <a:pt x="11962" y="9844"/>
                  </a:lnTo>
                  <a:lnTo>
                    <a:pt x="12050" y="9938"/>
                  </a:lnTo>
                  <a:lnTo>
                    <a:pt x="12136" y="10027"/>
                  </a:lnTo>
                  <a:lnTo>
                    <a:pt x="12215" y="10109"/>
                  </a:lnTo>
                  <a:lnTo>
                    <a:pt x="12286" y="10180"/>
                  </a:lnTo>
                  <a:lnTo>
                    <a:pt x="12346" y="10240"/>
                  </a:lnTo>
                  <a:lnTo>
                    <a:pt x="12391" y="10285"/>
                  </a:lnTo>
                  <a:lnTo>
                    <a:pt x="12420" y="10313"/>
                  </a:lnTo>
                  <a:lnTo>
                    <a:pt x="12430" y="10323"/>
                  </a:lnTo>
                  <a:lnTo>
                    <a:pt x="13175" y="9775"/>
                  </a:lnTo>
                  <a:lnTo>
                    <a:pt x="14066" y="11647"/>
                  </a:lnTo>
                  <a:lnTo>
                    <a:pt x="14076" y="11684"/>
                  </a:lnTo>
                  <a:lnTo>
                    <a:pt x="14083" y="11717"/>
                  </a:lnTo>
                  <a:lnTo>
                    <a:pt x="14085" y="11733"/>
                  </a:lnTo>
                  <a:lnTo>
                    <a:pt x="14087" y="11748"/>
                  </a:lnTo>
                  <a:lnTo>
                    <a:pt x="14088" y="11763"/>
                  </a:lnTo>
                  <a:lnTo>
                    <a:pt x="14089" y="11777"/>
                  </a:lnTo>
                  <a:lnTo>
                    <a:pt x="14088" y="11791"/>
                  </a:lnTo>
                  <a:lnTo>
                    <a:pt x="14088" y="11804"/>
                  </a:lnTo>
                  <a:lnTo>
                    <a:pt x="14086" y="11817"/>
                  </a:lnTo>
                  <a:lnTo>
                    <a:pt x="14084" y="11829"/>
                  </a:lnTo>
                  <a:lnTo>
                    <a:pt x="14082" y="11842"/>
                  </a:lnTo>
                  <a:lnTo>
                    <a:pt x="14078" y="11854"/>
                  </a:lnTo>
                  <a:lnTo>
                    <a:pt x="14074" y="11867"/>
                  </a:lnTo>
                  <a:lnTo>
                    <a:pt x="14070" y="11879"/>
                  </a:lnTo>
                  <a:lnTo>
                    <a:pt x="14059" y="11905"/>
                  </a:lnTo>
                  <a:lnTo>
                    <a:pt x="14046" y="11930"/>
                  </a:lnTo>
                  <a:lnTo>
                    <a:pt x="14031" y="11957"/>
                  </a:lnTo>
                  <a:lnTo>
                    <a:pt x="14013" y="11985"/>
                  </a:lnTo>
                  <a:lnTo>
                    <a:pt x="13971" y="12050"/>
                  </a:lnTo>
                  <a:lnTo>
                    <a:pt x="13920" y="12127"/>
                  </a:lnTo>
                  <a:lnTo>
                    <a:pt x="13906" y="12149"/>
                  </a:lnTo>
                  <a:lnTo>
                    <a:pt x="13896" y="12171"/>
                  </a:lnTo>
                  <a:lnTo>
                    <a:pt x="13887" y="12192"/>
                  </a:lnTo>
                  <a:lnTo>
                    <a:pt x="13882" y="12214"/>
                  </a:lnTo>
                  <a:lnTo>
                    <a:pt x="13878" y="12235"/>
                  </a:lnTo>
                  <a:lnTo>
                    <a:pt x="13876" y="12257"/>
                  </a:lnTo>
                  <a:lnTo>
                    <a:pt x="13876" y="12278"/>
                  </a:lnTo>
                  <a:lnTo>
                    <a:pt x="13878" y="12298"/>
                  </a:lnTo>
                  <a:lnTo>
                    <a:pt x="13882" y="12318"/>
                  </a:lnTo>
                  <a:lnTo>
                    <a:pt x="13887" y="12338"/>
                  </a:lnTo>
                  <a:lnTo>
                    <a:pt x="13893" y="12357"/>
                  </a:lnTo>
                  <a:lnTo>
                    <a:pt x="13900" y="12376"/>
                  </a:lnTo>
                  <a:lnTo>
                    <a:pt x="13909" y="12394"/>
                  </a:lnTo>
                  <a:lnTo>
                    <a:pt x="13918" y="12412"/>
                  </a:lnTo>
                  <a:lnTo>
                    <a:pt x="13928" y="12429"/>
                  </a:lnTo>
                  <a:lnTo>
                    <a:pt x="13939" y="12445"/>
                  </a:lnTo>
                  <a:lnTo>
                    <a:pt x="13950" y="12461"/>
                  </a:lnTo>
                  <a:lnTo>
                    <a:pt x="13962" y="12476"/>
                  </a:lnTo>
                  <a:lnTo>
                    <a:pt x="13974" y="12491"/>
                  </a:lnTo>
                  <a:lnTo>
                    <a:pt x="13986" y="12504"/>
                  </a:lnTo>
                  <a:lnTo>
                    <a:pt x="14009" y="12528"/>
                  </a:lnTo>
                  <a:lnTo>
                    <a:pt x="14030" y="12548"/>
                  </a:lnTo>
                  <a:lnTo>
                    <a:pt x="14063" y="12577"/>
                  </a:lnTo>
                  <a:lnTo>
                    <a:pt x="14076" y="12587"/>
                  </a:lnTo>
                  <a:lnTo>
                    <a:pt x="14084" y="12578"/>
                  </a:lnTo>
                  <a:lnTo>
                    <a:pt x="14108" y="12553"/>
                  </a:lnTo>
                  <a:lnTo>
                    <a:pt x="14143" y="12514"/>
                  </a:lnTo>
                  <a:lnTo>
                    <a:pt x="14189" y="12462"/>
                  </a:lnTo>
                  <a:lnTo>
                    <a:pt x="14243" y="12400"/>
                  </a:lnTo>
                  <a:lnTo>
                    <a:pt x="14303" y="12330"/>
                  </a:lnTo>
                  <a:lnTo>
                    <a:pt x="14368" y="12254"/>
                  </a:lnTo>
                  <a:lnTo>
                    <a:pt x="14433" y="12173"/>
                  </a:lnTo>
                  <a:lnTo>
                    <a:pt x="14465" y="12133"/>
                  </a:lnTo>
                  <a:lnTo>
                    <a:pt x="14498" y="12091"/>
                  </a:lnTo>
                  <a:lnTo>
                    <a:pt x="14529" y="12050"/>
                  </a:lnTo>
                  <a:lnTo>
                    <a:pt x="14560" y="12009"/>
                  </a:lnTo>
                  <a:lnTo>
                    <a:pt x="14589" y="11968"/>
                  </a:lnTo>
                  <a:lnTo>
                    <a:pt x="14618" y="11928"/>
                  </a:lnTo>
                  <a:lnTo>
                    <a:pt x="14643" y="11889"/>
                  </a:lnTo>
                  <a:lnTo>
                    <a:pt x="14667" y="11851"/>
                  </a:lnTo>
                  <a:lnTo>
                    <a:pt x="14689" y="11815"/>
                  </a:lnTo>
                  <a:lnTo>
                    <a:pt x="14708" y="11781"/>
                  </a:lnTo>
                  <a:lnTo>
                    <a:pt x="14724" y="11748"/>
                  </a:lnTo>
                  <a:lnTo>
                    <a:pt x="14738" y="11719"/>
                  </a:lnTo>
                  <a:lnTo>
                    <a:pt x="14747" y="11692"/>
                  </a:lnTo>
                  <a:lnTo>
                    <a:pt x="14753" y="11667"/>
                  </a:lnTo>
                  <a:lnTo>
                    <a:pt x="14755" y="11646"/>
                  </a:lnTo>
                  <a:lnTo>
                    <a:pt x="14753" y="11627"/>
                  </a:lnTo>
                  <a:lnTo>
                    <a:pt x="14736" y="11615"/>
                  </a:lnTo>
                  <a:lnTo>
                    <a:pt x="14690" y="11582"/>
                  </a:lnTo>
                  <a:lnTo>
                    <a:pt x="14659" y="11557"/>
                  </a:lnTo>
                  <a:lnTo>
                    <a:pt x="14624" y="11527"/>
                  </a:lnTo>
                  <a:lnTo>
                    <a:pt x="14605" y="11509"/>
                  </a:lnTo>
                  <a:lnTo>
                    <a:pt x="14585" y="11490"/>
                  </a:lnTo>
                  <a:lnTo>
                    <a:pt x="14565" y="11470"/>
                  </a:lnTo>
                  <a:lnTo>
                    <a:pt x="14545" y="11449"/>
                  </a:lnTo>
                  <a:lnTo>
                    <a:pt x="14525" y="11427"/>
                  </a:lnTo>
                  <a:lnTo>
                    <a:pt x="14504" y="11404"/>
                  </a:lnTo>
                  <a:lnTo>
                    <a:pt x="14484" y="11378"/>
                  </a:lnTo>
                  <a:lnTo>
                    <a:pt x="14463" y="11352"/>
                  </a:lnTo>
                  <a:lnTo>
                    <a:pt x="14442" y="11324"/>
                  </a:lnTo>
                  <a:lnTo>
                    <a:pt x="14423" y="11296"/>
                  </a:lnTo>
                  <a:lnTo>
                    <a:pt x="14403" y="11265"/>
                  </a:lnTo>
                  <a:lnTo>
                    <a:pt x="14385" y="11234"/>
                  </a:lnTo>
                  <a:lnTo>
                    <a:pt x="14367" y="11202"/>
                  </a:lnTo>
                  <a:lnTo>
                    <a:pt x="14350" y="11169"/>
                  </a:lnTo>
                  <a:lnTo>
                    <a:pt x="14333" y="11133"/>
                  </a:lnTo>
                  <a:lnTo>
                    <a:pt x="14318" y="11097"/>
                  </a:lnTo>
                  <a:lnTo>
                    <a:pt x="14304" y="11060"/>
                  </a:lnTo>
                  <a:lnTo>
                    <a:pt x="14292" y="11021"/>
                  </a:lnTo>
                  <a:lnTo>
                    <a:pt x="14281" y="10982"/>
                  </a:lnTo>
                  <a:lnTo>
                    <a:pt x="14272" y="10941"/>
                  </a:lnTo>
                  <a:lnTo>
                    <a:pt x="14265" y="10924"/>
                  </a:lnTo>
                  <a:lnTo>
                    <a:pt x="14243" y="10876"/>
                  </a:lnTo>
                  <a:lnTo>
                    <a:pt x="14207" y="10801"/>
                  </a:lnTo>
                  <a:lnTo>
                    <a:pt x="14162" y="10705"/>
                  </a:lnTo>
                  <a:lnTo>
                    <a:pt x="14106" y="10589"/>
                  </a:lnTo>
                  <a:lnTo>
                    <a:pt x="14041" y="10459"/>
                  </a:lnTo>
                  <a:lnTo>
                    <a:pt x="13969" y="10318"/>
                  </a:lnTo>
                  <a:lnTo>
                    <a:pt x="13893" y="10171"/>
                  </a:lnTo>
                  <a:lnTo>
                    <a:pt x="13853" y="10098"/>
                  </a:lnTo>
                  <a:lnTo>
                    <a:pt x="13812" y="10024"/>
                  </a:lnTo>
                  <a:lnTo>
                    <a:pt x="13771" y="9950"/>
                  </a:lnTo>
                  <a:lnTo>
                    <a:pt x="13729" y="9878"/>
                  </a:lnTo>
                  <a:lnTo>
                    <a:pt x="13687" y="9807"/>
                  </a:lnTo>
                  <a:lnTo>
                    <a:pt x="13645" y="9739"/>
                  </a:lnTo>
                  <a:lnTo>
                    <a:pt x="13603" y="9672"/>
                  </a:lnTo>
                  <a:lnTo>
                    <a:pt x="13561" y="9610"/>
                  </a:lnTo>
                  <a:lnTo>
                    <a:pt x="13521" y="9551"/>
                  </a:lnTo>
                  <a:lnTo>
                    <a:pt x="13480" y="9496"/>
                  </a:lnTo>
                  <a:lnTo>
                    <a:pt x="13440" y="9446"/>
                  </a:lnTo>
                  <a:lnTo>
                    <a:pt x="13402" y="9401"/>
                  </a:lnTo>
                  <a:lnTo>
                    <a:pt x="13365" y="9362"/>
                  </a:lnTo>
                  <a:lnTo>
                    <a:pt x="13329" y="9329"/>
                  </a:lnTo>
                  <a:lnTo>
                    <a:pt x="13295" y="9303"/>
                  </a:lnTo>
                  <a:lnTo>
                    <a:pt x="13263" y="9285"/>
                  </a:lnTo>
                  <a:lnTo>
                    <a:pt x="13258" y="9288"/>
                  </a:lnTo>
                  <a:lnTo>
                    <a:pt x="13241" y="9296"/>
                  </a:lnTo>
                  <a:lnTo>
                    <a:pt x="13213" y="9309"/>
                  </a:lnTo>
                  <a:lnTo>
                    <a:pt x="13177" y="9326"/>
                  </a:lnTo>
                  <a:lnTo>
                    <a:pt x="13133" y="9346"/>
                  </a:lnTo>
                  <a:lnTo>
                    <a:pt x="13081" y="9368"/>
                  </a:lnTo>
                  <a:lnTo>
                    <a:pt x="13023" y="9393"/>
                  </a:lnTo>
                  <a:lnTo>
                    <a:pt x="12960" y="9417"/>
                  </a:lnTo>
                  <a:lnTo>
                    <a:pt x="12894" y="9442"/>
                  </a:lnTo>
                  <a:lnTo>
                    <a:pt x="12824" y="9465"/>
                  </a:lnTo>
                  <a:lnTo>
                    <a:pt x="12789" y="9477"/>
                  </a:lnTo>
                  <a:lnTo>
                    <a:pt x="12753" y="9488"/>
                  </a:lnTo>
                  <a:lnTo>
                    <a:pt x="12717" y="9499"/>
                  </a:lnTo>
                  <a:lnTo>
                    <a:pt x="12680" y="9508"/>
                  </a:lnTo>
                  <a:lnTo>
                    <a:pt x="12644" y="9517"/>
                  </a:lnTo>
                  <a:lnTo>
                    <a:pt x="12608" y="9525"/>
                  </a:lnTo>
                  <a:lnTo>
                    <a:pt x="12572" y="9532"/>
                  </a:lnTo>
                  <a:lnTo>
                    <a:pt x="12537" y="9538"/>
                  </a:lnTo>
                  <a:lnTo>
                    <a:pt x="12502" y="9543"/>
                  </a:lnTo>
                  <a:lnTo>
                    <a:pt x="12468" y="9546"/>
                  </a:lnTo>
                  <a:lnTo>
                    <a:pt x="12434" y="9549"/>
                  </a:lnTo>
                  <a:lnTo>
                    <a:pt x="12401" y="9549"/>
                  </a:lnTo>
                  <a:lnTo>
                    <a:pt x="12391" y="9540"/>
                  </a:lnTo>
                  <a:lnTo>
                    <a:pt x="12361" y="9514"/>
                  </a:lnTo>
                  <a:lnTo>
                    <a:pt x="12314" y="9473"/>
                  </a:lnTo>
                  <a:lnTo>
                    <a:pt x="12252" y="9420"/>
                  </a:lnTo>
                  <a:lnTo>
                    <a:pt x="12177" y="9356"/>
                  </a:lnTo>
                  <a:lnTo>
                    <a:pt x="12092" y="9284"/>
                  </a:lnTo>
                  <a:lnTo>
                    <a:pt x="11998" y="9205"/>
                  </a:lnTo>
                  <a:lnTo>
                    <a:pt x="11898" y="9123"/>
                  </a:lnTo>
                  <a:lnTo>
                    <a:pt x="11794" y="9039"/>
                  </a:lnTo>
                  <a:lnTo>
                    <a:pt x="11688" y="8955"/>
                  </a:lnTo>
                  <a:lnTo>
                    <a:pt x="11635" y="8914"/>
                  </a:lnTo>
                  <a:lnTo>
                    <a:pt x="11583" y="8873"/>
                  </a:lnTo>
                  <a:lnTo>
                    <a:pt x="11531" y="8835"/>
                  </a:lnTo>
                  <a:lnTo>
                    <a:pt x="11480" y="8797"/>
                  </a:lnTo>
                  <a:lnTo>
                    <a:pt x="11430" y="8761"/>
                  </a:lnTo>
                  <a:lnTo>
                    <a:pt x="11382" y="8727"/>
                  </a:lnTo>
                  <a:lnTo>
                    <a:pt x="11335" y="8695"/>
                  </a:lnTo>
                  <a:lnTo>
                    <a:pt x="11290" y="8666"/>
                  </a:lnTo>
                  <a:lnTo>
                    <a:pt x="11248" y="8639"/>
                  </a:lnTo>
                  <a:lnTo>
                    <a:pt x="11209" y="8616"/>
                  </a:lnTo>
                  <a:lnTo>
                    <a:pt x="11171" y="8596"/>
                  </a:lnTo>
                  <a:lnTo>
                    <a:pt x="11138" y="8579"/>
                  </a:lnTo>
                  <a:lnTo>
                    <a:pt x="10736" y="8510"/>
                  </a:lnTo>
                  <a:lnTo>
                    <a:pt x="13783" y="1661"/>
                  </a:lnTo>
                  <a:lnTo>
                    <a:pt x="13780" y="1657"/>
                  </a:lnTo>
                  <a:lnTo>
                    <a:pt x="13771" y="1647"/>
                  </a:lnTo>
                  <a:lnTo>
                    <a:pt x="13757" y="1632"/>
                  </a:lnTo>
                  <a:lnTo>
                    <a:pt x="13736" y="1614"/>
                  </a:lnTo>
                  <a:lnTo>
                    <a:pt x="13723" y="1603"/>
                  </a:lnTo>
                  <a:lnTo>
                    <a:pt x="13708" y="1592"/>
                  </a:lnTo>
                  <a:lnTo>
                    <a:pt x="13692" y="1580"/>
                  </a:lnTo>
                  <a:lnTo>
                    <a:pt x="13674" y="1569"/>
                  </a:lnTo>
                  <a:lnTo>
                    <a:pt x="13654" y="1558"/>
                  </a:lnTo>
                  <a:lnTo>
                    <a:pt x="13633" y="1546"/>
                  </a:lnTo>
                  <a:lnTo>
                    <a:pt x="13610" y="1535"/>
                  </a:lnTo>
                  <a:lnTo>
                    <a:pt x="13584" y="1525"/>
                  </a:lnTo>
                  <a:lnTo>
                    <a:pt x="13557" y="1515"/>
                  </a:lnTo>
                  <a:lnTo>
                    <a:pt x="13528" y="1506"/>
                  </a:lnTo>
                  <a:lnTo>
                    <a:pt x="13497" y="1497"/>
                  </a:lnTo>
                  <a:lnTo>
                    <a:pt x="13463" y="1490"/>
                  </a:lnTo>
                  <a:lnTo>
                    <a:pt x="13429" y="1484"/>
                  </a:lnTo>
                  <a:lnTo>
                    <a:pt x="13392" y="1480"/>
                  </a:lnTo>
                  <a:lnTo>
                    <a:pt x="13353" y="1477"/>
                  </a:lnTo>
                  <a:lnTo>
                    <a:pt x="13311" y="1475"/>
                  </a:lnTo>
                  <a:lnTo>
                    <a:pt x="13268" y="1476"/>
                  </a:lnTo>
                  <a:lnTo>
                    <a:pt x="13223" y="1478"/>
                  </a:lnTo>
                  <a:lnTo>
                    <a:pt x="13174" y="1483"/>
                  </a:lnTo>
                  <a:lnTo>
                    <a:pt x="13125" y="1489"/>
                  </a:lnTo>
                  <a:lnTo>
                    <a:pt x="13072" y="1499"/>
                  </a:lnTo>
                  <a:lnTo>
                    <a:pt x="13017" y="1511"/>
                  </a:lnTo>
                  <a:lnTo>
                    <a:pt x="12960" y="1525"/>
                  </a:lnTo>
                  <a:lnTo>
                    <a:pt x="12901" y="1543"/>
                  </a:lnTo>
                  <a:lnTo>
                    <a:pt x="12894" y="1543"/>
                  </a:lnTo>
                  <a:lnTo>
                    <a:pt x="12874" y="1543"/>
                  </a:lnTo>
                  <a:lnTo>
                    <a:pt x="12842" y="1541"/>
                  </a:lnTo>
                  <a:lnTo>
                    <a:pt x="12799" y="1539"/>
                  </a:lnTo>
                  <a:lnTo>
                    <a:pt x="12748" y="1536"/>
                  </a:lnTo>
                  <a:lnTo>
                    <a:pt x="12688" y="1531"/>
                  </a:lnTo>
                  <a:lnTo>
                    <a:pt x="12624" y="1523"/>
                  </a:lnTo>
                  <a:lnTo>
                    <a:pt x="12554" y="1514"/>
                  </a:lnTo>
                  <a:lnTo>
                    <a:pt x="12518" y="1508"/>
                  </a:lnTo>
                  <a:lnTo>
                    <a:pt x="12482" y="1501"/>
                  </a:lnTo>
                  <a:lnTo>
                    <a:pt x="12444" y="1494"/>
                  </a:lnTo>
                  <a:lnTo>
                    <a:pt x="12408" y="1486"/>
                  </a:lnTo>
                  <a:lnTo>
                    <a:pt x="12371" y="1477"/>
                  </a:lnTo>
                  <a:lnTo>
                    <a:pt x="12334" y="1466"/>
                  </a:lnTo>
                  <a:lnTo>
                    <a:pt x="12296" y="1455"/>
                  </a:lnTo>
                  <a:lnTo>
                    <a:pt x="12260" y="1444"/>
                  </a:lnTo>
                  <a:lnTo>
                    <a:pt x="12225" y="1431"/>
                  </a:lnTo>
                  <a:lnTo>
                    <a:pt x="12190" y="1417"/>
                  </a:lnTo>
                  <a:lnTo>
                    <a:pt x="12156" y="1402"/>
                  </a:lnTo>
                  <a:lnTo>
                    <a:pt x="12124" y="1386"/>
                  </a:lnTo>
                  <a:lnTo>
                    <a:pt x="12093" y="1368"/>
                  </a:lnTo>
                  <a:lnTo>
                    <a:pt x="12063" y="1349"/>
                  </a:lnTo>
                  <a:lnTo>
                    <a:pt x="12035" y="1329"/>
                  </a:lnTo>
                  <a:lnTo>
                    <a:pt x="12010" y="1308"/>
                  </a:lnTo>
                  <a:lnTo>
                    <a:pt x="11983" y="1307"/>
                  </a:lnTo>
                  <a:lnTo>
                    <a:pt x="11911" y="1302"/>
                  </a:lnTo>
                  <a:lnTo>
                    <a:pt x="11864" y="1298"/>
                  </a:lnTo>
                  <a:lnTo>
                    <a:pt x="11810" y="1291"/>
                  </a:lnTo>
                  <a:lnTo>
                    <a:pt x="11782" y="1287"/>
                  </a:lnTo>
                  <a:lnTo>
                    <a:pt x="11754" y="1283"/>
                  </a:lnTo>
                  <a:lnTo>
                    <a:pt x="11725" y="1277"/>
                  </a:lnTo>
                  <a:lnTo>
                    <a:pt x="11694" y="1271"/>
                  </a:lnTo>
                  <a:lnTo>
                    <a:pt x="11665" y="1265"/>
                  </a:lnTo>
                  <a:lnTo>
                    <a:pt x="11636" y="1257"/>
                  </a:lnTo>
                  <a:lnTo>
                    <a:pt x="11607" y="1249"/>
                  </a:lnTo>
                  <a:lnTo>
                    <a:pt x="11579" y="1239"/>
                  </a:lnTo>
                  <a:lnTo>
                    <a:pt x="11551" y="1228"/>
                  </a:lnTo>
                  <a:lnTo>
                    <a:pt x="11525" y="1217"/>
                  </a:lnTo>
                  <a:lnTo>
                    <a:pt x="11500" y="1205"/>
                  </a:lnTo>
                  <a:lnTo>
                    <a:pt x="11477" y="1192"/>
                  </a:lnTo>
                  <a:lnTo>
                    <a:pt x="11455" y="1178"/>
                  </a:lnTo>
                  <a:lnTo>
                    <a:pt x="11435" y="1162"/>
                  </a:lnTo>
                  <a:lnTo>
                    <a:pt x="11417" y="1146"/>
                  </a:lnTo>
                  <a:lnTo>
                    <a:pt x="11403" y="1128"/>
                  </a:lnTo>
                  <a:lnTo>
                    <a:pt x="11391" y="1108"/>
                  </a:lnTo>
                  <a:lnTo>
                    <a:pt x="11382" y="1088"/>
                  </a:lnTo>
                  <a:lnTo>
                    <a:pt x="11376" y="1066"/>
                  </a:lnTo>
                  <a:lnTo>
                    <a:pt x="11373" y="1043"/>
                  </a:lnTo>
                  <a:lnTo>
                    <a:pt x="11362" y="1037"/>
                  </a:lnTo>
                  <a:lnTo>
                    <a:pt x="11331" y="1019"/>
                  </a:lnTo>
                  <a:lnTo>
                    <a:pt x="11308" y="1007"/>
                  </a:lnTo>
                  <a:lnTo>
                    <a:pt x="11282" y="994"/>
                  </a:lnTo>
                  <a:lnTo>
                    <a:pt x="11253" y="978"/>
                  </a:lnTo>
                  <a:lnTo>
                    <a:pt x="11220" y="963"/>
                  </a:lnTo>
                  <a:lnTo>
                    <a:pt x="11183" y="948"/>
                  </a:lnTo>
                  <a:lnTo>
                    <a:pt x="11145" y="934"/>
                  </a:lnTo>
                  <a:lnTo>
                    <a:pt x="11105" y="920"/>
                  </a:lnTo>
                  <a:lnTo>
                    <a:pt x="11062" y="907"/>
                  </a:lnTo>
                  <a:lnTo>
                    <a:pt x="11041" y="901"/>
                  </a:lnTo>
                  <a:lnTo>
                    <a:pt x="11019" y="896"/>
                  </a:lnTo>
                  <a:lnTo>
                    <a:pt x="10997" y="891"/>
                  </a:lnTo>
                  <a:lnTo>
                    <a:pt x="10975" y="887"/>
                  </a:lnTo>
                  <a:lnTo>
                    <a:pt x="10952" y="884"/>
                  </a:lnTo>
                  <a:lnTo>
                    <a:pt x="10928" y="881"/>
                  </a:lnTo>
                  <a:lnTo>
                    <a:pt x="10906" y="878"/>
                  </a:lnTo>
                  <a:lnTo>
                    <a:pt x="10883" y="877"/>
                  </a:lnTo>
                  <a:lnTo>
                    <a:pt x="10866" y="866"/>
                  </a:lnTo>
                  <a:lnTo>
                    <a:pt x="10822" y="839"/>
                  </a:lnTo>
                  <a:lnTo>
                    <a:pt x="10790" y="821"/>
                  </a:lnTo>
                  <a:lnTo>
                    <a:pt x="10756" y="803"/>
                  </a:lnTo>
                  <a:lnTo>
                    <a:pt x="10718" y="784"/>
                  </a:lnTo>
                  <a:lnTo>
                    <a:pt x="10677" y="766"/>
                  </a:lnTo>
                  <a:lnTo>
                    <a:pt x="10656" y="757"/>
                  </a:lnTo>
                  <a:lnTo>
                    <a:pt x="10635" y="748"/>
                  </a:lnTo>
                  <a:lnTo>
                    <a:pt x="10614" y="740"/>
                  </a:lnTo>
                  <a:lnTo>
                    <a:pt x="10593" y="733"/>
                  </a:lnTo>
                  <a:lnTo>
                    <a:pt x="10572" y="727"/>
                  </a:lnTo>
                  <a:lnTo>
                    <a:pt x="10551" y="722"/>
                  </a:lnTo>
                  <a:lnTo>
                    <a:pt x="10531" y="718"/>
                  </a:lnTo>
                  <a:lnTo>
                    <a:pt x="10511" y="715"/>
                  </a:lnTo>
                  <a:lnTo>
                    <a:pt x="10492" y="714"/>
                  </a:lnTo>
                  <a:lnTo>
                    <a:pt x="10473" y="714"/>
                  </a:lnTo>
                  <a:lnTo>
                    <a:pt x="10456" y="715"/>
                  </a:lnTo>
                  <a:lnTo>
                    <a:pt x="10438" y="718"/>
                  </a:lnTo>
                  <a:lnTo>
                    <a:pt x="10423" y="723"/>
                  </a:lnTo>
                  <a:lnTo>
                    <a:pt x="10408" y="729"/>
                  </a:lnTo>
                  <a:lnTo>
                    <a:pt x="10395" y="738"/>
                  </a:lnTo>
                  <a:lnTo>
                    <a:pt x="10383" y="749"/>
                  </a:lnTo>
                  <a:lnTo>
                    <a:pt x="10373" y="761"/>
                  </a:lnTo>
                  <a:lnTo>
                    <a:pt x="10364" y="773"/>
                  </a:lnTo>
                  <a:lnTo>
                    <a:pt x="10356" y="786"/>
                  </a:lnTo>
                  <a:lnTo>
                    <a:pt x="10350" y="800"/>
                  </a:lnTo>
                  <a:lnTo>
                    <a:pt x="10344" y="814"/>
                  </a:lnTo>
                  <a:lnTo>
                    <a:pt x="10339" y="829"/>
                  </a:lnTo>
                  <a:lnTo>
                    <a:pt x="10335" y="844"/>
                  </a:lnTo>
                  <a:lnTo>
                    <a:pt x="10332" y="859"/>
                  </a:lnTo>
                  <a:lnTo>
                    <a:pt x="10323" y="921"/>
                  </a:lnTo>
                  <a:lnTo>
                    <a:pt x="10317" y="980"/>
                  </a:lnTo>
                  <a:lnTo>
                    <a:pt x="10313" y="995"/>
                  </a:lnTo>
                  <a:lnTo>
                    <a:pt x="10311" y="1008"/>
                  </a:lnTo>
                  <a:lnTo>
                    <a:pt x="10307" y="1020"/>
                  </a:lnTo>
                  <a:lnTo>
                    <a:pt x="10304" y="1032"/>
                  </a:lnTo>
                  <a:lnTo>
                    <a:pt x="10299" y="1042"/>
                  </a:lnTo>
                  <a:lnTo>
                    <a:pt x="10294" y="1052"/>
                  </a:lnTo>
                  <a:lnTo>
                    <a:pt x="10287" y="1060"/>
                  </a:lnTo>
                  <a:lnTo>
                    <a:pt x="10280" y="1068"/>
                  </a:lnTo>
                  <a:lnTo>
                    <a:pt x="10271" y="1074"/>
                  </a:lnTo>
                  <a:lnTo>
                    <a:pt x="10261" y="1078"/>
                  </a:lnTo>
                  <a:lnTo>
                    <a:pt x="10250" y="1081"/>
                  </a:lnTo>
                  <a:lnTo>
                    <a:pt x="10237" y="1083"/>
                  </a:lnTo>
                  <a:lnTo>
                    <a:pt x="10223" y="1083"/>
                  </a:lnTo>
                  <a:lnTo>
                    <a:pt x="10206" y="1081"/>
                  </a:lnTo>
                  <a:lnTo>
                    <a:pt x="10187" y="1078"/>
                  </a:lnTo>
                  <a:lnTo>
                    <a:pt x="10168" y="1072"/>
                  </a:lnTo>
                  <a:lnTo>
                    <a:pt x="10148" y="1067"/>
                  </a:lnTo>
                  <a:lnTo>
                    <a:pt x="10130" y="1060"/>
                  </a:lnTo>
                  <a:lnTo>
                    <a:pt x="10112" y="1052"/>
                  </a:lnTo>
                  <a:lnTo>
                    <a:pt x="10095" y="1044"/>
                  </a:lnTo>
                  <a:lnTo>
                    <a:pt x="10079" y="1035"/>
                  </a:lnTo>
                  <a:lnTo>
                    <a:pt x="10063" y="1025"/>
                  </a:lnTo>
                  <a:lnTo>
                    <a:pt x="10049" y="1014"/>
                  </a:lnTo>
                  <a:lnTo>
                    <a:pt x="10035" y="1003"/>
                  </a:lnTo>
                  <a:lnTo>
                    <a:pt x="10021" y="990"/>
                  </a:lnTo>
                  <a:lnTo>
                    <a:pt x="10008" y="978"/>
                  </a:lnTo>
                  <a:lnTo>
                    <a:pt x="9995" y="965"/>
                  </a:lnTo>
                  <a:lnTo>
                    <a:pt x="9983" y="952"/>
                  </a:lnTo>
                  <a:lnTo>
                    <a:pt x="9959" y="924"/>
                  </a:lnTo>
                  <a:lnTo>
                    <a:pt x="9934" y="895"/>
                  </a:lnTo>
                  <a:lnTo>
                    <a:pt x="9909" y="864"/>
                  </a:lnTo>
                  <a:lnTo>
                    <a:pt x="9884" y="834"/>
                  </a:lnTo>
                  <a:lnTo>
                    <a:pt x="9857" y="802"/>
                  </a:lnTo>
                  <a:lnTo>
                    <a:pt x="9828" y="771"/>
                  </a:lnTo>
                  <a:lnTo>
                    <a:pt x="9813" y="756"/>
                  </a:lnTo>
                  <a:lnTo>
                    <a:pt x="9795" y="739"/>
                  </a:lnTo>
                  <a:lnTo>
                    <a:pt x="9778" y="724"/>
                  </a:lnTo>
                  <a:lnTo>
                    <a:pt x="9760" y="709"/>
                  </a:lnTo>
                  <a:lnTo>
                    <a:pt x="9742" y="694"/>
                  </a:lnTo>
                  <a:lnTo>
                    <a:pt x="9722" y="680"/>
                  </a:lnTo>
                  <a:lnTo>
                    <a:pt x="9701" y="666"/>
                  </a:lnTo>
                  <a:lnTo>
                    <a:pt x="9678" y="652"/>
                  </a:lnTo>
                  <a:lnTo>
                    <a:pt x="9627" y="622"/>
                  </a:lnTo>
                  <a:lnTo>
                    <a:pt x="9569" y="589"/>
                  </a:lnTo>
                  <a:lnTo>
                    <a:pt x="9502" y="554"/>
                  </a:lnTo>
                  <a:lnTo>
                    <a:pt x="9430" y="518"/>
                  </a:lnTo>
                  <a:lnTo>
                    <a:pt x="9356" y="479"/>
                  </a:lnTo>
                  <a:lnTo>
                    <a:pt x="9279" y="441"/>
                  </a:lnTo>
                  <a:lnTo>
                    <a:pt x="9202" y="403"/>
                  </a:lnTo>
                  <a:lnTo>
                    <a:pt x="9126" y="366"/>
                  </a:lnTo>
                  <a:lnTo>
                    <a:pt x="9052" y="331"/>
                  </a:lnTo>
                  <a:lnTo>
                    <a:pt x="8984" y="298"/>
                  </a:lnTo>
                  <a:lnTo>
                    <a:pt x="8921" y="268"/>
                  </a:lnTo>
                  <a:lnTo>
                    <a:pt x="8867" y="242"/>
                  </a:lnTo>
                  <a:lnTo>
                    <a:pt x="8822" y="221"/>
                  </a:lnTo>
                  <a:lnTo>
                    <a:pt x="8786" y="205"/>
                  </a:lnTo>
                  <a:lnTo>
                    <a:pt x="8765" y="194"/>
                  </a:lnTo>
                  <a:lnTo>
                    <a:pt x="8757" y="191"/>
                  </a:lnTo>
                  <a:lnTo>
                    <a:pt x="8752" y="187"/>
                  </a:lnTo>
                  <a:lnTo>
                    <a:pt x="8735" y="177"/>
                  </a:lnTo>
                  <a:lnTo>
                    <a:pt x="8708" y="161"/>
                  </a:lnTo>
                  <a:lnTo>
                    <a:pt x="8669" y="140"/>
                  </a:lnTo>
                  <a:lnTo>
                    <a:pt x="8646" y="130"/>
                  </a:lnTo>
                  <a:lnTo>
                    <a:pt x="8620" y="118"/>
                  </a:lnTo>
                  <a:lnTo>
                    <a:pt x="8592" y="107"/>
                  </a:lnTo>
                  <a:lnTo>
                    <a:pt x="8560" y="95"/>
                  </a:lnTo>
                  <a:lnTo>
                    <a:pt x="8525" y="83"/>
                  </a:lnTo>
                  <a:lnTo>
                    <a:pt x="8489" y="71"/>
                  </a:lnTo>
                  <a:lnTo>
                    <a:pt x="8450" y="60"/>
                  </a:lnTo>
                  <a:lnTo>
                    <a:pt x="8407" y="49"/>
                  </a:lnTo>
                  <a:lnTo>
                    <a:pt x="8362" y="39"/>
                  </a:lnTo>
                  <a:lnTo>
                    <a:pt x="8315" y="29"/>
                  </a:lnTo>
                  <a:lnTo>
                    <a:pt x="8264" y="20"/>
                  </a:lnTo>
                  <a:lnTo>
                    <a:pt x="8211" y="13"/>
                  </a:lnTo>
                  <a:lnTo>
                    <a:pt x="8155" y="8"/>
                  </a:lnTo>
                  <a:lnTo>
                    <a:pt x="8097" y="4"/>
                  </a:lnTo>
                  <a:lnTo>
                    <a:pt x="8035" y="1"/>
                  </a:lnTo>
                  <a:lnTo>
                    <a:pt x="7972" y="0"/>
                  </a:lnTo>
                  <a:lnTo>
                    <a:pt x="7905" y="2"/>
                  </a:lnTo>
                  <a:lnTo>
                    <a:pt x="7837" y="5"/>
                  </a:lnTo>
                  <a:lnTo>
                    <a:pt x="7764" y="11"/>
                  </a:lnTo>
                  <a:lnTo>
                    <a:pt x="7691" y="20"/>
                  </a:lnTo>
                  <a:lnTo>
                    <a:pt x="7613" y="31"/>
                  </a:lnTo>
                  <a:lnTo>
                    <a:pt x="7533" y="46"/>
                  </a:lnTo>
                  <a:lnTo>
                    <a:pt x="7451" y="63"/>
                  </a:lnTo>
                  <a:lnTo>
                    <a:pt x="7366" y="83"/>
                  </a:lnTo>
                  <a:lnTo>
                    <a:pt x="7283" y="104"/>
                  </a:lnTo>
                  <a:lnTo>
                    <a:pt x="7207" y="122"/>
                  </a:lnTo>
                  <a:lnTo>
                    <a:pt x="7136" y="139"/>
                  </a:lnTo>
                  <a:lnTo>
                    <a:pt x="7071" y="153"/>
                  </a:lnTo>
                  <a:lnTo>
                    <a:pt x="7010" y="166"/>
                  </a:lnTo>
                  <a:lnTo>
                    <a:pt x="6955" y="177"/>
                  </a:lnTo>
                  <a:lnTo>
                    <a:pt x="6903" y="186"/>
                  </a:lnTo>
                  <a:lnTo>
                    <a:pt x="6856" y="193"/>
                  </a:lnTo>
                  <a:lnTo>
                    <a:pt x="6813" y="199"/>
                  </a:lnTo>
                  <a:lnTo>
                    <a:pt x="6773" y="204"/>
                  </a:lnTo>
                  <a:lnTo>
                    <a:pt x="6737" y="207"/>
                  </a:lnTo>
                  <a:lnTo>
                    <a:pt x="6704" y="209"/>
                  </a:lnTo>
                  <a:lnTo>
                    <a:pt x="6674" y="210"/>
                  </a:lnTo>
                  <a:lnTo>
                    <a:pt x="6646" y="210"/>
                  </a:lnTo>
                  <a:lnTo>
                    <a:pt x="6620" y="209"/>
                  </a:lnTo>
                  <a:lnTo>
                    <a:pt x="6597" y="208"/>
                  </a:lnTo>
                  <a:lnTo>
                    <a:pt x="6576" y="206"/>
                  </a:lnTo>
                  <a:lnTo>
                    <a:pt x="6556" y="203"/>
                  </a:lnTo>
                  <a:lnTo>
                    <a:pt x="6537" y="200"/>
                  </a:lnTo>
                  <a:lnTo>
                    <a:pt x="6518" y="197"/>
                  </a:lnTo>
                  <a:lnTo>
                    <a:pt x="6483" y="190"/>
                  </a:lnTo>
                  <a:lnTo>
                    <a:pt x="6449" y="182"/>
                  </a:lnTo>
                  <a:lnTo>
                    <a:pt x="6431" y="179"/>
                  </a:lnTo>
                  <a:lnTo>
                    <a:pt x="6413" y="176"/>
                  </a:lnTo>
                  <a:lnTo>
                    <a:pt x="6392" y="174"/>
                  </a:lnTo>
                  <a:lnTo>
                    <a:pt x="6371" y="172"/>
                  </a:lnTo>
                  <a:lnTo>
                    <a:pt x="6349" y="170"/>
                  </a:lnTo>
                  <a:lnTo>
                    <a:pt x="6325" y="170"/>
                  </a:lnTo>
                  <a:lnTo>
                    <a:pt x="6298" y="170"/>
                  </a:lnTo>
                  <a:lnTo>
                    <a:pt x="6269" y="171"/>
                  </a:lnTo>
                  <a:lnTo>
                    <a:pt x="6208" y="176"/>
                  </a:lnTo>
                  <a:lnTo>
                    <a:pt x="6144" y="182"/>
                  </a:lnTo>
                  <a:lnTo>
                    <a:pt x="6080" y="191"/>
                  </a:lnTo>
                  <a:lnTo>
                    <a:pt x="6015" y="201"/>
                  </a:lnTo>
                  <a:lnTo>
                    <a:pt x="5983" y="207"/>
                  </a:lnTo>
                  <a:lnTo>
                    <a:pt x="5951" y="213"/>
                  </a:lnTo>
                  <a:lnTo>
                    <a:pt x="5919" y="220"/>
                  </a:lnTo>
                  <a:lnTo>
                    <a:pt x="5886" y="228"/>
                  </a:lnTo>
                  <a:lnTo>
                    <a:pt x="5854" y="236"/>
                  </a:lnTo>
                  <a:lnTo>
                    <a:pt x="5823" y="244"/>
                  </a:lnTo>
                  <a:lnTo>
                    <a:pt x="5792" y="253"/>
                  </a:lnTo>
                  <a:lnTo>
                    <a:pt x="5761" y="263"/>
                  </a:lnTo>
                  <a:lnTo>
                    <a:pt x="5731" y="273"/>
                  </a:lnTo>
                  <a:lnTo>
                    <a:pt x="5701" y="284"/>
                  </a:lnTo>
                  <a:lnTo>
                    <a:pt x="5672" y="295"/>
                  </a:lnTo>
                  <a:lnTo>
                    <a:pt x="5643" y="307"/>
                  </a:lnTo>
                  <a:lnTo>
                    <a:pt x="5615" y="319"/>
                  </a:lnTo>
                  <a:lnTo>
                    <a:pt x="5589" y="332"/>
                  </a:lnTo>
                  <a:lnTo>
                    <a:pt x="5563" y="346"/>
                  </a:lnTo>
                  <a:lnTo>
                    <a:pt x="5538" y="360"/>
                  </a:lnTo>
                  <a:lnTo>
                    <a:pt x="5513" y="374"/>
                  </a:lnTo>
                  <a:lnTo>
                    <a:pt x="5490" y="389"/>
                  </a:lnTo>
                  <a:lnTo>
                    <a:pt x="5468" y="406"/>
                  </a:lnTo>
                  <a:lnTo>
                    <a:pt x="5448" y="423"/>
                  </a:lnTo>
                  <a:lnTo>
                    <a:pt x="5428" y="440"/>
                  </a:lnTo>
                  <a:lnTo>
                    <a:pt x="5410" y="457"/>
                  </a:lnTo>
                  <a:lnTo>
                    <a:pt x="5393" y="475"/>
                  </a:lnTo>
                  <a:lnTo>
                    <a:pt x="5377" y="494"/>
                  </a:lnTo>
                  <a:lnTo>
                    <a:pt x="5360" y="515"/>
                  </a:lnTo>
                  <a:lnTo>
                    <a:pt x="5339" y="539"/>
                  </a:lnTo>
                  <a:lnTo>
                    <a:pt x="5313" y="565"/>
                  </a:lnTo>
                  <a:lnTo>
                    <a:pt x="5283" y="595"/>
                  </a:lnTo>
                  <a:lnTo>
                    <a:pt x="5248" y="627"/>
                  </a:lnTo>
                  <a:lnTo>
                    <a:pt x="5211" y="662"/>
                  </a:lnTo>
                  <a:lnTo>
                    <a:pt x="5170" y="699"/>
                  </a:lnTo>
                  <a:lnTo>
                    <a:pt x="5125" y="737"/>
                  </a:lnTo>
                  <a:lnTo>
                    <a:pt x="5078" y="778"/>
                  </a:lnTo>
                  <a:lnTo>
                    <a:pt x="5028" y="819"/>
                  </a:lnTo>
                  <a:lnTo>
                    <a:pt x="4975" y="861"/>
                  </a:lnTo>
                  <a:lnTo>
                    <a:pt x="4921" y="905"/>
                  </a:lnTo>
                  <a:lnTo>
                    <a:pt x="4864" y="948"/>
                  </a:lnTo>
                  <a:lnTo>
                    <a:pt x="4806" y="991"/>
                  </a:lnTo>
                  <a:lnTo>
                    <a:pt x="4746" y="1036"/>
                  </a:lnTo>
                  <a:lnTo>
                    <a:pt x="4686" y="1079"/>
                  </a:lnTo>
                  <a:lnTo>
                    <a:pt x="4624" y="1122"/>
                  </a:lnTo>
                  <a:lnTo>
                    <a:pt x="4562" y="1163"/>
                  </a:lnTo>
                  <a:lnTo>
                    <a:pt x="4498" y="1203"/>
                  </a:lnTo>
                  <a:lnTo>
                    <a:pt x="4436" y="1243"/>
                  </a:lnTo>
                  <a:lnTo>
                    <a:pt x="4372" y="1280"/>
                  </a:lnTo>
                  <a:lnTo>
                    <a:pt x="4310" y="1315"/>
                  </a:lnTo>
                  <a:lnTo>
                    <a:pt x="4247" y="1347"/>
                  </a:lnTo>
                  <a:lnTo>
                    <a:pt x="4186" y="1378"/>
                  </a:lnTo>
                  <a:lnTo>
                    <a:pt x="4125" y="1405"/>
                  </a:lnTo>
                  <a:lnTo>
                    <a:pt x="4067" y="1429"/>
                  </a:lnTo>
                  <a:lnTo>
                    <a:pt x="4008" y="1450"/>
                  </a:lnTo>
                  <a:lnTo>
                    <a:pt x="3953" y="1467"/>
                  </a:lnTo>
                  <a:lnTo>
                    <a:pt x="3899" y="1481"/>
                  </a:lnTo>
                  <a:lnTo>
                    <a:pt x="3847" y="1490"/>
                  </a:lnTo>
                  <a:lnTo>
                    <a:pt x="3798" y="1495"/>
                  </a:lnTo>
                  <a:lnTo>
                    <a:pt x="3751" y="1494"/>
                  </a:lnTo>
                  <a:lnTo>
                    <a:pt x="3706" y="1491"/>
                  </a:lnTo>
                  <a:lnTo>
                    <a:pt x="3660" y="1488"/>
                  </a:lnTo>
                  <a:lnTo>
                    <a:pt x="3612" y="1487"/>
                  </a:lnTo>
                  <a:lnTo>
                    <a:pt x="3564" y="1485"/>
                  </a:lnTo>
                  <a:lnTo>
                    <a:pt x="3516" y="1485"/>
                  </a:lnTo>
                  <a:lnTo>
                    <a:pt x="3467" y="1486"/>
                  </a:lnTo>
                  <a:lnTo>
                    <a:pt x="3418" y="1487"/>
                  </a:lnTo>
                  <a:lnTo>
                    <a:pt x="3368" y="1489"/>
                  </a:lnTo>
                  <a:lnTo>
                    <a:pt x="3319" y="1491"/>
                  </a:lnTo>
                  <a:lnTo>
                    <a:pt x="3270" y="1495"/>
                  </a:lnTo>
                  <a:lnTo>
                    <a:pt x="3220" y="1500"/>
                  </a:lnTo>
                  <a:lnTo>
                    <a:pt x="3171" y="1505"/>
                  </a:lnTo>
                  <a:lnTo>
                    <a:pt x="3123" y="1511"/>
                  </a:lnTo>
                  <a:lnTo>
                    <a:pt x="3075" y="1518"/>
                  </a:lnTo>
                  <a:lnTo>
                    <a:pt x="3029" y="1527"/>
                  </a:lnTo>
                  <a:lnTo>
                    <a:pt x="2982" y="1536"/>
                  </a:lnTo>
                  <a:lnTo>
                    <a:pt x="2938" y="1546"/>
                  </a:lnTo>
                  <a:lnTo>
                    <a:pt x="2894" y="1557"/>
                  </a:lnTo>
                  <a:lnTo>
                    <a:pt x="2851" y="1569"/>
                  </a:lnTo>
                  <a:lnTo>
                    <a:pt x="2811" y="1582"/>
                  </a:lnTo>
                  <a:lnTo>
                    <a:pt x="2771" y="1597"/>
                  </a:lnTo>
                  <a:lnTo>
                    <a:pt x="2733" y="1612"/>
                  </a:lnTo>
                  <a:lnTo>
                    <a:pt x="2697" y="1628"/>
                  </a:lnTo>
                  <a:lnTo>
                    <a:pt x="2664" y="1646"/>
                  </a:lnTo>
                  <a:lnTo>
                    <a:pt x="2632" y="1664"/>
                  </a:lnTo>
                  <a:lnTo>
                    <a:pt x="2601" y="1684"/>
                  </a:lnTo>
                  <a:lnTo>
                    <a:pt x="2574" y="1705"/>
                  </a:lnTo>
                  <a:lnTo>
                    <a:pt x="2550" y="1727"/>
                  </a:lnTo>
                  <a:lnTo>
                    <a:pt x="2528" y="1750"/>
                  </a:lnTo>
                  <a:lnTo>
                    <a:pt x="2509" y="1775"/>
                  </a:lnTo>
                  <a:lnTo>
                    <a:pt x="2491" y="1800"/>
                  </a:lnTo>
                  <a:lnTo>
                    <a:pt x="2478" y="1827"/>
                  </a:lnTo>
                  <a:lnTo>
                    <a:pt x="2467" y="1854"/>
                  </a:lnTo>
                  <a:lnTo>
                    <a:pt x="2458" y="1878"/>
                  </a:lnTo>
                  <a:lnTo>
                    <a:pt x="2451" y="1902"/>
                  </a:lnTo>
                  <a:lnTo>
                    <a:pt x="2446" y="1924"/>
                  </a:lnTo>
                  <a:lnTo>
                    <a:pt x="2443" y="1946"/>
                  </a:lnTo>
                  <a:lnTo>
                    <a:pt x="2441" y="1968"/>
                  </a:lnTo>
                  <a:lnTo>
                    <a:pt x="2441" y="1988"/>
                  </a:lnTo>
                  <a:lnTo>
                    <a:pt x="2443" y="2008"/>
                  </a:lnTo>
                  <a:lnTo>
                    <a:pt x="2447" y="2027"/>
                  </a:lnTo>
                  <a:lnTo>
                    <a:pt x="2452" y="2046"/>
                  </a:lnTo>
                  <a:lnTo>
                    <a:pt x="2459" y="2065"/>
                  </a:lnTo>
                  <a:lnTo>
                    <a:pt x="2468" y="2084"/>
                  </a:lnTo>
                  <a:lnTo>
                    <a:pt x="2478" y="2102"/>
                  </a:lnTo>
                  <a:lnTo>
                    <a:pt x="2489" y="2120"/>
                  </a:lnTo>
                  <a:lnTo>
                    <a:pt x="2502" y="2138"/>
                  </a:lnTo>
                  <a:lnTo>
                    <a:pt x="2518" y="2157"/>
                  </a:lnTo>
                  <a:lnTo>
                    <a:pt x="2533" y="2175"/>
                  </a:lnTo>
                  <a:lnTo>
                    <a:pt x="2550" y="2195"/>
                  </a:lnTo>
                  <a:lnTo>
                    <a:pt x="2569" y="2215"/>
                  </a:lnTo>
                  <a:lnTo>
                    <a:pt x="2588" y="2234"/>
                  </a:lnTo>
                  <a:lnTo>
                    <a:pt x="2632" y="2276"/>
                  </a:lnTo>
                  <a:lnTo>
                    <a:pt x="2679" y="2322"/>
                  </a:lnTo>
                  <a:lnTo>
                    <a:pt x="2731" y="2372"/>
                  </a:lnTo>
                  <a:lnTo>
                    <a:pt x="2787" y="2426"/>
                  </a:lnTo>
                  <a:lnTo>
                    <a:pt x="2846" y="2486"/>
                  </a:lnTo>
                  <a:lnTo>
                    <a:pt x="2909" y="2553"/>
                  </a:lnTo>
                  <a:lnTo>
                    <a:pt x="2976" y="2626"/>
                  </a:lnTo>
                  <a:lnTo>
                    <a:pt x="3050" y="2709"/>
                  </a:lnTo>
                  <a:lnTo>
                    <a:pt x="3089" y="2753"/>
                  </a:lnTo>
                  <a:lnTo>
                    <a:pt x="3128" y="2800"/>
                  </a:lnTo>
                  <a:lnTo>
                    <a:pt x="3169" y="2848"/>
                  </a:lnTo>
                  <a:lnTo>
                    <a:pt x="3210" y="2897"/>
                  </a:lnTo>
                  <a:lnTo>
                    <a:pt x="3250" y="2948"/>
                  </a:lnTo>
                  <a:lnTo>
                    <a:pt x="3291" y="2999"/>
                  </a:lnTo>
                  <a:lnTo>
                    <a:pt x="3330" y="3052"/>
                  </a:lnTo>
                  <a:lnTo>
                    <a:pt x="3368" y="3104"/>
                  </a:lnTo>
                  <a:lnTo>
                    <a:pt x="3406" y="3158"/>
                  </a:lnTo>
                  <a:lnTo>
                    <a:pt x="3441" y="3211"/>
                  </a:lnTo>
                  <a:lnTo>
                    <a:pt x="3475" y="3264"/>
                  </a:lnTo>
                  <a:lnTo>
                    <a:pt x="3506" y="3318"/>
                  </a:lnTo>
                  <a:lnTo>
                    <a:pt x="3536" y="3370"/>
                  </a:lnTo>
                  <a:lnTo>
                    <a:pt x="3562" y="3423"/>
                  </a:lnTo>
                  <a:lnTo>
                    <a:pt x="3585" y="3474"/>
                  </a:lnTo>
                  <a:lnTo>
                    <a:pt x="3604" y="3525"/>
                  </a:lnTo>
                  <a:lnTo>
                    <a:pt x="3620" y="3574"/>
                  </a:lnTo>
                  <a:lnTo>
                    <a:pt x="3631" y="3621"/>
                  </a:lnTo>
                  <a:lnTo>
                    <a:pt x="3640" y="3667"/>
                  </a:lnTo>
                  <a:lnTo>
                    <a:pt x="3642" y="3711"/>
                  </a:lnTo>
                  <a:lnTo>
                    <a:pt x="3640" y="3754"/>
                  </a:lnTo>
                  <a:lnTo>
                    <a:pt x="3632" y="3793"/>
                  </a:lnTo>
                  <a:lnTo>
                    <a:pt x="3618" y="3830"/>
                  </a:lnTo>
                  <a:lnTo>
                    <a:pt x="3599" y="3866"/>
                  </a:lnTo>
                  <a:lnTo>
                    <a:pt x="3574" y="3897"/>
                  </a:lnTo>
                  <a:lnTo>
                    <a:pt x="3543" y="3926"/>
                  </a:lnTo>
                  <a:lnTo>
                    <a:pt x="3503" y="3951"/>
                  </a:lnTo>
                  <a:lnTo>
                    <a:pt x="3458" y="3973"/>
                  </a:lnTo>
                  <a:lnTo>
                    <a:pt x="3409" y="3992"/>
                  </a:lnTo>
                  <a:lnTo>
                    <a:pt x="3362" y="4007"/>
                  </a:lnTo>
                  <a:lnTo>
                    <a:pt x="3319" y="4019"/>
                  </a:lnTo>
                  <a:lnTo>
                    <a:pt x="3279" y="4028"/>
                  </a:lnTo>
                  <a:lnTo>
                    <a:pt x="3240" y="4034"/>
                  </a:lnTo>
                  <a:lnTo>
                    <a:pt x="3205" y="4037"/>
                  </a:lnTo>
                  <a:lnTo>
                    <a:pt x="3172" y="4037"/>
                  </a:lnTo>
                  <a:lnTo>
                    <a:pt x="3141" y="4035"/>
                  </a:lnTo>
                  <a:lnTo>
                    <a:pt x="3111" y="4031"/>
                  </a:lnTo>
                  <a:lnTo>
                    <a:pt x="3084" y="4025"/>
                  </a:lnTo>
                  <a:lnTo>
                    <a:pt x="3058" y="4017"/>
                  </a:lnTo>
                  <a:lnTo>
                    <a:pt x="3034" y="4007"/>
                  </a:lnTo>
                  <a:lnTo>
                    <a:pt x="3011" y="3996"/>
                  </a:lnTo>
                  <a:lnTo>
                    <a:pt x="2988" y="3983"/>
                  </a:lnTo>
                  <a:lnTo>
                    <a:pt x="2968" y="3969"/>
                  </a:lnTo>
                  <a:lnTo>
                    <a:pt x="2948" y="3954"/>
                  </a:lnTo>
                  <a:lnTo>
                    <a:pt x="2929" y="3938"/>
                  </a:lnTo>
                  <a:lnTo>
                    <a:pt x="2911" y="3921"/>
                  </a:lnTo>
                  <a:lnTo>
                    <a:pt x="2894" y="3904"/>
                  </a:lnTo>
                  <a:lnTo>
                    <a:pt x="2876" y="3886"/>
                  </a:lnTo>
                  <a:lnTo>
                    <a:pt x="2842" y="3849"/>
                  </a:lnTo>
                  <a:lnTo>
                    <a:pt x="2808" y="3813"/>
                  </a:lnTo>
                  <a:lnTo>
                    <a:pt x="2790" y="3796"/>
                  </a:lnTo>
                  <a:lnTo>
                    <a:pt x="2772" y="3779"/>
                  </a:lnTo>
                  <a:lnTo>
                    <a:pt x="2752" y="3763"/>
                  </a:lnTo>
                  <a:lnTo>
                    <a:pt x="2733" y="3748"/>
                  </a:lnTo>
                  <a:lnTo>
                    <a:pt x="2713" y="3733"/>
                  </a:lnTo>
                  <a:lnTo>
                    <a:pt x="2691" y="3720"/>
                  </a:lnTo>
                  <a:lnTo>
                    <a:pt x="2669" y="3709"/>
                  </a:lnTo>
                  <a:lnTo>
                    <a:pt x="2645" y="3699"/>
                  </a:lnTo>
                  <a:lnTo>
                    <a:pt x="2618" y="3689"/>
                  </a:lnTo>
                  <a:lnTo>
                    <a:pt x="2590" y="3681"/>
                  </a:lnTo>
                  <a:lnTo>
                    <a:pt x="2559" y="3674"/>
                  </a:lnTo>
                  <a:lnTo>
                    <a:pt x="2526" y="3667"/>
                  </a:lnTo>
                  <a:lnTo>
                    <a:pt x="2490" y="3662"/>
                  </a:lnTo>
                  <a:lnTo>
                    <a:pt x="2453" y="3657"/>
                  </a:lnTo>
                  <a:lnTo>
                    <a:pt x="2414" y="3654"/>
                  </a:lnTo>
                  <a:lnTo>
                    <a:pt x="2373" y="3652"/>
                  </a:lnTo>
                  <a:lnTo>
                    <a:pt x="2331" y="3651"/>
                  </a:lnTo>
                  <a:lnTo>
                    <a:pt x="2287" y="3651"/>
                  </a:lnTo>
                  <a:lnTo>
                    <a:pt x="2242" y="3652"/>
                  </a:lnTo>
                  <a:lnTo>
                    <a:pt x="2196" y="3654"/>
                  </a:lnTo>
                  <a:lnTo>
                    <a:pt x="2149" y="3657"/>
                  </a:lnTo>
                  <a:lnTo>
                    <a:pt x="2100" y="3662"/>
                  </a:lnTo>
                  <a:lnTo>
                    <a:pt x="2051" y="3667"/>
                  </a:lnTo>
                  <a:lnTo>
                    <a:pt x="2002" y="3673"/>
                  </a:lnTo>
                  <a:lnTo>
                    <a:pt x="1952" y="3681"/>
                  </a:lnTo>
                  <a:lnTo>
                    <a:pt x="1902" y="3690"/>
                  </a:lnTo>
                  <a:lnTo>
                    <a:pt x="1850" y="3700"/>
                  </a:lnTo>
                  <a:lnTo>
                    <a:pt x="1800" y="3711"/>
                  </a:lnTo>
                  <a:lnTo>
                    <a:pt x="1750" y="3723"/>
                  </a:lnTo>
                  <a:lnTo>
                    <a:pt x="1699" y="3736"/>
                  </a:lnTo>
                  <a:lnTo>
                    <a:pt x="1649" y="3751"/>
                  </a:lnTo>
                  <a:lnTo>
                    <a:pt x="1599" y="3767"/>
                  </a:lnTo>
                  <a:lnTo>
                    <a:pt x="1550" y="3784"/>
                  </a:lnTo>
                  <a:lnTo>
                    <a:pt x="1502" y="3801"/>
                  </a:lnTo>
                  <a:lnTo>
                    <a:pt x="1454" y="3820"/>
                  </a:lnTo>
                  <a:lnTo>
                    <a:pt x="1408" y="3841"/>
                  </a:lnTo>
                  <a:lnTo>
                    <a:pt x="1362" y="3862"/>
                  </a:lnTo>
                  <a:lnTo>
                    <a:pt x="1318" y="3885"/>
                  </a:lnTo>
                  <a:lnTo>
                    <a:pt x="1275" y="3909"/>
                  </a:lnTo>
                  <a:lnTo>
                    <a:pt x="1234" y="3934"/>
                  </a:lnTo>
                  <a:lnTo>
                    <a:pt x="1153" y="3983"/>
                  </a:lnTo>
                  <a:lnTo>
                    <a:pt x="1074" y="4032"/>
                  </a:lnTo>
                  <a:lnTo>
                    <a:pt x="1037" y="4056"/>
                  </a:lnTo>
                  <a:lnTo>
                    <a:pt x="1000" y="4080"/>
                  </a:lnTo>
                  <a:lnTo>
                    <a:pt x="964" y="4105"/>
                  </a:lnTo>
                  <a:lnTo>
                    <a:pt x="931" y="4129"/>
                  </a:lnTo>
                  <a:lnTo>
                    <a:pt x="899" y="4153"/>
                  </a:lnTo>
                  <a:lnTo>
                    <a:pt x="869" y="4176"/>
                  </a:lnTo>
                  <a:lnTo>
                    <a:pt x="839" y="4200"/>
                  </a:lnTo>
                  <a:lnTo>
                    <a:pt x="812" y="4225"/>
                  </a:lnTo>
                  <a:lnTo>
                    <a:pt x="788" y="4248"/>
                  </a:lnTo>
                  <a:lnTo>
                    <a:pt x="765" y="4272"/>
                  </a:lnTo>
                  <a:lnTo>
                    <a:pt x="745" y="4296"/>
                  </a:lnTo>
                  <a:lnTo>
                    <a:pt x="727" y="4320"/>
                  </a:lnTo>
                  <a:lnTo>
                    <a:pt x="712" y="4345"/>
                  </a:lnTo>
                  <a:lnTo>
                    <a:pt x="699" y="4369"/>
                  </a:lnTo>
                  <a:lnTo>
                    <a:pt x="690" y="4393"/>
                  </a:lnTo>
                  <a:lnTo>
                    <a:pt x="683" y="4417"/>
                  </a:lnTo>
                  <a:lnTo>
                    <a:pt x="679" y="4442"/>
                  </a:lnTo>
                  <a:lnTo>
                    <a:pt x="679" y="4467"/>
                  </a:lnTo>
                  <a:lnTo>
                    <a:pt x="682" y="4492"/>
                  </a:lnTo>
                  <a:lnTo>
                    <a:pt x="688" y="4517"/>
                  </a:lnTo>
                  <a:lnTo>
                    <a:pt x="698" y="4542"/>
                  </a:lnTo>
                  <a:lnTo>
                    <a:pt x="712" y="4568"/>
                  </a:lnTo>
                  <a:lnTo>
                    <a:pt x="730" y="4595"/>
                  </a:lnTo>
                  <a:lnTo>
                    <a:pt x="752" y="4621"/>
                  </a:lnTo>
                  <a:lnTo>
                    <a:pt x="778" y="4647"/>
                  </a:lnTo>
                  <a:lnTo>
                    <a:pt x="808" y="4673"/>
                  </a:lnTo>
                  <a:lnTo>
                    <a:pt x="842" y="4700"/>
                  </a:lnTo>
                  <a:lnTo>
                    <a:pt x="882" y="4728"/>
                  </a:lnTo>
                  <a:lnTo>
                    <a:pt x="922" y="4755"/>
                  </a:lnTo>
                  <a:lnTo>
                    <a:pt x="964" y="4782"/>
                  </a:lnTo>
                  <a:lnTo>
                    <a:pt x="1007" y="4809"/>
                  </a:lnTo>
                  <a:lnTo>
                    <a:pt x="1049" y="4836"/>
                  </a:lnTo>
                  <a:lnTo>
                    <a:pt x="1093" y="4862"/>
                  </a:lnTo>
                  <a:lnTo>
                    <a:pt x="1138" y="4887"/>
                  </a:lnTo>
                  <a:lnTo>
                    <a:pt x="1184" y="4912"/>
                  </a:lnTo>
                  <a:lnTo>
                    <a:pt x="1230" y="4935"/>
                  </a:lnTo>
                  <a:lnTo>
                    <a:pt x="1277" y="4960"/>
                  </a:lnTo>
                  <a:lnTo>
                    <a:pt x="1325" y="4982"/>
                  </a:lnTo>
                  <a:lnTo>
                    <a:pt x="1374" y="5004"/>
                  </a:lnTo>
                  <a:lnTo>
                    <a:pt x="1423" y="5024"/>
                  </a:lnTo>
                  <a:lnTo>
                    <a:pt x="1472" y="5044"/>
                  </a:lnTo>
                  <a:lnTo>
                    <a:pt x="1524" y="5064"/>
                  </a:lnTo>
                  <a:lnTo>
                    <a:pt x="1575" y="5082"/>
                  </a:lnTo>
                  <a:lnTo>
                    <a:pt x="1628" y="5098"/>
                  </a:lnTo>
                  <a:lnTo>
                    <a:pt x="1680" y="5113"/>
                  </a:lnTo>
                  <a:lnTo>
                    <a:pt x="1733" y="5128"/>
                  </a:lnTo>
                  <a:lnTo>
                    <a:pt x="1788" y="5140"/>
                  </a:lnTo>
                  <a:lnTo>
                    <a:pt x="1843" y="5152"/>
                  </a:lnTo>
                  <a:lnTo>
                    <a:pt x="1899" y="5162"/>
                  </a:lnTo>
                  <a:lnTo>
                    <a:pt x="1955" y="5170"/>
                  </a:lnTo>
                  <a:lnTo>
                    <a:pt x="2013" y="5177"/>
                  </a:lnTo>
                  <a:lnTo>
                    <a:pt x="2070" y="5183"/>
                  </a:lnTo>
                  <a:lnTo>
                    <a:pt x="2129" y="5187"/>
                  </a:lnTo>
                  <a:lnTo>
                    <a:pt x="2188" y="5189"/>
                  </a:lnTo>
                  <a:lnTo>
                    <a:pt x="2247" y="5189"/>
                  </a:lnTo>
                  <a:lnTo>
                    <a:pt x="2308" y="5187"/>
                  </a:lnTo>
                  <a:lnTo>
                    <a:pt x="2369" y="5183"/>
                  </a:lnTo>
                  <a:lnTo>
                    <a:pt x="2431" y="5176"/>
                  </a:lnTo>
                  <a:lnTo>
                    <a:pt x="2493" y="5169"/>
                  </a:lnTo>
                  <a:lnTo>
                    <a:pt x="2557" y="5159"/>
                  </a:lnTo>
                  <a:lnTo>
                    <a:pt x="2567" y="5156"/>
                  </a:lnTo>
                  <a:lnTo>
                    <a:pt x="2596" y="5147"/>
                  </a:lnTo>
                  <a:lnTo>
                    <a:pt x="2643" y="5135"/>
                  </a:lnTo>
                  <a:lnTo>
                    <a:pt x="2703" y="5119"/>
                  </a:lnTo>
                  <a:lnTo>
                    <a:pt x="2774" y="5101"/>
                  </a:lnTo>
                  <a:lnTo>
                    <a:pt x="2853" y="5082"/>
                  </a:lnTo>
                  <a:lnTo>
                    <a:pt x="2939" y="5063"/>
                  </a:lnTo>
                  <a:lnTo>
                    <a:pt x="3028" y="5044"/>
                  </a:lnTo>
                  <a:lnTo>
                    <a:pt x="3073" y="5035"/>
                  </a:lnTo>
                  <a:lnTo>
                    <a:pt x="3117" y="5028"/>
                  </a:lnTo>
                  <a:lnTo>
                    <a:pt x="3162" y="5021"/>
                  </a:lnTo>
                  <a:lnTo>
                    <a:pt x="3205" y="5015"/>
                  </a:lnTo>
                  <a:lnTo>
                    <a:pt x="3246" y="5010"/>
                  </a:lnTo>
                  <a:lnTo>
                    <a:pt x="3287" y="5006"/>
                  </a:lnTo>
                  <a:lnTo>
                    <a:pt x="3326" y="5003"/>
                  </a:lnTo>
                  <a:lnTo>
                    <a:pt x="3362" y="5002"/>
                  </a:lnTo>
                  <a:lnTo>
                    <a:pt x="3397" y="5003"/>
                  </a:lnTo>
                  <a:lnTo>
                    <a:pt x="3428" y="5005"/>
                  </a:lnTo>
                  <a:lnTo>
                    <a:pt x="3455" y="5009"/>
                  </a:lnTo>
                  <a:lnTo>
                    <a:pt x="3480" y="5015"/>
                  </a:lnTo>
                  <a:lnTo>
                    <a:pt x="3500" y="5023"/>
                  </a:lnTo>
                  <a:lnTo>
                    <a:pt x="3517" y="5033"/>
                  </a:lnTo>
                  <a:lnTo>
                    <a:pt x="3529" y="5046"/>
                  </a:lnTo>
                  <a:lnTo>
                    <a:pt x="3536" y="5062"/>
                  </a:lnTo>
                  <a:lnTo>
                    <a:pt x="3540" y="5077"/>
                  </a:lnTo>
                  <a:lnTo>
                    <a:pt x="3541" y="5092"/>
                  </a:lnTo>
                  <a:lnTo>
                    <a:pt x="3540" y="5106"/>
                  </a:lnTo>
                  <a:lnTo>
                    <a:pt x="3537" y="5118"/>
                  </a:lnTo>
                  <a:lnTo>
                    <a:pt x="3532" y="5130"/>
                  </a:lnTo>
                  <a:lnTo>
                    <a:pt x="3526" y="5141"/>
                  </a:lnTo>
                  <a:lnTo>
                    <a:pt x="3518" y="5151"/>
                  </a:lnTo>
                  <a:lnTo>
                    <a:pt x="3508" y="5161"/>
                  </a:lnTo>
                  <a:lnTo>
                    <a:pt x="3498" y="5170"/>
                  </a:lnTo>
                  <a:lnTo>
                    <a:pt x="3486" y="5178"/>
                  </a:lnTo>
                  <a:lnTo>
                    <a:pt x="3474" y="5187"/>
                  </a:lnTo>
                  <a:lnTo>
                    <a:pt x="3461" y="5195"/>
                  </a:lnTo>
                  <a:lnTo>
                    <a:pt x="3433" y="5209"/>
                  </a:lnTo>
                  <a:lnTo>
                    <a:pt x="3404" y="5223"/>
                  </a:lnTo>
                  <a:lnTo>
                    <a:pt x="3374" y="5237"/>
                  </a:lnTo>
                  <a:lnTo>
                    <a:pt x="3346" y="5251"/>
                  </a:lnTo>
                  <a:lnTo>
                    <a:pt x="3333" y="5259"/>
                  </a:lnTo>
                  <a:lnTo>
                    <a:pt x="3321" y="5267"/>
                  </a:lnTo>
                  <a:lnTo>
                    <a:pt x="3310" y="5275"/>
                  </a:lnTo>
                  <a:lnTo>
                    <a:pt x="3299" y="5284"/>
                  </a:lnTo>
                  <a:lnTo>
                    <a:pt x="3290" y="5294"/>
                  </a:lnTo>
                  <a:lnTo>
                    <a:pt x="3282" y="5305"/>
                  </a:lnTo>
                  <a:lnTo>
                    <a:pt x="3276" y="5316"/>
                  </a:lnTo>
                  <a:lnTo>
                    <a:pt x="3271" y="5328"/>
                  </a:lnTo>
                  <a:lnTo>
                    <a:pt x="3268" y="5340"/>
                  </a:lnTo>
                  <a:lnTo>
                    <a:pt x="3267" y="5354"/>
                  </a:lnTo>
                  <a:lnTo>
                    <a:pt x="3269" y="5369"/>
                  </a:lnTo>
                  <a:lnTo>
                    <a:pt x="3272" y="5384"/>
                  </a:lnTo>
                  <a:lnTo>
                    <a:pt x="3276" y="5401"/>
                  </a:lnTo>
                  <a:lnTo>
                    <a:pt x="3281" y="5417"/>
                  </a:lnTo>
                  <a:lnTo>
                    <a:pt x="3288" y="5434"/>
                  </a:lnTo>
                  <a:lnTo>
                    <a:pt x="3294" y="5450"/>
                  </a:lnTo>
                  <a:lnTo>
                    <a:pt x="3310" y="5481"/>
                  </a:lnTo>
                  <a:lnTo>
                    <a:pt x="3326" y="5511"/>
                  </a:lnTo>
                  <a:lnTo>
                    <a:pt x="3341" y="5542"/>
                  </a:lnTo>
                  <a:lnTo>
                    <a:pt x="3356" y="5572"/>
                  </a:lnTo>
                  <a:lnTo>
                    <a:pt x="3362" y="5586"/>
                  </a:lnTo>
                  <a:lnTo>
                    <a:pt x="3367" y="5601"/>
                  </a:lnTo>
                  <a:lnTo>
                    <a:pt x="3371" y="5615"/>
                  </a:lnTo>
                  <a:lnTo>
                    <a:pt x="3374" y="5629"/>
                  </a:lnTo>
                  <a:lnTo>
                    <a:pt x="3376" y="5643"/>
                  </a:lnTo>
                  <a:lnTo>
                    <a:pt x="3376" y="5657"/>
                  </a:lnTo>
                  <a:lnTo>
                    <a:pt x="3374" y="5672"/>
                  </a:lnTo>
                  <a:lnTo>
                    <a:pt x="3370" y="5686"/>
                  </a:lnTo>
                  <a:lnTo>
                    <a:pt x="3365" y="5700"/>
                  </a:lnTo>
                  <a:lnTo>
                    <a:pt x="3357" y="5713"/>
                  </a:lnTo>
                  <a:lnTo>
                    <a:pt x="3347" y="5727"/>
                  </a:lnTo>
                  <a:lnTo>
                    <a:pt x="3335" y="5740"/>
                  </a:lnTo>
                  <a:lnTo>
                    <a:pt x="3320" y="5753"/>
                  </a:lnTo>
                  <a:lnTo>
                    <a:pt x="3302" y="5766"/>
                  </a:lnTo>
                  <a:lnTo>
                    <a:pt x="3281" y="5781"/>
                  </a:lnTo>
                  <a:lnTo>
                    <a:pt x="3256" y="5794"/>
                  </a:lnTo>
                  <a:lnTo>
                    <a:pt x="3228" y="5807"/>
                  </a:lnTo>
                  <a:lnTo>
                    <a:pt x="3198" y="5819"/>
                  </a:lnTo>
                  <a:lnTo>
                    <a:pt x="3163" y="5832"/>
                  </a:lnTo>
                  <a:lnTo>
                    <a:pt x="3124" y="5845"/>
                  </a:lnTo>
                  <a:lnTo>
                    <a:pt x="3082" y="5859"/>
                  </a:lnTo>
                  <a:lnTo>
                    <a:pt x="3037" y="5871"/>
                  </a:lnTo>
                  <a:lnTo>
                    <a:pt x="2988" y="5884"/>
                  </a:lnTo>
                  <a:lnTo>
                    <a:pt x="2938" y="5896"/>
                  </a:lnTo>
                  <a:lnTo>
                    <a:pt x="2831" y="5921"/>
                  </a:lnTo>
                  <a:lnTo>
                    <a:pt x="2719" y="5944"/>
                  </a:lnTo>
                  <a:lnTo>
                    <a:pt x="2603" y="5968"/>
                  </a:lnTo>
                  <a:lnTo>
                    <a:pt x="2485" y="5992"/>
                  </a:lnTo>
                  <a:lnTo>
                    <a:pt x="2426" y="6005"/>
                  </a:lnTo>
                  <a:lnTo>
                    <a:pt x="2367" y="6018"/>
                  </a:lnTo>
                  <a:lnTo>
                    <a:pt x="2310" y="6033"/>
                  </a:lnTo>
                  <a:lnTo>
                    <a:pt x="2253" y="6047"/>
                  </a:lnTo>
                  <a:lnTo>
                    <a:pt x="2197" y="6063"/>
                  </a:lnTo>
                  <a:lnTo>
                    <a:pt x="2143" y="6079"/>
                  </a:lnTo>
                  <a:lnTo>
                    <a:pt x="2089" y="6096"/>
                  </a:lnTo>
                  <a:lnTo>
                    <a:pt x="2039" y="6113"/>
                  </a:lnTo>
                  <a:lnTo>
                    <a:pt x="1990" y="6132"/>
                  </a:lnTo>
                  <a:lnTo>
                    <a:pt x="1944" y="6153"/>
                  </a:lnTo>
                  <a:lnTo>
                    <a:pt x="1901" y="6174"/>
                  </a:lnTo>
                  <a:lnTo>
                    <a:pt x="1860" y="6197"/>
                  </a:lnTo>
                  <a:lnTo>
                    <a:pt x="1823" y="6220"/>
                  </a:lnTo>
                  <a:lnTo>
                    <a:pt x="1789" y="6246"/>
                  </a:lnTo>
                  <a:lnTo>
                    <a:pt x="1759" y="6273"/>
                  </a:lnTo>
                  <a:lnTo>
                    <a:pt x="1733" y="6301"/>
                  </a:lnTo>
                  <a:lnTo>
                    <a:pt x="1711" y="6331"/>
                  </a:lnTo>
                  <a:lnTo>
                    <a:pt x="1694" y="6363"/>
                  </a:lnTo>
                  <a:lnTo>
                    <a:pt x="1682" y="6398"/>
                  </a:lnTo>
                  <a:lnTo>
                    <a:pt x="1675" y="6433"/>
                  </a:lnTo>
                  <a:lnTo>
                    <a:pt x="1677" y="6433"/>
                  </a:lnTo>
                  <a:lnTo>
                    <a:pt x="1682" y="6432"/>
                  </a:lnTo>
                  <a:lnTo>
                    <a:pt x="1688" y="6432"/>
                  </a:lnTo>
                  <a:lnTo>
                    <a:pt x="1694" y="6432"/>
                  </a:lnTo>
                  <a:lnTo>
                    <a:pt x="1695" y="6433"/>
                  </a:lnTo>
                  <a:lnTo>
                    <a:pt x="1696" y="6434"/>
                  </a:lnTo>
                  <a:lnTo>
                    <a:pt x="1696" y="6435"/>
                  </a:lnTo>
                  <a:lnTo>
                    <a:pt x="1695" y="6436"/>
                  </a:lnTo>
                  <a:lnTo>
                    <a:pt x="1687" y="6441"/>
                  </a:lnTo>
                  <a:lnTo>
                    <a:pt x="1671" y="6448"/>
                  </a:lnTo>
                  <a:lnTo>
                    <a:pt x="1646" y="6457"/>
                  </a:lnTo>
                  <a:lnTo>
                    <a:pt x="1607" y="6470"/>
                  </a:lnTo>
                  <a:lnTo>
                    <a:pt x="1556" y="6487"/>
                  </a:lnTo>
                  <a:lnTo>
                    <a:pt x="1488" y="6508"/>
                  </a:lnTo>
                  <a:lnTo>
                    <a:pt x="1405" y="6533"/>
                  </a:lnTo>
                  <a:lnTo>
                    <a:pt x="1301" y="6563"/>
                  </a:lnTo>
                  <a:lnTo>
                    <a:pt x="1176" y="6597"/>
                  </a:lnTo>
                  <a:lnTo>
                    <a:pt x="1029" y="6639"/>
                  </a:lnTo>
                  <a:lnTo>
                    <a:pt x="875" y="6682"/>
                  </a:lnTo>
                  <a:lnTo>
                    <a:pt x="734" y="6721"/>
                  </a:lnTo>
                  <a:lnTo>
                    <a:pt x="669" y="6742"/>
                  </a:lnTo>
                  <a:lnTo>
                    <a:pt x="607" y="6760"/>
                  </a:lnTo>
                  <a:lnTo>
                    <a:pt x="548" y="6779"/>
                  </a:lnTo>
                  <a:lnTo>
                    <a:pt x="493" y="6797"/>
                  </a:lnTo>
                  <a:lnTo>
                    <a:pt x="440" y="6815"/>
                  </a:lnTo>
                  <a:lnTo>
                    <a:pt x="392" y="6832"/>
                  </a:lnTo>
                  <a:lnTo>
                    <a:pt x="345" y="6850"/>
                  </a:lnTo>
                  <a:lnTo>
                    <a:pt x="304" y="6868"/>
                  </a:lnTo>
                  <a:lnTo>
                    <a:pt x="265" y="6886"/>
                  </a:lnTo>
                  <a:lnTo>
                    <a:pt x="228" y="6903"/>
                  </a:lnTo>
                  <a:lnTo>
                    <a:pt x="196" y="6921"/>
                  </a:lnTo>
                  <a:lnTo>
                    <a:pt x="168" y="6939"/>
                  </a:lnTo>
                  <a:lnTo>
                    <a:pt x="142" y="6957"/>
                  </a:lnTo>
                  <a:lnTo>
                    <a:pt x="120" y="6975"/>
                  </a:lnTo>
                  <a:lnTo>
                    <a:pt x="100" y="6995"/>
                  </a:lnTo>
                  <a:lnTo>
                    <a:pt x="85" y="7015"/>
                  </a:lnTo>
                  <a:lnTo>
                    <a:pt x="73" y="7034"/>
                  </a:lnTo>
                  <a:lnTo>
                    <a:pt x="64" y="7055"/>
                  </a:lnTo>
                  <a:lnTo>
                    <a:pt x="59" y="7076"/>
                  </a:lnTo>
                  <a:lnTo>
                    <a:pt x="57" y="7098"/>
                  </a:lnTo>
                  <a:lnTo>
                    <a:pt x="59" y="7121"/>
                  </a:lnTo>
                  <a:lnTo>
                    <a:pt x="63" y="7144"/>
                  </a:lnTo>
                  <a:lnTo>
                    <a:pt x="72" y="7168"/>
                  </a:lnTo>
                  <a:lnTo>
                    <a:pt x="84" y="7193"/>
                  </a:lnTo>
                  <a:lnTo>
                    <a:pt x="99" y="7220"/>
                  </a:lnTo>
                  <a:lnTo>
                    <a:pt x="119" y="7247"/>
                  </a:lnTo>
                  <a:lnTo>
                    <a:pt x="141" y="7276"/>
                  </a:lnTo>
                  <a:lnTo>
                    <a:pt x="166" y="7305"/>
                  </a:lnTo>
                  <a:lnTo>
                    <a:pt x="177" y="7311"/>
                  </a:lnTo>
                  <a:lnTo>
                    <a:pt x="209" y="7329"/>
                  </a:lnTo>
                  <a:lnTo>
                    <a:pt x="259" y="7356"/>
                  </a:lnTo>
                  <a:lnTo>
                    <a:pt x="324" y="7387"/>
                  </a:lnTo>
                  <a:lnTo>
                    <a:pt x="363" y="7405"/>
                  </a:lnTo>
                  <a:lnTo>
                    <a:pt x="403" y="7422"/>
                  </a:lnTo>
                  <a:lnTo>
                    <a:pt x="446" y="7440"/>
                  </a:lnTo>
                  <a:lnTo>
                    <a:pt x="493" y="7459"/>
                  </a:lnTo>
                  <a:lnTo>
                    <a:pt x="541" y="7476"/>
                  </a:lnTo>
                  <a:lnTo>
                    <a:pt x="591" y="7492"/>
                  </a:lnTo>
                  <a:lnTo>
                    <a:pt x="643" y="7507"/>
                  </a:lnTo>
                  <a:lnTo>
                    <a:pt x="695" y="7521"/>
                  </a:lnTo>
                  <a:lnTo>
                    <a:pt x="690" y="7526"/>
                  </a:lnTo>
                  <a:lnTo>
                    <a:pt x="677" y="7540"/>
                  </a:lnTo>
                  <a:lnTo>
                    <a:pt x="658" y="7563"/>
                  </a:lnTo>
                  <a:lnTo>
                    <a:pt x="633" y="7595"/>
                  </a:lnTo>
                  <a:lnTo>
                    <a:pt x="620" y="7613"/>
                  </a:lnTo>
                  <a:lnTo>
                    <a:pt x="606" y="7632"/>
                  </a:lnTo>
                  <a:lnTo>
                    <a:pt x="592" y="7653"/>
                  </a:lnTo>
                  <a:lnTo>
                    <a:pt x="578" y="7676"/>
                  </a:lnTo>
                  <a:lnTo>
                    <a:pt x="565" y="7700"/>
                  </a:lnTo>
                  <a:lnTo>
                    <a:pt x="552" y="7725"/>
                  </a:lnTo>
                  <a:lnTo>
                    <a:pt x="540" y="7751"/>
                  </a:lnTo>
                  <a:lnTo>
                    <a:pt x="529" y="7778"/>
                  </a:lnTo>
                  <a:lnTo>
                    <a:pt x="519" y="7806"/>
                  </a:lnTo>
                  <a:lnTo>
                    <a:pt x="511" y="7835"/>
                  </a:lnTo>
                  <a:lnTo>
                    <a:pt x="504" y="7864"/>
                  </a:lnTo>
                  <a:lnTo>
                    <a:pt x="500" y="7894"/>
                  </a:lnTo>
                  <a:lnTo>
                    <a:pt x="497" y="7924"/>
                  </a:lnTo>
                  <a:lnTo>
                    <a:pt x="497" y="7955"/>
                  </a:lnTo>
                  <a:lnTo>
                    <a:pt x="500" y="7986"/>
                  </a:lnTo>
                  <a:lnTo>
                    <a:pt x="506" y="8017"/>
                  </a:lnTo>
                  <a:lnTo>
                    <a:pt x="514" y="8048"/>
                  </a:lnTo>
                  <a:lnTo>
                    <a:pt x="526" y="8079"/>
                  </a:lnTo>
                  <a:lnTo>
                    <a:pt x="542" y="8110"/>
                  </a:lnTo>
                  <a:lnTo>
                    <a:pt x="562" y="8140"/>
                  </a:lnTo>
                  <a:lnTo>
                    <a:pt x="586" y="8169"/>
                  </a:lnTo>
                  <a:lnTo>
                    <a:pt x="615" y="8199"/>
                  </a:lnTo>
                  <a:lnTo>
                    <a:pt x="648" y="8228"/>
                  </a:lnTo>
                  <a:lnTo>
                    <a:pt x="685" y="8256"/>
                  </a:lnTo>
                  <a:lnTo>
                    <a:pt x="706" y="8257"/>
                  </a:lnTo>
                  <a:lnTo>
                    <a:pt x="764" y="8262"/>
                  </a:lnTo>
                  <a:lnTo>
                    <a:pt x="846" y="8268"/>
                  </a:lnTo>
                  <a:lnTo>
                    <a:pt x="947" y="8276"/>
                  </a:lnTo>
                  <a:lnTo>
                    <a:pt x="1057" y="8285"/>
                  </a:lnTo>
                  <a:lnTo>
                    <a:pt x="1165" y="8294"/>
                  </a:lnTo>
                  <a:lnTo>
                    <a:pt x="1263" y="8300"/>
                  </a:lnTo>
                  <a:lnTo>
                    <a:pt x="1342" y="8305"/>
                  </a:lnTo>
                  <a:lnTo>
                    <a:pt x="1347" y="8317"/>
                  </a:lnTo>
                  <a:lnTo>
                    <a:pt x="1361" y="8351"/>
                  </a:lnTo>
                  <a:lnTo>
                    <a:pt x="1369" y="8375"/>
                  </a:lnTo>
                  <a:lnTo>
                    <a:pt x="1378" y="8404"/>
                  </a:lnTo>
                  <a:lnTo>
                    <a:pt x="1386" y="8437"/>
                  </a:lnTo>
                  <a:lnTo>
                    <a:pt x="1394" y="8474"/>
                  </a:lnTo>
                  <a:lnTo>
                    <a:pt x="1396" y="8493"/>
                  </a:lnTo>
                  <a:lnTo>
                    <a:pt x="1399" y="8514"/>
                  </a:lnTo>
                  <a:lnTo>
                    <a:pt x="1401" y="8536"/>
                  </a:lnTo>
                  <a:lnTo>
                    <a:pt x="1402" y="8558"/>
                  </a:lnTo>
                  <a:lnTo>
                    <a:pt x="1403" y="8580"/>
                  </a:lnTo>
                  <a:lnTo>
                    <a:pt x="1403" y="8604"/>
                  </a:lnTo>
                  <a:lnTo>
                    <a:pt x="1402" y="8627"/>
                  </a:lnTo>
                  <a:lnTo>
                    <a:pt x="1400" y="8653"/>
                  </a:lnTo>
                  <a:lnTo>
                    <a:pt x="1397" y="8678"/>
                  </a:lnTo>
                  <a:lnTo>
                    <a:pt x="1393" y="8703"/>
                  </a:lnTo>
                  <a:lnTo>
                    <a:pt x="1388" y="8729"/>
                  </a:lnTo>
                  <a:lnTo>
                    <a:pt x="1382" y="8755"/>
                  </a:lnTo>
                  <a:lnTo>
                    <a:pt x="1374" y="8782"/>
                  </a:lnTo>
                  <a:lnTo>
                    <a:pt x="1364" y="8809"/>
                  </a:lnTo>
                  <a:lnTo>
                    <a:pt x="1353" y="8836"/>
                  </a:lnTo>
                  <a:lnTo>
                    <a:pt x="1342" y="8863"/>
                  </a:lnTo>
                  <a:lnTo>
                    <a:pt x="1343" y="8866"/>
                  </a:lnTo>
                  <a:lnTo>
                    <a:pt x="1349" y="8873"/>
                  </a:lnTo>
                  <a:lnTo>
                    <a:pt x="1359" y="8883"/>
                  </a:lnTo>
                  <a:lnTo>
                    <a:pt x="1374" y="8896"/>
                  </a:lnTo>
                  <a:lnTo>
                    <a:pt x="1382" y="8903"/>
                  </a:lnTo>
                  <a:lnTo>
                    <a:pt x="1392" y="8910"/>
                  </a:lnTo>
                  <a:lnTo>
                    <a:pt x="1402" y="8917"/>
                  </a:lnTo>
                  <a:lnTo>
                    <a:pt x="1414" y="8924"/>
                  </a:lnTo>
                  <a:lnTo>
                    <a:pt x="1427" y="8930"/>
                  </a:lnTo>
                  <a:lnTo>
                    <a:pt x="1442" y="8936"/>
                  </a:lnTo>
                  <a:lnTo>
                    <a:pt x="1457" y="8942"/>
                  </a:lnTo>
                  <a:lnTo>
                    <a:pt x="1474" y="8947"/>
                  </a:lnTo>
                  <a:lnTo>
                    <a:pt x="1492" y="8951"/>
                  </a:lnTo>
                  <a:lnTo>
                    <a:pt x="1512" y="8954"/>
                  </a:lnTo>
                  <a:lnTo>
                    <a:pt x="1532" y="8956"/>
                  </a:lnTo>
                  <a:lnTo>
                    <a:pt x="1554" y="8957"/>
                  </a:lnTo>
                  <a:lnTo>
                    <a:pt x="1577" y="8957"/>
                  </a:lnTo>
                  <a:lnTo>
                    <a:pt x="1602" y="8955"/>
                  </a:lnTo>
                  <a:lnTo>
                    <a:pt x="1629" y="8951"/>
                  </a:lnTo>
                  <a:lnTo>
                    <a:pt x="1656" y="8946"/>
                  </a:lnTo>
                  <a:lnTo>
                    <a:pt x="1685" y="8939"/>
                  </a:lnTo>
                  <a:lnTo>
                    <a:pt x="1715" y="8930"/>
                  </a:lnTo>
                  <a:lnTo>
                    <a:pt x="1747" y="8919"/>
                  </a:lnTo>
                  <a:lnTo>
                    <a:pt x="1781" y="8905"/>
                  </a:lnTo>
                  <a:lnTo>
                    <a:pt x="1815" y="8888"/>
                  </a:lnTo>
                  <a:lnTo>
                    <a:pt x="1852" y="8870"/>
                  </a:lnTo>
                  <a:lnTo>
                    <a:pt x="1890" y="8848"/>
                  </a:lnTo>
                  <a:lnTo>
                    <a:pt x="1930" y="8824"/>
                  </a:lnTo>
                  <a:lnTo>
                    <a:pt x="1944" y="8822"/>
                  </a:lnTo>
                  <a:lnTo>
                    <a:pt x="1980" y="8819"/>
                  </a:lnTo>
                  <a:lnTo>
                    <a:pt x="2004" y="8818"/>
                  </a:lnTo>
                  <a:lnTo>
                    <a:pt x="2030" y="8819"/>
                  </a:lnTo>
                  <a:lnTo>
                    <a:pt x="2043" y="8820"/>
                  </a:lnTo>
                  <a:lnTo>
                    <a:pt x="2056" y="8821"/>
                  </a:lnTo>
                  <a:lnTo>
                    <a:pt x="2069" y="8823"/>
                  </a:lnTo>
                  <a:lnTo>
                    <a:pt x="2082" y="8825"/>
                  </a:lnTo>
                  <a:lnTo>
                    <a:pt x="2095" y="8829"/>
                  </a:lnTo>
                  <a:lnTo>
                    <a:pt x="2108" y="8833"/>
                  </a:lnTo>
                  <a:lnTo>
                    <a:pt x="2119" y="8838"/>
                  </a:lnTo>
                  <a:lnTo>
                    <a:pt x="2131" y="8844"/>
                  </a:lnTo>
                  <a:lnTo>
                    <a:pt x="2141" y="8851"/>
                  </a:lnTo>
                  <a:lnTo>
                    <a:pt x="2151" y="8858"/>
                  </a:lnTo>
                  <a:lnTo>
                    <a:pt x="2159" y="8867"/>
                  </a:lnTo>
                  <a:lnTo>
                    <a:pt x="2165" y="8878"/>
                  </a:lnTo>
                  <a:lnTo>
                    <a:pt x="2170" y="8889"/>
                  </a:lnTo>
                  <a:lnTo>
                    <a:pt x="2174" y="8903"/>
                  </a:lnTo>
                  <a:lnTo>
                    <a:pt x="2176" y="8917"/>
                  </a:lnTo>
                  <a:lnTo>
                    <a:pt x="2176" y="8932"/>
                  </a:lnTo>
                  <a:lnTo>
                    <a:pt x="2174" y="8949"/>
                  </a:lnTo>
                  <a:lnTo>
                    <a:pt x="2170" y="8968"/>
                  </a:lnTo>
                  <a:lnTo>
                    <a:pt x="2164" y="8988"/>
                  </a:lnTo>
                  <a:lnTo>
                    <a:pt x="2155" y="9011"/>
                  </a:lnTo>
                  <a:lnTo>
                    <a:pt x="2155" y="9016"/>
                  </a:lnTo>
                  <a:lnTo>
                    <a:pt x="2156" y="9029"/>
                  </a:lnTo>
                  <a:lnTo>
                    <a:pt x="2159" y="9049"/>
                  </a:lnTo>
                  <a:lnTo>
                    <a:pt x="2164" y="9075"/>
                  </a:lnTo>
                  <a:lnTo>
                    <a:pt x="2169" y="9089"/>
                  </a:lnTo>
                  <a:lnTo>
                    <a:pt x="2174" y="9103"/>
                  </a:lnTo>
                  <a:lnTo>
                    <a:pt x="2180" y="9119"/>
                  </a:lnTo>
                  <a:lnTo>
                    <a:pt x="2188" y="9135"/>
                  </a:lnTo>
                  <a:lnTo>
                    <a:pt x="2198" y="9150"/>
                  </a:lnTo>
                  <a:lnTo>
                    <a:pt x="2209" y="9165"/>
                  </a:lnTo>
                  <a:lnTo>
                    <a:pt x="2222" y="9180"/>
                  </a:lnTo>
                  <a:lnTo>
                    <a:pt x="2237" y="9194"/>
                  </a:lnTo>
                  <a:lnTo>
                    <a:pt x="2254" y="9207"/>
                  </a:lnTo>
                  <a:lnTo>
                    <a:pt x="2273" y="9220"/>
                  </a:lnTo>
                  <a:lnTo>
                    <a:pt x="2294" y="9230"/>
                  </a:lnTo>
                  <a:lnTo>
                    <a:pt x="2318" y="9240"/>
                  </a:lnTo>
                  <a:lnTo>
                    <a:pt x="2344" y="9247"/>
                  </a:lnTo>
                  <a:lnTo>
                    <a:pt x="2373" y="9254"/>
                  </a:lnTo>
                  <a:lnTo>
                    <a:pt x="2405" y="9258"/>
                  </a:lnTo>
                  <a:lnTo>
                    <a:pt x="2440" y="9259"/>
                  </a:lnTo>
                  <a:lnTo>
                    <a:pt x="2478" y="9258"/>
                  </a:lnTo>
                  <a:lnTo>
                    <a:pt x="2519" y="9254"/>
                  </a:lnTo>
                  <a:lnTo>
                    <a:pt x="2563" y="9246"/>
                  </a:lnTo>
                  <a:lnTo>
                    <a:pt x="2611" y="9235"/>
                  </a:lnTo>
                  <a:lnTo>
                    <a:pt x="2663" y="9221"/>
                  </a:lnTo>
                  <a:lnTo>
                    <a:pt x="2718" y="9204"/>
                  </a:lnTo>
                  <a:lnTo>
                    <a:pt x="2778" y="9183"/>
                  </a:lnTo>
                  <a:lnTo>
                    <a:pt x="2840" y="9158"/>
                  </a:lnTo>
                  <a:lnTo>
                    <a:pt x="2850" y="9153"/>
                  </a:lnTo>
                  <a:lnTo>
                    <a:pt x="2875" y="9139"/>
                  </a:lnTo>
                  <a:lnTo>
                    <a:pt x="2916" y="9116"/>
                  </a:lnTo>
                  <a:lnTo>
                    <a:pt x="2967" y="9090"/>
                  </a:lnTo>
                  <a:lnTo>
                    <a:pt x="3028" y="9060"/>
                  </a:lnTo>
                  <a:lnTo>
                    <a:pt x="3094" y="9028"/>
                  </a:lnTo>
                  <a:lnTo>
                    <a:pt x="3165" y="8994"/>
                  </a:lnTo>
                  <a:lnTo>
                    <a:pt x="3236" y="8964"/>
                  </a:lnTo>
                  <a:lnTo>
                    <a:pt x="3272" y="8950"/>
                  </a:lnTo>
                  <a:lnTo>
                    <a:pt x="3306" y="8937"/>
                  </a:lnTo>
                  <a:lnTo>
                    <a:pt x="3340" y="8925"/>
                  </a:lnTo>
                  <a:lnTo>
                    <a:pt x="3372" y="8915"/>
                  </a:lnTo>
                  <a:lnTo>
                    <a:pt x="3403" y="8906"/>
                  </a:lnTo>
                  <a:lnTo>
                    <a:pt x="3431" y="8900"/>
                  </a:lnTo>
                  <a:lnTo>
                    <a:pt x="3457" y="8895"/>
                  </a:lnTo>
                  <a:lnTo>
                    <a:pt x="3481" y="8893"/>
                  </a:lnTo>
                  <a:lnTo>
                    <a:pt x="3501" y="8894"/>
                  </a:lnTo>
                  <a:lnTo>
                    <a:pt x="3520" y="8898"/>
                  </a:lnTo>
                  <a:lnTo>
                    <a:pt x="3533" y="8904"/>
                  </a:lnTo>
                  <a:lnTo>
                    <a:pt x="3543" y="8914"/>
                  </a:lnTo>
                  <a:lnTo>
                    <a:pt x="3548" y="8927"/>
                  </a:lnTo>
                  <a:lnTo>
                    <a:pt x="3549" y="8944"/>
                  </a:lnTo>
                  <a:lnTo>
                    <a:pt x="3545" y="8965"/>
                  </a:lnTo>
                  <a:lnTo>
                    <a:pt x="3536" y="8990"/>
                  </a:lnTo>
                  <a:lnTo>
                    <a:pt x="3532" y="8997"/>
                  </a:lnTo>
                  <a:lnTo>
                    <a:pt x="3520" y="9015"/>
                  </a:lnTo>
                  <a:lnTo>
                    <a:pt x="3499" y="9042"/>
                  </a:lnTo>
                  <a:lnTo>
                    <a:pt x="3473" y="9078"/>
                  </a:lnTo>
                  <a:lnTo>
                    <a:pt x="3439" y="9122"/>
                  </a:lnTo>
                  <a:lnTo>
                    <a:pt x="3400" y="9173"/>
                  </a:lnTo>
                  <a:lnTo>
                    <a:pt x="3354" y="9229"/>
                  </a:lnTo>
                  <a:lnTo>
                    <a:pt x="3304" y="9289"/>
                  </a:lnTo>
                  <a:lnTo>
                    <a:pt x="3276" y="9319"/>
                  </a:lnTo>
                  <a:lnTo>
                    <a:pt x="3247" y="9350"/>
                  </a:lnTo>
                  <a:lnTo>
                    <a:pt x="3218" y="9383"/>
                  </a:lnTo>
                  <a:lnTo>
                    <a:pt x="3188" y="9414"/>
                  </a:lnTo>
                  <a:lnTo>
                    <a:pt x="3157" y="9446"/>
                  </a:lnTo>
                  <a:lnTo>
                    <a:pt x="3124" y="9478"/>
                  </a:lnTo>
                  <a:lnTo>
                    <a:pt x="3091" y="9510"/>
                  </a:lnTo>
                  <a:lnTo>
                    <a:pt x="3057" y="9541"/>
                  </a:lnTo>
                  <a:lnTo>
                    <a:pt x="3022" y="9571"/>
                  </a:lnTo>
                  <a:lnTo>
                    <a:pt x="2986" y="9601"/>
                  </a:lnTo>
                  <a:lnTo>
                    <a:pt x="2950" y="9630"/>
                  </a:lnTo>
                  <a:lnTo>
                    <a:pt x="2914" y="9658"/>
                  </a:lnTo>
                  <a:lnTo>
                    <a:pt x="2876" y="9684"/>
                  </a:lnTo>
                  <a:lnTo>
                    <a:pt x="2839" y="9709"/>
                  </a:lnTo>
                  <a:lnTo>
                    <a:pt x="2801" y="9734"/>
                  </a:lnTo>
                  <a:lnTo>
                    <a:pt x="2763" y="9755"/>
                  </a:lnTo>
                  <a:lnTo>
                    <a:pt x="2748" y="9760"/>
                  </a:lnTo>
                  <a:lnTo>
                    <a:pt x="2707" y="9774"/>
                  </a:lnTo>
                  <a:lnTo>
                    <a:pt x="2643" y="9796"/>
                  </a:lnTo>
                  <a:lnTo>
                    <a:pt x="2558" y="9826"/>
                  </a:lnTo>
                  <a:lnTo>
                    <a:pt x="2455" y="9864"/>
                  </a:lnTo>
                  <a:lnTo>
                    <a:pt x="2337" y="9907"/>
                  </a:lnTo>
                  <a:lnTo>
                    <a:pt x="2208" y="9955"/>
                  </a:lnTo>
                  <a:lnTo>
                    <a:pt x="2069" y="10009"/>
                  </a:lnTo>
                  <a:lnTo>
                    <a:pt x="1924" y="10066"/>
                  </a:lnTo>
                  <a:lnTo>
                    <a:pt x="1776" y="10127"/>
                  </a:lnTo>
                  <a:lnTo>
                    <a:pt x="1701" y="10158"/>
                  </a:lnTo>
                  <a:lnTo>
                    <a:pt x="1628" y="10190"/>
                  </a:lnTo>
                  <a:lnTo>
                    <a:pt x="1554" y="10223"/>
                  </a:lnTo>
                  <a:lnTo>
                    <a:pt x="1481" y="10256"/>
                  </a:lnTo>
                  <a:lnTo>
                    <a:pt x="1410" y="10288"/>
                  </a:lnTo>
                  <a:lnTo>
                    <a:pt x="1340" y="10321"/>
                  </a:lnTo>
                  <a:lnTo>
                    <a:pt x="1273" y="10355"/>
                  </a:lnTo>
                  <a:lnTo>
                    <a:pt x="1208" y="10388"/>
                  </a:lnTo>
                  <a:lnTo>
                    <a:pt x="1146" y="10421"/>
                  </a:lnTo>
                  <a:lnTo>
                    <a:pt x="1086" y="10455"/>
                  </a:lnTo>
                  <a:lnTo>
                    <a:pt x="1031" y="10487"/>
                  </a:lnTo>
                  <a:lnTo>
                    <a:pt x="979" y="10519"/>
                  </a:lnTo>
                  <a:lnTo>
                    <a:pt x="971" y="10521"/>
                  </a:lnTo>
                  <a:lnTo>
                    <a:pt x="950" y="10525"/>
                  </a:lnTo>
                  <a:lnTo>
                    <a:pt x="915" y="10533"/>
                  </a:lnTo>
                  <a:lnTo>
                    <a:pt x="869" y="10543"/>
                  </a:lnTo>
                  <a:lnTo>
                    <a:pt x="813" y="10557"/>
                  </a:lnTo>
                  <a:lnTo>
                    <a:pt x="750" y="10575"/>
                  </a:lnTo>
                  <a:lnTo>
                    <a:pt x="679" y="10595"/>
                  </a:lnTo>
                  <a:lnTo>
                    <a:pt x="603" y="10618"/>
                  </a:lnTo>
                  <a:lnTo>
                    <a:pt x="564" y="10630"/>
                  </a:lnTo>
                  <a:lnTo>
                    <a:pt x="524" y="10644"/>
                  </a:lnTo>
                  <a:lnTo>
                    <a:pt x="483" y="10658"/>
                  </a:lnTo>
                  <a:lnTo>
                    <a:pt x="443" y="10673"/>
                  </a:lnTo>
                  <a:lnTo>
                    <a:pt x="402" y="10690"/>
                  </a:lnTo>
                  <a:lnTo>
                    <a:pt x="361" y="10707"/>
                  </a:lnTo>
                  <a:lnTo>
                    <a:pt x="321" y="10725"/>
                  </a:lnTo>
                  <a:lnTo>
                    <a:pt x="281" y="10743"/>
                  </a:lnTo>
                  <a:lnTo>
                    <a:pt x="242" y="10762"/>
                  </a:lnTo>
                  <a:lnTo>
                    <a:pt x="203" y="10782"/>
                  </a:lnTo>
                  <a:lnTo>
                    <a:pt x="165" y="10803"/>
                  </a:lnTo>
                  <a:lnTo>
                    <a:pt x="129" y="10826"/>
                  </a:lnTo>
                  <a:lnTo>
                    <a:pt x="94" y="10848"/>
                  </a:lnTo>
                  <a:lnTo>
                    <a:pt x="61" y="10872"/>
                  </a:lnTo>
                  <a:lnTo>
                    <a:pt x="29" y="10896"/>
                  </a:lnTo>
                  <a:lnTo>
                    <a:pt x="0" y="10921"/>
                  </a:lnTo>
                  <a:lnTo>
                    <a:pt x="7" y="10919"/>
                  </a:lnTo>
                  <a:lnTo>
                    <a:pt x="28" y="10915"/>
                  </a:lnTo>
                  <a:lnTo>
                    <a:pt x="60" y="10909"/>
                  </a:lnTo>
                  <a:lnTo>
                    <a:pt x="105" y="10901"/>
                  </a:lnTo>
                  <a:lnTo>
                    <a:pt x="161" y="10890"/>
                  </a:lnTo>
                  <a:lnTo>
                    <a:pt x="225" y="10879"/>
                  </a:lnTo>
                  <a:lnTo>
                    <a:pt x="299" y="10866"/>
                  </a:lnTo>
                  <a:lnTo>
                    <a:pt x="381" y="10853"/>
                  </a:lnTo>
                  <a:lnTo>
                    <a:pt x="468" y="10839"/>
                  </a:lnTo>
                  <a:lnTo>
                    <a:pt x="563" y="10825"/>
                  </a:lnTo>
                  <a:lnTo>
                    <a:pt x="662" y="10811"/>
                  </a:lnTo>
                  <a:lnTo>
                    <a:pt x="765" y="10797"/>
                  </a:lnTo>
                  <a:lnTo>
                    <a:pt x="870" y="10784"/>
                  </a:lnTo>
                  <a:lnTo>
                    <a:pt x="977" y="10773"/>
                  </a:lnTo>
                  <a:lnTo>
                    <a:pt x="1086" y="10763"/>
                  </a:lnTo>
                  <a:lnTo>
                    <a:pt x="1195" y="10755"/>
                  </a:lnTo>
                  <a:lnTo>
                    <a:pt x="1252" y="10749"/>
                  </a:lnTo>
                  <a:lnTo>
                    <a:pt x="1314" y="10741"/>
                  </a:lnTo>
                  <a:lnTo>
                    <a:pt x="1381" y="10729"/>
                  </a:lnTo>
                  <a:lnTo>
                    <a:pt x="1452" y="10715"/>
                  </a:lnTo>
                  <a:lnTo>
                    <a:pt x="1528" y="10698"/>
                  </a:lnTo>
                  <a:lnTo>
                    <a:pt x="1607" y="10677"/>
                  </a:lnTo>
                  <a:lnTo>
                    <a:pt x="1690" y="10654"/>
                  </a:lnTo>
                  <a:lnTo>
                    <a:pt x="1777" y="10630"/>
                  </a:lnTo>
                  <a:lnTo>
                    <a:pt x="1866" y="10603"/>
                  </a:lnTo>
                  <a:lnTo>
                    <a:pt x="1958" y="10574"/>
                  </a:lnTo>
                  <a:lnTo>
                    <a:pt x="2052" y="10542"/>
                  </a:lnTo>
                  <a:lnTo>
                    <a:pt x="2148" y="10510"/>
                  </a:lnTo>
                  <a:lnTo>
                    <a:pt x="2245" y="10476"/>
                  </a:lnTo>
                  <a:lnTo>
                    <a:pt x="2344" y="10439"/>
                  </a:lnTo>
                  <a:lnTo>
                    <a:pt x="2444" y="10402"/>
                  </a:lnTo>
                  <a:lnTo>
                    <a:pt x="2544" y="10364"/>
                  </a:lnTo>
                  <a:lnTo>
                    <a:pt x="2645" y="10324"/>
                  </a:lnTo>
                  <a:lnTo>
                    <a:pt x="2745" y="10284"/>
                  </a:lnTo>
                  <a:lnTo>
                    <a:pt x="2845" y="10244"/>
                  </a:lnTo>
                  <a:lnTo>
                    <a:pt x="2945" y="10202"/>
                  </a:lnTo>
                  <a:lnTo>
                    <a:pt x="3044" y="10160"/>
                  </a:lnTo>
                  <a:lnTo>
                    <a:pt x="3141" y="10119"/>
                  </a:lnTo>
                  <a:lnTo>
                    <a:pt x="3236" y="10076"/>
                  </a:lnTo>
                  <a:lnTo>
                    <a:pt x="3330" y="10034"/>
                  </a:lnTo>
                  <a:lnTo>
                    <a:pt x="3421" y="9992"/>
                  </a:lnTo>
                  <a:lnTo>
                    <a:pt x="3509" y="9950"/>
                  </a:lnTo>
                  <a:lnTo>
                    <a:pt x="3595" y="9909"/>
                  </a:lnTo>
                  <a:lnTo>
                    <a:pt x="3678" y="9869"/>
                  </a:lnTo>
                  <a:lnTo>
                    <a:pt x="3756" y="9829"/>
                  </a:lnTo>
                  <a:lnTo>
                    <a:pt x="3831" y="9790"/>
                  </a:lnTo>
                  <a:lnTo>
                    <a:pt x="3902" y="9753"/>
                  </a:lnTo>
                  <a:lnTo>
                    <a:pt x="3967" y="9716"/>
                  </a:lnTo>
                  <a:lnTo>
                    <a:pt x="3983" y="9712"/>
                  </a:lnTo>
                  <a:lnTo>
                    <a:pt x="4029" y="9701"/>
                  </a:lnTo>
                  <a:lnTo>
                    <a:pt x="4098" y="9684"/>
                  </a:lnTo>
                  <a:lnTo>
                    <a:pt x="4187" y="9660"/>
                  </a:lnTo>
                  <a:lnTo>
                    <a:pt x="4237" y="9646"/>
                  </a:lnTo>
                  <a:lnTo>
                    <a:pt x="4291" y="9631"/>
                  </a:lnTo>
                  <a:lnTo>
                    <a:pt x="4346" y="9615"/>
                  </a:lnTo>
                  <a:lnTo>
                    <a:pt x="4405" y="9596"/>
                  </a:lnTo>
                  <a:lnTo>
                    <a:pt x="4463" y="9577"/>
                  </a:lnTo>
                  <a:lnTo>
                    <a:pt x="4523" y="9557"/>
                  </a:lnTo>
                  <a:lnTo>
                    <a:pt x="4582" y="9535"/>
                  </a:lnTo>
                  <a:lnTo>
                    <a:pt x="4640" y="9513"/>
                  </a:lnTo>
                  <a:lnTo>
                    <a:pt x="4698" y="9490"/>
                  </a:lnTo>
                  <a:lnTo>
                    <a:pt x="4754" y="9465"/>
                  </a:lnTo>
                  <a:lnTo>
                    <a:pt x="4808" y="9440"/>
                  </a:lnTo>
                  <a:lnTo>
                    <a:pt x="4858" y="9414"/>
                  </a:lnTo>
                  <a:lnTo>
                    <a:pt x="4905" y="9387"/>
                  </a:lnTo>
                  <a:lnTo>
                    <a:pt x="4947" y="9359"/>
                  </a:lnTo>
                  <a:lnTo>
                    <a:pt x="4984" y="9331"/>
                  </a:lnTo>
                  <a:lnTo>
                    <a:pt x="5016" y="9303"/>
                  </a:lnTo>
                  <a:lnTo>
                    <a:pt x="5043" y="9274"/>
                  </a:lnTo>
                  <a:lnTo>
                    <a:pt x="5063" y="9243"/>
                  </a:lnTo>
                  <a:lnTo>
                    <a:pt x="5075" y="9214"/>
                  </a:lnTo>
                  <a:lnTo>
                    <a:pt x="5079" y="9183"/>
                  </a:lnTo>
                  <a:lnTo>
                    <a:pt x="5075" y="9153"/>
                  </a:lnTo>
                  <a:lnTo>
                    <a:pt x="5062" y="9121"/>
                  </a:lnTo>
                  <a:lnTo>
                    <a:pt x="5039" y="9090"/>
                  </a:lnTo>
                  <a:lnTo>
                    <a:pt x="5005" y="9059"/>
                  </a:lnTo>
                  <a:lnTo>
                    <a:pt x="5002" y="9058"/>
                  </a:lnTo>
                  <a:lnTo>
                    <a:pt x="4993" y="9053"/>
                  </a:lnTo>
                  <a:lnTo>
                    <a:pt x="4979" y="9045"/>
                  </a:lnTo>
                  <a:lnTo>
                    <a:pt x="4963" y="9035"/>
                  </a:lnTo>
                  <a:lnTo>
                    <a:pt x="4946" y="9023"/>
                  </a:lnTo>
                  <a:lnTo>
                    <a:pt x="4929" y="9007"/>
                  </a:lnTo>
                  <a:lnTo>
                    <a:pt x="4921" y="8999"/>
                  </a:lnTo>
                  <a:lnTo>
                    <a:pt x="4914" y="8991"/>
                  </a:lnTo>
                  <a:lnTo>
                    <a:pt x="4907" y="8982"/>
                  </a:lnTo>
                  <a:lnTo>
                    <a:pt x="4902" y="8973"/>
                  </a:lnTo>
                  <a:lnTo>
                    <a:pt x="4897" y="8964"/>
                  </a:lnTo>
                  <a:lnTo>
                    <a:pt x="4894" y="8955"/>
                  </a:lnTo>
                  <a:lnTo>
                    <a:pt x="4893" y="8945"/>
                  </a:lnTo>
                  <a:lnTo>
                    <a:pt x="4894" y="8935"/>
                  </a:lnTo>
                  <a:lnTo>
                    <a:pt x="4896" y="8925"/>
                  </a:lnTo>
                  <a:lnTo>
                    <a:pt x="4902" y="8915"/>
                  </a:lnTo>
                  <a:lnTo>
                    <a:pt x="4909" y="8905"/>
                  </a:lnTo>
                  <a:lnTo>
                    <a:pt x="4919" y="8895"/>
                  </a:lnTo>
                  <a:lnTo>
                    <a:pt x="4931" y="8883"/>
                  </a:lnTo>
                  <a:lnTo>
                    <a:pt x="4947" y="8873"/>
                  </a:lnTo>
                  <a:lnTo>
                    <a:pt x="4965" y="8863"/>
                  </a:lnTo>
                  <a:lnTo>
                    <a:pt x="4987" y="8853"/>
                  </a:lnTo>
                  <a:lnTo>
                    <a:pt x="5013" y="8843"/>
                  </a:lnTo>
                  <a:lnTo>
                    <a:pt x="5043" y="8833"/>
                  </a:lnTo>
                  <a:lnTo>
                    <a:pt x="5076" y="8824"/>
                  </a:lnTo>
                  <a:lnTo>
                    <a:pt x="5113" y="8815"/>
                  </a:lnTo>
                  <a:lnTo>
                    <a:pt x="5124" y="8808"/>
                  </a:lnTo>
                  <a:lnTo>
                    <a:pt x="5155" y="8789"/>
                  </a:lnTo>
                  <a:lnTo>
                    <a:pt x="5202" y="8758"/>
                  </a:lnTo>
                  <a:lnTo>
                    <a:pt x="5264" y="8718"/>
                  </a:lnTo>
                  <a:lnTo>
                    <a:pt x="5340" y="8669"/>
                  </a:lnTo>
                  <a:lnTo>
                    <a:pt x="5427" y="8612"/>
                  </a:lnTo>
                  <a:lnTo>
                    <a:pt x="5520" y="8549"/>
                  </a:lnTo>
                  <a:lnTo>
                    <a:pt x="5620" y="8479"/>
                  </a:lnTo>
                  <a:lnTo>
                    <a:pt x="5723" y="8405"/>
                  </a:lnTo>
                  <a:lnTo>
                    <a:pt x="5828" y="8329"/>
                  </a:lnTo>
                  <a:lnTo>
                    <a:pt x="5879" y="8289"/>
                  </a:lnTo>
                  <a:lnTo>
                    <a:pt x="5931" y="8249"/>
                  </a:lnTo>
                  <a:lnTo>
                    <a:pt x="5981" y="8210"/>
                  </a:lnTo>
                  <a:lnTo>
                    <a:pt x="6030" y="8169"/>
                  </a:lnTo>
                  <a:lnTo>
                    <a:pt x="6079" y="8130"/>
                  </a:lnTo>
                  <a:lnTo>
                    <a:pt x="6124" y="8090"/>
                  </a:lnTo>
                  <a:lnTo>
                    <a:pt x="6169" y="8050"/>
                  </a:lnTo>
                  <a:lnTo>
                    <a:pt x="6210" y="8011"/>
                  </a:lnTo>
                  <a:lnTo>
                    <a:pt x="6249" y="7974"/>
                  </a:lnTo>
                  <a:lnTo>
                    <a:pt x="6286" y="7936"/>
                  </a:lnTo>
                  <a:lnTo>
                    <a:pt x="6318" y="7899"/>
                  </a:lnTo>
                  <a:lnTo>
                    <a:pt x="6348" y="7864"/>
                  </a:lnTo>
                  <a:lnTo>
                    <a:pt x="6354" y="7861"/>
                  </a:lnTo>
                  <a:lnTo>
                    <a:pt x="6375" y="7853"/>
                  </a:lnTo>
                  <a:lnTo>
                    <a:pt x="6408" y="7841"/>
                  </a:lnTo>
                  <a:lnTo>
                    <a:pt x="6455" y="7826"/>
                  </a:lnTo>
                  <a:lnTo>
                    <a:pt x="6513" y="7808"/>
                  </a:lnTo>
                  <a:lnTo>
                    <a:pt x="6583" y="7789"/>
                  </a:lnTo>
                  <a:lnTo>
                    <a:pt x="6622" y="7779"/>
                  </a:lnTo>
                  <a:lnTo>
                    <a:pt x="6664" y="7769"/>
                  </a:lnTo>
                  <a:lnTo>
                    <a:pt x="6708" y="7759"/>
                  </a:lnTo>
                  <a:lnTo>
                    <a:pt x="6754" y="7750"/>
                  </a:lnTo>
                  <a:lnTo>
                    <a:pt x="6803" y="7741"/>
                  </a:lnTo>
                  <a:lnTo>
                    <a:pt x="6854" y="7732"/>
                  </a:lnTo>
                  <a:lnTo>
                    <a:pt x="6907" y="7724"/>
                  </a:lnTo>
                  <a:lnTo>
                    <a:pt x="6964" y="7716"/>
                  </a:lnTo>
                  <a:lnTo>
                    <a:pt x="7021" y="7710"/>
                  </a:lnTo>
                  <a:lnTo>
                    <a:pt x="7081" y="7704"/>
                  </a:lnTo>
                  <a:lnTo>
                    <a:pt x="7143" y="7699"/>
                  </a:lnTo>
                  <a:lnTo>
                    <a:pt x="7207" y="7695"/>
                  </a:lnTo>
                  <a:lnTo>
                    <a:pt x="7272" y="7691"/>
                  </a:lnTo>
                  <a:lnTo>
                    <a:pt x="7340" y="7690"/>
                  </a:lnTo>
                  <a:lnTo>
                    <a:pt x="7409" y="7690"/>
                  </a:lnTo>
                  <a:lnTo>
                    <a:pt x="7480" y="7692"/>
                  </a:lnTo>
                  <a:lnTo>
                    <a:pt x="7553" y="7696"/>
                  </a:lnTo>
                  <a:lnTo>
                    <a:pt x="7626" y="7701"/>
                  </a:lnTo>
                  <a:lnTo>
                    <a:pt x="7701" y="7708"/>
                  </a:lnTo>
                  <a:lnTo>
                    <a:pt x="7777" y="7717"/>
                  </a:lnTo>
                  <a:lnTo>
                    <a:pt x="7782" y="7719"/>
                  </a:lnTo>
                  <a:lnTo>
                    <a:pt x="7794" y="7726"/>
                  </a:lnTo>
                  <a:lnTo>
                    <a:pt x="7814" y="7736"/>
                  </a:lnTo>
                  <a:lnTo>
                    <a:pt x="7837" y="7750"/>
                  </a:lnTo>
                  <a:lnTo>
                    <a:pt x="7863" y="7766"/>
                  </a:lnTo>
                  <a:lnTo>
                    <a:pt x="7890" y="7785"/>
                  </a:lnTo>
                  <a:lnTo>
                    <a:pt x="7903" y="7795"/>
                  </a:lnTo>
                  <a:lnTo>
                    <a:pt x="7917" y="7805"/>
                  </a:lnTo>
                  <a:lnTo>
                    <a:pt x="7930" y="7817"/>
                  </a:lnTo>
                  <a:lnTo>
                    <a:pt x="7942" y="7827"/>
                  </a:lnTo>
                  <a:lnTo>
                    <a:pt x="7953" y="7839"/>
                  </a:lnTo>
                  <a:lnTo>
                    <a:pt x="7963" y="7850"/>
                  </a:lnTo>
                  <a:lnTo>
                    <a:pt x="7971" y="7861"/>
                  </a:lnTo>
                  <a:lnTo>
                    <a:pt x="7978" y="7872"/>
                  </a:lnTo>
                  <a:lnTo>
                    <a:pt x="7983" y="7883"/>
                  </a:lnTo>
                  <a:lnTo>
                    <a:pt x="7985" y="7894"/>
                  </a:lnTo>
                  <a:lnTo>
                    <a:pt x="7986" y="7905"/>
                  </a:lnTo>
                  <a:lnTo>
                    <a:pt x="7984" y="7915"/>
                  </a:lnTo>
                  <a:lnTo>
                    <a:pt x="7980" y="7925"/>
                  </a:lnTo>
                  <a:lnTo>
                    <a:pt x="7973" y="7936"/>
                  </a:lnTo>
                  <a:lnTo>
                    <a:pt x="7962" y="7945"/>
                  </a:lnTo>
                  <a:lnTo>
                    <a:pt x="7949" y="7954"/>
                  </a:lnTo>
                  <a:lnTo>
                    <a:pt x="7931" y="7962"/>
                  </a:lnTo>
                  <a:lnTo>
                    <a:pt x="7910" y="7969"/>
                  </a:lnTo>
                  <a:lnTo>
                    <a:pt x="7885" y="7976"/>
                  </a:lnTo>
                  <a:lnTo>
                    <a:pt x="7856" y="7982"/>
                  </a:lnTo>
                  <a:lnTo>
                    <a:pt x="7844" y="7981"/>
                  </a:lnTo>
                  <a:lnTo>
                    <a:pt x="7811" y="7981"/>
                  </a:lnTo>
                  <a:lnTo>
                    <a:pt x="7757" y="7981"/>
                  </a:lnTo>
                  <a:lnTo>
                    <a:pt x="7687" y="7982"/>
                  </a:lnTo>
                  <a:lnTo>
                    <a:pt x="7602" y="7986"/>
                  </a:lnTo>
                  <a:lnTo>
                    <a:pt x="7506" y="7991"/>
                  </a:lnTo>
                  <a:lnTo>
                    <a:pt x="7454" y="7995"/>
                  </a:lnTo>
                  <a:lnTo>
                    <a:pt x="7400" y="7999"/>
                  </a:lnTo>
                  <a:lnTo>
                    <a:pt x="7345" y="8004"/>
                  </a:lnTo>
                  <a:lnTo>
                    <a:pt x="7287" y="8011"/>
                  </a:lnTo>
                  <a:lnTo>
                    <a:pt x="7230" y="8018"/>
                  </a:lnTo>
                  <a:lnTo>
                    <a:pt x="7172" y="8027"/>
                  </a:lnTo>
                  <a:lnTo>
                    <a:pt x="7112" y="8036"/>
                  </a:lnTo>
                  <a:lnTo>
                    <a:pt x="7054" y="8047"/>
                  </a:lnTo>
                  <a:lnTo>
                    <a:pt x="6994" y="8060"/>
                  </a:lnTo>
                  <a:lnTo>
                    <a:pt x="6937" y="8074"/>
                  </a:lnTo>
                  <a:lnTo>
                    <a:pt x="6879" y="8089"/>
                  </a:lnTo>
                  <a:lnTo>
                    <a:pt x="6823" y="8106"/>
                  </a:lnTo>
                  <a:lnTo>
                    <a:pt x="6768" y="8124"/>
                  </a:lnTo>
                  <a:lnTo>
                    <a:pt x="6716" y="8144"/>
                  </a:lnTo>
                  <a:lnTo>
                    <a:pt x="6665" y="8165"/>
                  </a:lnTo>
                  <a:lnTo>
                    <a:pt x="6617" y="8190"/>
                  </a:lnTo>
                  <a:lnTo>
                    <a:pt x="6571" y="8216"/>
                  </a:lnTo>
                  <a:lnTo>
                    <a:pt x="6529" y="8243"/>
                  </a:lnTo>
                  <a:lnTo>
                    <a:pt x="6490" y="8273"/>
                  </a:lnTo>
                  <a:lnTo>
                    <a:pt x="6455" y="8305"/>
                  </a:lnTo>
                  <a:lnTo>
                    <a:pt x="6447" y="8318"/>
                  </a:lnTo>
                  <a:lnTo>
                    <a:pt x="6423" y="8351"/>
                  </a:lnTo>
                  <a:lnTo>
                    <a:pt x="6406" y="8374"/>
                  </a:lnTo>
                  <a:lnTo>
                    <a:pt x="6386" y="8399"/>
                  </a:lnTo>
                  <a:lnTo>
                    <a:pt x="6363" y="8427"/>
                  </a:lnTo>
                  <a:lnTo>
                    <a:pt x="6338" y="8456"/>
                  </a:lnTo>
                  <a:lnTo>
                    <a:pt x="6310" y="8484"/>
                  </a:lnTo>
                  <a:lnTo>
                    <a:pt x="6280" y="8513"/>
                  </a:lnTo>
                  <a:lnTo>
                    <a:pt x="6264" y="8526"/>
                  </a:lnTo>
                  <a:lnTo>
                    <a:pt x="6248" y="8541"/>
                  </a:lnTo>
                  <a:lnTo>
                    <a:pt x="6232" y="8553"/>
                  </a:lnTo>
                  <a:lnTo>
                    <a:pt x="6216" y="8566"/>
                  </a:lnTo>
                  <a:lnTo>
                    <a:pt x="6199" y="8577"/>
                  </a:lnTo>
                  <a:lnTo>
                    <a:pt x="6181" y="8588"/>
                  </a:lnTo>
                  <a:lnTo>
                    <a:pt x="6164" y="8597"/>
                  </a:lnTo>
                  <a:lnTo>
                    <a:pt x="6145" y="8606"/>
                  </a:lnTo>
                  <a:lnTo>
                    <a:pt x="6128" y="8613"/>
                  </a:lnTo>
                  <a:lnTo>
                    <a:pt x="6110" y="8620"/>
                  </a:lnTo>
                  <a:lnTo>
                    <a:pt x="6092" y="8624"/>
                  </a:lnTo>
                  <a:lnTo>
                    <a:pt x="6073" y="8628"/>
                  </a:lnTo>
                  <a:lnTo>
                    <a:pt x="6069" y="8634"/>
                  </a:lnTo>
                  <a:lnTo>
                    <a:pt x="6059" y="8650"/>
                  </a:lnTo>
                  <a:lnTo>
                    <a:pt x="6045" y="8676"/>
                  </a:lnTo>
                  <a:lnTo>
                    <a:pt x="6027" y="8709"/>
                  </a:lnTo>
                  <a:lnTo>
                    <a:pt x="6018" y="8727"/>
                  </a:lnTo>
                  <a:lnTo>
                    <a:pt x="6010" y="8746"/>
                  </a:lnTo>
                  <a:lnTo>
                    <a:pt x="6002" y="8766"/>
                  </a:lnTo>
                  <a:lnTo>
                    <a:pt x="5995" y="8788"/>
                  </a:lnTo>
                  <a:lnTo>
                    <a:pt x="5989" y="8809"/>
                  </a:lnTo>
                  <a:lnTo>
                    <a:pt x="5984" y="8830"/>
                  </a:lnTo>
                  <a:lnTo>
                    <a:pt x="5980" y="8852"/>
                  </a:lnTo>
                  <a:lnTo>
                    <a:pt x="5979" y="8873"/>
                  </a:lnTo>
                  <a:lnTo>
                    <a:pt x="5979" y="8895"/>
                  </a:lnTo>
                  <a:lnTo>
                    <a:pt x="5982" y="8915"/>
                  </a:lnTo>
                  <a:lnTo>
                    <a:pt x="5987" y="8934"/>
                  </a:lnTo>
                  <a:lnTo>
                    <a:pt x="5995" y="8952"/>
                  </a:lnTo>
                  <a:lnTo>
                    <a:pt x="6006" y="8968"/>
                  </a:lnTo>
                  <a:lnTo>
                    <a:pt x="6020" y="8983"/>
                  </a:lnTo>
                  <a:lnTo>
                    <a:pt x="6039" y="8997"/>
                  </a:lnTo>
                  <a:lnTo>
                    <a:pt x="6061" y="9008"/>
                  </a:lnTo>
                  <a:lnTo>
                    <a:pt x="6087" y="9018"/>
                  </a:lnTo>
                  <a:lnTo>
                    <a:pt x="6117" y="9025"/>
                  </a:lnTo>
                  <a:lnTo>
                    <a:pt x="6152" y="9029"/>
                  </a:lnTo>
                  <a:lnTo>
                    <a:pt x="6192" y="9030"/>
                  </a:lnTo>
                  <a:lnTo>
                    <a:pt x="6237" y="9028"/>
                  </a:lnTo>
                  <a:lnTo>
                    <a:pt x="6288" y="9023"/>
                  </a:lnTo>
                  <a:lnTo>
                    <a:pt x="6344" y="9014"/>
                  </a:lnTo>
                  <a:lnTo>
                    <a:pt x="6406" y="9000"/>
                  </a:lnTo>
                  <a:lnTo>
                    <a:pt x="6419" y="8997"/>
                  </a:lnTo>
                  <a:lnTo>
                    <a:pt x="6455" y="8987"/>
                  </a:lnTo>
                  <a:lnTo>
                    <a:pt x="6511" y="8971"/>
                  </a:lnTo>
                  <a:lnTo>
                    <a:pt x="6585" y="8950"/>
                  </a:lnTo>
                  <a:lnTo>
                    <a:pt x="6673" y="8924"/>
                  </a:lnTo>
                  <a:lnTo>
                    <a:pt x="6771" y="8894"/>
                  </a:lnTo>
                  <a:lnTo>
                    <a:pt x="6877" y="8860"/>
                  </a:lnTo>
                  <a:lnTo>
                    <a:pt x="6989" y="8823"/>
                  </a:lnTo>
                  <a:lnTo>
                    <a:pt x="7046" y="8804"/>
                  </a:lnTo>
                  <a:lnTo>
                    <a:pt x="7102" y="8784"/>
                  </a:lnTo>
                  <a:lnTo>
                    <a:pt x="7158" y="8763"/>
                  </a:lnTo>
                  <a:lnTo>
                    <a:pt x="7215" y="8742"/>
                  </a:lnTo>
                  <a:lnTo>
                    <a:pt x="7269" y="8722"/>
                  </a:lnTo>
                  <a:lnTo>
                    <a:pt x="7323" y="8701"/>
                  </a:lnTo>
                  <a:lnTo>
                    <a:pt x="7374" y="8679"/>
                  </a:lnTo>
                  <a:lnTo>
                    <a:pt x="7423" y="8658"/>
                  </a:lnTo>
                  <a:lnTo>
                    <a:pt x="7469" y="8636"/>
                  </a:lnTo>
                  <a:lnTo>
                    <a:pt x="7513" y="8614"/>
                  </a:lnTo>
                  <a:lnTo>
                    <a:pt x="7553" y="8593"/>
                  </a:lnTo>
                  <a:lnTo>
                    <a:pt x="7590" y="8572"/>
                  </a:lnTo>
                  <a:lnTo>
                    <a:pt x="7621" y="8552"/>
                  </a:lnTo>
                  <a:lnTo>
                    <a:pt x="7649" y="8530"/>
                  </a:lnTo>
                  <a:lnTo>
                    <a:pt x="7673" y="8510"/>
                  </a:lnTo>
                  <a:lnTo>
                    <a:pt x="7690" y="8491"/>
                  </a:lnTo>
                  <a:lnTo>
                    <a:pt x="7695" y="8486"/>
                  </a:lnTo>
                  <a:lnTo>
                    <a:pt x="7710" y="8472"/>
                  </a:lnTo>
                  <a:lnTo>
                    <a:pt x="7734" y="8452"/>
                  </a:lnTo>
                  <a:lnTo>
                    <a:pt x="7768" y="8427"/>
                  </a:lnTo>
                  <a:lnTo>
                    <a:pt x="7788" y="8414"/>
                  </a:lnTo>
                  <a:lnTo>
                    <a:pt x="7811" y="8399"/>
                  </a:lnTo>
                  <a:lnTo>
                    <a:pt x="7835" y="8384"/>
                  </a:lnTo>
                  <a:lnTo>
                    <a:pt x="7861" y="8370"/>
                  </a:lnTo>
                  <a:lnTo>
                    <a:pt x="7889" y="8356"/>
                  </a:lnTo>
                  <a:lnTo>
                    <a:pt x="7919" y="8342"/>
                  </a:lnTo>
                  <a:lnTo>
                    <a:pt x="7952" y="8329"/>
                  </a:lnTo>
                  <a:lnTo>
                    <a:pt x="7986" y="8317"/>
                  </a:lnTo>
                  <a:lnTo>
                    <a:pt x="8021" y="8307"/>
                  </a:lnTo>
                  <a:lnTo>
                    <a:pt x="8060" y="8297"/>
                  </a:lnTo>
                  <a:lnTo>
                    <a:pt x="8098" y="8289"/>
                  </a:lnTo>
                  <a:lnTo>
                    <a:pt x="8139" y="8283"/>
                  </a:lnTo>
                  <a:lnTo>
                    <a:pt x="8182" y="8279"/>
                  </a:lnTo>
                  <a:lnTo>
                    <a:pt x="8226" y="8278"/>
                  </a:lnTo>
                  <a:lnTo>
                    <a:pt x="8271" y="8280"/>
                  </a:lnTo>
                  <a:lnTo>
                    <a:pt x="8318" y="8284"/>
                  </a:lnTo>
                  <a:lnTo>
                    <a:pt x="8366" y="8291"/>
                  </a:lnTo>
                  <a:lnTo>
                    <a:pt x="8415" y="8303"/>
                  </a:lnTo>
                  <a:lnTo>
                    <a:pt x="8466" y="8317"/>
                  </a:lnTo>
                  <a:lnTo>
                    <a:pt x="8518" y="8336"/>
                  </a:lnTo>
                  <a:lnTo>
                    <a:pt x="8572" y="8358"/>
                  </a:lnTo>
                  <a:lnTo>
                    <a:pt x="8626" y="8384"/>
                  </a:lnTo>
                  <a:lnTo>
                    <a:pt x="8682" y="8416"/>
                  </a:lnTo>
                  <a:lnTo>
                    <a:pt x="8738" y="8452"/>
                  </a:lnTo>
                  <a:lnTo>
                    <a:pt x="8758" y="8462"/>
                  </a:lnTo>
                  <a:lnTo>
                    <a:pt x="8817" y="8490"/>
                  </a:lnTo>
                  <a:lnTo>
                    <a:pt x="8908" y="8534"/>
                  </a:lnTo>
                  <a:lnTo>
                    <a:pt x="9027" y="8589"/>
                  </a:lnTo>
                  <a:lnTo>
                    <a:pt x="9169" y="8655"/>
                  </a:lnTo>
                  <a:lnTo>
                    <a:pt x="9330" y="8727"/>
                  </a:lnTo>
                  <a:lnTo>
                    <a:pt x="9414" y="8764"/>
                  </a:lnTo>
                  <a:lnTo>
                    <a:pt x="9502" y="8803"/>
                  </a:lnTo>
                  <a:lnTo>
                    <a:pt x="9592" y="8842"/>
                  </a:lnTo>
                  <a:lnTo>
                    <a:pt x="9682" y="8880"/>
                  </a:lnTo>
                  <a:lnTo>
                    <a:pt x="9774" y="8919"/>
                  </a:lnTo>
                  <a:lnTo>
                    <a:pt x="9866" y="8956"/>
                  </a:lnTo>
                  <a:lnTo>
                    <a:pt x="9958" y="8993"/>
                  </a:lnTo>
                  <a:lnTo>
                    <a:pt x="10047" y="9028"/>
                  </a:lnTo>
                  <a:lnTo>
                    <a:pt x="10135" y="9061"/>
                  </a:lnTo>
                  <a:lnTo>
                    <a:pt x="10221" y="9092"/>
                  </a:lnTo>
                  <a:lnTo>
                    <a:pt x="10303" y="9120"/>
                  </a:lnTo>
                  <a:lnTo>
                    <a:pt x="10382" y="9147"/>
                  </a:lnTo>
                  <a:lnTo>
                    <a:pt x="10457" y="9169"/>
                  </a:lnTo>
                  <a:lnTo>
                    <a:pt x="10526" y="9188"/>
                  </a:lnTo>
                  <a:lnTo>
                    <a:pt x="10591" y="9203"/>
                  </a:lnTo>
                  <a:lnTo>
                    <a:pt x="10648" y="9213"/>
                  </a:lnTo>
                  <a:lnTo>
                    <a:pt x="10700" y="9219"/>
                  </a:lnTo>
                  <a:lnTo>
                    <a:pt x="10743" y="9220"/>
                  </a:lnTo>
                  <a:lnTo>
                    <a:pt x="10778" y="9216"/>
                  </a:lnTo>
                  <a:lnTo>
                    <a:pt x="10804" y="9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Freeform 272"/>
            <p:cNvSpPr/>
            <p:nvPr/>
          </p:nvSpPr>
          <p:spPr>
            <a:xfrm>
              <a:off x="5450040" y="4917960"/>
              <a:ext cx="420480" cy="3884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14755" h="12587">
                  <a:moveTo>
                    <a:pt x="10804" y="9206"/>
                  </a:moveTo>
                  <a:lnTo>
                    <a:pt x="10830" y="9194"/>
                  </a:lnTo>
                  <a:lnTo>
                    <a:pt x="10894" y="9163"/>
                  </a:lnTo>
                  <a:lnTo>
                    <a:pt x="10938" y="9144"/>
                  </a:lnTo>
                  <a:lnTo>
                    <a:pt x="10988" y="9124"/>
                  </a:lnTo>
                  <a:lnTo>
                    <a:pt x="11014" y="9114"/>
                  </a:lnTo>
                  <a:lnTo>
                    <a:pt x="11041" y="9105"/>
                  </a:lnTo>
                  <a:lnTo>
                    <a:pt x="11069" y="9096"/>
                  </a:lnTo>
                  <a:lnTo>
                    <a:pt x="11098" y="9087"/>
                  </a:lnTo>
                  <a:lnTo>
                    <a:pt x="11126" y="9080"/>
                  </a:lnTo>
                  <a:lnTo>
                    <a:pt x="11154" y="9073"/>
                  </a:lnTo>
                  <a:lnTo>
                    <a:pt x="11182" y="9068"/>
                  </a:lnTo>
                  <a:lnTo>
                    <a:pt x="11210" y="9063"/>
                  </a:lnTo>
                  <a:lnTo>
                    <a:pt x="11237" y="9061"/>
                  </a:lnTo>
                  <a:lnTo>
                    <a:pt x="11263" y="9059"/>
                  </a:lnTo>
                  <a:lnTo>
                    <a:pt x="11288" y="9060"/>
                  </a:lnTo>
                  <a:lnTo>
                    <a:pt x="11312" y="9062"/>
                  </a:lnTo>
                  <a:lnTo>
                    <a:pt x="11336" y="9066"/>
                  </a:lnTo>
                  <a:lnTo>
                    <a:pt x="11357" y="9073"/>
                  </a:lnTo>
                  <a:lnTo>
                    <a:pt x="11377" y="9081"/>
                  </a:lnTo>
                  <a:lnTo>
                    <a:pt x="11394" y="9093"/>
                  </a:lnTo>
                  <a:lnTo>
                    <a:pt x="11410" y="9107"/>
                  </a:lnTo>
                  <a:lnTo>
                    <a:pt x="11423" y="9124"/>
                  </a:lnTo>
                  <a:lnTo>
                    <a:pt x="11433" y="9144"/>
                  </a:lnTo>
                  <a:lnTo>
                    <a:pt x="11441" y="9167"/>
                  </a:lnTo>
                  <a:lnTo>
                    <a:pt x="11451" y="9194"/>
                  </a:lnTo>
                  <a:lnTo>
                    <a:pt x="11464" y="9224"/>
                  </a:lnTo>
                  <a:lnTo>
                    <a:pt x="11482" y="9257"/>
                  </a:lnTo>
                  <a:lnTo>
                    <a:pt x="11504" y="9293"/>
                  </a:lnTo>
                  <a:lnTo>
                    <a:pt x="11529" y="9331"/>
                  </a:lnTo>
                  <a:lnTo>
                    <a:pt x="11558" y="9373"/>
                  </a:lnTo>
                  <a:lnTo>
                    <a:pt x="11590" y="9415"/>
                  </a:lnTo>
                  <a:lnTo>
                    <a:pt x="11625" y="9459"/>
                  </a:lnTo>
                  <a:lnTo>
                    <a:pt x="11662" y="9506"/>
                  </a:lnTo>
                  <a:lnTo>
                    <a:pt x="11701" y="9553"/>
                  </a:lnTo>
                  <a:lnTo>
                    <a:pt x="11742" y="9600"/>
                  </a:lnTo>
                  <a:lnTo>
                    <a:pt x="11784" y="9650"/>
                  </a:lnTo>
                  <a:lnTo>
                    <a:pt x="11872" y="9748"/>
                  </a:lnTo>
                  <a:lnTo>
                    <a:pt x="11962" y="9844"/>
                  </a:lnTo>
                  <a:lnTo>
                    <a:pt x="12050" y="9938"/>
                  </a:lnTo>
                  <a:lnTo>
                    <a:pt x="12136" y="10027"/>
                  </a:lnTo>
                  <a:lnTo>
                    <a:pt x="12215" y="10109"/>
                  </a:lnTo>
                  <a:lnTo>
                    <a:pt x="12286" y="10180"/>
                  </a:lnTo>
                  <a:lnTo>
                    <a:pt x="12346" y="10240"/>
                  </a:lnTo>
                  <a:lnTo>
                    <a:pt x="12391" y="10285"/>
                  </a:lnTo>
                  <a:lnTo>
                    <a:pt x="12420" y="10313"/>
                  </a:lnTo>
                  <a:lnTo>
                    <a:pt x="12430" y="10323"/>
                  </a:lnTo>
                  <a:lnTo>
                    <a:pt x="13175" y="9775"/>
                  </a:lnTo>
                  <a:lnTo>
                    <a:pt x="14066" y="11647"/>
                  </a:lnTo>
                  <a:lnTo>
                    <a:pt x="14076" y="11684"/>
                  </a:lnTo>
                  <a:lnTo>
                    <a:pt x="14083" y="11717"/>
                  </a:lnTo>
                  <a:lnTo>
                    <a:pt x="14085" y="11733"/>
                  </a:lnTo>
                  <a:lnTo>
                    <a:pt x="14087" y="11748"/>
                  </a:lnTo>
                  <a:lnTo>
                    <a:pt x="14088" y="11763"/>
                  </a:lnTo>
                  <a:lnTo>
                    <a:pt x="14089" y="11777"/>
                  </a:lnTo>
                  <a:lnTo>
                    <a:pt x="14088" y="11791"/>
                  </a:lnTo>
                  <a:lnTo>
                    <a:pt x="14088" y="11804"/>
                  </a:lnTo>
                  <a:lnTo>
                    <a:pt x="14086" y="11817"/>
                  </a:lnTo>
                  <a:lnTo>
                    <a:pt x="14084" y="11829"/>
                  </a:lnTo>
                  <a:lnTo>
                    <a:pt x="14082" y="11842"/>
                  </a:lnTo>
                  <a:lnTo>
                    <a:pt x="14078" y="11854"/>
                  </a:lnTo>
                  <a:lnTo>
                    <a:pt x="14074" y="11867"/>
                  </a:lnTo>
                  <a:lnTo>
                    <a:pt x="14070" y="11879"/>
                  </a:lnTo>
                  <a:lnTo>
                    <a:pt x="14059" y="11905"/>
                  </a:lnTo>
                  <a:lnTo>
                    <a:pt x="14046" y="11930"/>
                  </a:lnTo>
                  <a:lnTo>
                    <a:pt x="14031" y="11957"/>
                  </a:lnTo>
                  <a:lnTo>
                    <a:pt x="14013" y="11985"/>
                  </a:lnTo>
                  <a:lnTo>
                    <a:pt x="13971" y="12050"/>
                  </a:lnTo>
                  <a:lnTo>
                    <a:pt x="13920" y="12127"/>
                  </a:lnTo>
                  <a:lnTo>
                    <a:pt x="13906" y="12149"/>
                  </a:lnTo>
                  <a:lnTo>
                    <a:pt x="13896" y="12171"/>
                  </a:lnTo>
                  <a:lnTo>
                    <a:pt x="13887" y="12192"/>
                  </a:lnTo>
                  <a:lnTo>
                    <a:pt x="13882" y="12214"/>
                  </a:lnTo>
                  <a:lnTo>
                    <a:pt x="13878" y="12235"/>
                  </a:lnTo>
                  <a:lnTo>
                    <a:pt x="13876" y="12257"/>
                  </a:lnTo>
                  <a:lnTo>
                    <a:pt x="13876" y="12278"/>
                  </a:lnTo>
                  <a:lnTo>
                    <a:pt x="13878" y="12298"/>
                  </a:lnTo>
                  <a:lnTo>
                    <a:pt x="13882" y="12318"/>
                  </a:lnTo>
                  <a:lnTo>
                    <a:pt x="13887" y="12338"/>
                  </a:lnTo>
                  <a:lnTo>
                    <a:pt x="13893" y="12357"/>
                  </a:lnTo>
                  <a:lnTo>
                    <a:pt x="13900" y="12376"/>
                  </a:lnTo>
                  <a:lnTo>
                    <a:pt x="13909" y="12394"/>
                  </a:lnTo>
                  <a:lnTo>
                    <a:pt x="13918" y="12412"/>
                  </a:lnTo>
                  <a:lnTo>
                    <a:pt x="13928" y="12429"/>
                  </a:lnTo>
                  <a:lnTo>
                    <a:pt x="13939" y="12445"/>
                  </a:lnTo>
                  <a:lnTo>
                    <a:pt x="13950" y="12461"/>
                  </a:lnTo>
                  <a:lnTo>
                    <a:pt x="13962" y="12476"/>
                  </a:lnTo>
                  <a:lnTo>
                    <a:pt x="13974" y="12491"/>
                  </a:lnTo>
                  <a:lnTo>
                    <a:pt x="13986" y="12504"/>
                  </a:lnTo>
                  <a:lnTo>
                    <a:pt x="14009" y="12528"/>
                  </a:lnTo>
                  <a:lnTo>
                    <a:pt x="14030" y="12548"/>
                  </a:lnTo>
                  <a:lnTo>
                    <a:pt x="14063" y="12577"/>
                  </a:lnTo>
                  <a:lnTo>
                    <a:pt x="14076" y="12587"/>
                  </a:lnTo>
                  <a:lnTo>
                    <a:pt x="14084" y="12578"/>
                  </a:lnTo>
                  <a:lnTo>
                    <a:pt x="14108" y="12553"/>
                  </a:lnTo>
                  <a:lnTo>
                    <a:pt x="14143" y="12514"/>
                  </a:lnTo>
                  <a:lnTo>
                    <a:pt x="14189" y="12462"/>
                  </a:lnTo>
                  <a:lnTo>
                    <a:pt x="14243" y="12400"/>
                  </a:lnTo>
                  <a:lnTo>
                    <a:pt x="14303" y="12330"/>
                  </a:lnTo>
                  <a:lnTo>
                    <a:pt x="14368" y="12254"/>
                  </a:lnTo>
                  <a:lnTo>
                    <a:pt x="14433" y="12173"/>
                  </a:lnTo>
                  <a:lnTo>
                    <a:pt x="14465" y="12133"/>
                  </a:lnTo>
                  <a:lnTo>
                    <a:pt x="14498" y="12091"/>
                  </a:lnTo>
                  <a:lnTo>
                    <a:pt x="14529" y="12050"/>
                  </a:lnTo>
                  <a:lnTo>
                    <a:pt x="14560" y="12009"/>
                  </a:lnTo>
                  <a:lnTo>
                    <a:pt x="14589" y="11968"/>
                  </a:lnTo>
                  <a:lnTo>
                    <a:pt x="14618" y="11928"/>
                  </a:lnTo>
                  <a:lnTo>
                    <a:pt x="14643" y="11889"/>
                  </a:lnTo>
                  <a:lnTo>
                    <a:pt x="14667" y="11851"/>
                  </a:lnTo>
                  <a:lnTo>
                    <a:pt x="14689" y="11815"/>
                  </a:lnTo>
                  <a:lnTo>
                    <a:pt x="14708" y="11781"/>
                  </a:lnTo>
                  <a:lnTo>
                    <a:pt x="14724" y="11748"/>
                  </a:lnTo>
                  <a:lnTo>
                    <a:pt x="14738" y="11719"/>
                  </a:lnTo>
                  <a:lnTo>
                    <a:pt x="14747" y="11692"/>
                  </a:lnTo>
                  <a:lnTo>
                    <a:pt x="14753" y="11667"/>
                  </a:lnTo>
                  <a:lnTo>
                    <a:pt x="14755" y="11646"/>
                  </a:lnTo>
                  <a:lnTo>
                    <a:pt x="14753" y="11627"/>
                  </a:lnTo>
                  <a:lnTo>
                    <a:pt x="14736" y="11615"/>
                  </a:lnTo>
                  <a:lnTo>
                    <a:pt x="14690" y="11582"/>
                  </a:lnTo>
                  <a:lnTo>
                    <a:pt x="14659" y="11557"/>
                  </a:lnTo>
                  <a:lnTo>
                    <a:pt x="14624" y="11527"/>
                  </a:lnTo>
                  <a:lnTo>
                    <a:pt x="14605" y="11509"/>
                  </a:lnTo>
                  <a:lnTo>
                    <a:pt x="14585" y="11490"/>
                  </a:lnTo>
                  <a:lnTo>
                    <a:pt x="14565" y="11470"/>
                  </a:lnTo>
                  <a:lnTo>
                    <a:pt x="14545" y="11449"/>
                  </a:lnTo>
                  <a:lnTo>
                    <a:pt x="14525" y="11427"/>
                  </a:lnTo>
                  <a:lnTo>
                    <a:pt x="14504" y="11404"/>
                  </a:lnTo>
                  <a:lnTo>
                    <a:pt x="14484" y="11378"/>
                  </a:lnTo>
                  <a:lnTo>
                    <a:pt x="14463" y="11352"/>
                  </a:lnTo>
                  <a:lnTo>
                    <a:pt x="14442" y="11324"/>
                  </a:lnTo>
                  <a:lnTo>
                    <a:pt x="14423" y="11296"/>
                  </a:lnTo>
                  <a:lnTo>
                    <a:pt x="14403" y="11265"/>
                  </a:lnTo>
                  <a:lnTo>
                    <a:pt x="14385" y="11234"/>
                  </a:lnTo>
                  <a:lnTo>
                    <a:pt x="14367" y="11202"/>
                  </a:lnTo>
                  <a:lnTo>
                    <a:pt x="14350" y="11169"/>
                  </a:lnTo>
                  <a:lnTo>
                    <a:pt x="14333" y="11133"/>
                  </a:lnTo>
                  <a:lnTo>
                    <a:pt x="14318" y="11097"/>
                  </a:lnTo>
                  <a:lnTo>
                    <a:pt x="14304" y="11060"/>
                  </a:lnTo>
                  <a:lnTo>
                    <a:pt x="14292" y="11021"/>
                  </a:lnTo>
                  <a:lnTo>
                    <a:pt x="14281" y="10982"/>
                  </a:lnTo>
                  <a:lnTo>
                    <a:pt x="14272" y="10941"/>
                  </a:lnTo>
                  <a:lnTo>
                    <a:pt x="14265" y="10924"/>
                  </a:lnTo>
                  <a:lnTo>
                    <a:pt x="14243" y="10876"/>
                  </a:lnTo>
                  <a:lnTo>
                    <a:pt x="14207" y="10801"/>
                  </a:lnTo>
                  <a:lnTo>
                    <a:pt x="14162" y="10705"/>
                  </a:lnTo>
                  <a:lnTo>
                    <a:pt x="14106" y="10589"/>
                  </a:lnTo>
                  <a:lnTo>
                    <a:pt x="14041" y="10459"/>
                  </a:lnTo>
                  <a:lnTo>
                    <a:pt x="13969" y="10318"/>
                  </a:lnTo>
                  <a:lnTo>
                    <a:pt x="13893" y="10171"/>
                  </a:lnTo>
                  <a:lnTo>
                    <a:pt x="13853" y="10098"/>
                  </a:lnTo>
                  <a:lnTo>
                    <a:pt x="13812" y="10024"/>
                  </a:lnTo>
                  <a:lnTo>
                    <a:pt x="13771" y="9950"/>
                  </a:lnTo>
                  <a:lnTo>
                    <a:pt x="13729" y="9878"/>
                  </a:lnTo>
                  <a:lnTo>
                    <a:pt x="13687" y="9807"/>
                  </a:lnTo>
                  <a:lnTo>
                    <a:pt x="13645" y="9739"/>
                  </a:lnTo>
                  <a:lnTo>
                    <a:pt x="13603" y="9672"/>
                  </a:lnTo>
                  <a:lnTo>
                    <a:pt x="13561" y="9610"/>
                  </a:lnTo>
                  <a:lnTo>
                    <a:pt x="13521" y="9551"/>
                  </a:lnTo>
                  <a:lnTo>
                    <a:pt x="13480" y="9496"/>
                  </a:lnTo>
                  <a:lnTo>
                    <a:pt x="13440" y="9446"/>
                  </a:lnTo>
                  <a:lnTo>
                    <a:pt x="13402" y="9401"/>
                  </a:lnTo>
                  <a:lnTo>
                    <a:pt x="13365" y="9362"/>
                  </a:lnTo>
                  <a:lnTo>
                    <a:pt x="13329" y="9329"/>
                  </a:lnTo>
                  <a:lnTo>
                    <a:pt x="13295" y="9303"/>
                  </a:lnTo>
                  <a:lnTo>
                    <a:pt x="13263" y="9285"/>
                  </a:lnTo>
                  <a:lnTo>
                    <a:pt x="13258" y="9288"/>
                  </a:lnTo>
                  <a:lnTo>
                    <a:pt x="13241" y="9296"/>
                  </a:lnTo>
                  <a:lnTo>
                    <a:pt x="13213" y="9309"/>
                  </a:lnTo>
                  <a:lnTo>
                    <a:pt x="13177" y="9326"/>
                  </a:lnTo>
                  <a:lnTo>
                    <a:pt x="13133" y="9346"/>
                  </a:lnTo>
                  <a:lnTo>
                    <a:pt x="13081" y="9368"/>
                  </a:lnTo>
                  <a:lnTo>
                    <a:pt x="13023" y="9393"/>
                  </a:lnTo>
                  <a:lnTo>
                    <a:pt x="12960" y="9417"/>
                  </a:lnTo>
                  <a:lnTo>
                    <a:pt x="12894" y="9442"/>
                  </a:lnTo>
                  <a:lnTo>
                    <a:pt x="12824" y="9465"/>
                  </a:lnTo>
                  <a:lnTo>
                    <a:pt x="12789" y="9477"/>
                  </a:lnTo>
                  <a:lnTo>
                    <a:pt x="12753" y="9488"/>
                  </a:lnTo>
                  <a:lnTo>
                    <a:pt x="12717" y="9499"/>
                  </a:lnTo>
                  <a:lnTo>
                    <a:pt x="12680" y="9508"/>
                  </a:lnTo>
                  <a:lnTo>
                    <a:pt x="12644" y="9517"/>
                  </a:lnTo>
                  <a:lnTo>
                    <a:pt x="12608" y="9525"/>
                  </a:lnTo>
                  <a:lnTo>
                    <a:pt x="12572" y="9532"/>
                  </a:lnTo>
                  <a:lnTo>
                    <a:pt x="12537" y="9538"/>
                  </a:lnTo>
                  <a:lnTo>
                    <a:pt x="12502" y="9543"/>
                  </a:lnTo>
                  <a:lnTo>
                    <a:pt x="12468" y="9546"/>
                  </a:lnTo>
                  <a:lnTo>
                    <a:pt x="12434" y="9549"/>
                  </a:lnTo>
                  <a:lnTo>
                    <a:pt x="12401" y="9549"/>
                  </a:lnTo>
                  <a:lnTo>
                    <a:pt x="12391" y="9540"/>
                  </a:lnTo>
                  <a:lnTo>
                    <a:pt x="12361" y="9514"/>
                  </a:lnTo>
                  <a:lnTo>
                    <a:pt x="12314" y="9473"/>
                  </a:lnTo>
                  <a:lnTo>
                    <a:pt x="12252" y="9420"/>
                  </a:lnTo>
                  <a:lnTo>
                    <a:pt x="12177" y="9356"/>
                  </a:lnTo>
                  <a:lnTo>
                    <a:pt x="12092" y="9284"/>
                  </a:lnTo>
                  <a:lnTo>
                    <a:pt x="11998" y="9205"/>
                  </a:lnTo>
                  <a:lnTo>
                    <a:pt x="11898" y="9123"/>
                  </a:lnTo>
                  <a:lnTo>
                    <a:pt x="11794" y="9039"/>
                  </a:lnTo>
                  <a:lnTo>
                    <a:pt x="11688" y="8955"/>
                  </a:lnTo>
                  <a:lnTo>
                    <a:pt x="11635" y="8914"/>
                  </a:lnTo>
                  <a:lnTo>
                    <a:pt x="11583" y="8873"/>
                  </a:lnTo>
                  <a:lnTo>
                    <a:pt x="11531" y="8835"/>
                  </a:lnTo>
                  <a:lnTo>
                    <a:pt x="11480" y="8797"/>
                  </a:lnTo>
                  <a:lnTo>
                    <a:pt x="11430" y="8761"/>
                  </a:lnTo>
                  <a:lnTo>
                    <a:pt x="11382" y="8727"/>
                  </a:lnTo>
                  <a:lnTo>
                    <a:pt x="11335" y="8695"/>
                  </a:lnTo>
                  <a:lnTo>
                    <a:pt x="11290" y="8666"/>
                  </a:lnTo>
                  <a:lnTo>
                    <a:pt x="11248" y="8639"/>
                  </a:lnTo>
                  <a:lnTo>
                    <a:pt x="11209" y="8616"/>
                  </a:lnTo>
                  <a:lnTo>
                    <a:pt x="11171" y="8596"/>
                  </a:lnTo>
                  <a:lnTo>
                    <a:pt x="11138" y="8579"/>
                  </a:lnTo>
                  <a:lnTo>
                    <a:pt x="10736" y="8510"/>
                  </a:lnTo>
                  <a:lnTo>
                    <a:pt x="13783" y="1661"/>
                  </a:lnTo>
                  <a:lnTo>
                    <a:pt x="13780" y="1657"/>
                  </a:lnTo>
                  <a:lnTo>
                    <a:pt x="13771" y="1647"/>
                  </a:lnTo>
                  <a:lnTo>
                    <a:pt x="13757" y="1632"/>
                  </a:lnTo>
                  <a:lnTo>
                    <a:pt x="13736" y="1614"/>
                  </a:lnTo>
                  <a:lnTo>
                    <a:pt x="13723" y="1603"/>
                  </a:lnTo>
                  <a:lnTo>
                    <a:pt x="13708" y="1592"/>
                  </a:lnTo>
                  <a:lnTo>
                    <a:pt x="13692" y="1580"/>
                  </a:lnTo>
                  <a:lnTo>
                    <a:pt x="13674" y="1569"/>
                  </a:lnTo>
                  <a:lnTo>
                    <a:pt x="13654" y="1558"/>
                  </a:lnTo>
                  <a:lnTo>
                    <a:pt x="13633" y="1546"/>
                  </a:lnTo>
                  <a:lnTo>
                    <a:pt x="13610" y="1535"/>
                  </a:lnTo>
                  <a:lnTo>
                    <a:pt x="13584" y="1525"/>
                  </a:lnTo>
                  <a:lnTo>
                    <a:pt x="13557" y="1515"/>
                  </a:lnTo>
                  <a:lnTo>
                    <a:pt x="13528" y="1506"/>
                  </a:lnTo>
                  <a:lnTo>
                    <a:pt x="13497" y="1497"/>
                  </a:lnTo>
                  <a:lnTo>
                    <a:pt x="13463" y="1490"/>
                  </a:lnTo>
                  <a:lnTo>
                    <a:pt x="13429" y="1484"/>
                  </a:lnTo>
                  <a:lnTo>
                    <a:pt x="13392" y="1480"/>
                  </a:lnTo>
                  <a:lnTo>
                    <a:pt x="13353" y="1477"/>
                  </a:lnTo>
                  <a:lnTo>
                    <a:pt x="13311" y="1475"/>
                  </a:lnTo>
                  <a:lnTo>
                    <a:pt x="13268" y="1476"/>
                  </a:lnTo>
                  <a:lnTo>
                    <a:pt x="13223" y="1478"/>
                  </a:lnTo>
                  <a:lnTo>
                    <a:pt x="13174" y="1483"/>
                  </a:lnTo>
                  <a:lnTo>
                    <a:pt x="13125" y="1489"/>
                  </a:lnTo>
                  <a:lnTo>
                    <a:pt x="13072" y="1499"/>
                  </a:lnTo>
                  <a:lnTo>
                    <a:pt x="13017" y="1511"/>
                  </a:lnTo>
                  <a:lnTo>
                    <a:pt x="12960" y="1525"/>
                  </a:lnTo>
                  <a:lnTo>
                    <a:pt x="12901" y="1543"/>
                  </a:lnTo>
                  <a:lnTo>
                    <a:pt x="12894" y="1543"/>
                  </a:lnTo>
                  <a:lnTo>
                    <a:pt x="12874" y="1543"/>
                  </a:lnTo>
                  <a:lnTo>
                    <a:pt x="12842" y="1541"/>
                  </a:lnTo>
                  <a:lnTo>
                    <a:pt x="12799" y="1539"/>
                  </a:lnTo>
                  <a:lnTo>
                    <a:pt x="12748" y="1536"/>
                  </a:lnTo>
                  <a:lnTo>
                    <a:pt x="12688" y="1531"/>
                  </a:lnTo>
                  <a:lnTo>
                    <a:pt x="12624" y="1523"/>
                  </a:lnTo>
                  <a:lnTo>
                    <a:pt x="12554" y="1514"/>
                  </a:lnTo>
                  <a:lnTo>
                    <a:pt x="12518" y="1508"/>
                  </a:lnTo>
                  <a:lnTo>
                    <a:pt x="12482" y="1501"/>
                  </a:lnTo>
                  <a:lnTo>
                    <a:pt x="12444" y="1494"/>
                  </a:lnTo>
                  <a:lnTo>
                    <a:pt x="12408" y="1486"/>
                  </a:lnTo>
                  <a:lnTo>
                    <a:pt x="12371" y="1477"/>
                  </a:lnTo>
                  <a:lnTo>
                    <a:pt x="12334" y="1466"/>
                  </a:lnTo>
                  <a:lnTo>
                    <a:pt x="12296" y="1455"/>
                  </a:lnTo>
                  <a:lnTo>
                    <a:pt x="12260" y="1444"/>
                  </a:lnTo>
                  <a:lnTo>
                    <a:pt x="12225" y="1431"/>
                  </a:lnTo>
                  <a:lnTo>
                    <a:pt x="12190" y="1417"/>
                  </a:lnTo>
                  <a:lnTo>
                    <a:pt x="12156" y="1402"/>
                  </a:lnTo>
                  <a:lnTo>
                    <a:pt x="12124" y="1386"/>
                  </a:lnTo>
                  <a:lnTo>
                    <a:pt x="12093" y="1368"/>
                  </a:lnTo>
                  <a:lnTo>
                    <a:pt x="12063" y="1349"/>
                  </a:lnTo>
                  <a:lnTo>
                    <a:pt x="12035" y="1329"/>
                  </a:lnTo>
                  <a:lnTo>
                    <a:pt x="12010" y="1308"/>
                  </a:lnTo>
                  <a:lnTo>
                    <a:pt x="11983" y="1307"/>
                  </a:lnTo>
                  <a:lnTo>
                    <a:pt x="11911" y="1302"/>
                  </a:lnTo>
                  <a:lnTo>
                    <a:pt x="11864" y="1298"/>
                  </a:lnTo>
                  <a:lnTo>
                    <a:pt x="11810" y="1291"/>
                  </a:lnTo>
                  <a:lnTo>
                    <a:pt x="11782" y="1287"/>
                  </a:lnTo>
                  <a:lnTo>
                    <a:pt x="11754" y="1283"/>
                  </a:lnTo>
                  <a:lnTo>
                    <a:pt x="11725" y="1277"/>
                  </a:lnTo>
                  <a:lnTo>
                    <a:pt x="11694" y="1271"/>
                  </a:lnTo>
                  <a:lnTo>
                    <a:pt x="11665" y="1265"/>
                  </a:lnTo>
                  <a:lnTo>
                    <a:pt x="11636" y="1257"/>
                  </a:lnTo>
                  <a:lnTo>
                    <a:pt x="11607" y="1249"/>
                  </a:lnTo>
                  <a:lnTo>
                    <a:pt x="11579" y="1239"/>
                  </a:lnTo>
                  <a:lnTo>
                    <a:pt x="11551" y="1228"/>
                  </a:lnTo>
                  <a:lnTo>
                    <a:pt x="11525" y="1217"/>
                  </a:lnTo>
                  <a:lnTo>
                    <a:pt x="11500" y="1205"/>
                  </a:lnTo>
                  <a:lnTo>
                    <a:pt x="11477" y="1192"/>
                  </a:lnTo>
                  <a:lnTo>
                    <a:pt x="11455" y="1178"/>
                  </a:lnTo>
                  <a:lnTo>
                    <a:pt x="11435" y="1162"/>
                  </a:lnTo>
                  <a:lnTo>
                    <a:pt x="11417" y="1146"/>
                  </a:lnTo>
                  <a:lnTo>
                    <a:pt x="11403" y="1128"/>
                  </a:lnTo>
                  <a:lnTo>
                    <a:pt x="11391" y="1108"/>
                  </a:lnTo>
                  <a:lnTo>
                    <a:pt x="11382" y="1088"/>
                  </a:lnTo>
                  <a:lnTo>
                    <a:pt x="11376" y="1066"/>
                  </a:lnTo>
                  <a:lnTo>
                    <a:pt x="11373" y="1043"/>
                  </a:lnTo>
                  <a:lnTo>
                    <a:pt x="11362" y="1037"/>
                  </a:lnTo>
                  <a:lnTo>
                    <a:pt x="11331" y="1019"/>
                  </a:lnTo>
                  <a:lnTo>
                    <a:pt x="11308" y="1007"/>
                  </a:lnTo>
                  <a:lnTo>
                    <a:pt x="11282" y="994"/>
                  </a:lnTo>
                  <a:lnTo>
                    <a:pt x="11253" y="978"/>
                  </a:lnTo>
                  <a:lnTo>
                    <a:pt x="11220" y="963"/>
                  </a:lnTo>
                  <a:lnTo>
                    <a:pt x="11183" y="948"/>
                  </a:lnTo>
                  <a:lnTo>
                    <a:pt x="11145" y="934"/>
                  </a:lnTo>
                  <a:lnTo>
                    <a:pt x="11105" y="920"/>
                  </a:lnTo>
                  <a:lnTo>
                    <a:pt x="11062" y="907"/>
                  </a:lnTo>
                  <a:lnTo>
                    <a:pt x="11041" y="901"/>
                  </a:lnTo>
                  <a:lnTo>
                    <a:pt x="11019" y="896"/>
                  </a:lnTo>
                  <a:lnTo>
                    <a:pt x="10997" y="891"/>
                  </a:lnTo>
                  <a:lnTo>
                    <a:pt x="10975" y="887"/>
                  </a:lnTo>
                  <a:lnTo>
                    <a:pt x="10952" y="884"/>
                  </a:lnTo>
                  <a:lnTo>
                    <a:pt x="10928" y="881"/>
                  </a:lnTo>
                  <a:lnTo>
                    <a:pt x="10906" y="878"/>
                  </a:lnTo>
                  <a:lnTo>
                    <a:pt x="10883" y="877"/>
                  </a:lnTo>
                  <a:lnTo>
                    <a:pt x="10866" y="866"/>
                  </a:lnTo>
                  <a:lnTo>
                    <a:pt x="10822" y="839"/>
                  </a:lnTo>
                  <a:lnTo>
                    <a:pt x="10790" y="821"/>
                  </a:lnTo>
                  <a:lnTo>
                    <a:pt x="10756" y="803"/>
                  </a:lnTo>
                  <a:lnTo>
                    <a:pt x="10718" y="784"/>
                  </a:lnTo>
                  <a:lnTo>
                    <a:pt x="10677" y="766"/>
                  </a:lnTo>
                  <a:lnTo>
                    <a:pt x="10656" y="757"/>
                  </a:lnTo>
                  <a:lnTo>
                    <a:pt x="10635" y="748"/>
                  </a:lnTo>
                  <a:lnTo>
                    <a:pt x="10614" y="740"/>
                  </a:lnTo>
                  <a:lnTo>
                    <a:pt x="10593" y="733"/>
                  </a:lnTo>
                  <a:lnTo>
                    <a:pt x="10572" y="727"/>
                  </a:lnTo>
                  <a:lnTo>
                    <a:pt x="10551" y="722"/>
                  </a:lnTo>
                  <a:lnTo>
                    <a:pt x="10531" y="718"/>
                  </a:lnTo>
                  <a:lnTo>
                    <a:pt x="10511" y="715"/>
                  </a:lnTo>
                  <a:lnTo>
                    <a:pt x="10492" y="714"/>
                  </a:lnTo>
                  <a:lnTo>
                    <a:pt x="10473" y="714"/>
                  </a:lnTo>
                  <a:lnTo>
                    <a:pt x="10456" y="715"/>
                  </a:lnTo>
                  <a:lnTo>
                    <a:pt x="10438" y="718"/>
                  </a:lnTo>
                  <a:lnTo>
                    <a:pt x="10423" y="723"/>
                  </a:lnTo>
                  <a:lnTo>
                    <a:pt x="10408" y="729"/>
                  </a:lnTo>
                  <a:lnTo>
                    <a:pt x="10395" y="738"/>
                  </a:lnTo>
                  <a:lnTo>
                    <a:pt x="10383" y="749"/>
                  </a:lnTo>
                  <a:lnTo>
                    <a:pt x="10373" y="761"/>
                  </a:lnTo>
                  <a:lnTo>
                    <a:pt x="10364" y="773"/>
                  </a:lnTo>
                  <a:lnTo>
                    <a:pt x="10356" y="786"/>
                  </a:lnTo>
                  <a:lnTo>
                    <a:pt x="10350" y="800"/>
                  </a:lnTo>
                  <a:lnTo>
                    <a:pt x="10344" y="814"/>
                  </a:lnTo>
                  <a:lnTo>
                    <a:pt x="10339" y="829"/>
                  </a:lnTo>
                  <a:lnTo>
                    <a:pt x="10335" y="844"/>
                  </a:lnTo>
                  <a:lnTo>
                    <a:pt x="10332" y="859"/>
                  </a:lnTo>
                  <a:lnTo>
                    <a:pt x="10323" y="921"/>
                  </a:lnTo>
                  <a:lnTo>
                    <a:pt x="10317" y="980"/>
                  </a:lnTo>
                  <a:lnTo>
                    <a:pt x="10313" y="995"/>
                  </a:lnTo>
                  <a:lnTo>
                    <a:pt x="10311" y="1008"/>
                  </a:lnTo>
                  <a:lnTo>
                    <a:pt x="10307" y="1020"/>
                  </a:lnTo>
                  <a:lnTo>
                    <a:pt x="10304" y="1032"/>
                  </a:lnTo>
                  <a:lnTo>
                    <a:pt x="10299" y="1042"/>
                  </a:lnTo>
                  <a:lnTo>
                    <a:pt x="10294" y="1052"/>
                  </a:lnTo>
                  <a:lnTo>
                    <a:pt x="10287" y="1060"/>
                  </a:lnTo>
                  <a:lnTo>
                    <a:pt x="10280" y="1068"/>
                  </a:lnTo>
                  <a:lnTo>
                    <a:pt x="10271" y="1074"/>
                  </a:lnTo>
                  <a:lnTo>
                    <a:pt x="10261" y="1078"/>
                  </a:lnTo>
                  <a:lnTo>
                    <a:pt x="10250" y="1081"/>
                  </a:lnTo>
                  <a:lnTo>
                    <a:pt x="10237" y="1083"/>
                  </a:lnTo>
                  <a:lnTo>
                    <a:pt x="10223" y="1083"/>
                  </a:lnTo>
                  <a:lnTo>
                    <a:pt x="10206" y="1081"/>
                  </a:lnTo>
                  <a:lnTo>
                    <a:pt x="10187" y="1078"/>
                  </a:lnTo>
                  <a:lnTo>
                    <a:pt x="10168" y="1072"/>
                  </a:lnTo>
                  <a:lnTo>
                    <a:pt x="10148" y="1067"/>
                  </a:lnTo>
                  <a:lnTo>
                    <a:pt x="10130" y="1060"/>
                  </a:lnTo>
                  <a:lnTo>
                    <a:pt x="10112" y="1052"/>
                  </a:lnTo>
                  <a:lnTo>
                    <a:pt x="10095" y="1044"/>
                  </a:lnTo>
                  <a:lnTo>
                    <a:pt x="10079" y="1035"/>
                  </a:lnTo>
                  <a:lnTo>
                    <a:pt x="10063" y="1025"/>
                  </a:lnTo>
                  <a:lnTo>
                    <a:pt x="10049" y="1014"/>
                  </a:lnTo>
                  <a:lnTo>
                    <a:pt x="10035" y="1003"/>
                  </a:lnTo>
                  <a:lnTo>
                    <a:pt x="10021" y="990"/>
                  </a:lnTo>
                  <a:lnTo>
                    <a:pt x="10008" y="978"/>
                  </a:lnTo>
                  <a:lnTo>
                    <a:pt x="9995" y="965"/>
                  </a:lnTo>
                  <a:lnTo>
                    <a:pt x="9983" y="952"/>
                  </a:lnTo>
                  <a:lnTo>
                    <a:pt x="9959" y="924"/>
                  </a:lnTo>
                  <a:lnTo>
                    <a:pt x="9934" y="895"/>
                  </a:lnTo>
                  <a:lnTo>
                    <a:pt x="9909" y="864"/>
                  </a:lnTo>
                  <a:lnTo>
                    <a:pt x="9884" y="834"/>
                  </a:lnTo>
                  <a:lnTo>
                    <a:pt x="9857" y="802"/>
                  </a:lnTo>
                  <a:lnTo>
                    <a:pt x="9828" y="771"/>
                  </a:lnTo>
                  <a:lnTo>
                    <a:pt x="9813" y="756"/>
                  </a:lnTo>
                  <a:lnTo>
                    <a:pt x="9795" y="739"/>
                  </a:lnTo>
                  <a:lnTo>
                    <a:pt x="9778" y="724"/>
                  </a:lnTo>
                  <a:lnTo>
                    <a:pt x="9760" y="709"/>
                  </a:lnTo>
                  <a:lnTo>
                    <a:pt x="9742" y="694"/>
                  </a:lnTo>
                  <a:lnTo>
                    <a:pt x="9722" y="680"/>
                  </a:lnTo>
                  <a:lnTo>
                    <a:pt x="9701" y="666"/>
                  </a:lnTo>
                  <a:lnTo>
                    <a:pt x="9678" y="652"/>
                  </a:lnTo>
                  <a:lnTo>
                    <a:pt x="9627" y="622"/>
                  </a:lnTo>
                  <a:lnTo>
                    <a:pt x="9569" y="589"/>
                  </a:lnTo>
                  <a:lnTo>
                    <a:pt x="9502" y="554"/>
                  </a:lnTo>
                  <a:lnTo>
                    <a:pt x="9430" y="518"/>
                  </a:lnTo>
                  <a:lnTo>
                    <a:pt x="9356" y="479"/>
                  </a:lnTo>
                  <a:lnTo>
                    <a:pt x="9279" y="441"/>
                  </a:lnTo>
                  <a:lnTo>
                    <a:pt x="9202" y="403"/>
                  </a:lnTo>
                  <a:lnTo>
                    <a:pt x="9126" y="366"/>
                  </a:lnTo>
                  <a:lnTo>
                    <a:pt x="9052" y="331"/>
                  </a:lnTo>
                  <a:lnTo>
                    <a:pt x="8984" y="298"/>
                  </a:lnTo>
                  <a:lnTo>
                    <a:pt x="8921" y="268"/>
                  </a:lnTo>
                  <a:lnTo>
                    <a:pt x="8867" y="242"/>
                  </a:lnTo>
                  <a:lnTo>
                    <a:pt x="8822" y="221"/>
                  </a:lnTo>
                  <a:lnTo>
                    <a:pt x="8786" y="205"/>
                  </a:lnTo>
                  <a:lnTo>
                    <a:pt x="8765" y="194"/>
                  </a:lnTo>
                  <a:lnTo>
                    <a:pt x="8757" y="191"/>
                  </a:lnTo>
                  <a:lnTo>
                    <a:pt x="8752" y="187"/>
                  </a:lnTo>
                  <a:lnTo>
                    <a:pt x="8735" y="177"/>
                  </a:lnTo>
                  <a:lnTo>
                    <a:pt x="8708" y="161"/>
                  </a:lnTo>
                  <a:lnTo>
                    <a:pt x="8669" y="140"/>
                  </a:lnTo>
                  <a:lnTo>
                    <a:pt x="8646" y="130"/>
                  </a:lnTo>
                  <a:lnTo>
                    <a:pt x="8620" y="118"/>
                  </a:lnTo>
                  <a:lnTo>
                    <a:pt x="8592" y="107"/>
                  </a:lnTo>
                  <a:lnTo>
                    <a:pt x="8560" y="95"/>
                  </a:lnTo>
                  <a:lnTo>
                    <a:pt x="8525" y="83"/>
                  </a:lnTo>
                  <a:lnTo>
                    <a:pt x="8489" y="71"/>
                  </a:lnTo>
                  <a:lnTo>
                    <a:pt x="8450" y="60"/>
                  </a:lnTo>
                  <a:lnTo>
                    <a:pt x="8407" y="49"/>
                  </a:lnTo>
                  <a:lnTo>
                    <a:pt x="8362" y="39"/>
                  </a:lnTo>
                  <a:lnTo>
                    <a:pt x="8315" y="29"/>
                  </a:lnTo>
                  <a:lnTo>
                    <a:pt x="8264" y="20"/>
                  </a:lnTo>
                  <a:lnTo>
                    <a:pt x="8211" y="13"/>
                  </a:lnTo>
                  <a:lnTo>
                    <a:pt x="8155" y="8"/>
                  </a:lnTo>
                  <a:lnTo>
                    <a:pt x="8097" y="4"/>
                  </a:lnTo>
                  <a:lnTo>
                    <a:pt x="8035" y="1"/>
                  </a:lnTo>
                  <a:lnTo>
                    <a:pt x="7972" y="0"/>
                  </a:lnTo>
                  <a:lnTo>
                    <a:pt x="7905" y="2"/>
                  </a:lnTo>
                  <a:lnTo>
                    <a:pt x="7837" y="5"/>
                  </a:lnTo>
                  <a:lnTo>
                    <a:pt x="7764" y="11"/>
                  </a:lnTo>
                  <a:lnTo>
                    <a:pt x="7691" y="20"/>
                  </a:lnTo>
                  <a:lnTo>
                    <a:pt x="7613" y="31"/>
                  </a:lnTo>
                  <a:lnTo>
                    <a:pt x="7533" y="46"/>
                  </a:lnTo>
                  <a:lnTo>
                    <a:pt x="7451" y="63"/>
                  </a:lnTo>
                  <a:lnTo>
                    <a:pt x="7366" y="83"/>
                  </a:lnTo>
                  <a:lnTo>
                    <a:pt x="7283" y="104"/>
                  </a:lnTo>
                  <a:lnTo>
                    <a:pt x="7207" y="122"/>
                  </a:lnTo>
                  <a:lnTo>
                    <a:pt x="7136" y="139"/>
                  </a:lnTo>
                  <a:lnTo>
                    <a:pt x="7071" y="153"/>
                  </a:lnTo>
                  <a:lnTo>
                    <a:pt x="7010" y="166"/>
                  </a:lnTo>
                  <a:lnTo>
                    <a:pt x="6955" y="177"/>
                  </a:lnTo>
                  <a:lnTo>
                    <a:pt x="6903" y="186"/>
                  </a:lnTo>
                  <a:lnTo>
                    <a:pt x="6856" y="193"/>
                  </a:lnTo>
                  <a:lnTo>
                    <a:pt x="6813" y="199"/>
                  </a:lnTo>
                  <a:lnTo>
                    <a:pt x="6773" y="204"/>
                  </a:lnTo>
                  <a:lnTo>
                    <a:pt x="6737" y="207"/>
                  </a:lnTo>
                  <a:lnTo>
                    <a:pt x="6704" y="209"/>
                  </a:lnTo>
                  <a:lnTo>
                    <a:pt x="6674" y="210"/>
                  </a:lnTo>
                  <a:lnTo>
                    <a:pt x="6646" y="210"/>
                  </a:lnTo>
                  <a:lnTo>
                    <a:pt x="6620" y="209"/>
                  </a:lnTo>
                  <a:lnTo>
                    <a:pt x="6597" y="208"/>
                  </a:lnTo>
                  <a:lnTo>
                    <a:pt x="6576" y="206"/>
                  </a:lnTo>
                  <a:lnTo>
                    <a:pt x="6556" y="203"/>
                  </a:lnTo>
                  <a:lnTo>
                    <a:pt x="6537" y="200"/>
                  </a:lnTo>
                  <a:lnTo>
                    <a:pt x="6518" y="197"/>
                  </a:lnTo>
                  <a:lnTo>
                    <a:pt x="6483" y="190"/>
                  </a:lnTo>
                  <a:lnTo>
                    <a:pt x="6449" y="182"/>
                  </a:lnTo>
                  <a:lnTo>
                    <a:pt x="6431" y="179"/>
                  </a:lnTo>
                  <a:lnTo>
                    <a:pt x="6413" y="176"/>
                  </a:lnTo>
                  <a:lnTo>
                    <a:pt x="6392" y="174"/>
                  </a:lnTo>
                  <a:lnTo>
                    <a:pt x="6371" y="172"/>
                  </a:lnTo>
                  <a:lnTo>
                    <a:pt x="6349" y="170"/>
                  </a:lnTo>
                  <a:lnTo>
                    <a:pt x="6325" y="170"/>
                  </a:lnTo>
                  <a:lnTo>
                    <a:pt x="6298" y="170"/>
                  </a:lnTo>
                  <a:lnTo>
                    <a:pt x="6269" y="171"/>
                  </a:lnTo>
                  <a:lnTo>
                    <a:pt x="6208" y="176"/>
                  </a:lnTo>
                  <a:lnTo>
                    <a:pt x="6144" y="182"/>
                  </a:lnTo>
                  <a:lnTo>
                    <a:pt x="6080" y="191"/>
                  </a:lnTo>
                  <a:lnTo>
                    <a:pt x="6015" y="201"/>
                  </a:lnTo>
                  <a:lnTo>
                    <a:pt x="5983" y="207"/>
                  </a:lnTo>
                  <a:lnTo>
                    <a:pt x="5951" y="213"/>
                  </a:lnTo>
                  <a:lnTo>
                    <a:pt x="5919" y="220"/>
                  </a:lnTo>
                  <a:lnTo>
                    <a:pt x="5886" y="228"/>
                  </a:lnTo>
                  <a:lnTo>
                    <a:pt x="5854" y="236"/>
                  </a:lnTo>
                  <a:lnTo>
                    <a:pt x="5823" y="244"/>
                  </a:lnTo>
                  <a:lnTo>
                    <a:pt x="5792" y="253"/>
                  </a:lnTo>
                  <a:lnTo>
                    <a:pt x="5761" y="263"/>
                  </a:lnTo>
                  <a:lnTo>
                    <a:pt x="5731" y="273"/>
                  </a:lnTo>
                  <a:lnTo>
                    <a:pt x="5701" y="284"/>
                  </a:lnTo>
                  <a:lnTo>
                    <a:pt x="5672" y="295"/>
                  </a:lnTo>
                  <a:lnTo>
                    <a:pt x="5643" y="307"/>
                  </a:lnTo>
                  <a:lnTo>
                    <a:pt x="5615" y="319"/>
                  </a:lnTo>
                  <a:lnTo>
                    <a:pt x="5589" y="332"/>
                  </a:lnTo>
                  <a:lnTo>
                    <a:pt x="5563" y="346"/>
                  </a:lnTo>
                  <a:lnTo>
                    <a:pt x="5538" y="360"/>
                  </a:lnTo>
                  <a:lnTo>
                    <a:pt x="5513" y="374"/>
                  </a:lnTo>
                  <a:lnTo>
                    <a:pt x="5490" y="389"/>
                  </a:lnTo>
                  <a:lnTo>
                    <a:pt x="5468" y="406"/>
                  </a:lnTo>
                  <a:lnTo>
                    <a:pt x="5448" y="423"/>
                  </a:lnTo>
                  <a:lnTo>
                    <a:pt x="5428" y="440"/>
                  </a:lnTo>
                  <a:lnTo>
                    <a:pt x="5410" y="457"/>
                  </a:lnTo>
                  <a:lnTo>
                    <a:pt x="5393" y="475"/>
                  </a:lnTo>
                  <a:lnTo>
                    <a:pt x="5377" y="494"/>
                  </a:lnTo>
                  <a:lnTo>
                    <a:pt x="5360" y="515"/>
                  </a:lnTo>
                  <a:lnTo>
                    <a:pt x="5339" y="539"/>
                  </a:lnTo>
                  <a:lnTo>
                    <a:pt x="5313" y="565"/>
                  </a:lnTo>
                  <a:lnTo>
                    <a:pt x="5283" y="595"/>
                  </a:lnTo>
                  <a:lnTo>
                    <a:pt x="5248" y="627"/>
                  </a:lnTo>
                  <a:lnTo>
                    <a:pt x="5211" y="662"/>
                  </a:lnTo>
                  <a:lnTo>
                    <a:pt x="5170" y="699"/>
                  </a:lnTo>
                  <a:lnTo>
                    <a:pt x="5125" y="737"/>
                  </a:lnTo>
                  <a:lnTo>
                    <a:pt x="5078" y="778"/>
                  </a:lnTo>
                  <a:lnTo>
                    <a:pt x="5028" y="819"/>
                  </a:lnTo>
                  <a:lnTo>
                    <a:pt x="4975" y="861"/>
                  </a:lnTo>
                  <a:lnTo>
                    <a:pt x="4921" y="905"/>
                  </a:lnTo>
                  <a:lnTo>
                    <a:pt x="4864" y="948"/>
                  </a:lnTo>
                  <a:lnTo>
                    <a:pt x="4806" y="991"/>
                  </a:lnTo>
                  <a:lnTo>
                    <a:pt x="4746" y="1036"/>
                  </a:lnTo>
                  <a:lnTo>
                    <a:pt x="4686" y="1079"/>
                  </a:lnTo>
                  <a:lnTo>
                    <a:pt x="4624" y="1122"/>
                  </a:lnTo>
                  <a:lnTo>
                    <a:pt x="4562" y="1163"/>
                  </a:lnTo>
                  <a:lnTo>
                    <a:pt x="4498" y="1203"/>
                  </a:lnTo>
                  <a:lnTo>
                    <a:pt x="4436" y="1243"/>
                  </a:lnTo>
                  <a:lnTo>
                    <a:pt x="4372" y="1280"/>
                  </a:lnTo>
                  <a:lnTo>
                    <a:pt x="4310" y="1315"/>
                  </a:lnTo>
                  <a:lnTo>
                    <a:pt x="4247" y="1347"/>
                  </a:lnTo>
                  <a:lnTo>
                    <a:pt x="4186" y="1378"/>
                  </a:lnTo>
                  <a:lnTo>
                    <a:pt x="4125" y="1405"/>
                  </a:lnTo>
                  <a:lnTo>
                    <a:pt x="4067" y="1429"/>
                  </a:lnTo>
                  <a:lnTo>
                    <a:pt x="4008" y="1450"/>
                  </a:lnTo>
                  <a:lnTo>
                    <a:pt x="3953" y="1467"/>
                  </a:lnTo>
                  <a:lnTo>
                    <a:pt x="3899" y="1481"/>
                  </a:lnTo>
                  <a:lnTo>
                    <a:pt x="3847" y="1490"/>
                  </a:lnTo>
                  <a:lnTo>
                    <a:pt x="3798" y="1495"/>
                  </a:lnTo>
                  <a:lnTo>
                    <a:pt x="3751" y="1494"/>
                  </a:lnTo>
                  <a:lnTo>
                    <a:pt x="3706" y="1491"/>
                  </a:lnTo>
                  <a:lnTo>
                    <a:pt x="3660" y="1488"/>
                  </a:lnTo>
                  <a:lnTo>
                    <a:pt x="3612" y="1487"/>
                  </a:lnTo>
                  <a:lnTo>
                    <a:pt x="3564" y="1485"/>
                  </a:lnTo>
                  <a:lnTo>
                    <a:pt x="3516" y="1485"/>
                  </a:lnTo>
                  <a:lnTo>
                    <a:pt x="3467" y="1486"/>
                  </a:lnTo>
                  <a:lnTo>
                    <a:pt x="3418" y="1487"/>
                  </a:lnTo>
                  <a:lnTo>
                    <a:pt x="3368" y="1489"/>
                  </a:lnTo>
                  <a:lnTo>
                    <a:pt x="3319" y="1491"/>
                  </a:lnTo>
                  <a:lnTo>
                    <a:pt x="3270" y="1495"/>
                  </a:lnTo>
                  <a:lnTo>
                    <a:pt x="3220" y="1500"/>
                  </a:lnTo>
                  <a:lnTo>
                    <a:pt x="3171" y="1505"/>
                  </a:lnTo>
                  <a:lnTo>
                    <a:pt x="3123" y="1511"/>
                  </a:lnTo>
                  <a:lnTo>
                    <a:pt x="3075" y="1518"/>
                  </a:lnTo>
                  <a:lnTo>
                    <a:pt x="3029" y="1527"/>
                  </a:lnTo>
                  <a:lnTo>
                    <a:pt x="2982" y="1536"/>
                  </a:lnTo>
                  <a:lnTo>
                    <a:pt x="2938" y="1546"/>
                  </a:lnTo>
                  <a:lnTo>
                    <a:pt x="2894" y="1557"/>
                  </a:lnTo>
                  <a:lnTo>
                    <a:pt x="2851" y="1569"/>
                  </a:lnTo>
                  <a:lnTo>
                    <a:pt x="2811" y="1582"/>
                  </a:lnTo>
                  <a:lnTo>
                    <a:pt x="2771" y="1597"/>
                  </a:lnTo>
                  <a:lnTo>
                    <a:pt x="2733" y="1612"/>
                  </a:lnTo>
                  <a:lnTo>
                    <a:pt x="2697" y="1628"/>
                  </a:lnTo>
                  <a:lnTo>
                    <a:pt x="2664" y="1646"/>
                  </a:lnTo>
                  <a:lnTo>
                    <a:pt x="2632" y="1664"/>
                  </a:lnTo>
                  <a:lnTo>
                    <a:pt x="2601" y="1684"/>
                  </a:lnTo>
                  <a:lnTo>
                    <a:pt x="2574" y="1705"/>
                  </a:lnTo>
                  <a:lnTo>
                    <a:pt x="2550" y="1727"/>
                  </a:lnTo>
                  <a:lnTo>
                    <a:pt x="2528" y="1750"/>
                  </a:lnTo>
                  <a:lnTo>
                    <a:pt x="2509" y="1775"/>
                  </a:lnTo>
                  <a:lnTo>
                    <a:pt x="2491" y="1800"/>
                  </a:lnTo>
                  <a:lnTo>
                    <a:pt x="2478" y="1827"/>
                  </a:lnTo>
                  <a:lnTo>
                    <a:pt x="2467" y="1854"/>
                  </a:lnTo>
                  <a:lnTo>
                    <a:pt x="2458" y="1878"/>
                  </a:lnTo>
                  <a:lnTo>
                    <a:pt x="2451" y="1902"/>
                  </a:lnTo>
                  <a:lnTo>
                    <a:pt x="2446" y="1924"/>
                  </a:lnTo>
                  <a:lnTo>
                    <a:pt x="2443" y="1946"/>
                  </a:lnTo>
                  <a:lnTo>
                    <a:pt x="2441" y="1968"/>
                  </a:lnTo>
                  <a:lnTo>
                    <a:pt x="2441" y="1988"/>
                  </a:lnTo>
                  <a:lnTo>
                    <a:pt x="2443" y="2008"/>
                  </a:lnTo>
                  <a:lnTo>
                    <a:pt x="2447" y="2027"/>
                  </a:lnTo>
                  <a:lnTo>
                    <a:pt x="2452" y="2046"/>
                  </a:lnTo>
                  <a:lnTo>
                    <a:pt x="2459" y="2065"/>
                  </a:lnTo>
                  <a:lnTo>
                    <a:pt x="2468" y="2084"/>
                  </a:lnTo>
                  <a:lnTo>
                    <a:pt x="2478" y="2102"/>
                  </a:lnTo>
                  <a:lnTo>
                    <a:pt x="2489" y="2120"/>
                  </a:lnTo>
                  <a:lnTo>
                    <a:pt x="2502" y="2138"/>
                  </a:lnTo>
                  <a:lnTo>
                    <a:pt x="2518" y="2157"/>
                  </a:lnTo>
                  <a:lnTo>
                    <a:pt x="2533" y="2175"/>
                  </a:lnTo>
                  <a:lnTo>
                    <a:pt x="2550" y="2195"/>
                  </a:lnTo>
                  <a:lnTo>
                    <a:pt x="2569" y="2215"/>
                  </a:lnTo>
                  <a:lnTo>
                    <a:pt x="2588" y="2234"/>
                  </a:lnTo>
                  <a:lnTo>
                    <a:pt x="2632" y="2276"/>
                  </a:lnTo>
                  <a:lnTo>
                    <a:pt x="2679" y="2322"/>
                  </a:lnTo>
                  <a:lnTo>
                    <a:pt x="2731" y="2372"/>
                  </a:lnTo>
                  <a:lnTo>
                    <a:pt x="2787" y="2426"/>
                  </a:lnTo>
                  <a:lnTo>
                    <a:pt x="2846" y="2486"/>
                  </a:lnTo>
                  <a:lnTo>
                    <a:pt x="2909" y="2553"/>
                  </a:lnTo>
                  <a:lnTo>
                    <a:pt x="2976" y="2626"/>
                  </a:lnTo>
                  <a:lnTo>
                    <a:pt x="3050" y="2709"/>
                  </a:lnTo>
                  <a:lnTo>
                    <a:pt x="3089" y="2753"/>
                  </a:lnTo>
                  <a:lnTo>
                    <a:pt x="3128" y="2800"/>
                  </a:lnTo>
                  <a:lnTo>
                    <a:pt x="3169" y="2848"/>
                  </a:lnTo>
                  <a:lnTo>
                    <a:pt x="3210" y="2897"/>
                  </a:lnTo>
                  <a:lnTo>
                    <a:pt x="3250" y="2948"/>
                  </a:lnTo>
                  <a:lnTo>
                    <a:pt x="3291" y="2999"/>
                  </a:lnTo>
                  <a:lnTo>
                    <a:pt x="3330" y="3052"/>
                  </a:lnTo>
                  <a:lnTo>
                    <a:pt x="3368" y="3104"/>
                  </a:lnTo>
                  <a:lnTo>
                    <a:pt x="3406" y="3158"/>
                  </a:lnTo>
                  <a:lnTo>
                    <a:pt x="3441" y="3211"/>
                  </a:lnTo>
                  <a:lnTo>
                    <a:pt x="3475" y="3264"/>
                  </a:lnTo>
                  <a:lnTo>
                    <a:pt x="3506" y="3318"/>
                  </a:lnTo>
                  <a:lnTo>
                    <a:pt x="3536" y="3370"/>
                  </a:lnTo>
                  <a:lnTo>
                    <a:pt x="3562" y="3423"/>
                  </a:lnTo>
                  <a:lnTo>
                    <a:pt x="3585" y="3474"/>
                  </a:lnTo>
                  <a:lnTo>
                    <a:pt x="3604" y="3525"/>
                  </a:lnTo>
                  <a:lnTo>
                    <a:pt x="3620" y="3574"/>
                  </a:lnTo>
                  <a:lnTo>
                    <a:pt x="3631" y="3621"/>
                  </a:lnTo>
                  <a:lnTo>
                    <a:pt x="3640" y="3667"/>
                  </a:lnTo>
                  <a:lnTo>
                    <a:pt x="3642" y="3711"/>
                  </a:lnTo>
                  <a:lnTo>
                    <a:pt x="3640" y="3754"/>
                  </a:lnTo>
                  <a:lnTo>
                    <a:pt x="3632" y="3793"/>
                  </a:lnTo>
                  <a:lnTo>
                    <a:pt x="3618" y="3830"/>
                  </a:lnTo>
                  <a:lnTo>
                    <a:pt x="3599" y="3866"/>
                  </a:lnTo>
                  <a:lnTo>
                    <a:pt x="3574" y="3897"/>
                  </a:lnTo>
                  <a:lnTo>
                    <a:pt x="3543" y="3926"/>
                  </a:lnTo>
                  <a:lnTo>
                    <a:pt x="3503" y="3951"/>
                  </a:lnTo>
                  <a:lnTo>
                    <a:pt x="3458" y="3973"/>
                  </a:lnTo>
                  <a:lnTo>
                    <a:pt x="3409" y="3992"/>
                  </a:lnTo>
                  <a:lnTo>
                    <a:pt x="3362" y="4007"/>
                  </a:lnTo>
                  <a:lnTo>
                    <a:pt x="3319" y="4019"/>
                  </a:lnTo>
                  <a:lnTo>
                    <a:pt x="3279" y="4028"/>
                  </a:lnTo>
                  <a:lnTo>
                    <a:pt x="3240" y="4034"/>
                  </a:lnTo>
                  <a:lnTo>
                    <a:pt x="3205" y="4037"/>
                  </a:lnTo>
                  <a:lnTo>
                    <a:pt x="3172" y="4037"/>
                  </a:lnTo>
                  <a:lnTo>
                    <a:pt x="3141" y="4035"/>
                  </a:lnTo>
                  <a:lnTo>
                    <a:pt x="3111" y="4031"/>
                  </a:lnTo>
                  <a:lnTo>
                    <a:pt x="3084" y="4025"/>
                  </a:lnTo>
                  <a:lnTo>
                    <a:pt x="3058" y="4017"/>
                  </a:lnTo>
                  <a:lnTo>
                    <a:pt x="3034" y="4007"/>
                  </a:lnTo>
                  <a:lnTo>
                    <a:pt x="3011" y="3996"/>
                  </a:lnTo>
                  <a:lnTo>
                    <a:pt x="2988" y="3983"/>
                  </a:lnTo>
                  <a:lnTo>
                    <a:pt x="2968" y="3969"/>
                  </a:lnTo>
                  <a:lnTo>
                    <a:pt x="2948" y="3954"/>
                  </a:lnTo>
                  <a:lnTo>
                    <a:pt x="2929" y="3938"/>
                  </a:lnTo>
                  <a:lnTo>
                    <a:pt x="2911" y="3921"/>
                  </a:lnTo>
                  <a:lnTo>
                    <a:pt x="2894" y="3904"/>
                  </a:lnTo>
                  <a:lnTo>
                    <a:pt x="2876" y="3886"/>
                  </a:lnTo>
                  <a:lnTo>
                    <a:pt x="2842" y="3849"/>
                  </a:lnTo>
                  <a:lnTo>
                    <a:pt x="2808" y="3813"/>
                  </a:lnTo>
                  <a:lnTo>
                    <a:pt x="2790" y="3796"/>
                  </a:lnTo>
                  <a:lnTo>
                    <a:pt x="2772" y="3779"/>
                  </a:lnTo>
                  <a:lnTo>
                    <a:pt x="2752" y="3763"/>
                  </a:lnTo>
                  <a:lnTo>
                    <a:pt x="2733" y="3748"/>
                  </a:lnTo>
                  <a:lnTo>
                    <a:pt x="2713" y="3733"/>
                  </a:lnTo>
                  <a:lnTo>
                    <a:pt x="2691" y="3720"/>
                  </a:lnTo>
                  <a:lnTo>
                    <a:pt x="2669" y="3709"/>
                  </a:lnTo>
                  <a:lnTo>
                    <a:pt x="2645" y="3699"/>
                  </a:lnTo>
                  <a:lnTo>
                    <a:pt x="2618" y="3689"/>
                  </a:lnTo>
                  <a:lnTo>
                    <a:pt x="2590" y="3681"/>
                  </a:lnTo>
                  <a:lnTo>
                    <a:pt x="2559" y="3674"/>
                  </a:lnTo>
                  <a:lnTo>
                    <a:pt x="2526" y="3667"/>
                  </a:lnTo>
                  <a:lnTo>
                    <a:pt x="2490" y="3662"/>
                  </a:lnTo>
                  <a:lnTo>
                    <a:pt x="2453" y="3657"/>
                  </a:lnTo>
                  <a:lnTo>
                    <a:pt x="2414" y="3654"/>
                  </a:lnTo>
                  <a:lnTo>
                    <a:pt x="2373" y="3652"/>
                  </a:lnTo>
                  <a:lnTo>
                    <a:pt x="2331" y="3651"/>
                  </a:lnTo>
                  <a:lnTo>
                    <a:pt x="2287" y="3651"/>
                  </a:lnTo>
                  <a:lnTo>
                    <a:pt x="2242" y="3652"/>
                  </a:lnTo>
                  <a:lnTo>
                    <a:pt x="2196" y="3654"/>
                  </a:lnTo>
                  <a:lnTo>
                    <a:pt x="2149" y="3657"/>
                  </a:lnTo>
                  <a:lnTo>
                    <a:pt x="2100" y="3662"/>
                  </a:lnTo>
                  <a:lnTo>
                    <a:pt x="2051" y="3667"/>
                  </a:lnTo>
                  <a:lnTo>
                    <a:pt x="2002" y="3673"/>
                  </a:lnTo>
                  <a:lnTo>
                    <a:pt x="1952" y="3681"/>
                  </a:lnTo>
                  <a:lnTo>
                    <a:pt x="1902" y="3690"/>
                  </a:lnTo>
                  <a:lnTo>
                    <a:pt x="1850" y="3700"/>
                  </a:lnTo>
                  <a:lnTo>
                    <a:pt x="1800" y="3711"/>
                  </a:lnTo>
                  <a:lnTo>
                    <a:pt x="1750" y="3723"/>
                  </a:lnTo>
                  <a:lnTo>
                    <a:pt x="1699" y="3736"/>
                  </a:lnTo>
                  <a:lnTo>
                    <a:pt x="1649" y="3751"/>
                  </a:lnTo>
                  <a:lnTo>
                    <a:pt x="1599" y="3767"/>
                  </a:lnTo>
                  <a:lnTo>
                    <a:pt x="1550" y="3784"/>
                  </a:lnTo>
                  <a:lnTo>
                    <a:pt x="1502" y="3801"/>
                  </a:lnTo>
                  <a:lnTo>
                    <a:pt x="1454" y="3820"/>
                  </a:lnTo>
                  <a:lnTo>
                    <a:pt x="1408" y="3841"/>
                  </a:lnTo>
                  <a:lnTo>
                    <a:pt x="1362" y="3862"/>
                  </a:lnTo>
                  <a:lnTo>
                    <a:pt x="1318" y="3885"/>
                  </a:lnTo>
                  <a:lnTo>
                    <a:pt x="1275" y="3909"/>
                  </a:lnTo>
                  <a:lnTo>
                    <a:pt x="1234" y="3934"/>
                  </a:lnTo>
                  <a:lnTo>
                    <a:pt x="1153" y="3983"/>
                  </a:lnTo>
                  <a:lnTo>
                    <a:pt x="1074" y="4032"/>
                  </a:lnTo>
                  <a:lnTo>
                    <a:pt x="1037" y="4056"/>
                  </a:lnTo>
                  <a:lnTo>
                    <a:pt x="1000" y="4080"/>
                  </a:lnTo>
                  <a:lnTo>
                    <a:pt x="964" y="4105"/>
                  </a:lnTo>
                  <a:lnTo>
                    <a:pt x="931" y="4129"/>
                  </a:lnTo>
                  <a:lnTo>
                    <a:pt x="899" y="4153"/>
                  </a:lnTo>
                  <a:lnTo>
                    <a:pt x="869" y="4176"/>
                  </a:lnTo>
                  <a:lnTo>
                    <a:pt x="839" y="4200"/>
                  </a:lnTo>
                  <a:lnTo>
                    <a:pt x="812" y="4225"/>
                  </a:lnTo>
                  <a:lnTo>
                    <a:pt x="788" y="4248"/>
                  </a:lnTo>
                  <a:lnTo>
                    <a:pt x="765" y="4272"/>
                  </a:lnTo>
                  <a:lnTo>
                    <a:pt x="745" y="4296"/>
                  </a:lnTo>
                  <a:lnTo>
                    <a:pt x="727" y="4320"/>
                  </a:lnTo>
                  <a:lnTo>
                    <a:pt x="712" y="4345"/>
                  </a:lnTo>
                  <a:lnTo>
                    <a:pt x="699" y="4369"/>
                  </a:lnTo>
                  <a:lnTo>
                    <a:pt x="690" y="4393"/>
                  </a:lnTo>
                  <a:lnTo>
                    <a:pt x="683" y="4417"/>
                  </a:lnTo>
                  <a:lnTo>
                    <a:pt x="679" y="4442"/>
                  </a:lnTo>
                  <a:lnTo>
                    <a:pt x="679" y="4467"/>
                  </a:lnTo>
                  <a:lnTo>
                    <a:pt x="682" y="4492"/>
                  </a:lnTo>
                  <a:lnTo>
                    <a:pt x="688" y="4517"/>
                  </a:lnTo>
                  <a:lnTo>
                    <a:pt x="698" y="4542"/>
                  </a:lnTo>
                  <a:lnTo>
                    <a:pt x="712" y="4568"/>
                  </a:lnTo>
                  <a:lnTo>
                    <a:pt x="730" y="4595"/>
                  </a:lnTo>
                  <a:lnTo>
                    <a:pt x="752" y="4621"/>
                  </a:lnTo>
                  <a:lnTo>
                    <a:pt x="778" y="4647"/>
                  </a:lnTo>
                  <a:lnTo>
                    <a:pt x="808" y="4673"/>
                  </a:lnTo>
                  <a:lnTo>
                    <a:pt x="842" y="4700"/>
                  </a:lnTo>
                  <a:lnTo>
                    <a:pt x="882" y="4728"/>
                  </a:lnTo>
                  <a:lnTo>
                    <a:pt x="922" y="4755"/>
                  </a:lnTo>
                  <a:lnTo>
                    <a:pt x="964" y="4782"/>
                  </a:lnTo>
                  <a:lnTo>
                    <a:pt x="1007" y="4809"/>
                  </a:lnTo>
                  <a:lnTo>
                    <a:pt x="1049" y="4836"/>
                  </a:lnTo>
                  <a:lnTo>
                    <a:pt x="1093" y="4862"/>
                  </a:lnTo>
                  <a:lnTo>
                    <a:pt x="1138" y="4887"/>
                  </a:lnTo>
                  <a:lnTo>
                    <a:pt x="1184" y="4912"/>
                  </a:lnTo>
                  <a:lnTo>
                    <a:pt x="1230" y="4935"/>
                  </a:lnTo>
                  <a:lnTo>
                    <a:pt x="1277" y="4960"/>
                  </a:lnTo>
                  <a:lnTo>
                    <a:pt x="1325" y="4982"/>
                  </a:lnTo>
                  <a:lnTo>
                    <a:pt x="1374" y="5004"/>
                  </a:lnTo>
                  <a:lnTo>
                    <a:pt x="1423" y="5024"/>
                  </a:lnTo>
                  <a:lnTo>
                    <a:pt x="1472" y="5044"/>
                  </a:lnTo>
                  <a:lnTo>
                    <a:pt x="1524" y="5064"/>
                  </a:lnTo>
                  <a:lnTo>
                    <a:pt x="1575" y="5082"/>
                  </a:lnTo>
                  <a:lnTo>
                    <a:pt x="1628" y="5098"/>
                  </a:lnTo>
                  <a:lnTo>
                    <a:pt x="1680" y="5113"/>
                  </a:lnTo>
                  <a:lnTo>
                    <a:pt x="1733" y="5128"/>
                  </a:lnTo>
                  <a:lnTo>
                    <a:pt x="1788" y="5140"/>
                  </a:lnTo>
                  <a:lnTo>
                    <a:pt x="1843" y="5152"/>
                  </a:lnTo>
                  <a:lnTo>
                    <a:pt x="1899" y="5162"/>
                  </a:lnTo>
                  <a:lnTo>
                    <a:pt x="1955" y="5170"/>
                  </a:lnTo>
                  <a:lnTo>
                    <a:pt x="2013" y="5177"/>
                  </a:lnTo>
                  <a:lnTo>
                    <a:pt x="2070" y="5183"/>
                  </a:lnTo>
                  <a:lnTo>
                    <a:pt x="2129" y="5187"/>
                  </a:lnTo>
                  <a:lnTo>
                    <a:pt x="2188" y="5189"/>
                  </a:lnTo>
                  <a:lnTo>
                    <a:pt x="2247" y="5189"/>
                  </a:lnTo>
                  <a:lnTo>
                    <a:pt x="2308" y="5187"/>
                  </a:lnTo>
                  <a:lnTo>
                    <a:pt x="2369" y="5183"/>
                  </a:lnTo>
                  <a:lnTo>
                    <a:pt x="2431" y="5176"/>
                  </a:lnTo>
                  <a:lnTo>
                    <a:pt x="2493" y="5169"/>
                  </a:lnTo>
                  <a:lnTo>
                    <a:pt x="2557" y="5159"/>
                  </a:lnTo>
                  <a:lnTo>
                    <a:pt x="2567" y="5156"/>
                  </a:lnTo>
                  <a:lnTo>
                    <a:pt x="2596" y="5147"/>
                  </a:lnTo>
                  <a:lnTo>
                    <a:pt x="2643" y="5135"/>
                  </a:lnTo>
                  <a:lnTo>
                    <a:pt x="2703" y="5119"/>
                  </a:lnTo>
                  <a:lnTo>
                    <a:pt x="2774" y="5101"/>
                  </a:lnTo>
                  <a:lnTo>
                    <a:pt x="2853" y="5082"/>
                  </a:lnTo>
                  <a:lnTo>
                    <a:pt x="2939" y="5063"/>
                  </a:lnTo>
                  <a:lnTo>
                    <a:pt x="3028" y="5044"/>
                  </a:lnTo>
                  <a:lnTo>
                    <a:pt x="3073" y="5035"/>
                  </a:lnTo>
                  <a:lnTo>
                    <a:pt x="3117" y="5028"/>
                  </a:lnTo>
                  <a:lnTo>
                    <a:pt x="3162" y="5021"/>
                  </a:lnTo>
                  <a:lnTo>
                    <a:pt x="3205" y="5015"/>
                  </a:lnTo>
                  <a:lnTo>
                    <a:pt x="3246" y="5010"/>
                  </a:lnTo>
                  <a:lnTo>
                    <a:pt x="3287" y="5006"/>
                  </a:lnTo>
                  <a:lnTo>
                    <a:pt x="3326" y="5003"/>
                  </a:lnTo>
                  <a:lnTo>
                    <a:pt x="3362" y="5002"/>
                  </a:lnTo>
                  <a:lnTo>
                    <a:pt x="3397" y="5003"/>
                  </a:lnTo>
                  <a:lnTo>
                    <a:pt x="3428" y="5005"/>
                  </a:lnTo>
                  <a:lnTo>
                    <a:pt x="3455" y="5009"/>
                  </a:lnTo>
                  <a:lnTo>
                    <a:pt x="3480" y="5015"/>
                  </a:lnTo>
                  <a:lnTo>
                    <a:pt x="3500" y="5023"/>
                  </a:lnTo>
                  <a:lnTo>
                    <a:pt x="3517" y="5033"/>
                  </a:lnTo>
                  <a:lnTo>
                    <a:pt x="3529" y="5046"/>
                  </a:lnTo>
                  <a:lnTo>
                    <a:pt x="3536" y="5062"/>
                  </a:lnTo>
                  <a:lnTo>
                    <a:pt x="3540" y="5077"/>
                  </a:lnTo>
                  <a:lnTo>
                    <a:pt x="3541" y="5092"/>
                  </a:lnTo>
                  <a:lnTo>
                    <a:pt x="3540" y="5106"/>
                  </a:lnTo>
                  <a:lnTo>
                    <a:pt x="3537" y="5118"/>
                  </a:lnTo>
                  <a:lnTo>
                    <a:pt x="3532" y="5130"/>
                  </a:lnTo>
                  <a:lnTo>
                    <a:pt x="3526" y="5141"/>
                  </a:lnTo>
                  <a:lnTo>
                    <a:pt x="3518" y="5151"/>
                  </a:lnTo>
                  <a:lnTo>
                    <a:pt x="3508" y="5161"/>
                  </a:lnTo>
                  <a:lnTo>
                    <a:pt x="3498" y="5170"/>
                  </a:lnTo>
                  <a:lnTo>
                    <a:pt x="3486" y="5178"/>
                  </a:lnTo>
                  <a:lnTo>
                    <a:pt x="3474" y="5187"/>
                  </a:lnTo>
                  <a:lnTo>
                    <a:pt x="3461" y="5195"/>
                  </a:lnTo>
                  <a:lnTo>
                    <a:pt x="3433" y="5209"/>
                  </a:lnTo>
                  <a:lnTo>
                    <a:pt x="3404" y="5223"/>
                  </a:lnTo>
                  <a:lnTo>
                    <a:pt x="3374" y="5237"/>
                  </a:lnTo>
                  <a:lnTo>
                    <a:pt x="3346" y="5251"/>
                  </a:lnTo>
                  <a:lnTo>
                    <a:pt x="3333" y="5259"/>
                  </a:lnTo>
                  <a:lnTo>
                    <a:pt x="3321" y="5267"/>
                  </a:lnTo>
                  <a:lnTo>
                    <a:pt x="3310" y="5275"/>
                  </a:lnTo>
                  <a:lnTo>
                    <a:pt x="3299" y="5284"/>
                  </a:lnTo>
                  <a:lnTo>
                    <a:pt x="3290" y="5294"/>
                  </a:lnTo>
                  <a:lnTo>
                    <a:pt x="3282" y="5305"/>
                  </a:lnTo>
                  <a:lnTo>
                    <a:pt x="3276" y="5316"/>
                  </a:lnTo>
                  <a:lnTo>
                    <a:pt x="3271" y="5328"/>
                  </a:lnTo>
                  <a:lnTo>
                    <a:pt x="3268" y="5340"/>
                  </a:lnTo>
                  <a:lnTo>
                    <a:pt x="3267" y="5354"/>
                  </a:lnTo>
                  <a:lnTo>
                    <a:pt x="3269" y="5369"/>
                  </a:lnTo>
                  <a:lnTo>
                    <a:pt x="3272" y="5384"/>
                  </a:lnTo>
                  <a:lnTo>
                    <a:pt x="3276" y="5401"/>
                  </a:lnTo>
                  <a:lnTo>
                    <a:pt x="3281" y="5417"/>
                  </a:lnTo>
                  <a:lnTo>
                    <a:pt x="3288" y="5434"/>
                  </a:lnTo>
                  <a:lnTo>
                    <a:pt x="3294" y="5450"/>
                  </a:lnTo>
                  <a:lnTo>
                    <a:pt x="3310" y="5481"/>
                  </a:lnTo>
                  <a:lnTo>
                    <a:pt x="3326" y="5511"/>
                  </a:lnTo>
                  <a:lnTo>
                    <a:pt x="3341" y="5542"/>
                  </a:lnTo>
                  <a:lnTo>
                    <a:pt x="3356" y="5572"/>
                  </a:lnTo>
                  <a:lnTo>
                    <a:pt x="3362" y="5586"/>
                  </a:lnTo>
                  <a:lnTo>
                    <a:pt x="3367" y="5601"/>
                  </a:lnTo>
                  <a:lnTo>
                    <a:pt x="3371" y="5615"/>
                  </a:lnTo>
                  <a:lnTo>
                    <a:pt x="3374" y="5629"/>
                  </a:lnTo>
                  <a:lnTo>
                    <a:pt x="3376" y="5643"/>
                  </a:lnTo>
                  <a:lnTo>
                    <a:pt x="3376" y="5657"/>
                  </a:lnTo>
                  <a:lnTo>
                    <a:pt x="3374" y="5672"/>
                  </a:lnTo>
                  <a:lnTo>
                    <a:pt x="3370" y="5686"/>
                  </a:lnTo>
                  <a:lnTo>
                    <a:pt x="3365" y="5700"/>
                  </a:lnTo>
                  <a:lnTo>
                    <a:pt x="3357" y="5713"/>
                  </a:lnTo>
                  <a:lnTo>
                    <a:pt x="3347" y="5727"/>
                  </a:lnTo>
                  <a:lnTo>
                    <a:pt x="3335" y="5740"/>
                  </a:lnTo>
                  <a:lnTo>
                    <a:pt x="3320" y="5753"/>
                  </a:lnTo>
                  <a:lnTo>
                    <a:pt x="3302" y="5766"/>
                  </a:lnTo>
                  <a:lnTo>
                    <a:pt x="3281" y="5781"/>
                  </a:lnTo>
                  <a:lnTo>
                    <a:pt x="3256" y="5794"/>
                  </a:lnTo>
                  <a:lnTo>
                    <a:pt x="3228" y="5807"/>
                  </a:lnTo>
                  <a:lnTo>
                    <a:pt x="3198" y="5819"/>
                  </a:lnTo>
                  <a:lnTo>
                    <a:pt x="3163" y="5832"/>
                  </a:lnTo>
                  <a:lnTo>
                    <a:pt x="3124" y="5845"/>
                  </a:lnTo>
                  <a:lnTo>
                    <a:pt x="3082" y="5859"/>
                  </a:lnTo>
                  <a:lnTo>
                    <a:pt x="3037" y="5871"/>
                  </a:lnTo>
                  <a:lnTo>
                    <a:pt x="2988" y="5884"/>
                  </a:lnTo>
                  <a:lnTo>
                    <a:pt x="2938" y="5896"/>
                  </a:lnTo>
                  <a:lnTo>
                    <a:pt x="2831" y="5921"/>
                  </a:lnTo>
                  <a:lnTo>
                    <a:pt x="2719" y="5944"/>
                  </a:lnTo>
                  <a:lnTo>
                    <a:pt x="2603" y="5968"/>
                  </a:lnTo>
                  <a:lnTo>
                    <a:pt x="2485" y="5992"/>
                  </a:lnTo>
                  <a:lnTo>
                    <a:pt x="2426" y="6005"/>
                  </a:lnTo>
                  <a:lnTo>
                    <a:pt x="2367" y="6018"/>
                  </a:lnTo>
                  <a:lnTo>
                    <a:pt x="2310" y="6033"/>
                  </a:lnTo>
                  <a:lnTo>
                    <a:pt x="2253" y="6047"/>
                  </a:lnTo>
                  <a:lnTo>
                    <a:pt x="2197" y="6063"/>
                  </a:lnTo>
                  <a:lnTo>
                    <a:pt x="2143" y="6079"/>
                  </a:lnTo>
                  <a:lnTo>
                    <a:pt x="2089" y="6096"/>
                  </a:lnTo>
                  <a:lnTo>
                    <a:pt x="2039" y="6113"/>
                  </a:lnTo>
                  <a:lnTo>
                    <a:pt x="1990" y="6132"/>
                  </a:lnTo>
                  <a:lnTo>
                    <a:pt x="1944" y="6153"/>
                  </a:lnTo>
                  <a:lnTo>
                    <a:pt x="1901" y="6174"/>
                  </a:lnTo>
                  <a:lnTo>
                    <a:pt x="1860" y="6197"/>
                  </a:lnTo>
                  <a:lnTo>
                    <a:pt x="1823" y="6220"/>
                  </a:lnTo>
                  <a:lnTo>
                    <a:pt x="1789" y="6246"/>
                  </a:lnTo>
                  <a:lnTo>
                    <a:pt x="1759" y="6273"/>
                  </a:lnTo>
                  <a:lnTo>
                    <a:pt x="1733" y="6301"/>
                  </a:lnTo>
                  <a:lnTo>
                    <a:pt x="1711" y="6331"/>
                  </a:lnTo>
                  <a:lnTo>
                    <a:pt x="1694" y="6363"/>
                  </a:lnTo>
                  <a:lnTo>
                    <a:pt x="1682" y="6398"/>
                  </a:lnTo>
                  <a:lnTo>
                    <a:pt x="1675" y="6433"/>
                  </a:lnTo>
                  <a:lnTo>
                    <a:pt x="1677" y="6433"/>
                  </a:lnTo>
                  <a:lnTo>
                    <a:pt x="1682" y="6432"/>
                  </a:lnTo>
                  <a:lnTo>
                    <a:pt x="1688" y="6432"/>
                  </a:lnTo>
                  <a:lnTo>
                    <a:pt x="1694" y="6432"/>
                  </a:lnTo>
                  <a:lnTo>
                    <a:pt x="1695" y="6433"/>
                  </a:lnTo>
                  <a:lnTo>
                    <a:pt x="1696" y="6434"/>
                  </a:lnTo>
                  <a:lnTo>
                    <a:pt x="1696" y="6435"/>
                  </a:lnTo>
                  <a:lnTo>
                    <a:pt x="1695" y="6436"/>
                  </a:lnTo>
                  <a:lnTo>
                    <a:pt x="1687" y="6441"/>
                  </a:lnTo>
                  <a:lnTo>
                    <a:pt x="1671" y="6448"/>
                  </a:lnTo>
                  <a:lnTo>
                    <a:pt x="1646" y="6457"/>
                  </a:lnTo>
                  <a:lnTo>
                    <a:pt x="1607" y="6470"/>
                  </a:lnTo>
                  <a:lnTo>
                    <a:pt x="1556" y="6487"/>
                  </a:lnTo>
                  <a:lnTo>
                    <a:pt x="1488" y="6508"/>
                  </a:lnTo>
                  <a:lnTo>
                    <a:pt x="1405" y="6533"/>
                  </a:lnTo>
                  <a:lnTo>
                    <a:pt x="1301" y="6563"/>
                  </a:lnTo>
                  <a:lnTo>
                    <a:pt x="1176" y="6597"/>
                  </a:lnTo>
                  <a:lnTo>
                    <a:pt x="1029" y="6639"/>
                  </a:lnTo>
                  <a:lnTo>
                    <a:pt x="875" y="6682"/>
                  </a:lnTo>
                  <a:lnTo>
                    <a:pt x="734" y="6721"/>
                  </a:lnTo>
                  <a:lnTo>
                    <a:pt x="669" y="6742"/>
                  </a:lnTo>
                  <a:lnTo>
                    <a:pt x="607" y="6760"/>
                  </a:lnTo>
                  <a:lnTo>
                    <a:pt x="548" y="6779"/>
                  </a:lnTo>
                  <a:lnTo>
                    <a:pt x="493" y="6797"/>
                  </a:lnTo>
                  <a:lnTo>
                    <a:pt x="440" y="6815"/>
                  </a:lnTo>
                  <a:lnTo>
                    <a:pt x="392" y="6832"/>
                  </a:lnTo>
                  <a:lnTo>
                    <a:pt x="345" y="6850"/>
                  </a:lnTo>
                  <a:lnTo>
                    <a:pt x="304" y="6868"/>
                  </a:lnTo>
                  <a:lnTo>
                    <a:pt x="265" y="6886"/>
                  </a:lnTo>
                  <a:lnTo>
                    <a:pt x="228" y="6903"/>
                  </a:lnTo>
                  <a:lnTo>
                    <a:pt x="196" y="6921"/>
                  </a:lnTo>
                  <a:lnTo>
                    <a:pt x="168" y="6939"/>
                  </a:lnTo>
                  <a:lnTo>
                    <a:pt x="142" y="6957"/>
                  </a:lnTo>
                  <a:lnTo>
                    <a:pt x="120" y="6975"/>
                  </a:lnTo>
                  <a:lnTo>
                    <a:pt x="100" y="6995"/>
                  </a:lnTo>
                  <a:lnTo>
                    <a:pt x="85" y="7015"/>
                  </a:lnTo>
                  <a:lnTo>
                    <a:pt x="73" y="7034"/>
                  </a:lnTo>
                  <a:lnTo>
                    <a:pt x="64" y="7055"/>
                  </a:lnTo>
                  <a:lnTo>
                    <a:pt x="59" y="7076"/>
                  </a:lnTo>
                  <a:lnTo>
                    <a:pt x="57" y="7098"/>
                  </a:lnTo>
                  <a:lnTo>
                    <a:pt x="59" y="7121"/>
                  </a:lnTo>
                  <a:lnTo>
                    <a:pt x="63" y="7144"/>
                  </a:lnTo>
                  <a:lnTo>
                    <a:pt x="72" y="7168"/>
                  </a:lnTo>
                  <a:lnTo>
                    <a:pt x="84" y="7193"/>
                  </a:lnTo>
                  <a:lnTo>
                    <a:pt x="99" y="7220"/>
                  </a:lnTo>
                  <a:lnTo>
                    <a:pt x="119" y="7247"/>
                  </a:lnTo>
                  <a:lnTo>
                    <a:pt x="141" y="7276"/>
                  </a:lnTo>
                  <a:lnTo>
                    <a:pt x="166" y="7305"/>
                  </a:lnTo>
                  <a:lnTo>
                    <a:pt x="177" y="7311"/>
                  </a:lnTo>
                  <a:lnTo>
                    <a:pt x="209" y="7329"/>
                  </a:lnTo>
                  <a:lnTo>
                    <a:pt x="259" y="7356"/>
                  </a:lnTo>
                  <a:lnTo>
                    <a:pt x="324" y="7387"/>
                  </a:lnTo>
                  <a:lnTo>
                    <a:pt x="363" y="7405"/>
                  </a:lnTo>
                  <a:lnTo>
                    <a:pt x="403" y="7422"/>
                  </a:lnTo>
                  <a:lnTo>
                    <a:pt x="446" y="7440"/>
                  </a:lnTo>
                  <a:lnTo>
                    <a:pt x="493" y="7459"/>
                  </a:lnTo>
                  <a:lnTo>
                    <a:pt x="541" y="7476"/>
                  </a:lnTo>
                  <a:lnTo>
                    <a:pt x="591" y="7492"/>
                  </a:lnTo>
                  <a:lnTo>
                    <a:pt x="643" y="7507"/>
                  </a:lnTo>
                  <a:lnTo>
                    <a:pt x="695" y="7521"/>
                  </a:lnTo>
                  <a:lnTo>
                    <a:pt x="690" y="7526"/>
                  </a:lnTo>
                  <a:lnTo>
                    <a:pt x="677" y="7540"/>
                  </a:lnTo>
                  <a:lnTo>
                    <a:pt x="658" y="7563"/>
                  </a:lnTo>
                  <a:lnTo>
                    <a:pt x="633" y="7595"/>
                  </a:lnTo>
                  <a:lnTo>
                    <a:pt x="620" y="7613"/>
                  </a:lnTo>
                  <a:lnTo>
                    <a:pt x="606" y="7632"/>
                  </a:lnTo>
                  <a:lnTo>
                    <a:pt x="592" y="7653"/>
                  </a:lnTo>
                  <a:lnTo>
                    <a:pt x="578" y="7676"/>
                  </a:lnTo>
                  <a:lnTo>
                    <a:pt x="565" y="7700"/>
                  </a:lnTo>
                  <a:lnTo>
                    <a:pt x="552" y="7725"/>
                  </a:lnTo>
                  <a:lnTo>
                    <a:pt x="540" y="7751"/>
                  </a:lnTo>
                  <a:lnTo>
                    <a:pt x="529" y="7778"/>
                  </a:lnTo>
                  <a:lnTo>
                    <a:pt x="519" y="7806"/>
                  </a:lnTo>
                  <a:lnTo>
                    <a:pt x="511" y="7835"/>
                  </a:lnTo>
                  <a:lnTo>
                    <a:pt x="504" y="7864"/>
                  </a:lnTo>
                  <a:lnTo>
                    <a:pt x="500" y="7894"/>
                  </a:lnTo>
                  <a:lnTo>
                    <a:pt x="497" y="7924"/>
                  </a:lnTo>
                  <a:lnTo>
                    <a:pt x="497" y="7955"/>
                  </a:lnTo>
                  <a:lnTo>
                    <a:pt x="500" y="7986"/>
                  </a:lnTo>
                  <a:lnTo>
                    <a:pt x="506" y="8017"/>
                  </a:lnTo>
                  <a:lnTo>
                    <a:pt x="514" y="8048"/>
                  </a:lnTo>
                  <a:lnTo>
                    <a:pt x="526" y="8079"/>
                  </a:lnTo>
                  <a:lnTo>
                    <a:pt x="542" y="8110"/>
                  </a:lnTo>
                  <a:lnTo>
                    <a:pt x="562" y="8140"/>
                  </a:lnTo>
                  <a:lnTo>
                    <a:pt x="586" y="8169"/>
                  </a:lnTo>
                  <a:lnTo>
                    <a:pt x="615" y="8199"/>
                  </a:lnTo>
                  <a:lnTo>
                    <a:pt x="648" y="8228"/>
                  </a:lnTo>
                  <a:lnTo>
                    <a:pt x="685" y="8256"/>
                  </a:lnTo>
                  <a:lnTo>
                    <a:pt x="706" y="8257"/>
                  </a:lnTo>
                  <a:lnTo>
                    <a:pt x="764" y="8262"/>
                  </a:lnTo>
                  <a:lnTo>
                    <a:pt x="846" y="8268"/>
                  </a:lnTo>
                  <a:lnTo>
                    <a:pt x="947" y="8276"/>
                  </a:lnTo>
                  <a:lnTo>
                    <a:pt x="1057" y="8285"/>
                  </a:lnTo>
                  <a:lnTo>
                    <a:pt x="1165" y="8294"/>
                  </a:lnTo>
                  <a:lnTo>
                    <a:pt x="1263" y="8300"/>
                  </a:lnTo>
                  <a:lnTo>
                    <a:pt x="1342" y="8305"/>
                  </a:lnTo>
                  <a:lnTo>
                    <a:pt x="1347" y="8317"/>
                  </a:lnTo>
                  <a:lnTo>
                    <a:pt x="1361" y="8351"/>
                  </a:lnTo>
                  <a:lnTo>
                    <a:pt x="1369" y="8375"/>
                  </a:lnTo>
                  <a:lnTo>
                    <a:pt x="1378" y="8404"/>
                  </a:lnTo>
                  <a:lnTo>
                    <a:pt x="1386" y="8437"/>
                  </a:lnTo>
                  <a:lnTo>
                    <a:pt x="1394" y="8474"/>
                  </a:lnTo>
                  <a:lnTo>
                    <a:pt x="1396" y="8493"/>
                  </a:lnTo>
                  <a:lnTo>
                    <a:pt x="1399" y="8514"/>
                  </a:lnTo>
                  <a:lnTo>
                    <a:pt x="1401" y="8536"/>
                  </a:lnTo>
                  <a:lnTo>
                    <a:pt x="1402" y="8558"/>
                  </a:lnTo>
                  <a:lnTo>
                    <a:pt x="1403" y="8580"/>
                  </a:lnTo>
                  <a:lnTo>
                    <a:pt x="1403" y="8604"/>
                  </a:lnTo>
                  <a:lnTo>
                    <a:pt x="1402" y="8627"/>
                  </a:lnTo>
                  <a:lnTo>
                    <a:pt x="1400" y="8653"/>
                  </a:lnTo>
                  <a:lnTo>
                    <a:pt x="1397" y="8678"/>
                  </a:lnTo>
                  <a:lnTo>
                    <a:pt x="1393" y="8703"/>
                  </a:lnTo>
                  <a:lnTo>
                    <a:pt x="1388" y="8729"/>
                  </a:lnTo>
                  <a:lnTo>
                    <a:pt x="1382" y="8755"/>
                  </a:lnTo>
                  <a:lnTo>
                    <a:pt x="1374" y="8782"/>
                  </a:lnTo>
                  <a:lnTo>
                    <a:pt x="1364" y="8809"/>
                  </a:lnTo>
                  <a:lnTo>
                    <a:pt x="1353" y="8836"/>
                  </a:lnTo>
                  <a:lnTo>
                    <a:pt x="1342" y="8863"/>
                  </a:lnTo>
                  <a:lnTo>
                    <a:pt x="1343" y="8866"/>
                  </a:lnTo>
                  <a:lnTo>
                    <a:pt x="1349" y="8873"/>
                  </a:lnTo>
                  <a:lnTo>
                    <a:pt x="1359" y="8883"/>
                  </a:lnTo>
                  <a:lnTo>
                    <a:pt x="1374" y="8896"/>
                  </a:lnTo>
                  <a:lnTo>
                    <a:pt x="1382" y="8903"/>
                  </a:lnTo>
                  <a:lnTo>
                    <a:pt x="1392" y="8910"/>
                  </a:lnTo>
                  <a:lnTo>
                    <a:pt x="1402" y="8917"/>
                  </a:lnTo>
                  <a:lnTo>
                    <a:pt x="1414" y="8924"/>
                  </a:lnTo>
                  <a:lnTo>
                    <a:pt x="1427" y="8930"/>
                  </a:lnTo>
                  <a:lnTo>
                    <a:pt x="1442" y="8936"/>
                  </a:lnTo>
                  <a:lnTo>
                    <a:pt x="1457" y="8942"/>
                  </a:lnTo>
                  <a:lnTo>
                    <a:pt x="1474" y="8947"/>
                  </a:lnTo>
                  <a:lnTo>
                    <a:pt x="1492" y="8951"/>
                  </a:lnTo>
                  <a:lnTo>
                    <a:pt x="1512" y="8954"/>
                  </a:lnTo>
                  <a:lnTo>
                    <a:pt x="1532" y="8956"/>
                  </a:lnTo>
                  <a:lnTo>
                    <a:pt x="1554" y="8957"/>
                  </a:lnTo>
                  <a:lnTo>
                    <a:pt x="1577" y="8957"/>
                  </a:lnTo>
                  <a:lnTo>
                    <a:pt x="1602" y="8955"/>
                  </a:lnTo>
                  <a:lnTo>
                    <a:pt x="1629" y="8951"/>
                  </a:lnTo>
                  <a:lnTo>
                    <a:pt x="1656" y="8946"/>
                  </a:lnTo>
                  <a:lnTo>
                    <a:pt x="1685" y="8939"/>
                  </a:lnTo>
                  <a:lnTo>
                    <a:pt x="1715" y="8930"/>
                  </a:lnTo>
                  <a:lnTo>
                    <a:pt x="1747" y="8919"/>
                  </a:lnTo>
                  <a:lnTo>
                    <a:pt x="1781" y="8905"/>
                  </a:lnTo>
                  <a:lnTo>
                    <a:pt x="1815" y="8888"/>
                  </a:lnTo>
                  <a:lnTo>
                    <a:pt x="1852" y="8870"/>
                  </a:lnTo>
                  <a:lnTo>
                    <a:pt x="1890" y="8848"/>
                  </a:lnTo>
                  <a:lnTo>
                    <a:pt x="1930" y="8824"/>
                  </a:lnTo>
                  <a:lnTo>
                    <a:pt x="1944" y="8822"/>
                  </a:lnTo>
                  <a:lnTo>
                    <a:pt x="1980" y="8819"/>
                  </a:lnTo>
                  <a:lnTo>
                    <a:pt x="2004" y="8818"/>
                  </a:lnTo>
                  <a:lnTo>
                    <a:pt x="2030" y="8819"/>
                  </a:lnTo>
                  <a:lnTo>
                    <a:pt x="2043" y="8820"/>
                  </a:lnTo>
                  <a:lnTo>
                    <a:pt x="2056" y="8821"/>
                  </a:lnTo>
                  <a:lnTo>
                    <a:pt x="2069" y="8823"/>
                  </a:lnTo>
                  <a:lnTo>
                    <a:pt x="2082" y="8825"/>
                  </a:lnTo>
                  <a:lnTo>
                    <a:pt x="2095" y="8829"/>
                  </a:lnTo>
                  <a:lnTo>
                    <a:pt x="2108" y="8833"/>
                  </a:lnTo>
                  <a:lnTo>
                    <a:pt x="2119" y="8838"/>
                  </a:lnTo>
                  <a:lnTo>
                    <a:pt x="2131" y="8844"/>
                  </a:lnTo>
                  <a:lnTo>
                    <a:pt x="2141" y="8851"/>
                  </a:lnTo>
                  <a:lnTo>
                    <a:pt x="2151" y="8858"/>
                  </a:lnTo>
                  <a:lnTo>
                    <a:pt x="2159" y="8867"/>
                  </a:lnTo>
                  <a:lnTo>
                    <a:pt x="2165" y="8878"/>
                  </a:lnTo>
                  <a:lnTo>
                    <a:pt x="2170" y="8889"/>
                  </a:lnTo>
                  <a:lnTo>
                    <a:pt x="2174" y="8903"/>
                  </a:lnTo>
                  <a:lnTo>
                    <a:pt x="2176" y="8917"/>
                  </a:lnTo>
                  <a:lnTo>
                    <a:pt x="2176" y="8932"/>
                  </a:lnTo>
                  <a:lnTo>
                    <a:pt x="2174" y="8949"/>
                  </a:lnTo>
                  <a:lnTo>
                    <a:pt x="2170" y="8968"/>
                  </a:lnTo>
                  <a:lnTo>
                    <a:pt x="2164" y="8988"/>
                  </a:lnTo>
                  <a:lnTo>
                    <a:pt x="2155" y="9011"/>
                  </a:lnTo>
                  <a:lnTo>
                    <a:pt x="2155" y="9016"/>
                  </a:lnTo>
                  <a:lnTo>
                    <a:pt x="2156" y="9029"/>
                  </a:lnTo>
                  <a:lnTo>
                    <a:pt x="2159" y="9049"/>
                  </a:lnTo>
                  <a:lnTo>
                    <a:pt x="2164" y="9075"/>
                  </a:lnTo>
                  <a:lnTo>
                    <a:pt x="2169" y="9089"/>
                  </a:lnTo>
                  <a:lnTo>
                    <a:pt x="2174" y="9103"/>
                  </a:lnTo>
                  <a:lnTo>
                    <a:pt x="2180" y="9119"/>
                  </a:lnTo>
                  <a:lnTo>
                    <a:pt x="2188" y="9135"/>
                  </a:lnTo>
                  <a:lnTo>
                    <a:pt x="2198" y="9150"/>
                  </a:lnTo>
                  <a:lnTo>
                    <a:pt x="2209" y="9165"/>
                  </a:lnTo>
                  <a:lnTo>
                    <a:pt x="2222" y="9180"/>
                  </a:lnTo>
                  <a:lnTo>
                    <a:pt x="2237" y="9194"/>
                  </a:lnTo>
                  <a:lnTo>
                    <a:pt x="2254" y="9207"/>
                  </a:lnTo>
                  <a:lnTo>
                    <a:pt x="2273" y="9220"/>
                  </a:lnTo>
                  <a:lnTo>
                    <a:pt x="2294" y="9230"/>
                  </a:lnTo>
                  <a:lnTo>
                    <a:pt x="2318" y="9240"/>
                  </a:lnTo>
                  <a:lnTo>
                    <a:pt x="2344" y="9247"/>
                  </a:lnTo>
                  <a:lnTo>
                    <a:pt x="2373" y="9254"/>
                  </a:lnTo>
                  <a:lnTo>
                    <a:pt x="2405" y="9258"/>
                  </a:lnTo>
                  <a:lnTo>
                    <a:pt x="2440" y="9259"/>
                  </a:lnTo>
                  <a:lnTo>
                    <a:pt x="2478" y="9258"/>
                  </a:lnTo>
                  <a:lnTo>
                    <a:pt x="2519" y="9254"/>
                  </a:lnTo>
                  <a:lnTo>
                    <a:pt x="2563" y="9246"/>
                  </a:lnTo>
                  <a:lnTo>
                    <a:pt x="2611" y="9235"/>
                  </a:lnTo>
                  <a:lnTo>
                    <a:pt x="2663" y="9221"/>
                  </a:lnTo>
                  <a:lnTo>
                    <a:pt x="2718" y="9204"/>
                  </a:lnTo>
                  <a:lnTo>
                    <a:pt x="2778" y="9183"/>
                  </a:lnTo>
                  <a:lnTo>
                    <a:pt x="2840" y="9158"/>
                  </a:lnTo>
                  <a:lnTo>
                    <a:pt x="2850" y="9153"/>
                  </a:lnTo>
                  <a:lnTo>
                    <a:pt x="2875" y="9139"/>
                  </a:lnTo>
                  <a:lnTo>
                    <a:pt x="2916" y="9116"/>
                  </a:lnTo>
                  <a:lnTo>
                    <a:pt x="2967" y="9090"/>
                  </a:lnTo>
                  <a:lnTo>
                    <a:pt x="3028" y="9060"/>
                  </a:lnTo>
                  <a:lnTo>
                    <a:pt x="3094" y="9028"/>
                  </a:lnTo>
                  <a:lnTo>
                    <a:pt x="3165" y="8994"/>
                  </a:lnTo>
                  <a:lnTo>
                    <a:pt x="3236" y="8964"/>
                  </a:lnTo>
                  <a:lnTo>
                    <a:pt x="3272" y="8950"/>
                  </a:lnTo>
                  <a:lnTo>
                    <a:pt x="3306" y="8937"/>
                  </a:lnTo>
                  <a:lnTo>
                    <a:pt x="3340" y="8925"/>
                  </a:lnTo>
                  <a:lnTo>
                    <a:pt x="3372" y="8915"/>
                  </a:lnTo>
                  <a:lnTo>
                    <a:pt x="3403" y="8906"/>
                  </a:lnTo>
                  <a:lnTo>
                    <a:pt x="3431" y="8900"/>
                  </a:lnTo>
                  <a:lnTo>
                    <a:pt x="3457" y="8895"/>
                  </a:lnTo>
                  <a:lnTo>
                    <a:pt x="3481" y="8893"/>
                  </a:lnTo>
                  <a:lnTo>
                    <a:pt x="3501" y="8894"/>
                  </a:lnTo>
                  <a:lnTo>
                    <a:pt x="3520" y="8898"/>
                  </a:lnTo>
                  <a:lnTo>
                    <a:pt x="3533" y="8904"/>
                  </a:lnTo>
                  <a:lnTo>
                    <a:pt x="3543" y="8914"/>
                  </a:lnTo>
                  <a:lnTo>
                    <a:pt x="3548" y="8927"/>
                  </a:lnTo>
                  <a:lnTo>
                    <a:pt x="3549" y="8944"/>
                  </a:lnTo>
                  <a:lnTo>
                    <a:pt x="3545" y="8965"/>
                  </a:lnTo>
                  <a:lnTo>
                    <a:pt x="3536" y="8990"/>
                  </a:lnTo>
                  <a:lnTo>
                    <a:pt x="3532" y="8997"/>
                  </a:lnTo>
                  <a:lnTo>
                    <a:pt x="3520" y="9015"/>
                  </a:lnTo>
                  <a:lnTo>
                    <a:pt x="3499" y="9042"/>
                  </a:lnTo>
                  <a:lnTo>
                    <a:pt x="3473" y="9078"/>
                  </a:lnTo>
                  <a:lnTo>
                    <a:pt x="3439" y="9122"/>
                  </a:lnTo>
                  <a:lnTo>
                    <a:pt x="3400" y="9173"/>
                  </a:lnTo>
                  <a:lnTo>
                    <a:pt x="3354" y="9229"/>
                  </a:lnTo>
                  <a:lnTo>
                    <a:pt x="3304" y="9289"/>
                  </a:lnTo>
                  <a:lnTo>
                    <a:pt x="3276" y="9319"/>
                  </a:lnTo>
                  <a:lnTo>
                    <a:pt x="3247" y="9350"/>
                  </a:lnTo>
                  <a:lnTo>
                    <a:pt x="3218" y="9383"/>
                  </a:lnTo>
                  <a:lnTo>
                    <a:pt x="3188" y="9414"/>
                  </a:lnTo>
                  <a:lnTo>
                    <a:pt x="3157" y="9446"/>
                  </a:lnTo>
                  <a:lnTo>
                    <a:pt x="3124" y="9478"/>
                  </a:lnTo>
                  <a:lnTo>
                    <a:pt x="3091" y="9510"/>
                  </a:lnTo>
                  <a:lnTo>
                    <a:pt x="3057" y="9541"/>
                  </a:lnTo>
                  <a:lnTo>
                    <a:pt x="3022" y="9571"/>
                  </a:lnTo>
                  <a:lnTo>
                    <a:pt x="2986" y="9601"/>
                  </a:lnTo>
                  <a:lnTo>
                    <a:pt x="2950" y="9630"/>
                  </a:lnTo>
                  <a:lnTo>
                    <a:pt x="2914" y="9658"/>
                  </a:lnTo>
                  <a:lnTo>
                    <a:pt x="2876" y="9684"/>
                  </a:lnTo>
                  <a:lnTo>
                    <a:pt x="2839" y="9709"/>
                  </a:lnTo>
                  <a:lnTo>
                    <a:pt x="2801" y="9734"/>
                  </a:lnTo>
                  <a:lnTo>
                    <a:pt x="2763" y="9755"/>
                  </a:lnTo>
                  <a:lnTo>
                    <a:pt x="2748" y="9760"/>
                  </a:lnTo>
                  <a:lnTo>
                    <a:pt x="2707" y="9774"/>
                  </a:lnTo>
                  <a:lnTo>
                    <a:pt x="2643" y="9796"/>
                  </a:lnTo>
                  <a:lnTo>
                    <a:pt x="2558" y="9826"/>
                  </a:lnTo>
                  <a:lnTo>
                    <a:pt x="2455" y="9864"/>
                  </a:lnTo>
                  <a:lnTo>
                    <a:pt x="2337" y="9907"/>
                  </a:lnTo>
                  <a:lnTo>
                    <a:pt x="2208" y="9955"/>
                  </a:lnTo>
                  <a:lnTo>
                    <a:pt x="2069" y="10009"/>
                  </a:lnTo>
                  <a:lnTo>
                    <a:pt x="1924" y="10066"/>
                  </a:lnTo>
                  <a:lnTo>
                    <a:pt x="1776" y="10127"/>
                  </a:lnTo>
                  <a:lnTo>
                    <a:pt x="1701" y="10158"/>
                  </a:lnTo>
                  <a:lnTo>
                    <a:pt x="1628" y="10190"/>
                  </a:lnTo>
                  <a:lnTo>
                    <a:pt x="1554" y="10223"/>
                  </a:lnTo>
                  <a:lnTo>
                    <a:pt x="1481" y="10256"/>
                  </a:lnTo>
                  <a:lnTo>
                    <a:pt x="1410" y="10288"/>
                  </a:lnTo>
                  <a:lnTo>
                    <a:pt x="1340" y="10321"/>
                  </a:lnTo>
                  <a:lnTo>
                    <a:pt x="1273" y="10355"/>
                  </a:lnTo>
                  <a:lnTo>
                    <a:pt x="1208" y="10388"/>
                  </a:lnTo>
                  <a:lnTo>
                    <a:pt x="1146" y="10421"/>
                  </a:lnTo>
                  <a:lnTo>
                    <a:pt x="1086" y="10455"/>
                  </a:lnTo>
                  <a:lnTo>
                    <a:pt x="1031" y="10487"/>
                  </a:lnTo>
                  <a:lnTo>
                    <a:pt x="979" y="10519"/>
                  </a:lnTo>
                  <a:lnTo>
                    <a:pt x="971" y="10521"/>
                  </a:lnTo>
                  <a:lnTo>
                    <a:pt x="950" y="10525"/>
                  </a:lnTo>
                  <a:lnTo>
                    <a:pt x="915" y="10533"/>
                  </a:lnTo>
                  <a:lnTo>
                    <a:pt x="869" y="10543"/>
                  </a:lnTo>
                  <a:lnTo>
                    <a:pt x="813" y="10557"/>
                  </a:lnTo>
                  <a:lnTo>
                    <a:pt x="750" y="10575"/>
                  </a:lnTo>
                  <a:lnTo>
                    <a:pt x="679" y="10595"/>
                  </a:lnTo>
                  <a:lnTo>
                    <a:pt x="603" y="10618"/>
                  </a:lnTo>
                  <a:lnTo>
                    <a:pt x="564" y="10630"/>
                  </a:lnTo>
                  <a:lnTo>
                    <a:pt x="524" y="10644"/>
                  </a:lnTo>
                  <a:lnTo>
                    <a:pt x="483" y="10658"/>
                  </a:lnTo>
                  <a:lnTo>
                    <a:pt x="443" y="10673"/>
                  </a:lnTo>
                  <a:lnTo>
                    <a:pt x="402" y="10690"/>
                  </a:lnTo>
                  <a:lnTo>
                    <a:pt x="361" y="10707"/>
                  </a:lnTo>
                  <a:lnTo>
                    <a:pt x="321" y="10725"/>
                  </a:lnTo>
                  <a:lnTo>
                    <a:pt x="281" y="10743"/>
                  </a:lnTo>
                  <a:lnTo>
                    <a:pt x="242" y="10762"/>
                  </a:lnTo>
                  <a:lnTo>
                    <a:pt x="203" y="10782"/>
                  </a:lnTo>
                  <a:lnTo>
                    <a:pt x="165" y="10803"/>
                  </a:lnTo>
                  <a:lnTo>
                    <a:pt x="129" y="10826"/>
                  </a:lnTo>
                  <a:lnTo>
                    <a:pt x="94" y="10848"/>
                  </a:lnTo>
                  <a:lnTo>
                    <a:pt x="61" y="10872"/>
                  </a:lnTo>
                  <a:lnTo>
                    <a:pt x="29" y="10896"/>
                  </a:lnTo>
                  <a:lnTo>
                    <a:pt x="0" y="10921"/>
                  </a:lnTo>
                  <a:lnTo>
                    <a:pt x="7" y="10919"/>
                  </a:lnTo>
                  <a:lnTo>
                    <a:pt x="28" y="10915"/>
                  </a:lnTo>
                  <a:lnTo>
                    <a:pt x="60" y="10909"/>
                  </a:lnTo>
                  <a:lnTo>
                    <a:pt x="105" y="10901"/>
                  </a:lnTo>
                  <a:lnTo>
                    <a:pt x="161" y="10890"/>
                  </a:lnTo>
                  <a:lnTo>
                    <a:pt x="225" y="10879"/>
                  </a:lnTo>
                  <a:lnTo>
                    <a:pt x="299" y="10866"/>
                  </a:lnTo>
                  <a:lnTo>
                    <a:pt x="381" y="10853"/>
                  </a:lnTo>
                  <a:lnTo>
                    <a:pt x="468" y="10839"/>
                  </a:lnTo>
                  <a:lnTo>
                    <a:pt x="563" y="10825"/>
                  </a:lnTo>
                  <a:lnTo>
                    <a:pt x="662" y="10811"/>
                  </a:lnTo>
                  <a:lnTo>
                    <a:pt x="765" y="10797"/>
                  </a:lnTo>
                  <a:lnTo>
                    <a:pt x="870" y="10784"/>
                  </a:lnTo>
                  <a:lnTo>
                    <a:pt x="977" y="10773"/>
                  </a:lnTo>
                  <a:lnTo>
                    <a:pt x="1086" y="10763"/>
                  </a:lnTo>
                  <a:lnTo>
                    <a:pt x="1195" y="10755"/>
                  </a:lnTo>
                  <a:lnTo>
                    <a:pt x="1252" y="10749"/>
                  </a:lnTo>
                  <a:lnTo>
                    <a:pt x="1314" y="10741"/>
                  </a:lnTo>
                  <a:lnTo>
                    <a:pt x="1381" y="10729"/>
                  </a:lnTo>
                  <a:lnTo>
                    <a:pt x="1452" y="10715"/>
                  </a:lnTo>
                  <a:lnTo>
                    <a:pt x="1528" y="10698"/>
                  </a:lnTo>
                  <a:lnTo>
                    <a:pt x="1607" y="10677"/>
                  </a:lnTo>
                  <a:lnTo>
                    <a:pt x="1690" y="10654"/>
                  </a:lnTo>
                  <a:lnTo>
                    <a:pt x="1777" y="10630"/>
                  </a:lnTo>
                  <a:lnTo>
                    <a:pt x="1866" y="10603"/>
                  </a:lnTo>
                  <a:lnTo>
                    <a:pt x="1958" y="10574"/>
                  </a:lnTo>
                  <a:lnTo>
                    <a:pt x="2052" y="10542"/>
                  </a:lnTo>
                  <a:lnTo>
                    <a:pt x="2148" y="10510"/>
                  </a:lnTo>
                  <a:lnTo>
                    <a:pt x="2245" y="10476"/>
                  </a:lnTo>
                  <a:lnTo>
                    <a:pt x="2344" y="10439"/>
                  </a:lnTo>
                  <a:lnTo>
                    <a:pt x="2444" y="10402"/>
                  </a:lnTo>
                  <a:lnTo>
                    <a:pt x="2544" y="10364"/>
                  </a:lnTo>
                  <a:lnTo>
                    <a:pt x="2645" y="10324"/>
                  </a:lnTo>
                  <a:lnTo>
                    <a:pt x="2745" y="10284"/>
                  </a:lnTo>
                  <a:lnTo>
                    <a:pt x="2845" y="10244"/>
                  </a:lnTo>
                  <a:lnTo>
                    <a:pt x="2945" y="10202"/>
                  </a:lnTo>
                  <a:lnTo>
                    <a:pt x="3044" y="10160"/>
                  </a:lnTo>
                  <a:lnTo>
                    <a:pt x="3141" y="10119"/>
                  </a:lnTo>
                  <a:lnTo>
                    <a:pt x="3236" y="10076"/>
                  </a:lnTo>
                  <a:lnTo>
                    <a:pt x="3330" y="10034"/>
                  </a:lnTo>
                  <a:lnTo>
                    <a:pt x="3421" y="9992"/>
                  </a:lnTo>
                  <a:lnTo>
                    <a:pt x="3509" y="9950"/>
                  </a:lnTo>
                  <a:lnTo>
                    <a:pt x="3595" y="9909"/>
                  </a:lnTo>
                  <a:lnTo>
                    <a:pt x="3678" y="9869"/>
                  </a:lnTo>
                  <a:lnTo>
                    <a:pt x="3756" y="9829"/>
                  </a:lnTo>
                  <a:lnTo>
                    <a:pt x="3831" y="9790"/>
                  </a:lnTo>
                  <a:lnTo>
                    <a:pt x="3902" y="9753"/>
                  </a:lnTo>
                  <a:lnTo>
                    <a:pt x="3967" y="9716"/>
                  </a:lnTo>
                  <a:lnTo>
                    <a:pt x="3983" y="9712"/>
                  </a:lnTo>
                  <a:lnTo>
                    <a:pt x="4029" y="9701"/>
                  </a:lnTo>
                  <a:lnTo>
                    <a:pt x="4098" y="9684"/>
                  </a:lnTo>
                  <a:lnTo>
                    <a:pt x="4187" y="9660"/>
                  </a:lnTo>
                  <a:lnTo>
                    <a:pt x="4237" y="9646"/>
                  </a:lnTo>
                  <a:lnTo>
                    <a:pt x="4291" y="9631"/>
                  </a:lnTo>
                  <a:lnTo>
                    <a:pt x="4346" y="9615"/>
                  </a:lnTo>
                  <a:lnTo>
                    <a:pt x="4405" y="9596"/>
                  </a:lnTo>
                  <a:lnTo>
                    <a:pt x="4463" y="9577"/>
                  </a:lnTo>
                  <a:lnTo>
                    <a:pt x="4523" y="9557"/>
                  </a:lnTo>
                  <a:lnTo>
                    <a:pt x="4582" y="9535"/>
                  </a:lnTo>
                  <a:lnTo>
                    <a:pt x="4640" y="9513"/>
                  </a:lnTo>
                  <a:lnTo>
                    <a:pt x="4698" y="9490"/>
                  </a:lnTo>
                  <a:lnTo>
                    <a:pt x="4754" y="9465"/>
                  </a:lnTo>
                  <a:lnTo>
                    <a:pt x="4808" y="9440"/>
                  </a:lnTo>
                  <a:lnTo>
                    <a:pt x="4858" y="9414"/>
                  </a:lnTo>
                  <a:lnTo>
                    <a:pt x="4905" y="9387"/>
                  </a:lnTo>
                  <a:lnTo>
                    <a:pt x="4947" y="9359"/>
                  </a:lnTo>
                  <a:lnTo>
                    <a:pt x="4984" y="9331"/>
                  </a:lnTo>
                  <a:lnTo>
                    <a:pt x="5016" y="9303"/>
                  </a:lnTo>
                  <a:lnTo>
                    <a:pt x="5043" y="9274"/>
                  </a:lnTo>
                  <a:lnTo>
                    <a:pt x="5063" y="9243"/>
                  </a:lnTo>
                  <a:lnTo>
                    <a:pt x="5075" y="9214"/>
                  </a:lnTo>
                  <a:lnTo>
                    <a:pt x="5079" y="9183"/>
                  </a:lnTo>
                  <a:lnTo>
                    <a:pt x="5075" y="9153"/>
                  </a:lnTo>
                  <a:lnTo>
                    <a:pt x="5062" y="9121"/>
                  </a:lnTo>
                  <a:lnTo>
                    <a:pt x="5039" y="9090"/>
                  </a:lnTo>
                  <a:lnTo>
                    <a:pt x="5005" y="9059"/>
                  </a:lnTo>
                  <a:lnTo>
                    <a:pt x="5002" y="9058"/>
                  </a:lnTo>
                  <a:lnTo>
                    <a:pt x="4993" y="9053"/>
                  </a:lnTo>
                  <a:lnTo>
                    <a:pt x="4979" y="9045"/>
                  </a:lnTo>
                  <a:lnTo>
                    <a:pt x="4963" y="9035"/>
                  </a:lnTo>
                  <a:lnTo>
                    <a:pt x="4946" y="9023"/>
                  </a:lnTo>
                  <a:lnTo>
                    <a:pt x="4929" y="9007"/>
                  </a:lnTo>
                  <a:lnTo>
                    <a:pt x="4921" y="8999"/>
                  </a:lnTo>
                  <a:lnTo>
                    <a:pt x="4914" y="8991"/>
                  </a:lnTo>
                  <a:lnTo>
                    <a:pt x="4907" y="8982"/>
                  </a:lnTo>
                  <a:lnTo>
                    <a:pt x="4902" y="8973"/>
                  </a:lnTo>
                  <a:lnTo>
                    <a:pt x="4897" y="8964"/>
                  </a:lnTo>
                  <a:lnTo>
                    <a:pt x="4894" y="8955"/>
                  </a:lnTo>
                  <a:lnTo>
                    <a:pt x="4893" y="8945"/>
                  </a:lnTo>
                  <a:lnTo>
                    <a:pt x="4894" y="8935"/>
                  </a:lnTo>
                  <a:lnTo>
                    <a:pt x="4896" y="8925"/>
                  </a:lnTo>
                  <a:lnTo>
                    <a:pt x="4902" y="8915"/>
                  </a:lnTo>
                  <a:lnTo>
                    <a:pt x="4909" y="8905"/>
                  </a:lnTo>
                  <a:lnTo>
                    <a:pt x="4919" y="8895"/>
                  </a:lnTo>
                  <a:lnTo>
                    <a:pt x="4931" y="8883"/>
                  </a:lnTo>
                  <a:lnTo>
                    <a:pt x="4947" y="8873"/>
                  </a:lnTo>
                  <a:lnTo>
                    <a:pt x="4965" y="8863"/>
                  </a:lnTo>
                  <a:lnTo>
                    <a:pt x="4987" y="8853"/>
                  </a:lnTo>
                  <a:lnTo>
                    <a:pt x="5013" y="8843"/>
                  </a:lnTo>
                  <a:lnTo>
                    <a:pt x="5043" y="8833"/>
                  </a:lnTo>
                  <a:lnTo>
                    <a:pt x="5076" y="8824"/>
                  </a:lnTo>
                  <a:lnTo>
                    <a:pt x="5113" y="8815"/>
                  </a:lnTo>
                  <a:lnTo>
                    <a:pt x="5124" y="8808"/>
                  </a:lnTo>
                  <a:lnTo>
                    <a:pt x="5155" y="8789"/>
                  </a:lnTo>
                  <a:lnTo>
                    <a:pt x="5202" y="8758"/>
                  </a:lnTo>
                  <a:lnTo>
                    <a:pt x="5264" y="8718"/>
                  </a:lnTo>
                  <a:lnTo>
                    <a:pt x="5340" y="8669"/>
                  </a:lnTo>
                  <a:lnTo>
                    <a:pt x="5427" y="8612"/>
                  </a:lnTo>
                  <a:lnTo>
                    <a:pt x="5520" y="8549"/>
                  </a:lnTo>
                  <a:lnTo>
                    <a:pt x="5620" y="8479"/>
                  </a:lnTo>
                  <a:lnTo>
                    <a:pt x="5723" y="8405"/>
                  </a:lnTo>
                  <a:lnTo>
                    <a:pt x="5828" y="8329"/>
                  </a:lnTo>
                  <a:lnTo>
                    <a:pt x="5879" y="8289"/>
                  </a:lnTo>
                  <a:lnTo>
                    <a:pt x="5931" y="8249"/>
                  </a:lnTo>
                  <a:lnTo>
                    <a:pt x="5981" y="8210"/>
                  </a:lnTo>
                  <a:lnTo>
                    <a:pt x="6030" y="8169"/>
                  </a:lnTo>
                  <a:lnTo>
                    <a:pt x="6079" y="8130"/>
                  </a:lnTo>
                  <a:lnTo>
                    <a:pt x="6124" y="8090"/>
                  </a:lnTo>
                  <a:lnTo>
                    <a:pt x="6169" y="8050"/>
                  </a:lnTo>
                  <a:lnTo>
                    <a:pt x="6210" y="8011"/>
                  </a:lnTo>
                  <a:lnTo>
                    <a:pt x="6249" y="7974"/>
                  </a:lnTo>
                  <a:lnTo>
                    <a:pt x="6286" y="7936"/>
                  </a:lnTo>
                  <a:lnTo>
                    <a:pt x="6318" y="7899"/>
                  </a:lnTo>
                  <a:lnTo>
                    <a:pt x="6348" y="7864"/>
                  </a:lnTo>
                  <a:lnTo>
                    <a:pt x="6354" y="7861"/>
                  </a:lnTo>
                  <a:lnTo>
                    <a:pt x="6375" y="7853"/>
                  </a:lnTo>
                  <a:lnTo>
                    <a:pt x="6408" y="7841"/>
                  </a:lnTo>
                  <a:lnTo>
                    <a:pt x="6455" y="7826"/>
                  </a:lnTo>
                  <a:lnTo>
                    <a:pt x="6513" y="7808"/>
                  </a:lnTo>
                  <a:lnTo>
                    <a:pt x="6583" y="7789"/>
                  </a:lnTo>
                  <a:lnTo>
                    <a:pt x="6622" y="7779"/>
                  </a:lnTo>
                  <a:lnTo>
                    <a:pt x="6664" y="7769"/>
                  </a:lnTo>
                  <a:lnTo>
                    <a:pt x="6708" y="7759"/>
                  </a:lnTo>
                  <a:lnTo>
                    <a:pt x="6754" y="7750"/>
                  </a:lnTo>
                  <a:lnTo>
                    <a:pt x="6803" y="7741"/>
                  </a:lnTo>
                  <a:lnTo>
                    <a:pt x="6854" y="7732"/>
                  </a:lnTo>
                  <a:lnTo>
                    <a:pt x="6907" y="7724"/>
                  </a:lnTo>
                  <a:lnTo>
                    <a:pt x="6964" y="7716"/>
                  </a:lnTo>
                  <a:lnTo>
                    <a:pt x="7021" y="7710"/>
                  </a:lnTo>
                  <a:lnTo>
                    <a:pt x="7081" y="7704"/>
                  </a:lnTo>
                  <a:lnTo>
                    <a:pt x="7143" y="7699"/>
                  </a:lnTo>
                  <a:lnTo>
                    <a:pt x="7207" y="7695"/>
                  </a:lnTo>
                  <a:lnTo>
                    <a:pt x="7272" y="7691"/>
                  </a:lnTo>
                  <a:lnTo>
                    <a:pt x="7340" y="7690"/>
                  </a:lnTo>
                  <a:lnTo>
                    <a:pt x="7409" y="7690"/>
                  </a:lnTo>
                  <a:lnTo>
                    <a:pt x="7480" y="7692"/>
                  </a:lnTo>
                  <a:lnTo>
                    <a:pt x="7553" y="7696"/>
                  </a:lnTo>
                  <a:lnTo>
                    <a:pt x="7626" y="7701"/>
                  </a:lnTo>
                  <a:lnTo>
                    <a:pt x="7701" y="7708"/>
                  </a:lnTo>
                  <a:lnTo>
                    <a:pt x="7777" y="7717"/>
                  </a:lnTo>
                  <a:lnTo>
                    <a:pt x="7782" y="7719"/>
                  </a:lnTo>
                  <a:lnTo>
                    <a:pt x="7794" y="7726"/>
                  </a:lnTo>
                  <a:lnTo>
                    <a:pt x="7814" y="7736"/>
                  </a:lnTo>
                  <a:lnTo>
                    <a:pt x="7837" y="7750"/>
                  </a:lnTo>
                  <a:lnTo>
                    <a:pt x="7863" y="7766"/>
                  </a:lnTo>
                  <a:lnTo>
                    <a:pt x="7890" y="7785"/>
                  </a:lnTo>
                  <a:lnTo>
                    <a:pt x="7903" y="7795"/>
                  </a:lnTo>
                  <a:lnTo>
                    <a:pt x="7917" y="7805"/>
                  </a:lnTo>
                  <a:lnTo>
                    <a:pt x="7930" y="7817"/>
                  </a:lnTo>
                  <a:lnTo>
                    <a:pt x="7942" y="7827"/>
                  </a:lnTo>
                  <a:lnTo>
                    <a:pt x="7953" y="7839"/>
                  </a:lnTo>
                  <a:lnTo>
                    <a:pt x="7963" y="7850"/>
                  </a:lnTo>
                  <a:lnTo>
                    <a:pt x="7971" y="7861"/>
                  </a:lnTo>
                  <a:lnTo>
                    <a:pt x="7978" y="7872"/>
                  </a:lnTo>
                  <a:lnTo>
                    <a:pt x="7983" y="7883"/>
                  </a:lnTo>
                  <a:lnTo>
                    <a:pt x="7985" y="7894"/>
                  </a:lnTo>
                  <a:lnTo>
                    <a:pt x="7986" y="7905"/>
                  </a:lnTo>
                  <a:lnTo>
                    <a:pt x="7984" y="7915"/>
                  </a:lnTo>
                  <a:lnTo>
                    <a:pt x="7980" y="7925"/>
                  </a:lnTo>
                  <a:lnTo>
                    <a:pt x="7973" y="7936"/>
                  </a:lnTo>
                  <a:lnTo>
                    <a:pt x="7962" y="7945"/>
                  </a:lnTo>
                  <a:lnTo>
                    <a:pt x="7949" y="7954"/>
                  </a:lnTo>
                  <a:lnTo>
                    <a:pt x="7931" y="7962"/>
                  </a:lnTo>
                  <a:lnTo>
                    <a:pt x="7910" y="7969"/>
                  </a:lnTo>
                  <a:lnTo>
                    <a:pt x="7885" y="7976"/>
                  </a:lnTo>
                  <a:lnTo>
                    <a:pt x="7856" y="7982"/>
                  </a:lnTo>
                  <a:lnTo>
                    <a:pt x="7844" y="7981"/>
                  </a:lnTo>
                  <a:lnTo>
                    <a:pt x="7811" y="7981"/>
                  </a:lnTo>
                  <a:lnTo>
                    <a:pt x="7757" y="7981"/>
                  </a:lnTo>
                  <a:lnTo>
                    <a:pt x="7687" y="7982"/>
                  </a:lnTo>
                  <a:lnTo>
                    <a:pt x="7602" y="7986"/>
                  </a:lnTo>
                  <a:lnTo>
                    <a:pt x="7506" y="7991"/>
                  </a:lnTo>
                  <a:lnTo>
                    <a:pt x="7454" y="7995"/>
                  </a:lnTo>
                  <a:lnTo>
                    <a:pt x="7400" y="7999"/>
                  </a:lnTo>
                  <a:lnTo>
                    <a:pt x="7345" y="8004"/>
                  </a:lnTo>
                  <a:lnTo>
                    <a:pt x="7287" y="8011"/>
                  </a:lnTo>
                  <a:lnTo>
                    <a:pt x="7230" y="8018"/>
                  </a:lnTo>
                  <a:lnTo>
                    <a:pt x="7172" y="8027"/>
                  </a:lnTo>
                  <a:lnTo>
                    <a:pt x="7112" y="8036"/>
                  </a:lnTo>
                  <a:lnTo>
                    <a:pt x="7054" y="8047"/>
                  </a:lnTo>
                  <a:lnTo>
                    <a:pt x="6994" y="8060"/>
                  </a:lnTo>
                  <a:lnTo>
                    <a:pt x="6937" y="8074"/>
                  </a:lnTo>
                  <a:lnTo>
                    <a:pt x="6879" y="8089"/>
                  </a:lnTo>
                  <a:lnTo>
                    <a:pt x="6823" y="8106"/>
                  </a:lnTo>
                  <a:lnTo>
                    <a:pt x="6768" y="8124"/>
                  </a:lnTo>
                  <a:lnTo>
                    <a:pt x="6716" y="8144"/>
                  </a:lnTo>
                  <a:lnTo>
                    <a:pt x="6665" y="8165"/>
                  </a:lnTo>
                  <a:lnTo>
                    <a:pt x="6617" y="8190"/>
                  </a:lnTo>
                  <a:lnTo>
                    <a:pt x="6571" y="8216"/>
                  </a:lnTo>
                  <a:lnTo>
                    <a:pt x="6529" y="8243"/>
                  </a:lnTo>
                  <a:lnTo>
                    <a:pt x="6490" y="8273"/>
                  </a:lnTo>
                  <a:lnTo>
                    <a:pt x="6455" y="8305"/>
                  </a:lnTo>
                  <a:lnTo>
                    <a:pt x="6447" y="8318"/>
                  </a:lnTo>
                  <a:lnTo>
                    <a:pt x="6423" y="8351"/>
                  </a:lnTo>
                  <a:lnTo>
                    <a:pt x="6406" y="8374"/>
                  </a:lnTo>
                  <a:lnTo>
                    <a:pt x="6386" y="8399"/>
                  </a:lnTo>
                  <a:lnTo>
                    <a:pt x="6363" y="8427"/>
                  </a:lnTo>
                  <a:lnTo>
                    <a:pt x="6338" y="8456"/>
                  </a:lnTo>
                  <a:lnTo>
                    <a:pt x="6310" y="8484"/>
                  </a:lnTo>
                  <a:lnTo>
                    <a:pt x="6280" y="8513"/>
                  </a:lnTo>
                  <a:lnTo>
                    <a:pt x="6264" y="8526"/>
                  </a:lnTo>
                  <a:lnTo>
                    <a:pt x="6248" y="8541"/>
                  </a:lnTo>
                  <a:lnTo>
                    <a:pt x="6232" y="8553"/>
                  </a:lnTo>
                  <a:lnTo>
                    <a:pt x="6216" y="8566"/>
                  </a:lnTo>
                  <a:lnTo>
                    <a:pt x="6199" y="8577"/>
                  </a:lnTo>
                  <a:lnTo>
                    <a:pt x="6181" y="8588"/>
                  </a:lnTo>
                  <a:lnTo>
                    <a:pt x="6164" y="8597"/>
                  </a:lnTo>
                  <a:lnTo>
                    <a:pt x="6145" y="8606"/>
                  </a:lnTo>
                  <a:lnTo>
                    <a:pt x="6128" y="8613"/>
                  </a:lnTo>
                  <a:lnTo>
                    <a:pt x="6110" y="8620"/>
                  </a:lnTo>
                  <a:lnTo>
                    <a:pt x="6092" y="8624"/>
                  </a:lnTo>
                  <a:lnTo>
                    <a:pt x="6073" y="8628"/>
                  </a:lnTo>
                  <a:lnTo>
                    <a:pt x="6069" y="8634"/>
                  </a:lnTo>
                  <a:lnTo>
                    <a:pt x="6059" y="8650"/>
                  </a:lnTo>
                  <a:lnTo>
                    <a:pt x="6045" y="8676"/>
                  </a:lnTo>
                  <a:lnTo>
                    <a:pt x="6027" y="8709"/>
                  </a:lnTo>
                  <a:lnTo>
                    <a:pt x="6018" y="8727"/>
                  </a:lnTo>
                  <a:lnTo>
                    <a:pt x="6010" y="8746"/>
                  </a:lnTo>
                  <a:lnTo>
                    <a:pt x="6002" y="8766"/>
                  </a:lnTo>
                  <a:lnTo>
                    <a:pt x="5995" y="8788"/>
                  </a:lnTo>
                  <a:lnTo>
                    <a:pt x="5989" y="8809"/>
                  </a:lnTo>
                  <a:lnTo>
                    <a:pt x="5984" y="8830"/>
                  </a:lnTo>
                  <a:lnTo>
                    <a:pt x="5980" y="8852"/>
                  </a:lnTo>
                  <a:lnTo>
                    <a:pt x="5979" y="8873"/>
                  </a:lnTo>
                  <a:lnTo>
                    <a:pt x="5979" y="8895"/>
                  </a:lnTo>
                  <a:lnTo>
                    <a:pt x="5982" y="8915"/>
                  </a:lnTo>
                  <a:lnTo>
                    <a:pt x="5987" y="8934"/>
                  </a:lnTo>
                  <a:lnTo>
                    <a:pt x="5995" y="8952"/>
                  </a:lnTo>
                  <a:lnTo>
                    <a:pt x="6006" y="8968"/>
                  </a:lnTo>
                  <a:lnTo>
                    <a:pt x="6020" y="8983"/>
                  </a:lnTo>
                  <a:lnTo>
                    <a:pt x="6039" y="8997"/>
                  </a:lnTo>
                  <a:lnTo>
                    <a:pt x="6061" y="9008"/>
                  </a:lnTo>
                  <a:lnTo>
                    <a:pt x="6087" y="9018"/>
                  </a:lnTo>
                  <a:lnTo>
                    <a:pt x="6117" y="9025"/>
                  </a:lnTo>
                  <a:lnTo>
                    <a:pt x="6152" y="9029"/>
                  </a:lnTo>
                  <a:lnTo>
                    <a:pt x="6192" y="9030"/>
                  </a:lnTo>
                  <a:lnTo>
                    <a:pt x="6237" y="9028"/>
                  </a:lnTo>
                  <a:lnTo>
                    <a:pt x="6288" y="9023"/>
                  </a:lnTo>
                  <a:lnTo>
                    <a:pt x="6344" y="9014"/>
                  </a:lnTo>
                  <a:lnTo>
                    <a:pt x="6406" y="9000"/>
                  </a:lnTo>
                  <a:lnTo>
                    <a:pt x="6419" y="8997"/>
                  </a:lnTo>
                  <a:lnTo>
                    <a:pt x="6455" y="8987"/>
                  </a:lnTo>
                  <a:lnTo>
                    <a:pt x="6511" y="8971"/>
                  </a:lnTo>
                  <a:lnTo>
                    <a:pt x="6585" y="8950"/>
                  </a:lnTo>
                  <a:lnTo>
                    <a:pt x="6673" y="8924"/>
                  </a:lnTo>
                  <a:lnTo>
                    <a:pt x="6771" y="8894"/>
                  </a:lnTo>
                  <a:lnTo>
                    <a:pt x="6877" y="8860"/>
                  </a:lnTo>
                  <a:lnTo>
                    <a:pt x="6989" y="8823"/>
                  </a:lnTo>
                  <a:lnTo>
                    <a:pt x="7046" y="8804"/>
                  </a:lnTo>
                  <a:lnTo>
                    <a:pt x="7102" y="8784"/>
                  </a:lnTo>
                  <a:lnTo>
                    <a:pt x="7158" y="8763"/>
                  </a:lnTo>
                  <a:lnTo>
                    <a:pt x="7215" y="8742"/>
                  </a:lnTo>
                  <a:lnTo>
                    <a:pt x="7269" y="8722"/>
                  </a:lnTo>
                  <a:lnTo>
                    <a:pt x="7323" y="8701"/>
                  </a:lnTo>
                  <a:lnTo>
                    <a:pt x="7374" y="8679"/>
                  </a:lnTo>
                  <a:lnTo>
                    <a:pt x="7423" y="8658"/>
                  </a:lnTo>
                  <a:lnTo>
                    <a:pt x="7469" y="8636"/>
                  </a:lnTo>
                  <a:lnTo>
                    <a:pt x="7513" y="8614"/>
                  </a:lnTo>
                  <a:lnTo>
                    <a:pt x="7553" y="8593"/>
                  </a:lnTo>
                  <a:lnTo>
                    <a:pt x="7590" y="8572"/>
                  </a:lnTo>
                  <a:lnTo>
                    <a:pt x="7621" y="8552"/>
                  </a:lnTo>
                  <a:lnTo>
                    <a:pt x="7649" y="8530"/>
                  </a:lnTo>
                  <a:lnTo>
                    <a:pt x="7673" y="8510"/>
                  </a:lnTo>
                  <a:lnTo>
                    <a:pt x="7690" y="8491"/>
                  </a:lnTo>
                  <a:lnTo>
                    <a:pt x="7695" y="8486"/>
                  </a:lnTo>
                  <a:lnTo>
                    <a:pt x="7710" y="8472"/>
                  </a:lnTo>
                  <a:lnTo>
                    <a:pt x="7734" y="8452"/>
                  </a:lnTo>
                  <a:lnTo>
                    <a:pt x="7768" y="8427"/>
                  </a:lnTo>
                  <a:lnTo>
                    <a:pt x="7788" y="8414"/>
                  </a:lnTo>
                  <a:lnTo>
                    <a:pt x="7811" y="8399"/>
                  </a:lnTo>
                  <a:lnTo>
                    <a:pt x="7835" y="8384"/>
                  </a:lnTo>
                  <a:lnTo>
                    <a:pt x="7861" y="8370"/>
                  </a:lnTo>
                  <a:lnTo>
                    <a:pt x="7889" y="8356"/>
                  </a:lnTo>
                  <a:lnTo>
                    <a:pt x="7919" y="8342"/>
                  </a:lnTo>
                  <a:lnTo>
                    <a:pt x="7952" y="8329"/>
                  </a:lnTo>
                  <a:lnTo>
                    <a:pt x="7986" y="8317"/>
                  </a:lnTo>
                  <a:lnTo>
                    <a:pt x="8021" y="8307"/>
                  </a:lnTo>
                  <a:lnTo>
                    <a:pt x="8060" y="8297"/>
                  </a:lnTo>
                  <a:lnTo>
                    <a:pt x="8098" y="8289"/>
                  </a:lnTo>
                  <a:lnTo>
                    <a:pt x="8139" y="8283"/>
                  </a:lnTo>
                  <a:lnTo>
                    <a:pt x="8182" y="8279"/>
                  </a:lnTo>
                  <a:lnTo>
                    <a:pt x="8226" y="8278"/>
                  </a:lnTo>
                  <a:lnTo>
                    <a:pt x="8271" y="8280"/>
                  </a:lnTo>
                  <a:lnTo>
                    <a:pt x="8318" y="8284"/>
                  </a:lnTo>
                  <a:lnTo>
                    <a:pt x="8366" y="8291"/>
                  </a:lnTo>
                  <a:lnTo>
                    <a:pt x="8415" y="8303"/>
                  </a:lnTo>
                  <a:lnTo>
                    <a:pt x="8466" y="8317"/>
                  </a:lnTo>
                  <a:lnTo>
                    <a:pt x="8518" y="8336"/>
                  </a:lnTo>
                  <a:lnTo>
                    <a:pt x="8572" y="8358"/>
                  </a:lnTo>
                  <a:lnTo>
                    <a:pt x="8626" y="8384"/>
                  </a:lnTo>
                  <a:lnTo>
                    <a:pt x="8682" y="8416"/>
                  </a:lnTo>
                  <a:lnTo>
                    <a:pt x="8738" y="8452"/>
                  </a:lnTo>
                  <a:lnTo>
                    <a:pt x="8758" y="8462"/>
                  </a:lnTo>
                  <a:lnTo>
                    <a:pt x="8817" y="8490"/>
                  </a:lnTo>
                  <a:lnTo>
                    <a:pt x="8908" y="8534"/>
                  </a:lnTo>
                  <a:lnTo>
                    <a:pt x="9027" y="8589"/>
                  </a:lnTo>
                  <a:lnTo>
                    <a:pt x="9169" y="8655"/>
                  </a:lnTo>
                  <a:lnTo>
                    <a:pt x="9330" y="8727"/>
                  </a:lnTo>
                  <a:lnTo>
                    <a:pt x="9414" y="8764"/>
                  </a:lnTo>
                  <a:lnTo>
                    <a:pt x="9502" y="8803"/>
                  </a:lnTo>
                  <a:lnTo>
                    <a:pt x="9592" y="8842"/>
                  </a:lnTo>
                  <a:lnTo>
                    <a:pt x="9682" y="8880"/>
                  </a:lnTo>
                  <a:lnTo>
                    <a:pt x="9774" y="8919"/>
                  </a:lnTo>
                  <a:lnTo>
                    <a:pt x="9866" y="8956"/>
                  </a:lnTo>
                  <a:lnTo>
                    <a:pt x="9958" y="8993"/>
                  </a:lnTo>
                  <a:lnTo>
                    <a:pt x="10047" y="9028"/>
                  </a:lnTo>
                  <a:lnTo>
                    <a:pt x="10135" y="9061"/>
                  </a:lnTo>
                  <a:lnTo>
                    <a:pt x="10221" y="9092"/>
                  </a:lnTo>
                  <a:lnTo>
                    <a:pt x="10303" y="9120"/>
                  </a:lnTo>
                  <a:lnTo>
                    <a:pt x="10382" y="9147"/>
                  </a:lnTo>
                  <a:lnTo>
                    <a:pt x="10457" y="9169"/>
                  </a:lnTo>
                  <a:lnTo>
                    <a:pt x="10526" y="9188"/>
                  </a:lnTo>
                  <a:lnTo>
                    <a:pt x="10591" y="9203"/>
                  </a:lnTo>
                  <a:lnTo>
                    <a:pt x="10648" y="9213"/>
                  </a:lnTo>
                  <a:lnTo>
                    <a:pt x="10700" y="9219"/>
                  </a:lnTo>
                  <a:lnTo>
                    <a:pt x="10743" y="9220"/>
                  </a:lnTo>
                  <a:lnTo>
                    <a:pt x="10778" y="9216"/>
                  </a:lnTo>
                  <a:lnTo>
                    <a:pt x="10804" y="9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Freeform 273"/>
            <p:cNvSpPr/>
            <p:nvPr/>
          </p:nvSpPr>
          <p:spPr>
            <a:xfrm>
              <a:off x="5411880" y="508608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45" h="611">
                  <a:moveTo>
                    <a:pt x="531" y="51"/>
                  </a:moveTo>
                  <a:lnTo>
                    <a:pt x="523" y="49"/>
                  </a:lnTo>
                  <a:lnTo>
                    <a:pt x="501" y="42"/>
                  </a:lnTo>
                  <a:lnTo>
                    <a:pt x="468" y="34"/>
                  </a:lnTo>
                  <a:lnTo>
                    <a:pt x="425" y="24"/>
                  </a:lnTo>
                  <a:lnTo>
                    <a:pt x="399" y="19"/>
                  </a:lnTo>
                  <a:lnTo>
                    <a:pt x="374" y="14"/>
                  </a:lnTo>
                  <a:lnTo>
                    <a:pt x="347" y="10"/>
                  </a:lnTo>
                  <a:lnTo>
                    <a:pt x="320" y="6"/>
                  </a:lnTo>
                  <a:lnTo>
                    <a:pt x="290" y="3"/>
                  </a:lnTo>
                  <a:lnTo>
                    <a:pt x="262" y="1"/>
                  </a:lnTo>
                  <a:lnTo>
                    <a:pt x="234" y="0"/>
                  </a:lnTo>
                  <a:lnTo>
                    <a:pt x="206" y="0"/>
                  </a:lnTo>
                  <a:lnTo>
                    <a:pt x="178" y="2"/>
                  </a:lnTo>
                  <a:lnTo>
                    <a:pt x="151" y="5"/>
                  </a:lnTo>
                  <a:lnTo>
                    <a:pt x="125" y="10"/>
                  </a:lnTo>
                  <a:lnTo>
                    <a:pt x="102" y="17"/>
                  </a:lnTo>
                  <a:lnTo>
                    <a:pt x="80" y="26"/>
                  </a:lnTo>
                  <a:lnTo>
                    <a:pt x="60" y="37"/>
                  </a:lnTo>
                  <a:lnTo>
                    <a:pt x="42" y="51"/>
                  </a:lnTo>
                  <a:lnTo>
                    <a:pt x="27" y="67"/>
                  </a:lnTo>
                  <a:lnTo>
                    <a:pt x="15" y="87"/>
                  </a:lnTo>
                  <a:lnTo>
                    <a:pt x="6" y="110"/>
                  </a:lnTo>
                  <a:lnTo>
                    <a:pt x="1" y="135"/>
                  </a:lnTo>
                  <a:lnTo>
                    <a:pt x="0" y="164"/>
                  </a:lnTo>
                  <a:lnTo>
                    <a:pt x="3" y="196"/>
                  </a:lnTo>
                  <a:lnTo>
                    <a:pt x="11" y="232"/>
                  </a:lnTo>
                  <a:lnTo>
                    <a:pt x="23" y="272"/>
                  </a:lnTo>
                  <a:lnTo>
                    <a:pt x="42" y="315"/>
                  </a:lnTo>
                  <a:lnTo>
                    <a:pt x="53" y="327"/>
                  </a:lnTo>
                  <a:lnTo>
                    <a:pt x="84" y="361"/>
                  </a:lnTo>
                  <a:lnTo>
                    <a:pt x="106" y="382"/>
                  </a:lnTo>
                  <a:lnTo>
                    <a:pt x="131" y="406"/>
                  </a:lnTo>
                  <a:lnTo>
                    <a:pt x="159" y="432"/>
                  </a:lnTo>
                  <a:lnTo>
                    <a:pt x="191" y="459"/>
                  </a:lnTo>
                  <a:lnTo>
                    <a:pt x="224" y="486"/>
                  </a:lnTo>
                  <a:lnTo>
                    <a:pt x="258" y="512"/>
                  </a:lnTo>
                  <a:lnTo>
                    <a:pt x="276" y="525"/>
                  </a:lnTo>
                  <a:lnTo>
                    <a:pt x="295" y="537"/>
                  </a:lnTo>
                  <a:lnTo>
                    <a:pt x="313" y="548"/>
                  </a:lnTo>
                  <a:lnTo>
                    <a:pt x="331" y="559"/>
                  </a:lnTo>
                  <a:lnTo>
                    <a:pt x="349" y="570"/>
                  </a:lnTo>
                  <a:lnTo>
                    <a:pt x="367" y="579"/>
                  </a:lnTo>
                  <a:lnTo>
                    <a:pt x="385" y="588"/>
                  </a:lnTo>
                  <a:lnTo>
                    <a:pt x="403" y="595"/>
                  </a:lnTo>
                  <a:lnTo>
                    <a:pt x="421" y="600"/>
                  </a:lnTo>
                  <a:lnTo>
                    <a:pt x="439" y="605"/>
                  </a:lnTo>
                  <a:lnTo>
                    <a:pt x="456" y="608"/>
                  </a:lnTo>
                  <a:lnTo>
                    <a:pt x="472" y="610"/>
                  </a:lnTo>
                  <a:lnTo>
                    <a:pt x="490" y="611"/>
                  </a:lnTo>
                  <a:lnTo>
                    <a:pt x="508" y="611"/>
                  </a:lnTo>
                  <a:lnTo>
                    <a:pt x="527" y="609"/>
                  </a:lnTo>
                  <a:lnTo>
                    <a:pt x="547" y="606"/>
                  </a:lnTo>
                  <a:lnTo>
                    <a:pt x="566" y="601"/>
                  </a:lnTo>
                  <a:lnTo>
                    <a:pt x="585" y="596"/>
                  </a:lnTo>
                  <a:lnTo>
                    <a:pt x="604" y="589"/>
                  </a:lnTo>
                  <a:lnTo>
                    <a:pt x="623" y="582"/>
                  </a:lnTo>
                  <a:lnTo>
                    <a:pt x="642" y="573"/>
                  </a:lnTo>
                  <a:lnTo>
                    <a:pt x="661" y="563"/>
                  </a:lnTo>
                  <a:lnTo>
                    <a:pt x="681" y="553"/>
                  </a:lnTo>
                  <a:lnTo>
                    <a:pt x="699" y="542"/>
                  </a:lnTo>
                  <a:lnTo>
                    <a:pt x="716" y="530"/>
                  </a:lnTo>
                  <a:lnTo>
                    <a:pt x="733" y="518"/>
                  </a:lnTo>
                  <a:lnTo>
                    <a:pt x="748" y="505"/>
                  </a:lnTo>
                  <a:lnTo>
                    <a:pt x="764" y="492"/>
                  </a:lnTo>
                  <a:lnTo>
                    <a:pt x="778" y="479"/>
                  </a:lnTo>
                  <a:lnTo>
                    <a:pt x="791" y="465"/>
                  </a:lnTo>
                  <a:lnTo>
                    <a:pt x="803" y="452"/>
                  </a:lnTo>
                  <a:lnTo>
                    <a:pt x="814" y="437"/>
                  </a:lnTo>
                  <a:lnTo>
                    <a:pt x="823" y="423"/>
                  </a:lnTo>
                  <a:lnTo>
                    <a:pt x="831" y="409"/>
                  </a:lnTo>
                  <a:lnTo>
                    <a:pt x="837" y="395"/>
                  </a:lnTo>
                  <a:lnTo>
                    <a:pt x="842" y="381"/>
                  </a:lnTo>
                  <a:lnTo>
                    <a:pt x="844" y="368"/>
                  </a:lnTo>
                  <a:lnTo>
                    <a:pt x="845" y="355"/>
                  </a:lnTo>
                  <a:lnTo>
                    <a:pt x="844" y="342"/>
                  </a:lnTo>
                  <a:lnTo>
                    <a:pt x="841" y="330"/>
                  </a:lnTo>
                  <a:lnTo>
                    <a:pt x="836" y="317"/>
                  </a:lnTo>
                  <a:lnTo>
                    <a:pt x="828" y="306"/>
                  </a:lnTo>
                  <a:lnTo>
                    <a:pt x="818" y="296"/>
                  </a:lnTo>
                  <a:lnTo>
                    <a:pt x="806" y="286"/>
                  </a:lnTo>
                  <a:lnTo>
                    <a:pt x="778" y="269"/>
                  </a:lnTo>
                  <a:lnTo>
                    <a:pt x="751" y="251"/>
                  </a:lnTo>
                  <a:lnTo>
                    <a:pt x="726" y="232"/>
                  </a:lnTo>
                  <a:lnTo>
                    <a:pt x="701" y="213"/>
                  </a:lnTo>
                  <a:lnTo>
                    <a:pt x="677" y="192"/>
                  </a:lnTo>
                  <a:lnTo>
                    <a:pt x="654" y="173"/>
                  </a:lnTo>
                  <a:lnTo>
                    <a:pt x="633" y="154"/>
                  </a:lnTo>
                  <a:lnTo>
                    <a:pt x="613" y="136"/>
                  </a:lnTo>
                  <a:lnTo>
                    <a:pt x="579" y="103"/>
                  </a:lnTo>
                  <a:lnTo>
                    <a:pt x="554" y="75"/>
                  </a:lnTo>
                  <a:lnTo>
                    <a:pt x="536" y="57"/>
                  </a:lnTo>
                  <a:lnTo>
                    <a:pt x="531" y="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Freeform 274"/>
            <p:cNvSpPr/>
            <p:nvPr/>
          </p:nvSpPr>
          <p:spPr>
            <a:xfrm>
              <a:off x="5411880" y="508608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845" h="611">
                  <a:moveTo>
                    <a:pt x="531" y="51"/>
                  </a:moveTo>
                  <a:lnTo>
                    <a:pt x="523" y="49"/>
                  </a:lnTo>
                  <a:lnTo>
                    <a:pt x="501" y="42"/>
                  </a:lnTo>
                  <a:lnTo>
                    <a:pt x="468" y="34"/>
                  </a:lnTo>
                  <a:lnTo>
                    <a:pt x="425" y="24"/>
                  </a:lnTo>
                  <a:lnTo>
                    <a:pt x="399" y="19"/>
                  </a:lnTo>
                  <a:lnTo>
                    <a:pt x="374" y="14"/>
                  </a:lnTo>
                  <a:lnTo>
                    <a:pt x="347" y="10"/>
                  </a:lnTo>
                  <a:lnTo>
                    <a:pt x="320" y="6"/>
                  </a:lnTo>
                  <a:lnTo>
                    <a:pt x="290" y="3"/>
                  </a:lnTo>
                  <a:lnTo>
                    <a:pt x="262" y="1"/>
                  </a:lnTo>
                  <a:lnTo>
                    <a:pt x="234" y="0"/>
                  </a:lnTo>
                  <a:lnTo>
                    <a:pt x="206" y="0"/>
                  </a:lnTo>
                  <a:lnTo>
                    <a:pt x="178" y="2"/>
                  </a:lnTo>
                  <a:lnTo>
                    <a:pt x="151" y="5"/>
                  </a:lnTo>
                  <a:lnTo>
                    <a:pt x="125" y="10"/>
                  </a:lnTo>
                  <a:lnTo>
                    <a:pt x="102" y="17"/>
                  </a:lnTo>
                  <a:lnTo>
                    <a:pt x="80" y="26"/>
                  </a:lnTo>
                  <a:lnTo>
                    <a:pt x="60" y="37"/>
                  </a:lnTo>
                  <a:lnTo>
                    <a:pt x="42" y="51"/>
                  </a:lnTo>
                  <a:lnTo>
                    <a:pt x="27" y="67"/>
                  </a:lnTo>
                  <a:lnTo>
                    <a:pt x="15" y="87"/>
                  </a:lnTo>
                  <a:lnTo>
                    <a:pt x="6" y="110"/>
                  </a:lnTo>
                  <a:lnTo>
                    <a:pt x="1" y="135"/>
                  </a:lnTo>
                  <a:lnTo>
                    <a:pt x="0" y="164"/>
                  </a:lnTo>
                  <a:lnTo>
                    <a:pt x="3" y="196"/>
                  </a:lnTo>
                  <a:lnTo>
                    <a:pt x="11" y="232"/>
                  </a:lnTo>
                  <a:lnTo>
                    <a:pt x="23" y="272"/>
                  </a:lnTo>
                  <a:lnTo>
                    <a:pt x="42" y="315"/>
                  </a:lnTo>
                  <a:lnTo>
                    <a:pt x="53" y="327"/>
                  </a:lnTo>
                  <a:lnTo>
                    <a:pt x="84" y="361"/>
                  </a:lnTo>
                  <a:lnTo>
                    <a:pt x="106" y="382"/>
                  </a:lnTo>
                  <a:lnTo>
                    <a:pt x="131" y="406"/>
                  </a:lnTo>
                  <a:lnTo>
                    <a:pt x="159" y="432"/>
                  </a:lnTo>
                  <a:lnTo>
                    <a:pt x="191" y="459"/>
                  </a:lnTo>
                  <a:lnTo>
                    <a:pt x="224" y="486"/>
                  </a:lnTo>
                  <a:lnTo>
                    <a:pt x="258" y="512"/>
                  </a:lnTo>
                  <a:lnTo>
                    <a:pt x="276" y="525"/>
                  </a:lnTo>
                  <a:lnTo>
                    <a:pt x="295" y="537"/>
                  </a:lnTo>
                  <a:lnTo>
                    <a:pt x="313" y="548"/>
                  </a:lnTo>
                  <a:lnTo>
                    <a:pt x="331" y="559"/>
                  </a:lnTo>
                  <a:lnTo>
                    <a:pt x="349" y="570"/>
                  </a:lnTo>
                  <a:lnTo>
                    <a:pt x="367" y="579"/>
                  </a:lnTo>
                  <a:lnTo>
                    <a:pt x="385" y="588"/>
                  </a:lnTo>
                  <a:lnTo>
                    <a:pt x="403" y="595"/>
                  </a:lnTo>
                  <a:lnTo>
                    <a:pt x="421" y="600"/>
                  </a:lnTo>
                  <a:lnTo>
                    <a:pt x="439" y="605"/>
                  </a:lnTo>
                  <a:lnTo>
                    <a:pt x="456" y="608"/>
                  </a:lnTo>
                  <a:lnTo>
                    <a:pt x="472" y="610"/>
                  </a:lnTo>
                  <a:lnTo>
                    <a:pt x="490" y="611"/>
                  </a:lnTo>
                  <a:lnTo>
                    <a:pt x="508" y="611"/>
                  </a:lnTo>
                  <a:lnTo>
                    <a:pt x="527" y="609"/>
                  </a:lnTo>
                  <a:lnTo>
                    <a:pt x="547" y="606"/>
                  </a:lnTo>
                  <a:lnTo>
                    <a:pt x="566" y="601"/>
                  </a:lnTo>
                  <a:lnTo>
                    <a:pt x="585" y="596"/>
                  </a:lnTo>
                  <a:lnTo>
                    <a:pt x="604" y="589"/>
                  </a:lnTo>
                  <a:lnTo>
                    <a:pt x="623" y="582"/>
                  </a:lnTo>
                  <a:lnTo>
                    <a:pt x="642" y="573"/>
                  </a:lnTo>
                  <a:lnTo>
                    <a:pt x="661" y="563"/>
                  </a:lnTo>
                  <a:lnTo>
                    <a:pt x="681" y="553"/>
                  </a:lnTo>
                  <a:lnTo>
                    <a:pt x="699" y="542"/>
                  </a:lnTo>
                  <a:lnTo>
                    <a:pt x="716" y="530"/>
                  </a:lnTo>
                  <a:lnTo>
                    <a:pt x="733" y="518"/>
                  </a:lnTo>
                  <a:lnTo>
                    <a:pt x="748" y="505"/>
                  </a:lnTo>
                  <a:lnTo>
                    <a:pt x="764" y="492"/>
                  </a:lnTo>
                  <a:lnTo>
                    <a:pt x="778" y="479"/>
                  </a:lnTo>
                  <a:lnTo>
                    <a:pt x="791" y="465"/>
                  </a:lnTo>
                  <a:lnTo>
                    <a:pt x="803" y="452"/>
                  </a:lnTo>
                  <a:lnTo>
                    <a:pt x="814" y="437"/>
                  </a:lnTo>
                  <a:lnTo>
                    <a:pt x="823" y="423"/>
                  </a:lnTo>
                  <a:lnTo>
                    <a:pt x="831" y="409"/>
                  </a:lnTo>
                  <a:lnTo>
                    <a:pt x="837" y="395"/>
                  </a:lnTo>
                  <a:lnTo>
                    <a:pt x="842" y="381"/>
                  </a:lnTo>
                  <a:lnTo>
                    <a:pt x="844" y="368"/>
                  </a:lnTo>
                  <a:lnTo>
                    <a:pt x="845" y="355"/>
                  </a:lnTo>
                  <a:lnTo>
                    <a:pt x="844" y="342"/>
                  </a:lnTo>
                  <a:lnTo>
                    <a:pt x="841" y="330"/>
                  </a:lnTo>
                  <a:lnTo>
                    <a:pt x="836" y="317"/>
                  </a:lnTo>
                  <a:lnTo>
                    <a:pt x="828" y="306"/>
                  </a:lnTo>
                  <a:lnTo>
                    <a:pt x="818" y="296"/>
                  </a:lnTo>
                  <a:lnTo>
                    <a:pt x="806" y="286"/>
                  </a:lnTo>
                  <a:lnTo>
                    <a:pt x="778" y="269"/>
                  </a:lnTo>
                  <a:lnTo>
                    <a:pt x="751" y="251"/>
                  </a:lnTo>
                  <a:lnTo>
                    <a:pt x="726" y="232"/>
                  </a:lnTo>
                  <a:lnTo>
                    <a:pt x="701" y="213"/>
                  </a:lnTo>
                  <a:lnTo>
                    <a:pt x="677" y="192"/>
                  </a:lnTo>
                  <a:lnTo>
                    <a:pt x="654" y="173"/>
                  </a:lnTo>
                  <a:lnTo>
                    <a:pt x="633" y="154"/>
                  </a:lnTo>
                  <a:lnTo>
                    <a:pt x="613" y="136"/>
                  </a:lnTo>
                  <a:lnTo>
                    <a:pt x="579" y="103"/>
                  </a:lnTo>
                  <a:lnTo>
                    <a:pt x="554" y="75"/>
                  </a:lnTo>
                  <a:lnTo>
                    <a:pt x="536" y="57"/>
                  </a:lnTo>
                  <a:lnTo>
                    <a:pt x="531" y="51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Freeform 275"/>
            <p:cNvSpPr/>
            <p:nvPr/>
          </p:nvSpPr>
          <p:spPr>
            <a:xfrm>
              <a:off x="5490720" y="5217840"/>
              <a:ext cx="70560" cy="982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508" h="3165">
                  <a:moveTo>
                    <a:pt x="2498" y="0"/>
                  </a:moveTo>
                  <a:lnTo>
                    <a:pt x="2487" y="5"/>
                  </a:lnTo>
                  <a:lnTo>
                    <a:pt x="2455" y="22"/>
                  </a:lnTo>
                  <a:lnTo>
                    <a:pt x="2405" y="47"/>
                  </a:lnTo>
                  <a:lnTo>
                    <a:pt x="2341" y="79"/>
                  </a:lnTo>
                  <a:lnTo>
                    <a:pt x="2263" y="117"/>
                  </a:lnTo>
                  <a:lnTo>
                    <a:pt x="2176" y="161"/>
                  </a:lnTo>
                  <a:lnTo>
                    <a:pt x="2080" y="207"/>
                  </a:lnTo>
                  <a:lnTo>
                    <a:pt x="1980" y="256"/>
                  </a:lnTo>
                  <a:lnTo>
                    <a:pt x="1878" y="305"/>
                  </a:lnTo>
                  <a:lnTo>
                    <a:pt x="1776" y="353"/>
                  </a:lnTo>
                  <a:lnTo>
                    <a:pt x="1678" y="400"/>
                  </a:lnTo>
                  <a:lnTo>
                    <a:pt x="1585" y="442"/>
                  </a:lnTo>
                  <a:lnTo>
                    <a:pt x="1500" y="480"/>
                  </a:lnTo>
                  <a:lnTo>
                    <a:pt x="1427" y="511"/>
                  </a:lnTo>
                  <a:lnTo>
                    <a:pt x="1394" y="524"/>
                  </a:lnTo>
                  <a:lnTo>
                    <a:pt x="1366" y="535"/>
                  </a:lnTo>
                  <a:lnTo>
                    <a:pt x="1342" y="543"/>
                  </a:lnTo>
                  <a:lnTo>
                    <a:pt x="1323" y="549"/>
                  </a:lnTo>
                  <a:lnTo>
                    <a:pt x="0" y="1010"/>
                  </a:lnTo>
                  <a:lnTo>
                    <a:pt x="0" y="3165"/>
                  </a:lnTo>
                  <a:lnTo>
                    <a:pt x="1479" y="2646"/>
                  </a:lnTo>
                  <a:lnTo>
                    <a:pt x="2508" y="2146"/>
                  </a:lnTo>
                  <a:lnTo>
                    <a:pt x="249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Freeform 276"/>
            <p:cNvSpPr/>
            <p:nvPr/>
          </p:nvSpPr>
          <p:spPr>
            <a:xfrm>
              <a:off x="5824800" y="5219640"/>
              <a:ext cx="25200" cy="1216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891" h="3959">
                  <a:moveTo>
                    <a:pt x="0" y="0"/>
                  </a:moveTo>
                  <a:lnTo>
                    <a:pt x="891" y="1872"/>
                  </a:lnTo>
                  <a:lnTo>
                    <a:pt x="891" y="3959"/>
                  </a:lnTo>
                  <a:lnTo>
                    <a:pt x="10" y="21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95280" y="222120"/>
            <a:ext cx="646884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HCUP State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sldNum" idx="7"/>
          </p:nvPr>
        </p:nvSpPr>
        <p:spPr>
          <a:xfrm>
            <a:off x="304920" y="6400800"/>
            <a:ext cx="57420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3A199BD-2DA8-4CEF-B70C-138FB6BC4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Group 23"/>
          <p:cNvGrpSpPr/>
          <p:nvPr/>
        </p:nvGrpSpPr>
        <p:grpSpPr>
          <a:xfrm>
            <a:off x="304920" y="1676520"/>
            <a:ext cx="8610120" cy="4723920"/>
            <a:chOff x="304920" y="1676520"/>
            <a:chExt cx="8610120" cy="4723920"/>
          </a:xfrm>
        </p:grpSpPr>
        <p:sp>
          <p:nvSpPr>
            <p:cNvPr id="1217" name="Rectangle 18"/>
            <p:cNvSpPr/>
            <p:nvPr/>
          </p:nvSpPr>
          <p:spPr>
            <a:xfrm>
              <a:off x="304920" y="3352680"/>
              <a:ext cx="8610120" cy="1371240"/>
            </a:xfrm>
            <a:prstGeom prst="rect">
              <a:avLst/>
            </a:prstGeom>
            <a:noFill/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18" name="Rectangle 19"/>
            <p:cNvSpPr/>
            <p:nvPr/>
          </p:nvSpPr>
          <p:spPr>
            <a:xfrm>
              <a:off x="304920" y="4952880"/>
              <a:ext cx="8610120" cy="1447560"/>
            </a:xfrm>
            <a:prstGeom prst="rect">
              <a:avLst/>
            </a:prstGeom>
            <a:noFill/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19" name="Rectangle 20"/>
            <p:cNvSpPr/>
            <p:nvPr/>
          </p:nvSpPr>
          <p:spPr>
            <a:xfrm>
              <a:off x="304920" y="1676520"/>
              <a:ext cx="8610120" cy="1371240"/>
            </a:xfrm>
            <a:prstGeom prst="rect">
              <a:avLst/>
            </a:prstGeom>
            <a:noFill/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20" name="Rectangle 26"/>
            <p:cNvSpPr/>
            <p:nvPr/>
          </p:nvSpPr>
          <p:spPr>
            <a:xfrm>
              <a:off x="4495680" y="3505320"/>
              <a:ext cx="3885840" cy="1512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Ambulatory surgery data (hospital based and some freestanding) from participating HCUP St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1" name="Group 3"/>
            <p:cNvGrpSpPr/>
            <p:nvPr/>
          </p:nvGrpSpPr>
          <p:grpSpPr>
            <a:xfrm>
              <a:off x="609480" y="3657600"/>
              <a:ext cx="2514240" cy="914040"/>
              <a:chOff x="609480" y="3657600"/>
              <a:chExt cx="2514240" cy="914040"/>
            </a:xfrm>
          </p:grpSpPr>
          <p:grpSp>
            <p:nvGrpSpPr>
              <p:cNvPr id="1222" name="Group 4"/>
              <p:cNvGrpSpPr/>
              <p:nvPr/>
            </p:nvGrpSpPr>
            <p:grpSpPr>
              <a:xfrm>
                <a:off x="609480" y="3657600"/>
                <a:ext cx="2514240" cy="914040"/>
                <a:chOff x="609480" y="3657600"/>
                <a:chExt cx="2514240" cy="914040"/>
              </a:xfrm>
            </p:grpSpPr>
            <p:sp>
              <p:nvSpPr>
                <p:cNvPr id="1223" name="AutoShape 5"/>
                <p:cNvSpPr/>
                <p:nvPr/>
              </p:nvSpPr>
              <p:spPr>
                <a:xfrm>
                  <a:off x="609480" y="3657600"/>
                  <a:ext cx="2514240" cy="914040"/>
                </a:xfrm>
                <a:prstGeom prst="flowChartMagneticDisk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65e00"/>
                    </a:gs>
                  </a:gsLst>
                  <a:lin ang="5400000"/>
                </a:gra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29"/>
                    </a:spcBef>
                  </a:pPr>
                  <a:endParaRPr b="0" lang="en-US" sz="11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endParaRPr>
                </a:p>
              </p:txBody>
            </p:sp>
            <p:sp>
              <p:nvSpPr>
                <p:cNvPr id="1224" name="Text Box 6"/>
                <p:cNvSpPr/>
                <p:nvPr/>
              </p:nvSpPr>
              <p:spPr>
                <a:xfrm>
                  <a:off x="609480" y="3984480"/>
                  <a:ext cx="2476440" cy="47340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400"/>
                    </a:spcBef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5" name="Text Box 7"/>
              <p:cNvSpPr/>
              <p:nvPr/>
            </p:nvSpPr>
            <p:spPr>
              <a:xfrm>
                <a:off x="956880" y="4067640"/>
                <a:ext cx="1696680" cy="4269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00"/>
                  </a:spcBef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ASD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6" name="Group 8"/>
            <p:cNvGrpSpPr/>
            <p:nvPr/>
          </p:nvGrpSpPr>
          <p:grpSpPr>
            <a:xfrm>
              <a:off x="533520" y="1828800"/>
              <a:ext cx="2514240" cy="880560"/>
              <a:chOff x="533520" y="1828800"/>
              <a:chExt cx="2514240" cy="880560"/>
            </a:xfrm>
          </p:grpSpPr>
          <p:grpSp>
            <p:nvGrpSpPr>
              <p:cNvPr id="1227" name="Group 9"/>
              <p:cNvGrpSpPr/>
              <p:nvPr/>
            </p:nvGrpSpPr>
            <p:grpSpPr>
              <a:xfrm>
                <a:off x="533520" y="1828800"/>
                <a:ext cx="2514240" cy="880560"/>
                <a:chOff x="533520" y="1828800"/>
                <a:chExt cx="2514240" cy="880560"/>
              </a:xfrm>
            </p:grpSpPr>
            <p:sp>
              <p:nvSpPr>
                <p:cNvPr id="1228" name="AutoShape 10"/>
                <p:cNvSpPr/>
                <p:nvPr/>
              </p:nvSpPr>
              <p:spPr>
                <a:xfrm>
                  <a:off x="533520" y="1828800"/>
                  <a:ext cx="2514240" cy="880560"/>
                </a:xfrm>
                <a:prstGeom prst="flowChartMagneticDisk">
                  <a:avLst/>
                </a:prstGeom>
                <a:gradFill rotWithShape="0">
                  <a:gsLst>
                    <a:gs pos="0">
                      <a:srgbClr val="51dc00">
                        <a:alpha val="70196"/>
                      </a:srgbClr>
                    </a:gs>
                    <a:gs pos="100000">
                      <a:srgbClr val="256500"/>
                    </a:gs>
                  </a:gsLst>
                  <a:lin ang="5400000"/>
                </a:gra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29"/>
                    </a:spcBef>
                  </a:pP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Text Box 11"/>
                <p:cNvSpPr/>
                <p:nvPr/>
              </p:nvSpPr>
              <p:spPr>
                <a:xfrm>
                  <a:off x="533520" y="2145240"/>
                  <a:ext cx="2476440" cy="47340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400"/>
                    </a:spcBef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0" name="Text Box 12"/>
              <p:cNvSpPr/>
              <p:nvPr/>
            </p:nvSpPr>
            <p:spPr>
              <a:xfrm>
                <a:off x="948960" y="2257560"/>
                <a:ext cx="1518840" cy="4269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00"/>
                  </a:spcBef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ID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1" name="Group 3"/>
            <p:cNvGrpSpPr/>
            <p:nvPr/>
          </p:nvGrpSpPr>
          <p:grpSpPr>
            <a:xfrm>
              <a:off x="609480" y="5257800"/>
              <a:ext cx="2590560" cy="914040"/>
              <a:chOff x="609480" y="5257800"/>
              <a:chExt cx="2590560" cy="914040"/>
            </a:xfrm>
          </p:grpSpPr>
          <p:sp>
            <p:nvSpPr>
              <p:cNvPr id="1232" name="AutoShape 4"/>
              <p:cNvSpPr/>
              <p:nvPr/>
            </p:nvSpPr>
            <p:spPr>
              <a:xfrm>
                <a:off x="609480" y="5257800"/>
                <a:ext cx="2590560" cy="914040"/>
              </a:xfrm>
              <a:prstGeom prst="flowChartMagneticDisk">
                <a:avLst/>
              </a:prstGeom>
              <a:gradFill rotWithShape="0">
                <a:gsLst>
                  <a:gs pos="0">
                    <a:srgbClr val="ff0000">
                      <a:alpha val="80000"/>
                    </a:srgbClr>
                  </a:gs>
                  <a:gs pos="100000">
                    <a:srgbClr val="760000"/>
                  </a:gs>
                </a:gsLst>
                <a:lin ang="5400000"/>
              </a:gradFill>
              <a:ln w="952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233" name="Text Box 5"/>
              <p:cNvSpPr/>
              <p:nvPr/>
            </p:nvSpPr>
            <p:spPr>
              <a:xfrm>
                <a:off x="609480" y="5584680"/>
                <a:ext cx="2550600" cy="473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400"/>
                  </a:spcBef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4" name="TextBox 43"/>
            <p:cNvSpPr/>
            <p:nvPr/>
          </p:nvSpPr>
          <p:spPr>
            <a:xfrm>
              <a:off x="1143000" y="5742000"/>
              <a:ext cx="1447560" cy="424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660"/>
                </a:spcBef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ED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26"/>
            <p:cNvSpPr/>
            <p:nvPr/>
          </p:nvSpPr>
          <p:spPr>
            <a:xfrm>
              <a:off x="4495680" y="5257800"/>
              <a:ext cx="388584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ergency department data (treat and release) from participating HCUP St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26"/>
            <p:cNvSpPr/>
            <p:nvPr/>
          </p:nvSpPr>
          <p:spPr>
            <a:xfrm>
              <a:off x="4419720" y="1828800"/>
              <a:ext cx="3885840" cy="1186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ll inpatient hospital discharge data (including those admissions that started in the ED) from participating HCUP Sta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662904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eadmissions: Hospitalizations for Same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8" name="Group 18"/>
          <p:cNvGrpSpPr/>
          <p:nvPr/>
        </p:nvGrpSpPr>
        <p:grpSpPr>
          <a:xfrm>
            <a:off x="685800" y="1752480"/>
            <a:ext cx="8305560" cy="4923000"/>
            <a:chOff x="685800" y="1752480"/>
            <a:chExt cx="8305560" cy="4923000"/>
          </a:xfrm>
        </p:grpSpPr>
        <p:grpSp>
          <p:nvGrpSpPr>
            <p:cNvPr id="1239" name="Group 3"/>
            <p:cNvGrpSpPr/>
            <p:nvPr/>
          </p:nvGrpSpPr>
          <p:grpSpPr>
            <a:xfrm>
              <a:off x="6858000" y="3886200"/>
              <a:ext cx="1904760" cy="914040"/>
              <a:chOff x="6858000" y="3886200"/>
              <a:chExt cx="1904760" cy="914040"/>
            </a:xfrm>
          </p:grpSpPr>
          <p:grpSp>
            <p:nvGrpSpPr>
              <p:cNvPr id="1240" name="Group 4"/>
              <p:cNvGrpSpPr/>
              <p:nvPr/>
            </p:nvGrpSpPr>
            <p:grpSpPr>
              <a:xfrm>
                <a:off x="6858000" y="3886200"/>
                <a:ext cx="1904760" cy="914040"/>
                <a:chOff x="6858000" y="3886200"/>
                <a:chExt cx="1904760" cy="914040"/>
              </a:xfrm>
            </p:grpSpPr>
            <p:sp>
              <p:nvSpPr>
                <p:cNvPr id="1241" name="AutoShape 5"/>
                <p:cNvSpPr/>
                <p:nvPr/>
              </p:nvSpPr>
              <p:spPr>
                <a:xfrm>
                  <a:off x="6858000" y="3886200"/>
                  <a:ext cx="1904760" cy="914040"/>
                </a:xfrm>
                <a:prstGeom prst="flowChartMagneticDisk">
                  <a:avLst/>
                </a:prstGeom>
                <a:gradFill rotWithShape="0">
                  <a:gsLst>
                    <a:gs pos="0">
                      <a:srgbClr val="51dc00">
                        <a:alpha val="70196"/>
                      </a:srgbClr>
                    </a:gs>
                    <a:gs pos="100000">
                      <a:srgbClr val="256500"/>
                    </a:gs>
                  </a:gsLst>
                  <a:lin ang="5400000"/>
                </a:gra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29"/>
                    </a:spcBef>
                  </a:pP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2" name="Text Box 6"/>
                <p:cNvSpPr/>
                <p:nvPr/>
              </p:nvSpPr>
              <p:spPr>
                <a:xfrm>
                  <a:off x="6858000" y="4214880"/>
                  <a:ext cx="1874880" cy="47340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1400"/>
                    </a:spcBef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3" name="Text Box 7"/>
              <p:cNvSpPr/>
              <p:nvPr/>
            </p:nvSpPr>
            <p:spPr>
              <a:xfrm>
                <a:off x="7172640" y="4329360"/>
                <a:ext cx="1151640" cy="3661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2009 S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4" name="Text Box 8"/>
            <p:cNvSpPr/>
            <p:nvPr/>
          </p:nvSpPr>
          <p:spPr>
            <a:xfrm>
              <a:off x="685800" y="5486400"/>
              <a:ext cx="7848360" cy="1189080"/>
            </a:xfrm>
            <a:prstGeom prst="rect">
              <a:avLst/>
            </a:prstGeom>
            <a:solidFill>
              <a:srgbClr val="ccecff">
                <a:alpha val="30000"/>
              </a:srgbClr>
            </a:solidFill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admissions: </a:t>
              </a:r>
              <a:r>
                <a:rPr b="1" lang="en-US" sz="2400" spc="-1" strike="noStrike">
                  <a:solidFill>
                    <a:schemeClr val="folHlink"/>
                  </a:solidFill>
                  <a:latin typeface="Arial"/>
                </a:rPr>
                <a:t>Sequential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hospital admissions for a </a:t>
              </a:r>
              <a:r>
                <a:rPr b="1" lang="en-US" sz="2400" spc="-1" strike="noStrike">
                  <a:solidFill>
                    <a:schemeClr val="folHlink"/>
                  </a:solidFill>
                  <a:latin typeface="Arial"/>
                </a:rPr>
                <a:t>(un)related reason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, and usually within a specific time frame.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5" name="Picture 9" descr="Woman"/>
            <p:cNvPicPr/>
            <p:nvPr/>
          </p:nvPicPr>
          <p:blipFill>
            <a:blip r:embed="rId1"/>
            <a:srcRect l="0" t="0" r="0" b="12175"/>
            <a:stretch/>
          </p:blipFill>
          <p:spPr>
            <a:xfrm>
              <a:off x="838080" y="2819520"/>
              <a:ext cx="1792080" cy="246672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246" name="Picture 10" descr="Man"/>
            <p:cNvPicPr/>
            <p:nvPr/>
          </p:nvPicPr>
          <p:blipFill>
            <a:blip r:embed="rId2"/>
            <a:srcRect l="0" t="0" r="0" b="41488"/>
            <a:stretch/>
          </p:blipFill>
          <p:spPr>
            <a:xfrm>
              <a:off x="2057400" y="1752480"/>
              <a:ext cx="1728360" cy="15904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247" name="Line 11"/>
            <p:cNvSpPr/>
            <p:nvPr/>
          </p:nvSpPr>
          <p:spPr>
            <a:xfrm>
              <a:off x="3826800" y="2560320"/>
              <a:ext cx="423000" cy="105120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080" bIns="4608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48" name="Line 12"/>
            <p:cNvSpPr/>
            <p:nvPr/>
          </p:nvSpPr>
          <p:spPr>
            <a:xfrm>
              <a:off x="2666880" y="3962160"/>
              <a:ext cx="1066680" cy="36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0" bIns="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49" name="Line 13"/>
            <p:cNvSpPr/>
            <p:nvPr/>
          </p:nvSpPr>
          <p:spPr>
            <a:xfrm>
              <a:off x="2666880" y="3962160"/>
              <a:ext cx="838080" cy="22860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080" bIns="4608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pic>
          <p:nvPicPr>
            <p:cNvPr id="1250" name="Picture 14" descr="hospital"/>
            <p:cNvPicPr/>
            <p:nvPr/>
          </p:nvPicPr>
          <p:blipFill>
            <a:blip r:embed="rId3"/>
            <a:srcRect l="0" t="0" r="0" b="7204"/>
            <a:stretch/>
          </p:blipFill>
          <p:spPr>
            <a:xfrm>
              <a:off x="3809880" y="3657600"/>
              <a:ext cx="1618920" cy="10648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251" name="Line 15"/>
            <p:cNvSpPr/>
            <p:nvPr/>
          </p:nvSpPr>
          <p:spPr>
            <a:xfrm>
              <a:off x="5562360" y="4267080"/>
              <a:ext cx="1067040" cy="36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0" bIns="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52" name="Text Box 16"/>
            <p:cNvSpPr/>
            <p:nvPr/>
          </p:nvSpPr>
          <p:spPr>
            <a:xfrm>
              <a:off x="3809880" y="2057400"/>
              <a:ext cx="25905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i="1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1 hospital admis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Text Box 17"/>
            <p:cNvSpPr/>
            <p:nvPr/>
          </p:nvSpPr>
          <p:spPr>
            <a:xfrm>
              <a:off x="2666880" y="4800600"/>
              <a:ext cx="25905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i="1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2 hospital admiss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Text Box 18"/>
            <p:cNvSpPr/>
            <p:nvPr/>
          </p:nvSpPr>
          <p:spPr>
            <a:xfrm>
              <a:off x="5562720" y="3276720"/>
              <a:ext cx="342864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i="1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3 hospital admissions from 2 unique people in 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evisits: Multiple visits for same patient across hospital settings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6" name="Group 26"/>
          <p:cNvGrpSpPr/>
          <p:nvPr/>
        </p:nvGrpSpPr>
        <p:grpSpPr>
          <a:xfrm>
            <a:off x="685800" y="1752480"/>
            <a:ext cx="8457840" cy="4557240"/>
            <a:chOff x="685800" y="1752480"/>
            <a:chExt cx="8457840" cy="4557240"/>
          </a:xfrm>
        </p:grpSpPr>
        <p:pic>
          <p:nvPicPr>
            <p:cNvPr id="1257" name="Picture 2" descr="B5P614"/>
            <p:cNvPicPr/>
            <p:nvPr/>
          </p:nvPicPr>
          <p:blipFill>
            <a:blip r:embed="rId1"/>
            <a:stretch/>
          </p:blipFill>
          <p:spPr>
            <a:xfrm>
              <a:off x="4876920" y="2895480"/>
              <a:ext cx="809280" cy="60912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258" name="Picture 3" descr="A5CMEW"/>
            <p:cNvPicPr/>
            <p:nvPr/>
          </p:nvPicPr>
          <p:blipFill>
            <a:blip r:embed="rId2"/>
            <a:stretch/>
          </p:blipFill>
          <p:spPr>
            <a:xfrm>
              <a:off x="4419720" y="3352680"/>
              <a:ext cx="1037880" cy="67752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259" name="Picture 5" descr="Woman"/>
            <p:cNvPicPr/>
            <p:nvPr/>
          </p:nvPicPr>
          <p:blipFill>
            <a:blip r:embed="rId3"/>
            <a:srcRect l="0" t="0" r="0" b="12175"/>
            <a:stretch/>
          </p:blipFill>
          <p:spPr>
            <a:xfrm>
              <a:off x="838080" y="2819520"/>
              <a:ext cx="1792080" cy="246672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260" name="Picture 6" descr="Man"/>
            <p:cNvPicPr/>
            <p:nvPr/>
          </p:nvPicPr>
          <p:blipFill>
            <a:blip r:embed="rId4"/>
            <a:srcRect l="0" t="0" r="0" b="41488"/>
            <a:stretch/>
          </p:blipFill>
          <p:spPr>
            <a:xfrm>
              <a:off x="2057400" y="1752480"/>
              <a:ext cx="1728360" cy="15904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261" name="Line 7"/>
            <p:cNvSpPr/>
            <p:nvPr/>
          </p:nvSpPr>
          <p:spPr>
            <a:xfrm>
              <a:off x="3763080" y="2556000"/>
              <a:ext cx="728640" cy="76464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080" bIns="4608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62" name="Line 8"/>
            <p:cNvSpPr/>
            <p:nvPr/>
          </p:nvSpPr>
          <p:spPr>
            <a:xfrm>
              <a:off x="3763800" y="2555640"/>
              <a:ext cx="1063440" cy="63828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080" bIns="4608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63" name="Line 9"/>
            <p:cNvSpPr/>
            <p:nvPr/>
          </p:nvSpPr>
          <p:spPr>
            <a:xfrm>
              <a:off x="3763440" y="2555640"/>
              <a:ext cx="423000" cy="105084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080" bIns="4608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64" name="Line 10"/>
            <p:cNvSpPr/>
            <p:nvPr/>
          </p:nvSpPr>
          <p:spPr>
            <a:xfrm>
              <a:off x="2666880" y="3962160"/>
              <a:ext cx="1066680" cy="36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0" bIns="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65" name="Line 11"/>
            <p:cNvSpPr/>
            <p:nvPr/>
          </p:nvSpPr>
          <p:spPr>
            <a:xfrm>
              <a:off x="2666880" y="3962160"/>
              <a:ext cx="1066680" cy="30492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080" bIns="4608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pic>
          <p:nvPicPr>
            <p:cNvPr id="1266" name="Picture 12" descr="hospital"/>
            <p:cNvPicPr/>
            <p:nvPr/>
          </p:nvPicPr>
          <p:blipFill>
            <a:blip r:embed="rId5"/>
            <a:srcRect l="0" t="0" r="0" b="7193"/>
            <a:stretch/>
          </p:blipFill>
          <p:spPr>
            <a:xfrm>
              <a:off x="3809880" y="3886200"/>
              <a:ext cx="1314000" cy="8647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267" name="Line 13"/>
            <p:cNvSpPr/>
            <p:nvPr/>
          </p:nvSpPr>
          <p:spPr>
            <a:xfrm flipV="1">
              <a:off x="5638680" y="4190760"/>
              <a:ext cx="1066680" cy="7632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38160" bIns="3816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68" name="Text Box 14"/>
            <p:cNvSpPr/>
            <p:nvPr/>
          </p:nvSpPr>
          <p:spPr>
            <a:xfrm>
              <a:off x="3809880" y="1905120"/>
              <a:ext cx="41144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i="1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1 hospital admission </a:t>
              </a: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  <a:ea typeface="ＭＳ Ｐゴシック"/>
                </a:rPr>
                <a:t>+ 2 ED vis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Text Box 15"/>
            <p:cNvSpPr/>
            <p:nvPr/>
          </p:nvSpPr>
          <p:spPr>
            <a:xfrm>
              <a:off x="2666880" y="4800600"/>
              <a:ext cx="44193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i="1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2 hospital admissions </a:t>
              </a: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  <a:ea typeface="ＭＳ Ｐゴシック"/>
                </a:rPr>
                <a:t>+ 1 ED vis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 Box 16"/>
            <p:cNvSpPr/>
            <p:nvPr/>
          </p:nvSpPr>
          <p:spPr>
            <a:xfrm>
              <a:off x="5715000" y="2819520"/>
              <a:ext cx="342864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1" i="1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3 hospital admissions + </a:t>
              </a:r>
              <a:r>
                <a:rPr b="1" i="1" lang="en-US" sz="1800" spc="-1" strike="noStrike">
                  <a:solidFill>
                    <a:srgbClr val="cc3300"/>
                  </a:solidFill>
                  <a:latin typeface="Arial"/>
                  <a:ea typeface="ＭＳ Ｐゴシック"/>
                </a:rPr>
                <a:t>                      3 ED visits</a:t>
              </a:r>
              <a:r>
                <a:rPr b="1" i="1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 from 2 unique people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1" name="Group 17"/>
            <p:cNvGrpSpPr/>
            <p:nvPr/>
          </p:nvGrpSpPr>
          <p:grpSpPr>
            <a:xfrm>
              <a:off x="6705720" y="4648320"/>
              <a:ext cx="1904760" cy="711000"/>
              <a:chOff x="6705720" y="4648320"/>
              <a:chExt cx="1904760" cy="711000"/>
            </a:xfrm>
          </p:grpSpPr>
          <p:sp>
            <p:nvSpPr>
              <p:cNvPr id="1272" name="AutoShape 18"/>
              <p:cNvSpPr/>
              <p:nvPr/>
            </p:nvSpPr>
            <p:spPr>
              <a:xfrm>
                <a:off x="6705720" y="4648320"/>
                <a:ext cx="1904760" cy="7110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dc3400"/>
                  </a:gs>
                  <a:gs pos="100000">
                    <a:srgbClr val="661800"/>
                  </a:gs>
                </a:gsLst>
                <a:lin ang="5400000"/>
              </a:gradFill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  <a:ea typeface="ＭＳ Ｐゴシック"/>
                </a:endParaRPr>
              </a:p>
            </p:txBody>
          </p:sp>
          <p:sp>
            <p:nvSpPr>
              <p:cNvPr id="1273" name="Text Box 19"/>
              <p:cNvSpPr/>
              <p:nvPr/>
            </p:nvSpPr>
            <p:spPr>
              <a:xfrm>
                <a:off x="6871320" y="4904280"/>
                <a:ext cx="1631880" cy="3661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2009 SED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4" name="Line 20"/>
            <p:cNvSpPr/>
            <p:nvPr/>
          </p:nvSpPr>
          <p:spPr>
            <a:xfrm>
              <a:off x="5562360" y="4343400"/>
              <a:ext cx="1143000" cy="53316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080" bIns="4608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275" name="Text Box 21"/>
            <p:cNvSpPr/>
            <p:nvPr/>
          </p:nvSpPr>
          <p:spPr>
            <a:xfrm>
              <a:off x="685800" y="5486400"/>
              <a:ext cx="7848360" cy="823320"/>
            </a:xfrm>
            <a:prstGeom prst="rect">
              <a:avLst/>
            </a:prstGeom>
            <a:solidFill>
              <a:srgbClr val="ccecff">
                <a:alpha val="30000"/>
              </a:srgbClr>
            </a:solidFill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visits: </a:t>
              </a:r>
              <a:r>
                <a:rPr b="1" lang="en-US" sz="2400" spc="-1" strike="noStrike">
                  <a:solidFill>
                    <a:schemeClr val="folHlink"/>
                  </a:solidFill>
                  <a:latin typeface="Arial"/>
                </a:rPr>
                <a:t>Multiple health care encounter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for a particular patient for </a:t>
              </a:r>
              <a:r>
                <a:rPr b="0" lang="en-US" sz="2400" spc="-1" strike="noStrike">
                  <a:solidFill>
                    <a:schemeClr val="folHlink"/>
                  </a:solidFill>
                  <a:latin typeface="Arial"/>
                </a:rPr>
                <a:t>related or unrelated condition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6" name="Group 22"/>
            <p:cNvGrpSpPr/>
            <p:nvPr/>
          </p:nvGrpSpPr>
          <p:grpSpPr>
            <a:xfrm>
              <a:off x="6705720" y="3809880"/>
              <a:ext cx="1904760" cy="711360"/>
              <a:chOff x="6705720" y="3809880"/>
              <a:chExt cx="1904760" cy="711360"/>
            </a:xfrm>
          </p:grpSpPr>
          <p:grpSp>
            <p:nvGrpSpPr>
              <p:cNvPr id="1277" name="Group 23"/>
              <p:cNvGrpSpPr/>
              <p:nvPr/>
            </p:nvGrpSpPr>
            <p:grpSpPr>
              <a:xfrm>
                <a:off x="6705720" y="3809880"/>
                <a:ext cx="1904760" cy="711360"/>
                <a:chOff x="6705720" y="3809880"/>
                <a:chExt cx="1904760" cy="711360"/>
              </a:xfrm>
            </p:grpSpPr>
            <p:sp>
              <p:nvSpPr>
                <p:cNvPr id="1278" name="AutoShape 24"/>
                <p:cNvSpPr/>
                <p:nvPr/>
              </p:nvSpPr>
              <p:spPr>
                <a:xfrm>
                  <a:off x="6705720" y="3809880"/>
                  <a:ext cx="1904760" cy="659880"/>
                </a:xfrm>
                <a:prstGeom prst="flowChartMagneticDisk">
                  <a:avLst/>
                </a:prstGeom>
                <a:gradFill rotWithShape="0">
                  <a:gsLst>
                    <a:gs pos="0">
                      <a:srgbClr val="51dc00">
                        <a:alpha val="70196"/>
                      </a:srgbClr>
                    </a:gs>
                    <a:gs pos="100000">
                      <a:srgbClr val="256500"/>
                    </a:gs>
                  </a:gsLst>
                  <a:lin ang="5400000"/>
                </a:gra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29"/>
                    </a:spcBef>
                  </a:pP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9" name="Text Box 25"/>
                <p:cNvSpPr/>
                <p:nvPr/>
              </p:nvSpPr>
              <p:spPr>
                <a:xfrm>
                  <a:off x="6705720" y="4047840"/>
                  <a:ext cx="1874880" cy="47340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1400"/>
                    </a:spcBef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0" name="Text Box 26"/>
              <p:cNvSpPr/>
              <p:nvPr/>
            </p:nvSpPr>
            <p:spPr>
              <a:xfrm>
                <a:off x="7023240" y="4038480"/>
                <a:ext cx="1200240" cy="3661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2009 S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531800" y="22860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Encrypted Patient Identif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ldNum" idx="8"/>
          </p:nvPr>
        </p:nvSpPr>
        <p:spPr>
          <a:xfrm>
            <a:off x="304920" y="6400800"/>
            <a:ext cx="57420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433929B-F939-4C86-A35B-99EAB003E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3" name="Group 9"/>
          <p:cNvGrpSpPr/>
          <p:nvPr/>
        </p:nvGrpSpPr>
        <p:grpSpPr>
          <a:xfrm>
            <a:off x="609480" y="2133720"/>
            <a:ext cx="8070840" cy="4341600"/>
            <a:chOff x="609480" y="2133720"/>
            <a:chExt cx="8070840" cy="4341600"/>
          </a:xfrm>
        </p:grpSpPr>
        <p:sp>
          <p:nvSpPr>
            <p:cNvPr id="1284" name="Text Box 4"/>
            <p:cNvSpPr/>
            <p:nvPr/>
          </p:nvSpPr>
          <p:spPr>
            <a:xfrm>
              <a:off x="1371600" y="2133720"/>
              <a:ext cx="6476760" cy="1009080"/>
            </a:xfrm>
            <a:prstGeom prst="rect">
              <a:avLst/>
            </a:prstGeom>
            <a:solidFill>
              <a:schemeClr val="accent1">
                <a:alpha val="20000"/>
              </a:schemeClr>
            </a:solidFill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599"/>
                </a:spcBef>
              </a:pPr>
              <a:r>
                <a:rPr b="1" lang="en-US" sz="32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PNUM_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erson number (re-identified) 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5" name="Picture 6" descr="Smiling Elderly Lady"/>
            <p:cNvPicPr/>
            <p:nvPr/>
          </p:nvPicPr>
          <p:blipFill>
            <a:blip r:embed="rId1"/>
            <a:srcRect l="0" t="8508" r="0" b="11492"/>
            <a:stretch/>
          </p:blipFill>
          <p:spPr>
            <a:xfrm>
              <a:off x="2743200" y="3733920"/>
              <a:ext cx="1823760" cy="22856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286" name="Picture 7" descr="Woman"/>
            <p:cNvPicPr/>
            <p:nvPr/>
          </p:nvPicPr>
          <p:blipFill>
            <a:blip r:embed="rId2"/>
            <a:srcRect l="0" t="0" r="0" b="11492"/>
            <a:stretch/>
          </p:blipFill>
          <p:spPr>
            <a:xfrm>
              <a:off x="7031160" y="3733920"/>
              <a:ext cx="1649160" cy="22856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287" name="Picture 8" descr="Black Elderly Man"/>
            <p:cNvPicPr/>
            <p:nvPr/>
          </p:nvPicPr>
          <p:blipFill>
            <a:blip r:embed="rId3"/>
            <a:srcRect l="16496" t="0" r="0" b="28508"/>
            <a:stretch/>
          </p:blipFill>
          <p:spPr>
            <a:xfrm>
              <a:off x="609480" y="3733920"/>
              <a:ext cx="1652400" cy="22856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288" name="Picture 9" descr="Japanese Elderly Man"/>
            <p:cNvPicPr/>
            <p:nvPr/>
          </p:nvPicPr>
          <p:blipFill>
            <a:blip r:embed="rId4"/>
            <a:srcRect l="7114" t="0" r="21779" b="7204"/>
            <a:stretch/>
          </p:blipFill>
          <p:spPr>
            <a:xfrm>
              <a:off x="4800600" y="3886200"/>
              <a:ext cx="2057040" cy="20570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289" name="Text Box 10"/>
            <p:cNvSpPr/>
            <p:nvPr/>
          </p:nvSpPr>
          <p:spPr>
            <a:xfrm>
              <a:off x="990720" y="6019920"/>
              <a:ext cx="723852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Unique Patient Number for Each Pat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HCUP Revisit File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ata El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1520" cy="28951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514440" indent="0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AutoNum type="arabicPeriod"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sit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5640" indent="-51444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nkage variable for all events associated with a unique pati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5640" indent="-51444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ased on a unique combination of person numbers, date of birth, and gend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AutoNum type="arabicPeriod"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aysTo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5640" indent="-51444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umber of days from a randomly chosen "start date" to the admission date for a specific health care visit for an individu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sldNum" idx="9"/>
          </p:nvPr>
        </p:nvSpPr>
        <p:spPr>
          <a:xfrm>
            <a:off x="304920" y="6400800"/>
            <a:ext cx="57420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15A67C2-C24E-4684-B98E-53BD285DB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455840" y="380880"/>
            <a:ext cx="646884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HCUP Databases Can Be Combined to Provide a More Complete Picture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ldNum" idx="10"/>
          </p:nvPr>
        </p:nvSpPr>
        <p:spPr>
          <a:xfrm>
            <a:off x="304920" y="6400800"/>
            <a:ext cx="57420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5C8CE8A-B17F-486A-B288-717F68480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5" name="Group 22"/>
          <p:cNvGrpSpPr/>
          <p:nvPr/>
        </p:nvGrpSpPr>
        <p:grpSpPr>
          <a:xfrm>
            <a:off x="228600" y="1600200"/>
            <a:ext cx="8686440" cy="5248440"/>
            <a:chOff x="228600" y="1600200"/>
            <a:chExt cx="8686440" cy="5248440"/>
          </a:xfrm>
        </p:grpSpPr>
        <p:grpSp>
          <p:nvGrpSpPr>
            <p:cNvPr id="1296" name="Group 3"/>
            <p:cNvGrpSpPr/>
            <p:nvPr/>
          </p:nvGrpSpPr>
          <p:grpSpPr>
            <a:xfrm>
              <a:off x="2895480" y="1600200"/>
              <a:ext cx="3276360" cy="1568160"/>
              <a:chOff x="2895480" y="1600200"/>
              <a:chExt cx="3276360" cy="1568160"/>
            </a:xfrm>
          </p:grpSpPr>
          <p:grpSp>
            <p:nvGrpSpPr>
              <p:cNvPr id="1297" name="Group 4"/>
              <p:cNvGrpSpPr/>
              <p:nvPr/>
            </p:nvGrpSpPr>
            <p:grpSpPr>
              <a:xfrm>
                <a:off x="2895480" y="1600200"/>
                <a:ext cx="3276360" cy="1568160"/>
                <a:chOff x="2895480" y="1600200"/>
                <a:chExt cx="3276360" cy="1568160"/>
              </a:xfrm>
            </p:grpSpPr>
            <p:sp>
              <p:nvSpPr>
                <p:cNvPr id="1298" name="AutoShape 5"/>
                <p:cNvSpPr/>
                <p:nvPr/>
              </p:nvSpPr>
              <p:spPr>
                <a:xfrm>
                  <a:off x="2895480" y="1600200"/>
                  <a:ext cx="3276360" cy="1568160"/>
                </a:xfrm>
                <a:prstGeom prst="flowChartMagneticDisk">
                  <a:avLst/>
                </a:prstGeom>
                <a:gradFill rotWithShape="0">
                  <a:gsLst>
                    <a:gs pos="0">
                      <a:srgbClr val="51dc00">
                        <a:alpha val="70196"/>
                      </a:srgbClr>
                    </a:gs>
                    <a:gs pos="100000">
                      <a:srgbClr val="256500"/>
                    </a:gs>
                  </a:gsLst>
                  <a:lin ang="5400000"/>
                </a:gra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29"/>
                    </a:spcBef>
                  </a:pPr>
                  <a:endParaRPr b="0" lang="en-US" sz="11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9" name="Text Box 6"/>
                <p:cNvSpPr/>
                <p:nvPr/>
              </p:nvSpPr>
              <p:spPr>
                <a:xfrm>
                  <a:off x="2895480" y="2160720"/>
                  <a:ext cx="3225960" cy="47340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1400"/>
                    </a:spcBef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Text Box 7"/>
              <p:cNvSpPr/>
              <p:nvPr/>
            </p:nvSpPr>
            <p:spPr>
              <a:xfrm>
                <a:off x="3436920" y="2362320"/>
                <a:ext cx="1980720" cy="518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400"/>
                  </a:spcBef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 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I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1" name="Group 8"/>
            <p:cNvGrpSpPr/>
            <p:nvPr/>
          </p:nvGrpSpPr>
          <p:grpSpPr>
            <a:xfrm>
              <a:off x="5638680" y="3505320"/>
              <a:ext cx="3276360" cy="1568160"/>
              <a:chOff x="5638680" y="3505320"/>
              <a:chExt cx="3276360" cy="1568160"/>
            </a:xfrm>
          </p:grpSpPr>
          <p:grpSp>
            <p:nvGrpSpPr>
              <p:cNvPr id="1302" name="Group 9"/>
              <p:cNvGrpSpPr/>
              <p:nvPr/>
            </p:nvGrpSpPr>
            <p:grpSpPr>
              <a:xfrm>
                <a:off x="5638680" y="3505320"/>
                <a:ext cx="3276360" cy="1568160"/>
                <a:chOff x="5638680" y="3505320"/>
                <a:chExt cx="3276360" cy="1568160"/>
              </a:xfrm>
            </p:grpSpPr>
            <p:sp>
              <p:nvSpPr>
                <p:cNvPr id="1303" name="AutoShape 10"/>
                <p:cNvSpPr/>
                <p:nvPr/>
              </p:nvSpPr>
              <p:spPr>
                <a:xfrm>
                  <a:off x="5638680" y="3505320"/>
                  <a:ext cx="3276360" cy="1568160"/>
                </a:xfrm>
                <a:prstGeom prst="flowChartMagneticDisk">
                  <a:avLst/>
                </a:prstGeom>
                <a:gradFill rotWithShape="0">
                  <a:gsLst>
                    <a:gs pos="0">
                      <a:srgbClr val="ff0000">
                        <a:alpha val="80000"/>
                      </a:srgbClr>
                    </a:gs>
                    <a:gs pos="100000">
                      <a:srgbClr val="760000"/>
                    </a:gs>
                  </a:gsLst>
                  <a:lin ang="5400000"/>
                </a:gra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29"/>
                    </a:spcBef>
                  </a:pPr>
                  <a:endParaRPr b="0" lang="en-US" sz="11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endParaRPr>
                </a:p>
              </p:txBody>
            </p:sp>
            <p:sp>
              <p:nvSpPr>
                <p:cNvPr id="1304" name="Text Box 11"/>
                <p:cNvSpPr/>
                <p:nvPr/>
              </p:nvSpPr>
              <p:spPr>
                <a:xfrm>
                  <a:off x="5638680" y="4065840"/>
                  <a:ext cx="3225960" cy="47340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1400"/>
                    </a:spcBef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5" name="Rectangle 12"/>
              <p:cNvSpPr/>
              <p:nvPr/>
            </p:nvSpPr>
            <p:spPr>
              <a:xfrm>
                <a:off x="6411960" y="4210200"/>
                <a:ext cx="146304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39"/>
                  </a:spcBef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  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ED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6" name="Line 13"/>
            <p:cNvSpPr/>
            <p:nvPr/>
          </p:nvSpPr>
          <p:spPr>
            <a:xfrm flipV="1">
              <a:off x="1676160" y="2666880"/>
              <a:ext cx="914400" cy="53352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080" bIns="4608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grpSp>
          <p:nvGrpSpPr>
            <p:cNvPr id="1307" name="Group 15"/>
            <p:cNvGrpSpPr/>
            <p:nvPr/>
          </p:nvGrpSpPr>
          <p:grpSpPr>
            <a:xfrm>
              <a:off x="228600" y="3581280"/>
              <a:ext cx="3276360" cy="1568160"/>
              <a:chOff x="228600" y="3581280"/>
              <a:chExt cx="3276360" cy="1568160"/>
            </a:xfrm>
          </p:grpSpPr>
          <p:grpSp>
            <p:nvGrpSpPr>
              <p:cNvPr id="1308" name="Group 16"/>
              <p:cNvGrpSpPr/>
              <p:nvPr/>
            </p:nvGrpSpPr>
            <p:grpSpPr>
              <a:xfrm>
                <a:off x="228600" y="3581280"/>
                <a:ext cx="3276360" cy="1568160"/>
                <a:chOff x="228600" y="3581280"/>
                <a:chExt cx="3276360" cy="1568160"/>
              </a:xfrm>
            </p:grpSpPr>
            <p:sp>
              <p:nvSpPr>
                <p:cNvPr id="1309" name="AutoShape 17"/>
                <p:cNvSpPr/>
                <p:nvPr/>
              </p:nvSpPr>
              <p:spPr>
                <a:xfrm>
                  <a:off x="228600" y="3581280"/>
                  <a:ext cx="3276360" cy="1568160"/>
                </a:xfrm>
                <a:prstGeom prst="flowChartMagneticDisk">
                  <a:avLst/>
                </a:prstGeom>
                <a:gradFill rotWithShape="0">
                  <a:gsLst>
                    <a:gs pos="0">
                      <a:srgbClr val="ff9900">
                        <a:alpha val="80000"/>
                      </a:srgbClr>
                    </a:gs>
                    <a:gs pos="100000">
                      <a:srgbClr val="764700"/>
                    </a:gs>
                  </a:gsLst>
                  <a:lin ang="5400000"/>
                </a:gradFill>
                <a:ln w="9525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29"/>
                    </a:spcBef>
                  </a:pPr>
                  <a:endParaRPr b="0" lang="en-US" sz="11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endParaRPr>
                </a:p>
              </p:txBody>
            </p:sp>
            <p:sp>
              <p:nvSpPr>
                <p:cNvPr id="1310" name="Text Box 18"/>
                <p:cNvSpPr/>
                <p:nvPr/>
              </p:nvSpPr>
              <p:spPr>
                <a:xfrm>
                  <a:off x="228600" y="4142160"/>
                  <a:ext cx="3225960" cy="47340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1400"/>
                    </a:spcBef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1" name="Rectangle 19"/>
              <p:cNvSpPr/>
              <p:nvPr/>
            </p:nvSpPr>
            <p:spPr>
              <a:xfrm>
                <a:off x="1051560" y="4286160"/>
                <a:ext cx="136368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39"/>
                  </a:spcBef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 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AS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2" name="Line 20"/>
            <p:cNvSpPr/>
            <p:nvPr/>
          </p:nvSpPr>
          <p:spPr>
            <a:xfrm>
              <a:off x="6476760" y="2666880"/>
              <a:ext cx="990720" cy="53352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080" bIns="4608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313" name="Line 21"/>
            <p:cNvSpPr/>
            <p:nvPr/>
          </p:nvSpPr>
          <p:spPr>
            <a:xfrm>
              <a:off x="3962160" y="4495680"/>
              <a:ext cx="1371600" cy="360"/>
            </a:xfrm>
            <a:prstGeom prst="line">
              <a:avLst/>
            </a:prstGeom>
            <a:ln w="76200">
              <a:solidFill>
                <a:srgbClr val="ffffff"/>
              </a:solidFill>
              <a:prstDash val="sysDot"/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0" bIns="0" anchor="t" anchorCtr="1">
              <a:noAutofit/>
            </a:bodyPr>
            <a:p>
              <a:endPara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314" name="TextBox 4"/>
            <p:cNvSpPr/>
            <p:nvPr/>
          </p:nvSpPr>
          <p:spPr>
            <a:xfrm>
              <a:off x="762120" y="5295960"/>
              <a:ext cx="7848360" cy="1552680"/>
            </a:xfrm>
            <a:prstGeom prst="rect">
              <a:avLst/>
            </a:prstGeom>
            <a:solidFill>
              <a:schemeClr val="accent1">
                <a:alpha val="20000"/>
              </a:schemeClr>
            </a:solidFill>
            <a:ln w="0">
              <a:solidFill>
                <a:srgbClr val="8cf4e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720"/>
                </a:spcBef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HCUP Revisit Files allow researchers to study multiple patient visits to the acute care setting, regardless of whether the visit resulted in hospital ad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6087600" cy="767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ession Staf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50920" y="1676520"/>
            <a:ext cx="7992720" cy="4495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0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illiam Spector, PhD; Health Services Researcher, CDOM / AHRQ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vid Brousseau, MD, MS; Professor Pediatrics, Medical College of Wiscons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ernard Friedman, PhD; Economist, CDOM / AHR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oanna Jiang, PhD; Research Scientist, CDOM / AHR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92720" cy="44953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0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obust discussion about analytic considerations when conducting readmission projec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Healthcare Cost and Utilization Project (HCUP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 data resource to conduct readmission and revisit analy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 a little about several interesting content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eadmis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992720" cy="44953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ey consider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oice of datab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patient only or other acute c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ngle year, multi-year, partial ye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sistent patient identifier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ion of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y procedure or condi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y patient characterist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90000"/>
              </a:lnSpc>
              <a:spcBef>
                <a:spcPts val="720"/>
              </a:spcBef>
              <a:buClr>
                <a:srgbClr val="66ffff"/>
              </a:buClr>
              <a:buSzPct val="65000"/>
              <a:buFont typeface="Monotype Sorts" charset="2"/>
              <a:buChar char="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ge, payer, ge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eadmissions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992720" cy="44953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ey consider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finition of read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me condi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lated condi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y condi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w to handle multiple rec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ngle or multiple inde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ean period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ath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me day visits (IP-IP; ED-IP; ec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eadmissions (cont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92720" cy="464796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ey consider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ime between readmission / revis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7, 14, 30, 60, 90, 180 day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tegorizing characteristics over ti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y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ype of hospi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isk adjust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gression analy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660"/>
              </a:spcBef>
              <a:buClr>
                <a:srgbClr val="ffff00"/>
              </a:buClr>
              <a:buSzPct val="95000"/>
              <a:buFont typeface="Wingdings" charset="2"/>
              <a:buChar char="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verity softwa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SASD2"/>
          <p:cNvPicPr/>
          <p:nvPr/>
        </p:nvPicPr>
        <p:blipFill>
          <a:blip r:embed="rId1"/>
          <a:stretch/>
        </p:blipFill>
        <p:spPr>
          <a:xfrm>
            <a:off x="533520" y="1905120"/>
            <a:ext cx="3658680" cy="4452480"/>
          </a:xfrm>
          <a:prstGeom prst="rect">
            <a:avLst/>
          </a:prstGeom>
          <a:ln w="9525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sldNum" idx="6"/>
          </p:nvPr>
        </p:nvSpPr>
        <p:spPr>
          <a:xfrm>
            <a:off x="304920" y="6400800"/>
            <a:ext cx="57420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AC30C07-53BC-4176-B57F-2C92C5B5D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3" descr="42"/>
          <p:cNvPicPr/>
          <p:nvPr/>
        </p:nvPicPr>
        <p:blipFill>
          <a:blip r:embed="rId2"/>
          <a:stretch/>
        </p:blipFill>
        <p:spPr>
          <a:xfrm>
            <a:off x="5657760" y="0"/>
            <a:ext cx="3485880" cy="5285880"/>
          </a:xfrm>
          <a:prstGeom prst="rect">
            <a:avLst/>
          </a:prstGeom>
          <a:ln w="9525">
            <a:noFill/>
          </a:ln>
        </p:spPr>
      </p:pic>
      <p:pic>
        <p:nvPicPr>
          <p:cNvPr id="164" name="Picture 16" descr="Newborn"/>
          <p:cNvPicPr/>
          <p:nvPr/>
        </p:nvPicPr>
        <p:blipFill>
          <a:blip r:embed="rId3">
            <a:lum contrast="2000"/>
          </a:blip>
          <a:stretch/>
        </p:blipFill>
        <p:spPr>
          <a:xfrm>
            <a:off x="4191120" y="2438280"/>
            <a:ext cx="4257360" cy="4266720"/>
          </a:xfrm>
          <a:prstGeom prst="rect">
            <a:avLst/>
          </a:prstGeom>
          <a:ln w="9525">
            <a:noFill/>
          </a:ln>
        </p:spPr>
      </p:pic>
      <p:pic>
        <p:nvPicPr>
          <p:cNvPr id="165" name="Picture 2" descr="24"/>
          <p:cNvPicPr/>
          <p:nvPr/>
        </p:nvPicPr>
        <p:blipFill>
          <a:blip r:embed="rId4"/>
          <a:stretch/>
        </p:blipFill>
        <p:spPr>
          <a:xfrm>
            <a:off x="0" y="0"/>
            <a:ext cx="3625560" cy="3625560"/>
          </a:xfrm>
          <a:prstGeom prst="rect">
            <a:avLst/>
          </a:prstGeom>
          <a:ln w="9525">
            <a:noFill/>
          </a:ln>
        </p:spPr>
      </p:pic>
      <p:pic>
        <p:nvPicPr>
          <p:cNvPr id="166" name="Picture 4" descr="148"/>
          <p:cNvPicPr/>
          <p:nvPr/>
        </p:nvPicPr>
        <p:blipFill>
          <a:blip r:embed="rId5"/>
          <a:stretch/>
        </p:blipFill>
        <p:spPr>
          <a:xfrm>
            <a:off x="2666880" y="457200"/>
            <a:ext cx="3809520" cy="2539800"/>
          </a:xfrm>
          <a:prstGeom prst="rect">
            <a:avLst/>
          </a:prstGeom>
          <a:ln w="9525">
            <a:noFill/>
          </a:ln>
        </p:spPr>
      </p:pic>
      <p:sp>
        <p:nvSpPr>
          <p:cNvPr id="167" name="Rectangle 18"/>
          <p:cNvSpPr/>
          <p:nvPr/>
        </p:nvSpPr>
        <p:spPr>
          <a:xfrm>
            <a:off x="1371600" y="304920"/>
            <a:ext cx="6629040" cy="6246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althcare Cost and Utilization Project (HC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 LARGEST COLLECTION OF MULTI-YE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L-PAYER, ENCOUNTER-LEV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MERGENCY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MBULATORY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OSPITAL-BASED ADMINISTRATIV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6"/>
          <a:srcRect l="14080" t="13087" r="16907" b="22954"/>
          <a:stretch/>
        </p:blipFill>
        <p:spPr>
          <a:xfrm>
            <a:off x="3733920" y="1981080"/>
            <a:ext cx="2120400" cy="1904760"/>
          </a:xfrm>
          <a:prstGeom prst="rect">
            <a:avLst/>
          </a:prstGeom>
          <a:ln w="9525">
            <a:noFill/>
          </a:ln>
        </p:spPr>
      </p:pic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523880" y="152280"/>
            <a:ext cx="64767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spcBef>
                <a:spcPts val="839"/>
              </a:spcBef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HCUP Database Participation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2009 Data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13"/>
          <p:cNvGrpSpPr/>
          <p:nvPr/>
        </p:nvGrpSpPr>
        <p:grpSpPr>
          <a:xfrm>
            <a:off x="228600" y="1646280"/>
            <a:ext cx="8762760" cy="4735080"/>
            <a:chOff x="228600" y="1646280"/>
            <a:chExt cx="8762760" cy="4735080"/>
          </a:xfrm>
        </p:grpSpPr>
        <p:grpSp>
          <p:nvGrpSpPr>
            <p:cNvPr id="172" name="Group 11"/>
            <p:cNvGrpSpPr/>
            <p:nvPr/>
          </p:nvGrpSpPr>
          <p:grpSpPr>
            <a:xfrm>
              <a:off x="1447920" y="4508640"/>
              <a:ext cx="948960" cy="942480"/>
              <a:chOff x="1447920" y="4508640"/>
              <a:chExt cx="948960" cy="942480"/>
            </a:xfrm>
          </p:grpSpPr>
          <p:sp>
            <p:nvSpPr>
              <p:cNvPr id="173" name="Rectangle 12"/>
              <p:cNvSpPr/>
              <p:nvPr/>
            </p:nvSpPr>
            <p:spPr>
              <a:xfrm>
                <a:off x="1447920" y="4508640"/>
                <a:ext cx="948960" cy="942480"/>
              </a:xfrm>
              <a:prstGeom prst="rect">
                <a:avLst/>
              </a:prstGeom>
              <a:noFill/>
              <a:ln w="12700">
                <a:solidFill>
                  <a:srgbClr val="000000"/>
                </a:solidFill>
                <a:miter/>
              </a:ln>
              <a:effectLst>
                <a:outerShdw algn="ctr" dir="2700000" dist="35638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Group 13"/>
              <p:cNvGrpSpPr/>
              <p:nvPr/>
            </p:nvGrpSpPr>
            <p:grpSpPr>
              <a:xfrm>
                <a:off x="1495800" y="4718160"/>
                <a:ext cx="722880" cy="666000"/>
                <a:chOff x="1495800" y="4718160"/>
                <a:chExt cx="722880" cy="666000"/>
              </a:xfrm>
            </p:grpSpPr>
            <p:sp>
              <p:nvSpPr>
                <p:cNvPr id="175" name="Freeform 14"/>
                <p:cNvSpPr/>
                <p:nvPr/>
              </p:nvSpPr>
              <p:spPr>
                <a:xfrm>
                  <a:off x="2040120" y="5127480"/>
                  <a:ext cx="178560" cy="256680"/>
                </a:xfrm>
                <a:custGeom>
                  <a:avLst/>
                  <a:gdLst>
                    <a:gd name="textAreaLeft" fmla="*/ 0 w 178560"/>
                    <a:gd name="textAreaRight" fmla="*/ 178920 w 178560"/>
                    <a:gd name="textAreaTop" fmla="*/ 0 h 256680"/>
                    <a:gd name="textAreaBottom" fmla="*/ 257040 h 256680"/>
                  </a:gdLst>
                  <a:ahLst/>
                  <a:rect l="textAreaLeft" t="textAreaTop" r="textAreaRight" b="textAreaBottom"/>
                  <a:pathLst>
                    <a:path w="860" h="917">
                      <a:moveTo>
                        <a:pt x="276" y="893"/>
                      </a:moveTo>
                      <a:lnTo>
                        <a:pt x="341" y="871"/>
                      </a:lnTo>
                      <a:lnTo>
                        <a:pt x="333" y="836"/>
                      </a:lnTo>
                      <a:lnTo>
                        <a:pt x="434" y="778"/>
                      </a:lnTo>
                      <a:lnTo>
                        <a:pt x="517" y="672"/>
                      </a:lnTo>
                      <a:lnTo>
                        <a:pt x="573" y="720"/>
                      </a:lnTo>
                      <a:lnTo>
                        <a:pt x="682" y="660"/>
                      </a:lnTo>
                      <a:lnTo>
                        <a:pt x="739" y="627"/>
                      </a:lnTo>
                      <a:lnTo>
                        <a:pt x="767" y="569"/>
                      </a:lnTo>
                      <a:lnTo>
                        <a:pt x="850" y="521"/>
                      </a:lnTo>
                      <a:lnTo>
                        <a:pt x="860" y="475"/>
                      </a:lnTo>
                      <a:lnTo>
                        <a:pt x="776" y="451"/>
                      </a:lnTo>
                      <a:lnTo>
                        <a:pt x="739" y="326"/>
                      </a:lnTo>
                      <a:lnTo>
                        <a:pt x="657" y="347"/>
                      </a:lnTo>
                      <a:lnTo>
                        <a:pt x="657" y="266"/>
                      </a:lnTo>
                      <a:lnTo>
                        <a:pt x="618" y="221"/>
                      </a:lnTo>
                      <a:lnTo>
                        <a:pt x="490" y="139"/>
                      </a:lnTo>
                      <a:lnTo>
                        <a:pt x="396" y="128"/>
                      </a:lnTo>
                      <a:lnTo>
                        <a:pt x="351" y="82"/>
                      </a:lnTo>
                      <a:lnTo>
                        <a:pt x="147" y="0"/>
                      </a:lnTo>
                      <a:lnTo>
                        <a:pt x="120" y="24"/>
                      </a:lnTo>
                      <a:lnTo>
                        <a:pt x="120" y="92"/>
                      </a:lnTo>
                      <a:lnTo>
                        <a:pt x="157" y="114"/>
                      </a:lnTo>
                      <a:lnTo>
                        <a:pt x="157" y="186"/>
                      </a:lnTo>
                      <a:lnTo>
                        <a:pt x="128" y="231"/>
                      </a:lnTo>
                      <a:lnTo>
                        <a:pt x="100" y="266"/>
                      </a:lnTo>
                      <a:lnTo>
                        <a:pt x="47" y="279"/>
                      </a:lnTo>
                      <a:lnTo>
                        <a:pt x="0" y="369"/>
                      </a:lnTo>
                      <a:lnTo>
                        <a:pt x="110" y="604"/>
                      </a:lnTo>
                      <a:lnTo>
                        <a:pt x="110" y="753"/>
                      </a:lnTo>
                      <a:lnTo>
                        <a:pt x="90" y="798"/>
                      </a:lnTo>
                      <a:lnTo>
                        <a:pt x="110" y="858"/>
                      </a:lnTo>
                      <a:lnTo>
                        <a:pt x="239" y="917"/>
                      </a:lnTo>
                      <a:lnTo>
                        <a:pt x="276" y="89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15"/>
                <p:cNvSpPr/>
                <p:nvPr/>
              </p:nvSpPr>
              <p:spPr>
                <a:xfrm>
                  <a:off x="1941840" y="4959360"/>
                  <a:ext cx="106200" cy="9324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93240"/>
                    <a:gd name="textAreaBottom" fmla="*/ 93600 h 93240"/>
                  </a:gdLst>
                  <a:ahLst/>
                  <a:rect l="textAreaLeft" t="textAreaTop" r="textAreaRight" b="textAreaBottom"/>
                  <a:pathLst>
                    <a:path w="510" h="326">
                      <a:moveTo>
                        <a:pt x="510" y="219"/>
                      </a:moveTo>
                      <a:lnTo>
                        <a:pt x="510" y="152"/>
                      </a:lnTo>
                      <a:lnTo>
                        <a:pt x="419" y="128"/>
                      </a:lnTo>
                      <a:lnTo>
                        <a:pt x="401" y="80"/>
                      </a:lnTo>
                      <a:lnTo>
                        <a:pt x="362" y="80"/>
                      </a:lnTo>
                      <a:lnTo>
                        <a:pt x="327" y="26"/>
                      </a:lnTo>
                      <a:lnTo>
                        <a:pt x="225" y="26"/>
                      </a:lnTo>
                      <a:lnTo>
                        <a:pt x="153" y="80"/>
                      </a:lnTo>
                      <a:lnTo>
                        <a:pt x="96" y="0"/>
                      </a:lnTo>
                      <a:lnTo>
                        <a:pt x="50" y="0"/>
                      </a:lnTo>
                      <a:lnTo>
                        <a:pt x="0" y="47"/>
                      </a:lnTo>
                      <a:lnTo>
                        <a:pt x="30" y="128"/>
                      </a:lnTo>
                      <a:lnTo>
                        <a:pt x="113" y="176"/>
                      </a:lnTo>
                      <a:lnTo>
                        <a:pt x="177" y="244"/>
                      </a:lnTo>
                      <a:lnTo>
                        <a:pt x="161" y="280"/>
                      </a:lnTo>
                      <a:lnTo>
                        <a:pt x="272" y="326"/>
                      </a:lnTo>
                      <a:lnTo>
                        <a:pt x="353" y="268"/>
                      </a:lnTo>
                      <a:lnTo>
                        <a:pt x="448" y="268"/>
                      </a:lnTo>
                      <a:lnTo>
                        <a:pt x="510" y="2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16"/>
                <p:cNvSpPr/>
                <p:nvPr/>
              </p:nvSpPr>
              <p:spPr>
                <a:xfrm>
                  <a:off x="1946160" y="5033880"/>
                  <a:ext cx="21960" cy="3024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10" h="116">
                      <a:moveTo>
                        <a:pt x="110" y="108"/>
                      </a:moveTo>
                      <a:lnTo>
                        <a:pt x="92" y="0"/>
                      </a:lnTo>
                      <a:lnTo>
                        <a:pt x="0" y="91"/>
                      </a:lnTo>
                      <a:lnTo>
                        <a:pt x="9" y="116"/>
                      </a:lnTo>
                      <a:lnTo>
                        <a:pt x="110" y="108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17"/>
                <p:cNvSpPr/>
                <p:nvPr/>
              </p:nvSpPr>
              <p:spPr>
                <a:xfrm>
                  <a:off x="1891080" y="4975200"/>
                  <a:ext cx="34560" cy="4572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174" h="163">
                      <a:moveTo>
                        <a:pt x="157" y="163"/>
                      </a:moveTo>
                      <a:lnTo>
                        <a:pt x="174" y="105"/>
                      </a:lnTo>
                      <a:lnTo>
                        <a:pt x="117" y="47"/>
                      </a:lnTo>
                      <a:lnTo>
                        <a:pt x="110" y="0"/>
                      </a:lnTo>
                      <a:lnTo>
                        <a:pt x="0" y="0"/>
                      </a:lnTo>
                      <a:lnTo>
                        <a:pt x="0" y="56"/>
                      </a:lnTo>
                      <a:lnTo>
                        <a:pt x="54" y="105"/>
                      </a:lnTo>
                      <a:lnTo>
                        <a:pt x="157" y="16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18"/>
                <p:cNvSpPr/>
                <p:nvPr/>
              </p:nvSpPr>
              <p:spPr>
                <a:xfrm>
                  <a:off x="1856160" y="4916520"/>
                  <a:ext cx="83880" cy="3816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406" h="140">
                      <a:moveTo>
                        <a:pt x="406" y="58"/>
                      </a:moveTo>
                      <a:lnTo>
                        <a:pt x="369" y="22"/>
                      </a:lnTo>
                      <a:lnTo>
                        <a:pt x="269" y="58"/>
                      </a:lnTo>
                      <a:lnTo>
                        <a:pt x="28" y="0"/>
                      </a:lnTo>
                      <a:lnTo>
                        <a:pt x="0" y="71"/>
                      </a:lnTo>
                      <a:lnTo>
                        <a:pt x="0" y="105"/>
                      </a:lnTo>
                      <a:lnTo>
                        <a:pt x="111" y="116"/>
                      </a:lnTo>
                      <a:lnTo>
                        <a:pt x="168" y="88"/>
                      </a:lnTo>
                      <a:lnTo>
                        <a:pt x="222" y="140"/>
                      </a:lnTo>
                      <a:lnTo>
                        <a:pt x="314" y="140"/>
                      </a:lnTo>
                      <a:lnTo>
                        <a:pt x="369" y="105"/>
                      </a:lnTo>
                      <a:lnTo>
                        <a:pt x="406" y="5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19"/>
                <p:cNvSpPr/>
                <p:nvPr/>
              </p:nvSpPr>
              <p:spPr>
                <a:xfrm>
                  <a:off x="1714680" y="4822920"/>
                  <a:ext cx="90360" cy="932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3240"/>
                    <a:gd name="textAreaBottom" fmla="*/ 93600 h 93240"/>
                  </a:gdLst>
                  <a:ahLst/>
                  <a:rect l="textAreaLeft" t="textAreaTop" r="textAreaRight" b="textAreaBottom"/>
                  <a:pathLst>
                    <a:path w="435" h="323">
                      <a:moveTo>
                        <a:pt x="427" y="288"/>
                      </a:moveTo>
                      <a:lnTo>
                        <a:pt x="435" y="252"/>
                      </a:lnTo>
                      <a:lnTo>
                        <a:pt x="389" y="242"/>
                      </a:lnTo>
                      <a:lnTo>
                        <a:pt x="389" y="161"/>
                      </a:lnTo>
                      <a:lnTo>
                        <a:pt x="343" y="195"/>
                      </a:lnTo>
                      <a:lnTo>
                        <a:pt x="297" y="115"/>
                      </a:lnTo>
                      <a:lnTo>
                        <a:pt x="332" y="115"/>
                      </a:lnTo>
                      <a:lnTo>
                        <a:pt x="241" y="0"/>
                      </a:lnTo>
                      <a:lnTo>
                        <a:pt x="185" y="0"/>
                      </a:lnTo>
                      <a:lnTo>
                        <a:pt x="129" y="92"/>
                      </a:lnTo>
                      <a:lnTo>
                        <a:pt x="0" y="92"/>
                      </a:lnTo>
                      <a:lnTo>
                        <a:pt x="49" y="208"/>
                      </a:lnTo>
                      <a:lnTo>
                        <a:pt x="101" y="299"/>
                      </a:lnTo>
                      <a:lnTo>
                        <a:pt x="223" y="299"/>
                      </a:lnTo>
                      <a:lnTo>
                        <a:pt x="195" y="252"/>
                      </a:lnTo>
                      <a:lnTo>
                        <a:pt x="258" y="252"/>
                      </a:lnTo>
                      <a:lnTo>
                        <a:pt x="287" y="267"/>
                      </a:lnTo>
                      <a:lnTo>
                        <a:pt x="323" y="323"/>
                      </a:lnTo>
                      <a:lnTo>
                        <a:pt x="427" y="2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20"/>
                <p:cNvSpPr/>
                <p:nvPr/>
              </p:nvSpPr>
              <p:spPr>
                <a:xfrm>
                  <a:off x="1562400" y="4726080"/>
                  <a:ext cx="73080" cy="8100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350" h="291">
                      <a:moveTo>
                        <a:pt x="240" y="255"/>
                      </a:moveTo>
                      <a:lnTo>
                        <a:pt x="268" y="223"/>
                      </a:lnTo>
                      <a:lnTo>
                        <a:pt x="284" y="199"/>
                      </a:lnTo>
                      <a:lnTo>
                        <a:pt x="284" y="140"/>
                      </a:lnTo>
                      <a:lnTo>
                        <a:pt x="350" y="104"/>
                      </a:lnTo>
                      <a:lnTo>
                        <a:pt x="350" y="49"/>
                      </a:lnTo>
                      <a:lnTo>
                        <a:pt x="313" y="0"/>
                      </a:lnTo>
                      <a:lnTo>
                        <a:pt x="212" y="0"/>
                      </a:lnTo>
                      <a:lnTo>
                        <a:pt x="164" y="11"/>
                      </a:lnTo>
                      <a:lnTo>
                        <a:pt x="46" y="59"/>
                      </a:lnTo>
                      <a:lnTo>
                        <a:pt x="0" y="128"/>
                      </a:lnTo>
                      <a:lnTo>
                        <a:pt x="0" y="209"/>
                      </a:lnTo>
                      <a:lnTo>
                        <a:pt x="119" y="223"/>
                      </a:lnTo>
                      <a:lnTo>
                        <a:pt x="156" y="291"/>
                      </a:lnTo>
                      <a:lnTo>
                        <a:pt x="212" y="265"/>
                      </a:lnTo>
                      <a:lnTo>
                        <a:pt x="240" y="25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21"/>
                <p:cNvSpPr/>
                <p:nvPr/>
              </p:nvSpPr>
              <p:spPr>
                <a:xfrm>
                  <a:off x="1499040" y="4776840"/>
                  <a:ext cx="33120" cy="4572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156" h="174">
                      <a:moveTo>
                        <a:pt x="19" y="174"/>
                      </a:moveTo>
                      <a:lnTo>
                        <a:pt x="43" y="104"/>
                      </a:lnTo>
                      <a:lnTo>
                        <a:pt x="119" y="71"/>
                      </a:lnTo>
                      <a:lnTo>
                        <a:pt x="119" y="49"/>
                      </a:lnTo>
                      <a:lnTo>
                        <a:pt x="156" y="0"/>
                      </a:lnTo>
                      <a:lnTo>
                        <a:pt x="100" y="0"/>
                      </a:lnTo>
                      <a:lnTo>
                        <a:pt x="64" y="59"/>
                      </a:lnTo>
                      <a:lnTo>
                        <a:pt x="7" y="71"/>
                      </a:lnTo>
                      <a:lnTo>
                        <a:pt x="0" y="174"/>
                      </a:lnTo>
                      <a:lnTo>
                        <a:pt x="19" y="174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22"/>
                <p:cNvSpPr/>
                <p:nvPr/>
              </p:nvSpPr>
              <p:spPr>
                <a:xfrm>
                  <a:off x="2036880" y="5119560"/>
                  <a:ext cx="178560" cy="260280"/>
                </a:xfrm>
                <a:custGeom>
                  <a:avLst/>
                  <a:gdLst>
                    <a:gd name="textAreaLeft" fmla="*/ 0 w 178560"/>
                    <a:gd name="textAreaRight" fmla="*/ 178920 w 17856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60" h="917">
                      <a:moveTo>
                        <a:pt x="277" y="893"/>
                      </a:moveTo>
                      <a:lnTo>
                        <a:pt x="341" y="873"/>
                      </a:lnTo>
                      <a:lnTo>
                        <a:pt x="333" y="838"/>
                      </a:lnTo>
                      <a:lnTo>
                        <a:pt x="433" y="779"/>
                      </a:lnTo>
                      <a:lnTo>
                        <a:pt x="516" y="672"/>
                      </a:lnTo>
                      <a:lnTo>
                        <a:pt x="573" y="722"/>
                      </a:lnTo>
                      <a:lnTo>
                        <a:pt x="682" y="662"/>
                      </a:lnTo>
                      <a:lnTo>
                        <a:pt x="739" y="627"/>
                      </a:lnTo>
                      <a:lnTo>
                        <a:pt x="766" y="571"/>
                      </a:lnTo>
                      <a:lnTo>
                        <a:pt x="849" y="522"/>
                      </a:lnTo>
                      <a:lnTo>
                        <a:pt x="860" y="476"/>
                      </a:lnTo>
                      <a:lnTo>
                        <a:pt x="776" y="453"/>
                      </a:lnTo>
                      <a:lnTo>
                        <a:pt x="739" y="328"/>
                      </a:lnTo>
                      <a:lnTo>
                        <a:pt x="657" y="347"/>
                      </a:lnTo>
                      <a:lnTo>
                        <a:pt x="657" y="268"/>
                      </a:lnTo>
                      <a:lnTo>
                        <a:pt x="618" y="223"/>
                      </a:lnTo>
                      <a:lnTo>
                        <a:pt x="490" y="141"/>
                      </a:lnTo>
                      <a:lnTo>
                        <a:pt x="395" y="129"/>
                      </a:lnTo>
                      <a:lnTo>
                        <a:pt x="350" y="83"/>
                      </a:lnTo>
                      <a:lnTo>
                        <a:pt x="147" y="0"/>
                      </a:lnTo>
                      <a:lnTo>
                        <a:pt x="120" y="25"/>
                      </a:lnTo>
                      <a:lnTo>
                        <a:pt x="120" y="94"/>
                      </a:lnTo>
                      <a:lnTo>
                        <a:pt x="157" y="116"/>
                      </a:lnTo>
                      <a:lnTo>
                        <a:pt x="157" y="188"/>
                      </a:lnTo>
                      <a:lnTo>
                        <a:pt x="128" y="233"/>
                      </a:lnTo>
                      <a:lnTo>
                        <a:pt x="100" y="268"/>
                      </a:lnTo>
                      <a:lnTo>
                        <a:pt x="47" y="280"/>
                      </a:lnTo>
                      <a:lnTo>
                        <a:pt x="0" y="370"/>
                      </a:lnTo>
                      <a:lnTo>
                        <a:pt x="109" y="605"/>
                      </a:lnTo>
                      <a:lnTo>
                        <a:pt x="109" y="755"/>
                      </a:lnTo>
                      <a:lnTo>
                        <a:pt x="90" y="800"/>
                      </a:lnTo>
                      <a:lnTo>
                        <a:pt x="109" y="860"/>
                      </a:lnTo>
                      <a:lnTo>
                        <a:pt x="238" y="917"/>
                      </a:lnTo>
                      <a:lnTo>
                        <a:pt x="277" y="893"/>
                      </a:lnTo>
                      <a:close/>
                    </a:path>
                  </a:pathLst>
                </a:custGeom>
                <a:solidFill>
                  <a:srgbClr val="cc0066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23"/>
                <p:cNvSpPr/>
                <p:nvPr/>
              </p:nvSpPr>
              <p:spPr>
                <a:xfrm>
                  <a:off x="1938600" y="4951440"/>
                  <a:ext cx="106200" cy="9324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93240"/>
                    <a:gd name="textAreaBottom" fmla="*/ 93600 h 93240"/>
                  </a:gdLst>
                  <a:ahLst/>
                  <a:rect l="textAreaLeft" t="textAreaTop" r="textAreaRight" b="textAreaBottom"/>
                  <a:pathLst>
                    <a:path w="509" h="325">
                      <a:moveTo>
                        <a:pt x="509" y="219"/>
                      </a:moveTo>
                      <a:lnTo>
                        <a:pt x="509" y="152"/>
                      </a:lnTo>
                      <a:lnTo>
                        <a:pt x="417" y="128"/>
                      </a:lnTo>
                      <a:lnTo>
                        <a:pt x="400" y="80"/>
                      </a:lnTo>
                      <a:lnTo>
                        <a:pt x="361" y="80"/>
                      </a:lnTo>
                      <a:lnTo>
                        <a:pt x="325" y="27"/>
                      </a:lnTo>
                      <a:lnTo>
                        <a:pt x="224" y="27"/>
                      </a:lnTo>
                      <a:lnTo>
                        <a:pt x="151" y="80"/>
                      </a:lnTo>
                      <a:lnTo>
                        <a:pt x="95" y="0"/>
                      </a:lnTo>
                      <a:lnTo>
                        <a:pt x="49" y="0"/>
                      </a:lnTo>
                      <a:lnTo>
                        <a:pt x="0" y="48"/>
                      </a:lnTo>
                      <a:lnTo>
                        <a:pt x="30" y="128"/>
                      </a:lnTo>
                      <a:lnTo>
                        <a:pt x="112" y="177"/>
                      </a:lnTo>
                      <a:lnTo>
                        <a:pt x="175" y="245"/>
                      </a:lnTo>
                      <a:lnTo>
                        <a:pt x="159" y="280"/>
                      </a:lnTo>
                      <a:lnTo>
                        <a:pt x="271" y="325"/>
                      </a:lnTo>
                      <a:lnTo>
                        <a:pt x="352" y="269"/>
                      </a:lnTo>
                      <a:lnTo>
                        <a:pt x="447" y="269"/>
                      </a:lnTo>
                      <a:lnTo>
                        <a:pt x="509" y="219"/>
                      </a:lnTo>
                      <a:close/>
                    </a:path>
                  </a:pathLst>
                </a:custGeom>
                <a:solidFill>
                  <a:srgbClr val="cc0066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24"/>
                <p:cNvSpPr/>
                <p:nvPr/>
              </p:nvSpPr>
              <p:spPr>
                <a:xfrm>
                  <a:off x="1941840" y="5025960"/>
                  <a:ext cx="23760" cy="3024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11" h="115">
                      <a:moveTo>
                        <a:pt x="111" y="107"/>
                      </a:moveTo>
                      <a:lnTo>
                        <a:pt x="92" y="0"/>
                      </a:lnTo>
                      <a:lnTo>
                        <a:pt x="0" y="91"/>
                      </a:lnTo>
                      <a:lnTo>
                        <a:pt x="10" y="115"/>
                      </a:lnTo>
                      <a:lnTo>
                        <a:pt x="111" y="107"/>
                      </a:lnTo>
                      <a:close/>
                    </a:path>
                  </a:pathLst>
                </a:custGeom>
                <a:solidFill>
                  <a:srgbClr val="cc0066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25"/>
                <p:cNvSpPr/>
                <p:nvPr/>
              </p:nvSpPr>
              <p:spPr>
                <a:xfrm>
                  <a:off x="1887840" y="4967280"/>
                  <a:ext cx="34560" cy="4572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174" h="162">
                      <a:moveTo>
                        <a:pt x="155" y="162"/>
                      </a:moveTo>
                      <a:lnTo>
                        <a:pt x="174" y="104"/>
                      </a:lnTo>
                      <a:lnTo>
                        <a:pt x="116" y="47"/>
                      </a:lnTo>
                      <a:lnTo>
                        <a:pt x="110" y="0"/>
                      </a:lnTo>
                      <a:lnTo>
                        <a:pt x="0" y="0"/>
                      </a:lnTo>
                      <a:lnTo>
                        <a:pt x="0" y="56"/>
                      </a:lnTo>
                      <a:lnTo>
                        <a:pt x="54" y="104"/>
                      </a:lnTo>
                      <a:lnTo>
                        <a:pt x="155" y="162"/>
                      </a:lnTo>
                      <a:close/>
                    </a:path>
                  </a:pathLst>
                </a:custGeom>
                <a:solidFill>
                  <a:srgbClr val="cc0066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26"/>
                <p:cNvSpPr/>
                <p:nvPr/>
              </p:nvSpPr>
              <p:spPr>
                <a:xfrm>
                  <a:off x="1852920" y="4908600"/>
                  <a:ext cx="83880" cy="39240"/>
                </a:xfrm>
                <a:custGeom>
                  <a:avLst/>
                  <a:gdLst>
                    <a:gd name="textAreaLeft" fmla="*/ 0 w 83880"/>
                    <a:gd name="textAreaRight" fmla="*/ 84240 w 838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408" h="139">
                      <a:moveTo>
                        <a:pt x="408" y="58"/>
                      </a:moveTo>
                      <a:lnTo>
                        <a:pt x="370" y="22"/>
                      </a:lnTo>
                      <a:lnTo>
                        <a:pt x="270" y="58"/>
                      </a:lnTo>
                      <a:lnTo>
                        <a:pt x="29" y="0"/>
                      </a:lnTo>
                      <a:lnTo>
                        <a:pt x="0" y="70"/>
                      </a:lnTo>
                      <a:lnTo>
                        <a:pt x="0" y="105"/>
                      </a:lnTo>
                      <a:lnTo>
                        <a:pt x="113" y="115"/>
                      </a:lnTo>
                      <a:lnTo>
                        <a:pt x="170" y="88"/>
                      </a:lnTo>
                      <a:lnTo>
                        <a:pt x="224" y="139"/>
                      </a:lnTo>
                      <a:lnTo>
                        <a:pt x="315" y="139"/>
                      </a:lnTo>
                      <a:lnTo>
                        <a:pt x="370" y="105"/>
                      </a:lnTo>
                      <a:lnTo>
                        <a:pt x="408" y="58"/>
                      </a:lnTo>
                      <a:close/>
                    </a:path>
                  </a:pathLst>
                </a:custGeom>
                <a:solidFill>
                  <a:srgbClr val="cc0066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27"/>
                <p:cNvSpPr/>
                <p:nvPr/>
              </p:nvSpPr>
              <p:spPr>
                <a:xfrm>
                  <a:off x="1711440" y="4815000"/>
                  <a:ext cx="90360" cy="9324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93240"/>
                    <a:gd name="textAreaBottom" fmla="*/ 93600 h 93240"/>
                  </a:gdLst>
                  <a:ahLst/>
                  <a:rect l="textAreaLeft" t="textAreaTop" r="textAreaRight" b="textAreaBottom"/>
                  <a:pathLst>
                    <a:path w="435" h="324">
                      <a:moveTo>
                        <a:pt x="426" y="288"/>
                      </a:moveTo>
                      <a:lnTo>
                        <a:pt x="435" y="253"/>
                      </a:lnTo>
                      <a:lnTo>
                        <a:pt x="390" y="242"/>
                      </a:lnTo>
                      <a:lnTo>
                        <a:pt x="390" y="162"/>
                      </a:lnTo>
                      <a:lnTo>
                        <a:pt x="342" y="196"/>
                      </a:lnTo>
                      <a:lnTo>
                        <a:pt x="297" y="115"/>
                      </a:lnTo>
                      <a:lnTo>
                        <a:pt x="333" y="115"/>
                      </a:lnTo>
                      <a:lnTo>
                        <a:pt x="241" y="0"/>
                      </a:lnTo>
                      <a:lnTo>
                        <a:pt x="184" y="0"/>
                      </a:lnTo>
                      <a:lnTo>
                        <a:pt x="129" y="92"/>
                      </a:lnTo>
                      <a:lnTo>
                        <a:pt x="0" y="92"/>
                      </a:lnTo>
                      <a:lnTo>
                        <a:pt x="48" y="208"/>
                      </a:lnTo>
                      <a:lnTo>
                        <a:pt x="100" y="300"/>
                      </a:lnTo>
                      <a:lnTo>
                        <a:pt x="222" y="300"/>
                      </a:lnTo>
                      <a:lnTo>
                        <a:pt x="196" y="253"/>
                      </a:lnTo>
                      <a:lnTo>
                        <a:pt x="259" y="253"/>
                      </a:lnTo>
                      <a:lnTo>
                        <a:pt x="287" y="268"/>
                      </a:lnTo>
                      <a:lnTo>
                        <a:pt x="323" y="324"/>
                      </a:lnTo>
                      <a:lnTo>
                        <a:pt x="426" y="288"/>
                      </a:lnTo>
                      <a:close/>
                    </a:path>
                  </a:pathLst>
                </a:custGeom>
                <a:solidFill>
                  <a:srgbClr val="cc0066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28"/>
                <p:cNvSpPr/>
                <p:nvPr/>
              </p:nvSpPr>
              <p:spPr>
                <a:xfrm>
                  <a:off x="1558800" y="4718160"/>
                  <a:ext cx="73080" cy="8100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352" h="289">
                      <a:moveTo>
                        <a:pt x="241" y="255"/>
                      </a:moveTo>
                      <a:lnTo>
                        <a:pt x="270" y="222"/>
                      </a:lnTo>
                      <a:lnTo>
                        <a:pt x="286" y="198"/>
                      </a:lnTo>
                      <a:lnTo>
                        <a:pt x="286" y="139"/>
                      </a:lnTo>
                      <a:lnTo>
                        <a:pt x="352" y="104"/>
                      </a:lnTo>
                      <a:lnTo>
                        <a:pt x="352" y="47"/>
                      </a:lnTo>
                      <a:lnTo>
                        <a:pt x="315" y="0"/>
                      </a:lnTo>
                      <a:lnTo>
                        <a:pt x="213" y="0"/>
                      </a:lnTo>
                      <a:lnTo>
                        <a:pt x="165" y="10"/>
                      </a:lnTo>
                      <a:lnTo>
                        <a:pt x="47" y="59"/>
                      </a:lnTo>
                      <a:lnTo>
                        <a:pt x="0" y="128"/>
                      </a:lnTo>
                      <a:lnTo>
                        <a:pt x="0" y="209"/>
                      </a:lnTo>
                      <a:lnTo>
                        <a:pt x="121" y="222"/>
                      </a:lnTo>
                      <a:lnTo>
                        <a:pt x="157" y="289"/>
                      </a:lnTo>
                      <a:lnTo>
                        <a:pt x="213" y="265"/>
                      </a:lnTo>
                      <a:lnTo>
                        <a:pt x="241" y="255"/>
                      </a:lnTo>
                      <a:close/>
                    </a:path>
                  </a:pathLst>
                </a:custGeom>
                <a:solidFill>
                  <a:srgbClr val="cc0066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29"/>
                <p:cNvSpPr/>
                <p:nvPr/>
              </p:nvSpPr>
              <p:spPr>
                <a:xfrm>
                  <a:off x="1495800" y="4768920"/>
                  <a:ext cx="31320" cy="5040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154" h="174">
                      <a:moveTo>
                        <a:pt x="17" y="174"/>
                      </a:moveTo>
                      <a:lnTo>
                        <a:pt x="43" y="104"/>
                      </a:lnTo>
                      <a:lnTo>
                        <a:pt x="118" y="69"/>
                      </a:lnTo>
                      <a:lnTo>
                        <a:pt x="118" y="48"/>
                      </a:lnTo>
                      <a:lnTo>
                        <a:pt x="154" y="0"/>
                      </a:lnTo>
                      <a:lnTo>
                        <a:pt x="99" y="0"/>
                      </a:lnTo>
                      <a:lnTo>
                        <a:pt x="63" y="59"/>
                      </a:lnTo>
                      <a:lnTo>
                        <a:pt x="7" y="69"/>
                      </a:lnTo>
                      <a:lnTo>
                        <a:pt x="0" y="174"/>
                      </a:lnTo>
                      <a:lnTo>
                        <a:pt x="17" y="174"/>
                      </a:lnTo>
                      <a:close/>
                    </a:path>
                  </a:pathLst>
                </a:custGeom>
                <a:solidFill>
                  <a:srgbClr val="cc0066"/>
                </a:solidFill>
                <a:ln w="31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Text Box 30"/>
              <p:cNvSpPr/>
              <p:nvPr/>
            </p:nvSpPr>
            <p:spPr>
              <a:xfrm>
                <a:off x="1503000" y="5172120"/>
                <a:ext cx="301320" cy="234360"/>
              </a:xfrm>
              <a:prstGeom prst="rect">
                <a:avLst/>
              </a:prstGeom>
              <a:noFill/>
              <a:ln w="31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HI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88"/>
            <p:cNvGrpSpPr/>
            <p:nvPr/>
          </p:nvGrpSpPr>
          <p:grpSpPr>
            <a:xfrm>
              <a:off x="228600" y="4297320"/>
              <a:ext cx="1139400" cy="1152000"/>
              <a:chOff x="228600" y="4297320"/>
              <a:chExt cx="1139400" cy="1152000"/>
            </a:xfrm>
          </p:grpSpPr>
          <p:grpSp>
            <p:nvGrpSpPr>
              <p:cNvPr id="193" name="Group 191"/>
              <p:cNvGrpSpPr/>
              <p:nvPr/>
            </p:nvGrpSpPr>
            <p:grpSpPr>
              <a:xfrm>
                <a:off x="294840" y="4412160"/>
                <a:ext cx="988560" cy="841320"/>
                <a:chOff x="294840" y="4412160"/>
                <a:chExt cx="988560" cy="841320"/>
              </a:xfrm>
            </p:grpSpPr>
            <p:sp>
              <p:nvSpPr>
                <p:cNvPr id="194" name="Freeform 192"/>
                <p:cNvSpPr/>
                <p:nvPr/>
              </p:nvSpPr>
              <p:spPr>
                <a:xfrm>
                  <a:off x="294840" y="4412160"/>
                  <a:ext cx="988560" cy="841320"/>
                </a:xfrm>
                <a:custGeom>
                  <a:avLst/>
                  <a:gdLst>
                    <a:gd name="textAreaLeft" fmla="*/ 0 w 988560"/>
                    <a:gd name="textAreaRight" fmla="*/ 988920 w 988560"/>
                    <a:gd name="textAreaTop" fmla="*/ 0 h 841320"/>
                    <a:gd name="textAreaBottom" fmla="*/ 841680 h 841320"/>
                  </a:gdLst>
                  <a:ahLst/>
                  <a:rect l="textAreaLeft" t="textAreaTop" r="textAreaRight" b="textAreaBottom"/>
                  <a:pathLst>
                    <a:path w="1086" h="711">
                      <a:moveTo>
                        <a:pt x="173" y="106"/>
                      </a:moveTo>
                      <a:lnTo>
                        <a:pt x="392" y="0"/>
                      </a:lnTo>
                      <a:lnTo>
                        <a:pt x="496" y="19"/>
                      </a:lnTo>
                      <a:lnTo>
                        <a:pt x="547" y="53"/>
                      </a:lnTo>
                      <a:lnTo>
                        <a:pt x="752" y="66"/>
                      </a:lnTo>
                      <a:lnTo>
                        <a:pt x="758" y="418"/>
                      </a:lnTo>
                      <a:lnTo>
                        <a:pt x="825" y="429"/>
                      </a:lnTo>
                      <a:lnTo>
                        <a:pt x="855" y="471"/>
                      </a:lnTo>
                      <a:lnTo>
                        <a:pt x="903" y="456"/>
                      </a:lnTo>
                      <a:lnTo>
                        <a:pt x="1001" y="551"/>
                      </a:lnTo>
                      <a:lnTo>
                        <a:pt x="1086" y="596"/>
                      </a:lnTo>
                      <a:lnTo>
                        <a:pt x="1083" y="634"/>
                      </a:lnTo>
                      <a:lnTo>
                        <a:pt x="977" y="638"/>
                      </a:lnTo>
                      <a:lnTo>
                        <a:pt x="929" y="522"/>
                      </a:lnTo>
                      <a:lnTo>
                        <a:pt x="591" y="407"/>
                      </a:lnTo>
                      <a:lnTo>
                        <a:pt x="601" y="444"/>
                      </a:lnTo>
                      <a:lnTo>
                        <a:pt x="523" y="490"/>
                      </a:lnTo>
                      <a:lnTo>
                        <a:pt x="511" y="473"/>
                      </a:lnTo>
                      <a:lnTo>
                        <a:pt x="489" y="473"/>
                      </a:lnTo>
                      <a:lnTo>
                        <a:pt x="429" y="570"/>
                      </a:lnTo>
                      <a:lnTo>
                        <a:pt x="240" y="665"/>
                      </a:lnTo>
                      <a:lnTo>
                        <a:pt x="52" y="711"/>
                      </a:lnTo>
                      <a:lnTo>
                        <a:pt x="0" y="705"/>
                      </a:lnTo>
                      <a:lnTo>
                        <a:pt x="213" y="624"/>
                      </a:lnTo>
                      <a:lnTo>
                        <a:pt x="240" y="624"/>
                      </a:lnTo>
                      <a:lnTo>
                        <a:pt x="318" y="560"/>
                      </a:lnTo>
                      <a:lnTo>
                        <a:pt x="353" y="557"/>
                      </a:lnTo>
                      <a:lnTo>
                        <a:pt x="407" y="509"/>
                      </a:lnTo>
                      <a:lnTo>
                        <a:pt x="388" y="487"/>
                      </a:lnTo>
                      <a:lnTo>
                        <a:pt x="275" y="498"/>
                      </a:lnTo>
                      <a:lnTo>
                        <a:pt x="195" y="377"/>
                      </a:lnTo>
                      <a:lnTo>
                        <a:pt x="240" y="322"/>
                      </a:lnTo>
                      <a:lnTo>
                        <a:pt x="312" y="303"/>
                      </a:lnTo>
                      <a:lnTo>
                        <a:pt x="286" y="255"/>
                      </a:lnTo>
                      <a:lnTo>
                        <a:pt x="211" y="277"/>
                      </a:lnTo>
                      <a:lnTo>
                        <a:pt x="155" y="207"/>
                      </a:lnTo>
                      <a:lnTo>
                        <a:pt x="217" y="191"/>
                      </a:lnTo>
                      <a:lnTo>
                        <a:pt x="275" y="210"/>
                      </a:lnTo>
                      <a:lnTo>
                        <a:pt x="300" y="199"/>
                      </a:lnTo>
                      <a:lnTo>
                        <a:pt x="252" y="140"/>
                      </a:lnTo>
                      <a:lnTo>
                        <a:pt x="170" y="135"/>
                      </a:lnTo>
                      <a:lnTo>
                        <a:pt x="173" y="1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93"/>
                <p:cNvSpPr/>
                <p:nvPr/>
              </p:nvSpPr>
              <p:spPr>
                <a:xfrm>
                  <a:off x="294840" y="4412160"/>
                  <a:ext cx="988560" cy="841320"/>
                </a:xfrm>
                <a:custGeom>
                  <a:avLst/>
                  <a:gdLst>
                    <a:gd name="textAreaLeft" fmla="*/ 0 w 988560"/>
                    <a:gd name="textAreaRight" fmla="*/ 988920 w 988560"/>
                    <a:gd name="textAreaTop" fmla="*/ 0 h 841320"/>
                    <a:gd name="textAreaBottom" fmla="*/ 841680 h 841320"/>
                  </a:gdLst>
                  <a:ahLst/>
                  <a:rect l="textAreaLeft" t="textAreaTop" r="textAreaRight" b="textAreaBottom"/>
                  <a:pathLst>
                    <a:path w="1086" h="711">
                      <a:moveTo>
                        <a:pt x="173" y="106"/>
                      </a:moveTo>
                      <a:lnTo>
                        <a:pt x="392" y="0"/>
                      </a:lnTo>
                      <a:lnTo>
                        <a:pt x="496" y="19"/>
                      </a:lnTo>
                      <a:lnTo>
                        <a:pt x="547" y="53"/>
                      </a:lnTo>
                      <a:lnTo>
                        <a:pt x="752" y="66"/>
                      </a:lnTo>
                      <a:lnTo>
                        <a:pt x="758" y="418"/>
                      </a:lnTo>
                      <a:lnTo>
                        <a:pt x="825" y="429"/>
                      </a:lnTo>
                      <a:lnTo>
                        <a:pt x="855" y="471"/>
                      </a:lnTo>
                      <a:lnTo>
                        <a:pt x="903" y="456"/>
                      </a:lnTo>
                      <a:lnTo>
                        <a:pt x="1001" y="551"/>
                      </a:lnTo>
                      <a:lnTo>
                        <a:pt x="1086" y="596"/>
                      </a:lnTo>
                      <a:lnTo>
                        <a:pt x="1083" y="634"/>
                      </a:lnTo>
                      <a:lnTo>
                        <a:pt x="977" y="638"/>
                      </a:lnTo>
                      <a:lnTo>
                        <a:pt x="929" y="522"/>
                      </a:lnTo>
                      <a:lnTo>
                        <a:pt x="591" y="407"/>
                      </a:lnTo>
                      <a:lnTo>
                        <a:pt x="601" y="444"/>
                      </a:lnTo>
                      <a:lnTo>
                        <a:pt x="523" y="490"/>
                      </a:lnTo>
                      <a:lnTo>
                        <a:pt x="511" y="473"/>
                      </a:lnTo>
                      <a:lnTo>
                        <a:pt x="489" y="473"/>
                      </a:lnTo>
                      <a:lnTo>
                        <a:pt x="429" y="570"/>
                      </a:lnTo>
                      <a:lnTo>
                        <a:pt x="240" y="665"/>
                      </a:lnTo>
                      <a:lnTo>
                        <a:pt x="52" y="711"/>
                      </a:lnTo>
                      <a:lnTo>
                        <a:pt x="0" y="705"/>
                      </a:lnTo>
                      <a:lnTo>
                        <a:pt x="213" y="624"/>
                      </a:lnTo>
                      <a:lnTo>
                        <a:pt x="240" y="624"/>
                      </a:lnTo>
                      <a:lnTo>
                        <a:pt x="318" y="560"/>
                      </a:lnTo>
                      <a:lnTo>
                        <a:pt x="353" y="557"/>
                      </a:lnTo>
                      <a:lnTo>
                        <a:pt x="407" y="509"/>
                      </a:lnTo>
                      <a:lnTo>
                        <a:pt x="388" y="487"/>
                      </a:lnTo>
                      <a:lnTo>
                        <a:pt x="275" y="498"/>
                      </a:lnTo>
                      <a:lnTo>
                        <a:pt x="195" y="377"/>
                      </a:lnTo>
                      <a:lnTo>
                        <a:pt x="240" y="322"/>
                      </a:lnTo>
                      <a:lnTo>
                        <a:pt x="312" y="303"/>
                      </a:lnTo>
                      <a:lnTo>
                        <a:pt x="286" y="255"/>
                      </a:lnTo>
                      <a:lnTo>
                        <a:pt x="211" y="277"/>
                      </a:lnTo>
                      <a:lnTo>
                        <a:pt x="155" y="207"/>
                      </a:lnTo>
                      <a:lnTo>
                        <a:pt x="217" y="191"/>
                      </a:lnTo>
                      <a:lnTo>
                        <a:pt x="275" y="210"/>
                      </a:lnTo>
                      <a:lnTo>
                        <a:pt x="300" y="199"/>
                      </a:lnTo>
                      <a:lnTo>
                        <a:pt x="252" y="140"/>
                      </a:lnTo>
                      <a:lnTo>
                        <a:pt x="170" y="135"/>
                      </a:lnTo>
                      <a:lnTo>
                        <a:pt x="173" y="106"/>
                      </a:lnTo>
                    </a:path>
                  </a:pathLst>
                </a:custGeom>
                <a:noFill/>
                <a:ln cap="rnd" w="571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Rectangle 194"/>
              <p:cNvSpPr/>
              <p:nvPr/>
            </p:nvSpPr>
            <p:spPr>
              <a:xfrm>
                <a:off x="630360" y="4610520"/>
                <a:ext cx="136800" cy="1213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95"/>
              <p:cNvSpPr/>
              <p:nvPr/>
            </p:nvSpPr>
            <p:spPr>
              <a:xfrm>
                <a:off x="228600" y="4297320"/>
                <a:ext cx="1139400" cy="1152000"/>
              </a:xfrm>
              <a:prstGeom prst="rect">
                <a:avLst/>
              </a:prstGeom>
              <a:noFill/>
              <a:ln cap="rnd" w="571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196"/>
              <p:cNvGrpSpPr/>
              <p:nvPr/>
            </p:nvGrpSpPr>
            <p:grpSpPr>
              <a:xfrm>
                <a:off x="294840" y="4412160"/>
                <a:ext cx="988560" cy="841320"/>
                <a:chOff x="294840" y="4412160"/>
                <a:chExt cx="988560" cy="841320"/>
              </a:xfrm>
            </p:grpSpPr>
            <p:grpSp>
              <p:nvGrpSpPr>
                <p:cNvPr id="199" name="Group 198"/>
                <p:cNvGrpSpPr/>
                <p:nvPr/>
              </p:nvGrpSpPr>
              <p:grpSpPr>
                <a:xfrm>
                  <a:off x="294840" y="4412160"/>
                  <a:ext cx="988560" cy="841320"/>
                  <a:chOff x="294840" y="4412160"/>
                  <a:chExt cx="988560" cy="841320"/>
                </a:xfrm>
              </p:grpSpPr>
              <p:sp>
                <p:nvSpPr>
                  <p:cNvPr id="200" name="Freeform 199"/>
                  <p:cNvSpPr/>
                  <p:nvPr/>
                </p:nvSpPr>
                <p:spPr>
                  <a:xfrm>
                    <a:off x="294840" y="4412160"/>
                    <a:ext cx="988560" cy="841320"/>
                  </a:xfrm>
                  <a:custGeom>
                    <a:avLst/>
                    <a:gdLst>
                      <a:gd name="textAreaLeft" fmla="*/ 0 w 988560"/>
                      <a:gd name="textAreaRight" fmla="*/ 988920 w 988560"/>
                      <a:gd name="textAreaTop" fmla="*/ 0 h 841320"/>
                      <a:gd name="textAreaBottom" fmla="*/ 841680 h 841320"/>
                    </a:gdLst>
                    <a:ahLst/>
                    <a:rect l="textAreaLeft" t="textAreaTop" r="textAreaRight" b="textAreaBottom"/>
                    <a:pathLst>
                      <a:path w="1086" h="711">
                        <a:moveTo>
                          <a:pt x="173" y="106"/>
                        </a:moveTo>
                        <a:lnTo>
                          <a:pt x="392" y="0"/>
                        </a:lnTo>
                        <a:lnTo>
                          <a:pt x="496" y="19"/>
                        </a:lnTo>
                        <a:lnTo>
                          <a:pt x="547" y="53"/>
                        </a:lnTo>
                        <a:lnTo>
                          <a:pt x="752" y="66"/>
                        </a:lnTo>
                        <a:lnTo>
                          <a:pt x="758" y="418"/>
                        </a:lnTo>
                        <a:lnTo>
                          <a:pt x="825" y="429"/>
                        </a:lnTo>
                        <a:lnTo>
                          <a:pt x="855" y="471"/>
                        </a:lnTo>
                        <a:lnTo>
                          <a:pt x="903" y="456"/>
                        </a:lnTo>
                        <a:lnTo>
                          <a:pt x="1001" y="551"/>
                        </a:lnTo>
                        <a:lnTo>
                          <a:pt x="1086" y="596"/>
                        </a:lnTo>
                        <a:lnTo>
                          <a:pt x="1083" y="634"/>
                        </a:lnTo>
                        <a:lnTo>
                          <a:pt x="977" y="638"/>
                        </a:lnTo>
                        <a:lnTo>
                          <a:pt x="929" y="522"/>
                        </a:lnTo>
                        <a:lnTo>
                          <a:pt x="591" y="407"/>
                        </a:lnTo>
                        <a:lnTo>
                          <a:pt x="601" y="444"/>
                        </a:lnTo>
                        <a:lnTo>
                          <a:pt x="523" y="490"/>
                        </a:lnTo>
                        <a:lnTo>
                          <a:pt x="511" y="473"/>
                        </a:lnTo>
                        <a:lnTo>
                          <a:pt x="489" y="473"/>
                        </a:lnTo>
                        <a:lnTo>
                          <a:pt x="429" y="570"/>
                        </a:lnTo>
                        <a:lnTo>
                          <a:pt x="240" y="665"/>
                        </a:lnTo>
                        <a:lnTo>
                          <a:pt x="52" y="711"/>
                        </a:lnTo>
                        <a:lnTo>
                          <a:pt x="0" y="705"/>
                        </a:lnTo>
                        <a:lnTo>
                          <a:pt x="213" y="624"/>
                        </a:lnTo>
                        <a:lnTo>
                          <a:pt x="240" y="624"/>
                        </a:lnTo>
                        <a:lnTo>
                          <a:pt x="318" y="560"/>
                        </a:lnTo>
                        <a:lnTo>
                          <a:pt x="353" y="557"/>
                        </a:lnTo>
                        <a:lnTo>
                          <a:pt x="407" y="509"/>
                        </a:lnTo>
                        <a:lnTo>
                          <a:pt x="388" y="487"/>
                        </a:lnTo>
                        <a:lnTo>
                          <a:pt x="275" y="498"/>
                        </a:lnTo>
                        <a:lnTo>
                          <a:pt x="195" y="377"/>
                        </a:lnTo>
                        <a:lnTo>
                          <a:pt x="240" y="322"/>
                        </a:lnTo>
                        <a:lnTo>
                          <a:pt x="312" y="303"/>
                        </a:lnTo>
                        <a:lnTo>
                          <a:pt x="286" y="255"/>
                        </a:lnTo>
                        <a:lnTo>
                          <a:pt x="211" y="277"/>
                        </a:lnTo>
                        <a:lnTo>
                          <a:pt x="155" y="207"/>
                        </a:lnTo>
                        <a:lnTo>
                          <a:pt x="217" y="191"/>
                        </a:lnTo>
                        <a:lnTo>
                          <a:pt x="275" y="210"/>
                        </a:lnTo>
                        <a:lnTo>
                          <a:pt x="300" y="199"/>
                        </a:lnTo>
                        <a:lnTo>
                          <a:pt x="252" y="140"/>
                        </a:lnTo>
                        <a:lnTo>
                          <a:pt x="170" y="135"/>
                        </a:lnTo>
                        <a:lnTo>
                          <a:pt x="173" y="10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200"/>
                  <p:cNvSpPr/>
                  <p:nvPr/>
                </p:nvSpPr>
                <p:spPr>
                  <a:xfrm>
                    <a:off x="294840" y="4412160"/>
                    <a:ext cx="988560" cy="841320"/>
                  </a:xfrm>
                  <a:custGeom>
                    <a:avLst/>
                    <a:gdLst>
                      <a:gd name="textAreaLeft" fmla="*/ 0 w 988560"/>
                      <a:gd name="textAreaRight" fmla="*/ 988920 w 988560"/>
                      <a:gd name="textAreaTop" fmla="*/ 0 h 841320"/>
                      <a:gd name="textAreaBottom" fmla="*/ 841680 h 841320"/>
                    </a:gdLst>
                    <a:ahLst/>
                    <a:rect l="textAreaLeft" t="textAreaTop" r="textAreaRight" b="textAreaBottom"/>
                    <a:pathLst>
                      <a:path w="1086" h="711">
                        <a:moveTo>
                          <a:pt x="173" y="106"/>
                        </a:moveTo>
                        <a:lnTo>
                          <a:pt x="392" y="0"/>
                        </a:lnTo>
                        <a:lnTo>
                          <a:pt x="496" y="19"/>
                        </a:lnTo>
                        <a:lnTo>
                          <a:pt x="547" y="53"/>
                        </a:lnTo>
                        <a:lnTo>
                          <a:pt x="752" y="66"/>
                        </a:lnTo>
                        <a:lnTo>
                          <a:pt x="758" y="418"/>
                        </a:lnTo>
                        <a:lnTo>
                          <a:pt x="825" y="429"/>
                        </a:lnTo>
                        <a:lnTo>
                          <a:pt x="855" y="471"/>
                        </a:lnTo>
                        <a:lnTo>
                          <a:pt x="903" y="456"/>
                        </a:lnTo>
                        <a:lnTo>
                          <a:pt x="1001" y="551"/>
                        </a:lnTo>
                        <a:lnTo>
                          <a:pt x="1086" y="596"/>
                        </a:lnTo>
                        <a:lnTo>
                          <a:pt x="1083" y="634"/>
                        </a:lnTo>
                        <a:lnTo>
                          <a:pt x="977" y="638"/>
                        </a:lnTo>
                        <a:lnTo>
                          <a:pt x="929" y="522"/>
                        </a:lnTo>
                        <a:lnTo>
                          <a:pt x="591" y="407"/>
                        </a:lnTo>
                        <a:lnTo>
                          <a:pt x="601" y="444"/>
                        </a:lnTo>
                        <a:lnTo>
                          <a:pt x="523" y="490"/>
                        </a:lnTo>
                        <a:lnTo>
                          <a:pt x="511" y="473"/>
                        </a:lnTo>
                        <a:lnTo>
                          <a:pt x="489" y="473"/>
                        </a:lnTo>
                        <a:lnTo>
                          <a:pt x="429" y="570"/>
                        </a:lnTo>
                        <a:lnTo>
                          <a:pt x="240" y="665"/>
                        </a:lnTo>
                        <a:lnTo>
                          <a:pt x="52" y="711"/>
                        </a:lnTo>
                        <a:lnTo>
                          <a:pt x="0" y="705"/>
                        </a:lnTo>
                        <a:lnTo>
                          <a:pt x="213" y="624"/>
                        </a:lnTo>
                        <a:lnTo>
                          <a:pt x="240" y="624"/>
                        </a:lnTo>
                        <a:lnTo>
                          <a:pt x="318" y="560"/>
                        </a:lnTo>
                        <a:lnTo>
                          <a:pt x="353" y="557"/>
                        </a:lnTo>
                        <a:lnTo>
                          <a:pt x="407" y="509"/>
                        </a:lnTo>
                        <a:lnTo>
                          <a:pt x="388" y="487"/>
                        </a:lnTo>
                        <a:lnTo>
                          <a:pt x="275" y="498"/>
                        </a:lnTo>
                        <a:lnTo>
                          <a:pt x="195" y="377"/>
                        </a:lnTo>
                        <a:lnTo>
                          <a:pt x="240" y="322"/>
                        </a:lnTo>
                        <a:lnTo>
                          <a:pt x="312" y="303"/>
                        </a:lnTo>
                        <a:lnTo>
                          <a:pt x="286" y="255"/>
                        </a:lnTo>
                        <a:lnTo>
                          <a:pt x="211" y="277"/>
                        </a:lnTo>
                        <a:lnTo>
                          <a:pt x="155" y="207"/>
                        </a:lnTo>
                        <a:lnTo>
                          <a:pt x="217" y="191"/>
                        </a:lnTo>
                        <a:lnTo>
                          <a:pt x="275" y="210"/>
                        </a:lnTo>
                        <a:lnTo>
                          <a:pt x="300" y="199"/>
                        </a:lnTo>
                        <a:lnTo>
                          <a:pt x="252" y="140"/>
                        </a:lnTo>
                        <a:lnTo>
                          <a:pt x="170" y="135"/>
                        </a:lnTo>
                        <a:lnTo>
                          <a:pt x="173" y="106"/>
                        </a:lnTo>
                      </a:path>
                    </a:pathLst>
                  </a:custGeom>
                  <a:noFill/>
                  <a:ln cap="rnd" w="5715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202"/>
                <p:cNvGrpSpPr/>
                <p:nvPr/>
              </p:nvGrpSpPr>
              <p:grpSpPr>
                <a:xfrm>
                  <a:off x="294840" y="4412160"/>
                  <a:ext cx="988560" cy="841320"/>
                  <a:chOff x="294840" y="4412160"/>
                  <a:chExt cx="988560" cy="841320"/>
                </a:xfrm>
              </p:grpSpPr>
              <p:sp>
                <p:nvSpPr>
                  <p:cNvPr id="203" name="Freeform 203"/>
                  <p:cNvSpPr/>
                  <p:nvPr/>
                </p:nvSpPr>
                <p:spPr>
                  <a:xfrm>
                    <a:off x="294840" y="4412160"/>
                    <a:ext cx="988560" cy="841320"/>
                  </a:xfrm>
                  <a:custGeom>
                    <a:avLst/>
                    <a:gdLst>
                      <a:gd name="textAreaLeft" fmla="*/ 0 w 988560"/>
                      <a:gd name="textAreaRight" fmla="*/ 988920 w 988560"/>
                      <a:gd name="textAreaTop" fmla="*/ 0 h 841320"/>
                      <a:gd name="textAreaBottom" fmla="*/ 841680 h 841320"/>
                    </a:gdLst>
                    <a:ahLst/>
                    <a:rect l="textAreaLeft" t="textAreaTop" r="textAreaRight" b="textAreaBottom"/>
                    <a:pathLst>
                      <a:path w="1086" h="711">
                        <a:moveTo>
                          <a:pt x="173" y="106"/>
                        </a:moveTo>
                        <a:lnTo>
                          <a:pt x="392" y="0"/>
                        </a:lnTo>
                        <a:lnTo>
                          <a:pt x="496" y="19"/>
                        </a:lnTo>
                        <a:lnTo>
                          <a:pt x="547" y="53"/>
                        </a:lnTo>
                        <a:lnTo>
                          <a:pt x="752" y="66"/>
                        </a:lnTo>
                        <a:lnTo>
                          <a:pt x="758" y="418"/>
                        </a:lnTo>
                        <a:lnTo>
                          <a:pt x="825" y="429"/>
                        </a:lnTo>
                        <a:lnTo>
                          <a:pt x="855" y="471"/>
                        </a:lnTo>
                        <a:lnTo>
                          <a:pt x="903" y="456"/>
                        </a:lnTo>
                        <a:lnTo>
                          <a:pt x="1001" y="551"/>
                        </a:lnTo>
                        <a:lnTo>
                          <a:pt x="1086" y="596"/>
                        </a:lnTo>
                        <a:lnTo>
                          <a:pt x="1083" y="634"/>
                        </a:lnTo>
                        <a:lnTo>
                          <a:pt x="977" y="638"/>
                        </a:lnTo>
                        <a:lnTo>
                          <a:pt x="929" y="522"/>
                        </a:lnTo>
                        <a:lnTo>
                          <a:pt x="591" y="407"/>
                        </a:lnTo>
                        <a:lnTo>
                          <a:pt x="601" y="444"/>
                        </a:lnTo>
                        <a:lnTo>
                          <a:pt x="523" y="490"/>
                        </a:lnTo>
                        <a:lnTo>
                          <a:pt x="511" y="473"/>
                        </a:lnTo>
                        <a:lnTo>
                          <a:pt x="489" y="473"/>
                        </a:lnTo>
                        <a:lnTo>
                          <a:pt x="429" y="570"/>
                        </a:lnTo>
                        <a:lnTo>
                          <a:pt x="240" y="665"/>
                        </a:lnTo>
                        <a:lnTo>
                          <a:pt x="52" y="711"/>
                        </a:lnTo>
                        <a:lnTo>
                          <a:pt x="0" y="705"/>
                        </a:lnTo>
                        <a:lnTo>
                          <a:pt x="213" y="624"/>
                        </a:lnTo>
                        <a:lnTo>
                          <a:pt x="240" y="624"/>
                        </a:lnTo>
                        <a:lnTo>
                          <a:pt x="318" y="560"/>
                        </a:lnTo>
                        <a:lnTo>
                          <a:pt x="353" y="557"/>
                        </a:lnTo>
                        <a:lnTo>
                          <a:pt x="407" y="509"/>
                        </a:lnTo>
                        <a:lnTo>
                          <a:pt x="388" y="487"/>
                        </a:lnTo>
                        <a:lnTo>
                          <a:pt x="275" y="498"/>
                        </a:lnTo>
                        <a:lnTo>
                          <a:pt x="195" y="377"/>
                        </a:lnTo>
                        <a:lnTo>
                          <a:pt x="240" y="322"/>
                        </a:lnTo>
                        <a:lnTo>
                          <a:pt x="312" y="303"/>
                        </a:lnTo>
                        <a:lnTo>
                          <a:pt x="286" y="255"/>
                        </a:lnTo>
                        <a:lnTo>
                          <a:pt x="211" y="277"/>
                        </a:lnTo>
                        <a:lnTo>
                          <a:pt x="155" y="207"/>
                        </a:lnTo>
                        <a:lnTo>
                          <a:pt x="217" y="191"/>
                        </a:lnTo>
                        <a:lnTo>
                          <a:pt x="275" y="210"/>
                        </a:lnTo>
                        <a:lnTo>
                          <a:pt x="300" y="199"/>
                        </a:lnTo>
                        <a:lnTo>
                          <a:pt x="252" y="140"/>
                        </a:lnTo>
                        <a:lnTo>
                          <a:pt x="170" y="135"/>
                        </a:lnTo>
                        <a:lnTo>
                          <a:pt x="173" y="10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204"/>
                  <p:cNvSpPr/>
                  <p:nvPr/>
                </p:nvSpPr>
                <p:spPr>
                  <a:xfrm>
                    <a:off x="294840" y="4412160"/>
                    <a:ext cx="988560" cy="841320"/>
                  </a:xfrm>
                  <a:custGeom>
                    <a:avLst/>
                    <a:gdLst>
                      <a:gd name="textAreaLeft" fmla="*/ 0 w 988560"/>
                      <a:gd name="textAreaRight" fmla="*/ 988920 w 988560"/>
                      <a:gd name="textAreaTop" fmla="*/ 0 h 841320"/>
                      <a:gd name="textAreaBottom" fmla="*/ 841680 h 841320"/>
                    </a:gdLst>
                    <a:ahLst/>
                    <a:rect l="textAreaLeft" t="textAreaTop" r="textAreaRight" b="textAreaBottom"/>
                    <a:pathLst>
                      <a:path w="1086" h="711">
                        <a:moveTo>
                          <a:pt x="173" y="106"/>
                        </a:moveTo>
                        <a:lnTo>
                          <a:pt x="392" y="0"/>
                        </a:lnTo>
                        <a:lnTo>
                          <a:pt x="496" y="19"/>
                        </a:lnTo>
                        <a:lnTo>
                          <a:pt x="547" y="53"/>
                        </a:lnTo>
                        <a:lnTo>
                          <a:pt x="752" y="66"/>
                        </a:lnTo>
                        <a:lnTo>
                          <a:pt x="758" y="418"/>
                        </a:lnTo>
                        <a:lnTo>
                          <a:pt x="825" y="429"/>
                        </a:lnTo>
                        <a:lnTo>
                          <a:pt x="855" y="471"/>
                        </a:lnTo>
                        <a:lnTo>
                          <a:pt x="903" y="456"/>
                        </a:lnTo>
                        <a:lnTo>
                          <a:pt x="1001" y="551"/>
                        </a:lnTo>
                        <a:lnTo>
                          <a:pt x="1086" y="596"/>
                        </a:lnTo>
                        <a:lnTo>
                          <a:pt x="1083" y="634"/>
                        </a:lnTo>
                        <a:lnTo>
                          <a:pt x="977" y="638"/>
                        </a:lnTo>
                        <a:lnTo>
                          <a:pt x="929" y="522"/>
                        </a:lnTo>
                        <a:lnTo>
                          <a:pt x="591" y="407"/>
                        </a:lnTo>
                        <a:lnTo>
                          <a:pt x="601" y="444"/>
                        </a:lnTo>
                        <a:lnTo>
                          <a:pt x="523" y="490"/>
                        </a:lnTo>
                        <a:lnTo>
                          <a:pt x="511" y="473"/>
                        </a:lnTo>
                        <a:lnTo>
                          <a:pt x="489" y="473"/>
                        </a:lnTo>
                        <a:lnTo>
                          <a:pt x="429" y="570"/>
                        </a:lnTo>
                        <a:lnTo>
                          <a:pt x="240" y="665"/>
                        </a:lnTo>
                        <a:lnTo>
                          <a:pt x="52" y="711"/>
                        </a:lnTo>
                        <a:lnTo>
                          <a:pt x="0" y="705"/>
                        </a:lnTo>
                        <a:lnTo>
                          <a:pt x="213" y="624"/>
                        </a:lnTo>
                        <a:lnTo>
                          <a:pt x="240" y="624"/>
                        </a:lnTo>
                        <a:lnTo>
                          <a:pt x="318" y="560"/>
                        </a:lnTo>
                        <a:lnTo>
                          <a:pt x="353" y="557"/>
                        </a:lnTo>
                        <a:lnTo>
                          <a:pt x="407" y="509"/>
                        </a:lnTo>
                        <a:lnTo>
                          <a:pt x="388" y="487"/>
                        </a:lnTo>
                        <a:lnTo>
                          <a:pt x="275" y="498"/>
                        </a:lnTo>
                        <a:lnTo>
                          <a:pt x="195" y="377"/>
                        </a:lnTo>
                        <a:lnTo>
                          <a:pt x="240" y="322"/>
                        </a:lnTo>
                        <a:lnTo>
                          <a:pt x="312" y="303"/>
                        </a:lnTo>
                        <a:lnTo>
                          <a:pt x="286" y="255"/>
                        </a:lnTo>
                        <a:lnTo>
                          <a:pt x="211" y="277"/>
                        </a:lnTo>
                        <a:lnTo>
                          <a:pt x="155" y="207"/>
                        </a:lnTo>
                        <a:lnTo>
                          <a:pt x="217" y="191"/>
                        </a:lnTo>
                        <a:lnTo>
                          <a:pt x="275" y="210"/>
                        </a:lnTo>
                        <a:lnTo>
                          <a:pt x="300" y="199"/>
                        </a:lnTo>
                        <a:lnTo>
                          <a:pt x="252" y="140"/>
                        </a:lnTo>
                        <a:lnTo>
                          <a:pt x="170" y="135"/>
                        </a:lnTo>
                        <a:lnTo>
                          <a:pt x="173" y="106"/>
                        </a:lnTo>
                      </a:path>
                    </a:pathLst>
                  </a:custGeom>
                  <a:noFill/>
                  <a:ln cap="rnd" w="5715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5" name="Rectangle 205"/>
                <p:cNvSpPr/>
                <p:nvPr/>
              </p:nvSpPr>
              <p:spPr>
                <a:xfrm>
                  <a:off x="638280" y="4608360"/>
                  <a:ext cx="161280" cy="14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95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K</a:t>
                  </a:r>
                  <a:endParaRPr b="0" lang="en-US" sz="95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6" name="Group 1840"/>
            <p:cNvGrpSpPr/>
            <p:nvPr/>
          </p:nvGrpSpPr>
          <p:grpSpPr>
            <a:xfrm>
              <a:off x="1371600" y="1646280"/>
              <a:ext cx="6400440" cy="3923640"/>
              <a:chOff x="1371600" y="1646280"/>
              <a:chExt cx="6400440" cy="3923640"/>
            </a:xfrm>
          </p:grpSpPr>
          <p:sp>
            <p:nvSpPr>
              <p:cNvPr id="207" name="Text Box 173"/>
              <p:cNvSpPr/>
              <p:nvPr/>
            </p:nvSpPr>
            <p:spPr>
              <a:xfrm>
                <a:off x="7389000" y="2788920"/>
                <a:ext cx="383040" cy="20556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RI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1"/>
              <p:cNvSpPr/>
              <p:nvPr/>
            </p:nvSpPr>
            <p:spPr>
              <a:xfrm>
                <a:off x="1697760" y="1678320"/>
                <a:ext cx="784080" cy="592200"/>
              </a:xfrm>
              <a:custGeom>
                <a:avLst/>
                <a:gdLst>
                  <a:gd name="textAreaLeft" fmla="*/ 0 w 784080"/>
                  <a:gd name="textAreaRight" fmla="*/ 784440 w 784080"/>
                  <a:gd name="textAreaTop" fmla="*/ 0 h 592200"/>
                  <a:gd name="textAreaBottom" fmla="*/ 592560 h 592200"/>
                </a:gdLst>
                <a:ahLst/>
                <a:rect l="textAreaLeft" t="textAreaTop" r="textAreaRight" b="textAreaBottom"/>
                <a:pathLst>
                  <a:path w="622" h="440">
                    <a:moveTo>
                      <a:pt x="23" y="95"/>
                    </a:moveTo>
                    <a:lnTo>
                      <a:pt x="15" y="217"/>
                    </a:lnTo>
                    <a:lnTo>
                      <a:pt x="30" y="217"/>
                    </a:lnTo>
                    <a:lnTo>
                      <a:pt x="21" y="242"/>
                    </a:lnTo>
                    <a:lnTo>
                      <a:pt x="10" y="226"/>
                    </a:lnTo>
                    <a:lnTo>
                      <a:pt x="0" y="259"/>
                    </a:lnTo>
                    <a:lnTo>
                      <a:pt x="44" y="283"/>
                    </a:lnTo>
                    <a:lnTo>
                      <a:pt x="46" y="294"/>
                    </a:lnTo>
                    <a:lnTo>
                      <a:pt x="57" y="296"/>
                    </a:lnTo>
                    <a:lnTo>
                      <a:pt x="114" y="385"/>
                    </a:lnTo>
                    <a:lnTo>
                      <a:pt x="177" y="382"/>
                    </a:lnTo>
                    <a:lnTo>
                      <a:pt x="224" y="403"/>
                    </a:lnTo>
                    <a:lnTo>
                      <a:pt x="247" y="399"/>
                    </a:lnTo>
                    <a:lnTo>
                      <a:pt x="389" y="403"/>
                    </a:lnTo>
                    <a:lnTo>
                      <a:pt x="551" y="440"/>
                    </a:lnTo>
                    <a:lnTo>
                      <a:pt x="554" y="391"/>
                    </a:lnTo>
                    <a:lnTo>
                      <a:pt x="622" y="108"/>
                    </a:lnTo>
                    <a:lnTo>
                      <a:pt x="191" y="0"/>
                    </a:lnTo>
                    <a:lnTo>
                      <a:pt x="195" y="82"/>
                    </a:lnTo>
                    <a:lnTo>
                      <a:pt x="174" y="150"/>
                    </a:lnTo>
                    <a:lnTo>
                      <a:pt x="170" y="186"/>
                    </a:lnTo>
                    <a:lnTo>
                      <a:pt x="125" y="197"/>
                    </a:lnTo>
                    <a:lnTo>
                      <a:pt x="122" y="181"/>
                    </a:lnTo>
                    <a:lnTo>
                      <a:pt x="159" y="158"/>
                    </a:lnTo>
                    <a:lnTo>
                      <a:pt x="156" y="139"/>
                    </a:lnTo>
                    <a:lnTo>
                      <a:pt x="122" y="144"/>
                    </a:lnTo>
                    <a:lnTo>
                      <a:pt x="148" y="123"/>
                    </a:lnTo>
                    <a:lnTo>
                      <a:pt x="166" y="108"/>
                    </a:lnTo>
                    <a:lnTo>
                      <a:pt x="26" y="21"/>
                    </a:lnTo>
                    <a:lnTo>
                      <a:pt x="15" y="45"/>
                    </a:lnTo>
                    <a:lnTo>
                      <a:pt x="23" y="95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2"/>
              <p:cNvSpPr/>
              <p:nvPr/>
            </p:nvSpPr>
            <p:spPr>
              <a:xfrm>
                <a:off x="1880640" y="1715040"/>
                <a:ext cx="34560" cy="442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9" h="32">
                    <a:moveTo>
                      <a:pt x="0" y="14"/>
                    </a:moveTo>
                    <a:lnTo>
                      <a:pt x="23" y="0"/>
                    </a:lnTo>
                    <a:lnTo>
                      <a:pt x="29" y="14"/>
                    </a:lnTo>
                    <a:lnTo>
                      <a:pt x="24" y="3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33"/>
              <p:cNvSpPr/>
              <p:nvPr/>
            </p:nvSpPr>
            <p:spPr>
              <a:xfrm>
                <a:off x="2422080" y="2926440"/>
                <a:ext cx="665280" cy="855360"/>
              </a:xfrm>
              <a:custGeom>
                <a:avLst/>
                <a:gdLst>
                  <a:gd name="textAreaLeft" fmla="*/ 0 w 665280"/>
                  <a:gd name="textAreaRight" fmla="*/ 665640 w 665280"/>
                  <a:gd name="textAreaTop" fmla="*/ 0 h 855360"/>
                  <a:gd name="textAreaBottom" fmla="*/ 855720 h 855360"/>
                </a:gdLst>
                <a:ahLst/>
                <a:rect l="textAreaLeft" t="textAreaTop" r="textAreaRight" b="textAreaBottom"/>
                <a:pathLst>
                  <a:path w="526" h="641">
                    <a:moveTo>
                      <a:pt x="114" y="0"/>
                    </a:moveTo>
                    <a:lnTo>
                      <a:pt x="369" y="47"/>
                    </a:lnTo>
                    <a:lnTo>
                      <a:pt x="350" y="159"/>
                    </a:lnTo>
                    <a:lnTo>
                      <a:pt x="526" y="186"/>
                    </a:lnTo>
                    <a:lnTo>
                      <a:pt x="458" y="641"/>
                    </a:lnTo>
                    <a:lnTo>
                      <a:pt x="0" y="565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34"/>
              <p:cNvSpPr/>
              <p:nvPr/>
            </p:nvSpPr>
            <p:spPr>
              <a:xfrm>
                <a:off x="1490400" y="2036880"/>
                <a:ext cx="936360" cy="817560"/>
              </a:xfrm>
              <a:custGeom>
                <a:avLst/>
                <a:gdLst>
                  <a:gd name="textAreaLeft" fmla="*/ 0 w 936360"/>
                  <a:gd name="textAreaRight" fmla="*/ 936720 w 936360"/>
                  <a:gd name="textAreaTop" fmla="*/ 0 h 817560"/>
                  <a:gd name="textAreaBottom" fmla="*/ 817920 h 817560"/>
                </a:gdLst>
                <a:ahLst/>
                <a:rect l="textAreaLeft" t="textAreaTop" r="textAreaRight" b="textAreaBottom"/>
                <a:pathLst>
                  <a:path w="741" h="614">
                    <a:moveTo>
                      <a:pt x="0" y="458"/>
                    </a:moveTo>
                    <a:lnTo>
                      <a:pt x="32" y="303"/>
                    </a:lnTo>
                    <a:lnTo>
                      <a:pt x="70" y="258"/>
                    </a:lnTo>
                    <a:lnTo>
                      <a:pt x="160" y="0"/>
                    </a:lnTo>
                    <a:lnTo>
                      <a:pt x="207" y="13"/>
                    </a:lnTo>
                    <a:lnTo>
                      <a:pt x="209" y="25"/>
                    </a:lnTo>
                    <a:lnTo>
                      <a:pt x="220" y="26"/>
                    </a:lnTo>
                    <a:lnTo>
                      <a:pt x="277" y="115"/>
                    </a:lnTo>
                    <a:lnTo>
                      <a:pt x="340" y="112"/>
                    </a:lnTo>
                    <a:lnTo>
                      <a:pt x="387" y="133"/>
                    </a:lnTo>
                    <a:lnTo>
                      <a:pt x="410" y="130"/>
                    </a:lnTo>
                    <a:lnTo>
                      <a:pt x="552" y="133"/>
                    </a:lnTo>
                    <a:lnTo>
                      <a:pt x="714" y="170"/>
                    </a:lnTo>
                    <a:lnTo>
                      <a:pt x="722" y="190"/>
                    </a:lnTo>
                    <a:lnTo>
                      <a:pt x="741" y="217"/>
                    </a:lnTo>
                    <a:lnTo>
                      <a:pt x="686" y="301"/>
                    </a:lnTo>
                    <a:lnTo>
                      <a:pt x="651" y="332"/>
                    </a:lnTo>
                    <a:lnTo>
                      <a:pt x="646" y="355"/>
                    </a:lnTo>
                    <a:lnTo>
                      <a:pt x="667" y="377"/>
                    </a:lnTo>
                    <a:lnTo>
                      <a:pt x="644" y="429"/>
                    </a:lnTo>
                    <a:lnTo>
                      <a:pt x="599" y="614"/>
                    </a:lnTo>
                    <a:lnTo>
                      <a:pt x="348" y="554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35"/>
              <p:cNvSpPr/>
              <p:nvPr/>
            </p:nvSpPr>
            <p:spPr>
              <a:xfrm>
                <a:off x="1402200" y="2646360"/>
                <a:ext cx="930960" cy="1636920"/>
              </a:xfrm>
              <a:custGeom>
                <a:avLst/>
                <a:gdLst>
                  <a:gd name="textAreaLeft" fmla="*/ 0 w 930960"/>
                  <a:gd name="textAreaRight" fmla="*/ 931320 w 930960"/>
                  <a:gd name="textAreaTop" fmla="*/ 0 h 1636920"/>
                  <a:gd name="textAreaBottom" fmla="*/ 1637280 h 1636920"/>
                </a:gdLst>
                <a:ahLst/>
                <a:rect l="textAreaLeft" t="textAreaTop" r="textAreaRight" b="textAreaBottom"/>
                <a:pathLst>
                  <a:path w="738" h="1229">
                    <a:moveTo>
                      <a:pt x="26" y="250"/>
                    </a:moveTo>
                    <a:lnTo>
                      <a:pt x="5" y="345"/>
                    </a:lnTo>
                    <a:lnTo>
                      <a:pt x="76" y="499"/>
                    </a:lnTo>
                    <a:lnTo>
                      <a:pt x="89" y="489"/>
                    </a:lnTo>
                    <a:lnTo>
                      <a:pt x="110" y="554"/>
                    </a:lnTo>
                    <a:lnTo>
                      <a:pt x="76" y="509"/>
                    </a:lnTo>
                    <a:lnTo>
                      <a:pt x="68" y="580"/>
                    </a:lnTo>
                    <a:lnTo>
                      <a:pt x="107" y="624"/>
                    </a:lnTo>
                    <a:lnTo>
                      <a:pt x="81" y="683"/>
                    </a:lnTo>
                    <a:lnTo>
                      <a:pt x="158" y="847"/>
                    </a:lnTo>
                    <a:lnTo>
                      <a:pt x="141" y="907"/>
                    </a:lnTo>
                    <a:lnTo>
                      <a:pt x="243" y="954"/>
                    </a:lnTo>
                    <a:lnTo>
                      <a:pt x="280" y="1002"/>
                    </a:lnTo>
                    <a:lnTo>
                      <a:pt x="322" y="1018"/>
                    </a:lnTo>
                    <a:lnTo>
                      <a:pt x="323" y="1048"/>
                    </a:lnTo>
                    <a:lnTo>
                      <a:pt x="351" y="1054"/>
                    </a:lnTo>
                    <a:lnTo>
                      <a:pt x="411" y="1148"/>
                    </a:lnTo>
                    <a:lnTo>
                      <a:pt x="411" y="1214"/>
                    </a:lnTo>
                    <a:lnTo>
                      <a:pt x="673" y="1229"/>
                    </a:lnTo>
                    <a:lnTo>
                      <a:pt x="657" y="1201"/>
                    </a:lnTo>
                    <a:lnTo>
                      <a:pt x="665" y="1163"/>
                    </a:lnTo>
                    <a:lnTo>
                      <a:pt x="707" y="1095"/>
                    </a:lnTo>
                    <a:lnTo>
                      <a:pt x="738" y="1077"/>
                    </a:lnTo>
                    <a:lnTo>
                      <a:pt x="720" y="1052"/>
                    </a:lnTo>
                    <a:lnTo>
                      <a:pt x="707" y="986"/>
                    </a:lnTo>
                    <a:lnTo>
                      <a:pt x="332" y="423"/>
                    </a:lnTo>
                    <a:lnTo>
                      <a:pt x="419" y="96"/>
                    </a:lnTo>
                    <a:lnTo>
                      <a:pt x="71" y="0"/>
                    </a:lnTo>
                    <a:lnTo>
                      <a:pt x="61" y="20"/>
                    </a:lnTo>
                    <a:lnTo>
                      <a:pt x="0" y="164"/>
                    </a:lnTo>
                    <a:lnTo>
                      <a:pt x="26" y="25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36"/>
              <p:cNvSpPr/>
              <p:nvPr/>
            </p:nvSpPr>
            <p:spPr>
              <a:xfrm>
                <a:off x="1820520" y="2775240"/>
                <a:ext cx="745200" cy="1184400"/>
              </a:xfrm>
              <a:custGeom>
                <a:avLst/>
                <a:gdLst>
                  <a:gd name="textAreaLeft" fmla="*/ 0 w 745200"/>
                  <a:gd name="textAreaRight" fmla="*/ 745560 w 745200"/>
                  <a:gd name="textAreaTop" fmla="*/ 0 h 1184400"/>
                  <a:gd name="textAreaBottom" fmla="*/ 1184760 h 1184400"/>
                </a:gdLst>
                <a:ahLst/>
                <a:rect l="textAreaLeft" t="textAreaTop" r="textAreaRight" b="textAreaBottom"/>
                <a:pathLst>
                  <a:path w="591" h="890">
                    <a:moveTo>
                      <a:pt x="0" y="327"/>
                    </a:moveTo>
                    <a:lnTo>
                      <a:pt x="375" y="890"/>
                    </a:lnTo>
                    <a:lnTo>
                      <a:pt x="390" y="770"/>
                    </a:lnTo>
                    <a:lnTo>
                      <a:pt x="411" y="764"/>
                    </a:lnTo>
                    <a:lnTo>
                      <a:pt x="446" y="785"/>
                    </a:lnTo>
                    <a:lnTo>
                      <a:pt x="477" y="678"/>
                    </a:lnTo>
                    <a:lnTo>
                      <a:pt x="591" y="113"/>
                    </a:lnTo>
                    <a:lnTo>
                      <a:pt x="338" y="60"/>
                    </a:lnTo>
                    <a:lnTo>
                      <a:pt x="87" y="0"/>
                    </a:lnTo>
                    <a:lnTo>
                      <a:pt x="0" y="327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37"/>
              <p:cNvSpPr/>
              <p:nvPr/>
            </p:nvSpPr>
            <p:spPr>
              <a:xfrm>
                <a:off x="2248200" y="1822680"/>
                <a:ext cx="702360" cy="1163520"/>
              </a:xfrm>
              <a:custGeom>
                <a:avLst/>
                <a:gdLst>
                  <a:gd name="textAreaLeft" fmla="*/ 0 w 702360"/>
                  <a:gd name="textAreaRight" fmla="*/ 702720 w 702360"/>
                  <a:gd name="textAreaTop" fmla="*/ 0 h 1163520"/>
                  <a:gd name="textAreaBottom" fmla="*/ 1163880 h 1163520"/>
                </a:gdLst>
                <a:ahLst/>
                <a:rect l="textAreaLeft" t="textAreaTop" r="textAreaRight" b="textAreaBottom"/>
                <a:pathLst>
                  <a:path w="557" h="873">
                    <a:moveTo>
                      <a:pt x="0" y="774"/>
                    </a:moveTo>
                    <a:lnTo>
                      <a:pt x="45" y="589"/>
                    </a:lnTo>
                    <a:lnTo>
                      <a:pt x="68" y="537"/>
                    </a:lnTo>
                    <a:lnTo>
                      <a:pt x="47" y="515"/>
                    </a:lnTo>
                    <a:lnTo>
                      <a:pt x="52" y="492"/>
                    </a:lnTo>
                    <a:lnTo>
                      <a:pt x="87" y="461"/>
                    </a:lnTo>
                    <a:lnTo>
                      <a:pt x="142" y="377"/>
                    </a:lnTo>
                    <a:lnTo>
                      <a:pt x="123" y="350"/>
                    </a:lnTo>
                    <a:lnTo>
                      <a:pt x="115" y="330"/>
                    </a:lnTo>
                    <a:lnTo>
                      <a:pt x="118" y="283"/>
                    </a:lnTo>
                    <a:lnTo>
                      <a:pt x="186" y="0"/>
                    </a:lnTo>
                    <a:lnTo>
                      <a:pt x="259" y="15"/>
                    </a:lnTo>
                    <a:lnTo>
                      <a:pt x="235" y="126"/>
                    </a:lnTo>
                    <a:lnTo>
                      <a:pt x="251" y="165"/>
                    </a:lnTo>
                    <a:lnTo>
                      <a:pt x="253" y="189"/>
                    </a:lnTo>
                    <a:lnTo>
                      <a:pt x="244" y="194"/>
                    </a:lnTo>
                    <a:lnTo>
                      <a:pt x="272" y="220"/>
                    </a:lnTo>
                    <a:lnTo>
                      <a:pt x="301" y="291"/>
                    </a:lnTo>
                    <a:lnTo>
                      <a:pt x="311" y="355"/>
                    </a:lnTo>
                    <a:lnTo>
                      <a:pt x="316" y="389"/>
                    </a:lnTo>
                    <a:lnTo>
                      <a:pt x="295" y="421"/>
                    </a:lnTo>
                    <a:lnTo>
                      <a:pt x="309" y="435"/>
                    </a:lnTo>
                    <a:lnTo>
                      <a:pt x="348" y="414"/>
                    </a:lnTo>
                    <a:lnTo>
                      <a:pt x="374" y="526"/>
                    </a:lnTo>
                    <a:lnTo>
                      <a:pt x="392" y="531"/>
                    </a:lnTo>
                    <a:lnTo>
                      <a:pt x="395" y="563"/>
                    </a:lnTo>
                    <a:lnTo>
                      <a:pt x="445" y="576"/>
                    </a:lnTo>
                    <a:lnTo>
                      <a:pt x="523" y="578"/>
                    </a:lnTo>
                    <a:lnTo>
                      <a:pt x="557" y="593"/>
                    </a:lnTo>
                    <a:lnTo>
                      <a:pt x="508" y="873"/>
                    </a:lnTo>
                    <a:lnTo>
                      <a:pt x="253" y="827"/>
                    </a:lnTo>
                    <a:lnTo>
                      <a:pt x="0" y="774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38"/>
              <p:cNvSpPr/>
              <p:nvPr/>
            </p:nvSpPr>
            <p:spPr>
              <a:xfrm>
                <a:off x="2544840" y="1843560"/>
                <a:ext cx="1203480" cy="785520"/>
              </a:xfrm>
              <a:custGeom>
                <a:avLst/>
                <a:gdLst>
                  <a:gd name="textAreaLeft" fmla="*/ 0 w 1203480"/>
                  <a:gd name="textAreaRight" fmla="*/ 1203840 w 1203480"/>
                  <a:gd name="textAreaTop" fmla="*/ 0 h 785520"/>
                  <a:gd name="textAreaBottom" fmla="*/ 785880 h 785520"/>
                </a:gdLst>
                <a:ahLst/>
                <a:rect l="textAreaLeft" t="textAreaTop" r="textAreaRight" b="textAreaBottom"/>
                <a:pathLst>
                  <a:path w="952" h="590">
                    <a:moveTo>
                      <a:pt x="16" y="150"/>
                    </a:moveTo>
                    <a:lnTo>
                      <a:pt x="18" y="174"/>
                    </a:lnTo>
                    <a:lnTo>
                      <a:pt x="9" y="179"/>
                    </a:lnTo>
                    <a:lnTo>
                      <a:pt x="37" y="205"/>
                    </a:lnTo>
                    <a:lnTo>
                      <a:pt x="66" y="276"/>
                    </a:lnTo>
                    <a:lnTo>
                      <a:pt x="76" y="340"/>
                    </a:lnTo>
                    <a:lnTo>
                      <a:pt x="81" y="374"/>
                    </a:lnTo>
                    <a:lnTo>
                      <a:pt x="60" y="406"/>
                    </a:lnTo>
                    <a:lnTo>
                      <a:pt x="74" y="420"/>
                    </a:lnTo>
                    <a:lnTo>
                      <a:pt x="113" y="399"/>
                    </a:lnTo>
                    <a:lnTo>
                      <a:pt x="139" y="511"/>
                    </a:lnTo>
                    <a:lnTo>
                      <a:pt x="157" y="516"/>
                    </a:lnTo>
                    <a:lnTo>
                      <a:pt x="160" y="548"/>
                    </a:lnTo>
                    <a:lnTo>
                      <a:pt x="173" y="565"/>
                    </a:lnTo>
                    <a:lnTo>
                      <a:pt x="210" y="561"/>
                    </a:lnTo>
                    <a:lnTo>
                      <a:pt x="288" y="563"/>
                    </a:lnTo>
                    <a:lnTo>
                      <a:pt x="322" y="578"/>
                    </a:lnTo>
                    <a:lnTo>
                      <a:pt x="332" y="519"/>
                    </a:lnTo>
                    <a:lnTo>
                      <a:pt x="591" y="558"/>
                    </a:lnTo>
                    <a:lnTo>
                      <a:pt x="908" y="590"/>
                    </a:lnTo>
                    <a:lnTo>
                      <a:pt x="919" y="484"/>
                    </a:lnTo>
                    <a:lnTo>
                      <a:pt x="952" y="139"/>
                    </a:lnTo>
                    <a:lnTo>
                      <a:pt x="529" y="90"/>
                    </a:lnTo>
                    <a:lnTo>
                      <a:pt x="320" y="56"/>
                    </a:lnTo>
                    <a:lnTo>
                      <a:pt x="24" y="0"/>
                    </a:lnTo>
                    <a:lnTo>
                      <a:pt x="0" y="111"/>
                    </a:lnTo>
                    <a:lnTo>
                      <a:pt x="16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39"/>
              <p:cNvSpPr/>
              <p:nvPr/>
            </p:nvSpPr>
            <p:spPr>
              <a:xfrm>
                <a:off x="2201400" y="3678480"/>
                <a:ext cx="799920" cy="953280"/>
              </a:xfrm>
              <a:custGeom>
                <a:avLst/>
                <a:gdLst>
                  <a:gd name="textAreaLeft" fmla="*/ 0 w 799920"/>
                  <a:gd name="textAreaRight" fmla="*/ 800280 w 799920"/>
                  <a:gd name="textAreaTop" fmla="*/ 0 h 953280"/>
                  <a:gd name="textAreaBottom" fmla="*/ 953640 h 953280"/>
                </a:gdLst>
                <a:ahLst/>
                <a:rect l="textAreaLeft" t="textAreaTop" r="textAreaRight" b="textAreaBottom"/>
                <a:pathLst>
                  <a:path w="634" h="716">
                    <a:moveTo>
                      <a:pt x="40" y="455"/>
                    </a:moveTo>
                    <a:lnTo>
                      <a:pt x="24" y="427"/>
                    </a:lnTo>
                    <a:lnTo>
                      <a:pt x="32" y="389"/>
                    </a:lnTo>
                    <a:lnTo>
                      <a:pt x="74" y="321"/>
                    </a:lnTo>
                    <a:lnTo>
                      <a:pt x="105" y="303"/>
                    </a:lnTo>
                    <a:lnTo>
                      <a:pt x="87" y="278"/>
                    </a:lnTo>
                    <a:lnTo>
                      <a:pt x="74" y="212"/>
                    </a:lnTo>
                    <a:lnTo>
                      <a:pt x="89" y="92"/>
                    </a:lnTo>
                    <a:lnTo>
                      <a:pt x="110" y="86"/>
                    </a:lnTo>
                    <a:lnTo>
                      <a:pt x="145" y="107"/>
                    </a:lnTo>
                    <a:lnTo>
                      <a:pt x="176" y="0"/>
                    </a:lnTo>
                    <a:lnTo>
                      <a:pt x="634" y="76"/>
                    </a:lnTo>
                    <a:lnTo>
                      <a:pt x="539" y="716"/>
                    </a:lnTo>
                    <a:lnTo>
                      <a:pt x="398" y="696"/>
                    </a:lnTo>
                    <a:lnTo>
                      <a:pt x="311" y="672"/>
                    </a:lnTo>
                    <a:lnTo>
                      <a:pt x="131" y="601"/>
                    </a:lnTo>
                    <a:lnTo>
                      <a:pt x="0" y="491"/>
                    </a:lnTo>
                    <a:lnTo>
                      <a:pt x="40" y="455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40"/>
              <p:cNvSpPr/>
              <p:nvPr/>
            </p:nvSpPr>
            <p:spPr>
              <a:xfrm>
                <a:off x="2865600" y="2535480"/>
                <a:ext cx="825480" cy="698400"/>
              </a:xfrm>
              <a:custGeom>
                <a:avLst/>
                <a:gdLst>
                  <a:gd name="textAreaLeft" fmla="*/ 0 w 825480"/>
                  <a:gd name="textAreaRight" fmla="*/ 825840 w 825480"/>
                  <a:gd name="textAreaTop" fmla="*/ 0 h 698400"/>
                  <a:gd name="textAreaBottom" fmla="*/ 698760 h 698400"/>
                </a:gdLst>
                <a:ahLst/>
                <a:rect l="textAreaLeft" t="textAreaTop" r="textAreaRight" b="textAreaBottom"/>
                <a:pathLst>
                  <a:path w="654" h="526">
                    <a:moveTo>
                      <a:pt x="0" y="452"/>
                    </a:moveTo>
                    <a:lnTo>
                      <a:pt x="78" y="0"/>
                    </a:lnTo>
                    <a:lnTo>
                      <a:pt x="337" y="39"/>
                    </a:lnTo>
                    <a:lnTo>
                      <a:pt x="654" y="71"/>
                    </a:lnTo>
                    <a:lnTo>
                      <a:pt x="633" y="300"/>
                    </a:lnTo>
                    <a:lnTo>
                      <a:pt x="612" y="526"/>
                    </a:lnTo>
                    <a:lnTo>
                      <a:pt x="176" y="479"/>
                    </a:lnTo>
                    <a:lnTo>
                      <a:pt x="0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41"/>
              <p:cNvSpPr/>
              <p:nvPr/>
            </p:nvSpPr>
            <p:spPr>
              <a:xfrm>
                <a:off x="3002040" y="3172680"/>
                <a:ext cx="857520" cy="690120"/>
              </a:xfrm>
              <a:custGeom>
                <a:avLst/>
                <a:gdLst>
                  <a:gd name="textAreaLeft" fmla="*/ 0 w 857520"/>
                  <a:gd name="textAreaRight" fmla="*/ 857880 w 857520"/>
                  <a:gd name="textAreaTop" fmla="*/ 0 h 690120"/>
                  <a:gd name="textAreaBottom" fmla="*/ 690480 h 690120"/>
                </a:gdLst>
                <a:ahLst/>
                <a:rect l="textAreaLeft" t="textAreaTop" r="textAreaRight" b="textAreaBottom"/>
                <a:pathLst>
                  <a:path w="679" h="522">
                    <a:moveTo>
                      <a:pt x="68" y="0"/>
                    </a:moveTo>
                    <a:lnTo>
                      <a:pt x="504" y="47"/>
                    </a:lnTo>
                    <a:lnTo>
                      <a:pt x="679" y="63"/>
                    </a:lnTo>
                    <a:lnTo>
                      <a:pt x="671" y="175"/>
                    </a:lnTo>
                    <a:lnTo>
                      <a:pt x="648" y="522"/>
                    </a:lnTo>
                    <a:lnTo>
                      <a:pt x="559" y="515"/>
                    </a:lnTo>
                    <a:lnTo>
                      <a:pt x="280" y="491"/>
                    </a:lnTo>
                    <a:lnTo>
                      <a:pt x="0" y="455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42"/>
              <p:cNvSpPr/>
              <p:nvPr/>
            </p:nvSpPr>
            <p:spPr>
              <a:xfrm>
                <a:off x="2881440" y="3779280"/>
                <a:ext cx="825480" cy="867960"/>
              </a:xfrm>
              <a:custGeom>
                <a:avLst/>
                <a:gdLst>
                  <a:gd name="textAreaLeft" fmla="*/ 0 w 825480"/>
                  <a:gd name="textAreaRight" fmla="*/ 825840 w 825480"/>
                  <a:gd name="textAreaTop" fmla="*/ 0 h 867960"/>
                  <a:gd name="textAreaBottom" fmla="*/ 868320 h 867960"/>
                </a:gdLst>
                <a:ahLst/>
                <a:rect l="textAreaLeft" t="textAreaTop" r="textAreaRight" b="textAreaBottom"/>
                <a:pathLst>
                  <a:path w="654" h="651">
                    <a:moveTo>
                      <a:pt x="82" y="651"/>
                    </a:moveTo>
                    <a:lnTo>
                      <a:pt x="91" y="602"/>
                    </a:lnTo>
                    <a:lnTo>
                      <a:pt x="254" y="623"/>
                    </a:lnTo>
                    <a:lnTo>
                      <a:pt x="246" y="599"/>
                    </a:lnTo>
                    <a:lnTo>
                      <a:pt x="601" y="631"/>
                    </a:lnTo>
                    <a:lnTo>
                      <a:pt x="654" y="60"/>
                    </a:lnTo>
                    <a:lnTo>
                      <a:pt x="375" y="36"/>
                    </a:lnTo>
                    <a:lnTo>
                      <a:pt x="95" y="0"/>
                    </a:lnTo>
                    <a:lnTo>
                      <a:pt x="0" y="640"/>
                    </a:lnTo>
                    <a:lnTo>
                      <a:pt x="82" y="651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43"/>
              <p:cNvSpPr/>
              <p:nvPr/>
            </p:nvSpPr>
            <p:spPr>
              <a:xfrm>
                <a:off x="3192840" y="3938760"/>
                <a:ext cx="1645920" cy="1631160"/>
              </a:xfrm>
              <a:custGeom>
                <a:avLst/>
                <a:gdLst>
                  <a:gd name="textAreaLeft" fmla="*/ 0 w 1645920"/>
                  <a:gd name="textAreaRight" fmla="*/ 1646280 w 1645920"/>
                  <a:gd name="textAreaTop" fmla="*/ 0 h 1631160"/>
                  <a:gd name="textAreaBottom" fmla="*/ 1631520 h 1631160"/>
                </a:gdLst>
                <a:ahLst/>
                <a:rect l="textAreaLeft" t="textAreaTop" r="textAreaRight" b="textAreaBottom"/>
                <a:pathLst>
                  <a:path w="1302" h="1225">
                    <a:moveTo>
                      <a:pt x="0" y="479"/>
                    </a:moveTo>
                    <a:lnTo>
                      <a:pt x="355" y="511"/>
                    </a:lnTo>
                    <a:lnTo>
                      <a:pt x="403" y="0"/>
                    </a:lnTo>
                    <a:lnTo>
                      <a:pt x="685" y="16"/>
                    </a:lnTo>
                    <a:lnTo>
                      <a:pt x="675" y="236"/>
                    </a:lnTo>
                    <a:lnTo>
                      <a:pt x="703" y="259"/>
                    </a:lnTo>
                    <a:lnTo>
                      <a:pt x="729" y="259"/>
                    </a:lnTo>
                    <a:lnTo>
                      <a:pt x="750" y="280"/>
                    </a:lnTo>
                    <a:lnTo>
                      <a:pt x="792" y="290"/>
                    </a:lnTo>
                    <a:lnTo>
                      <a:pt x="876" y="327"/>
                    </a:lnTo>
                    <a:lnTo>
                      <a:pt x="892" y="311"/>
                    </a:lnTo>
                    <a:lnTo>
                      <a:pt x="947" y="341"/>
                    </a:lnTo>
                    <a:lnTo>
                      <a:pt x="1020" y="341"/>
                    </a:lnTo>
                    <a:lnTo>
                      <a:pt x="1070" y="327"/>
                    </a:lnTo>
                    <a:lnTo>
                      <a:pt x="1138" y="314"/>
                    </a:lnTo>
                    <a:lnTo>
                      <a:pt x="1203" y="348"/>
                    </a:lnTo>
                    <a:lnTo>
                      <a:pt x="1213" y="359"/>
                    </a:lnTo>
                    <a:lnTo>
                      <a:pt x="1245" y="359"/>
                    </a:lnTo>
                    <a:lnTo>
                      <a:pt x="1253" y="541"/>
                    </a:lnTo>
                    <a:lnTo>
                      <a:pt x="1302" y="630"/>
                    </a:lnTo>
                    <a:lnTo>
                      <a:pt x="1284" y="699"/>
                    </a:lnTo>
                    <a:lnTo>
                      <a:pt x="1287" y="757"/>
                    </a:lnTo>
                    <a:lnTo>
                      <a:pt x="1264" y="787"/>
                    </a:lnTo>
                    <a:lnTo>
                      <a:pt x="1274" y="796"/>
                    </a:lnTo>
                    <a:lnTo>
                      <a:pt x="1221" y="812"/>
                    </a:lnTo>
                    <a:lnTo>
                      <a:pt x="1179" y="817"/>
                    </a:lnTo>
                    <a:lnTo>
                      <a:pt x="1187" y="785"/>
                    </a:lnTo>
                    <a:lnTo>
                      <a:pt x="1162" y="803"/>
                    </a:lnTo>
                    <a:lnTo>
                      <a:pt x="1164" y="840"/>
                    </a:lnTo>
                    <a:lnTo>
                      <a:pt x="1136" y="877"/>
                    </a:lnTo>
                    <a:lnTo>
                      <a:pt x="983" y="955"/>
                    </a:lnTo>
                    <a:lnTo>
                      <a:pt x="933" y="1005"/>
                    </a:lnTo>
                    <a:lnTo>
                      <a:pt x="889" y="1112"/>
                    </a:lnTo>
                    <a:lnTo>
                      <a:pt x="926" y="1225"/>
                    </a:lnTo>
                    <a:lnTo>
                      <a:pt x="889" y="1225"/>
                    </a:lnTo>
                    <a:lnTo>
                      <a:pt x="724" y="1167"/>
                    </a:lnTo>
                    <a:lnTo>
                      <a:pt x="706" y="1118"/>
                    </a:lnTo>
                    <a:lnTo>
                      <a:pt x="688" y="1096"/>
                    </a:lnTo>
                    <a:lnTo>
                      <a:pt x="682" y="1033"/>
                    </a:lnTo>
                    <a:lnTo>
                      <a:pt x="651" y="1008"/>
                    </a:lnTo>
                    <a:lnTo>
                      <a:pt x="560" y="838"/>
                    </a:lnTo>
                    <a:lnTo>
                      <a:pt x="518" y="806"/>
                    </a:lnTo>
                    <a:lnTo>
                      <a:pt x="505" y="778"/>
                    </a:lnTo>
                    <a:lnTo>
                      <a:pt x="374" y="772"/>
                    </a:lnTo>
                    <a:lnTo>
                      <a:pt x="304" y="853"/>
                    </a:lnTo>
                    <a:lnTo>
                      <a:pt x="185" y="769"/>
                    </a:lnTo>
                    <a:lnTo>
                      <a:pt x="151" y="652"/>
                    </a:lnTo>
                    <a:lnTo>
                      <a:pt x="37" y="542"/>
                    </a:lnTo>
                    <a:lnTo>
                      <a:pt x="23" y="508"/>
                    </a:lnTo>
                    <a:lnTo>
                      <a:pt x="8" y="503"/>
                    </a:lnTo>
                    <a:lnTo>
                      <a:pt x="0" y="479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44"/>
              <p:cNvSpPr/>
              <p:nvPr/>
            </p:nvSpPr>
            <p:spPr>
              <a:xfrm>
                <a:off x="3707280" y="2028600"/>
                <a:ext cx="770760" cy="499680"/>
              </a:xfrm>
              <a:custGeom>
                <a:avLst/>
                <a:gdLst>
                  <a:gd name="textAreaLeft" fmla="*/ 0 w 770760"/>
                  <a:gd name="textAreaRight" fmla="*/ 771120 w 77076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12" h="375">
                    <a:moveTo>
                      <a:pt x="33" y="0"/>
                    </a:moveTo>
                    <a:lnTo>
                      <a:pt x="565" y="27"/>
                    </a:lnTo>
                    <a:lnTo>
                      <a:pt x="569" y="121"/>
                    </a:lnTo>
                    <a:lnTo>
                      <a:pt x="593" y="197"/>
                    </a:lnTo>
                    <a:lnTo>
                      <a:pt x="596" y="296"/>
                    </a:lnTo>
                    <a:lnTo>
                      <a:pt x="612" y="375"/>
                    </a:lnTo>
                    <a:lnTo>
                      <a:pt x="290" y="366"/>
                    </a:lnTo>
                    <a:lnTo>
                      <a:pt x="0" y="34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45"/>
              <p:cNvSpPr/>
              <p:nvPr/>
            </p:nvSpPr>
            <p:spPr>
              <a:xfrm>
                <a:off x="3663360" y="2487960"/>
                <a:ext cx="826920" cy="568080"/>
              </a:xfrm>
              <a:custGeom>
                <a:avLst/>
                <a:gdLst>
                  <a:gd name="textAreaLeft" fmla="*/ 0 w 826920"/>
                  <a:gd name="textAreaRight" fmla="*/ 827280 w 826920"/>
                  <a:gd name="textAreaTop" fmla="*/ 0 h 568080"/>
                  <a:gd name="textAreaBottom" fmla="*/ 568440 h 568080"/>
                </a:gdLst>
                <a:ahLst/>
                <a:rect l="textAreaLeft" t="textAreaTop" r="textAreaRight" b="textAreaBottom"/>
                <a:pathLst>
                  <a:path w="654" h="427">
                    <a:moveTo>
                      <a:pt x="32" y="0"/>
                    </a:moveTo>
                    <a:lnTo>
                      <a:pt x="322" y="21"/>
                    </a:lnTo>
                    <a:lnTo>
                      <a:pt x="644" y="30"/>
                    </a:lnTo>
                    <a:lnTo>
                      <a:pt x="622" y="71"/>
                    </a:lnTo>
                    <a:lnTo>
                      <a:pt x="654" y="100"/>
                    </a:lnTo>
                    <a:lnTo>
                      <a:pt x="652" y="310"/>
                    </a:lnTo>
                    <a:lnTo>
                      <a:pt x="639" y="309"/>
                    </a:lnTo>
                    <a:lnTo>
                      <a:pt x="639" y="336"/>
                    </a:lnTo>
                    <a:lnTo>
                      <a:pt x="651" y="356"/>
                    </a:lnTo>
                    <a:lnTo>
                      <a:pt x="644" y="377"/>
                    </a:lnTo>
                    <a:lnTo>
                      <a:pt x="651" y="427"/>
                    </a:lnTo>
                    <a:lnTo>
                      <a:pt x="636" y="420"/>
                    </a:lnTo>
                    <a:lnTo>
                      <a:pt x="618" y="403"/>
                    </a:lnTo>
                    <a:lnTo>
                      <a:pt x="562" y="383"/>
                    </a:lnTo>
                    <a:lnTo>
                      <a:pt x="505" y="386"/>
                    </a:lnTo>
                    <a:lnTo>
                      <a:pt x="473" y="362"/>
                    </a:lnTo>
                    <a:lnTo>
                      <a:pt x="0" y="33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46"/>
              <p:cNvSpPr/>
              <p:nvPr/>
            </p:nvSpPr>
            <p:spPr>
              <a:xfrm>
                <a:off x="3637800" y="2934720"/>
                <a:ext cx="969840" cy="49824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498240"/>
                  <a:gd name="textAreaBottom" fmla="*/ 498600 h 498240"/>
                </a:gdLst>
                <a:ahLst/>
                <a:rect l="textAreaLeft" t="textAreaTop" r="textAreaRight" b="textAreaBottom"/>
                <a:pathLst>
                  <a:path w="767" h="374">
                    <a:moveTo>
                      <a:pt x="21" y="0"/>
                    </a:moveTo>
                    <a:lnTo>
                      <a:pt x="494" y="27"/>
                    </a:lnTo>
                    <a:lnTo>
                      <a:pt x="526" y="51"/>
                    </a:lnTo>
                    <a:lnTo>
                      <a:pt x="583" y="48"/>
                    </a:lnTo>
                    <a:lnTo>
                      <a:pt x="639" y="68"/>
                    </a:lnTo>
                    <a:lnTo>
                      <a:pt x="657" y="85"/>
                    </a:lnTo>
                    <a:lnTo>
                      <a:pt x="672" y="92"/>
                    </a:lnTo>
                    <a:lnTo>
                      <a:pt x="698" y="163"/>
                    </a:lnTo>
                    <a:lnTo>
                      <a:pt x="698" y="184"/>
                    </a:lnTo>
                    <a:lnTo>
                      <a:pt x="715" y="218"/>
                    </a:lnTo>
                    <a:lnTo>
                      <a:pt x="724" y="272"/>
                    </a:lnTo>
                    <a:lnTo>
                      <a:pt x="719" y="288"/>
                    </a:lnTo>
                    <a:lnTo>
                      <a:pt x="730" y="306"/>
                    </a:lnTo>
                    <a:lnTo>
                      <a:pt x="767" y="374"/>
                    </a:lnTo>
                    <a:lnTo>
                      <a:pt x="426" y="370"/>
                    </a:lnTo>
                    <a:lnTo>
                      <a:pt x="167" y="354"/>
                    </a:lnTo>
                    <a:lnTo>
                      <a:pt x="175" y="242"/>
                    </a:lnTo>
                    <a:lnTo>
                      <a:pt x="0" y="22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47"/>
              <p:cNvSpPr/>
              <p:nvPr/>
            </p:nvSpPr>
            <p:spPr>
              <a:xfrm>
                <a:off x="3821040" y="3406680"/>
                <a:ext cx="872280" cy="482760"/>
              </a:xfrm>
              <a:custGeom>
                <a:avLst/>
                <a:gdLst>
                  <a:gd name="textAreaLeft" fmla="*/ 0 w 872280"/>
                  <a:gd name="textAreaRight" fmla="*/ 872640 w 872280"/>
                  <a:gd name="textAreaTop" fmla="*/ 0 h 482760"/>
                  <a:gd name="textAreaBottom" fmla="*/ 483120 h 482760"/>
                </a:gdLst>
                <a:ahLst/>
                <a:rect l="textAreaLeft" t="textAreaTop" r="textAreaRight" b="textAreaBottom"/>
                <a:pathLst>
                  <a:path w="691" h="364">
                    <a:moveTo>
                      <a:pt x="23" y="0"/>
                    </a:moveTo>
                    <a:lnTo>
                      <a:pt x="282" y="16"/>
                    </a:lnTo>
                    <a:lnTo>
                      <a:pt x="623" y="20"/>
                    </a:lnTo>
                    <a:lnTo>
                      <a:pt x="641" y="36"/>
                    </a:lnTo>
                    <a:lnTo>
                      <a:pt x="652" y="33"/>
                    </a:lnTo>
                    <a:lnTo>
                      <a:pt x="665" y="50"/>
                    </a:lnTo>
                    <a:lnTo>
                      <a:pt x="654" y="50"/>
                    </a:lnTo>
                    <a:lnTo>
                      <a:pt x="643" y="73"/>
                    </a:lnTo>
                    <a:lnTo>
                      <a:pt x="670" y="112"/>
                    </a:lnTo>
                    <a:lnTo>
                      <a:pt x="691" y="118"/>
                    </a:lnTo>
                    <a:lnTo>
                      <a:pt x="688" y="363"/>
                    </a:lnTo>
                    <a:lnTo>
                      <a:pt x="395" y="364"/>
                    </a:lnTo>
                    <a:lnTo>
                      <a:pt x="0" y="34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48"/>
              <p:cNvSpPr/>
              <p:nvPr/>
            </p:nvSpPr>
            <p:spPr>
              <a:xfrm>
                <a:off x="3702240" y="3859200"/>
                <a:ext cx="1013760" cy="542880"/>
              </a:xfrm>
              <a:custGeom>
                <a:avLst/>
                <a:gdLst>
                  <a:gd name="textAreaLeft" fmla="*/ 0 w 1013760"/>
                  <a:gd name="textAreaRight" fmla="*/ 1014120 w 1013760"/>
                  <a:gd name="textAreaTop" fmla="*/ 0 h 542880"/>
                  <a:gd name="textAreaBottom" fmla="*/ 543240 h 542880"/>
                </a:gdLst>
                <a:ahLst/>
                <a:rect l="textAreaLeft" t="textAreaTop" r="textAreaRight" b="textAreaBottom"/>
                <a:pathLst>
                  <a:path w="803" h="408">
                    <a:moveTo>
                      <a:pt x="5" y="0"/>
                    </a:moveTo>
                    <a:lnTo>
                      <a:pt x="94" y="7"/>
                    </a:lnTo>
                    <a:lnTo>
                      <a:pt x="489" y="24"/>
                    </a:lnTo>
                    <a:lnTo>
                      <a:pt x="782" y="23"/>
                    </a:lnTo>
                    <a:lnTo>
                      <a:pt x="785" y="83"/>
                    </a:lnTo>
                    <a:lnTo>
                      <a:pt x="803" y="209"/>
                    </a:lnTo>
                    <a:lnTo>
                      <a:pt x="800" y="408"/>
                    </a:lnTo>
                    <a:lnTo>
                      <a:pt x="735" y="374"/>
                    </a:lnTo>
                    <a:lnTo>
                      <a:pt x="667" y="387"/>
                    </a:lnTo>
                    <a:lnTo>
                      <a:pt x="617" y="401"/>
                    </a:lnTo>
                    <a:lnTo>
                      <a:pt x="544" y="401"/>
                    </a:lnTo>
                    <a:lnTo>
                      <a:pt x="489" y="371"/>
                    </a:lnTo>
                    <a:lnTo>
                      <a:pt x="473" y="387"/>
                    </a:lnTo>
                    <a:lnTo>
                      <a:pt x="389" y="350"/>
                    </a:lnTo>
                    <a:lnTo>
                      <a:pt x="347" y="340"/>
                    </a:lnTo>
                    <a:lnTo>
                      <a:pt x="326" y="319"/>
                    </a:lnTo>
                    <a:lnTo>
                      <a:pt x="300" y="319"/>
                    </a:lnTo>
                    <a:lnTo>
                      <a:pt x="272" y="296"/>
                    </a:lnTo>
                    <a:lnTo>
                      <a:pt x="282" y="76"/>
                    </a:lnTo>
                    <a:lnTo>
                      <a:pt x="0" y="6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9"/>
              <p:cNvSpPr/>
              <p:nvPr/>
            </p:nvSpPr>
            <p:spPr>
              <a:xfrm>
                <a:off x="4419720" y="2025720"/>
                <a:ext cx="765360" cy="874800"/>
              </a:xfrm>
              <a:custGeom>
                <a:avLst/>
                <a:gdLst>
                  <a:gd name="textAreaLeft" fmla="*/ 0 w 765360"/>
                  <a:gd name="textAreaRight" fmla="*/ 765720 w 765360"/>
                  <a:gd name="textAreaTop" fmla="*/ 0 h 874800"/>
                  <a:gd name="textAreaBottom" fmla="*/ 875160 h 874800"/>
                </a:gdLst>
                <a:ahLst/>
                <a:rect l="textAreaLeft" t="textAreaTop" r="textAreaRight" b="textAreaBottom"/>
                <a:pathLst>
                  <a:path w="606" h="658">
                    <a:moveTo>
                      <a:pt x="4" y="124"/>
                    </a:moveTo>
                    <a:lnTo>
                      <a:pt x="28" y="200"/>
                    </a:lnTo>
                    <a:lnTo>
                      <a:pt x="31" y="299"/>
                    </a:lnTo>
                    <a:lnTo>
                      <a:pt x="47" y="378"/>
                    </a:lnTo>
                    <a:lnTo>
                      <a:pt x="25" y="419"/>
                    </a:lnTo>
                    <a:lnTo>
                      <a:pt x="57" y="448"/>
                    </a:lnTo>
                    <a:lnTo>
                      <a:pt x="55" y="658"/>
                    </a:lnTo>
                    <a:lnTo>
                      <a:pt x="497" y="649"/>
                    </a:lnTo>
                    <a:lnTo>
                      <a:pt x="489" y="608"/>
                    </a:lnTo>
                    <a:lnTo>
                      <a:pt x="442" y="573"/>
                    </a:lnTo>
                    <a:lnTo>
                      <a:pt x="418" y="547"/>
                    </a:lnTo>
                    <a:lnTo>
                      <a:pt x="358" y="509"/>
                    </a:lnTo>
                    <a:lnTo>
                      <a:pt x="360" y="448"/>
                    </a:lnTo>
                    <a:lnTo>
                      <a:pt x="347" y="409"/>
                    </a:lnTo>
                    <a:lnTo>
                      <a:pt x="397" y="351"/>
                    </a:lnTo>
                    <a:lnTo>
                      <a:pt x="394" y="293"/>
                    </a:lnTo>
                    <a:lnTo>
                      <a:pt x="475" y="233"/>
                    </a:lnTo>
                    <a:lnTo>
                      <a:pt x="494" y="199"/>
                    </a:lnTo>
                    <a:lnTo>
                      <a:pt x="606" y="140"/>
                    </a:lnTo>
                    <a:lnTo>
                      <a:pt x="556" y="119"/>
                    </a:lnTo>
                    <a:lnTo>
                      <a:pt x="512" y="123"/>
                    </a:lnTo>
                    <a:lnTo>
                      <a:pt x="502" y="106"/>
                    </a:lnTo>
                    <a:lnTo>
                      <a:pt x="421" y="105"/>
                    </a:lnTo>
                    <a:lnTo>
                      <a:pt x="368" y="90"/>
                    </a:lnTo>
                    <a:lnTo>
                      <a:pt x="256" y="79"/>
                    </a:lnTo>
                    <a:lnTo>
                      <a:pt x="240" y="60"/>
                    </a:lnTo>
                    <a:lnTo>
                      <a:pt x="195" y="40"/>
                    </a:lnTo>
                    <a:lnTo>
                      <a:pt x="187" y="0"/>
                    </a:lnTo>
                    <a:lnTo>
                      <a:pt x="157" y="0"/>
                    </a:lnTo>
                    <a:lnTo>
                      <a:pt x="157" y="30"/>
                    </a:lnTo>
                    <a:lnTo>
                      <a:pt x="0" y="30"/>
                    </a:lnTo>
                    <a:lnTo>
                      <a:pt x="4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50"/>
              <p:cNvSpPr/>
              <p:nvPr/>
            </p:nvSpPr>
            <p:spPr>
              <a:xfrm>
                <a:off x="4471920" y="2890080"/>
                <a:ext cx="702360" cy="477360"/>
              </a:xfrm>
              <a:custGeom>
                <a:avLst/>
                <a:gdLst>
                  <a:gd name="textAreaLeft" fmla="*/ 0 w 702360"/>
                  <a:gd name="textAreaRight" fmla="*/ 702720 w 70236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556" h="359">
                    <a:moveTo>
                      <a:pt x="0" y="35"/>
                    </a:moveTo>
                    <a:lnTo>
                      <a:pt x="12" y="55"/>
                    </a:lnTo>
                    <a:lnTo>
                      <a:pt x="5" y="76"/>
                    </a:lnTo>
                    <a:lnTo>
                      <a:pt x="12" y="126"/>
                    </a:lnTo>
                    <a:lnTo>
                      <a:pt x="38" y="197"/>
                    </a:lnTo>
                    <a:lnTo>
                      <a:pt x="38" y="218"/>
                    </a:lnTo>
                    <a:lnTo>
                      <a:pt x="55" y="252"/>
                    </a:lnTo>
                    <a:lnTo>
                      <a:pt x="64" y="306"/>
                    </a:lnTo>
                    <a:lnTo>
                      <a:pt x="59" y="322"/>
                    </a:lnTo>
                    <a:lnTo>
                      <a:pt x="70" y="340"/>
                    </a:lnTo>
                    <a:lnTo>
                      <a:pt x="429" y="331"/>
                    </a:lnTo>
                    <a:lnTo>
                      <a:pt x="455" y="359"/>
                    </a:lnTo>
                    <a:lnTo>
                      <a:pt x="493" y="278"/>
                    </a:lnTo>
                    <a:lnTo>
                      <a:pt x="481" y="247"/>
                    </a:lnTo>
                    <a:lnTo>
                      <a:pt x="543" y="199"/>
                    </a:lnTo>
                    <a:lnTo>
                      <a:pt x="556" y="163"/>
                    </a:lnTo>
                    <a:lnTo>
                      <a:pt x="510" y="111"/>
                    </a:lnTo>
                    <a:lnTo>
                      <a:pt x="463" y="58"/>
                    </a:lnTo>
                    <a:lnTo>
                      <a:pt x="455" y="0"/>
                    </a:lnTo>
                    <a:lnTo>
                      <a:pt x="13" y="9"/>
                    </a:lnTo>
                    <a:lnTo>
                      <a:pt x="0" y="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51"/>
              <p:cNvSpPr/>
              <p:nvPr/>
            </p:nvSpPr>
            <p:spPr>
              <a:xfrm>
                <a:off x="4561200" y="3331080"/>
                <a:ext cx="784080" cy="699840"/>
              </a:xfrm>
              <a:custGeom>
                <a:avLst/>
                <a:gdLst>
                  <a:gd name="textAreaLeft" fmla="*/ 0 w 784080"/>
                  <a:gd name="textAreaRight" fmla="*/ 784440 w 784080"/>
                  <a:gd name="textAreaTop" fmla="*/ 0 h 699840"/>
                  <a:gd name="textAreaBottom" fmla="*/ 700200 h 699840"/>
                </a:gdLst>
                <a:ahLst/>
                <a:rect l="textAreaLeft" t="textAreaTop" r="textAreaRight" b="textAreaBottom"/>
                <a:pathLst>
                  <a:path w="619" h="525">
                    <a:moveTo>
                      <a:pt x="37" y="77"/>
                    </a:moveTo>
                    <a:lnTo>
                      <a:pt x="55" y="93"/>
                    </a:lnTo>
                    <a:lnTo>
                      <a:pt x="66" y="90"/>
                    </a:lnTo>
                    <a:lnTo>
                      <a:pt x="79" y="107"/>
                    </a:lnTo>
                    <a:lnTo>
                      <a:pt x="68" y="107"/>
                    </a:lnTo>
                    <a:lnTo>
                      <a:pt x="57" y="130"/>
                    </a:lnTo>
                    <a:lnTo>
                      <a:pt x="84" y="169"/>
                    </a:lnTo>
                    <a:lnTo>
                      <a:pt x="105" y="175"/>
                    </a:lnTo>
                    <a:lnTo>
                      <a:pt x="102" y="420"/>
                    </a:lnTo>
                    <a:lnTo>
                      <a:pt x="105" y="480"/>
                    </a:lnTo>
                    <a:lnTo>
                      <a:pt x="517" y="467"/>
                    </a:lnTo>
                    <a:lnTo>
                      <a:pt x="520" y="502"/>
                    </a:lnTo>
                    <a:lnTo>
                      <a:pt x="504" y="525"/>
                    </a:lnTo>
                    <a:lnTo>
                      <a:pt x="567" y="522"/>
                    </a:lnTo>
                    <a:lnTo>
                      <a:pt x="578" y="502"/>
                    </a:lnTo>
                    <a:lnTo>
                      <a:pt x="578" y="480"/>
                    </a:lnTo>
                    <a:lnTo>
                      <a:pt x="593" y="463"/>
                    </a:lnTo>
                    <a:lnTo>
                      <a:pt x="597" y="446"/>
                    </a:lnTo>
                    <a:lnTo>
                      <a:pt x="614" y="444"/>
                    </a:lnTo>
                    <a:lnTo>
                      <a:pt x="619" y="408"/>
                    </a:lnTo>
                    <a:lnTo>
                      <a:pt x="596" y="404"/>
                    </a:lnTo>
                    <a:lnTo>
                      <a:pt x="581" y="378"/>
                    </a:lnTo>
                    <a:lnTo>
                      <a:pt x="559" y="315"/>
                    </a:lnTo>
                    <a:lnTo>
                      <a:pt x="533" y="305"/>
                    </a:lnTo>
                    <a:lnTo>
                      <a:pt x="504" y="282"/>
                    </a:lnTo>
                    <a:lnTo>
                      <a:pt x="492" y="250"/>
                    </a:lnTo>
                    <a:lnTo>
                      <a:pt x="510" y="200"/>
                    </a:lnTo>
                    <a:lnTo>
                      <a:pt x="495" y="190"/>
                    </a:lnTo>
                    <a:lnTo>
                      <a:pt x="460" y="190"/>
                    </a:lnTo>
                    <a:lnTo>
                      <a:pt x="452" y="159"/>
                    </a:lnTo>
                    <a:lnTo>
                      <a:pt x="392" y="98"/>
                    </a:lnTo>
                    <a:lnTo>
                      <a:pt x="379" y="47"/>
                    </a:lnTo>
                    <a:lnTo>
                      <a:pt x="385" y="28"/>
                    </a:lnTo>
                    <a:lnTo>
                      <a:pt x="359" y="0"/>
                    </a:lnTo>
                    <a:lnTo>
                      <a:pt x="0" y="9"/>
                    </a:lnTo>
                    <a:lnTo>
                      <a:pt x="37" y="77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52"/>
              <p:cNvSpPr/>
              <p:nvPr/>
            </p:nvSpPr>
            <p:spPr>
              <a:xfrm>
                <a:off x="4693680" y="3951360"/>
                <a:ext cx="590400" cy="54576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468" h="409">
                    <a:moveTo>
                      <a:pt x="18" y="139"/>
                    </a:moveTo>
                    <a:lnTo>
                      <a:pt x="15" y="338"/>
                    </a:lnTo>
                    <a:lnTo>
                      <a:pt x="25" y="349"/>
                    </a:lnTo>
                    <a:lnTo>
                      <a:pt x="57" y="349"/>
                    </a:lnTo>
                    <a:lnTo>
                      <a:pt x="59" y="409"/>
                    </a:lnTo>
                    <a:lnTo>
                      <a:pt x="339" y="406"/>
                    </a:lnTo>
                    <a:lnTo>
                      <a:pt x="332" y="344"/>
                    </a:lnTo>
                    <a:lnTo>
                      <a:pt x="356" y="276"/>
                    </a:lnTo>
                    <a:lnTo>
                      <a:pt x="392" y="228"/>
                    </a:lnTo>
                    <a:lnTo>
                      <a:pt x="389" y="215"/>
                    </a:lnTo>
                    <a:lnTo>
                      <a:pt x="415" y="173"/>
                    </a:lnTo>
                    <a:lnTo>
                      <a:pt x="429" y="126"/>
                    </a:lnTo>
                    <a:lnTo>
                      <a:pt x="424" y="123"/>
                    </a:lnTo>
                    <a:lnTo>
                      <a:pt x="447" y="105"/>
                    </a:lnTo>
                    <a:lnTo>
                      <a:pt x="468" y="64"/>
                    </a:lnTo>
                    <a:lnTo>
                      <a:pt x="462" y="55"/>
                    </a:lnTo>
                    <a:lnTo>
                      <a:pt x="399" y="58"/>
                    </a:lnTo>
                    <a:lnTo>
                      <a:pt x="415" y="35"/>
                    </a:lnTo>
                    <a:lnTo>
                      <a:pt x="412" y="0"/>
                    </a:lnTo>
                    <a:lnTo>
                      <a:pt x="0" y="13"/>
                    </a:lnTo>
                    <a:lnTo>
                      <a:pt x="18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53"/>
              <p:cNvSpPr/>
              <p:nvPr/>
            </p:nvSpPr>
            <p:spPr>
              <a:xfrm>
                <a:off x="4768560" y="4493520"/>
                <a:ext cx="671760" cy="594720"/>
              </a:xfrm>
              <a:custGeom>
                <a:avLst/>
                <a:gdLst>
                  <a:gd name="textAreaLeft" fmla="*/ 0 w 671760"/>
                  <a:gd name="textAreaRight" fmla="*/ 672120 w 671760"/>
                  <a:gd name="textAreaTop" fmla="*/ 0 h 594720"/>
                  <a:gd name="textAreaBottom" fmla="*/ 595080 h 594720"/>
                </a:gdLst>
                <a:ahLst/>
                <a:rect l="textAreaLeft" t="textAreaTop" r="textAreaRight" b="textAreaBottom"/>
                <a:pathLst>
                  <a:path w="532" h="450">
                    <a:moveTo>
                      <a:pt x="0" y="3"/>
                    </a:moveTo>
                    <a:lnTo>
                      <a:pt x="6" y="125"/>
                    </a:lnTo>
                    <a:lnTo>
                      <a:pt x="55" y="214"/>
                    </a:lnTo>
                    <a:lnTo>
                      <a:pt x="37" y="283"/>
                    </a:lnTo>
                    <a:lnTo>
                      <a:pt x="40" y="341"/>
                    </a:lnTo>
                    <a:lnTo>
                      <a:pt x="17" y="371"/>
                    </a:lnTo>
                    <a:lnTo>
                      <a:pt x="27" y="380"/>
                    </a:lnTo>
                    <a:lnTo>
                      <a:pt x="97" y="371"/>
                    </a:lnTo>
                    <a:lnTo>
                      <a:pt x="186" y="395"/>
                    </a:lnTo>
                    <a:lnTo>
                      <a:pt x="213" y="372"/>
                    </a:lnTo>
                    <a:lnTo>
                      <a:pt x="299" y="408"/>
                    </a:lnTo>
                    <a:lnTo>
                      <a:pt x="307" y="427"/>
                    </a:lnTo>
                    <a:lnTo>
                      <a:pt x="340" y="442"/>
                    </a:lnTo>
                    <a:lnTo>
                      <a:pt x="356" y="424"/>
                    </a:lnTo>
                    <a:lnTo>
                      <a:pt x="398" y="440"/>
                    </a:lnTo>
                    <a:lnTo>
                      <a:pt x="424" y="427"/>
                    </a:lnTo>
                    <a:lnTo>
                      <a:pt x="419" y="401"/>
                    </a:lnTo>
                    <a:lnTo>
                      <a:pt x="489" y="424"/>
                    </a:lnTo>
                    <a:lnTo>
                      <a:pt x="485" y="450"/>
                    </a:lnTo>
                    <a:lnTo>
                      <a:pt x="532" y="416"/>
                    </a:lnTo>
                    <a:lnTo>
                      <a:pt x="490" y="411"/>
                    </a:lnTo>
                    <a:lnTo>
                      <a:pt x="458" y="379"/>
                    </a:lnTo>
                    <a:lnTo>
                      <a:pt x="498" y="337"/>
                    </a:lnTo>
                    <a:lnTo>
                      <a:pt x="498" y="312"/>
                    </a:lnTo>
                    <a:lnTo>
                      <a:pt x="455" y="348"/>
                    </a:lnTo>
                    <a:lnTo>
                      <a:pt x="433" y="337"/>
                    </a:lnTo>
                    <a:lnTo>
                      <a:pt x="451" y="316"/>
                    </a:lnTo>
                    <a:lnTo>
                      <a:pt x="403" y="330"/>
                    </a:lnTo>
                    <a:lnTo>
                      <a:pt x="372" y="317"/>
                    </a:lnTo>
                    <a:lnTo>
                      <a:pt x="380" y="296"/>
                    </a:lnTo>
                    <a:lnTo>
                      <a:pt x="463" y="312"/>
                    </a:lnTo>
                    <a:lnTo>
                      <a:pt x="430" y="259"/>
                    </a:lnTo>
                    <a:lnTo>
                      <a:pt x="435" y="220"/>
                    </a:lnTo>
                    <a:lnTo>
                      <a:pt x="247" y="228"/>
                    </a:lnTo>
                    <a:lnTo>
                      <a:pt x="270" y="144"/>
                    </a:lnTo>
                    <a:lnTo>
                      <a:pt x="302" y="100"/>
                    </a:lnTo>
                    <a:lnTo>
                      <a:pt x="291" y="89"/>
                    </a:lnTo>
                    <a:lnTo>
                      <a:pt x="28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54"/>
              <p:cNvSpPr/>
              <p:nvPr/>
            </p:nvSpPr>
            <p:spPr>
              <a:xfrm>
                <a:off x="5109120" y="2269440"/>
                <a:ext cx="667800" cy="351000"/>
              </a:xfrm>
              <a:custGeom>
                <a:avLst/>
                <a:gdLst>
                  <a:gd name="textAreaLeft" fmla="*/ 0 w 667800"/>
                  <a:gd name="textAreaRight" fmla="*/ 668160 w 66780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529" h="264">
                    <a:moveTo>
                      <a:pt x="191" y="173"/>
                    </a:moveTo>
                    <a:lnTo>
                      <a:pt x="199" y="190"/>
                    </a:lnTo>
                    <a:lnTo>
                      <a:pt x="217" y="194"/>
                    </a:lnTo>
                    <a:lnTo>
                      <a:pt x="243" y="264"/>
                    </a:lnTo>
                    <a:lnTo>
                      <a:pt x="290" y="168"/>
                    </a:lnTo>
                    <a:lnTo>
                      <a:pt x="314" y="172"/>
                    </a:lnTo>
                    <a:lnTo>
                      <a:pt x="343" y="157"/>
                    </a:lnTo>
                    <a:lnTo>
                      <a:pt x="395" y="157"/>
                    </a:lnTo>
                    <a:lnTo>
                      <a:pt x="413" y="134"/>
                    </a:lnTo>
                    <a:lnTo>
                      <a:pt x="512" y="138"/>
                    </a:lnTo>
                    <a:lnTo>
                      <a:pt x="529" y="123"/>
                    </a:lnTo>
                    <a:lnTo>
                      <a:pt x="499" y="86"/>
                    </a:lnTo>
                    <a:lnTo>
                      <a:pt x="437" y="88"/>
                    </a:lnTo>
                    <a:lnTo>
                      <a:pt x="390" y="81"/>
                    </a:lnTo>
                    <a:lnTo>
                      <a:pt x="329" y="81"/>
                    </a:lnTo>
                    <a:lnTo>
                      <a:pt x="308" y="112"/>
                    </a:lnTo>
                    <a:lnTo>
                      <a:pt x="277" y="94"/>
                    </a:lnTo>
                    <a:lnTo>
                      <a:pt x="244" y="97"/>
                    </a:lnTo>
                    <a:lnTo>
                      <a:pt x="231" y="65"/>
                    </a:lnTo>
                    <a:lnTo>
                      <a:pt x="163" y="60"/>
                    </a:lnTo>
                    <a:lnTo>
                      <a:pt x="155" y="47"/>
                    </a:lnTo>
                    <a:lnTo>
                      <a:pt x="186" y="15"/>
                    </a:lnTo>
                    <a:lnTo>
                      <a:pt x="210" y="11"/>
                    </a:lnTo>
                    <a:lnTo>
                      <a:pt x="186" y="0"/>
                    </a:lnTo>
                    <a:lnTo>
                      <a:pt x="147" y="10"/>
                    </a:lnTo>
                    <a:lnTo>
                      <a:pt x="83" y="75"/>
                    </a:lnTo>
                    <a:lnTo>
                      <a:pt x="50" y="81"/>
                    </a:lnTo>
                    <a:lnTo>
                      <a:pt x="0" y="113"/>
                    </a:lnTo>
                    <a:lnTo>
                      <a:pt x="191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55"/>
              <p:cNvSpPr/>
              <p:nvPr/>
            </p:nvSpPr>
            <p:spPr>
              <a:xfrm>
                <a:off x="5542200" y="2487960"/>
                <a:ext cx="452520" cy="632520"/>
              </a:xfrm>
              <a:custGeom>
                <a:avLst/>
                <a:gdLst>
                  <a:gd name="textAreaLeft" fmla="*/ 0 w 452520"/>
                  <a:gd name="textAreaRight" fmla="*/ 452880 w 452520"/>
                  <a:gd name="textAreaTop" fmla="*/ 0 h 632520"/>
                  <a:gd name="textAreaBottom" fmla="*/ 632880 h 632520"/>
                </a:gdLst>
                <a:ahLst/>
                <a:rect l="textAreaLeft" t="textAreaTop" r="textAreaRight" b="textAreaBottom"/>
                <a:pathLst>
                  <a:path w="358" h="475">
                    <a:moveTo>
                      <a:pt x="41" y="395"/>
                    </a:moveTo>
                    <a:lnTo>
                      <a:pt x="34" y="315"/>
                    </a:lnTo>
                    <a:lnTo>
                      <a:pt x="5" y="255"/>
                    </a:lnTo>
                    <a:lnTo>
                      <a:pt x="18" y="136"/>
                    </a:lnTo>
                    <a:lnTo>
                      <a:pt x="70" y="71"/>
                    </a:lnTo>
                    <a:lnTo>
                      <a:pt x="67" y="119"/>
                    </a:lnTo>
                    <a:lnTo>
                      <a:pt x="83" y="108"/>
                    </a:lnTo>
                    <a:lnTo>
                      <a:pt x="83" y="71"/>
                    </a:lnTo>
                    <a:lnTo>
                      <a:pt x="102" y="48"/>
                    </a:lnTo>
                    <a:lnTo>
                      <a:pt x="109" y="4"/>
                    </a:lnTo>
                    <a:lnTo>
                      <a:pt x="126" y="0"/>
                    </a:lnTo>
                    <a:lnTo>
                      <a:pt x="235" y="37"/>
                    </a:lnTo>
                    <a:lnTo>
                      <a:pt x="245" y="68"/>
                    </a:lnTo>
                    <a:lnTo>
                      <a:pt x="259" y="97"/>
                    </a:lnTo>
                    <a:lnTo>
                      <a:pt x="262" y="149"/>
                    </a:lnTo>
                    <a:lnTo>
                      <a:pt x="225" y="192"/>
                    </a:lnTo>
                    <a:lnTo>
                      <a:pt x="224" y="228"/>
                    </a:lnTo>
                    <a:lnTo>
                      <a:pt x="245" y="239"/>
                    </a:lnTo>
                    <a:lnTo>
                      <a:pt x="274" y="192"/>
                    </a:lnTo>
                    <a:lnTo>
                      <a:pt x="303" y="176"/>
                    </a:lnTo>
                    <a:lnTo>
                      <a:pt x="322" y="186"/>
                    </a:lnTo>
                    <a:lnTo>
                      <a:pt x="358" y="291"/>
                    </a:lnTo>
                    <a:lnTo>
                      <a:pt x="334" y="336"/>
                    </a:lnTo>
                    <a:lnTo>
                      <a:pt x="327" y="367"/>
                    </a:lnTo>
                    <a:lnTo>
                      <a:pt x="313" y="378"/>
                    </a:lnTo>
                    <a:lnTo>
                      <a:pt x="311" y="408"/>
                    </a:lnTo>
                    <a:lnTo>
                      <a:pt x="293" y="445"/>
                    </a:lnTo>
                    <a:lnTo>
                      <a:pt x="175" y="463"/>
                    </a:lnTo>
                    <a:lnTo>
                      <a:pt x="172" y="456"/>
                    </a:lnTo>
                    <a:lnTo>
                      <a:pt x="0" y="475"/>
                    </a:lnTo>
                    <a:lnTo>
                      <a:pt x="41" y="395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56"/>
              <p:cNvSpPr/>
              <p:nvPr/>
            </p:nvSpPr>
            <p:spPr>
              <a:xfrm>
                <a:off x="4857840" y="2367360"/>
                <a:ext cx="623520" cy="669240"/>
              </a:xfrm>
              <a:custGeom>
                <a:avLst/>
                <a:gdLst>
                  <a:gd name="textAreaLeft" fmla="*/ 0 w 623520"/>
                  <a:gd name="textAreaRight" fmla="*/ 623880 w 623520"/>
                  <a:gd name="textAreaTop" fmla="*/ 0 h 669240"/>
                  <a:gd name="textAreaBottom" fmla="*/ 669600 h 669240"/>
                </a:gdLst>
                <a:ahLst/>
                <a:rect l="textAreaLeft" t="textAreaTop" r="textAreaRight" b="textAreaBottom"/>
                <a:pathLst>
                  <a:path w="494" h="503">
                    <a:moveTo>
                      <a:pt x="13" y="191"/>
                    </a:moveTo>
                    <a:lnTo>
                      <a:pt x="11" y="252"/>
                    </a:lnTo>
                    <a:lnTo>
                      <a:pt x="71" y="290"/>
                    </a:lnTo>
                    <a:lnTo>
                      <a:pt x="95" y="316"/>
                    </a:lnTo>
                    <a:lnTo>
                      <a:pt x="142" y="351"/>
                    </a:lnTo>
                    <a:lnTo>
                      <a:pt x="150" y="392"/>
                    </a:lnTo>
                    <a:lnTo>
                      <a:pt x="158" y="450"/>
                    </a:lnTo>
                    <a:lnTo>
                      <a:pt x="205" y="503"/>
                    </a:lnTo>
                    <a:lnTo>
                      <a:pt x="450" y="489"/>
                    </a:lnTo>
                    <a:lnTo>
                      <a:pt x="435" y="411"/>
                    </a:lnTo>
                    <a:lnTo>
                      <a:pt x="458" y="293"/>
                    </a:lnTo>
                    <a:lnTo>
                      <a:pt x="456" y="261"/>
                    </a:lnTo>
                    <a:lnTo>
                      <a:pt x="494" y="168"/>
                    </a:lnTo>
                    <a:lnTo>
                      <a:pt x="484" y="165"/>
                    </a:lnTo>
                    <a:lnTo>
                      <a:pt x="461" y="218"/>
                    </a:lnTo>
                    <a:lnTo>
                      <a:pt x="442" y="222"/>
                    </a:lnTo>
                    <a:lnTo>
                      <a:pt x="432" y="244"/>
                    </a:lnTo>
                    <a:lnTo>
                      <a:pt x="413" y="259"/>
                    </a:lnTo>
                    <a:lnTo>
                      <a:pt x="427" y="210"/>
                    </a:lnTo>
                    <a:lnTo>
                      <a:pt x="442" y="191"/>
                    </a:lnTo>
                    <a:lnTo>
                      <a:pt x="416" y="121"/>
                    </a:lnTo>
                    <a:lnTo>
                      <a:pt x="398" y="117"/>
                    </a:lnTo>
                    <a:lnTo>
                      <a:pt x="390" y="100"/>
                    </a:lnTo>
                    <a:lnTo>
                      <a:pt x="199" y="40"/>
                    </a:lnTo>
                    <a:lnTo>
                      <a:pt x="176" y="29"/>
                    </a:lnTo>
                    <a:lnTo>
                      <a:pt x="162" y="40"/>
                    </a:lnTo>
                    <a:lnTo>
                      <a:pt x="157" y="37"/>
                    </a:lnTo>
                    <a:lnTo>
                      <a:pt x="165" y="16"/>
                    </a:lnTo>
                    <a:lnTo>
                      <a:pt x="170" y="3"/>
                    </a:lnTo>
                    <a:lnTo>
                      <a:pt x="163" y="0"/>
                    </a:lnTo>
                    <a:lnTo>
                      <a:pt x="86" y="32"/>
                    </a:lnTo>
                    <a:lnTo>
                      <a:pt x="76" y="32"/>
                    </a:lnTo>
                    <a:lnTo>
                      <a:pt x="61" y="26"/>
                    </a:lnTo>
                    <a:lnTo>
                      <a:pt x="47" y="36"/>
                    </a:lnTo>
                    <a:lnTo>
                      <a:pt x="50" y="94"/>
                    </a:lnTo>
                    <a:lnTo>
                      <a:pt x="0" y="152"/>
                    </a:lnTo>
                    <a:lnTo>
                      <a:pt x="13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57"/>
              <p:cNvSpPr/>
              <p:nvPr/>
            </p:nvSpPr>
            <p:spPr>
              <a:xfrm>
                <a:off x="5039640" y="3018600"/>
                <a:ext cx="455400" cy="852480"/>
              </a:xfrm>
              <a:custGeom>
                <a:avLst/>
                <a:gdLst>
                  <a:gd name="textAreaLeft" fmla="*/ 0 w 455400"/>
                  <a:gd name="textAreaRight" fmla="*/ 455760 w 455400"/>
                  <a:gd name="textAreaTop" fmla="*/ 0 h 852480"/>
                  <a:gd name="textAreaBottom" fmla="*/ 852840 h 852480"/>
                </a:gdLst>
                <a:ahLst/>
                <a:rect l="textAreaLeft" t="textAreaTop" r="textAreaRight" b="textAreaBottom"/>
                <a:pathLst>
                  <a:path w="364" h="641">
                    <a:moveTo>
                      <a:pt x="6" y="262"/>
                    </a:moveTo>
                    <a:lnTo>
                      <a:pt x="44" y="181"/>
                    </a:lnTo>
                    <a:lnTo>
                      <a:pt x="32" y="150"/>
                    </a:lnTo>
                    <a:lnTo>
                      <a:pt x="94" y="102"/>
                    </a:lnTo>
                    <a:lnTo>
                      <a:pt x="107" y="66"/>
                    </a:lnTo>
                    <a:lnTo>
                      <a:pt x="61" y="14"/>
                    </a:lnTo>
                    <a:lnTo>
                      <a:pt x="306" y="0"/>
                    </a:lnTo>
                    <a:lnTo>
                      <a:pt x="311" y="37"/>
                    </a:lnTo>
                    <a:lnTo>
                      <a:pt x="337" y="84"/>
                    </a:lnTo>
                    <a:lnTo>
                      <a:pt x="358" y="328"/>
                    </a:lnTo>
                    <a:lnTo>
                      <a:pt x="353" y="380"/>
                    </a:lnTo>
                    <a:lnTo>
                      <a:pt x="364" y="409"/>
                    </a:lnTo>
                    <a:lnTo>
                      <a:pt x="351" y="464"/>
                    </a:lnTo>
                    <a:lnTo>
                      <a:pt x="332" y="489"/>
                    </a:lnTo>
                    <a:lnTo>
                      <a:pt x="322" y="527"/>
                    </a:lnTo>
                    <a:lnTo>
                      <a:pt x="333" y="542"/>
                    </a:lnTo>
                    <a:lnTo>
                      <a:pt x="324" y="563"/>
                    </a:lnTo>
                    <a:lnTo>
                      <a:pt x="329" y="573"/>
                    </a:lnTo>
                    <a:lnTo>
                      <a:pt x="299" y="584"/>
                    </a:lnTo>
                    <a:lnTo>
                      <a:pt x="293" y="625"/>
                    </a:lnTo>
                    <a:lnTo>
                      <a:pt x="251" y="612"/>
                    </a:lnTo>
                    <a:lnTo>
                      <a:pt x="230" y="641"/>
                    </a:lnTo>
                    <a:lnTo>
                      <a:pt x="217" y="638"/>
                    </a:lnTo>
                    <a:lnTo>
                      <a:pt x="202" y="612"/>
                    </a:lnTo>
                    <a:lnTo>
                      <a:pt x="180" y="549"/>
                    </a:lnTo>
                    <a:lnTo>
                      <a:pt x="125" y="516"/>
                    </a:lnTo>
                    <a:lnTo>
                      <a:pt x="113" y="484"/>
                    </a:lnTo>
                    <a:lnTo>
                      <a:pt x="131" y="434"/>
                    </a:lnTo>
                    <a:lnTo>
                      <a:pt x="116" y="424"/>
                    </a:lnTo>
                    <a:lnTo>
                      <a:pt x="81" y="424"/>
                    </a:lnTo>
                    <a:lnTo>
                      <a:pt x="73" y="393"/>
                    </a:lnTo>
                    <a:lnTo>
                      <a:pt x="13" y="332"/>
                    </a:lnTo>
                    <a:lnTo>
                      <a:pt x="0" y="281"/>
                    </a:lnTo>
                    <a:lnTo>
                      <a:pt x="6" y="262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58"/>
              <p:cNvSpPr/>
              <p:nvPr/>
            </p:nvSpPr>
            <p:spPr>
              <a:xfrm>
                <a:off x="5447160" y="3095640"/>
                <a:ext cx="363240" cy="6411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641160"/>
                  <a:gd name="textAreaBottom" fmla="*/ 641520 h 641160"/>
                </a:gdLst>
                <a:ahLst/>
                <a:rect l="textAreaLeft" t="textAreaTop" r="textAreaRight" b="textAreaBottom"/>
                <a:pathLst>
                  <a:path w="288" h="481">
                    <a:moveTo>
                      <a:pt x="10" y="481"/>
                    </a:moveTo>
                    <a:lnTo>
                      <a:pt x="18" y="468"/>
                    </a:lnTo>
                    <a:lnTo>
                      <a:pt x="73" y="465"/>
                    </a:lnTo>
                    <a:lnTo>
                      <a:pt x="118" y="450"/>
                    </a:lnTo>
                    <a:lnTo>
                      <a:pt x="162" y="423"/>
                    </a:lnTo>
                    <a:lnTo>
                      <a:pt x="199" y="421"/>
                    </a:lnTo>
                    <a:lnTo>
                      <a:pt x="243" y="351"/>
                    </a:lnTo>
                    <a:lnTo>
                      <a:pt x="256" y="356"/>
                    </a:lnTo>
                    <a:lnTo>
                      <a:pt x="288" y="332"/>
                    </a:lnTo>
                    <a:lnTo>
                      <a:pt x="280" y="314"/>
                    </a:lnTo>
                    <a:lnTo>
                      <a:pt x="283" y="303"/>
                    </a:lnTo>
                    <a:lnTo>
                      <a:pt x="251" y="7"/>
                    </a:lnTo>
                    <a:lnTo>
                      <a:pt x="248" y="0"/>
                    </a:lnTo>
                    <a:lnTo>
                      <a:pt x="76" y="19"/>
                    </a:lnTo>
                    <a:lnTo>
                      <a:pt x="44" y="36"/>
                    </a:lnTo>
                    <a:lnTo>
                      <a:pt x="15" y="26"/>
                    </a:lnTo>
                    <a:lnTo>
                      <a:pt x="36" y="270"/>
                    </a:lnTo>
                    <a:lnTo>
                      <a:pt x="31" y="322"/>
                    </a:lnTo>
                    <a:lnTo>
                      <a:pt x="42" y="351"/>
                    </a:lnTo>
                    <a:lnTo>
                      <a:pt x="29" y="406"/>
                    </a:lnTo>
                    <a:lnTo>
                      <a:pt x="10" y="431"/>
                    </a:lnTo>
                    <a:lnTo>
                      <a:pt x="0" y="469"/>
                    </a:lnTo>
                    <a:lnTo>
                      <a:pt x="10" y="481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9"/>
              <p:cNvSpPr/>
              <p:nvPr/>
            </p:nvSpPr>
            <p:spPr>
              <a:xfrm>
                <a:off x="5309640" y="3500640"/>
                <a:ext cx="852120" cy="446400"/>
              </a:xfrm>
              <a:custGeom>
                <a:avLst/>
                <a:gdLst>
                  <a:gd name="textAreaLeft" fmla="*/ 0 w 852120"/>
                  <a:gd name="textAreaRight" fmla="*/ 852480 w 852120"/>
                  <a:gd name="textAreaTop" fmla="*/ 0 h 446400"/>
                  <a:gd name="textAreaBottom" fmla="*/ 446760 h 446400"/>
                </a:gdLst>
                <a:ahLst/>
                <a:rect l="textAreaLeft" t="textAreaTop" r="textAreaRight" b="textAreaBottom"/>
                <a:pathLst>
                  <a:path w="675" h="336">
                    <a:moveTo>
                      <a:pt x="4" y="319"/>
                    </a:moveTo>
                    <a:lnTo>
                      <a:pt x="21" y="317"/>
                    </a:lnTo>
                    <a:lnTo>
                      <a:pt x="26" y="281"/>
                    </a:lnTo>
                    <a:lnTo>
                      <a:pt x="16" y="280"/>
                    </a:lnTo>
                    <a:lnTo>
                      <a:pt x="37" y="251"/>
                    </a:lnTo>
                    <a:lnTo>
                      <a:pt x="79" y="264"/>
                    </a:lnTo>
                    <a:lnTo>
                      <a:pt x="85" y="223"/>
                    </a:lnTo>
                    <a:lnTo>
                      <a:pt x="115" y="212"/>
                    </a:lnTo>
                    <a:lnTo>
                      <a:pt x="110" y="202"/>
                    </a:lnTo>
                    <a:lnTo>
                      <a:pt x="126" y="165"/>
                    </a:lnTo>
                    <a:lnTo>
                      <a:pt x="181" y="162"/>
                    </a:lnTo>
                    <a:lnTo>
                      <a:pt x="226" y="147"/>
                    </a:lnTo>
                    <a:lnTo>
                      <a:pt x="255" y="128"/>
                    </a:lnTo>
                    <a:lnTo>
                      <a:pt x="270" y="120"/>
                    </a:lnTo>
                    <a:lnTo>
                      <a:pt x="307" y="118"/>
                    </a:lnTo>
                    <a:lnTo>
                      <a:pt x="351" y="48"/>
                    </a:lnTo>
                    <a:lnTo>
                      <a:pt x="364" y="53"/>
                    </a:lnTo>
                    <a:lnTo>
                      <a:pt x="396" y="29"/>
                    </a:lnTo>
                    <a:lnTo>
                      <a:pt x="388" y="11"/>
                    </a:lnTo>
                    <a:lnTo>
                      <a:pt x="391" y="0"/>
                    </a:lnTo>
                    <a:lnTo>
                      <a:pt x="421" y="0"/>
                    </a:lnTo>
                    <a:lnTo>
                      <a:pt x="440" y="6"/>
                    </a:lnTo>
                    <a:lnTo>
                      <a:pt x="498" y="40"/>
                    </a:lnTo>
                    <a:lnTo>
                      <a:pt x="540" y="39"/>
                    </a:lnTo>
                    <a:lnTo>
                      <a:pt x="560" y="26"/>
                    </a:lnTo>
                    <a:lnTo>
                      <a:pt x="605" y="55"/>
                    </a:lnTo>
                    <a:lnTo>
                      <a:pt x="621" y="110"/>
                    </a:lnTo>
                    <a:lnTo>
                      <a:pt x="675" y="149"/>
                    </a:lnTo>
                    <a:lnTo>
                      <a:pt x="649" y="178"/>
                    </a:lnTo>
                    <a:lnTo>
                      <a:pt x="602" y="223"/>
                    </a:lnTo>
                    <a:lnTo>
                      <a:pt x="602" y="233"/>
                    </a:lnTo>
                    <a:lnTo>
                      <a:pt x="536" y="275"/>
                    </a:lnTo>
                    <a:lnTo>
                      <a:pt x="163" y="309"/>
                    </a:lnTo>
                    <a:lnTo>
                      <a:pt x="123" y="307"/>
                    </a:lnTo>
                    <a:lnTo>
                      <a:pt x="124" y="327"/>
                    </a:lnTo>
                    <a:lnTo>
                      <a:pt x="0" y="336"/>
                    </a:lnTo>
                    <a:lnTo>
                      <a:pt x="4" y="319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0"/>
              <p:cNvSpPr/>
              <p:nvPr/>
            </p:nvSpPr>
            <p:spPr>
              <a:xfrm>
                <a:off x="5218920" y="3834000"/>
                <a:ext cx="1004400" cy="348480"/>
              </a:xfrm>
              <a:custGeom>
                <a:avLst/>
                <a:gdLst>
                  <a:gd name="textAreaLeft" fmla="*/ 0 w 1004400"/>
                  <a:gd name="textAreaRight" fmla="*/ 1004760 w 1004400"/>
                  <a:gd name="textAreaTop" fmla="*/ 0 h 348480"/>
                  <a:gd name="textAreaBottom" fmla="*/ 348840 h 348480"/>
                </a:gdLst>
                <a:ahLst/>
                <a:rect l="textAreaLeft" t="textAreaTop" r="textAreaRight" b="textAreaBottom"/>
                <a:pathLst>
                  <a:path w="793" h="262">
                    <a:moveTo>
                      <a:pt x="14" y="215"/>
                    </a:moveTo>
                    <a:lnTo>
                      <a:pt x="9" y="212"/>
                    </a:lnTo>
                    <a:lnTo>
                      <a:pt x="32" y="194"/>
                    </a:lnTo>
                    <a:lnTo>
                      <a:pt x="53" y="153"/>
                    </a:lnTo>
                    <a:lnTo>
                      <a:pt x="47" y="144"/>
                    </a:lnTo>
                    <a:lnTo>
                      <a:pt x="58" y="124"/>
                    </a:lnTo>
                    <a:lnTo>
                      <a:pt x="58" y="102"/>
                    </a:lnTo>
                    <a:lnTo>
                      <a:pt x="73" y="85"/>
                    </a:lnTo>
                    <a:lnTo>
                      <a:pt x="197" y="76"/>
                    </a:lnTo>
                    <a:lnTo>
                      <a:pt x="196" y="56"/>
                    </a:lnTo>
                    <a:lnTo>
                      <a:pt x="236" y="58"/>
                    </a:lnTo>
                    <a:lnTo>
                      <a:pt x="609" y="24"/>
                    </a:lnTo>
                    <a:lnTo>
                      <a:pt x="793" y="0"/>
                    </a:lnTo>
                    <a:lnTo>
                      <a:pt x="761" y="63"/>
                    </a:lnTo>
                    <a:lnTo>
                      <a:pt x="709" y="74"/>
                    </a:lnTo>
                    <a:lnTo>
                      <a:pt x="686" y="105"/>
                    </a:lnTo>
                    <a:lnTo>
                      <a:pt x="596" y="158"/>
                    </a:lnTo>
                    <a:lnTo>
                      <a:pt x="591" y="178"/>
                    </a:lnTo>
                    <a:lnTo>
                      <a:pt x="568" y="189"/>
                    </a:lnTo>
                    <a:lnTo>
                      <a:pt x="568" y="215"/>
                    </a:lnTo>
                    <a:lnTo>
                      <a:pt x="445" y="228"/>
                    </a:lnTo>
                    <a:lnTo>
                      <a:pt x="199" y="251"/>
                    </a:lnTo>
                    <a:lnTo>
                      <a:pt x="0" y="262"/>
                    </a:lnTo>
                    <a:lnTo>
                      <a:pt x="14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61"/>
              <p:cNvSpPr/>
              <p:nvPr/>
            </p:nvSpPr>
            <p:spPr>
              <a:xfrm>
                <a:off x="5079960" y="4168440"/>
                <a:ext cx="415080" cy="740520"/>
              </a:xfrm>
              <a:custGeom>
                <a:avLst/>
                <a:gdLst>
                  <a:gd name="textAreaLeft" fmla="*/ 0 w 415080"/>
                  <a:gd name="textAreaRight" fmla="*/ 415440 w 415080"/>
                  <a:gd name="textAreaTop" fmla="*/ 0 h 740520"/>
                  <a:gd name="textAreaBottom" fmla="*/ 740880 h 740520"/>
                </a:gdLst>
                <a:ahLst/>
                <a:rect l="textAreaLeft" t="textAreaTop" r="textAreaRight" b="textAreaBottom"/>
                <a:pathLst>
                  <a:path w="331" h="556">
                    <a:moveTo>
                      <a:pt x="23" y="388"/>
                    </a:moveTo>
                    <a:lnTo>
                      <a:pt x="55" y="344"/>
                    </a:lnTo>
                    <a:lnTo>
                      <a:pt x="44" y="333"/>
                    </a:lnTo>
                    <a:lnTo>
                      <a:pt x="33" y="244"/>
                    </a:lnTo>
                    <a:lnTo>
                      <a:pt x="26" y="182"/>
                    </a:lnTo>
                    <a:lnTo>
                      <a:pt x="50" y="114"/>
                    </a:lnTo>
                    <a:lnTo>
                      <a:pt x="86" y="66"/>
                    </a:lnTo>
                    <a:lnTo>
                      <a:pt x="83" y="53"/>
                    </a:lnTo>
                    <a:lnTo>
                      <a:pt x="109" y="11"/>
                    </a:lnTo>
                    <a:lnTo>
                      <a:pt x="308" y="0"/>
                    </a:lnTo>
                    <a:lnTo>
                      <a:pt x="318" y="9"/>
                    </a:lnTo>
                    <a:lnTo>
                      <a:pt x="308" y="356"/>
                    </a:lnTo>
                    <a:lnTo>
                      <a:pt x="331" y="522"/>
                    </a:lnTo>
                    <a:lnTo>
                      <a:pt x="322" y="530"/>
                    </a:lnTo>
                    <a:lnTo>
                      <a:pt x="279" y="521"/>
                    </a:lnTo>
                    <a:lnTo>
                      <a:pt x="216" y="556"/>
                    </a:lnTo>
                    <a:lnTo>
                      <a:pt x="183" y="503"/>
                    </a:lnTo>
                    <a:lnTo>
                      <a:pt x="188" y="464"/>
                    </a:lnTo>
                    <a:lnTo>
                      <a:pt x="0" y="472"/>
                    </a:lnTo>
                    <a:lnTo>
                      <a:pt x="23" y="388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62"/>
              <p:cNvSpPr/>
              <p:nvPr/>
            </p:nvSpPr>
            <p:spPr>
              <a:xfrm>
                <a:off x="5468760" y="4136400"/>
                <a:ext cx="447120" cy="74880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748800"/>
                  <a:gd name="textAreaBottom" fmla="*/ 749160 h 748800"/>
                </a:gdLst>
                <a:ahLst/>
                <a:rect l="textAreaLeft" t="textAreaTop" r="textAreaRight" b="textAreaBottom"/>
                <a:pathLst>
                  <a:path w="354" h="563">
                    <a:moveTo>
                      <a:pt x="10" y="32"/>
                    </a:moveTo>
                    <a:lnTo>
                      <a:pt x="0" y="379"/>
                    </a:lnTo>
                    <a:lnTo>
                      <a:pt x="23" y="545"/>
                    </a:lnTo>
                    <a:lnTo>
                      <a:pt x="47" y="552"/>
                    </a:lnTo>
                    <a:lnTo>
                      <a:pt x="68" y="539"/>
                    </a:lnTo>
                    <a:lnTo>
                      <a:pt x="82" y="552"/>
                    </a:lnTo>
                    <a:lnTo>
                      <a:pt x="61" y="563"/>
                    </a:lnTo>
                    <a:lnTo>
                      <a:pt x="112" y="550"/>
                    </a:lnTo>
                    <a:lnTo>
                      <a:pt x="121" y="534"/>
                    </a:lnTo>
                    <a:lnTo>
                      <a:pt x="115" y="526"/>
                    </a:lnTo>
                    <a:lnTo>
                      <a:pt x="118" y="511"/>
                    </a:lnTo>
                    <a:lnTo>
                      <a:pt x="94" y="490"/>
                    </a:lnTo>
                    <a:lnTo>
                      <a:pt x="95" y="471"/>
                    </a:lnTo>
                    <a:lnTo>
                      <a:pt x="354" y="448"/>
                    </a:lnTo>
                    <a:lnTo>
                      <a:pt x="332" y="361"/>
                    </a:lnTo>
                    <a:lnTo>
                      <a:pt x="346" y="307"/>
                    </a:lnTo>
                    <a:lnTo>
                      <a:pt x="312" y="238"/>
                    </a:lnTo>
                    <a:lnTo>
                      <a:pt x="246" y="0"/>
                    </a:lnTo>
                    <a:lnTo>
                      <a:pt x="0" y="23"/>
                    </a:lnTo>
                    <a:lnTo>
                      <a:pt x="1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63"/>
              <p:cNvSpPr/>
              <p:nvPr/>
            </p:nvSpPr>
            <p:spPr>
              <a:xfrm>
                <a:off x="5780160" y="4100040"/>
                <a:ext cx="631800" cy="678960"/>
              </a:xfrm>
              <a:custGeom>
                <a:avLst/>
                <a:gdLst>
                  <a:gd name="textAreaLeft" fmla="*/ 0 w 631800"/>
                  <a:gd name="textAreaRight" fmla="*/ 632160 w 631800"/>
                  <a:gd name="textAreaTop" fmla="*/ 0 h 678960"/>
                  <a:gd name="textAreaBottom" fmla="*/ 679320 h 678960"/>
                </a:gdLst>
                <a:ahLst/>
                <a:rect l="textAreaLeft" t="textAreaTop" r="textAreaRight" b="textAreaBottom"/>
                <a:pathLst>
                  <a:path w="500" h="512">
                    <a:moveTo>
                      <a:pt x="66" y="266"/>
                    </a:moveTo>
                    <a:lnTo>
                      <a:pt x="100" y="335"/>
                    </a:lnTo>
                    <a:lnTo>
                      <a:pt x="86" y="389"/>
                    </a:lnTo>
                    <a:lnTo>
                      <a:pt x="108" y="476"/>
                    </a:lnTo>
                    <a:lnTo>
                      <a:pt x="126" y="507"/>
                    </a:lnTo>
                    <a:lnTo>
                      <a:pt x="395" y="491"/>
                    </a:lnTo>
                    <a:lnTo>
                      <a:pt x="398" y="510"/>
                    </a:lnTo>
                    <a:lnTo>
                      <a:pt x="414" y="512"/>
                    </a:lnTo>
                    <a:lnTo>
                      <a:pt x="408" y="470"/>
                    </a:lnTo>
                    <a:lnTo>
                      <a:pt x="419" y="458"/>
                    </a:lnTo>
                    <a:lnTo>
                      <a:pt x="458" y="465"/>
                    </a:lnTo>
                    <a:lnTo>
                      <a:pt x="465" y="436"/>
                    </a:lnTo>
                    <a:lnTo>
                      <a:pt x="460" y="395"/>
                    </a:lnTo>
                    <a:lnTo>
                      <a:pt x="476" y="384"/>
                    </a:lnTo>
                    <a:lnTo>
                      <a:pt x="500" y="306"/>
                    </a:lnTo>
                    <a:lnTo>
                      <a:pt x="482" y="303"/>
                    </a:lnTo>
                    <a:lnTo>
                      <a:pt x="418" y="203"/>
                    </a:lnTo>
                    <a:lnTo>
                      <a:pt x="278" y="76"/>
                    </a:lnTo>
                    <a:lnTo>
                      <a:pt x="217" y="38"/>
                    </a:lnTo>
                    <a:lnTo>
                      <a:pt x="236" y="0"/>
                    </a:lnTo>
                    <a:lnTo>
                      <a:pt x="123" y="15"/>
                    </a:lnTo>
                    <a:lnTo>
                      <a:pt x="0" y="28"/>
                    </a:lnTo>
                    <a:lnTo>
                      <a:pt x="66" y="266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64"/>
              <p:cNvSpPr/>
              <p:nvPr/>
            </p:nvSpPr>
            <p:spPr>
              <a:xfrm>
                <a:off x="5587560" y="4709160"/>
                <a:ext cx="1064520" cy="831600"/>
              </a:xfrm>
              <a:custGeom>
                <a:avLst/>
                <a:gdLst>
                  <a:gd name="textAreaLeft" fmla="*/ 0 w 1064520"/>
                  <a:gd name="textAreaRight" fmla="*/ 1064880 w 1064520"/>
                  <a:gd name="textAreaTop" fmla="*/ 0 h 831600"/>
                  <a:gd name="textAreaBottom" fmla="*/ 831960 h 831600"/>
                </a:gdLst>
                <a:ahLst/>
                <a:rect l="textAreaLeft" t="textAreaTop" r="textAreaRight" b="textAreaBottom"/>
                <a:pathLst>
                  <a:path w="845" h="622">
                    <a:moveTo>
                      <a:pt x="0" y="60"/>
                    </a:moveTo>
                    <a:lnTo>
                      <a:pt x="24" y="81"/>
                    </a:lnTo>
                    <a:lnTo>
                      <a:pt x="21" y="96"/>
                    </a:lnTo>
                    <a:lnTo>
                      <a:pt x="27" y="104"/>
                    </a:lnTo>
                    <a:lnTo>
                      <a:pt x="18" y="120"/>
                    </a:lnTo>
                    <a:lnTo>
                      <a:pt x="116" y="86"/>
                    </a:lnTo>
                    <a:lnTo>
                      <a:pt x="243" y="165"/>
                    </a:lnTo>
                    <a:lnTo>
                      <a:pt x="346" y="110"/>
                    </a:lnTo>
                    <a:lnTo>
                      <a:pt x="406" y="123"/>
                    </a:lnTo>
                    <a:lnTo>
                      <a:pt x="482" y="198"/>
                    </a:lnTo>
                    <a:lnTo>
                      <a:pt x="508" y="198"/>
                    </a:lnTo>
                    <a:lnTo>
                      <a:pt x="534" y="250"/>
                    </a:lnTo>
                    <a:lnTo>
                      <a:pt x="528" y="348"/>
                    </a:lnTo>
                    <a:lnTo>
                      <a:pt x="545" y="360"/>
                    </a:lnTo>
                    <a:lnTo>
                      <a:pt x="549" y="342"/>
                    </a:lnTo>
                    <a:lnTo>
                      <a:pt x="573" y="342"/>
                    </a:lnTo>
                    <a:lnTo>
                      <a:pt x="549" y="389"/>
                    </a:lnTo>
                    <a:lnTo>
                      <a:pt x="613" y="454"/>
                    </a:lnTo>
                    <a:lnTo>
                      <a:pt x="623" y="434"/>
                    </a:lnTo>
                    <a:lnTo>
                      <a:pt x="628" y="481"/>
                    </a:lnTo>
                    <a:lnTo>
                      <a:pt x="649" y="491"/>
                    </a:lnTo>
                    <a:lnTo>
                      <a:pt x="672" y="546"/>
                    </a:lnTo>
                    <a:lnTo>
                      <a:pt x="693" y="546"/>
                    </a:lnTo>
                    <a:lnTo>
                      <a:pt x="743" y="598"/>
                    </a:lnTo>
                    <a:lnTo>
                      <a:pt x="770" y="601"/>
                    </a:lnTo>
                    <a:lnTo>
                      <a:pt x="770" y="609"/>
                    </a:lnTo>
                    <a:lnTo>
                      <a:pt x="751" y="622"/>
                    </a:lnTo>
                    <a:lnTo>
                      <a:pt x="795" y="617"/>
                    </a:lnTo>
                    <a:lnTo>
                      <a:pt x="822" y="604"/>
                    </a:lnTo>
                    <a:lnTo>
                      <a:pt x="837" y="533"/>
                    </a:lnTo>
                    <a:lnTo>
                      <a:pt x="845" y="536"/>
                    </a:lnTo>
                    <a:lnTo>
                      <a:pt x="837" y="436"/>
                    </a:lnTo>
                    <a:lnTo>
                      <a:pt x="827" y="407"/>
                    </a:lnTo>
                    <a:lnTo>
                      <a:pt x="736" y="261"/>
                    </a:lnTo>
                    <a:lnTo>
                      <a:pt x="665" y="123"/>
                    </a:lnTo>
                    <a:lnTo>
                      <a:pt x="622" y="10"/>
                    </a:lnTo>
                    <a:lnTo>
                      <a:pt x="610" y="7"/>
                    </a:lnTo>
                    <a:lnTo>
                      <a:pt x="571" y="0"/>
                    </a:lnTo>
                    <a:lnTo>
                      <a:pt x="560" y="12"/>
                    </a:lnTo>
                    <a:lnTo>
                      <a:pt x="566" y="54"/>
                    </a:lnTo>
                    <a:lnTo>
                      <a:pt x="550" y="52"/>
                    </a:lnTo>
                    <a:lnTo>
                      <a:pt x="547" y="33"/>
                    </a:lnTo>
                    <a:lnTo>
                      <a:pt x="278" y="49"/>
                    </a:lnTo>
                    <a:lnTo>
                      <a:pt x="260" y="18"/>
                    </a:lnTo>
                    <a:lnTo>
                      <a:pt x="1" y="4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65"/>
              <p:cNvSpPr/>
              <p:nvPr/>
            </p:nvSpPr>
            <p:spPr>
              <a:xfrm>
                <a:off x="5763960" y="3002040"/>
                <a:ext cx="491400" cy="570960"/>
              </a:xfrm>
              <a:custGeom>
                <a:avLst/>
                <a:gdLst>
                  <a:gd name="textAreaLeft" fmla="*/ 0 w 491400"/>
                  <a:gd name="textAreaRight" fmla="*/ 491760 w 491400"/>
                  <a:gd name="textAreaTop" fmla="*/ 0 h 570960"/>
                  <a:gd name="textAreaBottom" fmla="*/ 571320 h 570960"/>
                </a:gdLst>
                <a:ahLst/>
                <a:rect l="textAreaLeft" t="textAreaTop" r="textAreaRight" b="textAreaBottom"/>
                <a:pathLst>
                  <a:path w="390" h="429">
                    <a:moveTo>
                      <a:pt x="0" y="78"/>
                    </a:moveTo>
                    <a:lnTo>
                      <a:pt x="32" y="374"/>
                    </a:lnTo>
                    <a:lnTo>
                      <a:pt x="81" y="380"/>
                    </a:lnTo>
                    <a:lnTo>
                      <a:pt x="139" y="414"/>
                    </a:lnTo>
                    <a:lnTo>
                      <a:pt x="181" y="413"/>
                    </a:lnTo>
                    <a:lnTo>
                      <a:pt x="201" y="400"/>
                    </a:lnTo>
                    <a:lnTo>
                      <a:pt x="246" y="429"/>
                    </a:lnTo>
                    <a:lnTo>
                      <a:pt x="275" y="403"/>
                    </a:lnTo>
                    <a:lnTo>
                      <a:pt x="280" y="358"/>
                    </a:lnTo>
                    <a:lnTo>
                      <a:pt x="300" y="366"/>
                    </a:lnTo>
                    <a:lnTo>
                      <a:pt x="308" y="328"/>
                    </a:lnTo>
                    <a:lnTo>
                      <a:pt x="374" y="272"/>
                    </a:lnTo>
                    <a:lnTo>
                      <a:pt x="385" y="178"/>
                    </a:lnTo>
                    <a:lnTo>
                      <a:pt x="377" y="158"/>
                    </a:lnTo>
                    <a:lnTo>
                      <a:pt x="390" y="149"/>
                    </a:lnTo>
                    <a:lnTo>
                      <a:pt x="366" y="0"/>
                    </a:lnTo>
                    <a:lnTo>
                      <a:pt x="300" y="34"/>
                    </a:lnTo>
                    <a:lnTo>
                      <a:pt x="266" y="69"/>
                    </a:lnTo>
                    <a:lnTo>
                      <a:pt x="241" y="71"/>
                    </a:lnTo>
                    <a:lnTo>
                      <a:pt x="204" y="90"/>
                    </a:lnTo>
                    <a:lnTo>
                      <a:pt x="118" y="6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66"/>
              <p:cNvSpPr/>
              <p:nvPr/>
            </p:nvSpPr>
            <p:spPr>
              <a:xfrm>
                <a:off x="6073920" y="3199320"/>
                <a:ext cx="528840" cy="537480"/>
              </a:xfrm>
              <a:custGeom>
                <a:avLst/>
                <a:gdLst>
                  <a:gd name="textAreaLeft" fmla="*/ 0 w 528840"/>
                  <a:gd name="textAreaRight" fmla="*/ 529200 w 528840"/>
                  <a:gd name="textAreaTop" fmla="*/ 0 h 537480"/>
                  <a:gd name="textAreaBottom" fmla="*/ 537840 h 537480"/>
                </a:gdLst>
                <a:ahLst/>
                <a:rect l="textAreaLeft" t="textAreaTop" r="textAreaRight" b="textAreaBottom"/>
                <a:pathLst>
                  <a:path w="418" h="403">
                    <a:moveTo>
                      <a:pt x="0" y="280"/>
                    </a:moveTo>
                    <a:lnTo>
                      <a:pt x="16" y="335"/>
                    </a:lnTo>
                    <a:lnTo>
                      <a:pt x="70" y="374"/>
                    </a:lnTo>
                    <a:lnTo>
                      <a:pt x="96" y="403"/>
                    </a:lnTo>
                    <a:lnTo>
                      <a:pt x="175" y="372"/>
                    </a:lnTo>
                    <a:lnTo>
                      <a:pt x="211" y="366"/>
                    </a:lnTo>
                    <a:lnTo>
                      <a:pt x="230" y="343"/>
                    </a:lnTo>
                    <a:lnTo>
                      <a:pt x="261" y="222"/>
                    </a:lnTo>
                    <a:lnTo>
                      <a:pt x="295" y="236"/>
                    </a:lnTo>
                    <a:lnTo>
                      <a:pt x="360" y="103"/>
                    </a:lnTo>
                    <a:lnTo>
                      <a:pt x="410" y="132"/>
                    </a:lnTo>
                    <a:lnTo>
                      <a:pt x="418" y="108"/>
                    </a:lnTo>
                    <a:lnTo>
                      <a:pt x="382" y="81"/>
                    </a:lnTo>
                    <a:lnTo>
                      <a:pt x="355" y="84"/>
                    </a:lnTo>
                    <a:lnTo>
                      <a:pt x="345" y="98"/>
                    </a:lnTo>
                    <a:lnTo>
                      <a:pt x="295" y="113"/>
                    </a:lnTo>
                    <a:lnTo>
                      <a:pt x="262" y="149"/>
                    </a:lnTo>
                    <a:lnTo>
                      <a:pt x="251" y="90"/>
                    </a:lnTo>
                    <a:lnTo>
                      <a:pt x="162" y="107"/>
                    </a:lnTo>
                    <a:lnTo>
                      <a:pt x="144" y="0"/>
                    </a:lnTo>
                    <a:lnTo>
                      <a:pt x="131" y="9"/>
                    </a:lnTo>
                    <a:lnTo>
                      <a:pt x="139" y="29"/>
                    </a:lnTo>
                    <a:lnTo>
                      <a:pt x="128" y="123"/>
                    </a:lnTo>
                    <a:lnTo>
                      <a:pt x="62" y="179"/>
                    </a:lnTo>
                    <a:lnTo>
                      <a:pt x="54" y="217"/>
                    </a:lnTo>
                    <a:lnTo>
                      <a:pt x="34" y="209"/>
                    </a:lnTo>
                    <a:lnTo>
                      <a:pt x="29" y="254"/>
                    </a:lnTo>
                    <a:lnTo>
                      <a:pt x="0" y="280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67"/>
              <p:cNvSpPr/>
              <p:nvPr/>
            </p:nvSpPr>
            <p:spPr>
              <a:xfrm>
                <a:off x="6390720" y="3241440"/>
                <a:ext cx="531360" cy="270000"/>
              </a:xfrm>
              <a:custGeom>
                <a:avLst/>
                <a:gdLst>
                  <a:gd name="textAreaLeft" fmla="*/ 0 w 531360"/>
                  <a:gd name="textAreaRight" fmla="*/ 531720 w 53136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424" h="203">
                    <a:moveTo>
                      <a:pt x="0" y="59"/>
                    </a:moveTo>
                    <a:lnTo>
                      <a:pt x="11" y="118"/>
                    </a:lnTo>
                    <a:lnTo>
                      <a:pt x="44" y="82"/>
                    </a:lnTo>
                    <a:lnTo>
                      <a:pt x="94" y="67"/>
                    </a:lnTo>
                    <a:lnTo>
                      <a:pt x="104" y="53"/>
                    </a:lnTo>
                    <a:lnTo>
                      <a:pt x="131" y="50"/>
                    </a:lnTo>
                    <a:lnTo>
                      <a:pt x="167" y="77"/>
                    </a:lnTo>
                    <a:lnTo>
                      <a:pt x="191" y="84"/>
                    </a:lnTo>
                    <a:lnTo>
                      <a:pt x="236" y="126"/>
                    </a:lnTo>
                    <a:lnTo>
                      <a:pt x="220" y="165"/>
                    </a:lnTo>
                    <a:lnTo>
                      <a:pt x="227" y="182"/>
                    </a:lnTo>
                    <a:lnTo>
                      <a:pt x="246" y="174"/>
                    </a:lnTo>
                    <a:lnTo>
                      <a:pt x="264" y="174"/>
                    </a:lnTo>
                    <a:lnTo>
                      <a:pt x="274" y="186"/>
                    </a:lnTo>
                    <a:lnTo>
                      <a:pt x="295" y="186"/>
                    </a:lnTo>
                    <a:lnTo>
                      <a:pt x="303" y="182"/>
                    </a:lnTo>
                    <a:lnTo>
                      <a:pt x="288" y="147"/>
                    </a:lnTo>
                    <a:lnTo>
                      <a:pt x="287" y="82"/>
                    </a:lnTo>
                    <a:lnTo>
                      <a:pt x="269" y="72"/>
                    </a:lnTo>
                    <a:lnTo>
                      <a:pt x="303" y="42"/>
                    </a:lnTo>
                    <a:lnTo>
                      <a:pt x="304" y="24"/>
                    </a:lnTo>
                    <a:lnTo>
                      <a:pt x="324" y="25"/>
                    </a:lnTo>
                    <a:lnTo>
                      <a:pt x="300" y="66"/>
                    </a:lnTo>
                    <a:lnTo>
                      <a:pt x="314" y="113"/>
                    </a:lnTo>
                    <a:lnTo>
                      <a:pt x="321" y="127"/>
                    </a:lnTo>
                    <a:lnTo>
                      <a:pt x="330" y="134"/>
                    </a:lnTo>
                    <a:lnTo>
                      <a:pt x="311" y="132"/>
                    </a:lnTo>
                    <a:lnTo>
                      <a:pt x="317" y="161"/>
                    </a:lnTo>
                    <a:lnTo>
                      <a:pt x="351" y="182"/>
                    </a:lnTo>
                    <a:lnTo>
                      <a:pt x="360" y="186"/>
                    </a:lnTo>
                    <a:lnTo>
                      <a:pt x="369" y="186"/>
                    </a:lnTo>
                    <a:lnTo>
                      <a:pt x="364" y="203"/>
                    </a:lnTo>
                    <a:lnTo>
                      <a:pt x="406" y="182"/>
                    </a:lnTo>
                    <a:lnTo>
                      <a:pt x="415" y="157"/>
                    </a:lnTo>
                    <a:lnTo>
                      <a:pt x="424" y="129"/>
                    </a:lnTo>
                    <a:lnTo>
                      <a:pt x="364" y="140"/>
                    </a:lnTo>
                    <a:lnTo>
                      <a:pt x="326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68"/>
              <p:cNvSpPr/>
              <p:nvPr/>
            </p:nvSpPr>
            <p:spPr>
              <a:xfrm>
                <a:off x="5987160" y="3336840"/>
                <a:ext cx="911160" cy="526320"/>
              </a:xfrm>
              <a:custGeom>
                <a:avLst/>
                <a:gdLst>
                  <a:gd name="textAreaLeft" fmla="*/ 0 w 911160"/>
                  <a:gd name="textAreaRight" fmla="*/ 911520 w 911160"/>
                  <a:gd name="textAreaTop" fmla="*/ 0 h 526320"/>
                  <a:gd name="textAreaBottom" fmla="*/ 526680 h 526320"/>
                </a:gdLst>
                <a:ahLst/>
                <a:rect l="textAreaLeft" t="textAreaTop" r="textAreaRight" b="textAreaBottom"/>
                <a:pathLst>
                  <a:path w="718" h="397">
                    <a:moveTo>
                      <a:pt x="66" y="355"/>
                    </a:moveTo>
                    <a:lnTo>
                      <a:pt x="66" y="345"/>
                    </a:lnTo>
                    <a:lnTo>
                      <a:pt x="113" y="300"/>
                    </a:lnTo>
                    <a:lnTo>
                      <a:pt x="139" y="271"/>
                    </a:lnTo>
                    <a:lnTo>
                      <a:pt x="165" y="300"/>
                    </a:lnTo>
                    <a:lnTo>
                      <a:pt x="244" y="269"/>
                    </a:lnTo>
                    <a:lnTo>
                      <a:pt x="280" y="263"/>
                    </a:lnTo>
                    <a:lnTo>
                      <a:pt x="299" y="240"/>
                    </a:lnTo>
                    <a:lnTo>
                      <a:pt x="330" y="119"/>
                    </a:lnTo>
                    <a:lnTo>
                      <a:pt x="364" y="133"/>
                    </a:lnTo>
                    <a:lnTo>
                      <a:pt x="429" y="0"/>
                    </a:lnTo>
                    <a:lnTo>
                      <a:pt x="479" y="29"/>
                    </a:lnTo>
                    <a:lnTo>
                      <a:pt x="487" y="5"/>
                    </a:lnTo>
                    <a:lnTo>
                      <a:pt x="511" y="12"/>
                    </a:lnTo>
                    <a:lnTo>
                      <a:pt x="556" y="54"/>
                    </a:lnTo>
                    <a:lnTo>
                      <a:pt x="540" y="93"/>
                    </a:lnTo>
                    <a:lnTo>
                      <a:pt x="547" y="110"/>
                    </a:lnTo>
                    <a:lnTo>
                      <a:pt x="566" y="102"/>
                    </a:lnTo>
                    <a:lnTo>
                      <a:pt x="581" y="120"/>
                    </a:lnTo>
                    <a:lnTo>
                      <a:pt x="650" y="143"/>
                    </a:lnTo>
                    <a:lnTo>
                      <a:pt x="586" y="140"/>
                    </a:lnTo>
                    <a:lnTo>
                      <a:pt x="654" y="199"/>
                    </a:lnTo>
                    <a:lnTo>
                      <a:pt x="610" y="193"/>
                    </a:lnTo>
                    <a:lnTo>
                      <a:pt x="697" y="248"/>
                    </a:lnTo>
                    <a:lnTo>
                      <a:pt x="718" y="285"/>
                    </a:lnTo>
                    <a:lnTo>
                      <a:pt x="704" y="280"/>
                    </a:lnTo>
                    <a:lnTo>
                      <a:pt x="701" y="290"/>
                    </a:lnTo>
                    <a:lnTo>
                      <a:pt x="417" y="343"/>
                    </a:lnTo>
                    <a:lnTo>
                      <a:pt x="184" y="373"/>
                    </a:lnTo>
                    <a:lnTo>
                      <a:pt x="0" y="397"/>
                    </a:lnTo>
                    <a:lnTo>
                      <a:pt x="66" y="355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9"/>
              <p:cNvSpPr/>
              <p:nvPr/>
            </p:nvSpPr>
            <p:spPr>
              <a:xfrm>
                <a:off x="6856920" y="3482280"/>
                <a:ext cx="50400" cy="13140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38" h="99">
                    <a:moveTo>
                      <a:pt x="0" y="99"/>
                    </a:moveTo>
                    <a:lnTo>
                      <a:pt x="13" y="72"/>
                    </a:lnTo>
                    <a:lnTo>
                      <a:pt x="27" y="55"/>
                    </a:lnTo>
                    <a:lnTo>
                      <a:pt x="38" y="0"/>
                    </a:lnTo>
                    <a:lnTo>
                      <a:pt x="14" y="13"/>
                    </a:lnTo>
                    <a:lnTo>
                      <a:pt x="0" y="65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70"/>
              <p:cNvSpPr/>
              <p:nvPr/>
            </p:nvSpPr>
            <p:spPr>
              <a:xfrm>
                <a:off x="5934960" y="3723120"/>
                <a:ext cx="1001880" cy="461880"/>
              </a:xfrm>
              <a:custGeom>
                <a:avLst/>
                <a:gdLst>
                  <a:gd name="textAreaLeft" fmla="*/ 0 w 1001880"/>
                  <a:gd name="textAreaRight" fmla="*/ 1002240 w 1001880"/>
                  <a:gd name="textAreaTop" fmla="*/ 0 h 461880"/>
                  <a:gd name="textAreaBottom" fmla="*/ 462240 h 461880"/>
                </a:gdLst>
                <a:ahLst/>
                <a:rect l="textAreaLeft" t="textAreaTop" r="textAreaRight" b="textAreaBottom"/>
                <a:pathLst>
                  <a:path w="793" h="346">
                    <a:moveTo>
                      <a:pt x="0" y="298"/>
                    </a:moveTo>
                    <a:lnTo>
                      <a:pt x="113" y="283"/>
                    </a:lnTo>
                    <a:lnTo>
                      <a:pt x="181" y="251"/>
                    </a:lnTo>
                    <a:lnTo>
                      <a:pt x="308" y="238"/>
                    </a:lnTo>
                    <a:lnTo>
                      <a:pt x="359" y="270"/>
                    </a:lnTo>
                    <a:lnTo>
                      <a:pt x="442" y="259"/>
                    </a:lnTo>
                    <a:lnTo>
                      <a:pt x="567" y="346"/>
                    </a:lnTo>
                    <a:lnTo>
                      <a:pt x="615" y="335"/>
                    </a:lnTo>
                    <a:lnTo>
                      <a:pt x="685" y="235"/>
                    </a:lnTo>
                    <a:lnTo>
                      <a:pt x="742" y="214"/>
                    </a:lnTo>
                    <a:lnTo>
                      <a:pt x="758" y="185"/>
                    </a:lnTo>
                    <a:lnTo>
                      <a:pt x="698" y="194"/>
                    </a:lnTo>
                    <a:lnTo>
                      <a:pt x="682" y="175"/>
                    </a:lnTo>
                    <a:lnTo>
                      <a:pt x="719" y="165"/>
                    </a:lnTo>
                    <a:lnTo>
                      <a:pt x="717" y="152"/>
                    </a:lnTo>
                    <a:lnTo>
                      <a:pt x="677" y="138"/>
                    </a:lnTo>
                    <a:lnTo>
                      <a:pt x="730" y="118"/>
                    </a:lnTo>
                    <a:lnTo>
                      <a:pt x="727" y="139"/>
                    </a:lnTo>
                    <a:lnTo>
                      <a:pt x="761" y="139"/>
                    </a:lnTo>
                    <a:lnTo>
                      <a:pt x="780" y="102"/>
                    </a:lnTo>
                    <a:lnTo>
                      <a:pt x="793" y="100"/>
                    </a:lnTo>
                    <a:lnTo>
                      <a:pt x="785" y="70"/>
                    </a:lnTo>
                    <a:lnTo>
                      <a:pt x="761" y="100"/>
                    </a:lnTo>
                    <a:lnTo>
                      <a:pt x="737" y="31"/>
                    </a:lnTo>
                    <a:lnTo>
                      <a:pt x="753" y="28"/>
                    </a:lnTo>
                    <a:lnTo>
                      <a:pt x="776" y="47"/>
                    </a:lnTo>
                    <a:lnTo>
                      <a:pt x="759" y="15"/>
                    </a:lnTo>
                    <a:lnTo>
                      <a:pt x="742" y="0"/>
                    </a:lnTo>
                    <a:lnTo>
                      <a:pt x="458" y="53"/>
                    </a:lnTo>
                    <a:lnTo>
                      <a:pt x="225" y="83"/>
                    </a:lnTo>
                    <a:lnTo>
                      <a:pt x="193" y="146"/>
                    </a:lnTo>
                    <a:lnTo>
                      <a:pt x="141" y="157"/>
                    </a:lnTo>
                    <a:lnTo>
                      <a:pt x="118" y="188"/>
                    </a:lnTo>
                    <a:lnTo>
                      <a:pt x="28" y="241"/>
                    </a:lnTo>
                    <a:lnTo>
                      <a:pt x="23" y="261"/>
                    </a:lnTo>
                    <a:lnTo>
                      <a:pt x="0" y="272"/>
                    </a:lnTo>
                    <a:lnTo>
                      <a:pt x="0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71"/>
              <p:cNvSpPr/>
              <p:nvPr/>
            </p:nvSpPr>
            <p:spPr>
              <a:xfrm>
                <a:off x="6055200" y="4039920"/>
                <a:ext cx="598320" cy="46584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465840"/>
                  <a:gd name="textAreaBottom" fmla="*/ 466200 h 465840"/>
                </a:gdLst>
                <a:ahLst/>
                <a:rect l="textAreaLeft" t="textAreaTop" r="textAreaRight" b="textAreaBottom"/>
                <a:pathLst>
                  <a:path w="473" h="351">
                    <a:moveTo>
                      <a:pt x="19" y="45"/>
                    </a:moveTo>
                    <a:lnTo>
                      <a:pt x="87" y="13"/>
                    </a:lnTo>
                    <a:lnTo>
                      <a:pt x="214" y="0"/>
                    </a:lnTo>
                    <a:lnTo>
                      <a:pt x="265" y="32"/>
                    </a:lnTo>
                    <a:lnTo>
                      <a:pt x="348" y="21"/>
                    </a:lnTo>
                    <a:lnTo>
                      <a:pt x="473" y="108"/>
                    </a:lnTo>
                    <a:lnTo>
                      <a:pt x="418" y="175"/>
                    </a:lnTo>
                    <a:lnTo>
                      <a:pt x="421" y="204"/>
                    </a:lnTo>
                    <a:lnTo>
                      <a:pt x="325" y="290"/>
                    </a:lnTo>
                    <a:lnTo>
                      <a:pt x="311" y="293"/>
                    </a:lnTo>
                    <a:lnTo>
                      <a:pt x="303" y="319"/>
                    </a:lnTo>
                    <a:lnTo>
                      <a:pt x="283" y="304"/>
                    </a:lnTo>
                    <a:lnTo>
                      <a:pt x="301" y="327"/>
                    </a:lnTo>
                    <a:lnTo>
                      <a:pt x="283" y="351"/>
                    </a:lnTo>
                    <a:lnTo>
                      <a:pt x="265" y="348"/>
                    </a:lnTo>
                    <a:lnTo>
                      <a:pt x="201" y="248"/>
                    </a:lnTo>
                    <a:lnTo>
                      <a:pt x="61" y="121"/>
                    </a:lnTo>
                    <a:lnTo>
                      <a:pt x="0" y="83"/>
                    </a:lnTo>
                    <a:lnTo>
                      <a:pt x="1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72"/>
              <p:cNvSpPr/>
              <p:nvPr/>
            </p:nvSpPr>
            <p:spPr>
              <a:xfrm>
                <a:off x="6803640" y="3220560"/>
                <a:ext cx="118440" cy="20268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8" h="155">
                    <a:moveTo>
                      <a:pt x="0" y="15"/>
                    </a:moveTo>
                    <a:lnTo>
                      <a:pt x="12" y="0"/>
                    </a:lnTo>
                    <a:lnTo>
                      <a:pt x="32" y="0"/>
                    </a:lnTo>
                    <a:lnTo>
                      <a:pt x="25" y="15"/>
                    </a:lnTo>
                    <a:lnTo>
                      <a:pt x="21" y="21"/>
                    </a:lnTo>
                    <a:lnTo>
                      <a:pt x="24" y="39"/>
                    </a:lnTo>
                    <a:lnTo>
                      <a:pt x="48" y="63"/>
                    </a:lnTo>
                    <a:lnTo>
                      <a:pt x="51" y="81"/>
                    </a:lnTo>
                    <a:lnTo>
                      <a:pt x="71" y="104"/>
                    </a:lnTo>
                    <a:lnTo>
                      <a:pt x="87" y="108"/>
                    </a:lnTo>
                    <a:lnTo>
                      <a:pt x="93" y="123"/>
                    </a:lnTo>
                    <a:lnTo>
                      <a:pt x="80" y="134"/>
                    </a:lnTo>
                    <a:lnTo>
                      <a:pt x="93" y="133"/>
                    </a:lnTo>
                    <a:lnTo>
                      <a:pt x="98" y="144"/>
                    </a:lnTo>
                    <a:lnTo>
                      <a:pt x="38" y="15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73"/>
              <p:cNvSpPr/>
              <p:nvPr/>
            </p:nvSpPr>
            <p:spPr>
              <a:xfrm>
                <a:off x="6226200" y="2890080"/>
                <a:ext cx="681120" cy="452160"/>
              </a:xfrm>
              <a:custGeom>
                <a:avLst/>
                <a:gdLst>
                  <a:gd name="textAreaLeft" fmla="*/ 0 w 681120"/>
                  <a:gd name="textAreaRight" fmla="*/ 681480 w 681120"/>
                  <a:gd name="textAreaTop" fmla="*/ 0 h 452160"/>
                  <a:gd name="textAreaBottom" fmla="*/ 452520 h 452160"/>
                </a:gdLst>
                <a:ahLst/>
                <a:rect l="textAreaLeft" t="textAreaTop" r="textAreaRight" b="textAreaBottom"/>
                <a:pathLst>
                  <a:path w="539" h="339">
                    <a:moveTo>
                      <a:pt x="42" y="339"/>
                    </a:moveTo>
                    <a:lnTo>
                      <a:pt x="131" y="322"/>
                    </a:lnTo>
                    <a:lnTo>
                      <a:pt x="457" y="263"/>
                    </a:lnTo>
                    <a:lnTo>
                      <a:pt x="469" y="248"/>
                    </a:lnTo>
                    <a:lnTo>
                      <a:pt x="489" y="248"/>
                    </a:lnTo>
                    <a:lnTo>
                      <a:pt x="510" y="233"/>
                    </a:lnTo>
                    <a:lnTo>
                      <a:pt x="539" y="195"/>
                    </a:lnTo>
                    <a:lnTo>
                      <a:pt x="487" y="152"/>
                    </a:lnTo>
                    <a:lnTo>
                      <a:pt x="486" y="114"/>
                    </a:lnTo>
                    <a:lnTo>
                      <a:pt x="510" y="59"/>
                    </a:lnTo>
                    <a:lnTo>
                      <a:pt x="474" y="39"/>
                    </a:lnTo>
                    <a:lnTo>
                      <a:pt x="435" y="0"/>
                    </a:lnTo>
                    <a:lnTo>
                      <a:pt x="76" y="67"/>
                    </a:lnTo>
                    <a:lnTo>
                      <a:pt x="58" y="39"/>
                    </a:lnTo>
                    <a:lnTo>
                      <a:pt x="0" y="83"/>
                    </a:lnTo>
                    <a:lnTo>
                      <a:pt x="42" y="339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74"/>
              <p:cNvSpPr/>
              <p:nvPr/>
            </p:nvSpPr>
            <p:spPr>
              <a:xfrm>
                <a:off x="6834240" y="2968200"/>
                <a:ext cx="149400" cy="367920"/>
              </a:xfrm>
              <a:custGeom>
                <a:avLst/>
                <a:gdLst>
                  <a:gd name="textAreaLeft" fmla="*/ 0 w 149400"/>
                  <a:gd name="textAreaRight" fmla="*/ 149760 w 14940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117" h="276">
                    <a:moveTo>
                      <a:pt x="7" y="189"/>
                    </a:moveTo>
                    <a:lnTo>
                      <a:pt x="28" y="174"/>
                    </a:lnTo>
                    <a:lnTo>
                      <a:pt x="57" y="136"/>
                    </a:lnTo>
                    <a:lnTo>
                      <a:pt x="5" y="93"/>
                    </a:lnTo>
                    <a:lnTo>
                      <a:pt x="4" y="55"/>
                    </a:lnTo>
                    <a:lnTo>
                      <a:pt x="28" y="0"/>
                    </a:lnTo>
                    <a:lnTo>
                      <a:pt x="107" y="25"/>
                    </a:lnTo>
                    <a:lnTo>
                      <a:pt x="107" y="37"/>
                    </a:lnTo>
                    <a:lnTo>
                      <a:pt x="99" y="68"/>
                    </a:lnTo>
                    <a:lnTo>
                      <a:pt x="91" y="74"/>
                    </a:lnTo>
                    <a:lnTo>
                      <a:pt x="88" y="90"/>
                    </a:lnTo>
                    <a:lnTo>
                      <a:pt x="98" y="95"/>
                    </a:lnTo>
                    <a:lnTo>
                      <a:pt x="117" y="90"/>
                    </a:lnTo>
                    <a:lnTo>
                      <a:pt x="117" y="137"/>
                    </a:lnTo>
                    <a:lnTo>
                      <a:pt x="117" y="166"/>
                    </a:lnTo>
                    <a:lnTo>
                      <a:pt x="117" y="182"/>
                    </a:lnTo>
                    <a:lnTo>
                      <a:pt x="111" y="197"/>
                    </a:lnTo>
                    <a:lnTo>
                      <a:pt x="102" y="197"/>
                    </a:lnTo>
                    <a:lnTo>
                      <a:pt x="106" y="212"/>
                    </a:lnTo>
                    <a:lnTo>
                      <a:pt x="77" y="276"/>
                    </a:lnTo>
                    <a:lnTo>
                      <a:pt x="68" y="276"/>
                    </a:lnTo>
                    <a:lnTo>
                      <a:pt x="67" y="252"/>
                    </a:lnTo>
                    <a:lnTo>
                      <a:pt x="46" y="252"/>
                    </a:lnTo>
                    <a:lnTo>
                      <a:pt x="5" y="226"/>
                    </a:lnTo>
                    <a:lnTo>
                      <a:pt x="0" y="204"/>
                    </a:lnTo>
                    <a:lnTo>
                      <a:pt x="7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75"/>
              <p:cNvSpPr/>
              <p:nvPr/>
            </p:nvSpPr>
            <p:spPr>
              <a:xfrm>
                <a:off x="6299640" y="2392560"/>
                <a:ext cx="699840" cy="639720"/>
              </a:xfrm>
              <a:custGeom>
                <a:avLst/>
                <a:gdLst>
                  <a:gd name="textAreaLeft" fmla="*/ 0 w 699840"/>
                  <a:gd name="textAreaRight" fmla="*/ 700200 w 69984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552" h="481">
                    <a:moveTo>
                      <a:pt x="18" y="441"/>
                    </a:moveTo>
                    <a:lnTo>
                      <a:pt x="377" y="374"/>
                    </a:lnTo>
                    <a:lnTo>
                      <a:pt x="416" y="413"/>
                    </a:lnTo>
                    <a:lnTo>
                      <a:pt x="452" y="433"/>
                    </a:lnTo>
                    <a:lnTo>
                      <a:pt x="531" y="458"/>
                    </a:lnTo>
                    <a:lnTo>
                      <a:pt x="538" y="481"/>
                    </a:lnTo>
                    <a:lnTo>
                      <a:pt x="551" y="452"/>
                    </a:lnTo>
                    <a:lnTo>
                      <a:pt x="552" y="410"/>
                    </a:lnTo>
                    <a:lnTo>
                      <a:pt x="538" y="334"/>
                    </a:lnTo>
                    <a:lnTo>
                      <a:pt x="536" y="253"/>
                    </a:lnTo>
                    <a:lnTo>
                      <a:pt x="499" y="135"/>
                    </a:lnTo>
                    <a:lnTo>
                      <a:pt x="492" y="83"/>
                    </a:lnTo>
                    <a:lnTo>
                      <a:pt x="468" y="0"/>
                    </a:lnTo>
                    <a:lnTo>
                      <a:pt x="352" y="26"/>
                    </a:lnTo>
                    <a:lnTo>
                      <a:pt x="287" y="96"/>
                    </a:lnTo>
                    <a:lnTo>
                      <a:pt x="284" y="114"/>
                    </a:lnTo>
                    <a:lnTo>
                      <a:pt x="246" y="154"/>
                    </a:lnTo>
                    <a:lnTo>
                      <a:pt x="256" y="169"/>
                    </a:lnTo>
                    <a:lnTo>
                      <a:pt x="263" y="180"/>
                    </a:lnTo>
                    <a:lnTo>
                      <a:pt x="258" y="183"/>
                    </a:lnTo>
                    <a:lnTo>
                      <a:pt x="269" y="199"/>
                    </a:lnTo>
                    <a:lnTo>
                      <a:pt x="271" y="214"/>
                    </a:lnTo>
                    <a:lnTo>
                      <a:pt x="235" y="246"/>
                    </a:lnTo>
                    <a:lnTo>
                      <a:pt x="182" y="263"/>
                    </a:lnTo>
                    <a:lnTo>
                      <a:pt x="169" y="272"/>
                    </a:lnTo>
                    <a:lnTo>
                      <a:pt x="148" y="264"/>
                    </a:lnTo>
                    <a:lnTo>
                      <a:pt x="89" y="271"/>
                    </a:lnTo>
                    <a:lnTo>
                      <a:pt x="44" y="289"/>
                    </a:lnTo>
                    <a:lnTo>
                      <a:pt x="44" y="310"/>
                    </a:lnTo>
                    <a:lnTo>
                      <a:pt x="54" y="326"/>
                    </a:lnTo>
                    <a:lnTo>
                      <a:pt x="60" y="324"/>
                    </a:lnTo>
                    <a:lnTo>
                      <a:pt x="67" y="344"/>
                    </a:lnTo>
                    <a:lnTo>
                      <a:pt x="55" y="352"/>
                    </a:lnTo>
                    <a:lnTo>
                      <a:pt x="49" y="368"/>
                    </a:lnTo>
                    <a:lnTo>
                      <a:pt x="0" y="413"/>
                    </a:lnTo>
                    <a:lnTo>
                      <a:pt x="18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76"/>
              <p:cNvSpPr/>
              <p:nvPr/>
            </p:nvSpPr>
            <p:spPr>
              <a:xfrm>
                <a:off x="6946560" y="3059280"/>
                <a:ext cx="18360" cy="316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6" h="22">
                    <a:moveTo>
                      <a:pt x="0" y="22"/>
                    </a:moveTo>
                    <a:lnTo>
                      <a:pt x="3" y="6"/>
                    </a:lnTo>
                    <a:lnTo>
                      <a:pt x="11" y="0"/>
                    </a:lnTo>
                    <a:lnTo>
                      <a:pt x="16" y="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77"/>
              <p:cNvSpPr/>
              <p:nvPr/>
            </p:nvSpPr>
            <p:spPr>
              <a:xfrm>
                <a:off x="6969240" y="2939040"/>
                <a:ext cx="216000" cy="13140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171" h="99">
                    <a:moveTo>
                      <a:pt x="13" y="99"/>
                    </a:moveTo>
                    <a:lnTo>
                      <a:pt x="73" y="65"/>
                    </a:lnTo>
                    <a:lnTo>
                      <a:pt x="113" y="45"/>
                    </a:lnTo>
                    <a:lnTo>
                      <a:pt x="71" y="76"/>
                    </a:lnTo>
                    <a:lnTo>
                      <a:pt x="74" y="78"/>
                    </a:lnTo>
                    <a:lnTo>
                      <a:pt x="139" y="34"/>
                    </a:lnTo>
                    <a:lnTo>
                      <a:pt x="171" y="5"/>
                    </a:lnTo>
                    <a:lnTo>
                      <a:pt x="168" y="0"/>
                    </a:lnTo>
                    <a:lnTo>
                      <a:pt x="139" y="16"/>
                    </a:lnTo>
                    <a:lnTo>
                      <a:pt x="136" y="14"/>
                    </a:lnTo>
                    <a:lnTo>
                      <a:pt x="121" y="34"/>
                    </a:lnTo>
                    <a:lnTo>
                      <a:pt x="111" y="34"/>
                    </a:lnTo>
                    <a:lnTo>
                      <a:pt x="134" y="0"/>
                    </a:lnTo>
                    <a:lnTo>
                      <a:pt x="111" y="24"/>
                    </a:lnTo>
                    <a:lnTo>
                      <a:pt x="34" y="52"/>
                    </a:lnTo>
                    <a:lnTo>
                      <a:pt x="19" y="71"/>
                    </a:lnTo>
                    <a:lnTo>
                      <a:pt x="6" y="74"/>
                    </a:lnTo>
                    <a:lnTo>
                      <a:pt x="0" y="89"/>
                    </a:lnTo>
                    <a:lnTo>
                      <a:pt x="13" y="99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78"/>
              <p:cNvSpPr/>
              <p:nvPr/>
            </p:nvSpPr>
            <p:spPr>
              <a:xfrm>
                <a:off x="6978600" y="2796120"/>
                <a:ext cx="202680" cy="19980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60" h="149">
                    <a:moveTo>
                      <a:pt x="14" y="107"/>
                    </a:moveTo>
                    <a:lnTo>
                      <a:pt x="13" y="149"/>
                    </a:lnTo>
                    <a:lnTo>
                      <a:pt x="26" y="146"/>
                    </a:lnTo>
                    <a:lnTo>
                      <a:pt x="56" y="123"/>
                    </a:lnTo>
                    <a:lnTo>
                      <a:pt x="66" y="104"/>
                    </a:lnTo>
                    <a:lnTo>
                      <a:pt x="73" y="107"/>
                    </a:lnTo>
                    <a:lnTo>
                      <a:pt x="115" y="96"/>
                    </a:lnTo>
                    <a:lnTo>
                      <a:pt x="115" y="89"/>
                    </a:lnTo>
                    <a:lnTo>
                      <a:pt x="123" y="92"/>
                    </a:lnTo>
                    <a:lnTo>
                      <a:pt x="131" y="86"/>
                    </a:lnTo>
                    <a:lnTo>
                      <a:pt x="142" y="84"/>
                    </a:lnTo>
                    <a:lnTo>
                      <a:pt x="160" y="76"/>
                    </a:lnTo>
                    <a:lnTo>
                      <a:pt x="144" y="0"/>
                    </a:lnTo>
                    <a:lnTo>
                      <a:pt x="0" y="31"/>
                    </a:lnTo>
                    <a:lnTo>
                      <a:pt x="14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79"/>
              <p:cNvSpPr/>
              <p:nvPr/>
            </p:nvSpPr>
            <p:spPr>
              <a:xfrm>
                <a:off x="7158960" y="2784960"/>
                <a:ext cx="91800" cy="11160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1" h="84">
                    <a:moveTo>
                      <a:pt x="16" y="84"/>
                    </a:moveTo>
                    <a:lnTo>
                      <a:pt x="45" y="73"/>
                    </a:lnTo>
                    <a:lnTo>
                      <a:pt x="47" y="39"/>
                    </a:lnTo>
                    <a:lnTo>
                      <a:pt x="55" y="47"/>
                    </a:lnTo>
                    <a:lnTo>
                      <a:pt x="57" y="63"/>
                    </a:lnTo>
                    <a:lnTo>
                      <a:pt x="63" y="61"/>
                    </a:lnTo>
                    <a:lnTo>
                      <a:pt x="71" y="47"/>
                    </a:lnTo>
                    <a:lnTo>
                      <a:pt x="63" y="29"/>
                    </a:lnTo>
                    <a:lnTo>
                      <a:pt x="47" y="26"/>
                    </a:lnTo>
                    <a:lnTo>
                      <a:pt x="35" y="3"/>
                    </a:lnTo>
                    <a:lnTo>
                      <a:pt x="26" y="0"/>
                    </a:lnTo>
                    <a:lnTo>
                      <a:pt x="0" y="8"/>
                    </a:lnTo>
                    <a:lnTo>
                      <a:pt x="1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80"/>
              <p:cNvSpPr/>
              <p:nvPr/>
            </p:nvSpPr>
            <p:spPr>
              <a:xfrm>
                <a:off x="6976080" y="2644920"/>
                <a:ext cx="395280" cy="20268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1" h="152">
                    <a:moveTo>
                      <a:pt x="2" y="144"/>
                    </a:moveTo>
                    <a:lnTo>
                      <a:pt x="146" y="113"/>
                    </a:lnTo>
                    <a:lnTo>
                      <a:pt x="172" y="105"/>
                    </a:lnTo>
                    <a:lnTo>
                      <a:pt x="181" y="108"/>
                    </a:lnTo>
                    <a:lnTo>
                      <a:pt x="193" y="131"/>
                    </a:lnTo>
                    <a:lnTo>
                      <a:pt x="209" y="134"/>
                    </a:lnTo>
                    <a:lnTo>
                      <a:pt x="217" y="152"/>
                    </a:lnTo>
                    <a:lnTo>
                      <a:pt x="228" y="152"/>
                    </a:lnTo>
                    <a:lnTo>
                      <a:pt x="240" y="136"/>
                    </a:lnTo>
                    <a:lnTo>
                      <a:pt x="243" y="121"/>
                    </a:lnTo>
                    <a:lnTo>
                      <a:pt x="256" y="141"/>
                    </a:lnTo>
                    <a:lnTo>
                      <a:pt x="311" y="123"/>
                    </a:lnTo>
                    <a:lnTo>
                      <a:pt x="309" y="102"/>
                    </a:lnTo>
                    <a:lnTo>
                      <a:pt x="293" y="74"/>
                    </a:lnTo>
                    <a:lnTo>
                      <a:pt x="283" y="71"/>
                    </a:lnTo>
                    <a:lnTo>
                      <a:pt x="275" y="71"/>
                    </a:lnTo>
                    <a:lnTo>
                      <a:pt x="277" y="77"/>
                    </a:lnTo>
                    <a:lnTo>
                      <a:pt x="290" y="79"/>
                    </a:lnTo>
                    <a:lnTo>
                      <a:pt x="295" y="105"/>
                    </a:lnTo>
                    <a:lnTo>
                      <a:pt x="272" y="115"/>
                    </a:lnTo>
                    <a:lnTo>
                      <a:pt x="240" y="94"/>
                    </a:lnTo>
                    <a:lnTo>
                      <a:pt x="228" y="71"/>
                    </a:lnTo>
                    <a:lnTo>
                      <a:pt x="214" y="63"/>
                    </a:lnTo>
                    <a:lnTo>
                      <a:pt x="212" y="71"/>
                    </a:lnTo>
                    <a:lnTo>
                      <a:pt x="199" y="58"/>
                    </a:lnTo>
                    <a:lnTo>
                      <a:pt x="211" y="42"/>
                    </a:lnTo>
                    <a:lnTo>
                      <a:pt x="220" y="26"/>
                    </a:lnTo>
                    <a:lnTo>
                      <a:pt x="201" y="0"/>
                    </a:lnTo>
                    <a:lnTo>
                      <a:pt x="172" y="21"/>
                    </a:lnTo>
                    <a:lnTo>
                      <a:pt x="68" y="48"/>
                    </a:lnTo>
                    <a:lnTo>
                      <a:pt x="0" y="63"/>
                    </a:lnTo>
                    <a:lnTo>
                      <a:pt x="2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81"/>
              <p:cNvSpPr/>
              <p:nvPr/>
            </p:nvSpPr>
            <p:spPr>
              <a:xfrm>
                <a:off x="7291440" y="2845080"/>
                <a:ext cx="34560" cy="262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28" h="21">
                    <a:moveTo>
                      <a:pt x="0" y="21"/>
                    </a:moveTo>
                    <a:lnTo>
                      <a:pt x="12" y="0"/>
                    </a:lnTo>
                    <a:lnTo>
                      <a:pt x="28" y="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82"/>
              <p:cNvSpPr/>
              <p:nvPr/>
            </p:nvSpPr>
            <p:spPr>
              <a:xfrm>
                <a:off x="7356960" y="2839320"/>
                <a:ext cx="31680" cy="219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0" y="17"/>
                    </a:moveTo>
                    <a:lnTo>
                      <a:pt x="13" y="0"/>
                    </a:lnTo>
                    <a:lnTo>
                      <a:pt x="23" y="12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3"/>
              <p:cNvSpPr/>
              <p:nvPr/>
            </p:nvSpPr>
            <p:spPr>
              <a:xfrm>
                <a:off x="6888960" y="2346480"/>
                <a:ext cx="192240" cy="38196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151" h="288">
                    <a:moveTo>
                      <a:pt x="24" y="118"/>
                    </a:moveTo>
                    <a:lnTo>
                      <a:pt x="31" y="170"/>
                    </a:lnTo>
                    <a:lnTo>
                      <a:pt x="68" y="288"/>
                    </a:lnTo>
                    <a:lnTo>
                      <a:pt x="136" y="273"/>
                    </a:lnTo>
                    <a:lnTo>
                      <a:pt x="131" y="105"/>
                    </a:lnTo>
                    <a:lnTo>
                      <a:pt x="147" y="71"/>
                    </a:lnTo>
                    <a:lnTo>
                      <a:pt x="151" y="0"/>
                    </a:lnTo>
                    <a:lnTo>
                      <a:pt x="0" y="35"/>
                    </a:lnTo>
                    <a:lnTo>
                      <a:pt x="24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84"/>
              <p:cNvSpPr/>
              <p:nvPr/>
            </p:nvSpPr>
            <p:spPr>
              <a:xfrm>
                <a:off x="7056000" y="2290320"/>
                <a:ext cx="176040" cy="4183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418320"/>
                  <a:gd name="textAreaBottom" fmla="*/ 418680 h 418320"/>
                </a:gdLst>
                <a:ahLst/>
                <a:rect l="textAreaLeft" t="textAreaTop" r="textAreaRight" b="textAreaBottom"/>
                <a:pathLst>
                  <a:path w="140" h="315">
                    <a:moveTo>
                      <a:pt x="0" y="147"/>
                    </a:moveTo>
                    <a:lnTo>
                      <a:pt x="16" y="113"/>
                    </a:lnTo>
                    <a:lnTo>
                      <a:pt x="20" y="42"/>
                    </a:lnTo>
                    <a:lnTo>
                      <a:pt x="18" y="14"/>
                    </a:lnTo>
                    <a:lnTo>
                      <a:pt x="46" y="0"/>
                    </a:lnTo>
                    <a:lnTo>
                      <a:pt x="109" y="197"/>
                    </a:lnTo>
                    <a:lnTo>
                      <a:pt x="140" y="239"/>
                    </a:lnTo>
                    <a:lnTo>
                      <a:pt x="138" y="267"/>
                    </a:lnTo>
                    <a:lnTo>
                      <a:pt x="109" y="288"/>
                    </a:lnTo>
                    <a:lnTo>
                      <a:pt x="5" y="315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85"/>
              <p:cNvSpPr/>
              <p:nvPr/>
            </p:nvSpPr>
            <p:spPr>
              <a:xfrm>
                <a:off x="7113600" y="1915200"/>
                <a:ext cx="429840" cy="69300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693000"/>
                  <a:gd name="textAreaBottom" fmla="*/ 693360 h 693000"/>
                </a:gdLst>
                <a:ahLst/>
                <a:rect l="textAreaLeft" t="textAreaTop" r="textAreaRight" b="textAreaBottom"/>
                <a:pathLst>
                  <a:path w="340" h="521">
                    <a:moveTo>
                      <a:pt x="0" y="282"/>
                    </a:moveTo>
                    <a:lnTo>
                      <a:pt x="19" y="283"/>
                    </a:lnTo>
                    <a:lnTo>
                      <a:pt x="21" y="249"/>
                    </a:lnTo>
                    <a:lnTo>
                      <a:pt x="45" y="202"/>
                    </a:lnTo>
                    <a:lnTo>
                      <a:pt x="34" y="168"/>
                    </a:lnTo>
                    <a:lnTo>
                      <a:pt x="82" y="5"/>
                    </a:lnTo>
                    <a:lnTo>
                      <a:pt x="92" y="5"/>
                    </a:lnTo>
                    <a:lnTo>
                      <a:pt x="97" y="26"/>
                    </a:lnTo>
                    <a:lnTo>
                      <a:pt x="145" y="8"/>
                    </a:lnTo>
                    <a:lnTo>
                      <a:pt x="147" y="0"/>
                    </a:lnTo>
                    <a:lnTo>
                      <a:pt x="186" y="8"/>
                    </a:lnTo>
                    <a:lnTo>
                      <a:pt x="249" y="170"/>
                    </a:lnTo>
                    <a:lnTo>
                      <a:pt x="278" y="172"/>
                    </a:lnTo>
                    <a:lnTo>
                      <a:pt x="330" y="232"/>
                    </a:lnTo>
                    <a:lnTo>
                      <a:pt x="323" y="243"/>
                    </a:lnTo>
                    <a:lnTo>
                      <a:pt x="340" y="243"/>
                    </a:lnTo>
                    <a:lnTo>
                      <a:pt x="328" y="272"/>
                    </a:lnTo>
                    <a:lnTo>
                      <a:pt x="302" y="290"/>
                    </a:lnTo>
                    <a:lnTo>
                      <a:pt x="272" y="306"/>
                    </a:lnTo>
                    <a:lnTo>
                      <a:pt x="268" y="325"/>
                    </a:lnTo>
                    <a:lnTo>
                      <a:pt x="254" y="308"/>
                    </a:lnTo>
                    <a:lnTo>
                      <a:pt x="226" y="329"/>
                    </a:lnTo>
                    <a:lnTo>
                      <a:pt x="215" y="329"/>
                    </a:lnTo>
                    <a:lnTo>
                      <a:pt x="204" y="316"/>
                    </a:lnTo>
                    <a:lnTo>
                      <a:pt x="197" y="379"/>
                    </a:lnTo>
                    <a:lnTo>
                      <a:pt x="173" y="389"/>
                    </a:lnTo>
                    <a:lnTo>
                      <a:pt x="162" y="413"/>
                    </a:lnTo>
                    <a:lnTo>
                      <a:pt x="147" y="413"/>
                    </a:lnTo>
                    <a:lnTo>
                      <a:pt x="113" y="448"/>
                    </a:lnTo>
                    <a:lnTo>
                      <a:pt x="111" y="478"/>
                    </a:lnTo>
                    <a:lnTo>
                      <a:pt x="103" y="489"/>
                    </a:lnTo>
                    <a:lnTo>
                      <a:pt x="94" y="521"/>
                    </a:lnTo>
                    <a:lnTo>
                      <a:pt x="63" y="479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000000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86"/>
              <p:cNvSpPr/>
              <p:nvPr/>
            </p:nvSpPr>
            <p:spPr>
              <a:xfrm>
                <a:off x="1666800" y="1646280"/>
                <a:ext cx="785520" cy="586440"/>
              </a:xfrm>
              <a:custGeom>
                <a:avLst/>
                <a:gdLst>
                  <a:gd name="textAreaLeft" fmla="*/ 0 w 785520"/>
                  <a:gd name="textAreaRight" fmla="*/ 785880 w 785520"/>
                  <a:gd name="textAreaTop" fmla="*/ 0 h 586440"/>
                  <a:gd name="textAreaBottom" fmla="*/ 586800 h 586440"/>
                </a:gdLst>
                <a:ahLst/>
                <a:rect l="textAreaLeft" t="textAreaTop" r="textAreaRight" b="textAreaBottom"/>
                <a:pathLst>
                  <a:path w="622" h="441">
                    <a:moveTo>
                      <a:pt x="23" y="96"/>
                    </a:moveTo>
                    <a:lnTo>
                      <a:pt x="15" y="217"/>
                    </a:lnTo>
                    <a:lnTo>
                      <a:pt x="29" y="217"/>
                    </a:lnTo>
                    <a:lnTo>
                      <a:pt x="21" y="243"/>
                    </a:lnTo>
                    <a:lnTo>
                      <a:pt x="10" y="229"/>
                    </a:lnTo>
                    <a:lnTo>
                      <a:pt x="0" y="259"/>
                    </a:lnTo>
                    <a:lnTo>
                      <a:pt x="44" y="284"/>
                    </a:lnTo>
                    <a:lnTo>
                      <a:pt x="45" y="295"/>
                    </a:lnTo>
                    <a:lnTo>
                      <a:pt x="57" y="297"/>
                    </a:lnTo>
                    <a:lnTo>
                      <a:pt x="113" y="386"/>
                    </a:lnTo>
                    <a:lnTo>
                      <a:pt x="177" y="382"/>
                    </a:lnTo>
                    <a:lnTo>
                      <a:pt x="224" y="403"/>
                    </a:lnTo>
                    <a:lnTo>
                      <a:pt x="246" y="400"/>
                    </a:lnTo>
                    <a:lnTo>
                      <a:pt x="389" y="403"/>
                    </a:lnTo>
                    <a:lnTo>
                      <a:pt x="551" y="441"/>
                    </a:lnTo>
                    <a:lnTo>
                      <a:pt x="554" y="392"/>
                    </a:lnTo>
                    <a:lnTo>
                      <a:pt x="622" y="110"/>
                    </a:lnTo>
                    <a:lnTo>
                      <a:pt x="191" y="0"/>
                    </a:lnTo>
                    <a:lnTo>
                      <a:pt x="194" y="83"/>
                    </a:lnTo>
                    <a:lnTo>
                      <a:pt x="173" y="151"/>
                    </a:lnTo>
                    <a:lnTo>
                      <a:pt x="170" y="187"/>
                    </a:lnTo>
                    <a:lnTo>
                      <a:pt x="125" y="199"/>
                    </a:lnTo>
                    <a:lnTo>
                      <a:pt x="122" y="182"/>
                    </a:lnTo>
                    <a:lnTo>
                      <a:pt x="159" y="159"/>
                    </a:lnTo>
                    <a:lnTo>
                      <a:pt x="156" y="141"/>
                    </a:lnTo>
                    <a:lnTo>
                      <a:pt x="123" y="144"/>
                    </a:lnTo>
                    <a:lnTo>
                      <a:pt x="147" y="123"/>
                    </a:lnTo>
                    <a:lnTo>
                      <a:pt x="165" y="109"/>
                    </a:lnTo>
                    <a:lnTo>
                      <a:pt x="26" y="21"/>
                    </a:lnTo>
                    <a:lnTo>
                      <a:pt x="15" y="46"/>
                    </a:lnTo>
                    <a:lnTo>
                      <a:pt x="23" y="96"/>
                    </a:lnTo>
                    <a:close/>
                  </a:path>
                </a:pathLst>
              </a:custGeom>
              <a:solidFill>
                <a:srgbClr val="ffff99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7"/>
              <p:cNvSpPr/>
              <p:nvPr/>
            </p:nvSpPr>
            <p:spPr>
              <a:xfrm>
                <a:off x="2392560" y="2892600"/>
                <a:ext cx="665280" cy="853920"/>
              </a:xfrm>
              <a:custGeom>
                <a:avLst/>
                <a:gdLst>
                  <a:gd name="textAreaLeft" fmla="*/ 0 w 665280"/>
                  <a:gd name="textAreaRight" fmla="*/ 665640 w 66528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526" h="641">
                    <a:moveTo>
                      <a:pt x="115" y="0"/>
                    </a:moveTo>
                    <a:lnTo>
                      <a:pt x="369" y="47"/>
                    </a:lnTo>
                    <a:lnTo>
                      <a:pt x="350" y="159"/>
                    </a:lnTo>
                    <a:lnTo>
                      <a:pt x="526" y="186"/>
                    </a:lnTo>
                    <a:lnTo>
                      <a:pt x="458" y="641"/>
                    </a:lnTo>
                    <a:lnTo>
                      <a:pt x="0" y="565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88"/>
              <p:cNvSpPr/>
              <p:nvPr/>
            </p:nvSpPr>
            <p:spPr>
              <a:xfrm>
                <a:off x="1461240" y="2004840"/>
                <a:ext cx="936360" cy="817560"/>
              </a:xfrm>
              <a:custGeom>
                <a:avLst/>
                <a:gdLst>
                  <a:gd name="textAreaLeft" fmla="*/ 0 w 936360"/>
                  <a:gd name="textAreaRight" fmla="*/ 936720 w 936360"/>
                  <a:gd name="textAreaTop" fmla="*/ 0 h 817560"/>
                  <a:gd name="textAreaBottom" fmla="*/ 817920 h 817560"/>
                </a:gdLst>
                <a:ahLst/>
                <a:rect l="textAreaLeft" t="textAreaTop" r="textAreaRight" b="textAreaBottom"/>
                <a:pathLst>
                  <a:path w="741" h="614">
                    <a:moveTo>
                      <a:pt x="0" y="458"/>
                    </a:moveTo>
                    <a:lnTo>
                      <a:pt x="32" y="303"/>
                    </a:lnTo>
                    <a:lnTo>
                      <a:pt x="69" y="257"/>
                    </a:lnTo>
                    <a:lnTo>
                      <a:pt x="160" y="0"/>
                    </a:lnTo>
                    <a:lnTo>
                      <a:pt x="207" y="13"/>
                    </a:lnTo>
                    <a:lnTo>
                      <a:pt x="208" y="24"/>
                    </a:lnTo>
                    <a:lnTo>
                      <a:pt x="220" y="26"/>
                    </a:lnTo>
                    <a:lnTo>
                      <a:pt x="276" y="115"/>
                    </a:lnTo>
                    <a:lnTo>
                      <a:pt x="340" y="113"/>
                    </a:lnTo>
                    <a:lnTo>
                      <a:pt x="387" y="134"/>
                    </a:lnTo>
                    <a:lnTo>
                      <a:pt x="409" y="130"/>
                    </a:lnTo>
                    <a:lnTo>
                      <a:pt x="552" y="134"/>
                    </a:lnTo>
                    <a:lnTo>
                      <a:pt x="714" y="170"/>
                    </a:lnTo>
                    <a:lnTo>
                      <a:pt x="722" y="191"/>
                    </a:lnTo>
                    <a:lnTo>
                      <a:pt x="741" y="219"/>
                    </a:lnTo>
                    <a:lnTo>
                      <a:pt x="686" y="301"/>
                    </a:lnTo>
                    <a:lnTo>
                      <a:pt x="652" y="332"/>
                    </a:lnTo>
                    <a:lnTo>
                      <a:pt x="647" y="355"/>
                    </a:lnTo>
                    <a:lnTo>
                      <a:pt x="667" y="379"/>
                    </a:lnTo>
                    <a:lnTo>
                      <a:pt x="644" y="429"/>
                    </a:lnTo>
                    <a:lnTo>
                      <a:pt x="599" y="614"/>
                    </a:lnTo>
                    <a:lnTo>
                      <a:pt x="349" y="554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rgbClr val="ffff99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89"/>
              <p:cNvSpPr/>
              <p:nvPr/>
            </p:nvSpPr>
            <p:spPr>
              <a:xfrm>
                <a:off x="1371600" y="2616840"/>
                <a:ext cx="930960" cy="1639800"/>
              </a:xfrm>
              <a:custGeom>
                <a:avLst/>
                <a:gdLst>
                  <a:gd name="textAreaLeft" fmla="*/ 0 w 930960"/>
                  <a:gd name="textAreaRight" fmla="*/ 931320 w 930960"/>
                  <a:gd name="textAreaTop" fmla="*/ 0 h 1639800"/>
                  <a:gd name="textAreaBottom" fmla="*/ 1640160 h 1639800"/>
                </a:gdLst>
                <a:ahLst/>
                <a:rect l="textAreaLeft" t="textAreaTop" r="textAreaRight" b="textAreaBottom"/>
                <a:pathLst>
                  <a:path w="737" h="1229">
                    <a:moveTo>
                      <a:pt x="24" y="249"/>
                    </a:moveTo>
                    <a:lnTo>
                      <a:pt x="3" y="345"/>
                    </a:lnTo>
                    <a:lnTo>
                      <a:pt x="74" y="499"/>
                    </a:lnTo>
                    <a:lnTo>
                      <a:pt x="87" y="489"/>
                    </a:lnTo>
                    <a:lnTo>
                      <a:pt x="110" y="554"/>
                    </a:lnTo>
                    <a:lnTo>
                      <a:pt x="74" y="508"/>
                    </a:lnTo>
                    <a:lnTo>
                      <a:pt x="66" y="580"/>
                    </a:lnTo>
                    <a:lnTo>
                      <a:pt x="107" y="623"/>
                    </a:lnTo>
                    <a:lnTo>
                      <a:pt x="79" y="683"/>
                    </a:lnTo>
                    <a:lnTo>
                      <a:pt x="157" y="847"/>
                    </a:lnTo>
                    <a:lnTo>
                      <a:pt x="139" y="907"/>
                    </a:lnTo>
                    <a:lnTo>
                      <a:pt x="241" y="953"/>
                    </a:lnTo>
                    <a:lnTo>
                      <a:pt x="278" y="1002"/>
                    </a:lnTo>
                    <a:lnTo>
                      <a:pt x="322" y="1018"/>
                    </a:lnTo>
                    <a:lnTo>
                      <a:pt x="322" y="1047"/>
                    </a:lnTo>
                    <a:lnTo>
                      <a:pt x="350" y="1054"/>
                    </a:lnTo>
                    <a:lnTo>
                      <a:pt x="410" y="1148"/>
                    </a:lnTo>
                    <a:lnTo>
                      <a:pt x="410" y="1214"/>
                    </a:lnTo>
                    <a:lnTo>
                      <a:pt x="672" y="1229"/>
                    </a:lnTo>
                    <a:lnTo>
                      <a:pt x="656" y="1203"/>
                    </a:lnTo>
                    <a:lnTo>
                      <a:pt x="664" y="1162"/>
                    </a:lnTo>
                    <a:lnTo>
                      <a:pt x="706" y="1096"/>
                    </a:lnTo>
                    <a:lnTo>
                      <a:pt x="737" y="1076"/>
                    </a:lnTo>
                    <a:lnTo>
                      <a:pt x="719" y="1052"/>
                    </a:lnTo>
                    <a:lnTo>
                      <a:pt x="708" y="987"/>
                    </a:lnTo>
                    <a:lnTo>
                      <a:pt x="330" y="423"/>
                    </a:lnTo>
                    <a:lnTo>
                      <a:pt x="419" y="96"/>
                    </a:lnTo>
                    <a:lnTo>
                      <a:pt x="70" y="0"/>
                    </a:lnTo>
                    <a:lnTo>
                      <a:pt x="60" y="20"/>
                    </a:lnTo>
                    <a:lnTo>
                      <a:pt x="0" y="164"/>
                    </a:lnTo>
                    <a:lnTo>
                      <a:pt x="24" y="249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90"/>
              <p:cNvSpPr/>
              <p:nvPr/>
            </p:nvSpPr>
            <p:spPr>
              <a:xfrm>
                <a:off x="1788480" y="2742840"/>
                <a:ext cx="749160" cy="118728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1187280"/>
                  <a:gd name="textAreaBottom" fmla="*/ 1187640 h 1187280"/>
                </a:gdLst>
                <a:ahLst/>
                <a:rect l="textAreaLeft" t="textAreaTop" r="textAreaRight" b="textAreaBottom"/>
                <a:pathLst>
                  <a:path w="593" h="891">
                    <a:moveTo>
                      <a:pt x="0" y="327"/>
                    </a:moveTo>
                    <a:lnTo>
                      <a:pt x="378" y="891"/>
                    </a:lnTo>
                    <a:lnTo>
                      <a:pt x="390" y="770"/>
                    </a:lnTo>
                    <a:lnTo>
                      <a:pt x="412" y="764"/>
                    </a:lnTo>
                    <a:lnTo>
                      <a:pt x="447" y="785"/>
                    </a:lnTo>
                    <a:lnTo>
                      <a:pt x="478" y="678"/>
                    </a:lnTo>
                    <a:lnTo>
                      <a:pt x="593" y="113"/>
                    </a:lnTo>
                    <a:lnTo>
                      <a:pt x="339" y="60"/>
                    </a:lnTo>
                    <a:lnTo>
                      <a:pt x="89" y="0"/>
                    </a:lnTo>
                    <a:lnTo>
                      <a:pt x="0" y="327"/>
                    </a:lnTo>
                    <a:close/>
                  </a:path>
                </a:pathLst>
              </a:custGeom>
              <a:solidFill>
                <a:srgbClr val="ffff99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91"/>
              <p:cNvSpPr/>
              <p:nvPr/>
            </p:nvSpPr>
            <p:spPr>
              <a:xfrm>
                <a:off x="2217600" y="1791720"/>
                <a:ext cx="702360" cy="1163520"/>
              </a:xfrm>
              <a:custGeom>
                <a:avLst/>
                <a:gdLst>
                  <a:gd name="textAreaLeft" fmla="*/ 0 w 702360"/>
                  <a:gd name="textAreaRight" fmla="*/ 702720 w 702360"/>
                  <a:gd name="textAreaTop" fmla="*/ 0 h 1163520"/>
                  <a:gd name="textAreaBottom" fmla="*/ 1163880 h 1163520"/>
                </a:gdLst>
                <a:ahLst/>
                <a:rect l="textAreaLeft" t="textAreaTop" r="textAreaRight" b="textAreaBottom"/>
                <a:pathLst>
                  <a:path w="557" h="874">
                    <a:moveTo>
                      <a:pt x="0" y="774"/>
                    </a:moveTo>
                    <a:lnTo>
                      <a:pt x="45" y="589"/>
                    </a:lnTo>
                    <a:lnTo>
                      <a:pt x="68" y="539"/>
                    </a:lnTo>
                    <a:lnTo>
                      <a:pt x="48" y="515"/>
                    </a:lnTo>
                    <a:lnTo>
                      <a:pt x="53" y="492"/>
                    </a:lnTo>
                    <a:lnTo>
                      <a:pt x="87" y="461"/>
                    </a:lnTo>
                    <a:lnTo>
                      <a:pt x="142" y="379"/>
                    </a:lnTo>
                    <a:lnTo>
                      <a:pt x="123" y="351"/>
                    </a:lnTo>
                    <a:lnTo>
                      <a:pt x="115" y="330"/>
                    </a:lnTo>
                    <a:lnTo>
                      <a:pt x="118" y="283"/>
                    </a:lnTo>
                    <a:lnTo>
                      <a:pt x="186" y="0"/>
                    </a:lnTo>
                    <a:lnTo>
                      <a:pt x="259" y="16"/>
                    </a:lnTo>
                    <a:lnTo>
                      <a:pt x="234" y="126"/>
                    </a:lnTo>
                    <a:lnTo>
                      <a:pt x="251" y="165"/>
                    </a:lnTo>
                    <a:lnTo>
                      <a:pt x="252" y="189"/>
                    </a:lnTo>
                    <a:lnTo>
                      <a:pt x="244" y="194"/>
                    </a:lnTo>
                    <a:lnTo>
                      <a:pt x="272" y="220"/>
                    </a:lnTo>
                    <a:lnTo>
                      <a:pt x="301" y="291"/>
                    </a:lnTo>
                    <a:lnTo>
                      <a:pt x="311" y="354"/>
                    </a:lnTo>
                    <a:lnTo>
                      <a:pt x="315" y="388"/>
                    </a:lnTo>
                    <a:lnTo>
                      <a:pt x="294" y="421"/>
                    </a:lnTo>
                    <a:lnTo>
                      <a:pt x="309" y="435"/>
                    </a:lnTo>
                    <a:lnTo>
                      <a:pt x="348" y="414"/>
                    </a:lnTo>
                    <a:lnTo>
                      <a:pt x="374" y="526"/>
                    </a:lnTo>
                    <a:lnTo>
                      <a:pt x="391" y="532"/>
                    </a:lnTo>
                    <a:lnTo>
                      <a:pt x="395" y="565"/>
                    </a:lnTo>
                    <a:lnTo>
                      <a:pt x="445" y="578"/>
                    </a:lnTo>
                    <a:lnTo>
                      <a:pt x="524" y="578"/>
                    </a:lnTo>
                    <a:lnTo>
                      <a:pt x="557" y="592"/>
                    </a:lnTo>
                    <a:lnTo>
                      <a:pt x="510" y="874"/>
                    </a:lnTo>
                    <a:lnTo>
                      <a:pt x="254" y="827"/>
                    </a:lnTo>
                    <a:lnTo>
                      <a:pt x="0" y="774"/>
                    </a:lnTo>
                    <a:close/>
                  </a:path>
                </a:pathLst>
              </a:custGeom>
              <a:solidFill>
                <a:srgbClr val="ffffff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2"/>
              <p:cNvSpPr/>
              <p:nvPr/>
            </p:nvSpPr>
            <p:spPr>
              <a:xfrm>
                <a:off x="2512800" y="1812960"/>
                <a:ext cx="1200960" cy="785520"/>
              </a:xfrm>
              <a:custGeom>
                <a:avLst/>
                <a:gdLst>
                  <a:gd name="textAreaLeft" fmla="*/ 0 w 1200960"/>
                  <a:gd name="textAreaRight" fmla="*/ 1201320 w 1200960"/>
                  <a:gd name="textAreaTop" fmla="*/ 0 h 785520"/>
                  <a:gd name="textAreaBottom" fmla="*/ 785880 h 785520"/>
                </a:gdLst>
                <a:ahLst/>
                <a:rect l="textAreaLeft" t="textAreaTop" r="textAreaRight" b="textAreaBottom"/>
                <a:pathLst>
                  <a:path w="952" h="589">
                    <a:moveTo>
                      <a:pt x="17" y="149"/>
                    </a:moveTo>
                    <a:lnTo>
                      <a:pt x="18" y="173"/>
                    </a:lnTo>
                    <a:lnTo>
                      <a:pt x="10" y="178"/>
                    </a:lnTo>
                    <a:lnTo>
                      <a:pt x="38" y="204"/>
                    </a:lnTo>
                    <a:lnTo>
                      <a:pt x="67" y="275"/>
                    </a:lnTo>
                    <a:lnTo>
                      <a:pt x="77" y="338"/>
                    </a:lnTo>
                    <a:lnTo>
                      <a:pt x="81" y="372"/>
                    </a:lnTo>
                    <a:lnTo>
                      <a:pt x="60" y="405"/>
                    </a:lnTo>
                    <a:lnTo>
                      <a:pt x="75" y="419"/>
                    </a:lnTo>
                    <a:lnTo>
                      <a:pt x="114" y="398"/>
                    </a:lnTo>
                    <a:lnTo>
                      <a:pt x="140" y="510"/>
                    </a:lnTo>
                    <a:lnTo>
                      <a:pt x="157" y="516"/>
                    </a:lnTo>
                    <a:lnTo>
                      <a:pt x="161" y="549"/>
                    </a:lnTo>
                    <a:lnTo>
                      <a:pt x="175" y="563"/>
                    </a:lnTo>
                    <a:lnTo>
                      <a:pt x="211" y="562"/>
                    </a:lnTo>
                    <a:lnTo>
                      <a:pt x="290" y="562"/>
                    </a:lnTo>
                    <a:lnTo>
                      <a:pt x="323" y="576"/>
                    </a:lnTo>
                    <a:lnTo>
                      <a:pt x="332" y="518"/>
                    </a:lnTo>
                    <a:lnTo>
                      <a:pt x="591" y="557"/>
                    </a:lnTo>
                    <a:lnTo>
                      <a:pt x="910" y="589"/>
                    </a:lnTo>
                    <a:lnTo>
                      <a:pt x="920" y="482"/>
                    </a:lnTo>
                    <a:lnTo>
                      <a:pt x="952" y="138"/>
                    </a:lnTo>
                    <a:lnTo>
                      <a:pt x="530" y="89"/>
                    </a:lnTo>
                    <a:lnTo>
                      <a:pt x="321" y="57"/>
                    </a:lnTo>
                    <a:lnTo>
                      <a:pt x="25" y="0"/>
                    </a:lnTo>
                    <a:lnTo>
                      <a:pt x="0" y="110"/>
                    </a:lnTo>
                    <a:lnTo>
                      <a:pt x="17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93"/>
              <p:cNvSpPr/>
              <p:nvPr/>
            </p:nvSpPr>
            <p:spPr>
              <a:xfrm>
                <a:off x="2170800" y="3644640"/>
                <a:ext cx="801360" cy="953280"/>
              </a:xfrm>
              <a:custGeom>
                <a:avLst/>
                <a:gdLst>
                  <a:gd name="textAreaLeft" fmla="*/ 0 w 801360"/>
                  <a:gd name="textAreaRight" fmla="*/ 801720 w 801360"/>
                  <a:gd name="textAreaTop" fmla="*/ 0 h 953280"/>
                  <a:gd name="textAreaBottom" fmla="*/ 953640 h 953280"/>
                </a:gdLst>
                <a:ahLst/>
                <a:rect l="textAreaLeft" t="textAreaTop" r="textAreaRight" b="textAreaBottom"/>
                <a:pathLst>
                  <a:path w="635" h="715">
                    <a:moveTo>
                      <a:pt x="41" y="455"/>
                    </a:moveTo>
                    <a:lnTo>
                      <a:pt x="25" y="429"/>
                    </a:lnTo>
                    <a:lnTo>
                      <a:pt x="33" y="388"/>
                    </a:lnTo>
                    <a:lnTo>
                      <a:pt x="75" y="322"/>
                    </a:lnTo>
                    <a:lnTo>
                      <a:pt x="106" y="302"/>
                    </a:lnTo>
                    <a:lnTo>
                      <a:pt x="88" y="278"/>
                    </a:lnTo>
                    <a:lnTo>
                      <a:pt x="77" y="213"/>
                    </a:lnTo>
                    <a:lnTo>
                      <a:pt x="89" y="92"/>
                    </a:lnTo>
                    <a:lnTo>
                      <a:pt x="111" y="86"/>
                    </a:lnTo>
                    <a:lnTo>
                      <a:pt x="146" y="107"/>
                    </a:lnTo>
                    <a:lnTo>
                      <a:pt x="177" y="0"/>
                    </a:lnTo>
                    <a:lnTo>
                      <a:pt x="635" y="76"/>
                    </a:lnTo>
                    <a:lnTo>
                      <a:pt x="540" y="715"/>
                    </a:lnTo>
                    <a:lnTo>
                      <a:pt x="399" y="696"/>
                    </a:lnTo>
                    <a:lnTo>
                      <a:pt x="311" y="672"/>
                    </a:lnTo>
                    <a:lnTo>
                      <a:pt x="132" y="600"/>
                    </a:lnTo>
                    <a:lnTo>
                      <a:pt x="0" y="490"/>
                    </a:lnTo>
                    <a:lnTo>
                      <a:pt x="41" y="455"/>
                    </a:lnTo>
                    <a:close/>
                  </a:path>
                </a:pathLst>
              </a:custGeom>
              <a:solidFill>
                <a:srgbClr val="ff7c80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94"/>
              <p:cNvSpPr/>
              <p:nvPr/>
            </p:nvSpPr>
            <p:spPr>
              <a:xfrm>
                <a:off x="2835000" y="2502000"/>
                <a:ext cx="826920" cy="704160"/>
              </a:xfrm>
              <a:custGeom>
                <a:avLst/>
                <a:gdLst>
                  <a:gd name="textAreaLeft" fmla="*/ 0 w 826920"/>
                  <a:gd name="textAreaRight" fmla="*/ 827280 w 82692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655" h="528">
                    <a:moveTo>
                      <a:pt x="0" y="452"/>
                    </a:moveTo>
                    <a:lnTo>
                      <a:pt x="77" y="0"/>
                    </a:lnTo>
                    <a:lnTo>
                      <a:pt x="336" y="39"/>
                    </a:lnTo>
                    <a:lnTo>
                      <a:pt x="655" y="71"/>
                    </a:lnTo>
                    <a:lnTo>
                      <a:pt x="633" y="299"/>
                    </a:lnTo>
                    <a:lnTo>
                      <a:pt x="612" y="528"/>
                    </a:lnTo>
                    <a:lnTo>
                      <a:pt x="176" y="479"/>
                    </a:lnTo>
                    <a:lnTo>
                      <a:pt x="0" y="452"/>
                    </a:lnTo>
                    <a:close/>
                  </a:path>
                </a:pathLst>
              </a:custGeom>
              <a:solidFill>
                <a:srgbClr val="ffff99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95"/>
              <p:cNvSpPr/>
              <p:nvPr/>
            </p:nvSpPr>
            <p:spPr>
              <a:xfrm>
                <a:off x="2971080" y="3140640"/>
                <a:ext cx="852120" cy="694440"/>
              </a:xfrm>
              <a:custGeom>
                <a:avLst/>
                <a:gdLst>
                  <a:gd name="textAreaLeft" fmla="*/ 0 w 852120"/>
                  <a:gd name="textAreaRight" fmla="*/ 852480 w 852120"/>
                  <a:gd name="textAreaTop" fmla="*/ 0 h 694440"/>
                  <a:gd name="textAreaBottom" fmla="*/ 694800 h 694440"/>
                </a:gdLst>
                <a:ahLst/>
                <a:rect l="textAreaLeft" t="textAreaTop" r="textAreaRight" b="textAreaBottom"/>
                <a:pathLst>
                  <a:path w="678" h="521">
                    <a:moveTo>
                      <a:pt x="68" y="0"/>
                    </a:moveTo>
                    <a:lnTo>
                      <a:pt x="504" y="49"/>
                    </a:lnTo>
                    <a:lnTo>
                      <a:pt x="678" y="63"/>
                    </a:lnTo>
                    <a:lnTo>
                      <a:pt x="672" y="176"/>
                    </a:lnTo>
                    <a:lnTo>
                      <a:pt x="648" y="521"/>
                    </a:lnTo>
                    <a:lnTo>
                      <a:pt x="559" y="515"/>
                    </a:lnTo>
                    <a:lnTo>
                      <a:pt x="282" y="490"/>
                    </a:lnTo>
                    <a:lnTo>
                      <a:pt x="0" y="455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9900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96"/>
              <p:cNvSpPr/>
              <p:nvPr/>
            </p:nvSpPr>
            <p:spPr>
              <a:xfrm>
                <a:off x="2850840" y="3746880"/>
                <a:ext cx="826920" cy="866520"/>
              </a:xfrm>
              <a:custGeom>
                <a:avLst/>
                <a:gdLst>
                  <a:gd name="textAreaLeft" fmla="*/ 0 w 826920"/>
                  <a:gd name="textAreaRight" fmla="*/ 827280 w 826920"/>
                  <a:gd name="textAreaTop" fmla="*/ 0 h 866520"/>
                  <a:gd name="textAreaBottom" fmla="*/ 866880 h 866520"/>
                </a:gdLst>
                <a:ahLst/>
                <a:rect l="textAreaLeft" t="textAreaTop" r="textAreaRight" b="textAreaBottom"/>
                <a:pathLst>
                  <a:path w="654" h="651">
                    <a:moveTo>
                      <a:pt x="82" y="651"/>
                    </a:moveTo>
                    <a:lnTo>
                      <a:pt x="90" y="602"/>
                    </a:lnTo>
                    <a:lnTo>
                      <a:pt x="254" y="623"/>
                    </a:lnTo>
                    <a:lnTo>
                      <a:pt x="247" y="599"/>
                    </a:lnTo>
                    <a:lnTo>
                      <a:pt x="600" y="631"/>
                    </a:lnTo>
                    <a:lnTo>
                      <a:pt x="654" y="60"/>
                    </a:lnTo>
                    <a:lnTo>
                      <a:pt x="377" y="35"/>
                    </a:lnTo>
                    <a:lnTo>
                      <a:pt x="95" y="0"/>
                    </a:lnTo>
                    <a:lnTo>
                      <a:pt x="0" y="639"/>
                    </a:lnTo>
                    <a:lnTo>
                      <a:pt x="82" y="651"/>
                    </a:lnTo>
                    <a:close/>
                  </a:path>
                </a:pathLst>
              </a:custGeom>
              <a:solidFill>
                <a:schemeClr val="tx2">
                  <a:lumMod val="40000"/>
                  <a:lumOff val="60000"/>
                </a:schemeClr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97"/>
              <p:cNvSpPr/>
              <p:nvPr/>
            </p:nvSpPr>
            <p:spPr>
              <a:xfrm>
                <a:off x="3163680" y="3908160"/>
                <a:ext cx="1639440" cy="1631160"/>
              </a:xfrm>
              <a:custGeom>
                <a:avLst/>
                <a:gdLst>
                  <a:gd name="textAreaLeft" fmla="*/ 0 w 1639440"/>
                  <a:gd name="textAreaRight" fmla="*/ 1639800 w 1639440"/>
                  <a:gd name="textAreaTop" fmla="*/ 0 h 1631160"/>
                  <a:gd name="textAreaBottom" fmla="*/ 1631520 h 1631160"/>
                </a:gdLst>
                <a:ahLst/>
                <a:rect l="textAreaLeft" t="textAreaTop" r="textAreaRight" b="textAreaBottom"/>
                <a:pathLst>
                  <a:path w="1300" h="1225">
                    <a:moveTo>
                      <a:pt x="0" y="479"/>
                    </a:moveTo>
                    <a:lnTo>
                      <a:pt x="353" y="511"/>
                    </a:lnTo>
                    <a:lnTo>
                      <a:pt x="402" y="0"/>
                    </a:lnTo>
                    <a:lnTo>
                      <a:pt x="684" y="16"/>
                    </a:lnTo>
                    <a:lnTo>
                      <a:pt x="674" y="236"/>
                    </a:lnTo>
                    <a:lnTo>
                      <a:pt x="701" y="259"/>
                    </a:lnTo>
                    <a:lnTo>
                      <a:pt x="727" y="259"/>
                    </a:lnTo>
                    <a:lnTo>
                      <a:pt x="748" y="280"/>
                    </a:lnTo>
                    <a:lnTo>
                      <a:pt x="790" y="289"/>
                    </a:lnTo>
                    <a:lnTo>
                      <a:pt x="876" y="327"/>
                    </a:lnTo>
                    <a:lnTo>
                      <a:pt x="891" y="310"/>
                    </a:lnTo>
                    <a:lnTo>
                      <a:pt x="946" y="343"/>
                    </a:lnTo>
                    <a:lnTo>
                      <a:pt x="1019" y="341"/>
                    </a:lnTo>
                    <a:lnTo>
                      <a:pt x="1069" y="327"/>
                    </a:lnTo>
                    <a:lnTo>
                      <a:pt x="1138" y="314"/>
                    </a:lnTo>
                    <a:lnTo>
                      <a:pt x="1202" y="348"/>
                    </a:lnTo>
                    <a:lnTo>
                      <a:pt x="1211" y="359"/>
                    </a:lnTo>
                    <a:lnTo>
                      <a:pt x="1245" y="359"/>
                    </a:lnTo>
                    <a:lnTo>
                      <a:pt x="1252" y="540"/>
                    </a:lnTo>
                    <a:lnTo>
                      <a:pt x="1300" y="629"/>
                    </a:lnTo>
                    <a:lnTo>
                      <a:pt x="1283" y="699"/>
                    </a:lnTo>
                    <a:lnTo>
                      <a:pt x="1286" y="757"/>
                    </a:lnTo>
                    <a:lnTo>
                      <a:pt x="1265" y="786"/>
                    </a:lnTo>
                    <a:lnTo>
                      <a:pt x="1273" y="796"/>
                    </a:lnTo>
                    <a:lnTo>
                      <a:pt x="1219" y="812"/>
                    </a:lnTo>
                    <a:lnTo>
                      <a:pt x="1177" y="817"/>
                    </a:lnTo>
                    <a:lnTo>
                      <a:pt x="1185" y="786"/>
                    </a:lnTo>
                    <a:lnTo>
                      <a:pt x="1163" y="804"/>
                    </a:lnTo>
                    <a:lnTo>
                      <a:pt x="1164" y="840"/>
                    </a:lnTo>
                    <a:lnTo>
                      <a:pt x="1135" y="877"/>
                    </a:lnTo>
                    <a:lnTo>
                      <a:pt x="981" y="955"/>
                    </a:lnTo>
                    <a:lnTo>
                      <a:pt x="933" y="1005"/>
                    </a:lnTo>
                    <a:lnTo>
                      <a:pt x="888" y="1113"/>
                    </a:lnTo>
                    <a:lnTo>
                      <a:pt x="925" y="1225"/>
                    </a:lnTo>
                    <a:lnTo>
                      <a:pt x="889" y="1225"/>
                    </a:lnTo>
                    <a:lnTo>
                      <a:pt x="722" y="1167"/>
                    </a:lnTo>
                    <a:lnTo>
                      <a:pt x="705" y="1118"/>
                    </a:lnTo>
                    <a:lnTo>
                      <a:pt x="687" y="1097"/>
                    </a:lnTo>
                    <a:lnTo>
                      <a:pt x="682" y="1032"/>
                    </a:lnTo>
                    <a:lnTo>
                      <a:pt x="650" y="1010"/>
                    </a:lnTo>
                    <a:lnTo>
                      <a:pt x="560" y="838"/>
                    </a:lnTo>
                    <a:lnTo>
                      <a:pt x="517" y="806"/>
                    </a:lnTo>
                    <a:lnTo>
                      <a:pt x="504" y="778"/>
                    </a:lnTo>
                    <a:lnTo>
                      <a:pt x="373" y="772"/>
                    </a:lnTo>
                    <a:lnTo>
                      <a:pt x="303" y="853"/>
                    </a:lnTo>
                    <a:lnTo>
                      <a:pt x="185" y="768"/>
                    </a:lnTo>
                    <a:lnTo>
                      <a:pt x="149" y="652"/>
                    </a:lnTo>
                    <a:lnTo>
                      <a:pt x="36" y="544"/>
                    </a:lnTo>
                    <a:lnTo>
                      <a:pt x="23" y="508"/>
                    </a:lnTo>
                    <a:lnTo>
                      <a:pt x="7" y="503"/>
                    </a:lnTo>
                    <a:lnTo>
                      <a:pt x="0" y="479"/>
                    </a:lnTo>
                    <a:close/>
                  </a:path>
                </a:pathLst>
              </a:custGeom>
              <a:solidFill>
                <a:srgbClr val="ffff99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98"/>
              <p:cNvSpPr/>
              <p:nvPr/>
            </p:nvSpPr>
            <p:spPr>
              <a:xfrm>
                <a:off x="3675240" y="1997640"/>
                <a:ext cx="774720" cy="499680"/>
              </a:xfrm>
              <a:custGeom>
                <a:avLst/>
                <a:gdLst>
                  <a:gd name="textAreaLeft" fmla="*/ 0 w 774720"/>
                  <a:gd name="textAreaRight" fmla="*/ 775080 w 7747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12" h="375">
                    <a:moveTo>
                      <a:pt x="32" y="0"/>
                    </a:moveTo>
                    <a:lnTo>
                      <a:pt x="565" y="27"/>
                    </a:lnTo>
                    <a:lnTo>
                      <a:pt x="568" y="121"/>
                    </a:lnTo>
                    <a:lnTo>
                      <a:pt x="593" y="199"/>
                    </a:lnTo>
                    <a:lnTo>
                      <a:pt x="596" y="296"/>
                    </a:lnTo>
                    <a:lnTo>
                      <a:pt x="612" y="375"/>
                    </a:lnTo>
                    <a:lnTo>
                      <a:pt x="290" y="365"/>
                    </a:lnTo>
                    <a:lnTo>
                      <a:pt x="0" y="34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99"/>
              <p:cNvSpPr/>
              <p:nvPr/>
            </p:nvSpPr>
            <p:spPr>
              <a:xfrm>
                <a:off x="3635280" y="2455920"/>
                <a:ext cx="825480" cy="569520"/>
              </a:xfrm>
              <a:custGeom>
                <a:avLst/>
                <a:gdLst>
                  <a:gd name="textAreaLeft" fmla="*/ 0 w 825480"/>
                  <a:gd name="textAreaRight" fmla="*/ 825840 w 825480"/>
                  <a:gd name="textAreaTop" fmla="*/ 0 h 569520"/>
                  <a:gd name="textAreaBottom" fmla="*/ 569880 h 569520"/>
                </a:gdLst>
                <a:ahLst/>
                <a:rect l="textAreaLeft" t="textAreaTop" r="textAreaRight" b="textAreaBottom"/>
                <a:pathLst>
                  <a:path w="654" h="428">
                    <a:moveTo>
                      <a:pt x="32" y="0"/>
                    </a:moveTo>
                    <a:lnTo>
                      <a:pt x="322" y="21"/>
                    </a:lnTo>
                    <a:lnTo>
                      <a:pt x="644" y="31"/>
                    </a:lnTo>
                    <a:lnTo>
                      <a:pt x="623" y="72"/>
                    </a:lnTo>
                    <a:lnTo>
                      <a:pt x="654" y="101"/>
                    </a:lnTo>
                    <a:lnTo>
                      <a:pt x="652" y="311"/>
                    </a:lnTo>
                    <a:lnTo>
                      <a:pt x="639" y="309"/>
                    </a:lnTo>
                    <a:lnTo>
                      <a:pt x="641" y="337"/>
                    </a:lnTo>
                    <a:lnTo>
                      <a:pt x="651" y="358"/>
                    </a:lnTo>
                    <a:lnTo>
                      <a:pt x="644" y="377"/>
                    </a:lnTo>
                    <a:lnTo>
                      <a:pt x="651" y="428"/>
                    </a:lnTo>
                    <a:lnTo>
                      <a:pt x="636" y="423"/>
                    </a:lnTo>
                    <a:lnTo>
                      <a:pt x="620" y="403"/>
                    </a:lnTo>
                    <a:lnTo>
                      <a:pt x="561" y="384"/>
                    </a:lnTo>
                    <a:lnTo>
                      <a:pt x="505" y="387"/>
                    </a:lnTo>
                    <a:lnTo>
                      <a:pt x="472" y="363"/>
                    </a:lnTo>
                    <a:lnTo>
                      <a:pt x="0" y="33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00"/>
              <p:cNvSpPr/>
              <p:nvPr/>
            </p:nvSpPr>
            <p:spPr>
              <a:xfrm>
                <a:off x="3608640" y="2899800"/>
                <a:ext cx="968400" cy="498240"/>
              </a:xfrm>
              <a:custGeom>
                <a:avLst/>
                <a:gdLst>
                  <a:gd name="textAreaLeft" fmla="*/ 0 w 968400"/>
                  <a:gd name="textAreaRight" fmla="*/ 968760 w 968400"/>
                  <a:gd name="textAreaTop" fmla="*/ 0 h 498240"/>
                  <a:gd name="textAreaBottom" fmla="*/ 498600 h 498240"/>
                </a:gdLst>
                <a:ahLst/>
                <a:rect l="textAreaLeft" t="textAreaTop" r="textAreaRight" b="textAreaBottom"/>
                <a:pathLst>
                  <a:path w="767" h="374">
                    <a:moveTo>
                      <a:pt x="21" y="0"/>
                    </a:moveTo>
                    <a:lnTo>
                      <a:pt x="493" y="28"/>
                    </a:lnTo>
                    <a:lnTo>
                      <a:pt x="526" y="52"/>
                    </a:lnTo>
                    <a:lnTo>
                      <a:pt x="582" y="49"/>
                    </a:lnTo>
                    <a:lnTo>
                      <a:pt x="641" y="68"/>
                    </a:lnTo>
                    <a:lnTo>
                      <a:pt x="657" y="88"/>
                    </a:lnTo>
                    <a:lnTo>
                      <a:pt x="672" y="93"/>
                    </a:lnTo>
                    <a:lnTo>
                      <a:pt x="697" y="164"/>
                    </a:lnTo>
                    <a:lnTo>
                      <a:pt x="697" y="185"/>
                    </a:lnTo>
                    <a:lnTo>
                      <a:pt x="715" y="219"/>
                    </a:lnTo>
                    <a:lnTo>
                      <a:pt x="723" y="272"/>
                    </a:lnTo>
                    <a:lnTo>
                      <a:pt x="718" y="289"/>
                    </a:lnTo>
                    <a:lnTo>
                      <a:pt x="730" y="306"/>
                    </a:lnTo>
                    <a:lnTo>
                      <a:pt x="767" y="374"/>
                    </a:lnTo>
                    <a:lnTo>
                      <a:pt x="425" y="371"/>
                    </a:lnTo>
                    <a:lnTo>
                      <a:pt x="168" y="356"/>
                    </a:lnTo>
                    <a:lnTo>
                      <a:pt x="174" y="243"/>
                    </a:lnTo>
                    <a:lnTo>
                      <a:pt x="0" y="229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01"/>
              <p:cNvSpPr/>
              <p:nvPr/>
            </p:nvSpPr>
            <p:spPr>
              <a:xfrm>
                <a:off x="3791520" y="3377160"/>
                <a:ext cx="870840" cy="487080"/>
              </a:xfrm>
              <a:custGeom>
                <a:avLst/>
                <a:gdLst>
                  <a:gd name="textAreaLeft" fmla="*/ 0 w 870840"/>
                  <a:gd name="textAreaRight" fmla="*/ 871200 w 870840"/>
                  <a:gd name="textAreaTop" fmla="*/ 0 h 487080"/>
                  <a:gd name="textAreaBottom" fmla="*/ 487440 h 487080"/>
                </a:gdLst>
                <a:ahLst/>
                <a:rect l="textAreaLeft" t="textAreaTop" r="textAreaRight" b="textAreaBottom"/>
                <a:pathLst>
                  <a:path w="691" h="363">
                    <a:moveTo>
                      <a:pt x="24" y="0"/>
                    </a:moveTo>
                    <a:lnTo>
                      <a:pt x="281" y="15"/>
                    </a:lnTo>
                    <a:lnTo>
                      <a:pt x="623" y="18"/>
                    </a:lnTo>
                    <a:lnTo>
                      <a:pt x="642" y="34"/>
                    </a:lnTo>
                    <a:lnTo>
                      <a:pt x="652" y="31"/>
                    </a:lnTo>
                    <a:lnTo>
                      <a:pt x="665" y="49"/>
                    </a:lnTo>
                    <a:lnTo>
                      <a:pt x="654" y="49"/>
                    </a:lnTo>
                    <a:lnTo>
                      <a:pt x="642" y="73"/>
                    </a:lnTo>
                    <a:lnTo>
                      <a:pt x="670" y="112"/>
                    </a:lnTo>
                    <a:lnTo>
                      <a:pt x="691" y="117"/>
                    </a:lnTo>
                    <a:lnTo>
                      <a:pt x="688" y="361"/>
                    </a:lnTo>
                    <a:lnTo>
                      <a:pt x="395" y="363"/>
                    </a:lnTo>
                    <a:lnTo>
                      <a:pt x="0" y="34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02"/>
              <p:cNvSpPr/>
              <p:nvPr/>
            </p:nvSpPr>
            <p:spPr>
              <a:xfrm>
                <a:off x="3671280" y="3829680"/>
                <a:ext cx="1013760" cy="545760"/>
              </a:xfrm>
              <a:custGeom>
                <a:avLst/>
                <a:gdLst>
                  <a:gd name="textAreaLeft" fmla="*/ 0 w 1013760"/>
                  <a:gd name="textAreaRight" fmla="*/ 1014120 w 101376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803" h="408">
                    <a:moveTo>
                      <a:pt x="5" y="0"/>
                    </a:moveTo>
                    <a:lnTo>
                      <a:pt x="94" y="6"/>
                    </a:lnTo>
                    <a:lnTo>
                      <a:pt x="489" y="24"/>
                    </a:lnTo>
                    <a:lnTo>
                      <a:pt x="782" y="22"/>
                    </a:lnTo>
                    <a:lnTo>
                      <a:pt x="785" y="82"/>
                    </a:lnTo>
                    <a:lnTo>
                      <a:pt x="803" y="210"/>
                    </a:lnTo>
                    <a:lnTo>
                      <a:pt x="800" y="408"/>
                    </a:lnTo>
                    <a:lnTo>
                      <a:pt x="736" y="374"/>
                    </a:lnTo>
                    <a:lnTo>
                      <a:pt x="667" y="387"/>
                    </a:lnTo>
                    <a:lnTo>
                      <a:pt x="617" y="401"/>
                    </a:lnTo>
                    <a:lnTo>
                      <a:pt x="544" y="403"/>
                    </a:lnTo>
                    <a:lnTo>
                      <a:pt x="489" y="370"/>
                    </a:lnTo>
                    <a:lnTo>
                      <a:pt x="474" y="387"/>
                    </a:lnTo>
                    <a:lnTo>
                      <a:pt x="388" y="349"/>
                    </a:lnTo>
                    <a:lnTo>
                      <a:pt x="346" y="340"/>
                    </a:lnTo>
                    <a:lnTo>
                      <a:pt x="325" y="320"/>
                    </a:lnTo>
                    <a:lnTo>
                      <a:pt x="299" y="319"/>
                    </a:lnTo>
                    <a:lnTo>
                      <a:pt x="272" y="296"/>
                    </a:lnTo>
                    <a:lnTo>
                      <a:pt x="282" y="76"/>
                    </a:lnTo>
                    <a:lnTo>
                      <a:pt x="0" y="6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9900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03"/>
              <p:cNvSpPr/>
              <p:nvPr/>
            </p:nvSpPr>
            <p:spPr>
              <a:xfrm>
                <a:off x="4388760" y="1990800"/>
                <a:ext cx="765360" cy="877680"/>
              </a:xfrm>
              <a:custGeom>
                <a:avLst/>
                <a:gdLst>
                  <a:gd name="textAreaLeft" fmla="*/ 0 w 765360"/>
                  <a:gd name="textAreaRight" fmla="*/ 765720 w 765360"/>
                  <a:gd name="textAreaTop" fmla="*/ 0 h 877680"/>
                  <a:gd name="textAreaBottom" fmla="*/ 878040 h 877680"/>
                </a:gdLst>
                <a:ahLst/>
                <a:rect l="textAreaLeft" t="textAreaTop" r="textAreaRight" b="textAreaBottom"/>
                <a:pathLst>
                  <a:path w="606" h="659">
                    <a:moveTo>
                      <a:pt x="3" y="125"/>
                    </a:moveTo>
                    <a:lnTo>
                      <a:pt x="28" y="203"/>
                    </a:lnTo>
                    <a:lnTo>
                      <a:pt x="31" y="300"/>
                    </a:lnTo>
                    <a:lnTo>
                      <a:pt x="47" y="379"/>
                    </a:lnTo>
                    <a:lnTo>
                      <a:pt x="26" y="420"/>
                    </a:lnTo>
                    <a:lnTo>
                      <a:pt x="57" y="449"/>
                    </a:lnTo>
                    <a:lnTo>
                      <a:pt x="55" y="659"/>
                    </a:lnTo>
                    <a:lnTo>
                      <a:pt x="497" y="651"/>
                    </a:lnTo>
                    <a:lnTo>
                      <a:pt x="491" y="609"/>
                    </a:lnTo>
                    <a:lnTo>
                      <a:pt x="442" y="573"/>
                    </a:lnTo>
                    <a:lnTo>
                      <a:pt x="419" y="547"/>
                    </a:lnTo>
                    <a:lnTo>
                      <a:pt x="359" y="510"/>
                    </a:lnTo>
                    <a:lnTo>
                      <a:pt x="361" y="450"/>
                    </a:lnTo>
                    <a:lnTo>
                      <a:pt x="348" y="410"/>
                    </a:lnTo>
                    <a:lnTo>
                      <a:pt x="397" y="352"/>
                    </a:lnTo>
                    <a:lnTo>
                      <a:pt x="393" y="293"/>
                    </a:lnTo>
                    <a:lnTo>
                      <a:pt x="474" y="233"/>
                    </a:lnTo>
                    <a:lnTo>
                      <a:pt x="494" y="199"/>
                    </a:lnTo>
                    <a:lnTo>
                      <a:pt x="606" y="141"/>
                    </a:lnTo>
                    <a:lnTo>
                      <a:pt x="555" y="120"/>
                    </a:lnTo>
                    <a:lnTo>
                      <a:pt x="512" y="125"/>
                    </a:lnTo>
                    <a:lnTo>
                      <a:pt x="502" y="109"/>
                    </a:lnTo>
                    <a:lnTo>
                      <a:pt x="421" y="107"/>
                    </a:lnTo>
                    <a:lnTo>
                      <a:pt x="368" y="91"/>
                    </a:lnTo>
                    <a:lnTo>
                      <a:pt x="256" y="80"/>
                    </a:lnTo>
                    <a:lnTo>
                      <a:pt x="240" y="60"/>
                    </a:lnTo>
                    <a:lnTo>
                      <a:pt x="194" y="42"/>
                    </a:lnTo>
                    <a:lnTo>
                      <a:pt x="186" y="0"/>
                    </a:lnTo>
                    <a:lnTo>
                      <a:pt x="159" y="0"/>
                    </a:lnTo>
                    <a:lnTo>
                      <a:pt x="159" y="31"/>
                    </a:lnTo>
                    <a:lnTo>
                      <a:pt x="0" y="31"/>
                    </a:lnTo>
                    <a:lnTo>
                      <a:pt x="3" y="125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04"/>
              <p:cNvSpPr/>
              <p:nvPr/>
            </p:nvSpPr>
            <p:spPr>
              <a:xfrm>
                <a:off x="4442400" y="2859120"/>
                <a:ext cx="701280" cy="477360"/>
              </a:xfrm>
              <a:custGeom>
                <a:avLst/>
                <a:gdLst>
                  <a:gd name="textAreaLeft" fmla="*/ 0 w 701280"/>
                  <a:gd name="textAreaRight" fmla="*/ 701640 w 7012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555" h="358">
                    <a:moveTo>
                      <a:pt x="2" y="34"/>
                    </a:moveTo>
                    <a:lnTo>
                      <a:pt x="12" y="55"/>
                    </a:lnTo>
                    <a:lnTo>
                      <a:pt x="5" y="74"/>
                    </a:lnTo>
                    <a:lnTo>
                      <a:pt x="12" y="125"/>
                    </a:lnTo>
                    <a:lnTo>
                      <a:pt x="37" y="196"/>
                    </a:lnTo>
                    <a:lnTo>
                      <a:pt x="37" y="217"/>
                    </a:lnTo>
                    <a:lnTo>
                      <a:pt x="55" y="251"/>
                    </a:lnTo>
                    <a:lnTo>
                      <a:pt x="63" y="304"/>
                    </a:lnTo>
                    <a:lnTo>
                      <a:pt x="58" y="321"/>
                    </a:lnTo>
                    <a:lnTo>
                      <a:pt x="70" y="338"/>
                    </a:lnTo>
                    <a:lnTo>
                      <a:pt x="429" y="330"/>
                    </a:lnTo>
                    <a:lnTo>
                      <a:pt x="455" y="358"/>
                    </a:lnTo>
                    <a:lnTo>
                      <a:pt x="492" y="277"/>
                    </a:lnTo>
                    <a:lnTo>
                      <a:pt x="481" y="246"/>
                    </a:lnTo>
                    <a:lnTo>
                      <a:pt x="544" y="197"/>
                    </a:lnTo>
                    <a:lnTo>
                      <a:pt x="555" y="162"/>
                    </a:lnTo>
                    <a:lnTo>
                      <a:pt x="510" y="110"/>
                    </a:lnTo>
                    <a:lnTo>
                      <a:pt x="465" y="57"/>
                    </a:lnTo>
                    <a:lnTo>
                      <a:pt x="455" y="0"/>
                    </a:lnTo>
                    <a:lnTo>
                      <a:pt x="13" y="8"/>
                    </a:lnTo>
                    <a:lnTo>
                      <a:pt x="0" y="6"/>
                    </a:lnTo>
                    <a:lnTo>
                      <a:pt x="2" y="34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05"/>
              <p:cNvSpPr/>
              <p:nvPr/>
            </p:nvSpPr>
            <p:spPr>
              <a:xfrm>
                <a:off x="4530600" y="3297600"/>
                <a:ext cx="778680" cy="69984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699840"/>
                  <a:gd name="textAreaBottom" fmla="*/ 700200 h 699840"/>
                </a:gdLst>
                <a:ahLst/>
                <a:rect l="textAreaLeft" t="textAreaTop" r="textAreaRight" b="textAreaBottom"/>
                <a:pathLst>
                  <a:path w="618" h="525">
                    <a:moveTo>
                      <a:pt x="37" y="76"/>
                    </a:moveTo>
                    <a:lnTo>
                      <a:pt x="56" y="92"/>
                    </a:lnTo>
                    <a:lnTo>
                      <a:pt x="66" y="89"/>
                    </a:lnTo>
                    <a:lnTo>
                      <a:pt x="79" y="107"/>
                    </a:lnTo>
                    <a:lnTo>
                      <a:pt x="68" y="107"/>
                    </a:lnTo>
                    <a:lnTo>
                      <a:pt x="56" y="131"/>
                    </a:lnTo>
                    <a:lnTo>
                      <a:pt x="84" y="170"/>
                    </a:lnTo>
                    <a:lnTo>
                      <a:pt x="105" y="175"/>
                    </a:lnTo>
                    <a:lnTo>
                      <a:pt x="102" y="419"/>
                    </a:lnTo>
                    <a:lnTo>
                      <a:pt x="105" y="479"/>
                    </a:lnTo>
                    <a:lnTo>
                      <a:pt x="516" y="466"/>
                    </a:lnTo>
                    <a:lnTo>
                      <a:pt x="521" y="502"/>
                    </a:lnTo>
                    <a:lnTo>
                      <a:pt x="503" y="525"/>
                    </a:lnTo>
                    <a:lnTo>
                      <a:pt x="566" y="521"/>
                    </a:lnTo>
                    <a:lnTo>
                      <a:pt x="578" y="502"/>
                    </a:lnTo>
                    <a:lnTo>
                      <a:pt x="578" y="479"/>
                    </a:lnTo>
                    <a:lnTo>
                      <a:pt x="594" y="463"/>
                    </a:lnTo>
                    <a:lnTo>
                      <a:pt x="597" y="445"/>
                    </a:lnTo>
                    <a:lnTo>
                      <a:pt x="613" y="444"/>
                    </a:lnTo>
                    <a:lnTo>
                      <a:pt x="618" y="408"/>
                    </a:lnTo>
                    <a:lnTo>
                      <a:pt x="596" y="403"/>
                    </a:lnTo>
                    <a:lnTo>
                      <a:pt x="581" y="377"/>
                    </a:lnTo>
                    <a:lnTo>
                      <a:pt x="558" y="314"/>
                    </a:lnTo>
                    <a:lnTo>
                      <a:pt x="532" y="306"/>
                    </a:lnTo>
                    <a:lnTo>
                      <a:pt x="503" y="282"/>
                    </a:lnTo>
                    <a:lnTo>
                      <a:pt x="492" y="249"/>
                    </a:lnTo>
                    <a:lnTo>
                      <a:pt x="510" y="199"/>
                    </a:lnTo>
                    <a:lnTo>
                      <a:pt x="495" y="190"/>
                    </a:lnTo>
                    <a:lnTo>
                      <a:pt x="460" y="190"/>
                    </a:lnTo>
                    <a:lnTo>
                      <a:pt x="451" y="159"/>
                    </a:lnTo>
                    <a:lnTo>
                      <a:pt x="393" y="97"/>
                    </a:lnTo>
                    <a:lnTo>
                      <a:pt x="379" y="47"/>
                    </a:lnTo>
                    <a:lnTo>
                      <a:pt x="385" y="28"/>
                    </a:lnTo>
                    <a:lnTo>
                      <a:pt x="359" y="0"/>
                    </a:lnTo>
                    <a:lnTo>
                      <a:pt x="0" y="8"/>
                    </a:lnTo>
                    <a:lnTo>
                      <a:pt x="37" y="76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06"/>
              <p:cNvSpPr/>
              <p:nvPr/>
            </p:nvSpPr>
            <p:spPr>
              <a:xfrm>
                <a:off x="4662720" y="3919320"/>
                <a:ext cx="594360" cy="544320"/>
              </a:xfrm>
              <a:custGeom>
                <a:avLst/>
                <a:gdLst>
                  <a:gd name="textAreaLeft" fmla="*/ 0 w 594360"/>
                  <a:gd name="textAreaRight" fmla="*/ 594720 w 594360"/>
                  <a:gd name="textAreaTop" fmla="*/ 0 h 544320"/>
                  <a:gd name="textAreaBottom" fmla="*/ 544680 h 544320"/>
                </a:gdLst>
                <a:ahLst/>
                <a:rect l="textAreaLeft" t="textAreaTop" r="textAreaRight" b="textAreaBottom"/>
                <a:pathLst>
                  <a:path w="470" h="410">
                    <a:moveTo>
                      <a:pt x="18" y="141"/>
                    </a:moveTo>
                    <a:lnTo>
                      <a:pt x="15" y="339"/>
                    </a:lnTo>
                    <a:lnTo>
                      <a:pt x="24" y="350"/>
                    </a:lnTo>
                    <a:lnTo>
                      <a:pt x="58" y="350"/>
                    </a:lnTo>
                    <a:lnTo>
                      <a:pt x="60" y="410"/>
                    </a:lnTo>
                    <a:lnTo>
                      <a:pt x="338" y="407"/>
                    </a:lnTo>
                    <a:lnTo>
                      <a:pt x="334" y="345"/>
                    </a:lnTo>
                    <a:lnTo>
                      <a:pt x="356" y="277"/>
                    </a:lnTo>
                    <a:lnTo>
                      <a:pt x="392" y="230"/>
                    </a:lnTo>
                    <a:lnTo>
                      <a:pt x="389" y="217"/>
                    </a:lnTo>
                    <a:lnTo>
                      <a:pt x="414" y="174"/>
                    </a:lnTo>
                    <a:lnTo>
                      <a:pt x="429" y="127"/>
                    </a:lnTo>
                    <a:lnTo>
                      <a:pt x="424" y="123"/>
                    </a:lnTo>
                    <a:lnTo>
                      <a:pt x="447" y="106"/>
                    </a:lnTo>
                    <a:lnTo>
                      <a:pt x="470" y="65"/>
                    </a:lnTo>
                    <a:lnTo>
                      <a:pt x="461" y="55"/>
                    </a:lnTo>
                    <a:lnTo>
                      <a:pt x="398" y="59"/>
                    </a:lnTo>
                    <a:lnTo>
                      <a:pt x="416" y="36"/>
                    </a:lnTo>
                    <a:lnTo>
                      <a:pt x="411" y="0"/>
                    </a:lnTo>
                    <a:lnTo>
                      <a:pt x="0" y="13"/>
                    </a:lnTo>
                    <a:lnTo>
                      <a:pt x="18" y="141"/>
                    </a:lnTo>
                    <a:close/>
                  </a:path>
                </a:pathLst>
              </a:custGeom>
              <a:solidFill>
                <a:srgbClr val="ffff99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07"/>
              <p:cNvSpPr/>
              <p:nvPr/>
            </p:nvSpPr>
            <p:spPr>
              <a:xfrm>
                <a:off x="4740480" y="4464000"/>
                <a:ext cx="671760" cy="599040"/>
              </a:xfrm>
              <a:custGeom>
                <a:avLst/>
                <a:gdLst>
                  <a:gd name="textAreaLeft" fmla="*/ 0 w 671760"/>
                  <a:gd name="textAreaRight" fmla="*/ 672120 w 671760"/>
                  <a:gd name="textAreaTop" fmla="*/ 0 h 599040"/>
                  <a:gd name="textAreaBottom" fmla="*/ 599400 h 599040"/>
                </a:gdLst>
                <a:ahLst/>
                <a:rect l="textAreaLeft" t="textAreaTop" r="textAreaRight" b="textAreaBottom"/>
                <a:pathLst>
                  <a:path w="531" h="450">
                    <a:moveTo>
                      <a:pt x="0" y="3"/>
                    </a:moveTo>
                    <a:lnTo>
                      <a:pt x="5" y="124"/>
                    </a:lnTo>
                    <a:lnTo>
                      <a:pt x="53" y="213"/>
                    </a:lnTo>
                    <a:lnTo>
                      <a:pt x="36" y="283"/>
                    </a:lnTo>
                    <a:lnTo>
                      <a:pt x="39" y="341"/>
                    </a:lnTo>
                    <a:lnTo>
                      <a:pt x="18" y="370"/>
                    </a:lnTo>
                    <a:lnTo>
                      <a:pt x="26" y="380"/>
                    </a:lnTo>
                    <a:lnTo>
                      <a:pt x="97" y="372"/>
                    </a:lnTo>
                    <a:lnTo>
                      <a:pt x="184" y="395"/>
                    </a:lnTo>
                    <a:lnTo>
                      <a:pt x="214" y="372"/>
                    </a:lnTo>
                    <a:lnTo>
                      <a:pt x="299" y="408"/>
                    </a:lnTo>
                    <a:lnTo>
                      <a:pt x="306" y="427"/>
                    </a:lnTo>
                    <a:lnTo>
                      <a:pt x="338" y="442"/>
                    </a:lnTo>
                    <a:lnTo>
                      <a:pt x="356" y="424"/>
                    </a:lnTo>
                    <a:lnTo>
                      <a:pt x="397" y="440"/>
                    </a:lnTo>
                    <a:lnTo>
                      <a:pt x="422" y="427"/>
                    </a:lnTo>
                    <a:lnTo>
                      <a:pt x="418" y="401"/>
                    </a:lnTo>
                    <a:lnTo>
                      <a:pt x="487" y="424"/>
                    </a:lnTo>
                    <a:lnTo>
                      <a:pt x="484" y="450"/>
                    </a:lnTo>
                    <a:lnTo>
                      <a:pt x="531" y="417"/>
                    </a:lnTo>
                    <a:lnTo>
                      <a:pt x="489" y="412"/>
                    </a:lnTo>
                    <a:lnTo>
                      <a:pt x="458" y="378"/>
                    </a:lnTo>
                    <a:lnTo>
                      <a:pt x="497" y="336"/>
                    </a:lnTo>
                    <a:lnTo>
                      <a:pt x="497" y="312"/>
                    </a:lnTo>
                    <a:lnTo>
                      <a:pt x="453" y="348"/>
                    </a:lnTo>
                    <a:lnTo>
                      <a:pt x="432" y="336"/>
                    </a:lnTo>
                    <a:lnTo>
                      <a:pt x="450" y="317"/>
                    </a:lnTo>
                    <a:lnTo>
                      <a:pt x="401" y="331"/>
                    </a:lnTo>
                    <a:lnTo>
                      <a:pt x="371" y="319"/>
                    </a:lnTo>
                    <a:lnTo>
                      <a:pt x="379" y="297"/>
                    </a:lnTo>
                    <a:lnTo>
                      <a:pt x="461" y="312"/>
                    </a:lnTo>
                    <a:lnTo>
                      <a:pt x="429" y="259"/>
                    </a:lnTo>
                    <a:lnTo>
                      <a:pt x="434" y="220"/>
                    </a:lnTo>
                    <a:lnTo>
                      <a:pt x="246" y="228"/>
                    </a:lnTo>
                    <a:lnTo>
                      <a:pt x="269" y="144"/>
                    </a:lnTo>
                    <a:lnTo>
                      <a:pt x="301" y="102"/>
                    </a:lnTo>
                    <a:lnTo>
                      <a:pt x="291" y="90"/>
                    </a:lnTo>
                    <a:lnTo>
                      <a:pt x="27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99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08"/>
              <p:cNvSpPr/>
              <p:nvPr/>
            </p:nvSpPr>
            <p:spPr>
              <a:xfrm>
                <a:off x="5079960" y="2237400"/>
                <a:ext cx="669240" cy="355320"/>
              </a:xfrm>
              <a:custGeom>
                <a:avLst/>
                <a:gdLst>
                  <a:gd name="textAreaLeft" fmla="*/ 0 w 669240"/>
                  <a:gd name="textAreaRight" fmla="*/ 669600 w 6692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530" h="264">
                    <a:moveTo>
                      <a:pt x="191" y="173"/>
                    </a:moveTo>
                    <a:lnTo>
                      <a:pt x="198" y="189"/>
                    </a:lnTo>
                    <a:lnTo>
                      <a:pt x="216" y="194"/>
                    </a:lnTo>
                    <a:lnTo>
                      <a:pt x="242" y="264"/>
                    </a:lnTo>
                    <a:lnTo>
                      <a:pt x="288" y="168"/>
                    </a:lnTo>
                    <a:lnTo>
                      <a:pt x="313" y="171"/>
                    </a:lnTo>
                    <a:lnTo>
                      <a:pt x="344" y="157"/>
                    </a:lnTo>
                    <a:lnTo>
                      <a:pt x="394" y="157"/>
                    </a:lnTo>
                    <a:lnTo>
                      <a:pt x="412" y="134"/>
                    </a:lnTo>
                    <a:lnTo>
                      <a:pt x="510" y="137"/>
                    </a:lnTo>
                    <a:lnTo>
                      <a:pt x="530" y="123"/>
                    </a:lnTo>
                    <a:lnTo>
                      <a:pt x="497" y="86"/>
                    </a:lnTo>
                    <a:lnTo>
                      <a:pt x="437" y="87"/>
                    </a:lnTo>
                    <a:lnTo>
                      <a:pt x="389" y="81"/>
                    </a:lnTo>
                    <a:lnTo>
                      <a:pt x="327" y="81"/>
                    </a:lnTo>
                    <a:lnTo>
                      <a:pt x="306" y="112"/>
                    </a:lnTo>
                    <a:lnTo>
                      <a:pt x="276" y="94"/>
                    </a:lnTo>
                    <a:lnTo>
                      <a:pt x="243" y="97"/>
                    </a:lnTo>
                    <a:lnTo>
                      <a:pt x="232" y="65"/>
                    </a:lnTo>
                    <a:lnTo>
                      <a:pt x="162" y="60"/>
                    </a:lnTo>
                    <a:lnTo>
                      <a:pt x="154" y="48"/>
                    </a:lnTo>
                    <a:lnTo>
                      <a:pt x="185" y="14"/>
                    </a:lnTo>
                    <a:lnTo>
                      <a:pt x="211" y="13"/>
                    </a:lnTo>
                    <a:lnTo>
                      <a:pt x="185" y="0"/>
                    </a:lnTo>
                    <a:lnTo>
                      <a:pt x="146" y="10"/>
                    </a:lnTo>
                    <a:lnTo>
                      <a:pt x="81" y="74"/>
                    </a:lnTo>
                    <a:lnTo>
                      <a:pt x="49" y="81"/>
                    </a:lnTo>
                    <a:lnTo>
                      <a:pt x="0" y="113"/>
                    </a:lnTo>
                    <a:lnTo>
                      <a:pt x="191" y="173"/>
                    </a:lnTo>
                    <a:close/>
                  </a:path>
                </a:pathLst>
              </a:custGeom>
              <a:solidFill>
                <a:srgbClr val="ff9900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09"/>
              <p:cNvSpPr/>
              <p:nvPr/>
            </p:nvSpPr>
            <p:spPr>
              <a:xfrm>
                <a:off x="5512680" y="2455920"/>
                <a:ext cx="452520" cy="633960"/>
              </a:xfrm>
              <a:custGeom>
                <a:avLst/>
                <a:gdLst>
                  <a:gd name="textAreaLeft" fmla="*/ 0 w 452520"/>
                  <a:gd name="textAreaRight" fmla="*/ 452880 w 452520"/>
                  <a:gd name="textAreaTop" fmla="*/ 0 h 633960"/>
                  <a:gd name="textAreaBottom" fmla="*/ 634320 h 633960"/>
                </a:gdLst>
                <a:ahLst/>
                <a:rect l="textAreaLeft" t="textAreaTop" r="textAreaRight" b="textAreaBottom"/>
                <a:pathLst>
                  <a:path w="359" h="476">
                    <a:moveTo>
                      <a:pt x="40" y="395"/>
                    </a:moveTo>
                    <a:lnTo>
                      <a:pt x="36" y="316"/>
                    </a:lnTo>
                    <a:lnTo>
                      <a:pt x="5" y="258"/>
                    </a:lnTo>
                    <a:lnTo>
                      <a:pt x="18" y="136"/>
                    </a:lnTo>
                    <a:lnTo>
                      <a:pt x="70" y="73"/>
                    </a:lnTo>
                    <a:lnTo>
                      <a:pt x="66" y="120"/>
                    </a:lnTo>
                    <a:lnTo>
                      <a:pt x="82" y="110"/>
                    </a:lnTo>
                    <a:lnTo>
                      <a:pt x="82" y="72"/>
                    </a:lnTo>
                    <a:lnTo>
                      <a:pt x="102" y="49"/>
                    </a:lnTo>
                    <a:lnTo>
                      <a:pt x="108" y="7"/>
                    </a:lnTo>
                    <a:lnTo>
                      <a:pt x="126" y="0"/>
                    </a:lnTo>
                    <a:lnTo>
                      <a:pt x="235" y="38"/>
                    </a:lnTo>
                    <a:lnTo>
                      <a:pt x="244" y="68"/>
                    </a:lnTo>
                    <a:lnTo>
                      <a:pt x="259" y="97"/>
                    </a:lnTo>
                    <a:lnTo>
                      <a:pt x="262" y="149"/>
                    </a:lnTo>
                    <a:lnTo>
                      <a:pt x="225" y="195"/>
                    </a:lnTo>
                    <a:lnTo>
                      <a:pt x="223" y="229"/>
                    </a:lnTo>
                    <a:lnTo>
                      <a:pt x="244" y="240"/>
                    </a:lnTo>
                    <a:lnTo>
                      <a:pt x="274" y="193"/>
                    </a:lnTo>
                    <a:lnTo>
                      <a:pt x="303" y="177"/>
                    </a:lnTo>
                    <a:lnTo>
                      <a:pt x="322" y="186"/>
                    </a:lnTo>
                    <a:lnTo>
                      <a:pt x="359" y="292"/>
                    </a:lnTo>
                    <a:lnTo>
                      <a:pt x="333" y="337"/>
                    </a:lnTo>
                    <a:lnTo>
                      <a:pt x="327" y="369"/>
                    </a:lnTo>
                    <a:lnTo>
                      <a:pt x="312" y="379"/>
                    </a:lnTo>
                    <a:lnTo>
                      <a:pt x="312" y="408"/>
                    </a:lnTo>
                    <a:lnTo>
                      <a:pt x="293" y="447"/>
                    </a:lnTo>
                    <a:lnTo>
                      <a:pt x="175" y="463"/>
                    </a:lnTo>
                    <a:lnTo>
                      <a:pt x="172" y="457"/>
                    </a:lnTo>
                    <a:lnTo>
                      <a:pt x="0" y="476"/>
                    </a:lnTo>
                    <a:lnTo>
                      <a:pt x="40" y="395"/>
                    </a:lnTo>
                    <a:close/>
                  </a:path>
                </a:pathLst>
              </a:custGeom>
              <a:solidFill>
                <a:srgbClr val="ff9900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10"/>
              <p:cNvSpPr/>
              <p:nvPr/>
            </p:nvSpPr>
            <p:spPr>
              <a:xfrm>
                <a:off x="4828680" y="2333880"/>
                <a:ext cx="621000" cy="674640"/>
              </a:xfrm>
              <a:custGeom>
                <a:avLst/>
                <a:gdLst>
                  <a:gd name="textAreaLeft" fmla="*/ 0 w 621000"/>
                  <a:gd name="textAreaRight" fmla="*/ 621360 w 62100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492" h="503">
                    <a:moveTo>
                      <a:pt x="13" y="192"/>
                    </a:moveTo>
                    <a:lnTo>
                      <a:pt x="11" y="252"/>
                    </a:lnTo>
                    <a:lnTo>
                      <a:pt x="71" y="289"/>
                    </a:lnTo>
                    <a:lnTo>
                      <a:pt x="94" y="315"/>
                    </a:lnTo>
                    <a:lnTo>
                      <a:pt x="143" y="351"/>
                    </a:lnTo>
                    <a:lnTo>
                      <a:pt x="149" y="393"/>
                    </a:lnTo>
                    <a:lnTo>
                      <a:pt x="159" y="450"/>
                    </a:lnTo>
                    <a:lnTo>
                      <a:pt x="204" y="503"/>
                    </a:lnTo>
                    <a:lnTo>
                      <a:pt x="449" y="489"/>
                    </a:lnTo>
                    <a:lnTo>
                      <a:pt x="436" y="411"/>
                    </a:lnTo>
                    <a:lnTo>
                      <a:pt x="457" y="293"/>
                    </a:lnTo>
                    <a:lnTo>
                      <a:pt x="457" y="260"/>
                    </a:lnTo>
                    <a:lnTo>
                      <a:pt x="492" y="168"/>
                    </a:lnTo>
                    <a:lnTo>
                      <a:pt x="483" y="165"/>
                    </a:lnTo>
                    <a:lnTo>
                      <a:pt x="460" y="218"/>
                    </a:lnTo>
                    <a:lnTo>
                      <a:pt x="441" y="221"/>
                    </a:lnTo>
                    <a:lnTo>
                      <a:pt x="432" y="244"/>
                    </a:lnTo>
                    <a:lnTo>
                      <a:pt x="411" y="259"/>
                    </a:lnTo>
                    <a:lnTo>
                      <a:pt x="426" y="210"/>
                    </a:lnTo>
                    <a:lnTo>
                      <a:pt x="441" y="191"/>
                    </a:lnTo>
                    <a:lnTo>
                      <a:pt x="415" y="121"/>
                    </a:lnTo>
                    <a:lnTo>
                      <a:pt x="397" y="116"/>
                    </a:lnTo>
                    <a:lnTo>
                      <a:pt x="390" y="100"/>
                    </a:lnTo>
                    <a:lnTo>
                      <a:pt x="199" y="40"/>
                    </a:lnTo>
                    <a:lnTo>
                      <a:pt x="175" y="29"/>
                    </a:lnTo>
                    <a:lnTo>
                      <a:pt x="162" y="40"/>
                    </a:lnTo>
                    <a:lnTo>
                      <a:pt x="157" y="37"/>
                    </a:lnTo>
                    <a:lnTo>
                      <a:pt x="164" y="16"/>
                    </a:lnTo>
                    <a:lnTo>
                      <a:pt x="169" y="3"/>
                    </a:lnTo>
                    <a:lnTo>
                      <a:pt x="162" y="0"/>
                    </a:lnTo>
                    <a:lnTo>
                      <a:pt x="84" y="32"/>
                    </a:lnTo>
                    <a:lnTo>
                      <a:pt x="76" y="34"/>
                    </a:lnTo>
                    <a:lnTo>
                      <a:pt x="60" y="26"/>
                    </a:lnTo>
                    <a:lnTo>
                      <a:pt x="45" y="35"/>
                    </a:lnTo>
                    <a:lnTo>
                      <a:pt x="49" y="94"/>
                    </a:lnTo>
                    <a:lnTo>
                      <a:pt x="0" y="152"/>
                    </a:lnTo>
                    <a:lnTo>
                      <a:pt x="13" y="192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11"/>
              <p:cNvSpPr/>
              <p:nvPr/>
            </p:nvSpPr>
            <p:spPr>
              <a:xfrm>
                <a:off x="5009040" y="2986560"/>
                <a:ext cx="463320" cy="853920"/>
              </a:xfrm>
              <a:custGeom>
                <a:avLst/>
                <a:gdLst>
                  <a:gd name="textAreaLeft" fmla="*/ 0 w 463320"/>
                  <a:gd name="textAreaRight" fmla="*/ 463680 w 46332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366" h="640">
                    <a:moveTo>
                      <a:pt x="6" y="262"/>
                    </a:moveTo>
                    <a:lnTo>
                      <a:pt x="43" y="181"/>
                    </a:lnTo>
                    <a:lnTo>
                      <a:pt x="32" y="150"/>
                    </a:lnTo>
                    <a:lnTo>
                      <a:pt x="95" y="101"/>
                    </a:lnTo>
                    <a:lnTo>
                      <a:pt x="106" y="66"/>
                    </a:lnTo>
                    <a:lnTo>
                      <a:pt x="61" y="14"/>
                    </a:lnTo>
                    <a:lnTo>
                      <a:pt x="306" y="0"/>
                    </a:lnTo>
                    <a:lnTo>
                      <a:pt x="312" y="37"/>
                    </a:lnTo>
                    <a:lnTo>
                      <a:pt x="336" y="85"/>
                    </a:lnTo>
                    <a:lnTo>
                      <a:pt x="357" y="330"/>
                    </a:lnTo>
                    <a:lnTo>
                      <a:pt x="353" y="380"/>
                    </a:lnTo>
                    <a:lnTo>
                      <a:pt x="366" y="409"/>
                    </a:lnTo>
                    <a:lnTo>
                      <a:pt x="351" y="464"/>
                    </a:lnTo>
                    <a:lnTo>
                      <a:pt x="332" y="488"/>
                    </a:lnTo>
                    <a:lnTo>
                      <a:pt x="322" y="529"/>
                    </a:lnTo>
                    <a:lnTo>
                      <a:pt x="333" y="542"/>
                    </a:lnTo>
                    <a:lnTo>
                      <a:pt x="323" y="564"/>
                    </a:lnTo>
                    <a:lnTo>
                      <a:pt x="328" y="573"/>
                    </a:lnTo>
                    <a:lnTo>
                      <a:pt x="299" y="584"/>
                    </a:lnTo>
                    <a:lnTo>
                      <a:pt x="293" y="624"/>
                    </a:lnTo>
                    <a:lnTo>
                      <a:pt x="251" y="611"/>
                    </a:lnTo>
                    <a:lnTo>
                      <a:pt x="230" y="640"/>
                    </a:lnTo>
                    <a:lnTo>
                      <a:pt x="217" y="637"/>
                    </a:lnTo>
                    <a:lnTo>
                      <a:pt x="202" y="611"/>
                    </a:lnTo>
                    <a:lnTo>
                      <a:pt x="179" y="548"/>
                    </a:lnTo>
                    <a:lnTo>
                      <a:pt x="124" y="516"/>
                    </a:lnTo>
                    <a:lnTo>
                      <a:pt x="113" y="483"/>
                    </a:lnTo>
                    <a:lnTo>
                      <a:pt x="131" y="433"/>
                    </a:lnTo>
                    <a:lnTo>
                      <a:pt x="116" y="424"/>
                    </a:lnTo>
                    <a:lnTo>
                      <a:pt x="81" y="424"/>
                    </a:lnTo>
                    <a:lnTo>
                      <a:pt x="72" y="393"/>
                    </a:lnTo>
                    <a:lnTo>
                      <a:pt x="14" y="331"/>
                    </a:lnTo>
                    <a:lnTo>
                      <a:pt x="0" y="281"/>
                    </a:lnTo>
                    <a:lnTo>
                      <a:pt x="6" y="262"/>
                    </a:lnTo>
                    <a:close/>
                  </a:path>
                </a:pathLst>
              </a:custGeom>
              <a:solidFill>
                <a:srgbClr val="ffff99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12"/>
              <p:cNvSpPr/>
              <p:nvPr/>
            </p:nvSpPr>
            <p:spPr>
              <a:xfrm>
                <a:off x="5416560" y="3063600"/>
                <a:ext cx="363240" cy="6411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641160"/>
                  <a:gd name="textAreaBottom" fmla="*/ 641520 h 641160"/>
                </a:gdLst>
                <a:ahLst/>
                <a:rect l="textAreaLeft" t="textAreaTop" r="textAreaRight" b="textAreaBottom"/>
                <a:pathLst>
                  <a:path w="288" h="482">
                    <a:moveTo>
                      <a:pt x="10" y="482"/>
                    </a:moveTo>
                    <a:lnTo>
                      <a:pt x="18" y="468"/>
                    </a:lnTo>
                    <a:lnTo>
                      <a:pt x="73" y="464"/>
                    </a:lnTo>
                    <a:lnTo>
                      <a:pt x="118" y="450"/>
                    </a:lnTo>
                    <a:lnTo>
                      <a:pt x="163" y="422"/>
                    </a:lnTo>
                    <a:lnTo>
                      <a:pt x="201" y="421"/>
                    </a:lnTo>
                    <a:lnTo>
                      <a:pt x="243" y="351"/>
                    </a:lnTo>
                    <a:lnTo>
                      <a:pt x="256" y="356"/>
                    </a:lnTo>
                    <a:lnTo>
                      <a:pt x="288" y="332"/>
                    </a:lnTo>
                    <a:lnTo>
                      <a:pt x="280" y="314"/>
                    </a:lnTo>
                    <a:lnTo>
                      <a:pt x="283" y="304"/>
                    </a:lnTo>
                    <a:lnTo>
                      <a:pt x="251" y="6"/>
                    </a:lnTo>
                    <a:lnTo>
                      <a:pt x="248" y="0"/>
                    </a:lnTo>
                    <a:lnTo>
                      <a:pt x="76" y="19"/>
                    </a:lnTo>
                    <a:lnTo>
                      <a:pt x="44" y="35"/>
                    </a:lnTo>
                    <a:lnTo>
                      <a:pt x="14" y="27"/>
                    </a:lnTo>
                    <a:lnTo>
                      <a:pt x="35" y="272"/>
                    </a:lnTo>
                    <a:lnTo>
                      <a:pt x="31" y="322"/>
                    </a:lnTo>
                    <a:lnTo>
                      <a:pt x="44" y="351"/>
                    </a:lnTo>
                    <a:lnTo>
                      <a:pt x="29" y="406"/>
                    </a:lnTo>
                    <a:lnTo>
                      <a:pt x="10" y="430"/>
                    </a:lnTo>
                    <a:lnTo>
                      <a:pt x="0" y="471"/>
                    </a:lnTo>
                    <a:lnTo>
                      <a:pt x="10" y="482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13"/>
              <p:cNvSpPr/>
              <p:nvPr/>
            </p:nvSpPr>
            <p:spPr>
              <a:xfrm>
                <a:off x="5281560" y="3465360"/>
                <a:ext cx="849600" cy="449280"/>
              </a:xfrm>
              <a:custGeom>
                <a:avLst/>
                <a:gdLst>
                  <a:gd name="textAreaLeft" fmla="*/ 0 w 849600"/>
                  <a:gd name="textAreaRight" fmla="*/ 849960 w 849600"/>
                  <a:gd name="textAreaTop" fmla="*/ 0 h 449280"/>
                  <a:gd name="textAreaBottom" fmla="*/ 449640 h 449280"/>
                </a:gdLst>
                <a:ahLst/>
                <a:rect l="textAreaLeft" t="textAreaTop" r="textAreaRight" b="textAreaBottom"/>
                <a:pathLst>
                  <a:path w="673" h="337">
                    <a:moveTo>
                      <a:pt x="3" y="319"/>
                    </a:moveTo>
                    <a:lnTo>
                      <a:pt x="19" y="318"/>
                    </a:lnTo>
                    <a:lnTo>
                      <a:pt x="24" y="282"/>
                    </a:lnTo>
                    <a:lnTo>
                      <a:pt x="15" y="280"/>
                    </a:lnTo>
                    <a:lnTo>
                      <a:pt x="36" y="251"/>
                    </a:lnTo>
                    <a:lnTo>
                      <a:pt x="78" y="264"/>
                    </a:lnTo>
                    <a:lnTo>
                      <a:pt x="84" y="224"/>
                    </a:lnTo>
                    <a:lnTo>
                      <a:pt x="113" y="213"/>
                    </a:lnTo>
                    <a:lnTo>
                      <a:pt x="108" y="204"/>
                    </a:lnTo>
                    <a:lnTo>
                      <a:pt x="125" y="166"/>
                    </a:lnTo>
                    <a:lnTo>
                      <a:pt x="180" y="162"/>
                    </a:lnTo>
                    <a:lnTo>
                      <a:pt x="225" y="148"/>
                    </a:lnTo>
                    <a:lnTo>
                      <a:pt x="254" y="128"/>
                    </a:lnTo>
                    <a:lnTo>
                      <a:pt x="270" y="120"/>
                    </a:lnTo>
                    <a:lnTo>
                      <a:pt x="308" y="119"/>
                    </a:lnTo>
                    <a:lnTo>
                      <a:pt x="350" y="49"/>
                    </a:lnTo>
                    <a:lnTo>
                      <a:pt x="363" y="54"/>
                    </a:lnTo>
                    <a:lnTo>
                      <a:pt x="395" y="30"/>
                    </a:lnTo>
                    <a:lnTo>
                      <a:pt x="387" y="12"/>
                    </a:lnTo>
                    <a:lnTo>
                      <a:pt x="390" y="2"/>
                    </a:lnTo>
                    <a:lnTo>
                      <a:pt x="419" y="0"/>
                    </a:lnTo>
                    <a:lnTo>
                      <a:pt x="439" y="7"/>
                    </a:lnTo>
                    <a:lnTo>
                      <a:pt x="497" y="41"/>
                    </a:lnTo>
                    <a:lnTo>
                      <a:pt x="539" y="39"/>
                    </a:lnTo>
                    <a:lnTo>
                      <a:pt x="559" y="26"/>
                    </a:lnTo>
                    <a:lnTo>
                      <a:pt x="605" y="55"/>
                    </a:lnTo>
                    <a:lnTo>
                      <a:pt x="620" y="111"/>
                    </a:lnTo>
                    <a:lnTo>
                      <a:pt x="673" y="149"/>
                    </a:lnTo>
                    <a:lnTo>
                      <a:pt x="648" y="180"/>
                    </a:lnTo>
                    <a:lnTo>
                      <a:pt x="602" y="224"/>
                    </a:lnTo>
                    <a:lnTo>
                      <a:pt x="601" y="234"/>
                    </a:lnTo>
                    <a:lnTo>
                      <a:pt x="534" y="276"/>
                    </a:lnTo>
                    <a:lnTo>
                      <a:pt x="162" y="311"/>
                    </a:lnTo>
                    <a:lnTo>
                      <a:pt x="121" y="308"/>
                    </a:lnTo>
                    <a:lnTo>
                      <a:pt x="123" y="327"/>
                    </a:lnTo>
                    <a:lnTo>
                      <a:pt x="0" y="337"/>
                    </a:lnTo>
                    <a:lnTo>
                      <a:pt x="3" y="319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14"/>
              <p:cNvSpPr/>
              <p:nvPr/>
            </p:nvSpPr>
            <p:spPr>
              <a:xfrm>
                <a:off x="5186520" y="3800160"/>
                <a:ext cx="1003320" cy="351000"/>
              </a:xfrm>
              <a:custGeom>
                <a:avLst/>
                <a:gdLst>
                  <a:gd name="textAreaLeft" fmla="*/ 0 w 1003320"/>
                  <a:gd name="textAreaRight" fmla="*/ 1003680 w 100332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794" h="263">
                    <a:moveTo>
                      <a:pt x="15" y="216"/>
                    </a:moveTo>
                    <a:lnTo>
                      <a:pt x="10" y="212"/>
                    </a:lnTo>
                    <a:lnTo>
                      <a:pt x="33" y="195"/>
                    </a:lnTo>
                    <a:lnTo>
                      <a:pt x="56" y="154"/>
                    </a:lnTo>
                    <a:lnTo>
                      <a:pt x="47" y="144"/>
                    </a:lnTo>
                    <a:lnTo>
                      <a:pt x="59" y="125"/>
                    </a:lnTo>
                    <a:lnTo>
                      <a:pt x="59" y="102"/>
                    </a:lnTo>
                    <a:lnTo>
                      <a:pt x="75" y="86"/>
                    </a:lnTo>
                    <a:lnTo>
                      <a:pt x="198" y="76"/>
                    </a:lnTo>
                    <a:lnTo>
                      <a:pt x="196" y="57"/>
                    </a:lnTo>
                    <a:lnTo>
                      <a:pt x="237" y="60"/>
                    </a:lnTo>
                    <a:lnTo>
                      <a:pt x="609" y="25"/>
                    </a:lnTo>
                    <a:lnTo>
                      <a:pt x="794" y="0"/>
                    </a:lnTo>
                    <a:lnTo>
                      <a:pt x="761" y="63"/>
                    </a:lnTo>
                    <a:lnTo>
                      <a:pt x="711" y="75"/>
                    </a:lnTo>
                    <a:lnTo>
                      <a:pt x="687" y="107"/>
                    </a:lnTo>
                    <a:lnTo>
                      <a:pt x="596" y="159"/>
                    </a:lnTo>
                    <a:lnTo>
                      <a:pt x="591" y="178"/>
                    </a:lnTo>
                    <a:lnTo>
                      <a:pt x="569" y="190"/>
                    </a:lnTo>
                    <a:lnTo>
                      <a:pt x="569" y="216"/>
                    </a:lnTo>
                    <a:lnTo>
                      <a:pt x="446" y="230"/>
                    </a:lnTo>
                    <a:lnTo>
                      <a:pt x="200" y="251"/>
                    </a:lnTo>
                    <a:lnTo>
                      <a:pt x="0" y="263"/>
                    </a:lnTo>
                    <a:lnTo>
                      <a:pt x="15" y="216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15"/>
              <p:cNvSpPr/>
              <p:nvPr/>
            </p:nvSpPr>
            <p:spPr>
              <a:xfrm>
                <a:off x="5050440" y="4134960"/>
                <a:ext cx="416520" cy="739080"/>
              </a:xfrm>
              <a:custGeom>
                <a:avLst/>
                <a:gdLst>
                  <a:gd name="textAreaLeft" fmla="*/ 0 w 416520"/>
                  <a:gd name="textAreaRight" fmla="*/ 416880 w 416520"/>
                  <a:gd name="textAreaTop" fmla="*/ 0 h 739080"/>
                  <a:gd name="textAreaBottom" fmla="*/ 739440 h 739080"/>
                </a:gdLst>
                <a:ahLst/>
                <a:rect l="textAreaLeft" t="textAreaTop" r="textAreaRight" b="textAreaBottom"/>
                <a:pathLst>
                  <a:path w="330" h="557">
                    <a:moveTo>
                      <a:pt x="23" y="389"/>
                    </a:moveTo>
                    <a:lnTo>
                      <a:pt x="55" y="347"/>
                    </a:lnTo>
                    <a:lnTo>
                      <a:pt x="45" y="335"/>
                    </a:lnTo>
                    <a:lnTo>
                      <a:pt x="32" y="245"/>
                    </a:lnTo>
                    <a:lnTo>
                      <a:pt x="28" y="183"/>
                    </a:lnTo>
                    <a:lnTo>
                      <a:pt x="50" y="115"/>
                    </a:lnTo>
                    <a:lnTo>
                      <a:pt x="86" y="68"/>
                    </a:lnTo>
                    <a:lnTo>
                      <a:pt x="83" y="55"/>
                    </a:lnTo>
                    <a:lnTo>
                      <a:pt x="108" y="12"/>
                    </a:lnTo>
                    <a:lnTo>
                      <a:pt x="308" y="0"/>
                    </a:lnTo>
                    <a:lnTo>
                      <a:pt x="317" y="10"/>
                    </a:lnTo>
                    <a:lnTo>
                      <a:pt x="308" y="356"/>
                    </a:lnTo>
                    <a:lnTo>
                      <a:pt x="330" y="523"/>
                    </a:lnTo>
                    <a:lnTo>
                      <a:pt x="322" y="531"/>
                    </a:lnTo>
                    <a:lnTo>
                      <a:pt x="280" y="521"/>
                    </a:lnTo>
                    <a:lnTo>
                      <a:pt x="215" y="557"/>
                    </a:lnTo>
                    <a:lnTo>
                      <a:pt x="183" y="504"/>
                    </a:lnTo>
                    <a:lnTo>
                      <a:pt x="188" y="465"/>
                    </a:lnTo>
                    <a:lnTo>
                      <a:pt x="0" y="473"/>
                    </a:lnTo>
                    <a:lnTo>
                      <a:pt x="23" y="389"/>
                    </a:lnTo>
                    <a:close/>
                  </a:path>
                </a:pathLst>
              </a:custGeom>
              <a:solidFill>
                <a:srgbClr val="ffffff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16"/>
              <p:cNvSpPr/>
              <p:nvPr/>
            </p:nvSpPr>
            <p:spPr>
              <a:xfrm>
                <a:off x="5439240" y="4106880"/>
                <a:ext cx="446040" cy="747360"/>
              </a:xfrm>
              <a:custGeom>
                <a:avLst/>
                <a:gdLst>
                  <a:gd name="textAreaLeft" fmla="*/ 0 w 446040"/>
                  <a:gd name="textAreaRight" fmla="*/ 446400 w 446040"/>
                  <a:gd name="textAreaTop" fmla="*/ 0 h 747360"/>
                  <a:gd name="textAreaBottom" fmla="*/ 747720 h 747360"/>
                </a:gdLst>
                <a:ahLst/>
                <a:rect l="textAreaLeft" t="textAreaTop" r="textAreaRight" b="textAreaBottom"/>
                <a:pathLst>
                  <a:path w="354" h="562">
                    <a:moveTo>
                      <a:pt x="9" y="31"/>
                    </a:moveTo>
                    <a:lnTo>
                      <a:pt x="0" y="377"/>
                    </a:lnTo>
                    <a:lnTo>
                      <a:pt x="22" y="544"/>
                    </a:lnTo>
                    <a:lnTo>
                      <a:pt x="47" y="551"/>
                    </a:lnTo>
                    <a:lnTo>
                      <a:pt x="69" y="538"/>
                    </a:lnTo>
                    <a:lnTo>
                      <a:pt x="82" y="551"/>
                    </a:lnTo>
                    <a:lnTo>
                      <a:pt x="63" y="562"/>
                    </a:lnTo>
                    <a:lnTo>
                      <a:pt x="111" y="549"/>
                    </a:lnTo>
                    <a:lnTo>
                      <a:pt x="121" y="534"/>
                    </a:lnTo>
                    <a:lnTo>
                      <a:pt x="115" y="525"/>
                    </a:lnTo>
                    <a:lnTo>
                      <a:pt x="118" y="510"/>
                    </a:lnTo>
                    <a:lnTo>
                      <a:pt x="95" y="489"/>
                    </a:lnTo>
                    <a:lnTo>
                      <a:pt x="95" y="471"/>
                    </a:lnTo>
                    <a:lnTo>
                      <a:pt x="354" y="449"/>
                    </a:lnTo>
                    <a:lnTo>
                      <a:pt x="333" y="360"/>
                    </a:lnTo>
                    <a:lnTo>
                      <a:pt x="346" y="306"/>
                    </a:lnTo>
                    <a:lnTo>
                      <a:pt x="314" y="237"/>
                    </a:lnTo>
                    <a:lnTo>
                      <a:pt x="246" y="0"/>
                    </a:lnTo>
                    <a:lnTo>
                      <a:pt x="0" y="21"/>
                    </a:lnTo>
                    <a:lnTo>
                      <a:pt x="9" y="31"/>
                    </a:lnTo>
                    <a:close/>
                  </a:path>
                </a:pathLst>
              </a:custGeom>
              <a:solidFill>
                <a:srgbClr val="ffffff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17"/>
              <p:cNvSpPr/>
              <p:nvPr/>
            </p:nvSpPr>
            <p:spPr>
              <a:xfrm>
                <a:off x="5749200" y="4069080"/>
                <a:ext cx="631800" cy="681840"/>
              </a:xfrm>
              <a:custGeom>
                <a:avLst/>
                <a:gdLst>
                  <a:gd name="textAreaLeft" fmla="*/ 0 w 631800"/>
                  <a:gd name="textAreaRight" fmla="*/ 632160 w 631800"/>
                  <a:gd name="textAreaTop" fmla="*/ 0 h 681840"/>
                  <a:gd name="textAreaBottom" fmla="*/ 682200 h 681840"/>
                </a:gdLst>
                <a:ahLst/>
                <a:rect l="textAreaLeft" t="textAreaTop" r="textAreaRight" b="textAreaBottom"/>
                <a:pathLst>
                  <a:path w="500" h="513">
                    <a:moveTo>
                      <a:pt x="68" y="266"/>
                    </a:moveTo>
                    <a:lnTo>
                      <a:pt x="100" y="335"/>
                    </a:lnTo>
                    <a:lnTo>
                      <a:pt x="87" y="389"/>
                    </a:lnTo>
                    <a:lnTo>
                      <a:pt x="108" y="478"/>
                    </a:lnTo>
                    <a:lnTo>
                      <a:pt x="128" y="507"/>
                    </a:lnTo>
                    <a:lnTo>
                      <a:pt x="395" y="492"/>
                    </a:lnTo>
                    <a:lnTo>
                      <a:pt x="398" y="510"/>
                    </a:lnTo>
                    <a:lnTo>
                      <a:pt x="414" y="513"/>
                    </a:lnTo>
                    <a:lnTo>
                      <a:pt x="408" y="469"/>
                    </a:lnTo>
                    <a:lnTo>
                      <a:pt x="419" y="458"/>
                    </a:lnTo>
                    <a:lnTo>
                      <a:pt x="458" y="466"/>
                    </a:lnTo>
                    <a:lnTo>
                      <a:pt x="464" y="435"/>
                    </a:lnTo>
                    <a:lnTo>
                      <a:pt x="460" y="395"/>
                    </a:lnTo>
                    <a:lnTo>
                      <a:pt x="476" y="384"/>
                    </a:lnTo>
                    <a:lnTo>
                      <a:pt x="500" y="306"/>
                    </a:lnTo>
                    <a:lnTo>
                      <a:pt x="484" y="303"/>
                    </a:lnTo>
                    <a:lnTo>
                      <a:pt x="419" y="202"/>
                    </a:lnTo>
                    <a:lnTo>
                      <a:pt x="278" y="76"/>
                    </a:lnTo>
                    <a:lnTo>
                      <a:pt x="217" y="37"/>
                    </a:lnTo>
                    <a:lnTo>
                      <a:pt x="238" y="0"/>
                    </a:lnTo>
                    <a:lnTo>
                      <a:pt x="123" y="15"/>
                    </a:lnTo>
                    <a:lnTo>
                      <a:pt x="0" y="29"/>
                    </a:lnTo>
                    <a:lnTo>
                      <a:pt x="68" y="266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18"/>
              <p:cNvSpPr/>
              <p:nvPr/>
            </p:nvSpPr>
            <p:spPr>
              <a:xfrm>
                <a:off x="5559480" y="4678560"/>
                <a:ext cx="1065960" cy="830160"/>
              </a:xfrm>
              <a:custGeom>
                <a:avLst/>
                <a:gdLst>
                  <a:gd name="textAreaLeft" fmla="*/ 0 w 1065960"/>
                  <a:gd name="textAreaRight" fmla="*/ 1066320 w 1065960"/>
                  <a:gd name="textAreaTop" fmla="*/ 0 h 830160"/>
                  <a:gd name="textAreaBottom" fmla="*/ 830520 h 830160"/>
                </a:gdLst>
                <a:ahLst/>
                <a:rect l="textAreaLeft" t="textAreaTop" r="textAreaRight" b="textAreaBottom"/>
                <a:pathLst>
                  <a:path w="844" h="623">
                    <a:moveTo>
                      <a:pt x="0" y="60"/>
                    </a:moveTo>
                    <a:lnTo>
                      <a:pt x="23" y="81"/>
                    </a:lnTo>
                    <a:lnTo>
                      <a:pt x="20" y="96"/>
                    </a:lnTo>
                    <a:lnTo>
                      <a:pt x="26" y="105"/>
                    </a:lnTo>
                    <a:lnTo>
                      <a:pt x="16" y="120"/>
                    </a:lnTo>
                    <a:lnTo>
                      <a:pt x="115" y="86"/>
                    </a:lnTo>
                    <a:lnTo>
                      <a:pt x="241" y="165"/>
                    </a:lnTo>
                    <a:lnTo>
                      <a:pt x="345" y="110"/>
                    </a:lnTo>
                    <a:lnTo>
                      <a:pt x="405" y="123"/>
                    </a:lnTo>
                    <a:lnTo>
                      <a:pt x="481" y="198"/>
                    </a:lnTo>
                    <a:lnTo>
                      <a:pt x="509" y="198"/>
                    </a:lnTo>
                    <a:lnTo>
                      <a:pt x="533" y="249"/>
                    </a:lnTo>
                    <a:lnTo>
                      <a:pt x="526" y="348"/>
                    </a:lnTo>
                    <a:lnTo>
                      <a:pt x="544" y="359"/>
                    </a:lnTo>
                    <a:lnTo>
                      <a:pt x="547" y="342"/>
                    </a:lnTo>
                    <a:lnTo>
                      <a:pt x="572" y="342"/>
                    </a:lnTo>
                    <a:lnTo>
                      <a:pt x="547" y="389"/>
                    </a:lnTo>
                    <a:lnTo>
                      <a:pt x="612" y="453"/>
                    </a:lnTo>
                    <a:lnTo>
                      <a:pt x="622" y="436"/>
                    </a:lnTo>
                    <a:lnTo>
                      <a:pt x="627" y="481"/>
                    </a:lnTo>
                    <a:lnTo>
                      <a:pt x="648" y="491"/>
                    </a:lnTo>
                    <a:lnTo>
                      <a:pt x="670" y="546"/>
                    </a:lnTo>
                    <a:lnTo>
                      <a:pt x="693" y="546"/>
                    </a:lnTo>
                    <a:lnTo>
                      <a:pt x="742" y="597"/>
                    </a:lnTo>
                    <a:lnTo>
                      <a:pt x="769" y="601"/>
                    </a:lnTo>
                    <a:lnTo>
                      <a:pt x="769" y="609"/>
                    </a:lnTo>
                    <a:lnTo>
                      <a:pt x="750" y="623"/>
                    </a:lnTo>
                    <a:lnTo>
                      <a:pt x="793" y="617"/>
                    </a:lnTo>
                    <a:lnTo>
                      <a:pt x="821" y="605"/>
                    </a:lnTo>
                    <a:lnTo>
                      <a:pt x="836" y="533"/>
                    </a:lnTo>
                    <a:lnTo>
                      <a:pt x="844" y="536"/>
                    </a:lnTo>
                    <a:lnTo>
                      <a:pt x="837" y="436"/>
                    </a:lnTo>
                    <a:lnTo>
                      <a:pt x="826" y="406"/>
                    </a:lnTo>
                    <a:lnTo>
                      <a:pt x="735" y="261"/>
                    </a:lnTo>
                    <a:lnTo>
                      <a:pt x="664" y="123"/>
                    </a:lnTo>
                    <a:lnTo>
                      <a:pt x="620" y="10"/>
                    </a:lnTo>
                    <a:lnTo>
                      <a:pt x="609" y="8"/>
                    </a:lnTo>
                    <a:lnTo>
                      <a:pt x="570" y="0"/>
                    </a:lnTo>
                    <a:lnTo>
                      <a:pt x="559" y="11"/>
                    </a:lnTo>
                    <a:lnTo>
                      <a:pt x="565" y="55"/>
                    </a:lnTo>
                    <a:lnTo>
                      <a:pt x="549" y="52"/>
                    </a:lnTo>
                    <a:lnTo>
                      <a:pt x="546" y="34"/>
                    </a:lnTo>
                    <a:lnTo>
                      <a:pt x="279" y="49"/>
                    </a:lnTo>
                    <a:lnTo>
                      <a:pt x="259" y="20"/>
                    </a:lnTo>
                    <a:lnTo>
                      <a:pt x="0" y="4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19"/>
              <p:cNvSpPr/>
              <p:nvPr/>
            </p:nvSpPr>
            <p:spPr>
              <a:xfrm>
                <a:off x="5731920" y="2968200"/>
                <a:ext cx="489960" cy="570960"/>
              </a:xfrm>
              <a:custGeom>
                <a:avLst/>
                <a:gdLst>
                  <a:gd name="textAreaLeft" fmla="*/ 0 w 489960"/>
                  <a:gd name="textAreaRight" fmla="*/ 490320 w 489960"/>
                  <a:gd name="textAreaTop" fmla="*/ 0 h 570960"/>
                  <a:gd name="textAreaBottom" fmla="*/ 571320 h 570960"/>
                </a:gdLst>
                <a:ahLst/>
                <a:rect l="textAreaLeft" t="textAreaTop" r="textAreaRight" b="textAreaBottom"/>
                <a:pathLst>
                  <a:path w="390" h="428">
                    <a:moveTo>
                      <a:pt x="0" y="77"/>
                    </a:moveTo>
                    <a:lnTo>
                      <a:pt x="32" y="375"/>
                    </a:lnTo>
                    <a:lnTo>
                      <a:pt x="81" y="380"/>
                    </a:lnTo>
                    <a:lnTo>
                      <a:pt x="139" y="414"/>
                    </a:lnTo>
                    <a:lnTo>
                      <a:pt x="181" y="412"/>
                    </a:lnTo>
                    <a:lnTo>
                      <a:pt x="201" y="399"/>
                    </a:lnTo>
                    <a:lnTo>
                      <a:pt x="247" y="428"/>
                    </a:lnTo>
                    <a:lnTo>
                      <a:pt x="275" y="404"/>
                    </a:lnTo>
                    <a:lnTo>
                      <a:pt x="281" y="357"/>
                    </a:lnTo>
                    <a:lnTo>
                      <a:pt x="299" y="367"/>
                    </a:lnTo>
                    <a:lnTo>
                      <a:pt x="309" y="328"/>
                    </a:lnTo>
                    <a:lnTo>
                      <a:pt x="374" y="271"/>
                    </a:lnTo>
                    <a:lnTo>
                      <a:pt x="385" y="179"/>
                    </a:lnTo>
                    <a:lnTo>
                      <a:pt x="377" y="160"/>
                    </a:lnTo>
                    <a:lnTo>
                      <a:pt x="390" y="150"/>
                    </a:lnTo>
                    <a:lnTo>
                      <a:pt x="366" y="0"/>
                    </a:lnTo>
                    <a:lnTo>
                      <a:pt x="299" y="34"/>
                    </a:lnTo>
                    <a:lnTo>
                      <a:pt x="265" y="69"/>
                    </a:lnTo>
                    <a:lnTo>
                      <a:pt x="241" y="71"/>
                    </a:lnTo>
                    <a:lnTo>
                      <a:pt x="204" y="90"/>
                    </a:lnTo>
                    <a:lnTo>
                      <a:pt x="118" y="61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20"/>
              <p:cNvSpPr/>
              <p:nvPr/>
            </p:nvSpPr>
            <p:spPr>
              <a:xfrm>
                <a:off x="6044760" y="3170160"/>
                <a:ext cx="523440" cy="534600"/>
              </a:xfrm>
              <a:custGeom>
                <a:avLst/>
                <a:gdLst>
                  <a:gd name="textAreaLeft" fmla="*/ 0 w 523440"/>
                  <a:gd name="textAreaRight" fmla="*/ 523800 w 523440"/>
                  <a:gd name="textAreaTop" fmla="*/ 0 h 534600"/>
                  <a:gd name="textAreaBottom" fmla="*/ 534960 h 534600"/>
                </a:gdLst>
                <a:ahLst/>
                <a:rect l="textAreaLeft" t="textAreaTop" r="textAreaRight" b="textAreaBottom"/>
                <a:pathLst>
                  <a:path w="417" h="403">
                    <a:moveTo>
                      <a:pt x="0" y="278"/>
                    </a:moveTo>
                    <a:lnTo>
                      <a:pt x="15" y="334"/>
                    </a:lnTo>
                    <a:lnTo>
                      <a:pt x="68" y="372"/>
                    </a:lnTo>
                    <a:lnTo>
                      <a:pt x="94" y="403"/>
                    </a:lnTo>
                    <a:lnTo>
                      <a:pt x="174" y="371"/>
                    </a:lnTo>
                    <a:lnTo>
                      <a:pt x="209" y="366"/>
                    </a:lnTo>
                    <a:lnTo>
                      <a:pt x="229" y="342"/>
                    </a:lnTo>
                    <a:lnTo>
                      <a:pt x="260" y="220"/>
                    </a:lnTo>
                    <a:lnTo>
                      <a:pt x="294" y="235"/>
                    </a:lnTo>
                    <a:lnTo>
                      <a:pt x="358" y="104"/>
                    </a:lnTo>
                    <a:lnTo>
                      <a:pt x="408" y="131"/>
                    </a:lnTo>
                    <a:lnTo>
                      <a:pt x="417" y="109"/>
                    </a:lnTo>
                    <a:lnTo>
                      <a:pt x="381" y="79"/>
                    </a:lnTo>
                    <a:lnTo>
                      <a:pt x="353" y="83"/>
                    </a:lnTo>
                    <a:lnTo>
                      <a:pt x="344" y="97"/>
                    </a:lnTo>
                    <a:lnTo>
                      <a:pt x="294" y="112"/>
                    </a:lnTo>
                    <a:lnTo>
                      <a:pt x="261" y="147"/>
                    </a:lnTo>
                    <a:lnTo>
                      <a:pt x="251" y="91"/>
                    </a:lnTo>
                    <a:lnTo>
                      <a:pt x="161" y="105"/>
                    </a:lnTo>
                    <a:lnTo>
                      <a:pt x="143" y="0"/>
                    </a:lnTo>
                    <a:lnTo>
                      <a:pt x="130" y="10"/>
                    </a:lnTo>
                    <a:lnTo>
                      <a:pt x="138" y="29"/>
                    </a:lnTo>
                    <a:lnTo>
                      <a:pt x="127" y="121"/>
                    </a:lnTo>
                    <a:lnTo>
                      <a:pt x="62" y="178"/>
                    </a:lnTo>
                    <a:lnTo>
                      <a:pt x="52" y="217"/>
                    </a:lnTo>
                    <a:lnTo>
                      <a:pt x="34" y="207"/>
                    </a:lnTo>
                    <a:lnTo>
                      <a:pt x="28" y="254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ffff99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21"/>
              <p:cNvSpPr/>
              <p:nvPr/>
            </p:nvSpPr>
            <p:spPr>
              <a:xfrm>
                <a:off x="6362640" y="3207960"/>
                <a:ext cx="534240" cy="271440"/>
              </a:xfrm>
              <a:custGeom>
                <a:avLst/>
                <a:gdLst>
                  <a:gd name="textAreaLeft" fmla="*/ 0 w 534240"/>
                  <a:gd name="textAreaRight" fmla="*/ 534600 w 53424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423" h="204">
                    <a:moveTo>
                      <a:pt x="0" y="62"/>
                    </a:moveTo>
                    <a:lnTo>
                      <a:pt x="10" y="118"/>
                    </a:lnTo>
                    <a:lnTo>
                      <a:pt x="43" y="83"/>
                    </a:lnTo>
                    <a:lnTo>
                      <a:pt x="93" y="68"/>
                    </a:lnTo>
                    <a:lnTo>
                      <a:pt x="102" y="54"/>
                    </a:lnTo>
                    <a:lnTo>
                      <a:pt x="130" y="50"/>
                    </a:lnTo>
                    <a:lnTo>
                      <a:pt x="166" y="80"/>
                    </a:lnTo>
                    <a:lnTo>
                      <a:pt x="190" y="86"/>
                    </a:lnTo>
                    <a:lnTo>
                      <a:pt x="235" y="126"/>
                    </a:lnTo>
                    <a:lnTo>
                      <a:pt x="219" y="165"/>
                    </a:lnTo>
                    <a:lnTo>
                      <a:pt x="225" y="183"/>
                    </a:lnTo>
                    <a:lnTo>
                      <a:pt x="245" y="175"/>
                    </a:lnTo>
                    <a:lnTo>
                      <a:pt x="263" y="175"/>
                    </a:lnTo>
                    <a:lnTo>
                      <a:pt x="272" y="188"/>
                    </a:lnTo>
                    <a:lnTo>
                      <a:pt x="293" y="188"/>
                    </a:lnTo>
                    <a:lnTo>
                      <a:pt x="302" y="183"/>
                    </a:lnTo>
                    <a:lnTo>
                      <a:pt x="289" y="148"/>
                    </a:lnTo>
                    <a:lnTo>
                      <a:pt x="285" y="83"/>
                    </a:lnTo>
                    <a:lnTo>
                      <a:pt x="269" y="73"/>
                    </a:lnTo>
                    <a:lnTo>
                      <a:pt x="302" y="44"/>
                    </a:lnTo>
                    <a:lnTo>
                      <a:pt x="303" y="25"/>
                    </a:lnTo>
                    <a:lnTo>
                      <a:pt x="324" y="26"/>
                    </a:lnTo>
                    <a:lnTo>
                      <a:pt x="298" y="67"/>
                    </a:lnTo>
                    <a:lnTo>
                      <a:pt x="313" y="115"/>
                    </a:lnTo>
                    <a:lnTo>
                      <a:pt x="319" y="128"/>
                    </a:lnTo>
                    <a:lnTo>
                      <a:pt x="329" y="135"/>
                    </a:lnTo>
                    <a:lnTo>
                      <a:pt x="310" y="133"/>
                    </a:lnTo>
                    <a:lnTo>
                      <a:pt x="316" y="164"/>
                    </a:lnTo>
                    <a:lnTo>
                      <a:pt x="350" y="183"/>
                    </a:lnTo>
                    <a:lnTo>
                      <a:pt x="358" y="188"/>
                    </a:lnTo>
                    <a:lnTo>
                      <a:pt x="368" y="188"/>
                    </a:lnTo>
                    <a:lnTo>
                      <a:pt x="363" y="204"/>
                    </a:lnTo>
                    <a:lnTo>
                      <a:pt x="405" y="183"/>
                    </a:lnTo>
                    <a:lnTo>
                      <a:pt x="413" y="157"/>
                    </a:lnTo>
                    <a:lnTo>
                      <a:pt x="423" y="130"/>
                    </a:lnTo>
                    <a:lnTo>
                      <a:pt x="363" y="143"/>
                    </a:lnTo>
                    <a:lnTo>
                      <a:pt x="32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cc0066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22"/>
              <p:cNvSpPr/>
              <p:nvPr/>
            </p:nvSpPr>
            <p:spPr>
              <a:xfrm>
                <a:off x="5955120" y="3307320"/>
                <a:ext cx="909720" cy="526320"/>
              </a:xfrm>
              <a:custGeom>
                <a:avLst/>
                <a:gdLst>
                  <a:gd name="textAreaLeft" fmla="*/ 0 w 909720"/>
                  <a:gd name="textAreaRight" fmla="*/ 910080 w 909720"/>
                  <a:gd name="textAreaTop" fmla="*/ 0 h 526320"/>
                  <a:gd name="textAreaBottom" fmla="*/ 526680 h 526320"/>
                </a:gdLst>
                <a:ahLst/>
                <a:rect l="textAreaLeft" t="textAreaTop" r="textAreaRight" b="textAreaBottom"/>
                <a:pathLst>
                  <a:path w="719" h="395">
                    <a:moveTo>
                      <a:pt x="67" y="353"/>
                    </a:moveTo>
                    <a:lnTo>
                      <a:pt x="68" y="343"/>
                    </a:lnTo>
                    <a:lnTo>
                      <a:pt x="114" y="299"/>
                    </a:lnTo>
                    <a:lnTo>
                      <a:pt x="139" y="268"/>
                    </a:lnTo>
                    <a:lnTo>
                      <a:pt x="165" y="299"/>
                    </a:lnTo>
                    <a:lnTo>
                      <a:pt x="245" y="267"/>
                    </a:lnTo>
                    <a:lnTo>
                      <a:pt x="280" y="262"/>
                    </a:lnTo>
                    <a:lnTo>
                      <a:pt x="300" y="238"/>
                    </a:lnTo>
                    <a:lnTo>
                      <a:pt x="331" y="116"/>
                    </a:lnTo>
                    <a:lnTo>
                      <a:pt x="365" y="131"/>
                    </a:lnTo>
                    <a:lnTo>
                      <a:pt x="429" y="0"/>
                    </a:lnTo>
                    <a:lnTo>
                      <a:pt x="479" y="27"/>
                    </a:lnTo>
                    <a:lnTo>
                      <a:pt x="488" y="5"/>
                    </a:lnTo>
                    <a:lnTo>
                      <a:pt x="512" y="11"/>
                    </a:lnTo>
                    <a:lnTo>
                      <a:pt x="557" y="51"/>
                    </a:lnTo>
                    <a:lnTo>
                      <a:pt x="541" y="90"/>
                    </a:lnTo>
                    <a:lnTo>
                      <a:pt x="547" y="108"/>
                    </a:lnTo>
                    <a:lnTo>
                      <a:pt x="567" y="100"/>
                    </a:lnTo>
                    <a:lnTo>
                      <a:pt x="581" y="118"/>
                    </a:lnTo>
                    <a:lnTo>
                      <a:pt x="651" y="141"/>
                    </a:lnTo>
                    <a:lnTo>
                      <a:pt x="586" y="137"/>
                    </a:lnTo>
                    <a:lnTo>
                      <a:pt x="654" y="197"/>
                    </a:lnTo>
                    <a:lnTo>
                      <a:pt x="612" y="191"/>
                    </a:lnTo>
                    <a:lnTo>
                      <a:pt x="698" y="246"/>
                    </a:lnTo>
                    <a:lnTo>
                      <a:pt x="719" y="283"/>
                    </a:lnTo>
                    <a:lnTo>
                      <a:pt x="705" y="278"/>
                    </a:lnTo>
                    <a:lnTo>
                      <a:pt x="701" y="288"/>
                    </a:lnTo>
                    <a:lnTo>
                      <a:pt x="420" y="341"/>
                    </a:lnTo>
                    <a:lnTo>
                      <a:pt x="185" y="370"/>
                    </a:lnTo>
                    <a:lnTo>
                      <a:pt x="0" y="395"/>
                    </a:lnTo>
                    <a:lnTo>
                      <a:pt x="67" y="353"/>
                    </a:lnTo>
                    <a:close/>
                  </a:path>
                </a:pathLst>
              </a:custGeom>
              <a:solidFill>
                <a:srgbClr val="ffff99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23"/>
              <p:cNvSpPr/>
              <p:nvPr/>
            </p:nvSpPr>
            <p:spPr>
              <a:xfrm>
                <a:off x="6824880" y="3451680"/>
                <a:ext cx="48960" cy="131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39" h="99">
                    <a:moveTo>
                      <a:pt x="0" y="99"/>
                    </a:moveTo>
                    <a:lnTo>
                      <a:pt x="13" y="71"/>
                    </a:lnTo>
                    <a:lnTo>
                      <a:pt x="28" y="55"/>
                    </a:lnTo>
                    <a:lnTo>
                      <a:pt x="39" y="0"/>
                    </a:lnTo>
                    <a:lnTo>
                      <a:pt x="17" y="13"/>
                    </a:lnTo>
                    <a:lnTo>
                      <a:pt x="0" y="65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cc0066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24"/>
              <p:cNvSpPr/>
              <p:nvPr/>
            </p:nvSpPr>
            <p:spPr>
              <a:xfrm>
                <a:off x="5905440" y="3691080"/>
                <a:ext cx="1001880" cy="461880"/>
              </a:xfrm>
              <a:custGeom>
                <a:avLst/>
                <a:gdLst>
                  <a:gd name="textAreaLeft" fmla="*/ 0 w 1001880"/>
                  <a:gd name="textAreaRight" fmla="*/ 1002240 w 1001880"/>
                  <a:gd name="textAreaTop" fmla="*/ 0 h 461880"/>
                  <a:gd name="textAreaBottom" fmla="*/ 462240 h 461880"/>
                </a:gdLst>
                <a:ahLst/>
                <a:rect l="textAreaLeft" t="textAreaTop" r="textAreaRight" b="textAreaBottom"/>
                <a:pathLst>
                  <a:path w="793" h="346">
                    <a:moveTo>
                      <a:pt x="0" y="298"/>
                    </a:moveTo>
                    <a:lnTo>
                      <a:pt x="115" y="283"/>
                    </a:lnTo>
                    <a:lnTo>
                      <a:pt x="181" y="251"/>
                    </a:lnTo>
                    <a:lnTo>
                      <a:pt x="307" y="238"/>
                    </a:lnTo>
                    <a:lnTo>
                      <a:pt x="359" y="270"/>
                    </a:lnTo>
                    <a:lnTo>
                      <a:pt x="442" y="259"/>
                    </a:lnTo>
                    <a:lnTo>
                      <a:pt x="566" y="346"/>
                    </a:lnTo>
                    <a:lnTo>
                      <a:pt x="615" y="335"/>
                    </a:lnTo>
                    <a:lnTo>
                      <a:pt x="685" y="234"/>
                    </a:lnTo>
                    <a:lnTo>
                      <a:pt x="741" y="213"/>
                    </a:lnTo>
                    <a:lnTo>
                      <a:pt x="759" y="184"/>
                    </a:lnTo>
                    <a:lnTo>
                      <a:pt x="698" y="196"/>
                    </a:lnTo>
                    <a:lnTo>
                      <a:pt x="681" y="175"/>
                    </a:lnTo>
                    <a:lnTo>
                      <a:pt x="719" y="165"/>
                    </a:lnTo>
                    <a:lnTo>
                      <a:pt x="719" y="152"/>
                    </a:lnTo>
                    <a:lnTo>
                      <a:pt x="677" y="137"/>
                    </a:lnTo>
                    <a:lnTo>
                      <a:pt x="730" y="118"/>
                    </a:lnTo>
                    <a:lnTo>
                      <a:pt x="727" y="139"/>
                    </a:lnTo>
                    <a:lnTo>
                      <a:pt x="761" y="139"/>
                    </a:lnTo>
                    <a:lnTo>
                      <a:pt x="780" y="103"/>
                    </a:lnTo>
                    <a:lnTo>
                      <a:pt x="793" y="102"/>
                    </a:lnTo>
                    <a:lnTo>
                      <a:pt x="785" y="69"/>
                    </a:lnTo>
                    <a:lnTo>
                      <a:pt x="761" y="102"/>
                    </a:lnTo>
                    <a:lnTo>
                      <a:pt x="736" y="31"/>
                    </a:lnTo>
                    <a:lnTo>
                      <a:pt x="753" y="27"/>
                    </a:lnTo>
                    <a:lnTo>
                      <a:pt x="775" y="47"/>
                    </a:lnTo>
                    <a:lnTo>
                      <a:pt x="759" y="14"/>
                    </a:lnTo>
                    <a:lnTo>
                      <a:pt x="741" y="0"/>
                    </a:lnTo>
                    <a:lnTo>
                      <a:pt x="460" y="53"/>
                    </a:lnTo>
                    <a:lnTo>
                      <a:pt x="225" y="82"/>
                    </a:lnTo>
                    <a:lnTo>
                      <a:pt x="192" y="145"/>
                    </a:lnTo>
                    <a:lnTo>
                      <a:pt x="142" y="157"/>
                    </a:lnTo>
                    <a:lnTo>
                      <a:pt x="118" y="189"/>
                    </a:lnTo>
                    <a:lnTo>
                      <a:pt x="27" y="241"/>
                    </a:lnTo>
                    <a:lnTo>
                      <a:pt x="22" y="260"/>
                    </a:lnTo>
                    <a:lnTo>
                      <a:pt x="0" y="272"/>
                    </a:lnTo>
                    <a:lnTo>
                      <a:pt x="0" y="298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25"/>
              <p:cNvSpPr/>
              <p:nvPr/>
            </p:nvSpPr>
            <p:spPr>
              <a:xfrm>
                <a:off x="6023160" y="4008960"/>
                <a:ext cx="596880" cy="467280"/>
              </a:xfrm>
              <a:custGeom>
                <a:avLst/>
                <a:gdLst>
                  <a:gd name="textAreaLeft" fmla="*/ 0 w 596880"/>
                  <a:gd name="textAreaRight" fmla="*/ 597240 w 596880"/>
                  <a:gd name="textAreaTop" fmla="*/ 0 h 467280"/>
                  <a:gd name="textAreaBottom" fmla="*/ 467640 h 467280"/>
                </a:gdLst>
                <a:ahLst/>
                <a:rect l="textAreaLeft" t="textAreaTop" r="textAreaRight" b="textAreaBottom"/>
                <a:pathLst>
                  <a:path w="472" h="351">
                    <a:moveTo>
                      <a:pt x="21" y="45"/>
                    </a:moveTo>
                    <a:lnTo>
                      <a:pt x="87" y="13"/>
                    </a:lnTo>
                    <a:lnTo>
                      <a:pt x="213" y="0"/>
                    </a:lnTo>
                    <a:lnTo>
                      <a:pt x="265" y="32"/>
                    </a:lnTo>
                    <a:lnTo>
                      <a:pt x="348" y="21"/>
                    </a:lnTo>
                    <a:lnTo>
                      <a:pt x="472" y="108"/>
                    </a:lnTo>
                    <a:lnTo>
                      <a:pt x="417" y="175"/>
                    </a:lnTo>
                    <a:lnTo>
                      <a:pt x="421" y="204"/>
                    </a:lnTo>
                    <a:lnTo>
                      <a:pt x="327" y="289"/>
                    </a:lnTo>
                    <a:lnTo>
                      <a:pt x="311" y="293"/>
                    </a:lnTo>
                    <a:lnTo>
                      <a:pt x="304" y="319"/>
                    </a:lnTo>
                    <a:lnTo>
                      <a:pt x="283" y="304"/>
                    </a:lnTo>
                    <a:lnTo>
                      <a:pt x="301" y="328"/>
                    </a:lnTo>
                    <a:lnTo>
                      <a:pt x="283" y="351"/>
                    </a:lnTo>
                    <a:lnTo>
                      <a:pt x="267" y="348"/>
                    </a:lnTo>
                    <a:lnTo>
                      <a:pt x="202" y="247"/>
                    </a:lnTo>
                    <a:lnTo>
                      <a:pt x="61" y="121"/>
                    </a:lnTo>
                    <a:lnTo>
                      <a:pt x="0" y="82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26"/>
              <p:cNvSpPr/>
              <p:nvPr/>
            </p:nvSpPr>
            <p:spPr>
              <a:xfrm>
                <a:off x="6772680" y="3189600"/>
                <a:ext cx="125280" cy="21096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99" h="157">
                    <a:moveTo>
                      <a:pt x="0" y="14"/>
                    </a:moveTo>
                    <a:lnTo>
                      <a:pt x="15" y="0"/>
                    </a:lnTo>
                    <a:lnTo>
                      <a:pt x="33" y="0"/>
                    </a:lnTo>
                    <a:lnTo>
                      <a:pt x="26" y="16"/>
                    </a:lnTo>
                    <a:lnTo>
                      <a:pt x="21" y="21"/>
                    </a:lnTo>
                    <a:lnTo>
                      <a:pt x="26" y="39"/>
                    </a:lnTo>
                    <a:lnTo>
                      <a:pt x="49" y="63"/>
                    </a:lnTo>
                    <a:lnTo>
                      <a:pt x="54" y="82"/>
                    </a:lnTo>
                    <a:lnTo>
                      <a:pt x="73" y="103"/>
                    </a:lnTo>
                    <a:lnTo>
                      <a:pt x="88" y="108"/>
                    </a:lnTo>
                    <a:lnTo>
                      <a:pt x="94" y="123"/>
                    </a:lnTo>
                    <a:lnTo>
                      <a:pt x="81" y="134"/>
                    </a:lnTo>
                    <a:lnTo>
                      <a:pt x="96" y="132"/>
                    </a:lnTo>
                    <a:lnTo>
                      <a:pt x="99" y="144"/>
                    </a:lnTo>
                    <a:lnTo>
                      <a:pt x="39" y="15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27"/>
              <p:cNvSpPr/>
              <p:nvPr/>
            </p:nvSpPr>
            <p:spPr>
              <a:xfrm>
                <a:off x="6195600" y="2859120"/>
                <a:ext cx="682560" cy="449280"/>
              </a:xfrm>
              <a:custGeom>
                <a:avLst/>
                <a:gdLst>
                  <a:gd name="textAreaLeft" fmla="*/ 0 w 682560"/>
                  <a:gd name="textAreaRight" fmla="*/ 682920 w 682560"/>
                  <a:gd name="textAreaTop" fmla="*/ 0 h 449280"/>
                  <a:gd name="textAreaBottom" fmla="*/ 449640 h 449280"/>
                </a:gdLst>
                <a:ahLst/>
                <a:rect l="textAreaLeft" t="textAreaTop" r="textAreaRight" b="textAreaBottom"/>
                <a:pathLst>
                  <a:path w="540" h="338">
                    <a:moveTo>
                      <a:pt x="42" y="338"/>
                    </a:moveTo>
                    <a:lnTo>
                      <a:pt x="132" y="324"/>
                    </a:lnTo>
                    <a:lnTo>
                      <a:pt x="456" y="262"/>
                    </a:lnTo>
                    <a:lnTo>
                      <a:pt x="471" y="248"/>
                    </a:lnTo>
                    <a:lnTo>
                      <a:pt x="489" y="248"/>
                    </a:lnTo>
                    <a:lnTo>
                      <a:pt x="510" y="233"/>
                    </a:lnTo>
                    <a:lnTo>
                      <a:pt x="540" y="194"/>
                    </a:lnTo>
                    <a:lnTo>
                      <a:pt x="487" y="152"/>
                    </a:lnTo>
                    <a:lnTo>
                      <a:pt x="485" y="113"/>
                    </a:lnTo>
                    <a:lnTo>
                      <a:pt x="510" y="58"/>
                    </a:lnTo>
                    <a:lnTo>
                      <a:pt x="474" y="40"/>
                    </a:lnTo>
                    <a:lnTo>
                      <a:pt x="435" y="0"/>
                    </a:lnTo>
                    <a:lnTo>
                      <a:pt x="76" y="66"/>
                    </a:lnTo>
                    <a:lnTo>
                      <a:pt x="58" y="40"/>
                    </a:lnTo>
                    <a:lnTo>
                      <a:pt x="0" y="83"/>
                    </a:lnTo>
                    <a:lnTo>
                      <a:pt x="42" y="338"/>
                    </a:lnTo>
                    <a:close/>
                  </a:path>
                </a:pathLst>
              </a:custGeom>
              <a:solidFill>
                <a:srgbClr val="ffff99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28"/>
              <p:cNvSpPr/>
              <p:nvPr/>
            </p:nvSpPr>
            <p:spPr>
              <a:xfrm>
                <a:off x="6806160" y="2937600"/>
                <a:ext cx="145440" cy="3679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117" h="277">
                    <a:moveTo>
                      <a:pt x="7" y="190"/>
                    </a:moveTo>
                    <a:lnTo>
                      <a:pt x="28" y="175"/>
                    </a:lnTo>
                    <a:lnTo>
                      <a:pt x="58" y="136"/>
                    </a:lnTo>
                    <a:lnTo>
                      <a:pt x="5" y="94"/>
                    </a:lnTo>
                    <a:lnTo>
                      <a:pt x="3" y="55"/>
                    </a:lnTo>
                    <a:lnTo>
                      <a:pt x="28" y="0"/>
                    </a:lnTo>
                    <a:lnTo>
                      <a:pt x="107" y="28"/>
                    </a:lnTo>
                    <a:lnTo>
                      <a:pt x="109" y="38"/>
                    </a:lnTo>
                    <a:lnTo>
                      <a:pt x="99" y="68"/>
                    </a:lnTo>
                    <a:lnTo>
                      <a:pt x="91" y="75"/>
                    </a:lnTo>
                    <a:lnTo>
                      <a:pt x="89" y="91"/>
                    </a:lnTo>
                    <a:lnTo>
                      <a:pt x="97" y="96"/>
                    </a:lnTo>
                    <a:lnTo>
                      <a:pt x="117" y="91"/>
                    </a:lnTo>
                    <a:lnTo>
                      <a:pt x="117" y="138"/>
                    </a:lnTo>
                    <a:lnTo>
                      <a:pt x="117" y="167"/>
                    </a:lnTo>
                    <a:lnTo>
                      <a:pt x="117" y="183"/>
                    </a:lnTo>
                    <a:lnTo>
                      <a:pt x="110" y="198"/>
                    </a:lnTo>
                    <a:lnTo>
                      <a:pt x="102" y="199"/>
                    </a:lnTo>
                    <a:lnTo>
                      <a:pt x="105" y="212"/>
                    </a:lnTo>
                    <a:lnTo>
                      <a:pt x="76" y="277"/>
                    </a:lnTo>
                    <a:lnTo>
                      <a:pt x="70" y="277"/>
                    </a:lnTo>
                    <a:lnTo>
                      <a:pt x="67" y="253"/>
                    </a:lnTo>
                    <a:lnTo>
                      <a:pt x="47" y="253"/>
                    </a:lnTo>
                    <a:lnTo>
                      <a:pt x="7" y="227"/>
                    </a:lnTo>
                    <a:lnTo>
                      <a:pt x="0" y="206"/>
                    </a:lnTo>
                    <a:lnTo>
                      <a:pt x="7" y="190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29"/>
              <p:cNvSpPr/>
              <p:nvPr/>
            </p:nvSpPr>
            <p:spPr>
              <a:xfrm>
                <a:off x="6269040" y="2360520"/>
                <a:ext cx="697320" cy="641160"/>
              </a:xfrm>
              <a:custGeom>
                <a:avLst/>
                <a:gdLst>
                  <a:gd name="textAreaLeft" fmla="*/ 0 w 697320"/>
                  <a:gd name="textAreaRight" fmla="*/ 697680 w 697320"/>
                  <a:gd name="textAreaTop" fmla="*/ 0 h 641160"/>
                  <a:gd name="textAreaBottom" fmla="*/ 641520 h 641160"/>
                </a:gdLst>
                <a:ahLst/>
                <a:rect l="textAreaLeft" t="textAreaTop" r="textAreaRight" b="textAreaBottom"/>
                <a:pathLst>
                  <a:path w="552" h="481">
                    <a:moveTo>
                      <a:pt x="18" y="440"/>
                    </a:moveTo>
                    <a:lnTo>
                      <a:pt x="377" y="374"/>
                    </a:lnTo>
                    <a:lnTo>
                      <a:pt x="416" y="414"/>
                    </a:lnTo>
                    <a:lnTo>
                      <a:pt x="452" y="432"/>
                    </a:lnTo>
                    <a:lnTo>
                      <a:pt x="531" y="460"/>
                    </a:lnTo>
                    <a:lnTo>
                      <a:pt x="537" y="481"/>
                    </a:lnTo>
                    <a:lnTo>
                      <a:pt x="550" y="452"/>
                    </a:lnTo>
                    <a:lnTo>
                      <a:pt x="552" y="411"/>
                    </a:lnTo>
                    <a:lnTo>
                      <a:pt x="537" y="334"/>
                    </a:lnTo>
                    <a:lnTo>
                      <a:pt x="537" y="253"/>
                    </a:lnTo>
                    <a:lnTo>
                      <a:pt x="499" y="134"/>
                    </a:lnTo>
                    <a:lnTo>
                      <a:pt x="492" y="83"/>
                    </a:lnTo>
                    <a:lnTo>
                      <a:pt x="468" y="0"/>
                    </a:lnTo>
                    <a:lnTo>
                      <a:pt x="351" y="28"/>
                    </a:lnTo>
                    <a:lnTo>
                      <a:pt x="287" y="96"/>
                    </a:lnTo>
                    <a:lnTo>
                      <a:pt x="283" y="113"/>
                    </a:lnTo>
                    <a:lnTo>
                      <a:pt x="246" y="154"/>
                    </a:lnTo>
                    <a:lnTo>
                      <a:pt x="256" y="168"/>
                    </a:lnTo>
                    <a:lnTo>
                      <a:pt x="264" y="180"/>
                    </a:lnTo>
                    <a:lnTo>
                      <a:pt x="257" y="183"/>
                    </a:lnTo>
                    <a:lnTo>
                      <a:pt x="269" y="199"/>
                    </a:lnTo>
                    <a:lnTo>
                      <a:pt x="270" y="214"/>
                    </a:lnTo>
                    <a:lnTo>
                      <a:pt x="235" y="248"/>
                    </a:lnTo>
                    <a:lnTo>
                      <a:pt x="181" y="262"/>
                    </a:lnTo>
                    <a:lnTo>
                      <a:pt x="168" y="272"/>
                    </a:lnTo>
                    <a:lnTo>
                      <a:pt x="149" y="264"/>
                    </a:lnTo>
                    <a:lnTo>
                      <a:pt x="89" y="270"/>
                    </a:lnTo>
                    <a:lnTo>
                      <a:pt x="45" y="288"/>
                    </a:lnTo>
                    <a:lnTo>
                      <a:pt x="45" y="311"/>
                    </a:lnTo>
                    <a:lnTo>
                      <a:pt x="53" y="325"/>
                    </a:lnTo>
                    <a:lnTo>
                      <a:pt x="60" y="325"/>
                    </a:lnTo>
                    <a:lnTo>
                      <a:pt x="66" y="343"/>
                    </a:lnTo>
                    <a:lnTo>
                      <a:pt x="55" y="353"/>
                    </a:lnTo>
                    <a:lnTo>
                      <a:pt x="50" y="369"/>
                    </a:lnTo>
                    <a:lnTo>
                      <a:pt x="0" y="414"/>
                    </a:lnTo>
                    <a:lnTo>
                      <a:pt x="18" y="440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30"/>
              <p:cNvSpPr/>
              <p:nvPr/>
            </p:nvSpPr>
            <p:spPr>
              <a:xfrm>
                <a:off x="6917040" y="3027240"/>
                <a:ext cx="18360" cy="277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5" h="23">
                    <a:moveTo>
                      <a:pt x="0" y="23"/>
                    </a:moveTo>
                    <a:lnTo>
                      <a:pt x="2" y="7"/>
                    </a:lnTo>
                    <a:lnTo>
                      <a:pt x="10" y="0"/>
                    </a:lnTo>
                    <a:lnTo>
                      <a:pt x="15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9ebd9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31"/>
              <p:cNvSpPr/>
              <p:nvPr/>
            </p:nvSpPr>
            <p:spPr>
              <a:xfrm>
                <a:off x="6937200" y="2906640"/>
                <a:ext cx="217440" cy="12996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172" h="98">
                    <a:moveTo>
                      <a:pt x="13" y="98"/>
                    </a:moveTo>
                    <a:lnTo>
                      <a:pt x="73" y="64"/>
                    </a:lnTo>
                    <a:lnTo>
                      <a:pt x="115" y="45"/>
                    </a:lnTo>
                    <a:lnTo>
                      <a:pt x="72" y="76"/>
                    </a:lnTo>
                    <a:lnTo>
                      <a:pt x="75" y="77"/>
                    </a:lnTo>
                    <a:lnTo>
                      <a:pt x="140" y="34"/>
                    </a:lnTo>
                    <a:lnTo>
                      <a:pt x="172" y="4"/>
                    </a:lnTo>
                    <a:lnTo>
                      <a:pt x="169" y="0"/>
                    </a:lnTo>
                    <a:lnTo>
                      <a:pt x="140" y="16"/>
                    </a:lnTo>
                    <a:lnTo>
                      <a:pt x="136" y="14"/>
                    </a:lnTo>
                    <a:lnTo>
                      <a:pt x="122" y="34"/>
                    </a:lnTo>
                    <a:lnTo>
                      <a:pt x="114" y="34"/>
                    </a:lnTo>
                    <a:lnTo>
                      <a:pt x="135" y="0"/>
                    </a:lnTo>
                    <a:lnTo>
                      <a:pt x="112" y="26"/>
                    </a:lnTo>
                    <a:lnTo>
                      <a:pt x="34" y="51"/>
                    </a:lnTo>
                    <a:lnTo>
                      <a:pt x="20" y="71"/>
                    </a:lnTo>
                    <a:lnTo>
                      <a:pt x="8" y="74"/>
                    </a:lnTo>
                    <a:lnTo>
                      <a:pt x="0" y="89"/>
                    </a:lnTo>
                    <a:lnTo>
                      <a:pt x="13" y="98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32"/>
              <p:cNvSpPr/>
              <p:nvPr/>
            </p:nvSpPr>
            <p:spPr>
              <a:xfrm>
                <a:off x="6948000" y="2763720"/>
                <a:ext cx="202680" cy="19836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61" h="149">
                    <a:moveTo>
                      <a:pt x="15" y="108"/>
                    </a:moveTo>
                    <a:lnTo>
                      <a:pt x="13" y="149"/>
                    </a:lnTo>
                    <a:lnTo>
                      <a:pt x="26" y="145"/>
                    </a:lnTo>
                    <a:lnTo>
                      <a:pt x="57" y="123"/>
                    </a:lnTo>
                    <a:lnTo>
                      <a:pt x="67" y="103"/>
                    </a:lnTo>
                    <a:lnTo>
                      <a:pt x="73" y="108"/>
                    </a:lnTo>
                    <a:lnTo>
                      <a:pt x="115" y="97"/>
                    </a:lnTo>
                    <a:lnTo>
                      <a:pt x="117" y="89"/>
                    </a:lnTo>
                    <a:lnTo>
                      <a:pt x="124" y="92"/>
                    </a:lnTo>
                    <a:lnTo>
                      <a:pt x="132" y="86"/>
                    </a:lnTo>
                    <a:lnTo>
                      <a:pt x="145" y="84"/>
                    </a:lnTo>
                    <a:lnTo>
                      <a:pt x="161" y="76"/>
                    </a:lnTo>
                    <a:lnTo>
                      <a:pt x="145" y="0"/>
                    </a:lnTo>
                    <a:lnTo>
                      <a:pt x="0" y="31"/>
                    </a:lnTo>
                    <a:lnTo>
                      <a:pt x="15" y="108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33"/>
              <p:cNvSpPr/>
              <p:nvPr/>
            </p:nvSpPr>
            <p:spPr>
              <a:xfrm>
                <a:off x="7130880" y="2754000"/>
                <a:ext cx="90360" cy="11016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72" h="84">
                    <a:moveTo>
                      <a:pt x="16" y="84"/>
                    </a:moveTo>
                    <a:lnTo>
                      <a:pt x="47" y="73"/>
                    </a:lnTo>
                    <a:lnTo>
                      <a:pt x="47" y="39"/>
                    </a:lnTo>
                    <a:lnTo>
                      <a:pt x="55" y="47"/>
                    </a:lnTo>
                    <a:lnTo>
                      <a:pt x="56" y="63"/>
                    </a:lnTo>
                    <a:lnTo>
                      <a:pt x="63" y="63"/>
                    </a:lnTo>
                    <a:lnTo>
                      <a:pt x="72" y="47"/>
                    </a:lnTo>
                    <a:lnTo>
                      <a:pt x="63" y="29"/>
                    </a:lnTo>
                    <a:lnTo>
                      <a:pt x="47" y="26"/>
                    </a:lnTo>
                    <a:lnTo>
                      <a:pt x="35" y="3"/>
                    </a:lnTo>
                    <a:lnTo>
                      <a:pt x="25" y="0"/>
                    </a:lnTo>
                    <a:lnTo>
                      <a:pt x="0" y="8"/>
                    </a:lnTo>
                    <a:lnTo>
                      <a:pt x="16" y="84"/>
                    </a:lnTo>
                    <a:close/>
                  </a:path>
                </a:pathLst>
              </a:custGeom>
              <a:solidFill>
                <a:srgbClr val="ff7c80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34"/>
              <p:cNvSpPr/>
              <p:nvPr/>
            </p:nvSpPr>
            <p:spPr>
              <a:xfrm>
                <a:off x="6948000" y="2613960"/>
                <a:ext cx="388440" cy="20268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1" h="153">
                    <a:moveTo>
                      <a:pt x="0" y="144"/>
                    </a:moveTo>
                    <a:lnTo>
                      <a:pt x="145" y="113"/>
                    </a:lnTo>
                    <a:lnTo>
                      <a:pt x="170" y="105"/>
                    </a:lnTo>
                    <a:lnTo>
                      <a:pt x="180" y="108"/>
                    </a:lnTo>
                    <a:lnTo>
                      <a:pt x="192" y="131"/>
                    </a:lnTo>
                    <a:lnTo>
                      <a:pt x="208" y="134"/>
                    </a:lnTo>
                    <a:lnTo>
                      <a:pt x="217" y="152"/>
                    </a:lnTo>
                    <a:lnTo>
                      <a:pt x="227" y="153"/>
                    </a:lnTo>
                    <a:lnTo>
                      <a:pt x="238" y="135"/>
                    </a:lnTo>
                    <a:lnTo>
                      <a:pt x="243" y="121"/>
                    </a:lnTo>
                    <a:lnTo>
                      <a:pt x="255" y="140"/>
                    </a:lnTo>
                    <a:lnTo>
                      <a:pt x="311" y="123"/>
                    </a:lnTo>
                    <a:lnTo>
                      <a:pt x="308" y="101"/>
                    </a:lnTo>
                    <a:lnTo>
                      <a:pt x="292" y="74"/>
                    </a:lnTo>
                    <a:lnTo>
                      <a:pt x="284" y="71"/>
                    </a:lnTo>
                    <a:lnTo>
                      <a:pt x="274" y="72"/>
                    </a:lnTo>
                    <a:lnTo>
                      <a:pt x="276" y="77"/>
                    </a:lnTo>
                    <a:lnTo>
                      <a:pt x="289" y="79"/>
                    </a:lnTo>
                    <a:lnTo>
                      <a:pt x="294" y="105"/>
                    </a:lnTo>
                    <a:lnTo>
                      <a:pt x="271" y="114"/>
                    </a:lnTo>
                    <a:lnTo>
                      <a:pt x="238" y="93"/>
                    </a:lnTo>
                    <a:lnTo>
                      <a:pt x="227" y="71"/>
                    </a:lnTo>
                    <a:lnTo>
                      <a:pt x="213" y="64"/>
                    </a:lnTo>
                    <a:lnTo>
                      <a:pt x="213" y="71"/>
                    </a:lnTo>
                    <a:lnTo>
                      <a:pt x="198" y="58"/>
                    </a:lnTo>
                    <a:lnTo>
                      <a:pt x="209" y="42"/>
                    </a:lnTo>
                    <a:lnTo>
                      <a:pt x="219" y="27"/>
                    </a:lnTo>
                    <a:lnTo>
                      <a:pt x="201" y="0"/>
                    </a:lnTo>
                    <a:lnTo>
                      <a:pt x="170" y="22"/>
                    </a:lnTo>
                    <a:lnTo>
                      <a:pt x="67" y="48"/>
                    </a:lnTo>
                    <a:lnTo>
                      <a:pt x="0" y="63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7c80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35"/>
              <p:cNvSpPr/>
              <p:nvPr/>
            </p:nvSpPr>
            <p:spPr>
              <a:xfrm>
                <a:off x="7260480" y="2810160"/>
                <a:ext cx="33120" cy="316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9" h="23">
                    <a:moveTo>
                      <a:pt x="0" y="23"/>
                    </a:moveTo>
                    <a:lnTo>
                      <a:pt x="13" y="0"/>
                    </a:lnTo>
                    <a:lnTo>
                      <a:pt x="29" y="1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99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36"/>
              <p:cNvSpPr/>
              <p:nvPr/>
            </p:nvSpPr>
            <p:spPr>
              <a:xfrm>
                <a:off x="7326000" y="2804400"/>
                <a:ext cx="27720" cy="2196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3" h="16">
                    <a:moveTo>
                      <a:pt x="0" y="16"/>
                    </a:moveTo>
                    <a:lnTo>
                      <a:pt x="13" y="0"/>
                    </a:lnTo>
                    <a:lnTo>
                      <a:pt x="23" y="1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8ffb8"/>
              </a:soli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37"/>
              <p:cNvSpPr/>
              <p:nvPr/>
            </p:nvSpPr>
            <p:spPr>
              <a:xfrm>
                <a:off x="6859800" y="2313000"/>
                <a:ext cx="190800" cy="3848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150" h="288">
                    <a:moveTo>
                      <a:pt x="24" y="118"/>
                    </a:moveTo>
                    <a:lnTo>
                      <a:pt x="31" y="169"/>
                    </a:lnTo>
                    <a:lnTo>
                      <a:pt x="69" y="288"/>
                    </a:lnTo>
                    <a:lnTo>
                      <a:pt x="136" y="273"/>
                    </a:lnTo>
                    <a:lnTo>
                      <a:pt x="131" y="105"/>
                    </a:lnTo>
                    <a:lnTo>
                      <a:pt x="149" y="72"/>
                    </a:lnTo>
                    <a:lnTo>
                      <a:pt x="150" y="0"/>
                    </a:lnTo>
                    <a:lnTo>
                      <a:pt x="0" y="35"/>
                    </a:lnTo>
                    <a:lnTo>
                      <a:pt x="24" y="118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38"/>
              <p:cNvSpPr/>
              <p:nvPr/>
            </p:nvSpPr>
            <p:spPr>
              <a:xfrm>
                <a:off x="7023960" y="2255400"/>
                <a:ext cx="177480" cy="4226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422640"/>
                  <a:gd name="textAreaBottom" fmla="*/ 423000 h 422640"/>
                </a:gdLst>
                <a:ahLst/>
                <a:rect l="textAreaLeft" t="textAreaTop" r="textAreaRight" b="textAreaBottom"/>
                <a:pathLst>
                  <a:path w="139" h="316">
                    <a:moveTo>
                      <a:pt x="0" y="148"/>
                    </a:moveTo>
                    <a:lnTo>
                      <a:pt x="18" y="115"/>
                    </a:lnTo>
                    <a:lnTo>
                      <a:pt x="19" y="43"/>
                    </a:lnTo>
                    <a:lnTo>
                      <a:pt x="18" y="15"/>
                    </a:lnTo>
                    <a:lnTo>
                      <a:pt x="45" y="0"/>
                    </a:lnTo>
                    <a:lnTo>
                      <a:pt x="108" y="198"/>
                    </a:lnTo>
                    <a:lnTo>
                      <a:pt x="139" y="240"/>
                    </a:lnTo>
                    <a:lnTo>
                      <a:pt x="139" y="268"/>
                    </a:lnTo>
                    <a:lnTo>
                      <a:pt x="108" y="290"/>
                    </a:lnTo>
                    <a:lnTo>
                      <a:pt x="5" y="316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39"/>
              <p:cNvSpPr/>
              <p:nvPr/>
            </p:nvSpPr>
            <p:spPr>
              <a:xfrm>
                <a:off x="7083000" y="1882800"/>
                <a:ext cx="428760" cy="69300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693000"/>
                  <a:gd name="textAreaBottom" fmla="*/ 693360 h 693000"/>
                </a:gdLst>
                <a:ahLst/>
                <a:rect l="textAreaLeft" t="textAreaTop" r="textAreaRight" b="textAreaBottom"/>
                <a:pathLst>
                  <a:path w="340" h="520">
                    <a:moveTo>
                      <a:pt x="0" y="280"/>
                    </a:moveTo>
                    <a:lnTo>
                      <a:pt x="20" y="282"/>
                    </a:lnTo>
                    <a:lnTo>
                      <a:pt x="21" y="248"/>
                    </a:lnTo>
                    <a:lnTo>
                      <a:pt x="46" y="201"/>
                    </a:lnTo>
                    <a:lnTo>
                      <a:pt x="34" y="167"/>
                    </a:lnTo>
                    <a:lnTo>
                      <a:pt x="83" y="4"/>
                    </a:lnTo>
                    <a:lnTo>
                      <a:pt x="94" y="4"/>
                    </a:lnTo>
                    <a:lnTo>
                      <a:pt x="97" y="25"/>
                    </a:lnTo>
                    <a:lnTo>
                      <a:pt x="146" y="7"/>
                    </a:lnTo>
                    <a:lnTo>
                      <a:pt x="148" y="0"/>
                    </a:lnTo>
                    <a:lnTo>
                      <a:pt x="187" y="9"/>
                    </a:lnTo>
                    <a:lnTo>
                      <a:pt x="250" y="169"/>
                    </a:lnTo>
                    <a:lnTo>
                      <a:pt x="279" y="170"/>
                    </a:lnTo>
                    <a:lnTo>
                      <a:pt x="332" y="230"/>
                    </a:lnTo>
                    <a:lnTo>
                      <a:pt x="324" y="242"/>
                    </a:lnTo>
                    <a:lnTo>
                      <a:pt x="340" y="242"/>
                    </a:lnTo>
                    <a:lnTo>
                      <a:pt x="329" y="271"/>
                    </a:lnTo>
                    <a:lnTo>
                      <a:pt x="303" y="290"/>
                    </a:lnTo>
                    <a:lnTo>
                      <a:pt x="274" y="305"/>
                    </a:lnTo>
                    <a:lnTo>
                      <a:pt x="271" y="324"/>
                    </a:lnTo>
                    <a:lnTo>
                      <a:pt x="255" y="306"/>
                    </a:lnTo>
                    <a:lnTo>
                      <a:pt x="229" y="327"/>
                    </a:lnTo>
                    <a:lnTo>
                      <a:pt x="216" y="327"/>
                    </a:lnTo>
                    <a:lnTo>
                      <a:pt x="204" y="314"/>
                    </a:lnTo>
                    <a:lnTo>
                      <a:pt x="198" y="378"/>
                    </a:lnTo>
                    <a:lnTo>
                      <a:pt x="174" y="387"/>
                    </a:lnTo>
                    <a:lnTo>
                      <a:pt x="162" y="412"/>
                    </a:lnTo>
                    <a:lnTo>
                      <a:pt x="148" y="412"/>
                    </a:lnTo>
                    <a:lnTo>
                      <a:pt x="114" y="449"/>
                    </a:lnTo>
                    <a:lnTo>
                      <a:pt x="112" y="478"/>
                    </a:lnTo>
                    <a:lnTo>
                      <a:pt x="104" y="489"/>
                    </a:lnTo>
                    <a:lnTo>
                      <a:pt x="94" y="520"/>
                    </a:lnTo>
                    <a:lnTo>
                      <a:pt x="63" y="478"/>
                    </a:lnTo>
                    <a:lnTo>
                      <a:pt x="0" y="280"/>
                    </a:lnTo>
                    <a:close/>
                  </a:path>
                </a:pathLst>
              </a:custGeom>
              <a:solidFill>
                <a:srgbClr val="cc0066"/>
              </a:solidFill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140"/>
              <p:cNvSpPr/>
              <p:nvPr/>
            </p:nvSpPr>
            <p:spPr>
              <a:xfrm>
                <a:off x="2414880" y="4001760"/>
                <a:ext cx="33372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AZ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Text Box 141"/>
              <p:cNvSpPr/>
              <p:nvPr/>
            </p:nvSpPr>
            <p:spPr>
              <a:xfrm>
                <a:off x="1556640" y="3488040"/>
                <a:ext cx="34740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CA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 Box 142"/>
              <p:cNvSpPr/>
              <p:nvPr/>
            </p:nvSpPr>
            <p:spPr>
              <a:xfrm>
                <a:off x="2527200" y="3296160"/>
                <a:ext cx="33984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UT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143"/>
              <p:cNvSpPr/>
              <p:nvPr/>
            </p:nvSpPr>
            <p:spPr>
              <a:xfrm>
                <a:off x="7257600" y="3041280"/>
                <a:ext cx="33984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CT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144"/>
              <p:cNvSpPr/>
              <p:nvPr/>
            </p:nvSpPr>
            <p:spPr>
              <a:xfrm>
                <a:off x="7071840" y="2818440"/>
                <a:ext cx="243360" cy="254880"/>
              </a:xfrm>
              <a:prstGeom prst="line">
                <a:avLst/>
              </a:prstGeom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145"/>
              <p:cNvSpPr/>
              <p:nvPr/>
            </p:nvSpPr>
            <p:spPr>
              <a:xfrm>
                <a:off x="6226560" y="5023080"/>
                <a:ext cx="31968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FL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146"/>
              <p:cNvSpPr/>
              <p:nvPr/>
            </p:nvSpPr>
            <p:spPr>
              <a:xfrm>
                <a:off x="5862960" y="4318560"/>
                <a:ext cx="35352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GA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147"/>
              <p:cNvSpPr/>
              <p:nvPr/>
            </p:nvSpPr>
            <p:spPr>
              <a:xfrm>
                <a:off x="4590000" y="2976840"/>
                <a:ext cx="29412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IA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148"/>
              <p:cNvSpPr/>
              <p:nvPr/>
            </p:nvSpPr>
            <p:spPr>
              <a:xfrm>
                <a:off x="5135400" y="3296160"/>
                <a:ext cx="28008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IL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149"/>
              <p:cNvSpPr/>
              <p:nvPr/>
            </p:nvSpPr>
            <p:spPr>
              <a:xfrm>
                <a:off x="4044240" y="3552480"/>
                <a:ext cx="34128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KS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150"/>
              <p:cNvSpPr/>
              <p:nvPr/>
            </p:nvSpPr>
            <p:spPr>
              <a:xfrm>
                <a:off x="7390080" y="2587320"/>
                <a:ext cx="36108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151"/>
              <p:cNvSpPr/>
              <p:nvPr/>
            </p:nvSpPr>
            <p:spPr>
              <a:xfrm>
                <a:off x="7194960" y="2691000"/>
                <a:ext cx="244440" cy="360"/>
              </a:xfrm>
              <a:prstGeom prst="line">
                <a:avLst/>
              </a:prstGeom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 anchorCtr="1">
                <a:noAutofit/>
              </a:bodyPr>
              <a:p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152"/>
              <p:cNvSpPr/>
              <p:nvPr/>
            </p:nvSpPr>
            <p:spPr>
              <a:xfrm>
                <a:off x="6986880" y="3765240"/>
                <a:ext cx="36720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MD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153"/>
              <p:cNvSpPr/>
              <p:nvPr/>
            </p:nvSpPr>
            <p:spPr>
              <a:xfrm>
                <a:off x="6862320" y="3480840"/>
                <a:ext cx="178920" cy="310680"/>
              </a:xfrm>
              <a:prstGeom prst="line">
                <a:avLst/>
              </a:prstGeom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154"/>
              <p:cNvSpPr/>
              <p:nvPr/>
            </p:nvSpPr>
            <p:spPr>
              <a:xfrm>
                <a:off x="4711680" y="3552480"/>
                <a:ext cx="37332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MO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155"/>
              <p:cNvSpPr/>
              <p:nvPr/>
            </p:nvSpPr>
            <p:spPr>
              <a:xfrm>
                <a:off x="6888960" y="3137760"/>
                <a:ext cx="338040" cy="214200"/>
              </a:xfrm>
              <a:prstGeom prst="line">
                <a:avLst/>
              </a:prstGeom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156"/>
              <p:cNvSpPr/>
              <p:nvPr/>
            </p:nvSpPr>
            <p:spPr>
              <a:xfrm>
                <a:off x="7167600" y="3325320"/>
                <a:ext cx="32760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NJ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157"/>
              <p:cNvSpPr/>
              <p:nvPr/>
            </p:nvSpPr>
            <p:spPr>
              <a:xfrm>
                <a:off x="6530040" y="2656080"/>
                <a:ext cx="34740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NY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158"/>
              <p:cNvSpPr/>
              <p:nvPr/>
            </p:nvSpPr>
            <p:spPr>
              <a:xfrm>
                <a:off x="1651320" y="2408040"/>
                <a:ext cx="35964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OR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59"/>
              <p:cNvSpPr/>
              <p:nvPr/>
            </p:nvSpPr>
            <p:spPr>
              <a:xfrm>
                <a:off x="6353280" y="2976840"/>
                <a:ext cx="33336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PA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160"/>
              <p:cNvSpPr/>
              <p:nvPr/>
            </p:nvSpPr>
            <p:spPr>
              <a:xfrm>
                <a:off x="6225480" y="4126680"/>
                <a:ext cx="34740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SC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161"/>
              <p:cNvSpPr/>
              <p:nvPr/>
            </p:nvSpPr>
            <p:spPr>
              <a:xfrm>
                <a:off x="5378760" y="3936240"/>
                <a:ext cx="33984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TN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162"/>
              <p:cNvSpPr/>
              <p:nvPr/>
            </p:nvSpPr>
            <p:spPr>
              <a:xfrm>
                <a:off x="3194640" y="3425040"/>
                <a:ext cx="35964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163"/>
              <p:cNvSpPr/>
              <p:nvPr/>
            </p:nvSpPr>
            <p:spPr>
              <a:xfrm>
                <a:off x="1922760" y="1891440"/>
                <a:ext cx="37008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WA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64"/>
              <p:cNvSpPr/>
              <p:nvPr/>
            </p:nvSpPr>
            <p:spPr>
              <a:xfrm>
                <a:off x="4984560" y="2577600"/>
                <a:ext cx="32760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WI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165"/>
              <p:cNvSpPr/>
              <p:nvPr/>
            </p:nvSpPr>
            <p:spPr>
              <a:xfrm>
                <a:off x="6353280" y="3488040"/>
                <a:ext cx="33336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VA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66"/>
              <p:cNvSpPr/>
              <p:nvPr/>
            </p:nvSpPr>
            <p:spPr>
              <a:xfrm>
                <a:off x="7069320" y="2116800"/>
                <a:ext cx="36108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ME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67"/>
              <p:cNvSpPr/>
              <p:nvPr/>
            </p:nvSpPr>
            <p:spPr>
              <a:xfrm>
                <a:off x="4501440" y="2322720"/>
                <a:ext cx="36720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MN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168"/>
              <p:cNvSpPr/>
              <p:nvPr/>
            </p:nvSpPr>
            <p:spPr>
              <a:xfrm>
                <a:off x="5591520" y="2723400"/>
                <a:ext cx="39528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MI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169"/>
              <p:cNvSpPr/>
              <p:nvPr/>
            </p:nvSpPr>
            <p:spPr>
              <a:xfrm>
                <a:off x="6285960" y="3850560"/>
                <a:ext cx="35352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70"/>
              <p:cNvSpPr/>
              <p:nvPr/>
            </p:nvSpPr>
            <p:spPr>
              <a:xfrm>
                <a:off x="3920760" y="4618080"/>
                <a:ext cx="33372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TX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171"/>
              <p:cNvSpPr/>
              <p:nvPr/>
            </p:nvSpPr>
            <p:spPr>
              <a:xfrm>
                <a:off x="5590080" y="3569040"/>
                <a:ext cx="483480" cy="19152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KY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172"/>
              <p:cNvSpPr/>
              <p:nvPr/>
            </p:nvSpPr>
            <p:spPr>
              <a:xfrm>
                <a:off x="6040440" y="3461400"/>
                <a:ext cx="411120" cy="19152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WV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174"/>
              <p:cNvSpPr/>
              <p:nvPr/>
            </p:nvSpPr>
            <p:spPr>
              <a:xfrm>
                <a:off x="7165440" y="2851920"/>
                <a:ext cx="271440" cy="6012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 anchorCtr="1">
                <a:noAutofit/>
              </a:bodyPr>
              <a:p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75"/>
              <p:cNvSpPr/>
              <p:nvPr/>
            </p:nvSpPr>
            <p:spPr>
              <a:xfrm>
                <a:off x="3953880" y="3085920"/>
                <a:ext cx="347400" cy="23436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NE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77"/>
              <p:cNvSpPr/>
              <p:nvPr/>
            </p:nvSpPr>
            <p:spPr>
              <a:xfrm>
                <a:off x="6620400" y="2097360"/>
                <a:ext cx="488880" cy="19152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VT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178"/>
              <p:cNvSpPr/>
              <p:nvPr/>
            </p:nvSpPr>
            <p:spPr>
              <a:xfrm>
                <a:off x="6862320" y="2290320"/>
                <a:ext cx="109440" cy="19044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" name="Group 735"/>
              <p:cNvGrpSpPr/>
              <p:nvPr/>
            </p:nvGrpSpPr>
            <p:grpSpPr>
              <a:xfrm>
                <a:off x="1926000" y="2398320"/>
                <a:ext cx="5838120" cy="2362320"/>
                <a:chOff x="1926000" y="2398320"/>
                <a:chExt cx="5838120" cy="2362320"/>
              </a:xfrm>
            </p:grpSpPr>
            <p:sp>
              <p:nvSpPr>
                <p:cNvPr id="355" name="Text Box 357"/>
                <p:cNvSpPr/>
                <p:nvPr/>
              </p:nvSpPr>
              <p:spPr>
                <a:xfrm>
                  <a:off x="1926000" y="3095640"/>
                  <a:ext cx="363240" cy="23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950" spc="-1" strike="noStrike">
                      <a:solidFill>
                        <a:srgbClr val="000000"/>
                      </a:solidFill>
                      <a:latin typeface="Arial"/>
                    </a:rPr>
                    <a:t>NV</a:t>
                  </a:r>
                  <a:endParaRPr b="0" lang="en-US" sz="95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Text Box 358"/>
                <p:cNvSpPr/>
                <p:nvPr/>
              </p:nvSpPr>
              <p:spPr>
                <a:xfrm>
                  <a:off x="5765400" y="3213360"/>
                  <a:ext cx="424800" cy="23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95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95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Text Box 359"/>
                <p:cNvSpPr/>
                <p:nvPr/>
              </p:nvSpPr>
              <p:spPr>
                <a:xfrm>
                  <a:off x="3887280" y="2657520"/>
                  <a:ext cx="363240" cy="23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950" spc="-1" strike="noStrike">
                      <a:solidFill>
                        <a:srgbClr val="000000"/>
                      </a:solidFill>
                      <a:latin typeface="Arial"/>
                    </a:rPr>
                    <a:t>SD</a:t>
                  </a:r>
                  <a:endParaRPr b="0" lang="en-US" sz="95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Text Box 543"/>
                <p:cNvSpPr/>
                <p:nvPr/>
              </p:nvSpPr>
              <p:spPr>
                <a:xfrm>
                  <a:off x="4735440" y="4532040"/>
                  <a:ext cx="363240" cy="22860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76"/>
                    </a:spcBef>
                  </a:pPr>
                  <a:endParaRPr b="0" lang="en-US" sz="95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Text Box 547"/>
                <p:cNvSpPr/>
                <p:nvPr/>
              </p:nvSpPr>
              <p:spPr>
                <a:xfrm>
                  <a:off x="4735440" y="4029840"/>
                  <a:ext cx="363240" cy="23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76"/>
                    </a:spcBef>
                  </a:pPr>
                  <a:r>
                    <a:rPr b="0" lang="en-US" sz="950" spc="-1" strike="noStrike">
                      <a:solidFill>
                        <a:srgbClr val="000000"/>
                      </a:solidFill>
                      <a:latin typeface="Arial"/>
                    </a:rPr>
                    <a:t>AR</a:t>
                  </a:r>
                  <a:endParaRPr b="0" lang="en-US" sz="95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Text Box 548"/>
                <p:cNvSpPr/>
                <p:nvPr/>
              </p:nvSpPr>
              <p:spPr>
                <a:xfrm>
                  <a:off x="5401800" y="3213360"/>
                  <a:ext cx="363240" cy="23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76"/>
                    </a:spcBef>
                  </a:pPr>
                  <a:r>
                    <a:rPr b="0" lang="en-US" sz="95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950" spc="-1" strike="noStrike">
                      <a:solidFill>
                        <a:srgbClr val="000000"/>
                      </a:solidFill>
                      <a:latin typeface="Arial"/>
                    </a:rPr>
                    <a:t>IN</a:t>
                  </a:r>
                  <a:endParaRPr b="0" lang="en-US" sz="95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Text Box 549"/>
                <p:cNvSpPr/>
                <p:nvPr/>
              </p:nvSpPr>
              <p:spPr>
                <a:xfrm>
                  <a:off x="7400880" y="2398320"/>
                  <a:ext cx="363240" cy="23436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76"/>
                    </a:spcBef>
                  </a:pPr>
                  <a:r>
                    <a:rPr b="0" lang="en-US" sz="950" spc="-1" strike="noStrike">
                      <a:solidFill>
                        <a:srgbClr val="000000"/>
                      </a:solidFill>
                      <a:latin typeface="Arial"/>
                    </a:rPr>
                    <a:t>NH</a:t>
                  </a:r>
                  <a:endParaRPr b="0" lang="en-US" sz="95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Line 722"/>
                <p:cNvSpPr/>
                <p:nvPr/>
              </p:nvSpPr>
              <p:spPr>
                <a:xfrm flipV="1">
                  <a:off x="7097760" y="2522520"/>
                  <a:ext cx="363600" cy="65160"/>
                </a:xfrm>
                <a:prstGeom prst="line">
                  <a:avLst/>
                </a:prstGeom>
                <a:ln w="190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 anchorCtr="1">
                  <a:noAutofit/>
                </a:bodyPr>
                <a:p>
                  <a:endParaRPr b="0" lang="en-US" sz="95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Text Box 1757"/>
              <p:cNvSpPr/>
              <p:nvPr/>
            </p:nvSpPr>
            <p:spPr>
              <a:xfrm>
                <a:off x="2897640" y="2116800"/>
                <a:ext cx="48888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1758"/>
              <p:cNvSpPr/>
              <p:nvPr/>
            </p:nvSpPr>
            <p:spPr>
              <a:xfrm>
                <a:off x="2384640" y="2521440"/>
                <a:ext cx="36324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1759"/>
              <p:cNvSpPr/>
              <p:nvPr/>
            </p:nvSpPr>
            <p:spPr>
              <a:xfrm>
                <a:off x="2981880" y="2716200"/>
                <a:ext cx="42444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WY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1760"/>
              <p:cNvSpPr/>
              <p:nvPr/>
            </p:nvSpPr>
            <p:spPr>
              <a:xfrm>
                <a:off x="3859920" y="2116800"/>
                <a:ext cx="42444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ND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1761"/>
              <p:cNvSpPr/>
              <p:nvPr/>
            </p:nvSpPr>
            <p:spPr>
              <a:xfrm>
                <a:off x="3088800" y="4065120"/>
                <a:ext cx="42192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NM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1762"/>
              <p:cNvSpPr/>
              <p:nvPr/>
            </p:nvSpPr>
            <p:spPr>
              <a:xfrm>
                <a:off x="4133520" y="3974040"/>
                <a:ext cx="48348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OK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1763"/>
              <p:cNvSpPr/>
              <p:nvPr/>
            </p:nvSpPr>
            <p:spPr>
              <a:xfrm>
                <a:off x="4740480" y="4604040"/>
                <a:ext cx="42444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LA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1764"/>
              <p:cNvSpPr/>
              <p:nvPr/>
            </p:nvSpPr>
            <p:spPr>
              <a:xfrm>
                <a:off x="5103720" y="4350600"/>
                <a:ext cx="45792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1765"/>
              <p:cNvSpPr/>
              <p:nvPr/>
            </p:nvSpPr>
            <p:spPr>
              <a:xfrm>
                <a:off x="5470560" y="4384440"/>
                <a:ext cx="32760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AL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766"/>
              <p:cNvSpPr/>
              <p:nvPr/>
            </p:nvSpPr>
            <p:spPr>
              <a:xfrm>
                <a:off x="6862320" y="3344760"/>
                <a:ext cx="364680" cy="252360"/>
              </a:xfrm>
              <a:prstGeom prst="line">
                <a:avLst/>
              </a:prstGeom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1767"/>
              <p:cNvSpPr/>
              <p:nvPr/>
            </p:nvSpPr>
            <p:spPr>
              <a:xfrm>
                <a:off x="7165800" y="3534120"/>
                <a:ext cx="424440" cy="2343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76"/>
                  </a:spcBef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DE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759"/>
            <p:cNvGrpSpPr/>
            <p:nvPr/>
          </p:nvGrpSpPr>
          <p:grpSpPr>
            <a:xfrm>
              <a:off x="228600" y="5668920"/>
              <a:ext cx="8762760" cy="712440"/>
              <a:chOff x="228600" y="5668920"/>
              <a:chExt cx="8762760" cy="712440"/>
            </a:xfrm>
          </p:grpSpPr>
          <p:sp>
            <p:nvSpPr>
              <p:cNvPr id="375" name="Rectangle 1832"/>
              <p:cNvSpPr/>
              <p:nvPr/>
            </p:nvSpPr>
            <p:spPr>
              <a:xfrm>
                <a:off x="304920" y="5668920"/>
                <a:ext cx="8686440" cy="712440"/>
              </a:xfrm>
              <a:prstGeom prst="rect">
                <a:avLst/>
              </a:prstGeom>
              <a:noFill/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1833"/>
              <p:cNvSpPr/>
              <p:nvPr/>
            </p:nvSpPr>
            <p:spPr>
              <a:xfrm>
                <a:off x="2057400" y="5738760"/>
                <a:ext cx="1645920" cy="591840"/>
              </a:xfrm>
              <a:prstGeom prst="rect">
                <a:avLst/>
              </a:prstGeom>
              <a:solidFill>
                <a:srgbClr val="ffff99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Partners Providing 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Inpatient Data Only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1834"/>
              <p:cNvSpPr/>
              <p:nvPr/>
            </p:nvSpPr>
            <p:spPr>
              <a:xfrm>
                <a:off x="3687840" y="5738760"/>
                <a:ext cx="1738080" cy="591840"/>
              </a:xfrm>
              <a:prstGeom prst="rect">
                <a:avLst/>
              </a:prstGeom>
              <a:solidFill>
                <a:srgbClr val="ff990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Partners Providing 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Inpatient &amp; Ambulatory Surgery Data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35"/>
              <p:cNvSpPr/>
              <p:nvPr/>
            </p:nvSpPr>
            <p:spPr>
              <a:xfrm>
                <a:off x="7120080" y="5738760"/>
                <a:ext cx="1828440" cy="593280"/>
              </a:xfrm>
              <a:prstGeom prst="rect">
                <a:avLst/>
              </a:prstGeom>
              <a:solidFill>
                <a:srgbClr val="cc0066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Partners Providing 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Inpatient, Ambulatory Surgery,</a:t>
                </a:r>
                <a:br>
                  <a:rPr sz="950"/>
                </a:b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&amp; Emergency Department Data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836"/>
              <p:cNvSpPr/>
              <p:nvPr/>
            </p:nvSpPr>
            <p:spPr>
              <a:xfrm>
                <a:off x="652320" y="5738760"/>
                <a:ext cx="1417320" cy="59328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50" spc="-1" strike="noStrike">
                    <a:solidFill>
                      <a:srgbClr val="000000"/>
                    </a:solidFill>
                    <a:latin typeface="Arial"/>
                  </a:rPr>
                  <a:t>Non-participating</a:t>
                </a:r>
                <a:endParaRPr b="0" lang="en-US" sz="9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1837"/>
              <p:cNvSpPr/>
              <p:nvPr/>
            </p:nvSpPr>
            <p:spPr>
              <a:xfrm>
                <a:off x="228600" y="5897520"/>
                <a:ext cx="599760" cy="272160"/>
              </a:xfrm>
              <a:prstGeom prst="rect">
                <a:avLst/>
              </a:prstGeom>
              <a:noFill/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Ke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1838"/>
              <p:cNvSpPr/>
              <p:nvPr/>
            </p:nvSpPr>
            <p:spPr>
              <a:xfrm>
                <a:off x="5410080" y="5738760"/>
                <a:ext cx="1736280" cy="591840"/>
              </a:xfrm>
              <a:prstGeom prst="rect">
                <a:avLst/>
              </a:prstGeom>
              <a:solidFill>
                <a:srgbClr val="ff7c80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artners Providing Inpatient &amp; Emergency Department Dat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55840" y="457200"/>
            <a:ext cx="6087600" cy="767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24040" y="222120"/>
            <a:ext cx="6087600" cy="767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urrent HCUP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45000" cy="480024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rizona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partment of Health Ser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rkansas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partment of Heal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aliforni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Office of Statewide Health Planning &amp; Develop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olorado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Hospital Associ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onnecticu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tegrated Health Information (Chime, Inc.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Florid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gency for Health Care Administr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Georgia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spital Associ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Hawaii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alth Information Corpo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Illinois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partment of Public Heal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Indiana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spital &amp; Health Associ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Iow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Hospital Associ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Aft>
                <a:spcPts val="1100"/>
              </a:spcAft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Kansas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spital Associ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04920" y="6400800"/>
            <a:ext cx="574200" cy="22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</a:pPr>
            <a:fld id="{9B31B1FE-7FA3-4427-88B3-46C2BD57F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5884920" y="5175360"/>
            <a:ext cx="2879640" cy="1398240"/>
            <a:chOff x="5884920" y="5175360"/>
            <a:chExt cx="2879640" cy="1398240"/>
          </a:xfrm>
        </p:grpSpPr>
        <p:sp>
          <p:nvSpPr>
            <p:cNvPr id="387" name="Freeform 5"/>
            <p:cNvSpPr/>
            <p:nvPr/>
          </p:nvSpPr>
          <p:spPr>
            <a:xfrm>
              <a:off x="8273880" y="5351760"/>
              <a:ext cx="209520" cy="3330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383" h="2042">
                  <a:moveTo>
                    <a:pt x="1220" y="0"/>
                  </a:moveTo>
                  <a:lnTo>
                    <a:pt x="1237" y="6"/>
                  </a:lnTo>
                  <a:lnTo>
                    <a:pt x="1250" y="11"/>
                  </a:lnTo>
                  <a:lnTo>
                    <a:pt x="1260" y="18"/>
                  </a:lnTo>
                  <a:lnTo>
                    <a:pt x="1267" y="24"/>
                  </a:lnTo>
                  <a:lnTo>
                    <a:pt x="1270" y="27"/>
                  </a:lnTo>
                  <a:lnTo>
                    <a:pt x="1272" y="30"/>
                  </a:lnTo>
                  <a:lnTo>
                    <a:pt x="1272" y="34"/>
                  </a:lnTo>
                  <a:lnTo>
                    <a:pt x="1272" y="36"/>
                  </a:lnTo>
                  <a:lnTo>
                    <a:pt x="1272" y="39"/>
                  </a:lnTo>
                  <a:lnTo>
                    <a:pt x="1270" y="43"/>
                  </a:lnTo>
                  <a:lnTo>
                    <a:pt x="1267" y="46"/>
                  </a:lnTo>
                  <a:lnTo>
                    <a:pt x="1264" y="49"/>
                  </a:lnTo>
                  <a:lnTo>
                    <a:pt x="1253" y="56"/>
                  </a:lnTo>
                  <a:lnTo>
                    <a:pt x="1239" y="63"/>
                  </a:lnTo>
                  <a:lnTo>
                    <a:pt x="1220" y="70"/>
                  </a:lnTo>
                  <a:lnTo>
                    <a:pt x="1198" y="77"/>
                  </a:lnTo>
                  <a:lnTo>
                    <a:pt x="1173" y="85"/>
                  </a:lnTo>
                  <a:lnTo>
                    <a:pt x="1141" y="93"/>
                  </a:lnTo>
                  <a:lnTo>
                    <a:pt x="1106" y="101"/>
                  </a:lnTo>
                  <a:lnTo>
                    <a:pt x="1065" y="110"/>
                  </a:lnTo>
                  <a:lnTo>
                    <a:pt x="1039" y="117"/>
                  </a:lnTo>
                  <a:lnTo>
                    <a:pt x="1016" y="124"/>
                  </a:lnTo>
                  <a:lnTo>
                    <a:pt x="1007" y="128"/>
                  </a:lnTo>
                  <a:lnTo>
                    <a:pt x="997" y="133"/>
                  </a:lnTo>
                  <a:lnTo>
                    <a:pt x="989" y="138"/>
                  </a:lnTo>
                  <a:lnTo>
                    <a:pt x="982" y="142"/>
                  </a:lnTo>
                  <a:lnTo>
                    <a:pt x="976" y="148"/>
                  </a:lnTo>
                  <a:lnTo>
                    <a:pt x="970" y="154"/>
                  </a:lnTo>
                  <a:lnTo>
                    <a:pt x="965" y="159"/>
                  </a:lnTo>
                  <a:lnTo>
                    <a:pt x="961" y="164"/>
                  </a:lnTo>
                  <a:lnTo>
                    <a:pt x="954" y="176"/>
                  </a:lnTo>
                  <a:lnTo>
                    <a:pt x="951" y="188"/>
                  </a:lnTo>
                  <a:lnTo>
                    <a:pt x="948" y="199"/>
                  </a:lnTo>
                  <a:lnTo>
                    <a:pt x="948" y="211"/>
                  </a:lnTo>
                  <a:lnTo>
                    <a:pt x="949" y="223"/>
                  </a:lnTo>
                  <a:lnTo>
                    <a:pt x="953" y="235"/>
                  </a:lnTo>
                  <a:lnTo>
                    <a:pt x="956" y="245"/>
                  </a:lnTo>
                  <a:lnTo>
                    <a:pt x="962" y="254"/>
                  </a:lnTo>
                  <a:lnTo>
                    <a:pt x="967" y="264"/>
                  </a:lnTo>
                  <a:lnTo>
                    <a:pt x="973" y="271"/>
                  </a:lnTo>
                  <a:lnTo>
                    <a:pt x="977" y="278"/>
                  </a:lnTo>
                  <a:lnTo>
                    <a:pt x="981" y="285"/>
                  </a:lnTo>
                  <a:lnTo>
                    <a:pt x="982" y="292"/>
                  </a:lnTo>
                  <a:lnTo>
                    <a:pt x="982" y="298"/>
                  </a:lnTo>
                  <a:lnTo>
                    <a:pt x="981" y="305"/>
                  </a:lnTo>
                  <a:lnTo>
                    <a:pt x="979" y="312"/>
                  </a:lnTo>
                  <a:lnTo>
                    <a:pt x="974" y="319"/>
                  </a:lnTo>
                  <a:lnTo>
                    <a:pt x="969" y="326"/>
                  </a:lnTo>
                  <a:lnTo>
                    <a:pt x="958" y="341"/>
                  </a:lnTo>
                  <a:lnTo>
                    <a:pt x="944" y="355"/>
                  </a:lnTo>
                  <a:lnTo>
                    <a:pt x="927" y="369"/>
                  </a:lnTo>
                  <a:lnTo>
                    <a:pt x="910" y="384"/>
                  </a:lnTo>
                  <a:lnTo>
                    <a:pt x="893" y="398"/>
                  </a:lnTo>
                  <a:lnTo>
                    <a:pt x="877" y="412"/>
                  </a:lnTo>
                  <a:lnTo>
                    <a:pt x="863" y="427"/>
                  </a:lnTo>
                  <a:lnTo>
                    <a:pt x="851" y="441"/>
                  </a:lnTo>
                  <a:lnTo>
                    <a:pt x="847" y="448"/>
                  </a:lnTo>
                  <a:lnTo>
                    <a:pt x="843" y="455"/>
                  </a:lnTo>
                  <a:lnTo>
                    <a:pt x="841" y="462"/>
                  </a:lnTo>
                  <a:lnTo>
                    <a:pt x="840" y="470"/>
                  </a:lnTo>
                  <a:lnTo>
                    <a:pt x="840" y="477"/>
                  </a:lnTo>
                  <a:lnTo>
                    <a:pt x="842" y="484"/>
                  </a:lnTo>
                  <a:lnTo>
                    <a:pt x="844" y="491"/>
                  </a:lnTo>
                  <a:lnTo>
                    <a:pt x="849" y="499"/>
                  </a:lnTo>
                  <a:lnTo>
                    <a:pt x="870" y="503"/>
                  </a:lnTo>
                  <a:lnTo>
                    <a:pt x="889" y="508"/>
                  </a:lnTo>
                  <a:lnTo>
                    <a:pt x="904" y="513"/>
                  </a:lnTo>
                  <a:lnTo>
                    <a:pt x="918" y="518"/>
                  </a:lnTo>
                  <a:lnTo>
                    <a:pt x="930" y="524"/>
                  </a:lnTo>
                  <a:lnTo>
                    <a:pt x="940" y="530"/>
                  </a:lnTo>
                  <a:lnTo>
                    <a:pt x="948" y="537"/>
                  </a:lnTo>
                  <a:lnTo>
                    <a:pt x="954" y="544"/>
                  </a:lnTo>
                  <a:lnTo>
                    <a:pt x="958" y="551"/>
                  </a:lnTo>
                  <a:lnTo>
                    <a:pt x="961" y="559"/>
                  </a:lnTo>
                  <a:lnTo>
                    <a:pt x="961" y="567"/>
                  </a:lnTo>
                  <a:lnTo>
                    <a:pt x="960" y="577"/>
                  </a:lnTo>
                  <a:lnTo>
                    <a:pt x="958" y="586"/>
                  </a:lnTo>
                  <a:lnTo>
                    <a:pt x="954" y="597"/>
                  </a:lnTo>
                  <a:lnTo>
                    <a:pt x="948" y="608"/>
                  </a:lnTo>
                  <a:lnTo>
                    <a:pt x="941" y="619"/>
                  </a:lnTo>
                  <a:lnTo>
                    <a:pt x="963" y="618"/>
                  </a:lnTo>
                  <a:lnTo>
                    <a:pt x="982" y="619"/>
                  </a:lnTo>
                  <a:lnTo>
                    <a:pt x="999" y="621"/>
                  </a:lnTo>
                  <a:lnTo>
                    <a:pt x="1013" y="626"/>
                  </a:lnTo>
                  <a:lnTo>
                    <a:pt x="1024" y="630"/>
                  </a:lnTo>
                  <a:lnTo>
                    <a:pt x="1036" y="638"/>
                  </a:lnTo>
                  <a:lnTo>
                    <a:pt x="1045" y="645"/>
                  </a:lnTo>
                  <a:lnTo>
                    <a:pt x="1055" y="653"/>
                  </a:lnTo>
                  <a:lnTo>
                    <a:pt x="1072" y="669"/>
                  </a:lnTo>
                  <a:lnTo>
                    <a:pt x="1091" y="683"/>
                  </a:lnTo>
                  <a:lnTo>
                    <a:pt x="1101" y="689"/>
                  </a:lnTo>
                  <a:lnTo>
                    <a:pt x="1113" y="694"/>
                  </a:lnTo>
                  <a:lnTo>
                    <a:pt x="1127" y="696"/>
                  </a:lnTo>
                  <a:lnTo>
                    <a:pt x="1143" y="697"/>
                  </a:lnTo>
                  <a:lnTo>
                    <a:pt x="1160" y="697"/>
                  </a:lnTo>
                  <a:lnTo>
                    <a:pt x="1176" y="695"/>
                  </a:lnTo>
                  <a:lnTo>
                    <a:pt x="1190" y="692"/>
                  </a:lnTo>
                  <a:lnTo>
                    <a:pt x="1205" y="690"/>
                  </a:lnTo>
                  <a:lnTo>
                    <a:pt x="1231" y="682"/>
                  </a:lnTo>
                  <a:lnTo>
                    <a:pt x="1254" y="674"/>
                  </a:lnTo>
                  <a:lnTo>
                    <a:pt x="1278" y="666"/>
                  </a:lnTo>
                  <a:lnTo>
                    <a:pt x="1300" y="659"/>
                  </a:lnTo>
                  <a:lnTo>
                    <a:pt x="1310" y="655"/>
                  </a:lnTo>
                  <a:lnTo>
                    <a:pt x="1322" y="653"/>
                  </a:lnTo>
                  <a:lnTo>
                    <a:pt x="1333" y="652"/>
                  </a:lnTo>
                  <a:lnTo>
                    <a:pt x="1345" y="652"/>
                  </a:lnTo>
                  <a:lnTo>
                    <a:pt x="1354" y="652"/>
                  </a:lnTo>
                  <a:lnTo>
                    <a:pt x="1361" y="654"/>
                  </a:lnTo>
                  <a:lnTo>
                    <a:pt x="1364" y="657"/>
                  </a:lnTo>
                  <a:lnTo>
                    <a:pt x="1366" y="662"/>
                  </a:lnTo>
                  <a:lnTo>
                    <a:pt x="1368" y="669"/>
                  </a:lnTo>
                  <a:lnTo>
                    <a:pt x="1368" y="676"/>
                  </a:lnTo>
                  <a:lnTo>
                    <a:pt x="1366" y="684"/>
                  </a:lnTo>
                  <a:lnTo>
                    <a:pt x="1365" y="692"/>
                  </a:lnTo>
                  <a:lnTo>
                    <a:pt x="1362" y="711"/>
                  </a:lnTo>
                  <a:lnTo>
                    <a:pt x="1361" y="732"/>
                  </a:lnTo>
                  <a:lnTo>
                    <a:pt x="1362" y="743"/>
                  </a:lnTo>
                  <a:lnTo>
                    <a:pt x="1365" y="754"/>
                  </a:lnTo>
                  <a:lnTo>
                    <a:pt x="1370" y="765"/>
                  </a:lnTo>
                  <a:lnTo>
                    <a:pt x="1377" y="775"/>
                  </a:lnTo>
                  <a:lnTo>
                    <a:pt x="1379" y="779"/>
                  </a:lnTo>
                  <a:lnTo>
                    <a:pt x="1382" y="782"/>
                  </a:lnTo>
                  <a:lnTo>
                    <a:pt x="1382" y="786"/>
                  </a:lnTo>
                  <a:lnTo>
                    <a:pt x="1383" y="789"/>
                  </a:lnTo>
                  <a:lnTo>
                    <a:pt x="1382" y="793"/>
                  </a:lnTo>
                  <a:lnTo>
                    <a:pt x="1380" y="796"/>
                  </a:lnTo>
                  <a:lnTo>
                    <a:pt x="1378" y="800"/>
                  </a:lnTo>
                  <a:lnTo>
                    <a:pt x="1376" y="802"/>
                  </a:lnTo>
                  <a:lnTo>
                    <a:pt x="1369" y="808"/>
                  </a:lnTo>
                  <a:lnTo>
                    <a:pt x="1359" y="814"/>
                  </a:lnTo>
                  <a:lnTo>
                    <a:pt x="1348" y="819"/>
                  </a:lnTo>
                  <a:lnTo>
                    <a:pt x="1336" y="823"/>
                  </a:lnTo>
                  <a:lnTo>
                    <a:pt x="1309" y="831"/>
                  </a:lnTo>
                  <a:lnTo>
                    <a:pt x="1281" y="838"/>
                  </a:lnTo>
                  <a:lnTo>
                    <a:pt x="1257" y="844"/>
                  </a:lnTo>
                  <a:lnTo>
                    <a:pt x="1236" y="850"/>
                  </a:lnTo>
                  <a:lnTo>
                    <a:pt x="1202" y="854"/>
                  </a:lnTo>
                  <a:lnTo>
                    <a:pt x="1171" y="857"/>
                  </a:lnTo>
                  <a:lnTo>
                    <a:pt x="1142" y="862"/>
                  </a:lnTo>
                  <a:lnTo>
                    <a:pt x="1114" y="868"/>
                  </a:lnTo>
                  <a:lnTo>
                    <a:pt x="1087" y="873"/>
                  </a:lnTo>
                  <a:lnTo>
                    <a:pt x="1063" y="879"/>
                  </a:lnTo>
                  <a:lnTo>
                    <a:pt x="1038" y="886"/>
                  </a:lnTo>
                  <a:lnTo>
                    <a:pt x="1014" y="893"/>
                  </a:lnTo>
                  <a:lnTo>
                    <a:pt x="966" y="908"/>
                  </a:lnTo>
                  <a:lnTo>
                    <a:pt x="917" y="925"/>
                  </a:lnTo>
                  <a:lnTo>
                    <a:pt x="863" y="942"/>
                  </a:lnTo>
                  <a:lnTo>
                    <a:pt x="803" y="959"/>
                  </a:lnTo>
                  <a:lnTo>
                    <a:pt x="806" y="966"/>
                  </a:lnTo>
                  <a:lnTo>
                    <a:pt x="807" y="973"/>
                  </a:lnTo>
                  <a:lnTo>
                    <a:pt x="807" y="980"/>
                  </a:lnTo>
                  <a:lnTo>
                    <a:pt x="806" y="986"/>
                  </a:lnTo>
                  <a:lnTo>
                    <a:pt x="803" y="993"/>
                  </a:lnTo>
                  <a:lnTo>
                    <a:pt x="801" y="998"/>
                  </a:lnTo>
                  <a:lnTo>
                    <a:pt x="796" y="1004"/>
                  </a:lnTo>
                  <a:lnTo>
                    <a:pt x="792" y="1009"/>
                  </a:lnTo>
                  <a:lnTo>
                    <a:pt x="781" y="1019"/>
                  </a:lnTo>
                  <a:lnTo>
                    <a:pt x="767" y="1028"/>
                  </a:lnTo>
                  <a:lnTo>
                    <a:pt x="752" y="1036"/>
                  </a:lnTo>
                  <a:lnTo>
                    <a:pt x="736" y="1043"/>
                  </a:lnTo>
                  <a:lnTo>
                    <a:pt x="719" y="1049"/>
                  </a:lnTo>
                  <a:lnTo>
                    <a:pt x="703" y="1055"/>
                  </a:lnTo>
                  <a:lnTo>
                    <a:pt x="688" y="1059"/>
                  </a:lnTo>
                  <a:lnTo>
                    <a:pt x="674" y="1063"/>
                  </a:lnTo>
                  <a:lnTo>
                    <a:pt x="653" y="1067"/>
                  </a:lnTo>
                  <a:lnTo>
                    <a:pt x="645" y="1069"/>
                  </a:lnTo>
                  <a:lnTo>
                    <a:pt x="849" y="1285"/>
                  </a:lnTo>
                  <a:lnTo>
                    <a:pt x="849" y="1422"/>
                  </a:lnTo>
                  <a:lnTo>
                    <a:pt x="828" y="1419"/>
                  </a:lnTo>
                  <a:lnTo>
                    <a:pt x="807" y="1415"/>
                  </a:lnTo>
                  <a:lnTo>
                    <a:pt x="787" y="1414"/>
                  </a:lnTo>
                  <a:lnTo>
                    <a:pt x="767" y="1412"/>
                  </a:lnTo>
                  <a:lnTo>
                    <a:pt x="750" y="1412"/>
                  </a:lnTo>
                  <a:lnTo>
                    <a:pt x="731" y="1412"/>
                  </a:lnTo>
                  <a:lnTo>
                    <a:pt x="715" y="1413"/>
                  </a:lnTo>
                  <a:lnTo>
                    <a:pt x="699" y="1414"/>
                  </a:lnTo>
                  <a:lnTo>
                    <a:pt x="684" y="1417"/>
                  </a:lnTo>
                  <a:lnTo>
                    <a:pt x="671" y="1419"/>
                  </a:lnTo>
                  <a:lnTo>
                    <a:pt x="660" y="1422"/>
                  </a:lnTo>
                  <a:lnTo>
                    <a:pt x="649" y="1426"/>
                  </a:lnTo>
                  <a:lnTo>
                    <a:pt x="640" y="1431"/>
                  </a:lnTo>
                  <a:lnTo>
                    <a:pt x="632" y="1435"/>
                  </a:lnTo>
                  <a:lnTo>
                    <a:pt x="626" y="1440"/>
                  </a:lnTo>
                  <a:lnTo>
                    <a:pt x="622" y="1446"/>
                  </a:lnTo>
                  <a:lnTo>
                    <a:pt x="620" y="1452"/>
                  </a:lnTo>
                  <a:lnTo>
                    <a:pt x="620" y="1457"/>
                  </a:lnTo>
                  <a:lnTo>
                    <a:pt x="621" y="1464"/>
                  </a:lnTo>
                  <a:lnTo>
                    <a:pt x="625" y="1472"/>
                  </a:lnTo>
                  <a:lnTo>
                    <a:pt x="631" y="1479"/>
                  </a:lnTo>
                  <a:lnTo>
                    <a:pt x="639" y="1486"/>
                  </a:lnTo>
                  <a:lnTo>
                    <a:pt x="649" y="1493"/>
                  </a:lnTo>
                  <a:lnTo>
                    <a:pt x="663" y="1501"/>
                  </a:lnTo>
                  <a:lnTo>
                    <a:pt x="678" y="1508"/>
                  </a:lnTo>
                  <a:lnTo>
                    <a:pt x="696" y="1516"/>
                  </a:lnTo>
                  <a:lnTo>
                    <a:pt x="717" y="1523"/>
                  </a:lnTo>
                  <a:lnTo>
                    <a:pt x="740" y="1531"/>
                  </a:lnTo>
                  <a:lnTo>
                    <a:pt x="767" y="1538"/>
                  </a:lnTo>
                  <a:lnTo>
                    <a:pt x="796" y="1546"/>
                  </a:lnTo>
                  <a:lnTo>
                    <a:pt x="828" y="1553"/>
                  </a:lnTo>
                  <a:lnTo>
                    <a:pt x="864" y="1561"/>
                  </a:lnTo>
                  <a:lnTo>
                    <a:pt x="878" y="1564"/>
                  </a:lnTo>
                  <a:lnTo>
                    <a:pt x="890" y="1567"/>
                  </a:lnTo>
                  <a:lnTo>
                    <a:pt x="902" y="1572"/>
                  </a:lnTo>
                  <a:lnTo>
                    <a:pt x="912" y="1575"/>
                  </a:lnTo>
                  <a:lnTo>
                    <a:pt x="921" y="1580"/>
                  </a:lnTo>
                  <a:lnTo>
                    <a:pt x="928" y="1585"/>
                  </a:lnTo>
                  <a:lnTo>
                    <a:pt x="935" y="1589"/>
                  </a:lnTo>
                  <a:lnTo>
                    <a:pt x="941" y="1594"/>
                  </a:lnTo>
                  <a:lnTo>
                    <a:pt x="947" y="1599"/>
                  </a:lnTo>
                  <a:lnTo>
                    <a:pt x="951" y="1604"/>
                  </a:lnTo>
                  <a:lnTo>
                    <a:pt x="954" y="1609"/>
                  </a:lnTo>
                  <a:lnTo>
                    <a:pt x="956" y="1614"/>
                  </a:lnTo>
                  <a:lnTo>
                    <a:pt x="960" y="1625"/>
                  </a:lnTo>
                  <a:lnTo>
                    <a:pt x="961" y="1635"/>
                  </a:lnTo>
                  <a:lnTo>
                    <a:pt x="960" y="1644"/>
                  </a:lnTo>
                  <a:lnTo>
                    <a:pt x="958" y="1654"/>
                  </a:lnTo>
                  <a:lnTo>
                    <a:pt x="955" y="1663"/>
                  </a:lnTo>
                  <a:lnTo>
                    <a:pt x="952" y="1670"/>
                  </a:lnTo>
                  <a:lnTo>
                    <a:pt x="945" y="1681"/>
                  </a:lnTo>
                  <a:lnTo>
                    <a:pt x="941" y="1685"/>
                  </a:lnTo>
                  <a:lnTo>
                    <a:pt x="942" y="1695"/>
                  </a:lnTo>
                  <a:lnTo>
                    <a:pt x="945" y="1704"/>
                  </a:lnTo>
                  <a:lnTo>
                    <a:pt x="948" y="1713"/>
                  </a:lnTo>
                  <a:lnTo>
                    <a:pt x="954" y="1721"/>
                  </a:lnTo>
                  <a:lnTo>
                    <a:pt x="966" y="1738"/>
                  </a:lnTo>
                  <a:lnTo>
                    <a:pt x="981" y="1754"/>
                  </a:lnTo>
                  <a:lnTo>
                    <a:pt x="995" y="1769"/>
                  </a:lnTo>
                  <a:lnTo>
                    <a:pt x="1007" y="1786"/>
                  </a:lnTo>
                  <a:lnTo>
                    <a:pt x="1013" y="1795"/>
                  </a:lnTo>
                  <a:lnTo>
                    <a:pt x="1016" y="1803"/>
                  </a:lnTo>
                  <a:lnTo>
                    <a:pt x="1018" y="1814"/>
                  </a:lnTo>
                  <a:lnTo>
                    <a:pt x="1020" y="1823"/>
                  </a:lnTo>
                  <a:lnTo>
                    <a:pt x="1020" y="1841"/>
                  </a:lnTo>
                  <a:lnTo>
                    <a:pt x="1022" y="1856"/>
                  </a:lnTo>
                  <a:lnTo>
                    <a:pt x="1025" y="1870"/>
                  </a:lnTo>
                  <a:lnTo>
                    <a:pt x="1029" y="1884"/>
                  </a:lnTo>
                  <a:lnTo>
                    <a:pt x="1038" y="1907"/>
                  </a:lnTo>
                  <a:lnTo>
                    <a:pt x="1049" y="1931"/>
                  </a:lnTo>
                  <a:lnTo>
                    <a:pt x="1053" y="1942"/>
                  </a:lnTo>
                  <a:lnTo>
                    <a:pt x="1058" y="1954"/>
                  </a:lnTo>
                  <a:lnTo>
                    <a:pt x="1063" y="1966"/>
                  </a:lnTo>
                  <a:lnTo>
                    <a:pt x="1065" y="1978"/>
                  </a:lnTo>
                  <a:lnTo>
                    <a:pt x="1067" y="1992"/>
                  </a:lnTo>
                  <a:lnTo>
                    <a:pt x="1069" y="2008"/>
                  </a:lnTo>
                  <a:lnTo>
                    <a:pt x="1067" y="2024"/>
                  </a:lnTo>
                  <a:lnTo>
                    <a:pt x="1065" y="2042"/>
                  </a:lnTo>
                  <a:lnTo>
                    <a:pt x="1053" y="2037"/>
                  </a:lnTo>
                  <a:lnTo>
                    <a:pt x="1043" y="2031"/>
                  </a:lnTo>
                  <a:lnTo>
                    <a:pt x="1031" y="2024"/>
                  </a:lnTo>
                  <a:lnTo>
                    <a:pt x="1021" y="2016"/>
                  </a:lnTo>
                  <a:lnTo>
                    <a:pt x="1010" y="2006"/>
                  </a:lnTo>
                  <a:lnTo>
                    <a:pt x="1000" y="1997"/>
                  </a:lnTo>
                  <a:lnTo>
                    <a:pt x="989" y="1987"/>
                  </a:lnTo>
                  <a:lnTo>
                    <a:pt x="980" y="1975"/>
                  </a:lnTo>
                  <a:lnTo>
                    <a:pt x="960" y="1952"/>
                  </a:lnTo>
                  <a:lnTo>
                    <a:pt x="941" y="1927"/>
                  </a:lnTo>
                  <a:lnTo>
                    <a:pt x="924" y="1901"/>
                  </a:lnTo>
                  <a:lnTo>
                    <a:pt x="905" y="1874"/>
                  </a:lnTo>
                  <a:lnTo>
                    <a:pt x="872" y="1824"/>
                  </a:lnTo>
                  <a:lnTo>
                    <a:pt x="841" y="1780"/>
                  </a:lnTo>
                  <a:lnTo>
                    <a:pt x="824" y="1762"/>
                  </a:lnTo>
                  <a:lnTo>
                    <a:pt x="809" y="1747"/>
                  </a:lnTo>
                  <a:lnTo>
                    <a:pt x="802" y="1741"/>
                  </a:lnTo>
                  <a:lnTo>
                    <a:pt x="795" y="1737"/>
                  </a:lnTo>
                  <a:lnTo>
                    <a:pt x="787" y="1733"/>
                  </a:lnTo>
                  <a:lnTo>
                    <a:pt x="780" y="1731"/>
                  </a:lnTo>
                  <a:lnTo>
                    <a:pt x="725" y="1748"/>
                  </a:lnTo>
                  <a:lnTo>
                    <a:pt x="524" y="1575"/>
                  </a:lnTo>
                  <a:lnTo>
                    <a:pt x="507" y="1581"/>
                  </a:lnTo>
                  <a:lnTo>
                    <a:pt x="492" y="1587"/>
                  </a:lnTo>
                  <a:lnTo>
                    <a:pt x="476" y="1593"/>
                  </a:lnTo>
                  <a:lnTo>
                    <a:pt x="462" y="1600"/>
                  </a:lnTo>
                  <a:lnTo>
                    <a:pt x="450" y="1607"/>
                  </a:lnTo>
                  <a:lnTo>
                    <a:pt x="438" y="1614"/>
                  </a:lnTo>
                  <a:lnTo>
                    <a:pt x="428" y="1621"/>
                  </a:lnTo>
                  <a:lnTo>
                    <a:pt x="419" y="1627"/>
                  </a:lnTo>
                  <a:lnTo>
                    <a:pt x="411" y="1634"/>
                  </a:lnTo>
                  <a:lnTo>
                    <a:pt x="405" y="1641"/>
                  </a:lnTo>
                  <a:lnTo>
                    <a:pt x="400" y="1647"/>
                  </a:lnTo>
                  <a:lnTo>
                    <a:pt x="397" y="1653"/>
                  </a:lnTo>
                  <a:lnTo>
                    <a:pt x="395" y="1657"/>
                  </a:lnTo>
                  <a:lnTo>
                    <a:pt x="395" y="1663"/>
                  </a:lnTo>
                  <a:lnTo>
                    <a:pt x="397" y="1667"/>
                  </a:lnTo>
                  <a:lnTo>
                    <a:pt x="400" y="1670"/>
                  </a:lnTo>
                  <a:lnTo>
                    <a:pt x="438" y="1700"/>
                  </a:lnTo>
                  <a:lnTo>
                    <a:pt x="478" y="1731"/>
                  </a:lnTo>
                  <a:lnTo>
                    <a:pt x="520" y="1761"/>
                  </a:lnTo>
                  <a:lnTo>
                    <a:pt x="562" y="1790"/>
                  </a:lnTo>
                  <a:lnTo>
                    <a:pt x="604" y="1818"/>
                  </a:lnTo>
                  <a:lnTo>
                    <a:pt x="643" y="1844"/>
                  </a:lnTo>
                  <a:lnTo>
                    <a:pt x="680" y="1867"/>
                  </a:lnTo>
                  <a:lnTo>
                    <a:pt x="711" y="1886"/>
                  </a:lnTo>
                  <a:lnTo>
                    <a:pt x="0" y="1886"/>
                  </a:lnTo>
                  <a:lnTo>
                    <a:pt x="0" y="0"/>
                  </a:lnTo>
                  <a:lnTo>
                    <a:pt x="1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6"/>
            <p:cNvSpPr/>
            <p:nvPr/>
          </p:nvSpPr>
          <p:spPr>
            <a:xfrm>
              <a:off x="7445520" y="6243840"/>
              <a:ext cx="126360" cy="918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41" h="565">
                  <a:moveTo>
                    <a:pt x="0" y="565"/>
                  </a:moveTo>
                  <a:lnTo>
                    <a:pt x="22" y="537"/>
                  </a:lnTo>
                  <a:lnTo>
                    <a:pt x="45" y="510"/>
                  </a:lnTo>
                  <a:lnTo>
                    <a:pt x="67" y="484"/>
                  </a:lnTo>
                  <a:lnTo>
                    <a:pt x="90" y="459"/>
                  </a:lnTo>
                  <a:lnTo>
                    <a:pt x="136" y="410"/>
                  </a:lnTo>
                  <a:lnTo>
                    <a:pt x="180" y="365"/>
                  </a:lnTo>
                  <a:lnTo>
                    <a:pt x="223" y="326"/>
                  </a:lnTo>
                  <a:lnTo>
                    <a:pt x="263" y="292"/>
                  </a:lnTo>
                  <a:lnTo>
                    <a:pt x="282" y="276"/>
                  </a:lnTo>
                  <a:lnTo>
                    <a:pt x="299" y="262"/>
                  </a:lnTo>
                  <a:lnTo>
                    <a:pt x="317" y="252"/>
                  </a:lnTo>
                  <a:lnTo>
                    <a:pt x="332" y="241"/>
                  </a:lnTo>
                  <a:lnTo>
                    <a:pt x="371" y="220"/>
                  </a:lnTo>
                  <a:lnTo>
                    <a:pt x="422" y="195"/>
                  </a:lnTo>
                  <a:lnTo>
                    <a:pt x="483" y="167"/>
                  </a:lnTo>
                  <a:lnTo>
                    <a:pt x="550" y="136"/>
                  </a:lnTo>
                  <a:lnTo>
                    <a:pt x="623" y="104"/>
                  </a:lnTo>
                  <a:lnTo>
                    <a:pt x="698" y="70"/>
                  </a:lnTo>
                  <a:lnTo>
                    <a:pt x="771" y="35"/>
                  </a:lnTo>
                  <a:lnTo>
                    <a:pt x="841" y="0"/>
                  </a:lnTo>
                  <a:lnTo>
                    <a:pt x="0" y="56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7"/>
            <p:cNvSpPr/>
            <p:nvPr/>
          </p:nvSpPr>
          <p:spPr>
            <a:xfrm>
              <a:off x="7445520" y="6243840"/>
              <a:ext cx="126360" cy="918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841" h="565">
                  <a:moveTo>
                    <a:pt x="0" y="565"/>
                  </a:moveTo>
                  <a:lnTo>
                    <a:pt x="22" y="537"/>
                  </a:lnTo>
                  <a:lnTo>
                    <a:pt x="45" y="510"/>
                  </a:lnTo>
                  <a:lnTo>
                    <a:pt x="67" y="484"/>
                  </a:lnTo>
                  <a:lnTo>
                    <a:pt x="90" y="459"/>
                  </a:lnTo>
                  <a:lnTo>
                    <a:pt x="136" y="410"/>
                  </a:lnTo>
                  <a:lnTo>
                    <a:pt x="180" y="365"/>
                  </a:lnTo>
                  <a:lnTo>
                    <a:pt x="223" y="326"/>
                  </a:lnTo>
                  <a:lnTo>
                    <a:pt x="263" y="292"/>
                  </a:lnTo>
                  <a:lnTo>
                    <a:pt x="282" y="276"/>
                  </a:lnTo>
                  <a:lnTo>
                    <a:pt x="299" y="262"/>
                  </a:lnTo>
                  <a:lnTo>
                    <a:pt x="317" y="252"/>
                  </a:lnTo>
                  <a:lnTo>
                    <a:pt x="332" y="241"/>
                  </a:lnTo>
                  <a:lnTo>
                    <a:pt x="371" y="220"/>
                  </a:lnTo>
                  <a:lnTo>
                    <a:pt x="422" y="195"/>
                  </a:lnTo>
                  <a:lnTo>
                    <a:pt x="483" y="167"/>
                  </a:lnTo>
                  <a:lnTo>
                    <a:pt x="550" y="136"/>
                  </a:lnTo>
                  <a:lnTo>
                    <a:pt x="623" y="104"/>
                  </a:lnTo>
                  <a:lnTo>
                    <a:pt x="698" y="70"/>
                  </a:lnTo>
                  <a:lnTo>
                    <a:pt x="771" y="35"/>
                  </a:lnTo>
                  <a:lnTo>
                    <a:pt x="841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>
              <a:off x="8367480" y="6119640"/>
              <a:ext cx="90360" cy="1058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605" h="646">
                  <a:moveTo>
                    <a:pt x="0" y="0"/>
                  </a:moveTo>
                  <a:lnTo>
                    <a:pt x="277" y="0"/>
                  </a:lnTo>
                  <a:lnTo>
                    <a:pt x="274" y="9"/>
                  </a:lnTo>
                  <a:lnTo>
                    <a:pt x="273" y="20"/>
                  </a:lnTo>
                  <a:lnTo>
                    <a:pt x="273" y="31"/>
                  </a:lnTo>
                  <a:lnTo>
                    <a:pt x="274" y="43"/>
                  </a:lnTo>
                  <a:lnTo>
                    <a:pt x="277" y="56"/>
                  </a:lnTo>
                  <a:lnTo>
                    <a:pt x="279" y="71"/>
                  </a:lnTo>
                  <a:lnTo>
                    <a:pt x="284" y="86"/>
                  </a:lnTo>
                  <a:lnTo>
                    <a:pt x="288" y="102"/>
                  </a:lnTo>
                  <a:lnTo>
                    <a:pt x="300" y="137"/>
                  </a:lnTo>
                  <a:lnTo>
                    <a:pt x="316" y="174"/>
                  </a:lnTo>
                  <a:lnTo>
                    <a:pt x="335" y="214"/>
                  </a:lnTo>
                  <a:lnTo>
                    <a:pt x="356" y="256"/>
                  </a:lnTo>
                  <a:lnTo>
                    <a:pt x="381" y="300"/>
                  </a:lnTo>
                  <a:lnTo>
                    <a:pt x="408" y="347"/>
                  </a:lnTo>
                  <a:lnTo>
                    <a:pt x="436" y="395"/>
                  </a:lnTo>
                  <a:lnTo>
                    <a:pt x="467" y="444"/>
                  </a:lnTo>
                  <a:lnTo>
                    <a:pt x="500" y="493"/>
                  </a:lnTo>
                  <a:lnTo>
                    <a:pt x="534" y="543"/>
                  </a:lnTo>
                  <a:lnTo>
                    <a:pt x="569" y="594"/>
                  </a:lnTo>
                  <a:lnTo>
                    <a:pt x="605" y="6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9"/>
            <p:cNvSpPr/>
            <p:nvPr/>
          </p:nvSpPr>
          <p:spPr>
            <a:xfrm>
              <a:off x="8367480" y="6119640"/>
              <a:ext cx="90360" cy="1058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605" h="646">
                  <a:moveTo>
                    <a:pt x="0" y="0"/>
                  </a:moveTo>
                  <a:lnTo>
                    <a:pt x="277" y="0"/>
                  </a:lnTo>
                  <a:lnTo>
                    <a:pt x="274" y="9"/>
                  </a:lnTo>
                  <a:lnTo>
                    <a:pt x="273" y="20"/>
                  </a:lnTo>
                  <a:lnTo>
                    <a:pt x="273" y="31"/>
                  </a:lnTo>
                  <a:lnTo>
                    <a:pt x="274" y="43"/>
                  </a:lnTo>
                  <a:lnTo>
                    <a:pt x="277" y="56"/>
                  </a:lnTo>
                  <a:lnTo>
                    <a:pt x="279" y="71"/>
                  </a:lnTo>
                  <a:lnTo>
                    <a:pt x="284" y="86"/>
                  </a:lnTo>
                  <a:lnTo>
                    <a:pt x="288" y="102"/>
                  </a:lnTo>
                  <a:lnTo>
                    <a:pt x="300" y="137"/>
                  </a:lnTo>
                  <a:lnTo>
                    <a:pt x="316" y="174"/>
                  </a:lnTo>
                  <a:lnTo>
                    <a:pt x="335" y="214"/>
                  </a:lnTo>
                  <a:lnTo>
                    <a:pt x="356" y="256"/>
                  </a:lnTo>
                  <a:lnTo>
                    <a:pt x="381" y="300"/>
                  </a:lnTo>
                  <a:lnTo>
                    <a:pt x="408" y="347"/>
                  </a:lnTo>
                  <a:lnTo>
                    <a:pt x="436" y="395"/>
                  </a:lnTo>
                  <a:lnTo>
                    <a:pt x="467" y="444"/>
                  </a:lnTo>
                  <a:lnTo>
                    <a:pt x="500" y="493"/>
                  </a:lnTo>
                  <a:lnTo>
                    <a:pt x="534" y="543"/>
                  </a:lnTo>
                  <a:lnTo>
                    <a:pt x="569" y="594"/>
                  </a:lnTo>
                  <a:lnTo>
                    <a:pt x="605" y="64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10"/>
            <p:cNvSpPr/>
            <p:nvPr/>
          </p:nvSpPr>
          <p:spPr>
            <a:xfrm>
              <a:off x="6337080" y="5844960"/>
              <a:ext cx="36000" cy="1522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44" h="1091">
                  <a:moveTo>
                    <a:pt x="0" y="567"/>
                  </a:moveTo>
                  <a:lnTo>
                    <a:pt x="17" y="591"/>
                  </a:lnTo>
                  <a:lnTo>
                    <a:pt x="36" y="616"/>
                  </a:lnTo>
                  <a:lnTo>
                    <a:pt x="53" y="642"/>
                  </a:lnTo>
                  <a:lnTo>
                    <a:pt x="71" y="670"/>
                  </a:lnTo>
                  <a:lnTo>
                    <a:pt x="87" y="699"/>
                  </a:lnTo>
                  <a:lnTo>
                    <a:pt x="102" y="730"/>
                  </a:lnTo>
                  <a:lnTo>
                    <a:pt x="109" y="746"/>
                  </a:lnTo>
                  <a:lnTo>
                    <a:pt x="116" y="761"/>
                  </a:lnTo>
                  <a:lnTo>
                    <a:pt x="122" y="777"/>
                  </a:lnTo>
                  <a:lnTo>
                    <a:pt x="127" y="794"/>
                  </a:lnTo>
                  <a:lnTo>
                    <a:pt x="132" y="811"/>
                  </a:lnTo>
                  <a:lnTo>
                    <a:pt x="136" y="828"/>
                  </a:lnTo>
                  <a:lnTo>
                    <a:pt x="140" y="845"/>
                  </a:lnTo>
                  <a:lnTo>
                    <a:pt x="142" y="863"/>
                  </a:lnTo>
                  <a:lnTo>
                    <a:pt x="143" y="880"/>
                  </a:lnTo>
                  <a:lnTo>
                    <a:pt x="144" y="899"/>
                  </a:lnTo>
                  <a:lnTo>
                    <a:pt x="144" y="916"/>
                  </a:lnTo>
                  <a:lnTo>
                    <a:pt x="143" y="935"/>
                  </a:lnTo>
                  <a:lnTo>
                    <a:pt x="141" y="954"/>
                  </a:lnTo>
                  <a:lnTo>
                    <a:pt x="137" y="973"/>
                  </a:lnTo>
                  <a:lnTo>
                    <a:pt x="133" y="992"/>
                  </a:lnTo>
                  <a:lnTo>
                    <a:pt x="128" y="1011"/>
                  </a:lnTo>
                  <a:lnTo>
                    <a:pt x="121" y="1031"/>
                  </a:lnTo>
                  <a:lnTo>
                    <a:pt x="113" y="1051"/>
                  </a:lnTo>
                  <a:lnTo>
                    <a:pt x="104" y="1071"/>
                  </a:lnTo>
                  <a:lnTo>
                    <a:pt x="92" y="1091"/>
                  </a:lnTo>
                  <a:lnTo>
                    <a:pt x="92" y="526"/>
                  </a:lnTo>
                  <a:lnTo>
                    <a:pt x="104" y="506"/>
                  </a:lnTo>
                  <a:lnTo>
                    <a:pt x="113" y="485"/>
                  </a:lnTo>
                  <a:lnTo>
                    <a:pt x="121" y="466"/>
                  </a:lnTo>
                  <a:lnTo>
                    <a:pt x="128" y="446"/>
                  </a:lnTo>
                  <a:lnTo>
                    <a:pt x="133" y="426"/>
                  </a:lnTo>
                  <a:lnTo>
                    <a:pt x="137" y="407"/>
                  </a:lnTo>
                  <a:lnTo>
                    <a:pt x="141" y="389"/>
                  </a:lnTo>
                  <a:lnTo>
                    <a:pt x="143" y="369"/>
                  </a:lnTo>
                  <a:lnTo>
                    <a:pt x="144" y="350"/>
                  </a:lnTo>
                  <a:lnTo>
                    <a:pt x="144" y="332"/>
                  </a:lnTo>
                  <a:lnTo>
                    <a:pt x="143" y="314"/>
                  </a:lnTo>
                  <a:lnTo>
                    <a:pt x="142" y="296"/>
                  </a:lnTo>
                  <a:lnTo>
                    <a:pt x="140" y="279"/>
                  </a:lnTo>
                  <a:lnTo>
                    <a:pt x="136" y="261"/>
                  </a:lnTo>
                  <a:lnTo>
                    <a:pt x="132" y="244"/>
                  </a:lnTo>
                  <a:lnTo>
                    <a:pt x="127" y="227"/>
                  </a:lnTo>
                  <a:lnTo>
                    <a:pt x="122" y="211"/>
                  </a:lnTo>
                  <a:lnTo>
                    <a:pt x="116" y="195"/>
                  </a:lnTo>
                  <a:lnTo>
                    <a:pt x="109" y="178"/>
                  </a:lnTo>
                  <a:lnTo>
                    <a:pt x="102" y="163"/>
                  </a:lnTo>
                  <a:lnTo>
                    <a:pt x="87" y="133"/>
                  </a:lnTo>
                  <a:lnTo>
                    <a:pt x="71" y="103"/>
                  </a:lnTo>
                  <a:lnTo>
                    <a:pt x="53" y="75"/>
                  </a:lnTo>
                  <a:lnTo>
                    <a:pt x="36" y="49"/>
                  </a:lnTo>
                  <a:lnTo>
                    <a:pt x="17" y="23"/>
                  </a:lnTo>
                  <a:lnTo>
                    <a:pt x="0" y="0"/>
                  </a:lnTo>
                  <a:lnTo>
                    <a:pt x="0" y="5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11"/>
            <p:cNvSpPr/>
            <p:nvPr/>
          </p:nvSpPr>
          <p:spPr>
            <a:xfrm>
              <a:off x="7412400" y="6337080"/>
              <a:ext cx="28440" cy="134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196" h="827">
                  <a:moveTo>
                    <a:pt x="196" y="411"/>
                  </a:moveTo>
                  <a:lnTo>
                    <a:pt x="175" y="439"/>
                  </a:lnTo>
                  <a:lnTo>
                    <a:pt x="153" y="467"/>
                  </a:lnTo>
                  <a:lnTo>
                    <a:pt x="134" y="495"/>
                  </a:lnTo>
                  <a:lnTo>
                    <a:pt x="114" y="523"/>
                  </a:lnTo>
                  <a:lnTo>
                    <a:pt x="96" y="551"/>
                  </a:lnTo>
                  <a:lnTo>
                    <a:pt x="79" y="579"/>
                  </a:lnTo>
                  <a:lnTo>
                    <a:pt x="64" y="607"/>
                  </a:lnTo>
                  <a:lnTo>
                    <a:pt x="50" y="634"/>
                  </a:lnTo>
                  <a:lnTo>
                    <a:pt x="37" y="661"/>
                  </a:lnTo>
                  <a:lnTo>
                    <a:pt x="25" y="687"/>
                  </a:lnTo>
                  <a:lnTo>
                    <a:pt x="17" y="713"/>
                  </a:lnTo>
                  <a:lnTo>
                    <a:pt x="9" y="737"/>
                  </a:lnTo>
                  <a:lnTo>
                    <a:pt x="4" y="762"/>
                  </a:lnTo>
                  <a:lnTo>
                    <a:pt x="0" y="784"/>
                  </a:lnTo>
                  <a:lnTo>
                    <a:pt x="0" y="795"/>
                  </a:lnTo>
                  <a:lnTo>
                    <a:pt x="0" y="806"/>
                  </a:lnTo>
                  <a:lnTo>
                    <a:pt x="2" y="816"/>
                  </a:lnTo>
                  <a:lnTo>
                    <a:pt x="3" y="827"/>
                  </a:lnTo>
                  <a:lnTo>
                    <a:pt x="3" y="417"/>
                  </a:lnTo>
                  <a:lnTo>
                    <a:pt x="2" y="408"/>
                  </a:lnTo>
                  <a:lnTo>
                    <a:pt x="0" y="397"/>
                  </a:lnTo>
                  <a:lnTo>
                    <a:pt x="0" y="387"/>
                  </a:lnTo>
                  <a:lnTo>
                    <a:pt x="0" y="375"/>
                  </a:lnTo>
                  <a:lnTo>
                    <a:pt x="4" y="352"/>
                  </a:lnTo>
                  <a:lnTo>
                    <a:pt x="9" y="328"/>
                  </a:lnTo>
                  <a:lnTo>
                    <a:pt x="17" y="303"/>
                  </a:lnTo>
                  <a:lnTo>
                    <a:pt x="25" y="277"/>
                  </a:lnTo>
                  <a:lnTo>
                    <a:pt x="37" y="251"/>
                  </a:lnTo>
                  <a:lnTo>
                    <a:pt x="50" y="224"/>
                  </a:lnTo>
                  <a:lnTo>
                    <a:pt x="64" y="196"/>
                  </a:lnTo>
                  <a:lnTo>
                    <a:pt x="79" y="168"/>
                  </a:lnTo>
                  <a:lnTo>
                    <a:pt x="96" y="140"/>
                  </a:lnTo>
                  <a:lnTo>
                    <a:pt x="114" y="112"/>
                  </a:lnTo>
                  <a:lnTo>
                    <a:pt x="134" y="84"/>
                  </a:lnTo>
                  <a:lnTo>
                    <a:pt x="153" y="56"/>
                  </a:lnTo>
                  <a:lnTo>
                    <a:pt x="175" y="28"/>
                  </a:lnTo>
                  <a:lnTo>
                    <a:pt x="196" y="0"/>
                  </a:lnTo>
                  <a:lnTo>
                    <a:pt x="196" y="41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12"/>
            <p:cNvSpPr/>
            <p:nvPr/>
          </p:nvSpPr>
          <p:spPr>
            <a:xfrm>
              <a:off x="7578360" y="6171840"/>
              <a:ext cx="51840" cy="1090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40" h="668">
                  <a:moveTo>
                    <a:pt x="340" y="196"/>
                  </a:moveTo>
                  <a:lnTo>
                    <a:pt x="322" y="168"/>
                  </a:lnTo>
                  <a:lnTo>
                    <a:pt x="303" y="143"/>
                  </a:lnTo>
                  <a:lnTo>
                    <a:pt x="285" y="119"/>
                  </a:lnTo>
                  <a:lnTo>
                    <a:pt x="265" y="98"/>
                  </a:lnTo>
                  <a:lnTo>
                    <a:pt x="245" y="80"/>
                  </a:lnTo>
                  <a:lnTo>
                    <a:pt x="225" y="63"/>
                  </a:lnTo>
                  <a:lnTo>
                    <a:pt x="205" y="48"/>
                  </a:lnTo>
                  <a:lnTo>
                    <a:pt x="185" y="35"/>
                  </a:lnTo>
                  <a:lnTo>
                    <a:pt x="166" y="25"/>
                  </a:lnTo>
                  <a:lnTo>
                    <a:pt x="146" y="16"/>
                  </a:lnTo>
                  <a:lnTo>
                    <a:pt x="127" y="9"/>
                  </a:lnTo>
                  <a:lnTo>
                    <a:pt x="109" y="5"/>
                  </a:lnTo>
                  <a:lnTo>
                    <a:pt x="92" y="1"/>
                  </a:lnTo>
                  <a:lnTo>
                    <a:pt x="76" y="0"/>
                  </a:lnTo>
                  <a:lnTo>
                    <a:pt x="62" y="1"/>
                  </a:lnTo>
                  <a:lnTo>
                    <a:pt x="48" y="4"/>
                  </a:lnTo>
                  <a:lnTo>
                    <a:pt x="35" y="8"/>
                  </a:lnTo>
                  <a:lnTo>
                    <a:pt x="24" y="14"/>
                  </a:lnTo>
                  <a:lnTo>
                    <a:pt x="15" y="21"/>
                  </a:lnTo>
                  <a:lnTo>
                    <a:pt x="8" y="30"/>
                  </a:lnTo>
                  <a:lnTo>
                    <a:pt x="3" y="41"/>
                  </a:lnTo>
                  <a:lnTo>
                    <a:pt x="1" y="54"/>
                  </a:lnTo>
                  <a:lnTo>
                    <a:pt x="0" y="68"/>
                  </a:lnTo>
                  <a:lnTo>
                    <a:pt x="2" y="83"/>
                  </a:lnTo>
                  <a:lnTo>
                    <a:pt x="7" y="101"/>
                  </a:lnTo>
                  <a:lnTo>
                    <a:pt x="14" y="118"/>
                  </a:lnTo>
                  <a:lnTo>
                    <a:pt x="24" y="138"/>
                  </a:lnTo>
                  <a:lnTo>
                    <a:pt x="37" y="159"/>
                  </a:lnTo>
                  <a:lnTo>
                    <a:pt x="53" y="181"/>
                  </a:lnTo>
                  <a:lnTo>
                    <a:pt x="73" y="206"/>
                  </a:lnTo>
                  <a:lnTo>
                    <a:pt x="97" y="230"/>
                  </a:lnTo>
                  <a:lnTo>
                    <a:pt x="124" y="256"/>
                  </a:lnTo>
                  <a:lnTo>
                    <a:pt x="124" y="668"/>
                  </a:lnTo>
                  <a:lnTo>
                    <a:pt x="97" y="641"/>
                  </a:lnTo>
                  <a:lnTo>
                    <a:pt x="73" y="617"/>
                  </a:lnTo>
                  <a:lnTo>
                    <a:pt x="53" y="592"/>
                  </a:lnTo>
                  <a:lnTo>
                    <a:pt x="37" y="570"/>
                  </a:lnTo>
                  <a:lnTo>
                    <a:pt x="24" y="549"/>
                  </a:lnTo>
                  <a:lnTo>
                    <a:pt x="14" y="529"/>
                  </a:lnTo>
                  <a:lnTo>
                    <a:pt x="7" y="511"/>
                  </a:lnTo>
                  <a:lnTo>
                    <a:pt x="2" y="493"/>
                  </a:lnTo>
                  <a:lnTo>
                    <a:pt x="0" y="478"/>
                  </a:lnTo>
                  <a:lnTo>
                    <a:pt x="1" y="464"/>
                  </a:lnTo>
                  <a:lnTo>
                    <a:pt x="3" y="451"/>
                  </a:lnTo>
                  <a:lnTo>
                    <a:pt x="8" y="440"/>
                  </a:lnTo>
                  <a:lnTo>
                    <a:pt x="15" y="431"/>
                  </a:lnTo>
                  <a:lnTo>
                    <a:pt x="24" y="423"/>
                  </a:lnTo>
                  <a:lnTo>
                    <a:pt x="35" y="417"/>
                  </a:lnTo>
                  <a:lnTo>
                    <a:pt x="48" y="412"/>
                  </a:lnTo>
                  <a:lnTo>
                    <a:pt x="62" y="410"/>
                  </a:lnTo>
                  <a:lnTo>
                    <a:pt x="76" y="410"/>
                  </a:lnTo>
                  <a:lnTo>
                    <a:pt x="92" y="411"/>
                  </a:lnTo>
                  <a:lnTo>
                    <a:pt x="109" y="414"/>
                  </a:lnTo>
                  <a:lnTo>
                    <a:pt x="127" y="418"/>
                  </a:lnTo>
                  <a:lnTo>
                    <a:pt x="146" y="425"/>
                  </a:lnTo>
                  <a:lnTo>
                    <a:pt x="166" y="433"/>
                  </a:lnTo>
                  <a:lnTo>
                    <a:pt x="185" y="444"/>
                  </a:lnTo>
                  <a:lnTo>
                    <a:pt x="205" y="457"/>
                  </a:lnTo>
                  <a:lnTo>
                    <a:pt x="225" y="472"/>
                  </a:lnTo>
                  <a:lnTo>
                    <a:pt x="245" y="488"/>
                  </a:lnTo>
                  <a:lnTo>
                    <a:pt x="265" y="507"/>
                  </a:lnTo>
                  <a:lnTo>
                    <a:pt x="285" y="528"/>
                  </a:lnTo>
                  <a:lnTo>
                    <a:pt x="303" y="551"/>
                  </a:lnTo>
                  <a:lnTo>
                    <a:pt x="322" y="577"/>
                  </a:lnTo>
                  <a:lnTo>
                    <a:pt x="340" y="605"/>
                  </a:lnTo>
                  <a:lnTo>
                    <a:pt x="34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13"/>
            <p:cNvSpPr/>
            <p:nvPr/>
          </p:nvSpPr>
          <p:spPr>
            <a:xfrm>
              <a:off x="7923600" y="6107400"/>
              <a:ext cx="12600" cy="93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87" h="576">
                  <a:moveTo>
                    <a:pt x="87" y="413"/>
                  </a:moveTo>
                  <a:lnTo>
                    <a:pt x="75" y="417"/>
                  </a:lnTo>
                  <a:lnTo>
                    <a:pt x="66" y="423"/>
                  </a:lnTo>
                  <a:lnTo>
                    <a:pt x="56" y="429"/>
                  </a:lnTo>
                  <a:lnTo>
                    <a:pt x="46" y="436"/>
                  </a:lnTo>
                  <a:lnTo>
                    <a:pt x="35" y="448"/>
                  </a:lnTo>
                  <a:lnTo>
                    <a:pt x="24" y="460"/>
                  </a:lnTo>
                  <a:lnTo>
                    <a:pt x="16" y="472"/>
                  </a:lnTo>
                  <a:lnTo>
                    <a:pt x="10" y="484"/>
                  </a:lnTo>
                  <a:lnTo>
                    <a:pt x="5" y="497"/>
                  </a:lnTo>
                  <a:lnTo>
                    <a:pt x="2" y="509"/>
                  </a:lnTo>
                  <a:lnTo>
                    <a:pt x="1" y="519"/>
                  </a:lnTo>
                  <a:lnTo>
                    <a:pt x="0" y="530"/>
                  </a:lnTo>
                  <a:lnTo>
                    <a:pt x="0" y="548"/>
                  </a:lnTo>
                  <a:lnTo>
                    <a:pt x="2" y="563"/>
                  </a:lnTo>
                  <a:lnTo>
                    <a:pt x="5" y="573"/>
                  </a:lnTo>
                  <a:lnTo>
                    <a:pt x="7" y="576"/>
                  </a:lnTo>
                  <a:lnTo>
                    <a:pt x="7" y="167"/>
                  </a:lnTo>
                  <a:lnTo>
                    <a:pt x="5" y="164"/>
                  </a:lnTo>
                  <a:lnTo>
                    <a:pt x="2" y="155"/>
                  </a:lnTo>
                  <a:lnTo>
                    <a:pt x="0" y="139"/>
                  </a:lnTo>
                  <a:lnTo>
                    <a:pt x="0" y="120"/>
                  </a:lnTo>
                  <a:lnTo>
                    <a:pt x="1" y="109"/>
                  </a:lnTo>
                  <a:lnTo>
                    <a:pt x="2" y="97"/>
                  </a:lnTo>
                  <a:lnTo>
                    <a:pt x="5" y="86"/>
                  </a:lnTo>
                  <a:lnTo>
                    <a:pt x="10" y="74"/>
                  </a:lnTo>
                  <a:lnTo>
                    <a:pt x="16" y="62"/>
                  </a:lnTo>
                  <a:lnTo>
                    <a:pt x="24" y="50"/>
                  </a:lnTo>
                  <a:lnTo>
                    <a:pt x="35" y="38"/>
                  </a:lnTo>
                  <a:lnTo>
                    <a:pt x="46" y="26"/>
                  </a:lnTo>
                  <a:lnTo>
                    <a:pt x="56" y="20"/>
                  </a:lnTo>
                  <a:lnTo>
                    <a:pt x="66" y="13"/>
                  </a:lnTo>
                  <a:lnTo>
                    <a:pt x="75" y="7"/>
                  </a:lnTo>
                  <a:lnTo>
                    <a:pt x="87" y="0"/>
                  </a:lnTo>
                  <a:lnTo>
                    <a:pt x="87" y="4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14"/>
            <p:cNvSpPr/>
            <p:nvPr/>
          </p:nvSpPr>
          <p:spPr>
            <a:xfrm>
              <a:off x="6351480" y="5870520"/>
              <a:ext cx="7920" cy="615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51" h="375">
                  <a:moveTo>
                    <a:pt x="0" y="375"/>
                  </a:moveTo>
                  <a:lnTo>
                    <a:pt x="0" y="0"/>
                  </a:lnTo>
                  <a:lnTo>
                    <a:pt x="12" y="21"/>
                  </a:lnTo>
                  <a:lnTo>
                    <a:pt x="22" y="44"/>
                  </a:lnTo>
                  <a:lnTo>
                    <a:pt x="30" y="66"/>
                  </a:lnTo>
                  <a:lnTo>
                    <a:pt x="38" y="89"/>
                  </a:lnTo>
                  <a:lnTo>
                    <a:pt x="43" y="113"/>
                  </a:lnTo>
                  <a:lnTo>
                    <a:pt x="48" y="136"/>
                  </a:lnTo>
                  <a:lnTo>
                    <a:pt x="50" y="160"/>
                  </a:lnTo>
                  <a:lnTo>
                    <a:pt x="51" y="185"/>
                  </a:lnTo>
                  <a:lnTo>
                    <a:pt x="50" y="209"/>
                  </a:lnTo>
                  <a:lnTo>
                    <a:pt x="48" y="234"/>
                  </a:lnTo>
                  <a:lnTo>
                    <a:pt x="44" y="259"/>
                  </a:lnTo>
                  <a:lnTo>
                    <a:pt x="38" y="282"/>
                  </a:lnTo>
                  <a:lnTo>
                    <a:pt x="31" y="306"/>
                  </a:lnTo>
                  <a:lnTo>
                    <a:pt x="23" y="330"/>
                  </a:lnTo>
                  <a:lnTo>
                    <a:pt x="13" y="353"/>
                  </a:lnTo>
                  <a:lnTo>
                    <a:pt x="0" y="3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15"/>
            <p:cNvSpPr/>
            <p:nvPr/>
          </p:nvSpPr>
          <p:spPr>
            <a:xfrm>
              <a:off x="6781680" y="6032160"/>
              <a:ext cx="14040" cy="96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92" h="596">
                  <a:moveTo>
                    <a:pt x="92" y="0"/>
                  </a:moveTo>
                  <a:lnTo>
                    <a:pt x="0" y="187"/>
                  </a:lnTo>
                  <a:lnTo>
                    <a:pt x="0" y="596"/>
                  </a:lnTo>
                  <a:lnTo>
                    <a:pt x="92" y="409"/>
                  </a:lnTo>
                  <a:lnTo>
                    <a:pt x="9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16"/>
            <p:cNvSpPr/>
            <p:nvPr/>
          </p:nvSpPr>
          <p:spPr>
            <a:xfrm>
              <a:off x="6950160" y="6184800"/>
              <a:ext cx="64440" cy="1411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435" h="872">
                  <a:moveTo>
                    <a:pt x="435" y="463"/>
                  </a:moveTo>
                  <a:lnTo>
                    <a:pt x="0" y="0"/>
                  </a:lnTo>
                  <a:lnTo>
                    <a:pt x="0" y="408"/>
                  </a:lnTo>
                  <a:lnTo>
                    <a:pt x="435" y="872"/>
                  </a:lnTo>
                  <a:lnTo>
                    <a:pt x="435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17"/>
            <p:cNvSpPr/>
            <p:nvPr/>
          </p:nvSpPr>
          <p:spPr>
            <a:xfrm>
              <a:off x="7043760" y="6189840"/>
              <a:ext cx="31320" cy="1220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16" h="749">
                  <a:moveTo>
                    <a:pt x="216" y="0"/>
                  </a:moveTo>
                  <a:lnTo>
                    <a:pt x="0" y="340"/>
                  </a:lnTo>
                  <a:lnTo>
                    <a:pt x="0" y="749"/>
                  </a:lnTo>
                  <a:lnTo>
                    <a:pt x="216" y="409"/>
                  </a:lnTo>
                  <a:lnTo>
                    <a:pt x="21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18"/>
            <p:cNvSpPr/>
            <p:nvPr/>
          </p:nvSpPr>
          <p:spPr>
            <a:xfrm>
              <a:off x="7148880" y="6184800"/>
              <a:ext cx="99360" cy="2314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658" h="1423">
                  <a:moveTo>
                    <a:pt x="658" y="1423"/>
                  </a:moveTo>
                  <a:lnTo>
                    <a:pt x="618" y="1400"/>
                  </a:lnTo>
                  <a:lnTo>
                    <a:pt x="581" y="1375"/>
                  </a:lnTo>
                  <a:lnTo>
                    <a:pt x="547" y="1349"/>
                  </a:lnTo>
                  <a:lnTo>
                    <a:pt x="514" y="1324"/>
                  </a:lnTo>
                  <a:lnTo>
                    <a:pt x="485" y="1298"/>
                  </a:lnTo>
                  <a:lnTo>
                    <a:pt x="457" y="1271"/>
                  </a:lnTo>
                  <a:lnTo>
                    <a:pt x="431" y="1243"/>
                  </a:lnTo>
                  <a:lnTo>
                    <a:pt x="407" y="1215"/>
                  </a:lnTo>
                  <a:lnTo>
                    <a:pt x="385" y="1187"/>
                  </a:lnTo>
                  <a:lnTo>
                    <a:pt x="365" y="1158"/>
                  </a:lnTo>
                  <a:lnTo>
                    <a:pt x="346" y="1130"/>
                  </a:lnTo>
                  <a:lnTo>
                    <a:pt x="330" y="1101"/>
                  </a:lnTo>
                  <a:lnTo>
                    <a:pt x="313" y="1071"/>
                  </a:lnTo>
                  <a:lnTo>
                    <a:pt x="299" y="1042"/>
                  </a:lnTo>
                  <a:lnTo>
                    <a:pt x="286" y="1013"/>
                  </a:lnTo>
                  <a:lnTo>
                    <a:pt x="276" y="984"/>
                  </a:lnTo>
                  <a:lnTo>
                    <a:pt x="265" y="955"/>
                  </a:lnTo>
                  <a:lnTo>
                    <a:pt x="256" y="927"/>
                  </a:lnTo>
                  <a:lnTo>
                    <a:pt x="248" y="897"/>
                  </a:lnTo>
                  <a:lnTo>
                    <a:pt x="241" y="871"/>
                  </a:lnTo>
                  <a:lnTo>
                    <a:pt x="228" y="816"/>
                  </a:lnTo>
                  <a:lnTo>
                    <a:pt x="219" y="763"/>
                  </a:lnTo>
                  <a:lnTo>
                    <a:pt x="212" y="714"/>
                  </a:lnTo>
                  <a:lnTo>
                    <a:pt x="205" y="668"/>
                  </a:lnTo>
                  <a:lnTo>
                    <a:pt x="199" y="628"/>
                  </a:lnTo>
                  <a:lnTo>
                    <a:pt x="194" y="590"/>
                  </a:lnTo>
                  <a:lnTo>
                    <a:pt x="190" y="567"/>
                  </a:lnTo>
                  <a:lnTo>
                    <a:pt x="184" y="546"/>
                  </a:lnTo>
                  <a:lnTo>
                    <a:pt x="176" y="526"/>
                  </a:lnTo>
                  <a:lnTo>
                    <a:pt x="167" y="508"/>
                  </a:lnTo>
                  <a:lnTo>
                    <a:pt x="158" y="493"/>
                  </a:lnTo>
                  <a:lnTo>
                    <a:pt x="147" y="479"/>
                  </a:lnTo>
                  <a:lnTo>
                    <a:pt x="136" y="466"/>
                  </a:lnTo>
                  <a:lnTo>
                    <a:pt x="123" y="455"/>
                  </a:lnTo>
                  <a:lnTo>
                    <a:pt x="110" y="445"/>
                  </a:lnTo>
                  <a:lnTo>
                    <a:pt x="96" y="437"/>
                  </a:lnTo>
                  <a:lnTo>
                    <a:pt x="81" y="430"/>
                  </a:lnTo>
                  <a:lnTo>
                    <a:pt x="66" y="423"/>
                  </a:lnTo>
                  <a:lnTo>
                    <a:pt x="51" y="419"/>
                  </a:lnTo>
                  <a:lnTo>
                    <a:pt x="34" y="415"/>
                  </a:lnTo>
                  <a:lnTo>
                    <a:pt x="18" y="412"/>
                  </a:lnTo>
                  <a:lnTo>
                    <a:pt x="0" y="409"/>
                  </a:lnTo>
                  <a:lnTo>
                    <a:pt x="0" y="0"/>
                  </a:lnTo>
                  <a:lnTo>
                    <a:pt x="18" y="3"/>
                  </a:lnTo>
                  <a:lnTo>
                    <a:pt x="34" y="5"/>
                  </a:lnTo>
                  <a:lnTo>
                    <a:pt x="51" y="10"/>
                  </a:lnTo>
                  <a:lnTo>
                    <a:pt x="66" y="14"/>
                  </a:lnTo>
                  <a:lnTo>
                    <a:pt x="81" y="20"/>
                  </a:lnTo>
                  <a:lnTo>
                    <a:pt x="96" y="27"/>
                  </a:lnTo>
                  <a:lnTo>
                    <a:pt x="110" y="35"/>
                  </a:lnTo>
                  <a:lnTo>
                    <a:pt x="123" y="45"/>
                  </a:lnTo>
                  <a:lnTo>
                    <a:pt x="136" y="55"/>
                  </a:lnTo>
                  <a:lnTo>
                    <a:pt x="147" y="68"/>
                  </a:lnTo>
                  <a:lnTo>
                    <a:pt x="158" y="82"/>
                  </a:lnTo>
                  <a:lnTo>
                    <a:pt x="167" y="97"/>
                  </a:lnTo>
                  <a:lnTo>
                    <a:pt x="176" y="115"/>
                  </a:lnTo>
                  <a:lnTo>
                    <a:pt x="184" y="134"/>
                  </a:lnTo>
                  <a:lnTo>
                    <a:pt x="190" y="156"/>
                  </a:lnTo>
                  <a:lnTo>
                    <a:pt x="194" y="178"/>
                  </a:lnTo>
                  <a:lnTo>
                    <a:pt x="199" y="216"/>
                  </a:lnTo>
                  <a:lnTo>
                    <a:pt x="205" y="257"/>
                  </a:lnTo>
                  <a:lnTo>
                    <a:pt x="212" y="304"/>
                  </a:lnTo>
                  <a:lnTo>
                    <a:pt x="219" y="353"/>
                  </a:lnTo>
                  <a:lnTo>
                    <a:pt x="228" y="406"/>
                  </a:lnTo>
                  <a:lnTo>
                    <a:pt x="241" y="459"/>
                  </a:lnTo>
                  <a:lnTo>
                    <a:pt x="248" y="487"/>
                  </a:lnTo>
                  <a:lnTo>
                    <a:pt x="256" y="515"/>
                  </a:lnTo>
                  <a:lnTo>
                    <a:pt x="265" y="545"/>
                  </a:lnTo>
                  <a:lnTo>
                    <a:pt x="276" y="574"/>
                  </a:lnTo>
                  <a:lnTo>
                    <a:pt x="286" y="602"/>
                  </a:lnTo>
                  <a:lnTo>
                    <a:pt x="299" y="631"/>
                  </a:lnTo>
                  <a:lnTo>
                    <a:pt x="313" y="660"/>
                  </a:lnTo>
                  <a:lnTo>
                    <a:pt x="330" y="690"/>
                  </a:lnTo>
                  <a:lnTo>
                    <a:pt x="346" y="719"/>
                  </a:lnTo>
                  <a:lnTo>
                    <a:pt x="365" y="748"/>
                  </a:lnTo>
                  <a:lnTo>
                    <a:pt x="385" y="776"/>
                  </a:lnTo>
                  <a:lnTo>
                    <a:pt x="407" y="805"/>
                  </a:lnTo>
                  <a:lnTo>
                    <a:pt x="431" y="833"/>
                  </a:lnTo>
                  <a:lnTo>
                    <a:pt x="457" y="860"/>
                  </a:lnTo>
                  <a:lnTo>
                    <a:pt x="485" y="888"/>
                  </a:lnTo>
                  <a:lnTo>
                    <a:pt x="514" y="914"/>
                  </a:lnTo>
                  <a:lnTo>
                    <a:pt x="547" y="941"/>
                  </a:lnTo>
                  <a:lnTo>
                    <a:pt x="581" y="965"/>
                  </a:lnTo>
                  <a:lnTo>
                    <a:pt x="618" y="990"/>
                  </a:lnTo>
                  <a:lnTo>
                    <a:pt x="658" y="1013"/>
                  </a:lnTo>
                  <a:lnTo>
                    <a:pt x="658" y="14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9"/>
            <p:cNvSpPr/>
            <p:nvPr/>
          </p:nvSpPr>
          <p:spPr>
            <a:xfrm>
              <a:off x="7272720" y="6426000"/>
              <a:ext cx="74520" cy="147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496" h="905">
                  <a:moveTo>
                    <a:pt x="496" y="496"/>
                  </a:moveTo>
                  <a:lnTo>
                    <a:pt x="0" y="0"/>
                  </a:lnTo>
                  <a:lnTo>
                    <a:pt x="0" y="410"/>
                  </a:lnTo>
                  <a:lnTo>
                    <a:pt x="496" y="905"/>
                  </a:lnTo>
                  <a:lnTo>
                    <a:pt x="496" y="4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20"/>
            <p:cNvSpPr/>
            <p:nvPr/>
          </p:nvSpPr>
          <p:spPr>
            <a:xfrm>
              <a:off x="7491600" y="6245280"/>
              <a:ext cx="75960" cy="1058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511" h="650">
                  <a:moveTo>
                    <a:pt x="511" y="409"/>
                  </a:moveTo>
                  <a:lnTo>
                    <a:pt x="441" y="443"/>
                  </a:lnTo>
                  <a:lnTo>
                    <a:pt x="367" y="478"/>
                  </a:lnTo>
                  <a:lnTo>
                    <a:pt x="292" y="511"/>
                  </a:lnTo>
                  <a:lnTo>
                    <a:pt x="220" y="544"/>
                  </a:lnTo>
                  <a:lnTo>
                    <a:pt x="152" y="576"/>
                  </a:lnTo>
                  <a:lnTo>
                    <a:pt x="91" y="604"/>
                  </a:lnTo>
                  <a:lnTo>
                    <a:pt x="40" y="628"/>
                  </a:lnTo>
                  <a:lnTo>
                    <a:pt x="0" y="650"/>
                  </a:lnTo>
                  <a:lnTo>
                    <a:pt x="0" y="242"/>
                  </a:lnTo>
                  <a:lnTo>
                    <a:pt x="40" y="219"/>
                  </a:lnTo>
                  <a:lnTo>
                    <a:pt x="91" y="195"/>
                  </a:lnTo>
                  <a:lnTo>
                    <a:pt x="152" y="166"/>
                  </a:lnTo>
                  <a:lnTo>
                    <a:pt x="220" y="135"/>
                  </a:lnTo>
                  <a:lnTo>
                    <a:pt x="292" y="103"/>
                  </a:lnTo>
                  <a:lnTo>
                    <a:pt x="367" y="69"/>
                  </a:lnTo>
                  <a:lnTo>
                    <a:pt x="441" y="34"/>
                  </a:lnTo>
                  <a:lnTo>
                    <a:pt x="511" y="0"/>
                  </a:lnTo>
                  <a:lnTo>
                    <a:pt x="511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21"/>
            <p:cNvSpPr/>
            <p:nvPr/>
          </p:nvSpPr>
          <p:spPr>
            <a:xfrm>
              <a:off x="7664400" y="6168600"/>
              <a:ext cx="45720" cy="70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309" h="437">
                  <a:moveTo>
                    <a:pt x="309" y="0"/>
                  </a:moveTo>
                  <a:lnTo>
                    <a:pt x="0" y="28"/>
                  </a:lnTo>
                  <a:lnTo>
                    <a:pt x="0" y="437"/>
                  </a:lnTo>
                  <a:lnTo>
                    <a:pt x="309" y="409"/>
                  </a:lnTo>
                  <a:lnTo>
                    <a:pt x="30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22"/>
            <p:cNvSpPr/>
            <p:nvPr/>
          </p:nvSpPr>
          <p:spPr>
            <a:xfrm>
              <a:off x="7835760" y="6184800"/>
              <a:ext cx="42840" cy="903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75" h="556">
                  <a:moveTo>
                    <a:pt x="275" y="556"/>
                  </a:moveTo>
                  <a:lnTo>
                    <a:pt x="264" y="544"/>
                  </a:lnTo>
                  <a:lnTo>
                    <a:pt x="251" y="534"/>
                  </a:lnTo>
                  <a:lnTo>
                    <a:pt x="238" y="523"/>
                  </a:lnTo>
                  <a:lnTo>
                    <a:pt x="223" y="512"/>
                  </a:lnTo>
                  <a:lnTo>
                    <a:pt x="208" y="503"/>
                  </a:lnTo>
                  <a:lnTo>
                    <a:pt x="193" y="494"/>
                  </a:lnTo>
                  <a:lnTo>
                    <a:pt x="175" y="484"/>
                  </a:lnTo>
                  <a:lnTo>
                    <a:pt x="159" y="475"/>
                  </a:lnTo>
                  <a:lnTo>
                    <a:pt x="121" y="458"/>
                  </a:lnTo>
                  <a:lnTo>
                    <a:pt x="83" y="441"/>
                  </a:lnTo>
                  <a:lnTo>
                    <a:pt x="42" y="426"/>
                  </a:lnTo>
                  <a:lnTo>
                    <a:pt x="0" y="412"/>
                  </a:lnTo>
                  <a:lnTo>
                    <a:pt x="0" y="0"/>
                  </a:lnTo>
                  <a:lnTo>
                    <a:pt x="42" y="14"/>
                  </a:lnTo>
                  <a:lnTo>
                    <a:pt x="83" y="30"/>
                  </a:lnTo>
                  <a:lnTo>
                    <a:pt x="121" y="46"/>
                  </a:lnTo>
                  <a:lnTo>
                    <a:pt x="159" y="64"/>
                  </a:lnTo>
                  <a:lnTo>
                    <a:pt x="175" y="73"/>
                  </a:lnTo>
                  <a:lnTo>
                    <a:pt x="193" y="84"/>
                  </a:lnTo>
                  <a:lnTo>
                    <a:pt x="208" y="93"/>
                  </a:lnTo>
                  <a:lnTo>
                    <a:pt x="223" y="104"/>
                  </a:lnTo>
                  <a:lnTo>
                    <a:pt x="238" y="114"/>
                  </a:lnTo>
                  <a:lnTo>
                    <a:pt x="251" y="125"/>
                  </a:lnTo>
                  <a:lnTo>
                    <a:pt x="264" y="135"/>
                  </a:lnTo>
                  <a:lnTo>
                    <a:pt x="275" y="147"/>
                  </a:lnTo>
                  <a:lnTo>
                    <a:pt x="275" y="55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23"/>
            <p:cNvSpPr/>
            <p:nvPr/>
          </p:nvSpPr>
          <p:spPr>
            <a:xfrm>
              <a:off x="8177040" y="6082200"/>
              <a:ext cx="36000" cy="975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48" h="597">
                  <a:moveTo>
                    <a:pt x="248" y="188"/>
                  </a:moveTo>
                  <a:lnTo>
                    <a:pt x="248" y="177"/>
                  </a:lnTo>
                  <a:lnTo>
                    <a:pt x="246" y="165"/>
                  </a:lnTo>
                  <a:lnTo>
                    <a:pt x="242" y="154"/>
                  </a:lnTo>
                  <a:lnTo>
                    <a:pt x="237" y="144"/>
                  </a:lnTo>
                  <a:lnTo>
                    <a:pt x="232" y="135"/>
                  </a:lnTo>
                  <a:lnTo>
                    <a:pt x="226" y="125"/>
                  </a:lnTo>
                  <a:lnTo>
                    <a:pt x="218" y="116"/>
                  </a:lnTo>
                  <a:lnTo>
                    <a:pt x="209" y="107"/>
                  </a:lnTo>
                  <a:lnTo>
                    <a:pt x="200" y="98"/>
                  </a:lnTo>
                  <a:lnTo>
                    <a:pt x="191" y="90"/>
                  </a:lnTo>
                  <a:lnTo>
                    <a:pt x="180" y="82"/>
                  </a:lnTo>
                  <a:lnTo>
                    <a:pt x="170" y="74"/>
                  </a:lnTo>
                  <a:lnTo>
                    <a:pt x="147" y="61"/>
                  </a:lnTo>
                  <a:lnTo>
                    <a:pt x="124" y="48"/>
                  </a:lnTo>
                  <a:lnTo>
                    <a:pt x="101" y="36"/>
                  </a:lnTo>
                  <a:lnTo>
                    <a:pt x="79" y="27"/>
                  </a:lnTo>
                  <a:lnTo>
                    <a:pt x="58" y="19"/>
                  </a:lnTo>
                  <a:lnTo>
                    <a:pt x="39" y="13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413"/>
                  </a:lnTo>
                  <a:lnTo>
                    <a:pt x="11" y="416"/>
                  </a:lnTo>
                  <a:lnTo>
                    <a:pt x="39" y="424"/>
                  </a:lnTo>
                  <a:lnTo>
                    <a:pt x="58" y="430"/>
                  </a:lnTo>
                  <a:lnTo>
                    <a:pt x="79" y="438"/>
                  </a:lnTo>
                  <a:lnTo>
                    <a:pt x="101" y="448"/>
                  </a:lnTo>
                  <a:lnTo>
                    <a:pt x="124" y="458"/>
                  </a:lnTo>
                  <a:lnTo>
                    <a:pt x="147" y="471"/>
                  </a:lnTo>
                  <a:lnTo>
                    <a:pt x="170" y="484"/>
                  </a:lnTo>
                  <a:lnTo>
                    <a:pt x="180" y="492"/>
                  </a:lnTo>
                  <a:lnTo>
                    <a:pt x="191" y="499"/>
                  </a:lnTo>
                  <a:lnTo>
                    <a:pt x="200" y="507"/>
                  </a:lnTo>
                  <a:lnTo>
                    <a:pt x="209" y="515"/>
                  </a:lnTo>
                  <a:lnTo>
                    <a:pt x="218" y="525"/>
                  </a:lnTo>
                  <a:lnTo>
                    <a:pt x="226" y="534"/>
                  </a:lnTo>
                  <a:lnTo>
                    <a:pt x="232" y="543"/>
                  </a:lnTo>
                  <a:lnTo>
                    <a:pt x="237" y="554"/>
                  </a:lnTo>
                  <a:lnTo>
                    <a:pt x="242" y="563"/>
                  </a:lnTo>
                  <a:lnTo>
                    <a:pt x="246" y="575"/>
                  </a:lnTo>
                  <a:lnTo>
                    <a:pt x="248" y="585"/>
                  </a:lnTo>
                  <a:lnTo>
                    <a:pt x="248" y="597"/>
                  </a:lnTo>
                  <a:lnTo>
                    <a:pt x="248" y="1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Rectangle 24"/>
            <p:cNvSpPr/>
            <p:nvPr/>
          </p:nvSpPr>
          <p:spPr>
            <a:xfrm>
              <a:off x="8269200" y="6078600"/>
              <a:ext cx="29880" cy="666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25"/>
            <p:cNvSpPr/>
            <p:nvPr/>
          </p:nvSpPr>
          <p:spPr>
            <a:xfrm>
              <a:off x="8321400" y="6099120"/>
              <a:ext cx="14040" cy="651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26"/>
            <p:cNvSpPr/>
            <p:nvPr/>
          </p:nvSpPr>
          <p:spPr>
            <a:xfrm>
              <a:off x="8406000" y="6122880"/>
              <a:ext cx="48600" cy="174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29" h="1068">
                  <a:moveTo>
                    <a:pt x="329" y="645"/>
                  </a:moveTo>
                  <a:lnTo>
                    <a:pt x="293" y="593"/>
                  </a:lnTo>
                  <a:lnTo>
                    <a:pt x="258" y="543"/>
                  </a:lnTo>
                  <a:lnTo>
                    <a:pt x="223" y="493"/>
                  </a:lnTo>
                  <a:lnTo>
                    <a:pt x="191" y="443"/>
                  </a:lnTo>
                  <a:lnTo>
                    <a:pt x="160" y="394"/>
                  </a:lnTo>
                  <a:lnTo>
                    <a:pt x="132" y="346"/>
                  </a:lnTo>
                  <a:lnTo>
                    <a:pt x="105" y="299"/>
                  </a:lnTo>
                  <a:lnTo>
                    <a:pt x="80" y="255"/>
                  </a:lnTo>
                  <a:lnTo>
                    <a:pt x="59" y="213"/>
                  </a:lnTo>
                  <a:lnTo>
                    <a:pt x="41" y="173"/>
                  </a:lnTo>
                  <a:lnTo>
                    <a:pt x="26" y="136"/>
                  </a:lnTo>
                  <a:lnTo>
                    <a:pt x="14" y="102"/>
                  </a:lnTo>
                  <a:lnTo>
                    <a:pt x="9" y="85"/>
                  </a:lnTo>
                  <a:lnTo>
                    <a:pt x="5" y="70"/>
                  </a:lnTo>
                  <a:lnTo>
                    <a:pt x="2" y="56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1" y="8"/>
                  </a:lnTo>
                  <a:lnTo>
                    <a:pt x="3" y="0"/>
                  </a:lnTo>
                  <a:lnTo>
                    <a:pt x="3" y="425"/>
                  </a:lnTo>
                  <a:lnTo>
                    <a:pt x="1" y="435"/>
                  </a:lnTo>
                  <a:lnTo>
                    <a:pt x="0" y="445"/>
                  </a:lnTo>
                  <a:lnTo>
                    <a:pt x="0" y="457"/>
                  </a:lnTo>
                  <a:lnTo>
                    <a:pt x="0" y="468"/>
                  </a:lnTo>
                  <a:lnTo>
                    <a:pt x="2" y="482"/>
                  </a:lnTo>
                  <a:lnTo>
                    <a:pt x="5" y="497"/>
                  </a:lnTo>
                  <a:lnTo>
                    <a:pt x="9" y="512"/>
                  </a:lnTo>
                  <a:lnTo>
                    <a:pt x="14" y="527"/>
                  </a:lnTo>
                  <a:lnTo>
                    <a:pt x="26" y="562"/>
                  </a:lnTo>
                  <a:lnTo>
                    <a:pt x="41" y="599"/>
                  </a:lnTo>
                  <a:lnTo>
                    <a:pt x="59" y="639"/>
                  </a:lnTo>
                  <a:lnTo>
                    <a:pt x="80" y="681"/>
                  </a:lnTo>
                  <a:lnTo>
                    <a:pt x="105" y="725"/>
                  </a:lnTo>
                  <a:lnTo>
                    <a:pt x="132" y="771"/>
                  </a:lnTo>
                  <a:lnTo>
                    <a:pt x="160" y="819"/>
                  </a:lnTo>
                  <a:lnTo>
                    <a:pt x="191" y="868"/>
                  </a:lnTo>
                  <a:lnTo>
                    <a:pt x="223" y="917"/>
                  </a:lnTo>
                  <a:lnTo>
                    <a:pt x="258" y="967"/>
                  </a:lnTo>
                  <a:lnTo>
                    <a:pt x="293" y="1017"/>
                  </a:lnTo>
                  <a:lnTo>
                    <a:pt x="329" y="1068"/>
                  </a:lnTo>
                  <a:lnTo>
                    <a:pt x="329" y="64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27"/>
            <p:cNvSpPr/>
            <p:nvPr/>
          </p:nvSpPr>
          <p:spPr>
            <a:xfrm>
              <a:off x="8572680" y="6332760"/>
              <a:ext cx="82080" cy="1141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544" h="703">
                  <a:moveTo>
                    <a:pt x="544" y="703"/>
                  </a:moveTo>
                  <a:lnTo>
                    <a:pt x="468" y="658"/>
                  </a:lnTo>
                  <a:lnTo>
                    <a:pt x="395" y="614"/>
                  </a:lnTo>
                  <a:lnTo>
                    <a:pt x="321" y="576"/>
                  </a:lnTo>
                  <a:lnTo>
                    <a:pt x="251" y="540"/>
                  </a:lnTo>
                  <a:lnTo>
                    <a:pt x="183" y="507"/>
                  </a:lnTo>
                  <a:lnTo>
                    <a:pt x="119" y="478"/>
                  </a:lnTo>
                  <a:lnTo>
                    <a:pt x="57" y="451"/>
                  </a:lnTo>
                  <a:lnTo>
                    <a:pt x="0" y="426"/>
                  </a:lnTo>
                  <a:lnTo>
                    <a:pt x="0" y="0"/>
                  </a:lnTo>
                  <a:lnTo>
                    <a:pt x="57" y="24"/>
                  </a:lnTo>
                  <a:lnTo>
                    <a:pt x="119" y="51"/>
                  </a:lnTo>
                  <a:lnTo>
                    <a:pt x="183" y="82"/>
                  </a:lnTo>
                  <a:lnTo>
                    <a:pt x="251" y="114"/>
                  </a:lnTo>
                  <a:lnTo>
                    <a:pt x="321" y="151"/>
                  </a:lnTo>
                  <a:lnTo>
                    <a:pt x="395" y="190"/>
                  </a:lnTo>
                  <a:lnTo>
                    <a:pt x="468" y="232"/>
                  </a:lnTo>
                  <a:lnTo>
                    <a:pt x="544" y="277"/>
                  </a:lnTo>
                  <a:lnTo>
                    <a:pt x="544" y="7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28"/>
            <p:cNvSpPr/>
            <p:nvPr/>
          </p:nvSpPr>
          <p:spPr>
            <a:xfrm>
              <a:off x="8367480" y="6119640"/>
              <a:ext cx="41040" cy="684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29"/>
            <p:cNvSpPr/>
            <p:nvPr/>
          </p:nvSpPr>
          <p:spPr>
            <a:xfrm>
              <a:off x="6303960" y="5802480"/>
              <a:ext cx="32760" cy="975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20" h="599">
                  <a:moveTo>
                    <a:pt x="0" y="567"/>
                  </a:moveTo>
                  <a:lnTo>
                    <a:pt x="220" y="599"/>
                  </a:lnTo>
                  <a:lnTo>
                    <a:pt x="220" y="32"/>
                  </a:lnTo>
                  <a:lnTo>
                    <a:pt x="0" y="0"/>
                  </a:lnTo>
                  <a:lnTo>
                    <a:pt x="0" y="5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30"/>
            <p:cNvSpPr/>
            <p:nvPr/>
          </p:nvSpPr>
          <p:spPr>
            <a:xfrm>
              <a:off x="6354360" y="5927760"/>
              <a:ext cx="117360" cy="684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31"/>
            <p:cNvSpPr/>
            <p:nvPr/>
          </p:nvSpPr>
          <p:spPr>
            <a:xfrm>
              <a:off x="7940880" y="6078600"/>
              <a:ext cx="239040" cy="918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90" h="570">
                  <a:moveTo>
                    <a:pt x="1590" y="14"/>
                  </a:moveTo>
                  <a:lnTo>
                    <a:pt x="1546" y="10"/>
                  </a:lnTo>
                  <a:lnTo>
                    <a:pt x="1500" y="6"/>
                  </a:lnTo>
                  <a:lnTo>
                    <a:pt x="1451" y="4"/>
                  </a:lnTo>
                  <a:lnTo>
                    <a:pt x="1399" y="1"/>
                  </a:lnTo>
                  <a:lnTo>
                    <a:pt x="1346" y="0"/>
                  </a:lnTo>
                  <a:lnTo>
                    <a:pt x="1291" y="1"/>
                  </a:lnTo>
                  <a:lnTo>
                    <a:pt x="1235" y="1"/>
                  </a:lnTo>
                  <a:lnTo>
                    <a:pt x="1176" y="4"/>
                  </a:lnTo>
                  <a:lnTo>
                    <a:pt x="1118" y="6"/>
                  </a:lnTo>
                  <a:lnTo>
                    <a:pt x="1057" y="10"/>
                  </a:lnTo>
                  <a:lnTo>
                    <a:pt x="996" y="13"/>
                  </a:lnTo>
                  <a:lnTo>
                    <a:pt x="936" y="18"/>
                  </a:lnTo>
                  <a:lnTo>
                    <a:pt x="875" y="22"/>
                  </a:lnTo>
                  <a:lnTo>
                    <a:pt x="814" y="28"/>
                  </a:lnTo>
                  <a:lnTo>
                    <a:pt x="753" y="34"/>
                  </a:lnTo>
                  <a:lnTo>
                    <a:pt x="694" y="40"/>
                  </a:lnTo>
                  <a:lnTo>
                    <a:pt x="658" y="43"/>
                  </a:lnTo>
                  <a:lnTo>
                    <a:pt x="621" y="48"/>
                  </a:lnTo>
                  <a:lnTo>
                    <a:pt x="585" y="52"/>
                  </a:lnTo>
                  <a:lnTo>
                    <a:pt x="550" y="56"/>
                  </a:lnTo>
                  <a:lnTo>
                    <a:pt x="515" y="61"/>
                  </a:lnTo>
                  <a:lnTo>
                    <a:pt x="481" y="66"/>
                  </a:lnTo>
                  <a:lnTo>
                    <a:pt x="447" y="70"/>
                  </a:lnTo>
                  <a:lnTo>
                    <a:pt x="415" y="75"/>
                  </a:lnTo>
                  <a:lnTo>
                    <a:pt x="339" y="87"/>
                  </a:lnTo>
                  <a:lnTo>
                    <a:pt x="269" y="98"/>
                  </a:lnTo>
                  <a:lnTo>
                    <a:pt x="203" y="110"/>
                  </a:lnTo>
                  <a:lnTo>
                    <a:pt x="146" y="122"/>
                  </a:lnTo>
                  <a:lnTo>
                    <a:pt x="96" y="132"/>
                  </a:lnTo>
                  <a:lnTo>
                    <a:pt x="54" y="143"/>
                  </a:lnTo>
                  <a:lnTo>
                    <a:pt x="36" y="147"/>
                  </a:lnTo>
                  <a:lnTo>
                    <a:pt x="21" y="152"/>
                  </a:lnTo>
                  <a:lnTo>
                    <a:pt x="9" y="157"/>
                  </a:lnTo>
                  <a:lnTo>
                    <a:pt x="0" y="161"/>
                  </a:lnTo>
                  <a:lnTo>
                    <a:pt x="0" y="570"/>
                  </a:lnTo>
                  <a:lnTo>
                    <a:pt x="21" y="562"/>
                  </a:lnTo>
                  <a:lnTo>
                    <a:pt x="54" y="553"/>
                  </a:lnTo>
                  <a:lnTo>
                    <a:pt x="96" y="542"/>
                  </a:lnTo>
                  <a:lnTo>
                    <a:pt x="146" y="532"/>
                  </a:lnTo>
                  <a:lnTo>
                    <a:pt x="203" y="520"/>
                  </a:lnTo>
                  <a:lnTo>
                    <a:pt x="269" y="508"/>
                  </a:lnTo>
                  <a:lnTo>
                    <a:pt x="339" y="496"/>
                  </a:lnTo>
                  <a:lnTo>
                    <a:pt x="415" y="484"/>
                  </a:lnTo>
                  <a:lnTo>
                    <a:pt x="447" y="479"/>
                  </a:lnTo>
                  <a:lnTo>
                    <a:pt x="481" y="476"/>
                  </a:lnTo>
                  <a:lnTo>
                    <a:pt x="515" y="471"/>
                  </a:lnTo>
                  <a:lnTo>
                    <a:pt x="550" y="466"/>
                  </a:lnTo>
                  <a:lnTo>
                    <a:pt x="585" y="463"/>
                  </a:lnTo>
                  <a:lnTo>
                    <a:pt x="621" y="458"/>
                  </a:lnTo>
                  <a:lnTo>
                    <a:pt x="658" y="453"/>
                  </a:lnTo>
                  <a:lnTo>
                    <a:pt x="694" y="449"/>
                  </a:lnTo>
                  <a:lnTo>
                    <a:pt x="753" y="443"/>
                  </a:lnTo>
                  <a:lnTo>
                    <a:pt x="814" y="437"/>
                  </a:lnTo>
                  <a:lnTo>
                    <a:pt x="875" y="431"/>
                  </a:lnTo>
                  <a:lnTo>
                    <a:pt x="936" y="427"/>
                  </a:lnTo>
                  <a:lnTo>
                    <a:pt x="996" y="422"/>
                  </a:lnTo>
                  <a:lnTo>
                    <a:pt x="1057" y="418"/>
                  </a:lnTo>
                  <a:lnTo>
                    <a:pt x="1118" y="415"/>
                  </a:lnTo>
                  <a:lnTo>
                    <a:pt x="1176" y="413"/>
                  </a:lnTo>
                  <a:lnTo>
                    <a:pt x="1235" y="411"/>
                  </a:lnTo>
                  <a:lnTo>
                    <a:pt x="1291" y="410"/>
                  </a:lnTo>
                  <a:lnTo>
                    <a:pt x="1346" y="410"/>
                  </a:lnTo>
                  <a:lnTo>
                    <a:pt x="1399" y="410"/>
                  </a:lnTo>
                  <a:lnTo>
                    <a:pt x="1451" y="413"/>
                  </a:lnTo>
                  <a:lnTo>
                    <a:pt x="1500" y="415"/>
                  </a:lnTo>
                  <a:lnTo>
                    <a:pt x="1546" y="418"/>
                  </a:lnTo>
                  <a:lnTo>
                    <a:pt x="1590" y="423"/>
                  </a:lnTo>
                  <a:lnTo>
                    <a:pt x="1590" y="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32"/>
            <p:cNvSpPr/>
            <p:nvPr/>
          </p:nvSpPr>
          <p:spPr>
            <a:xfrm>
              <a:off x="8417160" y="5266080"/>
              <a:ext cx="48600" cy="10908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325" h="672">
                  <a:moveTo>
                    <a:pt x="34" y="672"/>
                  </a:moveTo>
                  <a:lnTo>
                    <a:pt x="33" y="665"/>
                  </a:lnTo>
                  <a:lnTo>
                    <a:pt x="32" y="658"/>
                  </a:lnTo>
                  <a:lnTo>
                    <a:pt x="29" y="652"/>
                  </a:lnTo>
                  <a:lnTo>
                    <a:pt x="25" y="645"/>
                  </a:lnTo>
                  <a:lnTo>
                    <a:pt x="19" y="637"/>
                  </a:lnTo>
                  <a:lnTo>
                    <a:pt x="14" y="628"/>
                  </a:lnTo>
                  <a:lnTo>
                    <a:pt x="8" y="618"/>
                  </a:lnTo>
                  <a:lnTo>
                    <a:pt x="5" y="607"/>
                  </a:lnTo>
                  <a:lnTo>
                    <a:pt x="1" y="596"/>
                  </a:lnTo>
                  <a:lnTo>
                    <a:pt x="0" y="584"/>
                  </a:lnTo>
                  <a:lnTo>
                    <a:pt x="0" y="572"/>
                  </a:lnTo>
                  <a:lnTo>
                    <a:pt x="3" y="559"/>
                  </a:lnTo>
                  <a:lnTo>
                    <a:pt x="6" y="548"/>
                  </a:lnTo>
                  <a:lnTo>
                    <a:pt x="13" y="536"/>
                  </a:lnTo>
                  <a:lnTo>
                    <a:pt x="17" y="530"/>
                  </a:lnTo>
                  <a:lnTo>
                    <a:pt x="22" y="524"/>
                  </a:lnTo>
                  <a:lnTo>
                    <a:pt x="28" y="520"/>
                  </a:lnTo>
                  <a:lnTo>
                    <a:pt x="34" y="514"/>
                  </a:lnTo>
                  <a:lnTo>
                    <a:pt x="41" y="509"/>
                  </a:lnTo>
                  <a:lnTo>
                    <a:pt x="49" y="505"/>
                  </a:lnTo>
                  <a:lnTo>
                    <a:pt x="59" y="500"/>
                  </a:lnTo>
                  <a:lnTo>
                    <a:pt x="68" y="495"/>
                  </a:lnTo>
                  <a:lnTo>
                    <a:pt x="91" y="488"/>
                  </a:lnTo>
                  <a:lnTo>
                    <a:pt x="117" y="481"/>
                  </a:lnTo>
                  <a:lnTo>
                    <a:pt x="167" y="471"/>
                  </a:lnTo>
                  <a:lnTo>
                    <a:pt x="211" y="460"/>
                  </a:lnTo>
                  <a:lnTo>
                    <a:pt x="246" y="451"/>
                  </a:lnTo>
                  <a:lnTo>
                    <a:pt x="274" y="441"/>
                  </a:lnTo>
                  <a:lnTo>
                    <a:pt x="296" y="433"/>
                  </a:lnTo>
                  <a:lnTo>
                    <a:pt x="311" y="425"/>
                  </a:lnTo>
                  <a:lnTo>
                    <a:pt x="317" y="420"/>
                  </a:lnTo>
                  <a:lnTo>
                    <a:pt x="322" y="417"/>
                  </a:lnTo>
                  <a:lnTo>
                    <a:pt x="324" y="412"/>
                  </a:lnTo>
                  <a:lnTo>
                    <a:pt x="325" y="409"/>
                  </a:lnTo>
                  <a:lnTo>
                    <a:pt x="325" y="0"/>
                  </a:lnTo>
                  <a:lnTo>
                    <a:pt x="324" y="3"/>
                  </a:lnTo>
                  <a:lnTo>
                    <a:pt x="322" y="8"/>
                  </a:lnTo>
                  <a:lnTo>
                    <a:pt x="317" y="12"/>
                  </a:lnTo>
                  <a:lnTo>
                    <a:pt x="311" y="15"/>
                  </a:lnTo>
                  <a:lnTo>
                    <a:pt x="296" y="24"/>
                  </a:lnTo>
                  <a:lnTo>
                    <a:pt x="274" y="33"/>
                  </a:lnTo>
                  <a:lnTo>
                    <a:pt x="246" y="42"/>
                  </a:lnTo>
                  <a:lnTo>
                    <a:pt x="211" y="51"/>
                  </a:lnTo>
                  <a:lnTo>
                    <a:pt x="167" y="62"/>
                  </a:lnTo>
                  <a:lnTo>
                    <a:pt x="117" y="72"/>
                  </a:lnTo>
                  <a:lnTo>
                    <a:pt x="91" y="78"/>
                  </a:lnTo>
                  <a:lnTo>
                    <a:pt x="68" y="86"/>
                  </a:lnTo>
                  <a:lnTo>
                    <a:pt x="59" y="91"/>
                  </a:lnTo>
                  <a:lnTo>
                    <a:pt x="49" y="96"/>
                  </a:lnTo>
                  <a:lnTo>
                    <a:pt x="41" y="100"/>
                  </a:lnTo>
                  <a:lnTo>
                    <a:pt x="34" y="105"/>
                  </a:lnTo>
                  <a:lnTo>
                    <a:pt x="28" y="111"/>
                  </a:lnTo>
                  <a:lnTo>
                    <a:pt x="22" y="116"/>
                  </a:lnTo>
                  <a:lnTo>
                    <a:pt x="17" y="121"/>
                  </a:lnTo>
                  <a:lnTo>
                    <a:pt x="13" y="127"/>
                  </a:lnTo>
                  <a:lnTo>
                    <a:pt x="6" y="139"/>
                  </a:lnTo>
                  <a:lnTo>
                    <a:pt x="3" y="151"/>
                  </a:lnTo>
                  <a:lnTo>
                    <a:pt x="0" y="162"/>
                  </a:lnTo>
                  <a:lnTo>
                    <a:pt x="0" y="174"/>
                  </a:lnTo>
                  <a:lnTo>
                    <a:pt x="1" y="186"/>
                  </a:lnTo>
                  <a:lnTo>
                    <a:pt x="5" y="196"/>
                  </a:lnTo>
                  <a:lnTo>
                    <a:pt x="8" y="207"/>
                  </a:lnTo>
                  <a:lnTo>
                    <a:pt x="14" y="217"/>
                  </a:lnTo>
                  <a:lnTo>
                    <a:pt x="19" y="225"/>
                  </a:lnTo>
                  <a:lnTo>
                    <a:pt x="25" y="234"/>
                  </a:lnTo>
                  <a:lnTo>
                    <a:pt x="29" y="241"/>
                  </a:lnTo>
                  <a:lnTo>
                    <a:pt x="32" y="248"/>
                  </a:lnTo>
                  <a:lnTo>
                    <a:pt x="33" y="255"/>
                  </a:lnTo>
                  <a:lnTo>
                    <a:pt x="34" y="262"/>
                  </a:lnTo>
                  <a:lnTo>
                    <a:pt x="34" y="6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33"/>
            <p:cNvSpPr/>
            <p:nvPr/>
          </p:nvSpPr>
          <p:spPr>
            <a:xfrm>
              <a:off x="8371080" y="5400720"/>
              <a:ext cx="74520" cy="993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495" h="613">
                  <a:moveTo>
                    <a:pt x="0" y="613"/>
                  </a:moveTo>
                  <a:lnTo>
                    <a:pt x="8" y="612"/>
                  </a:lnTo>
                  <a:lnTo>
                    <a:pt x="29" y="607"/>
                  </a:lnTo>
                  <a:lnTo>
                    <a:pt x="43" y="604"/>
                  </a:lnTo>
                  <a:lnTo>
                    <a:pt x="58" y="599"/>
                  </a:lnTo>
                  <a:lnTo>
                    <a:pt x="74" y="593"/>
                  </a:lnTo>
                  <a:lnTo>
                    <a:pt x="91" y="587"/>
                  </a:lnTo>
                  <a:lnTo>
                    <a:pt x="107" y="580"/>
                  </a:lnTo>
                  <a:lnTo>
                    <a:pt x="122" y="572"/>
                  </a:lnTo>
                  <a:lnTo>
                    <a:pt x="136" y="563"/>
                  </a:lnTo>
                  <a:lnTo>
                    <a:pt x="147" y="554"/>
                  </a:lnTo>
                  <a:lnTo>
                    <a:pt x="151" y="548"/>
                  </a:lnTo>
                  <a:lnTo>
                    <a:pt x="156" y="543"/>
                  </a:lnTo>
                  <a:lnTo>
                    <a:pt x="158" y="537"/>
                  </a:lnTo>
                  <a:lnTo>
                    <a:pt x="161" y="530"/>
                  </a:lnTo>
                  <a:lnTo>
                    <a:pt x="162" y="524"/>
                  </a:lnTo>
                  <a:lnTo>
                    <a:pt x="162" y="517"/>
                  </a:lnTo>
                  <a:lnTo>
                    <a:pt x="161" y="510"/>
                  </a:lnTo>
                  <a:lnTo>
                    <a:pt x="158" y="503"/>
                  </a:lnTo>
                  <a:lnTo>
                    <a:pt x="208" y="489"/>
                  </a:lnTo>
                  <a:lnTo>
                    <a:pt x="252" y="475"/>
                  </a:lnTo>
                  <a:lnTo>
                    <a:pt x="293" y="462"/>
                  </a:lnTo>
                  <a:lnTo>
                    <a:pt x="332" y="450"/>
                  </a:lnTo>
                  <a:lnTo>
                    <a:pt x="371" y="438"/>
                  </a:lnTo>
                  <a:lnTo>
                    <a:pt x="410" y="426"/>
                  </a:lnTo>
                  <a:lnTo>
                    <a:pt x="450" y="417"/>
                  </a:lnTo>
                  <a:lnTo>
                    <a:pt x="495" y="409"/>
                  </a:lnTo>
                  <a:lnTo>
                    <a:pt x="495" y="0"/>
                  </a:lnTo>
                  <a:lnTo>
                    <a:pt x="450" y="8"/>
                  </a:lnTo>
                  <a:lnTo>
                    <a:pt x="410" y="17"/>
                  </a:lnTo>
                  <a:lnTo>
                    <a:pt x="371" y="29"/>
                  </a:lnTo>
                  <a:lnTo>
                    <a:pt x="332" y="41"/>
                  </a:lnTo>
                  <a:lnTo>
                    <a:pt x="293" y="54"/>
                  </a:lnTo>
                  <a:lnTo>
                    <a:pt x="252" y="67"/>
                  </a:lnTo>
                  <a:lnTo>
                    <a:pt x="208" y="81"/>
                  </a:lnTo>
                  <a:lnTo>
                    <a:pt x="158" y="95"/>
                  </a:lnTo>
                  <a:lnTo>
                    <a:pt x="161" y="102"/>
                  </a:lnTo>
                  <a:lnTo>
                    <a:pt x="162" y="109"/>
                  </a:lnTo>
                  <a:lnTo>
                    <a:pt x="162" y="116"/>
                  </a:lnTo>
                  <a:lnTo>
                    <a:pt x="161" y="121"/>
                  </a:lnTo>
                  <a:lnTo>
                    <a:pt x="158" y="127"/>
                  </a:lnTo>
                  <a:lnTo>
                    <a:pt x="156" y="133"/>
                  </a:lnTo>
                  <a:lnTo>
                    <a:pt x="151" y="139"/>
                  </a:lnTo>
                  <a:lnTo>
                    <a:pt x="147" y="145"/>
                  </a:lnTo>
                  <a:lnTo>
                    <a:pt x="136" y="154"/>
                  </a:lnTo>
                  <a:lnTo>
                    <a:pt x="122" y="163"/>
                  </a:lnTo>
                  <a:lnTo>
                    <a:pt x="107" y="172"/>
                  </a:lnTo>
                  <a:lnTo>
                    <a:pt x="91" y="179"/>
                  </a:lnTo>
                  <a:lnTo>
                    <a:pt x="74" y="184"/>
                  </a:lnTo>
                  <a:lnTo>
                    <a:pt x="58" y="190"/>
                  </a:lnTo>
                  <a:lnTo>
                    <a:pt x="43" y="194"/>
                  </a:lnTo>
                  <a:lnTo>
                    <a:pt x="29" y="197"/>
                  </a:lnTo>
                  <a:lnTo>
                    <a:pt x="8" y="202"/>
                  </a:lnTo>
                  <a:lnTo>
                    <a:pt x="0" y="204"/>
                  </a:lnTo>
                  <a:lnTo>
                    <a:pt x="0" y="6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34"/>
            <p:cNvSpPr/>
            <p:nvPr/>
          </p:nvSpPr>
          <p:spPr>
            <a:xfrm>
              <a:off x="6621840" y="6045120"/>
              <a:ext cx="163440" cy="820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083" h="505">
                  <a:moveTo>
                    <a:pt x="1083" y="92"/>
                  </a:moveTo>
                  <a:lnTo>
                    <a:pt x="660" y="55"/>
                  </a:lnTo>
                  <a:lnTo>
                    <a:pt x="0" y="0"/>
                  </a:lnTo>
                  <a:lnTo>
                    <a:pt x="0" y="409"/>
                  </a:lnTo>
                  <a:lnTo>
                    <a:pt x="660" y="467"/>
                  </a:lnTo>
                  <a:lnTo>
                    <a:pt x="1083" y="505"/>
                  </a:lnTo>
                  <a:lnTo>
                    <a:pt x="1083" y="9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35"/>
            <p:cNvSpPr/>
            <p:nvPr/>
          </p:nvSpPr>
          <p:spPr>
            <a:xfrm>
              <a:off x="6799320" y="6028920"/>
              <a:ext cx="82080" cy="723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548" h="438">
                  <a:moveTo>
                    <a:pt x="548" y="29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548" y="438"/>
                  </a:lnTo>
                  <a:lnTo>
                    <a:pt x="548" y="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6"/>
            <p:cNvSpPr/>
            <p:nvPr/>
          </p:nvSpPr>
          <p:spPr>
            <a:xfrm>
              <a:off x="7018200" y="6242040"/>
              <a:ext cx="28440" cy="82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87" h="501">
                  <a:moveTo>
                    <a:pt x="187" y="0"/>
                  </a:moveTo>
                  <a:lnTo>
                    <a:pt x="0" y="92"/>
                  </a:lnTo>
                  <a:lnTo>
                    <a:pt x="0" y="501"/>
                  </a:lnTo>
                  <a:lnTo>
                    <a:pt x="187" y="409"/>
                  </a:lnTo>
                  <a:lnTo>
                    <a:pt x="18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37"/>
            <p:cNvSpPr/>
            <p:nvPr/>
          </p:nvSpPr>
          <p:spPr>
            <a:xfrm>
              <a:off x="7078680" y="6180120"/>
              <a:ext cx="74520" cy="723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487" h="442">
                  <a:moveTo>
                    <a:pt x="487" y="415"/>
                  </a:moveTo>
                  <a:lnTo>
                    <a:pt x="457" y="411"/>
                  </a:lnTo>
                  <a:lnTo>
                    <a:pt x="426" y="410"/>
                  </a:lnTo>
                  <a:lnTo>
                    <a:pt x="398" y="409"/>
                  </a:lnTo>
                  <a:lnTo>
                    <a:pt x="372" y="409"/>
                  </a:lnTo>
                  <a:lnTo>
                    <a:pt x="320" y="411"/>
                  </a:lnTo>
                  <a:lnTo>
                    <a:pt x="262" y="415"/>
                  </a:lnTo>
                  <a:lnTo>
                    <a:pt x="200" y="420"/>
                  </a:lnTo>
                  <a:lnTo>
                    <a:pt x="139" y="426"/>
                  </a:lnTo>
                  <a:lnTo>
                    <a:pt x="85" y="431"/>
                  </a:lnTo>
                  <a:lnTo>
                    <a:pt x="41" y="436"/>
                  </a:lnTo>
                  <a:lnTo>
                    <a:pt x="11" y="440"/>
                  </a:lnTo>
                  <a:lnTo>
                    <a:pt x="0" y="442"/>
                  </a:lnTo>
                  <a:lnTo>
                    <a:pt x="0" y="32"/>
                  </a:lnTo>
                  <a:lnTo>
                    <a:pt x="11" y="31"/>
                  </a:lnTo>
                  <a:lnTo>
                    <a:pt x="41" y="27"/>
                  </a:lnTo>
                  <a:lnTo>
                    <a:pt x="85" y="23"/>
                  </a:lnTo>
                  <a:lnTo>
                    <a:pt x="139" y="17"/>
                  </a:lnTo>
                  <a:lnTo>
                    <a:pt x="200" y="11"/>
                  </a:lnTo>
                  <a:lnTo>
                    <a:pt x="262" y="6"/>
                  </a:lnTo>
                  <a:lnTo>
                    <a:pt x="320" y="2"/>
                  </a:lnTo>
                  <a:lnTo>
                    <a:pt x="372" y="0"/>
                  </a:lnTo>
                  <a:lnTo>
                    <a:pt x="398" y="0"/>
                  </a:lnTo>
                  <a:lnTo>
                    <a:pt x="426" y="2"/>
                  </a:lnTo>
                  <a:lnTo>
                    <a:pt x="457" y="3"/>
                  </a:lnTo>
                  <a:lnTo>
                    <a:pt x="487" y="6"/>
                  </a:lnTo>
                  <a:lnTo>
                    <a:pt x="487" y="41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38"/>
            <p:cNvSpPr/>
            <p:nvPr/>
          </p:nvSpPr>
          <p:spPr>
            <a:xfrm>
              <a:off x="7350480" y="6503760"/>
              <a:ext cx="69840" cy="666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39"/>
            <p:cNvSpPr/>
            <p:nvPr/>
          </p:nvSpPr>
          <p:spPr>
            <a:xfrm>
              <a:off x="7713720" y="6166080"/>
              <a:ext cx="126360" cy="838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839" h="518">
                  <a:moveTo>
                    <a:pt x="839" y="518"/>
                  </a:moveTo>
                  <a:lnTo>
                    <a:pt x="780" y="500"/>
                  </a:lnTo>
                  <a:lnTo>
                    <a:pt x="719" y="484"/>
                  </a:lnTo>
                  <a:lnTo>
                    <a:pt x="657" y="470"/>
                  </a:lnTo>
                  <a:lnTo>
                    <a:pt x="594" y="457"/>
                  </a:lnTo>
                  <a:lnTo>
                    <a:pt x="531" y="446"/>
                  </a:lnTo>
                  <a:lnTo>
                    <a:pt x="468" y="436"/>
                  </a:lnTo>
                  <a:lnTo>
                    <a:pt x="406" y="429"/>
                  </a:lnTo>
                  <a:lnTo>
                    <a:pt x="347" y="422"/>
                  </a:lnTo>
                  <a:lnTo>
                    <a:pt x="290" y="416"/>
                  </a:lnTo>
                  <a:lnTo>
                    <a:pt x="235" y="412"/>
                  </a:lnTo>
                  <a:lnTo>
                    <a:pt x="183" y="410"/>
                  </a:lnTo>
                  <a:lnTo>
                    <a:pt x="135" y="409"/>
                  </a:lnTo>
                  <a:lnTo>
                    <a:pt x="93" y="409"/>
                  </a:lnTo>
                  <a:lnTo>
                    <a:pt x="56" y="410"/>
                  </a:lnTo>
                  <a:lnTo>
                    <a:pt x="24" y="412"/>
                  </a:lnTo>
                  <a:lnTo>
                    <a:pt x="0" y="416"/>
                  </a:lnTo>
                  <a:lnTo>
                    <a:pt x="0" y="7"/>
                  </a:lnTo>
                  <a:lnTo>
                    <a:pt x="24" y="4"/>
                  </a:lnTo>
                  <a:lnTo>
                    <a:pt x="56" y="1"/>
                  </a:lnTo>
                  <a:lnTo>
                    <a:pt x="93" y="0"/>
                  </a:lnTo>
                  <a:lnTo>
                    <a:pt x="135" y="0"/>
                  </a:lnTo>
                  <a:lnTo>
                    <a:pt x="183" y="1"/>
                  </a:lnTo>
                  <a:lnTo>
                    <a:pt x="235" y="4"/>
                  </a:lnTo>
                  <a:lnTo>
                    <a:pt x="290" y="7"/>
                  </a:lnTo>
                  <a:lnTo>
                    <a:pt x="347" y="13"/>
                  </a:lnTo>
                  <a:lnTo>
                    <a:pt x="406" y="19"/>
                  </a:lnTo>
                  <a:lnTo>
                    <a:pt x="468" y="27"/>
                  </a:lnTo>
                  <a:lnTo>
                    <a:pt x="531" y="37"/>
                  </a:lnTo>
                  <a:lnTo>
                    <a:pt x="594" y="48"/>
                  </a:lnTo>
                  <a:lnTo>
                    <a:pt x="657" y="61"/>
                  </a:lnTo>
                  <a:lnTo>
                    <a:pt x="719" y="75"/>
                  </a:lnTo>
                  <a:lnTo>
                    <a:pt x="780" y="91"/>
                  </a:lnTo>
                  <a:lnTo>
                    <a:pt x="839" y="109"/>
                  </a:lnTo>
                  <a:lnTo>
                    <a:pt x="839" y="5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40"/>
            <p:cNvSpPr/>
            <p:nvPr/>
          </p:nvSpPr>
          <p:spPr>
            <a:xfrm>
              <a:off x="7927920" y="6183360"/>
              <a:ext cx="47160" cy="853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08" h="519">
                  <a:moveTo>
                    <a:pt x="308" y="519"/>
                  </a:moveTo>
                  <a:lnTo>
                    <a:pt x="287" y="504"/>
                  </a:lnTo>
                  <a:lnTo>
                    <a:pt x="266" y="489"/>
                  </a:lnTo>
                  <a:lnTo>
                    <a:pt x="246" y="476"/>
                  </a:lnTo>
                  <a:lnTo>
                    <a:pt x="225" y="464"/>
                  </a:lnTo>
                  <a:lnTo>
                    <a:pt x="205" y="454"/>
                  </a:lnTo>
                  <a:lnTo>
                    <a:pt x="185" y="444"/>
                  </a:lnTo>
                  <a:lnTo>
                    <a:pt x="165" y="436"/>
                  </a:lnTo>
                  <a:lnTo>
                    <a:pt x="147" y="429"/>
                  </a:lnTo>
                  <a:lnTo>
                    <a:pt x="127" y="423"/>
                  </a:lnTo>
                  <a:lnTo>
                    <a:pt x="108" y="419"/>
                  </a:lnTo>
                  <a:lnTo>
                    <a:pt x="90" y="415"/>
                  </a:lnTo>
                  <a:lnTo>
                    <a:pt x="71" y="413"/>
                  </a:lnTo>
                  <a:lnTo>
                    <a:pt x="53" y="410"/>
                  </a:lnTo>
                  <a:lnTo>
                    <a:pt x="35" y="409"/>
                  </a:lnTo>
                  <a:lnTo>
                    <a:pt x="17" y="409"/>
                  </a:lnTo>
                  <a:lnTo>
                    <a:pt x="0" y="410"/>
                  </a:lnTo>
                  <a:lnTo>
                    <a:pt x="0" y="2"/>
                  </a:lnTo>
                  <a:lnTo>
                    <a:pt x="17" y="0"/>
                  </a:lnTo>
                  <a:lnTo>
                    <a:pt x="35" y="0"/>
                  </a:lnTo>
                  <a:lnTo>
                    <a:pt x="53" y="2"/>
                  </a:lnTo>
                  <a:lnTo>
                    <a:pt x="71" y="3"/>
                  </a:lnTo>
                  <a:lnTo>
                    <a:pt x="90" y="6"/>
                  </a:lnTo>
                  <a:lnTo>
                    <a:pt x="108" y="10"/>
                  </a:lnTo>
                  <a:lnTo>
                    <a:pt x="127" y="14"/>
                  </a:lnTo>
                  <a:lnTo>
                    <a:pt x="147" y="20"/>
                  </a:lnTo>
                  <a:lnTo>
                    <a:pt x="165" y="27"/>
                  </a:lnTo>
                  <a:lnTo>
                    <a:pt x="185" y="35"/>
                  </a:lnTo>
                  <a:lnTo>
                    <a:pt x="205" y="45"/>
                  </a:lnTo>
                  <a:lnTo>
                    <a:pt x="225" y="55"/>
                  </a:lnTo>
                  <a:lnTo>
                    <a:pt x="246" y="67"/>
                  </a:lnTo>
                  <a:lnTo>
                    <a:pt x="266" y="80"/>
                  </a:lnTo>
                  <a:lnTo>
                    <a:pt x="287" y="95"/>
                  </a:lnTo>
                  <a:lnTo>
                    <a:pt x="308" y="110"/>
                  </a:lnTo>
                  <a:lnTo>
                    <a:pt x="308" y="5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41"/>
            <p:cNvSpPr/>
            <p:nvPr/>
          </p:nvSpPr>
          <p:spPr>
            <a:xfrm>
              <a:off x="8218800" y="6105600"/>
              <a:ext cx="41040" cy="806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79" h="489">
                  <a:moveTo>
                    <a:pt x="279" y="0"/>
                  </a:moveTo>
                  <a:lnTo>
                    <a:pt x="268" y="7"/>
                  </a:lnTo>
                  <a:lnTo>
                    <a:pt x="236" y="22"/>
                  </a:lnTo>
                  <a:lnTo>
                    <a:pt x="215" y="32"/>
                  </a:lnTo>
                  <a:lnTo>
                    <a:pt x="191" y="43"/>
                  </a:lnTo>
                  <a:lnTo>
                    <a:pt x="166" y="53"/>
                  </a:lnTo>
                  <a:lnTo>
                    <a:pt x="140" y="63"/>
                  </a:lnTo>
                  <a:lnTo>
                    <a:pt x="114" y="70"/>
                  </a:lnTo>
                  <a:lnTo>
                    <a:pt x="89" y="76"/>
                  </a:lnTo>
                  <a:lnTo>
                    <a:pt x="76" y="78"/>
                  </a:lnTo>
                  <a:lnTo>
                    <a:pt x="65" y="79"/>
                  </a:lnTo>
                  <a:lnTo>
                    <a:pt x="54" y="79"/>
                  </a:lnTo>
                  <a:lnTo>
                    <a:pt x="44" y="79"/>
                  </a:lnTo>
                  <a:lnTo>
                    <a:pt x="34" y="78"/>
                  </a:lnTo>
                  <a:lnTo>
                    <a:pt x="26" y="74"/>
                  </a:lnTo>
                  <a:lnTo>
                    <a:pt x="19" y="71"/>
                  </a:lnTo>
                  <a:lnTo>
                    <a:pt x="12" y="66"/>
                  </a:lnTo>
                  <a:lnTo>
                    <a:pt x="7" y="59"/>
                  </a:lnTo>
                  <a:lnTo>
                    <a:pt x="4" y="52"/>
                  </a:lnTo>
                  <a:lnTo>
                    <a:pt x="1" y="43"/>
                  </a:lnTo>
                  <a:lnTo>
                    <a:pt x="0" y="31"/>
                  </a:lnTo>
                  <a:lnTo>
                    <a:pt x="0" y="441"/>
                  </a:lnTo>
                  <a:lnTo>
                    <a:pt x="1" y="452"/>
                  </a:lnTo>
                  <a:lnTo>
                    <a:pt x="4" y="461"/>
                  </a:lnTo>
                  <a:lnTo>
                    <a:pt x="7" y="468"/>
                  </a:lnTo>
                  <a:lnTo>
                    <a:pt x="12" y="475"/>
                  </a:lnTo>
                  <a:lnTo>
                    <a:pt x="19" y="480"/>
                  </a:lnTo>
                  <a:lnTo>
                    <a:pt x="26" y="483"/>
                  </a:lnTo>
                  <a:lnTo>
                    <a:pt x="34" y="487"/>
                  </a:lnTo>
                  <a:lnTo>
                    <a:pt x="44" y="488"/>
                  </a:lnTo>
                  <a:lnTo>
                    <a:pt x="54" y="489"/>
                  </a:lnTo>
                  <a:lnTo>
                    <a:pt x="65" y="488"/>
                  </a:lnTo>
                  <a:lnTo>
                    <a:pt x="76" y="487"/>
                  </a:lnTo>
                  <a:lnTo>
                    <a:pt x="89" y="486"/>
                  </a:lnTo>
                  <a:lnTo>
                    <a:pt x="114" y="480"/>
                  </a:lnTo>
                  <a:lnTo>
                    <a:pt x="140" y="472"/>
                  </a:lnTo>
                  <a:lnTo>
                    <a:pt x="166" y="462"/>
                  </a:lnTo>
                  <a:lnTo>
                    <a:pt x="191" y="452"/>
                  </a:lnTo>
                  <a:lnTo>
                    <a:pt x="215" y="441"/>
                  </a:lnTo>
                  <a:lnTo>
                    <a:pt x="236" y="432"/>
                  </a:lnTo>
                  <a:lnTo>
                    <a:pt x="268" y="415"/>
                  </a:lnTo>
                  <a:lnTo>
                    <a:pt x="279" y="408"/>
                  </a:lnTo>
                  <a:lnTo>
                    <a:pt x="27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42"/>
            <p:cNvSpPr/>
            <p:nvPr/>
          </p:nvSpPr>
          <p:spPr>
            <a:xfrm>
              <a:off x="8300880" y="6075360"/>
              <a:ext cx="23760" cy="871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56" h="534">
                  <a:moveTo>
                    <a:pt x="156" y="122"/>
                  </a:moveTo>
                  <a:lnTo>
                    <a:pt x="0" y="0"/>
                  </a:lnTo>
                  <a:lnTo>
                    <a:pt x="0" y="410"/>
                  </a:lnTo>
                  <a:lnTo>
                    <a:pt x="156" y="534"/>
                  </a:lnTo>
                  <a:lnTo>
                    <a:pt x="15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43"/>
            <p:cNvSpPr/>
            <p:nvPr/>
          </p:nvSpPr>
          <p:spPr>
            <a:xfrm>
              <a:off x="8721720" y="6388560"/>
              <a:ext cx="42840" cy="102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279" h="625">
                  <a:moveTo>
                    <a:pt x="279" y="0"/>
                  </a:moveTo>
                  <a:lnTo>
                    <a:pt x="0" y="216"/>
                  </a:lnTo>
                  <a:lnTo>
                    <a:pt x="0" y="625"/>
                  </a:lnTo>
                  <a:lnTo>
                    <a:pt x="279" y="409"/>
                  </a:lnTo>
                  <a:lnTo>
                    <a:pt x="27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44"/>
            <p:cNvSpPr/>
            <p:nvPr/>
          </p:nvSpPr>
          <p:spPr>
            <a:xfrm>
              <a:off x="8427960" y="5770800"/>
              <a:ext cx="29880" cy="70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00" h="440">
                  <a:moveTo>
                    <a:pt x="200" y="0"/>
                  </a:moveTo>
                  <a:lnTo>
                    <a:pt x="0" y="31"/>
                  </a:lnTo>
                  <a:lnTo>
                    <a:pt x="0" y="440"/>
                  </a:lnTo>
                  <a:lnTo>
                    <a:pt x="200" y="409"/>
                  </a:lnTo>
                  <a:lnTo>
                    <a:pt x="2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45"/>
            <p:cNvSpPr/>
            <p:nvPr/>
          </p:nvSpPr>
          <p:spPr>
            <a:xfrm>
              <a:off x="8259480" y="6075360"/>
              <a:ext cx="14040" cy="96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93" h="593">
                  <a:moveTo>
                    <a:pt x="93" y="0"/>
                  </a:moveTo>
                  <a:lnTo>
                    <a:pt x="0" y="185"/>
                  </a:lnTo>
                  <a:lnTo>
                    <a:pt x="0" y="593"/>
                  </a:lnTo>
                  <a:lnTo>
                    <a:pt x="93" y="410"/>
                  </a:lnTo>
                  <a:lnTo>
                    <a:pt x="9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46"/>
            <p:cNvSpPr/>
            <p:nvPr/>
          </p:nvSpPr>
          <p:spPr>
            <a:xfrm>
              <a:off x="6879960" y="6035400"/>
              <a:ext cx="74520" cy="1792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504" h="1091">
                  <a:moveTo>
                    <a:pt x="504" y="682"/>
                  </a:moveTo>
                  <a:lnTo>
                    <a:pt x="0" y="0"/>
                  </a:lnTo>
                  <a:lnTo>
                    <a:pt x="0" y="411"/>
                  </a:lnTo>
                  <a:lnTo>
                    <a:pt x="504" y="1091"/>
                  </a:lnTo>
                  <a:lnTo>
                    <a:pt x="504" y="68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47"/>
            <p:cNvSpPr/>
            <p:nvPr/>
          </p:nvSpPr>
          <p:spPr>
            <a:xfrm>
              <a:off x="8453520" y="5700600"/>
              <a:ext cx="51840" cy="1378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342" h="844">
                  <a:moveTo>
                    <a:pt x="342" y="0"/>
                  </a:moveTo>
                  <a:lnTo>
                    <a:pt x="327" y="1"/>
                  </a:lnTo>
                  <a:lnTo>
                    <a:pt x="313" y="5"/>
                  </a:lnTo>
                  <a:lnTo>
                    <a:pt x="300" y="8"/>
                  </a:lnTo>
                  <a:lnTo>
                    <a:pt x="286" y="12"/>
                  </a:lnTo>
                  <a:lnTo>
                    <a:pt x="261" y="21"/>
                  </a:lnTo>
                  <a:lnTo>
                    <a:pt x="237" y="32"/>
                  </a:lnTo>
                  <a:lnTo>
                    <a:pt x="214" y="45"/>
                  </a:lnTo>
                  <a:lnTo>
                    <a:pt x="192" y="60"/>
                  </a:lnTo>
                  <a:lnTo>
                    <a:pt x="172" y="74"/>
                  </a:lnTo>
                  <a:lnTo>
                    <a:pt x="152" y="90"/>
                  </a:lnTo>
                  <a:lnTo>
                    <a:pt x="116" y="122"/>
                  </a:lnTo>
                  <a:lnTo>
                    <a:pt x="84" y="153"/>
                  </a:lnTo>
                  <a:lnTo>
                    <a:pt x="70" y="167"/>
                  </a:lnTo>
                  <a:lnTo>
                    <a:pt x="56" y="180"/>
                  </a:lnTo>
                  <a:lnTo>
                    <a:pt x="43" y="192"/>
                  </a:lnTo>
                  <a:lnTo>
                    <a:pt x="30" y="201"/>
                  </a:lnTo>
                  <a:lnTo>
                    <a:pt x="26" y="206"/>
                  </a:lnTo>
                  <a:lnTo>
                    <a:pt x="21" y="212"/>
                  </a:lnTo>
                  <a:lnTo>
                    <a:pt x="16" y="218"/>
                  </a:lnTo>
                  <a:lnTo>
                    <a:pt x="13" y="225"/>
                  </a:lnTo>
                  <a:lnTo>
                    <a:pt x="7" y="240"/>
                  </a:lnTo>
                  <a:lnTo>
                    <a:pt x="4" y="257"/>
                  </a:lnTo>
                  <a:lnTo>
                    <a:pt x="1" y="276"/>
                  </a:lnTo>
                  <a:lnTo>
                    <a:pt x="0" y="295"/>
                  </a:lnTo>
                  <a:lnTo>
                    <a:pt x="0" y="315"/>
                  </a:lnTo>
                  <a:lnTo>
                    <a:pt x="1" y="334"/>
                  </a:lnTo>
                  <a:lnTo>
                    <a:pt x="5" y="372"/>
                  </a:lnTo>
                  <a:lnTo>
                    <a:pt x="11" y="402"/>
                  </a:lnTo>
                  <a:lnTo>
                    <a:pt x="15" y="424"/>
                  </a:lnTo>
                  <a:lnTo>
                    <a:pt x="16" y="432"/>
                  </a:lnTo>
                  <a:lnTo>
                    <a:pt x="16" y="844"/>
                  </a:lnTo>
                  <a:lnTo>
                    <a:pt x="15" y="835"/>
                  </a:lnTo>
                  <a:lnTo>
                    <a:pt x="11" y="814"/>
                  </a:lnTo>
                  <a:lnTo>
                    <a:pt x="5" y="782"/>
                  </a:lnTo>
                  <a:lnTo>
                    <a:pt x="1" y="744"/>
                  </a:lnTo>
                  <a:lnTo>
                    <a:pt x="0" y="725"/>
                  </a:lnTo>
                  <a:lnTo>
                    <a:pt x="0" y="705"/>
                  </a:lnTo>
                  <a:lnTo>
                    <a:pt x="1" y="685"/>
                  </a:lnTo>
                  <a:lnTo>
                    <a:pt x="4" y="666"/>
                  </a:lnTo>
                  <a:lnTo>
                    <a:pt x="7" y="650"/>
                  </a:lnTo>
                  <a:lnTo>
                    <a:pt x="13" y="633"/>
                  </a:lnTo>
                  <a:lnTo>
                    <a:pt x="16" y="628"/>
                  </a:lnTo>
                  <a:lnTo>
                    <a:pt x="21" y="621"/>
                  </a:lnTo>
                  <a:lnTo>
                    <a:pt x="26" y="616"/>
                  </a:lnTo>
                  <a:lnTo>
                    <a:pt x="30" y="611"/>
                  </a:lnTo>
                  <a:lnTo>
                    <a:pt x="43" y="601"/>
                  </a:lnTo>
                  <a:lnTo>
                    <a:pt x="56" y="589"/>
                  </a:lnTo>
                  <a:lnTo>
                    <a:pt x="70" y="576"/>
                  </a:lnTo>
                  <a:lnTo>
                    <a:pt x="84" y="562"/>
                  </a:lnTo>
                  <a:lnTo>
                    <a:pt x="116" y="531"/>
                  </a:lnTo>
                  <a:lnTo>
                    <a:pt x="152" y="499"/>
                  </a:lnTo>
                  <a:lnTo>
                    <a:pt x="172" y="484"/>
                  </a:lnTo>
                  <a:lnTo>
                    <a:pt x="192" y="469"/>
                  </a:lnTo>
                  <a:lnTo>
                    <a:pt x="214" y="455"/>
                  </a:lnTo>
                  <a:lnTo>
                    <a:pt x="237" y="442"/>
                  </a:lnTo>
                  <a:lnTo>
                    <a:pt x="261" y="430"/>
                  </a:lnTo>
                  <a:lnTo>
                    <a:pt x="286" y="421"/>
                  </a:lnTo>
                  <a:lnTo>
                    <a:pt x="300" y="417"/>
                  </a:lnTo>
                  <a:lnTo>
                    <a:pt x="313" y="414"/>
                  </a:lnTo>
                  <a:lnTo>
                    <a:pt x="327" y="411"/>
                  </a:lnTo>
                  <a:lnTo>
                    <a:pt x="342" y="409"/>
                  </a:lnTo>
                  <a:lnTo>
                    <a:pt x="34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48"/>
            <p:cNvSpPr/>
            <p:nvPr/>
          </p:nvSpPr>
          <p:spPr>
            <a:xfrm>
              <a:off x="8399160" y="5310000"/>
              <a:ext cx="20160" cy="110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42" h="678">
                  <a:moveTo>
                    <a:pt x="142" y="409"/>
                  </a:moveTo>
                  <a:lnTo>
                    <a:pt x="140" y="416"/>
                  </a:lnTo>
                  <a:lnTo>
                    <a:pt x="139" y="422"/>
                  </a:lnTo>
                  <a:lnTo>
                    <a:pt x="135" y="428"/>
                  </a:lnTo>
                  <a:lnTo>
                    <a:pt x="132" y="434"/>
                  </a:lnTo>
                  <a:lnTo>
                    <a:pt x="121" y="445"/>
                  </a:lnTo>
                  <a:lnTo>
                    <a:pt x="109" y="458"/>
                  </a:lnTo>
                  <a:lnTo>
                    <a:pt x="83" y="483"/>
                  </a:lnTo>
                  <a:lnTo>
                    <a:pt x="52" y="508"/>
                  </a:lnTo>
                  <a:lnTo>
                    <a:pt x="38" y="521"/>
                  </a:lnTo>
                  <a:lnTo>
                    <a:pt x="27" y="534"/>
                  </a:lnTo>
                  <a:lnTo>
                    <a:pt x="15" y="547"/>
                  </a:lnTo>
                  <a:lnTo>
                    <a:pt x="7" y="560"/>
                  </a:lnTo>
                  <a:lnTo>
                    <a:pt x="3" y="566"/>
                  </a:lnTo>
                  <a:lnTo>
                    <a:pt x="1" y="573"/>
                  </a:lnTo>
                  <a:lnTo>
                    <a:pt x="0" y="578"/>
                  </a:lnTo>
                  <a:lnTo>
                    <a:pt x="0" y="585"/>
                  </a:lnTo>
                  <a:lnTo>
                    <a:pt x="0" y="591"/>
                  </a:lnTo>
                  <a:lnTo>
                    <a:pt x="2" y="598"/>
                  </a:lnTo>
                  <a:lnTo>
                    <a:pt x="4" y="604"/>
                  </a:lnTo>
                  <a:lnTo>
                    <a:pt x="9" y="611"/>
                  </a:lnTo>
                  <a:lnTo>
                    <a:pt x="36" y="617"/>
                  </a:lnTo>
                  <a:lnTo>
                    <a:pt x="59" y="623"/>
                  </a:lnTo>
                  <a:lnTo>
                    <a:pt x="78" y="630"/>
                  </a:lnTo>
                  <a:lnTo>
                    <a:pt x="93" y="638"/>
                  </a:lnTo>
                  <a:lnTo>
                    <a:pt x="100" y="642"/>
                  </a:lnTo>
                  <a:lnTo>
                    <a:pt x="105" y="646"/>
                  </a:lnTo>
                  <a:lnTo>
                    <a:pt x="109" y="651"/>
                  </a:lnTo>
                  <a:lnTo>
                    <a:pt x="114" y="656"/>
                  </a:lnTo>
                  <a:lnTo>
                    <a:pt x="116" y="660"/>
                  </a:lnTo>
                  <a:lnTo>
                    <a:pt x="119" y="666"/>
                  </a:lnTo>
                  <a:lnTo>
                    <a:pt x="120" y="672"/>
                  </a:lnTo>
                  <a:lnTo>
                    <a:pt x="121" y="678"/>
                  </a:lnTo>
                  <a:lnTo>
                    <a:pt x="121" y="265"/>
                  </a:lnTo>
                  <a:lnTo>
                    <a:pt x="120" y="261"/>
                  </a:lnTo>
                  <a:lnTo>
                    <a:pt x="119" y="255"/>
                  </a:lnTo>
                  <a:lnTo>
                    <a:pt x="116" y="250"/>
                  </a:lnTo>
                  <a:lnTo>
                    <a:pt x="114" y="246"/>
                  </a:lnTo>
                  <a:lnTo>
                    <a:pt x="109" y="241"/>
                  </a:lnTo>
                  <a:lnTo>
                    <a:pt x="105" y="236"/>
                  </a:lnTo>
                  <a:lnTo>
                    <a:pt x="100" y="233"/>
                  </a:lnTo>
                  <a:lnTo>
                    <a:pt x="93" y="228"/>
                  </a:lnTo>
                  <a:lnTo>
                    <a:pt x="78" y="221"/>
                  </a:lnTo>
                  <a:lnTo>
                    <a:pt x="59" y="214"/>
                  </a:lnTo>
                  <a:lnTo>
                    <a:pt x="36" y="208"/>
                  </a:lnTo>
                  <a:lnTo>
                    <a:pt x="9" y="202"/>
                  </a:lnTo>
                  <a:lnTo>
                    <a:pt x="4" y="195"/>
                  </a:lnTo>
                  <a:lnTo>
                    <a:pt x="2" y="189"/>
                  </a:lnTo>
                  <a:lnTo>
                    <a:pt x="0" y="182"/>
                  </a:lnTo>
                  <a:lnTo>
                    <a:pt x="0" y="177"/>
                  </a:lnTo>
                  <a:lnTo>
                    <a:pt x="0" y="170"/>
                  </a:lnTo>
                  <a:lnTo>
                    <a:pt x="1" y="164"/>
                  </a:lnTo>
                  <a:lnTo>
                    <a:pt x="3" y="157"/>
                  </a:lnTo>
                  <a:lnTo>
                    <a:pt x="7" y="151"/>
                  </a:lnTo>
                  <a:lnTo>
                    <a:pt x="15" y="138"/>
                  </a:lnTo>
                  <a:lnTo>
                    <a:pt x="27" y="125"/>
                  </a:lnTo>
                  <a:lnTo>
                    <a:pt x="38" y="112"/>
                  </a:lnTo>
                  <a:lnTo>
                    <a:pt x="52" y="100"/>
                  </a:lnTo>
                  <a:lnTo>
                    <a:pt x="83" y="74"/>
                  </a:lnTo>
                  <a:lnTo>
                    <a:pt x="109" y="49"/>
                  </a:lnTo>
                  <a:lnTo>
                    <a:pt x="121" y="36"/>
                  </a:lnTo>
                  <a:lnTo>
                    <a:pt x="132" y="25"/>
                  </a:lnTo>
                  <a:lnTo>
                    <a:pt x="135" y="19"/>
                  </a:lnTo>
                  <a:lnTo>
                    <a:pt x="139" y="13"/>
                  </a:lnTo>
                  <a:lnTo>
                    <a:pt x="140" y="6"/>
                  </a:lnTo>
                  <a:lnTo>
                    <a:pt x="142" y="0"/>
                  </a:lnTo>
                  <a:lnTo>
                    <a:pt x="142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49"/>
            <p:cNvSpPr/>
            <p:nvPr/>
          </p:nvSpPr>
          <p:spPr>
            <a:xfrm>
              <a:off x="6456600" y="5956200"/>
              <a:ext cx="163440" cy="1566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1081" h="965">
                  <a:moveTo>
                    <a:pt x="1081" y="556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1081" y="965"/>
                  </a:lnTo>
                  <a:lnTo>
                    <a:pt x="1081" y="55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50"/>
            <p:cNvSpPr/>
            <p:nvPr/>
          </p:nvSpPr>
          <p:spPr>
            <a:xfrm>
              <a:off x="7250040" y="6350040"/>
              <a:ext cx="23760" cy="142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57" h="872">
                  <a:moveTo>
                    <a:pt x="157" y="463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157" y="872"/>
                  </a:lnTo>
                  <a:lnTo>
                    <a:pt x="157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51"/>
            <p:cNvSpPr/>
            <p:nvPr/>
          </p:nvSpPr>
          <p:spPr>
            <a:xfrm>
              <a:off x="7442640" y="6284520"/>
              <a:ext cx="50400" cy="1188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331" h="732">
                  <a:moveTo>
                    <a:pt x="331" y="409"/>
                  </a:moveTo>
                  <a:lnTo>
                    <a:pt x="316" y="419"/>
                  </a:lnTo>
                  <a:lnTo>
                    <a:pt x="299" y="431"/>
                  </a:lnTo>
                  <a:lnTo>
                    <a:pt x="282" y="444"/>
                  </a:lnTo>
                  <a:lnTo>
                    <a:pt x="263" y="459"/>
                  </a:lnTo>
                  <a:lnTo>
                    <a:pt x="222" y="494"/>
                  </a:lnTo>
                  <a:lnTo>
                    <a:pt x="180" y="534"/>
                  </a:lnTo>
                  <a:lnTo>
                    <a:pt x="135" y="578"/>
                  </a:lnTo>
                  <a:lnTo>
                    <a:pt x="89" y="627"/>
                  </a:lnTo>
                  <a:lnTo>
                    <a:pt x="43" y="679"/>
                  </a:lnTo>
                  <a:lnTo>
                    <a:pt x="0" y="732"/>
                  </a:lnTo>
                  <a:lnTo>
                    <a:pt x="0" y="322"/>
                  </a:lnTo>
                  <a:lnTo>
                    <a:pt x="21" y="296"/>
                  </a:lnTo>
                  <a:lnTo>
                    <a:pt x="43" y="269"/>
                  </a:lnTo>
                  <a:lnTo>
                    <a:pt x="67" y="243"/>
                  </a:lnTo>
                  <a:lnTo>
                    <a:pt x="89" y="217"/>
                  </a:lnTo>
                  <a:lnTo>
                    <a:pt x="135" y="168"/>
                  </a:lnTo>
                  <a:lnTo>
                    <a:pt x="180" y="124"/>
                  </a:lnTo>
                  <a:lnTo>
                    <a:pt x="222" y="84"/>
                  </a:lnTo>
                  <a:lnTo>
                    <a:pt x="263" y="49"/>
                  </a:lnTo>
                  <a:lnTo>
                    <a:pt x="282" y="35"/>
                  </a:lnTo>
                  <a:lnTo>
                    <a:pt x="299" y="21"/>
                  </a:lnTo>
                  <a:lnTo>
                    <a:pt x="316" y="9"/>
                  </a:lnTo>
                  <a:lnTo>
                    <a:pt x="331" y="0"/>
                  </a:lnTo>
                  <a:lnTo>
                    <a:pt x="331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52"/>
            <p:cNvSpPr/>
            <p:nvPr/>
          </p:nvSpPr>
          <p:spPr>
            <a:xfrm>
              <a:off x="7569360" y="6213600"/>
              <a:ext cx="32760" cy="975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14" h="601">
                  <a:moveTo>
                    <a:pt x="201" y="412"/>
                  </a:moveTo>
                  <a:lnTo>
                    <a:pt x="206" y="415"/>
                  </a:lnTo>
                  <a:lnTo>
                    <a:pt x="209" y="420"/>
                  </a:lnTo>
                  <a:lnTo>
                    <a:pt x="212" y="425"/>
                  </a:lnTo>
                  <a:lnTo>
                    <a:pt x="213" y="429"/>
                  </a:lnTo>
                  <a:lnTo>
                    <a:pt x="214" y="434"/>
                  </a:lnTo>
                  <a:lnTo>
                    <a:pt x="213" y="439"/>
                  </a:lnTo>
                  <a:lnTo>
                    <a:pt x="213" y="443"/>
                  </a:lnTo>
                  <a:lnTo>
                    <a:pt x="211" y="449"/>
                  </a:lnTo>
                  <a:lnTo>
                    <a:pt x="206" y="460"/>
                  </a:lnTo>
                  <a:lnTo>
                    <a:pt x="198" y="470"/>
                  </a:lnTo>
                  <a:lnTo>
                    <a:pt x="186" y="482"/>
                  </a:lnTo>
                  <a:lnTo>
                    <a:pt x="173" y="495"/>
                  </a:lnTo>
                  <a:lnTo>
                    <a:pt x="158" y="507"/>
                  </a:lnTo>
                  <a:lnTo>
                    <a:pt x="140" y="519"/>
                  </a:lnTo>
                  <a:lnTo>
                    <a:pt x="121" y="533"/>
                  </a:lnTo>
                  <a:lnTo>
                    <a:pt x="100" y="546"/>
                  </a:lnTo>
                  <a:lnTo>
                    <a:pt x="52" y="573"/>
                  </a:lnTo>
                  <a:lnTo>
                    <a:pt x="0" y="601"/>
                  </a:lnTo>
                  <a:lnTo>
                    <a:pt x="0" y="192"/>
                  </a:lnTo>
                  <a:lnTo>
                    <a:pt x="52" y="164"/>
                  </a:lnTo>
                  <a:lnTo>
                    <a:pt x="100" y="137"/>
                  </a:lnTo>
                  <a:lnTo>
                    <a:pt x="121" y="123"/>
                  </a:lnTo>
                  <a:lnTo>
                    <a:pt x="140" y="111"/>
                  </a:lnTo>
                  <a:lnTo>
                    <a:pt x="158" y="98"/>
                  </a:lnTo>
                  <a:lnTo>
                    <a:pt x="173" y="85"/>
                  </a:lnTo>
                  <a:lnTo>
                    <a:pt x="186" y="73"/>
                  </a:lnTo>
                  <a:lnTo>
                    <a:pt x="198" y="61"/>
                  </a:lnTo>
                  <a:lnTo>
                    <a:pt x="206" y="50"/>
                  </a:lnTo>
                  <a:lnTo>
                    <a:pt x="211" y="38"/>
                  </a:lnTo>
                  <a:lnTo>
                    <a:pt x="213" y="33"/>
                  </a:lnTo>
                  <a:lnTo>
                    <a:pt x="213" y="28"/>
                  </a:lnTo>
                  <a:lnTo>
                    <a:pt x="214" y="23"/>
                  </a:lnTo>
                  <a:lnTo>
                    <a:pt x="213" y="18"/>
                  </a:lnTo>
                  <a:lnTo>
                    <a:pt x="212" y="14"/>
                  </a:lnTo>
                  <a:lnTo>
                    <a:pt x="209" y="9"/>
                  </a:lnTo>
                  <a:lnTo>
                    <a:pt x="206" y="4"/>
                  </a:lnTo>
                  <a:lnTo>
                    <a:pt x="201" y="0"/>
                  </a:lnTo>
                  <a:lnTo>
                    <a:pt x="201" y="41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53"/>
            <p:cNvSpPr/>
            <p:nvPr/>
          </p:nvSpPr>
          <p:spPr>
            <a:xfrm>
              <a:off x="7632720" y="6171840"/>
              <a:ext cx="32760" cy="975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20" h="596">
                  <a:moveTo>
                    <a:pt x="220" y="0"/>
                  </a:moveTo>
                  <a:lnTo>
                    <a:pt x="0" y="187"/>
                  </a:lnTo>
                  <a:lnTo>
                    <a:pt x="0" y="596"/>
                  </a:lnTo>
                  <a:lnTo>
                    <a:pt x="220" y="409"/>
                  </a:ln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54"/>
            <p:cNvSpPr/>
            <p:nvPr/>
          </p:nvSpPr>
          <p:spPr>
            <a:xfrm>
              <a:off x="7880400" y="6186600"/>
              <a:ext cx="45720" cy="88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09" h="550">
                  <a:moveTo>
                    <a:pt x="309" y="410"/>
                  </a:moveTo>
                  <a:lnTo>
                    <a:pt x="284" y="412"/>
                  </a:lnTo>
                  <a:lnTo>
                    <a:pt x="261" y="416"/>
                  </a:lnTo>
                  <a:lnTo>
                    <a:pt x="238" y="421"/>
                  </a:lnTo>
                  <a:lnTo>
                    <a:pt x="216" y="428"/>
                  </a:lnTo>
                  <a:lnTo>
                    <a:pt x="194" y="435"/>
                  </a:lnTo>
                  <a:lnTo>
                    <a:pt x="173" y="444"/>
                  </a:lnTo>
                  <a:lnTo>
                    <a:pt x="153" y="453"/>
                  </a:lnTo>
                  <a:lnTo>
                    <a:pt x="133" y="463"/>
                  </a:lnTo>
                  <a:lnTo>
                    <a:pt x="113" y="473"/>
                  </a:lnTo>
                  <a:lnTo>
                    <a:pt x="95" y="485"/>
                  </a:lnTo>
                  <a:lnTo>
                    <a:pt x="77" y="495"/>
                  </a:lnTo>
                  <a:lnTo>
                    <a:pt x="61" y="507"/>
                  </a:lnTo>
                  <a:lnTo>
                    <a:pt x="29" y="529"/>
                  </a:lnTo>
                  <a:lnTo>
                    <a:pt x="0" y="550"/>
                  </a:lnTo>
                  <a:lnTo>
                    <a:pt x="0" y="141"/>
                  </a:lnTo>
                  <a:lnTo>
                    <a:pt x="29" y="120"/>
                  </a:lnTo>
                  <a:lnTo>
                    <a:pt x="61" y="98"/>
                  </a:lnTo>
                  <a:lnTo>
                    <a:pt x="77" y="86"/>
                  </a:lnTo>
                  <a:lnTo>
                    <a:pt x="95" y="75"/>
                  </a:lnTo>
                  <a:lnTo>
                    <a:pt x="113" y="64"/>
                  </a:lnTo>
                  <a:lnTo>
                    <a:pt x="133" y="54"/>
                  </a:lnTo>
                  <a:lnTo>
                    <a:pt x="153" y="44"/>
                  </a:lnTo>
                  <a:lnTo>
                    <a:pt x="173" y="35"/>
                  </a:lnTo>
                  <a:lnTo>
                    <a:pt x="194" y="26"/>
                  </a:lnTo>
                  <a:lnTo>
                    <a:pt x="216" y="19"/>
                  </a:lnTo>
                  <a:lnTo>
                    <a:pt x="238" y="12"/>
                  </a:lnTo>
                  <a:lnTo>
                    <a:pt x="261" y="7"/>
                  </a:lnTo>
                  <a:lnTo>
                    <a:pt x="284" y="4"/>
                  </a:lnTo>
                  <a:lnTo>
                    <a:pt x="309" y="0"/>
                  </a:lnTo>
                  <a:lnTo>
                    <a:pt x="309" y="41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55"/>
            <p:cNvSpPr/>
            <p:nvPr/>
          </p:nvSpPr>
          <p:spPr>
            <a:xfrm>
              <a:off x="7974000" y="6183360"/>
              <a:ext cx="21600" cy="871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49" h="533">
                  <a:moveTo>
                    <a:pt x="149" y="409"/>
                  </a:moveTo>
                  <a:lnTo>
                    <a:pt x="149" y="415"/>
                  </a:lnTo>
                  <a:lnTo>
                    <a:pt x="147" y="422"/>
                  </a:lnTo>
                  <a:lnTo>
                    <a:pt x="145" y="428"/>
                  </a:lnTo>
                  <a:lnTo>
                    <a:pt x="141" y="435"/>
                  </a:lnTo>
                  <a:lnTo>
                    <a:pt x="137" y="440"/>
                  </a:lnTo>
                  <a:lnTo>
                    <a:pt x="131" y="447"/>
                  </a:lnTo>
                  <a:lnTo>
                    <a:pt x="124" y="456"/>
                  </a:lnTo>
                  <a:lnTo>
                    <a:pt x="116" y="463"/>
                  </a:lnTo>
                  <a:lnTo>
                    <a:pt x="96" y="478"/>
                  </a:lnTo>
                  <a:lnTo>
                    <a:pt x="69" y="495"/>
                  </a:lnTo>
                  <a:lnTo>
                    <a:pt x="37" y="513"/>
                  </a:lnTo>
                  <a:lnTo>
                    <a:pt x="0" y="533"/>
                  </a:lnTo>
                  <a:lnTo>
                    <a:pt x="0" y="124"/>
                  </a:lnTo>
                  <a:lnTo>
                    <a:pt x="37" y="104"/>
                  </a:lnTo>
                  <a:lnTo>
                    <a:pt x="69" y="86"/>
                  </a:lnTo>
                  <a:lnTo>
                    <a:pt x="96" y="69"/>
                  </a:lnTo>
                  <a:lnTo>
                    <a:pt x="116" y="54"/>
                  </a:lnTo>
                  <a:lnTo>
                    <a:pt x="124" y="46"/>
                  </a:lnTo>
                  <a:lnTo>
                    <a:pt x="131" y="39"/>
                  </a:lnTo>
                  <a:lnTo>
                    <a:pt x="137" y="32"/>
                  </a:lnTo>
                  <a:lnTo>
                    <a:pt x="141" y="26"/>
                  </a:lnTo>
                  <a:lnTo>
                    <a:pt x="145" y="19"/>
                  </a:lnTo>
                  <a:lnTo>
                    <a:pt x="147" y="13"/>
                  </a:lnTo>
                  <a:lnTo>
                    <a:pt x="149" y="6"/>
                  </a:lnTo>
                  <a:lnTo>
                    <a:pt x="149" y="0"/>
                  </a:lnTo>
                  <a:lnTo>
                    <a:pt x="149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56"/>
            <p:cNvSpPr/>
            <p:nvPr/>
          </p:nvSpPr>
          <p:spPr>
            <a:xfrm>
              <a:off x="8337240" y="6097680"/>
              <a:ext cx="27000" cy="91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87" h="561">
                  <a:moveTo>
                    <a:pt x="187" y="561"/>
                  </a:moveTo>
                  <a:lnTo>
                    <a:pt x="187" y="153"/>
                  </a:lnTo>
                  <a:lnTo>
                    <a:pt x="0" y="0"/>
                  </a:lnTo>
                  <a:lnTo>
                    <a:pt x="0" y="408"/>
                  </a:lnTo>
                  <a:lnTo>
                    <a:pt x="187" y="56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57"/>
            <p:cNvSpPr/>
            <p:nvPr/>
          </p:nvSpPr>
          <p:spPr>
            <a:xfrm>
              <a:off x="8456400" y="6227280"/>
              <a:ext cx="117360" cy="1728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777" h="1061">
                  <a:moveTo>
                    <a:pt x="777" y="1061"/>
                  </a:moveTo>
                  <a:lnTo>
                    <a:pt x="739" y="1046"/>
                  </a:lnTo>
                  <a:lnTo>
                    <a:pt x="704" y="1034"/>
                  </a:lnTo>
                  <a:lnTo>
                    <a:pt x="670" y="1022"/>
                  </a:lnTo>
                  <a:lnTo>
                    <a:pt x="639" y="1012"/>
                  </a:lnTo>
                  <a:lnTo>
                    <a:pt x="611" y="1004"/>
                  </a:lnTo>
                  <a:lnTo>
                    <a:pt x="584" y="997"/>
                  </a:lnTo>
                  <a:lnTo>
                    <a:pt x="559" y="991"/>
                  </a:lnTo>
                  <a:lnTo>
                    <a:pt x="538" y="986"/>
                  </a:lnTo>
                  <a:lnTo>
                    <a:pt x="529" y="984"/>
                  </a:lnTo>
                  <a:lnTo>
                    <a:pt x="519" y="980"/>
                  </a:lnTo>
                  <a:lnTo>
                    <a:pt x="508" y="976"/>
                  </a:lnTo>
                  <a:lnTo>
                    <a:pt x="496" y="969"/>
                  </a:lnTo>
                  <a:lnTo>
                    <a:pt x="484" y="962"/>
                  </a:lnTo>
                  <a:lnTo>
                    <a:pt x="471" y="952"/>
                  </a:lnTo>
                  <a:lnTo>
                    <a:pt x="457" y="943"/>
                  </a:lnTo>
                  <a:lnTo>
                    <a:pt x="443" y="931"/>
                  </a:lnTo>
                  <a:lnTo>
                    <a:pt x="412" y="906"/>
                  </a:lnTo>
                  <a:lnTo>
                    <a:pt x="380" y="876"/>
                  </a:lnTo>
                  <a:lnTo>
                    <a:pt x="346" y="843"/>
                  </a:lnTo>
                  <a:lnTo>
                    <a:pt x="310" y="805"/>
                  </a:lnTo>
                  <a:lnTo>
                    <a:pt x="273" y="765"/>
                  </a:lnTo>
                  <a:lnTo>
                    <a:pt x="235" y="722"/>
                  </a:lnTo>
                  <a:lnTo>
                    <a:pt x="196" y="677"/>
                  </a:lnTo>
                  <a:lnTo>
                    <a:pt x="156" y="629"/>
                  </a:lnTo>
                  <a:lnTo>
                    <a:pt x="117" y="580"/>
                  </a:lnTo>
                  <a:lnTo>
                    <a:pt x="77" y="528"/>
                  </a:lnTo>
                  <a:lnTo>
                    <a:pt x="38" y="477"/>
                  </a:lnTo>
                  <a:lnTo>
                    <a:pt x="0" y="424"/>
                  </a:lnTo>
                  <a:lnTo>
                    <a:pt x="0" y="0"/>
                  </a:lnTo>
                  <a:lnTo>
                    <a:pt x="38" y="53"/>
                  </a:lnTo>
                  <a:lnTo>
                    <a:pt x="77" y="104"/>
                  </a:lnTo>
                  <a:lnTo>
                    <a:pt x="117" y="155"/>
                  </a:lnTo>
                  <a:lnTo>
                    <a:pt x="156" y="204"/>
                  </a:lnTo>
                  <a:lnTo>
                    <a:pt x="196" y="251"/>
                  </a:lnTo>
                  <a:lnTo>
                    <a:pt x="235" y="297"/>
                  </a:lnTo>
                  <a:lnTo>
                    <a:pt x="273" y="339"/>
                  </a:lnTo>
                  <a:lnTo>
                    <a:pt x="310" y="380"/>
                  </a:lnTo>
                  <a:lnTo>
                    <a:pt x="346" y="417"/>
                  </a:lnTo>
                  <a:lnTo>
                    <a:pt x="380" y="451"/>
                  </a:lnTo>
                  <a:lnTo>
                    <a:pt x="412" y="480"/>
                  </a:lnTo>
                  <a:lnTo>
                    <a:pt x="443" y="506"/>
                  </a:lnTo>
                  <a:lnTo>
                    <a:pt x="457" y="518"/>
                  </a:lnTo>
                  <a:lnTo>
                    <a:pt x="471" y="528"/>
                  </a:lnTo>
                  <a:lnTo>
                    <a:pt x="484" y="536"/>
                  </a:lnTo>
                  <a:lnTo>
                    <a:pt x="496" y="545"/>
                  </a:lnTo>
                  <a:lnTo>
                    <a:pt x="508" y="552"/>
                  </a:lnTo>
                  <a:lnTo>
                    <a:pt x="519" y="556"/>
                  </a:lnTo>
                  <a:lnTo>
                    <a:pt x="529" y="560"/>
                  </a:lnTo>
                  <a:lnTo>
                    <a:pt x="538" y="562"/>
                  </a:lnTo>
                  <a:lnTo>
                    <a:pt x="559" y="567"/>
                  </a:lnTo>
                  <a:lnTo>
                    <a:pt x="584" y="572"/>
                  </a:lnTo>
                  <a:lnTo>
                    <a:pt x="611" y="579"/>
                  </a:lnTo>
                  <a:lnTo>
                    <a:pt x="639" y="587"/>
                  </a:lnTo>
                  <a:lnTo>
                    <a:pt x="670" y="596"/>
                  </a:lnTo>
                  <a:lnTo>
                    <a:pt x="704" y="608"/>
                  </a:lnTo>
                  <a:lnTo>
                    <a:pt x="739" y="621"/>
                  </a:lnTo>
                  <a:lnTo>
                    <a:pt x="777" y="635"/>
                  </a:lnTo>
                  <a:lnTo>
                    <a:pt x="777" y="106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58"/>
            <p:cNvSpPr/>
            <p:nvPr/>
          </p:nvSpPr>
          <p:spPr>
            <a:xfrm>
              <a:off x="8656560" y="6377040"/>
              <a:ext cx="63000" cy="1188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23" h="726">
                  <a:moveTo>
                    <a:pt x="423" y="299"/>
                  </a:moveTo>
                  <a:lnTo>
                    <a:pt x="370" y="257"/>
                  </a:lnTo>
                  <a:lnTo>
                    <a:pt x="316" y="217"/>
                  </a:lnTo>
                  <a:lnTo>
                    <a:pt x="264" y="177"/>
                  </a:lnTo>
                  <a:lnTo>
                    <a:pt x="210" y="138"/>
                  </a:lnTo>
                  <a:lnTo>
                    <a:pt x="157" y="102"/>
                  </a:lnTo>
                  <a:lnTo>
                    <a:pt x="104" y="67"/>
                  </a:lnTo>
                  <a:lnTo>
                    <a:pt x="51" y="33"/>
                  </a:lnTo>
                  <a:lnTo>
                    <a:pt x="0" y="0"/>
                  </a:lnTo>
                  <a:lnTo>
                    <a:pt x="0" y="426"/>
                  </a:lnTo>
                  <a:lnTo>
                    <a:pt x="51" y="458"/>
                  </a:lnTo>
                  <a:lnTo>
                    <a:pt x="104" y="492"/>
                  </a:lnTo>
                  <a:lnTo>
                    <a:pt x="157" y="527"/>
                  </a:lnTo>
                  <a:lnTo>
                    <a:pt x="210" y="563"/>
                  </a:lnTo>
                  <a:lnTo>
                    <a:pt x="264" y="602"/>
                  </a:lnTo>
                  <a:lnTo>
                    <a:pt x="316" y="642"/>
                  </a:lnTo>
                  <a:lnTo>
                    <a:pt x="370" y="683"/>
                  </a:lnTo>
                  <a:lnTo>
                    <a:pt x="423" y="726"/>
                  </a:lnTo>
                  <a:lnTo>
                    <a:pt x="4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59"/>
            <p:cNvSpPr/>
            <p:nvPr/>
          </p:nvSpPr>
          <p:spPr>
            <a:xfrm>
              <a:off x="8380440" y="5880240"/>
              <a:ext cx="16920" cy="1378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19" h="845">
                  <a:moveTo>
                    <a:pt x="119" y="0"/>
                  </a:moveTo>
                  <a:lnTo>
                    <a:pt x="101" y="13"/>
                  </a:lnTo>
                  <a:lnTo>
                    <a:pt x="85" y="25"/>
                  </a:lnTo>
                  <a:lnTo>
                    <a:pt x="71" y="38"/>
                  </a:lnTo>
                  <a:lnTo>
                    <a:pt x="58" y="50"/>
                  </a:lnTo>
                  <a:lnTo>
                    <a:pt x="48" y="62"/>
                  </a:lnTo>
                  <a:lnTo>
                    <a:pt x="37" y="74"/>
                  </a:lnTo>
                  <a:lnTo>
                    <a:pt x="29" y="85"/>
                  </a:lnTo>
                  <a:lnTo>
                    <a:pt x="22" y="97"/>
                  </a:lnTo>
                  <a:lnTo>
                    <a:pt x="16" y="109"/>
                  </a:lnTo>
                  <a:lnTo>
                    <a:pt x="10" y="120"/>
                  </a:lnTo>
                  <a:lnTo>
                    <a:pt x="7" y="131"/>
                  </a:lnTo>
                  <a:lnTo>
                    <a:pt x="4" y="143"/>
                  </a:lnTo>
                  <a:lnTo>
                    <a:pt x="2" y="153"/>
                  </a:lnTo>
                  <a:lnTo>
                    <a:pt x="1" y="162"/>
                  </a:lnTo>
                  <a:lnTo>
                    <a:pt x="0" y="173"/>
                  </a:lnTo>
                  <a:lnTo>
                    <a:pt x="1" y="182"/>
                  </a:lnTo>
                  <a:lnTo>
                    <a:pt x="1" y="196"/>
                  </a:lnTo>
                  <a:lnTo>
                    <a:pt x="3" y="210"/>
                  </a:lnTo>
                  <a:lnTo>
                    <a:pt x="7" y="222"/>
                  </a:lnTo>
                  <a:lnTo>
                    <a:pt x="9" y="234"/>
                  </a:lnTo>
                  <a:lnTo>
                    <a:pt x="17" y="254"/>
                  </a:lnTo>
                  <a:lnTo>
                    <a:pt x="27" y="278"/>
                  </a:lnTo>
                  <a:lnTo>
                    <a:pt x="37" y="305"/>
                  </a:lnTo>
                  <a:lnTo>
                    <a:pt x="48" y="333"/>
                  </a:lnTo>
                  <a:lnTo>
                    <a:pt x="57" y="361"/>
                  </a:lnTo>
                  <a:lnTo>
                    <a:pt x="65" y="388"/>
                  </a:lnTo>
                  <a:lnTo>
                    <a:pt x="69" y="401"/>
                  </a:lnTo>
                  <a:lnTo>
                    <a:pt x="71" y="412"/>
                  </a:lnTo>
                  <a:lnTo>
                    <a:pt x="72" y="423"/>
                  </a:lnTo>
                  <a:lnTo>
                    <a:pt x="72" y="432"/>
                  </a:lnTo>
                  <a:lnTo>
                    <a:pt x="72" y="845"/>
                  </a:lnTo>
                  <a:lnTo>
                    <a:pt x="72" y="834"/>
                  </a:lnTo>
                  <a:lnTo>
                    <a:pt x="71" y="824"/>
                  </a:lnTo>
                  <a:lnTo>
                    <a:pt x="69" y="812"/>
                  </a:lnTo>
                  <a:lnTo>
                    <a:pt x="65" y="799"/>
                  </a:lnTo>
                  <a:lnTo>
                    <a:pt x="57" y="771"/>
                  </a:lnTo>
                  <a:lnTo>
                    <a:pt x="48" y="742"/>
                  </a:lnTo>
                  <a:lnTo>
                    <a:pt x="37" y="714"/>
                  </a:lnTo>
                  <a:lnTo>
                    <a:pt x="27" y="687"/>
                  </a:lnTo>
                  <a:lnTo>
                    <a:pt x="17" y="662"/>
                  </a:lnTo>
                  <a:lnTo>
                    <a:pt x="9" y="643"/>
                  </a:lnTo>
                  <a:lnTo>
                    <a:pt x="7" y="631"/>
                  </a:lnTo>
                  <a:lnTo>
                    <a:pt x="3" y="619"/>
                  </a:lnTo>
                  <a:lnTo>
                    <a:pt x="1" y="605"/>
                  </a:lnTo>
                  <a:lnTo>
                    <a:pt x="1" y="591"/>
                  </a:lnTo>
                  <a:lnTo>
                    <a:pt x="0" y="582"/>
                  </a:lnTo>
                  <a:lnTo>
                    <a:pt x="1" y="571"/>
                  </a:lnTo>
                  <a:lnTo>
                    <a:pt x="2" y="562"/>
                  </a:lnTo>
                  <a:lnTo>
                    <a:pt x="4" y="551"/>
                  </a:lnTo>
                  <a:lnTo>
                    <a:pt x="7" y="541"/>
                  </a:lnTo>
                  <a:lnTo>
                    <a:pt x="10" y="529"/>
                  </a:lnTo>
                  <a:lnTo>
                    <a:pt x="16" y="518"/>
                  </a:lnTo>
                  <a:lnTo>
                    <a:pt x="22" y="507"/>
                  </a:lnTo>
                  <a:lnTo>
                    <a:pt x="29" y="495"/>
                  </a:lnTo>
                  <a:lnTo>
                    <a:pt x="37" y="483"/>
                  </a:lnTo>
                  <a:lnTo>
                    <a:pt x="48" y="471"/>
                  </a:lnTo>
                  <a:lnTo>
                    <a:pt x="58" y="459"/>
                  </a:lnTo>
                  <a:lnTo>
                    <a:pt x="71" y="446"/>
                  </a:lnTo>
                  <a:lnTo>
                    <a:pt x="85" y="435"/>
                  </a:lnTo>
                  <a:lnTo>
                    <a:pt x="101" y="422"/>
                  </a:lnTo>
                  <a:lnTo>
                    <a:pt x="119" y="409"/>
                  </a:lnTo>
                  <a:lnTo>
                    <a:pt x="11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60"/>
            <p:cNvSpPr/>
            <p:nvPr/>
          </p:nvSpPr>
          <p:spPr>
            <a:xfrm>
              <a:off x="8443800" y="5391000"/>
              <a:ext cx="36000" cy="77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42" h="481">
                  <a:moveTo>
                    <a:pt x="0" y="481"/>
                  </a:moveTo>
                  <a:lnTo>
                    <a:pt x="22" y="477"/>
                  </a:lnTo>
                  <a:lnTo>
                    <a:pt x="45" y="474"/>
                  </a:lnTo>
                  <a:lnTo>
                    <a:pt x="70" y="472"/>
                  </a:lnTo>
                  <a:lnTo>
                    <a:pt x="94" y="470"/>
                  </a:lnTo>
                  <a:lnTo>
                    <a:pt x="134" y="458"/>
                  </a:lnTo>
                  <a:lnTo>
                    <a:pt x="181" y="445"/>
                  </a:lnTo>
                  <a:lnTo>
                    <a:pt x="203" y="438"/>
                  </a:lnTo>
                  <a:lnTo>
                    <a:pt x="222" y="430"/>
                  </a:lnTo>
                  <a:lnTo>
                    <a:pt x="230" y="425"/>
                  </a:lnTo>
                  <a:lnTo>
                    <a:pt x="236" y="421"/>
                  </a:lnTo>
                  <a:lnTo>
                    <a:pt x="239" y="415"/>
                  </a:lnTo>
                  <a:lnTo>
                    <a:pt x="242" y="409"/>
                  </a:lnTo>
                  <a:lnTo>
                    <a:pt x="242" y="0"/>
                  </a:lnTo>
                  <a:lnTo>
                    <a:pt x="239" y="6"/>
                  </a:lnTo>
                  <a:lnTo>
                    <a:pt x="236" y="11"/>
                  </a:lnTo>
                  <a:lnTo>
                    <a:pt x="230" y="17"/>
                  </a:lnTo>
                  <a:lnTo>
                    <a:pt x="222" y="21"/>
                  </a:lnTo>
                  <a:lnTo>
                    <a:pt x="203" y="29"/>
                  </a:lnTo>
                  <a:lnTo>
                    <a:pt x="181" y="36"/>
                  </a:lnTo>
                  <a:lnTo>
                    <a:pt x="134" y="49"/>
                  </a:lnTo>
                  <a:lnTo>
                    <a:pt x="94" y="61"/>
                  </a:lnTo>
                  <a:lnTo>
                    <a:pt x="70" y="63"/>
                  </a:lnTo>
                  <a:lnTo>
                    <a:pt x="45" y="66"/>
                  </a:lnTo>
                  <a:lnTo>
                    <a:pt x="22" y="68"/>
                  </a:lnTo>
                  <a:lnTo>
                    <a:pt x="0" y="73"/>
                  </a:lnTo>
                  <a:lnTo>
                    <a:pt x="0" y="48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61"/>
            <p:cNvSpPr/>
            <p:nvPr/>
          </p:nvSpPr>
          <p:spPr>
            <a:xfrm>
              <a:off x="8331120" y="5519880"/>
              <a:ext cx="101520" cy="1411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68" h="873">
                  <a:moveTo>
                    <a:pt x="314" y="717"/>
                  </a:moveTo>
                  <a:lnTo>
                    <a:pt x="283" y="697"/>
                  </a:lnTo>
                  <a:lnTo>
                    <a:pt x="246" y="674"/>
                  </a:lnTo>
                  <a:lnTo>
                    <a:pt x="207" y="648"/>
                  </a:lnTo>
                  <a:lnTo>
                    <a:pt x="165" y="620"/>
                  </a:lnTo>
                  <a:lnTo>
                    <a:pt x="124" y="591"/>
                  </a:lnTo>
                  <a:lnTo>
                    <a:pt x="82" y="561"/>
                  </a:lnTo>
                  <a:lnTo>
                    <a:pt x="42" y="530"/>
                  </a:lnTo>
                  <a:lnTo>
                    <a:pt x="6" y="501"/>
                  </a:lnTo>
                  <a:lnTo>
                    <a:pt x="2" y="498"/>
                  </a:lnTo>
                  <a:lnTo>
                    <a:pt x="0" y="493"/>
                  </a:lnTo>
                  <a:lnTo>
                    <a:pt x="0" y="488"/>
                  </a:lnTo>
                  <a:lnTo>
                    <a:pt x="1" y="482"/>
                  </a:lnTo>
                  <a:lnTo>
                    <a:pt x="5" y="478"/>
                  </a:lnTo>
                  <a:lnTo>
                    <a:pt x="9" y="472"/>
                  </a:lnTo>
                  <a:lnTo>
                    <a:pt x="15" y="465"/>
                  </a:lnTo>
                  <a:lnTo>
                    <a:pt x="23" y="459"/>
                  </a:lnTo>
                  <a:lnTo>
                    <a:pt x="31" y="452"/>
                  </a:lnTo>
                  <a:lnTo>
                    <a:pt x="42" y="445"/>
                  </a:lnTo>
                  <a:lnTo>
                    <a:pt x="54" y="438"/>
                  </a:lnTo>
                  <a:lnTo>
                    <a:pt x="67" y="431"/>
                  </a:lnTo>
                  <a:lnTo>
                    <a:pt x="95" y="418"/>
                  </a:lnTo>
                  <a:lnTo>
                    <a:pt x="126" y="405"/>
                  </a:lnTo>
                  <a:lnTo>
                    <a:pt x="328" y="578"/>
                  </a:lnTo>
                  <a:lnTo>
                    <a:pt x="383" y="561"/>
                  </a:lnTo>
                  <a:lnTo>
                    <a:pt x="390" y="563"/>
                  </a:lnTo>
                  <a:lnTo>
                    <a:pt x="397" y="566"/>
                  </a:lnTo>
                  <a:lnTo>
                    <a:pt x="405" y="571"/>
                  </a:lnTo>
                  <a:lnTo>
                    <a:pt x="412" y="577"/>
                  </a:lnTo>
                  <a:lnTo>
                    <a:pt x="427" y="592"/>
                  </a:lnTo>
                  <a:lnTo>
                    <a:pt x="444" y="611"/>
                  </a:lnTo>
                  <a:lnTo>
                    <a:pt x="475" y="655"/>
                  </a:lnTo>
                  <a:lnTo>
                    <a:pt x="509" y="705"/>
                  </a:lnTo>
                  <a:lnTo>
                    <a:pt x="527" y="732"/>
                  </a:lnTo>
                  <a:lnTo>
                    <a:pt x="545" y="758"/>
                  </a:lnTo>
                  <a:lnTo>
                    <a:pt x="564" y="783"/>
                  </a:lnTo>
                  <a:lnTo>
                    <a:pt x="584" y="807"/>
                  </a:lnTo>
                  <a:lnTo>
                    <a:pt x="593" y="818"/>
                  </a:lnTo>
                  <a:lnTo>
                    <a:pt x="604" y="828"/>
                  </a:lnTo>
                  <a:lnTo>
                    <a:pt x="614" y="837"/>
                  </a:lnTo>
                  <a:lnTo>
                    <a:pt x="625" y="847"/>
                  </a:lnTo>
                  <a:lnTo>
                    <a:pt x="635" y="854"/>
                  </a:lnTo>
                  <a:lnTo>
                    <a:pt x="646" y="861"/>
                  </a:lnTo>
                  <a:lnTo>
                    <a:pt x="656" y="867"/>
                  </a:lnTo>
                  <a:lnTo>
                    <a:pt x="668" y="873"/>
                  </a:lnTo>
                  <a:lnTo>
                    <a:pt x="668" y="466"/>
                  </a:lnTo>
                  <a:lnTo>
                    <a:pt x="656" y="461"/>
                  </a:lnTo>
                  <a:lnTo>
                    <a:pt x="646" y="456"/>
                  </a:lnTo>
                  <a:lnTo>
                    <a:pt x="635" y="449"/>
                  </a:lnTo>
                  <a:lnTo>
                    <a:pt x="625" y="440"/>
                  </a:lnTo>
                  <a:lnTo>
                    <a:pt x="614" y="431"/>
                  </a:lnTo>
                  <a:lnTo>
                    <a:pt x="604" y="422"/>
                  </a:lnTo>
                  <a:lnTo>
                    <a:pt x="593" y="411"/>
                  </a:lnTo>
                  <a:lnTo>
                    <a:pt x="584" y="401"/>
                  </a:lnTo>
                  <a:lnTo>
                    <a:pt x="564" y="377"/>
                  </a:lnTo>
                  <a:lnTo>
                    <a:pt x="545" y="352"/>
                  </a:lnTo>
                  <a:lnTo>
                    <a:pt x="527" y="326"/>
                  </a:lnTo>
                  <a:lnTo>
                    <a:pt x="509" y="300"/>
                  </a:lnTo>
                  <a:lnTo>
                    <a:pt x="475" y="249"/>
                  </a:lnTo>
                  <a:lnTo>
                    <a:pt x="444" y="204"/>
                  </a:lnTo>
                  <a:lnTo>
                    <a:pt x="427" y="186"/>
                  </a:lnTo>
                  <a:lnTo>
                    <a:pt x="412" y="172"/>
                  </a:lnTo>
                  <a:lnTo>
                    <a:pt x="405" y="166"/>
                  </a:lnTo>
                  <a:lnTo>
                    <a:pt x="397" y="161"/>
                  </a:lnTo>
                  <a:lnTo>
                    <a:pt x="390" y="158"/>
                  </a:lnTo>
                  <a:lnTo>
                    <a:pt x="383" y="155"/>
                  </a:lnTo>
                  <a:lnTo>
                    <a:pt x="328" y="173"/>
                  </a:lnTo>
                  <a:lnTo>
                    <a:pt x="126" y="0"/>
                  </a:lnTo>
                  <a:lnTo>
                    <a:pt x="95" y="12"/>
                  </a:lnTo>
                  <a:lnTo>
                    <a:pt x="67" y="26"/>
                  </a:lnTo>
                  <a:lnTo>
                    <a:pt x="54" y="33"/>
                  </a:lnTo>
                  <a:lnTo>
                    <a:pt x="42" y="39"/>
                  </a:lnTo>
                  <a:lnTo>
                    <a:pt x="31" y="46"/>
                  </a:lnTo>
                  <a:lnTo>
                    <a:pt x="23" y="53"/>
                  </a:lnTo>
                  <a:lnTo>
                    <a:pt x="15" y="58"/>
                  </a:lnTo>
                  <a:lnTo>
                    <a:pt x="9" y="65"/>
                  </a:lnTo>
                  <a:lnTo>
                    <a:pt x="5" y="71"/>
                  </a:lnTo>
                  <a:lnTo>
                    <a:pt x="1" y="77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2" y="91"/>
                  </a:lnTo>
                  <a:lnTo>
                    <a:pt x="6" y="95"/>
                  </a:lnTo>
                  <a:lnTo>
                    <a:pt x="42" y="124"/>
                  </a:lnTo>
                  <a:lnTo>
                    <a:pt x="82" y="154"/>
                  </a:lnTo>
                  <a:lnTo>
                    <a:pt x="124" y="185"/>
                  </a:lnTo>
                  <a:lnTo>
                    <a:pt x="165" y="215"/>
                  </a:lnTo>
                  <a:lnTo>
                    <a:pt x="207" y="243"/>
                  </a:lnTo>
                  <a:lnTo>
                    <a:pt x="246" y="269"/>
                  </a:lnTo>
                  <a:lnTo>
                    <a:pt x="283" y="291"/>
                  </a:lnTo>
                  <a:lnTo>
                    <a:pt x="314" y="311"/>
                  </a:lnTo>
                  <a:lnTo>
                    <a:pt x="314" y="71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62"/>
            <p:cNvSpPr/>
            <p:nvPr/>
          </p:nvSpPr>
          <p:spPr>
            <a:xfrm>
              <a:off x="6332760" y="5808240"/>
              <a:ext cx="5760" cy="1278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50" h="784">
                  <a:moveTo>
                    <a:pt x="21" y="568"/>
                  </a:moveTo>
                  <a:lnTo>
                    <a:pt x="18" y="572"/>
                  </a:lnTo>
                  <a:lnTo>
                    <a:pt x="13" y="584"/>
                  </a:lnTo>
                  <a:lnTo>
                    <a:pt x="9" y="593"/>
                  </a:lnTo>
                  <a:lnTo>
                    <a:pt x="6" y="604"/>
                  </a:lnTo>
                  <a:lnTo>
                    <a:pt x="3" y="616"/>
                  </a:lnTo>
                  <a:lnTo>
                    <a:pt x="1" y="630"/>
                  </a:lnTo>
                  <a:lnTo>
                    <a:pt x="0" y="645"/>
                  </a:lnTo>
                  <a:lnTo>
                    <a:pt x="0" y="661"/>
                  </a:lnTo>
                  <a:lnTo>
                    <a:pt x="2" y="679"/>
                  </a:lnTo>
                  <a:lnTo>
                    <a:pt x="7" y="697"/>
                  </a:lnTo>
                  <a:lnTo>
                    <a:pt x="13" y="718"/>
                  </a:lnTo>
                  <a:lnTo>
                    <a:pt x="22" y="739"/>
                  </a:lnTo>
                  <a:lnTo>
                    <a:pt x="28" y="750"/>
                  </a:lnTo>
                  <a:lnTo>
                    <a:pt x="35" y="762"/>
                  </a:lnTo>
                  <a:lnTo>
                    <a:pt x="42" y="772"/>
                  </a:lnTo>
                  <a:lnTo>
                    <a:pt x="50" y="784"/>
                  </a:lnTo>
                  <a:lnTo>
                    <a:pt x="50" y="216"/>
                  </a:lnTo>
                  <a:lnTo>
                    <a:pt x="42" y="204"/>
                  </a:lnTo>
                  <a:lnTo>
                    <a:pt x="35" y="194"/>
                  </a:lnTo>
                  <a:lnTo>
                    <a:pt x="28" y="182"/>
                  </a:lnTo>
                  <a:lnTo>
                    <a:pt x="22" y="172"/>
                  </a:lnTo>
                  <a:lnTo>
                    <a:pt x="13" y="151"/>
                  </a:lnTo>
                  <a:lnTo>
                    <a:pt x="7" y="131"/>
                  </a:lnTo>
                  <a:lnTo>
                    <a:pt x="2" y="111"/>
                  </a:lnTo>
                  <a:lnTo>
                    <a:pt x="0" y="93"/>
                  </a:lnTo>
                  <a:lnTo>
                    <a:pt x="0" y="77"/>
                  </a:lnTo>
                  <a:lnTo>
                    <a:pt x="1" y="62"/>
                  </a:lnTo>
                  <a:lnTo>
                    <a:pt x="3" y="48"/>
                  </a:lnTo>
                  <a:lnTo>
                    <a:pt x="6" y="36"/>
                  </a:lnTo>
                  <a:lnTo>
                    <a:pt x="9" y="26"/>
                  </a:lnTo>
                  <a:lnTo>
                    <a:pt x="13" y="16"/>
                  </a:lnTo>
                  <a:lnTo>
                    <a:pt x="18" y="5"/>
                  </a:lnTo>
                  <a:lnTo>
                    <a:pt x="21" y="0"/>
                  </a:lnTo>
                  <a:lnTo>
                    <a:pt x="21" y="56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63"/>
            <p:cNvSpPr/>
            <p:nvPr/>
          </p:nvSpPr>
          <p:spPr>
            <a:xfrm>
              <a:off x="6291000" y="6198840"/>
              <a:ext cx="61560" cy="248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06" h="162">
                  <a:moveTo>
                    <a:pt x="372" y="130"/>
                  </a:moveTo>
                  <a:lnTo>
                    <a:pt x="364" y="136"/>
                  </a:lnTo>
                  <a:lnTo>
                    <a:pt x="353" y="141"/>
                  </a:lnTo>
                  <a:lnTo>
                    <a:pt x="340" y="145"/>
                  </a:lnTo>
                  <a:lnTo>
                    <a:pt x="326" y="149"/>
                  </a:lnTo>
                  <a:lnTo>
                    <a:pt x="311" y="152"/>
                  </a:lnTo>
                  <a:lnTo>
                    <a:pt x="295" y="156"/>
                  </a:lnTo>
                  <a:lnTo>
                    <a:pt x="278" y="158"/>
                  </a:lnTo>
                  <a:lnTo>
                    <a:pt x="262" y="160"/>
                  </a:lnTo>
                  <a:lnTo>
                    <a:pt x="246" y="162"/>
                  </a:lnTo>
                  <a:lnTo>
                    <a:pt x="230" y="162"/>
                  </a:lnTo>
                  <a:lnTo>
                    <a:pt x="215" y="162"/>
                  </a:lnTo>
                  <a:lnTo>
                    <a:pt x="202" y="160"/>
                  </a:lnTo>
                  <a:lnTo>
                    <a:pt x="191" y="159"/>
                  </a:lnTo>
                  <a:lnTo>
                    <a:pt x="181" y="156"/>
                  </a:lnTo>
                  <a:lnTo>
                    <a:pt x="178" y="155"/>
                  </a:lnTo>
                  <a:lnTo>
                    <a:pt x="174" y="152"/>
                  </a:lnTo>
                  <a:lnTo>
                    <a:pt x="172" y="150"/>
                  </a:lnTo>
                  <a:lnTo>
                    <a:pt x="171" y="148"/>
                  </a:lnTo>
                  <a:lnTo>
                    <a:pt x="167" y="141"/>
                  </a:lnTo>
                  <a:lnTo>
                    <a:pt x="163" y="135"/>
                  </a:lnTo>
                  <a:lnTo>
                    <a:pt x="158" y="129"/>
                  </a:lnTo>
                  <a:lnTo>
                    <a:pt x="153" y="124"/>
                  </a:lnTo>
                  <a:lnTo>
                    <a:pt x="142" y="115"/>
                  </a:lnTo>
                  <a:lnTo>
                    <a:pt x="130" y="107"/>
                  </a:lnTo>
                  <a:lnTo>
                    <a:pt x="116" y="101"/>
                  </a:lnTo>
                  <a:lnTo>
                    <a:pt x="102" y="96"/>
                  </a:lnTo>
                  <a:lnTo>
                    <a:pt x="87" y="92"/>
                  </a:lnTo>
                  <a:lnTo>
                    <a:pt x="73" y="89"/>
                  </a:lnTo>
                  <a:lnTo>
                    <a:pt x="46" y="85"/>
                  </a:lnTo>
                  <a:lnTo>
                    <a:pt x="22" y="83"/>
                  </a:lnTo>
                  <a:lnTo>
                    <a:pt x="6" y="83"/>
                  </a:lnTo>
                  <a:lnTo>
                    <a:pt x="0" y="85"/>
                  </a:lnTo>
                  <a:lnTo>
                    <a:pt x="79" y="6"/>
                  </a:lnTo>
                  <a:lnTo>
                    <a:pt x="93" y="4"/>
                  </a:lnTo>
                  <a:lnTo>
                    <a:pt x="107" y="4"/>
                  </a:lnTo>
                  <a:lnTo>
                    <a:pt x="121" y="4"/>
                  </a:lnTo>
                  <a:lnTo>
                    <a:pt x="133" y="5"/>
                  </a:lnTo>
                  <a:lnTo>
                    <a:pt x="159" y="9"/>
                  </a:lnTo>
                  <a:lnTo>
                    <a:pt x="185" y="13"/>
                  </a:lnTo>
                  <a:lnTo>
                    <a:pt x="196" y="14"/>
                  </a:lnTo>
                  <a:lnTo>
                    <a:pt x="209" y="17"/>
                  </a:lnTo>
                  <a:lnTo>
                    <a:pt x="221" y="18"/>
                  </a:lnTo>
                  <a:lnTo>
                    <a:pt x="233" y="18"/>
                  </a:lnTo>
                  <a:lnTo>
                    <a:pt x="244" y="17"/>
                  </a:lnTo>
                  <a:lnTo>
                    <a:pt x="256" y="14"/>
                  </a:lnTo>
                  <a:lnTo>
                    <a:pt x="268" y="11"/>
                  </a:lnTo>
                  <a:lnTo>
                    <a:pt x="279" y="6"/>
                  </a:lnTo>
                  <a:lnTo>
                    <a:pt x="285" y="4"/>
                  </a:lnTo>
                  <a:lnTo>
                    <a:pt x="292" y="3"/>
                  </a:lnTo>
                  <a:lnTo>
                    <a:pt x="298" y="2"/>
                  </a:lnTo>
                  <a:lnTo>
                    <a:pt x="305" y="0"/>
                  </a:lnTo>
                  <a:lnTo>
                    <a:pt x="319" y="2"/>
                  </a:lnTo>
                  <a:lnTo>
                    <a:pt x="333" y="5"/>
                  </a:lnTo>
                  <a:lnTo>
                    <a:pt x="347" y="10"/>
                  </a:lnTo>
                  <a:lnTo>
                    <a:pt x="360" y="17"/>
                  </a:lnTo>
                  <a:lnTo>
                    <a:pt x="373" y="25"/>
                  </a:lnTo>
                  <a:lnTo>
                    <a:pt x="383" y="34"/>
                  </a:lnTo>
                  <a:lnTo>
                    <a:pt x="393" y="45"/>
                  </a:lnTo>
                  <a:lnTo>
                    <a:pt x="400" y="57"/>
                  </a:lnTo>
                  <a:lnTo>
                    <a:pt x="402" y="62"/>
                  </a:lnTo>
                  <a:lnTo>
                    <a:pt x="403" y="69"/>
                  </a:lnTo>
                  <a:lnTo>
                    <a:pt x="404" y="75"/>
                  </a:lnTo>
                  <a:lnTo>
                    <a:pt x="406" y="81"/>
                  </a:lnTo>
                  <a:lnTo>
                    <a:pt x="404" y="88"/>
                  </a:lnTo>
                  <a:lnTo>
                    <a:pt x="403" y="94"/>
                  </a:lnTo>
                  <a:lnTo>
                    <a:pt x="401" y="100"/>
                  </a:lnTo>
                  <a:lnTo>
                    <a:pt x="397" y="107"/>
                  </a:lnTo>
                  <a:lnTo>
                    <a:pt x="393" y="113"/>
                  </a:lnTo>
                  <a:lnTo>
                    <a:pt x="387" y="118"/>
                  </a:lnTo>
                  <a:lnTo>
                    <a:pt x="380" y="124"/>
                  </a:lnTo>
                  <a:lnTo>
                    <a:pt x="372" y="1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64"/>
            <p:cNvSpPr/>
            <p:nvPr/>
          </p:nvSpPr>
          <p:spPr>
            <a:xfrm>
              <a:off x="6248160" y="6082200"/>
              <a:ext cx="18360" cy="8208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26" h="509">
                  <a:moveTo>
                    <a:pt x="0" y="100"/>
                  </a:moveTo>
                  <a:lnTo>
                    <a:pt x="15" y="98"/>
                  </a:lnTo>
                  <a:lnTo>
                    <a:pt x="30" y="96"/>
                  </a:lnTo>
                  <a:lnTo>
                    <a:pt x="43" y="91"/>
                  </a:lnTo>
                  <a:lnTo>
                    <a:pt x="56" y="88"/>
                  </a:lnTo>
                  <a:lnTo>
                    <a:pt x="68" y="82"/>
                  </a:lnTo>
                  <a:lnTo>
                    <a:pt x="78" y="76"/>
                  </a:lnTo>
                  <a:lnTo>
                    <a:pt x="88" y="70"/>
                  </a:lnTo>
                  <a:lnTo>
                    <a:pt x="96" y="63"/>
                  </a:lnTo>
                  <a:lnTo>
                    <a:pt x="103" y="56"/>
                  </a:lnTo>
                  <a:lnTo>
                    <a:pt x="109" y="48"/>
                  </a:lnTo>
                  <a:lnTo>
                    <a:pt x="115" y="41"/>
                  </a:lnTo>
                  <a:lnTo>
                    <a:pt x="119" y="33"/>
                  </a:lnTo>
                  <a:lnTo>
                    <a:pt x="123" y="24"/>
                  </a:lnTo>
                  <a:lnTo>
                    <a:pt x="125" y="16"/>
                  </a:lnTo>
                  <a:lnTo>
                    <a:pt x="126" y="8"/>
                  </a:lnTo>
                  <a:lnTo>
                    <a:pt x="126" y="0"/>
                  </a:lnTo>
                  <a:lnTo>
                    <a:pt x="126" y="409"/>
                  </a:lnTo>
                  <a:lnTo>
                    <a:pt x="126" y="417"/>
                  </a:lnTo>
                  <a:lnTo>
                    <a:pt x="125" y="425"/>
                  </a:lnTo>
                  <a:lnTo>
                    <a:pt x="123" y="433"/>
                  </a:lnTo>
                  <a:lnTo>
                    <a:pt x="119" y="441"/>
                  </a:lnTo>
                  <a:lnTo>
                    <a:pt x="115" y="450"/>
                  </a:lnTo>
                  <a:lnTo>
                    <a:pt x="109" y="457"/>
                  </a:lnTo>
                  <a:lnTo>
                    <a:pt x="103" y="465"/>
                  </a:lnTo>
                  <a:lnTo>
                    <a:pt x="96" y="472"/>
                  </a:lnTo>
                  <a:lnTo>
                    <a:pt x="88" y="479"/>
                  </a:lnTo>
                  <a:lnTo>
                    <a:pt x="78" y="485"/>
                  </a:lnTo>
                  <a:lnTo>
                    <a:pt x="68" y="490"/>
                  </a:lnTo>
                  <a:lnTo>
                    <a:pt x="56" y="496"/>
                  </a:lnTo>
                  <a:lnTo>
                    <a:pt x="43" y="501"/>
                  </a:lnTo>
                  <a:lnTo>
                    <a:pt x="30" y="505"/>
                  </a:lnTo>
                  <a:lnTo>
                    <a:pt x="15" y="507"/>
                  </a:lnTo>
                  <a:lnTo>
                    <a:pt x="0" y="509"/>
                  </a:lnTo>
                  <a:lnTo>
                    <a:pt x="0" y="1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65"/>
            <p:cNvSpPr/>
            <p:nvPr/>
          </p:nvSpPr>
          <p:spPr>
            <a:xfrm>
              <a:off x="6165720" y="6068880"/>
              <a:ext cx="18360" cy="68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22" h="415">
                  <a:moveTo>
                    <a:pt x="0" y="415"/>
                  </a:moveTo>
                  <a:lnTo>
                    <a:pt x="40" y="411"/>
                  </a:lnTo>
                  <a:lnTo>
                    <a:pt x="72" y="411"/>
                  </a:lnTo>
                  <a:lnTo>
                    <a:pt x="99" y="412"/>
                  </a:lnTo>
                  <a:lnTo>
                    <a:pt x="122" y="415"/>
                  </a:lnTo>
                  <a:lnTo>
                    <a:pt x="122" y="5"/>
                  </a:lnTo>
                  <a:lnTo>
                    <a:pt x="111" y="4"/>
                  </a:lnTo>
                  <a:lnTo>
                    <a:pt x="99" y="1"/>
                  </a:lnTo>
                  <a:lnTo>
                    <a:pt x="86" y="0"/>
                  </a:lnTo>
                  <a:lnTo>
                    <a:pt x="72" y="0"/>
                  </a:lnTo>
                  <a:lnTo>
                    <a:pt x="57" y="0"/>
                  </a:lnTo>
                  <a:lnTo>
                    <a:pt x="40" y="1"/>
                  </a:lnTo>
                  <a:lnTo>
                    <a:pt x="21" y="2"/>
                  </a:lnTo>
                  <a:lnTo>
                    <a:pt x="0" y="5"/>
                  </a:lnTo>
                  <a:lnTo>
                    <a:pt x="0" y="41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66"/>
            <p:cNvSpPr/>
            <p:nvPr/>
          </p:nvSpPr>
          <p:spPr>
            <a:xfrm>
              <a:off x="6129360" y="6064200"/>
              <a:ext cx="15480" cy="936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0" h="566">
                  <a:moveTo>
                    <a:pt x="0" y="566"/>
                  </a:moveTo>
                  <a:lnTo>
                    <a:pt x="110" y="409"/>
                  </a:lnTo>
                  <a:lnTo>
                    <a:pt x="110" y="0"/>
                  </a:lnTo>
                  <a:lnTo>
                    <a:pt x="0" y="156"/>
                  </a:lnTo>
                  <a:lnTo>
                    <a:pt x="0" y="5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67"/>
            <p:cNvSpPr/>
            <p:nvPr/>
          </p:nvSpPr>
          <p:spPr>
            <a:xfrm>
              <a:off x="6291000" y="6119640"/>
              <a:ext cx="27000" cy="77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71" h="473">
                  <a:moveTo>
                    <a:pt x="0" y="409"/>
                  </a:moveTo>
                  <a:lnTo>
                    <a:pt x="6" y="409"/>
                  </a:lnTo>
                  <a:lnTo>
                    <a:pt x="22" y="409"/>
                  </a:lnTo>
                  <a:lnTo>
                    <a:pt x="46" y="410"/>
                  </a:lnTo>
                  <a:lnTo>
                    <a:pt x="73" y="414"/>
                  </a:lnTo>
                  <a:lnTo>
                    <a:pt x="87" y="417"/>
                  </a:lnTo>
                  <a:lnTo>
                    <a:pt x="102" y="421"/>
                  </a:lnTo>
                  <a:lnTo>
                    <a:pt x="116" y="427"/>
                  </a:lnTo>
                  <a:lnTo>
                    <a:pt x="130" y="432"/>
                  </a:lnTo>
                  <a:lnTo>
                    <a:pt x="142" y="441"/>
                  </a:lnTo>
                  <a:lnTo>
                    <a:pt x="153" y="450"/>
                  </a:lnTo>
                  <a:lnTo>
                    <a:pt x="158" y="455"/>
                  </a:lnTo>
                  <a:lnTo>
                    <a:pt x="163" y="460"/>
                  </a:lnTo>
                  <a:lnTo>
                    <a:pt x="167" y="466"/>
                  </a:lnTo>
                  <a:lnTo>
                    <a:pt x="171" y="473"/>
                  </a:lnTo>
                  <a:lnTo>
                    <a:pt x="171" y="64"/>
                  </a:lnTo>
                  <a:lnTo>
                    <a:pt x="167" y="57"/>
                  </a:lnTo>
                  <a:lnTo>
                    <a:pt x="163" y="52"/>
                  </a:lnTo>
                  <a:lnTo>
                    <a:pt x="158" y="46"/>
                  </a:lnTo>
                  <a:lnTo>
                    <a:pt x="153" y="41"/>
                  </a:lnTo>
                  <a:lnTo>
                    <a:pt x="142" y="32"/>
                  </a:lnTo>
                  <a:lnTo>
                    <a:pt x="130" y="24"/>
                  </a:lnTo>
                  <a:lnTo>
                    <a:pt x="116" y="18"/>
                  </a:lnTo>
                  <a:lnTo>
                    <a:pt x="102" y="12"/>
                  </a:lnTo>
                  <a:lnTo>
                    <a:pt x="87" y="8"/>
                  </a:lnTo>
                  <a:lnTo>
                    <a:pt x="73" y="5"/>
                  </a:lnTo>
                  <a:lnTo>
                    <a:pt x="46" y="1"/>
                  </a:lnTo>
                  <a:lnTo>
                    <a:pt x="2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68"/>
            <p:cNvSpPr/>
            <p:nvPr/>
          </p:nvSpPr>
          <p:spPr>
            <a:xfrm>
              <a:off x="6227640" y="6092640"/>
              <a:ext cx="20160" cy="723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131" h="441">
                  <a:moveTo>
                    <a:pt x="1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3" y="13"/>
                  </a:lnTo>
                  <a:lnTo>
                    <a:pt x="5" y="18"/>
                  </a:lnTo>
                  <a:lnTo>
                    <a:pt x="8" y="20"/>
                  </a:lnTo>
                  <a:lnTo>
                    <a:pt x="14" y="24"/>
                  </a:lnTo>
                  <a:lnTo>
                    <a:pt x="20" y="26"/>
                  </a:lnTo>
                  <a:lnTo>
                    <a:pt x="27" y="28"/>
                  </a:lnTo>
                  <a:lnTo>
                    <a:pt x="46" y="31"/>
                  </a:lnTo>
                  <a:lnTo>
                    <a:pt x="68" y="32"/>
                  </a:lnTo>
                  <a:lnTo>
                    <a:pt x="97" y="32"/>
                  </a:lnTo>
                  <a:lnTo>
                    <a:pt x="131" y="29"/>
                  </a:lnTo>
                  <a:lnTo>
                    <a:pt x="131" y="438"/>
                  </a:lnTo>
                  <a:lnTo>
                    <a:pt x="97" y="441"/>
                  </a:lnTo>
                  <a:lnTo>
                    <a:pt x="68" y="441"/>
                  </a:lnTo>
                  <a:lnTo>
                    <a:pt x="46" y="439"/>
                  </a:lnTo>
                  <a:lnTo>
                    <a:pt x="27" y="437"/>
                  </a:lnTo>
                  <a:lnTo>
                    <a:pt x="20" y="435"/>
                  </a:lnTo>
                  <a:lnTo>
                    <a:pt x="14" y="432"/>
                  </a:lnTo>
                  <a:lnTo>
                    <a:pt x="8" y="429"/>
                  </a:lnTo>
                  <a:lnTo>
                    <a:pt x="5" y="427"/>
                  </a:lnTo>
                  <a:lnTo>
                    <a:pt x="3" y="423"/>
                  </a:lnTo>
                  <a:lnTo>
                    <a:pt x="1" y="418"/>
                  </a:lnTo>
                  <a:lnTo>
                    <a:pt x="0" y="414"/>
                  </a:lnTo>
                  <a:lnTo>
                    <a:pt x="1" y="409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69"/>
            <p:cNvSpPr/>
            <p:nvPr/>
          </p:nvSpPr>
          <p:spPr>
            <a:xfrm>
              <a:off x="6259320" y="6100920"/>
              <a:ext cx="42840" cy="88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82" h="550">
                  <a:moveTo>
                    <a:pt x="282" y="0"/>
                  </a:moveTo>
                  <a:lnTo>
                    <a:pt x="281" y="7"/>
                  </a:lnTo>
                  <a:lnTo>
                    <a:pt x="280" y="15"/>
                  </a:lnTo>
                  <a:lnTo>
                    <a:pt x="277" y="22"/>
                  </a:lnTo>
                  <a:lnTo>
                    <a:pt x="273" y="30"/>
                  </a:lnTo>
                  <a:lnTo>
                    <a:pt x="268" y="39"/>
                  </a:lnTo>
                  <a:lnTo>
                    <a:pt x="263" y="46"/>
                  </a:lnTo>
                  <a:lnTo>
                    <a:pt x="257" y="53"/>
                  </a:lnTo>
                  <a:lnTo>
                    <a:pt x="250" y="58"/>
                  </a:lnTo>
                  <a:lnTo>
                    <a:pt x="243" y="64"/>
                  </a:lnTo>
                  <a:lnTo>
                    <a:pt x="237" y="69"/>
                  </a:lnTo>
                  <a:lnTo>
                    <a:pt x="230" y="72"/>
                  </a:lnTo>
                  <a:lnTo>
                    <a:pt x="224" y="75"/>
                  </a:lnTo>
                  <a:lnTo>
                    <a:pt x="218" y="75"/>
                  </a:lnTo>
                  <a:lnTo>
                    <a:pt x="214" y="74"/>
                  </a:lnTo>
                  <a:lnTo>
                    <a:pt x="210" y="71"/>
                  </a:lnTo>
                  <a:lnTo>
                    <a:pt x="207" y="65"/>
                  </a:lnTo>
                  <a:lnTo>
                    <a:pt x="205" y="62"/>
                  </a:lnTo>
                  <a:lnTo>
                    <a:pt x="203" y="60"/>
                  </a:lnTo>
                  <a:lnTo>
                    <a:pt x="202" y="58"/>
                  </a:lnTo>
                  <a:lnTo>
                    <a:pt x="198" y="58"/>
                  </a:lnTo>
                  <a:lnTo>
                    <a:pt x="193" y="60"/>
                  </a:lnTo>
                  <a:lnTo>
                    <a:pt x="186" y="65"/>
                  </a:lnTo>
                  <a:lnTo>
                    <a:pt x="167" y="82"/>
                  </a:lnTo>
                  <a:lnTo>
                    <a:pt x="143" y="103"/>
                  </a:lnTo>
                  <a:lnTo>
                    <a:pt x="132" y="113"/>
                  </a:lnTo>
                  <a:lnTo>
                    <a:pt x="118" y="123"/>
                  </a:lnTo>
                  <a:lnTo>
                    <a:pt x="104" y="131"/>
                  </a:lnTo>
                  <a:lnTo>
                    <a:pt x="89" y="138"/>
                  </a:lnTo>
                  <a:lnTo>
                    <a:pt x="80" y="139"/>
                  </a:lnTo>
                  <a:lnTo>
                    <a:pt x="72" y="140"/>
                  </a:lnTo>
                  <a:lnTo>
                    <a:pt x="65" y="141"/>
                  </a:lnTo>
                  <a:lnTo>
                    <a:pt x="57" y="140"/>
                  </a:lnTo>
                  <a:lnTo>
                    <a:pt x="48" y="139"/>
                  </a:lnTo>
                  <a:lnTo>
                    <a:pt x="40" y="136"/>
                  </a:lnTo>
                  <a:lnTo>
                    <a:pt x="31" y="132"/>
                  </a:lnTo>
                  <a:lnTo>
                    <a:pt x="23" y="126"/>
                  </a:lnTo>
                  <a:lnTo>
                    <a:pt x="17" y="123"/>
                  </a:lnTo>
                  <a:lnTo>
                    <a:pt x="11" y="118"/>
                  </a:lnTo>
                  <a:lnTo>
                    <a:pt x="8" y="113"/>
                  </a:lnTo>
                  <a:lnTo>
                    <a:pt x="4" y="109"/>
                  </a:lnTo>
                  <a:lnTo>
                    <a:pt x="2" y="105"/>
                  </a:lnTo>
                  <a:lnTo>
                    <a:pt x="1" y="100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0" y="501"/>
                  </a:lnTo>
                  <a:lnTo>
                    <a:pt x="0" y="506"/>
                  </a:lnTo>
                  <a:lnTo>
                    <a:pt x="1" y="510"/>
                  </a:lnTo>
                  <a:lnTo>
                    <a:pt x="2" y="515"/>
                  </a:lnTo>
                  <a:lnTo>
                    <a:pt x="4" y="520"/>
                  </a:lnTo>
                  <a:lnTo>
                    <a:pt x="8" y="523"/>
                  </a:lnTo>
                  <a:lnTo>
                    <a:pt x="11" y="528"/>
                  </a:lnTo>
                  <a:lnTo>
                    <a:pt x="17" y="532"/>
                  </a:lnTo>
                  <a:lnTo>
                    <a:pt x="23" y="535"/>
                  </a:lnTo>
                  <a:lnTo>
                    <a:pt x="31" y="541"/>
                  </a:lnTo>
                  <a:lnTo>
                    <a:pt x="40" y="544"/>
                  </a:lnTo>
                  <a:lnTo>
                    <a:pt x="48" y="548"/>
                  </a:lnTo>
                  <a:lnTo>
                    <a:pt x="57" y="549"/>
                  </a:lnTo>
                  <a:lnTo>
                    <a:pt x="65" y="550"/>
                  </a:lnTo>
                  <a:lnTo>
                    <a:pt x="72" y="549"/>
                  </a:lnTo>
                  <a:lnTo>
                    <a:pt x="80" y="548"/>
                  </a:lnTo>
                  <a:lnTo>
                    <a:pt x="89" y="547"/>
                  </a:lnTo>
                  <a:lnTo>
                    <a:pt x="104" y="541"/>
                  </a:lnTo>
                  <a:lnTo>
                    <a:pt x="118" y="532"/>
                  </a:lnTo>
                  <a:lnTo>
                    <a:pt x="132" y="522"/>
                  </a:lnTo>
                  <a:lnTo>
                    <a:pt x="143" y="512"/>
                  </a:lnTo>
                  <a:lnTo>
                    <a:pt x="167" y="491"/>
                  </a:lnTo>
                  <a:lnTo>
                    <a:pt x="186" y="474"/>
                  </a:lnTo>
                  <a:lnTo>
                    <a:pt x="193" y="468"/>
                  </a:lnTo>
                  <a:lnTo>
                    <a:pt x="198" y="467"/>
                  </a:lnTo>
                  <a:lnTo>
                    <a:pt x="202" y="467"/>
                  </a:lnTo>
                  <a:lnTo>
                    <a:pt x="203" y="468"/>
                  </a:lnTo>
                  <a:lnTo>
                    <a:pt x="205" y="471"/>
                  </a:lnTo>
                  <a:lnTo>
                    <a:pt x="207" y="475"/>
                  </a:lnTo>
                  <a:lnTo>
                    <a:pt x="210" y="480"/>
                  </a:lnTo>
                  <a:lnTo>
                    <a:pt x="214" y="484"/>
                  </a:lnTo>
                  <a:lnTo>
                    <a:pt x="218" y="485"/>
                  </a:lnTo>
                  <a:lnTo>
                    <a:pt x="224" y="485"/>
                  </a:lnTo>
                  <a:lnTo>
                    <a:pt x="230" y="482"/>
                  </a:lnTo>
                  <a:lnTo>
                    <a:pt x="237" y="479"/>
                  </a:lnTo>
                  <a:lnTo>
                    <a:pt x="243" y="474"/>
                  </a:lnTo>
                  <a:lnTo>
                    <a:pt x="250" y="468"/>
                  </a:lnTo>
                  <a:lnTo>
                    <a:pt x="257" y="463"/>
                  </a:lnTo>
                  <a:lnTo>
                    <a:pt x="263" y="456"/>
                  </a:lnTo>
                  <a:lnTo>
                    <a:pt x="268" y="447"/>
                  </a:lnTo>
                  <a:lnTo>
                    <a:pt x="273" y="439"/>
                  </a:lnTo>
                  <a:lnTo>
                    <a:pt x="277" y="432"/>
                  </a:lnTo>
                  <a:lnTo>
                    <a:pt x="280" y="424"/>
                  </a:lnTo>
                  <a:lnTo>
                    <a:pt x="281" y="416"/>
                  </a:lnTo>
                  <a:lnTo>
                    <a:pt x="282" y="409"/>
                  </a:lnTo>
                  <a:lnTo>
                    <a:pt x="28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70"/>
            <p:cNvSpPr/>
            <p:nvPr/>
          </p:nvSpPr>
          <p:spPr>
            <a:xfrm>
              <a:off x="6318360" y="6121080"/>
              <a:ext cx="34200" cy="788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489">
                  <a:moveTo>
                    <a:pt x="0" y="475"/>
                  </a:moveTo>
                  <a:lnTo>
                    <a:pt x="2" y="477"/>
                  </a:lnTo>
                  <a:lnTo>
                    <a:pt x="5" y="480"/>
                  </a:lnTo>
                  <a:lnTo>
                    <a:pt x="7" y="482"/>
                  </a:lnTo>
                  <a:lnTo>
                    <a:pt x="12" y="483"/>
                  </a:lnTo>
                  <a:lnTo>
                    <a:pt x="21" y="486"/>
                  </a:lnTo>
                  <a:lnTo>
                    <a:pt x="32" y="488"/>
                  </a:lnTo>
                  <a:lnTo>
                    <a:pt x="45" y="489"/>
                  </a:lnTo>
                  <a:lnTo>
                    <a:pt x="60" y="489"/>
                  </a:lnTo>
                  <a:lnTo>
                    <a:pt x="75" y="489"/>
                  </a:lnTo>
                  <a:lnTo>
                    <a:pt x="90" y="488"/>
                  </a:lnTo>
                  <a:lnTo>
                    <a:pt x="106" y="486"/>
                  </a:lnTo>
                  <a:lnTo>
                    <a:pt x="123" y="483"/>
                  </a:lnTo>
                  <a:lnTo>
                    <a:pt x="139" y="480"/>
                  </a:lnTo>
                  <a:lnTo>
                    <a:pt x="154" y="476"/>
                  </a:lnTo>
                  <a:lnTo>
                    <a:pt x="168" y="472"/>
                  </a:lnTo>
                  <a:lnTo>
                    <a:pt x="181" y="468"/>
                  </a:lnTo>
                  <a:lnTo>
                    <a:pt x="193" y="462"/>
                  </a:lnTo>
                  <a:lnTo>
                    <a:pt x="202" y="458"/>
                  </a:lnTo>
                  <a:lnTo>
                    <a:pt x="210" y="452"/>
                  </a:lnTo>
                  <a:lnTo>
                    <a:pt x="216" y="446"/>
                  </a:lnTo>
                  <a:lnTo>
                    <a:pt x="222" y="440"/>
                  </a:lnTo>
                  <a:lnTo>
                    <a:pt x="227" y="434"/>
                  </a:lnTo>
                  <a:lnTo>
                    <a:pt x="230" y="427"/>
                  </a:lnTo>
                  <a:lnTo>
                    <a:pt x="231" y="421"/>
                  </a:lnTo>
                  <a:lnTo>
                    <a:pt x="234" y="414"/>
                  </a:lnTo>
                  <a:lnTo>
                    <a:pt x="234" y="409"/>
                  </a:lnTo>
                  <a:lnTo>
                    <a:pt x="234" y="0"/>
                  </a:lnTo>
                  <a:lnTo>
                    <a:pt x="234" y="6"/>
                  </a:lnTo>
                  <a:lnTo>
                    <a:pt x="231" y="13"/>
                  </a:lnTo>
                  <a:lnTo>
                    <a:pt x="230" y="18"/>
                  </a:lnTo>
                  <a:lnTo>
                    <a:pt x="227" y="25"/>
                  </a:lnTo>
                  <a:lnTo>
                    <a:pt x="222" y="31"/>
                  </a:lnTo>
                  <a:lnTo>
                    <a:pt x="216" y="37"/>
                  </a:lnTo>
                  <a:lnTo>
                    <a:pt x="210" y="43"/>
                  </a:lnTo>
                  <a:lnTo>
                    <a:pt x="202" y="49"/>
                  </a:lnTo>
                  <a:lnTo>
                    <a:pt x="193" y="53"/>
                  </a:lnTo>
                  <a:lnTo>
                    <a:pt x="181" y="58"/>
                  </a:lnTo>
                  <a:lnTo>
                    <a:pt x="168" y="62"/>
                  </a:lnTo>
                  <a:lnTo>
                    <a:pt x="154" y="66"/>
                  </a:lnTo>
                  <a:lnTo>
                    <a:pt x="139" y="70"/>
                  </a:lnTo>
                  <a:lnTo>
                    <a:pt x="123" y="72"/>
                  </a:lnTo>
                  <a:lnTo>
                    <a:pt x="106" y="76"/>
                  </a:lnTo>
                  <a:lnTo>
                    <a:pt x="90" y="77"/>
                  </a:lnTo>
                  <a:lnTo>
                    <a:pt x="75" y="78"/>
                  </a:lnTo>
                  <a:lnTo>
                    <a:pt x="60" y="79"/>
                  </a:lnTo>
                  <a:lnTo>
                    <a:pt x="45" y="79"/>
                  </a:lnTo>
                  <a:lnTo>
                    <a:pt x="32" y="78"/>
                  </a:lnTo>
                  <a:lnTo>
                    <a:pt x="21" y="76"/>
                  </a:lnTo>
                  <a:lnTo>
                    <a:pt x="12" y="72"/>
                  </a:lnTo>
                  <a:lnTo>
                    <a:pt x="7" y="70"/>
                  </a:lnTo>
                  <a:lnTo>
                    <a:pt x="5" y="69"/>
                  </a:lnTo>
                  <a:lnTo>
                    <a:pt x="2" y="65"/>
                  </a:lnTo>
                  <a:lnTo>
                    <a:pt x="0" y="63"/>
                  </a:lnTo>
                  <a:lnTo>
                    <a:pt x="0" y="4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71"/>
            <p:cNvSpPr/>
            <p:nvPr/>
          </p:nvSpPr>
          <p:spPr>
            <a:xfrm>
              <a:off x="6280560" y="6248520"/>
              <a:ext cx="7920" cy="820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60" h="507">
                  <a:moveTo>
                    <a:pt x="0" y="0"/>
                  </a:moveTo>
                  <a:lnTo>
                    <a:pt x="1" y="11"/>
                  </a:lnTo>
                  <a:lnTo>
                    <a:pt x="2" y="21"/>
                  </a:lnTo>
                  <a:lnTo>
                    <a:pt x="4" y="31"/>
                  </a:lnTo>
                  <a:lnTo>
                    <a:pt x="7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6" y="62"/>
                  </a:lnTo>
                  <a:lnTo>
                    <a:pt x="19" y="68"/>
                  </a:lnTo>
                  <a:lnTo>
                    <a:pt x="24" y="74"/>
                  </a:lnTo>
                  <a:lnTo>
                    <a:pt x="28" y="80"/>
                  </a:lnTo>
                  <a:lnTo>
                    <a:pt x="32" y="85"/>
                  </a:lnTo>
                  <a:lnTo>
                    <a:pt x="38" y="88"/>
                  </a:lnTo>
                  <a:lnTo>
                    <a:pt x="49" y="95"/>
                  </a:lnTo>
                  <a:lnTo>
                    <a:pt x="60" y="99"/>
                  </a:lnTo>
                  <a:lnTo>
                    <a:pt x="60" y="507"/>
                  </a:lnTo>
                  <a:lnTo>
                    <a:pt x="55" y="506"/>
                  </a:lnTo>
                  <a:lnTo>
                    <a:pt x="49" y="504"/>
                  </a:lnTo>
                  <a:lnTo>
                    <a:pt x="43" y="502"/>
                  </a:lnTo>
                  <a:lnTo>
                    <a:pt x="38" y="498"/>
                  </a:lnTo>
                  <a:lnTo>
                    <a:pt x="32" y="495"/>
                  </a:lnTo>
                  <a:lnTo>
                    <a:pt x="28" y="490"/>
                  </a:lnTo>
                  <a:lnTo>
                    <a:pt x="24" y="484"/>
                  </a:lnTo>
                  <a:lnTo>
                    <a:pt x="19" y="478"/>
                  </a:lnTo>
                  <a:lnTo>
                    <a:pt x="16" y="472"/>
                  </a:lnTo>
                  <a:lnTo>
                    <a:pt x="12" y="465"/>
                  </a:lnTo>
                  <a:lnTo>
                    <a:pt x="9" y="457"/>
                  </a:lnTo>
                  <a:lnTo>
                    <a:pt x="7" y="449"/>
                  </a:lnTo>
                  <a:lnTo>
                    <a:pt x="2" y="430"/>
                  </a:lnTo>
                  <a:lnTo>
                    <a:pt x="0" y="41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72"/>
            <p:cNvSpPr/>
            <p:nvPr/>
          </p:nvSpPr>
          <p:spPr>
            <a:xfrm>
              <a:off x="6264720" y="6124680"/>
              <a:ext cx="34200" cy="788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34" h="487">
                  <a:moveTo>
                    <a:pt x="230" y="0"/>
                  </a:moveTo>
                  <a:lnTo>
                    <a:pt x="231" y="2"/>
                  </a:lnTo>
                  <a:lnTo>
                    <a:pt x="232" y="4"/>
                  </a:lnTo>
                  <a:lnTo>
                    <a:pt x="234" y="6"/>
                  </a:lnTo>
                  <a:lnTo>
                    <a:pt x="234" y="9"/>
                  </a:lnTo>
                  <a:lnTo>
                    <a:pt x="232" y="14"/>
                  </a:lnTo>
                  <a:lnTo>
                    <a:pt x="228" y="20"/>
                  </a:lnTo>
                  <a:lnTo>
                    <a:pt x="222" y="26"/>
                  </a:lnTo>
                  <a:lnTo>
                    <a:pt x="215" y="33"/>
                  </a:lnTo>
                  <a:lnTo>
                    <a:pt x="206" y="39"/>
                  </a:lnTo>
                  <a:lnTo>
                    <a:pt x="194" y="46"/>
                  </a:lnTo>
                  <a:lnTo>
                    <a:pt x="181" y="52"/>
                  </a:lnTo>
                  <a:lnTo>
                    <a:pt x="167" y="58"/>
                  </a:lnTo>
                  <a:lnTo>
                    <a:pt x="152" y="63"/>
                  </a:lnTo>
                  <a:lnTo>
                    <a:pt x="136" y="68"/>
                  </a:lnTo>
                  <a:lnTo>
                    <a:pt x="119" y="73"/>
                  </a:lnTo>
                  <a:lnTo>
                    <a:pt x="100" y="75"/>
                  </a:lnTo>
                  <a:lnTo>
                    <a:pt x="82" y="77"/>
                  </a:lnTo>
                  <a:lnTo>
                    <a:pt x="63" y="79"/>
                  </a:lnTo>
                  <a:lnTo>
                    <a:pt x="36" y="77"/>
                  </a:lnTo>
                  <a:lnTo>
                    <a:pt x="19" y="74"/>
                  </a:lnTo>
                  <a:lnTo>
                    <a:pt x="12" y="73"/>
                  </a:lnTo>
                  <a:lnTo>
                    <a:pt x="6" y="70"/>
                  </a:lnTo>
                  <a:lnTo>
                    <a:pt x="2" y="68"/>
                  </a:lnTo>
                  <a:lnTo>
                    <a:pt x="0" y="67"/>
                  </a:lnTo>
                  <a:lnTo>
                    <a:pt x="0" y="476"/>
                  </a:lnTo>
                  <a:lnTo>
                    <a:pt x="2" y="478"/>
                  </a:lnTo>
                  <a:lnTo>
                    <a:pt x="6" y="480"/>
                  </a:lnTo>
                  <a:lnTo>
                    <a:pt x="12" y="483"/>
                  </a:lnTo>
                  <a:lnTo>
                    <a:pt x="19" y="484"/>
                  </a:lnTo>
                  <a:lnTo>
                    <a:pt x="36" y="486"/>
                  </a:lnTo>
                  <a:lnTo>
                    <a:pt x="63" y="487"/>
                  </a:lnTo>
                  <a:lnTo>
                    <a:pt x="82" y="486"/>
                  </a:lnTo>
                  <a:lnTo>
                    <a:pt x="100" y="484"/>
                  </a:lnTo>
                  <a:lnTo>
                    <a:pt x="119" y="482"/>
                  </a:lnTo>
                  <a:lnTo>
                    <a:pt x="136" y="477"/>
                  </a:lnTo>
                  <a:lnTo>
                    <a:pt x="152" y="472"/>
                  </a:lnTo>
                  <a:lnTo>
                    <a:pt x="167" y="466"/>
                  </a:lnTo>
                  <a:lnTo>
                    <a:pt x="181" y="461"/>
                  </a:lnTo>
                  <a:lnTo>
                    <a:pt x="194" y="455"/>
                  </a:lnTo>
                  <a:lnTo>
                    <a:pt x="206" y="448"/>
                  </a:lnTo>
                  <a:lnTo>
                    <a:pt x="215" y="442"/>
                  </a:lnTo>
                  <a:lnTo>
                    <a:pt x="222" y="435"/>
                  </a:lnTo>
                  <a:lnTo>
                    <a:pt x="228" y="429"/>
                  </a:lnTo>
                  <a:lnTo>
                    <a:pt x="232" y="423"/>
                  </a:lnTo>
                  <a:lnTo>
                    <a:pt x="234" y="417"/>
                  </a:lnTo>
                  <a:lnTo>
                    <a:pt x="234" y="415"/>
                  </a:lnTo>
                  <a:lnTo>
                    <a:pt x="232" y="413"/>
                  </a:lnTo>
                  <a:lnTo>
                    <a:pt x="231" y="412"/>
                  </a:lnTo>
                  <a:lnTo>
                    <a:pt x="230" y="409"/>
                  </a:lnTo>
                  <a:lnTo>
                    <a:pt x="23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73"/>
            <p:cNvSpPr/>
            <p:nvPr/>
          </p:nvSpPr>
          <p:spPr>
            <a:xfrm>
              <a:off x="6354360" y="6188400"/>
              <a:ext cx="25200" cy="10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67" h="631">
                  <a:moveTo>
                    <a:pt x="0" y="222"/>
                  </a:moveTo>
                  <a:lnTo>
                    <a:pt x="16" y="214"/>
                  </a:lnTo>
                  <a:lnTo>
                    <a:pt x="31" y="204"/>
                  </a:lnTo>
                  <a:lnTo>
                    <a:pt x="46" y="193"/>
                  </a:lnTo>
                  <a:lnTo>
                    <a:pt x="62" y="180"/>
                  </a:lnTo>
                  <a:lnTo>
                    <a:pt x="76" y="166"/>
                  </a:lnTo>
                  <a:lnTo>
                    <a:pt x="90" y="151"/>
                  </a:lnTo>
                  <a:lnTo>
                    <a:pt x="102" y="136"/>
                  </a:lnTo>
                  <a:lnTo>
                    <a:pt x="114" y="119"/>
                  </a:lnTo>
                  <a:lnTo>
                    <a:pt x="126" y="103"/>
                  </a:lnTo>
                  <a:lnTo>
                    <a:pt x="135" y="86"/>
                  </a:lnTo>
                  <a:lnTo>
                    <a:pt x="144" y="70"/>
                  </a:lnTo>
                  <a:lnTo>
                    <a:pt x="151" y="54"/>
                  </a:lnTo>
                  <a:lnTo>
                    <a:pt x="157" y="39"/>
                  </a:lnTo>
                  <a:lnTo>
                    <a:pt x="162" y="25"/>
                  </a:lnTo>
                  <a:lnTo>
                    <a:pt x="165" y="12"/>
                  </a:lnTo>
                  <a:lnTo>
                    <a:pt x="167" y="0"/>
                  </a:lnTo>
                  <a:lnTo>
                    <a:pt x="167" y="404"/>
                  </a:lnTo>
                  <a:lnTo>
                    <a:pt x="167" y="415"/>
                  </a:lnTo>
                  <a:lnTo>
                    <a:pt x="164" y="428"/>
                  </a:lnTo>
                  <a:lnTo>
                    <a:pt x="160" y="442"/>
                  </a:lnTo>
                  <a:lnTo>
                    <a:pt x="155" y="457"/>
                  </a:lnTo>
                  <a:lnTo>
                    <a:pt x="148" y="473"/>
                  </a:lnTo>
                  <a:lnTo>
                    <a:pt x="140" y="489"/>
                  </a:lnTo>
                  <a:lnTo>
                    <a:pt x="129" y="507"/>
                  </a:lnTo>
                  <a:lnTo>
                    <a:pt x="119" y="524"/>
                  </a:lnTo>
                  <a:lnTo>
                    <a:pt x="107" y="541"/>
                  </a:lnTo>
                  <a:lnTo>
                    <a:pt x="93" y="557"/>
                  </a:lnTo>
                  <a:lnTo>
                    <a:pt x="80" y="572"/>
                  </a:lnTo>
                  <a:lnTo>
                    <a:pt x="65" y="588"/>
                  </a:lnTo>
                  <a:lnTo>
                    <a:pt x="50" y="602"/>
                  </a:lnTo>
                  <a:lnTo>
                    <a:pt x="33" y="613"/>
                  </a:lnTo>
                  <a:lnTo>
                    <a:pt x="17" y="623"/>
                  </a:lnTo>
                  <a:lnTo>
                    <a:pt x="0" y="631"/>
                  </a:lnTo>
                  <a:lnTo>
                    <a:pt x="0" y="22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74"/>
            <p:cNvSpPr/>
            <p:nvPr/>
          </p:nvSpPr>
          <p:spPr>
            <a:xfrm>
              <a:off x="6289560" y="6237360"/>
              <a:ext cx="25200" cy="91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7" h="559">
                  <a:moveTo>
                    <a:pt x="0" y="146"/>
                  </a:moveTo>
                  <a:lnTo>
                    <a:pt x="12" y="147"/>
                  </a:lnTo>
                  <a:lnTo>
                    <a:pt x="23" y="146"/>
                  </a:lnTo>
                  <a:lnTo>
                    <a:pt x="36" y="144"/>
                  </a:lnTo>
                  <a:lnTo>
                    <a:pt x="48" y="138"/>
                  </a:lnTo>
                  <a:lnTo>
                    <a:pt x="59" y="131"/>
                  </a:lnTo>
                  <a:lnTo>
                    <a:pt x="71" y="120"/>
                  </a:lnTo>
                  <a:lnTo>
                    <a:pt x="76" y="114"/>
                  </a:lnTo>
                  <a:lnTo>
                    <a:pt x="80" y="109"/>
                  </a:lnTo>
                  <a:lnTo>
                    <a:pt x="85" y="102"/>
                  </a:lnTo>
                  <a:lnTo>
                    <a:pt x="89" y="95"/>
                  </a:lnTo>
                  <a:lnTo>
                    <a:pt x="97" y="79"/>
                  </a:lnTo>
                  <a:lnTo>
                    <a:pt x="106" y="65"/>
                  </a:lnTo>
                  <a:lnTo>
                    <a:pt x="116" y="51"/>
                  </a:lnTo>
                  <a:lnTo>
                    <a:pt x="125" y="40"/>
                  </a:lnTo>
                  <a:lnTo>
                    <a:pt x="135" y="28"/>
                  </a:lnTo>
                  <a:lnTo>
                    <a:pt x="145" y="19"/>
                  </a:lnTo>
                  <a:lnTo>
                    <a:pt x="155" y="8"/>
                  </a:lnTo>
                  <a:lnTo>
                    <a:pt x="167" y="0"/>
                  </a:lnTo>
                  <a:lnTo>
                    <a:pt x="167" y="411"/>
                  </a:lnTo>
                  <a:lnTo>
                    <a:pt x="155" y="420"/>
                  </a:lnTo>
                  <a:lnTo>
                    <a:pt x="145" y="430"/>
                  </a:lnTo>
                  <a:lnTo>
                    <a:pt x="135" y="440"/>
                  </a:lnTo>
                  <a:lnTo>
                    <a:pt x="125" y="452"/>
                  </a:lnTo>
                  <a:lnTo>
                    <a:pt x="116" y="464"/>
                  </a:lnTo>
                  <a:lnTo>
                    <a:pt x="106" y="476"/>
                  </a:lnTo>
                  <a:lnTo>
                    <a:pt x="97" y="490"/>
                  </a:lnTo>
                  <a:lnTo>
                    <a:pt x="89" y="507"/>
                  </a:lnTo>
                  <a:lnTo>
                    <a:pt x="85" y="514"/>
                  </a:lnTo>
                  <a:lnTo>
                    <a:pt x="80" y="521"/>
                  </a:lnTo>
                  <a:lnTo>
                    <a:pt x="76" y="527"/>
                  </a:lnTo>
                  <a:lnTo>
                    <a:pt x="71" y="533"/>
                  </a:lnTo>
                  <a:lnTo>
                    <a:pt x="59" y="542"/>
                  </a:lnTo>
                  <a:lnTo>
                    <a:pt x="48" y="550"/>
                  </a:lnTo>
                  <a:lnTo>
                    <a:pt x="36" y="555"/>
                  </a:lnTo>
                  <a:lnTo>
                    <a:pt x="23" y="558"/>
                  </a:lnTo>
                  <a:lnTo>
                    <a:pt x="12" y="559"/>
                  </a:lnTo>
                  <a:lnTo>
                    <a:pt x="0" y="558"/>
                  </a:lnTo>
                  <a:lnTo>
                    <a:pt x="0" y="14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75"/>
            <p:cNvSpPr/>
            <p:nvPr/>
          </p:nvSpPr>
          <p:spPr>
            <a:xfrm>
              <a:off x="6316920" y="6221880"/>
              <a:ext cx="39600" cy="82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62" h="501">
                  <a:moveTo>
                    <a:pt x="0" y="90"/>
                  </a:moveTo>
                  <a:lnTo>
                    <a:pt x="15" y="79"/>
                  </a:lnTo>
                  <a:lnTo>
                    <a:pt x="31" y="69"/>
                  </a:lnTo>
                  <a:lnTo>
                    <a:pt x="48" y="61"/>
                  </a:lnTo>
                  <a:lnTo>
                    <a:pt x="64" y="54"/>
                  </a:lnTo>
                  <a:lnTo>
                    <a:pt x="82" y="48"/>
                  </a:lnTo>
                  <a:lnTo>
                    <a:pt x="98" y="43"/>
                  </a:lnTo>
                  <a:lnTo>
                    <a:pt x="114" y="39"/>
                  </a:lnTo>
                  <a:lnTo>
                    <a:pt x="132" y="34"/>
                  </a:lnTo>
                  <a:lnTo>
                    <a:pt x="166" y="27"/>
                  </a:lnTo>
                  <a:lnTo>
                    <a:pt x="199" y="20"/>
                  </a:lnTo>
                  <a:lnTo>
                    <a:pt x="215" y="17"/>
                  </a:lnTo>
                  <a:lnTo>
                    <a:pt x="231" y="12"/>
                  </a:lnTo>
                  <a:lnTo>
                    <a:pt x="246" y="7"/>
                  </a:lnTo>
                  <a:lnTo>
                    <a:pt x="262" y="0"/>
                  </a:lnTo>
                  <a:lnTo>
                    <a:pt x="262" y="410"/>
                  </a:lnTo>
                  <a:lnTo>
                    <a:pt x="242" y="417"/>
                  </a:lnTo>
                  <a:lnTo>
                    <a:pt x="222" y="425"/>
                  </a:lnTo>
                  <a:lnTo>
                    <a:pt x="203" y="431"/>
                  </a:lnTo>
                  <a:lnTo>
                    <a:pt x="185" y="437"/>
                  </a:lnTo>
                  <a:lnTo>
                    <a:pt x="148" y="446"/>
                  </a:lnTo>
                  <a:lnTo>
                    <a:pt x="113" y="456"/>
                  </a:lnTo>
                  <a:lnTo>
                    <a:pt x="82" y="465"/>
                  </a:lnTo>
                  <a:lnTo>
                    <a:pt x="51" y="475"/>
                  </a:lnTo>
                  <a:lnTo>
                    <a:pt x="37" y="480"/>
                  </a:lnTo>
                  <a:lnTo>
                    <a:pt x="24" y="486"/>
                  </a:lnTo>
                  <a:lnTo>
                    <a:pt x="12" y="493"/>
                  </a:lnTo>
                  <a:lnTo>
                    <a:pt x="0" y="501"/>
                  </a:lnTo>
                  <a:lnTo>
                    <a:pt x="0" y="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76"/>
            <p:cNvSpPr/>
            <p:nvPr/>
          </p:nvSpPr>
          <p:spPr>
            <a:xfrm>
              <a:off x="6154560" y="6067440"/>
              <a:ext cx="10800" cy="69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1" h="423">
                  <a:moveTo>
                    <a:pt x="0" y="409"/>
                  </a:moveTo>
                  <a:lnTo>
                    <a:pt x="1" y="413"/>
                  </a:lnTo>
                  <a:lnTo>
                    <a:pt x="6" y="416"/>
                  </a:lnTo>
                  <a:lnTo>
                    <a:pt x="11" y="418"/>
                  </a:lnTo>
                  <a:lnTo>
                    <a:pt x="20" y="421"/>
                  </a:lnTo>
                  <a:lnTo>
                    <a:pt x="29" y="422"/>
                  </a:lnTo>
                  <a:lnTo>
                    <a:pt x="41" y="423"/>
                  </a:lnTo>
                  <a:lnTo>
                    <a:pt x="55" y="422"/>
                  </a:lnTo>
                  <a:lnTo>
                    <a:pt x="71" y="421"/>
                  </a:lnTo>
                  <a:lnTo>
                    <a:pt x="71" y="11"/>
                  </a:lnTo>
                  <a:lnTo>
                    <a:pt x="55" y="13"/>
                  </a:lnTo>
                  <a:lnTo>
                    <a:pt x="41" y="13"/>
                  </a:lnTo>
                  <a:lnTo>
                    <a:pt x="29" y="13"/>
                  </a:lnTo>
                  <a:lnTo>
                    <a:pt x="20" y="12"/>
                  </a:lnTo>
                  <a:lnTo>
                    <a:pt x="11" y="10"/>
                  </a:lnTo>
                  <a:lnTo>
                    <a:pt x="6" y="7"/>
                  </a:lnTo>
                  <a:lnTo>
                    <a:pt x="1" y="4"/>
                  </a:lnTo>
                  <a:lnTo>
                    <a:pt x="0" y="0"/>
                  </a:lnTo>
                  <a:lnTo>
                    <a:pt x="0" y="4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77"/>
            <p:cNvSpPr/>
            <p:nvPr/>
          </p:nvSpPr>
          <p:spPr>
            <a:xfrm>
              <a:off x="6184440" y="6059160"/>
              <a:ext cx="12600" cy="77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92" h="473">
                  <a:moveTo>
                    <a:pt x="0" y="470"/>
                  </a:moveTo>
                  <a:lnTo>
                    <a:pt x="21" y="472"/>
                  </a:lnTo>
                  <a:lnTo>
                    <a:pt x="38" y="473"/>
                  </a:lnTo>
                  <a:lnTo>
                    <a:pt x="45" y="473"/>
                  </a:lnTo>
                  <a:lnTo>
                    <a:pt x="52" y="473"/>
                  </a:lnTo>
                  <a:lnTo>
                    <a:pt x="59" y="472"/>
                  </a:lnTo>
                  <a:lnTo>
                    <a:pt x="66" y="470"/>
                  </a:lnTo>
                  <a:lnTo>
                    <a:pt x="70" y="466"/>
                  </a:lnTo>
                  <a:lnTo>
                    <a:pt x="74" y="462"/>
                  </a:lnTo>
                  <a:lnTo>
                    <a:pt x="78" y="456"/>
                  </a:lnTo>
                  <a:lnTo>
                    <a:pt x="81" y="448"/>
                  </a:lnTo>
                  <a:lnTo>
                    <a:pt x="85" y="439"/>
                  </a:lnTo>
                  <a:lnTo>
                    <a:pt x="88" y="430"/>
                  </a:lnTo>
                  <a:lnTo>
                    <a:pt x="89" y="420"/>
                  </a:lnTo>
                  <a:lnTo>
                    <a:pt x="92" y="409"/>
                  </a:lnTo>
                  <a:lnTo>
                    <a:pt x="92" y="0"/>
                  </a:lnTo>
                  <a:lnTo>
                    <a:pt x="89" y="10"/>
                  </a:lnTo>
                  <a:lnTo>
                    <a:pt x="88" y="19"/>
                  </a:lnTo>
                  <a:lnTo>
                    <a:pt x="85" y="29"/>
                  </a:lnTo>
                  <a:lnTo>
                    <a:pt x="81" y="38"/>
                  </a:lnTo>
                  <a:lnTo>
                    <a:pt x="78" y="46"/>
                  </a:lnTo>
                  <a:lnTo>
                    <a:pt x="74" y="52"/>
                  </a:lnTo>
                  <a:lnTo>
                    <a:pt x="70" y="57"/>
                  </a:lnTo>
                  <a:lnTo>
                    <a:pt x="66" y="60"/>
                  </a:lnTo>
                  <a:lnTo>
                    <a:pt x="59" y="63"/>
                  </a:lnTo>
                  <a:lnTo>
                    <a:pt x="52" y="64"/>
                  </a:lnTo>
                  <a:lnTo>
                    <a:pt x="45" y="64"/>
                  </a:lnTo>
                  <a:lnTo>
                    <a:pt x="38" y="64"/>
                  </a:lnTo>
                  <a:lnTo>
                    <a:pt x="21" y="63"/>
                  </a:lnTo>
                  <a:lnTo>
                    <a:pt x="0" y="60"/>
                  </a:lnTo>
                  <a:lnTo>
                    <a:pt x="0" y="47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78"/>
            <p:cNvSpPr/>
            <p:nvPr/>
          </p:nvSpPr>
          <p:spPr>
            <a:xfrm>
              <a:off x="6113520" y="6089400"/>
              <a:ext cx="15480" cy="698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8" h="426">
                  <a:moveTo>
                    <a:pt x="0" y="410"/>
                  </a:moveTo>
                  <a:lnTo>
                    <a:pt x="1" y="412"/>
                  </a:lnTo>
                  <a:lnTo>
                    <a:pt x="1" y="415"/>
                  </a:lnTo>
                  <a:lnTo>
                    <a:pt x="3" y="418"/>
                  </a:lnTo>
                  <a:lnTo>
                    <a:pt x="5" y="420"/>
                  </a:lnTo>
                  <a:lnTo>
                    <a:pt x="10" y="424"/>
                  </a:lnTo>
                  <a:lnTo>
                    <a:pt x="15" y="425"/>
                  </a:lnTo>
                  <a:lnTo>
                    <a:pt x="24" y="426"/>
                  </a:lnTo>
                  <a:lnTo>
                    <a:pt x="32" y="426"/>
                  </a:lnTo>
                  <a:lnTo>
                    <a:pt x="40" y="425"/>
                  </a:lnTo>
                  <a:lnTo>
                    <a:pt x="49" y="424"/>
                  </a:lnTo>
                  <a:lnTo>
                    <a:pt x="83" y="414"/>
                  </a:lnTo>
                  <a:lnTo>
                    <a:pt x="98" y="410"/>
                  </a:lnTo>
                  <a:lnTo>
                    <a:pt x="98" y="0"/>
                  </a:lnTo>
                  <a:lnTo>
                    <a:pt x="83" y="5"/>
                  </a:lnTo>
                  <a:lnTo>
                    <a:pt x="49" y="14"/>
                  </a:lnTo>
                  <a:lnTo>
                    <a:pt x="40" y="15"/>
                  </a:lnTo>
                  <a:lnTo>
                    <a:pt x="32" y="15"/>
                  </a:lnTo>
                  <a:lnTo>
                    <a:pt x="24" y="16"/>
                  </a:lnTo>
                  <a:lnTo>
                    <a:pt x="15" y="15"/>
                  </a:lnTo>
                  <a:lnTo>
                    <a:pt x="10" y="12"/>
                  </a:lnTo>
                  <a:lnTo>
                    <a:pt x="5" y="10"/>
                  </a:lnTo>
                  <a:lnTo>
                    <a:pt x="3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0" y="41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79"/>
            <p:cNvSpPr/>
            <p:nvPr/>
          </p:nvSpPr>
          <p:spPr>
            <a:xfrm>
              <a:off x="6278400" y="6166080"/>
              <a:ext cx="99360" cy="968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55" h="595">
                  <a:moveTo>
                    <a:pt x="9" y="419"/>
                  </a:moveTo>
                  <a:lnTo>
                    <a:pt x="8" y="401"/>
                  </a:lnTo>
                  <a:lnTo>
                    <a:pt x="9" y="386"/>
                  </a:lnTo>
                  <a:lnTo>
                    <a:pt x="10" y="371"/>
                  </a:lnTo>
                  <a:lnTo>
                    <a:pt x="13" y="358"/>
                  </a:lnTo>
                  <a:lnTo>
                    <a:pt x="17" y="345"/>
                  </a:lnTo>
                  <a:lnTo>
                    <a:pt x="22" y="333"/>
                  </a:lnTo>
                  <a:lnTo>
                    <a:pt x="28" y="322"/>
                  </a:lnTo>
                  <a:lnTo>
                    <a:pt x="34" y="312"/>
                  </a:lnTo>
                  <a:lnTo>
                    <a:pt x="42" y="303"/>
                  </a:lnTo>
                  <a:lnTo>
                    <a:pt x="49" y="294"/>
                  </a:lnTo>
                  <a:lnTo>
                    <a:pt x="58" y="285"/>
                  </a:lnTo>
                  <a:lnTo>
                    <a:pt x="68" y="277"/>
                  </a:lnTo>
                  <a:lnTo>
                    <a:pt x="87" y="263"/>
                  </a:lnTo>
                  <a:lnTo>
                    <a:pt x="107" y="250"/>
                  </a:lnTo>
                  <a:lnTo>
                    <a:pt x="152" y="226"/>
                  </a:lnTo>
                  <a:lnTo>
                    <a:pt x="194" y="199"/>
                  </a:lnTo>
                  <a:lnTo>
                    <a:pt x="204" y="192"/>
                  </a:lnTo>
                  <a:lnTo>
                    <a:pt x="214" y="184"/>
                  </a:lnTo>
                  <a:lnTo>
                    <a:pt x="222" y="176"/>
                  </a:lnTo>
                  <a:lnTo>
                    <a:pt x="230" y="167"/>
                  </a:lnTo>
                  <a:lnTo>
                    <a:pt x="238" y="158"/>
                  </a:lnTo>
                  <a:lnTo>
                    <a:pt x="245" y="148"/>
                  </a:lnTo>
                  <a:lnTo>
                    <a:pt x="251" y="137"/>
                  </a:lnTo>
                  <a:lnTo>
                    <a:pt x="257" y="124"/>
                  </a:lnTo>
                  <a:lnTo>
                    <a:pt x="267" y="97"/>
                  </a:lnTo>
                  <a:lnTo>
                    <a:pt x="277" y="75"/>
                  </a:lnTo>
                  <a:lnTo>
                    <a:pt x="286" y="56"/>
                  </a:lnTo>
                  <a:lnTo>
                    <a:pt x="294" y="41"/>
                  </a:lnTo>
                  <a:lnTo>
                    <a:pt x="302" y="30"/>
                  </a:lnTo>
                  <a:lnTo>
                    <a:pt x="311" y="21"/>
                  </a:lnTo>
                  <a:lnTo>
                    <a:pt x="319" y="14"/>
                  </a:lnTo>
                  <a:lnTo>
                    <a:pt x="329" y="10"/>
                  </a:lnTo>
                  <a:lnTo>
                    <a:pt x="340" y="7"/>
                  </a:lnTo>
                  <a:lnTo>
                    <a:pt x="351" y="5"/>
                  </a:lnTo>
                  <a:lnTo>
                    <a:pt x="365" y="5"/>
                  </a:lnTo>
                  <a:lnTo>
                    <a:pt x="382" y="4"/>
                  </a:lnTo>
                  <a:lnTo>
                    <a:pt x="421" y="4"/>
                  </a:lnTo>
                  <a:lnTo>
                    <a:pt x="473" y="0"/>
                  </a:lnTo>
                  <a:lnTo>
                    <a:pt x="481" y="2"/>
                  </a:lnTo>
                  <a:lnTo>
                    <a:pt x="492" y="5"/>
                  </a:lnTo>
                  <a:lnTo>
                    <a:pt x="501" y="10"/>
                  </a:lnTo>
                  <a:lnTo>
                    <a:pt x="513" y="16"/>
                  </a:lnTo>
                  <a:lnTo>
                    <a:pt x="535" y="31"/>
                  </a:lnTo>
                  <a:lnTo>
                    <a:pt x="557" y="49"/>
                  </a:lnTo>
                  <a:lnTo>
                    <a:pt x="580" y="68"/>
                  </a:lnTo>
                  <a:lnTo>
                    <a:pt x="603" y="86"/>
                  </a:lnTo>
                  <a:lnTo>
                    <a:pt x="613" y="94"/>
                  </a:lnTo>
                  <a:lnTo>
                    <a:pt x="624" y="101"/>
                  </a:lnTo>
                  <a:lnTo>
                    <a:pt x="633" y="107"/>
                  </a:lnTo>
                  <a:lnTo>
                    <a:pt x="642" y="110"/>
                  </a:lnTo>
                  <a:lnTo>
                    <a:pt x="647" y="113"/>
                  </a:lnTo>
                  <a:lnTo>
                    <a:pt x="649" y="115"/>
                  </a:lnTo>
                  <a:lnTo>
                    <a:pt x="652" y="118"/>
                  </a:lnTo>
                  <a:lnTo>
                    <a:pt x="654" y="123"/>
                  </a:lnTo>
                  <a:lnTo>
                    <a:pt x="654" y="129"/>
                  </a:lnTo>
                  <a:lnTo>
                    <a:pt x="655" y="135"/>
                  </a:lnTo>
                  <a:lnTo>
                    <a:pt x="654" y="141"/>
                  </a:lnTo>
                  <a:lnTo>
                    <a:pt x="653" y="149"/>
                  </a:lnTo>
                  <a:lnTo>
                    <a:pt x="649" y="164"/>
                  </a:lnTo>
                  <a:lnTo>
                    <a:pt x="642" y="181"/>
                  </a:lnTo>
                  <a:lnTo>
                    <a:pt x="634" y="201"/>
                  </a:lnTo>
                  <a:lnTo>
                    <a:pt x="624" y="221"/>
                  </a:lnTo>
                  <a:lnTo>
                    <a:pt x="611" y="241"/>
                  </a:lnTo>
                  <a:lnTo>
                    <a:pt x="597" y="261"/>
                  </a:lnTo>
                  <a:lnTo>
                    <a:pt x="580" y="281"/>
                  </a:lnTo>
                  <a:lnTo>
                    <a:pt x="564" y="299"/>
                  </a:lnTo>
                  <a:lnTo>
                    <a:pt x="545" y="317"/>
                  </a:lnTo>
                  <a:lnTo>
                    <a:pt x="527" y="332"/>
                  </a:lnTo>
                  <a:lnTo>
                    <a:pt x="517" y="339"/>
                  </a:lnTo>
                  <a:lnTo>
                    <a:pt x="507" y="345"/>
                  </a:lnTo>
                  <a:lnTo>
                    <a:pt x="497" y="351"/>
                  </a:lnTo>
                  <a:lnTo>
                    <a:pt x="487" y="355"/>
                  </a:lnTo>
                  <a:lnTo>
                    <a:pt x="467" y="362"/>
                  </a:lnTo>
                  <a:lnTo>
                    <a:pt x="446" y="369"/>
                  </a:lnTo>
                  <a:lnTo>
                    <a:pt x="424" y="375"/>
                  </a:lnTo>
                  <a:lnTo>
                    <a:pt x="403" y="380"/>
                  </a:lnTo>
                  <a:lnTo>
                    <a:pt x="379" y="385"/>
                  </a:lnTo>
                  <a:lnTo>
                    <a:pt x="357" y="389"/>
                  </a:lnTo>
                  <a:lnTo>
                    <a:pt x="335" y="395"/>
                  </a:lnTo>
                  <a:lnTo>
                    <a:pt x="313" y="402"/>
                  </a:lnTo>
                  <a:lnTo>
                    <a:pt x="291" y="410"/>
                  </a:lnTo>
                  <a:lnTo>
                    <a:pt x="268" y="421"/>
                  </a:lnTo>
                  <a:lnTo>
                    <a:pt x="257" y="427"/>
                  </a:lnTo>
                  <a:lnTo>
                    <a:pt x="246" y="433"/>
                  </a:lnTo>
                  <a:lnTo>
                    <a:pt x="236" y="440"/>
                  </a:lnTo>
                  <a:lnTo>
                    <a:pt x="225" y="448"/>
                  </a:lnTo>
                  <a:lnTo>
                    <a:pt x="215" y="457"/>
                  </a:lnTo>
                  <a:lnTo>
                    <a:pt x="204" y="466"/>
                  </a:lnTo>
                  <a:lnTo>
                    <a:pt x="195" y="476"/>
                  </a:lnTo>
                  <a:lnTo>
                    <a:pt x="184" y="487"/>
                  </a:lnTo>
                  <a:lnTo>
                    <a:pt x="175" y="499"/>
                  </a:lnTo>
                  <a:lnTo>
                    <a:pt x="166" y="513"/>
                  </a:lnTo>
                  <a:lnTo>
                    <a:pt x="156" y="527"/>
                  </a:lnTo>
                  <a:lnTo>
                    <a:pt x="147" y="542"/>
                  </a:lnTo>
                  <a:lnTo>
                    <a:pt x="142" y="552"/>
                  </a:lnTo>
                  <a:lnTo>
                    <a:pt x="136" y="559"/>
                  </a:lnTo>
                  <a:lnTo>
                    <a:pt x="131" y="567"/>
                  </a:lnTo>
                  <a:lnTo>
                    <a:pt x="125" y="573"/>
                  </a:lnTo>
                  <a:lnTo>
                    <a:pt x="118" y="579"/>
                  </a:lnTo>
                  <a:lnTo>
                    <a:pt x="111" y="583"/>
                  </a:lnTo>
                  <a:lnTo>
                    <a:pt x="104" y="587"/>
                  </a:lnTo>
                  <a:lnTo>
                    <a:pt x="97" y="590"/>
                  </a:lnTo>
                  <a:lnTo>
                    <a:pt x="90" y="593"/>
                  </a:lnTo>
                  <a:lnTo>
                    <a:pt x="83" y="594"/>
                  </a:lnTo>
                  <a:lnTo>
                    <a:pt x="76" y="595"/>
                  </a:lnTo>
                  <a:lnTo>
                    <a:pt x="69" y="595"/>
                  </a:lnTo>
                  <a:lnTo>
                    <a:pt x="62" y="594"/>
                  </a:lnTo>
                  <a:lnTo>
                    <a:pt x="55" y="593"/>
                  </a:lnTo>
                  <a:lnTo>
                    <a:pt x="48" y="589"/>
                  </a:lnTo>
                  <a:lnTo>
                    <a:pt x="41" y="587"/>
                  </a:lnTo>
                  <a:lnTo>
                    <a:pt x="35" y="582"/>
                  </a:lnTo>
                  <a:lnTo>
                    <a:pt x="29" y="577"/>
                  </a:lnTo>
                  <a:lnTo>
                    <a:pt x="23" y="572"/>
                  </a:lnTo>
                  <a:lnTo>
                    <a:pt x="18" y="565"/>
                  </a:lnTo>
                  <a:lnTo>
                    <a:pt x="14" y="558"/>
                  </a:lnTo>
                  <a:lnTo>
                    <a:pt x="10" y="548"/>
                  </a:lnTo>
                  <a:lnTo>
                    <a:pt x="7" y="540"/>
                  </a:lnTo>
                  <a:lnTo>
                    <a:pt x="3" y="530"/>
                  </a:lnTo>
                  <a:lnTo>
                    <a:pt x="1" y="519"/>
                  </a:lnTo>
                  <a:lnTo>
                    <a:pt x="0" y="507"/>
                  </a:lnTo>
                  <a:lnTo>
                    <a:pt x="0" y="494"/>
                  </a:lnTo>
                  <a:lnTo>
                    <a:pt x="0" y="480"/>
                  </a:lnTo>
                  <a:lnTo>
                    <a:pt x="0" y="466"/>
                  </a:lnTo>
                  <a:lnTo>
                    <a:pt x="2" y="451"/>
                  </a:lnTo>
                  <a:lnTo>
                    <a:pt x="4" y="435"/>
                  </a:lnTo>
                  <a:lnTo>
                    <a:pt x="9" y="4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80"/>
            <p:cNvSpPr/>
            <p:nvPr/>
          </p:nvSpPr>
          <p:spPr>
            <a:xfrm>
              <a:off x="6278400" y="6166080"/>
              <a:ext cx="99360" cy="968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55" h="595">
                  <a:moveTo>
                    <a:pt x="9" y="419"/>
                  </a:moveTo>
                  <a:lnTo>
                    <a:pt x="8" y="401"/>
                  </a:lnTo>
                  <a:lnTo>
                    <a:pt x="9" y="386"/>
                  </a:lnTo>
                  <a:lnTo>
                    <a:pt x="10" y="371"/>
                  </a:lnTo>
                  <a:lnTo>
                    <a:pt x="13" y="358"/>
                  </a:lnTo>
                  <a:lnTo>
                    <a:pt x="17" y="345"/>
                  </a:lnTo>
                  <a:lnTo>
                    <a:pt x="22" y="333"/>
                  </a:lnTo>
                  <a:lnTo>
                    <a:pt x="28" y="322"/>
                  </a:lnTo>
                  <a:lnTo>
                    <a:pt x="34" y="312"/>
                  </a:lnTo>
                  <a:lnTo>
                    <a:pt x="42" y="303"/>
                  </a:lnTo>
                  <a:lnTo>
                    <a:pt x="49" y="294"/>
                  </a:lnTo>
                  <a:lnTo>
                    <a:pt x="58" y="285"/>
                  </a:lnTo>
                  <a:lnTo>
                    <a:pt x="68" y="277"/>
                  </a:lnTo>
                  <a:lnTo>
                    <a:pt x="87" y="263"/>
                  </a:lnTo>
                  <a:lnTo>
                    <a:pt x="107" y="250"/>
                  </a:lnTo>
                  <a:lnTo>
                    <a:pt x="152" y="226"/>
                  </a:lnTo>
                  <a:lnTo>
                    <a:pt x="194" y="199"/>
                  </a:lnTo>
                  <a:lnTo>
                    <a:pt x="204" y="192"/>
                  </a:lnTo>
                  <a:lnTo>
                    <a:pt x="214" y="184"/>
                  </a:lnTo>
                  <a:lnTo>
                    <a:pt x="222" y="176"/>
                  </a:lnTo>
                  <a:lnTo>
                    <a:pt x="230" y="167"/>
                  </a:lnTo>
                  <a:lnTo>
                    <a:pt x="238" y="158"/>
                  </a:lnTo>
                  <a:lnTo>
                    <a:pt x="245" y="148"/>
                  </a:lnTo>
                  <a:lnTo>
                    <a:pt x="251" y="137"/>
                  </a:lnTo>
                  <a:lnTo>
                    <a:pt x="257" y="124"/>
                  </a:lnTo>
                  <a:lnTo>
                    <a:pt x="267" y="97"/>
                  </a:lnTo>
                  <a:lnTo>
                    <a:pt x="277" y="75"/>
                  </a:lnTo>
                  <a:lnTo>
                    <a:pt x="286" y="56"/>
                  </a:lnTo>
                  <a:lnTo>
                    <a:pt x="294" y="41"/>
                  </a:lnTo>
                  <a:lnTo>
                    <a:pt x="302" y="30"/>
                  </a:lnTo>
                  <a:lnTo>
                    <a:pt x="311" y="21"/>
                  </a:lnTo>
                  <a:lnTo>
                    <a:pt x="319" y="14"/>
                  </a:lnTo>
                  <a:lnTo>
                    <a:pt x="329" y="10"/>
                  </a:lnTo>
                  <a:lnTo>
                    <a:pt x="340" y="7"/>
                  </a:lnTo>
                  <a:lnTo>
                    <a:pt x="351" y="5"/>
                  </a:lnTo>
                  <a:lnTo>
                    <a:pt x="365" y="5"/>
                  </a:lnTo>
                  <a:lnTo>
                    <a:pt x="382" y="4"/>
                  </a:lnTo>
                  <a:lnTo>
                    <a:pt x="421" y="4"/>
                  </a:lnTo>
                  <a:lnTo>
                    <a:pt x="473" y="0"/>
                  </a:lnTo>
                  <a:lnTo>
                    <a:pt x="481" y="2"/>
                  </a:lnTo>
                  <a:lnTo>
                    <a:pt x="492" y="5"/>
                  </a:lnTo>
                  <a:lnTo>
                    <a:pt x="501" y="10"/>
                  </a:lnTo>
                  <a:lnTo>
                    <a:pt x="513" y="16"/>
                  </a:lnTo>
                  <a:lnTo>
                    <a:pt x="535" y="31"/>
                  </a:lnTo>
                  <a:lnTo>
                    <a:pt x="557" y="49"/>
                  </a:lnTo>
                  <a:lnTo>
                    <a:pt x="580" y="68"/>
                  </a:lnTo>
                  <a:lnTo>
                    <a:pt x="603" y="86"/>
                  </a:lnTo>
                  <a:lnTo>
                    <a:pt x="613" y="94"/>
                  </a:lnTo>
                  <a:lnTo>
                    <a:pt x="624" y="101"/>
                  </a:lnTo>
                  <a:lnTo>
                    <a:pt x="633" y="107"/>
                  </a:lnTo>
                  <a:lnTo>
                    <a:pt x="642" y="110"/>
                  </a:lnTo>
                  <a:lnTo>
                    <a:pt x="647" y="113"/>
                  </a:lnTo>
                  <a:lnTo>
                    <a:pt x="649" y="115"/>
                  </a:lnTo>
                  <a:lnTo>
                    <a:pt x="652" y="118"/>
                  </a:lnTo>
                  <a:lnTo>
                    <a:pt x="654" y="123"/>
                  </a:lnTo>
                  <a:lnTo>
                    <a:pt x="654" y="129"/>
                  </a:lnTo>
                  <a:lnTo>
                    <a:pt x="655" y="135"/>
                  </a:lnTo>
                  <a:lnTo>
                    <a:pt x="654" y="141"/>
                  </a:lnTo>
                  <a:lnTo>
                    <a:pt x="653" y="149"/>
                  </a:lnTo>
                  <a:lnTo>
                    <a:pt x="649" y="164"/>
                  </a:lnTo>
                  <a:lnTo>
                    <a:pt x="642" y="181"/>
                  </a:lnTo>
                  <a:lnTo>
                    <a:pt x="634" y="201"/>
                  </a:lnTo>
                  <a:lnTo>
                    <a:pt x="624" y="221"/>
                  </a:lnTo>
                  <a:lnTo>
                    <a:pt x="611" y="241"/>
                  </a:lnTo>
                  <a:lnTo>
                    <a:pt x="597" y="261"/>
                  </a:lnTo>
                  <a:lnTo>
                    <a:pt x="580" y="281"/>
                  </a:lnTo>
                  <a:lnTo>
                    <a:pt x="564" y="299"/>
                  </a:lnTo>
                  <a:lnTo>
                    <a:pt x="545" y="317"/>
                  </a:lnTo>
                  <a:lnTo>
                    <a:pt x="527" y="332"/>
                  </a:lnTo>
                  <a:lnTo>
                    <a:pt x="517" y="339"/>
                  </a:lnTo>
                  <a:lnTo>
                    <a:pt x="507" y="345"/>
                  </a:lnTo>
                  <a:lnTo>
                    <a:pt x="497" y="351"/>
                  </a:lnTo>
                  <a:lnTo>
                    <a:pt x="487" y="355"/>
                  </a:lnTo>
                  <a:lnTo>
                    <a:pt x="467" y="362"/>
                  </a:lnTo>
                  <a:lnTo>
                    <a:pt x="446" y="369"/>
                  </a:lnTo>
                  <a:lnTo>
                    <a:pt x="424" y="375"/>
                  </a:lnTo>
                  <a:lnTo>
                    <a:pt x="403" y="380"/>
                  </a:lnTo>
                  <a:lnTo>
                    <a:pt x="379" y="385"/>
                  </a:lnTo>
                  <a:lnTo>
                    <a:pt x="357" y="389"/>
                  </a:lnTo>
                  <a:lnTo>
                    <a:pt x="335" y="395"/>
                  </a:lnTo>
                  <a:lnTo>
                    <a:pt x="313" y="402"/>
                  </a:lnTo>
                  <a:lnTo>
                    <a:pt x="291" y="410"/>
                  </a:lnTo>
                  <a:lnTo>
                    <a:pt x="268" y="421"/>
                  </a:lnTo>
                  <a:lnTo>
                    <a:pt x="257" y="427"/>
                  </a:lnTo>
                  <a:lnTo>
                    <a:pt x="246" y="433"/>
                  </a:lnTo>
                  <a:lnTo>
                    <a:pt x="236" y="440"/>
                  </a:lnTo>
                  <a:lnTo>
                    <a:pt x="225" y="448"/>
                  </a:lnTo>
                  <a:lnTo>
                    <a:pt x="215" y="457"/>
                  </a:lnTo>
                  <a:lnTo>
                    <a:pt x="204" y="466"/>
                  </a:lnTo>
                  <a:lnTo>
                    <a:pt x="195" y="476"/>
                  </a:lnTo>
                  <a:lnTo>
                    <a:pt x="184" y="487"/>
                  </a:lnTo>
                  <a:lnTo>
                    <a:pt x="175" y="499"/>
                  </a:lnTo>
                  <a:lnTo>
                    <a:pt x="166" y="513"/>
                  </a:lnTo>
                  <a:lnTo>
                    <a:pt x="156" y="527"/>
                  </a:lnTo>
                  <a:lnTo>
                    <a:pt x="147" y="542"/>
                  </a:lnTo>
                  <a:lnTo>
                    <a:pt x="142" y="552"/>
                  </a:lnTo>
                  <a:lnTo>
                    <a:pt x="136" y="559"/>
                  </a:lnTo>
                  <a:lnTo>
                    <a:pt x="131" y="567"/>
                  </a:lnTo>
                  <a:lnTo>
                    <a:pt x="125" y="573"/>
                  </a:lnTo>
                  <a:lnTo>
                    <a:pt x="118" y="579"/>
                  </a:lnTo>
                  <a:lnTo>
                    <a:pt x="111" y="583"/>
                  </a:lnTo>
                  <a:lnTo>
                    <a:pt x="104" y="587"/>
                  </a:lnTo>
                  <a:lnTo>
                    <a:pt x="97" y="590"/>
                  </a:lnTo>
                  <a:lnTo>
                    <a:pt x="90" y="593"/>
                  </a:lnTo>
                  <a:lnTo>
                    <a:pt x="83" y="594"/>
                  </a:lnTo>
                  <a:lnTo>
                    <a:pt x="76" y="595"/>
                  </a:lnTo>
                  <a:lnTo>
                    <a:pt x="69" y="595"/>
                  </a:lnTo>
                  <a:lnTo>
                    <a:pt x="62" y="594"/>
                  </a:lnTo>
                  <a:lnTo>
                    <a:pt x="55" y="593"/>
                  </a:lnTo>
                  <a:lnTo>
                    <a:pt x="48" y="589"/>
                  </a:lnTo>
                  <a:lnTo>
                    <a:pt x="41" y="587"/>
                  </a:lnTo>
                  <a:lnTo>
                    <a:pt x="35" y="582"/>
                  </a:lnTo>
                  <a:lnTo>
                    <a:pt x="29" y="577"/>
                  </a:lnTo>
                  <a:lnTo>
                    <a:pt x="23" y="572"/>
                  </a:lnTo>
                  <a:lnTo>
                    <a:pt x="18" y="565"/>
                  </a:lnTo>
                  <a:lnTo>
                    <a:pt x="14" y="558"/>
                  </a:lnTo>
                  <a:lnTo>
                    <a:pt x="10" y="548"/>
                  </a:lnTo>
                  <a:lnTo>
                    <a:pt x="7" y="540"/>
                  </a:lnTo>
                  <a:lnTo>
                    <a:pt x="3" y="530"/>
                  </a:lnTo>
                  <a:lnTo>
                    <a:pt x="1" y="519"/>
                  </a:lnTo>
                  <a:lnTo>
                    <a:pt x="0" y="507"/>
                  </a:lnTo>
                  <a:lnTo>
                    <a:pt x="0" y="494"/>
                  </a:lnTo>
                  <a:lnTo>
                    <a:pt x="0" y="480"/>
                  </a:lnTo>
                  <a:lnTo>
                    <a:pt x="0" y="466"/>
                  </a:lnTo>
                  <a:lnTo>
                    <a:pt x="2" y="451"/>
                  </a:lnTo>
                  <a:lnTo>
                    <a:pt x="4" y="435"/>
                  </a:lnTo>
                  <a:lnTo>
                    <a:pt x="9" y="41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81"/>
            <p:cNvSpPr/>
            <p:nvPr/>
          </p:nvSpPr>
          <p:spPr>
            <a:xfrm>
              <a:off x="6291000" y="6107400"/>
              <a:ext cx="61560" cy="266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6" h="160">
                  <a:moveTo>
                    <a:pt x="372" y="127"/>
                  </a:moveTo>
                  <a:lnTo>
                    <a:pt x="364" y="132"/>
                  </a:lnTo>
                  <a:lnTo>
                    <a:pt x="353" y="137"/>
                  </a:lnTo>
                  <a:lnTo>
                    <a:pt x="340" y="142"/>
                  </a:lnTo>
                  <a:lnTo>
                    <a:pt x="326" y="146"/>
                  </a:lnTo>
                  <a:lnTo>
                    <a:pt x="311" y="150"/>
                  </a:lnTo>
                  <a:lnTo>
                    <a:pt x="295" y="153"/>
                  </a:lnTo>
                  <a:lnTo>
                    <a:pt x="278" y="156"/>
                  </a:lnTo>
                  <a:lnTo>
                    <a:pt x="262" y="158"/>
                  </a:lnTo>
                  <a:lnTo>
                    <a:pt x="246" y="160"/>
                  </a:lnTo>
                  <a:lnTo>
                    <a:pt x="230" y="160"/>
                  </a:lnTo>
                  <a:lnTo>
                    <a:pt x="215" y="160"/>
                  </a:lnTo>
                  <a:lnTo>
                    <a:pt x="202" y="158"/>
                  </a:lnTo>
                  <a:lnTo>
                    <a:pt x="191" y="156"/>
                  </a:lnTo>
                  <a:lnTo>
                    <a:pt x="181" y="154"/>
                  </a:lnTo>
                  <a:lnTo>
                    <a:pt x="178" y="151"/>
                  </a:lnTo>
                  <a:lnTo>
                    <a:pt x="174" y="149"/>
                  </a:lnTo>
                  <a:lnTo>
                    <a:pt x="172" y="147"/>
                  </a:lnTo>
                  <a:lnTo>
                    <a:pt x="171" y="144"/>
                  </a:lnTo>
                  <a:lnTo>
                    <a:pt x="167" y="137"/>
                  </a:lnTo>
                  <a:lnTo>
                    <a:pt x="163" y="132"/>
                  </a:lnTo>
                  <a:lnTo>
                    <a:pt x="158" y="126"/>
                  </a:lnTo>
                  <a:lnTo>
                    <a:pt x="153" y="121"/>
                  </a:lnTo>
                  <a:lnTo>
                    <a:pt x="142" y="112"/>
                  </a:lnTo>
                  <a:lnTo>
                    <a:pt x="130" y="104"/>
                  </a:lnTo>
                  <a:lnTo>
                    <a:pt x="116" y="98"/>
                  </a:lnTo>
                  <a:lnTo>
                    <a:pt x="102" y="92"/>
                  </a:lnTo>
                  <a:lnTo>
                    <a:pt x="87" y="88"/>
                  </a:lnTo>
                  <a:lnTo>
                    <a:pt x="73" y="85"/>
                  </a:lnTo>
                  <a:lnTo>
                    <a:pt x="46" y="81"/>
                  </a:lnTo>
                  <a:lnTo>
                    <a:pt x="22" y="80"/>
                  </a:lnTo>
                  <a:lnTo>
                    <a:pt x="6" y="80"/>
                  </a:lnTo>
                  <a:lnTo>
                    <a:pt x="0" y="80"/>
                  </a:lnTo>
                  <a:lnTo>
                    <a:pt x="79" y="5"/>
                  </a:lnTo>
                  <a:lnTo>
                    <a:pt x="93" y="3"/>
                  </a:lnTo>
                  <a:lnTo>
                    <a:pt x="107" y="2"/>
                  </a:lnTo>
                  <a:lnTo>
                    <a:pt x="121" y="2"/>
                  </a:lnTo>
                  <a:lnTo>
                    <a:pt x="133" y="2"/>
                  </a:lnTo>
                  <a:lnTo>
                    <a:pt x="159" y="5"/>
                  </a:lnTo>
                  <a:lnTo>
                    <a:pt x="185" y="10"/>
                  </a:lnTo>
                  <a:lnTo>
                    <a:pt x="209" y="14"/>
                  </a:lnTo>
                  <a:lnTo>
                    <a:pt x="233" y="15"/>
                  </a:lnTo>
                  <a:lnTo>
                    <a:pt x="244" y="15"/>
                  </a:lnTo>
                  <a:lnTo>
                    <a:pt x="256" y="14"/>
                  </a:lnTo>
                  <a:lnTo>
                    <a:pt x="268" y="10"/>
                  </a:lnTo>
                  <a:lnTo>
                    <a:pt x="279" y="5"/>
                  </a:lnTo>
                  <a:lnTo>
                    <a:pt x="285" y="3"/>
                  </a:lnTo>
                  <a:lnTo>
                    <a:pt x="292" y="1"/>
                  </a:lnTo>
                  <a:lnTo>
                    <a:pt x="298" y="0"/>
                  </a:lnTo>
                  <a:lnTo>
                    <a:pt x="305" y="0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7" y="8"/>
                  </a:lnTo>
                  <a:lnTo>
                    <a:pt x="360" y="14"/>
                  </a:lnTo>
                  <a:lnTo>
                    <a:pt x="373" y="22"/>
                  </a:lnTo>
                  <a:lnTo>
                    <a:pt x="383" y="31"/>
                  </a:lnTo>
                  <a:lnTo>
                    <a:pt x="393" y="42"/>
                  </a:lnTo>
                  <a:lnTo>
                    <a:pt x="400" y="53"/>
                  </a:lnTo>
                  <a:lnTo>
                    <a:pt x="402" y="59"/>
                  </a:lnTo>
                  <a:lnTo>
                    <a:pt x="403" y="65"/>
                  </a:lnTo>
                  <a:lnTo>
                    <a:pt x="404" y="72"/>
                  </a:lnTo>
                  <a:lnTo>
                    <a:pt x="406" y="78"/>
                  </a:lnTo>
                  <a:lnTo>
                    <a:pt x="404" y="84"/>
                  </a:lnTo>
                  <a:lnTo>
                    <a:pt x="403" y="91"/>
                  </a:lnTo>
                  <a:lnTo>
                    <a:pt x="401" y="97"/>
                  </a:lnTo>
                  <a:lnTo>
                    <a:pt x="397" y="102"/>
                  </a:lnTo>
                  <a:lnTo>
                    <a:pt x="393" y="109"/>
                  </a:lnTo>
                  <a:lnTo>
                    <a:pt x="387" y="115"/>
                  </a:lnTo>
                  <a:lnTo>
                    <a:pt x="380" y="121"/>
                  </a:lnTo>
                  <a:lnTo>
                    <a:pt x="372" y="1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82"/>
            <p:cNvSpPr/>
            <p:nvPr/>
          </p:nvSpPr>
          <p:spPr>
            <a:xfrm>
              <a:off x="6291000" y="6107400"/>
              <a:ext cx="61560" cy="266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6" h="160">
                  <a:moveTo>
                    <a:pt x="372" y="127"/>
                  </a:moveTo>
                  <a:lnTo>
                    <a:pt x="364" y="132"/>
                  </a:lnTo>
                  <a:lnTo>
                    <a:pt x="353" y="137"/>
                  </a:lnTo>
                  <a:lnTo>
                    <a:pt x="340" y="142"/>
                  </a:lnTo>
                  <a:lnTo>
                    <a:pt x="326" y="146"/>
                  </a:lnTo>
                  <a:lnTo>
                    <a:pt x="311" y="150"/>
                  </a:lnTo>
                  <a:lnTo>
                    <a:pt x="295" y="153"/>
                  </a:lnTo>
                  <a:lnTo>
                    <a:pt x="278" y="156"/>
                  </a:lnTo>
                  <a:lnTo>
                    <a:pt x="262" y="158"/>
                  </a:lnTo>
                  <a:lnTo>
                    <a:pt x="246" y="160"/>
                  </a:lnTo>
                  <a:lnTo>
                    <a:pt x="230" y="160"/>
                  </a:lnTo>
                  <a:lnTo>
                    <a:pt x="215" y="160"/>
                  </a:lnTo>
                  <a:lnTo>
                    <a:pt x="202" y="158"/>
                  </a:lnTo>
                  <a:lnTo>
                    <a:pt x="191" y="156"/>
                  </a:lnTo>
                  <a:lnTo>
                    <a:pt x="181" y="154"/>
                  </a:lnTo>
                  <a:lnTo>
                    <a:pt x="178" y="151"/>
                  </a:lnTo>
                  <a:lnTo>
                    <a:pt x="174" y="149"/>
                  </a:lnTo>
                  <a:lnTo>
                    <a:pt x="172" y="147"/>
                  </a:lnTo>
                  <a:lnTo>
                    <a:pt x="171" y="144"/>
                  </a:lnTo>
                  <a:lnTo>
                    <a:pt x="167" y="137"/>
                  </a:lnTo>
                  <a:lnTo>
                    <a:pt x="163" y="132"/>
                  </a:lnTo>
                  <a:lnTo>
                    <a:pt x="158" y="126"/>
                  </a:lnTo>
                  <a:lnTo>
                    <a:pt x="153" y="121"/>
                  </a:lnTo>
                  <a:lnTo>
                    <a:pt x="142" y="112"/>
                  </a:lnTo>
                  <a:lnTo>
                    <a:pt x="130" y="104"/>
                  </a:lnTo>
                  <a:lnTo>
                    <a:pt x="116" y="98"/>
                  </a:lnTo>
                  <a:lnTo>
                    <a:pt x="102" y="92"/>
                  </a:lnTo>
                  <a:lnTo>
                    <a:pt x="87" y="88"/>
                  </a:lnTo>
                  <a:lnTo>
                    <a:pt x="73" y="85"/>
                  </a:lnTo>
                  <a:lnTo>
                    <a:pt x="46" y="81"/>
                  </a:lnTo>
                  <a:lnTo>
                    <a:pt x="22" y="80"/>
                  </a:lnTo>
                  <a:lnTo>
                    <a:pt x="6" y="80"/>
                  </a:lnTo>
                  <a:lnTo>
                    <a:pt x="0" y="80"/>
                  </a:lnTo>
                  <a:lnTo>
                    <a:pt x="79" y="5"/>
                  </a:lnTo>
                  <a:lnTo>
                    <a:pt x="93" y="3"/>
                  </a:lnTo>
                  <a:lnTo>
                    <a:pt x="107" y="2"/>
                  </a:lnTo>
                  <a:lnTo>
                    <a:pt x="121" y="2"/>
                  </a:lnTo>
                  <a:lnTo>
                    <a:pt x="133" y="2"/>
                  </a:lnTo>
                  <a:lnTo>
                    <a:pt x="159" y="5"/>
                  </a:lnTo>
                  <a:lnTo>
                    <a:pt x="185" y="10"/>
                  </a:lnTo>
                  <a:lnTo>
                    <a:pt x="209" y="14"/>
                  </a:lnTo>
                  <a:lnTo>
                    <a:pt x="233" y="15"/>
                  </a:lnTo>
                  <a:lnTo>
                    <a:pt x="244" y="15"/>
                  </a:lnTo>
                  <a:lnTo>
                    <a:pt x="256" y="14"/>
                  </a:lnTo>
                  <a:lnTo>
                    <a:pt x="268" y="10"/>
                  </a:lnTo>
                  <a:lnTo>
                    <a:pt x="279" y="5"/>
                  </a:lnTo>
                  <a:lnTo>
                    <a:pt x="285" y="3"/>
                  </a:lnTo>
                  <a:lnTo>
                    <a:pt x="292" y="1"/>
                  </a:lnTo>
                  <a:lnTo>
                    <a:pt x="298" y="0"/>
                  </a:lnTo>
                  <a:lnTo>
                    <a:pt x="305" y="0"/>
                  </a:lnTo>
                  <a:lnTo>
                    <a:pt x="319" y="0"/>
                  </a:lnTo>
                  <a:lnTo>
                    <a:pt x="333" y="3"/>
                  </a:lnTo>
                  <a:lnTo>
                    <a:pt x="347" y="8"/>
                  </a:lnTo>
                  <a:lnTo>
                    <a:pt x="360" y="14"/>
                  </a:lnTo>
                  <a:lnTo>
                    <a:pt x="373" y="22"/>
                  </a:lnTo>
                  <a:lnTo>
                    <a:pt x="383" y="31"/>
                  </a:lnTo>
                  <a:lnTo>
                    <a:pt x="393" y="42"/>
                  </a:lnTo>
                  <a:lnTo>
                    <a:pt x="400" y="53"/>
                  </a:lnTo>
                  <a:lnTo>
                    <a:pt x="402" y="59"/>
                  </a:lnTo>
                  <a:lnTo>
                    <a:pt x="403" y="65"/>
                  </a:lnTo>
                  <a:lnTo>
                    <a:pt x="404" y="72"/>
                  </a:lnTo>
                  <a:lnTo>
                    <a:pt x="406" y="78"/>
                  </a:lnTo>
                  <a:lnTo>
                    <a:pt x="404" y="84"/>
                  </a:lnTo>
                  <a:lnTo>
                    <a:pt x="403" y="91"/>
                  </a:lnTo>
                  <a:lnTo>
                    <a:pt x="401" y="97"/>
                  </a:lnTo>
                  <a:lnTo>
                    <a:pt x="397" y="102"/>
                  </a:lnTo>
                  <a:lnTo>
                    <a:pt x="393" y="109"/>
                  </a:lnTo>
                  <a:lnTo>
                    <a:pt x="387" y="115"/>
                  </a:lnTo>
                  <a:lnTo>
                    <a:pt x="380" y="121"/>
                  </a:lnTo>
                  <a:lnTo>
                    <a:pt x="372" y="1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83"/>
            <p:cNvSpPr/>
            <p:nvPr/>
          </p:nvSpPr>
          <p:spPr>
            <a:xfrm>
              <a:off x="6260760" y="6124680"/>
              <a:ext cx="36000" cy="136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5" h="84">
                  <a:moveTo>
                    <a:pt x="170" y="6"/>
                  </a:moveTo>
                  <a:lnTo>
                    <a:pt x="124" y="17"/>
                  </a:lnTo>
                  <a:lnTo>
                    <a:pt x="81" y="30"/>
                  </a:lnTo>
                  <a:lnTo>
                    <a:pt x="62" y="37"/>
                  </a:lnTo>
                  <a:lnTo>
                    <a:pt x="45" y="43"/>
                  </a:lnTo>
                  <a:lnTo>
                    <a:pt x="30" y="50"/>
                  </a:lnTo>
                  <a:lnTo>
                    <a:pt x="18" y="56"/>
                  </a:lnTo>
                  <a:lnTo>
                    <a:pt x="9" y="62"/>
                  </a:lnTo>
                  <a:lnTo>
                    <a:pt x="3" y="66"/>
                  </a:lnTo>
                  <a:lnTo>
                    <a:pt x="1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6"/>
                  </a:lnTo>
                  <a:lnTo>
                    <a:pt x="10" y="79"/>
                  </a:lnTo>
                  <a:lnTo>
                    <a:pt x="23" y="82"/>
                  </a:lnTo>
                  <a:lnTo>
                    <a:pt x="40" y="84"/>
                  </a:lnTo>
                  <a:lnTo>
                    <a:pt x="63" y="84"/>
                  </a:lnTo>
                  <a:lnTo>
                    <a:pt x="89" y="83"/>
                  </a:lnTo>
                  <a:lnTo>
                    <a:pt x="114" y="79"/>
                  </a:lnTo>
                  <a:lnTo>
                    <a:pt x="137" y="75"/>
                  </a:lnTo>
                  <a:lnTo>
                    <a:pt x="158" y="68"/>
                  </a:lnTo>
                  <a:lnTo>
                    <a:pt x="178" y="59"/>
                  </a:lnTo>
                  <a:lnTo>
                    <a:pt x="195" y="51"/>
                  </a:lnTo>
                  <a:lnTo>
                    <a:pt x="209" y="42"/>
                  </a:lnTo>
                  <a:lnTo>
                    <a:pt x="221" y="34"/>
                  </a:lnTo>
                  <a:lnTo>
                    <a:pt x="229" y="24"/>
                  </a:lnTo>
                  <a:lnTo>
                    <a:pt x="235" y="17"/>
                  </a:lnTo>
                  <a:lnTo>
                    <a:pt x="235" y="14"/>
                  </a:lnTo>
                  <a:lnTo>
                    <a:pt x="235" y="10"/>
                  </a:lnTo>
                  <a:lnTo>
                    <a:pt x="234" y="7"/>
                  </a:lnTo>
                  <a:lnTo>
                    <a:pt x="233" y="5"/>
                  </a:lnTo>
                  <a:lnTo>
                    <a:pt x="229" y="3"/>
                  </a:lnTo>
                  <a:lnTo>
                    <a:pt x="225" y="1"/>
                  </a:lnTo>
                  <a:lnTo>
                    <a:pt x="219" y="1"/>
                  </a:lnTo>
                  <a:lnTo>
                    <a:pt x="212" y="0"/>
                  </a:lnTo>
                  <a:lnTo>
                    <a:pt x="193" y="2"/>
                  </a:lnTo>
                  <a:lnTo>
                    <a:pt x="170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84"/>
            <p:cNvSpPr/>
            <p:nvPr/>
          </p:nvSpPr>
          <p:spPr>
            <a:xfrm>
              <a:off x="6260760" y="6124680"/>
              <a:ext cx="36000" cy="136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35" h="84">
                  <a:moveTo>
                    <a:pt x="170" y="6"/>
                  </a:moveTo>
                  <a:lnTo>
                    <a:pt x="124" y="17"/>
                  </a:lnTo>
                  <a:lnTo>
                    <a:pt x="81" y="30"/>
                  </a:lnTo>
                  <a:lnTo>
                    <a:pt x="62" y="37"/>
                  </a:lnTo>
                  <a:lnTo>
                    <a:pt x="45" y="43"/>
                  </a:lnTo>
                  <a:lnTo>
                    <a:pt x="30" y="50"/>
                  </a:lnTo>
                  <a:lnTo>
                    <a:pt x="18" y="56"/>
                  </a:lnTo>
                  <a:lnTo>
                    <a:pt x="9" y="62"/>
                  </a:lnTo>
                  <a:lnTo>
                    <a:pt x="3" y="66"/>
                  </a:lnTo>
                  <a:lnTo>
                    <a:pt x="1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6"/>
                  </a:lnTo>
                  <a:lnTo>
                    <a:pt x="10" y="79"/>
                  </a:lnTo>
                  <a:lnTo>
                    <a:pt x="23" y="82"/>
                  </a:lnTo>
                  <a:lnTo>
                    <a:pt x="40" y="84"/>
                  </a:lnTo>
                  <a:lnTo>
                    <a:pt x="63" y="84"/>
                  </a:lnTo>
                  <a:lnTo>
                    <a:pt x="89" y="83"/>
                  </a:lnTo>
                  <a:lnTo>
                    <a:pt x="114" y="79"/>
                  </a:lnTo>
                  <a:lnTo>
                    <a:pt x="137" y="75"/>
                  </a:lnTo>
                  <a:lnTo>
                    <a:pt x="158" y="68"/>
                  </a:lnTo>
                  <a:lnTo>
                    <a:pt x="178" y="59"/>
                  </a:lnTo>
                  <a:lnTo>
                    <a:pt x="195" y="51"/>
                  </a:lnTo>
                  <a:lnTo>
                    <a:pt x="209" y="42"/>
                  </a:lnTo>
                  <a:lnTo>
                    <a:pt x="221" y="34"/>
                  </a:lnTo>
                  <a:lnTo>
                    <a:pt x="229" y="24"/>
                  </a:lnTo>
                  <a:lnTo>
                    <a:pt x="235" y="17"/>
                  </a:lnTo>
                  <a:lnTo>
                    <a:pt x="235" y="14"/>
                  </a:lnTo>
                  <a:lnTo>
                    <a:pt x="235" y="10"/>
                  </a:lnTo>
                  <a:lnTo>
                    <a:pt x="234" y="7"/>
                  </a:lnTo>
                  <a:lnTo>
                    <a:pt x="233" y="5"/>
                  </a:lnTo>
                  <a:lnTo>
                    <a:pt x="229" y="3"/>
                  </a:lnTo>
                  <a:lnTo>
                    <a:pt x="225" y="1"/>
                  </a:lnTo>
                  <a:lnTo>
                    <a:pt x="219" y="1"/>
                  </a:lnTo>
                  <a:lnTo>
                    <a:pt x="212" y="0"/>
                  </a:lnTo>
                  <a:lnTo>
                    <a:pt x="193" y="2"/>
                  </a:lnTo>
                  <a:lnTo>
                    <a:pt x="170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85"/>
            <p:cNvSpPr/>
            <p:nvPr/>
          </p:nvSpPr>
          <p:spPr>
            <a:xfrm>
              <a:off x="6257880" y="6094440"/>
              <a:ext cx="42840" cy="2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84" h="167">
                  <a:moveTo>
                    <a:pt x="23" y="152"/>
                  </a:moveTo>
                  <a:lnTo>
                    <a:pt x="32" y="158"/>
                  </a:lnTo>
                  <a:lnTo>
                    <a:pt x="41" y="162"/>
                  </a:lnTo>
                  <a:lnTo>
                    <a:pt x="49" y="165"/>
                  </a:lnTo>
                  <a:lnTo>
                    <a:pt x="57" y="166"/>
                  </a:lnTo>
                  <a:lnTo>
                    <a:pt x="65" y="167"/>
                  </a:lnTo>
                  <a:lnTo>
                    <a:pt x="74" y="166"/>
                  </a:lnTo>
                  <a:lnTo>
                    <a:pt x="82" y="165"/>
                  </a:lnTo>
                  <a:lnTo>
                    <a:pt x="90" y="164"/>
                  </a:lnTo>
                  <a:lnTo>
                    <a:pt x="105" y="157"/>
                  </a:lnTo>
                  <a:lnTo>
                    <a:pt x="119" y="149"/>
                  </a:lnTo>
                  <a:lnTo>
                    <a:pt x="133" y="139"/>
                  </a:lnTo>
                  <a:lnTo>
                    <a:pt x="146" y="129"/>
                  </a:lnTo>
                  <a:lnTo>
                    <a:pt x="168" y="108"/>
                  </a:lnTo>
                  <a:lnTo>
                    <a:pt x="187" y="91"/>
                  </a:lnTo>
                  <a:lnTo>
                    <a:pt x="195" y="86"/>
                  </a:lnTo>
                  <a:lnTo>
                    <a:pt x="201" y="84"/>
                  </a:lnTo>
                  <a:lnTo>
                    <a:pt x="204" y="84"/>
                  </a:lnTo>
                  <a:lnTo>
                    <a:pt x="207" y="86"/>
                  </a:lnTo>
                  <a:lnTo>
                    <a:pt x="208" y="88"/>
                  </a:lnTo>
                  <a:lnTo>
                    <a:pt x="210" y="91"/>
                  </a:lnTo>
                  <a:lnTo>
                    <a:pt x="211" y="96"/>
                  </a:lnTo>
                  <a:lnTo>
                    <a:pt x="214" y="98"/>
                  </a:lnTo>
                  <a:lnTo>
                    <a:pt x="217" y="101"/>
                  </a:lnTo>
                  <a:lnTo>
                    <a:pt x="220" y="101"/>
                  </a:lnTo>
                  <a:lnTo>
                    <a:pt x="223" y="102"/>
                  </a:lnTo>
                  <a:lnTo>
                    <a:pt x="228" y="101"/>
                  </a:lnTo>
                  <a:lnTo>
                    <a:pt x="231" y="100"/>
                  </a:lnTo>
                  <a:lnTo>
                    <a:pt x="236" y="97"/>
                  </a:lnTo>
                  <a:lnTo>
                    <a:pt x="245" y="91"/>
                  </a:lnTo>
                  <a:lnTo>
                    <a:pt x="255" y="83"/>
                  </a:lnTo>
                  <a:lnTo>
                    <a:pt x="263" y="74"/>
                  </a:lnTo>
                  <a:lnTo>
                    <a:pt x="271" y="63"/>
                  </a:lnTo>
                  <a:lnTo>
                    <a:pt x="277" y="52"/>
                  </a:lnTo>
                  <a:lnTo>
                    <a:pt x="281" y="41"/>
                  </a:lnTo>
                  <a:lnTo>
                    <a:pt x="283" y="35"/>
                  </a:lnTo>
                  <a:lnTo>
                    <a:pt x="284" y="31"/>
                  </a:lnTo>
                  <a:lnTo>
                    <a:pt x="284" y="26"/>
                  </a:lnTo>
                  <a:lnTo>
                    <a:pt x="283" y="20"/>
                  </a:lnTo>
                  <a:lnTo>
                    <a:pt x="280" y="17"/>
                  </a:lnTo>
                  <a:lnTo>
                    <a:pt x="278" y="12"/>
                  </a:lnTo>
                  <a:lnTo>
                    <a:pt x="274" y="9"/>
                  </a:lnTo>
                  <a:lnTo>
                    <a:pt x="270" y="6"/>
                  </a:lnTo>
                  <a:lnTo>
                    <a:pt x="264" y="4"/>
                  </a:lnTo>
                  <a:lnTo>
                    <a:pt x="257" y="2"/>
                  </a:lnTo>
                  <a:lnTo>
                    <a:pt x="249" y="0"/>
                  </a:lnTo>
                  <a:lnTo>
                    <a:pt x="239" y="0"/>
                  </a:lnTo>
                  <a:lnTo>
                    <a:pt x="218" y="0"/>
                  </a:lnTo>
                  <a:lnTo>
                    <a:pt x="195" y="4"/>
                  </a:lnTo>
                  <a:lnTo>
                    <a:pt x="172" y="9"/>
                  </a:lnTo>
                  <a:lnTo>
                    <a:pt x="147" y="16"/>
                  </a:lnTo>
                  <a:lnTo>
                    <a:pt x="123" y="23"/>
                  </a:lnTo>
                  <a:lnTo>
                    <a:pt x="99" y="32"/>
                  </a:lnTo>
                  <a:lnTo>
                    <a:pt x="77" y="42"/>
                  </a:lnTo>
                  <a:lnTo>
                    <a:pt x="56" y="54"/>
                  </a:lnTo>
                  <a:lnTo>
                    <a:pt x="39" y="66"/>
                  </a:lnTo>
                  <a:lnTo>
                    <a:pt x="22" y="77"/>
                  </a:lnTo>
                  <a:lnTo>
                    <a:pt x="16" y="84"/>
                  </a:lnTo>
                  <a:lnTo>
                    <a:pt x="10" y="90"/>
                  </a:lnTo>
                  <a:lnTo>
                    <a:pt x="6" y="97"/>
                  </a:lnTo>
                  <a:lnTo>
                    <a:pt x="2" y="103"/>
                  </a:lnTo>
                  <a:lnTo>
                    <a:pt x="1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1" y="129"/>
                  </a:lnTo>
                  <a:lnTo>
                    <a:pt x="5" y="135"/>
                  </a:lnTo>
                  <a:lnTo>
                    <a:pt x="9" y="141"/>
                  </a:lnTo>
                  <a:lnTo>
                    <a:pt x="15" y="146"/>
                  </a:lnTo>
                  <a:lnTo>
                    <a:pt x="23" y="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86"/>
            <p:cNvSpPr/>
            <p:nvPr/>
          </p:nvSpPr>
          <p:spPr>
            <a:xfrm>
              <a:off x="6257880" y="6094440"/>
              <a:ext cx="42840" cy="2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84" h="167">
                  <a:moveTo>
                    <a:pt x="23" y="152"/>
                  </a:moveTo>
                  <a:lnTo>
                    <a:pt x="32" y="158"/>
                  </a:lnTo>
                  <a:lnTo>
                    <a:pt x="41" y="162"/>
                  </a:lnTo>
                  <a:lnTo>
                    <a:pt x="49" y="165"/>
                  </a:lnTo>
                  <a:lnTo>
                    <a:pt x="57" y="166"/>
                  </a:lnTo>
                  <a:lnTo>
                    <a:pt x="65" y="167"/>
                  </a:lnTo>
                  <a:lnTo>
                    <a:pt x="74" y="166"/>
                  </a:lnTo>
                  <a:lnTo>
                    <a:pt x="82" y="165"/>
                  </a:lnTo>
                  <a:lnTo>
                    <a:pt x="90" y="164"/>
                  </a:lnTo>
                  <a:lnTo>
                    <a:pt x="105" y="157"/>
                  </a:lnTo>
                  <a:lnTo>
                    <a:pt x="119" y="149"/>
                  </a:lnTo>
                  <a:lnTo>
                    <a:pt x="133" y="139"/>
                  </a:lnTo>
                  <a:lnTo>
                    <a:pt x="146" y="129"/>
                  </a:lnTo>
                  <a:lnTo>
                    <a:pt x="168" y="108"/>
                  </a:lnTo>
                  <a:lnTo>
                    <a:pt x="187" y="91"/>
                  </a:lnTo>
                  <a:lnTo>
                    <a:pt x="195" y="86"/>
                  </a:lnTo>
                  <a:lnTo>
                    <a:pt x="201" y="84"/>
                  </a:lnTo>
                  <a:lnTo>
                    <a:pt x="204" y="84"/>
                  </a:lnTo>
                  <a:lnTo>
                    <a:pt x="207" y="86"/>
                  </a:lnTo>
                  <a:lnTo>
                    <a:pt x="208" y="88"/>
                  </a:lnTo>
                  <a:lnTo>
                    <a:pt x="210" y="91"/>
                  </a:lnTo>
                  <a:lnTo>
                    <a:pt x="211" y="96"/>
                  </a:lnTo>
                  <a:lnTo>
                    <a:pt x="214" y="98"/>
                  </a:lnTo>
                  <a:lnTo>
                    <a:pt x="217" y="101"/>
                  </a:lnTo>
                  <a:lnTo>
                    <a:pt x="220" y="101"/>
                  </a:lnTo>
                  <a:lnTo>
                    <a:pt x="223" y="102"/>
                  </a:lnTo>
                  <a:lnTo>
                    <a:pt x="228" y="101"/>
                  </a:lnTo>
                  <a:lnTo>
                    <a:pt x="231" y="100"/>
                  </a:lnTo>
                  <a:lnTo>
                    <a:pt x="236" y="97"/>
                  </a:lnTo>
                  <a:lnTo>
                    <a:pt x="245" y="91"/>
                  </a:lnTo>
                  <a:lnTo>
                    <a:pt x="255" y="83"/>
                  </a:lnTo>
                  <a:lnTo>
                    <a:pt x="263" y="74"/>
                  </a:lnTo>
                  <a:lnTo>
                    <a:pt x="271" y="63"/>
                  </a:lnTo>
                  <a:lnTo>
                    <a:pt x="277" y="52"/>
                  </a:lnTo>
                  <a:lnTo>
                    <a:pt x="281" y="41"/>
                  </a:lnTo>
                  <a:lnTo>
                    <a:pt x="283" y="35"/>
                  </a:lnTo>
                  <a:lnTo>
                    <a:pt x="284" y="31"/>
                  </a:lnTo>
                  <a:lnTo>
                    <a:pt x="284" y="26"/>
                  </a:lnTo>
                  <a:lnTo>
                    <a:pt x="283" y="20"/>
                  </a:lnTo>
                  <a:lnTo>
                    <a:pt x="280" y="17"/>
                  </a:lnTo>
                  <a:lnTo>
                    <a:pt x="278" y="12"/>
                  </a:lnTo>
                  <a:lnTo>
                    <a:pt x="274" y="9"/>
                  </a:lnTo>
                  <a:lnTo>
                    <a:pt x="270" y="6"/>
                  </a:lnTo>
                  <a:lnTo>
                    <a:pt x="264" y="4"/>
                  </a:lnTo>
                  <a:lnTo>
                    <a:pt x="257" y="2"/>
                  </a:lnTo>
                  <a:lnTo>
                    <a:pt x="249" y="0"/>
                  </a:lnTo>
                  <a:lnTo>
                    <a:pt x="239" y="0"/>
                  </a:lnTo>
                  <a:lnTo>
                    <a:pt x="218" y="0"/>
                  </a:lnTo>
                  <a:lnTo>
                    <a:pt x="195" y="4"/>
                  </a:lnTo>
                  <a:lnTo>
                    <a:pt x="172" y="9"/>
                  </a:lnTo>
                  <a:lnTo>
                    <a:pt x="147" y="16"/>
                  </a:lnTo>
                  <a:lnTo>
                    <a:pt x="123" y="23"/>
                  </a:lnTo>
                  <a:lnTo>
                    <a:pt x="99" y="32"/>
                  </a:lnTo>
                  <a:lnTo>
                    <a:pt x="77" y="42"/>
                  </a:lnTo>
                  <a:lnTo>
                    <a:pt x="56" y="54"/>
                  </a:lnTo>
                  <a:lnTo>
                    <a:pt x="39" y="66"/>
                  </a:lnTo>
                  <a:lnTo>
                    <a:pt x="22" y="77"/>
                  </a:lnTo>
                  <a:lnTo>
                    <a:pt x="16" y="84"/>
                  </a:lnTo>
                  <a:lnTo>
                    <a:pt x="10" y="90"/>
                  </a:lnTo>
                  <a:lnTo>
                    <a:pt x="6" y="97"/>
                  </a:lnTo>
                  <a:lnTo>
                    <a:pt x="2" y="103"/>
                  </a:lnTo>
                  <a:lnTo>
                    <a:pt x="1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1" y="129"/>
                  </a:lnTo>
                  <a:lnTo>
                    <a:pt x="5" y="135"/>
                  </a:lnTo>
                  <a:lnTo>
                    <a:pt x="9" y="141"/>
                  </a:lnTo>
                  <a:lnTo>
                    <a:pt x="15" y="146"/>
                  </a:lnTo>
                  <a:lnTo>
                    <a:pt x="23" y="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87"/>
            <p:cNvSpPr/>
            <p:nvPr/>
          </p:nvSpPr>
          <p:spPr>
            <a:xfrm>
              <a:off x="6227640" y="6068880"/>
              <a:ext cx="39600" cy="29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57" h="173">
                  <a:moveTo>
                    <a:pt x="163" y="0"/>
                  </a:moveTo>
                  <a:lnTo>
                    <a:pt x="131" y="64"/>
                  </a:lnTo>
                  <a:lnTo>
                    <a:pt x="70" y="64"/>
                  </a:lnTo>
                  <a:lnTo>
                    <a:pt x="54" y="77"/>
                  </a:lnTo>
                  <a:lnTo>
                    <a:pt x="39" y="91"/>
                  </a:lnTo>
                  <a:lnTo>
                    <a:pt x="26" y="103"/>
                  </a:lnTo>
                  <a:lnTo>
                    <a:pt x="15" y="114"/>
                  </a:lnTo>
                  <a:lnTo>
                    <a:pt x="8" y="125"/>
                  </a:lnTo>
                  <a:lnTo>
                    <a:pt x="3" y="134"/>
                  </a:lnTo>
                  <a:lnTo>
                    <a:pt x="1" y="139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1" y="151"/>
                  </a:lnTo>
                  <a:lnTo>
                    <a:pt x="3" y="154"/>
                  </a:lnTo>
                  <a:lnTo>
                    <a:pt x="5" y="158"/>
                  </a:lnTo>
                  <a:lnTo>
                    <a:pt x="8" y="160"/>
                  </a:lnTo>
                  <a:lnTo>
                    <a:pt x="12" y="162"/>
                  </a:lnTo>
                  <a:lnTo>
                    <a:pt x="22" y="167"/>
                  </a:lnTo>
                  <a:lnTo>
                    <a:pt x="36" y="170"/>
                  </a:lnTo>
                  <a:lnTo>
                    <a:pt x="54" y="173"/>
                  </a:lnTo>
                  <a:lnTo>
                    <a:pt x="75" y="173"/>
                  </a:lnTo>
                  <a:lnTo>
                    <a:pt x="101" y="173"/>
                  </a:lnTo>
                  <a:lnTo>
                    <a:pt x="131" y="170"/>
                  </a:lnTo>
                  <a:lnTo>
                    <a:pt x="146" y="168"/>
                  </a:lnTo>
                  <a:lnTo>
                    <a:pt x="160" y="166"/>
                  </a:lnTo>
                  <a:lnTo>
                    <a:pt x="174" y="162"/>
                  </a:lnTo>
                  <a:lnTo>
                    <a:pt x="186" y="159"/>
                  </a:lnTo>
                  <a:lnTo>
                    <a:pt x="198" y="154"/>
                  </a:lnTo>
                  <a:lnTo>
                    <a:pt x="207" y="148"/>
                  </a:lnTo>
                  <a:lnTo>
                    <a:pt x="216" y="142"/>
                  </a:lnTo>
                  <a:lnTo>
                    <a:pt x="224" y="135"/>
                  </a:lnTo>
                  <a:lnTo>
                    <a:pt x="233" y="128"/>
                  </a:lnTo>
                  <a:lnTo>
                    <a:pt x="239" y="121"/>
                  </a:lnTo>
                  <a:lnTo>
                    <a:pt x="243" y="114"/>
                  </a:lnTo>
                  <a:lnTo>
                    <a:pt x="248" y="106"/>
                  </a:lnTo>
                  <a:lnTo>
                    <a:pt x="251" y="99"/>
                  </a:lnTo>
                  <a:lnTo>
                    <a:pt x="254" y="91"/>
                  </a:lnTo>
                  <a:lnTo>
                    <a:pt x="256" y="83"/>
                  </a:lnTo>
                  <a:lnTo>
                    <a:pt x="257" y="75"/>
                  </a:lnTo>
                  <a:lnTo>
                    <a:pt x="257" y="66"/>
                  </a:lnTo>
                  <a:lnTo>
                    <a:pt x="256" y="59"/>
                  </a:lnTo>
                  <a:lnTo>
                    <a:pt x="254" y="51"/>
                  </a:lnTo>
                  <a:lnTo>
                    <a:pt x="251" y="44"/>
                  </a:lnTo>
                  <a:lnTo>
                    <a:pt x="248" y="37"/>
                  </a:lnTo>
                  <a:lnTo>
                    <a:pt x="244" y="30"/>
                  </a:lnTo>
                  <a:lnTo>
                    <a:pt x="240" y="24"/>
                  </a:lnTo>
                  <a:lnTo>
                    <a:pt x="234" y="19"/>
                  </a:lnTo>
                  <a:lnTo>
                    <a:pt x="227" y="14"/>
                  </a:lnTo>
                  <a:lnTo>
                    <a:pt x="220" y="9"/>
                  </a:lnTo>
                  <a:lnTo>
                    <a:pt x="212" y="6"/>
                  </a:lnTo>
                  <a:lnTo>
                    <a:pt x="203" y="3"/>
                  </a:lnTo>
                  <a:lnTo>
                    <a:pt x="194" y="1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88"/>
            <p:cNvSpPr/>
            <p:nvPr/>
          </p:nvSpPr>
          <p:spPr>
            <a:xfrm>
              <a:off x="6227640" y="6068880"/>
              <a:ext cx="39600" cy="29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57" h="173">
                  <a:moveTo>
                    <a:pt x="163" y="0"/>
                  </a:moveTo>
                  <a:lnTo>
                    <a:pt x="131" y="64"/>
                  </a:lnTo>
                  <a:lnTo>
                    <a:pt x="70" y="64"/>
                  </a:lnTo>
                  <a:lnTo>
                    <a:pt x="54" y="77"/>
                  </a:lnTo>
                  <a:lnTo>
                    <a:pt x="39" y="91"/>
                  </a:lnTo>
                  <a:lnTo>
                    <a:pt x="26" y="103"/>
                  </a:lnTo>
                  <a:lnTo>
                    <a:pt x="15" y="114"/>
                  </a:lnTo>
                  <a:lnTo>
                    <a:pt x="8" y="125"/>
                  </a:lnTo>
                  <a:lnTo>
                    <a:pt x="3" y="134"/>
                  </a:lnTo>
                  <a:lnTo>
                    <a:pt x="1" y="139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1" y="151"/>
                  </a:lnTo>
                  <a:lnTo>
                    <a:pt x="3" y="154"/>
                  </a:lnTo>
                  <a:lnTo>
                    <a:pt x="5" y="158"/>
                  </a:lnTo>
                  <a:lnTo>
                    <a:pt x="8" y="160"/>
                  </a:lnTo>
                  <a:lnTo>
                    <a:pt x="12" y="162"/>
                  </a:lnTo>
                  <a:lnTo>
                    <a:pt x="22" y="167"/>
                  </a:lnTo>
                  <a:lnTo>
                    <a:pt x="36" y="170"/>
                  </a:lnTo>
                  <a:lnTo>
                    <a:pt x="54" y="173"/>
                  </a:lnTo>
                  <a:lnTo>
                    <a:pt x="75" y="173"/>
                  </a:lnTo>
                  <a:lnTo>
                    <a:pt x="101" y="173"/>
                  </a:lnTo>
                  <a:lnTo>
                    <a:pt x="131" y="170"/>
                  </a:lnTo>
                  <a:lnTo>
                    <a:pt x="146" y="168"/>
                  </a:lnTo>
                  <a:lnTo>
                    <a:pt x="160" y="166"/>
                  </a:lnTo>
                  <a:lnTo>
                    <a:pt x="174" y="162"/>
                  </a:lnTo>
                  <a:lnTo>
                    <a:pt x="186" y="159"/>
                  </a:lnTo>
                  <a:lnTo>
                    <a:pt x="198" y="154"/>
                  </a:lnTo>
                  <a:lnTo>
                    <a:pt x="207" y="148"/>
                  </a:lnTo>
                  <a:lnTo>
                    <a:pt x="216" y="142"/>
                  </a:lnTo>
                  <a:lnTo>
                    <a:pt x="224" y="135"/>
                  </a:lnTo>
                  <a:lnTo>
                    <a:pt x="233" y="128"/>
                  </a:lnTo>
                  <a:lnTo>
                    <a:pt x="239" y="121"/>
                  </a:lnTo>
                  <a:lnTo>
                    <a:pt x="243" y="114"/>
                  </a:lnTo>
                  <a:lnTo>
                    <a:pt x="248" y="106"/>
                  </a:lnTo>
                  <a:lnTo>
                    <a:pt x="251" y="99"/>
                  </a:lnTo>
                  <a:lnTo>
                    <a:pt x="254" y="91"/>
                  </a:lnTo>
                  <a:lnTo>
                    <a:pt x="256" y="83"/>
                  </a:lnTo>
                  <a:lnTo>
                    <a:pt x="257" y="75"/>
                  </a:lnTo>
                  <a:lnTo>
                    <a:pt x="257" y="66"/>
                  </a:lnTo>
                  <a:lnTo>
                    <a:pt x="256" y="59"/>
                  </a:lnTo>
                  <a:lnTo>
                    <a:pt x="254" y="51"/>
                  </a:lnTo>
                  <a:lnTo>
                    <a:pt x="251" y="44"/>
                  </a:lnTo>
                  <a:lnTo>
                    <a:pt x="248" y="37"/>
                  </a:lnTo>
                  <a:lnTo>
                    <a:pt x="244" y="30"/>
                  </a:lnTo>
                  <a:lnTo>
                    <a:pt x="240" y="24"/>
                  </a:lnTo>
                  <a:lnTo>
                    <a:pt x="234" y="19"/>
                  </a:lnTo>
                  <a:lnTo>
                    <a:pt x="227" y="14"/>
                  </a:lnTo>
                  <a:lnTo>
                    <a:pt x="220" y="9"/>
                  </a:lnTo>
                  <a:lnTo>
                    <a:pt x="212" y="6"/>
                  </a:lnTo>
                  <a:lnTo>
                    <a:pt x="203" y="3"/>
                  </a:lnTo>
                  <a:lnTo>
                    <a:pt x="194" y="1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63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89"/>
            <p:cNvSpPr/>
            <p:nvPr/>
          </p:nvSpPr>
          <p:spPr>
            <a:xfrm>
              <a:off x="6154560" y="6050160"/>
              <a:ext cx="42840" cy="201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85" h="123">
                  <a:moveTo>
                    <a:pt x="106" y="28"/>
                  </a:moveTo>
                  <a:lnTo>
                    <a:pt x="86" y="36"/>
                  </a:lnTo>
                  <a:lnTo>
                    <a:pt x="68" y="44"/>
                  </a:lnTo>
                  <a:lnTo>
                    <a:pt x="52" y="53"/>
                  </a:lnTo>
                  <a:lnTo>
                    <a:pt x="38" y="62"/>
                  </a:lnTo>
                  <a:lnTo>
                    <a:pt x="25" y="71"/>
                  </a:lnTo>
                  <a:lnTo>
                    <a:pt x="16" y="79"/>
                  </a:lnTo>
                  <a:lnTo>
                    <a:pt x="7" y="87"/>
                  </a:lnTo>
                  <a:lnTo>
                    <a:pt x="3" y="94"/>
                  </a:lnTo>
                  <a:lnTo>
                    <a:pt x="2" y="99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2" y="108"/>
                  </a:lnTo>
                  <a:lnTo>
                    <a:pt x="3" y="111"/>
                  </a:lnTo>
                  <a:lnTo>
                    <a:pt x="5" y="113"/>
                  </a:lnTo>
                  <a:lnTo>
                    <a:pt x="7" y="115"/>
                  </a:lnTo>
                  <a:lnTo>
                    <a:pt x="12" y="118"/>
                  </a:lnTo>
                  <a:lnTo>
                    <a:pt x="21" y="120"/>
                  </a:lnTo>
                  <a:lnTo>
                    <a:pt x="35" y="121"/>
                  </a:lnTo>
                  <a:lnTo>
                    <a:pt x="53" y="121"/>
                  </a:lnTo>
                  <a:lnTo>
                    <a:pt x="74" y="119"/>
                  </a:lnTo>
                  <a:lnTo>
                    <a:pt x="96" y="118"/>
                  </a:lnTo>
                  <a:lnTo>
                    <a:pt x="116" y="115"/>
                  </a:lnTo>
                  <a:lnTo>
                    <a:pt x="135" y="115"/>
                  </a:lnTo>
                  <a:lnTo>
                    <a:pt x="151" y="115"/>
                  </a:lnTo>
                  <a:lnTo>
                    <a:pt x="179" y="116"/>
                  </a:lnTo>
                  <a:lnTo>
                    <a:pt x="203" y="119"/>
                  </a:lnTo>
                  <a:lnTo>
                    <a:pt x="221" y="122"/>
                  </a:lnTo>
                  <a:lnTo>
                    <a:pt x="236" y="123"/>
                  </a:lnTo>
                  <a:lnTo>
                    <a:pt x="243" y="123"/>
                  </a:lnTo>
                  <a:lnTo>
                    <a:pt x="249" y="122"/>
                  </a:lnTo>
                  <a:lnTo>
                    <a:pt x="255" y="121"/>
                  </a:lnTo>
                  <a:lnTo>
                    <a:pt x="262" y="119"/>
                  </a:lnTo>
                  <a:lnTo>
                    <a:pt x="267" y="115"/>
                  </a:lnTo>
                  <a:lnTo>
                    <a:pt x="273" y="107"/>
                  </a:lnTo>
                  <a:lnTo>
                    <a:pt x="277" y="98"/>
                  </a:lnTo>
                  <a:lnTo>
                    <a:pt x="282" y="86"/>
                  </a:lnTo>
                  <a:lnTo>
                    <a:pt x="284" y="73"/>
                  </a:lnTo>
                  <a:lnTo>
                    <a:pt x="285" y="59"/>
                  </a:lnTo>
                  <a:lnTo>
                    <a:pt x="285" y="52"/>
                  </a:lnTo>
                  <a:lnTo>
                    <a:pt x="284" y="46"/>
                  </a:lnTo>
                  <a:lnTo>
                    <a:pt x="283" y="39"/>
                  </a:lnTo>
                  <a:lnTo>
                    <a:pt x="281" y="34"/>
                  </a:lnTo>
                  <a:lnTo>
                    <a:pt x="278" y="28"/>
                  </a:lnTo>
                  <a:lnTo>
                    <a:pt x="274" y="22"/>
                  </a:lnTo>
                  <a:lnTo>
                    <a:pt x="269" y="17"/>
                  </a:lnTo>
                  <a:lnTo>
                    <a:pt x="264" y="13"/>
                  </a:lnTo>
                  <a:lnTo>
                    <a:pt x="257" y="8"/>
                  </a:lnTo>
                  <a:lnTo>
                    <a:pt x="250" y="4"/>
                  </a:lnTo>
                  <a:lnTo>
                    <a:pt x="241" y="2"/>
                  </a:lnTo>
                  <a:lnTo>
                    <a:pt x="232" y="1"/>
                  </a:lnTo>
                  <a:lnTo>
                    <a:pt x="220" y="0"/>
                  </a:lnTo>
                  <a:lnTo>
                    <a:pt x="208" y="0"/>
                  </a:lnTo>
                  <a:lnTo>
                    <a:pt x="194" y="2"/>
                  </a:lnTo>
                  <a:lnTo>
                    <a:pt x="180" y="4"/>
                  </a:lnTo>
                  <a:lnTo>
                    <a:pt x="164" y="8"/>
                  </a:lnTo>
                  <a:lnTo>
                    <a:pt x="146" y="13"/>
                  </a:lnTo>
                  <a:lnTo>
                    <a:pt x="127" y="20"/>
                  </a:lnTo>
                  <a:lnTo>
                    <a:pt x="106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90"/>
            <p:cNvSpPr/>
            <p:nvPr/>
          </p:nvSpPr>
          <p:spPr>
            <a:xfrm>
              <a:off x="6154560" y="6050160"/>
              <a:ext cx="42840" cy="201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85" h="123">
                  <a:moveTo>
                    <a:pt x="106" y="28"/>
                  </a:moveTo>
                  <a:lnTo>
                    <a:pt x="86" y="36"/>
                  </a:lnTo>
                  <a:lnTo>
                    <a:pt x="68" y="44"/>
                  </a:lnTo>
                  <a:lnTo>
                    <a:pt x="52" y="53"/>
                  </a:lnTo>
                  <a:lnTo>
                    <a:pt x="38" y="62"/>
                  </a:lnTo>
                  <a:lnTo>
                    <a:pt x="25" y="71"/>
                  </a:lnTo>
                  <a:lnTo>
                    <a:pt x="16" y="79"/>
                  </a:lnTo>
                  <a:lnTo>
                    <a:pt x="7" y="87"/>
                  </a:lnTo>
                  <a:lnTo>
                    <a:pt x="3" y="94"/>
                  </a:lnTo>
                  <a:lnTo>
                    <a:pt x="2" y="99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2" y="108"/>
                  </a:lnTo>
                  <a:lnTo>
                    <a:pt x="3" y="111"/>
                  </a:lnTo>
                  <a:lnTo>
                    <a:pt x="5" y="113"/>
                  </a:lnTo>
                  <a:lnTo>
                    <a:pt x="7" y="115"/>
                  </a:lnTo>
                  <a:lnTo>
                    <a:pt x="12" y="118"/>
                  </a:lnTo>
                  <a:lnTo>
                    <a:pt x="21" y="120"/>
                  </a:lnTo>
                  <a:lnTo>
                    <a:pt x="35" y="121"/>
                  </a:lnTo>
                  <a:lnTo>
                    <a:pt x="53" y="121"/>
                  </a:lnTo>
                  <a:lnTo>
                    <a:pt x="74" y="119"/>
                  </a:lnTo>
                  <a:lnTo>
                    <a:pt x="96" y="118"/>
                  </a:lnTo>
                  <a:lnTo>
                    <a:pt x="116" y="115"/>
                  </a:lnTo>
                  <a:lnTo>
                    <a:pt x="135" y="115"/>
                  </a:lnTo>
                  <a:lnTo>
                    <a:pt x="151" y="115"/>
                  </a:lnTo>
                  <a:lnTo>
                    <a:pt x="179" y="116"/>
                  </a:lnTo>
                  <a:lnTo>
                    <a:pt x="203" y="119"/>
                  </a:lnTo>
                  <a:lnTo>
                    <a:pt x="221" y="122"/>
                  </a:lnTo>
                  <a:lnTo>
                    <a:pt x="236" y="123"/>
                  </a:lnTo>
                  <a:lnTo>
                    <a:pt x="243" y="123"/>
                  </a:lnTo>
                  <a:lnTo>
                    <a:pt x="249" y="122"/>
                  </a:lnTo>
                  <a:lnTo>
                    <a:pt x="255" y="121"/>
                  </a:lnTo>
                  <a:lnTo>
                    <a:pt x="262" y="119"/>
                  </a:lnTo>
                  <a:lnTo>
                    <a:pt x="267" y="115"/>
                  </a:lnTo>
                  <a:lnTo>
                    <a:pt x="273" y="107"/>
                  </a:lnTo>
                  <a:lnTo>
                    <a:pt x="277" y="98"/>
                  </a:lnTo>
                  <a:lnTo>
                    <a:pt x="282" y="86"/>
                  </a:lnTo>
                  <a:lnTo>
                    <a:pt x="284" y="73"/>
                  </a:lnTo>
                  <a:lnTo>
                    <a:pt x="285" y="59"/>
                  </a:lnTo>
                  <a:lnTo>
                    <a:pt x="285" y="52"/>
                  </a:lnTo>
                  <a:lnTo>
                    <a:pt x="284" y="46"/>
                  </a:lnTo>
                  <a:lnTo>
                    <a:pt x="283" y="39"/>
                  </a:lnTo>
                  <a:lnTo>
                    <a:pt x="281" y="34"/>
                  </a:lnTo>
                  <a:lnTo>
                    <a:pt x="278" y="28"/>
                  </a:lnTo>
                  <a:lnTo>
                    <a:pt x="274" y="22"/>
                  </a:lnTo>
                  <a:lnTo>
                    <a:pt x="269" y="17"/>
                  </a:lnTo>
                  <a:lnTo>
                    <a:pt x="264" y="13"/>
                  </a:lnTo>
                  <a:lnTo>
                    <a:pt x="257" y="8"/>
                  </a:lnTo>
                  <a:lnTo>
                    <a:pt x="250" y="4"/>
                  </a:lnTo>
                  <a:lnTo>
                    <a:pt x="241" y="2"/>
                  </a:lnTo>
                  <a:lnTo>
                    <a:pt x="232" y="1"/>
                  </a:lnTo>
                  <a:lnTo>
                    <a:pt x="220" y="0"/>
                  </a:lnTo>
                  <a:lnTo>
                    <a:pt x="208" y="0"/>
                  </a:lnTo>
                  <a:lnTo>
                    <a:pt x="194" y="2"/>
                  </a:lnTo>
                  <a:lnTo>
                    <a:pt x="180" y="4"/>
                  </a:lnTo>
                  <a:lnTo>
                    <a:pt x="164" y="8"/>
                  </a:lnTo>
                  <a:lnTo>
                    <a:pt x="146" y="13"/>
                  </a:lnTo>
                  <a:lnTo>
                    <a:pt x="127" y="20"/>
                  </a:lnTo>
                  <a:lnTo>
                    <a:pt x="106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91"/>
            <p:cNvSpPr/>
            <p:nvPr/>
          </p:nvSpPr>
          <p:spPr>
            <a:xfrm>
              <a:off x="6113520" y="6056640"/>
              <a:ext cx="31320" cy="363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07" h="221">
                  <a:moveTo>
                    <a:pt x="207" y="50"/>
                  </a:moveTo>
                  <a:lnTo>
                    <a:pt x="97" y="206"/>
                  </a:lnTo>
                  <a:lnTo>
                    <a:pt x="90" y="208"/>
                  </a:lnTo>
                  <a:lnTo>
                    <a:pt x="73" y="214"/>
                  </a:lnTo>
                  <a:lnTo>
                    <a:pt x="61" y="216"/>
                  </a:lnTo>
                  <a:lnTo>
                    <a:pt x="49" y="218"/>
                  </a:lnTo>
                  <a:lnTo>
                    <a:pt x="38" y="221"/>
                  </a:lnTo>
                  <a:lnTo>
                    <a:pt x="26" y="221"/>
                  </a:lnTo>
                  <a:lnTo>
                    <a:pt x="17" y="221"/>
                  </a:lnTo>
                  <a:lnTo>
                    <a:pt x="9" y="218"/>
                  </a:lnTo>
                  <a:lnTo>
                    <a:pt x="5" y="216"/>
                  </a:lnTo>
                  <a:lnTo>
                    <a:pt x="3" y="214"/>
                  </a:lnTo>
                  <a:lnTo>
                    <a:pt x="2" y="210"/>
                  </a:lnTo>
                  <a:lnTo>
                    <a:pt x="0" y="206"/>
                  </a:lnTo>
                  <a:lnTo>
                    <a:pt x="0" y="202"/>
                  </a:lnTo>
                  <a:lnTo>
                    <a:pt x="2" y="196"/>
                  </a:lnTo>
                  <a:lnTo>
                    <a:pt x="5" y="190"/>
                  </a:lnTo>
                  <a:lnTo>
                    <a:pt x="9" y="183"/>
                  </a:lnTo>
                  <a:lnTo>
                    <a:pt x="20" y="166"/>
                  </a:lnTo>
                  <a:lnTo>
                    <a:pt x="37" y="146"/>
                  </a:lnTo>
                  <a:lnTo>
                    <a:pt x="73" y="102"/>
                  </a:lnTo>
                  <a:lnTo>
                    <a:pt x="102" y="63"/>
                  </a:lnTo>
                  <a:lnTo>
                    <a:pt x="115" y="47"/>
                  </a:lnTo>
                  <a:lnTo>
                    <a:pt x="125" y="33"/>
                  </a:lnTo>
                  <a:lnTo>
                    <a:pt x="136" y="21"/>
                  </a:lnTo>
                  <a:lnTo>
                    <a:pt x="145" y="12"/>
                  </a:lnTo>
                  <a:lnTo>
                    <a:pt x="153" y="5"/>
                  </a:lnTo>
                  <a:lnTo>
                    <a:pt x="162" y="1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72" y="1"/>
                  </a:lnTo>
                  <a:lnTo>
                    <a:pt x="176" y="4"/>
                  </a:lnTo>
                  <a:lnTo>
                    <a:pt x="179" y="6"/>
                  </a:lnTo>
                  <a:lnTo>
                    <a:pt x="184" y="9"/>
                  </a:lnTo>
                  <a:lnTo>
                    <a:pt x="187" y="14"/>
                  </a:lnTo>
                  <a:lnTo>
                    <a:pt x="191" y="19"/>
                  </a:lnTo>
                  <a:lnTo>
                    <a:pt x="199" y="33"/>
                  </a:lnTo>
                  <a:lnTo>
                    <a:pt x="207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Freeform 92"/>
            <p:cNvSpPr/>
            <p:nvPr/>
          </p:nvSpPr>
          <p:spPr>
            <a:xfrm>
              <a:off x="6113520" y="6056640"/>
              <a:ext cx="31320" cy="363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07" h="221">
                  <a:moveTo>
                    <a:pt x="207" y="50"/>
                  </a:moveTo>
                  <a:lnTo>
                    <a:pt x="97" y="206"/>
                  </a:lnTo>
                  <a:lnTo>
                    <a:pt x="90" y="208"/>
                  </a:lnTo>
                  <a:lnTo>
                    <a:pt x="73" y="214"/>
                  </a:lnTo>
                  <a:lnTo>
                    <a:pt x="61" y="216"/>
                  </a:lnTo>
                  <a:lnTo>
                    <a:pt x="49" y="218"/>
                  </a:lnTo>
                  <a:lnTo>
                    <a:pt x="38" y="221"/>
                  </a:lnTo>
                  <a:lnTo>
                    <a:pt x="26" y="221"/>
                  </a:lnTo>
                  <a:lnTo>
                    <a:pt x="17" y="221"/>
                  </a:lnTo>
                  <a:lnTo>
                    <a:pt x="9" y="218"/>
                  </a:lnTo>
                  <a:lnTo>
                    <a:pt x="5" y="216"/>
                  </a:lnTo>
                  <a:lnTo>
                    <a:pt x="3" y="214"/>
                  </a:lnTo>
                  <a:lnTo>
                    <a:pt x="2" y="210"/>
                  </a:lnTo>
                  <a:lnTo>
                    <a:pt x="0" y="206"/>
                  </a:lnTo>
                  <a:lnTo>
                    <a:pt x="0" y="202"/>
                  </a:lnTo>
                  <a:lnTo>
                    <a:pt x="2" y="196"/>
                  </a:lnTo>
                  <a:lnTo>
                    <a:pt x="5" y="190"/>
                  </a:lnTo>
                  <a:lnTo>
                    <a:pt x="9" y="183"/>
                  </a:lnTo>
                  <a:lnTo>
                    <a:pt x="20" y="166"/>
                  </a:lnTo>
                  <a:lnTo>
                    <a:pt x="37" y="146"/>
                  </a:lnTo>
                  <a:lnTo>
                    <a:pt x="73" y="102"/>
                  </a:lnTo>
                  <a:lnTo>
                    <a:pt x="102" y="63"/>
                  </a:lnTo>
                  <a:lnTo>
                    <a:pt x="115" y="47"/>
                  </a:lnTo>
                  <a:lnTo>
                    <a:pt x="125" y="33"/>
                  </a:lnTo>
                  <a:lnTo>
                    <a:pt x="136" y="21"/>
                  </a:lnTo>
                  <a:lnTo>
                    <a:pt x="145" y="12"/>
                  </a:lnTo>
                  <a:lnTo>
                    <a:pt x="153" y="5"/>
                  </a:lnTo>
                  <a:lnTo>
                    <a:pt x="162" y="1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72" y="1"/>
                  </a:lnTo>
                  <a:lnTo>
                    <a:pt x="176" y="4"/>
                  </a:lnTo>
                  <a:lnTo>
                    <a:pt x="179" y="6"/>
                  </a:lnTo>
                  <a:lnTo>
                    <a:pt x="184" y="9"/>
                  </a:lnTo>
                  <a:lnTo>
                    <a:pt x="187" y="14"/>
                  </a:lnTo>
                  <a:lnTo>
                    <a:pt x="191" y="19"/>
                  </a:lnTo>
                  <a:lnTo>
                    <a:pt x="199" y="33"/>
                  </a:lnTo>
                  <a:lnTo>
                    <a:pt x="207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Freeform 93"/>
            <p:cNvSpPr/>
            <p:nvPr/>
          </p:nvSpPr>
          <p:spPr>
            <a:xfrm>
              <a:off x="7687800" y="5301720"/>
              <a:ext cx="218520" cy="6840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52" h="422">
                  <a:moveTo>
                    <a:pt x="0" y="206"/>
                  </a:moveTo>
                  <a:lnTo>
                    <a:pt x="24" y="230"/>
                  </a:lnTo>
                  <a:lnTo>
                    <a:pt x="50" y="250"/>
                  </a:lnTo>
                  <a:lnTo>
                    <a:pt x="75" y="268"/>
                  </a:lnTo>
                  <a:lnTo>
                    <a:pt x="98" y="282"/>
                  </a:lnTo>
                  <a:lnTo>
                    <a:pt x="122" y="295"/>
                  </a:lnTo>
                  <a:lnTo>
                    <a:pt x="147" y="306"/>
                  </a:lnTo>
                  <a:lnTo>
                    <a:pt x="171" y="315"/>
                  </a:lnTo>
                  <a:lnTo>
                    <a:pt x="195" y="321"/>
                  </a:lnTo>
                  <a:lnTo>
                    <a:pt x="218" y="327"/>
                  </a:lnTo>
                  <a:lnTo>
                    <a:pt x="243" y="330"/>
                  </a:lnTo>
                  <a:lnTo>
                    <a:pt x="266" y="332"/>
                  </a:lnTo>
                  <a:lnTo>
                    <a:pt x="289" y="334"/>
                  </a:lnTo>
                  <a:lnTo>
                    <a:pt x="336" y="332"/>
                  </a:lnTo>
                  <a:lnTo>
                    <a:pt x="383" y="330"/>
                  </a:lnTo>
                  <a:lnTo>
                    <a:pt x="411" y="329"/>
                  </a:lnTo>
                  <a:lnTo>
                    <a:pt x="438" y="329"/>
                  </a:lnTo>
                  <a:lnTo>
                    <a:pt x="464" y="330"/>
                  </a:lnTo>
                  <a:lnTo>
                    <a:pt x="489" y="331"/>
                  </a:lnTo>
                  <a:lnTo>
                    <a:pt x="514" y="334"/>
                  </a:lnTo>
                  <a:lnTo>
                    <a:pt x="537" y="336"/>
                  </a:lnTo>
                  <a:lnTo>
                    <a:pt x="559" y="341"/>
                  </a:lnTo>
                  <a:lnTo>
                    <a:pt x="581" y="345"/>
                  </a:lnTo>
                  <a:lnTo>
                    <a:pt x="601" y="351"/>
                  </a:lnTo>
                  <a:lnTo>
                    <a:pt x="620" y="357"/>
                  </a:lnTo>
                  <a:lnTo>
                    <a:pt x="638" y="365"/>
                  </a:lnTo>
                  <a:lnTo>
                    <a:pt x="653" y="374"/>
                  </a:lnTo>
                  <a:lnTo>
                    <a:pt x="667" y="384"/>
                  </a:lnTo>
                  <a:lnTo>
                    <a:pt x="678" y="396"/>
                  </a:lnTo>
                  <a:lnTo>
                    <a:pt x="684" y="401"/>
                  </a:lnTo>
                  <a:lnTo>
                    <a:pt x="689" y="408"/>
                  </a:lnTo>
                  <a:lnTo>
                    <a:pt x="694" y="415"/>
                  </a:lnTo>
                  <a:lnTo>
                    <a:pt x="697" y="422"/>
                  </a:lnTo>
                  <a:lnTo>
                    <a:pt x="708" y="405"/>
                  </a:lnTo>
                  <a:lnTo>
                    <a:pt x="718" y="390"/>
                  </a:lnTo>
                  <a:lnTo>
                    <a:pt x="730" y="374"/>
                  </a:lnTo>
                  <a:lnTo>
                    <a:pt x="744" y="360"/>
                  </a:lnTo>
                  <a:lnTo>
                    <a:pt x="758" y="348"/>
                  </a:lnTo>
                  <a:lnTo>
                    <a:pt x="774" y="337"/>
                  </a:lnTo>
                  <a:lnTo>
                    <a:pt x="782" y="332"/>
                  </a:lnTo>
                  <a:lnTo>
                    <a:pt x="791" y="328"/>
                  </a:lnTo>
                  <a:lnTo>
                    <a:pt x="800" y="324"/>
                  </a:lnTo>
                  <a:lnTo>
                    <a:pt x="809" y="322"/>
                  </a:lnTo>
                  <a:lnTo>
                    <a:pt x="871" y="304"/>
                  </a:lnTo>
                  <a:lnTo>
                    <a:pt x="939" y="287"/>
                  </a:lnTo>
                  <a:lnTo>
                    <a:pt x="1014" y="271"/>
                  </a:lnTo>
                  <a:lnTo>
                    <a:pt x="1093" y="254"/>
                  </a:lnTo>
                  <a:lnTo>
                    <a:pt x="1177" y="239"/>
                  </a:lnTo>
                  <a:lnTo>
                    <a:pt x="1265" y="223"/>
                  </a:lnTo>
                  <a:lnTo>
                    <a:pt x="1357" y="207"/>
                  </a:lnTo>
                  <a:lnTo>
                    <a:pt x="1452" y="192"/>
                  </a:lnTo>
                  <a:lnTo>
                    <a:pt x="1439" y="177"/>
                  </a:lnTo>
                  <a:lnTo>
                    <a:pt x="1407" y="146"/>
                  </a:lnTo>
                  <a:lnTo>
                    <a:pt x="1387" y="129"/>
                  </a:lnTo>
                  <a:lnTo>
                    <a:pt x="1366" y="114"/>
                  </a:lnTo>
                  <a:lnTo>
                    <a:pt x="1356" y="108"/>
                  </a:lnTo>
                  <a:lnTo>
                    <a:pt x="1347" y="103"/>
                  </a:lnTo>
                  <a:lnTo>
                    <a:pt x="1337" y="101"/>
                  </a:lnTo>
                  <a:lnTo>
                    <a:pt x="1328" y="100"/>
                  </a:lnTo>
                  <a:lnTo>
                    <a:pt x="1308" y="101"/>
                  </a:lnTo>
                  <a:lnTo>
                    <a:pt x="1284" y="106"/>
                  </a:lnTo>
                  <a:lnTo>
                    <a:pt x="1255" y="111"/>
                  </a:lnTo>
                  <a:lnTo>
                    <a:pt x="1227" y="115"/>
                  </a:lnTo>
                  <a:lnTo>
                    <a:pt x="1212" y="116"/>
                  </a:lnTo>
                  <a:lnTo>
                    <a:pt x="1198" y="115"/>
                  </a:lnTo>
                  <a:lnTo>
                    <a:pt x="1184" y="114"/>
                  </a:lnTo>
                  <a:lnTo>
                    <a:pt x="1170" y="112"/>
                  </a:lnTo>
                  <a:lnTo>
                    <a:pt x="1159" y="107"/>
                  </a:lnTo>
                  <a:lnTo>
                    <a:pt x="1146" y="101"/>
                  </a:lnTo>
                  <a:lnTo>
                    <a:pt x="1141" y="98"/>
                  </a:lnTo>
                  <a:lnTo>
                    <a:pt x="1135" y="93"/>
                  </a:lnTo>
                  <a:lnTo>
                    <a:pt x="1131" y="88"/>
                  </a:lnTo>
                  <a:lnTo>
                    <a:pt x="1126" y="82"/>
                  </a:lnTo>
                  <a:lnTo>
                    <a:pt x="1121" y="77"/>
                  </a:lnTo>
                  <a:lnTo>
                    <a:pt x="1116" y="73"/>
                  </a:lnTo>
                  <a:lnTo>
                    <a:pt x="1111" y="68"/>
                  </a:lnTo>
                  <a:lnTo>
                    <a:pt x="1104" y="66"/>
                  </a:lnTo>
                  <a:lnTo>
                    <a:pt x="1097" y="64"/>
                  </a:lnTo>
                  <a:lnTo>
                    <a:pt x="1090" y="61"/>
                  </a:lnTo>
                  <a:lnTo>
                    <a:pt x="1081" y="60"/>
                  </a:lnTo>
                  <a:lnTo>
                    <a:pt x="1073" y="59"/>
                  </a:lnTo>
                  <a:lnTo>
                    <a:pt x="1056" y="59"/>
                  </a:lnTo>
                  <a:lnTo>
                    <a:pt x="1037" y="61"/>
                  </a:lnTo>
                  <a:lnTo>
                    <a:pt x="1020" y="64"/>
                  </a:lnTo>
                  <a:lnTo>
                    <a:pt x="1001" y="68"/>
                  </a:lnTo>
                  <a:lnTo>
                    <a:pt x="967" y="78"/>
                  </a:lnTo>
                  <a:lnTo>
                    <a:pt x="938" y="88"/>
                  </a:lnTo>
                  <a:lnTo>
                    <a:pt x="918" y="96"/>
                  </a:lnTo>
                  <a:lnTo>
                    <a:pt x="910" y="100"/>
                  </a:lnTo>
                  <a:lnTo>
                    <a:pt x="910" y="106"/>
                  </a:lnTo>
                  <a:lnTo>
                    <a:pt x="907" y="121"/>
                  </a:lnTo>
                  <a:lnTo>
                    <a:pt x="905" y="130"/>
                  </a:lnTo>
                  <a:lnTo>
                    <a:pt x="902" y="141"/>
                  </a:lnTo>
                  <a:lnTo>
                    <a:pt x="897" y="153"/>
                  </a:lnTo>
                  <a:lnTo>
                    <a:pt x="891" y="163"/>
                  </a:lnTo>
                  <a:lnTo>
                    <a:pt x="883" y="174"/>
                  </a:lnTo>
                  <a:lnTo>
                    <a:pt x="872" y="183"/>
                  </a:lnTo>
                  <a:lnTo>
                    <a:pt x="867" y="188"/>
                  </a:lnTo>
                  <a:lnTo>
                    <a:pt x="860" y="191"/>
                  </a:lnTo>
                  <a:lnTo>
                    <a:pt x="852" y="195"/>
                  </a:lnTo>
                  <a:lnTo>
                    <a:pt x="844" y="197"/>
                  </a:lnTo>
                  <a:lnTo>
                    <a:pt x="836" y="199"/>
                  </a:lnTo>
                  <a:lnTo>
                    <a:pt x="827" y="200"/>
                  </a:lnTo>
                  <a:lnTo>
                    <a:pt x="816" y="202"/>
                  </a:lnTo>
                  <a:lnTo>
                    <a:pt x="806" y="202"/>
                  </a:lnTo>
                  <a:lnTo>
                    <a:pt x="794" y="200"/>
                  </a:lnTo>
                  <a:lnTo>
                    <a:pt x="782" y="198"/>
                  </a:lnTo>
                  <a:lnTo>
                    <a:pt x="768" y="196"/>
                  </a:lnTo>
                  <a:lnTo>
                    <a:pt x="754" y="192"/>
                  </a:lnTo>
                  <a:lnTo>
                    <a:pt x="742" y="184"/>
                  </a:lnTo>
                  <a:lnTo>
                    <a:pt x="728" y="177"/>
                  </a:lnTo>
                  <a:lnTo>
                    <a:pt x="715" y="172"/>
                  </a:lnTo>
                  <a:lnTo>
                    <a:pt x="699" y="168"/>
                  </a:lnTo>
                  <a:lnTo>
                    <a:pt x="685" y="164"/>
                  </a:lnTo>
                  <a:lnTo>
                    <a:pt x="671" y="162"/>
                  </a:lnTo>
                  <a:lnTo>
                    <a:pt x="657" y="161"/>
                  </a:lnTo>
                  <a:lnTo>
                    <a:pt x="643" y="160"/>
                  </a:lnTo>
                  <a:lnTo>
                    <a:pt x="589" y="161"/>
                  </a:lnTo>
                  <a:lnTo>
                    <a:pt x="542" y="164"/>
                  </a:lnTo>
                  <a:lnTo>
                    <a:pt x="531" y="164"/>
                  </a:lnTo>
                  <a:lnTo>
                    <a:pt x="522" y="164"/>
                  </a:lnTo>
                  <a:lnTo>
                    <a:pt x="514" y="163"/>
                  </a:lnTo>
                  <a:lnTo>
                    <a:pt x="507" y="162"/>
                  </a:lnTo>
                  <a:lnTo>
                    <a:pt x="500" y="160"/>
                  </a:lnTo>
                  <a:lnTo>
                    <a:pt x="495" y="156"/>
                  </a:lnTo>
                  <a:lnTo>
                    <a:pt x="492" y="153"/>
                  </a:lnTo>
                  <a:lnTo>
                    <a:pt x="488" y="148"/>
                  </a:lnTo>
                  <a:lnTo>
                    <a:pt x="487" y="141"/>
                  </a:lnTo>
                  <a:lnTo>
                    <a:pt x="488" y="134"/>
                  </a:lnTo>
                  <a:lnTo>
                    <a:pt x="489" y="125"/>
                  </a:lnTo>
                  <a:lnTo>
                    <a:pt x="493" y="114"/>
                  </a:lnTo>
                  <a:lnTo>
                    <a:pt x="499" y="101"/>
                  </a:lnTo>
                  <a:lnTo>
                    <a:pt x="504" y="87"/>
                  </a:lnTo>
                  <a:lnTo>
                    <a:pt x="514" y="72"/>
                  </a:lnTo>
                  <a:lnTo>
                    <a:pt x="524" y="53"/>
                  </a:lnTo>
                  <a:lnTo>
                    <a:pt x="523" y="50"/>
                  </a:lnTo>
                  <a:lnTo>
                    <a:pt x="518" y="42"/>
                  </a:lnTo>
                  <a:lnTo>
                    <a:pt x="511" y="31"/>
                  </a:lnTo>
                  <a:lnTo>
                    <a:pt x="501" y="18"/>
                  </a:lnTo>
                  <a:lnTo>
                    <a:pt x="494" y="14"/>
                  </a:lnTo>
                  <a:lnTo>
                    <a:pt x="487" y="8"/>
                  </a:lnTo>
                  <a:lnTo>
                    <a:pt x="480" y="4"/>
                  </a:lnTo>
                  <a:lnTo>
                    <a:pt x="471" y="2"/>
                  </a:lnTo>
                  <a:lnTo>
                    <a:pt x="461" y="0"/>
                  </a:lnTo>
                  <a:lnTo>
                    <a:pt x="452" y="1"/>
                  </a:lnTo>
                  <a:lnTo>
                    <a:pt x="441" y="3"/>
                  </a:lnTo>
                  <a:lnTo>
                    <a:pt x="430" y="8"/>
                  </a:lnTo>
                  <a:lnTo>
                    <a:pt x="417" y="15"/>
                  </a:lnTo>
                  <a:lnTo>
                    <a:pt x="400" y="24"/>
                  </a:lnTo>
                  <a:lnTo>
                    <a:pt x="383" y="36"/>
                  </a:lnTo>
                  <a:lnTo>
                    <a:pt x="363" y="50"/>
                  </a:lnTo>
                  <a:lnTo>
                    <a:pt x="315" y="82"/>
                  </a:lnTo>
                  <a:lnTo>
                    <a:pt x="261" y="116"/>
                  </a:lnTo>
                  <a:lnTo>
                    <a:pt x="232" y="134"/>
                  </a:lnTo>
                  <a:lnTo>
                    <a:pt x="201" y="150"/>
                  </a:lnTo>
                  <a:lnTo>
                    <a:pt x="169" y="164"/>
                  </a:lnTo>
                  <a:lnTo>
                    <a:pt x="136" y="178"/>
                  </a:lnTo>
                  <a:lnTo>
                    <a:pt x="120" y="184"/>
                  </a:lnTo>
                  <a:lnTo>
                    <a:pt x="103" y="189"/>
                  </a:lnTo>
                  <a:lnTo>
                    <a:pt x="86" y="195"/>
                  </a:lnTo>
                  <a:lnTo>
                    <a:pt x="69" y="198"/>
                  </a:lnTo>
                  <a:lnTo>
                    <a:pt x="52" y="202"/>
                  </a:lnTo>
                  <a:lnTo>
                    <a:pt x="35" y="204"/>
                  </a:lnTo>
                  <a:lnTo>
                    <a:pt x="17" y="205"/>
                  </a:lnTo>
                  <a:lnTo>
                    <a:pt x="0" y="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Freeform 94"/>
            <p:cNvSpPr/>
            <p:nvPr/>
          </p:nvSpPr>
          <p:spPr>
            <a:xfrm>
              <a:off x="7687800" y="5301720"/>
              <a:ext cx="218520" cy="6840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52" h="422">
                  <a:moveTo>
                    <a:pt x="0" y="206"/>
                  </a:moveTo>
                  <a:lnTo>
                    <a:pt x="24" y="230"/>
                  </a:lnTo>
                  <a:lnTo>
                    <a:pt x="50" y="250"/>
                  </a:lnTo>
                  <a:lnTo>
                    <a:pt x="75" y="268"/>
                  </a:lnTo>
                  <a:lnTo>
                    <a:pt x="98" y="282"/>
                  </a:lnTo>
                  <a:lnTo>
                    <a:pt x="122" y="295"/>
                  </a:lnTo>
                  <a:lnTo>
                    <a:pt x="147" y="306"/>
                  </a:lnTo>
                  <a:lnTo>
                    <a:pt x="171" y="315"/>
                  </a:lnTo>
                  <a:lnTo>
                    <a:pt x="195" y="321"/>
                  </a:lnTo>
                  <a:lnTo>
                    <a:pt x="218" y="327"/>
                  </a:lnTo>
                  <a:lnTo>
                    <a:pt x="243" y="330"/>
                  </a:lnTo>
                  <a:lnTo>
                    <a:pt x="266" y="332"/>
                  </a:lnTo>
                  <a:lnTo>
                    <a:pt x="289" y="334"/>
                  </a:lnTo>
                  <a:lnTo>
                    <a:pt x="336" y="332"/>
                  </a:lnTo>
                  <a:lnTo>
                    <a:pt x="383" y="330"/>
                  </a:lnTo>
                  <a:lnTo>
                    <a:pt x="411" y="329"/>
                  </a:lnTo>
                  <a:lnTo>
                    <a:pt x="438" y="329"/>
                  </a:lnTo>
                  <a:lnTo>
                    <a:pt x="464" y="330"/>
                  </a:lnTo>
                  <a:lnTo>
                    <a:pt x="489" y="331"/>
                  </a:lnTo>
                  <a:lnTo>
                    <a:pt x="514" y="334"/>
                  </a:lnTo>
                  <a:lnTo>
                    <a:pt x="537" y="336"/>
                  </a:lnTo>
                  <a:lnTo>
                    <a:pt x="559" y="341"/>
                  </a:lnTo>
                  <a:lnTo>
                    <a:pt x="581" y="345"/>
                  </a:lnTo>
                  <a:lnTo>
                    <a:pt x="601" y="351"/>
                  </a:lnTo>
                  <a:lnTo>
                    <a:pt x="620" y="357"/>
                  </a:lnTo>
                  <a:lnTo>
                    <a:pt x="638" y="365"/>
                  </a:lnTo>
                  <a:lnTo>
                    <a:pt x="653" y="374"/>
                  </a:lnTo>
                  <a:lnTo>
                    <a:pt x="667" y="384"/>
                  </a:lnTo>
                  <a:lnTo>
                    <a:pt x="678" y="396"/>
                  </a:lnTo>
                  <a:lnTo>
                    <a:pt x="684" y="401"/>
                  </a:lnTo>
                  <a:lnTo>
                    <a:pt x="689" y="408"/>
                  </a:lnTo>
                  <a:lnTo>
                    <a:pt x="694" y="415"/>
                  </a:lnTo>
                  <a:lnTo>
                    <a:pt x="697" y="422"/>
                  </a:lnTo>
                  <a:lnTo>
                    <a:pt x="708" y="405"/>
                  </a:lnTo>
                  <a:lnTo>
                    <a:pt x="718" y="390"/>
                  </a:lnTo>
                  <a:lnTo>
                    <a:pt x="730" y="374"/>
                  </a:lnTo>
                  <a:lnTo>
                    <a:pt x="744" y="360"/>
                  </a:lnTo>
                  <a:lnTo>
                    <a:pt x="758" y="348"/>
                  </a:lnTo>
                  <a:lnTo>
                    <a:pt x="774" y="337"/>
                  </a:lnTo>
                  <a:lnTo>
                    <a:pt x="782" y="332"/>
                  </a:lnTo>
                  <a:lnTo>
                    <a:pt x="791" y="328"/>
                  </a:lnTo>
                  <a:lnTo>
                    <a:pt x="800" y="324"/>
                  </a:lnTo>
                  <a:lnTo>
                    <a:pt x="809" y="322"/>
                  </a:lnTo>
                  <a:lnTo>
                    <a:pt x="871" y="304"/>
                  </a:lnTo>
                  <a:lnTo>
                    <a:pt x="939" y="287"/>
                  </a:lnTo>
                  <a:lnTo>
                    <a:pt x="1014" y="271"/>
                  </a:lnTo>
                  <a:lnTo>
                    <a:pt x="1093" y="254"/>
                  </a:lnTo>
                  <a:lnTo>
                    <a:pt x="1177" y="239"/>
                  </a:lnTo>
                  <a:lnTo>
                    <a:pt x="1265" y="223"/>
                  </a:lnTo>
                  <a:lnTo>
                    <a:pt x="1357" y="207"/>
                  </a:lnTo>
                  <a:lnTo>
                    <a:pt x="1452" y="192"/>
                  </a:lnTo>
                  <a:lnTo>
                    <a:pt x="1439" y="177"/>
                  </a:lnTo>
                  <a:lnTo>
                    <a:pt x="1407" y="146"/>
                  </a:lnTo>
                  <a:lnTo>
                    <a:pt x="1387" y="129"/>
                  </a:lnTo>
                  <a:lnTo>
                    <a:pt x="1366" y="114"/>
                  </a:lnTo>
                  <a:lnTo>
                    <a:pt x="1356" y="108"/>
                  </a:lnTo>
                  <a:lnTo>
                    <a:pt x="1347" y="103"/>
                  </a:lnTo>
                  <a:lnTo>
                    <a:pt x="1337" y="101"/>
                  </a:lnTo>
                  <a:lnTo>
                    <a:pt x="1328" y="100"/>
                  </a:lnTo>
                  <a:lnTo>
                    <a:pt x="1308" y="101"/>
                  </a:lnTo>
                  <a:lnTo>
                    <a:pt x="1284" y="106"/>
                  </a:lnTo>
                  <a:lnTo>
                    <a:pt x="1255" y="111"/>
                  </a:lnTo>
                  <a:lnTo>
                    <a:pt x="1227" y="115"/>
                  </a:lnTo>
                  <a:lnTo>
                    <a:pt x="1212" y="116"/>
                  </a:lnTo>
                  <a:lnTo>
                    <a:pt x="1198" y="115"/>
                  </a:lnTo>
                  <a:lnTo>
                    <a:pt x="1184" y="114"/>
                  </a:lnTo>
                  <a:lnTo>
                    <a:pt x="1170" y="112"/>
                  </a:lnTo>
                  <a:lnTo>
                    <a:pt x="1159" y="107"/>
                  </a:lnTo>
                  <a:lnTo>
                    <a:pt x="1146" y="101"/>
                  </a:lnTo>
                  <a:lnTo>
                    <a:pt x="1141" y="98"/>
                  </a:lnTo>
                  <a:lnTo>
                    <a:pt x="1135" y="93"/>
                  </a:lnTo>
                  <a:lnTo>
                    <a:pt x="1131" y="88"/>
                  </a:lnTo>
                  <a:lnTo>
                    <a:pt x="1126" y="82"/>
                  </a:lnTo>
                  <a:lnTo>
                    <a:pt x="1121" y="77"/>
                  </a:lnTo>
                  <a:lnTo>
                    <a:pt x="1116" y="73"/>
                  </a:lnTo>
                  <a:lnTo>
                    <a:pt x="1111" y="68"/>
                  </a:lnTo>
                  <a:lnTo>
                    <a:pt x="1104" y="66"/>
                  </a:lnTo>
                  <a:lnTo>
                    <a:pt x="1097" y="64"/>
                  </a:lnTo>
                  <a:lnTo>
                    <a:pt x="1090" y="61"/>
                  </a:lnTo>
                  <a:lnTo>
                    <a:pt x="1081" y="60"/>
                  </a:lnTo>
                  <a:lnTo>
                    <a:pt x="1073" y="59"/>
                  </a:lnTo>
                  <a:lnTo>
                    <a:pt x="1056" y="59"/>
                  </a:lnTo>
                  <a:lnTo>
                    <a:pt x="1037" y="61"/>
                  </a:lnTo>
                  <a:lnTo>
                    <a:pt x="1020" y="64"/>
                  </a:lnTo>
                  <a:lnTo>
                    <a:pt x="1001" y="68"/>
                  </a:lnTo>
                  <a:lnTo>
                    <a:pt x="967" y="78"/>
                  </a:lnTo>
                  <a:lnTo>
                    <a:pt x="938" y="88"/>
                  </a:lnTo>
                  <a:lnTo>
                    <a:pt x="918" y="96"/>
                  </a:lnTo>
                  <a:lnTo>
                    <a:pt x="910" y="100"/>
                  </a:lnTo>
                  <a:lnTo>
                    <a:pt x="910" y="106"/>
                  </a:lnTo>
                  <a:lnTo>
                    <a:pt x="907" y="121"/>
                  </a:lnTo>
                  <a:lnTo>
                    <a:pt x="905" y="130"/>
                  </a:lnTo>
                  <a:lnTo>
                    <a:pt x="902" y="141"/>
                  </a:lnTo>
                  <a:lnTo>
                    <a:pt x="897" y="153"/>
                  </a:lnTo>
                  <a:lnTo>
                    <a:pt x="891" y="163"/>
                  </a:lnTo>
                  <a:lnTo>
                    <a:pt x="883" y="174"/>
                  </a:lnTo>
                  <a:lnTo>
                    <a:pt x="872" y="183"/>
                  </a:lnTo>
                  <a:lnTo>
                    <a:pt x="867" y="188"/>
                  </a:lnTo>
                  <a:lnTo>
                    <a:pt x="860" y="191"/>
                  </a:lnTo>
                  <a:lnTo>
                    <a:pt x="852" y="195"/>
                  </a:lnTo>
                  <a:lnTo>
                    <a:pt x="844" y="197"/>
                  </a:lnTo>
                  <a:lnTo>
                    <a:pt x="836" y="199"/>
                  </a:lnTo>
                  <a:lnTo>
                    <a:pt x="827" y="200"/>
                  </a:lnTo>
                  <a:lnTo>
                    <a:pt x="816" y="202"/>
                  </a:lnTo>
                  <a:lnTo>
                    <a:pt x="806" y="202"/>
                  </a:lnTo>
                  <a:lnTo>
                    <a:pt x="794" y="200"/>
                  </a:lnTo>
                  <a:lnTo>
                    <a:pt x="782" y="198"/>
                  </a:lnTo>
                  <a:lnTo>
                    <a:pt x="768" y="196"/>
                  </a:lnTo>
                  <a:lnTo>
                    <a:pt x="754" y="192"/>
                  </a:lnTo>
                  <a:lnTo>
                    <a:pt x="742" y="184"/>
                  </a:lnTo>
                  <a:lnTo>
                    <a:pt x="728" y="177"/>
                  </a:lnTo>
                  <a:lnTo>
                    <a:pt x="715" y="172"/>
                  </a:lnTo>
                  <a:lnTo>
                    <a:pt x="699" y="168"/>
                  </a:lnTo>
                  <a:lnTo>
                    <a:pt x="685" y="164"/>
                  </a:lnTo>
                  <a:lnTo>
                    <a:pt x="671" y="162"/>
                  </a:lnTo>
                  <a:lnTo>
                    <a:pt x="657" y="161"/>
                  </a:lnTo>
                  <a:lnTo>
                    <a:pt x="643" y="160"/>
                  </a:lnTo>
                  <a:lnTo>
                    <a:pt x="589" y="161"/>
                  </a:lnTo>
                  <a:lnTo>
                    <a:pt x="542" y="164"/>
                  </a:lnTo>
                  <a:lnTo>
                    <a:pt x="531" y="164"/>
                  </a:lnTo>
                  <a:lnTo>
                    <a:pt x="522" y="164"/>
                  </a:lnTo>
                  <a:lnTo>
                    <a:pt x="514" y="163"/>
                  </a:lnTo>
                  <a:lnTo>
                    <a:pt x="507" y="162"/>
                  </a:lnTo>
                  <a:lnTo>
                    <a:pt x="500" y="160"/>
                  </a:lnTo>
                  <a:lnTo>
                    <a:pt x="495" y="156"/>
                  </a:lnTo>
                  <a:lnTo>
                    <a:pt x="492" y="153"/>
                  </a:lnTo>
                  <a:lnTo>
                    <a:pt x="488" y="148"/>
                  </a:lnTo>
                  <a:lnTo>
                    <a:pt x="487" y="141"/>
                  </a:lnTo>
                  <a:lnTo>
                    <a:pt x="488" y="134"/>
                  </a:lnTo>
                  <a:lnTo>
                    <a:pt x="489" y="125"/>
                  </a:lnTo>
                  <a:lnTo>
                    <a:pt x="493" y="114"/>
                  </a:lnTo>
                  <a:lnTo>
                    <a:pt x="499" y="101"/>
                  </a:lnTo>
                  <a:lnTo>
                    <a:pt x="504" y="87"/>
                  </a:lnTo>
                  <a:lnTo>
                    <a:pt x="514" y="72"/>
                  </a:lnTo>
                  <a:lnTo>
                    <a:pt x="524" y="53"/>
                  </a:lnTo>
                  <a:lnTo>
                    <a:pt x="523" y="50"/>
                  </a:lnTo>
                  <a:lnTo>
                    <a:pt x="518" y="42"/>
                  </a:lnTo>
                  <a:lnTo>
                    <a:pt x="511" y="31"/>
                  </a:lnTo>
                  <a:lnTo>
                    <a:pt x="501" y="18"/>
                  </a:lnTo>
                  <a:lnTo>
                    <a:pt x="494" y="14"/>
                  </a:lnTo>
                  <a:lnTo>
                    <a:pt x="487" y="8"/>
                  </a:lnTo>
                  <a:lnTo>
                    <a:pt x="480" y="4"/>
                  </a:lnTo>
                  <a:lnTo>
                    <a:pt x="471" y="2"/>
                  </a:lnTo>
                  <a:lnTo>
                    <a:pt x="461" y="0"/>
                  </a:lnTo>
                  <a:lnTo>
                    <a:pt x="452" y="1"/>
                  </a:lnTo>
                  <a:lnTo>
                    <a:pt x="441" y="3"/>
                  </a:lnTo>
                  <a:lnTo>
                    <a:pt x="430" y="8"/>
                  </a:lnTo>
                  <a:lnTo>
                    <a:pt x="417" y="15"/>
                  </a:lnTo>
                  <a:lnTo>
                    <a:pt x="400" y="24"/>
                  </a:lnTo>
                  <a:lnTo>
                    <a:pt x="383" y="36"/>
                  </a:lnTo>
                  <a:lnTo>
                    <a:pt x="363" y="50"/>
                  </a:lnTo>
                  <a:lnTo>
                    <a:pt x="315" y="82"/>
                  </a:lnTo>
                  <a:lnTo>
                    <a:pt x="261" y="116"/>
                  </a:lnTo>
                  <a:lnTo>
                    <a:pt x="232" y="134"/>
                  </a:lnTo>
                  <a:lnTo>
                    <a:pt x="201" y="150"/>
                  </a:lnTo>
                  <a:lnTo>
                    <a:pt x="169" y="164"/>
                  </a:lnTo>
                  <a:lnTo>
                    <a:pt x="136" y="178"/>
                  </a:lnTo>
                  <a:lnTo>
                    <a:pt x="120" y="184"/>
                  </a:lnTo>
                  <a:lnTo>
                    <a:pt x="103" y="189"/>
                  </a:lnTo>
                  <a:lnTo>
                    <a:pt x="86" y="195"/>
                  </a:lnTo>
                  <a:lnTo>
                    <a:pt x="69" y="198"/>
                  </a:lnTo>
                  <a:lnTo>
                    <a:pt x="52" y="202"/>
                  </a:lnTo>
                  <a:lnTo>
                    <a:pt x="35" y="204"/>
                  </a:lnTo>
                  <a:lnTo>
                    <a:pt x="17" y="205"/>
                  </a:lnTo>
                  <a:lnTo>
                    <a:pt x="0" y="20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95"/>
            <p:cNvSpPr/>
            <p:nvPr/>
          </p:nvSpPr>
          <p:spPr>
            <a:xfrm>
              <a:off x="6443640" y="5328000"/>
              <a:ext cx="358200" cy="15984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375" h="987">
                  <a:moveTo>
                    <a:pt x="916" y="921"/>
                  </a:moveTo>
                  <a:lnTo>
                    <a:pt x="0" y="826"/>
                  </a:lnTo>
                  <a:lnTo>
                    <a:pt x="16" y="801"/>
                  </a:lnTo>
                  <a:lnTo>
                    <a:pt x="31" y="778"/>
                  </a:lnTo>
                  <a:lnTo>
                    <a:pt x="45" y="756"/>
                  </a:lnTo>
                  <a:lnTo>
                    <a:pt x="61" y="737"/>
                  </a:lnTo>
                  <a:lnTo>
                    <a:pt x="75" y="718"/>
                  </a:lnTo>
                  <a:lnTo>
                    <a:pt x="89" y="702"/>
                  </a:lnTo>
                  <a:lnTo>
                    <a:pt x="101" y="687"/>
                  </a:lnTo>
                  <a:lnTo>
                    <a:pt x="115" y="674"/>
                  </a:lnTo>
                  <a:lnTo>
                    <a:pt x="128" y="661"/>
                  </a:lnTo>
                  <a:lnTo>
                    <a:pt x="140" y="651"/>
                  </a:lnTo>
                  <a:lnTo>
                    <a:pt x="153" y="640"/>
                  </a:lnTo>
                  <a:lnTo>
                    <a:pt x="165" y="632"/>
                  </a:lnTo>
                  <a:lnTo>
                    <a:pt x="176" y="624"/>
                  </a:lnTo>
                  <a:lnTo>
                    <a:pt x="188" y="617"/>
                  </a:lnTo>
                  <a:lnTo>
                    <a:pt x="200" y="611"/>
                  </a:lnTo>
                  <a:lnTo>
                    <a:pt x="211" y="605"/>
                  </a:lnTo>
                  <a:lnTo>
                    <a:pt x="233" y="597"/>
                  </a:lnTo>
                  <a:lnTo>
                    <a:pt x="256" y="590"/>
                  </a:lnTo>
                  <a:lnTo>
                    <a:pt x="277" y="583"/>
                  </a:lnTo>
                  <a:lnTo>
                    <a:pt x="299" y="578"/>
                  </a:lnTo>
                  <a:lnTo>
                    <a:pt x="320" y="572"/>
                  </a:lnTo>
                  <a:lnTo>
                    <a:pt x="341" y="565"/>
                  </a:lnTo>
                  <a:lnTo>
                    <a:pt x="363" y="557"/>
                  </a:lnTo>
                  <a:lnTo>
                    <a:pt x="385" y="547"/>
                  </a:lnTo>
                  <a:lnTo>
                    <a:pt x="410" y="534"/>
                  </a:lnTo>
                  <a:lnTo>
                    <a:pt x="434" y="517"/>
                  </a:lnTo>
                  <a:lnTo>
                    <a:pt x="461" y="500"/>
                  </a:lnTo>
                  <a:lnTo>
                    <a:pt x="487" y="480"/>
                  </a:lnTo>
                  <a:lnTo>
                    <a:pt x="514" y="458"/>
                  </a:lnTo>
                  <a:lnTo>
                    <a:pt x="541" y="434"/>
                  </a:lnTo>
                  <a:lnTo>
                    <a:pt x="568" y="411"/>
                  </a:lnTo>
                  <a:lnTo>
                    <a:pt x="593" y="388"/>
                  </a:lnTo>
                  <a:lnTo>
                    <a:pt x="642" y="340"/>
                  </a:lnTo>
                  <a:lnTo>
                    <a:pt x="686" y="298"/>
                  </a:lnTo>
                  <a:lnTo>
                    <a:pt x="719" y="263"/>
                  </a:lnTo>
                  <a:lnTo>
                    <a:pt x="743" y="238"/>
                  </a:lnTo>
                  <a:lnTo>
                    <a:pt x="752" y="231"/>
                  </a:lnTo>
                  <a:lnTo>
                    <a:pt x="761" y="225"/>
                  </a:lnTo>
                  <a:lnTo>
                    <a:pt x="771" y="222"/>
                  </a:lnTo>
                  <a:lnTo>
                    <a:pt x="780" y="219"/>
                  </a:lnTo>
                  <a:lnTo>
                    <a:pt x="800" y="216"/>
                  </a:lnTo>
                  <a:lnTo>
                    <a:pt x="821" y="212"/>
                  </a:lnTo>
                  <a:lnTo>
                    <a:pt x="833" y="210"/>
                  </a:lnTo>
                  <a:lnTo>
                    <a:pt x="843" y="205"/>
                  </a:lnTo>
                  <a:lnTo>
                    <a:pt x="855" y="200"/>
                  </a:lnTo>
                  <a:lnTo>
                    <a:pt x="867" y="191"/>
                  </a:lnTo>
                  <a:lnTo>
                    <a:pt x="877" y="181"/>
                  </a:lnTo>
                  <a:lnTo>
                    <a:pt x="889" y="167"/>
                  </a:lnTo>
                  <a:lnTo>
                    <a:pt x="902" y="151"/>
                  </a:lnTo>
                  <a:lnTo>
                    <a:pt x="913" y="130"/>
                  </a:lnTo>
                  <a:lnTo>
                    <a:pt x="924" y="110"/>
                  </a:lnTo>
                  <a:lnTo>
                    <a:pt x="934" y="92"/>
                  </a:lnTo>
                  <a:lnTo>
                    <a:pt x="947" y="75"/>
                  </a:lnTo>
                  <a:lnTo>
                    <a:pt x="960" y="58"/>
                  </a:lnTo>
                  <a:lnTo>
                    <a:pt x="988" y="28"/>
                  </a:lnTo>
                  <a:lnTo>
                    <a:pt x="1016" y="0"/>
                  </a:lnTo>
                  <a:lnTo>
                    <a:pt x="1192" y="37"/>
                  </a:lnTo>
                  <a:lnTo>
                    <a:pt x="1192" y="49"/>
                  </a:lnTo>
                  <a:lnTo>
                    <a:pt x="1194" y="62"/>
                  </a:lnTo>
                  <a:lnTo>
                    <a:pt x="1195" y="72"/>
                  </a:lnTo>
                  <a:lnTo>
                    <a:pt x="1197" y="83"/>
                  </a:lnTo>
                  <a:lnTo>
                    <a:pt x="1199" y="93"/>
                  </a:lnTo>
                  <a:lnTo>
                    <a:pt x="1203" y="103"/>
                  </a:lnTo>
                  <a:lnTo>
                    <a:pt x="1206" y="112"/>
                  </a:lnTo>
                  <a:lnTo>
                    <a:pt x="1210" y="120"/>
                  </a:lnTo>
                  <a:lnTo>
                    <a:pt x="1215" y="127"/>
                  </a:lnTo>
                  <a:lnTo>
                    <a:pt x="1219" y="134"/>
                  </a:lnTo>
                  <a:lnTo>
                    <a:pt x="1224" y="141"/>
                  </a:lnTo>
                  <a:lnTo>
                    <a:pt x="1230" y="147"/>
                  </a:lnTo>
                  <a:lnTo>
                    <a:pt x="1243" y="159"/>
                  </a:lnTo>
                  <a:lnTo>
                    <a:pt x="1256" y="168"/>
                  </a:lnTo>
                  <a:lnTo>
                    <a:pt x="1270" y="176"/>
                  </a:lnTo>
                  <a:lnTo>
                    <a:pt x="1284" y="183"/>
                  </a:lnTo>
                  <a:lnTo>
                    <a:pt x="1300" y="189"/>
                  </a:lnTo>
                  <a:lnTo>
                    <a:pt x="1315" y="194"/>
                  </a:lnTo>
                  <a:lnTo>
                    <a:pt x="1347" y="201"/>
                  </a:lnTo>
                  <a:lnTo>
                    <a:pt x="1377" y="207"/>
                  </a:lnTo>
                  <a:lnTo>
                    <a:pt x="1400" y="209"/>
                  </a:lnTo>
                  <a:lnTo>
                    <a:pt x="1439" y="209"/>
                  </a:lnTo>
                  <a:lnTo>
                    <a:pt x="1492" y="209"/>
                  </a:lnTo>
                  <a:lnTo>
                    <a:pt x="1556" y="208"/>
                  </a:lnTo>
                  <a:lnTo>
                    <a:pt x="1628" y="205"/>
                  </a:lnTo>
                  <a:lnTo>
                    <a:pt x="1708" y="204"/>
                  </a:lnTo>
                  <a:lnTo>
                    <a:pt x="1792" y="203"/>
                  </a:lnTo>
                  <a:lnTo>
                    <a:pt x="1877" y="203"/>
                  </a:lnTo>
                  <a:lnTo>
                    <a:pt x="1962" y="203"/>
                  </a:lnTo>
                  <a:lnTo>
                    <a:pt x="2046" y="205"/>
                  </a:lnTo>
                  <a:lnTo>
                    <a:pt x="2086" y="208"/>
                  </a:lnTo>
                  <a:lnTo>
                    <a:pt x="2125" y="210"/>
                  </a:lnTo>
                  <a:lnTo>
                    <a:pt x="2161" y="212"/>
                  </a:lnTo>
                  <a:lnTo>
                    <a:pt x="2196" y="216"/>
                  </a:lnTo>
                  <a:lnTo>
                    <a:pt x="2227" y="221"/>
                  </a:lnTo>
                  <a:lnTo>
                    <a:pt x="2258" y="225"/>
                  </a:lnTo>
                  <a:lnTo>
                    <a:pt x="2285" y="230"/>
                  </a:lnTo>
                  <a:lnTo>
                    <a:pt x="2308" y="237"/>
                  </a:lnTo>
                  <a:lnTo>
                    <a:pt x="2328" y="244"/>
                  </a:lnTo>
                  <a:lnTo>
                    <a:pt x="2344" y="251"/>
                  </a:lnTo>
                  <a:lnTo>
                    <a:pt x="2357" y="260"/>
                  </a:lnTo>
                  <a:lnTo>
                    <a:pt x="2364" y="270"/>
                  </a:lnTo>
                  <a:lnTo>
                    <a:pt x="2370" y="280"/>
                  </a:lnTo>
                  <a:lnTo>
                    <a:pt x="2373" y="288"/>
                  </a:lnTo>
                  <a:lnTo>
                    <a:pt x="2375" y="298"/>
                  </a:lnTo>
                  <a:lnTo>
                    <a:pt x="2375" y="306"/>
                  </a:lnTo>
                  <a:lnTo>
                    <a:pt x="2373" y="313"/>
                  </a:lnTo>
                  <a:lnTo>
                    <a:pt x="2370" y="320"/>
                  </a:lnTo>
                  <a:lnTo>
                    <a:pt x="2366" y="327"/>
                  </a:lnTo>
                  <a:lnTo>
                    <a:pt x="2361" y="333"/>
                  </a:lnTo>
                  <a:lnTo>
                    <a:pt x="2355" y="339"/>
                  </a:lnTo>
                  <a:lnTo>
                    <a:pt x="2347" y="343"/>
                  </a:lnTo>
                  <a:lnTo>
                    <a:pt x="2338" y="348"/>
                  </a:lnTo>
                  <a:lnTo>
                    <a:pt x="2329" y="353"/>
                  </a:lnTo>
                  <a:lnTo>
                    <a:pt x="2308" y="362"/>
                  </a:lnTo>
                  <a:lnTo>
                    <a:pt x="2285" y="369"/>
                  </a:lnTo>
                  <a:lnTo>
                    <a:pt x="2233" y="382"/>
                  </a:lnTo>
                  <a:lnTo>
                    <a:pt x="2180" y="395"/>
                  </a:lnTo>
                  <a:lnTo>
                    <a:pt x="2153" y="401"/>
                  </a:lnTo>
                  <a:lnTo>
                    <a:pt x="2129" y="408"/>
                  </a:lnTo>
                  <a:lnTo>
                    <a:pt x="2107" y="415"/>
                  </a:lnTo>
                  <a:lnTo>
                    <a:pt x="2088" y="423"/>
                  </a:lnTo>
                  <a:lnTo>
                    <a:pt x="2059" y="438"/>
                  </a:lnTo>
                  <a:lnTo>
                    <a:pt x="2039" y="448"/>
                  </a:lnTo>
                  <a:lnTo>
                    <a:pt x="2034" y="453"/>
                  </a:lnTo>
                  <a:lnTo>
                    <a:pt x="2029" y="457"/>
                  </a:lnTo>
                  <a:lnTo>
                    <a:pt x="2027" y="461"/>
                  </a:lnTo>
                  <a:lnTo>
                    <a:pt x="2025" y="466"/>
                  </a:lnTo>
                  <a:lnTo>
                    <a:pt x="2027" y="471"/>
                  </a:lnTo>
                  <a:lnTo>
                    <a:pt x="2028" y="475"/>
                  </a:lnTo>
                  <a:lnTo>
                    <a:pt x="2031" y="481"/>
                  </a:lnTo>
                  <a:lnTo>
                    <a:pt x="2035" y="489"/>
                  </a:lnTo>
                  <a:lnTo>
                    <a:pt x="2045" y="507"/>
                  </a:lnTo>
                  <a:lnTo>
                    <a:pt x="2057" y="533"/>
                  </a:lnTo>
                  <a:lnTo>
                    <a:pt x="2062" y="547"/>
                  </a:lnTo>
                  <a:lnTo>
                    <a:pt x="2064" y="559"/>
                  </a:lnTo>
                  <a:lnTo>
                    <a:pt x="2065" y="571"/>
                  </a:lnTo>
                  <a:lnTo>
                    <a:pt x="2064" y="583"/>
                  </a:lnTo>
                  <a:lnTo>
                    <a:pt x="2060" y="593"/>
                  </a:lnTo>
                  <a:lnTo>
                    <a:pt x="2056" y="603"/>
                  </a:lnTo>
                  <a:lnTo>
                    <a:pt x="2049" y="612"/>
                  </a:lnTo>
                  <a:lnTo>
                    <a:pt x="2041" y="620"/>
                  </a:lnTo>
                  <a:lnTo>
                    <a:pt x="2031" y="628"/>
                  </a:lnTo>
                  <a:lnTo>
                    <a:pt x="2021" y="636"/>
                  </a:lnTo>
                  <a:lnTo>
                    <a:pt x="2009" y="645"/>
                  </a:lnTo>
                  <a:lnTo>
                    <a:pt x="1995" y="653"/>
                  </a:lnTo>
                  <a:lnTo>
                    <a:pt x="1966" y="668"/>
                  </a:lnTo>
                  <a:lnTo>
                    <a:pt x="1933" y="684"/>
                  </a:lnTo>
                  <a:lnTo>
                    <a:pt x="1916" y="694"/>
                  </a:lnTo>
                  <a:lnTo>
                    <a:pt x="1900" y="702"/>
                  </a:lnTo>
                  <a:lnTo>
                    <a:pt x="1888" y="711"/>
                  </a:lnTo>
                  <a:lnTo>
                    <a:pt x="1875" y="721"/>
                  </a:lnTo>
                  <a:lnTo>
                    <a:pt x="1863" y="729"/>
                  </a:lnTo>
                  <a:lnTo>
                    <a:pt x="1854" y="738"/>
                  </a:lnTo>
                  <a:lnTo>
                    <a:pt x="1845" y="747"/>
                  </a:lnTo>
                  <a:lnTo>
                    <a:pt x="1837" y="757"/>
                  </a:lnTo>
                  <a:lnTo>
                    <a:pt x="1831" y="767"/>
                  </a:lnTo>
                  <a:lnTo>
                    <a:pt x="1827" y="777"/>
                  </a:lnTo>
                  <a:lnTo>
                    <a:pt x="1823" y="787"/>
                  </a:lnTo>
                  <a:lnTo>
                    <a:pt x="1821" y="797"/>
                  </a:lnTo>
                  <a:lnTo>
                    <a:pt x="1820" y="807"/>
                  </a:lnTo>
                  <a:lnTo>
                    <a:pt x="1820" y="819"/>
                  </a:lnTo>
                  <a:lnTo>
                    <a:pt x="1821" y="829"/>
                  </a:lnTo>
                  <a:lnTo>
                    <a:pt x="1823" y="841"/>
                  </a:lnTo>
                  <a:lnTo>
                    <a:pt x="1826" y="851"/>
                  </a:lnTo>
                  <a:lnTo>
                    <a:pt x="1826" y="863"/>
                  </a:lnTo>
                  <a:lnTo>
                    <a:pt x="1823" y="874"/>
                  </a:lnTo>
                  <a:lnTo>
                    <a:pt x="1820" y="884"/>
                  </a:lnTo>
                  <a:lnTo>
                    <a:pt x="1815" y="893"/>
                  </a:lnTo>
                  <a:lnTo>
                    <a:pt x="1808" y="903"/>
                  </a:lnTo>
                  <a:lnTo>
                    <a:pt x="1801" y="912"/>
                  </a:lnTo>
                  <a:lnTo>
                    <a:pt x="1792" y="920"/>
                  </a:lnTo>
                  <a:lnTo>
                    <a:pt x="1772" y="938"/>
                  </a:lnTo>
                  <a:lnTo>
                    <a:pt x="1748" y="954"/>
                  </a:lnTo>
                  <a:lnTo>
                    <a:pt x="1725" y="971"/>
                  </a:lnTo>
                  <a:lnTo>
                    <a:pt x="1702" y="987"/>
                  </a:lnTo>
                  <a:lnTo>
                    <a:pt x="916" y="9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96"/>
            <p:cNvSpPr/>
            <p:nvPr/>
          </p:nvSpPr>
          <p:spPr>
            <a:xfrm>
              <a:off x="6443640" y="5328000"/>
              <a:ext cx="358200" cy="15984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375" h="987">
                  <a:moveTo>
                    <a:pt x="916" y="921"/>
                  </a:moveTo>
                  <a:lnTo>
                    <a:pt x="0" y="826"/>
                  </a:lnTo>
                  <a:lnTo>
                    <a:pt x="16" y="801"/>
                  </a:lnTo>
                  <a:lnTo>
                    <a:pt x="31" y="778"/>
                  </a:lnTo>
                  <a:lnTo>
                    <a:pt x="45" y="756"/>
                  </a:lnTo>
                  <a:lnTo>
                    <a:pt x="61" y="737"/>
                  </a:lnTo>
                  <a:lnTo>
                    <a:pt x="75" y="718"/>
                  </a:lnTo>
                  <a:lnTo>
                    <a:pt x="89" y="702"/>
                  </a:lnTo>
                  <a:lnTo>
                    <a:pt x="101" y="687"/>
                  </a:lnTo>
                  <a:lnTo>
                    <a:pt x="115" y="674"/>
                  </a:lnTo>
                  <a:lnTo>
                    <a:pt x="128" y="661"/>
                  </a:lnTo>
                  <a:lnTo>
                    <a:pt x="140" y="651"/>
                  </a:lnTo>
                  <a:lnTo>
                    <a:pt x="153" y="640"/>
                  </a:lnTo>
                  <a:lnTo>
                    <a:pt x="165" y="632"/>
                  </a:lnTo>
                  <a:lnTo>
                    <a:pt x="176" y="624"/>
                  </a:lnTo>
                  <a:lnTo>
                    <a:pt x="188" y="617"/>
                  </a:lnTo>
                  <a:lnTo>
                    <a:pt x="200" y="611"/>
                  </a:lnTo>
                  <a:lnTo>
                    <a:pt x="211" y="605"/>
                  </a:lnTo>
                  <a:lnTo>
                    <a:pt x="233" y="597"/>
                  </a:lnTo>
                  <a:lnTo>
                    <a:pt x="256" y="590"/>
                  </a:lnTo>
                  <a:lnTo>
                    <a:pt x="277" y="583"/>
                  </a:lnTo>
                  <a:lnTo>
                    <a:pt x="299" y="578"/>
                  </a:lnTo>
                  <a:lnTo>
                    <a:pt x="320" y="572"/>
                  </a:lnTo>
                  <a:lnTo>
                    <a:pt x="341" y="565"/>
                  </a:lnTo>
                  <a:lnTo>
                    <a:pt x="363" y="557"/>
                  </a:lnTo>
                  <a:lnTo>
                    <a:pt x="385" y="547"/>
                  </a:lnTo>
                  <a:lnTo>
                    <a:pt x="410" y="534"/>
                  </a:lnTo>
                  <a:lnTo>
                    <a:pt x="434" y="517"/>
                  </a:lnTo>
                  <a:lnTo>
                    <a:pt x="461" y="500"/>
                  </a:lnTo>
                  <a:lnTo>
                    <a:pt x="487" y="480"/>
                  </a:lnTo>
                  <a:lnTo>
                    <a:pt x="514" y="458"/>
                  </a:lnTo>
                  <a:lnTo>
                    <a:pt x="541" y="434"/>
                  </a:lnTo>
                  <a:lnTo>
                    <a:pt x="568" y="411"/>
                  </a:lnTo>
                  <a:lnTo>
                    <a:pt x="593" y="388"/>
                  </a:lnTo>
                  <a:lnTo>
                    <a:pt x="642" y="340"/>
                  </a:lnTo>
                  <a:lnTo>
                    <a:pt x="686" y="298"/>
                  </a:lnTo>
                  <a:lnTo>
                    <a:pt x="719" y="263"/>
                  </a:lnTo>
                  <a:lnTo>
                    <a:pt x="743" y="238"/>
                  </a:lnTo>
                  <a:lnTo>
                    <a:pt x="752" y="231"/>
                  </a:lnTo>
                  <a:lnTo>
                    <a:pt x="761" y="225"/>
                  </a:lnTo>
                  <a:lnTo>
                    <a:pt x="771" y="222"/>
                  </a:lnTo>
                  <a:lnTo>
                    <a:pt x="780" y="219"/>
                  </a:lnTo>
                  <a:lnTo>
                    <a:pt x="800" y="216"/>
                  </a:lnTo>
                  <a:lnTo>
                    <a:pt x="821" y="212"/>
                  </a:lnTo>
                  <a:lnTo>
                    <a:pt x="833" y="210"/>
                  </a:lnTo>
                  <a:lnTo>
                    <a:pt x="843" y="205"/>
                  </a:lnTo>
                  <a:lnTo>
                    <a:pt x="855" y="200"/>
                  </a:lnTo>
                  <a:lnTo>
                    <a:pt x="867" y="191"/>
                  </a:lnTo>
                  <a:lnTo>
                    <a:pt x="877" y="181"/>
                  </a:lnTo>
                  <a:lnTo>
                    <a:pt x="889" y="167"/>
                  </a:lnTo>
                  <a:lnTo>
                    <a:pt x="902" y="151"/>
                  </a:lnTo>
                  <a:lnTo>
                    <a:pt x="913" y="130"/>
                  </a:lnTo>
                  <a:lnTo>
                    <a:pt x="924" y="110"/>
                  </a:lnTo>
                  <a:lnTo>
                    <a:pt x="934" y="92"/>
                  </a:lnTo>
                  <a:lnTo>
                    <a:pt x="947" y="75"/>
                  </a:lnTo>
                  <a:lnTo>
                    <a:pt x="960" y="58"/>
                  </a:lnTo>
                  <a:lnTo>
                    <a:pt x="988" y="28"/>
                  </a:lnTo>
                  <a:lnTo>
                    <a:pt x="1016" y="0"/>
                  </a:lnTo>
                  <a:lnTo>
                    <a:pt x="1192" y="37"/>
                  </a:lnTo>
                  <a:lnTo>
                    <a:pt x="1192" y="49"/>
                  </a:lnTo>
                  <a:lnTo>
                    <a:pt x="1194" y="62"/>
                  </a:lnTo>
                  <a:lnTo>
                    <a:pt x="1195" y="72"/>
                  </a:lnTo>
                  <a:lnTo>
                    <a:pt x="1197" y="83"/>
                  </a:lnTo>
                  <a:lnTo>
                    <a:pt x="1199" y="93"/>
                  </a:lnTo>
                  <a:lnTo>
                    <a:pt x="1203" y="103"/>
                  </a:lnTo>
                  <a:lnTo>
                    <a:pt x="1206" y="112"/>
                  </a:lnTo>
                  <a:lnTo>
                    <a:pt x="1210" y="120"/>
                  </a:lnTo>
                  <a:lnTo>
                    <a:pt x="1215" y="127"/>
                  </a:lnTo>
                  <a:lnTo>
                    <a:pt x="1219" y="134"/>
                  </a:lnTo>
                  <a:lnTo>
                    <a:pt x="1224" y="141"/>
                  </a:lnTo>
                  <a:lnTo>
                    <a:pt x="1230" y="147"/>
                  </a:lnTo>
                  <a:lnTo>
                    <a:pt x="1243" y="159"/>
                  </a:lnTo>
                  <a:lnTo>
                    <a:pt x="1256" y="168"/>
                  </a:lnTo>
                  <a:lnTo>
                    <a:pt x="1270" y="176"/>
                  </a:lnTo>
                  <a:lnTo>
                    <a:pt x="1284" y="183"/>
                  </a:lnTo>
                  <a:lnTo>
                    <a:pt x="1300" y="189"/>
                  </a:lnTo>
                  <a:lnTo>
                    <a:pt x="1315" y="194"/>
                  </a:lnTo>
                  <a:lnTo>
                    <a:pt x="1347" y="201"/>
                  </a:lnTo>
                  <a:lnTo>
                    <a:pt x="1377" y="207"/>
                  </a:lnTo>
                  <a:lnTo>
                    <a:pt x="1400" y="209"/>
                  </a:lnTo>
                  <a:lnTo>
                    <a:pt x="1439" y="209"/>
                  </a:lnTo>
                  <a:lnTo>
                    <a:pt x="1492" y="209"/>
                  </a:lnTo>
                  <a:lnTo>
                    <a:pt x="1556" y="208"/>
                  </a:lnTo>
                  <a:lnTo>
                    <a:pt x="1628" y="205"/>
                  </a:lnTo>
                  <a:lnTo>
                    <a:pt x="1708" y="204"/>
                  </a:lnTo>
                  <a:lnTo>
                    <a:pt x="1792" y="203"/>
                  </a:lnTo>
                  <a:lnTo>
                    <a:pt x="1877" y="203"/>
                  </a:lnTo>
                  <a:lnTo>
                    <a:pt x="1962" y="203"/>
                  </a:lnTo>
                  <a:lnTo>
                    <a:pt x="2046" y="205"/>
                  </a:lnTo>
                  <a:lnTo>
                    <a:pt x="2086" y="208"/>
                  </a:lnTo>
                  <a:lnTo>
                    <a:pt x="2125" y="210"/>
                  </a:lnTo>
                  <a:lnTo>
                    <a:pt x="2161" y="212"/>
                  </a:lnTo>
                  <a:lnTo>
                    <a:pt x="2196" y="216"/>
                  </a:lnTo>
                  <a:lnTo>
                    <a:pt x="2227" y="221"/>
                  </a:lnTo>
                  <a:lnTo>
                    <a:pt x="2258" y="225"/>
                  </a:lnTo>
                  <a:lnTo>
                    <a:pt x="2285" y="230"/>
                  </a:lnTo>
                  <a:lnTo>
                    <a:pt x="2308" y="237"/>
                  </a:lnTo>
                  <a:lnTo>
                    <a:pt x="2328" y="244"/>
                  </a:lnTo>
                  <a:lnTo>
                    <a:pt x="2344" y="251"/>
                  </a:lnTo>
                  <a:lnTo>
                    <a:pt x="2357" y="260"/>
                  </a:lnTo>
                  <a:lnTo>
                    <a:pt x="2364" y="270"/>
                  </a:lnTo>
                  <a:lnTo>
                    <a:pt x="2370" y="280"/>
                  </a:lnTo>
                  <a:lnTo>
                    <a:pt x="2373" y="288"/>
                  </a:lnTo>
                  <a:lnTo>
                    <a:pt x="2375" y="298"/>
                  </a:lnTo>
                  <a:lnTo>
                    <a:pt x="2375" y="306"/>
                  </a:lnTo>
                  <a:lnTo>
                    <a:pt x="2373" y="313"/>
                  </a:lnTo>
                  <a:lnTo>
                    <a:pt x="2370" y="320"/>
                  </a:lnTo>
                  <a:lnTo>
                    <a:pt x="2366" y="327"/>
                  </a:lnTo>
                  <a:lnTo>
                    <a:pt x="2361" y="333"/>
                  </a:lnTo>
                  <a:lnTo>
                    <a:pt x="2355" y="339"/>
                  </a:lnTo>
                  <a:lnTo>
                    <a:pt x="2347" y="343"/>
                  </a:lnTo>
                  <a:lnTo>
                    <a:pt x="2338" y="348"/>
                  </a:lnTo>
                  <a:lnTo>
                    <a:pt x="2329" y="353"/>
                  </a:lnTo>
                  <a:lnTo>
                    <a:pt x="2308" y="362"/>
                  </a:lnTo>
                  <a:lnTo>
                    <a:pt x="2285" y="369"/>
                  </a:lnTo>
                  <a:lnTo>
                    <a:pt x="2233" y="382"/>
                  </a:lnTo>
                  <a:lnTo>
                    <a:pt x="2180" y="395"/>
                  </a:lnTo>
                  <a:lnTo>
                    <a:pt x="2153" y="401"/>
                  </a:lnTo>
                  <a:lnTo>
                    <a:pt x="2129" y="408"/>
                  </a:lnTo>
                  <a:lnTo>
                    <a:pt x="2107" y="415"/>
                  </a:lnTo>
                  <a:lnTo>
                    <a:pt x="2088" y="423"/>
                  </a:lnTo>
                  <a:lnTo>
                    <a:pt x="2059" y="438"/>
                  </a:lnTo>
                  <a:lnTo>
                    <a:pt x="2039" y="448"/>
                  </a:lnTo>
                  <a:lnTo>
                    <a:pt x="2034" y="453"/>
                  </a:lnTo>
                  <a:lnTo>
                    <a:pt x="2029" y="457"/>
                  </a:lnTo>
                  <a:lnTo>
                    <a:pt x="2027" y="461"/>
                  </a:lnTo>
                  <a:lnTo>
                    <a:pt x="2025" y="466"/>
                  </a:lnTo>
                  <a:lnTo>
                    <a:pt x="2027" y="471"/>
                  </a:lnTo>
                  <a:lnTo>
                    <a:pt x="2028" y="475"/>
                  </a:lnTo>
                  <a:lnTo>
                    <a:pt x="2031" y="481"/>
                  </a:lnTo>
                  <a:lnTo>
                    <a:pt x="2035" y="489"/>
                  </a:lnTo>
                  <a:lnTo>
                    <a:pt x="2045" y="507"/>
                  </a:lnTo>
                  <a:lnTo>
                    <a:pt x="2057" y="533"/>
                  </a:lnTo>
                  <a:lnTo>
                    <a:pt x="2062" y="547"/>
                  </a:lnTo>
                  <a:lnTo>
                    <a:pt x="2064" y="559"/>
                  </a:lnTo>
                  <a:lnTo>
                    <a:pt x="2065" y="571"/>
                  </a:lnTo>
                  <a:lnTo>
                    <a:pt x="2064" y="583"/>
                  </a:lnTo>
                  <a:lnTo>
                    <a:pt x="2060" y="593"/>
                  </a:lnTo>
                  <a:lnTo>
                    <a:pt x="2056" y="603"/>
                  </a:lnTo>
                  <a:lnTo>
                    <a:pt x="2049" y="612"/>
                  </a:lnTo>
                  <a:lnTo>
                    <a:pt x="2041" y="620"/>
                  </a:lnTo>
                  <a:lnTo>
                    <a:pt x="2031" y="628"/>
                  </a:lnTo>
                  <a:lnTo>
                    <a:pt x="2021" y="636"/>
                  </a:lnTo>
                  <a:lnTo>
                    <a:pt x="2009" y="645"/>
                  </a:lnTo>
                  <a:lnTo>
                    <a:pt x="1995" y="653"/>
                  </a:lnTo>
                  <a:lnTo>
                    <a:pt x="1966" y="668"/>
                  </a:lnTo>
                  <a:lnTo>
                    <a:pt x="1933" y="684"/>
                  </a:lnTo>
                  <a:lnTo>
                    <a:pt x="1916" y="694"/>
                  </a:lnTo>
                  <a:lnTo>
                    <a:pt x="1900" y="702"/>
                  </a:lnTo>
                  <a:lnTo>
                    <a:pt x="1888" y="711"/>
                  </a:lnTo>
                  <a:lnTo>
                    <a:pt x="1875" y="721"/>
                  </a:lnTo>
                  <a:lnTo>
                    <a:pt x="1863" y="729"/>
                  </a:lnTo>
                  <a:lnTo>
                    <a:pt x="1854" y="738"/>
                  </a:lnTo>
                  <a:lnTo>
                    <a:pt x="1845" y="747"/>
                  </a:lnTo>
                  <a:lnTo>
                    <a:pt x="1837" y="757"/>
                  </a:lnTo>
                  <a:lnTo>
                    <a:pt x="1831" y="767"/>
                  </a:lnTo>
                  <a:lnTo>
                    <a:pt x="1827" y="777"/>
                  </a:lnTo>
                  <a:lnTo>
                    <a:pt x="1823" y="787"/>
                  </a:lnTo>
                  <a:lnTo>
                    <a:pt x="1821" y="797"/>
                  </a:lnTo>
                  <a:lnTo>
                    <a:pt x="1820" y="807"/>
                  </a:lnTo>
                  <a:lnTo>
                    <a:pt x="1820" y="819"/>
                  </a:lnTo>
                  <a:lnTo>
                    <a:pt x="1821" y="829"/>
                  </a:lnTo>
                  <a:lnTo>
                    <a:pt x="1823" y="841"/>
                  </a:lnTo>
                  <a:lnTo>
                    <a:pt x="1826" y="851"/>
                  </a:lnTo>
                  <a:lnTo>
                    <a:pt x="1826" y="863"/>
                  </a:lnTo>
                  <a:lnTo>
                    <a:pt x="1823" y="874"/>
                  </a:lnTo>
                  <a:lnTo>
                    <a:pt x="1820" y="884"/>
                  </a:lnTo>
                  <a:lnTo>
                    <a:pt x="1815" y="893"/>
                  </a:lnTo>
                  <a:lnTo>
                    <a:pt x="1808" y="903"/>
                  </a:lnTo>
                  <a:lnTo>
                    <a:pt x="1801" y="912"/>
                  </a:lnTo>
                  <a:lnTo>
                    <a:pt x="1792" y="920"/>
                  </a:lnTo>
                  <a:lnTo>
                    <a:pt x="1772" y="938"/>
                  </a:lnTo>
                  <a:lnTo>
                    <a:pt x="1748" y="954"/>
                  </a:lnTo>
                  <a:lnTo>
                    <a:pt x="1725" y="971"/>
                  </a:lnTo>
                  <a:lnTo>
                    <a:pt x="1702" y="987"/>
                  </a:lnTo>
                  <a:lnTo>
                    <a:pt x="916" y="9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97"/>
            <p:cNvSpPr/>
            <p:nvPr/>
          </p:nvSpPr>
          <p:spPr>
            <a:xfrm>
              <a:off x="6488280" y="5476680"/>
              <a:ext cx="310680" cy="3207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069" h="1958">
                  <a:moveTo>
                    <a:pt x="564" y="1958"/>
                  </a:moveTo>
                  <a:lnTo>
                    <a:pt x="0" y="712"/>
                  </a:lnTo>
                  <a:lnTo>
                    <a:pt x="631" y="0"/>
                  </a:lnTo>
                  <a:lnTo>
                    <a:pt x="1417" y="66"/>
                  </a:lnTo>
                  <a:lnTo>
                    <a:pt x="1517" y="82"/>
                  </a:lnTo>
                  <a:lnTo>
                    <a:pt x="1617" y="96"/>
                  </a:lnTo>
                  <a:lnTo>
                    <a:pt x="1712" y="108"/>
                  </a:lnTo>
                  <a:lnTo>
                    <a:pt x="1803" y="120"/>
                  </a:lnTo>
                  <a:lnTo>
                    <a:pt x="1886" y="129"/>
                  </a:lnTo>
                  <a:lnTo>
                    <a:pt x="1959" y="139"/>
                  </a:lnTo>
                  <a:lnTo>
                    <a:pt x="1991" y="145"/>
                  </a:lnTo>
                  <a:lnTo>
                    <a:pt x="2021" y="150"/>
                  </a:lnTo>
                  <a:lnTo>
                    <a:pt x="2046" y="156"/>
                  </a:lnTo>
                  <a:lnTo>
                    <a:pt x="2069" y="162"/>
                  </a:lnTo>
                  <a:lnTo>
                    <a:pt x="1034" y="1685"/>
                  </a:lnTo>
                  <a:lnTo>
                    <a:pt x="1011" y="1680"/>
                  </a:lnTo>
                  <a:lnTo>
                    <a:pt x="990" y="1676"/>
                  </a:lnTo>
                  <a:lnTo>
                    <a:pt x="969" y="1673"/>
                  </a:lnTo>
                  <a:lnTo>
                    <a:pt x="950" y="1672"/>
                  </a:lnTo>
                  <a:lnTo>
                    <a:pt x="931" y="1671"/>
                  </a:lnTo>
                  <a:lnTo>
                    <a:pt x="913" y="1672"/>
                  </a:lnTo>
                  <a:lnTo>
                    <a:pt x="896" y="1673"/>
                  </a:lnTo>
                  <a:lnTo>
                    <a:pt x="879" y="1677"/>
                  </a:lnTo>
                  <a:lnTo>
                    <a:pt x="863" y="1680"/>
                  </a:lnTo>
                  <a:lnTo>
                    <a:pt x="848" y="1685"/>
                  </a:lnTo>
                  <a:lnTo>
                    <a:pt x="833" y="1690"/>
                  </a:lnTo>
                  <a:lnTo>
                    <a:pt x="819" y="1697"/>
                  </a:lnTo>
                  <a:lnTo>
                    <a:pt x="805" y="1704"/>
                  </a:lnTo>
                  <a:lnTo>
                    <a:pt x="792" y="1712"/>
                  </a:lnTo>
                  <a:lnTo>
                    <a:pt x="779" y="1720"/>
                  </a:lnTo>
                  <a:lnTo>
                    <a:pt x="766" y="1730"/>
                  </a:lnTo>
                  <a:lnTo>
                    <a:pt x="753" y="1740"/>
                  </a:lnTo>
                  <a:lnTo>
                    <a:pt x="740" y="1751"/>
                  </a:lnTo>
                  <a:lnTo>
                    <a:pt x="729" y="1763"/>
                  </a:lnTo>
                  <a:lnTo>
                    <a:pt x="717" y="1775"/>
                  </a:lnTo>
                  <a:lnTo>
                    <a:pt x="693" y="1802"/>
                  </a:lnTo>
                  <a:lnTo>
                    <a:pt x="669" y="1830"/>
                  </a:lnTo>
                  <a:lnTo>
                    <a:pt x="619" y="1892"/>
                  </a:lnTo>
                  <a:lnTo>
                    <a:pt x="564" y="19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98"/>
            <p:cNvSpPr/>
            <p:nvPr/>
          </p:nvSpPr>
          <p:spPr>
            <a:xfrm>
              <a:off x="6488280" y="5476680"/>
              <a:ext cx="310680" cy="3207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069" h="1958">
                  <a:moveTo>
                    <a:pt x="564" y="1958"/>
                  </a:moveTo>
                  <a:lnTo>
                    <a:pt x="0" y="712"/>
                  </a:lnTo>
                  <a:lnTo>
                    <a:pt x="631" y="0"/>
                  </a:lnTo>
                  <a:lnTo>
                    <a:pt x="1417" y="66"/>
                  </a:lnTo>
                  <a:lnTo>
                    <a:pt x="1517" y="82"/>
                  </a:lnTo>
                  <a:lnTo>
                    <a:pt x="1617" y="96"/>
                  </a:lnTo>
                  <a:lnTo>
                    <a:pt x="1712" y="108"/>
                  </a:lnTo>
                  <a:lnTo>
                    <a:pt x="1803" y="120"/>
                  </a:lnTo>
                  <a:lnTo>
                    <a:pt x="1886" y="129"/>
                  </a:lnTo>
                  <a:lnTo>
                    <a:pt x="1959" y="139"/>
                  </a:lnTo>
                  <a:lnTo>
                    <a:pt x="1991" y="145"/>
                  </a:lnTo>
                  <a:lnTo>
                    <a:pt x="2021" y="150"/>
                  </a:lnTo>
                  <a:lnTo>
                    <a:pt x="2046" y="156"/>
                  </a:lnTo>
                  <a:lnTo>
                    <a:pt x="2069" y="162"/>
                  </a:lnTo>
                  <a:lnTo>
                    <a:pt x="1034" y="1685"/>
                  </a:lnTo>
                  <a:lnTo>
                    <a:pt x="1011" y="1680"/>
                  </a:lnTo>
                  <a:lnTo>
                    <a:pt x="990" y="1676"/>
                  </a:lnTo>
                  <a:lnTo>
                    <a:pt x="969" y="1673"/>
                  </a:lnTo>
                  <a:lnTo>
                    <a:pt x="950" y="1672"/>
                  </a:lnTo>
                  <a:lnTo>
                    <a:pt x="931" y="1671"/>
                  </a:lnTo>
                  <a:lnTo>
                    <a:pt x="913" y="1672"/>
                  </a:lnTo>
                  <a:lnTo>
                    <a:pt x="896" y="1673"/>
                  </a:lnTo>
                  <a:lnTo>
                    <a:pt x="879" y="1677"/>
                  </a:lnTo>
                  <a:lnTo>
                    <a:pt x="863" y="1680"/>
                  </a:lnTo>
                  <a:lnTo>
                    <a:pt x="848" y="1685"/>
                  </a:lnTo>
                  <a:lnTo>
                    <a:pt x="833" y="1690"/>
                  </a:lnTo>
                  <a:lnTo>
                    <a:pt x="819" y="1697"/>
                  </a:lnTo>
                  <a:lnTo>
                    <a:pt x="805" y="1704"/>
                  </a:lnTo>
                  <a:lnTo>
                    <a:pt x="792" y="1712"/>
                  </a:lnTo>
                  <a:lnTo>
                    <a:pt x="779" y="1720"/>
                  </a:lnTo>
                  <a:lnTo>
                    <a:pt x="766" y="1730"/>
                  </a:lnTo>
                  <a:lnTo>
                    <a:pt x="753" y="1740"/>
                  </a:lnTo>
                  <a:lnTo>
                    <a:pt x="740" y="1751"/>
                  </a:lnTo>
                  <a:lnTo>
                    <a:pt x="729" y="1763"/>
                  </a:lnTo>
                  <a:lnTo>
                    <a:pt x="717" y="1775"/>
                  </a:lnTo>
                  <a:lnTo>
                    <a:pt x="693" y="1802"/>
                  </a:lnTo>
                  <a:lnTo>
                    <a:pt x="669" y="1830"/>
                  </a:lnTo>
                  <a:lnTo>
                    <a:pt x="619" y="1892"/>
                  </a:lnTo>
                  <a:lnTo>
                    <a:pt x="564" y="19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Freeform 99"/>
            <p:cNvSpPr/>
            <p:nvPr/>
          </p:nvSpPr>
          <p:spPr>
            <a:xfrm>
              <a:off x="6667920" y="5503680"/>
              <a:ext cx="293400" cy="2185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947" h="1344">
                  <a:moveTo>
                    <a:pt x="0" y="1293"/>
                  </a:moveTo>
                  <a:lnTo>
                    <a:pt x="1418" y="1344"/>
                  </a:lnTo>
                  <a:lnTo>
                    <a:pt x="1947" y="285"/>
                  </a:lnTo>
                  <a:lnTo>
                    <a:pt x="1509" y="253"/>
                  </a:lnTo>
                  <a:lnTo>
                    <a:pt x="1556" y="65"/>
                  </a:lnTo>
                  <a:lnTo>
                    <a:pt x="880" y="0"/>
                  </a:lnTo>
                  <a:lnTo>
                    <a:pt x="0" y="12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100"/>
            <p:cNvSpPr/>
            <p:nvPr/>
          </p:nvSpPr>
          <p:spPr>
            <a:xfrm>
              <a:off x="6667920" y="5503680"/>
              <a:ext cx="293400" cy="2185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947" h="1344">
                  <a:moveTo>
                    <a:pt x="0" y="1293"/>
                  </a:moveTo>
                  <a:lnTo>
                    <a:pt x="1418" y="1344"/>
                  </a:lnTo>
                  <a:lnTo>
                    <a:pt x="1947" y="285"/>
                  </a:lnTo>
                  <a:lnTo>
                    <a:pt x="1509" y="253"/>
                  </a:lnTo>
                  <a:lnTo>
                    <a:pt x="1556" y="65"/>
                  </a:lnTo>
                  <a:lnTo>
                    <a:pt x="880" y="0"/>
                  </a:lnTo>
                  <a:lnTo>
                    <a:pt x="0" y="12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Freeform 101"/>
            <p:cNvSpPr/>
            <p:nvPr/>
          </p:nvSpPr>
          <p:spPr>
            <a:xfrm>
              <a:off x="6597720" y="5264280"/>
              <a:ext cx="257040" cy="10764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706" h="651">
                  <a:moveTo>
                    <a:pt x="1348" y="651"/>
                  </a:moveTo>
                  <a:lnTo>
                    <a:pt x="1341" y="641"/>
                  </a:lnTo>
                  <a:lnTo>
                    <a:pt x="1328" y="632"/>
                  </a:lnTo>
                  <a:lnTo>
                    <a:pt x="1312" y="625"/>
                  </a:lnTo>
                  <a:lnTo>
                    <a:pt x="1292" y="618"/>
                  </a:lnTo>
                  <a:lnTo>
                    <a:pt x="1269" y="611"/>
                  </a:lnTo>
                  <a:lnTo>
                    <a:pt x="1242" y="606"/>
                  </a:lnTo>
                  <a:lnTo>
                    <a:pt x="1211" y="602"/>
                  </a:lnTo>
                  <a:lnTo>
                    <a:pt x="1180" y="597"/>
                  </a:lnTo>
                  <a:lnTo>
                    <a:pt x="1145" y="593"/>
                  </a:lnTo>
                  <a:lnTo>
                    <a:pt x="1109" y="591"/>
                  </a:lnTo>
                  <a:lnTo>
                    <a:pt x="1070" y="589"/>
                  </a:lnTo>
                  <a:lnTo>
                    <a:pt x="1030" y="586"/>
                  </a:lnTo>
                  <a:lnTo>
                    <a:pt x="946" y="584"/>
                  </a:lnTo>
                  <a:lnTo>
                    <a:pt x="861" y="584"/>
                  </a:lnTo>
                  <a:lnTo>
                    <a:pt x="776" y="584"/>
                  </a:lnTo>
                  <a:lnTo>
                    <a:pt x="692" y="585"/>
                  </a:lnTo>
                  <a:lnTo>
                    <a:pt x="612" y="586"/>
                  </a:lnTo>
                  <a:lnTo>
                    <a:pt x="540" y="589"/>
                  </a:lnTo>
                  <a:lnTo>
                    <a:pt x="476" y="590"/>
                  </a:lnTo>
                  <a:lnTo>
                    <a:pt x="423" y="590"/>
                  </a:lnTo>
                  <a:lnTo>
                    <a:pt x="384" y="590"/>
                  </a:lnTo>
                  <a:lnTo>
                    <a:pt x="361" y="588"/>
                  </a:lnTo>
                  <a:lnTo>
                    <a:pt x="331" y="582"/>
                  </a:lnTo>
                  <a:lnTo>
                    <a:pt x="299" y="575"/>
                  </a:lnTo>
                  <a:lnTo>
                    <a:pt x="284" y="570"/>
                  </a:lnTo>
                  <a:lnTo>
                    <a:pt x="268" y="564"/>
                  </a:lnTo>
                  <a:lnTo>
                    <a:pt x="254" y="557"/>
                  </a:lnTo>
                  <a:lnTo>
                    <a:pt x="240" y="549"/>
                  </a:lnTo>
                  <a:lnTo>
                    <a:pt x="227" y="540"/>
                  </a:lnTo>
                  <a:lnTo>
                    <a:pt x="214" y="528"/>
                  </a:lnTo>
                  <a:lnTo>
                    <a:pt x="208" y="522"/>
                  </a:lnTo>
                  <a:lnTo>
                    <a:pt x="203" y="515"/>
                  </a:lnTo>
                  <a:lnTo>
                    <a:pt x="199" y="508"/>
                  </a:lnTo>
                  <a:lnTo>
                    <a:pt x="194" y="501"/>
                  </a:lnTo>
                  <a:lnTo>
                    <a:pt x="190" y="493"/>
                  </a:lnTo>
                  <a:lnTo>
                    <a:pt x="187" y="484"/>
                  </a:lnTo>
                  <a:lnTo>
                    <a:pt x="183" y="474"/>
                  </a:lnTo>
                  <a:lnTo>
                    <a:pt x="181" y="464"/>
                  </a:lnTo>
                  <a:lnTo>
                    <a:pt x="179" y="453"/>
                  </a:lnTo>
                  <a:lnTo>
                    <a:pt x="178" y="443"/>
                  </a:lnTo>
                  <a:lnTo>
                    <a:pt x="176" y="430"/>
                  </a:lnTo>
                  <a:lnTo>
                    <a:pt x="176" y="418"/>
                  </a:lnTo>
                  <a:lnTo>
                    <a:pt x="0" y="381"/>
                  </a:lnTo>
                  <a:lnTo>
                    <a:pt x="19" y="363"/>
                  </a:lnTo>
                  <a:lnTo>
                    <a:pt x="36" y="347"/>
                  </a:lnTo>
                  <a:lnTo>
                    <a:pt x="53" y="329"/>
                  </a:lnTo>
                  <a:lnTo>
                    <a:pt x="69" y="312"/>
                  </a:lnTo>
                  <a:lnTo>
                    <a:pt x="83" y="294"/>
                  </a:lnTo>
                  <a:lnTo>
                    <a:pt x="95" y="276"/>
                  </a:lnTo>
                  <a:lnTo>
                    <a:pt x="101" y="265"/>
                  </a:lnTo>
                  <a:lnTo>
                    <a:pt x="105" y="256"/>
                  </a:lnTo>
                  <a:lnTo>
                    <a:pt x="110" y="244"/>
                  </a:lnTo>
                  <a:lnTo>
                    <a:pt x="113" y="234"/>
                  </a:lnTo>
                  <a:lnTo>
                    <a:pt x="119" y="214"/>
                  </a:lnTo>
                  <a:lnTo>
                    <a:pt x="126" y="194"/>
                  </a:lnTo>
                  <a:lnTo>
                    <a:pt x="133" y="175"/>
                  </a:lnTo>
                  <a:lnTo>
                    <a:pt x="141" y="158"/>
                  </a:lnTo>
                  <a:lnTo>
                    <a:pt x="150" y="141"/>
                  </a:lnTo>
                  <a:lnTo>
                    <a:pt x="159" y="126"/>
                  </a:lnTo>
                  <a:lnTo>
                    <a:pt x="167" y="112"/>
                  </a:lnTo>
                  <a:lnTo>
                    <a:pt x="176" y="99"/>
                  </a:lnTo>
                  <a:lnTo>
                    <a:pt x="186" y="88"/>
                  </a:lnTo>
                  <a:lnTo>
                    <a:pt x="195" y="77"/>
                  </a:lnTo>
                  <a:lnTo>
                    <a:pt x="205" y="68"/>
                  </a:lnTo>
                  <a:lnTo>
                    <a:pt x="215" y="60"/>
                  </a:lnTo>
                  <a:lnTo>
                    <a:pt x="224" y="54"/>
                  </a:lnTo>
                  <a:lnTo>
                    <a:pt x="234" y="50"/>
                  </a:lnTo>
                  <a:lnTo>
                    <a:pt x="242" y="47"/>
                  </a:lnTo>
                  <a:lnTo>
                    <a:pt x="251" y="47"/>
                  </a:lnTo>
                  <a:lnTo>
                    <a:pt x="259" y="47"/>
                  </a:lnTo>
                  <a:lnTo>
                    <a:pt x="269" y="49"/>
                  </a:lnTo>
                  <a:lnTo>
                    <a:pt x="277" y="54"/>
                  </a:lnTo>
                  <a:lnTo>
                    <a:pt x="285" y="59"/>
                  </a:lnTo>
                  <a:lnTo>
                    <a:pt x="293" y="64"/>
                  </a:lnTo>
                  <a:lnTo>
                    <a:pt x="301" y="71"/>
                  </a:lnTo>
                  <a:lnTo>
                    <a:pt x="308" y="78"/>
                  </a:lnTo>
                  <a:lnTo>
                    <a:pt x="315" y="85"/>
                  </a:lnTo>
                  <a:lnTo>
                    <a:pt x="338" y="112"/>
                  </a:lnTo>
                  <a:lnTo>
                    <a:pt x="346" y="124"/>
                  </a:lnTo>
                  <a:lnTo>
                    <a:pt x="356" y="125"/>
                  </a:lnTo>
                  <a:lnTo>
                    <a:pt x="384" y="129"/>
                  </a:lnTo>
                  <a:lnTo>
                    <a:pt x="425" y="132"/>
                  </a:lnTo>
                  <a:lnTo>
                    <a:pt x="473" y="134"/>
                  </a:lnTo>
                  <a:lnTo>
                    <a:pt x="497" y="134"/>
                  </a:lnTo>
                  <a:lnTo>
                    <a:pt x="521" y="134"/>
                  </a:lnTo>
                  <a:lnTo>
                    <a:pt x="544" y="133"/>
                  </a:lnTo>
                  <a:lnTo>
                    <a:pt x="567" y="131"/>
                  </a:lnTo>
                  <a:lnTo>
                    <a:pt x="585" y="129"/>
                  </a:lnTo>
                  <a:lnTo>
                    <a:pt x="602" y="124"/>
                  </a:lnTo>
                  <a:lnTo>
                    <a:pt x="609" y="120"/>
                  </a:lnTo>
                  <a:lnTo>
                    <a:pt x="615" y="117"/>
                  </a:lnTo>
                  <a:lnTo>
                    <a:pt x="619" y="113"/>
                  </a:lnTo>
                  <a:lnTo>
                    <a:pt x="623" y="110"/>
                  </a:lnTo>
                  <a:lnTo>
                    <a:pt x="643" y="80"/>
                  </a:lnTo>
                  <a:lnTo>
                    <a:pt x="658" y="55"/>
                  </a:lnTo>
                  <a:lnTo>
                    <a:pt x="667" y="43"/>
                  </a:lnTo>
                  <a:lnTo>
                    <a:pt x="680" y="30"/>
                  </a:lnTo>
                  <a:lnTo>
                    <a:pt x="695" y="16"/>
                  </a:lnTo>
                  <a:lnTo>
                    <a:pt x="715" y="0"/>
                  </a:lnTo>
                  <a:lnTo>
                    <a:pt x="764" y="5"/>
                  </a:lnTo>
                  <a:lnTo>
                    <a:pt x="815" y="8"/>
                  </a:lnTo>
                  <a:lnTo>
                    <a:pt x="869" y="13"/>
                  </a:lnTo>
                  <a:lnTo>
                    <a:pt x="924" y="16"/>
                  </a:lnTo>
                  <a:lnTo>
                    <a:pt x="981" y="21"/>
                  </a:lnTo>
                  <a:lnTo>
                    <a:pt x="1040" y="25"/>
                  </a:lnTo>
                  <a:lnTo>
                    <a:pt x="1100" y="28"/>
                  </a:lnTo>
                  <a:lnTo>
                    <a:pt x="1161" y="33"/>
                  </a:lnTo>
                  <a:lnTo>
                    <a:pt x="1225" y="36"/>
                  </a:lnTo>
                  <a:lnTo>
                    <a:pt x="1290" y="40"/>
                  </a:lnTo>
                  <a:lnTo>
                    <a:pt x="1356" y="43"/>
                  </a:lnTo>
                  <a:lnTo>
                    <a:pt x="1423" y="46"/>
                  </a:lnTo>
                  <a:lnTo>
                    <a:pt x="1492" y="49"/>
                  </a:lnTo>
                  <a:lnTo>
                    <a:pt x="1562" y="53"/>
                  </a:lnTo>
                  <a:lnTo>
                    <a:pt x="1633" y="55"/>
                  </a:lnTo>
                  <a:lnTo>
                    <a:pt x="1706" y="57"/>
                  </a:lnTo>
                  <a:lnTo>
                    <a:pt x="1688" y="77"/>
                  </a:lnTo>
                  <a:lnTo>
                    <a:pt x="1644" y="131"/>
                  </a:lnTo>
                  <a:lnTo>
                    <a:pt x="1613" y="167"/>
                  </a:lnTo>
                  <a:lnTo>
                    <a:pt x="1581" y="208"/>
                  </a:lnTo>
                  <a:lnTo>
                    <a:pt x="1546" y="254"/>
                  </a:lnTo>
                  <a:lnTo>
                    <a:pt x="1509" y="301"/>
                  </a:lnTo>
                  <a:lnTo>
                    <a:pt x="1474" y="352"/>
                  </a:lnTo>
                  <a:lnTo>
                    <a:pt x="1442" y="402"/>
                  </a:lnTo>
                  <a:lnTo>
                    <a:pt x="1425" y="426"/>
                  </a:lnTo>
                  <a:lnTo>
                    <a:pt x="1411" y="451"/>
                  </a:lnTo>
                  <a:lnTo>
                    <a:pt x="1397" y="476"/>
                  </a:lnTo>
                  <a:lnTo>
                    <a:pt x="1384" y="499"/>
                  </a:lnTo>
                  <a:lnTo>
                    <a:pt x="1374" y="522"/>
                  </a:lnTo>
                  <a:lnTo>
                    <a:pt x="1364" y="544"/>
                  </a:lnTo>
                  <a:lnTo>
                    <a:pt x="1356" y="565"/>
                  </a:lnTo>
                  <a:lnTo>
                    <a:pt x="1350" y="585"/>
                  </a:lnTo>
                  <a:lnTo>
                    <a:pt x="1347" y="604"/>
                  </a:lnTo>
                  <a:lnTo>
                    <a:pt x="1345" y="622"/>
                  </a:lnTo>
                  <a:lnTo>
                    <a:pt x="1346" y="637"/>
                  </a:lnTo>
                  <a:lnTo>
                    <a:pt x="1348" y="6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Freeform 102"/>
            <p:cNvSpPr/>
            <p:nvPr/>
          </p:nvSpPr>
          <p:spPr>
            <a:xfrm>
              <a:off x="6597720" y="5264280"/>
              <a:ext cx="257040" cy="10764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706" h="651">
                  <a:moveTo>
                    <a:pt x="1348" y="651"/>
                  </a:moveTo>
                  <a:lnTo>
                    <a:pt x="1341" y="641"/>
                  </a:lnTo>
                  <a:lnTo>
                    <a:pt x="1328" y="632"/>
                  </a:lnTo>
                  <a:lnTo>
                    <a:pt x="1312" y="625"/>
                  </a:lnTo>
                  <a:lnTo>
                    <a:pt x="1292" y="618"/>
                  </a:lnTo>
                  <a:lnTo>
                    <a:pt x="1269" y="611"/>
                  </a:lnTo>
                  <a:lnTo>
                    <a:pt x="1242" y="606"/>
                  </a:lnTo>
                  <a:lnTo>
                    <a:pt x="1211" y="602"/>
                  </a:lnTo>
                  <a:lnTo>
                    <a:pt x="1180" y="597"/>
                  </a:lnTo>
                  <a:lnTo>
                    <a:pt x="1145" y="593"/>
                  </a:lnTo>
                  <a:lnTo>
                    <a:pt x="1109" y="591"/>
                  </a:lnTo>
                  <a:lnTo>
                    <a:pt x="1070" y="589"/>
                  </a:lnTo>
                  <a:lnTo>
                    <a:pt x="1030" y="586"/>
                  </a:lnTo>
                  <a:lnTo>
                    <a:pt x="946" y="584"/>
                  </a:lnTo>
                  <a:lnTo>
                    <a:pt x="861" y="584"/>
                  </a:lnTo>
                  <a:lnTo>
                    <a:pt x="776" y="584"/>
                  </a:lnTo>
                  <a:lnTo>
                    <a:pt x="692" y="585"/>
                  </a:lnTo>
                  <a:lnTo>
                    <a:pt x="612" y="586"/>
                  </a:lnTo>
                  <a:lnTo>
                    <a:pt x="540" y="589"/>
                  </a:lnTo>
                  <a:lnTo>
                    <a:pt x="476" y="590"/>
                  </a:lnTo>
                  <a:lnTo>
                    <a:pt x="423" y="590"/>
                  </a:lnTo>
                  <a:lnTo>
                    <a:pt x="384" y="590"/>
                  </a:lnTo>
                  <a:lnTo>
                    <a:pt x="361" y="588"/>
                  </a:lnTo>
                  <a:lnTo>
                    <a:pt x="331" y="582"/>
                  </a:lnTo>
                  <a:lnTo>
                    <a:pt x="299" y="575"/>
                  </a:lnTo>
                  <a:lnTo>
                    <a:pt x="284" y="570"/>
                  </a:lnTo>
                  <a:lnTo>
                    <a:pt x="268" y="564"/>
                  </a:lnTo>
                  <a:lnTo>
                    <a:pt x="254" y="557"/>
                  </a:lnTo>
                  <a:lnTo>
                    <a:pt x="240" y="549"/>
                  </a:lnTo>
                  <a:lnTo>
                    <a:pt x="227" y="540"/>
                  </a:lnTo>
                  <a:lnTo>
                    <a:pt x="214" y="528"/>
                  </a:lnTo>
                  <a:lnTo>
                    <a:pt x="208" y="522"/>
                  </a:lnTo>
                  <a:lnTo>
                    <a:pt x="203" y="515"/>
                  </a:lnTo>
                  <a:lnTo>
                    <a:pt x="199" y="508"/>
                  </a:lnTo>
                  <a:lnTo>
                    <a:pt x="194" y="501"/>
                  </a:lnTo>
                  <a:lnTo>
                    <a:pt x="190" y="493"/>
                  </a:lnTo>
                  <a:lnTo>
                    <a:pt x="187" y="484"/>
                  </a:lnTo>
                  <a:lnTo>
                    <a:pt x="183" y="474"/>
                  </a:lnTo>
                  <a:lnTo>
                    <a:pt x="181" y="464"/>
                  </a:lnTo>
                  <a:lnTo>
                    <a:pt x="179" y="453"/>
                  </a:lnTo>
                  <a:lnTo>
                    <a:pt x="178" y="443"/>
                  </a:lnTo>
                  <a:lnTo>
                    <a:pt x="176" y="430"/>
                  </a:lnTo>
                  <a:lnTo>
                    <a:pt x="176" y="418"/>
                  </a:lnTo>
                  <a:lnTo>
                    <a:pt x="0" y="381"/>
                  </a:lnTo>
                  <a:lnTo>
                    <a:pt x="19" y="363"/>
                  </a:lnTo>
                  <a:lnTo>
                    <a:pt x="36" y="347"/>
                  </a:lnTo>
                  <a:lnTo>
                    <a:pt x="53" y="329"/>
                  </a:lnTo>
                  <a:lnTo>
                    <a:pt x="69" y="312"/>
                  </a:lnTo>
                  <a:lnTo>
                    <a:pt x="83" y="294"/>
                  </a:lnTo>
                  <a:lnTo>
                    <a:pt x="95" y="276"/>
                  </a:lnTo>
                  <a:lnTo>
                    <a:pt x="101" y="265"/>
                  </a:lnTo>
                  <a:lnTo>
                    <a:pt x="105" y="256"/>
                  </a:lnTo>
                  <a:lnTo>
                    <a:pt x="110" y="244"/>
                  </a:lnTo>
                  <a:lnTo>
                    <a:pt x="113" y="234"/>
                  </a:lnTo>
                  <a:lnTo>
                    <a:pt x="119" y="214"/>
                  </a:lnTo>
                  <a:lnTo>
                    <a:pt x="126" y="194"/>
                  </a:lnTo>
                  <a:lnTo>
                    <a:pt x="133" y="175"/>
                  </a:lnTo>
                  <a:lnTo>
                    <a:pt x="141" y="158"/>
                  </a:lnTo>
                  <a:lnTo>
                    <a:pt x="150" y="141"/>
                  </a:lnTo>
                  <a:lnTo>
                    <a:pt x="159" y="126"/>
                  </a:lnTo>
                  <a:lnTo>
                    <a:pt x="167" y="112"/>
                  </a:lnTo>
                  <a:lnTo>
                    <a:pt x="176" y="99"/>
                  </a:lnTo>
                  <a:lnTo>
                    <a:pt x="186" y="88"/>
                  </a:lnTo>
                  <a:lnTo>
                    <a:pt x="195" y="77"/>
                  </a:lnTo>
                  <a:lnTo>
                    <a:pt x="205" y="68"/>
                  </a:lnTo>
                  <a:lnTo>
                    <a:pt x="215" y="60"/>
                  </a:lnTo>
                  <a:lnTo>
                    <a:pt x="224" y="54"/>
                  </a:lnTo>
                  <a:lnTo>
                    <a:pt x="234" y="50"/>
                  </a:lnTo>
                  <a:lnTo>
                    <a:pt x="242" y="47"/>
                  </a:lnTo>
                  <a:lnTo>
                    <a:pt x="251" y="47"/>
                  </a:lnTo>
                  <a:lnTo>
                    <a:pt x="259" y="47"/>
                  </a:lnTo>
                  <a:lnTo>
                    <a:pt x="269" y="49"/>
                  </a:lnTo>
                  <a:lnTo>
                    <a:pt x="277" y="54"/>
                  </a:lnTo>
                  <a:lnTo>
                    <a:pt x="285" y="59"/>
                  </a:lnTo>
                  <a:lnTo>
                    <a:pt x="293" y="64"/>
                  </a:lnTo>
                  <a:lnTo>
                    <a:pt x="301" y="71"/>
                  </a:lnTo>
                  <a:lnTo>
                    <a:pt x="308" y="78"/>
                  </a:lnTo>
                  <a:lnTo>
                    <a:pt x="315" y="85"/>
                  </a:lnTo>
                  <a:lnTo>
                    <a:pt x="338" y="112"/>
                  </a:lnTo>
                  <a:lnTo>
                    <a:pt x="346" y="124"/>
                  </a:lnTo>
                  <a:lnTo>
                    <a:pt x="356" y="125"/>
                  </a:lnTo>
                  <a:lnTo>
                    <a:pt x="384" y="129"/>
                  </a:lnTo>
                  <a:lnTo>
                    <a:pt x="425" y="132"/>
                  </a:lnTo>
                  <a:lnTo>
                    <a:pt x="473" y="134"/>
                  </a:lnTo>
                  <a:lnTo>
                    <a:pt x="497" y="134"/>
                  </a:lnTo>
                  <a:lnTo>
                    <a:pt x="521" y="134"/>
                  </a:lnTo>
                  <a:lnTo>
                    <a:pt x="544" y="133"/>
                  </a:lnTo>
                  <a:lnTo>
                    <a:pt x="567" y="131"/>
                  </a:lnTo>
                  <a:lnTo>
                    <a:pt x="585" y="129"/>
                  </a:lnTo>
                  <a:lnTo>
                    <a:pt x="602" y="124"/>
                  </a:lnTo>
                  <a:lnTo>
                    <a:pt x="609" y="120"/>
                  </a:lnTo>
                  <a:lnTo>
                    <a:pt x="615" y="117"/>
                  </a:lnTo>
                  <a:lnTo>
                    <a:pt x="619" y="113"/>
                  </a:lnTo>
                  <a:lnTo>
                    <a:pt x="623" y="110"/>
                  </a:lnTo>
                  <a:lnTo>
                    <a:pt x="643" y="80"/>
                  </a:lnTo>
                  <a:lnTo>
                    <a:pt x="658" y="55"/>
                  </a:lnTo>
                  <a:lnTo>
                    <a:pt x="667" y="43"/>
                  </a:lnTo>
                  <a:lnTo>
                    <a:pt x="680" y="30"/>
                  </a:lnTo>
                  <a:lnTo>
                    <a:pt x="695" y="16"/>
                  </a:lnTo>
                  <a:lnTo>
                    <a:pt x="715" y="0"/>
                  </a:lnTo>
                  <a:lnTo>
                    <a:pt x="764" y="5"/>
                  </a:lnTo>
                  <a:lnTo>
                    <a:pt x="815" y="8"/>
                  </a:lnTo>
                  <a:lnTo>
                    <a:pt x="869" y="13"/>
                  </a:lnTo>
                  <a:lnTo>
                    <a:pt x="924" y="16"/>
                  </a:lnTo>
                  <a:lnTo>
                    <a:pt x="981" y="21"/>
                  </a:lnTo>
                  <a:lnTo>
                    <a:pt x="1040" y="25"/>
                  </a:lnTo>
                  <a:lnTo>
                    <a:pt x="1100" y="28"/>
                  </a:lnTo>
                  <a:lnTo>
                    <a:pt x="1161" y="33"/>
                  </a:lnTo>
                  <a:lnTo>
                    <a:pt x="1225" y="36"/>
                  </a:lnTo>
                  <a:lnTo>
                    <a:pt x="1290" y="40"/>
                  </a:lnTo>
                  <a:lnTo>
                    <a:pt x="1356" y="43"/>
                  </a:lnTo>
                  <a:lnTo>
                    <a:pt x="1423" y="46"/>
                  </a:lnTo>
                  <a:lnTo>
                    <a:pt x="1492" y="49"/>
                  </a:lnTo>
                  <a:lnTo>
                    <a:pt x="1562" y="53"/>
                  </a:lnTo>
                  <a:lnTo>
                    <a:pt x="1633" y="55"/>
                  </a:lnTo>
                  <a:lnTo>
                    <a:pt x="1706" y="57"/>
                  </a:lnTo>
                  <a:lnTo>
                    <a:pt x="1688" y="77"/>
                  </a:lnTo>
                  <a:lnTo>
                    <a:pt x="1644" y="131"/>
                  </a:lnTo>
                  <a:lnTo>
                    <a:pt x="1613" y="167"/>
                  </a:lnTo>
                  <a:lnTo>
                    <a:pt x="1581" y="208"/>
                  </a:lnTo>
                  <a:lnTo>
                    <a:pt x="1546" y="254"/>
                  </a:lnTo>
                  <a:lnTo>
                    <a:pt x="1509" y="301"/>
                  </a:lnTo>
                  <a:lnTo>
                    <a:pt x="1474" y="352"/>
                  </a:lnTo>
                  <a:lnTo>
                    <a:pt x="1442" y="402"/>
                  </a:lnTo>
                  <a:lnTo>
                    <a:pt x="1425" y="426"/>
                  </a:lnTo>
                  <a:lnTo>
                    <a:pt x="1411" y="451"/>
                  </a:lnTo>
                  <a:lnTo>
                    <a:pt x="1397" y="476"/>
                  </a:lnTo>
                  <a:lnTo>
                    <a:pt x="1384" y="499"/>
                  </a:lnTo>
                  <a:lnTo>
                    <a:pt x="1374" y="522"/>
                  </a:lnTo>
                  <a:lnTo>
                    <a:pt x="1364" y="544"/>
                  </a:lnTo>
                  <a:lnTo>
                    <a:pt x="1356" y="565"/>
                  </a:lnTo>
                  <a:lnTo>
                    <a:pt x="1350" y="585"/>
                  </a:lnTo>
                  <a:lnTo>
                    <a:pt x="1347" y="604"/>
                  </a:lnTo>
                  <a:lnTo>
                    <a:pt x="1345" y="622"/>
                  </a:lnTo>
                  <a:lnTo>
                    <a:pt x="1346" y="637"/>
                  </a:lnTo>
                  <a:lnTo>
                    <a:pt x="1348" y="6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Freeform 103"/>
            <p:cNvSpPr/>
            <p:nvPr/>
          </p:nvSpPr>
          <p:spPr>
            <a:xfrm>
              <a:off x="6701040" y="5273280"/>
              <a:ext cx="252000" cy="24048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1670" h="1472">
                  <a:moveTo>
                    <a:pt x="1670" y="888"/>
                  </a:moveTo>
                  <a:lnTo>
                    <a:pt x="1328" y="1472"/>
                  </a:lnTo>
                  <a:lnTo>
                    <a:pt x="652" y="1407"/>
                  </a:lnTo>
                  <a:lnTo>
                    <a:pt x="629" y="1401"/>
                  </a:lnTo>
                  <a:lnTo>
                    <a:pt x="604" y="1395"/>
                  </a:lnTo>
                  <a:lnTo>
                    <a:pt x="574" y="1389"/>
                  </a:lnTo>
                  <a:lnTo>
                    <a:pt x="542" y="1383"/>
                  </a:lnTo>
                  <a:lnTo>
                    <a:pt x="469" y="1372"/>
                  </a:lnTo>
                  <a:lnTo>
                    <a:pt x="386" y="1361"/>
                  </a:lnTo>
                  <a:lnTo>
                    <a:pt x="295" y="1349"/>
                  </a:lnTo>
                  <a:lnTo>
                    <a:pt x="200" y="1338"/>
                  </a:lnTo>
                  <a:lnTo>
                    <a:pt x="100" y="1325"/>
                  </a:lnTo>
                  <a:lnTo>
                    <a:pt x="0" y="1311"/>
                  </a:lnTo>
                  <a:lnTo>
                    <a:pt x="23" y="1295"/>
                  </a:lnTo>
                  <a:lnTo>
                    <a:pt x="46" y="1278"/>
                  </a:lnTo>
                  <a:lnTo>
                    <a:pt x="70" y="1262"/>
                  </a:lnTo>
                  <a:lnTo>
                    <a:pt x="90" y="1244"/>
                  </a:lnTo>
                  <a:lnTo>
                    <a:pt x="99" y="1236"/>
                  </a:lnTo>
                  <a:lnTo>
                    <a:pt x="106" y="1227"/>
                  </a:lnTo>
                  <a:lnTo>
                    <a:pt x="113" y="1217"/>
                  </a:lnTo>
                  <a:lnTo>
                    <a:pt x="118" y="1208"/>
                  </a:lnTo>
                  <a:lnTo>
                    <a:pt x="121" y="1198"/>
                  </a:lnTo>
                  <a:lnTo>
                    <a:pt x="124" y="1187"/>
                  </a:lnTo>
                  <a:lnTo>
                    <a:pt x="124" y="1175"/>
                  </a:lnTo>
                  <a:lnTo>
                    <a:pt x="121" y="1165"/>
                  </a:lnTo>
                  <a:lnTo>
                    <a:pt x="119" y="1153"/>
                  </a:lnTo>
                  <a:lnTo>
                    <a:pt x="118" y="1143"/>
                  </a:lnTo>
                  <a:lnTo>
                    <a:pt x="118" y="1131"/>
                  </a:lnTo>
                  <a:lnTo>
                    <a:pt x="119" y="1121"/>
                  </a:lnTo>
                  <a:lnTo>
                    <a:pt x="121" y="1111"/>
                  </a:lnTo>
                  <a:lnTo>
                    <a:pt x="125" y="1101"/>
                  </a:lnTo>
                  <a:lnTo>
                    <a:pt x="129" y="1091"/>
                  </a:lnTo>
                  <a:lnTo>
                    <a:pt x="135" y="1081"/>
                  </a:lnTo>
                  <a:lnTo>
                    <a:pt x="143" y="1071"/>
                  </a:lnTo>
                  <a:lnTo>
                    <a:pt x="152" y="1062"/>
                  </a:lnTo>
                  <a:lnTo>
                    <a:pt x="161" y="1053"/>
                  </a:lnTo>
                  <a:lnTo>
                    <a:pt x="173" y="1045"/>
                  </a:lnTo>
                  <a:lnTo>
                    <a:pt x="186" y="1035"/>
                  </a:lnTo>
                  <a:lnTo>
                    <a:pt x="198" y="1026"/>
                  </a:lnTo>
                  <a:lnTo>
                    <a:pt x="214" y="1018"/>
                  </a:lnTo>
                  <a:lnTo>
                    <a:pt x="231" y="1008"/>
                  </a:lnTo>
                  <a:lnTo>
                    <a:pt x="264" y="992"/>
                  </a:lnTo>
                  <a:lnTo>
                    <a:pt x="293" y="977"/>
                  </a:lnTo>
                  <a:lnTo>
                    <a:pt x="307" y="969"/>
                  </a:lnTo>
                  <a:lnTo>
                    <a:pt x="319" y="960"/>
                  </a:lnTo>
                  <a:lnTo>
                    <a:pt x="329" y="952"/>
                  </a:lnTo>
                  <a:lnTo>
                    <a:pt x="339" y="944"/>
                  </a:lnTo>
                  <a:lnTo>
                    <a:pt x="347" y="936"/>
                  </a:lnTo>
                  <a:lnTo>
                    <a:pt x="354" y="927"/>
                  </a:lnTo>
                  <a:lnTo>
                    <a:pt x="358" y="917"/>
                  </a:lnTo>
                  <a:lnTo>
                    <a:pt x="362" y="907"/>
                  </a:lnTo>
                  <a:lnTo>
                    <a:pt x="363" y="895"/>
                  </a:lnTo>
                  <a:lnTo>
                    <a:pt x="362" y="883"/>
                  </a:lnTo>
                  <a:lnTo>
                    <a:pt x="360" y="871"/>
                  </a:lnTo>
                  <a:lnTo>
                    <a:pt x="355" y="857"/>
                  </a:lnTo>
                  <a:lnTo>
                    <a:pt x="343" y="831"/>
                  </a:lnTo>
                  <a:lnTo>
                    <a:pt x="333" y="813"/>
                  </a:lnTo>
                  <a:lnTo>
                    <a:pt x="329" y="805"/>
                  </a:lnTo>
                  <a:lnTo>
                    <a:pt x="326" y="799"/>
                  </a:lnTo>
                  <a:lnTo>
                    <a:pt x="325" y="795"/>
                  </a:lnTo>
                  <a:lnTo>
                    <a:pt x="323" y="790"/>
                  </a:lnTo>
                  <a:lnTo>
                    <a:pt x="325" y="785"/>
                  </a:lnTo>
                  <a:lnTo>
                    <a:pt x="327" y="781"/>
                  </a:lnTo>
                  <a:lnTo>
                    <a:pt x="332" y="777"/>
                  </a:lnTo>
                  <a:lnTo>
                    <a:pt x="337" y="772"/>
                  </a:lnTo>
                  <a:lnTo>
                    <a:pt x="357" y="762"/>
                  </a:lnTo>
                  <a:lnTo>
                    <a:pt x="386" y="747"/>
                  </a:lnTo>
                  <a:lnTo>
                    <a:pt x="405" y="739"/>
                  </a:lnTo>
                  <a:lnTo>
                    <a:pt x="427" y="732"/>
                  </a:lnTo>
                  <a:lnTo>
                    <a:pt x="451" y="725"/>
                  </a:lnTo>
                  <a:lnTo>
                    <a:pt x="478" y="719"/>
                  </a:lnTo>
                  <a:lnTo>
                    <a:pt x="531" y="706"/>
                  </a:lnTo>
                  <a:lnTo>
                    <a:pt x="583" y="693"/>
                  </a:lnTo>
                  <a:lnTo>
                    <a:pt x="606" y="686"/>
                  </a:lnTo>
                  <a:lnTo>
                    <a:pt x="627" y="677"/>
                  </a:lnTo>
                  <a:lnTo>
                    <a:pt x="636" y="672"/>
                  </a:lnTo>
                  <a:lnTo>
                    <a:pt x="645" y="667"/>
                  </a:lnTo>
                  <a:lnTo>
                    <a:pt x="653" y="663"/>
                  </a:lnTo>
                  <a:lnTo>
                    <a:pt x="659" y="657"/>
                  </a:lnTo>
                  <a:lnTo>
                    <a:pt x="664" y="651"/>
                  </a:lnTo>
                  <a:lnTo>
                    <a:pt x="668" y="644"/>
                  </a:lnTo>
                  <a:lnTo>
                    <a:pt x="671" y="637"/>
                  </a:lnTo>
                  <a:lnTo>
                    <a:pt x="673" y="630"/>
                  </a:lnTo>
                  <a:lnTo>
                    <a:pt x="673" y="622"/>
                  </a:lnTo>
                  <a:lnTo>
                    <a:pt x="671" y="612"/>
                  </a:lnTo>
                  <a:lnTo>
                    <a:pt x="668" y="604"/>
                  </a:lnTo>
                  <a:lnTo>
                    <a:pt x="662" y="594"/>
                  </a:lnTo>
                  <a:lnTo>
                    <a:pt x="660" y="580"/>
                  </a:lnTo>
                  <a:lnTo>
                    <a:pt x="659" y="565"/>
                  </a:lnTo>
                  <a:lnTo>
                    <a:pt x="661" y="547"/>
                  </a:lnTo>
                  <a:lnTo>
                    <a:pt x="664" y="528"/>
                  </a:lnTo>
                  <a:lnTo>
                    <a:pt x="670" y="508"/>
                  </a:lnTo>
                  <a:lnTo>
                    <a:pt x="678" y="487"/>
                  </a:lnTo>
                  <a:lnTo>
                    <a:pt x="688" y="465"/>
                  </a:lnTo>
                  <a:lnTo>
                    <a:pt x="698" y="442"/>
                  </a:lnTo>
                  <a:lnTo>
                    <a:pt x="711" y="419"/>
                  </a:lnTo>
                  <a:lnTo>
                    <a:pt x="725" y="394"/>
                  </a:lnTo>
                  <a:lnTo>
                    <a:pt x="739" y="369"/>
                  </a:lnTo>
                  <a:lnTo>
                    <a:pt x="756" y="345"/>
                  </a:lnTo>
                  <a:lnTo>
                    <a:pt x="788" y="295"/>
                  </a:lnTo>
                  <a:lnTo>
                    <a:pt x="823" y="244"/>
                  </a:lnTo>
                  <a:lnTo>
                    <a:pt x="860" y="197"/>
                  </a:lnTo>
                  <a:lnTo>
                    <a:pt x="895" y="151"/>
                  </a:lnTo>
                  <a:lnTo>
                    <a:pt x="927" y="110"/>
                  </a:lnTo>
                  <a:lnTo>
                    <a:pt x="958" y="74"/>
                  </a:lnTo>
                  <a:lnTo>
                    <a:pt x="1002" y="20"/>
                  </a:lnTo>
                  <a:lnTo>
                    <a:pt x="1020" y="0"/>
                  </a:lnTo>
                  <a:lnTo>
                    <a:pt x="1043" y="2"/>
                  </a:lnTo>
                  <a:lnTo>
                    <a:pt x="1065" y="3"/>
                  </a:lnTo>
                  <a:lnTo>
                    <a:pt x="1087" y="4"/>
                  </a:lnTo>
                  <a:lnTo>
                    <a:pt x="1111" y="5"/>
                  </a:lnTo>
                  <a:lnTo>
                    <a:pt x="1134" y="6"/>
                  </a:lnTo>
                  <a:lnTo>
                    <a:pt x="1157" y="7"/>
                  </a:lnTo>
                  <a:lnTo>
                    <a:pt x="1181" y="9"/>
                  </a:lnTo>
                  <a:lnTo>
                    <a:pt x="1204" y="10"/>
                  </a:lnTo>
                  <a:lnTo>
                    <a:pt x="1199" y="13"/>
                  </a:lnTo>
                  <a:lnTo>
                    <a:pt x="1189" y="25"/>
                  </a:lnTo>
                  <a:lnTo>
                    <a:pt x="1173" y="42"/>
                  </a:lnTo>
                  <a:lnTo>
                    <a:pt x="1153" y="66"/>
                  </a:lnTo>
                  <a:lnTo>
                    <a:pt x="1129" y="93"/>
                  </a:lnTo>
                  <a:lnTo>
                    <a:pt x="1107" y="124"/>
                  </a:lnTo>
                  <a:lnTo>
                    <a:pt x="1095" y="141"/>
                  </a:lnTo>
                  <a:lnTo>
                    <a:pt x="1085" y="157"/>
                  </a:lnTo>
                  <a:lnTo>
                    <a:pt x="1074" y="173"/>
                  </a:lnTo>
                  <a:lnTo>
                    <a:pt x="1066" y="191"/>
                  </a:lnTo>
                  <a:lnTo>
                    <a:pt x="1062" y="200"/>
                  </a:lnTo>
                  <a:lnTo>
                    <a:pt x="1058" y="208"/>
                  </a:lnTo>
                  <a:lnTo>
                    <a:pt x="1056" y="218"/>
                  </a:lnTo>
                  <a:lnTo>
                    <a:pt x="1052" y="228"/>
                  </a:lnTo>
                  <a:lnTo>
                    <a:pt x="1050" y="247"/>
                  </a:lnTo>
                  <a:lnTo>
                    <a:pt x="1049" y="267"/>
                  </a:lnTo>
                  <a:lnTo>
                    <a:pt x="1050" y="288"/>
                  </a:lnTo>
                  <a:lnTo>
                    <a:pt x="1053" y="309"/>
                  </a:lnTo>
                  <a:lnTo>
                    <a:pt x="1059" y="330"/>
                  </a:lnTo>
                  <a:lnTo>
                    <a:pt x="1067" y="350"/>
                  </a:lnTo>
                  <a:lnTo>
                    <a:pt x="1072" y="360"/>
                  </a:lnTo>
                  <a:lnTo>
                    <a:pt x="1078" y="369"/>
                  </a:lnTo>
                  <a:lnTo>
                    <a:pt x="1084" y="380"/>
                  </a:lnTo>
                  <a:lnTo>
                    <a:pt x="1091" y="389"/>
                  </a:lnTo>
                  <a:lnTo>
                    <a:pt x="1098" y="399"/>
                  </a:lnTo>
                  <a:lnTo>
                    <a:pt x="1106" y="408"/>
                  </a:lnTo>
                  <a:lnTo>
                    <a:pt x="1114" y="417"/>
                  </a:lnTo>
                  <a:lnTo>
                    <a:pt x="1124" y="427"/>
                  </a:lnTo>
                  <a:lnTo>
                    <a:pt x="1133" y="435"/>
                  </a:lnTo>
                  <a:lnTo>
                    <a:pt x="1143" y="443"/>
                  </a:lnTo>
                  <a:lnTo>
                    <a:pt x="1155" y="451"/>
                  </a:lnTo>
                  <a:lnTo>
                    <a:pt x="1166" y="458"/>
                  </a:lnTo>
                  <a:lnTo>
                    <a:pt x="1178" y="465"/>
                  </a:lnTo>
                  <a:lnTo>
                    <a:pt x="1191" y="472"/>
                  </a:lnTo>
                  <a:lnTo>
                    <a:pt x="1204" y="479"/>
                  </a:lnTo>
                  <a:lnTo>
                    <a:pt x="1218" y="485"/>
                  </a:lnTo>
                  <a:lnTo>
                    <a:pt x="1225" y="487"/>
                  </a:lnTo>
                  <a:lnTo>
                    <a:pt x="1230" y="492"/>
                  </a:lnTo>
                  <a:lnTo>
                    <a:pt x="1233" y="497"/>
                  </a:lnTo>
                  <a:lnTo>
                    <a:pt x="1236" y="501"/>
                  </a:lnTo>
                  <a:lnTo>
                    <a:pt x="1237" y="506"/>
                  </a:lnTo>
                  <a:lnTo>
                    <a:pt x="1236" y="512"/>
                  </a:lnTo>
                  <a:lnTo>
                    <a:pt x="1234" y="518"/>
                  </a:lnTo>
                  <a:lnTo>
                    <a:pt x="1232" y="525"/>
                  </a:lnTo>
                  <a:lnTo>
                    <a:pt x="1225" y="538"/>
                  </a:lnTo>
                  <a:lnTo>
                    <a:pt x="1215" y="553"/>
                  </a:lnTo>
                  <a:lnTo>
                    <a:pt x="1202" y="567"/>
                  </a:lnTo>
                  <a:lnTo>
                    <a:pt x="1187" y="582"/>
                  </a:lnTo>
                  <a:lnTo>
                    <a:pt x="1156" y="609"/>
                  </a:lnTo>
                  <a:lnTo>
                    <a:pt x="1127" y="632"/>
                  </a:lnTo>
                  <a:lnTo>
                    <a:pt x="1106" y="649"/>
                  </a:lnTo>
                  <a:lnTo>
                    <a:pt x="1098" y="654"/>
                  </a:lnTo>
                  <a:lnTo>
                    <a:pt x="1095" y="656"/>
                  </a:lnTo>
                  <a:lnTo>
                    <a:pt x="1092" y="659"/>
                  </a:lnTo>
                  <a:lnTo>
                    <a:pt x="1091" y="663"/>
                  </a:lnTo>
                  <a:lnTo>
                    <a:pt x="1090" y="665"/>
                  </a:lnTo>
                  <a:lnTo>
                    <a:pt x="1088" y="668"/>
                  </a:lnTo>
                  <a:lnTo>
                    <a:pt x="1088" y="673"/>
                  </a:lnTo>
                  <a:lnTo>
                    <a:pt x="1091" y="678"/>
                  </a:lnTo>
                  <a:lnTo>
                    <a:pt x="1093" y="682"/>
                  </a:lnTo>
                  <a:lnTo>
                    <a:pt x="1098" y="687"/>
                  </a:lnTo>
                  <a:lnTo>
                    <a:pt x="1105" y="692"/>
                  </a:lnTo>
                  <a:lnTo>
                    <a:pt x="1114" y="698"/>
                  </a:lnTo>
                  <a:lnTo>
                    <a:pt x="1126" y="704"/>
                  </a:lnTo>
                  <a:lnTo>
                    <a:pt x="1140" y="709"/>
                  </a:lnTo>
                  <a:lnTo>
                    <a:pt x="1157" y="715"/>
                  </a:lnTo>
                  <a:lnTo>
                    <a:pt x="1166" y="719"/>
                  </a:lnTo>
                  <a:lnTo>
                    <a:pt x="1173" y="721"/>
                  </a:lnTo>
                  <a:lnTo>
                    <a:pt x="1178" y="725"/>
                  </a:lnTo>
                  <a:lnTo>
                    <a:pt x="1184" y="728"/>
                  </a:lnTo>
                  <a:lnTo>
                    <a:pt x="1188" y="733"/>
                  </a:lnTo>
                  <a:lnTo>
                    <a:pt x="1191" y="736"/>
                  </a:lnTo>
                  <a:lnTo>
                    <a:pt x="1194" y="740"/>
                  </a:lnTo>
                  <a:lnTo>
                    <a:pt x="1196" y="744"/>
                  </a:lnTo>
                  <a:lnTo>
                    <a:pt x="1198" y="754"/>
                  </a:lnTo>
                  <a:lnTo>
                    <a:pt x="1198" y="763"/>
                  </a:lnTo>
                  <a:lnTo>
                    <a:pt x="1197" y="774"/>
                  </a:lnTo>
                  <a:lnTo>
                    <a:pt x="1195" y="784"/>
                  </a:lnTo>
                  <a:lnTo>
                    <a:pt x="1192" y="795"/>
                  </a:lnTo>
                  <a:lnTo>
                    <a:pt x="1190" y="806"/>
                  </a:lnTo>
                  <a:lnTo>
                    <a:pt x="1190" y="819"/>
                  </a:lnTo>
                  <a:lnTo>
                    <a:pt x="1190" y="831"/>
                  </a:lnTo>
                  <a:lnTo>
                    <a:pt x="1191" y="838"/>
                  </a:lnTo>
                  <a:lnTo>
                    <a:pt x="1192" y="845"/>
                  </a:lnTo>
                  <a:lnTo>
                    <a:pt x="1195" y="851"/>
                  </a:lnTo>
                  <a:lnTo>
                    <a:pt x="1198" y="858"/>
                  </a:lnTo>
                  <a:lnTo>
                    <a:pt x="1202" y="865"/>
                  </a:lnTo>
                  <a:lnTo>
                    <a:pt x="1206" y="872"/>
                  </a:lnTo>
                  <a:lnTo>
                    <a:pt x="1212" y="878"/>
                  </a:lnTo>
                  <a:lnTo>
                    <a:pt x="1218" y="885"/>
                  </a:lnTo>
                  <a:lnTo>
                    <a:pt x="1226" y="892"/>
                  </a:lnTo>
                  <a:lnTo>
                    <a:pt x="1234" y="899"/>
                  </a:lnTo>
                  <a:lnTo>
                    <a:pt x="1244" y="904"/>
                  </a:lnTo>
                  <a:lnTo>
                    <a:pt x="1254" y="909"/>
                  </a:lnTo>
                  <a:lnTo>
                    <a:pt x="1265" y="914"/>
                  </a:lnTo>
                  <a:lnTo>
                    <a:pt x="1275" y="918"/>
                  </a:lnTo>
                  <a:lnTo>
                    <a:pt x="1287" y="922"/>
                  </a:lnTo>
                  <a:lnTo>
                    <a:pt x="1300" y="924"/>
                  </a:lnTo>
                  <a:lnTo>
                    <a:pt x="1327" y="929"/>
                  </a:lnTo>
                  <a:lnTo>
                    <a:pt x="1355" y="932"/>
                  </a:lnTo>
                  <a:lnTo>
                    <a:pt x="1384" y="934"/>
                  </a:lnTo>
                  <a:lnTo>
                    <a:pt x="1416" y="932"/>
                  </a:lnTo>
                  <a:lnTo>
                    <a:pt x="1447" y="931"/>
                  </a:lnTo>
                  <a:lnTo>
                    <a:pt x="1480" y="928"/>
                  </a:lnTo>
                  <a:lnTo>
                    <a:pt x="1512" y="923"/>
                  </a:lnTo>
                  <a:lnTo>
                    <a:pt x="1545" y="917"/>
                  </a:lnTo>
                  <a:lnTo>
                    <a:pt x="1578" y="911"/>
                  </a:lnTo>
                  <a:lnTo>
                    <a:pt x="1609" y="904"/>
                  </a:lnTo>
                  <a:lnTo>
                    <a:pt x="1641" y="896"/>
                  </a:lnTo>
                  <a:lnTo>
                    <a:pt x="1670" y="8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Freeform 104"/>
            <p:cNvSpPr/>
            <p:nvPr/>
          </p:nvSpPr>
          <p:spPr>
            <a:xfrm>
              <a:off x="6701040" y="5273280"/>
              <a:ext cx="252000" cy="24048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1670" h="1472">
                  <a:moveTo>
                    <a:pt x="1670" y="888"/>
                  </a:moveTo>
                  <a:lnTo>
                    <a:pt x="1328" y="1472"/>
                  </a:lnTo>
                  <a:lnTo>
                    <a:pt x="652" y="1407"/>
                  </a:lnTo>
                  <a:lnTo>
                    <a:pt x="629" y="1401"/>
                  </a:lnTo>
                  <a:lnTo>
                    <a:pt x="604" y="1395"/>
                  </a:lnTo>
                  <a:lnTo>
                    <a:pt x="574" y="1389"/>
                  </a:lnTo>
                  <a:lnTo>
                    <a:pt x="542" y="1383"/>
                  </a:lnTo>
                  <a:lnTo>
                    <a:pt x="469" y="1372"/>
                  </a:lnTo>
                  <a:lnTo>
                    <a:pt x="386" y="1361"/>
                  </a:lnTo>
                  <a:lnTo>
                    <a:pt x="295" y="1349"/>
                  </a:lnTo>
                  <a:lnTo>
                    <a:pt x="200" y="1338"/>
                  </a:lnTo>
                  <a:lnTo>
                    <a:pt x="100" y="1325"/>
                  </a:lnTo>
                  <a:lnTo>
                    <a:pt x="0" y="1311"/>
                  </a:lnTo>
                  <a:lnTo>
                    <a:pt x="23" y="1295"/>
                  </a:lnTo>
                  <a:lnTo>
                    <a:pt x="46" y="1278"/>
                  </a:lnTo>
                  <a:lnTo>
                    <a:pt x="70" y="1262"/>
                  </a:lnTo>
                  <a:lnTo>
                    <a:pt x="90" y="1244"/>
                  </a:lnTo>
                  <a:lnTo>
                    <a:pt x="99" y="1236"/>
                  </a:lnTo>
                  <a:lnTo>
                    <a:pt x="106" y="1227"/>
                  </a:lnTo>
                  <a:lnTo>
                    <a:pt x="113" y="1217"/>
                  </a:lnTo>
                  <a:lnTo>
                    <a:pt x="118" y="1208"/>
                  </a:lnTo>
                  <a:lnTo>
                    <a:pt x="121" y="1198"/>
                  </a:lnTo>
                  <a:lnTo>
                    <a:pt x="124" y="1187"/>
                  </a:lnTo>
                  <a:lnTo>
                    <a:pt x="124" y="1175"/>
                  </a:lnTo>
                  <a:lnTo>
                    <a:pt x="121" y="1165"/>
                  </a:lnTo>
                  <a:lnTo>
                    <a:pt x="119" y="1153"/>
                  </a:lnTo>
                  <a:lnTo>
                    <a:pt x="118" y="1143"/>
                  </a:lnTo>
                  <a:lnTo>
                    <a:pt x="118" y="1131"/>
                  </a:lnTo>
                  <a:lnTo>
                    <a:pt x="119" y="1121"/>
                  </a:lnTo>
                  <a:lnTo>
                    <a:pt x="121" y="1111"/>
                  </a:lnTo>
                  <a:lnTo>
                    <a:pt x="125" y="1101"/>
                  </a:lnTo>
                  <a:lnTo>
                    <a:pt x="129" y="1091"/>
                  </a:lnTo>
                  <a:lnTo>
                    <a:pt x="135" y="1081"/>
                  </a:lnTo>
                  <a:lnTo>
                    <a:pt x="143" y="1071"/>
                  </a:lnTo>
                  <a:lnTo>
                    <a:pt x="152" y="1062"/>
                  </a:lnTo>
                  <a:lnTo>
                    <a:pt x="161" y="1053"/>
                  </a:lnTo>
                  <a:lnTo>
                    <a:pt x="173" y="1045"/>
                  </a:lnTo>
                  <a:lnTo>
                    <a:pt x="186" y="1035"/>
                  </a:lnTo>
                  <a:lnTo>
                    <a:pt x="198" y="1026"/>
                  </a:lnTo>
                  <a:lnTo>
                    <a:pt x="214" y="1018"/>
                  </a:lnTo>
                  <a:lnTo>
                    <a:pt x="231" y="1008"/>
                  </a:lnTo>
                  <a:lnTo>
                    <a:pt x="264" y="992"/>
                  </a:lnTo>
                  <a:lnTo>
                    <a:pt x="293" y="977"/>
                  </a:lnTo>
                  <a:lnTo>
                    <a:pt x="307" y="969"/>
                  </a:lnTo>
                  <a:lnTo>
                    <a:pt x="319" y="960"/>
                  </a:lnTo>
                  <a:lnTo>
                    <a:pt x="329" y="952"/>
                  </a:lnTo>
                  <a:lnTo>
                    <a:pt x="339" y="944"/>
                  </a:lnTo>
                  <a:lnTo>
                    <a:pt x="347" y="936"/>
                  </a:lnTo>
                  <a:lnTo>
                    <a:pt x="354" y="927"/>
                  </a:lnTo>
                  <a:lnTo>
                    <a:pt x="358" y="917"/>
                  </a:lnTo>
                  <a:lnTo>
                    <a:pt x="362" y="907"/>
                  </a:lnTo>
                  <a:lnTo>
                    <a:pt x="363" y="895"/>
                  </a:lnTo>
                  <a:lnTo>
                    <a:pt x="362" y="883"/>
                  </a:lnTo>
                  <a:lnTo>
                    <a:pt x="360" y="871"/>
                  </a:lnTo>
                  <a:lnTo>
                    <a:pt x="355" y="857"/>
                  </a:lnTo>
                  <a:lnTo>
                    <a:pt x="343" y="831"/>
                  </a:lnTo>
                  <a:lnTo>
                    <a:pt x="333" y="813"/>
                  </a:lnTo>
                  <a:lnTo>
                    <a:pt x="329" y="805"/>
                  </a:lnTo>
                  <a:lnTo>
                    <a:pt x="326" y="799"/>
                  </a:lnTo>
                  <a:lnTo>
                    <a:pt x="325" y="795"/>
                  </a:lnTo>
                  <a:lnTo>
                    <a:pt x="323" y="790"/>
                  </a:lnTo>
                  <a:lnTo>
                    <a:pt x="325" y="785"/>
                  </a:lnTo>
                  <a:lnTo>
                    <a:pt x="327" y="781"/>
                  </a:lnTo>
                  <a:lnTo>
                    <a:pt x="332" y="777"/>
                  </a:lnTo>
                  <a:lnTo>
                    <a:pt x="337" y="772"/>
                  </a:lnTo>
                  <a:lnTo>
                    <a:pt x="357" y="762"/>
                  </a:lnTo>
                  <a:lnTo>
                    <a:pt x="386" y="747"/>
                  </a:lnTo>
                  <a:lnTo>
                    <a:pt x="405" y="739"/>
                  </a:lnTo>
                  <a:lnTo>
                    <a:pt x="427" y="732"/>
                  </a:lnTo>
                  <a:lnTo>
                    <a:pt x="451" y="725"/>
                  </a:lnTo>
                  <a:lnTo>
                    <a:pt x="478" y="719"/>
                  </a:lnTo>
                  <a:lnTo>
                    <a:pt x="531" y="706"/>
                  </a:lnTo>
                  <a:lnTo>
                    <a:pt x="583" y="693"/>
                  </a:lnTo>
                  <a:lnTo>
                    <a:pt x="606" y="686"/>
                  </a:lnTo>
                  <a:lnTo>
                    <a:pt x="627" y="677"/>
                  </a:lnTo>
                  <a:lnTo>
                    <a:pt x="636" y="672"/>
                  </a:lnTo>
                  <a:lnTo>
                    <a:pt x="645" y="667"/>
                  </a:lnTo>
                  <a:lnTo>
                    <a:pt x="653" y="663"/>
                  </a:lnTo>
                  <a:lnTo>
                    <a:pt x="659" y="657"/>
                  </a:lnTo>
                  <a:lnTo>
                    <a:pt x="664" y="651"/>
                  </a:lnTo>
                  <a:lnTo>
                    <a:pt x="668" y="644"/>
                  </a:lnTo>
                  <a:lnTo>
                    <a:pt x="671" y="637"/>
                  </a:lnTo>
                  <a:lnTo>
                    <a:pt x="673" y="630"/>
                  </a:lnTo>
                  <a:lnTo>
                    <a:pt x="673" y="622"/>
                  </a:lnTo>
                  <a:lnTo>
                    <a:pt x="671" y="612"/>
                  </a:lnTo>
                  <a:lnTo>
                    <a:pt x="668" y="604"/>
                  </a:lnTo>
                  <a:lnTo>
                    <a:pt x="662" y="594"/>
                  </a:lnTo>
                  <a:lnTo>
                    <a:pt x="660" y="580"/>
                  </a:lnTo>
                  <a:lnTo>
                    <a:pt x="659" y="565"/>
                  </a:lnTo>
                  <a:lnTo>
                    <a:pt x="661" y="547"/>
                  </a:lnTo>
                  <a:lnTo>
                    <a:pt x="664" y="528"/>
                  </a:lnTo>
                  <a:lnTo>
                    <a:pt x="670" y="508"/>
                  </a:lnTo>
                  <a:lnTo>
                    <a:pt x="678" y="487"/>
                  </a:lnTo>
                  <a:lnTo>
                    <a:pt x="688" y="465"/>
                  </a:lnTo>
                  <a:lnTo>
                    <a:pt x="698" y="442"/>
                  </a:lnTo>
                  <a:lnTo>
                    <a:pt x="711" y="419"/>
                  </a:lnTo>
                  <a:lnTo>
                    <a:pt x="725" y="394"/>
                  </a:lnTo>
                  <a:lnTo>
                    <a:pt x="739" y="369"/>
                  </a:lnTo>
                  <a:lnTo>
                    <a:pt x="756" y="345"/>
                  </a:lnTo>
                  <a:lnTo>
                    <a:pt x="788" y="295"/>
                  </a:lnTo>
                  <a:lnTo>
                    <a:pt x="823" y="244"/>
                  </a:lnTo>
                  <a:lnTo>
                    <a:pt x="860" y="197"/>
                  </a:lnTo>
                  <a:lnTo>
                    <a:pt x="895" y="151"/>
                  </a:lnTo>
                  <a:lnTo>
                    <a:pt x="927" y="110"/>
                  </a:lnTo>
                  <a:lnTo>
                    <a:pt x="958" y="74"/>
                  </a:lnTo>
                  <a:lnTo>
                    <a:pt x="1002" y="20"/>
                  </a:lnTo>
                  <a:lnTo>
                    <a:pt x="1020" y="0"/>
                  </a:lnTo>
                  <a:lnTo>
                    <a:pt x="1043" y="2"/>
                  </a:lnTo>
                  <a:lnTo>
                    <a:pt x="1065" y="3"/>
                  </a:lnTo>
                  <a:lnTo>
                    <a:pt x="1087" y="4"/>
                  </a:lnTo>
                  <a:lnTo>
                    <a:pt x="1111" y="5"/>
                  </a:lnTo>
                  <a:lnTo>
                    <a:pt x="1134" y="6"/>
                  </a:lnTo>
                  <a:lnTo>
                    <a:pt x="1157" y="7"/>
                  </a:lnTo>
                  <a:lnTo>
                    <a:pt x="1181" y="9"/>
                  </a:lnTo>
                  <a:lnTo>
                    <a:pt x="1204" y="10"/>
                  </a:lnTo>
                  <a:lnTo>
                    <a:pt x="1199" y="13"/>
                  </a:lnTo>
                  <a:lnTo>
                    <a:pt x="1189" y="25"/>
                  </a:lnTo>
                  <a:lnTo>
                    <a:pt x="1173" y="42"/>
                  </a:lnTo>
                  <a:lnTo>
                    <a:pt x="1153" y="66"/>
                  </a:lnTo>
                  <a:lnTo>
                    <a:pt x="1129" y="93"/>
                  </a:lnTo>
                  <a:lnTo>
                    <a:pt x="1107" y="124"/>
                  </a:lnTo>
                  <a:lnTo>
                    <a:pt x="1095" y="141"/>
                  </a:lnTo>
                  <a:lnTo>
                    <a:pt x="1085" y="157"/>
                  </a:lnTo>
                  <a:lnTo>
                    <a:pt x="1074" y="173"/>
                  </a:lnTo>
                  <a:lnTo>
                    <a:pt x="1066" y="191"/>
                  </a:lnTo>
                  <a:lnTo>
                    <a:pt x="1062" y="200"/>
                  </a:lnTo>
                  <a:lnTo>
                    <a:pt x="1058" y="208"/>
                  </a:lnTo>
                  <a:lnTo>
                    <a:pt x="1056" y="218"/>
                  </a:lnTo>
                  <a:lnTo>
                    <a:pt x="1052" y="228"/>
                  </a:lnTo>
                  <a:lnTo>
                    <a:pt x="1050" y="247"/>
                  </a:lnTo>
                  <a:lnTo>
                    <a:pt x="1049" y="267"/>
                  </a:lnTo>
                  <a:lnTo>
                    <a:pt x="1050" y="288"/>
                  </a:lnTo>
                  <a:lnTo>
                    <a:pt x="1053" y="309"/>
                  </a:lnTo>
                  <a:lnTo>
                    <a:pt x="1059" y="330"/>
                  </a:lnTo>
                  <a:lnTo>
                    <a:pt x="1067" y="350"/>
                  </a:lnTo>
                  <a:lnTo>
                    <a:pt x="1072" y="360"/>
                  </a:lnTo>
                  <a:lnTo>
                    <a:pt x="1078" y="369"/>
                  </a:lnTo>
                  <a:lnTo>
                    <a:pt x="1084" y="380"/>
                  </a:lnTo>
                  <a:lnTo>
                    <a:pt x="1091" y="389"/>
                  </a:lnTo>
                  <a:lnTo>
                    <a:pt x="1098" y="399"/>
                  </a:lnTo>
                  <a:lnTo>
                    <a:pt x="1106" y="408"/>
                  </a:lnTo>
                  <a:lnTo>
                    <a:pt x="1114" y="417"/>
                  </a:lnTo>
                  <a:lnTo>
                    <a:pt x="1124" y="427"/>
                  </a:lnTo>
                  <a:lnTo>
                    <a:pt x="1133" y="435"/>
                  </a:lnTo>
                  <a:lnTo>
                    <a:pt x="1143" y="443"/>
                  </a:lnTo>
                  <a:lnTo>
                    <a:pt x="1155" y="451"/>
                  </a:lnTo>
                  <a:lnTo>
                    <a:pt x="1166" y="458"/>
                  </a:lnTo>
                  <a:lnTo>
                    <a:pt x="1178" y="465"/>
                  </a:lnTo>
                  <a:lnTo>
                    <a:pt x="1191" y="472"/>
                  </a:lnTo>
                  <a:lnTo>
                    <a:pt x="1204" y="479"/>
                  </a:lnTo>
                  <a:lnTo>
                    <a:pt x="1218" y="485"/>
                  </a:lnTo>
                  <a:lnTo>
                    <a:pt x="1225" y="487"/>
                  </a:lnTo>
                  <a:lnTo>
                    <a:pt x="1230" y="492"/>
                  </a:lnTo>
                  <a:lnTo>
                    <a:pt x="1233" y="497"/>
                  </a:lnTo>
                  <a:lnTo>
                    <a:pt x="1236" y="501"/>
                  </a:lnTo>
                  <a:lnTo>
                    <a:pt x="1237" y="506"/>
                  </a:lnTo>
                  <a:lnTo>
                    <a:pt x="1236" y="512"/>
                  </a:lnTo>
                  <a:lnTo>
                    <a:pt x="1234" y="518"/>
                  </a:lnTo>
                  <a:lnTo>
                    <a:pt x="1232" y="525"/>
                  </a:lnTo>
                  <a:lnTo>
                    <a:pt x="1225" y="538"/>
                  </a:lnTo>
                  <a:lnTo>
                    <a:pt x="1215" y="553"/>
                  </a:lnTo>
                  <a:lnTo>
                    <a:pt x="1202" y="567"/>
                  </a:lnTo>
                  <a:lnTo>
                    <a:pt x="1187" y="582"/>
                  </a:lnTo>
                  <a:lnTo>
                    <a:pt x="1156" y="609"/>
                  </a:lnTo>
                  <a:lnTo>
                    <a:pt x="1127" y="632"/>
                  </a:lnTo>
                  <a:lnTo>
                    <a:pt x="1106" y="649"/>
                  </a:lnTo>
                  <a:lnTo>
                    <a:pt x="1098" y="654"/>
                  </a:lnTo>
                  <a:lnTo>
                    <a:pt x="1095" y="656"/>
                  </a:lnTo>
                  <a:lnTo>
                    <a:pt x="1092" y="659"/>
                  </a:lnTo>
                  <a:lnTo>
                    <a:pt x="1091" y="663"/>
                  </a:lnTo>
                  <a:lnTo>
                    <a:pt x="1090" y="665"/>
                  </a:lnTo>
                  <a:lnTo>
                    <a:pt x="1088" y="668"/>
                  </a:lnTo>
                  <a:lnTo>
                    <a:pt x="1088" y="673"/>
                  </a:lnTo>
                  <a:lnTo>
                    <a:pt x="1091" y="678"/>
                  </a:lnTo>
                  <a:lnTo>
                    <a:pt x="1093" y="682"/>
                  </a:lnTo>
                  <a:lnTo>
                    <a:pt x="1098" y="687"/>
                  </a:lnTo>
                  <a:lnTo>
                    <a:pt x="1105" y="692"/>
                  </a:lnTo>
                  <a:lnTo>
                    <a:pt x="1114" y="698"/>
                  </a:lnTo>
                  <a:lnTo>
                    <a:pt x="1126" y="704"/>
                  </a:lnTo>
                  <a:lnTo>
                    <a:pt x="1140" y="709"/>
                  </a:lnTo>
                  <a:lnTo>
                    <a:pt x="1157" y="715"/>
                  </a:lnTo>
                  <a:lnTo>
                    <a:pt x="1166" y="719"/>
                  </a:lnTo>
                  <a:lnTo>
                    <a:pt x="1173" y="721"/>
                  </a:lnTo>
                  <a:lnTo>
                    <a:pt x="1178" y="725"/>
                  </a:lnTo>
                  <a:lnTo>
                    <a:pt x="1184" y="728"/>
                  </a:lnTo>
                  <a:lnTo>
                    <a:pt x="1188" y="733"/>
                  </a:lnTo>
                  <a:lnTo>
                    <a:pt x="1191" y="736"/>
                  </a:lnTo>
                  <a:lnTo>
                    <a:pt x="1194" y="740"/>
                  </a:lnTo>
                  <a:lnTo>
                    <a:pt x="1196" y="744"/>
                  </a:lnTo>
                  <a:lnTo>
                    <a:pt x="1198" y="754"/>
                  </a:lnTo>
                  <a:lnTo>
                    <a:pt x="1198" y="763"/>
                  </a:lnTo>
                  <a:lnTo>
                    <a:pt x="1197" y="774"/>
                  </a:lnTo>
                  <a:lnTo>
                    <a:pt x="1195" y="784"/>
                  </a:lnTo>
                  <a:lnTo>
                    <a:pt x="1192" y="795"/>
                  </a:lnTo>
                  <a:lnTo>
                    <a:pt x="1190" y="806"/>
                  </a:lnTo>
                  <a:lnTo>
                    <a:pt x="1190" y="819"/>
                  </a:lnTo>
                  <a:lnTo>
                    <a:pt x="1190" y="831"/>
                  </a:lnTo>
                  <a:lnTo>
                    <a:pt x="1191" y="838"/>
                  </a:lnTo>
                  <a:lnTo>
                    <a:pt x="1192" y="845"/>
                  </a:lnTo>
                  <a:lnTo>
                    <a:pt x="1195" y="851"/>
                  </a:lnTo>
                  <a:lnTo>
                    <a:pt x="1198" y="858"/>
                  </a:lnTo>
                  <a:lnTo>
                    <a:pt x="1202" y="865"/>
                  </a:lnTo>
                  <a:lnTo>
                    <a:pt x="1206" y="872"/>
                  </a:lnTo>
                  <a:lnTo>
                    <a:pt x="1212" y="878"/>
                  </a:lnTo>
                  <a:lnTo>
                    <a:pt x="1218" y="885"/>
                  </a:lnTo>
                  <a:lnTo>
                    <a:pt x="1226" y="892"/>
                  </a:lnTo>
                  <a:lnTo>
                    <a:pt x="1234" y="899"/>
                  </a:lnTo>
                  <a:lnTo>
                    <a:pt x="1244" y="904"/>
                  </a:lnTo>
                  <a:lnTo>
                    <a:pt x="1254" y="909"/>
                  </a:lnTo>
                  <a:lnTo>
                    <a:pt x="1265" y="914"/>
                  </a:lnTo>
                  <a:lnTo>
                    <a:pt x="1275" y="918"/>
                  </a:lnTo>
                  <a:lnTo>
                    <a:pt x="1287" y="922"/>
                  </a:lnTo>
                  <a:lnTo>
                    <a:pt x="1300" y="924"/>
                  </a:lnTo>
                  <a:lnTo>
                    <a:pt x="1327" y="929"/>
                  </a:lnTo>
                  <a:lnTo>
                    <a:pt x="1355" y="932"/>
                  </a:lnTo>
                  <a:lnTo>
                    <a:pt x="1384" y="934"/>
                  </a:lnTo>
                  <a:lnTo>
                    <a:pt x="1416" y="932"/>
                  </a:lnTo>
                  <a:lnTo>
                    <a:pt x="1447" y="931"/>
                  </a:lnTo>
                  <a:lnTo>
                    <a:pt x="1480" y="928"/>
                  </a:lnTo>
                  <a:lnTo>
                    <a:pt x="1512" y="923"/>
                  </a:lnTo>
                  <a:lnTo>
                    <a:pt x="1545" y="917"/>
                  </a:lnTo>
                  <a:lnTo>
                    <a:pt x="1578" y="911"/>
                  </a:lnTo>
                  <a:lnTo>
                    <a:pt x="1609" y="904"/>
                  </a:lnTo>
                  <a:lnTo>
                    <a:pt x="1641" y="896"/>
                  </a:lnTo>
                  <a:lnTo>
                    <a:pt x="1670" y="8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Freeform 105"/>
            <p:cNvSpPr/>
            <p:nvPr/>
          </p:nvSpPr>
          <p:spPr>
            <a:xfrm>
              <a:off x="6894360" y="5412960"/>
              <a:ext cx="313560" cy="14256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077" h="874">
                  <a:moveTo>
                    <a:pt x="438" y="837"/>
                  </a:moveTo>
                  <a:lnTo>
                    <a:pt x="0" y="805"/>
                  </a:lnTo>
                  <a:lnTo>
                    <a:pt x="47" y="617"/>
                  </a:lnTo>
                  <a:lnTo>
                    <a:pt x="389" y="33"/>
                  </a:lnTo>
                  <a:lnTo>
                    <a:pt x="407" y="32"/>
                  </a:lnTo>
                  <a:lnTo>
                    <a:pt x="457" y="31"/>
                  </a:lnTo>
                  <a:lnTo>
                    <a:pt x="535" y="28"/>
                  </a:lnTo>
                  <a:lnTo>
                    <a:pt x="637" y="26"/>
                  </a:lnTo>
                  <a:lnTo>
                    <a:pt x="758" y="23"/>
                  </a:lnTo>
                  <a:lnTo>
                    <a:pt x="893" y="19"/>
                  </a:lnTo>
                  <a:lnTo>
                    <a:pt x="1039" y="14"/>
                  </a:lnTo>
                  <a:lnTo>
                    <a:pt x="1191" y="11"/>
                  </a:lnTo>
                  <a:lnTo>
                    <a:pt x="1344" y="9"/>
                  </a:lnTo>
                  <a:lnTo>
                    <a:pt x="1493" y="5"/>
                  </a:lnTo>
                  <a:lnTo>
                    <a:pt x="1634" y="3"/>
                  </a:lnTo>
                  <a:lnTo>
                    <a:pt x="1765" y="2"/>
                  </a:lnTo>
                  <a:lnTo>
                    <a:pt x="1879" y="0"/>
                  </a:lnTo>
                  <a:lnTo>
                    <a:pt x="1972" y="2"/>
                  </a:lnTo>
                  <a:lnTo>
                    <a:pt x="2009" y="3"/>
                  </a:lnTo>
                  <a:lnTo>
                    <a:pt x="2040" y="4"/>
                  </a:lnTo>
                  <a:lnTo>
                    <a:pt x="2062" y="5"/>
                  </a:lnTo>
                  <a:lnTo>
                    <a:pt x="2077" y="7"/>
                  </a:lnTo>
                  <a:lnTo>
                    <a:pt x="1780" y="874"/>
                  </a:lnTo>
                  <a:lnTo>
                    <a:pt x="438" y="83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Freeform 106"/>
            <p:cNvSpPr/>
            <p:nvPr/>
          </p:nvSpPr>
          <p:spPr>
            <a:xfrm>
              <a:off x="6894360" y="5412960"/>
              <a:ext cx="313560" cy="14256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077" h="874">
                  <a:moveTo>
                    <a:pt x="438" y="837"/>
                  </a:moveTo>
                  <a:lnTo>
                    <a:pt x="0" y="805"/>
                  </a:lnTo>
                  <a:lnTo>
                    <a:pt x="47" y="617"/>
                  </a:lnTo>
                  <a:lnTo>
                    <a:pt x="389" y="33"/>
                  </a:lnTo>
                  <a:lnTo>
                    <a:pt x="407" y="32"/>
                  </a:lnTo>
                  <a:lnTo>
                    <a:pt x="457" y="31"/>
                  </a:lnTo>
                  <a:lnTo>
                    <a:pt x="535" y="28"/>
                  </a:lnTo>
                  <a:lnTo>
                    <a:pt x="637" y="26"/>
                  </a:lnTo>
                  <a:lnTo>
                    <a:pt x="758" y="23"/>
                  </a:lnTo>
                  <a:lnTo>
                    <a:pt x="893" y="19"/>
                  </a:lnTo>
                  <a:lnTo>
                    <a:pt x="1039" y="14"/>
                  </a:lnTo>
                  <a:lnTo>
                    <a:pt x="1191" y="11"/>
                  </a:lnTo>
                  <a:lnTo>
                    <a:pt x="1344" y="9"/>
                  </a:lnTo>
                  <a:lnTo>
                    <a:pt x="1493" y="5"/>
                  </a:lnTo>
                  <a:lnTo>
                    <a:pt x="1634" y="3"/>
                  </a:lnTo>
                  <a:lnTo>
                    <a:pt x="1765" y="2"/>
                  </a:lnTo>
                  <a:lnTo>
                    <a:pt x="1879" y="0"/>
                  </a:lnTo>
                  <a:lnTo>
                    <a:pt x="1972" y="2"/>
                  </a:lnTo>
                  <a:lnTo>
                    <a:pt x="2009" y="3"/>
                  </a:lnTo>
                  <a:lnTo>
                    <a:pt x="2040" y="4"/>
                  </a:lnTo>
                  <a:lnTo>
                    <a:pt x="2062" y="5"/>
                  </a:lnTo>
                  <a:lnTo>
                    <a:pt x="2077" y="7"/>
                  </a:lnTo>
                  <a:lnTo>
                    <a:pt x="1780" y="874"/>
                  </a:lnTo>
                  <a:lnTo>
                    <a:pt x="438" y="83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Freeform 107"/>
            <p:cNvSpPr/>
            <p:nvPr/>
          </p:nvSpPr>
          <p:spPr>
            <a:xfrm>
              <a:off x="6721560" y="5722560"/>
              <a:ext cx="450360" cy="336240"/>
            </a:xfrm>
            <a:custGeom>
              <a:avLst/>
              <a:gdLst>
                <a:gd name="textAreaLeft" fmla="*/ 0 w 450360"/>
                <a:gd name="textAreaRight" fmla="*/ 450720 w 45036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2989" h="2059">
                  <a:moveTo>
                    <a:pt x="2989" y="6"/>
                  </a:moveTo>
                  <a:lnTo>
                    <a:pt x="1057" y="0"/>
                  </a:lnTo>
                  <a:lnTo>
                    <a:pt x="0" y="2022"/>
                  </a:lnTo>
                  <a:lnTo>
                    <a:pt x="423" y="2059"/>
                  </a:lnTo>
                  <a:lnTo>
                    <a:pt x="515" y="1875"/>
                  </a:lnTo>
                  <a:lnTo>
                    <a:pt x="1068" y="1904"/>
                  </a:lnTo>
                  <a:lnTo>
                    <a:pt x="1071" y="1737"/>
                  </a:lnTo>
                  <a:lnTo>
                    <a:pt x="2462" y="1769"/>
                  </a:lnTo>
                  <a:lnTo>
                    <a:pt x="2989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Freeform 108"/>
            <p:cNvSpPr/>
            <p:nvPr/>
          </p:nvSpPr>
          <p:spPr>
            <a:xfrm>
              <a:off x="6721560" y="5722560"/>
              <a:ext cx="450360" cy="336240"/>
            </a:xfrm>
            <a:custGeom>
              <a:avLst/>
              <a:gdLst>
                <a:gd name="textAreaLeft" fmla="*/ 0 w 450360"/>
                <a:gd name="textAreaRight" fmla="*/ 450720 w 45036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2989" h="2059">
                  <a:moveTo>
                    <a:pt x="2989" y="6"/>
                  </a:moveTo>
                  <a:lnTo>
                    <a:pt x="1057" y="0"/>
                  </a:lnTo>
                  <a:lnTo>
                    <a:pt x="0" y="2022"/>
                  </a:lnTo>
                  <a:lnTo>
                    <a:pt x="423" y="2059"/>
                  </a:lnTo>
                  <a:lnTo>
                    <a:pt x="515" y="1875"/>
                  </a:lnTo>
                  <a:lnTo>
                    <a:pt x="1068" y="1904"/>
                  </a:lnTo>
                  <a:lnTo>
                    <a:pt x="1071" y="1737"/>
                  </a:lnTo>
                  <a:lnTo>
                    <a:pt x="2462" y="1769"/>
                  </a:lnTo>
                  <a:lnTo>
                    <a:pt x="2989" y="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109"/>
            <p:cNvSpPr/>
            <p:nvPr/>
          </p:nvSpPr>
          <p:spPr>
            <a:xfrm>
              <a:off x="7164720" y="5478480"/>
              <a:ext cx="355320" cy="107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362" h="660">
                  <a:moveTo>
                    <a:pt x="2362" y="660"/>
                  </a:moveTo>
                  <a:lnTo>
                    <a:pt x="586" y="656"/>
                  </a:lnTo>
                  <a:lnTo>
                    <a:pt x="631" y="481"/>
                  </a:lnTo>
                  <a:lnTo>
                    <a:pt x="0" y="475"/>
                  </a:lnTo>
                  <a:lnTo>
                    <a:pt x="165" y="0"/>
                  </a:lnTo>
                  <a:lnTo>
                    <a:pt x="1535" y="2"/>
                  </a:lnTo>
                  <a:lnTo>
                    <a:pt x="1548" y="9"/>
                  </a:lnTo>
                  <a:lnTo>
                    <a:pt x="1561" y="15"/>
                  </a:lnTo>
                  <a:lnTo>
                    <a:pt x="1575" y="20"/>
                  </a:lnTo>
                  <a:lnTo>
                    <a:pt x="1588" y="23"/>
                  </a:lnTo>
                  <a:lnTo>
                    <a:pt x="1602" y="25"/>
                  </a:lnTo>
                  <a:lnTo>
                    <a:pt x="1617" y="28"/>
                  </a:lnTo>
                  <a:lnTo>
                    <a:pt x="1632" y="28"/>
                  </a:lnTo>
                  <a:lnTo>
                    <a:pt x="1646" y="29"/>
                  </a:lnTo>
                  <a:lnTo>
                    <a:pt x="1678" y="28"/>
                  </a:lnTo>
                  <a:lnTo>
                    <a:pt x="1709" y="25"/>
                  </a:lnTo>
                  <a:lnTo>
                    <a:pt x="1742" y="23"/>
                  </a:lnTo>
                  <a:lnTo>
                    <a:pt x="1774" y="20"/>
                  </a:lnTo>
                  <a:lnTo>
                    <a:pt x="1806" y="16"/>
                  </a:lnTo>
                  <a:lnTo>
                    <a:pt x="1838" y="15"/>
                  </a:lnTo>
                  <a:lnTo>
                    <a:pt x="1853" y="14"/>
                  </a:lnTo>
                  <a:lnTo>
                    <a:pt x="1869" y="15"/>
                  </a:lnTo>
                  <a:lnTo>
                    <a:pt x="1885" y="16"/>
                  </a:lnTo>
                  <a:lnTo>
                    <a:pt x="1899" y="17"/>
                  </a:lnTo>
                  <a:lnTo>
                    <a:pt x="1914" y="20"/>
                  </a:lnTo>
                  <a:lnTo>
                    <a:pt x="1928" y="23"/>
                  </a:lnTo>
                  <a:lnTo>
                    <a:pt x="1942" y="28"/>
                  </a:lnTo>
                  <a:lnTo>
                    <a:pt x="1956" y="32"/>
                  </a:lnTo>
                  <a:lnTo>
                    <a:pt x="1969" y="39"/>
                  </a:lnTo>
                  <a:lnTo>
                    <a:pt x="1982" y="46"/>
                  </a:lnTo>
                  <a:lnTo>
                    <a:pt x="1993" y="56"/>
                  </a:lnTo>
                  <a:lnTo>
                    <a:pt x="2005" y="66"/>
                  </a:lnTo>
                  <a:lnTo>
                    <a:pt x="2039" y="99"/>
                  </a:lnTo>
                  <a:lnTo>
                    <a:pt x="2066" y="128"/>
                  </a:lnTo>
                  <a:lnTo>
                    <a:pt x="2088" y="153"/>
                  </a:lnTo>
                  <a:lnTo>
                    <a:pt x="2104" y="173"/>
                  </a:lnTo>
                  <a:lnTo>
                    <a:pt x="2116" y="190"/>
                  </a:lnTo>
                  <a:lnTo>
                    <a:pt x="2125" y="205"/>
                  </a:lnTo>
                  <a:lnTo>
                    <a:pt x="2130" y="217"/>
                  </a:lnTo>
                  <a:lnTo>
                    <a:pt x="2133" y="226"/>
                  </a:lnTo>
                  <a:lnTo>
                    <a:pt x="2135" y="233"/>
                  </a:lnTo>
                  <a:lnTo>
                    <a:pt x="2133" y="239"/>
                  </a:lnTo>
                  <a:lnTo>
                    <a:pt x="2132" y="244"/>
                  </a:lnTo>
                  <a:lnTo>
                    <a:pt x="2131" y="248"/>
                  </a:lnTo>
                  <a:lnTo>
                    <a:pt x="2131" y="252"/>
                  </a:lnTo>
                  <a:lnTo>
                    <a:pt x="2131" y="255"/>
                  </a:lnTo>
                  <a:lnTo>
                    <a:pt x="2133" y="260"/>
                  </a:lnTo>
                  <a:lnTo>
                    <a:pt x="2138" y="265"/>
                  </a:lnTo>
                  <a:lnTo>
                    <a:pt x="2145" y="271"/>
                  </a:lnTo>
                  <a:lnTo>
                    <a:pt x="2152" y="275"/>
                  </a:lnTo>
                  <a:lnTo>
                    <a:pt x="2160" y="280"/>
                  </a:lnTo>
                  <a:lnTo>
                    <a:pt x="2170" y="285"/>
                  </a:lnTo>
                  <a:lnTo>
                    <a:pt x="2187" y="293"/>
                  </a:lnTo>
                  <a:lnTo>
                    <a:pt x="2204" y="303"/>
                  </a:lnTo>
                  <a:lnTo>
                    <a:pt x="2211" y="308"/>
                  </a:lnTo>
                  <a:lnTo>
                    <a:pt x="2218" y="315"/>
                  </a:lnTo>
                  <a:lnTo>
                    <a:pt x="2223" y="323"/>
                  </a:lnTo>
                  <a:lnTo>
                    <a:pt x="2228" y="333"/>
                  </a:lnTo>
                  <a:lnTo>
                    <a:pt x="2230" y="344"/>
                  </a:lnTo>
                  <a:lnTo>
                    <a:pt x="2233" y="356"/>
                  </a:lnTo>
                  <a:lnTo>
                    <a:pt x="2233" y="371"/>
                  </a:lnTo>
                  <a:lnTo>
                    <a:pt x="2230" y="389"/>
                  </a:lnTo>
                  <a:lnTo>
                    <a:pt x="2226" y="421"/>
                  </a:lnTo>
                  <a:lnTo>
                    <a:pt x="2225" y="447"/>
                  </a:lnTo>
                  <a:lnTo>
                    <a:pt x="2226" y="458"/>
                  </a:lnTo>
                  <a:lnTo>
                    <a:pt x="2227" y="466"/>
                  </a:lnTo>
                  <a:lnTo>
                    <a:pt x="2228" y="473"/>
                  </a:lnTo>
                  <a:lnTo>
                    <a:pt x="2232" y="480"/>
                  </a:lnTo>
                  <a:lnTo>
                    <a:pt x="2235" y="484"/>
                  </a:lnTo>
                  <a:lnTo>
                    <a:pt x="2240" y="489"/>
                  </a:lnTo>
                  <a:lnTo>
                    <a:pt x="2244" y="494"/>
                  </a:lnTo>
                  <a:lnTo>
                    <a:pt x="2251" y="497"/>
                  </a:lnTo>
                  <a:lnTo>
                    <a:pt x="2267" y="504"/>
                  </a:lnTo>
                  <a:lnTo>
                    <a:pt x="2285" y="512"/>
                  </a:lnTo>
                  <a:lnTo>
                    <a:pt x="2290" y="540"/>
                  </a:lnTo>
                  <a:lnTo>
                    <a:pt x="2297" y="569"/>
                  </a:lnTo>
                  <a:lnTo>
                    <a:pt x="2305" y="593"/>
                  </a:lnTo>
                  <a:lnTo>
                    <a:pt x="2313" y="615"/>
                  </a:lnTo>
                  <a:lnTo>
                    <a:pt x="2319" y="625"/>
                  </a:lnTo>
                  <a:lnTo>
                    <a:pt x="2324" y="633"/>
                  </a:lnTo>
                  <a:lnTo>
                    <a:pt x="2330" y="641"/>
                  </a:lnTo>
                  <a:lnTo>
                    <a:pt x="2336" y="647"/>
                  </a:lnTo>
                  <a:lnTo>
                    <a:pt x="2341" y="653"/>
                  </a:lnTo>
                  <a:lnTo>
                    <a:pt x="2348" y="656"/>
                  </a:lnTo>
                  <a:lnTo>
                    <a:pt x="2355" y="658"/>
                  </a:lnTo>
                  <a:lnTo>
                    <a:pt x="2362" y="6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110"/>
            <p:cNvSpPr/>
            <p:nvPr/>
          </p:nvSpPr>
          <p:spPr>
            <a:xfrm>
              <a:off x="7164720" y="5478480"/>
              <a:ext cx="355320" cy="1076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362" h="660">
                  <a:moveTo>
                    <a:pt x="2362" y="660"/>
                  </a:moveTo>
                  <a:lnTo>
                    <a:pt x="586" y="656"/>
                  </a:lnTo>
                  <a:lnTo>
                    <a:pt x="631" y="481"/>
                  </a:lnTo>
                  <a:lnTo>
                    <a:pt x="0" y="475"/>
                  </a:lnTo>
                  <a:lnTo>
                    <a:pt x="165" y="0"/>
                  </a:lnTo>
                  <a:lnTo>
                    <a:pt x="1535" y="2"/>
                  </a:lnTo>
                  <a:lnTo>
                    <a:pt x="1548" y="9"/>
                  </a:lnTo>
                  <a:lnTo>
                    <a:pt x="1561" y="15"/>
                  </a:lnTo>
                  <a:lnTo>
                    <a:pt x="1575" y="20"/>
                  </a:lnTo>
                  <a:lnTo>
                    <a:pt x="1588" y="23"/>
                  </a:lnTo>
                  <a:lnTo>
                    <a:pt x="1602" y="25"/>
                  </a:lnTo>
                  <a:lnTo>
                    <a:pt x="1617" y="28"/>
                  </a:lnTo>
                  <a:lnTo>
                    <a:pt x="1632" y="28"/>
                  </a:lnTo>
                  <a:lnTo>
                    <a:pt x="1646" y="29"/>
                  </a:lnTo>
                  <a:lnTo>
                    <a:pt x="1678" y="28"/>
                  </a:lnTo>
                  <a:lnTo>
                    <a:pt x="1709" y="25"/>
                  </a:lnTo>
                  <a:lnTo>
                    <a:pt x="1742" y="23"/>
                  </a:lnTo>
                  <a:lnTo>
                    <a:pt x="1774" y="20"/>
                  </a:lnTo>
                  <a:lnTo>
                    <a:pt x="1806" y="16"/>
                  </a:lnTo>
                  <a:lnTo>
                    <a:pt x="1838" y="15"/>
                  </a:lnTo>
                  <a:lnTo>
                    <a:pt x="1853" y="14"/>
                  </a:lnTo>
                  <a:lnTo>
                    <a:pt x="1869" y="15"/>
                  </a:lnTo>
                  <a:lnTo>
                    <a:pt x="1885" y="16"/>
                  </a:lnTo>
                  <a:lnTo>
                    <a:pt x="1899" y="17"/>
                  </a:lnTo>
                  <a:lnTo>
                    <a:pt x="1914" y="20"/>
                  </a:lnTo>
                  <a:lnTo>
                    <a:pt x="1928" y="23"/>
                  </a:lnTo>
                  <a:lnTo>
                    <a:pt x="1942" y="28"/>
                  </a:lnTo>
                  <a:lnTo>
                    <a:pt x="1956" y="32"/>
                  </a:lnTo>
                  <a:lnTo>
                    <a:pt x="1969" y="39"/>
                  </a:lnTo>
                  <a:lnTo>
                    <a:pt x="1982" y="46"/>
                  </a:lnTo>
                  <a:lnTo>
                    <a:pt x="1993" y="56"/>
                  </a:lnTo>
                  <a:lnTo>
                    <a:pt x="2005" y="66"/>
                  </a:lnTo>
                  <a:lnTo>
                    <a:pt x="2039" y="99"/>
                  </a:lnTo>
                  <a:lnTo>
                    <a:pt x="2066" y="128"/>
                  </a:lnTo>
                  <a:lnTo>
                    <a:pt x="2088" y="153"/>
                  </a:lnTo>
                  <a:lnTo>
                    <a:pt x="2104" y="173"/>
                  </a:lnTo>
                  <a:lnTo>
                    <a:pt x="2116" y="190"/>
                  </a:lnTo>
                  <a:lnTo>
                    <a:pt x="2125" y="205"/>
                  </a:lnTo>
                  <a:lnTo>
                    <a:pt x="2130" y="217"/>
                  </a:lnTo>
                  <a:lnTo>
                    <a:pt x="2133" y="226"/>
                  </a:lnTo>
                  <a:lnTo>
                    <a:pt x="2135" y="233"/>
                  </a:lnTo>
                  <a:lnTo>
                    <a:pt x="2133" y="239"/>
                  </a:lnTo>
                  <a:lnTo>
                    <a:pt x="2132" y="244"/>
                  </a:lnTo>
                  <a:lnTo>
                    <a:pt x="2131" y="248"/>
                  </a:lnTo>
                  <a:lnTo>
                    <a:pt x="2131" y="252"/>
                  </a:lnTo>
                  <a:lnTo>
                    <a:pt x="2131" y="255"/>
                  </a:lnTo>
                  <a:lnTo>
                    <a:pt x="2133" y="260"/>
                  </a:lnTo>
                  <a:lnTo>
                    <a:pt x="2138" y="265"/>
                  </a:lnTo>
                  <a:lnTo>
                    <a:pt x="2145" y="271"/>
                  </a:lnTo>
                  <a:lnTo>
                    <a:pt x="2152" y="275"/>
                  </a:lnTo>
                  <a:lnTo>
                    <a:pt x="2160" y="280"/>
                  </a:lnTo>
                  <a:lnTo>
                    <a:pt x="2170" y="285"/>
                  </a:lnTo>
                  <a:lnTo>
                    <a:pt x="2187" y="293"/>
                  </a:lnTo>
                  <a:lnTo>
                    <a:pt x="2204" y="303"/>
                  </a:lnTo>
                  <a:lnTo>
                    <a:pt x="2211" y="308"/>
                  </a:lnTo>
                  <a:lnTo>
                    <a:pt x="2218" y="315"/>
                  </a:lnTo>
                  <a:lnTo>
                    <a:pt x="2223" y="323"/>
                  </a:lnTo>
                  <a:lnTo>
                    <a:pt x="2228" y="333"/>
                  </a:lnTo>
                  <a:lnTo>
                    <a:pt x="2230" y="344"/>
                  </a:lnTo>
                  <a:lnTo>
                    <a:pt x="2233" y="356"/>
                  </a:lnTo>
                  <a:lnTo>
                    <a:pt x="2233" y="371"/>
                  </a:lnTo>
                  <a:lnTo>
                    <a:pt x="2230" y="389"/>
                  </a:lnTo>
                  <a:lnTo>
                    <a:pt x="2226" y="421"/>
                  </a:lnTo>
                  <a:lnTo>
                    <a:pt x="2225" y="447"/>
                  </a:lnTo>
                  <a:lnTo>
                    <a:pt x="2226" y="458"/>
                  </a:lnTo>
                  <a:lnTo>
                    <a:pt x="2227" y="466"/>
                  </a:lnTo>
                  <a:lnTo>
                    <a:pt x="2228" y="473"/>
                  </a:lnTo>
                  <a:lnTo>
                    <a:pt x="2232" y="480"/>
                  </a:lnTo>
                  <a:lnTo>
                    <a:pt x="2235" y="484"/>
                  </a:lnTo>
                  <a:lnTo>
                    <a:pt x="2240" y="489"/>
                  </a:lnTo>
                  <a:lnTo>
                    <a:pt x="2244" y="494"/>
                  </a:lnTo>
                  <a:lnTo>
                    <a:pt x="2251" y="497"/>
                  </a:lnTo>
                  <a:lnTo>
                    <a:pt x="2267" y="504"/>
                  </a:lnTo>
                  <a:lnTo>
                    <a:pt x="2285" y="512"/>
                  </a:lnTo>
                  <a:lnTo>
                    <a:pt x="2290" y="540"/>
                  </a:lnTo>
                  <a:lnTo>
                    <a:pt x="2297" y="569"/>
                  </a:lnTo>
                  <a:lnTo>
                    <a:pt x="2305" y="593"/>
                  </a:lnTo>
                  <a:lnTo>
                    <a:pt x="2313" y="615"/>
                  </a:lnTo>
                  <a:lnTo>
                    <a:pt x="2319" y="625"/>
                  </a:lnTo>
                  <a:lnTo>
                    <a:pt x="2324" y="633"/>
                  </a:lnTo>
                  <a:lnTo>
                    <a:pt x="2330" y="641"/>
                  </a:lnTo>
                  <a:lnTo>
                    <a:pt x="2336" y="647"/>
                  </a:lnTo>
                  <a:lnTo>
                    <a:pt x="2341" y="653"/>
                  </a:lnTo>
                  <a:lnTo>
                    <a:pt x="2348" y="656"/>
                  </a:lnTo>
                  <a:lnTo>
                    <a:pt x="2355" y="658"/>
                  </a:lnTo>
                  <a:lnTo>
                    <a:pt x="2362" y="66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111"/>
            <p:cNvSpPr/>
            <p:nvPr/>
          </p:nvSpPr>
          <p:spPr>
            <a:xfrm>
              <a:off x="7188120" y="5375520"/>
              <a:ext cx="283680" cy="11412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886" h="703">
                  <a:moveTo>
                    <a:pt x="0" y="637"/>
                  </a:moveTo>
                  <a:lnTo>
                    <a:pt x="219" y="0"/>
                  </a:lnTo>
                  <a:lnTo>
                    <a:pt x="1886" y="6"/>
                  </a:lnTo>
                  <a:lnTo>
                    <a:pt x="1846" y="703"/>
                  </a:lnTo>
                  <a:lnTo>
                    <a:pt x="1835" y="693"/>
                  </a:lnTo>
                  <a:lnTo>
                    <a:pt x="1822" y="683"/>
                  </a:lnTo>
                  <a:lnTo>
                    <a:pt x="1809" y="676"/>
                  </a:lnTo>
                  <a:lnTo>
                    <a:pt x="1796" y="669"/>
                  </a:lnTo>
                  <a:lnTo>
                    <a:pt x="1782" y="665"/>
                  </a:lnTo>
                  <a:lnTo>
                    <a:pt x="1768" y="660"/>
                  </a:lnTo>
                  <a:lnTo>
                    <a:pt x="1753" y="657"/>
                  </a:lnTo>
                  <a:lnTo>
                    <a:pt x="1738" y="654"/>
                  </a:lnTo>
                  <a:lnTo>
                    <a:pt x="1724" y="653"/>
                  </a:lnTo>
                  <a:lnTo>
                    <a:pt x="1707" y="652"/>
                  </a:lnTo>
                  <a:lnTo>
                    <a:pt x="1692" y="651"/>
                  </a:lnTo>
                  <a:lnTo>
                    <a:pt x="1677" y="652"/>
                  </a:lnTo>
                  <a:lnTo>
                    <a:pt x="1644" y="653"/>
                  </a:lnTo>
                  <a:lnTo>
                    <a:pt x="1612" y="657"/>
                  </a:lnTo>
                  <a:lnTo>
                    <a:pt x="1580" y="660"/>
                  </a:lnTo>
                  <a:lnTo>
                    <a:pt x="1547" y="662"/>
                  </a:lnTo>
                  <a:lnTo>
                    <a:pt x="1516" y="665"/>
                  </a:lnTo>
                  <a:lnTo>
                    <a:pt x="1485" y="666"/>
                  </a:lnTo>
                  <a:lnTo>
                    <a:pt x="1470" y="665"/>
                  </a:lnTo>
                  <a:lnTo>
                    <a:pt x="1455" y="665"/>
                  </a:lnTo>
                  <a:lnTo>
                    <a:pt x="1440" y="662"/>
                  </a:lnTo>
                  <a:lnTo>
                    <a:pt x="1426" y="660"/>
                  </a:lnTo>
                  <a:lnTo>
                    <a:pt x="1413" y="657"/>
                  </a:lnTo>
                  <a:lnTo>
                    <a:pt x="1399" y="652"/>
                  </a:lnTo>
                  <a:lnTo>
                    <a:pt x="1386" y="646"/>
                  </a:lnTo>
                  <a:lnTo>
                    <a:pt x="1373" y="639"/>
                  </a:lnTo>
                  <a:lnTo>
                    <a:pt x="0" y="63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112"/>
            <p:cNvSpPr/>
            <p:nvPr/>
          </p:nvSpPr>
          <p:spPr>
            <a:xfrm>
              <a:off x="7188120" y="5375520"/>
              <a:ext cx="283680" cy="11412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886" h="703">
                  <a:moveTo>
                    <a:pt x="0" y="637"/>
                  </a:moveTo>
                  <a:lnTo>
                    <a:pt x="219" y="0"/>
                  </a:lnTo>
                  <a:lnTo>
                    <a:pt x="1886" y="6"/>
                  </a:lnTo>
                  <a:lnTo>
                    <a:pt x="1846" y="703"/>
                  </a:lnTo>
                  <a:lnTo>
                    <a:pt x="1835" y="693"/>
                  </a:lnTo>
                  <a:lnTo>
                    <a:pt x="1822" y="683"/>
                  </a:lnTo>
                  <a:lnTo>
                    <a:pt x="1809" y="676"/>
                  </a:lnTo>
                  <a:lnTo>
                    <a:pt x="1796" y="669"/>
                  </a:lnTo>
                  <a:lnTo>
                    <a:pt x="1782" y="665"/>
                  </a:lnTo>
                  <a:lnTo>
                    <a:pt x="1768" y="660"/>
                  </a:lnTo>
                  <a:lnTo>
                    <a:pt x="1753" y="657"/>
                  </a:lnTo>
                  <a:lnTo>
                    <a:pt x="1738" y="654"/>
                  </a:lnTo>
                  <a:lnTo>
                    <a:pt x="1724" y="653"/>
                  </a:lnTo>
                  <a:lnTo>
                    <a:pt x="1707" y="652"/>
                  </a:lnTo>
                  <a:lnTo>
                    <a:pt x="1692" y="651"/>
                  </a:lnTo>
                  <a:lnTo>
                    <a:pt x="1677" y="652"/>
                  </a:lnTo>
                  <a:lnTo>
                    <a:pt x="1644" y="653"/>
                  </a:lnTo>
                  <a:lnTo>
                    <a:pt x="1612" y="657"/>
                  </a:lnTo>
                  <a:lnTo>
                    <a:pt x="1580" y="660"/>
                  </a:lnTo>
                  <a:lnTo>
                    <a:pt x="1547" y="662"/>
                  </a:lnTo>
                  <a:lnTo>
                    <a:pt x="1516" y="665"/>
                  </a:lnTo>
                  <a:lnTo>
                    <a:pt x="1485" y="666"/>
                  </a:lnTo>
                  <a:lnTo>
                    <a:pt x="1470" y="665"/>
                  </a:lnTo>
                  <a:lnTo>
                    <a:pt x="1455" y="665"/>
                  </a:lnTo>
                  <a:lnTo>
                    <a:pt x="1440" y="662"/>
                  </a:lnTo>
                  <a:lnTo>
                    <a:pt x="1426" y="660"/>
                  </a:lnTo>
                  <a:lnTo>
                    <a:pt x="1413" y="657"/>
                  </a:lnTo>
                  <a:lnTo>
                    <a:pt x="1399" y="652"/>
                  </a:lnTo>
                  <a:lnTo>
                    <a:pt x="1386" y="646"/>
                  </a:lnTo>
                  <a:lnTo>
                    <a:pt x="1373" y="639"/>
                  </a:lnTo>
                  <a:lnTo>
                    <a:pt x="0" y="637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Freeform 113"/>
            <p:cNvSpPr/>
            <p:nvPr/>
          </p:nvSpPr>
          <p:spPr>
            <a:xfrm>
              <a:off x="7221240" y="5281560"/>
              <a:ext cx="250200" cy="9360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67" h="576">
                  <a:moveTo>
                    <a:pt x="1667" y="576"/>
                  </a:moveTo>
                  <a:lnTo>
                    <a:pt x="0" y="570"/>
                  </a:lnTo>
                  <a:lnTo>
                    <a:pt x="189" y="6"/>
                  </a:lnTo>
                  <a:lnTo>
                    <a:pt x="292" y="6"/>
                  </a:lnTo>
                  <a:lnTo>
                    <a:pt x="392" y="7"/>
                  </a:lnTo>
                  <a:lnTo>
                    <a:pt x="490" y="7"/>
                  </a:lnTo>
                  <a:lnTo>
                    <a:pt x="585" y="7"/>
                  </a:lnTo>
                  <a:lnTo>
                    <a:pt x="679" y="7"/>
                  </a:lnTo>
                  <a:lnTo>
                    <a:pt x="770" y="7"/>
                  </a:lnTo>
                  <a:lnTo>
                    <a:pt x="859" y="6"/>
                  </a:lnTo>
                  <a:lnTo>
                    <a:pt x="944" y="6"/>
                  </a:lnTo>
                  <a:lnTo>
                    <a:pt x="1028" y="6"/>
                  </a:lnTo>
                  <a:lnTo>
                    <a:pt x="1108" y="5"/>
                  </a:lnTo>
                  <a:lnTo>
                    <a:pt x="1185" y="5"/>
                  </a:lnTo>
                  <a:lnTo>
                    <a:pt x="1258" y="4"/>
                  </a:lnTo>
                  <a:lnTo>
                    <a:pt x="1328" y="2"/>
                  </a:lnTo>
                  <a:lnTo>
                    <a:pt x="1395" y="2"/>
                  </a:lnTo>
                  <a:lnTo>
                    <a:pt x="1458" y="1"/>
                  </a:lnTo>
                  <a:lnTo>
                    <a:pt x="1518" y="0"/>
                  </a:lnTo>
                  <a:lnTo>
                    <a:pt x="1521" y="20"/>
                  </a:lnTo>
                  <a:lnTo>
                    <a:pt x="1522" y="37"/>
                  </a:lnTo>
                  <a:lnTo>
                    <a:pt x="1521" y="53"/>
                  </a:lnTo>
                  <a:lnTo>
                    <a:pt x="1519" y="68"/>
                  </a:lnTo>
                  <a:lnTo>
                    <a:pt x="1515" y="81"/>
                  </a:lnTo>
                  <a:lnTo>
                    <a:pt x="1511" y="94"/>
                  </a:lnTo>
                  <a:lnTo>
                    <a:pt x="1506" y="104"/>
                  </a:lnTo>
                  <a:lnTo>
                    <a:pt x="1501" y="116"/>
                  </a:lnTo>
                  <a:lnTo>
                    <a:pt x="1498" y="125"/>
                  </a:lnTo>
                  <a:lnTo>
                    <a:pt x="1494" y="136"/>
                  </a:lnTo>
                  <a:lnTo>
                    <a:pt x="1492" y="146"/>
                  </a:lnTo>
                  <a:lnTo>
                    <a:pt x="1491" y="157"/>
                  </a:lnTo>
                  <a:lnTo>
                    <a:pt x="1492" y="167"/>
                  </a:lnTo>
                  <a:lnTo>
                    <a:pt x="1494" y="179"/>
                  </a:lnTo>
                  <a:lnTo>
                    <a:pt x="1500" y="190"/>
                  </a:lnTo>
                  <a:lnTo>
                    <a:pt x="1509" y="204"/>
                  </a:lnTo>
                  <a:lnTo>
                    <a:pt x="1530" y="234"/>
                  </a:lnTo>
                  <a:lnTo>
                    <a:pt x="1552" y="261"/>
                  </a:lnTo>
                  <a:lnTo>
                    <a:pt x="1573" y="287"/>
                  </a:lnTo>
                  <a:lnTo>
                    <a:pt x="1592" y="313"/>
                  </a:lnTo>
                  <a:lnTo>
                    <a:pt x="1610" y="338"/>
                  </a:lnTo>
                  <a:lnTo>
                    <a:pt x="1625" y="360"/>
                  </a:lnTo>
                  <a:lnTo>
                    <a:pt x="1631" y="370"/>
                  </a:lnTo>
                  <a:lnTo>
                    <a:pt x="1636" y="381"/>
                  </a:lnTo>
                  <a:lnTo>
                    <a:pt x="1639" y="391"/>
                  </a:lnTo>
                  <a:lnTo>
                    <a:pt x="1641" y="401"/>
                  </a:lnTo>
                  <a:lnTo>
                    <a:pt x="1645" y="421"/>
                  </a:lnTo>
                  <a:lnTo>
                    <a:pt x="1650" y="447"/>
                  </a:lnTo>
                  <a:lnTo>
                    <a:pt x="1653" y="477"/>
                  </a:lnTo>
                  <a:lnTo>
                    <a:pt x="1658" y="506"/>
                  </a:lnTo>
                  <a:lnTo>
                    <a:pt x="1661" y="533"/>
                  </a:lnTo>
                  <a:lnTo>
                    <a:pt x="1665" y="555"/>
                  </a:lnTo>
                  <a:lnTo>
                    <a:pt x="1667" y="570"/>
                  </a:lnTo>
                  <a:lnTo>
                    <a:pt x="1667" y="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114"/>
            <p:cNvSpPr/>
            <p:nvPr/>
          </p:nvSpPr>
          <p:spPr>
            <a:xfrm>
              <a:off x="7221240" y="5281560"/>
              <a:ext cx="250200" cy="9360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67" h="576">
                  <a:moveTo>
                    <a:pt x="1667" y="576"/>
                  </a:moveTo>
                  <a:lnTo>
                    <a:pt x="0" y="570"/>
                  </a:lnTo>
                  <a:lnTo>
                    <a:pt x="189" y="6"/>
                  </a:lnTo>
                  <a:lnTo>
                    <a:pt x="292" y="6"/>
                  </a:lnTo>
                  <a:lnTo>
                    <a:pt x="392" y="7"/>
                  </a:lnTo>
                  <a:lnTo>
                    <a:pt x="490" y="7"/>
                  </a:lnTo>
                  <a:lnTo>
                    <a:pt x="585" y="7"/>
                  </a:lnTo>
                  <a:lnTo>
                    <a:pt x="679" y="7"/>
                  </a:lnTo>
                  <a:lnTo>
                    <a:pt x="770" y="7"/>
                  </a:lnTo>
                  <a:lnTo>
                    <a:pt x="859" y="6"/>
                  </a:lnTo>
                  <a:lnTo>
                    <a:pt x="944" y="6"/>
                  </a:lnTo>
                  <a:lnTo>
                    <a:pt x="1028" y="6"/>
                  </a:lnTo>
                  <a:lnTo>
                    <a:pt x="1108" y="5"/>
                  </a:lnTo>
                  <a:lnTo>
                    <a:pt x="1185" y="5"/>
                  </a:lnTo>
                  <a:lnTo>
                    <a:pt x="1258" y="4"/>
                  </a:lnTo>
                  <a:lnTo>
                    <a:pt x="1328" y="2"/>
                  </a:lnTo>
                  <a:lnTo>
                    <a:pt x="1395" y="2"/>
                  </a:lnTo>
                  <a:lnTo>
                    <a:pt x="1458" y="1"/>
                  </a:lnTo>
                  <a:lnTo>
                    <a:pt x="1518" y="0"/>
                  </a:lnTo>
                  <a:lnTo>
                    <a:pt x="1521" y="20"/>
                  </a:lnTo>
                  <a:lnTo>
                    <a:pt x="1522" y="37"/>
                  </a:lnTo>
                  <a:lnTo>
                    <a:pt x="1521" y="53"/>
                  </a:lnTo>
                  <a:lnTo>
                    <a:pt x="1519" y="68"/>
                  </a:lnTo>
                  <a:lnTo>
                    <a:pt x="1515" y="81"/>
                  </a:lnTo>
                  <a:lnTo>
                    <a:pt x="1511" y="94"/>
                  </a:lnTo>
                  <a:lnTo>
                    <a:pt x="1506" y="104"/>
                  </a:lnTo>
                  <a:lnTo>
                    <a:pt x="1501" y="116"/>
                  </a:lnTo>
                  <a:lnTo>
                    <a:pt x="1498" y="125"/>
                  </a:lnTo>
                  <a:lnTo>
                    <a:pt x="1494" y="136"/>
                  </a:lnTo>
                  <a:lnTo>
                    <a:pt x="1492" y="146"/>
                  </a:lnTo>
                  <a:lnTo>
                    <a:pt x="1491" y="157"/>
                  </a:lnTo>
                  <a:lnTo>
                    <a:pt x="1492" y="167"/>
                  </a:lnTo>
                  <a:lnTo>
                    <a:pt x="1494" y="179"/>
                  </a:lnTo>
                  <a:lnTo>
                    <a:pt x="1500" y="190"/>
                  </a:lnTo>
                  <a:lnTo>
                    <a:pt x="1509" y="204"/>
                  </a:lnTo>
                  <a:lnTo>
                    <a:pt x="1530" y="234"/>
                  </a:lnTo>
                  <a:lnTo>
                    <a:pt x="1552" y="261"/>
                  </a:lnTo>
                  <a:lnTo>
                    <a:pt x="1573" y="287"/>
                  </a:lnTo>
                  <a:lnTo>
                    <a:pt x="1592" y="313"/>
                  </a:lnTo>
                  <a:lnTo>
                    <a:pt x="1610" y="338"/>
                  </a:lnTo>
                  <a:lnTo>
                    <a:pt x="1625" y="360"/>
                  </a:lnTo>
                  <a:lnTo>
                    <a:pt x="1631" y="370"/>
                  </a:lnTo>
                  <a:lnTo>
                    <a:pt x="1636" y="381"/>
                  </a:lnTo>
                  <a:lnTo>
                    <a:pt x="1639" y="391"/>
                  </a:lnTo>
                  <a:lnTo>
                    <a:pt x="1641" y="401"/>
                  </a:lnTo>
                  <a:lnTo>
                    <a:pt x="1645" y="421"/>
                  </a:lnTo>
                  <a:lnTo>
                    <a:pt x="1650" y="447"/>
                  </a:lnTo>
                  <a:lnTo>
                    <a:pt x="1653" y="477"/>
                  </a:lnTo>
                  <a:lnTo>
                    <a:pt x="1658" y="506"/>
                  </a:lnTo>
                  <a:lnTo>
                    <a:pt x="1661" y="533"/>
                  </a:lnTo>
                  <a:lnTo>
                    <a:pt x="1665" y="555"/>
                  </a:lnTo>
                  <a:lnTo>
                    <a:pt x="1667" y="570"/>
                  </a:lnTo>
                  <a:lnTo>
                    <a:pt x="1667" y="57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115"/>
            <p:cNvSpPr/>
            <p:nvPr/>
          </p:nvSpPr>
          <p:spPr>
            <a:xfrm>
              <a:off x="7446960" y="5264280"/>
              <a:ext cx="269280" cy="18180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792" h="1120">
                  <a:moveTo>
                    <a:pt x="1038" y="688"/>
                  </a:moveTo>
                  <a:lnTo>
                    <a:pt x="1052" y="695"/>
                  </a:lnTo>
                  <a:lnTo>
                    <a:pt x="1065" y="701"/>
                  </a:lnTo>
                  <a:lnTo>
                    <a:pt x="1076" y="708"/>
                  </a:lnTo>
                  <a:lnTo>
                    <a:pt x="1084" y="715"/>
                  </a:lnTo>
                  <a:lnTo>
                    <a:pt x="1091" y="722"/>
                  </a:lnTo>
                  <a:lnTo>
                    <a:pt x="1095" y="729"/>
                  </a:lnTo>
                  <a:lnTo>
                    <a:pt x="1099" y="737"/>
                  </a:lnTo>
                  <a:lnTo>
                    <a:pt x="1101" y="745"/>
                  </a:lnTo>
                  <a:lnTo>
                    <a:pt x="1106" y="778"/>
                  </a:lnTo>
                  <a:lnTo>
                    <a:pt x="1109" y="812"/>
                  </a:lnTo>
                  <a:lnTo>
                    <a:pt x="1112" y="820"/>
                  </a:lnTo>
                  <a:lnTo>
                    <a:pt x="1114" y="827"/>
                  </a:lnTo>
                  <a:lnTo>
                    <a:pt x="1116" y="833"/>
                  </a:lnTo>
                  <a:lnTo>
                    <a:pt x="1120" y="840"/>
                  </a:lnTo>
                  <a:lnTo>
                    <a:pt x="1129" y="852"/>
                  </a:lnTo>
                  <a:lnTo>
                    <a:pt x="1140" y="863"/>
                  </a:lnTo>
                  <a:lnTo>
                    <a:pt x="1154" y="875"/>
                  </a:lnTo>
                  <a:lnTo>
                    <a:pt x="1169" y="884"/>
                  </a:lnTo>
                  <a:lnTo>
                    <a:pt x="1185" y="894"/>
                  </a:lnTo>
                  <a:lnTo>
                    <a:pt x="1204" y="903"/>
                  </a:lnTo>
                  <a:lnTo>
                    <a:pt x="1223" y="911"/>
                  </a:lnTo>
                  <a:lnTo>
                    <a:pt x="1244" y="919"/>
                  </a:lnTo>
                  <a:lnTo>
                    <a:pt x="1266" y="926"/>
                  </a:lnTo>
                  <a:lnTo>
                    <a:pt x="1289" y="933"/>
                  </a:lnTo>
                  <a:lnTo>
                    <a:pt x="1337" y="947"/>
                  </a:lnTo>
                  <a:lnTo>
                    <a:pt x="1386" y="959"/>
                  </a:lnTo>
                  <a:lnTo>
                    <a:pt x="1398" y="963"/>
                  </a:lnTo>
                  <a:lnTo>
                    <a:pt x="1410" y="966"/>
                  </a:lnTo>
                  <a:lnTo>
                    <a:pt x="1420" y="971"/>
                  </a:lnTo>
                  <a:lnTo>
                    <a:pt x="1431" y="974"/>
                  </a:lnTo>
                  <a:lnTo>
                    <a:pt x="1448" y="985"/>
                  </a:lnTo>
                  <a:lnTo>
                    <a:pt x="1463" y="995"/>
                  </a:lnTo>
                  <a:lnTo>
                    <a:pt x="1477" y="1007"/>
                  </a:lnTo>
                  <a:lnTo>
                    <a:pt x="1488" y="1020"/>
                  </a:lnTo>
                  <a:lnTo>
                    <a:pt x="1497" y="1033"/>
                  </a:lnTo>
                  <a:lnTo>
                    <a:pt x="1505" y="1044"/>
                  </a:lnTo>
                  <a:lnTo>
                    <a:pt x="1511" y="1057"/>
                  </a:lnTo>
                  <a:lnTo>
                    <a:pt x="1516" y="1068"/>
                  </a:lnTo>
                  <a:lnTo>
                    <a:pt x="1519" y="1078"/>
                  </a:lnTo>
                  <a:lnTo>
                    <a:pt x="1522" y="1088"/>
                  </a:lnTo>
                  <a:lnTo>
                    <a:pt x="1524" y="1102"/>
                  </a:lnTo>
                  <a:lnTo>
                    <a:pt x="1524" y="1106"/>
                  </a:lnTo>
                  <a:lnTo>
                    <a:pt x="150" y="1120"/>
                  </a:lnTo>
                  <a:lnTo>
                    <a:pt x="176" y="680"/>
                  </a:lnTo>
                  <a:lnTo>
                    <a:pt x="176" y="674"/>
                  </a:lnTo>
                  <a:lnTo>
                    <a:pt x="174" y="659"/>
                  </a:lnTo>
                  <a:lnTo>
                    <a:pt x="170" y="637"/>
                  </a:lnTo>
                  <a:lnTo>
                    <a:pt x="167" y="610"/>
                  </a:lnTo>
                  <a:lnTo>
                    <a:pt x="162" y="581"/>
                  </a:lnTo>
                  <a:lnTo>
                    <a:pt x="159" y="551"/>
                  </a:lnTo>
                  <a:lnTo>
                    <a:pt x="154" y="525"/>
                  </a:lnTo>
                  <a:lnTo>
                    <a:pt x="150" y="505"/>
                  </a:lnTo>
                  <a:lnTo>
                    <a:pt x="148" y="495"/>
                  </a:lnTo>
                  <a:lnTo>
                    <a:pt x="145" y="485"/>
                  </a:lnTo>
                  <a:lnTo>
                    <a:pt x="140" y="474"/>
                  </a:lnTo>
                  <a:lnTo>
                    <a:pt x="134" y="464"/>
                  </a:lnTo>
                  <a:lnTo>
                    <a:pt x="119" y="442"/>
                  </a:lnTo>
                  <a:lnTo>
                    <a:pt x="101" y="417"/>
                  </a:lnTo>
                  <a:lnTo>
                    <a:pt x="82" y="391"/>
                  </a:lnTo>
                  <a:lnTo>
                    <a:pt x="61" y="365"/>
                  </a:lnTo>
                  <a:lnTo>
                    <a:pt x="39" y="338"/>
                  </a:lnTo>
                  <a:lnTo>
                    <a:pt x="18" y="308"/>
                  </a:lnTo>
                  <a:lnTo>
                    <a:pt x="9" y="294"/>
                  </a:lnTo>
                  <a:lnTo>
                    <a:pt x="3" y="283"/>
                  </a:lnTo>
                  <a:lnTo>
                    <a:pt x="1" y="271"/>
                  </a:lnTo>
                  <a:lnTo>
                    <a:pt x="0" y="261"/>
                  </a:lnTo>
                  <a:lnTo>
                    <a:pt x="1" y="250"/>
                  </a:lnTo>
                  <a:lnTo>
                    <a:pt x="3" y="240"/>
                  </a:lnTo>
                  <a:lnTo>
                    <a:pt x="7" y="229"/>
                  </a:lnTo>
                  <a:lnTo>
                    <a:pt x="10" y="220"/>
                  </a:lnTo>
                  <a:lnTo>
                    <a:pt x="15" y="208"/>
                  </a:lnTo>
                  <a:lnTo>
                    <a:pt x="20" y="198"/>
                  </a:lnTo>
                  <a:lnTo>
                    <a:pt x="24" y="185"/>
                  </a:lnTo>
                  <a:lnTo>
                    <a:pt x="28" y="172"/>
                  </a:lnTo>
                  <a:lnTo>
                    <a:pt x="30" y="157"/>
                  </a:lnTo>
                  <a:lnTo>
                    <a:pt x="31" y="141"/>
                  </a:lnTo>
                  <a:lnTo>
                    <a:pt x="30" y="124"/>
                  </a:lnTo>
                  <a:lnTo>
                    <a:pt x="27" y="104"/>
                  </a:lnTo>
                  <a:lnTo>
                    <a:pt x="90" y="103"/>
                  </a:lnTo>
                  <a:lnTo>
                    <a:pt x="147" y="102"/>
                  </a:lnTo>
                  <a:lnTo>
                    <a:pt x="200" y="101"/>
                  </a:lnTo>
                  <a:lnTo>
                    <a:pt x="245" y="99"/>
                  </a:lnTo>
                  <a:lnTo>
                    <a:pt x="285" y="98"/>
                  </a:lnTo>
                  <a:lnTo>
                    <a:pt x="319" y="96"/>
                  </a:lnTo>
                  <a:lnTo>
                    <a:pt x="346" y="95"/>
                  </a:lnTo>
                  <a:lnTo>
                    <a:pt x="367" y="92"/>
                  </a:lnTo>
                  <a:lnTo>
                    <a:pt x="375" y="80"/>
                  </a:lnTo>
                  <a:lnTo>
                    <a:pt x="384" y="68"/>
                  </a:lnTo>
                  <a:lnTo>
                    <a:pt x="392" y="57"/>
                  </a:lnTo>
                  <a:lnTo>
                    <a:pt x="400" y="49"/>
                  </a:lnTo>
                  <a:lnTo>
                    <a:pt x="409" y="42"/>
                  </a:lnTo>
                  <a:lnTo>
                    <a:pt x="416" y="36"/>
                  </a:lnTo>
                  <a:lnTo>
                    <a:pt x="424" y="30"/>
                  </a:lnTo>
                  <a:lnTo>
                    <a:pt x="430" y="27"/>
                  </a:lnTo>
                  <a:lnTo>
                    <a:pt x="441" y="21"/>
                  </a:lnTo>
                  <a:lnTo>
                    <a:pt x="451" y="19"/>
                  </a:lnTo>
                  <a:lnTo>
                    <a:pt x="456" y="18"/>
                  </a:lnTo>
                  <a:lnTo>
                    <a:pt x="459" y="18"/>
                  </a:lnTo>
                  <a:lnTo>
                    <a:pt x="583" y="0"/>
                  </a:lnTo>
                  <a:lnTo>
                    <a:pt x="706" y="124"/>
                  </a:lnTo>
                  <a:lnTo>
                    <a:pt x="757" y="120"/>
                  </a:lnTo>
                  <a:lnTo>
                    <a:pt x="803" y="118"/>
                  </a:lnTo>
                  <a:lnTo>
                    <a:pt x="845" y="118"/>
                  </a:lnTo>
                  <a:lnTo>
                    <a:pt x="882" y="119"/>
                  </a:lnTo>
                  <a:lnTo>
                    <a:pt x="912" y="120"/>
                  </a:lnTo>
                  <a:lnTo>
                    <a:pt x="935" y="122"/>
                  </a:lnTo>
                  <a:lnTo>
                    <a:pt x="949" y="124"/>
                  </a:lnTo>
                  <a:lnTo>
                    <a:pt x="954" y="124"/>
                  </a:lnTo>
                  <a:lnTo>
                    <a:pt x="1046" y="124"/>
                  </a:lnTo>
                  <a:lnTo>
                    <a:pt x="1109" y="187"/>
                  </a:lnTo>
                  <a:lnTo>
                    <a:pt x="1134" y="179"/>
                  </a:lnTo>
                  <a:lnTo>
                    <a:pt x="1157" y="173"/>
                  </a:lnTo>
                  <a:lnTo>
                    <a:pt x="1178" y="167"/>
                  </a:lnTo>
                  <a:lnTo>
                    <a:pt x="1197" y="164"/>
                  </a:lnTo>
                  <a:lnTo>
                    <a:pt x="1213" y="161"/>
                  </a:lnTo>
                  <a:lnTo>
                    <a:pt x="1229" y="160"/>
                  </a:lnTo>
                  <a:lnTo>
                    <a:pt x="1243" y="160"/>
                  </a:lnTo>
                  <a:lnTo>
                    <a:pt x="1253" y="160"/>
                  </a:lnTo>
                  <a:lnTo>
                    <a:pt x="1272" y="162"/>
                  </a:lnTo>
                  <a:lnTo>
                    <a:pt x="1285" y="166"/>
                  </a:lnTo>
                  <a:lnTo>
                    <a:pt x="1292" y="169"/>
                  </a:lnTo>
                  <a:lnTo>
                    <a:pt x="1294" y="171"/>
                  </a:lnTo>
                  <a:lnTo>
                    <a:pt x="1296" y="167"/>
                  </a:lnTo>
                  <a:lnTo>
                    <a:pt x="1302" y="159"/>
                  </a:lnTo>
                  <a:lnTo>
                    <a:pt x="1312" y="148"/>
                  </a:lnTo>
                  <a:lnTo>
                    <a:pt x="1323" y="139"/>
                  </a:lnTo>
                  <a:lnTo>
                    <a:pt x="1329" y="136"/>
                  </a:lnTo>
                  <a:lnTo>
                    <a:pt x="1337" y="132"/>
                  </a:lnTo>
                  <a:lnTo>
                    <a:pt x="1344" y="131"/>
                  </a:lnTo>
                  <a:lnTo>
                    <a:pt x="1352" y="131"/>
                  </a:lnTo>
                  <a:lnTo>
                    <a:pt x="1361" y="133"/>
                  </a:lnTo>
                  <a:lnTo>
                    <a:pt x="1369" y="138"/>
                  </a:lnTo>
                  <a:lnTo>
                    <a:pt x="1378" y="145"/>
                  </a:lnTo>
                  <a:lnTo>
                    <a:pt x="1386" y="155"/>
                  </a:lnTo>
                  <a:lnTo>
                    <a:pt x="1391" y="161"/>
                  </a:lnTo>
                  <a:lnTo>
                    <a:pt x="1397" y="166"/>
                  </a:lnTo>
                  <a:lnTo>
                    <a:pt x="1403" y="169"/>
                  </a:lnTo>
                  <a:lnTo>
                    <a:pt x="1410" y="173"/>
                  </a:lnTo>
                  <a:lnTo>
                    <a:pt x="1418" y="175"/>
                  </a:lnTo>
                  <a:lnTo>
                    <a:pt x="1426" y="176"/>
                  </a:lnTo>
                  <a:lnTo>
                    <a:pt x="1434" y="178"/>
                  </a:lnTo>
                  <a:lnTo>
                    <a:pt x="1445" y="179"/>
                  </a:lnTo>
                  <a:lnTo>
                    <a:pt x="1465" y="179"/>
                  </a:lnTo>
                  <a:lnTo>
                    <a:pt x="1488" y="178"/>
                  </a:lnTo>
                  <a:lnTo>
                    <a:pt x="1511" y="175"/>
                  </a:lnTo>
                  <a:lnTo>
                    <a:pt x="1537" y="172"/>
                  </a:lnTo>
                  <a:lnTo>
                    <a:pt x="1592" y="164"/>
                  </a:lnTo>
                  <a:lnTo>
                    <a:pt x="1648" y="157"/>
                  </a:lnTo>
                  <a:lnTo>
                    <a:pt x="1676" y="154"/>
                  </a:lnTo>
                  <a:lnTo>
                    <a:pt x="1704" y="153"/>
                  </a:lnTo>
                  <a:lnTo>
                    <a:pt x="1731" y="153"/>
                  </a:lnTo>
                  <a:lnTo>
                    <a:pt x="1758" y="155"/>
                  </a:lnTo>
                  <a:lnTo>
                    <a:pt x="1769" y="158"/>
                  </a:lnTo>
                  <a:lnTo>
                    <a:pt x="1779" y="159"/>
                  </a:lnTo>
                  <a:lnTo>
                    <a:pt x="1785" y="161"/>
                  </a:lnTo>
                  <a:lnTo>
                    <a:pt x="1789" y="164"/>
                  </a:lnTo>
                  <a:lnTo>
                    <a:pt x="1792" y="167"/>
                  </a:lnTo>
                  <a:lnTo>
                    <a:pt x="1792" y="169"/>
                  </a:lnTo>
                  <a:lnTo>
                    <a:pt x="1789" y="173"/>
                  </a:lnTo>
                  <a:lnTo>
                    <a:pt x="1785" y="176"/>
                  </a:lnTo>
                  <a:lnTo>
                    <a:pt x="1772" y="185"/>
                  </a:lnTo>
                  <a:lnTo>
                    <a:pt x="1753" y="193"/>
                  </a:lnTo>
                  <a:lnTo>
                    <a:pt x="1730" y="202"/>
                  </a:lnTo>
                  <a:lnTo>
                    <a:pt x="1703" y="212"/>
                  </a:lnTo>
                  <a:lnTo>
                    <a:pt x="1640" y="230"/>
                  </a:lnTo>
                  <a:lnTo>
                    <a:pt x="1574" y="249"/>
                  </a:lnTo>
                  <a:lnTo>
                    <a:pt x="1512" y="265"/>
                  </a:lnTo>
                  <a:lnTo>
                    <a:pt x="1463" y="279"/>
                  </a:lnTo>
                  <a:lnTo>
                    <a:pt x="1445" y="285"/>
                  </a:lnTo>
                  <a:lnTo>
                    <a:pt x="1426" y="292"/>
                  </a:lnTo>
                  <a:lnTo>
                    <a:pt x="1409" y="299"/>
                  </a:lnTo>
                  <a:lnTo>
                    <a:pt x="1393" y="307"/>
                  </a:lnTo>
                  <a:lnTo>
                    <a:pt x="1378" y="315"/>
                  </a:lnTo>
                  <a:lnTo>
                    <a:pt x="1365" y="325"/>
                  </a:lnTo>
                  <a:lnTo>
                    <a:pt x="1352" y="334"/>
                  </a:lnTo>
                  <a:lnTo>
                    <a:pt x="1342" y="344"/>
                  </a:lnTo>
                  <a:lnTo>
                    <a:pt x="1331" y="354"/>
                  </a:lnTo>
                  <a:lnTo>
                    <a:pt x="1322" y="365"/>
                  </a:lnTo>
                  <a:lnTo>
                    <a:pt x="1313" y="376"/>
                  </a:lnTo>
                  <a:lnTo>
                    <a:pt x="1306" y="387"/>
                  </a:lnTo>
                  <a:lnTo>
                    <a:pt x="1292" y="410"/>
                  </a:lnTo>
                  <a:lnTo>
                    <a:pt x="1280" y="432"/>
                  </a:lnTo>
                  <a:lnTo>
                    <a:pt x="1268" y="454"/>
                  </a:lnTo>
                  <a:lnTo>
                    <a:pt x="1255" y="478"/>
                  </a:lnTo>
                  <a:lnTo>
                    <a:pt x="1241" y="500"/>
                  </a:lnTo>
                  <a:lnTo>
                    <a:pt x="1226" y="521"/>
                  </a:lnTo>
                  <a:lnTo>
                    <a:pt x="1210" y="542"/>
                  </a:lnTo>
                  <a:lnTo>
                    <a:pt x="1194" y="563"/>
                  </a:lnTo>
                  <a:lnTo>
                    <a:pt x="1176" y="582"/>
                  </a:lnTo>
                  <a:lnTo>
                    <a:pt x="1159" y="600"/>
                  </a:lnTo>
                  <a:lnTo>
                    <a:pt x="1141" y="618"/>
                  </a:lnTo>
                  <a:lnTo>
                    <a:pt x="1123" y="633"/>
                  </a:lnTo>
                  <a:lnTo>
                    <a:pt x="1107" y="647"/>
                  </a:lnTo>
                  <a:lnTo>
                    <a:pt x="1091" y="659"/>
                  </a:lnTo>
                  <a:lnTo>
                    <a:pt x="1076" y="669"/>
                  </a:lnTo>
                  <a:lnTo>
                    <a:pt x="1062" y="679"/>
                  </a:lnTo>
                  <a:lnTo>
                    <a:pt x="1049" y="685"/>
                  </a:lnTo>
                  <a:lnTo>
                    <a:pt x="1038" y="6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116"/>
            <p:cNvSpPr/>
            <p:nvPr/>
          </p:nvSpPr>
          <p:spPr>
            <a:xfrm>
              <a:off x="7446960" y="5264280"/>
              <a:ext cx="269280" cy="18180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792" h="1120">
                  <a:moveTo>
                    <a:pt x="1038" y="688"/>
                  </a:moveTo>
                  <a:lnTo>
                    <a:pt x="1052" y="695"/>
                  </a:lnTo>
                  <a:lnTo>
                    <a:pt x="1065" y="701"/>
                  </a:lnTo>
                  <a:lnTo>
                    <a:pt x="1076" y="708"/>
                  </a:lnTo>
                  <a:lnTo>
                    <a:pt x="1084" y="715"/>
                  </a:lnTo>
                  <a:lnTo>
                    <a:pt x="1091" y="722"/>
                  </a:lnTo>
                  <a:lnTo>
                    <a:pt x="1095" y="729"/>
                  </a:lnTo>
                  <a:lnTo>
                    <a:pt x="1099" y="737"/>
                  </a:lnTo>
                  <a:lnTo>
                    <a:pt x="1101" y="745"/>
                  </a:lnTo>
                  <a:lnTo>
                    <a:pt x="1106" y="778"/>
                  </a:lnTo>
                  <a:lnTo>
                    <a:pt x="1109" y="812"/>
                  </a:lnTo>
                  <a:lnTo>
                    <a:pt x="1112" y="820"/>
                  </a:lnTo>
                  <a:lnTo>
                    <a:pt x="1114" y="827"/>
                  </a:lnTo>
                  <a:lnTo>
                    <a:pt x="1116" y="833"/>
                  </a:lnTo>
                  <a:lnTo>
                    <a:pt x="1120" y="840"/>
                  </a:lnTo>
                  <a:lnTo>
                    <a:pt x="1129" y="852"/>
                  </a:lnTo>
                  <a:lnTo>
                    <a:pt x="1140" y="863"/>
                  </a:lnTo>
                  <a:lnTo>
                    <a:pt x="1154" y="875"/>
                  </a:lnTo>
                  <a:lnTo>
                    <a:pt x="1169" y="884"/>
                  </a:lnTo>
                  <a:lnTo>
                    <a:pt x="1185" y="894"/>
                  </a:lnTo>
                  <a:lnTo>
                    <a:pt x="1204" y="903"/>
                  </a:lnTo>
                  <a:lnTo>
                    <a:pt x="1223" y="911"/>
                  </a:lnTo>
                  <a:lnTo>
                    <a:pt x="1244" y="919"/>
                  </a:lnTo>
                  <a:lnTo>
                    <a:pt x="1266" y="926"/>
                  </a:lnTo>
                  <a:lnTo>
                    <a:pt x="1289" y="933"/>
                  </a:lnTo>
                  <a:lnTo>
                    <a:pt x="1337" y="947"/>
                  </a:lnTo>
                  <a:lnTo>
                    <a:pt x="1386" y="959"/>
                  </a:lnTo>
                  <a:lnTo>
                    <a:pt x="1398" y="963"/>
                  </a:lnTo>
                  <a:lnTo>
                    <a:pt x="1410" y="966"/>
                  </a:lnTo>
                  <a:lnTo>
                    <a:pt x="1420" y="971"/>
                  </a:lnTo>
                  <a:lnTo>
                    <a:pt x="1431" y="974"/>
                  </a:lnTo>
                  <a:lnTo>
                    <a:pt x="1448" y="985"/>
                  </a:lnTo>
                  <a:lnTo>
                    <a:pt x="1463" y="995"/>
                  </a:lnTo>
                  <a:lnTo>
                    <a:pt x="1477" y="1007"/>
                  </a:lnTo>
                  <a:lnTo>
                    <a:pt x="1488" y="1020"/>
                  </a:lnTo>
                  <a:lnTo>
                    <a:pt x="1497" y="1033"/>
                  </a:lnTo>
                  <a:lnTo>
                    <a:pt x="1505" y="1044"/>
                  </a:lnTo>
                  <a:lnTo>
                    <a:pt x="1511" y="1057"/>
                  </a:lnTo>
                  <a:lnTo>
                    <a:pt x="1516" y="1068"/>
                  </a:lnTo>
                  <a:lnTo>
                    <a:pt x="1519" y="1078"/>
                  </a:lnTo>
                  <a:lnTo>
                    <a:pt x="1522" y="1088"/>
                  </a:lnTo>
                  <a:lnTo>
                    <a:pt x="1524" y="1102"/>
                  </a:lnTo>
                  <a:lnTo>
                    <a:pt x="1524" y="1106"/>
                  </a:lnTo>
                  <a:lnTo>
                    <a:pt x="150" y="1120"/>
                  </a:lnTo>
                  <a:lnTo>
                    <a:pt x="176" y="680"/>
                  </a:lnTo>
                  <a:lnTo>
                    <a:pt x="176" y="674"/>
                  </a:lnTo>
                  <a:lnTo>
                    <a:pt x="174" y="659"/>
                  </a:lnTo>
                  <a:lnTo>
                    <a:pt x="170" y="637"/>
                  </a:lnTo>
                  <a:lnTo>
                    <a:pt x="167" y="610"/>
                  </a:lnTo>
                  <a:lnTo>
                    <a:pt x="162" y="581"/>
                  </a:lnTo>
                  <a:lnTo>
                    <a:pt x="159" y="551"/>
                  </a:lnTo>
                  <a:lnTo>
                    <a:pt x="154" y="525"/>
                  </a:lnTo>
                  <a:lnTo>
                    <a:pt x="150" y="505"/>
                  </a:lnTo>
                  <a:lnTo>
                    <a:pt x="148" y="495"/>
                  </a:lnTo>
                  <a:lnTo>
                    <a:pt x="145" y="485"/>
                  </a:lnTo>
                  <a:lnTo>
                    <a:pt x="140" y="474"/>
                  </a:lnTo>
                  <a:lnTo>
                    <a:pt x="134" y="464"/>
                  </a:lnTo>
                  <a:lnTo>
                    <a:pt x="119" y="442"/>
                  </a:lnTo>
                  <a:lnTo>
                    <a:pt x="101" y="417"/>
                  </a:lnTo>
                  <a:lnTo>
                    <a:pt x="82" y="391"/>
                  </a:lnTo>
                  <a:lnTo>
                    <a:pt x="61" y="365"/>
                  </a:lnTo>
                  <a:lnTo>
                    <a:pt x="39" y="338"/>
                  </a:lnTo>
                  <a:lnTo>
                    <a:pt x="18" y="308"/>
                  </a:lnTo>
                  <a:lnTo>
                    <a:pt x="9" y="294"/>
                  </a:lnTo>
                  <a:lnTo>
                    <a:pt x="3" y="283"/>
                  </a:lnTo>
                  <a:lnTo>
                    <a:pt x="1" y="271"/>
                  </a:lnTo>
                  <a:lnTo>
                    <a:pt x="0" y="261"/>
                  </a:lnTo>
                  <a:lnTo>
                    <a:pt x="1" y="250"/>
                  </a:lnTo>
                  <a:lnTo>
                    <a:pt x="3" y="240"/>
                  </a:lnTo>
                  <a:lnTo>
                    <a:pt x="7" y="229"/>
                  </a:lnTo>
                  <a:lnTo>
                    <a:pt x="10" y="220"/>
                  </a:lnTo>
                  <a:lnTo>
                    <a:pt x="15" y="208"/>
                  </a:lnTo>
                  <a:lnTo>
                    <a:pt x="20" y="198"/>
                  </a:lnTo>
                  <a:lnTo>
                    <a:pt x="24" y="185"/>
                  </a:lnTo>
                  <a:lnTo>
                    <a:pt x="28" y="172"/>
                  </a:lnTo>
                  <a:lnTo>
                    <a:pt x="30" y="157"/>
                  </a:lnTo>
                  <a:lnTo>
                    <a:pt x="31" y="141"/>
                  </a:lnTo>
                  <a:lnTo>
                    <a:pt x="30" y="124"/>
                  </a:lnTo>
                  <a:lnTo>
                    <a:pt x="27" y="104"/>
                  </a:lnTo>
                  <a:lnTo>
                    <a:pt x="90" y="103"/>
                  </a:lnTo>
                  <a:lnTo>
                    <a:pt x="147" y="102"/>
                  </a:lnTo>
                  <a:lnTo>
                    <a:pt x="200" y="101"/>
                  </a:lnTo>
                  <a:lnTo>
                    <a:pt x="245" y="99"/>
                  </a:lnTo>
                  <a:lnTo>
                    <a:pt x="285" y="98"/>
                  </a:lnTo>
                  <a:lnTo>
                    <a:pt x="319" y="96"/>
                  </a:lnTo>
                  <a:lnTo>
                    <a:pt x="346" y="95"/>
                  </a:lnTo>
                  <a:lnTo>
                    <a:pt x="367" y="92"/>
                  </a:lnTo>
                  <a:lnTo>
                    <a:pt x="375" y="80"/>
                  </a:lnTo>
                  <a:lnTo>
                    <a:pt x="384" y="68"/>
                  </a:lnTo>
                  <a:lnTo>
                    <a:pt x="392" y="57"/>
                  </a:lnTo>
                  <a:lnTo>
                    <a:pt x="400" y="49"/>
                  </a:lnTo>
                  <a:lnTo>
                    <a:pt x="409" y="42"/>
                  </a:lnTo>
                  <a:lnTo>
                    <a:pt x="416" y="36"/>
                  </a:lnTo>
                  <a:lnTo>
                    <a:pt x="424" y="30"/>
                  </a:lnTo>
                  <a:lnTo>
                    <a:pt x="430" y="27"/>
                  </a:lnTo>
                  <a:lnTo>
                    <a:pt x="441" y="21"/>
                  </a:lnTo>
                  <a:lnTo>
                    <a:pt x="451" y="19"/>
                  </a:lnTo>
                  <a:lnTo>
                    <a:pt x="456" y="18"/>
                  </a:lnTo>
                  <a:lnTo>
                    <a:pt x="459" y="18"/>
                  </a:lnTo>
                  <a:lnTo>
                    <a:pt x="583" y="0"/>
                  </a:lnTo>
                  <a:lnTo>
                    <a:pt x="706" y="124"/>
                  </a:lnTo>
                  <a:lnTo>
                    <a:pt x="757" y="120"/>
                  </a:lnTo>
                  <a:lnTo>
                    <a:pt x="803" y="118"/>
                  </a:lnTo>
                  <a:lnTo>
                    <a:pt x="845" y="118"/>
                  </a:lnTo>
                  <a:lnTo>
                    <a:pt x="882" y="119"/>
                  </a:lnTo>
                  <a:lnTo>
                    <a:pt x="912" y="120"/>
                  </a:lnTo>
                  <a:lnTo>
                    <a:pt x="935" y="122"/>
                  </a:lnTo>
                  <a:lnTo>
                    <a:pt x="949" y="124"/>
                  </a:lnTo>
                  <a:lnTo>
                    <a:pt x="954" y="124"/>
                  </a:lnTo>
                  <a:lnTo>
                    <a:pt x="1046" y="124"/>
                  </a:lnTo>
                  <a:lnTo>
                    <a:pt x="1109" y="187"/>
                  </a:lnTo>
                  <a:lnTo>
                    <a:pt x="1134" y="179"/>
                  </a:lnTo>
                  <a:lnTo>
                    <a:pt x="1157" y="173"/>
                  </a:lnTo>
                  <a:lnTo>
                    <a:pt x="1178" y="167"/>
                  </a:lnTo>
                  <a:lnTo>
                    <a:pt x="1197" y="164"/>
                  </a:lnTo>
                  <a:lnTo>
                    <a:pt x="1213" y="161"/>
                  </a:lnTo>
                  <a:lnTo>
                    <a:pt x="1229" y="160"/>
                  </a:lnTo>
                  <a:lnTo>
                    <a:pt x="1243" y="160"/>
                  </a:lnTo>
                  <a:lnTo>
                    <a:pt x="1253" y="160"/>
                  </a:lnTo>
                  <a:lnTo>
                    <a:pt x="1272" y="162"/>
                  </a:lnTo>
                  <a:lnTo>
                    <a:pt x="1285" y="166"/>
                  </a:lnTo>
                  <a:lnTo>
                    <a:pt x="1292" y="169"/>
                  </a:lnTo>
                  <a:lnTo>
                    <a:pt x="1294" y="171"/>
                  </a:lnTo>
                  <a:lnTo>
                    <a:pt x="1296" y="167"/>
                  </a:lnTo>
                  <a:lnTo>
                    <a:pt x="1302" y="159"/>
                  </a:lnTo>
                  <a:lnTo>
                    <a:pt x="1312" y="148"/>
                  </a:lnTo>
                  <a:lnTo>
                    <a:pt x="1323" y="139"/>
                  </a:lnTo>
                  <a:lnTo>
                    <a:pt x="1329" y="136"/>
                  </a:lnTo>
                  <a:lnTo>
                    <a:pt x="1337" y="132"/>
                  </a:lnTo>
                  <a:lnTo>
                    <a:pt x="1344" y="131"/>
                  </a:lnTo>
                  <a:lnTo>
                    <a:pt x="1352" y="131"/>
                  </a:lnTo>
                  <a:lnTo>
                    <a:pt x="1361" y="133"/>
                  </a:lnTo>
                  <a:lnTo>
                    <a:pt x="1369" y="138"/>
                  </a:lnTo>
                  <a:lnTo>
                    <a:pt x="1378" y="145"/>
                  </a:lnTo>
                  <a:lnTo>
                    <a:pt x="1386" y="155"/>
                  </a:lnTo>
                  <a:lnTo>
                    <a:pt x="1391" y="161"/>
                  </a:lnTo>
                  <a:lnTo>
                    <a:pt x="1397" y="166"/>
                  </a:lnTo>
                  <a:lnTo>
                    <a:pt x="1403" y="169"/>
                  </a:lnTo>
                  <a:lnTo>
                    <a:pt x="1410" y="173"/>
                  </a:lnTo>
                  <a:lnTo>
                    <a:pt x="1418" y="175"/>
                  </a:lnTo>
                  <a:lnTo>
                    <a:pt x="1426" y="176"/>
                  </a:lnTo>
                  <a:lnTo>
                    <a:pt x="1434" y="178"/>
                  </a:lnTo>
                  <a:lnTo>
                    <a:pt x="1445" y="179"/>
                  </a:lnTo>
                  <a:lnTo>
                    <a:pt x="1465" y="179"/>
                  </a:lnTo>
                  <a:lnTo>
                    <a:pt x="1488" y="178"/>
                  </a:lnTo>
                  <a:lnTo>
                    <a:pt x="1511" y="175"/>
                  </a:lnTo>
                  <a:lnTo>
                    <a:pt x="1537" y="172"/>
                  </a:lnTo>
                  <a:lnTo>
                    <a:pt x="1592" y="164"/>
                  </a:lnTo>
                  <a:lnTo>
                    <a:pt x="1648" y="157"/>
                  </a:lnTo>
                  <a:lnTo>
                    <a:pt x="1676" y="154"/>
                  </a:lnTo>
                  <a:lnTo>
                    <a:pt x="1704" y="153"/>
                  </a:lnTo>
                  <a:lnTo>
                    <a:pt x="1731" y="153"/>
                  </a:lnTo>
                  <a:lnTo>
                    <a:pt x="1758" y="155"/>
                  </a:lnTo>
                  <a:lnTo>
                    <a:pt x="1769" y="158"/>
                  </a:lnTo>
                  <a:lnTo>
                    <a:pt x="1779" y="159"/>
                  </a:lnTo>
                  <a:lnTo>
                    <a:pt x="1785" y="161"/>
                  </a:lnTo>
                  <a:lnTo>
                    <a:pt x="1789" y="164"/>
                  </a:lnTo>
                  <a:lnTo>
                    <a:pt x="1792" y="167"/>
                  </a:lnTo>
                  <a:lnTo>
                    <a:pt x="1792" y="169"/>
                  </a:lnTo>
                  <a:lnTo>
                    <a:pt x="1789" y="173"/>
                  </a:lnTo>
                  <a:lnTo>
                    <a:pt x="1785" y="176"/>
                  </a:lnTo>
                  <a:lnTo>
                    <a:pt x="1772" y="185"/>
                  </a:lnTo>
                  <a:lnTo>
                    <a:pt x="1753" y="193"/>
                  </a:lnTo>
                  <a:lnTo>
                    <a:pt x="1730" y="202"/>
                  </a:lnTo>
                  <a:lnTo>
                    <a:pt x="1703" y="212"/>
                  </a:lnTo>
                  <a:lnTo>
                    <a:pt x="1640" y="230"/>
                  </a:lnTo>
                  <a:lnTo>
                    <a:pt x="1574" y="249"/>
                  </a:lnTo>
                  <a:lnTo>
                    <a:pt x="1512" y="265"/>
                  </a:lnTo>
                  <a:lnTo>
                    <a:pt x="1463" y="279"/>
                  </a:lnTo>
                  <a:lnTo>
                    <a:pt x="1445" y="285"/>
                  </a:lnTo>
                  <a:lnTo>
                    <a:pt x="1426" y="292"/>
                  </a:lnTo>
                  <a:lnTo>
                    <a:pt x="1409" y="299"/>
                  </a:lnTo>
                  <a:lnTo>
                    <a:pt x="1393" y="307"/>
                  </a:lnTo>
                  <a:lnTo>
                    <a:pt x="1378" y="315"/>
                  </a:lnTo>
                  <a:lnTo>
                    <a:pt x="1365" y="325"/>
                  </a:lnTo>
                  <a:lnTo>
                    <a:pt x="1352" y="334"/>
                  </a:lnTo>
                  <a:lnTo>
                    <a:pt x="1342" y="344"/>
                  </a:lnTo>
                  <a:lnTo>
                    <a:pt x="1331" y="354"/>
                  </a:lnTo>
                  <a:lnTo>
                    <a:pt x="1322" y="365"/>
                  </a:lnTo>
                  <a:lnTo>
                    <a:pt x="1313" y="376"/>
                  </a:lnTo>
                  <a:lnTo>
                    <a:pt x="1306" y="387"/>
                  </a:lnTo>
                  <a:lnTo>
                    <a:pt x="1292" y="410"/>
                  </a:lnTo>
                  <a:lnTo>
                    <a:pt x="1280" y="432"/>
                  </a:lnTo>
                  <a:lnTo>
                    <a:pt x="1268" y="454"/>
                  </a:lnTo>
                  <a:lnTo>
                    <a:pt x="1255" y="478"/>
                  </a:lnTo>
                  <a:lnTo>
                    <a:pt x="1241" y="500"/>
                  </a:lnTo>
                  <a:lnTo>
                    <a:pt x="1226" y="521"/>
                  </a:lnTo>
                  <a:lnTo>
                    <a:pt x="1210" y="542"/>
                  </a:lnTo>
                  <a:lnTo>
                    <a:pt x="1194" y="563"/>
                  </a:lnTo>
                  <a:lnTo>
                    <a:pt x="1176" y="582"/>
                  </a:lnTo>
                  <a:lnTo>
                    <a:pt x="1159" y="600"/>
                  </a:lnTo>
                  <a:lnTo>
                    <a:pt x="1141" y="618"/>
                  </a:lnTo>
                  <a:lnTo>
                    <a:pt x="1123" y="633"/>
                  </a:lnTo>
                  <a:lnTo>
                    <a:pt x="1107" y="647"/>
                  </a:lnTo>
                  <a:lnTo>
                    <a:pt x="1091" y="659"/>
                  </a:lnTo>
                  <a:lnTo>
                    <a:pt x="1076" y="669"/>
                  </a:lnTo>
                  <a:lnTo>
                    <a:pt x="1062" y="679"/>
                  </a:lnTo>
                  <a:lnTo>
                    <a:pt x="1049" y="685"/>
                  </a:lnTo>
                  <a:lnTo>
                    <a:pt x="1038" y="688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117"/>
            <p:cNvSpPr/>
            <p:nvPr/>
          </p:nvSpPr>
          <p:spPr>
            <a:xfrm>
              <a:off x="7638840" y="5934240"/>
              <a:ext cx="358200" cy="27252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2372" h="1671">
                  <a:moveTo>
                    <a:pt x="1952" y="1069"/>
                  </a:moveTo>
                  <a:lnTo>
                    <a:pt x="1939" y="1081"/>
                  </a:lnTo>
                  <a:lnTo>
                    <a:pt x="1929" y="1092"/>
                  </a:lnTo>
                  <a:lnTo>
                    <a:pt x="1920" y="1104"/>
                  </a:lnTo>
                  <a:lnTo>
                    <a:pt x="1915" y="1117"/>
                  </a:lnTo>
                  <a:lnTo>
                    <a:pt x="1910" y="1129"/>
                  </a:lnTo>
                  <a:lnTo>
                    <a:pt x="1906" y="1140"/>
                  </a:lnTo>
                  <a:lnTo>
                    <a:pt x="1905" y="1152"/>
                  </a:lnTo>
                  <a:lnTo>
                    <a:pt x="1904" y="1163"/>
                  </a:lnTo>
                  <a:lnTo>
                    <a:pt x="1905" y="1181"/>
                  </a:lnTo>
                  <a:lnTo>
                    <a:pt x="1908" y="1196"/>
                  </a:lnTo>
                  <a:lnTo>
                    <a:pt x="1911" y="1207"/>
                  </a:lnTo>
                  <a:lnTo>
                    <a:pt x="1912" y="1210"/>
                  </a:lnTo>
                  <a:lnTo>
                    <a:pt x="1915" y="1215"/>
                  </a:lnTo>
                  <a:lnTo>
                    <a:pt x="1924" y="1230"/>
                  </a:lnTo>
                  <a:lnTo>
                    <a:pt x="1940" y="1251"/>
                  </a:lnTo>
                  <a:lnTo>
                    <a:pt x="1964" y="1277"/>
                  </a:lnTo>
                  <a:lnTo>
                    <a:pt x="1978" y="1292"/>
                  </a:lnTo>
                  <a:lnTo>
                    <a:pt x="1993" y="1306"/>
                  </a:lnTo>
                  <a:lnTo>
                    <a:pt x="2012" y="1321"/>
                  </a:lnTo>
                  <a:lnTo>
                    <a:pt x="2031" y="1337"/>
                  </a:lnTo>
                  <a:lnTo>
                    <a:pt x="2054" y="1352"/>
                  </a:lnTo>
                  <a:lnTo>
                    <a:pt x="2077" y="1366"/>
                  </a:lnTo>
                  <a:lnTo>
                    <a:pt x="2103" y="1380"/>
                  </a:lnTo>
                  <a:lnTo>
                    <a:pt x="2131" y="1392"/>
                  </a:lnTo>
                  <a:lnTo>
                    <a:pt x="2193" y="1414"/>
                  </a:lnTo>
                  <a:lnTo>
                    <a:pt x="2255" y="1434"/>
                  </a:lnTo>
                  <a:lnTo>
                    <a:pt x="2284" y="1445"/>
                  </a:lnTo>
                  <a:lnTo>
                    <a:pt x="2311" y="1456"/>
                  </a:lnTo>
                  <a:lnTo>
                    <a:pt x="2322" y="1462"/>
                  </a:lnTo>
                  <a:lnTo>
                    <a:pt x="2334" y="1467"/>
                  </a:lnTo>
                  <a:lnTo>
                    <a:pt x="2343" y="1473"/>
                  </a:lnTo>
                  <a:lnTo>
                    <a:pt x="2351" y="1480"/>
                  </a:lnTo>
                  <a:lnTo>
                    <a:pt x="2360" y="1486"/>
                  </a:lnTo>
                  <a:lnTo>
                    <a:pt x="2365" y="1493"/>
                  </a:lnTo>
                  <a:lnTo>
                    <a:pt x="2369" y="1501"/>
                  </a:lnTo>
                  <a:lnTo>
                    <a:pt x="2371" y="1508"/>
                  </a:lnTo>
                  <a:lnTo>
                    <a:pt x="2372" y="1517"/>
                  </a:lnTo>
                  <a:lnTo>
                    <a:pt x="2371" y="1526"/>
                  </a:lnTo>
                  <a:lnTo>
                    <a:pt x="2368" y="1534"/>
                  </a:lnTo>
                  <a:lnTo>
                    <a:pt x="2362" y="1543"/>
                  </a:lnTo>
                  <a:lnTo>
                    <a:pt x="2354" y="1554"/>
                  </a:lnTo>
                  <a:lnTo>
                    <a:pt x="2343" y="1564"/>
                  </a:lnTo>
                  <a:lnTo>
                    <a:pt x="2330" y="1575"/>
                  </a:lnTo>
                  <a:lnTo>
                    <a:pt x="2315" y="1587"/>
                  </a:lnTo>
                  <a:lnTo>
                    <a:pt x="2297" y="1599"/>
                  </a:lnTo>
                  <a:lnTo>
                    <a:pt x="2276" y="1612"/>
                  </a:lnTo>
                  <a:lnTo>
                    <a:pt x="2251" y="1625"/>
                  </a:lnTo>
                  <a:lnTo>
                    <a:pt x="2223" y="1639"/>
                  </a:lnTo>
                  <a:lnTo>
                    <a:pt x="2197" y="1620"/>
                  </a:lnTo>
                  <a:lnTo>
                    <a:pt x="2172" y="1603"/>
                  </a:lnTo>
                  <a:lnTo>
                    <a:pt x="2147" y="1588"/>
                  </a:lnTo>
                  <a:lnTo>
                    <a:pt x="2123" y="1575"/>
                  </a:lnTo>
                  <a:lnTo>
                    <a:pt x="2098" y="1563"/>
                  </a:lnTo>
                  <a:lnTo>
                    <a:pt x="2073" y="1554"/>
                  </a:lnTo>
                  <a:lnTo>
                    <a:pt x="2050" y="1546"/>
                  </a:lnTo>
                  <a:lnTo>
                    <a:pt x="2027" y="1540"/>
                  </a:lnTo>
                  <a:lnTo>
                    <a:pt x="2005" y="1535"/>
                  </a:lnTo>
                  <a:lnTo>
                    <a:pt x="1982" y="1532"/>
                  </a:lnTo>
                  <a:lnTo>
                    <a:pt x="1960" y="1531"/>
                  </a:lnTo>
                  <a:lnTo>
                    <a:pt x="1938" y="1529"/>
                  </a:lnTo>
                  <a:lnTo>
                    <a:pt x="1917" y="1531"/>
                  </a:lnTo>
                  <a:lnTo>
                    <a:pt x="1897" y="1532"/>
                  </a:lnTo>
                  <a:lnTo>
                    <a:pt x="1876" y="1535"/>
                  </a:lnTo>
                  <a:lnTo>
                    <a:pt x="1856" y="1539"/>
                  </a:lnTo>
                  <a:lnTo>
                    <a:pt x="1837" y="1543"/>
                  </a:lnTo>
                  <a:lnTo>
                    <a:pt x="1819" y="1549"/>
                  </a:lnTo>
                  <a:lnTo>
                    <a:pt x="1800" y="1555"/>
                  </a:lnTo>
                  <a:lnTo>
                    <a:pt x="1783" y="1562"/>
                  </a:lnTo>
                  <a:lnTo>
                    <a:pt x="1765" y="1570"/>
                  </a:lnTo>
                  <a:lnTo>
                    <a:pt x="1748" y="1578"/>
                  </a:lnTo>
                  <a:lnTo>
                    <a:pt x="1731" y="1587"/>
                  </a:lnTo>
                  <a:lnTo>
                    <a:pt x="1715" y="1596"/>
                  </a:lnTo>
                  <a:lnTo>
                    <a:pt x="1684" y="1615"/>
                  </a:lnTo>
                  <a:lnTo>
                    <a:pt x="1656" y="1633"/>
                  </a:lnTo>
                  <a:lnTo>
                    <a:pt x="1631" y="1653"/>
                  </a:lnTo>
                  <a:lnTo>
                    <a:pt x="1607" y="1671"/>
                  </a:lnTo>
                  <a:lnTo>
                    <a:pt x="1585" y="1651"/>
                  </a:lnTo>
                  <a:lnTo>
                    <a:pt x="1559" y="1632"/>
                  </a:lnTo>
                  <a:lnTo>
                    <a:pt x="1533" y="1613"/>
                  </a:lnTo>
                  <a:lnTo>
                    <a:pt x="1502" y="1596"/>
                  </a:lnTo>
                  <a:lnTo>
                    <a:pt x="1471" y="1580"/>
                  </a:lnTo>
                  <a:lnTo>
                    <a:pt x="1436" y="1564"/>
                  </a:lnTo>
                  <a:lnTo>
                    <a:pt x="1399" y="1549"/>
                  </a:lnTo>
                  <a:lnTo>
                    <a:pt x="1362" y="1535"/>
                  </a:lnTo>
                  <a:lnTo>
                    <a:pt x="1324" y="1522"/>
                  </a:lnTo>
                  <a:lnTo>
                    <a:pt x="1283" y="1511"/>
                  </a:lnTo>
                  <a:lnTo>
                    <a:pt x="1241" y="1499"/>
                  </a:lnTo>
                  <a:lnTo>
                    <a:pt x="1199" y="1488"/>
                  </a:lnTo>
                  <a:lnTo>
                    <a:pt x="1156" y="1478"/>
                  </a:lnTo>
                  <a:lnTo>
                    <a:pt x="1113" y="1470"/>
                  </a:lnTo>
                  <a:lnTo>
                    <a:pt x="1069" y="1460"/>
                  </a:lnTo>
                  <a:lnTo>
                    <a:pt x="1026" y="1453"/>
                  </a:lnTo>
                  <a:lnTo>
                    <a:pt x="982" y="1446"/>
                  </a:lnTo>
                  <a:lnTo>
                    <a:pt x="939" y="1441"/>
                  </a:lnTo>
                  <a:lnTo>
                    <a:pt x="897" y="1435"/>
                  </a:lnTo>
                  <a:lnTo>
                    <a:pt x="855" y="1430"/>
                  </a:lnTo>
                  <a:lnTo>
                    <a:pt x="776" y="1423"/>
                  </a:lnTo>
                  <a:lnTo>
                    <a:pt x="701" y="1418"/>
                  </a:lnTo>
                  <a:lnTo>
                    <a:pt x="634" y="1416"/>
                  </a:lnTo>
                  <a:lnTo>
                    <a:pt x="576" y="1416"/>
                  </a:lnTo>
                  <a:lnTo>
                    <a:pt x="550" y="1417"/>
                  </a:lnTo>
                  <a:lnTo>
                    <a:pt x="528" y="1418"/>
                  </a:lnTo>
                  <a:lnTo>
                    <a:pt x="508" y="1421"/>
                  </a:lnTo>
                  <a:lnTo>
                    <a:pt x="492" y="1423"/>
                  </a:lnTo>
                  <a:lnTo>
                    <a:pt x="187" y="1452"/>
                  </a:lnTo>
                  <a:lnTo>
                    <a:pt x="167" y="758"/>
                  </a:lnTo>
                  <a:lnTo>
                    <a:pt x="147" y="736"/>
                  </a:lnTo>
                  <a:lnTo>
                    <a:pt x="129" y="713"/>
                  </a:lnTo>
                  <a:lnTo>
                    <a:pt x="119" y="701"/>
                  </a:lnTo>
                  <a:lnTo>
                    <a:pt x="111" y="688"/>
                  </a:lnTo>
                  <a:lnTo>
                    <a:pt x="103" y="674"/>
                  </a:lnTo>
                  <a:lnTo>
                    <a:pt x="95" y="660"/>
                  </a:lnTo>
                  <a:lnTo>
                    <a:pt x="86" y="645"/>
                  </a:lnTo>
                  <a:lnTo>
                    <a:pt x="79" y="629"/>
                  </a:lnTo>
                  <a:lnTo>
                    <a:pt x="72" y="612"/>
                  </a:lnTo>
                  <a:lnTo>
                    <a:pt x="65" y="595"/>
                  </a:lnTo>
                  <a:lnTo>
                    <a:pt x="54" y="559"/>
                  </a:lnTo>
                  <a:lnTo>
                    <a:pt x="42" y="518"/>
                  </a:lnTo>
                  <a:lnTo>
                    <a:pt x="33" y="473"/>
                  </a:lnTo>
                  <a:lnTo>
                    <a:pt x="23" y="426"/>
                  </a:lnTo>
                  <a:lnTo>
                    <a:pt x="16" y="372"/>
                  </a:lnTo>
                  <a:lnTo>
                    <a:pt x="11" y="315"/>
                  </a:lnTo>
                  <a:lnTo>
                    <a:pt x="6" y="253"/>
                  </a:lnTo>
                  <a:lnTo>
                    <a:pt x="2" y="186"/>
                  </a:lnTo>
                  <a:lnTo>
                    <a:pt x="0" y="114"/>
                  </a:lnTo>
                  <a:lnTo>
                    <a:pt x="0" y="35"/>
                  </a:lnTo>
                  <a:lnTo>
                    <a:pt x="1034" y="0"/>
                  </a:lnTo>
                  <a:lnTo>
                    <a:pt x="1126" y="234"/>
                  </a:lnTo>
                  <a:lnTo>
                    <a:pt x="1020" y="372"/>
                  </a:lnTo>
                  <a:lnTo>
                    <a:pt x="1034" y="698"/>
                  </a:lnTo>
                  <a:lnTo>
                    <a:pt x="1698" y="712"/>
                  </a:lnTo>
                  <a:lnTo>
                    <a:pt x="1952" y="10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118"/>
            <p:cNvSpPr/>
            <p:nvPr/>
          </p:nvSpPr>
          <p:spPr>
            <a:xfrm>
              <a:off x="7638840" y="5934240"/>
              <a:ext cx="358200" cy="27252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2372" h="1671">
                  <a:moveTo>
                    <a:pt x="1952" y="1069"/>
                  </a:moveTo>
                  <a:lnTo>
                    <a:pt x="1939" y="1081"/>
                  </a:lnTo>
                  <a:lnTo>
                    <a:pt x="1929" y="1092"/>
                  </a:lnTo>
                  <a:lnTo>
                    <a:pt x="1920" y="1104"/>
                  </a:lnTo>
                  <a:lnTo>
                    <a:pt x="1915" y="1117"/>
                  </a:lnTo>
                  <a:lnTo>
                    <a:pt x="1910" y="1129"/>
                  </a:lnTo>
                  <a:lnTo>
                    <a:pt x="1906" y="1140"/>
                  </a:lnTo>
                  <a:lnTo>
                    <a:pt x="1905" y="1152"/>
                  </a:lnTo>
                  <a:lnTo>
                    <a:pt x="1904" y="1163"/>
                  </a:lnTo>
                  <a:lnTo>
                    <a:pt x="1905" y="1181"/>
                  </a:lnTo>
                  <a:lnTo>
                    <a:pt x="1908" y="1196"/>
                  </a:lnTo>
                  <a:lnTo>
                    <a:pt x="1911" y="1207"/>
                  </a:lnTo>
                  <a:lnTo>
                    <a:pt x="1912" y="1210"/>
                  </a:lnTo>
                  <a:lnTo>
                    <a:pt x="1915" y="1215"/>
                  </a:lnTo>
                  <a:lnTo>
                    <a:pt x="1924" y="1230"/>
                  </a:lnTo>
                  <a:lnTo>
                    <a:pt x="1940" y="1251"/>
                  </a:lnTo>
                  <a:lnTo>
                    <a:pt x="1964" y="1277"/>
                  </a:lnTo>
                  <a:lnTo>
                    <a:pt x="1978" y="1292"/>
                  </a:lnTo>
                  <a:lnTo>
                    <a:pt x="1993" y="1306"/>
                  </a:lnTo>
                  <a:lnTo>
                    <a:pt x="2012" y="1321"/>
                  </a:lnTo>
                  <a:lnTo>
                    <a:pt x="2031" y="1337"/>
                  </a:lnTo>
                  <a:lnTo>
                    <a:pt x="2054" y="1352"/>
                  </a:lnTo>
                  <a:lnTo>
                    <a:pt x="2077" y="1366"/>
                  </a:lnTo>
                  <a:lnTo>
                    <a:pt x="2103" y="1380"/>
                  </a:lnTo>
                  <a:lnTo>
                    <a:pt x="2131" y="1392"/>
                  </a:lnTo>
                  <a:lnTo>
                    <a:pt x="2193" y="1414"/>
                  </a:lnTo>
                  <a:lnTo>
                    <a:pt x="2255" y="1434"/>
                  </a:lnTo>
                  <a:lnTo>
                    <a:pt x="2284" y="1445"/>
                  </a:lnTo>
                  <a:lnTo>
                    <a:pt x="2311" y="1456"/>
                  </a:lnTo>
                  <a:lnTo>
                    <a:pt x="2322" y="1462"/>
                  </a:lnTo>
                  <a:lnTo>
                    <a:pt x="2334" y="1467"/>
                  </a:lnTo>
                  <a:lnTo>
                    <a:pt x="2343" y="1473"/>
                  </a:lnTo>
                  <a:lnTo>
                    <a:pt x="2351" y="1480"/>
                  </a:lnTo>
                  <a:lnTo>
                    <a:pt x="2360" y="1486"/>
                  </a:lnTo>
                  <a:lnTo>
                    <a:pt x="2365" y="1493"/>
                  </a:lnTo>
                  <a:lnTo>
                    <a:pt x="2369" y="1501"/>
                  </a:lnTo>
                  <a:lnTo>
                    <a:pt x="2371" y="1508"/>
                  </a:lnTo>
                  <a:lnTo>
                    <a:pt x="2372" y="1517"/>
                  </a:lnTo>
                  <a:lnTo>
                    <a:pt x="2371" y="1526"/>
                  </a:lnTo>
                  <a:lnTo>
                    <a:pt x="2368" y="1534"/>
                  </a:lnTo>
                  <a:lnTo>
                    <a:pt x="2362" y="1543"/>
                  </a:lnTo>
                  <a:lnTo>
                    <a:pt x="2354" y="1554"/>
                  </a:lnTo>
                  <a:lnTo>
                    <a:pt x="2343" y="1564"/>
                  </a:lnTo>
                  <a:lnTo>
                    <a:pt x="2330" y="1575"/>
                  </a:lnTo>
                  <a:lnTo>
                    <a:pt x="2315" y="1587"/>
                  </a:lnTo>
                  <a:lnTo>
                    <a:pt x="2297" y="1599"/>
                  </a:lnTo>
                  <a:lnTo>
                    <a:pt x="2276" y="1612"/>
                  </a:lnTo>
                  <a:lnTo>
                    <a:pt x="2251" y="1625"/>
                  </a:lnTo>
                  <a:lnTo>
                    <a:pt x="2223" y="1639"/>
                  </a:lnTo>
                  <a:lnTo>
                    <a:pt x="2197" y="1620"/>
                  </a:lnTo>
                  <a:lnTo>
                    <a:pt x="2172" y="1603"/>
                  </a:lnTo>
                  <a:lnTo>
                    <a:pt x="2147" y="1588"/>
                  </a:lnTo>
                  <a:lnTo>
                    <a:pt x="2123" y="1575"/>
                  </a:lnTo>
                  <a:lnTo>
                    <a:pt x="2098" y="1563"/>
                  </a:lnTo>
                  <a:lnTo>
                    <a:pt x="2073" y="1554"/>
                  </a:lnTo>
                  <a:lnTo>
                    <a:pt x="2050" y="1546"/>
                  </a:lnTo>
                  <a:lnTo>
                    <a:pt x="2027" y="1540"/>
                  </a:lnTo>
                  <a:lnTo>
                    <a:pt x="2005" y="1535"/>
                  </a:lnTo>
                  <a:lnTo>
                    <a:pt x="1982" y="1532"/>
                  </a:lnTo>
                  <a:lnTo>
                    <a:pt x="1960" y="1531"/>
                  </a:lnTo>
                  <a:lnTo>
                    <a:pt x="1938" y="1529"/>
                  </a:lnTo>
                  <a:lnTo>
                    <a:pt x="1917" y="1531"/>
                  </a:lnTo>
                  <a:lnTo>
                    <a:pt x="1897" y="1532"/>
                  </a:lnTo>
                  <a:lnTo>
                    <a:pt x="1876" y="1535"/>
                  </a:lnTo>
                  <a:lnTo>
                    <a:pt x="1856" y="1539"/>
                  </a:lnTo>
                  <a:lnTo>
                    <a:pt x="1837" y="1543"/>
                  </a:lnTo>
                  <a:lnTo>
                    <a:pt x="1819" y="1549"/>
                  </a:lnTo>
                  <a:lnTo>
                    <a:pt x="1800" y="1555"/>
                  </a:lnTo>
                  <a:lnTo>
                    <a:pt x="1783" y="1562"/>
                  </a:lnTo>
                  <a:lnTo>
                    <a:pt x="1765" y="1570"/>
                  </a:lnTo>
                  <a:lnTo>
                    <a:pt x="1748" y="1578"/>
                  </a:lnTo>
                  <a:lnTo>
                    <a:pt x="1731" y="1587"/>
                  </a:lnTo>
                  <a:lnTo>
                    <a:pt x="1715" y="1596"/>
                  </a:lnTo>
                  <a:lnTo>
                    <a:pt x="1684" y="1615"/>
                  </a:lnTo>
                  <a:lnTo>
                    <a:pt x="1656" y="1633"/>
                  </a:lnTo>
                  <a:lnTo>
                    <a:pt x="1631" y="1653"/>
                  </a:lnTo>
                  <a:lnTo>
                    <a:pt x="1607" y="1671"/>
                  </a:lnTo>
                  <a:lnTo>
                    <a:pt x="1585" y="1651"/>
                  </a:lnTo>
                  <a:lnTo>
                    <a:pt x="1559" y="1632"/>
                  </a:lnTo>
                  <a:lnTo>
                    <a:pt x="1533" y="1613"/>
                  </a:lnTo>
                  <a:lnTo>
                    <a:pt x="1502" y="1596"/>
                  </a:lnTo>
                  <a:lnTo>
                    <a:pt x="1471" y="1580"/>
                  </a:lnTo>
                  <a:lnTo>
                    <a:pt x="1436" y="1564"/>
                  </a:lnTo>
                  <a:lnTo>
                    <a:pt x="1399" y="1549"/>
                  </a:lnTo>
                  <a:lnTo>
                    <a:pt x="1362" y="1535"/>
                  </a:lnTo>
                  <a:lnTo>
                    <a:pt x="1324" y="1522"/>
                  </a:lnTo>
                  <a:lnTo>
                    <a:pt x="1283" y="1511"/>
                  </a:lnTo>
                  <a:lnTo>
                    <a:pt x="1241" y="1499"/>
                  </a:lnTo>
                  <a:lnTo>
                    <a:pt x="1199" y="1488"/>
                  </a:lnTo>
                  <a:lnTo>
                    <a:pt x="1156" y="1478"/>
                  </a:lnTo>
                  <a:lnTo>
                    <a:pt x="1113" y="1470"/>
                  </a:lnTo>
                  <a:lnTo>
                    <a:pt x="1069" y="1460"/>
                  </a:lnTo>
                  <a:lnTo>
                    <a:pt x="1026" y="1453"/>
                  </a:lnTo>
                  <a:lnTo>
                    <a:pt x="982" y="1446"/>
                  </a:lnTo>
                  <a:lnTo>
                    <a:pt x="939" y="1441"/>
                  </a:lnTo>
                  <a:lnTo>
                    <a:pt x="897" y="1435"/>
                  </a:lnTo>
                  <a:lnTo>
                    <a:pt x="855" y="1430"/>
                  </a:lnTo>
                  <a:lnTo>
                    <a:pt x="776" y="1423"/>
                  </a:lnTo>
                  <a:lnTo>
                    <a:pt x="701" y="1418"/>
                  </a:lnTo>
                  <a:lnTo>
                    <a:pt x="634" y="1416"/>
                  </a:lnTo>
                  <a:lnTo>
                    <a:pt x="576" y="1416"/>
                  </a:lnTo>
                  <a:lnTo>
                    <a:pt x="550" y="1417"/>
                  </a:lnTo>
                  <a:lnTo>
                    <a:pt x="528" y="1418"/>
                  </a:lnTo>
                  <a:lnTo>
                    <a:pt x="508" y="1421"/>
                  </a:lnTo>
                  <a:lnTo>
                    <a:pt x="492" y="1423"/>
                  </a:lnTo>
                  <a:lnTo>
                    <a:pt x="187" y="1452"/>
                  </a:lnTo>
                  <a:lnTo>
                    <a:pt x="167" y="758"/>
                  </a:lnTo>
                  <a:lnTo>
                    <a:pt x="147" y="736"/>
                  </a:lnTo>
                  <a:lnTo>
                    <a:pt x="129" y="713"/>
                  </a:lnTo>
                  <a:lnTo>
                    <a:pt x="119" y="701"/>
                  </a:lnTo>
                  <a:lnTo>
                    <a:pt x="111" y="688"/>
                  </a:lnTo>
                  <a:lnTo>
                    <a:pt x="103" y="674"/>
                  </a:lnTo>
                  <a:lnTo>
                    <a:pt x="95" y="660"/>
                  </a:lnTo>
                  <a:lnTo>
                    <a:pt x="86" y="645"/>
                  </a:lnTo>
                  <a:lnTo>
                    <a:pt x="79" y="629"/>
                  </a:lnTo>
                  <a:lnTo>
                    <a:pt x="72" y="612"/>
                  </a:lnTo>
                  <a:lnTo>
                    <a:pt x="65" y="595"/>
                  </a:lnTo>
                  <a:lnTo>
                    <a:pt x="54" y="559"/>
                  </a:lnTo>
                  <a:lnTo>
                    <a:pt x="42" y="518"/>
                  </a:lnTo>
                  <a:lnTo>
                    <a:pt x="33" y="473"/>
                  </a:lnTo>
                  <a:lnTo>
                    <a:pt x="23" y="426"/>
                  </a:lnTo>
                  <a:lnTo>
                    <a:pt x="16" y="372"/>
                  </a:lnTo>
                  <a:lnTo>
                    <a:pt x="11" y="315"/>
                  </a:lnTo>
                  <a:lnTo>
                    <a:pt x="6" y="253"/>
                  </a:lnTo>
                  <a:lnTo>
                    <a:pt x="2" y="186"/>
                  </a:lnTo>
                  <a:lnTo>
                    <a:pt x="0" y="114"/>
                  </a:lnTo>
                  <a:lnTo>
                    <a:pt x="0" y="35"/>
                  </a:lnTo>
                  <a:lnTo>
                    <a:pt x="1034" y="0"/>
                  </a:lnTo>
                  <a:lnTo>
                    <a:pt x="1126" y="234"/>
                  </a:lnTo>
                  <a:lnTo>
                    <a:pt x="1020" y="372"/>
                  </a:lnTo>
                  <a:lnTo>
                    <a:pt x="1034" y="698"/>
                  </a:lnTo>
                  <a:lnTo>
                    <a:pt x="1698" y="712"/>
                  </a:lnTo>
                  <a:lnTo>
                    <a:pt x="1952" y="106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119"/>
            <p:cNvSpPr/>
            <p:nvPr/>
          </p:nvSpPr>
          <p:spPr>
            <a:xfrm>
              <a:off x="7788240" y="5786280"/>
              <a:ext cx="215640" cy="3214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21480"/>
                <a:gd name="textAreaBottom" fmla="*/ 321840 h 321480"/>
              </a:gdLst>
              <a:ahLst/>
              <a:rect l="textAreaLeft" t="textAreaTop" r="textAreaRight" b="textAreaBottom"/>
              <a:pathLst>
                <a:path w="1430" h="1967">
                  <a:moveTo>
                    <a:pt x="974" y="1967"/>
                  </a:moveTo>
                  <a:lnTo>
                    <a:pt x="720" y="1610"/>
                  </a:lnTo>
                  <a:lnTo>
                    <a:pt x="56" y="1596"/>
                  </a:lnTo>
                  <a:lnTo>
                    <a:pt x="42" y="1270"/>
                  </a:lnTo>
                  <a:lnTo>
                    <a:pt x="148" y="1132"/>
                  </a:lnTo>
                  <a:lnTo>
                    <a:pt x="56" y="898"/>
                  </a:lnTo>
                  <a:lnTo>
                    <a:pt x="46" y="874"/>
                  </a:lnTo>
                  <a:lnTo>
                    <a:pt x="37" y="849"/>
                  </a:lnTo>
                  <a:lnTo>
                    <a:pt x="30" y="825"/>
                  </a:lnTo>
                  <a:lnTo>
                    <a:pt x="23" y="800"/>
                  </a:lnTo>
                  <a:lnTo>
                    <a:pt x="17" y="776"/>
                  </a:lnTo>
                  <a:lnTo>
                    <a:pt x="13" y="751"/>
                  </a:lnTo>
                  <a:lnTo>
                    <a:pt x="8" y="727"/>
                  </a:lnTo>
                  <a:lnTo>
                    <a:pt x="6" y="702"/>
                  </a:lnTo>
                  <a:lnTo>
                    <a:pt x="3" y="679"/>
                  </a:lnTo>
                  <a:lnTo>
                    <a:pt x="1" y="654"/>
                  </a:lnTo>
                  <a:lnTo>
                    <a:pt x="0" y="631"/>
                  </a:lnTo>
                  <a:lnTo>
                    <a:pt x="0" y="609"/>
                  </a:lnTo>
                  <a:lnTo>
                    <a:pt x="1" y="563"/>
                  </a:lnTo>
                  <a:lnTo>
                    <a:pt x="4" y="520"/>
                  </a:lnTo>
                  <a:lnTo>
                    <a:pt x="9" y="479"/>
                  </a:lnTo>
                  <a:lnTo>
                    <a:pt x="16" y="440"/>
                  </a:lnTo>
                  <a:lnTo>
                    <a:pt x="24" y="404"/>
                  </a:lnTo>
                  <a:lnTo>
                    <a:pt x="32" y="373"/>
                  </a:lnTo>
                  <a:lnTo>
                    <a:pt x="42" y="344"/>
                  </a:lnTo>
                  <a:lnTo>
                    <a:pt x="51" y="318"/>
                  </a:lnTo>
                  <a:lnTo>
                    <a:pt x="60" y="297"/>
                  </a:lnTo>
                  <a:lnTo>
                    <a:pt x="70" y="279"/>
                  </a:lnTo>
                  <a:lnTo>
                    <a:pt x="79" y="264"/>
                  </a:lnTo>
                  <a:lnTo>
                    <a:pt x="90" y="244"/>
                  </a:lnTo>
                  <a:lnTo>
                    <a:pt x="101" y="222"/>
                  </a:lnTo>
                  <a:lnTo>
                    <a:pt x="114" y="196"/>
                  </a:lnTo>
                  <a:lnTo>
                    <a:pt x="126" y="169"/>
                  </a:lnTo>
                  <a:lnTo>
                    <a:pt x="139" y="139"/>
                  </a:lnTo>
                  <a:lnTo>
                    <a:pt x="150" y="108"/>
                  </a:lnTo>
                  <a:lnTo>
                    <a:pt x="162" y="75"/>
                  </a:lnTo>
                  <a:lnTo>
                    <a:pt x="871" y="0"/>
                  </a:lnTo>
                  <a:lnTo>
                    <a:pt x="872" y="11"/>
                  </a:lnTo>
                  <a:lnTo>
                    <a:pt x="877" y="42"/>
                  </a:lnTo>
                  <a:lnTo>
                    <a:pt x="885" y="91"/>
                  </a:lnTo>
                  <a:lnTo>
                    <a:pt x="896" y="155"/>
                  </a:lnTo>
                  <a:lnTo>
                    <a:pt x="907" y="233"/>
                  </a:lnTo>
                  <a:lnTo>
                    <a:pt x="923" y="319"/>
                  </a:lnTo>
                  <a:lnTo>
                    <a:pt x="940" y="412"/>
                  </a:lnTo>
                  <a:lnTo>
                    <a:pt x="959" y="512"/>
                  </a:lnTo>
                  <a:lnTo>
                    <a:pt x="979" y="612"/>
                  </a:lnTo>
                  <a:lnTo>
                    <a:pt x="1000" y="713"/>
                  </a:lnTo>
                  <a:lnTo>
                    <a:pt x="1022" y="810"/>
                  </a:lnTo>
                  <a:lnTo>
                    <a:pt x="1044" y="902"/>
                  </a:lnTo>
                  <a:lnTo>
                    <a:pt x="1056" y="945"/>
                  </a:lnTo>
                  <a:lnTo>
                    <a:pt x="1067" y="985"/>
                  </a:lnTo>
                  <a:lnTo>
                    <a:pt x="1079" y="1023"/>
                  </a:lnTo>
                  <a:lnTo>
                    <a:pt x="1092" y="1058"/>
                  </a:lnTo>
                  <a:lnTo>
                    <a:pt x="1104" y="1090"/>
                  </a:lnTo>
                  <a:lnTo>
                    <a:pt x="1115" y="1118"/>
                  </a:lnTo>
                  <a:lnTo>
                    <a:pt x="1127" y="1141"/>
                  </a:lnTo>
                  <a:lnTo>
                    <a:pt x="1139" y="1161"/>
                  </a:lnTo>
                  <a:lnTo>
                    <a:pt x="1430" y="1855"/>
                  </a:lnTo>
                  <a:lnTo>
                    <a:pt x="1354" y="1867"/>
                  </a:lnTo>
                  <a:lnTo>
                    <a:pt x="1284" y="1878"/>
                  </a:lnTo>
                  <a:lnTo>
                    <a:pt x="1218" y="1890"/>
                  </a:lnTo>
                  <a:lnTo>
                    <a:pt x="1161" y="1902"/>
                  </a:lnTo>
                  <a:lnTo>
                    <a:pt x="1111" y="1912"/>
                  </a:lnTo>
                  <a:lnTo>
                    <a:pt x="1069" y="1923"/>
                  </a:lnTo>
                  <a:lnTo>
                    <a:pt x="1051" y="1927"/>
                  </a:lnTo>
                  <a:lnTo>
                    <a:pt x="1036" y="1932"/>
                  </a:lnTo>
                  <a:lnTo>
                    <a:pt x="1024" y="1937"/>
                  </a:lnTo>
                  <a:lnTo>
                    <a:pt x="1015" y="1941"/>
                  </a:lnTo>
                  <a:lnTo>
                    <a:pt x="1003" y="1947"/>
                  </a:lnTo>
                  <a:lnTo>
                    <a:pt x="993" y="1954"/>
                  </a:lnTo>
                  <a:lnTo>
                    <a:pt x="983" y="1961"/>
                  </a:lnTo>
                  <a:lnTo>
                    <a:pt x="974" y="19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120"/>
            <p:cNvSpPr/>
            <p:nvPr/>
          </p:nvSpPr>
          <p:spPr>
            <a:xfrm>
              <a:off x="7788240" y="5786280"/>
              <a:ext cx="215640" cy="3214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21480"/>
                <a:gd name="textAreaBottom" fmla="*/ 321840 h 321480"/>
              </a:gdLst>
              <a:ahLst/>
              <a:rect l="textAreaLeft" t="textAreaTop" r="textAreaRight" b="textAreaBottom"/>
              <a:pathLst>
                <a:path w="1430" h="1967">
                  <a:moveTo>
                    <a:pt x="974" y="1967"/>
                  </a:moveTo>
                  <a:lnTo>
                    <a:pt x="720" y="1610"/>
                  </a:lnTo>
                  <a:lnTo>
                    <a:pt x="56" y="1596"/>
                  </a:lnTo>
                  <a:lnTo>
                    <a:pt x="42" y="1270"/>
                  </a:lnTo>
                  <a:lnTo>
                    <a:pt x="148" y="1132"/>
                  </a:lnTo>
                  <a:lnTo>
                    <a:pt x="56" y="898"/>
                  </a:lnTo>
                  <a:lnTo>
                    <a:pt x="46" y="874"/>
                  </a:lnTo>
                  <a:lnTo>
                    <a:pt x="37" y="849"/>
                  </a:lnTo>
                  <a:lnTo>
                    <a:pt x="30" y="825"/>
                  </a:lnTo>
                  <a:lnTo>
                    <a:pt x="23" y="800"/>
                  </a:lnTo>
                  <a:lnTo>
                    <a:pt x="17" y="776"/>
                  </a:lnTo>
                  <a:lnTo>
                    <a:pt x="13" y="751"/>
                  </a:lnTo>
                  <a:lnTo>
                    <a:pt x="8" y="727"/>
                  </a:lnTo>
                  <a:lnTo>
                    <a:pt x="6" y="702"/>
                  </a:lnTo>
                  <a:lnTo>
                    <a:pt x="3" y="679"/>
                  </a:lnTo>
                  <a:lnTo>
                    <a:pt x="1" y="654"/>
                  </a:lnTo>
                  <a:lnTo>
                    <a:pt x="0" y="631"/>
                  </a:lnTo>
                  <a:lnTo>
                    <a:pt x="0" y="609"/>
                  </a:lnTo>
                  <a:lnTo>
                    <a:pt x="1" y="563"/>
                  </a:lnTo>
                  <a:lnTo>
                    <a:pt x="4" y="520"/>
                  </a:lnTo>
                  <a:lnTo>
                    <a:pt x="9" y="479"/>
                  </a:lnTo>
                  <a:lnTo>
                    <a:pt x="16" y="440"/>
                  </a:lnTo>
                  <a:lnTo>
                    <a:pt x="24" y="404"/>
                  </a:lnTo>
                  <a:lnTo>
                    <a:pt x="32" y="373"/>
                  </a:lnTo>
                  <a:lnTo>
                    <a:pt x="42" y="344"/>
                  </a:lnTo>
                  <a:lnTo>
                    <a:pt x="51" y="318"/>
                  </a:lnTo>
                  <a:lnTo>
                    <a:pt x="60" y="297"/>
                  </a:lnTo>
                  <a:lnTo>
                    <a:pt x="70" y="279"/>
                  </a:lnTo>
                  <a:lnTo>
                    <a:pt x="79" y="264"/>
                  </a:lnTo>
                  <a:lnTo>
                    <a:pt x="90" y="244"/>
                  </a:lnTo>
                  <a:lnTo>
                    <a:pt x="101" y="222"/>
                  </a:lnTo>
                  <a:lnTo>
                    <a:pt x="114" y="196"/>
                  </a:lnTo>
                  <a:lnTo>
                    <a:pt x="126" y="169"/>
                  </a:lnTo>
                  <a:lnTo>
                    <a:pt x="139" y="139"/>
                  </a:lnTo>
                  <a:lnTo>
                    <a:pt x="150" y="108"/>
                  </a:lnTo>
                  <a:lnTo>
                    <a:pt x="162" y="75"/>
                  </a:lnTo>
                  <a:lnTo>
                    <a:pt x="871" y="0"/>
                  </a:lnTo>
                  <a:lnTo>
                    <a:pt x="872" y="11"/>
                  </a:lnTo>
                  <a:lnTo>
                    <a:pt x="877" y="42"/>
                  </a:lnTo>
                  <a:lnTo>
                    <a:pt x="885" y="91"/>
                  </a:lnTo>
                  <a:lnTo>
                    <a:pt x="896" y="155"/>
                  </a:lnTo>
                  <a:lnTo>
                    <a:pt x="907" y="233"/>
                  </a:lnTo>
                  <a:lnTo>
                    <a:pt x="923" y="319"/>
                  </a:lnTo>
                  <a:lnTo>
                    <a:pt x="940" y="412"/>
                  </a:lnTo>
                  <a:lnTo>
                    <a:pt x="959" y="512"/>
                  </a:lnTo>
                  <a:lnTo>
                    <a:pt x="979" y="612"/>
                  </a:lnTo>
                  <a:lnTo>
                    <a:pt x="1000" y="713"/>
                  </a:lnTo>
                  <a:lnTo>
                    <a:pt x="1022" y="810"/>
                  </a:lnTo>
                  <a:lnTo>
                    <a:pt x="1044" y="902"/>
                  </a:lnTo>
                  <a:lnTo>
                    <a:pt x="1056" y="945"/>
                  </a:lnTo>
                  <a:lnTo>
                    <a:pt x="1067" y="985"/>
                  </a:lnTo>
                  <a:lnTo>
                    <a:pt x="1079" y="1023"/>
                  </a:lnTo>
                  <a:lnTo>
                    <a:pt x="1092" y="1058"/>
                  </a:lnTo>
                  <a:lnTo>
                    <a:pt x="1104" y="1090"/>
                  </a:lnTo>
                  <a:lnTo>
                    <a:pt x="1115" y="1118"/>
                  </a:lnTo>
                  <a:lnTo>
                    <a:pt x="1127" y="1141"/>
                  </a:lnTo>
                  <a:lnTo>
                    <a:pt x="1139" y="1161"/>
                  </a:lnTo>
                  <a:lnTo>
                    <a:pt x="1430" y="1855"/>
                  </a:lnTo>
                  <a:lnTo>
                    <a:pt x="1354" y="1867"/>
                  </a:lnTo>
                  <a:lnTo>
                    <a:pt x="1284" y="1878"/>
                  </a:lnTo>
                  <a:lnTo>
                    <a:pt x="1218" y="1890"/>
                  </a:lnTo>
                  <a:lnTo>
                    <a:pt x="1161" y="1902"/>
                  </a:lnTo>
                  <a:lnTo>
                    <a:pt x="1111" y="1912"/>
                  </a:lnTo>
                  <a:lnTo>
                    <a:pt x="1069" y="1923"/>
                  </a:lnTo>
                  <a:lnTo>
                    <a:pt x="1051" y="1927"/>
                  </a:lnTo>
                  <a:lnTo>
                    <a:pt x="1036" y="1932"/>
                  </a:lnTo>
                  <a:lnTo>
                    <a:pt x="1024" y="1937"/>
                  </a:lnTo>
                  <a:lnTo>
                    <a:pt x="1015" y="1941"/>
                  </a:lnTo>
                  <a:lnTo>
                    <a:pt x="1003" y="1947"/>
                  </a:lnTo>
                  <a:lnTo>
                    <a:pt x="993" y="1954"/>
                  </a:lnTo>
                  <a:lnTo>
                    <a:pt x="983" y="1961"/>
                  </a:lnTo>
                  <a:lnTo>
                    <a:pt x="974" y="196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121"/>
            <p:cNvSpPr/>
            <p:nvPr/>
          </p:nvSpPr>
          <p:spPr>
            <a:xfrm>
              <a:off x="7918200" y="5774040"/>
              <a:ext cx="252000" cy="3157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670" h="1941">
                  <a:moveTo>
                    <a:pt x="0" y="86"/>
                  </a:moveTo>
                  <a:lnTo>
                    <a:pt x="1" y="97"/>
                  </a:lnTo>
                  <a:lnTo>
                    <a:pt x="5" y="128"/>
                  </a:lnTo>
                  <a:lnTo>
                    <a:pt x="14" y="177"/>
                  </a:lnTo>
                  <a:lnTo>
                    <a:pt x="24" y="241"/>
                  </a:lnTo>
                  <a:lnTo>
                    <a:pt x="36" y="319"/>
                  </a:lnTo>
                  <a:lnTo>
                    <a:pt x="51" y="405"/>
                  </a:lnTo>
                  <a:lnTo>
                    <a:pt x="67" y="498"/>
                  </a:lnTo>
                  <a:lnTo>
                    <a:pt x="86" y="598"/>
                  </a:lnTo>
                  <a:lnTo>
                    <a:pt x="106" y="698"/>
                  </a:lnTo>
                  <a:lnTo>
                    <a:pt x="127" y="799"/>
                  </a:lnTo>
                  <a:lnTo>
                    <a:pt x="148" y="896"/>
                  </a:lnTo>
                  <a:lnTo>
                    <a:pt x="171" y="988"/>
                  </a:lnTo>
                  <a:lnTo>
                    <a:pt x="183" y="1031"/>
                  </a:lnTo>
                  <a:lnTo>
                    <a:pt x="195" y="1071"/>
                  </a:lnTo>
                  <a:lnTo>
                    <a:pt x="206" y="1109"/>
                  </a:lnTo>
                  <a:lnTo>
                    <a:pt x="218" y="1144"/>
                  </a:lnTo>
                  <a:lnTo>
                    <a:pt x="230" y="1176"/>
                  </a:lnTo>
                  <a:lnTo>
                    <a:pt x="241" y="1204"/>
                  </a:lnTo>
                  <a:lnTo>
                    <a:pt x="253" y="1227"/>
                  </a:lnTo>
                  <a:lnTo>
                    <a:pt x="265" y="1247"/>
                  </a:lnTo>
                  <a:lnTo>
                    <a:pt x="556" y="1941"/>
                  </a:lnTo>
                  <a:lnTo>
                    <a:pt x="588" y="1936"/>
                  </a:lnTo>
                  <a:lnTo>
                    <a:pt x="622" y="1932"/>
                  </a:lnTo>
                  <a:lnTo>
                    <a:pt x="656" y="1927"/>
                  </a:lnTo>
                  <a:lnTo>
                    <a:pt x="691" y="1922"/>
                  </a:lnTo>
                  <a:lnTo>
                    <a:pt x="726" y="1918"/>
                  </a:lnTo>
                  <a:lnTo>
                    <a:pt x="762" y="1914"/>
                  </a:lnTo>
                  <a:lnTo>
                    <a:pt x="799" y="1909"/>
                  </a:lnTo>
                  <a:lnTo>
                    <a:pt x="835" y="1906"/>
                  </a:lnTo>
                  <a:lnTo>
                    <a:pt x="837" y="1897"/>
                  </a:lnTo>
                  <a:lnTo>
                    <a:pt x="838" y="1886"/>
                  </a:lnTo>
                  <a:lnTo>
                    <a:pt x="838" y="1876"/>
                  </a:lnTo>
                  <a:lnTo>
                    <a:pt x="838" y="1865"/>
                  </a:lnTo>
                  <a:lnTo>
                    <a:pt x="837" y="1843"/>
                  </a:lnTo>
                  <a:lnTo>
                    <a:pt x="835" y="1820"/>
                  </a:lnTo>
                  <a:lnTo>
                    <a:pt x="829" y="1796"/>
                  </a:lnTo>
                  <a:lnTo>
                    <a:pt x="823" y="1772"/>
                  </a:lnTo>
                  <a:lnTo>
                    <a:pt x="815" y="1747"/>
                  </a:lnTo>
                  <a:lnTo>
                    <a:pt x="806" y="1724"/>
                  </a:lnTo>
                  <a:lnTo>
                    <a:pt x="795" y="1700"/>
                  </a:lnTo>
                  <a:lnTo>
                    <a:pt x="784" y="1679"/>
                  </a:lnTo>
                  <a:lnTo>
                    <a:pt x="773" y="1658"/>
                  </a:lnTo>
                  <a:lnTo>
                    <a:pt x="760" y="1640"/>
                  </a:lnTo>
                  <a:lnTo>
                    <a:pt x="748" y="1622"/>
                  </a:lnTo>
                  <a:lnTo>
                    <a:pt x="735" y="1608"/>
                  </a:lnTo>
                  <a:lnTo>
                    <a:pt x="723" y="1595"/>
                  </a:lnTo>
                  <a:lnTo>
                    <a:pt x="711" y="1587"/>
                  </a:lnTo>
                  <a:lnTo>
                    <a:pt x="1670" y="1495"/>
                  </a:lnTo>
                  <a:lnTo>
                    <a:pt x="1657" y="1482"/>
                  </a:lnTo>
                  <a:lnTo>
                    <a:pt x="1645" y="1469"/>
                  </a:lnTo>
                  <a:lnTo>
                    <a:pt x="1634" y="1456"/>
                  </a:lnTo>
                  <a:lnTo>
                    <a:pt x="1622" y="1442"/>
                  </a:lnTo>
                  <a:lnTo>
                    <a:pt x="1612" y="1427"/>
                  </a:lnTo>
                  <a:lnTo>
                    <a:pt x="1602" y="1411"/>
                  </a:lnTo>
                  <a:lnTo>
                    <a:pt x="1593" y="1396"/>
                  </a:lnTo>
                  <a:lnTo>
                    <a:pt x="1583" y="1379"/>
                  </a:lnTo>
                  <a:lnTo>
                    <a:pt x="1566" y="1345"/>
                  </a:lnTo>
                  <a:lnTo>
                    <a:pt x="1552" y="1311"/>
                  </a:lnTo>
                  <a:lnTo>
                    <a:pt x="1539" y="1276"/>
                  </a:lnTo>
                  <a:lnTo>
                    <a:pt x="1527" y="1242"/>
                  </a:lnTo>
                  <a:lnTo>
                    <a:pt x="1518" y="1209"/>
                  </a:lnTo>
                  <a:lnTo>
                    <a:pt x="1511" y="1177"/>
                  </a:lnTo>
                  <a:lnTo>
                    <a:pt x="1505" y="1147"/>
                  </a:lnTo>
                  <a:lnTo>
                    <a:pt x="1502" y="1120"/>
                  </a:lnTo>
                  <a:lnTo>
                    <a:pt x="1498" y="1095"/>
                  </a:lnTo>
                  <a:lnTo>
                    <a:pt x="1498" y="1075"/>
                  </a:lnTo>
                  <a:lnTo>
                    <a:pt x="1498" y="1059"/>
                  </a:lnTo>
                  <a:lnTo>
                    <a:pt x="1501" y="1049"/>
                  </a:lnTo>
                  <a:lnTo>
                    <a:pt x="1499" y="1040"/>
                  </a:lnTo>
                  <a:lnTo>
                    <a:pt x="1495" y="1029"/>
                  </a:lnTo>
                  <a:lnTo>
                    <a:pt x="1485" y="1011"/>
                  </a:lnTo>
                  <a:lnTo>
                    <a:pt x="1473" y="989"/>
                  </a:lnTo>
                  <a:lnTo>
                    <a:pt x="1436" y="933"/>
                  </a:lnTo>
                  <a:lnTo>
                    <a:pt x="1390" y="864"/>
                  </a:lnTo>
                  <a:lnTo>
                    <a:pt x="1334" y="783"/>
                  </a:lnTo>
                  <a:lnTo>
                    <a:pt x="1270" y="695"/>
                  </a:lnTo>
                  <a:lnTo>
                    <a:pt x="1203" y="601"/>
                  </a:lnTo>
                  <a:lnTo>
                    <a:pt x="1133" y="505"/>
                  </a:lnTo>
                  <a:lnTo>
                    <a:pt x="1062" y="411"/>
                  </a:lnTo>
                  <a:lnTo>
                    <a:pt x="994" y="319"/>
                  </a:lnTo>
                  <a:lnTo>
                    <a:pt x="931" y="233"/>
                  </a:lnTo>
                  <a:lnTo>
                    <a:pt x="873" y="156"/>
                  </a:lnTo>
                  <a:lnTo>
                    <a:pt x="824" y="92"/>
                  </a:lnTo>
                  <a:lnTo>
                    <a:pt x="787" y="43"/>
                  </a:lnTo>
                  <a:lnTo>
                    <a:pt x="762" y="11"/>
                  </a:lnTo>
                  <a:lnTo>
                    <a:pt x="754" y="0"/>
                  </a:lnTo>
                  <a:lnTo>
                    <a:pt x="0" y="8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Freeform 122"/>
            <p:cNvSpPr/>
            <p:nvPr/>
          </p:nvSpPr>
          <p:spPr>
            <a:xfrm>
              <a:off x="7918200" y="5774040"/>
              <a:ext cx="252000" cy="3157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670" h="1941">
                  <a:moveTo>
                    <a:pt x="0" y="86"/>
                  </a:moveTo>
                  <a:lnTo>
                    <a:pt x="1" y="97"/>
                  </a:lnTo>
                  <a:lnTo>
                    <a:pt x="5" y="128"/>
                  </a:lnTo>
                  <a:lnTo>
                    <a:pt x="14" y="177"/>
                  </a:lnTo>
                  <a:lnTo>
                    <a:pt x="24" y="241"/>
                  </a:lnTo>
                  <a:lnTo>
                    <a:pt x="36" y="319"/>
                  </a:lnTo>
                  <a:lnTo>
                    <a:pt x="51" y="405"/>
                  </a:lnTo>
                  <a:lnTo>
                    <a:pt x="67" y="498"/>
                  </a:lnTo>
                  <a:lnTo>
                    <a:pt x="86" y="598"/>
                  </a:lnTo>
                  <a:lnTo>
                    <a:pt x="106" y="698"/>
                  </a:lnTo>
                  <a:lnTo>
                    <a:pt x="127" y="799"/>
                  </a:lnTo>
                  <a:lnTo>
                    <a:pt x="148" y="896"/>
                  </a:lnTo>
                  <a:lnTo>
                    <a:pt x="171" y="988"/>
                  </a:lnTo>
                  <a:lnTo>
                    <a:pt x="183" y="1031"/>
                  </a:lnTo>
                  <a:lnTo>
                    <a:pt x="195" y="1071"/>
                  </a:lnTo>
                  <a:lnTo>
                    <a:pt x="206" y="1109"/>
                  </a:lnTo>
                  <a:lnTo>
                    <a:pt x="218" y="1144"/>
                  </a:lnTo>
                  <a:lnTo>
                    <a:pt x="230" y="1176"/>
                  </a:lnTo>
                  <a:lnTo>
                    <a:pt x="241" y="1204"/>
                  </a:lnTo>
                  <a:lnTo>
                    <a:pt x="253" y="1227"/>
                  </a:lnTo>
                  <a:lnTo>
                    <a:pt x="265" y="1247"/>
                  </a:lnTo>
                  <a:lnTo>
                    <a:pt x="556" y="1941"/>
                  </a:lnTo>
                  <a:lnTo>
                    <a:pt x="588" y="1936"/>
                  </a:lnTo>
                  <a:lnTo>
                    <a:pt x="622" y="1932"/>
                  </a:lnTo>
                  <a:lnTo>
                    <a:pt x="656" y="1927"/>
                  </a:lnTo>
                  <a:lnTo>
                    <a:pt x="691" y="1922"/>
                  </a:lnTo>
                  <a:lnTo>
                    <a:pt x="726" y="1918"/>
                  </a:lnTo>
                  <a:lnTo>
                    <a:pt x="762" y="1914"/>
                  </a:lnTo>
                  <a:lnTo>
                    <a:pt x="799" y="1909"/>
                  </a:lnTo>
                  <a:lnTo>
                    <a:pt x="835" y="1906"/>
                  </a:lnTo>
                  <a:lnTo>
                    <a:pt x="837" y="1897"/>
                  </a:lnTo>
                  <a:lnTo>
                    <a:pt x="838" y="1886"/>
                  </a:lnTo>
                  <a:lnTo>
                    <a:pt x="838" y="1876"/>
                  </a:lnTo>
                  <a:lnTo>
                    <a:pt x="838" y="1865"/>
                  </a:lnTo>
                  <a:lnTo>
                    <a:pt x="837" y="1843"/>
                  </a:lnTo>
                  <a:lnTo>
                    <a:pt x="835" y="1820"/>
                  </a:lnTo>
                  <a:lnTo>
                    <a:pt x="829" y="1796"/>
                  </a:lnTo>
                  <a:lnTo>
                    <a:pt x="823" y="1772"/>
                  </a:lnTo>
                  <a:lnTo>
                    <a:pt x="815" y="1747"/>
                  </a:lnTo>
                  <a:lnTo>
                    <a:pt x="806" y="1724"/>
                  </a:lnTo>
                  <a:lnTo>
                    <a:pt x="795" y="1700"/>
                  </a:lnTo>
                  <a:lnTo>
                    <a:pt x="784" y="1679"/>
                  </a:lnTo>
                  <a:lnTo>
                    <a:pt x="773" y="1658"/>
                  </a:lnTo>
                  <a:lnTo>
                    <a:pt x="760" y="1640"/>
                  </a:lnTo>
                  <a:lnTo>
                    <a:pt x="748" y="1622"/>
                  </a:lnTo>
                  <a:lnTo>
                    <a:pt x="735" y="1608"/>
                  </a:lnTo>
                  <a:lnTo>
                    <a:pt x="723" y="1595"/>
                  </a:lnTo>
                  <a:lnTo>
                    <a:pt x="711" y="1587"/>
                  </a:lnTo>
                  <a:lnTo>
                    <a:pt x="1670" y="1495"/>
                  </a:lnTo>
                  <a:lnTo>
                    <a:pt x="1657" y="1482"/>
                  </a:lnTo>
                  <a:lnTo>
                    <a:pt x="1645" y="1469"/>
                  </a:lnTo>
                  <a:lnTo>
                    <a:pt x="1634" y="1456"/>
                  </a:lnTo>
                  <a:lnTo>
                    <a:pt x="1622" y="1442"/>
                  </a:lnTo>
                  <a:lnTo>
                    <a:pt x="1612" y="1427"/>
                  </a:lnTo>
                  <a:lnTo>
                    <a:pt x="1602" y="1411"/>
                  </a:lnTo>
                  <a:lnTo>
                    <a:pt x="1593" y="1396"/>
                  </a:lnTo>
                  <a:lnTo>
                    <a:pt x="1583" y="1379"/>
                  </a:lnTo>
                  <a:lnTo>
                    <a:pt x="1566" y="1345"/>
                  </a:lnTo>
                  <a:lnTo>
                    <a:pt x="1552" y="1311"/>
                  </a:lnTo>
                  <a:lnTo>
                    <a:pt x="1539" y="1276"/>
                  </a:lnTo>
                  <a:lnTo>
                    <a:pt x="1527" y="1242"/>
                  </a:lnTo>
                  <a:lnTo>
                    <a:pt x="1518" y="1209"/>
                  </a:lnTo>
                  <a:lnTo>
                    <a:pt x="1511" y="1177"/>
                  </a:lnTo>
                  <a:lnTo>
                    <a:pt x="1505" y="1147"/>
                  </a:lnTo>
                  <a:lnTo>
                    <a:pt x="1502" y="1120"/>
                  </a:lnTo>
                  <a:lnTo>
                    <a:pt x="1498" y="1095"/>
                  </a:lnTo>
                  <a:lnTo>
                    <a:pt x="1498" y="1075"/>
                  </a:lnTo>
                  <a:lnTo>
                    <a:pt x="1498" y="1059"/>
                  </a:lnTo>
                  <a:lnTo>
                    <a:pt x="1501" y="1049"/>
                  </a:lnTo>
                  <a:lnTo>
                    <a:pt x="1499" y="1040"/>
                  </a:lnTo>
                  <a:lnTo>
                    <a:pt x="1495" y="1029"/>
                  </a:lnTo>
                  <a:lnTo>
                    <a:pt x="1485" y="1011"/>
                  </a:lnTo>
                  <a:lnTo>
                    <a:pt x="1473" y="989"/>
                  </a:lnTo>
                  <a:lnTo>
                    <a:pt x="1436" y="933"/>
                  </a:lnTo>
                  <a:lnTo>
                    <a:pt x="1390" y="864"/>
                  </a:lnTo>
                  <a:lnTo>
                    <a:pt x="1334" y="783"/>
                  </a:lnTo>
                  <a:lnTo>
                    <a:pt x="1270" y="695"/>
                  </a:lnTo>
                  <a:lnTo>
                    <a:pt x="1203" y="601"/>
                  </a:lnTo>
                  <a:lnTo>
                    <a:pt x="1133" y="505"/>
                  </a:lnTo>
                  <a:lnTo>
                    <a:pt x="1062" y="411"/>
                  </a:lnTo>
                  <a:lnTo>
                    <a:pt x="994" y="319"/>
                  </a:lnTo>
                  <a:lnTo>
                    <a:pt x="931" y="233"/>
                  </a:lnTo>
                  <a:lnTo>
                    <a:pt x="873" y="156"/>
                  </a:lnTo>
                  <a:lnTo>
                    <a:pt x="824" y="92"/>
                  </a:lnTo>
                  <a:lnTo>
                    <a:pt x="787" y="43"/>
                  </a:lnTo>
                  <a:lnTo>
                    <a:pt x="762" y="11"/>
                  </a:lnTo>
                  <a:lnTo>
                    <a:pt x="754" y="0"/>
                  </a:lnTo>
                  <a:lnTo>
                    <a:pt x="0" y="8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123"/>
            <p:cNvSpPr/>
            <p:nvPr/>
          </p:nvSpPr>
          <p:spPr>
            <a:xfrm>
              <a:off x="7699320" y="5473440"/>
              <a:ext cx="182520" cy="2314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210" h="1423">
                  <a:moveTo>
                    <a:pt x="916" y="1423"/>
                  </a:moveTo>
                  <a:lnTo>
                    <a:pt x="915" y="1406"/>
                  </a:lnTo>
                  <a:lnTo>
                    <a:pt x="912" y="1392"/>
                  </a:lnTo>
                  <a:lnTo>
                    <a:pt x="910" y="1386"/>
                  </a:lnTo>
                  <a:lnTo>
                    <a:pt x="908" y="1381"/>
                  </a:lnTo>
                  <a:lnTo>
                    <a:pt x="905" y="1376"/>
                  </a:lnTo>
                  <a:lnTo>
                    <a:pt x="903" y="1373"/>
                  </a:lnTo>
                  <a:lnTo>
                    <a:pt x="896" y="1367"/>
                  </a:lnTo>
                  <a:lnTo>
                    <a:pt x="888" y="1364"/>
                  </a:lnTo>
                  <a:lnTo>
                    <a:pt x="879" y="1361"/>
                  </a:lnTo>
                  <a:lnTo>
                    <a:pt x="869" y="1360"/>
                  </a:lnTo>
                  <a:lnTo>
                    <a:pt x="847" y="1359"/>
                  </a:lnTo>
                  <a:lnTo>
                    <a:pt x="824" y="1357"/>
                  </a:lnTo>
                  <a:lnTo>
                    <a:pt x="811" y="1353"/>
                  </a:lnTo>
                  <a:lnTo>
                    <a:pt x="799" y="1348"/>
                  </a:lnTo>
                  <a:lnTo>
                    <a:pt x="793" y="1345"/>
                  </a:lnTo>
                  <a:lnTo>
                    <a:pt x="786" y="1341"/>
                  </a:lnTo>
                  <a:lnTo>
                    <a:pt x="780" y="1337"/>
                  </a:lnTo>
                  <a:lnTo>
                    <a:pt x="775" y="1331"/>
                  </a:lnTo>
                  <a:lnTo>
                    <a:pt x="775" y="1309"/>
                  </a:lnTo>
                  <a:lnTo>
                    <a:pt x="773" y="1288"/>
                  </a:lnTo>
                  <a:lnTo>
                    <a:pt x="771" y="1268"/>
                  </a:lnTo>
                  <a:lnTo>
                    <a:pt x="768" y="1249"/>
                  </a:lnTo>
                  <a:lnTo>
                    <a:pt x="763" y="1233"/>
                  </a:lnTo>
                  <a:lnTo>
                    <a:pt x="757" y="1216"/>
                  </a:lnTo>
                  <a:lnTo>
                    <a:pt x="749" y="1201"/>
                  </a:lnTo>
                  <a:lnTo>
                    <a:pt x="740" y="1187"/>
                  </a:lnTo>
                  <a:lnTo>
                    <a:pt x="728" y="1173"/>
                  </a:lnTo>
                  <a:lnTo>
                    <a:pt x="714" y="1160"/>
                  </a:lnTo>
                  <a:lnTo>
                    <a:pt x="698" y="1149"/>
                  </a:lnTo>
                  <a:lnTo>
                    <a:pt x="679" y="1138"/>
                  </a:lnTo>
                  <a:lnTo>
                    <a:pt x="658" y="1128"/>
                  </a:lnTo>
                  <a:lnTo>
                    <a:pt x="633" y="1117"/>
                  </a:lnTo>
                  <a:lnTo>
                    <a:pt x="606" y="1108"/>
                  </a:lnTo>
                  <a:lnTo>
                    <a:pt x="576" y="1098"/>
                  </a:lnTo>
                  <a:lnTo>
                    <a:pt x="546" y="1089"/>
                  </a:lnTo>
                  <a:lnTo>
                    <a:pt x="520" y="1080"/>
                  </a:lnTo>
                  <a:lnTo>
                    <a:pt x="498" y="1069"/>
                  </a:lnTo>
                  <a:lnTo>
                    <a:pt x="478" y="1059"/>
                  </a:lnTo>
                  <a:lnTo>
                    <a:pt x="462" y="1048"/>
                  </a:lnTo>
                  <a:lnTo>
                    <a:pt x="449" y="1037"/>
                  </a:lnTo>
                  <a:lnTo>
                    <a:pt x="437" y="1025"/>
                  </a:lnTo>
                  <a:lnTo>
                    <a:pt x="429" y="1012"/>
                  </a:lnTo>
                  <a:lnTo>
                    <a:pt x="423" y="1000"/>
                  </a:lnTo>
                  <a:lnTo>
                    <a:pt x="418" y="987"/>
                  </a:lnTo>
                  <a:lnTo>
                    <a:pt x="416" y="976"/>
                  </a:lnTo>
                  <a:lnTo>
                    <a:pt x="415" y="963"/>
                  </a:lnTo>
                  <a:lnTo>
                    <a:pt x="415" y="950"/>
                  </a:lnTo>
                  <a:lnTo>
                    <a:pt x="416" y="938"/>
                  </a:lnTo>
                  <a:lnTo>
                    <a:pt x="418" y="926"/>
                  </a:lnTo>
                  <a:lnTo>
                    <a:pt x="421" y="914"/>
                  </a:lnTo>
                  <a:lnTo>
                    <a:pt x="422" y="903"/>
                  </a:lnTo>
                  <a:lnTo>
                    <a:pt x="423" y="894"/>
                  </a:lnTo>
                  <a:lnTo>
                    <a:pt x="421" y="887"/>
                  </a:lnTo>
                  <a:lnTo>
                    <a:pt x="418" y="881"/>
                  </a:lnTo>
                  <a:lnTo>
                    <a:pt x="414" y="875"/>
                  </a:lnTo>
                  <a:lnTo>
                    <a:pt x="408" y="871"/>
                  </a:lnTo>
                  <a:lnTo>
                    <a:pt x="400" y="867"/>
                  </a:lnTo>
                  <a:lnTo>
                    <a:pt x="392" y="864"/>
                  </a:lnTo>
                  <a:lnTo>
                    <a:pt x="345" y="853"/>
                  </a:lnTo>
                  <a:lnTo>
                    <a:pt x="283" y="836"/>
                  </a:lnTo>
                  <a:lnTo>
                    <a:pt x="265" y="830"/>
                  </a:lnTo>
                  <a:lnTo>
                    <a:pt x="248" y="824"/>
                  </a:lnTo>
                  <a:lnTo>
                    <a:pt x="231" y="817"/>
                  </a:lnTo>
                  <a:lnTo>
                    <a:pt x="215" y="809"/>
                  </a:lnTo>
                  <a:lnTo>
                    <a:pt x="201" y="801"/>
                  </a:lnTo>
                  <a:lnTo>
                    <a:pt x="187" y="792"/>
                  </a:lnTo>
                  <a:lnTo>
                    <a:pt x="174" y="783"/>
                  </a:lnTo>
                  <a:lnTo>
                    <a:pt x="161" y="774"/>
                  </a:lnTo>
                  <a:lnTo>
                    <a:pt x="151" y="764"/>
                  </a:lnTo>
                  <a:lnTo>
                    <a:pt x="142" y="754"/>
                  </a:lnTo>
                  <a:lnTo>
                    <a:pt x="132" y="745"/>
                  </a:lnTo>
                  <a:lnTo>
                    <a:pt x="125" y="735"/>
                  </a:lnTo>
                  <a:lnTo>
                    <a:pt x="121" y="726"/>
                  </a:lnTo>
                  <a:lnTo>
                    <a:pt x="116" y="715"/>
                  </a:lnTo>
                  <a:lnTo>
                    <a:pt x="113" y="707"/>
                  </a:lnTo>
                  <a:lnTo>
                    <a:pt x="112" y="698"/>
                  </a:lnTo>
                  <a:lnTo>
                    <a:pt x="111" y="690"/>
                  </a:lnTo>
                  <a:lnTo>
                    <a:pt x="109" y="681"/>
                  </a:lnTo>
                  <a:lnTo>
                    <a:pt x="104" y="673"/>
                  </a:lnTo>
                  <a:lnTo>
                    <a:pt x="97" y="666"/>
                  </a:lnTo>
                  <a:lnTo>
                    <a:pt x="90" y="659"/>
                  </a:lnTo>
                  <a:lnTo>
                    <a:pt x="82" y="653"/>
                  </a:lnTo>
                  <a:lnTo>
                    <a:pt x="74" y="648"/>
                  </a:lnTo>
                  <a:lnTo>
                    <a:pt x="64" y="642"/>
                  </a:lnTo>
                  <a:lnTo>
                    <a:pt x="32" y="625"/>
                  </a:lnTo>
                  <a:lnTo>
                    <a:pt x="18" y="620"/>
                  </a:lnTo>
                  <a:lnTo>
                    <a:pt x="6" y="505"/>
                  </a:lnTo>
                  <a:lnTo>
                    <a:pt x="3" y="505"/>
                  </a:lnTo>
                  <a:lnTo>
                    <a:pt x="1" y="498"/>
                  </a:lnTo>
                  <a:lnTo>
                    <a:pt x="0" y="489"/>
                  </a:lnTo>
                  <a:lnTo>
                    <a:pt x="0" y="478"/>
                  </a:lnTo>
                  <a:lnTo>
                    <a:pt x="0" y="467"/>
                  </a:lnTo>
                  <a:lnTo>
                    <a:pt x="1" y="454"/>
                  </a:lnTo>
                  <a:lnTo>
                    <a:pt x="3" y="441"/>
                  </a:lnTo>
                  <a:lnTo>
                    <a:pt x="5" y="427"/>
                  </a:lnTo>
                  <a:lnTo>
                    <a:pt x="7" y="413"/>
                  </a:lnTo>
                  <a:lnTo>
                    <a:pt x="12" y="400"/>
                  </a:lnTo>
                  <a:lnTo>
                    <a:pt x="17" y="388"/>
                  </a:lnTo>
                  <a:lnTo>
                    <a:pt x="22" y="377"/>
                  </a:lnTo>
                  <a:lnTo>
                    <a:pt x="28" y="367"/>
                  </a:lnTo>
                  <a:lnTo>
                    <a:pt x="32" y="363"/>
                  </a:lnTo>
                  <a:lnTo>
                    <a:pt x="36" y="359"/>
                  </a:lnTo>
                  <a:lnTo>
                    <a:pt x="41" y="356"/>
                  </a:lnTo>
                  <a:lnTo>
                    <a:pt x="45" y="353"/>
                  </a:lnTo>
                  <a:lnTo>
                    <a:pt x="50" y="351"/>
                  </a:lnTo>
                  <a:lnTo>
                    <a:pt x="55" y="350"/>
                  </a:lnTo>
                  <a:lnTo>
                    <a:pt x="61" y="350"/>
                  </a:lnTo>
                  <a:lnTo>
                    <a:pt x="67" y="350"/>
                  </a:lnTo>
                  <a:lnTo>
                    <a:pt x="104" y="281"/>
                  </a:lnTo>
                  <a:lnTo>
                    <a:pt x="97" y="274"/>
                  </a:lnTo>
                  <a:lnTo>
                    <a:pt x="91" y="267"/>
                  </a:lnTo>
                  <a:lnTo>
                    <a:pt x="87" y="259"/>
                  </a:lnTo>
                  <a:lnTo>
                    <a:pt x="84" y="250"/>
                  </a:lnTo>
                  <a:lnTo>
                    <a:pt x="82" y="241"/>
                  </a:lnTo>
                  <a:lnTo>
                    <a:pt x="81" y="232"/>
                  </a:lnTo>
                  <a:lnTo>
                    <a:pt x="82" y="222"/>
                  </a:lnTo>
                  <a:lnTo>
                    <a:pt x="84" y="213"/>
                  </a:lnTo>
                  <a:lnTo>
                    <a:pt x="89" y="204"/>
                  </a:lnTo>
                  <a:lnTo>
                    <a:pt x="95" y="194"/>
                  </a:lnTo>
                  <a:lnTo>
                    <a:pt x="102" y="186"/>
                  </a:lnTo>
                  <a:lnTo>
                    <a:pt x="112" y="178"/>
                  </a:lnTo>
                  <a:lnTo>
                    <a:pt x="124" y="171"/>
                  </a:lnTo>
                  <a:lnTo>
                    <a:pt x="138" y="165"/>
                  </a:lnTo>
                  <a:lnTo>
                    <a:pt x="154" y="160"/>
                  </a:lnTo>
                  <a:lnTo>
                    <a:pt x="173" y="156"/>
                  </a:lnTo>
                  <a:lnTo>
                    <a:pt x="142" y="27"/>
                  </a:lnTo>
                  <a:lnTo>
                    <a:pt x="830" y="0"/>
                  </a:lnTo>
                  <a:lnTo>
                    <a:pt x="852" y="25"/>
                  </a:lnTo>
                  <a:lnTo>
                    <a:pt x="876" y="48"/>
                  </a:lnTo>
                  <a:lnTo>
                    <a:pt x="903" y="72"/>
                  </a:lnTo>
                  <a:lnTo>
                    <a:pt x="930" y="96"/>
                  </a:lnTo>
                  <a:lnTo>
                    <a:pt x="1077" y="629"/>
                  </a:lnTo>
                  <a:lnTo>
                    <a:pt x="1082" y="639"/>
                  </a:lnTo>
                  <a:lnTo>
                    <a:pt x="1088" y="650"/>
                  </a:lnTo>
                  <a:lnTo>
                    <a:pt x="1095" y="660"/>
                  </a:lnTo>
                  <a:lnTo>
                    <a:pt x="1102" y="672"/>
                  </a:lnTo>
                  <a:lnTo>
                    <a:pt x="1119" y="693"/>
                  </a:lnTo>
                  <a:lnTo>
                    <a:pt x="1137" y="715"/>
                  </a:lnTo>
                  <a:lnTo>
                    <a:pt x="1157" y="735"/>
                  </a:lnTo>
                  <a:lnTo>
                    <a:pt x="1175" y="753"/>
                  </a:lnTo>
                  <a:lnTo>
                    <a:pt x="1194" y="769"/>
                  </a:lnTo>
                  <a:lnTo>
                    <a:pt x="1210" y="782"/>
                  </a:lnTo>
                  <a:lnTo>
                    <a:pt x="1188" y="806"/>
                  </a:lnTo>
                  <a:lnTo>
                    <a:pt x="1169" y="831"/>
                  </a:lnTo>
                  <a:lnTo>
                    <a:pt x="1161" y="841"/>
                  </a:lnTo>
                  <a:lnTo>
                    <a:pt x="1154" y="853"/>
                  </a:lnTo>
                  <a:lnTo>
                    <a:pt x="1148" y="865"/>
                  </a:lnTo>
                  <a:lnTo>
                    <a:pt x="1143" y="877"/>
                  </a:lnTo>
                  <a:lnTo>
                    <a:pt x="1138" y="889"/>
                  </a:lnTo>
                  <a:lnTo>
                    <a:pt x="1134" y="902"/>
                  </a:lnTo>
                  <a:lnTo>
                    <a:pt x="1131" y="915"/>
                  </a:lnTo>
                  <a:lnTo>
                    <a:pt x="1127" y="930"/>
                  </a:lnTo>
                  <a:lnTo>
                    <a:pt x="1126" y="945"/>
                  </a:lnTo>
                  <a:lnTo>
                    <a:pt x="1124" y="963"/>
                  </a:lnTo>
                  <a:lnTo>
                    <a:pt x="1124" y="980"/>
                  </a:lnTo>
                  <a:lnTo>
                    <a:pt x="1124" y="1000"/>
                  </a:lnTo>
                  <a:lnTo>
                    <a:pt x="1124" y="1041"/>
                  </a:lnTo>
                  <a:lnTo>
                    <a:pt x="1125" y="1081"/>
                  </a:lnTo>
                  <a:lnTo>
                    <a:pt x="1127" y="1119"/>
                  </a:lnTo>
                  <a:lnTo>
                    <a:pt x="1131" y="1156"/>
                  </a:lnTo>
                  <a:lnTo>
                    <a:pt x="1133" y="1186"/>
                  </a:lnTo>
                  <a:lnTo>
                    <a:pt x="1136" y="1209"/>
                  </a:lnTo>
                  <a:lnTo>
                    <a:pt x="1137" y="1225"/>
                  </a:lnTo>
                  <a:lnTo>
                    <a:pt x="1138" y="1230"/>
                  </a:lnTo>
                  <a:lnTo>
                    <a:pt x="1123" y="1257"/>
                  </a:lnTo>
                  <a:lnTo>
                    <a:pt x="1108" y="1281"/>
                  </a:lnTo>
                  <a:lnTo>
                    <a:pt x="1094" y="1299"/>
                  </a:lnTo>
                  <a:lnTo>
                    <a:pt x="1080" y="1315"/>
                  </a:lnTo>
                  <a:lnTo>
                    <a:pt x="1067" y="1327"/>
                  </a:lnTo>
                  <a:lnTo>
                    <a:pt x="1053" y="1338"/>
                  </a:lnTo>
                  <a:lnTo>
                    <a:pt x="1040" y="1347"/>
                  </a:lnTo>
                  <a:lnTo>
                    <a:pt x="1027" y="1354"/>
                  </a:lnTo>
                  <a:lnTo>
                    <a:pt x="1001" y="1367"/>
                  </a:lnTo>
                  <a:lnTo>
                    <a:pt x="974" y="1380"/>
                  </a:lnTo>
                  <a:lnTo>
                    <a:pt x="960" y="1388"/>
                  </a:lnTo>
                  <a:lnTo>
                    <a:pt x="946" y="1397"/>
                  </a:lnTo>
                  <a:lnTo>
                    <a:pt x="931" y="1409"/>
                  </a:lnTo>
                  <a:lnTo>
                    <a:pt x="916" y="14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Freeform 124"/>
            <p:cNvSpPr/>
            <p:nvPr/>
          </p:nvSpPr>
          <p:spPr>
            <a:xfrm>
              <a:off x="7699320" y="5473440"/>
              <a:ext cx="182520" cy="2314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210" h="1423">
                  <a:moveTo>
                    <a:pt x="916" y="1423"/>
                  </a:moveTo>
                  <a:lnTo>
                    <a:pt x="915" y="1406"/>
                  </a:lnTo>
                  <a:lnTo>
                    <a:pt x="912" y="1392"/>
                  </a:lnTo>
                  <a:lnTo>
                    <a:pt x="910" y="1386"/>
                  </a:lnTo>
                  <a:lnTo>
                    <a:pt x="908" y="1381"/>
                  </a:lnTo>
                  <a:lnTo>
                    <a:pt x="905" y="1376"/>
                  </a:lnTo>
                  <a:lnTo>
                    <a:pt x="903" y="1373"/>
                  </a:lnTo>
                  <a:lnTo>
                    <a:pt x="896" y="1367"/>
                  </a:lnTo>
                  <a:lnTo>
                    <a:pt x="888" y="1364"/>
                  </a:lnTo>
                  <a:lnTo>
                    <a:pt x="879" y="1361"/>
                  </a:lnTo>
                  <a:lnTo>
                    <a:pt x="869" y="1360"/>
                  </a:lnTo>
                  <a:lnTo>
                    <a:pt x="847" y="1359"/>
                  </a:lnTo>
                  <a:lnTo>
                    <a:pt x="824" y="1357"/>
                  </a:lnTo>
                  <a:lnTo>
                    <a:pt x="811" y="1353"/>
                  </a:lnTo>
                  <a:lnTo>
                    <a:pt x="799" y="1348"/>
                  </a:lnTo>
                  <a:lnTo>
                    <a:pt x="793" y="1345"/>
                  </a:lnTo>
                  <a:lnTo>
                    <a:pt x="786" y="1341"/>
                  </a:lnTo>
                  <a:lnTo>
                    <a:pt x="780" y="1337"/>
                  </a:lnTo>
                  <a:lnTo>
                    <a:pt x="775" y="1331"/>
                  </a:lnTo>
                  <a:lnTo>
                    <a:pt x="775" y="1309"/>
                  </a:lnTo>
                  <a:lnTo>
                    <a:pt x="773" y="1288"/>
                  </a:lnTo>
                  <a:lnTo>
                    <a:pt x="771" y="1268"/>
                  </a:lnTo>
                  <a:lnTo>
                    <a:pt x="768" y="1249"/>
                  </a:lnTo>
                  <a:lnTo>
                    <a:pt x="763" y="1233"/>
                  </a:lnTo>
                  <a:lnTo>
                    <a:pt x="757" y="1216"/>
                  </a:lnTo>
                  <a:lnTo>
                    <a:pt x="749" y="1201"/>
                  </a:lnTo>
                  <a:lnTo>
                    <a:pt x="740" y="1187"/>
                  </a:lnTo>
                  <a:lnTo>
                    <a:pt x="728" y="1173"/>
                  </a:lnTo>
                  <a:lnTo>
                    <a:pt x="714" y="1160"/>
                  </a:lnTo>
                  <a:lnTo>
                    <a:pt x="698" y="1149"/>
                  </a:lnTo>
                  <a:lnTo>
                    <a:pt x="679" y="1138"/>
                  </a:lnTo>
                  <a:lnTo>
                    <a:pt x="658" y="1128"/>
                  </a:lnTo>
                  <a:lnTo>
                    <a:pt x="633" y="1117"/>
                  </a:lnTo>
                  <a:lnTo>
                    <a:pt x="606" y="1108"/>
                  </a:lnTo>
                  <a:lnTo>
                    <a:pt x="576" y="1098"/>
                  </a:lnTo>
                  <a:lnTo>
                    <a:pt x="546" y="1089"/>
                  </a:lnTo>
                  <a:lnTo>
                    <a:pt x="520" y="1080"/>
                  </a:lnTo>
                  <a:lnTo>
                    <a:pt x="498" y="1069"/>
                  </a:lnTo>
                  <a:lnTo>
                    <a:pt x="478" y="1059"/>
                  </a:lnTo>
                  <a:lnTo>
                    <a:pt x="462" y="1048"/>
                  </a:lnTo>
                  <a:lnTo>
                    <a:pt x="449" y="1037"/>
                  </a:lnTo>
                  <a:lnTo>
                    <a:pt x="437" y="1025"/>
                  </a:lnTo>
                  <a:lnTo>
                    <a:pt x="429" y="1012"/>
                  </a:lnTo>
                  <a:lnTo>
                    <a:pt x="423" y="1000"/>
                  </a:lnTo>
                  <a:lnTo>
                    <a:pt x="418" y="987"/>
                  </a:lnTo>
                  <a:lnTo>
                    <a:pt x="416" y="976"/>
                  </a:lnTo>
                  <a:lnTo>
                    <a:pt x="415" y="963"/>
                  </a:lnTo>
                  <a:lnTo>
                    <a:pt x="415" y="950"/>
                  </a:lnTo>
                  <a:lnTo>
                    <a:pt x="416" y="938"/>
                  </a:lnTo>
                  <a:lnTo>
                    <a:pt x="418" y="926"/>
                  </a:lnTo>
                  <a:lnTo>
                    <a:pt x="421" y="914"/>
                  </a:lnTo>
                  <a:lnTo>
                    <a:pt x="422" y="903"/>
                  </a:lnTo>
                  <a:lnTo>
                    <a:pt x="423" y="894"/>
                  </a:lnTo>
                  <a:lnTo>
                    <a:pt x="421" y="887"/>
                  </a:lnTo>
                  <a:lnTo>
                    <a:pt x="418" y="881"/>
                  </a:lnTo>
                  <a:lnTo>
                    <a:pt x="414" y="875"/>
                  </a:lnTo>
                  <a:lnTo>
                    <a:pt x="408" y="871"/>
                  </a:lnTo>
                  <a:lnTo>
                    <a:pt x="400" y="867"/>
                  </a:lnTo>
                  <a:lnTo>
                    <a:pt x="392" y="864"/>
                  </a:lnTo>
                  <a:lnTo>
                    <a:pt x="345" y="853"/>
                  </a:lnTo>
                  <a:lnTo>
                    <a:pt x="283" y="836"/>
                  </a:lnTo>
                  <a:lnTo>
                    <a:pt x="265" y="830"/>
                  </a:lnTo>
                  <a:lnTo>
                    <a:pt x="248" y="824"/>
                  </a:lnTo>
                  <a:lnTo>
                    <a:pt x="231" y="817"/>
                  </a:lnTo>
                  <a:lnTo>
                    <a:pt x="215" y="809"/>
                  </a:lnTo>
                  <a:lnTo>
                    <a:pt x="201" y="801"/>
                  </a:lnTo>
                  <a:lnTo>
                    <a:pt x="187" y="792"/>
                  </a:lnTo>
                  <a:lnTo>
                    <a:pt x="174" y="783"/>
                  </a:lnTo>
                  <a:lnTo>
                    <a:pt x="161" y="774"/>
                  </a:lnTo>
                  <a:lnTo>
                    <a:pt x="151" y="764"/>
                  </a:lnTo>
                  <a:lnTo>
                    <a:pt x="142" y="754"/>
                  </a:lnTo>
                  <a:lnTo>
                    <a:pt x="132" y="745"/>
                  </a:lnTo>
                  <a:lnTo>
                    <a:pt x="125" y="735"/>
                  </a:lnTo>
                  <a:lnTo>
                    <a:pt x="121" y="726"/>
                  </a:lnTo>
                  <a:lnTo>
                    <a:pt x="116" y="715"/>
                  </a:lnTo>
                  <a:lnTo>
                    <a:pt x="113" y="707"/>
                  </a:lnTo>
                  <a:lnTo>
                    <a:pt x="112" y="698"/>
                  </a:lnTo>
                  <a:lnTo>
                    <a:pt x="111" y="690"/>
                  </a:lnTo>
                  <a:lnTo>
                    <a:pt x="109" y="681"/>
                  </a:lnTo>
                  <a:lnTo>
                    <a:pt x="104" y="673"/>
                  </a:lnTo>
                  <a:lnTo>
                    <a:pt x="97" y="666"/>
                  </a:lnTo>
                  <a:lnTo>
                    <a:pt x="90" y="659"/>
                  </a:lnTo>
                  <a:lnTo>
                    <a:pt x="82" y="653"/>
                  </a:lnTo>
                  <a:lnTo>
                    <a:pt x="74" y="648"/>
                  </a:lnTo>
                  <a:lnTo>
                    <a:pt x="64" y="642"/>
                  </a:lnTo>
                  <a:lnTo>
                    <a:pt x="32" y="625"/>
                  </a:lnTo>
                  <a:lnTo>
                    <a:pt x="18" y="620"/>
                  </a:lnTo>
                  <a:lnTo>
                    <a:pt x="6" y="505"/>
                  </a:lnTo>
                  <a:lnTo>
                    <a:pt x="3" y="505"/>
                  </a:lnTo>
                  <a:lnTo>
                    <a:pt x="1" y="498"/>
                  </a:lnTo>
                  <a:lnTo>
                    <a:pt x="0" y="489"/>
                  </a:lnTo>
                  <a:lnTo>
                    <a:pt x="0" y="478"/>
                  </a:lnTo>
                  <a:lnTo>
                    <a:pt x="0" y="467"/>
                  </a:lnTo>
                  <a:lnTo>
                    <a:pt x="1" y="454"/>
                  </a:lnTo>
                  <a:lnTo>
                    <a:pt x="3" y="441"/>
                  </a:lnTo>
                  <a:lnTo>
                    <a:pt x="5" y="427"/>
                  </a:lnTo>
                  <a:lnTo>
                    <a:pt x="7" y="413"/>
                  </a:lnTo>
                  <a:lnTo>
                    <a:pt x="12" y="400"/>
                  </a:lnTo>
                  <a:lnTo>
                    <a:pt x="17" y="388"/>
                  </a:lnTo>
                  <a:lnTo>
                    <a:pt x="22" y="377"/>
                  </a:lnTo>
                  <a:lnTo>
                    <a:pt x="28" y="367"/>
                  </a:lnTo>
                  <a:lnTo>
                    <a:pt x="32" y="363"/>
                  </a:lnTo>
                  <a:lnTo>
                    <a:pt x="36" y="359"/>
                  </a:lnTo>
                  <a:lnTo>
                    <a:pt x="41" y="356"/>
                  </a:lnTo>
                  <a:lnTo>
                    <a:pt x="45" y="353"/>
                  </a:lnTo>
                  <a:lnTo>
                    <a:pt x="50" y="351"/>
                  </a:lnTo>
                  <a:lnTo>
                    <a:pt x="55" y="350"/>
                  </a:lnTo>
                  <a:lnTo>
                    <a:pt x="61" y="350"/>
                  </a:lnTo>
                  <a:lnTo>
                    <a:pt x="67" y="350"/>
                  </a:lnTo>
                  <a:lnTo>
                    <a:pt x="104" y="281"/>
                  </a:lnTo>
                  <a:lnTo>
                    <a:pt x="97" y="274"/>
                  </a:lnTo>
                  <a:lnTo>
                    <a:pt x="91" y="267"/>
                  </a:lnTo>
                  <a:lnTo>
                    <a:pt x="87" y="259"/>
                  </a:lnTo>
                  <a:lnTo>
                    <a:pt x="84" y="250"/>
                  </a:lnTo>
                  <a:lnTo>
                    <a:pt x="82" y="241"/>
                  </a:lnTo>
                  <a:lnTo>
                    <a:pt x="81" y="232"/>
                  </a:lnTo>
                  <a:lnTo>
                    <a:pt x="82" y="222"/>
                  </a:lnTo>
                  <a:lnTo>
                    <a:pt x="84" y="213"/>
                  </a:lnTo>
                  <a:lnTo>
                    <a:pt x="89" y="204"/>
                  </a:lnTo>
                  <a:lnTo>
                    <a:pt x="95" y="194"/>
                  </a:lnTo>
                  <a:lnTo>
                    <a:pt x="102" y="186"/>
                  </a:lnTo>
                  <a:lnTo>
                    <a:pt x="112" y="178"/>
                  </a:lnTo>
                  <a:lnTo>
                    <a:pt x="124" y="171"/>
                  </a:lnTo>
                  <a:lnTo>
                    <a:pt x="138" y="165"/>
                  </a:lnTo>
                  <a:lnTo>
                    <a:pt x="154" y="160"/>
                  </a:lnTo>
                  <a:lnTo>
                    <a:pt x="173" y="156"/>
                  </a:lnTo>
                  <a:lnTo>
                    <a:pt x="142" y="27"/>
                  </a:lnTo>
                  <a:lnTo>
                    <a:pt x="830" y="0"/>
                  </a:lnTo>
                  <a:lnTo>
                    <a:pt x="852" y="25"/>
                  </a:lnTo>
                  <a:lnTo>
                    <a:pt x="876" y="48"/>
                  </a:lnTo>
                  <a:lnTo>
                    <a:pt x="903" y="72"/>
                  </a:lnTo>
                  <a:lnTo>
                    <a:pt x="930" y="96"/>
                  </a:lnTo>
                  <a:lnTo>
                    <a:pt x="1077" y="629"/>
                  </a:lnTo>
                  <a:lnTo>
                    <a:pt x="1082" y="639"/>
                  </a:lnTo>
                  <a:lnTo>
                    <a:pt x="1088" y="650"/>
                  </a:lnTo>
                  <a:lnTo>
                    <a:pt x="1095" y="660"/>
                  </a:lnTo>
                  <a:lnTo>
                    <a:pt x="1102" y="672"/>
                  </a:lnTo>
                  <a:lnTo>
                    <a:pt x="1119" y="693"/>
                  </a:lnTo>
                  <a:lnTo>
                    <a:pt x="1137" y="715"/>
                  </a:lnTo>
                  <a:lnTo>
                    <a:pt x="1157" y="735"/>
                  </a:lnTo>
                  <a:lnTo>
                    <a:pt x="1175" y="753"/>
                  </a:lnTo>
                  <a:lnTo>
                    <a:pt x="1194" y="769"/>
                  </a:lnTo>
                  <a:lnTo>
                    <a:pt x="1210" y="782"/>
                  </a:lnTo>
                  <a:lnTo>
                    <a:pt x="1188" y="806"/>
                  </a:lnTo>
                  <a:lnTo>
                    <a:pt x="1169" y="831"/>
                  </a:lnTo>
                  <a:lnTo>
                    <a:pt x="1161" y="841"/>
                  </a:lnTo>
                  <a:lnTo>
                    <a:pt x="1154" y="853"/>
                  </a:lnTo>
                  <a:lnTo>
                    <a:pt x="1148" y="865"/>
                  </a:lnTo>
                  <a:lnTo>
                    <a:pt x="1143" y="877"/>
                  </a:lnTo>
                  <a:lnTo>
                    <a:pt x="1138" y="889"/>
                  </a:lnTo>
                  <a:lnTo>
                    <a:pt x="1134" y="902"/>
                  </a:lnTo>
                  <a:lnTo>
                    <a:pt x="1131" y="915"/>
                  </a:lnTo>
                  <a:lnTo>
                    <a:pt x="1127" y="930"/>
                  </a:lnTo>
                  <a:lnTo>
                    <a:pt x="1126" y="945"/>
                  </a:lnTo>
                  <a:lnTo>
                    <a:pt x="1124" y="963"/>
                  </a:lnTo>
                  <a:lnTo>
                    <a:pt x="1124" y="980"/>
                  </a:lnTo>
                  <a:lnTo>
                    <a:pt x="1124" y="1000"/>
                  </a:lnTo>
                  <a:lnTo>
                    <a:pt x="1124" y="1041"/>
                  </a:lnTo>
                  <a:lnTo>
                    <a:pt x="1125" y="1081"/>
                  </a:lnTo>
                  <a:lnTo>
                    <a:pt x="1127" y="1119"/>
                  </a:lnTo>
                  <a:lnTo>
                    <a:pt x="1131" y="1156"/>
                  </a:lnTo>
                  <a:lnTo>
                    <a:pt x="1133" y="1186"/>
                  </a:lnTo>
                  <a:lnTo>
                    <a:pt x="1136" y="1209"/>
                  </a:lnTo>
                  <a:lnTo>
                    <a:pt x="1137" y="1225"/>
                  </a:lnTo>
                  <a:lnTo>
                    <a:pt x="1138" y="1230"/>
                  </a:lnTo>
                  <a:lnTo>
                    <a:pt x="1123" y="1257"/>
                  </a:lnTo>
                  <a:lnTo>
                    <a:pt x="1108" y="1281"/>
                  </a:lnTo>
                  <a:lnTo>
                    <a:pt x="1094" y="1299"/>
                  </a:lnTo>
                  <a:lnTo>
                    <a:pt x="1080" y="1315"/>
                  </a:lnTo>
                  <a:lnTo>
                    <a:pt x="1067" y="1327"/>
                  </a:lnTo>
                  <a:lnTo>
                    <a:pt x="1053" y="1338"/>
                  </a:lnTo>
                  <a:lnTo>
                    <a:pt x="1040" y="1347"/>
                  </a:lnTo>
                  <a:lnTo>
                    <a:pt x="1027" y="1354"/>
                  </a:lnTo>
                  <a:lnTo>
                    <a:pt x="1001" y="1367"/>
                  </a:lnTo>
                  <a:lnTo>
                    <a:pt x="974" y="1380"/>
                  </a:lnTo>
                  <a:lnTo>
                    <a:pt x="960" y="1388"/>
                  </a:lnTo>
                  <a:lnTo>
                    <a:pt x="946" y="1397"/>
                  </a:lnTo>
                  <a:lnTo>
                    <a:pt x="931" y="1409"/>
                  </a:lnTo>
                  <a:lnTo>
                    <a:pt x="916" y="142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125"/>
            <p:cNvSpPr/>
            <p:nvPr/>
          </p:nvSpPr>
          <p:spPr>
            <a:xfrm>
              <a:off x="8112240" y="5486400"/>
              <a:ext cx="140760" cy="1508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32" h="925">
                  <a:moveTo>
                    <a:pt x="10" y="740"/>
                  </a:moveTo>
                  <a:lnTo>
                    <a:pt x="6" y="735"/>
                  </a:lnTo>
                  <a:lnTo>
                    <a:pt x="2" y="729"/>
                  </a:lnTo>
                  <a:lnTo>
                    <a:pt x="1" y="723"/>
                  </a:lnTo>
                  <a:lnTo>
                    <a:pt x="0" y="717"/>
                  </a:lnTo>
                  <a:lnTo>
                    <a:pt x="2" y="704"/>
                  </a:lnTo>
                  <a:lnTo>
                    <a:pt x="7" y="690"/>
                  </a:lnTo>
                  <a:lnTo>
                    <a:pt x="11" y="674"/>
                  </a:lnTo>
                  <a:lnTo>
                    <a:pt x="17" y="654"/>
                  </a:lnTo>
                  <a:lnTo>
                    <a:pt x="18" y="642"/>
                  </a:lnTo>
                  <a:lnTo>
                    <a:pt x="20" y="631"/>
                  </a:lnTo>
                  <a:lnTo>
                    <a:pt x="20" y="617"/>
                  </a:lnTo>
                  <a:lnTo>
                    <a:pt x="18" y="601"/>
                  </a:lnTo>
                  <a:lnTo>
                    <a:pt x="32" y="598"/>
                  </a:lnTo>
                  <a:lnTo>
                    <a:pt x="44" y="593"/>
                  </a:lnTo>
                  <a:lnTo>
                    <a:pt x="54" y="589"/>
                  </a:lnTo>
                  <a:lnTo>
                    <a:pt x="62" y="582"/>
                  </a:lnTo>
                  <a:lnTo>
                    <a:pt x="68" y="573"/>
                  </a:lnTo>
                  <a:lnTo>
                    <a:pt x="72" y="564"/>
                  </a:lnTo>
                  <a:lnTo>
                    <a:pt x="76" y="555"/>
                  </a:lnTo>
                  <a:lnTo>
                    <a:pt x="78" y="544"/>
                  </a:lnTo>
                  <a:lnTo>
                    <a:pt x="79" y="534"/>
                  </a:lnTo>
                  <a:lnTo>
                    <a:pt x="80" y="522"/>
                  </a:lnTo>
                  <a:lnTo>
                    <a:pt x="80" y="510"/>
                  </a:lnTo>
                  <a:lnTo>
                    <a:pt x="79" y="497"/>
                  </a:lnTo>
                  <a:lnTo>
                    <a:pt x="77" y="472"/>
                  </a:lnTo>
                  <a:lnTo>
                    <a:pt x="73" y="446"/>
                  </a:lnTo>
                  <a:lnTo>
                    <a:pt x="92" y="434"/>
                  </a:lnTo>
                  <a:lnTo>
                    <a:pt x="105" y="425"/>
                  </a:lnTo>
                  <a:lnTo>
                    <a:pt x="110" y="422"/>
                  </a:lnTo>
                  <a:lnTo>
                    <a:pt x="113" y="418"/>
                  </a:lnTo>
                  <a:lnTo>
                    <a:pt x="117" y="413"/>
                  </a:lnTo>
                  <a:lnTo>
                    <a:pt x="119" y="409"/>
                  </a:lnTo>
                  <a:lnTo>
                    <a:pt x="127" y="383"/>
                  </a:lnTo>
                  <a:lnTo>
                    <a:pt x="142" y="332"/>
                  </a:lnTo>
                  <a:lnTo>
                    <a:pt x="149" y="308"/>
                  </a:lnTo>
                  <a:lnTo>
                    <a:pt x="154" y="290"/>
                  </a:lnTo>
                  <a:lnTo>
                    <a:pt x="157" y="272"/>
                  </a:lnTo>
                  <a:lnTo>
                    <a:pt x="157" y="257"/>
                  </a:lnTo>
                  <a:lnTo>
                    <a:pt x="157" y="244"/>
                  </a:lnTo>
                  <a:lnTo>
                    <a:pt x="155" y="232"/>
                  </a:lnTo>
                  <a:lnTo>
                    <a:pt x="152" y="221"/>
                  </a:lnTo>
                  <a:lnTo>
                    <a:pt x="147" y="211"/>
                  </a:lnTo>
                  <a:lnTo>
                    <a:pt x="136" y="193"/>
                  </a:lnTo>
                  <a:lnTo>
                    <a:pt x="122" y="174"/>
                  </a:lnTo>
                  <a:lnTo>
                    <a:pt x="117" y="163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7" y="124"/>
                  </a:lnTo>
                  <a:lnTo>
                    <a:pt x="91" y="109"/>
                  </a:lnTo>
                  <a:lnTo>
                    <a:pt x="87" y="95"/>
                  </a:lnTo>
                  <a:lnTo>
                    <a:pt x="86" y="82"/>
                  </a:lnTo>
                  <a:lnTo>
                    <a:pt x="85" y="71"/>
                  </a:lnTo>
                  <a:lnTo>
                    <a:pt x="85" y="62"/>
                  </a:lnTo>
                  <a:lnTo>
                    <a:pt x="86" y="52"/>
                  </a:lnTo>
                  <a:lnTo>
                    <a:pt x="87" y="45"/>
                  </a:lnTo>
                  <a:lnTo>
                    <a:pt x="90" y="38"/>
                  </a:lnTo>
                  <a:lnTo>
                    <a:pt x="94" y="27"/>
                  </a:lnTo>
                  <a:lnTo>
                    <a:pt x="98" y="16"/>
                  </a:lnTo>
                  <a:lnTo>
                    <a:pt x="99" y="13"/>
                  </a:lnTo>
                  <a:lnTo>
                    <a:pt x="99" y="8"/>
                  </a:lnTo>
                  <a:lnTo>
                    <a:pt x="98" y="5"/>
                  </a:lnTo>
                  <a:lnTo>
                    <a:pt x="97" y="0"/>
                  </a:lnTo>
                  <a:lnTo>
                    <a:pt x="106" y="5"/>
                  </a:lnTo>
                  <a:lnTo>
                    <a:pt x="114" y="10"/>
                  </a:lnTo>
                  <a:lnTo>
                    <a:pt x="120" y="16"/>
                  </a:lnTo>
                  <a:lnTo>
                    <a:pt x="126" y="22"/>
                  </a:lnTo>
                  <a:lnTo>
                    <a:pt x="136" y="36"/>
                  </a:lnTo>
                  <a:lnTo>
                    <a:pt x="146" y="50"/>
                  </a:lnTo>
                  <a:lnTo>
                    <a:pt x="150" y="57"/>
                  </a:lnTo>
                  <a:lnTo>
                    <a:pt x="155" y="63"/>
                  </a:lnTo>
                  <a:lnTo>
                    <a:pt x="161" y="69"/>
                  </a:lnTo>
                  <a:lnTo>
                    <a:pt x="168" y="73"/>
                  </a:lnTo>
                  <a:lnTo>
                    <a:pt x="176" y="78"/>
                  </a:lnTo>
                  <a:lnTo>
                    <a:pt x="187" y="80"/>
                  </a:lnTo>
                  <a:lnTo>
                    <a:pt x="198" y="83"/>
                  </a:lnTo>
                  <a:lnTo>
                    <a:pt x="211" y="83"/>
                  </a:lnTo>
                  <a:lnTo>
                    <a:pt x="218" y="84"/>
                  </a:lnTo>
                  <a:lnTo>
                    <a:pt x="224" y="84"/>
                  </a:lnTo>
                  <a:lnTo>
                    <a:pt x="229" y="85"/>
                  </a:lnTo>
                  <a:lnTo>
                    <a:pt x="233" y="87"/>
                  </a:lnTo>
                  <a:lnTo>
                    <a:pt x="237" y="90"/>
                  </a:lnTo>
                  <a:lnTo>
                    <a:pt x="239" y="92"/>
                  </a:lnTo>
                  <a:lnTo>
                    <a:pt x="242" y="95"/>
                  </a:lnTo>
                  <a:lnTo>
                    <a:pt x="243" y="98"/>
                  </a:lnTo>
                  <a:lnTo>
                    <a:pt x="245" y="106"/>
                  </a:lnTo>
                  <a:lnTo>
                    <a:pt x="245" y="116"/>
                  </a:lnTo>
                  <a:lnTo>
                    <a:pt x="244" y="127"/>
                  </a:lnTo>
                  <a:lnTo>
                    <a:pt x="243" y="139"/>
                  </a:lnTo>
                  <a:lnTo>
                    <a:pt x="242" y="153"/>
                  </a:lnTo>
                  <a:lnTo>
                    <a:pt x="242" y="167"/>
                  </a:lnTo>
                  <a:lnTo>
                    <a:pt x="242" y="182"/>
                  </a:lnTo>
                  <a:lnTo>
                    <a:pt x="243" y="198"/>
                  </a:lnTo>
                  <a:lnTo>
                    <a:pt x="246" y="216"/>
                  </a:lnTo>
                  <a:lnTo>
                    <a:pt x="253" y="234"/>
                  </a:lnTo>
                  <a:lnTo>
                    <a:pt x="257" y="243"/>
                  </a:lnTo>
                  <a:lnTo>
                    <a:pt x="263" y="252"/>
                  </a:lnTo>
                  <a:lnTo>
                    <a:pt x="268" y="262"/>
                  </a:lnTo>
                  <a:lnTo>
                    <a:pt x="275" y="271"/>
                  </a:lnTo>
                  <a:lnTo>
                    <a:pt x="288" y="271"/>
                  </a:lnTo>
                  <a:lnTo>
                    <a:pt x="302" y="271"/>
                  </a:lnTo>
                  <a:lnTo>
                    <a:pt x="316" y="271"/>
                  </a:lnTo>
                  <a:lnTo>
                    <a:pt x="330" y="270"/>
                  </a:lnTo>
                  <a:lnTo>
                    <a:pt x="361" y="265"/>
                  </a:lnTo>
                  <a:lnTo>
                    <a:pt x="393" y="259"/>
                  </a:lnTo>
                  <a:lnTo>
                    <a:pt x="426" y="252"/>
                  </a:lnTo>
                  <a:lnTo>
                    <a:pt x="462" y="245"/>
                  </a:lnTo>
                  <a:lnTo>
                    <a:pt x="499" y="237"/>
                  </a:lnTo>
                  <a:lnTo>
                    <a:pt x="537" y="230"/>
                  </a:lnTo>
                  <a:lnTo>
                    <a:pt x="559" y="262"/>
                  </a:lnTo>
                  <a:lnTo>
                    <a:pt x="579" y="285"/>
                  </a:lnTo>
                  <a:lnTo>
                    <a:pt x="587" y="293"/>
                  </a:lnTo>
                  <a:lnTo>
                    <a:pt x="596" y="301"/>
                  </a:lnTo>
                  <a:lnTo>
                    <a:pt x="604" y="306"/>
                  </a:lnTo>
                  <a:lnTo>
                    <a:pt x="611" y="311"/>
                  </a:lnTo>
                  <a:lnTo>
                    <a:pt x="617" y="314"/>
                  </a:lnTo>
                  <a:lnTo>
                    <a:pt x="622" y="315"/>
                  </a:lnTo>
                  <a:lnTo>
                    <a:pt x="628" y="316"/>
                  </a:lnTo>
                  <a:lnTo>
                    <a:pt x="634" y="316"/>
                  </a:lnTo>
                  <a:lnTo>
                    <a:pt x="640" y="315"/>
                  </a:lnTo>
                  <a:lnTo>
                    <a:pt x="645" y="313"/>
                  </a:lnTo>
                  <a:lnTo>
                    <a:pt x="649" y="309"/>
                  </a:lnTo>
                  <a:lnTo>
                    <a:pt x="654" y="307"/>
                  </a:lnTo>
                  <a:lnTo>
                    <a:pt x="674" y="290"/>
                  </a:lnTo>
                  <a:lnTo>
                    <a:pt x="697" y="270"/>
                  </a:lnTo>
                  <a:lnTo>
                    <a:pt x="704" y="266"/>
                  </a:lnTo>
                  <a:lnTo>
                    <a:pt x="711" y="262"/>
                  </a:lnTo>
                  <a:lnTo>
                    <a:pt x="719" y="258"/>
                  </a:lnTo>
                  <a:lnTo>
                    <a:pt x="728" y="256"/>
                  </a:lnTo>
                  <a:lnTo>
                    <a:pt x="736" y="253"/>
                  </a:lnTo>
                  <a:lnTo>
                    <a:pt x="746" y="252"/>
                  </a:lnTo>
                  <a:lnTo>
                    <a:pt x="757" y="252"/>
                  </a:lnTo>
                  <a:lnTo>
                    <a:pt x="767" y="253"/>
                  </a:lnTo>
                  <a:lnTo>
                    <a:pt x="807" y="258"/>
                  </a:lnTo>
                  <a:lnTo>
                    <a:pt x="834" y="260"/>
                  </a:lnTo>
                  <a:lnTo>
                    <a:pt x="854" y="262"/>
                  </a:lnTo>
                  <a:lnTo>
                    <a:pt x="867" y="260"/>
                  </a:lnTo>
                  <a:lnTo>
                    <a:pt x="878" y="260"/>
                  </a:lnTo>
                  <a:lnTo>
                    <a:pt x="891" y="259"/>
                  </a:lnTo>
                  <a:lnTo>
                    <a:pt x="907" y="260"/>
                  </a:lnTo>
                  <a:lnTo>
                    <a:pt x="932" y="262"/>
                  </a:lnTo>
                  <a:lnTo>
                    <a:pt x="924" y="270"/>
                  </a:lnTo>
                  <a:lnTo>
                    <a:pt x="916" y="280"/>
                  </a:lnTo>
                  <a:lnTo>
                    <a:pt x="907" y="293"/>
                  </a:lnTo>
                  <a:lnTo>
                    <a:pt x="898" y="308"/>
                  </a:lnTo>
                  <a:lnTo>
                    <a:pt x="878" y="343"/>
                  </a:lnTo>
                  <a:lnTo>
                    <a:pt x="858" y="382"/>
                  </a:lnTo>
                  <a:lnTo>
                    <a:pt x="836" y="423"/>
                  </a:lnTo>
                  <a:lnTo>
                    <a:pt x="814" y="462"/>
                  </a:lnTo>
                  <a:lnTo>
                    <a:pt x="802" y="480"/>
                  </a:lnTo>
                  <a:lnTo>
                    <a:pt x="791" y="496"/>
                  </a:lnTo>
                  <a:lnTo>
                    <a:pt x="779" y="512"/>
                  </a:lnTo>
                  <a:lnTo>
                    <a:pt x="767" y="524"/>
                  </a:lnTo>
                  <a:lnTo>
                    <a:pt x="763" y="530"/>
                  </a:lnTo>
                  <a:lnTo>
                    <a:pt x="758" y="538"/>
                  </a:lnTo>
                  <a:lnTo>
                    <a:pt x="753" y="547"/>
                  </a:lnTo>
                  <a:lnTo>
                    <a:pt x="750" y="556"/>
                  </a:lnTo>
                  <a:lnTo>
                    <a:pt x="744" y="577"/>
                  </a:lnTo>
                  <a:lnTo>
                    <a:pt x="738" y="600"/>
                  </a:lnTo>
                  <a:lnTo>
                    <a:pt x="731" y="652"/>
                  </a:lnTo>
                  <a:lnTo>
                    <a:pt x="724" y="708"/>
                  </a:lnTo>
                  <a:lnTo>
                    <a:pt x="719" y="736"/>
                  </a:lnTo>
                  <a:lnTo>
                    <a:pt x="713" y="764"/>
                  </a:lnTo>
                  <a:lnTo>
                    <a:pt x="710" y="777"/>
                  </a:lnTo>
                  <a:lnTo>
                    <a:pt x="706" y="790"/>
                  </a:lnTo>
                  <a:lnTo>
                    <a:pt x="702" y="802"/>
                  </a:lnTo>
                  <a:lnTo>
                    <a:pt x="697" y="814"/>
                  </a:lnTo>
                  <a:lnTo>
                    <a:pt x="691" y="825"/>
                  </a:lnTo>
                  <a:lnTo>
                    <a:pt x="684" y="835"/>
                  </a:lnTo>
                  <a:lnTo>
                    <a:pt x="677" y="846"/>
                  </a:lnTo>
                  <a:lnTo>
                    <a:pt x="670" y="855"/>
                  </a:lnTo>
                  <a:lnTo>
                    <a:pt x="661" y="863"/>
                  </a:lnTo>
                  <a:lnTo>
                    <a:pt x="652" y="870"/>
                  </a:lnTo>
                  <a:lnTo>
                    <a:pt x="641" y="876"/>
                  </a:lnTo>
                  <a:lnTo>
                    <a:pt x="629" y="881"/>
                  </a:lnTo>
                  <a:lnTo>
                    <a:pt x="597" y="891"/>
                  </a:lnTo>
                  <a:lnTo>
                    <a:pt x="566" y="900"/>
                  </a:lnTo>
                  <a:lnTo>
                    <a:pt x="537" y="907"/>
                  </a:lnTo>
                  <a:lnTo>
                    <a:pt x="509" y="913"/>
                  </a:lnTo>
                  <a:lnTo>
                    <a:pt x="482" y="918"/>
                  </a:lnTo>
                  <a:lnTo>
                    <a:pt x="458" y="922"/>
                  </a:lnTo>
                  <a:lnTo>
                    <a:pt x="433" y="924"/>
                  </a:lnTo>
                  <a:lnTo>
                    <a:pt x="410" y="925"/>
                  </a:lnTo>
                  <a:lnTo>
                    <a:pt x="388" y="925"/>
                  </a:lnTo>
                  <a:lnTo>
                    <a:pt x="367" y="924"/>
                  </a:lnTo>
                  <a:lnTo>
                    <a:pt x="347" y="922"/>
                  </a:lnTo>
                  <a:lnTo>
                    <a:pt x="328" y="919"/>
                  </a:lnTo>
                  <a:lnTo>
                    <a:pt x="309" y="916"/>
                  </a:lnTo>
                  <a:lnTo>
                    <a:pt x="292" y="912"/>
                  </a:lnTo>
                  <a:lnTo>
                    <a:pt x="275" y="907"/>
                  </a:lnTo>
                  <a:lnTo>
                    <a:pt x="260" y="903"/>
                  </a:lnTo>
                  <a:lnTo>
                    <a:pt x="231" y="892"/>
                  </a:lnTo>
                  <a:lnTo>
                    <a:pt x="205" y="882"/>
                  </a:lnTo>
                  <a:lnTo>
                    <a:pt x="181" y="871"/>
                  </a:lnTo>
                  <a:lnTo>
                    <a:pt x="160" y="861"/>
                  </a:lnTo>
                  <a:lnTo>
                    <a:pt x="140" y="851"/>
                  </a:lnTo>
                  <a:lnTo>
                    <a:pt x="121" y="846"/>
                  </a:lnTo>
                  <a:lnTo>
                    <a:pt x="113" y="843"/>
                  </a:lnTo>
                  <a:lnTo>
                    <a:pt x="104" y="841"/>
                  </a:lnTo>
                  <a:lnTo>
                    <a:pt x="96" y="841"/>
                  </a:lnTo>
                  <a:lnTo>
                    <a:pt x="87" y="841"/>
                  </a:lnTo>
                  <a:lnTo>
                    <a:pt x="73" y="839"/>
                  </a:lnTo>
                  <a:lnTo>
                    <a:pt x="61" y="835"/>
                  </a:lnTo>
                  <a:lnTo>
                    <a:pt x="50" y="830"/>
                  </a:lnTo>
                  <a:lnTo>
                    <a:pt x="39" y="825"/>
                  </a:lnTo>
                  <a:lnTo>
                    <a:pt x="30" y="819"/>
                  </a:lnTo>
                  <a:lnTo>
                    <a:pt x="23" y="812"/>
                  </a:lnTo>
                  <a:lnTo>
                    <a:pt x="16" y="804"/>
                  </a:lnTo>
                  <a:lnTo>
                    <a:pt x="11" y="795"/>
                  </a:lnTo>
                  <a:lnTo>
                    <a:pt x="7" y="788"/>
                  </a:lnTo>
                  <a:lnTo>
                    <a:pt x="4" y="780"/>
                  </a:lnTo>
                  <a:lnTo>
                    <a:pt x="2" y="772"/>
                  </a:lnTo>
                  <a:lnTo>
                    <a:pt x="1" y="764"/>
                  </a:lnTo>
                  <a:lnTo>
                    <a:pt x="2" y="757"/>
                  </a:lnTo>
                  <a:lnTo>
                    <a:pt x="3" y="751"/>
                  </a:lnTo>
                  <a:lnTo>
                    <a:pt x="6" y="745"/>
                  </a:lnTo>
                  <a:lnTo>
                    <a:pt x="10" y="74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126"/>
            <p:cNvSpPr/>
            <p:nvPr/>
          </p:nvSpPr>
          <p:spPr>
            <a:xfrm>
              <a:off x="8112240" y="5486400"/>
              <a:ext cx="140760" cy="1508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32" h="925">
                  <a:moveTo>
                    <a:pt x="10" y="740"/>
                  </a:moveTo>
                  <a:lnTo>
                    <a:pt x="6" y="735"/>
                  </a:lnTo>
                  <a:lnTo>
                    <a:pt x="2" y="729"/>
                  </a:lnTo>
                  <a:lnTo>
                    <a:pt x="1" y="723"/>
                  </a:lnTo>
                  <a:lnTo>
                    <a:pt x="0" y="717"/>
                  </a:lnTo>
                  <a:lnTo>
                    <a:pt x="2" y="704"/>
                  </a:lnTo>
                  <a:lnTo>
                    <a:pt x="7" y="690"/>
                  </a:lnTo>
                  <a:lnTo>
                    <a:pt x="11" y="674"/>
                  </a:lnTo>
                  <a:lnTo>
                    <a:pt x="17" y="654"/>
                  </a:lnTo>
                  <a:lnTo>
                    <a:pt x="18" y="642"/>
                  </a:lnTo>
                  <a:lnTo>
                    <a:pt x="20" y="631"/>
                  </a:lnTo>
                  <a:lnTo>
                    <a:pt x="20" y="617"/>
                  </a:lnTo>
                  <a:lnTo>
                    <a:pt x="18" y="601"/>
                  </a:lnTo>
                  <a:lnTo>
                    <a:pt x="32" y="598"/>
                  </a:lnTo>
                  <a:lnTo>
                    <a:pt x="44" y="593"/>
                  </a:lnTo>
                  <a:lnTo>
                    <a:pt x="54" y="589"/>
                  </a:lnTo>
                  <a:lnTo>
                    <a:pt x="62" y="582"/>
                  </a:lnTo>
                  <a:lnTo>
                    <a:pt x="68" y="573"/>
                  </a:lnTo>
                  <a:lnTo>
                    <a:pt x="72" y="564"/>
                  </a:lnTo>
                  <a:lnTo>
                    <a:pt x="76" y="555"/>
                  </a:lnTo>
                  <a:lnTo>
                    <a:pt x="78" y="544"/>
                  </a:lnTo>
                  <a:lnTo>
                    <a:pt x="79" y="534"/>
                  </a:lnTo>
                  <a:lnTo>
                    <a:pt x="80" y="522"/>
                  </a:lnTo>
                  <a:lnTo>
                    <a:pt x="80" y="510"/>
                  </a:lnTo>
                  <a:lnTo>
                    <a:pt x="79" y="497"/>
                  </a:lnTo>
                  <a:lnTo>
                    <a:pt x="77" y="472"/>
                  </a:lnTo>
                  <a:lnTo>
                    <a:pt x="73" y="446"/>
                  </a:lnTo>
                  <a:lnTo>
                    <a:pt x="92" y="434"/>
                  </a:lnTo>
                  <a:lnTo>
                    <a:pt x="105" y="425"/>
                  </a:lnTo>
                  <a:lnTo>
                    <a:pt x="110" y="422"/>
                  </a:lnTo>
                  <a:lnTo>
                    <a:pt x="113" y="418"/>
                  </a:lnTo>
                  <a:lnTo>
                    <a:pt x="117" y="413"/>
                  </a:lnTo>
                  <a:lnTo>
                    <a:pt x="119" y="409"/>
                  </a:lnTo>
                  <a:lnTo>
                    <a:pt x="127" y="383"/>
                  </a:lnTo>
                  <a:lnTo>
                    <a:pt x="142" y="332"/>
                  </a:lnTo>
                  <a:lnTo>
                    <a:pt x="149" y="308"/>
                  </a:lnTo>
                  <a:lnTo>
                    <a:pt x="154" y="290"/>
                  </a:lnTo>
                  <a:lnTo>
                    <a:pt x="157" y="272"/>
                  </a:lnTo>
                  <a:lnTo>
                    <a:pt x="157" y="257"/>
                  </a:lnTo>
                  <a:lnTo>
                    <a:pt x="157" y="244"/>
                  </a:lnTo>
                  <a:lnTo>
                    <a:pt x="155" y="232"/>
                  </a:lnTo>
                  <a:lnTo>
                    <a:pt x="152" y="221"/>
                  </a:lnTo>
                  <a:lnTo>
                    <a:pt x="147" y="211"/>
                  </a:lnTo>
                  <a:lnTo>
                    <a:pt x="136" y="193"/>
                  </a:lnTo>
                  <a:lnTo>
                    <a:pt x="122" y="174"/>
                  </a:lnTo>
                  <a:lnTo>
                    <a:pt x="117" y="163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7" y="124"/>
                  </a:lnTo>
                  <a:lnTo>
                    <a:pt x="91" y="109"/>
                  </a:lnTo>
                  <a:lnTo>
                    <a:pt x="87" y="95"/>
                  </a:lnTo>
                  <a:lnTo>
                    <a:pt x="86" y="82"/>
                  </a:lnTo>
                  <a:lnTo>
                    <a:pt x="85" y="71"/>
                  </a:lnTo>
                  <a:lnTo>
                    <a:pt x="85" y="62"/>
                  </a:lnTo>
                  <a:lnTo>
                    <a:pt x="86" y="52"/>
                  </a:lnTo>
                  <a:lnTo>
                    <a:pt x="87" y="45"/>
                  </a:lnTo>
                  <a:lnTo>
                    <a:pt x="90" y="38"/>
                  </a:lnTo>
                  <a:lnTo>
                    <a:pt x="94" y="27"/>
                  </a:lnTo>
                  <a:lnTo>
                    <a:pt x="98" y="16"/>
                  </a:lnTo>
                  <a:lnTo>
                    <a:pt x="99" y="13"/>
                  </a:lnTo>
                  <a:lnTo>
                    <a:pt x="99" y="8"/>
                  </a:lnTo>
                  <a:lnTo>
                    <a:pt x="98" y="5"/>
                  </a:lnTo>
                  <a:lnTo>
                    <a:pt x="97" y="0"/>
                  </a:lnTo>
                  <a:lnTo>
                    <a:pt x="106" y="5"/>
                  </a:lnTo>
                  <a:lnTo>
                    <a:pt x="114" y="10"/>
                  </a:lnTo>
                  <a:lnTo>
                    <a:pt x="120" y="16"/>
                  </a:lnTo>
                  <a:lnTo>
                    <a:pt x="126" y="22"/>
                  </a:lnTo>
                  <a:lnTo>
                    <a:pt x="136" y="36"/>
                  </a:lnTo>
                  <a:lnTo>
                    <a:pt x="146" y="50"/>
                  </a:lnTo>
                  <a:lnTo>
                    <a:pt x="150" y="57"/>
                  </a:lnTo>
                  <a:lnTo>
                    <a:pt x="155" y="63"/>
                  </a:lnTo>
                  <a:lnTo>
                    <a:pt x="161" y="69"/>
                  </a:lnTo>
                  <a:lnTo>
                    <a:pt x="168" y="73"/>
                  </a:lnTo>
                  <a:lnTo>
                    <a:pt x="176" y="78"/>
                  </a:lnTo>
                  <a:lnTo>
                    <a:pt x="187" y="80"/>
                  </a:lnTo>
                  <a:lnTo>
                    <a:pt x="198" y="83"/>
                  </a:lnTo>
                  <a:lnTo>
                    <a:pt x="211" y="83"/>
                  </a:lnTo>
                  <a:lnTo>
                    <a:pt x="218" y="84"/>
                  </a:lnTo>
                  <a:lnTo>
                    <a:pt x="224" y="84"/>
                  </a:lnTo>
                  <a:lnTo>
                    <a:pt x="229" y="85"/>
                  </a:lnTo>
                  <a:lnTo>
                    <a:pt x="233" y="87"/>
                  </a:lnTo>
                  <a:lnTo>
                    <a:pt x="237" y="90"/>
                  </a:lnTo>
                  <a:lnTo>
                    <a:pt x="239" y="92"/>
                  </a:lnTo>
                  <a:lnTo>
                    <a:pt x="242" y="95"/>
                  </a:lnTo>
                  <a:lnTo>
                    <a:pt x="243" y="98"/>
                  </a:lnTo>
                  <a:lnTo>
                    <a:pt x="245" y="106"/>
                  </a:lnTo>
                  <a:lnTo>
                    <a:pt x="245" y="116"/>
                  </a:lnTo>
                  <a:lnTo>
                    <a:pt x="244" y="127"/>
                  </a:lnTo>
                  <a:lnTo>
                    <a:pt x="243" y="139"/>
                  </a:lnTo>
                  <a:lnTo>
                    <a:pt x="242" y="153"/>
                  </a:lnTo>
                  <a:lnTo>
                    <a:pt x="242" y="167"/>
                  </a:lnTo>
                  <a:lnTo>
                    <a:pt x="242" y="182"/>
                  </a:lnTo>
                  <a:lnTo>
                    <a:pt x="243" y="198"/>
                  </a:lnTo>
                  <a:lnTo>
                    <a:pt x="246" y="216"/>
                  </a:lnTo>
                  <a:lnTo>
                    <a:pt x="253" y="234"/>
                  </a:lnTo>
                  <a:lnTo>
                    <a:pt x="257" y="243"/>
                  </a:lnTo>
                  <a:lnTo>
                    <a:pt x="263" y="252"/>
                  </a:lnTo>
                  <a:lnTo>
                    <a:pt x="268" y="262"/>
                  </a:lnTo>
                  <a:lnTo>
                    <a:pt x="275" y="271"/>
                  </a:lnTo>
                  <a:lnTo>
                    <a:pt x="288" y="271"/>
                  </a:lnTo>
                  <a:lnTo>
                    <a:pt x="302" y="271"/>
                  </a:lnTo>
                  <a:lnTo>
                    <a:pt x="316" y="271"/>
                  </a:lnTo>
                  <a:lnTo>
                    <a:pt x="330" y="270"/>
                  </a:lnTo>
                  <a:lnTo>
                    <a:pt x="361" y="265"/>
                  </a:lnTo>
                  <a:lnTo>
                    <a:pt x="393" y="259"/>
                  </a:lnTo>
                  <a:lnTo>
                    <a:pt x="426" y="252"/>
                  </a:lnTo>
                  <a:lnTo>
                    <a:pt x="462" y="245"/>
                  </a:lnTo>
                  <a:lnTo>
                    <a:pt x="499" y="237"/>
                  </a:lnTo>
                  <a:lnTo>
                    <a:pt x="537" y="230"/>
                  </a:lnTo>
                  <a:lnTo>
                    <a:pt x="559" y="262"/>
                  </a:lnTo>
                  <a:lnTo>
                    <a:pt x="579" y="285"/>
                  </a:lnTo>
                  <a:lnTo>
                    <a:pt x="587" y="293"/>
                  </a:lnTo>
                  <a:lnTo>
                    <a:pt x="596" y="301"/>
                  </a:lnTo>
                  <a:lnTo>
                    <a:pt x="604" y="306"/>
                  </a:lnTo>
                  <a:lnTo>
                    <a:pt x="611" y="311"/>
                  </a:lnTo>
                  <a:lnTo>
                    <a:pt x="617" y="314"/>
                  </a:lnTo>
                  <a:lnTo>
                    <a:pt x="622" y="315"/>
                  </a:lnTo>
                  <a:lnTo>
                    <a:pt x="628" y="316"/>
                  </a:lnTo>
                  <a:lnTo>
                    <a:pt x="634" y="316"/>
                  </a:lnTo>
                  <a:lnTo>
                    <a:pt x="640" y="315"/>
                  </a:lnTo>
                  <a:lnTo>
                    <a:pt x="645" y="313"/>
                  </a:lnTo>
                  <a:lnTo>
                    <a:pt x="649" y="309"/>
                  </a:lnTo>
                  <a:lnTo>
                    <a:pt x="654" y="307"/>
                  </a:lnTo>
                  <a:lnTo>
                    <a:pt x="674" y="290"/>
                  </a:lnTo>
                  <a:lnTo>
                    <a:pt x="697" y="270"/>
                  </a:lnTo>
                  <a:lnTo>
                    <a:pt x="704" y="266"/>
                  </a:lnTo>
                  <a:lnTo>
                    <a:pt x="711" y="262"/>
                  </a:lnTo>
                  <a:lnTo>
                    <a:pt x="719" y="258"/>
                  </a:lnTo>
                  <a:lnTo>
                    <a:pt x="728" y="256"/>
                  </a:lnTo>
                  <a:lnTo>
                    <a:pt x="736" y="253"/>
                  </a:lnTo>
                  <a:lnTo>
                    <a:pt x="746" y="252"/>
                  </a:lnTo>
                  <a:lnTo>
                    <a:pt x="757" y="252"/>
                  </a:lnTo>
                  <a:lnTo>
                    <a:pt x="767" y="253"/>
                  </a:lnTo>
                  <a:lnTo>
                    <a:pt x="807" y="258"/>
                  </a:lnTo>
                  <a:lnTo>
                    <a:pt x="834" y="260"/>
                  </a:lnTo>
                  <a:lnTo>
                    <a:pt x="854" y="262"/>
                  </a:lnTo>
                  <a:lnTo>
                    <a:pt x="867" y="260"/>
                  </a:lnTo>
                  <a:lnTo>
                    <a:pt x="878" y="260"/>
                  </a:lnTo>
                  <a:lnTo>
                    <a:pt x="891" y="259"/>
                  </a:lnTo>
                  <a:lnTo>
                    <a:pt x="907" y="260"/>
                  </a:lnTo>
                  <a:lnTo>
                    <a:pt x="932" y="262"/>
                  </a:lnTo>
                  <a:lnTo>
                    <a:pt x="924" y="270"/>
                  </a:lnTo>
                  <a:lnTo>
                    <a:pt x="916" y="280"/>
                  </a:lnTo>
                  <a:lnTo>
                    <a:pt x="907" y="293"/>
                  </a:lnTo>
                  <a:lnTo>
                    <a:pt x="898" y="308"/>
                  </a:lnTo>
                  <a:lnTo>
                    <a:pt x="878" y="343"/>
                  </a:lnTo>
                  <a:lnTo>
                    <a:pt x="858" y="382"/>
                  </a:lnTo>
                  <a:lnTo>
                    <a:pt x="836" y="423"/>
                  </a:lnTo>
                  <a:lnTo>
                    <a:pt x="814" y="462"/>
                  </a:lnTo>
                  <a:lnTo>
                    <a:pt x="802" y="480"/>
                  </a:lnTo>
                  <a:lnTo>
                    <a:pt x="791" y="496"/>
                  </a:lnTo>
                  <a:lnTo>
                    <a:pt x="779" y="512"/>
                  </a:lnTo>
                  <a:lnTo>
                    <a:pt x="767" y="524"/>
                  </a:lnTo>
                  <a:lnTo>
                    <a:pt x="763" y="530"/>
                  </a:lnTo>
                  <a:lnTo>
                    <a:pt x="758" y="538"/>
                  </a:lnTo>
                  <a:lnTo>
                    <a:pt x="753" y="547"/>
                  </a:lnTo>
                  <a:lnTo>
                    <a:pt x="750" y="556"/>
                  </a:lnTo>
                  <a:lnTo>
                    <a:pt x="744" y="577"/>
                  </a:lnTo>
                  <a:lnTo>
                    <a:pt x="738" y="600"/>
                  </a:lnTo>
                  <a:lnTo>
                    <a:pt x="731" y="652"/>
                  </a:lnTo>
                  <a:lnTo>
                    <a:pt x="724" y="708"/>
                  </a:lnTo>
                  <a:lnTo>
                    <a:pt x="719" y="736"/>
                  </a:lnTo>
                  <a:lnTo>
                    <a:pt x="713" y="764"/>
                  </a:lnTo>
                  <a:lnTo>
                    <a:pt x="710" y="777"/>
                  </a:lnTo>
                  <a:lnTo>
                    <a:pt x="706" y="790"/>
                  </a:lnTo>
                  <a:lnTo>
                    <a:pt x="702" y="802"/>
                  </a:lnTo>
                  <a:lnTo>
                    <a:pt x="697" y="814"/>
                  </a:lnTo>
                  <a:lnTo>
                    <a:pt x="691" y="825"/>
                  </a:lnTo>
                  <a:lnTo>
                    <a:pt x="684" y="835"/>
                  </a:lnTo>
                  <a:lnTo>
                    <a:pt x="677" y="846"/>
                  </a:lnTo>
                  <a:lnTo>
                    <a:pt x="670" y="855"/>
                  </a:lnTo>
                  <a:lnTo>
                    <a:pt x="661" y="863"/>
                  </a:lnTo>
                  <a:lnTo>
                    <a:pt x="652" y="870"/>
                  </a:lnTo>
                  <a:lnTo>
                    <a:pt x="641" y="876"/>
                  </a:lnTo>
                  <a:lnTo>
                    <a:pt x="629" y="881"/>
                  </a:lnTo>
                  <a:lnTo>
                    <a:pt x="597" y="891"/>
                  </a:lnTo>
                  <a:lnTo>
                    <a:pt x="566" y="900"/>
                  </a:lnTo>
                  <a:lnTo>
                    <a:pt x="537" y="907"/>
                  </a:lnTo>
                  <a:lnTo>
                    <a:pt x="509" y="913"/>
                  </a:lnTo>
                  <a:lnTo>
                    <a:pt x="482" y="918"/>
                  </a:lnTo>
                  <a:lnTo>
                    <a:pt x="458" y="922"/>
                  </a:lnTo>
                  <a:lnTo>
                    <a:pt x="433" y="924"/>
                  </a:lnTo>
                  <a:lnTo>
                    <a:pt x="410" y="925"/>
                  </a:lnTo>
                  <a:lnTo>
                    <a:pt x="388" y="925"/>
                  </a:lnTo>
                  <a:lnTo>
                    <a:pt x="367" y="924"/>
                  </a:lnTo>
                  <a:lnTo>
                    <a:pt x="347" y="922"/>
                  </a:lnTo>
                  <a:lnTo>
                    <a:pt x="328" y="919"/>
                  </a:lnTo>
                  <a:lnTo>
                    <a:pt x="309" y="916"/>
                  </a:lnTo>
                  <a:lnTo>
                    <a:pt x="292" y="912"/>
                  </a:lnTo>
                  <a:lnTo>
                    <a:pt x="275" y="907"/>
                  </a:lnTo>
                  <a:lnTo>
                    <a:pt x="260" y="903"/>
                  </a:lnTo>
                  <a:lnTo>
                    <a:pt x="231" y="892"/>
                  </a:lnTo>
                  <a:lnTo>
                    <a:pt x="205" y="882"/>
                  </a:lnTo>
                  <a:lnTo>
                    <a:pt x="181" y="871"/>
                  </a:lnTo>
                  <a:lnTo>
                    <a:pt x="160" y="861"/>
                  </a:lnTo>
                  <a:lnTo>
                    <a:pt x="140" y="851"/>
                  </a:lnTo>
                  <a:lnTo>
                    <a:pt x="121" y="846"/>
                  </a:lnTo>
                  <a:lnTo>
                    <a:pt x="113" y="843"/>
                  </a:lnTo>
                  <a:lnTo>
                    <a:pt x="104" y="841"/>
                  </a:lnTo>
                  <a:lnTo>
                    <a:pt x="96" y="841"/>
                  </a:lnTo>
                  <a:lnTo>
                    <a:pt x="87" y="841"/>
                  </a:lnTo>
                  <a:lnTo>
                    <a:pt x="73" y="839"/>
                  </a:lnTo>
                  <a:lnTo>
                    <a:pt x="61" y="835"/>
                  </a:lnTo>
                  <a:lnTo>
                    <a:pt x="50" y="830"/>
                  </a:lnTo>
                  <a:lnTo>
                    <a:pt x="39" y="825"/>
                  </a:lnTo>
                  <a:lnTo>
                    <a:pt x="30" y="819"/>
                  </a:lnTo>
                  <a:lnTo>
                    <a:pt x="23" y="812"/>
                  </a:lnTo>
                  <a:lnTo>
                    <a:pt x="16" y="804"/>
                  </a:lnTo>
                  <a:lnTo>
                    <a:pt x="11" y="795"/>
                  </a:lnTo>
                  <a:lnTo>
                    <a:pt x="7" y="788"/>
                  </a:lnTo>
                  <a:lnTo>
                    <a:pt x="4" y="780"/>
                  </a:lnTo>
                  <a:lnTo>
                    <a:pt x="2" y="772"/>
                  </a:lnTo>
                  <a:lnTo>
                    <a:pt x="1" y="764"/>
                  </a:lnTo>
                  <a:lnTo>
                    <a:pt x="2" y="757"/>
                  </a:lnTo>
                  <a:lnTo>
                    <a:pt x="3" y="751"/>
                  </a:lnTo>
                  <a:lnTo>
                    <a:pt x="6" y="745"/>
                  </a:lnTo>
                  <a:lnTo>
                    <a:pt x="10" y="74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Freeform 127"/>
            <p:cNvSpPr/>
            <p:nvPr/>
          </p:nvSpPr>
          <p:spPr>
            <a:xfrm>
              <a:off x="8110800" y="5418000"/>
              <a:ext cx="235800" cy="1108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568" h="689">
                  <a:moveTo>
                    <a:pt x="548" y="648"/>
                  </a:moveTo>
                  <a:lnTo>
                    <a:pt x="508" y="655"/>
                  </a:lnTo>
                  <a:lnTo>
                    <a:pt x="471" y="663"/>
                  </a:lnTo>
                  <a:lnTo>
                    <a:pt x="435" y="670"/>
                  </a:lnTo>
                  <a:lnTo>
                    <a:pt x="402" y="677"/>
                  </a:lnTo>
                  <a:lnTo>
                    <a:pt x="371" y="683"/>
                  </a:lnTo>
                  <a:lnTo>
                    <a:pt x="340" y="688"/>
                  </a:lnTo>
                  <a:lnTo>
                    <a:pt x="326" y="689"/>
                  </a:lnTo>
                  <a:lnTo>
                    <a:pt x="312" y="689"/>
                  </a:lnTo>
                  <a:lnTo>
                    <a:pt x="299" y="689"/>
                  </a:lnTo>
                  <a:lnTo>
                    <a:pt x="286" y="689"/>
                  </a:lnTo>
                  <a:lnTo>
                    <a:pt x="279" y="680"/>
                  </a:lnTo>
                  <a:lnTo>
                    <a:pt x="274" y="670"/>
                  </a:lnTo>
                  <a:lnTo>
                    <a:pt x="268" y="661"/>
                  </a:lnTo>
                  <a:lnTo>
                    <a:pt x="264" y="652"/>
                  </a:lnTo>
                  <a:lnTo>
                    <a:pt x="257" y="634"/>
                  </a:lnTo>
                  <a:lnTo>
                    <a:pt x="254" y="616"/>
                  </a:lnTo>
                  <a:lnTo>
                    <a:pt x="253" y="600"/>
                  </a:lnTo>
                  <a:lnTo>
                    <a:pt x="253" y="585"/>
                  </a:lnTo>
                  <a:lnTo>
                    <a:pt x="253" y="571"/>
                  </a:lnTo>
                  <a:lnTo>
                    <a:pt x="254" y="557"/>
                  </a:lnTo>
                  <a:lnTo>
                    <a:pt x="255" y="545"/>
                  </a:lnTo>
                  <a:lnTo>
                    <a:pt x="256" y="534"/>
                  </a:lnTo>
                  <a:lnTo>
                    <a:pt x="256" y="524"/>
                  </a:lnTo>
                  <a:lnTo>
                    <a:pt x="254" y="516"/>
                  </a:lnTo>
                  <a:lnTo>
                    <a:pt x="253" y="513"/>
                  </a:lnTo>
                  <a:lnTo>
                    <a:pt x="250" y="510"/>
                  </a:lnTo>
                  <a:lnTo>
                    <a:pt x="248" y="508"/>
                  </a:lnTo>
                  <a:lnTo>
                    <a:pt x="244" y="505"/>
                  </a:lnTo>
                  <a:lnTo>
                    <a:pt x="240" y="503"/>
                  </a:lnTo>
                  <a:lnTo>
                    <a:pt x="235" y="502"/>
                  </a:lnTo>
                  <a:lnTo>
                    <a:pt x="229" y="502"/>
                  </a:lnTo>
                  <a:lnTo>
                    <a:pt x="222" y="501"/>
                  </a:lnTo>
                  <a:lnTo>
                    <a:pt x="209" y="501"/>
                  </a:lnTo>
                  <a:lnTo>
                    <a:pt x="198" y="498"/>
                  </a:lnTo>
                  <a:lnTo>
                    <a:pt x="187" y="496"/>
                  </a:lnTo>
                  <a:lnTo>
                    <a:pt x="179" y="491"/>
                  </a:lnTo>
                  <a:lnTo>
                    <a:pt x="172" y="487"/>
                  </a:lnTo>
                  <a:lnTo>
                    <a:pt x="166" y="481"/>
                  </a:lnTo>
                  <a:lnTo>
                    <a:pt x="161" y="475"/>
                  </a:lnTo>
                  <a:lnTo>
                    <a:pt x="157" y="468"/>
                  </a:lnTo>
                  <a:lnTo>
                    <a:pt x="147" y="454"/>
                  </a:lnTo>
                  <a:lnTo>
                    <a:pt x="137" y="440"/>
                  </a:lnTo>
                  <a:lnTo>
                    <a:pt x="131" y="434"/>
                  </a:lnTo>
                  <a:lnTo>
                    <a:pt x="125" y="428"/>
                  </a:lnTo>
                  <a:lnTo>
                    <a:pt x="117" y="423"/>
                  </a:lnTo>
                  <a:lnTo>
                    <a:pt x="108" y="418"/>
                  </a:lnTo>
                  <a:lnTo>
                    <a:pt x="90" y="391"/>
                  </a:lnTo>
                  <a:lnTo>
                    <a:pt x="77" y="369"/>
                  </a:lnTo>
                  <a:lnTo>
                    <a:pt x="68" y="349"/>
                  </a:lnTo>
                  <a:lnTo>
                    <a:pt x="60" y="331"/>
                  </a:lnTo>
                  <a:lnTo>
                    <a:pt x="55" y="317"/>
                  </a:lnTo>
                  <a:lnTo>
                    <a:pt x="52" y="303"/>
                  </a:lnTo>
                  <a:lnTo>
                    <a:pt x="50" y="291"/>
                  </a:lnTo>
                  <a:lnTo>
                    <a:pt x="48" y="279"/>
                  </a:lnTo>
                  <a:lnTo>
                    <a:pt x="47" y="266"/>
                  </a:lnTo>
                  <a:lnTo>
                    <a:pt x="46" y="253"/>
                  </a:lnTo>
                  <a:lnTo>
                    <a:pt x="43" y="239"/>
                  </a:lnTo>
                  <a:lnTo>
                    <a:pt x="40" y="223"/>
                  </a:lnTo>
                  <a:lnTo>
                    <a:pt x="34" y="204"/>
                  </a:lnTo>
                  <a:lnTo>
                    <a:pt x="26" y="182"/>
                  </a:lnTo>
                  <a:lnTo>
                    <a:pt x="15" y="156"/>
                  </a:lnTo>
                  <a:lnTo>
                    <a:pt x="0" y="127"/>
                  </a:lnTo>
                  <a:lnTo>
                    <a:pt x="18" y="114"/>
                  </a:lnTo>
                  <a:lnTo>
                    <a:pt x="33" y="100"/>
                  </a:lnTo>
                  <a:lnTo>
                    <a:pt x="49" y="87"/>
                  </a:lnTo>
                  <a:lnTo>
                    <a:pt x="65" y="72"/>
                  </a:lnTo>
                  <a:lnTo>
                    <a:pt x="73" y="139"/>
                  </a:lnTo>
                  <a:lnTo>
                    <a:pt x="83" y="138"/>
                  </a:lnTo>
                  <a:lnTo>
                    <a:pt x="111" y="134"/>
                  </a:lnTo>
                  <a:lnTo>
                    <a:pt x="154" y="129"/>
                  </a:lnTo>
                  <a:lnTo>
                    <a:pt x="212" y="122"/>
                  </a:lnTo>
                  <a:lnTo>
                    <a:pt x="281" y="114"/>
                  </a:lnTo>
                  <a:lnTo>
                    <a:pt x="357" y="105"/>
                  </a:lnTo>
                  <a:lnTo>
                    <a:pt x="439" y="96"/>
                  </a:lnTo>
                  <a:lnTo>
                    <a:pt x="526" y="85"/>
                  </a:lnTo>
                  <a:lnTo>
                    <a:pt x="612" y="74"/>
                  </a:lnTo>
                  <a:lnTo>
                    <a:pt x="699" y="64"/>
                  </a:lnTo>
                  <a:lnTo>
                    <a:pt x="779" y="53"/>
                  </a:lnTo>
                  <a:lnTo>
                    <a:pt x="855" y="44"/>
                  </a:lnTo>
                  <a:lnTo>
                    <a:pt x="922" y="35"/>
                  </a:lnTo>
                  <a:lnTo>
                    <a:pt x="977" y="27"/>
                  </a:lnTo>
                  <a:lnTo>
                    <a:pt x="1018" y="20"/>
                  </a:lnTo>
                  <a:lnTo>
                    <a:pt x="1043" y="15"/>
                  </a:lnTo>
                  <a:lnTo>
                    <a:pt x="1071" y="8"/>
                  </a:lnTo>
                  <a:lnTo>
                    <a:pt x="1094" y="4"/>
                  </a:lnTo>
                  <a:lnTo>
                    <a:pt x="1111" y="3"/>
                  </a:lnTo>
                  <a:lnTo>
                    <a:pt x="1126" y="4"/>
                  </a:lnTo>
                  <a:lnTo>
                    <a:pt x="1139" y="6"/>
                  </a:lnTo>
                  <a:lnTo>
                    <a:pt x="1152" y="6"/>
                  </a:lnTo>
                  <a:lnTo>
                    <a:pt x="1166" y="4"/>
                  </a:lnTo>
                  <a:lnTo>
                    <a:pt x="1181" y="0"/>
                  </a:lnTo>
                  <a:lnTo>
                    <a:pt x="1366" y="84"/>
                  </a:lnTo>
                  <a:lnTo>
                    <a:pt x="1358" y="92"/>
                  </a:lnTo>
                  <a:lnTo>
                    <a:pt x="1352" y="99"/>
                  </a:lnTo>
                  <a:lnTo>
                    <a:pt x="1347" y="106"/>
                  </a:lnTo>
                  <a:lnTo>
                    <a:pt x="1345" y="113"/>
                  </a:lnTo>
                  <a:lnTo>
                    <a:pt x="1344" y="120"/>
                  </a:lnTo>
                  <a:lnTo>
                    <a:pt x="1345" y="127"/>
                  </a:lnTo>
                  <a:lnTo>
                    <a:pt x="1347" y="133"/>
                  </a:lnTo>
                  <a:lnTo>
                    <a:pt x="1351" y="140"/>
                  </a:lnTo>
                  <a:lnTo>
                    <a:pt x="1355" y="146"/>
                  </a:lnTo>
                  <a:lnTo>
                    <a:pt x="1361" y="152"/>
                  </a:lnTo>
                  <a:lnTo>
                    <a:pt x="1369" y="157"/>
                  </a:lnTo>
                  <a:lnTo>
                    <a:pt x="1377" y="163"/>
                  </a:lnTo>
                  <a:lnTo>
                    <a:pt x="1396" y="175"/>
                  </a:lnTo>
                  <a:lnTo>
                    <a:pt x="1417" y="187"/>
                  </a:lnTo>
                  <a:lnTo>
                    <a:pt x="1439" y="199"/>
                  </a:lnTo>
                  <a:lnTo>
                    <a:pt x="1463" y="213"/>
                  </a:lnTo>
                  <a:lnTo>
                    <a:pt x="1486" y="227"/>
                  </a:lnTo>
                  <a:lnTo>
                    <a:pt x="1508" y="243"/>
                  </a:lnTo>
                  <a:lnTo>
                    <a:pt x="1519" y="251"/>
                  </a:lnTo>
                  <a:lnTo>
                    <a:pt x="1528" y="260"/>
                  </a:lnTo>
                  <a:lnTo>
                    <a:pt x="1538" y="270"/>
                  </a:lnTo>
                  <a:lnTo>
                    <a:pt x="1546" y="279"/>
                  </a:lnTo>
                  <a:lnTo>
                    <a:pt x="1553" y="289"/>
                  </a:lnTo>
                  <a:lnTo>
                    <a:pt x="1559" y="300"/>
                  </a:lnTo>
                  <a:lnTo>
                    <a:pt x="1564" y="310"/>
                  </a:lnTo>
                  <a:lnTo>
                    <a:pt x="1568" y="323"/>
                  </a:lnTo>
                  <a:lnTo>
                    <a:pt x="1567" y="362"/>
                  </a:lnTo>
                  <a:lnTo>
                    <a:pt x="1563" y="393"/>
                  </a:lnTo>
                  <a:lnTo>
                    <a:pt x="1560" y="416"/>
                  </a:lnTo>
                  <a:lnTo>
                    <a:pt x="1559" y="424"/>
                  </a:lnTo>
                  <a:lnTo>
                    <a:pt x="1548" y="426"/>
                  </a:lnTo>
                  <a:lnTo>
                    <a:pt x="1539" y="428"/>
                  </a:lnTo>
                  <a:lnTo>
                    <a:pt x="1529" y="432"/>
                  </a:lnTo>
                  <a:lnTo>
                    <a:pt x="1521" y="435"/>
                  </a:lnTo>
                  <a:lnTo>
                    <a:pt x="1514" y="439"/>
                  </a:lnTo>
                  <a:lnTo>
                    <a:pt x="1508" y="444"/>
                  </a:lnTo>
                  <a:lnTo>
                    <a:pt x="1502" y="449"/>
                  </a:lnTo>
                  <a:lnTo>
                    <a:pt x="1499" y="455"/>
                  </a:lnTo>
                  <a:lnTo>
                    <a:pt x="1494" y="461"/>
                  </a:lnTo>
                  <a:lnTo>
                    <a:pt x="1492" y="467"/>
                  </a:lnTo>
                  <a:lnTo>
                    <a:pt x="1490" y="474"/>
                  </a:lnTo>
                  <a:lnTo>
                    <a:pt x="1488" y="481"/>
                  </a:lnTo>
                  <a:lnTo>
                    <a:pt x="1487" y="488"/>
                  </a:lnTo>
                  <a:lnTo>
                    <a:pt x="1487" y="495"/>
                  </a:lnTo>
                  <a:lnTo>
                    <a:pt x="1488" y="502"/>
                  </a:lnTo>
                  <a:lnTo>
                    <a:pt x="1490" y="510"/>
                  </a:lnTo>
                  <a:lnTo>
                    <a:pt x="548" y="6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128"/>
            <p:cNvSpPr/>
            <p:nvPr/>
          </p:nvSpPr>
          <p:spPr>
            <a:xfrm>
              <a:off x="8110800" y="5418000"/>
              <a:ext cx="235800" cy="1108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568" h="689">
                  <a:moveTo>
                    <a:pt x="548" y="648"/>
                  </a:moveTo>
                  <a:lnTo>
                    <a:pt x="508" y="655"/>
                  </a:lnTo>
                  <a:lnTo>
                    <a:pt x="471" y="663"/>
                  </a:lnTo>
                  <a:lnTo>
                    <a:pt x="435" y="670"/>
                  </a:lnTo>
                  <a:lnTo>
                    <a:pt x="402" y="677"/>
                  </a:lnTo>
                  <a:lnTo>
                    <a:pt x="371" y="683"/>
                  </a:lnTo>
                  <a:lnTo>
                    <a:pt x="340" y="688"/>
                  </a:lnTo>
                  <a:lnTo>
                    <a:pt x="326" y="689"/>
                  </a:lnTo>
                  <a:lnTo>
                    <a:pt x="312" y="689"/>
                  </a:lnTo>
                  <a:lnTo>
                    <a:pt x="299" y="689"/>
                  </a:lnTo>
                  <a:lnTo>
                    <a:pt x="286" y="689"/>
                  </a:lnTo>
                  <a:lnTo>
                    <a:pt x="279" y="680"/>
                  </a:lnTo>
                  <a:lnTo>
                    <a:pt x="274" y="670"/>
                  </a:lnTo>
                  <a:lnTo>
                    <a:pt x="268" y="661"/>
                  </a:lnTo>
                  <a:lnTo>
                    <a:pt x="264" y="652"/>
                  </a:lnTo>
                  <a:lnTo>
                    <a:pt x="257" y="634"/>
                  </a:lnTo>
                  <a:lnTo>
                    <a:pt x="254" y="616"/>
                  </a:lnTo>
                  <a:lnTo>
                    <a:pt x="253" y="600"/>
                  </a:lnTo>
                  <a:lnTo>
                    <a:pt x="253" y="585"/>
                  </a:lnTo>
                  <a:lnTo>
                    <a:pt x="253" y="571"/>
                  </a:lnTo>
                  <a:lnTo>
                    <a:pt x="254" y="557"/>
                  </a:lnTo>
                  <a:lnTo>
                    <a:pt x="255" y="545"/>
                  </a:lnTo>
                  <a:lnTo>
                    <a:pt x="256" y="534"/>
                  </a:lnTo>
                  <a:lnTo>
                    <a:pt x="256" y="524"/>
                  </a:lnTo>
                  <a:lnTo>
                    <a:pt x="254" y="516"/>
                  </a:lnTo>
                  <a:lnTo>
                    <a:pt x="253" y="513"/>
                  </a:lnTo>
                  <a:lnTo>
                    <a:pt x="250" y="510"/>
                  </a:lnTo>
                  <a:lnTo>
                    <a:pt x="248" y="508"/>
                  </a:lnTo>
                  <a:lnTo>
                    <a:pt x="244" y="505"/>
                  </a:lnTo>
                  <a:lnTo>
                    <a:pt x="240" y="503"/>
                  </a:lnTo>
                  <a:lnTo>
                    <a:pt x="235" y="502"/>
                  </a:lnTo>
                  <a:lnTo>
                    <a:pt x="229" y="502"/>
                  </a:lnTo>
                  <a:lnTo>
                    <a:pt x="222" y="501"/>
                  </a:lnTo>
                  <a:lnTo>
                    <a:pt x="209" y="501"/>
                  </a:lnTo>
                  <a:lnTo>
                    <a:pt x="198" y="498"/>
                  </a:lnTo>
                  <a:lnTo>
                    <a:pt x="187" y="496"/>
                  </a:lnTo>
                  <a:lnTo>
                    <a:pt x="179" y="491"/>
                  </a:lnTo>
                  <a:lnTo>
                    <a:pt x="172" y="487"/>
                  </a:lnTo>
                  <a:lnTo>
                    <a:pt x="166" y="481"/>
                  </a:lnTo>
                  <a:lnTo>
                    <a:pt x="161" y="475"/>
                  </a:lnTo>
                  <a:lnTo>
                    <a:pt x="157" y="468"/>
                  </a:lnTo>
                  <a:lnTo>
                    <a:pt x="147" y="454"/>
                  </a:lnTo>
                  <a:lnTo>
                    <a:pt x="137" y="440"/>
                  </a:lnTo>
                  <a:lnTo>
                    <a:pt x="131" y="434"/>
                  </a:lnTo>
                  <a:lnTo>
                    <a:pt x="125" y="428"/>
                  </a:lnTo>
                  <a:lnTo>
                    <a:pt x="117" y="423"/>
                  </a:lnTo>
                  <a:lnTo>
                    <a:pt x="108" y="418"/>
                  </a:lnTo>
                  <a:lnTo>
                    <a:pt x="90" y="391"/>
                  </a:lnTo>
                  <a:lnTo>
                    <a:pt x="77" y="369"/>
                  </a:lnTo>
                  <a:lnTo>
                    <a:pt x="68" y="349"/>
                  </a:lnTo>
                  <a:lnTo>
                    <a:pt x="60" y="331"/>
                  </a:lnTo>
                  <a:lnTo>
                    <a:pt x="55" y="317"/>
                  </a:lnTo>
                  <a:lnTo>
                    <a:pt x="52" y="303"/>
                  </a:lnTo>
                  <a:lnTo>
                    <a:pt x="50" y="291"/>
                  </a:lnTo>
                  <a:lnTo>
                    <a:pt x="48" y="279"/>
                  </a:lnTo>
                  <a:lnTo>
                    <a:pt x="47" y="266"/>
                  </a:lnTo>
                  <a:lnTo>
                    <a:pt x="46" y="253"/>
                  </a:lnTo>
                  <a:lnTo>
                    <a:pt x="43" y="239"/>
                  </a:lnTo>
                  <a:lnTo>
                    <a:pt x="40" y="223"/>
                  </a:lnTo>
                  <a:lnTo>
                    <a:pt x="34" y="204"/>
                  </a:lnTo>
                  <a:lnTo>
                    <a:pt x="26" y="182"/>
                  </a:lnTo>
                  <a:lnTo>
                    <a:pt x="15" y="156"/>
                  </a:lnTo>
                  <a:lnTo>
                    <a:pt x="0" y="127"/>
                  </a:lnTo>
                  <a:lnTo>
                    <a:pt x="18" y="114"/>
                  </a:lnTo>
                  <a:lnTo>
                    <a:pt x="33" y="100"/>
                  </a:lnTo>
                  <a:lnTo>
                    <a:pt x="49" y="87"/>
                  </a:lnTo>
                  <a:lnTo>
                    <a:pt x="65" y="72"/>
                  </a:lnTo>
                  <a:lnTo>
                    <a:pt x="73" y="139"/>
                  </a:lnTo>
                  <a:lnTo>
                    <a:pt x="83" y="138"/>
                  </a:lnTo>
                  <a:lnTo>
                    <a:pt x="111" y="134"/>
                  </a:lnTo>
                  <a:lnTo>
                    <a:pt x="154" y="129"/>
                  </a:lnTo>
                  <a:lnTo>
                    <a:pt x="212" y="122"/>
                  </a:lnTo>
                  <a:lnTo>
                    <a:pt x="281" y="114"/>
                  </a:lnTo>
                  <a:lnTo>
                    <a:pt x="357" y="105"/>
                  </a:lnTo>
                  <a:lnTo>
                    <a:pt x="439" y="96"/>
                  </a:lnTo>
                  <a:lnTo>
                    <a:pt x="526" y="85"/>
                  </a:lnTo>
                  <a:lnTo>
                    <a:pt x="612" y="74"/>
                  </a:lnTo>
                  <a:lnTo>
                    <a:pt x="699" y="64"/>
                  </a:lnTo>
                  <a:lnTo>
                    <a:pt x="779" y="53"/>
                  </a:lnTo>
                  <a:lnTo>
                    <a:pt x="855" y="44"/>
                  </a:lnTo>
                  <a:lnTo>
                    <a:pt x="922" y="35"/>
                  </a:lnTo>
                  <a:lnTo>
                    <a:pt x="977" y="27"/>
                  </a:lnTo>
                  <a:lnTo>
                    <a:pt x="1018" y="20"/>
                  </a:lnTo>
                  <a:lnTo>
                    <a:pt x="1043" y="15"/>
                  </a:lnTo>
                  <a:lnTo>
                    <a:pt x="1071" y="8"/>
                  </a:lnTo>
                  <a:lnTo>
                    <a:pt x="1094" y="4"/>
                  </a:lnTo>
                  <a:lnTo>
                    <a:pt x="1111" y="3"/>
                  </a:lnTo>
                  <a:lnTo>
                    <a:pt x="1126" y="4"/>
                  </a:lnTo>
                  <a:lnTo>
                    <a:pt x="1139" y="6"/>
                  </a:lnTo>
                  <a:lnTo>
                    <a:pt x="1152" y="6"/>
                  </a:lnTo>
                  <a:lnTo>
                    <a:pt x="1166" y="4"/>
                  </a:lnTo>
                  <a:lnTo>
                    <a:pt x="1181" y="0"/>
                  </a:lnTo>
                  <a:lnTo>
                    <a:pt x="1366" y="84"/>
                  </a:lnTo>
                  <a:lnTo>
                    <a:pt x="1358" y="92"/>
                  </a:lnTo>
                  <a:lnTo>
                    <a:pt x="1352" y="99"/>
                  </a:lnTo>
                  <a:lnTo>
                    <a:pt x="1347" y="106"/>
                  </a:lnTo>
                  <a:lnTo>
                    <a:pt x="1345" y="113"/>
                  </a:lnTo>
                  <a:lnTo>
                    <a:pt x="1344" y="120"/>
                  </a:lnTo>
                  <a:lnTo>
                    <a:pt x="1345" y="127"/>
                  </a:lnTo>
                  <a:lnTo>
                    <a:pt x="1347" y="133"/>
                  </a:lnTo>
                  <a:lnTo>
                    <a:pt x="1351" y="140"/>
                  </a:lnTo>
                  <a:lnTo>
                    <a:pt x="1355" y="146"/>
                  </a:lnTo>
                  <a:lnTo>
                    <a:pt x="1361" y="152"/>
                  </a:lnTo>
                  <a:lnTo>
                    <a:pt x="1369" y="157"/>
                  </a:lnTo>
                  <a:lnTo>
                    <a:pt x="1377" y="163"/>
                  </a:lnTo>
                  <a:lnTo>
                    <a:pt x="1396" y="175"/>
                  </a:lnTo>
                  <a:lnTo>
                    <a:pt x="1417" y="187"/>
                  </a:lnTo>
                  <a:lnTo>
                    <a:pt x="1439" y="199"/>
                  </a:lnTo>
                  <a:lnTo>
                    <a:pt x="1463" y="213"/>
                  </a:lnTo>
                  <a:lnTo>
                    <a:pt x="1486" y="227"/>
                  </a:lnTo>
                  <a:lnTo>
                    <a:pt x="1508" y="243"/>
                  </a:lnTo>
                  <a:lnTo>
                    <a:pt x="1519" y="251"/>
                  </a:lnTo>
                  <a:lnTo>
                    <a:pt x="1528" y="260"/>
                  </a:lnTo>
                  <a:lnTo>
                    <a:pt x="1538" y="270"/>
                  </a:lnTo>
                  <a:lnTo>
                    <a:pt x="1546" y="279"/>
                  </a:lnTo>
                  <a:lnTo>
                    <a:pt x="1553" y="289"/>
                  </a:lnTo>
                  <a:lnTo>
                    <a:pt x="1559" y="300"/>
                  </a:lnTo>
                  <a:lnTo>
                    <a:pt x="1564" y="310"/>
                  </a:lnTo>
                  <a:lnTo>
                    <a:pt x="1568" y="323"/>
                  </a:lnTo>
                  <a:lnTo>
                    <a:pt x="1567" y="362"/>
                  </a:lnTo>
                  <a:lnTo>
                    <a:pt x="1563" y="393"/>
                  </a:lnTo>
                  <a:lnTo>
                    <a:pt x="1560" y="416"/>
                  </a:lnTo>
                  <a:lnTo>
                    <a:pt x="1559" y="424"/>
                  </a:lnTo>
                  <a:lnTo>
                    <a:pt x="1548" y="426"/>
                  </a:lnTo>
                  <a:lnTo>
                    <a:pt x="1539" y="428"/>
                  </a:lnTo>
                  <a:lnTo>
                    <a:pt x="1529" y="432"/>
                  </a:lnTo>
                  <a:lnTo>
                    <a:pt x="1521" y="435"/>
                  </a:lnTo>
                  <a:lnTo>
                    <a:pt x="1514" y="439"/>
                  </a:lnTo>
                  <a:lnTo>
                    <a:pt x="1508" y="444"/>
                  </a:lnTo>
                  <a:lnTo>
                    <a:pt x="1502" y="449"/>
                  </a:lnTo>
                  <a:lnTo>
                    <a:pt x="1499" y="455"/>
                  </a:lnTo>
                  <a:lnTo>
                    <a:pt x="1494" y="461"/>
                  </a:lnTo>
                  <a:lnTo>
                    <a:pt x="1492" y="467"/>
                  </a:lnTo>
                  <a:lnTo>
                    <a:pt x="1490" y="474"/>
                  </a:lnTo>
                  <a:lnTo>
                    <a:pt x="1488" y="481"/>
                  </a:lnTo>
                  <a:lnTo>
                    <a:pt x="1487" y="488"/>
                  </a:lnTo>
                  <a:lnTo>
                    <a:pt x="1487" y="495"/>
                  </a:lnTo>
                  <a:lnTo>
                    <a:pt x="1488" y="502"/>
                  </a:lnTo>
                  <a:lnTo>
                    <a:pt x="1490" y="510"/>
                  </a:lnTo>
                  <a:lnTo>
                    <a:pt x="548" y="6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129"/>
            <p:cNvSpPr/>
            <p:nvPr/>
          </p:nvSpPr>
          <p:spPr>
            <a:xfrm>
              <a:off x="8278920" y="5296320"/>
              <a:ext cx="72720" cy="774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84" h="479">
                  <a:moveTo>
                    <a:pt x="369" y="479"/>
                  </a:moveTo>
                  <a:lnTo>
                    <a:pt x="0" y="58"/>
                  </a:lnTo>
                  <a:lnTo>
                    <a:pt x="40" y="54"/>
                  </a:lnTo>
                  <a:lnTo>
                    <a:pt x="79" y="48"/>
                  </a:lnTo>
                  <a:lnTo>
                    <a:pt x="114" y="42"/>
                  </a:lnTo>
                  <a:lnTo>
                    <a:pt x="149" y="35"/>
                  </a:lnTo>
                  <a:lnTo>
                    <a:pt x="181" y="27"/>
                  </a:lnTo>
                  <a:lnTo>
                    <a:pt x="213" y="19"/>
                  </a:lnTo>
                  <a:lnTo>
                    <a:pt x="243" y="9"/>
                  </a:lnTo>
                  <a:lnTo>
                    <a:pt x="274" y="0"/>
                  </a:lnTo>
                  <a:lnTo>
                    <a:pt x="332" y="70"/>
                  </a:lnTo>
                  <a:lnTo>
                    <a:pt x="329" y="74"/>
                  </a:lnTo>
                  <a:lnTo>
                    <a:pt x="320" y="84"/>
                  </a:lnTo>
                  <a:lnTo>
                    <a:pt x="317" y="91"/>
                  </a:lnTo>
                  <a:lnTo>
                    <a:pt x="312" y="99"/>
                  </a:lnTo>
                  <a:lnTo>
                    <a:pt x="309" y="109"/>
                  </a:lnTo>
                  <a:lnTo>
                    <a:pt x="305" y="118"/>
                  </a:lnTo>
                  <a:lnTo>
                    <a:pt x="304" y="128"/>
                  </a:lnTo>
                  <a:lnTo>
                    <a:pt x="304" y="139"/>
                  </a:lnTo>
                  <a:lnTo>
                    <a:pt x="305" y="145"/>
                  </a:lnTo>
                  <a:lnTo>
                    <a:pt x="306" y="150"/>
                  </a:lnTo>
                  <a:lnTo>
                    <a:pt x="309" y="155"/>
                  </a:lnTo>
                  <a:lnTo>
                    <a:pt x="311" y="161"/>
                  </a:lnTo>
                  <a:lnTo>
                    <a:pt x="315" y="166"/>
                  </a:lnTo>
                  <a:lnTo>
                    <a:pt x="319" y="172"/>
                  </a:lnTo>
                  <a:lnTo>
                    <a:pt x="324" y="176"/>
                  </a:lnTo>
                  <a:lnTo>
                    <a:pt x="330" y="181"/>
                  </a:lnTo>
                  <a:lnTo>
                    <a:pt x="337" y="186"/>
                  </a:lnTo>
                  <a:lnTo>
                    <a:pt x="345" y="190"/>
                  </a:lnTo>
                  <a:lnTo>
                    <a:pt x="353" y="195"/>
                  </a:lnTo>
                  <a:lnTo>
                    <a:pt x="364" y="200"/>
                  </a:lnTo>
                  <a:lnTo>
                    <a:pt x="372" y="204"/>
                  </a:lnTo>
                  <a:lnTo>
                    <a:pt x="380" y="211"/>
                  </a:lnTo>
                  <a:lnTo>
                    <a:pt x="390" y="222"/>
                  </a:lnTo>
                  <a:lnTo>
                    <a:pt x="402" y="234"/>
                  </a:lnTo>
                  <a:lnTo>
                    <a:pt x="413" y="249"/>
                  </a:lnTo>
                  <a:lnTo>
                    <a:pt x="424" y="264"/>
                  </a:lnTo>
                  <a:lnTo>
                    <a:pt x="436" y="281"/>
                  </a:lnTo>
                  <a:lnTo>
                    <a:pt x="447" y="299"/>
                  </a:lnTo>
                  <a:lnTo>
                    <a:pt x="457" y="318"/>
                  </a:lnTo>
                  <a:lnTo>
                    <a:pt x="466" y="336"/>
                  </a:lnTo>
                  <a:lnTo>
                    <a:pt x="473" y="355"/>
                  </a:lnTo>
                  <a:lnTo>
                    <a:pt x="479" y="374"/>
                  </a:lnTo>
                  <a:lnTo>
                    <a:pt x="483" y="392"/>
                  </a:lnTo>
                  <a:lnTo>
                    <a:pt x="484" y="409"/>
                  </a:lnTo>
                  <a:lnTo>
                    <a:pt x="484" y="417"/>
                  </a:lnTo>
                  <a:lnTo>
                    <a:pt x="483" y="424"/>
                  </a:lnTo>
                  <a:lnTo>
                    <a:pt x="482" y="431"/>
                  </a:lnTo>
                  <a:lnTo>
                    <a:pt x="478" y="438"/>
                  </a:lnTo>
                  <a:lnTo>
                    <a:pt x="369" y="47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130"/>
            <p:cNvSpPr/>
            <p:nvPr/>
          </p:nvSpPr>
          <p:spPr>
            <a:xfrm>
              <a:off x="8278920" y="5296320"/>
              <a:ext cx="72720" cy="774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84" h="479">
                  <a:moveTo>
                    <a:pt x="369" y="479"/>
                  </a:moveTo>
                  <a:lnTo>
                    <a:pt x="0" y="58"/>
                  </a:lnTo>
                  <a:lnTo>
                    <a:pt x="40" y="54"/>
                  </a:lnTo>
                  <a:lnTo>
                    <a:pt x="79" y="48"/>
                  </a:lnTo>
                  <a:lnTo>
                    <a:pt x="114" y="42"/>
                  </a:lnTo>
                  <a:lnTo>
                    <a:pt x="149" y="35"/>
                  </a:lnTo>
                  <a:lnTo>
                    <a:pt x="181" y="27"/>
                  </a:lnTo>
                  <a:lnTo>
                    <a:pt x="213" y="19"/>
                  </a:lnTo>
                  <a:lnTo>
                    <a:pt x="243" y="9"/>
                  </a:lnTo>
                  <a:lnTo>
                    <a:pt x="274" y="0"/>
                  </a:lnTo>
                  <a:lnTo>
                    <a:pt x="332" y="70"/>
                  </a:lnTo>
                  <a:lnTo>
                    <a:pt x="329" y="74"/>
                  </a:lnTo>
                  <a:lnTo>
                    <a:pt x="320" y="84"/>
                  </a:lnTo>
                  <a:lnTo>
                    <a:pt x="317" y="91"/>
                  </a:lnTo>
                  <a:lnTo>
                    <a:pt x="312" y="99"/>
                  </a:lnTo>
                  <a:lnTo>
                    <a:pt x="309" y="109"/>
                  </a:lnTo>
                  <a:lnTo>
                    <a:pt x="305" y="118"/>
                  </a:lnTo>
                  <a:lnTo>
                    <a:pt x="304" y="128"/>
                  </a:lnTo>
                  <a:lnTo>
                    <a:pt x="304" y="139"/>
                  </a:lnTo>
                  <a:lnTo>
                    <a:pt x="305" y="145"/>
                  </a:lnTo>
                  <a:lnTo>
                    <a:pt x="306" y="150"/>
                  </a:lnTo>
                  <a:lnTo>
                    <a:pt x="309" y="155"/>
                  </a:lnTo>
                  <a:lnTo>
                    <a:pt x="311" y="161"/>
                  </a:lnTo>
                  <a:lnTo>
                    <a:pt x="315" y="166"/>
                  </a:lnTo>
                  <a:lnTo>
                    <a:pt x="319" y="172"/>
                  </a:lnTo>
                  <a:lnTo>
                    <a:pt x="324" y="176"/>
                  </a:lnTo>
                  <a:lnTo>
                    <a:pt x="330" y="181"/>
                  </a:lnTo>
                  <a:lnTo>
                    <a:pt x="337" y="186"/>
                  </a:lnTo>
                  <a:lnTo>
                    <a:pt x="345" y="190"/>
                  </a:lnTo>
                  <a:lnTo>
                    <a:pt x="353" y="195"/>
                  </a:lnTo>
                  <a:lnTo>
                    <a:pt x="364" y="200"/>
                  </a:lnTo>
                  <a:lnTo>
                    <a:pt x="372" y="204"/>
                  </a:lnTo>
                  <a:lnTo>
                    <a:pt x="380" y="211"/>
                  </a:lnTo>
                  <a:lnTo>
                    <a:pt x="390" y="222"/>
                  </a:lnTo>
                  <a:lnTo>
                    <a:pt x="402" y="234"/>
                  </a:lnTo>
                  <a:lnTo>
                    <a:pt x="413" y="249"/>
                  </a:lnTo>
                  <a:lnTo>
                    <a:pt x="424" y="264"/>
                  </a:lnTo>
                  <a:lnTo>
                    <a:pt x="436" y="281"/>
                  </a:lnTo>
                  <a:lnTo>
                    <a:pt x="447" y="299"/>
                  </a:lnTo>
                  <a:lnTo>
                    <a:pt x="457" y="318"/>
                  </a:lnTo>
                  <a:lnTo>
                    <a:pt x="466" y="336"/>
                  </a:lnTo>
                  <a:lnTo>
                    <a:pt x="473" y="355"/>
                  </a:lnTo>
                  <a:lnTo>
                    <a:pt x="479" y="374"/>
                  </a:lnTo>
                  <a:lnTo>
                    <a:pt x="483" y="392"/>
                  </a:lnTo>
                  <a:lnTo>
                    <a:pt x="484" y="409"/>
                  </a:lnTo>
                  <a:lnTo>
                    <a:pt x="484" y="417"/>
                  </a:lnTo>
                  <a:lnTo>
                    <a:pt x="483" y="424"/>
                  </a:lnTo>
                  <a:lnTo>
                    <a:pt x="482" y="431"/>
                  </a:lnTo>
                  <a:lnTo>
                    <a:pt x="478" y="438"/>
                  </a:lnTo>
                  <a:lnTo>
                    <a:pt x="369" y="47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131"/>
            <p:cNvSpPr/>
            <p:nvPr/>
          </p:nvSpPr>
          <p:spPr>
            <a:xfrm>
              <a:off x="8319960" y="5283000"/>
              <a:ext cx="82080" cy="820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544" h="509">
                  <a:moveTo>
                    <a:pt x="204" y="509"/>
                  </a:moveTo>
                  <a:lnTo>
                    <a:pt x="208" y="502"/>
                  </a:lnTo>
                  <a:lnTo>
                    <a:pt x="209" y="495"/>
                  </a:lnTo>
                  <a:lnTo>
                    <a:pt x="210" y="488"/>
                  </a:lnTo>
                  <a:lnTo>
                    <a:pt x="210" y="480"/>
                  </a:lnTo>
                  <a:lnTo>
                    <a:pt x="209" y="463"/>
                  </a:lnTo>
                  <a:lnTo>
                    <a:pt x="205" y="445"/>
                  </a:lnTo>
                  <a:lnTo>
                    <a:pt x="199" y="426"/>
                  </a:lnTo>
                  <a:lnTo>
                    <a:pt x="192" y="407"/>
                  </a:lnTo>
                  <a:lnTo>
                    <a:pt x="183" y="389"/>
                  </a:lnTo>
                  <a:lnTo>
                    <a:pt x="173" y="370"/>
                  </a:lnTo>
                  <a:lnTo>
                    <a:pt x="162" y="352"/>
                  </a:lnTo>
                  <a:lnTo>
                    <a:pt x="150" y="335"/>
                  </a:lnTo>
                  <a:lnTo>
                    <a:pt x="139" y="320"/>
                  </a:lnTo>
                  <a:lnTo>
                    <a:pt x="128" y="305"/>
                  </a:lnTo>
                  <a:lnTo>
                    <a:pt x="116" y="293"/>
                  </a:lnTo>
                  <a:lnTo>
                    <a:pt x="106" y="282"/>
                  </a:lnTo>
                  <a:lnTo>
                    <a:pt x="98" y="275"/>
                  </a:lnTo>
                  <a:lnTo>
                    <a:pt x="90" y="271"/>
                  </a:lnTo>
                  <a:lnTo>
                    <a:pt x="79" y="266"/>
                  </a:lnTo>
                  <a:lnTo>
                    <a:pt x="71" y="261"/>
                  </a:lnTo>
                  <a:lnTo>
                    <a:pt x="63" y="257"/>
                  </a:lnTo>
                  <a:lnTo>
                    <a:pt x="56" y="252"/>
                  </a:lnTo>
                  <a:lnTo>
                    <a:pt x="50" y="247"/>
                  </a:lnTo>
                  <a:lnTo>
                    <a:pt x="45" y="243"/>
                  </a:lnTo>
                  <a:lnTo>
                    <a:pt x="41" y="237"/>
                  </a:lnTo>
                  <a:lnTo>
                    <a:pt x="37" y="232"/>
                  </a:lnTo>
                  <a:lnTo>
                    <a:pt x="35" y="226"/>
                  </a:lnTo>
                  <a:lnTo>
                    <a:pt x="32" y="221"/>
                  </a:lnTo>
                  <a:lnTo>
                    <a:pt x="31" y="216"/>
                  </a:lnTo>
                  <a:lnTo>
                    <a:pt x="30" y="210"/>
                  </a:lnTo>
                  <a:lnTo>
                    <a:pt x="30" y="199"/>
                  </a:lnTo>
                  <a:lnTo>
                    <a:pt x="31" y="189"/>
                  </a:lnTo>
                  <a:lnTo>
                    <a:pt x="35" y="180"/>
                  </a:lnTo>
                  <a:lnTo>
                    <a:pt x="38" y="170"/>
                  </a:lnTo>
                  <a:lnTo>
                    <a:pt x="43" y="162"/>
                  </a:lnTo>
                  <a:lnTo>
                    <a:pt x="46" y="155"/>
                  </a:lnTo>
                  <a:lnTo>
                    <a:pt x="55" y="145"/>
                  </a:lnTo>
                  <a:lnTo>
                    <a:pt x="58" y="141"/>
                  </a:lnTo>
                  <a:lnTo>
                    <a:pt x="0" y="71"/>
                  </a:lnTo>
                  <a:lnTo>
                    <a:pt x="4" y="69"/>
                  </a:lnTo>
                  <a:lnTo>
                    <a:pt x="17" y="59"/>
                  </a:lnTo>
                  <a:lnTo>
                    <a:pt x="25" y="50"/>
                  </a:lnTo>
                  <a:lnTo>
                    <a:pt x="36" y="37"/>
                  </a:lnTo>
                  <a:lnTo>
                    <a:pt x="46" y="21"/>
                  </a:lnTo>
                  <a:lnTo>
                    <a:pt x="58" y="0"/>
                  </a:lnTo>
                  <a:lnTo>
                    <a:pt x="544" y="351"/>
                  </a:lnTo>
                  <a:lnTo>
                    <a:pt x="204" y="5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132"/>
            <p:cNvSpPr/>
            <p:nvPr/>
          </p:nvSpPr>
          <p:spPr>
            <a:xfrm>
              <a:off x="8319960" y="5283000"/>
              <a:ext cx="82080" cy="820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544" h="509">
                  <a:moveTo>
                    <a:pt x="204" y="509"/>
                  </a:moveTo>
                  <a:lnTo>
                    <a:pt x="208" y="502"/>
                  </a:lnTo>
                  <a:lnTo>
                    <a:pt x="209" y="495"/>
                  </a:lnTo>
                  <a:lnTo>
                    <a:pt x="210" y="488"/>
                  </a:lnTo>
                  <a:lnTo>
                    <a:pt x="210" y="480"/>
                  </a:lnTo>
                  <a:lnTo>
                    <a:pt x="209" y="463"/>
                  </a:lnTo>
                  <a:lnTo>
                    <a:pt x="205" y="445"/>
                  </a:lnTo>
                  <a:lnTo>
                    <a:pt x="199" y="426"/>
                  </a:lnTo>
                  <a:lnTo>
                    <a:pt x="192" y="407"/>
                  </a:lnTo>
                  <a:lnTo>
                    <a:pt x="183" y="389"/>
                  </a:lnTo>
                  <a:lnTo>
                    <a:pt x="173" y="370"/>
                  </a:lnTo>
                  <a:lnTo>
                    <a:pt x="162" y="352"/>
                  </a:lnTo>
                  <a:lnTo>
                    <a:pt x="150" y="335"/>
                  </a:lnTo>
                  <a:lnTo>
                    <a:pt x="139" y="320"/>
                  </a:lnTo>
                  <a:lnTo>
                    <a:pt x="128" y="305"/>
                  </a:lnTo>
                  <a:lnTo>
                    <a:pt x="116" y="293"/>
                  </a:lnTo>
                  <a:lnTo>
                    <a:pt x="106" y="282"/>
                  </a:lnTo>
                  <a:lnTo>
                    <a:pt x="98" y="275"/>
                  </a:lnTo>
                  <a:lnTo>
                    <a:pt x="90" y="271"/>
                  </a:lnTo>
                  <a:lnTo>
                    <a:pt x="79" y="266"/>
                  </a:lnTo>
                  <a:lnTo>
                    <a:pt x="71" y="261"/>
                  </a:lnTo>
                  <a:lnTo>
                    <a:pt x="63" y="257"/>
                  </a:lnTo>
                  <a:lnTo>
                    <a:pt x="56" y="252"/>
                  </a:lnTo>
                  <a:lnTo>
                    <a:pt x="50" y="247"/>
                  </a:lnTo>
                  <a:lnTo>
                    <a:pt x="45" y="243"/>
                  </a:lnTo>
                  <a:lnTo>
                    <a:pt x="41" y="237"/>
                  </a:lnTo>
                  <a:lnTo>
                    <a:pt x="37" y="232"/>
                  </a:lnTo>
                  <a:lnTo>
                    <a:pt x="35" y="226"/>
                  </a:lnTo>
                  <a:lnTo>
                    <a:pt x="32" y="221"/>
                  </a:lnTo>
                  <a:lnTo>
                    <a:pt x="31" y="216"/>
                  </a:lnTo>
                  <a:lnTo>
                    <a:pt x="30" y="210"/>
                  </a:lnTo>
                  <a:lnTo>
                    <a:pt x="30" y="199"/>
                  </a:lnTo>
                  <a:lnTo>
                    <a:pt x="31" y="189"/>
                  </a:lnTo>
                  <a:lnTo>
                    <a:pt x="35" y="180"/>
                  </a:lnTo>
                  <a:lnTo>
                    <a:pt x="38" y="170"/>
                  </a:lnTo>
                  <a:lnTo>
                    <a:pt x="43" y="162"/>
                  </a:lnTo>
                  <a:lnTo>
                    <a:pt x="46" y="155"/>
                  </a:lnTo>
                  <a:lnTo>
                    <a:pt x="55" y="145"/>
                  </a:lnTo>
                  <a:lnTo>
                    <a:pt x="58" y="141"/>
                  </a:lnTo>
                  <a:lnTo>
                    <a:pt x="0" y="71"/>
                  </a:lnTo>
                  <a:lnTo>
                    <a:pt x="4" y="69"/>
                  </a:lnTo>
                  <a:lnTo>
                    <a:pt x="17" y="59"/>
                  </a:lnTo>
                  <a:lnTo>
                    <a:pt x="25" y="50"/>
                  </a:lnTo>
                  <a:lnTo>
                    <a:pt x="36" y="37"/>
                  </a:lnTo>
                  <a:lnTo>
                    <a:pt x="46" y="21"/>
                  </a:lnTo>
                  <a:lnTo>
                    <a:pt x="58" y="0"/>
                  </a:lnTo>
                  <a:lnTo>
                    <a:pt x="544" y="351"/>
                  </a:lnTo>
                  <a:lnTo>
                    <a:pt x="204" y="50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133"/>
            <p:cNvSpPr/>
            <p:nvPr/>
          </p:nvSpPr>
          <p:spPr>
            <a:xfrm>
              <a:off x="8313840" y="5207040"/>
              <a:ext cx="152280" cy="1328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016" h="821">
                  <a:moveTo>
                    <a:pt x="593" y="821"/>
                  </a:moveTo>
                  <a:lnTo>
                    <a:pt x="107" y="470"/>
                  </a:lnTo>
                  <a:lnTo>
                    <a:pt x="112" y="458"/>
                  </a:lnTo>
                  <a:lnTo>
                    <a:pt x="114" y="449"/>
                  </a:lnTo>
                  <a:lnTo>
                    <a:pt x="115" y="438"/>
                  </a:lnTo>
                  <a:lnTo>
                    <a:pt x="114" y="430"/>
                  </a:lnTo>
                  <a:lnTo>
                    <a:pt x="112" y="421"/>
                  </a:lnTo>
                  <a:lnTo>
                    <a:pt x="108" y="413"/>
                  </a:lnTo>
                  <a:lnTo>
                    <a:pt x="104" y="404"/>
                  </a:lnTo>
                  <a:lnTo>
                    <a:pt x="98" y="395"/>
                  </a:lnTo>
                  <a:lnTo>
                    <a:pt x="85" y="377"/>
                  </a:lnTo>
                  <a:lnTo>
                    <a:pt x="72" y="358"/>
                  </a:lnTo>
                  <a:lnTo>
                    <a:pt x="66" y="347"/>
                  </a:lnTo>
                  <a:lnTo>
                    <a:pt x="60" y="335"/>
                  </a:lnTo>
                  <a:lnTo>
                    <a:pt x="56" y="323"/>
                  </a:lnTo>
                  <a:lnTo>
                    <a:pt x="52" y="309"/>
                  </a:lnTo>
                  <a:lnTo>
                    <a:pt x="50" y="295"/>
                  </a:lnTo>
                  <a:lnTo>
                    <a:pt x="49" y="283"/>
                  </a:lnTo>
                  <a:lnTo>
                    <a:pt x="49" y="272"/>
                  </a:lnTo>
                  <a:lnTo>
                    <a:pt x="50" y="264"/>
                  </a:lnTo>
                  <a:lnTo>
                    <a:pt x="51" y="256"/>
                  </a:lnTo>
                  <a:lnTo>
                    <a:pt x="53" y="249"/>
                  </a:lnTo>
                  <a:lnTo>
                    <a:pt x="56" y="243"/>
                  </a:lnTo>
                  <a:lnTo>
                    <a:pt x="58" y="237"/>
                  </a:lnTo>
                  <a:lnTo>
                    <a:pt x="64" y="227"/>
                  </a:lnTo>
                  <a:lnTo>
                    <a:pt x="70" y="214"/>
                  </a:lnTo>
                  <a:lnTo>
                    <a:pt x="72" y="206"/>
                  </a:lnTo>
                  <a:lnTo>
                    <a:pt x="73" y="198"/>
                  </a:lnTo>
                  <a:lnTo>
                    <a:pt x="74" y="187"/>
                  </a:lnTo>
                  <a:lnTo>
                    <a:pt x="76" y="175"/>
                  </a:lnTo>
                  <a:lnTo>
                    <a:pt x="74" y="171"/>
                  </a:lnTo>
                  <a:lnTo>
                    <a:pt x="72" y="165"/>
                  </a:lnTo>
                  <a:lnTo>
                    <a:pt x="70" y="158"/>
                  </a:lnTo>
                  <a:lnTo>
                    <a:pt x="65" y="152"/>
                  </a:lnTo>
                  <a:lnTo>
                    <a:pt x="56" y="137"/>
                  </a:lnTo>
                  <a:lnTo>
                    <a:pt x="43" y="120"/>
                  </a:lnTo>
                  <a:lnTo>
                    <a:pt x="30" y="102"/>
                  </a:lnTo>
                  <a:lnTo>
                    <a:pt x="18" y="81"/>
                  </a:lnTo>
                  <a:lnTo>
                    <a:pt x="12" y="69"/>
                  </a:lnTo>
                  <a:lnTo>
                    <a:pt x="8" y="56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42" y="34"/>
                  </a:lnTo>
                  <a:lnTo>
                    <a:pt x="78" y="38"/>
                  </a:lnTo>
                  <a:lnTo>
                    <a:pt x="111" y="40"/>
                  </a:lnTo>
                  <a:lnTo>
                    <a:pt x="141" y="42"/>
                  </a:lnTo>
                  <a:lnTo>
                    <a:pt x="168" y="42"/>
                  </a:lnTo>
                  <a:lnTo>
                    <a:pt x="192" y="41"/>
                  </a:lnTo>
                  <a:lnTo>
                    <a:pt x="215" y="40"/>
                  </a:lnTo>
                  <a:lnTo>
                    <a:pt x="234" y="38"/>
                  </a:lnTo>
                  <a:lnTo>
                    <a:pt x="253" y="34"/>
                  </a:lnTo>
                  <a:lnTo>
                    <a:pt x="271" y="31"/>
                  </a:lnTo>
                  <a:lnTo>
                    <a:pt x="288" y="26"/>
                  </a:lnTo>
                  <a:lnTo>
                    <a:pt x="304" y="21"/>
                  </a:lnTo>
                  <a:lnTo>
                    <a:pt x="340" y="11"/>
                  </a:lnTo>
                  <a:lnTo>
                    <a:pt x="377" y="0"/>
                  </a:lnTo>
                  <a:lnTo>
                    <a:pt x="386" y="8"/>
                  </a:lnTo>
                  <a:lnTo>
                    <a:pt x="410" y="33"/>
                  </a:lnTo>
                  <a:lnTo>
                    <a:pt x="446" y="67"/>
                  </a:lnTo>
                  <a:lnTo>
                    <a:pt x="488" y="109"/>
                  </a:lnTo>
                  <a:lnTo>
                    <a:pt x="535" y="152"/>
                  </a:lnTo>
                  <a:lnTo>
                    <a:pt x="580" y="195"/>
                  </a:lnTo>
                  <a:lnTo>
                    <a:pt x="622" y="234"/>
                  </a:lnTo>
                  <a:lnTo>
                    <a:pt x="657" y="262"/>
                  </a:lnTo>
                  <a:lnTo>
                    <a:pt x="677" y="272"/>
                  </a:lnTo>
                  <a:lnTo>
                    <a:pt x="697" y="281"/>
                  </a:lnTo>
                  <a:lnTo>
                    <a:pt x="717" y="288"/>
                  </a:lnTo>
                  <a:lnTo>
                    <a:pt x="737" y="293"/>
                  </a:lnTo>
                  <a:lnTo>
                    <a:pt x="757" y="297"/>
                  </a:lnTo>
                  <a:lnTo>
                    <a:pt x="776" y="300"/>
                  </a:lnTo>
                  <a:lnTo>
                    <a:pt x="796" y="303"/>
                  </a:lnTo>
                  <a:lnTo>
                    <a:pt x="816" y="304"/>
                  </a:lnTo>
                  <a:lnTo>
                    <a:pt x="855" y="306"/>
                  </a:lnTo>
                  <a:lnTo>
                    <a:pt x="893" y="310"/>
                  </a:lnTo>
                  <a:lnTo>
                    <a:pt x="912" y="312"/>
                  </a:lnTo>
                  <a:lnTo>
                    <a:pt x="929" y="314"/>
                  </a:lnTo>
                  <a:lnTo>
                    <a:pt x="948" y="318"/>
                  </a:lnTo>
                  <a:lnTo>
                    <a:pt x="964" y="323"/>
                  </a:lnTo>
                  <a:lnTo>
                    <a:pt x="981" y="328"/>
                  </a:lnTo>
                  <a:lnTo>
                    <a:pt x="994" y="334"/>
                  </a:lnTo>
                  <a:lnTo>
                    <a:pt x="1004" y="340"/>
                  </a:lnTo>
                  <a:lnTo>
                    <a:pt x="1011" y="347"/>
                  </a:lnTo>
                  <a:lnTo>
                    <a:pt x="1014" y="349"/>
                  </a:lnTo>
                  <a:lnTo>
                    <a:pt x="1016" y="353"/>
                  </a:lnTo>
                  <a:lnTo>
                    <a:pt x="1016" y="355"/>
                  </a:lnTo>
                  <a:lnTo>
                    <a:pt x="1016" y="359"/>
                  </a:lnTo>
                  <a:lnTo>
                    <a:pt x="1016" y="362"/>
                  </a:lnTo>
                  <a:lnTo>
                    <a:pt x="1014" y="366"/>
                  </a:lnTo>
                  <a:lnTo>
                    <a:pt x="1011" y="368"/>
                  </a:lnTo>
                  <a:lnTo>
                    <a:pt x="1008" y="372"/>
                  </a:lnTo>
                  <a:lnTo>
                    <a:pt x="997" y="379"/>
                  </a:lnTo>
                  <a:lnTo>
                    <a:pt x="983" y="386"/>
                  </a:lnTo>
                  <a:lnTo>
                    <a:pt x="964" y="393"/>
                  </a:lnTo>
                  <a:lnTo>
                    <a:pt x="942" y="400"/>
                  </a:lnTo>
                  <a:lnTo>
                    <a:pt x="917" y="408"/>
                  </a:lnTo>
                  <a:lnTo>
                    <a:pt x="885" y="415"/>
                  </a:lnTo>
                  <a:lnTo>
                    <a:pt x="850" y="423"/>
                  </a:lnTo>
                  <a:lnTo>
                    <a:pt x="809" y="432"/>
                  </a:lnTo>
                  <a:lnTo>
                    <a:pt x="783" y="438"/>
                  </a:lnTo>
                  <a:lnTo>
                    <a:pt x="760" y="446"/>
                  </a:lnTo>
                  <a:lnTo>
                    <a:pt x="751" y="451"/>
                  </a:lnTo>
                  <a:lnTo>
                    <a:pt x="741" y="456"/>
                  </a:lnTo>
                  <a:lnTo>
                    <a:pt x="733" y="460"/>
                  </a:lnTo>
                  <a:lnTo>
                    <a:pt x="726" y="465"/>
                  </a:lnTo>
                  <a:lnTo>
                    <a:pt x="720" y="471"/>
                  </a:lnTo>
                  <a:lnTo>
                    <a:pt x="714" y="476"/>
                  </a:lnTo>
                  <a:lnTo>
                    <a:pt x="709" y="481"/>
                  </a:lnTo>
                  <a:lnTo>
                    <a:pt x="705" y="487"/>
                  </a:lnTo>
                  <a:lnTo>
                    <a:pt x="698" y="499"/>
                  </a:lnTo>
                  <a:lnTo>
                    <a:pt x="695" y="511"/>
                  </a:lnTo>
                  <a:lnTo>
                    <a:pt x="692" y="522"/>
                  </a:lnTo>
                  <a:lnTo>
                    <a:pt x="692" y="534"/>
                  </a:lnTo>
                  <a:lnTo>
                    <a:pt x="693" y="546"/>
                  </a:lnTo>
                  <a:lnTo>
                    <a:pt x="697" y="556"/>
                  </a:lnTo>
                  <a:lnTo>
                    <a:pt x="700" y="567"/>
                  </a:lnTo>
                  <a:lnTo>
                    <a:pt x="706" y="577"/>
                  </a:lnTo>
                  <a:lnTo>
                    <a:pt x="711" y="585"/>
                  </a:lnTo>
                  <a:lnTo>
                    <a:pt x="717" y="594"/>
                  </a:lnTo>
                  <a:lnTo>
                    <a:pt x="721" y="601"/>
                  </a:lnTo>
                  <a:lnTo>
                    <a:pt x="725" y="606"/>
                  </a:lnTo>
                  <a:lnTo>
                    <a:pt x="726" y="613"/>
                  </a:lnTo>
                  <a:lnTo>
                    <a:pt x="726" y="620"/>
                  </a:lnTo>
                  <a:lnTo>
                    <a:pt x="725" y="627"/>
                  </a:lnTo>
                  <a:lnTo>
                    <a:pt x="723" y="634"/>
                  </a:lnTo>
                  <a:lnTo>
                    <a:pt x="718" y="641"/>
                  </a:lnTo>
                  <a:lnTo>
                    <a:pt x="713" y="648"/>
                  </a:lnTo>
                  <a:lnTo>
                    <a:pt x="702" y="662"/>
                  </a:lnTo>
                  <a:lnTo>
                    <a:pt x="688" y="678"/>
                  </a:lnTo>
                  <a:lnTo>
                    <a:pt x="671" y="692"/>
                  </a:lnTo>
                  <a:lnTo>
                    <a:pt x="654" y="706"/>
                  </a:lnTo>
                  <a:lnTo>
                    <a:pt x="637" y="721"/>
                  </a:lnTo>
                  <a:lnTo>
                    <a:pt x="621" y="735"/>
                  </a:lnTo>
                  <a:lnTo>
                    <a:pt x="607" y="749"/>
                  </a:lnTo>
                  <a:lnTo>
                    <a:pt x="595" y="764"/>
                  </a:lnTo>
                  <a:lnTo>
                    <a:pt x="591" y="771"/>
                  </a:lnTo>
                  <a:lnTo>
                    <a:pt x="587" y="778"/>
                  </a:lnTo>
                  <a:lnTo>
                    <a:pt x="585" y="785"/>
                  </a:lnTo>
                  <a:lnTo>
                    <a:pt x="584" y="792"/>
                  </a:lnTo>
                  <a:lnTo>
                    <a:pt x="584" y="799"/>
                  </a:lnTo>
                  <a:lnTo>
                    <a:pt x="586" y="806"/>
                  </a:lnTo>
                  <a:lnTo>
                    <a:pt x="588" y="814"/>
                  </a:lnTo>
                  <a:lnTo>
                    <a:pt x="593" y="8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134"/>
            <p:cNvSpPr/>
            <p:nvPr/>
          </p:nvSpPr>
          <p:spPr>
            <a:xfrm>
              <a:off x="8313840" y="5207040"/>
              <a:ext cx="152280" cy="1328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016" h="821">
                  <a:moveTo>
                    <a:pt x="593" y="821"/>
                  </a:moveTo>
                  <a:lnTo>
                    <a:pt x="107" y="470"/>
                  </a:lnTo>
                  <a:lnTo>
                    <a:pt x="112" y="458"/>
                  </a:lnTo>
                  <a:lnTo>
                    <a:pt x="114" y="449"/>
                  </a:lnTo>
                  <a:lnTo>
                    <a:pt x="115" y="438"/>
                  </a:lnTo>
                  <a:lnTo>
                    <a:pt x="114" y="430"/>
                  </a:lnTo>
                  <a:lnTo>
                    <a:pt x="112" y="421"/>
                  </a:lnTo>
                  <a:lnTo>
                    <a:pt x="108" y="413"/>
                  </a:lnTo>
                  <a:lnTo>
                    <a:pt x="104" y="404"/>
                  </a:lnTo>
                  <a:lnTo>
                    <a:pt x="98" y="395"/>
                  </a:lnTo>
                  <a:lnTo>
                    <a:pt x="85" y="377"/>
                  </a:lnTo>
                  <a:lnTo>
                    <a:pt x="72" y="358"/>
                  </a:lnTo>
                  <a:lnTo>
                    <a:pt x="66" y="347"/>
                  </a:lnTo>
                  <a:lnTo>
                    <a:pt x="60" y="335"/>
                  </a:lnTo>
                  <a:lnTo>
                    <a:pt x="56" y="323"/>
                  </a:lnTo>
                  <a:lnTo>
                    <a:pt x="52" y="309"/>
                  </a:lnTo>
                  <a:lnTo>
                    <a:pt x="50" y="295"/>
                  </a:lnTo>
                  <a:lnTo>
                    <a:pt x="49" y="283"/>
                  </a:lnTo>
                  <a:lnTo>
                    <a:pt x="49" y="272"/>
                  </a:lnTo>
                  <a:lnTo>
                    <a:pt x="50" y="264"/>
                  </a:lnTo>
                  <a:lnTo>
                    <a:pt x="51" y="256"/>
                  </a:lnTo>
                  <a:lnTo>
                    <a:pt x="53" y="249"/>
                  </a:lnTo>
                  <a:lnTo>
                    <a:pt x="56" y="243"/>
                  </a:lnTo>
                  <a:lnTo>
                    <a:pt x="58" y="237"/>
                  </a:lnTo>
                  <a:lnTo>
                    <a:pt x="64" y="227"/>
                  </a:lnTo>
                  <a:lnTo>
                    <a:pt x="70" y="214"/>
                  </a:lnTo>
                  <a:lnTo>
                    <a:pt x="72" y="206"/>
                  </a:lnTo>
                  <a:lnTo>
                    <a:pt x="73" y="198"/>
                  </a:lnTo>
                  <a:lnTo>
                    <a:pt x="74" y="187"/>
                  </a:lnTo>
                  <a:lnTo>
                    <a:pt x="76" y="175"/>
                  </a:lnTo>
                  <a:lnTo>
                    <a:pt x="74" y="171"/>
                  </a:lnTo>
                  <a:lnTo>
                    <a:pt x="72" y="165"/>
                  </a:lnTo>
                  <a:lnTo>
                    <a:pt x="70" y="158"/>
                  </a:lnTo>
                  <a:lnTo>
                    <a:pt x="65" y="152"/>
                  </a:lnTo>
                  <a:lnTo>
                    <a:pt x="56" y="137"/>
                  </a:lnTo>
                  <a:lnTo>
                    <a:pt x="43" y="120"/>
                  </a:lnTo>
                  <a:lnTo>
                    <a:pt x="30" y="102"/>
                  </a:lnTo>
                  <a:lnTo>
                    <a:pt x="18" y="81"/>
                  </a:lnTo>
                  <a:lnTo>
                    <a:pt x="12" y="69"/>
                  </a:lnTo>
                  <a:lnTo>
                    <a:pt x="8" y="56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42" y="34"/>
                  </a:lnTo>
                  <a:lnTo>
                    <a:pt x="78" y="38"/>
                  </a:lnTo>
                  <a:lnTo>
                    <a:pt x="111" y="40"/>
                  </a:lnTo>
                  <a:lnTo>
                    <a:pt x="141" y="42"/>
                  </a:lnTo>
                  <a:lnTo>
                    <a:pt x="168" y="42"/>
                  </a:lnTo>
                  <a:lnTo>
                    <a:pt x="192" y="41"/>
                  </a:lnTo>
                  <a:lnTo>
                    <a:pt x="215" y="40"/>
                  </a:lnTo>
                  <a:lnTo>
                    <a:pt x="234" y="38"/>
                  </a:lnTo>
                  <a:lnTo>
                    <a:pt x="253" y="34"/>
                  </a:lnTo>
                  <a:lnTo>
                    <a:pt x="271" y="31"/>
                  </a:lnTo>
                  <a:lnTo>
                    <a:pt x="288" y="26"/>
                  </a:lnTo>
                  <a:lnTo>
                    <a:pt x="304" y="21"/>
                  </a:lnTo>
                  <a:lnTo>
                    <a:pt x="340" y="11"/>
                  </a:lnTo>
                  <a:lnTo>
                    <a:pt x="377" y="0"/>
                  </a:lnTo>
                  <a:lnTo>
                    <a:pt x="386" y="8"/>
                  </a:lnTo>
                  <a:lnTo>
                    <a:pt x="410" y="33"/>
                  </a:lnTo>
                  <a:lnTo>
                    <a:pt x="446" y="67"/>
                  </a:lnTo>
                  <a:lnTo>
                    <a:pt x="488" y="109"/>
                  </a:lnTo>
                  <a:lnTo>
                    <a:pt x="535" y="152"/>
                  </a:lnTo>
                  <a:lnTo>
                    <a:pt x="580" y="195"/>
                  </a:lnTo>
                  <a:lnTo>
                    <a:pt x="622" y="234"/>
                  </a:lnTo>
                  <a:lnTo>
                    <a:pt x="657" y="262"/>
                  </a:lnTo>
                  <a:lnTo>
                    <a:pt x="677" y="272"/>
                  </a:lnTo>
                  <a:lnTo>
                    <a:pt x="697" y="281"/>
                  </a:lnTo>
                  <a:lnTo>
                    <a:pt x="717" y="288"/>
                  </a:lnTo>
                  <a:lnTo>
                    <a:pt x="737" y="293"/>
                  </a:lnTo>
                  <a:lnTo>
                    <a:pt x="757" y="297"/>
                  </a:lnTo>
                  <a:lnTo>
                    <a:pt x="776" y="300"/>
                  </a:lnTo>
                  <a:lnTo>
                    <a:pt x="796" y="303"/>
                  </a:lnTo>
                  <a:lnTo>
                    <a:pt x="816" y="304"/>
                  </a:lnTo>
                  <a:lnTo>
                    <a:pt x="855" y="306"/>
                  </a:lnTo>
                  <a:lnTo>
                    <a:pt x="893" y="310"/>
                  </a:lnTo>
                  <a:lnTo>
                    <a:pt x="912" y="312"/>
                  </a:lnTo>
                  <a:lnTo>
                    <a:pt x="929" y="314"/>
                  </a:lnTo>
                  <a:lnTo>
                    <a:pt x="948" y="318"/>
                  </a:lnTo>
                  <a:lnTo>
                    <a:pt x="964" y="323"/>
                  </a:lnTo>
                  <a:lnTo>
                    <a:pt x="981" y="328"/>
                  </a:lnTo>
                  <a:lnTo>
                    <a:pt x="994" y="334"/>
                  </a:lnTo>
                  <a:lnTo>
                    <a:pt x="1004" y="340"/>
                  </a:lnTo>
                  <a:lnTo>
                    <a:pt x="1011" y="347"/>
                  </a:lnTo>
                  <a:lnTo>
                    <a:pt x="1014" y="349"/>
                  </a:lnTo>
                  <a:lnTo>
                    <a:pt x="1016" y="353"/>
                  </a:lnTo>
                  <a:lnTo>
                    <a:pt x="1016" y="355"/>
                  </a:lnTo>
                  <a:lnTo>
                    <a:pt x="1016" y="359"/>
                  </a:lnTo>
                  <a:lnTo>
                    <a:pt x="1016" y="362"/>
                  </a:lnTo>
                  <a:lnTo>
                    <a:pt x="1014" y="366"/>
                  </a:lnTo>
                  <a:lnTo>
                    <a:pt x="1011" y="368"/>
                  </a:lnTo>
                  <a:lnTo>
                    <a:pt x="1008" y="372"/>
                  </a:lnTo>
                  <a:lnTo>
                    <a:pt x="997" y="379"/>
                  </a:lnTo>
                  <a:lnTo>
                    <a:pt x="983" y="386"/>
                  </a:lnTo>
                  <a:lnTo>
                    <a:pt x="964" y="393"/>
                  </a:lnTo>
                  <a:lnTo>
                    <a:pt x="942" y="400"/>
                  </a:lnTo>
                  <a:lnTo>
                    <a:pt x="917" y="408"/>
                  </a:lnTo>
                  <a:lnTo>
                    <a:pt x="885" y="415"/>
                  </a:lnTo>
                  <a:lnTo>
                    <a:pt x="850" y="423"/>
                  </a:lnTo>
                  <a:lnTo>
                    <a:pt x="809" y="432"/>
                  </a:lnTo>
                  <a:lnTo>
                    <a:pt x="783" y="438"/>
                  </a:lnTo>
                  <a:lnTo>
                    <a:pt x="760" y="446"/>
                  </a:lnTo>
                  <a:lnTo>
                    <a:pt x="751" y="451"/>
                  </a:lnTo>
                  <a:lnTo>
                    <a:pt x="741" y="456"/>
                  </a:lnTo>
                  <a:lnTo>
                    <a:pt x="733" y="460"/>
                  </a:lnTo>
                  <a:lnTo>
                    <a:pt x="726" y="465"/>
                  </a:lnTo>
                  <a:lnTo>
                    <a:pt x="720" y="471"/>
                  </a:lnTo>
                  <a:lnTo>
                    <a:pt x="714" y="476"/>
                  </a:lnTo>
                  <a:lnTo>
                    <a:pt x="709" y="481"/>
                  </a:lnTo>
                  <a:lnTo>
                    <a:pt x="705" y="487"/>
                  </a:lnTo>
                  <a:lnTo>
                    <a:pt x="698" y="499"/>
                  </a:lnTo>
                  <a:lnTo>
                    <a:pt x="695" y="511"/>
                  </a:lnTo>
                  <a:lnTo>
                    <a:pt x="692" y="522"/>
                  </a:lnTo>
                  <a:lnTo>
                    <a:pt x="692" y="534"/>
                  </a:lnTo>
                  <a:lnTo>
                    <a:pt x="693" y="546"/>
                  </a:lnTo>
                  <a:lnTo>
                    <a:pt x="697" y="556"/>
                  </a:lnTo>
                  <a:lnTo>
                    <a:pt x="700" y="567"/>
                  </a:lnTo>
                  <a:lnTo>
                    <a:pt x="706" y="577"/>
                  </a:lnTo>
                  <a:lnTo>
                    <a:pt x="711" y="585"/>
                  </a:lnTo>
                  <a:lnTo>
                    <a:pt x="717" y="594"/>
                  </a:lnTo>
                  <a:lnTo>
                    <a:pt x="721" y="601"/>
                  </a:lnTo>
                  <a:lnTo>
                    <a:pt x="725" y="606"/>
                  </a:lnTo>
                  <a:lnTo>
                    <a:pt x="726" y="613"/>
                  </a:lnTo>
                  <a:lnTo>
                    <a:pt x="726" y="620"/>
                  </a:lnTo>
                  <a:lnTo>
                    <a:pt x="725" y="627"/>
                  </a:lnTo>
                  <a:lnTo>
                    <a:pt x="723" y="634"/>
                  </a:lnTo>
                  <a:lnTo>
                    <a:pt x="718" y="641"/>
                  </a:lnTo>
                  <a:lnTo>
                    <a:pt x="713" y="648"/>
                  </a:lnTo>
                  <a:lnTo>
                    <a:pt x="702" y="662"/>
                  </a:lnTo>
                  <a:lnTo>
                    <a:pt x="688" y="678"/>
                  </a:lnTo>
                  <a:lnTo>
                    <a:pt x="671" y="692"/>
                  </a:lnTo>
                  <a:lnTo>
                    <a:pt x="654" y="706"/>
                  </a:lnTo>
                  <a:lnTo>
                    <a:pt x="637" y="721"/>
                  </a:lnTo>
                  <a:lnTo>
                    <a:pt x="621" y="735"/>
                  </a:lnTo>
                  <a:lnTo>
                    <a:pt x="607" y="749"/>
                  </a:lnTo>
                  <a:lnTo>
                    <a:pt x="595" y="764"/>
                  </a:lnTo>
                  <a:lnTo>
                    <a:pt x="591" y="771"/>
                  </a:lnTo>
                  <a:lnTo>
                    <a:pt x="587" y="778"/>
                  </a:lnTo>
                  <a:lnTo>
                    <a:pt x="585" y="785"/>
                  </a:lnTo>
                  <a:lnTo>
                    <a:pt x="584" y="792"/>
                  </a:lnTo>
                  <a:lnTo>
                    <a:pt x="584" y="799"/>
                  </a:lnTo>
                  <a:lnTo>
                    <a:pt x="586" y="806"/>
                  </a:lnTo>
                  <a:lnTo>
                    <a:pt x="588" y="814"/>
                  </a:lnTo>
                  <a:lnTo>
                    <a:pt x="593" y="821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135"/>
            <p:cNvSpPr/>
            <p:nvPr/>
          </p:nvSpPr>
          <p:spPr>
            <a:xfrm>
              <a:off x="8190000" y="5735520"/>
              <a:ext cx="239040" cy="1728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588" h="1055">
                  <a:moveTo>
                    <a:pt x="1576" y="239"/>
                  </a:moveTo>
                  <a:lnTo>
                    <a:pt x="1580" y="281"/>
                  </a:lnTo>
                  <a:lnTo>
                    <a:pt x="1585" y="322"/>
                  </a:lnTo>
                  <a:lnTo>
                    <a:pt x="1587" y="361"/>
                  </a:lnTo>
                  <a:lnTo>
                    <a:pt x="1588" y="397"/>
                  </a:lnTo>
                  <a:lnTo>
                    <a:pt x="1588" y="432"/>
                  </a:lnTo>
                  <a:lnTo>
                    <a:pt x="1588" y="465"/>
                  </a:lnTo>
                  <a:lnTo>
                    <a:pt x="1586" y="496"/>
                  </a:lnTo>
                  <a:lnTo>
                    <a:pt x="1583" y="527"/>
                  </a:lnTo>
                  <a:lnTo>
                    <a:pt x="1579" y="555"/>
                  </a:lnTo>
                  <a:lnTo>
                    <a:pt x="1574" y="580"/>
                  </a:lnTo>
                  <a:lnTo>
                    <a:pt x="1570" y="606"/>
                  </a:lnTo>
                  <a:lnTo>
                    <a:pt x="1563" y="629"/>
                  </a:lnTo>
                  <a:lnTo>
                    <a:pt x="1557" y="652"/>
                  </a:lnTo>
                  <a:lnTo>
                    <a:pt x="1549" y="672"/>
                  </a:lnTo>
                  <a:lnTo>
                    <a:pt x="1542" y="691"/>
                  </a:lnTo>
                  <a:lnTo>
                    <a:pt x="1533" y="709"/>
                  </a:lnTo>
                  <a:lnTo>
                    <a:pt x="1524" y="726"/>
                  </a:lnTo>
                  <a:lnTo>
                    <a:pt x="1515" y="743"/>
                  </a:lnTo>
                  <a:lnTo>
                    <a:pt x="1505" y="757"/>
                  </a:lnTo>
                  <a:lnTo>
                    <a:pt x="1496" y="771"/>
                  </a:lnTo>
                  <a:lnTo>
                    <a:pt x="1477" y="795"/>
                  </a:lnTo>
                  <a:lnTo>
                    <a:pt x="1458" y="816"/>
                  </a:lnTo>
                  <a:lnTo>
                    <a:pt x="1439" y="834"/>
                  </a:lnTo>
                  <a:lnTo>
                    <a:pt x="1421" y="849"/>
                  </a:lnTo>
                  <a:lnTo>
                    <a:pt x="1405" y="862"/>
                  </a:lnTo>
                  <a:lnTo>
                    <a:pt x="1391" y="872"/>
                  </a:lnTo>
                  <a:lnTo>
                    <a:pt x="1373" y="885"/>
                  </a:lnTo>
                  <a:lnTo>
                    <a:pt x="1357" y="898"/>
                  </a:lnTo>
                  <a:lnTo>
                    <a:pt x="1342" y="910"/>
                  </a:lnTo>
                  <a:lnTo>
                    <a:pt x="1330" y="923"/>
                  </a:lnTo>
                  <a:lnTo>
                    <a:pt x="1319" y="934"/>
                  </a:lnTo>
                  <a:lnTo>
                    <a:pt x="1309" y="946"/>
                  </a:lnTo>
                  <a:lnTo>
                    <a:pt x="1300" y="959"/>
                  </a:lnTo>
                  <a:lnTo>
                    <a:pt x="1293" y="971"/>
                  </a:lnTo>
                  <a:lnTo>
                    <a:pt x="1287" y="981"/>
                  </a:lnTo>
                  <a:lnTo>
                    <a:pt x="1282" y="993"/>
                  </a:lnTo>
                  <a:lnTo>
                    <a:pt x="1279" y="1004"/>
                  </a:lnTo>
                  <a:lnTo>
                    <a:pt x="1277" y="1015"/>
                  </a:lnTo>
                  <a:lnTo>
                    <a:pt x="1274" y="1025"/>
                  </a:lnTo>
                  <a:lnTo>
                    <a:pt x="1273" y="1035"/>
                  </a:lnTo>
                  <a:lnTo>
                    <a:pt x="1273" y="1045"/>
                  </a:lnTo>
                  <a:lnTo>
                    <a:pt x="1273" y="1055"/>
                  </a:lnTo>
                  <a:lnTo>
                    <a:pt x="1260" y="1035"/>
                  </a:lnTo>
                  <a:lnTo>
                    <a:pt x="1246" y="1016"/>
                  </a:lnTo>
                  <a:lnTo>
                    <a:pt x="1230" y="1000"/>
                  </a:lnTo>
                  <a:lnTo>
                    <a:pt x="1212" y="985"/>
                  </a:lnTo>
                  <a:lnTo>
                    <a:pt x="1194" y="971"/>
                  </a:lnTo>
                  <a:lnTo>
                    <a:pt x="1173" y="958"/>
                  </a:lnTo>
                  <a:lnTo>
                    <a:pt x="1152" y="945"/>
                  </a:lnTo>
                  <a:lnTo>
                    <a:pt x="1130" y="934"/>
                  </a:lnTo>
                  <a:lnTo>
                    <a:pt x="1107" y="925"/>
                  </a:lnTo>
                  <a:lnTo>
                    <a:pt x="1084" y="916"/>
                  </a:lnTo>
                  <a:lnTo>
                    <a:pt x="1060" y="907"/>
                  </a:lnTo>
                  <a:lnTo>
                    <a:pt x="1037" y="899"/>
                  </a:lnTo>
                  <a:lnTo>
                    <a:pt x="989" y="885"/>
                  </a:lnTo>
                  <a:lnTo>
                    <a:pt x="941" y="872"/>
                  </a:lnTo>
                  <a:lnTo>
                    <a:pt x="920" y="867"/>
                  </a:lnTo>
                  <a:lnTo>
                    <a:pt x="903" y="858"/>
                  </a:lnTo>
                  <a:lnTo>
                    <a:pt x="886" y="850"/>
                  </a:lnTo>
                  <a:lnTo>
                    <a:pt x="875" y="841"/>
                  </a:lnTo>
                  <a:lnTo>
                    <a:pt x="863" y="830"/>
                  </a:lnTo>
                  <a:lnTo>
                    <a:pt x="855" y="820"/>
                  </a:lnTo>
                  <a:lnTo>
                    <a:pt x="848" y="807"/>
                  </a:lnTo>
                  <a:lnTo>
                    <a:pt x="841" y="794"/>
                  </a:lnTo>
                  <a:lnTo>
                    <a:pt x="830" y="767"/>
                  </a:lnTo>
                  <a:lnTo>
                    <a:pt x="820" y="737"/>
                  </a:lnTo>
                  <a:lnTo>
                    <a:pt x="814" y="722"/>
                  </a:lnTo>
                  <a:lnTo>
                    <a:pt x="806" y="705"/>
                  </a:lnTo>
                  <a:lnTo>
                    <a:pt x="798" y="688"/>
                  </a:lnTo>
                  <a:lnTo>
                    <a:pt x="786" y="672"/>
                  </a:lnTo>
                  <a:lnTo>
                    <a:pt x="753" y="659"/>
                  </a:lnTo>
                  <a:lnTo>
                    <a:pt x="722" y="646"/>
                  </a:lnTo>
                  <a:lnTo>
                    <a:pt x="692" y="632"/>
                  </a:lnTo>
                  <a:lnTo>
                    <a:pt x="666" y="617"/>
                  </a:lnTo>
                  <a:lnTo>
                    <a:pt x="640" y="601"/>
                  </a:lnTo>
                  <a:lnTo>
                    <a:pt x="618" y="586"/>
                  </a:lnTo>
                  <a:lnTo>
                    <a:pt x="597" y="571"/>
                  </a:lnTo>
                  <a:lnTo>
                    <a:pt x="579" y="556"/>
                  </a:lnTo>
                  <a:lnTo>
                    <a:pt x="549" y="529"/>
                  </a:lnTo>
                  <a:lnTo>
                    <a:pt x="527" y="507"/>
                  </a:lnTo>
                  <a:lnTo>
                    <a:pt x="514" y="493"/>
                  </a:lnTo>
                  <a:lnTo>
                    <a:pt x="510" y="487"/>
                  </a:lnTo>
                  <a:lnTo>
                    <a:pt x="354" y="441"/>
                  </a:lnTo>
                  <a:lnTo>
                    <a:pt x="0" y="112"/>
                  </a:lnTo>
                  <a:lnTo>
                    <a:pt x="15" y="47"/>
                  </a:lnTo>
                  <a:lnTo>
                    <a:pt x="548" y="0"/>
                  </a:lnTo>
                  <a:lnTo>
                    <a:pt x="579" y="55"/>
                  </a:lnTo>
                  <a:lnTo>
                    <a:pt x="927" y="23"/>
                  </a:lnTo>
                  <a:lnTo>
                    <a:pt x="1576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Freeform 136"/>
            <p:cNvSpPr/>
            <p:nvPr/>
          </p:nvSpPr>
          <p:spPr>
            <a:xfrm>
              <a:off x="8190000" y="5735520"/>
              <a:ext cx="239040" cy="1728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588" h="1055">
                  <a:moveTo>
                    <a:pt x="1576" y="239"/>
                  </a:moveTo>
                  <a:lnTo>
                    <a:pt x="1580" y="281"/>
                  </a:lnTo>
                  <a:lnTo>
                    <a:pt x="1585" y="322"/>
                  </a:lnTo>
                  <a:lnTo>
                    <a:pt x="1587" y="361"/>
                  </a:lnTo>
                  <a:lnTo>
                    <a:pt x="1588" y="397"/>
                  </a:lnTo>
                  <a:lnTo>
                    <a:pt x="1588" y="432"/>
                  </a:lnTo>
                  <a:lnTo>
                    <a:pt x="1588" y="465"/>
                  </a:lnTo>
                  <a:lnTo>
                    <a:pt x="1586" y="496"/>
                  </a:lnTo>
                  <a:lnTo>
                    <a:pt x="1583" y="527"/>
                  </a:lnTo>
                  <a:lnTo>
                    <a:pt x="1579" y="555"/>
                  </a:lnTo>
                  <a:lnTo>
                    <a:pt x="1574" y="580"/>
                  </a:lnTo>
                  <a:lnTo>
                    <a:pt x="1570" y="606"/>
                  </a:lnTo>
                  <a:lnTo>
                    <a:pt x="1563" y="629"/>
                  </a:lnTo>
                  <a:lnTo>
                    <a:pt x="1557" y="652"/>
                  </a:lnTo>
                  <a:lnTo>
                    <a:pt x="1549" y="672"/>
                  </a:lnTo>
                  <a:lnTo>
                    <a:pt x="1542" y="691"/>
                  </a:lnTo>
                  <a:lnTo>
                    <a:pt x="1533" y="709"/>
                  </a:lnTo>
                  <a:lnTo>
                    <a:pt x="1524" y="726"/>
                  </a:lnTo>
                  <a:lnTo>
                    <a:pt x="1515" y="743"/>
                  </a:lnTo>
                  <a:lnTo>
                    <a:pt x="1505" y="757"/>
                  </a:lnTo>
                  <a:lnTo>
                    <a:pt x="1496" y="771"/>
                  </a:lnTo>
                  <a:lnTo>
                    <a:pt x="1477" y="795"/>
                  </a:lnTo>
                  <a:lnTo>
                    <a:pt x="1458" y="816"/>
                  </a:lnTo>
                  <a:lnTo>
                    <a:pt x="1439" y="834"/>
                  </a:lnTo>
                  <a:lnTo>
                    <a:pt x="1421" y="849"/>
                  </a:lnTo>
                  <a:lnTo>
                    <a:pt x="1405" y="862"/>
                  </a:lnTo>
                  <a:lnTo>
                    <a:pt x="1391" y="872"/>
                  </a:lnTo>
                  <a:lnTo>
                    <a:pt x="1373" y="885"/>
                  </a:lnTo>
                  <a:lnTo>
                    <a:pt x="1357" y="898"/>
                  </a:lnTo>
                  <a:lnTo>
                    <a:pt x="1342" y="910"/>
                  </a:lnTo>
                  <a:lnTo>
                    <a:pt x="1330" y="923"/>
                  </a:lnTo>
                  <a:lnTo>
                    <a:pt x="1319" y="934"/>
                  </a:lnTo>
                  <a:lnTo>
                    <a:pt x="1309" y="946"/>
                  </a:lnTo>
                  <a:lnTo>
                    <a:pt x="1300" y="959"/>
                  </a:lnTo>
                  <a:lnTo>
                    <a:pt x="1293" y="971"/>
                  </a:lnTo>
                  <a:lnTo>
                    <a:pt x="1287" y="981"/>
                  </a:lnTo>
                  <a:lnTo>
                    <a:pt x="1282" y="993"/>
                  </a:lnTo>
                  <a:lnTo>
                    <a:pt x="1279" y="1004"/>
                  </a:lnTo>
                  <a:lnTo>
                    <a:pt x="1277" y="1015"/>
                  </a:lnTo>
                  <a:lnTo>
                    <a:pt x="1274" y="1025"/>
                  </a:lnTo>
                  <a:lnTo>
                    <a:pt x="1273" y="1035"/>
                  </a:lnTo>
                  <a:lnTo>
                    <a:pt x="1273" y="1045"/>
                  </a:lnTo>
                  <a:lnTo>
                    <a:pt x="1273" y="1055"/>
                  </a:lnTo>
                  <a:lnTo>
                    <a:pt x="1260" y="1035"/>
                  </a:lnTo>
                  <a:lnTo>
                    <a:pt x="1246" y="1016"/>
                  </a:lnTo>
                  <a:lnTo>
                    <a:pt x="1230" y="1000"/>
                  </a:lnTo>
                  <a:lnTo>
                    <a:pt x="1212" y="985"/>
                  </a:lnTo>
                  <a:lnTo>
                    <a:pt x="1194" y="971"/>
                  </a:lnTo>
                  <a:lnTo>
                    <a:pt x="1173" y="958"/>
                  </a:lnTo>
                  <a:lnTo>
                    <a:pt x="1152" y="945"/>
                  </a:lnTo>
                  <a:lnTo>
                    <a:pt x="1130" y="934"/>
                  </a:lnTo>
                  <a:lnTo>
                    <a:pt x="1107" y="925"/>
                  </a:lnTo>
                  <a:lnTo>
                    <a:pt x="1084" y="916"/>
                  </a:lnTo>
                  <a:lnTo>
                    <a:pt x="1060" y="907"/>
                  </a:lnTo>
                  <a:lnTo>
                    <a:pt x="1037" y="899"/>
                  </a:lnTo>
                  <a:lnTo>
                    <a:pt x="989" y="885"/>
                  </a:lnTo>
                  <a:lnTo>
                    <a:pt x="941" y="872"/>
                  </a:lnTo>
                  <a:lnTo>
                    <a:pt x="920" y="867"/>
                  </a:lnTo>
                  <a:lnTo>
                    <a:pt x="903" y="858"/>
                  </a:lnTo>
                  <a:lnTo>
                    <a:pt x="886" y="850"/>
                  </a:lnTo>
                  <a:lnTo>
                    <a:pt x="875" y="841"/>
                  </a:lnTo>
                  <a:lnTo>
                    <a:pt x="863" y="830"/>
                  </a:lnTo>
                  <a:lnTo>
                    <a:pt x="855" y="820"/>
                  </a:lnTo>
                  <a:lnTo>
                    <a:pt x="848" y="807"/>
                  </a:lnTo>
                  <a:lnTo>
                    <a:pt x="841" y="794"/>
                  </a:lnTo>
                  <a:lnTo>
                    <a:pt x="830" y="767"/>
                  </a:lnTo>
                  <a:lnTo>
                    <a:pt x="820" y="737"/>
                  </a:lnTo>
                  <a:lnTo>
                    <a:pt x="814" y="722"/>
                  </a:lnTo>
                  <a:lnTo>
                    <a:pt x="806" y="705"/>
                  </a:lnTo>
                  <a:lnTo>
                    <a:pt x="798" y="688"/>
                  </a:lnTo>
                  <a:lnTo>
                    <a:pt x="786" y="672"/>
                  </a:lnTo>
                  <a:lnTo>
                    <a:pt x="753" y="659"/>
                  </a:lnTo>
                  <a:lnTo>
                    <a:pt x="722" y="646"/>
                  </a:lnTo>
                  <a:lnTo>
                    <a:pt x="692" y="632"/>
                  </a:lnTo>
                  <a:lnTo>
                    <a:pt x="666" y="617"/>
                  </a:lnTo>
                  <a:lnTo>
                    <a:pt x="640" y="601"/>
                  </a:lnTo>
                  <a:lnTo>
                    <a:pt x="618" y="586"/>
                  </a:lnTo>
                  <a:lnTo>
                    <a:pt x="597" y="571"/>
                  </a:lnTo>
                  <a:lnTo>
                    <a:pt x="579" y="556"/>
                  </a:lnTo>
                  <a:lnTo>
                    <a:pt x="549" y="529"/>
                  </a:lnTo>
                  <a:lnTo>
                    <a:pt x="527" y="507"/>
                  </a:lnTo>
                  <a:lnTo>
                    <a:pt x="514" y="493"/>
                  </a:lnTo>
                  <a:lnTo>
                    <a:pt x="510" y="487"/>
                  </a:lnTo>
                  <a:lnTo>
                    <a:pt x="354" y="441"/>
                  </a:lnTo>
                  <a:lnTo>
                    <a:pt x="0" y="112"/>
                  </a:lnTo>
                  <a:lnTo>
                    <a:pt x="15" y="47"/>
                  </a:lnTo>
                  <a:lnTo>
                    <a:pt x="548" y="0"/>
                  </a:lnTo>
                  <a:lnTo>
                    <a:pt x="579" y="55"/>
                  </a:lnTo>
                  <a:lnTo>
                    <a:pt x="927" y="23"/>
                  </a:lnTo>
                  <a:lnTo>
                    <a:pt x="1576" y="239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137"/>
            <p:cNvSpPr/>
            <p:nvPr/>
          </p:nvSpPr>
          <p:spPr>
            <a:xfrm>
              <a:off x="8109360" y="5631120"/>
              <a:ext cx="401400" cy="1443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666" h="882">
                  <a:moveTo>
                    <a:pt x="541" y="755"/>
                  </a:moveTo>
                  <a:lnTo>
                    <a:pt x="556" y="690"/>
                  </a:lnTo>
                  <a:lnTo>
                    <a:pt x="1089" y="643"/>
                  </a:lnTo>
                  <a:lnTo>
                    <a:pt x="1120" y="698"/>
                  </a:lnTo>
                  <a:lnTo>
                    <a:pt x="1468" y="666"/>
                  </a:lnTo>
                  <a:lnTo>
                    <a:pt x="2117" y="882"/>
                  </a:lnTo>
                  <a:lnTo>
                    <a:pt x="2317" y="851"/>
                  </a:lnTo>
                  <a:lnTo>
                    <a:pt x="2316" y="843"/>
                  </a:lnTo>
                  <a:lnTo>
                    <a:pt x="2312" y="822"/>
                  </a:lnTo>
                  <a:lnTo>
                    <a:pt x="2307" y="790"/>
                  </a:lnTo>
                  <a:lnTo>
                    <a:pt x="2302" y="753"/>
                  </a:lnTo>
                  <a:lnTo>
                    <a:pt x="2301" y="733"/>
                  </a:lnTo>
                  <a:lnTo>
                    <a:pt x="2301" y="713"/>
                  </a:lnTo>
                  <a:lnTo>
                    <a:pt x="2302" y="694"/>
                  </a:lnTo>
                  <a:lnTo>
                    <a:pt x="2305" y="676"/>
                  </a:lnTo>
                  <a:lnTo>
                    <a:pt x="2308" y="658"/>
                  </a:lnTo>
                  <a:lnTo>
                    <a:pt x="2314" y="643"/>
                  </a:lnTo>
                  <a:lnTo>
                    <a:pt x="2319" y="637"/>
                  </a:lnTo>
                  <a:lnTo>
                    <a:pt x="2322" y="630"/>
                  </a:lnTo>
                  <a:lnTo>
                    <a:pt x="2327" y="625"/>
                  </a:lnTo>
                  <a:lnTo>
                    <a:pt x="2333" y="621"/>
                  </a:lnTo>
                  <a:lnTo>
                    <a:pt x="2344" y="610"/>
                  </a:lnTo>
                  <a:lnTo>
                    <a:pt x="2357" y="599"/>
                  </a:lnTo>
                  <a:lnTo>
                    <a:pt x="2371" y="586"/>
                  </a:lnTo>
                  <a:lnTo>
                    <a:pt x="2386" y="572"/>
                  </a:lnTo>
                  <a:lnTo>
                    <a:pt x="2418" y="540"/>
                  </a:lnTo>
                  <a:lnTo>
                    <a:pt x="2453" y="507"/>
                  </a:lnTo>
                  <a:lnTo>
                    <a:pt x="2473" y="492"/>
                  </a:lnTo>
                  <a:lnTo>
                    <a:pt x="2494" y="477"/>
                  </a:lnTo>
                  <a:lnTo>
                    <a:pt x="2515" y="463"/>
                  </a:lnTo>
                  <a:lnTo>
                    <a:pt x="2538" y="450"/>
                  </a:lnTo>
                  <a:lnTo>
                    <a:pt x="2550" y="444"/>
                  </a:lnTo>
                  <a:lnTo>
                    <a:pt x="2563" y="438"/>
                  </a:lnTo>
                  <a:lnTo>
                    <a:pt x="2576" y="434"/>
                  </a:lnTo>
                  <a:lnTo>
                    <a:pt x="2588" y="429"/>
                  </a:lnTo>
                  <a:lnTo>
                    <a:pt x="2601" y="426"/>
                  </a:lnTo>
                  <a:lnTo>
                    <a:pt x="2615" y="422"/>
                  </a:lnTo>
                  <a:lnTo>
                    <a:pt x="2629" y="420"/>
                  </a:lnTo>
                  <a:lnTo>
                    <a:pt x="2643" y="419"/>
                  </a:lnTo>
                  <a:lnTo>
                    <a:pt x="2645" y="403"/>
                  </a:lnTo>
                  <a:lnTo>
                    <a:pt x="2646" y="387"/>
                  </a:lnTo>
                  <a:lnTo>
                    <a:pt x="2648" y="370"/>
                  </a:lnTo>
                  <a:lnTo>
                    <a:pt x="2652" y="351"/>
                  </a:lnTo>
                  <a:lnTo>
                    <a:pt x="2659" y="314"/>
                  </a:lnTo>
                  <a:lnTo>
                    <a:pt x="2664" y="276"/>
                  </a:lnTo>
                  <a:lnTo>
                    <a:pt x="2666" y="257"/>
                  </a:lnTo>
                  <a:lnTo>
                    <a:pt x="2666" y="239"/>
                  </a:lnTo>
                  <a:lnTo>
                    <a:pt x="2664" y="222"/>
                  </a:lnTo>
                  <a:lnTo>
                    <a:pt x="2662" y="206"/>
                  </a:lnTo>
                  <a:lnTo>
                    <a:pt x="2660" y="198"/>
                  </a:lnTo>
                  <a:lnTo>
                    <a:pt x="2656" y="191"/>
                  </a:lnTo>
                  <a:lnTo>
                    <a:pt x="2653" y="184"/>
                  </a:lnTo>
                  <a:lnTo>
                    <a:pt x="2649" y="178"/>
                  </a:lnTo>
                  <a:lnTo>
                    <a:pt x="2645" y="172"/>
                  </a:lnTo>
                  <a:lnTo>
                    <a:pt x="2639" y="166"/>
                  </a:lnTo>
                  <a:lnTo>
                    <a:pt x="2633" y="160"/>
                  </a:lnTo>
                  <a:lnTo>
                    <a:pt x="2626" y="157"/>
                  </a:lnTo>
                  <a:lnTo>
                    <a:pt x="2597" y="141"/>
                  </a:lnTo>
                  <a:lnTo>
                    <a:pt x="2569" y="128"/>
                  </a:lnTo>
                  <a:lnTo>
                    <a:pt x="2539" y="116"/>
                  </a:lnTo>
                  <a:lnTo>
                    <a:pt x="2511" y="102"/>
                  </a:lnTo>
                  <a:lnTo>
                    <a:pt x="2496" y="95"/>
                  </a:lnTo>
                  <a:lnTo>
                    <a:pt x="2482" y="86"/>
                  </a:lnTo>
                  <a:lnTo>
                    <a:pt x="2468" y="76"/>
                  </a:lnTo>
                  <a:lnTo>
                    <a:pt x="2454" y="65"/>
                  </a:lnTo>
                  <a:lnTo>
                    <a:pt x="2439" y="52"/>
                  </a:lnTo>
                  <a:lnTo>
                    <a:pt x="2425" y="37"/>
                  </a:lnTo>
                  <a:lnTo>
                    <a:pt x="2411" y="20"/>
                  </a:lnTo>
                  <a:lnTo>
                    <a:pt x="2396" y="0"/>
                  </a:lnTo>
                  <a:lnTo>
                    <a:pt x="625" y="240"/>
                  </a:lnTo>
                  <a:lnTo>
                    <a:pt x="618" y="246"/>
                  </a:lnTo>
                  <a:lnTo>
                    <a:pt x="613" y="252"/>
                  </a:lnTo>
                  <a:lnTo>
                    <a:pt x="611" y="260"/>
                  </a:lnTo>
                  <a:lnTo>
                    <a:pt x="607" y="269"/>
                  </a:lnTo>
                  <a:lnTo>
                    <a:pt x="605" y="290"/>
                  </a:lnTo>
                  <a:lnTo>
                    <a:pt x="603" y="311"/>
                  </a:lnTo>
                  <a:lnTo>
                    <a:pt x="600" y="323"/>
                  </a:lnTo>
                  <a:lnTo>
                    <a:pt x="598" y="333"/>
                  </a:lnTo>
                  <a:lnTo>
                    <a:pt x="593" y="343"/>
                  </a:lnTo>
                  <a:lnTo>
                    <a:pt x="589" y="351"/>
                  </a:lnTo>
                  <a:lnTo>
                    <a:pt x="582" y="359"/>
                  </a:lnTo>
                  <a:lnTo>
                    <a:pt x="573" y="365"/>
                  </a:lnTo>
                  <a:lnTo>
                    <a:pt x="569" y="367"/>
                  </a:lnTo>
                  <a:lnTo>
                    <a:pt x="563" y="370"/>
                  </a:lnTo>
                  <a:lnTo>
                    <a:pt x="557" y="372"/>
                  </a:lnTo>
                  <a:lnTo>
                    <a:pt x="550" y="372"/>
                  </a:lnTo>
                  <a:lnTo>
                    <a:pt x="538" y="374"/>
                  </a:lnTo>
                  <a:lnTo>
                    <a:pt x="528" y="377"/>
                  </a:lnTo>
                  <a:lnTo>
                    <a:pt x="517" y="380"/>
                  </a:lnTo>
                  <a:lnTo>
                    <a:pt x="507" y="385"/>
                  </a:lnTo>
                  <a:lnTo>
                    <a:pt x="498" y="389"/>
                  </a:lnTo>
                  <a:lnTo>
                    <a:pt x="488" y="395"/>
                  </a:lnTo>
                  <a:lnTo>
                    <a:pt x="480" y="401"/>
                  </a:lnTo>
                  <a:lnTo>
                    <a:pt x="472" y="408"/>
                  </a:lnTo>
                  <a:lnTo>
                    <a:pt x="455" y="423"/>
                  </a:lnTo>
                  <a:lnTo>
                    <a:pt x="440" y="438"/>
                  </a:lnTo>
                  <a:lnTo>
                    <a:pt x="424" y="456"/>
                  </a:lnTo>
                  <a:lnTo>
                    <a:pt x="409" y="474"/>
                  </a:lnTo>
                  <a:lnTo>
                    <a:pt x="394" y="491"/>
                  </a:lnTo>
                  <a:lnTo>
                    <a:pt x="377" y="507"/>
                  </a:lnTo>
                  <a:lnTo>
                    <a:pt x="360" y="524"/>
                  </a:lnTo>
                  <a:lnTo>
                    <a:pt x="341" y="539"/>
                  </a:lnTo>
                  <a:lnTo>
                    <a:pt x="332" y="545"/>
                  </a:lnTo>
                  <a:lnTo>
                    <a:pt x="321" y="552"/>
                  </a:lnTo>
                  <a:lnTo>
                    <a:pt x="311" y="556"/>
                  </a:lnTo>
                  <a:lnTo>
                    <a:pt x="299" y="562"/>
                  </a:lnTo>
                  <a:lnTo>
                    <a:pt x="287" y="566"/>
                  </a:lnTo>
                  <a:lnTo>
                    <a:pt x="274" y="569"/>
                  </a:lnTo>
                  <a:lnTo>
                    <a:pt x="262" y="573"/>
                  </a:lnTo>
                  <a:lnTo>
                    <a:pt x="248" y="574"/>
                  </a:lnTo>
                  <a:lnTo>
                    <a:pt x="236" y="575"/>
                  </a:lnTo>
                  <a:lnTo>
                    <a:pt x="224" y="577"/>
                  </a:lnTo>
                  <a:lnTo>
                    <a:pt x="213" y="580"/>
                  </a:lnTo>
                  <a:lnTo>
                    <a:pt x="201" y="583"/>
                  </a:lnTo>
                  <a:lnTo>
                    <a:pt x="177" y="592"/>
                  </a:lnTo>
                  <a:lnTo>
                    <a:pt x="154" y="601"/>
                  </a:lnTo>
                  <a:lnTo>
                    <a:pt x="132" y="613"/>
                  </a:lnTo>
                  <a:lnTo>
                    <a:pt x="111" y="625"/>
                  </a:lnTo>
                  <a:lnTo>
                    <a:pt x="91" y="639"/>
                  </a:lnTo>
                  <a:lnTo>
                    <a:pt x="72" y="653"/>
                  </a:lnTo>
                  <a:lnTo>
                    <a:pt x="56" y="669"/>
                  </a:lnTo>
                  <a:lnTo>
                    <a:pt x="41" y="683"/>
                  </a:lnTo>
                  <a:lnTo>
                    <a:pt x="28" y="697"/>
                  </a:lnTo>
                  <a:lnTo>
                    <a:pt x="19" y="709"/>
                  </a:lnTo>
                  <a:lnTo>
                    <a:pt x="12" y="720"/>
                  </a:lnTo>
                  <a:lnTo>
                    <a:pt x="7" y="731"/>
                  </a:lnTo>
                  <a:lnTo>
                    <a:pt x="6" y="735"/>
                  </a:lnTo>
                  <a:lnTo>
                    <a:pt x="6" y="739"/>
                  </a:lnTo>
                  <a:lnTo>
                    <a:pt x="7" y="741"/>
                  </a:lnTo>
                  <a:lnTo>
                    <a:pt x="8" y="745"/>
                  </a:lnTo>
                  <a:lnTo>
                    <a:pt x="12" y="748"/>
                  </a:lnTo>
                  <a:lnTo>
                    <a:pt x="15" y="754"/>
                  </a:lnTo>
                  <a:lnTo>
                    <a:pt x="17" y="759"/>
                  </a:lnTo>
                  <a:lnTo>
                    <a:pt x="19" y="763"/>
                  </a:lnTo>
                  <a:lnTo>
                    <a:pt x="20" y="775"/>
                  </a:lnTo>
                  <a:lnTo>
                    <a:pt x="17" y="785"/>
                  </a:lnTo>
                  <a:lnTo>
                    <a:pt x="15" y="795"/>
                  </a:lnTo>
                  <a:lnTo>
                    <a:pt x="10" y="803"/>
                  </a:lnTo>
                  <a:lnTo>
                    <a:pt x="5" y="810"/>
                  </a:lnTo>
                  <a:lnTo>
                    <a:pt x="0" y="813"/>
                  </a:lnTo>
                  <a:lnTo>
                    <a:pt x="541" y="75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138"/>
            <p:cNvSpPr/>
            <p:nvPr/>
          </p:nvSpPr>
          <p:spPr>
            <a:xfrm>
              <a:off x="8109360" y="5631120"/>
              <a:ext cx="401400" cy="1443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666" h="882">
                  <a:moveTo>
                    <a:pt x="541" y="755"/>
                  </a:moveTo>
                  <a:lnTo>
                    <a:pt x="556" y="690"/>
                  </a:lnTo>
                  <a:lnTo>
                    <a:pt x="1089" y="643"/>
                  </a:lnTo>
                  <a:lnTo>
                    <a:pt x="1120" y="698"/>
                  </a:lnTo>
                  <a:lnTo>
                    <a:pt x="1468" y="666"/>
                  </a:lnTo>
                  <a:lnTo>
                    <a:pt x="2117" y="882"/>
                  </a:lnTo>
                  <a:lnTo>
                    <a:pt x="2317" y="851"/>
                  </a:lnTo>
                  <a:lnTo>
                    <a:pt x="2316" y="843"/>
                  </a:lnTo>
                  <a:lnTo>
                    <a:pt x="2312" y="822"/>
                  </a:lnTo>
                  <a:lnTo>
                    <a:pt x="2307" y="790"/>
                  </a:lnTo>
                  <a:lnTo>
                    <a:pt x="2302" y="753"/>
                  </a:lnTo>
                  <a:lnTo>
                    <a:pt x="2301" y="733"/>
                  </a:lnTo>
                  <a:lnTo>
                    <a:pt x="2301" y="713"/>
                  </a:lnTo>
                  <a:lnTo>
                    <a:pt x="2302" y="694"/>
                  </a:lnTo>
                  <a:lnTo>
                    <a:pt x="2305" y="676"/>
                  </a:lnTo>
                  <a:lnTo>
                    <a:pt x="2308" y="658"/>
                  </a:lnTo>
                  <a:lnTo>
                    <a:pt x="2314" y="643"/>
                  </a:lnTo>
                  <a:lnTo>
                    <a:pt x="2319" y="637"/>
                  </a:lnTo>
                  <a:lnTo>
                    <a:pt x="2322" y="630"/>
                  </a:lnTo>
                  <a:lnTo>
                    <a:pt x="2327" y="625"/>
                  </a:lnTo>
                  <a:lnTo>
                    <a:pt x="2333" y="621"/>
                  </a:lnTo>
                  <a:lnTo>
                    <a:pt x="2344" y="610"/>
                  </a:lnTo>
                  <a:lnTo>
                    <a:pt x="2357" y="599"/>
                  </a:lnTo>
                  <a:lnTo>
                    <a:pt x="2371" y="586"/>
                  </a:lnTo>
                  <a:lnTo>
                    <a:pt x="2386" y="572"/>
                  </a:lnTo>
                  <a:lnTo>
                    <a:pt x="2418" y="540"/>
                  </a:lnTo>
                  <a:lnTo>
                    <a:pt x="2453" y="507"/>
                  </a:lnTo>
                  <a:lnTo>
                    <a:pt x="2473" y="492"/>
                  </a:lnTo>
                  <a:lnTo>
                    <a:pt x="2494" y="477"/>
                  </a:lnTo>
                  <a:lnTo>
                    <a:pt x="2515" y="463"/>
                  </a:lnTo>
                  <a:lnTo>
                    <a:pt x="2538" y="450"/>
                  </a:lnTo>
                  <a:lnTo>
                    <a:pt x="2550" y="444"/>
                  </a:lnTo>
                  <a:lnTo>
                    <a:pt x="2563" y="438"/>
                  </a:lnTo>
                  <a:lnTo>
                    <a:pt x="2576" y="434"/>
                  </a:lnTo>
                  <a:lnTo>
                    <a:pt x="2588" y="429"/>
                  </a:lnTo>
                  <a:lnTo>
                    <a:pt x="2601" y="426"/>
                  </a:lnTo>
                  <a:lnTo>
                    <a:pt x="2615" y="422"/>
                  </a:lnTo>
                  <a:lnTo>
                    <a:pt x="2629" y="420"/>
                  </a:lnTo>
                  <a:lnTo>
                    <a:pt x="2643" y="419"/>
                  </a:lnTo>
                  <a:lnTo>
                    <a:pt x="2645" y="403"/>
                  </a:lnTo>
                  <a:lnTo>
                    <a:pt x="2646" y="387"/>
                  </a:lnTo>
                  <a:lnTo>
                    <a:pt x="2648" y="370"/>
                  </a:lnTo>
                  <a:lnTo>
                    <a:pt x="2652" y="351"/>
                  </a:lnTo>
                  <a:lnTo>
                    <a:pt x="2659" y="314"/>
                  </a:lnTo>
                  <a:lnTo>
                    <a:pt x="2664" y="276"/>
                  </a:lnTo>
                  <a:lnTo>
                    <a:pt x="2666" y="257"/>
                  </a:lnTo>
                  <a:lnTo>
                    <a:pt x="2666" y="239"/>
                  </a:lnTo>
                  <a:lnTo>
                    <a:pt x="2664" y="222"/>
                  </a:lnTo>
                  <a:lnTo>
                    <a:pt x="2662" y="206"/>
                  </a:lnTo>
                  <a:lnTo>
                    <a:pt x="2660" y="198"/>
                  </a:lnTo>
                  <a:lnTo>
                    <a:pt x="2656" y="191"/>
                  </a:lnTo>
                  <a:lnTo>
                    <a:pt x="2653" y="184"/>
                  </a:lnTo>
                  <a:lnTo>
                    <a:pt x="2649" y="178"/>
                  </a:lnTo>
                  <a:lnTo>
                    <a:pt x="2645" y="172"/>
                  </a:lnTo>
                  <a:lnTo>
                    <a:pt x="2639" y="166"/>
                  </a:lnTo>
                  <a:lnTo>
                    <a:pt x="2633" y="160"/>
                  </a:lnTo>
                  <a:lnTo>
                    <a:pt x="2626" y="157"/>
                  </a:lnTo>
                  <a:lnTo>
                    <a:pt x="2597" y="141"/>
                  </a:lnTo>
                  <a:lnTo>
                    <a:pt x="2569" y="128"/>
                  </a:lnTo>
                  <a:lnTo>
                    <a:pt x="2539" y="116"/>
                  </a:lnTo>
                  <a:lnTo>
                    <a:pt x="2511" y="102"/>
                  </a:lnTo>
                  <a:lnTo>
                    <a:pt x="2496" y="95"/>
                  </a:lnTo>
                  <a:lnTo>
                    <a:pt x="2482" y="86"/>
                  </a:lnTo>
                  <a:lnTo>
                    <a:pt x="2468" y="76"/>
                  </a:lnTo>
                  <a:lnTo>
                    <a:pt x="2454" y="65"/>
                  </a:lnTo>
                  <a:lnTo>
                    <a:pt x="2439" y="52"/>
                  </a:lnTo>
                  <a:lnTo>
                    <a:pt x="2425" y="37"/>
                  </a:lnTo>
                  <a:lnTo>
                    <a:pt x="2411" y="20"/>
                  </a:lnTo>
                  <a:lnTo>
                    <a:pt x="2396" y="0"/>
                  </a:lnTo>
                  <a:lnTo>
                    <a:pt x="625" y="240"/>
                  </a:lnTo>
                  <a:lnTo>
                    <a:pt x="618" y="246"/>
                  </a:lnTo>
                  <a:lnTo>
                    <a:pt x="613" y="252"/>
                  </a:lnTo>
                  <a:lnTo>
                    <a:pt x="611" y="260"/>
                  </a:lnTo>
                  <a:lnTo>
                    <a:pt x="607" y="269"/>
                  </a:lnTo>
                  <a:lnTo>
                    <a:pt x="605" y="290"/>
                  </a:lnTo>
                  <a:lnTo>
                    <a:pt x="603" y="311"/>
                  </a:lnTo>
                  <a:lnTo>
                    <a:pt x="600" y="323"/>
                  </a:lnTo>
                  <a:lnTo>
                    <a:pt x="598" y="333"/>
                  </a:lnTo>
                  <a:lnTo>
                    <a:pt x="593" y="343"/>
                  </a:lnTo>
                  <a:lnTo>
                    <a:pt x="589" y="351"/>
                  </a:lnTo>
                  <a:lnTo>
                    <a:pt x="582" y="359"/>
                  </a:lnTo>
                  <a:lnTo>
                    <a:pt x="573" y="365"/>
                  </a:lnTo>
                  <a:lnTo>
                    <a:pt x="569" y="367"/>
                  </a:lnTo>
                  <a:lnTo>
                    <a:pt x="563" y="370"/>
                  </a:lnTo>
                  <a:lnTo>
                    <a:pt x="557" y="372"/>
                  </a:lnTo>
                  <a:lnTo>
                    <a:pt x="550" y="372"/>
                  </a:lnTo>
                  <a:lnTo>
                    <a:pt x="538" y="374"/>
                  </a:lnTo>
                  <a:lnTo>
                    <a:pt x="528" y="377"/>
                  </a:lnTo>
                  <a:lnTo>
                    <a:pt x="517" y="380"/>
                  </a:lnTo>
                  <a:lnTo>
                    <a:pt x="507" y="385"/>
                  </a:lnTo>
                  <a:lnTo>
                    <a:pt x="498" y="389"/>
                  </a:lnTo>
                  <a:lnTo>
                    <a:pt x="488" y="395"/>
                  </a:lnTo>
                  <a:lnTo>
                    <a:pt x="480" y="401"/>
                  </a:lnTo>
                  <a:lnTo>
                    <a:pt x="472" y="408"/>
                  </a:lnTo>
                  <a:lnTo>
                    <a:pt x="455" y="423"/>
                  </a:lnTo>
                  <a:lnTo>
                    <a:pt x="440" y="438"/>
                  </a:lnTo>
                  <a:lnTo>
                    <a:pt x="424" y="456"/>
                  </a:lnTo>
                  <a:lnTo>
                    <a:pt x="409" y="474"/>
                  </a:lnTo>
                  <a:lnTo>
                    <a:pt x="394" y="491"/>
                  </a:lnTo>
                  <a:lnTo>
                    <a:pt x="377" y="507"/>
                  </a:lnTo>
                  <a:lnTo>
                    <a:pt x="360" y="524"/>
                  </a:lnTo>
                  <a:lnTo>
                    <a:pt x="341" y="539"/>
                  </a:lnTo>
                  <a:lnTo>
                    <a:pt x="332" y="545"/>
                  </a:lnTo>
                  <a:lnTo>
                    <a:pt x="321" y="552"/>
                  </a:lnTo>
                  <a:lnTo>
                    <a:pt x="311" y="556"/>
                  </a:lnTo>
                  <a:lnTo>
                    <a:pt x="299" y="562"/>
                  </a:lnTo>
                  <a:lnTo>
                    <a:pt x="287" y="566"/>
                  </a:lnTo>
                  <a:lnTo>
                    <a:pt x="274" y="569"/>
                  </a:lnTo>
                  <a:lnTo>
                    <a:pt x="262" y="573"/>
                  </a:lnTo>
                  <a:lnTo>
                    <a:pt x="248" y="574"/>
                  </a:lnTo>
                  <a:lnTo>
                    <a:pt x="236" y="575"/>
                  </a:lnTo>
                  <a:lnTo>
                    <a:pt x="224" y="577"/>
                  </a:lnTo>
                  <a:lnTo>
                    <a:pt x="213" y="580"/>
                  </a:lnTo>
                  <a:lnTo>
                    <a:pt x="201" y="583"/>
                  </a:lnTo>
                  <a:lnTo>
                    <a:pt x="177" y="592"/>
                  </a:lnTo>
                  <a:lnTo>
                    <a:pt x="154" y="601"/>
                  </a:lnTo>
                  <a:lnTo>
                    <a:pt x="132" y="613"/>
                  </a:lnTo>
                  <a:lnTo>
                    <a:pt x="111" y="625"/>
                  </a:lnTo>
                  <a:lnTo>
                    <a:pt x="91" y="639"/>
                  </a:lnTo>
                  <a:lnTo>
                    <a:pt x="72" y="653"/>
                  </a:lnTo>
                  <a:lnTo>
                    <a:pt x="56" y="669"/>
                  </a:lnTo>
                  <a:lnTo>
                    <a:pt x="41" y="683"/>
                  </a:lnTo>
                  <a:lnTo>
                    <a:pt x="28" y="697"/>
                  </a:lnTo>
                  <a:lnTo>
                    <a:pt x="19" y="709"/>
                  </a:lnTo>
                  <a:lnTo>
                    <a:pt x="12" y="720"/>
                  </a:lnTo>
                  <a:lnTo>
                    <a:pt x="7" y="731"/>
                  </a:lnTo>
                  <a:lnTo>
                    <a:pt x="6" y="735"/>
                  </a:lnTo>
                  <a:lnTo>
                    <a:pt x="6" y="739"/>
                  </a:lnTo>
                  <a:lnTo>
                    <a:pt x="7" y="741"/>
                  </a:lnTo>
                  <a:lnTo>
                    <a:pt x="8" y="745"/>
                  </a:lnTo>
                  <a:lnTo>
                    <a:pt x="12" y="748"/>
                  </a:lnTo>
                  <a:lnTo>
                    <a:pt x="15" y="754"/>
                  </a:lnTo>
                  <a:lnTo>
                    <a:pt x="17" y="759"/>
                  </a:lnTo>
                  <a:lnTo>
                    <a:pt x="19" y="763"/>
                  </a:lnTo>
                  <a:lnTo>
                    <a:pt x="20" y="775"/>
                  </a:lnTo>
                  <a:lnTo>
                    <a:pt x="17" y="785"/>
                  </a:lnTo>
                  <a:lnTo>
                    <a:pt x="15" y="795"/>
                  </a:lnTo>
                  <a:lnTo>
                    <a:pt x="10" y="803"/>
                  </a:lnTo>
                  <a:lnTo>
                    <a:pt x="5" y="810"/>
                  </a:lnTo>
                  <a:lnTo>
                    <a:pt x="0" y="813"/>
                  </a:lnTo>
                  <a:lnTo>
                    <a:pt x="541" y="75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Freeform 139"/>
            <p:cNvSpPr/>
            <p:nvPr/>
          </p:nvSpPr>
          <p:spPr>
            <a:xfrm>
              <a:off x="7811640" y="5668560"/>
              <a:ext cx="389880" cy="12960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590" h="792">
                  <a:moveTo>
                    <a:pt x="2590" y="0"/>
                  </a:moveTo>
                  <a:lnTo>
                    <a:pt x="613" y="265"/>
                  </a:lnTo>
                  <a:lnTo>
                    <a:pt x="596" y="311"/>
                  </a:lnTo>
                  <a:lnTo>
                    <a:pt x="78" y="366"/>
                  </a:lnTo>
                  <a:lnTo>
                    <a:pt x="76" y="377"/>
                  </a:lnTo>
                  <a:lnTo>
                    <a:pt x="75" y="388"/>
                  </a:lnTo>
                  <a:lnTo>
                    <a:pt x="74" y="398"/>
                  </a:lnTo>
                  <a:lnTo>
                    <a:pt x="74" y="408"/>
                  </a:lnTo>
                  <a:lnTo>
                    <a:pt x="74" y="426"/>
                  </a:lnTo>
                  <a:lnTo>
                    <a:pt x="74" y="443"/>
                  </a:lnTo>
                  <a:lnTo>
                    <a:pt x="73" y="452"/>
                  </a:lnTo>
                  <a:lnTo>
                    <a:pt x="70" y="460"/>
                  </a:lnTo>
                  <a:lnTo>
                    <a:pt x="68" y="469"/>
                  </a:lnTo>
                  <a:lnTo>
                    <a:pt x="63" y="478"/>
                  </a:lnTo>
                  <a:lnTo>
                    <a:pt x="59" y="487"/>
                  </a:lnTo>
                  <a:lnTo>
                    <a:pt x="52" y="498"/>
                  </a:lnTo>
                  <a:lnTo>
                    <a:pt x="42" y="508"/>
                  </a:lnTo>
                  <a:lnTo>
                    <a:pt x="32" y="519"/>
                  </a:lnTo>
                  <a:lnTo>
                    <a:pt x="35" y="535"/>
                  </a:lnTo>
                  <a:lnTo>
                    <a:pt x="36" y="551"/>
                  </a:lnTo>
                  <a:lnTo>
                    <a:pt x="37" y="568"/>
                  </a:lnTo>
                  <a:lnTo>
                    <a:pt x="39" y="585"/>
                  </a:lnTo>
                  <a:lnTo>
                    <a:pt x="37" y="603"/>
                  </a:lnTo>
                  <a:lnTo>
                    <a:pt x="37" y="619"/>
                  </a:lnTo>
                  <a:lnTo>
                    <a:pt x="35" y="637"/>
                  </a:lnTo>
                  <a:lnTo>
                    <a:pt x="33" y="654"/>
                  </a:lnTo>
                  <a:lnTo>
                    <a:pt x="27" y="689"/>
                  </a:lnTo>
                  <a:lnTo>
                    <a:pt x="20" y="724"/>
                  </a:lnTo>
                  <a:lnTo>
                    <a:pt x="11" y="758"/>
                  </a:lnTo>
                  <a:lnTo>
                    <a:pt x="0" y="792"/>
                  </a:lnTo>
                  <a:lnTo>
                    <a:pt x="709" y="717"/>
                  </a:lnTo>
                  <a:lnTo>
                    <a:pt x="712" y="717"/>
                  </a:lnTo>
                  <a:lnTo>
                    <a:pt x="1466" y="631"/>
                  </a:lnTo>
                  <a:lnTo>
                    <a:pt x="1967" y="576"/>
                  </a:lnTo>
                  <a:lnTo>
                    <a:pt x="1972" y="563"/>
                  </a:lnTo>
                  <a:lnTo>
                    <a:pt x="1981" y="545"/>
                  </a:lnTo>
                  <a:lnTo>
                    <a:pt x="1982" y="541"/>
                  </a:lnTo>
                  <a:lnTo>
                    <a:pt x="1984" y="536"/>
                  </a:lnTo>
                  <a:lnTo>
                    <a:pt x="1985" y="530"/>
                  </a:lnTo>
                  <a:lnTo>
                    <a:pt x="1985" y="526"/>
                  </a:lnTo>
                  <a:lnTo>
                    <a:pt x="1984" y="520"/>
                  </a:lnTo>
                  <a:lnTo>
                    <a:pt x="1981" y="515"/>
                  </a:lnTo>
                  <a:lnTo>
                    <a:pt x="1978" y="509"/>
                  </a:lnTo>
                  <a:lnTo>
                    <a:pt x="1973" y="505"/>
                  </a:lnTo>
                  <a:lnTo>
                    <a:pt x="1972" y="501"/>
                  </a:lnTo>
                  <a:lnTo>
                    <a:pt x="1971" y="499"/>
                  </a:lnTo>
                  <a:lnTo>
                    <a:pt x="1971" y="495"/>
                  </a:lnTo>
                  <a:lnTo>
                    <a:pt x="1972" y="491"/>
                  </a:lnTo>
                  <a:lnTo>
                    <a:pt x="1977" y="480"/>
                  </a:lnTo>
                  <a:lnTo>
                    <a:pt x="1984" y="469"/>
                  </a:lnTo>
                  <a:lnTo>
                    <a:pt x="1993" y="457"/>
                  </a:lnTo>
                  <a:lnTo>
                    <a:pt x="2006" y="443"/>
                  </a:lnTo>
                  <a:lnTo>
                    <a:pt x="2021" y="429"/>
                  </a:lnTo>
                  <a:lnTo>
                    <a:pt x="2037" y="413"/>
                  </a:lnTo>
                  <a:lnTo>
                    <a:pt x="2056" y="399"/>
                  </a:lnTo>
                  <a:lnTo>
                    <a:pt x="2076" y="385"/>
                  </a:lnTo>
                  <a:lnTo>
                    <a:pt x="2097" y="373"/>
                  </a:lnTo>
                  <a:lnTo>
                    <a:pt x="2119" y="361"/>
                  </a:lnTo>
                  <a:lnTo>
                    <a:pt x="2142" y="352"/>
                  </a:lnTo>
                  <a:lnTo>
                    <a:pt x="2166" y="343"/>
                  </a:lnTo>
                  <a:lnTo>
                    <a:pt x="2178" y="340"/>
                  </a:lnTo>
                  <a:lnTo>
                    <a:pt x="2189" y="337"/>
                  </a:lnTo>
                  <a:lnTo>
                    <a:pt x="2201" y="335"/>
                  </a:lnTo>
                  <a:lnTo>
                    <a:pt x="2213" y="334"/>
                  </a:lnTo>
                  <a:lnTo>
                    <a:pt x="2227" y="333"/>
                  </a:lnTo>
                  <a:lnTo>
                    <a:pt x="2239" y="329"/>
                  </a:lnTo>
                  <a:lnTo>
                    <a:pt x="2252" y="326"/>
                  </a:lnTo>
                  <a:lnTo>
                    <a:pt x="2264" y="322"/>
                  </a:lnTo>
                  <a:lnTo>
                    <a:pt x="2276" y="316"/>
                  </a:lnTo>
                  <a:lnTo>
                    <a:pt x="2286" y="312"/>
                  </a:lnTo>
                  <a:lnTo>
                    <a:pt x="2297" y="305"/>
                  </a:lnTo>
                  <a:lnTo>
                    <a:pt x="2306" y="299"/>
                  </a:lnTo>
                  <a:lnTo>
                    <a:pt x="2325" y="284"/>
                  </a:lnTo>
                  <a:lnTo>
                    <a:pt x="2342" y="267"/>
                  </a:lnTo>
                  <a:lnTo>
                    <a:pt x="2359" y="251"/>
                  </a:lnTo>
                  <a:lnTo>
                    <a:pt x="2374" y="234"/>
                  </a:lnTo>
                  <a:lnTo>
                    <a:pt x="2389" y="216"/>
                  </a:lnTo>
                  <a:lnTo>
                    <a:pt x="2405" y="198"/>
                  </a:lnTo>
                  <a:lnTo>
                    <a:pt x="2420" y="183"/>
                  </a:lnTo>
                  <a:lnTo>
                    <a:pt x="2437" y="168"/>
                  </a:lnTo>
                  <a:lnTo>
                    <a:pt x="2445" y="161"/>
                  </a:lnTo>
                  <a:lnTo>
                    <a:pt x="2453" y="155"/>
                  </a:lnTo>
                  <a:lnTo>
                    <a:pt x="2463" y="149"/>
                  </a:lnTo>
                  <a:lnTo>
                    <a:pt x="2472" y="145"/>
                  </a:lnTo>
                  <a:lnTo>
                    <a:pt x="2482" y="140"/>
                  </a:lnTo>
                  <a:lnTo>
                    <a:pt x="2493" y="137"/>
                  </a:lnTo>
                  <a:lnTo>
                    <a:pt x="2503" y="134"/>
                  </a:lnTo>
                  <a:lnTo>
                    <a:pt x="2515" y="132"/>
                  </a:lnTo>
                  <a:lnTo>
                    <a:pt x="2522" y="132"/>
                  </a:lnTo>
                  <a:lnTo>
                    <a:pt x="2528" y="130"/>
                  </a:lnTo>
                  <a:lnTo>
                    <a:pt x="2534" y="127"/>
                  </a:lnTo>
                  <a:lnTo>
                    <a:pt x="2538" y="125"/>
                  </a:lnTo>
                  <a:lnTo>
                    <a:pt x="2547" y="119"/>
                  </a:lnTo>
                  <a:lnTo>
                    <a:pt x="2554" y="111"/>
                  </a:lnTo>
                  <a:lnTo>
                    <a:pt x="2558" y="103"/>
                  </a:lnTo>
                  <a:lnTo>
                    <a:pt x="2563" y="93"/>
                  </a:lnTo>
                  <a:lnTo>
                    <a:pt x="2565" y="83"/>
                  </a:lnTo>
                  <a:lnTo>
                    <a:pt x="2568" y="71"/>
                  </a:lnTo>
                  <a:lnTo>
                    <a:pt x="2570" y="50"/>
                  </a:lnTo>
                  <a:lnTo>
                    <a:pt x="2572" y="29"/>
                  </a:lnTo>
                  <a:lnTo>
                    <a:pt x="2576" y="20"/>
                  </a:lnTo>
                  <a:lnTo>
                    <a:pt x="2578" y="12"/>
                  </a:lnTo>
                  <a:lnTo>
                    <a:pt x="2583" y="6"/>
                  </a:lnTo>
                  <a:lnTo>
                    <a:pt x="25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140"/>
            <p:cNvSpPr/>
            <p:nvPr/>
          </p:nvSpPr>
          <p:spPr>
            <a:xfrm>
              <a:off x="7811640" y="5668560"/>
              <a:ext cx="389880" cy="12960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590" h="792">
                  <a:moveTo>
                    <a:pt x="2590" y="0"/>
                  </a:moveTo>
                  <a:lnTo>
                    <a:pt x="613" y="265"/>
                  </a:lnTo>
                  <a:lnTo>
                    <a:pt x="596" y="311"/>
                  </a:lnTo>
                  <a:lnTo>
                    <a:pt x="78" y="366"/>
                  </a:lnTo>
                  <a:lnTo>
                    <a:pt x="76" y="377"/>
                  </a:lnTo>
                  <a:lnTo>
                    <a:pt x="75" y="388"/>
                  </a:lnTo>
                  <a:lnTo>
                    <a:pt x="74" y="398"/>
                  </a:lnTo>
                  <a:lnTo>
                    <a:pt x="74" y="408"/>
                  </a:lnTo>
                  <a:lnTo>
                    <a:pt x="74" y="426"/>
                  </a:lnTo>
                  <a:lnTo>
                    <a:pt x="74" y="443"/>
                  </a:lnTo>
                  <a:lnTo>
                    <a:pt x="73" y="452"/>
                  </a:lnTo>
                  <a:lnTo>
                    <a:pt x="70" y="460"/>
                  </a:lnTo>
                  <a:lnTo>
                    <a:pt x="68" y="469"/>
                  </a:lnTo>
                  <a:lnTo>
                    <a:pt x="63" y="478"/>
                  </a:lnTo>
                  <a:lnTo>
                    <a:pt x="59" y="487"/>
                  </a:lnTo>
                  <a:lnTo>
                    <a:pt x="52" y="498"/>
                  </a:lnTo>
                  <a:lnTo>
                    <a:pt x="42" y="508"/>
                  </a:lnTo>
                  <a:lnTo>
                    <a:pt x="32" y="519"/>
                  </a:lnTo>
                  <a:lnTo>
                    <a:pt x="35" y="535"/>
                  </a:lnTo>
                  <a:lnTo>
                    <a:pt x="36" y="551"/>
                  </a:lnTo>
                  <a:lnTo>
                    <a:pt x="37" y="568"/>
                  </a:lnTo>
                  <a:lnTo>
                    <a:pt x="39" y="585"/>
                  </a:lnTo>
                  <a:lnTo>
                    <a:pt x="37" y="603"/>
                  </a:lnTo>
                  <a:lnTo>
                    <a:pt x="37" y="619"/>
                  </a:lnTo>
                  <a:lnTo>
                    <a:pt x="35" y="637"/>
                  </a:lnTo>
                  <a:lnTo>
                    <a:pt x="33" y="654"/>
                  </a:lnTo>
                  <a:lnTo>
                    <a:pt x="27" y="689"/>
                  </a:lnTo>
                  <a:lnTo>
                    <a:pt x="20" y="724"/>
                  </a:lnTo>
                  <a:lnTo>
                    <a:pt x="11" y="758"/>
                  </a:lnTo>
                  <a:lnTo>
                    <a:pt x="0" y="792"/>
                  </a:lnTo>
                  <a:lnTo>
                    <a:pt x="709" y="717"/>
                  </a:lnTo>
                  <a:lnTo>
                    <a:pt x="712" y="717"/>
                  </a:lnTo>
                  <a:lnTo>
                    <a:pt x="1466" y="631"/>
                  </a:lnTo>
                  <a:lnTo>
                    <a:pt x="1967" y="576"/>
                  </a:lnTo>
                  <a:lnTo>
                    <a:pt x="1972" y="563"/>
                  </a:lnTo>
                  <a:lnTo>
                    <a:pt x="1981" y="545"/>
                  </a:lnTo>
                  <a:lnTo>
                    <a:pt x="1982" y="541"/>
                  </a:lnTo>
                  <a:lnTo>
                    <a:pt x="1984" y="536"/>
                  </a:lnTo>
                  <a:lnTo>
                    <a:pt x="1985" y="530"/>
                  </a:lnTo>
                  <a:lnTo>
                    <a:pt x="1985" y="526"/>
                  </a:lnTo>
                  <a:lnTo>
                    <a:pt x="1984" y="520"/>
                  </a:lnTo>
                  <a:lnTo>
                    <a:pt x="1981" y="515"/>
                  </a:lnTo>
                  <a:lnTo>
                    <a:pt x="1978" y="509"/>
                  </a:lnTo>
                  <a:lnTo>
                    <a:pt x="1973" y="505"/>
                  </a:lnTo>
                  <a:lnTo>
                    <a:pt x="1972" y="501"/>
                  </a:lnTo>
                  <a:lnTo>
                    <a:pt x="1971" y="499"/>
                  </a:lnTo>
                  <a:lnTo>
                    <a:pt x="1971" y="495"/>
                  </a:lnTo>
                  <a:lnTo>
                    <a:pt x="1972" y="491"/>
                  </a:lnTo>
                  <a:lnTo>
                    <a:pt x="1977" y="480"/>
                  </a:lnTo>
                  <a:lnTo>
                    <a:pt x="1984" y="469"/>
                  </a:lnTo>
                  <a:lnTo>
                    <a:pt x="1993" y="457"/>
                  </a:lnTo>
                  <a:lnTo>
                    <a:pt x="2006" y="443"/>
                  </a:lnTo>
                  <a:lnTo>
                    <a:pt x="2021" y="429"/>
                  </a:lnTo>
                  <a:lnTo>
                    <a:pt x="2037" y="413"/>
                  </a:lnTo>
                  <a:lnTo>
                    <a:pt x="2056" y="399"/>
                  </a:lnTo>
                  <a:lnTo>
                    <a:pt x="2076" y="385"/>
                  </a:lnTo>
                  <a:lnTo>
                    <a:pt x="2097" y="373"/>
                  </a:lnTo>
                  <a:lnTo>
                    <a:pt x="2119" y="361"/>
                  </a:lnTo>
                  <a:lnTo>
                    <a:pt x="2142" y="352"/>
                  </a:lnTo>
                  <a:lnTo>
                    <a:pt x="2166" y="343"/>
                  </a:lnTo>
                  <a:lnTo>
                    <a:pt x="2178" y="340"/>
                  </a:lnTo>
                  <a:lnTo>
                    <a:pt x="2189" y="337"/>
                  </a:lnTo>
                  <a:lnTo>
                    <a:pt x="2201" y="335"/>
                  </a:lnTo>
                  <a:lnTo>
                    <a:pt x="2213" y="334"/>
                  </a:lnTo>
                  <a:lnTo>
                    <a:pt x="2227" y="333"/>
                  </a:lnTo>
                  <a:lnTo>
                    <a:pt x="2239" y="329"/>
                  </a:lnTo>
                  <a:lnTo>
                    <a:pt x="2252" y="326"/>
                  </a:lnTo>
                  <a:lnTo>
                    <a:pt x="2264" y="322"/>
                  </a:lnTo>
                  <a:lnTo>
                    <a:pt x="2276" y="316"/>
                  </a:lnTo>
                  <a:lnTo>
                    <a:pt x="2286" y="312"/>
                  </a:lnTo>
                  <a:lnTo>
                    <a:pt x="2297" y="305"/>
                  </a:lnTo>
                  <a:lnTo>
                    <a:pt x="2306" y="299"/>
                  </a:lnTo>
                  <a:lnTo>
                    <a:pt x="2325" y="284"/>
                  </a:lnTo>
                  <a:lnTo>
                    <a:pt x="2342" y="267"/>
                  </a:lnTo>
                  <a:lnTo>
                    <a:pt x="2359" y="251"/>
                  </a:lnTo>
                  <a:lnTo>
                    <a:pt x="2374" y="234"/>
                  </a:lnTo>
                  <a:lnTo>
                    <a:pt x="2389" y="216"/>
                  </a:lnTo>
                  <a:lnTo>
                    <a:pt x="2405" y="198"/>
                  </a:lnTo>
                  <a:lnTo>
                    <a:pt x="2420" y="183"/>
                  </a:lnTo>
                  <a:lnTo>
                    <a:pt x="2437" y="168"/>
                  </a:lnTo>
                  <a:lnTo>
                    <a:pt x="2445" y="161"/>
                  </a:lnTo>
                  <a:lnTo>
                    <a:pt x="2453" y="155"/>
                  </a:lnTo>
                  <a:lnTo>
                    <a:pt x="2463" y="149"/>
                  </a:lnTo>
                  <a:lnTo>
                    <a:pt x="2472" y="145"/>
                  </a:lnTo>
                  <a:lnTo>
                    <a:pt x="2482" y="140"/>
                  </a:lnTo>
                  <a:lnTo>
                    <a:pt x="2493" y="137"/>
                  </a:lnTo>
                  <a:lnTo>
                    <a:pt x="2503" y="134"/>
                  </a:lnTo>
                  <a:lnTo>
                    <a:pt x="2515" y="132"/>
                  </a:lnTo>
                  <a:lnTo>
                    <a:pt x="2522" y="132"/>
                  </a:lnTo>
                  <a:lnTo>
                    <a:pt x="2528" y="130"/>
                  </a:lnTo>
                  <a:lnTo>
                    <a:pt x="2534" y="127"/>
                  </a:lnTo>
                  <a:lnTo>
                    <a:pt x="2538" y="125"/>
                  </a:lnTo>
                  <a:lnTo>
                    <a:pt x="2547" y="119"/>
                  </a:lnTo>
                  <a:lnTo>
                    <a:pt x="2554" y="111"/>
                  </a:lnTo>
                  <a:lnTo>
                    <a:pt x="2558" y="103"/>
                  </a:lnTo>
                  <a:lnTo>
                    <a:pt x="2563" y="93"/>
                  </a:lnTo>
                  <a:lnTo>
                    <a:pt x="2565" y="83"/>
                  </a:lnTo>
                  <a:lnTo>
                    <a:pt x="2568" y="71"/>
                  </a:lnTo>
                  <a:lnTo>
                    <a:pt x="2570" y="50"/>
                  </a:lnTo>
                  <a:lnTo>
                    <a:pt x="2572" y="29"/>
                  </a:lnTo>
                  <a:lnTo>
                    <a:pt x="2576" y="20"/>
                  </a:lnTo>
                  <a:lnTo>
                    <a:pt x="2578" y="12"/>
                  </a:lnTo>
                  <a:lnTo>
                    <a:pt x="2583" y="6"/>
                  </a:lnTo>
                  <a:lnTo>
                    <a:pt x="25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141"/>
            <p:cNvSpPr/>
            <p:nvPr/>
          </p:nvSpPr>
          <p:spPr>
            <a:xfrm>
              <a:off x="7823160" y="5582880"/>
              <a:ext cx="322200" cy="1458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35" h="893">
                  <a:moveTo>
                    <a:pt x="1872" y="611"/>
                  </a:moveTo>
                  <a:lnTo>
                    <a:pt x="535" y="792"/>
                  </a:lnTo>
                  <a:lnTo>
                    <a:pt x="518" y="838"/>
                  </a:lnTo>
                  <a:lnTo>
                    <a:pt x="0" y="893"/>
                  </a:lnTo>
                  <a:lnTo>
                    <a:pt x="7" y="870"/>
                  </a:lnTo>
                  <a:lnTo>
                    <a:pt x="16" y="849"/>
                  </a:lnTo>
                  <a:lnTo>
                    <a:pt x="25" y="829"/>
                  </a:lnTo>
                  <a:lnTo>
                    <a:pt x="37" y="812"/>
                  </a:lnTo>
                  <a:lnTo>
                    <a:pt x="49" y="794"/>
                  </a:lnTo>
                  <a:lnTo>
                    <a:pt x="63" y="778"/>
                  </a:lnTo>
                  <a:lnTo>
                    <a:pt x="79" y="764"/>
                  </a:lnTo>
                  <a:lnTo>
                    <a:pt x="95" y="751"/>
                  </a:lnTo>
                  <a:lnTo>
                    <a:pt x="110" y="737"/>
                  </a:lnTo>
                  <a:lnTo>
                    <a:pt x="125" y="725"/>
                  </a:lnTo>
                  <a:lnTo>
                    <a:pt x="139" y="716"/>
                  </a:lnTo>
                  <a:lnTo>
                    <a:pt x="153" y="708"/>
                  </a:lnTo>
                  <a:lnTo>
                    <a:pt x="180" y="695"/>
                  </a:lnTo>
                  <a:lnTo>
                    <a:pt x="206" y="682"/>
                  </a:lnTo>
                  <a:lnTo>
                    <a:pt x="219" y="675"/>
                  </a:lnTo>
                  <a:lnTo>
                    <a:pt x="232" y="666"/>
                  </a:lnTo>
                  <a:lnTo>
                    <a:pt x="246" y="655"/>
                  </a:lnTo>
                  <a:lnTo>
                    <a:pt x="259" y="643"/>
                  </a:lnTo>
                  <a:lnTo>
                    <a:pt x="273" y="627"/>
                  </a:lnTo>
                  <a:lnTo>
                    <a:pt x="287" y="609"/>
                  </a:lnTo>
                  <a:lnTo>
                    <a:pt x="302" y="585"/>
                  </a:lnTo>
                  <a:lnTo>
                    <a:pt x="317" y="558"/>
                  </a:lnTo>
                  <a:lnTo>
                    <a:pt x="326" y="539"/>
                  </a:lnTo>
                  <a:lnTo>
                    <a:pt x="331" y="527"/>
                  </a:lnTo>
                  <a:lnTo>
                    <a:pt x="336" y="520"/>
                  </a:lnTo>
                  <a:lnTo>
                    <a:pt x="344" y="509"/>
                  </a:lnTo>
                  <a:lnTo>
                    <a:pt x="359" y="495"/>
                  </a:lnTo>
                  <a:lnTo>
                    <a:pt x="380" y="476"/>
                  </a:lnTo>
                  <a:lnTo>
                    <a:pt x="391" y="466"/>
                  </a:lnTo>
                  <a:lnTo>
                    <a:pt x="402" y="458"/>
                  </a:lnTo>
                  <a:lnTo>
                    <a:pt x="415" y="451"/>
                  </a:lnTo>
                  <a:lnTo>
                    <a:pt x="430" y="444"/>
                  </a:lnTo>
                  <a:lnTo>
                    <a:pt x="444" y="438"/>
                  </a:lnTo>
                  <a:lnTo>
                    <a:pt x="461" y="432"/>
                  </a:lnTo>
                  <a:lnTo>
                    <a:pt x="478" y="428"/>
                  </a:lnTo>
                  <a:lnTo>
                    <a:pt x="496" y="423"/>
                  </a:lnTo>
                  <a:lnTo>
                    <a:pt x="575" y="407"/>
                  </a:lnTo>
                  <a:lnTo>
                    <a:pt x="663" y="391"/>
                  </a:lnTo>
                  <a:lnTo>
                    <a:pt x="708" y="382"/>
                  </a:lnTo>
                  <a:lnTo>
                    <a:pt x="755" y="370"/>
                  </a:lnTo>
                  <a:lnTo>
                    <a:pt x="778" y="363"/>
                  </a:lnTo>
                  <a:lnTo>
                    <a:pt x="802" y="356"/>
                  </a:lnTo>
                  <a:lnTo>
                    <a:pt x="825" y="348"/>
                  </a:lnTo>
                  <a:lnTo>
                    <a:pt x="848" y="340"/>
                  </a:lnTo>
                  <a:lnTo>
                    <a:pt x="872" y="330"/>
                  </a:lnTo>
                  <a:lnTo>
                    <a:pt x="894" y="319"/>
                  </a:lnTo>
                  <a:lnTo>
                    <a:pt x="916" y="306"/>
                  </a:lnTo>
                  <a:lnTo>
                    <a:pt x="938" y="293"/>
                  </a:lnTo>
                  <a:lnTo>
                    <a:pt x="961" y="279"/>
                  </a:lnTo>
                  <a:lnTo>
                    <a:pt x="982" y="263"/>
                  </a:lnTo>
                  <a:lnTo>
                    <a:pt x="1003" y="247"/>
                  </a:lnTo>
                  <a:lnTo>
                    <a:pt x="1022" y="228"/>
                  </a:lnTo>
                  <a:lnTo>
                    <a:pt x="1041" y="208"/>
                  </a:lnTo>
                  <a:lnTo>
                    <a:pt x="1054" y="191"/>
                  </a:lnTo>
                  <a:lnTo>
                    <a:pt x="1059" y="182"/>
                  </a:lnTo>
                  <a:lnTo>
                    <a:pt x="1062" y="175"/>
                  </a:lnTo>
                  <a:lnTo>
                    <a:pt x="1066" y="168"/>
                  </a:lnTo>
                  <a:lnTo>
                    <a:pt x="1068" y="161"/>
                  </a:lnTo>
                  <a:lnTo>
                    <a:pt x="1070" y="150"/>
                  </a:lnTo>
                  <a:lnTo>
                    <a:pt x="1070" y="139"/>
                  </a:lnTo>
                  <a:lnTo>
                    <a:pt x="1068" y="130"/>
                  </a:lnTo>
                  <a:lnTo>
                    <a:pt x="1067" y="120"/>
                  </a:lnTo>
                  <a:lnTo>
                    <a:pt x="1065" y="112"/>
                  </a:lnTo>
                  <a:lnTo>
                    <a:pt x="1062" y="104"/>
                  </a:lnTo>
                  <a:lnTo>
                    <a:pt x="1062" y="96"/>
                  </a:lnTo>
                  <a:lnTo>
                    <a:pt x="1063" y="87"/>
                  </a:lnTo>
                  <a:lnTo>
                    <a:pt x="1066" y="82"/>
                  </a:lnTo>
                  <a:lnTo>
                    <a:pt x="1068" y="77"/>
                  </a:lnTo>
                  <a:lnTo>
                    <a:pt x="1072" y="71"/>
                  </a:lnTo>
                  <a:lnTo>
                    <a:pt x="1076" y="66"/>
                  </a:lnTo>
                  <a:lnTo>
                    <a:pt x="1089" y="54"/>
                  </a:lnTo>
                  <a:lnTo>
                    <a:pt x="1105" y="40"/>
                  </a:lnTo>
                  <a:lnTo>
                    <a:pt x="1109" y="36"/>
                  </a:lnTo>
                  <a:lnTo>
                    <a:pt x="1112" y="34"/>
                  </a:lnTo>
                  <a:lnTo>
                    <a:pt x="1116" y="32"/>
                  </a:lnTo>
                  <a:lnTo>
                    <a:pt x="1121" y="30"/>
                  </a:lnTo>
                  <a:lnTo>
                    <a:pt x="1131" y="28"/>
                  </a:lnTo>
                  <a:lnTo>
                    <a:pt x="1142" y="28"/>
                  </a:lnTo>
                  <a:lnTo>
                    <a:pt x="1153" y="27"/>
                  </a:lnTo>
                  <a:lnTo>
                    <a:pt x="1164" y="25"/>
                  </a:lnTo>
                  <a:lnTo>
                    <a:pt x="1170" y="22"/>
                  </a:lnTo>
                  <a:lnTo>
                    <a:pt x="1174" y="20"/>
                  </a:lnTo>
                  <a:lnTo>
                    <a:pt x="1179" y="16"/>
                  </a:lnTo>
                  <a:lnTo>
                    <a:pt x="1184" y="12"/>
                  </a:lnTo>
                  <a:lnTo>
                    <a:pt x="1186" y="8"/>
                  </a:lnTo>
                  <a:lnTo>
                    <a:pt x="1190" y="6"/>
                  </a:lnTo>
                  <a:lnTo>
                    <a:pt x="1193" y="5"/>
                  </a:lnTo>
                  <a:lnTo>
                    <a:pt x="1197" y="2"/>
                  </a:lnTo>
                  <a:lnTo>
                    <a:pt x="1206" y="1"/>
                  </a:lnTo>
                  <a:lnTo>
                    <a:pt x="1216" y="0"/>
                  </a:lnTo>
                  <a:lnTo>
                    <a:pt x="1229" y="0"/>
                  </a:lnTo>
                  <a:lnTo>
                    <a:pt x="1242" y="1"/>
                  </a:lnTo>
                  <a:lnTo>
                    <a:pt x="1255" y="4"/>
                  </a:lnTo>
                  <a:lnTo>
                    <a:pt x="1269" y="6"/>
                  </a:lnTo>
                  <a:lnTo>
                    <a:pt x="1296" y="11"/>
                  </a:lnTo>
                  <a:lnTo>
                    <a:pt x="1320" y="15"/>
                  </a:lnTo>
                  <a:lnTo>
                    <a:pt x="1331" y="18"/>
                  </a:lnTo>
                  <a:lnTo>
                    <a:pt x="1340" y="18"/>
                  </a:lnTo>
                  <a:lnTo>
                    <a:pt x="1348" y="19"/>
                  </a:lnTo>
                  <a:lnTo>
                    <a:pt x="1353" y="18"/>
                  </a:lnTo>
                  <a:lnTo>
                    <a:pt x="1358" y="16"/>
                  </a:lnTo>
                  <a:lnTo>
                    <a:pt x="1364" y="18"/>
                  </a:lnTo>
                  <a:lnTo>
                    <a:pt x="1369" y="20"/>
                  </a:lnTo>
                  <a:lnTo>
                    <a:pt x="1376" y="23"/>
                  </a:lnTo>
                  <a:lnTo>
                    <a:pt x="1390" y="30"/>
                  </a:lnTo>
                  <a:lnTo>
                    <a:pt x="1404" y="40"/>
                  </a:lnTo>
                  <a:lnTo>
                    <a:pt x="1420" y="48"/>
                  </a:lnTo>
                  <a:lnTo>
                    <a:pt x="1435" y="53"/>
                  </a:lnTo>
                  <a:lnTo>
                    <a:pt x="1442" y="54"/>
                  </a:lnTo>
                  <a:lnTo>
                    <a:pt x="1449" y="54"/>
                  </a:lnTo>
                  <a:lnTo>
                    <a:pt x="1455" y="53"/>
                  </a:lnTo>
                  <a:lnTo>
                    <a:pt x="1461" y="49"/>
                  </a:lnTo>
                  <a:lnTo>
                    <a:pt x="1466" y="44"/>
                  </a:lnTo>
                  <a:lnTo>
                    <a:pt x="1473" y="41"/>
                  </a:lnTo>
                  <a:lnTo>
                    <a:pt x="1482" y="37"/>
                  </a:lnTo>
                  <a:lnTo>
                    <a:pt x="1490" y="34"/>
                  </a:lnTo>
                  <a:lnTo>
                    <a:pt x="1508" y="29"/>
                  </a:lnTo>
                  <a:lnTo>
                    <a:pt x="1529" y="25"/>
                  </a:lnTo>
                  <a:lnTo>
                    <a:pt x="1552" y="21"/>
                  </a:lnTo>
                  <a:lnTo>
                    <a:pt x="1576" y="19"/>
                  </a:lnTo>
                  <a:lnTo>
                    <a:pt x="1603" y="18"/>
                  </a:lnTo>
                  <a:lnTo>
                    <a:pt x="1630" y="18"/>
                  </a:lnTo>
                  <a:lnTo>
                    <a:pt x="1653" y="18"/>
                  </a:lnTo>
                  <a:lnTo>
                    <a:pt x="1673" y="19"/>
                  </a:lnTo>
                  <a:lnTo>
                    <a:pt x="1689" y="23"/>
                  </a:lnTo>
                  <a:lnTo>
                    <a:pt x="1704" y="29"/>
                  </a:lnTo>
                  <a:lnTo>
                    <a:pt x="1716" y="36"/>
                  </a:lnTo>
                  <a:lnTo>
                    <a:pt x="1729" y="44"/>
                  </a:lnTo>
                  <a:lnTo>
                    <a:pt x="1741" y="53"/>
                  </a:lnTo>
                  <a:lnTo>
                    <a:pt x="1753" y="63"/>
                  </a:lnTo>
                  <a:lnTo>
                    <a:pt x="1764" y="74"/>
                  </a:lnTo>
                  <a:lnTo>
                    <a:pt x="1778" y="84"/>
                  </a:lnTo>
                  <a:lnTo>
                    <a:pt x="1795" y="95"/>
                  </a:lnTo>
                  <a:lnTo>
                    <a:pt x="1813" y="105"/>
                  </a:lnTo>
                  <a:lnTo>
                    <a:pt x="1834" y="116"/>
                  </a:lnTo>
                  <a:lnTo>
                    <a:pt x="1860" y="125"/>
                  </a:lnTo>
                  <a:lnTo>
                    <a:pt x="1889" y="133"/>
                  </a:lnTo>
                  <a:lnTo>
                    <a:pt x="1924" y="141"/>
                  </a:lnTo>
                  <a:lnTo>
                    <a:pt x="1920" y="146"/>
                  </a:lnTo>
                  <a:lnTo>
                    <a:pt x="1917" y="152"/>
                  </a:lnTo>
                  <a:lnTo>
                    <a:pt x="1916" y="158"/>
                  </a:lnTo>
                  <a:lnTo>
                    <a:pt x="1915" y="165"/>
                  </a:lnTo>
                  <a:lnTo>
                    <a:pt x="1916" y="173"/>
                  </a:lnTo>
                  <a:lnTo>
                    <a:pt x="1918" y="181"/>
                  </a:lnTo>
                  <a:lnTo>
                    <a:pt x="1921" y="189"/>
                  </a:lnTo>
                  <a:lnTo>
                    <a:pt x="1925" y="196"/>
                  </a:lnTo>
                  <a:lnTo>
                    <a:pt x="1930" y="205"/>
                  </a:lnTo>
                  <a:lnTo>
                    <a:pt x="1937" y="213"/>
                  </a:lnTo>
                  <a:lnTo>
                    <a:pt x="1944" y="220"/>
                  </a:lnTo>
                  <a:lnTo>
                    <a:pt x="1953" y="226"/>
                  </a:lnTo>
                  <a:lnTo>
                    <a:pt x="1964" y="231"/>
                  </a:lnTo>
                  <a:lnTo>
                    <a:pt x="1975" y="236"/>
                  </a:lnTo>
                  <a:lnTo>
                    <a:pt x="1987" y="240"/>
                  </a:lnTo>
                  <a:lnTo>
                    <a:pt x="2001" y="242"/>
                  </a:lnTo>
                  <a:lnTo>
                    <a:pt x="2015" y="242"/>
                  </a:lnTo>
                  <a:lnTo>
                    <a:pt x="2029" y="244"/>
                  </a:lnTo>
                  <a:lnTo>
                    <a:pt x="2043" y="249"/>
                  </a:lnTo>
                  <a:lnTo>
                    <a:pt x="2060" y="256"/>
                  </a:lnTo>
                  <a:lnTo>
                    <a:pt x="2094" y="272"/>
                  </a:lnTo>
                  <a:lnTo>
                    <a:pt x="2135" y="291"/>
                  </a:lnTo>
                  <a:lnTo>
                    <a:pt x="2124" y="297"/>
                  </a:lnTo>
                  <a:lnTo>
                    <a:pt x="2114" y="301"/>
                  </a:lnTo>
                  <a:lnTo>
                    <a:pt x="2103" y="305"/>
                  </a:lnTo>
                  <a:lnTo>
                    <a:pt x="2094" y="306"/>
                  </a:lnTo>
                  <a:lnTo>
                    <a:pt x="2076" y="308"/>
                  </a:lnTo>
                  <a:lnTo>
                    <a:pt x="2061" y="310"/>
                  </a:lnTo>
                  <a:lnTo>
                    <a:pt x="2055" y="311"/>
                  </a:lnTo>
                  <a:lnTo>
                    <a:pt x="2050" y="313"/>
                  </a:lnTo>
                  <a:lnTo>
                    <a:pt x="2047" y="317"/>
                  </a:lnTo>
                  <a:lnTo>
                    <a:pt x="2045" y="320"/>
                  </a:lnTo>
                  <a:lnTo>
                    <a:pt x="2045" y="326"/>
                  </a:lnTo>
                  <a:lnTo>
                    <a:pt x="2047" y="334"/>
                  </a:lnTo>
                  <a:lnTo>
                    <a:pt x="2050" y="345"/>
                  </a:lnTo>
                  <a:lnTo>
                    <a:pt x="2056" y="358"/>
                  </a:lnTo>
                  <a:lnTo>
                    <a:pt x="2060" y="365"/>
                  </a:lnTo>
                  <a:lnTo>
                    <a:pt x="2061" y="373"/>
                  </a:lnTo>
                  <a:lnTo>
                    <a:pt x="2062" y="381"/>
                  </a:lnTo>
                  <a:lnTo>
                    <a:pt x="2063" y="389"/>
                  </a:lnTo>
                  <a:lnTo>
                    <a:pt x="2062" y="398"/>
                  </a:lnTo>
                  <a:lnTo>
                    <a:pt x="2061" y="408"/>
                  </a:lnTo>
                  <a:lnTo>
                    <a:pt x="2059" y="417"/>
                  </a:lnTo>
                  <a:lnTo>
                    <a:pt x="2056" y="426"/>
                  </a:lnTo>
                  <a:lnTo>
                    <a:pt x="2049" y="445"/>
                  </a:lnTo>
                  <a:lnTo>
                    <a:pt x="2039" y="465"/>
                  </a:lnTo>
                  <a:lnTo>
                    <a:pt x="2027" y="485"/>
                  </a:lnTo>
                  <a:lnTo>
                    <a:pt x="2013" y="505"/>
                  </a:lnTo>
                  <a:lnTo>
                    <a:pt x="1998" y="523"/>
                  </a:lnTo>
                  <a:lnTo>
                    <a:pt x="1980" y="541"/>
                  </a:lnTo>
                  <a:lnTo>
                    <a:pt x="1963" y="557"/>
                  </a:lnTo>
                  <a:lnTo>
                    <a:pt x="1945" y="572"/>
                  </a:lnTo>
                  <a:lnTo>
                    <a:pt x="1927" y="585"/>
                  </a:lnTo>
                  <a:lnTo>
                    <a:pt x="1908" y="596"/>
                  </a:lnTo>
                  <a:lnTo>
                    <a:pt x="1889" y="605"/>
                  </a:lnTo>
                  <a:lnTo>
                    <a:pt x="1872" y="61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142"/>
            <p:cNvSpPr/>
            <p:nvPr/>
          </p:nvSpPr>
          <p:spPr>
            <a:xfrm>
              <a:off x="7823160" y="5582880"/>
              <a:ext cx="322200" cy="1458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35" h="893">
                  <a:moveTo>
                    <a:pt x="1872" y="611"/>
                  </a:moveTo>
                  <a:lnTo>
                    <a:pt x="535" y="792"/>
                  </a:lnTo>
                  <a:lnTo>
                    <a:pt x="518" y="838"/>
                  </a:lnTo>
                  <a:lnTo>
                    <a:pt x="0" y="893"/>
                  </a:lnTo>
                  <a:lnTo>
                    <a:pt x="7" y="870"/>
                  </a:lnTo>
                  <a:lnTo>
                    <a:pt x="16" y="849"/>
                  </a:lnTo>
                  <a:lnTo>
                    <a:pt x="25" y="829"/>
                  </a:lnTo>
                  <a:lnTo>
                    <a:pt x="37" y="812"/>
                  </a:lnTo>
                  <a:lnTo>
                    <a:pt x="49" y="794"/>
                  </a:lnTo>
                  <a:lnTo>
                    <a:pt x="63" y="778"/>
                  </a:lnTo>
                  <a:lnTo>
                    <a:pt x="79" y="764"/>
                  </a:lnTo>
                  <a:lnTo>
                    <a:pt x="95" y="751"/>
                  </a:lnTo>
                  <a:lnTo>
                    <a:pt x="110" y="737"/>
                  </a:lnTo>
                  <a:lnTo>
                    <a:pt x="125" y="725"/>
                  </a:lnTo>
                  <a:lnTo>
                    <a:pt x="139" y="716"/>
                  </a:lnTo>
                  <a:lnTo>
                    <a:pt x="153" y="708"/>
                  </a:lnTo>
                  <a:lnTo>
                    <a:pt x="180" y="695"/>
                  </a:lnTo>
                  <a:lnTo>
                    <a:pt x="206" y="682"/>
                  </a:lnTo>
                  <a:lnTo>
                    <a:pt x="219" y="675"/>
                  </a:lnTo>
                  <a:lnTo>
                    <a:pt x="232" y="666"/>
                  </a:lnTo>
                  <a:lnTo>
                    <a:pt x="246" y="655"/>
                  </a:lnTo>
                  <a:lnTo>
                    <a:pt x="259" y="643"/>
                  </a:lnTo>
                  <a:lnTo>
                    <a:pt x="273" y="627"/>
                  </a:lnTo>
                  <a:lnTo>
                    <a:pt x="287" y="609"/>
                  </a:lnTo>
                  <a:lnTo>
                    <a:pt x="302" y="585"/>
                  </a:lnTo>
                  <a:lnTo>
                    <a:pt x="317" y="558"/>
                  </a:lnTo>
                  <a:lnTo>
                    <a:pt x="326" y="539"/>
                  </a:lnTo>
                  <a:lnTo>
                    <a:pt x="331" y="527"/>
                  </a:lnTo>
                  <a:lnTo>
                    <a:pt x="336" y="520"/>
                  </a:lnTo>
                  <a:lnTo>
                    <a:pt x="344" y="509"/>
                  </a:lnTo>
                  <a:lnTo>
                    <a:pt x="359" y="495"/>
                  </a:lnTo>
                  <a:lnTo>
                    <a:pt x="380" y="476"/>
                  </a:lnTo>
                  <a:lnTo>
                    <a:pt x="391" y="466"/>
                  </a:lnTo>
                  <a:lnTo>
                    <a:pt x="402" y="458"/>
                  </a:lnTo>
                  <a:lnTo>
                    <a:pt x="415" y="451"/>
                  </a:lnTo>
                  <a:lnTo>
                    <a:pt x="430" y="444"/>
                  </a:lnTo>
                  <a:lnTo>
                    <a:pt x="444" y="438"/>
                  </a:lnTo>
                  <a:lnTo>
                    <a:pt x="461" y="432"/>
                  </a:lnTo>
                  <a:lnTo>
                    <a:pt x="478" y="428"/>
                  </a:lnTo>
                  <a:lnTo>
                    <a:pt x="496" y="423"/>
                  </a:lnTo>
                  <a:lnTo>
                    <a:pt x="575" y="407"/>
                  </a:lnTo>
                  <a:lnTo>
                    <a:pt x="663" y="391"/>
                  </a:lnTo>
                  <a:lnTo>
                    <a:pt x="708" y="382"/>
                  </a:lnTo>
                  <a:lnTo>
                    <a:pt x="755" y="370"/>
                  </a:lnTo>
                  <a:lnTo>
                    <a:pt x="778" y="363"/>
                  </a:lnTo>
                  <a:lnTo>
                    <a:pt x="802" y="356"/>
                  </a:lnTo>
                  <a:lnTo>
                    <a:pt x="825" y="348"/>
                  </a:lnTo>
                  <a:lnTo>
                    <a:pt x="848" y="340"/>
                  </a:lnTo>
                  <a:lnTo>
                    <a:pt x="872" y="330"/>
                  </a:lnTo>
                  <a:lnTo>
                    <a:pt x="894" y="319"/>
                  </a:lnTo>
                  <a:lnTo>
                    <a:pt x="916" y="306"/>
                  </a:lnTo>
                  <a:lnTo>
                    <a:pt x="938" y="293"/>
                  </a:lnTo>
                  <a:lnTo>
                    <a:pt x="961" y="279"/>
                  </a:lnTo>
                  <a:lnTo>
                    <a:pt x="982" y="263"/>
                  </a:lnTo>
                  <a:lnTo>
                    <a:pt x="1003" y="247"/>
                  </a:lnTo>
                  <a:lnTo>
                    <a:pt x="1022" y="228"/>
                  </a:lnTo>
                  <a:lnTo>
                    <a:pt x="1041" y="208"/>
                  </a:lnTo>
                  <a:lnTo>
                    <a:pt x="1054" y="191"/>
                  </a:lnTo>
                  <a:lnTo>
                    <a:pt x="1059" y="182"/>
                  </a:lnTo>
                  <a:lnTo>
                    <a:pt x="1062" y="175"/>
                  </a:lnTo>
                  <a:lnTo>
                    <a:pt x="1066" y="168"/>
                  </a:lnTo>
                  <a:lnTo>
                    <a:pt x="1068" y="161"/>
                  </a:lnTo>
                  <a:lnTo>
                    <a:pt x="1070" y="150"/>
                  </a:lnTo>
                  <a:lnTo>
                    <a:pt x="1070" y="139"/>
                  </a:lnTo>
                  <a:lnTo>
                    <a:pt x="1068" y="130"/>
                  </a:lnTo>
                  <a:lnTo>
                    <a:pt x="1067" y="120"/>
                  </a:lnTo>
                  <a:lnTo>
                    <a:pt x="1065" y="112"/>
                  </a:lnTo>
                  <a:lnTo>
                    <a:pt x="1062" y="104"/>
                  </a:lnTo>
                  <a:lnTo>
                    <a:pt x="1062" y="96"/>
                  </a:lnTo>
                  <a:lnTo>
                    <a:pt x="1063" y="87"/>
                  </a:lnTo>
                  <a:lnTo>
                    <a:pt x="1066" y="82"/>
                  </a:lnTo>
                  <a:lnTo>
                    <a:pt x="1068" y="77"/>
                  </a:lnTo>
                  <a:lnTo>
                    <a:pt x="1072" y="71"/>
                  </a:lnTo>
                  <a:lnTo>
                    <a:pt x="1076" y="66"/>
                  </a:lnTo>
                  <a:lnTo>
                    <a:pt x="1089" y="54"/>
                  </a:lnTo>
                  <a:lnTo>
                    <a:pt x="1105" y="40"/>
                  </a:lnTo>
                  <a:lnTo>
                    <a:pt x="1109" y="36"/>
                  </a:lnTo>
                  <a:lnTo>
                    <a:pt x="1112" y="34"/>
                  </a:lnTo>
                  <a:lnTo>
                    <a:pt x="1116" y="32"/>
                  </a:lnTo>
                  <a:lnTo>
                    <a:pt x="1121" y="30"/>
                  </a:lnTo>
                  <a:lnTo>
                    <a:pt x="1131" y="28"/>
                  </a:lnTo>
                  <a:lnTo>
                    <a:pt x="1142" y="28"/>
                  </a:lnTo>
                  <a:lnTo>
                    <a:pt x="1153" y="27"/>
                  </a:lnTo>
                  <a:lnTo>
                    <a:pt x="1164" y="25"/>
                  </a:lnTo>
                  <a:lnTo>
                    <a:pt x="1170" y="22"/>
                  </a:lnTo>
                  <a:lnTo>
                    <a:pt x="1174" y="20"/>
                  </a:lnTo>
                  <a:lnTo>
                    <a:pt x="1179" y="16"/>
                  </a:lnTo>
                  <a:lnTo>
                    <a:pt x="1184" y="12"/>
                  </a:lnTo>
                  <a:lnTo>
                    <a:pt x="1186" y="8"/>
                  </a:lnTo>
                  <a:lnTo>
                    <a:pt x="1190" y="6"/>
                  </a:lnTo>
                  <a:lnTo>
                    <a:pt x="1193" y="5"/>
                  </a:lnTo>
                  <a:lnTo>
                    <a:pt x="1197" y="2"/>
                  </a:lnTo>
                  <a:lnTo>
                    <a:pt x="1206" y="1"/>
                  </a:lnTo>
                  <a:lnTo>
                    <a:pt x="1216" y="0"/>
                  </a:lnTo>
                  <a:lnTo>
                    <a:pt x="1229" y="0"/>
                  </a:lnTo>
                  <a:lnTo>
                    <a:pt x="1242" y="1"/>
                  </a:lnTo>
                  <a:lnTo>
                    <a:pt x="1255" y="4"/>
                  </a:lnTo>
                  <a:lnTo>
                    <a:pt x="1269" y="6"/>
                  </a:lnTo>
                  <a:lnTo>
                    <a:pt x="1296" y="11"/>
                  </a:lnTo>
                  <a:lnTo>
                    <a:pt x="1320" y="15"/>
                  </a:lnTo>
                  <a:lnTo>
                    <a:pt x="1331" y="18"/>
                  </a:lnTo>
                  <a:lnTo>
                    <a:pt x="1340" y="18"/>
                  </a:lnTo>
                  <a:lnTo>
                    <a:pt x="1348" y="19"/>
                  </a:lnTo>
                  <a:lnTo>
                    <a:pt x="1353" y="18"/>
                  </a:lnTo>
                  <a:lnTo>
                    <a:pt x="1358" y="16"/>
                  </a:lnTo>
                  <a:lnTo>
                    <a:pt x="1364" y="18"/>
                  </a:lnTo>
                  <a:lnTo>
                    <a:pt x="1369" y="20"/>
                  </a:lnTo>
                  <a:lnTo>
                    <a:pt x="1376" y="23"/>
                  </a:lnTo>
                  <a:lnTo>
                    <a:pt x="1390" y="30"/>
                  </a:lnTo>
                  <a:lnTo>
                    <a:pt x="1404" y="40"/>
                  </a:lnTo>
                  <a:lnTo>
                    <a:pt x="1420" y="48"/>
                  </a:lnTo>
                  <a:lnTo>
                    <a:pt x="1435" y="53"/>
                  </a:lnTo>
                  <a:lnTo>
                    <a:pt x="1442" y="54"/>
                  </a:lnTo>
                  <a:lnTo>
                    <a:pt x="1449" y="54"/>
                  </a:lnTo>
                  <a:lnTo>
                    <a:pt x="1455" y="53"/>
                  </a:lnTo>
                  <a:lnTo>
                    <a:pt x="1461" y="49"/>
                  </a:lnTo>
                  <a:lnTo>
                    <a:pt x="1466" y="44"/>
                  </a:lnTo>
                  <a:lnTo>
                    <a:pt x="1473" y="41"/>
                  </a:lnTo>
                  <a:lnTo>
                    <a:pt x="1482" y="37"/>
                  </a:lnTo>
                  <a:lnTo>
                    <a:pt x="1490" y="34"/>
                  </a:lnTo>
                  <a:lnTo>
                    <a:pt x="1508" y="29"/>
                  </a:lnTo>
                  <a:lnTo>
                    <a:pt x="1529" y="25"/>
                  </a:lnTo>
                  <a:lnTo>
                    <a:pt x="1552" y="21"/>
                  </a:lnTo>
                  <a:lnTo>
                    <a:pt x="1576" y="19"/>
                  </a:lnTo>
                  <a:lnTo>
                    <a:pt x="1603" y="18"/>
                  </a:lnTo>
                  <a:lnTo>
                    <a:pt x="1630" y="18"/>
                  </a:lnTo>
                  <a:lnTo>
                    <a:pt x="1653" y="18"/>
                  </a:lnTo>
                  <a:lnTo>
                    <a:pt x="1673" y="19"/>
                  </a:lnTo>
                  <a:lnTo>
                    <a:pt x="1689" y="23"/>
                  </a:lnTo>
                  <a:lnTo>
                    <a:pt x="1704" y="29"/>
                  </a:lnTo>
                  <a:lnTo>
                    <a:pt x="1716" y="36"/>
                  </a:lnTo>
                  <a:lnTo>
                    <a:pt x="1729" y="44"/>
                  </a:lnTo>
                  <a:lnTo>
                    <a:pt x="1741" y="53"/>
                  </a:lnTo>
                  <a:lnTo>
                    <a:pt x="1753" y="63"/>
                  </a:lnTo>
                  <a:lnTo>
                    <a:pt x="1764" y="74"/>
                  </a:lnTo>
                  <a:lnTo>
                    <a:pt x="1778" y="84"/>
                  </a:lnTo>
                  <a:lnTo>
                    <a:pt x="1795" y="95"/>
                  </a:lnTo>
                  <a:lnTo>
                    <a:pt x="1813" y="105"/>
                  </a:lnTo>
                  <a:lnTo>
                    <a:pt x="1834" y="116"/>
                  </a:lnTo>
                  <a:lnTo>
                    <a:pt x="1860" y="125"/>
                  </a:lnTo>
                  <a:lnTo>
                    <a:pt x="1889" y="133"/>
                  </a:lnTo>
                  <a:lnTo>
                    <a:pt x="1924" y="141"/>
                  </a:lnTo>
                  <a:lnTo>
                    <a:pt x="1920" y="146"/>
                  </a:lnTo>
                  <a:lnTo>
                    <a:pt x="1917" y="152"/>
                  </a:lnTo>
                  <a:lnTo>
                    <a:pt x="1916" y="158"/>
                  </a:lnTo>
                  <a:lnTo>
                    <a:pt x="1915" y="165"/>
                  </a:lnTo>
                  <a:lnTo>
                    <a:pt x="1916" y="173"/>
                  </a:lnTo>
                  <a:lnTo>
                    <a:pt x="1918" y="181"/>
                  </a:lnTo>
                  <a:lnTo>
                    <a:pt x="1921" y="189"/>
                  </a:lnTo>
                  <a:lnTo>
                    <a:pt x="1925" y="196"/>
                  </a:lnTo>
                  <a:lnTo>
                    <a:pt x="1930" y="205"/>
                  </a:lnTo>
                  <a:lnTo>
                    <a:pt x="1937" y="213"/>
                  </a:lnTo>
                  <a:lnTo>
                    <a:pt x="1944" y="220"/>
                  </a:lnTo>
                  <a:lnTo>
                    <a:pt x="1953" y="226"/>
                  </a:lnTo>
                  <a:lnTo>
                    <a:pt x="1964" y="231"/>
                  </a:lnTo>
                  <a:lnTo>
                    <a:pt x="1975" y="236"/>
                  </a:lnTo>
                  <a:lnTo>
                    <a:pt x="1987" y="240"/>
                  </a:lnTo>
                  <a:lnTo>
                    <a:pt x="2001" y="242"/>
                  </a:lnTo>
                  <a:lnTo>
                    <a:pt x="2015" y="242"/>
                  </a:lnTo>
                  <a:lnTo>
                    <a:pt x="2029" y="244"/>
                  </a:lnTo>
                  <a:lnTo>
                    <a:pt x="2043" y="249"/>
                  </a:lnTo>
                  <a:lnTo>
                    <a:pt x="2060" y="256"/>
                  </a:lnTo>
                  <a:lnTo>
                    <a:pt x="2094" y="272"/>
                  </a:lnTo>
                  <a:lnTo>
                    <a:pt x="2135" y="291"/>
                  </a:lnTo>
                  <a:lnTo>
                    <a:pt x="2124" y="297"/>
                  </a:lnTo>
                  <a:lnTo>
                    <a:pt x="2114" y="301"/>
                  </a:lnTo>
                  <a:lnTo>
                    <a:pt x="2103" y="305"/>
                  </a:lnTo>
                  <a:lnTo>
                    <a:pt x="2094" y="306"/>
                  </a:lnTo>
                  <a:lnTo>
                    <a:pt x="2076" y="308"/>
                  </a:lnTo>
                  <a:lnTo>
                    <a:pt x="2061" y="310"/>
                  </a:lnTo>
                  <a:lnTo>
                    <a:pt x="2055" y="311"/>
                  </a:lnTo>
                  <a:lnTo>
                    <a:pt x="2050" y="313"/>
                  </a:lnTo>
                  <a:lnTo>
                    <a:pt x="2047" y="317"/>
                  </a:lnTo>
                  <a:lnTo>
                    <a:pt x="2045" y="320"/>
                  </a:lnTo>
                  <a:lnTo>
                    <a:pt x="2045" y="326"/>
                  </a:lnTo>
                  <a:lnTo>
                    <a:pt x="2047" y="334"/>
                  </a:lnTo>
                  <a:lnTo>
                    <a:pt x="2050" y="345"/>
                  </a:lnTo>
                  <a:lnTo>
                    <a:pt x="2056" y="358"/>
                  </a:lnTo>
                  <a:lnTo>
                    <a:pt x="2060" y="365"/>
                  </a:lnTo>
                  <a:lnTo>
                    <a:pt x="2061" y="373"/>
                  </a:lnTo>
                  <a:lnTo>
                    <a:pt x="2062" y="381"/>
                  </a:lnTo>
                  <a:lnTo>
                    <a:pt x="2063" y="389"/>
                  </a:lnTo>
                  <a:lnTo>
                    <a:pt x="2062" y="398"/>
                  </a:lnTo>
                  <a:lnTo>
                    <a:pt x="2061" y="408"/>
                  </a:lnTo>
                  <a:lnTo>
                    <a:pt x="2059" y="417"/>
                  </a:lnTo>
                  <a:lnTo>
                    <a:pt x="2056" y="426"/>
                  </a:lnTo>
                  <a:lnTo>
                    <a:pt x="2049" y="445"/>
                  </a:lnTo>
                  <a:lnTo>
                    <a:pt x="2039" y="465"/>
                  </a:lnTo>
                  <a:lnTo>
                    <a:pt x="2027" y="485"/>
                  </a:lnTo>
                  <a:lnTo>
                    <a:pt x="2013" y="505"/>
                  </a:lnTo>
                  <a:lnTo>
                    <a:pt x="1998" y="523"/>
                  </a:lnTo>
                  <a:lnTo>
                    <a:pt x="1980" y="541"/>
                  </a:lnTo>
                  <a:lnTo>
                    <a:pt x="1963" y="557"/>
                  </a:lnTo>
                  <a:lnTo>
                    <a:pt x="1945" y="572"/>
                  </a:lnTo>
                  <a:lnTo>
                    <a:pt x="1927" y="585"/>
                  </a:lnTo>
                  <a:lnTo>
                    <a:pt x="1908" y="596"/>
                  </a:lnTo>
                  <a:lnTo>
                    <a:pt x="1889" y="605"/>
                  </a:lnTo>
                  <a:lnTo>
                    <a:pt x="1872" y="611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143"/>
            <p:cNvSpPr/>
            <p:nvPr/>
          </p:nvSpPr>
          <p:spPr>
            <a:xfrm>
              <a:off x="8105400" y="5527440"/>
              <a:ext cx="365040" cy="1548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411" h="954">
                  <a:moveTo>
                    <a:pt x="1823" y="245"/>
                  </a:moveTo>
                  <a:lnTo>
                    <a:pt x="1840" y="252"/>
                  </a:lnTo>
                  <a:lnTo>
                    <a:pt x="1855" y="260"/>
                  </a:lnTo>
                  <a:lnTo>
                    <a:pt x="1870" y="268"/>
                  </a:lnTo>
                  <a:lnTo>
                    <a:pt x="1883" y="277"/>
                  </a:lnTo>
                  <a:lnTo>
                    <a:pt x="1896" y="286"/>
                  </a:lnTo>
                  <a:lnTo>
                    <a:pt x="1907" y="296"/>
                  </a:lnTo>
                  <a:lnTo>
                    <a:pt x="1919" y="307"/>
                  </a:lnTo>
                  <a:lnTo>
                    <a:pt x="1929" y="319"/>
                  </a:lnTo>
                  <a:lnTo>
                    <a:pt x="1952" y="344"/>
                  </a:lnTo>
                  <a:lnTo>
                    <a:pt x="1974" y="375"/>
                  </a:lnTo>
                  <a:lnTo>
                    <a:pt x="1997" y="409"/>
                  </a:lnTo>
                  <a:lnTo>
                    <a:pt x="2025" y="447"/>
                  </a:lnTo>
                  <a:lnTo>
                    <a:pt x="2049" y="447"/>
                  </a:lnTo>
                  <a:lnTo>
                    <a:pt x="2073" y="451"/>
                  </a:lnTo>
                  <a:lnTo>
                    <a:pt x="2099" y="454"/>
                  </a:lnTo>
                  <a:lnTo>
                    <a:pt x="2126" y="460"/>
                  </a:lnTo>
                  <a:lnTo>
                    <a:pt x="2153" y="468"/>
                  </a:lnTo>
                  <a:lnTo>
                    <a:pt x="2179" y="476"/>
                  </a:lnTo>
                  <a:lnTo>
                    <a:pt x="2207" y="487"/>
                  </a:lnTo>
                  <a:lnTo>
                    <a:pt x="2234" y="498"/>
                  </a:lnTo>
                  <a:lnTo>
                    <a:pt x="2260" y="511"/>
                  </a:lnTo>
                  <a:lnTo>
                    <a:pt x="2287" y="525"/>
                  </a:lnTo>
                  <a:lnTo>
                    <a:pt x="2311" y="541"/>
                  </a:lnTo>
                  <a:lnTo>
                    <a:pt x="2335" y="557"/>
                  </a:lnTo>
                  <a:lnTo>
                    <a:pt x="2357" y="574"/>
                  </a:lnTo>
                  <a:lnTo>
                    <a:pt x="2377" y="592"/>
                  </a:lnTo>
                  <a:lnTo>
                    <a:pt x="2394" y="612"/>
                  </a:lnTo>
                  <a:lnTo>
                    <a:pt x="2411" y="630"/>
                  </a:lnTo>
                  <a:lnTo>
                    <a:pt x="640" y="870"/>
                  </a:lnTo>
                  <a:lnTo>
                    <a:pt x="0" y="954"/>
                  </a:lnTo>
                  <a:lnTo>
                    <a:pt x="17" y="948"/>
                  </a:lnTo>
                  <a:lnTo>
                    <a:pt x="36" y="939"/>
                  </a:lnTo>
                  <a:lnTo>
                    <a:pt x="55" y="928"/>
                  </a:lnTo>
                  <a:lnTo>
                    <a:pt x="73" y="915"/>
                  </a:lnTo>
                  <a:lnTo>
                    <a:pt x="91" y="900"/>
                  </a:lnTo>
                  <a:lnTo>
                    <a:pt x="108" y="884"/>
                  </a:lnTo>
                  <a:lnTo>
                    <a:pt x="126" y="866"/>
                  </a:lnTo>
                  <a:lnTo>
                    <a:pt x="141" y="848"/>
                  </a:lnTo>
                  <a:lnTo>
                    <a:pt x="155" y="828"/>
                  </a:lnTo>
                  <a:lnTo>
                    <a:pt x="167" y="808"/>
                  </a:lnTo>
                  <a:lnTo>
                    <a:pt x="177" y="788"/>
                  </a:lnTo>
                  <a:lnTo>
                    <a:pt x="184" y="769"/>
                  </a:lnTo>
                  <a:lnTo>
                    <a:pt x="187" y="760"/>
                  </a:lnTo>
                  <a:lnTo>
                    <a:pt x="189" y="751"/>
                  </a:lnTo>
                  <a:lnTo>
                    <a:pt x="190" y="741"/>
                  </a:lnTo>
                  <a:lnTo>
                    <a:pt x="191" y="732"/>
                  </a:lnTo>
                  <a:lnTo>
                    <a:pt x="190" y="724"/>
                  </a:lnTo>
                  <a:lnTo>
                    <a:pt x="189" y="716"/>
                  </a:lnTo>
                  <a:lnTo>
                    <a:pt x="188" y="708"/>
                  </a:lnTo>
                  <a:lnTo>
                    <a:pt x="184" y="701"/>
                  </a:lnTo>
                  <a:lnTo>
                    <a:pt x="178" y="688"/>
                  </a:lnTo>
                  <a:lnTo>
                    <a:pt x="175" y="677"/>
                  </a:lnTo>
                  <a:lnTo>
                    <a:pt x="173" y="669"/>
                  </a:lnTo>
                  <a:lnTo>
                    <a:pt x="173" y="663"/>
                  </a:lnTo>
                  <a:lnTo>
                    <a:pt x="175" y="660"/>
                  </a:lnTo>
                  <a:lnTo>
                    <a:pt x="178" y="656"/>
                  </a:lnTo>
                  <a:lnTo>
                    <a:pt x="183" y="654"/>
                  </a:lnTo>
                  <a:lnTo>
                    <a:pt x="189" y="653"/>
                  </a:lnTo>
                  <a:lnTo>
                    <a:pt x="204" y="651"/>
                  </a:lnTo>
                  <a:lnTo>
                    <a:pt x="222" y="649"/>
                  </a:lnTo>
                  <a:lnTo>
                    <a:pt x="231" y="648"/>
                  </a:lnTo>
                  <a:lnTo>
                    <a:pt x="242" y="644"/>
                  </a:lnTo>
                  <a:lnTo>
                    <a:pt x="252" y="640"/>
                  </a:lnTo>
                  <a:lnTo>
                    <a:pt x="263" y="634"/>
                  </a:lnTo>
                  <a:lnTo>
                    <a:pt x="278" y="640"/>
                  </a:lnTo>
                  <a:lnTo>
                    <a:pt x="294" y="647"/>
                  </a:lnTo>
                  <a:lnTo>
                    <a:pt x="313" y="651"/>
                  </a:lnTo>
                  <a:lnTo>
                    <a:pt x="331" y="657"/>
                  </a:lnTo>
                  <a:lnTo>
                    <a:pt x="351" y="662"/>
                  </a:lnTo>
                  <a:lnTo>
                    <a:pt x="374" y="666"/>
                  </a:lnTo>
                  <a:lnTo>
                    <a:pt x="396" y="668"/>
                  </a:lnTo>
                  <a:lnTo>
                    <a:pt x="420" y="669"/>
                  </a:lnTo>
                  <a:lnTo>
                    <a:pt x="446" y="670"/>
                  </a:lnTo>
                  <a:lnTo>
                    <a:pt x="473" y="669"/>
                  </a:lnTo>
                  <a:lnTo>
                    <a:pt x="502" y="666"/>
                  </a:lnTo>
                  <a:lnTo>
                    <a:pt x="532" y="662"/>
                  </a:lnTo>
                  <a:lnTo>
                    <a:pt x="564" y="656"/>
                  </a:lnTo>
                  <a:lnTo>
                    <a:pt x="598" y="648"/>
                  </a:lnTo>
                  <a:lnTo>
                    <a:pt x="634" y="637"/>
                  </a:lnTo>
                  <a:lnTo>
                    <a:pt x="671" y="625"/>
                  </a:lnTo>
                  <a:lnTo>
                    <a:pt x="683" y="620"/>
                  </a:lnTo>
                  <a:lnTo>
                    <a:pt x="694" y="614"/>
                  </a:lnTo>
                  <a:lnTo>
                    <a:pt x="703" y="607"/>
                  </a:lnTo>
                  <a:lnTo>
                    <a:pt x="712" y="599"/>
                  </a:lnTo>
                  <a:lnTo>
                    <a:pt x="719" y="590"/>
                  </a:lnTo>
                  <a:lnTo>
                    <a:pt x="726" y="579"/>
                  </a:lnTo>
                  <a:lnTo>
                    <a:pt x="733" y="569"/>
                  </a:lnTo>
                  <a:lnTo>
                    <a:pt x="739" y="558"/>
                  </a:lnTo>
                  <a:lnTo>
                    <a:pt x="744" y="546"/>
                  </a:lnTo>
                  <a:lnTo>
                    <a:pt x="748" y="534"/>
                  </a:lnTo>
                  <a:lnTo>
                    <a:pt x="752" y="521"/>
                  </a:lnTo>
                  <a:lnTo>
                    <a:pt x="755" y="508"/>
                  </a:lnTo>
                  <a:lnTo>
                    <a:pt x="761" y="480"/>
                  </a:lnTo>
                  <a:lnTo>
                    <a:pt x="766" y="452"/>
                  </a:lnTo>
                  <a:lnTo>
                    <a:pt x="773" y="396"/>
                  </a:lnTo>
                  <a:lnTo>
                    <a:pt x="780" y="344"/>
                  </a:lnTo>
                  <a:lnTo>
                    <a:pt x="786" y="321"/>
                  </a:lnTo>
                  <a:lnTo>
                    <a:pt x="792" y="300"/>
                  </a:lnTo>
                  <a:lnTo>
                    <a:pt x="795" y="291"/>
                  </a:lnTo>
                  <a:lnTo>
                    <a:pt x="800" y="282"/>
                  </a:lnTo>
                  <a:lnTo>
                    <a:pt x="805" y="274"/>
                  </a:lnTo>
                  <a:lnTo>
                    <a:pt x="809" y="268"/>
                  </a:lnTo>
                  <a:lnTo>
                    <a:pt x="821" y="256"/>
                  </a:lnTo>
                  <a:lnTo>
                    <a:pt x="833" y="240"/>
                  </a:lnTo>
                  <a:lnTo>
                    <a:pt x="844" y="224"/>
                  </a:lnTo>
                  <a:lnTo>
                    <a:pt x="856" y="206"/>
                  </a:lnTo>
                  <a:lnTo>
                    <a:pt x="878" y="167"/>
                  </a:lnTo>
                  <a:lnTo>
                    <a:pt x="900" y="126"/>
                  </a:lnTo>
                  <a:lnTo>
                    <a:pt x="920" y="87"/>
                  </a:lnTo>
                  <a:lnTo>
                    <a:pt x="940" y="52"/>
                  </a:lnTo>
                  <a:lnTo>
                    <a:pt x="949" y="37"/>
                  </a:lnTo>
                  <a:lnTo>
                    <a:pt x="958" y="24"/>
                  </a:lnTo>
                  <a:lnTo>
                    <a:pt x="966" y="14"/>
                  </a:lnTo>
                  <a:lnTo>
                    <a:pt x="974" y="6"/>
                  </a:lnTo>
                  <a:lnTo>
                    <a:pt x="1019" y="1"/>
                  </a:lnTo>
                  <a:lnTo>
                    <a:pt x="1060" y="0"/>
                  </a:lnTo>
                  <a:lnTo>
                    <a:pt x="1097" y="0"/>
                  </a:lnTo>
                  <a:lnTo>
                    <a:pt x="1128" y="1"/>
                  </a:lnTo>
                  <a:lnTo>
                    <a:pt x="1156" y="4"/>
                  </a:lnTo>
                  <a:lnTo>
                    <a:pt x="1180" y="8"/>
                  </a:lnTo>
                  <a:lnTo>
                    <a:pt x="1201" y="14"/>
                  </a:lnTo>
                  <a:lnTo>
                    <a:pt x="1218" y="20"/>
                  </a:lnTo>
                  <a:lnTo>
                    <a:pt x="1247" y="31"/>
                  </a:lnTo>
                  <a:lnTo>
                    <a:pt x="1271" y="41"/>
                  </a:lnTo>
                  <a:lnTo>
                    <a:pt x="1281" y="44"/>
                  </a:lnTo>
                  <a:lnTo>
                    <a:pt x="1292" y="45"/>
                  </a:lnTo>
                  <a:lnTo>
                    <a:pt x="1302" y="45"/>
                  </a:lnTo>
                  <a:lnTo>
                    <a:pt x="1314" y="43"/>
                  </a:lnTo>
                  <a:lnTo>
                    <a:pt x="1323" y="44"/>
                  </a:lnTo>
                  <a:lnTo>
                    <a:pt x="1330" y="45"/>
                  </a:lnTo>
                  <a:lnTo>
                    <a:pt x="1337" y="48"/>
                  </a:lnTo>
                  <a:lnTo>
                    <a:pt x="1342" y="51"/>
                  </a:lnTo>
                  <a:lnTo>
                    <a:pt x="1347" y="55"/>
                  </a:lnTo>
                  <a:lnTo>
                    <a:pt x="1350" y="59"/>
                  </a:lnTo>
                  <a:lnTo>
                    <a:pt x="1354" y="65"/>
                  </a:lnTo>
                  <a:lnTo>
                    <a:pt x="1356" y="71"/>
                  </a:lnTo>
                  <a:lnTo>
                    <a:pt x="1363" y="83"/>
                  </a:lnTo>
                  <a:lnTo>
                    <a:pt x="1372" y="95"/>
                  </a:lnTo>
                  <a:lnTo>
                    <a:pt x="1378" y="102"/>
                  </a:lnTo>
                  <a:lnTo>
                    <a:pt x="1385" y="108"/>
                  </a:lnTo>
                  <a:lnTo>
                    <a:pt x="1394" y="115"/>
                  </a:lnTo>
                  <a:lnTo>
                    <a:pt x="1406" y="121"/>
                  </a:lnTo>
                  <a:lnTo>
                    <a:pt x="1412" y="135"/>
                  </a:lnTo>
                  <a:lnTo>
                    <a:pt x="1419" y="148"/>
                  </a:lnTo>
                  <a:lnTo>
                    <a:pt x="1427" y="159"/>
                  </a:lnTo>
                  <a:lnTo>
                    <a:pt x="1435" y="169"/>
                  </a:lnTo>
                  <a:lnTo>
                    <a:pt x="1442" y="177"/>
                  </a:lnTo>
                  <a:lnTo>
                    <a:pt x="1452" y="185"/>
                  </a:lnTo>
                  <a:lnTo>
                    <a:pt x="1460" y="192"/>
                  </a:lnTo>
                  <a:lnTo>
                    <a:pt x="1469" y="198"/>
                  </a:lnTo>
                  <a:lnTo>
                    <a:pt x="1477" y="203"/>
                  </a:lnTo>
                  <a:lnTo>
                    <a:pt x="1487" y="208"/>
                  </a:lnTo>
                  <a:lnTo>
                    <a:pt x="1496" y="211"/>
                  </a:lnTo>
                  <a:lnTo>
                    <a:pt x="1505" y="213"/>
                  </a:lnTo>
                  <a:lnTo>
                    <a:pt x="1524" y="218"/>
                  </a:lnTo>
                  <a:lnTo>
                    <a:pt x="1543" y="219"/>
                  </a:lnTo>
                  <a:lnTo>
                    <a:pt x="1577" y="220"/>
                  </a:lnTo>
                  <a:lnTo>
                    <a:pt x="1607" y="220"/>
                  </a:lnTo>
                  <a:lnTo>
                    <a:pt x="1620" y="222"/>
                  </a:lnTo>
                  <a:lnTo>
                    <a:pt x="1630" y="225"/>
                  </a:lnTo>
                  <a:lnTo>
                    <a:pt x="1635" y="226"/>
                  </a:lnTo>
                  <a:lnTo>
                    <a:pt x="1639" y="229"/>
                  </a:lnTo>
                  <a:lnTo>
                    <a:pt x="1642" y="232"/>
                  </a:lnTo>
                  <a:lnTo>
                    <a:pt x="1644" y="237"/>
                  </a:lnTo>
                  <a:lnTo>
                    <a:pt x="1823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144"/>
            <p:cNvSpPr/>
            <p:nvPr/>
          </p:nvSpPr>
          <p:spPr>
            <a:xfrm>
              <a:off x="8105400" y="5527440"/>
              <a:ext cx="365040" cy="1548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411" h="954">
                  <a:moveTo>
                    <a:pt x="1823" y="245"/>
                  </a:moveTo>
                  <a:lnTo>
                    <a:pt x="1840" y="252"/>
                  </a:lnTo>
                  <a:lnTo>
                    <a:pt x="1855" y="260"/>
                  </a:lnTo>
                  <a:lnTo>
                    <a:pt x="1870" y="268"/>
                  </a:lnTo>
                  <a:lnTo>
                    <a:pt x="1883" y="277"/>
                  </a:lnTo>
                  <a:lnTo>
                    <a:pt x="1896" y="286"/>
                  </a:lnTo>
                  <a:lnTo>
                    <a:pt x="1907" y="296"/>
                  </a:lnTo>
                  <a:lnTo>
                    <a:pt x="1919" y="307"/>
                  </a:lnTo>
                  <a:lnTo>
                    <a:pt x="1929" y="319"/>
                  </a:lnTo>
                  <a:lnTo>
                    <a:pt x="1952" y="344"/>
                  </a:lnTo>
                  <a:lnTo>
                    <a:pt x="1974" y="375"/>
                  </a:lnTo>
                  <a:lnTo>
                    <a:pt x="1997" y="409"/>
                  </a:lnTo>
                  <a:lnTo>
                    <a:pt x="2025" y="447"/>
                  </a:lnTo>
                  <a:lnTo>
                    <a:pt x="2049" y="447"/>
                  </a:lnTo>
                  <a:lnTo>
                    <a:pt x="2073" y="451"/>
                  </a:lnTo>
                  <a:lnTo>
                    <a:pt x="2099" y="454"/>
                  </a:lnTo>
                  <a:lnTo>
                    <a:pt x="2126" y="460"/>
                  </a:lnTo>
                  <a:lnTo>
                    <a:pt x="2153" y="468"/>
                  </a:lnTo>
                  <a:lnTo>
                    <a:pt x="2179" y="476"/>
                  </a:lnTo>
                  <a:lnTo>
                    <a:pt x="2207" y="487"/>
                  </a:lnTo>
                  <a:lnTo>
                    <a:pt x="2234" y="498"/>
                  </a:lnTo>
                  <a:lnTo>
                    <a:pt x="2260" y="511"/>
                  </a:lnTo>
                  <a:lnTo>
                    <a:pt x="2287" y="525"/>
                  </a:lnTo>
                  <a:lnTo>
                    <a:pt x="2311" y="541"/>
                  </a:lnTo>
                  <a:lnTo>
                    <a:pt x="2335" y="557"/>
                  </a:lnTo>
                  <a:lnTo>
                    <a:pt x="2357" y="574"/>
                  </a:lnTo>
                  <a:lnTo>
                    <a:pt x="2377" y="592"/>
                  </a:lnTo>
                  <a:lnTo>
                    <a:pt x="2394" y="612"/>
                  </a:lnTo>
                  <a:lnTo>
                    <a:pt x="2411" y="630"/>
                  </a:lnTo>
                  <a:lnTo>
                    <a:pt x="640" y="870"/>
                  </a:lnTo>
                  <a:lnTo>
                    <a:pt x="0" y="954"/>
                  </a:lnTo>
                  <a:lnTo>
                    <a:pt x="17" y="948"/>
                  </a:lnTo>
                  <a:lnTo>
                    <a:pt x="36" y="939"/>
                  </a:lnTo>
                  <a:lnTo>
                    <a:pt x="55" y="928"/>
                  </a:lnTo>
                  <a:lnTo>
                    <a:pt x="73" y="915"/>
                  </a:lnTo>
                  <a:lnTo>
                    <a:pt x="91" y="900"/>
                  </a:lnTo>
                  <a:lnTo>
                    <a:pt x="108" y="884"/>
                  </a:lnTo>
                  <a:lnTo>
                    <a:pt x="126" y="866"/>
                  </a:lnTo>
                  <a:lnTo>
                    <a:pt x="141" y="848"/>
                  </a:lnTo>
                  <a:lnTo>
                    <a:pt x="155" y="828"/>
                  </a:lnTo>
                  <a:lnTo>
                    <a:pt x="167" y="808"/>
                  </a:lnTo>
                  <a:lnTo>
                    <a:pt x="177" y="788"/>
                  </a:lnTo>
                  <a:lnTo>
                    <a:pt x="184" y="769"/>
                  </a:lnTo>
                  <a:lnTo>
                    <a:pt x="187" y="760"/>
                  </a:lnTo>
                  <a:lnTo>
                    <a:pt x="189" y="751"/>
                  </a:lnTo>
                  <a:lnTo>
                    <a:pt x="190" y="741"/>
                  </a:lnTo>
                  <a:lnTo>
                    <a:pt x="191" y="732"/>
                  </a:lnTo>
                  <a:lnTo>
                    <a:pt x="190" y="724"/>
                  </a:lnTo>
                  <a:lnTo>
                    <a:pt x="189" y="716"/>
                  </a:lnTo>
                  <a:lnTo>
                    <a:pt x="188" y="708"/>
                  </a:lnTo>
                  <a:lnTo>
                    <a:pt x="184" y="701"/>
                  </a:lnTo>
                  <a:lnTo>
                    <a:pt x="178" y="688"/>
                  </a:lnTo>
                  <a:lnTo>
                    <a:pt x="175" y="677"/>
                  </a:lnTo>
                  <a:lnTo>
                    <a:pt x="173" y="669"/>
                  </a:lnTo>
                  <a:lnTo>
                    <a:pt x="173" y="663"/>
                  </a:lnTo>
                  <a:lnTo>
                    <a:pt x="175" y="660"/>
                  </a:lnTo>
                  <a:lnTo>
                    <a:pt x="178" y="656"/>
                  </a:lnTo>
                  <a:lnTo>
                    <a:pt x="183" y="654"/>
                  </a:lnTo>
                  <a:lnTo>
                    <a:pt x="189" y="653"/>
                  </a:lnTo>
                  <a:lnTo>
                    <a:pt x="204" y="651"/>
                  </a:lnTo>
                  <a:lnTo>
                    <a:pt x="222" y="649"/>
                  </a:lnTo>
                  <a:lnTo>
                    <a:pt x="231" y="648"/>
                  </a:lnTo>
                  <a:lnTo>
                    <a:pt x="242" y="644"/>
                  </a:lnTo>
                  <a:lnTo>
                    <a:pt x="252" y="640"/>
                  </a:lnTo>
                  <a:lnTo>
                    <a:pt x="263" y="634"/>
                  </a:lnTo>
                  <a:lnTo>
                    <a:pt x="278" y="640"/>
                  </a:lnTo>
                  <a:lnTo>
                    <a:pt x="294" y="647"/>
                  </a:lnTo>
                  <a:lnTo>
                    <a:pt x="313" y="651"/>
                  </a:lnTo>
                  <a:lnTo>
                    <a:pt x="331" y="657"/>
                  </a:lnTo>
                  <a:lnTo>
                    <a:pt x="351" y="662"/>
                  </a:lnTo>
                  <a:lnTo>
                    <a:pt x="374" y="666"/>
                  </a:lnTo>
                  <a:lnTo>
                    <a:pt x="396" y="668"/>
                  </a:lnTo>
                  <a:lnTo>
                    <a:pt x="420" y="669"/>
                  </a:lnTo>
                  <a:lnTo>
                    <a:pt x="446" y="670"/>
                  </a:lnTo>
                  <a:lnTo>
                    <a:pt x="473" y="669"/>
                  </a:lnTo>
                  <a:lnTo>
                    <a:pt x="502" y="666"/>
                  </a:lnTo>
                  <a:lnTo>
                    <a:pt x="532" y="662"/>
                  </a:lnTo>
                  <a:lnTo>
                    <a:pt x="564" y="656"/>
                  </a:lnTo>
                  <a:lnTo>
                    <a:pt x="598" y="648"/>
                  </a:lnTo>
                  <a:lnTo>
                    <a:pt x="634" y="637"/>
                  </a:lnTo>
                  <a:lnTo>
                    <a:pt x="671" y="625"/>
                  </a:lnTo>
                  <a:lnTo>
                    <a:pt x="683" y="620"/>
                  </a:lnTo>
                  <a:lnTo>
                    <a:pt x="694" y="614"/>
                  </a:lnTo>
                  <a:lnTo>
                    <a:pt x="703" y="607"/>
                  </a:lnTo>
                  <a:lnTo>
                    <a:pt x="712" y="599"/>
                  </a:lnTo>
                  <a:lnTo>
                    <a:pt x="719" y="590"/>
                  </a:lnTo>
                  <a:lnTo>
                    <a:pt x="726" y="579"/>
                  </a:lnTo>
                  <a:lnTo>
                    <a:pt x="733" y="569"/>
                  </a:lnTo>
                  <a:lnTo>
                    <a:pt x="739" y="558"/>
                  </a:lnTo>
                  <a:lnTo>
                    <a:pt x="744" y="546"/>
                  </a:lnTo>
                  <a:lnTo>
                    <a:pt x="748" y="534"/>
                  </a:lnTo>
                  <a:lnTo>
                    <a:pt x="752" y="521"/>
                  </a:lnTo>
                  <a:lnTo>
                    <a:pt x="755" y="508"/>
                  </a:lnTo>
                  <a:lnTo>
                    <a:pt x="761" y="480"/>
                  </a:lnTo>
                  <a:lnTo>
                    <a:pt x="766" y="452"/>
                  </a:lnTo>
                  <a:lnTo>
                    <a:pt x="773" y="396"/>
                  </a:lnTo>
                  <a:lnTo>
                    <a:pt x="780" y="344"/>
                  </a:lnTo>
                  <a:lnTo>
                    <a:pt x="786" y="321"/>
                  </a:lnTo>
                  <a:lnTo>
                    <a:pt x="792" y="300"/>
                  </a:lnTo>
                  <a:lnTo>
                    <a:pt x="795" y="291"/>
                  </a:lnTo>
                  <a:lnTo>
                    <a:pt x="800" y="282"/>
                  </a:lnTo>
                  <a:lnTo>
                    <a:pt x="805" y="274"/>
                  </a:lnTo>
                  <a:lnTo>
                    <a:pt x="809" y="268"/>
                  </a:lnTo>
                  <a:lnTo>
                    <a:pt x="821" y="256"/>
                  </a:lnTo>
                  <a:lnTo>
                    <a:pt x="833" y="240"/>
                  </a:lnTo>
                  <a:lnTo>
                    <a:pt x="844" y="224"/>
                  </a:lnTo>
                  <a:lnTo>
                    <a:pt x="856" y="206"/>
                  </a:lnTo>
                  <a:lnTo>
                    <a:pt x="878" y="167"/>
                  </a:lnTo>
                  <a:lnTo>
                    <a:pt x="900" y="126"/>
                  </a:lnTo>
                  <a:lnTo>
                    <a:pt x="920" y="87"/>
                  </a:lnTo>
                  <a:lnTo>
                    <a:pt x="940" y="52"/>
                  </a:lnTo>
                  <a:lnTo>
                    <a:pt x="949" y="37"/>
                  </a:lnTo>
                  <a:lnTo>
                    <a:pt x="958" y="24"/>
                  </a:lnTo>
                  <a:lnTo>
                    <a:pt x="966" y="14"/>
                  </a:lnTo>
                  <a:lnTo>
                    <a:pt x="974" y="6"/>
                  </a:lnTo>
                  <a:lnTo>
                    <a:pt x="1019" y="1"/>
                  </a:lnTo>
                  <a:lnTo>
                    <a:pt x="1060" y="0"/>
                  </a:lnTo>
                  <a:lnTo>
                    <a:pt x="1097" y="0"/>
                  </a:lnTo>
                  <a:lnTo>
                    <a:pt x="1128" y="1"/>
                  </a:lnTo>
                  <a:lnTo>
                    <a:pt x="1156" y="4"/>
                  </a:lnTo>
                  <a:lnTo>
                    <a:pt x="1180" y="8"/>
                  </a:lnTo>
                  <a:lnTo>
                    <a:pt x="1201" y="14"/>
                  </a:lnTo>
                  <a:lnTo>
                    <a:pt x="1218" y="20"/>
                  </a:lnTo>
                  <a:lnTo>
                    <a:pt x="1247" y="31"/>
                  </a:lnTo>
                  <a:lnTo>
                    <a:pt x="1271" y="41"/>
                  </a:lnTo>
                  <a:lnTo>
                    <a:pt x="1281" y="44"/>
                  </a:lnTo>
                  <a:lnTo>
                    <a:pt x="1292" y="45"/>
                  </a:lnTo>
                  <a:lnTo>
                    <a:pt x="1302" y="45"/>
                  </a:lnTo>
                  <a:lnTo>
                    <a:pt x="1314" y="43"/>
                  </a:lnTo>
                  <a:lnTo>
                    <a:pt x="1323" y="44"/>
                  </a:lnTo>
                  <a:lnTo>
                    <a:pt x="1330" y="45"/>
                  </a:lnTo>
                  <a:lnTo>
                    <a:pt x="1337" y="48"/>
                  </a:lnTo>
                  <a:lnTo>
                    <a:pt x="1342" y="51"/>
                  </a:lnTo>
                  <a:lnTo>
                    <a:pt x="1347" y="55"/>
                  </a:lnTo>
                  <a:lnTo>
                    <a:pt x="1350" y="59"/>
                  </a:lnTo>
                  <a:lnTo>
                    <a:pt x="1354" y="65"/>
                  </a:lnTo>
                  <a:lnTo>
                    <a:pt x="1356" y="71"/>
                  </a:lnTo>
                  <a:lnTo>
                    <a:pt x="1363" y="83"/>
                  </a:lnTo>
                  <a:lnTo>
                    <a:pt x="1372" y="95"/>
                  </a:lnTo>
                  <a:lnTo>
                    <a:pt x="1378" y="102"/>
                  </a:lnTo>
                  <a:lnTo>
                    <a:pt x="1385" y="108"/>
                  </a:lnTo>
                  <a:lnTo>
                    <a:pt x="1394" y="115"/>
                  </a:lnTo>
                  <a:lnTo>
                    <a:pt x="1406" y="121"/>
                  </a:lnTo>
                  <a:lnTo>
                    <a:pt x="1412" y="135"/>
                  </a:lnTo>
                  <a:lnTo>
                    <a:pt x="1419" y="148"/>
                  </a:lnTo>
                  <a:lnTo>
                    <a:pt x="1427" y="159"/>
                  </a:lnTo>
                  <a:lnTo>
                    <a:pt x="1435" y="169"/>
                  </a:lnTo>
                  <a:lnTo>
                    <a:pt x="1442" y="177"/>
                  </a:lnTo>
                  <a:lnTo>
                    <a:pt x="1452" y="185"/>
                  </a:lnTo>
                  <a:lnTo>
                    <a:pt x="1460" y="192"/>
                  </a:lnTo>
                  <a:lnTo>
                    <a:pt x="1469" y="198"/>
                  </a:lnTo>
                  <a:lnTo>
                    <a:pt x="1477" y="203"/>
                  </a:lnTo>
                  <a:lnTo>
                    <a:pt x="1487" y="208"/>
                  </a:lnTo>
                  <a:lnTo>
                    <a:pt x="1496" y="211"/>
                  </a:lnTo>
                  <a:lnTo>
                    <a:pt x="1505" y="213"/>
                  </a:lnTo>
                  <a:lnTo>
                    <a:pt x="1524" y="218"/>
                  </a:lnTo>
                  <a:lnTo>
                    <a:pt x="1543" y="219"/>
                  </a:lnTo>
                  <a:lnTo>
                    <a:pt x="1577" y="220"/>
                  </a:lnTo>
                  <a:lnTo>
                    <a:pt x="1607" y="220"/>
                  </a:lnTo>
                  <a:lnTo>
                    <a:pt x="1620" y="222"/>
                  </a:lnTo>
                  <a:lnTo>
                    <a:pt x="1630" y="225"/>
                  </a:lnTo>
                  <a:lnTo>
                    <a:pt x="1635" y="226"/>
                  </a:lnTo>
                  <a:lnTo>
                    <a:pt x="1639" y="229"/>
                  </a:lnTo>
                  <a:lnTo>
                    <a:pt x="1642" y="232"/>
                  </a:lnTo>
                  <a:lnTo>
                    <a:pt x="1644" y="237"/>
                  </a:lnTo>
                  <a:lnTo>
                    <a:pt x="1823" y="245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145"/>
            <p:cNvSpPr/>
            <p:nvPr/>
          </p:nvSpPr>
          <p:spPr>
            <a:xfrm>
              <a:off x="7575480" y="5743800"/>
              <a:ext cx="241200" cy="1947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601" h="1200">
                  <a:moveTo>
                    <a:pt x="424" y="1200"/>
                  </a:moveTo>
                  <a:lnTo>
                    <a:pt x="415" y="1192"/>
                  </a:lnTo>
                  <a:lnTo>
                    <a:pt x="404" y="1184"/>
                  </a:lnTo>
                  <a:lnTo>
                    <a:pt x="391" y="1176"/>
                  </a:lnTo>
                  <a:lnTo>
                    <a:pt x="377" y="1167"/>
                  </a:lnTo>
                  <a:lnTo>
                    <a:pt x="345" y="1147"/>
                  </a:lnTo>
                  <a:lnTo>
                    <a:pt x="306" y="1126"/>
                  </a:lnTo>
                  <a:lnTo>
                    <a:pt x="263" y="1103"/>
                  </a:lnTo>
                  <a:lnTo>
                    <a:pt x="216" y="1081"/>
                  </a:lnTo>
                  <a:lnTo>
                    <a:pt x="166" y="1059"/>
                  </a:lnTo>
                  <a:lnTo>
                    <a:pt x="112" y="1036"/>
                  </a:lnTo>
                  <a:lnTo>
                    <a:pt x="106" y="308"/>
                  </a:lnTo>
                  <a:lnTo>
                    <a:pt x="0" y="55"/>
                  </a:lnTo>
                  <a:lnTo>
                    <a:pt x="1466" y="0"/>
                  </a:lnTo>
                  <a:lnTo>
                    <a:pt x="1458" y="83"/>
                  </a:lnTo>
                  <a:lnTo>
                    <a:pt x="1596" y="69"/>
                  </a:lnTo>
                  <a:lnTo>
                    <a:pt x="1598" y="85"/>
                  </a:lnTo>
                  <a:lnTo>
                    <a:pt x="1600" y="101"/>
                  </a:lnTo>
                  <a:lnTo>
                    <a:pt x="1601" y="118"/>
                  </a:lnTo>
                  <a:lnTo>
                    <a:pt x="1601" y="135"/>
                  </a:lnTo>
                  <a:lnTo>
                    <a:pt x="1600" y="169"/>
                  </a:lnTo>
                  <a:lnTo>
                    <a:pt x="1597" y="204"/>
                  </a:lnTo>
                  <a:lnTo>
                    <a:pt x="1591" y="239"/>
                  </a:lnTo>
                  <a:lnTo>
                    <a:pt x="1584" y="274"/>
                  </a:lnTo>
                  <a:lnTo>
                    <a:pt x="1575" y="309"/>
                  </a:lnTo>
                  <a:lnTo>
                    <a:pt x="1564" y="343"/>
                  </a:lnTo>
                  <a:lnTo>
                    <a:pt x="1552" y="376"/>
                  </a:lnTo>
                  <a:lnTo>
                    <a:pt x="1541" y="407"/>
                  </a:lnTo>
                  <a:lnTo>
                    <a:pt x="1529" y="436"/>
                  </a:lnTo>
                  <a:lnTo>
                    <a:pt x="1516" y="465"/>
                  </a:lnTo>
                  <a:lnTo>
                    <a:pt x="1505" y="489"/>
                  </a:lnTo>
                  <a:lnTo>
                    <a:pt x="1493" y="511"/>
                  </a:lnTo>
                  <a:lnTo>
                    <a:pt x="1482" y="531"/>
                  </a:lnTo>
                  <a:lnTo>
                    <a:pt x="1472" y="546"/>
                  </a:lnTo>
                  <a:lnTo>
                    <a:pt x="1462" y="564"/>
                  </a:lnTo>
                  <a:lnTo>
                    <a:pt x="1453" y="585"/>
                  </a:lnTo>
                  <a:lnTo>
                    <a:pt x="1444" y="611"/>
                  </a:lnTo>
                  <a:lnTo>
                    <a:pt x="1434" y="640"/>
                  </a:lnTo>
                  <a:lnTo>
                    <a:pt x="1426" y="671"/>
                  </a:lnTo>
                  <a:lnTo>
                    <a:pt x="1418" y="707"/>
                  </a:lnTo>
                  <a:lnTo>
                    <a:pt x="1411" y="746"/>
                  </a:lnTo>
                  <a:lnTo>
                    <a:pt x="1406" y="787"/>
                  </a:lnTo>
                  <a:lnTo>
                    <a:pt x="1403" y="830"/>
                  </a:lnTo>
                  <a:lnTo>
                    <a:pt x="1402" y="876"/>
                  </a:lnTo>
                  <a:lnTo>
                    <a:pt x="1402" y="898"/>
                  </a:lnTo>
                  <a:lnTo>
                    <a:pt x="1403" y="921"/>
                  </a:lnTo>
                  <a:lnTo>
                    <a:pt x="1405" y="946"/>
                  </a:lnTo>
                  <a:lnTo>
                    <a:pt x="1408" y="969"/>
                  </a:lnTo>
                  <a:lnTo>
                    <a:pt x="1410" y="994"/>
                  </a:lnTo>
                  <a:lnTo>
                    <a:pt x="1415" y="1018"/>
                  </a:lnTo>
                  <a:lnTo>
                    <a:pt x="1419" y="1043"/>
                  </a:lnTo>
                  <a:lnTo>
                    <a:pt x="1425" y="1067"/>
                  </a:lnTo>
                  <a:lnTo>
                    <a:pt x="1432" y="1092"/>
                  </a:lnTo>
                  <a:lnTo>
                    <a:pt x="1439" y="1116"/>
                  </a:lnTo>
                  <a:lnTo>
                    <a:pt x="1448" y="1141"/>
                  </a:lnTo>
                  <a:lnTo>
                    <a:pt x="1458" y="1165"/>
                  </a:lnTo>
                  <a:lnTo>
                    <a:pt x="424" y="1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146"/>
            <p:cNvSpPr/>
            <p:nvPr/>
          </p:nvSpPr>
          <p:spPr>
            <a:xfrm>
              <a:off x="7575480" y="5743800"/>
              <a:ext cx="241200" cy="1947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601" h="1200">
                  <a:moveTo>
                    <a:pt x="424" y="1200"/>
                  </a:moveTo>
                  <a:lnTo>
                    <a:pt x="415" y="1192"/>
                  </a:lnTo>
                  <a:lnTo>
                    <a:pt x="404" y="1184"/>
                  </a:lnTo>
                  <a:lnTo>
                    <a:pt x="391" y="1176"/>
                  </a:lnTo>
                  <a:lnTo>
                    <a:pt x="377" y="1167"/>
                  </a:lnTo>
                  <a:lnTo>
                    <a:pt x="345" y="1147"/>
                  </a:lnTo>
                  <a:lnTo>
                    <a:pt x="306" y="1126"/>
                  </a:lnTo>
                  <a:lnTo>
                    <a:pt x="263" y="1103"/>
                  </a:lnTo>
                  <a:lnTo>
                    <a:pt x="216" y="1081"/>
                  </a:lnTo>
                  <a:lnTo>
                    <a:pt x="166" y="1059"/>
                  </a:lnTo>
                  <a:lnTo>
                    <a:pt x="112" y="1036"/>
                  </a:lnTo>
                  <a:lnTo>
                    <a:pt x="106" y="308"/>
                  </a:lnTo>
                  <a:lnTo>
                    <a:pt x="0" y="55"/>
                  </a:lnTo>
                  <a:lnTo>
                    <a:pt x="1466" y="0"/>
                  </a:lnTo>
                  <a:lnTo>
                    <a:pt x="1458" y="83"/>
                  </a:lnTo>
                  <a:lnTo>
                    <a:pt x="1596" y="69"/>
                  </a:lnTo>
                  <a:lnTo>
                    <a:pt x="1598" y="85"/>
                  </a:lnTo>
                  <a:lnTo>
                    <a:pt x="1600" y="101"/>
                  </a:lnTo>
                  <a:lnTo>
                    <a:pt x="1601" y="118"/>
                  </a:lnTo>
                  <a:lnTo>
                    <a:pt x="1601" y="135"/>
                  </a:lnTo>
                  <a:lnTo>
                    <a:pt x="1600" y="169"/>
                  </a:lnTo>
                  <a:lnTo>
                    <a:pt x="1597" y="204"/>
                  </a:lnTo>
                  <a:lnTo>
                    <a:pt x="1591" y="239"/>
                  </a:lnTo>
                  <a:lnTo>
                    <a:pt x="1584" y="274"/>
                  </a:lnTo>
                  <a:lnTo>
                    <a:pt x="1575" y="309"/>
                  </a:lnTo>
                  <a:lnTo>
                    <a:pt x="1564" y="343"/>
                  </a:lnTo>
                  <a:lnTo>
                    <a:pt x="1552" y="376"/>
                  </a:lnTo>
                  <a:lnTo>
                    <a:pt x="1541" y="407"/>
                  </a:lnTo>
                  <a:lnTo>
                    <a:pt x="1529" y="436"/>
                  </a:lnTo>
                  <a:lnTo>
                    <a:pt x="1516" y="465"/>
                  </a:lnTo>
                  <a:lnTo>
                    <a:pt x="1505" y="489"/>
                  </a:lnTo>
                  <a:lnTo>
                    <a:pt x="1493" y="511"/>
                  </a:lnTo>
                  <a:lnTo>
                    <a:pt x="1482" y="531"/>
                  </a:lnTo>
                  <a:lnTo>
                    <a:pt x="1472" y="546"/>
                  </a:lnTo>
                  <a:lnTo>
                    <a:pt x="1462" y="564"/>
                  </a:lnTo>
                  <a:lnTo>
                    <a:pt x="1453" y="585"/>
                  </a:lnTo>
                  <a:lnTo>
                    <a:pt x="1444" y="611"/>
                  </a:lnTo>
                  <a:lnTo>
                    <a:pt x="1434" y="640"/>
                  </a:lnTo>
                  <a:lnTo>
                    <a:pt x="1426" y="671"/>
                  </a:lnTo>
                  <a:lnTo>
                    <a:pt x="1418" y="707"/>
                  </a:lnTo>
                  <a:lnTo>
                    <a:pt x="1411" y="746"/>
                  </a:lnTo>
                  <a:lnTo>
                    <a:pt x="1406" y="787"/>
                  </a:lnTo>
                  <a:lnTo>
                    <a:pt x="1403" y="830"/>
                  </a:lnTo>
                  <a:lnTo>
                    <a:pt x="1402" y="876"/>
                  </a:lnTo>
                  <a:lnTo>
                    <a:pt x="1402" y="898"/>
                  </a:lnTo>
                  <a:lnTo>
                    <a:pt x="1403" y="921"/>
                  </a:lnTo>
                  <a:lnTo>
                    <a:pt x="1405" y="946"/>
                  </a:lnTo>
                  <a:lnTo>
                    <a:pt x="1408" y="969"/>
                  </a:lnTo>
                  <a:lnTo>
                    <a:pt x="1410" y="994"/>
                  </a:lnTo>
                  <a:lnTo>
                    <a:pt x="1415" y="1018"/>
                  </a:lnTo>
                  <a:lnTo>
                    <a:pt x="1419" y="1043"/>
                  </a:lnTo>
                  <a:lnTo>
                    <a:pt x="1425" y="1067"/>
                  </a:lnTo>
                  <a:lnTo>
                    <a:pt x="1432" y="1092"/>
                  </a:lnTo>
                  <a:lnTo>
                    <a:pt x="1439" y="1116"/>
                  </a:lnTo>
                  <a:lnTo>
                    <a:pt x="1448" y="1141"/>
                  </a:lnTo>
                  <a:lnTo>
                    <a:pt x="1458" y="1165"/>
                  </a:lnTo>
                  <a:lnTo>
                    <a:pt x="424" y="120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147"/>
            <p:cNvSpPr/>
            <p:nvPr/>
          </p:nvSpPr>
          <p:spPr>
            <a:xfrm>
              <a:off x="8391600" y="5533920"/>
              <a:ext cx="44280" cy="58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89" h="357">
                  <a:moveTo>
                    <a:pt x="285" y="357"/>
                  </a:moveTo>
                  <a:lnTo>
                    <a:pt x="273" y="353"/>
                  </a:lnTo>
                  <a:lnTo>
                    <a:pt x="263" y="347"/>
                  </a:lnTo>
                  <a:lnTo>
                    <a:pt x="251" y="340"/>
                  </a:lnTo>
                  <a:lnTo>
                    <a:pt x="241" y="332"/>
                  </a:lnTo>
                  <a:lnTo>
                    <a:pt x="230" y="322"/>
                  </a:lnTo>
                  <a:lnTo>
                    <a:pt x="220" y="313"/>
                  </a:lnTo>
                  <a:lnTo>
                    <a:pt x="209" y="302"/>
                  </a:lnTo>
                  <a:lnTo>
                    <a:pt x="200" y="292"/>
                  </a:lnTo>
                  <a:lnTo>
                    <a:pt x="180" y="269"/>
                  </a:lnTo>
                  <a:lnTo>
                    <a:pt x="161" y="243"/>
                  </a:lnTo>
                  <a:lnTo>
                    <a:pt x="144" y="217"/>
                  </a:lnTo>
                  <a:lnTo>
                    <a:pt x="125" y="191"/>
                  </a:lnTo>
                  <a:lnTo>
                    <a:pt x="92" y="140"/>
                  </a:lnTo>
                  <a:lnTo>
                    <a:pt x="61" y="96"/>
                  </a:lnTo>
                  <a:lnTo>
                    <a:pt x="44" y="78"/>
                  </a:lnTo>
                  <a:lnTo>
                    <a:pt x="29" y="63"/>
                  </a:lnTo>
                  <a:lnTo>
                    <a:pt x="22" y="57"/>
                  </a:lnTo>
                  <a:lnTo>
                    <a:pt x="15" y="52"/>
                  </a:lnTo>
                  <a:lnTo>
                    <a:pt x="7" y="49"/>
                  </a:lnTo>
                  <a:lnTo>
                    <a:pt x="0" y="47"/>
                  </a:lnTo>
                  <a:lnTo>
                    <a:pt x="161" y="0"/>
                  </a:lnTo>
                  <a:lnTo>
                    <a:pt x="162" y="10"/>
                  </a:lnTo>
                  <a:lnTo>
                    <a:pt x="165" y="20"/>
                  </a:lnTo>
                  <a:lnTo>
                    <a:pt x="168" y="29"/>
                  </a:lnTo>
                  <a:lnTo>
                    <a:pt x="174" y="37"/>
                  </a:lnTo>
                  <a:lnTo>
                    <a:pt x="186" y="55"/>
                  </a:lnTo>
                  <a:lnTo>
                    <a:pt x="201" y="71"/>
                  </a:lnTo>
                  <a:lnTo>
                    <a:pt x="215" y="88"/>
                  </a:lnTo>
                  <a:lnTo>
                    <a:pt x="227" y="104"/>
                  </a:lnTo>
                  <a:lnTo>
                    <a:pt x="233" y="113"/>
                  </a:lnTo>
                  <a:lnTo>
                    <a:pt x="236" y="123"/>
                  </a:lnTo>
                  <a:lnTo>
                    <a:pt x="238" y="132"/>
                  </a:lnTo>
                  <a:lnTo>
                    <a:pt x="240" y="141"/>
                  </a:lnTo>
                  <a:lnTo>
                    <a:pt x="240" y="158"/>
                  </a:lnTo>
                  <a:lnTo>
                    <a:pt x="242" y="173"/>
                  </a:lnTo>
                  <a:lnTo>
                    <a:pt x="245" y="187"/>
                  </a:lnTo>
                  <a:lnTo>
                    <a:pt x="249" y="200"/>
                  </a:lnTo>
                  <a:lnTo>
                    <a:pt x="258" y="224"/>
                  </a:lnTo>
                  <a:lnTo>
                    <a:pt x="269" y="246"/>
                  </a:lnTo>
                  <a:lnTo>
                    <a:pt x="273" y="258"/>
                  </a:lnTo>
                  <a:lnTo>
                    <a:pt x="278" y="270"/>
                  </a:lnTo>
                  <a:lnTo>
                    <a:pt x="283" y="281"/>
                  </a:lnTo>
                  <a:lnTo>
                    <a:pt x="285" y="294"/>
                  </a:lnTo>
                  <a:lnTo>
                    <a:pt x="287" y="308"/>
                  </a:lnTo>
                  <a:lnTo>
                    <a:pt x="289" y="323"/>
                  </a:lnTo>
                  <a:lnTo>
                    <a:pt x="287" y="340"/>
                  </a:lnTo>
                  <a:lnTo>
                    <a:pt x="285" y="35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148"/>
            <p:cNvSpPr/>
            <p:nvPr/>
          </p:nvSpPr>
          <p:spPr>
            <a:xfrm>
              <a:off x="8391600" y="5533920"/>
              <a:ext cx="44280" cy="58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89" h="357">
                  <a:moveTo>
                    <a:pt x="285" y="357"/>
                  </a:moveTo>
                  <a:lnTo>
                    <a:pt x="273" y="353"/>
                  </a:lnTo>
                  <a:lnTo>
                    <a:pt x="263" y="347"/>
                  </a:lnTo>
                  <a:lnTo>
                    <a:pt x="251" y="340"/>
                  </a:lnTo>
                  <a:lnTo>
                    <a:pt x="241" y="332"/>
                  </a:lnTo>
                  <a:lnTo>
                    <a:pt x="230" y="322"/>
                  </a:lnTo>
                  <a:lnTo>
                    <a:pt x="220" y="313"/>
                  </a:lnTo>
                  <a:lnTo>
                    <a:pt x="209" y="302"/>
                  </a:lnTo>
                  <a:lnTo>
                    <a:pt x="200" y="292"/>
                  </a:lnTo>
                  <a:lnTo>
                    <a:pt x="180" y="269"/>
                  </a:lnTo>
                  <a:lnTo>
                    <a:pt x="161" y="243"/>
                  </a:lnTo>
                  <a:lnTo>
                    <a:pt x="144" y="217"/>
                  </a:lnTo>
                  <a:lnTo>
                    <a:pt x="125" y="191"/>
                  </a:lnTo>
                  <a:lnTo>
                    <a:pt x="92" y="140"/>
                  </a:lnTo>
                  <a:lnTo>
                    <a:pt x="61" y="96"/>
                  </a:lnTo>
                  <a:lnTo>
                    <a:pt x="44" y="78"/>
                  </a:lnTo>
                  <a:lnTo>
                    <a:pt x="29" y="63"/>
                  </a:lnTo>
                  <a:lnTo>
                    <a:pt x="22" y="57"/>
                  </a:lnTo>
                  <a:lnTo>
                    <a:pt x="15" y="52"/>
                  </a:lnTo>
                  <a:lnTo>
                    <a:pt x="7" y="49"/>
                  </a:lnTo>
                  <a:lnTo>
                    <a:pt x="0" y="47"/>
                  </a:lnTo>
                  <a:lnTo>
                    <a:pt x="161" y="0"/>
                  </a:lnTo>
                  <a:lnTo>
                    <a:pt x="162" y="10"/>
                  </a:lnTo>
                  <a:lnTo>
                    <a:pt x="165" y="20"/>
                  </a:lnTo>
                  <a:lnTo>
                    <a:pt x="168" y="29"/>
                  </a:lnTo>
                  <a:lnTo>
                    <a:pt x="174" y="37"/>
                  </a:lnTo>
                  <a:lnTo>
                    <a:pt x="186" y="55"/>
                  </a:lnTo>
                  <a:lnTo>
                    <a:pt x="201" y="71"/>
                  </a:lnTo>
                  <a:lnTo>
                    <a:pt x="215" y="88"/>
                  </a:lnTo>
                  <a:lnTo>
                    <a:pt x="227" y="104"/>
                  </a:lnTo>
                  <a:lnTo>
                    <a:pt x="233" y="113"/>
                  </a:lnTo>
                  <a:lnTo>
                    <a:pt x="236" y="123"/>
                  </a:lnTo>
                  <a:lnTo>
                    <a:pt x="238" y="132"/>
                  </a:lnTo>
                  <a:lnTo>
                    <a:pt x="240" y="141"/>
                  </a:lnTo>
                  <a:lnTo>
                    <a:pt x="240" y="158"/>
                  </a:lnTo>
                  <a:lnTo>
                    <a:pt x="242" y="173"/>
                  </a:lnTo>
                  <a:lnTo>
                    <a:pt x="245" y="187"/>
                  </a:lnTo>
                  <a:lnTo>
                    <a:pt x="249" y="200"/>
                  </a:lnTo>
                  <a:lnTo>
                    <a:pt x="258" y="224"/>
                  </a:lnTo>
                  <a:lnTo>
                    <a:pt x="269" y="246"/>
                  </a:lnTo>
                  <a:lnTo>
                    <a:pt x="273" y="258"/>
                  </a:lnTo>
                  <a:lnTo>
                    <a:pt x="278" y="270"/>
                  </a:lnTo>
                  <a:lnTo>
                    <a:pt x="283" y="281"/>
                  </a:lnTo>
                  <a:lnTo>
                    <a:pt x="285" y="294"/>
                  </a:lnTo>
                  <a:lnTo>
                    <a:pt x="287" y="308"/>
                  </a:lnTo>
                  <a:lnTo>
                    <a:pt x="289" y="323"/>
                  </a:lnTo>
                  <a:lnTo>
                    <a:pt x="287" y="340"/>
                  </a:lnTo>
                  <a:lnTo>
                    <a:pt x="285" y="357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149"/>
            <p:cNvSpPr/>
            <p:nvPr/>
          </p:nvSpPr>
          <p:spPr>
            <a:xfrm>
              <a:off x="7466040" y="5445000"/>
              <a:ext cx="260280" cy="1173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714" h="717">
                  <a:moveTo>
                    <a:pt x="1388" y="0"/>
                  </a:moveTo>
                  <a:lnTo>
                    <a:pt x="1399" y="19"/>
                  </a:lnTo>
                  <a:lnTo>
                    <a:pt x="1410" y="38"/>
                  </a:lnTo>
                  <a:lnTo>
                    <a:pt x="1424" y="56"/>
                  </a:lnTo>
                  <a:lnTo>
                    <a:pt x="1440" y="75"/>
                  </a:lnTo>
                  <a:lnTo>
                    <a:pt x="1457" y="93"/>
                  </a:lnTo>
                  <a:lnTo>
                    <a:pt x="1475" y="109"/>
                  </a:lnTo>
                  <a:lnTo>
                    <a:pt x="1494" y="125"/>
                  </a:lnTo>
                  <a:lnTo>
                    <a:pt x="1514" y="140"/>
                  </a:lnTo>
                  <a:lnTo>
                    <a:pt x="1535" y="153"/>
                  </a:lnTo>
                  <a:lnTo>
                    <a:pt x="1558" y="166"/>
                  </a:lnTo>
                  <a:lnTo>
                    <a:pt x="1579" y="177"/>
                  </a:lnTo>
                  <a:lnTo>
                    <a:pt x="1601" y="186"/>
                  </a:lnTo>
                  <a:lnTo>
                    <a:pt x="1622" y="193"/>
                  </a:lnTo>
                  <a:lnTo>
                    <a:pt x="1643" y="198"/>
                  </a:lnTo>
                  <a:lnTo>
                    <a:pt x="1663" y="201"/>
                  </a:lnTo>
                  <a:lnTo>
                    <a:pt x="1683" y="202"/>
                  </a:lnTo>
                  <a:lnTo>
                    <a:pt x="1714" y="331"/>
                  </a:lnTo>
                  <a:lnTo>
                    <a:pt x="1695" y="335"/>
                  </a:lnTo>
                  <a:lnTo>
                    <a:pt x="1679" y="340"/>
                  </a:lnTo>
                  <a:lnTo>
                    <a:pt x="1665" y="346"/>
                  </a:lnTo>
                  <a:lnTo>
                    <a:pt x="1653" y="353"/>
                  </a:lnTo>
                  <a:lnTo>
                    <a:pt x="1643" y="361"/>
                  </a:lnTo>
                  <a:lnTo>
                    <a:pt x="1636" y="369"/>
                  </a:lnTo>
                  <a:lnTo>
                    <a:pt x="1630" y="379"/>
                  </a:lnTo>
                  <a:lnTo>
                    <a:pt x="1625" y="388"/>
                  </a:lnTo>
                  <a:lnTo>
                    <a:pt x="1623" y="397"/>
                  </a:lnTo>
                  <a:lnTo>
                    <a:pt x="1622" y="407"/>
                  </a:lnTo>
                  <a:lnTo>
                    <a:pt x="1623" y="416"/>
                  </a:lnTo>
                  <a:lnTo>
                    <a:pt x="1625" y="425"/>
                  </a:lnTo>
                  <a:lnTo>
                    <a:pt x="1628" y="434"/>
                  </a:lnTo>
                  <a:lnTo>
                    <a:pt x="1632" y="442"/>
                  </a:lnTo>
                  <a:lnTo>
                    <a:pt x="1638" y="449"/>
                  </a:lnTo>
                  <a:lnTo>
                    <a:pt x="1645" y="456"/>
                  </a:lnTo>
                  <a:lnTo>
                    <a:pt x="1608" y="525"/>
                  </a:lnTo>
                  <a:lnTo>
                    <a:pt x="1602" y="525"/>
                  </a:lnTo>
                  <a:lnTo>
                    <a:pt x="1596" y="525"/>
                  </a:lnTo>
                  <a:lnTo>
                    <a:pt x="1591" y="526"/>
                  </a:lnTo>
                  <a:lnTo>
                    <a:pt x="1586" y="528"/>
                  </a:lnTo>
                  <a:lnTo>
                    <a:pt x="1582" y="531"/>
                  </a:lnTo>
                  <a:lnTo>
                    <a:pt x="1577" y="534"/>
                  </a:lnTo>
                  <a:lnTo>
                    <a:pt x="1573" y="538"/>
                  </a:lnTo>
                  <a:lnTo>
                    <a:pt x="1569" y="542"/>
                  </a:lnTo>
                  <a:lnTo>
                    <a:pt x="1563" y="552"/>
                  </a:lnTo>
                  <a:lnTo>
                    <a:pt x="1558" y="563"/>
                  </a:lnTo>
                  <a:lnTo>
                    <a:pt x="1553" y="575"/>
                  </a:lnTo>
                  <a:lnTo>
                    <a:pt x="1548" y="588"/>
                  </a:lnTo>
                  <a:lnTo>
                    <a:pt x="1546" y="602"/>
                  </a:lnTo>
                  <a:lnTo>
                    <a:pt x="1544" y="616"/>
                  </a:lnTo>
                  <a:lnTo>
                    <a:pt x="1542" y="629"/>
                  </a:lnTo>
                  <a:lnTo>
                    <a:pt x="1541" y="642"/>
                  </a:lnTo>
                  <a:lnTo>
                    <a:pt x="1541" y="653"/>
                  </a:lnTo>
                  <a:lnTo>
                    <a:pt x="1541" y="664"/>
                  </a:lnTo>
                  <a:lnTo>
                    <a:pt x="1542" y="673"/>
                  </a:lnTo>
                  <a:lnTo>
                    <a:pt x="1544" y="680"/>
                  </a:lnTo>
                  <a:lnTo>
                    <a:pt x="277" y="717"/>
                  </a:lnTo>
                  <a:lnTo>
                    <a:pt x="259" y="709"/>
                  </a:lnTo>
                  <a:lnTo>
                    <a:pt x="243" y="702"/>
                  </a:lnTo>
                  <a:lnTo>
                    <a:pt x="236" y="699"/>
                  </a:lnTo>
                  <a:lnTo>
                    <a:pt x="232" y="694"/>
                  </a:lnTo>
                  <a:lnTo>
                    <a:pt x="227" y="689"/>
                  </a:lnTo>
                  <a:lnTo>
                    <a:pt x="224" y="685"/>
                  </a:lnTo>
                  <a:lnTo>
                    <a:pt x="220" y="678"/>
                  </a:lnTo>
                  <a:lnTo>
                    <a:pt x="219" y="671"/>
                  </a:lnTo>
                  <a:lnTo>
                    <a:pt x="218" y="663"/>
                  </a:lnTo>
                  <a:lnTo>
                    <a:pt x="217" y="652"/>
                  </a:lnTo>
                  <a:lnTo>
                    <a:pt x="218" y="626"/>
                  </a:lnTo>
                  <a:lnTo>
                    <a:pt x="222" y="594"/>
                  </a:lnTo>
                  <a:lnTo>
                    <a:pt x="225" y="576"/>
                  </a:lnTo>
                  <a:lnTo>
                    <a:pt x="225" y="561"/>
                  </a:lnTo>
                  <a:lnTo>
                    <a:pt x="222" y="549"/>
                  </a:lnTo>
                  <a:lnTo>
                    <a:pt x="220" y="538"/>
                  </a:lnTo>
                  <a:lnTo>
                    <a:pt x="215" y="528"/>
                  </a:lnTo>
                  <a:lnTo>
                    <a:pt x="210" y="520"/>
                  </a:lnTo>
                  <a:lnTo>
                    <a:pt x="203" y="513"/>
                  </a:lnTo>
                  <a:lnTo>
                    <a:pt x="196" y="508"/>
                  </a:lnTo>
                  <a:lnTo>
                    <a:pt x="179" y="498"/>
                  </a:lnTo>
                  <a:lnTo>
                    <a:pt x="162" y="490"/>
                  </a:lnTo>
                  <a:lnTo>
                    <a:pt x="152" y="485"/>
                  </a:lnTo>
                  <a:lnTo>
                    <a:pt x="144" y="480"/>
                  </a:lnTo>
                  <a:lnTo>
                    <a:pt x="137" y="476"/>
                  </a:lnTo>
                  <a:lnTo>
                    <a:pt x="130" y="470"/>
                  </a:lnTo>
                  <a:lnTo>
                    <a:pt x="125" y="465"/>
                  </a:lnTo>
                  <a:lnTo>
                    <a:pt x="123" y="460"/>
                  </a:lnTo>
                  <a:lnTo>
                    <a:pt x="123" y="457"/>
                  </a:lnTo>
                  <a:lnTo>
                    <a:pt x="123" y="453"/>
                  </a:lnTo>
                  <a:lnTo>
                    <a:pt x="124" y="449"/>
                  </a:lnTo>
                  <a:lnTo>
                    <a:pt x="125" y="444"/>
                  </a:lnTo>
                  <a:lnTo>
                    <a:pt x="127" y="438"/>
                  </a:lnTo>
                  <a:lnTo>
                    <a:pt x="125" y="431"/>
                  </a:lnTo>
                  <a:lnTo>
                    <a:pt x="123" y="422"/>
                  </a:lnTo>
                  <a:lnTo>
                    <a:pt x="117" y="410"/>
                  </a:lnTo>
                  <a:lnTo>
                    <a:pt x="109" y="395"/>
                  </a:lnTo>
                  <a:lnTo>
                    <a:pt x="97" y="378"/>
                  </a:lnTo>
                  <a:lnTo>
                    <a:pt x="81" y="358"/>
                  </a:lnTo>
                  <a:lnTo>
                    <a:pt x="60" y="333"/>
                  </a:lnTo>
                  <a:lnTo>
                    <a:pt x="33" y="304"/>
                  </a:lnTo>
                  <a:lnTo>
                    <a:pt x="0" y="271"/>
                  </a:lnTo>
                  <a:lnTo>
                    <a:pt x="14" y="14"/>
                  </a:lnTo>
                  <a:lnTo>
                    <a:pt x="13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Freeform 150"/>
            <p:cNvSpPr/>
            <p:nvPr/>
          </p:nvSpPr>
          <p:spPr>
            <a:xfrm>
              <a:off x="7466040" y="5445000"/>
              <a:ext cx="260280" cy="1173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714" h="717">
                  <a:moveTo>
                    <a:pt x="1388" y="0"/>
                  </a:moveTo>
                  <a:lnTo>
                    <a:pt x="1399" y="19"/>
                  </a:lnTo>
                  <a:lnTo>
                    <a:pt x="1410" y="38"/>
                  </a:lnTo>
                  <a:lnTo>
                    <a:pt x="1424" y="56"/>
                  </a:lnTo>
                  <a:lnTo>
                    <a:pt x="1440" y="75"/>
                  </a:lnTo>
                  <a:lnTo>
                    <a:pt x="1457" y="93"/>
                  </a:lnTo>
                  <a:lnTo>
                    <a:pt x="1475" y="109"/>
                  </a:lnTo>
                  <a:lnTo>
                    <a:pt x="1494" y="125"/>
                  </a:lnTo>
                  <a:lnTo>
                    <a:pt x="1514" y="140"/>
                  </a:lnTo>
                  <a:lnTo>
                    <a:pt x="1535" y="153"/>
                  </a:lnTo>
                  <a:lnTo>
                    <a:pt x="1558" y="166"/>
                  </a:lnTo>
                  <a:lnTo>
                    <a:pt x="1579" y="177"/>
                  </a:lnTo>
                  <a:lnTo>
                    <a:pt x="1601" y="186"/>
                  </a:lnTo>
                  <a:lnTo>
                    <a:pt x="1622" y="193"/>
                  </a:lnTo>
                  <a:lnTo>
                    <a:pt x="1643" y="198"/>
                  </a:lnTo>
                  <a:lnTo>
                    <a:pt x="1663" y="201"/>
                  </a:lnTo>
                  <a:lnTo>
                    <a:pt x="1683" y="202"/>
                  </a:lnTo>
                  <a:lnTo>
                    <a:pt x="1714" y="331"/>
                  </a:lnTo>
                  <a:lnTo>
                    <a:pt x="1695" y="335"/>
                  </a:lnTo>
                  <a:lnTo>
                    <a:pt x="1679" y="340"/>
                  </a:lnTo>
                  <a:lnTo>
                    <a:pt x="1665" y="346"/>
                  </a:lnTo>
                  <a:lnTo>
                    <a:pt x="1653" y="353"/>
                  </a:lnTo>
                  <a:lnTo>
                    <a:pt x="1643" y="361"/>
                  </a:lnTo>
                  <a:lnTo>
                    <a:pt x="1636" y="369"/>
                  </a:lnTo>
                  <a:lnTo>
                    <a:pt x="1630" y="379"/>
                  </a:lnTo>
                  <a:lnTo>
                    <a:pt x="1625" y="388"/>
                  </a:lnTo>
                  <a:lnTo>
                    <a:pt x="1623" y="397"/>
                  </a:lnTo>
                  <a:lnTo>
                    <a:pt x="1622" y="407"/>
                  </a:lnTo>
                  <a:lnTo>
                    <a:pt x="1623" y="416"/>
                  </a:lnTo>
                  <a:lnTo>
                    <a:pt x="1625" y="425"/>
                  </a:lnTo>
                  <a:lnTo>
                    <a:pt x="1628" y="434"/>
                  </a:lnTo>
                  <a:lnTo>
                    <a:pt x="1632" y="442"/>
                  </a:lnTo>
                  <a:lnTo>
                    <a:pt x="1638" y="449"/>
                  </a:lnTo>
                  <a:lnTo>
                    <a:pt x="1645" y="456"/>
                  </a:lnTo>
                  <a:lnTo>
                    <a:pt x="1608" y="525"/>
                  </a:lnTo>
                  <a:lnTo>
                    <a:pt x="1602" y="525"/>
                  </a:lnTo>
                  <a:lnTo>
                    <a:pt x="1596" y="525"/>
                  </a:lnTo>
                  <a:lnTo>
                    <a:pt x="1591" y="526"/>
                  </a:lnTo>
                  <a:lnTo>
                    <a:pt x="1586" y="528"/>
                  </a:lnTo>
                  <a:lnTo>
                    <a:pt x="1582" y="531"/>
                  </a:lnTo>
                  <a:lnTo>
                    <a:pt x="1577" y="534"/>
                  </a:lnTo>
                  <a:lnTo>
                    <a:pt x="1573" y="538"/>
                  </a:lnTo>
                  <a:lnTo>
                    <a:pt x="1569" y="542"/>
                  </a:lnTo>
                  <a:lnTo>
                    <a:pt x="1563" y="552"/>
                  </a:lnTo>
                  <a:lnTo>
                    <a:pt x="1558" y="563"/>
                  </a:lnTo>
                  <a:lnTo>
                    <a:pt x="1553" y="575"/>
                  </a:lnTo>
                  <a:lnTo>
                    <a:pt x="1548" y="588"/>
                  </a:lnTo>
                  <a:lnTo>
                    <a:pt x="1546" y="602"/>
                  </a:lnTo>
                  <a:lnTo>
                    <a:pt x="1544" y="616"/>
                  </a:lnTo>
                  <a:lnTo>
                    <a:pt x="1542" y="629"/>
                  </a:lnTo>
                  <a:lnTo>
                    <a:pt x="1541" y="642"/>
                  </a:lnTo>
                  <a:lnTo>
                    <a:pt x="1541" y="653"/>
                  </a:lnTo>
                  <a:lnTo>
                    <a:pt x="1541" y="664"/>
                  </a:lnTo>
                  <a:lnTo>
                    <a:pt x="1542" y="673"/>
                  </a:lnTo>
                  <a:lnTo>
                    <a:pt x="1544" y="680"/>
                  </a:lnTo>
                  <a:lnTo>
                    <a:pt x="277" y="717"/>
                  </a:lnTo>
                  <a:lnTo>
                    <a:pt x="259" y="709"/>
                  </a:lnTo>
                  <a:lnTo>
                    <a:pt x="243" y="702"/>
                  </a:lnTo>
                  <a:lnTo>
                    <a:pt x="236" y="699"/>
                  </a:lnTo>
                  <a:lnTo>
                    <a:pt x="232" y="694"/>
                  </a:lnTo>
                  <a:lnTo>
                    <a:pt x="227" y="689"/>
                  </a:lnTo>
                  <a:lnTo>
                    <a:pt x="224" y="685"/>
                  </a:lnTo>
                  <a:lnTo>
                    <a:pt x="220" y="678"/>
                  </a:lnTo>
                  <a:lnTo>
                    <a:pt x="219" y="671"/>
                  </a:lnTo>
                  <a:lnTo>
                    <a:pt x="218" y="663"/>
                  </a:lnTo>
                  <a:lnTo>
                    <a:pt x="217" y="652"/>
                  </a:lnTo>
                  <a:lnTo>
                    <a:pt x="218" y="626"/>
                  </a:lnTo>
                  <a:lnTo>
                    <a:pt x="222" y="594"/>
                  </a:lnTo>
                  <a:lnTo>
                    <a:pt x="225" y="576"/>
                  </a:lnTo>
                  <a:lnTo>
                    <a:pt x="225" y="561"/>
                  </a:lnTo>
                  <a:lnTo>
                    <a:pt x="222" y="549"/>
                  </a:lnTo>
                  <a:lnTo>
                    <a:pt x="220" y="538"/>
                  </a:lnTo>
                  <a:lnTo>
                    <a:pt x="215" y="528"/>
                  </a:lnTo>
                  <a:lnTo>
                    <a:pt x="210" y="520"/>
                  </a:lnTo>
                  <a:lnTo>
                    <a:pt x="203" y="513"/>
                  </a:lnTo>
                  <a:lnTo>
                    <a:pt x="196" y="508"/>
                  </a:lnTo>
                  <a:lnTo>
                    <a:pt x="179" y="498"/>
                  </a:lnTo>
                  <a:lnTo>
                    <a:pt x="162" y="490"/>
                  </a:lnTo>
                  <a:lnTo>
                    <a:pt x="152" y="485"/>
                  </a:lnTo>
                  <a:lnTo>
                    <a:pt x="144" y="480"/>
                  </a:lnTo>
                  <a:lnTo>
                    <a:pt x="137" y="476"/>
                  </a:lnTo>
                  <a:lnTo>
                    <a:pt x="130" y="470"/>
                  </a:lnTo>
                  <a:lnTo>
                    <a:pt x="125" y="465"/>
                  </a:lnTo>
                  <a:lnTo>
                    <a:pt x="123" y="460"/>
                  </a:lnTo>
                  <a:lnTo>
                    <a:pt x="123" y="457"/>
                  </a:lnTo>
                  <a:lnTo>
                    <a:pt x="123" y="453"/>
                  </a:lnTo>
                  <a:lnTo>
                    <a:pt x="124" y="449"/>
                  </a:lnTo>
                  <a:lnTo>
                    <a:pt x="125" y="444"/>
                  </a:lnTo>
                  <a:lnTo>
                    <a:pt x="127" y="438"/>
                  </a:lnTo>
                  <a:lnTo>
                    <a:pt x="125" y="431"/>
                  </a:lnTo>
                  <a:lnTo>
                    <a:pt x="123" y="422"/>
                  </a:lnTo>
                  <a:lnTo>
                    <a:pt x="117" y="410"/>
                  </a:lnTo>
                  <a:lnTo>
                    <a:pt x="109" y="395"/>
                  </a:lnTo>
                  <a:lnTo>
                    <a:pt x="97" y="378"/>
                  </a:lnTo>
                  <a:lnTo>
                    <a:pt x="81" y="358"/>
                  </a:lnTo>
                  <a:lnTo>
                    <a:pt x="60" y="333"/>
                  </a:lnTo>
                  <a:lnTo>
                    <a:pt x="33" y="304"/>
                  </a:lnTo>
                  <a:lnTo>
                    <a:pt x="0" y="271"/>
                  </a:lnTo>
                  <a:lnTo>
                    <a:pt x="14" y="14"/>
                  </a:lnTo>
                  <a:lnTo>
                    <a:pt x="1388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Freeform 151"/>
            <p:cNvSpPr/>
            <p:nvPr/>
          </p:nvSpPr>
          <p:spPr>
            <a:xfrm>
              <a:off x="6294240" y="5462640"/>
              <a:ext cx="287280" cy="4741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1904" h="2906">
                  <a:moveTo>
                    <a:pt x="1147" y="2906"/>
                  </a:moveTo>
                  <a:lnTo>
                    <a:pt x="1175" y="2857"/>
                  </a:lnTo>
                  <a:lnTo>
                    <a:pt x="400" y="2857"/>
                  </a:lnTo>
                  <a:lnTo>
                    <a:pt x="411" y="2837"/>
                  </a:lnTo>
                  <a:lnTo>
                    <a:pt x="421" y="2817"/>
                  </a:lnTo>
                  <a:lnTo>
                    <a:pt x="428" y="2797"/>
                  </a:lnTo>
                  <a:lnTo>
                    <a:pt x="435" y="2777"/>
                  </a:lnTo>
                  <a:lnTo>
                    <a:pt x="441" y="2759"/>
                  </a:lnTo>
                  <a:lnTo>
                    <a:pt x="446" y="2739"/>
                  </a:lnTo>
                  <a:lnTo>
                    <a:pt x="449" y="2720"/>
                  </a:lnTo>
                  <a:lnTo>
                    <a:pt x="452" y="2701"/>
                  </a:lnTo>
                  <a:lnTo>
                    <a:pt x="453" y="2683"/>
                  </a:lnTo>
                  <a:lnTo>
                    <a:pt x="453" y="2665"/>
                  </a:lnTo>
                  <a:lnTo>
                    <a:pt x="452" y="2647"/>
                  </a:lnTo>
                  <a:lnTo>
                    <a:pt x="449" y="2629"/>
                  </a:lnTo>
                  <a:lnTo>
                    <a:pt x="447" y="2612"/>
                  </a:lnTo>
                  <a:lnTo>
                    <a:pt x="443" y="2594"/>
                  </a:lnTo>
                  <a:lnTo>
                    <a:pt x="440" y="2578"/>
                  </a:lnTo>
                  <a:lnTo>
                    <a:pt x="435" y="2560"/>
                  </a:lnTo>
                  <a:lnTo>
                    <a:pt x="429" y="2544"/>
                  </a:lnTo>
                  <a:lnTo>
                    <a:pt x="424" y="2527"/>
                  </a:lnTo>
                  <a:lnTo>
                    <a:pt x="418" y="2512"/>
                  </a:lnTo>
                  <a:lnTo>
                    <a:pt x="411" y="2496"/>
                  </a:lnTo>
                  <a:lnTo>
                    <a:pt x="396" y="2466"/>
                  </a:lnTo>
                  <a:lnTo>
                    <a:pt x="379" y="2436"/>
                  </a:lnTo>
                  <a:lnTo>
                    <a:pt x="362" y="2408"/>
                  </a:lnTo>
                  <a:lnTo>
                    <a:pt x="344" y="2383"/>
                  </a:lnTo>
                  <a:lnTo>
                    <a:pt x="325" y="2357"/>
                  </a:lnTo>
                  <a:lnTo>
                    <a:pt x="308" y="2332"/>
                  </a:lnTo>
                  <a:lnTo>
                    <a:pt x="300" y="2322"/>
                  </a:lnTo>
                  <a:lnTo>
                    <a:pt x="293" y="2310"/>
                  </a:lnTo>
                  <a:lnTo>
                    <a:pt x="286" y="2298"/>
                  </a:lnTo>
                  <a:lnTo>
                    <a:pt x="280" y="2288"/>
                  </a:lnTo>
                  <a:lnTo>
                    <a:pt x="272" y="2267"/>
                  </a:lnTo>
                  <a:lnTo>
                    <a:pt x="265" y="2247"/>
                  </a:lnTo>
                  <a:lnTo>
                    <a:pt x="260" y="2228"/>
                  </a:lnTo>
                  <a:lnTo>
                    <a:pt x="259" y="2210"/>
                  </a:lnTo>
                  <a:lnTo>
                    <a:pt x="258" y="2193"/>
                  </a:lnTo>
                  <a:lnTo>
                    <a:pt x="259" y="2178"/>
                  </a:lnTo>
                  <a:lnTo>
                    <a:pt x="261" y="2164"/>
                  </a:lnTo>
                  <a:lnTo>
                    <a:pt x="265" y="2152"/>
                  </a:lnTo>
                  <a:lnTo>
                    <a:pt x="267" y="2142"/>
                  </a:lnTo>
                  <a:lnTo>
                    <a:pt x="271" y="2133"/>
                  </a:lnTo>
                  <a:lnTo>
                    <a:pt x="276" y="2121"/>
                  </a:lnTo>
                  <a:lnTo>
                    <a:pt x="280" y="2117"/>
                  </a:lnTo>
                  <a:lnTo>
                    <a:pt x="60" y="2085"/>
                  </a:lnTo>
                  <a:lnTo>
                    <a:pt x="63" y="2077"/>
                  </a:lnTo>
                  <a:lnTo>
                    <a:pt x="65" y="2068"/>
                  </a:lnTo>
                  <a:lnTo>
                    <a:pt x="66" y="2060"/>
                  </a:lnTo>
                  <a:lnTo>
                    <a:pt x="67" y="2052"/>
                  </a:lnTo>
                  <a:lnTo>
                    <a:pt x="66" y="2037"/>
                  </a:lnTo>
                  <a:lnTo>
                    <a:pt x="64" y="2022"/>
                  </a:lnTo>
                  <a:lnTo>
                    <a:pt x="60" y="2009"/>
                  </a:lnTo>
                  <a:lnTo>
                    <a:pt x="56" y="1996"/>
                  </a:lnTo>
                  <a:lnTo>
                    <a:pt x="49" y="1983"/>
                  </a:lnTo>
                  <a:lnTo>
                    <a:pt x="42" y="1973"/>
                  </a:lnTo>
                  <a:lnTo>
                    <a:pt x="28" y="1955"/>
                  </a:lnTo>
                  <a:lnTo>
                    <a:pt x="14" y="1941"/>
                  </a:lnTo>
                  <a:lnTo>
                    <a:pt x="4" y="1933"/>
                  </a:lnTo>
                  <a:lnTo>
                    <a:pt x="0" y="1929"/>
                  </a:lnTo>
                  <a:lnTo>
                    <a:pt x="184" y="1713"/>
                  </a:lnTo>
                  <a:lnTo>
                    <a:pt x="184" y="1705"/>
                  </a:lnTo>
                  <a:lnTo>
                    <a:pt x="183" y="1697"/>
                  </a:lnTo>
                  <a:lnTo>
                    <a:pt x="181" y="1689"/>
                  </a:lnTo>
                  <a:lnTo>
                    <a:pt x="178" y="1681"/>
                  </a:lnTo>
                  <a:lnTo>
                    <a:pt x="170" y="1664"/>
                  </a:lnTo>
                  <a:lnTo>
                    <a:pt x="161" y="1649"/>
                  </a:lnTo>
                  <a:lnTo>
                    <a:pt x="137" y="1619"/>
                  </a:lnTo>
                  <a:lnTo>
                    <a:pt x="112" y="1587"/>
                  </a:lnTo>
                  <a:lnTo>
                    <a:pt x="99" y="1571"/>
                  </a:lnTo>
                  <a:lnTo>
                    <a:pt x="87" y="1554"/>
                  </a:lnTo>
                  <a:lnTo>
                    <a:pt x="77" y="1538"/>
                  </a:lnTo>
                  <a:lnTo>
                    <a:pt x="67" y="1519"/>
                  </a:lnTo>
                  <a:lnTo>
                    <a:pt x="64" y="1510"/>
                  </a:lnTo>
                  <a:lnTo>
                    <a:pt x="61" y="1501"/>
                  </a:lnTo>
                  <a:lnTo>
                    <a:pt x="59" y="1491"/>
                  </a:lnTo>
                  <a:lnTo>
                    <a:pt x="58" y="1481"/>
                  </a:lnTo>
                  <a:lnTo>
                    <a:pt x="57" y="1470"/>
                  </a:lnTo>
                  <a:lnTo>
                    <a:pt x="57" y="1460"/>
                  </a:lnTo>
                  <a:lnTo>
                    <a:pt x="58" y="1448"/>
                  </a:lnTo>
                  <a:lnTo>
                    <a:pt x="60" y="1438"/>
                  </a:lnTo>
                  <a:lnTo>
                    <a:pt x="67" y="1414"/>
                  </a:lnTo>
                  <a:lnTo>
                    <a:pt x="77" y="1391"/>
                  </a:lnTo>
                  <a:lnTo>
                    <a:pt x="86" y="1369"/>
                  </a:lnTo>
                  <a:lnTo>
                    <a:pt x="98" y="1347"/>
                  </a:lnTo>
                  <a:lnTo>
                    <a:pt x="111" y="1324"/>
                  </a:lnTo>
                  <a:lnTo>
                    <a:pt x="123" y="1304"/>
                  </a:lnTo>
                  <a:lnTo>
                    <a:pt x="137" y="1285"/>
                  </a:lnTo>
                  <a:lnTo>
                    <a:pt x="150" y="1267"/>
                  </a:lnTo>
                  <a:lnTo>
                    <a:pt x="175" y="1236"/>
                  </a:lnTo>
                  <a:lnTo>
                    <a:pt x="196" y="1211"/>
                  </a:lnTo>
                  <a:lnTo>
                    <a:pt x="211" y="1195"/>
                  </a:lnTo>
                  <a:lnTo>
                    <a:pt x="216" y="1190"/>
                  </a:lnTo>
                  <a:lnTo>
                    <a:pt x="224" y="1197"/>
                  </a:lnTo>
                  <a:lnTo>
                    <a:pt x="232" y="1203"/>
                  </a:lnTo>
                  <a:lnTo>
                    <a:pt x="239" y="1208"/>
                  </a:lnTo>
                  <a:lnTo>
                    <a:pt x="245" y="1209"/>
                  </a:lnTo>
                  <a:lnTo>
                    <a:pt x="251" y="1210"/>
                  </a:lnTo>
                  <a:lnTo>
                    <a:pt x="257" y="1210"/>
                  </a:lnTo>
                  <a:lnTo>
                    <a:pt x="261" y="1208"/>
                  </a:lnTo>
                  <a:lnTo>
                    <a:pt x="265" y="1204"/>
                  </a:lnTo>
                  <a:lnTo>
                    <a:pt x="268" y="1199"/>
                  </a:lnTo>
                  <a:lnTo>
                    <a:pt x="272" y="1195"/>
                  </a:lnTo>
                  <a:lnTo>
                    <a:pt x="274" y="1188"/>
                  </a:lnTo>
                  <a:lnTo>
                    <a:pt x="276" y="1181"/>
                  </a:lnTo>
                  <a:lnTo>
                    <a:pt x="280" y="1164"/>
                  </a:lnTo>
                  <a:lnTo>
                    <a:pt x="282" y="1147"/>
                  </a:lnTo>
                  <a:lnTo>
                    <a:pt x="283" y="1127"/>
                  </a:lnTo>
                  <a:lnTo>
                    <a:pt x="283" y="1107"/>
                  </a:lnTo>
                  <a:lnTo>
                    <a:pt x="283" y="1088"/>
                  </a:lnTo>
                  <a:lnTo>
                    <a:pt x="282" y="1071"/>
                  </a:lnTo>
                  <a:lnTo>
                    <a:pt x="280" y="1044"/>
                  </a:lnTo>
                  <a:lnTo>
                    <a:pt x="280" y="1033"/>
                  </a:lnTo>
                  <a:lnTo>
                    <a:pt x="296" y="1025"/>
                  </a:lnTo>
                  <a:lnTo>
                    <a:pt x="311" y="1016"/>
                  </a:lnTo>
                  <a:lnTo>
                    <a:pt x="325" y="1007"/>
                  </a:lnTo>
                  <a:lnTo>
                    <a:pt x="337" y="996"/>
                  </a:lnTo>
                  <a:lnTo>
                    <a:pt x="349" y="987"/>
                  </a:lnTo>
                  <a:lnTo>
                    <a:pt x="358" y="976"/>
                  </a:lnTo>
                  <a:lnTo>
                    <a:pt x="368" y="966"/>
                  </a:lnTo>
                  <a:lnTo>
                    <a:pt x="376" y="954"/>
                  </a:lnTo>
                  <a:lnTo>
                    <a:pt x="383" y="944"/>
                  </a:lnTo>
                  <a:lnTo>
                    <a:pt x="389" y="932"/>
                  </a:lnTo>
                  <a:lnTo>
                    <a:pt x="393" y="920"/>
                  </a:lnTo>
                  <a:lnTo>
                    <a:pt x="397" y="908"/>
                  </a:lnTo>
                  <a:lnTo>
                    <a:pt x="400" y="897"/>
                  </a:lnTo>
                  <a:lnTo>
                    <a:pt x="403" y="885"/>
                  </a:lnTo>
                  <a:lnTo>
                    <a:pt x="405" y="872"/>
                  </a:lnTo>
                  <a:lnTo>
                    <a:pt x="405" y="861"/>
                  </a:lnTo>
                  <a:lnTo>
                    <a:pt x="406" y="835"/>
                  </a:lnTo>
                  <a:lnTo>
                    <a:pt x="404" y="810"/>
                  </a:lnTo>
                  <a:lnTo>
                    <a:pt x="400" y="785"/>
                  </a:lnTo>
                  <a:lnTo>
                    <a:pt x="396" y="760"/>
                  </a:lnTo>
                  <a:lnTo>
                    <a:pt x="384" y="710"/>
                  </a:lnTo>
                  <a:lnTo>
                    <a:pt x="371" y="662"/>
                  </a:lnTo>
                  <a:lnTo>
                    <a:pt x="587" y="418"/>
                  </a:lnTo>
                  <a:lnTo>
                    <a:pt x="588" y="403"/>
                  </a:lnTo>
                  <a:lnTo>
                    <a:pt x="592" y="388"/>
                  </a:lnTo>
                  <a:lnTo>
                    <a:pt x="598" y="371"/>
                  </a:lnTo>
                  <a:lnTo>
                    <a:pt x="605" y="355"/>
                  </a:lnTo>
                  <a:lnTo>
                    <a:pt x="614" y="338"/>
                  </a:lnTo>
                  <a:lnTo>
                    <a:pt x="625" y="321"/>
                  </a:lnTo>
                  <a:lnTo>
                    <a:pt x="636" y="305"/>
                  </a:lnTo>
                  <a:lnTo>
                    <a:pt x="650" y="287"/>
                  </a:lnTo>
                  <a:lnTo>
                    <a:pt x="664" y="270"/>
                  </a:lnTo>
                  <a:lnTo>
                    <a:pt x="681" y="252"/>
                  </a:lnTo>
                  <a:lnTo>
                    <a:pt x="697" y="234"/>
                  </a:lnTo>
                  <a:lnTo>
                    <a:pt x="714" y="217"/>
                  </a:lnTo>
                  <a:lnTo>
                    <a:pt x="751" y="183"/>
                  </a:lnTo>
                  <a:lnTo>
                    <a:pt x="788" y="150"/>
                  </a:lnTo>
                  <a:lnTo>
                    <a:pt x="825" y="120"/>
                  </a:lnTo>
                  <a:lnTo>
                    <a:pt x="862" y="91"/>
                  </a:lnTo>
                  <a:lnTo>
                    <a:pt x="896" y="65"/>
                  </a:lnTo>
                  <a:lnTo>
                    <a:pt x="926" y="43"/>
                  </a:lnTo>
                  <a:lnTo>
                    <a:pt x="970" y="11"/>
                  </a:lnTo>
                  <a:lnTo>
                    <a:pt x="988" y="0"/>
                  </a:lnTo>
                  <a:lnTo>
                    <a:pt x="1904" y="95"/>
                  </a:lnTo>
                  <a:lnTo>
                    <a:pt x="1273" y="807"/>
                  </a:lnTo>
                  <a:lnTo>
                    <a:pt x="1837" y="2053"/>
                  </a:lnTo>
                  <a:lnTo>
                    <a:pt x="1824" y="2071"/>
                  </a:lnTo>
                  <a:lnTo>
                    <a:pt x="1814" y="2087"/>
                  </a:lnTo>
                  <a:lnTo>
                    <a:pt x="1805" y="2103"/>
                  </a:lnTo>
                  <a:lnTo>
                    <a:pt x="1798" y="2117"/>
                  </a:lnTo>
                  <a:lnTo>
                    <a:pt x="1794" y="2131"/>
                  </a:lnTo>
                  <a:lnTo>
                    <a:pt x="1790" y="2144"/>
                  </a:lnTo>
                  <a:lnTo>
                    <a:pt x="1788" y="2156"/>
                  </a:lnTo>
                  <a:lnTo>
                    <a:pt x="1787" y="2166"/>
                  </a:lnTo>
                  <a:lnTo>
                    <a:pt x="1787" y="2185"/>
                  </a:lnTo>
                  <a:lnTo>
                    <a:pt x="1788" y="2198"/>
                  </a:lnTo>
                  <a:lnTo>
                    <a:pt x="1790" y="2206"/>
                  </a:lnTo>
                  <a:lnTo>
                    <a:pt x="1791" y="2209"/>
                  </a:lnTo>
                  <a:lnTo>
                    <a:pt x="1809" y="2301"/>
                  </a:lnTo>
                  <a:lnTo>
                    <a:pt x="1787" y="2315"/>
                  </a:lnTo>
                  <a:lnTo>
                    <a:pt x="1763" y="2330"/>
                  </a:lnTo>
                  <a:lnTo>
                    <a:pt x="1738" y="2348"/>
                  </a:lnTo>
                  <a:lnTo>
                    <a:pt x="1712" y="2367"/>
                  </a:lnTo>
                  <a:lnTo>
                    <a:pt x="1685" y="2388"/>
                  </a:lnTo>
                  <a:lnTo>
                    <a:pt x="1658" y="2409"/>
                  </a:lnTo>
                  <a:lnTo>
                    <a:pt x="1633" y="2432"/>
                  </a:lnTo>
                  <a:lnTo>
                    <a:pt x="1607" y="2455"/>
                  </a:lnTo>
                  <a:lnTo>
                    <a:pt x="1582" y="2477"/>
                  </a:lnTo>
                  <a:lnTo>
                    <a:pt x="1561" y="2498"/>
                  </a:lnTo>
                  <a:lnTo>
                    <a:pt x="1542" y="2519"/>
                  </a:lnTo>
                  <a:lnTo>
                    <a:pt x="1525" y="2539"/>
                  </a:lnTo>
                  <a:lnTo>
                    <a:pt x="1511" y="2557"/>
                  </a:lnTo>
                  <a:lnTo>
                    <a:pt x="1503" y="2572"/>
                  </a:lnTo>
                  <a:lnTo>
                    <a:pt x="1499" y="2579"/>
                  </a:lnTo>
                  <a:lnTo>
                    <a:pt x="1497" y="2585"/>
                  </a:lnTo>
                  <a:lnTo>
                    <a:pt x="1497" y="2590"/>
                  </a:lnTo>
                  <a:lnTo>
                    <a:pt x="1497" y="2595"/>
                  </a:lnTo>
                  <a:lnTo>
                    <a:pt x="1475" y="2605"/>
                  </a:lnTo>
                  <a:lnTo>
                    <a:pt x="1454" y="2615"/>
                  </a:lnTo>
                  <a:lnTo>
                    <a:pt x="1433" y="2627"/>
                  </a:lnTo>
                  <a:lnTo>
                    <a:pt x="1414" y="2638"/>
                  </a:lnTo>
                  <a:lnTo>
                    <a:pt x="1397" y="2651"/>
                  </a:lnTo>
                  <a:lnTo>
                    <a:pt x="1380" y="2664"/>
                  </a:lnTo>
                  <a:lnTo>
                    <a:pt x="1365" y="2677"/>
                  </a:lnTo>
                  <a:lnTo>
                    <a:pt x="1352" y="2690"/>
                  </a:lnTo>
                  <a:lnTo>
                    <a:pt x="1329" y="2713"/>
                  </a:lnTo>
                  <a:lnTo>
                    <a:pt x="1313" y="2733"/>
                  </a:lnTo>
                  <a:lnTo>
                    <a:pt x="1302" y="2746"/>
                  </a:lnTo>
                  <a:lnTo>
                    <a:pt x="1299" y="2751"/>
                  </a:lnTo>
                  <a:lnTo>
                    <a:pt x="1328" y="2829"/>
                  </a:lnTo>
                  <a:lnTo>
                    <a:pt x="1313" y="2840"/>
                  </a:lnTo>
                  <a:lnTo>
                    <a:pt x="1297" y="2851"/>
                  </a:lnTo>
                  <a:lnTo>
                    <a:pt x="1282" y="2860"/>
                  </a:lnTo>
                  <a:lnTo>
                    <a:pt x="1268" y="2868"/>
                  </a:lnTo>
                  <a:lnTo>
                    <a:pt x="1254" y="2876"/>
                  </a:lnTo>
                  <a:lnTo>
                    <a:pt x="1241" y="2881"/>
                  </a:lnTo>
                  <a:lnTo>
                    <a:pt x="1228" y="2887"/>
                  </a:lnTo>
                  <a:lnTo>
                    <a:pt x="1217" y="2891"/>
                  </a:lnTo>
                  <a:lnTo>
                    <a:pt x="1195" y="2897"/>
                  </a:lnTo>
                  <a:lnTo>
                    <a:pt x="1175" y="2901"/>
                  </a:lnTo>
                  <a:lnTo>
                    <a:pt x="1158" y="2904"/>
                  </a:lnTo>
                  <a:lnTo>
                    <a:pt x="1147" y="29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152"/>
            <p:cNvSpPr/>
            <p:nvPr/>
          </p:nvSpPr>
          <p:spPr>
            <a:xfrm>
              <a:off x="6294240" y="5462640"/>
              <a:ext cx="287280" cy="4741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1904" h="2906">
                  <a:moveTo>
                    <a:pt x="1147" y="2906"/>
                  </a:moveTo>
                  <a:lnTo>
                    <a:pt x="1175" y="2857"/>
                  </a:lnTo>
                  <a:lnTo>
                    <a:pt x="400" y="2857"/>
                  </a:lnTo>
                  <a:lnTo>
                    <a:pt x="411" y="2837"/>
                  </a:lnTo>
                  <a:lnTo>
                    <a:pt x="421" y="2817"/>
                  </a:lnTo>
                  <a:lnTo>
                    <a:pt x="428" y="2797"/>
                  </a:lnTo>
                  <a:lnTo>
                    <a:pt x="435" y="2777"/>
                  </a:lnTo>
                  <a:lnTo>
                    <a:pt x="441" y="2759"/>
                  </a:lnTo>
                  <a:lnTo>
                    <a:pt x="446" y="2739"/>
                  </a:lnTo>
                  <a:lnTo>
                    <a:pt x="449" y="2720"/>
                  </a:lnTo>
                  <a:lnTo>
                    <a:pt x="452" y="2701"/>
                  </a:lnTo>
                  <a:lnTo>
                    <a:pt x="453" y="2683"/>
                  </a:lnTo>
                  <a:lnTo>
                    <a:pt x="453" y="2665"/>
                  </a:lnTo>
                  <a:lnTo>
                    <a:pt x="452" y="2647"/>
                  </a:lnTo>
                  <a:lnTo>
                    <a:pt x="449" y="2629"/>
                  </a:lnTo>
                  <a:lnTo>
                    <a:pt x="447" y="2612"/>
                  </a:lnTo>
                  <a:lnTo>
                    <a:pt x="443" y="2594"/>
                  </a:lnTo>
                  <a:lnTo>
                    <a:pt x="440" y="2578"/>
                  </a:lnTo>
                  <a:lnTo>
                    <a:pt x="435" y="2560"/>
                  </a:lnTo>
                  <a:lnTo>
                    <a:pt x="429" y="2544"/>
                  </a:lnTo>
                  <a:lnTo>
                    <a:pt x="424" y="2527"/>
                  </a:lnTo>
                  <a:lnTo>
                    <a:pt x="418" y="2512"/>
                  </a:lnTo>
                  <a:lnTo>
                    <a:pt x="411" y="2496"/>
                  </a:lnTo>
                  <a:lnTo>
                    <a:pt x="396" y="2466"/>
                  </a:lnTo>
                  <a:lnTo>
                    <a:pt x="379" y="2436"/>
                  </a:lnTo>
                  <a:lnTo>
                    <a:pt x="362" y="2408"/>
                  </a:lnTo>
                  <a:lnTo>
                    <a:pt x="344" y="2383"/>
                  </a:lnTo>
                  <a:lnTo>
                    <a:pt x="325" y="2357"/>
                  </a:lnTo>
                  <a:lnTo>
                    <a:pt x="308" y="2332"/>
                  </a:lnTo>
                  <a:lnTo>
                    <a:pt x="300" y="2322"/>
                  </a:lnTo>
                  <a:lnTo>
                    <a:pt x="293" y="2310"/>
                  </a:lnTo>
                  <a:lnTo>
                    <a:pt x="286" y="2298"/>
                  </a:lnTo>
                  <a:lnTo>
                    <a:pt x="280" y="2288"/>
                  </a:lnTo>
                  <a:lnTo>
                    <a:pt x="272" y="2267"/>
                  </a:lnTo>
                  <a:lnTo>
                    <a:pt x="265" y="2247"/>
                  </a:lnTo>
                  <a:lnTo>
                    <a:pt x="260" y="2228"/>
                  </a:lnTo>
                  <a:lnTo>
                    <a:pt x="259" y="2210"/>
                  </a:lnTo>
                  <a:lnTo>
                    <a:pt x="258" y="2193"/>
                  </a:lnTo>
                  <a:lnTo>
                    <a:pt x="259" y="2178"/>
                  </a:lnTo>
                  <a:lnTo>
                    <a:pt x="261" y="2164"/>
                  </a:lnTo>
                  <a:lnTo>
                    <a:pt x="265" y="2152"/>
                  </a:lnTo>
                  <a:lnTo>
                    <a:pt x="267" y="2142"/>
                  </a:lnTo>
                  <a:lnTo>
                    <a:pt x="271" y="2133"/>
                  </a:lnTo>
                  <a:lnTo>
                    <a:pt x="276" y="2121"/>
                  </a:lnTo>
                  <a:lnTo>
                    <a:pt x="280" y="2117"/>
                  </a:lnTo>
                  <a:lnTo>
                    <a:pt x="60" y="2085"/>
                  </a:lnTo>
                  <a:lnTo>
                    <a:pt x="63" y="2077"/>
                  </a:lnTo>
                  <a:lnTo>
                    <a:pt x="65" y="2068"/>
                  </a:lnTo>
                  <a:lnTo>
                    <a:pt x="66" y="2060"/>
                  </a:lnTo>
                  <a:lnTo>
                    <a:pt x="67" y="2052"/>
                  </a:lnTo>
                  <a:lnTo>
                    <a:pt x="66" y="2037"/>
                  </a:lnTo>
                  <a:lnTo>
                    <a:pt x="64" y="2022"/>
                  </a:lnTo>
                  <a:lnTo>
                    <a:pt x="60" y="2009"/>
                  </a:lnTo>
                  <a:lnTo>
                    <a:pt x="56" y="1996"/>
                  </a:lnTo>
                  <a:lnTo>
                    <a:pt x="49" y="1983"/>
                  </a:lnTo>
                  <a:lnTo>
                    <a:pt x="42" y="1973"/>
                  </a:lnTo>
                  <a:lnTo>
                    <a:pt x="28" y="1955"/>
                  </a:lnTo>
                  <a:lnTo>
                    <a:pt x="14" y="1941"/>
                  </a:lnTo>
                  <a:lnTo>
                    <a:pt x="4" y="1933"/>
                  </a:lnTo>
                  <a:lnTo>
                    <a:pt x="0" y="1929"/>
                  </a:lnTo>
                  <a:lnTo>
                    <a:pt x="184" y="1713"/>
                  </a:lnTo>
                  <a:lnTo>
                    <a:pt x="184" y="1705"/>
                  </a:lnTo>
                  <a:lnTo>
                    <a:pt x="183" y="1697"/>
                  </a:lnTo>
                  <a:lnTo>
                    <a:pt x="181" y="1689"/>
                  </a:lnTo>
                  <a:lnTo>
                    <a:pt x="178" y="1681"/>
                  </a:lnTo>
                  <a:lnTo>
                    <a:pt x="170" y="1664"/>
                  </a:lnTo>
                  <a:lnTo>
                    <a:pt x="161" y="1649"/>
                  </a:lnTo>
                  <a:lnTo>
                    <a:pt x="137" y="1619"/>
                  </a:lnTo>
                  <a:lnTo>
                    <a:pt x="112" y="1587"/>
                  </a:lnTo>
                  <a:lnTo>
                    <a:pt x="99" y="1571"/>
                  </a:lnTo>
                  <a:lnTo>
                    <a:pt x="87" y="1554"/>
                  </a:lnTo>
                  <a:lnTo>
                    <a:pt x="77" y="1538"/>
                  </a:lnTo>
                  <a:lnTo>
                    <a:pt x="67" y="1519"/>
                  </a:lnTo>
                  <a:lnTo>
                    <a:pt x="64" y="1510"/>
                  </a:lnTo>
                  <a:lnTo>
                    <a:pt x="61" y="1501"/>
                  </a:lnTo>
                  <a:lnTo>
                    <a:pt x="59" y="1491"/>
                  </a:lnTo>
                  <a:lnTo>
                    <a:pt x="58" y="1481"/>
                  </a:lnTo>
                  <a:lnTo>
                    <a:pt x="57" y="1470"/>
                  </a:lnTo>
                  <a:lnTo>
                    <a:pt x="57" y="1460"/>
                  </a:lnTo>
                  <a:lnTo>
                    <a:pt x="58" y="1448"/>
                  </a:lnTo>
                  <a:lnTo>
                    <a:pt x="60" y="1438"/>
                  </a:lnTo>
                  <a:lnTo>
                    <a:pt x="67" y="1414"/>
                  </a:lnTo>
                  <a:lnTo>
                    <a:pt x="77" y="1391"/>
                  </a:lnTo>
                  <a:lnTo>
                    <a:pt x="86" y="1369"/>
                  </a:lnTo>
                  <a:lnTo>
                    <a:pt x="98" y="1347"/>
                  </a:lnTo>
                  <a:lnTo>
                    <a:pt x="111" y="1324"/>
                  </a:lnTo>
                  <a:lnTo>
                    <a:pt x="123" y="1304"/>
                  </a:lnTo>
                  <a:lnTo>
                    <a:pt x="137" y="1285"/>
                  </a:lnTo>
                  <a:lnTo>
                    <a:pt x="150" y="1267"/>
                  </a:lnTo>
                  <a:lnTo>
                    <a:pt x="175" y="1236"/>
                  </a:lnTo>
                  <a:lnTo>
                    <a:pt x="196" y="1211"/>
                  </a:lnTo>
                  <a:lnTo>
                    <a:pt x="211" y="1195"/>
                  </a:lnTo>
                  <a:lnTo>
                    <a:pt x="216" y="1190"/>
                  </a:lnTo>
                  <a:lnTo>
                    <a:pt x="224" y="1197"/>
                  </a:lnTo>
                  <a:lnTo>
                    <a:pt x="232" y="1203"/>
                  </a:lnTo>
                  <a:lnTo>
                    <a:pt x="239" y="1208"/>
                  </a:lnTo>
                  <a:lnTo>
                    <a:pt x="245" y="1209"/>
                  </a:lnTo>
                  <a:lnTo>
                    <a:pt x="251" y="1210"/>
                  </a:lnTo>
                  <a:lnTo>
                    <a:pt x="257" y="1210"/>
                  </a:lnTo>
                  <a:lnTo>
                    <a:pt x="261" y="1208"/>
                  </a:lnTo>
                  <a:lnTo>
                    <a:pt x="265" y="1204"/>
                  </a:lnTo>
                  <a:lnTo>
                    <a:pt x="268" y="1199"/>
                  </a:lnTo>
                  <a:lnTo>
                    <a:pt x="272" y="1195"/>
                  </a:lnTo>
                  <a:lnTo>
                    <a:pt x="274" y="1188"/>
                  </a:lnTo>
                  <a:lnTo>
                    <a:pt x="276" y="1181"/>
                  </a:lnTo>
                  <a:lnTo>
                    <a:pt x="280" y="1164"/>
                  </a:lnTo>
                  <a:lnTo>
                    <a:pt x="282" y="1147"/>
                  </a:lnTo>
                  <a:lnTo>
                    <a:pt x="283" y="1127"/>
                  </a:lnTo>
                  <a:lnTo>
                    <a:pt x="283" y="1107"/>
                  </a:lnTo>
                  <a:lnTo>
                    <a:pt x="283" y="1088"/>
                  </a:lnTo>
                  <a:lnTo>
                    <a:pt x="282" y="1071"/>
                  </a:lnTo>
                  <a:lnTo>
                    <a:pt x="280" y="1044"/>
                  </a:lnTo>
                  <a:lnTo>
                    <a:pt x="280" y="1033"/>
                  </a:lnTo>
                  <a:lnTo>
                    <a:pt x="296" y="1025"/>
                  </a:lnTo>
                  <a:lnTo>
                    <a:pt x="311" y="1016"/>
                  </a:lnTo>
                  <a:lnTo>
                    <a:pt x="325" y="1007"/>
                  </a:lnTo>
                  <a:lnTo>
                    <a:pt x="337" y="996"/>
                  </a:lnTo>
                  <a:lnTo>
                    <a:pt x="349" y="987"/>
                  </a:lnTo>
                  <a:lnTo>
                    <a:pt x="358" y="976"/>
                  </a:lnTo>
                  <a:lnTo>
                    <a:pt x="368" y="966"/>
                  </a:lnTo>
                  <a:lnTo>
                    <a:pt x="376" y="954"/>
                  </a:lnTo>
                  <a:lnTo>
                    <a:pt x="383" y="944"/>
                  </a:lnTo>
                  <a:lnTo>
                    <a:pt x="389" y="932"/>
                  </a:lnTo>
                  <a:lnTo>
                    <a:pt x="393" y="920"/>
                  </a:lnTo>
                  <a:lnTo>
                    <a:pt x="397" y="908"/>
                  </a:lnTo>
                  <a:lnTo>
                    <a:pt x="400" y="897"/>
                  </a:lnTo>
                  <a:lnTo>
                    <a:pt x="403" y="885"/>
                  </a:lnTo>
                  <a:lnTo>
                    <a:pt x="405" y="872"/>
                  </a:lnTo>
                  <a:lnTo>
                    <a:pt x="405" y="861"/>
                  </a:lnTo>
                  <a:lnTo>
                    <a:pt x="406" y="835"/>
                  </a:lnTo>
                  <a:lnTo>
                    <a:pt x="404" y="810"/>
                  </a:lnTo>
                  <a:lnTo>
                    <a:pt x="400" y="785"/>
                  </a:lnTo>
                  <a:lnTo>
                    <a:pt x="396" y="760"/>
                  </a:lnTo>
                  <a:lnTo>
                    <a:pt x="384" y="710"/>
                  </a:lnTo>
                  <a:lnTo>
                    <a:pt x="371" y="662"/>
                  </a:lnTo>
                  <a:lnTo>
                    <a:pt x="587" y="418"/>
                  </a:lnTo>
                  <a:lnTo>
                    <a:pt x="588" y="403"/>
                  </a:lnTo>
                  <a:lnTo>
                    <a:pt x="592" y="388"/>
                  </a:lnTo>
                  <a:lnTo>
                    <a:pt x="598" y="371"/>
                  </a:lnTo>
                  <a:lnTo>
                    <a:pt x="605" y="355"/>
                  </a:lnTo>
                  <a:lnTo>
                    <a:pt x="614" y="338"/>
                  </a:lnTo>
                  <a:lnTo>
                    <a:pt x="625" y="321"/>
                  </a:lnTo>
                  <a:lnTo>
                    <a:pt x="636" y="305"/>
                  </a:lnTo>
                  <a:lnTo>
                    <a:pt x="650" y="287"/>
                  </a:lnTo>
                  <a:lnTo>
                    <a:pt x="664" y="270"/>
                  </a:lnTo>
                  <a:lnTo>
                    <a:pt x="681" y="252"/>
                  </a:lnTo>
                  <a:lnTo>
                    <a:pt x="697" y="234"/>
                  </a:lnTo>
                  <a:lnTo>
                    <a:pt x="714" y="217"/>
                  </a:lnTo>
                  <a:lnTo>
                    <a:pt x="751" y="183"/>
                  </a:lnTo>
                  <a:lnTo>
                    <a:pt x="788" y="150"/>
                  </a:lnTo>
                  <a:lnTo>
                    <a:pt x="825" y="120"/>
                  </a:lnTo>
                  <a:lnTo>
                    <a:pt x="862" y="91"/>
                  </a:lnTo>
                  <a:lnTo>
                    <a:pt x="896" y="65"/>
                  </a:lnTo>
                  <a:lnTo>
                    <a:pt x="926" y="43"/>
                  </a:lnTo>
                  <a:lnTo>
                    <a:pt x="970" y="11"/>
                  </a:lnTo>
                  <a:lnTo>
                    <a:pt x="988" y="0"/>
                  </a:lnTo>
                  <a:lnTo>
                    <a:pt x="1904" y="95"/>
                  </a:lnTo>
                  <a:lnTo>
                    <a:pt x="1273" y="807"/>
                  </a:lnTo>
                  <a:lnTo>
                    <a:pt x="1837" y="2053"/>
                  </a:lnTo>
                  <a:lnTo>
                    <a:pt x="1824" y="2071"/>
                  </a:lnTo>
                  <a:lnTo>
                    <a:pt x="1814" y="2087"/>
                  </a:lnTo>
                  <a:lnTo>
                    <a:pt x="1805" y="2103"/>
                  </a:lnTo>
                  <a:lnTo>
                    <a:pt x="1798" y="2117"/>
                  </a:lnTo>
                  <a:lnTo>
                    <a:pt x="1794" y="2131"/>
                  </a:lnTo>
                  <a:lnTo>
                    <a:pt x="1790" y="2144"/>
                  </a:lnTo>
                  <a:lnTo>
                    <a:pt x="1788" y="2156"/>
                  </a:lnTo>
                  <a:lnTo>
                    <a:pt x="1787" y="2166"/>
                  </a:lnTo>
                  <a:lnTo>
                    <a:pt x="1787" y="2185"/>
                  </a:lnTo>
                  <a:lnTo>
                    <a:pt x="1788" y="2198"/>
                  </a:lnTo>
                  <a:lnTo>
                    <a:pt x="1790" y="2206"/>
                  </a:lnTo>
                  <a:lnTo>
                    <a:pt x="1791" y="2209"/>
                  </a:lnTo>
                  <a:lnTo>
                    <a:pt x="1809" y="2301"/>
                  </a:lnTo>
                  <a:lnTo>
                    <a:pt x="1787" y="2315"/>
                  </a:lnTo>
                  <a:lnTo>
                    <a:pt x="1763" y="2330"/>
                  </a:lnTo>
                  <a:lnTo>
                    <a:pt x="1738" y="2348"/>
                  </a:lnTo>
                  <a:lnTo>
                    <a:pt x="1712" y="2367"/>
                  </a:lnTo>
                  <a:lnTo>
                    <a:pt x="1685" y="2388"/>
                  </a:lnTo>
                  <a:lnTo>
                    <a:pt x="1658" y="2409"/>
                  </a:lnTo>
                  <a:lnTo>
                    <a:pt x="1633" y="2432"/>
                  </a:lnTo>
                  <a:lnTo>
                    <a:pt x="1607" y="2455"/>
                  </a:lnTo>
                  <a:lnTo>
                    <a:pt x="1582" y="2477"/>
                  </a:lnTo>
                  <a:lnTo>
                    <a:pt x="1561" y="2498"/>
                  </a:lnTo>
                  <a:lnTo>
                    <a:pt x="1542" y="2519"/>
                  </a:lnTo>
                  <a:lnTo>
                    <a:pt x="1525" y="2539"/>
                  </a:lnTo>
                  <a:lnTo>
                    <a:pt x="1511" y="2557"/>
                  </a:lnTo>
                  <a:lnTo>
                    <a:pt x="1503" y="2572"/>
                  </a:lnTo>
                  <a:lnTo>
                    <a:pt x="1499" y="2579"/>
                  </a:lnTo>
                  <a:lnTo>
                    <a:pt x="1497" y="2585"/>
                  </a:lnTo>
                  <a:lnTo>
                    <a:pt x="1497" y="2590"/>
                  </a:lnTo>
                  <a:lnTo>
                    <a:pt x="1497" y="2595"/>
                  </a:lnTo>
                  <a:lnTo>
                    <a:pt x="1475" y="2605"/>
                  </a:lnTo>
                  <a:lnTo>
                    <a:pt x="1454" y="2615"/>
                  </a:lnTo>
                  <a:lnTo>
                    <a:pt x="1433" y="2627"/>
                  </a:lnTo>
                  <a:lnTo>
                    <a:pt x="1414" y="2638"/>
                  </a:lnTo>
                  <a:lnTo>
                    <a:pt x="1397" y="2651"/>
                  </a:lnTo>
                  <a:lnTo>
                    <a:pt x="1380" y="2664"/>
                  </a:lnTo>
                  <a:lnTo>
                    <a:pt x="1365" y="2677"/>
                  </a:lnTo>
                  <a:lnTo>
                    <a:pt x="1352" y="2690"/>
                  </a:lnTo>
                  <a:lnTo>
                    <a:pt x="1329" y="2713"/>
                  </a:lnTo>
                  <a:lnTo>
                    <a:pt x="1313" y="2733"/>
                  </a:lnTo>
                  <a:lnTo>
                    <a:pt x="1302" y="2746"/>
                  </a:lnTo>
                  <a:lnTo>
                    <a:pt x="1299" y="2751"/>
                  </a:lnTo>
                  <a:lnTo>
                    <a:pt x="1328" y="2829"/>
                  </a:lnTo>
                  <a:lnTo>
                    <a:pt x="1313" y="2840"/>
                  </a:lnTo>
                  <a:lnTo>
                    <a:pt x="1297" y="2851"/>
                  </a:lnTo>
                  <a:lnTo>
                    <a:pt x="1282" y="2860"/>
                  </a:lnTo>
                  <a:lnTo>
                    <a:pt x="1268" y="2868"/>
                  </a:lnTo>
                  <a:lnTo>
                    <a:pt x="1254" y="2876"/>
                  </a:lnTo>
                  <a:lnTo>
                    <a:pt x="1241" y="2881"/>
                  </a:lnTo>
                  <a:lnTo>
                    <a:pt x="1228" y="2887"/>
                  </a:lnTo>
                  <a:lnTo>
                    <a:pt x="1217" y="2891"/>
                  </a:lnTo>
                  <a:lnTo>
                    <a:pt x="1195" y="2897"/>
                  </a:lnTo>
                  <a:lnTo>
                    <a:pt x="1175" y="2901"/>
                  </a:lnTo>
                  <a:lnTo>
                    <a:pt x="1158" y="2904"/>
                  </a:lnTo>
                  <a:lnTo>
                    <a:pt x="1147" y="290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Freeform 153"/>
            <p:cNvSpPr/>
            <p:nvPr/>
          </p:nvSpPr>
          <p:spPr>
            <a:xfrm>
              <a:off x="6458040" y="5715360"/>
              <a:ext cx="421560" cy="33768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798" h="2073">
                  <a:moveTo>
                    <a:pt x="1741" y="2073"/>
                  </a:moveTo>
                  <a:lnTo>
                    <a:pt x="1081" y="2018"/>
                  </a:lnTo>
                  <a:lnTo>
                    <a:pt x="0" y="1462"/>
                  </a:lnTo>
                  <a:lnTo>
                    <a:pt x="65" y="1356"/>
                  </a:lnTo>
                  <a:lnTo>
                    <a:pt x="76" y="1354"/>
                  </a:lnTo>
                  <a:lnTo>
                    <a:pt x="93" y="1351"/>
                  </a:lnTo>
                  <a:lnTo>
                    <a:pt x="113" y="1347"/>
                  </a:lnTo>
                  <a:lnTo>
                    <a:pt x="135" y="1341"/>
                  </a:lnTo>
                  <a:lnTo>
                    <a:pt x="146" y="1337"/>
                  </a:lnTo>
                  <a:lnTo>
                    <a:pt x="159" y="1331"/>
                  </a:lnTo>
                  <a:lnTo>
                    <a:pt x="172" y="1326"/>
                  </a:lnTo>
                  <a:lnTo>
                    <a:pt x="186" y="1318"/>
                  </a:lnTo>
                  <a:lnTo>
                    <a:pt x="200" y="1310"/>
                  </a:lnTo>
                  <a:lnTo>
                    <a:pt x="215" y="1301"/>
                  </a:lnTo>
                  <a:lnTo>
                    <a:pt x="231" y="1290"/>
                  </a:lnTo>
                  <a:lnTo>
                    <a:pt x="246" y="1279"/>
                  </a:lnTo>
                  <a:lnTo>
                    <a:pt x="217" y="1201"/>
                  </a:lnTo>
                  <a:lnTo>
                    <a:pt x="220" y="1196"/>
                  </a:lnTo>
                  <a:lnTo>
                    <a:pt x="231" y="1183"/>
                  </a:lnTo>
                  <a:lnTo>
                    <a:pt x="247" y="1163"/>
                  </a:lnTo>
                  <a:lnTo>
                    <a:pt x="270" y="1140"/>
                  </a:lnTo>
                  <a:lnTo>
                    <a:pt x="283" y="1127"/>
                  </a:lnTo>
                  <a:lnTo>
                    <a:pt x="298" y="1114"/>
                  </a:lnTo>
                  <a:lnTo>
                    <a:pt x="315" y="1101"/>
                  </a:lnTo>
                  <a:lnTo>
                    <a:pt x="332" y="1088"/>
                  </a:lnTo>
                  <a:lnTo>
                    <a:pt x="351" y="1077"/>
                  </a:lnTo>
                  <a:lnTo>
                    <a:pt x="372" y="1065"/>
                  </a:lnTo>
                  <a:lnTo>
                    <a:pt x="393" y="1055"/>
                  </a:lnTo>
                  <a:lnTo>
                    <a:pt x="415" y="1045"/>
                  </a:lnTo>
                  <a:lnTo>
                    <a:pt x="415" y="1040"/>
                  </a:lnTo>
                  <a:lnTo>
                    <a:pt x="415" y="1035"/>
                  </a:lnTo>
                  <a:lnTo>
                    <a:pt x="417" y="1029"/>
                  </a:lnTo>
                  <a:lnTo>
                    <a:pt x="421" y="1022"/>
                  </a:lnTo>
                  <a:lnTo>
                    <a:pt x="429" y="1007"/>
                  </a:lnTo>
                  <a:lnTo>
                    <a:pt x="443" y="989"/>
                  </a:lnTo>
                  <a:lnTo>
                    <a:pt x="460" y="969"/>
                  </a:lnTo>
                  <a:lnTo>
                    <a:pt x="479" y="948"/>
                  </a:lnTo>
                  <a:lnTo>
                    <a:pt x="500" y="927"/>
                  </a:lnTo>
                  <a:lnTo>
                    <a:pt x="525" y="905"/>
                  </a:lnTo>
                  <a:lnTo>
                    <a:pt x="551" y="882"/>
                  </a:lnTo>
                  <a:lnTo>
                    <a:pt x="576" y="859"/>
                  </a:lnTo>
                  <a:lnTo>
                    <a:pt x="603" y="838"/>
                  </a:lnTo>
                  <a:lnTo>
                    <a:pt x="630" y="817"/>
                  </a:lnTo>
                  <a:lnTo>
                    <a:pt x="656" y="798"/>
                  </a:lnTo>
                  <a:lnTo>
                    <a:pt x="681" y="780"/>
                  </a:lnTo>
                  <a:lnTo>
                    <a:pt x="705" y="765"/>
                  </a:lnTo>
                  <a:lnTo>
                    <a:pt x="727" y="751"/>
                  </a:lnTo>
                  <a:lnTo>
                    <a:pt x="709" y="659"/>
                  </a:lnTo>
                  <a:lnTo>
                    <a:pt x="708" y="656"/>
                  </a:lnTo>
                  <a:lnTo>
                    <a:pt x="706" y="648"/>
                  </a:lnTo>
                  <a:lnTo>
                    <a:pt x="705" y="635"/>
                  </a:lnTo>
                  <a:lnTo>
                    <a:pt x="705" y="616"/>
                  </a:lnTo>
                  <a:lnTo>
                    <a:pt x="706" y="606"/>
                  </a:lnTo>
                  <a:lnTo>
                    <a:pt x="708" y="594"/>
                  </a:lnTo>
                  <a:lnTo>
                    <a:pt x="712" y="581"/>
                  </a:lnTo>
                  <a:lnTo>
                    <a:pt x="716" y="567"/>
                  </a:lnTo>
                  <a:lnTo>
                    <a:pt x="723" y="553"/>
                  </a:lnTo>
                  <a:lnTo>
                    <a:pt x="732" y="537"/>
                  </a:lnTo>
                  <a:lnTo>
                    <a:pt x="742" y="521"/>
                  </a:lnTo>
                  <a:lnTo>
                    <a:pt x="755" y="503"/>
                  </a:lnTo>
                  <a:lnTo>
                    <a:pt x="810" y="437"/>
                  </a:lnTo>
                  <a:lnTo>
                    <a:pt x="860" y="375"/>
                  </a:lnTo>
                  <a:lnTo>
                    <a:pt x="884" y="347"/>
                  </a:lnTo>
                  <a:lnTo>
                    <a:pt x="908" y="320"/>
                  </a:lnTo>
                  <a:lnTo>
                    <a:pt x="920" y="308"/>
                  </a:lnTo>
                  <a:lnTo>
                    <a:pt x="931" y="296"/>
                  </a:lnTo>
                  <a:lnTo>
                    <a:pt x="944" y="285"/>
                  </a:lnTo>
                  <a:lnTo>
                    <a:pt x="957" y="275"/>
                  </a:lnTo>
                  <a:lnTo>
                    <a:pt x="970" y="265"/>
                  </a:lnTo>
                  <a:lnTo>
                    <a:pt x="983" y="257"/>
                  </a:lnTo>
                  <a:lnTo>
                    <a:pt x="996" y="249"/>
                  </a:lnTo>
                  <a:lnTo>
                    <a:pt x="1010" y="242"/>
                  </a:lnTo>
                  <a:lnTo>
                    <a:pt x="1024" y="235"/>
                  </a:lnTo>
                  <a:lnTo>
                    <a:pt x="1039" y="230"/>
                  </a:lnTo>
                  <a:lnTo>
                    <a:pt x="1054" y="225"/>
                  </a:lnTo>
                  <a:lnTo>
                    <a:pt x="1070" y="222"/>
                  </a:lnTo>
                  <a:lnTo>
                    <a:pt x="1087" y="218"/>
                  </a:lnTo>
                  <a:lnTo>
                    <a:pt x="1104" y="217"/>
                  </a:lnTo>
                  <a:lnTo>
                    <a:pt x="1122" y="216"/>
                  </a:lnTo>
                  <a:lnTo>
                    <a:pt x="1141" y="217"/>
                  </a:lnTo>
                  <a:lnTo>
                    <a:pt x="1160" y="218"/>
                  </a:lnTo>
                  <a:lnTo>
                    <a:pt x="1181" y="221"/>
                  </a:lnTo>
                  <a:lnTo>
                    <a:pt x="1202" y="225"/>
                  </a:lnTo>
                  <a:lnTo>
                    <a:pt x="1225" y="230"/>
                  </a:lnTo>
                  <a:lnTo>
                    <a:pt x="1380" y="0"/>
                  </a:lnTo>
                  <a:lnTo>
                    <a:pt x="2798" y="51"/>
                  </a:lnTo>
                  <a:lnTo>
                    <a:pt x="1741" y="207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154"/>
            <p:cNvSpPr/>
            <p:nvPr/>
          </p:nvSpPr>
          <p:spPr>
            <a:xfrm>
              <a:off x="6458040" y="5715360"/>
              <a:ext cx="421560" cy="33768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798" h="2073">
                  <a:moveTo>
                    <a:pt x="1741" y="2073"/>
                  </a:moveTo>
                  <a:lnTo>
                    <a:pt x="1081" y="2018"/>
                  </a:lnTo>
                  <a:lnTo>
                    <a:pt x="0" y="1462"/>
                  </a:lnTo>
                  <a:lnTo>
                    <a:pt x="65" y="1356"/>
                  </a:lnTo>
                  <a:lnTo>
                    <a:pt x="76" y="1354"/>
                  </a:lnTo>
                  <a:lnTo>
                    <a:pt x="93" y="1351"/>
                  </a:lnTo>
                  <a:lnTo>
                    <a:pt x="113" y="1347"/>
                  </a:lnTo>
                  <a:lnTo>
                    <a:pt x="135" y="1341"/>
                  </a:lnTo>
                  <a:lnTo>
                    <a:pt x="146" y="1337"/>
                  </a:lnTo>
                  <a:lnTo>
                    <a:pt x="159" y="1331"/>
                  </a:lnTo>
                  <a:lnTo>
                    <a:pt x="172" y="1326"/>
                  </a:lnTo>
                  <a:lnTo>
                    <a:pt x="186" y="1318"/>
                  </a:lnTo>
                  <a:lnTo>
                    <a:pt x="200" y="1310"/>
                  </a:lnTo>
                  <a:lnTo>
                    <a:pt x="215" y="1301"/>
                  </a:lnTo>
                  <a:lnTo>
                    <a:pt x="231" y="1290"/>
                  </a:lnTo>
                  <a:lnTo>
                    <a:pt x="246" y="1279"/>
                  </a:lnTo>
                  <a:lnTo>
                    <a:pt x="217" y="1201"/>
                  </a:lnTo>
                  <a:lnTo>
                    <a:pt x="220" y="1196"/>
                  </a:lnTo>
                  <a:lnTo>
                    <a:pt x="231" y="1183"/>
                  </a:lnTo>
                  <a:lnTo>
                    <a:pt x="247" y="1163"/>
                  </a:lnTo>
                  <a:lnTo>
                    <a:pt x="270" y="1140"/>
                  </a:lnTo>
                  <a:lnTo>
                    <a:pt x="283" y="1127"/>
                  </a:lnTo>
                  <a:lnTo>
                    <a:pt x="298" y="1114"/>
                  </a:lnTo>
                  <a:lnTo>
                    <a:pt x="315" y="1101"/>
                  </a:lnTo>
                  <a:lnTo>
                    <a:pt x="332" y="1088"/>
                  </a:lnTo>
                  <a:lnTo>
                    <a:pt x="351" y="1077"/>
                  </a:lnTo>
                  <a:lnTo>
                    <a:pt x="372" y="1065"/>
                  </a:lnTo>
                  <a:lnTo>
                    <a:pt x="393" y="1055"/>
                  </a:lnTo>
                  <a:lnTo>
                    <a:pt x="415" y="1045"/>
                  </a:lnTo>
                  <a:lnTo>
                    <a:pt x="415" y="1040"/>
                  </a:lnTo>
                  <a:lnTo>
                    <a:pt x="415" y="1035"/>
                  </a:lnTo>
                  <a:lnTo>
                    <a:pt x="417" y="1029"/>
                  </a:lnTo>
                  <a:lnTo>
                    <a:pt x="421" y="1022"/>
                  </a:lnTo>
                  <a:lnTo>
                    <a:pt x="429" y="1007"/>
                  </a:lnTo>
                  <a:lnTo>
                    <a:pt x="443" y="989"/>
                  </a:lnTo>
                  <a:lnTo>
                    <a:pt x="460" y="969"/>
                  </a:lnTo>
                  <a:lnTo>
                    <a:pt x="479" y="948"/>
                  </a:lnTo>
                  <a:lnTo>
                    <a:pt x="500" y="927"/>
                  </a:lnTo>
                  <a:lnTo>
                    <a:pt x="525" y="905"/>
                  </a:lnTo>
                  <a:lnTo>
                    <a:pt x="551" y="882"/>
                  </a:lnTo>
                  <a:lnTo>
                    <a:pt x="576" y="859"/>
                  </a:lnTo>
                  <a:lnTo>
                    <a:pt x="603" y="838"/>
                  </a:lnTo>
                  <a:lnTo>
                    <a:pt x="630" y="817"/>
                  </a:lnTo>
                  <a:lnTo>
                    <a:pt x="656" y="798"/>
                  </a:lnTo>
                  <a:lnTo>
                    <a:pt x="681" y="780"/>
                  </a:lnTo>
                  <a:lnTo>
                    <a:pt x="705" y="765"/>
                  </a:lnTo>
                  <a:lnTo>
                    <a:pt x="727" y="751"/>
                  </a:lnTo>
                  <a:lnTo>
                    <a:pt x="709" y="659"/>
                  </a:lnTo>
                  <a:lnTo>
                    <a:pt x="708" y="656"/>
                  </a:lnTo>
                  <a:lnTo>
                    <a:pt x="706" y="648"/>
                  </a:lnTo>
                  <a:lnTo>
                    <a:pt x="705" y="635"/>
                  </a:lnTo>
                  <a:lnTo>
                    <a:pt x="705" y="616"/>
                  </a:lnTo>
                  <a:lnTo>
                    <a:pt x="706" y="606"/>
                  </a:lnTo>
                  <a:lnTo>
                    <a:pt x="708" y="594"/>
                  </a:lnTo>
                  <a:lnTo>
                    <a:pt x="712" y="581"/>
                  </a:lnTo>
                  <a:lnTo>
                    <a:pt x="716" y="567"/>
                  </a:lnTo>
                  <a:lnTo>
                    <a:pt x="723" y="553"/>
                  </a:lnTo>
                  <a:lnTo>
                    <a:pt x="732" y="537"/>
                  </a:lnTo>
                  <a:lnTo>
                    <a:pt x="742" y="521"/>
                  </a:lnTo>
                  <a:lnTo>
                    <a:pt x="755" y="503"/>
                  </a:lnTo>
                  <a:lnTo>
                    <a:pt x="810" y="437"/>
                  </a:lnTo>
                  <a:lnTo>
                    <a:pt x="860" y="375"/>
                  </a:lnTo>
                  <a:lnTo>
                    <a:pt x="884" y="347"/>
                  </a:lnTo>
                  <a:lnTo>
                    <a:pt x="908" y="320"/>
                  </a:lnTo>
                  <a:lnTo>
                    <a:pt x="920" y="308"/>
                  </a:lnTo>
                  <a:lnTo>
                    <a:pt x="931" y="296"/>
                  </a:lnTo>
                  <a:lnTo>
                    <a:pt x="944" y="285"/>
                  </a:lnTo>
                  <a:lnTo>
                    <a:pt x="957" y="275"/>
                  </a:lnTo>
                  <a:lnTo>
                    <a:pt x="970" y="265"/>
                  </a:lnTo>
                  <a:lnTo>
                    <a:pt x="983" y="257"/>
                  </a:lnTo>
                  <a:lnTo>
                    <a:pt x="996" y="249"/>
                  </a:lnTo>
                  <a:lnTo>
                    <a:pt x="1010" y="242"/>
                  </a:lnTo>
                  <a:lnTo>
                    <a:pt x="1024" y="235"/>
                  </a:lnTo>
                  <a:lnTo>
                    <a:pt x="1039" y="230"/>
                  </a:lnTo>
                  <a:lnTo>
                    <a:pt x="1054" y="225"/>
                  </a:lnTo>
                  <a:lnTo>
                    <a:pt x="1070" y="222"/>
                  </a:lnTo>
                  <a:lnTo>
                    <a:pt x="1087" y="218"/>
                  </a:lnTo>
                  <a:lnTo>
                    <a:pt x="1104" y="217"/>
                  </a:lnTo>
                  <a:lnTo>
                    <a:pt x="1122" y="216"/>
                  </a:lnTo>
                  <a:lnTo>
                    <a:pt x="1141" y="217"/>
                  </a:lnTo>
                  <a:lnTo>
                    <a:pt x="1160" y="218"/>
                  </a:lnTo>
                  <a:lnTo>
                    <a:pt x="1181" y="221"/>
                  </a:lnTo>
                  <a:lnTo>
                    <a:pt x="1202" y="225"/>
                  </a:lnTo>
                  <a:lnTo>
                    <a:pt x="1225" y="230"/>
                  </a:lnTo>
                  <a:lnTo>
                    <a:pt x="1380" y="0"/>
                  </a:lnTo>
                  <a:lnTo>
                    <a:pt x="2798" y="51"/>
                  </a:lnTo>
                  <a:lnTo>
                    <a:pt x="1741" y="207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155"/>
            <p:cNvSpPr/>
            <p:nvPr/>
          </p:nvSpPr>
          <p:spPr>
            <a:xfrm>
              <a:off x="6859800" y="5275080"/>
              <a:ext cx="389880" cy="15084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82" h="922">
                  <a:moveTo>
                    <a:pt x="2582" y="43"/>
                  </a:moveTo>
                  <a:lnTo>
                    <a:pt x="2309" y="852"/>
                  </a:lnTo>
                  <a:lnTo>
                    <a:pt x="2294" y="850"/>
                  </a:lnTo>
                  <a:lnTo>
                    <a:pt x="2272" y="849"/>
                  </a:lnTo>
                  <a:lnTo>
                    <a:pt x="2241" y="848"/>
                  </a:lnTo>
                  <a:lnTo>
                    <a:pt x="2204" y="847"/>
                  </a:lnTo>
                  <a:lnTo>
                    <a:pt x="2111" y="845"/>
                  </a:lnTo>
                  <a:lnTo>
                    <a:pt x="1997" y="845"/>
                  </a:lnTo>
                  <a:lnTo>
                    <a:pt x="1866" y="848"/>
                  </a:lnTo>
                  <a:lnTo>
                    <a:pt x="1725" y="849"/>
                  </a:lnTo>
                  <a:lnTo>
                    <a:pt x="1576" y="852"/>
                  </a:lnTo>
                  <a:lnTo>
                    <a:pt x="1423" y="855"/>
                  </a:lnTo>
                  <a:lnTo>
                    <a:pt x="1271" y="858"/>
                  </a:lnTo>
                  <a:lnTo>
                    <a:pt x="1125" y="862"/>
                  </a:lnTo>
                  <a:lnTo>
                    <a:pt x="990" y="865"/>
                  </a:lnTo>
                  <a:lnTo>
                    <a:pt x="869" y="869"/>
                  </a:lnTo>
                  <a:lnTo>
                    <a:pt x="767" y="871"/>
                  </a:lnTo>
                  <a:lnTo>
                    <a:pt x="689" y="873"/>
                  </a:lnTo>
                  <a:lnTo>
                    <a:pt x="639" y="875"/>
                  </a:lnTo>
                  <a:lnTo>
                    <a:pt x="621" y="875"/>
                  </a:lnTo>
                  <a:lnTo>
                    <a:pt x="592" y="884"/>
                  </a:lnTo>
                  <a:lnTo>
                    <a:pt x="562" y="891"/>
                  </a:lnTo>
                  <a:lnTo>
                    <a:pt x="530" y="899"/>
                  </a:lnTo>
                  <a:lnTo>
                    <a:pt x="497" y="905"/>
                  </a:lnTo>
                  <a:lnTo>
                    <a:pt x="465" y="911"/>
                  </a:lnTo>
                  <a:lnTo>
                    <a:pt x="432" y="915"/>
                  </a:lnTo>
                  <a:lnTo>
                    <a:pt x="399" y="919"/>
                  </a:lnTo>
                  <a:lnTo>
                    <a:pt x="368" y="921"/>
                  </a:lnTo>
                  <a:lnTo>
                    <a:pt x="336" y="922"/>
                  </a:lnTo>
                  <a:lnTo>
                    <a:pt x="307" y="921"/>
                  </a:lnTo>
                  <a:lnTo>
                    <a:pt x="278" y="919"/>
                  </a:lnTo>
                  <a:lnTo>
                    <a:pt x="251" y="914"/>
                  </a:lnTo>
                  <a:lnTo>
                    <a:pt x="239" y="912"/>
                  </a:lnTo>
                  <a:lnTo>
                    <a:pt x="226" y="908"/>
                  </a:lnTo>
                  <a:lnTo>
                    <a:pt x="216" y="904"/>
                  </a:lnTo>
                  <a:lnTo>
                    <a:pt x="205" y="899"/>
                  </a:lnTo>
                  <a:lnTo>
                    <a:pt x="195" y="894"/>
                  </a:lnTo>
                  <a:lnTo>
                    <a:pt x="185" y="889"/>
                  </a:lnTo>
                  <a:lnTo>
                    <a:pt x="177" y="882"/>
                  </a:lnTo>
                  <a:lnTo>
                    <a:pt x="169" y="875"/>
                  </a:lnTo>
                  <a:lnTo>
                    <a:pt x="163" y="868"/>
                  </a:lnTo>
                  <a:lnTo>
                    <a:pt x="157" y="862"/>
                  </a:lnTo>
                  <a:lnTo>
                    <a:pt x="153" y="855"/>
                  </a:lnTo>
                  <a:lnTo>
                    <a:pt x="149" y="848"/>
                  </a:lnTo>
                  <a:lnTo>
                    <a:pt x="146" y="841"/>
                  </a:lnTo>
                  <a:lnTo>
                    <a:pt x="143" y="835"/>
                  </a:lnTo>
                  <a:lnTo>
                    <a:pt x="142" y="828"/>
                  </a:lnTo>
                  <a:lnTo>
                    <a:pt x="141" y="821"/>
                  </a:lnTo>
                  <a:lnTo>
                    <a:pt x="141" y="809"/>
                  </a:lnTo>
                  <a:lnTo>
                    <a:pt x="141" y="796"/>
                  </a:lnTo>
                  <a:lnTo>
                    <a:pt x="143" y="785"/>
                  </a:lnTo>
                  <a:lnTo>
                    <a:pt x="146" y="774"/>
                  </a:lnTo>
                  <a:lnTo>
                    <a:pt x="148" y="764"/>
                  </a:lnTo>
                  <a:lnTo>
                    <a:pt x="149" y="753"/>
                  </a:lnTo>
                  <a:lnTo>
                    <a:pt x="149" y="744"/>
                  </a:lnTo>
                  <a:lnTo>
                    <a:pt x="147" y="734"/>
                  </a:lnTo>
                  <a:lnTo>
                    <a:pt x="145" y="730"/>
                  </a:lnTo>
                  <a:lnTo>
                    <a:pt x="142" y="726"/>
                  </a:lnTo>
                  <a:lnTo>
                    <a:pt x="139" y="723"/>
                  </a:lnTo>
                  <a:lnTo>
                    <a:pt x="135" y="718"/>
                  </a:lnTo>
                  <a:lnTo>
                    <a:pt x="129" y="715"/>
                  </a:lnTo>
                  <a:lnTo>
                    <a:pt x="124" y="711"/>
                  </a:lnTo>
                  <a:lnTo>
                    <a:pt x="117" y="709"/>
                  </a:lnTo>
                  <a:lnTo>
                    <a:pt x="108" y="705"/>
                  </a:lnTo>
                  <a:lnTo>
                    <a:pt x="91" y="699"/>
                  </a:lnTo>
                  <a:lnTo>
                    <a:pt x="77" y="694"/>
                  </a:lnTo>
                  <a:lnTo>
                    <a:pt x="65" y="688"/>
                  </a:lnTo>
                  <a:lnTo>
                    <a:pt x="56" y="682"/>
                  </a:lnTo>
                  <a:lnTo>
                    <a:pt x="49" y="677"/>
                  </a:lnTo>
                  <a:lnTo>
                    <a:pt x="44" y="672"/>
                  </a:lnTo>
                  <a:lnTo>
                    <a:pt x="42" y="668"/>
                  </a:lnTo>
                  <a:lnTo>
                    <a:pt x="39" y="663"/>
                  </a:lnTo>
                  <a:lnTo>
                    <a:pt x="39" y="658"/>
                  </a:lnTo>
                  <a:lnTo>
                    <a:pt x="41" y="655"/>
                  </a:lnTo>
                  <a:lnTo>
                    <a:pt x="42" y="653"/>
                  </a:lnTo>
                  <a:lnTo>
                    <a:pt x="43" y="649"/>
                  </a:lnTo>
                  <a:lnTo>
                    <a:pt x="46" y="646"/>
                  </a:lnTo>
                  <a:lnTo>
                    <a:pt x="49" y="644"/>
                  </a:lnTo>
                  <a:lnTo>
                    <a:pt x="57" y="639"/>
                  </a:lnTo>
                  <a:lnTo>
                    <a:pt x="78" y="622"/>
                  </a:lnTo>
                  <a:lnTo>
                    <a:pt x="107" y="599"/>
                  </a:lnTo>
                  <a:lnTo>
                    <a:pt x="138" y="572"/>
                  </a:lnTo>
                  <a:lnTo>
                    <a:pt x="153" y="557"/>
                  </a:lnTo>
                  <a:lnTo>
                    <a:pt x="166" y="543"/>
                  </a:lnTo>
                  <a:lnTo>
                    <a:pt x="176" y="528"/>
                  </a:lnTo>
                  <a:lnTo>
                    <a:pt x="183" y="515"/>
                  </a:lnTo>
                  <a:lnTo>
                    <a:pt x="185" y="508"/>
                  </a:lnTo>
                  <a:lnTo>
                    <a:pt x="187" y="502"/>
                  </a:lnTo>
                  <a:lnTo>
                    <a:pt x="188" y="496"/>
                  </a:lnTo>
                  <a:lnTo>
                    <a:pt x="187" y="491"/>
                  </a:lnTo>
                  <a:lnTo>
                    <a:pt x="184" y="487"/>
                  </a:lnTo>
                  <a:lnTo>
                    <a:pt x="181" y="482"/>
                  </a:lnTo>
                  <a:lnTo>
                    <a:pt x="176" y="477"/>
                  </a:lnTo>
                  <a:lnTo>
                    <a:pt x="169" y="475"/>
                  </a:lnTo>
                  <a:lnTo>
                    <a:pt x="155" y="469"/>
                  </a:lnTo>
                  <a:lnTo>
                    <a:pt x="142" y="462"/>
                  </a:lnTo>
                  <a:lnTo>
                    <a:pt x="129" y="455"/>
                  </a:lnTo>
                  <a:lnTo>
                    <a:pt x="117" y="448"/>
                  </a:lnTo>
                  <a:lnTo>
                    <a:pt x="106" y="441"/>
                  </a:lnTo>
                  <a:lnTo>
                    <a:pt x="94" y="433"/>
                  </a:lnTo>
                  <a:lnTo>
                    <a:pt x="84" y="425"/>
                  </a:lnTo>
                  <a:lnTo>
                    <a:pt x="75" y="417"/>
                  </a:lnTo>
                  <a:lnTo>
                    <a:pt x="65" y="407"/>
                  </a:lnTo>
                  <a:lnTo>
                    <a:pt x="57" y="398"/>
                  </a:lnTo>
                  <a:lnTo>
                    <a:pt x="49" y="389"/>
                  </a:lnTo>
                  <a:lnTo>
                    <a:pt x="42" y="379"/>
                  </a:lnTo>
                  <a:lnTo>
                    <a:pt x="35" y="370"/>
                  </a:lnTo>
                  <a:lnTo>
                    <a:pt x="29" y="359"/>
                  </a:lnTo>
                  <a:lnTo>
                    <a:pt x="23" y="350"/>
                  </a:lnTo>
                  <a:lnTo>
                    <a:pt x="18" y="340"/>
                  </a:lnTo>
                  <a:lnTo>
                    <a:pt x="10" y="320"/>
                  </a:lnTo>
                  <a:lnTo>
                    <a:pt x="4" y="299"/>
                  </a:lnTo>
                  <a:lnTo>
                    <a:pt x="1" y="278"/>
                  </a:lnTo>
                  <a:lnTo>
                    <a:pt x="0" y="257"/>
                  </a:lnTo>
                  <a:lnTo>
                    <a:pt x="1" y="237"/>
                  </a:lnTo>
                  <a:lnTo>
                    <a:pt x="3" y="218"/>
                  </a:lnTo>
                  <a:lnTo>
                    <a:pt x="7" y="208"/>
                  </a:lnTo>
                  <a:lnTo>
                    <a:pt x="9" y="198"/>
                  </a:lnTo>
                  <a:lnTo>
                    <a:pt x="13" y="190"/>
                  </a:lnTo>
                  <a:lnTo>
                    <a:pt x="17" y="181"/>
                  </a:lnTo>
                  <a:lnTo>
                    <a:pt x="25" y="163"/>
                  </a:lnTo>
                  <a:lnTo>
                    <a:pt x="36" y="147"/>
                  </a:lnTo>
                  <a:lnTo>
                    <a:pt x="46" y="131"/>
                  </a:lnTo>
                  <a:lnTo>
                    <a:pt x="58" y="114"/>
                  </a:lnTo>
                  <a:lnTo>
                    <a:pt x="80" y="83"/>
                  </a:lnTo>
                  <a:lnTo>
                    <a:pt x="104" y="56"/>
                  </a:lnTo>
                  <a:lnTo>
                    <a:pt x="124" y="32"/>
                  </a:lnTo>
                  <a:lnTo>
                    <a:pt x="140" y="15"/>
                  </a:lnTo>
                  <a:lnTo>
                    <a:pt x="150" y="3"/>
                  </a:lnTo>
                  <a:lnTo>
                    <a:pt x="155" y="0"/>
                  </a:lnTo>
                  <a:lnTo>
                    <a:pt x="300" y="4"/>
                  </a:lnTo>
                  <a:lnTo>
                    <a:pt x="447" y="9"/>
                  </a:lnTo>
                  <a:lnTo>
                    <a:pt x="597" y="13"/>
                  </a:lnTo>
                  <a:lnTo>
                    <a:pt x="749" y="17"/>
                  </a:lnTo>
                  <a:lnTo>
                    <a:pt x="903" y="21"/>
                  </a:lnTo>
                  <a:lnTo>
                    <a:pt x="1057" y="24"/>
                  </a:lnTo>
                  <a:lnTo>
                    <a:pt x="1213" y="27"/>
                  </a:lnTo>
                  <a:lnTo>
                    <a:pt x="1369" y="30"/>
                  </a:lnTo>
                  <a:lnTo>
                    <a:pt x="1525" y="32"/>
                  </a:lnTo>
                  <a:lnTo>
                    <a:pt x="1681" y="35"/>
                  </a:lnTo>
                  <a:lnTo>
                    <a:pt x="1835" y="37"/>
                  </a:lnTo>
                  <a:lnTo>
                    <a:pt x="1989" y="38"/>
                  </a:lnTo>
                  <a:lnTo>
                    <a:pt x="2141" y="39"/>
                  </a:lnTo>
                  <a:lnTo>
                    <a:pt x="2290" y="41"/>
                  </a:lnTo>
                  <a:lnTo>
                    <a:pt x="2439" y="42"/>
                  </a:lnTo>
                  <a:lnTo>
                    <a:pt x="2582" y="4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156"/>
            <p:cNvSpPr/>
            <p:nvPr/>
          </p:nvSpPr>
          <p:spPr>
            <a:xfrm>
              <a:off x="6859800" y="5275080"/>
              <a:ext cx="389880" cy="15084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82" h="922">
                  <a:moveTo>
                    <a:pt x="2582" y="43"/>
                  </a:moveTo>
                  <a:lnTo>
                    <a:pt x="2309" y="852"/>
                  </a:lnTo>
                  <a:lnTo>
                    <a:pt x="2294" y="850"/>
                  </a:lnTo>
                  <a:lnTo>
                    <a:pt x="2272" y="849"/>
                  </a:lnTo>
                  <a:lnTo>
                    <a:pt x="2241" y="848"/>
                  </a:lnTo>
                  <a:lnTo>
                    <a:pt x="2204" y="847"/>
                  </a:lnTo>
                  <a:lnTo>
                    <a:pt x="2111" y="845"/>
                  </a:lnTo>
                  <a:lnTo>
                    <a:pt x="1997" y="845"/>
                  </a:lnTo>
                  <a:lnTo>
                    <a:pt x="1866" y="848"/>
                  </a:lnTo>
                  <a:lnTo>
                    <a:pt x="1725" y="849"/>
                  </a:lnTo>
                  <a:lnTo>
                    <a:pt x="1576" y="852"/>
                  </a:lnTo>
                  <a:lnTo>
                    <a:pt x="1423" y="855"/>
                  </a:lnTo>
                  <a:lnTo>
                    <a:pt x="1271" y="858"/>
                  </a:lnTo>
                  <a:lnTo>
                    <a:pt x="1125" y="862"/>
                  </a:lnTo>
                  <a:lnTo>
                    <a:pt x="990" y="865"/>
                  </a:lnTo>
                  <a:lnTo>
                    <a:pt x="869" y="869"/>
                  </a:lnTo>
                  <a:lnTo>
                    <a:pt x="767" y="871"/>
                  </a:lnTo>
                  <a:lnTo>
                    <a:pt x="689" y="873"/>
                  </a:lnTo>
                  <a:lnTo>
                    <a:pt x="639" y="875"/>
                  </a:lnTo>
                  <a:lnTo>
                    <a:pt x="621" y="875"/>
                  </a:lnTo>
                  <a:lnTo>
                    <a:pt x="592" y="884"/>
                  </a:lnTo>
                  <a:lnTo>
                    <a:pt x="562" y="891"/>
                  </a:lnTo>
                  <a:lnTo>
                    <a:pt x="530" y="899"/>
                  </a:lnTo>
                  <a:lnTo>
                    <a:pt x="497" y="905"/>
                  </a:lnTo>
                  <a:lnTo>
                    <a:pt x="465" y="911"/>
                  </a:lnTo>
                  <a:lnTo>
                    <a:pt x="432" y="915"/>
                  </a:lnTo>
                  <a:lnTo>
                    <a:pt x="399" y="919"/>
                  </a:lnTo>
                  <a:lnTo>
                    <a:pt x="368" y="921"/>
                  </a:lnTo>
                  <a:lnTo>
                    <a:pt x="336" y="922"/>
                  </a:lnTo>
                  <a:lnTo>
                    <a:pt x="307" y="921"/>
                  </a:lnTo>
                  <a:lnTo>
                    <a:pt x="278" y="919"/>
                  </a:lnTo>
                  <a:lnTo>
                    <a:pt x="251" y="914"/>
                  </a:lnTo>
                  <a:lnTo>
                    <a:pt x="239" y="912"/>
                  </a:lnTo>
                  <a:lnTo>
                    <a:pt x="226" y="908"/>
                  </a:lnTo>
                  <a:lnTo>
                    <a:pt x="216" y="904"/>
                  </a:lnTo>
                  <a:lnTo>
                    <a:pt x="205" y="899"/>
                  </a:lnTo>
                  <a:lnTo>
                    <a:pt x="195" y="894"/>
                  </a:lnTo>
                  <a:lnTo>
                    <a:pt x="185" y="889"/>
                  </a:lnTo>
                  <a:lnTo>
                    <a:pt x="177" y="882"/>
                  </a:lnTo>
                  <a:lnTo>
                    <a:pt x="169" y="875"/>
                  </a:lnTo>
                  <a:lnTo>
                    <a:pt x="163" y="868"/>
                  </a:lnTo>
                  <a:lnTo>
                    <a:pt x="157" y="862"/>
                  </a:lnTo>
                  <a:lnTo>
                    <a:pt x="153" y="855"/>
                  </a:lnTo>
                  <a:lnTo>
                    <a:pt x="149" y="848"/>
                  </a:lnTo>
                  <a:lnTo>
                    <a:pt x="146" y="841"/>
                  </a:lnTo>
                  <a:lnTo>
                    <a:pt x="143" y="835"/>
                  </a:lnTo>
                  <a:lnTo>
                    <a:pt x="142" y="828"/>
                  </a:lnTo>
                  <a:lnTo>
                    <a:pt x="141" y="821"/>
                  </a:lnTo>
                  <a:lnTo>
                    <a:pt x="141" y="809"/>
                  </a:lnTo>
                  <a:lnTo>
                    <a:pt x="141" y="796"/>
                  </a:lnTo>
                  <a:lnTo>
                    <a:pt x="143" y="785"/>
                  </a:lnTo>
                  <a:lnTo>
                    <a:pt x="146" y="774"/>
                  </a:lnTo>
                  <a:lnTo>
                    <a:pt x="148" y="764"/>
                  </a:lnTo>
                  <a:lnTo>
                    <a:pt x="149" y="753"/>
                  </a:lnTo>
                  <a:lnTo>
                    <a:pt x="149" y="744"/>
                  </a:lnTo>
                  <a:lnTo>
                    <a:pt x="147" y="734"/>
                  </a:lnTo>
                  <a:lnTo>
                    <a:pt x="145" y="730"/>
                  </a:lnTo>
                  <a:lnTo>
                    <a:pt x="142" y="726"/>
                  </a:lnTo>
                  <a:lnTo>
                    <a:pt x="139" y="723"/>
                  </a:lnTo>
                  <a:lnTo>
                    <a:pt x="135" y="718"/>
                  </a:lnTo>
                  <a:lnTo>
                    <a:pt x="129" y="715"/>
                  </a:lnTo>
                  <a:lnTo>
                    <a:pt x="124" y="711"/>
                  </a:lnTo>
                  <a:lnTo>
                    <a:pt x="117" y="709"/>
                  </a:lnTo>
                  <a:lnTo>
                    <a:pt x="108" y="705"/>
                  </a:lnTo>
                  <a:lnTo>
                    <a:pt x="91" y="699"/>
                  </a:lnTo>
                  <a:lnTo>
                    <a:pt x="77" y="694"/>
                  </a:lnTo>
                  <a:lnTo>
                    <a:pt x="65" y="688"/>
                  </a:lnTo>
                  <a:lnTo>
                    <a:pt x="56" y="682"/>
                  </a:lnTo>
                  <a:lnTo>
                    <a:pt x="49" y="677"/>
                  </a:lnTo>
                  <a:lnTo>
                    <a:pt x="44" y="672"/>
                  </a:lnTo>
                  <a:lnTo>
                    <a:pt x="42" y="668"/>
                  </a:lnTo>
                  <a:lnTo>
                    <a:pt x="39" y="663"/>
                  </a:lnTo>
                  <a:lnTo>
                    <a:pt x="39" y="658"/>
                  </a:lnTo>
                  <a:lnTo>
                    <a:pt x="41" y="655"/>
                  </a:lnTo>
                  <a:lnTo>
                    <a:pt x="42" y="653"/>
                  </a:lnTo>
                  <a:lnTo>
                    <a:pt x="43" y="649"/>
                  </a:lnTo>
                  <a:lnTo>
                    <a:pt x="46" y="646"/>
                  </a:lnTo>
                  <a:lnTo>
                    <a:pt x="49" y="644"/>
                  </a:lnTo>
                  <a:lnTo>
                    <a:pt x="57" y="639"/>
                  </a:lnTo>
                  <a:lnTo>
                    <a:pt x="78" y="622"/>
                  </a:lnTo>
                  <a:lnTo>
                    <a:pt x="107" y="599"/>
                  </a:lnTo>
                  <a:lnTo>
                    <a:pt x="138" y="572"/>
                  </a:lnTo>
                  <a:lnTo>
                    <a:pt x="153" y="557"/>
                  </a:lnTo>
                  <a:lnTo>
                    <a:pt x="166" y="543"/>
                  </a:lnTo>
                  <a:lnTo>
                    <a:pt x="176" y="528"/>
                  </a:lnTo>
                  <a:lnTo>
                    <a:pt x="183" y="515"/>
                  </a:lnTo>
                  <a:lnTo>
                    <a:pt x="185" y="508"/>
                  </a:lnTo>
                  <a:lnTo>
                    <a:pt x="187" y="502"/>
                  </a:lnTo>
                  <a:lnTo>
                    <a:pt x="188" y="496"/>
                  </a:lnTo>
                  <a:lnTo>
                    <a:pt x="187" y="491"/>
                  </a:lnTo>
                  <a:lnTo>
                    <a:pt x="184" y="487"/>
                  </a:lnTo>
                  <a:lnTo>
                    <a:pt x="181" y="482"/>
                  </a:lnTo>
                  <a:lnTo>
                    <a:pt x="176" y="477"/>
                  </a:lnTo>
                  <a:lnTo>
                    <a:pt x="169" y="475"/>
                  </a:lnTo>
                  <a:lnTo>
                    <a:pt x="155" y="469"/>
                  </a:lnTo>
                  <a:lnTo>
                    <a:pt x="142" y="462"/>
                  </a:lnTo>
                  <a:lnTo>
                    <a:pt x="129" y="455"/>
                  </a:lnTo>
                  <a:lnTo>
                    <a:pt x="117" y="448"/>
                  </a:lnTo>
                  <a:lnTo>
                    <a:pt x="106" y="441"/>
                  </a:lnTo>
                  <a:lnTo>
                    <a:pt x="94" y="433"/>
                  </a:lnTo>
                  <a:lnTo>
                    <a:pt x="84" y="425"/>
                  </a:lnTo>
                  <a:lnTo>
                    <a:pt x="75" y="417"/>
                  </a:lnTo>
                  <a:lnTo>
                    <a:pt x="65" y="407"/>
                  </a:lnTo>
                  <a:lnTo>
                    <a:pt x="57" y="398"/>
                  </a:lnTo>
                  <a:lnTo>
                    <a:pt x="49" y="389"/>
                  </a:lnTo>
                  <a:lnTo>
                    <a:pt x="42" y="379"/>
                  </a:lnTo>
                  <a:lnTo>
                    <a:pt x="35" y="370"/>
                  </a:lnTo>
                  <a:lnTo>
                    <a:pt x="29" y="359"/>
                  </a:lnTo>
                  <a:lnTo>
                    <a:pt x="23" y="350"/>
                  </a:lnTo>
                  <a:lnTo>
                    <a:pt x="18" y="340"/>
                  </a:lnTo>
                  <a:lnTo>
                    <a:pt x="10" y="320"/>
                  </a:lnTo>
                  <a:lnTo>
                    <a:pt x="4" y="299"/>
                  </a:lnTo>
                  <a:lnTo>
                    <a:pt x="1" y="278"/>
                  </a:lnTo>
                  <a:lnTo>
                    <a:pt x="0" y="257"/>
                  </a:lnTo>
                  <a:lnTo>
                    <a:pt x="1" y="237"/>
                  </a:lnTo>
                  <a:lnTo>
                    <a:pt x="3" y="218"/>
                  </a:lnTo>
                  <a:lnTo>
                    <a:pt x="7" y="208"/>
                  </a:lnTo>
                  <a:lnTo>
                    <a:pt x="9" y="198"/>
                  </a:lnTo>
                  <a:lnTo>
                    <a:pt x="13" y="190"/>
                  </a:lnTo>
                  <a:lnTo>
                    <a:pt x="17" y="181"/>
                  </a:lnTo>
                  <a:lnTo>
                    <a:pt x="25" y="163"/>
                  </a:lnTo>
                  <a:lnTo>
                    <a:pt x="36" y="147"/>
                  </a:lnTo>
                  <a:lnTo>
                    <a:pt x="46" y="131"/>
                  </a:lnTo>
                  <a:lnTo>
                    <a:pt x="58" y="114"/>
                  </a:lnTo>
                  <a:lnTo>
                    <a:pt x="80" y="83"/>
                  </a:lnTo>
                  <a:lnTo>
                    <a:pt x="104" y="56"/>
                  </a:lnTo>
                  <a:lnTo>
                    <a:pt x="124" y="32"/>
                  </a:lnTo>
                  <a:lnTo>
                    <a:pt x="140" y="15"/>
                  </a:lnTo>
                  <a:lnTo>
                    <a:pt x="150" y="3"/>
                  </a:lnTo>
                  <a:lnTo>
                    <a:pt x="155" y="0"/>
                  </a:lnTo>
                  <a:lnTo>
                    <a:pt x="300" y="4"/>
                  </a:lnTo>
                  <a:lnTo>
                    <a:pt x="447" y="9"/>
                  </a:lnTo>
                  <a:lnTo>
                    <a:pt x="597" y="13"/>
                  </a:lnTo>
                  <a:lnTo>
                    <a:pt x="749" y="17"/>
                  </a:lnTo>
                  <a:lnTo>
                    <a:pt x="903" y="21"/>
                  </a:lnTo>
                  <a:lnTo>
                    <a:pt x="1057" y="24"/>
                  </a:lnTo>
                  <a:lnTo>
                    <a:pt x="1213" y="27"/>
                  </a:lnTo>
                  <a:lnTo>
                    <a:pt x="1369" y="30"/>
                  </a:lnTo>
                  <a:lnTo>
                    <a:pt x="1525" y="32"/>
                  </a:lnTo>
                  <a:lnTo>
                    <a:pt x="1681" y="35"/>
                  </a:lnTo>
                  <a:lnTo>
                    <a:pt x="1835" y="37"/>
                  </a:lnTo>
                  <a:lnTo>
                    <a:pt x="1989" y="38"/>
                  </a:lnTo>
                  <a:lnTo>
                    <a:pt x="2141" y="39"/>
                  </a:lnTo>
                  <a:lnTo>
                    <a:pt x="2290" y="41"/>
                  </a:lnTo>
                  <a:lnTo>
                    <a:pt x="2439" y="42"/>
                  </a:lnTo>
                  <a:lnTo>
                    <a:pt x="2582" y="4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157"/>
            <p:cNvSpPr/>
            <p:nvPr/>
          </p:nvSpPr>
          <p:spPr>
            <a:xfrm>
              <a:off x="6879960" y="5550120"/>
              <a:ext cx="379440" cy="1728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502" h="1059">
                  <a:moveTo>
                    <a:pt x="0" y="1059"/>
                  </a:moveTo>
                  <a:lnTo>
                    <a:pt x="529" y="0"/>
                  </a:lnTo>
                  <a:lnTo>
                    <a:pt x="1871" y="37"/>
                  </a:lnTo>
                  <a:lnTo>
                    <a:pt x="2502" y="43"/>
                  </a:lnTo>
                  <a:lnTo>
                    <a:pt x="2235" y="1057"/>
                  </a:lnTo>
                  <a:lnTo>
                    <a:pt x="0" y="10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158"/>
            <p:cNvSpPr/>
            <p:nvPr/>
          </p:nvSpPr>
          <p:spPr>
            <a:xfrm>
              <a:off x="6879960" y="5550120"/>
              <a:ext cx="379440" cy="1728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502" h="1059">
                  <a:moveTo>
                    <a:pt x="0" y="1059"/>
                  </a:moveTo>
                  <a:lnTo>
                    <a:pt x="529" y="0"/>
                  </a:lnTo>
                  <a:lnTo>
                    <a:pt x="1871" y="37"/>
                  </a:lnTo>
                  <a:lnTo>
                    <a:pt x="2502" y="43"/>
                  </a:lnTo>
                  <a:lnTo>
                    <a:pt x="2235" y="1057"/>
                  </a:lnTo>
                  <a:lnTo>
                    <a:pt x="0" y="10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159"/>
            <p:cNvSpPr/>
            <p:nvPr/>
          </p:nvSpPr>
          <p:spPr>
            <a:xfrm>
              <a:off x="6881400" y="5761080"/>
              <a:ext cx="785520" cy="74232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5200" h="4545">
                  <a:moveTo>
                    <a:pt x="5200" y="2503"/>
                  </a:moveTo>
                  <a:lnTo>
                    <a:pt x="5184" y="1809"/>
                  </a:lnTo>
                  <a:lnTo>
                    <a:pt x="5164" y="1787"/>
                  </a:lnTo>
                  <a:lnTo>
                    <a:pt x="5146" y="1764"/>
                  </a:lnTo>
                  <a:lnTo>
                    <a:pt x="5136" y="1752"/>
                  </a:lnTo>
                  <a:lnTo>
                    <a:pt x="5128" y="1739"/>
                  </a:lnTo>
                  <a:lnTo>
                    <a:pt x="5120" y="1725"/>
                  </a:lnTo>
                  <a:lnTo>
                    <a:pt x="5112" y="1711"/>
                  </a:lnTo>
                  <a:lnTo>
                    <a:pt x="5103" y="1696"/>
                  </a:lnTo>
                  <a:lnTo>
                    <a:pt x="5096" y="1680"/>
                  </a:lnTo>
                  <a:lnTo>
                    <a:pt x="5089" y="1663"/>
                  </a:lnTo>
                  <a:lnTo>
                    <a:pt x="5082" y="1646"/>
                  </a:lnTo>
                  <a:lnTo>
                    <a:pt x="5071" y="1610"/>
                  </a:lnTo>
                  <a:lnTo>
                    <a:pt x="5059" y="1569"/>
                  </a:lnTo>
                  <a:lnTo>
                    <a:pt x="5050" y="1524"/>
                  </a:lnTo>
                  <a:lnTo>
                    <a:pt x="5040" y="1477"/>
                  </a:lnTo>
                  <a:lnTo>
                    <a:pt x="5033" y="1423"/>
                  </a:lnTo>
                  <a:lnTo>
                    <a:pt x="5028" y="1366"/>
                  </a:lnTo>
                  <a:lnTo>
                    <a:pt x="5023" y="1304"/>
                  </a:lnTo>
                  <a:lnTo>
                    <a:pt x="5019" y="1237"/>
                  </a:lnTo>
                  <a:lnTo>
                    <a:pt x="5017" y="1165"/>
                  </a:lnTo>
                  <a:lnTo>
                    <a:pt x="5017" y="1086"/>
                  </a:lnTo>
                  <a:lnTo>
                    <a:pt x="5004" y="1076"/>
                  </a:lnTo>
                  <a:lnTo>
                    <a:pt x="4988" y="1064"/>
                  </a:lnTo>
                  <a:lnTo>
                    <a:pt x="4969" y="1053"/>
                  </a:lnTo>
                  <a:lnTo>
                    <a:pt x="4947" y="1039"/>
                  </a:lnTo>
                  <a:lnTo>
                    <a:pt x="4922" y="1026"/>
                  </a:lnTo>
                  <a:lnTo>
                    <a:pt x="4896" y="1010"/>
                  </a:lnTo>
                  <a:lnTo>
                    <a:pt x="4866" y="996"/>
                  </a:lnTo>
                  <a:lnTo>
                    <a:pt x="4836" y="981"/>
                  </a:lnTo>
                  <a:lnTo>
                    <a:pt x="4769" y="951"/>
                  </a:lnTo>
                  <a:lnTo>
                    <a:pt x="4698" y="921"/>
                  </a:lnTo>
                  <a:lnTo>
                    <a:pt x="4623" y="891"/>
                  </a:lnTo>
                  <a:lnTo>
                    <a:pt x="4547" y="864"/>
                  </a:lnTo>
                  <a:lnTo>
                    <a:pt x="4509" y="852"/>
                  </a:lnTo>
                  <a:lnTo>
                    <a:pt x="4472" y="840"/>
                  </a:lnTo>
                  <a:lnTo>
                    <a:pt x="4434" y="828"/>
                  </a:lnTo>
                  <a:lnTo>
                    <a:pt x="4398" y="819"/>
                  </a:lnTo>
                  <a:lnTo>
                    <a:pt x="4363" y="810"/>
                  </a:lnTo>
                  <a:lnTo>
                    <a:pt x="4329" y="803"/>
                  </a:lnTo>
                  <a:lnTo>
                    <a:pt x="4296" y="797"/>
                  </a:lnTo>
                  <a:lnTo>
                    <a:pt x="4265" y="792"/>
                  </a:lnTo>
                  <a:lnTo>
                    <a:pt x="4236" y="789"/>
                  </a:lnTo>
                  <a:lnTo>
                    <a:pt x="4209" y="787"/>
                  </a:lnTo>
                  <a:lnTo>
                    <a:pt x="4184" y="787"/>
                  </a:lnTo>
                  <a:lnTo>
                    <a:pt x="4162" y="791"/>
                  </a:lnTo>
                  <a:lnTo>
                    <a:pt x="4142" y="794"/>
                  </a:lnTo>
                  <a:lnTo>
                    <a:pt x="4126" y="801"/>
                  </a:lnTo>
                  <a:lnTo>
                    <a:pt x="4113" y="810"/>
                  </a:lnTo>
                  <a:lnTo>
                    <a:pt x="4104" y="821"/>
                  </a:lnTo>
                  <a:lnTo>
                    <a:pt x="4080" y="856"/>
                  </a:lnTo>
                  <a:lnTo>
                    <a:pt x="4059" y="884"/>
                  </a:lnTo>
                  <a:lnTo>
                    <a:pt x="4049" y="896"/>
                  </a:lnTo>
                  <a:lnTo>
                    <a:pt x="4039" y="907"/>
                  </a:lnTo>
                  <a:lnTo>
                    <a:pt x="4031" y="916"/>
                  </a:lnTo>
                  <a:lnTo>
                    <a:pt x="4022" y="923"/>
                  </a:lnTo>
                  <a:lnTo>
                    <a:pt x="4014" y="930"/>
                  </a:lnTo>
                  <a:lnTo>
                    <a:pt x="4007" y="935"/>
                  </a:lnTo>
                  <a:lnTo>
                    <a:pt x="4000" y="939"/>
                  </a:lnTo>
                  <a:lnTo>
                    <a:pt x="3993" y="942"/>
                  </a:lnTo>
                  <a:lnTo>
                    <a:pt x="3986" y="944"/>
                  </a:lnTo>
                  <a:lnTo>
                    <a:pt x="3980" y="945"/>
                  </a:lnTo>
                  <a:lnTo>
                    <a:pt x="3974" y="945"/>
                  </a:lnTo>
                  <a:lnTo>
                    <a:pt x="3968" y="944"/>
                  </a:lnTo>
                  <a:lnTo>
                    <a:pt x="3963" y="943"/>
                  </a:lnTo>
                  <a:lnTo>
                    <a:pt x="3959" y="940"/>
                  </a:lnTo>
                  <a:lnTo>
                    <a:pt x="3954" y="937"/>
                  </a:lnTo>
                  <a:lnTo>
                    <a:pt x="3949" y="933"/>
                  </a:lnTo>
                  <a:lnTo>
                    <a:pt x="3942" y="925"/>
                  </a:lnTo>
                  <a:lnTo>
                    <a:pt x="3937" y="915"/>
                  </a:lnTo>
                  <a:lnTo>
                    <a:pt x="3931" y="903"/>
                  </a:lnTo>
                  <a:lnTo>
                    <a:pt x="3926" y="891"/>
                  </a:lnTo>
                  <a:lnTo>
                    <a:pt x="3922" y="880"/>
                  </a:lnTo>
                  <a:lnTo>
                    <a:pt x="3919" y="868"/>
                  </a:lnTo>
                  <a:lnTo>
                    <a:pt x="3917" y="862"/>
                  </a:lnTo>
                  <a:lnTo>
                    <a:pt x="3913" y="857"/>
                  </a:lnTo>
                  <a:lnTo>
                    <a:pt x="3907" y="854"/>
                  </a:lnTo>
                  <a:lnTo>
                    <a:pt x="3900" y="850"/>
                  </a:lnTo>
                  <a:lnTo>
                    <a:pt x="3893" y="848"/>
                  </a:lnTo>
                  <a:lnTo>
                    <a:pt x="3884" y="847"/>
                  </a:lnTo>
                  <a:lnTo>
                    <a:pt x="3873" y="846"/>
                  </a:lnTo>
                  <a:lnTo>
                    <a:pt x="3862" y="845"/>
                  </a:lnTo>
                  <a:lnTo>
                    <a:pt x="3837" y="845"/>
                  </a:lnTo>
                  <a:lnTo>
                    <a:pt x="3808" y="847"/>
                  </a:lnTo>
                  <a:lnTo>
                    <a:pt x="3778" y="850"/>
                  </a:lnTo>
                  <a:lnTo>
                    <a:pt x="3746" y="854"/>
                  </a:lnTo>
                  <a:lnTo>
                    <a:pt x="3680" y="863"/>
                  </a:lnTo>
                  <a:lnTo>
                    <a:pt x="3615" y="870"/>
                  </a:lnTo>
                  <a:lnTo>
                    <a:pt x="3586" y="873"/>
                  </a:lnTo>
                  <a:lnTo>
                    <a:pt x="3559" y="873"/>
                  </a:lnTo>
                  <a:lnTo>
                    <a:pt x="3546" y="873"/>
                  </a:lnTo>
                  <a:lnTo>
                    <a:pt x="3536" y="871"/>
                  </a:lnTo>
                  <a:lnTo>
                    <a:pt x="3525" y="870"/>
                  </a:lnTo>
                  <a:lnTo>
                    <a:pt x="3516" y="868"/>
                  </a:lnTo>
                  <a:lnTo>
                    <a:pt x="3500" y="861"/>
                  </a:lnTo>
                  <a:lnTo>
                    <a:pt x="3483" y="853"/>
                  </a:lnTo>
                  <a:lnTo>
                    <a:pt x="3467" y="845"/>
                  </a:lnTo>
                  <a:lnTo>
                    <a:pt x="3453" y="835"/>
                  </a:lnTo>
                  <a:lnTo>
                    <a:pt x="3439" y="825"/>
                  </a:lnTo>
                  <a:lnTo>
                    <a:pt x="3426" y="814"/>
                  </a:lnTo>
                  <a:lnTo>
                    <a:pt x="3414" y="804"/>
                  </a:lnTo>
                  <a:lnTo>
                    <a:pt x="3404" y="793"/>
                  </a:lnTo>
                  <a:lnTo>
                    <a:pt x="3372" y="758"/>
                  </a:lnTo>
                  <a:lnTo>
                    <a:pt x="3361" y="743"/>
                  </a:lnTo>
                  <a:lnTo>
                    <a:pt x="3356" y="748"/>
                  </a:lnTo>
                  <a:lnTo>
                    <a:pt x="3344" y="759"/>
                  </a:lnTo>
                  <a:lnTo>
                    <a:pt x="3335" y="766"/>
                  </a:lnTo>
                  <a:lnTo>
                    <a:pt x="3324" y="775"/>
                  </a:lnTo>
                  <a:lnTo>
                    <a:pt x="3313" y="783"/>
                  </a:lnTo>
                  <a:lnTo>
                    <a:pt x="3299" y="791"/>
                  </a:lnTo>
                  <a:lnTo>
                    <a:pt x="3284" y="799"/>
                  </a:lnTo>
                  <a:lnTo>
                    <a:pt x="3267" y="805"/>
                  </a:lnTo>
                  <a:lnTo>
                    <a:pt x="3250" y="811"/>
                  </a:lnTo>
                  <a:lnTo>
                    <a:pt x="3231" y="814"/>
                  </a:lnTo>
                  <a:lnTo>
                    <a:pt x="3220" y="815"/>
                  </a:lnTo>
                  <a:lnTo>
                    <a:pt x="3210" y="815"/>
                  </a:lnTo>
                  <a:lnTo>
                    <a:pt x="3201" y="815"/>
                  </a:lnTo>
                  <a:lnTo>
                    <a:pt x="3189" y="814"/>
                  </a:lnTo>
                  <a:lnTo>
                    <a:pt x="3178" y="813"/>
                  </a:lnTo>
                  <a:lnTo>
                    <a:pt x="3168" y="811"/>
                  </a:lnTo>
                  <a:lnTo>
                    <a:pt x="3156" y="808"/>
                  </a:lnTo>
                  <a:lnTo>
                    <a:pt x="3145" y="804"/>
                  </a:lnTo>
                  <a:lnTo>
                    <a:pt x="3122" y="794"/>
                  </a:lnTo>
                  <a:lnTo>
                    <a:pt x="3100" y="784"/>
                  </a:lnTo>
                  <a:lnTo>
                    <a:pt x="3079" y="771"/>
                  </a:lnTo>
                  <a:lnTo>
                    <a:pt x="3058" y="758"/>
                  </a:lnTo>
                  <a:lnTo>
                    <a:pt x="3016" y="730"/>
                  </a:lnTo>
                  <a:lnTo>
                    <a:pt x="2972" y="702"/>
                  </a:lnTo>
                  <a:lnTo>
                    <a:pt x="2947" y="688"/>
                  </a:lnTo>
                  <a:lnTo>
                    <a:pt x="2923" y="675"/>
                  </a:lnTo>
                  <a:lnTo>
                    <a:pt x="2896" y="665"/>
                  </a:lnTo>
                  <a:lnTo>
                    <a:pt x="2867" y="654"/>
                  </a:lnTo>
                  <a:lnTo>
                    <a:pt x="2851" y="650"/>
                  </a:lnTo>
                  <a:lnTo>
                    <a:pt x="2836" y="646"/>
                  </a:lnTo>
                  <a:lnTo>
                    <a:pt x="2820" y="643"/>
                  </a:lnTo>
                  <a:lnTo>
                    <a:pt x="2802" y="639"/>
                  </a:lnTo>
                  <a:lnTo>
                    <a:pt x="2785" y="637"/>
                  </a:lnTo>
                  <a:lnTo>
                    <a:pt x="2766" y="636"/>
                  </a:lnTo>
                  <a:lnTo>
                    <a:pt x="2747" y="634"/>
                  </a:lnTo>
                  <a:lnTo>
                    <a:pt x="2726" y="634"/>
                  </a:lnTo>
                  <a:lnTo>
                    <a:pt x="2759" y="47"/>
                  </a:lnTo>
                  <a:lnTo>
                    <a:pt x="1857" y="0"/>
                  </a:lnTo>
                  <a:lnTo>
                    <a:pt x="1399" y="1533"/>
                  </a:lnTo>
                  <a:lnTo>
                    <a:pt x="8" y="1501"/>
                  </a:lnTo>
                  <a:lnTo>
                    <a:pt x="0" y="1668"/>
                  </a:lnTo>
                  <a:lnTo>
                    <a:pt x="503" y="2350"/>
                  </a:lnTo>
                  <a:lnTo>
                    <a:pt x="472" y="2566"/>
                  </a:lnTo>
                  <a:lnTo>
                    <a:pt x="904" y="3030"/>
                  </a:lnTo>
                  <a:lnTo>
                    <a:pt x="1091" y="2938"/>
                  </a:lnTo>
                  <a:lnTo>
                    <a:pt x="1307" y="2598"/>
                  </a:lnTo>
                  <a:lnTo>
                    <a:pt x="1318" y="2597"/>
                  </a:lnTo>
                  <a:lnTo>
                    <a:pt x="1348" y="2593"/>
                  </a:lnTo>
                  <a:lnTo>
                    <a:pt x="1392" y="2589"/>
                  </a:lnTo>
                  <a:lnTo>
                    <a:pt x="1446" y="2583"/>
                  </a:lnTo>
                  <a:lnTo>
                    <a:pt x="1507" y="2577"/>
                  </a:lnTo>
                  <a:lnTo>
                    <a:pt x="1569" y="2572"/>
                  </a:lnTo>
                  <a:lnTo>
                    <a:pt x="1627" y="2568"/>
                  </a:lnTo>
                  <a:lnTo>
                    <a:pt x="1679" y="2566"/>
                  </a:lnTo>
                  <a:lnTo>
                    <a:pt x="1725" y="2568"/>
                  </a:lnTo>
                  <a:lnTo>
                    <a:pt x="1773" y="2570"/>
                  </a:lnTo>
                  <a:lnTo>
                    <a:pt x="1798" y="2572"/>
                  </a:lnTo>
                  <a:lnTo>
                    <a:pt x="1821" y="2577"/>
                  </a:lnTo>
                  <a:lnTo>
                    <a:pt x="1844" y="2582"/>
                  </a:lnTo>
                  <a:lnTo>
                    <a:pt x="1867" y="2590"/>
                  </a:lnTo>
                  <a:lnTo>
                    <a:pt x="1877" y="2594"/>
                  </a:lnTo>
                  <a:lnTo>
                    <a:pt x="1888" y="2599"/>
                  </a:lnTo>
                  <a:lnTo>
                    <a:pt x="1897" y="2605"/>
                  </a:lnTo>
                  <a:lnTo>
                    <a:pt x="1907" y="2612"/>
                  </a:lnTo>
                  <a:lnTo>
                    <a:pt x="1917" y="2619"/>
                  </a:lnTo>
                  <a:lnTo>
                    <a:pt x="1925" y="2627"/>
                  </a:lnTo>
                  <a:lnTo>
                    <a:pt x="1934" y="2635"/>
                  </a:lnTo>
                  <a:lnTo>
                    <a:pt x="1943" y="2645"/>
                  </a:lnTo>
                  <a:lnTo>
                    <a:pt x="1950" y="2655"/>
                  </a:lnTo>
                  <a:lnTo>
                    <a:pt x="1957" y="2666"/>
                  </a:lnTo>
                  <a:lnTo>
                    <a:pt x="1964" y="2677"/>
                  </a:lnTo>
                  <a:lnTo>
                    <a:pt x="1969" y="2690"/>
                  </a:lnTo>
                  <a:lnTo>
                    <a:pt x="1974" y="2704"/>
                  </a:lnTo>
                  <a:lnTo>
                    <a:pt x="1980" y="2718"/>
                  </a:lnTo>
                  <a:lnTo>
                    <a:pt x="1983" y="2735"/>
                  </a:lnTo>
                  <a:lnTo>
                    <a:pt x="1987" y="2751"/>
                  </a:lnTo>
                  <a:lnTo>
                    <a:pt x="1993" y="2788"/>
                  </a:lnTo>
                  <a:lnTo>
                    <a:pt x="1997" y="2830"/>
                  </a:lnTo>
                  <a:lnTo>
                    <a:pt x="2004" y="2876"/>
                  </a:lnTo>
                  <a:lnTo>
                    <a:pt x="2011" y="2926"/>
                  </a:lnTo>
                  <a:lnTo>
                    <a:pt x="2021" y="2977"/>
                  </a:lnTo>
                  <a:lnTo>
                    <a:pt x="2034" y="3032"/>
                  </a:lnTo>
                  <a:lnTo>
                    <a:pt x="2041" y="3060"/>
                  </a:lnTo>
                  <a:lnTo>
                    <a:pt x="2049" y="3088"/>
                  </a:lnTo>
                  <a:lnTo>
                    <a:pt x="2058" y="3116"/>
                  </a:lnTo>
                  <a:lnTo>
                    <a:pt x="2069" y="3146"/>
                  </a:lnTo>
                  <a:lnTo>
                    <a:pt x="2080" y="3175"/>
                  </a:lnTo>
                  <a:lnTo>
                    <a:pt x="2092" y="3204"/>
                  </a:lnTo>
                  <a:lnTo>
                    <a:pt x="2107" y="3233"/>
                  </a:lnTo>
                  <a:lnTo>
                    <a:pt x="2122" y="3263"/>
                  </a:lnTo>
                  <a:lnTo>
                    <a:pt x="2139" y="3292"/>
                  </a:lnTo>
                  <a:lnTo>
                    <a:pt x="2157" y="3321"/>
                  </a:lnTo>
                  <a:lnTo>
                    <a:pt x="2178" y="3349"/>
                  </a:lnTo>
                  <a:lnTo>
                    <a:pt x="2201" y="3377"/>
                  </a:lnTo>
                  <a:lnTo>
                    <a:pt x="2224" y="3405"/>
                  </a:lnTo>
                  <a:lnTo>
                    <a:pt x="2250" y="3433"/>
                  </a:lnTo>
                  <a:lnTo>
                    <a:pt x="2278" y="3460"/>
                  </a:lnTo>
                  <a:lnTo>
                    <a:pt x="2308" y="3487"/>
                  </a:lnTo>
                  <a:lnTo>
                    <a:pt x="2340" y="3512"/>
                  </a:lnTo>
                  <a:lnTo>
                    <a:pt x="2375" y="3538"/>
                  </a:lnTo>
                  <a:lnTo>
                    <a:pt x="2411" y="3563"/>
                  </a:lnTo>
                  <a:lnTo>
                    <a:pt x="2451" y="3586"/>
                  </a:lnTo>
                  <a:lnTo>
                    <a:pt x="2606" y="4050"/>
                  </a:lnTo>
                  <a:lnTo>
                    <a:pt x="3099" y="4545"/>
                  </a:lnTo>
                  <a:lnTo>
                    <a:pt x="3563" y="4545"/>
                  </a:lnTo>
                  <a:lnTo>
                    <a:pt x="3562" y="4528"/>
                  </a:lnTo>
                  <a:lnTo>
                    <a:pt x="3562" y="4478"/>
                  </a:lnTo>
                  <a:lnTo>
                    <a:pt x="3560" y="4406"/>
                  </a:lnTo>
                  <a:lnTo>
                    <a:pt x="3558" y="4316"/>
                  </a:lnTo>
                  <a:lnTo>
                    <a:pt x="3555" y="4217"/>
                  </a:lnTo>
                  <a:lnTo>
                    <a:pt x="3549" y="4114"/>
                  </a:lnTo>
                  <a:lnTo>
                    <a:pt x="3545" y="4064"/>
                  </a:lnTo>
                  <a:lnTo>
                    <a:pt x="3541" y="4015"/>
                  </a:lnTo>
                  <a:lnTo>
                    <a:pt x="3536" y="3969"/>
                  </a:lnTo>
                  <a:lnTo>
                    <a:pt x="3530" y="3926"/>
                  </a:lnTo>
                  <a:lnTo>
                    <a:pt x="3529" y="3905"/>
                  </a:lnTo>
                  <a:lnTo>
                    <a:pt x="3530" y="3883"/>
                  </a:lnTo>
                  <a:lnTo>
                    <a:pt x="3534" y="3861"/>
                  </a:lnTo>
                  <a:lnTo>
                    <a:pt x="3538" y="3836"/>
                  </a:lnTo>
                  <a:lnTo>
                    <a:pt x="3546" y="3811"/>
                  </a:lnTo>
                  <a:lnTo>
                    <a:pt x="3555" y="3786"/>
                  </a:lnTo>
                  <a:lnTo>
                    <a:pt x="3566" y="3759"/>
                  </a:lnTo>
                  <a:lnTo>
                    <a:pt x="3579" y="3732"/>
                  </a:lnTo>
                  <a:lnTo>
                    <a:pt x="3593" y="3705"/>
                  </a:lnTo>
                  <a:lnTo>
                    <a:pt x="3608" y="3677"/>
                  </a:lnTo>
                  <a:lnTo>
                    <a:pt x="3626" y="3649"/>
                  </a:lnTo>
                  <a:lnTo>
                    <a:pt x="3643" y="3621"/>
                  </a:lnTo>
                  <a:lnTo>
                    <a:pt x="3663" y="3593"/>
                  </a:lnTo>
                  <a:lnTo>
                    <a:pt x="3683" y="3565"/>
                  </a:lnTo>
                  <a:lnTo>
                    <a:pt x="3703" y="3537"/>
                  </a:lnTo>
                  <a:lnTo>
                    <a:pt x="3725" y="3509"/>
                  </a:lnTo>
                  <a:lnTo>
                    <a:pt x="3747" y="3482"/>
                  </a:lnTo>
                  <a:lnTo>
                    <a:pt x="3769" y="3455"/>
                  </a:lnTo>
                  <a:lnTo>
                    <a:pt x="3792" y="3430"/>
                  </a:lnTo>
                  <a:lnTo>
                    <a:pt x="3815" y="3404"/>
                  </a:lnTo>
                  <a:lnTo>
                    <a:pt x="3861" y="3355"/>
                  </a:lnTo>
                  <a:lnTo>
                    <a:pt x="3905" y="3310"/>
                  </a:lnTo>
                  <a:lnTo>
                    <a:pt x="3948" y="3270"/>
                  </a:lnTo>
                  <a:lnTo>
                    <a:pt x="3989" y="3236"/>
                  </a:lnTo>
                  <a:lnTo>
                    <a:pt x="4008" y="3220"/>
                  </a:lnTo>
                  <a:lnTo>
                    <a:pt x="4025" y="3206"/>
                  </a:lnTo>
                  <a:lnTo>
                    <a:pt x="4043" y="3196"/>
                  </a:lnTo>
                  <a:lnTo>
                    <a:pt x="4058" y="3185"/>
                  </a:lnTo>
                  <a:lnTo>
                    <a:pt x="4092" y="3167"/>
                  </a:lnTo>
                  <a:lnTo>
                    <a:pt x="4137" y="3145"/>
                  </a:lnTo>
                  <a:lnTo>
                    <a:pt x="4190" y="3119"/>
                  </a:lnTo>
                  <a:lnTo>
                    <a:pt x="4250" y="3092"/>
                  </a:lnTo>
                  <a:lnTo>
                    <a:pt x="4313" y="3063"/>
                  </a:lnTo>
                  <a:lnTo>
                    <a:pt x="4379" y="3034"/>
                  </a:lnTo>
                  <a:lnTo>
                    <a:pt x="4446" y="3002"/>
                  </a:lnTo>
                  <a:lnTo>
                    <a:pt x="4511" y="2970"/>
                  </a:lnTo>
                  <a:lnTo>
                    <a:pt x="4574" y="2939"/>
                  </a:lnTo>
                  <a:lnTo>
                    <a:pt x="4632" y="2907"/>
                  </a:lnTo>
                  <a:lnTo>
                    <a:pt x="4658" y="2892"/>
                  </a:lnTo>
                  <a:lnTo>
                    <a:pt x="4683" y="2877"/>
                  </a:lnTo>
                  <a:lnTo>
                    <a:pt x="4705" y="2863"/>
                  </a:lnTo>
                  <a:lnTo>
                    <a:pt x="4725" y="2848"/>
                  </a:lnTo>
                  <a:lnTo>
                    <a:pt x="4741" y="2834"/>
                  </a:lnTo>
                  <a:lnTo>
                    <a:pt x="4757" y="2821"/>
                  </a:lnTo>
                  <a:lnTo>
                    <a:pt x="4767" y="2807"/>
                  </a:lnTo>
                  <a:lnTo>
                    <a:pt x="4775" y="2795"/>
                  </a:lnTo>
                  <a:lnTo>
                    <a:pt x="4780" y="2782"/>
                  </a:lnTo>
                  <a:lnTo>
                    <a:pt x="4780" y="2772"/>
                  </a:lnTo>
                  <a:lnTo>
                    <a:pt x="4776" y="2761"/>
                  </a:lnTo>
                  <a:lnTo>
                    <a:pt x="4769" y="2751"/>
                  </a:lnTo>
                  <a:lnTo>
                    <a:pt x="4741" y="2725"/>
                  </a:lnTo>
                  <a:lnTo>
                    <a:pt x="4718" y="2699"/>
                  </a:lnTo>
                  <a:lnTo>
                    <a:pt x="4698" y="2676"/>
                  </a:lnTo>
                  <a:lnTo>
                    <a:pt x="4682" y="2654"/>
                  </a:lnTo>
                  <a:lnTo>
                    <a:pt x="4669" y="2633"/>
                  </a:lnTo>
                  <a:lnTo>
                    <a:pt x="4658" y="2613"/>
                  </a:lnTo>
                  <a:lnTo>
                    <a:pt x="4651" y="2594"/>
                  </a:lnTo>
                  <a:lnTo>
                    <a:pt x="4647" y="2578"/>
                  </a:lnTo>
                  <a:lnTo>
                    <a:pt x="4644" y="2562"/>
                  </a:lnTo>
                  <a:lnTo>
                    <a:pt x="4644" y="2548"/>
                  </a:lnTo>
                  <a:lnTo>
                    <a:pt x="4648" y="2536"/>
                  </a:lnTo>
                  <a:lnTo>
                    <a:pt x="4653" y="2524"/>
                  </a:lnTo>
                  <a:lnTo>
                    <a:pt x="4660" y="2515"/>
                  </a:lnTo>
                  <a:lnTo>
                    <a:pt x="4669" y="2508"/>
                  </a:lnTo>
                  <a:lnTo>
                    <a:pt x="4679" y="2501"/>
                  </a:lnTo>
                  <a:lnTo>
                    <a:pt x="4691" y="2497"/>
                  </a:lnTo>
                  <a:lnTo>
                    <a:pt x="4705" y="2495"/>
                  </a:lnTo>
                  <a:lnTo>
                    <a:pt x="4720" y="2494"/>
                  </a:lnTo>
                  <a:lnTo>
                    <a:pt x="4736" y="2495"/>
                  </a:lnTo>
                  <a:lnTo>
                    <a:pt x="4753" y="2497"/>
                  </a:lnTo>
                  <a:lnTo>
                    <a:pt x="4771" y="2502"/>
                  </a:lnTo>
                  <a:lnTo>
                    <a:pt x="4789" y="2509"/>
                  </a:lnTo>
                  <a:lnTo>
                    <a:pt x="4809" y="2518"/>
                  </a:lnTo>
                  <a:lnTo>
                    <a:pt x="4829" y="2529"/>
                  </a:lnTo>
                  <a:lnTo>
                    <a:pt x="4849" y="2542"/>
                  </a:lnTo>
                  <a:lnTo>
                    <a:pt x="4869" y="2556"/>
                  </a:lnTo>
                  <a:lnTo>
                    <a:pt x="4890" y="2573"/>
                  </a:lnTo>
                  <a:lnTo>
                    <a:pt x="4910" y="2592"/>
                  </a:lnTo>
                  <a:lnTo>
                    <a:pt x="4929" y="2613"/>
                  </a:lnTo>
                  <a:lnTo>
                    <a:pt x="4948" y="2636"/>
                  </a:lnTo>
                  <a:lnTo>
                    <a:pt x="4967" y="2662"/>
                  </a:lnTo>
                  <a:lnTo>
                    <a:pt x="4985" y="2690"/>
                  </a:lnTo>
                  <a:lnTo>
                    <a:pt x="5200" y="25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160"/>
            <p:cNvSpPr/>
            <p:nvPr/>
          </p:nvSpPr>
          <p:spPr>
            <a:xfrm>
              <a:off x="6881400" y="5761080"/>
              <a:ext cx="785520" cy="74232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5200" h="4545">
                  <a:moveTo>
                    <a:pt x="5200" y="2503"/>
                  </a:moveTo>
                  <a:lnTo>
                    <a:pt x="5184" y="1809"/>
                  </a:lnTo>
                  <a:lnTo>
                    <a:pt x="5164" y="1787"/>
                  </a:lnTo>
                  <a:lnTo>
                    <a:pt x="5146" y="1764"/>
                  </a:lnTo>
                  <a:lnTo>
                    <a:pt x="5136" y="1752"/>
                  </a:lnTo>
                  <a:lnTo>
                    <a:pt x="5128" y="1739"/>
                  </a:lnTo>
                  <a:lnTo>
                    <a:pt x="5120" y="1725"/>
                  </a:lnTo>
                  <a:lnTo>
                    <a:pt x="5112" y="1711"/>
                  </a:lnTo>
                  <a:lnTo>
                    <a:pt x="5103" y="1696"/>
                  </a:lnTo>
                  <a:lnTo>
                    <a:pt x="5096" y="1680"/>
                  </a:lnTo>
                  <a:lnTo>
                    <a:pt x="5089" y="1663"/>
                  </a:lnTo>
                  <a:lnTo>
                    <a:pt x="5082" y="1646"/>
                  </a:lnTo>
                  <a:lnTo>
                    <a:pt x="5071" y="1610"/>
                  </a:lnTo>
                  <a:lnTo>
                    <a:pt x="5059" y="1569"/>
                  </a:lnTo>
                  <a:lnTo>
                    <a:pt x="5050" y="1524"/>
                  </a:lnTo>
                  <a:lnTo>
                    <a:pt x="5040" y="1477"/>
                  </a:lnTo>
                  <a:lnTo>
                    <a:pt x="5033" y="1423"/>
                  </a:lnTo>
                  <a:lnTo>
                    <a:pt x="5028" y="1366"/>
                  </a:lnTo>
                  <a:lnTo>
                    <a:pt x="5023" y="1304"/>
                  </a:lnTo>
                  <a:lnTo>
                    <a:pt x="5019" y="1237"/>
                  </a:lnTo>
                  <a:lnTo>
                    <a:pt x="5017" y="1165"/>
                  </a:lnTo>
                  <a:lnTo>
                    <a:pt x="5017" y="1086"/>
                  </a:lnTo>
                  <a:lnTo>
                    <a:pt x="5004" y="1076"/>
                  </a:lnTo>
                  <a:lnTo>
                    <a:pt x="4988" y="1064"/>
                  </a:lnTo>
                  <a:lnTo>
                    <a:pt x="4969" y="1053"/>
                  </a:lnTo>
                  <a:lnTo>
                    <a:pt x="4947" y="1039"/>
                  </a:lnTo>
                  <a:lnTo>
                    <a:pt x="4922" y="1026"/>
                  </a:lnTo>
                  <a:lnTo>
                    <a:pt x="4896" y="1010"/>
                  </a:lnTo>
                  <a:lnTo>
                    <a:pt x="4866" y="996"/>
                  </a:lnTo>
                  <a:lnTo>
                    <a:pt x="4836" y="981"/>
                  </a:lnTo>
                  <a:lnTo>
                    <a:pt x="4769" y="951"/>
                  </a:lnTo>
                  <a:lnTo>
                    <a:pt x="4698" y="921"/>
                  </a:lnTo>
                  <a:lnTo>
                    <a:pt x="4623" y="891"/>
                  </a:lnTo>
                  <a:lnTo>
                    <a:pt x="4547" y="864"/>
                  </a:lnTo>
                  <a:lnTo>
                    <a:pt x="4509" y="852"/>
                  </a:lnTo>
                  <a:lnTo>
                    <a:pt x="4472" y="840"/>
                  </a:lnTo>
                  <a:lnTo>
                    <a:pt x="4434" y="828"/>
                  </a:lnTo>
                  <a:lnTo>
                    <a:pt x="4398" y="819"/>
                  </a:lnTo>
                  <a:lnTo>
                    <a:pt x="4363" y="810"/>
                  </a:lnTo>
                  <a:lnTo>
                    <a:pt x="4329" y="803"/>
                  </a:lnTo>
                  <a:lnTo>
                    <a:pt x="4296" y="797"/>
                  </a:lnTo>
                  <a:lnTo>
                    <a:pt x="4265" y="792"/>
                  </a:lnTo>
                  <a:lnTo>
                    <a:pt x="4236" y="789"/>
                  </a:lnTo>
                  <a:lnTo>
                    <a:pt x="4209" y="787"/>
                  </a:lnTo>
                  <a:lnTo>
                    <a:pt x="4184" y="787"/>
                  </a:lnTo>
                  <a:lnTo>
                    <a:pt x="4162" y="791"/>
                  </a:lnTo>
                  <a:lnTo>
                    <a:pt x="4142" y="794"/>
                  </a:lnTo>
                  <a:lnTo>
                    <a:pt x="4126" y="801"/>
                  </a:lnTo>
                  <a:lnTo>
                    <a:pt x="4113" y="810"/>
                  </a:lnTo>
                  <a:lnTo>
                    <a:pt x="4104" y="821"/>
                  </a:lnTo>
                  <a:lnTo>
                    <a:pt x="4080" y="856"/>
                  </a:lnTo>
                  <a:lnTo>
                    <a:pt x="4059" y="884"/>
                  </a:lnTo>
                  <a:lnTo>
                    <a:pt x="4049" y="896"/>
                  </a:lnTo>
                  <a:lnTo>
                    <a:pt x="4039" y="907"/>
                  </a:lnTo>
                  <a:lnTo>
                    <a:pt x="4031" y="916"/>
                  </a:lnTo>
                  <a:lnTo>
                    <a:pt x="4022" y="923"/>
                  </a:lnTo>
                  <a:lnTo>
                    <a:pt x="4014" y="930"/>
                  </a:lnTo>
                  <a:lnTo>
                    <a:pt x="4007" y="935"/>
                  </a:lnTo>
                  <a:lnTo>
                    <a:pt x="4000" y="939"/>
                  </a:lnTo>
                  <a:lnTo>
                    <a:pt x="3993" y="942"/>
                  </a:lnTo>
                  <a:lnTo>
                    <a:pt x="3986" y="944"/>
                  </a:lnTo>
                  <a:lnTo>
                    <a:pt x="3980" y="945"/>
                  </a:lnTo>
                  <a:lnTo>
                    <a:pt x="3974" y="945"/>
                  </a:lnTo>
                  <a:lnTo>
                    <a:pt x="3968" y="944"/>
                  </a:lnTo>
                  <a:lnTo>
                    <a:pt x="3963" y="943"/>
                  </a:lnTo>
                  <a:lnTo>
                    <a:pt x="3959" y="940"/>
                  </a:lnTo>
                  <a:lnTo>
                    <a:pt x="3954" y="937"/>
                  </a:lnTo>
                  <a:lnTo>
                    <a:pt x="3949" y="933"/>
                  </a:lnTo>
                  <a:lnTo>
                    <a:pt x="3942" y="925"/>
                  </a:lnTo>
                  <a:lnTo>
                    <a:pt x="3937" y="915"/>
                  </a:lnTo>
                  <a:lnTo>
                    <a:pt x="3931" y="903"/>
                  </a:lnTo>
                  <a:lnTo>
                    <a:pt x="3926" y="891"/>
                  </a:lnTo>
                  <a:lnTo>
                    <a:pt x="3922" y="880"/>
                  </a:lnTo>
                  <a:lnTo>
                    <a:pt x="3919" y="868"/>
                  </a:lnTo>
                  <a:lnTo>
                    <a:pt x="3917" y="862"/>
                  </a:lnTo>
                  <a:lnTo>
                    <a:pt x="3913" y="857"/>
                  </a:lnTo>
                  <a:lnTo>
                    <a:pt x="3907" y="854"/>
                  </a:lnTo>
                  <a:lnTo>
                    <a:pt x="3900" y="850"/>
                  </a:lnTo>
                  <a:lnTo>
                    <a:pt x="3893" y="848"/>
                  </a:lnTo>
                  <a:lnTo>
                    <a:pt x="3884" y="847"/>
                  </a:lnTo>
                  <a:lnTo>
                    <a:pt x="3873" y="846"/>
                  </a:lnTo>
                  <a:lnTo>
                    <a:pt x="3862" y="845"/>
                  </a:lnTo>
                  <a:lnTo>
                    <a:pt x="3837" y="845"/>
                  </a:lnTo>
                  <a:lnTo>
                    <a:pt x="3808" y="847"/>
                  </a:lnTo>
                  <a:lnTo>
                    <a:pt x="3778" y="850"/>
                  </a:lnTo>
                  <a:lnTo>
                    <a:pt x="3746" y="854"/>
                  </a:lnTo>
                  <a:lnTo>
                    <a:pt x="3680" y="863"/>
                  </a:lnTo>
                  <a:lnTo>
                    <a:pt x="3615" y="870"/>
                  </a:lnTo>
                  <a:lnTo>
                    <a:pt x="3586" y="873"/>
                  </a:lnTo>
                  <a:lnTo>
                    <a:pt x="3559" y="873"/>
                  </a:lnTo>
                  <a:lnTo>
                    <a:pt x="3546" y="873"/>
                  </a:lnTo>
                  <a:lnTo>
                    <a:pt x="3536" y="871"/>
                  </a:lnTo>
                  <a:lnTo>
                    <a:pt x="3525" y="870"/>
                  </a:lnTo>
                  <a:lnTo>
                    <a:pt x="3516" y="868"/>
                  </a:lnTo>
                  <a:lnTo>
                    <a:pt x="3500" y="861"/>
                  </a:lnTo>
                  <a:lnTo>
                    <a:pt x="3483" y="853"/>
                  </a:lnTo>
                  <a:lnTo>
                    <a:pt x="3467" y="845"/>
                  </a:lnTo>
                  <a:lnTo>
                    <a:pt x="3453" y="835"/>
                  </a:lnTo>
                  <a:lnTo>
                    <a:pt x="3439" y="825"/>
                  </a:lnTo>
                  <a:lnTo>
                    <a:pt x="3426" y="814"/>
                  </a:lnTo>
                  <a:lnTo>
                    <a:pt x="3414" y="804"/>
                  </a:lnTo>
                  <a:lnTo>
                    <a:pt x="3404" y="793"/>
                  </a:lnTo>
                  <a:lnTo>
                    <a:pt x="3372" y="758"/>
                  </a:lnTo>
                  <a:lnTo>
                    <a:pt x="3361" y="743"/>
                  </a:lnTo>
                  <a:lnTo>
                    <a:pt x="3356" y="748"/>
                  </a:lnTo>
                  <a:lnTo>
                    <a:pt x="3344" y="759"/>
                  </a:lnTo>
                  <a:lnTo>
                    <a:pt x="3335" y="766"/>
                  </a:lnTo>
                  <a:lnTo>
                    <a:pt x="3324" y="775"/>
                  </a:lnTo>
                  <a:lnTo>
                    <a:pt x="3313" y="783"/>
                  </a:lnTo>
                  <a:lnTo>
                    <a:pt x="3299" y="791"/>
                  </a:lnTo>
                  <a:lnTo>
                    <a:pt x="3284" y="799"/>
                  </a:lnTo>
                  <a:lnTo>
                    <a:pt x="3267" y="805"/>
                  </a:lnTo>
                  <a:lnTo>
                    <a:pt x="3250" y="811"/>
                  </a:lnTo>
                  <a:lnTo>
                    <a:pt x="3231" y="814"/>
                  </a:lnTo>
                  <a:lnTo>
                    <a:pt x="3220" y="815"/>
                  </a:lnTo>
                  <a:lnTo>
                    <a:pt x="3210" y="815"/>
                  </a:lnTo>
                  <a:lnTo>
                    <a:pt x="3201" y="815"/>
                  </a:lnTo>
                  <a:lnTo>
                    <a:pt x="3189" y="814"/>
                  </a:lnTo>
                  <a:lnTo>
                    <a:pt x="3178" y="813"/>
                  </a:lnTo>
                  <a:lnTo>
                    <a:pt x="3168" y="811"/>
                  </a:lnTo>
                  <a:lnTo>
                    <a:pt x="3156" y="808"/>
                  </a:lnTo>
                  <a:lnTo>
                    <a:pt x="3145" y="804"/>
                  </a:lnTo>
                  <a:lnTo>
                    <a:pt x="3122" y="794"/>
                  </a:lnTo>
                  <a:lnTo>
                    <a:pt x="3100" y="784"/>
                  </a:lnTo>
                  <a:lnTo>
                    <a:pt x="3079" y="771"/>
                  </a:lnTo>
                  <a:lnTo>
                    <a:pt x="3058" y="758"/>
                  </a:lnTo>
                  <a:lnTo>
                    <a:pt x="3016" y="730"/>
                  </a:lnTo>
                  <a:lnTo>
                    <a:pt x="2972" y="702"/>
                  </a:lnTo>
                  <a:lnTo>
                    <a:pt x="2947" y="688"/>
                  </a:lnTo>
                  <a:lnTo>
                    <a:pt x="2923" y="675"/>
                  </a:lnTo>
                  <a:lnTo>
                    <a:pt x="2896" y="665"/>
                  </a:lnTo>
                  <a:lnTo>
                    <a:pt x="2867" y="654"/>
                  </a:lnTo>
                  <a:lnTo>
                    <a:pt x="2851" y="650"/>
                  </a:lnTo>
                  <a:lnTo>
                    <a:pt x="2836" y="646"/>
                  </a:lnTo>
                  <a:lnTo>
                    <a:pt x="2820" y="643"/>
                  </a:lnTo>
                  <a:lnTo>
                    <a:pt x="2802" y="639"/>
                  </a:lnTo>
                  <a:lnTo>
                    <a:pt x="2785" y="637"/>
                  </a:lnTo>
                  <a:lnTo>
                    <a:pt x="2766" y="636"/>
                  </a:lnTo>
                  <a:lnTo>
                    <a:pt x="2747" y="634"/>
                  </a:lnTo>
                  <a:lnTo>
                    <a:pt x="2726" y="634"/>
                  </a:lnTo>
                  <a:lnTo>
                    <a:pt x="2759" y="47"/>
                  </a:lnTo>
                  <a:lnTo>
                    <a:pt x="1857" y="0"/>
                  </a:lnTo>
                  <a:lnTo>
                    <a:pt x="1399" y="1533"/>
                  </a:lnTo>
                  <a:lnTo>
                    <a:pt x="8" y="1501"/>
                  </a:lnTo>
                  <a:lnTo>
                    <a:pt x="0" y="1668"/>
                  </a:lnTo>
                  <a:lnTo>
                    <a:pt x="0" y="1668"/>
                  </a:lnTo>
                  <a:lnTo>
                    <a:pt x="503" y="2350"/>
                  </a:lnTo>
                  <a:lnTo>
                    <a:pt x="472" y="2566"/>
                  </a:lnTo>
                  <a:lnTo>
                    <a:pt x="904" y="3030"/>
                  </a:lnTo>
                  <a:lnTo>
                    <a:pt x="1091" y="2938"/>
                  </a:lnTo>
                  <a:lnTo>
                    <a:pt x="1307" y="2598"/>
                  </a:lnTo>
                  <a:lnTo>
                    <a:pt x="1318" y="2597"/>
                  </a:lnTo>
                  <a:lnTo>
                    <a:pt x="1348" y="2593"/>
                  </a:lnTo>
                  <a:lnTo>
                    <a:pt x="1392" y="2589"/>
                  </a:lnTo>
                  <a:lnTo>
                    <a:pt x="1446" y="2583"/>
                  </a:lnTo>
                  <a:lnTo>
                    <a:pt x="1507" y="2577"/>
                  </a:lnTo>
                  <a:lnTo>
                    <a:pt x="1569" y="2572"/>
                  </a:lnTo>
                  <a:lnTo>
                    <a:pt x="1627" y="2568"/>
                  </a:lnTo>
                  <a:lnTo>
                    <a:pt x="1679" y="2566"/>
                  </a:lnTo>
                  <a:lnTo>
                    <a:pt x="1725" y="2568"/>
                  </a:lnTo>
                  <a:lnTo>
                    <a:pt x="1773" y="2570"/>
                  </a:lnTo>
                  <a:lnTo>
                    <a:pt x="1798" y="2572"/>
                  </a:lnTo>
                  <a:lnTo>
                    <a:pt x="1821" y="2577"/>
                  </a:lnTo>
                  <a:lnTo>
                    <a:pt x="1844" y="2582"/>
                  </a:lnTo>
                  <a:lnTo>
                    <a:pt x="1867" y="2590"/>
                  </a:lnTo>
                  <a:lnTo>
                    <a:pt x="1877" y="2594"/>
                  </a:lnTo>
                  <a:lnTo>
                    <a:pt x="1888" y="2599"/>
                  </a:lnTo>
                  <a:lnTo>
                    <a:pt x="1897" y="2605"/>
                  </a:lnTo>
                  <a:lnTo>
                    <a:pt x="1907" y="2612"/>
                  </a:lnTo>
                  <a:lnTo>
                    <a:pt x="1917" y="2619"/>
                  </a:lnTo>
                  <a:lnTo>
                    <a:pt x="1925" y="2627"/>
                  </a:lnTo>
                  <a:lnTo>
                    <a:pt x="1934" y="2635"/>
                  </a:lnTo>
                  <a:lnTo>
                    <a:pt x="1943" y="2645"/>
                  </a:lnTo>
                  <a:lnTo>
                    <a:pt x="1950" y="2655"/>
                  </a:lnTo>
                  <a:lnTo>
                    <a:pt x="1957" y="2666"/>
                  </a:lnTo>
                  <a:lnTo>
                    <a:pt x="1964" y="2677"/>
                  </a:lnTo>
                  <a:lnTo>
                    <a:pt x="1969" y="2690"/>
                  </a:lnTo>
                  <a:lnTo>
                    <a:pt x="1974" y="2704"/>
                  </a:lnTo>
                  <a:lnTo>
                    <a:pt x="1980" y="2718"/>
                  </a:lnTo>
                  <a:lnTo>
                    <a:pt x="1983" y="2735"/>
                  </a:lnTo>
                  <a:lnTo>
                    <a:pt x="1987" y="2751"/>
                  </a:lnTo>
                  <a:lnTo>
                    <a:pt x="1993" y="2788"/>
                  </a:lnTo>
                  <a:lnTo>
                    <a:pt x="1997" y="2830"/>
                  </a:lnTo>
                  <a:lnTo>
                    <a:pt x="2004" y="2876"/>
                  </a:lnTo>
                  <a:lnTo>
                    <a:pt x="2011" y="2926"/>
                  </a:lnTo>
                  <a:lnTo>
                    <a:pt x="2021" y="2977"/>
                  </a:lnTo>
                  <a:lnTo>
                    <a:pt x="2034" y="3032"/>
                  </a:lnTo>
                  <a:lnTo>
                    <a:pt x="2041" y="3060"/>
                  </a:lnTo>
                  <a:lnTo>
                    <a:pt x="2049" y="3088"/>
                  </a:lnTo>
                  <a:lnTo>
                    <a:pt x="2058" y="3116"/>
                  </a:lnTo>
                  <a:lnTo>
                    <a:pt x="2069" y="3146"/>
                  </a:lnTo>
                  <a:lnTo>
                    <a:pt x="2080" y="3175"/>
                  </a:lnTo>
                  <a:lnTo>
                    <a:pt x="2092" y="3204"/>
                  </a:lnTo>
                  <a:lnTo>
                    <a:pt x="2107" y="3233"/>
                  </a:lnTo>
                  <a:lnTo>
                    <a:pt x="2122" y="3263"/>
                  </a:lnTo>
                  <a:lnTo>
                    <a:pt x="2139" y="3292"/>
                  </a:lnTo>
                  <a:lnTo>
                    <a:pt x="2157" y="3321"/>
                  </a:lnTo>
                  <a:lnTo>
                    <a:pt x="2178" y="3349"/>
                  </a:lnTo>
                  <a:lnTo>
                    <a:pt x="2201" y="3377"/>
                  </a:lnTo>
                  <a:lnTo>
                    <a:pt x="2224" y="3405"/>
                  </a:lnTo>
                  <a:lnTo>
                    <a:pt x="2250" y="3433"/>
                  </a:lnTo>
                  <a:lnTo>
                    <a:pt x="2278" y="3460"/>
                  </a:lnTo>
                  <a:lnTo>
                    <a:pt x="2308" y="3487"/>
                  </a:lnTo>
                  <a:lnTo>
                    <a:pt x="2340" y="3512"/>
                  </a:lnTo>
                  <a:lnTo>
                    <a:pt x="2375" y="3538"/>
                  </a:lnTo>
                  <a:lnTo>
                    <a:pt x="2411" y="3563"/>
                  </a:lnTo>
                  <a:lnTo>
                    <a:pt x="2451" y="3586"/>
                  </a:lnTo>
                  <a:lnTo>
                    <a:pt x="2606" y="4050"/>
                  </a:lnTo>
                  <a:lnTo>
                    <a:pt x="3099" y="4545"/>
                  </a:lnTo>
                  <a:lnTo>
                    <a:pt x="3563" y="4545"/>
                  </a:lnTo>
                  <a:lnTo>
                    <a:pt x="3562" y="4528"/>
                  </a:lnTo>
                  <a:lnTo>
                    <a:pt x="3562" y="4478"/>
                  </a:lnTo>
                  <a:lnTo>
                    <a:pt x="3560" y="4406"/>
                  </a:lnTo>
                  <a:lnTo>
                    <a:pt x="3558" y="4316"/>
                  </a:lnTo>
                  <a:lnTo>
                    <a:pt x="3555" y="4217"/>
                  </a:lnTo>
                  <a:lnTo>
                    <a:pt x="3549" y="4114"/>
                  </a:lnTo>
                  <a:lnTo>
                    <a:pt x="3545" y="4064"/>
                  </a:lnTo>
                  <a:lnTo>
                    <a:pt x="3541" y="4015"/>
                  </a:lnTo>
                  <a:lnTo>
                    <a:pt x="3536" y="3969"/>
                  </a:lnTo>
                  <a:lnTo>
                    <a:pt x="3530" y="3926"/>
                  </a:lnTo>
                  <a:lnTo>
                    <a:pt x="3529" y="3905"/>
                  </a:lnTo>
                  <a:lnTo>
                    <a:pt x="3530" y="3883"/>
                  </a:lnTo>
                  <a:lnTo>
                    <a:pt x="3534" y="3861"/>
                  </a:lnTo>
                  <a:lnTo>
                    <a:pt x="3538" y="3836"/>
                  </a:lnTo>
                  <a:lnTo>
                    <a:pt x="3546" y="3811"/>
                  </a:lnTo>
                  <a:lnTo>
                    <a:pt x="3555" y="3786"/>
                  </a:lnTo>
                  <a:lnTo>
                    <a:pt x="3566" y="3759"/>
                  </a:lnTo>
                  <a:lnTo>
                    <a:pt x="3579" y="3732"/>
                  </a:lnTo>
                  <a:lnTo>
                    <a:pt x="3593" y="3705"/>
                  </a:lnTo>
                  <a:lnTo>
                    <a:pt x="3608" y="3677"/>
                  </a:lnTo>
                  <a:lnTo>
                    <a:pt x="3626" y="3649"/>
                  </a:lnTo>
                  <a:lnTo>
                    <a:pt x="3643" y="3621"/>
                  </a:lnTo>
                  <a:lnTo>
                    <a:pt x="3663" y="3593"/>
                  </a:lnTo>
                  <a:lnTo>
                    <a:pt x="3683" y="3565"/>
                  </a:lnTo>
                  <a:lnTo>
                    <a:pt x="3703" y="3537"/>
                  </a:lnTo>
                  <a:lnTo>
                    <a:pt x="3725" y="3509"/>
                  </a:lnTo>
                  <a:lnTo>
                    <a:pt x="3747" y="3482"/>
                  </a:lnTo>
                  <a:lnTo>
                    <a:pt x="3769" y="3455"/>
                  </a:lnTo>
                  <a:lnTo>
                    <a:pt x="3792" y="3430"/>
                  </a:lnTo>
                  <a:lnTo>
                    <a:pt x="3815" y="3404"/>
                  </a:lnTo>
                  <a:lnTo>
                    <a:pt x="3861" y="3355"/>
                  </a:lnTo>
                  <a:lnTo>
                    <a:pt x="3905" y="3310"/>
                  </a:lnTo>
                  <a:lnTo>
                    <a:pt x="3948" y="3270"/>
                  </a:lnTo>
                  <a:lnTo>
                    <a:pt x="3989" y="3236"/>
                  </a:lnTo>
                  <a:lnTo>
                    <a:pt x="4008" y="3220"/>
                  </a:lnTo>
                  <a:lnTo>
                    <a:pt x="4025" y="3206"/>
                  </a:lnTo>
                  <a:lnTo>
                    <a:pt x="4043" y="3196"/>
                  </a:lnTo>
                  <a:lnTo>
                    <a:pt x="4058" y="3185"/>
                  </a:lnTo>
                  <a:lnTo>
                    <a:pt x="4092" y="3167"/>
                  </a:lnTo>
                  <a:lnTo>
                    <a:pt x="4137" y="3145"/>
                  </a:lnTo>
                  <a:lnTo>
                    <a:pt x="4190" y="3119"/>
                  </a:lnTo>
                  <a:lnTo>
                    <a:pt x="4250" y="3092"/>
                  </a:lnTo>
                  <a:lnTo>
                    <a:pt x="4313" y="3063"/>
                  </a:lnTo>
                  <a:lnTo>
                    <a:pt x="4379" y="3034"/>
                  </a:lnTo>
                  <a:lnTo>
                    <a:pt x="4446" y="3002"/>
                  </a:lnTo>
                  <a:lnTo>
                    <a:pt x="4511" y="2970"/>
                  </a:lnTo>
                  <a:lnTo>
                    <a:pt x="4574" y="2939"/>
                  </a:lnTo>
                  <a:lnTo>
                    <a:pt x="4632" y="2907"/>
                  </a:lnTo>
                  <a:lnTo>
                    <a:pt x="4658" y="2892"/>
                  </a:lnTo>
                  <a:lnTo>
                    <a:pt x="4683" y="2877"/>
                  </a:lnTo>
                  <a:lnTo>
                    <a:pt x="4705" y="2863"/>
                  </a:lnTo>
                  <a:lnTo>
                    <a:pt x="4725" y="2848"/>
                  </a:lnTo>
                  <a:lnTo>
                    <a:pt x="4741" y="2834"/>
                  </a:lnTo>
                  <a:lnTo>
                    <a:pt x="4757" y="2821"/>
                  </a:lnTo>
                  <a:lnTo>
                    <a:pt x="4767" y="2807"/>
                  </a:lnTo>
                  <a:lnTo>
                    <a:pt x="4775" y="2795"/>
                  </a:lnTo>
                  <a:lnTo>
                    <a:pt x="4780" y="2782"/>
                  </a:lnTo>
                  <a:lnTo>
                    <a:pt x="4780" y="2772"/>
                  </a:lnTo>
                  <a:lnTo>
                    <a:pt x="4776" y="2761"/>
                  </a:lnTo>
                  <a:lnTo>
                    <a:pt x="4769" y="2751"/>
                  </a:lnTo>
                  <a:lnTo>
                    <a:pt x="4741" y="2725"/>
                  </a:lnTo>
                  <a:lnTo>
                    <a:pt x="4718" y="2699"/>
                  </a:lnTo>
                  <a:lnTo>
                    <a:pt x="4698" y="2676"/>
                  </a:lnTo>
                  <a:lnTo>
                    <a:pt x="4682" y="2654"/>
                  </a:lnTo>
                  <a:lnTo>
                    <a:pt x="4669" y="2633"/>
                  </a:lnTo>
                  <a:lnTo>
                    <a:pt x="4658" y="2613"/>
                  </a:lnTo>
                  <a:lnTo>
                    <a:pt x="4651" y="2594"/>
                  </a:lnTo>
                  <a:lnTo>
                    <a:pt x="4647" y="2578"/>
                  </a:lnTo>
                  <a:lnTo>
                    <a:pt x="4644" y="2562"/>
                  </a:lnTo>
                  <a:lnTo>
                    <a:pt x="4644" y="2548"/>
                  </a:lnTo>
                  <a:lnTo>
                    <a:pt x="4648" y="2536"/>
                  </a:lnTo>
                  <a:lnTo>
                    <a:pt x="4653" y="2524"/>
                  </a:lnTo>
                  <a:lnTo>
                    <a:pt x="4660" y="2515"/>
                  </a:lnTo>
                  <a:lnTo>
                    <a:pt x="4669" y="2508"/>
                  </a:lnTo>
                  <a:lnTo>
                    <a:pt x="4679" y="2501"/>
                  </a:lnTo>
                  <a:lnTo>
                    <a:pt x="4691" y="2497"/>
                  </a:lnTo>
                  <a:lnTo>
                    <a:pt x="4705" y="2495"/>
                  </a:lnTo>
                  <a:lnTo>
                    <a:pt x="4720" y="2494"/>
                  </a:lnTo>
                  <a:lnTo>
                    <a:pt x="4736" y="2495"/>
                  </a:lnTo>
                  <a:lnTo>
                    <a:pt x="4753" y="2497"/>
                  </a:lnTo>
                  <a:lnTo>
                    <a:pt x="4771" y="2502"/>
                  </a:lnTo>
                  <a:lnTo>
                    <a:pt x="4789" y="2509"/>
                  </a:lnTo>
                  <a:lnTo>
                    <a:pt x="4809" y="2518"/>
                  </a:lnTo>
                  <a:lnTo>
                    <a:pt x="4829" y="2529"/>
                  </a:lnTo>
                  <a:lnTo>
                    <a:pt x="4849" y="2542"/>
                  </a:lnTo>
                  <a:lnTo>
                    <a:pt x="4869" y="2556"/>
                  </a:lnTo>
                  <a:lnTo>
                    <a:pt x="4890" y="2573"/>
                  </a:lnTo>
                  <a:lnTo>
                    <a:pt x="4910" y="2592"/>
                  </a:lnTo>
                  <a:lnTo>
                    <a:pt x="4929" y="2613"/>
                  </a:lnTo>
                  <a:lnTo>
                    <a:pt x="4948" y="2636"/>
                  </a:lnTo>
                  <a:lnTo>
                    <a:pt x="4967" y="2662"/>
                  </a:lnTo>
                  <a:lnTo>
                    <a:pt x="4985" y="2690"/>
                  </a:lnTo>
                  <a:lnTo>
                    <a:pt x="5200" y="25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161"/>
            <p:cNvSpPr/>
            <p:nvPr/>
          </p:nvSpPr>
          <p:spPr>
            <a:xfrm>
              <a:off x="7163280" y="5724360"/>
              <a:ext cx="429840" cy="19152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2848" h="1175">
                  <a:moveTo>
                    <a:pt x="2848" y="1152"/>
                  </a:moveTo>
                  <a:lnTo>
                    <a:pt x="2805" y="1135"/>
                  </a:lnTo>
                  <a:lnTo>
                    <a:pt x="2759" y="1118"/>
                  </a:lnTo>
                  <a:lnTo>
                    <a:pt x="2713" y="1101"/>
                  </a:lnTo>
                  <a:lnTo>
                    <a:pt x="2665" y="1085"/>
                  </a:lnTo>
                  <a:lnTo>
                    <a:pt x="2618" y="1070"/>
                  </a:lnTo>
                  <a:lnTo>
                    <a:pt x="2571" y="1056"/>
                  </a:lnTo>
                  <a:lnTo>
                    <a:pt x="2526" y="1044"/>
                  </a:lnTo>
                  <a:lnTo>
                    <a:pt x="2481" y="1034"/>
                  </a:lnTo>
                  <a:lnTo>
                    <a:pt x="2439" y="1026"/>
                  </a:lnTo>
                  <a:lnTo>
                    <a:pt x="2401" y="1020"/>
                  </a:lnTo>
                  <a:lnTo>
                    <a:pt x="2382" y="1017"/>
                  </a:lnTo>
                  <a:lnTo>
                    <a:pt x="2365" y="1016"/>
                  </a:lnTo>
                  <a:lnTo>
                    <a:pt x="2347" y="1016"/>
                  </a:lnTo>
                  <a:lnTo>
                    <a:pt x="2332" y="1016"/>
                  </a:lnTo>
                  <a:lnTo>
                    <a:pt x="2317" y="1017"/>
                  </a:lnTo>
                  <a:lnTo>
                    <a:pt x="2303" y="1020"/>
                  </a:lnTo>
                  <a:lnTo>
                    <a:pt x="2290" y="1022"/>
                  </a:lnTo>
                  <a:lnTo>
                    <a:pt x="2279" y="1027"/>
                  </a:lnTo>
                  <a:lnTo>
                    <a:pt x="2269" y="1031"/>
                  </a:lnTo>
                  <a:lnTo>
                    <a:pt x="2259" y="1037"/>
                  </a:lnTo>
                  <a:lnTo>
                    <a:pt x="2252" y="1043"/>
                  </a:lnTo>
                  <a:lnTo>
                    <a:pt x="2247" y="1051"/>
                  </a:lnTo>
                  <a:lnTo>
                    <a:pt x="2223" y="1086"/>
                  </a:lnTo>
                  <a:lnTo>
                    <a:pt x="2202" y="1114"/>
                  </a:lnTo>
                  <a:lnTo>
                    <a:pt x="2192" y="1126"/>
                  </a:lnTo>
                  <a:lnTo>
                    <a:pt x="2182" y="1137"/>
                  </a:lnTo>
                  <a:lnTo>
                    <a:pt x="2174" y="1146"/>
                  </a:lnTo>
                  <a:lnTo>
                    <a:pt x="2165" y="1153"/>
                  </a:lnTo>
                  <a:lnTo>
                    <a:pt x="2157" y="1160"/>
                  </a:lnTo>
                  <a:lnTo>
                    <a:pt x="2150" y="1165"/>
                  </a:lnTo>
                  <a:lnTo>
                    <a:pt x="2143" y="1169"/>
                  </a:lnTo>
                  <a:lnTo>
                    <a:pt x="2136" y="1172"/>
                  </a:lnTo>
                  <a:lnTo>
                    <a:pt x="2129" y="1174"/>
                  </a:lnTo>
                  <a:lnTo>
                    <a:pt x="2123" y="1175"/>
                  </a:lnTo>
                  <a:lnTo>
                    <a:pt x="2117" y="1175"/>
                  </a:lnTo>
                  <a:lnTo>
                    <a:pt x="2111" y="1174"/>
                  </a:lnTo>
                  <a:lnTo>
                    <a:pt x="2106" y="1173"/>
                  </a:lnTo>
                  <a:lnTo>
                    <a:pt x="2102" y="1170"/>
                  </a:lnTo>
                  <a:lnTo>
                    <a:pt x="2097" y="1167"/>
                  </a:lnTo>
                  <a:lnTo>
                    <a:pt x="2092" y="1163"/>
                  </a:lnTo>
                  <a:lnTo>
                    <a:pt x="2085" y="1155"/>
                  </a:lnTo>
                  <a:lnTo>
                    <a:pt x="2080" y="1145"/>
                  </a:lnTo>
                  <a:lnTo>
                    <a:pt x="2074" y="1133"/>
                  </a:lnTo>
                  <a:lnTo>
                    <a:pt x="2069" y="1121"/>
                  </a:lnTo>
                  <a:lnTo>
                    <a:pt x="2065" y="1110"/>
                  </a:lnTo>
                  <a:lnTo>
                    <a:pt x="2062" y="1098"/>
                  </a:lnTo>
                  <a:lnTo>
                    <a:pt x="2060" y="1092"/>
                  </a:lnTo>
                  <a:lnTo>
                    <a:pt x="2056" y="1087"/>
                  </a:lnTo>
                  <a:lnTo>
                    <a:pt x="2050" y="1084"/>
                  </a:lnTo>
                  <a:lnTo>
                    <a:pt x="2043" y="1080"/>
                  </a:lnTo>
                  <a:lnTo>
                    <a:pt x="2036" y="1078"/>
                  </a:lnTo>
                  <a:lnTo>
                    <a:pt x="2027" y="1077"/>
                  </a:lnTo>
                  <a:lnTo>
                    <a:pt x="2016" y="1076"/>
                  </a:lnTo>
                  <a:lnTo>
                    <a:pt x="2005" y="1075"/>
                  </a:lnTo>
                  <a:lnTo>
                    <a:pt x="1980" y="1075"/>
                  </a:lnTo>
                  <a:lnTo>
                    <a:pt x="1951" y="1077"/>
                  </a:lnTo>
                  <a:lnTo>
                    <a:pt x="1921" y="1080"/>
                  </a:lnTo>
                  <a:lnTo>
                    <a:pt x="1889" y="1084"/>
                  </a:lnTo>
                  <a:lnTo>
                    <a:pt x="1823" y="1093"/>
                  </a:lnTo>
                  <a:lnTo>
                    <a:pt x="1758" y="1100"/>
                  </a:lnTo>
                  <a:lnTo>
                    <a:pt x="1729" y="1103"/>
                  </a:lnTo>
                  <a:lnTo>
                    <a:pt x="1702" y="1103"/>
                  </a:lnTo>
                  <a:lnTo>
                    <a:pt x="1689" y="1103"/>
                  </a:lnTo>
                  <a:lnTo>
                    <a:pt x="1679" y="1101"/>
                  </a:lnTo>
                  <a:lnTo>
                    <a:pt x="1668" y="1100"/>
                  </a:lnTo>
                  <a:lnTo>
                    <a:pt x="1659" y="1098"/>
                  </a:lnTo>
                  <a:lnTo>
                    <a:pt x="1643" y="1091"/>
                  </a:lnTo>
                  <a:lnTo>
                    <a:pt x="1626" y="1083"/>
                  </a:lnTo>
                  <a:lnTo>
                    <a:pt x="1610" y="1075"/>
                  </a:lnTo>
                  <a:lnTo>
                    <a:pt x="1596" y="1065"/>
                  </a:lnTo>
                  <a:lnTo>
                    <a:pt x="1582" y="1055"/>
                  </a:lnTo>
                  <a:lnTo>
                    <a:pt x="1569" y="1044"/>
                  </a:lnTo>
                  <a:lnTo>
                    <a:pt x="1557" y="1034"/>
                  </a:lnTo>
                  <a:lnTo>
                    <a:pt x="1547" y="1023"/>
                  </a:lnTo>
                  <a:lnTo>
                    <a:pt x="1515" y="988"/>
                  </a:lnTo>
                  <a:lnTo>
                    <a:pt x="1504" y="973"/>
                  </a:lnTo>
                  <a:lnTo>
                    <a:pt x="1499" y="978"/>
                  </a:lnTo>
                  <a:lnTo>
                    <a:pt x="1487" y="989"/>
                  </a:lnTo>
                  <a:lnTo>
                    <a:pt x="1478" y="996"/>
                  </a:lnTo>
                  <a:lnTo>
                    <a:pt x="1467" y="1005"/>
                  </a:lnTo>
                  <a:lnTo>
                    <a:pt x="1456" y="1013"/>
                  </a:lnTo>
                  <a:lnTo>
                    <a:pt x="1442" y="1021"/>
                  </a:lnTo>
                  <a:lnTo>
                    <a:pt x="1427" y="1029"/>
                  </a:lnTo>
                  <a:lnTo>
                    <a:pt x="1410" y="1035"/>
                  </a:lnTo>
                  <a:lnTo>
                    <a:pt x="1393" y="1041"/>
                  </a:lnTo>
                  <a:lnTo>
                    <a:pt x="1374" y="1044"/>
                  </a:lnTo>
                  <a:lnTo>
                    <a:pt x="1363" y="1045"/>
                  </a:lnTo>
                  <a:lnTo>
                    <a:pt x="1353" y="1045"/>
                  </a:lnTo>
                  <a:lnTo>
                    <a:pt x="1344" y="1045"/>
                  </a:lnTo>
                  <a:lnTo>
                    <a:pt x="1332" y="1044"/>
                  </a:lnTo>
                  <a:lnTo>
                    <a:pt x="1321" y="1043"/>
                  </a:lnTo>
                  <a:lnTo>
                    <a:pt x="1311" y="1041"/>
                  </a:lnTo>
                  <a:lnTo>
                    <a:pt x="1299" y="1038"/>
                  </a:lnTo>
                  <a:lnTo>
                    <a:pt x="1288" y="1034"/>
                  </a:lnTo>
                  <a:lnTo>
                    <a:pt x="1265" y="1024"/>
                  </a:lnTo>
                  <a:lnTo>
                    <a:pt x="1243" y="1014"/>
                  </a:lnTo>
                  <a:lnTo>
                    <a:pt x="1222" y="1001"/>
                  </a:lnTo>
                  <a:lnTo>
                    <a:pt x="1201" y="988"/>
                  </a:lnTo>
                  <a:lnTo>
                    <a:pt x="1159" y="960"/>
                  </a:lnTo>
                  <a:lnTo>
                    <a:pt x="1115" y="932"/>
                  </a:lnTo>
                  <a:lnTo>
                    <a:pt x="1090" y="918"/>
                  </a:lnTo>
                  <a:lnTo>
                    <a:pt x="1066" y="905"/>
                  </a:lnTo>
                  <a:lnTo>
                    <a:pt x="1039" y="895"/>
                  </a:lnTo>
                  <a:lnTo>
                    <a:pt x="1010" y="884"/>
                  </a:lnTo>
                  <a:lnTo>
                    <a:pt x="994" y="880"/>
                  </a:lnTo>
                  <a:lnTo>
                    <a:pt x="979" y="876"/>
                  </a:lnTo>
                  <a:lnTo>
                    <a:pt x="963" y="873"/>
                  </a:lnTo>
                  <a:lnTo>
                    <a:pt x="945" y="869"/>
                  </a:lnTo>
                  <a:lnTo>
                    <a:pt x="928" y="867"/>
                  </a:lnTo>
                  <a:lnTo>
                    <a:pt x="909" y="866"/>
                  </a:lnTo>
                  <a:lnTo>
                    <a:pt x="890" y="864"/>
                  </a:lnTo>
                  <a:lnTo>
                    <a:pt x="869" y="864"/>
                  </a:lnTo>
                  <a:lnTo>
                    <a:pt x="902" y="277"/>
                  </a:lnTo>
                  <a:lnTo>
                    <a:pt x="0" y="230"/>
                  </a:lnTo>
                  <a:lnTo>
                    <a:pt x="69" y="0"/>
                  </a:lnTo>
                  <a:lnTo>
                    <a:pt x="2665" y="0"/>
                  </a:lnTo>
                  <a:lnTo>
                    <a:pt x="2842" y="424"/>
                  </a:lnTo>
                  <a:lnTo>
                    <a:pt x="2848" y="1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162"/>
            <p:cNvSpPr/>
            <p:nvPr/>
          </p:nvSpPr>
          <p:spPr>
            <a:xfrm>
              <a:off x="7163280" y="5724360"/>
              <a:ext cx="429840" cy="19152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2848" h="1175">
                  <a:moveTo>
                    <a:pt x="2848" y="1152"/>
                  </a:moveTo>
                  <a:lnTo>
                    <a:pt x="2805" y="1135"/>
                  </a:lnTo>
                  <a:lnTo>
                    <a:pt x="2759" y="1118"/>
                  </a:lnTo>
                  <a:lnTo>
                    <a:pt x="2713" y="1101"/>
                  </a:lnTo>
                  <a:lnTo>
                    <a:pt x="2665" y="1085"/>
                  </a:lnTo>
                  <a:lnTo>
                    <a:pt x="2618" y="1070"/>
                  </a:lnTo>
                  <a:lnTo>
                    <a:pt x="2571" y="1056"/>
                  </a:lnTo>
                  <a:lnTo>
                    <a:pt x="2526" y="1044"/>
                  </a:lnTo>
                  <a:lnTo>
                    <a:pt x="2481" y="1034"/>
                  </a:lnTo>
                  <a:lnTo>
                    <a:pt x="2439" y="1026"/>
                  </a:lnTo>
                  <a:lnTo>
                    <a:pt x="2401" y="1020"/>
                  </a:lnTo>
                  <a:lnTo>
                    <a:pt x="2382" y="1017"/>
                  </a:lnTo>
                  <a:lnTo>
                    <a:pt x="2365" y="1016"/>
                  </a:lnTo>
                  <a:lnTo>
                    <a:pt x="2347" y="1016"/>
                  </a:lnTo>
                  <a:lnTo>
                    <a:pt x="2332" y="1016"/>
                  </a:lnTo>
                  <a:lnTo>
                    <a:pt x="2317" y="1017"/>
                  </a:lnTo>
                  <a:lnTo>
                    <a:pt x="2303" y="1020"/>
                  </a:lnTo>
                  <a:lnTo>
                    <a:pt x="2290" y="1022"/>
                  </a:lnTo>
                  <a:lnTo>
                    <a:pt x="2279" y="1027"/>
                  </a:lnTo>
                  <a:lnTo>
                    <a:pt x="2269" y="1031"/>
                  </a:lnTo>
                  <a:lnTo>
                    <a:pt x="2259" y="1037"/>
                  </a:lnTo>
                  <a:lnTo>
                    <a:pt x="2252" y="1043"/>
                  </a:lnTo>
                  <a:lnTo>
                    <a:pt x="2247" y="1051"/>
                  </a:lnTo>
                  <a:lnTo>
                    <a:pt x="2223" y="1086"/>
                  </a:lnTo>
                  <a:lnTo>
                    <a:pt x="2202" y="1114"/>
                  </a:lnTo>
                  <a:lnTo>
                    <a:pt x="2192" y="1126"/>
                  </a:lnTo>
                  <a:lnTo>
                    <a:pt x="2182" y="1137"/>
                  </a:lnTo>
                  <a:lnTo>
                    <a:pt x="2174" y="1146"/>
                  </a:lnTo>
                  <a:lnTo>
                    <a:pt x="2165" y="1153"/>
                  </a:lnTo>
                  <a:lnTo>
                    <a:pt x="2157" y="1160"/>
                  </a:lnTo>
                  <a:lnTo>
                    <a:pt x="2150" y="1165"/>
                  </a:lnTo>
                  <a:lnTo>
                    <a:pt x="2143" y="1169"/>
                  </a:lnTo>
                  <a:lnTo>
                    <a:pt x="2136" y="1172"/>
                  </a:lnTo>
                  <a:lnTo>
                    <a:pt x="2129" y="1174"/>
                  </a:lnTo>
                  <a:lnTo>
                    <a:pt x="2123" y="1175"/>
                  </a:lnTo>
                  <a:lnTo>
                    <a:pt x="2117" y="1175"/>
                  </a:lnTo>
                  <a:lnTo>
                    <a:pt x="2111" y="1174"/>
                  </a:lnTo>
                  <a:lnTo>
                    <a:pt x="2106" y="1173"/>
                  </a:lnTo>
                  <a:lnTo>
                    <a:pt x="2102" y="1170"/>
                  </a:lnTo>
                  <a:lnTo>
                    <a:pt x="2097" y="1167"/>
                  </a:lnTo>
                  <a:lnTo>
                    <a:pt x="2092" y="1163"/>
                  </a:lnTo>
                  <a:lnTo>
                    <a:pt x="2085" y="1155"/>
                  </a:lnTo>
                  <a:lnTo>
                    <a:pt x="2080" y="1145"/>
                  </a:lnTo>
                  <a:lnTo>
                    <a:pt x="2074" y="1133"/>
                  </a:lnTo>
                  <a:lnTo>
                    <a:pt x="2069" y="1121"/>
                  </a:lnTo>
                  <a:lnTo>
                    <a:pt x="2065" y="1110"/>
                  </a:lnTo>
                  <a:lnTo>
                    <a:pt x="2062" y="1098"/>
                  </a:lnTo>
                  <a:lnTo>
                    <a:pt x="2060" y="1092"/>
                  </a:lnTo>
                  <a:lnTo>
                    <a:pt x="2056" y="1087"/>
                  </a:lnTo>
                  <a:lnTo>
                    <a:pt x="2050" y="1084"/>
                  </a:lnTo>
                  <a:lnTo>
                    <a:pt x="2043" y="1080"/>
                  </a:lnTo>
                  <a:lnTo>
                    <a:pt x="2036" y="1078"/>
                  </a:lnTo>
                  <a:lnTo>
                    <a:pt x="2027" y="1077"/>
                  </a:lnTo>
                  <a:lnTo>
                    <a:pt x="2016" y="1076"/>
                  </a:lnTo>
                  <a:lnTo>
                    <a:pt x="2005" y="1075"/>
                  </a:lnTo>
                  <a:lnTo>
                    <a:pt x="1980" y="1075"/>
                  </a:lnTo>
                  <a:lnTo>
                    <a:pt x="1951" y="1077"/>
                  </a:lnTo>
                  <a:lnTo>
                    <a:pt x="1921" y="1080"/>
                  </a:lnTo>
                  <a:lnTo>
                    <a:pt x="1889" y="1084"/>
                  </a:lnTo>
                  <a:lnTo>
                    <a:pt x="1823" y="1093"/>
                  </a:lnTo>
                  <a:lnTo>
                    <a:pt x="1758" y="1100"/>
                  </a:lnTo>
                  <a:lnTo>
                    <a:pt x="1729" y="1103"/>
                  </a:lnTo>
                  <a:lnTo>
                    <a:pt x="1702" y="1103"/>
                  </a:lnTo>
                  <a:lnTo>
                    <a:pt x="1689" y="1103"/>
                  </a:lnTo>
                  <a:lnTo>
                    <a:pt x="1679" y="1101"/>
                  </a:lnTo>
                  <a:lnTo>
                    <a:pt x="1668" y="1100"/>
                  </a:lnTo>
                  <a:lnTo>
                    <a:pt x="1659" y="1098"/>
                  </a:lnTo>
                  <a:lnTo>
                    <a:pt x="1643" y="1091"/>
                  </a:lnTo>
                  <a:lnTo>
                    <a:pt x="1626" y="1083"/>
                  </a:lnTo>
                  <a:lnTo>
                    <a:pt x="1610" y="1075"/>
                  </a:lnTo>
                  <a:lnTo>
                    <a:pt x="1596" y="1065"/>
                  </a:lnTo>
                  <a:lnTo>
                    <a:pt x="1582" y="1055"/>
                  </a:lnTo>
                  <a:lnTo>
                    <a:pt x="1569" y="1044"/>
                  </a:lnTo>
                  <a:lnTo>
                    <a:pt x="1557" y="1034"/>
                  </a:lnTo>
                  <a:lnTo>
                    <a:pt x="1547" y="1023"/>
                  </a:lnTo>
                  <a:lnTo>
                    <a:pt x="1515" y="988"/>
                  </a:lnTo>
                  <a:lnTo>
                    <a:pt x="1504" y="973"/>
                  </a:lnTo>
                  <a:lnTo>
                    <a:pt x="1499" y="978"/>
                  </a:lnTo>
                  <a:lnTo>
                    <a:pt x="1487" y="989"/>
                  </a:lnTo>
                  <a:lnTo>
                    <a:pt x="1478" y="996"/>
                  </a:lnTo>
                  <a:lnTo>
                    <a:pt x="1467" y="1005"/>
                  </a:lnTo>
                  <a:lnTo>
                    <a:pt x="1456" y="1013"/>
                  </a:lnTo>
                  <a:lnTo>
                    <a:pt x="1442" y="1021"/>
                  </a:lnTo>
                  <a:lnTo>
                    <a:pt x="1427" y="1029"/>
                  </a:lnTo>
                  <a:lnTo>
                    <a:pt x="1410" y="1035"/>
                  </a:lnTo>
                  <a:lnTo>
                    <a:pt x="1393" y="1041"/>
                  </a:lnTo>
                  <a:lnTo>
                    <a:pt x="1374" y="1044"/>
                  </a:lnTo>
                  <a:lnTo>
                    <a:pt x="1363" y="1045"/>
                  </a:lnTo>
                  <a:lnTo>
                    <a:pt x="1353" y="1045"/>
                  </a:lnTo>
                  <a:lnTo>
                    <a:pt x="1344" y="1045"/>
                  </a:lnTo>
                  <a:lnTo>
                    <a:pt x="1332" y="1044"/>
                  </a:lnTo>
                  <a:lnTo>
                    <a:pt x="1321" y="1043"/>
                  </a:lnTo>
                  <a:lnTo>
                    <a:pt x="1311" y="1041"/>
                  </a:lnTo>
                  <a:lnTo>
                    <a:pt x="1299" y="1038"/>
                  </a:lnTo>
                  <a:lnTo>
                    <a:pt x="1288" y="1034"/>
                  </a:lnTo>
                  <a:lnTo>
                    <a:pt x="1265" y="1024"/>
                  </a:lnTo>
                  <a:lnTo>
                    <a:pt x="1243" y="1014"/>
                  </a:lnTo>
                  <a:lnTo>
                    <a:pt x="1222" y="1001"/>
                  </a:lnTo>
                  <a:lnTo>
                    <a:pt x="1201" y="988"/>
                  </a:lnTo>
                  <a:lnTo>
                    <a:pt x="1159" y="960"/>
                  </a:lnTo>
                  <a:lnTo>
                    <a:pt x="1115" y="932"/>
                  </a:lnTo>
                  <a:lnTo>
                    <a:pt x="1090" y="918"/>
                  </a:lnTo>
                  <a:lnTo>
                    <a:pt x="1066" y="905"/>
                  </a:lnTo>
                  <a:lnTo>
                    <a:pt x="1039" y="895"/>
                  </a:lnTo>
                  <a:lnTo>
                    <a:pt x="1010" y="884"/>
                  </a:lnTo>
                  <a:lnTo>
                    <a:pt x="994" y="880"/>
                  </a:lnTo>
                  <a:lnTo>
                    <a:pt x="979" y="876"/>
                  </a:lnTo>
                  <a:lnTo>
                    <a:pt x="963" y="873"/>
                  </a:lnTo>
                  <a:lnTo>
                    <a:pt x="945" y="869"/>
                  </a:lnTo>
                  <a:lnTo>
                    <a:pt x="928" y="867"/>
                  </a:lnTo>
                  <a:lnTo>
                    <a:pt x="909" y="866"/>
                  </a:lnTo>
                  <a:lnTo>
                    <a:pt x="890" y="864"/>
                  </a:lnTo>
                  <a:lnTo>
                    <a:pt x="869" y="864"/>
                  </a:lnTo>
                  <a:lnTo>
                    <a:pt x="902" y="277"/>
                  </a:lnTo>
                  <a:lnTo>
                    <a:pt x="0" y="230"/>
                  </a:lnTo>
                  <a:lnTo>
                    <a:pt x="69" y="0"/>
                  </a:lnTo>
                  <a:lnTo>
                    <a:pt x="2665" y="0"/>
                  </a:lnTo>
                  <a:lnTo>
                    <a:pt x="2842" y="424"/>
                  </a:lnTo>
                  <a:lnTo>
                    <a:pt x="2848" y="11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163"/>
            <p:cNvSpPr/>
            <p:nvPr/>
          </p:nvSpPr>
          <p:spPr>
            <a:xfrm>
              <a:off x="7218360" y="5586120"/>
              <a:ext cx="345600" cy="1378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293" h="847">
                  <a:moveTo>
                    <a:pt x="2293" y="224"/>
                  </a:moveTo>
                  <a:lnTo>
                    <a:pt x="2289" y="847"/>
                  </a:lnTo>
                  <a:lnTo>
                    <a:pt x="0" y="845"/>
                  </a:lnTo>
                  <a:lnTo>
                    <a:pt x="222" y="0"/>
                  </a:lnTo>
                  <a:lnTo>
                    <a:pt x="1998" y="4"/>
                  </a:lnTo>
                  <a:lnTo>
                    <a:pt x="2007" y="21"/>
                  </a:lnTo>
                  <a:lnTo>
                    <a:pt x="2014" y="36"/>
                  </a:lnTo>
                  <a:lnTo>
                    <a:pt x="2021" y="47"/>
                  </a:lnTo>
                  <a:lnTo>
                    <a:pt x="2028" y="54"/>
                  </a:lnTo>
                  <a:lnTo>
                    <a:pt x="2031" y="57"/>
                  </a:lnTo>
                  <a:lnTo>
                    <a:pt x="2036" y="59"/>
                  </a:lnTo>
                  <a:lnTo>
                    <a:pt x="2039" y="60"/>
                  </a:lnTo>
                  <a:lnTo>
                    <a:pt x="2044" y="61"/>
                  </a:lnTo>
                  <a:lnTo>
                    <a:pt x="2054" y="61"/>
                  </a:lnTo>
                  <a:lnTo>
                    <a:pt x="2067" y="57"/>
                  </a:lnTo>
                  <a:lnTo>
                    <a:pt x="2095" y="54"/>
                  </a:lnTo>
                  <a:lnTo>
                    <a:pt x="2122" y="50"/>
                  </a:lnTo>
                  <a:lnTo>
                    <a:pt x="2134" y="50"/>
                  </a:lnTo>
                  <a:lnTo>
                    <a:pt x="2144" y="52"/>
                  </a:lnTo>
                  <a:lnTo>
                    <a:pt x="2154" y="53"/>
                  </a:lnTo>
                  <a:lnTo>
                    <a:pt x="2163" y="55"/>
                  </a:lnTo>
                  <a:lnTo>
                    <a:pt x="2170" y="59"/>
                  </a:lnTo>
                  <a:lnTo>
                    <a:pt x="2177" y="63"/>
                  </a:lnTo>
                  <a:lnTo>
                    <a:pt x="2182" y="69"/>
                  </a:lnTo>
                  <a:lnTo>
                    <a:pt x="2185" y="76"/>
                  </a:lnTo>
                  <a:lnTo>
                    <a:pt x="2188" y="85"/>
                  </a:lnTo>
                  <a:lnTo>
                    <a:pt x="2188" y="96"/>
                  </a:lnTo>
                  <a:lnTo>
                    <a:pt x="2186" y="108"/>
                  </a:lnTo>
                  <a:lnTo>
                    <a:pt x="2183" y="122"/>
                  </a:lnTo>
                  <a:lnTo>
                    <a:pt x="2182" y="125"/>
                  </a:lnTo>
                  <a:lnTo>
                    <a:pt x="2182" y="130"/>
                  </a:lnTo>
                  <a:lnTo>
                    <a:pt x="2183" y="133"/>
                  </a:lnTo>
                  <a:lnTo>
                    <a:pt x="2184" y="137"/>
                  </a:lnTo>
                  <a:lnTo>
                    <a:pt x="2189" y="145"/>
                  </a:lnTo>
                  <a:lnTo>
                    <a:pt x="2196" y="151"/>
                  </a:lnTo>
                  <a:lnTo>
                    <a:pt x="2205" y="158"/>
                  </a:lnTo>
                  <a:lnTo>
                    <a:pt x="2214" y="164"/>
                  </a:lnTo>
                  <a:lnTo>
                    <a:pt x="2226" y="170"/>
                  </a:lnTo>
                  <a:lnTo>
                    <a:pt x="2238" y="175"/>
                  </a:lnTo>
                  <a:lnTo>
                    <a:pt x="2260" y="187"/>
                  </a:lnTo>
                  <a:lnTo>
                    <a:pt x="2279" y="199"/>
                  </a:lnTo>
                  <a:lnTo>
                    <a:pt x="2286" y="205"/>
                  </a:lnTo>
                  <a:lnTo>
                    <a:pt x="2292" y="210"/>
                  </a:lnTo>
                  <a:lnTo>
                    <a:pt x="2293" y="214"/>
                  </a:lnTo>
                  <a:lnTo>
                    <a:pt x="2293" y="217"/>
                  </a:lnTo>
                  <a:lnTo>
                    <a:pt x="2293" y="221"/>
                  </a:lnTo>
                  <a:lnTo>
                    <a:pt x="2293" y="22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164"/>
            <p:cNvSpPr/>
            <p:nvPr/>
          </p:nvSpPr>
          <p:spPr>
            <a:xfrm>
              <a:off x="7218360" y="5586120"/>
              <a:ext cx="345600" cy="1378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293" h="847">
                  <a:moveTo>
                    <a:pt x="2293" y="224"/>
                  </a:moveTo>
                  <a:lnTo>
                    <a:pt x="2289" y="847"/>
                  </a:lnTo>
                  <a:lnTo>
                    <a:pt x="0" y="845"/>
                  </a:lnTo>
                  <a:lnTo>
                    <a:pt x="222" y="0"/>
                  </a:lnTo>
                  <a:lnTo>
                    <a:pt x="1998" y="4"/>
                  </a:lnTo>
                  <a:lnTo>
                    <a:pt x="2007" y="21"/>
                  </a:lnTo>
                  <a:lnTo>
                    <a:pt x="2014" y="36"/>
                  </a:lnTo>
                  <a:lnTo>
                    <a:pt x="2021" y="47"/>
                  </a:lnTo>
                  <a:lnTo>
                    <a:pt x="2028" y="54"/>
                  </a:lnTo>
                  <a:lnTo>
                    <a:pt x="2031" y="57"/>
                  </a:lnTo>
                  <a:lnTo>
                    <a:pt x="2036" y="59"/>
                  </a:lnTo>
                  <a:lnTo>
                    <a:pt x="2039" y="60"/>
                  </a:lnTo>
                  <a:lnTo>
                    <a:pt x="2044" y="61"/>
                  </a:lnTo>
                  <a:lnTo>
                    <a:pt x="2054" y="61"/>
                  </a:lnTo>
                  <a:lnTo>
                    <a:pt x="2067" y="57"/>
                  </a:lnTo>
                  <a:lnTo>
                    <a:pt x="2095" y="54"/>
                  </a:lnTo>
                  <a:lnTo>
                    <a:pt x="2122" y="50"/>
                  </a:lnTo>
                  <a:lnTo>
                    <a:pt x="2134" y="50"/>
                  </a:lnTo>
                  <a:lnTo>
                    <a:pt x="2144" y="52"/>
                  </a:lnTo>
                  <a:lnTo>
                    <a:pt x="2154" y="53"/>
                  </a:lnTo>
                  <a:lnTo>
                    <a:pt x="2163" y="55"/>
                  </a:lnTo>
                  <a:lnTo>
                    <a:pt x="2170" y="59"/>
                  </a:lnTo>
                  <a:lnTo>
                    <a:pt x="2177" y="63"/>
                  </a:lnTo>
                  <a:lnTo>
                    <a:pt x="2182" y="69"/>
                  </a:lnTo>
                  <a:lnTo>
                    <a:pt x="2185" y="76"/>
                  </a:lnTo>
                  <a:lnTo>
                    <a:pt x="2188" y="85"/>
                  </a:lnTo>
                  <a:lnTo>
                    <a:pt x="2188" y="96"/>
                  </a:lnTo>
                  <a:lnTo>
                    <a:pt x="2186" y="108"/>
                  </a:lnTo>
                  <a:lnTo>
                    <a:pt x="2183" y="122"/>
                  </a:lnTo>
                  <a:lnTo>
                    <a:pt x="2182" y="125"/>
                  </a:lnTo>
                  <a:lnTo>
                    <a:pt x="2182" y="130"/>
                  </a:lnTo>
                  <a:lnTo>
                    <a:pt x="2183" y="133"/>
                  </a:lnTo>
                  <a:lnTo>
                    <a:pt x="2184" y="137"/>
                  </a:lnTo>
                  <a:lnTo>
                    <a:pt x="2189" y="145"/>
                  </a:lnTo>
                  <a:lnTo>
                    <a:pt x="2196" y="151"/>
                  </a:lnTo>
                  <a:lnTo>
                    <a:pt x="2205" y="158"/>
                  </a:lnTo>
                  <a:lnTo>
                    <a:pt x="2214" y="164"/>
                  </a:lnTo>
                  <a:lnTo>
                    <a:pt x="2226" y="170"/>
                  </a:lnTo>
                  <a:lnTo>
                    <a:pt x="2238" y="175"/>
                  </a:lnTo>
                  <a:lnTo>
                    <a:pt x="2260" y="187"/>
                  </a:lnTo>
                  <a:lnTo>
                    <a:pt x="2279" y="199"/>
                  </a:lnTo>
                  <a:lnTo>
                    <a:pt x="2286" y="205"/>
                  </a:lnTo>
                  <a:lnTo>
                    <a:pt x="2292" y="210"/>
                  </a:lnTo>
                  <a:lnTo>
                    <a:pt x="2293" y="214"/>
                  </a:lnTo>
                  <a:lnTo>
                    <a:pt x="2293" y="217"/>
                  </a:lnTo>
                  <a:lnTo>
                    <a:pt x="2293" y="221"/>
                  </a:lnTo>
                  <a:lnTo>
                    <a:pt x="2293" y="224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165"/>
            <p:cNvSpPr/>
            <p:nvPr/>
          </p:nvSpPr>
          <p:spPr>
            <a:xfrm>
              <a:off x="7603920" y="5335200"/>
              <a:ext cx="219960" cy="14256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69" h="876">
                  <a:moveTo>
                    <a:pt x="781" y="876"/>
                  </a:moveTo>
                  <a:lnTo>
                    <a:pt x="761" y="875"/>
                  </a:lnTo>
                  <a:lnTo>
                    <a:pt x="741" y="872"/>
                  </a:lnTo>
                  <a:lnTo>
                    <a:pt x="720" y="867"/>
                  </a:lnTo>
                  <a:lnTo>
                    <a:pt x="699" y="860"/>
                  </a:lnTo>
                  <a:lnTo>
                    <a:pt x="677" y="851"/>
                  </a:lnTo>
                  <a:lnTo>
                    <a:pt x="656" y="840"/>
                  </a:lnTo>
                  <a:lnTo>
                    <a:pt x="633" y="827"/>
                  </a:lnTo>
                  <a:lnTo>
                    <a:pt x="612" y="814"/>
                  </a:lnTo>
                  <a:lnTo>
                    <a:pt x="592" y="799"/>
                  </a:lnTo>
                  <a:lnTo>
                    <a:pt x="573" y="783"/>
                  </a:lnTo>
                  <a:lnTo>
                    <a:pt x="555" y="767"/>
                  </a:lnTo>
                  <a:lnTo>
                    <a:pt x="538" y="749"/>
                  </a:lnTo>
                  <a:lnTo>
                    <a:pt x="522" y="730"/>
                  </a:lnTo>
                  <a:lnTo>
                    <a:pt x="508" y="712"/>
                  </a:lnTo>
                  <a:lnTo>
                    <a:pt x="497" y="693"/>
                  </a:lnTo>
                  <a:lnTo>
                    <a:pt x="486" y="674"/>
                  </a:lnTo>
                  <a:lnTo>
                    <a:pt x="486" y="670"/>
                  </a:lnTo>
                  <a:lnTo>
                    <a:pt x="484" y="656"/>
                  </a:lnTo>
                  <a:lnTo>
                    <a:pt x="481" y="646"/>
                  </a:lnTo>
                  <a:lnTo>
                    <a:pt x="478" y="636"/>
                  </a:lnTo>
                  <a:lnTo>
                    <a:pt x="473" y="625"/>
                  </a:lnTo>
                  <a:lnTo>
                    <a:pt x="467" y="612"/>
                  </a:lnTo>
                  <a:lnTo>
                    <a:pt x="459" y="601"/>
                  </a:lnTo>
                  <a:lnTo>
                    <a:pt x="450" y="588"/>
                  </a:lnTo>
                  <a:lnTo>
                    <a:pt x="439" y="575"/>
                  </a:lnTo>
                  <a:lnTo>
                    <a:pt x="425" y="563"/>
                  </a:lnTo>
                  <a:lnTo>
                    <a:pt x="410" y="553"/>
                  </a:lnTo>
                  <a:lnTo>
                    <a:pt x="393" y="542"/>
                  </a:lnTo>
                  <a:lnTo>
                    <a:pt x="382" y="539"/>
                  </a:lnTo>
                  <a:lnTo>
                    <a:pt x="372" y="534"/>
                  </a:lnTo>
                  <a:lnTo>
                    <a:pt x="360" y="531"/>
                  </a:lnTo>
                  <a:lnTo>
                    <a:pt x="348" y="527"/>
                  </a:lnTo>
                  <a:lnTo>
                    <a:pt x="299" y="515"/>
                  </a:lnTo>
                  <a:lnTo>
                    <a:pt x="251" y="501"/>
                  </a:lnTo>
                  <a:lnTo>
                    <a:pt x="228" y="494"/>
                  </a:lnTo>
                  <a:lnTo>
                    <a:pt x="206" y="487"/>
                  </a:lnTo>
                  <a:lnTo>
                    <a:pt x="185" y="479"/>
                  </a:lnTo>
                  <a:lnTo>
                    <a:pt x="166" y="471"/>
                  </a:lnTo>
                  <a:lnTo>
                    <a:pt x="147" y="462"/>
                  </a:lnTo>
                  <a:lnTo>
                    <a:pt x="131" y="452"/>
                  </a:lnTo>
                  <a:lnTo>
                    <a:pt x="116" y="443"/>
                  </a:lnTo>
                  <a:lnTo>
                    <a:pt x="102" y="431"/>
                  </a:lnTo>
                  <a:lnTo>
                    <a:pt x="91" y="420"/>
                  </a:lnTo>
                  <a:lnTo>
                    <a:pt x="82" y="408"/>
                  </a:lnTo>
                  <a:lnTo>
                    <a:pt x="78" y="401"/>
                  </a:lnTo>
                  <a:lnTo>
                    <a:pt x="76" y="395"/>
                  </a:lnTo>
                  <a:lnTo>
                    <a:pt x="74" y="388"/>
                  </a:lnTo>
                  <a:lnTo>
                    <a:pt x="71" y="380"/>
                  </a:lnTo>
                  <a:lnTo>
                    <a:pt x="68" y="346"/>
                  </a:lnTo>
                  <a:lnTo>
                    <a:pt x="63" y="313"/>
                  </a:lnTo>
                  <a:lnTo>
                    <a:pt x="61" y="305"/>
                  </a:lnTo>
                  <a:lnTo>
                    <a:pt x="57" y="297"/>
                  </a:lnTo>
                  <a:lnTo>
                    <a:pt x="53" y="290"/>
                  </a:lnTo>
                  <a:lnTo>
                    <a:pt x="46" y="283"/>
                  </a:lnTo>
                  <a:lnTo>
                    <a:pt x="38" y="276"/>
                  </a:lnTo>
                  <a:lnTo>
                    <a:pt x="27" y="269"/>
                  </a:lnTo>
                  <a:lnTo>
                    <a:pt x="14" y="263"/>
                  </a:lnTo>
                  <a:lnTo>
                    <a:pt x="0" y="256"/>
                  </a:lnTo>
                  <a:lnTo>
                    <a:pt x="11" y="253"/>
                  </a:lnTo>
                  <a:lnTo>
                    <a:pt x="24" y="247"/>
                  </a:lnTo>
                  <a:lnTo>
                    <a:pt x="38" y="237"/>
                  </a:lnTo>
                  <a:lnTo>
                    <a:pt x="53" y="227"/>
                  </a:lnTo>
                  <a:lnTo>
                    <a:pt x="69" y="215"/>
                  </a:lnTo>
                  <a:lnTo>
                    <a:pt x="87" y="201"/>
                  </a:lnTo>
                  <a:lnTo>
                    <a:pt x="104" y="186"/>
                  </a:lnTo>
                  <a:lnTo>
                    <a:pt x="122" y="168"/>
                  </a:lnTo>
                  <a:lnTo>
                    <a:pt x="140" y="150"/>
                  </a:lnTo>
                  <a:lnTo>
                    <a:pt x="158" y="131"/>
                  </a:lnTo>
                  <a:lnTo>
                    <a:pt x="174" y="110"/>
                  </a:lnTo>
                  <a:lnTo>
                    <a:pt x="191" y="89"/>
                  </a:lnTo>
                  <a:lnTo>
                    <a:pt x="206" y="68"/>
                  </a:lnTo>
                  <a:lnTo>
                    <a:pt x="221" y="46"/>
                  </a:lnTo>
                  <a:lnTo>
                    <a:pt x="234" y="22"/>
                  </a:lnTo>
                  <a:lnTo>
                    <a:pt x="244" y="0"/>
                  </a:lnTo>
                  <a:lnTo>
                    <a:pt x="564" y="0"/>
                  </a:lnTo>
                  <a:lnTo>
                    <a:pt x="589" y="24"/>
                  </a:lnTo>
                  <a:lnTo>
                    <a:pt x="613" y="44"/>
                  </a:lnTo>
                  <a:lnTo>
                    <a:pt x="638" y="62"/>
                  </a:lnTo>
                  <a:lnTo>
                    <a:pt x="663" y="76"/>
                  </a:lnTo>
                  <a:lnTo>
                    <a:pt x="687" y="89"/>
                  </a:lnTo>
                  <a:lnTo>
                    <a:pt x="712" y="100"/>
                  </a:lnTo>
                  <a:lnTo>
                    <a:pt x="736" y="109"/>
                  </a:lnTo>
                  <a:lnTo>
                    <a:pt x="761" y="115"/>
                  </a:lnTo>
                  <a:lnTo>
                    <a:pt x="784" y="121"/>
                  </a:lnTo>
                  <a:lnTo>
                    <a:pt x="809" y="124"/>
                  </a:lnTo>
                  <a:lnTo>
                    <a:pt x="832" y="126"/>
                  </a:lnTo>
                  <a:lnTo>
                    <a:pt x="856" y="128"/>
                  </a:lnTo>
                  <a:lnTo>
                    <a:pt x="903" y="126"/>
                  </a:lnTo>
                  <a:lnTo>
                    <a:pt x="950" y="124"/>
                  </a:lnTo>
                  <a:lnTo>
                    <a:pt x="978" y="123"/>
                  </a:lnTo>
                  <a:lnTo>
                    <a:pt x="1005" y="123"/>
                  </a:lnTo>
                  <a:lnTo>
                    <a:pt x="1031" y="124"/>
                  </a:lnTo>
                  <a:lnTo>
                    <a:pt x="1056" y="125"/>
                  </a:lnTo>
                  <a:lnTo>
                    <a:pt x="1081" y="128"/>
                  </a:lnTo>
                  <a:lnTo>
                    <a:pt x="1104" y="130"/>
                  </a:lnTo>
                  <a:lnTo>
                    <a:pt x="1126" y="135"/>
                  </a:lnTo>
                  <a:lnTo>
                    <a:pt x="1148" y="139"/>
                  </a:lnTo>
                  <a:lnTo>
                    <a:pt x="1168" y="145"/>
                  </a:lnTo>
                  <a:lnTo>
                    <a:pt x="1187" y="151"/>
                  </a:lnTo>
                  <a:lnTo>
                    <a:pt x="1205" y="159"/>
                  </a:lnTo>
                  <a:lnTo>
                    <a:pt x="1220" y="168"/>
                  </a:lnTo>
                  <a:lnTo>
                    <a:pt x="1234" y="178"/>
                  </a:lnTo>
                  <a:lnTo>
                    <a:pt x="1245" y="190"/>
                  </a:lnTo>
                  <a:lnTo>
                    <a:pt x="1251" y="195"/>
                  </a:lnTo>
                  <a:lnTo>
                    <a:pt x="1256" y="202"/>
                  </a:lnTo>
                  <a:lnTo>
                    <a:pt x="1261" y="209"/>
                  </a:lnTo>
                  <a:lnTo>
                    <a:pt x="1264" y="216"/>
                  </a:lnTo>
                  <a:lnTo>
                    <a:pt x="1256" y="234"/>
                  </a:lnTo>
                  <a:lnTo>
                    <a:pt x="1248" y="253"/>
                  </a:lnTo>
                  <a:lnTo>
                    <a:pt x="1242" y="270"/>
                  </a:lnTo>
                  <a:lnTo>
                    <a:pt x="1235" y="289"/>
                  </a:lnTo>
                  <a:lnTo>
                    <a:pt x="1224" y="325"/>
                  </a:lnTo>
                  <a:lnTo>
                    <a:pt x="1215" y="358"/>
                  </a:lnTo>
                  <a:lnTo>
                    <a:pt x="1254" y="327"/>
                  </a:lnTo>
                  <a:lnTo>
                    <a:pt x="1287" y="298"/>
                  </a:lnTo>
                  <a:lnTo>
                    <a:pt x="1318" y="270"/>
                  </a:lnTo>
                  <a:lnTo>
                    <a:pt x="1346" y="246"/>
                  </a:lnTo>
                  <a:lnTo>
                    <a:pt x="1359" y="234"/>
                  </a:lnTo>
                  <a:lnTo>
                    <a:pt x="1370" y="225"/>
                  </a:lnTo>
                  <a:lnTo>
                    <a:pt x="1382" y="216"/>
                  </a:lnTo>
                  <a:lnTo>
                    <a:pt x="1393" y="209"/>
                  </a:lnTo>
                  <a:lnTo>
                    <a:pt x="1403" y="205"/>
                  </a:lnTo>
                  <a:lnTo>
                    <a:pt x="1412" y="201"/>
                  </a:lnTo>
                  <a:lnTo>
                    <a:pt x="1422" y="200"/>
                  </a:lnTo>
                  <a:lnTo>
                    <a:pt x="1431" y="202"/>
                  </a:lnTo>
                  <a:lnTo>
                    <a:pt x="1411" y="235"/>
                  </a:lnTo>
                  <a:lnTo>
                    <a:pt x="1394" y="271"/>
                  </a:lnTo>
                  <a:lnTo>
                    <a:pt x="1384" y="289"/>
                  </a:lnTo>
                  <a:lnTo>
                    <a:pt x="1377" y="307"/>
                  </a:lnTo>
                  <a:lnTo>
                    <a:pt x="1370" y="326"/>
                  </a:lnTo>
                  <a:lnTo>
                    <a:pt x="1363" y="346"/>
                  </a:lnTo>
                  <a:lnTo>
                    <a:pt x="1358" y="365"/>
                  </a:lnTo>
                  <a:lnTo>
                    <a:pt x="1352" y="385"/>
                  </a:lnTo>
                  <a:lnTo>
                    <a:pt x="1347" y="404"/>
                  </a:lnTo>
                  <a:lnTo>
                    <a:pt x="1344" y="424"/>
                  </a:lnTo>
                  <a:lnTo>
                    <a:pt x="1340" y="445"/>
                  </a:lnTo>
                  <a:lnTo>
                    <a:pt x="1338" y="466"/>
                  </a:lnTo>
                  <a:lnTo>
                    <a:pt x="1337" y="486"/>
                  </a:lnTo>
                  <a:lnTo>
                    <a:pt x="1335" y="507"/>
                  </a:lnTo>
                  <a:lnTo>
                    <a:pt x="1335" y="528"/>
                  </a:lnTo>
                  <a:lnTo>
                    <a:pt x="1337" y="549"/>
                  </a:lnTo>
                  <a:lnTo>
                    <a:pt x="1339" y="571"/>
                  </a:lnTo>
                  <a:lnTo>
                    <a:pt x="1341" y="592"/>
                  </a:lnTo>
                  <a:lnTo>
                    <a:pt x="1346" y="614"/>
                  </a:lnTo>
                  <a:lnTo>
                    <a:pt x="1351" y="636"/>
                  </a:lnTo>
                  <a:lnTo>
                    <a:pt x="1358" y="657"/>
                  </a:lnTo>
                  <a:lnTo>
                    <a:pt x="1365" y="679"/>
                  </a:lnTo>
                  <a:lnTo>
                    <a:pt x="1373" y="700"/>
                  </a:lnTo>
                  <a:lnTo>
                    <a:pt x="1383" y="722"/>
                  </a:lnTo>
                  <a:lnTo>
                    <a:pt x="1394" y="743"/>
                  </a:lnTo>
                  <a:lnTo>
                    <a:pt x="1407" y="764"/>
                  </a:lnTo>
                  <a:lnTo>
                    <a:pt x="1419" y="786"/>
                  </a:lnTo>
                  <a:lnTo>
                    <a:pt x="1435" y="807"/>
                  </a:lnTo>
                  <a:lnTo>
                    <a:pt x="1451" y="828"/>
                  </a:lnTo>
                  <a:lnTo>
                    <a:pt x="1469" y="849"/>
                  </a:lnTo>
                  <a:lnTo>
                    <a:pt x="781" y="8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166"/>
            <p:cNvSpPr/>
            <p:nvPr/>
          </p:nvSpPr>
          <p:spPr>
            <a:xfrm>
              <a:off x="7603920" y="5335200"/>
              <a:ext cx="219960" cy="14256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69" h="876">
                  <a:moveTo>
                    <a:pt x="781" y="876"/>
                  </a:moveTo>
                  <a:lnTo>
                    <a:pt x="761" y="875"/>
                  </a:lnTo>
                  <a:lnTo>
                    <a:pt x="741" y="872"/>
                  </a:lnTo>
                  <a:lnTo>
                    <a:pt x="720" y="867"/>
                  </a:lnTo>
                  <a:lnTo>
                    <a:pt x="699" y="860"/>
                  </a:lnTo>
                  <a:lnTo>
                    <a:pt x="677" y="851"/>
                  </a:lnTo>
                  <a:lnTo>
                    <a:pt x="656" y="840"/>
                  </a:lnTo>
                  <a:lnTo>
                    <a:pt x="633" y="827"/>
                  </a:lnTo>
                  <a:lnTo>
                    <a:pt x="612" y="814"/>
                  </a:lnTo>
                  <a:lnTo>
                    <a:pt x="592" y="799"/>
                  </a:lnTo>
                  <a:lnTo>
                    <a:pt x="573" y="783"/>
                  </a:lnTo>
                  <a:lnTo>
                    <a:pt x="555" y="767"/>
                  </a:lnTo>
                  <a:lnTo>
                    <a:pt x="538" y="749"/>
                  </a:lnTo>
                  <a:lnTo>
                    <a:pt x="522" y="730"/>
                  </a:lnTo>
                  <a:lnTo>
                    <a:pt x="508" y="712"/>
                  </a:lnTo>
                  <a:lnTo>
                    <a:pt x="497" y="693"/>
                  </a:lnTo>
                  <a:lnTo>
                    <a:pt x="486" y="674"/>
                  </a:lnTo>
                  <a:lnTo>
                    <a:pt x="486" y="670"/>
                  </a:lnTo>
                  <a:lnTo>
                    <a:pt x="484" y="656"/>
                  </a:lnTo>
                  <a:lnTo>
                    <a:pt x="481" y="646"/>
                  </a:lnTo>
                  <a:lnTo>
                    <a:pt x="478" y="636"/>
                  </a:lnTo>
                  <a:lnTo>
                    <a:pt x="473" y="625"/>
                  </a:lnTo>
                  <a:lnTo>
                    <a:pt x="467" y="612"/>
                  </a:lnTo>
                  <a:lnTo>
                    <a:pt x="459" y="601"/>
                  </a:lnTo>
                  <a:lnTo>
                    <a:pt x="450" y="588"/>
                  </a:lnTo>
                  <a:lnTo>
                    <a:pt x="439" y="575"/>
                  </a:lnTo>
                  <a:lnTo>
                    <a:pt x="425" y="563"/>
                  </a:lnTo>
                  <a:lnTo>
                    <a:pt x="410" y="553"/>
                  </a:lnTo>
                  <a:lnTo>
                    <a:pt x="393" y="542"/>
                  </a:lnTo>
                  <a:lnTo>
                    <a:pt x="382" y="539"/>
                  </a:lnTo>
                  <a:lnTo>
                    <a:pt x="372" y="534"/>
                  </a:lnTo>
                  <a:lnTo>
                    <a:pt x="360" y="531"/>
                  </a:lnTo>
                  <a:lnTo>
                    <a:pt x="348" y="527"/>
                  </a:lnTo>
                  <a:lnTo>
                    <a:pt x="299" y="515"/>
                  </a:lnTo>
                  <a:lnTo>
                    <a:pt x="251" y="501"/>
                  </a:lnTo>
                  <a:lnTo>
                    <a:pt x="228" y="494"/>
                  </a:lnTo>
                  <a:lnTo>
                    <a:pt x="206" y="487"/>
                  </a:lnTo>
                  <a:lnTo>
                    <a:pt x="185" y="479"/>
                  </a:lnTo>
                  <a:lnTo>
                    <a:pt x="166" y="471"/>
                  </a:lnTo>
                  <a:lnTo>
                    <a:pt x="147" y="462"/>
                  </a:lnTo>
                  <a:lnTo>
                    <a:pt x="131" y="452"/>
                  </a:lnTo>
                  <a:lnTo>
                    <a:pt x="116" y="443"/>
                  </a:lnTo>
                  <a:lnTo>
                    <a:pt x="102" y="431"/>
                  </a:lnTo>
                  <a:lnTo>
                    <a:pt x="91" y="420"/>
                  </a:lnTo>
                  <a:lnTo>
                    <a:pt x="82" y="408"/>
                  </a:lnTo>
                  <a:lnTo>
                    <a:pt x="78" y="401"/>
                  </a:lnTo>
                  <a:lnTo>
                    <a:pt x="76" y="395"/>
                  </a:lnTo>
                  <a:lnTo>
                    <a:pt x="74" y="388"/>
                  </a:lnTo>
                  <a:lnTo>
                    <a:pt x="71" y="380"/>
                  </a:lnTo>
                  <a:lnTo>
                    <a:pt x="68" y="346"/>
                  </a:lnTo>
                  <a:lnTo>
                    <a:pt x="63" y="313"/>
                  </a:lnTo>
                  <a:lnTo>
                    <a:pt x="61" y="305"/>
                  </a:lnTo>
                  <a:lnTo>
                    <a:pt x="57" y="297"/>
                  </a:lnTo>
                  <a:lnTo>
                    <a:pt x="53" y="290"/>
                  </a:lnTo>
                  <a:lnTo>
                    <a:pt x="46" y="283"/>
                  </a:lnTo>
                  <a:lnTo>
                    <a:pt x="38" y="276"/>
                  </a:lnTo>
                  <a:lnTo>
                    <a:pt x="27" y="269"/>
                  </a:lnTo>
                  <a:lnTo>
                    <a:pt x="14" y="263"/>
                  </a:lnTo>
                  <a:lnTo>
                    <a:pt x="0" y="256"/>
                  </a:lnTo>
                  <a:lnTo>
                    <a:pt x="11" y="253"/>
                  </a:lnTo>
                  <a:lnTo>
                    <a:pt x="24" y="247"/>
                  </a:lnTo>
                  <a:lnTo>
                    <a:pt x="38" y="237"/>
                  </a:lnTo>
                  <a:lnTo>
                    <a:pt x="53" y="227"/>
                  </a:lnTo>
                  <a:lnTo>
                    <a:pt x="69" y="215"/>
                  </a:lnTo>
                  <a:lnTo>
                    <a:pt x="87" y="201"/>
                  </a:lnTo>
                  <a:lnTo>
                    <a:pt x="104" y="186"/>
                  </a:lnTo>
                  <a:lnTo>
                    <a:pt x="122" y="168"/>
                  </a:lnTo>
                  <a:lnTo>
                    <a:pt x="140" y="150"/>
                  </a:lnTo>
                  <a:lnTo>
                    <a:pt x="158" y="131"/>
                  </a:lnTo>
                  <a:lnTo>
                    <a:pt x="174" y="110"/>
                  </a:lnTo>
                  <a:lnTo>
                    <a:pt x="191" y="89"/>
                  </a:lnTo>
                  <a:lnTo>
                    <a:pt x="206" y="68"/>
                  </a:lnTo>
                  <a:lnTo>
                    <a:pt x="221" y="46"/>
                  </a:lnTo>
                  <a:lnTo>
                    <a:pt x="234" y="22"/>
                  </a:lnTo>
                  <a:lnTo>
                    <a:pt x="244" y="0"/>
                  </a:lnTo>
                  <a:lnTo>
                    <a:pt x="564" y="0"/>
                  </a:lnTo>
                  <a:lnTo>
                    <a:pt x="589" y="24"/>
                  </a:lnTo>
                  <a:lnTo>
                    <a:pt x="613" y="44"/>
                  </a:lnTo>
                  <a:lnTo>
                    <a:pt x="638" y="62"/>
                  </a:lnTo>
                  <a:lnTo>
                    <a:pt x="663" y="76"/>
                  </a:lnTo>
                  <a:lnTo>
                    <a:pt x="687" y="89"/>
                  </a:lnTo>
                  <a:lnTo>
                    <a:pt x="712" y="100"/>
                  </a:lnTo>
                  <a:lnTo>
                    <a:pt x="736" y="109"/>
                  </a:lnTo>
                  <a:lnTo>
                    <a:pt x="761" y="115"/>
                  </a:lnTo>
                  <a:lnTo>
                    <a:pt x="784" y="121"/>
                  </a:lnTo>
                  <a:lnTo>
                    <a:pt x="809" y="124"/>
                  </a:lnTo>
                  <a:lnTo>
                    <a:pt x="832" y="126"/>
                  </a:lnTo>
                  <a:lnTo>
                    <a:pt x="856" y="128"/>
                  </a:lnTo>
                  <a:lnTo>
                    <a:pt x="903" y="126"/>
                  </a:lnTo>
                  <a:lnTo>
                    <a:pt x="950" y="124"/>
                  </a:lnTo>
                  <a:lnTo>
                    <a:pt x="978" y="123"/>
                  </a:lnTo>
                  <a:lnTo>
                    <a:pt x="1005" y="123"/>
                  </a:lnTo>
                  <a:lnTo>
                    <a:pt x="1031" y="124"/>
                  </a:lnTo>
                  <a:lnTo>
                    <a:pt x="1056" y="125"/>
                  </a:lnTo>
                  <a:lnTo>
                    <a:pt x="1081" y="128"/>
                  </a:lnTo>
                  <a:lnTo>
                    <a:pt x="1104" y="130"/>
                  </a:lnTo>
                  <a:lnTo>
                    <a:pt x="1126" y="135"/>
                  </a:lnTo>
                  <a:lnTo>
                    <a:pt x="1148" y="139"/>
                  </a:lnTo>
                  <a:lnTo>
                    <a:pt x="1168" y="145"/>
                  </a:lnTo>
                  <a:lnTo>
                    <a:pt x="1187" y="151"/>
                  </a:lnTo>
                  <a:lnTo>
                    <a:pt x="1205" y="159"/>
                  </a:lnTo>
                  <a:lnTo>
                    <a:pt x="1220" y="168"/>
                  </a:lnTo>
                  <a:lnTo>
                    <a:pt x="1234" y="178"/>
                  </a:lnTo>
                  <a:lnTo>
                    <a:pt x="1245" y="190"/>
                  </a:lnTo>
                  <a:lnTo>
                    <a:pt x="1251" y="195"/>
                  </a:lnTo>
                  <a:lnTo>
                    <a:pt x="1256" y="202"/>
                  </a:lnTo>
                  <a:lnTo>
                    <a:pt x="1261" y="209"/>
                  </a:lnTo>
                  <a:lnTo>
                    <a:pt x="1264" y="216"/>
                  </a:lnTo>
                  <a:lnTo>
                    <a:pt x="1256" y="234"/>
                  </a:lnTo>
                  <a:lnTo>
                    <a:pt x="1248" y="253"/>
                  </a:lnTo>
                  <a:lnTo>
                    <a:pt x="1242" y="270"/>
                  </a:lnTo>
                  <a:lnTo>
                    <a:pt x="1235" y="289"/>
                  </a:lnTo>
                  <a:lnTo>
                    <a:pt x="1224" y="325"/>
                  </a:lnTo>
                  <a:lnTo>
                    <a:pt x="1215" y="358"/>
                  </a:lnTo>
                  <a:lnTo>
                    <a:pt x="1254" y="327"/>
                  </a:lnTo>
                  <a:lnTo>
                    <a:pt x="1287" y="298"/>
                  </a:lnTo>
                  <a:lnTo>
                    <a:pt x="1318" y="270"/>
                  </a:lnTo>
                  <a:lnTo>
                    <a:pt x="1346" y="246"/>
                  </a:lnTo>
                  <a:lnTo>
                    <a:pt x="1359" y="234"/>
                  </a:lnTo>
                  <a:lnTo>
                    <a:pt x="1370" y="225"/>
                  </a:lnTo>
                  <a:lnTo>
                    <a:pt x="1382" y="216"/>
                  </a:lnTo>
                  <a:lnTo>
                    <a:pt x="1393" y="209"/>
                  </a:lnTo>
                  <a:lnTo>
                    <a:pt x="1403" y="205"/>
                  </a:lnTo>
                  <a:lnTo>
                    <a:pt x="1412" y="201"/>
                  </a:lnTo>
                  <a:lnTo>
                    <a:pt x="1422" y="200"/>
                  </a:lnTo>
                  <a:lnTo>
                    <a:pt x="1431" y="202"/>
                  </a:lnTo>
                  <a:lnTo>
                    <a:pt x="1411" y="235"/>
                  </a:lnTo>
                  <a:lnTo>
                    <a:pt x="1394" y="271"/>
                  </a:lnTo>
                  <a:lnTo>
                    <a:pt x="1384" y="289"/>
                  </a:lnTo>
                  <a:lnTo>
                    <a:pt x="1377" y="307"/>
                  </a:lnTo>
                  <a:lnTo>
                    <a:pt x="1370" y="326"/>
                  </a:lnTo>
                  <a:lnTo>
                    <a:pt x="1363" y="346"/>
                  </a:lnTo>
                  <a:lnTo>
                    <a:pt x="1358" y="365"/>
                  </a:lnTo>
                  <a:lnTo>
                    <a:pt x="1352" y="385"/>
                  </a:lnTo>
                  <a:lnTo>
                    <a:pt x="1347" y="404"/>
                  </a:lnTo>
                  <a:lnTo>
                    <a:pt x="1344" y="424"/>
                  </a:lnTo>
                  <a:lnTo>
                    <a:pt x="1340" y="445"/>
                  </a:lnTo>
                  <a:lnTo>
                    <a:pt x="1338" y="466"/>
                  </a:lnTo>
                  <a:lnTo>
                    <a:pt x="1337" y="486"/>
                  </a:lnTo>
                  <a:lnTo>
                    <a:pt x="1335" y="507"/>
                  </a:lnTo>
                  <a:lnTo>
                    <a:pt x="1335" y="528"/>
                  </a:lnTo>
                  <a:lnTo>
                    <a:pt x="1337" y="549"/>
                  </a:lnTo>
                  <a:lnTo>
                    <a:pt x="1339" y="571"/>
                  </a:lnTo>
                  <a:lnTo>
                    <a:pt x="1341" y="592"/>
                  </a:lnTo>
                  <a:lnTo>
                    <a:pt x="1346" y="614"/>
                  </a:lnTo>
                  <a:lnTo>
                    <a:pt x="1351" y="636"/>
                  </a:lnTo>
                  <a:lnTo>
                    <a:pt x="1358" y="657"/>
                  </a:lnTo>
                  <a:lnTo>
                    <a:pt x="1365" y="679"/>
                  </a:lnTo>
                  <a:lnTo>
                    <a:pt x="1373" y="700"/>
                  </a:lnTo>
                  <a:lnTo>
                    <a:pt x="1383" y="722"/>
                  </a:lnTo>
                  <a:lnTo>
                    <a:pt x="1394" y="743"/>
                  </a:lnTo>
                  <a:lnTo>
                    <a:pt x="1407" y="764"/>
                  </a:lnTo>
                  <a:lnTo>
                    <a:pt x="1419" y="786"/>
                  </a:lnTo>
                  <a:lnTo>
                    <a:pt x="1435" y="807"/>
                  </a:lnTo>
                  <a:lnTo>
                    <a:pt x="1451" y="828"/>
                  </a:lnTo>
                  <a:lnTo>
                    <a:pt x="1469" y="849"/>
                  </a:lnTo>
                  <a:lnTo>
                    <a:pt x="781" y="87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167"/>
            <p:cNvSpPr/>
            <p:nvPr/>
          </p:nvSpPr>
          <p:spPr>
            <a:xfrm>
              <a:off x="7508880" y="5555880"/>
              <a:ext cx="327960" cy="19980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180" h="1227">
                  <a:moveTo>
                    <a:pt x="1270" y="0"/>
                  </a:moveTo>
                  <a:lnTo>
                    <a:pt x="0" y="37"/>
                  </a:lnTo>
                  <a:lnTo>
                    <a:pt x="5" y="65"/>
                  </a:lnTo>
                  <a:lnTo>
                    <a:pt x="12" y="94"/>
                  </a:lnTo>
                  <a:lnTo>
                    <a:pt x="20" y="118"/>
                  </a:lnTo>
                  <a:lnTo>
                    <a:pt x="28" y="140"/>
                  </a:lnTo>
                  <a:lnTo>
                    <a:pt x="34" y="150"/>
                  </a:lnTo>
                  <a:lnTo>
                    <a:pt x="39" y="158"/>
                  </a:lnTo>
                  <a:lnTo>
                    <a:pt x="45" y="166"/>
                  </a:lnTo>
                  <a:lnTo>
                    <a:pt x="51" y="172"/>
                  </a:lnTo>
                  <a:lnTo>
                    <a:pt x="56" y="178"/>
                  </a:lnTo>
                  <a:lnTo>
                    <a:pt x="63" y="181"/>
                  </a:lnTo>
                  <a:lnTo>
                    <a:pt x="70" y="183"/>
                  </a:lnTo>
                  <a:lnTo>
                    <a:pt x="77" y="185"/>
                  </a:lnTo>
                  <a:lnTo>
                    <a:pt x="86" y="202"/>
                  </a:lnTo>
                  <a:lnTo>
                    <a:pt x="93" y="217"/>
                  </a:lnTo>
                  <a:lnTo>
                    <a:pt x="100" y="228"/>
                  </a:lnTo>
                  <a:lnTo>
                    <a:pt x="107" y="235"/>
                  </a:lnTo>
                  <a:lnTo>
                    <a:pt x="110" y="238"/>
                  </a:lnTo>
                  <a:lnTo>
                    <a:pt x="115" y="240"/>
                  </a:lnTo>
                  <a:lnTo>
                    <a:pt x="118" y="241"/>
                  </a:lnTo>
                  <a:lnTo>
                    <a:pt x="123" y="242"/>
                  </a:lnTo>
                  <a:lnTo>
                    <a:pt x="133" y="242"/>
                  </a:lnTo>
                  <a:lnTo>
                    <a:pt x="146" y="238"/>
                  </a:lnTo>
                  <a:lnTo>
                    <a:pt x="174" y="235"/>
                  </a:lnTo>
                  <a:lnTo>
                    <a:pt x="201" y="231"/>
                  </a:lnTo>
                  <a:lnTo>
                    <a:pt x="213" y="231"/>
                  </a:lnTo>
                  <a:lnTo>
                    <a:pt x="223" y="233"/>
                  </a:lnTo>
                  <a:lnTo>
                    <a:pt x="233" y="234"/>
                  </a:lnTo>
                  <a:lnTo>
                    <a:pt x="242" y="236"/>
                  </a:lnTo>
                  <a:lnTo>
                    <a:pt x="249" y="240"/>
                  </a:lnTo>
                  <a:lnTo>
                    <a:pt x="256" y="244"/>
                  </a:lnTo>
                  <a:lnTo>
                    <a:pt x="261" y="250"/>
                  </a:lnTo>
                  <a:lnTo>
                    <a:pt x="264" y="257"/>
                  </a:lnTo>
                  <a:lnTo>
                    <a:pt x="267" y="266"/>
                  </a:lnTo>
                  <a:lnTo>
                    <a:pt x="267" y="277"/>
                  </a:lnTo>
                  <a:lnTo>
                    <a:pt x="265" y="289"/>
                  </a:lnTo>
                  <a:lnTo>
                    <a:pt x="262" y="303"/>
                  </a:lnTo>
                  <a:lnTo>
                    <a:pt x="261" y="306"/>
                  </a:lnTo>
                  <a:lnTo>
                    <a:pt x="261" y="311"/>
                  </a:lnTo>
                  <a:lnTo>
                    <a:pt x="262" y="314"/>
                  </a:lnTo>
                  <a:lnTo>
                    <a:pt x="263" y="318"/>
                  </a:lnTo>
                  <a:lnTo>
                    <a:pt x="268" y="326"/>
                  </a:lnTo>
                  <a:lnTo>
                    <a:pt x="275" y="332"/>
                  </a:lnTo>
                  <a:lnTo>
                    <a:pt x="284" y="339"/>
                  </a:lnTo>
                  <a:lnTo>
                    <a:pt x="293" y="345"/>
                  </a:lnTo>
                  <a:lnTo>
                    <a:pt x="305" y="351"/>
                  </a:lnTo>
                  <a:lnTo>
                    <a:pt x="317" y="356"/>
                  </a:lnTo>
                  <a:lnTo>
                    <a:pt x="339" y="368"/>
                  </a:lnTo>
                  <a:lnTo>
                    <a:pt x="358" y="380"/>
                  </a:lnTo>
                  <a:lnTo>
                    <a:pt x="365" y="386"/>
                  </a:lnTo>
                  <a:lnTo>
                    <a:pt x="371" y="391"/>
                  </a:lnTo>
                  <a:lnTo>
                    <a:pt x="372" y="395"/>
                  </a:lnTo>
                  <a:lnTo>
                    <a:pt x="372" y="398"/>
                  </a:lnTo>
                  <a:lnTo>
                    <a:pt x="372" y="402"/>
                  </a:lnTo>
                  <a:lnTo>
                    <a:pt x="372" y="405"/>
                  </a:lnTo>
                  <a:lnTo>
                    <a:pt x="368" y="1028"/>
                  </a:lnTo>
                  <a:lnTo>
                    <a:pt x="443" y="1199"/>
                  </a:lnTo>
                  <a:lnTo>
                    <a:pt x="1909" y="1144"/>
                  </a:lnTo>
                  <a:lnTo>
                    <a:pt x="1901" y="1227"/>
                  </a:lnTo>
                  <a:lnTo>
                    <a:pt x="2039" y="1213"/>
                  </a:lnTo>
                  <a:lnTo>
                    <a:pt x="2049" y="1202"/>
                  </a:lnTo>
                  <a:lnTo>
                    <a:pt x="2059" y="1192"/>
                  </a:lnTo>
                  <a:lnTo>
                    <a:pt x="2066" y="1181"/>
                  </a:lnTo>
                  <a:lnTo>
                    <a:pt x="2070" y="1172"/>
                  </a:lnTo>
                  <a:lnTo>
                    <a:pt x="2075" y="1163"/>
                  </a:lnTo>
                  <a:lnTo>
                    <a:pt x="2077" y="1154"/>
                  </a:lnTo>
                  <a:lnTo>
                    <a:pt x="2080" y="1146"/>
                  </a:lnTo>
                  <a:lnTo>
                    <a:pt x="2081" y="1137"/>
                  </a:lnTo>
                  <a:lnTo>
                    <a:pt x="2081" y="1120"/>
                  </a:lnTo>
                  <a:lnTo>
                    <a:pt x="2081" y="1102"/>
                  </a:lnTo>
                  <a:lnTo>
                    <a:pt x="2081" y="1092"/>
                  </a:lnTo>
                  <a:lnTo>
                    <a:pt x="2082" y="1082"/>
                  </a:lnTo>
                  <a:lnTo>
                    <a:pt x="2083" y="1071"/>
                  </a:lnTo>
                  <a:lnTo>
                    <a:pt x="2085" y="1060"/>
                  </a:lnTo>
                  <a:lnTo>
                    <a:pt x="2092" y="1037"/>
                  </a:lnTo>
                  <a:lnTo>
                    <a:pt x="2101" y="1016"/>
                  </a:lnTo>
                  <a:lnTo>
                    <a:pt x="2110" y="996"/>
                  </a:lnTo>
                  <a:lnTo>
                    <a:pt x="2122" y="979"/>
                  </a:lnTo>
                  <a:lnTo>
                    <a:pt x="2134" y="961"/>
                  </a:lnTo>
                  <a:lnTo>
                    <a:pt x="2148" y="945"/>
                  </a:lnTo>
                  <a:lnTo>
                    <a:pt x="2164" y="931"/>
                  </a:lnTo>
                  <a:lnTo>
                    <a:pt x="2180" y="918"/>
                  </a:lnTo>
                  <a:lnTo>
                    <a:pt x="2179" y="901"/>
                  </a:lnTo>
                  <a:lnTo>
                    <a:pt x="2176" y="887"/>
                  </a:lnTo>
                  <a:lnTo>
                    <a:pt x="2174" y="881"/>
                  </a:lnTo>
                  <a:lnTo>
                    <a:pt x="2172" y="876"/>
                  </a:lnTo>
                  <a:lnTo>
                    <a:pt x="2169" y="871"/>
                  </a:lnTo>
                  <a:lnTo>
                    <a:pt x="2167" y="868"/>
                  </a:lnTo>
                  <a:lnTo>
                    <a:pt x="2160" y="862"/>
                  </a:lnTo>
                  <a:lnTo>
                    <a:pt x="2152" y="859"/>
                  </a:lnTo>
                  <a:lnTo>
                    <a:pt x="2143" y="856"/>
                  </a:lnTo>
                  <a:lnTo>
                    <a:pt x="2133" y="855"/>
                  </a:lnTo>
                  <a:lnTo>
                    <a:pt x="2111" y="854"/>
                  </a:lnTo>
                  <a:lnTo>
                    <a:pt x="2088" y="852"/>
                  </a:lnTo>
                  <a:lnTo>
                    <a:pt x="2075" y="848"/>
                  </a:lnTo>
                  <a:lnTo>
                    <a:pt x="2063" y="843"/>
                  </a:lnTo>
                  <a:lnTo>
                    <a:pt x="2057" y="840"/>
                  </a:lnTo>
                  <a:lnTo>
                    <a:pt x="2050" y="836"/>
                  </a:lnTo>
                  <a:lnTo>
                    <a:pt x="2044" y="832"/>
                  </a:lnTo>
                  <a:lnTo>
                    <a:pt x="2039" y="826"/>
                  </a:lnTo>
                  <a:lnTo>
                    <a:pt x="2039" y="804"/>
                  </a:lnTo>
                  <a:lnTo>
                    <a:pt x="2037" y="783"/>
                  </a:lnTo>
                  <a:lnTo>
                    <a:pt x="2035" y="763"/>
                  </a:lnTo>
                  <a:lnTo>
                    <a:pt x="2032" y="744"/>
                  </a:lnTo>
                  <a:lnTo>
                    <a:pt x="2027" y="728"/>
                  </a:lnTo>
                  <a:lnTo>
                    <a:pt x="2021" y="711"/>
                  </a:lnTo>
                  <a:lnTo>
                    <a:pt x="2013" y="696"/>
                  </a:lnTo>
                  <a:lnTo>
                    <a:pt x="2004" y="682"/>
                  </a:lnTo>
                  <a:lnTo>
                    <a:pt x="1992" y="668"/>
                  </a:lnTo>
                  <a:lnTo>
                    <a:pt x="1978" y="655"/>
                  </a:lnTo>
                  <a:lnTo>
                    <a:pt x="1962" y="644"/>
                  </a:lnTo>
                  <a:lnTo>
                    <a:pt x="1943" y="633"/>
                  </a:lnTo>
                  <a:lnTo>
                    <a:pt x="1922" y="623"/>
                  </a:lnTo>
                  <a:lnTo>
                    <a:pt x="1897" y="612"/>
                  </a:lnTo>
                  <a:lnTo>
                    <a:pt x="1870" y="603"/>
                  </a:lnTo>
                  <a:lnTo>
                    <a:pt x="1840" y="593"/>
                  </a:lnTo>
                  <a:lnTo>
                    <a:pt x="1810" y="584"/>
                  </a:lnTo>
                  <a:lnTo>
                    <a:pt x="1784" y="575"/>
                  </a:lnTo>
                  <a:lnTo>
                    <a:pt x="1762" y="564"/>
                  </a:lnTo>
                  <a:lnTo>
                    <a:pt x="1742" y="554"/>
                  </a:lnTo>
                  <a:lnTo>
                    <a:pt x="1726" y="543"/>
                  </a:lnTo>
                  <a:lnTo>
                    <a:pt x="1713" y="532"/>
                  </a:lnTo>
                  <a:lnTo>
                    <a:pt x="1701" y="520"/>
                  </a:lnTo>
                  <a:lnTo>
                    <a:pt x="1693" y="507"/>
                  </a:lnTo>
                  <a:lnTo>
                    <a:pt x="1687" y="495"/>
                  </a:lnTo>
                  <a:lnTo>
                    <a:pt x="1682" y="482"/>
                  </a:lnTo>
                  <a:lnTo>
                    <a:pt x="1680" y="471"/>
                  </a:lnTo>
                  <a:lnTo>
                    <a:pt x="1679" y="458"/>
                  </a:lnTo>
                  <a:lnTo>
                    <a:pt x="1679" y="445"/>
                  </a:lnTo>
                  <a:lnTo>
                    <a:pt x="1680" y="433"/>
                  </a:lnTo>
                  <a:lnTo>
                    <a:pt x="1682" y="421"/>
                  </a:lnTo>
                  <a:lnTo>
                    <a:pt x="1685" y="409"/>
                  </a:lnTo>
                  <a:lnTo>
                    <a:pt x="1686" y="398"/>
                  </a:lnTo>
                  <a:lnTo>
                    <a:pt x="1687" y="389"/>
                  </a:lnTo>
                  <a:lnTo>
                    <a:pt x="1685" y="382"/>
                  </a:lnTo>
                  <a:lnTo>
                    <a:pt x="1682" y="376"/>
                  </a:lnTo>
                  <a:lnTo>
                    <a:pt x="1678" y="370"/>
                  </a:lnTo>
                  <a:lnTo>
                    <a:pt x="1672" y="366"/>
                  </a:lnTo>
                  <a:lnTo>
                    <a:pt x="1664" y="362"/>
                  </a:lnTo>
                  <a:lnTo>
                    <a:pt x="1656" y="359"/>
                  </a:lnTo>
                  <a:lnTo>
                    <a:pt x="1609" y="348"/>
                  </a:lnTo>
                  <a:lnTo>
                    <a:pt x="1547" y="331"/>
                  </a:lnTo>
                  <a:lnTo>
                    <a:pt x="1529" y="325"/>
                  </a:lnTo>
                  <a:lnTo>
                    <a:pt x="1512" y="319"/>
                  </a:lnTo>
                  <a:lnTo>
                    <a:pt x="1495" y="312"/>
                  </a:lnTo>
                  <a:lnTo>
                    <a:pt x="1479" y="304"/>
                  </a:lnTo>
                  <a:lnTo>
                    <a:pt x="1465" y="296"/>
                  </a:lnTo>
                  <a:lnTo>
                    <a:pt x="1451" y="287"/>
                  </a:lnTo>
                  <a:lnTo>
                    <a:pt x="1438" y="278"/>
                  </a:lnTo>
                  <a:lnTo>
                    <a:pt x="1425" y="269"/>
                  </a:lnTo>
                  <a:lnTo>
                    <a:pt x="1415" y="259"/>
                  </a:lnTo>
                  <a:lnTo>
                    <a:pt x="1406" y="249"/>
                  </a:lnTo>
                  <a:lnTo>
                    <a:pt x="1396" y="240"/>
                  </a:lnTo>
                  <a:lnTo>
                    <a:pt x="1389" y="230"/>
                  </a:lnTo>
                  <a:lnTo>
                    <a:pt x="1385" y="221"/>
                  </a:lnTo>
                  <a:lnTo>
                    <a:pt x="1380" y="210"/>
                  </a:lnTo>
                  <a:lnTo>
                    <a:pt x="1377" y="202"/>
                  </a:lnTo>
                  <a:lnTo>
                    <a:pt x="1376" y="193"/>
                  </a:lnTo>
                  <a:lnTo>
                    <a:pt x="1375" y="185"/>
                  </a:lnTo>
                  <a:lnTo>
                    <a:pt x="1373" y="176"/>
                  </a:lnTo>
                  <a:lnTo>
                    <a:pt x="1368" y="168"/>
                  </a:lnTo>
                  <a:lnTo>
                    <a:pt x="1361" y="161"/>
                  </a:lnTo>
                  <a:lnTo>
                    <a:pt x="1354" y="154"/>
                  </a:lnTo>
                  <a:lnTo>
                    <a:pt x="1346" y="148"/>
                  </a:lnTo>
                  <a:lnTo>
                    <a:pt x="1338" y="143"/>
                  </a:lnTo>
                  <a:lnTo>
                    <a:pt x="1328" y="137"/>
                  </a:lnTo>
                  <a:lnTo>
                    <a:pt x="1296" y="120"/>
                  </a:lnTo>
                  <a:lnTo>
                    <a:pt x="1282" y="115"/>
                  </a:lnTo>
                  <a:lnTo>
                    <a:pt x="12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168"/>
            <p:cNvSpPr/>
            <p:nvPr/>
          </p:nvSpPr>
          <p:spPr>
            <a:xfrm>
              <a:off x="7508880" y="5555880"/>
              <a:ext cx="327960" cy="19980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180" h="1227">
                  <a:moveTo>
                    <a:pt x="1270" y="0"/>
                  </a:moveTo>
                  <a:lnTo>
                    <a:pt x="0" y="37"/>
                  </a:lnTo>
                  <a:lnTo>
                    <a:pt x="5" y="65"/>
                  </a:lnTo>
                  <a:lnTo>
                    <a:pt x="12" y="94"/>
                  </a:lnTo>
                  <a:lnTo>
                    <a:pt x="20" y="118"/>
                  </a:lnTo>
                  <a:lnTo>
                    <a:pt x="28" y="140"/>
                  </a:lnTo>
                  <a:lnTo>
                    <a:pt x="34" y="150"/>
                  </a:lnTo>
                  <a:lnTo>
                    <a:pt x="39" y="158"/>
                  </a:lnTo>
                  <a:lnTo>
                    <a:pt x="45" y="166"/>
                  </a:lnTo>
                  <a:lnTo>
                    <a:pt x="51" y="172"/>
                  </a:lnTo>
                  <a:lnTo>
                    <a:pt x="56" y="178"/>
                  </a:lnTo>
                  <a:lnTo>
                    <a:pt x="63" y="181"/>
                  </a:lnTo>
                  <a:lnTo>
                    <a:pt x="70" y="183"/>
                  </a:lnTo>
                  <a:lnTo>
                    <a:pt x="77" y="185"/>
                  </a:lnTo>
                  <a:lnTo>
                    <a:pt x="86" y="202"/>
                  </a:lnTo>
                  <a:lnTo>
                    <a:pt x="93" y="217"/>
                  </a:lnTo>
                  <a:lnTo>
                    <a:pt x="100" y="228"/>
                  </a:lnTo>
                  <a:lnTo>
                    <a:pt x="107" y="235"/>
                  </a:lnTo>
                  <a:lnTo>
                    <a:pt x="110" y="238"/>
                  </a:lnTo>
                  <a:lnTo>
                    <a:pt x="115" y="240"/>
                  </a:lnTo>
                  <a:lnTo>
                    <a:pt x="118" y="241"/>
                  </a:lnTo>
                  <a:lnTo>
                    <a:pt x="123" y="242"/>
                  </a:lnTo>
                  <a:lnTo>
                    <a:pt x="133" y="242"/>
                  </a:lnTo>
                  <a:lnTo>
                    <a:pt x="146" y="238"/>
                  </a:lnTo>
                  <a:lnTo>
                    <a:pt x="174" y="235"/>
                  </a:lnTo>
                  <a:lnTo>
                    <a:pt x="201" y="231"/>
                  </a:lnTo>
                  <a:lnTo>
                    <a:pt x="213" y="231"/>
                  </a:lnTo>
                  <a:lnTo>
                    <a:pt x="223" y="233"/>
                  </a:lnTo>
                  <a:lnTo>
                    <a:pt x="233" y="234"/>
                  </a:lnTo>
                  <a:lnTo>
                    <a:pt x="242" y="236"/>
                  </a:lnTo>
                  <a:lnTo>
                    <a:pt x="249" y="240"/>
                  </a:lnTo>
                  <a:lnTo>
                    <a:pt x="256" y="244"/>
                  </a:lnTo>
                  <a:lnTo>
                    <a:pt x="261" y="250"/>
                  </a:lnTo>
                  <a:lnTo>
                    <a:pt x="264" y="257"/>
                  </a:lnTo>
                  <a:lnTo>
                    <a:pt x="267" y="266"/>
                  </a:lnTo>
                  <a:lnTo>
                    <a:pt x="267" y="277"/>
                  </a:lnTo>
                  <a:lnTo>
                    <a:pt x="265" y="289"/>
                  </a:lnTo>
                  <a:lnTo>
                    <a:pt x="262" y="303"/>
                  </a:lnTo>
                  <a:lnTo>
                    <a:pt x="261" y="306"/>
                  </a:lnTo>
                  <a:lnTo>
                    <a:pt x="261" y="311"/>
                  </a:lnTo>
                  <a:lnTo>
                    <a:pt x="262" y="314"/>
                  </a:lnTo>
                  <a:lnTo>
                    <a:pt x="263" y="318"/>
                  </a:lnTo>
                  <a:lnTo>
                    <a:pt x="268" y="326"/>
                  </a:lnTo>
                  <a:lnTo>
                    <a:pt x="275" y="332"/>
                  </a:lnTo>
                  <a:lnTo>
                    <a:pt x="284" y="339"/>
                  </a:lnTo>
                  <a:lnTo>
                    <a:pt x="293" y="345"/>
                  </a:lnTo>
                  <a:lnTo>
                    <a:pt x="305" y="351"/>
                  </a:lnTo>
                  <a:lnTo>
                    <a:pt x="317" y="356"/>
                  </a:lnTo>
                  <a:lnTo>
                    <a:pt x="339" y="368"/>
                  </a:lnTo>
                  <a:lnTo>
                    <a:pt x="358" y="380"/>
                  </a:lnTo>
                  <a:lnTo>
                    <a:pt x="365" y="386"/>
                  </a:lnTo>
                  <a:lnTo>
                    <a:pt x="371" y="391"/>
                  </a:lnTo>
                  <a:lnTo>
                    <a:pt x="372" y="395"/>
                  </a:lnTo>
                  <a:lnTo>
                    <a:pt x="372" y="398"/>
                  </a:lnTo>
                  <a:lnTo>
                    <a:pt x="372" y="402"/>
                  </a:lnTo>
                  <a:lnTo>
                    <a:pt x="372" y="405"/>
                  </a:lnTo>
                  <a:lnTo>
                    <a:pt x="368" y="1028"/>
                  </a:lnTo>
                  <a:lnTo>
                    <a:pt x="443" y="1199"/>
                  </a:lnTo>
                  <a:lnTo>
                    <a:pt x="1909" y="1144"/>
                  </a:lnTo>
                  <a:lnTo>
                    <a:pt x="1901" y="1227"/>
                  </a:lnTo>
                  <a:lnTo>
                    <a:pt x="2039" y="1213"/>
                  </a:lnTo>
                  <a:lnTo>
                    <a:pt x="2049" y="1202"/>
                  </a:lnTo>
                  <a:lnTo>
                    <a:pt x="2059" y="1192"/>
                  </a:lnTo>
                  <a:lnTo>
                    <a:pt x="2066" y="1181"/>
                  </a:lnTo>
                  <a:lnTo>
                    <a:pt x="2070" y="1172"/>
                  </a:lnTo>
                  <a:lnTo>
                    <a:pt x="2075" y="1163"/>
                  </a:lnTo>
                  <a:lnTo>
                    <a:pt x="2077" y="1154"/>
                  </a:lnTo>
                  <a:lnTo>
                    <a:pt x="2080" y="1146"/>
                  </a:lnTo>
                  <a:lnTo>
                    <a:pt x="2081" y="1137"/>
                  </a:lnTo>
                  <a:lnTo>
                    <a:pt x="2081" y="1120"/>
                  </a:lnTo>
                  <a:lnTo>
                    <a:pt x="2081" y="1102"/>
                  </a:lnTo>
                  <a:lnTo>
                    <a:pt x="2081" y="1092"/>
                  </a:lnTo>
                  <a:lnTo>
                    <a:pt x="2082" y="1082"/>
                  </a:lnTo>
                  <a:lnTo>
                    <a:pt x="2083" y="1071"/>
                  </a:lnTo>
                  <a:lnTo>
                    <a:pt x="2085" y="1060"/>
                  </a:lnTo>
                  <a:lnTo>
                    <a:pt x="2092" y="1037"/>
                  </a:lnTo>
                  <a:lnTo>
                    <a:pt x="2101" y="1016"/>
                  </a:lnTo>
                  <a:lnTo>
                    <a:pt x="2110" y="996"/>
                  </a:lnTo>
                  <a:lnTo>
                    <a:pt x="2122" y="979"/>
                  </a:lnTo>
                  <a:lnTo>
                    <a:pt x="2134" y="961"/>
                  </a:lnTo>
                  <a:lnTo>
                    <a:pt x="2148" y="945"/>
                  </a:lnTo>
                  <a:lnTo>
                    <a:pt x="2164" y="931"/>
                  </a:lnTo>
                  <a:lnTo>
                    <a:pt x="2180" y="918"/>
                  </a:lnTo>
                  <a:lnTo>
                    <a:pt x="2179" y="901"/>
                  </a:lnTo>
                  <a:lnTo>
                    <a:pt x="2176" y="887"/>
                  </a:lnTo>
                  <a:lnTo>
                    <a:pt x="2174" y="881"/>
                  </a:lnTo>
                  <a:lnTo>
                    <a:pt x="2172" y="876"/>
                  </a:lnTo>
                  <a:lnTo>
                    <a:pt x="2169" y="871"/>
                  </a:lnTo>
                  <a:lnTo>
                    <a:pt x="2167" y="868"/>
                  </a:lnTo>
                  <a:lnTo>
                    <a:pt x="2160" y="862"/>
                  </a:lnTo>
                  <a:lnTo>
                    <a:pt x="2152" y="859"/>
                  </a:lnTo>
                  <a:lnTo>
                    <a:pt x="2143" y="856"/>
                  </a:lnTo>
                  <a:lnTo>
                    <a:pt x="2133" y="855"/>
                  </a:lnTo>
                  <a:lnTo>
                    <a:pt x="2111" y="854"/>
                  </a:lnTo>
                  <a:lnTo>
                    <a:pt x="2088" y="852"/>
                  </a:lnTo>
                  <a:lnTo>
                    <a:pt x="2075" y="848"/>
                  </a:lnTo>
                  <a:lnTo>
                    <a:pt x="2063" y="843"/>
                  </a:lnTo>
                  <a:lnTo>
                    <a:pt x="2057" y="840"/>
                  </a:lnTo>
                  <a:lnTo>
                    <a:pt x="2050" y="836"/>
                  </a:lnTo>
                  <a:lnTo>
                    <a:pt x="2044" y="832"/>
                  </a:lnTo>
                  <a:lnTo>
                    <a:pt x="2039" y="826"/>
                  </a:lnTo>
                  <a:lnTo>
                    <a:pt x="2039" y="804"/>
                  </a:lnTo>
                  <a:lnTo>
                    <a:pt x="2037" y="783"/>
                  </a:lnTo>
                  <a:lnTo>
                    <a:pt x="2035" y="763"/>
                  </a:lnTo>
                  <a:lnTo>
                    <a:pt x="2032" y="744"/>
                  </a:lnTo>
                  <a:lnTo>
                    <a:pt x="2027" y="728"/>
                  </a:lnTo>
                  <a:lnTo>
                    <a:pt x="2021" y="711"/>
                  </a:lnTo>
                  <a:lnTo>
                    <a:pt x="2013" y="696"/>
                  </a:lnTo>
                  <a:lnTo>
                    <a:pt x="2004" y="682"/>
                  </a:lnTo>
                  <a:lnTo>
                    <a:pt x="1992" y="668"/>
                  </a:lnTo>
                  <a:lnTo>
                    <a:pt x="1978" y="655"/>
                  </a:lnTo>
                  <a:lnTo>
                    <a:pt x="1962" y="644"/>
                  </a:lnTo>
                  <a:lnTo>
                    <a:pt x="1943" y="633"/>
                  </a:lnTo>
                  <a:lnTo>
                    <a:pt x="1922" y="623"/>
                  </a:lnTo>
                  <a:lnTo>
                    <a:pt x="1897" y="612"/>
                  </a:lnTo>
                  <a:lnTo>
                    <a:pt x="1870" y="603"/>
                  </a:lnTo>
                  <a:lnTo>
                    <a:pt x="1840" y="593"/>
                  </a:lnTo>
                  <a:lnTo>
                    <a:pt x="1810" y="584"/>
                  </a:lnTo>
                  <a:lnTo>
                    <a:pt x="1784" y="575"/>
                  </a:lnTo>
                  <a:lnTo>
                    <a:pt x="1762" y="564"/>
                  </a:lnTo>
                  <a:lnTo>
                    <a:pt x="1742" y="554"/>
                  </a:lnTo>
                  <a:lnTo>
                    <a:pt x="1726" y="543"/>
                  </a:lnTo>
                  <a:lnTo>
                    <a:pt x="1713" y="532"/>
                  </a:lnTo>
                  <a:lnTo>
                    <a:pt x="1701" y="520"/>
                  </a:lnTo>
                  <a:lnTo>
                    <a:pt x="1693" y="507"/>
                  </a:lnTo>
                  <a:lnTo>
                    <a:pt x="1687" y="495"/>
                  </a:lnTo>
                  <a:lnTo>
                    <a:pt x="1682" y="482"/>
                  </a:lnTo>
                  <a:lnTo>
                    <a:pt x="1680" y="471"/>
                  </a:lnTo>
                  <a:lnTo>
                    <a:pt x="1679" y="458"/>
                  </a:lnTo>
                  <a:lnTo>
                    <a:pt x="1679" y="445"/>
                  </a:lnTo>
                  <a:lnTo>
                    <a:pt x="1680" y="433"/>
                  </a:lnTo>
                  <a:lnTo>
                    <a:pt x="1682" y="421"/>
                  </a:lnTo>
                  <a:lnTo>
                    <a:pt x="1685" y="409"/>
                  </a:lnTo>
                  <a:lnTo>
                    <a:pt x="1686" y="398"/>
                  </a:lnTo>
                  <a:lnTo>
                    <a:pt x="1687" y="389"/>
                  </a:lnTo>
                  <a:lnTo>
                    <a:pt x="1685" y="382"/>
                  </a:lnTo>
                  <a:lnTo>
                    <a:pt x="1682" y="376"/>
                  </a:lnTo>
                  <a:lnTo>
                    <a:pt x="1678" y="370"/>
                  </a:lnTo>
                  <a:lnTo>
                    <a:pt x="1672" y="366"/>
                  </a:lnTo>
                  <a:lnTo>
                    <a:pt x="1664" y="362"/>
                  </a:lnTo>
                  <a:lnTo>
                    <a:pt x="1656" y="359"/>
                  </a:lnTo>
                  <a:lnTo>
                    <a:pt x="1609" y="348"/>
                  </a:lnTo>
                  <a:lnTo>
                    <a:pt x="1547" y="331"/>
                  </a:lnTo>
                  <a:lnTo>
                    <a:pt x="1529" y="325"/>
                  </a:lnTo>
                  <a:lnTo>
                    <a:pt x="1512" y="319"/>
                  </a:lnTo>
                  <a:lnTo>
                    <a:pt x="1495" y="312"/>
                  </a:lnTo>
                  <a:lnTo>
                    <a:pt x="1479" y="304"/>
                  </a:lnTo>
                  <a:lnTo>
                    <a:pt x="1465" y="296"/>
                  </a:lnTo>
                  <a:lnTo>
                    <a:pt x="1451" y="287"/>
                  </a:lnTo>
                  <a:lnTo>
                    <a:pt x="1438" y="278"/>
                  </a:lnTo>
                  <a:lnTo>
                    <a:pt x="1425" y="269"/>
                  </a:lnTo>
                  <a:lnTo>
                    <a:pt x="1415" y="259"/>
                  </a:lnTo>
                  <a:lnTo>
                    <a:pt x="1406" y="249"/>
                  </a:lnTo>
                  <a:lnTo>
                    <a:pt x="1396" y="240"/>
                  </a:lnTo>
                  <a:lnTo>
                    <a:pt x="1389" y="230"/>
                  </a:lnTo>
                  <a:lnTo>
                    <a:pt x="1385" y="221"/>
                  </a:lnTo>
                  <a:lnTo>
                    <a:pt x="1380" y="210"/>
                  </a:lnTo>
                  <a:lnTo>
                    <a:pt x="1377" y="202"/>
                  </a:lnTo>
                  <a:lnTo>
                    <a:pt x="1376" y="193"/>
                  </a:lnTo>
                  <a:lnTo>
                    <a:pt x="1375" y="185"/>
                  </a:lnTo>
                  <a:lnTo>
                    <a:pt x="1373" y="176"/>
                  </a:lnTo>
                  <a:lnTo>
                    <a:pt x="1368" y="168"/>
                  </a:lnTo>
                  <a:lnTo>
                    <a:pt x="1361" y="161"/>
                  </a:lnTo>
                  <a:lnTo>
                    <a:pt x="1354" y="154"/>
                  </a:lnTo>
                  <a:lnTo>
                    <a:pt x="1346" y="148"/>
                  </a:lnTo>
                  <a:lnTo>
                    <a:pt x="1338" y="143"/>
                  </a:lnTo>
                  <a:lnTo>
                    <a:pt x="1328" y="137"/>
                  </a:lnTo>
                  <a:lnTo>
                    <a:pt x="1296" y="120"/>
                  </a:lnTo>
                  <a:lnTo>
                    <a:pt x="1282" y="115"/>
                  </a:lnTo>
                  <a:lnTo>
                    <a:pt x="1270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169"/>
            <p:cNvSpPr/>
            <p:nvPr/>
          </p:nvSpPr>
          <p:spPr>
            <a:xfrm>
              <a:off x="8033040" y="5752800"/>
              <a:ext cx="382320" cy="282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529" h="1729">
                  <a:moveTo>
                    <a:pt x="1040" y="0"/>
                  </a:moveTo>
                  <a:lnTo>
                    <a:pt x="0" y="116"/>
                  </a:lnTo>
                  <a:lnTo>
                    <a:pt x="8" y="127"/>
                  </a:lnTo>
                  <a:lnTo>
                    <a:pt x="33" y="159"/>
                  </a:lnTo>
                  <a:lnTo>
                    <a:pt x="70" y="208"/>
                  </a:lnTo>
                  <a:lnTo>
                    <a:pt x="119" y="272"/>
                  </a:lnTo>
                  <a:lnTo>
                    <a:pt x="177" y="349"/>
                  </a:lnTo>
                  <a:lnTo>
                    <a:pt x="240" y="435"/>
                  </a:lnTo>
                  <a:lnTo>
                    <a:pt x="308" y="527"/>
                  </a:lnTo>
                  <a:lnTo>
                    <a:pt x="379" y="621"/>
                  </a:lnTo>
                  <a:lnTo>
                    <a:pt x="449" y="717"/>
                  </a:lnTo>
                  <a:lnTo>
                    <a:pt x="516" y="811"/>
                  </a:lnTo>
                  <a:lnTo>
                    <a:pt x="580" y="899"/>
                  </a:lnTo>
                  <a:lnTo>
                    <a:pt x="636" y="980"/>
                  </a:lnTo>
                  <a:lnTo>
                    <a:pt x="682" y="1049"/>
                  </a:lnTo>
                  <a:lnTo>
                    <a:pt x="719" y="1105"/>
                  </a:lnTo>
                  <a:lnTo>
                    <a:pt x="731" y="1127"/>
                  </a:lnTo>
                  <a:lnTo>
                    <a:pt x="741" y="1145"/>
                  </a:lnTo>
                  <a:lnTo>
                    <a:pt x="745" y="1156"/>
                  </a:lnTo>
                  <a:lnTo>
                    <a:pt x="747" y="1165"/>
                  </a:lnTo>
                  <a:lnTo>
                    <a:pt x="744" y="1175"/>
                  </a:lnTo>
                  <a:lnTo>
                    <a:pt x="744" y="1191"/>
                  </a:lnTo>
                  <a:lnTo>
                    <a:pt x="744" y="1211"/>
                  </a:lnTo>
                  <a:lnTo>
                    <a:pt x="748" y="1236"/>
                  </a:lnTo>
                  <a:lnTo>
                    <a:pt x="751" y="1263"/>
                  </a:lnTo>
                  <a:lnTo>
                    <a:pt x="757" y="1293"/>
                  </a:lnTo>
                  <a:lnTo>
                    <a:pt x="764" y="1325"/>
                  </a:lnTo>
                  <a:lnTo>
                    <a:pt x="773" y="1358"/>
                  </a:lnTo>
                  <a:lnTo>
                    <a:pt x="785" y="1392"/>
                  </a:lnTo>
                  <a:lnTo>
                    <a:pt x="798" y="1427"/>
                  </a:lnTo>
                  <a:lnTo>
                    <a:pt x="812" y="1461"/>
                  </a:lnTo>
                  <a:lnTo>
                    <a:pt x="829" y="1495"/>
                  </a:lnTo>
                  <a:lnTo>
                    <a:pt x="839" y="1512"/>
                  </a:lnTo>
                  <a:lnTo>
                    <a:pt x="848" y="1527"/>
                  </a:lnTo>
                  <a:lnTo>
                    <a:pt x="858" y="1543"/>
                  </a:lnTo>
                  <a:lnTo>
                    <a:pt x="868" y="1558"/>
                  </a:lnTo>
                  <a:lnTo>
                    <a:pt x="880" y="1572"/>
                  </a:lnTo>
                  <a:lnTo>
                    <a:pt x="891" y="1585"/>
                  </a:lnTo>
                  <a:lnTo>
                    <a:pt x="903" y="1598"/>
                  </a:lnTo>
                  <a:lnTo>
                    <a:pt x="916" y="1611"/>
                  </a:lnTo>
                  <a:lnTo>
                    <a:pt x="938" y="1628"/>
                  </a:lnTo>
                  <a:lnTo>
                    <a:pt x="958" y="1644"/>
                  </a:lnTo>
                  <a:lnTo>
                    <a:pt x="978" y="1658"/>
                  </a:lnTo>
                  <a:lnTo>
                    <a:pt x="997" y="1670"/>
                  </a:lnTo>
                  <a:lnTo>
                    <a:pt x="1015" y="1682"/>
                  </a:lnTo>
                  <a:lnTo>
                    <a:pt x="1033" y="1693"/>
                  </a:lnTo>
                  <a:lnTo>
                    <a:pt x="1050" y="1701"/>
                  </a:lnTo>
                  <a:lnTo>
                    <a:pt x="1068" y="1708"/>
                  </a:lnTo>
                  <a:lnTo>
                    <a:pt x="1085" y="1715"/>
                  </a:lnTo>
                  <a:lnTo>
                    <a:pt x="1103" y="1719"/>
                  </a:lnTo>
                  <a:lnTo>
                    <a:pt x="1120" y="1723"/>
                  </a:lnTo>
                  <a:lnTo>
                    <a:pt x="1139" y="1726"/>
                  </a:lnTo>
                  <a:lnTo>
                    <a:pt x="1159" y="1728"/>
                  </a:lnTo>
                  <a:lnTo>
                    <a:pt x="1179" y="1729"/>
                  </a:lnTo>
                  <a:lnTo>
                    <a:pt x="1200" y="1729"/>
                  </a:lnTo>
                  <a:lnTo>
                    <a:pt x="1222" y="1728"/>
                  </a:lnTo>
                  <a:lnTo>
                    <a:pt x="1272" y="1722"/>
                  </a:lnTo>
                  <a:lnTo>
                    <a:pt x="1328" y="1714"/>
                  </a:lnTo>
                  <a:lnTo>
                    <a:pt x="1393" y="1703"/>
                  </a:lnTo>
                  <a:lnTo>
                    <a:pt x="1467" y="1690"/>
                  </a:lnTo>
                  <a:lnTo>
                    <a:pt x="1553" y="1675"/>
                  </a:lnTo>
                  <a:lnTo>
                    <a:pt x="1651" y="1658"/>
                  </a:lnTo>
                  <a:lnTo>
                    <a:pt x="1763" y="1639"/>
                  </a:lnTo>
                  <a:lnTo>
                    <a:pt x="1890" y="1619"/>
                  </a:lnTo>
                  <a:lnTo>
                    <a:pt x="1960" y="1608"/>
                  </a:lnTo>
                  <a:lnTo>
                    <a:pt x="2019" y="1599"/>
                  </a:lnTo>
                  <a:lnTo>
                    <a:pt x="2068" y="1592"/>
                  </a:lnTo>
                  <a:lnTo>
                    <a:pt x="2109" y="1586"/>
                  </a:lnTo>
                  <a:lnTo>
                    <a:pt x="2142" y="1582"/>
                  </a:lnTo>
                  <a:lnTo>
                    <a:pt x="2169" y="1578"/>
                  </a:lnTo>
                  <a:lnTo>
                    <a:pt x="2194" y="1576"/>
                  </a:lnTo>
                  <a:lnTo>
                    <a:pt x="2215" y="1573"/>
                  </a:lnTo>
                  <a:lnTo>
                    <a:pt x="2220" y="1572"/>
                  </a:lnTo>
                  <a:lnTo>
                    <a:pt x="2224" y="1570"/>
                  </a:lnTo>
                  <a:lnTo>
                    <a:pt x="2229" y="1568"/>
                  </a:lnTo>
                  <a:lnTo>
                    <a:pt x="2232" y="1565"/>
                  </a:lnTo>
                  <a:lnTo>
                    <a:pt x="2239" y="1558"/>
                  </a:lnTo>
                  <a:lnTo>
                    <a:pt x="2245" y="1549"/>
                  </a:lnTo>
                  <a:lnTo>
                    <a:pt x="2257" y="1529"/>
                  </a:lnTo>
                  <a:lnTo>
                    <a:pt x="2265" y="1509"/>
                  </a:lnTo>
                  <a:lnTo>
                    <a:pt x="2270" y="1499"/>
                  </a:lnTo>
                  <a:lnTo>
                    <a:pt x="2274" y="1490"/>
                  </a:lnTo>
                  <a:lnTo>
                    <a:pt x="2278" y="1482"/>
                  </a:lnTo>
                  <a:lnTo>
                    <a:pt x="2283" y="1478"/>
                  </a:lnTo>
                  <a:lnTo>
                    <a:pt x="2286" y="1475"/>
                  </a:lnTo>
                  <a:lnTo>
                    <a:pt x="2288" y="1474"/>
                  </a:lnTo>
                  <a:lnTo>
                    <a:pt x="2291" y="1473"/>
                  </a:lnTo>
                  <a:lnTo>
                    <a:pt x="2294" y="1473"/>
                  </a:lnTo>
                  <a:lnTo>
                    <a:pt x="2297" y="1474"/>
                  </a:lnTo>
                  <a:lnTo>
                    <a:pt x="2300" y="1475"/>
                  </a:lnTo>
                  <a:lnTo>
                    <a:pt x="2304" y="1478"/>
                  </a:lnTo>
                  <a:lnTo>
                    <a:pt x="2307" y="1481"/>
                  </a:lnTo>
                  <a:lnTo>
                    <a:pt x="2317" y="1488"/>
                  </a:lnTo>
                  <a:lnTo>
                    <a:pt x="2327" y="1495"/>
                  </a:lnTo>
                  <a:lnTo>
                    <a:pt x="2338" y="1500"/>
                  </a:lnTo>
                  <a:lnTo>
                    <a:pt x="2349" y="1502"/>
                  </a:lnTo>
                  <a:lnTo>
                    <a:pt x="2362" y="1505"/>
                  </a:lnTo>
                  <a:lnTo>
                    <a:pt x="2376" y="1506"/>
                  </a:lnTo>
                  <a:lnTo>
                    <a:pt x="2390" y="1507"/>
                  </a:lnTo>
                  <a:lnTo>
                    <a:pt x="2404" y="1507"/>
                  </a:lnTo>
                  <a:lnTo>
                    <a:pt x="2434" y="1505"/>
                  </a:lnTo>
                  <a:lnTo>
                    <a:pt x="2466" y="1503"/>
                  </a:lnTo>
                  <a:lnTo>
                    <a:pt x="2481" y="1502"/>
                  </a:lnTo>
                  <a:lnTo>
                    <a:pt x="2498" y="1502"/>
                  </a:lnTo>
                  <a:lnTo>
                    <a:pt x="2513" y="1503"/>
                  </a:lnTo>
                  <a:lnTo>
                    <a:pt x="2529" y="1505"/>
                  </a:lnTo>
                  <a:lnTo>
                    <a:pt x="2522" y="1496"/>
                  </a:lnTo>
                  <a:lnTo>
                    <a:pt x="2516" y="1489"/>
                  </a:lnTo>
                  <a:lnTo>
                    <a:pt x="2510" y="1481"/>
                  </a:lnTo>
                  <a:lnTo>
                    <a:pt x="2505" y="1473"/>
                  </a:lnTo>
                  <a:lnTo>
                    <a:pt x="2496" y="1457"/>
                  </a:lnTo>
                  <a:lnTo>
                    <a:pt x="2489" y="1440"/>
                  </a:lnTo>
                  <a:lnTo>
                    <a:pt x="2485" y="1424"/>
                  </a:lnTo>
                  <a:lnTo>
                    <a:pt x="2480" y="1406"/>
                  </a:lnTo>
                  <a:lnTo>
                    <a:pt x="2478" y="1390"/>
                  </a:lnTo>
                  <a:lnTo>
                    <a:pt x="2477" y="1374"/>
                  </a:lnTo>
                  <a:lnTo>
                    <a:pt x="2474" y="1342"/>
                  </a:lnTo>
                  <a:lnTo>
                    <a:pt x="2472" y="1313"/>
                  </a:lnTo>
                  <a:lnTo>
                    <a:pt x="2471" y="1300"/>
                  </a:lnTo>
                  <a:lnTo>
                    <a:pt x="2468" y="1290"/>
                  </a:lnTo>
                  <a:lnTo>
                    <a:pt x="2465" y="1279"/>
                  </a:lnTo>
                  <a:lnTo>
                    <a:pt x="2460" y="1271"/>
                  </a:lnTo>
                  <a:lnTo>
                    <a:pt x="2454" y="1263"/>
                  </a:lnTo>
                  <a:lnTo>
                    <a:pt x="2449" y="1256"/>
                  </a:lnTo>
                  <a:lnTo>
                    <a:pt x="2443" y="1250"/>
                  </a:lnTo>
                  <a:lnTo>
                    <a:pt x="2436" y="1245"/>
                  </a:lnTo>
                  <a:lnTo>
                    <a:pt x="2424" y="1238"/>
                  </a:lnTo>
                  <a:lnTo>
                    <a:pt x="2411" y="1232"/>
                  </a:lnTo>
                  <a:lnTo>
                    <a:pt x="2406" y="1229"/>
                  </a:lnTo>
                  <a:lnTo>
                    <a:pt x="2401" y="1225"/>
                  </a:lnTo>
                  <a:lnTo>
                    <a:pt x="2397" y="1222"/>
                  </a:lnTo>
                  <a:lnTo>
                    <a:pt x="2392" y="1218"/>
                  </a:lnTo>
                  <a:lnTo>
                    <a:pt x="2389" y="1214"/>
                  </a:lnTo>
                  <a:lnTo>
                    <a:pt x="2387" y="1208"/>
                  </a:lnTo>
                  <a:lnTo>
                    <a:pt x="2385" y="1201"/>
                  </a:lnTo>
                  <a:lnTo>
                    <a:pt x="2385" y="1193"/>
                  </a:lnTo>
                  <a:lnTo>
                    <a:pt x="2384" y="1183"/>
                  </a:lnTo>
                  <a:lnTo>
                    <a:pt x="2383" y="1173"/>
                  </a:lnTo>
                  <a:lnTo>
                    <a:pt x="2381" y="1161"/>
                  </a:lnTo>
                  <a:lnTo>
                    <a:pt x="2377" y="1149"/>
                  </a:lnTo>
                  <a:lnTo>
                    <a:pt x="2369" y="1121"/>
                  </a:lnTo>
                  <a:lnTo>
                    <a:pt x="2360" y="1093"/>
                  </a:lnTo>
                  <a:lnTo>
                    <a:pt x="2349" y="1064"/>
                  </a:lnTo>
                  <a:lnTo>
                    <a:pt x="2339" y="1037"/>
                  </a:lnTo>
                  <a:lnTo>
                    <a:pt x="2329" y="1012"/>
                  </a:lnTo>
                  <a:lnTo>
                    <a:pt x="2321" y="992"/>
                  </a:lnTo>
                  <a:lnTo>
                    <a:pt x="2319" y="981"/>
                  </a:lnTo>
                  <a:lnTo>
                    <a:pt x="2317" y="970"/>
                  </a:lnTo>
                  <a:lnTo>
                    <a:pt x="2314" y="957"/>
                  </a:lnTo>
                  <a:lnTo>
                    <a:pt x="2313" y="943"/>
                  </a:lnTo>
                  <a:lnTo>
                    <a:pt x="2300" y="923"/>
                  </a:lnTo>
                  <a:lnTo>
                    <a:pt x="2286" y="904"/>
                  </a:lnTo>
                  <a:lnTo>
                    <a:pt x="2270" y="888"/>
                  </a:lnTo>
                  <a:lnTo>
                    <a:pt x="2252" y="873"/>
                  </a:lnTo>
                  <a:lnTo>
                    <a:pt x="2234" y="859"/>
                  </a:lnTo>
                  <a:lnTo>
                    <a:pt x="2213" y="846"/>
                  </a:lnTo>
                  <a:lnTo>
                    <a:pt x="2192" y="833"/>
                  </a:lnTo>
                  <a:lnTo>
                    <a:pt x="2170" y="822"/>
                  </a:lnTo>
                  <a:lnTo>
                    <a:pt x="2147" y="813"/>
                  </a:lnTo>
                  <a:lnTo>
                    <a:pt x="2124" y="804"/>
                  </a:lnTo>
                  <a:lnTo>
                    <a:pt x="2100" y="795"/>
                  </a:lnTo>
                  <a:lnTo>
                    <a:pt x="2077" y="787"/>
                  </a:lnTo>
                  <a:lnTo>
                    <a:pt x="2029" y="773"/>
                  </a:lnTo>
                  <a:lnTo>
                    <a:pt x="1981" y="760"/>
                  </a:lnTo>
                  <a:lnTo>
                    <a:pt x="1960" y="755"/>
                  </a:lnTo>
                  <a:lnTo>
                    <a:pt x="1943" y="746"/>
                  </a:lnTo>
                  <a:lnTo>
                    <a:pt x="1926" y="738"/>
                  </a:lnTo>
                  <a:lnTo>
                    <a:pt x="1915" y="729"/>
                  </a:lnTo>
                  <a:lnTo>
                    <a:pt x="1903" y="718"/>
                  </a:lnTo>
                  <a:lnTo>
                    <a:pt x="1895" y="708"/>
                  </a:lnTo>
                  <a:lnTo>
                    <a:pt x="1888" y="695"/>
                  </a:lnTo>
                  <a:lnTo>
                    <a:pt x="1881" y="682"/>
                  </a:lnTo>
                  <a:lnTo>
                    <a:pt x="1870" y="655"/>
                  </a:lnTo>
                  <a:lnTo>
                    <a:pt x="1860" y="625"/>
                  </a:lnTo>
                  <a:lnTo>
                    <a:pt x="1854" y="610"/>
                  </a:lnTo>
                  <a:lnTo>
                    <a:pt x="1846" y="593"/>
                  </a:lnTo>
                  <a:lnTo>
                    <a:pt x="1838" y="576"/>
                  </a:lnTo>
                  <a:lnTo>
                    <a:pt x="1826" y="560"/>
                  </a:lnTo>
                  <a:lnTo>
                    <a:pt x="1793" y="547"/>
                  </a:lnTo>
                  <a:lnTo>
                    <a:pt x="1762" y="534"/>
                  </a:lnTo>
                  <a:lnTo>
                    <a:pt x="1732" y="520"/>
                  </a:lnTo>
                  <a:lnTo>
                    <a:pt x="1706" y="505"/>
                  </a:lnTo>
                  <a:lnTo>
                    <a:pt x="1680" y="489"/>
                  </a:lnTo>
                  <a:lnTo>
                    <a:pt x="1658" y="474"/>
                  </a:lnTo>
                  <a:lnTo>
                    <a:pt x="1637" y="459"/>
                  </a:lnTo>
                  <a:lnTo>
                    <a:pt x="1619" y="444"/>
                  </a:lnTo>
                  <a:lnTo>
                    <a:pt x="1589" y="417"/>
                  </a:lnTo>
                  <a:lnTo>
                    <a:pt x="1567" y="395"/>
                  </a:lnTo>
                  <a:lnTo>
                    <a:pt x="1554" y="381"/>
                  </a:lnTo>
                  <a:lnTo>
                    <a:pt x="1550" y="375"/>
                  </a:lnTo>
                  <a:lnTo>
                    <a:pt x="1394" y="329"/>
                  </a:lnTo>
                  <a:lnTo>
                    <a:pt x="10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170"/>
            <p:cNvSpPr/>
            <p:nvPr/>
          </p:nvSpPr>
          <p:spPr>
            <a:xfrm>
              <a:off x="8033040" y="5752800"/>
              <a:ext cx="382320" cy="282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529" h="1729">
                  <a:moveTo>
                    <a:pt x="1040" y="0"/>
                  </a:moveTo>
                  <a:lnTo>
                    <a:pt x="0" y="116"/>
                  </a:lnTo>
                  <a:lnTo>
                    <a:pt x="8" y="127"/>
                  </a:lnTo>
                  <a:lnTo>
                    <a:pt x="33" y="159"/>
                  </a:lnTo>
                  <a:lnTo>
                    <a:pt x="70" y="208"/>
                  </a:lnTo>
                  <a:lnTo>
                    <a:pt x="119" y="272"/>
                  </a:lnTo>
                  <a:lnTo>
                    <a:pt x="177" y="349"/>
                  </a:lnTo>
                  <a:lnTo>
                    <a:pt x="240" y="435"/>
                  </a:lnTo>
                  <a:lnTo>
                    <a:pt x="308" y="527"/>
                  </a:lnTo>
                  <a:lnTo>
                    <a:pt x="379" y="621"/>
                  </a:lnTo>
                  <a:lnTo>
                    <a:pt x="449" y="717"/>
                  </a:lnTo>
                  <a:lnTo>
                    <a:pt x="516" y="811"/>
                  </a:lnTo>
                  <a:lnTo>
                    <a:pt x="580" y="899"/>
                  </a:lnTo>
                  <a:lnTo>
                    <a:pt x="636" y="980"/>
                  </a:lnTo>
                  <a:lnTo>
                    <a:pt x="682" y="1049"/>
                  </a:lnTo>
                  <a:lnTo>
                    <a:pt x="719" y="1105"/>
                  </a:lnTo>
                  <a:lnTo>
                    <a:pt x="731" y="1127"/>
                  </a:lnTo>
                  <a:lnTo>
                    <a:pt x="741" y="1145"/>
                  </a:lnTo>
                  <a:lnTo>
                    <a:pt x="745" y="1156"/>
                  </a:lnTo>
                  <a:lnTo>
                    <a:pt x="747" y="1165"/>
                  </a:lnTo>
                  <a:lnTo>
                    <a:pt x="744" y="1175"/>
                  </a:lnTo>
                  <a:lnTo>
                    <a:pt x="744" y="1191"/>
                  </a:lnTo>
                  <a:lnTo>
                    <a:pt x="744" y="1211"/>
                  </a:lnTo>
                  <a:lnTo>
                    <a:pt x="748" y="1236"/>
                  </a:lnTo>
                  <a:lnTo>
                    <a:pt x="751" y="1263"/>
                  </a:lnTo>
                  <a:lnTo>
                    <a:pt x="757" y="1293"/>
                  </a:lnTo>
                  <a:lnTo>
                    <a:pt x="764" y="1325"/>
                  </a:lnTo>
                  <a:lnTo>
                    <a:pt x="773" y="1358"/>
                  </a:lnTo>
                  <a:lnTo>
                    <a:pt x="785" y="1392"/>
                  </a:lnTo>
                  <a:lnTo>
                    <a:pt x="798" y="1427"/>
                  </a:lnTo>
                  <a:lnTo>
                    <a:pt x="812" y="1461"/>
                  </a:lnTo>
                  <a:lnTo>
                    <a:pt x="829" y="1495"/>
                  </a:lnTo>
                  <a:lnTo>
                    <a:pt x="839" y="1512"/>
                  </a:lnTo>
                  <a:lnTo>
                    <a:pt x="848" y="1527"/>
                  </a:lnTo>
                  <a:lnTo>
                    <a:pt x="858" y="1543"/>
                  </a:lnTo>
                  <a:lnTo>
                    <a:pt x="868" y="1558"/>
                  </a:lnTo>
                  <a:lnTo>
                    <a:pt x="880" y="1572"/>
                  </a:lnTo>
                  <a:lnTo>
                    <a:pt x="891" y="1585"/>
                  </a:lnTo>
                  <a:lnTo>
                    <a:pt x="903" y="1598"/>
                  </a:lnTo>
                  <a:lnTo>
                    <a:pt x="916" y="1611"/>
                  </a:lnTo>
                  <a:lnTo>
                    <a:pt x="938" y="1628"/>
                  </a:lnTo>
                  <a:lnTo>
                    <a:pt x="958" y="1644"/>
                  </a:lnTo>
                  <a:lnTo>
                    <a:pt x="978" y="1658"/>
                  </a:lnTo>
                  <a:lnTo>
                    <a:pt x="997" y="1670"/>
                  </a:lnTo>
                  <a:lnTo>
                    <a:pt x="1015" y="1682"/>
                  </a:lnTo>
                  <a:lnTo>
                    <a:pt x="1033" y="1693"/>
                  </a:lnTo>
                  <a:lnTo>
                    <a:pt x="1050" y="1701"/>
                  </a:lnTo>
                  <a:lnTo>
                    <a:pt x="1068" y="1708"/>
                  </a:lnTo>
                  <a:lnTo>
                    <a:pt x="1085" y="1715"/>
                  </a:lnTo>
                  <a:lnTo>
                    <a:pt x="1103" y="1719"/>
                  </a:lnTo>
                  <a:lnTo>
                    <a:pt x="1120" y="1723"/>
                  </a:lnTo>
                  <a:lnTo>
                    <a:pt x="1139" y="1726"/>
                  </a:lnTo>
                  <a:lnTo>
                    <a:pt x="1159" y="1728"/>
                  </a:lnTo>
                  <a:lnTo>
                    <a:pt x="1179" y="1729"/>
                  </a:lnTo>
                  <a:lnTo>
                    <a:pt x="1200" y="1729"/>
                  </a:lnTo>
                  <a:lnTo>
                    <a:pt x="1222" y="1728"/>
                  </a:lnTo>
                  <a:lnTo>
                    <a:pt x="1272" y="1722"/>
                  </a:lnTo>
                  <a:lnTo>
                    <a:pt x="1328" y="1714"/>
                  </a:lnTo>
                  <a:lnTo>
                    <a:pt x="1393" y="1703"/>
                  </a:lnTo>
                  <a:lnTo>
                    <a:pt x="1467" y="1690"/>
                  </a:lnTo>
                  <a:lnTo>
                    <a:pt x="1553" y="1675"/>
                  </a:lnTo>
                  <a:lnTo>
                    <a:pt x="1651" y="1658"/>
                  </a:lnTo>
                  <a:lnTo>
                    <a:pt x="1763" y="1639"/>
                  </a:lnTo>
                  <a:lnTo>
                    <a:pt x="1890" y="1619"/>
                  </a:lnTo>
                  <a:lnTo>
                    <a:pt x="1960" y="1608"/>
                  </a:lnTo>
                  <a:lnTo>
                    <a:pt x="2019" y="1599"/>
                  </a:lnTo>
                  <a:lnTo>
                    <a:pt x="2068" y="1592"/>
                  </a:lnTo>
                  <a:lnTo>
                    <a:pt x="2109" y="1586"/>
                  </a:lnTo>
                  <a:lnTo>
                    <a:pt x="2142" y="1582"/>
                  </a:lnTo>
                  <a:lnTo>
                    <a:pt x="2169" y="1578"/>
                  </a:lnTo>
                  <a:lnTo>
                    <a:pt x="2194" y="1576"/>
                  </a:lnTo>
                  <a:lnTo>
                    <a:pt x="2215" y="1573"/>
                  </a:lnTo>
                  <a:lnTo>
                    <a:pt x="2220" y="1572"/>
                  </a:lnTo>
                  <a:lnTo>
                    <a:pt x="2224" y="1570"/>
                  </a:lnTo>
                  <a:lnTo>
                    <a:pt x="2229" y="1568"/>
                  </a:lnTo>
                  <a:lnTo>
                    <a:pt x="2232" y="1565"/>
                  </a:lnTo>
                  <a:lnTo>
                    <a:pt x="2239" y="1558"/>
                  </a:lnTo>
                  <a:lnTo>
                    <a:pt x="2245" y="1549"/>
                  </a:lnTo>
                  <a:lnTo>
                    <a:pt x="2257" y="1529"/>
                  </a:lnTo>
                  <a:lnTo>
                    <a:pt x="2265" y="1509"/>
                  </a:lnTo>
                  <a:lnTo>
                    <a:pt x="2270" y="1499"/>
                  </a:lnTo>
                  <a:lnTo>
                    <a:pt x="2274" y="1490"/>
                  </a:lnTo>
                  <a:lnTo>
                    <a:pt x="2278" y="1482"/>
                  </a:lnTo>
                  <a:lnTo>
                    <a:pt x="2283" y="1478"/>
                  </a:lnTo>
                  <a:lnTo>
                    <a:pt x="2286" y="1475"/>
                  </a:lnTo>
                  <a:lnTo>
                    <a:pt x="2288" y="1474"/>
                  </a:lnTo>
                  <a:lnTo>
                    <a:pt x="2291" y="1473"/>
                  </a:lnTo>
                  <a:lnTo>
                    <a:pt x="2294" y="1473"/>
                  </a:lnTo>
                  <a:lnTo>
                    <a:pt x="2297" y="1474"/>
                  </a:lnTo>
                  <a:lnTo>
                    <a:pt x="2300" y="1475"/>
                  </a:lnTo>
                  <a:lnTo>
                    <a:pt x="2304" y="1478"/>
                  </a:lnTo>
                  <a:lnTo>
                    <a:pt x="2307" y="1481"/>
                  </a:lnTo>
                  <a:lnTo>
                    <a:pt x="2317" y="1488"/>
                  </a:lnTo>
                  <a:lnTo>
                    <a:pt x="2327" y="1495"/>
                  </a:lnTo>
                  <a:lnTo>
                    <a:pt x="2338" y="1500"/>
                  </a:lnTo>
                  <a:lnTo>
                    <a:pt x="2349" y="1502"/>
                  </a:lnTo>
                  <a:lnTo>
                    <a:pt x="2362" y="1505"/>
                  </a:lnTo>
                  <a:lnTo>
                    <a:pt x="2376" y="1506"/>
                  </a:lnTo>
                  <a:lnTo>
                    <a:pt x="2390" y="1507"/>
                  </a:lnTo>
                  <a:lnTo>
                    <a:pt x="2404" y="1507"/>
                  </a:lnTo>
                  <a:lnTo>
                    <a:pt x="2434" y="1505"/>
                  </a:lnTo>
                  <a:lnTo>
                    <a:pt x="2466" y="1503"/>
                  </a:lnTo>
                  <a:lnTo>
                    <a:pt x="2481" y="1502"/>
                  </a:lnTo>
                  <a:lnTo>
                    <a:pt x="2498" y="1502"/>
                  </a:lnTo>
                  <a:lnTo>
                    <a:pt x="2513" y="1503"/>
                  </a:lnTo>
                  <a:lnTo>
                    <a:pt x="2529" y="1505"/>
                  </a:lnTo>
                  <a:lnTo>
                    <a:pt x="2522" y="1496"/>
                  </a:lnTo>
                  <a:lnTo>
                    <a:pt x="2516" y="1489"/>
                  </a:lnTo>
                  <a:lnTo>
                    <a:pt x="2510" y="1481"/>
                  </a:lnTo>
                  <a:lnTo>
                    <a:pt x="2505" y="1473"/>
                  </a:lnTo>
                  <a:lnTo>
                    <a:pt x="2496" y="1457"/>
                  </a:lnTo>
                  <a:lnTo>
                    <a:pt x="2489" y="1440"/>
                  </a:lnTo>
                  <a:lnTo>
                    <a:pt x="2485" y="1424"/>
                  </a:lnTo>
                  <a:lnTo>
                    <a:pt x="2480" y="1406"/>
                  </a:lnTo>
                  <a:lnTo>
                    <a:pt x="2478" y="1390"/>
                  </a:lnTo>
                  <a:lnTo>
                    <a:pt x="2477" y="1374"/>
                  </a:lnTo>
                  <a:lnTo>
                    <a:pt x="2474" y="1342"/>
                  </a:lnTo>
                  <a:lnTo>
                    <a:pt x="2472" y="1313"/>
                  </a:lnTo>
                  <a:lnTo>
                    <a:pt x="2471" y="1300"/>
                  </a:lnTo>
                  <a:lnTo>
                    <a:pt x="2468" y="1290"/>
                  </a:lnTo>
                  <a:lnTo>
                    <a:pt x="2465" y="1279"/>
                  </a:lnTo>
                  <a:lnTo>
                    <a:pt x="2460" y="1271"/>
                  </a:lnTo>
                  <a:lnTo>
                    <a:pt x="2454" y="1263"/>
                  </a:lnTo>
                  <a:lnTo>
                    <a:pt x="2449" y="1256"/>
                  </a:lnTo>
                  <a:lnTo>
                    <a:pt x="2443" y="1250"/>
                  </a:lnTo>
                  <a:lnTo>
                    <a:pt x="2436" y="1245"/>
                  </a:lnTo>
                  <a:lnTo>
                    <a:pt x="2424" y="1238"/>
                  </a:lnTo>
                  <a:lnTo>
                    <a:pt x="2411" y="1232"/>
                  </a:lnTo>
                  <a:lnTo>
                    <a:pt x="2406" y="1229"/>
                  </a:lnTo>
                  <a:lnTo>
                    <a:pt x="2401" y="1225"/>
                  </a:lnTo>
                  <a:lnTo>
                    <a:pt x="2397" y="1222"/>
                  </a:lnTo>
                  <a:lnTo>
                    <a:pt x="2392" y="1218"/>
                  </a:lnTo>
                  <a:lnTo>
                    <a:pt x="2389" y="1214"/>
                  </a:lnTo>
                  <a:lnTo>
                    <a:pt x="2387" y="1208"/>
                  </a:lnTo>
                  <a:lnTo>
                    <a:pt x="2385" y="1201"/>
                  </a:lnTo>
                  <a:lnTo>
                    <a:pt x="2385" y="1193"/>
                  </a:lnTo>
                  <a:lnTo>
                    <a:pt x="2384" y="1183"/>
                  </a:lnTo>
                  <a:lnTo>
                    <a:pt x="2383" y="1173"/>
                  </a:lnTo>
                  <a:lnTo>
                    <a:pt x="2381" y="1161"/>
                  </a:lnTo>
                  <a:lnTo>
                    <a:pt x="2377" y="1149"/>
                  </a:lnTo>
                  <a:lnTo>
                    <a:pt x="2369" y="1121"/>
                  </a:lnTo>
                  <a:lnTo>
                    <a:pt x="2360" y="1093"/>
                  </a:lnTo>
                  <a:lnTo>
                    <a:pt x="2349" y="1064"/>
                  </a:lnTo>
                  <a:lnTo>
                    <a:pt x="2339" y="1037"/>
                  </a:lnTo>
                  <a:lnTo>
                    <a:pt x="2329" y="1012"/>
                  </a:lnTo>
                  <a:lnTo>
                    <a:pt x="2321" y="992"/>
                  </a:lnTo>
                  <a:lnTo>
                    <a:pt x="2319" y="981"/>
                  </a:lnTo>
                  <a:lnTo>
                    <a:pt x="2317" y="970"/>
                  </a:lnTo>
                  <a:lnTo>
                    <a:pt x="2314" y="957"/>
                  </a:lnTo>
                  <a:lnTo>
                    <a:pt x="2313" y="943"/>
                  </a:lnTo>
                  <a:lnTo>
                    <a:pt x="2300" y="923"/>
                  </a:lnTo>
                  <a:lnTo>
                    <a:pt x="2286" y="904"/>
                  </a:lnTo>
                  <a:lnTo>
                    <a:pt x="2270" y="888"/>
                  </a:lnTo>
                  <a:lnTo>
                    <a:pt x="2252" y="873"/>
                  </a:lnTo>
                  <a:lnTo>
                    <a:pt x="2234" y="859"/>
                  </a:lnTo>
                  <a:lnTo>
                    <a:pt x="2213" y="846"/>
                  </a:lnTo>
                  <a:lnTo>
                    <a:pt x="2192" y="833"/>
                  </a:lnTo>
                  <a:lnTo>
                    <a:pt x="2170" y="822"/>
                  </a:lnTo>
                  <a:lnTo>
                    <a:pt x="2147" y="813"/>
                  </a:lnTo>
                  <a:lnTo>
                    <a:pt x="2124" y="804"/>
                  </a:lnTo>
                  <a:lnTo>
                    <a:pt x="2100" y="795"/>
                  </a:lnTo>
                  <a:lnTo>
                    <a:pt x="2077" y="787"/>
                  </a:lnTo>
                  <a:lnTo>
                    <a:pt x="2029" y="773"/>
                  </a:lnTo>
                  <a:lnTo>
                    <a:pt x="1981" y="760"/>
                  </a:lnTo>
                  <a:lnTo>
                    <a:pt x="1960" y="755"/>
                  </a:lnTo>
                  <a:lnTo>
                    <a:pt x="1943" y="746"/>
                  </a:lnTo>
                  <a:lnTo>
                    <a:pt x="1926" y="738"/>
                  </a:lnTo>
                  <a:lnTo>
                    <a:pt x="1915" y="729"/>
                  </a:lnTo>
                  <a:lnTo>
                    <a:pt x="1903" y="718"/>
                  </a:lnTo>
                  <a:lnTo>
                    <a:pt x="1895" y="708"/>
                  </a:lnTo>
                  <a:lnTo>
                    <a:pt x="1888" y="695"/>
                  </a:lnTo>
                  <a:lnTo>
                    <a:pt x="1881" y="682"/>
                  </a:lnTo>
                  <a:lnTo>
                    <a:pt x="1870" y="655"/>
                  </a:lnTo>
                  <a:lnTo>
                    <a:pt x="1860" y="625"/>
                  </a:lnTo>
                  <a:lnTo>
                    <a:pt x="1854" y="610"/>
                  </a:lnTo>
                  <a:lnTo>
                    <a:pt x="1846" y="593"/>
                  </a:lnTo>
                  <a:lnTo>
                    <a:pt x="1838" y="576"/>
                  </a:lnTo>
                  <a:lnTo>
                    <a:pt x="1826" y="560"/>
                  </a:lnTo>
                  <a:lnTo>
                    <a:pt x="1793" y="547"/>
                  </a:lnTo>
                  <a:lnTo>
                    <a:pt x="1762" y="534"/>
                  </a:lnTo>
                  <a:lnTo>
                    <a:pt x="1732" y="520"/>
                  </a:lnTo>
                  <a:lnTo>
                    <a:pt x="1706" y="505"/>
                  </a:lnTo>
                  <a:lnTo>
                    <a:pt x="1680" y="489"/>
                  </a:lnTo>
                  <a:lnTo>
                    <a:pt x="1658" y="474"/>
                  </a:lnTo>
                  <a:lnTo>
                    <a:pt x="1637" y="459"/>
                  </a:lnTo>
                  <a:lnTo>
                    <a:pt x="1619" y="444"/>
                  </a:lnTo>
                  <a:lnTo>
                    <a:pt x="1589" y="417"/>
                  </a:lnTo>
                  <a:lnTo>
                    <a:pt x="1567" y="395"/>
                  </a:lnTo>
                  <a:lnTo>
                    <a:pt x="1554" y="381"/>
                  </a:lnTo>
                  <a:lnTo>
                    <a:pt x="1550" y="375"/>
                  </a:lnTo>
                  <a:lnTo>
                    <a:pt x="1394" y="329"/>
                  </a:lnTo>
                  <a:lnTo>
                    <a:pt x="1040" y="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171"/>
            <p:cNvSpPr/>
            <p:nvPr/>
          </p:nvSpPr>
          <p:spPr>
            <a:xfrm>
              <a:off x="8026200" y="5994720"/>
              <a:ext cx="738000" cy="42840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4885" h="2626">
                  <a:moveTo>
                    <a:pt x="2572" y="32"/>
                  </a:moveTo>
                  <a:lnTo>
                    <a:pt x="2556" y="30"/>
                  </a:lnTo>
                  <a:lnTo>
                    <a:pt x="2541" y="29"/>
                  </a:lnTo>
                  <a:lnTo>
                    <a:pt x="2524" y="29"/>
                  </a:lnTo>
                  <a:lnTo>
                    <a:pt x="2509" y="30"/>
                  </a:lnTo>
                  <a:lnTo>
                    <a:pt x="2477" y="32"/>
                  </a:lnTo>
                  <a:lnTo>
                    <a:pt x="2447" y="34"/>
                  </a:lnTo>
                  <a:lnTo>
                    <a:pt x="2433" y="34"/>
                  </a:lnTo>
                  <a:lnTo>
                    <a:pt x="2419" y="33"/>
                  </a:lnTo>
                  <a:lnTo>
                    <a:pt x="2405" y="32"/>
                  </a:lnTo>
                  <a:lnTo>
                    <a:pt x="2392" y="29"/>
                  </a:lnTo>
                  <a:lnTo>
                    <a:pt x="2381" y="27"/>
                  </a:lnTo>
                  <a:lnTo>
                    <a:pt x="2370" y="22"/>
                  </a:lnTo>
                  <a:lnTo>
                    <a:pt x="2360" y="15"/>
                  </a:lnTo>
                  <a:lnTo>
                    <a:pt x="2350" y="8"/>
                  </a:lnTo>
                  <a:lnTo>
                    <a:pt x="2347" y="5"/>
                  </a:lnTo>
                  <a:lnTo>
                    <a:pt x="2343" y="2"/>
                  </a:lnTo>
                  <a:lnTo>
                    <a:pt x="2340" y="1"/>
                  </a:lnTo>
                  <a:lnTo>
                    <a:pt x="2337" y="0"/>
                  </a:lnTo>
                  <a:lnTo>
                    <a:pt x="2334" y="0"/>
                  </a:lnTo>
                  <a:lnTo>
                    <a:pt x="2331" y="1"/>
                  </a:lnTo>
                  <a:lnTo>
                    <a:pt x="2329" y="2"/>
                  </a:lnTo>
                  <a:lnTo>
                    <a:pt x="2326" y="5"/>
                  </a:lnTo>
                  <a:lnTo>
                    <a:pt x="2321" y="9"/>
                  </a:lnTo>
                  <a:lnTo>
                    <a:pt x="2317" y="17"/>
                  </a:lnTo>
                  <a:lnTo>
                    <a:pt x="2313" y="26"/>
                  </a:lnTo>
                  <a:lnTo>
                    <a:pt x="2308" y="36"/>
                  </a:lnTo>
                  <a:lnTo>
                    <a:pt x="2300" y="56"/>
                  </a:lnTo>
                  <a:lnTo>
                    <a:pt x="2288" y="76"/>
                  </a:lnTo>
                  <a:lnTo>
                    <a:pt x="2282" y="85"/>
                  </a:lnTo>
                  <a:lnTo>
                    <a:pt x="2275" y="92"/>
                  </a:lnTo>
                  <a:lnTo>
                    <a:pt x="2272" y="95"/>
                  </a:lnTo>
                  <a:lnTo>
                    <a:pt x="2267" y="97"/>
                  </a:lnTo>
                  <a:lnTo>
                    <a:pt x="2263" y="99"/>
                  </a:lnTo>
                  <a:lnTo>
                    <a:pt x="2258" y="100"/>
                  </a:lnTo>
                  <a:lnTo>
                    <a:pt x="2237" y="103"/>
                  </a:lnTo>
                  <a:lnTo>
                    <a:pt x="2212" y="105"/>
                  </a:lnTo>
                  <a:lnTo>
                    <a:pt x="2185" y="109"/>
                  </a:lnTo>
                  <a:lnTo>
                    <a:pt x="2152" y="113"/>
                  </a:lnTo>
                  <a:lnTo>
                    <a:pt x="2111" y="119"/>
                  </a:lnTo>
                  <a:lnTo>
                    <a:pt x="2062" y="126"/>
                  </a:lnTo>
                  <a:lnTo>
                    <a:pt x="2003" y="135"/>
                  </a:lnTo>
                  <a:lnTo>
                    <a:pt x="1933" y="146"/>
                  </a:lnTo>
                  <a:lnTo>
                    <a:pt x="1806" y="166"/>
                  </a:lnTo>
                  <a:lnTo>
                    <a:pt x="1694" y="185"/>
                  </a:lnTo>
                  <a:lnTo>
                    <a:pt x="1596" y="202"/>
                  </a:lnTo>
                  <a:lnTo>
                    <a:pt x="1510" y="217"/>
                  </a:lnTo>
                  <a:lnTo>
                    <a:pt x="1436" y="230"/>
                  </a:lnTo>
                  <a:lnTo>
                    <a:pt x="1371" y="241"/>
                  </a:lnTo>
                  <a:lnTo>
                    <a:pt x="1315" y="249"/>
                  </a:lnTo>
                  <a:lnTo>
                    <a:pt x="1265" y="255"/>
                  </a:lnTo>
                  <a:lnTo>
                    <a:pt x="1243" y="256"/>
                  </a:lnTo>
                  <a:lnTo>
                    <a:pt x="1222" y="256"/>
                  </a:lnTo>
                  <a:lnTo>
                    <a:pt x="1202" y="255"/>
                  </a:lnTo>
                  <a:lnTo>
                    <a:pt x="1182" y="253"/>
                  </a:lnTo>
                  <a:lnTo>
                    <a:pt x="1163" y="250"/>
                  </a:lnTo>
                  <a:lnTo>
                    <a:pt x="1146" y="246"/>
                  </a:lnTo>
                  <a:lnTo>
                    <a:pt x="1128" y="242"/>
                  </a:lnTo>
                  <a:lnTo>
                    <a:pt x="1111" y="235"/>
                  </a:lnTo>
                  <a:lnTo>
                    <a:pt x="1093" y="228"/>
                  </a:lnTo>
                  <a:lnTo>
                    <a:pt x="1076" y="220"/>
                  </a:lnTo>
                  <a:lnTo>
                    <a:pt x="1058" y="209"/>
                  </a:lnTo>
                  <a:lnTo>
                    <a:pt x="1040" y="197"/>
                  </a:lnTo>
                  <a:lnTo>
                    <a:pt x="1021" y="185"/>
                  </a:lnTo>
                  <a:lnTo>
                    <a:pt x="1001" y="171"/>
                  </a:lnTo>
                  <a:lnTo>
                    <a:pt x="981" y="155"/>
                  </a:lnTo>
                  <a:lnTo>
                    <a:pt x="959" y="138"/>
                  </a:lnTo>
                  <a:lnTo>
                    <a:pt x="0" y="230"/>
                  </a:lnTo>
                  <a:lnTo>
                    <a:pt x="12" y="238"/>
                  </a:lnTo>
                  <a:lnTo>
                    <a:pt x="24" y="251"/>
                  </a:lnTo>
                  <a:lnTo>
                    <a:pt x="37" y="265"/>
                  </a:lnTo>
                  <a:lnTo>
                    <a:pt x="49" y="283"/>
                  </a:lnTo>
                  <a:lnTo>
                    <a:pt x="62" y="301"/>
                  </a:lnTo>
                  <a:lnTo>
                    <a:pt x="73" y="322"/>
                  </a:lnTo>
                  <a:lnTo>
                    <a:pt x="84" y="343"/>
                  </a:lnTo>
                  <a:lnTo>
                    <a:pt x="95" y="367"/>
                  </a:lnTo>
                  <a:lnTo>
                    <a:pt x="104" y="390"/>
                  </a:lnTo>
                  <a:lnTo>
                    <a:pt x="112" y="415"/>
                  </a:lnTo>
                  <a:lnTo>
                    <a:pt x="118" y="439"/>
                  </a:lnTo>
                  <a:lnTo>
                    <a:pt x="124" y="463"/>
                  </a:lnTo>
                  <a:lnTo>
                    <a:pt x="126" y="486"/>
                  </a:lnTo>
                  <a:lnTo>
                    <a:pt x="127" y="508"/>
                  </a:lnTo>
                  <a:lnTo>
                    <a:pt x="127" y="519"/>
                  </a:lnTo>
                  <a:lnTo>
                    <a:pt x="127" y="529"/>
                  </a:lnTo>
                  <a:lnTo>
                    <a:pt x="126" y="540"/>
                  </a:lnTo>
                  <a:lnTo>
                    <a:pt x="124" y="549"/>
                  </a:lnTo>
                  <a:lnTo>
                    <a:pt x="183" y="543"/>
                  </a:lnTo>
                  <a:lnTo>
                    <a:pt x="244" y="537"/>
                  </a:lnTo>
                  <a:lnTo>
                    <a:pt x="305" y="531"/>
                  </a:lnTo>
                  <a:lnTo>
                    <a:pt x="366" y="527"/>
                  </a:lnTo>
                  <a:lnTo>
                    <a:pt x="426" y="522"/>
                  </a:lnTo>
                  <a:lnTo>
                    <a:pt x="487" y="519"/>
                  </a:lnTo>
                  <a:lnTo>
                    <a:pt x="548" y="515"/>
                  </a:lnTo>
                  <a:lnTo>
                    <a:pt x="606" y="513"/>
                  </a:lnTo>
                  <a:lnTo>
                    <a:pt x="665" y="510"/>
                  </a:lnTo>
                  <a:lnTo>
                    <a:pt x="721" y="510"/>
                  </a:lnTo>
                  <a:lnTo>
                    <a:pt x="776" y="509"/>
                  </a:lnTo>
                  <a:lnTo>
                    <a:pt x="829" y="510"/>
                  </a:lnTo>
                  <a:lnTo>
                    <a:pt x="881" y="513"/>
                  </a:lnTo>
                  <a:lnTo>
                    <a:pt x="930" y="515"/>
                  </a:lnTo>
                  <a:lnTo>
                    <a:pt x="976" y="519"/>
                  </a:lnTo>
                  <a:lnTo>
                    <a:pt x="1020" y="523"/>
                  </a:lnTo>
                  <a:lnTo>
                    <a:pt x="1030" y="527"/>
                  </a:lnTo>
                  <a:lnTo>
                    <a:pt x="1058" y="535"/>
                  </a:lnTo>
                  <a:lnTo>
                    <a:pt x="1077" y="542"/>
                  </a:lnTo>
                  <a:lnTo>
                    <a:pt x="1098" y="550"/>
                  </a:lnTo>
                  <a:lnTo>
                    <a:pt x="1120" y="559"/>
                  </a:lnTo>
                  <a:lnTo>
                    <a:pt x="1143" y="571"/>
                  </a:lnTo>
                  <a:lnTo>
                    <a:pt x="1167" y="583"/>
                  </a:lnTo>
                  <a:lnTo>
                    <a:pt x="1189" y="597"/>
                  </a:lnTo>
                  <a:lnTo>
                    <a:pt x="1200" y="605"/>
                  </a:lnTo>
                  <a:lnTo>
                    <a:pt x="1210" y="612"/>
                  </a:lnTo>
                  <a:lnTo>
                    <a:pt x="1219" y="620"/>
                  </a:lnTo>
                  <a:lnTo>
                    <a:pt x="1229" y="630"/>
                  </a:lnTo>
                  <a:lnTo>
                    <a:pt x="1237" y="638"/>
                  </a:lnTo>
                  <a:lnTo>
                    <a:pt x="1244" y="647"/>
                  </a:lnTo>
                  <a:lnTo>
                    <a:pt x="1251" y="658"/>
                  </a:lnTo>
                  <a:lnTo>
                    <a:pt x="1257" y="667"/>
                  </a:lnTo>
                  <a:lnTo>
                    <a:pt x="1261" y="677"/>
                  </a:lnTo>
                  <a:lnTo>
                    <a:pt x="1265" y="688"/>
                  </a:lnTo>
                  <a:lnTo>
                    <a:pt x="1266" y="700"/>
                  </a:lnTo>
                  <a:lnTo>
                    <a:pt x="1267" y="710"/>
                  </a:lnTo>
                  <a:lnTo>
                    <a:pt x="1268" y="722"/>
                  </a:lnTo>
                  <a:lnTo>
                    <a:pt x="1271" y="731"/>
                  </a:lnTo>
                  <a:lnTo>
                    <a:pt x="1274" y="738"/>
                  </a:lnTo>
                  <a:lnTo>
                    <a:pt x="1279" y="745"/>
                  </a:lnTo>
                  <a:lnTo>
                    <a:pt x="1286" y="750"/>
                  </a:lnTo>
                  <a:lnTo>
                    <a:pt x="1293" y="753"/>
                  </a:lnTo>
                  <a:lnTo>
                    <a:pt x="1301" y="757"/>
                  </a:lnTo>
                  <a:lnTo>
                    <a:pt x="1311" y="758"/>
                  </a:lnTo>
                  <a:lnTo>
                    <a:pt x="1321" y="758"/>
                  </a:lnTo>
                  <a:lnTo>
                    <a:pt x="1332" y="758"/>
                  </a:lnTo>
                  <a:lnTo>
                    <a:pt x="1343" y="757"/>
                  </a:lnTo>
                  <a:lnTo>
                    <a:pt x="1356" y="755"/>
                  </a:lnTo>
                  <a:lnTo>
                    <a:pt x="1381" y="749"/>
                  </a:lnTo>
                  <a:lnTo>
                    <a:pt x="1407" y="742"/>
                  </a:lnTo>
                  <a:lnTo>
                    <a:pt x="1433" y="732"/>
                  </a:lnTo>
                  <a:lnTo>
                    <a:pt x="1458" y="722"/>
                  </a:lnTo>
                  <a:lnTo>
                    <a:pt x="1482" y="711"/>
                  </a:lnTo>
                  <a:lnTo>
                    <a:pt x="1503" y="701"/>
                  </a:lnTo>
                  <a:lnTo>
                    <a:pt x="1535" y="686"/>
                  </a:lnTo>
                  <a:lnTo>
                    <a:pt x="1546" y="679"/>
                  </a:lnTo>
                  <a:lnTo>
                    <a:pt x="1639" y="494"/>
                  </a:lnTo>
                  <a:lnTo>
                    <a:pt x="1823" y="494"/>
                  </a:lnTo>
                  <a:lnTo>
                    <a:pt x="1979" y="616"/>
                  </a:lnTo>
                  <a:lnTo>
                    <a:pt x="2071" y="616"/>
                  </a:lnTo>
                  <a:lnTo>
                    <a:pt x="2258" y="771"/>
                  </a:lnTo>
                  <a:lnTo>
                    <a:pt x="2535" y="771"/>
                  </a:lnTo>
                  <a:lnTo>
                    <a:pt x="2531" y="791"/>
                  </a:lnTo>
                  <a:lnTo>
                    <a:pt x="2532" y="815"/>
                  </a:lnTo>
                  <a:lnTo>
                    <a:pt x="2537" y="843"/>
                  </a:lnTo>
                  <a:lnTo>
                    <a:pt x="2546" y="875"/>
                  </a:lnTo>
                  <a:lnTo>
                    <a:pt x="2559" y="910"/>
                  </a:lnTo>
                  <a:lnTo>
                    <a:pt x="2576" y="948"/>
                  </a:lnTo>
                  <a:lnTo>
                    <a:pt x="2595" y="989"/>
                  </a:lnTo>
                  <a:lnTo>
                    <a:pt x="2618" y="1033"/>
                  </a:lnTo>
                  <a:lnTo>
                    <a:pt x="2643" y="1079"/>
                  </a:lnTo>
                  <a:lnTo>
                    <a:pt x="2671" y="1126"/>
                  </a:lnTo>
                  <a:lnTo>
                    <a:pt x="2701" y="1175"/>
                  </a:lnTo>
                  <a:lnTo>
                    <a:pt x="2733" y="1225"/>
                  </a:lnTo>
                  <a:lnTo>
                    <a:pt x="2766" y="1277"/>
                  </a:lnTo>
                  <a:lnTo>
                    <a:pt x="2801" y="1328"/>
                  </a:lnTo>
                  <a:lnTo>
                    <a:pt x="2838" y="1381"/>
                  </a:lnTo>
                  <a:lnTo>
                    <a:pt x="2875" y="1432"/>
                  </a:lnTo>
                  <a:lnTo>
                    <a:pt x="2913" y="1483"/>
                  </a:lnTo>
                  <a:lnTo>
                    <a:pt x="2952" y="1534"/>
                  </a:lnTo>
                  <a:lnTo>
                    <a:pt x="2990" y="1583"/>
                  </a:lnTo>
                  <a:lnTo>
                    <a:pt x="3029" y="1631"/>
                  </a:lnTo>
                  <a:lnTo>
                    <a:pt x="3067" y="1677"/>
                  </a:lnTo>
                  <a:lnTo>
                    <a:pt x="3105" y="1721"/>
                  </a:lnTo>
                  <a:lnTo>
                    <a:pt x="3142" y="1763"/>
                  </a:lnTo>
                  <a:lnTo>
                    <a:pt x="3178" y="1802"/>
                  </a:lnTo>
                  <a:lnTo>
                    <a:pt x="3213" y="1837"/>
                  </a:lnTo>
                  <a:lnTo>
                    <a:pt x="3247" y="1870"/>
                  </a:lnTo>
                  <a:lnTo>
                    <a:pt x="3279" y="1899"/>
                  </a:lnTo>
                  <a:lnTo>
                    <a:pt x="3308" y="1925"/>
                  </a:lnTo>
                  <a:lnTo>
                    <a:pt x="3335" y="1945"/>
                  </a:lnTo>
                  <a:lnTo>
                    <a:pt x="3361" y="1961"/>
                  </a:lnTo>
                  <a:lnTo>
                    <a:pt x="3383" y="1972"/>
                  </a:lnTo>
                  <a:lnTo>
                    <a:pt x="3401" y="1978"/>
                  </a:lnTo>
                  <a:lnTo>
                    <a:pt x="3420" y="1981"/>
                  </a:lnTo>
                  <a:lnTo>
                    <a:pt x="3440" y="1986"/>
                  </a:lnTo>
                  <a:lnTo>
                    <a:pt x="3462" y="1990"/>
                  </a:lnTo>
                  <a:lnTo>
                    <a:pt x="3486" y="1997"/>
                  </a:lnTo>
                  <a:lnTo>
                    <a:pt x="3538" y="2014"/>
                  </a:lnTo>
                  <a:lnTo>
                    <a:pt x="3598" y="2035"/>
                  </a:lnTo>
                  <a:lnTo>
                    <a:pt x="3663" y="2059"/>
                  </a:lnTo>
                  <a:lnTo>
                    <a:pt x="3733" y="2090"/>
                  </a:lnTo>
                  <a:lnTo>
                    <a:pt x="3808" y="2124"/>
                  </a:lnTo>
                  <a:lnTo>
                    <a:pt x="3886" y="2162"/>
                  </a:lnTo>
                  <a:lnTo>
                    <a:pt x="3928" y="2182"/>
                  </a:lnTo>
                  <a:lnTo>
                    <a:pt x="3969" y="2204"/>
                  </a:lnTo>
                  <a:lnTo>
                    <a:pt x="4012" y="2227"/>
                  </a:lnTo>
                  <a:lnTo>
                    <a:pt x="4056" y="2251"/>
                  </a:lnTo>
                  <a:lnTo>
                    <a:pt x="4099" y="2277"/>
                  </a:lnTo>
                  <a:lnTo>
                    <a:pt x="4143" y="2302"/>
                  </a:lnTo>
                  <a:lnTo>
                    <a:pt x="4189" y="2330"/>
                  </a:lnTo>
                  <a:lnTo>
                    <a:pt x="4234" y="2358"/>
                  </a:lnTo>
                  <a:lnTo>
                    <a:pt x="4280" y="2389"/>
                  </a:lnTo>
                  <a:lnTo>
                    <a:pt x="4327" y="2419"/>
                  </a:lnTo>
                  <a:lnTo>
                    <a:pt x="4372" y="2451"/>
                  </a:lnTo>
                  <a:lnTo>
                    <a:pt x="4419" y="2483"/>
                  </a:lnTo>
                  <a:lnTo>
                    <a:pt x="4466" y="2517"/>
                  </a:lnTo>
                  <a:lnTo>
                    <a:pt x="4512" y="2552"/>
                  </a:lnTo>
                  <a:lnTo>
                    <a:pt x="4559" y="2588"/>
                  </a:lnTo>
                  <a:lnTo>
                    <a:pt x="4606" y="2626"/>
                  </a:lnTo>
                  <a:lnTo>
                    <a:pt x="4885" y="2410"/>
                  </a:lnTo>
                  <a:lnTo>
                    <a:pt x="4884" y="2390"/>
                  </a:lnTo>
                  <a:lnTo>
                    <a:pt x="4883" y="2369"/>
                  </a:lnTo>
                  <a:lnTo>
                    <a:pt x="4879" y="2349"/>
                  </a:lnTo>
                  <a:lnTo>
                    <a:pt x="4876" y="2328"/>
                  </a:lnTo>
                  <a:lnTo>
                    <a:pt x="4871" y="2307"/>
                  </a:lnTo>
                  <a:lnTo>
                    <a:pt x="4865" y="2287"/>
                  </a:lnTo>
                  <a:lnTo>
                    <a:pt x="4858" y="2266"/>
                  </a:lnTo>
                  <a:lnTo>
                    <a:pt x="4851" y="2246"/>
                  </a:lnTo>
                  <a:lnTo>
                    <a:pt x="4835" y="2206"/>
                  </a:lnTo>
                  <a:lnTo>
                    <a:pt x="4816" y="2168"/>
                  </a:lnTo>
                  <a:lnTo>
                    <a:pt x="4797" y="2132"/>
                  </a:lnTo>
                  <a:lnTo>
                    <a:pt x="4776" y="2097"/>
                  </a:lnTo>
                  <a:lnTo>
                    <a:pt x="4756" y="2065"/>
                  </a:lnTo>
                  <a:lnTo>
                    <a:pt x="4737" y="2036"/>
                  </a:lnTo>
                  <a:lnTo>
                    <a:pt x="4719" y="2010"/>
                  </a:lnTo>
                  <a:lnTo>
                    <a:pt x="4703" y="1988"/>
                  </a:lnTo>
                  <a:lnTo>
                    <a:pt x="4678" y="1958"/>
                  </a:lnTo>
                  <a:lnTo>
                    <a:pt x="4669" y="1946"/>
                  </a:lnTo>
                  <a:lnTo>
                    <a:pt x="4657" y="1924"/>
                  </a:lnTo>
                  <a:lnTo>
                    <a:pt x="4641" y="1898"/>
                  </a:lnTo>
                  <a:lnTo>
                    <a:pt x="4621" y="1869"/>
                  </a:lnTo>
                  <a:lnTo>
                    <a:pt x="4595" y="1836"/>
                  </a:lnTo>
                  <a:lnTo>
                    <a:pt x="4567" y="1800"/>
                  </a:lnTo>
                  <a:lnTo>
                    <a:pt x="4535" y="1763"/>
                  </a:lnTo>
                  <a:lnTo>
                    <a:pt x="4498" y="1722"/>
                  </a:lnTo>
                  <a:lnTo>
                    <a:pt x="4460" y="1678"/>
                  </a:lnTo>
                  <a:lnTo>
                    <a:pt x="4419" y="1634"/>
                  </a:lnTo>
                  <a:lnTo>
                    <a:pt x="4375" y="1587"/>
                  </a:lnTo>
                  <a:lnTo>
                    <a:pt x="4328" y="1538"/>
                  </a:lnTo>
                  <a:lnTo>
                    <a:pt x="4280" y="1489"/>
                  </a:lnTo>
                  <a:lnTo>
                    <a:pt x="4178" y="1389"/>
                  </a:lnTo>
                  <a:lnTo>
                    <a:pt x="4073" y="1286"/>
                  </a:lnTo>
                  <a:lnTo>
                    <a:pt x="3965" y="1183"/>
                  </a:lnTo>
                  <a:lnTo>
                    <a:pt x="3857" y="1084"/>
                  </a:lnTo>
                  <a:lnTo>
                    <a:pt x="3752" y="988"/>
                  </a:lnTo>
                  <a:lnTo>
                    <a:pt x="3650" y="899"/>
                  </a:lnTo>
                  <a:lnTo>
                    <a:pt x="3557" y="818"/>
                  </a:lnTo>
                  <a:lnTo>
                    <a:pt x="3472" y="748"/>
                  </a:lnTo>
                  <a:lnTo>
                    <a:pt x="3433" y="717"/>
                  </a:lnTo>
                  <a:lnTo>
                    <a:pt x="3398" y="690"/>
                  </a:lnTo>
                  <a:lnTo>
                    <a:pt x="3366" y="667"/>
                  </a:lnTo>
                  <a:lnTo>
                    <a:pt x="3338" y="647"/>
                  </a:lnTo>
                  <a:lnTo>
                    <a:pt x="3285" y="611"/>
                  </a:lnTo>
                  <a:lnTo>
                    <a:pt x="3231" y="571"/>
                  </a:lnTo>
                  <a:lnTo>
                    <a:pt x="3175" y="528"/>
                  </a:lnTo>
                  <a:lnTo>
                    <a:pt x="3119" y="484"/>
                  </a:lnTo>
                  <a:lnTo>
                    <a:pt x="3062" y="438"/>
                  </a:lnTo>
                  <a:lnTo>
                    <a:pt x="3007" y="391"/>
                  </a:lnTo>
                  <a:lnTo>
                    <a:pt x="2952" y="346"/>
                  </a:lnTo>
                  <a:lnTo>
                    <a:pt x="2900" y="300"/>
                  </a:lnTo>
                  <a:lnTo>
                    <a:pt x="2803" y="217"/>
                  </a:lnTo>
                  <a:lnTo>
                    <a:pt x="2722" y="146"/>
                  </a:lnTo>
                  <a:lnTo>
                    <a:pt x="2689" y="118"/>
                  </a:lnTo>
                  <a:lnTo>
                    <a:pt x="2661" y="95"/>
                  </a:lnTo>
                  <a:lnTo>
                    <a:pt x="2639" y="78"/>
                  </a:lnTo>
                  <a:lnTo>
                    <a:pt x="2624" y="69"/>
                  </a:lnTo>
                  <a:lnTo>
                    <a:pt x="2609" y="60"/>
                  </a:lnTo>
                  <a:lnTo>
                    <a:pt x="2595" y="50"/>
                  </a:lnTo>
                  <a:lnTo>
                    <a:pt x="2584" y="41"/>
                  </a:lnTo>
                  <a:lnTo>
                    <a:pt x="2572" y="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172"/>
            <p:cNvSpPr/>
            <p:nvPr/>
          </p:nvSpPr>
          <p:spPr>
            <a:xfrm>
              <a:off x="8026200" y="5994720"/>
              <a:ext cx="738000" cy="42840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4885" h="2626">
                  <a:moveTo>
                    <a:pt x="2572" y="32"/>
                  </a:moveTo>
                  <a:lnTo>
                    <a:pt x="2556" y="30"/>
                  </a:lnTo>
                  <a:lnTo>
                    <a:pt x="2541" y="29"/>
                  </a:lnTo>
                  <a:lnTo>
                    <a:pt x="2524" y="29"/>
                  </a:lnTo>
                  <a:lnTo>
                    <a:pt x="2509" y="30"/>
                  </a:lnTo>
                  <a:lnTo>
                    <a:pt x="2477" y="32"/>
                  </a:lnTo>
                  <a:lnTo>
                    <a:pt x="2447" y="34"/>
                  </a:lnTo>
                  <a:lnTo>
                    <a:pt x="2433" y="34"/>
                  </a:lnTo>
                  <a:lnTo>
                    <a:pt x="2419" y="33"/>
                  </a:lnTo>
                  <a:lnTo>
                    <a:pt x="2405" y="32"/>
                  </a:lnTo>
                  <a:lnTo>
                    <a:pt x="2392" y="29"/>
                  </a:lnTo>
                  <a:lnTo>
                    <a:pt x="2381" y="27"/>
                  </a:lnTo>
                  <a:lnTo>
                    <a:pt x="2370" y="22"/>
                  </a:lnTo>
                  <a:lnTo>
                    <a:pt x="2360" y="15"/>
                  </a:lnTo>
                  <a:lnTo>
                    <a:pt x="2350" y="8"/>
                  </a:lnTo>
                  <a:lnTo>
                    <a:pt x="2347" y="5"/>
                  </a:lnTo>
                  <a:lnTo>
                    <a:pt x="2343" y="2"/>
                  </a:lnTo>
                  <a:lnTo>
                    <a:pt x="2340" y="1"/>
                  </a:lnTo>
                  <a:lnTo>
                    <a:pt x="2337" y="0"/>
                  </a:lnTo>
                  <a:lnTo>
                    <a:pt x="2334" y="0"/>
                  </a:lnTo>
                  <a:lnTo>
                    <a:pt x="2331" y="1"/>
                  </a:lnTo>
                  <a:lnTo>
                    <a:pt x="2329" y="2"/>
                  </a:lnTo>
                  <a:lnTo>
                    <a:pt x="2326" y="5"/>
                  </a:lnTo>
                  <a:lnTo>
                    <a:pt x="2321" y="9"/>
                  </a:lnTo>
                  <a:lnTo>
                    <a:pt x="2317" y="17"/>
                  </a:lnTo>
                  <a:lnTo>
                    <a:pt x="2313" y="26"/>
                  </a:lnTo>
                  <a:lnTo>
                    <a:pt x="2308" y="36"/>
                  </a:lnTo>
                  <a:lnTo>
                    <a:pt x="2300" y="56"/>
                  </a:lnTo>
                  <a:lnTo>
                    <a:pt x="2288" y="76"/>
                  </a:lnTo>
                  <a:lnTo>
                    <a:pt x="2282" y="85"/>
                  </a:lnTo>
                  <a:lnTo>
                    <a:pt x="2275" y="92"/>
                  </a:lnTo>
                  <a:lnTo>
                    <a:pt x="2272" y="95"/>
                  </a:lnTo>
                  <a:lnTo>
                    <a:pt x="2267" y="97"/>
                  </a:lnTo>
                  <a:lnTo>
                    <a:pt x="2263" y="99"/>
                  </a:lnTo>
                  <a:lnTo>
                    <a:pt x="2258" y="100"/>
                  </a:lnTo>
                  <a:lnTo>
                    <a:pt x="2237" y="103"/>
                  </a:lnTo>
                  <a:lnTo>
                    <a:pt x="2212" y="105"/>
                  </a:lnTo>
                  <a:lnTo>
                    <a:pt x="2185" y="109"/>
                  </a:lnTo>
                  <a:lnTo>
                    <a:pt x="2152" y="113"/>
                  </a:lnTo>
                  <a:lnTo>
                    <a:pt x="2111" y="119"/>
                  </a:lnTo>
                  <a:lnTo>
                    <a:pt x="2062" y="126"/>
                  </a:lnTo>
                  <a:lnTo>
                    <a:pt x="2003" y="135"/>
                  </a:lnTo>
                  <a:lnTo>
                    <a:pt x="1933" y="146"/>
                  </a:lnTo>
                  <a:lnTo>
                    <a:pt x="1806" y="166"/>
                  </a:lnTo>
                  <a:lnTo>
                    <a:pt x="1694" y="185"/>
                  </a:lnTo>
                  <a:lnTo>
                    <a:pt x="1596" y="202"/>
                  </a:lnTo>
                  <a:lnTo>
                    <a:pt x="1510" y="217"/>
                  </a:lnTo>
                  <a:lnTo>
                    <a:pt x="1436" y="230"/>
                  </a:lnTo>
                  <a:lnTo>
                    <a:pt x="1371" y="241"/>
                  </a:lnTo>
                  <a:lnTo>
                    <a:pt x="1315" y="249"/>
                  </a:lnTo>
                  <a:lnTo>
                    <a:pt x="1265" y="255"/>
                  </a:lnTo>
                  <a:lnTo>
                    <a:pt x="1243" y="256"/>
                  </a:lnTo>
                  <a:lnTo>
                    <a:pt x="1222" y="256"/>
                  </a:lnTo>
                  <a:lnTo>
                    <a:pt x="1202" y="255"/>
                  </a:lnTo>
                  <a:lnTo>
                    <a:pt x="1182" y="253"/>
                  </a:lnTo>
                  <a:lnTo>
                    <a:pt x="1163" y="250"/>
                  </a:lnTo>
                  <a:lnTo>
                    <a:pt x="1146" y="246"/>
                  </a:lnTo>
                  <a:lnTo>
                    <a:pt x="1128" y="242"/>
                  </a:lnTo>
                  <a:lnTo>
                    <a:pt x="1111" y="235"/>
                  </a:lnTo>
                  <a:lnTo>
                    <a:pt x="1093" y="228"/>
                  </a:lnTo>
                  <a:lnTo>
                    <a:pt x="1076" y="220"/>
                  </a:lnTo>
                  <a:lnTo>
                    <a:pt x="1058" y="209"/>
                  </a:lnTo>
                  <a:lnTo>
                    <a:pt x="1040" y="197"/>
                  </a:lnTo>
                  <a:lnTo>
                    <a:pt x="1021" y="185"/>
                  </a:lnTo>
                  <a:lnTo>
                    <a:pt x="1001" y="171"/>
                  </a:lnTo>
                  <a:lnTo>
                    <a:pt x="981" y="155"/>
                  </a:lnTo>
                  <a:lnTo>
                    <a:pt x="959" y="138"/>
                  </a:lnTo>
                  <a:lnTo>
                    <a:pt x="0" y="230"/>
                  </a:lnTo>
                  <a:lnTo>
                    <a:pt x="12" y="238"/>
                  </a:lnTo>
                  <a:lnTo>
                    <a:pt x="24" y="251"/>
                  </a:lnTo>
                  <a:lnTo>
                    <a:pt x="37" y="265"/>
                  </a:lnTo>
                  <a:lnTo>
                    <a:pt x="49" y="283"/>
                  </a:lnTo>
                  <a:lnTo>
                    <a:pt x="62" y="301"/>
                  </a:lnTo>
                  <a:lnTo>
                    <a:pt x="73" y="322"/>
                  </a:lnTo>
                  <a:lnTo>
                    <a:pt x="84" y="343"/>
                  </a:lnTo>
                  <a:lnTo>
                    <a:pt x="95" y="367"/>
                  </a:lnTo>
                  <a:lnTo>
                    <a:pt x="104" y="390"/>
                  </a:lnTo>
                  <a:lnTo>
                    <a:pt x="112" y="415"/>
                  </a:lnTo>
                  <a:lnTo>
                    <a:pt x="118" y="439"/>
                  </a:lnTo>
                  <a:lnTo>
                    <a:pt x="124" y="463"/>
                  </a:lnTo>
                  <a:lnTo>
                    <a:pt x="126" y="486"/>
                  </a:lnTo>
                  <a:lnTo>
                    <a:pt x="127" y="508"/>
                  </a:lnTo>
                  <a:lnTo>
                    <a:pt x="127" y="519"/>
                  </a:lnTo>
                  <a:lnTo>
                    <a:pt x="127" y="529"/>
                  </a:lnTo>
                  <a:lnTo>
                    <a:pt x="126" y="540"/>
                  </a:lnTo>
                  <a:lnTo>
                    <a:pt x="124" y="549"/>
                  </a:lnTo>
                  <a:lnTo>
                    <a:pt x="183" y="543"/>
                  </a:lnTo>
                  <a:lnTo>
                    <a:pt x="244" y="537"/>
                  </a:lnTo>
                  <a:lnTo>
                    <a:pt x="305" y="531"/>
                  </a:lnTo>
                  <a:lnTo>
                    <a:pt x="366" y="527"/>
                  </a:lnTo>
                  <a:lnTo>
                    <a:pt x="426" y="522"/>
                  </a:lnTo>
                  <a:lnTo>
                    <a:pt x="487" y="519"/>
                  </a:lnTo>
                  <a:lnTo>
                    <a:pt x="548" y="515"/>
                  </a:lnTo>
                  <a:lnTo>
                    <a:pt x="606" y="513"/>
                  </a:lnTo>
                  <a:lnTo>
                    <a:pt x="665" y="510"/>
                  </a:lnTo>
                  <a:lnTo>
                    <a:pt x="721" y="510"/>
                  </a:lnTo>
                  <a:lnTo>
                    <a:pt x="776" y="509"/>
                  </a:lnTo>
                  <a:lnTo>
                    <a:pt x="829" y="510"/>
                  </a:lnTo>
                  <a:lnTo>
                    <a:pt x="881" y="513"/>
                  </a:lnTo>
                  <a:lnTo>
                    <a:pt x="930" y="515"/>
                  </a:lnTo>
                  <a:lnTo>
                    <a:pt x="976" y="519"/>
                  </a:lnTo>
                  <a:lnTo>
                    <a:pt x="1020" y="523"/>
                  </a:lnTo>
                  <a:lnTo>
                    <a:pt x="1030" y="527"/>
                  </a:lnTo>
                  <a:lnTo>
                    <a:pt x="1058" y="535"/>
                  </a:lnTo>
                  <a:lnTo>
                    <a:pt x="1077" y="542"/>
                  </a:lnTo>
                  <a:lnTo>
                    <a:pt x="1098" y="550"/>
                  </a:lnTo>
                  <a:lnTo>
                    <a:pt x="1120" y="559"/>
                  </a:lnTo>
                  <a:lnTo>
                    <a:pt x="1143" y="571"/>
                  </a:lnTo>
                  <a:lnTo>
                    <a:pt x="1167" y="583"/>
                  </a:lnTo>
                  <a:lnTo>
                    <a:pt x="1189" y="597"/>
                  </a:lnTo>
                  <a:lnTo>
                    <a:pt x="1200" y="605"/>
                  </a:lnTo>
                  <a:lnTo>
                    <a:pt x="1210" y="612"/>
                  </a:lnTo>
                  <a:lnTo>
                    <a:pt x="1219" y="620"/>
                  </a:lnTo>
                  <a:lnTo>
                    <a:pt x="1229" y="630"/>
                  </a:lnTo>
                  <a:lnTo>
                    <a:pt x="1237" y="638"/>
                  </a:lnTo>
                  <a:lnTo>
                    <a:pt x="1244" y="647"/>
                  </a:lnTo>
                  <a:lnTo>
                    <a:pt x="1251" y="658"/>
                  </a:lnTo>
                  <a:lnTo>
                    <a:pt x="1257" y="667"/>
                  </a:lnTo>
                  <a:lnTo>
                    <a:pt x="1261" y="677"/>
                  </a:lnTo>
                  <a:lnTo>
                    <a:pt x="1265" y="688"/>
                  </a:lnTo>
                  <a:lnTo>
                    <a:pt x="1266" y="700"/>
                  </a:lnTo>
                  <a:lnTo>
                    <a:pt x="1267" y="710"/>
                  </a:lnTo>
                  <a:lnTo>
                    <a:pt x="1268" y="722"/>
                  </a:lnTo>
                  <a:lnTo>
                    <a:pt x="1271" y="731"/>
                  </a:lnTo>
                  <a:lnTo>
                    <a:pt x="1274" y="738"/>
                  </a:lnTo>
                  <a:lnTo>
                    <a:pt x="1279" y="745"/>
                  </a:lnTo>
                  <a:lnTo>
                    <a:pt x="1286" y="750"/>
                  </a:lnTo>
                  <a:lnTo>
                    <a:pt x="1293" y="753"/>
                  </a:lnTo>
                  <a:lnTo>
                    <a:pt x="1301" y="757"/>
                  </a:lnTo>
                  <a:lnTo>
                    <a:pt x="1311" y="758"/>
                  </a:lnTo>
                  <a:lnTo>
                    <a:pt x="1321" y="758"/>
                  </a:lnTo>
                  <a:lnTo>
                    <a:pt x="1332" y="758"/>
                  </a:lnTo>
                  <a:lnTo>
                    <a:pt x="1343" y="757"/>
                  </a:lnTo>
                  <a:lnTo>
                    <a:pt x="1356" y="755"/>
                  </a:lnTo>
                  <a:lnTo>
                    <a:pt x="1381" y="749"/>
                  </a:lnTo>
                  <a:lnTo>
                    <a:pt x="1407" y="742"/>
                  </a:lnTo>
                  <a:lnTo>
                    <a:pt x="1433" y="732"/>
                  </a:lnTo>
                  <a:lnTo>
                    <a:pt x="1458" y="722"/>
                  </a:lnTo>
                  <a:lnTo>
                    <a:pt x="1482" y="711"/>
                  </a:lnTo>
                  <a:lnTo>
                    <a:pt x="1503" y="701"/>
                  </a:lnTo>
                  <a:lnTo>
                    <a:pt x="1535" y="686"/>
                  </a:lnTo>
                  <a:lnTo>
                    <a:pt x="1546" y="679"/>
                  </a:lnTo>
                  <a:lnTo>
                    <a:pt x="1639" y="494"/>
                  </a:lnTo>
                  <a:lnTo>
                    <a:pt x="1823" y="494"/>
                  </a:lnTo>
                  <a:lnTo>
                    <a:pt x="1979" y="616"/>
                  </a:lnTo>
                  <a:lnTo>
                    <a:pt x="2071" y="616"/>
                  </a:lnTo>
                  <a:lnTo>
                    <a:pt x="2258" y="771"/>
                  </a:lnTo>
                  <a:lnTo>
                    <a:pt x="2535" y="771"/>
                  </a:lnTo>
                  <a:lnTo>
                    <a:pt x="2531" y="791"/>
                  </a:lnTo>
                  <a:lnTo>
                    <a:pt x="2532" y="815"/>
                  </a:lnTo>
                  <a:lnTo>
                    <a:pt x="2537" y="843"/>
                  </a:lnTo>
                  <a:lnTo>
                    <a:pt x="2546" y="875"/>
                  </a:lnTo>
                  <a:lnTo>
                    <a:pt x="2559" y="910"/>
                  </a:lnTo>
                  <a:lnTo>
                    <a:pt x="2576" y="948"/>
                  </a:lnTo>
                  <a:lnTo>
                    <a:pt x="2595" y="989"/>
                  </a:lnTo>
                  <a:lnTo>
                    <a:pt x="2618" y="1033"/>
                  </a:lnTo>
                  <a:lnTo>
                    <a:pt x="2643" y="1079"/>
                  </a:lnTo>
                  <a:lnTo>
                    <a:pt x="2671" y="1126"/>
                  </a:lnTo>
                  <a:lnTo>
                    <a:pt x="2701" y="1175"/>
                  </a:lnTo>
                  <a:lnTo>
                    <a:pt x="2733" y="1225"/>
                  </a:lnTo>
                  <a:lnTo>
                    <a:pt x="2766" y="1277"/>
                  </a:lnTo>
                  <a:lnTo>
                    <a:pt x="2801" y="1328"/>
                  </a:lnTo>
                  <a:lnTo>
                    <a:pt x="2838" y="1381"/>
                  </a:lnTo>
                  <a:lnTo>
                    <a:pt x="2875" y="1432"/>
                  </a:lnTo>
                  <a:lnTo>
                    <a:pt x="2913" y="1483"/>
                  </a:lnTo>
                  <a:lnTo>
                    <a:pt x="2952" y="1534"/>
                  </a:lnTo>
                  <a:lnTo>
                    <a:pt x="2990" y="1583"/>
                  </a:lnTo>
                  <a:lnTo>
                    <a:pt x="3029" y="1631"/>
                  </a:lnTo>
                  <a:lnTo>
                    <a:pt x="3067" y="1677"/>
                  </a:lnTo>
                  <a:lnTo>
                    <a:pt x="3105" y="1721"/>
                  </a:lnTo>
                  <a:lnTo>
                    <a:pt x="3142" y="1763"/>
                  </a:lnTo>
                  <a:lnTo>
                    <a:pt x="3178" y="1802"/>
                  </a:lnTo>
                  <a:lnTo>
                    <a:pt x="3213" y="1837"/>
                  </a:lnTo>
                  <a:lnTo>
                    <a:pt x="3247" y="1870"/>
                  </a:lnTo>
                  <a:lnTo>
                    <a:pt x="3279" y="1899"/>
                  </a:lnTo>
                  <a:lnTo>
                    <a:pt x="3308" y="1925"/>
                  </a:lnTo>
                  <a:lnTo>
                    <a:pt x="3335" y="1945"/>
                  </a:lnTo>
                  <a:lnTo>
                    <a:pt x="3361" y="1961"/>
                  </a:lnTo>
                  <a:lnTo>
                    <a:pt x="3383" y="1972"/>
                  </a:lnTo>
                  <a:lnTo>
                    <a:pt x="3401" y="1978"/>
                  </a:lnTo>
                  <a:lnTo>
                    <a:pt x="3420" y="1981"/>
                  </a:lnTo>
                  <a:lnTo>
                    <a:pt x="3440" y="1986"/>
                  </a:lnTo>
                  <a:lnTo>
                    <a:pt x="3462" y="1990"/>
                  </a:lnTo>
                  <a:lnTo>
                    <a:pt x="3486" y="1997"/>
                  </a:lnTo>
                  <a:lnTo>
                    <a:pt x="3538" y="2014"/>
                  </a:lnTo>
                  <a:lnTo>
                    <a:pt x="3598" y="2035"/>
                  </a:lnTo>
                  <a:lnTo>
                    <a:pt x="3663" y="2059"/>
                  </a:lnTo>
                  <a:lnTo>
                    <a:pt x="3733" y="2090"/>
                  </a:lnTo>
                  <a:lnTo>
                    <a:pt x="3808" y="2124"/>
                  </a:lnTo>
                  <a:lnTo>
                    <a:pt x="3886" y="2162"/>
                  </a:lnTo>
                  <a:lnTo>
                    <a:pt x="3928" y="2182"/>
                  </a:lnTo>
                  <a:lnTo>
                    <a:pt x="3969" y="2204"/>
                  </a:lnTo>
                  <a:lnTo>
                    <a:pt x="4012" y="2227"/>
                  </a:lnTo>
                  <a:lnTo>
                    <a:pt x="4056" y="2251"/>
                  </a:lnTo>
                  <a:lnTo>
                    <a:pt x="4099" y="2277"/>
                  </a:lnTo>
                  <a:lnTo>
                    <a:pt x="4143" y="2302"/>
                  </a:lnTo>
                  <a:lnTo>
                    <a:pt x="4189" y="2330"/>
                  </a:lnTo>
                  <a:lnTo>
                    <a:pt x="4234" y="2358"/>
                  </a:lnTo>
                  <a:lnTo>
                    <a:pt x="4280" y="2389"/>
                  </a:lnTo>
                  <a:lnTo>
                    <a:pt x="4327" y="2419"/>
                  </a:lnTo>
                  <a:lnTo>
                    <a:pt x="4372" y="2451"/>
                  </a:lnTo>
                  <a:lnTo>
                    <a:pt x="4419" y="2483"/>
                  </a:lnTo>
                  <a:lnTo>
                    <a:pt x="4466" y="2517"/>
                  </a:lnTo>
                  <a:lnTo>
                    <a:pt x="4512" y="2552"/>
                  </a:lnTo>
                  <a:lnTo>
                    <a:pt x="4559" y="2588"/>
                  </a:lnTo>
                  <a:lnTo>
                    <a:pt x="4606" y="2626"/>
                  </a:lnTo>
                  <a:lnTo>
                    <a:pt x="4885" y="2410"/>
                  </a:lnTo>
                  <a:lnTo>
                    <a:pt x="4884" y="2390"/>
                  </a:lnTo>
                  <a:lnTo>
                    <a:pt x="4883" y="2369"/>
                  </a:lnTo>
                  <a:lnTo>
                    <a:pt x="4879" y="2349"/>
                  </a:lnTo>
                  <a:lnTo>
                    <a:pt x="4876" y="2328"/>
                  </a:lnTo>
                  <a:lnTo>
                    <a:pt x="4871" y="2307"/>
                  </a:lnTo>
                  <a:lnTo>
                    <a:pt x="4865" y="2287"/>
                  </a:lnTo>
                  <a:lnTo>
                    <a:pt x="4858" y="2266"/>
                  </a:lnTo>
                  <a:lnTo>
                    <a:pt x="4851" y="2246"/>
                  </a:lnTo>
                  <a:lnTo>
                    <a:pt x="4835" y="2206"/>
                  </a:lnTo>
                  <a:lnTo>
                    <a:pt x="4816" y="2168"/>
                  </a:lnTo>
                  <a:lnTo>
                    <a:pt x="4797" y="2132"/>
                  </a:lnTo>
                  <a:lnTo>
                    <a:pt x="4776" y="2097"/>
                  </a:lnTo>
                  <a:lnTo>
                    <a:pt x="4756" y="2065"/>
                  </a:lnTo>
                  <a:lnTo>
                    <a:pt x="4737" y="2036"/>
                  </a:lnTo>
                  <a:lnTo>
                    <a:pt x="4719" y="2010"/>
                  </a:lnTo>
                  <a:lnTo>
                    <a:pt x="4703" y="1988"/>
                  </a:lnTo>
                  <a:lnTo>
                    <a:pt x="4678" y="1958"/>
                  </a:lnTo>
                  <a:lnTo>
                    <a:pt x="4669" y="1946"/>
                  </a:lnTo>
                  <a:lnTo>
                    <a:pt x="4657" y="1924"/>
                  </a:lnTo>
                  <a:lnTo>
                    <a:pt x="4641" y="1898"/>
                  </a:lnTo>
                  <a:lnTo>
                    <a:pt x="4621" y="1869"/>
                  </a:lnTo>
                  <a:lnTo>
                    <a:pt x="4595" y="1836"/>
                  </a:lnTo>
                  <a:lnTo>
                    <a:pt x="4567" y="1800"/>
                  </a:lnTo>
                  <a:lnTo>
                    <a:pt x="4535" y="1763"/>
                  </a:lnTo>
                  <a:lnTo>
                    <a:pt x="4498" y="1722"/>
                  </a:lnTo>
                  <a:lnTo>
                    <a:pt x="4460" y="1678"/>
                  </a:lnTo>
                  <a:lnTo>
                    <a:pt x="4419" y="1634"/>
                  </a:lnTo>
                  <a:lnTo>
                    <a:pt x="4375" y="1587"/>
                  </a:lnTo>
                  <a:lnTo>
                    <a:pt x="4328" y="1538"/>
                  </a:lnTo>
                  <a:lnTo>
                    <a:pt x="4280" y="1489"/>
                  </a:lnTo>
                  <a:lnTo>
                    <a:pt x="4178" y="1389"/>
                  </a:lnTo>
                  <a:lnTo>
                    <a:pt x="4073" y="1286"/>
                  </a:lnTo>
                  <a:lnTo>
                    <a:pt x="3965" y="1183"/>
                  </a:lnTo>
                  <a:lnTo>
                    <a:pt x="3857" y="1084"/>
                  </a:lnTo>
                  <a:lnTo>
                    <a:pt x="3752" y="988"/>
                  </a:lnTo>
                  <a:lnTo>
                    <a:pt x="3650" y="899"/>
                  </a:lnTo>
                  <a:lnTo>
                    <a:pt x="3557" y="818"/>
                  </a:lnTo>
                  <a:lnTo>
                    <a:pt x="3472" y="748"/>
                  </a:lnTo>
                  <a:lnTo>
                    <a:pt x="3433" y="717"/>
                  </a:lnTo>
                  <a:lnTo>
                    <a:pt x="3398" y="690"/>
                  </a:lnTo>
                  <a:lnTo>
                    <a:pt x="3366" y="667"/>
                  </a:lnTo>
                  <a:lnTo>
                    <a:pt x="3338" y="647"/>
                  </a:lnTo>
                  <a:lnTo>
                    <a:pt x="3285" y="611"/>
                  </a:lnTo>
                  <a:lnTo>
                    <a:pt x="3231" y="571"/>
                  </a:lnTo>
                  <a:lnTo>
                    <a:pt x="3175" y="528"/>
                  </a:lnTo>
                  <a:lnTo>
                    <a:pt x="3119" y="484"/>
                  </a:lnTo>
                  <a:lnTo>
                    <a:pt x="3062" y="438"/>
                  </a:lnTo>
                  <a:lnTo>
                    <a:pt x="3007" y="391"/>
                  </a:lnTo>
                  <a:lnTo>
                    <a:pt x="2952" y="346"/>
                  </a:lnTo>
                  <a:lnTo>
                    <a:pt x="2900" y="300"/>
                  </a:lnTo>
                  <a:lnTo>
                    <a:pt x="2803" y="217"/>
                  </a:lnTo>
                  <a:lnTo>
                    <a:pt x="2722" y="146"/>
                  </a:lnTo>
                  <a:lnTo>
                    <a:pt x="2689" y="118"/>
                  </a:lnTo>
                  <a:lnTo>
                    <a:pt x="2661" y="95"/>
                  </a:lnTo>
                  <a:lnTo>
                    <a:pt x="2639" y="78"/>
                  </a:lnTo>
                  <a:lnTo>
                    <a:pt x="2624" y="69"/>
                  </a:lnTo>
                  <a:lnTo>
                    <a:pt x="2609" y="60"/>
                  </a:lnTo>
                  <a:lnTo>
                    <a:pt x="2595" y="50"/>
                  </a:lnTo>
                  <a:lnTo>
                    <a:pt x="2584" y="41"/>
                  </a:lnTo>
                  <a:lnTo>
                    <a:pt x="2572" y="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173"/>
            <p:cNvSpPr/>
            <p:nvPr/>
          </p:nvSpPr>
          <p:spPr>
            <a:xfrm>
              <a:off x="7844040" y="5345280"/>
              <a:ext cx="186840" cy="1328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238" h="822">
                  <a:moveTo>
                    <a:pt x="1124" y="762"/>
                  </a:moveTo>
                  <a:lnTo>
                    <a:pt x="1238" y="776"/>
                  </a:lnTo>
                  <a:lnTo>
                    <a:pt x="1238" y="762"/>
                  </a:lnTo>
                  <a:lnTo>
                    <a:pt x="1237" y="747"/>
                  </a:lnTo>
                  <a:lnTo>
                    <a:pt x="1236" y="732"/>
                  </a:lnTo>
                  <a:lnTo>
                    <a:pt x="1234" y="717"/>
                  </a:lnTo>
                  <a:lnTo>
                    <a:pt x="1230" y="703"/>
                  </a:lnTo>
                  <a:lnTo>
                    <a:pt x="1227" y="688"/>
                  </a:lnTo>
                  <a:lnTo>
                    <a:pt x="1222" y="672"/>
                  </a:lnTo>
                  <a:lnTo>
                    <a:pt x="1217" y="657"/>
                  </a:lnTo>
                  <a:lnTo>
                    <a:pt x="1212" y="641"/>
                  </a:lnTo>
                  <a:lnTo>
                    <a:pt x="1205" y="626"/>
                  </a:lnTo>
                  <a:lnTo>
                    <a:pt x="1198" y="611"/>
                  </a:lnTo>
                  <a:lnTo>
                    <a:pt x="1189" y="594"/>
                  </a:lnTo>
                  <a:lnTo>
                    <a:pt x="1181" y="579"/>
                  </a:lnTo>
                  <a:lnTo>
                    <a:pt x="1171" y="563"/>
                  </a:lnTo>
                  <a:lnTo>
                    <a:pt x="1160" y="546"/>
                  </a:lnTo>
                  <a:lnTo>
                    <a:pt x="1150" y="531"/>
                  </a:lnTo>
                  <a:lnTo>
                    <a:pt x="1124" y="497"/>
                  </a:lnTo>
                  <a:lnTo>
                    <a:pt x="1096" y="465"/>
                  </a:lnTo>
                  <a:lnTo>
                    <a:pt x="1064" y="431"/>
                  </a:lnTo>
                  <a:lnTo>
                    <a:pt x="1029" y="396"/>
                  </a:lnTo>
                  <a:lnTo>
                    <a:pt x="991" y="361"/>
                  </a:lnTo>
                  <a:lnTo>
                    <a:pt x="949" y="326"/>
                  </a:lnTo>
                  <a:lnTo>
                    <a:pt x="903" y="289"/>
                  </a:lnTo>
                  <a:lnTo>
                    <a:pt x="853" y="252"/>
                  </a:lnTo>
                  <a:lnTo>
                    <a:pt x="844" y="267"/>
                  </a:lnTo>
                  <a:lnTo>
                    <a:pt x="835" y="281"/>
                  </a:lnTo>
                  <a:lnTo>
                    <a:pt x="827" y="294"/>
                  </a:lnTo>
                  <a:lnTo>
                    <a:pt x="819" y="305"/>
                  </a:lnTo>
                  <a:lnTo>
                    <a:pt x="811" y="314"/>
                  </a:lnTo>
                  <a:lnTo>
                    <a:pt x="803" y="322"/>
                  </a:lnTo>
                  <a:lnTo>
                    <a:pt x="796" y="329"/>
                  </a:lnTo>
                  <a:lnTo>
                    <a:pt x="789" y="335"/>
                  </a:lnTo>
                  <a:lnTo>
                    <a:pt x="782" y="340"/>
                  </a:lnTo>
                  <a:lnTo>
                    <a:pt x="775" y="342"/>
                  </a:lnTo>
                  <a:lnTo>
                    <a:pt x="768" y="344"/>
                  </a:lnTo>
                  <a:lnTo>
                    <a:pt x="762" y="344"/>
                  </a:lnTo>
                  <a:lnTo>
                    <a:pt x="756" y="344"/>
                  </a:lnTo>
                  <a:lnTo>
                    <a:pt x="750" y="342"/>
                  </a:lnTo>
                  <a:lnTo>
                    <a:pt x="745" y="340"/>
                  </a:lnTo>
                  <a:lnTo>
                    <a:pt x="741" y="335"/>
                  </a:lnTo>
                  <a:lnTo>
                    <a:pt x="736" y="330"/>
                  </a:lnTo>
                  <a:lnTo>
                    <a:pt x="733" y="323"/>
                  </a:lnTo>
                  <a:lnTo>
                    <a:pt x="729" y="316"/>
                  </a:lnTo>
                  <a:lnTo>
                    <a:pt x="727" y="307"/>
                  </a:lnTo>
                  <a:lnTo>
                    <a:pt x="724" y="298"/>
                  </a:lnTo>
                  <a:lnTo>
                    <a:pt x="723" y="287"/>
                  </a:lnTo>
                  <a:lnTo>
                    <a:pt x="722" y="275"/>
                  </a:lnTo>
                  <a:lnTo>
                    <a:pt x="722" y="263"/>
                  </a:lnTo>
                  <a:lnTo>
                    <a:pt x="722" y="250"/>
                  </a:lnTo>
                  <a:lnTo>
                    <a:pt x="723" y="234"/>
                  </a:lnTo>
                  <a:lnTo>
                    <a:pt x="724" y="219"/>
                  </a:lnTo>
                  <a:lnTo>
                    <a:pt x="727" y="203"/>
                  </a:lnTo>
                  <a:lnTo>
                    <a:pt x="734" y="168"/>
                  </a:lnTo>
                  <a:lnTo>
                    <a:pt x="743" y="128"/>
                  </a:lnTo>
                  <a:lnTo>
                    <a:pt x="744" y="126"/>
                  </a:lnTo>
                  <a:lnTo>
                    <a:pt x="745" y="119"/>
                  </a:lnTo>
                  <a:lnTo>
                    <a:pt x="745" y="115"/>
                  </a:lnTo>
                  <a:lnTo>
                    <a:pt x="743" y="111"/>
                  </a:lnTo>
                  <a:lnTo>
                    <a:pt x="741" y="106"/>
                  </a:lnTo>
                  <a:lnTo>
                    <a:pt x="736" y="102"/>
                  </a:lnTo>
                  <a:lnTo>
                    <a:pt x="729" y="99"/>
                  </a:lnTo>
                  <a:lnTo>
                    <a:pt x="720" y="97"/>
                  </a:lnTo>
                  <a:lnTo>
                    <a:pt x="708" y="94"/>
                  </a:lnTo>
                  <a:lnTo>
                    <a:pt x="692" y="94"/>
                  </a:lnTo>
                  <a:lnTo>
                    <a:pt x="673" y="95"/>
                  </a:lnTo>
                  <a:lnTo>
                    <a:pt x="650" y="99"/>
                  </a:lnTo>
                  <a:lnTo>
                    <a:pt x="623" y="104"/>
                  </a:lnTo>
                  <a:lnTo>
                    <a:pt x="590" y="111"/>
                  </a:lnTo>
                  <a:lnTo>
                    <a:pt x="594" y="108"/>
                  </a:lnTo>
                  <a:lnTo>
                    <a:pt x="598" y="101"/>
                  </a:lnTo>
                  <a:lnTo>
                    <a:pt x="605" y="91"/>
                  </a:lnTo>
                  <a:lnTo>
                    <a:pt x="611" y="79"/>
                  </a:lnTo>
                  <a:lnTo>
                    <a:pt x="612" y="73"/>
                  </a:lnTo>
                  <a:lnTo>
                    <a:pt x="613" y="66"/>
                  </a:lnTo>
                  <a:lnTo>
                    <a:pt x="612" y="60"/>
                  </a:lnTo>
                  <a:lnTo>
                    <a:pt x="609" y="55"/>
                  </a:lnTo>
                  <a:lnTo>
                    <a:pt x="604" y="49"/>
                  </a:lnTo>
                  <a:lnTo>
                    <a:pt x="596" y="44"/>
                  </a:lnTo>
                  <a:lnTo>
                    <a:pt x="587" y="39"/>
                  </a:lnTo>
                  <a:lnTo>
                    <a:pt x="574" y="36"/>
                  </a:lnTo>
                  <a:lnTo>
                    <a:pt x="546" y="29"/>
                  </a:lnTo>
                  <a:lnTo>
                    <a:pt x="519" y="20"/>
                  </a:lnTo>
                  <a:lnTo>
                    <a:pt x="492" y="11"/>
                  </a:lnTo>
                  <a:lnTo>
                    <a:pt x="463" y="4"/>
                  </a:lnTo>
                  <a:lnTo>
                    <a:pt x="448" y="1"/>
                  </a:lnTo>
                  <a:lnTo>
                    <a:pt x="431" y="0"/>
                  </a:lnTo>
                  <a:lnTo>
                    <a:pt x="413" y="0"/>
                  </a:lnTo>
                  <a:lnTo>
                    <a:pt x="394" y="0"/>
                  </a:lnTo>
                  <a:lnTo>
                    <a:pt x="373" y="2"/>
                  </a:lnTo>
                  <a:lnTo>
                    <a:pt x="349" y="6"/>
                  </a:lnTo>
                  <a:lnTo>
                    <a:pt x="324" y="11"/>
                  </a:lnTo>
                  <a:lnTo>
                    <a:pt x="297" y="20"/>
                  </a:lnTo>
                  <a:lnTo>
                    <a:pt x="311" y="111"/>
                  </a:lnTo>
                  <a:lnTo>
                    <a:pt x="305" y="108"/>
                  </a:lnTo>
                  <a:lnTo>
                    <a:pt x="288" y="102"/>
                  </a:lnTo>
                  <a:lnTo>
                    <a:pt x="260" y="93"/>
                  </a:lnTo>
                  <a:lnTo>
                    <a:pt x="219" y="83"/>
                  </a:lnTo>
                  <a:lnTo>
                    <a:pt x="220" y="86"/>
                  </a:lnTo>
                  <a:lnTo>
                    <a:pt x="220" y="95"/>
                  </a:lnTo>
                  <a:lnTo>
                    <a:pt x="221" y="108"/>
                  </a:lnTo>
                  <a:lnTo>
                    <a:pt x="219" y="125"/>
                  </a:lnTo>
                  <a:lnTo>
                    <a:pt x="216" y="134"/>
                  </a:lnTo>
                  <a:lnTo>
                    <a:pt x="214" y="142"/>
                  </a:lnTo>
                  <a:lnTo>
                    <a:pt x="210" y="152"/>
                  </a:lnTo>
                  <a:lnTo>
                    <a:pt x="206" y="160"/>
                  </a:lnTo>
                  <a:lnTo>
                    <a:pt x="200" y="168"/>
                  </a:lnTo>
                  <a:lnTo>
                    <a:pt x="192" y="176"/>
                  </a:lnTo>
                  <a:lnTo>
                    <a:pt x="184" y="183"/>
                  </a:lnTo>
                  <a:lnTo>
                    <a:pt x="173" y="189"/>
                  </a:lnTo>
                  <a:lnTo>
                    <a:pt x="154" y="184"/>
                  </a:lnTo>
                  <a:lnTo>
                    <a:pt x="136" y="182"/>
                  </a:lnTo>
                  <a:lnTo>
                    <a:pt x="119" y="182"/>
                  </a:lnTo>
                  <a:lnTo>
                    <a:pt x="104" y="182"/>
                  </a:lnTo>
                  <a:lnTo>
                    <a:pt x="90" y="184"/>
                  </a:lnTo>
                  <a:lnTo>
                    <a:pt x="76" y="189"/>
                  </a:lnTo>
                  <a:lnTo>
                    <a:pt x="64" y="194"/>
                  </a:lnTo>
                  <a:lnTo>
                    <a:pt x="54" y="201"/>
                  </a:lnTo>
                  <a:lnTo>
                    <a:pt x="45" y="208"/>
                  </a:lnTo>
                  <a:lnTo>
                    <a:pt x="35" y="216"/>
                  </a:lnTo>
                  <a:lnTo>
                    <a:pt x="27" y="226"/>
                  </a:lnTo>
                  <a:lnTo>
                    <a:pt x="21" y="236"/>
                  </a:lnTo>
                  <a:lnTo>
                    <a:pt x="15" y="247"/>
                  </a:lnTo>
                  <a:lnTo>
                    <a:pt x="11" y="259"/>
                  </a:lnTo>
                  <a:lnTo>
                    <a:pt x="7" y="272"/>
                  </a:lnTo>
                  <a:lnTo>
                    <a:pt x="4" y="285"/>
                  </a:lnTo>
                  <a:lnTo>
                    <a:pt x="1" y="299"/>
                  </a:lnTo>
                  <a:lnTo>
                    <a:pt x="0" y="312"/>
                  </a:lnTo>
                  <a:lnTo>
                    <a:pt x="0" y="326"/>
                  </a:lnTo>
                  <a:lnTo>
                    <a:pt x="1" y="340"/>
                  </a:lnTo>
                  <a:lnTo>
                    <a:pt x="3" y="355"/>
                  </a:lnTo>
                  <a:lnTo>
                    <a:pt x="5" y="369"/>
                  </a:lnTo>
                  <a:lnTo>
                    <a:pt x="7" y="383"/>
                  </a:lnTo>
                  <a:lnTo>
                    <a:pt x="11" y="397"/>
                  </a:lnTo>
                  <a:lnTo>
                    <a:pt x="15" y="410"/>
                  </a:lnTo>
                  <a:lnTo>
                    <a:pt x="20" y="423"/>
                  </a:lnTo>
                  <a:lnTo>
                    <a:pt x="26" y="435"/>
                  </a:lnTo>
                  <a:lnTo>
                    <a:pt x="33" y="448"/>
                  </a:lnTo>
                  <a:lnTo>
                    <a:pt x="39" y="459"/>
                  </a:lnTo>
                  <a:lnTo>
                    <a:pt x="47" y="469"/>
                  </a:lnTo>
                  <a:lnTo>
                    <a:pt x="55" y="480"/>
                  </a:lnTo>
                  <a:lnTo>
                    <a:pt x="63" y="488"/>
                  </a:lnTo>
                  <a:lnTo>
                    <a:pt x="90" y="515"/>
                  </a:lnTo>
                  <a:lnTo>
                    <a:pt x="114" y="541"/>
                  </a:lnTo>
                  <a:lnTo>
                    <a:pt x="135" y="565"/>
                  </a:lnTo>
                  <a:lnTo>
                    <a:pt x="153" y="588"/>
                  </a:lnTo>
                  <a:lnTo>
                    <a:pt x="170" y="612"/>
                  </a:lnTo>
                  <a:lnTo>
                    <a:pt x="184" y="633"/>
                  </a:lnTo>
                  <a:lnTo>
                    <a:pt x="195" y="655"/>
                  </a:lnTo>
                  <a:lnTo>
                    <a:pt x="205" y="675"/>
                  </a:lnTo>
                  <a:lnTo>
                    <a:pt x="210" y="695"/>
                  </a:lnTo>
                  <a:lnTo>
                    <a:pt x="215" y="715"/>
                  </a:lnTo>
                  <a:lnTo>
                    <a:pt x="216" y="724"/>
                  </a:lnTo>
                  <a:lnTo>
                    <a:pt x="216" y="733"/>
                  </a:lnTo>
                  <a:lnTo>
                    <a:pt x="216" y="743"/>
                  </a:lnTo>
                  <a:lnTo>
                    <a:pt x="215" y="752"/>
                  </a:lnTo>
                  <a:lnTo>
                    <a:pt x="214" y="761"/>
                  </a:lnTo>
                  <a:lnTo>
                    <a:pt x="212" y="769"/>
                  </a:lnTo>
                  <a:lnTo>
                    <a:pt x="209" y="779"/>
                  </a:lnTo>
                  <a:lnTo>
                    <a:pt x="206" y="788"/>
                  </a:lnTo>
                  <a:lnTo>
                    <a:pt x="198" y="806"/>
                  </a:lnTo>
                  <a:lnTo>
                    <a:pt x="187" y="822"/>
                  </a:lnTo>
                  <a:lnTo>
                    <a:pt x="714" y="800"/>
                  </a:lnTo>
                  <a:lnTo>
                    <a:pt x="1124" y="76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174"/>
            <p:cNvSpPr/>
            <p:nvPr/>
          </p:nvSpPr>
          <p:spPr>
            <a:xfrm>
              <a:off x="7844040" y="5345280"/>
              <a:ext cx="186840" cy="1328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238" h="822">
                  <a:moveTo>
                    <a:pt x="1124" y="762"/>
                  </a:moveTo>
                  <a:lnTo>
                    <a:pt x="1238" y="776"/>
                  </a:lnTo>
                  <a:lnTo>
                    <a:pt x="1238" y="762"/>
                  </a:lnTo>
                  <a:lnTo>
                    <a:pt x="1237" y="747"/>
                  </a:lnTo>
                  <a:lnTo>
                    <a:pt x="1236" y="732"/>
                  </a:lnTo>
                  <a:lnTo>
                    <a:pt x="1234" y="717"/>
                  </a:lnTo>
                  <a:lnTo>
                    <a:pt x="1230" y="703"/>
                  </a:lnTo>
                  <a:lnTo>
                    <a:pt x="1227" y="688"/>
                  </a:lnTo>
                  <a:lnTo>
                    <a:pt x="1222" y="672"/>
                  </a:lnTo>
                  <a:lnTo>
                    <a:pt x="1217" y="657"/>
                  </a:lnTo>
                  <a:lnTo>
                    <a:pt x="1212" y="641"/>
                  </a:lnTo>
                  <a:lnTo>
                    <a:pt x="1205" y="626"/>
                  </a:lnTo>
                  <a:lnTo>
                    <a:pt x="1198" y="611"/>
                  </a:lnTo>
                  <a:lnTo>
                    <a:pt x="1189" y="594"/>
                  </a:lnTo>
                  <a:lnTo>
                    <a:pt x="1181" y="579"/>
                  </a:lnTo>
                  <a:lnTo>
                    <a:pt x="1171" y="563"/>
                  </a:lnTo>
                  <a:lnTo>
                    <a:pt x="1160" y="546"/>
                  </a:lnTo>
                  <a:lnTo>
                    <a:pt x="1150" y="531"/>
                  </a:lnTo>
                  <a:lnTo>
                    <a:pt x="1124" y="497"/>
                  </a:lnTo>
                  <a:lnTo>
                    <a:pt x="1096" y="465"/>
                  </a:lnTo>
                  <a:lnTo>
                    <a:pt x="1064" y="431"/>
                  </a:lnTo>
                  <a:lnTo>
                    <a:pt x="1029" y="396"/>
                  </a:lnTo>
                  <a:lnTo>
                    <a:pt x="991" y="361"/>
                  </a:lnTo>
                  <a:lnTo>
                    <a:pt x="949" y="326"/>
                  </a:lnTo>
                  <a:lnTo>
                    <a:pt x="903" y="289"/>
                  </a:lnTo>
                  <a:lnTo>
                    <a:pt x="853" y="252"/>
                  </a:lnTo>
                  <a:lnTo>
                    <a:pt x="844" y="267"/>
                  </a:lnTo>
                  <a:lnTo>
                    <a:pt x="835" y="281"/>
                  </a:lnTo>
                  <a:lnTo>
                    <a:pt x="827" y="294"/>
                  </a:lnTo>
                  <a:lnTo>
                    <a:pt x="819" y="305"/>
                  </a:lnTo>
                  <a:lnTo>
                    <a:pt x="811" y="314"/>
                  </a:lnTo>
                  <a:lnTo>
                    <a:pt x="803" y="322"/>
                  </a:lnTo>
                  <a:lnTo>
                    <a:pt x="796" y="329"/>
                  </a:lnTo>
                  <a:lnTo>
                    <a:pt x="789" y="335"/>
                  </a:lnTo>
                  <a:lnTo>
                    <a:pt x="782" y="340"/>
                  </a:lnTo>
                  <a:lnTo>
                    <a:pt x="775" y="342"/>
                  </a:lnTo>
                  <a:lnTo>
                    <a:pt x="768" y="344"/>
                  </a:lnTo>
                  <a:lnTo>
                    <a:pt x="762" y="344"/>
                  </a:lnTo>
                  <a:lnTo>
                    <a:pt x="756" y="344"/>
                  </a:lnTo>
                  <a:lnTo>
                    <a:pt x="750" y="342"/>
                  </a:lnTo>
                  <a:lnTo>
                    <a:pt x="745" y="340"/>
                  </a:lnTo>
                  <a:lnTo>
                    <a:pt x="741" y="335"/>
                  </a:lnTo>
                  <a:lnTo>
                    <a:pt x="736" y="330"/>
                  </a:lnTo>
                  <a:lnTo>
                    <a:pt x="733" y="323"/>
                  </a:lnTo>
                  <a:lnTo>
                    <a:pt x="729" y="316"/>
                  </a:lnTo>
                  <a:lnTo>
                    <a:pt x="727" y="307"/>
                  </a:lnTo>
                  <a:lnTo>
                    <a:pt x="724" y="298"/>
                  </a:lnTo>
                  <a:lnTo>
                    <a:pt x="723" y="287"/>
                  </a:lnTo>
                  <a:lnTo>
                    <a:pt x="722" y="275"/>
                  </a:lnTo>
                  <a:lnTo>
                    <a:pt x="722" y="263"/>
                  </a:lnTo>
                  <a:lnTo>
                    <a:pt x="722" y="250"/>
                  </a:lnTo>
                  <a:lnTo>
                    <a:pt x="723" y="234"/>
                  </a:lnTo>
                  <a:lnTo>
                    <a:pt x="724" y="219"/>
                  </a:lnTo>
                  <a:lnTo>
                    <a:pt x="727" y="203"/>
                  </a:lnTo>
                  <a:lnTo>
                    <a:pt x="734" y="168"/>
                  </a:lnTo>
                  <a:lnTo>
                    <a:pt x="743" y="128"/>
                  </a:lnTo>
                  <a:lnTo>
                    <a:pt x="744" y="126"/>
                  </a:lnTo>
                  <a:lnTo>
                    <a:pt x="745" y="119"/>
                  </a:lnTo>
                  <a:lnTo>
                    <a:pt x="745" y="115"/>
                  </a:lnTo>
                  <a:lnTo>
                    <a:pt x="743" y="111"/>
                  </a:lnTo>
                  <a:lnTo>
                    <a:pt x="741" y="106"/>
                  </a:lnTo>
                  <a:lnTo>
                    <a:pt x="736" y="102"/>
                  </a:lnTo>
                  <a:lnTo>
                    <a:pt x="729" y="99"/>
                  </a:lnTo>
                  <a:lnTo>
                    <a:pt x="720" y="97"/>
                  </a:lnTo>
                  <a:lnTo>
                    <a:pt x="708" y="94"/>
                  </a:lnTo>
                  <a:lnTo>
                    <a:pt x="692" y="94"/>
                  </a:lnTo>
                  <a:lnTo>
                    <a:pt x="673" y="95"/>
                  </a:lnTo>
                  <a:lnTo>
                    <a:pt x="650" y="99"/>
                  </a:lnTo>
                  <a:lnTo>
                    <a:pt x="623" y="104"/>
                  </a:lnTo>
                  <a:lnTo>
                    <a:pt x="590" y="111"/>
                  </a:lnTo>
                  <a:lnTo>
                    <a:pt x="594" y="108"/>
                  </a:lnTo>
                  <a:lnTo>
                    <a:pt x="598" y="101"/>
                  </a:lnTo>
                  <a:lnTo>
                    <a:pt x="605" y="91"/>
                  </a:lnTo>
                  <a:lnTo>
                    <a:pt x="611" y="79"/>
                  </a:lnTo>
                  <a:lnTo>
                    <a:pt x="612" y="73"/>
                  </a:lnTo>
                  <a:lnTo>
                    <a:pt x="613" y="66"/>
                  </a:lnTo>
                  <a:lnTo>
                    <a:pt x="612" y="60"/>
                  </a:lnTo>
                  <a:lnTo>
                    <a:pt x="609" y="55"/>
                  </a:lnTo>
                  <a:lnTo>
                    <a:pt x="604" y="49"/>
                  </a:lnTo>
                  <a:lnTo>
                    <a:pt x="596" y="44"/>
                  </a:lnTo>
                  <a:lnTo>
                    <a:pt x="587" y="39"/>
                  </a:lnTo>
                  <a:lnTo>
                    <a:pt x="574" y="36"/>
                  </a:lnTo>
                  <a:lnTo>
                    <a:pt x="546" y="29"/>
                  </a:lnTo>
                  <a:lnTo>
                    <a:pt x="519" y="20"/>
                  </a:lnTo>
                  <a:lnTo>
                    <a:pt x="492" y="11"/>
                  </a:lnTo>
                  <a:lnTo>
                    <a:pt x="463" y="4"/>
                  </a:lnTo>
                  <a:lnTo>
                    <a:pt x="448" y="1"/>
                  </a:lnTo>
                  <a:lnTo>
                    <a:pt x="431" y="0"/>
                  </a:lnTo>
                  <a:lnTo>
                    <a:pt x="413" y="0"/>
                  </a:lnTo>
                  <a:lnTo>
                    <a:pt x="394" y="0"/>
                  </a:lnTo>
                  <a:lnTo>
                    <a:pt x="373" y="2"/>
                  </a:lnTo>
                  <a:lnTo>
                    <a:pt x="349" y="6"/>
                  </a:lnTo>
                  <a:lnTo>
                    <a:pt x="324" y="11"/>
                  </a:lnTo>
                  <a:lnTo>
                    <a:pt x="297" y="20"/>
                  </a:lnTo>
                  <a:lnTo>
                    <a:pt x="311" y="111"/>
                  </a:lnTo>
                  <a:lnTo>
                    <a:pt x="305" y="108"/>
                  </a:lnTo>
                  <a:lnTo>
                    <a:pt x="288" y="102"/>
                  </a:lnTo>
                  <a:lnTo>
                    <a:pt x="260" y="93"/>
                  </a:lnTo>
                  <a:lnTo>
                    <a:pt x="219" y="83"/>
                  </a:lnTo>
                  <a:lnTo>
                    <a:pt x="220" y="86"/>
                  </a:lnTo>
                  <a:lnTo>
                    <a:pt x="220" y="95"/>
                  </a:lnTo>
                  <a:lnTo>
                    <a:pt x="221" y="108"/>
                  </a:lnTo>
                  <a:lnTo>
                    <a:pt x="219" y="125"/>
                  </a:lnTo>
                  <a:lnTo>
                    <a:pt x="216" y="134"/>
                  </a:lnTo>
                  <a:lnTo>
                    <a:pt x="214" y="142"/>
                  </a:lnTo>
                  <a:lnTo>
                    <a:pt x="210" y="152"/>
                  </a:lnTo>
                  <a:lnTo>
                    <a:pt x="206" y="160"/>
                  </a:lnTo>
                  <a:lnTo>
                    <a:pt x="200" y="168"/>
                  </a:lnTo>
                  <a:lnTo>
                    <a:pt x="192" y="176"/>
                  </a:lnTo>
                  <a:lnTo>
                    <a:pt x="184" y="183"/>
                  </a:lnTo>
                  <a:lnTo>
                    <a:pt x="173" y="189"/>
                  </a:lnTo>
                  <a:lnTo>
                    <a:pt x="154" y="184"/>
                  </a:lnTo>
                  <a:lnTo>
                    <a:pt x="136" y="182"/>
                  </a:lnTo>
                  <a:lnTo>
                    <a:pt x="119" y="182"/>
                  </a:lnTo>
                  <a:lnTo>
                    <a:pt x="104" y="182"/>
                  </a:lnTo>
                  <a:lnTo>
                    <a:pt x="90" y="184"/>
                  </a:lnTo>
                  <a:lnTo>
                    <a:pt x="76" y="189"/>
                  </a:lnTo>
                  <a:lnTo>
                    <a:pt x="64" y="194"/>
                  </a:lnTo>
                  <a:lnTo>
                    <a:pt x="54" y="201"/>
                  </a:lnTo>
                  <a:lnTo>
                    <a:pt x="45" y="208"/>
                  </a:lnTo>
                  <a:lnTo>
                    <a:pt x="35" y="216"/>
                  </a:lnTo>
                  <a:lnTo>
                    <a:pt x="27" y="226"/>
                  </a:lnTo>
                  <a:lnTo>
                    <a:pt x="21" y="236"/>
                  </a:lnTo>
                  <a:lnTo>
                    <a:pt x="15" y="247"/>
                  </a:lnTo>
                  <a:lnTo>
                    <a:pt x="11" y="259"/>
                  </a:lnTo>
                  <a:lnTo>
                    <a:pt x="7" y="272"/>
                  </a:lnTo>
                  <a:lnTo>
                    <a:pt x="4" y="285"/>
                  </a:lnTo>
                  <a:lnTo>
                    <a:pt x="1" y="299"/>
                  </a:lnTo>
                  <a:lnTo>
                    <a:pt x="0" y="312"/>
                  </a:lnTo>
                  <a:lnTo>
                    <a:pt x="0" y="326"/>
                  </a:lnTo>
                  <a:lnTo>
                    <a:pt x="1" y="340"/>
                  </a:lnTo>
                  <a:lnTo>
                    <a:pt x="3" y="355"/>
                  </a:lnTo>
                  <a:lnTo>
                    <a:pt x="5" y="369"/>
                  </a:lnTo>
                  <a:lnTo>
                    <a:pt x="7" y="383"/>
                  </a:lnTo>
                  <a:lnTo>
                    <a:pt x="11" y="397"/>
                  </a:lnTo>
                  <a:lnTo>
                    <a:pt x="15" y="410"/>
                  </a:lnTo>
                  <a:lnTo>
                    <a:pt x="20" y="423"/>
                  </a:lnTo>
                  <a:lnTo>
                    <a:pt x="26" y="435"/>
                  </a:lnTo>
                  <a:lnTo>
                    <a:pt x="33" y="448"/>
                  </a:lnTo>
                  <a:lnTo>
                    <a:pt x="39" y="459"/>
                  </a:lnTo>
                  <a:lnTo>
                    <a:pt x="47" y="469"/>
                  </a:lnTo>
                  <a:lnTo>
                    <a:pt x="55" y="480"/>
                  </a:lnTo>
                  <a:lnTo>
                    <a:pt x="63" y="488"/>
                  </a:lnTo>
                  <a:lnTo>
                    <a:pt x="90" y="515"/>
                  </a:lnTo>
                  <a:lnTo>
                    <a:pt x="114" y="541"/>
                  </a:lnTo>
                  <a:lnTo>
                    <a:pt x="135" y="565"/>
                  </a:lnTo>
                  <a:lnTo>
                    <a:pt x="153" y="588"/>
                  </a:lnTo>
                  <a:lnTo>
                    <a:pt x="170" y="612"/>
                  </a:lnTo>
                  <a:lnTo>
                    <a:pt x="184" y="633"/>
                  </a:lnTo>
                  <a:lnTo>
                    <a:pt x="195" y="655"/>
                  </a:lnTo>
                  <a:lnTo>
                    <a:pt x="205" y="675"/>
                  </a:lnTo>
                  <a:lnTo>
                    <a:pt x="210" y="695"/>
                  </a:lnTo>
                  <a:lnTo>
                    <a:pt x="215" y="715"/>
                  </a:lnTo>
                  <a:lnTo>
                    <a:pt x="216" y="724"/>
                  </a:lnTo>
                  <a:lnTo>
                    <a:pt x="216" y="733"/>
                  </a:lnTo>
                  <a:lnTo>
                    <a:pt x="216" y="743"/>
                  </a:lnTo>
                  <a:lnTo>
                    <a:pt x="215" y="752"/>
                  </a:lnTo>
                  <a:lnTo>
                    <a:pt x="214" y="761"/>
                  </a:lnTo>
                  <a:lnTo>
                    <a:pt x="212" y="769"/>
                  </a:lnTo>
                  <a:lnTo>
                    <a:pt x="209" y="779"/>
                  </a:lnTo>
                  <a:lnTo>
                    <a:pt x="206" y="788"/>
                  </a:lnTo>
                  <a:lnTo>
                    <a:pt x="198" y="806"/>
                  </a:lnTo>
                  <a:lnTo>
                    <a:pt x="187" y="822"/>
                  </a:lnTo>
                  <a:lnTo>
                    <a:pt x="714" y="800"/>
                  </a:lnTo>
                  <a:lnTo>
                    <a:pt x="1124" y="762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175"/>
            <p:cNvSpPr/>
            <p:nvPr/>
          </p:nvSpPr>
          <p:spPr>
            <a:xfrm>
              <a:off x="7839000" y="5475240"/>
              <a:ext cx="150480" cy="1998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96" h="1220">
                  <a:moveTo>
                    <a:pt x="208" y="1220"/>
                  </a:moveTo>
                  <a:lnTo>
                    <a:pt x="207" y="1215"/>
                  </a:lnTo>
                  <a:lnTo>
                    <a:pt x="206" y="1199"/>
                  </a:lnTo>
                  <a:lnTo>
                    <a:pt x="203" y="1176"/>
                  </a:lnTo>
                  <a:lnTo>
                    <a:pt x="201" y="1146"/>
                  </a:lnTo>
                  <a:lnTo>
                    <a:pt x="197" y="1109"/>
                  </a:lnTo>
                  <a:lnTo>
                    <a:pt x="195" y="1071"/>
                  </a:lnTo>
                  <a:lnTo>
                    <a:pt x="194" y="1031"/>
                  </a:lnTo>
                  <a:lnTo>
                    <a:pt x="194" y="990"/>
                  </a:lnTo>
                  <a:lnTo>
                    <a:pt x="194" y="970"/>
                  </a:lnTo>
                  <a:lnTo>
                    <a:pt x="194" y="953"/>
                  </a:lnTo>
                  <a:lnTo>
                    <a:pt x="196" y="935"/>
                  </a:lnTo>
                  <a:lnTo>
                    <a:pt x="197" y="920"/>
                  </a:lnTo>
                  <a:lnTo>
                    <a:pt x="201" y="905"/>
                  </a:lnTo>
                  <a:lnTo>
                    <a:pt x="204" y="892"/>
                  </a:lnTo>
                  <a:lnTo>
                    <a:pt x="208" y="879"/>
                  </a:lnTo>
                  <a:lnTo>
                    <a:pt x="213" y="867"/>
                  </a:lnTo>
                  <a:lnTo>
                    <a:pt x="218" y="855"/>
                  </a:lnTo>
                  <a:lnTo>
                    <a:pt x="224" y="843"/>
                  </a:lnTo>
                  <a:lnTo>
                    <a:pt x="231" y="831"/>
                  </a:lnTo>
                  <a:lnTo>
                    <a:pt x="239" y="821"/>
                  </a:lnTo>
                  <a:lnTo>
                    <a:pt x="258" y="796"/>
                  </a:lnTo>
                  <a:lnTo>
                    <a:pt x="280" y="772"/>
                  </a:lnTo>
                  <a:lnTo>
                    <a:pt x="264" y="759"/>
                  </a:lnTo>
                  <a:lnTo>
                    <a:pt x="245" y="743"/>
                  </a:lnTo>
                  <a:lnTo>
                    <a:pt x="227" y="725"/>
                  </a:lnTo>
                  <a:lnTo>
                    <a:pt x="207" y="705"/>
                  </a:lnTo>
                  <a:lnTo>
                    <a:pt x="189" y="683"/>
                  </a:lnTo>
                  <a:lnTo>
                    <a:pt x="172" y="662"/>
                  </a:lnTo>
                  <a:lnTo>
                    <a:pt x="165" y="650"/>
                  </a:lnTo>
                  <a:lnTo>
                    <a:pt x="158" y="640"/>
                  </a:lnTo>
                  <a:lnTo>
                    <a:pt x="152" y="629"/>
                  </a:lnTo>
                  <a:lnTo>
                    <a:pt x="147" y="619"/>
                  </a:lnTo>
                  <a:lnTo>
                    <a:pt x="0" y="86"/>
                  </a:lnTo>
                  <a:lnTo>
                    <a:pt x="12" y="89"/>
                  </a:lnTo>
                  <a:lnTo>
                    <a:pt x="23" y="90"/>
                  </a:lnTo>
                  <a:lnTo>
                    <a:pt x="34" y="91"/>
                  </a:lnTo>
                  <a:lnTo>
                    <a:pt x="44" y="91"/>
                  </a:lnTo>
                  <a:lnTo>
                    <a:pt x="65" y="91"/>
                  </a:lnTo>
                  <a:lnTo>
                    <a:pt x="84" y="89"/>
                  </a:lnTo>
                  <a:lnTo>
                    <a:pt x="103" y="84"/>
                  </a:lnTo>
                  <a:lnTo>
                    <a:pt x="119" y="78"/>
                  </a:lnTo>
                  <a:lnTo>
                    <a:pt x="136" y="72"/>
                  </a:lnTo>
                  <a:lnTo>
                    <a:pt x="150" y="65"/>
                  </a:lnTo>
                  <a:lnTo>
                    <a:pt x="174" y="50"/>
                  </a:lnTo>
                  <a:lnTo>
                    <a:pt x="194" y="36"/>
                  </a:lnTo>
                  <a:lnTo>
                    <a:pt x="208" y="27"/>
                  </a:lnTo>
                  <a:lnTo>
                    <a:pt x="216" y="22"/>
                  </a:lnTo>
                  <a:lnTo>
                    <a:pt x="743" y="0"/>
                  </a:lnTo>
                  <a:lnTo>
                    <a:pt x="996" y="702"/>
                  </a:lnTo>
                  <a:lnTo>
                    <a:pt x="980" y="716"/>
                  </a:lnTo>
                  <a:lnTo>
                    <a:pt x="967" y="728"/>
                  </a:lnTo>
                  <a:lnTo>
                    <a:pt x="963" y="733"/>
                  </a:lnTo>
                  <a:lnTo>
                    <a:pt x="959" y="739"/>
                  </a:lnTo>
                  <a:lnTo>
                    <a:pt x="957" y="744"/>
                  </a:lnTo>
                  <a:lnTo>
                    <a:pt x="954" y="749"/>
                  </a:lnTo>
                  <a:lnTo>
                    <a:pt x="953" y="758"/>
                  </a:lnTo>
                  <a:lnTo>
                    <a:pt x="953" y="766"/>
                  </a:lnTo>
                  <a:lnTo>
                    <a:pt x="956" y="774"/>
                  </a:lnTo>
                  <a:lnTo>
                    <a:pt x="958" y="782"/>
                  </a:lnTo>
                  <a:lnTo>
                    <a:pt x="959" y="792"/>
                  </a:lnTo>
                  <a:lnTo>
                    <a:pt x="961" y="801"/>
                  </a:lnTo>
                  <a:lnTo>
                    <a:pt x="961" y="812"/>
                  </a:lnTo>
                  <a:lnTo>
                    <a:pt x="959" y="823"/>
                  </a:lnTo>
                  <a:lnTo>
                    <a:pt x="957" y="830"/>
                  </a:lnTo>
                  <a:lnTo>
                    <a:pt x="953" y="837"/>
                  </a:lnTo>
                  <a:lnTo>
                    <a:pt x="950" y="844"/>
                  </a:lnTo>
                  <a:lnTo>
                    <a:pt x="945" y="853"/>
                  </a:lnTo>
                  <a:lnTo>
                    <a:pt x="932" y="870"/>
                  </a:lnTo>
                  <a:lnTo>
                    <a:pt x="913" y="890"/>
                  </a:lnTo>
                  <a:lnTo>
                    <a:pt x="894" y="909"/>
                  </a:lnTo>
                  <a:lnTo>
                    <a:pt x="873" y="925"/>
                  </a:lnTo>
                  <a:lnTo>
                    <a:pt x="852" y="941"/>
                  </a:lnTo>
                  <a:lnTo>
                    <a:pt x="829" y="955"/>
                  </a:lnTo>
                  <a:lnTo>
                    <a:pt x="807" y="968"/>
                  </a:lnTo>
                  <a:lnTo>
                    <a:pt x="785" y="981"/>
                  </a:lnTo>
                  <a:lnTo>
                    <a:pt x="763" y="992"/>
                  </a:lnTo>
                  <a:lnTo>
                    <a:pt x="739" y="1002"/>
                  </a:lnTo>
                  <a:lnTo>
                    <a:pt x="716" y="1010"/>
                  </a:lnTo>
                  <a:lnTo>
                    <a:pt x="693" y="1018"/>
                  </a:lnTo>
                  <a:lnTo>
                    <a:pt x="669" y="1025"/>
                  </a:lnTo>
                  <a:lnTo>
                    <a:pt x="646" y="1032"/>
                  </a:lnTo>
                  <a:lnTo>
                    <a:pt x="599" y="1044"/>
                  </a:lnTo>
                  <a:lnTo>
                    <a:pt x="554" y="1053"/>
                  </a:lnTo>
                  <a:lnTo>
                    <a:pt x="466" y="1069"/>
                  </a:lnTo>
                  <a:lnTo>
                    <a:pt x="387" y="1085"/>
                  </a:lnTo>
                  <a:lnTo>
                    <a:pt x="369" y="1090"/>
                  </a:lnTo>
                  <a:lnTo>
                    <a:pt x="352" y="1094"/>
                  </a:lnTo>
                  <a:lnTo>
                    <a:pt x="335" y="1100"/>
                  </a:lnTo>
                  <a:lnTo>
                    <a:pt x="321" y="1106"/>
                  </a:lnTo>
                  <a:lnTo>
                    <a:pt x="306" y="1113"/>
                  </a:lnTo>
                  <a:lnTo>
                    <a:pt x="293" y="1120"/>
                  </a:lnTo>
                  <a:lnTo>
                    <a:pt x="282" y="1128"/>
                  </a:lnTo>
                  <a:lnTo>
                    <a:pt x="271" y="1138"/>
                  </a:lnTo>
                  <a:lnTo>
                    <a:pt x="250" y="1157"/>
                  </a:lnTo>
                  <a:lnTo>
                    <a:pt x="235" y="1171"/>
                  </a:lnTo>
                  <a:lnTo>
                    <a:pt x="227" y="1182"/>
                  </a:lnTo>
                  <a:lnTo>
                    <a:pt x="222" y="1189"/>
                  </a:lnTo>
                  <a:lnTo>
                    <a:pt x="217" y="1201"/>
                  </a:lnTo>
                  <a:lnTo>
                    <a:pt x="208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176"/>
            <p:cNvSpPr/>
            <p:nvPr/>
          </p:nvSpPr>
          <p:spPr>
            <a:xfrm>
              <a:off x="7839000" y="5475240"/>
              <a:ext cx="150480" cy="1998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996" h="1220">
                  <a:moveTo>
                    <a:pt x="208" y="1220"/>
                  </a:moveTo>
                  <a:lnTo>
                    <a:pt x="207" y="1215"/>
                  </a:lnTo>
                  <a:lnTo>
                    <a:pt x="206" y="1199"/>
                  </a:lnTo>
                  <a:lnTo>
                    <a:pt x="203" y="1176"/>
                  </a:lnTo>
                  <a:lnTo>
                    <a:pt x="201" y="1146"/>
                  </a:lnTo>
                  <a:lnTo>
                    <a:pt x="197" y="1109"/>
                  </a:lnTo>
                  <a:lnTo>
                    <a:pt x="195" y="1071"/>
                  </a:lnTo>
                  <a:lnTo>
                    <a:pt x="194" y="1031"/>
                  </a:lnTo>
                  <a:lnTo>
                    <a:pt x="194" y="990"/>
                  </a:lnTo>
                  <a:lnTo>
                    <a:pt x="194" y="970"/>
                  </a:lnTo>
                  <a:lnTo>
                    <a:pt x="194" y="953"/>
                  </a:lnTo>
                  <a:lnTo>
                    <a:pt x="196" y="935"/>
                  </a:lnTo>
                  <a:lnTo>
                    <a:pt x="197" y="920"/>
                  </a:lnTo>
                  <a:lnTo>
                    <a:pt x="201" y="905"/>
                  </a:lnTo>
                  <a:lnTo>
                    <a:pt x="204" y="892"/>
                  </a:lnTo>
                  <a:lnTo>
                    <a:pt x="208" y="879"/>
                  </a:lnTo>
                  <a:lnTo>
                    <a:pt x="213" y="867"/>
                  </a:lnTo>
                  <a:lnTo>
                    <a:pt x="218" y="855"/>
                  </a:lnTo>
                  <a:lnTo>
                    <a:pt x="224" y="843"/>
                  </a:lnTo>
                  <a:lnTo>
                    <a:pt x="231" y="831"/>
                  </a:lnTo>
                  <a:lnTo>
                    <a:pt x="239" y="821"/>
                  </a:lnTo>
                  <a:lnTo>
                    <a:pt x="258" y="796"/>
                  </a:lnTo>
                  <a:lnTo>
                    <a:pt x="280" y="772"/>
                  </a:lnTo>
                  <a:lnTo>
                    <a:pt x="264" y="759"/>
                  </a:lnTo>
                  <a:lnTo>
                    <a:pt x="245" y="743"/>
                  </a:lnTo>
                  <a:lnTo>
                    <a:pt x="227" y="725"/>
                  </a:lnTo>
                  <a:lnTo>
                    <a:pt x="207" y="705"/>
                  </a:lnTo>
                  <a:lnTo>
                    <a:pt x="189" y="683"/>
                  </a:lnTo>
                  <a:lnTo>
                    <a:pt x="172" y="662"/>
                  </a:lnTo>
                  <a:lnTo>
                    <a:pt x="165" y="650"/>
                  </a:lnTo>
                  <a:lnTo>
                    <a:pt x="158" y="640"/>
                  </a:lnTo>
                  <a:lnTo>
                    <a:pt x="152" y="629"/>
                  </a:lnTo>
                  <a:lnTo>
                    <a:pt x="147" y="619"/>
                  </a:lnTo>
                  <a:lnTo>
                    <a:pt x="0" y="86"/>
                  </a:lnTo>
                  <a:lnTo>
                    <a:pt x="12" y="89"/>
                  </a:lnTo>
                  <a:lnTo>
                    <a:pt x="23" y="90"/>
                  </a:lnTo>
                  <a:lnTo>
                    <a:pt x="34" y="91"/>
                  </a:lnTo>
                  <a:lnTo>
                    <a:pt x="44" y="91"/>
                  </a:lnTo>
                  <a:lnTo>
                    <a:pt x="65" y="91"/>
                  </a:lnTo>
                  <a:lnTo>
                    <a:pt x="84" y="89"/>
                  </a:lnTo>
                  <a:lnTo>
                    <a:pt x="103" y="84"/>
                  </a:lnTo>
                  <a:lnTo>
                    <a:pt x="119" y="78"/>
                  </a:lnTo>
                  <a:lnTo>
                    <a:pt x="136" y="72"/>
                  </a:lnTo>
                  <a:lnTo>
                    <a:pt x="150" y="65"/>
                  </a:lnTo>
                  <a:lnTo>
                    <a:pt x="174" y="50"/>
                  </a:lnTo>
                  <a:lnTo>
                    <a:pt x="194" y="36"/>
                  </a:lnTo>
                  <a:lnTo>
                    <a:pt x="208" y="27"/>
                  </a:lnTo>
                  <a:lnTo>
                    <a:pt x="216" y="22"/>
                  </a:lnTo>
                  <a:lnTo>
                    <a:pt x="743" y="0"/>
                  </a:lnTo>
                  <a:lnTo>
                    <a:pt x="996" y="702"/>
                  </a:lnTo>
                  <a:lnTo>
                    <a:pt x="980" y="716"/>
                  </a:lnTo>
                  <a:lnTo>
                    <a:pt x="967" y="728"/>
                  </a:lnTo>
                  <a:lnTo>
                    <a:pt x="963" y="733"/>
                  </a:lnTo>
                  <a:lnTo>
                    <a:pt x="959" y="739"/>
                  </a:lnTo>
                  <a:lnTo>
                    <a:pt x="957" y="744"/>
                  </a:lnTo>
                  <a:lnTo>
                    <a:pt x="954" y="749"/>
                  </a:lnTo>
                  <a:lnTo>
                    <a:pt x="953" y="758"/>
                  </a:lnTo>
                  <a:lnTo>
                    <a:pt x="953" y="766"/>
                  </a:lnTo>
                  <a:lnTo>
                    <a:pt x="956" y="774"/>
                  </a:lnTo>
                  <a:lnTo>
                    <a:pt x="958" y="782"/>
                  </a:lnTo>
                  <a:lnTo>
                    <a:pt x="959" y="792"/>
                  </a:lnTo>
                  <a:lnTo>
                    <a:pt x="961" y="801"/>
                  </a:lnTo>
                  <a:lnTo>
                    <a:pt x="961" y="812"/>
                  </a:lnTo>
                  <a:lnTo>
                    <a:pt x="959" y="823"/>
                  </a:lnTo>
                  <a:lnTo>
                    <a:pt x="957" y="830"/>
                  </a:lnTo>
                  <a:lnTo>
                    <a:pt x="953" y="837"/>
                  </a:lnTo>
                  <a:lnTo>
                    <a:pt x="950" y="844"/>
                  </a:lnTo>
                  <a:lnTo>
                    <a:pt x="945" y="853"/>
                  </a:lnTo>
                  <a:lnTo>
                    <a:pt x="932" y="870"/>
                  </a:lnTo>
                  <a:lnTo>
                    <a:pt x="913" y="890"/>
                  </a:lnTo>
                  <a:lnTo>
                    <a:pt x="894" y="909"/>
                  </a:lnTo>
                  <a:lnTo>
                    <a:pt x="873" y="925"/>
                  </a:lnTo>
                  <a:lnTo>
                    <a:pt x="852" y="941"/>
                  </a:lnTo>
                  <a:lnTo>
                    <a:pt x="829" y="955"/>
                  </a:lnTo>
                  <a:lnTo>
                    <a:pt x="807" y="968"/>
                  </a:lnTo>
                  <a:lnTo>
                    <a:pt x="785" y="981"/>
                  </a:lnTo>
                  <a:lnTo>
                    <a:pt x="763" y="992"/>
                  </a:lnTo>
                  <a:lnTo>
                    <a:pt x="739" y="1002"/>
                  </a:lnTo>
                  <a:lnTo>
                    <a:pt x="716" y="1010"/>
                  </a:lnTo>
                  <a:lnTo>
                    <a:pt x="693" y="1018"/>
                  </a:lnTo>
                  <a:lnTo>
                    <a:pt x="669" y="1025"/>
                  </a:lnTo>
                  <a:lnTo>
                    <a:pt x="646" y="1032"/>
                  </a:lnTo>
                  <a:lnTo>
                    <a:pt x="599" y="1044"/>
                  </a:lnTo>
                  <a:lnTo>
                    <a:pt x="554" y="1053"/>
                  </a:lnTo>
                  <a:lnTo>
                    <a:pt x="466" y="1069"/>
                  </a:lnTo>
                  <a:lnTo>
                    <a:pt x="387" y="1085"/>
                  </a:lnTo>
                  <a:lnTo>
                    <a:pt x="369" y="1090"/>
                  </a:lnTo>
                  <a:lnTo>
                    <a:pt x="352" y="1094"/>
                  </a:lnTo>
                  <a:lnTo>
                    <a:pt x="335" y="1100"/>
                  </a:lnTo>
                  <a:lnTo>
                    <a:pt x="321" y="1106"/>
                  </a:lnTo>
                  <a:lnTo>
                    <a:pt x="306" y="1113"/>
                  </a:lnTo>
                  <a:lnTo>
                    <a:pt x="293" y="1120"/>
                  </a:lnTo>
                  <a:lnTo>
                    <a:pt x="282" y="1128"/>
                  </a:lnTo>
                  <a:lnTo>
                    <a:pt x="271" y="1138"/>
                  </a:lnTo>
                  <a:lnTo>
                    <a:pt x="250" y="1157"/>
                  </a:lnTo>
                  <a:lnTo>
                    <a:pt x="235" y="1171"/>
                  </a:lnTo>
                  <a:lnTo>
                    <a:pt x="227" y="1182"/>
                  </a:lnTo>
                  <a:lnTo>
                    <a:pt x="222" y="1189"/>
                  </a:lnTo>
                  <a:lnTo>
                    <a:pt x="217" y="1201"/>
                  </a:lnTo>
                  <a:lnTo>
                    <a:pt x="208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177"/>
            <p:cNvSpPr/>
            <p:nvPr/>
          </p:nvSpPr>
          <p:spPr>
            <a:xfrm>
              <a:off x="7952040" y="5439240"/>
              <a:ext cx="183960" cy="1677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1219" h="1031">
                  <a:moveTo>
                    <a:pt x="253" y="930"/>
                  </a:moveTo>
                  <a:lnTo>
                    <a:pt x="0" y="228"/>
                  </a:lnTo>
                  <a:lnTo>
                    <a:pt x="410" y="190"/>
                  </a:lnTo>
                  <a:lnTo>
                    <a:pt x="524" y="204"/>
                  </a:lnTo>
                  <a:lnTo>
                    <a:pt x="568" y="199"/>
                  </a:lnTo>
                  <a:lnTo>
                    <a:pt x="609" y="190"/>
                  </a:lnTo>
                  <a:lnTo>
                    <a:pt x="648" y="182"/>
                  </a:lnTo>
                  <a:lnTo>
                    <a:pt x="687" y="173"/>
                  </a:lnTo>
                  <a:lnTo>
                    <a:pt x="723" y="164"/>
                  </a:lnTo>
                  <a:lnTo>
                    <a:pt x="759" y="152"/>
                  </a:lnTo>
                  <a:lnTo>
                    <a:pt x="794" y="140"/>
                  </a:lnTo>
                  <a:lnTo>
                    <a:pt x="827" y="129"/>
                  </a:lnTo>
                  <a:lnTo>
                    <a:pt x="860" y="115"/>
                  </a:lnTo>
                  <a:lnTo>
                    <a:pt x="890" y="100"/>
                  </a:lnTo>
                  <a:lnTo>
                    <a:pt x="919" y="85"/>
                  </a:lnTo>
                  <a:lnTo>
                    <a:pt x="948" y="70"/>
                  </a:lnTo>
                  <a:lnTo>
                    <a:pt x="975" y="54"/>
                  </a:lnTo>
                  <a:lnTo>
                    <a:pt x="1002" y="36"/>
                  </a:lnTo>
                  <a:lnTo>
                    <a:pt x="1028" y="19"/>
                  </a:lnTo>
                  <a:lnTo>
                    <a:pt x="1051" y="0"/>
                  </a:lnTo>
                  <a:lnTo>
                    <a:pt x="1066" y="29"/>
                  </a:lnTo>
                  <a:lnTo>
                    <a:pt x="1077" y="55"/>
                  </a:lnTo>
                  <a:lnTo>
                    <a:pt x="1085" y="77"/>
                  </a:lnTo>
                  <a:lnTo>
                    <a:pt x="1091" y="96"/>
                  </a:lnTo>
                  <a:lnTo>
                    <a:pt x="1094" y="112"/>
                  </a:lnTo>
                  <a:lnTo>
                    <a:pt x="1097" y="126"/>
                  </a:lnTo>
                  <a:lnTo>
                    <a:pt x="1098" y="139"/>
                  </a:lnTo>
                  <a:lnTo>
                    <a:pt x="1099" y="152"/>
                  </a:lnTo>
                  <a:lnTo>
                    <a:pt x="1101" y="164"/>
                  </a:lnTo>
                  <a:lnTo>
                    <a:pt x="1103" y="176"/>
                  </a:lnTo>
                  <a:lnTo>
                    <a:pt x="1106" y="190"/>
                  </a:lnTo>
                  <a:lnTo>
                    <a:pt x="1111" y="204"/>
                  </a:lnTo>
                  <a:lnTo>
                    <a:pt x="1119" y="222"/>
                  </a:lnTo>
                  <a:lnTo>
                    <a:pt x="1128" y="242"/>
                  </a:lnTo>
                  <a:lnTo>
                    <a:pt x="1141" y="264"/>
                  </a:lnTo>
                  <a:lnTo>
                    <a:pt x="1159" y="291"/>
                  </a:lnTo>
                  <a:lnTo>
                    <a:pt x="1160" y="296"/>
                  </a:lnTo>
                  <a:lnTo>
                    <a:pt x="1161" y="299"/>
                  </a:lnTo>
                  <a:lnTo>
                    <a:pt x="1161" y="304"/>
                  </a:lnTo>
                  <a:lnTo>
                    <a:pt x="1160" y="307"/>
                  </a:lnTo>
                  <a:lnTo>
                    <a:pt x="1156" y="318"/>
                  </a:lnTo>
                  <a:lnTo>
                    <a:pt x="1152" y="329"/>
                  </a:lnTo>
                  <a:lnTo>
                    <a:pt x="1149" y="336"/>
                  </a:lnTo>
                  <a:lnTo>
                    <a:pt x="1148" y="343"/>
                  </a:lnTo>
                  <a:lnTo>
                    <a:pt x="1147" y="353"/>
                  </a:lnTo>
                  <a:lnTo>
                    <a:pt x="1147" y="362"/>
                  </a:lnTo>
                  <a:lnTo>
                    <a:pt x="1148" y="373"/>
                  </a:lnTo>
                  <a:lnTo>
                    <a:pt x="1149" y="386"/>
                  </a:lnTo>
                  <a:lnTo>
                    <a:pt x="1153" y="400"/>
                  </a:lnTo>
                  <a:lnTo>
                    <a:pt x="1159" y="415"/>
                  </a:lnTo>
                  <a:lnTo>
                    <a:pt x="1165" y="430"/>
                  </a:lnTo>
                  <a:lnTo>
                    <a:pt x="1172" y="443"/>
                  </a:lnTo>
                  <a:lnTo>
                    <a:pt x="1179" y="454"/>
                  </a:lnTo>
                  <a:lnTo>
                    <a:pt x="1184" y="465"/>
                  </a:lnTo>
                  <a:lnTo>
                    <a:pt x="1198" y="484"/>
                  </a:lnTo>
                  <a:lnTo>
                    <a:pt x="1209" y="502"/>
                  </a:lnTo>
                  <a:lnTo>
                    <a:pt x="1214" y="512"/>
                  </a:lnTo>
                  <a:lnTo>
                    <a:pt x="1217" y="523"/>
                  </a:lnTo>
                  <a:lnTo>
                    <a:pt x="1219" y="535"/>
                  </a:lnTo>
                  <a:lnTo>
                    <a:pt x="1219" y="548"/>
                  </a:lnTo>
                  <a:lnTo>
                    <a:pt x="1219" y="563"/>
                  </a:lnTo>
                  <a:lnTo>
                    <a:pt x="1216" y="581"/>
                  </a:lnTo>
                  <a:lnTo>
                    <a:pt x="1211" y="599"/>
                  </a:lnTo>
                  <a:lnTo>
                    <a:pt x="1204" y="623"/>
                  </a:lnTo>
                  <a:lnTo>
                    <a:pt x="1189" y="674"/>
                  </a:lnTo>
                  <a:lnTo>
                    <a:pt x="1181" y="700"/>
                  </a:lnTo>
                  <a:lnTo>
                    <a:pt x="1179" y="704"/>
                  </a:lnTo>
                  <a:lnTo>
                    <a:pt x="1175" y="709"/>
                  </a:lnTo>
                  <a:lnTo>
                    <a:pt x="1172" y="713"/>
                  </a:lnTo>
                  <a:lnTo>
                    <a:pt x="1167" y="716"/>
                  </a:lnTo>
                  <a:lnTo>
                    <a:pt x="1154" y="725"/>
                  </a:lnTo>
                  <a:lnTo>
                    <a:pt x="1135" y="737"/>
                  </a:lnTo>
                  <a:lnTo>
                    <a:pt x="1139" y="763"/>
                  </a:lnTo>
                  <a:lnTo>
                    <a:pt x="1141" y="788"/>
                  </a:lnTo>
                  <a:lnTo>
                    <a:pt x="1142" y="801"/>
                  </a:lnTo>
                  <a:lnTo>
                    <a:pt x="1142" y="813"/>
                  </a:lnTo>
                  <a:lnTo>
                    <a:pt x="1141" y="825"/>
                  </a:lnTo>
                  <a:lnTo>
                    <a:pt x="1140" y="835"/>
                  </a:lnTo>
                  <a:lnTo>
                    <a:pt x="1138" y="846"/>
                  </a:lnTo>
                  <a:lnTo>
                    <a:pt x="1134" y="855"/>
                  </a:lnTo>
                  <a:lnTo>
                    <a:pt x="1130" y="864"/>
                  </a:lnTo>
                  <a:lnTo>
                    <a:pt x="1124" y="873"/>
                  </a:lnTo>
                  <a:lnTo>
                    <a:pt x="1116" y="880"/>
                  </a:lnTo>
                  <a:lnTo>
                    <a:pt x="1106" y="884"/>
                  </a:lnTo>
                  <a:lnTo>
                    <a:pt x="1094" y="889"/>
                  </a:lnTo>
                  <a:lnTo>
                    <a:pt x="1080" y="892"/>
                  </a:lnTo>
                  <a:lnTo>
                    <a:pt x="1082" y="908"/>
                  </a:lnTo>
                  <a:lnTo>
                    <a:pt x="1082" y="922"/>
                  </a:lnTo>
                  <a:lnTo>
                    <a:pt x="1080" y="933"/>
                  </a:lnTo>
                  <a:lnTo>
                    <a:pt x="1079" y="945"/>
                  </a:lnTo>
                  <a:lnTo>
                    <a:pt x="1073" y="965"/>
                  </a:lnTo>
                  <a:lnTo>
                    <a:pt x="1069" y="981"/>
                  </a:lnTo>
                  <a:lnTo>
                    <a:pt x="1064" y="995"/>
                  </a:lnTo>
                  <a:lnTo>
                    <a:pt x="1062" y="1008"/>
                  </a:lnTo>
                  <a:lnTo>
                    <a:pt x="1063" y="1014"/>
                  </a:lnTo>
                  <a:lnTo>
                    <a:pt x="1064" y="1020"/>
                  </a:lnTo>
                  <a:lnTo>
                    <a:pt x="1068" y="1026"/>
                  </a:lnTo>
                  <a:lnTo>
                    <a:pt x="1072" y="1031"/>
                  </a:lnTo>
                  <a:lnTo>
                    <a:pt x="1037" y="1023"/>
                  </a:lnTo>
                  <a:lnTo>
                    <a:pt x="1008" y="1015"/>
                  </a:lnTo>
                  <a:lnTo>
                    <a:pt x="982" y="1006"/>
                  </a:lnTo>
                  <a:lnTo>
                    <a:pt x="961" y="995"/>
                  </a:lnTo>
                  <a:lnTo>
                    <a:pt x="943" y="985"/>
                  </a:lnTo>
                  <a:lnTo>
                    <a:pt x="926" y="974"/>
                  </a:lnTo>
                  <a:lnTo>
                    <a:pt x="912" y="964"/>
                  </a:lnTo>
                  <a:lnTo>
                    <a:pt x="901" y="953"/>
                  </a:lnTo>
                  <a:lnTo>
                    <a:pt x="889" y="943"/>
                  </a:lnTo>
                  <a:lnTo>
                    <a:pt x="877" y="934"/>
                  </a:lnTo>
                  <a:lnTo>
                    <a:pt x="864" y="926"/>
                  </a:lnTo>
                  <a:lnTo>
                    <a:pt x="852" y="919"/>
                  </a:lnTo>
                  <a:lnTo>
                    <a:pt x="837" y="913"/>
                  </a:lnTo>
                  <a:lnTo>
                    <a:pt x="821" y="909"/>
                  </a:lnTo>
                  <a:lnTo>
                    <a:pt x="801" y="908"/>
                  </a:lnTo>
                  <a:lnTo>
                    <a:pt x="778" y="908"/>
                  </a:lnTo>
                  <a:lnTo>
                    <a:pt x="751" y="908"/>
                  </a:lnTo>
                  <a:lnTo>
                    <a:pt x="724" y="909"/>
                  </a:lnTo>
                  <a:lnTo>
                    <a:pt x="700" y="911"/>
                  </a:lnTo>
                  <a:lnTo>
                    <a:pt x="677" y="915"/>
                  </a:lnTo>
                  <a:lnTo>
                    <a:pt x="656" y="919"/>
                  </a:lnTo>
                  <a:lnTo>
                    <a:pt x="638" y="924"/>
                  </a:lnTo>
                  <a:lnTo>
                    <a:pt x="630" y="927"/>
                  </a:lnTo>
                  <a:lnTo>
                    <a:pt x="621" y="931"/>
                  </a:lnTo>
                  <a:lnTo>
                    <a:pt x="614" y="934"/>
                  </a:lnTo>
                  <a:lnTo>
                    <a:pt x="609" y="939"/>
                  </a:lnTo>
                  <a:lnTo>
                    <a:pt x="603" y="943"/>
                  </a:lnTo>
                  <a:lnTo>
                    <a:pt x="597" y="944"/>
                  </a:lnTo>
                  <a:lnTo>
                    <a:pt x="590" y="944"/>
                  </a:lnTo>
                  <a:lnTo>
                    <a:pt x="583" y="943"/>
                  </a:lnTo>
                  <a:lnTo>
                    <a:pt x="568" y="938"/>
                  </a:lnTo>
                  <a:lnTo>
                    <a:pt x="552" y="930"/>
                  </a:lnTo>
                  <a:lnTo>
                    <a:pt x="538" y="920"/>
                  </a:lnTo>
                  <a:lnTo>
                    <a:pt x="524" y="913"/>
                  </a:lnTo>
                  <a:lnTo>
                    <a:pt x="517" y="910"/>
                  </a:lnTo>
                  <a:lnTo>
                    <a:pt x="512" y="908"/>
                  </a:lnTo>
                  <a:lnTo>
                    <a:pt x="506" y="906"/>
                  </a:lnTo>
                  <a:lnTo>
                    <a:pt x="501" y="908"/>
                  </a:lnTo>
                  <a:lnTo>
                    <a:pt x="496" y="909"/>
                  </a:lnTo>
                  <a:lnTo>
                    <a:pt x="488" y="908"/>
                  </a:lnTo>
                  <a:lnTo>
                    <a:pt x="479" y="908"/>
                  </a:lnTo>
                  <a:lnTo>
                    <a:pt x="468" y="905"/>
                  </a:lnTo>
                  <a:lnTo>
                    <a:pt x="444" y="901"/>
                  </a:lnTo>
                  <a:lnTo>
                    <a:pt x="417" y="896"/>
                  </a:lnTo>
                  <a:lnTo>
                    <a:pt x="403" y="894"/>
                  </a:lnTo>
                  <a:lnTo>
                    <a:pt x="390" y="891"/>
                  </a:lnTo>
                  <a:lnTo>
                    <a:pt x="377" y="890"/>
                  </a:lnTo>
                  <a:lnTo>
                    <a:pt x="364" y="890"/>
                  </a:lnTo>
                  <a:lnTo>
                    <a:pt x="354" y="891"/>
                  </a:lnTo>
                  <a:lnTo>
                    <a:pt x="345" y="892"/>
                  </a:lnTo>
                  <a:lnTo>
                    <a:pt x="341" y="895"/>
                  </a:lnTo>
                  <a:lnTo>
                    <a:pt x="338" y="896"/>
                  </a:lnTo>
                  <a:lnTo>
                    <a:pt x="334" y="898"/>
                  </a:lnTo>
                  <a:lnTo>
                    <a:pt x="332" y="902"/>
                  </a:lnTo>
                  <a:lnTo>
                    <a:pt x="327" y="906"/>
                  </a:lnTo>
                  <a:lnTo>
                    <a:pt x="322" y="910"/>
                  </a:lnTo>
                  <a:lnTo>
                    <a:pt x="318" y="912"/>
                  </a:lnTo>
                  <a:lnTo>
                    <a:pt x="312" y="915"/>
                  </a:lnTo>
                  <a:lnTo>
                    <a:pt x="301" y="917"/>
                  </a:lnTo>
                  <a:lnTo>
                    <a:pt x="290" y="918"/>
                  </a:lnTo>
                  <a:lnTo>
                    <a:pt x="279" y="918"/>
                  </a:lnTo>
                  <a:lnTo>
                    <a:pt x="269" y="920"/>
                  </a:lnTo>
                  <a:lnTo>
                    <a:pt x="264" y="922"/>
                  </a:lnTo>
                  <a:lnTo>
                    <a:pt x="260" y="924"/>
                  </a:lnTo>
                  <a:lnTo>
                    <a:pt x="257" y="926"/>
                  </a:lnTo>
                  <a:lnTo>
                    <a:pt x="253" y="9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178"/>
            <p:cNvSpPr/>
            <p:nvPr/>
          </p:nvSpPr>
          <p:spPr>
            <a:xfrm>
              <a:off x="7952040" y="5439240"/>
              <a:ext cx="183960" cy="1677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1219" h="1031">
                  <a:moveTo>
                    <a:pt x="253" y="930"/>
                  </a:moveTo>
                  <a:lnTo>
                    <a:pt x="0" y="228"/>
                  </a:lnTo>
                  <a:lnTo>
                    <a:pt x="410" y="190"/>
                  </a:lnTo>
                  <a:lnTo>
                    <a:pt x="524" y="204"/>
                  </a:lnTo>
                  <a:lnTo>
                    <a:pt x="568" y="199"/>
                  </a:lnTo>
                  <a:lnTo>
                    <a:pt x="609" y="190"/>
                  </a:lnTo>
                  <a:lnTo>
                    <a:pt x="648" y="182"/>
                  </a:lnTo>
                  <a:lnTo>
                    <a:pt x="687" y="173"/>
                  </a:lnTo>
                  <a:lnTo>
                    <a:pt x="723" y="164"/>
                  </a:lnTo>
                  <a:lnTo>
                    <a:pt x="759" y="152"/>
                  </a:lnTo>
                  <a:lnTo>
                    <a:pt x="794" y="140"/>
                  </a:lnTo>
                  <a:lnTo>
                    <a:pt x="827" y="129"/>
                  </a:lnTo>
                  <a:lnTo>
                    <a:pt x="860" y="115"/>
                  </a:lnTo>
                  <a:lnTo>
                    <a:pt x="890" y="100"/>
                  </a:lnTo>
                  <a:lnTo>
                    <a:pt x="919" y="85"/>
                  </a:lnTo>
                  <a:lnTo>
                    <a:pt x="948" y="70"/>
                  </a:lnTo>
                  <a:lnTo>
                    <a:pt x="975" y="54"/>
                  </a:lnTo>
                  <a:lnTo>
                    <a:pt x="1002" y="36"/>
                  </a:lnTo>
                  <a:lnTo>
                    <a:pt x="1028" y="19"/>
                  </a:lnTo>
                  <a:lnTo>
                    <a:pt x="1051" y="0"/>
                  </a:lnTo>
                  <a:lnTo>
                    <a:pt x="1066" y="29"/>
                  </a:lnTo>
                  <a:lnTo>
                    <a:pt x="1077" y="55"/>
                  </a:lnTo>
                  <a:lnTo>
                    <a:pt x="1085" y="77"/>
                  </a:lnTo>
                  <a:lnTo>
                    <a:pt x="1091" y="96"/>
                  </a:lnTo>
                  <a:lnTo>
                    <a:pt x="1094" y="112"/>
                  </a:lnTo>
                  <a:lnTo>
                    <a:pt x="1097" y="126"/>
                  </a:lnTo>
                  <a:lnTo>
                    <a:pt x="1098" y="139"/>
                  </a:lnTo>
                  <a:lnTo>
                    <a:pt x="1099" y="152"/>
                  </a:lnTo>
                  <a:lnTo>
                    <a:pt x="1101" y="164"/>
                  </a:lnTo>
                  <a:lnTo>
                    <a:pt x="1103" y="176"/>
                  </a:lnTo>
                  <a:lnTo>
                    <a:pt x="1106" y="190"/>
                  </a:lnTo>
                  <a:lnTo>
                    <a:pt x="1111" y="204"/>
                  </a:lnTo>
                  <a:lnTo>
                    <a:pt x="1119" y="222"/>
                  </a:lnTo>
                  <a:lnTo>
                    <a:pt x="1128" y="242"/>
                  </a:lnTo>
                  <a:lnTo>
                    <a:pt x="1141" y="264"/>
                  </a:lnTo>
                  <a:lnTo>
                    <a:pt x="1159" y="291"/>
                  </a:lnTo>
                  <a:lnTo>
                    <a:pt x="1160" y="296"/>
                  </a:lnTo>
                  <a:lnTo>
                    <a:pt x="1161" y="299"/>
                  </a:lnTo>
                  <a:lnTo>
                    <a:pt x="1161" y="304"/>
                  </a:lnTo>
                  <a:lnTo>
                    <a:pt x="1160" y="307"/>
                  </a:lnTo>
                  <a:lnTo>
                    <a:pt x="1156" y="318"/>
                  </a:lnTo>
                  <a:lnTo>
                    <a:pt x="1152" y="329"/>
                  </a:lnTo>
                  <a:lnTo>
                    <a:pt x="1149" y="336"/>
                  </a:lnTo>
                  <a:lnTo>
                    <a:pt x="1148" y="343"/>
                  </a:lnTo>
                  <a:lnTo>
                    <a:pt x="1147" y="353"/>
                  </a:lnTo>
                  <a:lnTo>
                    <a:pt x="1147" y="362"/>
                  </a:lnTo>
                  <a:lnTo>
                    <a:pt x="1148" y="373"/>
                  </a:lnTo>
                  <a:lnTo>
                    <a:pt x="1149" y="386"/>
                  </a:lnTo>
                  <a:lnTo>
                    <a:pt x="1153" y="400"/>
                  </a:lnTo>
                  <a:lnTo>
                    <a:pt x="1159" y="415"/>
                  </a:lnTo>
                  <a:lnTo>
                    <a:pt x="1165" y="430"/>
                  </a:lnTo>
                  <a:lnTo>
                    <a:pt x="1172" y="443"/>
                  </a:lnTo>
                  <a:lnTo>
                    <a:pt x="1179" y="454"/>
                  </a:lnTo>
                  <a:lnTo>
                    <a:pt x="1184" y="465"/>
                  </a:lnTo>
                  <a:lnTo>
                    <a:pt x="1198" y="484"/>
                  </a:lnTo>
                  <a:lnTo>
                    <a:pt x="1209" y="502"/>
                  </a:lnTo>
                  <a:lnTo>
                    <a:pt x="1214" y="512"/>
                  </a:lnTo>
                  <a:lnTo>
                    <a:pt x="1217" y="523"/>
                  </a:lnTo>
                  <a:lnTo>
                    <a:pt x="1219" y="535"/>
                  </a:lnTo>
                  <a:lnTo>
                    <a:pt x="1219" y="548"/>
                  </a:lnTo>
                  <a:lnTo>
                    <a:pt x="1219" y="563"/>
                  </a:lnTo>
                  <a:lnTo>
                    <a:pt x="1216" y="581"/>
                  </a:lnTo>
                  <a:lnTo>
                    <a:pt x="1211" y="599"/>
                  </a:lnTo>
                  <a:lnTo>
                    <a:pt x="1204" y="623"/>
                  </a:lnTo>
                  <a:lnTo>
                    <a:pt x="1189" y="674"/>
                  </a:lnTo>
                  <a:lnTo>
                    <a:pt x="1181" y="700"/>
                  </a:lnTo>
                  <a:lnTo>
                    <a:pt x="1179" y="704"/>
                  </a:lnTo>
                  <a:lnTo>
                    <a:pt x="1175" y="709"/>
                  </a:lnTo>
                  <a:lnTo>
                    <a:pt x="1172" y="713"/>
                  </a:lnTo>
                  <a:lnTo>
                    <a:pt x="1167" y="716"/>
                  </a:lnTo>
                  <a:lnTo>
                    <a:pt x="1154" y="725"/>
                  </a:lnTo>
                  <a:lnTo>
                    <a:pt x="1135" y="737"/>
                  </a:lnTo>
                  <a:lnTo>
                    <a:pt x="1139" y="763"/>
                  </a:lnTo>
                  <a:lnTo>
                    <a:pt x="1141" y="788"/>
                  </a:lnTo>
                  <a:lnTo>
                    <a:pt x="1142" y="801"/>
                  </a:lnTo>
                  <a:lnTo>
                    <a:pt x="1142" y="813"/>
                  </a:lnTo>
                  <a:lnTo>
                    <a:pt x="1141" y="825"/>
                  </a:lnTo>
                  <a:lnTo>
                    <a:pt x="1140" y="835"/>
                  </a:lnTo>
                  <a:lnTo>
                    <a:pt x="1138" y="846"/>
                  </a:lnTo>
                  <a:lnTo>
                    <a:pt x="1134" y="855"/>
                  </a:lnTo>
                  <a:lnTo>
                    <a:pt x="1130" y="864"/>
                  </a:lnTo>
                  <a:lnTo>
                    <a:pt x="1124" y="873"/>
                  </a:lnTo>
                  <a:lnTo>
                    <a:pt x="1116" y="880"/>
                  </a:lnTo>
                  <a:lnTo>
                    <a:pt x="1106" y="884"/>
                  </a:lnTo>
                  <a:lnTo>
                    <a:pt x="1094" y="889"/>
                  </a:lnTo>
                  <a:lnTo>
                    <a:pt x="1080" y="892"/>
                  </a:lnTo>
                  <a:lnTo>
                    <a:pt x="1082" y="908"/>
                  </a:lnTo>
                  <a:lnTo>
                    <a:pt x="1082" y="922"/>
                  </a:lnTo>
                  <a:lnTo>
                    <a:pt x="1080" y="933"/>
                  </a:lnTo>
                  <a:lnTo>
                    <a:pt x="1079" y="945"/>
                  </a:lnTo>
                  <a:lnTo>
                    <a:pt x="1073" y="965"/>
                  </a:lnTo>
                  <a:lnTo>
                    <a:pt x="1069" y="981"/>
                  </a:lnTo>
                  <a:lnTo>
                    <a:pt x="1064" y="995"/>
                  </a:lnTo>
                  <a:lnTo>
                    <a:pt x="1062" y="1008"/>
                  </a:lnTo>
                  <a:lnTo>
                    <a:pt x="1063" y="1014"/>
                  </a:lnTo>
                  <a:lnTo>
                    <a:pt x="1064" y="1020"/>
                  </a:lnTo>
                  <a:lnTo>
                    <a:pt x="1068" y="1026"/>
                  </a:lnTo>
                  <a:lnTo>
                    <a:pt x="1072" y="1031"/>
                  </a:lnTo>
                  <a:lnTo>
                    <a:pt x="1037" y="1023"/>
                  </a:lnTo>
                  <a:lnTo>
                    <a:pt x="1008" y="1015"/>
                  </a:lnTo>
                  <a:lnTo>
                    <a:pt x="982" y="1006"/>
                  </a:lnTo>
                  <a:lnTo>
                    <a:pt x="961" y="995"/>
                  </a:lnTo>
                  <a:lnTo>
                    <a:pt x="943" y="985"/>
                  </a:lnTo>
                  <a:lnTo>
                    <a:pt x="926" y="974"/>
                  </a:lnTo>
                  <a:lnTo>
                    <a:pt x="912" y="964"/>
                  </a:lnTo>
                  <a:lnTo>
                    <a:pt x="901" y="953"/>
                  </a:lnTo>
                  <a:lnTo>
                    <a:pt x="889" y="943"/>
                  </a:lnTo>
                  <a:lnTo>
                    <a:pt x="877" y="934"/>
                  </a:lnTo>
                  <a:lnTo>
                    <a:pt x="864" y="926"/>
                  </a:lnTo>
                  <a:lnTo>
                    <a:pt x="852" y="919"/>
                  </a:lnTo>
                  <a:lnTo>
                    <a:pt x="837" y="913"/>
                  </a:lnTo>
                  <a:lnTo>
                    <a:pt x="821" y="909"/>
                  </a:lnTo>
                  <a:lnTo>
                    <a:pt x="801" y="908"/>
                  </a:lnTo>
                  <a:lnTo>
                    <a:pt x="778" y="908"/>
                  </a:lnTo>
                  <a:lnTo>
                    <a:pt x="751" y="908"/>
                  </a:lnTo>
                  <a:lnTo>
                    <a:pt x="724" y="909"/>
                  </a:lnTo>
                  <a:lnTo>
                    <a:pt x="700" y="911"/>
                  </a:lnTo>
                  <a:lnTo>
                    <a:pt x="677" y="915"/>
                  </a:lnTo>
                  <a:lnTo>
                    <a:pt x="656" y="919"/>
                  </a:lnTo>
                  <a:lnTo>
                    <a:pt x="638" y="924"/>
                  </a:lnTo>
                  <a:lnTo>
                    <a:pt x="630" y="927"/>
                  </a:lnTo>
                  <a:lnTo>
                    <a:pt x="621" y="931"/>
                  </a:lnTo>
                  <a:lnTo>
                    <a:pt x="614" y="934"/>
                  </a:lnTo>
                  <a:lnTo>
                    <a:pt x="609" y="939"/>
                  </a:lnTo>
                  <a:lnTo>
                    <a:pt x="603" y="943"/>
                  </a:lnTo>
                  <a:lnTo>
                    <a:pt x="597" y="944"/>
                  </a:lnTo>
                  <a:lnTo>
                    <a:pt x="590" y="944"/>
                  </a:lnTo>
                  <a:lnTo>
                    <a:pt x="583" y="943"/>
                  </a:lnTo>
                  <a:lnTo>
                    <a:pt x="568" y="938"/>
                  </a:lnTo>
                  <a:lnTo>
                    <a:pt x="552" y="930"/>
                  </a:lnTo>
                  <a:lnTo>
                    <a:pt x="538" y="920"/>
                  </a:lnTo>
                  <a:lnTo>
                    <a:pt x="524" y="913"/>
                  </a:lnTo>
                  <a:lnTo>
                    <a:pt x="517" y="910"/>
                  </a:lnTo>
                  <a:lnTo>
                    <a:pt x="512" y="908"/>
                  </a:lnTo>
                  <a:lnTo>
                    <a:pt x="506" y="906"/>
                  </a:lnTo>
                  <a:lnTo>
                    <a:pt x="501" y="908"/>
                  </a:lnTo>
                  <a:lnTo>
                    <a:pt x="496" y="909"/>
                  </a:lnTo>
                  <a:lnTo>
                    <a:pt x="488" y="908"/>
                  </a:lnTo>
                  <a:lnTo>
                    <a:pt x="479" y="908"/>
                  </a:lnTo>
                  <a:lnTo>
                    <a:pt x="468" y="905"/>
                  </a:lnTo>
                  <a:lnTo>
                    <a:pt x="444" y="901"/>
                  </a:lnTo>
                  <a:lnTo>
                    <a:pt x="417" y="896"/>
                  </a:lnTo>
                  <a:lnTo>
                    <a:pt x="403" y="894"/>
                  </a:lnTo>
                  <a:lnTo>
                    <a:pt x="390" y="891"/>
                  </a:lnTo>
                  <a:lnTo>
                    <a:pt x="377" y="890"/>
                  </a:lnTo>
                  <a:lnTo>
                    <a:pt x="364" y="890"/>
                  </a:lnTo>
                  <a:lnTo>
                    <a:pt x="354" y="891"/>
                  </a:lnTo>
                  <a:lnTo>
                    <a:pt x="345" y="892"/>
                  </a:lnTo>
                  <a:lnTo>
                    <a:pt x="341" y="895"/>
                  </a:lnTo>
                  <a:lnTo>
                    <a:pt x="338" y="896"/>
                  </a:lnTo>
                  <a:lnTo>
                    <a:pt x="334" y="898"/>
                  </a:lnTo>
                  <a:lnTo>
                    <a:pt x="332" y="902"/>
                  </a:lnTo>
                  <a:lnTo>
                    <a:pt x="327" y="906"/>
                  </a:lnTo>
                  <a:lnTo>
                    <a:pt x="322" y="910"/>
                  </a:lnTo>
                  <a:lnTo>
                    <a:pt x="318" y="912"/>
                  </a:lnTo>
                  <a:lnTo>
                    <a:pt x="312" y="915"/>
                  </a:lnTo>
                  <a:lnTo>
                    <a:pt x="301" y="917"/>
                  </a:lnTo>
                  <a:lnTo>
                    <a:pt x="290" y="918"/>
                  </a:lnTo>
                  <a:lnTo>
                    <a:pt x="279" y="918"/>
                  </a:lnTo>
                  <a:lnTo>
                    <a:pt x="269" y="920"/>
                  </a:lnTo>
                  <a:lnTo>
                    <a:pt x="264" y="922"/>
                  </a:lnTo>
                  <a:lnTo>
                    <a:pt x="260" y="924"/>
                  </a:lnTo>
                  <a:lnTo>
                    <a:pt x="257" y="926"/>
                  </a:lnTo>
                  <a:lnTo>
                    <a:pt x="253" y="930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179"/>
            <p:cNvSpPr/>
            <p:nvPr/>
          </p:nvSpPr>
          <p:spPr>
            <a:xfrm>
              <a:off x="8119800" y="5303520"/>
              <a:ext cx="250200" cy="13608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1661" h="830">
                  <a:moveTo>
                    <a:pt x="1301" y="775"/>
                  </a:moveTo>
                  <a:lnTo>
                    <a:pt x="1116" y="691"/>
                  </a:lnTo>
                  <a:lnTo>
                    <a:pt x="1101" y="695"/>
                  </a:lnTo>
                  <a:lnTo>
                    <a:pt x="1087" y="697"/>
                  </a:lnTo>
                  <a:lnTo>
                    <a:pt x="1074" y="697"/>
                  </a:lnTo>
                  <a:lnTo>
                    <a:pt x="1061" y="695"/>
                  </a:lnTo>
                  <a:lnTo>
                    <a:pt x="1046" y="694"/>
                  </a:lnTo>
                  <a:lnTo>
                    <a:pt x="1029" y="695"/>
                  </a:lnTo>
                  <a:lnTo>
                    <a:pt x="1006" y="699"/>
                  </a:lnTo>
                  <a:lnTo>
                    <a:pt x="978" y="706"/>
                  </a:lnTo>
                  <a:lnTo>
                    <a:pt x="953" y="711"/>
                  </a:lnTo>
                  <a:lnTo>
                    <a:pt x="912" y="718"/>
                  </a:lnTo>
                  <a:lnTo>
                    <a:pt x="857" y="726"/>
                  </a:lnTo>
                  <a:lnTo>
                    <a:pt x="790" y="735"/>
                  </a:lnTo>
                  <a:lnTo>
                    <a:pt x="714" y="744"/>
                  </a:lnTo>
                  <a:lnTo>
                    <a:pt x="634" y="755"/>
                  </a:lnTo>
                  <a:lnTo>
                    <a:pt x="547" y="765"/>
                  </a:lnTo>
                  <a:lnTo>
                    <a:pt x="461" y="776"/>
                  </a:lnTo>
                  <a:lnTo>
                    <a:pt x="374" y="787"/>
                  </a:lnTo>
                  <a:lnTo>
                    <a:pt x="292" y="796"/>
                  </a:lnTo>
                  <a:lnTo>
                    <a:pt x="216" y="805"/>
                  </a:lnTo>
                  <a:lnTo>
                    <a:pt x="147" y="813"/>
                  </a:lnTo>
                  <a:lnTo>
                    <a:pt x="89" y="820"/>
                  </a:lnTo>
                  <a:lnTo>
                    <a:pt x="46" y="825"/>
                  </a:lnTo>
                  <a:lnTo>
                    <a:pt x="18" y="829"/>
                  </a:lnTo>
                  <a:lnTo>
                    <a:pt x="8" y="830"/>
                  </a:lnTo>
                  <a:lnTo>
                    <a:pt x="0" y="763"/>
                  </a:lnTo>
                  <a:lnTo>
                    <a:pt x="18" y="743"/>
                  </a:lnTo>
                  <a:lnTo>
                    <a:pt x="38" y="725"/>
                  </a:lnTo>
                  <a:lnTo>
                    <a:pt x="57" y="704"/>
                  </a:lnTo>
                  <a:lnTo>
                    <a:pt x="74" y="683"/>
                  </a:lnTo>
                  <a:lnTo>
                    <a:pt x="74" y="498"/>
                  </a:lnTo>
                  <a:lnTo>
                    <a:pt x="141" y="498"/>
                  </a:lnTo>
                  <a:lnTo>
                    <a:pt x="202" y="496"/>
                  </a:lnTo>
                  <a:lnTo>
                    <a:pt x="231" y="494"/>
                  </a:lnTo>
                  <a:lnTo>
                    <a:pt x="258" y="492"/>
                  </a:lnTo>
                  <a:lnTo>
                    <a:pt x="283" y="490"/>
                  </a:lnTo>
                  <a:lnTo>
                    <a:pt x="309" y="486"/>
                  </a:lnTo>
                  <a:lnTo>
                    <a:pt x="332" y="483"/>
                  </a:lnTo>
                  <a:lnTo>
                    <a:pt x="355" y="478"/>
                  </a:lnTo>
                  <a:lnTo>
                    <a:pt x="376" y="473"/>
                  </a:lnTo>
                  <a:lnTo>
                    <a:pt x="395" y="469"/>
                  </a:lnTo>
                  <a:lnTo>
                    <a:pt x="414" y="462"/>
                  </a:lnTo>
                  <a:lnTo>
                    <a:pt x="432" y="455"/>
                  </a:lnTo>
                  <a:lnTo>
                    <a:pt x="448" y="447"/>
                  </a:lnTo>
                  <a:lnTo>
                    <a:pt x="463" y="438"/>
                  </a:lnTo>
                  <a:lnTo>
                    <a:pt x="477" y="429"/>
                  </a:lnTo>
                  <a:lnTo>
                    <a:pt x="490" y="419"/>
                  </a:lnTo>
                  <a:lnTo>
                    <a:pt x="502" y="407"/>
                  </a:lnTo>
                  <a:lnTo>
                    <a:pt x="512" y="395"/>
                  </a:lnTo>
                  <a:lnTo>
                    <a:pt x="522" y="382"/>
                  </a:lnTo>
                  <a:lnTo>
                    <a:pt x="530" y="367"/>
                  </a:lnTo>
                  <a:lnTo>
                    <a:pt x="537" y="352"/>
                  </a:lnTo>
                  <a:lnTo>
                    <a:pt x="543" y="336"/>
                  </a:lnTo>
                  <a:lnTo>
                    <a:pt x="547" y="318"/>
                  </a:lnTo>
                  <a:lnTo>
                    <a:pt x="551" y="299"/>
                  </a:lnTo>
                  <a:lnTo>
                    <a:pt x="554" y="278"/>
                  </a:lnTo>
                  <a:lnTo>
                    <a:pt x="556" y="257"/>
                  </a:lnTo>
                  <a:lnTo>
                    <a:pt x="557" y="235"/>
                  </a:lnTo>
                  <a:lnTo>
                    <a:pt x="556" y="211"/>
                  </a:lnTo>
                  <a:lnTo>
                    <a:pt x="554" y="185"/>
                  </a:lnTo>
                  <a:lnTo>
                    <a:pt x="552" y="158"/>
                  </a:lnTo>
                  <a:lnTo>
                    <a:pt x="690" y="17"/>
                  </a:lnTo>
                  <a:lnTo>
                    <a:pt x="699" y="17"/>
                  </a:lnTo>
                  <a:lnTo>
                    <a:pt x="723" y="17"/>
                  </a:lnTo>
                  <a:lnTo>
                    <a:pt x="759" y="17"/>
                  </a:lnTo>
                  <a:lnTo>
                    <a:pt x="806" y="16"/>
                  </a:lnTo>
                  <a:lnTo>
                    <a:pt x="859" y="13"/>
                  </a:lnTo>
                  <a:lnTo>
                    <a:pt x="920" y="10"/>
                  </a:lnTo>
                  <a:lnTo>
                    <a:pt x="983" y="6"/>
                  </a:lnTo>
                  <a:lnTo>
                    <a:pt x="1047" y="0"/>
                  </a:lnTo>
                  <a:lnTo>
                    <a:pt x="1416" y="421"/>
                  </a:lnTo>
                  <a:lnTo>
                    <a:pt x="1416" y="521"/>
                  </a:lnTo>
                  <a:lnTo>
                    <a:pt x="1471" y="545"/>
                  </a:lnTo>
                  <a:lnTo>
                    <a:pt x="1661" y="792"/>
                  </a:lnTo>
                  <a:lnTo>
                    <a:pt x="1651" y="796"/>
                  </a:lnTo>
                  <a:lnTo>
                    <a:pt x="1641" y="801"/>
                  </a:lnTo>
                  <a:lnTo>
                    <a:pt x="1627" y="805"/>
                  </a:lnTo>
                  <a:lnTo>
                    <a:pt x="1613" y="809"/>
                  </a:lnTo>
                  <a:lnTo>
                    <a:pt x="1596" y="812"/>
                  </a:lnTo>
                  <a:lnTo>
                    <a:pt x="1578" y="815"/>
                  </a:lnTo>
                  <a:lnTo>
                    <a:pt x="1558" y="817"/>
                  </a:lnTo>
                  <a:lnTo>
                    <a:pt x="1536" y="818"/>
                  </a:lnTo>
                  <a:lnTo>
                    <a:pt x="1512" y="818"/>
                  </a:lnTo>
                  <a:lnTo>
                    <a:pt x="1488" y="817"/>
                  </a:lnTo>
                  <a:lnTo>
                    <a:pt x="1461" y="815"/>
                  </a:lnTo>
                  <a:lnTo>
                    <a:pt x="1432" y="810"/>
                  </a:lnTo>
                  <a:lnTo>
                    <a:pt x="1402" y="804"/>
                  </a:lnTo>
                  <a:lnTo>
                    <a:pt x="1370" y="796"/>
                  </a:lnTo>
                  <a:lnTo>
                    <a:pt x="1336" y="787"/>
                  </a:lnTo>
                  <a:lnTo>
                    <a:pt x="1301" y="7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180"/>
            <p:cNvSpPr/>
            <p:nvPr/>
          </p:nvSpPr>
          <p:spPr>
            <a:xfrm>
              <a:off x="8119800" y="5303520"/>
              <a:ext cx="250200" cy="13608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1661" h="830">
                  <a:moveTo>
                    <a:pt x="1301" y="775"/>
                  </a:moveTo>
                  <a:lnTo>
                    <a:pt x="1116" y="691"/>
                  </a:lnTo>
                  <a:lnTo>
                    <a:pt x="1101" y="695"/>
                  </a:lnTo>
                  <a:lnTo>
                    <a:pt x="1087" y="697"/>
                  </a:lnTo>
                  <a:lnTo>
                    <a:pt x="1074" y="697"/>
                  </a:lnTo>
                  <a:lnTo>
                    <a:pt x="1061" y="695"/>
                  </a:lnTo>
                  <a:lnTo>
                    <a:pt x="1046" y="694"/>
                  </a:lnTo>
                  <a:lnTo>
                    <a:pt x="1029" y="695"/>
                  </a:lnTo>
                  <a:lnTo>
                    <a:pt x="1006" y="699"/>
                  </a:lnTo>
                  <a:lnTo>
                    <a:pt x="978" y="706"/>
                  </a:lnTo>
                  <a:lnTo>
                    <a:pt x="953" y="711"/>
                  </a:lnTo>
                  <a:lnTo>
                    <a:pt x="912" y="718"/>
                  </a:lnTo>
                  <a:lnTo>
                    <a:pt x="857" y="726"/>
                  </a:lnTo>
                  <a:lnTo>
                    <a:pt x="790" y="735"/>
                  </a:lnTo>
                  <a:lnTo>
                    <a:pt x="714" y="744"/>
                  </a:lnTo>
                  <a:lnTo>
                    <a:pt x="634" y="755"/>
                  </a:lnTo>
                  <a:lnTo>
                    <a:pt x="547" y="765"/>
                  </a:lnTo>
                  <a:lnTo>
                    <a:pt x="461" y="776"/>
                  </a:lnTo>
                  <a:lnTo>
                    <a:pt x="374" y="787"/>
                  </a:lnTo>
                  <a:lnTo>
                    <a:pt x="292" y="796"/>
                  </a:lnTo>
                  <a:lnTo>
                    <a:pt x="216" y="805"/>
                  </a:lnTo>
                  <a:lnTo>
                    <a:pt x="147" y="813"/>
                  </a:lnTo>
                  <a:lnTo>
                    <a:pt x="89" y="820"/>
                  </a:lnTo>
                  <a:lnTo>
                    <a:pt x="46" y="825"/>
                  </a:lnTo>
                  <a:lnTo>
                    <a:pt x="18" y="829"/>
                  </a:lnTo>
                  <a:lnTo>
                    <a:pt x="8" y="830"/>
                  </a:lnTo>
                  <a:lnTo>
                    <a:pt x="0" y="763"/>
                  </a:lnTo>
                  <a:lnTo>
                    <a:pt x="18" y="743"/>
                  </a:lnTo>
                  <a:lnTo>
                    <a:pt x="38" y="725"/>
                  </a:lnTo>
                  <a:lnTo>
                    <a:pt x="57" y="704"/>
                  </a:lnTo>
                  <a:lnTo>
                    <a:pt x="74" y="683"/>
                  </a:lnTo>
                  <a:lnTo>
                    <a:pt x="74" y="498"/>
                  </a:lnTo>
                  <a:lnTo>
                    <a:pt x="141" y="498"/>
                  </a:lnTo>
                  <a:lnTo>
                    <a:pt x="202" y="496"/>
                  </a:lnTo>
                  <a:lnTo>
                    <a:pt x="231" y="494"/>
                  </a:lnTo>
                  <a:lnTo>
                    <a:pt x="258" y="492"/>
                  </a:lnTo>
                  <a:lnTo>
                    <a:pt x="283" y="490"/>
                  </a:lnTo>
                  <a:lnTo>
                    <a:pt x="309" y="486"/>
                  </a:lnTo>
                  <a:lnTo>
                    <a:pt x="332" y="483"/>
                  </a:lnTo>
                  <a:lnTo>
                    <a:pt x="355" y="478"/>
                  </a:lnTo>
                  <a:lnTo>
                    <a:pt x="376" y="473"/>
                  </a:lnTo>
                  <a:lnTo>
                    <a:pt x="395" y="469"/>
                  </a:lnTo>
                  <a:lnTo>
                    <a:pt x="414" y="462"/>
                  </a:lnTo>
                  <a:lnTo>
                    <a:pt x="432" y="455"/>
                  </a:lnTo>
                  <a:lnTo>
                    <a:pt x="448" y="447"/>
                  </a:lnTo>
                  <a:lnTo>
                    <a:pt x="463" y="438"/>
                  </a:lnTo>
                  <a:lnTo>
                    <a:pt x="477" y="429"/>
                  </a:lnTo>
                  <a:lnTo>
                    <a:pt x="490" y="419"/>
                  </a:lnTo>
                  <a:lnTo>
                    <a:pt x="502" y="407"/>
                  </a:lnTo>
                  <a:lnTo>
                    <a:pt x="512" y="395"/>
                  </a:lnTo>
                  <a:lnTo>
                    <a:pt x="522" y="382"/>
                  </a:lnTo>
                  <a:lnTo>
                    <a:pt x="530" y="367"/>
                  </a:lnTo>
                  <a:lnTo>
                    <a:pt x="537" y="352"/>
                  </a:lnTo>
                  <a:lnTo>
                    <a:pt x="543" y="336"/>
                  </a:lnTo>
                  <a:lnTo>
                    <a:pt x="547" y="318"/>
                  </a:lnTo>
                  <a:lnTo>
                    <a:pt x="551" y="299"/>
                  </a:lnTo>
                  <a:lnTo>
                    <a:pt x="554" y="278"/>
                  </a:lnTo>
                  <a:lnTo>
                    <a:pt x="556" y="257"/>
                  </a:lnTo>
                  <a:lnTo>
                    <a:pt x="557" y="235"/>
                  </a:lnTo>
                  <a:lnTo>
                    <a:pt x="556" y="211"/>
                  </a:lnTo>
                  <a:lnTo>
                    <a:pt x="554" y="185"/>
                  </a:lnTo>
                  <a:lnTo>
                    <a:pt x="552" y="158"/>
                  </a:lnTo>
                  <a:lnTo>
                    <a:pt x="690" y="17"/>
                  </a:lnTo>
                  <a:lnTo>
                    <a:pt x="699" y="17"/>
                  </a:lnTo>
                  <a:lnTo>
                    <a:pt x="723" y="17"/>
                  </a:lnTo>
                  <a:lnTo>
                    <a:pt x="759" y="17"/>
                  </a:lnTo>
                  <a:lnTo>
                    <a:pt x="806" y="16"/>
                  </a:lnTo>
                  <a:lnTo>
                    <a:pt x="859" y="13"/>
                  </a:lnTo>
                  <a:lnTo>
                    <a:pt x="920" y="10"/>
                  </a:lnTo>
                  <a:lnTo>
                    <a:pt x="983" y="6"/>
                  </a:lnTo>
                  <a:lnTo>
                    <a:pt x="1047" y="0"/>
                  </a:lnTo>
                  <a:lnTo>
                    <a:pt x="1416" y="421"/>
                  </a:lnTo>
                  <a:lnTo>
                    <a:pt x="1416" y="521"/>
                  </a:lnTo>
                  <a:lnTo>
                    <a:pt x="1471" y="545"/>
                  </a:lnTo>
                  <a:lnTo>
                    <a:pt x="1661" y="792"/>
                  </a:lnTo>
                  <a:lnTo>
                    <a:pt x="1651" y="796"/>
                  </a:lnTo>
                  <a:lnTo>
                    <a:pt x="1641" y="801"/>
                  </a:lnTo>
                  <a:lnTo>
                    <a:pt x="1627" y="805"/>
                  </a:lnTo>
                  <a:lnTo>
                    <a:pt x="1613" y="809"/>
                  </a:lnTo>
                  <a:lnTo>
                    <a:pt x="1596" y="812"/>
                  </a:lnTo>
                  <a:lnTo>
                    <a:pt x="1578" y="815"/>
                  </a:lnTo>
                  <a:lnTo>
                    <a:pt x="1558" y="817"/>
                  </a:lnTo>
                  <a:lnTo>
                    <a:pt x="1536" y="818"/>
                  </a:lnTo>
                  <a:lnTo>
                    <a:pt x="1512" y="818"/>
                  </a:lnTo>
                  <a:lnTo>
                    <a:pt x="1488" y="817"/>
                  </a:lnTo>
                  <a:lnTo>
                    <a:pt x="1461" y="815"/>
                  </a:lnTo>
                  <a:lnTo>
                    <a:pt x="1432" y="810"/>
                  </a:lnTo>
                  <a:lnTo>
                    <a:pt x="1402" y="804"/>
                  </a:lnTo>
                  <a:lnTo>
                    <a:pt x="1370" y="796"/>
                  </a:lnTo>
                  <a:lnTo>
                    <a:pt x="1336" y="787"/>
                  </a:lnTo>
                  <a:lnTo>
                    <a:pt x="1301" y="775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181"/>
            <p:cNvSpPr/>
            <p:nvPr/>
          </p:nvSpPr>
          <p:spPr>
            <a:xfrm>
              <a:off x="8313840" y="5430960"/>
              <a:ext cx="106200" cy="1141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98" h="697">
                  <a:moveTo>
                    <a:pt x="146" y="426"/>
                  </a:moveTo>
                  <a:lnTo>
                    <a:pt x="144" y="418"/>
                  </a:lnTo>
                  <a:lnTo>
                    <a:pt x="143" y="411"/>
                  </a:lnTo>
                  <a:lnTo>
                    <a:pt x="143" y="404"/>
                  </a:lnTo>
                  <a:lnTo>
                    <a:pt x="144" y="397"/>
                  </a:lnTo>
                  <a:lnTo>
                    <a:pt x="146" y="390"/>
                  </a:lnTo>
                  <a:lnTo>
                    <a:pt x="148" y="383"/>
                  </a:lnTo>
                  <a:lnTo>
                    <a:pt x="150" y="377"/>
                  </a:lnTo>
                  <a:lnTo>
                    <a:pt x="155" y="371"/>
                  </a:lnTo>
                  <a:lnTo>
                    <a:pt x="158" y="365"/>
                  </a:lnTo>
                  <a:lnTo>
                    <a:pt x="164" y="360"/>
                  </a:lnTo>
                  <a:lnTo>
                    <a:pt x="170" y="355"/>
                  </a:lnTo>
                  <a:lnTo>
                    <a:pt x="177" y="351"/>
                  </a:lnTo>
                  <a:lnTo>
                    <a:pt x="185" y="348"/>
                  </a:lnTo>
                  <a:lnTo>
                    <a:pt x="195" y="344"/>
                  </a:lnTo>
                  <a:lnTo>
                    <a:pt x="204" y="342"/>
                  </a:lnTo>
                  <a:lnTo>
                    <a:pt x="215" y="340"/>
                  </a:lnTo>
                  <a:lnTo>
                    <a:pt x="216" y="332"/>
                  </a:lnTo>
                  <a:lnTo>
                    <a:pt x="219" y="309"/>
                  </a:lnTo>
                  <a:lnTo>
                    <a:pt x="223" y="278"/>
                  </a:lnTo>
                  <a:lnTo>
                    <a:pt x="224" y="239"/>
                  </a:lnTo>
                  <a:lnTo>
                    <a:pt x="220" y="226"/>
                  </a:lnTo>
                  <a:lnTo>
                    <a:pt x="215" y="216"/>
                  </a:lnTo>
                  <a:lnTo>
                    <a:pt x="209" y="205"/>
                  </a:lnTo>
                  <a:lnTo>
                    <a:pt x="202" y="195"/>
                  </a:lnTo>
                  <a:lnTo>
                    <a:pt x="194" y="186"/>
                  </a:lnTo>
                  <a:lnTo>
                    <a:pt x="184" y="176"/>
                  </a:lnTo>
                  <a:lnTo>
                    <a:pt x="175" y="167"/>
                  </a:lnTo>
                  <a:lnTo>
                    <a:pt x="164" y="159"/>
                  </a:lnTo>
                  <a:lnTo>
                    <a:pt x="142" y="143"/>
                  </a:lnTo>
                  <a:lnTo>
                    <a:pt x="119" y="129"/>
                  </a:lnTo>
                  <a:lnTo>
                    <a:pt x="95" y="115"/>
                  </a:lnTo>
                  <a:lnTo>
                    <a:pt x="73" y="103"/>
                  </a:lnTo>
                  <a:lnTo>
                    <a:pt x="52" y="91"/>
                  </a:lnTo>
                  <a:lnTo>
                    <a:pt x="33" y="79"/>
                  </a:lnTo>
                  <a:lnTo>
                    <a:pt x="25" y="73"/>
                  </a:lnTo>
                  <a:lnTo>
                    <a:pt x="17" y="68"/>
                  </a:lnTo>
                  <a:lnTo>
                    <a:pt x="11" y="62"/>
                  </a:lnTo>
                  <a:lnTo>
                    <a:pt x="7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8" y="15"/>
                  </a:lnTo>
                  <a:lnTo>
                    <a:pt x="14" y="8"/>
                  </a:lnTo>
                  <a:lnTo>
                    <a:pt x="22" y="0"/>
                  </a:lnTo>
                  <a:lnTo>
                    <a:pt x="57" y="12"/>
                  </a:lnTo>
                  <a:lnTo>
                    <a:pt x="91" y="21"/>
                  </a:lnTo>
                  <a:lnTo>
                    <a:pt x="123" y="29"/>
                  </a:lnTo>
                  <a:lnTo>
                    <a:pt x="153" y="35"/>
                  </a:lnTo>
                  <a:lnTo>
                    <a:pt x="182" y="40"/>
                  </a:lnTo>
                  <a:lnTo>
                    <a:pt x="209" y="42"/>
                  </a:lnTo>
                  <a:lnTo>
                    <a:pt x="233" y="43"/>
                  </a:lnTo>
                  <a:lnTo>
                    <a:pt x="257" y="43"/>
                  </a:lnTo>
                  <a:lnTo>
                    <a:pt x="279" y="42"/>
                  </a:lnTo>
                  <a:lnTo>
                    <a:pt x="299" y="40"/>
                  </a:lnTo>
                  <a:lnTo>
                    <a:pt x="317" y="37"/>
                  </a:lnTo>
                  <a:lnTo>
                    <a:pt x="334" y="34"/>
                  </a:lnTo>
                  <a:lnTo>
                    <a:pt x="348" y="30"/>
                  </a:lnTo>
                  <a:lnTo>
                    <a:pt x="362" y="26"/>
                  </a:lnTo>
                  <a:lnTo>
                    <a:pt x="372" y="21"/>
                  </a:lnTo>
                  <a:lnTo>
                    <a:pt x="382" y="17"/>
                  </a:lnTo>
                  <a:lnTo>
                    <a:pt x="586" y="233"/>
                  </a:lnTo>
                  <a:lnTo>
                    <a:pt x="586" y="371"/>
                  </a:lnTo>
                  <a:lnTo>
                    <a:pt x="565" y="368"/>
                  </a:lnTo>
                  <a:lnTo>
                    <a:pt x="544" y="364"/>
                  </a:lnTo>
                  <a:lnTo>
                    <a:pt x="524" y="362"/>
                  </a:lnTo>
                  <a:lnTo>
                    <a:pt x="504" y="361"/>
                  </a:lnTo>
                  <a:lnTo>
                    <a:pt x="487" y="361"/>
                  </a:lnTo>
                  <a:lnTo>
                    <a:pt x="468" y="361"/>
                  </a:lnTo>
                  <a:lnTo>
                    <a:pt x="452" y="361"/>
                  </a:lnTo>
                  <a:lnTo>
                    <a:pt x="436" y="363"/>
                  </a:lnTo>
                  <a:lnTo>
                    <a:pt x="421" y="364"/>
                  </a:lnTo>
                  <a:lnTo>
                    <a:pt x="408" y="368"/>
                  </a:lnTo>
                  <a:lnTo>
                    <a:pt x="397" y="370"/>
                  </a:lnTo>
                  <a:lnTo>
                    <a:pt x="386" y="375"/>
                  </a:lnTo>
                  <a:lnTo>
                    <a:pt x="377" y="378"/>
                  </a:lnTo>
                  <a:lnTo>
                    <a:pt x="369" y="383"/>
                  </a:lnTo>
                  <a:lnTo>
                    <a:pt x="363" y="389"/>
                  </a:lnTo>
                  <a:lnTo>
                    <a:pt x="359" y="393"/>
                  </a:lnTo>
                  <a:lnTo>
                    <a:pt x="357" y="400"/>
                  </a:lnTo>
                  <a:lnTo>
                    <a:pt x="357" y="406"/>
                  </a:lnTo>
                  <a:lnTo>
                    <a:pt x="358" y="412"/>
                  </a:lnTo>
                  <a:lnTo>
                    <a:pt x="362" y="419"/>
                  </a:lnTo>
                  <a:lnTo>
                    <a:pt x="368" y="426"/>
                  </a:lnTo>
                  <a:lnTo>
                    <a:pt x="376" y="434"/>
                  </a:lnTo>
                  <a:lnTo>
                    <a:pt x="386" y="441"/>
                  </a:lnTo>
                  <a:lnTo>
                    <a:pt x="400" y="448"/>
                  </a:lnTo>
                  <a:lnTo>
                    <a:pt x="415" y="457"/>
                  </a:lnTo>
                  <a:lnTo>
                    <a:pt x="433" y="464"/>
                  </a:lnTo>
                  <a:lnTo>
                    <a:pt x="454" y="472"/>
                  </a:lnTo>
                  <a:lnTo>
                    <a:pt x="477" y="480"/>
                  </a:lnTo>
                  <a:lnTo>
                    <a:pt x="504" y="487"/>
                  </a:lnTo>
                  <a:lnTo>
                    <a:pt x="533" y="495"/>
                  </a:lnTo>
                  <a:lnTo>
                    <a:pt x="565" y="502"/>
                  </a:lnTo>
                  <a:lnTo>
                    <a:pt x="601" y="509"/>
                  </a:lnTo>
                  <a:lnTo>
                    <a:pt x="615" y="513"/>
                  </a:lnTo>
                  <a:lnTo>
                    <a:pt x="627" y="516"/>
                  </a:lnTo>
                  <a:lnTo>
                    <a:pt x="639" y="520"/>
                  </a:lnTo>
                  <a:lnTo>
                    <a:pt x="649" y="524"/>
                  </a:lnTo>
                  <a:lnTo>
                    <a:pt x="658" y="528"/>
                  </a:lnTo>
                  <a:lnTo>
                    <a:pt x="665" y="532"/>
                  </a:lnTo>
                  <a:lnTo>
                    <a:pt x="672" y="537"/>
                  </a:lnTo>
                  <a:lnTo>
                    <a:pt x="678" y="542"/>
                  </a:lnTo>
                  <a:lnTo>
                    <a:pt x="684" y="548"/>
                  </a:lnTo>
                  <a:lnTo>
                    <a:pt x="688" y="552"/>
                  </a:lnTo>
                  <a:lnTo>
                    <a:pt x="691" y="557"/>
                  </a:lnTo>
                  <a:lnTo>
                    <a:pt x="693" y="563"/>
                  </a:lnTo>
                  <a:lnTo>
                    <a:pt x="697" y="573"/>
                  </a:lnTo>
                  <a:lnTo>
                    <a:pt x="698" y="584"/>
                  </a:lnTo>
                  <a:lnTo>
                    <a:pt x="697" y="593"/>
                  </a:lnTo>
                  <a:lnTo>
                    <a:pt x="695" y="603"/>
                  </a:lnTo>
                  <a:lnTo>
                    <a:pt x="692" y="611"/>
                  </a:lnTo>
                  <a:lnTo>
                    <a:pt x="689" y="619"/>
                  </a:lnTo>
                  <a:lnTo>
                    <a:pt x="682" y="629"/>
                  </a:lnTo>
                  <a:lnTo>
                    <a:pt x="678" y="633"/>
                  </a:lnTo>
                  <a:lnTo>
                    <a:pt x="462" y="697"/>
                  </a:lnTo>
                  <a:lnTo>
                    <a:pt x="146" y="4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182"/>
            <p:cNvSpPr/>
            <p:nvPr/>
          </p:nvSpPr>
          <p:spPr>
            <a:xfrm>
              <a:off x="8313840" y="5430960"/>
              <a:ext cx="106200" cy="1141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98" h="697">
                  <a:moveTo>
                    <a:pt x="146" y="426"/>
                  </a:moveTo>
                  <a:lnTo>
                    <a:pt x="144" y="418"/>
                  </a:lnTo>
                  <a:lnTo>
                    <a:pt x="143" y="411"/>
                  </a:lnTo>
                  <a:lnTo>
                    <a:pt x="143" y="404"/>
                  </a:lnTo>
                  <a:lnTo>
                    <a:pt x="144" y="397"/>
                  </a:lnTo>
                  <a:lnTo>
                    <a:pt x="146" y="390"/>
                  </a:lnTo>
                  <a:lnTo>
                    <a:pt x="148" y="383"/>
                  </a:lnTo>
                  <a:lnTo>
                    <a:pt x="150" y="377"/>
                  </a:lnTo>
                  <a:lnTo>
                    <a:pt x="155" y="371"/>
                  </a:lnTo>
                  <a:lnTo>
                    <a:pt x="158" y="365"/>
                  </a:lnTo>
                  <a:lnTo>
                    <a:pt x="164" y="360"/>
                  </a:lnTo>
                  <a:lnTo>
                    <a:pt x="170" y="355"/>
                  </a:lnTo>
                  <a:lnTo>
                    <a:pt x="177" y="351"/>
                  </a:lnTo>
                  <a:lnTo>
                    <a:pt x="185" y="348"/>
                  </a:lnTo>
                  <a:lnTo>
                    <a:pt x="195" y="344"/>
                  </a:lnTo>
                  <a:lnTo>
                    <a:pt x="204" y="342"/>
                  </a:lnTo>
                  <a:lnTo>
                    <a:pt x="215" y="340"/>
                  </a:lnTo>
                  <a:lnTo>
                    <a:pt x="216" y="332"/>
                  </a:lnTo>
                  <a:lnTo>
                    <a:pt x="219" y="309"/>
                  </a:lnTo>
                  <a:lnTo>
                    <a:pt x="223" y="278"/>
                  </a:lnTo>
                  <a:lnTo>
                    <a:pt x="224" y="239"/>
                  </a:lnTo>
                  <a:lnTo>
                    <a:pt x="220" y="226"/>
                  </a:lnTo>
                  <a:lnTo>
                    <a:pt x="215" y="216"/>
                  </a:lnTo>
                  <a:lnTo>
                    <a:pt x="209" y="205"/>
                  </a:lnTo>
                  <a:lnTo>
                    <a:pt x="202" y="195"/>
                  </a:lnTo>
                  <a:lnTo>
                    <a:pt x="194" y="186"/>
                  </a:lnTo>
                  <a:lnTo>
                    <a:pt x="184" y="176"/>
                  </a:lnTo>
                  <a:lnTo>
                    <a:pt x="175" y="167"/>
                  </a:lnTo>
                  <a:lnTo>
                    <a:pt x="164" y="159"/>
                  </a:lnTo>
                  <a:lnTo>
                    <a:pt x="142" y="143"/>
                  </a:lnTo>
                  <a:lnTo>
                    <a:pt x="119" y="129"/>
                  </a:lnTo>
                  <a:lnTo>
                    <a:pt x="95" y="115"/>
                  </a:lnTo>
                  <a:lnTo>
                    <a:pt x="73" y="103"/>
                  </a:lnTo>
                  <a:lnTo>
                    <a:pt x="52" y="91"/>
                  </a:lnTo>
                  <a:lnTo>
                    <a:pt x="33" y="79"/>
                  </a:lnTo>
                  <a:lnTo>
                    <a:pt x="25" y="73"/>
                  </a:lnTo>
                  <a:lnTo>
                    <a:pt x="17" y="68"/>
                  </a:lnTo>
                  <a:lnTo>
                    <a:pt x="11" y="62"/>
                  </a:lnTo>
                  <a:lnTo>
                    <a:pt x="7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8" y="15"/>
                  </a:lnTo>
                  <a:lnTo>
                    <a:pt x="14" y="8"/>
                  </a:lnTo>
                  <a:lnTo>
                    <a:pt x="22" y="0"/>
                  </a:lnTo>
                  <a:lnTo>
                    <a:pt x="57" y="12"/>
                  </a:lnTo>
                  <a:lnTo>
                    <a:pt x="91" y="21"/>
                  </a:lnTo>
                  <a:lnTo>
                    <a:pt x="123" y="29"/>
                  </a:lnTo>
                  <a:lnTo>
                    <a:pt x="153" y="35"/>
                  </a:lnTo>
                  <a:lnTo>
                    <a:pt x="182" y="40"/>
                  </a:lnTo>
                  <a:lnTo>
                    <a:pt x="209" y="42"/>
                  </a:lnTo>
                  <a:lnTo>
                    <a:pt x="233" y="43"/>
                  </a:lnTo>
                  <a:lnTo>
                    <a:pt x="257" y="43"/>
                  </a:lnTo>
                  <a:lnTo>
                    <a:pt x="279" y="42"/>
                  </a:lnTo>
                  <a:lnTo>
                    <a:pt x="299" y="40"/>
                  </a:lnTo>
                  <a:lnTo>
                    <a:pt x="317" y="37"/>
                  </a:lnTo>
                  <a:lnTo>
                    <a:pt x="334" y="34"/>
                  </a:lnTo>
                  <a:lnTo>
                    <a:pt x="348" y="30"/>
                  </a:lnTo>
                  <a:lnTo>
                    <a:pt x="362" y="26"/>
                  </a:lnTo>
                  <a:lnTo>
                    <a:pt x="372" y="21"/>
                  </a:lnTo>
                  <a:lnTo>
                    <a:pt x="382" y="17"/>
                  </a:lnTo>
                  <a:lnTo>
                    <a:pt x="586" y="233"/>
                  </a:lnTo>
                  <a:lnTo>
                    <a:pt x="586" y="371"/>
                  </a:lnTo>
                  <a:lnTo>
                    <a:pt x="565" y="368"/>
                  </a:lnTo>
                  <a:lnTo>
                    <a:pt x="544" y="364"/>
                  </a:lnTo>
                  <a:lnTo>
                    <a:pt x="524" y="362"/>
                  </a:lnTo>
                  <a:lnTo>
                    <a:pt x="504" y="361"/>
                  </a:lnTo>
                  <a:lnTo>
                    <a:pt x="487" y="361"/>
                  </a:lnTo>
                  <a:lnTo>
                    <a:pt x="468" y="361"/>
                  </a:lnTo>
                  <a:lnTo>
                    <a:pt x="452" y="361"/>
                  </a:lnTo>
                  <a:lnTo>
                    <a:pt x="436" y="363"/>
                  </a:lnTo>
                  <a:lnTo>
                    <a:pt x="421" y="364"/>
                  </a:lnTo>
                  <a:lnTo>
                    <a:pt x="408" y="368"/>
                  </a:lnTo>
                  <a:lnTo>
                    <a:pt x="397" y="370"/>
                  </a:lnTo>
                  <a:lnTo>
                    <a:pt x="386" y="375"/>
                  </a:lnTo>
                  <a:lnTo>
                    <a:pt x="377" y="378"/>
                  </a:lnTo>
                  <a:lnTo>
                    <a:pt x="369" y="383"/>
                  </a:lnTo>
                  <a:lnTo>
                    <a:pt x="363" y="389"/>
                  </a:lnTo>
                  <a:lnTo>
                    <a:pt x="359" y="393"/>
                  </a:lnTo>
                  <a:lnTo>
                    <a:pt x="357" y="400"/>
                  </a:lnTo>
                  <a:lnTo>
                    <a:pt x="357" y="406"/>
                  </a:lnTo>
                  <a:lnTo>
                    <a:pt x="358" y="412"/>
                  </a:lnTo>
                  <a:lnTo>
                    <a:pt x="362" y="419"/>
                  </a:lnTo>
                  <a:lnTo>
                    <a:pt x="368" y="426"/>
                  </a:lnTo>
                  <a:lnTo>
                    <a:pt x="376" y="434"/>
                  </a:lnTo>
                  <a:lnTo>
                    <a:pt x="386" y="441"/>
                  </a:lnTo>
                  <a:lnTo>
                    <a:pt x="400" y="448"/>
                  </a:lnTo>
                  <a:lnTo>
                    <a:pt x="415" y="457"/>
                  </a:lnTo>
                  <a:lnTo>
                    <a:pt x="433" y="464"/>
                  </a:lnTo>
                  <a:lnTo>
                    <a:pt x="454" y="472"/>
                  </a:lnTo>
                  <a:lnTo>
                    <a:pt x="477" y="480"/>
                  </a:lnTo>
                  <a:lnTo>
                    <a:pt x="504" y="487"/>
                  </a:lnTo>
                  <a:lnTo>
                    <a:pt x="533" y="495"/>
                  </a:lnTo>
                  <a:lnTo>
                    <a:pt x="565" y="502"/>
                  </a:lnTo>
                  <a:lnTo>
                    <a:pt x="601" y="509"/>
                  </a:lnTo>
                  <a:lnTo>
                    <a:pt x="615" y="513"/>
                  </a:lnTo>
                  <a:lnTo>
                    <a:pt x="627" y="516"/>
                  </a:lnTo>
                  <a:lnTo>
                    <a:pt x="639" y="520"/>
                  </a:lnTo>
                  <a:lnTo>
                    <a:pt x="649" y="524"/>
                  </a:lnTo>
                  <a:lnTo>
                    <a:pt x="658" y="528"/>
                  </a:lnTo>
                  <a:lnTo>
                    <a:pt x="665" y="532"/>
                  </a:lnTo>
                  <a:lnTo>
                    <a:pt x="672" y="537"/>
                  </a:lnTo>
                  <a:lnTo>
                    <a:pt x="678" y="542"/>
                  </a:lnTo>
                  <a:lnTo>
                    <a:pt x="684" y="548"/>
                  </a:lnTo>
                  <a:lnTo>
                    <a:pt x="688" y="552"/>
                  </a:lnTo>
                  <a:lnTo>
                    <a:pt x="691" y="557"/>
                  </a:lnTo>
                  <a:lnTo>
                    <a:pt x="693" y="563"/>
                  </a:lnTo>
                  <a:lnTo>
                    <a:pt x="697" y="573"/>
                  </a:lnTo>
                  <a:lnTo>
                    <a:pt x="698" y="584"/>
                  </a:lnTo>
                  <a:lnTo>
                    <a:pt x="697" y="593"/>
                  </a:lnTo>
                  <a:lnTo>
                    <a:pt x="695" y="603"/>
                  </a:lnTo>
                  <a:lnTo>
                    <a:pt x="692" y="611"/>
                  </a:lnTo>
                  <a:lnTo>
                    <a:pt x="689" y="619"/>
                  </a:lnTo>
                  <a:lnTo>
                    <a:pt x="682" y="629"/>
                  </a:lnTo>
                  <a:lnTo>
                    <a:pt x="678" y="633"/>
                  </a:lnTo>
                  <a:lnTo>
                    <a:pt x="462" y="697"/>
                  </a:lnTo>
                  <a:lnTo>
                    <a:pt x="146" y="42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183"/>
            <p:cNvSpPr/>
            <p:nvPr/>
          </p:nvSpPr>
          <p:spPr>
            <a:xfrm>
              <a:off x="8334360" y="5340240"/>
              <a:ext cx="149040" cy="583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83" h="354">
                  <a:moveTo>
                    <a:pt x="55" y="323"/>
                  </a:moveTo>
                  <a:lnTo>
                    <a:pt x="596" y="268"/>
                  </a:lnTo>
                  <a:lnTo>
                    <a:pt x="609" y="271"/>
                  </a:lnTo>
                  <a:lnTo>
                    <a:pt x="644" y="281"/>
                  </a:lnTo>
                  <a:lnTo>
                    <a:pt x="666" y="285"/>
                  </a:lnTo>
                  <a:lnTo>
                    <a:pt x="691" y="291"/>
                  </a:lnTo>
                  <a:lnTo>
                    <a:pt x="718" y="296"/>
                  </a:lnTo>
                  <a:lnTo>
                    <a:pt x="743" y="299"/>
                  </a:lnTo>
                  <a:lnTo>
                    <a:pt x="752" y="301"/>
                  </a:lnTo>
                  <a:lnTo>
                    <a:pt x="761" y="303"/>
                  </a:lnTo>
                  <a:lnTo>
                    <a:pt x="769" y="306"/>
                  </a:lnTo>
                  <a:lnTo>
                    <a:pt x="777" y="310"/>
                  </a:lnTo>
                  <a:lnTo>
                    <a:pt x="792" y="319"/>
                  </a:lnTo>
                  <a:lnTo>
                    <a:pt x="806" y="329"/>
                  </a:lnTo>
                  <a:lnTo>
                    <a:pt x="827" y="346"/>
                  </a:lnTo>
                  <a:lnTo>
                    <a:pt x="836" y="354"/>
                  </a:lnTo>
                  <a:lnTo>
                    <a:pt x="857" y="347"/>
                  </a:lnTo>
                  <a:lnTo>
                    <a:pt x="881" y="340"/>
                  </a:lnTo>
                  <a:lnTo>
                    <a:pt x="909" y="333"/>
                  </a:lnTo>
                  <a:lnTo>
                    <a:pt x="936" y="325"/>
                  </a:lnTo>
                  <a:lnTo>
                    <a:pt x="948" y="320"/>
                  </a:lnTo>
                  <a:lnTo>
                    <a:pt x="959" y="316"/>
                  </a:lnTo>
                  <a:lnTo>
                    <a:pt x="969" y="310"/>
                  </a:lnTo>
                  <a:lnTo>
                    <a:pt x="976" y="304"/>
                  </a:lnTo>
                  <a:lnTo>
                    <a:pt x="978" y="302"/>
                  </a:lnTo>
                  <a:lnTo>
                    <a:pt x="980" y="298"/>
                  </a:lnTo>
                  <a:lnTo>
                    <a:pt x="982" y="295"/>
                  </a:lnTo>
                  <a:lnTo>
                    <a:pt x="983" y="291"/>
                  </a:lnTo>
                  <a:lnTo>
                    <a:pt x="982" y="288"/>
                  </a:lnTo>
                  <a:lnTo>
                    <a:pt x="982" y="284"/>
                  </a:lnTo>
                  <a:lnTo>
                    <a:pt x="979" y="281"/>
                  </a:lnTo>
                  <a:lnTo>
                    <a:pt x="977" y="276"/>
                  </a:lnTo>
                  <a:lnTo>
                    <a:pt x="970" y="265"/>
                  </a:lnTo>
                  <a:lnTo>
                    <a:pt x="965" y="255"/>
                  </a:lnTo>
                  <a:lnTo>
                    <a:pt x="962" y="244"/>
                  </a:lnTo>
                  <a:lnTo>
                    <a:pt x="961" y="234"/>
                  </a:lnTo>
                  <a:lnTo>
                    <a:pt x="962" y="213"/>
                  </a:lnTo>
                  <a:lnTo>
                    <a:pt x="965" y="194"/>
                  </a:lnTo>
                  <a:lnTo>
                    <a:pt x="966" y="185"/>
                  </a:lnTo>
                  <a:lnTo>
                    <a:pt x="968" y="177"/>
                  </a:lnTo>
                  <a:lnTo>
                    <a:pt x="968" y="170"/>
                  </a:lnTo>
                  <a:lnTo>
                    <a:pt x="966" y="164"/>
                  </a:lnTo>
                  <a:lnTo>
                    <a:pt x="964" y="159"/>
                  </a:lnTo>
                  <a:lnTo>
                    <a:pt x="961" y="156"/>
                  </a:lnTo>
                  <a:lnTo>
                    <a:pt x="954" y="153"/>
                  </a:lnTo>
                  <a:lnTo>
                    <a:pt x="945" y="152"/>
                  </a:lnTo>
                  <a:lnTo>
                    <a:pt x="933" y="153"/>
                  </a:lnTo>
                  <a:lnTo>
                    <a:pt x="922" y="155"/>
                  </a:lnTo>
                  <a:lnTo>
                    <a:pt x="910" y="157"/>
                  </a:lnTo>
                  <a:lnTo>
                    <a:pt x="900" y="159"/>
                  </a:lnTo>
                  <a:lnTo>
                    <a:pt x="878" y="167"/>
                  </a:lnTo>
                  <a:lnTo>
                    <a:pt x="854" y="176"/>
                  </a:lnTo>
                  <a:lnTo>
                    <a:pt x="831" y="184"/>
                  </a:lnTo>
                  <a:lnTo>
                    <a:pt x="805" y="192"/>
                  </a:lnTo>
                  <a:lnTo>
                    <a:pt x="790" y="194"/>
                  </a:lnTo>
                  <a:lnTo>
                    <a:pt x="776" y="197"/>
                  </a:lnTo>
                  <a:lnTo>
                    <a:pt x="760" y="198"/>
                  </a:lnTo>
                  <a:lnTo>
                    <a:pt x="743" y="199"/>
                  </a:lnTo>
                  <a:lnTo>
                    <a:pt x="727" y="198"/>
                  </a:lnTo>
                  <a:lnTo>
                    <a:pt x="713" y="194"/>
                  </a:lnTo>
                  <a:lnTo>
                    <a:pt x="701" y="190"/>
                  </a:lnTo>
                  <a:lnTo>
                    <a:pt x="691" y="185"/>
                  </a:lnTo>
                  <a:lnTo>
                    <a:pt x="672" y="170"/>
                  </a:lnTo>
                  <a:lnTo>
                    <a:pt x="655" y="155"/>
                  </a:lnTo>
                  <a:lnTo>
                    <a:pt x="645" y="146"/>
                  </a:lnTo>
                  <a:lnTo>
                    <a:pt x="636" y="139"/>
                  </a:lnTo>
                  <a:lnTo>
                    <a:pt x="624" y="132"/>
                  </a:lnTo>
                  <a:lnTo>
                    <a:pt x="613" y="126"/>
                  </a:lnTo>
                  <a:lnTo>
                    <a:pt x="599" y="123"/>
                  </a:lnTo>
                  <a:lnTo>
                    <a:pt x="582" y="119"/>
                  </a:lnTo>
                  <a:lnTo>
                    <a:pt x="563" y="119"/>
                  </a:lnTo>
                  <a:lnTo>
                    <a:pt x="541" y="121"/>
                  </a:lnTo>
                  <a:lnTo>
                    <a:pt x="548" y="110"/>
                  </a:lnTo>
                  <a:lnTo>
                    <a:pt x="554" y="100"/>
                  </a:lnTo>
                  <a:lnTo>
                    <a:pt x="558" y="89"/>
                  </a:lnTo>
                  <a:lnTo>
                    <a:pt x="560" y="80"/>
                  </a:lnTo>
                  <a:lnTo>
                    <a:pt x="561" y="72"/>
                  </a:lnTo>
                  <a:lnTo>
                    <a:pt x="561" y="62"/>
                  </a:lnTo>
                  <a:lnTo>
                    <a:pt x="558" y="55"/>
                  </a:lnTo>
                  <a:lnTo>
                    <a:pt x="554" y="47"/>
                  </a:lnTo>
                  <a:lnTo>
                    <a:pt x="548" y="40"/>
                  </a:lnTo>
                  <a:lnTo>
                    <a:pt x="540" y="33"/>
                  </a:lnTo>
                  <a:lnTo>
                    <a:pt x="530" y="27"/>
                  </a:lnTo>
                  <a:lnTo>
                    <a:pt x="518" y="21"/>
                  </a:lnTo>
                  <a:lnTo>
                    <a:pt x="504" y="16"/>
                  </a:lnTo>
                  <a:lnTo>
                    <a:pt x="489" y="10"/>
                  </a:lnTo>
                  <a:lnTo>
                    <a:pt x="470" y="5"/>
                  </a:lnTo>
                  <a:lnTo>
                    <a:pt x="449" y="0"/>
                  </a:lnTo>
                  <a:lnTo>
                    <a:pt x="109" y="158"/>
                  </a:lnTo>
                  <a:lnTo>
                    <a:pt x="0" y="199"/>
                  </a:lnTo>
                  <a:lnTo>
                    <a:pt x="0" y="299"/>
                  </a:lnTo>
                  <a:lnTo>
                    <a:pt x="55" y="3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184"/>
            <p:cNvSpPr/>
            <p:nvPr/>
          </p:nvSpPr>
          <p:spPr>
            <a:xfrm>
              <a:off x="8334360" y="5340240"/>
              <a:ext cx="149040" cy="583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83" h="354">
                  <a:moveTo>
                    <a:pt x="55" y="323"/>
                  </a:moveTo>
                  <a:lnTo>
                    <a:pt x="596" y="268"/>
                  </a:lnTo>
                  <a:lnTo>
                    <a:pt x="609" y="271"/>
                  </a:lnTo>
                  <a:lnTo>
                    <a:pt x="644" y="281"/>
                  </a:lnTo>
                  <a:lnTo>
                    <a:pt x="666" y="285"/>
                  </a:lnTo>
                  <a:lnTo>
                    <a:pt x="691" y="291"/>
                  </a:lnTo>
                  <a:lnTo>
                    <a:pt x="718" y="296"/>
                  </a:lnTo>
                  <a:lnTo>
                    <a:pt x="743" y="299"/>
                  </a:lnTo>
                  <a:lnTo>
                    <a:pt x="752" y="301"/>
                  </a:lnTo>
                  <a:lnTo>
                    <a:pt x="761" y="303"/>
                  </a:lnTo>
                  <a:lnTo>
                    <a:pt x="769" y="306"/>
                  </a:lnTo>
                  <a:lnTo>
                    <a:pt x="777" y="310"/>
                  </a:lnTo>
                  <a:lnTo>
                    <a:pt x="792" y="319"/>
                  </a:lnTo>
                  <a:lnTo>
                    <a:pt x="806" y="329"/>
                  </a:lnTo>
                  <a:lnTo>
                    <a:pt x="827" y="346"/>
                  </a:lnTo>
                  <a:lnTo>
                    <a:pt x="836" y="354"/>
                  </a:lnTo>
                  <a:lnTo>
                    <a:pt x="857" y="347"/>
                  </a:lnTo>
                  <a:lnTo>
                    <a:pt x="881" y="340"/>
                  </a:lnTo>
                  <a:lnTo>
                    <a:pt x="909" y="333"/>
                  </a:lnTo>
                  <a:lnTo>
                    <a:pt x="936" y="325"/>
                  </a:lnTo>
                  <a:lnTo>
                    <a:pt x="948" y="320"/>
                  </a:lnTo>
                  <a:lnTo>
                    <a:pt x="959" y="316"/>
                  </a:lnTo>
                  <a:lnTo>
                    <a:pt x="969" y="310"/>
                  </a:lnTo>
                  <a:lnTo>
                    <a:pt x="976" y="304"/>
                  </a:lnTo>
                  <a:lnTo>
                    <a:pt x="978" y="302"/>
                  </a:lnTo>
                  <a:lnTo>
                    <a:pt x="980" y="298"/>
                  </a:lnTo>
                  <a:lnTo>
                    <a:pt x="982" y="295"/>
                  </a:lnTo>
                  <a:lnTo>
                    <a:pt x="983" y="291"/>
                  </a:lnTo>
                  <a:lnTo>
                    <a:pt x="982" y="288"/>
                  </a:lnTo>
                  <a:lnTo>
                    <a:pt x="982" y="284"/>
                  </a:lnTo>
                  <a:lnTo>
                    <a:pt x="979" y="281"/>
                  </a:lnTo>
                  <a:lnTo>
                    <a:pt x="977" y="276"/>
                  </a:lnTo>
                  <a:lnTo>
                    <a:pt x="970" y="265"/>
                  </a:lnTo>
                  <a:lnTo>
                    <a:pt x="965" y="255"/>
                  </a:lnTo>
                  <a:lnTo>
                    <a:pt x="962" y="244"/>
                  </a:lnTo>
                  <a:lnTo>
                    <a:pt x="961" y="234"/>
                  </a:lnTo>
                  <a:lnTo>
                    <a:pt x="962" y="213"/>
                  </a:lnTo>
                  <a:lnTo>
                    <a:pt x="965" y="194"/>
                  </a:lnTo>
                  <a:lnTo>
                    <a:pt x="966" y="185"/>
                  </a:lnTo>
                  <a:lnTo>
                    <a:pt x="968" y="177"/>
                  </a:lnTo>
                  <a:lnTo>
                    <a:pt x="968" y="170"/>
                  </a:lnTo>
                  <a:lnTo>
                    <a:pt x="966" y="164"/>
                  </a:lnTo>
                  <a:lnTo>
                    <a:pt x="964" y="159"/>
                  </a:lnTo>
                  <a:lnTo>
                    <a:pt x="961" y="156"/>
                  </a:lnTo>
                  <a:lnTo>
                    <a:pt x="954" y="153"/>
                  </a:lnTo>
                  <a:lnTo>
                    <a:pt x="945" y="152"/>
                  </a:lnTo>
                  <a:lnTo>
                    <a:pt x="933" y="153"/>
                  </a:lnTo>
                  <a:lnTo>
                    <a:pt x="922" y="155"/>
                  </a:lnTo>
                  <a:lnTo>
                    <a:pt x="910" y="157"/>
                  </a:lnTo>
                  <a:lnTo>
                    <a:pt x="900" y="159"/>
                  </a:lnTo>
                  <a:lnTo>
                    <a:pt x="878" y="167"/>
                  </a:lnTo>
                  <a:lnTo>
                    <a:pt x="854" y="176"/>
                  </a:lnTo>
                  <a:lnTo>
                    <a:pt x="831" y="184"/>
                  </a:lnTo>
                  <a:lnTo>
                    <a:pt x="805" y="192"/>
                  </a:lnTo>
                  <a:lnTo>
                    <a:pt x="790" y="194"/>
                  </a:lnTo>
                  <a:lnTo>
                    <a:pt x="776" y="197"/>
                  </a:lnTo>
                  <a:lnTo>
                    <a:pt x="760" y="198"/>
                  </a:lnTo>
                  <a:lnTo>
                    <a:pt x="743" y="199"/>
                  </a:lnTo>
                  <a:lnTo>
                    <a:pt x="727" y="198"/>
                  </a:lnTo>
                  <a:lnTo>
                    <a:pt x="713" y="194"/>
                  </a:lnTo>
                  <a:lnTo>
                    <a:pt x="701" y="190"/>
                  </a:lnTo>
                  <a:lnTo>
                    <a:pt x="691" y="185"/>
                  </a:lnTo>
                  <a:lnTo>
                    <a:pt x="672" y="170"/>
                  </a:lnTo>
                  <a:lnTo>
                    <a:pt x="655" y="155"/>
                  </a:lnTo>
                  <a:lnTo>
                    <a:pt x="645" y="146"/>
                  </a:lnTo>
                  <a:lnTo>
                    <a:pt x="636" y="139"/>
                  </a:lnTo>
                  <a:lnTo>
                    <a:pt x="624" y="132"/>
                  </a:lnTo>
                  <a:lnTo>
                    <a:pt x="613" y="126"/>
                  </a:lnTo>
                  <a:lnTo>
                    <a:pt x="599" y="123"/>
                  </a:lnTo>
                  <a:lnTo>
                    <a:pt x="582" y="119"/>
                  </a:lnTo>
                  <a:lnTo>
                    <a:pt x="563" y="119"/>
                  </a:lnTo>
                  <a:lnTo>
                    <a:pt x="541" y="121"/>
                  </a:lnTo>
                  <a:lnTo>
                    <a:pt x="548" y="110"/>
                  </a:lnTo>
                  <a:lnTo>
                    <a:pt x="554" y="100"/>
                  </a:lnTo>
                  <a:lnTo>
                    <a:pt x="558" y="89"/>
                  </a:lnTo>
                  <a:lnTo>
                    <a:pt x="560" y="80"/>
                  </a:lnTo>
                  <a:lnTo>
                    <a:pt x="561" y="72"/>
                  </a:lnTo>
                  <a:lnTo>
                    <a:pt x="561" y="62"/>
                  </a:lnTo>
                  <a:lnTo>
                    <a:pt x="558" y="55"/>
                  </a:lnTo>
                  <a:lnTo>
                    <a:pt x="554" y="47"/>
                  </a:lnTo>
                  <a:lnTo>
                    <a:pt x="548" y="40"/>
                  </a:lnTo>
                  <a:lnTo>
                    <a:pt x="540" y="33"/>
                  </a:lnTo>
                  <a:lnTo>
                    <a:pt x="530" y="27"/>
                  </a:lnTo>
                  <a:lnTo>
                    <a:pt x="518" y="21"/>
                  </a:lnTo>
                  <a:lnTo>
                    <a:pt x="504" y="16"/>
                  </a:lnTo>
                  <a:lnTo>
                    <a:pt x="489" y="10"/>
                  </a:lnTo>
                  <a:lnTo>
                    <a:pt x="470" y="5"/>
                  </a:lnTo>
                  <a:lnTo>
                    <a:pt x="449" y="0"/>
                  </a:lnTo>
                  <a:lnTo>
                    <a:pt x="109" y="158"/>
                  </a:lnTo>
                  <a:lnTo>
                    <a:pt x="0" y="199"/>
                  </a:lnTo>
                  <a:lnTo>
                    <a:pt x="0" y="299"/>
                  </a:lnTo>
                  <a:lnTo>
                    <a:pt x="55" y="323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185"/>
            <p:cNvSpPr/>
            <p:nvPr/>
          </p:nvSpPr>
          <p:spPr>
            <a:xfrm>
              <a:off x="8192880" y="5500440"/>
              <a:ext cx="188280" cy="66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244" h="409">
                  <a:moveTo>
                    <a:pt x="933" y="193"/>
                  </a:moveTo>
                  <a:lnTo>
                    <a:pt x="971" y="223"/>
                  </a:lnTo>
                  <a:lnTo>
                    <a:pt x="1011" y="254"/>
                  </a:lnTo>
                  <a:lnTo>
                    <a:pt x="1053" y="283"/>
                  </a:lnTo>
                  <a:lnTo>
                    <a:pt x="1095" y="313"/>
                  </a:lnTo>
                  <a:lnTo>
                    <a:pt x="1137" y="341"/>
                  </a:lnTo>
                  <a:lnTo>
                    <a:pt x="1176" y="367"/>
                  </a:lnTo>
                  <a:lnTo>
                    <a:pt x="1213" y="389"/>
                  </a:lnTo>
                  <a:lnTo>
                    <a:pt x="1244" y="409"/>
                  </a:lnTo>
                  <a:lnTo>
                    <a:pt x="1065" y="401"/>
                  </a:lnTo>
                  <a:lnTo>
                    <a:pt x="1063" y="396"/>
                  </a:lnTo>
                  <a:lnTo>
                    <a:pt x="1060" y="393"/>
                  </a:lnTo>
                  <a:lnTo>
                    <a:pt x="1056" y="390"/>
                  </a:lnTo>
                  <a:lnTo>
                    <a:pt x="1051" y="389"/>
                  </a:lnTo>
                  <a:lnTo>
                    <a:pt x="1041" y="386"/>
                  </a:lnTo>
                  <a:lnTo>
                    <a:pt x="1028" y="384"/>
                  </a:lnTo>
                  <a:lnTo>
                    <a:pt x="998" y="384"/>
                  </a:lnTo>
                  <a:lnTo>
                    <a:pt x="964" y="383"/>
                  </a:lnTo>
                  <a:lnTo>
                    <a:pt x="945" y="382"/>
                  </a:lnTo>
                  <a:lnTo>
                    <a:pt x="926" y="377"/>
                  </a:lnTo>
                  <a:lnTo>
                    <a:pt x="917" y="375"/>
                  </a:lnTo>
                  <a:lnTo>
                    <a:pt x="908" y="372"/>
                  </a:lnTo>
                  <a:lnTo>
                    <a:pt x="898" y="367"/>
                  </a:lnTo>
                  <a:lnTo>
                    <a:pt x="890" y="362"/>
                  </a:lnTo>
                  <a:lnTo>
                    <a:pt x="881" y="356"/>
                  </a:lnTo>
                  <a:lnTo>
                    <a:pt x="873" y="349"/>
                  </a:lnTo>
                  <a:lnTo>
                    <a:pt x="863" y="341"/>
                  </a:lnTo>
                  <a:lnTo>
                    <a:pt x="856" y="333"/>
                  </a:lnTo>
                  <a:lnTo>
                    <a:pt x="848" y="323"/>
                  </a:lnTo>
                  <a:lnTo>
                    <a:pt x="840" y="312"/>
                  </a:lnTo>
                  <a:lnTo>
                    <a:pt x="833" y="299"/>
                  </a:lnTo>
                  <a:lnTo>
                    <a:pt x="827" y="285"/>
                  </a:lnTo>
                  <a:lnTo>
                    <a:pt x="815" y="279"/>
                  </a:lnTo>
                  <a:lnTo>
                    <a:pt x="806" y="272"/>
                  </a:lnTo>
                  <a:lnTo>
                    <a:pt x="799" y="266"/>
                  </a:lnTo>
                  <a:lnTo>
                    <a:pt x="793" y="259"/>
                  </a:lnTo>
                  <a:lnTo>
                    <a:pt x="784" y="247"/>
                  </a:lnTo>
                  <a:lnTo>
                    <a:pt x="777" y="235"/>
                  </a:lnTo>
                  <a:lnTo>
                    <a:pt x="775" y="229"/>
                  </a:lnTo>
                  <a:lnTo>
                    <a:pt x="771" y="223"/>
                  </a:lnTo>
                  <a:lnTo>
                    <a:pt x="768" y="219"/>
                  </a:lnTo>
                  <a:lnTo>
                    <a:pt x="763" y="215"/>
                  </a:lnTo>
                  <a:lnTo>
                    <a:pt x="758" y="212"/>
                  </a:lnTo>
                  <a:lnTo>
                    <a:pt x="751" y="209"/>
                  </a:lnTo>
                  <a:lnTo>
                    <a:pt x="744" y="208"/>
                  </a:lnTo>
                  <a:lnTo>
                    <a:pt x="735" y="207"/>
                  </a:lnTo>
                  <a:lnTo>
                    <a:pt x="723" y="209"/>
                  </a:lnTo>
                  <a:lnTo>
                    <a:pt x="713" y="209"/>
                  </a:lnTo>
                  <a:lnTo>
                    <a:pt x="702" y="208"/>
                  </a:lnTo>
                  <a:lnTo>
                    <a:pt x="692" y="205"/>
                  </a:lnTo>
                  <a:lnTo>
                    <a:pt x="668" y="195"/>
                  </a:lnTo>
                  <a:lnTo>
                    <a:pt x="639" y="184"/>
                  </a:lnTo>
                  <a:lnTo>
                    <a:pt x="622" y="178"/>
                  </a:lnTo>
                  <a:lnTo>
                    <a:pt x="601" y="172"/>
                  </a:lnTo>
                  <a:lnTo>
                    <a:pt x="577" y="168"/>
                  </a:lnTo>
                  <a:lnTo>
                    <a:pt x="549" y="165"/>
                  </a:lnTo>
                  <a:lnTo>
                    <a:pt x="518" y="164"/>
                  </a:lnTo>
                  <a:lnTo>
                    <a:pt x="481" y="164"/>
                  </a:lnTo>
                  <a:lnTo>
                    <a:pt x="440" y="165"/>
                  </a:lnTo>
                  <a:lnTo>
                    <a:pt x="395" y="170"/>
                  </a:lnTo>
                  <a:lnTo>
                    <a:pt x="370" y="168"/>
                  </a:lnTo>
                  <a:lnTo>
                    <a:pt x="354" y="167"/>
                  </a:lnTo>
                  <a:lnTo>
                    <a:pt x="341" y="168"/>
                  </a:lnTo>
                  <a:lnTo>
                    <a:pt x="330" y="168"/>
                  </a:lnTo>
                  <a:lnTo>
                    <a:pt x="317" y="170"/>
                  </a:lnTo>
                  <a:lnTo>
                    <a:pt x="297" y="168"/>
                  </a:lnTo>
                  <a:lnTo>
                    <a:pt x="270" y="166"/>
                  </a:lnTo>
                  <a:lnTo>
                    <a:pt x="230" y="161"/>
                  </a:lnTo>
                  <a:lnTo>
                    <a:pt x="220" y="160"/>
                  </a:lnTo>
                  <a:lnTo>
                    <a:pt x="209" y="160"/>
                  </a:lnTo>
                  <a:lnTo>
                    <a:pt x="199" y="161"/>
                  </a:lnTo>
                  <a:lnTo>
                    <a:pt x="191" y="164"/>
                  </a:lnTo>
                  <a:lnTo>
                    <a:pt x="182" y="166"/>
                  </a:lnTo>
                  <a:lnTo>
                    <a:pt x="174" y="170"/>
                  </a:lnTo>
                  <a:lnTo>
                    <a:pt x="167" y="174"/>
                  </a:lnTo>
                  <a:lnTo>
                    <a:pt x="160" y="178"/>
                  </a:lnTo>
                  <a:lnTo>
                    <a:pt x="137" y="198"/>
                  </a:lnTo>
                  <a:lnTo>
                    <a:pt x="117" y="215"/>
                  </a:lnTo>
                  <a:lnTo>
                    <a:pt x="112" y="217"/>
                  </a:lnTo>
                  <a:lnTo>
                    <a:pt x="108" y="221"/>
                  </a:lnTo>
                  <a:lnTo>
                    <a:pt x="103" y="223"/>
                  </a:lnTo>
                  <a:lnTo>
                    <a:pt x="97" y="224"/>
                  </a:lnTo>
                  <a:lnTo>
                    <a:pt x="91" y="224"/>
                  </a:lnTo>
                  <a:lnTo>
                    <a:pt x="85" y="223"/>
                  </a:lnTo>
                  <a:lnTo>
                    <a:pt x="80" y="222"/>
                  </a:lnTo>
                  <a:lnTo>
                    <a:pt x="74" y="219"/>
                  </a:lnTo>
                  <a:lnTo>
                    <a:pt x="67" y="214"/>
                  </a:lnTo>
                  <a:lnTo>
                    <a:pt x="59" y="209"/>
                  </a:lnTo>
                  <a:lnTo>
                    <a:pt x="50" y="201"/>
                  </a:lnTo>
                  <a:lnTo>
                    <a:pt x="42" y="193"/>
                  </a:lnTo>
                  <a:lnTo>
                    <a:pt x="22" y="170"/>
                  </a:lnTo>
                  <a:lnTo>
                    <a:pt x="0" y="138"/>
                  </a:lnTo>
                  <a:lnTo>
                    <a:pt x="942" y="0"/>
                  </a:lnTo>
                  <a:lnTo>
                    <a:pt x="1057" y="98"/>
                  </a:lnTo>
                  <a:lnTo>
                    <a:pt x="1025" y="110"/>
                  </a:lnTo>
                  <a:lnTo>
                    <a:pt x="995" y="124"/>
                  </a:lnTo>
                  <a:lnTo>
                    <a:pt x="983" y="131"/>
                  </a:lnTo>
                  <a:lnTo>
                    <a:pt x="971" y="138"/>
                  </a:lnTo>
                  <a:lnTo>
                    <a:pt x="961" y="144"/>
                  </a:lnTo>
                  <a:lnTo>
                    <a:pt x="952" y="151"/>
                  </a:lnTo>
                  <a:lnTo>
                    <a:pt x="944" y="158"/>
                  </a:lnTo>
                  <a:lnTo>
                    <a:pt x="938" y="164"/>
                  </a:lnTo>
                  <a:lnTo>
                    <a:pt x="933" y="170"/>
                  </a:lnTo>
                  <a:lnTo>
                    <a:pt x="930" y="175"/>
                  </a:lnTo>
                  <a:lnTo>
                    <a:pt x="928" y="180"/>
                  </a:lnTo>
                  <a:lnTo>
                    <a:pt x="928" y="185"/>
                  </a:lnTo>
                  <a:lnTo>
                    <a:pt x="930" y="189"/>
                  </a:lnTo>
                  <a:lnTo>
                    <a:pt x="933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186"/>
            <p:cNvSpPr/>
            <p:nvPr/>
          </p:nvSpPr>
          <p:spPr>
            <a:xfrm>
              <a:off x="8192880" y="5500440"/>
              <a:ext cx="188280" cy="66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244" h="409">
                  <a:moveTo>
                    <a:pt x="933" y="193"/>
                  </a:moveTo>
                  <a:lnTo>
                    <a:pt x="971" y="223"/>
                  </a:lnTo>
                  <a:lnTo>
                    <a:pt x="1011" y="254"/>
                  </a:lnTo>
                  <a:lnTo>
                    <a:pt x="1053" y="283"/>
                  </a:lnTo>
                  <a:lnTo>
                    <a:pt x="1095" y="313"/>
                  </a:lnTo>
                  <a:lnTo>
                    <a:pt x="1137" y="341"/>
                  </a:lnTo>
                  <a:lnTo>
                    <a:pt x="1176" y="367"/>
                  </a:lnTo>
                  <a:lnTo>
                    <a:pt x="1213" y="389"/>
                  </a:lnTo>
                  <a:lnTo>
                    <a:pt x="1244" y="409"/>
                  </a:lnTo>
                  <a:lnTo>
                    <a:pt x="1065" y="401"/>
                  </a:lnTo>
                  <a:lnTo>
                    <a:pt x="1063" y="396"/>
                  </a:lnTo>
                  <a:lnTo>
                    <a:pt x="1060" y="393"/>
                  </a:lnTo>
                  <a:lnTo>
                    <a:pt x="1056" y="390"/>
                  </a:lnTo>
                  <a:lnTo>
                    <a:pt x="1051" y="389"/>
                  </a:lnTo>
                  <a:lnTo>
                    <a:pt x="1041" y="386"/>
                  </a:lnTo>
                  <a:lnTo>
                    <a:pt x="1028" y="384"/>
                  </a:lnTo>
                  <a:lnTo>
                    <a:pt x="998" y="384"/>
                  </a:lnTo>
                  <a:lnTo>
                    <a:pt x="964" y="383"/>
                  </a:lnTo>
                  <a:lnTo>
                    <a:pt x="945" y="382"/>
                  </a:lnTo>
                  <a:lnTo>
                    <a:pt x="926" y="377"/>
                  </a:lnTo>
                  <a:lnTo>
                    <a:pt x="917" y="375"/>
                  </a:lnTo>
                  <a:lnTo>
                    <a:pt x="908" y="372"/>
                  </a:lnTo>
                  <a:lnTo>
                    <a:pt x="898" y="367"/>
                  </a:lnTo>
                  <a:lnTo>
                    <a:pt x="890" y="362"/>
                  </a:lnTo>
                  <a:lnTo>
                    <a:pt x="881" y="356"/>
                  </a:lnTo>
                  <a:lnTo>
                    <a:pt x="873" y="349"/>
                  </a:lnTo>
                  <a:lnTo>
                    <a:pt x="863" y="341"/>
                  </a:lnTo>
                  <a:lnTo>
                    <a:pt x="856" y="333"/>
                  </a:lnTo>
                  <a:lnTo>
                    <a:pt x="848" y="323"/>
                  </a:lnTo>
                  <a:lnTo>
                    <a:pt x="840" y="312"/>
                  </a:lnTo>
                  <a:lnTo>
                    <a:pt x="833" y="299"/>
                  </a:lnTo>
                  <a:lnTo>
                    <a:pt x="827" y="285"/>
                  </a:lnTo>
                  <a:lnTo>
                    <a:pt x="815" y="279"/>
                  </a:lnTo>
                  <a:lnTo>
                    <a:pt x="806" y="272"/>
                  </a:lnTo>
                  <a:lnTo>
                    <a:pt x="799" y="266"/>
                  </a:lnTo>
                  <a:lnTo>
                    <a:pt x="793" y="259"/>
                  </a:lnTo>
                  <a:lnTo>
                    <a:pt x="784" y="247"/>
                  </a:lnTo>
                  <a:lnTo>
                    <a:pt x="777" y="235"/>
                  </a:lnTo>
                  <a:lnTo>
                    <a:pt x="775" y="229"/>
                  </a:lnTo>
                  <a:lnTo>
                    <a:pt x="771" y="223"/>
                  </a:lnTo>
                  <a:lnTo>
                    <a:pt x="768" y="219"/>
                  </a:lnTo>
                  <a:lnTo>
                    <a:pt x="763" y="215"/>
                  </a:lnTo>
                  <a:lnTo>
                    <a:pt x="758" y="212"/>
                  </a:lnTo>
                  <a:lnTo>
                    <a:pt x="751" y="209"/>
                  </a:lnTo>
                  <a:lnTo>
                    <a:pt x="744" y="208"/>
                  </a:lnTo>
                  <a:lnTo>
                    <a:pt x="735" y="207"/>
                  </a:lnTo>
                  <a:lnTo>
                    <a:pt x="723" y="209"/>
                  </a:lnTo>
                  <a:lnTo>
                    <a:pt x="713" y="209"/>
                  </a:lnTo>
                  <a:lnTo>
                    <a:pt x="702" y="208"/>
                  </a:lnTo>
                  <a:lnTo>
                    <a:pt x="692" y="205"/>
                  </a:lnTo>
                  <a:lnTo>
                    <a:pt x="668" y="195"/>
                  </a:lnTo>
                  <a:lnTo>
                    <a:pt x="639" y="184"/>
                  </a:lnTo>
                  <a:lnTo>
                    <a:pt x="622" y="178"/>
                  </a:lnTo>
                  <a:lnTo>
                    <a:pt x="601" y="172"/>
                  </a:lnTo>
                  <a:lnTo>
                    <a:pt x="577" y="168"/>
                  </a:lnTo>
                  <a:lnTo>
                    <a:pt x="549" y="165"/>
                  </a:lnTo>
                  <a:lnTo>
                    <a:pt x="518" y="164"/>
                  </a:lnTo>
                  <a:lnTo>
                    <a:pt x="481" y="164"/>
                  </a:lnTo>
                  <a:lnTo>
                    <a:pt x="440" y="165"/>
                  </a:lnTo>
                  <a:lnTo>
                    <a:pt x="395" y="170"/>
                  </a:lnTo>
                  <a:lnTo>
                    <a:pt x="370" y="168"/>
                  </a:lnTo>
                  <a:lnTo>
                    <a:pt x="354" y="167"/>
                  </a:lnTo>
                  <a:lnTo>
                    <a:pt x="341" y="168"/>
                  </a:lnTo>
                  <a:lnTo>
                    <a:pt x="330" y="168"/>
                  </a:lnTo>
                  <a:lnTo>
                    <a:pt x="317" y="170"/>
                  </a:lnTo>
                  <a:lnTo>
                    <a:pt x="297" y="168"/>
                  </a:lnTo>
                  <a:lnTo>
                    <a:pt x="270" y="166"/>
                  </a:lnTo>
                  <a:lnTo>
                    <a:pt x="230" y="161"/>
                  </a:lnTo>
                  <a:lnTo>
                    <a:pt x="220" y="160"/>
                  </a:lnTo>
                  <a:lnTo>
                    <a:pt x="209" y="160"/>
                  </a:lnTo>
                  <a:lnTo>
                    <a:pt x="199" y="161"/>
                  </a:lnTo>
                  <a:lnTo>
                    <a:pt x="191" y="164"/>
                  </a:lnTo>
                  <a:lnTo>
                    <a:pt x="182" y="166"/>
                  </a:lnTo>
                  <a:lnTo>
                    <a:pt x="174" y="170"/>
                  </a:lnTo>
                  <a:lnTo>
                    <a:pt x="167" y="174"/>
                  </a:lnTo>
                  <a:lnTo>
                    <a:pt x="160" y="178"/>
                  </a:lnTo>
                  <a:lnTo>
                    <a:pt x="137" y="198"/>
                  </a:lnTo>
                  <a:lnTo>
                    <a:pt x="117" y="215"/>
                  </a:lnTo>
                  <a:lnTo>
                    <a:pt x="112" y="217"/>
                  </a:lnTo>
                  <a:lnTo>
                    <a:pt x="108" y="221"/>
                  </a:lnTo>
                  <a:lnTo>
                    <a:pt x="103" y="223"/>
                  </a:lnTo>
                  <a:lnTo>
                    <a:pt x="97" y="224"/>
                  </a:lnTo>
                  <a:lnTo>
                    <a:pt x="91" y="224"/>
                  </a:lnTo>
                  <a:lnTo>
                    <a:pt x="85" y="223"/>
                  </a:lnTo>
                  <a:lnTo>
                    <a:pt x="80" y="222"/>
                  </a:lnTo>
                  <a:lnTo>
                    <a:pt x="74" y="219"/>
                  </a:lnTo>
                  <a:lnTo>
                    <a:pt x="67" y="214"/>
                  </a:lnTo>
                  <a:lnTo>
                    <a:pt x="59" y="209"/>
                  </a:lnTo>
                  <a:lnTo>
                    <a:pt x="50" y="201"/>
                  </a:lnTo>
                  <a:lnTo>
                    <a:pt x="42" y="193"/>
                  </a:lnTo>
                  <a:lnTo>
                    <a:pt x="22" y="170"/>
                  </a:lnTo>
                  <a:lnTo>
                    <a:pt x="0" y="138"/>
                  </a:lnTo>
                  <a:lnTo>
                    <a:pt x="942" y="0"/>
                  </a:lnTo>
                  <a:lnTo>
                    <a:pt x="1057" y="98"/>
                  </a:lnTo>
                  <a:lnTo>
                    <a:pt x="1025" y="110"/>
                  </a:lnTo>
                  <a:lnTo>
                    <a:pt x="995" y="124"/>
                  </a:lnTo>
                  <a:lnTo>
                    <a:pt x="983" y="131"/>
                  </a:lnTo>
                  <a:lnTo>
                    <a:pt x="971" y="138"/>
                  </a:lnTo>
                  <a:lnTo>
                    <a:pt x="961" y="144"/>
                  </a:lnTo>
                  <a:lnTo>
                    <a:pt x="952" y="151"/>
                  </a:lnTo>
                  <a:lnTo>
                    <a:pt x="944" y="158"/>
                  </a:lnTo>
                  <a:lnTo>
                    <a:pt x="938" y="164"/>
                  </a:lnTo>
                  <a:lnTo>
                    <a:pt x="933" y="170"/>
                  </a:lnTo>
                  <a:lnTo>
                    <a:pt x="930" y="175"/>
                  </a:lnTo>
                  <a:lnTo>
                    <a:pt x="928" y="180"/>
                  </a:lnTo>
                  <a:lnTo>
                    <a:pt x="928" y="185"/>
                  </a:lnTo>
                  <a:lnTo>
                    <a:pt x="930" y="189"/>
                  </a:lnTo>
                  <a:lnTo>
                    <a:pt x="933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187"/>
            <p:cNvSpPr/>
            <p:nvPr/>
          </p:nvSpPr>
          <p:spPr>
            <a:xfrm>
              <a:off x="8342640" y="5385960"/>
              <a:ext cx="87120" cy="471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73" h="294">
                  <a:moveTo>
                    <a:pt x="573" y="116"/>
                  </a:moveTo>
                  <a:lnTo>
                    <a:pt x="547" y="124"/>
                  </a:lnTo>
                  <a:lnTo>
                    <a:pt x="521" y="132"/>
                  </a:lnTo>
                  <a:lnTo>
                    <a:pt x="496" y="140"/>
                  </a:lnTo>
                  <a:lnTo>
                    <a:pt x="470" y="150"/>
                  </a:lnTo>
                  <a:lnTo>
                    <a:pt x="442" y="159"/>
                  </a:lnTo>
                  <a:lnTo>
                    <a:pt x="413" y="168"/>
                  </a:lnTo>
                  <a:lnTo>
                    <a:pt x="381" y="178"/>
                  </a:lnTo>
                  <a:lnTo>
                    <a:pt x="348" y="188"/>
                  </a:lnTo>
                  <a:lnTo>
                    <a:pt x="351" y="194"/>
                  </a:lnTo>
                  <a:lnTo>
                    <a:pt x="352" y="201"/>
                  </a:lnTo>
                  <a:lnTo>
                    <a:pt x="352" y="208"/>
                  </a:lnTo>
                  <a:lnTo>
                    <a:pt x="351" y="214"/>
                  </a:lnTo>
                  <a:lnTo>
                    <a:pt x="348" y="220"/>
                  </a:lnTo>
                  <a:lnTo>
                    <a:pt x="346" y="225"/>
                  </a:lnTo>
                  <a:lnTo>
                    <a:pt x="341" y="230"/>
                  </a:lnTo>
                  <a:lnTo>
                    <a:pt x="337" y="236"/>
                  </a:lnTo>
                  <a:lnTo>
                    <a:pt x="326" y="245"/>
                  </a:lnTo>
                  <a:lnTo>
                    <a:pt x="312" y="255"/>
                  </a:lnTo>
                  <a:lnTo>
                    <a:pt x="297" y="262"/>
                  </a:lnTo>
                  <a:lnTo>
                    <a:pt x="281" y="269"/>
                  </a:lnTo>
                  <a:lnTo>
                    <a:pt x="248" y="280"/>
                  </a:lnTo>
                  <a:lnTo>
                    <a:pt x="219" y="289"/>
                  </a:lnTo>
                  <a:lnTo>
                    <a:pt x="198" y="292"/>
                  </a:lnTo>
                  <a:lnTo>
                    <a:pt x="190" y="294"/>
                  </a:lnTo>
                  <a:lnTo>
                    <a:pt x="0" y="47"/>
                  </a:lnTo>
                  <a:lnTo>
                    <a:pt x="478" y="0"/>
                  </a:lnTo>
                  <a:lnTo>
                    <a:pt x="573" y="1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188"/>
            <p:cNvSpPr/>
            <p:nvPr/>
          </p:nvSpPr>
          <p:spPr>
            <a:xfrm>
              <a:off x="8342640" y="5385960"/>
              <a:ext cx="87120" cy="471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73" h="294">
                  <a:moveTo>
                    <a:pt x="573" y="116"/>
                  </a:moveTo>
                  <a:lnTo>
                    <a:pt x="547" y="124"/>
                  </a:lnTo>
                  <a:lnTo>
                    <a:pt x="521" y="132"/>
                  </a:lnTo>
                  <a:lnTo>
                    <a:pt x="496" y="140"/>
                  </a:lnTo>
                  <a:lnTo>
                    <a:pt x="470" y="150"/>
                  </a:lnTo>
                  <a:lnTo>
                    <a:pt x="442" y="159"/>
                  </a:lnTo>
                  <a:lnTo>
                    <a:pt x="413" y="168"/>
                  </a:lnTo>
                  <a:lnTo>
                    <a:pt x="381" y="178"/>
                  </a:lnTo>
                  <a:lnTo>
                    <a:pt x="348" y="188"/>
                  </a:lnTo>
                  <a:lnTo>
                    <a:pt x="351" y="194"/>
                  </a:lnTo>
                  <a:lnTo>
                    <a:pt x="352" y="201"/>
                  </a:lnTo>
                  <a:lnTo>
                    <a:pt x="352" y="208"/>
                  </a:lnTo>
                  <a:lnTo>
                    <a:pt x="351" y="214"/>
                  </a:lnTo>
                  <a:lnTo>
                    <a:pt x="348" y="220"/>
                  </a:lnTo>
                  <a:lnTo>
                    <a:pt x="346" y="225"/>
                  </a:lnTo>
                  <a:lnTo>
                    <a:pt x="341" y="230"/>
                  </a:lnTo>
                  <a:lnTo>
                    <a:pt x="337" y="236"/>
                  </a:lnTo>
                  <a:lnTo>
                    <a:pt x="326" y="245"/>
                  </a:lnTo>
                  <a:lnTo>
                    <a:pt x="312" y="255"/>
                  </a:lnTo>
                  <a:lnTo>
                    <a:pt x="297" y="262"/>
                  </a:lnTo>
                  <a:lnTo>
                    <a:pt x="281" y="269"/>
                  </a:lnTo>
                  <a:lnTo>
                    <a:pt x="248" y="280"/>
                  </a:lnTo>
                  <a:lnTo>
                    <a:pt x="219" y="289"/>
                  </a:lnTo>
                  <a:lnTo>
                    <a:pt x="198" y="292"/>
                  </a:lnTo>
                  <a:lnTo>
                    <a:pt x="190" y="294"/>
                  </a:lnTo>
                  <a:lnTo>
                    <a:pt x="0" y="47"/>
                  </a:lnTo>
                  <a:lnTo>
                    <a:pt x="478" y="0"/>
                  </a:lnTo>
                  <a:lnTo>
                    <a:pt x="573" y="116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189"/>
            <p:cNvSpPr/>
            <p:nvPr/>
          </p:nvSpPr>
          <p:spPr>
            <a:xfrm>
              <a:off x="8415000" y="5385240"/>
              <a:ext cx="45720" cy="20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303" h="124">
                  <a:moveTo>
                    <a:pt x="95" y="124"/>
                  </a:moveTo>
                  <a:lnTo>
                    <a:pt x="118" y="117"/>
                  </a:lnTo>
                  <a:lnTo>
                    <a:pt x="141" y="111"/>
                  </a:lnTo>
                  <a:lnTo>
                    <a:pt x="165" y="106"/>
                  </a:lnTo>
                  <a:lnTo>
                    <a:pt x="191" y="100"/>
                  </a:lnTo>
                  <a:lnTo>
                    <a:pt x="216" y="96"/>
                  </a:lnTo>
                  <a:lnTo>
                    <a:pt x="243" y="92"/>
                  </a:lnTo>
                  <a:lnTo>
                    <a:pt x="272" y="89"/>
                  </a:lnTo>
                  <a:lnTo>
                    <a:pt x="303" y="86"/>
                  </a:lnTo>
                  <a:lnTo>
                    <a:pt x="294" y="78"/>
                  </a:lnTo>
                  <a:lnTo>
                    <a:pt x="273" y="61"/>
                  </a:lnTo>
                  <a:lnTo>
                    <a:pt x="259" y="51"/>
                  </a:lnTo>
                  <a:lnTo>
                    <a:pt x="244" y="42"/>
                  </a:lnTo>
                  <a:lnTo>
                    <a:pt x="236" y="38"/>
                  </a:lnTo>
                  <a:lnTo>
                    <a:pt x="228" y="35"/>
                  </a:lnTo>
                  <a:lnTo>
                    <a:pt x="219" y="33"/>
                  </a:lnTo>
                  <a:lnTo>
                    <a:pt x="210" y="31"/>
                  </a:lnTo>
                  <a:lnTo>
                    <a:pt x="185" y="28"/>
                  </a:lnTo>
                  <a:lnTo>
                    <a:pt x="158" y="24"/>
                  </a:lnTo>
                  <a:lnTo>
                    <a:pt x="133" y="19"/>
                  </a:lnTo>
                  <a:lnTo>
                    <a:pt x="111" y="14"/>
                  </a:lnTo>
                  <a:lnTo>
                    <a:pt x="76" y="3"/>
                  </a:lnTo>
                  <a:lnTo>
                    <a:pt x="63" y="0"/>
                  </a:lnTo>
                  <a:lnTo>
                    <a:pt x="0" y="8"/>
                  </a:lnTo>
                  <a:lnTo>
                    <a:pt x="95" y="12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190"/>
            <p:cNvSpPr/>
            <p:nvPr/>
          </p:nvSpPr>
          <p:spPr>
            <a:xfrm>
              <a:off x="8415000" y="5385240"/>
              <a:ext cx="45720" cy="20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303" h="124">
                  <a:moveTo>
                    <a:pt x="95" y="124"/>
                  </a:moveTo>
                  <a:lnTo>
                    <a:pt x="118" y="117"/>
                  </a:lnTo>
                  <a:lnTo>
                    <a:pt x="141" y="111"/>
                  </a:lnTo>
                  <a:lnTo>
                    <a:pt x="165" y="106"/>
                  </a:lnTo>
                  <a:lnTo>
                    <a:pt x="191" y="100"/>
                  </a:lnTo>
                  <a:lnTo>
                    <a:pt x="216" y="96"/>
                  </a:lnTo>
                  <a:lnTo>
                    <a:pt x="243" y="92"/>
                  </a:lnTo>
                  <a:lnTo>
                    <a:pt x="272" y="89"/>
                  </a:lnTo>
                  <a:lnTo>
                    <a:pt x="303" y="86"/>
                  </a:lnTo>
                  <a:lnTo>
                    <a:pt x="294" y="78"/>
                  </a:lnTo>
                  <a:lnTo>
                    <a:pt x="273" y="61"/>
                  </a:lnTo>
                  <a:lnTo>
                    <a:pt x="259" y="51"/>
                  </a:lnTo>
                  <a:lnTo>
                    <a:pt x="244" y="42"/>
                  </a:lnTo>
                  <a:lnTo>
                    <a:pt x="236" y="38"/>
                  </a:lnTo>
                  <a:lnTo>
                    <a:pt x="228" y="35"/>
                  </a:lnTo>
                  <a:lnTo>
                    <a:pt x="219" y="33"/>
                  </a:lnTo>
                  <a:lnTo>
                    <a:pt x="210" y="31"/>
                  </a:lnTo>
                  <a:lnTo>
                    <a:pt x="185" y="28"/>
                  </a:lnTo>
                  <a:lnTo>
                    <a:pt x="158" y="24"/>
                  </a:lnTo>
                  <a:lnTo>
                    <a:pt x="133" y="19"/>
                  </a:lnTo>
                  <a:lnTo>
                    <a:pt x="111" y="14"/>
                  </a:lnTo>
                  <a:lnTo>
                    <a:pt x="76" y="3"/>
                  </a:lnTo>
                  <a:lnTo>
                    <a:pt x="63" y="0"/>
                  </a:lnTo>
                  <a:lnTo>
                    <a:pt x="0" y="8"/>
                  </a:lnTo>
                  <a:lnTo>
                    <a:pt x="95" y="124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4763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3" name="Group 191"/>
            <p:cNvGrpSpPr/>
            <p:nvPr/>
          </p:nvGrpSpPr>
          <p:grpSpPr>
            <a:xfrm>
              <a:off x="6113520" y="6050160"/>
              <a:ext cx="264240" cy="212760"/>
              <a:chOff x="6113520" y="6050160"/>
              <a:chExt cx="264240" cy="212760"/>
            </a:xfrm>
          </p:grpSpPr>
          <p:sp>
            <p:nvSpPr>
              <p:cNvPr id="574" name="Freeform 192"/>
              <p:cNvSpPr/>
              <p:nvPr/>
            </p:nvSpPr>
            <p:spPr>
              <a:xfrm>
                <a:off x="6292440" y="6196320"/>
                <a:ext cx="61560" cy="26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406" h="162">
                    <a:moveTo>
                      <a:pt x="372" y="130"/>
                    </a:moveTo>
                    <a:lnTo>
                      <a:pt x="364" y="136"/>
                    </a:lnTo>
                    <a:lnTo>
                      <a:pt x="353" y="141"/>
                    </a:lnTo>
                    <a:lnTo>
                      <a:pt x="340" y="145"/>
                    </a:lnTo>
                    <a:lnTo>
                      <a:pt x="326" y="149"/>
                    </a:lnTo>
                    <a:lnTo>
                      <a:pt x="311" y="152"/>
                    </a:lnTo>
                    <a:lnTo>
                      <a:pt x="295" y="156"/>
                    </a:lnTo>
                    <a:lnTo>
                      <a:pt x="278" y="158"/>
                    </a:lnTo>
                    <a:lnTo>
                      <a:pt x="262" y="160"/>
                    </a:lnTo>
                    <a:lnTo>
                      <a:pt x="246" y="162"/>
                    </a:lnTo>
                    <a:lnTo>
                      <a:pt x="230" y="162"/>
                    </a:lnTo>
                    <a:lnTo>
                      <a:pt x="215" y="162"/>
                    </a:lnTo>
                    <a:lnTo>
                      <a:pt x="202" y="160"/>
                    </a:lnTo>
                    <a:lnTo>
                      <a:pt x="191" y="159"/>
                    </a:lnTo>
                    <a:lnTo>
                      <a:pt x="181" y="156"/>
                    </a:lnTo>
                    <a:lnTo>
                      <a:pt x="178" y="155"/>
                    </a:lnTo>
                    <a:lnTo>
                      <a:pt x="174" y="152"/>
                    </a:lnTo>
                    <a:lnTo>
                      <a:pt x="172" y="150"/>
                    </a:lnTo>
                    <a:lnTo>
                      <a:pt x="171" y="148"/>
                    </a:lnTo>
                    <a:lnTo>
                      <a:pt x="167" y="141"/>
                    </a:lnTo>
                    <a:lnTo>
                      <a:pt x="163" y="135"/>
                    </a:lnTo>
                    <a:lnTo>
                      <a:pt x="158" y="129"/>
                    </a:lnTo>
                    <a:lnTo>
                      <a:pt x="153" y="124"/>
                    </a:lnTo>
                    <a:lnTo>
                      <a:pt x="142" y="115"/>
                    </a:lnTo>
                    <a:lnTo>
                      <a:pt x="130" y="107"/>
                    </a:lnTo>
                    <a:lnTo>
                      <a:pt x="116" y="101"/>
                    </a:lnTo>
                    <a:lnTo>
                      <a:pt x="102" y="96"/>
                    </a:lnTo>
                    <a:lnTo>
                      <a:pt x="87" y="92"/>
                    </a:lnTo>
                    <a:lnTo>
                      <a:pt x="73" y="89"/>
                    </a:lnTo>
                    <a:lnTo>
                      <a:pt x="46" y="85"/>
                    </a:lnTo>
                    <a:lnTo>
                      <a:pt x="22" y="83"/>
                    </a:lnTo>
                    <a:lnTo>
                      <a:pt x="6" y="83"/>
                    </a:lnTo>
                    <a:lnTo>
                      <a:pt x="0" y="85"/>
                    </a:lnTo>
                    <a:lnTo>
                      <a:pt x="79" y="6"/>
                    </a:lnTo>
                    <a:lnTo>
                      <a:pt x="93" y="4"/>
                    </a:lnTo>
                    <a:lnTo>
                      <a:pt x="107" y="4"/>
                    </a:lnTo>
                    <a:lnTo>
                      <a:pt x="121" y="4"/>
                    </a:lnTo>
                    <a:lnTo>
                      <a:pt x="133" y="5"/>
                    </a:lnTo>
                    <a:lnTo>
                      <a:pt x="159" y="9"/>
                    </a:lnTo>
                    <a:lnTo>
                      <a:pt x="185" y="13"/>
                    </a:lnTo>
                    <a:lnTo>
                      <a:pt x="196" y="14"/>
                    </a:lnTo>
                    <a:lnTo>
                      <a:pt x="209" y="17"/>
                    </a:lnTo>
                    <a:lnTo>
                      <a:pt x="221" y="18"/>
                    </a:lnTo>
                    <a:lnTo>
                      <a:pt x="233" y="18"/>
                    </a:lnTo>
                    <a:lnTo>
                      <a:pt x="244" y="17"/>
                    </a:lnTo>
                    <a:lnTo>
                      <a:pt x="256" y="14"/>
                    </a:lnTo>
                    <a:lnTo>
                      <a:pt x="268" y="11"/>
                    </a:lnTo>
                    <a:lnTo>
                      <a:pt x="279" y="6"/>
                    </a:lnTo>
                    <a:lnTo>
                      <a:pt x="285" y="4"/>
                    </a:lnTo>
                    <a:lnTo>
                      <a:pt x="292" y="3"/>
                    </a:lnTo>
                    <a:lnTo>
                      <a:pt x="298" y="2"/>
                    </a:lnTo>
                    <a:lnTo>
                      <a:pt x="305" y="0"/>
                    </a:lnTo>
                    <a:lnTo>
                      <a:pt x="319" y="2"/>
                    </a:lnTo>
                    <a:lnTo>
                      <a:pt x="333" y="5"/>
                    </a:lnTo>
                    <a:lnTo>
                      <a:pt x="347" y="10"/>
                    </a:lnTo>
                    <a:lnTo>
                      <a:pt x="360" y="17"/>
                    </a:lnTo>
                    <a:lnTo>
                      <a:pt x="373" y="25"/>
                    </a:lnTo>
                    <a:lnTo>
                      <a:pt x="383" y="34"/>
                    </a:lnTo>
                    <a:lnTo>
                      <a:pt x="393" y="45"/>
                    </a:lnTo>
                    <a:lnTo>
                      <a:pt x="400" y="57"/>
                    </a:lnTo>
                    <a:lnTo>
                      <a:pt x="402" y="62"/>
                    </a:lnTo>
                    <a:lnTo>
                      <a:pt x="403" y="69"/>
                    </a:lnTo>
                    <a:lnTo>
                      <a:pt x="404" y="75"/>
                    </a:lnTo>
                    <a:lnTo>
                      <a:pt x="406" y="81"/>
                    </a:lnTo>
                    <a:lnTo>
                      <a:pt x="404" y="88"/>
                    </a:lnTo>
                    <a:lnTo>
                      <a:pt x="403" y="94"/>
                    </a:lnTo>
                    <a:lnTo>
                      <a:pt x="401" y="100"/>
                    </a:lnTo>
                    <a:lnTo>
                      <a:pt x="397" y="107"/>
                    </a:lnTo>
                    <a:lnTo>
                      <a:pt x="393" y="113"/>
                    </a:lnTo>
                    <a:lnTo>
                      <a:pt x="387" y="118"/>
                    </a:lnTo>
                    <a:lnTo>
                      <a:pt x="380" y="124"/>
                    </a:lnTo>
                    <a:lnTo>
                      <a:pt x="372" y="1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193"/>
              <p:cNvSpPr/>
              <p:nvPr/>
            </p:nvSpPr>
            <p:spPr>
              <a:xfrm>
                <a:off x="6278400" y="6166080"/>
                <a:ext cx="99360" cy="968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655" h="595">
                    <a:moveTo>
                      <a:pt x="9" y="419"/>
                    </a:moveTo>
                    <a:lnTo>
                      <a:pt x="8" y="401"/>
                    </a:lnTo>
                    <a:lnTo>
                      <a:pt x="9" y="386"/>
                    </a:lnTo>
                    <a:lnTo>
                      <a:pt x="10" y="371"/>
                    </a:lnTo>
                    <a:lnTo>
                      <a:pt x="13" y="358"/>
                    </a:lnTo>
                    <a:lnTo>
                      <a:pt x="17" y="345"/>
                    </a:lnTo>
                    <a:lnTo>
                      <a:pt x="22" y="333"/>
                    </a:lnTo>
                    <a:lnTo>
                      <a:pt x="28" y="322"/>
                    </a:lnTo>
                    <a:lnTo>
                      <a:pt x="34" y="312"/>
                    </a:lnTo>
                    <a:lnTo>
                      <a:pt x="42" y="303"/>
                    </a:lnTo>
                    <a:lnTo>
                      <a:pt x="49" y="294"/>
                    </a:lnTo>
                    <a:lnTo>
                      <a:pt x="58" y="285"/>
                    </a:lnTo>
                    <a:lnTo>
                      <a:pt x="68" y="277"/>
                    </a:lnTo>
                    <a:lnTo>
                      <a:pt x="87" y="263"/>
                    </a:lnTo>
                    <a:lnTo>
                      <a:pt x="107" y="250"/>
                    </a:lnTo>
                    <a:lnTo>
                      <a:pt x="152" y="226"/>
                    </a:lnTo>
                    <a:lnTo>
                      <a:pt x="194" y="199"/>
                    </a:lnTo>
                    <a:lnTo>
                      <a:pt x="204" y="192"/>
                    </a:lnTo>
                    <a:lnTo>
                      <a:pt x="214" y="184"/>
                    </a:lnTo>
                    <a:lnTo>
                      <a:pt x="222" y="176"/>
                    </a:lnTo>
                    <a:lnTo>
                      <a:pt x="230" y="167"/>
                    </a:lnTo>
                    <a:lnTo>
                      <a:pt x="238" y="158"/>
                    </a:lnTo>
                    <a:lnTo>
                      <a:pt x="245" y="148"/>
                    </a:lnTo>
                    <a:lnTo>
                      <a:pt x="251" y="137"/>
                    </a:lnTo>
                    <a:lnTo>
                      <a:pt x="257" y="124"/>
                    </a:lnTo>
                    <a:lnTo>
                      <a:pt x="267" y="97"/>
                    </a:lnTo>
                    <a:lnTo>
                      <a:pt x="277" y="75"/>
                    </a:lnTo>
                    <a:lnTo>
                      <a:pt x="286" y="56"/>
                    </a:lnTo>
                    <a:lnTo>
                      <a:pt x="294" y="41"/>
                    </a:lnTo>
                    <a:lnTo>
                      <a:pt x="302" y="30"/>
                    </a:lnTo>
                    <a:lnTo>
                      <a:pt x="311" y="21"/>
                    </a:lnTo>
                    <a:lnTo>
                      <a:pt x="319" y="14"/>
                    </a:lnTo>
                    <a:lnTo>
                      <a:pt x="329" y="10"/>
                    </a:lnTo>
                    <a:lnTo>
                      <a:pt x="340" y="7"/>
                    </a:lnTo>
                    <a:lnTo>
                      <a:pt x="351" y="5"/>
                    </a:lnTo>
                    <a:lnTo>
                      <a:pt x="365" y="5"/>
                    </a:lnTo>
                    <a:lnTo>
                      <a:pt x="382" y="4"/>
                    </a:lnTo>
                    <a:lnTo>
                      <a:pt x="421" y="4"/>
                    </a:lnTo>
                    <a:lnTo>
                      <a:pt x="473" y="0"/>
                    </a:lnTo>
                    <a:lnTo>
                      <a:pt x="481" y="2"/>
                    </a:lnTo>
                    <a:lnTo>
                      <a:pt x="492" y="5"/>
                    </a:lnTo>
                    <a:lnTo>
                      <a:pt x="501" y="10"/>
                    </a:lnTo>
                    <a:lnTo>
                      <a:pt x="513" y="16"/>
                    </a:lnTo>
                    <a:lnTo>
                      <a:pt x="535" y="31"/>
                    </a:lnTo>
                    <a:lnTo>
                      <a:pt x="557" y="49"/>
                    </a:lnTo>
                    <a:lnTo>
                      <a:pt x="580" y="68"/>
                    </a:lnTo>
                    <a:lnTo>
                      <a:pt x="603" y="86"/>
                    </a:lnTo>
                    <a:lnTo>
                      <a:pt x="613" y="94"/>
                    </a:lnTo>
                    <a:lnTo>
                      <a:pt x="624" y="101"/>
                    </a:lnTo>
                    <a:lnTo>
                      <a:pt x="633" y="107"/>
                    </a:lnTo>
                    <a:lnTo>
                      <a:pt x="642" y="110"/>
                    </a:lnTo>
                    <a:lnTo>
                      <a:pt x="647" y="113"/>
                    </a:lnTo>
                    <a:lnTo>
                      <a:pt x="649" y="115"/>
                    </a:lnTo>
                    <a:lnTo>
                      <a:pt x="652" y="118"/>
                    </a:lnTo>
                    <a:lnTo>
                      <a:pt x="654" y="123"/>
                    </a:lnTo>
                    <a:lnTo>
                      <a:pt x="654" y="129"/>
                    </a:lnTo>
                    <a:lnTo>
                      <a:pt x="655" y="135"/>
                    </a:lnTo>
                    <a:lnTo>
                      <a:pt x="654" y="141"/>
                    </a:lnTo>
                    <a:lnTo>
                      <a:pt x="653" y="149"/>
                    </a:lnTo>
                    <a:lnTo>
                      <a:pt x="649" y="164"/>
                    </a:lnTo>
                    <a:lnTo>
                      <a:pt x="642" y="181"/>
                    </a:lnTo>
                    <a:lnTo>
                      <a:pt x="634" y="201"/>
                    </a:lnTo>
                    <a:lnTo>
                      <a:pt x="624" y="221"/>
                    </a:lnTo>
                    <a:lnTo>
                      <a:pt x="611" y="241"/>
                    </a:lnTo>
                    <a:lnTo>
                      <a:pt x="597" y="261"/>
                    </a:lnTo>
                    <a:lnTo>
                      <a:pt x="580" y="281"/>
                    </a:lnTo>
                    <a:lnTo>
                      <a:pt x="564" y="299"/>
                    </a:lnTo>
                    <a:lnTo>
                      <a:pt x="545" y="317"/>
                    </a:lnTo>
                    <a:lnTo>
                      <a:pt x="527" y="332"/>
                    </a:lnTo>
                    <a:lnTo>
                      <a:pt x="517" y="339"/>
                    </a:lnTo>
                    <a:lnTo>
                      <a:pt x="507" y="345"/>
                    </a:lnTo>
                    <a:lnTo>
                      <a:pt x="497" y="351"/>
                    </a:lnTo>
                    <a:lnTo>
                      <a:pt x="487" y="355"/>
                    </a:lnTo>
                    <a:lnTo>
                      <a:pt x="467" y="362"/>
                    </a:lnTo>
                    <a:lnTo>
                      <a:pt x="446" y="369"/>
                    </a:lnTo>
                    <a:lnTo>
                      <a:pt x="424" y="375"/>
                    </a:lnTo>
                    <a:lnTo>
                      <a:pt x="403" y="380"/>
                    </a:lnTo>
                    <a:lnTo>
                      <a:pt x="379" y="385"/>
                    </a:lnTo>
                    <a:lnTo>
                      <a:pt x="357" y="389"/>
                    </a:lnTo>
                    <a:lnTo>
                      <a:pt x="335" y="395"/>
                    </a:lnTo>
                    <a:lnTo>
                      <a:pt x="313" y="402"/>
                    </a:lnTo>
                    <a:lnTo>
                      <a:pt x="291" y="410"/>
                    </a:lnTo>
                    <a:lnTo>
                      <a:pt x="268" y="421"/>
                    </a:lnTo>
                    <a:lnTo>
                      <a:pt x="257" y="427"/>
                    </a:lnTo>
                    <a:lnTo>
                      <a:pt x="246" y="433"/>
                    </a:lnTo>
                    <a:lnTo>
                      <a:pt x="236" y="440"/>
                    </a:lnTo>
                    <a:lnTo>
                      <a:pt x="225" y="448"/>
                    </a:lnTo>
                    <a:lnTo>
                      <a:pt x="215" y="457"/>
                    </a:lnTo>
                    <a:lnTo>
                      <a:pt x="204" y="466"/>
                    </a:lnTo>
                    <a:lnTo>
                      <a:pt x="195" y="476"/>
                    </a:lnTo>
                    <a:lnTo>
                      <a:pt x="184" y="487"/>
                    </a:lnTo>
                    <a:lnTo>
                      <a:pt x="175" y="499"/>
                    </a:lnTo>
                    <a:lnTo>
                      <a:pt x="166" y="513"/>
                    </a:lnTo>
                    <a:lnTo>
                      <a:pt x="156" y="527"/>
                    </a:lnTo>
                    <a:lnTo>
                      <a:pt x="147" y="542"/>
                    </a:lnTo>
                    <a:lnTo>
                      <a:pt x="142" y="552"/>
                    </a:lnTo>
                    <a:lnTo>
                      <a:pt x="136" y="559"/>
                    </a:lnTo>
                    <a:lnTo>
                      <a:pt x="131" y="567"/>
                    </a:lnTo>
                    <a:lnTo>
                      <a:pt x="125" y="573"/>
                    </a:lnTo>
                    <a:lnTo>
                      <a:pt x="118" y="579"/>
                    </a:lnTo>
                    <a:lnTo>
                      <a:pt x="111" y="583"/>
                    </a:lnTo>
                    <a:lnTo>
                      <a:pt x="104" y="587"/>
                    </a:lnTo>
                    <a:lnTo>
                      <a:pt x="97" y="590"/>
                    </a:lnTo>
                    <a:lnTo>
                      <a:pt x="90" y="593"/>
                    </a:lnTo>
                    <a:lnTo>
                      <a:pt x="83" y="594"/>
                    </a:lnTo>
                    <a:lnTo>
                      <a:pt x="76" y="595"/>
                    </a:lnTo>
                    <a:lnTo>
                      <a:pt x="69" y="595"/>
                    </a:lnTo>
                    <a:lnTo>
                      <a:pt x="62" y="594"/>
                    </a:lnTo>
                    <a:lnTo>
                      <a:pt x="55" y="593"/>
                    </a:lnTo>
                    <a:lnTo>
                      <a:pt x="48" y="589"/>
                    </a:lnTo>
                    <a:lnTo>
                      <a:pt x="41" y="587"/>
                    </a:lnTo>
                    <a:lnTo>
                      <a:pt x="35" y="582"/>
                    </a:lnTo>
                    <a:lnTo>
                      <a:pt x="29" y="577"/>
                    </a:lnTo>
                    <a:lnTo>
                      <a:pt x="23" y="572"/>
                    </a:lnTo>
                    <a:lnTo>
                      <a:pt x="18" y="565"/>
                    </a:lnTo>
                    <a:lnTo>
                      <a:pt x="14" y="558"/>
                    </a:lnTo>
                    <a:lnTo>
                      <a:pt x="10" y="548"/>
                    </a:lnTo>
                    <a:lnTo>
                      <a:pt x="7" y="540"/>
                    </a:lnTo>
                    <a:lnTo>
                      <a:pt x="3" y="530"/>
                    </a:lnTo>
                    <a:lnTo>
                      <a:pt x="1" y="519"/>
                    </a:lnTo>
                    <a:lnTo>
                      <a:pt x="0" y="507"/>
                    </a:lnTo>
                    <a:lnTo>
                      <a:pt x="0" y="494"/>
                    </a:lnTo>
                    <a:lnTo>
                      <a:pt x="0" y="480"/>
                    </a:lnTo>
                    <a:lnTo>
                      <a:pt x="0" y="466"/>
                    </a:lnTo>
                    <a:lnTo>
                      <a:pt x="2" y="451"/>
                    </a:lnTo>
                    <a:lnTo>
                      <a:pt x="4" y="435"/>
                    </a:lnTo>
                    <a:lnTo>
                      <a:pt x="9" y="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194"/>
              <p:cNvSpPr/>
              <p:nvPr/>
            </p:nvSpPr>
            <p:spPr>
              <a:xfrm>
                <a:off x="6278400" y="6166080"/>
                <a:ext cx="99360" cy="968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655" h="595">
                    <a:moveTo>
                      <a:pt x="9" y="419"/>
                    </a:moveTo>
                    <a:lnTo>
                      <a:pt x="8" y="401"/>
                    </a:lnTo>
                    <a:lnTo>
                      <a:pt x="9" y="386"/>
                    </a:lnTo>
                    <a:lnTo>
                      <a:pt x="10" y="371"/>
                    </a:lnTo>
                    <a:lnTo>
                      <a:pt x="13" y="358"/>
                    </a:lnTo>
                    <a:lnTo>
                      <a:pt x="17" y="345"/>
                    </a:lnTo>
                    <a:lnTo>
                      <a:pt x="22" y="333"/>
                    </a:lnTo>
                    <a:lnTo>
                      <a:pt x="28" y="322"/>
                    </a:lnTo>
                    <a:lnTo>
                      <a:pt x="34" y="312"/>
                    </a:lnTo>
                    <a:lnTo>
                      <a:pt x="42" y="303"/>
                    </a:lnTo>
                    <a:lnTo>
                      <a:pt x="49" y="294"/>
                    </a:lnTo>
                    <a:lnTo>
                      <a:pt x="58" y="285"/>
                    </a:lnTo>
                    <a:lnTo>
                      <a:pt x="68" y="277"/>
                    </a:lnTo>
                    <a:lnTo>
                      <a:pt x="87" y="263"/>
                    </a:lnTo>
                    <a:lnTo>
                      <a:pt x="107" y="250"/>
                    </a:lnTo>
                    <a:lnTo>
                      <a:pt x="152" y="226"/>
                    </a:lnTo>
                    <a:lnTo>
                      <a:pt x="194" y="199"/>
                    </a:lnTo>
                    <a:lnTo>
                      <a:pt x="204" y="192"/>
                    </a:lnTo>
                    <a:lnTo>
                      <a:pt x="214" y="184"/>
                    </a:lnTo>
                    <a:lnTo>
                      <a:pt x="222" y="176"/>
                    </a:lnTo>
                    <a:lnTo>
                      <a:pt x="230" y="167"/>
                    </a:lnTo>
                    <a:lnTo>
                      <a:pt x="238" y="158"/>
                    </a:lnTo>
                    <a:lnTo>
                      <a:pt x="245" y="148"/>
                    </a:lnTo>
                    <a:lnTo>
                      <a:pt x="251" y="137"/>
                    </a:lnTo>
                    <a:lnTo>
                      <a:pt x="257" y="124"/>
                    </a:lnTo>
                    <a:lnTo>
                      <a:pt x="267" y="97"/>
                    </a:lnTo>
                    <a:lnTo>
                      <a:pt x="277" y="75"/>
                    </a:lnTo>
                    <a:lnTo>
                      <a:pt x="286" y="56"/>
                    </a:lnTo>
                    <a:lnTo>
                      <a:pt x="294" y="41"/>
                    </a:lnTo>
                    <a:lnTo>
                      <a:pt x="302" y="30"/>
                    </a:lnTo>
                    <a:lnTo>
                      <a:pt x="311" y="21"/>
                    </a:lnTo>
                    <a:lnTo>
                      <a:pt x="319" y="14"/>
                    </a:lnTo>
                    <a:lnTo>
                      <a:pt x="329" y="10"/>
                    </a:lnTo>
                    <a:lnTo>
                      <a:pt x="340" y="7"/>
                    </a:lnTo>
                    <a:lnTo>
                      <a:pt x="351" y="5"/>
                    </a:lnTo>
                    <a:lnTo>
                      <a:pt x="365" y="5"/>
                    </a:lnTo>
                    <a:lnTo>
                      <a:pt x="382" y="4"/>
                    </a:lnTo>
                    <a:lnTo>
                      <a:pt x="421" y="4"/>
                    </a:lnTo>
                    <a:lnTo>
                      <a:pt x="473" y="0"/>
                    </a:lnTo>
                    <a:lnTo>
                      <a:pt x="481" y="2"/>
                    </a:lnTo>
                    <a:lnTo>
                      <a:pt x="492" y="5"/>
                    </a:lnTo>
                    <a:lnTo>
                      <a:pt x="501" y="10"/>
                    </a:lnTo>
                    <a:lnTo>
                      <a:pt x="513" y="16"/>
                    </a:lnTo>
                    <a:lnTo>
                      <a:pt x="535" y="31"/>
                    </a:lnTo>
                    <a:lnTo>
                      <a:pt x="557" y="49"/>
                    </a:lnTo>
                    <a:lnTo>
                      <a:pt x="580" y="68"/>
                    </a:lnTo>
                    <a:lnTo>
                      <a:pt x="603" y="86"/>
                    </a:lnTo>
                    <a:lnTo>
                      <a:pt x="613" y="94"/>
                    </a:lnTo>
                    <a:lnTo>
                      <a:pt x="624" y="101"/>
                    </a:lnTo>
                    <a:lnTo>
                      <a:pt x="633" y="107"/>
                    </a:lnTo>
                    <a:lnTo>
                      <a:pt x="642" y="110"/>
                    </a:lnTo>
                    <a:lnTo>
                      <a:pt x="647" y="113"/>
                    </a:lnTo>
                    <a:lnTo>
                      <a:pt x="649" y="115"/>
                    </a:lnTo>
                    <a:lnTo>
                      <a:pt x="652" y="118"/>
                    </a:lnTo>
                    <a:lnTo>
                      <a:pt x="654" y="123"/>
                    </a:lnTo>
                    <a:lnTo>
                      <a:pt x="654" y="129"/>
                    </a:lnTo>
                    <a:lnTo>
                      <a:pt x="655" y="135"/>
                    </a:lnTo>
                    <a:lnTo>
                      <a:pt x="654" y="141"/>
                    </a:lnTo>
                    <a:lnTo>
                      <a:pt x="653" y="149"/>
                    </a:lnTo>
                    <a:lnTo>
                      <a:pt x="649" y="164"/>
                    </a:lnTo>
                    <a:lnTo>
                      <a:pt x="642" y="181"/>
                    </a:lnTo>
                    <a:lnTo>
                      <a:pt x="634" y="201"/>
                    </a:lnTo>
                    <a:lnTo>
                      <a:pt x="624" y="221"/>
                    </a:lnTo>
                    <a:lnTo>
                      <a:pt x="611" y="241"/>
                    </a:lnTo>
                    <a:lnTo>
                      <a:pt x="597" y="261"/>
                    </a:lnTo>
                    <a:lnTo>
                      <a:pt x="580" y="281"/>
                    </a:lnTo>
                    <a:lnTo>
                      <a:pt x="564" y="299"/>
                    </a:lnTo>
                    <a:lnTo>
                      <a:pt x="545" y="317"/>
                    </a:lnTo>
                    <a:lnTo>
                      <a:pt x="527" y="332"/>
                    </a:lnTo>
                    <a:lnTo>
                      <a:pt x="517" y="339"/>
                    </a:lnTo>
                    <a:lnTo>
                      <a:pt x="507" y="345"/>
                    </a:lnTo>
                    <a:lnTo>
                      <a:pt x="497" y="351"/>
                    </a:lnTo>
                    <a:lnTo>
                      <a:pt x="487" y="355"/>
                    </a:lnTo>
                    <a:lnTo>
                      <a:pt x="467" y="362"/>
                    </a:lnTo>
                    <a:lnTo>
                      <a:pt x="446" y="369"/>
                    </a:lnTo>
                    <a:lnTo>
                      <a:pt x="424" y="375"/>
                    </a:lnTo>
                    <a:lnTo>
                      <a:pt x="403" y="380"/>
                    </a:lnTo>
                    <a:lnTo>
                      <a:pt x="379" y="385"/>
                    </a:lnTo>
                    <a:lnTo>
                      <a:pt x="357" y="389"/>
                    </a:lnTo>
                    <a:lnTo>
                      <a:pt x="335" y="395"/>
                    </a:lnTo>
                    <a:lnTo>
                      <a:pt x="313" y="402"/>
                    </a:lnTo>
                    <a:lnTo>
                      <a:pt x="291" y="410"/>
                    </a:lnTo>
                    <a:lnTo>
                      <a:pt x="268" y="421"/>
                    </a:lnTo>
                    <a:lnTo>
                      <a:pt x="257" y="427"/>
                    </a:lnTo>
                    <a:lnTo>
                      <a:pt x="246" y="433"/>
                    </a:lnTo>
                    <a:lnTo>
                      <a:pt x="236" y="440"/>
                    </a:lnTo>
                    <a:lnTo>
                      <a:pt x="225" y="448"/>
                    </a:lnTo>
                    <a:lnTo>
                      <a:pt x="215" y="457"/>
                    </a:lnTo>
                    <a:lnTo>
                      <a:pt x="204" y="466"/>
                    </a:lnTo>
                    <a:lnTo>
                      <a:pt x="195" y="476"/>
                    </a:lnTo>
                    <a:lnTo>
                      <a:pt x="184" y="487"/>
                    </a:lnTo>
                    <a:lnTo>
                      <a:pt x="175" y="499"/>
                    </a:lnTo>
                    <a:lnTo>
                      <a:pt x="166" y="513"/>
                    </a:lnTo>
                    <a:lnTo>
                      <a:pt x="156" y="527"/>
                    </a:lnTo>
                    <a:lnTo>
                      <a:pt x="147" y="542"/>
                    </a:lnTo>
                    <a:lnTo>
                      <a:pt x="142" y="552"/>
                    </a:lnTo>
                    <a:lnTo>
                      <a:pt x="136" y="559"/>
                    </a:lnTo>
                    <a:lnTo>
                      <a:pt x="131" y="567"/>
                    </a:lnTo>
                    <a:lnTo>
                      <a:pt x="125" y="573"/>
                    </a:lnTo>
                    <a:lnTo>
                      <a:pt x="118" y="579"/>
                    </a:lnTo>
                    <a:lnTo>
                      <a:pt x="111" y="583"/>
                    </a:lnTo>
                    <a:lnTo>
                      <a:pt x="104" y="587"/>
                    </a:lnTo>
                    <a:lnTo>
                      <a:pt x="97" y="590"/>
                    </a:lnTo>
                    <a:lnTo>
                      <a:pt x="90" y="593"/>
                    </a:lnTo>
                    <a:lnTo>
                      <a:pt x="83" y="594"/>
                    </a:lnTo>
                    <a:lnTo>
                      <a:pt x="76" y="595"/>
                    </a:lnTo>
                    <a:lnTo>
                      <a:pt x="69" y="595"/>
                    </a:lnTo>
                    <a:lnTo>
                      <a:pt x="62" y="594"/>
                    </a:lnTo>
                    <a:lnTo>
                      <a:pt x="55" y="593"/>
                    </a:lnTo>
                    <a:lnTo>
                      <a:pt x="48" y="589"/>
                    </a:lnTo>
                    <a:lnTo>
                      <a:pt x="41" y="587"/>
                    </a:lnTo>
                    <a:lnTo>
                      <a:pt x="35" y="582"/>
                    </a:lnTo>
                    <a:lnTo>
                      <a:pt x="29" y="577"/>
                    </a:lnTo>
                    <a:lnTo>
                      <a:pt x="23" y="572"/>
                    </a:lnTo>
                    <a:lnTo>
                      <a:pt x="18" y="565"/>
                    </a:lnTo>
                    <a:lnTo>
                      <a:pt x="14" y="558"/>
                    </a:lnTo>
                    <a:lnTo>
                      <a:pt x="10" y="548"/>
                    </a:lnTo>
                    <a:lnTo>
                      <a:pt x="7" y="540"/>
                    </a:lnTo>
                    <a:lnTo>
                      <a:pt x="3" y="530"/>
                    </a:lnTo>
                    <a:lnTo>
                      <a:pt x="1" y="519"/>
                    </a:lnTo>
                    <a:lnTo>
                      <a:pt x="0" y="507"/>
                    </a:lnTo>
                    <a:lnTo>
                      <a:pt x="0" y="494"/>
                    </a:lnTo>
                    <a:lnTo>
                      <a:pt x="0" y="480"/>
                    </a:lnTo>
                    <a:lnTo>
                      <a:pt x="0" y="466"/>
                    </a:lnTo>
                    <a:lnTo>
                      <a:pt x="2" y="451"/>
                    </a:lnTo>
                    <a:lnTo>
                      <a:pt x="4" y="435"/>
                    </a:lnTo>
                    <a:lnTo>
                      <a:pt x="9" y="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195"/>
              <p:cNvSpPr/>
              <p:nvPr/>
            </p:nvSpPr>
            <p:spPr>
              <a:xfrm>
                <a:off x="6292440" y="6107400"/>
                <a:ext cx="61560" cy="248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06" h="160">
                    <a:moveTo>
                      <a:pt x="372" y="127"/>
                    </a:moveTo>
                    <a:lnTo>
                      <a:pt x="364" y="132"/>
                    </a:lnTo>
                    <a:lnTo>
                      <a:pt x="353" y="137"/>
                    </a:lnTo>
                    <a:lnTo>
                      <a:pt x="340" y="142"/>
                    </a:lnTo>
                    <a:lnTo>
                      <a:pt x="326" y="146"/>
                    </a:lnTo>
                    <a:lnTo>
                      <a:pt x="311" y="150"/>
                    </a:lnTo>
                    <a:lnTo>
                      <a:pt x="295" y="153"/>
                    </a:lnTo>
                    <a:lnTo>
                      <a:pt x="278" y="156"/>
                    </a:lnTo>
                    <a:lnTo>
                      <a:pt x="262" y="158"/>
                    </a:lnTo>
                    <a:lnTo>
                      <a:pt x="246" y="160"/>
                    </a:lnTo>
                    <a:lnTo>
                      <a:pt x="230" y="160"/>
                    </a:lnTo>
                    <a:lnTo>
                      <a:pt x="215" y="160"/>
                    </a:lnTo>
                    <a:lnTo>
                      <a:pt x="202" y="158"/>
                    </a:lnTo>
                    <a:lnTo>
                      <a:pt x="191" y="156"/>
                    </a:lnTo>
                    <a:lnTo>
                      <a:pt x="181" y="154"/>
                    </a:lnTo>
                    <a:lnTo>
                      <a:pt x="178" y="151"/>
                    </a:lnTo>
                    <a:lnTo>
                      <a:pt x="174" y="149"/>
                    </a:lnTo>
                    <a:lnTo>
                      <a:pt x="172" y="147"/>
                    </a:lnTo>
                    <a:lnTo>
                      <a:pt x="171" y="144"/>
                    </a:lnTo>
                    <a:lnTo>
                      <a:pt x="167" y="137"/>
                    </a:lnTo>
                    <a:lnTo>
                      <a:pt x="163" y="132"/>
                    </a:lnTo>
                    <a:lnTo>
                      <a:pt x="158" y="126"/>
                    </a:lnTo>
                    <a:lnTo>
                      <a:pt x="153" y="121"/>
                    </a:lnTo>
                    <a:lnTo>
                      <a:pt x="142" y="112"/>
                    </a:lnTo>
                    <a:lnTo>
                      <a:pt x="130" y="104"/>
                    </a:lnTo>
                    <a:lnTo>
                      <a:pt x="116" y="98"/>
                    </a:lnTo>
                    <a:lnTo>
                      <a:pt x="102" y="92"/>
                    </a:lnTo>
                    <a:lnTo>
                      <a:pt x="87" y="88"/>
                    </a:lnTo>
                    <a:lnTo>
                      <a:pt x="73" y="85"/>
                    </a:lnTo>
                    <a:lnTo>
                      <a:pt x="46" y="81"/>
                    </a:lnTo>
                    <a:lnTo>
                      <a:pt x="22" y="80"/>
                    </a:lnTo>
                    <a:lnTo>
                      <a:pt x="6" y="80"/>
                    </a:lnTo>
                    <a:lnTo>
                      <a:pt x="0" y="80"/>
                    </a:lnTo>
                    <a:lnTo>
                      <a:pt x="79" y="5"/>
                    </a:lnTo>
                    <a:lnTo>
                      <a:pt x="93" y="3"/>
                    </a:lnTo>
                    <a:lnTo>
                      <a:pt x="107" y="2"/>
                    </a:lnTo>
                    <a:lnTo>
                      <a:pt x="121" y="2"/>
                    </a:lnTo>
                    <a:lnTo>
                      <a:pt x="133" y="2"/>
                    </a:lnTo>
                    <a:lnTo>
                      <a:pt x="159" y="5"/>
                    </a:lnTo>
                    <a:lnTo>
                      <a:pt x="185" y="10"/>
                    </a:lnTo>
                    <a:lnTo>
                      <a:pt x="209" y="14"/>
                    </a:lnTo>
                    <a:lnTo>
                      <a:pt x="233" y="15"/>
                    </a:lnTo>
                    <a:lnTo>
                      <a:pt x="244" y="15"/>
                    </a:lnTo>
                    <a:lnTo>
                      <a:pt x="256" y="14"/>
                    </a:lnTo>
                    <a:lnTo>
                      <a:pt x="268" y="10"/>
                    </a:lnTo>
                    <a:lnTo>
                      <a:pt x="279" y="5"/>
                    </a:lnTo>
                    <a:lnTo>
                      <a:pt x="285" y="3"/>
                    </a:lnTo>
                    <a:lnTo>
                      <a:pt x="292" y="1"/>
                    </a:lnTo>
                    <a:lnTo>
                      <a:pt x="298" y="0"/>
                    </a:lnTo>
                    <a:lnTo>
                      <a:pt x="305" y="0"/>
                    </a:lnTo>
                    <a:lnTo>
                      <a:pt x="319" y="0"/>
                    </a:lnTo>
                    <a:lnTo>
                      <a:pt x="333" y="3"/>
                    </a:lnTo>
                    <a:lnTo>
                      <a:pt x="347" y="8"/>
                    </a:lnTo>
                    <a:lnTo>
                      <a:pt x="360" y="14"/>
                    </a:lnTo>
                    <a:lnTo>
                      <a:pt x="373" y="22"/>
                    </a:lnTo>
                    <a:lnTo>
                      <a:pt x="383" y="31"/>
                    </a:lnTo>
                    <a:lnTo>
                      <a:pt x="393" y="42"/>
                    </a:lnTo>
                    <a:lnTo>
                      <a:pt x="400" y="53"/>
                    </a:lnTo>
                    <a:lnTo>
                      <a:pt x="402" y="59"/>
                    </a:lnTo>
                    <a:lnTo>
                      <a:pt x="403" y="65"/>
                    </a:lnTo>
                    <a:lnTo>
                      <a:pt x="404" y="72"/>
                    </a:lnTo>
                    <a:lnTo>
                      <a:pt x="406" y="78"/>
                    </a:lnTo>
                    <a:lnTo>
                      <a:pt x="404" y="84"/>
                    </a:lnTo>
                    <a:lnTo>
                      <a:pt x="403" y="91"/>
                    </a:lnTo>
                    <a:lnTo>
                      <a:pt x="401" y="97"/>
                    </a:lnTo>
                    <a:lnTo>
                      <a:pt x="397" y="102"/>
                    </a:lnTo>
                    <a:lnTo>
                      <a:pt x="393" y="109"/>
                    </a:lnTo>
                    <a:lnTo>
                      <a:pt x="387" y="115"/>
                    </a:lnTo>
                    <a:lnTo>
                      <a:pt x="380" y="121"/>
                    </a:lnTo>
                    <a:lnTo>
                      <a:pt x="372" y="1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196"/>
              <p:cNvSpPr/>
              <p:nvPr/>
            </p:nvSpPr>
            <p:spPr>
              <a:xfrm>
                <a:off x="6292440" y="6107400"/>
                <a:ext cx="61560" cy="248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06" h="160">
                    <a:moveTo>
                      <a:pt x="372" y="127"/>
                    </a:moveTo>
                    <a:lnTo>
                      <a:pt x="364" y="132"/>
                    </a:lnTo>
                    <a:lnTo>
                      <a:pt x="353" y="137"/>
                    </a:lnTo>
                    <a:lnTo>
                      <a:pt x="340" y="142"/>
                    </a:lnTo>
                    <a:lnTo>
                      <a:pt x="326" y="146"/>
                    </a:lnTo>
                    <a:lnTo>
                      <a:pt x="311" y="150"/>
                    </a:lnTo>
                    <a:lnTo>
                      <a:pt x="295" y="153"/>
                    </a:lnTo>
                    <a:lnTo>
                      <a:pt x="278" y="156"/>
                    </a:lnTo>
                    <a:lnTo>
                      <a:pt x="262" y="158"/>
                    </a:lnTo>
                    <a:lnTo>
                      <a:pt x="246" y="160"/>
                    </a:lnTo>
                    <a:lnTo>
                      <a:pt x="230" y="160"/>
                    </a:lnTo>
                    <a:lnTo>
                      <a:pt x="215" y="160"/>
                    </a:lnTo>
                    <a:lnTo>
                      <a:pt x="202" y="158"/>
                    </a:lnTo>
                    <a:lnTo>
                      <a:pt x="191" y="156"/>
                    </a:lnTo>
                    <a:lnTo>
                      <a:pt x="181" y="154"/>
                    </a:lnTo>
                    <a:lnTo>
                      <a:pt x="178" y="151"/>
                    </a:lnTo>
                    <a:lnTo>
                      <a:pt x="174" y="149"/>
                    </a:lnTo>
                    <a:lnTo>
                      <a:pt x="172" y="147"/>
                    </a:lnTo>
                    <a:lnTo>
                      <a:pt x="171" y="144"/>
                    </a:lnTo>
                    <a:lnTo>
                      <a:pt x="167" y="137"/>
                    </a:lnTo>
                    <a:lnTo>
                      <a:pt x="163" y="132"/>
                    </a:lnTo>
                    <a:lnTo>
                      <a:pt x="158" y="126"/>
                    </a:lnTo>
                    <a:lnTo>
                      <a:pt x="153" y="121"/>
                    </a:lnTo>
                    <a:lnTo>
                      <a:pt x="142" y="112"/>
                    </a:lnTo>
                    <a:lnTo>
                      <a:pt x="130" y="104"/>
                    </a:lnTo>
                    <a:lnTo>
                      <a:pt x="116" y="98"/>
                    </a:lnTo>
                    <a:lnTo>
                      <a:pt x="102" y="92"/>
                    </a:lnTo>
                    <a:lnTo>
                      <a:pt x="87" y="88"/>
                    </a:lnTo>
                    <a:lnTo>
                      <a:pt x="73" y="85"/>
                    </a:lnTo>
                    <a:lnTo>
                      <a:pt x="46" y="81"/>
                    </a:lnTo>
                    <a:lnTo>
                      <a:pt x="22" y="80"/>
                    </a:lnTo>
                    <a:lnTo>
                      <a:pt x="6" y="80"/>
                    </a:lnTo>
                    <a:lnTo>
                      <a:pt x="0" y="80"/>
                    </a:lnTo>
                    <a:lnTo>
                      <a:pt x="79" y="5"/>
                    </a:lnTo>
                    <a:lnTo>
                      <a:pt x="93" y="3"/>
                    </a:lnTo>
                    <a:lnTo>
                      <a:pt x="107" y="2"/>
                    </a:lnTo>
                    <a:lnTo>
                      <a:pt x="121" y="2"/>
                    </a:lnTo>
                    <a:lnTo>
                      <a:pt x="133" y="2"/>
                    </a:lnTo>
                    <a:lnTo>
                      <a:pt x="159" y="5"/>
                    </a:lnTo>
                    <a:lnTo>
                      <a:pt x="185" y="10"/>
                    </a:lnTo>
                    <a:lnTo>
                      <a:pt x="209" y="14"/>
                    </a:lnTo>
                    <a:lnTo>
                      <a:pt x="233" y="15"/>
                    </a:lnTo>
                    <a:lnTo>
                      <a:pt x="244" y="15"/>
                    </a:lnTo>
                    <a:lnTo>
                      <a:pt x="256" y="14"/>
                    </a:lnTo>
                    <a:lnTo>
                      <a:pt x="268" y="10"/>
                    </a:lnTo>
                    <a:lnTo>
                      <a:pt x="279" y="5"/>
                    </a:lnTo>
                    <a:lnTo>
                      <a:pt x="285" y="3"/>
                    </a:lnTo>
                    <a:lnTo>
                      <a:pt x="292" y="1"/>
                    </a:lnTo>
                    <a:lnTo>
                      <a:pt x="298" y="0"/>
                    </a:lnTo>
                    <a:lnTo>
                      <a:pt x="305" y="0"/>
                    </a:lnTo>
                    <a:lnTo>
                      <a:pt x="319" y="0"/>
                    </a:lnTo>
                    <a:lnTo>
                      <a:pt x="333" y="3"/>
                    </a:lnTo>
                    <a:lnTo>
                      <a:pt x="347" y="8"/>
                    </a:lnTo>
                    <a:lnTo>
                      <a:pt x="360" y="14"/>
                    </a:lnTo>
                    <a:lnTo>
                      <a:pt x="373" y="22"/>
                    </a:lnTo>
                    <a:lnTo>
                      <a:pt x="383" y="31"/>
                    </a:lnTo>
                    <a:lnTo>
                      <a:pt x="393" y="42"/>
                    </a:lnTo>
                    <a:lnTo>
                      <a:pt x="400" y="53"/>
                    </a:lnTo>
                    <a:lnTo>
                      <a:pt x="402" y="59"/>
                    </a:lnTo>
                    <a:lnTo>
                      <a:pt x="403" y="65"/>
                    </a:lnTo>
                    <a:lnTo>
                      <a:pt x="404" y="72"/>
                    </a:lnTo>
                    <a:lnTo>
                      <a:pt x="406" y="78"/>
                    </a:lnTo>
                    <a:lnTo>
                      <a:pt x="404" y="84"/>
                    </a:lnTo>
                    <a:lnTo>
                      <a:pt x="403" y="91"/>
                    </a:lnTo>
                    <a:lnTo>
                      <a:pt x="401" y="97"/>
                    </a:lnTo>
                    <a:lnTo>
                      <a:pt x="397" y="102"/>
                    </a:lnTo>
                    <a:lnTo>
                      <a:pt x="393" y="109"/>
                    </a:lnTo>
                    <a:lnTo>
                      <a:pt x="387" y="115"/>
                    </a:lnTo>
                    <a:lnTo>
                      <a:pt x="380" y="121"/>
                    </a:lnTo>
                    <a:lnTo>
                      <a:pt x="372" y="1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197"/>
              <p:cNvSpPr/>
              <p:nvPr/>
            </p:nvSpPr>
            <p:spPr>
              <a:xfrm>
                <a:off x="6262560" y="6124680"/>
                <a:ext cx="34200" cy="126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35" h="84">
                    <a:moveTo>
                      <a:pt x="170" y="6"/>
                    </a:moveTo>
                    <a:lnTo>
                      <a:pt x="124" y="17"/>
                    </a:lnTo>
                    <a:lnTo>
                      <a:pt x="81" y="30"/>
                    </a:lnTo>
                    <a:lnTo>
                      <a:pt x="62" y="37"/>
                    </a:lnTo>
                    <a:lnTo>
                      <a:pt x="45" y="43"/>
                    </a:lnTo>
                    <a:lnTo>
                      <a:pt x="30" y="50"/>
                    </a:lnTo>
                    <a:lnTo>
                      <a:pt x="18" y="56"/>
                    </a:lnTo>
                    <a:lnTo>
                      <a:pt x="9" y="62"/>
                    </a:lnTo>
                    <a:lnTo>
                      <a:pt x="3" y="66"/>
                    </a:lnTo>
                    <a:lnTo>
                      <a:pt x="1" y="70"/>
                    </a:lnTo>
                    <a:lnTo>
                      <a:pt x="0" y="72"/>
                    </a:lnTo>
                    <a:lnTo>
                      <a:pt x="1" y="73"/>
                    </a:lnTo>
                    <a:lnTo>
                      <a:pt x="3" y="76"/>
                    </a:lnTo>
                    <a:lnTo>
                      <a:pt x="10" y="79"/>
                    </a:lnTo>
                    <a:lnTo>
                      <a:pt x="23" y="82"/>
                    </a:lnTo>
                    <a:lnTo>
                      <a:pt x="40" y="84"/>
                    </a:lnTo>
                    <a:lnTo>
                      <a:pt x="63" y="84"/>
                    </a:lnTo>
                    <a:lnTo>
                      <a:pt x="89" y="83"/>
                    </a:lnTo>
                    <a:lnTo>
                      <a:pt x="114" y="79"/>
                    </a:lnTo>
                    <a:lnTo>
                      <a:pt x="137" y="75"/>
                    </a:lnTo>
                    <a:lnTo>
                      <a:pt x="158" y="68"/>
                    </a:lnTo>
                    <a:lnTo>
                      <a:pt x="178" y="59"/>
                    </a:lnTo>
                    <a:lnTo>
                      <a:pt x="195" y="51"/>
                    </a:lnTo>
                    <a:lnTo>
                      <a:pt x="209" y="42"/>
                    </a:lnTo>
                    <a:lnTo>
                      <a:pt x="221" y="34"/>
                    </a:lnTo>
                    <a:lnTo>
                      <a:pt x="229" y="24"/>
                    </a:lnTo>
                    <a:lnTo>
                      <a:pt x="235" y="17"/>
                    </a:lnTo>
                    <a:lnTo>
                      <a:pt x="235" y="14"/>
                    </a:lnTo>
                    <a:lnTo>
                      <a:pt x="235" y="10"/>
                    </a:lnTo>
                    <a:lnTo>
                      <a:pt x="234" y="7"/>
                    </a:lnTo>
                    <a:lnTo>
                      <a:pt x="233" y="5"/>
                    </a:lnTo>
                    <a:lnTo>
                      <a:pt x="229" y="3"/>
                    </a:lnTo>
                    <a:lnTo>
                      <a:pt x="225" y="1"/>
                    </a:lnTo>
                    <a:lnTo>
                      <a:pt x="219" y="1"/>
                    </a:lnTo>
                    <a:lnTo>
                      <a:pt x="212" y="0"/>
                    </a:lnTo>
                    <a:lnTo>
                      <a:pt x="193" y="2"/>
                    </a:lnTo>
                    <a:lnTo>
                      <a:pt x="17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198"/>
              <p:cNvSpPr/>
              <p:nvPr/>
            </p:nvSpPr>
            <p:spPr>
              <a:xfrm>
                <a:off x="6262560" y="6124680"/>
                <a:ext cx="34200" cy="126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35" h="84">
                    <a:moveTo>
                      <a:pt x="170" y="6"/>
                    </a:moveTo>
                    <a:lnTo>
                      <a:pt x="124" y="17"/>
                    </a:lnTo>
                    <a:lnTo>
                      <a:pt x="81" y="30"/>
                    </a:lnTo>
                    <a:lnTo>
                      <a:pt x="62" y="37"/>
                    </a:lnTo>
                    <a:lnTo>
                      <a:pt x="45" y="43"/>
                    </a:lnTo>
                    <a:lnTo>
                      <a:pt x="30" y="50"/>
                    </a:lnTo>
                    <a:lnTo>
                      <a:pt x="18" y="56"/>
                    </a:lnTo>
                    <a:lnTo>
                      <a:pt x="9" y="62"/>
                    </a:lnTo>
                    <a:lnTo>
                      <a:pt x="3" y="66"/>
                    </a:lnTo>
                    <a:lnTo>
                      <a:pt x="1" y="70"/>
                    </a:lnTo>
                    <a:lnTo>
                      <a:pt x="0" y="72"/>
                    </a:lnTo>
                    <a:lnTo>
                      <a:pt x="1" y="73"/>
                    </a:lnTo>
                    <a:lnTo>
                      <a:pt x="3" y="76"/>
                    </a:lnTo>
                    <a:lnTo>
                      <a:pt x="10" y="79"/>
                    </a:lnTo>
                    <a:lnTo>
                      <a:pt x="23" y="82"/>
                    </a:lnTo>
                    <a:lnTo>
                      <a:pt x="40" y="84"/>
                    </a:lnTo>
                    <a:lnTo>
                      <a:pt x="63" y="84"/>
                    </a:lnTo>
                    <a:lnTo>
                      <a:pt x="89" y="83"/>
                    </a:lnTo>
                    <a:lnTo>
                      <a:pt x="114" y="79"/>
                    </a:lnTo>
                    <a:lnTo>
                      <a:pt x="137" y="75"/>
                    </a:lnTo>
                    <a:lnTo>
                      <a:pt x="158" y="68"/>
                    </a:lnTo>
                    <a:lnTo>
                      <a:pt x="178" y="59"/>
                    </a:lnTo>
                    <a:lnTo>
                      <a:pt x="195" y="51"/>
                    </a:lnTo>
                    <a:lnTo>
                      <a:pt x="209" y="42"/>
                    </a:lnTo>
                    <a:lnTo>
                      <a:pt x="221" y="34"/>
                    </a:lnTo>
                    <a:lnTo>
                      <a:pt x="229" y="24"/>
                    </a:lnTo>
                    <a:lnTo>
                      <a:pt x="235" y="17"/>
                    </a:lnTo>
                    <a:lnTo>
                      <a:pt x="235" y="14"/>
                    </a:lnTo>
                    <a:lnTo>
                      <a:pt x="235" y="10"/>
                    </a:lnTo>
                    <a:lnTo>
                      <a:pt x="234" y="7"/>
                    </a:lnTo>
                    <a:lnTo>
                      <a:pt x="233" y="5"/>
                    </a:lnTo>
                    <a:lnTo>
                      <a:pt x="229" y="3"/>
                    </a:lnTo>
                    <a:lnTo>
                      <a:pt x="225" y="1"/>
                    </a:lnTo>
                    <a:lnTo>
                      <a:pt x="219" y="1"/>
                    </a:lnTo>
                    <a:lnTo>
                      <a:pt x="212" y="0"/>
                    </a:lnTo>
                    <a:lnTo>
                      <a:pt x="193" y="2"/>
                    </a:lnTo>
                    <a:lnTo>
                      <a:pt x="17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199"/>
              <p:cNvSpPr/>
              <p:nvPr/>
            </p:nvSpPr>
            <p:spPr>
              <a:xfrm>
                <a:off x="6259320" y="6094440"/>
                <a:ext cx="41040" cy="280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84" h="167">
                    <a:moveTo>
                      <a:pt x="23" y="152"/>
                    </a:moveTo>
                    <a:lnTo>
                      <a:pt x="32" y="158"/>
                    </a:lnTo>
                    <a:lnTo>
                      <a:pt x="41" y="162"/>
                    </a:lnTo>
                    <a:lnTo>
                      <a:pt x="49" y="165"/>
                    </a:lnTo>
                    <a:lnTo>
                      <a:pt x="57" y="166"/>
                    </a:lnTo>
                    <a:lnTo>
                      <a:pt x="65" y="167"/>
                    </a:lnTo>
                    <a:lnTo>
                      <a:pt x="74" y="166"/>
                    </a:lnTo>
                    <a:lnTo>
                      <a:pt x="82" y="165"/>
                    </a:lnTo>
                    <a:lnTo>
                      <a:pt x="90" y="164"/>
                    </a:lnTo>
                    <a:lnTo>
                      <a:pt x="105" y="157"/>
                    </a:lnTo>
                    <a:lnTo>
                      <a:pt x="119" y="149"/>
                    </a:lnTo>
                    <a:lnTo>
                      <a:pt x="133" y="139"/>
                    </a:lnTo>
                    <a:lnTo>
                      <a:pt x="146" y="129"/>
                    </a:lnTo>
                    <a:lnTo>
                      <a:pt x="168" y="108"/>
                    </a:lnTo>
                    <a:lnTo>
                      <a:pt x="187" y="91"/>
                    </a:lnTo>
                    <a:lnTo>
                      <a:pt x="195" y="86"/>
                    </a:lnTo>
                    <a:lnTo>
                      <a:pt x="201" y="84"/>
                    </a:lnTo>
                    <a:lnTo>
                      <a:pt x="204" y="84"/>
                    </a:lnTo>
                    <a:lnTo>
                      <a:pt x="207" y="86"/>
                    </a:lnTo>
                    <a:lnTo>
                      <a:pt x="208" y="88"/>
                    </a:lnTo>
                    <a:lnTo>
                      <a:pt x="210" y="91"/>
                    </a:lnTo>
                    <a:lnTo>
                      <a:pt x="211" y="96"/>
                    </a:lnTo>
                    <a:lnTo>
                      <a:pt x="214" y="98"/>
                    </a:lnTo>
                    <a:lnTo>
                      <a:pt x="217" y="101"/>
                    </a:lnTo>
                    <a:lnTo>
                      <a:pt x="220" y="101"/>
                    </a:lnTo>
                    <a:lnTo>
                      <a:pt x="223" y="102"/>
                    </a:lnTo>
                    <a:lnTo>
                      <a:pt x="228" y="101"/>
                    </a:lnTo>
                    <a:lnTo>
                      <a:pt x="231" y="100"/>
                    </a:lnTo>
                    <a:lnTo>
                      <a:pt x="236" y="97"/>
                    </a:lnTo>
                    <a:lnTo>
                      <a:pt x="245" y="91"/>
                    </a:lnTo>
                    <a:lnTo>
                      <a:pt x="255" y="83"/>
                    </a:lnTo>
                    <a:lnTo>
                      <a:pt x="263" y="74"/>
                    </a:lnTo>
                    <a:lnTo>
                      <a:pt x="271" y="63"/>
                    </a:lnTo>
                    <a:lnTo>
                      <a:pt x="277" y="52"/>
                    </a:lnTo>
                    <a:lnTo>
                      <a:pt x="281" y="41"/>
                    </a:lnTo>
                    <a:lnTo>
                      <a:pt x="283" y="35"/>
                    </a:lnTo>
                    <a:lnTo>
                      <a:pt x="284" y="31"/>
                    </a:lnTo>
                    <a:lnTo>
                      <a:pt x="284" y="26"/>
                    </a:lnTo>
                    <a:lnTo>
                      <a:pt x="283" y="20"/>
                    </a:lnTo>
                    <a:lnTo>
                      <a:pt x="280" y="17"/>
                    </a:lnTo>
                    <a:lnTo>
                      <a:pt x="278" y="12"/>
                    </a:lnTo>
                    <a:lnTo>
                      <a:pt x="274" y="9"/>
                    </a:lnTo>
                    <a:lnTo>
                      <a:pt x="270" y="6"/>
                    </a:lnTo>
                    <a:lnTo>
                      <a:pt x="264" y="4"/>
                    </a:lnTo>
                    <a:lnTo>
                      <a:pt x="257" y="2"/>
                    </a:lnTo>
                    <a:lnTo>
                      <a:pt x="249" y="0"/>
                    </a:lnTo>
                    <a:lnTo>
                      <a:pt x="239" y="0"/>
                    </a:lnTo>
                    <a:lnTo>
                      <a:pt x="218" y="0"/>
                    </a:lnTo>
                    <a:lnTo>
                      <a:pt x="195" y="4"/>
                    </a:lnTo>
                    <a:lnTo>
                      <a:pt x="172" y="9"/>
                    </a:lnTo>
                    <a:lnTo>
                      <a:pt x="147" y="16"/>
                    </a:lnTo>
                    <a:lnTo>
                      <a:pt x="123" y="23"/>
                    </a:lnTo>
                    <a:lnTo>
                      <a:pt x="99" y="32"/>
                    </a:lnTo>
                    <a:lnTo>
                      <a:pt x="77" y="42"/>
                    </a:lnTo>
                    <a:lnTo>
                      <a:pt x="56" y="54"/>
                    </a:lnTo>
                    <a:lnTo>
                      <a:pt x="39" y="66"/>
                    </a:lnTo>
                    <a:lnTo>
                      <a:pt x="22" y="77"/>
                    </a:lnTo>
                    <a:lnTo>
                      <a:pt x="16" y="84"/>
                    </a:lnTo>
                    <a:lnTo>
                      <a:pt x="10" y="90"/>
                    </a:lnTo>
                    <a:lnTo>
                      <a:pt x="6" y="97"/>
                    </a:lnTo>
                    <a:lnTo>
                      <a:pt x="2" y="103"/>
                    </a:lnTo>
                    <a:lnTo>
                      <a:pt x="1" y="110"/>
                    </a:lnTo>
                    <a:lnTo>
                      <a:pt x="0" y="116"/>
                    </a:lnTo>
                    <a:lnTo>
                      <a:pt x="0" y="122"/>
                    </a:lnTo>
                    <a:lnTo>
                      <a:pt x="1" y="129"/>
                    </a:lnTo>
                    <a:lnTo>
                      <a:pt x="5" y="135"/>
                    </a:lnTo>
                    <a:lnTo>
                      <a:pt x="9" y="141"/>
                    </a:lnTo>
                    <a:lnTo>
                      <a:pt x="15" y="146"/>
                    </a:lnTo>
                    <a:lnTo>
                      <a:pt x="23" y="1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200"/>
              <p:cNvSpPr/>
              <p:nvPr/>
            </p:nvSpPr>
            <p:spPr>
              <a:xfrm>
                <a:off x="6259320" y="6094440"/>
                <a:ext cx="41040" cy="280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84" h="167">
                    <a:moveTo>
                      <a:pt x="23" y="152"/>
                    </a:moveTo>
                    <a:lnTo>
                      <a:pt x="32" y="158"/>
                    </a:lnTo>
                    <a:lnTo>
                      <a:pt x="41" y="162"/>
                    </a:lnTo>
                    <a:lnTo>
                      <a:pt x="49" y="165"/>
                    </a:lnTo>
                    <a:lnTo>
                      <a:pt x="57" y="166"/>
                    </a:lnTo>
                    <a:lnTo>
                      <a:pt x="65" y="167"/>
                    </a:lnTo>
                    <a:lnTo>
                      <a:pt x="74" y="166"/>
                    </a:lnTo>
                    <a:lnTo>
                      <a:pt x="82" y="165"/>
                    </a:lnTo>
                    <a:lnTo>
                      <a:pt x="90" y="164"/>
                    </a:lnTo>
                    <a:lnTo>
                      <a:pt x="105" y="157"/>
                    </a:lnTo>
                    <a:lnTo>
                      <a:pt x="119" y="149"/>
                    </a:lnTo>
                    <a:lnTo>
                      <a:pt x="133" y="139"/>
                    </a:lnTo>
                    <a:lnTo>
                      <a:pt x="146" y="129"/>
                    </a:lnTo>
                    <a:lnTo>
                      <a:pt x="168" y="108"/>
                    </a:lnTo>
                    <a:lnTo>
                      <a:pt x="187" y="91"/>
                    </a:lnTo>
                    <a:lnTo>
                      <a:pt x="195" y="86"/>
                    </a:lnTo>
                    <a:lnTo>
                      <a:pt x="201" y="84"/>
                    </a:lnTo>
                    <a:lnTo>
                      <a:pt x="204" y="84"/>
                    </a:lnTo>
                    <a:lnTo>
                      <a:pt x="207" y="86"/>
                    </a:lnTo>
                    <a:lnTo>
                      <a:pt x="208" y="88"/>
                    </a:lnTo>
                    <a:lnTo>
                      <a:pt x="210" y="91"/>
                    </a:lnTo>
                    <a:lnTo>
                      <a:pt x="211" y="96"/>
                    </a:lnTo>
                    <a:lnTo>
                      <a:pt x="214" y="98"/>
                    </a:lnTo>
                    <a:lnTo>
                      <a:pt x="217" y="101"/>
                    </a:lnTo>
                    <a:lnTo>
                      <a:pt x="220" y="101"/>
                    </a:lnTo>
                    <a:lnTo>
                      <a:pt x="223" y="102"/>
                    </a:lnTo>
                    <a:lnTo>
                      <a:pt x="228" y="101"/>
                    </a:lnTo>
                    <a:lnTo>
                      <a:pt x="231" y="100"/>
                    </a:lnTo>
                    <a:lnTo>
                      <a:pt x="236" y="97"/>
                    </a:lnTo>
                    <a:lnTo>
                      <a:pt x="245" y="91"/>
                    </a:lnTo>
                    <a:lnTo>
                      <a:pt x="255" y="83"/>
                    </a:lnTo>
                    <a:lnTo>
                      <a:pt x="263" y="74"/>
                    </a:lnTo>
                    <a:lnTo>
                      <a:pt x="271" y="63"/>
                    </a:lnTo>
                    <a:lnTo>
                      <a:pt x="277" y="52"/>
                    </a:lnTo>
                    <a:lnTo>
                      <a:pt x="281" y="41"/>
                    </a:lnTo>
                    <a:lnTo>
                      <a:pt x="283" y="35"/>
                    </a:lnTo>
                    <a:lnTo>
                      <a:pt x="284" y="31"/>
                    </a:lnTo>
                    <a:lnTo>
                      <a:pt x="284" y="26"/>
                    </a:lnTo>
                    <a:lnTo>
                      <a:pt x="283" y="20"/>
                    </a:lnTo>
                    <a:lnTo>
                      <a:pt x="280" y="17"/>
                    </a:lnTo>
                    <a:lnTo>
                      <a:pt x="278" y="12"/>
                    </a:lnTo>
                    <a:lnTo>
                      <a:pt x="274" y="9"/>
                    </a:lnTo>
                    <a:lnTo>
                      <a:pt x="270" y="6"/>
                    </a:lnTo>
                    <a:lnTo>
                      <a:pt x="264" y="4"/>
                    </a:lnTo>
                    <a:lnTo>
                      <a:pt x="257" y="2"/>
                    </a:lnTo>
                    <a:lnTo>
                      <a:pt x="249" y="0"/>
                    </a:lnTo>
                    <a:lnTo>
                      <a:pt x="239" y="0"/>
                    </a:lnTo>
                    <a:lnTo>
                      <a:pt x="218" y="0"/>
                    </a:lnTo>
                    <a:lnTo>
                      <a:pt x="195" y="4"/>
                    </a:lnTo>
                    <a:lnTo>
                      <a:pt x="172" y="9"/>
                    </a:lnTo>
                    <a:lnTo>
                      <a:pt x="147" y="16"/>
                    </a:lnTo>
                    <a:lnTo>
                      <a:pt x="123" y="23"/>
                    </a:lnTo>
                    <a:lnTo>
                      <a:pt x="99" y="32"/>
                    </a:lnTo>
                    <a:lnTo>
                      <a:pt x="77" y="42"/>
                    </a:lnTo>
                    <a:lnTo>
                      <a:pt x="56" y="54"/>
                    </a:lnTo>
                    <a:lnTo>
                      <a:pt x="39" y="66"/>
                    </a:lnTo>
                    <a:lnTo>
                      <a:pt x="22" y="77"/>
                    </a:lnTo>
                    <a:lnTo>
                      <a:pt x="16" y="84"/>
                    </a:lnTo>
                    <a:lnTo>
                      <a:pt x="10" y="90"/>
                    </a:lnTo>
                    <a:lnTo>
                      <a:pt x="6" y="97"/>
                    </a:lnTo>
                    <a:lnTo>
                      <a:pt x="2" y="103"/>
                    </a:lnTo>
                    <a:lnTo>
                      <a:pt x="1" y="110"/>
                    </a:lnTo>
                    <a:lnTo>
                      <a:pt x="0" y="116"/>
                    </a:lnTo>
                    <a:lnTo>
                      <a:pt x="0" y="122"/>
                    </a:lnTo>
                    <a:lnTo>
                      <a:pt x="1" y="129"/>
                    </a:lnTo>
                    <a:lnTo>
                      <a:pt x="5" y="135"/>
                    </a:lnTo>
                    <a:lnTo>
                      <a:pt x="9" y="141"/>
                    </a:lnTo>
                    <a:lnTo>
                      <a:pt x="15" y="146"/>
                    </a:lnTo>
                    <a:lnTo>
                      <a:pt x="23" y="1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201"/>
              <p:cNvSpPr/>
              <p:nvPr/>
            </p:nvSpPr>
            <p:spPr>
              <a:xfrm>
                <a:off x="6229080" y="6068880"/>
                <a:ext cx="37440" cy="28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57" h="173">
                    <a:moveTo>
                      <a:pt x="163" y="0"/>
                    </a:moveTo>
                    <a:lnTo>
                      <a:pt x="131" y="64"/>
                    </a:lnTo>
                    <a:lnTo>
                      <a:pt x="70" y="64"/>
                    </a:lnTo>
                    <a:lnTo>
                      <a:pt x="54" y="77"/>
                    </a:lnTo>
                    <a:lnTo>
                      <a:pt x="39" y="91"/>
                    </a:lnTo>
                    <a:lnTo>
                      <a:pt x="26" y="103"/>
                    </a:lnTo>
                    <a:lnTo>
                      <a:pt x="15" y="114"/>
                    </a:lnTo>
                    <a:lnTo>
                      <a:pt x="8" y="125"/>
                    </a:lnTo>
                    <a:lnTo>
                      <a:pt x="3" y="134"/>
                    </a:lnTo>
                    <a:lnTo>
                      <a:pt x="1" y="139"/>
                    </a:lnTo>
                    <a:lnTo>
                      <a:pt x="0" y="142"/>
                    </a:lnTo>
                    <a:lnTo>
                      <a:pt x="0" y="147"/>
                    </a:lnTo>
                    <a:lnTo>
                      <a:pt x="1" y="151"/>
                    </a:lnTo>
                    <a:lnTo>
                      <a:pt x="3" y="154"/>
                    </a:lnTo>
                    <a:lnTo>
                      <a:pt x="5" y="158"/>
                    </a:lnTo>
                    <a:lnTo>
                      <a:pt x="8" y="160"/>
                    </a:lnTo>
                    <a:lnTo>
                      <a:pt x="12" y="162"/>
                    </a:lnTo>
                    <a:lnTo>
                      <a:pt x="22" y="167"/>
                    </a:lnTo>
                    <a:lnTo>
                      <a:pt x="36" y="170"/>
                    </a:lnTo>
                    <a:lnTo>
                      <a:pt x="54" y="173"/>
                    </a:lnTo>
                    <a:lnTo>
                      <a:pt x="75" y="173"/>
                    </a:lnTo>
                    <a:lnTo>
                      <a:pt x="101" y="173"/>
                    </a:lnTo>
                    <a:lnTo>
                      <a:pt x="131" y="170"/>
                    </a:lnTo>
                    <a:lnTo>
                      <a:pt x="146" y="168"/>
                    </a:lnTo>
                    <a:lnTo>
                      <a:pt x="160" y="166"/>
                    </a:lnTo>
                    <a:lnTo>
                      <a:pt x="174" y="162"/>
                    </a:lnTo>
                    <a:lnTo>
                      <a:pt x="186" y="159"/>
                    </a:lnTo>
                    <a:lnTo>
                      <a:pt x="198" y="154"/>
                    </a:lnTo>
                    <a:lnTo>
                      <a:pt x="207" y="148"/>
                    </a:lnTo>
                    <a:lnTo>
                      <a:pt x="216" y="142"/>
                    </a:lnTo>
                    <a:lnTo>
                      <a:pt x="224" y="135"/>
                    </a:lnTo>
                    <a:lnTo>
                      <a:pt x="233" y="128"/>
                    </a:lnTo>
                    <a:lnTo>
                      <a:pt x="239" y="121"/>
                    </a:lnTo>
                    <a:lnTo>
                      <a:pt x="243" y="114"/>
                    </a:lnTo>
                    <a:lnTo>
                      <a:pt x="248" y="106"/>
                    </a:lnTo>
                    <a:lnTo>
                      <a:pt x="251" y="99"/>
                    </a:lnTo>
                    <a:lnTo>
                      <a:pt x="254" y="91"/>
                    </a:lnTo>
                    <a:lnTo>
                      <a:pt x="256" y="83"/>
                    </a:lnTo>
                    <a:lnTo>
                      <a:pt x="257" y="75"/>
                    </a:lnTo>
                    <a:lnTo>
                      <a:pt x="257" y="66"/>
                    </a:lnTo>
                    <a:lnTo>
                      <a:pt x="256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48" y="37"/>
                    </a:lnTo>
                    <a:lnTo>
                      <a:pt x="244" y="30"/>
                    </a:lnTo>
                    <a:lnTo>
                      <a:pt x="240" y="24"/>
                    </a:lnTo>
                    <a:lnTo>
                      <a:pt x="234" y="19"/>
                    </a:lnTo>
                    <a:lnTo>
                      <a:pt x="227" y="14"/>
                    </a:lnTo>
                    <a:lnTo>
                      <a:pt x="220" y="9"/>
                    </a:lnTo>
                    <a:lnTo>
                      <a:pt x="212" y="6"/>
                    </a:lnTo>
                    <a:lnTo>
                      <a:pt x="203" y="3"/>
                    </a:lnTo>
                    <a:lnTo>
                      <a:pt x="194" y="1"/>
                    </a:lnTo>
                    <a:lnTo>
                      <a:pt x="185" y="0"/>
                    </a:lnTo>
                    <a:lnTo>
                      <a:pt x="174" y="0"/>
                    </a:lnTo>
                    <a:lnTo>
                      <a:pt x="1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202"/>
              <p:cNvSpPr/>
              <p:nvPr/>
            </p:nvSpPr>
            <p:spPr>
              <a:xfrm>
                <a:off x="6229080" y="6068880"/>
                <a:ext cx="37440" cy="28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57" h="173">
                    <a:moveTo>
                      <a:pt x="163" y="0"/>
                    </a:moveTo>
                    <a:lnTo>
                      <a:pt x="131" y="64"/>
                    </a:lnTo>
                    <a:lnTo>
                      <a:pt x="70" y="64"/>
                    </a:lnTo>
                    <a:lnTo>
                      <a:pt x="54" y="77"/>
                    </a:lnTo>
                    <a:lnTo>
                      <a:pt x="39" y="91"/>
                    </a:lnTo>
                    <a:lnTo>
                      <a:pt x="26" y="103"/>
                    </a:lnTo>
                    <a:lnTo>
                      <a:pt x="15" y="114"/>
                    </a:lnTo>
                    <a:lnTo>
                      <a:pt x="8" y="125"/>
                    </a:lnTo>
                    <a:lnTo>
                      <a:pt x="3" y="134"/>
                    </a:lnTo>
                    <a:lnTo>
                      <a:pt x="1" y="139"/>
                    </a:lnTo>
                    <a:lnTo>
                      <a:pt x="0" y="142"/>
                    </a:lnTo>
                    <a:lnTo>
                      <a:pt x="0" y="147"/>
                    </a:lnTo>
                    <a:lnTo>
                      <a:pt x="1" y="151"/>
                    </a:lnTo>
                    <a:lnTo>
                      <a:pt x="3" y="154"/>
                    </a:lnTo>
                    <a:lnTo>
                      <a:pt x="5" y="158"/>
                    </a:lnTo>
                    <a:lnTo>
                      <a:pt x="8" y="160"/>
                    </a:lnTo>
                    <a:lnTo>
                      <a:pt x="12" y="162"/>
                    </a:lnTo>
                    <a:lnTo>
                      <a:pt x="22" y="167"/>
                    </a:lnTo>
                    <a:lnTo>
                      <a:pt x="36" y="170"/>
                    </a:lnTo>
                    <a:lnTo>
                      <a:pt x="54" y="173"/>
                    </a:lnTo>
                    <a:lnTo>
                      <a:pt x="75" y="173"/>
                    </a:lnTo>
                    <a:lnTo>
                      <a:pt x="101" y="173"/>
                    </a:lnTo>
                    <a:lnTo>
                      <a:pt x="131" y="170"/>
                    </a:lnTo>
                    <a:lnTo>
                      <a:pt x="146" y="168"/>
                    </a:lnTo>
                    <a:lnTo>
                      <a:pt x="160" y="166"/>
                    </a:lnTo>
                    <a:lnTo>
                      <a:pt x="174" y="162"/>
                    </a:lnTo>
                    <a:lnTo>
                      <a:pt x="186" y="159"/>
                    </a:lnTo>
                    <a:lnTo>
                      <a:pt x="198" y="154"/>
                    </a:lnTo>
                    <a:lnTo>
                      <a:pt x="207" y="148"/>
                    </a:lnTo>
                    <a:lnTo>
                      <a:pt x="216" y="142"/>
                    </a:lnTo>
                    <a:lnTo>
                      <a:pt x="224" y="135"/>
                    </a:lnTo>
                    <a:lnTo>
                      <a:pt x="233" y="128"/>
                    </a:lnTo>
                    <a:lnTo>
                      <a:pt x="239" y="121"/>
                    </a:lnTo>
                    <a:lnTo>
                      <a:pt x="243" y="114"/>
                    </a:lnTo>
                    <a:lnTo>
                      <a:pt x="248" y="106"/>
                    </a:lnTo>
                    <a:lnTo>
                      <a:pt x="251" y="99"/>
                    </a:lnTo>
                    <a:lnTo>
                      <a:pt x="254" y="91"/>
                    </a:lnTo>
                    <a:lnTo>
                      <a:pt x="256" y="83"/>
                    </a:lnTo>
                    <a:lnTo>
                      <a:pt x="257" y="75"/>
                    </a:lnTo>
                    <a:lnTo>
                      <a:pt x="257" y="66"/>
                    </a:lnTo>
                    <a:lnTo>
                      <a:pt x="256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48" y="37"/>
                    </a:lnTo>
                    <a:lnTo>
                      <a:pt x="244" y="30"/>
                    </a:lnTo>
                    <a:lnTo>
                      <a:pt x="240" y="24"/>
                    </a:lnTo>
                    <a:lnTo>
                      <a:pt x="234" y="19"/>
                    </a:lnTo>
                    <a:lnTo>
                      <a:pt x="227" y="14"/>
                    </a:lnTo>
                    <a:lnTo>
                      <a:pt x="220" y="9"/>
                    </a:lnTo>
                    <a:lnTo>
                      <a:pt x="212" y="6"/>
                    </a:lnTo>
                    <a:lnTo>
                      <a:pt x="203" y="3"/>
                    </a:lnTo>
                    <a:lnTo>
                      <a:pt x="194" y="1"/>
                    </a:lnTo>
                    <a:lnTo>
                      <a:pt x="185" y="0"/>
                    </a:lnTo>
                    <a:lnTo>
                      <a:pt x="174" y="0"/>
                    </a:lnTo>
                    <a:lnTo>
                      <a:pt x="163" y="0"/>
                    </a:lnTo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203"/>
              <p:cNvSpPr/>
              <p:nvPr/>
            </p:nvSpPr>
            <p:spPr>
              <a:xfrm>
                <a:off x="6154560" y="6050160"/>
                <a:ext cx="42840" cy="201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85" h="123">
                    <a:moveTo>
                      <a:pt x="106" y="28"/>
                    </a:moveTo>
                    <a:lnTo>
                      <a:pt x="86" y="36"/>
                    </a:lnTo>
                    <a:lnTo>
                      <a:pt x="68" y="44"/>
                    </a:lnTo>
                    <a:lnTo>
                      <a:pt x="52" y="53"/>
                    </a:lnTo>
                    <a:lnTo>
                      <a:pt x="38" y="62"/>
                    </a:lnTo>
                    <a:lnTo>
                      <a:pt x="25" y="71"/>
                    </a:lnTo>
                    <a:lnTo>
                      <a:pt x="16" y="79"/>
                    </a:lnTo>
                    <a:lnTo>
                      <a:pt x="7" y="87"/>
                    </a:lnTo>
                    <a:lnTo>
                      <a:pt x="3" y="94"/>
                    </a:lnTo>
                    <a:lnTo>
                      <a:pt x="2" y="99"/>
                    </a:lnTo>
                    <a:lnTo>
                      <a:pt x="0" y="101"/>
                    </a:lnTo>
                    <a:lnTo>
                      <a:pt x="0" y="105"/>
                    </a:lnTo>
                    <a:lnTo>
                      <a:pt x="2" y="108"/>
                    </a:lnTo>
                    <a:lnTo>
                      <a:pt x="3" y="111"/>
                    </a:lnTo>
                    <a:lnTo>
                      <a:pt x="5" y="113"/>
                    </a:lnTo>
                    <a:lnTo>
                      <a:pt x="7" y="115"/>
                    </a:lnTo>
                    <a:lnTo>
                      <a:pt x="12" y="118"/>
                    </a:lnTo>
                    <a:lnTo>
                      <a:pt x="21" y="120"/>
                    </a:lnTo>
                    <a:lnTo>
                      <a:pt x="35" y="121"/>
                    </a:lnTo>
                    <a:lnTo>
                      <a:pt x="53" y="121"/>
                    </a:lnTo>
                    <a:lnTo>
                      <a:pt x="74" y="119"/>
                    </a:lnTo>
                    <a:lnTo>
                      <a:pt x="96" y="118"/>
                    </a:lnTo>
                    <a:lnTo>
                      <a:pt x="116" y="115"/>
                    </a:lnTo>
                    <a:lnTo>
                      <a:pt x="135" y="115"/>
                    </a:lnTo>
                    <a:lnTo>
                      <a:pt x="151" y="115"/>
                    </a:lnTo>
                    <a:lnTo>
                      <a:pt x="179" y="116"/>
                    </a:lnTo>
                    <a:lnTo>
                      <a:pt x="203" y="119"/>
                    </a:lnTo>
                    <a:lnTo>
                      <a:pt x="221" y="122"/>
                    </a:lnTo>
                    <a:lnTo>
                      <a:pt x="236" y="123"/>
                    </a:lnTo>
                    <a:lnTo>
                      <a:pt x="243" y="123"/>
                    </a:lnTo>
                    <a:lnTo>
                      <a:pt x="249" y="122"/>
                    </a:lnTo>
                    <a:lnTo>
                      <a:pt x="255" y="121"/>
                    </a:lnTo>
                    <a:lnTo>
                      <a:pt x="262" y="119"/>
                    </a:lnTo>
                    <a:lnTo>
                      <a:pt x="267" y="115"/>
                    </a:lnTo>
                    <a:lnTo>
                      <a:pt x="273" y="107"/>
                    </a:lnTo>
                    <a:lnTo>
                      <a:pt x="277" y="98"/>
                    </a:lnTo>
                    <a:lnTo>
                      <a:pt x="282" y="86"/>
                    </a:lnTo>
                    <a:lnTo>
                      <a:pt x="284" y="73"/>
                    </a:lnTo>
                    <a:lnTo>
                      <a:pt x="285" y="59"/>
                    </a:lnTo>
                    <a:lnTo>
                      <a:pt x="285" y="52"/>
                    </a:lnTo>
                    <a:lnTo>
                      <a:pt x="284" y="46"/>
                    </a:lnTo>
                    <a:lnTo>
                      <a:pt x="283" y="39"/>
                    </a:lnTo>
                    <a:lnTo>
                      <a:pt x="281" y="34"/>
                    </a:lnTo>
                    <a:lnTo>
                      <a:pt x="278" y="28"/>
                    </a:lnTo>
                    <a:lnTo>
                      <a:pt x="274" y="22"/>
                    </a:lnTo>
                    <a:lnTo>
                      <a:pt x="269" y="17"/>
                    </a:lnTo>
                    <a:lnTo>
                      <a:pt x="264" y="13"/>
                    </a:lnTo>
                    <a:lnTo>
                      <a:pt x="257" y="8"/>
                    </a:lnTo>
                    <a:lnTo>
                      <a:pt x="250" y="4"/>
                    </a:lnTo>
                    <a:lnTo>
                      <a:pt x="241" y="2"/>
                    </a:lnTo>
                    <a:lnTo>
                      <a:pt x="232" y="1"/>
                    </a:lnTo>
                    <a:lnTo>
                      <a:pt x="220" y="0"/>
                    </a:lnTo>
                    <a:lnTo>
                      <a:pt x="208" y="0"/>
                    </a:lnTo>
                    <a:lnTo>
                      <a:pt x="194" y="2"/>
                    </a:lnTo>
                    <a:lnTo>
                      <a:pt x="180" y="4"/>
                    </a:lnTo>
                    <a:lnTo>
                      <a:pt x="164" y="8"/>
                    </a:lnTo>
                    <a:lnTo>
                      <a:pt x="146" y="13"/>
                    </a:lnTo>
                    <a:lnTo>
                      <a:pt x="127" y="20"/>
                    </a:lnTo>
                    <a:lnTo>
                      <a:pt x="106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204"/>
              <p:cNvSpPr/>
              <p:nvPr/>
            </p:nvSpPr>
            <p:spPr>
              <a:xfrm>
                <a:off x="6154560" y="6050160"/>
                <a:ext cx="42840" cy="201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85" h="123">
                    <a:moveTo>
                      <a:pt x="106" y="28"/>
                    </a:moveTo>
                    <a:lnTo>
                      <a:pt x="86" y="36"/>
                    </a:lnTo>
                    <a:lnTo>
                      <a:pt x="68" y="44"/>
                    </a:lnTo>
                    <a:lnTo>
                      <a:pt x="52" y="53"/>
                    </a:lnTo>
                    <a:lnTo>
                      <a:pt x="38" y="62"/>
                    </a:lnTo>
                    <a:lnTo>
                      <a:pt x="25" y="71"/>
                    </a:lnTo>
                    <a:lnTo>
                      <a:pt x="16" y="79"/>
                    </a:lnTo>
                    <a:lnTo>
                      <a:pt x="7" y="87"/>
                    </a:lnTo>
                    <a:lnTo>
                      <a:pt x="3" y="94"/>
                    </a:lnTo>
                    <a:lnTo>
                      <a:pt x="2" y="99"/>
                    </a:lnTo>
                    <a:lnTo>
                      <a:pt x="0" y="101"/>
                    </a:lnTo>
                    <a:lnTo>
                      <a:pt x="0" y="105"/>
                    </a:lnTo>
                    <a:lnTo>
                      <a:pt x="2" y="108"/>
                    </a:lnTo>
                    <a:lnTo>
                      <a:pt x="3" y="111"/>
                    </a:lnTo>
                    <a:lnTo>
                      <a:pt x="5" y="113"/>
                    </a:lnTo>
                    <a:lnTo>
                      <a:pt x="7" y="115"/>
                    </a:lnTo>
                    <a:lnTo>
                      <a:pt x="12" y="118"/>
                    </a:lnTo>
                    <a:lnTo>
                      <a:pt x="21" y="120"/>
                    </a:lnTo>
                    <a:lnTo>
                      <a:pt x="35" y="121"/>
                    </a:lnTo>
                    <a:lnTo>
                      <a:pt x="53" y="121"/>
                    </a:lnTo>
                    <a:lnTo>
                      <a:pt x="74" y="119"/>
                    </a:lnTo>
                    <a:lnTo>
                      <a:pt x="96" y="118"/>
                    </a:lnTo>
                    <a:lnTo>
                      <a:pt x="116" y="115"/>
                    </a:lnTo>
                    <a:lnTo>
                      <a:pt x="135" y="115"/>
                    </a:lnTo>
                    <a:lnTo>
                      <a:pt x="151" y="115"/>
                    </a:lnTo>
                    <a:lnTo>
                      <a:pt x="179" y="116"/>
                    </a:lnTo>
                    <a:lnTo>
                      <a:pt x="203" y="119"/>
                    </a:lnTo>
                    <a:lnTo>
                      <a:pt x="221" y="122"/>
                    </a:lnTo>
                    <a:lnTo>
                      <a:pt x="236" y="123"/>
                    </a:lnTo>
                    <a:lnTo>
                      <a:pt x="243" y="123"/>
                    </a:lnTo>
                    <a:lnTo>
                      <a:pt x="249" y="122"/>
                    </a:lnTo>
                    <a:lnTo>
                      <a:pt x="255" y="121"/>
                    </a:lnTo>
                    <a:lnTo>
                      <a:pt x="262" y="119"/>
                    </a:lnTo>
                    <a:lnTo>
                      <a:pt x="267" y="115"/>
                    </a:lnTo>
                    <a:lnTo>
                      <a:pt x="273" y="107"/>
                    </a:lnTo>
                    <a:lnTo>
                      <a:pt x="277" y="98"/>
                    </a:lnTo>
                    <a:lnTo>
                      <a:pt x="282" y="86"/>
                    </a:lnTo>
                    <a:lnTo>
                      <a:pt x="284" y="73"/>
                    </a:lnTo>
                    <a:lnTo>
                      <a:pt x="285" y="59"/>
                    </a:lnTo>
                    <a:lnTo>
                      <a:pt x="285" y="52"/>
                    </a:lnTo>
                    <a:lnTo>
                      <a:pt x="284" y="46"/>
                    </a:lnTo>
                    <a:lnTo>
                      <a:pt x="283" y="39"/>
                    </a:lnTo>
                    <a:lnTo>
                      <a:pt x="281" y="34"/>
                    </a:lnTo>
                    <a:lnTo>
                      <a:pt x="278" y="28"/>
                    </a:lnTo>
                    <a:lnTo>
                      <a:pt x="274" y="22"/>
                    </a:lnTo>
                    <a:lnTo>
                      <a:pt x="269" y="17"/>
                    </a:lnTo>
                    <a:lnTo>
                      <a:pt x="264" y="13"/>
                    </a:lnTo>
                    <a:lnTo>
                      <a:pt x="257" y="8"/>
                    </a:lnTo>
                    <a:lnTo>
                      <a:pt x="250" y="4"/>
                    </a:lnTo>
                    <a:lnTo>
                      <a:pt x="241" y="2"/>
                    </a:lnTo>
                    <a:lnTo>
                      <a:pt x="232" y="1"/>
                    </a:lnTo>
                    <a:lnTo>
                      <a:pt x="220" y="0"/>
                    </a:lnTo>
                    <a:lnTo>
                      <a:pt x="208" y="0"/>
                    </a:lnTo>
                    <a:lnTo>
                      <a:pt x="194" y="2"/>
                    </a:lnTo>
                    <a:lnTo>
                      <a:pt x="180" y="4"/>
                    </a:lnTo>
                    <a:lnTo>
                      <a:pt x="164" y="8"/>
                    </a:lnTo>
                    <a:lnTo>
                      <a:pt x="146" y="13"/>
                    </a:lnTo>
                    <a:lnTo>
                      <a:pt x="127" y="20"/>
                    </a:lnTo>
                    <a:lnTo>
                      <a:pt x="106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205"/>
              <p:cNvSpPr/>
              <p:nvPr/>
            </p:nvSpPr>
            <p:spPr>
              <a:xfrm>
                <a:off x="6113520" y="6056640"/>
                <a:ext cx="31320" cy="3636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07" h="221">
                    <a:moveTo>
                      <a:pt x="207" y="50"/>
                    </a:moveTo>
                    <a:lnTo>
                      <a:pt x="97" y="206"/>
                    </a:lnTo>
                    <a:lnTo>
                      <a:pt x="90" y="208"/>
                    </a:lnTo>
                    <a:lnTo>
                      <a:pt x="73" y="214"/>
                    </a:lnTo>
                    <a:lnTo>
                      <a:pt x="61" y="216"/>
                    </a:lnTo>
                    <a:lnTo>
                      <a:pt x="49" y="218"/>
                    </a:lnTo>
                    <a:lnTo>
                      <a:pt x="38" y="221"/>
                    </a:lnTo>
                    <a:lnTo>
                      <a:pt x="26" y="221"/>
                    </a:lnTo>
                    <a:lnTo>
                      <a:pt x="17" y="221"/>
                    </a:lnTo>
                    <a:lnTo>
                      <a:pt x="9" y="218"/>
                    </a:lnTo>
                    <a:lnTo>
                      <a:pt x="5" y="216"/>
                    </a:lnTo>
                    <a:lnTo>
                      <a:pt x="3" y="214"/>
                    </a:lnTo>
                    <a:lnTo>
                      <a:pt x="2" y="210"/>
                    </a:lnTo>
                    <a:lnTo>
                      <a:pt x="0" y="206"/>
                    </a:lnTo>
                    <a:lnTo>
                      <a:pt x="0" y="202"/>
                    </a:lnTo>
                    <a:lnTo>
                      <a:pt x="2" y="196"/>
                    </a:lnTo>
                    <a:lnTo>
                      <a:pt x="5" y="190"/>
                    </a:lnTo>
                    <a:lnTo>
                      <a:pt x="9" y="183"/>
                    </a:lnTo>
                    <a:lnTo>
                      <a:pt x="20" y="166"/>
                    </a:lnTo>
                    <a:lnTo>
                      <a:pt x="37" y="146"/>
                    </a:lnTo>
                    <a:lnTo>
                      <a:pt x="73" y="102"/>
                    </a:lnTo>
                    <a:lnTo>
                      <a:pt x="102" y="63"/>
                    </a:lnTo>
                    <a:lnTo>
                      <a:pt x="115" y="47"/>
                    </a:lnTo>
                    <a:lnTo>
                      <a:pt x="125" y="33"/>
                    </a:lnTo>
                    <a:lnTo>
                      <a:pt x="136" y="21"/>
                    </a:lnTo>
                    <a:lnTo>
                      <a:pt x="145" y="12"/>
                    </a:lnTo>
                    <a:lnTo>
                      <a:pt x="153" y="5"/>
                    </a:lnTo>
                    <a:lnTo>
                      <a:pt x="162" y="1"/>
                    </a:lnTo>
                    <a:lnTo>
                      <a:pt x="165" y="0"/>
                    </a:lnTo>
                    <a:lnTo>
                      <a:pt x="169" y="0"/>
                    </a:lnTo>
                    <a:lnTo>
                      <a:pt x="172" y="1"/>
                    </a:lnTo>
                    <a:lnTo>
                      <a:pt x="176" y="4"/>
                    </a:lnTo>
                    <a:lnTo>
                      <a:pt x="179" y="6"/>
                    </a:lnTo>
                    <a:lnTo>
                      <a:pt x="184" y="9"/>
                    </a:lnTo>
                    <a:lnTo>
                      <a:pt x="187" y="14"/>
                    </a:lnTo>
                    <a:lnTo>
                      <a:pt x="191" y="19"/>
                    </a:lnTo>
                    <a:lnTo>
                      <a:pt x="199" y="33"/>
                    </a:lnTo>
                    <a:lnTo>
                      <a:pt x="207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206"/>
              <p:cNvSpPr/>
              <p:nvPr/>
            </p:nvSpPr>
            <p:spPr>
              <a:xfrm>
                <a:off x="6113520" y="6056640"/>
                <a:ext cx="31320" cy="3636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07" h="221">
                    <a:moveTo>
                      <a:pt x="207" y="50"/>
                    </a:moveTo>
                    <a:lnTo>
                      <a:pt x="97" y="206"/>
                    </a:lnTo>
                    <a:lnTo>
                      <a:pt x="90" y="208"/>
                    </a:lnTo>
                    <a:lnTo>
                      <a:pt x="73" y="214"/>
                    </a:lnTo>
                    <a:lnTo>
                      <a:pt x="61" y="216"/>
                    </a:lnTo>
                    <a:lnTo>
                      <a:pt x="49" y="218"/>
                    </a:lnTo>
                    <a:lnTo>
                      <a:pt x="38" y="221"/>
                    </a:lnTo>
                    <a:lnTo>
                      <a:pt x="26" y="221"/>
                    </a:lnTo>
                    <a:lnTo>
                      <a:pt x="17" y="221"/>
                    </a:lnTo>
                    <a:lnTo>
                      <a:pt x="9" y="218"/>
                    </a:lnTo>
                    <a:lnTo>
                      <a:pt x="5" y="216"/>
                    </a:lnTo>
                    <a:lnTo>
                      <a:pt x="3" y="214"/>
                    </a:lnTo>
                    <a:lnTo>
                      <a:pt x="2" y="210"/>
                    </a:lnTo>
                    <a:lnTo>
                      <a:pt x="0" y="206"/>
                    </a:lnTo>
                    <a:lnTo>
                      <a:pt x="0" y="202"/>
                    </a:lnTo>
                    <a:lnTo>
                      <a:pt x="2" y="196"/>
                    </a:lnTo>
                    <a:lnTo>
                      <a:pt x="5" y="190"/>
                    </a:lnTo>
                    <a:lnTo>
                      <a:pt x="9" y="183"/>
                    </a:lnTo>
                    <a:lnTo>
                      <a:pt x="20" y="166"/>
                    </a:lnTo>
                    <a:lnTo>
                      <a:pt x="37" y="146"/>
                    </a:lnTo>
                    <a:lnTo>
                      <a:pt x="73" y="102"/>
                    </a:lnTo>
                    <a:lnTo>
                      <a:pt x="102" y="63"/>
                    </a:lnTo>
                    <a:lnTo>
                      <a:pt x="115" y="47"/>
                    </a:lnTo>
                    <a:lnTo>
                      <a:pt x="125" y="33"/>
                    </a:lnTo>
                    <a:lnTo>
                      <a:pt x="136" y="21"/>
                    </a:lnTo>
                    <a:lnTo>
                      <a:pt x="145" y="12"/>
                    </a:lnTo>
                    <a:lnTo>
                      <a:pt x="153" y="5"/>
                    </a:lnTo>
                    <a:lnTo>
                      <a:pt x="162" y="1"/>
                    </a:lnTo>
                    <a:lnTo>
                      <a:pt x="165" y="0"/>
                    </a:lnTo>
                    <a:lnTo>
                      <a:pt x="169" y="0"/>
                    </a:lnTo>
                    <a:lnTo>
                      <a:pt x="172" y="1"/>
                    </a:lnTo>
                    <a:lnTo>
                      <a:pt x="176" y="4"/>
                    </a:lnTo>
                    <a:lnTo>
                      <a:pt x="179" y="6"/>
                    </a:lnTo>
                    <a:lnTo>
                      <a:pt x="184" y="9"/>
                    </a:lnTo>
                    <a:lnTo>
                      <a:pt x="187" y="14"/>
                    </a:lnTo>
                    <a:lnTo>
                      <a:pt x="191" y="19"/>
                    </a:lnTo>
                    <a:lnTo>
                      <a:pt x="199" y="33"/>
                    </a:lnTo>
                    <a:lnTo>
                      <a:pt x="207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9215"/>
                    </a:srgbClr>
                  </a:gs>
                  <a:gs pos="100000">
                    <a:srgbClr val="cccccc">
                      <a:alpha val="0"/>
                    </a:srgbClr>
                  </a:gs>
                </a:gsLst>
                <a:lin ang="5400000"/>
              </a:gradFill>
              <a:ln w="9525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29"/>
                  </a:spcBef>
                </a:pP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9" name="Freeform 207"/>
            <p:cNvSpPr/>
            <p:nvPr/>
          </p:nvSpPr>
          <p:spPr>
            <a:xfrm>
              <a:off x="7687800" y="5301720"/>
              <a:ext cx="218520" cy="6840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52" h="422">
                  <a:moveTo>
                    <a:pt x="0" y="206"/>
                  </a:moveTo>
                  <a:lnTo>
                    <a:pt x="24" y="230"/>
                  </a:lnTo>
                  <a:lnTo>
                    <a:pt x="50" y="250"/>
                  </a:lnTo>
                  <a:lnTo>
                    <a:pt x="75" y="268"/>
                  </a:lnTo>
                  <a:lnTo>
                    <a:pt x="98" y="282"/>
                  </a:lnTo>
                  <a:lnTo>
                    <a:pt x="122" y="295"/>
                  </a:lnTo>
                  <a:lnTo>
                    <a:pt x="147" y="306"/>
                  </a:lnTo>
                  <a:lnTo>
                    <a:pt x="171" y="315"/>
                  </a:lnTo>
                  <a:lnTo>
                    <a:pt x="195" y="321"/>
                  </a:lnTo>
                  <a:lnTo>
                    <a:pt x="218" y="327"/>
                  </a:lnTo>
                  <a:lnTo>
                    <a:pt x="243" y="330"/>
                  </a:lnTo>
                  <a:lnTo>
                    <a:pt x="266" y="332"/>
                  </a:lnTo>
                  <a:lnTo>
                    <a:pt x="289" y="334"/>
                  </a:lnTo>
                  <a:lnTo>
                    <a:pt x="336" y="332"/>
                  </a:lnTo>
                  <a:lnTo>
                    <a:pt x="383" y="330"/>
                  </a:lnTo>
                  <a:lnTo>
                    <a:pt x="411" y="329"/>
                  </a:lnTo>
                  <a:lnTo>
                    <a:pt x="438" y="329"/>
                  </a:lnTo>
                  <a:lnTo>
                    <a:pt x="464" y="330"/>
                  </a:lnTo>
                  <a:lnTo>
                    <a:pt x="489" y="331"/>
                  </a:lnTo>
                  <a:lnTo>
                    <a:pt x="514" y="334"/>
                  </a:lnTo>
                  <a:lnTo>
                    <a:pt x="537" y="336"/>
                  </a:lnTo>
                  <a:lnTo>
                    <a:pt x="559" y="341"/>
                  </a:lnTo>
                  <a:lnTo>
                    <a:pt x="581" y="345"/>
                  </a:lnTo>
                  <a:lnTo>
                    <a:pt x="601" y="351"/>
                  </a:lnTo>
                  <a:lnTo>
                    <a:pt x="620" y="357"/>
                  </a:lnTo>
                  <a:lnTo>
                    <a:pt x="638" y="365"/>
                  </a:lnTo>
                  <a:lnTo>
                    <a:pt x="653" y="374"/>
                  </a:lnTo>
                  <a:lnTo>
                    <a:pt x="667" y="384"/>
                  </a:lnTo>
                  <a:lnTo>
                    <a:pt x="678" y="396"/>
                  </a:lnTo>
                  <a:lnTo>
                    <a:pt x="684" y="401"/>
                  </a:lnTo>
                  <a:lnTo>
                    <a:pt x="689" y="408"/>
                  </a:lnTo>
                  <a:lnTo>
                    <a:pt x="694" y="415"/>
                  </a:lnTo>
                  <a:lnTo>
                    <a:pt x="697" y="422"/>
                  </a:lnTo>
                  <a:lnTo>
                    <a:pt x="708" y="405"/>
                  </a:lnTo>
                  <a:lnTo>
                    <a:pt x="718" y="390"/>
                  </a:lnTo>
                  <a:lnTo>
                    <a:pt x="730" y="374"/>
                  </a:lnTo>
                  <a:lnTo>
                    <a:pt x="744" y="360"/>
                  </a:lnTo>
                  <a:lnTo>
                    <a:pt x="758" y="348"/>
                  </a:lnTo>
                  <a:lnTo>
                    <a:pt x="774" y="337"/>
                  </a:lnTo>
                  <a:lnTo>
                    <a:pt x="782" y="332"/>
                  </a:lnTo>
                  <a:lnTo>
                    <a:pt x="791" y="328"/>
                  </a:lnTo>
                  <a:lnTo>
                    <a:pt x="800" y="324"/>
                  </a:lnTo>
                  <a:lnTo>
                    <a:pt x="809" y="322"/>
                  </a:lnTo>
                  <a:lnTo>
                    <a:pt x="871" y="304"/>
                  </a:lnTo>
                  <a:lnTo>
                    <a:pt x="939" y="287"/>
                  </a:lnTo>
                  <a:lnTo>
                    <a:pt x="1014" y="271"/>
                  </a:lnTo>
                  <a:lnTo>
                    <a:pt x="1093" y="254"/>
                  </a:lnTo>
                  <a:lnTo>
                    <a:pt x="1177" y="239"/>
                  </a:lnTo>
                  <a:lnTo>
                    <a:pt x="1265" y="223"/>
                  </a:lnTo>
                  <a:lnTo>
                    <a:pt x="1357" y="207"/>
                  </a:lnTo>
                  <a:lnTo>
                    <a:pt x="1452" y="192"/>
                  </a:lnTo>
                  <a:lnTo>
                    <a:pt x="1439" y="177"/>
                  </a:lnTo>
                  <a:lnTo>
                    <a:pt x="1407" y="146"/>
                  </a:lnTo>
                  <a:lnTo>
                    <a:pt x="1387" y="129"/>
                  </a:lnTo>
                  <a:lnTo>
                    <a:pt x="1366" y="114"/>
                  </a:lnTo>
                  <a:lnTo>
                    <a:pt x="1356" y="108"/>
                  </a:lnTo>
                  <a:lnTo>
                    <a:pt x="1347" y="103"/>
                  </a:lnTo>
                  <a:lnTo>
                    <a:pt x="1337" y="101"/>
                  </a:lnTo>
                  <a:lnTo>
                    <a:pt x="1328" y="100"/>
                  </a:lnTo>
                  <a:lnTo>
                    <a:pt x="1308" y="101"/>
                  </a:lnTo>
                  <a:lnTo>
                    <a:pt x="1284" y="106"/>
                  </a:lnTo>
                  <a:lnTo>
                    <a:pt x="1255" y="111"/>
                  </a:lnTo>
                  <a:lnTo>
                    <a:pt x="1227" y="115"/>
                  </a:lnTo>
                  <a:lnTo>
                    <a:pt x="1212" y="116"/>
                  </a:lnTo>
                  <a:lnTo>
                    <a:pt x="1198" y="115"/>
                  </a:lnTo>
                  <a:lnTo>
                    <a:pt x="1184" y="114"/>
                  </a:lnTo>
                  <a:lnTo>
                    <a:pt x="1170" y="112"/>
                  </a:lnTo>
                  <a:lnTo>
                    <a:pt x="1159" y="107"/>
                  </a:lnTo>
                  <a:lnTo>
                    <a:pt x="1146" y="101"/>
                  </a:lnTo>
                  <a:lnTo>
                    <a:pt x="1141" y="98"/>
                  </a:lnTo>
                  <a:lnTo>
                    <a:pt x="1135" y="93"/>
                  </a:lnTo>
                  <a:lnTo>
                    <a:pt x="1131" y="88"/>
                  </a:lnTo>
                  <a:lnTo>
                    <a:pt x="1126" y="82"/>
                  </a:lnTo>
                  <a:lnTo>
                    <a:pt x="1121" y="77"/>
                  </a:lnTo>
                  <a:lnTo>
                    <a:pt x="1116" y="73"/>
                  </a:lnTo>
                  <a:lnTo>
                    <a:pt x="1111" y="68"/>
                  </a:lnTo>
                  <a:lnTo>
                    <a:pt x="1104" y="66"/>
                  </a:lnTo>
                  <a:lnTo>
                    <a:pt x="1097" y="64"/>
                  </a:lnTo>
                  <a:lnTo>
                    <a:pt x="1090" y="61"/>
                  </a:lnTo>
                  <a:lnTo>
                    <a:pt x="1081" y="60"/>
                  </a:lnTo>
                  <a:lnTo>
                    <a:pt x="1073" y="59"/>
                  </a:lnTo>
                  <a:lnTo>
                    <a:pt x="1056" y="59"/>
                  </a:lnTo>
                  <a:lnTo>
                    <a:pt x="1037" y="61"/>
                  </a:lnTo>
                  <a:lnTo>
                    <a:pt x="1020" y="64"/>
                  </a:lnTo>
                  <a:lnTo>
                    <a:pt x="1001" y="68"/>
                  </a:lnTo>
                  <a:lnTo>
                    <a:pt x="967" y="78"/>
                  </a:lnTo>
                  <a:lnTo>
                    <a:pt x="938" y="88"/>
                  </a:lnTo>
                  <a:lnTo>
                    <a:pt x="918" y="96"/>
                  </a:lnTo>
                  <a:lnTo>
                    <a:pt x="910" y="100"/>
                  </a:lnTo>
                  <a:lnTo>
                    <a:pt x="910" y="106"/>
                  </a:lnTo>
                  <a:lnTo>
                    <a:pt x="907" y="121"/>
                  </a:lnTo>
                  <a:lnTo>
                    <a:pt x="905" y="130"/>
                  </a:lnTo>
                  <a:lnTo>
                    <a:pt x="902" y="141"/>
                  </a:lnTo>
                  <a:lnTo>
                    <a:pt x="897" y="153"/>
                  </a:lnTo>
                  <a:lnTo>
                    <a:pt x="891" y="163"/>
                  </a:lnTo>
                  <a:lnTo>
                    <a:pt x="883" y="174"/>
                  </a:lnTo>
                  <a:lnTo>
                    <a:pt x="872" y="183"/>
                  </a:lnTo>
                  <a:lnTo>
                    <a:pt x="867" y="188"/>
                  </a:lnTo>
                  <a:lnTo>
                    <a:pt x="860" y="191"/>
                  </a:lnTo>
                  <a:lnTo>
                    <a:pt x="852" y="195"/>
                  </a:lnTo>
                  <a:lnTo>
                    <a:pt x="844" y="197"/>
                  </a:lnTo>
                  <a:lnTo>
                    <a:pt x="836" y="199"/>
                  </a:lnTo>
                  <a:lnTo>
                    <a:pt x="827" y="200"/>
                  </a:lnTo>
                  <a:lnTo>
                    <a:pt x="816" y="202"/>
                  </a:lnTo>
                  <a:lnTo>
                    <a:pt x="806" y="202"/>
                  </a:lnTo>
                  <a:lnTo>
                    <a:pt x="794" y="200"/>
                  </a:lnTo>
                  <a:lnTo>
                    <a:pt x="782" y="198"/>
                  </a:lnTo>
                  <a:lnTo>
                    <a:pt x="768" y="196"/>
                  </a:lnTo>
                  <a:lnTo>
                    <a:pt x="754" y="192"/>
                  </a:lnTo>
                  <a:lnTo>
                    <a:pt x="742" y="184"/>
                  </a:lnTo>
                  <a:lnTo>
                    <a:pt x="728" y="177"/>
                  </a:lnTo>
                  <a:lnTo>
                    <a:pt x="715" y="172"/>
                  </a:lnTo>
                  <a:lnTo>
                    <a:pt x="699" y="168"/>
                  </a:lnTo>
                  <a:lnTo>
                    <a:pt x="685" y="164"/>
                  </a:lnTo>
                  <a:lnTo>
                    <a:pt x="671" y="162"/>
                  </a:lnTo>
                  <a:lnTo>
                    <a:pt x="657" y="161"/>
                  </a:lnTo>
                  <a:lnTo>
                    <a:pt x="643" y="160"/>
                  </a:lnTo>
                  <a:lnTo>
                    <a:pt x="589" y="161"/>
                  </a:lnTo>
                  <a:lnTo>
                    <a:pt x="542" y="164"/>
                  </a:lnTo>
                  <a:lnTo>
                    <a:pt x="531" y="164"/>
                  </a:lnTo>
                  <a:lnTo>
                    <a:pt x="522" y="164"/>
                  </a:lnTo>
                  <a:lnTo>
                    <a:pt x="514" y="163"/>
                  </a:lnTo>
                  <a:lnTo>
                    <a:pt x="507" y="162"/>
                  </a:lnTo>
                  <a:lnTo>
                    <a:pt x="500" y="160"/>
                  </a:lnTo>
                  <a:lnTo>
                    <a:pt x="495" y="156"/>
                  </a:lnTo>
                  <a:lnTo>
                    <a:pt x="492" y="153"/>
                  </a:lnTo>
                  <a:lnTo>
                    <a:pt x="488" y="148"/>
                  </a:lnTo>
                  <a:lnTo>
                    <a:pt x="487" y="141"/>
                  </a:lnTo>
                  <a:lnTo>
                    <a:pt x="488" y="134"/>
                  </a:lnTo>
                  <a:lnTo>
                    <a:pt x="489" y="125"/>
                  </a:lnTo>
                  <a:lnTo>
                    <a:pt x="493" y="114"/>
                  </a:lnTo>
                  <a:lnTo>
                    <a:pt x="499" y="101"/>
                  </a:lnTo>
                  <a:lnTo>
                    <a:pt x="504" y="87"/>
                  </a:lnTo>
                  <a:lnTo>
                    <a:pt x="514" y="72"/>
                  </a:lnTo>
                  <a:lnTo>
                    <a:pt x="524" y="53"/>
                  </a:lnTo>
                  <a:lnTo>
                    <a:pt x="523" y="50"/>
                  </a:lnTo>
                  <a:lnTo>
                    <a:pt x="518" y="42"/>
                  </a:lnTo>
                  <a:lnTo>
                    <a:pt x="511" y="31"/>
                  </a:lnTo>
                  <a:lnTo>
                    <a:pt x="501" y="18"/>
                  </a:lnTo>
                  <a:lnTo>
                    <a:pt x="494" y="14"/>
                  </a:lnTo>
                  <a:lnTo>
                    <a:pt x="487" y="8"/>
                  </a:lnTo>
                  <a:lnTo>
                    <a:pt x="480" y="4"/>
                  </a:lnTo>
                  <a:lnTo>
                    <a:pt x="471" y="2"/>
                  </a:lnTo>
                  <a:lnTo>
                    <a:pt x="461" y="0"/>
                  </a:lnTo>
                  <a:lnTo>
                    <a:pt x="452" y="1"/>
                  </a:lnTo>
                  <a:lnTo>
                    <a:pt x="441" y="3"/>
                  </a:lnTo>
                  <a:lnTo>
                    <a:pt x="430" y="8"/>
                  </a:lnTo>
                  <a:lnTo>
                    <a:pt x="417" y="15"/>
                  </a:lnTo>
                  <a:lnTo>
                    <a:pt x="400" y="24"/>
                  </a:lnTo>
                  <a:lnTo>
                    <a:pt x="383" y="36"/>
                  </a:lnTo>
                  <a:lnTo>
                    <a:pt x="363" y="50"/>
                  </a:lnTo>
                  <a:lnTo>
                    <a:pt x="315" y="82"/>
                  </a:lnTo>
                  <a:lnTo>
                    <a:pt x="261" y="116"/>
                  </a:lnTo>
                  <a:lnTo>
                    <a:pt x="232" y="134"/>
                  </a:lnTo>
                  <a:lnTo>
                    <a:pt x="201" y="150"/>
                  </a:lnTo>
                  <a:lnTo>
                    <a:pt x="169" y="164"/>
                  </a:lnTo>
                  <a:lnTo>
                    <a:pt x="136" y="178"/>
                  </a:lnTo>
                  <a:lnTo>
                    <a:pt x="120" y="184"/>
                  </a:lnTo>
                  <a:lnTo>
                    <a:pt x="103" y="189"/>
                  </a:lnTo>
                  <a:lnTo>
                    <a:pt x="86" y="195"/>
                  </a:lnTo>
                  <a:lnTo>
                    <a:pt x="69" y="198"/>
                  </a:lnTo>
                  <a:lnTo>
                    <a:pt x="52" y="202"/>
                  </a:lnTo>
                  <a:lnTo>
                    <a:pt x="35" y="204"/>
                  </a:lnTo>
                  <a:lnTo>
                    <a:pt x="17" y="205"/>
                  </a:lnTo>
                  <a:lnTo>
                    <a:pt x="0" y="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208"/>
            <p:cNvSpPr/>
            <p:nvPr/>
          </p:nvSpPr>
          <p:spPr>
            <a:xfrm>
              <a:off x="6443640" y="5328000"/>
              <a:ext cx="358200" cy="15984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375" h="987">
                  <a:moveTo>
                    <a:pt x="916" y="921"/>
                  </a:moveTo>
                  <a:lnTo>
                    <a:pt x="0" y="826"/>
                  </a:lnTo>
                  <a:lnTo>
                    <a:pt x="16" y="801"/>
                  </a:lnTo>
                  <a:lnTo>
                    <a:pt x="31" y="778"/>
                  </a:lnTo>
                  <a:lnTo>
                    <a:pt x="45" y="756"/>
                  </a:lnTo>
                  <a:lnTo>
                    <a:pt x="61" y="737"/>
                  </a:lnTo>
                  <a:lnTo>
                    <a:pt x="75" y="718"/>
                  </a:lnTo>
                  <a:lnTo>
                    <a:pt x="89" y="702"/>
                  </a:lnTo>
                  <a:lnTo>
                    <a:pt x="101" y="687"/>
                  </a:lnTo>
                  <a:lnTo>
                    <a:pt x="115" y="674"/>
                  </a:lnTo>
                  <a:lnTo>
                    <a:pt x="128" y="661"/>
                  </a:lnTo>
                  <a:lnTo>
                    <a:pt x="140" y="651"/>
                  </a:lnTo>
                  <a:lnTo>
                    <a:pt x="153" y="640"/>
                  </a:lnTo>
                  <a:lnTo>
                    <a:pt x="165" y="632"/>
                  </a:lnTo>
                  <a:lnTo>
                    <a:pt x="176" y="624"/>
                  </a:lnTo>
                  <a:lnTo>
                    <a:pt x="188" y="617"/>
                  </a:lnTo>
                  <a:lnTo>
                    <a:pt x="200" y="611"/>
                  </a:lnTo>
                  <a:lnTo>
                    <a:pt x="211" y="605"/>
                  </a:lnTo>
                  <a:lnTo>
                    <a:pt x="233" y="597"/>
                  </a:lnTo>
                  <a:lnTo>
                    <a:pt x="256" y="590"/>
                  </a:lnTo>
                  <a:lnTo>
                    <a:pt x="277" y="583"/>
                  </a:lnTo>
                  <a:lnTo>
                    <a:pt x="299" y="578"/>
                  </a:lnTo>
                  <a:lnTo>
                    <a:pt x="320" y="572"/>
                  </a:lnTo>
                  <a:lnTo>
                    <a:pt x="341" y="565"/>
                  </a:lnTo>
                  <a:lnTo>
                    <a:pt x="363" y="557"/>
                  </a:lnTo>
                  <a:lnTo>
                    <a:pt x="385" y="547"/>
                  </a:lnTo>
                  <a:lnTo>
                    <a:pt x="410" y="534"/>
                  </a:lnTo>
                  <a:lnTo>
                    <a:pt x="434" y="517"/>
                  </a:lnTo>
                  <a:lnTo>
                    <a:pt x="461" y="500"/>
                  </a:lnTo>
                  <a:lnTo>
                    <a:pt x="487" y="480"/>
                  </a:lnTo>
                  <a:lnTo>
                    <a:pt x="514" y="458"/>
                  </a:lnTo>
                  <a:lnTo>
                    <a:pt x="541" y="434"/>
                  </a:lnTo>
                  <a:lnTo>
                    <a:pt x="568" y="411"/>
                  </a:lnTo>
                  <a:lnTo>
                    <a:pt x="593" y="388"/>
                  </a:lnTo>
                  <a:lnTo>
                    <a:pt x="642" y="340"/>
                  </a:lnTo>
                  <a:lnTo>
                    <a:pt x="686" y="298"/>
                  </a:lnTo>
                  <a:lnTo>
                    <a:pt x="719" y="263"/>
                  </a:lnTo>
                  <a:lnTo>
                    <a:pt x="743" y="238"/>
                  </a:lnTo>
                  <a:lnTo>
                    <a:pt x="752" y="231"/>
                  </a:lnTo>
                  <a:lnTo>
                    <a:pt x="761" y="225"/>
                  </a:lnTo>
                  <a:lnTo>
                    <a:pt x="771" y="222"/>
                  </a:lnTo>
                  <a:lnTo>
                    <a:pt x="780" y="219"/>
                  </a:lnTo>
                  <a:lnTo>
                    <a:pt x="800" y="216"/>
                  </a:lnTo>
                  <a:lnTo>
                    <a:pt x="821" y="212"/>
                  </a:lnTo>
                  <a:lnTo>
                    <a:pt x="833" y="210"/>
                  </a:lnTo>
                  <a:lnTo>
                    <a:pt x="843" y="205"/>
                  </a:lnTo>
                  <a:lnTo>
                    <a:pt x="855" y="200"/>
                  </a:lnTo>
                  <a:lnTo>
                    <a:pt x="867" y="191"/>
                  </a:lnTo>
                  <a:lnTo>
                    <a:pt x="877" y="181"/>
                  </a:lnTo>
                  <a:lnTo>
                    <a:pt x="889" y="167"/>
                  </a:lnTo>
                  <a:lnTo>
                    <a:pt x="902" y="151"/>
                  </a:lnTo>
                  <a:lnTo>
                    <a:pt x="913" y="130"/>
                  </a:lnTo>
                  <a:lnTo>
                    <a:pt x="924" y="110"/>
                  </a:lnTo>
                  <a:lnTo>
                    <a:pt x="934" y="92"/>
                  </a:lnTo>
                  <a:lnTo>
                    <a:pt x="947" y="75"/>
                  </a:lnTo>
                  <a:lnTo>
                    <a:pt x="960" y="58"/>
                  </a:lnTo>
                  <a:lnTo>
                    <a:pt x="988" y="28"/>
                  </a:lnTo>
                  <a:lnTo>
                    <a:pt x="1016" y="0"/>
                  </a:lnTo>
                  <a:lnTo>
                    <a:pt x="1192" y="37"/>
                  </a:lnTo>
                  <a:lnTo>
                    <a:pt x="1192" y="49"/>
                  </a:lnTo>
                  <a:lnTo>
                    <a:pt x="1194" y="62"/>
                  </a:lnTo>
                  <a:lnTo>
                    <a:pt x="1195" y="72"/>
                  </a:lnTo>
                  <a:lnTo>
                    <a:pt x="1197" y="83"/>
                  </a:lnTo>
                  <a:lnTo>
                    <a:pt x="1199" y="93"/>
                  </a:lnTo>
                  <a:lnTo>
                    <a:pt x="1203" y="103"/>
                  </a:lnTo>
                  <a:lnTo>
                    <a:pt x="1206" y="112"/>
                  </a:lnTo>
                  <a:lnTo>
                    <a:pt x="1210" y="120"/>
                  </a:lnTo>
                  <a:lnTo>
                    <a:pt x="1215" y="127"/>
                  </a:lnTo>
                  <a:lnTo>
                    <a:pt x="1219" y="134"/>
                  </a:lnTo>
                  <a:lnTo>
                    <a:pt x="1224" y="141"/>
                  </a:lnTo>
                  <a:lnTo>
                    <a:pt x="1230" y="147"/>
                  </a:lnTo>
                  <a:lnTo>
                    <a:pt x="1243" y="159"/>
                  </a:lnTo>
                  <a:lnTo>
                    <a:pt x="1256" y="168"/>
                  </a:lnTo>
                  <a:lnTo>
                    <a:pt x="1270" y="176"/>
                  </a:lnTo>
                  <a:lnTo>
                    <a:pt x="1284" y="183"/>
                  </a:lnTo>
                  <a:lnTo>
                    <a:pt x="1300" y="189"/>
                  </a:lnTo>
                  <a:lnTo>
                    <a:pt x="1315" y="194"/>
                  </a:lnTo>
                  <a:lnTo>
                    <a:pt x="1347" y="201"/>
                  </a:lnTo>
                  <a:lnTo>
                    <a:pt x="1377" y="207"/>
                  </a:lnTo>
                  <a:lnTo>
                    <a:pt x="1400" y="209"/>
                  </a:lnTo>
                  <a:lnTo>
                    <a:pt x="1439" y="209"/>
                  </a:lnTo>
                  <a:lnTo>
                    <a:pt x="1492" y="209"/>
                  </a:lnTo>
                  <a:lnTo>
                    <a:pt x="1556" y="208"/>
                  </a:lnTo>
                  <a:lnTo>
                    <a:pt x="1628" y="205"/>
                  </a:lnTo>
                  <a:lnTo>
                    <a:pt x="1708" y="204"/>
                  </a:lnTo>
                  <a:lnTo>
                    <a:pt x="1792" y="203"/>
                  </a:lnTo>
                  <a:lnTo>
                    <a:pt x="1877" y="203"/>
                  </a:lnTo>
                  <a:lnTo>
                    <a:pt x="1962" y="203"/>
                  </a:lnTo>
                  <a:lnTo>
                    <a:pt x="2046" y="205"/>
                  </a:lnTo>
                  <a:lnTo>
                    <a:pt x="2086" y="208"/>
                  </a:lnTo>
                  <a:lnTo>
                    <a:pt x="2125" y="210"/>
                  </a:lnTo>
                  <a:lnTo>
                    <a:pt x="2161" y="212"/>
                  </a:lnTo>
                  <a:lnTo>
                    <a:pt x="2196" y="216"/>
                  </a:lnTo>
                  <a:lnTo>
                    <a:pt x="2227" y="221"/>
                  </a:lnTo>
                  <a:lnTo>
                    <a:pt x="2258" y="225"/>
                  </a:lnTo>
                  <a:lnTo>
                    <a:pt x="2285" y="230"/>
                  </a:lnTo>
                  <a:lnTo>
                    <a:pt x="2308" y="237"/>
                  </a:lnTo>
                  <a:lnTo>
                    <a:pt x="2328" y="244"/>
                  </a:lnTo>
                  <a:lnTo>
                    <a:pt x="2344" y="251"/>
                  </a:lnTo>
                  <a:lnTo>
                    <a:pt x="2357" y="260"/>
                  </a:lnTo>
                  <a:lnTo>
                    <a:pt x="2364" y="270"/>
                  </a:lnTo>
                  <a:lnTo>
                    <a:pt x="2370" y="280"/>
                  </a:lnTo>
                  <a:lnTo>
                    <a:pt x="2373" y="288"/>
                  </a:lnTo>
                  <a:lnTo>
                    <a:pt x="2375" y="298"/>
                  </a:lnTo>
                  <a:lnTo>
                    <a:pt x="2375" y="306"/>
                  </a:lnTo>
                  <a:lnTo>
                    <a:pt x="2373" y="313"/>
                  </a:lnTo>
                  <a:lnTo>
                    <a:pt x="2370" y="320"/>
                  </a:lnTo>
                  <a:lnTo>
                    <a:pt x="2366" y="327"/>
                  </a:lnTo>
                  <a:lnTo>
                    <a:pt x="2361" y="333"/>
                  </a:lnTo>
                  <a:lnTo>
                    <a:pt x="2355" y="339"/>
                  </a:lnTo>
                  <a:lnTo>
                    <a:pt x="2347" y="343"/>
                  </a:lnTo>
                  <a:lnTo>
                    <a:pt x="2338" y="348"/>
                  </a:lnTo>
                  <a:lnTo>
                    <a:pt x="2329" y="353"/>
                  </a:lnTo>
                  <a:lnTo>
                    <a:pt x="2308" y="362"/>
                  </a:lnTo>
                  <a:lnTo>
                    <a:pt x="2285" y="369"/>
                  </a:lnTo>
                  <a:lnTo>
                    <a:pt x="2233" y="382"/>
                  </a:lnTo>
                  <a:lnTo>
                    <a:pt x="2180" y="395"/>
                  </a:lnTo>
                  <a:lnTo>
                    <a:pt x="2153" y="401"/>
                  </a:lnTo>
                  <a:lnTo>
                    <a:pt x="2129" y="408"/>
                  </a:lnTo>
                  <a:lnTo>
                    <a:pt x="2107" y="415"/>
                  </a:lnTo>
                  <a:lnTo>
                    <a:pt x="2088" y="423"/>
                  </a:lnTo>
                  <a:lnTo>
                    <a:pt x="2059" y="438"/>
                  </a:lnTo>
                  <a:lnTo>
                    <a:pt x="2039" y="448"/>
                  </a:lnTo>
                  <a:lnTo>
                    <a:pt x="2034" y="453"/>
                  </a:lnTo>
                  <a:lnTo>
                    <a:pt x="2029" y="457"/>
                  </a:lnTo>
                  <a:lnTo>
                    <a:pt x="2027" y="461"/>
                  </a:lnTo>
                  <a:lnTo>
                    <a:pt x="2025" y="466"/>
                  </a:lnTo>
                  <a:lnTo>
                    <a:pt x="2027" y="471"/>
                  </a:lnTo>
                  <a:lnTo>
                    <a:pt x="2028" y="475"/>
                  </a:lnTo>
                  <a:lnTo>
                    <a:pt x="2031" y="481"/>
                  </a:lnTo>
                  <a:lnTo>
                    <a:pt x="2035" y="489"/>
                  </a:lnTo>
                  <a:lnTo>
                    <a:pt x="2045" y="507"/>
                  </a:lnTo>
                  <a:lnTo>
                    <a:pt x="2057" y="533"/>
                  </a:lnTo>
                  <a:lnTo>
                    <a:pt x="2062" y="547"/>
                  </a:lnTo>
                  <a:lnTo>
                    <a:pt x="2064" y="559"/>
                  </a:lnTo>
                  <a:lnTo>
                    <a:pt x="2065" y="571"/>
                  </a:lnTo>
                  <a:lnTo>
                    <a:pt x="2064" y="583"/>
                  </a:lnTo>
                  <a:lnTo>
                    <a:pt x="2060" y="593"/>
                  </a:lnTo>
                  <a:lnTo>
                    <a:pt x="2056" y="603"/>
                  </a:lnTo>
                  <a:lnTo>
                    <a:pt x="2049" y="612"/>
                  </a:lnTo>
                  <a:lnTo>
                    <a:pt x="2041" y="620"/>
                  </a:lnTo>
                  <a:lnTo>
                    <a:pt x="2031" y="628"/>
                  </a:lnTo>
                  <a:lnTo>
                    <a:pt x="2021" y="636"/>
                  </a:lnTo>
                  <a:lnTo>
                    <a:pt x="2009" y="645"/>
                  </a:lnTo>
                  <a:lnTo>
                    <a:pt x="1995" y="653"/>
                  </a:lnTo>
                  <a:lnTo>
                    <a:pt x="1966" y="668"/>
                  </a:lnTo>
                  <a:lnTo>
                    <a:pt x="1933" y="684"/>
                  </a:lnTo>
                  <a:lnTo>
                    <a:pt x="1916" y="694"/>
                  </a:lnTo>
                  <a:lnTo>
                    <a:pt x="1900" y="702"/>
                  </a:lnTo>
                  <a:lnTo>
                    <a:pt x="1888" y="711"/>
                  </a:lnTo>
                  <a:lnTo>
                    <a:pt x="1875" y="721"/>
                  </a:lnTo>
                  <a:lnTo>
                    <a:pt x="1863" y="729"/>
                  </a:lnTo>
                  <a:lnTo>
                    <a:pt x="1854" y="738"/>
                  </a:lnTo>
                  <a:lnTo>
                    <a:pt x="1845" y="747"/>
                  </a:lnTo>
                  <a:lnTo>
                    <a:pt x="1837" y="757"/>
                  </a:lnTo>
                  <a:lnTo>
                    <a:pt x="1831" y="767"/>
                  </a:lnTo>
                  <a:lnTo>
                    <a:pt x="1827" y="777"/>
                  </a:lnTo>
                  <a:lnTo>
                    <a:pt x="1823" y="787"/>
                  </a:lnTo>
                  <a:lnTo>
                    <a:pt x="1821" y="797"/>
                  </a:lnTo>
                  <a:lnTo>
                    <a:pt x="1820" y="807"/>
                  </a:lnTo>
                  <a:lnTo>
                    <a:pt x="1820" y="819"/>
                  </a:lnTo>
                  <a:lnTo>
                    <a:pt x="1821" y="829"/>
                  </a:lnTo>
                  <a:lnTo>
                    <a:pt x="1823" y="841"/>
                  </a:lnTo>
                  <a:lnTo>
                    <a:pt x="1826" y="851"/>
                  </a:lnTo>
                  <a:lnTo>
                    <a:pt x="1826" y="863"/>
                  </a:lnTo>
                  <a:lnTo>
                    <a:pt x="1823" y="874"/>
                  </a:lnTo>
                  <a:lnTo>
                    <a:pt x="1820" y="884"/>
                  </a:lnTo>
                  <a:lnTo>
                    <a:pt x="1815" y="893"/>
                  </a:lnTo>
                  <a:lnTo>
                    <a:pt x="1808" y="903"/>
                  </a:lnTo>
                  <a:lnTo>
                    <a:pt x="1801" y="912"/>
                  </a:lnTo>
                  <a:lnTo>
                    <a:pt x="1792" y="920"/>
                  </a:lnTo>
                  <a:lnTo>
                    <a:pt x="1772" y="938"/>
                  </a:lnTo>
                  <a:lnTo>
                    <a:pt x="1748" y="954"/>
                  </a:lnTo>
                  <a:lnTo>
                    <a:pt x="1725" y="971"/>
                  </a:lnTo>
                  <a:lnTo>
                    <a:pt x="1702" y="987"/>
                  </a:lnTo>
                  <a:lnTo>
                    <a:pt x="916" y="9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209"/>
            <p:cNvSpPr/>
            <p:nvPr/>
          </p:nvSpPr>
          <p:spPr>
            <a:xfrm>
              <a:off x="6667920" y="5503680"/>
              <a:ext cx="293400" cy="2185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947" h="1344">
                  <a:moveTo>
                    <a:pt x="0" y="1293"/>
                  </a:moveTo>
                  <a:lnTo>
                    <a:pt x="1418" y="1344"/>
                  </a:lnTo>
                  <a:lnTo>
                    <a:pt x="1947" y="285"/>
                  </a:lnTo>
                  <a:lnTo>
                    <a:pt x="1509" y="253"/>
                  </a:lnTo>
                  <a:lnTo>
                    <a:pt x="1556" y="65"/>
                  </a:lnTo>
                  <a:lnTo>
                    <a:pt x="880" y="0"/>
                  </a:lnTo>
                  <a:lnTo>
                    <a:pt x="0" y="12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210"/>
            <p:cNvSpPr/>
            <p:nvPr/>
          </p:nvSpPr>
          <p:spPr>
            <a:xfrm>
              <a:off x="6597720" y="5264280"/>
              <a:ext cx="257040" cy="10764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706" h="651">
                  <a:moveTo>
                    <a:pt x="1348" y="651"/>
                  </a:moveTo>
                  <a:lnTo>
                    <a:pt x="1341" y="641"/>
                  </a:lnTo>
                  <a:lnTo>
                    <a:pt x="1328" y="632"/>
                  </a:lnTo>
                  <a:lnTo>
                    <a:pt x="1312" y="625"/>
                  </a:lnTo>
                  <a:lnTo>
                    <a:pt x="1292" y="618"/>
                  </a:lnTo>
                  <a:lnTo>
                    <a:pt x="1269" y="611"/>
                  </a:lnTo>
                  <a:lnTo>
                    <a:pt x="1242" y="606"/>
                  </a:lnTo>
                  <a:lnTo>
                    <a:pt x="1211" y="602"/>
                  </a:lnTo>
                  <a:lnTo>
                    <a:pt x="1180" y="597"/>
                  </a:lnTo>
                  <a:lnTo>
                    <a:pt x="1145" y="593"/>
                  </a:lnTo>
                  <a:lnTo>
                    <a:pt x="1109" y="591"/>
                  </a:lnTo>
                  <a:lnTo>
                    <a:pt x="1070" y="589"/>
                  </a:lnTo>
                  <a:lnTo>
                    <a:pt x="1030" y="586"/>
                  </a:lnTo>
                  <a:lnTo>
                    <a:pt x="946" y="584"/>
                  </a:lnTo>
                  <a:lnTo>
                    <a:pt x="861" y="584"/>
                  </a:lnTo>
                  <a:lnTo>
                    <a:pt x="776" y="584"/>
                  </a:lnTo>
                  <a:lnTo>
                    <a:pt x="692" y="585"/>
                  </a:lnTo>
                  <a:lnTo>
                    <a:pt x="612" y="586"/>
                  </a:lnTo>
                  <a:lnTo>
                    <a:pt x="540" y="589"/>
                  </a:lnTo>
                  <a:lnTo>
                    <a:pt x="476" y="590"/>
                  </a:lnTo>
                  <a:lnTo>
                    <a:pt x="423" y="590"/>
                  </a:lnTo>
                  <a:lnTo>
                    <a:pt x="384" y="590"/>
                  </a:lnTo>
                  <a:lnTo>
                    <a:pt x="361" y="588"/>
                  </a:lnTo>
                  <a:lnTo>
                    <a:pt x="331" y="582"/>
                  </a:lnTo>
                  <a:lnTo>
                    <a:pt x="299" y="575"/>
                  </a:lnTo>
                  <a:lnTo>
                    <a:pt x="284" y="570"/>
                  </a:lnTo>
                  <a:lnTo>
                    <a:pt x="268" y="564"/>
                  </a:lnTo>
                  <a:lnTo>
                    <a:pt x="254" y="557"/>
                  </a:lnTo>
                  <a:lnTo>
                    <a:pt x="240" y="549"/>
                  </a:lnTo>
                  <a:lnTo>
                    <a:pt x="227" y="540"/>
                  </a:lnTo>
                  <a:lnTo>
                    <a:pt x="214" y="528"/>
                  </a:lnTo>
                  <a:lnTo>
                    <a:pt x="208" y="522"/>
                  </a:lnTo>
                  <a:lnTo>
                    <a:pt x="203" y="515"/>
                  </a:lnTo>
                  <a:lnTo>
                    <a:pt x="199" y="508"/>
                  </a:lnTo>
                  <a:lnTo>
                    <a:pt x="194" y="501"/>
                  </a:lnTo>
                  <a:lnTo>
                    <a:pt x="190" y="493"/>
                  </a:lnTo>
                  <a:lnTo>
                    <a:pt x="187" y="484"/>
                  </a:lnTo>
                  <a:lnTo>
                    <a:pt x="183" y="474"/>
                  </a:lnTo>
                  <a:lnTo>
                    <a:pt x="181" y="464"/>
                  </a:lnTo>
                  <a:lnTo>
                    <a:pt x="179" y="453"/>
                  </a:lnTo>
                  <a:lnTo>
                    <a:pt x="178" y="443"/>
                  </a:lnTo>
                  <a:lnTo>
                    <a:pt x="176" y="430"/>
                  </a:lnTo>
                  <a:lnTo>
                    <a:pt x="176" y="418"/>
                  </a:lnTo>
                  <a:lnTo>
                    <a:pt x="0" y="381"/>
                  </a:lnTo>
                  <a:lnTo>
                    <a:pt x="19" y="363"/>
                  </a:lnTo>
                  <a:lnTo>
                    <a:pt x="36" y="347"/>
                  </a:lnTo>
                  <a:lnTo>
                    <a:pt x="53" y="329"/>
                  </a:lnTo>
                  <a:lnTo>
                    <a:pt x="69" y="312"/>
                  </a:lnTo>
                  <a:lnTo>
                    <a:pt x="83" y="294"/>
                  </a:lnTo>
                  <a:lnTo>
                    <a:pt x="95" y="276"/>
                  </a:lnTo>
                  <a:lnTo>
                    <a:pt x="101" y="265"/>
                  </a:lnTo>
                  <a:lnTo>
                    <a:pt x="105" y="256"/>
                  </a:lnTo>
                  <a:lnTo>
                    <a:pt x="110" y="244"/>
                  </a:lnTo>
                  <a:lnTo>
                    <a:pt x="113" y="234"/>
                  </a:lnTo>
                  <a:lnTo>
                    <a:pt x="119" y="214"/>
                  </a:lnTo>
                  <a:lnTo>
                    <a:pt x="126" y="194"/>
                  </a:lnTo>
                  <a:lnTo>
                    <a:pt x="133" y="175"/>
                  </a:lnTo>
                  <a:lnTo>
                    <a:pt x="141" y="158"/>
                  </a:lnTo>
                  <a:lnTo>
                    <a:pt x="150" y="141"/>
                  </a:lnTo>
                  <a:lnTo>
                    <a:pt x="159" y="126"/>
                  </a:lnTo>
                  <a:lnTo>
                    <a:pt x="167" y="112"/>
                  </a:lnTo>
                  <a:lnTo>
                    <a:pt x="176" y="99"/>
                  </a:lnTo>
                  <a:lnTo>
                    <a:pt x="186" y="88"/>
                  </a:lnTo>
                  <a:lnTo>
                    <a:pt x="195" y="77"/>
                  </a:lnTo>
                  <a:lnTo>
                    <a:pt x="205" y="68"/>
                  </a:lnTo>
                  <a:lnTo>
                    <a:pt x="215" y="60"/>
                  </a:lnTo>
                  <a:lnTo>
                    <a:pt x="224" y="54"/>
                  </a:lnTo>
                  <a:lnTo>
                    <a:pt x="234" y="50"/>
                  </a:lnTo>
                  <a:lnTo>
                    <a:pt x="242" y="47"/>
                  </a:lnTo>
                  <a:lnTo>
                    <a:pt x="251" y="47"/>
                  </a:lnTo>
                  <a:lnTo>
                    <a:pt x="259" y="47"/>
                  </a:lnTo>
                  <a:lnTo>
                    <a:pt x="269" y="49"/>
                  </a:lnTo>
                  <a:lnTo>
                    <a:pt x="277" y="54"/>
                  </a:lnTo>
                  <a:lnTo>
                    <a:pt x="285" y="59"/>
                  </a:lnTo>
                  <a:lnTo>
                    <a:pt x="293" y="64"/>
                  </a:lnTo>
                  <a:lnTo>
                    <a:pt x="301" y="71"/>
                  </a:lnTo>
                  <a:lnTo>
                    <a:pt x="308" y="78"/>
                  </a:lnTo>
                  <a:lnTo>
                    <a:pt x="315" y="85"/>
                  </a:lnTo>
                  <a:lnTo>
                    <a:pt x="338" y="112"/>
                  </a:lnTo>
                  <a:lnTo>
                    <a:pt x="346" y="124"/>
                  </a:lnTo>
                  <a:lnTo>
                    <a:pt x="356" y="125"/>
                  </a:lnTo>
                  <a:lnTo>
                    <a:pt x="384" y="129"/>
                  </a:lnTo>
                  <a:lnTo>
                    <a:pt x="425" y="132"/>
                  </a:lnTo>
                  <a:lnTo>
                    <a:pt x="473" y="134"/>
                  </a:lnTo>
                  <a:lnTo>
                    <a:pt x="497" y="134"/>
                  </a:lnTo>
                  <a:lnTo>
                    <a:pt x="521" y="134"/>
                  </a:lnTo>
                  <a:lnTo>
                    <a:pt x="544" y="133"/>
                  </a:lnTo>
                  <a:lnTo>
                    <a:pt x="567" y="131"/>
                  </a:lnTo>
                  <a:lnTo>
                    <a:pt x="585" y="129"/>
                  </a:lnTo>
                  <a:lnTo>
                    <a:pt x="602" y="124"/>
                  </a:lnTo>
                  <a:lnTo>
                    <a:pt x="609" y="120"/>
                  </a:lnTo>
                  <a:lnTo>
                    <a:pt x="615" y="117"/>
                  </a:lnTo>
                  <a:lnTo>
                    <a:pt x="619" y="113"/>
                  </a:lnTo>
                  <a:lnTo>
                    <a:pt x="623" y="110"/>
                  </a:lnTo>
                  <a:lnTo>
                    <a:pt x="643" y="80"/>
                  </a:lnTo>
                  <a:lnTo>
                    <a:pt x="658" y="55"/>
                  </a:lnTo>
                  <a:lnTo>
                    <a:pt x="667" y="43"/>
                  </a:lnTo>
                  <a:lnTo>
                    <a:pt x="680" y="30"/>
                  </a:lnTo>
                  <a:lnTo>
                    <a:pt x="695" y="16"/>
                  </a:lnTo>
                  <a:lnTo>
                    <a:pt x="715" y="0"/>
                  </a:lnTo>
                  <a:lnTo>
                    <a:pt x="764" y="5"/>
                  </a:lnTo>
                  <a:lnTo>
                    <a:pt x="815" y="8"/>
                  </a:lnTo>
                  <a:lnTo>
                    <a:pt x="869" y="13"/>
                  </a:lnTo>
                  <a:lnTo>
                    <a:pt x="924" y="16"/>
                  </a:lnTo>
                  <a:lnTo>
                    <a:pt x="981" y="21"/>
                  </a:lnTo>
                  <a:lnTo>
                    <a:pt x="1040" y="25"/>
                  </a:lnTo>
                  <a:lnTo>
                    <a:pt x="1100" y="28"/>
                  </a:lnTo>
                  <a:lnTo>
                    <a:pt x="1161" y="33"/>
                  </a:lnTo>
                  <a:lnTo>
                    <a:pt x="1225" y="36"/>
                  </a:lnTo>
                  <a:lnTo>
                    <a:pt x="1290" y="40"/>
                  </a:lnTo>
                  <a:lnTo>
                    <a:pt x="1356" y="43"/>
                  </a:lnTo>
                  <a:lnTo>
                    <a:pt x="1423" y="46"/>
                  </a:lnTo>
                  <a:lnTo>
                    <a:pt x="1492" y="49"/>
                  </a:lnTo>
                  <a:lnTo>
                    <a:pt x="1562" y="53"/>
                  </a:lnTo>
                  <a:lnTo>
                    <a:pt x="1633" y="55"/>
                  </a:lnTo>
                  <a:lnTo>
                    <a:pt x="1706" y="57"/>
                  </a:lnTo>
                  <a:lnTo>
                    <a:pt x="1688" y="77"/>
                  </a:lnTo>
                  <a:lnTo>
                    <a:pt x="1644" y="131"/>
                  </a:lnTo>
                  <a:lnTo>
                    <a:pt x="1613" y="167"/>
                  </a:lnTo>
                  <a:lnTo>
                    <a:pt x="1581" y="208"/>
                  </a:lnTo>
                  <a:lnTo>
                    <a:pt x="1546" y="254"/>
                  </a:lnTo>
                  <a:lnTo>
                    <a:pt x="1509" y="301"/>
                  </a:lnTo>
                  <a:lnTo>
                    <a:pt x="1474" y="352"/>
                  </a:lnTo>
                  <a:lnTo>
                    <a:pt x="1442" y="402"/>
                  </a:lnTo>
                  <a:lnTo>
                    <a:pt x="1425" y="426"/>
                  </a:lnTo>
                  <a:lnTo>
                    <a:pt x="1411" y="451"/>
                  </a:lnTo>
                  <a:lnTo>
                    <a:pt x="1397" y="476"/>
                  </a:lnTo>
                  <a:lnTo>
                    <a:pt x="1384" y="499"/>
                  </a:lnTo>
                  <a:lnTo>
                    <a:pt x="1374" y="522"/>
                  </a:lnTo>
                  <a:lnTo>
                    <a:pt x="1364" y="544"/>
                  </a:lnTo>
                  <a:lnTo>
                    <a:pt x="1356" y="565"/>
                  </a:lnTo>
                  <a:lnTo>
                    <a:pt x="1350" y="585"/>
                  </a:lnTo>
                  <a:lnTo>
                    <a:pt x="1347" y="604"/>
                  </a:lnTo>
                  <a:lnTo>
                    <a:pt x="1345" y="622"/>
                  </a:lnTo>
                  <a:lnTo>
                    <a:pt x="1346" y="637"/>
                  </a:lnTo>
                  <a:lnTo>
                    <a:pt x="1348" y="6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211"/>
            <p:cNvSpPr/>
            <p:nvPr/>
          </p:nvSpPr>
          <p:spPr>
            <a:xfrm>
              <a:off x="7446960" y="5264280"/>
              <a:ext cx="269280" cy="18180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792" h="1120">
                  <a:moveTo>
                    <a:pt x="1038" y="688"/>
                  </a:moveTo>
                  <a:lnTo>
                    <a:pt x="1052" y="695"/>
                  </a:lnTo>
                  <a:lnTo>
                    <a:pt x="1065" y="701"/>
                  </a:lnTo>
                  <a:lnTo>
                    <a:pt x="1076" y="708"/>
                  </a:lnTo>
                  <a:lnTo>
                    <a:pt x="1084" y="715"/>
                  </a:lnTo>
                  <a:lnTo>
                    <a:pt x="1091" y="722"/>
                  </a:lnTo>
                  <a:lnTo>
                    <a:pt x="1095" y="729"/>
                  </a:lnTo>
                  <a:lnTo>
                    <a:pt x="1099" y="737"/>
                  </a:lnTo>
                  <a:lnTo>
                    <a:pt x="1101" y="745"/>
                  </a:lnTo>
                  <a:lnTo>
                    <a:pt x="1106" y="778"/>
                  </a:lnTo>
                  <a:lnTo>
                    <a:pt x="1109" y="812"/>
                  </a:lnTo>
                  <a:lnTo>
                    <a:pt x="1112" y="820"/>
                  </a:lnTo>
                  <a:lnTo>
                    <a:pt x="1114" y="827"/>
                  </a:lnTo>
                  <a:lnTo>
                    <a:pt x="1116" y="833"/>
                  </a:lnTo>
                  <a:lnTo>
                    <a:pt x="1120" y="840"/>
                  </a:lnTo>
                  <a:lnTo>
                    <a:pt x="1129" y="852"/>
                  </a:lnTo>
                  <a:lnTo>
                    <a:pt x="1140" y="863"/>
                  </a:lnTo>
                  <a:lnTo>
                    <a:pt x="1154" y="875"/>
                  </a:lnTo>
                  <a:lnTo>
                    <a:pt x="1169" y="884"/>
                  </a:lnTo>
                  <a:lnTo>
                    <a:pt x="1185" y="894"/>
                  </a:lnTo>
                  <a:lnTo>
                    <a:pt x="1204" y="903"/>
                  </a:lnTo>
                  <a:lnTo>
                    <a:pt x="1223" y="911"/>
                  </a:lnTo>
                  <a:lnTo>
                    <a:pt x="1244" y="919"/>
                  </a:lnTo>
                  <a:lnTo>
                    <a:pt x="1266" y="926"/>
                  </a:lnTo>
                  <a:lnTo>
                    <a:pt x="1289" y="933"/>
                  </a:lnTo>
                  <a:lnTo>
                    <a:pt x="1337" y="947"/>
                  </a:lnTo>
                  <a:lnTo>
                    <a:pt x="1386" y="959"/>
                  </a:lnTo>
                  <a:lnTo>
                    <a:pt x="1398" y="963"/>
                  </a:lnTo>
                  <a:lnTo>
                    <a:pt x="1410" y="966"/>
                  </a:lnTo>
                  <a:lnTo>
                    <a:pt x="1420" y="971"/>
                  </a:lnTo>
                  <a:lnTo>
                    <a:pt x="1431" y="974"/>
                  </a:lnTo>
                  <a:lnTo>
                    <a:pt x="1448" y="985"/>
                  </a:lnTo>
                  <a:lnTo>
                    <a:pt x="1463" y="995"/>
                  </a:lnTo>
                  <a:lnTo>
                    <a:pt x="1477" y="1007"/>
                  </a:lnTo>
                  <a:lnTo>
                    <a:pt x="1488" y="1020"/>
                  </a:lnTo>
                  <a:lnTo>
                    <a:pt x="1497" y="1033"/>
                  </a:lnTo>
                  <a:lnTo>
                    <a:pt x="1505" y="1044"/>
                  </a:lnTo>
                  <a:lnTo>
                    <a:pt x="1511" y="1057"/>
                  </a:lnTo>
                  <a:lnTo>
                    <a:pt x="1516" y="1068"/>
                  </a:lnTo>
                  <a:lnTo>
                    <a:pt x="1519" y="1078"/>
                  </a:lnTo>
                  <a:lnTo>
                    <a:pt x="1522" y="1088"/>
                  </a:lnTo>
                  <a:lnTo>
                    <a:pt x="1524" y="1102"/>
                  </a:lnTo>
                  <a:lnTo>
                    <a:pt x="1524" y="1106"/>
                  </a:lnTo>
                  <a:lnTo>
                    <a:pt x="150" y="1120"/>
                  </a:lnTo>
                  <a:lnTo>
                    <a:pt x="176" y="680"/>
                  </a:lnTo>
                  <a:lnTo>
                    <a:pt x="176" y="674"/>
                  </a:lnTo>
                  <a:lnTo>
                    <a:pt x="174" y="659"/>
                  </a:lnTo>
                  <a:lnTo>
                    <a:pt x="170" y="637"/>
                  </a:lnTo>
                  <a:lnTo>
                    <a:pt x="167" y="610"/>
                  </a:lnTo>
                  <a:lnTo>
                    <a:pt x="162" y="581"/>
                  </a:lnTo>
                  <a:lnTo>
                    <a:pt x="159" y="551"/>
                  </a:lnTo>
                  <a:lnTo>
                    <a:pt x="154" y="525"/>
                  </a:lnTo>
                  <a:lnTo>
                    <a:pt x="150" y="505"/>
                  </a:lnTo>
                  <a:lnTo>
                    <a:pt x="148" y="495"/>
                  </a:lnTo>
                  <a:lnTo>
                    <a:pt x="145" y="485"/>
                  </a:lnTo>
                  <a:lnTo>
                    <a:pt x="140" y="474"/>
                  </a:lnTo>
                  <a:lnTo>
                    <a:pt x="134" y="464"/>
                  </a:lnTo>
                  <a:lnTo>
                    <a:pt x="119" y="442"/>
                  </a:lnTo>
                  <a:lnTo>
                    <a:pt x="101" y="417"/>
                  </a:lnTo>
                  <a:lnTo>
                    <a:pt x="82" y="391"/>
                  </a:lnTo>
                  <a:lnTo>
                    <a:pt x="61" y="365"/>
                  </a:lnTo>
                  <a:lnTo>
                    <a:pt x="39" y="338"/>
                  </a:lnTo>
                  <a:lnTo>
                    <a:pt x="18" y="308"/>
                  </a:lnTo>
                  <a:lnTo>
                    <a:pt x="9" y="294"/>
                  </a:lnTo>
                  <a:lnTo>
                    <a:pt x="3" y="283"/>
                  </a:lnTo>
                  <a:lnTo>
                    <a:pt x="1" y="271"/>
                  </a:lnTo>
                  <a:lnTo>
                    <a:pt x="0" y="261"/>
                  </a:lnTo>
                  <a:lnTo>
                    <a:pt x="1" y="250"/>
                  </a:lnTo>
                  <a:lnTo>
                    <a:pt x="3" y="240"/>
                  </a:lnTo>
                  <a:lnTo>
                    <a:pt x="7" y="229"/>
                  </a:lnTo>
                  <a:lnTo>
                    <a:pt x="10" y="220"/>
                  </a:lnTo>
                  <a:lnTo>
                    <a:pt x="15" y="208"/>
                  </a:lnTo>
                  <a:lnTo>
                    <a:pt x="20" y="198"/>
                  </a:lnTo>
                  <a:lnTo>
                    <a:pt x="24" y="185"/>
                  </a:lnTo>
                  <a:lnTo>
                    <a:pt x="28" y="172"/>
                  </a:lnTo>
                  <a:lnTo>
                    <a:pt x="30" y="157"/>
                  </a:lnTo>
                  <a:lnTo>
                    <a:pt x="31" y="141"/>
                  </a:lnTo>
                  <a:lnTo>
                    <a:pt x="30" y="124"/>
                  </a:lnTo>
                  <a:lnTo>
                    <a:pt x="27" y="104"/>
                  </a:lnTo>
                  <a:lnTo>
                    <a:pt x="90" y="103"/>
                  </a:lnTo>
                  <a:lnTo>
                    <a:pt x="147" y="102"/>
                  </a:lnTo>
                  <a:lnTo>
                    <a:pt x="200" y="101"/>
                  </a:lnTo>
                  <a:lnTo>
                    <a:pt x="245" y="99"/>
                  </a:lnTo>
                  <a:lnTo>
                    <a:pt x="285" y="98"/>
                  </a:lnTo>
                  <a:lnTo>
                    <a:pt x="319" y="96"/>
                  </a:lnTo>
                  <a:lnTo>
                    <a:pt x="346" y="95"/>
                  </a:lnTo>
                  <a:lnTo>
                    <a:pt x="367" y="92"/>
                  </a:lnTo>
                  <a:lnTo>
                    <a:pt x="375" y="80"/>
                  </a:lnTo>
                  <a:lnTo>
                    <a:pt x="384" y="68"/>
                  </a:lnTo>
                  <a:lnTo>
                    <a:pt x="392" y="57"/>
                  </a:lnTo>
                  <a:lnTo>
                    <a:pt x="400" y="49"/>
                  </a:lnTo>
                  <a:lnTo>
                    <a:pt x="409" y="42"/>
                  </a:lnTo>
                  <a:lnTo>
                    <a:pt x="416" y="36"/>
                  </a:lnTo>
                  <a:lnTo>
                    <a:pt x="424" y="30"/>
                  </a:lnTo>
                  <a:lnTo>
                    <a:pt x="430" y="27"/>
                  </a:lnTo>
                  <a:lnTo>
                    <a:pt x="441" y="21"/>
                  </a:lnTo>
                  <a:lnTo>
                    <a:pt x="451" y="19"/>
                  </a:lnTo>
                  <a:lnTo>
                    <a:pt x="456" y="18"/>
                  </a:lnTo>
                  <a:lnTo>
                    <a:pt x="459" y="18"/>
                  </a:lnTo>
                  <a:lnTo>
                    <a:pt x="583" y="0"/>
                  </a:lnTo>
                  <a:lnTo>
                    <a:pt x="706" y="124"/>
                  </a:lnTo>
                  <a:lnTo>
                    <a:pt x="757" y="120"/>
                  </a:lnTo>
                  <a:lnTo>
                    <a:pt x="803" y="118"/>
                  </a:lnTo>
                  <a:lnTo>
                    <a:pt x="845" y="118"/>
                  </a:lnTo>
                  <a:lnTo>
                    <a:pt x="882" y="119"/>
                  </a:lnTo>
                  <a:lnTo>
                    <a:pt x="912" y="120"/>
                  </a:lnTo>
                  <a:lnTo>
                    <a:pt x="935" y="122"/>
                  </a:lnTo>
                  <a:lnTo>
                    <a:pt x="949" y="124"/>
                  </a:lnTo>
                  <a:lnTo>
                    <a:pt x="954" y="124"/>
                  </a:lnTo>
                  <a:lnTo>
                    <a:pt x="1046" y="124"/>
                  </a:lnTo>
                  <a:lnTo>
                    <a:pt x="1109" y="187"/>
                  </a:lnTo>
                  <a:lnTo>
                    <a:pt x="1134" y="179"/>
                  </a:lnTo>
                  <a:lnTo>
                    <a:pt x="1157" y="173"/>
                  </a:lnTo>
                  <a:lnTo>
                    <a:pt x="1178" y="167"/>
                  </a:lnTo>
                  <a:lnTo>
                    <a:pt x="1197" y="164"/>
                  </a:lnTo>
                  <a:lnTo>
                    <a:pt x="1213" y="161"/>
                  </a:lnTo>
                  <a:lnTo>
                    <a:pt x="1229" y="160"/>
                  </a:lnTo>
                  <a:lnTo>
                    <a:pt x="1243" y="160"/>
                  </a:lnTo>
                  <a:lnTo>
                    <a:pt x="1253" y="160"/>
                  </a:lnTo>
                  <a:lnTo>
                    <a:pt x="1272" y="162"/>
                  </a:lnTo>
                  <a:lnTo>
                    <a:pt x="1285" y="166"/>
                  </a:lnTo>
                  <a:lnTo>
                    <a:pt x="1292" y="169"/>
                  </a:lnTo>
                  <a:lnTo>
                    <a:pt x="1294" y="171"/>
                  </a:lnTo>
                  <a:lnTo>
                    <a:pt x="1296" y="167"/>
                  </a:lnTo>
                  <a:lnTo>
                    <a:pt x="1302" y="159"/>
                  </a:lnTo>
                  <a:lnTo>
                    <a:pt x="1312" y="148"/>
                  </a:lnTo>
                  <a:lnTo>
                    <a:pt x="1323" y="139"/>
                  </a:lnTo>
                  <a:lnTo>
                    <a:pt x="1329" y="136"/>
                  </a:lnTo>
                  <a:lnTo>
                    <a:pt x="1337" y="132"/>
                  </a:lnTo>
                  <a:lnTo>
                    <a:pt x="1344" y="131"/>
                  </a:lnTo>
                  <a:lnTo>
                    <a:pt x="1352" y="131"/>
                  </a:lnTo>
                  <a:lnTo>
                    <a:pt x="1361" y="133"/>
                  </a:lnTo>
                  <a:lnTo>
                    <a:pt x="1369" y="138"/>
                  </a:lnTo>
                  <a:lnTo>
                    <a:pt x="1378" y="145"/>
                  </a:lnTo>
                  <a:lnTo>
                    <a:pt x="1386" y="155"/>
                  </a:lnTo>
                  <a:lnTo>
                    <a:pt x="1391" y="161"/>
                  </a:lnTo>
                  <a:lnTo>
                    <a:pt x="1397" y="166"/>
                  </a:lnTo>
                  <a:lnTo>
                    <a:pt x="1403" y="169"/>
                  </a:lnTo>
                  <a:lnTo>
                    <a:pt x="1410" y="173"/>
                  </a:lnTo>
                  <a:lnTo>
                    <a:pt x="1418" y="175"/>
                  </a:lnTo>
                  <a:lnTo>
                    <a:pt x="1426" y="176"/>
                  </a:lnTo>
                  <a:lnTo>
                    <a:pt x="1434" y="178"/>
                  </a:lnTo>
                  <a:lnTo>
                    <a:pt x="1445" y="179"/>
                  </a:lnTo>
                  <a:lnTo>
                    <a:pt x="1465" y="179"/>
                  </a:lnTo>
                  <a:lnTo>
                    <a:pt x="1488" y="178"/>
                  </a:lnTo>
                  <a:lnTo>
                    <a:pt x="1511" y="175"/>
                  </a:lnTo>
                  <a:lnTo>
                    <a:pt x="1537" y="172"/>
                  </a:lnTo>
                  <a:lnTo>
                    <a:pt x="1592" y="164"/>
                  </a:lnTo>
                  <a:lnTo>
                    <a:pt x="1648" y="157"/>
                  </a:lnTo>
                  <a:lnTo>
                    <a:pt x="1676" y="154"/>
                  </a:lnTo>
                  <a:lnTo>
                    <a:pt x="1704" y="153"/>
                  </a:lnTo>
                  <a:lnTo>
                    <a:pt x="1731" y="153"/>
                  </a:lnTo>
                  <a:lnTo>
                    <a:pt x="1758" y="155"/>
                  </a:lnTo>
                  <a:lnTo>
                    <a:pt x="1769" y="158"/>
                  </a:lnTo>
                  <a:lnTo>
                    <a:pt x="1779" y="159"/>
                  </a:lnTo>
                  <a:lnTo>
                    <a:pt x="1785" y="161"/>
                  </a:lnTo>
                  <a:lnTo>
                    <a:pt x="1789" y="164"/>
                  </a:lnTo>
                  <a:lnTo>
                    <a:pt x="1792" y="167"/>
                  </a:lnTo>
                  <a:lnTo>
                    <a:pt x="1792" y="169"/>
                  </a:lnTo>
                  <a:lnTo>
                    <a:pt x="1789" y="173"/>
                  </a:lnTo>
                  <a:lnTo>
                    <a:pt x="1785" y="176"/>
                  </a:lnTo>
                  <a:lnTo>
                    <a:pt x="1772" y="185"/>
                  </a:lnTo>
                  <a:lnTo>
                    <a:pt x="1753" y="193"/>
                  </a:lnTo>
                  <a:lnTo>
                    <a:pt x="1730" y="202"/>
                  </a:lnTo>
                  <a:lnTo>
                    <a:pt x="1703" y="212"/>
                  </a:lnTo>
                  <a:lnTo>
                    <a:pt x="1640" y="230"/>
                  </a:lnTo>
                  <a:lnTo>
                    <a:pt x="1574" y="249"/>
                  </a:lnTo>
                  <a:lnTo>
                    <a:pt x="1512" y="265"/>
                  </a:lnTo>
                  <a:lnTo>
                    <a:pt x="1463" y="279"/>
                  </a:lnTo>
                  <a:lnTo>
                    <a:pt x="1445" y="285"/>
                  </a:lnTo>
                  <a:lnTo>
                    <a:pt x="1426" y="292"/>
                  </a:lnTo>
                  <a:lnTo>
                    <a:pt x="1409" y="299"/>
                  </a:lnTo>
                  <a:lnTo>
                    <a:pt x="1393" y="307"/>
                  </a:lnTo>
                  <a:lnTo>
                    <a:pt x="1378" y="315"/>
                  </a:lnTo>
                  <a:lnTo>
                    <a:pt x="1365" y="325"/>
                  </a:lnTo>
                  <a:lnTo>
                    <a:pt x="1352" y="334"/>
                  </a:lnTo>
                  <a:lnTo>
                    <a:pt x="1342" y="344"/>
                  </a:lnTo>
                  <a:lnTo>
                    <a:pt x="1331" y="354"/>
                  </a:lnTo>
                  <a:lnTo>
                    <a:pt x="1322" y="365"/>
                  </a:lnTo>
                  <a:lnTo>
                    <a:pt x="1313" y="376"/>
                  </a:lnTo>
                  <a:lnTo>
                    <a:pt x="1306" y="387"/>
                  </a:lnTo>
                  <a:lnTo>
                    <a:pt x="1292" y="410"/>
                  </a:lnTo>
                  <a:lnTo>
                    <a:pt x="1280" y="432"/>
                  </a:lnTo>
                  <a:lnTo>
                    <a:pt x="1268" y="454"/>
                  </a:lnTo>
                  <a:lnTo>
                    <a:pt x="1255" y="478"/>
                  </a:lnTo>
                  <a:lnTo>
                    <a:pt x="1241" y="500"/>
                  </a:lnTo>
                  <a:lnTo>
                    <a:pt x="1226" y="521"/>
                  </a:lnTo>
                  <a:lnTo>
                    <a:pt x="1210" y="542"/>
                  </a:lnTo>
                  <a:lnTo>
                    <a:pt x="1194" y="563"/>
                  </a:lnTo>
                  <a:lnTo>
                    <a:pt x="1176" y="582"/>
                  </a:lnTo>
                  <a:lnTo>
                    <a:pt x="1159" y="600"/>
                  </a:lnTo>
                  <a:lnTo>
                    <a:pt x="1141" y="618"/>
                  </a:lnTo>
                  <a:lnTo>
                    <a:pt x="1123" y="633"/>
                  </a:lnTo>
                  <a:lnTo>
                    <a:pt x="1107" y="647"/>
                  </a:lnTo>
                  <a:lnTo>
                    <a:pt x="1091" y="659"/>
                  </a:lnTo>
                  <a:lnTo>
                    <a:pt x="1076" y="669"/>
                  </a:lnTo>
                  <a:lnTo>
                    <a:pt x="1062" y="679"/>
                  </a:lnTo>
                  <a:lnTo>
                    <a:pt x="1049" y="685"/>
                  </a:lnTo>
                  <a:lnTo>
                    <a:pt x="1038" y="6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212"/>
            <p:cNvSpPr/>
            <p:nvPr/>
          </p:nvSpPr>
          <p:spPr>
            <a:xfrm>
              <a:off x="7699320" y="5473440"/>
              <a:ext cx="182520" cy="2314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210" h="1423">
                  <a:moveTo>
                    <a:pt x="916" y="1423"/>
                  </a:moveTo>
                  <a:lnTo>
                    <a:pt x="915" y="1406"/>
                  </a:lnTo>
                  <a:lnTo>
                    <a:pt x="912" y="1392"/>
                  </a:lnTo>
                  <a:lnTo>
                    <a:pt x="910" y="1386"/>
                  </a:lnTo>
                  <a:lnTo>
                    <a:pt x="908" y="1381"/>
                  </a:lnTo>
                  <a:lnTo>
                    <a:pt x="905" y="1376"/>
                  </a:lnTo>
                  <a:lnTo>
                    <a:pt x="903" y="1373"/>
                  </a:lnTo>
                  <a:lnTo>
                    <a:pt x="896" y="1367"/>
                  </a:lnTo>
                  <a:lnTo>
                    <a:pt x="888" y="1364"/>
                  </a:lnTo>
                  <a:lnTo>
                    <a:pt x="879" y="1361"/>
                  </a:lnTo>
                  <a:lnTo>
                    <a:pt x="869" y="1360"/>
                  </a:lnTo>
                  <a:lnTo>
                    <a:pt x="847" y="1359"/>
                  </a:lnTo>
                  <a:lnTo>
                    <a:pt x="824" y="1357"/>
                  </a:lnTo>
                  <a:lnTo>
                    <a:pt x="811" y="1353"/>
                  </a:lnTo>
                  <a:lnTo>
                    <a:pt x="799" y="1348"/>
                  </a:lnTo>
                  <a:lnTo>
                    <a:pt x="793" y="1345"/>
                  </a:lnTo>
                  <a:lnTo>
                    <a:pt x="786" y="1341"/>
                  </a:lnTo>
                  <a:lnTo>
                    <a:pt x="780" y="1337"/>
                  </a:lnTo>
                  <a:lnTo>
                    <a:pt x="775" y="1331"/>
                  </a:lnTo>
                  <a:lnTo>
                    <a:pt x="775" y="1309"/>
                  </a:lnTo>
                  <a:lnTo>
                    <a:pt x="773" y="1288"/>
                  </a:lnTo>
                  <a:lnTo>
                    <a:pt x="771" y="1268"/>
                  </a:lnTo>
                  <a:lnTo>
                    <a:pt x="768" y="1249"/>
                  </a:lnTo>
                  <a:lnTo>
                    <a:pt x="763" y="1233"/>
                  </a:lnTo>
                  <a:lnTo>
                    <a:pt x="757" y="1216"/>
                  </a:lnTo>
                  <a:lnTo>
                    <a:pt x="749" y="1201"/>
                  </a:lnTo>
                  <a:lnTo>
                    <a:pt x="740" y="1187"/>
                  </a:lnTo>
                  <a:lnTo>
                    <a:pt x="728" y="1173"/>
                  </a:lnTo>
                  <a:lnTo>
                    <a:pt x="714" y="1160"/>
                  </a:lnTo>
                  <a:lnTo>
                    <a:pt x="698" y="1149"/>
                  </a:lnTo>
                  <a:lnTo>
                    <a:pt x="679" y="1138"/>
                  </a:lnTo>
                  <a:lnTo>
                    <a:pt x="658" y="1128"/>
                  </a:lnTo>
                  <a:lnTo>
                    <a:pt x="633" y="1117"/>
                  </a:lnTo>
                  <a:lnTo>
                    <a:pt x="606" y="1108"/>
                  </a:lnTo>
                  <a:lnTo>
                    <a:pt x="576" y="1098"/>
                  </a:lnTo>
                  <a:lnTo>
                    <a:pt x="546" y="1089"/>
                  </a:lnTo>
                  <a:lnTo>
                    <a:pt x="520" y="1080"/>
                  </a:lnTo>
                  <a:lnTo>
                    <a:pt x="498" y="1069"/>
                  </a:lnTo>
                  <a:lnTo>
                    <a:pt x="478" y="1059"/>
                  </a:lnTo>
                  <a:lnTo>
                    <a:pt x="462" y="1048"/>
                  </a:lnTo>
                  <a:lnTo>
                    <a:pt x="449" y="1037"/>
                  </a:lnTo>
                  <a:lnTo>
                    <a:pt x="437" y="1025"/>
                  </a:lnTo>
                  <a:lnTo>
                    <a:pt x="429" y="1012"/>
                  </a:lnTo>
                  <a:lnTo>
                    <a:pt x="423" y="1000"/>
                  </a:lnTo>
                  <a:lnTo>
                    <a:pt x="418" y="987"/>
                  </a:lnTo>
                  <a:lnTo>
                    <a:pt x="416" y="976"/>
                  </a:lnTo>
                  <a:lnTo>
                    <a:pt x="415" y="963"/>
                  </a:lnTo>
                  <a:lnTo>
                    <a:pt x="415" y="950"/>
                  </a:lnTo>
                  <a:lnTo>
                    <a:pt x="416" y="938"/>
                  </a:lnTo>
                  <a:lnTo>
                    <a:pt x="418" y="926"/>
                  </a:lnTo>
                  <a:lnTo>
                    <a:pt x="421" y="914"/>
                  </a:lnTo>
                  <a:lnTo>
                    <a:pt x="422" y="903"/>
                  </a:lnTo>
                  <a:lnTo>
                    <a:pt x="423" y="894"/>
                  </a:lnTo>
                  <a:lnTo>
                    <a:pt x="421" y="887"/>
                  </a:lnTo>
                  <a:lnTo>
                    <a:pt x="418" y="881"/>
                  </a:lnTo>
                  <a:lnTo>
                    <a:pt x="414" y="875"/>
                  </a:lnTo>
                  <a:lnTo>
                    <a:pt x="408" y="871"/>
                  </a:lnTo>
                  <a:lnTo>
                    <a:pt x="400" y="867"/>
                  </a:lnTo>
                  <a:lnTo>
                    <a:pt x="392" y="864"/>
                  </a:lnTo>
                  <a:lnTo>
                    <a:pt x="345" y="853"/>
                  </a:lnTo>
                  <a:lnTo>
                    <a:pt x="283" y="836"/>
                  </a:lnTo>
                  <a:lnTo>
                    <a:pt x="265" y="830"/>
                  </a:lnTo>
                  <a:lnTo>
                    <a:pt x="248" y="824"/>
                  </a:lnTo>
                  <a:lnTo>
                    <a:pt x="231" y="817"/>
                  </a:lnTo>
                  <a:lnTo>
                    <a:pt x="215" y="809"/>
                  </a:lnTo>
                  <a:lnTo>
                    <a:pt x="201" y="801"/>
                  </a:lnTo>
                  <a:lnTo>
                    <a:pt x="187" y="792"/>
                  </a:lnTo>
                  <a:lnTo>
                    <a:pt x="174" y="783"/>
                  </a:lnTo>
                  <a:lnTo>
                    <a:pt x="161" y="774"/>
                  </a:lnTo>
                  <a:lnTo>
                    <a:pt x="151" y="764"/>
                  </a:lnTo>
                  <a:lnTo>
                    <a:pt x="142" y="754"/>
                  </a:lnTo>
                  <a:lnTo>
                    <a:pt x="132" y="745"/>
                  </a:lnTo>
                  <a:lnTo>
                    <a:pt x="125" y="735"/>
                  </a:lnTo>
                  <a:lnTo>
                    <a:pt x="121" y="726"/>
                  </a:lnTo>
                  <a:lnTo>
                    <a:pt x="116" y="715"/>
                  </a:lnTo>
                  <a:lnTo>
                    <a:pt x="113" y="707"/>
                  </a:lnTo>
                  <a:lnTo>
                    <a:pt x="112" y="698"/>
                  </a:lnTo>
                  <a:lnTo>
                    <a:pt x="111" y="690"/>
                  </a:lnTo>
                  <a:lnTo>
                    <a:pt x="109" y="681"/>
                  </a:lnTo>
                  <a:lnTo>
                    <a:pt x="104" y="673"/>
                  </a:lnTo>
                  <a:lnTo>
                    <a:pt x="97" y="666"/>
                  </a:lnTo>
                  <a:lnTo>
                    <a:pt x="90" y="659"/>
                  </a:lnTo>
                  <a:lnTo>
                    <a:pt x="82" y="653"/>
                  </a:lnTo>
                  <a:lnTo>
                    <a:pt x="74" y="648"/>
                  </a:lnTo>
                  <a:lnTo>
                    <a:pt x="64" y="642"/>
                  </a:lnTo>
                  <a:lnTo>
                    <a:pt x="32" y="625"/>
                  </a:lnTo>
                  <a:lnTo>
                    <a:pt x="18" y="620"/>
                  </a:lnTo>
                  <a:lnTo>
                    <a:pt x="6" y="505"/>
                  </a:lnTo>
                  <a:lnTo>
                    <a:pt x="3" y="505"/>
                  </a:lnTo>
                  <a:lnTo>
                    <a:pt x="1" y="498"/>
                  </a:lnTo>
                  <a:lnTo>
                    <a:pt x="0" y="489"/>
                  </a:lnTo>
                  <a:lnTo>
                    <a:pt x="0" y="478"/>
                  </a:lnTo>
                  <a:lnTo>
                    <a:pt x="0" y="467"/>
                  </a:lnTo>
                  <a:lnTo>
                    <a:pt x="1" y="454"/>
                  </a:lnTo>
                  <a:lnTo>
                    <a:pt x="3" y="441"/>
                  </a:lnTo>
                  <a:lnTo>
                    <a:pt x="5" y="427"/>
                  </a:lnTo>
                  <a:lnTo>
                    <a:pt x="7" y="413"/>
                  </a:lnTo>
                  <a:lnTo>
                    <a:pt x="12" y="400"/>
                  </a:lnTo>
                  <a:lnTo>
                    <a:pt x="17" y="388"/>
                  </a:lnTo>
                  <a:lnTo>
                    <a:pt x="22" y="377"/>
                  </a:lnTo>
                  <a:lnTo>
                    <a:pt x="28" y="367"/>
                  </a:lnTo>
                  <a:lnTo>
                    <a:pt x="32" y="363"/>
                  </a:lnTo>
                  <a:lnTo>
                    <a:pt x="36" y="359"/>
                  </a:lnTo>
                  <a:lnTo>
                    <a:pt x="41" y="356"/>
                  </a:lnTo>
                  <a:lnTo>
                    <a:pt x="45" y="353"/>
                  </a:lnTo>
                  <a:lnTo>
                    <a:pt x="50" y="351"/>
                  </a:lnTo>
                  <a:lnTo>
                    <a:pt x="55" y="350"/>
                  </a:lnTo>
                  <a:lnTo>
                    <a:pt x="61" y="350"/>
                  </a:lnTo>
                  <a:lnTo>
                    <a:pt x="67" y="350"/>
                  </a:lnTo>
                  <a:lnTo>
                    <a:pt x="104" y="281"/>
                  </a:lnTo>
                  <a:lnTo>
                    <a:pt x="97" y="274"/>
                  </a:lnTo>
                  <a:lnTo>
                    <a:pt x="91" y="267"/>
                  </a:lnTo>
                  <a:lnTo>
                    <a:pt x="87" y="259"/>
                  </a:lnTo>
                  <a:lnTo>
                    <a:pt x="84" y="250"/>
                  </a:lnTo>
                  <a:lnTo>
                    <a:pt x="82" y="241"/>
                  </a:lnTo>
                  <a:lnTo>
                    <a:pt x="81" y="232"/>
                  </a:lnTo>
                  <a:lnTo>
                    <a:pt x="82" y="222"/>
                  </a:lnTo>
                  <a:lnTo>
                    <a:pt x="84" y="213"/>
                  </a:lnTo>
                  <a:lnTo>
                    <a:pt x="89" y="204"/>
                  </a:lnTo>
                  <a:lnTo>
                    <a:pt x="95" y="194"/>
                  </a:lnTo>
                  <a:lnTo>
                    <a:pt x="102" y="186"/>
                  </a:lnTo>
                  <a:lnTo>
                    <a:pt x="112" y="178"/>
                  </a:lnTo>
                  <a:lnTo>
                    <a:pt x="124" y="171"/>
                  </a:lnTo>
                  <a:lnTo>
                    <a:pt x="138" y="165"/>
                  </a:lnTo>
                  <a:lnTo>
                    <a:pt x="154" y="160"/>
                  </a:lnTo>
                  <a:lnTo>
                    <a:pt x="173" y="156"/>
                  </a:lnTo>
                  <a:lnTo>
                    <a:pt x="142" y="27"/>
                  </a:lnTo>
                  <a:lnTo>
                    <a:pt x="830" y="0"/>
                  </a:lnTo>
                  <a:lnTo>
                    <a:pt x="852" y="25"/>
                  </a:lnTo>
                  <a:lnTo>
                    <a:pt x="876" y="48"/>
                  </a:lnTo>
                  <a:lnTo>
                    <a:pt x="903" y="72"/>
                  </a:lnTo>
                  <a:lnTo>
                    <a:pt x="930" y="96"/>
                  </a:lnTo>
                  <a:lnTo>
                    <a:pt x="1077" y="629"/>
                  </a:lnTo>
                  <a:lnTo>
                    <a:pt x="1082" y="639"/>
                  </a:lnTo>
                  <a:lnTo>
                    <a:pt x="1088" y="650"/>
                  </a:lnTo>
                  <a:lnTo>
                    <a:pt x="1095" y="660"/>
                  </a:lnTo>
                  <a:lnTo>
                    <a:pt x="1102" y="672"/>
                  </a:lnTo>
                  <a:lnTo>
                    <a:pt x="1119" y="693"/>
                  </a:lnTo>
                  <a:lnTo>
                    <a:pt x="1137" y="715"/>
                  </a:lnTo>
                  <a:lnTo>
                    <a:pt x="1157" y="735"/>
                  </a:lnTo>
                  <a:lnTo>
                    <a:pt x="1175" y="753"/>
                  </a:lnTo>
                  <a:lnTo>
                    <a:pt x="1194" y="769"/>
                  </a:lnTo>
                  <a:lnTo>
                    <a:pt x="1210" y="782"/>
                  </a:lnTo>
                  <a:lnTo>
                    <a:pt x="1188" y="806"/>
                  </a:lnTo>
                  <a:lnTo>
                    <a:pt x="1169" y="831"/>
                  </a:lnTo>
                  <a:lnTo>
                    <a:pt x="1161" y="841"/>
                  </a:lnTo>
                  <a:lnTo>
                    <a:pt x="1154" y="853"/>
                  </a:lnTo>
                  <a:lnTo>
                    <a:pt x="1148" y="865"/>
                  </a:lnTo>
                  <a:lnTo>
                    <a:pt x="1143" y="877"/>
                  </a:lnTo>
                  <a:lnTo>
                    <a:pt x="1138" y="889"/>
                  </a:lnTo>
                  <a:lnTo>
                    <a:pt x="1134" y="902"/>
                  </a:lnTo>
                  <a:lnTo>
                    <a:pt x="1131" y="915"/>
                  </a:lnTo>
                  <a:lnTo>
                    <a:pt x="1127" y="930"/>
                  </a:lnTo>
                  <a:lnTo>
                    <a:pt x="1126" y="945"/>
                  </a:lnTo>
                  <a:lnTo>
                    <a:pt x="1124" y="963"/>
                  </a:lnTo>
                  <a:lnTo>
                    <a:pt x="1124" y="980"/>
                  </a:lnTo>
                  <a:lnTo>
                    <a:pt x="1124" y="1000"/>
                  </a:lnTo>
                  <a:lnTo>
                    <a:pt x="1124" y="1041"/>
                  </a:lnTo>
                  <a:lnTo>
                    <a:pt x="1125" y="1081"/>
                  </a:lnTo>
                  <a:lnTo>
                    <a:pt x="1127" y="1119"/>
                  </a:lnTo>
                  <a:lnTo>
                    <a:pt x="1131" y="1156"/>
                  </a:lnTo>
                  <a:lnTo>
                    <a:pt x="1133" y="1186"/>
                  </a:lnTo>
                  <a:lnTo>
                    <a:pt x="1136" y="1209"/>
                  </a:lnTo>
                  <a:lnTo>
                    <a:pt x="1137" y="1225"/>
                  </a:lnTo>
                  <a:lnTo>
                    <a:pt x="1138" y="1230"/>
                  </a:lnTo>
                  <a:lnTo>
                    <a:pt x="1123" y="1257"/>
                  </a:lnTo>
                  <a:lnTo>
                    <a:pt x="1108" y="1281"/>
                  </a:lnTo>
                  <a:lnTo>
                    <a:pt x="1094" y="1299"/>
                  </a:lnTo>
                  <a:lnTo>
                    <a:pt x="1080" y="1315"/>
                  </a:lnTo>
                  <a:lnTo>
                    <a:pt x="1067" y="1327"/>
                  </a:lnTo>
                  <a:lnTo>
                    <a:pt x="1053" y="1338"/>
                  </a:lnTo>
                  <a:lnTo>
                    <a:pt x="1040" y="1347"/>
                  </a:lnTo>
                  <a:lnTo>
                    <a:pt x="1027" y="1354"/>
                  </a:lnTo>
                  <a:lnTo>
                    <a:pt x="1001" y="1367"/>
                  </a:lnTo>
                  <a:lnTo>
                    <a:pt x="974" y="1380"/>
                  </a:lnTo>
                  <a:lnTo>
                    <a:pt x="960" y="1388"/>
                  </a:lnTo>
                  <a:lnTo>
                    <a:pt x="946" y="1397"/>
                  </a:lnTo>
                  <a:lnTo>
                    <a:pt x="931" y="1409"/>
                  </a:lnTo>
                  <a:lnTo>
                    <a:pt x="916" y="14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213"/>
            <p:cNvSpPr/>
            <p:nvPr/>
          </p:nvSpPr>
          <p:spPr>
            <a:xfrm>
              <a:off x="8112240" y="5486400"/>
              <a:ext cx="140760" cy="1508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32" h="925">
                  <a:moveTo>
                    <a:pt x="10" y="740"/>
                  </a:moveTo>
                  <a:lnTo>
                    <a:pt x="6" y="735"/>
                  </a:lnTo>
                  <a:lnTo>
                    <a:pt x="2" y="729"/>
                  </a:lnTo>
                  <a:lnTo>
                    <a:pt x="1" y="723"/>
                  </a:lnTo>
                  <a:lnTo>
                    <a:pt x="0" y="717"/>
                  </a:lnTo>
                  <a:lnTo>
                    <a:pt x="2" y="704"/>
                  </a:lnTo>
                  <a:lnTo>
                    <a:pt x="7" y="690"/>
                  </a:lnTo>
                  <a:lnTo>
                    <a:pt x="11" y="674"/>
                  </a:lnTo>
                  <a:lnTo>
                    <a:pt x="17" y="654"/>
                  </a:lnTo>
                  <a:lnTo>
                    <a:pt x="18" y="642"/>
                  </a:lnTo>
                  <a:lnTo>
                    <a:pt x="20" y="631"/>
                  </a:lnTo>
                  <a:lnTo>
                    <a:pt x="20" y="617"/>
                  </a:lnTo>
                  <a:lnTo>
                    <a:pt x="18" y="601"/>
                  </a:lnTo>
                  <a:lnTo>
                    <a:pt x="32" y="598"/>
                  </a:lnTo>
                  <a:lnTo>
                    <a:pt x="44" y="593"/>
                  </a:lnTo>
                  <a:lnTo>
                    <a:pt x="54" y="589"/>
                  </a:lnTo>
                  <a:lnTo>
                    <a:pt x="62" y="582"/>
                  </a:lnTo>
                  <a:lnTo>
                    <a:pt x="68" y="573"/>
                  </a:lnTo>
                  <a:lnTo>
                    <a:pt x="72" y="564"/>
                  </a:lnTo>
                  <a:lnTo>
                    <a:pt x="76" y="555"/>
                  </a:lnTo>
                  <a:lnTo>
                    <a:pt x="78" y="544"/>
                  </a:lnTo>
                  <a:lnTo>
                    <a:pt x="79" y="534"/>
                  </a:lnTo>
                  <a:lnTo>
                    <a:pt x="80" y="522"/>
                  </a:lnTo>
                  <a:lnTo>
                    <a:pt x="80" y="510"/>
                  </a:lnTo>
                  <a:lnTo>
                    <a:pt x="79" y="497"/>
                  </a:lnTo>
                  <a:lnTo>
                    <a:pt x="77" y="472"/>
                  </a:lnTo>
                  <a:lnTo>
                    <a:pt x="73" y="446"/>
                  </a:lnTo>
                  <a:lnTo>
                    <a:pt x="92" y="434"/>
                  </a:lnTo>
                  <a:lnTo>
                    <a:pt x="105" y="425"/>
                  </a:lnTo>
                  <a:lnTo>
                    <a:pt x="110" y="422"/>
                  </a:lnTo>
                  <a:lnTo>
                    <a:pt x="113" y="418"/>
                  </a:lnTo>
                  <a:lnTo>
                    <a:pt x="117" y="413"/>
                  </a:lnTo>
                  <a:lnTo>
                    <a:pt x="119" y="409"/>
                  </a:lnTo>
                  <a:lnTo>
                    <a:pt x="127" y="383"/>
                  </a:lnTo>
                  <a:lnTo>
                    <a:pt x="142" y="332"/>
                  </a:lnTo>
                  <a:lnTo>
                    <a:pt x="149" y="308"/>
                  </a:lnTo>
                  <a:lnTo>
                    <a:pt x="154" y="290"/>
                  </a:lnTo>
                  <a:lnTo>
                    <a:pt x="157" y="272"/>
                  </a:lnTo>
                  <a:lnTo>
                    <a:pt x="157" y="257"/>
                  </a:lnTo>
                  <a:lnTo>
                    <a:pt x="157" y="244"/>
                  </a:lnTo>
                  <a:lnTo>
                    <a:pt x="155" y="232"/>
                  </a:lnTo>
                  <a:lnTo>
                    <a:pt x="152" y="221"/>
                  </a:lnTo>
                  <a:lnTo>
                    <a:pt x="147" y="211"/>
                  </a:lnTo>
                  <a:lnTo>
                    <a:pt x="136" y="193"/>
                  </a:lnTo>
                  <a:lnTo>
                    <a:pt x="122" y="174"/>
                  </a:lnTo>
                  <a:lnTo>
                    <a:pt x="117" y="163"/>
                  </a:lnTo>
                  <a:lnTo>
                    <a:pt x="110" y="152"/>
                  </a:lnTo>
                  <a:lnTo>
                    <a:pt x="103" y="139"/>
                  </a:lnTo>
                  <a:lnTo>
                    <a:pt x="97" y="124"/>
                  </a:lnTo>
                  <a:lnTo>
                    <a:pt x="91" y="109"/>
                  </a:lnTo>
                  <a:lnTo>
                    <a:pt x="87" y="95"/>
                  </a:lnTo>
                  <a:lnTo>
                    <a:pt x="86" y="82"/>
                  </a:lnTo>
                  <a:lnTo>
                    <a:pt x="85" y="71"/>
                  </a:lnTo>
                  <a:lnTo>
                    <a:pt x="85" y="62"/>
                  </a:lnTo>
                  <a:lnTo>
                    <a:pt x="86" y="52"/>
                  </a:lnTo>
                  <a:lnTo>
                    <a:pt x="87" y="45"/>
                  </a:lnTo>
                  <a:lnTo>
                    <a:pt x="90" y="38"/>
                  </a:lnTo>
                  <a:lnTo>
                    <a:pt x="94" y="27"/>
                  </a:lnTo>
                  <a:lnTo>
                    <a:pt x="98" y="16"/>
                  </a:lnTo>
                  <a:lnTo>
                    <a:pt x="99" y="13"/>
                  </a:lnTo>
                  <a:lnTo>
                    <a:pt x="99" y="8"/>
                  </a:lnTo>
                  <a:lnTo>
                    <a:pt x="98" y="5"/>
                  </a:lnTo>
                  <a:lnTo>
                    <a:pt x="97" y="0"/>
                  </a:lnTo>
                  <a:lnTo>
                    <a:pt x="106" y="5"/>
                  </a:lnTo>
                  <a:lnTo>
                    <a:pt x="114" y="10"/>
                  </a:lnTo>
                  <a:lnTo>
                    <a:pt x="120" y="16"/>
                  </a:lnTo>
                  <a:lnTo>
                    <a:pt x="126" y="22"/>
                  </a:lnTo>
                  <a:lnTo>
                    <a:pt x="136" y="36"/>
                  </a:lnTo>
                  <a:lnTo>
                    <a:pt x="146" y="50"/>
                  </a:lnTo>
                  <a:lnTo>
                    <a:pt x="150" y="57"/>
                  </a:lnTo>
                  <a:lnTo>
                    <a:pt x="155" y="63"/>
                  </a:lnTo>
                  <a:lnTo>
                    <a:pt x="161" y="69"/>
                  </a:lnTo>
                  <a:lnTo>
                    <a:pt x="168" y="73"/>
                  </a:lnTo>
                  <a:lnTo>
                    <a:pt x="176" y="78"/>
                  </a:lnTo>
                  <a:lnTo>
                    <a:pt x="187" y="80"/>
                  </a:lnTo>
                  <a:lnTo>
                    <a:pt x="198" y="83"/>
                  </a:lnTo>
                  <a:lnTo>
                    <a:pt x="211" y="83"/>
                  </a:lnTo>
                  <a:lnTo>
                    <a:pt x="218" y="84"/>
                  </a:lnTo>
                  <a:lnTo>
                    <a:pt x="224" y="84"/>
                  </a:lnTo>
                  <a:lnTo>
                    <a:pt x="229" y="85"/>
                  </a:lnTo>
                  <a:lnTo>
                    <a:pt x="233" y="87"/>
                  </a:lnTo>
                  <a:lnTo>
                    <a:pt x="237" y="90"/>
                  </a:lnTo>
                  <a:lnTo>
                    <a:pt x="239" y="92"/>
                  </a:lnTo>
                  <a:lnTo>
                    <a:pt x="242" y="95"/>
                  </a:lnTo>
                  <a:lnTo>
                    <a:pt x="243" y="98"/>
                  </a:lnTo>
                  <a:lnTo>
                    <a:pt x="245" y="106"/>
                  </a:lnTo>
                  <a:lnTo>
                    <a:pt x="245" y="116"/>
                  </a:lnTo>
                  <a:lnTo>
                    <a:pt x="244" y="127"/>
                  </a:lnTo>
                  <a:lnTo>
                    <a:pt x="243" y="139"/>
                  </a:lnTo>
                  <a:lnTo>
                    <a:pt x="242" y="153"/>
                  </a:lnTo>
                  <a:lnTo>
                    <a:pt x="242" y="167"/>
                  </a:lnTo>
                  <a:lnTo>
                    <a:pt x="242" y="182"/>
                  </a:lnTo>
                  <a:lnTo>
                    <a:pt x="243" y="198"/>
                  </a:lnTo>
                  <a:lnTo>
                    <a:pt x="246" y="216"/>
                  </a:lnTo>
                  <a:lnTo>
                    <a:pt x="253" y="234"/>
                  </a:lnTo>
                  <a:lnTo>
                    <a:pt x="257" y="243"/>
                  </a:lnTo>
                  <a:lnTo>
                    <a:pt x="263" y="252"/>
                  </a:lnTo>
                  <a:lnTo>
                    <a:pt x="268" y="262"/>
                  </a:lnTo>
                  <a:lnTo>
                    <a:pt x="275" y="271"/>
                  </a:lnTo>
                  <a:lnTo>
                    <a:pt x="288" y="271"/>
                  </a:lnTo>
                  <a:lnTo>
                    <a:pt x="302" y="271"/>
                  </a:lnTo>
                  <a:lnTo>
                    <a:pt x="316" y="271"/>
                  </a:lnTo>
                  <a:lnTo>
                    <a:pt x="330" y="270"/>
                  </a:lnTo>
                  <a:lnTo>
                    <a:pt x="361" y="265"/>
                  </a:lnTo>
                  <a:lnTo>
                    <a:pt x="393" y="259"/>
                  </a:lnTo>
                  <a:lnTo>
                    <a:pt x="426" y="252"/>
                  </a:lnTo>
                  <a:lnTo>
                    <a:pt x="462" y="245"/>
                  </a:lnTo>
                  <a:lnTo>
                    <a:pt x="499" y="237"/>
                  </a:lnTo>
                  <a:lnTo>
                    <a:pt x="537" y="230"/>
                  </a:lnTo>
                  <a:lnTo>
                    <a:pt x="559" y="262"/>
                  </a:lnTo>
                  <a:lnTo>
                    <a:pt x="579" y="285"/>
                  </a:lnTo>
                  <a:lnTo>
                    <a:pt x="587" y="293"/>
                  </a:lnTo>
                  <a:lnTo>
                    <a:pt x="596" y="301"/>
                  </a:lnTo>
                  <a:lnTo>
                    <a:pt x="604" y="306"/>
                  </a:lnTo>
                  <a:lnTo>
                    <a:pt x="611" y="311"/>
                  </a:lnTo>
                  <a:lnTo>
                    <a:pt x="617" y="314"/>
                  </a:lnTo>
                  <a:lnTo>
                    <a:pt x="622" y="315"/>
                  </a:lnTo>
                  <a:lnTo>
                    <a:pt x="628" y="316"/>
                  </a:lnTo>
                  <a:lnTo>
                    <a:pt x="634" y="316"/>
                  </a:lnTo>
                  <a:lnTo>
                    <a:pt x="640" y="315"/>
                  </a:lnTo>
                  <a:lnTo>
                    <a:pt x="645" y="313"/>
                  </a:lnTo>
                  <a:lnTo>
                    <a:pt x="649" y="309"/>
                  </a:lnTo>
                  <a:lnTo>
                    <a:pt x="654" y="307"/>
                  </a:lnTo>
                  <a:lnTo>
                    <a:pt x="674" y="290"/>
                  </a:lnTo>
                  <a:lnTo>
                    <a:pt x="697" y="270"/>
                  </a:lnTo>
                  <a:lnTo>
                    <a:pt x="704" y="266"/>
                  </a:lnTo>
                  <a:lnTo>
                    <a:pt x="711" y="262"/>
                  </a:lnTo>
                  <a:lnTo>
                    <a:pt x="719" y="258"/>
                  </a:lnTo>
                  <a:lnTo>
                    <a:pt x="728" y="256"/>
                  </a:lnTo>
                  <a:lnTo>
                    <a:pt x="736" y="253"/>
                  </a:lnTo>
                  <a:lnTo>
                    <a:pt x="746" y="252"/>
                  </a:lnTo>
                  <a:lnTo>
                    <a:pt x="757" y="252"/>
                  </a:lnTo>
                  <a:lnTo>
                    <a:pt x="767" y="253"/>
                  </a:lnTo>
                  <a:lnTo>
                    <a:pt x="807" y="258"/>
                  </a:lnTo>
                  <a:lnTo>
                    <a:pt x="834" y="260"/>
                  </a:lnTo>
                  <a:lnTo>
                    <a:pt x="854" y="262"/>
                  </a:lnTo>
                  <a:lnTo>
                    <a:pt x="867" y="260"/>
                  </a:lnTo>
                  <a:lnTo>
                    <a:pt x="878" y="260"/>
                  </a:lnTo>
                  <a:lnTo>
                    <a:pt x="891" y="259"/>
                  </a:lnTo>
                  <a:lnTo>
                    <a:pt x="907" y="260"/>
                  </a:lnTo>
                  <a:lnTo>
                    <a:pt x="932" y="262"/>
                  </a:lnTo>
                  <a:lnTo>
                    <a:pt x="924" y="270"/>
                  </a:lnTo>
                  <a:lnTo>
                    <a:pt x="916" y="280"/>
                  </a:lnTo>
                  <a:lnTo>
                    <a:pt x="907" y="293"/>
                  </a:lnTo>
                  <a:lnTo>
                    <a:pt x="898" y="308"/>
                  </a:lnTo>
                  <a:lnTo>
                    <a:pt x="878" y="343"/>
                  </a:lnTo>
                  <a:lnTo>
                    <a:pt x="858" y="382"/>
                  </a:lnTo>
                  <a:lnTo>
                    <a:pt x="836" y="423"/>
                  </a:lnTo>
                  <a:lnTo>
                    <a:pt x="814" y="462"/>
                  </a:lnTo>
                  <a:lnTo>
                    <a:pt x="802" y="480"/>
                  </a:lnTo>
                  <a:lnTo>
                    <a:pt x="791" y="496"/>
                  </a:lnTo>
                  <a:lnTo>
                    <a:pt x="779" y="512"/>
                  </a:lnTo>
                  <a:lnTo>
                    <a:pt x="767" y="524"/>
                  </a:lnTo>
                  <a:lnTo>
                    <a:pt x="763" y="530"/>
                  </a:lnTo>
                  <a:lnTo>
                    <a:pt x="758" y="538"/>
                  </a:lnTo>
                  <a:lnTo>
                    <a:pt x="753" y="547"/>
                  </a:lnTo>
                  <a:lnTo>
                    <a:pt x="750" y="556"/>
                  </a:lnTo>
                  <a:lnTo>
                    <a:pt x="744" y="577"/>
                  </a:lnTo>
                  <a:lnTo>
                    <a:pt x="738" y="600"/>
                  </a:lnTo>
                  <a:lnTo>
                    <a:pt x="731" y="652"/>
                  </a:lnTo>
                  <a:lnTo>
                    <a:pt x="724" y="708"/>
                  </a:lnTo>
                  <a:lnTo>
                    <a:pt x="719" y="736"/>
                  </a:lnTo>
                  <a:lnTo>
                    <a:pt x="713" y="764"/>
                  </a:lnTo>
                  <a:lnTo>
                    <a:pt x="710" y="777"/>
                  </a:lnTo>
                  <a:lnTo>
                    <a:pt x="706" y="790"/>
                  </a:lnTo>
                  <a:lnTo>
                    <a:pt x="702" y="802"/>
                  </a:lnTo>
                  <a:lnTo>
                    <a:pt x="697" y="814"/>
                  </a:lnTo>
                  <a:lnTo>
                    <a:pt x="691" y="825"/>
                  </a:lnTo>
                  <a:lnTo>
                    <a:pt x="684" y="835"/>
                  </a:lnTo>
                  <a:lnTo>
                    <a:pt x="677" y="846"/>
                  </a:lnTo>
                  <a:lnTo>
                    <a:pt x="670" y="855"/>
                  </a:lnTo>
                  <a:lnTo>
                    <a:pt x="661" y="863"/>
                  </a:lnTo>
                  <a:lnTo>
                    <a:pt x="652" y="870"/>
                  </a:lnTo>
                  <a:lnTo>
                    <a:pt x="641" y="876"/>
                  </a:lnTo>
                  <a:lnTo>
                    <a:pt x="629" y="881"/>
                  </a:lnTo>
                  <a:lnTo>
                    <a:pt x="597" y="891"/>
                  </a:lnTo>
                  <a:lnTo>
                    <a:pt x="566" y="900"/>
                  </a:lnTo>
                  <a:lnTo>
                    <a:pt x="537" y="907"/>
                  </a:lnTo>
                  <a:lnTo>
                    <a:pt x="509" y="913"/>
                  </a:lnTo>
                  <a:lnTo>
                    <a:pt x="482" y="918"/>
                  </a:lnTo>
                  <a:lnTo>
                    <a:pt x="458" y="922"/>
                  </a:lnTo>
                  <a:lnTo>
                    <a:pt x="433" y="924"/>
                  </a:lnTo>
                  <a:lnTo>
                    <a:pt x="410" y="925"/>
                  </a:lnTo>
                  <a:lnTo>
                    <a:pt x="388" y="925"/>
                  </a:lnTo>
                  <a:lnTo>
                    <a:pt x="367" y="924"/>
                  </a:lnTo>
                  <a:lnTo>
                    <a:pt x="347" y="922"/>
                  </a:lnTo>
                  <a:lnTo>
                    <a:pt x="328" y="919"/>
                  </a:lnTo>
                  <a:lnTo>
                    <a:pt x="309" y="916"/>
                  </a:lnTo>
                  <a:lnTo>
                    <a:pt x="292" y="912"/>
                  </a:lnTo>
                  <a:lnTo>
                    <a:pt x="275" y="907"/>
                  </a:lnTo>
                  <a:lnTo>
                    <a:pt x="260" y="903"/>
                  </a:lnTo>
                  <a:lnTo>
                    <a:pt x="231" y="892"/>
                  </a:lnTo>
                  <a:lnTo>
                    <a:pt x="205" y="882"/>
                  </a:lnTo>
                  <a:lnTo>
                    <a:pt x="181" y="871"/>
                  </a:lnTo>
                  <a:lnTo>
                    <a:pt x="160" y="861"/>
                  </a:lnTo>
                  <a:lnTo>
                    <a:pt x="140" y="851"/>
                  </a:lnTo>
                  <a:lnTo>
                    <a:pt x="121" y="846"/>
                  </a:lnTo>
                  <a:lnTo>
                    <a:pt x="113" y="843"/>
                  </a:lnTo>
                  <a:lnTo>
                    <a:pt x="104" y="841"/>
                  </a:lnTo>
                  <a:lnTo>
                    <a:pt x="96" y="841"/>
                  </a:lnTo>
                  <a:lnTo>
                    <a:pt x="87" y="841"/>
                  </a:lnTo>
                  <a:lnTo>
                    <a:pt x="73" y="839"/>
                  </a:lnTo>
                  <a:lnTo>
                    <a:pt x="61" y="835"/>
                  </a:lnTo>
                  <a:lnTo>
                    <a:pt x="50" y="830"/>
                  </a:lnTo>
                  <a:lnTo>
                    <a:pt x="39" y="825"/>
                  </a:lnTo>
                  <a:lnTo>
                    <a:pt x="30" y="819"/>
                  </a:lnTo>
                  <a:lnTo>
                    <a:pt x="23" y="812"/>
                  </a:lnTo>
                  <a:lnTo>
                    <a:pt x="16" y="804"/>
                  </a:lnTo>
                  <a:lnTo>
                    <a:pt x="11" y="795"/>
                  </a:lnTo>
                  <a:lnTo>
                    <a:pt x="7" y="788"/>
                  </a:lnTo>
                  <a:lnTo>
                    <a:pt x="4" y="780"/>
                  </a:lnTo>
                  <a:lnTo>
                    <a:pt x="2" y="772"/>
                  </a:lnTo>
                  <a:lnTo>
                    <a:pt x="1" y="764"/>
                  </a:lnTo>
                  <a:lnTo>
                    <a:pt x="2" y="757"/>
                  </a:lnTo>
                  <a:lnTo>
                    <a:pt x="3" y="751"/>
                  </a:lnTo>
                  <a:lnTo>
                    <a:pt x="6" y="745"/>
                  </a:lnTo>
                  <a:lnTo>
                    <a:pt x="10" y="74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214"/>
            <p:cNvSpPr/>
            <p:nvPr/>
          </p:nvSpPr>
          <p:spPr>
            <a:xfrm>
              <a:off x="8110800" y="5418000"/>
              <a:ext cx="235800" cy="1108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568" h="689">
                  <a:moveTo>
                    <a:pt x="548" y="648"/>
                  </a:moveTo>
                  <a:lnTo>
                    <a:pt x="508" y="655"/>
                  </a:lnTo>
                  <a:lnTo>
                    <a:pt x="471" y="663"/>
                  </a:lnTo>
                  <a:lnTo>
                    <a:pt x="435" y="670"/>
                  </a:lnTo>
                  <a:lnTo>
                    <a:pt x="402" y="677"/>
                  </a:lnTo>
                  <a:lnTo>
                    <a:pt x="371" y="683"/>
                  </a:lnTo>
                  <a:lnTo>
                    <a:pt x="340" y="688"/>
                  </a:lnTo>
                  <a:lnTo>
                    <a:pt x="326" y="689"/>
                  </a:lnTo>
                  <a:lnTo>
                    <a:pt x="312" y="689"/>
                  </a:lnTo>
                  <a:lnTo>
                    <a:pt x="299" y="689"/>
                  </a:lnTo>
                  <a:lnTo>
                    <a:pt x="286" y="689"/>
                  </a:lnTo>
                  <a:lnTo>
                    <a:pt x="279" y="680"/>
                  </a:lnTo>
                  <a:lnTo>
                    <a:pt x="274" y="670"/>
                  </a:lnTo>
                  <a:lnTo>
                    <a:pt x="268" y="661"/>
                  </a:lnTo>
                  <a:lnTo>
                    <a:pt x="264" y="652"/>
                  </a:lnTo>
                  <a:lnTo>
                    <a:pt x="257" y="634"/>
                  </a:lnTo>
                  <a:lnTo>
                    <a:pt x="254" y="616"/>
                  </a:lnTo>
                  <a:lnTo>
                    <a:pt x="253" y="600"/>
                  </a:lnTo>
                  <a:lnTo>
                    <a:pt x="253" y="585"/>
                  </a:lnTo>
                  <a:lnTo>
                    <a:pt x="253" y="571"/>
                  </a:lnTo>
                  <a:lnTo>
                    <a:pt x="254" y="557"/>
                  </a:lnTo>
                  <a:lnTo>
                    <a:pt x="255" y="545"/>
                  </a:lnTo>
                  <a:lnTo>
                    <a:pt x="256" y="534"/>
                  </a:lnTo>
                  <a:lnTo>
                    <a:pt x="256" y="524"/>
                  </a:lnTo>
                  <a:lnTo>
                    <a:pt x="254" y="516"/>
                  </a:lnTo>
                  <a:lnTo>
                    <a:pt x="253" y="513"/>
                  </a:lnTo>
                  <a:lnTo>
                    <a:pt x="250" y="510"/>
                  </a:lnTo>
                  <a:lnTo>
                    <a:pt x="248" y="508"/>
                  </a:lnTo>
                  <a:lnTo>
                    <a:pt x="244" y="505"/>
                  </a:lnTo>
                  <a:lnTo>
                    <a:pt x="240" y="503"/>
                  </a:lnTo>
                  <a:lnTo>
                    <a:pt x="235" y="502"/>
                  </a:lnTo>
                  <a:lnTo>
                    <a:pt x="229" y="502"/>
                  </a:lnTo>
                  <a:lnTo>
                    <a:pt x="222" y="501"/>
                  </a:lnTo>
                  <a:lnTo>
                    <a:pt x="209" y="501"/>
                  </a:lnTo>
                  <a:lnTo>
                    <a:pt x="198" y="498"/>
                  </a:lnTo>
                  <a:lnTo>
                    <a:pt x="187" y="496"/>
                  </a:lnTo>
                  <a:lnTo>
                    <a:pt x="179" y="491"/>
                  </a:lnTo>
                  <a:lnTo>
                    <a:pt x="172" y="487"/>
                  </a:lnTo>
                  <a:lnTo>
                    <a:pt x="166" y="481"/>
                  </a:lnTo>
                  <a:lnTo>
                    <a:pt x="161" y="475"/>
                  </a:lnTo>
                  <a:lnTo>
                    <a:pt x="157" y="468"/>
                  </a:lnTo>
                  <a:lnTo>
                    <a:pt x="147" y="454"/>
                  </a:lnTo>
                  <a:lnTo>
                    <a:pt x="137" y="440"/>
                  </a:lnTo>
                  <a:lnTo>
                    <a:pt x="131" y="434"/>
                  </a:lnTo>
                  <a:lnTo>
                    <a:pt x="125" y="428"/>
                  </a:lnTo>
                  <a:lnTo>
                    <a:pt x="117" y="423"/>
                  </a:lnTo>
                  <a:lnTo>
                    <a:pt x="108" y="418"/>
                  </a:lnTo>
                  <a:lnTo>
                    <a:pt x="90" y="391"/>
                  </a:lnTo>
                  <a:lnTo>
                    <a:pt x="77" y="369"/>
                  </a:lnTo>
                  <a:lnTo>
                    <a:pt x="68" y="349"/>
                  </a:lnTo>
                  <a:lnTo>
                    <a:pt x="60" y="331"/>
                  </a:lnTo>
                  <a:lnTo>
                    <a:pt x="55" y="317"/>
                  </a:lnTo>
                  <a:lnTo>
                    <a:pt x="52" y="303"/>
                  </a:lnTo>
                  <a:lnTo>
                    <a:pt x="50" y="291"/>
                  </a:lnTo>
                  <a:lnTo>
                    <a:pt x="48" y="279"/>
                  </a:lnTo>
                  <a:lnTo>
                    <a:pt x="47" y="266"/>
                  </a:lnTo>
                  <a:lnTo>
                    <a:pt x="46" y="253"/>
                  </a:lnTo>
                  <a:lnTo>
                    <a:pt x="43" y="239"/>
                  </a:lnTo>
                  <a:lnTo>
                    <a:pt x="40" y="223"/>
                  </a:lnTo>
                  <a:lnTo>
                    <a:pt x="34" y="204"/>
                  </a:lnTo>
                  <a:lnTo>
                    <a:pt x="26" y="182"/>
                  </a:lnTo>
                  <a:lnTo>
                    <a:pt x="15" y="156"/>
                  </a:lnTo>
                  <a:lnTo>
                    <a:pt x="0" y="127"/>
                  </a:lnTo>
                  <a:lnTo>
                    <a:pt x="18" y="114"/>
                  </a:lnTo>
                  <a:lnTo>
                    <a:pt x="33" y="100"/>
                  </a:lnTo>
                  <a:lnTo>
                    <a:pt x="49" y="87"/>
                  </a:lnTo>
                  <a:lnTo>
                    <a:pt x="65" y="72"/>
                  </a:lnTo>
                  <a:lnTo>
                    <a:pt x="73" y="139"/>
                  </a:lnTo>
                  <a:lnTo>
                    <a:pt x="83" y="138"/>
                  </a:lnTo>
                  <a:lnTo>
                    <a:pt x="111" y="134"/>
                  </a:lnTo>
                  <a:lnTo>
                    <a:pt x="154" y="129"/>
                  </a:lnTo>
                  <a:lnTo>
                    <a:pt x="212" y="122"/>
                  </a:lnTo>
                  <a:lnTo>
                    <a:pt x="281" y="114"/>
                  </a:lnTo>
                  <a:lnTo>
                    <a:pt x="357" y="105"/>
                  </a:lnTo>
                  <a:lnTo>
                    <a:pt x="439" y="96"/>
                  </a:lnTo>
                  <a:lnTo>
                    <a:pt x="526" y="85"/>
                  </a:lnTo>
                  <a:lnTo>
                    <a:pt x="612" y="74"/>
                  </a:lnTo>
                  <a:lnTo>
                    <a:pt x="699" y="64"/>
                  </a:lnTo>
                  <a:lnTo>
                    <a:pt x="779" y="53"/>
                  </a:lnTo>
                  <a:lnTo>
                    <a:pt x="855" y="44"/>
                  </a:lnTo>
                  <a:lnTo>
                    <a:pt x="922" y="35"/>
                  </a:lnTo>
                  <a:lnTo>
                    <a:pt x="977" y="27"/>
                  </a:lnTo>
                  <a:lnTo>
                    <a:pt x="1018" y="20"/>
                  </a:lnTo>
                  <a:lnTo>
                    <a:pt x="1043" y="15"/>
                  </a:lnTo>
                  <a:lnTo>
                    <a:pt x="1071" y="8"/>
                  </a:lnTo>
                  <a:lnTo>
                    <a:pt x="1094" y="4"/>
                  </a:lnTo>
                  <a:lnTo>
                    <a:pt x="1111" y="3"/>
                  </a:lnTo>
                  <a:lnTo>
                    <a:pt x="1126" y="4"/>
                  </a:lnTo>
                  <a:lnTo>
                    <a:pt x="1139" y="6"/>
                  </a:lnTo>
                  <a:lnTo>
                    <a:pt x="1152" y="6"/>
                  </a:lnTo>
                  <a:lnTo>
                    <a:pt x="1166" y="4"/>
                  </a:lnTo>
                  <a:lnTo>
                    <a:pt x="1181" y="0"/>
                  </a:lnTo>
                  <a:lnTo>
                    <a:pt x="1366" y="84"/>
                  </a:lnTo>
                  <a:lnTo>
                    <a:pt x="1358" y="92"/>
                  </a:lnTo>
                  <a:lnTo>
                    <a:pt x="1352" y="99"/>
                  </a:lnTo>
                  <a:lnTo>
                    <a:pt x="1347" y="106"/>
                  </a:lnTo>
                  <a:lnTo>
                    <a:pt x="1345" y="113"/>
                  </a:lnTo>
                  <a:lnTo>
                    <a:pt x="1344" y="120"/>
                  </a:lnTo>
                  <a:lnTo>
                    <a:pt x="1345" y="127"/>
                  </a:lnTo>
                  <a:lnTo>
                    <a:pt x="1347" y="133"/>
                  </a:lnTo>
                  <a:lnTo>
                    <a:pt x="1351" y="140"/>
                  </a:lnTo>
                  <a:lnTo>
                    <a:pt x="1355" y="146"/>
                  </a:lnTo>
                  <a:lnTo>
                    <a:pt x="1361" y="152"/>
                  </a:lnTo>
                  <a:lnTo>
                    <a:pt x="1369" y="157"/>
                  </a:lnTo>
                  <a:lnTo>
                    <a:pt x="1377" y="163"/>
                  </a:lnTo>
                  <a:lnTo>
                    <a:pt x="1396" y="175"/>
                  </a:lnTo>
                  <a:lnTo>
                    <a:pt x="1417" y="187"/>
                  </a:lnTo>
                  <a:lnTo>
                    <a:pt x="1439" y="199"/>
                  </a:lnTo>
                  <a:lnTo>
                    <a:pt x="1463" y="213"/>
                  </a:lnTo>
                  <a:lnTo>
                    <a:pt x="1486" y="227"/>
                  </a:lnTo>
                  <a:lnTo>
                    <a:pt x="1508" y="243"/>
                  </a:lnTo>
                  <a:lnTo>
                    <a:pt x="1519" y="251"/>
                  </a:lnTo>
                  <a:lnTo>
                    <a:pt x="1528" y="260"/>
                  </a:lnTo>
                  <a:lnTo>
                    <a:pt x="1538" y="270"/>
                  </a:lnTo>
                  <a:lnTo>
                    <a:pt x="1546" y="279"/>
                  </a:lnTo>
                  <a:lnTo>
                    <a:pt x="1553" y="289"/>
                  </a:lnTo>
                  <a:lnTo>
                    <a:pt x="1559" y="300"/>
                  </a:lnTo>
                  <a:lnTo>
                    <a:pt x="1564" y="310"/>
                  </a:lnTo>
                  <a:lnTo>
                    <a:pt x="1568" y="323"/>
                  </a:lnTo>
                  <a:lnTo>
                    <a:pt x="1567" y="362"/>
                  </a:lnTo>
                  <a:lnTo>
                    <a:pt x="1563" y="393"/>
                  </a:lnTo>
                  <a:lnTo>
                    <a:pt x="1560" y="416"/>
                  </a:lnTo>
                  <a:lnTo>
                    <a:pt x="1559" y="424"/>
                  </a:lnTo>
                  <a:lnTo>
                    <a:pt x="1548" y="426"/>
                  </a:lnTo>
                  <a:lnTo>
                    <a:pt x="1539" y="428"/>
                  </a:lnTo>
                  <a:lnTo>
                    <a:pt x="1529" y="432"/>
                  </a:lnTo>
                  <a:lnTo>
                    <a:pt x="1521" y="435"/>
                  </a:lnTo>
                  <a:lnTo>
                    <a:pt x="1514" y="439"/>
                  </a:lnTo>
                  <a:lnTo>
                    <a:pt x="1508" y="444"/>
                  </a:lnTo>
                  <a:lnTo>
                    <a:pt x="1502" y="449"/>
                  </a:lnTo>
                  <a:lnTo>
                    <a:pt x="1499" y="455"/>
                  </a:lnTo>
                  <a:lnTo>
                    <a:pt x="1494" y="461"/>
                  </a:lnTo>
                  <a:lnTo>
                    <a:pt x="1492" y="467"/>
                  </a:lnTo>
                  <a:lnTo>
                    <a:pt x="1490" y="474"/>
                  </a:lnTo>
                  <a:lnTo>
                    <a:pt x="1488" y="481"/>
                  </a:lnTo>
                  <a:lnTo>
                    <a:pt x="1487" y="488"/>
                  </a:lnTo>
                  <a:lnTo>
                    <a:pt x="1487" y="495"/>
                  </a:lnTo>
                  <a:lnTo>
                    <a:pt x="1488" y="502"/>
                  </a:lnTo>
                  <a:lnTo>
                    <a:pt x="1490" y="510"/>
                  </a:lnTo>
                  <a:lnTo>
                    <a:pt x="548" y="6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215"/>
            <p:cNvSpPr/>
            <p:nvPr/>
          </p:nvSpPr>
          <p:spPr>
            <a:xfrm>
              <a:off x="8313840" y="5207040"/>
              <a:ext cx="152280" cy="1328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016" h="821">
                  <a:moveTo>
                    <a:pt x="593" y="821"/>
                  </a:moveTo>
                  <a:lnTo>
                    <a:pt x="107" y="470"/>
                  </a:lnTo>
                  <a:lnTo>
                    <a:pt x="112" y="458"/>
                  </a:lnTo>
                  <a:lnTo>
                    <a:pt x="114" y="449"/>
                  </a:lnTo>
                  <a:lnTo>
                    <a:pt x="115" y="438"/>
                  </a:lnTo>
                  <a:lnTo>
                    <a:pt x="114" y="430"/>
                  </a:lnTo>
                  <a:lnTo>
                    <a:pt x="112" y="421"/>
                  </a:lnTo>
                  <a:lnTo>
                    <a:pt x="108" y="413"/>
                  </a:lnTo>
                  <a:lnTo>
                    <a:pt x="104" y="404"/>
                  </a:lnTo>
                  <a:lnTo>
                    <a:pt x="98" y="395"/>
                  </a:lnTo>
                  <a:lnTo>
                    <a:pt x="85" y="377"/>
                  </a:lnTo>
                  <a:lnTo>
                    <a:pt x="72" y="358"/>
                  </a:lnTo>
                  <a:lnTo>
                    <a:pt x="66" y="347"/>
                  </a:lnTo>
                  <a:lnTo>
                    <a:pt x="60" y="335"/>
                  </a:lnTo>
                  <a:lnTo>
                    <a:pt x="56" y="323"/>
                  </a:lnTo>
                  <a:lnTo>
                    <a:pt x="52" y="309"/>
                  </a:lnTo>
                  <a:lnTo>
                    <a:pt x="50" y="295"/>
                  </a:lnTo>
                  <a:lnTo>
                    <a:pt x="49" y="283"/>
                  </a:lnTo>
                  <a:lnTo>
                    <a:pt x="49" y="272"/>
                  </a:lnTo>
                  <a:lnTo>
                    <a:pt x="50" y="264"/>
                  </a:lnTo>
                  <a:lnTo>
                    <a:pt x="51" y="256"/>
                  </a:lnTo>
                  <a:lnTo>
                    <a:pt x="53" y="249"/>
                  </a:lnTo>
                  <a:lnTo>
                    <a:pt x="56" y="243"/>
                  </a:lnTo>
                  <a:lnTo>
                    <a:pt x="58" y="237"/>
                  </a:lnTo>
                  <a:lnTo>
                    <a:pt x="64" y="227"/>
                  </a:lnTo>
                  <a:lnTo>
                    <a:pt x="70" y="214"/>
                  </a:lnTo>
                  <a:lnTo>
                    <a:pt x="72" y="206"/>
                  </a:lnTo>
                  <a:lnTo>
                    <a:pt x="73" y="198"/>
                  </a:lnTo>
                  <a:lnTo>
                    <a:pt x="74" y="187"/>
                  </a:lnTo>
                  <a:lnTo>
                    <a:pt x="76" y="175"/>
                  </a:lnTo>
                  <a:lnTo>
                    <a:pt x="74" y="171"/>
                  </a:lnTo>
                  <a:lnTo>
                    <a:pt x="72" y="165"/>
                  </a:lnTo>
                  <a:lnTo>
                    <a:pt x="70" y="158"/>
                  </a:lnTo>
                  <a:lnTo>
                    <a:pt x="65" y="152"/>
                  </a:lnTo>
                  <a:lnTo>
                    <a:pt x="56" y="137"/>
                  </a:lnTo>
                  <a:lnTo>
                    <a:pt x="43" y="120"/>
                  </a:lnTo>
                  <a:lnTo>
                    <a:pt x="30" y="102"/>
                  </a:lnTo>
                  <a:lnTo>
                    <a:pt x="18" y="81"/>
                  </a:lnTo>
                  <a:lnTo>
                    <a:pt x="12" y="69"/>
                  </a:lnTo>
                  <a:lnTo>
                    <a:pt x="8" y="56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42" y="34"/>
                  </a:lnTo>
                  <a:lnTo>
                    <a:pt x="78" y="38"/>
                  </a:lnTo>
                  <a:lnTo>
                    <a:pt x="111" y="40"/>
                  </a:lnTo>
                  <a:lnTo>
                    <a:pt x="141" y="42"/>
                  </a:lnTo>
                  <a:lnTo>
                    <a:pt x="168" y="42"/>
                  </a:lnTo>
                  <a:lnTo>
                    <a:pt x="192" y="41"/>
                  </a:lnTo>
                  <a:lnTo>
                    <a:pt x="215" y="40"/>
                  </a:lnTo>
                  <a:lnTo>
                    <a:pt x="234" y="38"/>
                  </a:lnTo>
                  <a:lnTo>
                    <a:pt x="253" y="34"/>
                  </a:lnTo>
                  <a:lnTo>
                    <a:pt x="271" y="31"/>
                  </a:lnTo>
                  <a:lnTo>
                    <a:pt x="288" y="26"/>
                  </a:lnTo>
                  <a:lnTo>
                    <a:pt x="304" y="21"/>
                  </a:lnTo>
                  <a:lnTo>
                    <a:pt x="340" y="11"/>
                  </a:lnTo>
                  <a:lnTo>
                    <a:pt x="377" y="0"/>
                  </a:lnTo>
                  <a:lnTo>
                    <a:pt x="386" y="8"/>
                  </a:lnTo>
                  <a:lnTo>
                    <a:pt x="410" y="33"/>
                  </a:lnTo>
                  <a:lnTo>
                    <a:pt x="446" y="67"/>
                  </a:lnTo>
                  <a:lnTo>
                    <a:pt x="488" y="109"/>
                  </a:lnTo>
                  <a:lnTo>
                    <a:pt x="535" y="152"/>
                  </a:lnTo>
                  <a:lnTo>
                    <a:pt x="580" y="195"/>
                  </a:lnTo>
                  <a:lnTo>
                    <a:pt x="622" y="234"/>
                  </a:lnTo>
                  <a:lnTo>
                    <a:pt x="657" y="262"/>
                  </a:lnTo>
                  <a:lnTo>
                    <a:pt x="677" y="272"/>
                  </a:lnTo>
                  <a:lnTo>
                    <a:pt x="697" y="281"/>
                  </a:lnTo>
                  <a:lnTo>
                    <a:pt x="717" y="288"/>
                  </a:lnTo>
                  <a:lnTo>
                    <a:pt x="737" y="293"/>
                  </a:lnTo>
                  <a:lnTo>
                    <a:pt x="757" y="297"/>
                  </a:lnTo>
                  <a:lnTo>
                    <a:pt x="776" y="300"/>
                  </a:lnTo>
                  <a:lnTo>
                    <a:pt x="796" y="303"/>
                  </a:lnTo>
                  <a:lnTo>
                    <a:pt x="816" y="304"/>
                  </a:lnTo>
                  <a:lnTo>
                    <a:pt x="855" y="306"/>
                  </a:lnTo>
                  <a:lnTo>
                    <a:pt x="893" y="310"/>
                  </a:lnTo>
                  <a:lnTo>
                    <a:pt x="912" y="312"/>
                  </a:lnTo>
                  <a:lnTo>
                    <a:pt x="929" y="314"/>
                  </a:lnTo>
                  <a:lnTo>
                    <a:pt x="948" y="318"/>
                  </a:lnTo>
                  <a:lnTo>
                    <a:pt x="964" y="323"/>
                  </a:lnTo>
                  <a:lnTo>
                    <a:pt x="981" y="328"/>
                  </a:lnTo>
                  <a:lnTo>
                    <a:pt x="994" y="334"/>
                  </a:lnTo>
                  <a:lnTo>
                    <a:pt x="1004" y="340"/>
                  </a:lnTo>
                  <a:lnTo>
                    <a:pt x="1011" y="347"/>
                  </a:lnTo>
                  <a:lnTo>
                    <a:pt x="1014" y="349"/>
                  </a:lnTo>
                  <a:lnTo>
                    <a:pt x="1016" y="353"/>
                  </a:lnTo>
                  <a:lnTo>
                    <a:pt x="1016" y="355"/>
                  </a:lnTo>
                  <a:lnTo>
                    <a:pt x="1016" y="359"/>
                  </a:lnTo>
                  <a:lnTo>
                    <a:pt x="1016" y="362"/>
                  </a:lnTo>
                  <a:lnTo>
                    <a:pt x="1014" y="366"/>
                  </a:lnTo>
                  <a:lnTo>
                    <a:pt x="1011" y="368"/>
                  </a:lnTo>
                  <a:lnTo>
                    <a:pt x="1008" y="372"/>
                  </a:lnTo>
                  <a:lnTo>
                    <a:pt x="997" y="379"/>
                  </a:lnTo>
                  <a:lnTo>
                    <a:pt x="983" y="386"/>
                  </a:lnTo>
                  <a:lnTo>
                    <a:pt x="964" y="393"/>
                  </a:lnTo>
                  <a:lnTo>
                    <a:pt x="942" y="400"/>
                  </a:lnTo>
                  <a:lnTo>
                    <a:pt x="917" y="408"/>
                  </a:lnTo>
                  <a:lnTo>
                    <a:pt x="885" y="415"/>
                  </a:lnTo>
                  <a:lnTo>
                    <a:pt x="850" y="423"/>
                  </a:lnTo>
                  <a:lnTo>
                    <a:pt x="809" y="432"/>
                  </a:lnTo>
                  <a:lnTo>
                    <a:pt x="783" y="438"/>
                  </a:lnTo>
                  <a:lnTo>
                    <a:pt x="760" y="446"/>
                  </a:lnTo>
                  <a:lnTo>
                    <a:pt x="751" y="451"/>
                  </a:lnTo>
                  <a:lnTo>
                    <a:pt x="741" y="456"/>
                  </a:lnTo>
                  <a:lnTo>
                    <a:pt x="733" y="460"/>
                  </a:lnTo>
                  <a:lnTo>
                    <a:pt x="726" y="465"/>
                  </a:lnTo>
                  <a:lnTo>
                    <a:pt x="720" y="471"/>
                  </a:lnTo>
                  <a:lnTo>
                    <a:pt x="714" y="476"/>
                  </a:lnTo>
                  <a:lnTo>
                    <a:pt x="709" y="481"/>
                  </a:lnTo>
                  <a:lnTo>
                    <a:pt x="705" y="487"/>
                  </a:lnTo>
                  <a:lnTo>
                    <a:pt x="698" y="499"/>
                  </a:lnTo>
                  <a:lnTo>
                    <a:pt x="695" y="511"/>
                  </a:lnTo>
                  <a:lnTo>
                    <a:pt x="692" y="522"/>
                  </a:lnTo>
                  <a:lnTo>
                    <a:pt x="692" y="534"/>
                  </a:lnTo>
                  <a:lnTo>
                    <a:pt x="693" y="546"/>
                  </a:lnTo>
                  <a:lnTo>
                    <a:pt x="697" y="556"/>
                  </a:lnTo>
                  <a:lnTo>
                    <a:pt x="700" y="567"/>
                  </a:lnTo>
                  <a:lnTo>
                    <a:pt x="706" y="577"/>
                  </a:lnTo>
                  <a:lnTo>
                    <a:pt x="711" y="585"/>
                  </a:lnTo>
                  <a:lnTo>
                    <a:pt x="717" y="594"/>
                  </a:lnTo>
                  <a:lnTo>
                    <a:pt x="721" y="601"/>
                  </a:lnTo>
                  <a:lnTo>
                    <a:pt x="725" y="606"/>
                  </a:lnTo>
                  <a:lnTo>
                    <a:pt x="726" y="613"/>
                  </a:lnTo>
                  <a:lnTo>
                    <a:pt x="726" y="620"/>
                  </a:lnTo>
                  <a:lnTo>
                    <a:pt x="725" y="627"/>
                  </a:lnTo>
                  <a:lnTo>
                    <a:pt x="723" y="634"/>
                  </a:lnTo>
                  <a:lnTo>
                    <a:pt x="718" y="641"/>
                  </a:lnTo>
                  <a:lnTo>
                    <a:pt x="713" y="648"/>
                  </a:lnTo>
                  <a:lnTo>
                    <a:pt x="702" y="662"/>
                  </a:lnTo>
                  <a:lnTo>
                    <a:pt x="688" y="678"/>
                  </a:lnTo>
                  <a:lnTo>
                    <a:pt x="671" y="692"/>
                  </a:lnTo>
                  <a:lnTo>
                    <a:pt x="654" y="706"/>
                  </a:lnTo>
                  <a:lnTo>
                    <a:pt x="637" y="721"/>
                  </a:lnTo>
                  <a:lnTo>
                    <a:pt x="621" y="735"/>
                  </a:lnTo>
                  <a:lnTo>
                    <a:pt x="607" y="749"/>
                  </a:lnTo>
                  <a:lnTo>
                    <a:pt x="595" y="764"/>
                  </a:lnTo>
                  <a:lnTo>
                    <a:pt x="591" y="771"/>
                  </a:lnTo>
                  <a:lnTo>
                    <a:pt x="587" y="778"/>
                  </a:lnTo>
                  <a:lnTo>
                    <a:pt x="585" y="785"/>
                  </a:lnTo>
                  <a:lnTo>
                    <a:pt x="584" y="792"/>
                  </a:lnTo>
                  <a:lnTo>
                    <a:pt x="584" y="799"/>
                  </a:lnTo>
                  <a:lnTo>
                    <a:pt x="586" y="806"/>
                  </a:lnTo>
                  <a:lnTo>
                    <a:pt x="588" y="814"/>
                  </a:lnTo>
                  <a:lnTo>
                    <a:pt x="593" y="8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216"/>
            <p:cNvSpPr/>
            <p:nvPr/>
          </p:nvSpPr>
          <p:spPr>
            <a:xfrm>
              <a:off x="8190000" y="5735520"/>
              <a:ext cx="239040" cy="1728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588" h="1055">
                  <a:moveTo>
                    <a:pt x="1576" y="239"/>
                  </a:moveTo>
                  <a:lnTo>
                    <a:pt x="1580" y="281"/>
                  </a:lnTo>
                  <a:lnTo>
                    <a:pt x="1585" y="322"/>
                  </a:lnTo>
                  <a:lnTo>
                    <a:pt x="1587" y="361"/>
                  </a:lnTo>
                  <a:lnTo>
                    <a:pt x="1588" y="397"/>
                  </a:lnTo>
                  <a:lnTo>
                    <a:pt x="1588" y="432"/>
                  </a:lnTo>
                  <a:lnTo>
                    <a:pt x="1588" y="465"/>
                  </a:lnTo>
                  <a:lnTo>
                    <a:pt x="1586" y="496"/>
                  </a:lnTo>
                  <a:lnTo>
                    <a:pt x="1583" y="527"/>
                  </a:lnTo>
                  <a:lnTo>
                    <a:pt x="1579" y="555"/>
                  </a:lnTo>
                  <a:lnTo>
                    <a:pt x="1574" y="580"/>
                  </a:lnTo>
                  <a:lnTo>
                    <a:pt x="1570" y="606"/>
                  </a:lnTo>
                  <a:lnTo>
                    <a:pt x="1563" y="629"/>
                  </a:lnTo>
                  <a:lnTo>
                    <a:pt x="1557" y="652"/>
                  </a:lnTo>
                  <a:lnTo>
                    <a:pt x="1549" y="672"/>
                  </a:lnTo>
                  <a:lnTo>
                    <a:pt x="1542" y="691"/>
                  </a:lnTo>
                  <a:lnTo>
                    <a:pt x="1533" y="709"/>
                  </a:lnTo>
                  <a:lnTo>
                    <a:pt x="1524" y="726"/>
                  </a:lnTo>
                  <a:lnTo>
                    <a:pt x="1515" y="743"/>
                  </a:lnTo>
                  <a:lnTo>
                    <a:pt x="1505" y="757"/>
                  </a:lnTo>
                  <a:lnTo>
                    <a:pt x="1496" y="771"/>
                  </a:lnTo>
                  <a:lnTo>
                    <a:pt x="1477" y="795"/>
                  </a:lnTo>
                  <a:lnTo>
                    <a:pt x="1458" y="816"/>
                  </a:lnTo>
                  <a:lnTo>
                    <a:pt x="1439" y="834"/>
                  </a:lnTo>
                  <a:lnTo>
                    <a:pt x="1421" y="849"/>
                  </a:lnTo>
                  <a:lnTo>
                    <a:pt x="1405" y="862"/>
                  </a:lnTo>
                  <a:lnTo>
                    <a:pt x="1391" y="872"/>
                  </a:lnTo>
                  <a:lnTo>
                    <a:pt x="1373" y="885"/>
                  </a:lnTo>
                  <a:lnTo>
                    <a:pt x="1357" y="898"/>
                  </a:lnTo>
                  <a:lnTo>
                    <a:pt x="1342" y="910"/>
                  </a:lnTo>
                  <a:lnTo>
                    <a:pt x="1330" y="923"/>
                  </a:lnTo>
                  <a:lnTo>
                    <a:pt x="1319" y="934"/>
                  </a:lnTo>
                  <a:lnTo>
                    <a:pt x="1309" y="946"/>
                  </a:lnTo>
                  <a:lnTo>
                    <a:pt x="1300" y="959"/>
                  </a:lnTo>
                  <a:lnTo>
                    <a:pt x="1293" y="971"/>
                  </a:lnTo>
                  <a:lnTo>
                    <a:pt x="1287" y="981"/>
                  </a:lnTo>
                  <a:lnTo>
                    <a:pt x="1282" y="993"/>
                  </a:lnTo>
                  <a:lnTo>
                    <a:pt x="1279" y="1004"/>
                  </a:lnTo>
                  <a:lnTo>
                    <a:pt x="1277" y="1015"/>
                  </a:lnTo>
                  <a:lnTo>
                    <a:pt x="1274" y="1025"/>
                  </a:lnTo>
                  <a:lnTo>
                    <a:pt x="1273" y="1035"/>
                  </a:lnTo>
                  <a:lnTo>
                    <a:pt x="1273" y="1045"/>
                  </a:lnTo>
                  <a:lnTo>
                    <a:pt x="1273" y="1055"/>
                  </a:lnTo>
                  <a:lnTo>
                    <a:pt x="1260" y="1035"/>
                  </a:lnTo>
                  <a:lnTo>
                    <a:pt x="1246" y="1016"/>
                  </a:lnTo>
                  <a:lnTo>
                    <a:pt x="1230" y="1000"/>
                  </a:lnTo>
                  <a:lnTo>
                    <a:pt x="1212" y="985"/>
                  </a:lnTo>
                  <a:lnTo>
                    <a:pt x="1194" y="971"/>
                  </a:lnTo>
                  <a:lnTo>
                    <a:pt x="1173" y="958"/>
                  </a:lnTo>
                  <a:lnTo>
                    <a:pt x="1152" y="945"/>
                  </a:lnTo>
                  <a:lnTo>
                    <a:pt x="1130" y="934"/>
                  </a:lnTo>
                  <a:lnTo>
                    <a:pt x="1107" y="925"/>
                  </a:lnTo>
                  <a:lnTo>
                    <a:pt x="1084" y="916"/>
                  </a:lnTo>
                  <a:lnTo>
                    <a:pt x="1060" y="907"/>
                  </a:lnTo>
                  <a:lnTo>
                    <a:pt x="1037" y="899"/>
                  </a:lnTo>
                  <a:lnTo>
                    <a:pt x="989" y="885"/>
                  </a:lnTo>
                  <a:lnTo>
                    <a:pt x="941" y="872"/>
                  </a:lnTo>
                  <a:lnTo>
                    <a:pt x="920" y="867"/>
                  </a:lnTo>
                  <a:lnTo>
                    <a:pt x="903" y="858"/>
                  </a:lnTo>
                  <a:lnTo>
                    <a:pt x="886" y="850"/>
                  </a:lnTo>
                  <a:lnTo>
                    <a:pt x="875" y="841"/>
                  </a:lnTo>
                  <a:lnTo>
                    <a:pt x="863" y="830"/>
                  </a:lnTo>
                  <a:lnTo>
                    <a:pt x="855" y="820"/>
                  </a:lnTo>
                  <a:lnTo>
                    <a:pt x="848" y="807"/>
                  </a:lnTo>
                  <a:lnTo>
                    <a:pt x="841" y="794"/>
                  </a:lnTo>
                  <a:lnTo>
                    <a:pt x="830" y="767"/>
                  </a:lnTo>
                  <a:lnTo>
                    <a:pt x="820" y="737"/>
                  </a:lnTo>
                  <a:lnTo>
                    <a:pt x="814" y="722"/>
                  </a:lnTo>
                  <a:lnTo>
                    <a:pt x="806" y="705"/>
                  </a:lnTo>
                  <a:lnTo>
                    <a:pt x="798" y="688"/>
                  </a:lnTo>
                  <a:lnTo>
                    <a:pt x="786" y="672"/>
                  </a:lnTo>
                  <a:lnTo>
                    <a:pt x="753" y="659"/>
                  </a:lnTo>
                  <a:lnTo>
                    <a:pt x="722" y="646"/>
                  </a:lnTo>
                  <a:lnTo>
                    <a:pt x="692" y="632"/>
                  </a:lnTo>
                  <a:lnTo>
                    <a:pt x="666" y="617"/>
                  </a:lnTo>
                  <a:lnTo>
                    <a:pt x="640" y="601"/>
                  </a:lnTo>
                  <a:lnTo>
                    <a:pt x="618" y="586"/>
                  </a:lnTo>
                  <a:lnTo>
                    <a:pt x="597" y="571"/>
                  </a:lnTo>
                  <a:lnTo>
                    <a:pt x="579" y="556"/>
                  </a:lnTo>
                  <a:lnTo>
                    <a:pt x="549" y="529"/>
                  </a:lnTo>
                  <a:lnTo>
                    <a:pt x="527" y="507"/>
                  </a:lnTo>
                  <a:lnTo>
                    <a:pt x="514" y="493"/>
                  </a:lnTo>
                  <a:lnTo>
                    <a:pt x="510" y="487"/>
                  </a:lnTo>
                  <a:lnTo>
                    <a:pt x="354" y="441"/>
                  </a:lnTo>
                  <a:lnTo>
                    <a:pt x="0" y="112"/>
                  </a:lnTo>
                  <a:lnTo>
                    <a:pt x="15" y="47"/>
                  </a:lnTo>
                  <a:lnTo>
                    <a:pt x="548" y="0"/>
                  </a:lnTo>
                  <a:lnTo>
                    <a:pt x="579" y="55"/>
                  </a:lnTo>
                  <a:lnTo>
                    <a:pt x="927" y="23"/>
                  </a:lnTo>
                  <a:lnTo>
                    <a:pt x="1576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217"/>
            <p:cNvSpPr/>
            <p:nvPr/>
          </p:nvSpPr>
          <p:spPr>
            <a:xfrm>
              <a:off x="8109360" y="5631120"/>
              <a:ext cx="401400" cy="1443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666" h="882">
                  <a:moveTo>
                    <a:pt x="541" y="755"/>
                  </a:moveTo>
                  <a:lnTo>
                    <a:pt x="556" y="690"/>
                  </a:lnTo>
                  <a:lnTo>
                    <a:pt x="1089" y="643"/>
                  </a:lnTo>
                  <a:lnTo>
                    <a:pt x="1120" y="698"/>
                  </a:lnTo>
                  <a:lnTo>
                    <a:pt x="1468" y="666"/>
                  </a:lnTo>
                  <a:lnTo>
                    <a:pt x="2117" y="882"/>
                  </a:lnTo>
                  <a:lnTo>
                    <a:pt x="2317" y="851"/>
                  </a:lnTo>
                  <a:lnTo>
                    <a:pt x="2316" y="843"/>
                  </a:lnTo>
                  <a:lnTo>
                    <a:pt x="2312" y="822"/>
                  </a:lnTo>
                  <a:lnTo>
                    <a:pt x="2307" y="790"/>
                  </a:lnTo>
                  <a:lnTo>
                    <a:pt x="2302" y="753"/>
                  </a:lnTo>
                  <a:lnTo>
                    <a:pt x="2301" y="733"/>
                  </a:lnTo>
                  <a:lnTo>
                    <a:pt x="2301" y="713"/>
                  </a:lnTo>
                  <a:lnTo>
                    <a:pt x="2302" y="694"/>
                  </a:lnTo>
                  <a:lnTo>
                    <a:pt x="2305" y="676"/>
                  </a:lnTo>
                  <a:lnTo>
                    <a:pt x="2308" y="658"/>
                  </a:lnTo>
                  <a:lnTo>
                    <a:pt x="2314" y="643"/>
                  </a:lnTo>
                  <a:lnTo>
                    <a:pt x="2319" y="637"/>
                  </a:lnTo>
                  <a:lnTo>
                    <a:pt x="2322" y="630"/>
                  </a:lnTo>
                  <a:lnTo>
                    <a:pt x="2327" y="625"/>
                  </a:lnTo>
                  <a:lnTo>
                    <a:pt x="2333" y="621"/>
                  </a:lnTo>
                  <a:lnTo>
                    <a:pt x="2344" y="610"/>
                  </a:lnTo>
                  <a:lnTo>
                    <a:pt x="2357" y="599"/>
                  </a:lnTo>
                  <a:lnTo>
                    <a:pt x="2371" y="586"/>
                  </a:lnTo>
                  <a:lnTo>
                    <a:pt x="2386" y="572"/>
                  </a:lnTo>
                  <a:lnTo>
                    <a:pt x="2418" y="540"/>
                  </a:lnTo>
                  <a:lnTo>
                    <a:pt x="2453" y="507"/>
                  </a:lnTo>
                  <a:lnTo>
                    <a:pt x="2473" y="492"/>
                  </a:lnTo>
                  <a:lnTo>
                    <a:pt x="2494" y="477"/>
                  </a:lnTo>
                  <a:lnTo>
                    <a:pt x="2515" y="463"/>
                  </a:lnTo>
                  <a:lnTo>
                    <a:pt x="2538" y="450"/>
                  </a:lnTo>
                  <a:lnTo>
                    <a:pt x="2550" y="444"/>
                  </a:lnTo>
                  <a:lnTo>
                    <a:pt x="2563" y="438"/>
                  </a:lnTo>
                  <a:lnTo>
                    <a:pt x="2576" y="434"/>
                  </a:lnTo>
                  <a:lnTo>
                    <a:pt x="2588" y="429"/>
                  </a:lnTo>
                  <a:lnTo>
                    <a:pt x="2601" y="426"/>
                  </a:lnTo>
                  <a:lnTo>
                    <a:pt x="2615" y="422"/>
                  </a:lnTo>
                  <a:lnTo>
                    <a:pt x="2629" y="420"/>
                  </a:lnTo>
                  <a:lnTo>
                    <a:pt x="2643" y="419"/>
                  </a:lnTo>
                  <a:lnTo>
                    <a:pt x="2645" y="403"/>
                  </a:lnTo>
                  <a:lnTo>
                    <a:pt x="2646" y="387"/>
                  </a:lnTo>
                  <a:lnTo>
                    <a:pt x="2648" y="370"/>
                  </a:lnTo>
                  <a:lnTo>
                    <a:pt x="2652" y="351"/>
                  </a:lnTo>
                  <a:lnTo>
                    <a:pt x="2659" y="314"/>
                  </a:lnTo>
                  <a:lnTo>
                    <a:pt x="2664" y="276"/>
                  </a:lnTo>
                  <a:lnTo>
                    <a:pt x="2666" y="257"/>
                  </a:lnTo>
                  <a:lnTo>
                    <a:pt x="2666" y="239"/>
                  </a:lnTo>
                  <a:lnTo>
                    <a:pt x="2664" y="222"/>
                  </a:lnTo>
                  <a:lnTo>
                    <a:pt x="2662" y="206"/>
                  </a:lnTo>
                  <a:lnTo>
                    <a:pt x="2660" y="198"/>
                  </a:lnTo>
                  <a:lnTo>
                    <a:pt x="2656" y="191"/>
                  </a:lnTo>
                  <a:lnTo>
                    <a:pt x="2653" y="184"/>
                  </a:lnTo>
                  <a:lnTo>
                    <a:pt x="2649" y="178"/>
                  </a:lnTo>
                  <a:lnTo>
                    <a:pt x="2645" y="172"/>
                  </a:lnTo>
                  <a:lnTo>
                    <a:pt x="2639" y="166"/>
                  </a:lnTo>
                  <a:lnTo>
                    <a:pt x="2633" y="160"/>
                  </a:lnTo>
                  <a:lnTo>
                    <a:pt x="2626" y="157"/>
                  </a:lnTo>
                  <a:lnTo>
                    <a:pt x="2597" y="141"/>
                  </a:lnTo>
                  <a:lnTo>
                    <a:pt x="2569" y="128"/>
                  </a:lnTo>
                  <a:lnTo>
                    <a:pt x="2539" y="116"/>
                  </a:lnTo>
                  <a:lnTo>
                    <a:pt x="2511" y="102"/>
                  </a:lnTo>
                  <a:lnTo>
                    <a:pt x="2496" y="95"/>
                  </a:lnTo>
                  <a:lnTo>
                    <a:pt x="2482" y="86"/>
                  </a:lnTo>
                  <a:lnTo>
                    <a:pt x="2468" y="76"/>
                  </a:lnTo>
                  <a:lnTo>
                    <a:pt x="2454" y="65"/>
                  </a:lnTo>
                  <a:lnTo>
                    <a:pt x="2439" y="52"/>
                  </a:lnTo>
                  <a:lnTo>
                    <a:pt x="2425" y="37"/>
                  </a:lnTo>
                  <a:lnTo>
                    <a:pt x="2411" y="20"/>
                  </a:lnTo>
                  <a:lnTo>
                    <a:pt x="2396" y="0"/>
                  </a:lnTo>
                  <a:lnTo>
                    <a:pt x="625" y="240"/>
                  </a:lnTo>
                  <a:lnTo>
                    <a:pt x="618" y="246"/>
                  </a:lnTo>
                  <a:lnTo>
                    <a:pt x="613" y="252"/>
                  </a:lnTo>
                  <a:lnTo>
                    <a:pt x="611" y="260"/>
                  </a:lnTo>
                  <a:lnTo>
                    <a:pt x="607" y="269"/>
                  </a:lnTo>
                  <a:lnTo>
                    <a:pt x="605" y="290"/>
                  </a:lnTo>
                  <a:lnTo>
                    <a:pt x="603" y="311"/>
                  </a:lnTo>
                  <a:lnTo>
                    <a:pt x="600" y="323"/>
                  </a:lnTo>
                  <a:lnTo>
                    <a:pt x="598" y="333"/>
                  </a:lnTo>
                  <a:lnTo>
                    <a:pt x="593" y="343"/>
                  </a:lnTo>
                  <a:lnTo>
                    <a:pt x="589" y="351"/>
                  </a:lnTo>
                  <a:lnTo>
                    <a:pt x="582" y="359"/>
                  </a:lnTo>
                  <a:lnTo>
                    <a:pt x="573" y="365"/>
                  </a:lnTo>
                  <a:lnTo>
                    <a:pt x="569" y="367"/>
                  </a:lnTo>
                  <a:lnTo>
                    <a:pt x="563" y="370"/>
                  </a:lnTo>
                  <a:lnTo>
                    <a:pt x="557" y="372"/>
                  </a:lnTo>
                  <a:lnTo>
                    <a:pt x="550" y="372"/>
                  </a:lnTo>
                  <a:lnTo>
                    <a:pt x="538" y="374"/>
                  </a:lnTo>
                  <a:lnTo>
                    <a:pt x="528" y="377"/>
                  </a:lnTo>
                  <a:lnTo>
                    <a:pt x="517" y="380"/>
                  </a:lnTo>
                  <a:lnTo>
                    <a:pt x="507" y="385"/>
                  </a:lnTo>
                  <a:lnTo>
                    <a:pt x="498" y="389"/>
                  </a:lnTo>
                  <a:lnTo>
                    <a:pt x="488" y="395"/>
                  </a:lnTo>
                  <a:lnTo>
                    <a:pt x="480" y="401"/>
                  </a:lnTo>
                  <a:lnTo>
                    <a:pt x="472" y="408"/>
                  </a:lnTo>
                  <a:lnTo>
                    <a:pt x="455" y="423"/>
                  </a:lnTo>
                  <a:lnTo>
                    <a:pt x="440" y="438"/>
                  </a:lnTo>
                  <a:lnTo>
                    <a:pt x="424" y="456"/>
                  </a:lnTo>
                  <a:lnTo>
                    <a:pt x="409" y="474"/>
                  </a:lnTo>
                  <a:lnTo>
                    <a:pt x="394" y="491"/>
                  </a:lnTo>
                  <a:lnTo>
                    <a:pt x="377" y="507"/>
                  </a:lnTo>
                  <a:lnTo>
                    <a:pt x="360" y="524"/>
                  </a:lnTo>
                  <a:lnTo>
                    <a:pt x="341" y="539"/>
                  </a:lnTo>
                  <a:lnTo>
                    <a:pt x="332" y="545"/>
                  </a:lnTo>
                  <a:lnTo>
                    <a:pt x="321" y="552"/>
                  </a:lnTo>
                  <a:lnTo>
                    <a:pt x="311" y="556"/>
                  </a:lnTo>
                  <a:lnTo>
                    <a:pt x="299" y="562"/>
                  </a:lnTo>
                  <a:lnTo>
                    <a:pt x="287" y="566"/>
                  </a:lnTo>
                  <a:lnTo>
                    <a:pt x="274" y="569"/>
                  </a:lnTo>
                  <a:lnTo>
                    <a:pt x="262" y="573"/>
                  </a:lnTo>
                  <a:lnTo>
                    <a:pt x="248" y="574"/>
                  </a:lnTo>
                  <a:lnTo>
                    <a:pt x="236" y="575"/>
                  </a:lnTo>
                  <a:lnTo>
                    <a:pt x="224" y="577"/>
                  </a:lnTo>
                  <a:lnTo>
                    <a:pt x="213" y="580"/>
                  </a:lnTo>
                  <a:lnTo>
                    <a:pt x="201" y="583"/>
                  </a:lnTo>
                  <a:lnTo>
                    <a:pt x="177" y="592"/>
                  </a:lnTo>
                  <a:lnTo>
                    <a:pt x="154" y="601"/>
                  </a:lnTo>
                  <a:lnTo>
                    <a:pt x="132" y="613"/>
                  </a:lnTo>
                  <a:lnTo>
                    <a:pt x="111" y="625"/>
                  </a:lnTo>
                  <a:lnTo>
                    <a:pt x="91" y="639"/>
                  </a:lnTo>
                  <a:lnTo>
                    <a:pt x="72" y="653"/>
                  </a:lnTo>
                  <a:lnTo>
                    <a:pt x="56" y="669"/>
                  </a:lnTo>
                  <a:lnTo>
                    <a:pt x="41" y="683"/>
                  </a:lnTo>
                  <a:lnTo>
                    <a:pt x="28" y="697"/>
                  </a:lnTo>
                  <a:lnTo>
                    <a:pt x="19" y="709"/>
                  </a:lnTo>
                  <a:lnTo>
                    <a:pt x="12" y="720"/>
                  </a:lnTo>
                  <a:lnTo>
                    <a:pt x="7" y="731"/>
                  </a:lnTo>
                  <a:lnTo>
                    <a:pt x="6" y="735"/>
                  </a:lnTo>
                  <a:lnTo>
                    <a:pt x="6" y="739"/>
                  </a:lnTo>
                  <a:lnTo>
                    <a:pt x="7" y="741"/>
                  </a:lnTo>
                  <a:lnTo>
                    <a:pt x="8" y="745"/>
                  </a:lnTo>
                  <a:lnTo>
                    <a:pt x="12" y="748"/>
                  </a:lnTo>
                  <a:lnTo>
                    <a:pt x="15" y="754"/>
                  </a:lnTo>
                  <a:lnTo>
                    <a:pt x="17" y="759"/>
                  </a:lnTo>
                  <a:lnTo>
                    <a:pt x="19" y="763"/>
                  </a:lnTo>
                  <a:lnTo>
                    <a:pt x="20" y="775"/>
                  </a:lnTo>
                  <a:lnTo>
                    <a:pt x="17" y="785"/>
                  </a:lnTo>
                  <a:lnTo>
                    <a:pt x="15" y="795"/>
                  </a:lnTo>
                  <a:lnTo>
                    <a:pt x="10" y="803"/>
                  </a:lnTo>
                  <a:lnTo>
                    <a:pt x="5" y="810"/>
                  </a:lnTo>
                  <a:lnTo>
                    <a:pt x="0" y="813"/>
                  </a:lnTo>
                  <a:lnTo>
                    <a:pt x="541" y="75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218"/>
            <p:cNvSpPr/>
            <p:nvPr/>
          </p:nvSpPr>
          <p:spPr>
            <a:xfrm>
              <a:off x="7811640" y="5668560"/>
              <a:ext cx="389880" cy="12960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590" h="792">
                  <a:moveTo>
                    <a:pt x="2590" y="0"/>
                  </a:moveTo>
                  <a:lnTo>
                    <a:pt x="613" y="265"/>
                  </a:lnTo>
                  <a:lnTo>
                    <a:pt x="596" y="311"/>
                  </a:lnTo>
                  <a:lnTo>
                    <a:pt x="78" y="366"/>
                  </a:lnTo>
                  <a:lnTo>
                    <a:pt x="76" y="377"/>
                  </a:lnTo>
                  <a:lnTo>
                    <a:pt x="75" y="388"/>
                  </a:lnTo>
                  <a:lnTo>
                    <a:pt x="74" y="398"/>
                  </a:lnTo>
                  <a:lnTo>
                    <a:pt x="74" y="408"/>
                  </a:lnTo>
                  <a:lnTo>
                    <a:pt x="74" y="426"/>
                  </a:lnTo>
                  <a:lnTo>
                    <a:pt x="74" y="443"/>
                  </a:lnTo>
                  <a:lnTo>
                    <a:pt x="73" y="452"/>
                  </a:lnTo>
                  <a:lnTo>
                    <a:pt x="70" y="460"/>
                  </a:lnTo>
                  <a:lnTo>
                    <a:pt x="68" y="469"/>
                  </a:lnTo>
                  <a:lnTo>
                    <a:pt x="63" y="478"/>
                  </a:lnTo>
                  <a:lnTo>
                    <a:pt x="59" y="487"/>
                  </a:lnTo>
                  <a:lnTo>
                    <a:pt x="52" y="498"/>
                  </a:lnTo>
                  <a:lnTo>
                    <a:pt x="42" y="508"/>
                  </a:lnTo>
                  <a:lnTo>
                    <a:pt x="32" y="519"/>
                  </a:lnTo>
                  <a:lnTo>
                    <a:pt x="35" y="535"/>
                  </a:lnTo>
                  <a:lnTo>
                    <a:pt x="36" y="551"/>
                  </a:lnTo>
                  <a:lnTo>
                    <a:pt x="37" y="568"/>
                  </a:lnTo>
                  <a:lnTo>
                    <a:pt x="39" y="585"/>
                  </a:lnTo>
                  <a:lnTo>
                    <a:pt x="37" y="603"/>
                  </a:lnTo>
                  <a:lnTo>
                    <a:pt x="37" y="619"/>
                  </a:lnTo>
                  <a:lnTo>
                    <a:pt x="35" y="637"/>
                  </a:lnTo>
                  <a:lnTo>
                    <a:pt x="33" y="654"/>
                  </a:lnTo>
                  <a:lnTo>
                    <a:pt x="27" y="689"/>
                  </a:lnTo>
                  <a:lnTo>
                    <a:pt x="20" y="724"/>
                  </a:lnTo>
                  <a:lnTo>
                    <a:pt x="11" y="758"/>
                  </a:lnTo>
                  <a:lnTo>
                    <a:pt x="0" y="792"/>
                  </a:lnTo>
                  <a:lnTo>
                    <a:pt x="709" y="717"/>
                  </a:lnTo>
                  <a:lnTo>
                    <a:pt x="712" y="717"/>
                  </a:lnTo>
                  <a:lnTo>
                    <a:pt x="1466" y="631"/>
                  </a:lnTo>
                  <a:lnTo>
                    <a:pt x="1967" y="576"/>
                  </a:lnTo>
                  <a:lnTo>
                    <a:pt x="1972" y="563"/>
                  </a:lnTo>
                  <a:lnTo>
                    <a:pt x="1981" y="545"/>
                  </a:lnTo>
                  <a:lnTo>
                    <a:pt x="1982" y="541"/>
                  </a:lnTo>
                  <a:lnTo>
                    <a:pt x="1984" y="536"/>
                  </a:lnTo>
                  <a:lnTo>
                    <a:pt x="1985" y="530"/>
                  </a:lnTo>
                  <a:lnTo>
                    <a:pt x="1985" y="526"/>
                  </a:lnTo>
                  <a:lnTo>
                    <a:pt x="1984" y="520"/>
                  </a:lnTo>
                  <a:lnTo>
                    <a:pt x="1981" y="515"/>
                  </a:lnTo>
                  <a:lnTo>
                    <a:pt x="1978" y="509"/>
                  </a:lnTo>
                  <a:lnTo>
                    <a:pt x="1973" y="505"/>
                  </a:lnTo>
                  <a:lnTo>
                    <a:pt x="1972" y="501"/>
                  </a:lnTo>
                  <a:lnTo>
                    <a:pt x="1971" y="499"/>
                  </a:lnTo>
                  <a:lnTo>
                    <a:pt x="1971" y="495"/>
                  </a:lnTo>
                  <a:lnTo>
                    <a:pt x="1972" y="491"/>
                  </a:lnTo>
                  <a:lnTo>
                    <a:pt x="1977" y="480"/>
                  </a:lnTo>
                  <a:lnTo>
                    <a:pt x="1984" y="469"/>
                  </a:lnTo>
                  <a:lnTo>
                    <a:pt x="1993" y="457"/>
                  </a:lnTo>
                  <a:lnTo>
                    <a:pt x="2006" y="443"/>
                  </a:lnTo>
                  <a:lnTo>
                    <a:pt x="2021" y="429"/>
                  </a:lnTo>
                  <a:lnTo>
                    <a:pt x="2037" y="413"/>
                  </a:lnTo>
                  <a:lnTo>
                    <a:pt x="2056" y="399"/>
                  </a:lnTo>
                  <a:lnTo>
                    <a:pt x="2076" y="385"/>
                  </a:lnTo>
                  <a:lnTo>
                    <a:pt x="2097" y="373"/>
                  </a:lnTo>
                  <a:lnTo>
                    <a:pt x="2119" y="361"/>
                  </a:lnTo>
                  <a:lnTo>
                    <a:pt x="2142" y="352"/>
                  </a:lnTo>
                  <a:lnTo>
                    <a:pt x="2166" y="343"/>
                  </a:lnTo>
                  <a:lnTo>
                    <a:pt x="2178" y="340"/>
                  </a:lnTo>
                  <a:lnTo>
                    <a:pt x="2189" y="337"/>
                  </a:lnTo>
                  <a:lnTo>
                    <a:pt x="2201" y="335"/>
                  </a:lnTo>
                  <a:lnTo>
                    <a:pt x="2213" y="334"/>
                  </a:lnTo>
                  <a:lnTo>
                    <a:pt x="2227" y="333"/>
                  </a:lnTo>
                  <a:lnTo>
                    <a:pt x="2239" y="329"/>
                  </a:lnTo>
                  <a:lnTo>
                    <a:pt x="2252" y="326"/>
                  </a:lnTo>
                  <a:lnTo>
                    <a:pt x="2264" y="322"/>
                  </a:lnTo>
                  <a:lnTo>
                    <a:pt x="2276" y="316"/>
                  </a:lnTo>
                  <a:lnTo>
                    <a:pt x="2286" y="312"/>
                  </a:lnTo>
                  <a:lnTo>
                    <a:pt x="2297" y="305"/>
                  </a:lnTo>
                  <a:lnTo>
                    <a:pt x="2306" y="299"/>
                  </a:lnTo>
                  <a:lnTo>
                    <a:pt x="2325" y="284"/>
                  </a:lnTo>
                  <a:lnTo>
                    <a:pt x="2342" y="267"/>
                  </a:lnTo>
                  <a:lnTo>
                    <a:pt x="2359" y="251"/>
                  </a:lnTo>
                  <a:lnTo>
                    <a:pt x="2374" y="234"/>
                  </a:lnTo>
                  <a:lnTo>
                    <a:pt x="2389" y="216"/>
                  </a:lnTo>
                  <a:lnTo>
                    <a:pt x="2405" y="198"/>
                  </a:lnTo>
                  <a:lnTo>
                    <a:pt x="2420" y="183"/>
                  </a:lnTo>
                  <a:lnTo>
                    <a:pt x="2437" y="168"/>
                  </a:lnTo>
                  <a:lnTo>
                    <a:pt x="2445" y="161"/>
                  </a:lnTo>
                  <a:lnTo>
                    <a:pt x="2453" y="155"/>
                  </a:lnTo>
                  <a:lnTo>
                    <a:pt x="2463" y="149"/>
                  </a:lnTo>
                  <a:lnTo>
                    <a:pt x="2472" y="145"/>
                  </a:lnTo>
                  <a:lnTo>
                    <a:pt x="2482" y="140"/>
                  </a:lnTo>
                  <a:lnTo>
                    <a:pt x="2493" y="137"/>
                  </a:lnTo>
                  <a:lnTo>
                    <a:pt x="2503" y="134"/>
                  </a:lnTo>
                  <a:lnTo>
                    <a:pt x="2515" y="132"/>
                  </a:lnTo>
                  <a:lnTo>
                    <a:pt x="2522" y="132"/>
                  </a:lnTo>
                  <a:lnTo>
                    <a:pt x="2528" y="130"/>
                  </a:lnTo>
                  <a:lnTo>
                    <a:pt x="2534" y="127"/>
                  </a:lnTo>
                  <a:lnTo>
                    <a:pt x="2538" y="125"/>
                  </a:lnTo>
                  <a:lnTo>
                    <a:pt x="2547" y="119"/>
                  </a:lnTo>
                  <a:lnTo>
                    <a:pt x="2554" y="111"/>
                  </a:lnTo>
                  <a:lnTo>
                    <a:pt x="2558" y="103"/>
                  </a:lnTo>
                  <a:lnTo>
                    <a:pt x="2563" y="93"/>
                  </a:lnTo>
                  <a:lnTo>
                    <a:pt x="2565" y="83"/>
                  </a:lnTo>
                  <a:lnTo>
                    <a:pt x="2568" y="71"/>
                  </a:lnTo>
                  <a:lnTo>
                    <a:pt x="2570" y="50"/>
                  </a:lnTo>
                  <a:lnTo>
                    <a:pt x="2572" y="29"/>
                  </a:lnTo>
                  <a:lnTo>
                    <a:pt x="2576" y="20"/>
                  </a:lnTo>
                  <a:lnTo>
                    <a:pt x="2578" y="12"/>
                  </a:lnTo>
                  <a:lnTo>
                    <a:pt x="2583" y="6"/>
                  </a:lnTo>
                  <a:lnTo>
                    <a:pt x="25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219"/>
            <p:cNvSpPr/>
            <p:nvPr/>
          </p:nvSpPr>
          <p:spPr>
            <a:xfrm>
              <a:off x="7823160" y="5582880"/>
              <a:ext cx="322200" cy="1458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35" h="893">
                  <a:moveTo>
                    <a:pt x="1872" y="611"/>
                  </a:moveTo>
                  <a:lnTo>
                    <a:pt x="535" y="792"/>
                  </a:lnTo>
                  <a:lnTo>
                    <a:pt x="518" y="838"/>
                  </a:lnTo>
                  <a:lnTo>
                    <a:pt x="0" y="893"/>
                  </a:lnTo>
                  <a:lnTo>
                    <a:pt x="7" y="870"/>
                  </a:lnTo>
                  <a:lnTo>
                    <a:pt x="16" y="849"/>
                  </a:lnTo>
                  <a:lnTo>
                    <a:pt x="25" y="829"/>
                  </a:lnTo>
                  <a:lnTo>
                    <a:pt x="37" y="812"/>
                  </a:lnTo>
                  <a:lnTo>
                    <a:pt x="49" y="794"/>
                  </a:lnTo>
                  <a:lnTo>
                    <a:pt x="63" y="778"/>
                  </a:lnTo>
                  <a:lnTo>
                    <a:pt x="79" y="764"/>
                  </a:lnTo>
                  <a:lnTo>
                    <a:pt x="95" y="751"/>
                  </a:lnTo>
                  <a:lnTo>
                    <a:pt x="110" y="737"/>
                  </a:lnTo>
                  <a:lnTo>
                    <a:pt x="125" y="725"/>
                  </a:lnTo>
                  <a:lnTo>
                    <a:pt x="139" y="716"/>
                  </a:lnTo>
                  <a:lnTo>
                    <a:pt x="153" y="708"/>
                  </a:lnTo>
                  <a:lnTo>
                    <a:pt x="180" y="695"/>
                  </a:lnTo>
                  <a:lnTo>
                    <a:pt x="206" y="682"/>
                  </a:lnTo>
                  <a:lnTo>
                    <a:pt x="219" y="675"/>
                  </a:lnTo>
                  <a:lnTo>
                    <a:pt x="232" y="666"/>
                  </a:lnTo>
                  <a:lnTo>
                    <a:pt x="246" y="655"/>
                  </a:lnTo>
                  <a:lnTo>
                    <a:pt x="259" y="643"/>
                  </a:lnTo>
                  <a:lnTo>
                    <a:pt x="273" y="627"/>
                  </a:lnTo>
                  <a:lnTo>
                    <a:pt x="287" y="609"/>
                  </a:lnTo>
                  <a:lnTo>
                    <a:pt x="302" y="585"/>
                  </a:lnTo>
                  <a:lnTo>
                    <a:pt x="317" y="558"/>
                  </a:lnTo>
                  <a:lnTo>
                    <a:pt x="326" y="539"/>
                  </a:lnTo>
                  <a:lnTo>
                    <a:pt x="331" y="527"/>
                  </a:lnTo>
                  <a:lnTo>
                    <a:pt x="336" y="520"/>
                  </a:lnTo>
                  <a:lnTo>
                    <a:pt x="344" y="509"/>
                  </a:lnTo>
                  <a:lnTo>
                    <a:pt x="359" y="495"/>
                  </a:lnTo>
                  <a:lnTo>
                    <a:pt x="380" y="476"/>
                  </a:lnTo>
                  <a:lnTo>
                    <a:pt x="391" y="466"/>
                  </a:lnTo>
                  <a:lnTo>
                    <a:pt x="402" y="458"/>
                  </a:lnTo>
                  <a:lnTo>
                    <a:pt x="415" y="451"/>
                  </a:lnTo>
                  <a:lnTo>
                    <a:pt x="430" y="444"/>
                  </a:lnTo>
                  <a:lnTo>
                    <a:pt x="444" y="438"/>
                  </a:lnTo>
                  <a:lnTo>
                    <a:pt x="461" y="432"/>
                  </a:lnTo>
                  <a:lnTo>
                    <a:pt x="478" y="428"/>
                  </a:lnTo>
                  <a:lnTo>
                    <a:pt x="496" y="423"/>
                  </a:lnTo>
                  <a:lnTo>
                    <a:pt x="575" y="407"/>
                  </a:lnTo>
                  <a:lnTo>
                    <a:pt x="663" y="391"/>
                  </a:lnTo>
                  <a:lnTo>
                    <a:pt x="708" y="382"/>
                  </a:lnTo>
                  <a:lnTo>
                    <a:pt x="755" y="370"/>
                  </a:lnTo>
                  <a:lnTo>
                    <a:pt x="778" y="363"/>
                  </a:lnTo>
                  <a:lnTo>
                    <a:pt x="802" y="356"/>
                  </a:lnTo>
                  <a:lnTo>
                    <a:pt x="825" y="348"/>
                  </a:lnTo>
                  <a:lnTo>
                    <a:pt x="848" y="340"/>
                  </a:lnTo>
                  <a:lnTo>
                    <a:pt x="872" y="330"/>
                  </a:lnTo>
                  <a:lnTo>
                    <a:pt x="894" y="319"/>
                  </a:lnTo>
                  <a:lnTo>
                    <a:pt x="916" y="306"/>
                  </a:lnTo>
                  <a:lnTo>
                    <a:pt x="938" y="293"/>
                  </a:lnTo>
                  <a:lnTo>
                    <a:pt x="961" y="279"/>
                  </a:lnTo>
                  <a:lnTo>
                    <a:pt x="982" y="263"/>
                  </a:lnTo>
                  <a:lnTo>
                    <a:pt x="1003" y="247"/>
                  </a:lnTo>
                  <a:lnTo>
                    <a:pt x="1022" y="228"/>
                  </a:lnTo>
                  <a:lnTo>
                    <a:pt x="1041" y="208"/>
                  </a:lnTo>
                  <a:lnTo>
                    <a:pt x="1054" y="191"/>
                  </a:lnTo>
                  <a:lnTo>
                    <a:pt x="1059" y="182"/>
                  </a:lnTo>
                  <a:lnTo>
                    <a:pt x="1062" y="175"/>
                  </a:lnTo>
                  <a:lnTo>
                    <a:pt x="1066" y="168"/>
                  </a:lnTo>
                  <a:lnTo>
                    <a:pt x="1068" y="161"/>
                  </a:lnTo>
                  <a:lnTo>
                    <a:pt x="1070" y="150"/>
                  </a:lnTo>
                  <a:lnTo>
                    <a:pt x="1070" y="139"/>
                  </a:lnTo>
                  <a:lnTo>
                    <a:pt x="1068" y="130"/>
                  </a:lnTo>
                  <a:lnTo>
                    <a:pt x="1067" y="120"/>
                  </a:lnTo>
                  <a:lnTo>
                    <a:pt x="1065" y="112"/>
                  </a:lnTo>
                  <a:lnTo>
                    <a:pt x="1062" y="104"/>
                  </a:lnTo>
                  <a:lnTo>
                    <a:pt x="1062" y="96"/>
                  </a:lnTo>
                  <a:lnTo>
                    <a:pt x="1063" y="87"/>
                  </a:lnTo>
                  <a:lnTo>
                    <a:pt x="1066" y="82"/>
                  </a:lnTo>
                  <a:lnTo>
                    <a:pt x="1068" y="77"/>
                  </a:lnTo>
                  <a:lnTo>
                    <a:pt x="1072" y="71"/>
                  </a:lnTo>
                  <a:lnTo>
                    <a:pt x="1076" y="66"/>
                  </a:lnTo>
                  <a:lnTo>
                    <a:pt x="1089" y="54"/>
                  </a:lnTo>
                  <a:lnTo>
                    <a:pt x="1105" y="40"/>
                  </a:lnTo>
                  <a:lnTo>
                    <a:pt x="1109" y="36"/>
                  </a:lnTo>
                  <a:lnTo>
                    <a:pt x="1112" y="34"/>
                  </a:lnTo>
                  <a:lnTo>
                    <a:pt x="1116" y="32"/>
                  </a:lnTo>
                  <a:lnTo>
                    <a:pt x="1121" y="30"/>
                  </a:lnTo>
                  <a:lnTo>
                    <a:pt x="1131" y="28"/>
                  </a:lnTo>
                  <a:lnTo>
                    <a:pt x="1142" y="28"/>
                  </a:lnTo>
                  <a:lnTo>
                    <a:pt x="1153" y="27"/>
                  </a:lnTo>
                  <a:lnTo>
                    <a:pt x="1164" y="25"/>
                  </a:lnTo>
                  <a:lnTo>
                    <a:pt x="1170" y="22"/>
                  </a:lnTo>
                  <a:lnTo>
                    <a:pt x="1174" y="20"/>
                  </a:lnTo>
                  <a:lnTo>
                    <a:pt x="1179" y="16"/>
                  </a:lnTo>
                  <a:lnTo>
                    <a:pt x="1184" y="12"/>
                  </a:lnTo>
                  <a:lnTo>
                    <a:pt x="1186" y="8"/>
                  </a:lnTo>
                  <a:lnTo>
                    <a:pt x="1190" y="6"/>
                  </a:lnTo>
                  <a:lnTo>
                    <a:pt x="1193" y="5"/>
                  </a:lnTo>
                  <a:lnTo>
                    <a:pt x="1197" y="2"/>
                  </a:lnTo>
                  <a:lnTo>
                    <a:pt x="1206" y="1"/>
                  </a:lnTo>
                  <a:lnTo>
                    <a:pt x="1216" y="0"/>
                  </a:lnTo>
                  <a:lnTo>
                    <a:pt x="1229" y="0"/>
                  </a:lnTo>
                  <a:lnTo>
                    <a:pt x="1242" y="1"/>
                  </a:lnTo>
                  <a:lnTo>
                    <a:pt x="1255" y="4"/>
                  </a:lnTo>
                  <a:lnTo>
                    <a:pt x="1269" y="6"/>
                  </a:lnTo>
                  <a:lnTo>
                    <a:pt x="1296" y="11"/>
                  </a:lnTo>
                  <a:lnTo>
                    <a:pt x="1320" y="15"/>
                  </a:lnTo>
                  <a:lnTo>
                    <a:pt x="1331" y="18"/>
                  </a:lnTo>
                  <a:lnTo>
                    <a:pt x="1340" y="18"/>
                  </a:lnTo>
                  <a:lnTo>
                    <a:pt x="1348" y="19"/>
                  </a:lnTo>
                  <a:lnTo>
                    <a:pt x="1353" y="18"/>
                  </a:lnTo>
                  <a:lnTo>
                    <a:pt x="1358" y="16"/>
                  </a:lnTo>
                  <a:lnTo>
                    <a:pt x="1364" y="18"/>
                  </a:lnTo>
                  <a:lnTo>
                    <a:pt x="1369" y="20"/>
                  </a:lnTo>
                  <a:lnTo>
                    <a:pt x="1376" y="23"/>
                  </a:lnTo>
                  <a:lnTo>
                    <a:pt x="1390" y="30"/>
                  </a:lnTo>
                  <a:lnTo>
                    <a:pt x="1404" y="40"/>
                  </a:lnTo>
                  <a:lnTo>
                    <a:pt x="1420" y="48"/>
                  </a:lnTo>
                  <a:lnTo>
                    <a:pt x="1435" y="53"/>
                  </a:lnTo>
                  <a:lnTo>
                    <a:pt x="1442" y="54"/>
                  </a:lnTo>
                  <a:lnTo>
                    <a:pt x="1449" y="54"/>
                  </a:lnTo>
                  <a:lnTo>
                    <a:pt x="1455" y="53"/>
                  </a:lnTo>
                  <a:lnTo>
                    <a:pt x="1461" y="49"/>
                  </a:lnTo>
                  <a:lnTo>
                    <a:pt x="1466" y="44"/>
                  </a:lnTo>
                  <a:lnTo>
                    <a:pt x="1473" y="41"/>
                  </a:lnTo>
                  <a:lnTo>
                    <a:pt x="1482" y="37"/>
                  </a:lnTo>
                  <a:lnTo>
                    <a:pt x="1490" y="34"/>
                  </a:lnTo>
                  <a:lnTo>
                    <a:pt x="1508" y="29"/>
                  </a:lnTo>
                  <a:lnTo>
                    <a:pt x="1529" y="25"/>
                  </a:lnTo>
                  <a:lnTo>
                    <a:pt x="1552" y="21"/>
                  </a:lnTo>
                  <a:lnTo>
                    <a:pt x="1576" y="19"/>
                  </a:lnTo>
                  <a:lnTo>
                    <a:pt x="1603" y="18"/>
                  </a:lnTo>
                  <a:lnTo>
                    <a:pt x="1630" y="18"/>
                  </a:lnTo>
                  <a:lnTo>
                    <a:pt x="1653" y="18"/>
                  </a:lnTo>
                  <a:lnTo>
                    <a:pt x="1673" y="19"/>
                  </a:lnTo>
                  <a:lnTo>
                    <a:pt x="1689" y="23"/>
                  </a:lnTo>
                  <a:lnTo>
                    <a:pt x="1704" y="29"/>
                  </a:lnTo>
                  <a:lnTo>
                    <a:pt x="1716" y="36"/>
                  </a:lnTo>
                  <a:lnTo>
                    <a:pt x="1729" y="44"/>
                  </a:lnTo>
                  <a:lnTo>
                    <a:pt x="1741" y="53"/>
                  </a:lnTo>
                  <a:lnTo>
                    <a:pt x="1753" y="63"/>
                  </a:lnTo>
                  <a:lnTo>
                    <a:pt x="1764" y="74"/>
                  </a:lnTo>
                  <a:lnTo>
                    <a:pt x="1778" y="84"/>
                  </a:lnTo>
                  <a:lnTo>
                    <a:pt x="1795" y="95"/>
                  </a:lnTo>
                  <a:lnTo>
                    <a:pt x="1813" y="105"/>
                  </a:lnTo>
                  <a:lnTo>
                    <a:pt x="1834" y="116"/>
                  </a:lnTo>
                  <a:lnTo>
                    <a:pt x="1860" y="125"/>
                  </a:lnTo>
                  <a:lnTo>
                    <a:pt x="1889" y="133"/>
                  </a:lnTo>
                  <a:lnTo>
                    <a:pt x="1924" y="141"/>
                  </a:lnTo>
                  <a:lnTo>
                    <a:pt x="1920" y="146"/>
                  </a:lnTo>
                  <a:lnTo>
                    <a:pt x="1917" y="152"/>
                  </a:lnTo>
                  <a:lnTo>
                    <a:pt x="1916" y="158"/>
                  </a:lnTo>
                  <a:lnTo>
                    <a:pt x="1915" y="165"/>
                  </a:lnTo>
                  <a:lnTo>
                    <a:pt x="1916" y="173"/>
                  </a:lnTo>
                  <a:lnTo>
                    <a:pt x="1918" y="181"/>
                  </a:lnTo>
                  <a:lnTo>
                    <a:pt x="1921" y="189"/>
                  </a:lnTo>
                  <a:lnTo>
                    <a:pt x="1925" y="196"/>
                  </a:lnTo>
                  <a:lnTo>
                    <a:pt x="1930" y="205"/>
                  </a:lnTo>
                  <a:lnTo>
                    <a:pt x="1937" y="213"/>
                  </a:lnTo>
                  <a:lnTo>
                    <a:pt x="1944" y="220"/>
                  </a:lnTo>
                  <a:lnTo>
                    <a:pt x="1953" y="226"/>
                  </a:lnTo>
                  <a:lnTo>
                    <a:pt x="1964" y="231"/>
                  </a:lnTo>
                  <a:lnTo>
                    <a:pt x="1975" y="236"/>
                  </a:lnTo>
                  <a:lnTo>
                    <a:pt x="1987" y="240"/>
                  </a:lnTo>
                  <a:lnTo>
                    <a:pt x="2001" y="242"/>
                  </a:lnTo>
                  <a:lnTo>
                    <a:pt x="2015" y="242"/>
                  </a:lnTo>
                  <a:lnTo>
                    <a:pt x="2029" y="244"/>
                  </a:lnTo>
                  <a:lnTo>
                    <a:pt x="2043" y="249"/>
                  </a:lnTo>
                  <a:lnTo>
                    <a:pt x="2060" y="256"/>
                  </a:lnTo>
                  <a:lnTo>
                    <a:pt x="2094" y="272"/>
                  </a:lnTo>
                  <a:lnTo>
                    <a:pt x="2135" y="291"/>
                  </a:lnTo>
                  <a:lnTo>
                    <a:pt x="2124" y="297"/>
                  </a:lnTo>
                  <a:lnTo>
                    <a:pt x="2114" y="301"/>
                  </a:lnTo>
                  <a:lnTo>
                    <a:pt x="2103" y="305"/>
                  </a:lnTo>
                  <a:lnTo>
                    <a:pt x="2094" y="306"/>
                  </a:lnTo>
                  <a:lnTo>
                    <a:pt x="2076" y="308"/>
                  </a:lnTo>
                  <a:lnTo>
                    <a:pt x="2061" y="310"/>
                  </a:lnTo>
                  <a:lnTo>
                    <a:pt x="2055" y="311"/>
                  </a:lnTo>
                  <a:lnTo>
                    <a:pt x="2050" y="313"/>
                  </a:lnTo>
                  <a:lnTo>
                    <a:pt x="2047" y="317"/>
                  </a:lnTo>
                  <a:lnTo>
                    <a:pt x="2045" y="320"/>
                  </a:lnTo>
                  <a:lnTo>
                    <a:pt x="2045" y="326"/>
                  </a:lnTo>
                  <a:lnTo>
                    <a:pt x="2047" y="334"/>
                  </a:lnTo>
                  <a:lnTo>
                    <a:pt x="2050" y="345"/>
                  </a:lnTo>
                  <a:lnTo>
                    <a:pt x="2056" y="358"/>
                  </a:lnTo>
                  <a:lnTo>
                    <a:pt x="2060" y="365"/>
                  </a:lnTo>
                  <a:lnTo>
                    <a:pt x="2061" y="373"/>
                  </a:lnTo>
                  <a:lnTo>
                    <a:pt x="2062" y="381"/>
                  </a:lnTo>
                  <a:lnTo>
                    <a:pt x="2063" y="389"/>
                  </a:lnTo>
                  <a:lnTo>
                    <a:pt x="2062" y="398"/>
                  </a:lnTo>
                  <a:lnTo>
                    <a:pt x="2061" y="408"/>
                  </a:lnTo>
                  <a:lnTo>
                    <a:pt x="2059" y="417"/>
                  </a:lnTo>
                  <a:lnTo>
                    <a:pt x="2056" y="426"/>
                  </a:lnTo>
                  <a:lnTo>
                    <a:pt x="2049" y="445"/>
                  </a:lnTo>
                  <a:lnTo>
                    <a:pt x="2039" y="465"/>
                  </a:lnTo>
                  <a:lnTo>
                    <a:pt x="2027" y="485"/>
                  </a:lnTo>
                  <a:lnTo>
                    <a:pt x="2013" y="505"/>
                  </a:lnTo>
                  <a:lnTo>
                    <a:pt x="1998" y="523"/>
                  </a:lnTo>
                  <a:lnTo>
                    <a:pt x="1980" y="541"/>
                  </a:lnTo>
                  <a:lnTo>
                    <a:pt x="1963" y="557"/>
                  </a:lnTo>
                  <a:lnTo>
                    <a:pt x="1945" y="572"/>
                  </a:lnTo>
                  <a:lnTo>
                    <a:pt x="1927" y="585"/>
                  </a:lnTo>
                  <a:lnTo>
                    <a:pt x="1908" y="596"/>
                  </a:lnTo>
                  <a:lnTo>
                    <a:pt x="1889" y="605"/>
                  </a:lnTo>
                  <a:lnTo>
                    <a:pt x="1872" y="61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220"/>
            <p:cNvSpPr/>
            <p:nvPr/>
          </p:nvSpPr>
          <p:spPr>
            <a:xfrm>
              <a:off x="8105400" y="5527440"/>
              <a:ext cx="365040" cy="15480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411" h="954">
                  <a:moveTo>
                    <a:pt x="1823" y="245"/>
                  </a:moveTo>
                  <a:lnTo>
                    <a:pt x="1840" y="252"/>
                  </a:lnTo>
                  <a:lnTo>
                    <a:pt x="1855" y="260"/>
                  </a:lnTo>
                  <a:lnTo>
                    <a:pt x="1870" y="268"/>
                  </a:lnTo>
                  <a:lnTo>
                    <a:pt x="1883" y="277"/>
                  </a:lnTo>
                  <a:lnTo>
                    <a:pt x="1896" y="286"/>
                  </a:lnTo>
                  <a:lnTo>
                    <a:pt x="1907" y="296"/>
                  </a:lnTo>
                  <a:lnTo>
                    <a:pt x="1919" y="307"/>
                  </a:lnTo>
                  <a:lnTo>
                    <a:pt x="1929" y="319"/>
                  </a:lnTo>
                  <a:lnTo>
                    <a:pt x="1952" y="344"/>
                  </a:lnTo>
                  <a:lnTo>
                    <a:pt x="1974" y="375"/>
                  </a:lnTo>
                  <a:lnTo>
                    <a:pt x="1997" y="409"/>
                  </a:lnTo>
                  <a:lnTo>
                    <a:pt x="2025" y="447"/>
                  </a:lnTo>
                  <a:lnTo>
                    <a:pt x="2049" y="447"/>
                  </a:lnTo>
                  <a:lnTo>
                    <a:pt x="2073" y="451"/>
                  </a:lnTo>
                  <a:lnTo>
                    <a:pt x="2099" y="454"/>
                  </a:lnTo>
                  <a:lnTo>
                    <a:pt x="2126" y="460"/>
                  </a:lnTo>
                  <a:lnTo>
                    <a:pt x="2153" y="468"/>
                  </a:lnTo>
                  <a:lnTo>
                    <a:pt x="2179" y="476"/>
                  </a:lnTo>
                  <a:lnTo>
                    <a:pt x="2207" y="487"/>
                  </a:lnTo>
                  <a:lnTo>
                    <a:pt x="2234" y="498"/>
                  </a:lnTo>
                  <a:lnTo>
                    <a:pt x="2260" y="511"/>
                  </a:lnTo>
                  <a:lnTo>
                    <a:pt x="2287" y="525"/>
                  </a:lnTo>
                  <a:lnTo>
                    <a:pt x="2311" y="541"/>
                  </a:lnTo>
                  <a:lnTo>
                    <a:pt x="2335" y="557"/>
                  </a:lnTo>
                  <a:lnTo>
                    <a:pt x="2357" y="574"/>
                  </a:lnTo>
                  <a:lnTo>
                    <a:pt x="2377" y="592"/>
                  </a:lnTo>
                  <a:lnTo>
                    <a:pt x="2394" y="612"/>
                  </a:lnTo>
                  <a:lnTo>
                    <a:pt x="2411" y="630"/>
                  </a:lnTo>
                  <a:lnTo>
                    <a:pt x="640" y="870"/>
                  </a:lnTo>
                  <a:lnTo>
                    <a:pt x="0" y="954"/>
                  </a:lnTo>
                  <a:lnTo>
                    <a:pt x="17" y="948"/>
                  </a:lnTo>
                  <a:lnTo>
                    <a:pt x="36" y="939"/>
                  </a:lnTo>
                  <a:lnTo>
                    <a:pt x="55" y="928"/>
                  </a:lnTo>
                  <a:lnTo>
                    <a:pt x="73" y="915"/>
                  </a:lnTo>
                  <a:lnTo>
                    <a:pt x="91" y="900"/>
                  </a:lnTo>
                  <a:lnTo>
                    <a:pt x="108" y="884"/>
                  </a:lnTo>
                  <a:lnTo>
                    <a:pt x="126" y="866"/>
                  </a:lnTo>
                  <a:lnTo>
                    <a:pt x="141" y="848"/>
                  </a:lnTo>
                  <a:lnTo>
                    <a:pt x="155" y="828"/>
                  </a:lnTo>
                  <a:lnTo>
                    <a:pt x="167" y="808"/>
                  </a:lnTo>
                  <a:lnTo>
                    <a:pt x="177" y="788"/>
                  </a:lnTo>
                  <a:lnTo>
                    <a:pt x="184" y="769"/>
                  </a:lnTo>
                  <a:lnTo>
                    <a:pt x="187" y="760"/>
                  </a:lnTo>
                  <a:lnTo>
                    <a:pt x="189" y="751"/>
                  </a:lnTo>
                  <a:lnTo>
                    <a:pt x="190" y="741"/>
                  </a:lnTo>
                  <a:lnTo>
                    <a:pt x="191" y="732"/>
                  </a:lnTo>
                  <a:lnTo>
                    <a:pt x="190" y="724"/>
                  </a:lnTo>
                  <a:lnTo>
                    <a:pt x="189" y="716"/>
                  </a:lnTo>
                  <a:lnTo>
                    <a:pt x="188" y="708"/>
                  </a:lnTo>
                  <a:lnTo>
                    <a:pt x="184" y="701"/>
                  </a:lnTo>
                  <a:lnTo>
                    <a:pt x="178" y="688"/>
                  </a:lnTo>
                  <a:lnTo>
                    <a:pt x="175" y="677"/>
                  </a:lnTo>
                  <a:lnTo>
                    <a:pt x="173" y="669"/>
                  </a:lnTo>
                  <a:lnTo>
                    <a:pt x="173" y="663"/>
                  </a:lnTo>
                  <a:lnTo>
                    <a:pt x="175" y="660"/>
                  </a:lnTo>
                  <a:lnTo>
                    <a:pt x="178" y="656"/>
                  </a:lnTo>
                  <a:lnTo>
                    <a:pt x="183" y="654"/>
                  </a:lnTo>
                  <a:lnTo>
                    <a:pt x="189" y="653"/>
                  </a:lnTo>
                  <a:lnTo>
                    <a:pt x="204" y="651"/>
                  </a:lnTo>
                  <a:lnTo>
                    <a:pt x="222" y="649"/>
                  </a:lnTo>
                  <a:lnTo>
                    <a:pt x="231" y="648"/>
                  </a:lnTo>
                  <a:lnTo>
                    <a:pt x="242" y="644"/>
                  </a:lnTo>
                  <a:lnTo>
                    <a:pt x="252" y="640"/>
                  </a:lnTo>
                  <a:lnTo>
                    <a:pt x="263" y="634"/>
                  </a:lnTo>
                  <a:lnTo>
                    <a:pt x="278" y="640"/>
                  </a:lnTo>
                  <a:lnTo>
                    <a:pt x="294" y="647"/>
                  </a:lnTo>
                  <a:lnTo>
                    <a:pt x="313" y="651"/>
                  </a:lnTo>
                  <a:lnTo>
                    <a:pt x="331" y="657"/>
                  </a:lnTo>
                  <a:lnTo>
                    <a:pt x="351" y="662"/>
                  </a:lnTo>
                  <a:lnTo>
                    <a:pt x="374" y="666"/>
                  </a:lnTo>
                  <a:lnTo>
                    <a:pt x="396" y="668"/>
                  </a:lnTo>
                  <a:lnTo>
                    <a:pt x="420" y="669"/>
                  </a:lnTo>
                  <a:lnTo>
                    <a:pt x="446" y="670"/>
                  </a:lnTo>
                  <a:lnTo>
                    <a:pt x="473" y="669"/>
                  </a:lnTo>
                  <a:lnTo>
                    <a:pt x="502" y="666"/>
                  </a:lnTo>
                  <a:lnTo>
                    <a:pt x="532" y="662"/>
                  </a:lnTo>
                  <a:lnTo>
                    <a:pt x="564" y="656"/>
                  </a:lnTo>
                  <a:lnTo>
                    <a:pt x="598" y="648"/>
                  </a:lnTo>
                  <a:lnTo>
                    <a:pt x="634" y="637"/>
                  </a:lnTo>
                  <a:lnTo>
                    <a:pt x="671" y="625"/>
                  </a:lnTo>
                  <a:lnTo>
                    <a:pt x="683" y="620"/>
                  </a:lnTo>
                  <a:lnTo>
                    <a:pt x="694" y="614"/>
                  </a:lnTo>
                  <a:lnTo>
                    <a:pt x="703" y="607"/>
                  </a:lnTo>
                  <a:lnTo>
                    <a:pt x="712" y="599"/>
                  </a:lnTo>
                  <a:lnTo>
                    <a:pt x="719" y="590"/>
                  </a:lnTo>
                  <a:lnTo>
                    <a:pt x="726" y="579"/>
                  </a:lnTo>
                  <a:lnTo>
                    <a:pt x="733" y="569"/>
                  </a:lnTo>
                  <a:lnTo>
                    <a:pt x="739" y="558"/>
                  </a:lnTo>
                  <a:lnTo>
                    <a:pt x="744" y="546"/>
                  </a:lnTo>
                  <a:lnTo>
                    <a:pt x="748" y="534"/>
                  </a:lnTo>
                  <a:lnTo>
                    <a:pt x="752" y="521"/>
                  </a:lnTo>
                  <a:lnTo>
                    <a:pt x="755" y="508"/>
                  </a:lnTo>
                  <a:lnTo>
                    <a:pt x="761" y="480"/>
                  </a:lnTo>
                  <a:lnTo>
                    <a:pt x="766" y="452"/>
                  </a:lnTo>
                  <a:lnTo>
                    <a:pt x="773" y="396"/>
                  </a:lnTo>
                  <a:lnTo>
                    <a:pt x="780" y="344"/>
                  </a:lnTo>
                  <a:lnTo>
                    <a:pt x="786" y="321"/>
                  </a:lnTo>
                  <a:lnTo>
                    <a:pt x="792" y="300"/>
                  </a:lnTo>
                  <a:lnTo>
                    <a:pt x="795" y="291"/>
                  </a:lnTo>
                  <a:lnTo>
                    <a:pt x="800" y="282"/>
                  </a:lnTo>
                  <a:lnTo>
                    <a:pt x="805" y="274"/>
                  </a:lnTo>
                  <a:lnTo>
                    <a:pt x="809" y="268"/>
                  </a:lnTo>
                  <a:lnTo>
                    <a:pt x="821" y="256"/>
                  </a:lnTo>
                  <a:lnTo>
                    <a:pt x="833" y="240"/>
                  </a:lnTo>
                  <a:lnTo>
                    <a:pt x="844" y="224"/>
                  </a:lnTo>
                  <a:lnTo>
                    <a:pt x="856" y="206"/>
                  </a:lnTo>
                  <a:lnTo>
                    <a:pt x="878" y="167"/>
                  </a:lnTo>
                  <a:lnTo>
                    <a:pt x="900" y="126"/>
                  </a:lnTo>
                  <a:lnTo>
                    <a:pt x="920" y="87"/>
                  </a:lnTo>
                  <a:lnTo>
                    <a:pt x="940" y="52"/>
                  </a:lnTo>
                  <a:lnTo>
                    <a:pt x="949" y="37"/>
                  </a:lnTo>
                  <a:lnTo>
                    <a:pt x="958" y="24"/>
                  </a:lnTo>
                  <a:lnTo>
                    <a:pt x="966" y="14"/>
                  </a:lnTo>
                  <a:lnTo>
                    <a:pt x="974" y="6"/>
                  </a:lnTo>
                  <a:lnTo>
                    <a:pt x="1019" y="1"/>
                  </a:lnTo>
                  <a:lnTo>
                    <a:pt x="1060" y="0"/>
                  </a:lnTo>
                  <a:lnTo>
                    <a:pt x="1097" y="0"/>
                  </a:lnTo>
                  <a:lnTo>
                    <a:pt x="1128" y="1"/>
                  </a:lnTo>
                  <a:lnTo>
                    <a:pt x="1156" y="4"/>
                  </a:lnTo>
                  <a:lnTo>
                    <a:pt x="1180" y="8"/>
                  </a:lnTo>
                  <a:lnTo>
                    <a:pt x="1201" y="14"/>
                  </a:lnTo>
                  <a:lnTo>
                    <a:pt x="1218" y="20"/>
                  </a:lnTo>
                  <a:lnTo>
                    <a:pt x="1247" y="31"/>
                  </a:lnTo>
                  <a:lnTo>
                    <a:pt x="1271" y="41"/>
                  </a:lnTo>
                  <a:lnTo>
                    <a:pt x="1281" y="44"/>
                  </a:lnTo>
                  <a:lnTo>
                    <a:pt x="1292" y="45"/>
                  </a:lnTo>
                  <a:lnTo>
                    <a:pt x="1302" y="45"/>
                  </a:lnTo>
                  <a:lnTo>
                    <a:pt x="1314" y="43"/>
                  </a:lnTo>
                  <a:lnTo>
                    <a:pt x="1323" y="44"/>
                  </a:lnTo>
                  <a:lnTo>
                    <a:pt x="1330" y="45"/>
                  </a:lnTo>
                  <a:lnTo>
                    <a:pt x="1337" y="48"/>
                  </a:lnTo>
                  <a:lnTo>
                    <a:pt x="1342" y="51"/>
                  </a:lnTo>
                  <a:lnTo>
                    <a:pt x="1347" y="55"/>
                  </a:lnTo>
                  <a:lnTo>
                    <a:pt x="1350" y="59"/>
                  </a:lnTo>
                  <a:lnTo>
                    <a:pt x="1354" y="65"/>
                  </a:lnTo>
                  <a:lnTo>
                    <a:pt x="1356" y="71"/>
                  </a:lnTo>
                  <a:lnTo>
                    <a:pt x="1363" y="83"/>
                  </a:lnTo>
                  <a:lnTo>
                    <a:pt x="1372" y="95"/>
                  </a:lnTo>
                  <a:lnTo>
                    <a:pt x="1378" y="102"/>
                  </a:lnTo>
                  <a:lnTo>
                    <a:pt x="1385" y="108"/>
                  </a:lnTo>
                  <a:lnTo>
                    <a:pt x="1394" y="115"/>
                  </a:lnTo>
                  <a:lnTo>
                    <a:pt x="1406" y="121"/>
                  </a:lnTo>
                  <a:lnTo>
                    <a:pt x="1412" y="135"/>
                  </a:lnTo>
                  <a:lnTo>
                    <a:pt x="1419" y="148"/>
                  </a:lnTo>
                  <a:lnTo>
                    <a:pt x="1427" y="159"/>
                  </a:lnTo>
                  <a:lnTo>
                    <a:pt x="1435" y="169"/>
                  </a:lnTo>
                  <a:lnTo>
                    <a:pt x="1442" y="177"/>
                  </a:lnTo>
                  <a:lnTo>
                    <a:pt x="1452" y="185"/>
                  </a:lnTo>
                  <a:lnTo>
                    <a:pt x="1460" y="192"/>
                  </a:lnTo>
                  <a:lnTo>
                    <a:pt x="1469" y="198"/>
                  </a:lnTo>
                  <a:lnTo>
                    <a:pt x="1477" y="203"/>
                  </a:lnTo>
                  <a:lnTo>
                    <a:pt x="1487" y="208"/>
                  </a:lnTo>
                  <a:lnTo>
                    <a:pt x="1496" y="211"/>
                  </a:lnTo>
                  <a:lnTo>
                    <a:pt x="1505" y="213"/>
                  </a:lnTo>
                  <a:lnTo>
                    <a:pt x="1524" y="218"/>
                  </a:lnTo>
                  <a:lnTo>
                    <a:pt x="1543" y="219"/>
                  </a:lnTo>
                  <a:lnTo>
                    <a:pt x="1577" y="220"/>
                  </a:lnTo>
                  <a:lnTo>
                    <a:pt x="1607" y="220"/>
                  </a:lnTo>
                  <a:lnTo>
                    <a:pt x="1620" y="222"/>
                  </a:lnTo>
                  <a:lnTo>
                    <a:pt x="1630" y="225"/>
                  </a:lnTo>
                  <a:lnTo>
                    <a:pt x="1635" y="226"/>
                  </a:lnTo>
                  <a:lnTo>
                    <a:pt x="1639" y="229"/>
                  </a:lnTo>
                  <a:lnTo>
                    <a:pt x="1642" y="232"/>
                  </a:lnTo>
                  <a:lnTo>
                    <a:pt x="1644" y="237"/>
                  </a:lnTo>
                  <a:lnTo>
                    <a:pt x="1823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221"/>
            <p:cNvSpPr/>
            <p:nvPr/>
          </p:nvSpPr>
          <p:spPr>
            <a:xfrm>
              <a:off x="8391600" y="5533920"/>
              <a:ext cx="44280" cy="58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89" h="357">
                  <a:moveTo>
                    <a:pt x="285" y="357"/>
                  </a:moveTo>
                  <a:lnTo>
                    <a:pt x="273" y="353"/>
                  </a:lnTo>
                  <a:lnTo>
                    <a:pt x="263" y="347"/>
                  </a:lnTo>
                  <a:lnTo>
                    <a:pt x="251" y="340"/>
                  </a:lnTo>
                  <a:lnTo>
                    <a:pt x="241" y="332"/>
                  </a:lnTo>
                  <a:lnTo>
                    <a:pt x="230" y="322"/>
                  </a:lnTo>
                  <a:lnTo>
                    <a:pt x="220" y="313"/>
                  </a:lnTo>
                  <a:lnTo>
                    <a:pt x="209" y="302"/>
                  </a:lnTo>
                  <a:lnTo>
                    <a:pt x="200" y="292"/>
                  </a:lnTo>
                  <a:lnTo>
                    <a:pt x="180" y="269"/>
                  </a:lnTo>
                  <a:lnTo>
                    <a:pt x="161" y="243"/>
                  </a:lnTo>
                  <a:lnTo>
                    <a:pt x="144" y="217"/>
                  </a:lnTo>
                  <a:lnTo>
                    <a:pt x="125" y="191"/>
                  </a:lnTo>
                  <a:lnTo>
                    <a:pt x="92" y="140"/>
                  </a:lnTo>
                  <a:lnTo>
                    <a:pt x="61" y="96"/>
                  </a:lnTo>
                  <a:lnTo>
                    <a:pt x="44" y="78"/>
                  </a:lnTo>
                  <a:lnTo>
                    <a:pt x="29" y="63"/>
                  </a:lnTo>
                  <a:lnTo>
                    <a:pt x="22" y="57"/>
                  </a:lnTo>
                  <a:lnTo>
                    <a:pt x="15" y="52"/>
                  </a:lnTo>
                  <a:lnTo>
                    <a:pt x="7" y="49"/>
                  </a:lnTo>
                  <a:lnTo>
                    <a:pt x="0" y="47"/>
                  </a:lnTo>
                  <a:lnTo>
                    <a:pt x="161" y="0"/>
                  </a:lnTo>
                  <a:lnTo>
                    <a:pt x="162" y="10"/>
                  </a:lnTo>
                  <a:lnTo>
                    <a:pt x="165" y="20"/>
                  </a:lnTo>
                  <a:lnTo>
                    <a:pt x="168" y="29"/>
                  </a:lnTo>
                  <a:lnTo>
                    <a:pt x="174" y="37"/>
                  </a:lnTo>
                  <a:lnTo>
                    <a:pt x="186" y="55"/>
                  </a:lnTo>
                  <a:lnTo>
                    <a:pt x="201" y="71"/>
                  </a:lnTo>
                  <a:lnTo>
                    <a:pt x="215" y="88"/>
                  </a:lnTo>
                  <a:lnTo>
                    <a:pt x="227" y="104"/>
                  </a:lnTo>
                  <a:lnTo>
                    <a:pt x="233" y="113"/>
                  </a:lnTo>
                  <a:lnTo>
                    <a:pt x="236" y="123"/>
                  </a:lnTo>
                  <a:lnTo>
                    <a:pt x="238" y="132"/>
                  </a:lnTo>
                  <a:lnTo>
                    <a:pt x="240" y="141"/>
                  </a:lnTo>
                  <a:lnTo>
                    <a:pt x="240" y="158"/>
                  </a:lnTo>
                  <a:lnTo>
                    <a:pt x="242" y="173"/>
                  </a:lnTo>
                  <a:lnTo>
                    <a:pt x="245" y="187"/>
                  </a:lnTo>
                  <a:lnTo>
                    <a:pt x="249" y="200"/>
                  </a:lnTo>
                  <a:lnTo>
                    <a:pt x="258" y="224"/>
                  </a:lnTo>
                  <a:lnTo>
                    <a:pt x="269" y="246"/>
                  </a:lnTo>
                  <a:lnTo>
                    <a:pt x="273" y="258"/>
                  </a:lnTo>
                  <a:lnTo>
                    <a:pt x="278" y="270"/>
                  </a:lnTo>
                  <a:lnTo>
                    <a:pt x="283" y="281"/>
                  </a:lnTo>
                  <a:lnTo>
                    <a:pt x="285" y="294"/>
                  </a:lnTo>
                  <a:lnTo>
                    <a:pt x="287" y="308"/>
                  </a:lnTo>
                  <a:lnTo>
                    <a:pt x="289" y="323"/>
                  </a:lnTo>
                  <a:lnTo>
                    <a:pt x="287" y="340"/>
                  </a:lnTo>
                  <a:lnTo>
                    <a:pt x="285" y="35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222"/>
            <p:cNvSpPr/>
            <p:nvPr/>
          </p:nvSpPr>
          <p:spPr>
            <a:xfrm>
              <a:off x="7466040" y="5445000"/>
              <a:ext cx="260280" cy="1173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714" h="717">
                  <a:moveTo>
                    <a:pt x="1388" y="0"/>
                  </a:moveTo>
                  <a:lnTo>
                    <a:pt x="1399" y="19"/>
                  </a:lnTo>
                  <a:lnTo>
                    <a:pt x="1410" y="38"/>
                  </a:lnTo>
                  <a:lnTo>
                    <a:pt x="1424" y="56"/>
                  </a:lnTo>
                  <a:lnTo>
                    <a:pt x="1440" y="75"/>
                  </a:lnTo>
                  <a:lnTo>
                    <a:pt x="1457" y="93"/>
                  </a:lnTo>
                  <a:lnTo>
                    <a:pt x="1475" y="109"/>
                  </a:lnTo>
                  <a:lnTo>
                    <a:pt x="1494" y="125"/>
                  </a:lnTo>
                  <a:lnTo>
                    <a:pt x="1514" y="140"/>
                  </a:lnTo>
                  <a:lnTo>
                    <a:pt x="1535" y="153"/>
                  </a:lnTo>
                  <a:lnTo>
                    <a:pt x="1558" y="166"/>
                  </a:lnTo>
                  <a:lnTo>
                    <a:pt x="1579" y="177"/>
                  </a:lnTo>
                  <a:lnTo>
                    <a:pt x="1601" y="186"/>
                  </a:lnTo>
                  <a:lnTo>
                    <a:pt x="1622" y="193"/>
                  </a:lnTo>
                  <a:lnTo>
                    <a:pt x="1643" y="198"/>
                  </a:lnTo>
                  <a:lnTo>
                    <a:pt x="1663" y="201"/>
                  </a:lnTo>
                  <a:lnTo>
                    <a:pt x="1683" y="202"/>
                  </a:lnTo>
                  <a:lnTo>
                    <a:pt x="1714" y="331"/>
                  </a:lnTo>
                  <a:lnTo>
                    <a:pt x="1695" y="335"/>
                  </a:lnTo>
                  <a:lnTo>
                    <a:pt x="1679" y="340"/>
                  </a:lnTo>
                  <a:lnTo>
                    <a:pt x="1665" y="346"/>
                  </a:lnTo>
                  <a:lnTo>
                    <a:pt x="1653" y="353"/>
                  </a:lnTo>
                  <a:lnTo>
                    <a:pt x="1643" y="361"/>
                  </a:lnTo>
                  <a:lnTo>
                    <a:pt x="1636" y="369"/>
                  </a:lnTo>
                  <a:lnTo>
                    <a:pt x="1630" y="379"/>
                  </a:lnTo>
                  <a:lnTo>
                    <a:pt x="1625" y="388"/>
                  </a:lnTo>
                  <a:lnTo>
                    <a:pt x="1623" y="397"/>
                  </a:lnTo>
                  <a:lnTo>
                    <a:pt x="1622" y="407"/>
                  </a:lnTo>
                  <a:lnTo>
                    <a:pt x="1623" y="416"/>
                  </a:lnTo>
                  <a:lnTo>
                    <a:pt x="1625" y="425"/>
                  </a:lnTo>
                  <a:lnTo>
                    <a:pt x="1628" y="434"/>
                  </a:lnTo>
                  <a:lnTo>
                    <a:pt x="1632" y="442"/>
                  </a:lnTo>
                  <a:lnTo>
                    <a:pt x="1638" y="449"/>
                  </a:lnTo>
                  <a:lnTo>
                    <a:pt x="1645" y="456"/>
                  </a:lnTo>
                  <a:lnTo>
                    <a:pt x="1608" y="525"/>
                  </a:lnTo>
                  <a:lnTo>
                    <a:pt x="1602" y="525"/>
                  </a:lnTo>
                  <a:lnTo>
                    <a:pt x="1596" y="525"/>
                  </a:lnTo>
                  <a:lnTo>
                    <a:pt x="1591" y="526"/>
                  </a:lnTo>
                  <a:lnTo>
                    <a:pt x="1586" y="528"/>
                  </a:lnTo>
                  <a:lnTo>
                    <a:pt x="1582" y="531"/>
                  </a:lnTo>
                  <a:lnTo>
                    <a:pt x="1577" y="534"/>
                  </a:lnTo>
                  <a:lnTo>
                    <a:pt x="1573" y="538"/>
                  </a:lnTo>
                  <a:lnTo>
                    <a:pt x="1569" y="542"/>
                  </a:lnTo>
                  <a:lnTo>
                    <a:pt x="1563" y="552"/>
                  </a:lnTo>
                  <a:lnTo>
                    <a:pt x="1558" y="563"/>
                  </a:lnTo>
                  <a:lnTo>
                    <a:pt x="1553" y="575"/>
                  </a:lnTo>
                  <a:lnTo>
                    <a:pt x="1548" y="588"/>
                  </a:lnTo>
                  <a:lnTo>
                    <a:pt x="1546" y="602"/>
                  </a:lnTo>
                  <a:lnTo>
                    <a:pt x="1544" y="616"/>
                  </a:lnTo>
                  <a:lnTo>
                    <a:pt x="1542" y="629"/>
                  </a:lnTo>
                  <a:lnTo>
                    <a:pt x="1541" y="642"/>
                  </a:lnTo>
                  <a:lnTo>
                    <a:pt x="1541" y="653"/>
                  </a:lnTo>
                  <a:lnTo>
                    <a:pt x="1541" y="664"/>
                  </a:lnTo>
                  <a:lnTo>
                    <a:pt x="1542" y="673"/>
                  </a:lnTo>
                  <a:lnTo>
                    <a:pt x="1544" y="680"/>
                  </a:lnTo>
                  <a:lnTo>
                    <a:pt x="277" y="717"/>
                  </a:lnTo>
                  <a:lnTo>
                    <a:pt x="259" y="709"/>
                  </a:lnTo>
                  <a:lnTo>
                    <a:pt x="243" y="702"/>
                  </a:lnTo>
                  <a:lnTo>
                    <a:pt x="236" y="699"/>
                  </a:lnTo>
                  <a:lnTo>
                    <a:pt x="232" y="694"/>
                  </a:lnTo>
                  <a:lnTo>
                    <a:pt x="227" y="689"/>
                  </a:lnTo>
                  <a:lnTo>
                    <a:pt x="224" y="685"/>
                  </a:lnTo>
                  <a:lnTo>
                    <a:pt x="220" y="678"/>
                  </a:lnTo>
                  <a:lnTo>
                    <a:pt x="219" y="671"/>
                  </a:lnTo>
                  <a:lnTo>
                    <a:pt x="218" y="663"/>
                  </a:lnTo>
                  <a:lnTo>
                    <a:pt x="217" y="652"/>
                  </a:lnTo>
                  <a:lnTo>
                    <a:pt x="218" y="626"/>
                  </a:lnTo>
                  <a:lnTo>
                    <a:pt x="222" y="594"/>
                  </a:lnTo>
                  <a:lnTo>
                    <a:pt x="225" y="576"/>
                  </a:lnTo>
                  <a:lnTo>
                    <a:pt x="225" y="561"/>
                  </a:lnTo>
                  <a:lnTo>
                    <a:pt x="222" y="549"/>
                  </a:lnTo>
                  <a:lnTo>
                    <a:pt x="220" y="538"/>
                  </a:lnTo>
                  <a:lnTo>
                    <a:pt x="215" y="528"/>
                  </a:lnTo>
                  <a:lnTo>
                    <a:pt x="210" y="520"/>
                  </a:lnTo>
                  <a:lnTo>
                    <a:pt x="203" y="513"/>
                  </a:lnTo>
                  <a:lnTo>
                    <a:pt x="196" y="508"/>
                  </a:lnTo>
                  <a:lnTo>
                    <a:pt x="179" y="498"/>
                  </a:lnTo>
                  <a:lnTo>
                    <a:pt x="162" y="490"/>
                  </a:lnTo>
                  <a:lnTo>
                    <a:pt x="152" y="485"/>
                  </a:lnTo>
                  <a:lnTo>
                    <a:pt x="144" y="480"/>
                  </a:lnTo>
                  <a:lnTo>
                    <a:pt x="137" y="476"/>
                  </a:lnTo>
                  <a:lnTo>
                    <a:pt x="130" y="470"/>
                  </a:lnTo>
                  <a:lnTo>
                    <a:pt x="125" y="465"/>
                  </a:lnTo>
                  <a:lnTo>
                    <a:pt x="123" y="460"/>
                  </a:lnTo>
                  <a:lnTo>
                    <a:pt x="123" y="457"/>
                  </a:lnTo>
                  <a:lnTo>
                    <a:pt x="123" y="453"/>
                  </a:lnTo>
                  <a:lnTo>
                    <a:pt x="124" y="449"/>
                  </a:lnTo>
                  <a:lnTo>
                    <a:pt x="125" y="444"/>
                  </a:lnTo>
                  <a:lnTo>
                    <a:pt x="127" y="438"/>
                  </a:lnTo>
                  <a:lnTo>
                    <a:pt x="125" y="431"/>
                  </a:lnTo>
                  <a:lnTo>
                    <a:pt x="123" y="422"/>
                  </a:lnTo>
                  <a:lnTo>
                    <a:pt x="117" y="410"/>
                  </a:lnTo>
                  <a:lnTo>
                    <a:pt x="109" y="395"/>
                  </a:lnTo>
                  <a:lnTo>
                    <a:pt x="97" y="378"/>
                  </a:lnTo>
                  <a:lnTo>
                    <a:pt x="81" y="358"/>
                  </a:lnTo>
                  <a:lnTo>
                    <a:pt x="60" y="333"/>
                  </a:lnTo>
                  <a:lnTo>
                    <a:pt x="33" y="304"/>
                  </a:lnTo>
                  <a:lnTo>
                    <a:pt x="0" y="271"/>
                  </a:lnTo>
                  <a:lnTo>
                    <a:pt x="14" y="14"/>
                  </a:lnTo>
                  <a:lnTo>
                    <a:pt x="13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223"/>
            <p:cNvSpPr/>
            <p:nvPr/>
          </p:nvSpPr>
          <p:spPr>
            <a:xfrm>
              <a:off x="6294240" y="5462640"/>
              <a:ext cx="287280" cy="4741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1904" h="2906">
                  <a:moveTo>
                    <a:pt x="1147" y="2906"/>
                  </a:moveTo>
                  <a:lnTo>
                    <a:pt x="1175" y="2857"/>
                  </a:lnTo>
                  <a:lnTo>
                    <a:pt x="400" y="2857"/>
                  </a:lnTo>
                  <a:lnTo>
                    <a:pt x="411" y="2837"/>
                  </a:lnTo>
                  <a:lnTo>
                    <a:pt x="421" y="2817"/>
                  </a:lnTo>
                  <a:lnTo>
                    <a:pt x="428" y="2797"/>
                  </a:lnTo>
                  <a:lnTo>
                    <a:pt x="435" y="2777"/>
                  </a:lnTo>
                  <a:lnTo>
                    <a:pt x="441" y="2759"/>
                  </a:lnTo>
                  <a:lnTo>
                    <a:pt x="446" y="2739"/>
                  </a:lnTo>
                  <a:lnTo>
                    <a:pt x="449" y="2720"/>
                  </a:lnTo>
                  <a:lnTo>
                    <a:pt x="452" y="2701"/>
                  </a:lnTo>
                  <a:lnTo>
                    <a:pt x="453" y="2683"/>
                  </a:lnTo>
                  <a:lnTo>
                    <a:pt x="453" y="2665"/>
                  </a:lnTo>
                  <a:lnTo>
                    <a:pt x="452" y="2647"/>
                  </a:lnTo>
                  <a:lnTo>
                    <a:pt x="449" y="2629"/>
                  </a:lnTo>
                  <a:lnTo>
                    <a:pt x="447" y="2612"/>
                  </a:lnTo>
                  <a:lnTo>
                    <a:pt x="443" y="2594"/>
                  </a:lnTo>
                  <a:lnTo>
                    <a:pt x="440" y="2578"/>
                  </a:lnTo>
                  <a:lnTo>
                    <a:pt x="435" y="2560"/>
                  </a:lnTo>
                  <a:lnTo>
                    <a:pt x="429" y="2544"/>
                  </a:lnTo>
                  <a:lnTo>
                    <a:pt x="424" y="2527"/>
                  </a:lnTo>
                  <a:lnTo>
                    <a:pt x="418" y="2512"/>
                  </a:lnTo>
                  <a:lnTo>
                    <a:pt x="411" y="2496"/>
                  </a:lnTo>
                  <a:lnTo>
                    <a:pt x="396" y="2466"/>
                  </a:lnTo>
                  <a:lnTo>
                    <a:pt x="379" y="2436"/>
                  </a:lnTo>
                  <a:lnTo>
                    <a:pt x="362" y="2408"/>
                  </a:lnTo>
                  <a:lnTo>
                    <a:pt x="344" y="2383"/>
                  </a:lnTo>
                  <a:lnTo>
                    <a:pt x="325" y="2357"/>
                  </a:lnTo>
                  <a:lnTo>
                    <a:pt x="308" y="2332"/>
                  </a:lnTo>
                  <a:lnTo>
                    <a:pt x="300" y="2322"/>
                  </a:lnTo>
                  <a:lnTo>
                    <a:pt x="293" y="2310"/>
                  </a:lnTo>
                  <a:lnTo>
                    <a:pt x="286" y="2298"/>
                  </a:lnTo>
                  <a:lnTo>
                    <a:pt x="280" y="2288"/>
                  </a:lnTo>
                  <a:lnTo>
                    <a:pt x="272" y="2267"/>
                  </a:lnTo>
                  <a:lnTo>
                    <a:pt x="265" y="2247"/>
                  </a:lnTo>
                  <a:lnTo>
                    <a:pt x="260" y="2228"/>
                  </a:lnTo>
                  <a:lnTo>
                    <a:pt x="259" y="2210"/>
                  </a:lnTo>
                  <a:lnTo>
                    <a:pt x="258" y="2193"/>
                  </a:lnTo>
                  <a:lnTo>
                    <a:pt x="259" y="2178"/>
                  </a:lnTo>
                  <a:lnTo>
                    <a:pt x="261" y="2164"/>
                  </a:lnTo>
                  <a:lnTo>
                    <a:pt x="265" y="2152"/>
                  </a:lnTo>
                  <a:lnTo>
                    <a:pt x="267" y="2142"/>
                  </a:lnTo>
                  <a:lnTo>
                    <a:pt x="271" y="2133"/>
                  </a:lnTo>
                  <a:lnTo>
                    <a:pt x="276" y="2121"/>
                  </a:lnTo>
                  <a:lnTo>
                    <a:pt x="280" y="2117"/>
                  </a:lnTo>
                  <a:lnTo>
                    <a:pt x="60" y="2085"/>
                  </a:lnTo>
                  <a:lnTo>
                    <a:pt x="63" y="2077"/>
                  </a:lnTo>
                  <a:lnTo>
                    <a:pt x="65" y="2068"/>
                  </a:lnTo>
                  <a:lnTo>
                    <a:pt x="66" y="2060"/>
                  </a:lnTo>
                  <a:lnTo>
                    <a:pt x="67" y="2052"/>
                  </a:lnTo>
                  <a:lnTo>
                    <a:pt x="66" y="2037"/>
                  </a:lnTo>
                  <a:lnTo>
                    <a:pt x="64" y="2022"/>
                  </a:lnTo>
                  <a:lnTo>
                    <a:pt x="60" y="2009"/>
                  </a:lnTo>
                  <a:lnTo>
                    <a:pt x="56" y="1996"/>
                  </a:lnTo>
                  <a:lnTo>
                    <a:pt x="49" y="1983"/>
                  </a:lnTo>
                  <a:lnTo>
                    <a:pt x="42" y="1973"/>
                  </a:lnTo>
                  <a:lnTo>
                    <a:pt x="28" y="1955"/>
                  </a:lnTo>
                  <a:lnTo>
                    <a:pt x="14" y="1941"/>
                  </a:lnTo>
                  <a:lnTo>
                    <a:pt x="4" y="1933"/>
                  </a:lnTo>
                  <a:lnTo>
                    <a:pt x="0" y="1929"/>
                  </a:lnTo>
                  <a:lnTo>
                    <a:pt x="184" y="1713"/>
                  </a:lnTo>
                  <a:lnTo>
                    <a:pt x="184" y="1705"/>
                  </a:lnTo>
                  <a:lnTo>
                    <a:pt x="183" y="1697"/>
                  </a:lnTo>
                  <a:lnTo>
                    <a:pt x="181" y="1689"/>
                  </a:lnTo>
                  <a:lnTo>
                    <a:pt x="178" y="1681"/>
                  </a:lnTo>
                  <a:lnTo>
                    <a:pt x="170" y="1664"/>
                  </a:lnTo>
                  <a:lnTo>
                    <a:pt x="161" y="1649"/>
                  </a:lnTo>
                  <a:lnTo>
                    <a:pt x="137" y="1619"/>
                  </a:lnTo>
                  <a:lnTo>
                    <a:pt x="112" y="1587"/>
                  </a:lnTo>
                  <a:lnTo>
                    <a:pt x="99" y="1571"/>
                  </a:lnTo>
                  <a:lnTo>
                    <a:pt x="87" y="1554"/>
                  </a:lnTo>
                  <a:lnTo>
                    <a:pt x="77" y="1538"/>
                  </a:lnTo>
                  <a:lnTo>
                    <a:pt x="67" y="1519"/>
                  </a:lnTo>
                  <a:lnTo>
                    <a:pt x="64" y="1510"/>
                  </a:lnTo>
                  <a:lnTo>
                    <a:pt x="61" y="1501"/>
                  </a:lnTo>
                  <a:lnTo>
                    <a:pt x="59" y="1491"/>
                  </a:lnTo>
                  <a:lnTo>
                    <a:pt x="58" y="1481"/>
                  </a:lnTo>
                  <a:lnTo>
                    <a:pt x="57" y="1470"/>
                  </a:lnTo>
                  <a:lnTo>
                    <a:pt x="57" y="1460"/>
                  </a:lnTo>
                  <a:lnTo>
                    <a:pt x="58" y="1448"/>
                  </a:lnTo>
                  <a:lnTo>
                    <a:pt x="60" y="1438"/>
                  </a:lnTo>
                  <a:lnTo>
                    <a:pt x="67" y="1414"/>
                  </a:lnTo>
                  <a:lnTo>
                    <a:pt x="77" y="1391"/>
                  </a:lnTo>
                  <a:lnTo>
                    <a:pt x="86" y="1369"/>
                  </a:lnTo>
                  <a:lnTo>
                    <a:pt x="98" y="1347"/>
                  </a:lnTo>
                  <a:lnTo>
                    <a:pt x="111" y="1324"/>
                  </a:lnTo>
                  <a:lnTo>
                    <a:pt x="123" y="1304"/>
                  </a:lnTo>
                  <a:lnTo>
                    <a:pt x="137" y="1285"/>
                  </a:lnTo>
                  <a:lnTo>
                    <a:pt x="150" y="1267"/>
                  </a:lnTo>
                  <a:lnTo>
                    <a:pt x="175" y="1236"/>
                  </a:lnTo>
                  <a:lnTo>
                    <a:pt x="196" y="1211"/>
                  </a:lnTo>
                  <a:lnTo>
                    <a:pt x="211" y="1195"/>
                  </a:lnTo>
                  <a:lnTo>
                    <a:pt x="216" y="1190"/>
                  </a:lnTo>
                  <a:lnTo>
                    <a:pt x="224" y="1197"/>
                  </a:lnTo>
                  <a:lnTo>
                    <a:pt x="232" y="1203"/>
                  </a:lnTo>
                  <a:lnTo>
                    <a:pt x="239" y="1208"/>
                  </a:lnTo>
                  <a:lnTo>
                    <a:pt x="245" y="1209"/>
                  </a:lnTo>
                  <a:lnTo>
                    <a:pt x="251" y="1210"/>
                  </a:lnTo>
                  <a:lnTo>
                    <a:pt x="257" y="1210"/>
                  </a:lnTo>
                  <a:lnTo>
                    <a:pt x="261" y="1208"/>
                  </a:lnTo>
                  <a:lnTo>
                    <a:pt x="265" y="1204"/>
                  </a:lnTo>
                  <a:lnTo>
                    <a:pt x="268" y="1199"/>
                  </a:lnTo>
                  <a:lnTo>
                    <a:pt x="272" y="1195"/>
                  </a:lnTo>
                  <a:lnTo>
                    <a:pt x="274" y="1188"/>
                  </a:lnTo>
                  <a:lnTo>
                    <a:pt x="276" y="1181"/>
                  </a:lnTo>
                  <a:lnTo>
                    <a:pt x="280" y="1164"/>
                  </a:lnTo>
                  <a:lnTo>
                    <a:pt x="282" y="1147"/>
                  </a:lnTo>
                  <a:lnTo>
                    <a:pt x="283" y="1127"/>
                  </a:lnTo>
                  <a:lnTo>
                    <a:pt x="283" y="1107"/>
                  </a:lnTo>
                  <a:lnTo>
                    <a:pt x="283" y="1088"/>
                  </a:lnTo>
                  <a:lnTo>
                    <a:pt x="282" y="1071"/>
                  </a:lnTo>
                  <a:lnTo>
                    <a:pt x="280" y="1044"/>
                  </a:lnTo>
                  <a:lnTo>
                    <a:pt x="280" y="1033"/>
                  </a:lnTo>
                  <a:lnTo>
                    <a:pt x="296" y="1025"/>
                  </a:lnTo>
                  <a:lnTo>
                    <a:pt x="311" y="1016"/>
                  </a:lnTo>
                  <a:lnTo>
                    <a:pt x="325" y="1007"/>
                  </a:lnTo>
                  <a:lnTo>
                    <a:pt x="337" y="996"/>
                  </a:lnTo>
                  <a:lnTo>
                    <a:pt x="349" y="987"/>
                  </a:lnTo>
                  <a:lnTo>
                    <a:pt x="358" y="976"/>
                  </a:lnTo>
                  <a:lnTo>
                    <a:pt x="368" y="966"/>
                  </a:lnTo>
                  <a:lnTo>
                    <a:pt x="376" y="954"/>
                  </a:lnTo>
                  <a:lnTo>
                    <a:pt x="383" y="944"/>
                  </a:lnTo>
                  <a:lnTo>
                    <a:pt x="389" y="932"/>
                  </a:lnTo>
                  <a:lnTo>
                    <a:pt x="393" y="920"/>
                  </a:lnTo>
                  <a:lnTo>
                    <a:pt x="397" y="908"/>
                  </a:lnTo>
                  <a:lnTo>
                    <a:pt x="400" y="897"/>
                  </a:lnTo>
                  <a:lnTo>
                    <a:pt x="403" y="885"/>
                  </a:lnTo>
                  <a:lnTo>
                    <a:pt x="405" y="872"/>
                  </a:lnTo>
                  <a:lnTo>
                    <a:pt x="405" y="861"/>
                  </a:lnTo>
                  <a:lnTo>
                    <a:pt x="406" y="835"/>
                  </a:lnTo>
                  <a:lnTo>
                    <a:pt x="404" y="810"/>
                  </a:lnTo>
                  <a:lnTo>
                    <a:pt x="400" y="785"/>
                  </a:lnTo>
                  <a:lnTo>
                    <a:pt x="396" y="760"/>
                  </a:lnTo>
                  <a:lnTo>
                    <a:pt x="384" y="710"/>
                  </a:lnTo>
                  <a:lnTo>
                    <a:pt x="371" y="662"/>
                  </a:lnTo>
                  <a:lnTo>
                    <a:pt x="587" y="418"/>
                  </a:lnTo>
                  <a:lnTo>
                    <a:pt x="588" y="403"/>
                  </a:lnTo>
                  <a:lnTo>
                    <a:pt x="592" y="388"/>
                  </a:lnTo>
                  <a:lnTo>
                    <a:pt x="598" y="371"/>
                  </a:lnTo>
                  <a:lnTo>
                    <a:pt x="605" y="355"/>
                  </a:lnTo>
                  <a:lnTo>
                    <a:pt x="614" y="338"/>
                  </a:lnTo>
                  <a:lnTo>
                    <a:pt x="625" y="321"/>
                  </a:lnTo>
                  <a:lnTo>
                    <a:pt x="636" y="305"/>
                  </a:lnTo>
                  <a:lnTo>
                    <a:pt x="650" y="287"/>
                  </a:lnTo>
                  <a:lnTo>
                    <a:pt x="664" y="270"/>
                  </a:lnTo>
                  <a:lnTo>
                    <a:pt x="681" y="252"/>
                  </a:lnTo>
                  <a:lnTo>
                    <a:pt x="697" y="234"/>
                  </a:lnTo>
                  <a:lnTo>
                    <a:pt x="714" y="217"/>
                  </a:lnTo>
                  <a:lnTo>
                    <a:pt x="751" y="183"/>
                  </a:lnTo>
                  <a:lnTo>
                    <a:pt x="788" y="150"/>
                  </a:lnTo>
                  <a:lnTo>
                    <a:pt x="825" y="120"/>
                  </a:lnTo>
                  <a:lnTo>
                    <a:pt x="862" y="91"/>
                  </a:lnTo>
                  <a:lnTo>
                    <a:pt x="896" y="65"/>
                  </a:lnTo>
                  <a:lnTo>
                    <a:pt x="926" y="43"/>
                  </a:lnTo>
                  <a:lnTo>
                    <a:pt x="970" y="11"/>
                  </a:lnTo>
                  <a:lnTo>
                    <a:pt x="988" y="0"/>
                  </a:lnTo>
                  <a:lnTo>
                    <a:pt x="1904" y="95"/>
                  </a:lnTo>
                  <a:lnTo>
                    <a:pt x="1273" y="807"/>
                  </a:lnTo>
                  <a:lnTo>
                    <a:pt x="1837" y="2053"/>
                  </a:lnTo>
                  <a:lnTo>
                    <a:pt x="1824" y="2071"/>
                  </a:lnTo>
                  <a:lnTo>
                    <a:pt x="1814" y="2087"/>
                  </a:lnTo>
                  <a:lnTo>
                    <a:pt x="1805" y="2103"/>
                  </a:lnTo>
                  <a:lnTo>
                    <a:pt x="1798" y="2117"/>
                  </a:lnTo>
                  <a:lnTo>
                    <a:pt x="1794" y="2131"/>
                  </a:lnTo>
                  <a:lnTo>
                    <a:pt x="1790" y="2144"/>
                  </a:lnTo>
                  <a:lnTo>
                    <a:pt x="1788" y="2156"/>
                  </a:lnTo>
                  <a:lnTo>
                    <a:pt x="1787" y="2166"/>
                  </a:lnTo>
                  <a:lnTo>
                    <a:pt x="1787" y="2185"/>
                  </a:lnTo>
                  <a:lnTo>
                    <a:pt x="1788" y="2198"/>
                  </a:lnTo>
                  <a:lnTo>
                    <a:pt x="1790" y="2206"/>
                  </a:lnTo>
                  <a:lnTo>
                    <a:pt x="1791" y="2209"/>
                  </a:lnTo>
                  <a:lnTo>
                    <a:pt x="1809" y="2301"/>
                  </a:lnTo>
                  <a:lnTo>
                    <a:pt x="1787" y="2315"/>
                  </a:lnTo>
                  <a:lnTo>
                    <a:pt x="1763" y="2330"/>
                  </a:lnTo>
                  <a:lnTo>
                    <a:pt x="1738" y="2348"/>
                  </a:lnTo>
                  <a:lnTo>
                    <a:pt x="1712" y="2367"/>
                  </a:lnTo>
                  <a:lnTo>
                    <a:pt x="1685" y="2388"/>
                  </a:lnTo>
                  <a:lnTo>
                    <a:pt x="1658" y="2409"/>
                  </a:lnTo>
                  <a:lnTo>
                    <a:pt x="1633" y="2432"/>
                  </a:lnTo>
                  <a:lnTo>
                    <a:pt x="1607" y="2455"/>
                  </a:lnTo>
                  <a:lnTo>
                    <a:pt x="1582" y="2477"/>
                  </a:lnTo>
                  <a:lnTo>
                    <a:pt x="1561" y="2498"/>
                  </a:lnTo>
                  <a:lnTo>
                    <a:pt x="1542" y="2519"/>
                  </a:lnTo>
                  <a:lnTo>
                    <a:pt x="1525" y="2539"/>
                  </a:lnTo>
                  <a:lnTo>
                    <a:pt x="1511" y="2557"/>
                  </a:lnTo>
                  <a:lnTo>
                    <a:pt x="1503" y="2572"/>
                  </a:lnTo>
                  <a:lnTo>
                    <a:pt x="1499" y="2579"/>
                  </a:lnTo>
                  <a:lnTo>
                    <a:pt x="1497" y="2585"/>
                  </a:lnTo>
                  <a:lnTo>
                    <a:pt x="1497" y="2590"/>
                  </a:lnTo>
                  <a:lnTo>
                    <a:pt x="1497" y="2595"/>
                  </a:lnTo>
                  <a:lnTo>
                    <a:pt x="1475" y="2605"/>
                  </a:lnTo>
                  <a:lnTo>
                    <a:pt x="1454" y="2615"/>
                  </a:lnTo>
                  <a:lnTo>
                    <a:pt x="1433" y="2627"/>
                  </a:lnTo>
                  <a:lnTo>
                    <a:pt x="1414" y="2638"/>
                  </a:lnTo>
                  <a:lnTo>
                    <a:pt x="1397" y="2651"/>
                  </a:lnTo>
                  <a:lnTo>
                    <a:pt x="1380" y="2664"/>
                  </a:lnTo>
                  <a:lnTo>
                    <a:pt x="1365" y="2677"/>
                  </a:lnTo>
                  <a:lnTo>
                    <a:pt x="1352" y="2690"/>
                  </a:lnTo>
                  <a:lnTo>
                    <a:pt x="1329" y="2713"/>
                  </a:lnTo>
                  <a:lnTo>
                    <a:pt x="1313" y="2733"/>
                  </a:lnTo>
                  <a:lnTo>
                    <a:pt x="1302" y="2746"/>
                  </a:lnTo>
                  <a:lnTo>
                    <a:pt x="1299" y="2751"/>
                  </a:lnTo>
                  <a:lnTo>
                    <a:pt x="1328" y="2829"/>
                  </a:lnTo>
                  <a:lnTo>
                    <a:pt x="1313" y="2840"/>
                  </a:lnTo>
                  <a:lnTo>
                    <a:pt x="1297" y="2851"/>
                  </a:lnTo>
                  <a:lnTo>
                    <a:pt x="1282" y="2860"/>
                  </a:lnTo>
                  <a:lnTo>
                    <a:pt x="1268" y="2868"/>
                  </a:lnTo>
                  <a:lnTo>
                    <a:pt x="1254" y="2876"/>
                  </a:lnTo>
                  <a:lnTo>
                    <a:pt x="1241" y="2881"/>
                  </a:lnTo>
                  <a:lnTo>
                    <a:pt x="1228" y="2887"/>
                  </a:lnTo>
                  <a:lnTo>
                    <a:pt x="1217" y="2891"/>
                  </a:lnTo>
                  <a:lnTo>
                    <a:pt x="1195" y="2897"/>
                  </a:lnTo>
                  <a:lnTo>
                    <a:pt x="1175" y="2901"/>
                  </a:lnTo>
                  <a:lnTo>
                    <a:pt x="1158" y="2904"/>
                  </a:lnTo>
                  <a:lnTo>
                    <a:pt x="1147" y="29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224"/>
            <p:cNvSpPr/>
            <p:nvPr/>
          </p:nvSpPr>
          <p:spPr>
            <a:xfrm>
              <a:off x="6458040" y="5715360"/>
              <a:ext cx="421560" cy="33768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798" h="2073">
                  <a:moveTo>
                    <a:pt x="1741" y="2073"/>
                  </a:moveTo>
                  <a:lnTo>
                    <a:pt x="1081" y="2018"/>
                  </a:lnTo>
                  <a:lnTo>
                    <a:pt x="0" y="1462"/>
                  </a:lnTo>
                  <a:lnTo>
                    <a:pt x="65" y="1356"/>
                  </a:lnTo>
                  <a:lnTo>
                    <a:pt x="76" y="1354"/>
                  </a:lnTo>
                  <a:lnTo>
                    <a:pt x="93" y="1351"/>
                  </a:lnTo>
                  <a:lnTo>
                    <a:pt x="113" y="1347"/>
                  </a:lnTo>
                  <a:lnTo>
                    <a:pt x="135" y="1341"/>
                  </a:lnTo>
                  <a:lnTo>
                    <a:pt x="146" y="1337"/>
                  </a:lnTo>
                  <a:lnTo>
                    <a:pt x="159" y="1331"/>
                  </a:lnTo>
                  <a:lnTo>
                    <a:pt x="172" y="1326"/>
                  </a:lnTo>
                  <a:lnTo>
                    <a:pt x="186" y="1318"/>
                  </a:lnTo>
                  <a:lnTo>
                    <a:pt x="200" y="1310"/>
                  </a:lnTo>
                  <a:lnTo>
                    <a:pt x="215" y="1301"/>
                  </a:lnTo>
                  <a:lnTo>
                    <a:pt x="231" y="1290"/>
                  </a:lnTo>
                  <a:lnTo>
                    <a:pt x="246" y="1279"/>
                  </a:lnTo>
                  <a:lnTo>
                    <a:pt x="217" y="1201"/>
                  </a:lnTo>
                  <a:lnTo>
                    <a:pt x="220" y="1196"/>
                  </a:lnTo>
                  <a:lnTo>
                    <a:pt x="231" y="1183"/>
                  </a:lnTo>
                  <a:lnTo>
                    <a:pt x="247" y="1163"/>
                  </a:lnTo>
                  <a:lnTo>
                    <a:pt x="270" y="1140"/>
                  </a:lnTo>
                  <a:lnTo>
                    <a:pt x="283" y="1127"/>
                  </a:lnTo>
                  <a:lnTo>
                    <a:pt x="298" y="1114"/>
                  </a:lnTo>
                  <a:lnTo>
                    <a:pt x="315" y="1101"/>
                  </a:lnTo>
                  <a:lnTo>
                    <a:pt x="332" y="1088"/>
                  </a:lnTo>
                  <a:lnTo>
                    <a:pt x="351" y="1077"/>
                  </a:lnTo>
                  <a:lnTo>
                    <a:pt x="372" y="1065"/>
                  </a:lnTo>
                  <a:lnTo>
                    <a:pt x="393" y="1055"/>
                  </a:lnTo>
                  <a:lnTo>
                    <a:pt x="415" y="1045"/>
                  </a:lnTo>
                  <a:lnTo>
                    <a:pt x="415" y="1040"/>
                  </a:lnTo>
                  <a:lnTo>
                    <a:pt x="415" y="1035"/>
                  </a:lnTo>
                  <a:lnTo>
                    <a:pt x="417" y="1029"/>
                  </a:lnTo>
                  <a:lnTo>
                    <a:pt x="421" y="1022"/>
                  </a:lnTo>
                  <a:lnTo>
                    <a:pt x="429" y="1007"/>
                  </a:lnTo>
                  <a:lnTo>
                    <a:pt x="443" y="989"/>
                  </a:lnTo>
                  <a:lnTo>
                    <a:pt x="460" y="969"/>
                  </a:lnTo>
                  <a:lnTo>
                    <a:pt x="479" y="948"/>
                  </a:lnTo>
                  <a:lnTo>
                    <a:pt x="500" y="927"/>
                  </a:lnTo>
                  <a:lnTo>
                    <a:pt x="525" y="905"/>
                  </a:lnTo>
                  <a:lnTo>
                    <a:pt x="551" y="882"/>
                  </a:lnTo>
                  <a:lnTo>
                    <a:pt x="576" y="859"/>
                  </a:lnTo>
                  <a:lnTo>
                    <a:pt x="603" y="838"/>
                  </a:lnTo>
                  <a:lnTo>
                    <a:pt x="630" y="817"/>
                  </a:lnTo>
                  <a:lnTo>
                    <a:pt x="656" y="798"/>
                  </a:lnTo>
                  <a:lnTo>
                    <a:pt x="681" y="780"/>
                  </a:lnTo>
                  <a:lnTo>
                    <a:pt x="705" y="765"/>
                  </a:lnTo>
                  <a:lnTo>
                    <a:pt x="727" y="751"/>
                  </a:lnTo>
                  <a:lnTo>
                    <a:pt x="709" y="659"/>
                  </a:lnTo>
                  <a:lnTo>
                    <a:pt x="708" y="656"/>
                  </a:lnTo>
                  <a:lnTo>
                    <a:pt x="706" y="648"/>
                  </a:lnTo>
                  <a:lnTo>
                    <a:pt x="705" y="635"/>
                  </a:lnTo>
                  <a:lnTo>
                    <a:pt x="705" y="616"/>
                  </a:lnTo>
                  <a:lnTo>
                    <a:pt x="706" y="606"/>
                  </a:lnTo>
                  <a:lnTo>
                    <a:pt x="708" y="594"/>
                  </a:lnTo>
                  <a:lnTo>
                    <a:pt x="712" y="581"/>
                  </a:lnTo>
                  <a:lnTo>
                    <a:pt x="716" y="567"/>
                  </a:lnTo>
                  <a:lnTo>
                    <a:pt x="723" y="553"/>
                  </a:lnTo>
                  <a:lnTo>
                    <a:pt x="732" y="537"/>
                  </a:lnTo>
                  <a:lnTo>
                    <a:pt x="742" y="521"/>
                  </a:lnTo>
                  <a:lnTo>
                    <a:pt x="755" y="503"/>
                  </a:lnTo>
                  <a:lnTo>
                    <a:pt x="810" y="437"/>
                  </a:lnTo>
                  <a:lnTo>
                    <a:pt x="860" y="375"/>
                  </a:lnTo>
                  <a:lnTo>
                    <a:pt x="884" y="347"/>
                  </a:lnTo>
                  <a:lnTo>
                    <a:pt x="908" y="320"/>
                  </a:lnTo>
                  <a:lnTo>
                    <a:pt x="920" y="308"/>
                  </a:lnTo>
                  <a:lnTo>
                    <a:pt x="931" y="296"/>
                  </a:lnTo>
                  <a:lnTo>
                    <a:pt x="944" y="285"/>
                  </a:lnTo>
                  <a:lnTo>
                    <a:pt x="957" y="275"/>
                  </a:lnTo>
                  <a:lnTo>
                    <a:pt x="970" y="265"/>
                  </a:lnTo>
                  <a:lnTo>
                    <a:pt x="983" y="257"/>
                  </a:lnTo>
                  <a:lnTo>
                    <a:pt x="996" y="249"/>
                  </a:lnTo>
                  <a:lnTo>
                    <a:pt x="1010" y="242"/>
                  </a:lnTo>
                  <a:lnTo>
                    <a:pt x="1024" y="235"/>
                  </a:lnTo>
                  <a:lnTo>
                    <a:pt x="1039" y="230"/>
                  </a:lnTo>
                  <a:lnTo>
                    <a:pt x="1054" y="225"/>
                  </a:lnTo>
                  <a:lnTo>
                    <a:pt x="1070" y="222"/>
                  </a:lnTo>
                  <a:lnTo>
                    <a:pt x="1087" y="218"/>
                  </a:lnTo>
                  <a:lnTo>
                    <a:pt x="1104" y="217"/>
                  </a:lnTo>
                  <a:lnTo>
                    <a:pt x="1122" y="216"/>
                  </a:lnTo>
                  <a:lnTo>
                    <a:pt x="1141" y="217"/>
                  </a:lnTo>
                  <a:lnTo>
                    <a:pt x="1160" y="218"/>
                  </a:lnTo>
                  <a:lnTo>
                    <a:pt x="1181" y="221"/>
                  </a:lnTo>
                  <a:lnTo>
                    <a:pt x="1202" y="225"/>
                  </a:lnTo>
                  <a:lnTo>
                    <a:pt x="1225" y="230"/>
                  </a:lnTo>
                  <a:lnTo>
                    <a:pt x="1380" y="0"/>
                  </a:lnTo>
                  <a:lnTo>
                    <a:pt x="2798" y="51"/>
                  </a:lnTo>
                  <a:lnTo>
                    <a:pt x="1741" y="207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Freeform 225"/>
            <p:cNvSpPr/>
            <p:nvPr/>
          </p:nvSpPr>
          <p:spPr>
            <a:xfrm>
              <a:off x="6879960" y="5550120"/>
              <a:ext cx="379440" cy="1728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502" h="1059">
                  <a:moveTo>
                    <a:pt x="0" y="1059"/>
                  </a:moveTo>
                  <a:lnTo>
                    <a:pt x="529" y="0"/>
                  </a:lnTo>
                  <a:lnTo>
                    <a:pt x="1871" y="37"/>
                  </a:lnTo>
                  <a:lnTo>
                    <a:pt x="2502" y="43"/>
                  </a:lnTo>
                  <a:lnTo>
                    <a:pt x="2235" y="1057"/>
                  </a:lnTo>
                  <a:lnTo>
                    <a:pt x="0" y="10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226"/>
            <p:cNvSpPr/>
            <p:nvPr/>
          </p:nvSpPr>
          <p:spPr>
            <a:xfrm>
              <a:off x="6881400" y="5761080"/>
              <a:ext cx="785520" cy="74232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5200" h="4545">
                  <a:moveTo>
                    <a:pt x="5200" y="2503"/>
                  </a:moveTo>
                  <a:lnTo>
                    <a:pt x="5184" y="1809"/>
                  </a:lnTo>
                  <a:lnTo>
                    <a:pt x="5164" y="1787"/>
                  </a:lnTo>
                  <a:lnTo>
                    <a:pt x="5146" y="1764"/>
                  </a:lnTo>
                  <a:lnTo>
                    <a:pt x="5136" y="1752"/>
                  </a:lnTo>
                  <a:lnTo>
                    <a:pt x="5128" y="1739"/>
                  </a:lnTo>
                  <a:lnTo>
                    <a:pt x="5120" y="1725"/>
                  </a:lnTo>
                  <a:lnTo>
                    <a:pt x="5112" y="1711"/>
                  </a:lnTo>
                  <a:lnTo>
                    <a:pt x="5103" y="1696"/>
                  </a:lnTo>
                  <a:lnTo>
                    <a:pt x="5096" y="1680"/>
                  </a:lnTo>
                  <a:lnTo>
                    <a:pt x="5089" y="1663"/>
                  </a:lnTo>
                  <a:lnTo>
                    <a:pt x="5082" y="1646"/>
                  </a:lnTo>
                  <a:lnTo>
                    <a:pt x="5071" y="1610"/>
                  </a:lnTo>
                  <a:lnTo>
                    <a:pt x="5059" y="1569"/>
                  </a:lnTo>
                  <a:lnTo>
                    <a:pt x="5050" y="1524"/>
                  </a:lnTo>
                  <a:lnTo>
                    <a:pt x="5040" y="1477"/>
                  </a:lnTo>
                  <a:lnTo>
                    <a:pt x="5033" y="1423"/>
                  </a:lnTo>
                  <a:lnTo>
                    <a:pt x="5028" y="1366"/>
                  </a:lnTo>
                  <a:lnTo>
                    <a:pt x="5023" y="1304"/>
                  </a:lnTo>
                  <a:lnTo>
                    <a:pt x="5019" y="1237"/>
                  </a:lnTo>
                  <a:lnTo>
                    <a:pt x="5017" y="1165"/>
                  </a:lnTo>
                  <a:lnTo>
                    <a:pt x="5017" y="1086"/>
                  </a:lnTo>
                  <a:lnTo>
                    <a:pt x="5004" y="1076"/>
                  </a:lnTo>
                  <a:lnTo>
                    <a:pt x="4988" y="1064"/>
                  </a:lnTo>
                  <a:lnTo>
                    <a:pt x="4969" y="1053"/>
                  </a:lnTo>
                  <a:lnTo>
                    <a:pt x="4947" y="1039"/>
                  </a:lnTo>
                  <a:lnTo>
                    <a:pt x="4922" y="1026"/>
                  </a:lnTo>
                  <a:lnTo>
                    <a:pt x="4896" y="1010"/>
                  </a:lnTo>
                  <a:lnTo>
                    <a:pt x="4866" y="996"/>
                  </a:lnTo>
                  <a:lnTo>
                    <a:pt x="4836" y="981"/>
                  </a:lnTo>
                  <a:lnTo>
                    <a:pt x="4769" y="951"/>
                  </a:lnTo>
                  <a:lnTo>
                    <a:pt x="4698" y="921"/>
                  </a:lnTo>
                  <a:lnTo>
                    <a:pt x="4623" y="891"/>
                  </a:lnTo>
                  <a:lnTo>
                    <a:pt x="4547" y="864"/>
                  </a:lnTo>
                  <a:lnTo>
                    <a:pt x="4509" y="852"/>
                  </a:lnTo>
                  <a:lnTo>
                    <a:pt x="4472" y="840"/>
                  </a:lnTo>
                  <a:lnTo>
                    <a:pt x="4434" y="828"/>
                  </a:lnTo>
                  <a:lnTo>
                    <a:pt x="4398" y="819"/>
                  </a:lnTo>
                  <a:lnTo>
                    <a:pt x="4363" y="810"/>
                  </a:lnTo>
                  <a:lnTo>
                    <a:pt x="4329" y="803"/>
                  </a:lnTo>
                  <a:lnTo>
                    <a:pt x="4296" y="797"/>
                  </a:lnTo>
                  <a:lnTo>
                    <a:pt x="4265" y="792"/>
                  </a:lnTo>
                  <a:lnTo>
                    <a:pt x="4236" y="789"/>
                  </a:lnTo>
                  <a:lnTo>
                    <a:pt x="4209" y="787"/>
                  </a:lnTo>
                  <a:lnTo>
                    <a:pt x="4184" y="787"/>
                  </a:lnTo>
                  <a:lnTo>
                    <a:pt x="4162" y="791"/>
                  </a:lnTo>
                  <a:lnTo>
                    <a:pt x="4142" y="794"/>
                  </a:lnTo>
                  <a:lnTo>
                    <a:pt x="4126" y="801"/>
                  </a:lnTo>
                  <a:lnTo>
                    <a:pt x="4113" y="810"/>
                  </a:lnTo>
                  <a:lnTo>
                    <a:pt x="4104" y="821"/>
                  </a:lnTo>
                  <a:lnTo>
                    <a:pt x="4080" y="856"/>
                  </a:lnTo>
                  <a:lnTo>
                    <a:pt x="4059" y="884"/>
                  </a:lnTo>
                  <a:lnTo>
                    <a:pt x="4049" y="896"/>
                  </a:lnTo>
                  <a:lnTo>
                    <a:pt x="4039" y="907"/>
                  </a:lnTo>
                  <a:lnTo>
                    <a:pt x="4031" y="916"/>
                  </a:lnTo>
                  <a:lnTo>
                    <a:pt x="4022" y="923"/>
                  </a:lnTo>
                  <a:lnTo>
                    <a:pt x="4014" y="930"/>
                  </a:lnTo>
                  <a:lnTo>
                    <a:pt x="4007" y="935"/>
                  </a:lnTo>
                  <a:lnTo>
                    <a:pt x="4000" y="939"/>
                  </a:lnTo>
                  <a:lnTo>
                    <a:pt x="3993" y="942"/>
                  </a:lnTo>
                  <a:lnTo>
                    <a:pt x="3986" y="944"/>
                  </a:lnTo>
                  <a:lnTo>
                    <a:pt x="3980" y="945"/>
                  </a:lnTo>
                  <a:lnTo>
                    <a:pt x="3974" y="945"/>
                  </a:lnTo>
                  <a:lnTo>
                    <a:pt x="3968" y="944"/>
                  </a:lnTo>
                  <a:lnTo>
                    <a:pt x="3963" y="943"/>
                  </a:lnTo>
                  <a:lnTo>
                    <a:pt x="3959" y="940"/>
                  </a:lnTo>
                  <a:lnTo>
                    <a:pt x="3954" y="937"/>
                  </a:lnTo>
                  <a:lnTo>
                    <a:pt x="3949" y="933"/>
                  </a:lnTo>
                  <a:lnTo>
                    <a:pt x="3942" y="925"/>
                  </a:lnTo>
                  <a:lnTo>
                    <a:pt x="3937" y="915"/>
                  </a:lnTo>
                  <a:lnTo>
                    <a:pt x="3931" y="903"/>
                  </a:lnTo>
                  <a:lnTo>
                    <a:pt x="3926" y="891"/>
                  </a:lnTo>
                  <a:lnTo>
                    <a:pt x="3922" y="880"/>
                  </a:lnTo>
                  <a:lnTo>
                    <a:pt x="3919" y="868"/>
                  </a:lnTo>
                  <a:lnTo>
                    <a:pt x="3917" y="862"/>
                  </a:lnTo>
                  <a:lnTo>
                    <a:pt x="3913" y="857"/>
                  </a:lnTo>
                  <a:lnTo>
                    <a:pt x="3907" y="854"/>
                  </a:lnTo>
                  <a:lnTo>
                    <a:pt x="3900" y="850"/>
                  </a:lnTo>
                  <a:lnTo>
                    <a:pt x="3893" y="848"/>
                  </a:lnTo>
                  <a:lnTo>
                    <a:pt x="3884" y="847"/>
                  </a:lnTo>
                  <a:lnTo>
                    <a:pt x="3873" y="846"/>
                  </a:lnTo>
                  <a:lnTo>
                    <a:pt x="3862" y="845"/>
                  </a:lnTo>
                  <a:lnTo>
                    <a:pt x="3837" y="845"/>
                  </a:lnTo>
                  <a:lnTo>
                    <a:pt x="3808" y="847"/>
                  </a:lnTo>
                  <a:lnTo>
                    <a:pt x="3778" y="850"/>
                  </a:lnTo>
                  <a:lnTo>
                    <a:pt x="3746" y="854"/>
                  </a:lnTo>
                  <a:lnTo>
                    <a:pt x="3680" y="863"/>
                  </a:lnTo>
                  <a:lnTo>
                    <a:pt x="3615" y="870"/>
                  </a:lnTo>
                  <a:lnTo>
                    <a:pt x="3586" y="873"/>
                  </a:lnTo>
                  <a:lnTo>
                    <a:pt x="3559" y="873"/>
                  </a:lnTo>
                  <a:lnTo>
                    <a:pt x="3546" y="873"/>
                  </a:lnTo>
                  <a:lnTo>
                    <a:pt x="3536" y="871"/>
                  </a:lnTo>
                  <a:lnTo>
                    <a:pt x="3525" y="870"/>
                  </a:lnTo>
                  <a:lnTo>
                    <a:pt x="3516" y="868"/>
                  </a:lnTo>
                  <a:lnTo>
                    <a:pt x="3500" y="861"/>
                  </a:lnTo>
                  <a:lnTo>
                    <a:pt x="3483" y="853"/>
                  </a:lnTo>
                  <a:lnTo>
                    <a:pt x="3467" y="845"/>
                  </a:lnTo>
                  <a:lnTo>
                    <a:pt x="3453" y="835"/>
                  </a:lnTo>
                  <a:lnTo>
                    <a:pt x="3439" y="825"/>
                  </a:lnTo>
                  <a:lnTo>
                    <a:pt x="3426" y="814"/>
                  </a:lnTo>
                  <a:lnTo>
                    <a:pt x="3414" y="804"/>
                  </a:lnTo>
                  <a:lnTo>
                    <a:pt x="3404" y="793"/>
                  </a:lnTo>
                  <a:lnTo>
                    <a:pt x="3372" y="758"/>
                  </a:lnTo>
                  <a:lnTo>
                    <a:pt x="3361" y="743"/>
                  </a:lnTo>
                  <a:lnTo>
                    <a:pt x="3356" y="748"/>
                  </a:lnTo>
                  <a:lnTo>
                    <a:pt x="3344" y="759"/>
                  </a:lnTo>
                  <a:lnTo>
                    <a:pt x="3335" y="766"/>
                  </a:lnTo>
                  <a:lnTo>
                    <a:pt x="3324" y="775"/>
                  </a:lnTo>
                  <a:lnTo>
                    <a:pt x="3313" y="783"/>
                  </a:lnTo>
                  <a:lnTo>
                    <a:pt x="3299" y="791"/>
                  </a:lnTo>
                  <a:lnTo>
                    <a:pt x="3284" y="799"/>
                  </a:lnTo>
                  <a:lnTo>
                    <a:pt x="3267" y="805"/>
                  </a:lnTo>
                  <a:lnTo>
                    <a:pt x="3250" y="811"/>
                  </a:lnTo>
                  <a:lnTo>
                    <a:pt x="3231" y="814"/>
                  </a:lnTo>
                  <a:lnTo>
                    <a:pt x="3220" y="815"/>
                  </a:lnTo>
                  <a:lnTo>
                    <a:pt x="3210" y="815"/>
                  </a:lnTo>
                  <a:lnTo>
                    <a:pt x="3201" y="815"/>
                  </a:lnTo>
                  <a:lnTo>
                    <a:pt x="3189" y="814"/>
                  </a:lnTo>
                  <a:lnTo>
                    <a:pt x="3178" y="813"/>
                  </a:lnTo>
                  <a:lnTo>
                    <a:pt x="3168" y="811"/>
                  </a:lnTo>
                  <a:lnTo>
                    <a:pt x="3156" y="808"/>
                  </a:lnTo>
                  <a:lnTo>
                    <a:pt x="3145" y="804"/>
                  </a:lnTo>
                  <a:lnTo>
                    <a:pt x="3122" y="794"/>
                  </a:lnTo>
                  <a:lnTo>
                    <a:pt x="3100" y="784"/>
                  </a:lnTo>
                  <a:lnTo>
                    <a:pt x="3079" y="771"/>
                  </a:lnTo>
                  <a:lnTo>
                    <a:pt x="3058" y="758"/>
                  </a:lnTo>
                  <a:lnTo>
                    <a:pt x="3016" y="730"/>
                  </a:lnTo>
                  <a:lnTo>
                    <a:pt x="2972" y="702"/>
                  </a:lnTo>
                  <a:lnTo>
                    <a:pt x="2947" y="688"/>
                  </a:lnTo>
                  <a:lnTo>
                    <a:pt x="2923" y="675"/>
                  </a:lnTo>
                  <a:lnTo>
                    <a:pt x="2896" y="665"/>
                  </a:lnTo>
                  <a:lnTo>
                    <a:pt x="2867" y="654"/>
                  </a:lnTo>
                  <a:lnTo>
                    <a:pt x="2851" y="650"/>
                  </a:lnTo>
                  <a:lnTo>
                    <a:pt x="2836" y="646"/>
                  </a:lnTo>
                  <a:lnTo>
                    <a:pt x="2820" y="643"/>
                  </a:lnTo>
                  <a:lnTo>
                    <a:pt x="2802" y="639"/>
                  </a:lnTo>
                  <a:lnTo>
                    <a:pt x="2785" y="637"/>
                  </a:lnTo>
                  <a:lnTo>
                    <a:pt x="2766" y="636"/>
                  </a:lnTo>
                  <a:lnTo>
                    <a:pt x="2747" y="634"/>
                  </a:lnTo>
                  <a:lnTo>
                    <a:pt x="2726" y="634"/>
                  </a:lnTo>
                  <a:lnTo>
                    <a:pt x="2759" y="47"/>
                  </a:lnTo>
                  <a:lnTo>
                    <a:pt x="1857" y="0"/>
                  </a:lnTo>
                  <a:lnTo>
                    <a:pt x="1399" y="1533"/>
                  </a:lnTo>
                  <a:lnTo>
                    <a:pt x="8" y="1501"/>
                  </a:lnTo>
                  <a:lnTo>
                    <a:pt x="0" y="1668"/>
                  </a:lnTo>
                  <a:lnTo>
                    <a:pt x="503" y="2350"/>
                  </a:lnTo>
                  <a:lnTo>
                    <a:pt x="472" y="2566"/>
                  </a:lnTo>
                  <a:lnTo>
                    <a:pt x="904" y="3030"/>
                  </a:lnTo>
                  <a:lnTo>
                    <a:pt x="1091" y="2938"/>
                  </a:lnTo>
                  <a:lnTo>
                    <a:pt x="1307" y="2598"/>
                  </a:lnTo>
                  <a:lnTo>
                    <a:pt x="1318" y="2597"/>
                  </a:lnTo>
                  <a:lnTo>
                    <a:pt x="1348" y="2593"/>
                  </a:lnTo>
                  <a:lnTo>
                    <a:pt x="1392" y="2589"/>
                  </a:lnTo>
                  <a:lnTo>
                    <a:pt x="1446" y="2583"/>
                  </a:lnTo>
                  <a:lnTo>
                    <a:pt x="1507" y="2577"/>
                  </a:lnTo>
                  <a:lnTo>
                    <a:pt x="1569" y="2572"/>
                  </a:lnTo>
                  <a:lnTo>
                    <a:pt x="1627" y="2568"/>
                  </a:lnTo>
                  <a:lnTo>
                    <a:pt x="1679" y="2566"/>
                  </a:lnTo>
                  <a:lnTo>
                    <a:pt x="1725" y="2568"/>
                  </a:lnTo>
                  <a:lnTo>
                    <a:pt x="1773" y="2570"/>
                  </a:lnTo>
                  <a:lnTo>
                    <a:pt x="1798" y="2572"/>
                  </a:lnTo>
                  <a:lnTo>
                    <a:pt x="1821" y="2577"/>
                  </a:lnTo>
                  <a:lnTo>
                    <a:pt x="1844" y="2582"/>
                  </a:lnTo>
                  <a:lnTo>
                    <a:pt x="1867" y="2590"/>
                  </a:lnTo>
                  <a:lnTo>
                    <a:pt x="1877" y="2594"/>
                  </a:lnTo>
                  <a:lnTo>
                    <a:pt x="1888" y="2599"/>
                  </a:lnTo>
                  <a:lnTo>
                    <a:pt x="1897" y="2605"/>
                  </a:lnTo>
                  <a:lnTo>
                    <a:pt x="1907" y="2612"/>
                  </a:lnTo>
                  <a:lnTo>
                    <a:pt x="1917" y="2619"/>
                  </a:lnTo>
                  <a:lnTo>
                    <a:pt x="1925" y="2627"/>
                  </a:lnTo>
                  <a:lnTo>
                    <a:pt x="1934" y="2635"/>
                  </a:lnTo>
                  <a:lnTo>
                    <a:pt x="1943" y="2645"/>
                  </a:lnTo>
                  <a:lnTo>
                    <a:pt x="1950" y="2655"/>
                  </a:lnTo>
                  <a:lnTo>
                    <a:pt x="1957" y="2666"/>
                  </a:lnTo>
                  <a:lnTo>
                    <a:pt x="1964" y="2677"/>
                  </a:lnTo>
                  <a:lnTo>
                    <a:pt x="1969" y="2690"/>
                  </a:lnTo>
                  <a:lnTo>
                    <a:pt x="1974" y="2704"/>
                  </a:lnTo>
                  <a:lnTo>
                    <a:pt x="1980" y="2718"/>
                  </a:lnTo>
                  <a:lnTo>
                    <a:pt x="1983" y="2735"/>
                  </a:lnTo>
                  <a:lnTo>
                    <a:pt x="1987" y="2751"/>
                  </a:lnTo>
                  <a:lnTo>
                    <a:pt x="1993" y="2788"/>
                  </a:lnTo>
                  <a:lnTo>
                    <a:pt x="1997" y="2830"/>
                  </a:lnTo>
                  <a:lnTo>
                    <a:pt x="2004" y="2876"/>
                  </a:lnTo>
                  <a:lnTo>
                    <a:pt x="2011" y="2926"/>
                  </a:lnTo>
                  <a:lnTo>
                    <a:pt x="2021" y="2977"/>
                  </a:lnTo>
                  <a:lnTo>
                    <a:pt x="2034" y="3032"/>
                  </a:lnTo>
                  <a:lnTo>
                    <a:pt x="2041" y="3060"/>
                  </a:lnTo>
                  <a:lnTo>
                    <a:pt x="2049" y="3088"/>
                  </a:lnTo>
                  <a:lnTo>
                    <a:pt x="2058" y="3116"/>
                  </a:lnTo>
                  <a:lnTo>
                    <a:pt x="2069" y="3146"/>
                  </a:lnTo>
                  <a:lnTo>
                    <a:pt x="2080" y="3175"/>
                  </a:lnTo>
                  <a:lnTo>
                    <a:pt x="2092" y="3204"/>
                  </a:lnTo>
                  <a:lnTo>
                    <a:pt x="2107" y="3233"/>
                  </a:lnTo>
                  <a:lnTo>
                    <a:pt x="2122" y="3263"/>
                  </a:lnTo>
                  <a:lnTo>
                    <a:pt x="2139" y="3292"/>
                  </a:lnTo>
                  <a:lnTo>
                    <a:pt x="2157" y="3321"/>
                  </a:lnTo>
                  <a:lnTo>
                    <a:pt x="2178" y="3349"/>
                  </a:lnTo>
                  <a:lnTo>
                    <a:pt x="2201" y="3377"/>
                  </a:lnTo>
                  <a:lnTo>
                    <a:pt x="2224" y="3405"/>
                  </a:lnTo>
                  <a:lnTo>
                    <a:pt x="2250" y="3433"/>
                  </a:lnTo>
                  <a:lnTo>
                    <a:pt x="2278" y="3460"/>
                  </a:lnTo>
                  <a:lnTo>
                    <a:pt x="2308" y="3487"/>
                  </a:lnTo>
                  <a:lnTo>
                    <a:pt x="2340" y="3512"/>
                  </a:lnTo>
                  <a:lnTo>
                    <a:pt x="2375" y="3538"/>
                  </a:lnTo>
                  <a:lnTo>
                    <a:pt x="2411" y="3563"/>
                  </a:lnTo>
                  <a:lnTo>
                    <a:pt x="2451" y="3586"/>
                  </a:lnTo>
                  <a:lnTo>
                    <a:pt x="2606" y="4050"/>
                  </a:lnTo>
                  <a:lnTo>
                    <a:pt x="3099" y="4545"/>
                  </a:lnTo>
                  <a:lnTo>
                    <a:pt x="3563" y="4545"/>
                  </a:lnTo>
                  <a:lnTo>
                    <a:pt x="3562" y="4528"/>
                  </a:lnTo>
                  <a:lnTo>
                    <a:pt x="3562" y="4478"/>
                  </a:lnTo>
                  <a:lnTo>
                    <a:pt x="3560" y="4406"/>
                  </a:lnTo>
                  <a:lnTo>
                    <a:pt x="3558" y="4316"/>
                  </a:lnTo>
                  <a:lnTo>
                    <a:pt x="3555" y="4217"/>
                  </a:lnTo>
                  <a:lnTo>
                    <a:pt x="3549" y="4114"/>
                  </a:lnTo>
                  <a:lnTo>
                    <a:pt x="3545" y="4064"/>
                  </a:lnTo>
                  <a:lnTo>
                    <a:pt x="3541" y="4015"/>
                  </a:lnTo>
                  <a:lnTo>
                    <a:pt x="3536" y="3969"/>
                  </a:lnTo>
                  <a:lnTo>
                    <a:pt x="3530" y="3926"/>
                  </a:lnTo>
                  <a:lnTo>
                    <a:pt x="3529" y="3905"/>
                  </a:lnTo>
                  <a:lnTo>
                    <a:pt x="3530" y="3883"/>
                  </a:lnTo>
                  <a:lnTo>
                    <a:pt x="3534" y="3861"/>
                  </a:lnTo>
                  <a:lnTo>
                    <a:pt x="3538" y="3836"/>
                  </a:lnTo>
                  <a:lnTo>
                    <a:pt x="3546" y="3811"/>
                  </a:lnTo>
                  <a:lnTo>
                    <a:pt x="3555" y="3786"/>
                  </a:lnTo>
                  <a:lnTo>
                    <a:pt x="3566" y="3759"/>
                  </a:lnTo>
                  <a:lnTo>
                    <a:pt x="3579" y="3732"/>
                  </a:lnTo>
                  <a:lnTo>
                    <a:pt x="3593" y="3705"/>
                  </a:lnTo>
                  <a:lnTo>
                    <a:pt x="3608" y="3677"/>
                  </a:lnTo>
                  <a:lnTo>
                    <a:pt x="3626" y="3649"/>
                  </a:lnTo>
                  <a:lnTo>
                    <a:pt x="3643" y="3621"/>
                  </a:lnTo>
                  <a:lnTo>
                    <a:pt x="3663" y="3593"/>
                  </a:lnTo>
                  <a:lnTo>
                    <a:pt x="3683" y="3565"/>
                  </a:lnTo>
                  <a:lnTo>
                    <a:pt x="3703" y="3537"/>
                  </a:lnTo>
                  <a:lnTo>
                    <a:pt x="3725" y="3509"/>
                  </a:lnTo>
                  <a:lnTo>
                    <a:pt x="3747" y="3482"/>
                  </a:lnTo>
                  <a:lnTo>
                    <a:pt x="3769" y="3455"/>
                  </a:lnTo>
                  <a:lnTo>
                    <a:pt x="3792" y="3430"/>
                  </a:lnTo>
                  <a:lnTo>
                    <a:pt x="3815" y="3404"/>
                  </a:lnTo>
                  <a:lnTo>
                    <a:pt x="3861" y="3355"/>
                  </a:lnTo>
                  <a:lnTo>
                    <a:pt x="3905" y="3310"/>
                  </a:lnTo>
                  <a:lnTo>
                    <a:pt x="3948" y="3270"/>
                  </a:lnTo>
                  <a:lnTo>
                    <a:pt x="3989" y="3236"/>
                  </a:lnTo>
                  <a:lnTo>
                    <a:pt x="4008" y="3220"/>
                  </a:lnTo>
                  <a:lnTo>
                    <a:pt x="4025" y="3206"/>
                  </a:lnTo>
                  <a:lnTo>
                    <a:pt x="4043" y="3196"/>
                  </a:lnTo>
                  <a:lnTo>
                    <a:pt x="4058" y="3185"/>
                  </a:lnTo>
                  <a:lnTo>
                    <a:pt x="4092" y="3167"/>
                  </a:lnTo>
                  <a:lnTo>
                    <a:pt x="4137" y="3145"/>
                  </a:lnTo>
                  <a:lnTo>
                    <a:pt x="4190" y="3119"/>
                  </a:lnTo>
                  <a:lnTo>
                    <a:pt x="4250" y="3092"/>
                  </a:lnTo>
                  <a:lnTo>
                    <a:pt x="4313" y="3063"/>
                  </a:lnTo>
                  <a:lnTo>
                    <a:pt x="4379" y="3034"/>
                  </a:lnTo>
                  <a:lnTo>
                    <a:pt x="4446" y="3002"/>
                  </a:lnTo>
                  <a:lnTo>
                    <a:pt x="4511" y="2970"/>
                  </a:lnTo>
                  <a:lnTo>
                    <a:pt x="4574" y="2939"/>
                  </a:lnTo>
                  <a:lnTo>
                    <a:pt x="4632" y="2907"/>
                  </a:lnTo>
                  <a:lnTo>
                    <a:pt x="4658" y="2892"/>
                  </a:lnTo>
                  <a:lnTo>
                    <a:pt x="4683" y="2877"/>
                  </a:lnTo>
                  <a:lnTo>
                    <a:pt x="4705" y="2863"/>
                  </a:lnTo>
                  <a:lnTo>
                    <a:pt x="4725" y="2848"/>
                  </a:lnTo>
                  <a:lnTo>
                    <a:pt x="4741" y="2834"/>
                  </a:lnTo>
                  <a:lnTo>
                    <a:pt x="4757" y="2821"/>
                  </a:lnTo>
                  <a:lnTo>
                    <a:pt x="4767" y="2807"/>
                  </a:lnTo>
                  <a:lnTo>
                    <a:pt x="4775" y="2795"/>
                  </a:lnTo>
                  <a:lnTo>
                    <a:pt x="4780" y="2782"/>
                  </a:lnTo>
                  <a:lnTo>
                    <a:pt x="4780" y="2772"/>
                  </a:lnTo>
                  <a:lnTo>
                    <a:pt x="4776" y="2761"/>
                  </a:lnTo>
                  <a:lnTo>
                    <a:pt x="4769" y="2751"/>
                  </a:lnTo>
                  <a:lnTo>
                    <a:pt x="4741" y="2725"/>
                  </a:lnTo>
                  <a:lnTo>
                    <a:pt x="4718" y="2699"/>
                  </a:lnTo>
                  <a:lnTo>
                    <a:pt x="4698" y="2676"/>
                  </a:lnTo>
                  <a:lnTo>
                    <a:pt x="4682" y="2654"/>
                  </a:lnTo>
                  <a:lnTo>
                    <a:pt x="4669" y="2633"/>
                  </a:lnTo>
                  <a:lnTo>
                    <a:pt x="4658" y="2613"/>
                  </a:lnTo>
                  <a:lnTo>
                    <a:pt x="4651" y="2594"/>
                  </a:lnTo>
                  <a:lnTo>
                    <a:pt x="4647" y="2578"/>
                  </a:lnTo>
                  <a:lnTo>
                    <a:pt x="4644" y="2562"/>
                  </a:lnTo>
                  <a:lnTo>
                    <a:pt x="4644" y="2548"/>
                  </a:lnTo>
                  <a:lnTo>
                    <a:pt x="4648" y="2536"/>
                  </a:lnTo>
                  <a:lnTo>
                    <a:pt x="4653" y="2524"/>
                  </a:lnTo>
                  <a:lnTo>
                    <a:pt x="4660" y="2515"/>
                  </a:lnTo>
                  <a:lnTo>
                    <a:pt x="4669" y="2508"/>
                  </a:lnTo>
                  <a:lnTo>
                    <a:pt x="4679" y="2501"/>
                  </a:lnTo>
                  <a:lnTo>
                    <a:pt x="4691" y="2497"/>
                  </a:lnTo>
                  <a:lnTo>
                    <a:pt x="4705" y="2495"/>
                  </a:lnTo>
                  <a:lnTo>
                    <a:pt x="4720" y="2494"/>
                  </a:lnTo>
                  <a:lnTo>
                    <a:pt x="4736" y="2495"/>
                  </a:lnTo>
                  <a:lnTo>
                    <a:pt x="4753" y="2497"/>
                  </a:lnTo>
                  <a:lnTo>
                    <a:pt x="4771" y="2502"/>
                  </a:lnTo>
                  <a:lnTo>
                    <a:pt x="4789" y="2509"/>
                  </a:lnTo>
                  <a:lnTo>
                    <a:pt x="4809" y="2518"/>
                  </a:lnTo>
                  <a:lnTo>
                    <a:pt x="4829" y="2529"/>
                  </a:lnTo>
                  <a:lnTo>
                    <a:pt x="4849" y="2542"/>
                  </a:lnTo>
                  <a:lnTo>
                    <a:pt x="4869" y="2556"/>
                  </a:lnTo>
                  <a:lnTo>
                    <a:pt x="4890" y="2573"/>
                  </a:lnTo>
                  <a:lnTo>
                    <a:pt x="4910" y="2592"/>
                  </a:lnTo>
                  <a:lnTo>
                    <a:pt x="4929" y="2613"/>
                  </a:lnTo>
                  <a:lnTo>
                    <a:pt x="4948" y="2636"/>
                  </a:lnTo>
                  <a:lnTo>
                    <a:pt x="4967" y="2662"/>
                  </a:lnTo>
                  <a:lnTo>
                    <a:pt x="4985" y="2690"/>
                  </a:lnTo>
                  <a:lnTo>
                    <a:pt x="5200" y="250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227"/>
            <p:cNvSpPr/>
            <p:nvPr/>
          </p:nvSpPr>
          <p:spPr>
            <a:xfrm>
              <a:off x="7218360" y="5586120"/>
              <a:ext cx="345600" cy="1378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293" h="847">
                  <a:moveTo>
                    <a:pt x="2293" y="224"/>
                  </a:moveTo>
                  <a:lnTo>
                    <a:pt x="2289" y="847"/>
                  </a:lnTo>
                  <a:lnTo>
                    <a:pt x="0" y="845"/>
                  </a:lnTo>
                  <a:lnTo>
                    <a:pt x="222" y="0"/>
                  </a:lnTo>
                  <a:lnTo>
                    <a:pt x="1998" y="4"/>
                  </a:lnTo>
                  <a:lnTo>
                    <a:pt x="2007" y="21"/>
                  </a:lnTo>
                  <a:lnTo>
                    <a:pt x="2014" y="36"/>
                  </a:lnTo>
                  <a:lnTo>
                    <a:pt x="2021" y="47"/>
                  </a:lnTo>
                  <a:lnTo>
                    <a:pt x="2028" y="54"/>
                  </a:lnTo>
                  <a:lnTo>
                    <a:pt x="2031" y="57"/>
                  </a:lnTo>
                  <a:lnTo>
                    <a:pt x="2036" y="59"/>
                  </a:lnTo>
                  <a:lnTo>
                    <a:pt x="2039" y="60"/>
                  </a:lnTo>
                  <a:lnTo>
                    <a:pt x="2044" y="61"/>
                  </a:lnTo>
                  <a:lnTo>
                    <a:pt x="2054" y="61"/>
                  </a:lnTo>
                  <a:lnTo>
                    <a:pt x="2067" y="57"/>
                  </a:lnTo>
                  <a:lnTo>
                    <a:pt x="2095" y="54"/>
                  </a:lnTo>
                  <a:lnTo>
                    <a:pt x="2122" y="50"/>
                  </a:lnTo>
                  <a:lnTo>
                    <a:pt x="2134" y="50"/>
                  </a:lnTo>
                  <a:lnTo>
                    <a:pt x="2144" y="52"/>
                  </a:lnTo>
                  <a:lnTo>
                    <a:pt x="2154" y="53"/>
                  </a:lnTo>
                  <a:lnTo>
                    <a:pt x="2163" y="55"/>
                  </a:lnTo>
                  <a:lnTo>
                    <a:pt x="2170" y="59"/>
                  </a:lnTo>
                  <a:lnTo>
                    <a:pt x="2177" y="63"/>
                  </a:lnTo>
                  <a:lnTo>
                    <a:pt x="2182" y="69"/>
                  </a:lnTo>
                  <a:lnTo>
                    <a:pt x="2185" y="76"/>
                  </a:lnTo>
                  <a:lnTo>
                    <a:pt x="2188" y="85"/>
                  </a:lnTo>
                  <a:lnTo>
                    <a:pt x="2188" y="96"/>
                  </a:lnTo>
                  <a:lnTo>
                    <a:pt x="2186" y="108"/>
                  </a:lnTo>
                  <a:lnTo>
                    <a:pt x="2183" y="122"/>
                  </a:lnTo>
                  <a:lnTo>
                    <a:pt x="2182" y="125"/>
                  </a:lnTo>
                  <a:lnTo>
                    <a:pt x="2182" y="130"/>
                  </a:lnTo>
                  <a:lnTo>
                    <a:pt x="2183" y="133"/>
                  </a:lnTo>
                  <a:lnTo>
                    <a:pt x="2184" y="137"/>
                  </a:lnTo>
                  <a:lnTo>
                    <a:pt x="2189" y="145"/>
                  </a:lnTo>
                  <a:lnTo>
                    <a:pt x="2196" y="151"/>
                  </a:lnTo>
                  <a:lnTo>
                    <a:pt x="2205" y="158"/>
                  </a:lnTo>
                  <a:lnTo>
                    <a:pt x="2214" y="164"/>
                  </a:lnTo>
                  <a:lnTo>
                    <a:pt x="2226" y="170"/>
                  </a:lnTo>
                  <a:lnTo>
                    <a:pt x="2238" y="175"/>
                  </a:lnTo>
                  <a:lnTo>
                    <a:pt x="2260" y="187"/>
                  </a:lnTo>
                  <a:lnTo>
                    <a:pt x="2279" y="199"/>
                  </a:lnTo>
                  <a:lnTo>
                    <a:pt x="2286" y="205"/>
                  </a:lnTo>
                  <a:lnTo>
                    <a:pt x="2292" y="210"/>
                  </a:lnTo>
                  <a:lnTo>
                    <a:pt x="2293" y="214"/>
                  </a:lnTo>
                  <a:lnTo>
                    <a:pt x="2293" y="217"/>
                  </a:lnTo>
                  <a:lnTo>
                    <a:pt x="2293" y="221"/>
                  </a:lnTo>
                  <a:lnTo>
                    <a:pt x="2293" y="22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228"/>
            <p:cNvSpPr/>
            <p:nvPr/>
          </p:nvSpPr>
          <p:spPr>
            <a:xfrm>
              <a:off x="7603920" y="5335200"/>
              <a:ext cx="219960" cy="14256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69" h="876">
                  <a:moveTo>
                    <a:pt x="781" y="876"/>
                  </a:moveTo>
                  <a:lnTo>
                    <a:pt x="761" y="875"/>
                  </a:lnTo>
                  <a:lnTo>
                    <a:pt x="741" y="872"/>
                  </a:lnTo>
                  <a:lnTo>
                    <a:pt x="720" y="867"/>
                  </a:lnTo>
                  <a:lnTo>
                    <a:pt x="699" y="860"/>
                  </a:lnTo>
                  <a:lnTo>
                    <a:pt x="677" y="851"/>
                  </a:lnTo>
                  <a:lnTo>
                    <a:pt x="656" y="840"/>
                  </a:lnTo>
                  <a:lnTo>
                    <a:pt x="633" y="827"/>
                  </a:lnTo>
                  <a:lnTo>
                    <a:pt x="612" y="814"/>
                  </a:lnTo>
                  <a:lnTo>
                    <a:pt x="592" y="799"/>
                  </a:lnTo>
                  <a:lnTo>
                    <a:pt x="573" y="783"/>
                  </a:lnTo>
                  <a:lnTo>
                    <a:pt x="555" y="767"/>
                  </a:lnTo>
                  <a:lnTo>
                    <a:pt x="538" y="749"/>
                  </a:lnTo>
                  <a:lnTo>
                    <a:pt x="522" y="730"/>
                  </a:lnTo>
                  <a:lnTo>
                    <a:pt x="508" y="712"/>
                  </a:lnTo>
                  <a:lnTo>
                    <a:pt x="497" y="693"/>
                  </a:lnTo>
                  <a:lnTo>
                    <a:pt x="486" y="674"/>
                  </a:lnTo>
                  <a:lnTo>
                    <a:pt x="486" y="670"/>
                  </a:lnTo>
                  <a:lnTo>
                    <a:pt x="484" y="656"/>
                  </a:lnTo>
                  <a:lnTo>
                    <a:pt x="481" y="646"/>
                  </a:lnTo>
                  <a:lnTo>
                    <a:pt x="478" y="636"/>
                  </a:lnTo>
                  <a:lnTo>
                    <a:pt x="473" y="625"/>
                  </a:lnTo>
                  <a:lnTo>
                    <a:pt x="467" y="612"/>
                  </a:lnTo>
                  <a:lnTo>
                    <a:pt x="459" y="601"/>
                  </a:lnTo>
                  <a:lnTo>
                    <a:pt x="450" y="588"/>
                  </a:lnTo>
                  <a:lnTo>
                    <a:pt x="439" y="575"/>
                  </a:lnTo>
                  <a:lnTo>
                    <a:pt x="425" y="563"/>
                  </a:lnTo>
                  <a:lnTo>
                    <a:pt x="410" y="553"/>
                  </a:lnTo>
                  <a:lnTo>
                    <a:pt x="393" y="542"/>
                  </a:lnTo>
                  <a:lnTo>
                    <a:pt x="382" y="539"/>
                  </a:lnTo>
                  <a:lnTo>
                    <a:pt x="372" y="534"/>
                  </a:lnTo>
                  <a:lnTo>
                    <a:pt x="360" y="531"/>
                  </a:lnTo>
                  <a:lnTo>
                    <a:pt x="348" y="527"/>
                  </a:lnTo>
                  <a:lnTo>
                    <a:pt x="299" y="515"/>
                  </a:lnTo>
                  <a:lnTo>
                    <a:pt x="251" y="501"/>
                  </a:lnTo>
                  <a:lnTo>
                    <a:pt x="228" y="494"/>
                  </a:lnTo>
                  <a:lnTo>
                    <a:pt x="206" y="487"/>
                  </a:lnTo>
                  <a:lnTo>
                    <a:pt x="185" y="479"/>
                  </a:lnTo>
                  <a:lnTo>
                    <a:pt x="166" y="471"/>
                  </a:lnTo>
                  <a:lnTo>
                    <a:pt x="147" y="462"/>
                  </a:lnTo>
                  <a:lnTo>
                    <a:pt x="131" y="452"/>
                  </a:lnTo>
                  <a:lnTo>
                    <a:pt x="116" y="443"/>
                  </a:lnTo>
                  <a:lnTo>
                    <a:pt x="102" y="431"/>
                  </a:lnTo>
                  <a:lnTo>
                    <a:pt x="91" y="420"/>
                  </a:lnTo>
                  <a:lnTo>
                    <a:pt x="82" y="408"/>
                  </a:lnTo>
                  <a:lnTo>
                    <a:pt x="78" y="401"/>
                  </a:lnTo>
                  <a:lnTo>
                    <a:pt x="76" y="395"/>
                  </a:lnTo>
                  <a:lnTo>
                    <a:pt x="74" y="388"/>
                  </a:lnTo>
                  <a:lnTo>
                    <a:pt x="71" y="380"/>
                  </a:lnTo>
                  <a:lnTo>
                    <a:pt x="68" y="346"/>
                  </a:lnTo>
                  <a:lnTo>
                    <a:pt x="63" y="313"/>
                  </a:lnTo>
                  <a:lnTo>
                    <a:pt x="61" y="305"/>
                  </a:lnTo>
                  <a:lnTo>
                    <a:pt x="57" y="297"/>
                  </a:lnTo>
                  <a:lnTo>
                    <a:pt x="53" y="290"/>
                  </a:lnTo>
                  <a:lnTo>
                    <a:pt x="46" y="283"/>
                  </a:lnTo>
                  <a:lnTo>
                    <a:pt x="38" y="276"/>
                  </a:lnTo>
                  <a:lnTo>
                    <a:pt x="27" y="269"/>
                  </a:lnTo>
                  <a:lnTo>
                    <a:pt x="14" y="263"/>
                  </a:lnTo>
                  <a:lnTo>
                    <a:pt x="0" y="256"/>
                  </a:lnTo>
                  <a:lnTo>
                    <a:pt x="11" y="253"/>
                  </a:lnTo>
                  <a:lnTo>
                    <a:pt x="24" y="247"/>
                  </a:lnTo>
                  <a:lnTo>
                    <a:pt x="38" y="237"/>
                  </a:lnTo>
                  <a:lnTo>
                    <a:pt x="53" y="227"/>
                  </a:lnTo>
                  <a:lnTo>
                    <a:pt x="69" y="215"/>
                  </a:lnTo>
                  <a:lnTo>
                    <a:pt x="87" y="201"/>
                  </a:lnTo>
                  <a:lnTo>
                    <a:pt x="104" y="186"/>
                  </a:lnTo>
                  <a:lnTo>
                    <a:pt x="122" y="168"/>
                  </a:lnTo>
                  <a:lnTo>
                    <a:pt x="140" y="150"/>
                  </a:lnTo>
                  <a:lnTo>
                    <a:pt x="158" y="131"/>
                  </a:lnTo>
                  <a:lnTo>
                    <a:pt x="174" y="110"/>
                  </a:lnTo>
                  <a:lnTo>
                    <a:pt x="191" y="89"/>
                  </a:lnTo>
                  <a:lnTo>
                    <a:pt x="206" y="68"/>
                  </a:lnTo>
                  <a:lnTo>
                    <a:pt x="221" y="46"/>
                  </a:lnTo>
                  <a:lnTo>
                    <a:pt x="234" y="22"/>
                  </a:lnTo>
                  <a:lnTo>
                    <a:pt x="244" y="0"/>
                  </a:lnTo>
                  <a:lnTo>
                    <a:pt x="564" y="0"/>
                  </a:lnTo>
                  <a:lnTo>
                    <a:pt x="589" y="24"/>
                  </a:lnTo>
                  <a:lnTo>
                    <a:pt x="613" y="44"/>
                  </a:lnTo>
                  <a:lnTo>
                    <a:pt x="638" y="62"/>
                  </a:lnTo>
                  <a:lnTo>
                    <a:pt x="663" y="76"/>
                  </a:lnTo>
                  <a:lnTo>
                    <a:pt x="687" y="89"/>
                  </a:lnTo>
                  <a:lnTo>
                    <a:pt x="712" y="100"/>
                  </a:lnTo>
                  <a:lnTo>
                    <a:pt x="736" y="109"/>
                  </a:lnTo>
                  <a:lnTo>
                    <a:pt x="761" y="115"/>
                  </a:lnTo>
                  <a:lnTo>
                    <a:pt x="784" y="121"/>
                  </a:lnTo>
                  <a:lnTo>
                    <a:pt x="809" y="124"/>
                  </a:lnTo>
                  <a:lnTo>
                    <a:pt x="832" y="126"/>
                  </a:lnTo>
                  <a:lnTo>
                    <a:pt x="856" y="128"/>
                  </a:lnTo>
                  <a:lnTo>
                    <a:pt x="903" y="126"/>
                  </a:lnTo>
                  <a:lnTo>
                    <a:pt x="950" y="124"/>
                  </a:lnTo>
                  <a:lnTo>
                    <a:pt x="978" y="123"/>
                  </a:lnTo>
                  <a:lnTo>
                    <a:pt x="1005" y="123"/>
                  </a:lnTo>
                  <a:lnTo>
                    <a:pt x="1031" y="124"/>
                  </a:lnTo>
                  <a:lnTo>
                    <a:pt x="1056" y="125"/>
                  </a:lnTo>
                  <a:lnTo>
                    <a:pt x="1081" y="128"/>
                  </a:lnTo>
                  <a:lnTo>
                    <a:pt x="1104" y="130"/>
                  </a:lnTo>
                  <a:lnTo>
                    <a:pt x="1126" y="135"/>
                  </a:lnTo>
                  <a:lnTo>
                    <a:pt x="1148" y="139"/>
                  </a:lnTo>
                  <a:lnTo>
                    <a:pt x="1168" y="145"/>
                  </a:lnTo>
                  <a:lnTo>
                    <a:pt x="1187" y="151"/>
                  </a:lnTo>
                  <a:lnTo>
                    <a:pt x="1205" y="159"/>
                  </a:lnTo>
                  <a:lnTo>
                    <a:pt x="1220" y="168"/>
                  </a:lnTo>
                  <a:lnTo>
                    <a:pt x="1234" y="178"/>
                  </a:lnTo>
                  <a:lnTo>
                    <a:pt x="1245" y="190"/>
                  </a:lnTo>
                  <a:lnTo>
                    <a:pt x="1251" y="195"/>
                  </a:lnTo>
                  <a:lnTo>
                    <a:pt x="1256" y="202"/>
                  </a:lnTo>
                  <a:lnTo>
                    <a:pt x="1261" y="209"/>
                  </a:lnTo>
                  <a:lnTo>
                    <a:pt x="1264" y="216"/>
                  </a:lnTo>
                  <a:lnTo>
                    <a:pt x="1256" y="234"/>
                  </a:lnTo>
                  <a:lnTo>
                    <a:pt x="1248" y="253"/>
                  </a:lnTo>
                  <a:lnTo>
                    <a:pt x="1242" y="270"/>
                  </a:lnTo>
                  <a:lnTo>
                    <a:pt x="1235" y="289"/>
                  </a:lnTo>
                  <a:lnTo>
                    <a:pt x="1224" y="325"/>
                  </a:lnTo>
                  <a:lnTo>
                    <a:pt x="1215" y="358"/>
                  </a:lnTo>
                  <a:lnTo>
                    <a:pt x="1254" y="327"/>
                  </a:lnTo>
                  <a:lnTo>
                    <a:pt x="1287" y="298"/>
                  </a:lnTo>
                  <a:lnTo>
                    <a:pt x="1318" y="270"/>
                  </a:lnTo>
                  <a:lnTo>
                    <a:pt x="1346" y="246"/>
                  </a:lnTo>
                  <a:lnTo>
                    <a:pt x="1359" y="234"/>
                  </a:lnTo>
                  <a:lnTo>
                    <a:pt x="1370" y="225"/>
                  </a:lnTo>
                  <a:lnTo>
                    <a:pt x="1382" y="216"/>
                  </a:lnTo>
                  <a:lnTo>
                    <a:pt x="1393" y="209"/>
                  </a:lnTo>
                  <a:lnTo>
                    <a:pt x="1403" y="205"/>
                  </a:lnTo>
                  <a:lnTo>
                    <a:pt x="1412" y="201"/>
                  </a:lnTo>
                  <a:lnTo>
                    <a:pt x="1422" y="200"/>
                  </a:lnTo>
                  <a:lnTo>
                    <a:pt x="1431" y="202"/>
                  </a:lnTo>
                  <a:lnTo>
                    <a:pt x="1411" y="235"/>
                  </a:lnTo>
                  <a:lnTo>
                    <a:pt x="1394" y="271"/>
                  </a:lnTo>
                  <a:lnTo>
                    <a:pt x="1384" y="289"/>
                  </a:lnTo>
                  <a:lnTo>
                    <a:pt x="1377" y="307"/>
                  </a:lnTo>
                  <a:lnTo>
                    <a:pt x="1370" y="326"/>
                  </a:lnTo>
                  <a:lnTo>
                    <a:pt x="1363" y="346"/>
                  </a:lnTo>
                  <a:lnTo>
                    <a:pt x="1358" y="365"/>
                  </a:lnTo>
                  <a:lnTo>
                    <a:pt x="1352" y="385"/>
                  </a:lnTo>
                  <a:lnTo>
                    <a:pt x="1347" y="404"/>
                  </a:lnTo>
                  <a:lnTo>
                    <a:pt x="1344" y="424"/>
                  </a:lnTo>
                  <a:lnTo>
                    <a:pt x="1340" y="445"/>
                  </a:lnTo>
                  <a:lnTo>
                    <a:pt x="1338" y="466"/>
                  </a:lnTo>
                  <a:lnTo>
                    <a:pt x="1337" y="486"/>
                  </a:lnTo>
                  <a:lnTo>
                    <a:pt x="1335" y="507"/>
                  </a:lnTo>
                  <a:lnTo>
                    <a:pt x="1335" y="528"/>
                  </a:lnTo>
                  <a:lnTo>
                    <a:pt x="1337" y="549"/>
                  </a:lnTo>
                  <a:lnTo>
                    <a:pt x="1339" y="571"/>
                  </a:lnTo>
                  <a:lnTo>
                    <a:pt x="1341" y="592"/>
                  </a:lnTo>
                  <a:lnTo>
                    <a:pt x="1346" y="614"/>
                  </a:lnTo>
                  <a:lnTo>
                    <a:pt x="1351" y="636"/>
                  </a:lnTo>
                  <a:lnTo>
                    <a:pt x="1358" y="657"/>
                  </a:lnTo>
                  <a:lnTo>
                    <a:pt x="1365" y="679"/>
                  </a:lnTo>
                  <a:lnTo>
                    <a:pt x="1373" y="700"/>
                  </a:lnTo>
                  <a:lnTo>
                    <a:pt x="1383" y="722"/>
                  </a:lnTo>
                  <a:lnTo>
                    <a:pt x="1394" y="743"/>
                  </a:lnTo>
                  <a:lnTo>
                    <a:pt x="1407" y="764"/>
                  </a:lnTo>
                  <a:lnTo>
                    <a:pt x="1419" y="786"/>
                  </a:lnTo>
                  <a:lnTo>
                    <a:pt x="1435" y="807"/>
                  </a:lnTo>
                  <a:lnTo>
                    <a:pt x="1451" y="828"/>
                  </a:lnTo>
                  <a:lnTo>
                    <a:pt x="1469" y="849"/>
                  </a:lnTo>
                  <a:lnTo>
                    <a:pt x="781" y="8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229"/>
            <p:cNvSpPr/>
            <p:nvPr/>
          </p:nvSpPr>
          <p:spPr>
            <a:xfrm>
              <a:off x="7508880" y="5555880"/>
              <a:ext cx="327960" cy="19980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180" h="1227">
                  <a:moveTo>
                    <a:pt x="1270" y="0"/>
                  </a:moveTo>
                  <a:lnTo>
                    <a:pt x="0" y="37"/>
                  </a:lnTo>
                  <a:lnTo>
                    <a:pt x="5" y="65"/>
                  </a:lnTo>
                  <a:lnTo>
                    <a:pt x="12" y="94"/>
                  </a:lnTo>
                  <a:lnTo>
                    <a:pt x="20" y="118"/>
                  </a:lnTo>
                  <a:lnTo>
                    <a:pt x="28" y="140"/>
                  </a:lnTo>
                  <a:lnTo>
                    <a:pt x="34" y="150"/>
                  </a:lnTo>
                  <a:lnTo>
                    <a:pt x="39" y="158"/>
                  </a:lnTo>
                  <a:lnTo>
                    <a:pt x="45" y="166"/>
                  </a:lnTo>
                  <a:lnTo>
                    <a:pt x="51" y="172"/>
                  </a:lnTo>
                  <a:lnTo>
                    <a:pt x="56" y="178"/>
                  </a:lnTo>
                  <a:lnTo>
                    <a:pt x="63" y="181"/>
                  </a:lnTo>
                  <a:lnTo>
                    <a:pt x="70" y="183"/>
                  </a:lnTo>
                  <a:lnTo>
                    <a:pt x="77" y="185"/>
                  </a:lnTo>
                  <a:lnTo>
                    <a:pt x="86" y="202"/>
                  </a:lnTo>
                  <a:lnTo>
                    <a:pt x="93" y="217"/>
                  </a:lnTo>
                  <a:lnTo>
                    <a:pt x="100" y="228"/>
                  </a:lnTo>
                  <a:lnTo>
                    <a:pt x="107" y="235"/>
                  </a:lnTo>
                  <a:lnTo>
                    <a:pt x="110" y="238"/>
                  </a:lnTo>
                  <a:lnTo>
                    <a:pt x="115" y="240"/>
                  </a:lnTo>
                  <a:lnTo>
                    <a:pt x="118" y="241"/>
                  </a:lnTo>
                  <a:lnTo>
                    <a:pt x="123" y="242"/>
                  </a:lnTo>
                  <a:lnTo>
                    <a:pt x="133" y="242"/>
                  </a:lnTo>
                  <a:lnTo>
                    <a:pt x="146" y="238"/>
                  </a:lnTo>
                  <a:lnTo>
                    <a:pt x="174" y="235"/>
                  </a:lnTo>
                  <a:lnTo>
                    <a:pt x="201" y="231"/>
                  </a:lnTo>
                  <a:lnTo>
                    <a:pt x="213" y="231"/>
                  </a:lnTo>
                  <a:lnTo>
                    <a:pt x="223" y="233"/>
                  </a:lnTo>
                  <a:lnTo>
                    <a:pt x="233" y="234"/>
                  </a:lnTo>
                  <a:lnTo>
                    <a:pt x="242" y="236"/>
                  </a:lnTo>
                  <a:lnTo>
                    <a:pt x="249" y="240"/>
                  </a:lnTo>
                  <a:lnTo>
                    <a:pt x="256" y="244"/>
                  </a:lnTo>
                  <a:lnTo>
                    <a:pt x="261" y="250"/>
                  </a:lnTo>
                  <a:lnTo>
                    <a:pt x="264" y="257"/>
                  </a:lnTo>
                  <a:lnTo>
                    <a:pt x="267" y="266"/>
                  </a:lnTo>
                  <a:lnTo>
                    <a:pt x="267" y="277"/>
                  </a:lnTo>
                  <a:lnTo>
                    <a:pt x="265" y="289"/>
                  </a:lnTo>
                  <a:lnTo>
                    <a:pt x="262" y="303"/>
                  </a:lnTo>
                  <a:lnTo>
                    <a:pt x="261" y="306"/>
                  </a:lnTo>
                  <a:lnTo>
                    <a:pt x="261" y="311"/>
                  </a:lnTo>
                  <a:lnTo>
                    <a:pt x="262" y="314"/>
                  </a:lnTo>
                  <a:lnTo>
                    <a:pt x="263" y="318"/>
                  </a:lnTo>
                  <a:lnTo>
                    <a:pt x="268" y="326"/>
                  </a:lnTo>
                  <a:lnTo>
                    <a:pt x="275" y="332"/>
                  </a:lnTo>
                  <a:lnTo>
                    <a:pt x="284" y="339"/>
                  </a:lnTo>
                  <a:lnTo>
                    <a:pt x="293" y="345"/>
                  </a:lnTo>
                  <a:lnTo>
                    <a:pt x="305" y="351"/>
                  </a:lnTo>
                  <a:lnTo>
                    <a:pt x="317" y="356"/>
                  </a:lnTo>
                  <a:lnTo>
                    <a:pt x="339" y="368"/>
                  </a:lnTo>
                  <a:lnTo>
                    <a:pt x="358" y="380"/>
                  </a:lnTo>
                  <a:lnTo>
                    <a:pt x="365" y="386"/>
                  </a:lnTo>
                  <a:lnTo>
                    <a:pt x="371" y="391"/>
                  </a:lnTo>
                  <a:lnTo>
                    <a:pt x="372" y="395"/>
                  </a:lnTo>
                  <a:lnTo>
                    <a:pt x="372" y="398"/>
                  </a:lnTo>
                  <a:lnTo>
                    <a:pt x="372" y="402"/>
                  </a:lnTo>
                  <a:lnTo>
                    <a:pt x="372" y="405"/>
                  </a:lnTo>
                  <a:lnTo>
                    <a:pt x="368" y="1028"/>
                  </a:lnTo>
                  <a:lnTo>
                    <a:pt x="443" y="1199"/>
                  </a:lnTo>
                  <a:lnTo>
                    <a:pt x="1909" y="1144"/>
                  </a:lnTo>
                  <a:lnTo>
                    <a:pt x="1901" y="1227"/>
                  </a:lnTo>
                  <a:lnTo>
                    <a:pt x="2039" y="1213"/>
                  </a:lnTo>
                  <a:lnTo>
                    <a:pt x="2049" y="1202"/>
                  </a:lnTo>
                  <a:lnTo>
                    <a:pt x="2059" y="1192"/>
                  </a:lnTo>
                  <a:lnTo>
                    <a:pt x="2066" y="1181"/>
                  </a:lnTo>
                  <a:lnTo>
                    <a:pt x="2070" y="1172"/>
                  </a:lnTo>
                  <a:lnTo>
                    <a:pt x="2075" y="1163"/>
                  </a:lnTo>
                  <a:lnTo>
                    <a:pt x="2077" y="1154"/>
                  </a:lnTo>
                  <a:lnTo>
                    <a:pt x="2080" y="1146"/>
                  </a:lnTo>
                  <a:lnTo>
                    <a:pt x="2081" y="1137"/>
                  </a:lnTo>
                  <a:lnTo>
                    <a:pt x="2081" y="1120"/>
                  </a:lnTo>
                  <a:lnTo>
                    <a:pt x="2081" y="1102"/>
                  </a:lnTo>
                  <a:lnTo>
                    <a:pt x="2081" y="1092"/>
                  </a:lnTo>
                  <a:lnTo>
                    <a:pt x="2082" y="1082"/>
                  </a:lnTo>
                  <a:lnTo>
                    <a:pt x="2083" y="1071"/>
                  </a:lnTo>
                  <a:lnTo>
                    <a:pt x="2085" y="1060"/>
                  </a:lnTo>
                  <a:lnTo>
                    <a:pt x="2092" y="1037"/>
                  </a:lnTo>
                  <a:lnTo>
                    <a:pt x="2101" y="1016"/>
                  </a:lnTo>
                  <a:lnTo>
                    <a:pt x="2110" y="996"/>
                  </a:lnTo>
                  <a:lnTo>
                    <a:pt x="2122" y="979"/>
                  </a:lnTo>
                  <a:lnTo>
                    <a:pt x="2134" y="961"/>
                  </a:lnTo>
                  <a:lnTo>
                    <a:pt x="2148" y="945"/>
                  </a:lnTo>
                  <a:lnTo>
                    <a:pt x="2164" y="931"/>
                  </a:lnTo>
                  <a:lnTo>
                    <a:pt x="2180" y="918"/>
                  </a:lnTo>
                  <a:lnTo>
                    <a:pt x="2179" y="901"/>
                  </a:lnTo>
                  <a:lnTo>
                    <a:pt x="2176" y="887"/>
                  </a:lnTo>
                  <a:lnTo>
                    <a:pt x="2174" y="881"/>
                  </a:lnTo>
                  <a:lnTo>
                    <a:pt x="2172" y="876"/>
                  </a:lnTo>
                  <a:lnTo>
                    <a:pt x="2169" y="871"/>
                  </a:lnTo>
                  <a:lnTo>
                    <a:pt x="2167" y="868"/>
                  </a:lnTo>
                  <a:lnTo>
                    <a:pt x="2160" y="862"/>
                  </a:lnTo>
                  <a:lnTo>
                    <a:pt x="2152" y="859"/>
                  </a:lnTo>
                  <a:lnTo>
                    <a:pt x="2143" y="856"/>
                  </a:lnTo>
                  <a:lnTo>
                    <a:pt x="2133" y="855"/>
                  </a:lnTo>
                  <a:lnTo>
                    <a:pt x="2111" y="854"/>
                  </a:lnTo>
                  <a:lnTo>
                    <a:pt x="2088" y="852"/>
                  </a:lnTo>
                  <a:lnTo>
                    <a:pt x="2075" y="848"/>
                  </a:lnTo>
                  <a:lnTo>
                    <a:pt x="2063" y="843"/>
                  </a:lnTo>
                  <a:lnTo>
                    <a:pt x="2057" y="840"/>
                  </a:lnTo>
                  <a:lnTo>
                    <a:pt x="2050" y="836"/>
                  </a:lnTo>
                  <a:lnTo>
                    <a:pt x="2044" y="832"/>
                  </a:lnTo>
                  <a:lnTo>
                    <a:pt x="2039" y="826"/>
                  </a:lnTo>
                  <a:lnTo>
                    <a:pt x="2039" y="804"/>
                  </a:lnTo>
                  <a:lnTo>
                    <a:pt x="2037" y="783"/>
                  </a:lnTo>
                  <a:lnTo>
                    <a:pt x="2035" y="763"/>
                  </a:lnTo>
                  <a:lnTo>
                    <a:pt x="2032" y="744"/>
                  </a:lnTo>
                  <a:lnTo>
                    <a:pt x="2027" y="728"/>
                  </a:lnTo>
                  <a:lnTo>
                    <a:pt x="2021" y="711"/>
                  </a:lnTo>
                  <a:lnTo>
                    <a:pt x="2013" y="696"/>
                  </a:lnTo>
                  <a:lnTo>
                    <a:pt x="2004" y="682"/>
                  </a:lnTo>
                  <a:lnTo>
                    <a:pt x="1992" y="668"/>
                  </a:lnTo>
                  <a:lnTo>
                    <a:pt x="1978" y="655"/>
                  </a:lnTo>
                  <a:lnTo>
                    <a:pt x="1962" y="644"/>
                  </a:lnTo>
                  <a:lnTo>
                    <a:pt x="1943" y="633"/>
                  </a:lnTo>
                  <a:lnTo>
                    <a:pt x="1922" y="623"/>
                  </a:lnTo>
                  <a:lnTo>
                    <a:pt x="1897" y="612"/>
                  </a:lnTo>
                  <a:lnTo>
                    <a:pt x="1870" y="603"/>
                  </a:lnTo>
                  <a:lnTo>
                    <a:pt x="1840" y="593"/>
                  </a:lnTo>
                  <a:lnTo>
                    <a:pt x="1810" y="584"/>
                  </a:lnTo>
                  <a:lnTo>
                    <a:pt x="1784" y="575"/>
                  </a:lnTo>
                  <a:lnTo>
                    <a:pt x="1762" y="564"/>
                  </a:lnTo>
                  <a:lnTo>
                    <a:pt x="1742" y="554"/>
                  </a:lnTo>
                  <a:lnTo>
                    <a:pt x="1726" y="543"/>
                  </a:lnTo>
                  <a:lnTo>
                    <a:pt x="1713" y="532"/>
                  </a:lnTo>
                  <a:lnTo>
                    <a:pt x="1701" y="520"/>
                  </a:lnTo>
                  <a:lnTo>
                    <a:pt x="1693" y="507"/>
                  </a:lnTo>
                  <a:lnTo>
                    <a:pt x="1687" y="495"/>
                  </a:lnTo>
                  <a:lnTo>
                    <a:pt x="1682" y="482"/>
                  </a:lnTo>
                  <a:lnTo>
                    <a:pt x="1680" y="471"/>
                  </a:lnTo>
                  <a:lnTo>
                    <a:pt x="1679" y="458"/>
                  </a:lnTo>
                  <a:lnTo>
                    <a:pt x="1679" y="445"/>
                  </a:lnTo>
                  <a:lnTo>
                    <a:pt x="1680" y="433"/>
                  </a:lnTo>
                  <a:lnTo>
                    <a:pt x="1682" y="421"/>
                  </a:lnTo>
                  <a:lnTo>
                    <a:pt x="1685" y="409"/>
                  </a:lnTo>
                  <a:lnTo>
                    <a:pt x="1686" y="398"/>
                  </a:lnTo>
                  <a:lnTo>
                    <a:pt x="1687" y="389"/>
                  </a:lnTo>
                  <a:lnTo>
                    <a:pt x="1685" y="382"/>
                  </a:lnTo>
                  <a:lnTo>
                    <a:pt x="1682" y="376"/>
                  </a:lnTo>
                  <a:lnTo>
                    <a:pt x="1678" y="370"/>
                  </a:lnTo>
                  <a:lnTo>
                    <a:pt x="1672" y="366"/>
                  </a:lnTo>
                  <a:lnTo>
                    <a:pt x="1664" y="362"/>
                  </a:lnTo>
                  <a:lnTo>
                    <a:pt x="1656" y="359"/>
                  </a:lnTo>
                  <a:lnTo>
                    <a:pt x="1609" y="348"/>
                  </a:lnTo>
                  <a:lnTo>
                    <a:pt x="1547" y="331"/>
                  </a:lnTo>
                  <a:lnTo>
                    <a:pt x="1529" y="325"/>
                  </a:lnTo>
                  <a:lnTo>
                    <a:pt x="1512" y="319"/>
                  </a:lnTo>
                  <a:lnTo>
                    <a:pt x="1495" y="312"/>
                  </a:lnTo>
                  <a:lnTo>
                    <a:pt x="1479" y="304"/>
                  </a:lnTo>
                  <a:lnTo>
                    <a:pt x="1465" y="296"/>
                  </a:lnTo>
                  <a:lnTo>
                    <a:pt x="1451" y="287"/>
                  </a:lnTo>
                  <a:lnTo>
                    <a:pt x="1438" y="278"/>
                  </a:lnTo>
                  <a:lnTo>
                    <a:pt x="1425" y="269"/>
                  </a:lnTo>
                  <a:lnTo>
                    <a:pt x="1415" y="259"/>
                  </a:lnTo>
                  <a:lnTo>
                    <a:pt x="1406" y="249"/>
                  </a:lnTo>
                  <a:lnTo>
                    <a:pt x="1396" y="240"/>
                  </a:lnTo>
                  <a:lnTo>
                    <a:pt x="1389" y="230"/>
                  </a:lnTo>
                  <a:lnTo>
                    <a:pt x="1385" y="221"/>
                  </a:lnTo>
                  <a:lnTo>
                    <a:pt x="1380" y="210"/>
                  </a:lnTo>
                  <a:lnTo>
                    <a:pt x="1377" y="202"/>
                  </a:lnTo>
                  <a:lnTo>
                    <a:pt x="1376" y="193"/>
                  </a:lnTo>
                  <a:lnTo>
                    <a:pt x="1375" y="185"/>
                  </a:lnTo>
                  <a:lnTo>
                    <a:pt x="1373" y="176"/>
                  </a:lnTo>
                  <a:lnTo>
                    <a:pt x="1368" y="168"/>
                  </a:lnTo>
                  <a:lnTo>
                    <a:pt x="1361" y="161"/>
                  </a:lnTo>
                  <a:lnTo>
                    <a:pt x="1354" y="154"/>
                  </a:lnTo>
                  <a:lnTo>
                    <a:pt x="1346" y="148"/>
                  </a:lnTo>
                  <a:lnTo>
                    <a:pt x="1338" y="143"/>
                  </a:lnTo>
                  <a:lnTo>
                    <a:pt x="1328" y="137"/>
                  </a:lnTo>
                  <a:lnTo>
                    <a:pt x="1296" y="120"/>
                  </a:lnTo>
                  <a:lnTo>
                    <a:pt x="1282" y="115"/>
                  </a:lnTo>
                  <a:lnTo>
                    <a:pt x="12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230"/>
            <p:cNvSpPr/>
            <p:nvPr/>
          </p:nvSpPr>
          <p:spPr>
            <a:xfrm>
              <a:off x="8033040" y="5752800"/>
              <a:ext cx="382320" cy="282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529" h="1729">
                  <a:moveTo>
                    <a:pt x="1040" y="0"/>
                  </a:moveTo>
                  <a:lnTo>
                    <a:pt x="0" y="116"/>
                  </a:lnTo>
                  <a:lnTo>
                    <a:pt x="8" y="127"/>
                  </a:lnTo>
                  <a:lnTo>
                    <a:pt x="33" y="159"/>
                  </a:lnTo>
                  <a:lnTo>
                    <a:pt x="70" y="208"/>
                  </a:lnTo>
                  <a:lnTo>
                    <a:pt x="119" y="272"/>
                  </a:lnTo>
                  <a:lnTo>
                    <a:pt x="177" y="349"/>
                  </a:lnTo>
                  <a:lnTo>
                    <a:pt x="240" y="435"/>
                  </a:lnTo>
                  <a:lnTo>
                    <a:pt x="308" y="527"/>
                  </a:lnTo>
                  <a:lnTo>
                    <a:pt x="379" y="621"/>
                  </a:lnTo>
                  <a:lnTo>
                    <a:pt x="449" y="717"/>
                  </a:lnTo>
                  <a:lnTo>
                    <a:pt x="516" y="811"/>
                  </a:lnTo>
                  <a:lnTo>
                    <a:pt x="580" y="899"/>
                  </a:lnTo>
                  <a:lnTo>
                    <a:pt x="636" y="980"/>
                  </a:lnTo>
                  <a:lnTo>
                    <a:pt x="682" y="1049"/>
                  </a:lnTo>
                  <a:lnTo>
                    <a:pt x="719" y="1105"/>
                  </a:lnTo>
                  <a:lnTo>
                    <a:pt x="731" y="1127"/>
                  </a:lnTo>
                  <a:lnTo>
                    <a:pt x="741" y="1145"/>
                  </a:lnTo>
                  <a:lnTo>
                    <a:pt x="745" y="1156"/>
                  </a:lnTo>
                  <a:lnTo>
                    <a:pt x="747" y="1165"/>
                  </a:lnTo>
                  <a:lnTo>
                    <a:pt x="744" y="1175"/>
                  </a:lnTo>
                  <a:lnTo>
                    <a:pt x="744" y="1191"/>
                  </a:lnTo>
                  <a:lnTo>
                    <a:pt x="744" y="1211"/>
                  </a:lnTo>
                  <a:lnTo>
                    <a:pt x="748" y="1236"/>
                  </a:lnTo>
                  <a:lnTo>
                    <a:pt x="751" y="1263"/>
                  </a:lnTo>
                  <a:lnTo>
                    <a:pt x="757" y="1293"/>
                  </a:lnTo>
                  <a:lnTo>
                    <a:pt x="764" y="1325"/>
                  </a:lnTo>
                  <a:lnTo>
                    <a:pt x="773" y="1358"/>
                  </a:lnTo>
                  <a:lnTo>
                    <a:pt x="785" y="1392"/>
                  </a:lnTo>
                  <a:lnTo>
                    <a:pt x="798" y="1427"/>
                  </a:lnTo>
                  <a:lnTo>
                    <a:pt x="812" y="1461"/>
                  </a:lnTo>
                  <a:lnTo>
                    <a:pt x="829" y="1495"/>
                  </a:lnTo>
                  <a:lnTo>
                    <a:pt x="839" y="1512"/>
                  </a:lnTo>
                  <a:lnTo>
                    <a:pt x="848" y="1527"/>
                  </a:lnTo>
                  <a:lnTo>
                    <a:pt x="858" y="1543"/>
                  </a:lnTo>
                  <a:lnTo>
                    <a:pt x="868" y="1558"/>
                  </a:lnTo>
                  <a:lnTo>
                    <a:pt x="880" y="1572"/>
                  </a:lnTo>
                  <a:lnTo>
                    <a:pt x="891" y="1585"/>
                  </a:lnTo>
                  <a:lnTo>
                    <a:pt x="903" y="1598"/>
                  </a:lnTo>
                  <a:lnTo>
                    <a:pt x="916" y="1611"/>
                  </a:lnTo>
                  <a:lnTo>
                    <a:pt x="938" y="1628"/>
                  </a:lnTo>
                  <a:lnTo>
                    <a:pt x="958" y="1644"/>
                  </a:lnTo>
                  <a:lnTo>
                    <a:pt x="978" y="1658"/>
                  </a:lnTo>
                  <a:lnTo>
                    <a:pt x="997" y="1670"/>
                  </a:lnTo>
                  <a:lnTo>
                    <a:pt x="1015" y="1682"/>
                  </a:lnTo>
                  <a:lnTo>
                    <a:pt x="1033" y="1693"/>
                  </a:lnTo>
                  <a:lnTo>
                    <a:pt x="1050" y="1701"/>
                  </a:lnTo>
                  <a:lnTo>
                    <a:pt x="1068" y="1708"/>
                  </a:lnTo>
                  <a:lnTo>
                    <a:pt x="1085" y="1715"/>
                  </a:lnTo>
                  <a:lnTo>
                    <a:pt x="1103" y="1719"/>
                  </a:lnTo>
                  <a:lnTo>
                    <a:pt x="1120" y="1723"/>
                  </a:lnTo>
                  <a:lnTo>
                    <a:pt x="1139" y="1726"/>
                  </a:lnTo>
                  <a:lnTo>
                    <a:pt x="1159" y="1728"/>
                  </a:lnTo>
                  <a:lnTo>
                    <a:pt x="1179" y="1729"/>
                  </a:lnTo>
                  <a:lnTo>
                    <a:pt x="1200" y="1729"/>
                  </a:lnTo>
                  <a:lnTo>
                    <a:pt x="1222" y="1728"/>
                  </a:lnTo>
                  <a:lnTo>
                    <a:pt x="1272" y="1722"/>
                  </a:lnTo>
                  <a:lnTo>
                    <a:pt x="1328" y="1714"/>
                  </a:lnTo>
                  <a:lnTo>
                    <a:pt x="1393" y="1703"/>
                  </a:lnTo>
                  <a:lnTo>
                    <a:pt x="1467" y="1690"/>
                  </a:lnTo>
                  <a:lnTo>
                    <a:pt x="1553" y="1675"/>
                  </a:lnTo>
                  <a:lnTo>
                    <a:pt x="1651" y="1658"/>
                  </a:lnTo>
                  <a:lnTo>
                    <a:pt x="1763" y="1639"/>
                  </a:lnTo>
                  <a:lnTo>
                    <a:pt x="1890" y="1619"/>
                  </a:lnTo>
                  <a:lnTo>
                    <a:pt x="1960" y="1608"/>
                  </a:lnTo>
                  <a:lnTo>
                    <a:pt x="2019" y="1599"/>
                  </a:lnTo>
                  <a:lnTo>
                    <a:pt x="2068" y="1592"/>
                  </a:lnTo>
                  <a:lnTo>
                    <a:pt x="2109" y="1586"/>
                  </a:lnTo>
                  <a:lnTo>
                    <a:pt x="2142" y="1582"/>
                  </a:lnTo>
                  <a:lnTo>
                    <a:pt x="2169" y="1578"/>
                  </a:lnTo>
                  <a:lnTo>
                    <a:pt x="2194" y="1576"/>
                  </a:lnTo>
                  <a:lnTo>
                    <a:pt x="2215" y="1573"/>
                  </a:lnTo>
                  <a:lnTo>
                    <a:pt x="2220" y="1572"/>
                  </a:lnTo>
                  <a:lnTo>
                    <a:pt x="2224" y="1570"/>
                  </a:lnTo>
                  <a:lnTo>
                    <a:pt x="2229" y="1568"/>
                  </a:lnTo>
                  <a:lnTo>
                    <a:pt x="2232" y="1565"/>
                  </a:lnTo>
                  <a:lnTo>
                    <a:pt x="2239" y="1558"/>
                  </a:lnTo>
                  <a:lnTo>
                    <a:pt x="2245" y="1549"/>
                  </a:lnTo>
                  <a:lnTo>
                    <a:pt x="2257" y="1529"/>
                  </a:lnTo>
                  <a:lnTo>
                    <a:pt x="2265" y="1509"/>
                  </a:lnTo>
                  <a:lnTo>
                    <a:pt x="2270" y="1499"/>
                  </a:lnTo>
                  <a:lnTo>
                    <a:pt x="2274" y="1490"/>
                  </a:lnTo>
                  <a:lnTo>
                    <a:pt x="2278" y="1482"/>
                  </a:lnTo>
                  <a:lnTo>
                    <a:pt x="2283" y="1478"/>
                  </a:lnTo>
                  <a:lnTo>
                    <a:pt x="2286" y="1475"/>
                  </a:lnTo>
                  <a:lnTo>
                    <a:pt x="2288" y="1474"/>
                  </a:lnTo>
                  <a:lnTo>
                    <a:pt x="2291" y="1473"/>
                  </a:lnTo>
                  <a:lnTo>
                    <a:pt x="2294" y="1473"/>
                  </a:lnTo>
                  <a:lnTo>
                    <a:pt x="2297" y="1474"/>
                  </a:lnTo>
                  <a:lnTo>
                    <a:pt x="2300" y="1475"/>
                  </a:lnTo>
                  <a:lnTo>
                    <a:pt x="2304" y="1478"/>
                  </a:lnTo>
                  <a:lnTo>
                    <a:pt x="2307" y="1481"/>
                  </a:lnTo>
                  <a:lnTo>
                    <a:pt x="2317" y="1488"/>
                  </a:lnTo>
                  <a:lnTo>
                    <a:pt x="2327" y="1495"/>
                  </a:lnTo>
                  <a:lnTo>
                    <a:pt x="2338" y="1500"/>
                  </a:lnTo>
                  <a:lnTo>
                    <a:pt x="2349" y="1502"/>
                  </a:lnTo>
                  <a:lnTo>
                    <a:pt x="2362" y="1505"/>
                  </a:lnTo>
                  <a:lnTo>
                    <a:pt x="2376" y="1506"/>
                  </a:lnTo>
                  <a:lnTo>
                    <a:pt x="2390" y="1507"/>
                  </a:lnTo>
                  <a:lnTo>
                    <a:pt x="2404" y="1507"/>
                  </a:lnTo>
                  <a:lnTo>
                    <a:pt x="2434" y="1505"/>
                  </a:lnTo>
                  <a:lnTo>
                    <a:pt x="2466" y="1503"/>
                  </a:lnTo>
                  <a:lnTo>
                    <a:pt x="2481" y="1502"/>
                  </a:lnTo>
                  <a:lnTo>
                    <a:pt x="2498" y="1502"/>
                  </a:lnTo>
                  <a:lnTo>
                    <a:pt x="2513" y="1503"/>
                  </a:lnTo>
                  <a:lnTo>
                    <a:pt x="2529" y="1505"/>
                  </a:lnTo>
                  <a:lnTo>
                    <a:pt x="2522" y="1496"/>
                  </a:lnTo>
                  <a:lnTo>
                    <a:pt x="2516" y="1489"/>
                  </a:lnTo>
                  <a:lnTo>
                    <a:pt x="2510" y="1481"/>
                  </a:lnTo>
                  <a:lnTo>
                    <a:pt x="2505" y="1473"/>
                  </a:lnTo>
                  <a:lnTo>
                    <a:pt x="2496" y="1457"/>
                  </a:lnTo>
                  <a:lnTo>
                    <a:pt x="2489" y="1440"/>
                  </a:lnTo>
                  <a:lnTo>
                    <a:pt x="2485" y="1424"/>
                  </a:lnTo>
                  <a:lnTo>
                    <a:pt x="2480" y="1406"/>
                  </a:lnTo>
                  <a:lnTo>
                    <a:pt x="2478" y="1390"/>
                  </a:lnTo>
                  <a:lnTo>
                    <a:pt x="2477" y="1374"/>
                  </a:lnTo>
                  <a:lnTo>
                    <a:pt x="2474" y="1342"/>
                  </a:lnTo>
                  <a:lnTo>
                    <a:pt x="2472" y="1313"/>
                  </a:lnTo>
                  <a:lnTo>
                    <a:pt x="2471" y="1300"/>
                  </a:lnTo>
                  <a:lnTo>
                    <a:pt x="2468" y="1290"/>
                  </a:lnTo>
                  <a:lnTo>
                    <a:pt x="2465" y="1279"/>
                  </a:lnTo>
                  <a:lnTo>
                    <a:pt x="2460" y="1271"/>
                  </a:lnTo>
                  <a:lnTo>
                    <a:pt x="2454" y="1263"/>
                  </a:lnTo>
                  <a:lnTo>
                    <a:pt x="2449" y="1256"/>
                  </a:lnTo>
                  <a:lnTo>
                    <a:pt x="2443" y="1250"/>
                  </a:lnTo>
                  <a:lnTo>
                    <a:pt x="2436" y="1245"/>
                  </a:lnTo>
                  <a:lnTo>
                    <a:pt x="2424" y="1238"/>
                  </a:lnTo>
                  <a:lnTo>
                    <a:pt x="2411" y="1232"/>
                  </a:lnTo>
                  <a:lnTo>
                    <a:pt x="2406" y="1229"/>
                  </a:lnTo>
                  <a:lnTo>
                    <a:pt x="2401" y="1225"/>
                  </a:lnTo>
                  <a:lnTo>
                    <a:pt x="2397" y="1222"/>
                  </a:lnTo>
                  <a:lnTo>
                    <a:pt x="2392" y="1218"/>
                  </a:lnTo>
                  <a:lnTo>
                    <a:pt x="2389" y="1214"/>
                  </a:lnTo>
                  <a:lnTo>
                    <a:pt x="2387" y="1208"/>
                  </a:lnTo>
                  <a:lnTo>
                    <a:pt x="2385" y="1201"/>
                  </a:lnTo>
                  <a:lnTo>
                    <a:pt x="2385" y="1193"/>
                  </a:lnTo>
                  <a:lnTo>
                    <a:pt x="2384" y="1183"/>
                  </a:lnTo>
                  <a:lnTo>
                    <a:pt x="2383" y="1173"/>
                  </a:lnTo>
                  <a:lnTo>
                    <a:pt x="2381" y="1161"/>
                  </a:lnTo>
                  <a:lnTo>
                    <a:pt x="2377" y="1149"/>
                  </a:lnTo>
                  <a:lnTo>
                    <a:pt x="2369" y="1121"/>
                  </a:lnTo>
                  <a:lnTo>
                    <a:pt x="2360" y="1093"/>
                  </a:lnTo>
                  <a:lnTo>
                    <a:pt x="2349" y="1064"/>
                  </a:lnTo>
                  <a:lnTo>
                    <a:pt x="2339" y="1037"/>
                  </a:lnTo>
                  <a:lnTo>
                    <a:pt x="2329" y="1012"/>
                  </a:lnTo>
                  <a:lnTo>
                    <a:pt x="2321" y="992"/>
                  </a:lnTo>
                  <a:lnTo>
                    <a:pt x="2319" y="981"/>
                  </a:lnTo>
                  <a:lnTo>
                    <a:pt x="2317" y="970"/>
                  </a:lnTo>
                  <a:lnTo>
                    <a:pt x="2314" y="957"/>
                  </a:lnTo>
                  <a:lnTo>
                    <a:pt x="2313" y="943"/>
                  </a:lnTo>
                  <a:lnTo>
                    <a:pt x="2300" y="923"/>
                  </a:lnTo>
                  <a:lnTo>
                    <a:pt x="2286" y="904"/>
                  </a:lnTo>
                  <a:lnTo>
                    <a:pt x="2270" y="888"/>
                  </a:lnTo>
                  <a:lnTo>
                    <a:pt x="2252" y="873"/>
                  </a:lnTo>
                  <a:lnTo>
                    <a:pt x="2234" y="859"/>
                  </a:lnTo>
                  <a:lnTo>
                    <a:pt x="2213" y="846"/>
                  </a:lnTo>
                  <a:lnTo>
                    <a:pt x="2192" y="833"/>
                  </a:lnTo>
                  <a:lnTo>
                    <a:pt x="2170" y="822"/>
                  </a:lnTo>
                  <a:lnTo>
                    <a:pt x="2147" y="813"/>
                  </a:lnTo>
                  <a:lnTo>
                    <a:pt x="2124" y="804"/>
                  </a:lnTo>
                  <a:lnTo>
                    <a:pt x="2100" y="795"/>
                  </a:lnTo>
                  <a:lnTo>
                    <a:pt x="2077" y="787"/>
                  </a:lnTo>
                  <a:lnTo>
                    <a:pt x="2029" y="773"/>
                  </a:lnTo>
                  <a:lnTo>
                    <a:pt x="1981" y="760"/>
                  </a:lnTo>
                  <a:lnTo>
                    <a:pt x="1960" y="755"/>
                  </a:lnTo>
                  <a:lnTo>
                    <a:pt x="1943" y="746"/>
                  </a:lnTo>
                  <a:lnTo>
                    <a:pt x="1926" y="738"/>
                  </a:lnTo>
                  <a:lnTo>
                    <a:pt x="1915" y="729"/>
                  </a:lnTo>
                  <a:lnTo>
                    <a:pt x="1903" y="718"/>
                  </a:lnTo>
                  <a:lnTo>
                    <a:pt x="1895" y="708"/>
                  </a:lnTo>
                  <a:lnTo>
                    <a:pt x="1888" y="695"/>
                  </a:lnTo>
                  <a:lnTo>
                    <a:pt x="1881" y="682"/>
                  </a:lnTo>
                  <a:lnTo>
                    <a:pt x="1870" y="655"/>
                  </a:lnTo>
                  <a:lnTo>
                    <a:pt x="1860" y="625"/>
                  </a:lnTo>
                  <a:lnTo>
                    <a:pt x="1854" y="610"/>
                  </a:lnTo>
                  <a:lnTo>
                    <a:pt x="1846" y="593"/>
                  </a:lnTo>
                  <a:lnTo>
                    <a:pt x="1838" y="576"/>
                  </a:lnTo>
                  <a:lnTo>
                    <a:pt x="1826" y="560"/>
                  </a:lnTo>
                  <a:lnTo>
                    <a:pt x="1793" y="547"/>
                  </a:lnTo>
                  <a:lnTo>
                    <a:pt x="1762" y="534"/>
                  </a:lnTo>
                  <a:lnTo>
                    <a:pt x="1732" y="520"/>
                  </a:lnTo>
                  <a:lnTo>
                    <a:pt x="1706" y="505"/>
                  </a:lnTo>
                  <a:lnTo>
                    <a:pt x="1680" y="489"/>
                  </a:lnTo>
                  <a:lnTo>
                    <a:pt x="1658" y="474"/>
                  </a:lnTo>
                  <a:lnTo>
                    <a:pt x="1637" y="459"/>
                  </a:lnTo>
                  <a:lnTo>
                    <a:pt x="1619" y="444"/>
                  </a:lnTo>
                  <a:lnTo>
                    <a:pt x="1589" y="417"/>
                  </a:lnTo>
                  <a:lnTo>
                    <a:pt x="1567" y="395"/>
                  </a:lnTo>
                  <a:lnTo>
                    <a:pt x="1554" y="381"/>
                  </a:lnTo>
                  <a:lnTo>
                    <a:pt x="1550" y="375"/>
                  </a:lnTo>
                  <a:lnTo>
                    <a:pt x="1394" y="329"/>
                  </a:lnTo>
                  <a:lnTo>
                    <a:pt x="10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Freeform 231"/>
            <p:cNvSpPr/>
            <p:nvPr/>
          </p:nvSpPr>
          <p:spPr>
            <a:xfrm>
              <a:off x="8026200" y="5994720"/>
              <a:ext cx="738000" cy="42840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4885" h="2626">
                  <a:moveTo>
                    <a:pt x="2572" y="32"/>
                  </a:moveTo>
                  <a:lnTo>
                    <a:pt x="2556" y="30"/>
                  </a:lnTo>
                  <a:lnTo>
                    <a:pt x="2541" y="29"/>
                  </a:lnTo>
                  <a:lnTo>
                    <a:pt x="2524" y="29"/>
                  </a:lnTo>
                  <a:lnTo>
                    <a:pt x="2509" y="30"/>
                  </a:lnTo>
                  <a:lnTo>
                    <a:pt x="2477" y="32"/>
                  </a:lnTo>
                  <a:lnTo>
                    <a:pt x="2447" y="34"/>
                  </a:lnTo>
                  <a:lnTo>
                    <a:pt x="2433" y="34"/>
                  </a:lnTo>
                  <a:lnTo>
                    <a:pt x="2419" y="33"/>
                  </a:lnTo>
                  <a:lnTo>
                    <a:pt x="2405" y="32"/>
                  </a:lnTo>
                  <a:lnTo>
                    <a:pt x="2392" y="29"/>
                  </a:lnTo>
                  <a:lnTo>
                    <a:pt x="2381" y="27"/>
                  </a:lnTo>
                  <a:lnTo>
                    <a:pt x="2370" y="22"/>
                  </a:lnTo>
                  <a:lnTo>
                    <a:pt x="2360" y="15"/>
                  </a:lnTo>
                  <a:lnTo>
                    <a:pt x="2350" y="8"/>
                  </a:lnTo>
                  <a:lnTo>
                    <a:pt x="2347" y="5"/>
                  </a:lnTo>
                  <a:lnTo>
                    <a:pt x="2343" y="2"/>
                  </a:lnTo>
                  <a:lnTo>
                    <a:pt x="2340" y="1"/>
                  </a:lnTo>
                  <a:lnTo>
                    <a:pt x="2337" y="0"/>
                  </a:lnTo>
                  <a:lnTo>
                    <a:pt x="2334" y="0"/>
                  </a:lnTo>
                  <a:lnTo>
                    <a:pt x="2331" y="1"/>
                  </a:lnTo>
                  <a:lnTo>
                    <a:pt x="2329" y="2"/>
                  </a:lnTo>
                  <a:lnTo>
                    <a:pt x="2326" y="5"/>
                  </a:lnTo>
                  <a:lnTo>
                    <a:pt x="2321" y="9"/>
                  </a:lnTo>
                  <a:lnTo>
                    <a:pt x="2317" y="17"/>
                  </a:lnTo>
                  <a:lnTo>
                    <a:pt x="2313" y="26"/>
                  </a:lnTo>
                  <a:lnTo>
                    <a:pt x="2308" y="36"/>
                  </a:lnTo>
                  <a:lnTo>
                    <a:pt x="2300" y="56"/>
                  </a:lnTo>
                  <a:lnTo>
                    <a:pt x="2288" y="76"/>
                  </a:lnTo>
                  <a:lnTo>
                    <a:pt x="2282" y="85"/>
                  </a:lnTo>
                  <a:lnTo>
                    <a:pt x="2275" y="92"/>
                  </a:lnTo>
                  <a:lnTo>
                    <a:pt x="2272" y="95"/>
                  </a:lnTo>
                  <a:lnTo>
                    <a:pt x="2267" y="97"/>
                  </a:lnTo>
                  <a:lnTo>
                    <a:pt x="2263" y="99"/>
                  </a:lnTo>
                  <a:lnTo>
                    <a:pt x="2258" y="100"/>
                  </a:lnTo>
                  <a:lnTo>
                    <a:pt x="2237" y="103"/>
                  </a:lnTo>
                  <a:lnTo>
                    <a:pt x="2212" y="105"/>
                  </a:lnTo>
                  <a:lnTo>
                    <a:pt x="2185" y="109"/>
                  </a:lnTo>
                  <a:lnTo>
                    <a:pt x="2152" y="113"/>
                  </a:lnTo>
                  <a:lnTo>
                    <a:pt x="2111" y="119"/>
                  </a:lnTo>
                  <a:lnTo>
                    <a:pt x="2062" y="126"/>
                  </a:lnTo>
                  <a:lnTo>
                    <a:pt x="2003" y="135"/>
                  </a:lnTo>
                  <a:lnTo>
                    <a:pt x="1933" y="146"/>
                  </a:lnTo>
                  <a:lnTo>
                    <a:pt x="1806" y="166"/>
                  </a:lnTo>
                  <a:lnTo>
                    <a:pt x="1694" y="185"/>
                  </a:lnTo>
                  <a:lnTo>
                    <a:pt x="1596" y="202"/>
                  </a:lnTo>
                  <a:lnTo>
                    <a:pt x="1510" y="217"/>
                  </a:lnTo>
                  <a:lnTo>
                    <a:pt x="1436" y="230"/>
                  </a:lnTo>
                  <a:lnTo>
                    <a:pt x="1371" y="241"/>
                  </a:lnTo>
                  <a:lnTo>
                    <a:pt x="1315" y="249"/>
                  </a:lnTo>
                  <a:lnTo>
                    <a:pt x="1265" y="255"/>
                  </a:lnTo>
                  <a:lnTo>
                    <a:pt x="1243" y="256"/>
                  </a:lnTo>
                  <a:lnTo>
                    <a:pt x="1222" y="256"/>
                  </a:lnTo>
                  <a:lnTo>
                    <a:pt x="1202" y="255"/>
                  </a:lnTo>
                  <a:lnTo>
                    <a:pt x="1182" y="253"/>
                  </a:lnTo>
                  <a:lnTo>
                    <a:pt x="1163" y="250"/>
                  </a:lnTo>
                  <a:lnTo>
                    <a:pt x="1146" y="246"/>
                  </a:lnTo>
                  <a:lnTo>
                    <a:pt x="1128" y="242"/>
                  </a:lnTo>
                  <a:lnTo>
                    <a:pt x="1111" y="235"/>
                  </a:lnTo>
                  <a:lnTo>
                    <a:pt x="1093" y="228"/>
                  </a:lnTo>
                  <a:lnTo>
                    <a:pt x="1076" y="220"/>
                  </a:lnTo>
                  <a:lnTo>
                    <a:pt x="1058" y="209"/>
                  </a:lnTo>
                  <a:lnTo>
                    <a:pt x="1040" y="197"/>
                  </a:lnTo>
                  <a:lnTo>
                    <a:pt x="1021" y="185"/>
                  </a:lnTo>
                  <a:lnTo>
                    <a:pt x="1001" y="171"/>
                  </a:lnTo>
                  <a:lnTo>
                    <a:pt x="981" y="155"/>
                  </a:lnTo>
                  <a:lnTo>
                    <a:pt x="959" y="138"/>
                  </a:lnTo>
                  <a:lnTo>
                    <a:pt x="0" y="230"/>
                  </a:lnTo>
                  <a:lnTo>
                    <a:pt x="12" y="238"/>
                  </a:lnTo>
                  <a:lnTo>
                    <a:pt x="24" y="251"/>
                  </a:lnTo>
                  <a:lnTo>
                    <a:pt x="37" y="265"/>
                  </a:lnTo>
                  <a:lnTo>
                    <a:pt x="49" y="283"/>
                  </a:lnTo>
                  <a:lnTo>
                    <a:pt x="62" y="301"/>
                  </a:lnTo>
                  <a:lnTo>
                    <a:pt x="73" y="322"/>
                  </a:lnTo>
                  <a:lnTo>
                    <a:pt x="84" y="343"/>
                  </a:lnTo>
                  <a:lnTo>
                    <a:pt x="95" y="367"/>
                  </a:lnTo>
                  <a:lnTo>
                    <a:pt x="104" y="390"/>
                  </a:lnTo>
                  <a:lnTo>
                    <a:pt x="112" y="415"/>
                  </a:lnTo>
                  <a:lnTo>
                    <a:pt x="118" y="439"/>
                  </a:lnTo>
                  <a:lnTo>
                    <a:pt x="124" y="463"/>
                  </a:lnTo>
                  <a:lnTo>
                    <a:pt x="126" y="486"/>
                  </a:lnTo>
                  <a:lnTo>
                    <a:pt x="127" y="508"/>
                  </a:lnTo>
                  <a:lnTo>
                    <a:pt x="127" y="519"/>
                  </a:lnTo>
                  <a:lnTo>
                    <a:pt x="127" y="529"/>
                  </a:lnTo>
                  <a:lnTo>
                    <a:pt x="126" y="540"/>
                  </a:lnTo>
                  <a:lnTo>
                    <a:pt x="124" y="549"/>
                  </a:lnTo>
                  <a:lnTo>
                    <a:pt x="183" y="543"/>
                  </a:lnTo>
                  <a:lnTo>
                    <a:pt x="244" y="537"/>
                  </a:lnTo>
                  <a:lnTo>
                    <a:pt x="305" y="531"/>
                  </a:lnTo>
                  <a:lnTo>
                    <a:pt x="366" y="527"/>
                  </a:lnTo>
                  <a:lnTo>
                    <a:pt x="426" y="522"/>
                  </a:lnTo>
                  <a:lnTo>
                    <a:pt x="487" y="519"/>
                  </a:lnTo>
                  <a:lnTo>
                    <a:pt x="548" y="515"/>
                  </a:lnTo>
                  <a:lnTo>
                    <a:pt x="606" y="513"/>
                  </a:lnTo>
                  <a:lnTo>
                    <a:pt x="665" y="510"/>
                  </a:lnTo>
                  <a:lnTo>
                    <a:pt x="721" y="510"/>
                  </a:lnTo>
                  <a:lnTo>
                    <a:pt x="776" y="509"/>
                  </a:lnTo>
                  <a:lnTo>
                    <a:pt x="829" y="510"/>
                  </a:lnTo>
                  <a:lnTo>
                    <a:pt x="881" y="513"/>
                  </a:lnTo>
                  <a:lnTo>
                    <a:pt x="930" y="515"/>
                  </a:lnTo>
                  <a:lnTo>
                    <a:pt x="976" y="519"/>
                  </a:lnTo>
                  <a:lnTo>
                    <a:pt x="1020" y="523"/>
                  </a:lnTo>
                  <a:lnTo>
                    <a:pt x="1030" y="527"/>
                  </a:lnTo>
                  <a:lnTo>
                    <a:pt x="1058" y="535"/>
                  </a:lnTo>
                  <a:lnTo>
                    <a:pt x="1077" y="542"/>
                  </a:lnTo>
                  <a:lnTo>
                    <a:pt x="1098" y="550"/>
                  </a:lnTo>
                  <a:lnTo>
                    <a:pt x="1120" y="559"/>
                  </a:lnTo>
                  <a:lnTo>
                    <a:pt x="1143" y="571"/>
                  </a:lnTo>
                  <a:lnTo>
                    <a:pt x="1167" y="583"/>
                  </a:lnTo>
                  <a:lnTo>
                    <a:pt x="1189" y="597"/>
                  </a:lnTo>
                  <a:lnTo>
                    <a:pt x="1200" y="605"/>
                  </a:lnTo>
                  <a:lnTo>
                    <a:pt x="1210" y="612"/>
                  </a:lnTo>
                  <a:lnTo>
                    <a:pt x="1219" y="620"/>
                  </a:lnTo>
                  <a:lnTo>
                    <a:pt x="1229" y="630"/>
                  </a:lnTo>
                  <a:lnTo>
                    <a:pt x="1237" y="638"/>
                  </a:lnTo>
                  <a:lnTo>
                    <a:pt x="1244" y="647"/>
                  </a:lnTo>
                  <a:lnTo>
                    <a:pt x="1251" y="658"/>
                  </a:lnTo>
                  <a:lnTo>
                    <a:pt x="1257" y="667"/>
                  </a:lnTo>
                  <a:lnTo>
                    <a:pt x="1261" y="677"/>
                  </a:lnTo>
                  <a:lnTo>
                    <a:pt x="1265" y="688"/>
                  </a:lnTo>
                  <a:lnTo>
                    <a:pt x="1266" y="700"/>
                  </a:lnTo>
                  <a:lnTo>
                    <a:pt x="1267" y="710"/>
                  </a:lnTo>
                  <a:lnTo>
                    <a:pt x="1268" y="722"/>
                  </a:lnTo>
                  <a:lnTo>
                    <a:pt x="1271" y="731"/>
                  </a:lnTo>
                  <a:lnTo>
                    <a:pt x="1274" y="738"/>
                  </a:lnTo>
                  <a:lnTo>
                    <a:pt x="1279" y="745"/>
                  </a:lnTo>
                  <a:lnTo>
                    <a:pt x="1286" y="750"/>
                  </a:lnTo>
                  <a:lnTo>
                    <a:pt x="1293" y="753"/>
                  </a:lnTo>
                  <a:lnTo>
                    <a:pt x="1301" y="757"/>
                  </a:lnTo>
                  <a:lnTo>
                    <a:pt x="1311" y="758"/>
                  </a:lnTo>
                  <a:lnTo>
                    <a:pt x="1321" y="758"/>
                  </a:lnTo>
                  <a:lnTo>
                    <a:pt x="1332" y="758"/>
                  </a:lnTo>
                  <a:lnTo>
                    <a:pt x="1343" y="757"/>
                  </a:lnTo>
                  <a:lnTo>
                    <a:pt x="1356" y="755"/>
                  </a:lnTo>
                  <a:lnTo>
                    <a:pt x="1381" y="749"/>
                  </a:lnTo>
                  <a:lnTo>
                    <a:pt x="1407" y="742"/>
                  </a:lnTo>
                  <a:lnTo>
                    <a:pt x="1433" y="732"/>
                  </a:lnTo>
                  <a:lnTo>
                    <a:pt x="1458" y="722"/>
                  </a:lnTo>
                  <a:lnTo>
                    <a:pt x="1482" y="711"/>
                  </a:lnTo>
                  <a:lnTo>
                    <a:pt x="1503" y="701"/>
                  </a:lnTo>
                  <a:lnTo>
                    <a:pt x="1535" y="686"/>
                  </a:lnTo>
                  <a:lnTo>
                    <a:pt x="1546" y="679"/>
                  </a:lnTo>
                  <a:lnTo>
                    <a:pt x="1639" y="494"/>
                  </a:lnTo>
                  <a:lnTo>
                    <a:pt x="1823" y="494"/>
                  </a:lnTo>
                  <a:lnTo>
                    <a:pt x="1979" y="616"/>
                  </a:lnTo>
                  <a:lnTo>
                    <a:pt x="2071" y="616"/>
                  </a:lnTo>
                  <a:lnTo>
                    <a:pt x="2258" y="771"/>
                  </a:lnTo>
                  <a:lnTo>
                    <a:pt x="2535" y="771"/>
                  </a:lnTo>
                  <a:lnTo>
                    <a:pt x="2531" y="791"/>
                  </a:lnTo>
                  <a:lnTo>
                    <a:pt x="2532" y="815"/>
                  </a:lnTo>
                  <a:lnTo>
                    <a:pt x="2537" y="843"/>
                  </a:lnTo>
                  <a:lnTo>
                    <a:pt x="2546" y="875"/>
                  </a:lnTo>
                  <a:lnTo>
                    <a:pt x="2559" y="910"/>
                  </a:lnTo>
                  <a:lnTo>
                    <a:pt x="2576" y="948"/>
                  </a:lnTo>
                  <a:lnTo>
                    <a:pt x="2595" y="989"/>
                  </a:lnTo>
                  <a:lnTo>
                    <a:pt x="2618" y="1033"/>
                  </a:lnTo>
                  <a:lnTo>
                    <a:pt x="2643" y="1079"/>
                  </a:lnTo>
                  <a:lnTo>
                    <a:pt x="2671" y="1126"/>
                  </a:lnTo>
                  <a:lnTo>
                    <a:pt x="2701" y="1175"/>
                  </a:lnTo>
                  <a:lnTo>
                    <a:pt x="2733" y="1225"/>
                  </a:lnTo>
                  <a:lnTo>
                    <a:pt x="2766" y="1277"/>
                  </a:lnTo>
                  <a:lnTo>
                    <a:pt x="2801" y="1328"/>
                  </a:lnTo>
                  <a:lnTo>
                    <a:pt x="2838" y="1381"/>
                  </a:lnTo>
                  <a:lnTo>
                    <a:pt x="2875" y="1432"/>
                  </a:lnTo>
                  <a:lnTo>
                    <a:pt x="2913" y="1483"/>
                  </a:lnTo>
                  <a:lnTo>
                    <a:pt x="2952" y="1534"/>
                  </a:lnTo>
                  <a:lnTo>
                    <a:pt x="2990" y="1583"/>
                  </a:lnTo>
                  <a:lnTo>
                    <a:pt x="3029" y="1631"/>
                  </a:lnTo>
                  <a:lnTo>
                    <a:pt x="3067" y="1677"/>
                  </a:lnTo>
                  <a:lnTo>
                    <a:pt x="3105" y="1721"/>
                  </a:lnTo>
                  <a:lnTo>
                    <a:pt x="3142" y="1763"/>
                  </a:lnTo>
                  <a:lnTo>
                    <a:pt x="3178" y="1802"/>
                  </a:lnTo>
                  <a:lnTo>
                    <a:pt x="3213" y="1837"/>
                  </a:lnTo>
                  <a:lnTo>
                    <a:pt x="3247" y="1870"/>
                  </a:lnTo>
                  <a:lnTo>
                    <a:pt x="3279" y="1899"/>
                  </a:lnTo>
                  <a:lnTo>
                    <a:pt x="3308" y="1925"/>
                  </a:lnTo>
                  <a:lnTo>
                    <a:pt x="3335" y="1945"/>
                  </a:lnTo>
                  <a:lnTo>
                    <a:pt x="3361" y="1961"/>
                  </a:lnTo>
                  <a:lnTo>
                    <a:pt x="3383" y="1972"/>
                  </a:lnTo>
                  <a:lnTo>
                    <a:pt x="3401" y="1978"/>
                  </a:lnTo>
                  <a:lnTo>
                    <a:pt x="3420" y="1981"/>
                  </a:lnTo>
                  <a:lnTo>
                    <a:pt x="3440" y="1986"/>
                  </a:lnTo>
                  <a:lnTo>
                    <a:pt x="3462" y="1990"/>
                  </a:lnTo>
                  <a:lnTo>
                    <a:pt x="3486" y="1997"/>
                  </a:lnTo>
                  <a:lnTo>
                    <a:pt x="3538" y="2014"/>
                  </a:lnTo>
                  <a:lnTo>
                    <a:pt x="3598" y="2035"/>
                  </a:lnTo>
                  <a:lnTo>
                    <a:pt x="3663" y="2059"/>
                  </a:lnTo>
                  <a:lnTo>
                    <a:pt x="3733" y="2090"/>
                  </a:lnTo>
                  <a:lnTo>
                    <a:pt x="3808" y="2124"/>
                  </a:lnTo>
                  <a:lnTo>
                    <a:pt x="3886" y="2162"/>
                  </a:lnTo>
                  <a:lnTo>
                    <a:pt x="3928" y="2182"/>
                  </a:lnTo>
                  <a:lnTo>
                    <a:pt x="3969" y="2204"/>
                  </a:lnTo>
                  <a:lnTo>
                    <a:pt x="4012" y="2227"/>
                  </a:lnTo>
                  <a:lnTo>
                    <a:pt x="4056" y="2251"/>
                  </a:lnTo>
                  <a:lnTo>
                    <a:pt x="4099" y="2277"/>
                  </a:lnTo>
                  <a:lnTo>
                    <a:pt x="4143" y="2302"/>
                  </a:lnTo>
                  <a:lnTo>
                    <a:pt x="4189" y="2330"/>
                  </a:lnTo>
                  <a:lnTo>
                    <a:pt x="4234" y="2358"/>
                  </a:lnTo>
                  <a:lnTo>
                    <a:pt x="4280" y="2389"/>
                  </a:lnTo>
                  <a:lnTo>
                    <a:pt x="4327" y="2419"/>
                  </a:lnTo>
                  <a:lnTo>
                    <a:pt x="4372" y="2451"/>
                  </a:lnTo>
                  <a:lnTo>
                    <a:pt x="4419" y="2483"/>
                  </a:lnTo>
                  <a:lnTo>
                    <a:pt x="4466" y="2517"/>
                  </a:lnTo>
                  <a:lnTo>
                    <a:pt x="4512" y="2552"/>
                  </a:lnTo>
                  <a:lnTo>
                    <a:pt x="4559" y="2588"/>
                  </a:lnTo>
                  <a:lnTo>
                    <a:pt x="4606" y="2626"/>
                  </a:lnTo>
                  <a:lnTo>
                    <a:pt x="4885" y="2410"/>
                  </a:lnTo>
                  <a:lnTo>
                    <a:pt x="4884" y="2390"/>
                  </a:lnTo>
                  <a:lnTo>
                    <a:pt x="4883" y="2369"/>
                  </a:lnTo>
                  <a:lnTo>
                    <a:pt x="4879" y="2349"/>
                  </a:lnTo>
                  <a:lnTo>
                    <a:pt x="4876" y="2328"/>
                  </a:lnTo>
                  <a:lnTo>
                    <a:pt x="4871" y="2307"/>
                  </a:lnTo>
                  <a:lnTo>
                    <a:pt x="4865" y="2287"/>
                  </a:lnTo>
                  <a:lnTo>
                    <a:pt x="4858" y="2266"/>
                  </a:lnTo>
                  <a:lnTo>
                    <a:pt x="4851" y="2246"/>
                  </a:lnTo>
                  <a:lnTo>
                    <a:pt x="4835" y="2206"/>
                  </a:lnTo>
                  <a:lnTo>
                    <a:pt x="4816" y="2168"/>
                  </a:lnTo>
                  <a:lnTo>
                    <a:pt x="4797" y="2132"/>
                  </a:lnTo>
                  <a:lnTo>
                    <a:pt x="4776" y="2097"/>
                  </a:lnTo>
                  <a:lnTo>
                    <a:pt x="4756" y="2065"/>
                  </a:lnTo>
                  <a:lnTo>
                    <a:pt x="4737" y="2036"/>
                  </a:lnTo>
                  <a:lnTo>
                    <a:pt x="4719" y="2010"/>
                  </a:lnTo>
                  <a:lnTo>
                    <a:pt x="4703" y="1988"/>
                  </a:lnTo>
                  <a:lnTo>
                    <a:pt x="4678" y="1958"/>
                  </a:lnTo>
                  <a:lnTo>
                    <a:pt x="4669" y="1946"/>
                  </a:lnTo>
                  <a:lnTo>
                    <a:pt x="4657" y="1924"/>
                  </a:lnTo>
                  <a:lnTo>
                    <a:pt x="4641" y="1898"/>
                  </a:lnTo>
                  <a:lnTo>
                    <a:pt x="4621" y="1869"/>
                  </a:lnTo>
                  <a:lnTo>
                    <a:pt x="4595" y="1836"/>
                  </a:lnTo>
                  <a:lnTo>
                    <a:pt x="4567" y="1800"/>
                  </a:lnTo>
                  <a:lnTo>
                    <a:pt x="4535" y="1763"/>
                  </a:lnTo>
                  <a:lnTo>
                    <a:pt x="4498" y="1722"/>
                  </a:lnTo>
                  <a:lnTo>
                    <a:pt x="4460" y="1678"/>
                  </a:lnTo>
                  <a:lnTo>
                    <a:pt x="4419" y="1634"/>
                  </a:lnTo>
                  <a:lnTo>
                    <a:pt x="4375" y="1587"/>
                  </a:lnTo>
                  <a:lnTo>
                    <a:pt x="4328" y="1538"/>
                  </a:lnTo>
                  <a:lnTo>
                    <a:pt x="4280" y="1489"/>
                  </a:lnTo>
                  <a:lnTo>
                    <a:pt x="4178" y="1389"/>
                  </a:lnTo>
                  <a:lnTo>
                    <a:pt x="4073" y="1286"/>
                  </a:lnTo>
                  <a:lnTo>
                    <a:pt x="3965" y="1183"/>
                  </a:lnTo>
                  <a:lnTo>
                    <a:pt x="3857" y="1084"/>
                  </a:lnTo>
                  <a:lnTo>
                    <a:pt x="3752" y="988"/>
                  </a:lnTo>
                  <a:lnTo>
                    <a:pt x="3650" y="899"/>
                  </a:lnTo>
                  <a:lnTo>
                    <a:pt x="3557" y="818"/>
                  </a:lnTo>
                  <a:lnTo>
                    <a:pt x="3472" y="748"/>
                  </a:lnTo>
                  <a:lnTo>
                    <a:pt x="3433" y="717"/>
                  </a:lnTo>
                  <a:lnTo>
                    <a:pt x="3398" y="690"/>
                  </a:lnTo>
                  <a:lnTo>
                    <a:pt x="3366" y="667"/>
                  </a:lnTo>
                  <a:lnTo>
                    <a:pt x="3338" y="647"/>
                  </a:lnTo>
                  <a:lnTo>
                    <a:pt x="3285" y="611"/>
                  </a:lnTo>
                  <a:lnTo>
                    <a:pt x="3231" y="571"/>
                  </a:lnTo>
                  <a:lnTo>
                    <a:pt x="3175" y="528"/>
                  </a:lnTo>
                  <a:lnTo>
                    <a:pt x="3119" y="484"/>
                  </a:lnTo>
                  <a:lnTo>
                    <a:pt x="3062" y="438"/>
                  </a:lnTo>
                  <a:lnTo>
                    <a:pt x="3007" y="391"/>
                  </a:lnTo>
                  <a:lnTo>
                    <a:pt x="2952" y="346"/>
                  </a:lnTo>
                  <a:lnTo>
                    <a:pt x="2900" y="300"/>
                  </a:lnTo>
                  <a:lnTo>
                    <a:pt x="2803" y="217"/>
                  </a:lnTo>
                  <a:lnTo>
                    <a:pt x="2722" y="146"/>
                  </a:lnTo>
                  <a:lnTo>
                    <a:pt x="2689" y="118"/>
                  </a:lnTo>
                  <a:lnTo>
                    <a:pt x="2661" y="95"/>
                  </a:lnTo>
                  <a:lnTo>
                    <a:pt x="2639" y="78"/>
                  </a:lnTo>
                  <a:lnTo>
                    <a:pt x="2624" y="69"/>
                  </a:lnTo>
                  <a:lnTo>
                    <a:pt x="2609" y="60"/>
                  </a:lnTo>
                  <a:lnTo>
                    <a:pt x="2595" y="50"/>
                  </a:lnTo>
                  <a:lnTo>
                    <a:pt x="2584" y="41"/>
                  </a:lnTo>
                  <a:lnTo>
                    <a:pt x="2572" y="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232"/>
            <p:cNvSpPr/>
            <p:nvPr/>
          </p:nvSpPr>
          <p:spPr>
            <a:xfrm>
              <a:off x="7844040" y="5345280"/>
              <a:ext cx="186840" cy="1328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238" h="822">
                  <a:moveTo>
                    <a:pt x="1124" y="762"/>
                  </a:moveTo>
                  <a:lnTo>
                    <a:pt x="1238" y="776"/>
                  </a:lnTo>
                  <a:lnTo>
                    <a:pt x="1238" y="762"/>
                  </a:lnTo>
                  <a:lnTo>
                    <a:pt x="1237" y="747"/>
                  </a:lnTo>
                  <a:lnTo>
                    <a:pt x="1236" y="732"/>
                  </a:lnTo>
                  <a:lnTo>
                    <a:pt x="1234" y="717"/>
                  </a:lnTo>
                  <a:lnTo>
                    <a:pt x="1230" y="703"/>
                  </a:lnTo>
                  <a:lnTo>
                    <a:pt x="1227" y="688"/>
                  </a:lnTo>
                  <a:lnTo>
                    <a:pt x="1222" y="672"/>
                  </a:lnTo>
                  <a:lnTo>
                    <a:pt x="1217" y="657"/>
                  </a:lnTo>
                  <a:lnTo>
                    <a:pt x="1212" y="641"/>
                  </a:lnTo>
                  <a:lnTo>
                    <a:pt x="1205" y="626"/>
                  </a:lnTo>
                  <a:lnTo>
                    <a:pt x="1198" y="611"/>
                  </a:lnTo>
                  <a:lnTo>
                    <a:pt x="1189" y="594"/>
                  </a:lnTo>
                  <a:lnTo>
                    <a:pt x="1181" y="579"/>
                  </a:lnTo>
                  <a:lnTo>
                    <a:pt x="1171" y="563"/>
                  </a:lnTo>
                  <a:lnTo>
                    <a:pt x="1160" y="546"/>
                  </a:lnTo>
                  <a:lnTo>
                    <a:pt x="1150" y="531"/>
                  </a:lnTo>
                  <a:lnTo>
                    <a:pt x="1124" y="497"/>
                  </a:lnTo>
                  <a:lnTo>
                    <a:pt x="1096" y="465"/>
                  </a:lnTo>
                  <a:lnTo>
                    <a:pt x="1064" y="431"/>
                  </a:lnTo>
                  <a:lnTo>
                    <a:pt x="1029" y="396"/>
                  </a:lnTo>
                  <a:lnTo>
                    <a:pt x="991" y="361"/>
                  </a:lnTo>
                  <a:lnTo>
                    <a:pt x="949" y="326"/>
                  </a:lnTo>
                  <a:lnTo>
                    <a:pt x="903" y="289"/>
                  </a:lnTo>
                  <a:lnTo>
                    <a:pt x="853" y="252"/>
                  </a:lnTo>
                  <a:lnTo>
                    <a:pt x="844" y="267"/>
                  </a:lnTo>
                  <a:lnTo>
                    <a:pt x="835" y="281"/>
                  </a:lnTo>
                  <a:lnTo>
                    <a:pt x="827" y="294"/>
                  </a:lnTo>
                  <a:lnTo>
                    <a:pt x="819" y="305"/>
                  </a:lnTo>
                  <a:lnTo>
                    <a:pt x="811" y="314"/>
                  </a:lnTo>
                  <a:lnTo>
                    <a:pt x="803" y="322"/>
                  </a:lnTo>
                  <a:lnTo>
                    <a:pt x="796" y="329"/>
                  </a:lnTo>
                  <a:lnTo>
                    <a:pt x="789" y="335"/>
                  </a:lnTo>
                  <a:lnTo>
                    <a:pt x="782" y="340"/>
                  </a:lnTo>
                  <a:lnTo>
                    <a:pt x="775" y="342"/>
                  </a:lnTo>
                  <a:lnTo>
                    <a:pt x="768" y="344"/>
                  </a:lnTo>
                  <a:lnTo>
                    <a:pt x="762" y="344"/>
                  </a:lnTo>
                  <a:lnTo>
                    <a:pt x="756" y="344"/>
                  </a:lnTo>
                  <a:lnTo>
                    <a:pt x="750" y="342"/>
                  </a:lnTo>
                  <a:lnTo>
                    <a:pt x="745" y="340"/>
                  </a:lnTo>
                  <a:lnTo>
                    <a:pt x="741" y="335"/>
                  </a:lnTo>
                  <a:lnTo>
                    <a:pt x="736" y="330"/>
                  </a:lnTo>
                  <a:lnTo>
                    <a:pt x="733" y="323"/>
                  </a:lnTo>
                  <a:lnTo>
                    <a:pt x="729" y="316"/>
                  </a:lnTo>
                  <a:lnTo>
                    <a:pt x="727" y="307"/>
                  </a:lnTo>
                  <a:lnTo>
                    <a:pt x="724" y="298"/>
                  </a:lnTo>
                  <a:lnTo>
                    <a:pt x="723" y="287"/>
                  </a:lnTo>
                  <a:lnTo>
                    <a:pt x="722" y="275"/>
                  </a:lnTo>
                  <a:lnTo>
                    <a:pt x="722" y="263"/>
                  </a:lnTo>
                  <a:lnTo>
                    <a:pt x="722" y="250"/>
                  </a:lnTo>
                  <a:lnTo>
                    <a:pt x="723" y="234"/>
                  </a:lnTo>
                  <a:lnTo>
                    <a:pt x="724" y="219"/>
                  </a:lnTo>
                  <a:lnTo>
                    <a:pt x="727" y="203"/>
                  </a:lnTo>
                  <a:lnTo>
                    <a:pt x="734" y="168"/>
                  </a:lnTo>
                  <a:lnTo>
                    <a:pt x="743" y="128"/>
                  </a:lnTo>
                  <a:lnTo>
                    <a:pt x="744" y="126"/>
                  </a:lnTo>
                  <a:lnTo>
                    <a:pt x="745" y="119"/>
                  </a:lnTo>
                  <a:lnTo>
                    <a:pt x="745" y="115"/>
                  </a:lnTo>
                  <a:lnTo>
                    <a:pt x="743" y="111"/>
                  </a:lnTo>
                  <a:lnTo>
                    <a:pt x="741" y="106"/>
                  </a:lnTo>
                  <a:lnTo>
                    <a:pt x="736" y="102"/>
                  </a:lnTo>
                  <a:lnTo>
                    <a:pt x="729" y="99"/>
                  </a:lnTo>
                  <a:lnTo>
                    <a:pt x="720" y="97"/>
                  </a:lnTo>
                  <a:lnTo>
                    <a:pt x="708" y="94"/>
                  </a:lnTo>
                  <a:lnTo>
                    <a:pt x="692" y="94"/>
                  </a:lnTo>
                  <a:lnTo>
                    <a:pt x="673" y="95"/>
                  </a:lnTo>
                  <a:lnTo>
                    <a:pt x="650" y="99"/>
                  </a:lnTo>
                  <a:lnTo>
                    <a:pt x="623" y="104"/>
                  </a:lnTo>
                  <a:lnTo>
                    <a:pt x="590" y="111"/>
                  </a:lnTo>
                  <a:lnTo>
                    <a:pt x="594" y="108"/>
                  </a:lnTo>
                  <a:lnTo>
                    <a:pt x="598" y="101"/>
                  </a:lnTo>
                  <a:lnTo>
                    <a:pt x="605" y="91"/>
                  </a:lnTo>
                  <a:lnTo>
                    <a:pt x="611" y="79"/>
                  </a:lnTo>
                  <a:lnTo>
                    <a:pt x="612" y="73"/>
                  </a:lnTo>
                  <a:lnTo>
                    <a:pt x="613" y="66"/>
                  </a:lnTo>
                  <a:lnTo>
                    <a:pt x="612" y="60"/>
                  </a:lnTo>
                  <a:lnTo>
                    <a:pt x="609" y="55"/>
                  </a:lnTo>
                  <a:lnTo>
                    <a:pt x="604" y="49"/>
                  </a:lnTo>
                  <a:lnTo>
                    <a:pt x="596" y="44"/>
                  </a:lnTo>
                  <a:lnTo>
                    <a:pt x="587" y="39"/>
                  </a:lnTo>
                  <a:lnTo>
                    <a:pt x="574" y="36"/>
                  </a:lnTo>
                  <a:lnTo>
                    <a:pt x="546" y="29"/>
                  </a:lnTo>
                  <a:lnTo>
                    <a:pt x="519" y="20"/>
                  </a:lnTo>
                  <a:lnTo>
                    <a:pt x="492" y="11"/>
                  </a:lnTo>
                  <a:lnTo>
                    <a:pt x="463" y="4"/>
                  </a:lnTo>
                  <a:lnTo>
                    <a:pt x="448" y="1"/>
                  </a:lnTo>
                  <a:lnTo>
                    <a:pt x="431" y="0"/>
                  </a:lnTo>
                  <a:lnTo>
                    <a:pt x="413" y="0"/>
                  </a:lnTo>
                  <a:lnTo>
                    <a:pt x="394" y="0"/>
                  </a:lnTo>
                  <a:lnTo>
                    <a:pt x="373" y="2"/>
                  </a:lnTo>
                  <a:lnTo>
                    <a:pt x="349" y="6"/>
                  </a:lnTo>
                  <a:lnTo>
                    <a:pt x="324" y="11"/>
                  </a:lnTo>
                  <a:lnTo>
                    <a:pt x="297" y="20"/>
                  </a:lnTo>
                  <a:lnTo>
                    <a:pt x="311" y="111"/>
                  </a:lnTo>
                  <a:lnTo>
                    <a:pt x="305" y="108"/>
                  </a:lnTo>
                  <a:lnTo>
                    <a:pt x="288" y="102"/>
                  </a:lnTo>
                  <a:lnTo>
                    <a:pt x="260" y="93"/>
                  </a:lnTo>
                  <a:lnTo>
                    <a:pt x="219" y="83"/>
                  </a:lnTo>
                  <a:lnTo>
                    <a:pt x="220" y="86"/>
                  </a:lnTo>
                  <a:lnTo>
                    <a:pt x="220" y="95"/>
                  </a:lnTo>
                  <a:lnTo>
                    <a:pt x="221" y="108"/>
                  </a:lnTo>
                  <a:lnTo>
                    <a:pt x="219" y="125"/>
                  </a:lnTo>
                  <a:lnTo>
                    <a:pt x="216" y="134"/>
                  </a:lnTo>
                  <a:lnTo>
                    <a:pt x="214" y="142"/>
                  </a:lnTo>
                  <a:lnTo>
                    <a:pt x="210" y="152"/>
                  </a:lnTo>
                  <a:lnTo>
                    <a:pt x="206" y="160"/>
                  </a:lnTo>
                  <a:lnTo>
                    <a:pt x="200" y="168"/>
                  </a:lnTo>
                  <a:lnTo>
                    <a:pt x="192" y="176"/>
                  </a:lnTo>
                  <a:lnTo>
                    <a:pt x="184" y="183"/>
                  </a:lnTo>
                  <a:lnTo>
                    <a:pt x="173" y="189"/>
                  </a:lnTo>
                  <a:lnTo>
                    <a:pt x="154" y="184"/>
                  </a:lnTo>
                  <a:lnTo>
                    <a:pt x="136" y="182"/>
                  </a:lnTo>
                  <a:lnTo>
                    <a:pt x="119" y="182"/>
                  </a:lnTo>
                  <a:lnTo>
                    <a:pt x="104" y="182"/>
                  </a:lnTo>
                  <a:lnTo>
                    <a:pt x="90" y="184"/>
                  </a:lnTo>
                  <a:lnTo>
                    <a:pt x="76" y="189"/>
                  </a:lnTo>
                  <a:lnTo>
                    <a:pt x="64" y="194"/>
                  </a:lnTo>
                  <a:lnTo>
                    <a:pt x="54" y="201"/>
                  </a:lnTo>
                  <a:lnTo>
                    <a:pt x="45" y="208"/>
                  </a:lnTo>
                  <a:lnTo>
                    <a:pt x="35" y="216"/>
                  </a:lnTo>
                  <a:lnTo>
                    <a:pt x="27" y="226"/>
                  </a:lnTo>
                  <a:lnTo>
                    <a:pt x="21" y="236"/>
                  </a:lnTo>
                  <a:lnTo>
                    <a:pt x="15" y="247"/>
                  </a:lnTo>
                  <a:lnTo>
                    <a:pt x="11" y="259"/>
                  </a:lnTo>
                  <a:lnTo>
                    <a:pt x="7" y="272"/>
                  </a:lnTo>
                  <a:lnTo>
                    <a:pt x="4" y="285"/>
                  </a:lnTo>
                  <a:lnTo>
                    <a:pt x="1" y="299"/>
                  </a:lnTo>
                  <a:lnTo>
                    <a:pt x="0" y="312"/>
                  </a:lnTo>
                  <a:lnTo>
                    <a:pt x="0" y="326"/>
                  </a:lnTo>
                  <a:lnTo>
                    <a:pt x="1" y="340"/>
                  </a:lnTo>
                  <a:lnTo>
                    <a:pt x="3" y="355"/>
                  </a:lnTo>
                  <a:lnTo>
                    <a:pt x="5" y="369"/>
                  </a:lnTo>
                  <a:lnTo>
                    <a:pt x="7" y="383"/>
                  </a:lnTo>
                  <a:lnTo>
                    <a:pt x="11" y="397"/>
                  </a:lnTo>
                  <a:lnTo>
                    <a:pt x="15" y="410"/>
                  </a:lnTo>
                  <a:lnTo>
                    <a:pt x="20" y="423"/>
                  </a:lnTo>
                  <a:lnTo>
                    <a:pt x="26" y="435"/>
                  </a:lnTo>
                  <a:lnTo>
                    <a:pt x="33" y="448"/>
                  </a:lnTo>
                  <a:lnTo>
                    <a:pt x="39" y="459"/>
                  </a:lnTo>
                  <a:lnTo>
                    <a:pt x="47" y="469"/>
                  </a:lnTo>
                  <a:lnTo>
                    <a:pt x="55" y="480"/>
                  </a:lnTo>
                  <a:lnTo>
                    <a:pt x="63" y="488"/>
                  </a:lnTo>
                  <a:lnTo>
                    <a:pt x="90" y="515"/>
                  </a:lnTo>
                  <a:lnTo>
                    <a:pt x="114" y="541"/>
                  </a:lnTo>
                  <a:lnTo>
                    <a:pt x="135" y="565"/>
                  </a:lnTo>
                  <a:lnTo>
                    <a:pt x="153" y="588"/>
                  </a:lnTo>
                  <a:lnTo>
                    <a:pt x="170" y="612"/>
                  </a:lnTo>
                  <a:lnTo>
                    <a:pt x="184" y="633"/>
                  </a:lnTo>
                  <a:lnTo>
                    <a:pt x="195" y="655"/>
                  </a:lnTo>
                  <a:lnTo>
                    <a:pt x="205" y="675"/>
                  </a:lnTo>
                  <a:lnTo>
                    <a:pt x="210" y="695"/>
                  </a:lnTo>
                  <a:lnTo>
                    <a:pt x="215" y="715"/>
                  </a:lnTo>
                  <a:lnTo>
                    <a:pt x="216" y="724"/>
                  </a:lnTo>
                  <a:lnTo>
                    <a:pt x="216" y="733"/>
                  </a:lnTo>
                  <a:lnTo>
                    <a:pt x="216" y="743"/>
                  </a:lnTo>
                  <a:lnTo>
                    <a:pt x="215" y="752"/>
                  </a:lnTo>
                  <a:lnTo>
                    <a:pt x="214" y="761"/>
                  </a:lnTo>
                  <a:lnTo>
                    <a:pt x="212" y="769"/>
                  </a:lnTo>
                  <a:lnTo>
                    <a:pt x="209" y="779"/>
                  </a:lnTo>
                  <a:lnTo>
                    <a:pt x="206" y="788"/>
                  </a:lnTo>
                  <a:lnTo>
                    <a:pt x="198" y="806"/>
                  </a:lnTo>
                  <a:lnTo>
                    <a:pt x="187" y="822"/>
                  </a:lnTo>
                  <a:lnTo>
                    <a:pt x="714" y="800"/>
                  </a:lnTo>
                  <a:lnTo>
                    <a:pt x="1124" y="762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Freeform 233"/>
            <p:cNvSpPr/>
            <p:nvPr/>
          </p:nvSpPr>
          <p:spPr>
            <a:xfrm>
              <a:off x="8119800" y="5303520"/>
              <a:ext cx="250200" cy="13608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1661" h="830">
                  <a:moveTo>
                    <a:pt x="1301" y="775"/>
                  </a:moveTo>
                  <a:lnTo>
                    <a:pt x="1116" y="691"/>
                  </a:lnTo>
                  <a:lnTo>
                    <a:pt x="1101" y="695"/>
                  </a:lnTo>
                  <a:lnTo>
                    <a:pt x="1087" y="697"/>
                  </a:lnTo>
                  <a:lnTo>
                    <a:pt x="1074" y="697"/>
                  </a:lnTo>
                  <a:lnTo>
                    <a:pt x="1061" y="695"/>
                  </a:lnTo>
                  <a:lnTo>
                    <a:pt x="1046" y="694"/>
                  </a:lnTo>
                  <a:lnTo>
                    <a:pt x="1029" y="695"/>
                  </a:lnTo>
                  <a:lnTo>
                    <a:pt x="1006" y="699"/>
                  </a:lnTo>
                  <a:lnTo>
                    <a:pt x="978" y="706"/>
                  </a:lnTo>
                  <a:lnTo>
                    <a:pt x="953" y="711"/>
                  </a:lnTo>
                  <a:lnTo>
                    <a:pt x="912" y="718"/>
                  </a:lnTo>
                  <a:lnTo>
                    <a:pt x="857" y="726"/>
                  </a:lnTo>
                  <a:lnTo>
                    <a:pt x="790" y="735"/>
                  </a:lnTo>
                  <a:lnTo>
                    <a:pt x="714" y="744"/>
                  </a:lnTo>
                  <a:lnTo>
                    <a:pt x="634" y="755"/>
                  </a:lnTo>
                  <a:lnTo>
                    <a:pt x="547" y="765"/>
                  </a:lnTo>
                  <a:lnTo>
                    <a:pt x="461" y="776"/>
                  </a:lnTo>
                  <a:lnTo>
                    <a:pt x="374" y="787"/>
                  </a:lnTo>
                  <a:lnTo>
                    <a:pt x="292" y="796"/>
                  </a:lnTo>
                  <a:lnTo>
                    <a:pt x="216" y="805"/>
                  </a:lnTo>
                  <a:lnTo>
                    <a:pt x="147" y="813"/>
                  </a:lnTo>
                  <a:lnTo>
                    <a:pt x="89" y="820"/>
                  </a:lnTo>
                  <a:lnTo>
                    <a:pt x="46" y="825"/>
                  </a:lnTo>
                  <a:lnTo>
                    <a:pt x="18" y="829"/>
                  </a:lnTo>
                  <a:lnTo>
                    <a:pt x="8" y="830"/>
                  </a:lnTo>
                  <a:lnTo>
                    <a:pt x="0" y="763"/>
                  </a:lnTo>
                  <a:lnTo>
                    <a:pt x="18" y="743"/>
                  </a:lnTo>
                  <a:lnTo>
                    <a:pt x="38" y="725"/>
                  </a:lnTo>
                  <a:lnTo>
                    <a:pt x="57" y="704"/>
                  </a:lnTo>
                  <a:lnTo>
                    <a:pt x="74" y="683"/>
                  </a:lnTo>
                  <a:lnTo>
                    <a:pt x="74" y="498"/>
                  </a:lnTo>
                  <a:lnTo>
                    <a:pt x="141" y="498"/>
                  </a:lnTo>
                  <a:lnTo>
                    <a:pt x="202" y="496"/>
                  </a:lnTo>
                  <a:lnTo>
                    <a:pt x="231" y="494"/>
                  </a:lnTo>
                  <a:lnTo>
                    <a:pt x="258" y="492"/>
                  </a:lnTo>
                  <a:lnTo>
                    <a:pt x="283" y="490"/>
                  </a:lnTo>
                  <a:lnTo>
                    <a:pt x="309" y="486"/>
                  </a:lnTo>
                  <a:lnTo>
                    <a:pt x="332" y="483"/>
                  </a:lnTo>
                  <a:lnTo>
                    <a:pt x="355" y="478"/>
                  </a:lnTo>
                  <a:lnTo>
                    <a:pt x="376" y="473"/>
                  </a:lnTo>
                  <a:lnTo>
                    <a:pt x="395" y="469"/>
                  </a:lnTo>
                  <a:lnTo>
                    <a:pt x="414" y="462"/>
                  </a:lnTo>
                  <a:lnTo>
                    <a:pt x="432" y="455"/>
                  </a:lnTo>
                  <a:lnTo>
                    <a:pt x="448" y="447"/>
                  </a:lnTo>
                  <a:lnTo>
                    <a:pt x="463" y="438"/>
                  </a:lnTo>
                  <a:lnTo>
                    <a:pt x="477" y="429"/>
                  </a:lnTo>
                  <a:lnTo>
                    <a:pt x="490" y="419"/>
                  </a:lnTo>
                  <a:lnTo>
                    <a:pt x="502" y="407"/>
                  </a:lnTo>
                  <a:lnTo>
                    <a:pt x="512" y="395"/>
                  </a:lnTo>
                  <a:lnTo>
                    <a:pt x="522" y="382"/>
                  </a:lnTo>
                  <a:lnTo>
                    <a:pt x="530" y="367"/>
                  </a:lnTo>
                  <a:lnTo>
                    <a:pt x="537" y="352"/>
                  </a:lnTo>
                  <a:lnTo>
                    <a:pt x="543" y="336"/>
                  </a:lnTo>
                  <a:lnTo>
                    <a:pt x="547" y="318"/>
                  </a:lnTo>
                  <a:lnTo>
                    <a:pt x="551" y="299"/>
                  </a:lnTo>
                  <a:lnTo>
                    <a:pt x="554" y="278"/>
                  </a:lnTo>
                  <a:lnTo>
                    <a:pt x="556" y="257"/>
                  </a:lnTo>
                  <a:lnTo>
                    <a:pt x="557" y="235"/>
                  </a:lnTo>
                  <a:lnTo>
                    <a:pt x="556" y="211"/>
                  </a:lnTo>
                  <a:lnTo>
                    <a:pt x="554" y="185"/>
                  </a:lnTo>
                  <a:lnTo>
                    <a:pt x="552" y="158"/>
                  </a:lnTo>
                  <a:lnTo>
                    <a:pt x="690" y="17"/>
                  </a:lnTo>
                  <a:lnTo>
                    <a:pt x="699" y="17"/>
                  </a:lnTo>
                  <a:lnTo>
                    <a:pt x="723" y="17"/>
                  </a:lnTo>
                  <a:lnTo>
                    <a:pt x="759" y="17"/>
                  </a:lnTo>
                  <a:lnTo>
                    <a:pt x="806" y="16"/>
                  </a:lnTo>
                  <a:lnTo>
                    <a:pt x="859" y="13"/>
                  </a:lnTo>
                  <a:lnTo>
                    <a:pt x="920" y="10"/>
                  </a:lnTo>
                  <a:lnTo>
                    <a:pt x="983" y="6"/>
                  </a:lnTo>
                  <a:lnTo>
                    <a:pt x="1047" y="0"/>
                  </a:lnTo>
                  <a:lnTo>
                    <a:pt x="1416" y="421"/>
                  </a:lnTo>
                  <a:lnTo>
                    <a:pt x="1416" y="521"/>
                  </a:lnTo>
                  <a:lnTo>
                    <a:pt x="1471" y="545"/>
                  </a:lnTo>
                  <a:lnTo>
                    <a:pt x="1661" y="792"/>
                  </a:lnTo>
                  <a:lnTo>
                    <a:pt x="1651" y="796"/>
                  </a:lnTo>
                  <a:lnTo>
                    <a:pt x="1641" y="801"/>
                  </a:lnTo>
                  <a:lnTo>
                    <a:pt x="1627" y="805"/>
                  </a:lnTo>
                  <a:lnTo>
                    <a:pt x="1613" y="809"/>
                  </a:lnTo>
                  <a:lnTo>
                    <a:pt x="1596" y="812"/>
                  </a:lnTo>
                  <a:lnTo>
                    <a:pt x="1578" y="815"/>
                  </a:lnTo>
                  <a:lnTo>
                    <a:pt x="1558" y="817"/>
                  </a:lnTo>
                  <a:lnTo>
                    <a:pt x="1536" y="818"/>
                  </a:lnTo>
                  <a:lnTo>
                    <a:pt x="1512" y="818"/>
                  </a:lnTo>
                  <a:lnTo>
                    <a:pt x="1488" y="817"/>
                  </a:lnTo>
                  <a:lnTo>
                    <a:pt x="1461" y="815"/>
                  </a:lnTo>
                  <a:lnTo>
                    <a:pt x="1432" y="810"/>
                  </a:lnTo>
                  <a:lnTo>
                    <a:pt x="1402" y="804"/>
                  </a:lnTo>
                  <a:lnTo>
                    <a:pt x="1370" y="796"/>
                  </a:lnTo>
                  <a:lnTo>
                    <a:pt x="1336" y="787"/>
                  </a:lnTo>
                  <a:lnTo>
                    <a:pt x="1301" y="77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Freeform 234"/>
            <p:cNvSpPr/>
            <p:nvPr/>
          </p:nvSpPr>
          <p:spPr>
            <a:xfrm>
              <a:off x="8313840" y="5430960"/>
              <a:ext cx="106200" cy="1141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98" h="697">
                  <a:moveTo>
                    <a:pt x="146" y="426"/>
                  </a:moveTo>
                  <a:lnTo>
                    <a:pt x="144" y="418"/>
                  </a:lnTo>
                  <a:lnTo>
                    <a:pt x="143" y="411"/>
                  </a:lnTo>
                  <a:lnTo>
                    <a:pt x="143" y="404"/>
                  </a:lnTo>
                  <a:lnTo>
                    <a:pt x="144" y="397"/>
                  </a:lnTo>
                  <a:lnTo>
                    <a:pt x="146" y="390"/>
                  </a:lnTo>
                  <a:lnTo>
                    <a:pt x="148" y="383"/>
                  </a:lnTo>
                  <a:lnTo>
                    <a:pt x="150" y="377"/>
                  </a:lnTo>
                  <a:lnTo>
                    <a:pt x="155" y="371"/>
                  </a:lnTo>
                  <a:lnTo>
                    <a:pt x="158" y="365"/>
                  </a:lnTo>
                  <a:lnTo>
                    <a:pt x="164" y="360"/>
                  </a:lnTo>
                  <a:lnTo>
                    <a:pt x="170" y="355"/>
                  </a:lnTo>
                  <a:lnTo>
                    <a:pt x="177" y="351"/>
                  </a:lnTo>
                  <a:lnTo>
                    <a:pt x="185" y="348"/>
                  </a:lnTo>
                  <a:lnTo>
                    <a:pt x="195" y="344"/>
                  </a:lnTo>
                  <a:lnTo>
                    <a:pt x="204" y="342"/>
                  </a:lnTo>
                  <a:lnTo>
                    <a:pt x="215" y="340"/>
                  </a:lnTo>
                  <a:lnTo>
                    <a:pt x="216" y="332"/>
                  </a:lnTo>
                  <a:lnTo>
                    <a:pt x="219" y="309"/>
                  </a:lnTo>
                  <a:lnTo>
                    <a:pt x="223" y="278"/>
                  </a:lnTo>
                  <a:lnTo>
                    <a:pt x="224" y="239"/>
                  </a:lnTo>
                  <a:lnTo>
                    <a:pt x="220" y="226"/>
                  </a:lnTo>
                  <a:lnTo>
                    <a:pt x="215" y="216"/>
                  </a:lnTo>
                  <a:lnTo>
                    <a:pt x="209" y="205"/>
                  </a:lnTo>
                  <a:lnTo>
                    <a:pt x="202" y="195"/>
                  </a:lnTo>
                  <a:lnTo>
                    <a:pt x="194" y="186"/>
                  </a:lnTo>
                  <a:lnTo>
                    <a:pt x="184" y="176"/>
                  </a:lnTo>
                  <a:lnTo>
                    <a:pt x="175" y="167"/>
                  </a:lnTo>
                  <a:lnTo>
                    <a:pt x="164" y="159"/>
                  </a:lnTo>
                  <a:lnTo>
                    <a:pt x="142" y="143"/>
                  </a:lnTo>
                  <a:lnTo>
                    <a:pt x="119" y="129"/>
                  </a:lnTo>
                  <a:lnTo>
                    <a:pt x="95" y="115"/>
                  </a:lnTo>
                  <a:lnTo>
                    <a:pt x="73" y="103"/>
                  </a:lnTo>
                  <a:lnTo>
                    <a:pt x="52" y="91"/>
                  </a:lnTo>
                  <a:lnTo>
                    <a:pt x="33" y="79"/>
                  </a:lnTo>
                  <a:lnTo>
                    <a:pt x="25" y="73"/>
                  </a:lnTo>
                  <a:lnTo>
                    <a:pt x="17" y="68"/>
                  </a:lnTo>
                  <a:lnTo>
                    <a:pt x="11" y="62"/>
                  </a:lnTo>
                  <a:lnTo>
                    <a:pt x="7" y="56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8" y="15"/>
                  </a:lnTo>
                  <a:lnTo>
                    <a:pt x="14" y="8"/>
                  </a:lnTo>
                  <a:lnTo>
                    <a:pt x="22" y="0"/>
                  </a:lnTo>
                  <a:lnTo>
                    <a:pt x="57" y="12"/>
                  </a:lnTo>
                  <a:lnTo>
                    <a:pt x="91" y="21"/>
                  </a:lnTo>
                  <a:lnTo>
                    <a:pt x="123" y="29"/>
                  </a:lnTo>
                  <a:lnTo>
                    <a:pt x="153" y="35"/>
                  </a:lnTo>
                  <a:lnTo>
                    <a:pt x="182" y="40"/>
                  </a:lnTo>
                  <a:lnTo>
                    <a:pt x="209" y="42"/>
                  </a:lnTo>
                  <a:lnTo>
                    <a:pt x="233" y="43"/>
                  </a:lnTo>
                  <a:lnTo>
                    <a:pt x="257" y="43"/>
                  </a:lnTo>
                  <a:lnTo>
                    <a:pt x="279" y="42"/>
                  </a:lnTo>
                  <a:lnTo>
                    <a:pt x="299" y="40"/>
                  </a:lnTo>
                  <a:lnTo>
                    <a:pt x="317" y="37"/>
                  </a:lnTo>
                  <a:lnTo>
                    <a:pt x="334" y="34"/>
                  </a:lnTo>
                  <a:lnTo>
                    <a:pt x="348" y="30"/>
                  </a:lnTo>
                  <a:lnTo>
                    <a:pt x="362" y="26"/>
                  </a:lnTo>
                  <a:lnTo>
                    <a:pt x="372" y="21"/>
                  </a:lnTo>
                  <a:lnTo>
                    <a:pt x="382" y="17"/>
                  </a:lnTo>
                  <a:lnTo>
                    <a:pt x="586" y="233"/>
                  </a:lnTo>
                  <a:lnTo>
                    <a:pt x="586" y="371"/>
                  </a:lnTo>
                  <a:lnTo>
                    <a:pt x="565" y="368"/>
                  </a:lnTo>
                  <a:lnTo>
                    <a:pt x="544" y="364"/>
                  </a:lnTo>
                  <a:lnTo>
                    <a:pt x="524" y="362"/>
                  </a:lnTo>
                  <a:lnTo>
                    <a:pt x="504" y="361"/>
                  </a:lnTo>
                  <a:lnTo>
                    <a:pt x="487" y="361"/>
                  </a:lnTo>
                  <a:lnTo>
                    <a:pt x="468" y="361"/>
                  </a:lnTo>
                  <a:lnTo>
                    <a:pt x="452" y="361"/>
                  </a:lnTo>
                  <a:lnTo>
                    <a:pt x="436" y="363"/>
                  </a:lnTo>
                  <a:lnTo>
                    <a:pt x="421" y="364"/>
                  </a:lnTo>
                  <a:lnTo>
                    <a:pt x="408" y="368"/>
                  </a:lnTo>
                  <a:lnTo>
                    <a:pt x="397" y="370"/>
                  </a:lnTo>
                  <a:lnTo>
                    <a:pt x="386" y="375"/>
                  </a:lnTo>
                  <a:lnTo>
                    <a:pt x="377" y="378"/>
                  </a:lnTo>
                  <a:lnTo>
                    <a:pt x="369" y="383"/>
                  </a:lnTo>
                  <a:lnTo>
                    <a:pt x="363" y="389"/>
                  </a:lnTo>
                  <a:lnTo>
                    <a:pt x="359" y="393"/>
                  </a:lnTo>
                  <a:lnTo>
                    <a:pt x="357" y="400"/>
                  </a:lnTo>
                  <a:lnTo>
                    <a:pt x="357" y="406"/>
                  </a:lnTo>
                  <a:lnTo>
                    <a:pt x="358" y="412"/>
                  </a:lnTo>
                  <a:lnTo>
                    <a:pt x="362" y="419"/>
                  </a:lnTo>
                  <a:lnTo>
                    <a:pt x="368" y="426"/>
                  </a:lnTo>
                  <a:lnTo>
                    <a:pt x="376" y="434"/>
                  </a:lnTo>
                  <a:lnTo>
                    <a:pt x="386" y="441"/>
                  </a:lnTo>
                  <a:lnTo>
                    <a:pt x="400" y="448"/>
                  </a:lnTo>
                  <a:lnTo>
                    <a:pt x="415" y="457"/>
                  </a:lnTo>
                  <a:lnTo>
                    <a:pt x="433" y="464"/>
                  </a:lnTo>
                  <a:lnTo>
                    <a:pt x="454" y="472"/>
                  </a:lnTo>
                  <a:lnTo>
                    <a:pt x="477" y="480"/>
                  </a:lnTo>
                  <a:lnTo>
                    <a:pt x="504" y="487"/>
                  </a:lnTo>
                  <a:lnTo>
                    <a:pt x="533" y="495"/>
                  </a:lnTo>
                  <a:lnTo>
                    <a:pt x="565" y="502"/>
                  </a:lnTo>
                  <a:lnTo>
                    <a:pt x="601" y="509"/>
                  </a:lnTo>
                  <a:lnTo>
                    <a:pt x="615" y="513"/>
                  </a:lnTo>
                  <a:lnTo>
                    <a:pt x="627" y="516"/>
                  </a:lnTo>
                  <a:lnTo>
                    <a:pt x="639" y="520"/>
                  </a:lnTo>
                  <a:lnTo>
                    <a:pt x="649" y="524"/>
                  </a:lnTo>
                  <a:lnTo>
                    <a:pt x="658" y="528"/>
                  </a:lnTo>
                  <a:lnTo>
                    <a:pt x="665" y="532"/>
                  </a:lnTo>
                  <a:lnTo>
                    <a:pt x="672" y="537"/>
                  </a:lnTo>
                  <a:lnTo>
                    <a:pt x="678" y="542"/>
                  </a:lnTo>
                  <a:lnTo>
                    <a:pt x="684" y="548"/>
                  </a:lnTo>
                  <a:lnTo>
                    <a:pt x="688" y="552"/>
                  </a:lnTo>
                  <a:lnTo>
                    <a:pt x="691" y="557"/>
                  </a:lnTo>
                  <a:lnTo>
                    <a:pt x="693" y="563"/>
                  </a:lnTo>
                  <a:lnTo>
                    <a:pt x="697" y="573"/>
                  </a:lnTo>
                  <a:lnTo>
                    <a:pt x="698" y="584"/>
                  </a:lnTo>
                  <a:lnTo>
                    <a:pt x="697" y="593"/>
                  </a:lnTo>
                  <a:lnTo>
                    <a:pt x="695" y="603"/>
                  </a:lnTo>
                  <a:lnTo>
                    <a:pt x="692" y="611"/>
                  </a:lnTo>
                  <a:lnTo>
                    <a:pt x="689" y="619"/>
                  </a:lnTo>
                  <a:lnTo>
                    <a:pt x="682" y="629"/>
                  </a:lnTo>
                  <a:lnTo>
                    <a:pt x="678" y="633"/>
                  </a:lnTo>
                  <a:lnTo>
                    <a:pt x="462" y="697"/>
                  </a:lnTo>
                  <a:lnTo>
                    <a:pt x="146" y="4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235"/>
            <p:cNvSpPr/>
            <p:nvPr/>
          </p:nvSpPr>
          <p:spPr>
            <a:xfrm>
              <a:off x="8334360" y="5340240"/>
              <a:ext cx="149040" cy="583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83" h="354">
                  <a:moveTo>
                    <a:pt x="55" y="323"/>
                  </a:moveTo>
                  <a:lnTo>
                    <a:pt x="596" y="268"/>
                  </a:lnTo>
                  <a:lnTo>
                    <a:pt x="609" y="271"/>
                  </a:lnTo>
                  <a:lnTo>
                    <a:pt x="644" y="281"/>
                  </a:lnTo>
                  <a:lnTo>
                    <a:pt x="666" y="285"/>
                  </a:lnTo>
                  <a:lnTo>
                    <a:pt x="691" y="291"/>
                  </a:lnTo>
                  <a:lnTo>
                    <a:pt x="718" y="296"/>
                  </a:lnTo>
                  <a:lnTo>
                    <a:pt x="743" y="299"/>
                  </a:lnTo>
                  <a:lnTo>
                    <a:pt x="752" y="301"/>
                  </a:lnTo>
                  <a:lnTo>
                    <a:pt x="761" y="303"/>
                  </a:lnTo>
                  <a:lnTo>
                    <a:pt x="769" y="306"/>
                  </a:lnTo>
                  <a:lnTo>
                    <a:pt x="777" y="310"/>
                  </a:lnTo>
                  <a:lnTo>
                    <a:pt x="792" y="319"/>
                  </a:lnTo>
                  <a:lnTo>
                    <a:pt x="806" y="329"/>
                  </a:lnTo>
                  <a:lnTo>
                    <a:pt x="827" y="346"/>
                  </a:lnTo>
                  <a:lnTo>
                    <a:pt x="836" y="354"/>
                  </a:lnTo>
                  <a:lnTo>
                    <a:pt x="857" y="347"/>
                  </a:lnTo>
                  <a:lnTo>
                    <a:pt x="881" y="340"/>
                  </a:lnTo>
                  <a:lnTo>
                    <a:pt x="909" y="333"/>
                  </a:lnTo>
                  <a:lnTo>
                    <a:pt x="936" y="325"/>
                  </a:lnTo>
                  <a:lnTo>
                    <a:pt x="948" y="320"/>
                  </a:lnTo>
                  <a:lnTo>
                    <a:pt x="959" y="316"/>
                  </a:lnTo>
                  <a:lnTo>
                    <a:pt x="969" y="310"/>
                  </a:lnTo>
                  <a:lnTo>
                    <a:pt x="976" y="304"/>
                  </a:lnTo>
                  <a:lnTo>
                    <a:pt x="978" y="302"/>
                  </a:lnTo>
                  <a:lnTo>
                    <a:pt x="980" y="298"/>
                  </a:lnTo>
                  <a:lnTo>
                    <a:pt x="982" y="295"/>
                  </a:lnTo>
                  <a:lnTo>
                    <a:pt x="983" y="291"/>
                  </a:lnTo>
                  <a:lnTo>
                    <a:pt x="982" y="288"/>
                  </a:lnTo>
                  <a:lnTo>
                    <a:pt x="982" y="284"/>
                  </a:lnTo>
                  <a:lnTo>
                    <a:pt x="979" y="281"/>
                  </a:lnTo>
                  <a:lnTo>
                    <a:pt x="977" y="276"/>
                  </a:lnTo>
                  <a:lnTo>
                    <a:pt x="970" y="265"/>
                  </a:lnTo>
                  <a:lnTo>
                    <a:pt x="965" y="255"/>
                  </a:lnTo>
                  <a:lnTo>
                    <a:pt x="962" y="244"/>
                  </a:lnTo>
                  <a:lnTo>
                    <a:pt x="961" y="234"/>
                  </a:lnTo>
                  <a:lnTo>
                    <a:pt x="962" y="213"/>
                  </a:lnTo>
                  <a:lnTo>
                    <a:pt x="965" y="194"/>
                  </a:lnTo>
                  <a:lnTo>
                    <a:pt x="966" y="185"/>
                  </a:lnTo>
                  <a:lnTo>
                    <a:pt x="968" y="177"/>
                  </a:lnTo>
                  <a:lnTo>
                    <a:pt x="968" y="170"/>
                  </a:lnTo>
                  <a:lnTo>
                    <a:pt x="966" y="164"/>
                  </a:lnTo>
                  <a:lnTo>
                    <a:pt x="964" y="159"/>
                  </a:lnTo>
                  <a:lnTo>
                    <a:pt x="961" y="156"/>
                  </a:lnTo>
                  <a:lnTo>
                    <a:pt x="954" y="153"/>
                  </a:lnTo>
                  <a:lnTo>
                    <a:pt x="945" y="152"/>
                  </a:lnTo>
                  <a:lnTo>
                    <a:pt x="933" y="153"/>
                  </a:lnTo>
                  <a:lnTo>
                    <a:pt x="922" y="155"/>
                  </a:lnTo>
                  <a:lnTo>
                    <a:pt x="910" y="157"/>
                  </a:lnTo>
                  <a:lnTo>
                    <a:pt x="900" y="159"/>
                  </a:lnTo>
                  <a:lnTo>
                    <a:pt x="878" y="167"/>
                  </a:lnTo>
                  <a:lnTo>
                    <a:pt x="854" y="176"/>
                  </a:lnTo>
                  <a:lnTo>
                    <a:pt x="831" y="184"/>
                  </a:lnTo>
                  <a:lnTo>
                    <a:pt x="805" y="192"/>
                  </a:lnTo>
                  <a:lnTo>
                    <a:pt x="790" y="194"/>
                  </a:lnTo>
                  <a:lnTo>
                    <a:pt x="776" y="197"/>
                  </a:lnTo>
                  <a:lnTo>
                    <a:pt x="760" y="198"/>
                  </a:lnTo>
                  <a:lnTo>
                    <a:pt x="743" y="199"/>
                  </a:lnTo>
                  <a:lnTo>
                    <a:pt x="727" y="198"/>
                  </a:lnTo>
                  <a:lnTo>
                    <a:pt x="713" y="194"/>
                  </a:lnTo>
                  <a:lnTo>
                    <a:pt x="701" y="190"/>
                  </a:lnTo>
                  <a:lnTo>
                    <a:pt x="691" y="185"/>
                  </a:lnTo>
                  <a:lnTo>
                    <a:pt x="672" y="170"/>
                  </a:lnTo>
                  <a:lnTo>
                    <a:pt x="655" y="155"/>
                  </a:lnTo>
                  <a:lnTo>
                    <a:pt x="645" y="146"/>
                  </a:lnTo>
                  <a:lnTo>
                    <a:pt x="636" y="139"/>
                  </a:lnTo>
                  <a:lnTo>
                    <a:pt x="624" y="132"/>
                  </a:lnTo>
                  <a:lnTo>
                    <a:pt x="613" y="126"/>
                  </a:lnTo>
                  <a:lnTo>
                    <a:pt x="599" y="123"/>
                  </a:lnTo>
                  <a:lnTo>
                    <a:pt x="582" y="119"/>
                  </a:lnTo>
                  <a:lnTo>
                    <a:pt x="563" y="119"/>
                  </a:lnTo>
                  <a:lnTo>
                    <a:pt x="541" y="121"/>
                  </a:lnTo>
                  <a:lnTo>
                    <a:pt x="548" y="110"/>
                  </a:lnTo>
                  <a:lnTo>
                    <a:pt x="554" y="100"/>
                  </a:lnTo>
                  <a:lnTo>
                    <a:pt x="558" y="89"/>
                  </a:lnTo>
                  <a:lnTo>
                    <a:pt x="560" y="80"/>
                  </a:lnTo>
                  <a:lnTo>
                    <a:pt x="561" y="72"/>
                  </a:lnTo>
                  <a:lnTo>
                    <a:pt x="561" y="62"/>
                  </a:lnTo>
                  <a:lnTo>
                    <a:pt x="558" y="55"/>
                  </a:lnTo>
                  <a:lnTo>
                    <a:pt x="554" y="47"/>
                  </a:lnTo>
                  <a:lnTo>
                    <a:pt x="548" y="40"/>
                  </a:lnTo>
                  <a:lnTo>
                    <a:pt x="540" y="33"/>
                  </a:lnTo>
                  <a:lnTo>
                    <a:pt x="530" y="27"/>
                  </a:lnTo>
                  <a:lnTo>
                    <a:pt x="518" y="21"/>
                  </a:lnTo>
                  <a:lnTo>
                    <a:pt x="504" y="16"/>
                  </a:lnTo>
                  <a:lnTo>
                    <a:pt x="489" y="10"/>
                  </a:lnTo>
                  <a:lnTo>
                    <a:pt x="470" y="5"/>
                  </a:lnTo>
                  <a:lnTo>
                    <a:pt x="449" y="0"/>
                  </a:lnTo>
                  <a:lnTo>
                    <a:pt x="109" y="158"/>
                  </a:lnTo>
                  <a:lnTo>
                    <a:pt x="0" y="199"/>
                  </a:lnTo>
                  <a:lnTo>
                    <a:pt x="0" y="299"/>
                  </a:lnTo>
                  <a:lnTo>
                    <a:pt x="55" y="3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236"/>
            <p:cNvSpPr/>
            <p:nvPr/>
          </p:nvSpPr>
          <p:spPr>
            <a:xfrm>
              <a:off x="8192880" y="5500440"/>
              <a:ext cx="188280" cy="66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244" h="409">
                  <a:moveTo>
                    <a:pt x="933" y="193"/>
                  </a:moveTo>
                  <a:lnTo>
                    <a:pt x="971" y="223"/>
                  </a:lnTo>
                  <a:lnTo>
                    <a:pt x="1011" y="254"/>
                  </a:lnTo>
                  <a:lnTo>
                    <a:pt x="1053" y="283"/>
                  </a:lnTo>
                  <a:lnTo>
                    <a:pt x="1095" y="313"/>
                  </a:lnTo>
                  <a:lnTo>
                    <a:pt x="1137" y="341"/>
                  </a:lnTo>
                  <a:lnTo>
                    <a:pt x="1176" y="367"/>
                  </a:lnTo>
                  <a:lnTo>
                    <a:pt x="1213" y="389"/>
                  </a:lnTo>
                  <a:lnTo>
                    <a:pt x="1244" y="409"/>
                  </a:lnTo>
                  <a:lnTo>
                    <a:pt x="1065" y="401"/>
                  </a:lnTo>
                  <a:lnTo>
                    <a:pt x="1063" y="396"/>
                  </a:lnTo>
                  <a:lnTo>
                    <a:pt x="1060" y="393"/>
                  </a:lnTo>
                  <a:lnTo>
                    <a:pt x="1056" y="390"/>
                  </a:lnTo>
                  <a:lnTo>
                    <a:pt x="1051" y="389"/>
                  </a:lnTo>
                  <a:lnTo>
                    <a:pt x="1041" y="386"/>
                  </a:lnTo>
                  <a:lnTo>
                    <a:pt x="1028" y="384"/>
                  </a:lnTo>
                  <a:lnTo>
                    <a:pt x="998" y="384"/>
                  </a:lnTo>
                  <a:lnTo>
                    <a:pt x="964" y="383"/>
                  </a:lnTo>
                  <a:lnTo>
                    <a:pt x="945" y="382"/>
                  </a:lnTo>
                  <a:lnTo>
                    <a:pt x="926" y="377"/>
                  </a:lnTo>
                  <a:lnTo>
                    <a:pt x="917" y="375"/>
                  </a:lnTo>
                  <a:lnTo>
                    <a:pt x="908" y="372"/>
                  </a:lnTo>
                  <a:lnTo>
                    <a:pt x="898" y="367"/>
                  </a:lnTo>
                  <a:lnTo>
                    <a:pt x="890" y="362"/>
                  </a:lnTo>
                  <a:lnTo>
                    <a:pt x="881" y="356"/>
                  </a:lnTo>
                  <a:lnTo>
                    <a:pt x="873" y="349"/>
                  </a:lnTo>
                  <a:lnTo>
                    <a:pt x="863" y="341"/>
                  </a:lnTo>
                  <a:lnTo>
                    <a:pt x="856" y="333"/>
                  </a:lnTo>
                  <a:lnTo>
                    <a:pt x="848" y="323"/>
                  </a:lnTo>
                  <a:lnTo>
                    <a:pt x="840" y="312"/>
                  </a:lnTo>
                  <a:lnTo>
                    <a:pt x="833" y="299"/>
                  </a:lnTo>
                  <a:lnTo>
                    <a:pt x="827" y="285"/>
                  </a:lnTo>
                  <a:lnTo>
                    <a:pt x="815" y="279"/>
                  </a:lnTo>
                  <a:lnTo>
                    <a:pt x="806" y="272"/>
                  </a:lnTo>
                  <a:lnTo>
                    <a:pt x="799" y="266"/>
                  </a:lnTo>
                  <a:lnTo>
                    <a:pt x="793" y="259"/>
                  </a:lnTo>
                  <a:lnTo>
                    <a:pt x="784" y="247"/>
                  </a:lnTo>
                  <a:lnTo>
                    <a:pt x="777" y="235"/>
                  </a:lnTo>
                  <a:lnTo>
                    <a:pt x="775" y="229"/>
                  </a:lnTo>
                  <a:lnTo>
                    <a:pt x="771" y="223"/>
                  </a:lnTo>
                  <a:lnTo>
                    <a:pt x="768" y="219"/>
                  </a:lnTo>
                  <a:lnTo>
                    <a:pt x="763" y="215"/>
                  </a:lnTo>
                  <a:lnTo>
                    <a:pt x="758" y="212"/>
                  </a:lnTo>
                  <a:lnTo>
                    <a:pt x="751" y="209"/>
                  </a:lnTo>
                  <a:lnTo>
                    <a:pt x="744" y="208"/>
                  </a:lnTo>
                  <a:lnTo>
                    <a:pt x="735" y="207"/>
                  </a:lnTo>
                  <a:lnTo>
                    <a:pt x="723" y="209"/>
                  </a:lnTo>
                  <a:lnTo>
                    <a:pt x="713" y="209"/>
                  </a:lnTo>
                  <a:lnTo>
                    <a:pt x="702" y="208"/>
                  </a:lnTo>
                  <a:lnTo>
                    <a:pt x="692" y="205"/>
                  </a:lnTo>
                  <a:lnTo>
                    <a:pt x="668" y="195"/>
                  </a:lnTo>
                  <a:lnTo>
                    <a:pt x="639" y="184"/>
                  </a:lnTo>
                  <a:lnTo>
                    <a:pt x="622" y="178"/>
                  </a:lnTo>
                  <a:lnTo>
                    <a:pt x="601" y="172"/>
                  </a:lnTo>
                  <a:lnTo>
                    <a:pt x="577" y="168"/>
                  </a:lnTo>
                  <a:lnTo>
                    <a:pt x="549" y="165"/>
                  </a:lnTo>
                  <a:lnTo>
                    <a:pt x="518" y="164"/>
                  </a:lnTo>
                  <a:lnTo>
                    <a:pt x="481" y="164"/>
                  </a:lnTo>
                  <a:lnTo>
                    <a:pt x="440" y="165"/>
                  </a:lnTo>
                  <a:lnTo>
                    <a:pt x="395" y="170"/>
                  </a:lnTo>
                  <a:lnTo>
                    <a:pt x="370" y="168"/>
                  </a:lnTo>
                  <a:lnTo>
                    <a:pt x="354" y="167"/>
                  </a:lnTo>
                  <a:lnTo>
                    <a:pt x="341" y="168"/>
                  </a:lnTo>
                  <a:lnTo>
                    <a:pt x="330" y="168"/>
                  </a:lnTo>
                  <a:lnTo>
                    <a:pt x="317" y="170"/>
                  </a:lnTo>
                  <a:lnTo>
                    <a:pt x="297" y="168"/>
                  </a:lnTo>
                  <a:lnTo>
                    <a:pt x="270" y="166"/>
                  </a:lnTo>
                  <a:lnTo>
                    <a:pt x="230" y="161"/>
                  </a:lnTo>
                  <a:lnTo>
                    <a:pt x="220" y="160"/>
                  </a:lnTo>
                  <a:lnTo>
                    <a:pt x="209" y="160"/>
                  </a:lnTo>
                  <a:lnTo>
                    <a:pt x="199" y="161"/>
                  </a:lnTo>
                  <a:lnTo>
                    <a:pt x="191" y="164"/>
                  </a:lnTo>
                  <a:lnTo>
                    <a:pt x="182" y="166"/>
                  </a:lnTo>
                  <a:lnTo>
                    <a:pt x="174" y="170"/>
                  </a:lnTo>
                  <a:lnTo>
                    <a:pt x="167" y="174"/>
                  </a:lnTo>
                  <a:lnTo>
                    <a:pt x="160" y="178"/>
                  </a:lnTo>
                  <a:lnTo>
                    <a:pt x="137" y="198"/>
                  </a:lnTo>
                  <a:lnTo>
                    <a:pt x="117" y="215"/>
                  </a:lnTo>
                  <a:lnTo>
                    <a:pt x="112" y="217"/>
                  </a:lnTo>
                  <a:lnTo>
                    <a:pt x="108" y="221"/>
                  </a:lnTo>
                  <a:lnTo>
                    <a:pt x="103" y="223"/>
                  </a:lnTo>
                  <a:lnTo>
                    <a:pt x="97" y="224"/>
                  </a:lnTo>
                  <a:lnTo>
                    <a:pt x="91" y="224"/>
                  </a:lnTo>
                  <a:lnTo>
                    <a:pt x="85" y="223"/>
                  </a:lnTo>
                  <a:lnTo>
                    <a:pt x="80" y="222"/>
                  </a:lnTo>
                  <a:lnTo>
                    <a:pt x="74" y="219"/>
                  </a:lnTo>
                  <a:lnTo>
                    <a:pt x="67" y="214"/>
                  </a:lnTo>
                  <a:lnTo>
                    <a:pt x="59" y="209"/>
                  </a:lnTo>
                  <a:lnTo>
                    <a:pt x="50" y="201"/>
                  </a:lnTo>
                  <a:lnTo>
                    <a:pt x="42" y="193"/>
                  </a:lnTo>
                  <a:lnTo>
                    <a:pt x="22" y="170"/>
                  </a:lnTo>
                  <a:lnTo>
                    <a:pt x="0" y="138"/>
                  </a:lnTo>
                  <a:lnTo>
                    <a:pt x="942" y="0"/>
                  </a:lnTo>
                  <a:lnTo>
                    <a:pt x="1057" y="98"/>
                  </a:lnTo>
                  <a:lnTo>
                    <a:pt x="1025" y="110"/>
                  </a:lnTo>
                  <a:lnTo>
                    <a:pt x="995" y="124"/>
                  </a:lnTo>
                  <a:lnTo>
                    <a:pt x="983" y="131"/>
                  </a:lnTo>
                  <a:lnTo>
                    <a:pt x="971" y="138"/>
                  </a:lnTo>
                  <a:lnTo>
                    <a:pt x="961" y="144"/>
                  </a:lnTo>
                  <a:lnTo>
                    <a:pt x="952" y="151"/>
                  </a:lnTo>
                  <a:lnTo>
                    <a:pt x="944" y="158"/>
                  </a:lnTo>
                  <a:lnTo>
                    <a:pt x="938" y="164"/>
                  </a:lnTo>
                  <a:lnTo>
                    <a:pt x="933" y="170"/>
                  </a:lnTo>
                  <a:lnTo>
                    <a:pt x="930" y="175"/>
                  </a:lnTo>
                  <a:lnTo>
                    <a:pt x="928" y="180"/>
                  </a:lnTo>
                  <a:lnTo>
                    <a:pt x="928" y="185"/>
                  </a:lnTo>
                  <a:lnTo>
                    <a:pt x="930" y="189"/>
                  </a:lnTo>
                  <a:lnTo>
                    <a:pt x="933" y="1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237"/>
            <p:cNvSpPr/>
            <p:nvPr/>
          </p:nvSpPr>
          <p:spPr>
            <a:xfrm>
              <a:off x="8342640" y="5385960"/>
              <a:ext cx="87120" cy="471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73" h="294">
                  <a:moveTo>
                    <a:pt x="573" y="116"/>
                  </a:moveTo>
                  <a:lnTo>
                    <a:pt x="547" y="124"/>
                  </a:lnTo>
                  <a:lnTo>
                    <a:pt x="521" y="132"/>
                  </a:lnTo>
                  <a:lnTo>
                    <a:pt x="496" y="140"/>
                  </a:lnTo>
                  <a:lnTo>
                    <a:pt x="470" y="150"/>
                  </a:lnTo>
                  <a:lnTo>
                    <a:pt x="442" y="159"/>
                  </a:lnTo>
                  <a:lnTo>
                    <a:pt x="413" y="168"/>
                  </a:lnTo>
                  <a:lnTo>
                    <a:pt x="381" y="178"/>
                  </a:lnTo>
                  <a:lnTo>
                    <a:pt x="348" y="188"/>
                  </a:lnTo>
                  <a:lnTo>
                    <a:pt x="351" y="194"/>
                  </a:lnTo>
                  <a:lnTo>
                    <a:pt x="352" y="201"/>
                  </a:lnTo>
                  <a:lnTo>
                    <a:pt x="352" y="208"/>
                  </a:lnTo>
                  <a:lnTo>
                    <a:pt x="351" y="214"/>
                  </a:lnTo>
                  <a:lnTo>
                    <a:pt x="348" y="220"/>
                  </a:lnTo>
                  <a:lnTo>
                    <a:pt x="346" y="225"/>
                  </a:lnTo>
                  <a:lnTo>
                    <a:pt x="341" y="230"/>
                  </a:lnTo>
                  <a:lnTo>
                    <a:pt x="337" y="236"/>
                  </a:lnTo>
                  <a:lnTo>
                    <a:pt x="326" y="245"/>
                  </a:lnTo>
                  <a:lnTo>
                    <a:pt x="312" y="255"/>
                  </a:lnTo>
                  <a:lnTo>
                    <a:pt x="297" y="262"/>
                  </a:lnTo>
                  <a:lnTo>
                    <a:pt x="281" y="269"/>
                  </a:lnTo>
                  <a:lnTo>
                    <a:pt x="248" y="280"/>
                  </a:lnTo>
                  <a:lnTo>
                    <a:pt x="219" y="289"/>
                  </a:lnTo>
                  <a:lnTo>
                    <a:pt x="198" y="292"/>
                  </a:lnTo>
                  <a:lnTo>
                    <a:pt x="190" y="294"/>
                  </a:lnTo>
                  <a:lnTo>
                    <a:pt x="0" y="47"/>
                  </a:lnTo>
                  <a:lnTo>
                    <a:pt x="478" y="0"/>
                  </a:lnTo>
                  <a:lnTo>
                    <a:pt x="573" y="1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238"/>
            <p:cNvSpPr/>
            <p:nvPr/>
          </p:nvSpPr>
          <p:spPr>
            <a:xfrm>
              <a:off x="5919480" y="5239080"/>
              <a:ext cx="398160" cy="366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4755" h="12586">
                  <a:moveTo>
                    <a:pt x="10804" y="9205"/>
                  </a:moveTo>
                  <a:lnTo>
                    <a:pt x="10829" y="9193"/>
                  </a:lnTo>
                  <a:lnTo>
                    <a:pt x="10894" y="9163"/>
                  </a:lnTo>
                  <a:lnTo>
                    <a:pt x="10939" y="9144"/>
                  </a:lnTo>
                  <a:lnTo>
                    <a:pt x="10988" y="9123"/>
                  </a:lnTo>
                  <a:lnTo>
                    <a:pt x="11014" y="9113"/>
                  </a:lnTo>
                  <a:lnTo>
                    <a:pt x="11041" y="9104"/>
                  </a:lnTo>
                  <a:lnTo>
                    <a:pt x="11069" y="9095"/>
                  </a:lnTo>
                  <a:lnTo>
                    <a:pt x="11097" y="9087"/>
                  </a:lnTo>
                  <a:lnTo>
                    <a:pt x="11125" y="9079"/>
                  </a:lnTo>
                  <a:lnTo>
                    <a:pt x="11153" y="9072"/>
                  </a:lnTo>
                  <a:lnTo>
                    <a:pt x="11181" y="9067"/>
                  </a:lnTo>
                  <a:lnTo>
                    <a:pt x="11210" y="9063"/>
                  </a:lnTo>
                  <a:lnTo>
                    <a:pt x="11237" y="9060"/>
                  </a:lnTo>
                  <a:lnTo>
                    <a:pt x="11263" y="9058"/>
                  </a:lnTo>
                  <a:lnTo>
                    <a:pt x="11288" y="9059"/>
                  </a:lnTo>
                  <a:lnTo>
                    <a:pt x="11312" y="9061"/>
                  </a:lnTo>
                  <a:lnTo>
                    <a:pt x="11336" y="9065"/>
                  </a:lnTo>
                  <a:lnTo>
                    <a:pt x="11357" y="9072"/>
                  </a:lnTo>
                  <a:lnTo>
                    <a:pt x="11376" y="9081"/>
                  </a:lnTo>
                  <a:lnTo>
                    <a:pt x="11394" y="9092"/>
                  </a:lnTo>
                  <a:lnTo>
                    <a:pt x="11409" y="9106"/>
                  </a:lnTo>
                  <a:lnTo>
                    <a:pt x="11422" y="9123"/>
                  </a:lnTo>
                  <a:lnTo>
                    <a:pt x="11433" y="9144"/>
                  </a:lnTo>
                  <a:lnTo>
                    <a:pt x="11442" y="9167"/>
                  </a:lnTo>
                  <a:lnTo>
                    <a:pt x="11451" y="9193"/>
                  </a:lnTo>
                  <a:lnTo>
                    <a:pt x="11465" y="9223"/>
                  </a:lnTo>
                  <a:lnTo>
                    <a:pt x="11484" y="9257"/>
                  </a:lnTo>
                  <a:lnTo>
                    <a:pt x="11506" y="9292"/>
                  </a:lnTo>
                  <a:lnTo>
                    <a:pt x="11532" y="9330"/>
                  </a:lnTo>
                  <a:lnTo>
                    <a:pt x="11561" y="9371"/>
                  </a:lnTo>
                  <a:lnTo>
                    <a:pt x="11594" y="9414"/>
                  </a:lnTo>
                  <a:lnTo>
                    <a:pt x="11629" y="9458"/>
                  </a:lnTo>
                  <a:lnTo>
                    <a:pt x="11666" y="9505"/>
                  </a:lnTo>
                  <a:lnTo>
                    <a:pt x="11706" y="9552"/>
                  </a:lnTo>
                  <a:lnTo>
                    <a:pt x="11746" y="9600"/>
                  </a:lnTo>
                  <a:lnTo>
                    <a:pt x="11788" y="9649"/>
                  </a:lnTo>
                  <a:lnTo>
                    <a:pt x="11876" y="9747"/>
                  </a:lnTo>
                  <a:lnTo>
                    <a:pt x="11966" y="9843"/>
                  </a:lnTo>
                  <a:lnTo>
                    <a:pt x="12053" y="9938"/>
                  </a:lnTo>
                  <a:lnTo>
                    <a:pt x="12138" y="10027"/>
                  </a:lnTo>
                  <a:lnTo>
                    <a:pt x="12217" y="10108"/>
                  </a:lnTo>
                  <a:lnTo>
                    <a:pt x="12287" y="10179"/>
                  </a:lnTo>
                  <a:lnTo>
                    <a:pt x="12346" y="10239"/>
                  </a:lnTo>
                  <a:lnTo>
                    <a:pt x="12391" y="10284"/>
                  </a:lnTo>
                  <a:lnTo>
                    <a:pt x="12420" y="10312"/>
                  </a:lnTo>
                  <a:lnTo>
                    <a:pt x="12430" y="10322"/>
                  </a:lnTo>
                  <a:lnTo>
                    <a:pt x="13175" y="9774"/>
                  </a:lnTo>
                  <a:lnTo>
                    <a:pt x="14066" y="11645"/>
                  </a:lnTo>
                  <a:lnTo>
                    <a:pt x="14076" y="11683"/>
                  </a:lnTo>
                  <a:lnTo>
                    <a:pt x="14083" y="11716"/>
                  </a:lnTo>
                  <a:lnTo>
                    <a:pt x="14085" y="11732"/>
                  </a:lnTo>
                  <a:lnTo>
                    <a:pt x="14088" y="11747"/>
                  </a:lnTo>
                  <a:lnTo>
                    <a:pt x="14089" y="11761"/>
                  </a:lnTo>
                  <a:lnTo>
                    <a:pt x="14089" y="11776"/>
                  </a:lnTo>
                  <a:lnTo>
                    <a:pt x="14089" y="11790"/>
                  </a:lnTo>
                  <a:lnTo>
                    <a:pt x="14088" y="11803"/>
                  </a:lnTo>
                  <a:lnTo>
                    <a:pt x="14087" y="11816"/>
                  </a:lnTo>
                  <a:lnTo>
                    <a:pt x="14084" y="11829"/>
                  </a:lnTo>
                  <a:lnTo>
                    <a:pt x="14081" y="11841"/>
                  </a:lnTo>
                  <a:lnTo>
                    <a:pt x="14078" y="11853"/>
                  </a:lnTo>
                  <a:lnTo>
                    <a:pt x="14074" y="11866"/>
                  </a:lnTo>
                  <a:lnTo>
                    <a:pt x="14070" y="11878"/>
                  </a:lnTo>
                  <a:lnTo>
                    <a:pt x="14059" y="11904"/>
                  </a:lnTo>
                  <a:lnTo>
                    <a:pt x="14046" y="11929"/>
                  </a:lnTo>
                  <a:lnTo>
                    <a:pt x="14030" y="11956"/>
                  </a:lnTo>
                  <a:lnTo>
                    <a:pt x="14013" y="11984"/>
                  </a:lnTo>
                  <a:lnTo>
                    <a:pt x="13971" y="12049"/>
                  </a:lnTo>
                  <a:lnTo>
                    <a:pt x="13919" y="12125"/>
                  </a:lnTo>
                  <a:lnTo>
                    <a:pt x="13906" y="12148"/>
                  </a:lnTo>
                  <a:lnTo>
                    <a:pt x="13895" y="12170"/>
                  </a:lnTo>
                  <a:lnTo>
                    <a:pt x="13887" y="12192"/>
                  </a:lnTo>
                  <a:lnTo>
                    <a:pt x="13881" y="12213"/>
                  </a:lnTo>
                  <a:lnTo>
                    <a:pt x="13878" y="12234"/>
                  </a:lnTo>
                  <a:lnTo>
                    <a:pt x="13876" y="12256"/>
                  </a:lnTo>
                  <a:lnTo>
                    <a:pt x="13876" y="12277"/>
                  </a:lnTo>
                  <a:lnTo>
                    <a:pt x="13878" y="12297"/>
                  </a:lnTo>
                  <a:lnTo>
                    <a:pt x="13881" y="12317"/>
                  </a:lnTo>
                  <a:lnTo>
                    <a:pt x="13886" y="12337"/>
                  </a:lnTo>
                  <a:lnTo>
                    <a:pt x="13893" y="12356"/>
                  </a:lnTo>
                  <a:lnTo>
                    <a:pt x="13900" y="12375"/>
                  </a:lnTo>
                  <a:lnTo>
                    <a:pt x="13909" y="12394"/>
                  </a:lnTo>
                  <a:lnTo>
                    <a:pt x="13918" y="12411"/>
                  </a:lnTo>
                  <a:lnTo>
                    <a:pt x="13928" y="12428"/>
                  </a:lnTo>
                  <a:lnTo>
                    <a:pt x="13939" y="12444"/>
                  </a:lnTo>
                  <a:lnTo>
                    <a:pt x="13950" y="12460"/>
                  </a:lnTo>
                  <a:lnTo>
                    <a:pt x="13962" y="12475"/>
                  </a:lnTo>
                  <a:lnTo>
                    <a:pt x="13974" y="12490"/>
                  </a:lnTo>
                  <a:lnTo>
                    <a:pt x="13986" y="12503"/>
                  </a:lnTo>
                  <a:lnTo>
                    <a:pt x="14008" y="12527"/>
                  </a:lnTo>
                  <a:lnTo>
                    <a:pt x="14030" y="12548"/>
                  </a:lnTo>
                  <a:lnTo>
                    <a:pt x="14063" y="12576"/>
                  </a:lnTo>
                  <a:lnTo>
                    <a:pt x="14076" y="12586"/>
                  </a:lnTo>
                  <a:lnTo>
                    <a:pt x="14084" y="12577"/>
                  </a:lnTo>
                  <a:lnTo>
                    <a:pt x="14108" y="12552"/>
                  </a:lnTo>
                  <a:lnTo>
                    <a:pt x="14143" y="12513"/>
                  </a:lnTo>
                  <a:lnTo>
                    <a:pt x="14188" y="12461"/>
                  </a:lnTo>
                  <a:lnTo>
                    <a:pt x="14243" y="12399"/>
                  </a:lnTo>
                  <a:lnTo>
                    <a:pt x="14303" y="12329"/>
                  </a:lnTo>
                  <a:lnTo>
                    <a:pt x="14367" y="12253"/>
                  </a:lnTo>
                  <a:lnTo>
                    <a:pt x="14432" y="12173"/>
                  </a:lnTo>
                  <a:lnTo>
                    <a:pt x="14466" y="12132"/>
                  </a:lnTo>
                  <a:lnTo>
                    <a:pt x="14498" y="12090"/>
                  </a:lnTo>
                  <a:lnTo>
                    <a:pt x="14529" y="12049"/>
                  </a:lnTo>
                  <a:lnTo>
                    <a:pt x="14560" y="12007"/>
                  </a:lnTo>
                  <a:lnTo>
                    <a:pt x="14589" y="11967"/>
                  </a:lnTo>
                  <a:lnTo>
                    <a:pt x="14617" y="11927"/>
                  </a:lnTo>
                  <a:lnTo>
                    <a:pt x="14643" y="11888"/>
                  </a:lnTo>
                  <a:lnTo>
                    <a:pt x="14667" y="11850"/>
                  </a:lnTo>
                  <a:lnTo>
                    <a:pt x="14689" y="11815"/>
                  </a:lnTo>
                  <a:lnTo>
                    <a:pt x="14707" y="11781"/>
                  </a:lnTo>
                  <a:lnTo>
                    <a:pt x="14725" y="11748"/>
                  </a:lnTo>
                  <a:lnTo>
                    <a:pt x="14737" y="11718"/>
                  </a:lnTo>
                  <a:lnTo>
                    <a:pt x="14747" y="11691"/>
                  </a:lnTo>
                  <a:lnTo>
                    <a:pt x="14753" y="11666"/>
                  </a:lnTo>
                  <a:lnTo>
                    <a:pt x="14755" y="11644"/>
                  </a:lnTo>
                  <a:lnTo>
                    <a:pt x="14752" y="11626"/>
                  </a:lnTo>
                  <a:lnTo>
                    <a:pt x="14735" y="11614"/>
                  </a:lnTo>
                  <a:lnTo>
                    <a:pt x="14689" y="11581"/>
                  </a:lnTo>
                  <a:lnTo>
                    <a:pt x="14658" y="11556"/>
                  </a:lnTo>
                  <a:lnTo>
                    <a:pt x="14624" y="11525"/>
                  </a:lnTo>
                  <a:lnTo>
                    <a:pt x="14605" y="11508"/>
                  </a:lnTo>
                  <a:lnTo>
                    <a:pt x="14585" y="11489"/>
                  </a:lnTo>
                  <a:lnTo>
                    <a:pt x="14565" y="11470"/>
                  </a:lnTo>
                  <a:lnTo>
                    <a:pt x="14545" y="11449"/>
                  </a:lnTo>
                  <a:lnTo>
                    <a:pt x="14525" y="11426"/>
                  </a:lnTo>
                  <a:lnTo>
                    <a:pt x="14504" y="11402"/>
                  </a:lnTo>
                  <a:lnTo>
                    <a:pt x="14484" y="11377"/>
                  </a:lnTo>
                  <a:lnTo>
                    <a:pt x="14462" y="11351"/>
                  </a:lnTo>
                  <a:lnTo>
                    <a:pt x="14442" y="11324"/>
                  </a:lnTo>
                  <a:lnTo>
                    <a:pt x="14422" y="11295"/>
                  </a:lnTo>
                  <a:lnTo>
                    <a:pt x="14403" y="11264"/>
                  </a:lnTo>
                  <a:lnTo>
                    <a:pt x="14384" y="11233"/>
                  </a:lnTo>
                  <a:lnTo>
                    <a:pt x="14366" y="11201"/>
                  </a:lnTo>
                  <a:lnTo>
                    <a:pt x="14350" y="11167"/>
                  </a:lnTo>
                  <a:lnTo>
                    <a:pt x="14332" y="11132"/>
                  </a:lnTo>
                  <a:lnTo>
                    <a:pt x="14318" y="11096"/>
                  </a:lnTo>
                  <a:lnTo>
                    <a:pt x="14304" y="11059"/>
                  </a:lnTo>
                  <a:lnTo>
                    <a:pt x="14292" y="11020"/>
                  </a:lnTo>
                  <a:lnTo>
                    <a:pt x="14281" y="10981"/>
                  </a:lnTo>
                  <a:lnTo>
                    <a:pt x="14272" y="10940"/>
                  </a:lnTo>
                  <a:lnTo>
                    <a:pt x="14265" y="10923"/>
                  </a:lnTo>
                  <a:lnTo>
                    <a:pt x="14243" y="10875"/>
                  </a:lnTo>
                  <a:lnTo>
                    <a:pt x="14207" y="10800"/>
                  </a:lnTo>
                  <a:lnTo>
                    <a:pt x="14161" y="10704"/>
                  </a:lnTo>
                  <a:lnTo>
                    <a:pt x="14106" y="10588"/>
                  </a:lnTo>
                  <a:lnTo>
                    <a:pt x="14041" y="10458"/>
                  </a:lnTo>
                  <a:lnTo>
                    <a:pt x="13970" y="10317"/>
                  </a:lnTo>
                  <a:lnTo>
                    <a:pt x="13893" y="10171"/>
                  </a:lnTo>
                  <a:lnTo>
                    <a:pt x="13853" y="10097"/>
                  </a:lnTo>
                  <a:lnTo>
                    <a:pt x="13811" y="10023"/>
                  </a:lnTo>
                  <a:lnTo>
                    <a:pt x="13770" y="9949"/>
                  </a:lnTo>
                  <a:lnTo>
                    <a:pt x="13729" y="9877"/>
                  </a:lnTo>
                  <a:lnTo>
                    <a:pt x="13686" y="9806"/>
                  </a:lnTo>
                  <a:lnTo>
                    <a:pt x="13645" y="9738"/>
                  </a:lnTo>
                  <a:lnTo>
                    <a:pt x="13603" y="9672"/>
                  </a:lnTo>
                  <a:lnTo>
                    <a:pt x="13561" y="9608"/>
                  </a:lnTo>
                  <a:lnTo>
                    <a:pt x="13520" y="9550"/>
                  </a:lnTo>
                  <a:lnTo>
                    <a:pt x="13480" y="9496"/>
                  </a:lnTo>
                  <a:lnTo>
                    <a:pt x="13440" y="9445"/>
                  </a:lnTo>
                  <a:lnTo>
                    <a:pt x="13402" y="9400"/>
                  </a:lnTo>
                  <a:lnTo>
                    <a:pt x="13365" y="9361"/>
                  </a:lnTo>
                  <a:lnTo>
                    <a:pt x="13329" y="9328"/>
                  </a:lnTo>
                  <a:lnTo>
                    <a:pt x="13295" y="9303"/>
                  </a:lnTo>
                  <a:lnTo>
                    <a:pt x="13263" y="9284"/>
                  </a:lnTo>
                  <a:lnTo>
                    <a:pt x="13257" y="9287"/>
                  </a:lnTo>
                  <a:lnTo>
                    <a:pt x="13240" y="9296"/>
                  </a:lnTo>
                  <a:lnTo>
                    <a:pt x="13213" y="9308"/>
                  </a:lnTo>
                  <a:lnTo>
                    <a:pt x="13176" y="9325"/>
                  </a:lnTo>
                  <a:lnTo>
                    <a:pt x="13132" y="9345"/>
                  </a:lnTo>
                  <a:lnTo>
                    <a:pt x="13081" y="9367"/>
                  </a:lnTo>
                  <a:lnTo>
                    <a:pt x="13023" y="9392"/>
                  </a:lnTo>
                  <a:lnTo>
                    <a:pt x="12961" y="9416"/>
                  </a:lnTo>
                  <a:lnTo>
                    <a:pt x="12894" y="9441"/>
                  </a:lnTo>
                  <a:lnTo>
                    <a:pt x="12824" y="9465"/>
                  </a:lnTo>
                  <a:lnTo>
                    <a:pt x="12789" y="9476"/>
                  </a:lnTo>
                  <a:lnTo>
                    <a:pt x="12753" y="9487"/>
                  </a:lnTo>
                  <a:lnTo>
                    <a:pt x="12717" y="9498"/>
                  </a:lnTo>
                  <a:lnTo>
                    <a:pt x="12680" y="9508"/>
                  </a:lnTo>
                  <a:lnTo>
                    <a:pt x="12644" y="9516"/>
                  </a:lnTo>
                  <a:lnTo>
                    <a:pt x="12608" y="9524"/>
                  </a:lnTo>
                  <a:lnTo>
                    <a:pt x="12572" y="9531"/>
                  </a:lnTo>
                  <a:lnTo>
                    <a:pt x="12536" y="9537"/>
                  </a:lnTo>
                  <a:lnTo>
                    <a:pt x="12502" y="9542"/>
                  </a:lnTo>
                  <a:lnTo>
                    <a:pt x="12468" y="9546"/>
                  </a:lnTo>
                  <a:lnTo>
                    <a:pt x="12433" y="9548"/>
                  </a:lnTo>
                  <a:lnTo>
                    <a:pt x="12401" y="9549"/>
                  </a:lnTo>
                  <a:lnTo>
                    <a:pt x="12391" y="9540"/>
                  </a:lnTo>
                  <a:lnTo>
                    <a:pt x="12361" y="9514"/>
                  </a:lnTo>
                  <a:lnTo>
                    <a:pt x="12313" y="9472"/>
                  </a:lnTo>
                  <a:lnTo>
                    <a:pt x="12252" y="9419"/>
                  </a:lnTo>
                  <a:lnTo>
                    <a:pt x="12177" y="9355"/>
                  </a:lnTo>
                  <a:lnTo>
                    <a:pt x="12092" y="9284"/>
                  </a:lnTo>
                  <a:lnTo>
                    <a:pt x="11999" y="9205"/>
                  </a:lnTo>
                  <a:lnTo>
                    <a:pt x="11899" y="9123"/>
                  </a:lnTo>
                  <a:lnTo>
                    <a:pt x="11795" y="9040"/>
                  </a:lnTo>
                  <a:lnTo>
                    <a:pt x="11690" y="8957"/>
                  </a:lnTo>
                  <a:lnTo>
                    <a:pt x="11638" y="8916"/>
                  </a:lnTo>
                  <a:lnTo>
                    <a:pt x="11586" y="8876"/>
                  </a:lnTo>
                  <a:lnTo>
                    <a:pt x="11534" y="8837"/>
                  </a:lnTo>
                  <a:lnTo>
                    <a:pt x="11484" y="8801"/>
                  </a:lnTo>
                  <a:lnTo>
                    <a:pt x="11434" y="8764"/>
                  </a:lnTo>
                  <a:lnTo>
                    <a:pt x="11387" y="8731"/>
                  </a:lnTo>
                  <a:lnTo>
                    <a:pt x="11341" y="8700"/>
                  </a:lnTo>
                  <a:lnTo>
                    <a:pt x="11296" y="8672"/>
                  </a:lnTo>
                  <a:lnTo>
                    <a:pt x="11255" y="8645"/>
                  </a:lnTo>
                  <a:lnTo>
                    <a:pt x="11216" y="8623"/>
                  </a:lnTo>
                  <a:lnTo>
                    <a:pt x="11180" y="8604"/>
                  </a:lnTo>
                  <a:lnTo>
                    <a:pt x="11147" y="8588"/>
                  </a:lnTo>
                  <a:lnTo>
                    <a:pt x="10736" y="8509"/>
                  </a:lnTo>
                  <a:lnTo>
                    <a:pt x="13782" y="1660"/>
                  </a:lnTo>
                  <a:lnTo>
                    <a:pt x="13780" y="1656"/>
                  </a:lnTo>
                  <a:lnTo>
                    <a:pt x="13771" y="1646"/>
                  </a:lnTo>
                  <a:lnTo>
                    <a:pt x="13757" y="1632"/>
                  </a:lnTo>
                  <a:lnTo>
                    <a:pt x="13737" y="1613"/>
                  </a:lnTo>
                  <a:lnTo>
                    <a:pt x="13725" y="1603"/>
                  </a:lnTo>
                  <a:lnTo>
                    <a:pt x="13710" y="1591"/>
                  </a:lnTo>
                  <a:lnTo>
                    <a:pt x="13694" y="1580"/>
                  </a:lnTo>
                  <a:lnTo>
                    <a:pt x="13676" y="1568"/>
                  </a:lnTo>
                  <a:lnTo>
                    <a:pt x="13657" y="1557"/>
                  </a:lnTo>
                  <a:lnTo>
                    <a:pt x="13636" y="1545"/>
                  </a:lnTo>
                  <a:lnTo>
                    <a:pt x="13613" y="1534"/>
                  </a:lnTo>
                  <a:lnTo>
                    <a:pt x="13588" y="1524"/>
                  </a:lnTo>
                  <a:lnTo>
                    <a:pt x="13560" y="1514"/>
                  </a:lnTo>
                  <a:lnTo>
                    <a:pt x="13532" y="1505"/>
                  </a:lnTo>
                  <a:lnTo>
                    <a:pt x="13501" y="1497"/>
                  </a:lnTo>
                  <a:lnTo>
                    <a:pt x="13468" y="1489"/>
                  </a:lnTo>
                  <a:lnTo>
                    <a:pt x="13433" y="1483"/>
                  </a:lnTo>
                  <a:lnTo>
                    <a:pt x="13396" y="1478"/>
                  </a:lnTo>
                  <a:lnTo>
                    <a:pt x="13357" y="1475"/>
                  </a:lnTo>
                  <a:lnTo>
                    <a:pt x="13315" y="1473"/>
                  </a:lnTo>
                  <a:lnTo>
                    <a:pt x="13272" y="1474"/>
                  </a:lnTo>
                  <a:lnTo>
                    <a:pt x="13226" y="1476"/>
                  </a:lnTo>
                  <a:lnTo>
                    <a:pt x="13177" y="1482"/>
                  </a:lnTo>
                  <a:lnTo>
                    <a:pt x="13127" y="1489"/>
                  </a:lnTo>
                  <a:lnTo>
                    <a:pt x="13074" y="1498"/>
                  </a:lnTo>
                  <a:lnTo>
                    <a:pt x="13019" y="1510"/>
                  </a:lnTo>
                  <a:lnTo>
                    <a:pt x="12961" y="1525"/>
                  </a:lnTo>
                  <a:lnTo>
                    <a:pt x="12901" y="1542"/>
                  </a:lnTo>
                  <a:lnTo>
                    <a:pt x="12894" y="1542"/>
                  </a:lnTo>
                  <a:lnTo>
                    <a:pt x="12873" y="1542"/>
                  </a:lnTo>
                  <a:lnTo>
                    <a:pt x="12841" y="1541"/>
                  </a:lnTo>
                  <a:lnTo>
                    <a:pt x="12798" y="1538"/>
                  </a:lnTo>
                  <a:lnTo>
                    <a:pt x="12747" y="1535"/>
                  </a:lnTo>
                  <a:lnTo>
                    <a:pt x="12688" y="1530"/>
                  </a:lnTo>
                  <a:lnTo>
                    <a:pt x="12624" y="1523"/>
                  </a:lnTo>
                  <a:lnTo>
                    <a:pt x="12554" y="1513"/>
                  </a:lnTo>
                  <a:lnTo>
                    <a:pt x="12518" y="1507"/>
                  </a:lnTo>
                  <a:lnTo>
                    <a:pt x="12482" y="1501"/>
                  </a:lnTo>
                  <a:lnTo>
                    <a:pt x="12444" y="1493"/>
                  </a:lnTo>
                  <a:lnTo>
                    <a:pt x="12407" y="1485"/>
                  </a:lnTo>
                  <a:lnTo>
                    <a:pt x="12370" y="1475"/>
                  </a:lnTo>
                  <a:lnTo>
                    <a:pt x="12334" y="1465"/>
                  </a:lnTo>
                  <a:lnTo>
                    <a:pt x="12296" y="1455"/>
                  </a:lnTo>
                  <a:lnTo>
                    <a:pt x="12260" y="1443"/>
                  </a:lnTo>
                  <a:lnTo>
                    <a:pt x="12225" y="1430"/>
                  </a:lnTo>
                  <a:lnTo>
                    <a:pt x="12189" y="1416"/>
                  </a:lnTo>
                  <a:lnTo>
                    <a:pt x="12156" y="1401"/>
                  </a:lnTo>
                  <a:lnTo>
                    <a:pt x="12124" y="1385"/>
                  </a:lnTo>
                  <a:lnTo>
                    <a:pt x="12093" y="1368"/>
                  </a:lnTo>
                  <a:lnTo>
                    <a:pt x="12062" y="1348"/>
                  </a:lnTo>
                  <a:lnTo>
                    <a:pt x="12035" y="1328"/>
                  </a:lnTo>
                  <a:lnTo>
                    <a:pt x="12009" y="1307"/>
                  </a:lnTo>
                  <a:lnTo>
                    <a:pt x="11983" y="1306"/>
                  </a:lnTo>
                  <a:lnTo>
                    <a:pt x="11911" y="1301"/>
                  </a:lnTo>
                  <a:lnTo>
                    <a:pt x="11864" y="1297"/>
                  </a:lnTo>
                  <a:lnTo>
                    <a:pt x="11810" y="1291"/>
                  </a:lnTo>
                  <a:lnTo>
                    <a:pt x="11782" y="1287"/>
                  </a:lnTo>
                  <a:lnTo>
                    <a:pt x="11753" y="1282"/>
                  </a:lnTo>
                  <a:lnTo>
                    <a:pt x="11724" y="1277"/>
                  </a:lnTo>
                  <a:lnTo>
                    <a:pt x="11695" y="1270"/>
                  </a:lnTo>
                  <a:lnTo>
                    <a:pt x="11665" y="1264"/>
                  </a:lnTo>
                  <a:lnTo>
                    <a:pt x="11636" y="1256"/>
                  </a:lnTo>
                  <a:lnTo>
                    <a:pt x="11607" y="1248"/>
                  </a:lnTo>
                  <a:lnTo>
                    <a:pt x="11579" y="1238"/>
                  </a:lnTo>
                  <a:lnTo>
                    <a:pt x="11550" y="1228"/>
                  </a:lnTo>
                  <a:lnTo>
                    <a:pt x="11524" y="1216"/>
                  </a:lnTo>
                  <a:lnTo>
                    <a:pt x="11500" y="1204"/>
                  </a:lnTo>
                  <a:lnTo>
                    <a:pt x="11476" y="1191"/>
                  </a:lnTo>
                  <a:lnTo>
                    <a:pt x="11455" y="1177"/>
                  </a:lnTo>
                  <a:lnTo>
                    <a:pt x="11434" y="1162"/>
                  </a:lnTo>
                  <a:lnTo>
                    <a:pt x="11417" y="1145"/>
                  </a:lnTo>
                  <a:lnTo>
                    <a:pt x="11403" y="1127"/>
                  </a:lnTo>
                  <a:lnTo>
                    <a:pt x="11390" y="1107"/>
                  </a:lnTo>
                  <a:lnTo>
                    <a:pt x="11381" y="1087"/>
                  </a:lnTo>
                  <a:lnTo>
                    <a:pt x="11375" y="1066"/>
                  </a:lnTo>
                  <a:lnTo>
                    <a:pt x="11373" y="1043"/>
                  </a:lnTo>
                  <a:lnTo>
                    <a:pt x="11362" y="1036"/>
                  </a:lnTo>
                  <a:lnTo>
                    <a:pt x="11331" y="1019"/>
                  </a:lnTo>
                  <a:lnTo>
                    <a:pt x="11308" y="1008"/>
                  </a:lnTo>
                  <a:lnTo>
                    <a:pt x="11282" y="994"/>
                  </a:lnTo>
                  <a:lnTo>
                    <a:pt x="11253" y="981"/>
                  </a:lnTo>
                  <a:lnTo>
                    <a:pt x="11221" y="966"/>
                  </a:lnTo>
                  <a:lnTo>
                    <a:pt x="11185" y="952"/>
                  </a:lnTo>
                  <a:lnTo>
                    <a:pt x="11148" y="937"/>
                  </a:lnTo>
                  <a:lnTo>
                    <a:pt x="11108" y="923"/>
                  </a:lnTo>
                  <a:lnTo>
                    <a:pt x="11067" y="910"/>
                  </a:lnTo>
                  <a:lnTo>
                    <a:pt x="11024" y="899"/>
                  </a:lnTo>
                  <a:lnTo>
                    <a:pt x="10981" y="889"/>
                  </a:lnTo>
                  <a:lnTo>
                    <a:pt x="10959" y="885"/>
                  </a:lnTo>
                  <a:lnTo>
                    <a:pt x="10937" y="881"/>
                  </a:lnTo>
                  <a:lnTo>
                    <a:pt x="10914" y="878"/>
                  </a:lnTo>
                  <a:lnTo>
                    <a:pt x="10892" y="875"/>
                  </a:lnTo>
                  <a:lnTo>
                    <a:pt x="10875" y="865"/>
                  </a:lnTo>
                  <a:lnTo>
                    <a:pt x="10830" y="839"/>
                  </a:lnTo>
                  <a:lnTo>
                    <a:pt x="10798" y="823"/>
                  </a:lnTo>
                  <a:lnTo>
                    <a:pt x="10762" y="805"/>
                  </a:lnTo>
                  <a:lnTo>
                    <a:pt x="10724" y="786"/>
                  </a:lnTo>
                  <a:lnTo>
                    <a:pt x="10681" y="768"/>
                  </a:lnTo>
                  <a:lnTo>
                    <a:pt x="10660" y="759"/>
                  </a:lnTo>
                  <a:lnTo>
                    <a:pt x="10639" y="751"/>
                  </a:lnTo>
                  <a:lnTo>
                    <a:pt x="10618" y="744"/>
                  </a:lnTo>
                  <a:lnTo>
                    <a:pt x="10596" y="737"/>
                  </a:lnTo>
                  <a:lnTo>
                    <a:pt x="10575" y="731"/>
                  </a:lnTo>
                  <a:lnTo>
                    <a:pt x="10553" y="726"/>
                  </a:lnTo>
                  <a:lnTo>
                    <a:pt x="10532" y="722"/>
                  </a:lnTo>
                  <a:lnTo>
                    <a:pt x="10512" y="719"/>
                  </a:lnTo>
                  <a:lnTo>
                    <a:pt x="10493" y="717"/>
                  </a:lnTo>
                  <a:lnTo>
                    <a:pt x="10474" y="716"/>
                  </a:lnTo>
                  <a:lnTo>
                    <a:pt x="10456" y="717"/>
                  </a:lnTo>
                  <a:lnTo>
                    <a:pt x="10439" y="720"/>
                  </a:lnTo>
                  <a:lnTo>
                    <a:pt x="10422" y="724"/>
                  </a:lnTo>
                  <a:lnTo>
                    <a:pt x="10408" y="730"/>
                  </a:lnTo>
                  <a:lnTo>
                    <a:pt x="10395" y="738"/>
                  </a:lnTo>
                  <a:lnTo>
                    <a:pt x="10383" y="748"/>
                  </a:lnTo>
                  <a:lnTo>
                    <a:pt x="10373" y="759"/>
                  </a:lnTo>
                  <a:lnTo>
                    <a:pt x="10364" y="773"/>
                  </a:lnTo>
                  <a:lnTo>
                    <a:pt x="10356" y="786"/>
                  </a:lnTo>
                  <a:lnTo>
                    <a:pt x="10350" y="799"/>
                  </a:lnTo>
                  <a:lnTo>
                    <a:pt x="10344" y="813"/>
                  </a:lnTo>
                  <a:lnTo>
                    <a:pt x="10339" y="828"/>
                  </a:lnTo>
                  <a:lnTo>
                    <a:pt x="10335" y="843"/>
                  </a:lnTo>
                  <a:lnTo>
                    <a:pt x="10332" y="858"/>
                  </a:lnTo>
                  <a:lnTo>
                    <a:pt x="10327" y="890"/>
                  </a:lnTo>
                  <a:lnTo>
                    <a:pt x="10324" y="921"/>
                  </a:lnTo>
                  <a:lnTo>
                    <a:pt x="10321" y="952"/>
                  </a:lnTo>
                  <a:lnTo>
                    <a:pt x="10317" y="981"/>
                  </a:lnTo>
                  <a:lnTo>
                    <a:pt x="10315" y="995"/>
                  </a:lnTo>
                  <a:lnTo>
                    <a:pt x="10313" y="1009"/>
                  </a:lnTo>
                  <a:lnTo>
                    <a:pt x="10310" y="1022"/>
                  </a:lnTo>
                  <a:lnTo>
                    <a:pt x="10307" y="1033"/>
                  </a:lnTo>
                  <a:lnTo>
                    <a:pt x="10301" y="1044"/>
                  </a:lnTo>
                  <a:lnTo>
                    <a:pt x="10297" y="1054"/>
                  </a:lnTo>
                  <a:lnTo>
                    <a:pt x="10291" y="1063"/>
                  </a:lnTo>
                  <a:lnTo>
                    <a:pt x="10284" y="1071"/>
                  </a:lnTo>
                  <a:lnTo>
                    <a:pt x="10275" y="1077"/>
                  </a:lnTo>
                  <a:lnTo>
                    <a:pt x="10266" y="1083"/>
                  </a:lnTo>
                  <a:lnTo>
                    <a:pt x="10255" y="1086"/>
                  </a:lnTo>
                  <a:lnTo>
                    <a:pt x="10243" y="1089"/>
                  </a:lnTo>
                  <a:lnTo>
                    <a:pt x="10230" y="1090"/>
                  </a:lnTo>
                  <a:lnTo>
                    <a:pt x="10214" y="1089"/>
                  </a:lnTo>
                  <a:lnTo>
                    <a:pt x="10197" y="1086"/>
                  </a:lnTo>
                  <a:lnTo>
                    <a:pt x="10177" y="1081"/>
                  </a:lnTo>
                  <a:lnTo>
                    <a:pt x="10157" y="1075"/>
                  </a:lnTo>
                  <a:lnTo>
                    <a:pt x="10137" y="1067"/>
                  </a:lnTo>
                  <a:lnTo>
                    <a:pt x="10119" y="1059"/>
                  </a:lnTo>
                  <a:lnTo>
                    <a:pt x="10101" y="1050"/>
                  </a:lnTo>
                  <a:lnTo>
                    <a:pt x="10085" y="1040"/>
                  </a:lnTo>
                  <a:lnTo>
                    <a:pt x="10069" y="1029"/>
                  </a:lnTo>
                  <a:lnTo>
                    <a:pt x="10053" y="1018"/>
                  </a:lnTo>
                  <a:lnTo>
                    <a:pt x="10038" y="1006"/>
                  </a:lnTo>
                  <a:lnTo>
                    <a:pt x="10024" y="993"/>
                  </a:lnTo>
                  <a:lnTo>
                    <a:pt x="10011" y="981"/>
                  </a:lnTo>
                  <a:lnTo>
                    <a:pt x="9998" y="967"/>
                  </a:lnTo>
                  <a:lnTo>
                    <a:pt x="9985" y="954"/>
                  </a:lnTo>
                  <a:lnTo>
                    <a:pt x="9960" y="925"/>
                  </a:lnTo>
                  <a:lnTo>
                    <a:pt x="9935" y="896"/>
                  </a:lnTo>
                  <a:lnTo>
                    <a:pt x="9910" y="864"/>
                  </a:lnTo>
                  <a:lnTo>
                    <a:pt x="9884" y="833"/>
                  </a:lnTo>
                  <a:lnTo>
                    <a:pt x="9857" y="802"/>
                  </a:lnTo>
                  <a:lnTo>
                    <a:pt x="9828" y="771"/>
                  </a:lnTo>
                  <a:lnTo>
                    <a:pt x="9812" y="754"/>
                  </a:lnTo>
                  <a:lnTo>
                    <a:pt x="9795" y="739"/>
                  </a:lnTo>
                  <a:lnTo>
                    <a:pt x="9778" y="723"/>
                  </a:lnTo>
                  <a:lnTo>
                    <a:pt x="9760" y="708"/>
                  </a:lnTo>
                  <a:lnTo>
                    <a:pt x="9741" y="694"/>
                  </a:lnTo>
                  <a:lnTo>
                    <a:pt x="9721" y="679"/>
                  </a:lnTo>
                  <a:lnTo>
                    <a:pt x="9700" y="665"/>
                  </a:lnTo>
                  <a:lnTo>
                    <a:pt x="9678" y="651"/>
                  </a:lnTo>
                  <a:lnTo>
                    <a:pt x="9627" y="621"/>
                  </a:lnTo>
                  <a:lnTo>
                    <a:pt x="9568" y="588"/>
                  </a:lnTo>
                  <a:lnTo>
                    <a:pt x="9502" y="554"/>
                  </a:lnTo>
                  <a:lnTo>
                    <a:pt x="9431" y="516"/>
                  </a:lnTo>
                  <a:lnTo>
                    <a:pt x="9356" y="478"/>
                  </a:lnTo>
                  <a:lnTo>
                    <a:pt x="9279" y="440"/>
                  </a:lnTo>
                  <a:lnTo>
                    <a:pt x="9202" y="403"/>
                  </a:lnTo>
                  <a:lnTo>
                    <a:pt x="9125" y="365"/>
                  </a:lnTo>
                  <a:lnTo>
                    <a:pt x="9053" y="330"/>
                  </a:lnTo>
                  <a:lnTo>
                    <a:pt x="8984" y="297"/>
                  </a:lnTo>
                  <a:lnTo>
                    <a:pt x="8922" y="267"/>
                  </a:lnTo>
                  <a:lnTo>
                    <a:pt x="8866" y="241"/>
                  </a:lnTo>
                  <a:lnTo>
                    <a:pt x="8821" y="220"/>
                  </a:lnTo>
                  <a:lnTo>
                    <a:pt x="8786" y="204"/>
                  </a:lnTo>
                  <a:lnTo>
                    <a:pt x="8764" y="194"/>
                  </a:lnTo>
                  <a:lnTo>
                    <a:pt x="8757" y="190"/>
                  </a:lnTo>
                  <a:lnTo>
                    <a:pt x="8751" y="186"/>
                  </a:lnTo>
                  <a:lnTo>
                    <a:pt x="8735" y="176"/>
                  </a:lnTo>
                  <a:lnTo>
                    <a:pt x="8708" y="159"/>
                  </a:lnTo>
                  <a:lnTo>
                    <a:pt x="8670" y="140"/>
                  </a:lnTo>
                  <a:lnTo>
                    <a:pt x="8646" y="129"/>
                  </a:lnTo>
                  <a:lnTo>
                    <a:pt x="8620" y="117"/>
                  </a:lnTo>
                  <a:lnTo>
                    <a:pt x="8591" y="106"/>
                  </a:lnTo>
                  <a:lnTo>
                    <a:pt x="8560" y="94"/>
                  </a:lnTo>
                  <a:lnTo>
                    <a:pt x="8525" y="82"/>
                  </a:lnTo>
                  <a:lnTo>
                    <a:pt x="8489" y="70"/>
                  </a:lnTo>
                  <a:lnTo>
                    <a:pt x="8449" y="59"/>
                  </a:lnTo>
                  <a:lnTo>
                    <a:pt x="8406" y="48"/>
                  </a:lnTo>
                  <a:lnTo>
                    <a:pt x="8362" y="37"/>
                  </a:lnTo>
                  <a:lnTo>
                    <a:pt x="8315" y="28"/>
                  </a:lnTo>
                  <a:lnTo>
                    <a:pt x="8264" y="20"/>
                  </a:lnTo>
                  <a:lnTo>
                    <a:pt x="8211" y="13"/>
                  </a:lnTo>
                  <a:lnTo>
                    <a:pt x="8155" y="7"/>
                  </a:lnTo>
                  <a:lnTo>
                    <a:pt x="8097" y="3"/>
                  </a:lnTo>
                  <a:lnTo>
                    <a:pt x="8035" y="0"/>
                  </a:lnTo>
                  <a:lnTo>
                    <a:pt x="7972" y="0"/>
                  </a:lnTo>
                  <a:lnTo>
                    <a:pt x="7905" y="1"/>
                  </a:lnTo>
                  <a:lnTo>
                    <a:pt x="7836" y="5"/>
                  </a:lnTo>
                  <a:lnTo>
                    <a:pt x="7764" y="10"/>
                  </a:lnTo>
                  <a:lnTo>
                    <a:pt x="7690" y="19"/>
                  </a:lnTo>
                  <a:lnTo>
                    <a:pt x="7613" y="30"/>
                  </a:lnTo>
                  <a:lnTo>
                    <a:pt x="7533" y="45"/>
                  </a:lnTo>
                  <a:lnTo>
                    <a:pt x="7451" y="62"/>
                  </a:lnTo>
                  <a:lnTo>
                    <a:pt x="7366" y="82"/>
                  </a:lnTo>
                  <a:lnTo>
                    <a:pt x="7284" y="103"/>
                  </a:lnTo>
                  <a:lnTo>
                    <a:pt x="7207" y="121"/>
                  </a:lnTo>
                  <a:lnTo>
                    <a:pt x="7136" y="138"/>
                  </a:lnTo>
                  <a:lnTo>
                    <a:pt x="7071" y="152"/>
                  </a:lnTo>
                  <a:lnTo>
                    <a:pt x="7010" y="166"/>
                  </a:lnTo>
                  <a:lnTo>
                    <a:pt x="6954" y="176"/>
                  </a:lnTo>
                  <a:lnTo>
                    <a:pt x="6902" y="185"/>
                  </a:lnTo>
                  <a:lnTo>
                    <a:pt x="6856" y="193"/>
                  </a:lnTo>
                  <a:lnTo>
                    <a:pt x="6813" y="198"/>
                  </a:lnTo>
                  <a:lnTo>
                    <a:pt x="6773" y="203"/>
                  </a:lnTo>
                  <a:lnTo>
                    <a:pt x="6737" y="206"/>
                  </a:lnTo>
                  <a:lnTo>
                    <a:pt x="6704" y="208"/>
                  </a:lnTo>
                  <a:lnTo>
                    <a:pt x="6674" y="209"/>
                  </a:lnTo>
                  <a:lnTo>
                    <a:pt x="6645" y="209"/>
                  </a:lnTo>
                  <a:lnTo>
                    <a:pt x="6620" y="209"/>
                  </a:lnTo>
                  <a:lnTo>
                    <a:pt x="6597" y="207"/>
                  </a:lnTo>
                  <a:lnTo>
                    <a:pt x="6575" y="205"/>
                  </a:lnTo>
                  <a:lnTo>
                    <a:pt x="6555" y="202"/>
                  </a:lnTo>
                  <a:lnTo>
                    <a:pt x="6536" y="199"/>
                  </a:lnTo>
                  <a:lnTo>
                    <a:pt x="6517" y="196"/>
                  </a:lnTo>
                  <a:lnTo>
                    <a:pt x="6483" y="189"/>
                  </a:lnTo>
                  <a:lnTo>
                    <a:pt x="6449" y="182"/>
                  </a:lnTo>
                  <a:lnTo>
                    <a:pt x="6431" y="178"/>
                  </a:lnTo>
                  <a:lnTo>
                    <a:pt x="6413" y="175"/>
                  </a:lnTo>
                  <a:lnTo>
                    <a:pt x="6392" y="173"/>
                  </a:lnTo>
                  <a:lnTo>
                    <a:pt x="6371" y="171"/>
                  </a:lnTo>
                  <a:lnTo>
                    <a:pt x="6349" y="170"/>
                  </a:lnTo>
                  <a:lnTo>
                    <a:pt x="6325" y="169"/>
                  </a:lnTo>
                  <a:lnTo>
                    <a:pt x="6298" y="169"/>
                  </a:lnTo>
                  <a:lnTo>
                    <a:pt x="6268" y="171"/>
                  </a:lnTo>
                  <a:lnTo>
                    <a:pt x="6209" y="175"/>
                  </a:lnTo>
                  <a:lnTo>
                    <a:pt x="6147" y="182"/>
                  </a:lnTo>
                  <a:lnTo>
                    <a:pt x="6084" y="190"/>
                  </a:lnTo>
                  <a:lnTo>
                    <a:pt x="6019" y="200"/>
                  </a:lnTo>
                  <a:lnTo>
                    <a:pt x="5987" y="206"/>
                  </a:lnTo>
                  <a:lnTo>
                    <a:pt x="5955" y="213"/>
                  </a:lnTo>
                  <a:lnTo>
                    <a:pt x="5923" y="219"/>
                  </a:lnTo>
                  <a:lnTo>
                    <a:pt x="5890" y="227"/>
                  </a:lnTo>
                  <a:lnTo>
                    <a:pt x="5858" y="235"/>
                  </a:lnTo>
                  <a:lnTo>
                    <a:pt x="5827" y="243"/>
                  </a:lnTo>
                  <a:lnTo>
                    <a:pt x="5796" y="252"/>
                  </a:lnTo>
                  <a:lnTo>
                    <a:pt x="5764" y="262"/>
                  </a:lnTo>
                  <a:lnTo>
                    <a:pt x="5734" y="272"/>
                  </a:lnTo>
                  <a:lnTo>
                    <a:pt x="5704" y="284"/>
                  </a:lnTo>
                  <a:lnTo>
                    <a:pt x="5675" y="295"/>
                  </a:lnTo>
                  <a:lnTo>
                    <a:pt x="5646" y="306"/>
                  </a:lnTo>
                  <a:lnTo>
                    <a:pt x="5617" y="319"/>
                  </a:lnTo>
                  <a:lnTo>
                    <a:pt x="5590" y="331"/>
                  </a:lnTo>
                  <a:lnTo>
                    <a:pt x="5564" y="345"/>
                  </a:lnTo>
                  <a:lnTo>
                    <a:pt x="5539" y="359"/>
                  </a:lnTo>
                  <a:lnTo>
                    <a:pt x="5514" y="373"/>
                  </a:lnTo>
                  <a:lnTo>
                    <a:pt x="5491" y="389"/>
                  </a:lnTo>
                  <a:lnTo>
                    <a:pt x="5469" y="405"/>
                  </a:lnTo>
                  <a:lnTo>
                    <a:pt x="5448" y="422"/>
                  </a:lnTo>
                  <a:lnTo>
                    <a:pt x="5428" y="439"/>
                  </a:lnTo>
                  <a:lnTo>
                    <a:pt x="5410" y="456"/>
                  </a:lnTo>
                  <a:lnTo>
                    <a:pt x="5393" y="475"/>
                  </a:lnTo>
                  <a:lnTo>
                    <a:pt x="5377" y="493"/>
                  </a:lnTo>
                  <a:lnTo>
                    <a:pt x="5361" y="514"/>
                  </a:lnTo>
                  <a:lnTo>
                    <a:pt x="5340" y="539"/>
                  </a:lnTo>
                  <a:lnTo>
                    <a:pt x="5315" y="567"/>
                  </a:lnTo>
                  <a:lnTo>
                    <a:pt x="5285" y="597"/>
                  </a:lnTo>
                  <a:lnTo>
                    <a:pt x="5251" y="629"/>
                  </a:lnTo>
                  <a:lnTo>
                    <a:pt x="5214" y="665"/>
                  </a:lnTo>
                  <a:lnTo>
                    <a:pt x="5173" y="702"/>
                  </a:lnTo>
                  <a:lnTo>
                    <a:pt x="5129" y="740"/>
                  </a:lnTo>
                  <a:lnTo>
                    <a:pt x="5082" y="781"/>
                  </a:lnTo>
                  <a:lnTo>
                    <a:pt x="5032" y="823"/>
                  </a:lnTo>
                  <a:lnTo>
                    <a:pt x="4979" y="865"/>
                  </a:lnTo>
                  <a:lnTo>
                    <a:pt x="4925" y="908"/>
                  </a:lnTo>
                  <a:lnTo>
                    <a:pt x="4868" y="952"/>
                  </a:lnTo>
                  <a:lnTo>
                    <a:pt x="4810" y="995"/>
                  </a:lnTo>
                  <a:lnTo>
                    <a:pt x="4750" y="1039"/>
                  </a:lnTo>
                  <a:lnTo>
                    <a:pt x="4689" y="1081"/>
                  </a:lnTo>
                  <a:lnTo>
                    <a:pt x="4627" y="1124"/>
                  </a:lnTo>
                  <a:lnTo>
                    <a:pt x="4565" y="1165"/>
                  </a:lnTo>
                  <a:lnTo>
                    <a:pt x="4501" y="1205"/>
                  </a:lnTo>
                  <a:lnTo>
                    <a:pt x="4438" y="1245"/>
                  </a:lnTo>
                  <a:lnTo>
                    <a:pt x="4374" y="1281"/>
                  </a:lnTo>
                  <a:lnTo>
                    <a:pt x="4312" y="1316"/>
                  </a:lnTo>
                  <a:lnTo>
                    <a:pt x="4249" y="1348"/>
                  </a:lnTo>
                  <a:lnTo>
                    <a:pt x="4187" y="1379"/>
                  </a:lnTo>
                  <a:lnTo>
                    <a:pt x="4126" y="1406"/>
                  </a:lnTo>
                  <a:lnTo>
                    <a:pt x="4067" y="1429"/>
                  </a:lnTo>
                  <a:lnTo>
                    <a:pt x="4010" y="1450"/>
                  </a:lnTo>
                  <a:lnTo>
                    <a:pt x="3953" y="1467"/>
                  </a:lnTo>
                  <a:lnTo>
                    <a:pt x="3899" y="1481"/>
                  </a:lnTo>
                  <a:lnTo>
                    <a:pt x="3847" y="1490"/>
                  </a:lnTo>
                  <a:lnTo>
                    <a:pt x="3798" y="1494"/>
                  </a:lnTo>
                  <a:lnTo>
                    <a:pt x="3751" y="1494"/>
                  </a:lnTo>
                  <a:lnTo>
                    <a:pt x="3706" y="1490"/>
                  </a:lnTo>
                  <a:lnTo>
                    <a:pt x="3660" y="1488"/>
                  </a:lnTo>
                  <a:lnTo>
                    <a:pt x="3612" y="1486"/>
                  </a:lnTo>
                  <a:lnTo>
                    <a:pt x="3564" y="1485"/>
                  </a:lnTo>
                  <a:lnTo>
                    <a:pt x="3516" y="1484"/>
                  </a:lnTo>
                  <a:lnTo>
                    <a:pt x="3466" y="1485"/>
                  </a:lnTo>
                  <a:lnTo>
                    <a:pt x="3417" y="1486"/>
                  </a:lnTo>
                  <a:lnTo>
                    <a:pt x="3367" y="1488"/>
                  </a:lnTo>
                  <a:lnTo>
                    <a:pt x="3318" y="1491"/>
                  </a:lnTo>
                  <a:lnTo>
                    <a:pt x="3269" y="1494"/>
                  </a:lnTo>
                  <a:lnTo>
                    <a:pt x="3219" y="1499"/>
                  </a:lnTo>
                  <a:lnTo>
                    <a:pt x="3171" y="1504"/>
                  </a:lnTo>
                  <a:lnTo>
                    <a:pt x="3122" y="1510"/>
                  </a:lnTo>
                  <a:lnTo>
                    <a:pt x="3075" y="1518"/>
                  </a:lnTo>
                  <a:lnTo>
                    <a:pt x="3029" y="1526"/>
                  </a:lnTo>
                  <a:lnTo>
                    <a:pt x="2982" y="1535"/>
                  </a:lnTo>
                  <a:lnTo>
                    <a:pt x="2937" y="1545"/>
                  </a:lnTo>
                  <a:lnTo>
                    <a:pt x="2894" y="1556"/>
                  </a:lnTo>
                  <a:lnTo>
                    <a:pt x="2851" y="1568"/>
                  </a:lnTo>
                  <a:lnTo>
                    <a:pt x="2810" y="1581"/>
                  </a:lnTo>
                  <a:lnTo>
                    <a:pt x="2771" y="1595"/>
                  </a:lnTo>
                  <a:lnTo>
                    <a:pt x="2733" y="1611"/>
                  </a:lnTo>
                  <a:lnTo>
                    <a:pt x="2697" y="1628"/>
                  </a:lnTo>
                  <a:lnTo>
                    <a:pt x="2663" y="1645"/>
                  </a:lnTo>
                  <a:lnTo>
                    <a:pt x="2632" y="1663"/>
                  </a:lnTo>
                  <a:lnTo>
                    <a:pt x="2601" y="1683"/>
                  </a:lnTo>
                  <a:lnTo>
                    <a:pt x="2574" y="1704"/>
                  </a:lnTo>
                  <a:lnTo>
                    <a:pt x="2550" y="1727"/>
                  </a:lnTo>
                  <a:lnTo>
                    <a:pt x="2528" y="1750"/>
                  </a:lnTo>
                  <a:lnTo>
                    <a:pt x="2508" y="1774"/>
                  </a:lnTo>
                  <a:lnTo>
                    <a:pt x="2491" y="1799"/>
                  </a:lnTo>
                  <a:lnTo>
                    <a:pt x="2478" y="1826"/>
                  </a:lnTo>
                  <a:lnTo>
                    <a:pt x="2467" y="1854"/>
                  </a:lnTo>
                  <a:lnTo>
                    <a:pt x="2458" y="1879"/>
                  </a:lnTo>
                  <a:lnTo>
                    <a:pt x="2451" y="1903"/>
                  </a:lnTo>
                  <a:lnTo>
                    <a:pt x="2446" y="1926"/>
                  </a:lnTo>
                  <a:lnTo>
                    <a:pt x="2443" y="1949"/>
                  </a:lnTo>
                  <a:lnTo>
                    <a:pt x="2442" y="1971"/>
                  </a:lnTo>
                  <a:lnTo>
                    <a:pt x="2442" y="1992"/>
                  </a:lnTo>
                  <a:lnTo>
                    <a:pt x="2445" y="2011"/>
                  </a:lnTo>
                  <a:lnTo>
                    <a:pt x="2449" y="2031"/>
                  </a:lnTo>
                  <a:lnTo>
                    <a:pt x="2454" y="2050"/>
                  </a:lnTo>
                  <a:lnTo>
                    <a:pt x="2461" y="2068"/>
                  </a:lnTo>
                  <a:lnTo>
                    <a:pt x="2470" y="2087"/>
                  </a:lnTo>
                  <a:lnTo>
                    <a:pt x="2480" y="2105"/>
                  </a:lnTo>
                  <a:lnTo>
                    <a:pt x="2492" y="2123"/>
                  </a:lnTo>
                  <a:lnTo>
                    <a:pt x="2506" y="2141"/>
                  </a:lnTo>
                  <a:lnTo>
                    <a:pt x="2521" y="2159"/>
                  </a:lnTo>
                  <a:lnTo>
                    <a:pt x="2537" y="2178"/>
                  </a:lnTo>
                  <a:lnTo>
                    <a:pt x="2554" y="2197"/>
                  </a:lnTo>
                  <a:lnTo>
                    <a:pt x="2573" y="2217"/>
                  </a:lnTo>
                  <a:lnTo>
                    <a:pt x="2592" y="2236"/>
                  </a:lnTo>
                  <a:lnTo>
                    <a:pt x="2636" y="2277"/>
                  </a:lnTo>
                  <a:lnTo>
                    <a:pt x="2683" y="2323"/>
                  </a:lnTo>
                  <a:lnTo>
                    <a:pt x="2734" y="2372"/>
                  </a:lnTo>
                  <a:lnTo>
                    <a:pt x="2790" y="2425"/>
                  </a:lnTo>
                  <a:lnTo>
                    <a:pt x="2818" y="2455"/>
                  </a:lnTo>
                  <a:lnTo>
                    <a:pt x="2847" y="2485"/>
                  </a:lnTo>
                  <a:lnTo>
                    <a:pt x="2878" y="2517"/>
                  </a:lnTo>
                  <a:lnTo>
                    <a:pt x="2909" y="2551"/>
                  </a:lnTo>
                  <a:lnTo>
                    <a:pt x="2976" y="2626"/>
                  </a:lnTo>
                  <a:lnTo>
                    <a:pt x="3050" y="2711"/>
                  </a:lnTo>
                  <a:lnTo>
                    <a:pt x="3089" y="2756"/>
                  </a:lnTo>
                  <a:lnTo>
                    <a:pt x="3130" y="2803"/>
                  </a:lnTo>
                  <a:lnTo>
                    <a:pt x="3170" y="2851"/>
                  </a:lnTo>
                  <a:lnTo>
                    <a:pt x="3211" y="2900"/>
                  </a:lnTo>
                  <a:lnTo>
                    <a:pt x="3252" y="2951"/>
                  </a:lnTo>
                  <a:lnTo>
                    <a:pt x="3292" y="3003"/>
                  </a:lnTo>
                  <a:lnTo>
                    <a:pt x="3332" y="3055"/>
                  </a:lnTo>
                  <a:lnTo>
                    <a:pt x="3370" y="3108"/>
                  </a:lnTo>
                  <a:lnTo>
                    <a:pt x="3409" y="3162"/>
                  </a:lnTo>
                  <a:lnTo>
                    <a:pt x="3444" y="3215"/>
                  </a:lnTo>
                  <a:lnTo>
                    <a:pt x="3478" y="3267"/>
                  </a:lnTo>
                  <a:lnTo>
                    <a:pt x="3511" y="3321"/>
                  </a:lnTo>
                  <a:lnTo>
                    <a:pt x="3539" y="3373"/>
                  </a:lnTo>
                  <a:lnTo>
                    <a:pt x="3566" y="3426"/>
                  </a:lnTo>
                  <a:lnTo>
                    <a:pt x="3589" y="3476"/>
                  </a:lnTo>
                  <a:lnTo>
                    <a:pt x="3608" y="3527"/>
                  </a:lnTo>
                  <a:lnTo>
                    <a:pt x="3624" y="3575"/>
                  </a:lnTo>
                  <a:lnTo>
                    <a:pt x="3636" y="3622"/>
                  </a:lnTo>
                  <a:lnTo>
                    <a:pt x="3644" y="3668"/>
                  </a:lnTo>
                  <a:lnTo>
                    <a:pt x="3646" y="3712"/>
                  </a:lnTo>
                  <a:lnTo>
                    <a:pt x="3644" y="3754"/>
                  </a:lnTo>
                  <a:lnTo>
                    <a:pt x="3636" y="3793"/>
                  </a:lnTo>
                  <a:lnTo>
                    <a:pt x="3621" y="3830"/>
                  </a:lnTo>
                  <a:lnTo>
                    <a:pt x="3602" y="3864"/>
                  </a:lnTo>
                  <a:lnTo>
                    <a:pt x="3576" y="3897"/>
                  </a:lnTo>
                  <a:lnTo>
                    <a:pt x="3544" y="3925"/>
                  </a:lnTo>
                  <a:lnTo>
                    <a:pt x="3505" y="3950"/>
                  </a:lnTo>
                  <a:lnTo>
                    <a:pt x="3457" y="3972"/>
                  </a:lnTo>
                  <a:lnTo>
                    <a:pt x="3410" y="3992"/>
                  </a:lnTo>
                  <a:lnTo>
                    <a:pt x="3364" y="4007"/>
                  </a:lnTo>
                  <a:lnTo>
                    <a:pt x="3321" y="4018"/>
                  </a:lnTo>
                  <a:lnTo>
                    <a:pt x="3282" y="4027"/>
                  </a:lnTo>
                  <a:lnTo>
                    <a:pt x="3243" y="4033"/>
                  </a:lnTo>
                  <a:lnTo>
                    <a:pt x="3209" y="4037"/>
                  </a:lnTo>
                  <a:lnTo>
                    <a:pt x="3176" y="4037"/>
                  </a:lnTo>
                  <a:lnTo>
                    <a:pt x="3145" y="4036"/>
                  </a:lnTo>
                  <a:lnTo>
                    <a:pt x="3115" y="4032"/>
                  </a:lnTo>
                  <a:lnTo>
                    <a:pt x="3088" y="4026"/>
                  </a:lnTo>
                  <a:lnTo>
                    <a:pt x="3062" y="4019"/>
                  </a:lnTo>
                  <a:lnTo>
                    <a:pt x="3038" y="4009"/>
                  </a:lnTo>
                  <a:lnTo>
                    <a:pt x="3015" y="3998"/>
                  </a:lnTo>
                  <a:lnTo>
                    <a:pt x="2992" y="3985"/>
                  </a:lnTo>
                  <a:lnTo>
                    <a:pt x="2971" y="3971"/>
                  </a:lnTo>
                  <a:lnTo>
                    <a:pt x="2952" y="3956"/>
                  </a:lnTo>
                  <a:lnTo>
                    <a:pt x="2933" y="3941"/>
                  </a:lnTo>
                  <a:lnTo>
                    <a:pt x="2914" y="3924"/>
                  </a:lnTo>
                  <a:lnTo>
                    <a:pt x="2896" y="3907"/>
                  </a:lnTo>
                  <a:lnTo>
                    <a:pt x="2879" y="3890"/>
                  </a:lnTo>
                  <a:lnTo>
                    <a:pt x="2843" y="3853"/>
                  </a:lnTo>
                  <a:lnTo>
                    <a:pt x="2809" y="3817"/>
                  </a:lnTo>
                  <a:lnTo>
                    <a:pt x="2791" y="3799"/>
                  </a:lnTo>
                  <a:lnTo>
                    <a:pt x="2773" y="3782"/>
                  </a:lnTo>
                  <a:lnTo>
                    <a:pt x="2754" y="3766"/>
                  </a:lnTo>
                  <a:lnTo>
                    <a:pt x="2733" y="3749"/>
                  </a:lnTo>
                  <a:lnTo>
                    <a:pt x="2713" y="3735"/>
                  </a:lnTo>
                  <a:lnTo>
                    <a:pt x="2691" y="3721"/>
                  </a:lnTo>
                  <a:lnTo>
                    <a:pt x="2669" y="3709"/>
                  </a:lnTo>
                  <a:lnTo>
                    <a:pt x="2645" y="3698"/>
                  </a:lnTo>
                  <a:lnTo>
                    <a:pt x="2618" y="3689"/>
                  </a:lnTo>
                  <a:lnTo>
                    <a:pt x="2589" y="3680"/>
                  </a:lnTo>
                  <a:lnTo>
                    <a:pt x="2559" y="3673"/>
                  </a:lnTo>
                  <a:lnTo>
                    <a:pt x="2526" y="3666"/>
                  </a:lnTo>
                  <a:lnTo>
                    <a:pt x="2490" y="3661"/>
                  </a:lnTo>
                  <a:lnTo>
                    <a:pt x="2453" y="3657"/>
                  </a:lnTo>
                  <a:lnTo>
                    <a:pt x="2414" y="3653"/>
                  </a:lnTo>
                  <a:lnTo>
                    <a:pt x="2374" y="3651"/>
                  </a:lnTo>
                  <a:lnTo>
                    <a:pt x="2330" y="3650"/>
                  </a:lnTo>
                  <a:lnTo>
                    <a:pt x="2287" y="3650"/>
                  </a:lnTo>
                  <a:lnTo>
                    <a:pt x="2241" y="3651"/>
                  </a:lnTo>
                  <a:lnTo>
                    <a:pt x="2195" y="3653"/>
                  </a:lnTo>
                  <a:lnTo>
                    <a:pt x="2148" y="3656"/>
                  </a:lnTo>
                  <a:lnTo>
                    <a:pt x="2100" y="3661"/>
                  </a:lnTo>
                  <a:lnTo>
                    <a:pt x="2051" y="3666"/>
                  </a:lnTo>
                  <a:lnTo>
                    <a:pt x="2002" y="3673"/>
                  </a:lnTo>
                  <a:lnTo>
                    <a:pt x="1951" y="3680"/>
                  </a:lnTo>
                  <a:lnTo>
                    <a:pt x="1901" y="3689"/>
                  </a:lnTo>
                  <a:lnTo>
                    <a:pt x="1850" y="3699"/>
                  </a:lnTo>
                  <a:lnTo>
                    <a:pt x="1800" y="3710"/>
                  </a:lnTo>
                  <a:lnTo>
                    <a:pt x="1750" y="3722"/>
                  </a:lnTo>
                  <a:lnTo>
                    <a:pt x="1698" y="3735"/>
                  </a:lnTo>
                  <a:lnTo>
                    <a:pt x="1649" y="3750"/>
                  </a:lnTo>
                  <a:lnTo>
                    <a:pt x="1599" y="3766"/>
                  </a:lnTo>
                  <a:lnTo>
                    <a:pt x="1550" y="3783"/>
                  </a:lnTo>
                  <a:lnTo>
                    <a:pt x="1502" y="3801"/>
                  </a:lnTo>
                  <a:lnTo>
                    <a:pt x="1454" y="3820"/>
                  </a:lnTo>
                  <a:lnTo>
                    <a:pt x="1407" y="3840"/>
                  </a:lnTo>
                  <a:lnTo>
                    <a:pt x="1362" y="3861"/>
                  </a:lnTo>
                  <a:lnTo>
                    <a:pt x="1318" y="3885"/>
                  </a:lnTo>
                  <a:lnTo>
                    <a:pt x="1275" y="3908"/>
                  </a:lnTo>
                  <a:lnTo>
                    <a:pt x="1233" y="3933"/>
                  </a:lnTo>
                  <a:lnTo>
                    <a:pt x="1154" y="3982"/>
                  </a:lnTo>
                  <a:lnTo>
                    <a:pt x="1077" y="4032"/>
                  </a:lnTo>
                  <a:lnTo>
                    <a:pt x="1040" y="4056"/>
                  </a:lnTo>
                  <a:lnTo>
                    <a:pt x="1005" y="4079"/>
                  </a:lnTo>
                  <a:lnTo>
                    <a:pt x="969" y="4103"/>
                  </a:lnTo>
                  <a:lnTo>
                    <a:pt x="936" y="4128"/>
                  </a:lnTo>
                  <a:lnTo>
                    <a:pt x="905" y="4152"/>
                  </a:lnTo>
                  <a:lnTo>
                    <a:pt x="875" y="4175"/>
                  </a:lnTo>
                  <a:lnTo>
                    <a:pt x="845" y="4199"/>
                  </a:lnTo>
                  <a:lnTo>
                    <a:pt x="819" y="4223"/>
                  </a:lnTo>
                  <a:lnTo>
                    <a:pt x="795" y="4248"/>
                  </a:lnTo>
                  <a:lnTo>
                    <a:pt x="772" y="4271"/>
                  </a:lnTo>
                  <a:lnTo>
                    <a:pt x="752" y="4295"/>
                  </a:lnTo>
                  <a:lnTo>
                    <a:pt x="735" y="4319"/>
                  </a:lnTo>
                  <a:lnTo>
                    <a:pt x="719" y="4343"/>
                  </a:lnTo>
                  <a:lnTo>
                    <a:pt x="706" y="4368"/>
                  </a:lnTo>
                  <a:lnTo>
                    <a:pt x="696" y="4392"/>
                  </a:lnTo>
                  <a:lnTo>
                    <a:pt x="690" y="4417"/>
                  </a:lnTo>
                  <a:lnTo>
                    <a:pt x="686" y="4441"/>
                  </a:lnTo>
                  <a:lnTo>
                    <a:pt x="685" y="4466"/>
                  </a:lnTo>
                  <a:lnTo>
                    <a:pt x="688" y="4491"/>
                  </a:lnTo>
                  <a:lnTo>
                    <a:pt x="694" y="4516"/>
                  </a:lnTo>
                  <a:lnTo>
                    <a:pt x="703" y="4542"/>
                  </a:lnTo>
                  <a:lnTo>
                    <a:pt x="716" y="4567"/>
                  </a:lnTo>
                  <a:lnTo>
                    <a:pt x="734" y="4594"/>
                  </a:lnTo>
                  <a:lnTo>
                    <a:pt x="755" y="4620"/>
                  </a:lnTo>
                  <a:lnTo>
                    <a:pt x="780" y="4646"/>
                  </a:lnTo>
                  <a:lnTo>
                    <a:pt x="809" y="4672"/>
                  </a:lnTo>
                  <a:lnTo>
                    <a:pt x="843" y="4699"/>
                  </a:lnTo>
                  <a:lnTo>
                    <a:pt x="882" y="4727"/>
                  </a:lnTo>
                  <a:lnTo>
                    <a:pt x="922" y="4755"/>
                  </a:lnTo>
                  <a:lnTo>
                    <a:pt x="963" y="4782"/>
                  </a:lnTo>
                  <a:lnTo>
                    <a:pt x="1006" y="4808"/>
                  </a:lnTo>
                  <a:lnTo>
                    <a:pt x="1049" y="4835"/>
                  </a:lnTo>
                  <a:lnTo>
                    <a:pt x="1093" y="4861"/>
                  </a:lnTo>
                  <a:lnTo>
                    <a:pt x="1138" y="4886"/>
                  </a:lnTo>
                  <a:lnTo>
                    <a:pt x="1183" y="4911"/>
                  </a:lnTo>
                  <a:lnTo>
                    <a:pt x="1229" y="4935"/>
                  </a:lnTo>
                  <a:lnTo>
                    <a:pt x="1277" y="4959"/>
                  </a:lnTo>
                  <a:lnTo>
                    <a:pt x="1324" y="4981"/>
                  </a:lnTo>
                  <a:lnTo>
                    <a:pt x="1373" y="5003"/>
                  </a:lnTo>
                  <a:lnTo>
                    <a:pt x="1422" y="5024"/>
                  </a:lnTo>
                  <a:lnTo>
                    <a:pt x="1472" y="5043"/>
                  </a:lnTo>
                  <a:lnTo>
                    <a:pt x="1523" y="5062"/>
                  </a:lnTo>
                  <a:lnTo>
                    <a:pt x="1574" y="5081"/>
                  </a:lnTo>
                  <a:lnTo>
                    <a:pt x="1627" y="5097"/>
                  </a:lnTo>
                  <a:lnTo>
                    <a:pt x="1680" y="5113"/>
                  </a:lnTo>
                  <a:lnTo>
                    <a:pt x="1733" y="5127"/>
                  </a:lnTo>
                  <a:lnTo>
                    <a:pt x="1788" y="5139"/>
                  </a:lnTo>
                  <a:lnTo>
                    <a:pt x="1842" y="5151"/>
                  </a:lnTo>
                  <a:lnTo>
                    <a:pt x="1899" y="5161"/>
                  </a:lnTo>
                  <a:lnTo>
                    <a:pt x="1955" y="5169"/>
                  </a:lnTo>
                  <a:lnTo>
                    <a:pt x="2012" y="5176"/>
                  </a:lnTo>
                  <a:lnTo>
                    <a:pt x="2070" y="5181"/>
                  </a:lnTo>
                  <a:lnTo>
                    <a:pt x="2129" y="5185"/>
                  </a:lnTo>
                  <a:lnTo>
                    <a:pt x="2188" y="5187"/>
                  </a:lnTo>
                  <a:lnTo>
                    <a:pt x="2248" y="5187"/>
                  </a:lnTo>
                  <a:lnTo>
                    <a:pt x="2308" y="5185"/>
                  </a:lnTo>
                  <a:lnTo>
                    <a:pt x="2369" y="5181"/>
                  </a:lnTo>
                  <a:lnTo>
                    <a:pt x="2431" y="5176"/>
                  </a:lnTo>
                  <a:lnTo>
                    <a:pt x="2493" y="5168"/>
                  </a:lnTo>
                  <a:lnTo>
                    <a:pt x="2556" y="5158"/>
                  </a:lnTo>
                  <a:lnTo>
                    <a:pt x="2567" y="5155"/>
                  </a:lnTo>
                  <a:lnTo>
                    <a:pt x="2596" y="5147"/>
                  </a:lnTo>
                  <a:lnTo>
                    <a:pt x="2643" y="5134"/>
                  </a:lnTo>
                  <a:lnTo>
                    <a:pt x="2702" y="5118"/>
                  </a:lnTo>
                  <a:lnTo>
                    <a:pt x="2774" y="5100"/>
                  </a:lnTo>
                  <a:lnTo>
                    <a:pt x="2853" y="5081"/>
                  </a:lnTo>
                  <a:lnTo>
                    <a:pt x="2939" y="5061"/>
                  </a:lnTo>
                  <a:lnTo>
                    <a:pt x="3028" y="5043"/>
                  </a:lnTo>
                  <a:lnTo>
                    <a:pt x="3072" y="5034"/>
                  </a:lnTo>
                  <a:lnTo>
                    <a:pt x="3117" y="5027"/>
                  </a:lnTo>
                  <a:lnTo>
                    <a:pt x="3161" y="5020"/>
                  </a:lnTo>
                  <a:lnTo>
                    <a:pt x="3204" y="5014"/>
                  </a:lnTo>
                  <a:lnTo>
                    <a:pt x="3246" y="5009"/>
                  </a:lnTo>
                  <a:lnTo>
                    <a:pt x="3287" y="5005"/>
                  </a:lnTo>
                  <a:lnTo>
                    <a:pt x="3325" y="5002"/>
                  </a:lnTo>
                  <a:lnTo>
                    <a:pt x="3362" y="5001"/>
                  </a:lnTo>
                  <a:lnTo>
                    <a:pt x="3396" y="5002"/>
                  </a:lnTo>
                  <a:lnTo>
                    <a:pt x="3427" y="5004"/>
                  </a:lnTo>
                  <a:lnTo>
                    <a:pt x="3455" y="5008"/>
                  </a:lnTo>
                  <a:lnTo>
                    <a:pt x="3479" y="5014"/>
                  </a:lnTo>
                  <a:lnTo>
                    <a:pt x="3500" y="5022"/>
                  </a:lnTo>
                  <a:lnTo>
                    <a:pt x="3517" y="5032"/>
                  </a:lnTo>
                  <a:lnTo>
                    <a:pt x="3529" y="5045"/>
                  </a:lnTo>
                  <a:lnTo>
                    <a:pt x="3536" y="5060"/>
                  </a:lnTo>
                  <a:lnTo>
                    <a:pt x="3539" y="5077"/>
                  </a:lnTo>
                  <a:lnTo>
                    <a:pt x="3541" y="5091"/>
                  </a:lnTo>
                  <a:lnTo>
                    <a:pt x="3540" y="5105"/>
                  </a:lnTo>
                  <a:lnTo>
                    <a:pt x="3537" y="5118"/>
                  </a:lnTo>
                  <a:lnTo>
                    <a:pt x="3532" y="5129"/>
                  </a:lnTo>
                  <a:lnTo>
                    <a:pt x="3526" y="5140"/>
                  </a:lnTo>
                  <a:lnTo>
                    <a:pt x="3518" y="5151"/>
                  </a:lnTo>
                  <a:lnTo>
                    <a:pt x="3509" y="5160"/>
                  </a:lnTo>
                  <a:lnTo>
                    <a:pt x="3497" y="5169"/>
                  </a:lnTo>
                  <a:lnTo>
                    <a:pt x="3486" y="5178"/>
                  </a:lnTo>
                  <a:lnTo>
                    <a:pt x="3474" y="5186"/>
                  </a:lnTo>
                  <a:lnTo>
                    <a:pt x="3461" y="5194"/>
                  </a:lnTo>
                  <a:lnTo>
                    <a:pt x="3433" y="5208"/>
                  </a:lnTo>
                  <a:lnTo>
                    <a:pt x="3404" y="5222"/>
                  </a:lnTo>
                  <a:lnTo>
                    <a:pt x="3374" y="5236"/>
                  </a:lnTo>
                  <a:lnTo>
                    <a:pt x="3346" y="5250"/>
                  </a:lnTo>
                  <a:lnTo>
                    <a:pt x="3333" y="5258"/>
                  </a:lnTo>
                  <a:lnTo>
                    <a:pt x="3321" y="5266"/>
                  </a:lnTo>
                  <a:lnTo>
                    <a:pt x="3309" y="5274"/>
                  </a:lnTo>
                  <a:lnTo>
                    <a:pt x="3299" y="5283"/>
                  </a:lnTo>
                  <a:lnTo>
                    <a:pt x="3290" y="5293"/>
                  </a:lnTo>
                  <a:lnTo>
                    <a:pt x="3282" y="5303"/>
                  </a:lnTo>
                  <a:lnTo>
                    <a:pt x="3276" y="5315"/>
                  </a:lnTo>
                  <a:lnTo>
                    <a:pt x="3271" y="5327"/>
                  </a:lnTo>
                  <a:lnTo>
                    <a:pt x="3268" y="5339"/>
                  </a:lnTo>
                  <a:lnTo>
                    <a:pt x="3267" y="5353"/>
                  </a:lnTo>
                  <a:lnTo>
                    <a:pt x="3268" y="5368"/>
                  </a:lnTo>
                  <a:lnTo>
                    <a:pt x="3272" y="5384"/>
                  </a:lnTo>
                  <a:lnTo>
                    <a:pt x="3276" y="5400"/>
                  </a:lnTo>
                  <a:lnTo>
                    <a:pt x="3281" y="5416"/>
                  </a:lnTo>
                  <a:lnTo>
                    <a:pt x="3288" y="5433"/>
                  </a:lnTo>
                  <a:lnTo>
                    <a:pt x="3295" y="5449"/>
                  </a:lnTo>
                  <a:lnTo>
                    <a:pt x="3310" y="5480"/>
                  </a:lnTo>
                  <a:lnTo>
                    <a:pt x="3327" y="5511"/>
                  </a:lnTo>
                  <a:lnTo>
                    <a:pt x="3343" y="5541"/>
                  </a:lnTo>
                  <a:lnTo>
                    <a:pt x="3358" y="5572"/>
                  </a:lnTo>
                  <a:lnTo>
                    <a:pt x="3364" y="5586"/>
                  </a:lnTo>
                  <a:lnTo>
                    <a:pt x="3370" y="5601"/>
                  </a:lnTo>
                  <a:lnTo>
                    <a:pt x="3374" y="5615"/>
                  </a:lnTo>
                  <a:lnTo>
                    <a:pt x="3378" y="5630"/>
                  </a:lnTo>
                  <a:lnTo>
                    <a:pt x="3380" y="5644"/>
                  </a:lnTo>
                  <a:lnTo>
                    <a:pt x="3380" y="5658"/>
                  </a:lnTo>
                  <a:lnTo>
                    <a:pt x="3379" y="5673"/>
                  </a:lnTo>
                  <a:lnTo>
                    <a:pt x="3374" y="5687"/>
                  </a:lnTo>
                  <a:lnTo>
                    <a:pt x="3369" y="5702"/>
                  </a:lnTo>
                  <a:lnTo>
                    <a:pt x="3361" y="5715"/>
                  </a:lnTo>
                  <a:lnTo>
                    <a:pt x="3351" y="5729"/>
                  </a:lnTo>
                  <a:lnTo>
                    <a:pt x="3339" y="5743"/>
                  </a:lnTo>
                  <a:lnTo>
                    <a:pt x="3323" y="5757"/>
                  </a:lnTo>
                  <a:lnTo>
                    <a:pt x="3305" y="5771"/>
                  </a:lnTo>
                  <a:lnTo>
                    <a:pt x="3284" y="5785"/>
                  </a:lnTo>
                  <a:lnTo>
                    <a:pt x="3259" y="5799"/>
                  </a:lnTo>
                  <a:lnTo>
                    <a:pt x="3230" y="5813"/>
                  </a:lnTo>
                  <a:lnTo>
                    <a:pt x="3199" y="5827"/>
                  </a:lnTo>
                  <a:lnTo>
                    <a:pt x="3164" y="5840"/>
                  </a:lnTo>
                  <a:lnTo>
                    <a:pt x="3125" y="5854"/>
                  </a:lnTo>
                  <a:lnTo>
                    <a:pt x="3081" y="5867"/>
                  </a:lnTo>
                  <a:lnTo>
                    <a:pt x="3036" y="5879"/>
                  </a:lnTo>
                  <a:lnTo>
                    <a:pt x="2987" y="5890"/>
                  </a:lnTo>
                  <a:lnTo>
                    <a:pt x="2938" y="5902"/>
                  </a:lnTo>
                  <a:lnTo>
                    <a:pt x="2831" y="5925"/>
                  </a:lnTo>
                  <a:lnTo>
                    <a:pt x="2719" y="5947"/>
                  </a:lnTo>
                  <a:lnTo>
                    <a:pt x="2603" y="5970"/>
                  </a:lnTo>
                  <a:lnTo>
                    <a:pt x="2485" y="5994"/>
                  </a:lnTo>
                  <a:lnTo>
                    <a:pt x="2427" y="6006"/>
                  </a:lnTo>
                  <a:lnTo>
                    <a:pt x="2369" y="6019"/>
                  </a:lnTo>
                  <a:lnTo>
                    <a:pt x="2311" y="6034"/>
                  </a:lnTo>
                  <a:lnTo>
                    <a:pt x="2254" y="6048"/>
                  </a:lnTo>
                  <a:lnTo>
                    <a:pt x="2198" y="6063"/>
                  </a:lnTo>
                  <a:lnTo>
                    <a:pt x="2144" y="6079"/>
                  </a:lnTo>
                  <a:lnTo>
                    <a:pt x="2091" y="6095"/>
                  </a:lnTo>
                  <a:lnTo>
                    <a:pt x="2041" y="6113"/>
                  </a:lnTo>
                  <a:lnTo>
                    <a:pt x="1993" y="6132"/>
                  </a:lnTo>
                  <a:lnTo>
                    <a:pt x="1947" y="6153"/>
                  </a:lnTo>
                  <a:lnTo>
                    <a:pt x="1904" y="6174"/>
                  </a:lnTo>
                  <a:lnTo>
                    <a:pt x="1865" y="6196"/>
                  </a:lnTo>
                  <a:lnTo>
                    <a:pt x="1827" y="6220"/>
                  </a:lnTo>
                  <a:lnTo>
                    <a:pt x="1794" y="6245"/>
                  </a:lnTo>
                  <a:lnTo>
                    <a:pt x="1765" y="6272"/>
                  </a:lnTo>
                  <a:lnTo>
                    <a:pt x="1740" y="6301"/>
                  </a:lnTo>
                  <a:lnTo>
                    <a:pt x="1718" y="6331"/>
                  </a:lnTo>
                  <a:lnTo>
                    <a:pt x="1702" y="6362"/>
                  </a:lnTo>
                  <a:lnTo>
                    <a:pt x="1691" y="6397"/>
                  </a:lnTo>
                  <a:lnTo>
                    <a:pt x="1684" y="6432"/>
                  </a:lnTo>
                  <a:lnTo>
                    <a:pt x="1686" y="6432"/>
                  </a:lnTo>
                  <a:lnTo>
                    <a:pt x="1691" y="6432"/>
                  </a:lnTo>
                  <a:lnTo>
                    <a:pt x="1697" y="6431"/>
                  </a:lnTo>
                  <a:lnTo>
                    <a:pt x="1702" y="6431"/>
                  </a:lnTo>
                  <a:lnTo>
                    <a:pt x="1703" y="6432"/>
                  </a:lnTo>
                  <a:lnTo>
                    <a:pt x="1704" y="6433"/>
                  </a:lnTo>
                  <a:lnTo>
                    <a:pt x="1703" y="6434"/>
                  </a:lnTo>
                  <a:lnTo>
                    <a:pt x="1701" y="6435"/>
                  </a:lnTo>
                  <a:lnTo>
                    <a:pt x="1693" y="6440"/>
                  </a:lnTo>
                  <a:lnTo>
                    <a:pt x="1676" y="6447"/>
                  </a:lnTo>
                  <a:lnTo>
                    <a:pt x="1649" y="6457"/>
                  </a:lnTo>
                  <a:lnTo>
                    <a:pt x="1610" y="6469"/>
                  </a:lnTo>
                  <a:lnTo>
                    <a:pt x="1558" y="6486"/>
                  </a:lnTo>
                  <a:lnTo>
                    <a:pt x="1491" y="6507"/>
                  </a:lnTo>
                  <a:lnTo>
                    <a:pt x="1405" y="6532"/>
                  </a:lnTo>
                  <a:lnTo>
                    <a:pt x="1301" y="6562"/>
                  </a:lnTo>
                  <a:lnTo>
                    <a:pt x="1176" y="6597"/>
                  </a:lnTo>
                  <a:lnTo>
                    <a:pt x="1028" y="6638"/>
                  </a:lnTo>
                  <a:lnTo>
                    <a:pt x="875" y="6681"/>
                  </a:lnTo>
                  <a:lnTo>
                    <a:pt x="735" y="6721"/>
                  </a:lnTo>
                  <a:lnTo>
                    <a:pt x="669" y="6740"/>
                  </a:lnTo>
                  <a:lnTo>
                    <a:pt x="607" y="6760"/>
                  </a:lnTo>
                  <a:lnTo>
                    <a:pt x="548" y="6778"/>
                  </a:lnTo>
                  <a:lnTo>
                    <a:pt x="493" y="6796"/>
                  </a:lnTo>
                  <a:lnTo>
                    <a:pt x="440" y="6814"/>
                  </a:lnTo>
                  <a:lnTo>
                    <a:pt x="391" y="6831"/>
                  </a:lnTo>
                  <a:lnTo>
                    <a:pt x="345" y="6849"/>
                  </a:lnTo>
                  <a:lnTo>
                    <a:pt x="303" y="6867"/>
                  </a:lnTo>
                  <a:lnTo>
                    <a:pt x="265" y="6885"/>
                  </a:lnTo>
                  <a:lnTo>
                    <a:pt x="229" y="6902"/>
                  </a:lnTo>
                  <a:lnTo>
                    <a:pt x="196" y="6920"/>
                  </a:lnTo>
                  <a:lnTo>
                    <a:pt x="167" y="6938"/>
                  </a:lnTo>
                  <a:lnTo>
                    <a:pt x="142" y="6956"/>
                  </a:lnTo>
                  <a:lnTo>
                    <a:pt x="120" y="6975"/>
                  </a:lnTo>
                  <a:lnTo>
                    <a:pt x="101" y="6994"/>
                  </a:lnTo>
                  <a:lnTo>
                    <a:pt x="85" y="7014"/>
                  </a:lnTo>
                  <a:lnTo>
                    <a:pt x="73" y="7034"/>
                  </a:lnTo>
                  <a:lnTo>
                    <a:pt x="64" y="7054"/>
                  </a:lnTo>
                  <a:lnTo>
                    <a:pt x="59" y="7075"/>
                  </a:lnTo>
                  <a:lnTo>
                    <a:pt x="57" y="7096"/>
                  </a:lnTo>
                  <a:lnTo>
                    <a:pt x="58" y="7120"/>
                  </a:lnTo>
                  <a:lnTo>
                    <a:pt x="63" y="7143"/>
                  </a:lnTo>
                  <a:lnTo>
                    <a:pt x="72" y="7167"/>
                  </a:lnTo>
                  <a:lnTo>
                    <a:pt x="83" y="7192"/>
                  </a:lnTo>
                  <a:lnTo>
                    <a:pt x="99" y="7218"/>
                  </a:lnTo>
                  <a:lnTo>
                    <a:pt x="118" y="7247"/>
                  </a:lnTo>
                  <a:lnTo>
                    <a:pt x="140" y="7275"/>
                  </a:lnTo>
                  <a:lnTo>
                    <a:pt x="166" y="7304"/>
                  </a:lnTo>
                  <a:lnTo>
                    <a:pt x="177" y="7311"/>
                  </a:lnTo>
                  <a:lnTo>
                    <a:pt x="208" y="7328"/>
                  </a:lnTo>
                  <a:lnTo>
                    <a:pt x="259" y="7355"/>
                  </a:lnTo>
                  <a:lnTo>
                    <a:pt x="324" y="7387"/>
                  </a:lnTo>
                  <a:lnTo>
                    <a:pt x="362" y="7404"/>
                  </a:lnTo>
                  <a:lnTo>
                    <a:pt x="403" y="7421"/>
                  </a:lnTo>
                  <a:lnTo>
                    <a:pt x="446" y="7439"/>
                  </a:lnTo>
                  <a:lnTo>
                    <a:pt x="493" y="7457"/>
                  </a:lnTo>
                  <a:lnTo>
                    <a:pt x="541" y="7475"/>
                  </a:lnTo>
                  <a:lnTo>
                    <a:pt x="590" y="7491"/>
                  </a:lnTo>
                  <a:lnTo>
                    <a:pt x="642" y="7506"/>
                  </a:lnTo>
                  <a:lnTo>
                    <a:pt x="695" y="7520"/>
                  </a:lnTo>
                  <a:lnTo>
                    <a:pt x="690" y="7525"/>
                  </a:lnTo>
                  <a:lnTo>
                    <a:pt x="677" y="7539"/>
                  </a:lnTo>
                  <a:lnTo>
                    <a:pt x="657" y="7562"/>
                  </a:lnTo>
                  <a:lnTo>
                    <a:pt x="633" y="7594"/>
                  </a:lnTo>
                  <a:lnTo>
                    <a:pt x="620" y="7612"/>
                  </a:lnTo>
                  <a:lnTo>
                    <a:pt x="606" y="7631"/>
                  </a:lnTo>
                  <a:lnTo>
                    <a:pt x="592" y="7652"/>
                  </a:lnTo>
                  <a:lnTo>
                    <a:pt x="578" y="7675"/>
                  </a:lnTo>
                  <a:lnTo>
                    <a:pt x="565" y="7699"/>
                  </a:lnTo>
                  <a:lnTo>
                    <a:pt x="552" y="7724"/>
                  </a:lnTo>
                  <a:lnTo>
                    <a:pt x="540" y="7750"/>
                  </a:lnTo>
                  <a:lnTo>
                    <a:pt x="529" y="7777"/>
                  </a:lnTo>
                  <a:lnTo>
                    <a:pt x="519" y="7805"/>
                  </a:lnTo>
                  <a:lnTo>
                    <a:pt x="510" y="7834"/>
                  </a:lnTo>
                  <a:lnTo>
                    <a:pt x="504" y="7864"/>
                  </a:lnTo>
                  <a:lnTo>
                    <a:pt x="499" y="7893"/>
                  </a:lnTo>
                  <a:lnTo>
                    <a:pt x="497" y="7923"/>
                  </a:lnTo>
                  <a:lnTo>
                    <a:pt x="497" y="7955"/>
                  </a:lnTo>
                  <a:lnTo>
                    <a:pt x="500" y="7985"/>
                  </a:lnTo>
                  <a:lnTo>
                    <a:pt x="505" y="8016"/>
                  </a:lnTo>
                  <a:lnTo>
                    <a:pt x="514" y="8047"/>
                  </a:lnTo>
                  <a:lnTo>
                    <a:pt x="526" y="8078"/>
                  </a:lnTo>
                  <a:lnTo>
                    <a:pt x="542" y="8109"/>
                  </a:lnTo>
                  <a:lnTo>
                    <a:pt x="562" y="8139"/>
                  </a:lnTo>
                  <a:lnTo>
                    <a:pt x="586" y="8169"/>
                  </a:lnTo>
                  <a:lnTo>
                    <a:pt x="615" y="8199"/>
                  </a:lnTo>
                  <a:lnTo>
                    <a:pt x="648" y="8227"/>
                  </a:lnTo>
                  <a:lnTo>
                    <a:pt x="685" y="8255"/>
                  </a:lnTo>
                  <a:lnTo>
                    <a:pt x="706" y="8257"/>
                  </a:lnTo>
                  <a:lnTo>
                    <a:pt x="763" y="8261"/>
                  </a:lnTo>
                  <a:lnTo>
                    <a:pt x="847" y="8268"/>
                  </a:lnTo>
                  <a:lnTo>
                    <a:pt x="948" y="8275"/>
                  </a:lnTo>
                  <a:lnTo>
                    <a:pt x="1059" y="8284"/>
                  </a:lnTo>
                  <a:lnTo>
                    <a:pt x="1169" y="8292"/>
                  </a:lnTo>
                  <a:lnTo>
                    <a:pt x="1270" y="8300"/>
                  </a:lnTo>
                  <a:lnTo>
                    <a:pt x="1351" y="8304"/>
                  </a:lnTo>
                  <a:lnTo>
                    <a:pt x="1356" y="8317"/>
                  </a:lnTo>
                  <a:lnTo>
                    <a:pt x="1370" y="8352"/>
                  </a:lnTo>
                  <a:lnTo>
                    <a:pt x="1377" y="8376"/>
                  </a:lnTo>
                  <a:lnTo>
                    <a:pt x="1385" y="8406"/>
                  </a:lnTo>
                  <a:lnTo>
                    <a:pt x="1393" y="8441"/>
                  </a:lnTo>
                  <a:lnTo>
                    <a:pt x="1399" y="8478"/>
                  </a:lnTo>
                  <a:lnTo>
                    <a:pt x="1402" y="8498"/>
                  </a:lnTo>
                  <a:lnTo>
                    <a:pt x="1404" y="8519"/>
                  </a:lnTo>
                  <a:lnTo>
                    <a:pt x="1406" y="8541"/>
                  </a:lnTo>
                  <a:lnTo>
                    <a:pt x="1407" y="8564"/>
                  </a:lnTo>
                  <a:lnTo>
                    <a:pt x="1408" y="8587"/>
                  </a:lnTo>
                  <a:lnTo>
                    <a:pt x="1408" y="8610"/>
                  </a:lnTo>
                  <a:lnTo>
                    <a:pt x="1407" y="8634"/>
                  </a:lnTo>
                  <a:lnTo>
                    <a:pt x="1405" y="8660"/>
                  </a:lnTo>
                  <a:lnTo>
                    <a:pt x="1402" y="8685"/>
                  </a:lnTo>
                  <a:lnTo>
                    <a:pt x="1399" y="8711"/>
                  </a:lnTo>
                  <a:lnTo>
                    <a:pt x="1394" y="8737"/>
                  </a:lnTo>
                  <a:lnTo>
                    <a:pt x="1388" y="8763"/>
                  </a:lnTo>
                  <a:lnTo>
                    <a:pt x="1381" y="8791"/>
                  </a:lnTo>
                  <a:lnTo>
                    <a:pt x="1373" y="8818"/>
                  </a:lnTo>
                  <a:lnTo>
                    <a:pt x="1363" y="8845"/>
                  </a:lnTo>
                  <a:lnTo>
                    <a:pt x="1351" y="8872"/>
                  </a:lnTo>
                  <a:lnTo>
                    <a:pt x="1353" y="8875"/>
                  </a:lnTo>
                  <a:lnTo>
                    <a:pt x="1358" y="8881"/>
                  </a:lnTo>
                  <a:lnTo>
                    <a:pt x="1368" y="8891"/>
                  </a:lnTo>
                  <a:lnTo>
                    <a:pt x="1381" y="8904"/>
                  </a:lnTo>
                  <a:lnTo>
                    <a:pt x="1390" y="8910"/>
                  </a:lnTo>
                  <a:lnTo>
                    <a:pt x="1399" y="8917"/>
                  </a:lnTo>
                  <a:lnTo>
                    <a:pt x="1409" y="8923"/>
                  </a:lnTo>
                  <a:lnTo>
                    <a:pt x="1421" y="8929"/>
                  </a:lnTo>
                  <a:lnTo>
                    <a:pt x="1433" y="8936"/>
                  </a:lnTo>
                  <a:lnTo>
                    <a:pt x="1447" y="8941"/>
                  </a:lnTo>
                  <a:lnTo>
                    <a:pt x="1462" y="8946"/>
                  </a:lnTo>
                  <a:lnTo>
                    <a:pt x="1478" y="8951"/>
                  </a:lnTo>
                  <a:lnTo>
                    <a:pt x="1497" y="8955"/>
                  </a:lnTo>
                  <a:lnTo>
                    <a:pt x="1515" y="8957"/>
                  </a:lnTo>
                  <a:lnTo>
                    <a:pt x="1536" y="8959"/>
                  </a:lnTo>
                  <a:lnTo>
                    <a:pt x="1557" y="8959"/>
                  </a:lnTo>
                  <a:lnTo>
                    <a:pt x="1580" y="8959"/>
                  </a:lnTo>
                  <a:lnTo>
                    <a:pt x="1604" y="8956"/>
                  </a:lnTo>
                  <a:lnTo>
                    <a:pt x="1630" y="8953"/>
                  </a:lnTo>
                  <a:lnTo>
                    <a:pt x="1657" y="8947"/>
                  </a:lnTo>
                  <a:lnTo>
                    <a:pt x="1686" y="8939"/>
                  </a:lnTo>
                  <a:lnTo>
                    <a:pt x="1716" y="8930"/>
                  </a:lnTo>
                  <a:lnTo>
                    <a:pt x="1748" y="8919"/>
                  </a:lnTo>
                  <a:lnTo>
                    <a:pt x="1781" y="8905"/>
                  </a:lnTo>
                  <a:lnTo>
                    <a:pt x="1815" y="8888"/>
                  </a:lnTo>
                  <a:lnTo>
                    <a:pt x="1851" y="8869"/>
                  </a:lnTo>
                  <a:lnTo>
                    <a:pt x="1890" y="8848"/>
                  </a:lnTo>
                  <a:lnTo>
                    <a:pt x="1929" y="8823"/>
                  </a:lnTo>
                  <a:lnTo>
                    <a:pt x="1943" y="8821"/>
                  </a:lnTo>
                  <a:lnTo>
                    <a:pt x="1979" y="8818"/>
                  </a:lnTo>
                  <a:lnTo>
                    <a:pt x="2004" y="8818"/>
                  </a:lnTo>
                  <a:lnTo>
                    <a:pt x="2029" y="8818"/>
                  </a:lnTo>
                  <a:lnTo>
                    <a:pt x="2042" y="8819"/>
                  </a:lnTo>
                  <a:lnTo>
                    <a:pt x="2056" y="8821"/>
                  </a:lnTo>
                  <a:lnTo>
                    <a:pt x="2069" y="8823"/>
                  </a:lnTo>
                  <a:lnTo>
                    <a:pt x="2082" y="8826"/>
                  </a:lnTo>
                  <a:lnTo>
                    <a:pt x="2095" y="8830"/>
                  </a:lnTo>
                  <a:lnTo>
                    <a:pt x="2107" y="8834"/>
                  </a:lnTo>
                  <a:lnTo>
                    <a:pt x="2120" y="8839"/>
                  </a:lnTo>
                  <a:lnTo>
                    <a:pt x="2131" y="8845"/>
                  </a:lnTo>
                  <a:lnTo>
                    <a:pt x="2141" y="8853"/>
                  </a:lnTo>
                  <a:lnTo>
                    <a:pt x="2150" y="8861"/>
                  </a:lnTo>
                  <a:lnTo>
                    <a:pt x="2158" y="8870"/>
                  </a:lnTo>
                  <a:lnTo>
                    <a:pt x="2165" y="8881"/>
                  </a:lnTo>
                  <a:lnTo>
                    <a:pt x="2170" y="8893"/>
                  </a:lnTo>
                  <a:lnTo>
                    <a:pt x="2174" y="8907"/>
                  </a:lnTo>
                  <a:lnTo>
                    <a:pt x="2176" y="8922"/>
                  </a:lnTo>
                  <a:lnTo>
                    <a:pt x="2176" y="8938"/>
                  </a:lnTo>
                  <a:lnTo>
                    <a:pt x="2174" y="8956"/>
                  </a:lnTo>
                  <a:lnTo>
                    <a:pt x="2170" y="8975"/>
                  </a:lnTo>
                  <a:lnTo>
                    <a:pt x="2164" y="8996"/>
                  </a:lnTo>
                  <a:lnTo>
                    <a:pt x="2155" y="9020"/>
                  </a:lnTo>
                  <a:lnTo>
                    <a:pt x="2155" y="9025"/>
                  </a:lnTo>
                  <a:lnTo>
                    <a:pt x="2156" y="9038"/>
                  </a:lnTo>
                  <a:lnTo>
                    <a:pt x="2157" y="9047"/>
                  </a:lnTo>
                  <a:lnTo>
                    <a:pt x="2158" y="9057"/>
                  </a:lnTo>
                  <a:lnTo>
                    <a:pt x="2161" y="9069"/>
                  </a:lnTo>
                  <a:lnTo>
                    <a:pt x="2164" y="9082"/>
                  </a:lnTo>
                  <a:lnTo>
                    <a:pt x="2168" y="9096"/>
                  </a:lnTo>
                  <a:lnTo>
                    <a:pt x="2174" y="9110"/>
                  </a:lnTo>
                  <a:lnTo>
                    <a:pt x="2180" y="9125"/>
                  </a:lnTo>
                  <a:lnTo>
                    <a:pt x="2188" y="9141"/>
                  </a:lnTo>
                  <a:lnTo>
                    <a:pt x="2198" y="9156"/>
                  </a:lnTo>
                  <a:lnTo>
                    <a:pt x="2209" y="9170"/>
                  </a:lnTo>
                  <a:lnTo>
                    <a:pt x="2221" y="9185"/>
                  </a:lnTo>
                  <a:lnTo>
                    <a:pt x="2236" y="9198"/>
                  </a:lnTo>
                  <a:lnTo>
                    <a:pt x="2254" y="9211"/>
                  </a:lnTo>
                  <a:lnTo>
                    <a:pt x="2273" y="9223"/>
                  </a:lnTo>
                  <a:lnTo>
                    <a:pt x="2294" y="9233"/>
                  </a:lnTo>
                  <a:lnTo>
                    <a:pt x="2318" y="9242"/>
                  </a:lnTo>
                  <a:lnTo>
                    <a:pt x="2344" y="9249"/>
                  </a:lnTo>
                  <a:lnTo>
                    <a:pt x="2374" y="9255"/>
                  </a:lnTo>
                  <a:lnTo>
                    <a:pt x="2405" y="9259"/>
                  </a:lnTo>
                  <a:lnTo>
                    <a:pt x="2440" y="9260"/>
                  </a:lnTo>
                  <a:lnTo>
                    <a:pt x="2477" y="9258"/>
                  </a:lnTo>
                  <a:lnTo>
                    <a:pt x="2519" y="9253"/>
                  </a:lnTo>
                  <a:lnTo>
                    <a:pt x="2563" y="9245"/>
                  </a:lnTo>
                  <a:lnTo>
                    <a:pt x="2611" y="9235"/>
                  </a:lnTo>
                  <a:lnTo>
                    <a:pt x="2663" y="9221"/>
                  </a:lnTo>
                  <a:lnTo>
                    <a:pt x="2718" y="9203"/>
                  </a:lnTo>
                  <a:lnTo>
                    <a:pt x="2777" y="9182"/>
                  </a:lnTo>
                  <a:lnTo>
                    <a:pt x="2840" y="9157"/>
                  </a:lnTo>
                  <a:lnTo>
                    <a:pt x="2849" y="9152"/>
                  </a:lnTo>
                  <a:lnTo>
                    <a:pt x="2876" y="9138"/>
                  </a:lnTo>
                  <a:lnTo>
                    <a:pt x="2916" y="9116"/>
                  </a:lnTo>
                  <a:lnTo>
                    <a:pt x="2967" y="9089"/>
                  </a:lnTo>
                  <a:lnTo>
                    <a:pt x="3028" y="9059"/>
                  </a:lnTo>
                  <a:lnTo>
                    <a:pt x="3094" y="9027"/>
                  </a:lnTo>
                  <a:lnTo>
                    <a:pt x="3165" y="8994"/>
                  </a:lnTo>
                  <a:lnTo>
                    <a:pt x="3235" y="8963"/>
                  </a:lnTo>
                  <a:lnTo>
                    <a:pt x="3272" y="8949"/>
                  </a:lnTo>
                  <a:lnTo>
                    <a:pt x="3306" y="8936"/>
                  </a:lnTo>
                  <a:lnTo>
                    <a:pt x="3339" y="8924"/>
                  </a:lnTo>
                  <a:lnTo>
                    <a:pt x="3371" y="8914"/>
                  </a:lnTo>
                  <a:lnTo>
                    <a:pt x="3403" y="8905"/>
                  </a:lnTo>
                  <a:lnTo>
                    <a:pt x="3431" y="8899"/>
                  </a:lnTo>
                  <a:lnTo>
                    <a:pt x="3457" y="8894"/>
                  </a:lnTo>
                  <a:lnTo>
                    <a:pt x="3481" y="8892"/>
                  </a:lnTo>
                  <a:lnTo>
                    <a:pt x="3501" y="8892"/>
                  </a:lnTo>
                  <a:lnTo>
                    <a:pt x="3519" y="8896"/>
                  </a:lnTo>
                  <a:lnTo>
                    <a:pt x="3533" y="8903"/>
                  </a:lnTo>
                  <a:lnTo>
                    <a:pt x="3543" y="8913"/>
                  </a:lnTo>
                  <a:lnTo>
                    <a:pt x="3548" y="8926"/>
                  </a:lnTo>
                  <a:lnTo>
                    <a:pt x="3549" y="8944"/>
                  </a:lnTo>
                  <a:lnTo>
                    <a:pt x="3545" y="8965"/>
                  </a:lnTo>
                  <a:lnTo>
                    <a:pt x="3536" y="8990"/>
                  </a:lnTo>
                  <a:lnTo>
                    <a:pt x="3532" y="8996"/>
                  </a:lnTo>
                  <a:lnTo>
                    <a:pt x="3520" y="9013"/>
                  </a:lnTo>
                  <a:lnTo>
                    <a:pt x="3499" y="9042"/>
                  </a:lnTo>
                  <a:lnTo>
                    <a:pt x="3473" y="9078"/>
                  </a:lnTo>
                  <a:lnTo>
                    <a:pt x="3439" y="9122"/>
                  </a:lnTo>
                  <a:lnTo>
                    <a:pt x="3400" y="9173"/>
                  </a:lnTo>
                  <a:lnTo>
                    <a:pt x="3354" y="9228"/>
                  </a:lnTo>
                  <a:lnTo>
                    <a:pt x="3303" y="9288"/>
                  </a:lnTo>
                  <a:lnTo>
                    <a:pt x="3276" y="9319"/>
                  </a:lnTo>
                  <a:lnTo>
                    <a:pt x="3247" y="9350"/>
                  </a:lnTo>
                  <a:lnTo>
                    <a:pt x="3218" y="9382"/>
                  </a:lnTo>
                  <a:lnTo>
                    <a:pt x="3188" y="9414"/>
                  </a:lnTo>
                  <a:lnTo>
                    <a:pt x="3156" y="9445"/>
                  </a:lnTo>
                  <a:lnTo>
                    <a:pt x="3123" y="9477"/>
                  </a:lnTo>
                  <a:lnTo>
                    <a:pt x="3090" y="9509"/>
                  </a:lnTo>
                  <a:lnTo>
                    <a:pt x="3057" y="9540"/>
                  </a:lnTo>
                  <a:lnTo>
                    <a:pt x="3022" y="9570"/>
                  </a:lnTo>
                  <a:lnTo>
                    <a:pt x="2986" y="9600"/>
                  </a:lnTo>
                  <a:lnTo>
                    <a:pt x="2950" y="9629"/>
                  </a:lnTo>
                  <a:lnTo>
                    <a:pt x="2914" y="9657"/>
                  </a:lnTo>
                  <a:lnTo>
                    <a:pt x="2877" y="9683"/>
                  </a:lnTo>
                  <a:lnTo>
                    <a:pt x="2838" y="9708"/>
                  </a:lnTo>
                  <a:lnTo>
                    <a:pt x="2800" y="9732"/>
                  </a:lnTo>
                  <a:lnTo>
                    <a:pt x="2762" y="9755"/>
                  </a:lnTo>
                  <a:lnTo>
                    <a:pt x="2748" y="9759"/>
                  </a:lnTo>
                  <a:lnTo>
                    <a:pt x="2707" y="9773"/>
                  </a:lnTo>
                  <a:lnTo>
                    <a:pt x="2644" y="9796"/>
                  </a:lnTo>
                  <a:lnTo>
                    <a:pt x="2559" y="9825"/>
                  </a:lnTo>
                  <a:lnTo>
                    <a:pt x="2457" y="9863"/>
                  </a:lnTo>
                  <a:lnTo>
                    <a:pt x="2340" y="9906"/>
                  </a:lnTo>
                  <a:lnTo>
                    <a:pt x="2211" y="9955"/>
                  </a:lnTo>
                  <a:lnTo>
                    <a:pt x="2074" y="10009"/>
                  </a:lnTo>
                  <a:lnTo>
                    <a:pt x="1930" y="10067"/>
                  </a:lnTo>
                  <a:lnTo>
                    <a:pt x="1783" y="10129"/>
                  </a:lnTo>
                  <a:lnTo>
                    <a:pt x="1708" y="10160"/>
                  </a:lnTo>
                  <a:lnTo>
                    <a:pt x="1635" y="10192"/>
                  </a:lnTo>
                  <a:lnTo>
                    <a:pt x="1561" y="10226"/>
                  </a:lnTo>
                  <a:lnTo>
                    <a:pt x="1490" y="10259"/>
                  </a:lnTo>
                  <a:lnTo>
                    <a:pt x="1418" y="10292"/>
                  </a:lnTo>
                  <a:lnTo>
                    <a:pt x="1349" y="10326"/>
                  </a:lnTo>
                  <a:lnTo>
                    <a:pt x="1282" y="10360"/>
                  </a:lnTo>
                  <a:lnTo>
                    <a:pt x="1217" y="10394"/>
                  </a:lnTo>
                  <a:lnTo>
                    <a:pt x="1155" y="10428"/>
                  </a:lnTo>
                  <a:lnTo>
                    <a:pt x="1096" y="10462"/>
                  </a:lnTo>
                  <a:lnTo>
                    <a:pt x="1041" y="10495"/>
                  </a:lnTo>
                  <a:lnTo>
                    <a:pt x="989" y="10528"/>
                  </a:lnTo>
                  <a:lnTo>
                    <a:pt x="981" y="10530"/>
                  </a:lnTo>
                  <a:lnTo>
                    <a:pt x="959" y="10534"/>
                  </a:lnTo>
                  <a:lnTo>
                    <a:pt x="924" y="10541"/>
                  </a:lnTo>
                  <a:lnTo>
                    <a:pt x="877" y="10551"/>
                  </a:lnTo>
                  <a:lnTo>
                    <a:pt x="820" y="10564"/>
                  </a:lnTo>
                  <a:lnTo>
                    <a:pt x="756" y="10581"/>
                  </a:lnTo>
                  <a:lnTo>
                    <a:pt x="684" y="10600"/>
                  </a:lnTo>
                  <a:lnTo>
                    <a:pt x="609" y="10622"/>
                  </a:lnTo>
                  <a:lnTo>
                    <a:pt x="568" y="10634"/>
                  </a:lnTo>
                  <a:lnTo>
                    <a:pt x="528" y="10647"/>
                  </a:lnTo>
                  <a:lnTo>
                    <a:pt x="488" y="10661"/>
                  </a:lnTo>
                  <a:lnTo>
                    <a:pt x="446" y="10676"/>
                  </a:lnTo>
                  <a:lnTo>
                    <a:pt x="405" y="10691"/>
                  </a:lnTo>
                  <a:lnTo>
                    <a:pt x="364" y="10708"/>
                  </a:lnTo>
                  <a:lnTo>
                    <a:pt x="322" y="10726"/>
                  </a:lnTo>
                  <a:lnTo>
                    <a:pt x="282" y="10744"/>
                  </a:lnTo>
                  <a:lnTo>
                    <a:pt x="243" y="10762"/>
                  </a:lnTo>
                  <a:lnTo>
                    <a:pt x="203" y="10782"/>
                  </a:lnTo>
                  <a:lnTo>
                    <a:pt x="166" y="10803"/>
                  </a:lnTo>
                  <a:lnTo>
                    <a:pt x="129" y="10825"/>
                  </a:lnTo>
                  <a:lnTo>
                    <a:pt x="94" y="10848"/>
                  </a:lnTo>
                  <a:lnTo>
                    <a:pt x="60" y="10871"/>
                  </a:lnTo>
                  <a:lnTo>
                    <a:pt x="29" y="10895"/>
                  </a:lnTo>
                  <a:lnTo>
                    <a:pt x="0" y="10920"/>
                  </a:lnTo>
                  <a:lnTo>
                    <a:pt x="7" y="10919"/>
                  </a:lnTo>
                  <a:lnTo>
                    <a:pt x="27" y="10915"/>
                  </a:lnTo>
                  <a:lnTo>
                    <a:pt x="60" y="10909"/>
                  </a:lnTo>
                  <a:lnTo>
                    <a:pt x="105" y="10901"/>
                  </a:lnTo>
                  <a:lnTo>
                    <a:pt x="160" y="10892"/>
                  </a:lnTo>
                  <a:lnTo>
                    <a:pt x="225" y="10881"/>
                  </a:lnTo>
                  <a:lnTo>
                    <a:pt x="299" y="10869"/>
                  </a:lnTo>
                  <a:lnTo>
                    <a:pt x="381" y="10856"/>
                  </a:lnTo>
                  <a:lnTo>
                    <a:pt x="468" y="10842"/>
                  </a:lnTo>
                  <a:lnTo>
                    <a:pt x="562" y="10829"/>
                  </a:lnTo>
                  <a:lnTo>
                    <a:pt x="661" y="10815"/>
                  </a:lnTo>
                  <a:lnTo>
                    <a:pt x="764" y="10800"/>
                  </a:lnTo>
                  <a:lnTo>
                    <a:pt x="870" y="10787"/>
                  </a:lnTo>
                  <a:lnTo>
                    <a:pt x="977" y="10775"/>
                  </a:lnTo>
                  <a:lnTo>
                    <a:pt x="1086" y="10764"/>
                  </a:lnTo>
                  <a:lnTo>
                    <a:pt x="1194" y="10754"/>
                  </a:lnTo>
                  <a:lnTo>
                    <a:pt x="1252" y="10749"/>
                  </a:lnTo>
                  <a:lnTo>
                    <a:pt x="1313" y="10740"/>
                  </a:lnTo>
                  <a:lnTo>
                    <a:pt x="1381" y="10729"/>
                  </a:lnTo>
                  <a:lnTo>
                    <a:pt x="1452" y="10714"/>
                  </a:lnTo>
                  <a:lnTo>
                    <a:pt x="1528" y="10697"/>
                  </a:lnTo>
                  <a:lnTo>
                    <a:pt x="1607" y="10676"/>
                  </a:lnTo>
                  <a:lnTo>
                    <a:pt x="1690" y="10654"/>
                  </a:lnTo>
                  <a:lnTo>
                    <a:pt x="1777" y="10629"/>
                  </a:lnTo>
                  <a:lnTo>
                    <a:pt x="1866" y="10602"/>
                  </a:lnTo>
                  <a:lnTo>
                    <a:pt x="1957" y="10573"/>
                  </a:lnTo>
                  <a:lnTo>
                    <a:pt x="2052" y="10541"/>
                  </a:lnTo>
                  <a:lnTo>
                    <a:pt x="2148" y="10509"/>
                  </a:lnTo>
                  <a:lnTo>
                    <a:pt x="2246" y="10475"/>
                  </a:lnTo>
                  <a:lnTo>
                    <a:pt x="2344" y="10438"/>
                  </a:lnTo>
                  <a:lnTo>
                    <a:pt x="2444" y="10401"/>
                  </a:lnTo>
                  <a:lnTo>
                    <a:pt x="2544" y="10363"/>
                  </a:lnTo>
                  <a:lnTo>
                    <a:pt x="2645" y="10323"/>
                  </a:lnTo>
                  <a:lnTo>
                    <a:pt x="2745" y="10284"/>
                  </a:lnTo>
                  <a:lnTo>
                    <a:pt x="2845" y="10243"/>
                  </a:lnTo>
                  <a:lnTo>
                    <a:pt x="2945" y="10201"/>
                  </a:lnTo>
                  <a:lnTo>
                    <a:pt x="3044" y="10160"/>
                  </a:lnTo>
                  <a:lnTo>
                    <a:pt x="3141" y="10118"/>
                  </a:lnTo>
                  <a:lnTo>
                    <a:pt x="3236" y="10075"/>
                  </a:lnTo>
                  <a:lnTo>
                    <a:pt x="3330" y="10033"/>
                  </a:lnTo>
                  <a:lnTo>
                    <a:pt x="3421" y="9992"/>
                  </a:lnTo>
                  <a:lnTo>
                    <a:pt x="3510" y="9949"/>
                  </a:lnTo>
                  <a:lnTo>
                    <a:pt x="3595" y="9909"/>
                  </a:lnTo>
                  <a:lnTo>
                    <a:pt x="3678" y="9868"/>
                  </a:lnTo>
                  <a:lnTo>
                    <a:pt x="3756" y="9828"/>
                  </a:lnTo>
                  <a:lnTo>
                    <a:pt x="3831" y="9789"/>
                  </a:lnTo>
                  <a:lnTo>
                    <a:pt x="3901" y="9752"/>
                  </a:lnTo>
                  <a:lnTo>
                    <a:pt x="3967" y="9715"/>
                  </a:lnTo>
                  <a:lnTo>
                    <a:pt x="3983" y="9711"/>
                  </a:lnTo>
                  <a:lnTo>
                    <a:pt x="4029" y="9701"/>
                  </a:lnTo>
                  <a:lnTo>
                    <a:pt x="4098" y="9684"/>
                  </a:lnTo>
                  <a:lnTo>
                    <a:pt x="4187" y="9661"/>
                  </a:lnTo>
                  <a:lnTo>
                    <a:pt x="4237" y="9647"/>
                  </a:lnTo>
                  <a:lnTo>
                    <a:pt x="4291" y="9632"/>
                  </a:lnTo>
                  <a:lnTo>
                    <a:pt x="4346" y="9616"/>
                  </a:lnTo>
                  <a:lnTo>
                    <a:pt x="4404" y="9598"/>
                  </a:lnTo>
                  <a:lnTo>
                    <a:pt x="4463" y="9579"/>
                  </a:lnTo>
                  <a:lnTo>
                    <a:pt x="4523" y="9559"/>
                  </a:lnTo>
                  <a:lnTo>
                    <a:pt x="4581" y="9538"/>
                  </a:lnTo>
                  <a:lnTo>
                    <a:pt x="4641" y="9516"/>
                  </a:lnTo>
                  <a:lnTo>
                    <a:pt x="4698" y="9492"/>
                  </a:lnTo>
                  <a:lnTo>
                    <a:pt x="4753" y="9468"/>
                  </a:lnTo>
                  <a:lnTo>
                    <a:pt x="4807" y="9443"/>
                  </a:lnTo>
                  <a:lnTo>
                    <a:pt x="4857" y="9417"/>
                  </a:lnTo>
                  <a:lnTo>
                    <a:pt x="4905" y="9391"/>
                  </a:lnTo>
                  <a:lnTo>
                    <a:pt x="4947" y="9362"/>
                  </a:lnTo>
                  <a:lnTo>
                    <a:pt x="4984" y="9335"/>
                  </a:lnTo>
                  <a:lnTo>
                    <a:pt x="5017" y="9306"/>
                  </a:lnTo>
                  <a:lnTo>
                    <a:pt x="5043" y="9277"/>
                  </a:lnTo>
                  <a:lnTo>
                    <a:pt x="5062" y="9246"/>
                  </a:lnTo>
                  <a:lnTo>
                    <a:pt x="5074" y="9216"/>
                  </a:lnTo>
                  <a:lnTo>
                    <a:pt x="5079" y="9185"/>
                  </a:lnTo>
                  <a:lnTo>
                    <a:pt x="5075" y="9154"/>
                  </a:lnTo>
                  <a:lnTo>
                    <a:pt x="5061" y="9122"/>
                  </a:lnTo>
                  <a:lnTo>
                    <a:pt x="5039" y="9091"/>
                  </a:lnTo>
                  <a:lnTo>
                    <a:pt x="5005" y="9059"/>
                  </a:lnTo>
                  <a:lnTo>
                    <a:pt x="5002" y="9057"/>
                  </a:lnTo>
                  <a:lnTo>
                    <a:pt x="4993" y="9052"/>
                  </a:lnTo>
                  <a:lnTo>
                    <a:pt x="4980" y="9045"/>
                  </a:lnTo>
                  <a:lnTo>
                    <a:pt x="4964" y="9034"/>
                  </a:lnTo>
                  <a:lnTo>
                    <a:pt x="4947" y="9022"/>
                  </a:lnTo>
                  <a:lnTo>
                    <a:pt x="4931" y="9006"/>
                  </a:lnTo>
                  <a:lnTo>
                    <a:pt x="4923" y="8999"/>
                  </a:lnTo>
                  <a:lnTo>
                    <a:pt x="4916" y="8990"/>
                  </a:lnTo>
                  <a:lnTo>
                    <a:pt x="4910" y="8982"/>
                  </a:lnTo>
                  <a:lnTo>
                    <a:pt x="4905" y="8973"/>
                  </a:lnTo>
                  <a:lnTo>
                    <a:pt x="4901" y="8963"/>
                  </a:lnTo>
                  <a:lnTo>
                    <a:pt x="4899" y="8954"/>
                  </a:lnTo>
                  <a:lnTo>
                    <a:pt x="4898" y="8944"/>
                  </a:lnTo>
                  <a:lnTo>
                    <a:pt x="4898" y="8934"/>
                  </a:lnTo>
                  <a:lnTo>
                    <a:pt x="4901" y="8924"/>
                  </a:lnTo>
                  <a:lnTo>
                    <a:pt x="4906" y="8914"/>
                  </a:lnTo>
                  <a:lnTo>
                    <a:pt x="4913" y="8904"/>
                  </a:lnTo>
                  <a:lnTo>
                    <a:pt x="4923" y="8893"/>
                  </a:lnTo>
                  <a:lnTo>
                    <a:pt x="4935" y="8883"/>
                  </a:lnTo>
                  <a:lnTo>
                    <a:pt x="4950" y="8872"/>
                  </a:lnTo>
                  <a:lnTo>
                    <a:pt x="4968" y="8862"/>
                  </a:lnTo>
                  <a:lnTo>
                    <a:pt x="4990" y="8852"/>
                  </a:lnTo>
                  <a:lnTo>
                    <a:pt x="5016" y="8842"/>
                  </a:lnTo>
                  <a:lnTo>
                    <a:pt x="5044" y="8833"/>
                  </a:lnTo>
                  <a:lnTo>
                    <a:pt x="5076" y="8823"/>
                  </a:lnTo>
                  <a:lnTo>
                    <a:pt x="5113" y="8814"/>
                  </a:lnTo>
                  <a:lnTo>
                    <a:pt x="5123" y="8807"/>
                  </a:lnTo>
                  <a:lnTo>
                    <a:pt x="5154" y="8788"/>
                  </a:lnTo>
                  <a:lnTo>
                    <a:pt x="5202" y="8758"/>
                  </a:lnTo>
                  <a:lnTo>
                    <a:pt x="5264" y="8718"/>
                  </a:lnTo>
                  <a:lnTo>
                    <a:pt x="5340" y="8669"/>
                  </a:lnTo>
                  <a:lnTo>
                    <a:pt x="5426" y="8611"/>
                  </a:lnTo>
                  <a:lnTo>
                    <a:pt x="5521" y="8549"/>
                  </a:lnTo>
                  <a:lnTo>
                    <a:pt x="5620" y="8479"/>
                  </a:lnTo>
                  <a:lnTo>
                    <a:pt x="5723" y="8406"/>
                  </a:lnTo>
                  <a:lnTo>
                    <a:pt x="5828" y="8330"/>
                  </a:lnTo>
                  <a:lnTo>
                    <a:pt x="5879" y="8291"/>
                  </a:lnTo>
                  <a:lnTo>
                    <a:pt x="5931" y="8252"/>
                  </a:lnTo>
                  <a:lnTo>
                    <a:pt x="5981" y="8213"/>
                  </a:lnTo>
                  <a:lnTo>
                    <a:pt x="6031" y="8172"/>
                  </a:lnTo>
                  <a:lnTo>
                    <a:pt x="6078" y="8133"/>
                  </a:lnTo>
                  <a:lnTo>
                    <a:pt x="6124" y="8095"/>
                  </a:lnTo>
                  <a:lnTo>
                    <a:pt x="6169" y="8055"/>
                  </a:lnTo>
                  <a:lnTo>
                    <a:pt x="6210" y="8017"/>
                  </a:lnTo>
                  <a:lnTo>
                    <a:pt x="6249" y="7980"/>
                  </a:lnTo>
                  <a:lnTo>
                    <a:pt x="6285" y="7944"/>
                  </a:lnTo>
                  <a:lnTo>
                    <a:pt x="6318" y="7907"/>
                  </a:lnTo>
                  <a:lnTo>
                    <a:pt x="6347" y="7873"/>
                  </a:lnTo>
                  <a:lnTo>
                    <a:pt x="6354" y="7870"/>
                  </a:lnTo>
                  <a:lnTo>
                    <a:pt x="6375" y="7862"/>
                  </a:lnTo>
                  <a:lnTo>
                    <a:pt x="6409" y="7850"/>
                  </a:lnTo>
                  <a:lnTo>
                    <a:pt x="6455" y="7835"/>
                  </a:lnTo>
                  <a:lnTo>
                    <a:pt x="6513" y="7817"/>
                  </a:lnTo>
                  <a:lnTo>
                    <a:pt x="6583" y="7798"/>
                  </a:lnTo>
                  <a:lnTo>
                    <a:pt x="6622" y="7788"/>
                  </a:lnTo>
                  <a:lnTo>
                    <a:pt x="6664" y="7778"/>
                  </a:lnTo>
                  <a:lnTo>
                    <a:pt x="6708" y="7768"/>
                  </a:lnTo>
                  <a:lnTo>
                    <a:pt x="6755" y="7759"/>
                  </a:lnTo>
                  <a:lnTo>
                    <a:pt x="6804" y="7750"/>
                  </a:lnTo>
                  <a:lnTo>
                    <a:pt x="6856" y="7741"/>
                  </a:lnTo>
                  <a:lnTo>
                    <a:pt x="6910" y="7733"/>
                  </a:lnTo>
                  <a:lnTo>
                    <a:pt x="6966" y="7725"/>
                  </a:lnTo>
                  <a:lnTo>
                    <a:pt x="7023" y="7719"/>
                  </a:lnTo>
                  <a:lnTo>
                    <a:pt x="7084" y="7713"/>
                  </a:lnTo>
                  <a:lnTo>
                    <a:pt x="7146" y="7708"/>
                  </a:lnTo>
                  <a:lnTo>
                    <a:pt x="7211" y="7704"/>
                  </a:lnTo>
                  <a:lnTo>
                    <a:pt x="7277" y="7700"/>
                  </a:lnTo>
                  <a:lnTo>
                    <a:pt x="7345" y="7699"/>
                  </a:lnTo>
                  <a:lnTo>
                    <a:pt x="7415" y="7699"/>
                  </a:lnTo>
                  <a:lnTo>
                    <a:pt x="7486" y="7702"/>
                  </a:lnTo>
                  <a:lnTo>
                    <a:pt x="7560" y="7705"/>
                  </a:lnTo>
                  <a:lnTo>
                    <a:pt x="7634" y="7710"/>
                  </a:lnTo>
                  <a:lnTo>
                    <a:pt x="7710" y="7717"/>
                  </a:lnTo>
                  <a:lnTo>
                    <a:pt x="7788" y="7726"/>
                  </a:lnTo>
                  <a:lnTo>
                    <a:pt x="7792" y="7728"/>
                  </a:lnTo>
                  <a:lnTo>
                    <a:pt x="7804" y="7735"/>
                  </a:lnTo>
                  <a:lnTo>
                    <a:pt x="7822" y="7744"/>
                  </a:lnTo>
                  <a:lnTo>
                    <a:pt x="7845" y="7758"/>
                  </a:lnTo>
                  <a:lnTo>
                    <a:pt x="7870" y="7773"/>
                  </a:lnTo>
                  <a:lnTo>
                    <a:pt x="7896" y="7791"/>
                  </a:lnTo>
                  <a:lnTo>
                    <a:pt x="7909" y="7801"/>
                  </a:lnTo>
                  <a:lnTo>
                    <a:pt x="7923" y="7811"/>
                  </a:lnTo>
                  <a:lnTo>
                    <a:pt x="7935" y="7822"/>
                  </a:lnTo>
                  <a:lnTo>
                    <a:pt x="7947" y="7833"/>
                  </a:lnTo>
                  <a:lnTo>
                    <a:pt x="7957" y="7844"/>
                  </a:lnTo>
                  <a:lnTo>
                    <a:pt x="7966" y="7855"/>
                  </a:lnTo>
                  <a:lnTo>
                    <a:pt x="7974" y="7866"/>
                  </a:lnTo>
                  <a:lnTo>
                    <a:pt x="7980" y="7877"/>
                  </a:lnTo>
                  <a:lnTo>
                    <a:pt x="7985" y="7888"/>
                  </a:lnTo>
                  <a:lnTo>
                    <a:pt x="7987" y="7898"/>
                  </a:lnTo>
                  <a:lnTo>
                    <a:pt x="7988" y="7909"/>
                  </a:lnTo>
                  <a:lnTo>
                    <a:pt x="7986" y="7920"/>
                  </a:lnTo>
                  <a:lnTo>
                    <a:pt x="7981" y="7930"/>
                  </a:lnTo>
                  <a:lnTo>
                    <a:pt x="7973" y="7941"/>
                  </a:lnTo>
                  <a:lnTo>
                    <a:pt x="7963" y="7951"/>
                  </a:lnTo>
                  <a:lnTo>
                    <a:pt x="7949" y="7960"/>
                  </a:lnTo>
                  <a:lnTo>
                    <a:pt x="7931" y="7968"/>
                  </a:lnTo>
                  <a:lnTo>
                    <a:pt x="7909" y="7976"/>
                  </a:lnTo>
                  <a:lnTo>
                    <a:pt x="7885" y="7984"/>
                  </a:lnTo>
                  <a:lnTo>
                    <a:pt x="7856" y="7990"/>
                  </a:lnTo>
                  <a:lnTo>
                    <a:pt x="7844" y="7990"/>
                  </a:lnTo>
                  <a:lnTo>
                    <a:pt x="7810" y="7990"/>
                  </a:lnTo>
                  <a:lnTo>
                    <a:pt x="7757" y="7989"/>
                  </a:lnTo>
                  <a:lnTo>
                    <a:pt x="7687" y="7990"/>
                  </a:lnTo>
                  <a:lnTo>
                    <a:pt x="7602" y="7992"/>
                  </a:lnTo>
                  <a:lnTo>
                    <a:pt x="7506" y="7997"/>
                  </a:lnTo>
                  <a:lnTo>
                    <a:pt x="7455" y="8001"/>
                  </a:lnTo>
                  <a:lnTo>
                    <a:pt x="7400" y="8005"/>
                  </a:lnTo>
                  <a:lnTo>
                    <a:pt x="7345" y="8010"/>
                  </a:lnTo>
                  <a:lnTo>
                    <a:pt x="7289" y="8016"/>
                  </a:lnTo>
                  <a:lnTo>
                    <a:pt x="7231" y="8023"/>
                  </a:lnTo>
                  <a:lnTo>
                    <a:pt x="7173" y="8031"/>
                  </a:lnTo>
                  <a:lnTo>
                    <a:pt x="7114" y="8041"/>
                  </a:lnTo>
                  <a:lnTo>
                    <a:pt x="7056" y="8052"/>
                  </a:lnTo>
                  <a:lnTo>
                    <a:pt x="6997" y="8065"/>
                  </a:lnTo>
                  <a:lnTo>
                    <a:pt x="6940" y="8079"/>
                  </a:lnTo>
                  <a:lnTo>
                    <a:pt x="6882" y="8094"/>
                  </a:lnTo>
                  <a:lnTo>
                    <a:pt x="6827" y="8110"/>
                  </a:lnTo>
                  <a:lnTo>
                    <a:pt x="6772" y="8129"/>
                  </a:lnTo>
                  <a:lnTo>
                    <a:pt x="6720" y="8149"/>
                  </a:lnTo>
                  <a:lnTo>
                    <a:pt x="6671" y="8171"/>
                  </a:lnTo>
                  <a:lnTo>
                    <a:pt x="6623" y="8196"/>
                  </a:lnTo>
                  <a:lnTo>
                    <a:pt x="6578" y="8222"/>
                  </a:lnTo>
                  <a:lnTo>
                    <a:pt x="6537" y="8250"/>
                  </a:lnTo>
                  <a:lnTo>
                    <a:pt x="6499" y="8281"/>
                  </a:lnTo>
                  <a:lnTo>
                    <a:pt x="6465" y="8314"/>
                  </a:lnTo>
                  <a:lnTo>
                    <a:pt x="6456" y="8326"/>
                  </a:lnTo>
                  <a:lnTo>
                    <a:pt x="6431" y="8359"/>
                  </a:lnTo>
                  <a:lnTo>
                    <a:pt x="6414" y="8380"/>
                  </a:lnTo>
                  <a:lnTo>
                    <a:pt x="6392" y="8405"/>
                  </a:lnTo>
                  <a:lnTo>
                    <a:pt x="6368" y="8432"/>
                  </a:lnTo>
                  <a:lnTo>
                    <a:pt x="6342" y="8460"/>
                  </a:lnTo>
                  <a:lnTo>
                    <a:pt x="6314" y="8488"/>
                  </a:lnTo>
                  <a:lnTo>
                    <a:pt x="6283" y="8515"/>
                  </a:lnTo>
                  <a:lnTo>
                    <a:pt x="6267" y="8528"/>
                  </a:lnTo>
                  <a:lnTo>
                    <a:pt x="6250" y="8542"/>
                  </a:lnTo>
                  <a:lnTo>
                    <a:pt x="6234" y="8555"/>
                  </a:lnTo>
                  <a:lnTo>
                    <a:pt x="6217" y="8566"/>
                  </a:lnTo>
                  <a:lnTo>
                    <a:pt x="6200" y="8577"/>
                  </a:lnTo>
                  <a:lnTo>
                    <a:pt x="6182" y="8588"/>
                  </a:lnTo>
                  <a:lnTo>
                    <a:pt x="6164" y="8597"/>
                  </a:lnTo>
                  <a:lnTo>
                    <a:pt x="6146" y="8605"/>
                  </a:lnTo>
                  <a:lnTo>
                    <a:pt x="6128" y="8613"/>
                  </a:lnTo>
                  <a:lnTo>
                    <a:pt x="6109" y="8619"/>
                  </a:lnTo>
                  <a:lnTo>
                    <a:pt x="6091" y="8624"/>
                  </a:lnTo>
                  <a:lnTo>
                    <a:pt x="6073" y="8627"/>
                  </a:lnTo>
                  <a:lnTo>
                    <a:pt x="6069" y="8633"/>
                  </a:lnTo>
                  <a:lnTo>
                    <a:pt x="6059" y="8649"/>
                  </a:lnTo>
                  <a:lnTo>
                    <a:pt x="6044" y="8676"/>
                  </a:lnTo>
                  <a:lnTo>
                    <a:pt x="6028" y="8708"/>
                  </a:lnTo>
                  <a:lnTo>
                    <a:pt x="6018" y="8726"/>
                  </a:lnTo>
                  <a:lnTo>
                    <a:pt x="6010" y="8745"/>
                  </a:lnTo>
                  <a:lnTo>
                    <a:pt x="6002" y="8765"/>
                  </a:lnTo>
                  <a:lnTo>
                    <a:pt x="5995" y="8787"/>
                  </a:lnTo>
                  <a:lnTo>
                    <a:pt x="5988" y="8808"/>
                  </a:lnTo>
                  <a:lnTo>
                    <a:pt x="5984" y="8830"/>
                  </a:lnTo>
                  <a:lnTo>
                    <a:pt x="5980" y="8851"/>
                  </a:lnTo>
                  <a:lnTo>
                    <a:pt x="5979" y="8872"/>
                  </a:lnTo>
                  <a:lnTo>
                    <a:pt x="5979" y="8893"/>
                  </a:lnTo>
                  <a:lnTo>
                    <a:pt x="5982" y="8914"/>
                  </a:lnTo>
                  <a:lnTo>
                    <a:pt x="5987" y="8933"/>
                  </a:lnTo>
                  <a:lnTo>
                    <a:pt x="5995" y="8951"/>
                  </a:lnTo>
                  <a:lnTo>
                    <a:pt x="6006" y="8968"/>
                  </a:lnTo>
                  <a:lnTo>
                    <a:pt x="6020" y="8983"/>
                  </a:lnTo>
                  <a:lnTo>
                    <a:pt x="6039" y="8996"/>
                  </a:lnTo>
                  <a:lnTo>
                    <a:pt x="6061" y="9007"/>
                  </a:lnTo>
                  <a:lnTo>
                    <a:pt x="6087" y="9016"/>
                  </a:lnTo>
                  <a:lnTo>
                    <a:pt x="6117" y="9024"/>
                  </a:lnTo>
                  <a:lnTo>
                    <a:pt x="6153" y="9028"/>
                  </a:lnTo>
                  <a:lnTo>
                    <a:pt x="6192" y="9029"/>
                  </a:lnTo>
                  <a:lnTo>
                    <a:pt x="6237" y="9027"/>
                  </a:lnTo>
                  <a:lnTo>
                    <a:pt x="6288" y="9022"/>
                  </a:lnTo>
                  <a:lnTo>
                    <a:pt x="6344" y="9012"/>
                  </a:lnTo>
                  <a:lnTo>
                    <a:pt x="6407" y="8999"/>
                  </a:lnTo>
                  <a:lnTo>
                    <a:pt x="6419" y="8996"/>
                  </a:lnTo>
                  <a:lnTo>
                    <a:pt x="6455" y="8986"/>
                  </a:lnTo>
                  <a:lnTo>
                    <a:pt x="6511" y="8970"/>
                  </a:lnTo>
                  <a:lnTo>
                    <a:pt x="6586" y="8949"/>
                  </a:lnTo>
                  <a:lnTo>
                    <a:pt x="6674" y="8923"/>
                  </a:lnTo>
                  <a:lnTo>
                    <a:pt x="6773" y="8892"/>
                  </a:lnTo>
                  <a:lnTo>
                    <a:pt x="6880" y="8859"/>
                  </a:lnTo>
                  <a:lnTo>
                    <a:pt x="6992" y="8822"/>
                  </a:lnTo>
                  <a:lnTo>
                    <a:pt x="7050" y="8803"/>
                  </a:lnTo>
                  <a:lnTo>
                    <a:pt x="7106" y="8783"/>
                  </a:lnTo>
                  <a:lnTo>
                    <a:pt x="7163" y="8762"/>
                  </a:lnTo>
                  <a:lnTo>
                    <a:pt x="7219" y="8742"/>
                  </a:lnTo>
                  <a:lnTo>
                    <a:pt x="7273" y="8721"/>
                  </a:lnTo>
                  <a:lnTo>
                    <a:pt x="7327" y="8700"/>
                  </a:lnTo>
                  <a:lnTo>
                    <a:pt x="7378" y="8678"/>
                  </a:lnTo>
                  <a:lnTo>
                    <a:pt x="7427" y="8656"/>
                  </a:lnTo>
                  <a:lnTo>
                    <a:pt x="7473" y="8635"/>
                  </a:lnTo>
                  <a:lnTo>
                    <a:pt x="7516" y="8614"/>
                  </a:lnTo>
                  <a:lnTo>
                    <a:pt x="7556" y="8592"/>
                  </a:lnTo>
                  <a:lnTo>
                    <a:pt x="7592" y="8571"/>
                  </a:lnTo>
                  <a:lnTo>
                    <a:pt x="7623" y="8551"/>
                  </a:lnTo>
                  <a:lnTo>
                    <a:pt x="7650" y="8529"/>
                  </a:lnTo>
                  <a:lnTo>
                    <a:pt x="7673" y="8510"/>
                  </a:lnTo>
                  <a:lnTo>
                    <a:pt x="7690" y="8490"/>
                  </a:lnTo>
                  <a:lnTo>
                    <a:pt x="7695" y="8485"/>
                  </a:lnTo>
                  <a:lnTo>
                    <a:pt x="7710" y="8472"/>
                  </a:lnTo>
                  <a:lnTo>
                    <a:pt x="7734" y="8452"/>
                  </a:lnTo>
                  <a:lnTo>
                    <a:pt x="7767" y="8428"/>
                  </a:lnTo>
                  <a:lnTo>
                    <a:pt x="7788" y="8414"/>
                  </a:lnTo>
                  <a:lnTo>
                    <a:pt x="7810" y="8400"/>
                  </a:lnTo>
                  <a:lnTo>
                    <a:pt x="7834" y="8386"/>
                  </a:lnTo>
                  <a:lnTo>
                    <a:pt x="7861" y="8372"/>
                  </a:lnTo>
                  <a:lnTo>
                    <a:pt x="7889" y="8358"/>
                  </a:lnTo>
                  <a:lnTo>
                    <a:pt x="7920" y="8345"/>
                  </a:lnTo>
                  <a:lnTo>
                    <a:pt x="7952" y="8332"/>
                  </a:lnTo>
                  <a:lnTo>
                    <a:pt x="7986" y="8320"/>
                  </a:lnTo>
                  <a:lnTo>
                    <a:pt x="8021" y="8310"/>
                  </a:lnTo>
                  <a:lnTo>
                    <a:pt x="8059" y="8301"/>
                  </a:lnTo>
                  <a:lnTo>
                    <a:pt x="8098" y="8292"/>
                  </a:lnTo>
                  <a:lnTo>
                    <a:pt x="8139" y="8286"/>
                  </a:lnTo>
                  <a:lnTo>
                    <a:pt x="8182" y="8283"/>
                  </a:lnTo>
                  <a:lnTo>
                    <a:pt x="8225" y="8282"/>
                  </a:lnTo>
                  <a:lnTo>
                    <a:pt x="8270" y="8283"/>
                  </a:lnTo>
                  <a:lnTo>
                    <a:pt x="8318" y="8287"/>
                  </a:lnTo>
                  <a:lnTo>
                    <a:pt x="8366" y="8294"/>
                  </a:lnTo>
                  <a:lnTo>
                    <a:pt x="8415" y="8306"/>
                  </a:lnTo>
                  <a:lnTo>
                    <a:pt x="8466" y="8320"/>
                  </a:lnTo>
                  <a:lnTo>
                    <a:pt x="8518" y="8338"/>
                  </a:lnTo>
                  <a:lnTo>
                    <a:pt x="8572" y="8359"/>
                  </a:lnTo>
                  <a:lnTo>
                    <a:pt x="8625" y="8385"/>
                  </a:lnTo>
                  <a:lnTo>
                    <a:pt x="8681" y="8415"/>
                  </a:lnTo>
                  <a:lnTo>
                    <a:pt x="8737" y="8451"/>
                  </a:lnTo>
                  <a:lnTo>
                    <a:pt x="8758" y="8461"/>
                  </a:lnTo>
                  <a:lnTo>
                    <a:pt x="8817" y="8489"/>
                  </a:lnTo>
                  <a:lnTo>
                    <a:pt x="8908" y="8532"/>
                  </a:lnTo>
                  <a:lnTo>
                    <a:pt x="9028" y="8588"/>
                  </a:lnTo>
                  <a:lnTo>
                    <a:pt x="9171" y="8653"/>
                  </a:lnTo>
                  <a:lnTo>
                    <a:pt x="9332" y="8726"/>
                  </a:lnTo>
                  <a:lnTo>
                    <a:pt x="9417" y="8763"/>
                  </a:lnTo>
                  <a:lnTo>
                    <a:pt x="9505" y="8803"/>
                  </a:lnTo>
                  <a:lnTo>
                    <a:pt x="9595" y="8841"/>
                  </a:lnTo>
                  <a:lnTo>
                    <a:pt x="9687" y="8879"/>
                  </a:lnTo>
                  <a:lnTo>
                    <a:pt x="9778" y="8918"/>
                  </a:lnTo>
                  <a:lnTo>
                    <a:pt x="9870" y="8956"/>
                  </a:lnTo>
                  <a:lnTo>
                    <a:pt x="9962" y="8992"/>
                  </a:lnTo>
                  <a:lnTo>
                    <a:pt x="10051" y="9028"/>
                  </a:lnTo>
                  <a:lnTo>
                    <a:pt x="10139" y="9060"/>
                  </a:lnTo>
                  <a:lnTo>
                    <a:pt x="10225" y="9091"/>
                  </a:lnTo>
                  <a:lnTo>
                    <a:pt x="10308" y="9120"/>
                  </a:lnTo>
                  <a:lnTo>
                    <a:pt x="10386" y="9146"/>
                  </a:lnTo>
                  <a:lnTo>
                    <a:pt x="10461" y="9168"/>
                  </a:lnTo>
                  <a:lnTo>
                    <a:pt x="10530" y="9187"/>
                  </a:lnTo>
                  <a:lnTo>
                    <a:pt x="10594" y="9202"/>
                  </a:lnTo>
                  <a:lnTo>
                    <a:pt x="10651" y="9212"/>
                  </a:lnTo>
                  <a:lnTo>
                    <a:pt x="10702" y="9218"/>
                  </a:lnTo>
                  <a:lnTo>
                    <a:pt x="10744" y="9220"/>
                  </a:lnTo>
                  <a:lnTo>
                    <a:pt x="10778" y="9215"/>
                  </a:lnTo>
                  <a:lnTo>
                    <a:pt x="10804" y="9205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239"/>
            <p:cNvSpPr/>
            <p:nvPr/>
          </p:nvSpPr>
          <p:spPr>
            <a:xfrm>
              <a:off x="5884920" y="5395680"/>
              <a:ext cx="21600" cy="183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845" h="610">
                  <a:moveTo>
                    <a:pt x="541" y="50"/>
                  </a:moveTo>
                  <a:lnTo>
                    <a:pt x="532" y="48"/>
                  </a:lnTo>
                  <a:lnTo>
                    <a:pt x="510" y="42"/>
                  </a:lnTo>
                  <a:lnTo>
                    <a:pt x="476" y="33"/>
                  </a:lnTo>
                  <a:lnTo>
                    <a:pt x="433" y="23"/>
                  </a:lnTo>
                  <a:lnTo>
                    <a:pt x="408" y="18"/>
                  </a:lnTo>
                  <a:lnTo>
                    <a:pt x="381" y="14"/>
                  </a:lnTo>
                  <a:lnTo>
                    <a:pt x="354" y="9"/>
                  </a:lnTo>
                  <a:lnTo>
                    <a:pt x="326" y="6"/>
                  </a:lnTo>
                  <a:lnTo>
                    <a:pt x="297" y="3"/>
                  </a:lnTo>
                  <a:lnTo>
                    <a:pt x="267" y="1"/>
                  </a:lnTo>
                  <a:lnTo>
                    <a:pt x="239" y="0"/>
                  </a:lnTo>
                  <a:lnTo>
                    <a:pt x="210" y="0"/>
                  </a:lnTo>
                  <a:lnTo>
                    <a:pt x="182" y="2"/>
                  </a:lnTo>
                  <a:lnTo>
                    <a:pt x="154" y="6"/>
                  </a:lnTo>
                  <a:lnTo>
                    <a:pt x="128" y="11"/>
                  </a:lnTo>
                  <a:lnTo>
                    <a:pt x="104" y="18"/>
                  </a:lnTo>
                  <a:lnTo>
                    <a:pt x="82" y="28"/>
                  </a:lnTo>
                  <a:lnTo>
                    <a:pt x="62" y="40"/>
                  </a:lnTo>
                  <a:lnTo>
                    <a:pt x="44" y="54"/>
                  </a:lnTo>
                  <a:lnTo>
                    <a:pt x="28" y="71"/>
                  </a:lnTo>
                  <a:lnTo>
                    <a:pt x="16" y="90"/>
                  </a:lnTo>
                  <a:lnTo>
                    <a:pt x="7" y="114"/>
                  </a:lnTo>
                  <a:lnTo>
                    <a:pt x="2" y="140"/>
                  </a:lnTo>
                  <a:lnTo>
                    <a:pt x="0" y="169"/>
                  </a:lnTo>
                  <a:lnTo>
                    <a:pt x="3" y="202"/>
                  </a:lnTo>
                  <a:lnTo>
                    <a:pt x="11" y="240"/>
                  </a:lnTo>
                  <a:lnTo>
                    <a:pt x="23" y="280"/>
                  </a:lnTo>
                  <a:lnTo>
                    <a:pt x="42" y="324"/>
                  </a:lnTo>
                  <a:lnTo>
                    <a:pt x="53" y="337"/>
                  </a:lnTo>
                  <a:lnTo>
                    <a:pt x="84" y="368"/>
                  </a:lnTo>
                  <a:lnTo>
                    <a:pt x="105" y="389"/>
                  </a:lnTo>
                  <a:lnTo>
                    <a:pt x="131" y="412"/>
                  </a:lnTo>
                  <a:lnTo>
                    <a:pt x="160" y="437"/>
                  </a:lnTo>
                  <a:lnTo>
                    <a:pt x="191" y="463"/>
                  </a:lnTo>
                  <a:lnTo>
                    <a:pt x="223" y="489"/>
                  </a:lnTo>
                  <a:lnTo>
                    <a:pt x="258" y="515"/>
                  </a:lnTo>
                  <a:lnTo>
                    <a:pt x="275" y="527"/>
                  </a:lnTo>
                  <a:lnTo>
                    <a:pt x="294" y="538"/>
                  </a:lnTo>
                  <a:lnTo>
                    <a:pt x="312" y="550"/>
                  </a:lnTo>
                  <a:lnTo>
                    <a:pt x="330" y="560"/>
                  </a:lnTo>
                  <a:lnTo>
                    <a:pt x="349" y="570"/>
                  </a:lnTo>
                  <a:lnTo>
                    <a:pt x="367" y="579"/>
                  </a:lnTo>
                  <a:lnTo>
                    <a:pt x="385" y="587"/>
                  </a:lnTo>
                  <a:lnTo>
                    <a:pt x="402" y="594"/>
                  </a:lnTo>
                  <a:lnTo>
                    <a:pt x="421" y="600"/>
                  </a:lnTo>
                  <a:lnTo>
                    <a:pt x="438" y="604"/>
                  </a:lnTo>
                  <a:lnTo>
                    <a:pt x="455" y="607"/>
                  </a:lnTo>
                  <a:lnTo>
                    <a:pt x="472" y="609"/>
                  </a:lnTo>
                  <a:lnTo>
                    <a:pt x="490" y="610"/>
                  </a:lnTo>
                  <a:lnTo>
                    <a:pt x="508" y="610"/>
                  </a:lnTo>
                  <a:lnTo>
                    <a:pt x="526" y="608"/>
                  </a:lnTo>
                  <a:lnTo>
                    <a:pt x="546" y="605"/>
                  </a:lnTo>
                  <a:lnTo>
                    <a:pt x="565" y="601"/>
                  </a:lnTo>
                  <a:lnTo>
                    <a:pt x="585" y="596"/>
                  </a:lnTo>
                  <a:lnTo>
                    <a:pt x="604" y="590"/>
                  </a:lnTo>
                  <a:lnTo>
                    <a:pt x="623" y="582"/>
                  </a:lnTo>
                  <a:lnTo>
                    <a:pt x="642" y="573"/>
                  </a:lnTo>
                  <a:lnTo>
                    <a:pt x="662" y="564"/>
                  </a:lnTo>
                  <a:lnTo>
                    <a:pt x="680" y="554"/>
                  </a:lnTo>
                  <a:lnTo>
                    <a:pt x="698" y="544"/>
                  </a:lnTo>
                  <a:lnTo>
                    <a:pt x="716" y="533"/>
                  </a:lnTo>
                  <a:lnTo>
                    <a:pt x="732" y="521"/>
                  </a:lnTo>
                  <a:lnTo>
                    <a:pt x="748" y="509"/>
                  </a:lnTo>
                  <a:lnTo>
                    <a:pt x="763" y="496"/>
                  </a:lnTo>
                  <a:lnTo>
                    <a:pt x="777" y="483"/>
                  </a:lnTo>
                  <a:lnTo>
                    <a:pt x="791" y="470"/>
                  </a:lnTo>
                  <a:lnTo>
                    <a:pt x="803" y="457"/>
                  </a:lnTo>
                  <a:lnTo>
                    <a:pt x="814" y="442"/>
                  </a:lnTo>
                  <a:lnTo>
                    <a:pt x="823" y="429"/>
                  </a:lnTo>
                  <a:lnTo>
                    <a:pt x="831" y="415"/>
                  </a:lnTo>
                  <a:lnTo>
                    <a:pt x="837" y="402"/>
                  </a:lnTo>
                  <a:lnTo>
                    <a:pt x="841" y="388"/>
                  </a:lnTo>
                  <a:lnTo>
                    <a:pt x="844" y="375"/>
                  </a:lnTo>
                  <a:lnTo>
                    <a:pt x="845" y="363"/>
                  </a:lnTo>
                  <a:lnTo>
                    <a:pt x="844" y="350"/>
                  </a:lnTo>
                  <a:lnTo>
                    <a:pt x="841" y="338"/>
                  </a:lnTo>
                  <a:lnTo>
                    <a:pt x="835" y="326"/>
                  </a:lnTo>
                  <a:lnTo>
                    <a:pt x="828" y="315"/>
                  </a:lnTo>
                  <a:lnTo>
                    <a:pt x="818" y="305"/>
                  </a:lnTo>
                  <a:lnTo>
                    <a:pt x="806" y="295"/>
                  </a:lnTo>
                  <a:lnTo>
                    <a:pt x="777" y="276"/>
                  </a:lnTo>
                  <a:lnTo>
                    <a:pt x="751" y="257"/>
                  </a:lnTo>
                  <a:lnTo>
                    <a:pt x="726" y="237"/>
                  </a:lnTo>
                  <a:lnTo>
                    <a:pt x="702" y="216"/>
                  </a:lnTo>
                  <a:lnTo>
                    <a:pt x="679" y="195"/>
                  </a:lnTo>
                  <a:lnTo>
                    <a:pt x="656" y="175"/>
                  </a:lnTo>
                  <a:lnTo>
                    <a:pt x="636" y="155"/>
                  </a:lnTo>
                  <a:lnTo>
                    <a:pt x="618" y="136"/>
                  </a:lnTo>
                  <a:lnTo>
                    <a:pt x="586" y="102"/>
                  </a:lnTo>
                  <a:lnTo>
                    <a:pt x="562" y="74"/>
                  </a:lnTo>
                  <a:lnTo>
                    <a:pt x="546" y="57"/>
                  </a:lnTo>
                  <a:lnTo>
                    <a:pt x="541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240"/>
            <p:cNvSpPr/>
            <p:nvPr/>
          </p:nvSpPr>
          <p:spPr>
            <a:xfrm>
              <a:off x="6210360" y="5222520"/>
              <a:ext cx="80280" cy="2404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3046" h="8222">
                  <a:moveTo>
                    <a:pt x="3046" y="2097"/>
                  </a:moveTo>
                  <a:lnTo>
                    <a:pt x="3046" y="0"/>
                  </a:lnTo>
                  <a:lnTo>
                    <a:pt x="0" y="6752"/>
                  </a:lnTo>
                  <a:lnTo>
                    <a:pt x="343" y="8222"/>
                  </a:lnTo>
                  <a:lnTo>
                    <a:pt x="3046" y="209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241"/>
            <p:cNvSpPr/>
            <p:nvPr/>
          </p:nvSpPr>
          <p:spPr>
            <a:xfrm>
              <a:off x="6256440" y="5461200"/>
              <a:ext cx="18360" cy="77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55" h="2694">
                  <a:moveTo>
                    <a:pt x="755" y="2146"/>
                  </a:moveTo>
                  <a:lnTo>
                    <a:pt x="10" y="2694"/>
                  </a:lnTo>
                  <a:lnTo>
                    <a:pt x="0" y="548"/>
                  </a:lnTo>
                  <a:lnTo>
                    <a:pt x="745" y="0"/>
                  </a:lnTo>
                  <a:lnTo>
                    <a:pt x="755" y="214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242"/>
            <p:cNvSpPr/>
            <p:nvPr/>
          </p:nvSpPr>
          <p:spPr>
            <a:xfrm>
              <a:off x="6230520" y="5448240"/>
              <a:ext cx="25200" cy="90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91" h="3096">
                  <a:moveTo>
                    <a:pt x="881" y="950"/>
                  </a:moveTo>
                  <a:lnTo>
                    <a:pt x="891" y="3096"/>
                  </a:lnTo>
                  <a:lnTo>
                    <a:pt x="882" y="3087"/>
                  </a:lnTo>
                  <a:lnTo>
                    <a:pt x="855" y="3061"/>
                  </a:lnTo>
                  <a:lnTo>
                    <a:pt x="814" y="3020"/>
                  </a:lnTo>
                  <a:lnTo>
                    <a:pt x="759" y="2965"/>
                  </a:lnTo>
                  <a:lnTo>
                    <a:pt x="695" y="2900"/>
                  </a:lnTo>
                  <a:lnTo>
                    <a:pt x="622" y="2826"/>
                  </a:lnTo>
                  <a:lnTo>
                    <a:pt x="545" y="2746"/>
                  </a:lnTo>
                  <a:lnTo>
                    <a:pt x="464" y="2662"/>
                  </a:lnTo>
                  <a:lnTo>
                    <a:pt x="383" y="2575"/>
                  </a:lnTo>
                  <a:lnTo>
                    <a:pt x="304" y="2488"/>
                  </a:lnTo>
                  <a:lnTo>
                    <a:pt x="265" y="2446"/>
                  </a:lnTo>
                  <a:lnTo>
                    <a:pt x="228" y="2404"/>
                  </a:lnTo>
                  <a:lnTo>
                    <a:pt x="193" y="2363"/>
                  </a:lnTo>
                  <a:lnTo>
                    <a:pt x="160" y="2324"/>
                  </a:lnTo>
                  <a:lnTo>
                    <a:pt x="129" y="2286"/>
                  </a:lnTo>
                  <a:lnTo>
                    <a:pt x="100" y="2249"/>
                  </a:lnTo>
                  <a:lnTo>
                    <a:pt x="75" y="2216"/>
                  </a:lnTo>
                  <a:lnTo>
                    <a:pt x="53" y="2184"/>
                  </a:lnTo>
                  <a:lnTo>
                    <a:pt x="34" y="2156"/>
                  </a:lnTo>
                  <a:lnTo>
                    <a:pt x="18" y="2129"/>
                  </a:lnTo>
                  <a:lnTo>
                    <a:pt x="7" y="210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6" y="8"/>
                  </a:lnTo>
                  <a:lnTo>
                    <a:pt x="23" y="30"/>
                  </a:lnTo>
                  <a:lnTo>
                    <a:pt x="52" y="64"/>
                  </a:lnTo>
                  <a:lnTo>
                    <a:pt x="90" y="110"/>
                  </a:lnTo>
                  <a:lnTo>
                    <a:pt x="135" y="165"/>
                  </a:lnTo>
                  <a:lnTo>
                    <a:pt x="189" y="228"/>
                  </a:lnTo>
                  <a:lnTo>
                    <a:pt x="248" y="298"/>
                  </a:lnTo>
                  <a:lnTo>
                    <a:pt x="313" y="373"/>
                  </a:lnTo>
                  <a:lnTo>
                    <a:pt x="380" y="450"/>
                  </a:lnTo>
                  <a:lnTo>
                    <a:pt x="452" y="529"/>
                  </a:lnTo>
                  <a:lnTo>
                    <a:pt x="525" y="609"/>
                  </a:lnTo>
                  <a:lnTo>
                    <a:pt x="599" y="686"/>
                  </a:lnTo>
                  <a:lnTo>
                    <a:pt x="636" y="725"/>
                  </a:lnTo>
                  <a:lnTo>
                    <a:pt x="673" y="761"/>
                  </a:lnTo>
                  <a:lnTo>
                    <a:pt x="710" y="797"/>
                  </a:lnTo>
                  <a:lnTo>
                    <a:pt x="745" y="831"/>
                  </a:lnTo>
                  <a:lnTo>
                    <a:pt x="780" y="864"/>
                  </a:lnTo>
                  <a:lnTo>
                    <a:pt x="816" y="895"/>
                  </a:lnTo>
                  <a:lnTo>
                    <a:pt x="849" y="923"/>
                  </a:lnTo>
                  <a:lnTo>
                    <a:pt x="881" y="9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243"/>
            <p:cNvSpPr/>
            <p:nvPr/>
          </p:nvSpPr>
          <p:spPr>
            <a:xfrm>
              <a:off x="6205680" y="5443200"/>
              <a:ext cx="5760" cy="633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4" h="2192">
                  <a:moveTo>
                    <a:pt x="284" y="9"/>
                  </a:moveTo>
                  <a:lnTo>
                    <a:pt x="273" y="11"/>
                  </a:lnTo>
                  <a:lnTo>
                    <a:pt x="241" y="16"/>
                  </a:lnTo>
                  <a:lnTo>
                    <a:pt x="197" y="22"/>
                  </a:lnTo>
                  <a:lnTo>
                    <a:pt x="146" y="26"/>
                  </a:lnTo>
                  <a:lnTo>
                    <a:pt x="119" y="28"/>
                  </a:lnTo>
                  <a:lnTo>
                    <a:pt x="94" y="28"/>
                  </a:lnTo>
                  <a:lnTo>
                    <a:pt x="70" y="28"/>
                  </a:lnTo>
                  <a:lnTo>
                    <a:pt x="49" y="26"/>
                  </a:lnTo>
                  <a:lnTo>
                    <a:pt x="39" y="24"/>
                  </a:lnTo>
                  <a:lnTo>
                    <a:pt x="30" y="22"/>
                  </a:lnTo>
                  <a:lnTo>
                    <a:pt x="22" y="20"/>
                  </a:lnTo>
                  <a:lnTo>
                    <a:pt x="14" y="17"/>
                  </a:lnTo>
                  <a:lnTo>
                    <a:pt x="9" y="13"/>
                  </a:lnTo>
                  <a:lnTo>
                    <a:pt x="4" y="9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2126"/>
                  </a:lnTo>
                  <a:lnTo>
                    <a:pt x="12" y="2132"/>
                  </a:lnTo>
                  <a:lnTo>
                    <a:pt x="45" y="2145"/>
                  </a:lnTo>
                  <a:lnTo>
                    <a:pt x="66" y="2153"/>
                  </a:lnTo>
                  <a:lnTo>
                    <a:pt x="90" y="2161"/>
                  </a:lnTo>
                  <a:lnTo>
                    <a:pt x="115" y="2170"/>
                  </a:lnTo>
                  <a:lnTo>
                    <a:pt x="141" y="2177"/>
                  </a:lnTo>
                  <a:lnTo>
                    <a:pt x="169" y="2184"/>
                  </a:lnTo>
                  <a:lnTo>
                    <a:pt x="194" y="2189"/>
                  </a:lnTo>
                  <a:lnTo>
                    <a:pt x="206" y="2191"/>
                  </a:lnTo>
                  <a:lnTo>
                    <a:pt x="218" y="2192"/>
                  </a:lnTo>
                  <a:lnTo>
                    <a:pt x="229" y="2192"/>
                  </a:lnTo>
                  <a:lnTo>
                    <a:pt x="239" y="2192"/>
                  </a:lnTo>
                  <a:lnTo>
                    <a:pt x="249" y="2191"/>
                  </a:lnTo>
                  <a:lnTo>
                    <a:pt x="257" y="2189"/>
                  </a:lnTo>
                  <a:lnTo>
                    <a:pt x="265" y="2186"/>
                  </a:lnTo>
                  <a:lnTo>
                    <a:pt x="272" y="2182"/>
                  </a:lnTo>
                  <a:lnTo>
                    <a:pt x="277" y="2177"/>
                  </a:lnTo>
                  <a:lnTo>
                    <a:pt x="281" y="2171"/>
                  </a:lnTo>
                  <a:lnTo>
                    <a:pt x="284" y="2164"/>
                  </a:lnTo>
                  <a:lnTo>
                    <a:pt x="284" y="2155"/>
                  </a:lnTo>
                  <a:lnTo>
                    <a:pt x="284" y="2127"/>
                  </a:lnTo>
                  <a:lnTo>
                    <a:pt x="284" y="2055"/>
                  </a:lnTo>
                  <a:lnTo>
                    <a:pt x="284" y="1946"/>
                  </a:lnTo>
                  <a:lnTo>
                    <a:pt x="284" y="1808"/>
                  </a:lnTo>
                  <a:lnTo>
                    <a:pt x="284" y="1645"/>
                  </a:lnTo>
                  <a:lnTo>
                    <a:pt x="284" y="1463"/>
                  </a:lnTo>
                  <a:lnTo>
                    <a:pt x="284" y="1271"/>
                  </a:lnTo>
                  <a:lnTo>
                    <a:pt x="284" y="1071"/>
                  </a:lnTo>
                  <a:lnTo>
                    <a:pt x="284" y="872"/>
                  </a:lnTo>
                  <a:lnTo>
                    <a:pt x="284" y="681"/>
                  </a:lnTo>
                  <a:lnTo>
                    <a:pt x="284" y="501"/>
                  </a:lnTo>
                  <a:lnTo>
                    <a:pt x="284" y="341"/>
                  </a:lnTo>
                  <a:lnTo>
                    <a:pt x="284" y="205"/>
                  </a:lnTo>
                  <a:lnTo>
                    <a:pt x="284" y="101"/>
                  </a:lnTo>
                  <a:lnTo>
                    <a:pt x="284" y="33"/>
                  </a:lnTo>
                  <a:lnTo>
                    <a:pt x="284" y="9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244"/>
            <p:cNvSpPr/>
            <p:nvPr/>
          </p:nvSpPr>
          <p:spPr>
            <a:xfrm>
              <a:off x="6081840" y="5434200"/>
              <a:ext cx="5760" cy="66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32" h="2324">
                  <a:moveTo>
                    <a:pt x="232" y="148"/>
                  </a:moveTo>
                  <a:lnTo>
                    <a:pt x="232" y="2323"/>
                  </a:lnTo>
                  <a:lnTo>
                    <a:pt x="222" y="2324"/>
                  </a:lnTo>
                  <a:lnTo>
                    <a:pt x="193" y="2323"/>
                  </a:lnTo>
                  <a:lnTo>
                    <a:pt x="174" y="2322"/>
                  </a:lnTo>
                  <a:lnTo>
                    <a:pt x="153" y="2319"/>
                  </a:lnTo>
                  <a:lnTo>
                    <a:pt x="131" y="2315"/>
                  </a:lnTo>
                  <a:lnTo>
                    <a:pt x="109" y="2309"/>
                  </a:lnTo>
                  <a:lnTo>
                    <a:pt x="98" y="2305"/>
                  </a:lnTo>
                  <a:lnTo>
                    <a:pt x="87" y="2299"/>
                  </a:lnTo>
                  <a:lnTo>
                    <a:pt x="76" y="2294"/>
                  </a:lnTo>
                  <a:lnTo>
                    <a:pt x="66" y="2288"/>
                  </a:lnTo>
                  <a:lnTo>
                    <a:pt x="56" y="2281"/>
                  </a:lnTo>
                  <a:lnTo>
                    <a:pt x="46" y="2274"/>
                  </a:lnTo>
                  <a:lnTo>
                    <a:pt x="37" y="2266"/>
                  </a:lnTo>
                  <a:lnTo>
                    <a:pt x="30" y="2257"/>
                  </a:lnTo>
                  <a:lnTo>
                    <a:pt x="23" y="2247"/>
                  </a:lnTo>
                  <a:lnTo>
                    <a:pt x="17" y="2236"/>
                  </a:lnTo>
                  <a:lnTo>
                    <a:pt x="12" y="2224"/>
                  </a:lnTo>
                  <a:lnTo>
                    <a:pt x="8" y="2211"/>
                  </a:lnTo>
                  <a:lnTo>
                    <a:pt x="6" y="2197"/>
                  </a:lnTo>
                  <a:lnTo>
                    <a:pt x="5" y="2180"/>
                  </a:lnTo>
                  <a:lnTo>
                    <a:pt x="5" y="2164"/>
                  </a:lnTo>
                  <a:lnTo>
                    <a:pt x="7" y="2146"/>
                  </a:lnTo>
                  <a:lnTo>
                    <a:pt x="7" y="0"/>
                  </a:lnTo>
                  <a:lnTo>
                    <a:pt x="5" y="8"/>
                  </a:lnTo>
                  <a:lnTo>
                    <a:pt x="1" y="29"/>
                  </a:lnTo>
                  <a:lnTo>
                    <a:pt x="0" y="43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4" y="73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3" y="96"/>
                  </a:lnTo>
                  <a:lnTo>
                    <a:pt x="18" y="104"/>
                  </a:lnTo>
                  <a:lnTo>
                    <a:pt x="24" y="111"/>
                  </a:lnTo>
                  <a:lnTo>
                    <a:pt x="32" y="118"/>
                  </a:lnTo>
                  <a:lnTo>
                    <a:pt x="40" y="124"/>
                  </a:lnTo>
                  <a:lnTo>
                    <a:pt x="49" y="130"/>
                  </a:lnTo>
                  <a:lnTo>
                    <a:pt x="61" y="136"/>
                  </a:lnTo>
                  <a:lnTo>
                    <a:pt x="74" y="141"/>
                  </a:lnTo>
                  <a:lnTo>
                    <a:pt x="87" y="145"/>
                  </a:lnTo>
                  <a:lnTo>
                    <a:pt x="103" y="149"/>
                  </a:lnTo>
                  <a:lnTo>
                    <a:pt x="119" y="151"/>
                  </a:lnTo>
                  <a:lnTo>
                    <a:pt x="138" y="153"/>
                  </a:lnTo>
                  <a:lnTo>
                    <a:pt x="159" y="153"/>
                  </a:lnTo>
                  <a:lnTo>
                    <a:pt x="182" y="153"/>
                  </a:lnTo>
                  <a:lnTo>
                    <a:pt x="206" y="151"/>
                  </a:lnTo>
                  <a:lnTo>
                    <a:pt x="232" y="1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245"/>
            <p:cNvSpPr/>
            <p:nvPr/>
          </p:nvSpPr>
          <p:spPr>
            <a:xfrm>
              <a:off x="6081840" y="5434200"/>
              <a:ext cx="5760" cy="66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32" h="2324">
                  <a:moveTo>
                    <a:pt x="232" y="148"/>
                  </a:moveTo>
                  <a:lnTo>
                    <a:pt x="232" y="2323"/>
                  </a:lnTo>
                  <a:lnTo>
                    <a:pt x="222" y="2324"/>
                  </a:lnTo>
                  <a:lnTo>
                    <a:pt x="193" y="2323"/>
                  </a:lnTo>
                  <a:lnTo>
                    <a:pt x="174" y="2322"/>
                  </a:lnTo>
                  <a:lnTo>
                    <a:pt x="153" y="2319"/>
                  </a:lnTo>
                  <a:lnTo>
                    <a:pt x="131" y="2315"/>
                  </a:lnTo>
                  <a:lnTo>
                    <a:pt x="109" y="2309"/>
                  </a:lnTo>
                  <a:lnTo>
                    <a:pt x="98" y="2305"/>
                  </a:lnTo>
                  <a:lnTo>
                    <a:pt x="87" y="2299"/>
                  </a:lnTo>
                  <a:lnTo>
                    <a:pt x="76" y="2294"/>
                  </a:lnTo>
                  <a:lnTo>
                    <a:pt x="66" y="2288"/>
                  </a:lnTo>
                  <a:lnTo>
                    <a:pt x="56" y="2281"/>
                  </a:lnTo>
                  <a:lnTo>
                    <a:pt x="46" y="2274"/>
                  </a:lnTo>
                  <a:lnTo>
                    <a:pt x="37" y="2266"/>
                  </a:lnTo>
                  <a:lnTo>
                    <a:pt x="30" y="2257"/>
                  </a:lnTo>
                  <a:lnTo>
                    <a:pt x="23" y="2247"/>
                  </a:lnTo>
                  <a:lnTo>
                    <a:pt x="17" y="2236"/>
                  </a:lnTo>
                  <a:lnTo>
                    <a:pt x="12" y="2224"/>
                  </a:lnTo>
                  <a:lnTo>
                    <a:pt x="8" y="2211"/>
                  </a:lnTo>
                  <a:lnTo>
                    <a:pt x="6" y="2197"/>
                  </a:lnTo>
                  <a:lnTo>
                    <a:pt x="5" y="2180"/>
                  </a:lnTo>
                  <a:lnTo>
                    <a:pt x="5" y="2164"/>
                  </a:lnTo>
                  <a:lnTo>
                    <a:pt x="7" y="2146"/>
                  </a:lnTo>
                  <a:lnTo>
                    <a:pt x="7" y="0"/>
                  </a:lnTo>
                  <a:lnTo>
                    <a:pt x="5" y="8"/>
                  </a:lnTo>
                  <a:lnTo>
                    <a:pt x="1" y="29"/>
                  </a:lnTo>
                  <a:lnTo>
                    <a:pt x="0" y="43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4" y="73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3" y="96"/>
                  </a:lnTo>
                  <a:lnTo>
                    <a:pt x="18" y="104"/>
                  </a:lnTo>
                  <a:lnTo>
                    <a:pt x="24" y="111"/>
                  </a:lnTo>
                  <a:lnTo>
                    <a:pt x="32" y="118"/>
                  </a:lnTo>
                  <a:lnTo>
                    <a:pt x="40" y="124"/>
                  </a:lnTo>
                  <a:lnTo>
                    <a:pt x="49" y="130"/>
                  </a:lnTo>
                  <a:lnTo>
                    <a:pt x="61" y="136"/>
                  </a:lnTo>
                  <a:lnTo>
                    <a:pt x="74" y="141"/>
                  </a:lnTo>
                  <a:lnTo>
                    <a:pt x="87" y="145"/>
                  </a:lnTo>
                  <a:lnTo>
                    <a:pt x="103" y="149"/>
                  </a:lnTo>
                  <a:lnTo>
                    <a:pt x="119" y="151"/>
                  </a:lnTo>
                  <a:lnTo>
                    <a:pt x="138" y="153"/>
                  </a:lnTo>
                  <a:lnTo>
                    <a:pt x="159" y="153"/>
                  </a:lnTo>
                  <a:lnTo>
                    <a:pt x="182" y="153"/>
                  </a:lnTo>
                  <a:lnTo>
                    <a:pt x="206" y="151"/>
                  </a:lnTo>
                  <a:lnTo>
                    <a:pt x="232" y="1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246"/>
            <p:cNvSpPr/>
            <p:nvPr/>
          </p:nvSpPr>
          <p:spPr>
            <a:xfrm>
              <a:off x="6054840" y="5441400"/>
              <a:ext cx="1080" cy="698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12" h="2381">
                  <a:moveTo>
                    <a:pt x="0" y="225"/>
                  </a:moveTo>
                  <a:lnTo>
                    <a:pt x="6" y="222"/>
                  </a:lnTo>
                  <a:lnTo>
                    <a:pt x="21" y="212"/>
                  </a:lnTo>
                  <a:lnTo>
                    <a:pt x="31" y="204"/>
                  </a:lnTo>
                  <a:lnTo>
                    <a:pt x="42" y="195"/>
                  </a:lnTo>
                  <a:lnTo>
                    <a:pt x="53" y="184"/>
                  </a:lnTo>
                  <a:lnTo>
                    <a:pt x="66" y="171"/>
                  </a:lnTo>
                  <a:lnTo>
                    <a:pt x="77" y="157"/>
                  </a:lnTo>
                  <a:lnTo>
                    <a:pt x="87" y="140"/>
                  </a:lnTo>
                  <a:lnTo>
                    <a:pt x="92" y="131"/>
                  </a:lnTo>
                  <a:lnTo>
                    <a:pt x="96" y="122"/>
                  </a:lnTo>
                  <a:lnTo>
                    <a:pt x="100" y="112"/>
                  </a:lnTo>
                  <a:lnTo>
                    <a:pt x="104" y="101"/>
                  </a:lnTo>
                  <a:lnTo>
                    <a:pt x="107" y="90"/>
                  </a:lnTo>
                  <a:lnTo>
                    <a:pt x="109" y="79"/>
                  </a:lnTo>
                  <a:lnTo>
                    <a:pt x="111" y="67"/>
                  </a:lnTo>
                  <a:lnTo>
                    <a:pt x="112" y="55"/>
                  </a:lnTo>
                  <a:lnTo>
                    <a:pt x="112" y="42"/>
                  </a:lnTo>
                  <a:lnTo>
                    <a:pt x="112" y="28"/>
                  </a:lnTo>
                  <a:lnTo>
                    <a:pt x="110" y="15"/>
                  </a:lnTo>
                  <a:lnTo>
                    <a:pt x="108" y="0"/>
                  </a:lnTo>
                  <a:lnTo>
                    <a:pt x="98" y="2224"/>
                  </a:lnTo>
                  <a:lnTo>
                    <a:pt x="99" y="2228"/>
                  </a:lnTo>
                  <a:lnTo>
                    <a:pt x="98" y="2238"/>
                  </a:lnTo>
                  <a:lnTo>
                    <a:pt x="97" y="2245"/>
                  </a:lnTo>
                  <a:lnTo>
                    <a:pt x="96" y="2253"/>
                  </a:lnTo>
                  <a:lnTo>
                    <a:pt x="93" y="2262"/>
                  </a:lnTo>
                  <a:lnTo>
                    <a:pt x="90" y="2274"/>
                  </a:lnTo>
                  <a:lnTo>
                    <a:pt x="85" y="2285"/>
                  </a:lnTo>
                  <a:lnTo>
                    <a:pt x="79" y="2297"/>
                  </a:lnTo>
                  <a:lnTo>
                    <a:pt x="71" y="2310"/>
                  </a:lnTo>
                  <a:lnTo>
                    <a:pt x="62" y="2324"/>
                  </a:lnTo>
                  <a:lnTo>
                    <a:pt x="49" y="2337"/>
                  </a:lnTo>
                  <a:lnTo>
                    <a:pt x="35" y="2352"/>
                  </a:lnTo>
                  <a:lnTo>
                    <a:pt x="19" y="2366"/>
                  </a:lnTo>
                  <a:lnTo>
                    <a:pt x="0" y="2381"/>
                  </a:lnTo>
                  <a:lnTo>
                    <a:pt x="0" y="22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247"/>
            <p:cNvSpPr/>
            <p:nvPr/>
          </p:nvSpPr>
          <p:spPr>
            <a:xfrm>
              <a:off x="6011640" y="5436000"/>
              <a:ext cx="4320" cy="615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77" h="2156">
                  <a:moveTo>
                    <a:pt x="138" y="108"/>
                  </a:moveTo>
                  <a:lnTo>
                    <a:pt x="140" y="101"/>
                  </a:lnTo>
                  <a:lnTo>
                    <a:pt x="145" y="85"/>
                  </a:lnTo>
                  <a:lnTo>
                    <a:pt x="147" y="75"/>
                  </a:lnTo>
                  <a:lnTo>
                    <a:pt x="149" y="63"/>
                  </a:lnTo>
                  <a:lnTo>
                    <a:pt x="148" y="52"/>
                  </a:lnTo>
                  <a:lnTo>
                    <a:pt x="146" y="40"/>
                  </a:lnTo>
                  <a:lnTo>
                    <a:pt x="145" y="35"/>
                  </a:lnTo>
                  <a:lnTo>
                    <a:pt x="142" y="29"/>
                  </a:lnTo>
                  <a:lnTo>
                    <a:pt x="139" y="24"/>
                  </a:lnTo>
                  <a:lnTo>
                    <a:pt x="135" y="19"/>
                  </a:lnTo>
                  <a:lnTo>
                    <a:pt x="129" y="15"/>
                  </a:lnTo>
                  <a:lnTo>
                    <a:pt x="123" y="11"/>
                  </a:lnTo>
                  <a:lnTo>
                    <a:pt x="116" y="7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89" y="1"/>
                  </a:lnTo>
                  <a:lnTo>
                    <a:pt x="78" y="0"/>
                  </a:lnTo>
                  <a:lnTo>
                    <a:pt x="65" y="0"/>
                  </a:lnTo>
                  <a:lnTo>
                    <a:pt x="51" y="1"/>
                  </a:lnTo>
                  <a:lnTo>
                    <a:pt x="36" y="3"/>
                  </a:lnTo>
                  <a:lnTo>
                    <a:pt x="19" y="6"/>
                  </a:lnTo>
                  <a:lnTo>
                    <a:pt x="0" y="10"/>
                  </a:lnTo>
                  <a:lnTo>
                    <a:pt x="0" y="2156"/>
                  </a:lnTo>
                  <a:lnTo>
                    <a:pt x="8" y="2153"/>
                  </a:lnTo>
                  <a:lnTo>
                    <a:pt x="25" y="2145"/>
                  </a:lnTo>
                  <a:lnTo>
                    <a:pt x="37" y="2139"/>
                  </a:lnTo>
                  <a:lnTo>
                    <a:pt x="51" y="2134"/>
                  </a:lnTo>
                  <a:lnTo>
                    <a:pt x="66" y="2130"/>
                  </a:lnTo>
                  <a:lnTo>
                    <a:pt x="81" y="2126"/>
                  </a:lnTo>
                  <a:lnTo>
                    <a:pt x="97" y="2123"/>
                  </a:lnTo>
                  <a:lnTo>
                    <a:pt x="112" y="2121"/>
                  </a:lnTo>
                  <a:lnTo>
                    <a:pt x="127" y="2121"/>
                  </a:lnTo>
                  <a:lnTo>
                    <a:pt x="141" y="2122"/>
                  </a:lnTo>
                  <a:lnTo>
                    <a:pt x="148" y="2124"/>
                  </a:lnTo>
                  <a:lnTo>
                    <a:pt x="153" y="2126"/>
                  </a:lnTo>
                  <a:lnTo>
                    <a:pt x="159" y="2129"/>
                  </a:lnTo>
                  <a:lnTo>
                    <a:pt x="164" y="2133"/>
                  </a:lnTo>
                  <a:lnTo>
                    <a:pt x="168" y="2137"/>
                  </a:lnTo>
                  <a:lnTo>
                    <a:pt x="172" y="2143"/>
                  </a:lnTo>
                  <a:lnTo>
                    <a:pt x="175" y="2149"/>
                  </a:lnTo>
                  <a:lnTo>
                    <a:pt x="177" y="2156"/>
                  </a:lnTo>
                  <a:lnTo>
                    <a:pt x="138" y="1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248"/>
            <p:cNvSpPr/>
            <p:nvPr/>
          </p:nvSpPr>
          <p:spPr>
            <a:xfrm>
              <a:off x="5978520" y="5441400"/>
              <a:ext cx="12600" cy="65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61" h="2287">
                  <a:moveTo>
                    <a:pt x="461" y="127"/>
                  </a:moveTo>
                  <a:lnTo>
                    <a:pt x="440" y="130"/>
                  </a:lnTo>
                  <a:lnTo>
                    <a:pt x="389" y="138"/>
                  </a:lnTo>
                  <a:lnTo>
                    <a:pt x="354" y="142"/>
                  </a:lnTo>
                  <a:lnTo>
                    <a:pt x="314" y="145"/>
                  </a:lnTo>
                  <a:lnTo>
                    <a:pt x="294" y="145"/>
                  </a:lnTo>
                  <a:lnTo>
                    <a:pt x="273" y="146"/>
                  </a:lnTo>
                  <a:lnTo>
                    <a:pt x="252" y="146"/>
                  </a:lnTo>
                  <a:lnTo>
                    <a:pt x="231" y="145"/>
                  </a:lnTo>
                  <a:lnTo>
                    <a:pt x="209" y="144"/>
                  </a:lnTo>
                  <a:lnTo>
                    <a:pt x="187" y="142"/>
                  </a:lnTo>
                  <a:lnTo>
                    <a:pt x="166" y="139"/>
                  </a:lnTo>
                  <a:lnTo>
                    <a:pt x="146" y="136"/>
                  </a:lnTo>
                  <a:lnTo>
                    <a:pt x="126" y="130"/>
                  </a:lnTo>
                  <a:lnTo>
                    <a:pt x="107" y="125"/>
                  </a:lnTo>
                  <a:lnTo>
                    <a:pt x="89" y="118"/>
                  </a:lnTo>
                  <a:lnTo>
                    <a:pt x="73" y="111"/>
                  </a:lnTo>
                  <a:lnTo>
                    <a:pt x="56" y="102"/>
                  </a:lnTo>
                  <a:lnTo>
                    <a:pt x="42" y="92"/>
                  </a:lnTo>
                  <a:lnTo>
                    <a:pt x="30" y="80"/>
                  </a:lnTo>
                  <a:lnTo>
                    <a:pt x="20" y="68"/>
                  </a:lnTo>
                  <a:lnTo>
                    <a:pt x="12" y="53"/>
                  </a:lnTo>
                  <a:lnTo>
                    <a:pt x="5" y="37"/>
                  </a:lnTo>
                  <a:lnTo>
                    <a:pt x="2" y="20"/>
                  </a:lnTo>
                  <a:lnTo>
                    <a:pt x="0" y="0"/>
                  </a:lnTo>
                  <a:lnTo>
                    <a:pt x="0" y="2117"/>
                  </a:lnTo>
                  <a:lnTo>
                    <a:pt x="5" y="2126"/>
                  </a:lnTo>
                  <a:lnTo>
                    <a:pt x="21" y="2151"/>
                  </a:lnTo>
                  <a:lnTo>
                    <a:pt x="34" y="2168"/>
                  </a:lnTo>
                  <a:lnTo>
                    <a:pt x="50" y="2185"/>
                  </a:lnTo>
                  <a:lnTo>
                    <a:pt x="59" y="2194"/>
                  </a:lnTo>
                  <a:lnTo>
                    <a:pt x="71" y="2203"/>
                  </a:lnTo>
                  <a:lnTo>
                    <a:pt x="82" y="2212"/>
                  </a:lnTo>
                  <a:lnTo>
                    <a:pt x="95" y="2221"/>
                  </a:lnTo>
                  <a:lnTo>
                    <a:pt x="108" y="2230"/>
                  </a:lnTo>
                  <a:lnTo>
                    <a:pt x="123" y="2238"/>
                  </a:lnTo>
                  <a:lnTo>
                    <a:pt x="139" y="2246"/>
                  </a:lnTo>
                  <a:lnTo>
                    <a:pt x="155" y="2254"/>
                  </a:lnTo>
                  <a:lnTo>
                    <a:pt x="173" y="2261"/>
                  </a:lnTo>
                  <a:lnTo>
                    <a:pt x="193" y="2267"/>
                  </a:lnTo>
                  <a:lnTo>
                    <a:pt x="214" y="2273"/>
                  </a:lnTo>
                  <a:lnTo>
                    <a:pt x="236" y="2278"/>
                  </a:lnTo>
                  <a:lnTo>
                    <a:pt x="259" y="2282"/>
                  </a:lnTo>
                  <a:lnTo>
                    <a:pt x="283" y="2284"/>
                  </a:lnTo>
                  <a:lnTo>
                    <a:pt x="309" y="2287"/>
                  </a:lnTo>
                  <a:lnTo>
                    <a:pt x="337" y="2287"/>
                  </a:lnTo>
                  <a:lnTo>
                    <a:pt x="366" y="2286"/>
                  </a:lnTo>
                  <a:lnTo>
                    <a:pt x="396" y="2283"/>
                  </a:lnTo>
                  <a:lnTo>
                    <a:pt x="427" y="2279"/>
                  </a:lnTo>
                  <a:lnTo>
                    <a:pt x="461" y="2273"/>
                  </a:lnTo>
                  <a:lnTo>
                    <a:pt x="461" y="1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249"/>
            <p:cNvSpPr/>
            <p:nvPr/>
          </p:nvSpPr>
          <p:spPr>
            <a:xfrm>
              <a:off x="5956560" y="5434200"/>
              <a:ext cx="10800" cy="65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31" h="2221">
                  <a:moveTo>
                    <a:pt x="431" y="50"/>
                  </a:moveTo>
                  <a:lnTo>
                    <a:pt x="414" y="54"/>
                  </a:lnTo>
                  <a:lnTo>
                    <a:pt x="369" y="64"/>
                  </a:lnTo>
                  <a:lnTo>
                    <a:pt x="339" y="70"/>
                  </a:lnTo>
                  <a:lnTo>
                    <a:pt x="305" y="75"/>
                  </a:lnTo>
                  <a:lnTo>
                    <a:pt x="268" y="80"/>
                  </a:lnTo>
                  <a:lnTo>
                    <a:pt x="230" y="84"/>
                  </a:lnTo>
                  <a:lnTo>
                    <a:pt x="211" y="85"/>
                  </a:lnTo>
                  <a:lnTo>
                    <a:pt x="192" y="86"/>
                  </a:lnTo>
                  <a:lnTo>
                    <a:pt x="173" y="86"/>
                  </a:lnTo>
                  <a:lnTo>
                    <a:pt x="153" y="85"/>
                  </a:lnTo>
                  <a:lnTo>
                    <a:pt x="135" y="84"/>
                  </a:lnTo>
                  <a:lnTo>
                    <a:pt x="117" y="81"/>
                  </a:lnTo>
                  <a:lnTo>
                    <a:pt x="100" y="78"/>
                  </a:lnTo>
                  <a:lnTo>
                    <a:pt x="84" y="74"/>
                  </a:lnTo>
                  <a:lnTo>
                    <a:pt x="69" y="69"/>
                  </a:lnTo>
                  <a:lnTo>
                    <a:pt x="54" y="63"/>
                  </a:lnTo>
                  <a:lnTo>
                    <a:pt x="41" y="56"/>
                  </a:lnTo>
                  <a:lnTo>
                    <a:pt x="30" y="48"/>
                  </a:lnTo>
                  <a:lnTo>
                    <a:pt x="19" y="38"/>
                  </a:lnTo>
                  <a:lnTo>
                    <a:pt x="11" y="26"/>
                  </a:lnTo>
                  <a:lnTo>
                    <a:pt x="4" y="14"/>
                  </a:lnTo>
                  <a:lnTo>
                    <a:pt x="0" y="0"/>
                  </a:lnTo>
                  <a:lnTo>
                    <a:pt x="0" y="2156"/>
                  </a:lnTo>
                  <a:lnTo>
                    <a:pt x="8" y="2162"/>
                  </a:lnTo>
                  <a:lnTo>
                    <a:pt x="32" y="2175"/>
                  </a:lnTo>
                  <a:lnTo>
                    <a:pt x="49" y="2185"/>
                  </a:lnTo>
                  <a:lnTo>
                    <a:pt x="69" y="2194"/>
                  </a:lnTo>
                  <a:lnTo>
                    <a:pt x="93" y="2202"/>
                  </a:lnTo>
                  <a:lnTo>
                    <a:pt x="120" y="2209"/>
                  </a:lnTo>
                  <a:lnTo>
                    <a:pt x="134" y="2213"/>
                  </a:lnTo>
                  <a:lnTo>
                    <a:pt x="149" y="2215"/>
                  </a:lnTo>
                  <a:lnTo>
                    <a:pt x="166" y="2218"/>
                  </a:lnTo>
                  <a:lnTo>
                    <a:pt x="183" y="2219"/>
                  </a:lnTo>
                  <a:lnTo>
                    <a:pt x="200" y="2220"/>
                  </a:lnTo>
                  <a:lnTo>
                    <a:pt x="218" y="2221"/>
                  </a:lnTo>
                  <a:lnTo>
                    <a:pt x="236" y="2220"/>
                  </a:lnTo>
                  <a:lnTo>
                    <a:pt x="256" y="2219"/>
                  </a:lnTo>
                  <a:lnTo>
                    <a:pt x="275" y="2216"/>
                  </a:lnTo>
                  <a:lnTo>
                    <a:pt x="297" y="2213"/>
                  </a:lnTo>
                  <a:lnTo>
                    <a:pt x="318" y="2208"/>
                  </a:lnTo>
                  <a:lnTo>
                    <a:pt x="339" y="2203"/>
                  </a:lnTo>
                  <a:lnTo>
                    <a:pt x="361" y="2196"/>
                  </a:lnTo>
                  <a:lnTo>
                    <a:pt x="384" y="2188"/>
                  </a:lnTo>
                  <a:lnTo>
                    <a:pt x="408" y="2177"/>
                  </a:lnTo>
                  <a:lnTo>
                    <a:pt x="431" y="2166"/>
                  </a:lnTo>
                  <a:lnTo>
                    <a:pt x="431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250"/>
            <p:cNvSpPr/>
            <p:nvPr/>
          </p:nvSpPr>
          <p:spPr>
            <a:xfrm>
              <a:off x="5924880" y="5387760"/>
              <a:ext cx="14040" cy="69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19" h="2362">
                  <a:moveTo>
                    <a:pt x="519" y="216"/>
                  </a:moveTo>
                  <a:lnTo>
                    <a:pt x="519" y="2362"/>
                  </a:lnTo>
                  <a:lnTo>
                    <a:pt x="0" y="2146"/>
                  </a:lnTo>
                  <a:lnTo>
                    <a:pt x="0" y="0"/>
                  </a:lnTo>
                  <a:lnTo>
                    <a:pt x="519" y="2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251"/>
            <p:cNvSpPr/>
            <p:nvPr/>
          </p:nvSpPr>
          <p:spPr>
            <a:xfrm>
              <a:off x="6008760" y="5330520"/>
              <a:ext cx="2520" cy="7236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97" h="2499">
                  <a:moveTo>
                    <a:pt x="97" y="274"/>
                  </a:moveTo>
                  <a:lnTo>
                    <a:pt x="97" y="2499"/>
                  </a:lnTo>
                  <a:lnTo>
                    <a:pt x="0" y="2215"/>
                  </a:lnTo>
                  <a:lnTo>
                    <a:pt x="0" y="0"/>
                  </a:lnTo>
                  <a:lnTo>
                    <a:pt x="97" y="27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252"/>
            <p:cNvSpPr/>
            <p:nvPr/>
          </p:nvSpPr>
          <p:spPr>
            <a:xfrm>
              <a:off x="6300720" y="5515200"/>
              <a:ext cx="16920" cy="90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86" h="3106">
                  <a:moveTo>
                    <a:pt x="677" y="0"/>
                  </a:moveTo>
                  <a:lnTo>
                    <a:pt x="676" y="3"/>
                  </a:lnTo>
                  <a:lnTo>
                    <a:pt x="674" y="12"/>
                  </a:lnTo>
                  <a:lnTo>
                    <a:pt x="669" y="29"/>
                  </a:lnTo>
                  <a:lnTo>
                    <a:pt x="661" y="51"/>
                  </a:lnTo>
                  <a:lnTo>
                    <a:pt x="647" y="81"/>
                  </a:lnTo>
                  <a:lnTo>
                    <a:pt x="630" y="117"/>
                  </a:lnTo>
                  <a:lnTo>
                    <a:pt x="619" y="140"/>
                  </a:lnTo>
                  <a:lnTo>
                    <a:pt x="607" y="163"/>
                  </a:lnTo>
                  <a:lnTo>
                    <a:pt x="593" y="188"/>
                  </a:lnTo>
                  <a:lnTo>
                    <a:pt x="577" y="215"/>
                  </a:lnTo>
                  <a:lnTo>
                    <a:pt x="560" y="245"/>
                  </a:lnTo>
                  <a:lnTo>
                    <a:pt x="540" y="277"/>
                  </a:lnTo>
                  <a:lnTo>
                    <a:pt x="517" y="311"/>
                  </a:lnTo>
                  <a:lnTo>
                    <a:pt x="494" y="346"/>
                  </a:lnTo>
                  <a:lnTo>
                    <a:pt x="468" y="385"/>
                  </a:lnTo>
                  <a:lnTo>
                    <a:pt x="439" y="425"/>
                  </a:lnTo>
                  <a:lnTo>
                    <a:pt x="409" y="467"/>
                  </a:lnTo>
                  <a:lnTo>
                    <a:pt x="374" y="513"/>
                  </a:lnTo>
                  <a:lnTo>
                    <a:pt x="338" y="560"/>
                  </a:lnTo>
                  <a:lnTo>
                    <a:pt x="299" y="609"/>
                  </a:lnTo>
                  <a:lnTo>
                    <a:pt x="257" y="662"/>
                  </a:lnTo>
                  <a:lnTo>
                    <a:pt x="212" y="716"/>
                  </a:lnTo>
                  <a:lnTo>
                    <a:pt x="165" y="774"/>
                  </a:lnTo>
                  <a:lnTo>
                    <a:pt x="113" y="833"/>
                  </a:lnTo>
                  <a:lnTo>
                    <a:pt x="59" y="896"/>
                  </a:lnTo>
                  <a:lnTo>
                    <a:pt x="0" y="960"/>
                  </a:lnTo>
                  <a:lnTo>
                    <a:pt x="10" y="3106"/>
                  </a:lnTo>
                  <a:lnTo>
                    <a:pt x="17" y="3099"/>
                  </a:lnTo>
                  <a:lnTo>
                    <a:pt x="40" y="3077"/>
                  </a:lnTo>
                  <a:lnTo>
                    <a:pt x="73" y="3043"/>
                  </a:lnTo>
                  <a:lnTo>
                    <a:pt x="116" y="2997"/>
                  </a:lnTo>
                  <a:lnTo>
                    <a:pt x="167" y="2943"/>
                  </a:lnTo>
                  <a:lnTo>
                    <a:pt x="224" y="2880"/>
                  </a:lnTo>
                  <a:lnTo>
                    <a:pt x="285" y="2811"/>
                  </a:lnTo>
                  <a:lnTo>
                    <a:pt x="348" y="2736"/>
                  </a:lnTo>
                  <a:lnTo>
                    <a:pt x="379" y="2698"/>
                  </a:lnTo>
                  <a:lnTo>
                    <a:pt x="412" y="2659"/>
                  </a:lnTo>
                  <a:lnTo>
                    <a:pt x="442" y="2619"/>
                  </a:lnTo>
                  <a:lnTo>
                    <a:pt x="472" y="2579"/>
                  </a:lnTo>
                  <a:lnTo>
                    <a:pt x="501" y="2540"/>
                  </a:lnTo>
                  <a:lnTo>
                    <a:pt x="530" y="2499"/>
                  </a:lnTo>
                  <a:lnTo>
                    <a:pt x="556" y="2460"/>
                  </a:lnTo>
                  <a:lnTo>
                    <a:pt x="581" y="2421"/>
                  </a:lnTo>
                  <a:lnTo>
                    <a:pt x="603" y="2381"/>
                  </a:lnTo>
                  <a:lnTo>
                    <a:pt x="623" y="2344"/>
                  </a:lnTo>
                  <a:lnTo>
                    <a:pt x="641" y="2308"/>
                  </a:lnTo>
                  <a:lnTo>
                    <a:pt x="658" y="2271"/>
                  </a:lnTo>
                  <a:lnTo>
                    <a:pt x="670" y="2238"/>
                  </a:lnTo>
                  <a:lnTo>
                    <a:pt x="679" y="2206"/>
                  </a:lnTo>
                  <a:lnTo>
                    <a:pt x="684" y="2175"/>
                  </a:lnTo>
                  <a:lnTo>
                    <a:pt x="686" y="2146"/>
                  </a:lnTo>
                  <a:lnTo>
                    <a:pt x="6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253"/>
            <p:cNvSpPr/>
            <p:nvPr/>
          </p:nvSpPr>
          <p:spPr>
            <a:xfrm>
              <a:off x="6051600" y="5398920"/>
              <a:ext cx="83520" cy="1008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088" h="3451">
                  <a:moveTo>
                    <a:pt x="3088" y="158"/>
                  </a:moveTo>
                  <a:lnTo>
                    <a:pt x="3088" y="2353"/>
                  </a:lnTo>
                  <a:lnTo>
                    <a:pt x="3087" y="2349"/>
                  </a:lnTo>
                  <a:lnTo>
                    <a:pt x="3086" y="2338"/>
                  </a:lnTo>
                  <a:lnTo>
                    <a:pt x="3084" y="2331"/>
                  </a:lnTo>
                  <a:lnTo>
                    <a:pt x="3081" y="2322"/>
                  </a:lnTo>
                  <a:lnTo>
                    <a:pt x="3077" y="2311"/>
                  </a:lnTo>
                  <a:lnTo>
                    <a:pt x="3072" y="2300"/>
                  </a:lnTo>
                  <a:lnTo>
                    <a:pt x="3066" y="2289"/>
                  </a:lnTo>
                  <a:lnTo>
                    <a:pt x="3057" y="2275"/>
                  </a:lnTo>
                  <a:lnTo>
                    <a:pt x="3047" y="2262"/>
                  </a:lnTo>
                  <a:lnTo>
                    <a:pt x="3034" y="2249"/>
                  </a:lnTo>
                  <a:lnTo>
                    <a:pt x="3020" y="2236"/>
                  </a:lnTo>
                  <a:lnTo>
                    <a:pt x="3004" y="2223"/>
                  </a:lnTo>
                  <a:lnTo>
                    <a:pt x="2985" y="2210"/>
                  </a:lnTo>
                  <a:lnTo>
                    <a:pt x="2963" y="2198"/>
                  </a:lnTo>
                  <a:lnTo>
                    <a:pt x="2938" y="2186"/>
                  </a:lnTo>
                  <a:lnTo>
                    <a:pt x="2909" y="2175"/>
                  </a:lnTo>
                  <a:lnTo>
                    <a:pt x="2878" y="2165"/>
                  </a:lnTo>
                  <a:lnTo>
                    <a:pt x="2844" y="2155"/>
                  </a:lnTo>
                  <a:lnTo>
                    <a:pt x="2805" y="2148"/>
                  </a:lnTo>
                  <a:lnTo>
                    <a:pt x="2763" y="2141"/>
                  </a:lnTo>
                  <a:lnTo>
                    <a:pt x="2717" y="2137"/>
                  </a:lnTo>
                  <a:lnTo>
                    <a:pt x="2666" y="2134"/>
                  </a:lnTo>
                  <a:lnTo>
                    <a:pt x="2611" y="2133"/>
                  </a:lnTo>
                  <a:lnTo>
                    <a:pt x="2552" y="2134"/>
                  </a:lnTo>
                  <a:lnTo>
                    <a:pt x="2487" y="2138"/>
                  </a:lnTo>
                  <a:lnTo>
                    <a:pt x="2419" y="2144"/>
                  </a:lnTo>
                  <a:lnTo>
                    <a:pt x="2344" y="2153"/>
                  </a:lnTo>
                  <a:lnTo>
                    <a:pt x="2264" y="2165"/>
                  </a:lnTo>
                  <a:lnTo>
                    <a:pt x="2179" y="2179"/>
                  </a:lnTo>
                  <a:lnTo>
                    <a:pt x="2088" y="2197"/>
                  </a:lnTo>
                  <a:lnTo>
                    <a:pt x="2082" y="2197"/>
                  </a:lnTo>
                  <a:lnTo>
                    <a:pt x="2062" y="2197"/>
                  </a:lnTo>
                  <a:lnTo>
                    <a:pt x="2032" y="2199"/>
                  </a:lnTo>
                  <a:lnTo>
                    <a:pt x="1991" y="2202"/>
                  </a:lnTo>
                  <a:lnTo>
                    <a:pt x="1942" y="2206"/>
                  </a:lnTo>
                  <a:lnTo>
                    <a:pt x="1887" y="2213"/>
                  </a:lnTo>
                  <a:lnTo>
                    <a:pt x="1857" y="2217"/>
                  </a:lnTo>
                  <a:lnTo>
                    <a:pt x="1827" y="2222"/>
                  </a:lnTo>
                  <a:lnTo>
                    <a:pt x="1795" y="2228"/>
                  </a:lnTo>
                  <a:lnTo>
                    <a:pt x="1762" y="2234"/>
                  </a:lnTo>
                  <a:lnTo>
                    <a:pt x="1730" y="2242"/>
                  </a:lnTo>
                  <a:lnTo>
                    <a:pt x="1697" y="2250"/>
                  </a:lnTo>
                  <a:lnTo>
                    <a:pt x="1664" y="2260"/>
                  </a:lnTo>
                  <a:lnTo>
                    <a:pt x="1630" y="2270"/>
                  </a:lnTo>
                  <a:lnTo>
                    <a:pt x="1597" y="2283"/>
                  </a:lnTo>
                  <a:lnTo>
                    <a:pt x="1565" y="2296"/>
                  </a:lnTo>
                  <a:lnTo>
                    <a:pt x="1533" y="2310"/>
                  </a:lnTo>
                  <a:lnTo>
                    <a:pt x="1501" y="2325"/>
                  </a:lnTo>
                  <a:lnTo>
                    <a:pt x="1471" y="2342"/>
                  </a:lnTo>
                  <a:lnTo>
                    <a:pt x="1443" y="2359"/>
                  </a:lnTo>
                  <a:lnTo>
                    <a:pt x="1415" y="2379"/>
                  </a:lnTo>
                  <a:lnTo>
                    <a:pt x="1389" y="2400"/>
                  </a:lnTo>
                  <a:lnTo>
                    <a:pt x="1365" y="2423"/>
                  </a:lnTo>
                  <a:lnTo>
                    <a:pt x="1343" y="2447"/>
                  </a:lnTo>
                  <a:lnTo>
                    <a:pt x="1323" y="2473"/>
                  </a:lnTo>
                  <a:lnTo>
                    <a:pt x="1305" y="2500"/>
                  </a:lnTo>
                  <a:lnTo>
                    <a:pt x="1283" y="2517"/>
                  </a:lnTo>
                  <a:lnTo>
                    <a:pt x="1223" y="2562"/>
                  </a:lnTo>
                  <a:lnTo>
                    <a:pt x="1136" y="2628"/>
                  </a:lnTo>
                  <a:lnTo>
                    <a:pt x="1035" y="2707"/>
                  </a:lnTo>
                  <a:lnTo>
                    <a:pt x="926" y="2793"/>
                  </a:lnTo>
                  <a:lnTo>
                    <a:pt x="821" y="2876"/>
                  </a:lnTo>
                  <a:lnTo>
                    <a:pt x="774" y="2916"/>
                  </a:lnTo>
                  <a:lnTo>
                    <a:pt x="732" y="2951"/>
                  </a:lnTo>
                  <a:lnTo>
                    <a:pt x="696" y="2983"/>
                  </a:lnTo>
                  <a:lnTo>
                    <a:pt x="668" y="3010"/>
                  </a:lnTo>
                  <a:lnTo>
                    <a:pt x="51" y="3343"/>
                  </a:lnTo>
                  <a:lnTo>
                    <a:pt x="22" y="3451"/>
                  </a:lnTo>
                  <a:lnTo>
                    <a:pt x="22" y="1275"/>
                  </a:lnTo>
                  <a:lnTo>
                    <a:pt x="18" y="1271"/>
                  </a:lnTo>
                  <a:lnTo>
                    <a:pt x="9" y="1260"/>
                  </a:lnTo>
                  <a:lnTo>
                    <a:pt x="5" y="1252"/>
                  </a:lnTo>
                  <a:lnTo>
                    <a:pt x="2" y="1243"/>
                  </a:lnTo>
                  <a:lnTo>
                    <a:pt x="1" y="1238"/>
                  </a:lnTo>
                  <a:lnTo>
                    <a:pt x="0" y="1233"/>
                  </a:lnTo>
                  <a:lnTo>
                    <a:pt x="0" y="1228"/>
                  </a:lnTo>
                  <a:lnTo>
                    <a:pt x="0" y="1223"/>
                  </a:lnTo>
                  <a:lnTo>
                    <a:pt x="1" y="1218"/>
                  </a:lnTo>
                  <a:lnTo>
                    <a:pt x="3" y="1213"/>
                  </a:lnTo>
                  <a:lnTo>
                    <a:pt x="6" y="1207"/>
                  </a:lnTo>
                  <a:lnTo>
                    <a:pt x="9" y="1201"/>
                  </a:lnTo>
                  <a:lnTo>
                    <a:pt x="14" y="1196"/>
                  </a:lnTo>
                  <a:lnTo>
                    <a:pt x="20" y="1190"/>
                  </a:lnTo>
                  <a:lnTo>
                    <a:pt x="26" y="1185"/>
                  </a:lnTo>
                  <a:lnTo>
                    <a:pt x="34" y="1180"/>
                  </a:lnTo>
                  <a:lnTo>
                    <a:pt x="43" y="1175"/>
                  </a:lnTo>
                  <a:lnTo>
                    <a:pt x="54" y="1171"/>
                  </a:lnTo>
                  <a:lnTo>
                    <a:pt x="65" y="1166"/>
                  </a:lnTo>
                  <a:lnTo>
                    <a:pt x="79" y="1162"/>
                  </a:lnTo>
                  <a:lnTo>
                    <a:pt x="93" y="1158"/>
                  </a:lnTo>
                  <a:lnTo>
                    <a:pt x="110" y="1154"/>
                  </a:lnTo>
                  <a:lnTo>
                    <a:pt x="128" y="1151"/>
                  </a:lnTo>
                  <a:lnTo>
                    <a:pt x="149" y="1148"/>
                  </a:lnTo>
                  <a:lnTo>
                    <a:pt x="158" y="1143"/>
                  </a:lnTo>
                  <a:lnTo>
                    <a:pt x="181" y="1129"/>
                  </a:lnTo>
                  <a:lnTo>
                    <a:pt x="219" y="1107"/>
                  </a:lnTo>
                  <a:lnTo>
                    <a:pt x="269" y="1077"/>
                  </a:lnTo>
                  <a:lnTo>
                    <a:pt x="328" y="1043"/>
                  </a:lnTo>
                  <a:lnTo>
                    <a:pt x="397" y="1003"/>
                  </a:lnTo>
                  <a:lnTo>
                    <a:pt x="470" y="957"/>
                  </a:lnTo>
                  <a:lnTo>
                    <a:pt x="549" y="910"/>
                  </a:lnTo>
                  <a:lnTo>
                    <a:pt x="630" y="861"/>
                  </a:lnTo>
                  <a:lnTo>
                    <a:pt x="713" y="810"/>
                  </a:lnTo>
                  <a:lnTo>
                    <a:pt x="794" y="760"/>
                  </a:lnTo>
                  <a:lnTo>
                    <a:pt x="872" y="709"/>
                  </a:lnTo>
                  <a:lnTo>
                    <a:pt x="946" y="662"/>
                  </a:lnTo>
                  <a:lnTo>
                    <a:pt x="1012" y="618"/>
                  </a:lnTo>
                  <a:lnTo>
                    <a:pt x="1043" y="596"/>
                  </a:lnTo>
                  <a:lnTo>
                    <a:pt x="1071" y="576"/>
                  </a:lnTo>
                  <a:lnTo>
                    <a:pt x="1096" y="558"/>
                  </a:lnTo>
                  <a:lnTo>
                    <a:pt x="1118" y="540"/>
                  </a:lnTo>
                  <a:lnTo>
                    <a:pt x="1462" y="178"/>
                  </a:lnTo>
                  <a:lnTo>
                    <a:pt x="1472" y="175"/>
                  </a:lnTo>
                  <a:lnTo>
                    <a:pt x="1501" y="167"/>
                  </a:lnTo>
                  <a:lnTo>
                    <a:pt x="1549" y="155"/>
                  </a:lnTo>
                  <a:lnTo>
                    <a:pt x="1612" y="139"/>
                  </a:lnTo>
                  <a:lnTo>
                    <a:pt x="1689" y="120"/>
                  </a:lnTo>
                  <a:lnTo>
                    <a:pt x="1778" y="100"/>
                  </a:lnTo>
                  <a:lnTo>
                    <a:pt x="1875" y="80"/>
                  </a:lnTo>
                  <a:lnTo>
                    <a:pt x="1982" y="60"/>
                  </a:lnTo>
                  <a:lnTo>
                    <a:pt x="2038" y="51"/>
                  </a:lnTo>
                  <a:lnTo>
                    <a:pt x="2094" y="42"/>
                  </a:lnTo>
                  <a:lnTo>
                    <a:pt x="2152" y="34"/>
                  </a:lnTo>
                  <a:lnTo>
                    <a:pt x="2211" y="26"/>
                  </a:lnTo>
                  <a:lnTo>
                    <a:pt x="2270" y="19"/>
                  </a:lnTo>
                  <a:lnTo>
                    <a:pt x="2330" y="13"/>
                  </a:lnTo>
                  <a:lnTo>
                    <a:pt x="2389" y="9"/>
                  </a:lnTo>
                  <a:lnTo>
                    <a:pt x="2449" y="4"/>
                  </a:lnTo>
                  <a:lnTo>
                    <a:pt x="2508" y="1"/>
                  </a:lnTo>
                  <a:lnTo>
                    <a:pt x="2567" y="0"/>
                  </a:lnTo>
                  <a:lnTo>
                    <a:pt x="2624" y="1"/>
                  </a:lnTo>
                  <a:lnTo>
                    <a:pt x="2681" y="3"/>
                  </a:lnTo>
                  <a:lnTo>
                    <a:pt x="2736" y="7"/>
                  </a:lnTo>
                  <a:lnTo>
                    <a:pt x="2790" y="14"/>
                  </a:lnTo>
                  <a:lnTo>
                    <a:pt x="2842" y="21"/>
                  </a:lnTo>
                  <a:lnTo>
                    <a:pt x="2891" y="31"/>
                  </a:lnTo>
                  <a:lnTo>
                    <a:pt x="3088" y="1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254"/>
            <p:cNvSpPr/>
            <p:nvPr/>
          </p:nvSpPr>
          <p:spPr>
            <a:xfrm>
              <a:off x="6087960" y="5416200"/>
              <a:ext cx="58680" cy="838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194" h="2905">
                  <a:moveTo>
                    <a:pt x="0" y="2905"/>
                  </a:moveTo>
                  <a:lnTo>
                    <a:pt x="9" y="2903"/>
                  </a:lnTo>
                  <a:lnTo>
                    <a:pt x="32" y="2898"/>
                  </a:lnTo>
                  <a:lnTo>
                    <a:pt x="70" y="2890"/>
                  </a:lnTo>
                  <a:lnTo>
                    <a:pt x="121" y="2877"/>
                  </a:lnTo>
                  <a:lnTo>
                    <a:pt x="182" y="2862"/>
                  </a:lnTo>
                  <a:lnTo>
                    <a:pt x="253" y="2844"/>
                  </a:lnTo>
                  <a:lnTo>
                    <a:pt x="332" y="2824"/>
                  </a:lnTo>
                  <a:lnTo>
                    <a:pt x="418" y="2801"/>
                  </a:lnTo>
                  <a:lnTo>
                    <a:pt x="509" y="2776"/>
                  </a:lnTo>
                  <a:lnTo>
                    <a:pt x="604" y="2747"/>
                  </a:lnTo>
                  <a:lnTo>
                    <a:pt x="700" y="2718"/>
                  </a:lnTo>
                  <a:lnTo>
                    <a:pt x="798" y="2686"/>
                  </a:lnTo>
                  <a:lnTo>
                    <a:pt x="847" y="2670"/>
                  </a:lnTo>
                  <a:lnTo>
                    <a:pt x="895" y="2653"/>
                  </a:lnTo>
                  <a:lnTo>
                    <a:pt x="942" y="2634"/>
                  </a:lnTo>
                  <a:lnTo>
                    <a:pt x="990" y="2617"/>
                  </a:lnTo>
                  <a:lnTo>
                    <a:pt x="1035" y="2599"/>
                  </a:lnTo>
                  <a:lnTo>
                    <a:pt x="1080" y="2580"/>
                  </a:lnTo>
                  <a:lnTo>
                    <a:pt x="1124" y="2562"/>
                  </a:lnTo>
                  <a:lnTo>
                    <a:pt x="1166" y="2543"/>
                  </a:lnTo>
                  <a:lnTo>
                    <a:pt x="1401" y="2445"/>
                  </a:lnTo>
                  <a:lnTo>
                    <a:pt x="1408" y="2437"/>
                  </a:lnTo>
                  <a:lnTo>
                    <a:pt x="1429" y="2417"/>
                  </a:lnTo>
                  <a:lnTo>
                    <a:pt x="1461" y="2386"/>
                  </a:lnTo>
                  <a:lnTo>
                    <a:pt x="1501" y="2351"/>
                  </a:lnTo>
                  <a:lnTo>
                    <a:pt x="1523" y="2333"/>
                  </a:lnTo>
                  <a:lnTo>
                    <a:pt x="1546" y="2314"/>
                  </a:lnTo>
                  <a:lnTo>
                    <a:pt x="1570" y="2297"/>
                  </a:lnTo>
                  <a:lnTo>
                    <a:pt x="1596" y="2279"/>
                  </a:lnTo>
                  <a:lnTo>
                    <a:pt x="1621" y="2263"/>
                  </a:lnTo>
                  <a:lnTo>
                    <a:pt x="1646" y="2249"/>
                  </a:lnTo>
                  <a:lnTo>
                    <a:pt x="1658" y="2243"/>
                  </a:lnTo>
                  <a:lnTo>
                    <a:pt x="1671" y="2238"/>
                  </a:lnTo>
                  <a:lnTo>
                    <a:pt x="1683" y="2233"/>
                  </a:lnTo>
                  <a:lnTo>
                    <a:pt x="1695" y="2229"/>
                  </a:lnTo>
                  <a:lnTo>
                    <a:pt x="1707" y="2221"/>
                  </a:lnTo>
                  <a:lnTo>
                    <a:pt x="1743" y="2203"/>
                  </a:lnTo>
                  <a:lnTo>
                    <a:pt x="1768" y="2192"/>
                  </a:lnTo>
                  <a:lnTo>
                    <a:pt x="1796" y="2180"/>
                  </a:lnTo>
                  <a:lnTo>
                    <a:pt x="1828" y="2168"/>
                  </a:lnTo>
                  <a:lnTo>
                    <a:pt x="1864" y="2156"/>
                  </a:lnTo>
                  <a:lnTo>
                    <a:pt x="1883" y="2151"/>
                  </a:lnTo>
                  <a:lnTo>
                    <a:pt x="1902" y="2146"/>
                  </a:lnTo>
                  <a:lnTo>
                    <a:pt x="1921" y="2142"/>
                  </a:lnTo>
                  <a:lnTo>
                    <a:pt x="1941" y="2139"/>
                  </a:lnTo>
                  <a:lnTo>
                    <a:pt x="1962" y="2136"/>
                  </a:lnTo>
                  <a:lnTo>
                    <a:pt x="1984" y="2134"/>
                  </a:lnTo>
                  <a:lnTo>
                    <a:pt x="2004" y="2133"/>
                  </a:lnTo>
                  <a:lnTo>
                    <a:pt x="2026" y="2133"/>
                  </a:lnTo>
                  <a:lnTo>
                    <a:pt x="2047" y="2135"/>
                  </a:lnTo>
                  <a:lnTo>
                    <a:pt x="2068" y="2137"/>
                  </a:lnTo>
                  <a:lnTo>
                    <a:pt x="2089" y="2140"/>
                  </a:lnTo>
                  <a:lnTo>
                    <a:pt x="2112" y="2145"/>
                  </a:lnTo>
                  <a:lnTo>
                    <a:pt x="2133" y="2151"/>
                  </a:lnTo>
                  <a:lnTo>
                    <a:pt x="2153" y="2159"/>
                  </a:lnTo>
                  <a:lnTo>
                    <a:pt x="2174" y="2169"/>
                  </a:lnTo>
                  <a:lnTo>
                    <a:pt x="2194" y="2180"/>
                  </a:lnTo>
                  <a:lnTo>
                    <a:pt x="2194" y="24"/>
                  </a:lnTo>
                  <a:lnTo>
                    <a:pt x="2180" y="20"/>
                  </a:lnTo>
                  <a:lnTo>
                    <a:pt x="2141" y="12"/>
                  </a:lnTo>
                  <a:lnTo>
                    <a:pt x="2112" y="7"/>
                  </a:lnTo>
                  <a:lnTo>
                    <a:pt x="2078" y="3"/>
                  </a:lnTo>
                  <a:lnTo>
                    <a:pt x="2040" y="1"/>
                  </a:lnTo>
                  <a:lnTo>
                    <a:pt x="1998" y="0"/>
                  </a:lnTo>
                  <a:lnTo>
                    <a:pt x="1975" y="1"/>
                  </a:lnTo>
                  <a:lnTo>
                    <a:pt x="1951" y="2"/>
                  </a:lnTo>
                  <a:lnTo>
                    <a:pt x="1926" y="4"/>
                  </a:lnTo>
                  <a:lnTo>
                    <a:pt x="1901" y="7"/>
                  </a:lnTo>
                  <a:lnTo>
                    <a:pt x="1876" y="10"/>
                  </a:lnTo>
                  <a:lnTo>
                    <a:pt x="1849" y="16"/>
                  </a:lnTo>
                  <a:lnTo>
                    <a:pt x="1821" y="22"/>
                  </a:lnTo>
                  <a:lnTo>
                    <a:pt x="1794" y="28"/>
                  </a:lnTo>
                  <a:lnTo>
                    <a:pt x="1765" y="36"/>
                  </a:lnTo>
                  <a:lnTo>
                    <a:pt x="1737" y="46"/>
                  </a:lnTo>
                  <a:lnTo>
                    <a:pt x="1707" y="56"/>
                  </a:lnTo>
                  <a:lnTo>
                    <a:pt x="1678" y="68"/>
                  </a:lnTo>
                  <a:lnTo>
                    <a:pt x="1648" y="81"/>
                  </a:lnTo>
                  <a:lnTo>
                    <a:pt x="1619" y="96"/>
                  </a:lnTo>
                  <a:lnTo>
                    <a:pt x="1589" y="113"/>
                  </a:lnTo>
                  <a:lnTo>
                    <a:pt x="1558" y="132"/>
                  </a:lnTo>
                  <a:lnTo>
                    <a:pt x="1382" y="298"/>
                  </a:lnTo>
                  <a:lnTo>
                    <a:pt x="1371" y="303"/>
                  </a:lnTo>
                  <a:lnTo>
                    <a:pt x="1339" y="317"/>
                  </a:lnTo>
                  <a:lnTo>
                    <a:pt x="1288" y="338"/>
                  </a:lnTo>
                  <a:lnTo>
                    <a:pt x="1223" y="365"/>
                  </a:lnTo>
                  <a:lnTo>
                    <a:pt x="1142" y="399"/>
                  </a:lnTo>
                  <a:lnTo>
                    <a:pt x="1050" y="435"/>
                  </a:lnTo>
                  <a:lnTo>
                    <a:pt x="949" y="473"/>
                  </a:lnTo>
                  <a:lnTo>
                    <a:pt x="842" y="514"/>
                  </a:lnTo>
                  <a:lnTo>
                    <a:pt x="786" y="534"/>
                  </a:lnTo>
                  <a:lnTo>
                    <a:pt x="729" y="554"/>
                  </a:lnTo>
                  <a:lnTo>
                    <a:pt x="671" y="574"/>
                  </a:lnTo>
                  <a:lnTo>
                    <a:pt x="614" y="593"/>
                  </a:lnTo>
                  <a:lnTo>
                    <a:pt x="556" y="612"/>
                  </a:lnTo>
                  <a:lnTo>
                    <a:pt x="499" y="630"/>
                  </a:lnTo>
                  <a:lnTo>
                    <a:pt x="441" y="646"/>
                  </a:lnTo>
                  <a:lnTo>
                    <a:pt x="386" y="662"/>
                  </a:lnTo>
                  <a:lnTo>
                    <a:pt x="331" y="677"/>
                  </a:lnTo>
                  <a:lnTo>
                    <a:pt x="277" y="689"/>
                  </a:lnTo>
                  <a:lnTo>
                    <a:pt x="225" y="701"/>
                  </a:lnTo>
                  <a:lnTo>
                    <a:pt x="175" y="711"/>
                  </a:lnTo>
                  <a:lnTo>
                    <a:pt x="127" y="718"/>
                  </a:lnTo>
                  <a:lnTo>
                    <a:pt x="82" y="724"/>
                  </a:lnTo>
                  <a:lnTo>
                    <a:pt x="39" y="728"/>
                  </a:lnTo>
                  <a:lnTo>
                    <a:pt x="0" y="730"/>
                  </a:lnTo>
                  <a:lnTo>
                    <a:pt x="0" y="29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255"/>
            <p:cNvSpPr/>
            <p:nvPr/>
          </p:nvSpPr>
          <p:spPr>
            <a:xfrm>
              <a:off x="5919480" y="5488200"/>
              <a:ext cx="39600" cy="684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59" h="2341">
                  <a:moveTo>
                    <a:pt x="1459" y="0"/>
                  </a:moveTo>
                  <a:lnTo>
                    <a:pt x="1459" y="2155"/>
                  </a:lnTo>
                  <a:lnTo>
                    <a:pt x="1452" y="2156"/>
                  </a:lnTo>
                  <a:lnTo>
                    <a:pt x="1434" y="2158"/>
                  </a:lnTo>
                  <a:lnTo>
                    <a:pt x="1405" y="2160"/>
                  </a:lnTo>
                  <a:lnTo>
                    <a:pt x="1367" y="2163"/>
                  </a:lnTo>
                  <a:lnTo>
                    <a:pt x="1319" y="2168"/>
                  </a:lnTo>
                  <a:lnTo>
                    <a:pt x="1267" y="2172"/>
                  </a:lnTo>
                  <a:lnTo>
                    <a:pt x="1209" y="2178"/>
                  </a:lnTo>
                  <a:lnTo>
                    <a:pt x="1148" y="2183"/>
                  </a:lnTo>
                  <a:lnTo>
                    <a:pt x="1085" y="2189"/>
                  </a:lnTo>
                  <a:lnTo>
                    <a:pt x="1021" y="2196"/>
                  </a:lnTo>
                  <a:lnTo>
                    <a:pt x="958" y="2202"/>
                  </a:lnTo>
                  <a:lnTo>
                    <a:pt x="897" y="2209"/>
                  </a:lnTo>
                  <a:lnTo>
                    <a:pt x="840" y="2215"/>
                  </a:lnTo>
                  <a:lnTo>
                    <a:pt x="788" y="2221"/>
                  </a:lnTo>
                  <a:lnTo>
                    <a:pt x="743" y="2228"/>
                  </a:lnTo>
                  <a:lnTo>
                    <a:pt x="705" y="2234"/>
                  </a:lnTo>
                  <a:lnTo>
                    <a:pt x="0" y="2341"/>
                  </a:lnTo>
                  <a:lnTo>
                    <a:pt x="0" y="195"/>
                  </a:lnTo>
                  <a:lnTo>
                    <a:pt x="5" y="194"/>
                  </a:lnTo>
                  <a:lnTo>
                    <a:pt x="18" y="191"/>
                  </a:lnTo>
                  <a:lnTo>
                    <a:pt x="40" y="186"/>
                  </a:lnTo>
                  <a:lnTo>
                    <a:pt x="69" y="179"/>
                  </a:lnTo>
                  <a:lnTo>
                    <a:pt x="105" y="172"/>
                  </a:lnTo>
                  <a:lnTo>
                    <a:pt x="147" y="163"/>
                  </a:lnTo>
                  <a:lnTo>
                    <a:pt x="194" y="154"/>
                  </a:lnTo>
                  <a:lnTo>
                    <a:pt x="246" y="144"/>
                  </a:lnTo>
                  <a:lnTo>
                    <a:pt x="301" y="134"/>
                  </a:lnTo>
                  <a:lnTo>
                    <a:pt x="360" y="124"/>
                  </a:lnTo>
                  <a:lnTo>
                    <a:pt x="420" y="114"/>
                  </a:lnTo>
                  <a:lnTo>
                    <a:pt x="484" y="105"/>
                  </a:lnTo>
                  <a:lnTo>
                    <a:pt x="546" y="96"/>
                  </a:lnTo>
                  <a:lnTo>
                    <a:pt x="610" y="89"/>
                  </a:lnTo>
                  <a:lnTo>
                    <a:pt x="673" y="83"/>
                  </a:lnTo>
                  <a:lnTo>
                    <a:pt x="735" y="77"/>
                  </a:lnTo>
                  <a:lnTo>
                    <a:pt x="145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256"/>
            <p:cNvSpPr/>
            <p:nvPr/>
          </p:nvSpPr>
          <p:spPr>
            <a:xfrm>
              <a:off x="6211800" y="5440680"/>
              <a:ext cx="14040" cy="651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80" h="2286">
                  <a:moveTo>
                    <a:pt x="480" y="3"/>
                  </a:moveTo>
                  <a:lnTo>
                    <a:pt x="470" y="2"/>
                  </a:lnTo>
                  <a:lnTo>
                    <a:pt x="443" y="0"/>
                  </a:lnTo>
                  <a:lnTo>
                    <a:pt x="424" y="0"/>
                  </a:lnTo>
                  <a:lnTo>
                    <a:pt x="401" y="0"/>
                  </a:lnTo>
                  <a:lnTo>
                    <a:pt x="374" y="2"/>
                  </a:lnTo>
                  <a:lnTo>
                    <a:pt x="343" y="6"/>
                  </a:lnTo>
                  <a:lnTo>
                    <a:pt x="309" y="11"/>
                  </a:lnTo>
                  <a:lnTo>
                    <a:pt x="273" y="19"/>
                  </a:lnTo>
                  <a:lnTo>
                    <a:pt x="253" y="24"/>
                  </a:lnTo>
                  <a:lnTo>
                    <a:pt x="232" y="30"/>
                  </a:lnTo>
                  <a:lnTo>
                    <a:pt x="212" y="37"/>
                  </a:lnTo>
                  <a:lnTo>
                    <a:pt x="191" y="44"/>
                  </a:lnTo>
                  <a:lnTo>
                    <a:pt x="169" y="53"/>
                  </a:lnTo>
                  <a:lnTo>
                    <a:pt x="146" y="62"/>
                  </a:lnTo>
                  <a:lnTo>
                    <a:pt x="123" y="73"/>
                  </a:lnTo>
                  <a:lnTo>
                    <a:pt x="99" y="84"/>
                  </a:lnTo>
                  <a:lnTo>
                    <a:pt x="75" y="97"/>
                  </a:lnTo>
                  <a:lnTo>
                    <a:pt x="51" y="110"/>
                  </a:lnTo>
                  <a:lnTo>
                    <a:pt x="26" y="125"/>
                  </a:lnTo>
                  <a:lnTo>
                    <a:pt x="0" y="140"/>
                  </a:lnTo>
                  <a:lnTo>
                    <a:pt x="0" y="2286"/>
                  </a:lnTo>
                  <a:lnTo>
                    <a:pt x="16" y="2278"/>
                  </a:lnTo>
                  <a:lnTo>
                    <a:pt x="58" y="2257"/>
                  </a:lnTo>
                  <a:lnTo>
                    <a:pt x="87" y="2243"/>
                  </a:lnTo>
                  <a:lnTo>
                    <a:pt x="121" y="2228"/>
                  </a:lnTo>
                  <a:lnTo>
                    <a:pt x="157" y="2210"/>
                  </a:lnTo>
                  <a:lnTo>
                    <a:pt x="196" y="2194"/>
                  </a:lnTo>
                  <a:lnTo>
                    <a:pt x="235" y="2179"/>
                  </a:lnTo>
                  <a:lnTo>
                    <a:pt x="277" y="2165"/>
                  </a:lnTo>
                  <a:lnTo>
                    <a:pt x="297" y="2158"/>
                  </a:lnTo>
                  <a:lnTo>
                    <a:pt x="316" y="2152"/>
                  </a:lnTo>
                  <a:lnTo>
                    <a:pt x="336" y="2147"/>
                  </a:lnTo>
                  <a:lnTo>
                    <a:pt x="355" y="2142"/>
                  </a:lnTo>
                  <a:lnTo>
                    <a:pt x="374" y="2138"/>
                  </a:lnTo>
                  <a:lnTo>
                    <a:pt x="392" y="2135"/>
                  </a:lnTo>
                  <a:lnTo>
                    <a:pt x="409" y="2133"/>
                  </a:lnTo>
                  <a:lnTo>
                    <a:pt x="426" y="2132"/>
                  </a:lnTo>
                  <a:lnTo>
                    <a:pt x="441" y="2132"/>
                  </a:lnTo>
                  <a:lnTo>
                    <a:pt x="455" y="2133"/>
                  </a:lnTo>
                  <a:lnTo>
                    <a:pt x="468" y="2136"/>
                  </a:lnTo>
                  <a:lnTo>
                    <a:pt x="480" y="2140"/>
                  </a:lnTo>
                  <a:lnTo>
                    <a:pt x="480" y="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257"/>
            <p:cNvSpPr/>
            <p:nvPr/>
          </p:nvSpPr>
          <p:spPr>
            <a:xfrm>
              <a:off x="5991480" y="5436000"/>
              <a:ext cx="20160" cy="705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734" h="2478">
                  <a:moveTo>
                    <a:pt x="734" y="0"/>
                  </a:moveTo>
                  <a:lnTo>
                    <a:pt x="0" y="332"/>
                  </a:lnTo>
                  <a:lnTo>
                    <a:pt x="0" y="2478"/>
                  </a:lnTo>
                  <a:lnTo>
                    <a:pt x="734" y="2146"/>
                  </a:lnTo>
                  <a:lnTo>
                    <a:pt x="73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258"/>
            <p:cNvSpPr/>
            <p:nvPr/>
          </p:nvSpPr>
          <p:spPr>
            <a:xfrm>
              <a:off x="5967000" y="5434200"/>
              <a:ext cx="10800" cy="63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82" h="2186">
                  <a:moveTo>
                    <a:pt x="382" y="70"/>
                  </a:moveTo>
                  <a:lnTo>
                    <a:pt x="382" y="2166"/>
                  </a:lnTo>
                  <a:lnTo>
                    <a:pt x="374" y="2162"/>
                  </a:lnTo>
                  <a:lnTo>
                    <a:pt x="351" y="2152"/>
                  </a:lnTo>
                  <a:lnTo>
                    <a:pt x="334" y="2145"/>
                  </a:lnTo>
                  <a:lnTo>
                    <a:pt x="315" y="2139"/>
                  </a:lnTo>
                  <a:lnTo>
                    <a:pt x="293" y="2133"/>
                  </a:lnTo>
                  <a:lnTo>
                    <a:pt x="268" y="2129"/>
                  </a:lnTo>
                  <a:lnTo>
                    <a:pt x="255" y="2127"/>
                  </a:lnTo>
                  <a:lnTo>
                    <a:pt x="241" y="2125"/>
                  </a:lnTo>
                  <a:lnTo>
                    <a:pt x="226" y="2125"/>
                  </a:lnTo>
                  <a:lnTo>
                    <a:pt x="211" y="2124"/>
                  </a:lnTo>
                  <a:lnTo>
                    <a:pt x="195" y="2124"/>
                  </a:lnTo>
                  <a:lnTo>
                    <a:pt x="179" y="2125"/>
                  </a:lnTo>
                  <a:lnTo>
                    <a:pt x="163" y="2127"/>
                  </a:lnTo>
                  <a:lnTo>
                    <a:pt x="146" y="2129"/>
                  </a:lnTo>
                  <a:lnTo>
                    <a:pt x="129" y="2133"/>
                  </a:lnTo>
                  <a:lnTo>
                    <a:pt x="112" y="2137"/>
                  </a:lnTo>
                  <a:lnTo>
                    <a:pt x="93" y="2142"/>
                  </a:lnTo>
                  <a:lnTo>
                    <a:pt x="75" y="2149"/>
                  </a:lnTo>
                  <a:lnTo>
                    <a:pt x="57" y="2156"/>
                  </a:lnTo>
                  <a:lnTo>
                    <a:pt x="38" y="2165"/>
                  </a:lnTo>
                  <a:lnTo>
                    <a:pt x="19" y="2175"/>
                  </a:lnTo>
                  <a:lnTo>
                    <a:pt x="0" y="2186"/>
                  </a:lnTo>
                  <a:lnTo>
                    <a:pt x="0" y="70"/>
                  </a:lnTo>
                  <a:lnTo>
                    <a:pt x="8" y="63"/>
                  </a:lnTo>
                  <a:lnTo>
                    <a:pt x="31" y="48"/>
                  </a:lnTo>
                  <a:lnTo>
                    <a:pt x="47" y="37"/>
                  </a:lnTo>
                  <a:lnTo>
                    <a:pt x="66" y="28"/>
                  </a:lnTo>
                  <a:lnTo>
                    <a:pt x="88" y="19"/>
                  </a:lnTo>
                  <a:lnTo>
                    <a:pt x="114" y="10"/>
                  </a:lnTo>
                  <a:lnTo>
                    <a:pt x="127" y="7"/>
                  </a:lnTo>
                  <a:lnTo>
                    <a:pt x="141" y="4"/>
                  </a:lnTo>
                  <a:lnTo>
                    <a:pt x="156" y="2"/>
                  </a:lnTo>
                  <a:lnTo>
                    <a:pt x="170" y="0"/>
                  </a:lnTo>
                  <a:lnTo>
                    <a:pt x="186" y="0"/>
                  </a:lnTo>
                  <a:lnTo>
                    <a:pt x="202" y="0"/>
                  </a:lnTo>
                  <a:lnTo>
                    <a:pt x="218" y="1"/>
                  </a:lnTo>
                  <a:lnTo>
                    <a:pt x="236" y="3"/>
                  </a:lnTo>
                  <a:lnTo>
                    <a:pt x="253" y="7"/>
                  </a:lnTo>
                  <a:lnTo>
                    <a:pt x="270" y="11"/>
                  </a:lnTo>
                  <a:lnTo>
                    <a:pt x="288" y="17"/>
                  </a:lnTo>
                  <a:lnTo>
                    <a:pt x="306" y="24"/>
                  </a:lnTo>
                  <a:lnTo>
                    <a:pt x="325" y="33"/>
                  </a:lnTo>
                  <a:lnTo>
                    <a:pt x="343" y="43"/>
                  </a:lnTo>
                  <a:lnTo>
                    <a:pt x="363" y="56"/>
                  </a:lnTo>
                  <a:lnTo>
                    <a:pt x="382" y="7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259"/>
            <p:cNvSpPr/>
            <p:nvPr/>
          </p:nvSpPr>
          <p:spPr>
            <a:xfrm>
              <a:off x="5933880" y="5409000"/>
              <a:ext cx="21600" cy="705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822" h="2458">
                  <a:moveTo>
                    <a:pt x="822" y="314"/>
                  </a:moveTo>
                  <a:lnTo>
                    <a:pt x="822" y="2450"/>
                  </a:lnTo>
                  <a:lnTo>
                    <a:pt x="812" y="2450"/>
                  </a:lnTo>
                  <a:lnTo>
                    <a:pt x="787" y="2452"/>
                  </a:lnTo>
                  <a:lnTo>
                    <a:pt x="747" y="2456"/>
                  </a:lnTo>
                  <a:lnTo>
                    <a:pt x="694" y="2457"/>
                  </a:lnTo>
                  <a:lnTo>
                    <a:pt x="633" y="2458"/>
                  </a:lnTo>
                  <a:lnTo>
                    <a:pt x="564" y="2457"/>
                  </a:lnTo>
                  <a:lnTo>
                    <a:pt x="528" y="2454"/>
                  </a:lnTo>
                  <a:lnTo>
                    <a:pt x="491" y="2452"/>
                  </a:lnTo>
                  <a:lnTo>
                    <a:pt x="453" y="2449"/>
                  </a:lnTo>
                  <a:lnTo>
                    <a:pt x="415" y="2445"/>
                  </a:lnTo>
                  <a:lnTo>
                    <a:pt x="377" y="2440"/>
                  </a:lnTo>
                  <a:lnTo>
                    <a:pt x="339" y="2434"/>
                  </a:lnTo>
                  <a:lnTo>
                    <a:pt x="302" y="2426"/>
                  </a:lnTo>
                  <a:lnTo>
                    <a:pt x="266" y="2417"/>
                  </a:lnTo>
                  <a:lnTo>
                    <a:pt x="231" y="2407"/>
                  </a:lnTo>
                  <a:lnTo>
                    <a:pt x="197" y="2396"/>
                  </a:lnTo>
                  <a:lnTo>
                    <a:pt x="165" y="2383"/>
                  </a:lnTo>
                  <a:lnTo>
                    <a:pt x="136" y="2368"/>
                  </a:lnTo>
                  <a:lnTo>
                    <a:pt x="109" y="2351"/>
                  </a:lnTo>
                  <a:lnTo>
                    <a:pt x="83" y="2332"/>
                  </a:lnTo>
                  <a:lnTo>
                    <a:pt x="62" y="2311"/>
                  </a:lnTo>
                  <a:lnTo>
                    <a:pt x="44" y="2289"/>
                  </a:lnTo>
                  <a:lnTo>
                    <a:pt x="29" y="2264"/>
                  </a:lnTo>
                  <a:lnTo>
                    <a:pt x="18" y="2237"/>
                  </a:lnTo>
                  <a:lnTo>
                    <a:pt x="11" y="2207"/>
                  </a:lnTo>
                  <a:lnTo>
                    <a:pt x="9" y="2176"/>
                  </a:lnTo>
                  <a:lnTo>
                    <a:pt x="9" y="0"/>
                  </a:lnTo>
                  <a:lnTo>
                    <a:pt x="7" y="4"/>
                  </a:lnTo>
                  <a:lnTo>
                    <a:pt x="4" y="16"/>
                  </a:lnTo>
                  <a:lnTo>
                    <a:pt x="2" y="24"/>
                  </a:lnTo>
                  <a:lnTo>
                    <a:pt x="1" y="33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0" y="70"/>
                  </a:lnTo>
                  <a:lnTo>
                    <a:pt x="2" y="83"/>
                  </a:lnTo>
                  <a:lnTo>
                    <a:pt x="5" y="98"/>
                  </a:lnTo>
                  <a:lnTo>
                    <a:pt x="10" y="113"/>
                  </a:lnTo>
                  <a:lnTo>
                    <a:pt x="17" y="128"/>
                  </a:lnTo>
                  <a:lnTo>
                    <a:pt x="26" y="144"/>
                  </a:lnTo>
                  <a:lnTo>
                    <a:pt x="38" y="159"/>
                  </a:lnTo>
                  <a:lnTo>
                    <a:pt x="51" y="175"/>
                  </a:lnTo>
                  <a:lnTo>
                    <a:pt x="68" y="192"/>
                  </a:lnTo>
                  <a:lnTo>
                    <a:pt x="88" y="207"/>
                  </a:lnTo>
                  <a:lnTo>
                    <a:pt x="112" y="222"/>
                  </a:lnTo>
                  <a:lnTo>
                    <a:pt x="138" y="236"/>
                  </a:lnTo>
                  <a:lnTo>
                    <a:pt x="169" y="250"/>
                  </a:lnTo>
                  <a:lnTo>
                    <a:pt x="203" y="263"/>
                  </a:lnTo>
                  <a:lnTo>
                    <a:pt x="243" y="275"/>
                  </a:lnTo>
                  <a:lnTo>
                    <a:pt x="286" y="285"/>
                  </a:lnTo>
                  <a:lnTo>
                    <a:pt x="333" y="295"/>
                  </a:lnTo>
                  <a:lnTo>
                    <a:pt x="387" y="304"/>
                  </a:lnTo>
                  <a:lnTo>
                    <a:pt x="444" y="310"/>
                  </a:lnTo>
                  <a:lnTo>
                    <a:pt x="509" y="315"/>
                  </a:lnTo>
                  <a:lnTo>
                    <a:pt x="577" y="318"/>
                  </a:lnTo>
                  <a:lnTo>
                    <a:pt x="653" y="319"/>
                  </a:lnTo>
                  <a:lnTo>
                    <a:pt x="735" y="318"/>
                  </a:lnTo>
                  <a:lnTo>
                    <a:pt x="822" y="3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260"/>
            <p:cNvSpPr/>
            <p:nvPr/>
          </p:nvSpPr>
          <p:spPr>
            <a:xfrm>
              <a:off x="5884920" y="5338800"/>
              <a:ext cx="12600" cy="75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456" h="2587">
                  <a:moveTo>
                    <a:pt x="446" y="441"/>
                  </a:moveTo>
                  <a:lnTo>
                    <a:pt x="425" y="432"/>
                  </a:lnTo>
                  <a:lnTo>
                    <a:pt x="369" y="408"/>
                  </a:lnTo>
                  <a:lnTo>
                    <a:pt x="332" y="389"/>
                  </a:lnTo>
                  <a:lnTo>
                    <a:pt x="292" y="368"/>
                  </a:lnTo>
                  <a:lnTo>
                    <a:pt x="270" y="356"/>
                  </a:lnTo>
                  <a:lnTo>
                    <a:pt x="248" y="344"/>
                  </a:lnTo>
                  <a:lnTo>
                    <a:pt x="226" y="330"/>
                  </a:lnTo>
                  <a:lnTo>
                    <a:pt x="204" y="316"/>
                  </a:lnTo>
                  <a:lnTo>
                    <a:pt x="182" y="301"/>
                  </a:lnTo>
                  <a:lnTo>
                    <a:pt x="161" y="285"/>
                  </a:lnTo>
                  <a:lnTo>
                    <a:pt x="140" y="268"/>
                  </a:lnTo>
                  <a:lnTo>
                    <a:pt x="119" y="251"/>
                  </a:lnTo>
                  <a:lnTo>
                    <a:pt x="100" y="233"/>
                  </a:lnTo>
                  <a:lnTo>
                    <a:pt x="82" y="215"/>
                  </a:lnTo>
                  <a:lnTo>
                    <a:pt x="65" y="196"/>
                  </a:lnTo>
                  <a:lnTo>
                    <a:pt x="50" y="176"/>
                  </a:lnTo>
                  <a:lnTo>
                    <a:pt x="36" y="155"/>
                  </a:lnTo>
                  <a:lnTo>
                    <a:pt x="25" y="135"/>
                  </a:lnTo>
                  <a:lnTo>
                    <a:pt x="15" y="114"/>
                  </a:lnTo>
                  <a:lnTo>
                    <a:pt x="7" y="92"/>
                  </a:lnTo>
                  <a:lnTo>
                    <a:pt x="2" y="70"/>
                  </a:lnTo>
                  <a:lnTo>
                    <a:pt x="0" y="47"/>
                  </a:lnTo>
                  <a:lnTo>
                    <a:pt x="1" y="23"/>
                  </a:lnTo>
                  <a:lnTo>
                    <a:pt x="5" y="0"/>
                  </a:lnTo>
                  <a:lnTo>
                    <a:pt x="5" y="2165"/>
                  </a:lnTo>
                  <a:lnTo>
                    <a:pt x="9" y="2180"/>
                  </a:lnTo>
                  <a:lnTo>
                    <a:pt x="23" y="2219"/>
                  </a:lnTo>
                  <a:lnTo>
                    <a:pt x="33" y="2246"/>
                  </a:lnTo>
                  <a:lnTo>
                    <a:pt x="48" y="2275"/>
                  </a:lnTo>
                  <a:lnTo>
                    <a:pt x="56" y="2291"/>
                  </a:lnTo>
                  <a:lnTo>
                    <a:pt x="65" y="2308"/>
                  </a:lnTo>
                  <a:lnTo>
                    <a:pt x="76" y="2326"/>
                  </a:lnTo>
                  <a:lnTo>
                    <a:pt x="87" y="2343"/>
                  </a:lnTo>
                  <a:lnTo>
                    <a:pt x="100" y="2361"/>
                  </a:lnTo>
                  <a:lnTo>
                    <a:pt x="114" y="2379"/>
                  </a:lnTo>
                  <a:lnTo>
                    <a:pt x="129" y="2397"/>
                  </a:lnTo>
                  <a:lnTo>
                    <a:pt x="146" y="2414"/>
                  </a:lnTo>
                  <a:lnTo>
                    <a:pt x="164" y="2432"/>
                  </a:lnTo>
                  <a:lnTo>
                    <a:pt x="182" y="2450"/>
                  </a:lnTo>
                  <a:lnTo>
                    <a:pt x="203" y="2467"/>
                  </a:lnTo>
                  <a:lnTo>
                    <a:pt x="224" y="2484"/>
                  </a:lnTo>
                  <a:lnTo>
                    <a:pt x="247" y="2500"/>
                  </a:lnTo>
                  <a:lnTo>
                    <a:pt x="273" y="2515"/>
                  </a:lnTo>
                  <a:lnTo>
                    <a:pt x="299" y="2530"/>
                  </a:lnTo>
                  <a:lnTo>
                    <a:pt x="327" y="2543"/>
                  </a:lnTo>
                  <a:lnTo>
                    <a:pt x="356" y="2557"/>
                  </a:lnTo>
                  <a:lnTo>
                    <a:pt x="388" y="2568"/>
                  </a:lnTo>
                  <a:lnTo>
                    <a:pt x="421" y="2578"/>
                  </a:lnTo>
                  <a:lnTo>
                    <a:pt x="456" y="2587"/>
                  </a:lnTo>
                  <a:lnTo>
                    <a:pt x="446" y="4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261"/>
            <p:cNvSpPr/>
            <p:nvPr/>
          </p:nvSpPr>
          <p:spPr>
            <a:xfrm>
              <a:off x="5938560" y="5305320"/>
              <a:ext cx="56880" cy="83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116" h="2853">
                  <a:moveTo>
                    <a:pt x="2116" y="636"/>
                  </a:moveTo>
                  <a:lnTo>
                    <a:pt x="2098" y="640"/>
                  </a:lnTo>
                  <a:lnTo>
                    <a:pt x="2047" y="649"/>
                  </a:lnTo>
                  <a:lnTo>
                    <a:pt x="2011" y="654"/>
                  </a:lnTo>
                  <a:lnTo>
                    <a:pt x="1969" y="660"/>
                  </a:lnTo>
                  <a:lnTo>
                    <a:pt x="1919" y="667"/>
                  </a:lnTo>
                  <a:lnTo>
                    <a:pt x="1864" y="673"/>
                  </a:lnTo>
                  <a:lnTo>
                    <a:pt x="1804" y="679"/>
                  </a:lnTo>
                  <a:lnTo>
                    <a:pt x="1738" y="684"/>
                  </a:lnTo>
                  <a:lnTo>
                    <a:pt x="1667" y="688"/>
                  </a:lnTo>
                  <a:lnTo>
                    <a:pt x="1594" y="690"/>
                  </a:lnTo>
                  <a:lnTo>
                    <a:pt x="1516" y="691"/>
                  </a:lnTo>
                  <a:lnTo>
                    <a:pt x="1436" y="690"/>
                  </a:lnTo>
                  <a:lnTo>
                    <a:pt x="1353" y="687"/>
                  </a:lnTo>
                  <a:lnTo>
                    <a:pt x="1267" y="681"/>
                  </a:lnTo>
                  <a:lnTo>
                    <a:pt x="1181" y="673"/>
                  </a:lnTo>
                  <a:lnTo>
                    <a:pt x="1093" y="661"/>
                  </a:lnTo>
                  <a:lnTo>
                    <a:pt x="1004" y="646"/>
                  </a:lnTo>
                  <a:lnTo>
                    <a:pt x="914" y="627"/>
                  </a:lnTo>
                  <a:lnTo>
                    <a:pt x="826" y="604"/>
                  </a:lnTo>
                  <a:lnTo>
                    <a:pt x="738" y="576"/>
                  </a:lnTo>
                  <a:lnTo>
                    <a:pt x="651" y="545"/>
                  </a:lnTo>
                  <a:lnTo>
                    <a:pt x="567" y="508"/>
                  </a:lnTo>
                  <a:lnTo>
                    <a:pt x="483" y="465"/>
                  </a:lnTo>
                  <a:lnTo>
                    <a:pt x="402" y="418"/>
                  </a:lnTo>
                  <a:lnTo>
                    <a:pt x="325" y="365"/>
                  </a:lnTo>
                  <a:lnTo>
                    <a:pt x="251" y="305"/>
                  </a:lnTo>
                  <a:lnTo>
                    <a:pt x="182" y="239"/>
                  </a:lnTo>
                  <a:lnTo>
                    <a:pt x="116" y="166"/>
                  </a:lnTo>
                  <a:lnTo>
                    <a:pt x="56" y="86"/>
                  </a:lnTo>
                  <a:lnTo>
                    <a:pt x="0" y="0"/>
                  </a:lnTo>
                  <a:lnTo>
                    <a:pt x="0" y="2165"/>
                  </a:lnTo>
                  <a:lnTo>
                    <a:pt x="7" y="2176"/>
                  </a:lnTo>
                  <a:lnTo>
                    <a:pt x="30" y="2205"/>
                  </a:lnTo>
                  <a:lnTo>
                    <a:pt x="48" y="2226"/>
                  </a:lnTo>
                  <a:lnTo>
                    <a:pt x="69" y="2250"/>
                  </a:lnTo>
                  <a:lnTo>
                    <a:pt x="94" y="2278"/>
                  </a:lnTo>
                  <a:lnTo>
                    <a:pt x="122" y="2308"/>
                  </a:lnTo>
                  <a:lnTo>
                    <a:pt x="155" y="2341"/>
                  </a:lnTo>
                  <a:lnTo>
                    <a:pt x="193" y="2375"/>
                  </a:lnTo>
                  <a:lnTo>
                    <a:pt x="234" y="2411"/>
                  </a:lnTo>
                  <a:lnTo>
                    <a:pt x="279" y="2448"/>
                  </a:lnTo>
                  <a:lnTo>
                    <a:pt x="329" y="2485"/>
                  </a:lnTo>
                  <a:lnTo>
                    <a:pt x="383" y="2524"/>
                  </a:lnTo>
                  <a:lnTo>
                    <a:pt x="441" y="2561"/>
                  </a:lnTo>
                  <a:lnTo>
                    <a:pt x="503" y="2598"/>
                  </a:lnTo>
                  <a:lnTo>
                    <a:pt x="570" y="2635"/>
                  </a:lnTo>
                  <a:lnTo>
                    <a:pt x="641" y="2670"/>
                  </a:lnTo>
                  <a:lnTo>
                    <a:pt x="717" y="2702"/>
                  </a:lnTo>
                  <a:lnTo>
                    <a:pt x="797" y="2733"/>
                  </a:lnTo>
                  <a:lnTo>
                    <a:pt x="881" y="2762"/>
                  </a:lnTo>
                  <a:lnTo>
                    <a:pt x="970" y="2787"/>
                  </a:lnTo>
                  <a:lnTo>
                    <a:pt x="1064" y="2808"/>
                  </a:lnTo>
                  <a:lnTo>
                    <a:pt x="1161" y="2826"/>
                  </a:lnTo>
                  <a:lnTo>
                    <a:pt x="1264" y="2840"/>
                  </a:lnTo>
                  <a:lnTo>
                    <a:pt x="1371" y="2849"/>
                  </a:lnTo>
                  <a:lnTo>
                    <a:pt x="1483" y="2853"/>
                  </a:lnTo>
                  <a:lnTo>
                    <a:pt x="1600" y="2851"/>
                  </a:lnTo>
                  <a:lnTo>
                    <a:pt x="1722" y="2844"/>
                  </a:lnTo>
                  <a:lnTo>
                    <a:pt x="1849" y="2830"/>
                  </a:lnTo>
                  <a:lnTo>
                    <a:pt x="1980" y="2810"/>
                  </a:lnTo>
                  <a:lnTo>
                    <a:pt x="2116" y="2782"/>
                  </a:lnTo>
                  <a:lnTo>
                    <a:pt x="2116" y="63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262"/>
            <p:cNvSpPr/>
            <p:nvPr/>
          </p:nvSpPr>
          <p:spPr>
            <a:xfrm>
              <a:off x="6294240" y="5533920"/>
              <a:ext cx="5760" cy="705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5" h="2440">
                  <a:moveTo>
                    <a:pt x="215" y="343"/>
                  </a:moveTo>
                  <a:lnTo>
                    <a:pt x="215" y="2440"/>
                  </a:lnTo>
                  <a:lnTo>
                    <a:pt x="202" y="2428"/>
                  </a:lnTo>
                  <a:lnTo>
                    <a:pt x="171" y="2396"/>
                  </a:lnTo>
                  <a:lnTo>
                    <a:pt x="150" y="2374"/>
                  </a:lnTo>
                  <a:lnTo>
                    <a:pt x="128" y="2349"/>
                  </a:lnTo>
                  <a:lnTo>
                    <a:pt x="104" y="2320"/>
                  </a:lnTo>
                  <a:lnTo>
                    <a:pt x="80" y="2291"/>
                  </a:lnTo>
                  <a:lnTo>
                    <a:pt x="69" y="2276"/>
                  </a:lnTo>
                  <a:lnTo>
                    <a:pt x="58" y="2260"/>
                  </a:lnTo>
                  <a:lnTo>
                    <a:pt x="48" y="2245"/>
                  </a:lnTo>
                  <a:lnTo>
                    <a:pt x="38" y="2229"/>
                  </a:lnTo>
                  <a:lnTo>
                    <a:pt x="29" y="2213"/>
                  </a:lnTo>
                  <a:lnTo>
                    <a:pt x="21" y="2198"/>
                  </a:lnTo>
                  <a:lnTo>
                    <a:pt x="15" y="2182"/>
                  </a:lnTo>
                  <a:lnTo>
                    <a:pt x="9" y="2168"/>
                  </a:lnTo>
                  <a:lnTo>
                    <a:pt x="4" y="2153"/>
                  </a:lnTo>
                  <a:lnTo>
                    <a:pt x="1" y="2139"/>
                  </a:lnTo>
                  <a:lnTo>
                    <a:pt x="0" y="2126"/>
                  </a:lnTo>
                  <a:lnTo>
                    <a:pt x="0" y="2113"/>
                  </a:lnTo>
                  <a:lnTo>
                    <a:pt x="2" y="2099"/>
                  </a:lnTo>
                  <a:lnTo>
                    <a:pt x="6" y="2088"/>
                  </a:lnTo>
                  <a:lnTo>
                    <a:pt x="11" y="2077"/>
                  </a:lnTo>
                  <a:lnTo>
                    <a:pt x="19" y="2068"/>
                  </a:lnTo>
                  <a:lnTo>
                    <a:pt x="19" y="0"/>
                  </a:lnTo>
                  <a:lnTo>
                    <a:pt x="21" y="7"/>
                  </a:lnTo>
                  <a:lnTo>
                    <a:pt x="28" y="25"/>
                  </a:lnTo>
                  <a:lnTo>
                    <a:pt x="40" y="54"/>
                  </a:lnTo>
                  <a:lnTo>
                    <a:pt x="58" y="95"/>
                  </a:lnTo>
                  <a:lnTo>
                    <a:pt x="70" y="118"/>
                  </a:lnTo>
                  <a:lnTo>
                    <a:pt x="84" y="144"/>
                  </a:lnTo>
                  <a:lnTo>
                    <a:pt x="101" y="172"/>
                  </a:lnTo>
                  <a:lnTo>
                    <a:pt x="119" y="203"/>
                  </a:lnTo>
                  <a:lnTo>
                    <a:pt x="139" y="235"/>
                  </a:lnTo>
                  <a:lnTo>
                    <a:pt x="162" y="269"/>
                  </a:lnTo>
                  <a:lnTo>
                    <a:pt x="187" y="305"/>
                  </a:lnTo>
                  <a:lnTo>
                    <a:pt x="215" y="34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263"/>
            <p:cNvSpPr/>
            <p:nvPr/>
          </p:nvSpPr>
          <p:spPr>
            <a:xfrm>
              <a:off x="6027480" y="5448240"/>
              <a:ext cx="27000" cy="72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999" h="2499">
                  <a:moveTo>
                    <a:pt x="999" y="0"/>
                  </a:moveTo>
                  <a:lnTo>
                    <a:pt x="999" y="2156"/>
                  </a:lnTo>
                  <a:lnTo>
                    <a:pt x="995" y="2158"/>
                  </a:lnTo>
                  <a:lnTo>
                    <a:pt x="984" y="2164"/>
                  </a:lnTo>
                  <a:lnTo>
                    <a:pt x="966" y="2173"/>
                  </a:lnTo>
                  <a:lnTo>
                    <a:pt x="941" y="2186"/>
                  </a:lnTo>
                  <a:lnTo>
                    <a:pt x="909" y="2200"/>
                  </a:lnTo>
                  <a:lnTo>
                    <a:pt x="872" y="2217"/>
                  </a:lnTo>
                  <a:lnTo>
                    <a:pt x="830" y="2236"/>
                  </a:lnTo>
                  <a:lnTo>
                    <a:pt x="781" y="2256"/>
                  </a:lnTo>
                  <a:lnTo>
                    <a:pt x="729" y="2278"/>
                  </a:lnTo>
                  <a:lnTo>
                    <a:pt x="671" y="2301"/>
                  </a:lnTo>
                  <a:lnTo>
                    <a:pt x="610" y="2324"/>
                  </a:lnTo>
                  <a:lnTo>
                    <a:pt x="544" y="2346"/>
                  </a:lnTo>
                  <a:lnTo>
                    <a:pt x="476" y="2369"/>
                  </a:lnTo>
                  <a:lnTo>
                    <a:pt x="405" y="2390"/>
                  </a:lnTo>
                  <a:lnTo>
                    <a:pt x="368" y="2402"/>
                  </a:lnTo>
                  <a:lnTo>
                    <a:pt x="331" y="2412"/>
                  </a:lnTo>
                  <a:lnTo>
                    <a:pt x="293" y="2421"/>
                  </a:lnTo>
                  <a:lnTo>
                    <a:pt x="255" y="2431"/>
                  </a:lnTo>
                  <a:lnTo>
                    <a:pt x="10" y="2499"/>
                  </a:lnTo>
                  <a:lnTo>
                    <a:pt x="0" y="353"/>
                  </a:lnTo>
                  <a:lnTo>
                    <a:pt x="19" y="347"/>
                  </a:lnTo>
                  <a:lnTo>
                    <a:pt x="73" y="333"/>
                  </a:lnTo>
                  <a:lnTo>
                    <a:pt x="150" y="313"/>
                  </a:lnTo>
                  <a:lnTo>
                    <a:pt x="243" y="287"/>
                  </a:lnTo>
                  <a:lnTo>
                    <a:pt x="342" y="259"/>
                  </a:lnTo>
                  <a:lnTo>
                    <a:pt x="439" y="229"/>
                  </a:lnTo>
                  <a:lnTo>
                    <a:pt x="483" y="214"/>
                  </a:lnTo>
                  <a:lnTo>
                    <a:pt x="523" y="201"/>
                  </a:lnTo>
                  <a:lnTo>
                    <a:pt x="559" y="188"/>
                  </a:lnTo>
                  <a:lnTo>
                    <a:pt x="588" y="177"/>
                  </a:lnTo>
                  <a:lnTo>
                    <a:pt x="606" y="171"/>
                  </a:lnTo>
                  <a:lnTo>
                    <a:pt x="652" y="155"/>
                  </a:lnTo>
                  <a:lnTo>
                    <a:pt x="718" y="132"/>
                  </a:lnTo>
                  <a:lnTo>
                    <a:pt x="793" y="103"/>
                  </a:lnTo>
                  <a:lnTo>
                    <a:pt x="832" y="88"/>
                  </a:lnTo>
                  <a:lnTo>
                    <a:pt x="869" y="73"/>
                  </a:lnTo>
                  <a:lnTo>
                    <a:pt x="904" y="59"/>
                  </a:lnTo>
                  <a:lnTo>
                    <a:pt x="935" y="45"/>
                  </a:lnTo>
                  <a:lnTo>
                    <a:pt x="962" y="31"/>
                  </a:lnTo>
                  <a:lnTo>
                    <a:pt x="982" y="19"/>
                  </a:lnTo>
                  <a:lnTo>
                    <a:pt x="989" y="14"/>
                  </a:lnTo>
                  <a:lnTo>
                    <a:pt x="995" y="9"/>
                  </a:lnTo>
                  <a:lnTo>
                    <a:pt x="998" y="4"/>
                  </a:lnTo>
                  <a:lnTo>
                    <a:pt x="99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264"/>
            <p:cNvSpPr/>
            <p:nvPr/>
          </p:nvSpPr>
          <p:spPr>
            <a:xfrm>
              <a:off x="6226200" y="5440680"/>
              <a:ext cx="4320" cy="684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35" h="2392">
                  <a:moveTo>
                    <a:pt x="235" y="305"/>
                  </a:moveTo>
                  <a:lnTo>
                    <a:pt x="235" y="2392"/>
                  </a:lnTo>
                  <a:lnTo>
                    <a:pt x="228" y="2381"/>
                  </a:lnTo>
                  <a:lnTo>
                    <a:pt x="211" y="2350"/>
                  </a:lnTo>
                  <a:lnTo>
                    <a:pt x="198" y="2329"/>
                  </a:lnTo>
                  <a:lnTo>
                    <a:pt x="184" y="2306"/>
                  </a:lnTo>
                  <a:lnTo>
                    <a:pt x="168" y="2282"/>
                  </a:lnTo>
                  <a:lnTo>
                    <a:pt x="151" y="2258"/>
                  </a:lnTo>
                  <a:lnTo>
                    <a:pt x="132" y="2233"/>
                  </a:lnTo>
                  <a:lnTo>
                    <a:pt x="113" y="2209"/>
                  </a:lnTo>
                  <a:lnTo>
                    <a:pt x="93" y="2188"/>
                  </a:lnTo>
                  <a:lnTo>
                    <a:pt x="74" y="2169"/>
                  </a:lnTo>
                  <a:lnTo>
                    <a:pt x="64" y="2161"/>
                  </a:lnTo>
                  <a:lnTo>
                    <a:pt x="55" y="2154"/>
                  </a:lnTo>
                  <a:lnTo>
                    <a:pt x="45" y="2148"/>
                  </a:lnTo>
                  <a:lnTo>
                    <a:pt x="36" y="2143"/>
                  </a:lnTo>
                  <a:lnTo>
                    <a:pt x="26" y="2140"/>
                  </a:lnTo>
                  <a:lnTo>
                    <a:pt x="18" y="2137"/>
                  </a:lnTo>
                  <a:lnTo>
                    <a:pt x="8" y="2137"/>
                  </a:lnTo>
                  <a:lnTo>
                    <a:pt x="0" y="2138"/>
                  </a:lnTo>
                  <a:lnTo>
                    <a:pt x="0" y="1"/>
                  </a:lnTo>
                  <a:lnTo>
                    <a:pt x="3" y="1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6" y="3"/>
                  </a:lnTo>
                  <a:lnTo>
                    <a:pt x="46" y="6"/>
                  </a:lnTo>
                  <a:lnTo>
                    <a:pt x="55" y="10"/>
                  </a:lnTo>
                  <a:lnTo>
                    <a:pt x="66" y="16"/>
                  </a:lnTo>
                  <a:lnTo>
                    <a:pt x="76" y="24"/>
                  </a:lnTo>
                  <a:lnTo>
                    <a:pt x="87" y="34"/>
                  </a:lnTo>
                  <a:lnTo>
                    <a:pt x="97" y="46"/>
                  </a:lnTo>
                  <a:lnTo>
                    <a:pt x="107" y="61"/>
                  </a:lnTo>
                  <a:lnTo>
                    <a:pt x="117" y="79"/>
                  </a:lnTo>
                  <a:lnTo>
                    <a:pt x="127" y="99"/>
                  </a:lnTo>
                  <a:lnTo>
                    <a:pt x="235" y="30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265"/>
            <p:cNvSpPr/>
            <p:nvPr/>
          </p:nvSpPr>
          <p:spPr>
            <a:xfrm>
              <a:off x="6147000" y="5416200"/>
              <a:ext cx="58680" cy="885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146" h="3018">
                  <a:moveTo>
                    <a:pt x="2146" y="892"/>
                  </a:moveTo>
                  <a:lnTo>
                    <a:pt x="2131" y="887"/>
                  </a:lnTo>
                  <a:lnTo>
                    <a:pt x="2090" y="873"/>
                  </a:lnTo>
                  <a:lnTo>
                    <a:pt x="2024" y="850"/>
                  </a:lnTo>
                  <a:lnTo>
                    <a:pt x="1936" y="818"/>
                  </a:lnTo>
                  <a:lnTo>
                    <a:pt x="1828" y="779"/>
                  </a:lnTo>
                  <a:lnTo>
                    <a:pt x="1702" y="734"/>
                  </a:lnTo>
                  <a:lnTo>
                    <a:pt x="1562" y="681"/>
                  </a:lnTo>
                  <a:lnTo>
                    <a:pt x="1407" y="622"/>
                  </a:lnTo>
                  <a:lnTo>
                    <a:pt x="1243" y="558"/>
                  </a:lnTo>
                  <a:lnTo>
                    <a:pt x="1071" y="489"/>
                  </a:lnTo>
                  <a:lnTo>
                    <a:pt x="983" y="452"/>
                  </a:lnTo>
                  <a:lnTo>
                    <a:pt x="893" y="415"/>
                  </a:lnTo>
                  <a:lnTo>
                    <a:pt x="803" y="377"/>
                  </a:lnTo>
                  <a:lnTo>
                    <a:pt x="712" y="337"/>
                  </a:lnTo>
                  <a:lnTo>
                    <a:pt x="620" y="298"/>
                  </a:lnTo>
                  <a:lnTo>
                    <a:pt x="530" y="257"/>
                  </a:lnTo>
                  <a:lnTo>
                    <a:pt x="439" y="215"/>
                  </a:lnTo>
                  <a:lnTo>
                    <a:pt x="349" y="173"/>
                  </a:lnTo>
                  <a:lnTo>
                    <a:pt x="259" y="131"/>
                  </a:lnTo>
                  <a:lnTo>
                    <a:pt x="172" y="87"/>
                  </a:lnTo>
                  <a:lnTo>
                    <a:pt x="85" y="44"/>
                  </a:lnTo>
                  <a:lnTo>
                    <a:pt x="0" y="0"/>
                  </a:lnTo>
                  <a:lnTo>
                    <a:pt x="0" y="2156"/>
                  </a:lnTo>
                  <a:lnTo>
                    <a:pt x="5" y="2156"/>
                  </a:lnTo>
                  <a:lnTo>
                    <a:pt x="20" y="2155"/>
                  </a:lnTo>
                  <a:lnTo>
                    <a:pt x="31" y="2155"/>
                  </a:lnTo>
                  <a:lnTo>
                    <a:pt x="44" y="2156"/>
                  </a:lnTo>
                  <a:lnTo>
                    <a:pt x="59" y="2158"/>
                  </a:lnTo>
                  <a:lnTo>
                    <a:pt x="75" y="2161"/>
                  </a:lnTo>
                  <a:lnTo>
                    <a:pt x="94" y="2165"/>
                  </a:lnTo>
                  <a:lnTo>
                    <a:pt x="115" y="2171"/>
                  </a:lnTo>
                  <a:lnTo>
                    <a:pt x="137" y="2179"/>
                  </a:lnTo>
                  <a:lnTo>
                    <a:pt x="162" y="2189"/>
                  </a:lnTo>
                  <a:lnTo>
                    <a:pt x="188" y="2201"/>
                  </a:lnTo>
                  <a:lnTo>
                    <a:pt x="215" y="2216"/>
                  </a:lnTo>
                  <a:lnTo>
                    <a:pt x="244" y="2233"/>
                  </a:lnTo>
                  <a:lnTo>
                    <a:pt x="275" y="2253"/>
                  </a:lnTo>
                  <a:lnTo>
                    <a:pt x="293" y="2263"/>
                  </a:lnTo>
                  <a:lnTo>
                    <a:pt x="345" y="2287"/>
                  </a:lnTo>
                  <a:lnTo>
                    <a:pt x="426" y="2325"/>
                  </a:lnTo>
                  <a:lnTo>
                    <a:pt x="532" y="2374"/>
                  </a:lnTo>
                  <a:lnTo>
                    <a:pt x="658" y="2433"/>
                  </a:lnTo>
                  <a:lnTo>
                    <a:pt x="800" y="2498"/>
                  </a:lnTo>
                  <a:lnTo>
                    <a:pt x="954" y="2568"/>
                  </a:lnTo>
                  <a:lnTo>
                    <a:pt x="1115" y="2640"/>
                  </a:lnTo>
                  <a:lnTo>
                    <a:pt x="1279" y="2711"/>
                  </a:lnTo>
                  <a:lnTo>
                    <a:pt x="1442" y="2781"/>
                  </a:lnTo>
                  <a:lnTo>
                    <a:pt x="1521" y="2814"/>
                  </a:lnTo>
                  <a:lnTo>
                    <a:pt x="1599" y="2845"/>
                  </a:lnTo>
                  <a:lnTo>
                    <a:pt x="1674" y="2876"/>
                  </a:lnTo>
                  <a:lnTo>
                    <a:pt x="1746" y="2903"/>
                  </a:lnTo>
                  <a:lnTo>
                    <a:pt x="1815" y="2928"/>
                  </a:lnTo>
                  <a:lnTo>
                    <a:pt x="1878" y="2951"/>
                  </a:lnTo>
                  <a:lnTo>
                    <a:pt x="1938" y="2971"/>
                  </a:lnTo>
                  <a:lnTo>
                    <a:pt x="1992" y="2989"/>
                  </a:lnTo>
                  <a:lnTo>
                    <a:pt x="2041" y="3002"/>
                  </a:lnTo>
                  <a:lnTo>
                    <a:pt x="2083" y="3011"/>
                  </a:lnTo>
                  <a:lnTo>
                    <a:pt x="2118" y="3017"/>
                  </a:lnTo>
                  <a:lnTo>
                    <a:pt x="2146" y="3018"/>
                  </a:lnTo>
                  <a:lnTo>
                    <a:pt x="2146" y="892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266"/>
            <p:cNvSpPr/>
            <p:nvPr/>
          </p:nvSpPr>
          <p:spPr>
            <a:xfrm>
              <a:off x="5922720" y="5383440"/>
              <a:ext cx="1080" cy="666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8" h="2322">
                  <a:moveTo>
                    <a:pt x="88" y="176"/>
                  </a:moveTo>
                  <a:lnTo>
                    <a:pt x="0" y="0"/>
                  </a:lnTo>
                  <a:lnTo>
                    <a:pt x="0" y="2116"/>
                  </a:lnTo>
                  <a:lnTo>
                    <a:pt x="88" y="2322"/>
                  </a:lnTo>
                  <a:lnTo>
                    <a:pt x="88" y="1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267"/>
            <p:cNvSpPr/>
            <p:nvPr/>
          </p:nvSpPr>
          <p:spPr>
            <a:xfrm>
              <a:off x="5897520" y="5345280"/>
              <a:ext cx="9360" cy="69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73" h="2381">
                  <a:moveTo>
                    <a:pt x="0" y="235"/>
                  </a:moveTo>
                  <a:lnTo>
                    <a:pt x="10" y="2381"/>
                  </a:lnTo>
                  <a:lnTo>
                    <a:pt x="24" y="2379"/>
                  </a:lnTo>
                  <a:lnTo>
                    <a:pt x="62" y="2373"/>
                  </a:lnTo>
                  <a:lnTo>
                    <a:pt x="89" y="2367"/>
                  </a:lnTo>
                  <a:lnTo>
                    <a:pt x="117" y="2360"/>
                  </a:lnTo>
                  <a:lnTo>
                    <a:pt x="148" y="2350"/>
                  </a:lnTo>
                  <a:lnTo>
                    <a:pt x="180" y="2336"/>
                  </a:lnTo>
                  <a:lnTo>
                    <a:pt x="196" y="2329"/>
                  </a:lnTo>
                  <a:lnTo>
                    <a:pt x="213" y="2321"/>
                  </a:lnTo>
                  <a:lnTo>
                    <a:pt x="229" y="2313"/>
                  </a:lnTo>
                  <a:lnTo>
                    <a:pt x="245" y="2303"/>
                  </a:lnTo>
                  <a:lnTo>
                    <a:pt x="260" y="2293"/>
                  </a:lnTo>
                  <a:lnTo>
                    <a:pt x="275" y="2282"/>
                  </a:lnTo>
                  <a:lnTo>
                    <a:pt x="290" y="2270"/>
                  </a:lnTo>
                  <a:lnTo>
                    <a:pt x="303" y="2257"/>
                  </a:lnTo>
                  <a:lnTo>
                    <a:pt x="316" y="2243"/>
                  </a:lnTo>
                  <a:lnTo>
                    <a:pt x="329" y="2229"/>
                  </a:lnTo>
                  <a:lnTo>
                    <a:pt x="339" y="2212"/>
                  </a:lnTo>
                  <a:lnTo>
                    <a:pt x="349" y="2195"/>
                  </a:lnTo>
                  <a:lnTo>
                    <a:pt x="357" y="2177"/>
                  </a:lnTo>
                  <a:lnTo>
                    <a:pt x="364" y="2158"/>
                  </a:lnTo>
                  <a:lnTo>
                    <a:pt x="369" y="2138"/>
                  </a:lnTo>
                  <a:lnTo>
                    <a:pt x="373" y="2117"/>
                  </a:lnTo>
                  <a:lnTo>
                    <a:pt x="373" y="0"/>
                  </a:lnTo>
                  <a:lnTo>
                    <a:pt x="365" y="11"/>
                  </a:lnTo>
                  <a:lnTo>
                    <a:pt x="342" y="42"/>
                  </a:lnTo>
                  <a:lnTo>
                    <a:pt x="326" y="62"/>
                  </a:lnTo>
                  <a:lnTo>
                    <a:pt x="306" y="85"/>
                  </a:lnTo>
                  <a:lnTo>
                    <a:pt x="284" y="108"/>
                  </a:lnTo>
                  <a:lnTo>
                    <a:pt x="260" y="132"/>
                  </a:lnTo>
                  <a:lnTo>
                    <a:pt x="247" y="144"/>
                  </a:lnTo>
                  <a:lnTo>
                    <a:pt x="233" y="155"/>
                  </a:lnTo>
                  <a:lnTo>
                    <a:pt x="219" y="166"/>
                  </a:lnTo>
                  <a:lnTo>
                    <a:pt x="205" y="177"/>
                  </a:lnTo>
                  <a:lnTo>
                    <a:pt x="189" y="187"/>
                  </a:lnTo>
                  <a:lnTo>
                    <a:pt x="173" y="198"/>
                  </a:lnTo>
                  <a:lnTo>
                    <a:pt x="157" y="207"/>
                  </a:lnTo>
                  <a:lnTo>
                    <a:pt x="141" y="215"/>
                  </a:lnTo>
                  <a:lnTo>
                    <a:pt x="124" y="222"/>
                  </a:lnTo>
                  <a:lnTo>
                    <a:pt x="108" y="228"/>
                  </a:lnTo>
                  <a:lnTo>
                    <a:pt x="90" y="233"/>
                  </a:lnTo>
                  <a:lnTo>
                    <a:pt x="73" y="236"/>
                  </a:lnTo>
                  <a:lnTo>
                    <a:pt x="54" y="238"/>
                  </a:lnTo>
                  <a:lnTo>
                    <a:pt x="37" y="239"/>
                  </a:lnTo>
                  <a:lnTo>
                    <a:pt x="19" y="238"/>
                  </a:lnTo>
                  <a:lnTo>
                    <a:pt x="0" y="235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268"/>
            <p:cNvSpPr/>
            <p:nvPr/>
          </p:nvSpPr>
          <p:spPr>
            <a:xfrm>
              <a:off x="5995800" y="5321520"/>
              <a:ext cx="18360" cy="651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15" h="2254">
                  <a:moveTo>
                    <a:pt x="715" y="60"/>
                  </a:moveTo>
                  <a:lnTo>
                    <a:pt x="715" y="2205"/>
                  </a:lnTo>
                  <a:lnTo>
                    <a:pt x="712" y="2203"/>
                  </a:lnTo>
                  <a:lnTo>
                    <a:pt x="702" y="2199"/>
                  </a:lnTo>
                  <a:lnTo>
                    <a:pt x="684" y="2192"/>
                  </a:lnTo>
                  <a:lnTo>
                    <a:pt x="661" y="2184"/>
                  </a:lnTo>
                  <a:lnTo>
                    <a:pt x="632" y="2175"/>
                  </a:lnTo>
                  <a:lnTo>
                    <a:pt x="597" y="2166"/>
                  </a:lnTo>
                  <a:lnTo>
                    <a:pt x="578" y="2162"/>
                  </a:lnTo>
                  <a:lnTo>
                    <a:pt x="557" y="2159"/>
                  </a:lnTo>
                  <a:lnTo>
                    <a:pt x="535" y="2155"/>
                  </a:lnTo>
                  <a:lnTo>
                    <a:pt x="512" y="2153"/>
                  </a:lnTo>
                  <a:lnTo>
                    <a:pt x="487" y="2150"/>
                  </a:lnTo>
                  <a:lnTo>
                    <a:pt x="462" y="2149"/>
                  </a:lnTo>
                  <a:lnTo>
                    <a:pt x="434" y="2148"/>
                  </a:lnTo>
                  <a:lnTo>
                    <a:pt x="407" y="2148"/>
                  </a:lnTo>
                  <a:lnTo>
                    <a:pt x="378" y="2150"/>
                  </a:lnTo>
                  <a:lnTo>
                    <a:pt x="348" y="2152"/>
                  </a:lnTo>
                  <a:lnTo>
                    <a:pt x="318" y="2155"/>
                  </a:lnTo>
                  <a:lnTo>
                    <a:pt x="285" y="2160"/>
                  </a:lnTo>
                  <a:lnTo>
                    <a:pt x="252" y="2166"/>
                  </a:lnTo>
                  <a:lnTo>
                    <a:pt x="219" y="2173"/>
                  </a:lnTo>
                  <a:lnTo>
                    <a:pt x="184" y="2182"/>
                  </a:lnTo>
                  <a:lnTo>
                    <a:pt x="149" y="2193"/>
                  </a:lnTo>
                  <a:lnTo>
                    <a:pt x="113" y="2205"/>
                  </a:lnTo>
                  <a:lnTo>
                    <a:pt x="76" y="2220"/>
                  </a:lnTo>
                  <a:lnTo>
                    <a:pt x="38" y="2236"/>
                  </a:lnTo>
                  <a:lnTo>
                    <a:pt x="0" y="2254"/>
                  </a:lnTo>
                  <a:lnTo>
                    <a:pt x="0" y="108"/>
                  </a:lnTo>
                  <a:lnTo>
                    <a:pt x="6" y="106"/>
                  </a:lnTo>
                  <a:lnTo>
                    <a:pt x="24" y="100"/>
                  </a:lnTo>
                  <a:lnTo>
                    <a:pt x="53" y="90"/>
                  </a:lnTo>
                  <a:lnTo>
                    <a:pt x="91" y="79"/>
                  </a:lnTo>
                  <a:lnTo>
                    <a:pt x="136" y="66"/>
                  </a:lnTo>
                  <a:lnTo>
                    <a:pt x="188" y="51"/>
                  </a:lnTo>
                  <a:lnTo>
                    <a:pt x="243" y="37"/>
                  </a:lnTo>
                  <a:lnTo>
                    <a:pt x="302" y="25"/>
                  </a:lnTo>
                  <a:lnTo>
                    <a:pt x="333" y="19"/>
                  </a:lnTo>
                  <a:lnTo>
                    <a:pt x="363" y="14"/>
                  </a:lnTo>
                  <a:lnTo>
                    <a:pt x="394" y="9"/>
                  </a:lnTo>
                  <a:lnTo>
                    <a:pt x="424" y="6"/>
                  </a:lnTo>
                  <a:lnTo>
                    <a:pt x="455" y="3"/>
                  </a:lnTo>
                  <a:lnTo>
                    <a:pt x="484" y="1"/>
                  </a:lnTo>
                  <a:lnTo>
                    <a:pt x="513" y="0"/>
                  </a:lnTo>
                  <a:lnTo>
                    <a:pt x="541" y="1"/>
                  </a:lnTo>
                  <a:lnTo>
                    <a:pt x="569" y="2"/>
                  </a:lnTo>
                  <a:lnTo>
                    <a:pt x="595" y="5"/>
                  </a:lnTo>
                  <a:lnTo>
                    <a:pt x="619" y="10"/>
                  </a:lnTo>
                  <a:lnTo>
                    <a:pt x="642" y="16"/>
                  </a:lnTo>
                  <a:lnTo>
                    <a:pt x="663" y="24"/>
                  </a:lnTo>
                  <a:lnTo>
                    <a:pt x="682" y="34"/>
                  </a:lnTo>
                  <a:lnTo>
                    <a:pt x="700" y="45"/>
                  </a:lnTo>
                  <a:lnTo>
                    <a:pt x="715" y="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269"/>
            <p:cNvSpPr/>
            <p:nvPr/>
          </p:nvSpPr>
          <p:spPr>
            <a:xfrm>
              <a:off x="5986800" y="5232600"/>
              <a:ext cx="31320" cy="975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157" h="3390">
                  <a:moveTo>
                    <a:pt x="1157" y="1558"/>
                  </a:moveTo>
                  <a:lnTo>
                    <a:pt x="1153" y="1549"/>
                  </a:lnTo>
                  <a:lnTo>
                    <a:pt x="1140" y="1525"/>
                  </a:lnTo>
                  <a:lnTo>
                    <a:pt x="1119" y="1487"/>
                  </a:lnTo>
                  <a:lnTo>
                    <a:pt x="1092" y="1438"/>
                  </a:lnTo>
                  <a:lnTo>
                    <a:pt x="1057" y="1377"/>
                  </a:lnTo>
                  <a:lnTo>
                    <a:pt x="1017" y="1310"/>
                  </a:lnTo>
                  <a:lnTo>
                    <a:pt x="972" y="1235"/>
                  </a:lnTo>
                  <a:lnTo>
                    <a:pt x="922" y="1155"/>
                  </a:lnTo>
                  <a:lnTo>
                    <a:pt x="869" y="1074"/>
                  </a:lnTo>
                  <a:lnTo>
                    <a:pt x="813" y="991"/>
                  </a:lnTo>
                  <a:lnTo>
                    <a:pt x="784" y="950"/>
                  </a:lnTo>
                  <a:lnTo>
                    <a:pt x="755" y="909"/>
                  </a:lnTo>
                  <a:lnTo>
                    <a:pt x="725" y="869"/>
                  </a:lnTo>
                  <a:lnTo>
                    <a:pt x="695" y="830"/>
                  </a:lnTo>
                  <a:lnTo>
                    <a:pt x="664" y="792"/>
                  </a:lnTo>
                  <a:lnTo>
                    <a:pt x="633" y="755"/>
                  </a:lnTo>
                  <a:lnTo>
                    <a:pt x="603" y="721"/>
                  </a:lnTo>
                  <a:lnTo>
                    <a:pt x="573" y="687"/>
                  </a:lnTo>
                  <a:lnTo>
                    <a:pt x="541" y="656"/>
                  </a:lnTo>
                  <a:lnTo>
                    <a:pt x="511" y="627"/>
                  </a:lnTo>
                  <a:lnTo>
                    <a:pt x="482" y="601"/>
                  </a:lnTo>
                  <a:lnTo>
                    <a:pt x="452" y="578"/>
                  </a:lnTo>
                  <a:lnTo>
                    <a:pt x="432" y="559"/>
                  </a:lnTo>
                  <a:lnTo>
                    <a:pt x="379" y="512"/>
                  </a:lnTo>
                  <a:lnTo>
                    <a:pt x="344" y="479"/>
                  </a:lnTo>
                  <a:lnTo>
                    <a:pt x="305" y="441"/>
                  </a:lnTo>
                  <a:lnTo>
                    <a:pt x="262" y="399"/>
                  </a:lnTo>
                  <a:lnTo>
                    <a:pt x="220" y="355"/>
                  </a:lnTo>
                  <a:lnTo>
                    <a:pt x="198" y="331"/>
                  </a:lnTo>
                  <a:lnTo>
                    <a:pt x="177" y="307"/>
                  </a:lnTo>
                  <a:lnTo>
                    <a:pt x="155" y="284"/>
                  </a:lnTo>
                  <a:lnTo>
                    <a:pt x="135" y="260"/>
                  </a:lnTo>
                  <a:lnTo>
                    <a:pt x="116" y="236"/>
                  </a:lnTo>
                  <a:lnTo>
                    <a:pt x="97" y="211"/>
                  </a:lnTo>
                  <a:lnTo>
                    <a:pt x="80" y="187"/>
                  </a:lnTo>
                  <a:lnTo>
                    <a:pt x="64" y="164"/>
                  </a:lnTo>
                  <a:lnTo>
                    <a:pt x="49" y="141"/>
                  </a:lnTo>
                  <a:lnTo>
                    <a:pt x="35" y="118"/>
                  </a:lnTo>
                  <a:lnTo>
                    <a:pt x="24" y="97"/>
                  </a:lnTo>
                  <a:lnTo>
                    <a:pt x="15" y="74"/>
                  </a:lnTo>
                  <a:lnTo>
                    <a:pt x="8" y="54"/>
                  </a:lnTo>
                  <a:lnTo>
                    <a:pt x="3" y="35"/>
                  </a:lnTo>
                  <a:lnTo>
                    <a:pt x="1" y="17"/>
                  </a:lnTo>
                  <a:lnTo>
                    <a:pt x="1" y="0"/>
                  </a:lnTo>
                  <a:lnTo>
                    <a:pt x="1" y="2067"/>
                  </a:lnTo>
                  <a:lnTo>
                    <a:pt x="1" y="2069"/>
                  </a:lnTo>
                  <a:lnTo>
                    <a:pt x="0" y="2076"/>
                  </a:lnTo>
                  <a:lnTo>
                    <a:pt x="0" y="2088"/>
                  </a:lnTo>
                  <a:lnTo>
                    <a:pt x="1" y="2103"/>
                  </a:lnTo>
                  <a:lnTo>
                    <a:pt x="2" y="2113"/>
                  </a:lnTo>
                  <a:lnTo>
                    <a:pt x="4" y="2124"/>
                  </a:lnTo>
                  <a:lnTo>
                    <a:pt x="7" y="2137"/>
                  </a:lnTo>
                  <a:lnTo>
                    <a:pt x="10" y="2150"/>
                  </a:lnTo>
                  <a:lnTo>
                    <a:pt x="14" y="2164"/>
                  </a:lnTo>
                  <a:lnTo>
                    <a:pt x="20" y="2180"/>
                  </a:lnTo>
                  <a:lnTo>
                    <a:pt x="26" y="2196"/>
                  </a:lnTo>
                  <a:lnTo>
                    <a:pt x="34" y="2214"/>
                  </a:lnTo>
                  <a:lnTo>
                    <a:pt x="43" y="2233"/>
                  </a:lnTo>
                  <a:lnTo>
                    <a:pt x="55" y="2253"/>
                  </a:lnTo>
                  <a:lnTo>
                    <a:pt x="67" y="2275"/>
                  </a:lnTo>
                  <a:lnTo>
                    <a:pt x="81" y="2297"/>
                  </a:lnTo>
                  <a:lnTo>
                    <a:pt x="96" y="2320"/>
                  </a:lnTo>
                  <a:lnTo>
                    <a:pt x="113" y="2345"/>
                  </a:lnTo>
                  <a:lnTo>
                    <a:pt x="133" y="2371"/>
                  </a:lnTo>
                  <a:lnTo>
                    <a:pt x="154" y="2398"/>
                  </a:lnTo>
                  <a:lnTo>
                    <a:pt x="179" y="2426"/>
                  </a:lnTo>
                  <a:lnTo>
                    <a:pt x="204" y="2455"/>
                  </a:lnTo>
                  <a:lnTo>
                    <a:pt x="232" y="2485"/>
                  </a:lnTo>
                  <a:lnTo>
                    <a:pt x="263" y="2517"/>
                  </a:lnTo>
                  <a:lnTo>
                    <a:pt x="296" y="2550"/>
                  </a:lnTo>
                  <a:lnTo>
                    <a:pt x="333" y="2583"/>
                  </a:lnTo>
                  <a:lnTo>
                    <a:pt x="371" y="2619"/>
                  </a:lnTo>
                  <a:lnTo>
                    <a:pt x="413" y="2655"/>
                  </a:lnTo>
                  <a:lnTo>
                    <a:pt x="1001" y="3390"/>
                  </a:lnTo>
                  <a:lnTo>
                    <a:pt x="1157" y="15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270"/>
            <p:cNvSpPr/>
            <p:nvPr/>
          </p:nvSpPr>
          <p:spPr>
            <a:xfrm>
              <a:off x="6081840" y="5434200"/>
              <a:ext cx="5760" cy="66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40" h="2323">
                  <a:moveTo>
                    <a:pt x="240" y="146"/>
                  </a:moveTo>
                  <a:lnTo>
                    <a:pt x="240" y="2323"/>
                  </a:lnTo>
                  <a:lnTo>
                    <a:pt x="229" y="2323"/>
                  </a:lnTo>
                  <a:lnTo>
                    <a:pt x="201" y="2323"/>
                  </a:lnTo>
                  <a:lnTo>
                    <a:pt x="182" y="2321"/>
                  </a:lnTo>
                  <a:lnTo>
                    <a:pt x="160" y="2318"/>
                  </a:lnTo>
                  <a:lnTo>
                    <a:pt x="138" y="2313"/>
                  </a:lnTo>
                  <a:lnTo>
                    <a:pt x="115" y="2307"/>
                  </a:lnTo>
                  <a:lnTo>
                    <a:pt x="104" y="2303"/>
                  </a:lnTo>
                  <a:lnTo>
                    <a:pt x="92" y="2299"/>
                  </a:lnTo>
                  <a:lnTo>
                    <a:pt x="81" y="2294"/>
                  </a:lnTo>
                  <a:lnTo>
                    <a:pt x="71" y="2288"/>
                  </a:lnTo>
                  <a:lnTo>
                    <a:pt x="61" y="2281"/>
                  </a:lnTo>
                  <a:lnTo>
                    <a:pt x="51" y="2274"/>
                  </a:lnTo>
                  <a:lnTo>
                    <a:pt x="41" y="2265"/>
                  </a:lnTo>
                  <a:lnTo>
                    <a:pt x="33" y="2256"/>
                  </a:lnTo>
                  <a:lnTo>
                    <a:pt x="25" y="2246"/>
                  </a:lnTo>
                  <a:lnTo>
                    <a:pt x="19" y="2235"/>
                  </a:lnTo>
                  <a:lnTo>
                    <a:pt x="13" y="2223"/>
                  </a:lnTo>
                  <a:lnTo>
                    <a:pt x="9" y="2210"/>
                  </a:lnTo>
                  <a:lnTo>
                    <a:pt x="6" y="2195"/>
                  </a:lnTo>
                  <a:lnTo>
                    <a:pt x="4" y="2180"/>
                  </a:lnTo>
                  <a:lnTo>
                    <a:pt x="4" y="2164"/>
                  </a:lnTo>
                  <a:lnTo>
                    <a:pt x="5" y="2146"/>
                  </a:lnTo>
                  <a:lnTo>
                    <a:pt x="5" y="0"/>
                  </a:lnTo>
                  <a:lnTo>
                    <a:pt x="3" y="8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3" y="65"/>
                  </a:lnTo>
                  <a:lnTo>
                    <a:pt x="5" y="73"/>
                  </a:lnTo>
                  <a:lnTo>
                    <a:pt x="8" y="80"/>
                  </a:lnTo>
                  <a:lnTo>
                    <a:pt x="12" y="88"/>
                  </a:lnTo>
                  <a:lnTo>
                    <a:pt x="16" y="96"/>
                  </a:lnTo>
                  <a:lnTo>
                    <a:pt x="22" y="103"/>
                  </a:lnTo>
                  <a:lnTo>
                    <a:pt x="28" y="111"/>
                  </a:lnTo>
                  <a:lnTo>
                    <a:pt x="36" y="117"/>
                  </a:lnTo>
                  <a:lnTo>
                    <a:pt x="46" y="124"/>
                  </a:lnTo>
                  <a:lnTo>
                    <a:pt x="56" y="130"/>
                  </a:lnTo>
                  <a:lnTo>
                    <a:pt x="67" y="135"/>
                  </a:lnTo>
                  <a:lnTo>
                    <a:pt x="79" y="140"/>
                  </a:lnTo>
                  <a:lnTo>
                    <a:pt x="93" y="144"/>
                  </a:lnTo>
                  <a:lnTo>
                    <a:pt x="109" y="147"/>
                  </a:lnTo>
                  <a:lnTo>
                    <a:pt x="126" y="150"/>
                  </a:lnTo>
                  <a:lnTo>
                    <a:pt x="145" y="151"/>
                  </a:lnTo>
                  <a:lnTo>
                    <a:pt x="166" y="152"/>
                  </a:lnTo>
                  <a:lnTo>
                    <a:pt x="189" y="151"/>
                  </a:lnTo>
                  <a:lnTo>
                    <a:pt x="213" y="150"/>
                  </a:lnTo>
                  <a:lnTo>
                    <a:pt x="240" y="14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271"/>
            <p:cNvSpPr/>
            <p:nvPr/>
          </p:nvSpPr>
          <p:spPr>
            <a:xfrm>
              <a:off x="5919480" y="5175360"/>
              <a:ext cx="398160" cy="366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4755" h="12587">
                  <a:moveTo>
                    <a:pt x="10804" y="9206"/>
                  </a:moveTo>
                  <a:lnTo>
                    <a:pt x="10830" y="9194"/>
                  </a:lnTo>
                  <a:lnTo>
                    <a:pt x="10894" y="9163"/>
                  </a:lnTo>
                  <a:lnTo>
                    <a:pt x="10938" y="9144"/>
                  </a:lnTo>
                  <a:lnTo>
                    <a:pt x="10988" y="9124"/>
                  </a:lnTo>
                  <a:lnTo>
                    <a:pt x="11014" y="9114"/>
                  </a:lnTo>
                  <a:lnTo>
                    <a:pt x="11041" y="9105"/>
                  </a:lnTo>
                  <a:lnTo>
                    <a:pt x="11069" y="9096"/>
                  </a:lnTo>
                  <a:lnTo>
                    <a:pt x="11098" y="9087"/>
                  </a:lnTo>
                  <a:lnTo>
                    <a:pt x="11126" y="9080"/>
                  </a:lnTo>
                  <a:lnTo>
                    <a:pt x="11154" y="9073"/>
                  </a:lnTo>
                  <a:lnTo>
                    <a:pt x="11182" y="9068"/>
                  </a:lnTo>
                  <a:lnTo>
                    <a:pt x="11210" y="9063"/>
                  </a:lnTo>
                  <a:lnTo>
                    <a:pt x="11237" y="9061"/>
                  </a:lnTo>
                  <a:lnTo>
                    <a:pt x="11263" y="9059"/>
                  </a:lnTo>
                  <a:lnTo>
                    <a:pt x="11288" y="9060"/>
                  </a:lnTo>
                  <a:lnTo>
                    <a:pt x="11312" y="9062"/>
                  </a:lnTo>
                  <a:lnTo>
                    <a:pt x="11336" y="9066"/>
                  </a:lnTo>
                  <a:lnTo>
                    <a:pt x="11357" y="9073"/>
                  </a:lnTo>
                  <a:lnTo>
                    <a:pt x="11377" y="9081"/>
                  </a:lnTo>
                  <a:lnTo>
                    <a:pt x="11394" y="9093"/>
                  </a:lnTo>
                  <a:lnTo>
                    <a:pt x="11410" y="9107"/>
                  </a:lnTo>
                  <a:lnTo>
                    <a:pt x="11423" y="9124"/>
                  </a:lnTo>
                  <a:lnTo>
                    <a:pt x="11433" y="9144"/>
                  </a:lnTo>
                  <a:lnTo>
                    <a:pt x="11441" y="9167"/>
                  </a:lnTo>
                  <a:lnTo>
                    <a:pt x="11451" y="9194"/>
                  </a:lnTo>
                  <a:lnTo>
                    <a:pt x="11464" y="9224"/>
                  </a:lnTo>
                  <a:lnTo>
                    <a:pt x="11482" y="9257"/>
                  </a:lnTo>
                  <a:lnTo>
                    <a:pt x="11504" y="9293"/>
                  </a:lnTo>
                  <a:lnTo>
                    <a:pt x="11529" y="9331"/>
                  </a:lnTo>
                  <a:lnTo>
                    <a:pt x="11558" y="9373"/>
                  </a:lnTo>
                  <a:lnTo>
                    <a:pt x="11590" y="9415"/>
                  </a:lnTo>
                  <a:lnTo>
                    <a:pt x="11625" y="9459"/>
                  </a:lnTo>
                  <a:lnTo>
                    <a:pt x="11662" y="9506"/>
                  </a:lnTo>
                  <a:lnTo>
                    <a:pt x="11701" y="9553"/>
                  </a:lnTo>
                  <a:lnTo>
                    <a:pt x="11742" y="9600"/>
                  </a:lnTo>
                  <a:lnTo>
                    <a:pt x="11784" y="9650"/>
                  </a:lnTo>
                  <a:lnTo>
                    <a:pt x="11872" y="9748"/>
                  </a:lnTo>
                  <a:lnTo>
                    <a:pt x="11962" y="9844"/>
                  </a:lnTo>
                  <a:lnTo>
                    <a:pt x="12050" y="9938"/>
                  </a:lnTo>
                  <a:lnTo>
                    <a:pt x="12136" y="10027"/>
                  </a:lnTo>
                  <a:lnTo>
                    <a:pt x="12215" y="10109"/>
                  </a:lnTo>
                  <a:lnTo>
                    <a:pt x="12286" y="10180"/>
                  </a:lnTo>
                  <a:lnTo>
                    <a:pt x="12346" y="10240"/>
                  </a:lnTo>
                  <a:lnTo>
                    <a:pt x="12391" y="10285"/>
                  </a:lnTo>
                  <a:lnTo>
                    <a:pt x="12420" y="10313"/>
                  </a:lnTo>
                  <a:lnTo>
                    <a:pt x="12430" y="10323"/>
                  </a:lnTo>
                  <a:lnTo>
                    <a:pt x="13175" y="9775"/>
                  </a:lnTo>
                  <a:lnTo>
                    <a:pt x="14066" y="11647"/>
                  </a:lnTo>
                  <a:lnTo>
                    <a:pt x="14076" y="11684"/>
                  </a:lnTo>
                  <a:lnTo>
                    <a:pt x="14083" y="11717"/>
                  </a:lnTo>
                  <a:lnTo>
                    <a:pt x="14085" y="11733"/>
                  </a:lnTo>
                  <a:lnTo>
                    <a:pt x="14087" y="11748"/>
                  </a:lnTo>
                  <a:lnTo>
                    <a:pt x="14088" y="11763"/>
                  </a:lnTo>
                  <a:lnTo>
                    <a:pt x="14089" y="11777"/>
                  </a:lnTo>
                  <a:lnTo>
                    <a:pt x="14088" y="11791"/>
                  </a:lnTo>
                  <a:lnTo>
                    <a:pt x="14088" y="11804"/>
                  </a:lnTo>
                  <a:lnTo>
                    <a:pt x="14086" y="11817"/>
                  </a:lnTo>
                  <a:lnTo>
                    <a:pt x="14084" y="11829"/>
                  </a:lnTo>
                  <a:lnTo>
                    <a:pt x="14082" y="11842"/>
                  </a:lnTo>
                  <a:lnTo>
                    <a:pt x="14078" y="11854"/>
                  </a:lnTo>
                  <a:lnTo>
                    <a:pt x="14074" y="11867"/>
                  </a:lnTo>
                  <a:lnTo>
                    <a:pt x="14070" y="11879"/>
                  </a:lnTo>
                  <a:lnTo>
                    <a:pt x="14059" y="11905"/>
                  </a:lnTo>
                  <a:lnTo>
                    <a:pt x="14046" y="11930"/>
                  </a:lnTo>
                  <a:lnTo>
                    <a:pt x="14031" y="11957"/>
                  </a:lnTo>
                  <a:lnTo>
                    <a:pt x="14013" y="11985"/>
                  </a:lnTo>
                  <a:lnTo>
                    <a:pt x="13971" y="12050"/>
                  </a:lnTo>
                  <a:lnTo>
                    <a:pt x="13920" y="12127"/>
                  </a:lnTo>
                  <a:lnTo>
                    <a:pt x="13906" y="12149"/>
                  </a:lnTo>
                  <a:lnTo>
                    <a:pt x="13896" y="12171"/>
                  </a:lnTo>
                  <a:lnTo>
                    <a:pt x="13887" y="12192"/>
                  </a:lnTo>
                  <a:lnTo>
                    <a:pt x="13882" y="12214"/>
                  </a:lnTo>
                  <a:lnTo>
                    <a:pt x="13878" y="12235"/>
                  </a:lnTo>
                  <a:lnTo>
                    <a:pt x="13876" y="12257"/>
                  </a:lnTo>
                  <a:lnTo>
                    <a:pt x="13876" y="12278"/>
                  </a:lnTo>
                  <a:lnTo>
                    <a:pt x="13878" y="12298"/>
                  </a:lnTo>
                  <a:lnTo>
                    <a:pt x="13882" y="12318"/>
                  </a:lnTo>
                  <a:lnTo>
                    <a:pt x="13887" y="12338"/>
                  </a:lnTo>
                  <a:lnTo>
                    <a:pt x="13893" y="12357"/>
                  </a:lnTo>
                  <a:lnTo>
                    <a:pt x="13900" y="12376"/>
                  </a:lnTo>
                  <a:lnTo>
                    <a:pt x="13909" y="12394"/>
                  </a:lnTo>
                  <a:lnTo>
                    <a:pt x="13918" y="12412"/>
                  </a:lnTo>
                  <a:lnTo>
                    <a:pt x="13928" y="12429"/>
                  </a:lnTo>
                  <a:lnTo>
                    <a:pt x="13939" y="12445"/>
                  </a:lnTo>
                  <a:lnTo>
                    <a:pt x="13950" y="12461"/>
                  </a:lnTo>
                  <a:lnTo>
                    <a:pt x="13962" y="12476"/>
                  </a:lnTo>
                  <a:lnTo>
                    <a:pt x="13974" y="12491"/>
                  </a:lnTo>
                  <a:lnTo>
                    <a:pt x="13986" y="12504"/>
                  </a:lnTo>
                  <a:lnTo>
                    <a:pt x="14009" y="12528"/>
                  </a:lnTo>
                  <a:lnTo>
                    <a:pt x="14030" y="12548"/>
                  </a:lnTo>
                  <a:lnTo>
                    <a:pt x="14063" y="12577"/>
                  </a:lnTo>
                  <a:lnTo>
                    <a:pt x="14076" y="12587"/>
                  </a:lnTo>
                  <a:lnTo>
                    <a:pt x="14084" y="12578"/>
                  </a:lnTo>
                  <a:lnTo>
                    <a:pt x="14108" y="12553"/>
                  </a:lnTo>
                  <a:lnTo>
                    <a:pt x="14143" y="12514"/>
                  </a:lnTo>
                  <a:lnTo>
                    <a:pt x="14189" y="12462"/>
                  </a:lnTo>
                  <a:lnTo>
                    <a:pt x="14243" y="12400"/>
                  </a:lnTo>
                  <a:lnTo>
                    <a:pt x="14303" y="12330"/>
                  </a:lnTo>
                  <a:lnTo>
                    <a:pt x="14368" y="12254"/>
                  </a:lnTo>
                  <a:lnTo>
                    <a:pt x="14433" y="12173"/>
                  </a:lnTo>
                  <a:lnTo>
                    <a:pt x="14465" y="12133"/>
                  </a:lnTo>
                  <a:lnTo>
                    <a:pt x="14498" y="12091"/>
                  </a:lnTo>
                  <a:lnTo>
                    <a:pt x="14529" y="12050"/>
                  </a:lnTo>
                  <a:lnTo>
                    <a:pt x="14560" y="12009"/>
                  </a:lnTo>
                  <a:lnTo>
                    <a:pt x="14589" y="11968"/>
                  </a:lnTo>
                  <a:lnTo>
                    <a:pt x="14618" y="11928"/>
                  </a:lnTo>
                  <a:lnTo>
                    <a:pt x="14643" y="11889"/>
                  </a:lnTo>
                  <a:lnTo>
                    <a:pt x="14667" y="11851"/>
                  </a:lnTo>
                  <a:lnTo>
                    <a:pt x="14689" y="11815"/>
                  </a:lnTo>
                  <a:lnTo>
                    <a:pt x="14708" y="11781"/>
                  </a:lnTo>
                  <a:lnTo>
                    <a:pt x="14724" y="11748"/>
                  </a:lnTo>
                  <a:lnTo>
                    <a:pt x="14738" y="11719"/>
                  </a:lnTo>
                  <a:lnTo>
                    <a:pt x="14747" y="11692"/>
                  </a:lnTo>
                  <a:lnTo>
                    <a:pt x="14753" y="11667"/>
                  </a:lnTo>
                  <a:lnTo>
                    <a:pt x="14755" y="11646"/>
                  </a:lnTo>
                  <a:lnTo>
                    <a:pt x="14753" y="11627"/>
                  </a:lnTo>
                  <a:lnTo>
                    <a:pt x="14736" y="11615"/>
                  </a:lnTo>
                  <a:lnTo>
                    <a:pt x="14690" y="11582"/>
                  </a:lnTo>
                  <a:lnTo>
                    <a:pt x="14659" y="11557"/>
                  </a:lnTo>
                  <a:lnTo>
                    <a:pt x="14624" y="11527"/>
                  </a:lnTo>
                  <a:lnTo>
                    <a:pt x="14605" y="11509"/>
                  </a:lnTo>
                  <a:lnTo>
                    <a:pt x="14585" y="11490"/>
                  </a:lnTo>
                  <a:lnTo>
                    <a:pt x="14565" y="11470"/>
                  </a:lnTo>
                  <a:lnTo>
                    <a:pt x="14545" y="11449"/>
                  </a:lnTo>
                  <a:lnTo>
                    <a:pt x="14525" y="11427"/>
                  </a:lnTo>
                  <a:lnTo>
                    <a:pt x="14504" y="11404"/>
                  </a:lnTo>
                  <a:lnTo>
                    <a:pt x="14484" y="11378"/>
                  </a:lnTo>
                  <a:lnTo>
                    <a:pt x="14463" y="11352"/>
                  </a:lnTo>
                  <a:lnTo>
                    <a:pt x="14442" y="11324"/>
                  </a:lnTo>
                  <a:lnTo>
                    <a:pt x="14423" y="11296"/>
                  </a:lnTo>
                  <a:lnTo>
                    <a:pt x="14403" y="11265"/>
                  </a:lnTo>
                  <a:lnTo>
                    <a:pt x="14385" y="11234"/>
                  </a:lnTo>
                  <a:lnTo>
                    <a:pt x="14367" y="11202"/>
                  </a:lnTo>
                  <a:lnTo>
                    <a:pt x="14350" y="11169"/>
                  </a:lnTo>
                  <a:lnTo>
                    <a:pt x="14333" y="11133"/>
                  </a:lnTo>
                  <a:lnTo>
                    <a:pt x="14318" y="11097"/>
                  </a:lnTo>
                  <a:lnTo>
                    <a:pt x="14304" y="11060"/>
                  </a:lnTo>
                  <a:lnTo>
                    <a:pt x="14292" y="11021"/>
                  </a:lnTo>
                  <a:lnTo>
                    <a:pt x="14281" y="10982"/>
                  </a:lnTo>
                  <a:lnTo>
                    <a:pt x="14272" y="10941"/>
                  </a:lnTo>
                  <a:lnTo>
                    <a:pt x="14265" y="10924"/>
                  </a:lnTo>
                  <a:lnTo>
                    <a:pt x="14243" y="10876"/>
                  </a:lnTo>
                  <a:lnTo>
                    <a:pt x="14207" y="10801"/>
                  </a:lnTo>
                  <a:lnTo>
                    <a:pt x="14162" y="10705"/>
                  </a:lnTo>
                  <a:lnTo>
                    <a:pt x="14106" y="10589"/>
                  </a:lnTo>
                  <a:lnTo>
                    <a:pt x="14041" y="10459"/>
                  </a:lnTo>
                  <a:lnTo>
                    <a:pt x="13969" y="10318"/>
                  </a:lnTo>
                  <a:lnTo>
                    <a:pt x="13893" y="10171"/>
                  </a:lnTo>
                  <a:lnTo>
                    <a:pt x="13853" y="10098"/>
                  </a:lnTo>
                  <a:lnTo>
                    <a:pt x="13812" y="10024"/>
                  </a:lnTo>
                  <a:lnTo>
                    <a:pt x="13771" y="9950"/>
                  </a:lnTo>
                  <a:lnTo>
                    <a:pt x="13729" y="9878"/>
                  </a:lnTo>
                  <a:lnTo>
                    <a:pt x="13687" y="9807"/>
                  </a:lnTo>
                  <a:lnTo>
                    <a:pt x="13645" y="9739"/>
                  </a:lnTo>
                  <a:lnTo>
                    <a:pt x="13603" y="9672"/>
                  </a:lnTo>
                  <a:lnTo>
                    <a:pt x="13561" y="9610"/>
                  </a:lnTo>
                  <a:lnTo>
                    <a:pt x="13521" y="9551"/>
                  </a:lnTo>
                  <a:lnTo>
                    <a:pt x="13480" y="9496"/>
                  </a:lnTo>
                  <a:lnTo>
                    <a:pt x="13440" y="9446"/>
                  </a:lnTo>
                  <a:lnTo>
                    <a:pt x="13402" y="9401"/>
                  </a:lnTo>
                  <a:lnTo>
                    <a:pt x="13365" y="9362"/>
                  </a:lnTo>
                  <a:lnTo>
                    <a:pt x="13329" y="9329"/>
                  </a:lnTo>
                  <a:lnTo>
                    <a:pt x="13295" y="9303"/>
                  </a:lnTo>
                  <a:lnTo>
                    <a:pt x="13263" y="9285"/>
                  </a:lnTo>
                  <a:lnTo>
                    <a:pt x="13258" y="9288"/>
                  </a:lnTo>
                  <a:lnTo>
                    <a:pt x="13241" y="9296"/>
                  </a:lnTo>
                  <a:lnTo>
                    <a:pt x="13213" y="9309"/>
                  </a:lnTo>
                  <a:lnTo>
                    <a:pt x="13177" y="9326"/>
                  </a:lnTo>
                  <a:lnTo>
                    <a:pt x="13133" y="9346"/>
                  </a:lnTo>
                  <a:lnTo>
                    <a:pt x="13081" y="9368"/>
                  </a:lnTo>
                  <a:lnTo>
                    <a:pt x="13023" y="9393"/>
                  </a:lnTo>
                  <a:lnTo>
                    <a:pt x="12960" y="9417"/>
                  </a:lnTo>
                  <a:lnTo>
                    <a:pt x="12894" y="9442"/>
                  </a:lnTo>
                  <a:lnTo>
                    <a:pt x="12824" y="9465"/>
                  </a:lnTo>
                  <a:lnTo>
                    <a:pt x="12789" y="9477"/>
                  </a:lnTo>
                  <a:lnTo>
                    <a:pt x="12753" y="9488"/>
                  </a:lnTo>
                  <a:lnTo>
                    <a:pt x="12717" y="9499"/>
                  </a:lnTo>
                  <a:lnTo>
                    <a:pt x="12680" y="9508"/>
                  </a:lnTo>
                  <a:lnTo>
                    <a:pt x="12644" y="9517"/>
                  </a:lnTo>
                  <a:lnTo>
                    <a:pt x="12608" y="9525"/>
                  </a:lnTo>
                  <a:lnTo>
                    <a:pt x="12572" y="9532"/>
                  </a:lnTo>
                  <a:lnTo>
                    <a:pt x="12537" y="9538"/>
                  </a:lnTo>
                  <a:lnTo>
                    <a:pt x="12502" y="9543"/>
                  </a:lnTo>
                  <a:lnTo>
                    <a:pt x="12468" y="9546"/>
                  </a:lnTo>
                  <a:lnTo>
                    <a:pt x="12434" y="9549"/>
                  </a:lnTo>
                  <a:lnTo>
                    <a:pt x="12401" y="9549"/>
                  </a:lnTo>
                  <a:lnTo>
                    <a:pt x="12391" y="9540"/>
                  </a:lnTo>
                  <a:lnTo>
                    <a:pt x="12361" y="9514"/>
                  </a:lnTo>
                  <a:lnTo>
                    <a:pt x="12314" y="9473"/>
                  </a:lnTo>
                  <a:lnTo>
                    <a:pt x="12252" y="9420"/>
                  </a:lnTo>
                  <a:lnTo>
                    <a:pt x="12177" y="9356"/>
                  </a:lnTo>
                  <a:lnTo>
                    <a:pt x="12092" y="9284"/>
                  </a:lnTo>
                  <a:lnTo>
                    <a:pt x="11998" y="9205"/>
                  </a:lnTo>
                  <a:lnTo>
                    <a:pt x="11898" y="9123"/>
                  </a:lnTo>
                  <a:lnTo>
                    <a:pt x="11794" y="9039"/>
                  </a:lnTo>
                  <a:lnTo>
                    <a:pt x="11688" y="8955"/>
                  </a:lnTo>
                  <a:lnTo>
                    <a:pt x="11635" y="8914"/>
                  </a:lnTo>
                  <a:lnTo>
                    <a:pt x="11583" y="8873"/>
                  </a:lnTo>
                  <a:lnTo>
                    <a:pt x="11531" y="8835"/>
                  </a:lnTo>
                  <a:lnTo>
                    <a:pt x="11480" y="8797"/>
                  </a:lnTo>
                  <a:lnTo>
                    <a:pt x="11430" y="8761"/>
                  </a:lnTo>
                  <a:lnTo>
                    <a:pt x="11382" y="8727"/>
                  </a:lnTo>
                  <a:lnTo>
                    <a:pt x="11335" y="8695"/>
                  </a:lnTo>
                  <a:lnTo>
                    <a:pt x="11290" y="8666"/>
                  </a:lnTo>
                  <a:lnTo>
                    <a:pt x="11248" y="8639"/>
                  </a:lnTo>
                  <a:lnTo>
                    <a:pt x="11209" y="8616"/>
                  </a:lnTo>
                  <a:lnTo>
                    <a:pt x="11171" y="8596"/>
                  </a:lnTo>
                  <a:lnTo>
                    <a:pt x="11138" y="8579"/>
                  </a:lnTo>
                  <a:lnTo>
                    <a:pt x="10736" y="8510"/>
                  </a:lnTo>
                  <a:lnTo>
                    <a:pt x="13783" y="1661"/>
                  </a:lnTo>
                  <a:lnTo>
                    <a:pt x="13780" y="1657"/>
                  </a:lnTo>
                  <a:lnTo>
                    <a:pt x="13771" y="1647"/>
                  </a:lnTo>
                  <a:lnTo>
                    <a:pt x="13757" y="1632"/>
                  </a:lnTo>
                  <a:lnTo>
                    <a:pt x="13736" y="1614"/>
                  </a:lnTo>
                  <a:lnTo>
                    <a:pt x="13723" y="1603"/>
                  </a:lnTo>
                  <a:lnTo>
                    <a:pt x="13708" y="1592"/>
                  </a:lnTo>
                  <a:lnTo>
                    <a:pt x="13692" y="1580"/>
                  </a:lnTo>
                  <a:lnTo>
                    <a:pt x="13674" y="1569"/>
                  </a:lnTo>
                  <a:lnTo>
                    <a:pt x="13654" y="1558"/>
                  </a:lnTo>
                  <a:lnTo>
                    <a:pt x="13633" y="1546"/>
                  </a:lnTo>
                  <a:lnTo>
                    <a:pt x="13610" y="1535"/>
                  </a:lnTo>
                  <a:lnTo>
                    <a:pt x="13584" y="1525"/>
                  </a:lnTo>
                  <a:lnTo>
                    <a:pt x="13557" y="1515"/>
                  </a:lnTo>
                  <a:lnTo>
                    <a:pt x="13528" y="1506"/>
                  </a:lnTo>
                  <a:lnTo>
                    <a:pt x="13497" y="1497"/>
                  </a:lnTo>
                  <a:lnTo>
                    <a:pt x="13463" y="1490"/>
                  </a:lnTo>
                  <a:lnTo>
                    <a:pt x="13429" y="1484"/>
                  </a:lnTo>
                  <a:lnTo>
                    <a:pt x="13392" y="1480"/>
                  </a:lnTo>
                  <a:lnTo>
                    <a:pt x="13353" y="1477"/>
                  </a:lnTo>
                  <a:lnTo>
                    <a:pt x="13311" y="1475"/>
                  </a:lnTo>
                  <a:lnTo>
                    <a:pt x="13268" y="1476"/>
                  </a:lnTo>
                  <a:lnTo>
                    <a:pt x="13223" y="1478"/>
                  </a:lnTo>
                  <a:lnTo>
                    <a:pt x="13174" y="1483"/>
                  </a:lnTo>
                  <a:lnTo>
                    <a:pt x="13125" y="1489"/>
                  </a:lnTo>
                  <a:lnTo>
                    <a:pt x="13072" y="1499"/>
                  </a:lnTo>
                  <a:lnTo>
                    <a:pt x="13017" y="1511"/>
                  </a:lnTo>
                  <a:lnTo>
                    <a:pt x="12960" y="1525"/>
                  </a:lnTo>
                  <a:lnTo>
                    <a:pt x="12901" y="1543"/>
                  </a:lnTo>
                  <a:lnTo>
                    <a:pt x="12894" y="1543"/>
                  </a:lnTo>
                  <a:lnTo>
                    <a:pt x="12874" y="1543"/>
                  </a:lnTo>
                  <a:lnTo>
                    <a:pt x="12842" y="1541"/>
                  </a:lnTo>
                  <a:lnTo>
                    <a:pt x="12799" y="1539"/>
                  </a:lnTo>
                  <a:lnTo>
                    <a:pt x="12748" y="1536"/>
                  </a:lnTo>
                  <a:lnTo>
                    <a:pt x="12688" y="1531"/>
                  </a:lnTo>
                  <a:lnTo>
                    <a:pt x="12624" y="1523"/>
                  </a:lnTo>
                  <a:lnTo>
                    <a:pt x="12554" y="1514"/>
                  </a:lnTo>
                  <a:lnTo>
                    <a:pt x="12518" y="1508"/>
                  </a:lnTo>
                  <a:lnTo>
                    <a:pt x="12482" y="1501"/>
                  </a:lnTo>
                  <a:lnTo>
                    <a:pt x="12444" y="1494"/>
                  </a:lnTo>
                  <a:lnTo>
                    <a:pt x="12408" y="1486"/>
                  </a:lnTo>
                  <a:lnTo>
                    <a:pt x="12371" y="1477"/>
                  </a:lnTo>
                  <a:lnTo>
                    <a:pt x="12334" y="1466"/>
                  </a:lnTo>
                  <a:lnTo>
                    <a:pt x="12296" y="1455"/>
                  </a:lnTo>
                  <a:lnTo>
                    <a:pt x="12260" y="1444"/>
                  </a:lnTo>
                  <a:lnTo>
                    <a:pt x="12225" y="1431"/>
                  </a:lnTo>
                  <a:lnTo>
                    <a:pt x="12190" y="1417"/>
                  </a:lnTo>
                  <a:lnTo>
                    <a:pt x="12156" y="1402"/>
                  </a:lnTo>
                  <a:lnTo>
                    <a:pt x="12124" y="1386"/>
                  </a:lnTo>
                  <a:lnTo>
                    <a:pt x="12093" y="1368"/>
                  </a:lnTo>
                  <a:lnTo>
                    <a:pt x="12063" y="1349"/>
                  </a:lnTo>
                  <a:lnTo>
                    <a:pt x="12035" y="1329"/>
                  </a:lnTo>
                  <a:lnTo>
                    <a:pt x="12010" y="1308"/>
                  </a:lnTo>
                  <a:lnTo>
                    <a:pt x="11983" y="1307"/>
                  </a:lnTo>
                  <a:lnTo>
                    <a:pt x="11911" y="1302"/>
                  </a:lnTo>
                  <a:lnTo>
                    <a:pt x="11864" y="1298"/>
                  </a:lnTo>
                  <a:lnTo>
                    <a:pt x="11810" y="1291"/>
                  </a:lnTo>
                  <a:lnTo>
                    <a:pt x="11782" y="1287"/>
                  </a:lnTo>
                  <a:lnTo>
                    <a:pt x="11754" y="1283"/>
                  </a:lnTo>
                  <a:lnTo>
                    <a:pt x="11725" y="1277"/>
                  </a:lnTo>
                  <a:lnTo>
                    <a:pt x="11694" y="1271"/>
                  </a:lnTo>
                  <a:lnTo>
                    <a:pt x="11665" y="1265"/>
                  </a:lnTo>
                  <a:lnTo>
                    <a:pt x="11636" y="1257"/>
                  </a:lnTo>
                  <a:lnTo>
                    <a:pt x="11607" y="1249"/>
                  </a:lnTo>
                  <a:lnTo>
                    <a:pt x="11579" y="1239"/>
                  </a:lnTo>
                  <a:lnTo>
                    <a:pt x="11551" y="1228"/>
                  </a:lnTo>
                  <a:lnTo>
                    <a:pt x="11525" y="1217"/>
                  </a:lnTo>
                  <a:lnTo>
                    <a:pt x="11500" y="1205"/>
                  </a:lnTo>
                  <a:lnTo>
                    <a:pt x="11477" y="1192"/>
                  </a:lnTo>
                  <a:lnTo>
                    <a:pt x="11455" y="1178"/>
                  </a:lnTo>
                  <a:lnTo>
                    <a:pt x="11435" y="1162"/>
                  </a:lnTo>
                  <a:lnTo>
                    <a:pt x="11417" y="1146"/>
                  </a:lnTo>
                  <a:lnTo>
                    <a:pt x="11403" y="1128"/>
                  </a:lnTo>
                  <a:lnTo>
                    <a:pt x="11391" y="1108"/>
                  </a:lnTo>
                  <a:lnTo>
                    <a:pt x="11382" y="1088"/>
                  </a:lnTo>
                  <a:lnTo>
                    <a:pt x="11376" y="1066"/>
                  </a:lnTo>
                  <a:lnTo>
                    <a:pt x="11373" y="1043"/>
                  </a:lnTo>
                  <a:lnTo>
                    <a:pt x="11362" y="1037"/>
                  </a:lnTo>
                  <a:lnTo>
                    <a:pt x="11331" y="1019"/>
                  </a:lnTo>
                  <a:lnTo>
                    <a:pt x="11308" y="1007"/>
                  </a:lnTo>
                  <a:lnTo>
                    <a:pt x="11282" y="994"/>
                  </a:lnTo>
                  <a:lnTo>
                    <a:pt x="11253" y="978"/>
                  </a:lnTo>
                  <a:lnTo>
                    <a:pt x="11220" y="963"/>
                  </a:lnTo>
                  <a:lnTo>
                    <a:pt x="11183" y="948"/>
                  </a:lnTo>
                  <a:lnTo>
                    <a:pt x="11145" y="934"/>
                  </a:lnTo>
                  <a:lnTo>
                    <a:pt x="11105" y="920"/>
                  </a:lnTo>
                  <a:lnTo>
                    <a:pt x="11062" y="907"/>
                  </a:lnTo>
                  <a:lnTo>
                    <a:pt x="11041" y="901"/>
                  </a:lnTo>
                  <a:lnTo>
                    <a:pt x="11019" y="896"/>
                  </a:lnTo>
                  <a:lnTo>
                    <a:pt x="10997" y="891"/>
                  </a:lnTo>
                  <a:lnTo>
                    <a:pt x="10975" y="887"/>
                  </a:lnTo>
                  <a:lnTo>
                    <a:pt x="10952" y="884"/>
                  </a:lnTo>
                  <a:lnTo>
                    <a:pt x="10928" y="881"/>
                  </a:lnTo>
                  <a:lnTo>
                    <a:pt x="10906" y="878"/>
                  </a:lnTo>
                  <a:lnTo>
                    <a:pt x="10883" y="877"/>
                  </a:lnTo>
                  <a:lnTo>
                    <a:pt x="10866" y="866"/>
                  </a:lnTo>
                  <a:lnTo>
                    <a:pt x="10822" y="839"/>
                  </a:lnTo>
                  <a:lnTo>
                    <a:pt x="10790" y="821"/>
                  </a:lnTo>
                  <a:lnTo>
                    <a:pt x="10756" y="803"/>
                  </a:lnTo>
                  <a:lnTo>
                    <a:pt x="10718" y="784"/>
                  </a:lnTo>
                  <a:lnTo>
                    <a:pt x="10677" y="766"/>
                  </a:lnTo>
                  <a:lnTo>
                    <a:pt x="10656" y="757"/>
                  </a:lnTo>
                  <a:lnTo>
                    <a:pt x="10635" y="748"/>
                  </a:lnTo>
                  <a:lnTo>
                    <a:pt x="10614" y="740"/>
                  </a:lnTo>
                  <a:lnTo>
                    <a:pt x="10593" y="733"/>
                  </a:lnTo>
                  <a:lnTo>
                    <a:pt x="10572" y="727"/>
                  </a:lnTo>
                  <a:lnTo>
                    <a:pt x="10551" y="722"/>
                  </a:lnTo>
                  <a:lnTo>
                    <a:pt x="10531" y="718"/>
                  </a:lnTo>
                  <a:lnTo>
                    <a:pt x="10511" y="715"/>
                  </a:lnTo>
                  <a:lnTo>
                    <a:pt x="10492" y="714"/>
                  </a:lnTo>
                  <a:lnTo>
                    <a:pt x="10473" y="714"/>
                  </a:lnTo>
                  <a:lnTo>
                    <a:pt x="10456" y="715"/>
                  </a:lnTo>
                  <a:lnTo>
                    <a:pt x="10438" y="718"/>
                  </a:lnTo>
                  <a:lnTo>
                    <a:pt x="10423" y="723"/>
                  </a:lnTo>
                  <a:lnTo>
                    <a:pt x="10408" y="729"/>
                  </a:lnTo>
                  <a:lnTo>
                    <a:pt x="10395" y="738"/>
                  </a:lnTo>
                  <a:lnTo>
                    <a:pt x="10383" y="749"/>
                  </a:lnTo>
                  <a:lnTo>
                    <a:pt x="10373" y="761"/>
                  </a:lnTo>
                  <a:lnTo>
                    <a:pt x="10364" y="773"/>
                  </a:lnTo>
                  <a:lnTo>
                    <a:pt x="10356" y="786"/>
                  </a:lnTo>
                  <a:lnTo>
                    <a:pt x="10350" y="800"/>
                  </a:lnTo>
                  <a:lnTo>
                    <a:pt x="10344" y="814"/>
                  </a:lnTo>
                  <a:lnTo>
                    <a:pt x="10339" y="829"/>
                  </a:lnTo>
                  <a:lnTo>
                    <a:pt x="10335" y="844"/>
                  </a:lnTo>
                  <a:lnTo>
                    <a:pt x="10332" y="859"/>
                  </a:lnTo>
                  <a:lnTo>
                    <a:pt x="10323" y="921"/>
                  </a:lnTo>
                  <a:lnTo>
                    <a:pt x="10317" y="980"/>
                  </a:lnTo>
                  <a:lnTo>
                    <a:pt x="10313" y="995"/>
                  </a:lnTo>
                  <a:lnTo>
                    <a:pt x="10311" y="1008"/>
                  </a:lnTo>
                  <a:lnTo>
                    <a:pt x="10307" y="1020"/>
                  </a:lnTo>
                  <a:lnTo>
                    <a:pt x="10304" y="1032"/>
                  </a:lnTo>
                  <a:lnTo>
                    <a:pt x="10299" y="1042"/>
                  </a:lnTo>
                  <a:lnTo>
                    <a:pt x="10294" y="1052"/>
                  </a:lnTo>
                  <a:lnTo>
                    <a:pt x="10287" y="1060"/>
                  </a:lnTo>
                  <a:lnTo>
                    <a:pt x="10280" y="1068"/>
                  </a:lnTo>
                  <a:lnTo>
                    <a:pt x="10271" y="1074"/>
                  </a:lnTo>
                  <a:lnTo>
                    <a:pt x="10261" y="1078"/>
                  </a:lnTo>
                  <a:lnTo>
                    <a:pt x="10250" y="1081"/>
                  </a:lnTo>
                  <a:lnTo>
                    <a:pt x="10237" y="1083"/>
                  </a:lnTo>
                  <a:lnTo>
                    <a:pt x="10223" y="1083"/>
                  </a:lnTo>
                  <a:lnTo>
                    <a:pt x="10206" y="1081"/>
                  </a:lnTo>
                  <a:lnTo>
                    <a:pt x="10187" y="1078"/>
                  </a:lnTo>
                  <a:lnTo>
                    <a:pt x="10168" y="1072"/>
                  </a:lnTo>
                  <a:lnTo>
                    <a:pt x="10148" y="1067"/>
                  </a:lnTo>
                  <a:lnTo>
                    <a:pt x="10130" y="1060"/>
                  </a:lnTo>
                  <a:lnTo>
                    <a:pt x="10112" y="1052"/>
                  </a:lnTo>
                  <a:lnTo>
                    <a:pt x="10095" y="1044"/>
                  </a:lnTo>
                  <a:lnTo>
                    <a:pt x="10079" y="1035"/>
                  </a:lnTo>
                  <a:lnTo>
                    <a:pt x="10063" y="1025"/>
                  </a:lnTo>
                  <a:lnTo>
                    <a:pt x="10049" y="1014"/>
                  </a:lnTo>
                  <a:lnTo>
                    <a:pt x="10035" y="1003"/>
                  </a:lnTo>
                  <a:lnTo>
                    <a:pt x="10021" y="990"/>
                  </a:lnTo>
                  <a:lnTo>
                    <a:pt x="10008" y="978"/>
                  </a:lnTo>
                  <a:lnTo>
                    <a:pt x="9995" y="965"/>
                  </a:lnTo>
                  <a:lnTo>
                    <a:pt x="9983" y="952"/>
                  </a:lnTo>
                  <a:lnTo>
                    <a:pt x="9959" y="924"/>
                  </a:lnTo>
                  <a:lnTo>
                    <a:pt x="9934" y="895"/>
                  </a:lnTo>
                  <a:lnTo>
                    <a:pt x="9909" y="864"/>
                  </a:lnTo>
                  <a:lnTo>
                    <a:pt x="9884" y="834"/>
                  </a:lnTo>
                  <a:lnTo>
                    <a:pt x="9857" y="802"/>
                  </a:lnTo>
                  <a:lnTo>
                    <a:pt x="9828" y="771"/>
                  </a:lnTo>
                  <a:lnTo>
                    <a:pt x="9813" y="756"/>
                  </a:lnTo>
                  <a:lnTo>
                    <a:pt x="9795" y="739"/>
                  </a:lnTo>
                  <a:lnTo>
                    <a:pt x="9778" y="724"/>
                  </a:lnTo>
                  <a:lnTo>
                    <a:pt x="9760" y="709"/>
                  </a:lnTo>
                  <a:lnTo>
                    <a:pt x="9742" y="694"/>
                  </a:lnTo>
                  <a:lnTo>
                    <a:pt x="9722" y="680"/>
                  </a:lnTo>
                  <a:lnTo>
                    <a:pt x="9701" y="666"/>
                  </a:lnTo>
                  <a:lnTo>
                    <a:pt x="9678" y="652"/>
                  </a:lnTo>
                  <a:lnTo>
                    <a:pt x="9627" y="622"/>
                  </a:lnTo>
                  <a:lnTo>
                    <a:pt x="9569" y="589"/>
                  </a:lnTo>
                  <a:lnTo>
                    <a:pt x="9502" y="554"/>
                  </a:lnTo>
                  <a:lnTo>
                    <a:pt x="9430" y="518"/>
                  </a:lnTo>
                  <a:lnTo>
                    <a:pt x="9356" y="479"/>
                  </a:lnTo>
                  <a:lnTo>
                    <a:pt x="9279" y="441"/>
                  </a:lnTo>
                  <a:lnTo>
                    <a:pt x="9202" y="403"/>
                  </a:lnTo>
                  <a:lnTo>
                    <a:pt x="9126" y="366"/>
                  </a:lnTo>
                  <a:lnTo>
                    <a:pt x="9052" y="331"/>
                  </a:lnTo>
                  <a:lnTo>
                    <a:pt x="8984" y="298"/>
                  </a:lnTo>
                  <a:lnTo>
                    <a:pt x="8921" y="268"/>
                  </a:lnTo>
                  <a:lnTo>
                    <a:pt x="8867" y="242"/>
                  </a:lnTo>
                  <a:lnTo>
                    <a:pt x="8822" y="221"/>
                  </a:lnTo>
                  <a:lnTo>
                    <a:pt x="8786" y="205"/>
                  </a:lnTo>
                  <a:lnTo>
                    <a:pt x="8765" y="194"/>
                  </a:lnTo>
                  <a:lnTo>
                    <a:pt x="8757" y="191"/>
                  </a:lnTo>
                  <a:lnTo>
                    <a:pt x="8752" y="187"/>
                  </a:lnTo>
                  <a:lnTo>
                    <a:pt x="8735" y="177"/>
                  </a:lnTo>
                  <a:lnTo>
                    <a:pt x="8708" y="161"/>
                  </a:lnTo>
                  <a:lnTo>
                    <a:pt x="8669" y="140"/>
                  </a:lnTo>
                  <a:lnTo>
                    <a:pt x="8646" y="130"/>
                  </a:lnTo>
                  <a:lnTo>
                    <a:pt x="8620" y="118"/>
                  </a:lnTo>
                  <a:lnTo>
                    <a:pt x="8592" y="107"/>
                  </a:lnTo>
                  <a:lnTo>
                    <a:pt x="8560" y="95"/>
                  </a:lnTo>
                  <a:lnTo>
                    <a:pt x="8525" y="83"/>
                  </a:lnTo>
                  <a:lnTo>
                    <a:pt x="8489" y="71"/>
                  </a:lnTo>
                  <a:lnTo>
                    <a:pt x="8450" y="60"/>
                  </a:lnTo>
                  <a:lnTo>
                    <a:pt x="8407" y="49"/>
                  </a:lnTo>
                  <a:lnTo>
                    <a:pt x="8362" y="39"/>
                  </a:lnTo>
                  <a:lnTo>
                    <a:pt x="8315" y="29"/>
                  </a:lnTo>
                  <a:lnTo>
                    <a:pt x="8264" y="20"/>
                  </a:lnTo>
                  <a:lnTo>
                    <a:pt x="8211" y="13"/>
                  </a:lnTo>
                  <a:lnTo>
                    <a:pt x="8155" y="8"/>
                  </a:lnTo>
                  <a:lnTo>
                    <a:pt x="8097" y="4"/>
                  </a:lnTo>
                  <a:lnTo>
                    <a:pt x="8035" y="1"/>
                  </a:lnTo>
                  <a:lnTo>
                    <a:pt x="7972" y="0"/>
                  </a:lnTo>
                  <a:lnTo>
                    <a:pt x="7905" y="2"/>
                  </a:lnTo>
                  <a:lnTo>
                    <a:pt x="7837" y="5"/>
                  </a:lnTo>
                  <a:lnTo>
                    <a:pt x="7764" y="11"/>
                  </a:lnTo>
                  <a:lnTo>
                    <a:pt x="7691" y="20"/>
                  </a:lnTo>
                  <a:lnTo>
                    <a:pt x="7613" y="31"/>
                  </a:lnTo>
                  <a:lnTo>
                    <a:pt x="7533" y="46"/>
                  </a:lnTo>
                  <a:lnTo>
                    <a:pt x="7451" y="63"/>
                  </a:lnTo>
                  <a:lnTo>
                    <a:pt x="7366" y="83"/>
                  </a:lnTo>
                  <a:lnTo>
                    <a:pt x="7283" y="104"/>
                  </a:lnTo>
                  <a:lnTo>
                    <a:pt x="7207" y="122"/>
                  </a:lnTo>
                  <a:lnTo>
                    <a:pt x="7136" y="139"/>
                  </a:lnTo>
                  <a:lnTo>
                    <a:pt x="7071" y="153"/>
                  </a:lnTo>
                  <a:lnTo>
                    <a:pt x="7010" y="166"/>
                  </a:lnTo>
                  <a:lnTo>
                    <a:pt x="6955" y="177"/>
                  </a:lnTo>
                  <a:lnTo>
                    <a:pt x="6903" y="186"/>
                  </a:lnTo>
                  <a:lnTo>
                    <a:pt x="6856" y="193"/>
                  </a:lnTo>
                  <a:lnTo>
                    <a:pt x="6813" y="199"/>
                  </a:lnTo>
                  <a:lnTo>
                    <a:pt x="6773" y="204"/>
                  </a:lnTo>
                  <a:lnTo>
                    <a:pt x="6737" y="207"/>
                  </a:lnTo>
                  <a:lnTo>
                    <a:pt x="6704" y="209"/>
                  </a:lnTo>
                  <a:lnTo>
                    <a:pt x="6674" y="210"/>
                  </a:lnTo>
                  <a:lnTo>
                    <a:pt x="6646" y="210"/>
                  </a:lnTo>
                  <a:lnTo>
                    <a:pt x="6620" y="209"/>
                  </a:lnTo>
                  <a:lnTo>
                    <a:pt x="6597" y="208"/>
                  </a:lnTo>
                  <a:lnTo>
                    <a:pt x="6576" y="206"/>
                  </a:lnTo>
                  <a:lnTo>
                    <a:pt x="6556" y="203"/>
                  </a:lnTo>
                  <a:lnTo>
                    <a:pt x="6537" y="200"/>
                  </a:lnTo>
                  <a:lnTo>
                    <a:pt x="6518" y="197"/>
                  </a:lnTo>
                  <a:lnTo>
                    <a:pt x="6483" y="190"/>
                  </a:lnTo>
                  <a:lnTo>
                    <a:pt x="6449" y="182"/>
                  </a:lnTo>
                  <a:lnTo>
                    <a:pt x="6431" y="179"/>
                  </a:lnTo>
                  <a:lnTo>
                    <a:pt x="6413" y="176"/>
                  </a:lnTo>
                  <a:lnTo>
                    <a:pt x="6392" y="174"/>
                  </a:lnTo>
                  <a:lnTo>
                    <a:pt x="6371" y="172"/>
                  </a:lnTo>
                  <a:lnTo>
                    <a:pt x="6349" y="170"/>
                  </a:lnTo>
                  <a:lnTo>
                    <a:pt x="6325" y="170"/>
                  </a:lnTo>
                  <a:lnTo>
                    <a:pt x="6298" y="170"/>
                  </a:lnTo>
                  <a:lnTo>
                    <a:pt x="6269" y="171"/>
                  </a:lnTo>
                  <a:lnTo>
                    <a:pt x="6208" y="176"/>
                  </a:lnTo>
                  <a:lnTo>
                    <a:pt x="6144" y="182"/>
                  </a:lnTo>
                  <a:lnTo>
                    <a:pt x="6080" y="191"/>
                  </a:lnTo>
                  <a:lnTo>
                    <a:pt x="6015" y="201"/>
                  </a:lnTo>
                  <a:lnTo>
                    <a:pt x="5983" y="207"/>
                  </a:lnTo>
                  <a:lnTo>
                    <a:pt x="5951" y="213"/>
                  </a:lnTo>
                  <a:lnTo>
                    <a:pt x="5919" y="220"/>
                  </a:lnTo>
                  <a:lnTo>
                    <a:pt x="5886" y="228"/>
                  </a:lnTo>
                  <a:lnTo>
                    <a:pt x="5854" y="236"/>
                  </a:lnTo>
                  <a:lnTo>
                    <a:pt x="5823" y="244"/>
                  </a:lnTo>
                  <a:lnTo>
                    <a:pt x="5792" y="253"/>
                  </a:lnTo>
                  <a:lnTo>
                    <a:pt x="5761" y="263"/>
                  </a:lnTo>
                  <a:lnTo>
                    <a:pt x="5731" y="273"/>
                  </a:lnTo>
                  <a:lnTo>
                    <a:pt x="5701" y="284"/>
                  </a:lnTo>
                  <a:lnTo>
                    <a:pt x="5672" y="295"/>
                  </a:lnTo>
                  <a:lnTo>
                    <a:pt x="5643" y="307"/>
                  </a:lnTo>
                  <a:lnTo>
                    <a:pt x="5615" y="319"/>
                  </a:lnTo>
                  <a:lnTo>
                    <a:pt x="5589" y="332"/>
                  </a:lnTo>
                  <a:lnTo>
                    <a:pt x="5563" y="346"/>
                  </a:lnTo>
                  <a:lnTo>
                    <a:pt x="5538" y="360"/>
                  </a:lnTo>
                  <a:lnTo>
                    <a:pt x="5513" y="374"/>
                  </a:lnTo>
                  <a:lnTo>
                    <a:pt x="5490" y="389"/>
                  </a:lnTo>
                  <a:lnTo>
                    <a:pt x="5468" y="406"/>
                  </a:lnTo>
                  <a:lnTo>
                    <a:pt x="5448" y="423"/>
                  </a:lnTo>
                  <a:lnTo>
                    <a:pt x="5428" y="440"/>
                  </a:lnTo>
                  <a:lnTo>
                    <a:pt x="5410" y="457"/>
                  </a:lnTo>
                  <a:lnTo>
                    <a:pt x="5393" y="475"/>
                  </a:lnTo>
                  <a:lnTo>
                    <a:pt x="5377" y="494"/>
                  </a:lnTo>
                  <a:lnTo>
                    <a:pt x="5360" y="515"/>
                  </a:lnTo>
                  <a:lnTo>
                    <a:pt x="5339" y="539"/>
                  </a:lnTo>
                  <a:lnTo>
                    <a:pt x="5313" y="565"/>
                  </a:lnTo>
                  <a:lnTo>
                    <a:pt x="5283" y="595"/>
                  </a:lnTo>
                  <a:lnTo>
                    <a:pt x="5248" y="627"/>
                  </a:lnTo>
                  <a:lnTo>
                    <a:pt x="5211" y="662"/>
                  </a:lnTo>
                  <a:lnTo>
                    <a:pt x="5170" y="699"/>
                  </a:lnTo>
                  <a:lnTo>
                    <a:pt x="5125" y="737"/>
                  </a:lnTo>
                  <a:lnTo>
                    <a:pt x="5078" y="778"/>
                  </a:lnTo>
                  <a:lnTo>
                    <a:pt x="5028" y="819"/>
                  </a:lnTo>
                  <a:lnTo>
                    <a:pt x="4975" y="861"/>
                  </a:lnTo>
                  <a:lnTo>
                    <a:pt x="4921" y="905"/>
                  </a:lnTo>
                  <a:lnTo>
                    <a:pt x="4864" y="948"/>
                  </a:lnTo>
                  <a:lnTo>
                    <a:pt x="4806" y="991"/>
                  </a:lnTo>
                  <a:lnTo>
                    <a:pt x="4746" y="1036"/>
                  </a:lnTo>
                  <a:lnTo>
                    <a:pt x="4686" y="1079"/>
                  </a:lnTo>
                  <a:lnTo>
                    <a:pt x="4624" y="1122"/>
                  </a:lnTo>
                  <a:lnTo>
                    <a:pt x="4562" y="1163"/>
                  </a:lnTo>
                  <a:lnTo>
                    <a:pt x="4498" y="1203"/>
                  </a:lnTo>
                  <a:lnTo>
                    <a:pt x="4436" y="1243"/>
                  </a:lnTo>
                  <a:lnTo>
                    <a:pt x="4372" y="1280"/>
                  </a:lnTo>
                  <a:lnTo>
                    <a:pt x="4310" y="1315"/>
                  </a:lnTo>
                  <a:lnTo>
                    <a:pt x="4247" y="1347"/>
                  </a:lnTo>
                  <a:lnTo>
                    <a:pt x="4186" y="1378"/>
                  </a:lnTo>
                  <a:lnTo>
                    <a:pt x="4125" y="1405"/>
                  </a:lnTo>
                  <a:lnTo>
                    <a:pt x="4067" y="1429"/>
                  </a:lnTo>
                  <a:lnTo>
                    <a:pt x="4008" y="1450"/>
                  </a:lnTo>
                  <a:lnTo>
                    <a:pt x="3953" y="1467"/>
                  </a:lnTo>
                  <a:lnTo>
                    <a:pt x="3899" y="1481"/>
                  </a:lnTo>
                  <a:lnTo>
                    <a:pt x="3847" y="1490"/>
                  </a:lnTo>
                  <a:lnTo>
                    <a:pt x="3798" y="1495"/>
                  </a:lnTo>
                  <a:lnTo>
                    <a:pt x="3751" y="1494"/>
                  </a:lnTo>
                  <a:lnTo>
                    <a:pt x="3706" y="1491"/>
                  </a:lnTo>
                  <a:lnTo>
                    <a:pt x="3660" y="1488"/>
                  </a:lnTo>
                  <a:lnTo>
                    <a:pt x="3612" y="1487"/>
                  </a:lnTo>
                  <a:lnTo>
                    <a:pt x="3564" y="1485"/>
                  </a:lnTo>
                  <a:lnTo>
                    <a:pt x="3516" y="1485"/>
                  </a:lnTo>
                  <a:lnTo>
                    <a:pt x="3467" y="1486"/>
                  </a:lnTo>
                  <a:lnTo>
                    <a:pt x="3418" y="1487"/>
                  </a:lnTo>
                  <a:lnTo>
                    <a:pt x="3368" y="1489"/>
                  </a:lnTo>
                  <a:lnTo>
                    <a:pt x="3319" y="1491"/>
                  </a:lnTo>
                  <a:lnTo>
                    <a:pt x="3270" y="1495"/>
                  </a:lnTo>
                  <a:lnTo>
                    <a:pt x="3220" y="1500"/>
                  </a:lnTo>
                  <a:lnTo>
                    <a:pt x="3171" y="1505"/>
                  </a:lnTo>
                  <a:lnTo>
                    <a:pt x="3123" y="1511"/>
                  </a:lnTo>
                  <a:lnTo>
                    <a:pt x="3075" y="1518"/>
                  </a:lnTo>
                  <a:lnTo>
                    <a:pt x="3029" y="1527"/>
                  </a:lnTo>
                  <a:lnTo>
                    <a:pt x="2982" y="1536"/>
                  </a:lnTo>
                  <a:lnTo>
                    <a:pt x="2938" y="1546"/>
                  </a:lnTo>
                  <a:lnTo>
                    <a:pt x="2894" y="1557"/>
                  </a:lnTo>
                  <a:lnTo>
                    <a:pt x="2851" y="1569"/>
                  </a:lnTo>
                  <a:lnTo>
                    <a:pt x="2811" y="1582"/>
                  </a:lnTo>
                  <a:lnTo>
                    <a:pt x="2771" y="1597"/>
                  </a:lnTo>
                  <a:lnTo>
                    <a:pt x="2733" y="1612"/>
                  </a:lnTo>
                  <a:lnTo>
                    <a:pt x="2697" y="1628"/>
                  </a:lnTo>
                  <a:lnTo>
                    <a:pt x="2664" y="1646"/>
                  </a:lnTo>
                  <a:lnTo>
                    <a:pt x="2632" y="1664"/>
                  </a:lnTo>
                  <a:lnTo>
                    <a:pt x="2601" y="1684"/>
                  </a:lnTo>
                  <a:lnTo>
                    <a:pt x="2574" y="1705"/>
                  </a:lnTo>
                  <a:lnTo>
                    <a:pt x="2550" y="1727"/>
                  </a:lnTo>
                  <a:lnTo>
                    <a:pt x="2528" y="1750"/>
                  </a:lnTo>
                  <a:lnTo>
                    <a:pt x="2509" y="1775"/>
                  </a:lnTo>
                  <a:lnTo>
                    <a:pt x="2491" y="1800"/>
                  </a:lnTo>
                  <a:lnTo>
                    <a:pt x="2478" y="1827"/>
                  </a:lnTo>
                  <a:lnTo>
                    <a:pt x="2467" y="1854"/>
                  </a:lnTo>
                  <a:lnTo>
                    <a:pt x="2458" y="1878"/>
                  </a:lnTo>
                  <a:lnTo>
                    <a:pt x="2451" y="1902"/>
                  </a:lnTo>
                  <a:lnTo>
                    <a:pt x="2446" y="1924"/>
                  </a:lnTo>
                  <a:lnTo>
                    <a:pt x="2443" y="1946"/>
                  </a:lnTo>
                  <a:lnTo>
                    <a:pt x="2441" y="1968"/>
                  </a:lnTo>
                  <a:lnTo>
                    <a:pt x="2441" y="1988"/>
                  </a:lnTo>
                  <a:lnTo>
                    <a:pt x="2443" y="2008"/>
                  </a:lnTo>
                  <a:lnTo>
                    <a:pt x="2447" y="2027"/>
                  </a:lnTo>
                  <a:lnTo>
                    <a:pt x="2452" y="2046"/>
                  </a:lnTo>
                  <a:lnTo>
                    <a:pt x="2459" y="2065"/>
                  </a:lnTo>
                  <a:lnTo>
                    <a:pt x="2468" y="2084"/>
                  </a:lnTo>
                  <a:lnTo>
                    <a:pt x="2478" y="2102"/>
                  </a:lnTo>
                  <a:lnTo>
                    <a:pt x="2489" y="2120"/>
                  </a:lnTo>
                  <a:lnTo>
                    <a:pt x="2502" y="2138"/>
                  </a:lnTo>
                  <a:lnTo>
                    <a:pt x="2518" y="2157"/>
                  </a:lnTo>
                  <a:lnTo>
                    <a:pt x="2533" y="2175"/>
                  </a:lnTo>
                  <a:lnTo>
                    <a:pt x="2550" y="2195"/>
                  </a:lnTo>
                  <a:lnTo>
                    <a:pt x="2569" y="2215"/>
                  </a:lnTo>
                  <a:lnTo>
                    <a:pt x="2588" y="2234"/>
                  </a:lnTo>
                  <a:lnTo>
                    <a:pt x="2632" y="2276"/>
                  </a:lnTo>
                  <a:lnTo>
                    <a:pt x="2679" y="2322"/>
                  </a:lnTo>
                  <a:lnTo>
                    <a:pt x="2731" y="2372"/>
                  </a:lnTo>
                  <a:lnTo>
                    <a:pt x="2787" y="2426"/>
                  </a:lnTo>
                  <a:lnTo>
                    <a:pt x="2846" y="2486"/>
                  </a:lnTo>
                  <a:lnTo>
                    <a:pt x="2909" y="2553"/>
                  </a:lnTo>
                  <a:lnTo>
                    <a:pt x="2976" y="2626"/>
                  </a:lnTo>
                  <a:lnTo>
                    <a:pt x="3050" y="2709"/>
                  </a:lnTo>
                  <a:lnTo>
                    <a:pt x="3089" y="2753"/>
                  </a:lnTo>
                  <a:lnTo>
                    <a:pt x="3128" y="2800"/>
                  </a:lnTo>
                  <a:lnTo>
                    <a:pt x="3169" y="2848"/>
                  </a:lnTo>
                  <a:lnTo>
                    <a:pt x="3210" y="2897"/>
                  </a:lnTo>
                  <a:lnTo>
                    <a:pt x="3250" y="2948"/>
                  </a:lnTo>
                  <a:lnTo>
                    <a:pt x="3291" y="2999"/>
                  </a:lnTo>
                  <a:lnTo>
                    <a:pt x="3330" y="3052"/>
                  </a:lnTo>
                  <a:lnTo>
                    <a:pt x="3368" y="3104"/>
                  </a:lnTo>
                  <a:lnTo>
                    <a:pt x="3406" y="3158"/>
                  </a:lnTo>
                  <a:lnTo>
                    <a:pt x="3441" y="3211"/>
                  </a:lnTo>
                  <a:lnTo>
                    <a:pt x="3475" y="3264"/>
                  </a:lnTo>
                  <a:lnTo>
                    <a:pt x="3506" y="3318"/>
                  </a:lnTo>
                  <a:lnTo>
                    <a:pt x="3536" y="3370"/>
                  </a:lnTo>
                  <a:lnTo>
                    <a:pt x="3562" y="3423"/>
                  </a:lnTo>
                  <a:lnTo>
                    <a:pt x="3585" y="3474"/>
                  </a:lnTo>
                  <a:lnTo>
                    <a:pt x="3604" y="3525"/>
                  </a:lnTo>
                  <a:lnTo>
                    <a:pt x="3620" y="3574"/>
                  </a:lnTo>
                  <a:lnTo>
                    <a:pt x="3631" y="3621"/>
                  </a:lnTo>
                  <a:lnTo>
                    <a:pt x="3640" y="3667"/>
                  </a:lnTo>
                  <a:lnTo>
                    <a:pt x="3642" y="3711"/>
                  </a:lnTo>
                  <a:lnTo>
                    <a:pt x="3640" y="3754"/>
                  </a:lnTo>
                  <a:lnTo>
                    <a:pt x="3632" y="3793"/>
                  </a:lnTo>
                  <a:lnTo>
                    <a:pt x="3618" y="3830"/>
                  </a:lnTo>
                  <a:lnTo>
                    <a:pt x="3599" y="3866"/>
                  </a:lnTo>
                  <a:lnTo>
                    <a:pt x="3574" y="3897"/>
                  </a:lnTo>
                  <a:lnTo>
                    <a:pt x="3543" y="3926"/>
                  </a:lnTo>
                  <a:lnTo>
                    <a:pt x="3503" y="3951"/>
                  </a:lnTo>
                  <a:lnTo>
                    <a:pt x="3458" y="3973"/>
                  </a:lnTo>
                  <a:lnTo>
                    <a:pt x="3409" y="3992"/>
                  </a:lnTo>
                  <a:lnTo>
                    <a:pt x="3362" y="4007"/>
                  </a:lnTo>
                  <a:lnTo>
                    <a:pt x="3319" y="4019"/>
                  </a:lnTo>
                  <a:lnTo>
                    <a:pt x="3279" y="4028"/>
                  </a:lnTo>
                  <a:lnTo>
                    <a:pt x="3240" y="4034"/>
                  </a:lnTo>
                  <a:lnTo>
                    <a:pt x="3205" y="4037"/>
                  </a:lnTo>
                  <a:lnTo>
                    <a:pt x="3172" y="4037"/>
                  </a:lnTo>
                  <a:lnTo>
                    <a:pt x="3141" y="4035"/>
                  </a:lnTo>
                  <a:lnTo>
                    <a:pt x="3111" y="4031"/>
                  </a:lnTo>
                  <a:lnTo>
                    <a:pt x="3084" y="4025"/>
                  </a:lnTo>
                  <a:lnTo>
                    <a:pt x="3058" y="4017"/>
                  </a:lnTo>
                  <a:lnTo>
                    <a:pt x="3034" y="4007"/>
                  </a:lnTo>
                  <a:lnTo>
                    <a:pt x="3011" y="3996"/>
                  </a:lnTo>
                  <a:lnTo>
                    <a:pt x="2988" y="3983"/>
                  </a:lnTo>
                  <a:lnTo>
                    <a:pt x="2968" y="3969"/>
                  </a:lnTo>
                  <a:lnTo>
                    <a:pt x="2948" y="3954"/>
                  </a:lnTo>
                  <a:lnTo>
                    <a:pt x="2929" y="3938"/>
                  </a:lnTo>
                  <a:lnTo>
                    <a:pt x="2911" y="3921"/>
                  </a:lnTo>
                  <a:lnTo>
                    <a:pt x="2894" y="3904"/>
                  </a:lnTo>
                  <a:lnTo>
                    <a:pt x="2876" y="3886"/>
                  </a:lnTo>
                  <a:lnTo>
                    <a:pt x="2842" y="3849"/>
                  </a:lnTo>
                  <a:lnTo>
                    <a:pt x="2808" y="3813"/>
                  </a:lnTo>
                  <a:lnTo>
                    <a:pt x="2790" y="3796"/>
                  </a:lnTo>
                  <a:lnTo>
                    <a:pt x="2772" y="3779"/>
                  </a:lnTo>
                  <a:lnTo>
                    <a:pt x="2752" y="3763"/>
                  </a:lnTo>
                  <a:lnTo>
                    <a:pt x="2733" y="3748"/>
                  </a:lnTo>
                  <a:lnTo>
                    <a:pt x="2713" y="3733"/>
                  </a:lnTo>
                  <a:lnTo>
                    <a:pt x="2691" y="3720"/>
                  </a:lnTo>
                  <a:lnTo>
                    <a:pt x="2669" y="3709"/>
                  </a:lnTo>
                  <a:lnTo>
                    <a:pt x="2645" y="3699"/>
                  </a:lnTo>
                  <a:lnTo>
                    <a:pt x="2618" y="3689"/>
                  </a:lnTo>
                  <a:lnTo>
                    <a:pt x="2590" y="3681"/>
                  </a:lnTo>
                  <a:lnTo>
                    <a:pt x="2559" y="3674"/>
                  </a:lnTo>
                  <a:lnTo>
                    <a:pt x="2526" y="3667"/>
                  </a:lnTo>
                  <a:lnTo>
                    <a:pt x="2490" y="3662"/>
                  </a:lnTo>
                  <a:lnTo>
                    <a:pt x="2453" y="3657"/>
                  </a:lnTo>
                  <a:lnTo>
                    <a:pt x="2414" y="3654"/>
                  </a:lnTo>
                  <a:lnTo>
                    <a:pt x="2373" y="3652"/>
                  </a:lnTo>
                  <a:lnTo>
                    <a:pt x="2331" y="3651"/>
                  </a:lnTo>
                  <a:lnTo>
                    <a:pt x="2287" y="3651"/>
                  </a:lnTo>
                  <a:lnTo>
                    <a:pt x="2242" y="3652"/>
                  </a:lnTo>
                  <a:lnTo>
                    <a:pt x="2196" y="3654"/>
                  </a:lnTo>
                  <a:lnTo>
                    <a:pt x="2149" y="3657"/>
                  </a:lnTo>
                  <a:lnTo>
                    <a:pt x="2100" y="3662"/>
                  </a:lnTo>
                  <a:lnTo>
                    <a:pt x="2051" y="3667"/>
                  </a:lnTo>
                  <a:lnTo>
                    <a:pt x="2002" y="3673"/>
                  </a:lnTo>
                  <a:lnTo>
                    <a:pt x="1952" y="3681"/>
                  </a:lnTo>
                  <a:lnTo>
                    <a:pt x="1902" y="3690"/>
                  </a:lnTo>
                  <a:lnTo>
                    <a:pt x="1850" y="3700"/>
                  </a:lnTo>
                  <a:lnTo>
                    <a:pt x="1800" y="3711"/>
                  </a:lnTo>
                  <a:lnTo>
                    <a:pt x="1750" y="3723"/>
                  </a:lnTo>
                  <a:lnTo>
                    <a:pt x="1699" y="3736"/>
                  </a:lnTo>
                  <a:lnTo>
                    <a:pt x="1649" y="3751"/>
                  </a:lnTo>
                  <a:lnTo>
                    <a:pt x="1599" y="3767"/>
                  </a:lnTo>
                  <a:lnTo>
                    <a:pt x="1550" y="3784"/>
                  </a:lnTo>
                  <a:lnTo>
                    <a:pt x="1502" y="3801"/>
                  </a:lnTo>
                  <a:lnTo>
                    <a:pt x="1454" y="3820"/>
                  </a:lnTo>
                  <a:lnTo>
                    <a:pt x="1408" y="3841"/>
                  </a:lnTo>
                  <a:lnTo>
                    <a:pt x="1362" y="3862"/>
                  </a:lnTo>
                  <a:lnTo>
                    <a:pt x="1318" y="3885"/>
                  </a:lnTo>
                  <a:lnTo>
                    <a:pt x="1275" y="3909"/>
                  </a:lnTo>
                  <a:lnTo>
                    <a:pt x="1234" y="3934"/>
                  </a:lnTo>
                  <a:lnTo>
                    <a:pt x="1153" y="3983"/>
                  </a:lnTo>
                  <a:lnTo>
                    <a:pt x="1074" y="4032"/>
                  </a:lnTo>
                  <a:lnTo>
                    <a:pt x="1037" y="4056"/>
                  </a:lnTo>
                  <a:lnTo>
                    <a:pt x="1000" y="4080"/>
                  </a:lnTo>
                  <a:lnTo>
                    <a:pt x="964" y="4105"/>
                  </a:lnTo>
                  <a:lnTo>
                    <a:pt x="931" y="4129"/>
                  </a:lnTo>
                  <a:lnTo>
                    <a:pt x="899" y="4153"/>
                  </a:lnTo>
                  <a:lnTo>
                    <a:pt x="869" y="4176"/>
                  </a:lnTo>
                  <a:lnTo>
                    <a:pt x="839" y="4200"/>
                  </a:lnTo>
                  <a:lnTo>
                    <a:pt x="812" y="4225"/>
                  </a:lnTo>
                  <a:lnTo>
                    <a:pt x="788" y="4248"/>
                  </a:lnTo>
                  <a:lnTo>
                    <a:pt x="765" y="4272"/>
                  </a:lnTo>
                  <a:lnTo>
                    <a:pt x="745" y="4296"/>
                  </a:lnTo>
                  <a:lnTo>
                    <a:pt x="727" y="4320"/>
                  </a:lnTo>
                  <a:lnTo>
                    <a:pt x="712" y="4345"/>
                  </a:lnTo>
                  <a:lnTo>
                    <a:pt x="699" y="4369"/>
                  </a:lnTo>
                  <a:lnTo>
                    <a:pt x="690" y="4393"/>
                  </a:lnTo>
                  <a:lnTo>
                    <a:pt x="683" y="4417"/>
                  </a:lnTo>
                  <a:lnTo>
                    <a:pt x="679" y="4442"/>
                  </a:lnTo>
                  <a:lnTo>
                    <a:pt x="679" y="4467"/>
                  </a:lnTo>
                  <a:lnTo>
                    <a:pt x="682" y="4492"/>
                  </a:lnTo>
                  <a:lnTo>
                    <a:pt x="688" y="4517"/>
                  </a:lnTo>
                  <a:lnTo>
                    <a:pt x="698" y="4542"/>
                  </a:lnTo>
                  <a:lnTo>
                    <a:pt x="712" y="4568"/>
                  </a:lnTo>
                  <a:lnTo>
                    <a:pt x="730" y="4595"/>
                  </a:lnTo>
                  <a:lnTo>
                    <a:pt x="752" y="4621"/>
                  </a:lnTo>
                  <a:lnTo>
                    <a:pt x="778" y="4647"/>
                  </a:lnTo>
                  <a:lnTo>
                    <a:pt x="808" y="4673"/>
                  </a:lnTo>
                  <a:lnTo>
                    <a:pt x="842" y="4700"/>
                  </a:lnTo>
                  <a:lnTo>
                    <a:pt x="882" y="4728"/>
                  </a:lnTo>
                  <a:lnTo>
                    <a:pt x="922" y="4755"/>
                  </a:lnTo>
                  <a:lnTo>
                    <a:pt x="964" y="4782"/>
                  </a:lnTo>
                  <a:lnTo>
                    <a:pt x="1007" y="4809"/>
                  </a:lnTo>
                  <a:lnTo>
                    <a:pt x="1049" y="4836"/>
                  </a:lnTo>
                  <a:lnTo>
                    <a:pt x="1093" y="4862"/>
                  </a:lnTo>
                  <a:lnTo>
                    <a:pt x="1138" y="4887"/>
                  </a:lnTo>
                  <a:lnTo>
                    <a:pt x="1184" y="4912"/>
                  </a:lnTo>
                  <a:lnTo>
                    <a:pt x="1230" y="4935"/>
                  </a:lnTo>
                  <a:lnTo>
                    <a:pt x="1277" y="4960"/>
                  </a:lnTo>
                  <a:lnTo>
                    <a:pt x="1325" y="4982"/>
                  </a:lnTo>
                  <a:lnTo>
                    <a:pt x="1374" y="5004"/>
                  </a:lnTo>
                  <a:lnTo>
                    <a:pt x="1423" y="5024"/>
                  </a:lnTo>
                  <a:lnTo>
                    <a:pt x="1472" y="5044"/>
                  </a:lnTo>
                  <a:lnTo>
                    <a:pt x="1524" y="5064"/>
                  </a:lnTo>
                  <a:lnTo>
                    <a:pt x="1575" y="5082"/>
                  </a:lnTo>
                  <a:lnTo>
                    <a:pt x="1628" y="5098"/>
                  </a:lnTo>
                  <a:lnTo>
                    <a:pt x="1680" y="5113"/>
                  </a:lnTo>
                  <a:lnTo>
                    <a:pt x="1733" y="5128"/>
                  </a:lnTo>
                  <a:lnTo>
                    <a:pt x="1788" y="5140"/>
                  </a:lnTo>
                  <a:lnTo>
                    <a:pt x="1843" y="5152"/>
                  </a:lnTo>
                  <a:lnTo>
                    <a:pt x="1899" y="5162"/>
                  </a:lnTo>
                  <a:lnTo>
                    <a:pt x="1955" y="5170"/>
                  </a:lnTo>
                  <a:lnTo>
                    <a:pt x="2013" y="5177"/>
                  </a:lnTo>
                  <a:lnTo>
                    <a:pt x="2070" y="5183"/>
                  </a:lnTo>
                  <a:lnTo>
                    <a:pt x="2129" y="5187"/>
                  </a:lnTo>
                  <a:lnTo>
                    <a:pt x="2188" y="5189"/>
                  </a:lnTo>
                  <a:lnTo>
                    <a:pt x="2247" y="5189"/>
                  </a:lnTo>
                  <a:lnTo>
                    <a:pt x="2308" y="5187"/>
                  </a:lnTo>
                  <a:lnTo>
                    <a:pt x="2369" y="5183"/>
                  </a:lnTo>
                  <a:lnTo>
                    <a:pt x="2431" y="5176"/>
                  </a:lnTo>
                  <a:lnTo>
                    <a:pt x="2493" y="5169"/>
                  </a:lnTo>
                  <a:lnTo>
                    <a:pt x="2557" y="5159"/>
                  </a:lnTo>
                  <a:lnTo>
                    <a:pt x="2567" y="5156"/>
                  </a:lnTo>
                  <a:lnTo>
                    <a:pt x="2596" y="5147"/>
                  </a:lnTo>
                  <a:lnTo>
                    <a:pt x="2643" y="5135"/>
                  </a:lnTo>
                  <a:lnTo>
                    <a:pt x="2703" y="5119"/>
                  </a:lnTo>
                  <a:lnTo>
                    <a:pt x="2774" y="5101"/>
                  </a:lnTo>
                  <a:lnTo>
                    <a:pt x="2853" y="5082"/>
                  </a:lnTo>
                  <a:lnTo>
                    <a:pt x="2939" y="5063"/>
                  </a:lnTo>
                  <a:lnTo>
                    <a:pt x="3028" y="5044"/>
                  </a:lnTo>
                  <a:lnTo>
                    <a:pt x="3073" y="5035"/>
                  </a:lnTo>
                  <a:lnTo>
                    <a:pt x="3117" y="5028"/>
                  </a:lnTo>
                  <a:lnTo>
                    <a:pt x="3162" y="5021"/>
                  </a:lnTo>
                  <a:lnTo>
                    <a:pt x="3205" y="5015"/>
                  </a:lnTo>
                  <a:lnTo>
                    <a:pt x="3246" y="5010"/>
                  </a:lnTo>
                  <a:lnTo>
                    <a:pt x="3287" y="5006"/>
                  </a:lnTo>
                  <a:lnTo>
                    <a:pt x="3326" y="5003"/>
                  </a:lnTo>
                  <a:lnTo>
                    <a:pt x="3362" y="5002"/>
                  </a:lnTo>
                  <a:lnTo>
                    <a:pt x="3397" y="5003"/>
                  </a:lnTo>
                  <a:lnTo>
                    <a:pt x="3428" y="5005"/>
                  </a:lnTo>
                  <a:lnTo>
                    <a:pt x="3455" y="5009"/>
                  </a:lnTo>
                  <a:lnTo>
                    <a:pt x="3480" y="5015"/>
                  </a:lnTo>
                  <a:lnTo>
                    <a:pt x="3500" y="5023"/>
                  </a:lnTo>
                  <a:lnTo>
                    <a:pt x="3517" y="5033"/>
                  </a:lnTo>
                  <a:lnTo>
                    <a:pt x="3529" y="5046"/>
                  </a:lnTo>
                  <a:lnTo>
                    <a:pt x="3536" y="5062"/>
                  </a:lnTo>
                  <a:lnTo>
                    <a:pt x="3540" y="5077"/>
                  </a:lnTo>
                  <a:lnTo>
                    <a:pt x="3541" y="5092"/>
                  </a:lnTo>
                  <a:lnTo>
                    <a:pt x="3540" y="5106"/>
                  </a:lnTo>
                  <a:lnTo>
                    <a:pt x="3537" y="5118"/>
                  </a:lnTo>
                  <a:lnTo>
                    <a:pt x="3532" y="5130"/>
                  </a:lnTo>
                  <a:lnTo>
                    <a:pt x="3526" y="5141"/>
                  </a:lnTo>
                  <a:lnTo>
                    <a:pt x="3518" y="5151"/>
                  </a:lnTo>
                  <a:lnTo>
                    <a:pt x="3508" y="5161"/>
                  </a:lnTo>
                  <a:lnTo>
                    <a:pt x="3498" y="5170"/>
                  </a:lnTo>
                  <a:lnTo>
                    <a:pt x="3486" y="5178"/>
                  </a:lnTo>
                  <a:lnTo>
                    <a:pt x="3474" y="5187"/>
                  </a:lnTo>
                  <a:lnTo>
                    <a:pt x="3461" y="5195"/>
                  </a:lnTo>
                  <a:lnTo>
                    <a:pt x="3433" y="5209"/>
                  </a:lnTo>
                  <a:lnTo>
                    <a:pt x="3404" y="5223"/>
                  </a:lnTo>
                  <a:lnTo>
                    <a:pt x="3374" y="5237"/>
                  </a:lnTo>
                  <a:lnTo>
                    <a:pt x="3346" y="5251"/>
                  </a:lnTo>
                  <a:lnTo>
                    <a:pt x="3333" y="5259"/>
                  </a:lnTo>
                  <a:lnTo>
                    <a:pt x="3321" y="5267"/>
                  </a:lnTo>
                  <a:lnTo>
                    <a:pt x="3310" y="5275"/>
                  </a:lnTo>
                  <a:lnTo>
                    <a:pt x="3299" y="5284"/>
                  </a:lnTo>
                  <a:lnTo>
                    <a:pt x="3290" y="5294"/>
                  </a:lnTo>
                  <a:lnTo>
                    <a:pt x="3282" y="5305"/>
                  </a:lnTo>
                  <a:lnTo>
                    <a:pt x="3276" y="5316"/>
                  </a:lnTo>
                  <a:lnTo>
                    <a:pt x="3271" y="5328"/>
                  </a:lnTo>
                  <a:lnTo>
                    <a:pt x="3268" y="5340"/>
                  </a:lnTo>
                  <a:lnTo>
                    <a:pt x="3267" y="5354"/>
                  </a:lnTo>
                  <a:lnTo>
                    <a:pt x="3269" y="5369"/>
                  </a:lnTo>
                  <a:lnTo>
                    <a:pt x="3272" y="5384"/>
                  </a:lnTo>
                  <a:lnTo>
                    <a:pt x="3276" y="5401"/>
                  </a:lnTo>
                  <a:lnTo>
                    <a:pt x="3281" y="5417"/>
                  </a:lnTo>
                  <a:lnTo>
                    <a:pt x="3288" y="5434"/>
                  </a:lnTo>
                  <a:lnTo>
                    <a:pt x="3294" y="5450"/>
                  </a:lnTo>
                  <a:lnTo>
                    <a:pt x="3310" y="5481"/>
                  </a:lnTo>
                  <a:lnTo>
                    <a:pt x="3326" y="5511"/>
                  </a:lnTo>
                  <a:lnTo>
                    <a:pt x="3341" y="5542"/>
                  </a:lnTo>
                  <a:lnTo>
                    <a:pt x="3356" y="5572"/>
                  </a:lnTo>
                  <a:lnTo>
                    <a:pt x="3362" y="5586"/>
                  </a:lnTo>
                  <a:lnTo>
                    <a:pt x="3367" y="5601"/>
                  </a:lnTo>
                  <a:lnTo>
                    <a:pt x="3371" y="5615"/>
                  </a:lnTo>
                  <a:lnTo>
                    <a:pt x="3374" y="5629"/>
                  </a:lnTo>
                  <a:lnTo>
                    <a:pt x="3376" y="5643"/>
                  </a:lnTo>
                  <a:lnTo>
                    <a:pt x="3376" y="5657"/>
                  </a:lnTo>
                  <a:lnTo>
                    <a:pt x="3374" y="5672"/>
                  </a:lnTo>
                  <a:lnTo>
                    <a:pt x="3370" y="5686"/>
                  </a:lnTo>
                  <a:lnTo>
                    <a:pt x="3365" y="5700"/>
                  </a:lnTo>
                  <a:lnTo>
                    <a:pt x="3357" y="5713"/>
                  </a:lnTo>
                  <a:lnTo>
                    <a:pt x="3347" y="5727"/>
                  </a:lnTo>
                  <a:lnTo>
                    <a:pt x="3335" y="5740"/>
                  </a:lnTo>
                  <a:lnTo>
                    <a:pt x="3320" y="5753"/>
                  </a:lnTo>
                  <a:lnTo>
                    <a:pt x="3302" y="5766"/>
                  </a:lnTo>
                  <a:lnTo>
                    <a:pt x="3281" y="5781"/>
                  </a:lnTo>
                  <a:lnTo>
                    <a:pt x="3256" y="5794"/>
                  </a:lnTo>
                  <a:lnTo>
                    <a:pt x="3228" y="5807"/>
                  </a:lnTo>
                  <a:lnTo>
                    <a:pt x="3198" y="5819"/>
                  </a:lnTo>
                  <a:lnTo>
                    <a:pt x="3163" y="5832"/>
                  </a:lnTo>
                  <a:lnTo>
                    <a:pt x="3124" y="5845"/>
                  </a:lnTo>
                  <a:lnTo>
                    <a:pt x="3082" y="5859"/>
                  </a:lnTo>
                  <a:lnTo>
                    <a:pt x="3037" y="5871"/>
                  </a:lnTo>
                  <a:lnTo>
                    <a:pt x="2988" y="5884"/>
                  </a:lnTo>
                  <a:lnTo>
                    <a:pt x="2938" y="5896"/>
                  </a:lnTo>
                  <a:lnTo>
                    <a:pt x="2831" y="5921"/>
                  </a:lnTo>
                  <a:lnTo>
                    <a:pt x="2719" y="5944"/>
                  </a:lnTo>
                  <a:lnTo>
                    <a:pt x="2603" y="5968"/>
                  </a:lnTo>
                  <a:lnTo>
                    <a:pt x="2485" y="5992"/>
                  </a:lnTo>
                  <a:lnTo>
                    <a:pt x="2426" y="6005"/>
                  </a:lnTo>
                  <a:lnTo>
                    <a:pt x="2367" y="6018"/>
                  </a:lnTo>
                  <a:lnTo>
                    <a:pt x="2310" y="6033"/>
                  </a:lnTo>
                  <a:lnTo>
                    <a:pt x="2253" y="6047"/>
                  </a:lnTo>
                  <a:lnTo>
                    <a:pt x="2197" y="6063"/>
                  </a:lnTo>
                  <a:lnTo>
                    <a:pt x="2143" y="6079"/>
                  </a:lnTo>
                  <a:lnTo>
                    <a:pt x="2089" y="6096"/>
                  </a:lnTo>
                  <a:lnTo>
                    <a:pt x="2039" y="6113"/>
                  </a:lnTo>
                  <a:lnTo>
                    <a:pt x="1990" y="6132"/>
                  </a:lnTo>
                  <a:lnTo>
                    <a:pt x="1944" y="6153"/>
                  </a:lnTo>
                  <a:lnTo>
                    <a:pt x="1901" y="6174"/>
                  </a:lnTo>
                  <a:lnTo>
                    <a:pt x="1860" y="6197"/>
                  </a:lnTo>
                  <a:lnTo>
                    <a:pt x="1823" y="6220"/>
                  </a:lnTo>
                  <a:lnTo>
                    <a:pt x="1789" y="6246"/>
                  </a:lnTo>
                  <a:lnTo>
                    <a:pt x="1759" y="6273"/>
                  </a:lnTo>
                  <a:lnTo>
                    <a:pt x="1733" y="6301"/>
                  </a:lnTo>
                  <a:lnTo>
                    <a:pt x="1711" y="6331"/>
                  </a:lnTo>
                  <a:lnTo>
                    <a:pt x="1694" y="6363"/>
                  </a:lnTo>
                  <a:lnTo>
                    <a:pt x="1682" y="6398"/>
                  </a:lnTo>
                  <a:lnTo>
                    <a:pt x="1675" y="6433"/>
                  </a:lnTo>
                  <a:lnTo>
                    <a:pt x="1677" y="6433"/>
                  </a:lnTo>
                  <a:lnTo>
                    <a:pt x="1682" y="6432"/>
                  </a:lnTo>
                  <a:lnTo>
                    <a:pt x="1688" y="6432"/>
                  </a:lnTo>
                  <a:lnTo>
                    <a:pt x="1694" y="6432"/>
                  </a:lnTo>
                  <a:lnTo>
                    <a:pt x="1695" y="6433"/>
                  </a:lnTo>
                  <a:lnTo>
                    <a:pt x="1696" y="6434"/>
                  </a:lnTo>
                  <a:lnTo>
                    <a:pt x="1696" y="6435"/>
                  </a:lnTo>
                  <a:lnTo>
                    <a:pt x="1695" y="6436"/>
                  </a:lnTo>
                  <a:lnTo>
                    <a:pt x="1687" y="6441"/>
                  </a:lnTo>
                  <a:lnTo>
                    <a:pt x="1671" y="6448"/>
                  </a:lnTo>
                  <a:lnTo>
                    <a:pt x="1646" y="6457"/>
                  </a:lnTo>
                  <a:lnTo>
                    <a:pt x="1607" y="6470"/>
                  </a:lnTo>
                  <a:lnTo>
                    <a:pt x="1556" y="6487"/>
                  </a:lnTo>
                  <a:lnTo>
                    <a:pt x="1488" y="6508"/>
                  </a:lnTo>
                  <a:lnTo>
                    <a:pt x="1405" y="6533"/>
                  </a:lnTo>
                  <a:lnTo>
                    <a:pt x="1301" y="6563"/>
                  </a:lnTo>
                  <a:lnTo>
                    <a:pt x="1176" y="6597"/>
                  </a:lnTo>
                  <a:lnTo>
                    <a:pt x="1029" y="6639"/>
                  </a:lnTo>
                  <a:lnTo>
                    <a:pt x="875" y="6682"/>
                  </a:lnTo>
                  <a:lnTo>
                    <a:pt x="734" y="6721"/>
                  </a:lnTo>
                  <a:lnTo>
                    <a:pt x="669" y="6742"/>
                  </a:lnTo>
                  <a:lnTo>
                    <a:pt x="607" y="6760"/>
                  </a:lnTo>
                  <a:lnTo>
                    <a:pt x="548" y="6779"/>
                  </a:lnTo>
                  <a:lnTo>
                    <a:pt x="493" y="6797"/>
                  </a:lnTo>
                  <a:lnTo>
                    <a:pt x="440" y="6815"/>
                  </a:lnTo>
                  <a:lnTo>
                    <a:pt x="392" y="6832"/>
                  </a:lnTo>
                  <a:lnTo>
                    <a:pt x="345" y="6850"/>
                  </a:lnTo>
                  <a:lnTo>
                    <a:pt x="304" y="6868"/>
                  </a:lnTo>
                  <a:lnTo>
                    <a:pt x="265" y="6886"/>
                  </a:lnTo>
                  <a:lnTo>
                    <a:pt x="228" y="6903"/>
                  </a:lnTo>
                  <a:lnTo>
                    <a:pt x="196" y="6921"/>
                  </a:lnTo>
                  <a:lnTo>
                    <a:pt x="168" y="6939"/>
                  </a:lnTo>
                  <a:lnTo>
                    <a:pt x="142" y="6957"/>
                  </a:lnTo>
                  <a:lnTo>
                    <a:pt x="120" y="6975"/>
                  </a:lnTo>
                  <a:lnTo>
                    <a:pt x="100" y="6995"/>
                  </a:lnTo>
                  <a:lnTo>
                    <a:pt x="85" y="7015"/>
                  </a:lnTo>
                  <a:lnTo>
                    <a:pt x="73" y="7034"/>
                  </a:lnTo>
                  <a:lnTo>
                    <a:pt x="64" y="7055"/>
                  </a:lnTo>
                  <a:lnTo>
                    <a:pt x="59" y="7076"/>
                  </a:lnTo>
                  <a:lnTo>
                    <a:pt x="57" y="7098"/>
                  </a:lnTo>
                  <a:lnTo>
                    <a:pt x="59" y="7121"/>
                  </a:lnTo>
                  <a:lnTo>
                    <a:pt x="63" y="7144"/>
                  </a:lnTo>
                  <a:lnTo>
                    <a:pt x="72" y="7168"/>
                  </a:lnTo>
                  <a:lnTo>
                    <a:pt x="84" y="7193"/>
                  </a:lnTo>
                  <a:lnTo>
                    <a:pt x="99" y="7220"/>
                  </a:lnTo>
                  <a:lnTo>
                    <a:pt x="119" y="7247"/>
                  </a:lnTo>
                  <a:lnTo>
                    <a:pt x="141" y="7276"/>
                  </a:lnTo>
                  <a:lnTo>
                    <a:pt x="166" y="7305"/>
                  </a:lnTo>
                  <a:lnTo>
                    <a:pt x="177" y="7311"/>
                  </a:lnTo>
                  <a:lnTo>
                    <a:pt x="209" y="7329"/>
                  </a:lnTo>
                  <a:lnTo>
                    <a:pt x="259" y="7356"/>
                  </a:lnTo>
                  <a:lnTo>
                    <a:pt x="324" y="7387"/>
                  </a:lnTo>
                  <a:lnTo>
                    <a:pt x="363" y="7405"/>
                  </a:lnTo>
                  <a:lnTo>
                    <a:pt x="403" y="7422"/>
                  </a:lnTo>
                  <a:lnTo>
                    <a:pt x="446" y="7440"/>
                  </a:lnTo>
                  <a:lnTo>
                    <a:pt x="493" y="7459"/>
                  </a:lnTo>
                  <a:lnTo>
                    <a:pt x="541" y="7476"/>
                  </a:lnTo>
                  <a:lnTo>
                    <a:pt x="591" y="7492"/>
                  </a:lnTo>
                  <a:lnTo>
                    <a:pt x="643" y="7507"/>
                  </a:lnTo>
                  <a:lnTo>
                    <a:pt x="695" y="7521"/>
                  </a:lnTo>
                  <a:lnTo>
                    <a:pt x="690" y="7526"/>
                  </a:lnTo>
                  <a:lnTo>
                    <a:pt x="677" y="7540"/>
                  </a:lnTo>
                  <a:lnTo>
                    <a:pt x="658" y="7563"/>
                  </a:lnTo>
                  <a:lnTo>
                    <a:pt x="633" y="7595"/>
                  </a:lnTo>
                  <a:lnTo>
                    <a:pt x="620" y="7613"/>
                  </a:lnTo>
                  <a:lnTo>
                    <a:pt x="606" y="7632"/>
                  </a:lnTo>
                  <a:lnTo>
                    <a:pt x="592" y="7653"/>
                  </a:lnTo>
                  <a:lnTo>
                    <a:pt x="578" y="7676"/>
                  </a:lnTo>
                  <a:lnTo>
                    <a:pt x="565" y="7700"/>
                  </a:lnTo>
                  <a:lnTo>
                    <a:pt x="552" y="7725"/>
                  </a:lnTo>
                  <a:lnTo>
                    <a:pt x="540" y="7751"/>
                  </a:lnTo>
                  <a:lnTo>
                    <a:pt x="529" y="7778"/>
                  </a:lnTo>
                  <a:lnTo>
                    <a:pt x="519" y="7806"/>
                  </a:lnTo>
                  <a:lnTo>
                    <a:pt x="511" y="7835"/>
                  </a:lnTo>
                  <a:lnTo>
                    <a:pt x="504" y="7864"/>
                  </a:lnTo>
                  <a:lnTo>
                    <a:pt x="500" y="7894"/>
                  </a:lnTo>
                  <a:lnTo>
                    <a:pt x="497" y="7924"/>
                  </a:lnTo>
                  <a:lnTo>
                    <a:pt x="497" y="7955"/>
                  </a:lnTo>
                  <a:lnTo>
                    <a:pt x="500" y="7986"/>
                  </a:lnTo>
                  <a:lnTo>
                    <a:pt x="506" y="8017"/>
                  </a:lnTo>
                  <a:lnTo>
                    <a:pt x="514" y="8048"/>
                  </a:lnTo>
                  <a:lnTo>
                    <a:pt x="526" y="8079"/>
                  </a:lnTo>
                  <a:lnTo>
                    <a:pt x="542" y="8110"/>
                  </a:lnTo>
                  <a:lnTo>
                    <a:pt x="562" y="8140"/>
                  </a:lnTo>
                  <a:lnTo>
                    <a:pt x="586" y="8169"/>
                  </a:lnTo>
                  <a:lnTo>
                    <a:pt x="615" y="8199"/>
                  </a:lnTo>
                  <a:lnTo>
                    <a:pt x="648" y="8228"/>
                  </a:lnTo>
                  <a:lnTo>
                    <a:pt x="685" y="8256"/>
                  </a:lnTo>
                  <a:lnTo>
                    <a:pt x="706" y="8257"/>
                  </a:lnTo>
                  <a:lnTo>
                    <a:pt x="764" y="8262"/>
                  </a:lnTo>
                  <a:lnTo>
                    <a:pt x="846" y="8268"/>
                  </a:lnTo>
                  <a:lnTo>
                    <a:pt x="947" y="8276"/>
                  </a:lnTo>
                  <a:lnTo>
                    <a:pt x="1057" y="8285"/>
                  </a:lnTo>
                  <a:lnTo>
                    <a:pt x="1165" y="8294"/>
                  </a:lnTo>
                  <a:lnTo>
                    <a:pt x="1263" y="8300"/>
                  </a:lnTo>
                  <a:lnTo>
                    <a:pt x="1342" y="8305"/>
                  </a:lnTo>
                  <a:lnTo>
                    <a:pt x="1347" y="8317"/>
                  </a:lnTo>
                  <a:lnTo>
                    <a:pt x="1361" y="8351"/>
                  </a:lnTo>
                  <a:lnTo>
                    <a:pt x="1369" y="8375"/>
                  </a:lnTo>
                  <a:lnTo>
                    <a:pt x="1378" y="8404"/>
                  </a:lnTo>
                  <a:lnTo>
                    <a:pt x="1386" y="8437"/>
                  </a:lnTo>
                  <a:lnTo>
                    <a:pt x="1394" y="8474"/>
                  </a:lnTo>
                  <a:lnTo>
                    <a:pt x="1396" y="8493"/>
                  </a:lnTo>
                  <a:lnTo>
                    <a:pt x="1399" y="8514"/>
                  </a:lnTo>
                  <a:lnTo>
                    <a:pt x="1401" y="8536"/>
                  </a:lnTo>
                  <a:lnTo>
                    <a:pt x="1402" y="8558"/>
                  </a:lnTo>
                  <a:lnTo>
                    <a:pt x="1403" y="8580"/>
                  </a:lnTo>
                  <a:lnTo>
                    <a:pt x="1403" y="8604"/>
                  </a:lnTo>
                  <a:lnTo>
                    <a:pt x="1402" y="8627"/>
                  </a:lnTo>
                  <a:lnTo>
                    <a:pt x="1400" y="8653"/>
                  </a:lnTo>
                  <a:lnTo>
                    <a:pt x="1397" y="8678"/>
                  </a:lnTo>
                  <a:lnTo>
                    <a:pt x="1393" y="8703"/>
                  </a:lnTo>
                  <a:lnTo>
                    <a:pt x="1388" y="8729"/>
                  </a:lnTo>
                  <a:lnTo>
                    <a:pt x="1382" y="8755"/>
                  </a:lnTo>
                  <a:lnTo>
                    <a:pt x="1374" y="8782"/>
                  </a:lnTo>
                  <a:lnTo>
                    <a:pt x="1364" y="8809"/>
                  </a:lnTo>
                  <a:lnTo>
                    <a:pt x="1353" y="8836"/>
                  </a:lnTo>
                  <a:lnTo>
                    <a:pt x="1342" y="8863"/>
                  </a:lnTo>
                  <a:lnTo>
                    <a:pt x="1343" y="8866"/>
                  </a:lnTo>
                  <a:lnTo>
                    <a:pt x="1349" y="8873"/>
                  </a:lnTo>
                  <a:lnTo>
                    <a:pt x="1359" y="8883"/>
                  </a:lnTo>
                  <a:lnTo>
                    <a:pt x="1374" y="8896"/>
                  </a:lnTo>
                  <a:lnTo>
                    <a:pt x="1382" y="8903"/>
                  </a:lnTo>
                  <a:lnTo>
                    <a:pt x="1392" y="8910"/>
                  </a:lnTo>
                  <a:lnTo>
                    <a:pt x="1402" y="8917"/>
                  </a:lnTo>
                  <a:lnTo>
                    <a:pt x="1414" y="8924"/>
                  </a:lnTo>
                  <a:lnTo>
                    <a:pt x="1427" y="8930"/>
                  </a:lnTo>
                  <a:lnTo>
                    <a:pt x="1442" y="8936"/>
                  </a:lnTo>
                  <a:lnTo>
                    <a:pt x="1457" y="8942"/>
                  </a:lnTo>
                  <a:lnTo>
                    <a:pt x="1474" y="8947"/>
                  </a:lnTo>
                  <a:lnTo>
                    <a:pt x="1492" y="8951"/>
                  </a:lnTo>
                  <a:lnTo>
                    <a:pt x="1512" y="8954"/>
                  </a:lnTo>
                  <a:lnTo>
                    <a:pt x="1532" y="8956"/>
                  </a:lnTo>
                  <a:lnTo>
                    <a:pt x="1554" y="8957"/>
                  </a:lnTo>
                  <a:lnTo>
                    <a:pt x="1577" y="8957"/>
                  </a:lnTo>
                  <a:lnTo>
                    <a:pt x="1602" y="8955"/>
                  </a:lnTo>
                  <a:lnTo>
                    <a:pt x="1629" y="8951"/>
                  </a:lnTo>
                  <a:lnTo>
                    <a:pt x="1656" y="8946"/>
                  </a:lnTo>
                  <a:lnTo>
                    <a:pt x="1685" y="8939"/>
                  </a:lnTo>
                  <a:lnTo>
                    <a:pt x="1715" y="8930"/>
                  </a:lnTo>
                  <a:lnTo>
                    <a:pt x="1747" y="8919"/>
                  </a:lnTo>
                  <a:lnTo>
                    <a:pt x="1781" y="8905"/>
                  </a:lnTo>
                  <a:lnTo>
                    <a:pt x="1815" y="8888"/>
                  </a:lnTo>
                  <a:lnTo>
                    <a:pt x="1852" y="8870"/>
                  </a:lnTo>
                  <a:lnTo>
                    <a:pt x="1890" y="8848"/>
                  </a:lnTo>
                  <a:lnTo>
                    <a:pt x="1930" y="8824"/>
                  </a:lnTo>
                  <a:lnTo>
                    <a:pt x="1944" y="8822"/>
                  </a:lnTo>
                  <a:lnTo>
                    <a:pt x="1980" y="8819"/>
                  </a:lnTo>
                  <a:lnTo>
                    <a:pt x="2004" y="8818"/>
                  </a:lnTo>
                  <a:lnTo>
                    <a:pt x="2030" y="8819"/>
                  </a:lnTo>
                  <a:lnTo>
                    <a:pt x="2043" y="8820"/>
                  </a:lnTo>
                  <a:lnTo>
                    <a:pt x="2056" y="8821"/>
                  </a:lnTo>
                  <a:lnTo>
                    <a:pt x="2069" y="8823"/>
                  </a:lnTo>
                  <a:lnTo>
                    <a:pt x="2082" y="8825"/>
                  </a:lnTo>
                  <a:lnTo>
                    <a:pt x="2095" y="8829"/>
                  </a:lnTo>
                  <a:lnTo>
                    <a:pt x="2108" y="8833"/>
                  </a:lnTo>
                  <a:lnTo>
                    <a:pt x="2119" y="8838"/>
                  </a:lnTo>
                  <a:lnTo>
                    <a:pt x="2131" y="8844"/>
                  </a:lnTo>
                  <a:lnTo>
                    <a:pt x="2141" y="8851"/>
                  </a:lnTo>
                  <a:lnTo>
                    <a:pt x="2151" y="8858"/>
                  </a:lnTo>
                  <a:lnTo>
                    <a:pt x="2159" y="8867"/>
                  </a:lnTo>
                  <a:lnTo>
                    <a:pt x="2165" y="8878"/>
                  </a:lnTo>
                  <a:lnTo>
                    <a:pt x="2170" y="8889"/>
                  </a:lnTo>
                  <a:lnTo>
                    <a:pt x="2174" y="8903"/>
                  </a:lnTo>
                  <a:lnTo>
                    <a:pt x="2176" y="8917"/>
                  </a:lnTo>
                  <a:lnTo>
                    <a:pt x="2176" y="8932"/>
                  </a:lnTo>
                  <a:lnTo>
                    <a:pt x="2174" y="8949"/>
                  </a:lnTo>
                  <a:lnTo>
                    <a:pt x="2170" y="8968"/>
                  </a:lnTo>
                  <a:lnTo>
                    <a:pt x="2164" y="8988"/>
                  </a:lnTo>
                  <a:lnTo>
                    <a:pt x="2155" y="9011"/>
                  </a:lnTo>
                  <a:lnTo>
                    <a:pt x="2155" y="9016"/>
                  </a:lnTo>
                  <a:lnTo>
                    <a:pt x="2156" y="9029"/>
                  </a:lnTo>
                  <a:lnTo>
                    <a:pt x="2159" y="9049"/>
                  </a:lnTo>
                  <a:lnTo>
                    <a:pt x="2164" y="9075"/>
                  </a:lnTo>
                  <a:lnTo>
                    <a:pt x="2169" y="9089"/>
                  </a:lnTo>
                  <a:lnTo>
                    <a:pt x="2174" y="9103"/>
                  </a:lnTo>
                  <a:lnTo>
                    <a:pt x="2180" y="9119"/>
                  </a:lnTo>
                  <a:lnTo>
                    <a:pt x="2188" y="9135"/>
                  </a:lnTo>
                  <a:lnTo>
                    <a:pt x="2198" y="9150"/>
                  </a:lnTo>
                  <a:lnTo>
                    <a:pt x="2209" y="9165"/>
                  </a:lnTo>
                  <a:lnTo>
                    <a:pt x="2222" y="9180"/>
                  </a:lnTo>
                  <a:lnTo>
                    <a:pt x="2237" y="9194"/>
                  </a:lnTo>
                  <a:lnTo>
                    <a:pt x="2254" y="9207"/>
                  </a:lnTo>
                  <a:lnTo>
                    <a:pt x="2273" y="9220"/>
                  </a:lnTo>
                  <a:lnTo>
                    <a:pt x="2294" y="9230"/>
                  </a:lnTo>
                  <a:lnTo>
                    <a:pt x="2318" y="9240"/>
                  </a:lnTo>
                  <a:lnTo>
                    <a:pt x="2344" y="9247"/>
                  </a:lnTo>
                  <a:lnTo>
                    <a:pt x="2373" y="9254"/>
                  </a:lnTo>
                  <a:lnTo>
                    <a:pt x="2405" y="9258"/>
                  </a:lnTo>
                  <a:lnTo>
                    <a:pt x="2440" y="9259"/>
                  </a:lnTo>
                  <a:lnTo>
                    <a:pt x="2478" y="9258"/>
                  </a:lnTo>
                  <a:lnTo>
                    <a:pt x="2519" y="9254"/>
                  </a:lnTo>
                  <a:lnTo>
                    <a:pt x="2563" y="9246"/>
                  </a:lnTo>
                  <a:lnTo>
                    <a:pt x="2611" y="9235"/>
                  </a:lnTo>
                  <a:lnTo>
                    <a:pt x="2663" y="9221"/>
                  </a:lnTo>
                  <a:lnTo>
                    <a:pt x="2718" y="9204"/>
                  </a:lnTo>
                  <a:lnTo>
                    <a:pt x="2778" y="9183"/>
                  </a:lnTo>
                  <a:lnTo>
                    <a:pt x="2840" y="9158"/>
                  </a:lnTo>
                  <a:lnTo>
                    <a:pt x="2850" y="9153"/>
                  </a:lnTo>
                  <a:lnTo>
                    <a:pt x="2875" y="9139"/>
                  </a:lnTo>
                  <a:lnTo>
                    <a:pt x="2916" y="9116"/>
                  </a:lnTo>
                  <a:lnTo>
                    <a:pt x="2967" y="9090"/>
                  </a:lnTo>
                  <a:lnTo>
                    <a:pt x="3028" y="9060"/>
                  </a:lnTo>
                  <a:lnTo>
                    <a:pt x="3094" y="9028"/>
                  </a:lnTo>
                  <a:lnTo>
                    <a:pt x="3165" y="8994"/>
                  </a:lnTo>
                  <a:lnTo>
                    <a:pt x="3236" y="8964"/>
                  </a:lnTo>
                  <a:lnTo>
                    <a:pt x="3272" y="8950"/>
                  </a:lnTo>
                  <a:lnTo>
                    <a:pt x="3306" y="8937"/>
                  </a:lnTo>
                  <a:lnTo>
                    <a:pt x="3340" y="8925"/>
                  </a:lnTo>
                  <a:lnTo>
                    <a:pt x="3372" y="8915"/>
                  </a:lnTo>
                  <a:lnTo>
                    <a:pt x="3403" y="8906"/>
                  </a:lnTo>
                  <a:lnTo>
                    <a:pt x="3431" y="8900"/>
                  </a:lnTo>
                  <a:lnTo>
                    <a:pt x="3457" y="8895"/>
                  </a:lnTo>
                  <a:lnTo>
                    <a:pt x="3481" y="8893"/>
                  </a:lnTo>
                  <a:lnTo>
                    <a:pt x="3501" y="8894"/>
                  </a:lnTo>
                  <a:lnTo>
                    <a:pt x="3520" y="8898"/>
                  </a:lnTo>
                  <a:lnTo>
                    <a:pt x="3533" y="8904"/>
                  </a:lnTo>
                  <a:lnTo>
                    <a:pt x="3543" y="8914"/>
                  </a:lnTo>
                  <a:lnTo>
                    <a:pt x="3548" y="8927"/>
                  </a:lnTo>
                  <a:lnTo>
                    <a:pt x="3549" y="8944"/>
                  </a:lnTo>
                  <a:lnTo>
                    <a:pt x="3545" y="8965"/>
                  </a:lnTo>
                  <a:lnTo>
                    <a:pt x="3536" y="8990"/>
                  </a:lnTo>
                  <a:lnTo>
                    <a:pt x="3532" y="8997"/>
                  </a:lnTo>
                  <a:lnTo>
                    <a:pt x="3520" y="9015"/>
                  </a:lnTo>
                  <a:lnTo>
                    <a:pt x="3499" y="9042"/>
                  </a:lnTo>
                  <a:lnTo>
                    <a:pt x="3473" y="9078"/>
                  </a:lnTo>
                  <a:lnTo>
                    <a:pt x="3439" y="9122"/>
                  </a:lnTo>
                  <a:lnTo>
                    <a:pt x="3400" y="9173"/>
                  </a:lnTo>
                  <a:lnTo>
                    <a:pt x="3354" y="9229"/>
                  </a:lnTo>
                  <a:lnTo>
                    <a:pt x="3304" y="9289"/>
                  </a:lnTo>
                  <a:lnTo>
                    <a:pt x="3276" y="9319"/>
                  </a:lnTo>
                  <a:lnTo>
                    <a:pt x="3247" y="9350"/>
                  </a:lnTo>
                  <a:lnTo>
                    <a:pt x="3218" y="9383"/>
                  </a:lnTo>
                  <a:lnTo>
                    <a:pt x="3188" y="9414"/>
                  </a:lnTo>
                  <a:lnTo>
                    <a:pt x="3157" y="9446"/>
                  </a:lnTo>
                  <a:lnTo>
                    <a:pt x="3124" y="9478"/>
                  </a:lnTo>
                  <a:lnTo>
                    <a:pt x="3091" y="9510"/>
                  </a:lnTo>
                  <a:lnTo>
                    <a:pt x="3057" y="9541"/>
                  </a:lnTo>
                  <a:lnTo>
                    <a:pt x="3022" y="9571"/>
                  </a:lnTo>
                  <a:lnTo>
                    <a:pt x="2986" y="9601"/>
                  </a:lnTo>
                  <a:lnTo>
                    <a:pt x="2950" y="9630"/>
                  </a:lnTo>
                  <a:lnTo>
                    <a:pt x="2914" y="9658"/>
                  </a:lnTo>
                  <a:lnTo>
                    <a:pt x="2876" y="9684"/>
                  </a:lnTo>
                  <a:lnTo>
                    <a:pt x="2839" y="9709"/>
                  </a:lnTo>
                  <a:lnTo>
                    <a:pt x="2801" y="9734"/>
                  </a:lnTo>
                  <a:lnTo>
                    <a:pt x="2763" y="9755"/>
                  </a:lnTo>
                  <a:lnTo>
                    <a:pt x="2748" y="9760"/>
                  </a:lnTo>
                  <a:lnTo>
                    <a:pt x="2707" y="9774"/>
                  </a:lnTo>
                  <a:lnTo>
                    <a:pt x="2643" y="9796"/>
                  </a:lnTo>
                  <a:lnTo>
                    <a:pt x="2558" y="9826"/>
                  </a:lnTo>
                  <a:lnTo>
                    <a:pt x="2455" y="9864"/>
                  </a:lnTo>
                  <a:lnTo>
                    <a:pt x="2337" y="9907"/>
                  </a:lnTo>
                  <a:lnTo>
                    <a:pt x="2208" y="9955"/>
                  </a:lnTo>
                  <a:lnTo>
                    <a:pt x="2069" y="10009"/>
                  </a:lnTo>
                  <a:lnTo>
                    <a:pt x="1924" y="10066"/>
                  </a:lnTo>
                  <a:lnTo>
                    <a:pt x="1776" y="10127"/>
                  </a:lnTo>
                  <a:lnTo>
                    <a:pt x="1701" y="10158"/>
                  </a:lnTo>
                  <a:lnTo>
                    <a:pt x="1628" y="10190"/>
                  </a:lnTo>
                  <a:lnTo>
                    <a:pt x="1554" y="10223"/>
                  </a:lnTo>
                  <a:lnTo>
                    <a:pt x="1481" y="10256"/>
                  </a:lnTo>
                  <a:lnTo>
                    <a:pt x="1410" y="10288"/>
                  </a:lnTo>
                  <a:lnTo>
                    <a:pt x="1340" y="10321"/>
                  </a:lnTo>
                  <a:lnTo>
                    <a:pt x="1273" y="10355"/>
                  </a:lnTo>
                  <a:lnTo>
                    <a:pt x="1208" y="10388"/>
                  </a:lnTo>
                  <a:lnTo>
                    <a:pt x="1146" y="10421"/>
                  </a:lnTo>
                  <a:lnTo>
                    <a:pt x="1086" y="10455"/>
                  </a:lnTo>
                  <a:lnTo>
                    <a:pt x="1031" y="10487"/>
                  </a:lnTo>
                  <a:lnTo>
                    <a:pt x="979" y="10519"/>
                  </a:lnTo>
                  <a:lnTo>
                    <a:pt x="971" y="10521"/>
                  </a:lnTo>
                  <a:lnTo>
                    <a:pt x="950" y="10525"/>
                  </a:lnTo>
                  <a:lnTo>
                    <a:pt x="915" y="10533"/>
                  </a:lnTo>
                  <a:lnTo>
                    <a:pt x="869" y="10543"/>
                  </a:lnTo>
                  <a:lnTo>
                    <a:pt x="813" y="10557"/>
                  </a:lnTo>
                  <a:lnTo>
                    <a:pt x="750" y="10575"/>
                  </a:lnTo>
                  <a:lnTo>
                    <a:pt x="679" y="10595"/>
                  </a:lnTo>
                  <a:lnTo>
                    <a:pt x="603" y="10618"/>
                  </a:lnTo>
                  <a:lnTo>
                    <a:pt x="564" y="10630"/>
                  </a:lnTo>
                  <a:lnTo>
                    <a:pt x="524" y="10644"/>
                  </a:lnTo>
                  <a:lnTo>
                    <a:pt x="483" y="10658"/>
                  </a:lnTo>
                  <a:lnTo>
                    <a:pt x="443" y="10673"/>
                  </a:lnTo>
                  <a:lnTo>
                    <a:pt x="402" y="10690"/>
                  </a:lnTo>
                  <a:lnTo>
                    <a:pt x="361" y="10707"/>
                  </a:lnTo>
                  <a:lnTo>
                    <a:pt x="321" y="10725"/>
                  </a:lnTo>
                  <a:lnTo>
                    <a:pt x="281" y="10743"/>
                  </a:lnTo>
                  <a:lnTo>
                    <a:pt x="242" y="10762"/>
                  </a:lnTo>
                  <a:lnTo>
                    <a:pt x="203" y="10782"/>
                  </a:lnTo>
                  <a:lnTo>
                    <a:pt x="165" y="10803"/>
                  </a:lnTo>
                  <a:lnTo>
                    <a:pt x="129" y="10826"/>
                  </a:lnTo>
                  <a:lnTo>
                    <a:pt x="94" y="10848"/>
                  </a:lnTo>
                  <a:lnTo>
                    <a:pt x="61" y="10872"/>
                  </a:lnTo>
                  <a:lnTo>
                    <a:pt x="29" y="10896"/>
                  </a:lnTo>
                  <a:lnTo>
                    <a:pt x="0" y="10921"/>
                  </a:lnTo>
                  <a:lnTo>
                    <a:pt x="7" y="10919"/>
                  </a:lnTo>
                  <a:lnTo>
                    <a:pt x="28" y="10915"/>
                  </a:lnTo>
                  <a:lnTo>
                    <a:pt x="60" y="10909"/>
                  </a:lnTo>
                  <a:lnTo>
                    <a:pt x="105" y="10901"/>
                  </a:lnTo>
                  <a:lnTo>
                    <a:pt x="161" y="10890"/>
                  </a:lnTo>
                  <a:lnTo>
                    <a:pt x="225" y="10879"/>
                  </a:lnTo>
                  <a:lnTo>
                    <a:pt x="299" y="10866"/>
                  </a:lnTo>
                  <a:lnTo>
                    <a:pt x="381" y="10853"/>
                  </a:lnTo>
                  <a:lnTo>
                    <a:pt x="468" y="10839"/>
                  </a:lnTo>
                  <a:lnTo>
                    <a:pt x="563" y="10825"/>
                  </a:lnTo>
                  <a:lnTo>
                    <a:pt x="662" y="10811"/>
                  </a:lnTo>
                  <a:lnTo>
                    <a:pt x="765" y="10797"/>
                  </a:lnTo>
                  <a:lnTo>
                    <a:pt x="870" y="10784"/>
                  </a:lnTo>
                  <a:lnTo>
                    <a:pt x="977" y="10773"/>
                  </a:lnTo>
                  <a:lnTo>
                    <a:pt x="1086" y="10763"/>
                  </a:lnTo>
                  <a:lnTo>
                    <a:pt x="1195" y="10755"/>
                  </a:lnTo>
                  <a:lnTo>
                    <a:pt x="1252" y="10749"/>
                  </a:lnTo>
                  <a:lnTo>
                    <a:pt x="1314" y="10741"/>
                  </a:lnTo>
                  <a:lnTo>
                    <a:pt x="1381" y="10729"/>
                  </a:lnTo>
                  <a:lnTo>
                    <a:pt x="1452" y="10715"/>
                  </a:lnTo>
                  <a:lnTo>
                    <a:pt x="1528" y="10698"/>
                  </a:lnTo>
                  <a:lnTo>
                    <a:pt x="1607" y="10677"/>
                  </a:lnTo>
                  <a:lnTo>
                    <a:pt x="1690" y="10654"/>
                  </a:lnTo>
                  <a:lnTo>
                    <a:pt x="1777" y="10630"/>
                  </a:lnTo>
                  <a:lnTo>
                    <a:pt x="1866" y="10603"/>
                  </a:lnTo>
                  <a:lnTo>
                    <a:pt x="1958" y="10574"/>
                  </a:lnTo>
                  <a:lnTo>
                    <a:pt x="2052" y="10542"/>
                  </a:lnTo>
                  <a:lnTo>
                    <a:pt x="2148" y="10510"/>
                  </a:lnTo>
                  <a:lnTo>
                    <a:pt x="2245" y="10476"/>
                  </a:lnTo>
                  <a:lnTo>
                    <a:pt x="2344" y="10439"/>
                  </a:lnTo>
                  <a:lnTo>
                    <a:pt x="2444" y="10402"/>
                  </a:lnTo>
                  <a:lnTo>
                    <a:pt x="2544" y="10364"/>
                  </a:lnTo>
                  <a:lnTo>
                    <a:pt x="2645" y="10324"/>
                  </a:lnTo>
                  <a:lnTo>
                    <a:pt x="2745" y="10284"/>
                  </a:lnTo>
                  <a:lnTo>
                    <a:pt x="2845" y="10244"/>
                  </a:lnTo>
                  <a:lnTo>
                    <a:pt x="2945" y="10202"/>
                  </a:lnTo>
                  <a:lnTo>
                    <a:pt x="3044" y="10160"/>
                  </a:lnTo>
                  <a:lnTo>
                    <a:pt x="3141" y="10119"/>
                  </a:lnTo>
                  <a:lnTo>
                    <a:pt x="3236" y="10076"/>
                  </a:lnTo>
                  <a:lnTo>
                    <a:pt x="3330" y="10034"/>
                  </a:lnTo>
                  <a:lnTo>
                    <a:pt x="3421" y="9992"/>
                  </a:lnTo>
                  <a:lnTo>
                    <a:pt x="3509" y="9950"/>
                  </a:lnTo>
                  <a:lnTo>
                    <a:pt x="3595" y="9909"/>
                  </a:lnTo>
                  <a:lnTo>
                    <a:pt x="3678" y="9869"/>
                  </a:lnTo>
                  <a:lnTo>
                    <a:pt x="3756" y="9829"/>
                  </a:lnTo>
                  <a:lnTo>
                    <a:pt x="3831" y="9790"/>
                  </a:lnTo>
                  <a:lnTo>
                    <a:pt x="3902" y="9753"/>
                  </a:lnTo>
                  <a:lnTo>
                    <a:pt x="3967" y="9716"/>
                  </a:lnTo>
                  <a:lnTo>
                    <a:pt x="3983" y="9712"/>
                  </a:lnTo>
                  <a:lnTo>
                    <a:pt x="4029" y="9701"/>
                  </a:lnTo>
                  <a:lnTo>
                    <a:pt x="4098" y="9684"/>
                  </a:lnTo>
                  <a:lnTo>
                    <a:pt x="4187" y="9660"/>
                  </a:lnTo>
                  <a:lnTo>
                    <a:pt x="4237" y="9646"/>
                  </a:lnTo>
                  <a:lnTo>
                    <a:pt x="4291" y="9631"/>
                  </a:lnTo>
                  <a:lnTo>
                    <a:pt x="4346" y="9615"/>
                  </a:lnTo>
                  <a:lnTo>
                    <a:pt x="4405" y="9596"/>
                  </a:lnTo>
                  <a:lnTo>
                    <a:pt x="4463" y="9577"/>
                  </a:lnTo>
                  <a:lnTo>
                    <a:pt x="4523" y="9557"/>
                  </a:lnTo>
                  <a:lnTo>
                    <a:pt x="4582" y="9535"/>
                  </a:lnTo>
                  <a:lnTo>
                    <a:pt x="4640" y="9513"/>
                  </a:lnTo>
                  <a:lnTo>
                    <a:pt x="4698" y="9490"/>
                  </a:lnTo>
                  <a:lnTo>
                    <a:pt x="4754" y="9465"/>
                  </a:lnTo>
                  <a:lnTo>
                    <a:pt x="4808" y="9440"/>
                  </a:lnTo>
                  <a:lnTo>
                    <a:pt x="4858" y="9414"/>
                  </a:lnTo>
                  <a:lnTo>
                    <a:pt x="4905" y="9387"/>
                  </a:lnTo>
                  <a:lnTo>
                    <a:pt x="4947" y="9359"/>
                  </a:lnTo>
                  <a:lnTo>
                    <a:pt x="4984" y="9331"/>
                  </a:lnTo>
                  <a:lnTo>
                    <a:pt x="5016" y="9303"/>
                  </a:lnTo>
                  <a:lnTo>
                    <a:pt x="5043" y="9274"/>
                  </a:lnTo>
                  <a:lnTo>
                    <a:pt x="5063" y="9243"/>
                  </a:lnTo>
                  <a:lnTo>
                    <a:pt x="5075" y="9214"/>
                  </a:lnTo>
                  <a:lnTo>
                    <a:pt x="5079" y="9183"/>
                  </a:lnTo>
                  <a:lnTo>
                    <a:pt x="5075" y="9153"/>
                  </a:lnTo>
                  <a:lnTo>
                    <a:pt x="5062" y="9121"/>
                  </a:lnTo>
                  <a:lnTo>
                    <a:pt x="5039" y="9090"/>
                  </a:lnTo>
                  <a:lnTo>
                    <a:pt x="5005" y="9059"/>
                  </a:lnTo>
                  <a:lnTo>
                    <a:pt x="5002" y="9058"/>
                  </a:lnTo>
                  <a:lnTo>
                    <a:pt x="4993" y="9053"/>
                  </a:lnTo>
                  <a:lnTo>
                    <a:pt x="4979" y="9045"/>
                  </a:lnTo>
                  <a:lnTo>
                    <a:pt x="4963" y="9035"/>
                  </a:lnTo>
                  <a:lnTo>
                    <a:pt x="4946" y="9023"/>
                  </a:lnTo>
                  <a:lnTo>
                    <a:pt x="4929" y="9007"/>
                  </a:lnTo>
                  <a:lnTo>
                    <a:pt x="4921" y="8999"/>
                  </a:lnTo>
                  <a:lnTo>
                    <a:pt x="4914" y="8991"/>
                  </a:lnTo>
                  <a:lnTo>
                    <a:pt x="4907" y="8982"/>
                  </a:lnTo>
                  <a:lnTo>
                    <a:pt x="4902" y="8973"/>
                  </a:lnTo>
                  <a:lnTo>
                    <a:pt x="4897" y="8964"/>
                  </a:lnTo>
                  <a:lnTo>
                    <a:pt x="4894" y="8955"/>
                  </a:lnTo>
                  <a:lnTo>
                    <a:pt x="4893" y="8945"/>
                  </a:lnTo>
                  <a:lnTo>
                    <a:pt x="4894" y="8935"/>
                  </a:lnTo>
                  <a:lnTo>
                    <a:pt x="4896" y="8925"/>
                  </a:lnTo>
                  <a:lnTo>
                    <a:pt x="4902" y="8915"/>
                  </a:lnTo>
                  <a:lnTo>
                    <a:pt x="4909" y="8905"/>
                  </a:lnTo>
                  <a:lnTo>
                    <a:pt x="4919" y="8895"/>
                  </a:lnTo>
                  <a:lnTo>
                    <a:pt x="4931" y="8883"/>
                  </a:lnTo>
                  <a:lnTo>
                    <a:pt x="4947" y="8873"/>
                  </a:lnTo>
                  <a:lnTo>
                    <a:pt x="4965" y="8863"/>
                  </a:lnTo>
                  <a:lnTo>
                    <a:pt x="4987" y="8853"/>
                  </a:lnTo>
                  <a:lnTo>
                    <a:pt x="5013" y="8843"/>
                  </a:lnTo>
                  <a:lnTo>
                    <a:pt x="5043" y="8833"/>
                  </a:lnTo>
                  <a:lnTo>
                    <a:pt x="5076" y="8824"/>
                  </a:lnTo>
                  <a:lnTo>
                    <a:pt x="5113" y="8815"/>
                  </a:lnTo>
                  <a:lnTo>
                    <a:pt x="5124" y="8808"/>
                  </a:lnTo>
                  <a:lnTo>
                    <a:pt x="5155" y="8789"/>
                  </a:lnTo>
                  <a:lnTo>
                    <a:pt x="5202" y="8758"/>
                  </a:lnTo>
                  <a:lnTo>
                    <a:pt x="5264" y="8718"/>
                  </a:lnTo>
                  <a:lnTo>
                    <a:pt x="5340" y="8669"/>
                  </a:lnTo>
                  <a:lnTo>
                    <a:pt x="5427" y="8612"/>
                  </a:lnTo>
                  <a:lnTo>
                    <a:pt x="5520" y="8549"/>
                  </a:lnTo>
                  <a:lnTo>
                    <a:pt x="5620" y="8479"/>
                  </a:lnTo>
                  <a:lnTo>
                    <a:pt x="5723" y="8405"/>
                  </a:lnTo>
                  <a:lnTo>
                    <a:pt x="5828" y="8329"/>
                  </a:lnTo>
                  <a:lnTo>
                    <a:pt x="5879" y="8289"/>
                  </a:lnTo>
                  <a:lnTo>
                    <a:pt x="5931" y="8249"/>
                  </a:lnTo>
                  <a:lnTo>
                    <a:pt x="5981" y="8210"/>
                  </a:lnTo>
                  <a:lnTo>
                    <a:pt x="6030" y="8169"/>
                  </a:lnTo>
                  <a:lnTo>
                    <a:pt x="6079" y="8130"/>
                  </a:lnTo>
                  <a:lnTo>
                    <a:pt x="6124" y="8090"/>
                  </a:lnTo>
                  <a:lnTo>
                    <a:pt x="6169" y="8050"/>
                  </a:lnTo>
                  <a:lnTo>
                    <a:pt x="6210" y="8011"/>
                  </a:lnTo>
                  <a:lnTo>
                    <a:pt x="6249" y="7974"/>
                  </a:lnTo>
                  <a:lnTo>
                    <a:pt x="6286" y="7936"/>
                  </a:lnTo>
                  <a:lnTo>
                    <a:pt x="6318" y="7899"/>
                  </a:lnTo>
                  <a:lnTo>
                    <a:pt x="6348" y="7864"/>
                  </a:lnTo>
                  <a:lnTo>
                    <a:pt x="6354" y="7861"/>
                  </a:lnTo>
                  <a:lnTo>
                    <a:pt x="6375" y="7853"/>
                  </a:lnTo>
                  <a:lnTo>
                    <a:pt x="6408" y="7841"/>
                  </a:lnTo>
                  <a:lnTo>
                    <a:pt x="6455" y="7826"/>
                  </a:lnTo>
                  <a:lnTo>
                    <a:pt x="6513" y="7808"/>
                  </a:lnTo>
                  <a:lnTo>
                    <a:pt x="6583" y="7789"/>
                  </a:lnTo>
                  <a:lnTo>
                    <a:pt x="6622" y="7779"/>
                  </a:lnTo>
                  <a:lnTo>
                    <a:pt x="6664" y="7769"/>
                  </a:lnTo>
                  <a:lnTo>
                    <a:pt x="6708" y="7759"/>
                  </a:lnTo>
                  <a:lnTo>
                    <a:pt x="6754" y="7750"/>
                  </a:lnTo>
                  <a:lnTo>
                    <a:pt x="6803" y="7741"/>
                  </a:lnTo>
                  <a:lnTo>
                    <a:pt x="6854" y="7732"/>
                  </a:lnTo>
                  <a:lnTo>
                    <a:pt x="6907" y="7724"/>
                  </a:lnTo>
                  <a:lnTo>
                    <a:pt x="6964" y="7716"/>
                  </a:lnTo>
                  <a:lnTo>
                    <a:pt x="7021" y="7710"/>
                  </a:lnTo>
                  <a:lnTo>
                    <a:pt x="7081" y="7704"/>
                  </a:lnTo>
                  <a:lnTo>
                    <a:pt x="7143" y="7699"/>
                  </a:lnTo>
                  <a:lnTo>
                    <a:pt x="7207" y="7695"/>
                  </a:lnTo>
                  <a:lnTo>
                    <a:pt x="7272" y="7691"/>
                  </a:lnTo>
                  <a:lnTo>
                    <a:pt x="7340" y="7690"/>
                  </a:lnTo>
                  <a:lnTo>
                    <a:pt x="7409" y="7690"/>
                  </a:lnTo>
                  <a:lnTo>
                    <a:pt x="7480" y="7692"/>
                  </a:lnTo>
                  <a:lnTo>
                    <a:pt x="7553" y="7696"/>
                  </a:lnTo>
                  <a:lnTo>
                    <a:pt x="7626" y="7701"/>
                  </a:lnTo>
                  <a:lnTo>
                    <a:pt x="7701" y="7708"/>
                  </a:lnTo>
                  <a:lnTo>
                    <a:pt x="7777" y="7717"/>
                  </a:lnTo>
                  <a:lnTo>
                    <a:pt x="7782" y="7719"/>
                  </a:lnTo>
                  <a:lnTo>
                    <a:pt x="7794" y="7726"/>
                  </a:lnTo>
                  <a:lnTo>
                    <a:pt x="7814" y="7736"/>
                  </a:lnTo>
                  <a:lnTo>
                    <a:pt x="7837" y="7750"/>
                  </a:lnTo>
                  <a:lnTo>
                    <a:pt x="7863" y="7766"/>
                  </a:lnTo>
                  <a:lnTo>
                    <a:pt x="7890" y="7785"/>
                  </a:lnTo>
                  <a:lnTo>
                    <a:pt x="7903" y="7795"/>
                  </a:lnTo>
                  <a:lnTo>
                    <a:pt x="7917" y="7805"/>
                  </a:lnTo>
                  <a:lnTo>
                    <a:pt x="7930" y="7817"/>
                  </a:lnTo>
                  <a:lnTo>
                    <a:pt x="7942" y="7827"/>
                  </a:lnTo>
                  <a:lnTo>
                    <a:pt x="7953" y="7839"/>
                  </a:lnTo>
                  <a:lnTo>
                    <a:pt x="7963" y="7850"/>
                  </a:lnTo>
                  <a:lnTo>
                    <a:pt x="7971" y="7861"/>
                  </a:lnTo>
                  <a:lnTo>
                    <a:pt x="7978" y="7872"/>
                  </a:lnTo>
                  <a:lnTo>
                    <a:pt x="7983" y="7883"/>
                  </a:lnTo>
                  <a:lnTo>
                    <a:pt x="7985" y="7894"/>
                  </a:lnTo>
                  <a:lnTo>
                    <a:pt x="7986" y="7905"/>
                  </a:lnTo>
                  <a:lnTo>
                    <a:pt x="7984" y="7915"/>
                  </a:lnTo>
                  <a:lnTo>
                    <a:pt x="7980" y="7925"/>
                  </a:lnTo>
                  <a:lnTo>
                    <a:pt x="7973" y="7936"/>
                  </a:lnTo>
                  <a:lnTo>
                    <a:pt x="7962" y="7945"/>
                  </a:lnTo>
                  <a:lnTo>
                    <a:pt x="7949" y="7954"/>
                  </a:lnTo>
                  <a:lnTo>
                    <a:pt x="7931" y="7962"/>
                  </a:lnTo>
                  <a:lnTo>
                    <a:pt x="7910" y="7969"/>
                  </a:lnTo>
                  <a:lnTo>
                    <a:pt x="7885" y="7976"/>
                  </a:lnTo>
                  <a:lnTo>
                    <a:pt x="7856" y="7982"/>
                  </a:lnTo>
                  <a:lnTo>
                    <a:pt x="7844" y="7981"/>
                  </a:lnTo>
                  <a:lnTo>
                    <a:pt x="7811" y="7981"/>
                  </a:lnTo>
                  <a:lnTo>
                    <a:pt x="7757" y="7981"/>
                  </a:lnTo>
                  <a:lnTo>
                    <a:pt x="7687" y="7982"/>
                  </a:lnTo>
                  <a:lnTo>
                    <a:pt x="7602" y="7986"/>
                  </a:lnTo>
                  <a:lnTo>
                    <a:pt x="7506" y="7991"/>
                  </a:lnTo>
                  <a:lnTo>
                    <a:pt x="7454" y="7995"/>
                  </a:lnTo>
                  <a:lnTo>
                    <a:pt x="7400" y="7999"/>
                  </a:lnTo>
                  <a:lnTo>
                    <a:pt x="7345" y="8004"/>
                  </a:lnTo>
                  <a:lnTo>
                    <a:pt x="7287" y="8011"/>
                  </a:lnTo>
                  <a:lnTo>
                    <a:pt x="7230" y="8018"/>
                  </a:lnTo>
                  <a:lnTo>
                    <a:pt x="7172" y="8027"/>
                  </a:lnTo>
                  <a:lnTo>
                    <a:pt x="7112" y="8036"/>
                  </a:lnTo>
                  <a:lnTo>
                    <a:pt x="7054" y="8047"/>
                  </a:lnTo>
                  <a:lnTo>
                    <a:pt x="6994" y="8060"/>
                  </a:lnTo>
                  <a:lnTo>
                    <a:pt x="6937" y="8074"/>
                  </a:lnTo>
                  <a:lnTo>
                    <a:pt x="6879" y="8089"/>
                  </a:lnTo>
                  <a:lnTo>
                    <a:pt x="6823" y="8106"/>
                  </a:lnTo>
                  <a:lnTo>
                    <a:pt x="6768" y="8124"/>
                  </a:lnTo>
                  <a:lnTo>
                    <a:pt x="6716" y="8144"/>
                  </a:lnTo>
                  <a:lnTo>
                    <a:pt x="6665" y="8165"/>
                  </a:lnTo>
                  <a:lnTo>
                    <a:pt x="6617" y="8190"/>
                  </a:lnTo>
                  <a:lnTo>
                    <a:pt x="6571" y="8216"/>
                  </a:lnTo>
                  <a:lnTo>
                    <a:pt x="6529" y="8243"/>
                  </a:lnTo>
                  <a:lnTo>
                    <a:pt x="6490" y="8273"/>
                  </a:lnTo>
                  <a:lnTo>
                    <a:pt x="6455" y="8305"/>
                  </a:lnTo>
                  <a:lnTo>
                    <a:pt x="6447" y="8318"/>
                  </a:lnTo>
                  <a:lnTo>
                    <a:pt x="6423" y="8351"/>
                  </a:lnTo>
                  <a:lnTo>
                    <a:pt x="6406" y="8374"/>
                  </a:lnTo>
                  <a:lnTo>
                    <a:pt x="6386" y="8399"/>
                  </a:lnTo>
                  <a:lnTo>
                    <a:pt x="6363" y="8427"/>
                  </a:lnTo>
                  <a:lnTo>
                    <a:pt x="6338" y="8456"/>
                  </a:lnTo>
                  <a:lnTo>
                    <a:pt x="6310" y="8484"/>
                  </a:lnTo>
                  <a:lnTo>
                    <a:pt x="6280" y="8513"/>
                  </a:lnTo>
                  <a:lnTo>
                    <a:pt x="6264" y="8526"/>
                  </a:lnTo>
                  <a:lnTo>
                    <a:pt x="6248" y="8541"/>
                  </a:lnTo>
                  <a:lnTo>
                    <a:pt x="6232" y="8553"/>
                  </a:lnTo>
                  <a:lnTo>
                    <a:pt x="6216" y="8566"/>
                  </a:lnTo>
                  <a:lnTo>
                    <a:pt x="6199" y="8577"/>
                  </a:lnTo>
                  <a:lnTo>
                    <a:pt x="6181" y="8588"/>
                  </a:lnTo>
                  <a:lnTo>
                    <a:pt x="6164" y="8597"/>
                  </a:lnTo>
                  <a:lnTo>
                    <a:pt x="6145" y="8606"/>
                  </a:lnTo>
                  <a:lnTo>
                    <a:pt x="6128" y="8613"/>
                  </a:lnTo>
                  <a:lnTo>
                    <a:pt x="6110" y="8620"/>
                  </a:lnTo>
                  <a:lnTo>
                    <a:pt x="6092" y="8624"/>
                  </a:lnTo>
                  <a:lnTo>
                    <a:pt x="6073" y="8628"/>
                  </a:lnTo>
                  <a:lnTo>
                    <a:pt x="6069" y="8634"/>
                  </a:lnTo>
                  <a:lnTo>
                    <a:pt x="6059" y="8650"/>
                  </a:lnTo>
                  <a:lnTo>
                    <a:pt x="6045" y="8676"/>
                  </a:lnTo>
                  <a:lnTo>
                    <a:pt x="6027" y="8709"/>
                  </a:lnTo>
                  <a:lnTo>
                    <a:pt x="6018" y="8727"/>
                  </a:lnTo>
                  <a:lnTo>
                    <a:pt x="6010" y="8746"/>
                  </a:lnTo>
                  <a:lnTo>
                    <a:pt x="6002" y="8766"/>
                  </a:lnTo>
                  <a:lnTo>
                    <a:pt x="5995" y="8788"/>
                  </a:lnTo>
                  <a:lnTo>
                    <a:pt x="5989" y="8809"/>
                  </a:lnTo>
                  <a:lnTo>
                    <a:pt x="5984" y="8830"/>
                  </a:lnTo>
                  <a:lnTo>
                    <a:pt x="5980" y="8852"/>
                  </a:lnTo>
                  <a:lnTo>
                    <a:pt x="5979" y="8873"/>
                  </a:lnTo>
                  <a:lnTo>
                    <a:pt x="5979" y="8895"/>
                  </a:lnTo>
                  <a:lnTo>
                    <a:pt x="5982" y="8915"/>
                  </a:lnTo>
                  <a:lnTo>
                    <a:pt x="5987" y="8934"/>
                  </a:lnTo>
                  <a:lnTo>
                    <a:pt x="5995" y="8952"/>
                  </a:lnTo>
                  <a:lnTo>
                    <a:pt x="6006" y="8968"/>
                  </a:lnTo>
                  <a:lnTo>
                    <a:pt x="6020" y="8983"/>
                  </a:lnTo>
                  <a:lnTo>
                    <a:pt x="6039" y="8997"/>
                  </a:lnTo>
                  <a:lnTo>
                    <a:pt x="6061" y="9008"/>
                  </a:lnTo>
                  <a:lnTo>
                    <a:pt x="6087" y="9018"/>
                  </a:lnTo>
                  <a:lnTo>
                    <a:pt x="6117" y="9025"/>
                  </a:lnTo>
                  <a:lnTo>
                    <a:pt x="6152" y="9029"/>
                  </a:lnTo>
                  <a:lnTo>
                    <a:pt x="6192" y="9030"/>
                  </a:lnTo>
                  <a:lnTo>
                    <a:pt x="6237" y="9028"/>
                  </a:lnTo>
                  <a:lnTo>
                    <a:pt x="6288" y="9023"/>
                  </a:lnTo>
                  <a:lnTo>
                    <a:pt x="6344" y="9014"/>
                  </a:lnTo>
                  <a:lnTo>
                    <a:pt x="6406" y="9000"/>
                  </a:lnTo>
                  <a:lnTo>
                    <a:pt x="6419" y="8997"/>
                  </a:lnTo>
                  <a:lnTo>
                    <a:pt x="6455" y="8987"/>
                  </a:lnTo>
                  <a:lnTo>
                    <a:pt x="6511" y="8971"/>
                  </a:lnTo>
                  <a:lnTo>
                    <a:pt x="6585" y="8950"/>
                  </a:lnTo>
                  <a:lnTo>
                    <a:pt x="6673" y="8924"/>
                  </a:lnTo>
                  <a:lnTo>
                    <a:pt x="6771" y="8894"/>
                  </a:lnTo>
                  <a:lnTo>
                    <a:pt x="6877" y="8860"/>
                  </a:lnTo>
                  <a:lnTo>
                    <a:pt x="6989" y="8823"/>
                  </a:lnTo>
                  <a:lnTo>
                    <a:pt x="7046" y="8804"/>
                  </a:lnTo>
                  <a:lnTo>
                    <a:pt x="7102" y="8784"/>
                  </a:lnTo>
                  <a:lnTo>
                    <a:pt x="7158" y="8763"/>
                  </a:lnTo>
                  <a:lnTo>
                    <a:pt x="7215" y="8742"/>
                  </a:lnTo>
                  <a:lnTo>
                    <a:pt x="7269" y="8722"/>
                  </a:lnTo>
                  <a:lnTo>
                    <a:pt x="7323" y="8701"/>
                  </a:lnTo>
                  <a:lnTo>
                    <a:pt x="7374" y="8679"/>
                  </a:lnTo>
                  <a:lnTo>
                    <a:pt x="7423" y="8658"/>
                  </a:lnTo>
                  <a:lnTo>
                    <a:pt x="7469" y="8636"/>
                  </a:lnTo>
                  <a:lnTo>
                    <a:pt x="7513" y="8614"/>
                  </a:lnTo>
                  <a:lnTo>
                    <a:pt x="7553" y="8593"/>
                  </a:lnTo>
                  <a:lnTo>
                    <a:pt x="7590" y="8572"/>
                  </a:lnTo>
                  <a:lnTo>
                    <a:pt x="7621" y="8552"/>
                  </a:lnTo>
                  <a:lnTo>
                    <a:pt x="7649" y="8530"/>
                  </a:lnTo>
                  <a:lnTo>
                    <a:pt x="7673" y="8510"/>
                  </a:lnTo>
                  <a:lnTo>
                    <a:pt x="7690" y="8491"/>
                  </a:lnTo>
                  <a:lnTo>
                    <a:pt x="7695" y="8486"/>
                  </a:lnTo>
                  <a:lnTo>
                    <a:pt x="7710" y="8472"/>
                  </a:lnTo>
                  <a:lnTo>
                    <a:pt x="7734" y="8452"/>
                  </a:lnTo>
                  <a:lnTo>
                    <a:pt x="7768" y="8427"/>
                  </a:lnTo>
                  <a:lnTo>
                    <a:pt x="7788" y="8414"/>
                  </a:lnTo>
                  <a:lnTo>
                    <a:pt x="7811" y="8399"/>
                  </a:lnTo>
                  <a:lnTo>
                    <a:pt x="7835" y="8384"/>
                  </a:lnTo>
                  <a:lnTo>
                    <a:pt x="7861" y="8370"/>
                  </a:lnTo>
                  <a:lnTo>
                    <a:pt x="7889" y="8356"/>
                  </a:lnTo>
                  <a:lnTo>
                    <a:pt x="7919" y="8342"/>
                  </a:lnTo>
                  <a:lnTo>
                    <a:pt x="7952" y="8329"/>
                  </a:lnTo>
                  <a:lnTo>
                    <a:pt x="7986" y="8317"/>
                  </a:lnTo>
                  <a:lnTo>
                    <a:pt x="8021" y="8307"/>
                  </a:lnTo>
                  <a:lnTo>
                    <a:pt x="8060" y="8297"/>
                  </a:lnTo>
                  <a:lnTo>
                    <a:pt x="8098" y="8289"/>
                  </a:lnTo>
                  <a:lnTo>
                    <a:pt x="8139" y="8283"/>
                  </a:lnTo>
                  <a:lnTo>
                    <a:pt x="8182" y="8279"/>
                  </a:lnTo>
                  <a:lnTo>
                    <a:pt x="8226" y="8278"/>
                  </a:lnTo>
                  <a:lnTo>
                    <a:pt x="8271" y="8280"/>
                  </a:lnTo>
                  <a:lnTo>
                    <a:pt x="8318" y="8284"/>
                  </a:lnTo>
                  <a:lnTo>
                    <a:pt x="8366" y="8291"/>
                  </a:lnTo>
                  <a:lnTo>
                    <a:pt x="8415" y="8303"/>
                  </a:lnTo>
                  <a:lnTo>
                    <a:pt x="8466" y="8317"/>
                  </a:lnTo>
                  <a:lnTo>
                    <a:pt x="8518" y="8336"/>
                  </a:lnTo>
                  <a:lnTo>
                    <a:pt x="8572" y="8358"/>
                  </a:lnTo>
                  <a:lnTo>
                    <a:pt x="8626" y="8384"/>
                  </a:lnTo>
                  <a:lnTo>
                    <a:pt x="8682" y="8416"/>
                  </a:lnTo>
                  <a:lnTo>
                    <a:pt x="8738" y="8452"/>
                  </a:lnTo>
                  <a:lnTo>
                    <a:pt x="8758" y="8462"/>
                  </a:lnTo>
                  <a:lnTo>
                    <a:pt x="8817" y="8490"/>
                  </a:lnTo>
                  <a:lnTo>
                    <a:pt x="8908" y="8534"/>
                  </a:lnTo>
                  <a:lnTo>
                    <a:pt x="9027" y="8589"/>
                  </a:lnTo>
                  <a:lnTo>
                    <a:pt x="9169" y="8655"/>
                  </a:lnTo>
                  <a:lnTo>
                    <a:pt x="9330" y="8727"/>
                  </a:lnTo>
                  <a:lnTo>
                    <a:pt x="9414" y="8764"/>
                  </a:lnTo>
                  <a:lnTo>
                    <a:pt x="9502" y="8803"/>
                  </a:lnTo>
                  <a:lnTo>
                    <a:pt x="9592" y="8842"/>
                  </a:lnTo>
                  <a:lnTo>
                    <a:pt x="9682" y="8880"/>
                  </a:lnTo>
                  <a:lnTo>
                    <a:pt x="9774" y="8919"/>
                  </a:lnTo>
                  <a:lnTo>
                    <a:pt x="9866" y="8956"/>
                  </a:lnTo>
                  <a:lnTo>
                    <a:pt x="9958" y="8993"/>
                  </a:lnTo>
                  <a:lnTo>
                    <a:pt x="10047" y="9028"/>
                  </a:lnTo>
                  <a:lnTo>
                    <a:pt x="10135" y="9061"/>
                  </a:lnTo>
                  <a:lnTo>
                    <a:pt x="10221" y="9092"/>
                  </a:lnTo>
                  <a:lnTo>
                    <a:pt x="10303" y="9120"/>
                  </a:lnTo>
                  <a:lnTo>
                    <a:pt x="10382" y="9147"/>
                  </a:lnTo>
                  <a:lnTo>
                    <a:pt x="10457" y="9169"/>
                  </a:lnTo>
                  <a:lnTo>
                    <a:pt x="10526" y="9188"/>
                  </a:lnTo>
                  <a:lnTo>
                    <a:pt x="10591" y="9203"/>
                  </a:lnTo>
                  <a:lnTo>
                    <a:pt x="10648" y="9213"/>
                  </a:lnTo>
                  <a:lnTo>
                    <a:pt x="10700" y="9219"/>
                  </a:lnTo>
                  <a:lnTo>
                    <a:pt x="10743" y="9220"/>
                  </a:lnTo>
                  <a:lnTo>
                    <a:pt x="10778" y="9216"/>
                  </a:lnTo>
                  <a:lnTo>
                    <a:pt x="10804" y="9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272"/>
            <p:cNvSpPr/>
            <p:nvPr/>
          </p:nvSpPr>
          <p:spPr>
            <a:xfrm>
              <a:off x="5919480" y="5175360"/>
              <a:ext cx="398160" cy="366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4755" h="12587">
                  <a:moveTo>
                    <a:pt x="10804" y="9206"/>
                  </a:moveTo>
                  <a:lnTo>
                    <a:pt x="10830" y="9194"/>
                  </a:lnTo>
                  <a:lnTo>
                    <a:pt x="10894" y="9163"/>
                  </a:lnTo>
                  <a:lnTo>
                    <a:pt x="10938" y="9144"/>
                  </a:lnTo>
                  <a:lnTo>
                    <a:pt x="10988" y="9124"/>
                  </a:lnTo>
                  <a:lnTo>
                    <a:pt x="11014" y="9114"/>
                  </a:lnTo>
                  <a:lnTo>
                    <a:pt x="11041" y="9105"/>
                  </a:lnTo>
                  <a:lnTo>
                    <a:pt x="11069" y="9096"/>
                  </a:lnTo>
                  <a:lnTo>
                    <a:pt x="11098" y="9087"/>
                  </a:lnTo>
                  <a:lnTo>
                    <a:pt x="11126" y="9080"/>
                  </a:lnTo>
                  <a:lnTo>
                    <a:pt x="11154" y="9073"/>
                  </a:lnTo>
                  <a:lnTo>
                    <a:pt x="11182" y="9068"/>
                  </a:lnTo>
                  <a:lnTo>
                    <a:pt x="11210" y="9063"/>
                  </a:lnTo>
                  <a:lnTo>
                    <a:pt x="11237" y="9061"/>
                  </a:lnTo>
                  <a:lnTo>
                    <a:pt x="11263" y="9059"/>
                  </a:lnTo>
                  <a:lnTo>
                    <a:pt x="11288" y="9060"/>
                  </a:lnTo>
                  <a:lnTo>
                    <a:pt x="11312" y="9062"/>
                  </a:lnTo>
                  <a:lnTo>
                    <a:pt x="11336" y="9066"/>
                  </a:lnTo>
                  <a:lnTo>
                    <a:pt x="11357" y="9073"/>
                  </a:lnTo>
                  <a:lnTo>
                    <a:pt x="11377" y="9081"/>
                  </a:lnTo>
                  <a:lnTo>
                    <a:pt x="11394" y="9093"/>
                  </a:lnTo>
                  <a:lnTo>
                    <a:pt x="11410" y="9107"/>
                  </a:lnTo>
                  <a:lnTo>
                    <a:pt x="11423" y="9124"/>
                  </a:lnTo>
                  <a:lnTo>
                    <a:pt x="11433" y="9144"/>
                  </a:lnTo>
                  <a:lnTo>
                    <a:pt x="11441" y="9167"/>
                  </a:lnTo>
                  <a:lnTo>
                    <a:pt x="11451" y="9194"/>
                  </a:lnTo>
                  <a:lnTo>
                    <a:pt x="11464" y="9224"/>
                  </a:lnTo>
                  <a:lnTo>
                    <a:pt x="11482" y="9257"/>
                  </a:lnTo>
                  <a:lnTo>
                    <a:pt x="11504" y="9293"/>
                  </a:lnTo>
                  <a:lnTo>
                    <a:pt x="11529" y="9331"/>
                  </a:lnTo>
                  <a:lnTo>
                    <a:pt x="11558" y="9373"/>
                  </a:lnTo>
                  <a:lnTo>
                    <a:pt x="11590" y="9415"/>
                  </a:lnTo>
                  <a:lnTo>
                    <a:pt x="11625" y="9459"/>
                  </a:lnTo>
                  <a:lnTo>
                    <a:pt x="11662" y="9506"/>
                  </a:lnTo>
                  <a:lnTo>
                    <a:pt x="11701" y="9553"/>
                  </a:lnTo>
                  <a:lnTo>
                    <a:pt x="11742" y="9600"/>
                  </a:lnTo>
                  <a:lnTo>
                    <a:pt x="11784" y="9650"/>
                  </a:lnTo>
                  <a:lnTo>
                    <a:pt x="11872" y="9748"/>
                  </a:lnTo>
                  <a:lnTo>
                    <a:pt x="11962" y="9844"/>
                  </a:lnTo>
                  <a:lnTo>
                    <a:pt x="12050" y="9938"/>
                  </a:lnTo>
                  <a:lnTo>
                    <a:pt x="12136" y="10027"/>
                  </a:lnTo>
                  <a:lnTo>
                    <a:pt x="12215" y="10109"/>
                  </a:lnTo>
                  <a:lnTo>
                    <a:pt x="12286" y="10180"/>
                  </a:lnTo>
                  <a:lnTo>
                    <a:pt x="12346" y="10240"/>
                  </a:lnTo>
                  <a:lnTo>
                    <a:pt x="12391" y="10285"/>
                  </a:lnTo>
                  <a:lnTo>
                    <a:pt x="12420" y="10313"/>
                  </a:lnTo>
                  <a:lnTo>
                    <a:pt x="12430" y="10323"/>
                  </a:lnTo>
                  <a:lnTo>
                    <a:pt x="13175" y="9775"/>
                  </a:lnTo>
                  <a:lnTo>
                    <a:pt x="14066" y="11647"/>
                  </a:lnTo>
                  <a:lnTo>
                    <a:pt x="14076" y="11684"/>
                  </a:lnTo>
                  <a:lnTo>
                    <a:pt x="14083" y="11717"/>
                  </a:lnTo>
                  <a:lnTo>
                    <a:pt x="14085" y="11733"/>
                  </a:lnTo>
                  <a:lnTo>
                    <a:pt x="14087" y="11748"/>
                  </a:lnTo>
                  <a:lnTo>
                    <a:pt x="14088" y="11763"/>
                  </a:lnTo>
                  <a:lnTo>
                    <a:pt x="14089" y="11777"/>
                  </a:lnTo>
                  <a:lnTo>
                    <a:pt x="14088" y="11791"/>
                  </a:lnTo>
                  <a:lnTo>
                    <a:pt x="14088" y="11804"/>
                  </a:lnTo>
                  <a:lnTo>
                    <a:pt x="14086" y="11817"/>
                  </a:lnTo>
                  <a:lnTo>
                    <a:pt x="14084" y="11829"/>
                  </a:lnTo>
                  <a:lnTo>
                    <a:pt x="14082" y="11842"/>
                  </a:lnTo>
                  <a:lnTo>
                    <a:pt x="14078" y="11854"/>
                  </a:lnTo>
                  <a:lnTo>
                    <a:pt x="14074" y="11867"/>
                  </a:lnTo>
                  <a:lnTo>
                    <a:pt x="14070" y="11879"/>
                  </a:lnTo>
                  <a:lnTo>
                    <a:pt x="14059" y="11905"/>
                  </a:lnTo>
                  <a:lnTo>
                    <a:pt x="14046" y="11930"/>
                  </a:lnTo>
                  <a:lnTo>
                    <a:pt x="14031" y="11957"/>
                  </a:lnTo>
                  <a:lnTo>
                    <a:pt x="14013" y="11985"/>
                  </a:lnTo>
                  <a:lnTo>
                    <a:pt x="13971" y="12050"/>
                  </a:lnTo>
                  <a:lnTo>
                    <a:pt x="13920" y="12127"/>
                  </a:lnTo>
                  <a:lnTo>
                    <a:pt x="13906" y="12149"/>
                  </a:lnTo>
                  <a:lnTo>
                    <a:pt x="13896" y="12171"/>
                  </a:lnTo>
                  <a:lnTo>
                    <a:pt x="13887" y="12192"/>
                  </a:lnTo>
                  <a:lnTo>
                    <a:pt x="13882" y="12214"/>
                  </a:lnTo>
                  <a:lnTo>
                    <a:pt x="13878" y="12235"/>
                  </a:lnTo>
                  <a:lnTo>
                    <a:pt x="13876" y="12257"/>
                  </a:lnTo>
                  <a:lnTo>
                    <a:pt x="13876" y="12278"/>
                  </a:lnTo>
                  <a:lnTo>
                    <a:pt x="13878" y="12298"/>
                  </a:lnTo>
                  <a:lnTo>
                    <a:pt x="13882" y="12318"/>
                  </a:lnTo>
                  <a:lnTo>
                    <a:pt x="13887" y="12338"/>
                  </a:lnTo>
                  <a:lnTo>
                    <a:pt x="13893" y="12357"/>
                  </a:lnTo>
                  <a:lnTo>
                    <a:pt x="13900" y="12376"/>
                  </a:lnTo>
                  <a:lnTo>
                    <a:pt x="13909" y="12394"/>
                  </a:lnTo>
                  <a:lnTo>
                    <a:pt x="13918" y="12412"/>
                  </a:lnTo>
                  <a:lnTo>
                    <a:pt x="13928" y="12429"/>
                  </a:lnTo>
                  <a:lnTo>
                    <a:pt x="13939" y="12445"/>
                  </a:lnTo>
                  <a:lnTo>
                    <a:pt x="13950" y="12461"/>
                  </a:lnTo>
                  <a:lnTo>
                    <a:pt x="13962" y="12476"/>
                  </a:lnTo>
                  <a:lnTo>
                    <a:pt x="13974" y="12491"/>
                  </a:lnTo>
                  <a:lnTo>
                    <a:pt x="13986" y="12504"/>
                  </a:lnTo>
                  <a:lnTo>
                    <a:pt x="14009" y="12528"/>
                  </a:lnTo>
                  <a:lnTo>
                    <a:pt x="14030" y="12548"/>
                  </a:lnTo>
                  <a:lnTo>
                    <a:pt x="14063" y="12577"/>
                  </a:lnTo>
                  <a:lnTo>
                    <a:pt x="14076" y="12587"/>
                  </a:lnTo>
                  <a:lnTo>
                    <a:pt x="14084" y="12578"/>
                  </a:lnTo>
                  <a:lnTo>
                    <a:pt x="14108" y="12553"/>
                  </a:lnTo>
                  <a:lnTo>
                    <a:pt x="14143" y="12514"/>
                  </a:lnTo>
                  <a:lnTo>
                    <a:pt x="14189" y="12462"/>
                  </a:lnTo>
                  <a:lnTo>
                    <a:pt x="14243" y="12400"/>
                  </a:lnTo>
                  <a:lnTo>
                    <a:pt x="14303" y="12330"/>
                  </a:lnTo>
                  <a:lnTo>
                    <a:pt x="14368" y="12254"/>
                  </a:lnTo>
                  <a:lnTo>
                    <a:pt x="14433" y="12173"/>
                  </a:lnTo>
                  <a:lnTo>
                    <a:pt x="14465" y="12133"/>
                  </a:lnTo>
                  <a:lnTo>
                    <a:pt x="14498" y="12091"/>
                  </a:lnTo>
                  <a:lnTo>
                    <a:pt x="14529" y="12050"/>
                  </a:lnTo>
                  <a:lnTo>
                    <a:pt x="14560" y="12009"/>
                  </a:lnTo>
                  <a:lnTo>
                    <a:pt x="14589" y="11968"/>
                  </a:lnTo>
                  <a:lnTo>
                    <a:pt x="14618" y="11928"/>
                  </a:lnTo>
                  <a:lnTo>
                    <a:pt x="14643" y="11889"/>
                  </a:lnTo>
                  <a:lnTo>
                    <a:pt x="14667" y="11851"/>
                  </a:lnTo>
                  <a:lnTo>
                    <a:pt x="14689" y="11815"/>
                  </a:lnTo>
                  <a:lnTo>
                    <a:pt x="14708" y="11781"/>
                  </a:lnTo>
                  <a:lnTo>
                    <a:pt x="14724" y="11748"/>
                  </a:lnTo>
                  <a:lnTo>
                    <a:pt x="14738" y="11719"/>
                  </a:lnTo>
                  <a:lnTo>
                    <a:pt x="14747" y="11692"/>
                  </a:lnTo>
                  <a:lnTo>
                    <a:pt x="14753" y="11667"/>
                  </a:lnTo>
                  <a:lnTo>
                    <a:pt x="14755" y="11646"/>
                  </a:lnTo>
                  <a:lnTo>
                    <a:pt x="14753" y="11627"/>
                  </a:lnTo>
                  <a:lnTo>
                    <a:pt x="14736" y="11615"/>
                  </a:lnTo>
                  <a:lnTo>
                    <a:pt x="14690" y="11582"/>
                  </a:lnTo>
                  <a:lnTo>
                    <a:pt x="14659" y="11557"/>
                  </a:lnTo>
                  <a:lnTo>
                    <a:pt x="14624" y="11527"/>
                  </a:lnTo>
                  <a:lnTo>
                    <a:pt x="14605" y="11509"/>
                  </a:lnTo>
                  <a:lnTo>
                    <a:pt x="14585" y="11490"/>
                  </a:lnTo>
                  <a:lnTo>
                    <a:pt x="14565" y="11470"/>
                  </a:lnTo>
                  <a:lnTo>
                    <a:pt x="14545" y="11449"/>
                  </a:lnTo>
                  <a:lnTo>
                    <a:pt x="14525" y="11427"/>
                  </a:lnTo>
                  <a:lnTo>
                    <a:pt x="14504" y="11404"/>
                  </a:lnTo>
                  <a:lnTo>
                    <a:pt x="14484" y="11378"/>
                  </a:lnTo>
                  <a:lnTo>
                    <a:pt x="14463" y="11352"/>
                  </a:lnTo>
                  <a:lnTo>
                    <a:pt x="14442" y="11324"/>
                  </a:lnTo>
                  <a:lnTo>
                    <a:pt x="14423" y="11296"/>
                  </a:lnTo>
                  <a:lnTo>
                    <a:pt x="14403" y="11265"/>
                  </a:lnTo>
                  <a:lnTo>
                    <a:pt x="14385" y="11234"/>
                  </a:lnTo>
                  <a:lnTo>
                    <a:pt x="14367" y="11202"/>
                  </a:lnTo>
                  <a:lnTo>
                    <a:pt x="14350" y="11169"/>
                  </a:lnTo>
                  <a:lnTo>
                    <a:pt x="14333" y="11133"/>
                  </a:lnTo>
                  <a:lnTo>
                    <a:pt x="14318" y="11097"/>
                  </a:lnTo>
                  <a:lnTo>
                    <a:pt x="14304" y="11060"/>
                  </a:lnTo>
                  <a:lnTo>
                    <a:pt x="14292" y="11021"/>
                  </a:lnTo>
                  <a:lnTo>
                    <a:pt x="14281" y="10982"/>
                  </a:lnTo>
                  <a:lnTo>
                    <a:pt x="14272" y="10941"/>
                  </a:lnTo>
                  <a:lnTo>
                    <a:pt x="14265" y="10924"/>
                  </a:lnTo>
                  <a:lnTo>
                    <a:pt x="14243" y="10876"/>
                  </a:lnTo>
                  <a:lnTo>
                    <a:pt x="14207" y="10801"/>
                  </a:lnTo>
                  <a:lnTo>
                    <a:pt x="14162" y="10705"/>
                  </a:lnTo>
                  <a:lnTo>
                    <a:pt x="14106" y="10589"/>
                  </a:lnTo>
                  <a:lnTo>
                    <a:pt x="14041" y="10459"/>
                  </a:lnTo>
                  <a:lnTo>
                    <a:pt x="13969" y="10318"/>
                  </a:lnTo>
                  <a:lnTo>
                    <a:pt x="13893" y="10171"/>
                  </a:lnTo>
                  <a:lnTo>
                    <a:pt x="13853" y="10098"/>
                  </a:lnTo>
                  <a:lnTo>
                    <a:pt x="13812" y="10024"/>
                  </a:lnTo>
                  <a:lnTo>
                    <a:pt x="13771" y="9950"/>
                  </a:lnTo>
                  <a:lnTo>
                    <a:pt x="13729" y="9878"/>
                  </a:lnTo>
                  <a:lnTo>
                    <a:pt x="13687" y="9807"/>
                  </a:lnTo>
                  <a:lnTo>
                    <a:pt x="13645" y="9739"/>
                  </a:lnTo>
                  <a:lnTo>
                    <a:pt x="13603" y="9672"/>
                  </a:lnTo>
                  <a:lnTo>
                    <a:pt x="13561" y="9610"/>
                  </a:lnTo>
                  <a:lnTo>
                    <a:pt x="13521" y="9551"/>
                  </a:lnTo>
                  <a:lnTo>
                    <a:pt x="13480" y="9496"/>
                  </a:lnTo>
                  <a:lnTo>
                    <a:pt x="13440" y="9446"/>
                  </a:lnTo>
                  <a:lnTo>
                    <a:pt x="13402" y="9401"/>
                  </a:lnTo>
                  <a:lnTo>
                    <a:pt x="13365" y="9362"/>
                  </a:lnTo>
                  <a:lnTo>
                    <a:pt x="13329" y="9329"/>
                  </a:lnTo>
                  <a:lnTo>
                    <a:pt x="13295" y="9303"/>
                  </a:lnTo>
                  <a:lnTo>
                    <a:pt x="13263" y="9285"/>
                  </a:lnTo>
                  <a:lnTo>
                    <a:pt x="13258" y="9288"/>
                  </a:lnTo>
                  <a:lnTo>
                    <a:pt x="13241" y="9296"/>
                  </a:lnTo>
                  <a:lnTo>
                    <a:pt x="13213" y="9309"/>
                  </a:lnTo>
                  <a:lnTo>
                    <a:pt x="13177" y="9326"/>
                  </a:lnTo>
                  <a:lnTo>
                    <a:pt x="13133" y="9346"/>
                  </a:lnTo>
                  <a:lnTo>
                    <a:pt x="13081" y="9368"/>
                  </a:lnTo>
                  <a:lnTo>
                    <a:pt x="13023" y="9393"/>
                  </a:lnTo>
                  <a:lnTo>
                    <a:pt x="12960" y="9417"/>
                  </a:lnTo>
                  <a:lnTo>
                    <a:pt x="12894" y="9442"/>
                  </a:lnTo>
                  <a:lnTo>
                    <a:pt x="12824" y="9465"/>
                  </a:lnTo>
                  <a:lnTo>
                    <a:pt x="12789" y="9477"/>
                  </a:lnTo>
                  <a:lnTo>
                    <a:pt x="12753" y="9488"/>
                  </a:lnTo>
                  <a:lnTo>
                    <a:pt x="12717" y="9499"/>
                  </a:lnTo>
                  <a:lnTo>
                    <a:pt x="12680" y="9508"/>
                  </a:lnTo>
                  <a:lnTo>
                    <a:pt x="12644" y="9517"/>
                  </a:lnTo>
                  <a:lnTo>
                    <a:pt x="12608" y="9525"/>
                  </a:lnTo>
                  <a:lnTo>
                    <a:pt x="12572" y="9532"/>
                  </a:lnTo>
                  <a:lnTo>
                    <a:pt x="12537" y="9538"/>
                  </a:lnTo>
                  <a:lnTo>
                    <a:pt x="12502" y="9543"/>
                  </a:lnTo>
                  <a:lnTo>
                    <a:pt x="12468" y="9546"/>
                  </a:lnTo>
                  <a:lnTo>
                    <a:pt x="12434" y="9549"/>
                  </a:lnTo>
                  <a:lnTo>
                    <a:pt x="12401" y="9549"/>
                  </a:lnTo>
                  <a:lnTo>
                    <a:pt x="12391" y="9540"/>
                  </a:lnTo>
                  <a:lnTo>
                    <a:pt x="12361" y="9514"/>
                  </a:lnTo>
                  <a:lnTo>
                    <a:pt x="12314" y="9473"/>
                  </a:lnTo>
                  <a:lnTo>
                    <a:pt x="12252" y="9420"/>
                  </a:lnTo>
                  <a:lnTo>
                    <a:pt x="12177" y="9356"/>
                  </a:lnTo>
                  <a:lnTo>
                    <a:pt x="12092" y="9284"/>
                  </a:lnTo>
                  <a:lnTo>
                    <a:pt x="11998" y="9205"/>
                  </a:lnTo>
                  <a:lnTo>
                    <a:pt x="11898" y="9123"/>
                  </a:lnTo>
                  <a:lnTo>
                    <a:pt x="11794" y="9039"/>
                  </a:lnTo>
                  <a:lnTo>
                    <a:pt x="11688" y="8955"/>
                  </a:lnTo>
                  <a:lnTo>
                    <a:pt x="11635" y="8914"/>
                  </a:lnTo>
                  <a:lnTo>
                    <a:pt x="11583" y="8873"/>
                  </a:lnTo>
                  <a:lnTo>
                    <a:pt x="11531" y="8835"/>
                  </a:lnTo>
                  <a:lnTo>
                    <a:pt x="11480" y="8797"/>
                  </a:lnTo>
                  <a:lnTo>
                    <a:pt x="11430" y="8761"/>
                  </a:lnTo>
                  <a:lnTo>
                    <a:pt x="11382" y="8727"/>
                  </a:lnTo>
                  <a:lnTo>
                    <a:pt x="11335" y="8695"/>
                  </a:lnTo>
                  <a:lnTo>
                    <a:pt x="11290" y="8666"/>
                  </a:lnTo>
                  <a:lnTo>
                    <a:pt x="11248" y="8639"/>
                  </a:lnTo>
                  <a:lnTo>
                    <a:pt x="11209" y="8616"/>
                  </a:lnTo>
                  <a:lnTo>
                    <a:pt x="11171" y="8596"/>
                  </a:lnTo>
                  <a:lnTo>
                    <a:pt x="11138" y="8579"/>
                  </a:lnTo>
                  <a:lnTo>
                    <a:pt x="10736" y="8510"/>
                  </a:lnTo>
                  <a:lnTo>
                    <a:pt x="13783" y="1661"/>
                  </a:lnTo>
                  <a:lnTo>
                    <a:pt x="13780" y="1657"/>
                  </a:lnTo>
                  <a:lnTo>
                    <a:pt x="13771" y="1647"/>
                  </a:lnTo>
                  <a:lnTo>
                    <a:pt x="13757" y="1632"/>
                  </a:lnTo>
                  <a:lnTo>
                    <a:pt x="13736" y="1614"/>
                  </a:lnTo>
                  <a:lnTo>
                    <a:pt x="13723" y="1603"/>
                  </a:lnTo>
                  <a:lnTo>
                    <a:pt x="13708" y="1592"/>
                  </a:lnTo>
                  <a:lnTo>
                    <a:pt x="13692" y="1580"/>
                  </a:lnTo>
                  <a:lnTo>
                    <a:pt x="13674" y="1569"/>
                  </a:lnTo>
                  <a:lnTo>
                    <a:pt x="13654" y="1558"/>
                  </a:lnTo>
                  <a:lnTo>
                    <a:pt x="13633" y="1546"/>
                  </a:lnTo>
                  <a:lnTo>
                    <a:pt x="13610" y="1535"/>
                  </a:lnTo>
                  <a:lnTo>
                    <a:pt x="13584" y="1525"/>
                  </a:lnTo>
                  <a:lnTo>
                    <a:pt x="13557" y="1515"/>
                  </a:lnTo>
                  <a:lnTo>
                    <a:pt x="13528" y="1506"/>
                  </a:lnTo>
                  <a:lnTo>
                    <a:pt x="13497" y="1497"/>
                  </a:lnTo>
                  <a:lnTo>
                    <a:pt x="13463" y="1490"/>
                  </a:lnTo>
                  <a:lnTo>
                    <a:pt x="13429" y="1484"/>
                  </a:lnTo>
                  <a:lnTo>
                    <a:pt x="13392" y="1480"/>
                  </a:lnTo>
                  <a:lnTo>
                    <a:pt x="13353" y="1477"/>
                  </a:lnTo>
                  <a:lnTo>
                    <a:pt x="13311" y="1475"/>
                  </a:lnTo>
                  <a:lnTo>
                    <a:pt x="13268" y="1476"/>
                  </a:lnTo>
                  <a:lnTo>
                    <a:pt x="13223" y="1478"/>
                  </a:lnTo>
                  <a:lnTo>
                    <a:pt x="13174" y="1483"/>
                  </a:lnTo>
                  <a:lnTo>
                    <a:pt x="13125" y="1489"/>
                  </a:lnTo>
                  <a:lnTo>
                    <a:pt x="13072" y="1499"/>
                  </a:lnTo>
                  <a:lnTo>
                    <a:pt x="13017" y="1511"/>
                  </a:lnTo>
                  <a:lnTo>
                    <a:pt x="12960" y="1525"/>
                  </a:lnTo>
                  <a:lnTo>
                    <a:pt x="12901" y="1543"/>
                  </a:lnTo>
                  <a:lnTo>
                    <a:pt x="12894" y="1543"/>
                  </a:lnTo>
                  <a:lnTo>
                    <a:pt x="12874" y="1543"/>
                  </a:lnTo>
                  <a:lnTo>
                    <a:pt x="12842" y="1541"/>
                  </a:lnTo>
                  <a:lnTo>
                    <a:pt x="12799" y="1539"/>
                  </a:lnTo>
                  <a:lnTo>
                    <a:pt x="12748" y="1536"/>
                  </a:lnTo>
                  <a:lnTo>
                    <a:pt x="12688" y="1531"/>
                  </a:lnTo>
                  <a:lnTo>
                    <a:pt x="12624" y="1523"/>
                  </a:lnTo>
                  <a:lnTo>
                    <a:pt x="12554" y="1514"/>
                  </a:lnTo>
                  <a:lnTo>
                    <a:pt x="12518" y="1508"/>
                  </a:lnTo>
                  <a:lnTo>
                    <a:pt x="12482" y="1501"/>
                  </a:lnTo>
                  <a:lnTo>
                    <a:pt x="12444" y="1494"/>
                  </a:lnTo>
                  <a:lnTo>
                    <a:pt x="12408" y="1486"/>
                  </a:lnTo>
                  <a:lnTo>
                    <a:pt x="12371" y="1477"/>
                  </a:lnTo>
                  <a:lnTo>
                    <a:pt x="12334" y="1466"/>
                  </a:lnTo>
                  <a:lnTo>
                    <a:pt x="12296" y="1455"/>
                  </a:lnTo>
                  <a:lnTo>
                    <a:pt x="12260" y="1444"/>
                  </a:lnTo>
                  <a:lnTo>
                    <a:pt x="12225" y="1431"/>
                  </a:lnTo>
                  <a:lnTo>
                    <a:pt x="12190" y="1417"/>
                  </a:lnTo>
                  <a:lnTo>
                    <a:pt x="12156" y="1402"/>
                  </a:lnTo>
                  <a:lnTo>
                    <a:pt x="12124" y="1386"/>
                  </a:lnTo>
                  <a:lnTo>
                    <a:pt x="12093" y="1368"/>
                  </a:lnTo>
                  <a:lnTo>
                    <a:pt x="12063" y="1349"/>
                  </a:lnTo>
                  <a:lnTo>
                    <a:pt x="12035" y="1329"/>
                  </a:lnTo>
                  <a:lnTo>
                    <a:pt x="12010" y="1308"/>
                  </a:lnTo>
                  <a:lnTo>
                    <a:pt x="11983" y="1307"/>
                  </a:lnTo>
                  <a:lnTo>
                    <a:pt x="11911" y="1302"/>
                  </a:lnTo>
                  <a:lnTo>
                    <a:pt x="11864" y="1298"/>
                  </a:lnTo>
                  <a:lnTo>
                    <a:pt x="11810" y="1291"/>
                  </a:lnTo>
                  <a:lnTo>
                    <a:pt x="11782" y="1287"/>
                  </a:lnTo>
                  <a:lnTo>
                    <a:pt x="11754" y="1283"/>
                  </a:lnTo>
                  <a:lnTo>
                    <a:pt x="11725" y="1277"/>
                  </a:lnTo>
                  <a:lnTo>
                    <a:pt x="11694" y="1271"/>
                  </a:lnTo>
                  <a:lnTo>
                    <a:pt x="11665" y="1265"/>
                  </a:lnTo>
                  <a:lnTo>
                    <a:pt x="11636" y="1257"/>
                  </a:lnTo>
                  <a:lnTo>
                    <a:pt x="11607" y="1249"/>
                  </a:lnTo>
                  <a:lnTo>
                    <a:pt x="11579" y="1239"/>
                  </a:lnTo>
                  <a:lnTo>
                    <a:pt x="11551" y="1228"/>
                  </a:lnTo>
                  <a:lnTo>
                    <a:pt x="11525" y="1217"/>
                  </a:lnTo>
                  <a:lnTo>
                    <a:pt x="11500" y="1205"/>
                  </a:lnTo>
                  <a:lnTo>
                    <a:pt x="11477" y="1192"/>
                  </a:lnTo>
                  <a:lnTo>
                    <a:pt x="11455" y="1178"/>
                  </a:lnTo>
                  <a:lnTo>
                    <a:pt x="11435" y="1162"/>
                  </a:lnTo>
                  <a:lnTo>
                    <a:pt x="11417" y="1146"/>
                  </a:lnTo>
                  <a:lnTo>
                    <a:pt x="11403" y="1128"/>
                  </a:lnTo>
                  <a:lnTo>
                    <a:pt x="11391" y="1108"/>
                  </a:lnTo>
                  <a:lnTo>
                    <a:pt x="11382" y="1088"/>
                  </a:lnTo>
                  <a:lnTo>
                    <a:pt x="11376" y="1066"/>
                  </a:lnTo>
                  <a:lnTo>
                    <a:pt x="11373" y="1043"/>
                  </a:lnTo>
                  <a:lnTo>
                    <a:pt x="11362" y="1037"/>
                  </a:lnTo>
                  <a:lnTo>
                    <a:pt x="11331" y="1019"/>
                  </a:lnTo>
                  <a:lnTo>
                    <a:pt x="11308" y="1007"/>
                  </a:lnTo>
                  <a:lnTo>
                    <a:pt x="11282" y="994"/>
                  </a:lnTo>
                  <a:lnTo>
                    <a:pt x="11253" y="978"/>
                  </a:lnTo>
                  <a:lnTo>
                    <a:pt x="11220" y="963"/>
                  </a:lnTo>
                  <a:lnTo>
                    <a:pt x="11183" y="948"/>
                  </a:lnTo>
                  <a:lnTo>
                    <a:pt x="11145" y="934"/>
                  </a:lnTo>
                  <a:lnTo>
                    <a:pt x="11105" y="920"/>
                  </a:lnTo>
                  <a:lnTo>
                    <a:pt x="11062" y="907"/>
                  </a:lnTo>
                  <a:lnTo>
                    <a:pt x="11041" y="901"/>
                  </a:lnTo>
                  <a:lnTo>
                    <a:pt x="11019" y="896"/>
                  </a:lnTo>
                  <a:lnTo>
                    <a:pt x="10997" y="891"/>
                  </a:lnTo>
                  <a:lnTo>
                    <a:pt x="10975" y="887"/>
                  </a:lnTo>
                  <a:lnTo>
                    <a:pt x="10952" y="884"/>
                  </a:lnTo>
                  <a:lnTo>
                    <a:pt x="10928" y="881"/>
                  </a:lnTo>
                  <a:lnTo>
                    <a:pt x="10906" y="878"/>
                  </a:lnTo>
                  <a:lnTo>
                    <a:pt x="10883" y="877"/>
                  </a:lnTo>
                  <a:lnTo>
                    <a:pt x="10866" y="866"/>
                  </a:lnTo>
                  <a:lnTo>
                    <a:pt x="10822" y="839"/>
                  </a:lnTo>
                  <a:lnTo>
                    <a:pt x="10790" y="821"/>
                  </a:lnTo>
                  <a:lnTo>
                    <a:pt x="10756" y="803"/>
                  </a:lnTo>
                  <a:lnTo>
                    <a:pt x="10718" y="784"/>
                  </a:lnTo>
                  <a:lnTo>
                    <a:pt x="10677" y="766"/>
                  </a:lnTo>
                  <a:lnTo>
                    <a:pt x="10656" y="757"/>
                  </a:lnTo>
                  <a:lnTo>
                    <a:pt x="10635" y="748"/>
                  </a:lnTo>
                  <a:lnTo>
                    <a:pt x="10614" y="740"/>
                  </a:lnTo>
                  <a:lnTo>
                    <a:pt x="10593" y="733"/>
                  </a:lnTo>
                  <a:lnTo>
                    <a:pt x="10572" y="727"/>
                  </a:lnTo>
                  <a:lnTo>
                    <a:pt x="10551" y="722"/>
                  </a:lnTo>
                  <a:lnTo>
                    <a:pt x="10531" y="718"/>
                  </a:lnTo>
                  <a:lnTo>
                    <a:pt x="10511" y="715"/>
                  </a:lnTo>
                  <a:lnTo>
                    <a:pt x="10492" y="714"/>
                  </a:lnTo>
                  <a:lnTo>
                    <a:pt x="10473" y="714"/>
                  </a:lnTo>
                  <a:lnTo>
                    <a:pt x="10456" y="715"/>
                  </a:lnTo>
                  <a:lnTo>
                    <a:pt x="10438" y="718"/>
                  </a:lnTo>
                  <a:lnTo>
                    <a:pt x="10423" y="723"/>
                  </a:lnTo>
                  <a:lnTo>
                    <a:pt x="10408" y="729"/>
                  </a:lnTo>
                  <a:lnTo>
                    <a:pt x="10395" y="738"/>
                  </a:lnTo>
                  <a:lnTo>
                    <a:pt x="10383" y="749"/>
                  </a:lnTo>
                  <a:lnTo>
                    <a:pt x="10373" y="761"/>
                  </a:lnTo>
                  <a:lnTo>
                    <a:pt x="10364" y="773"/>
                  </a:lnTo>
                  <a:lnTo>
                    <a:pt x="10356" y="786"/>
                  </a:lnTo>
                  <a:lnTo>
                    <a:pt x="10350" y="800"/>
                  </a:lnTo>
                  <a:lnTo>
                    <a:pt x="10344" y="814"/>
                  </a:lnTo>
                  <a:lnTo>
                    <a:pt x="10339" y="829"/>
                  </a:lnTo>
                  <a:lnTo>
                    <a:pt x="10335" y="844"/>
                  </a:lnTo>
                  <a:lnTo>
                    <a:pt x="10332" y="859"/>
                  </a:lnTo>
                  <a:lnTo>
                    <a:pt x="10323" y="921"/>
                  </a:lnTo>
                  <a:lnTo>
                    <a:pt x="10317" y="980"/>
                  </a:lnTo>
                  <a:lnTo>
                    <a:pt x="10313" y="995"/>
                  </a:lnTo>
                  <a:lnTo>
                    <a:pt x="10311" y="1008"/>
                  </a:lnTo>
                  <a:lnTo>
                    <a:pt x="10307" y="1020"/>
                  </a:lnTo>
                  <a:lnTo>
                    <a:pt x="10304" y="1032"/>
                  </a:lnTo>
                  <a:lnTo>
                    <a:pt x="10299" y="1042"/>
                  </a:lnTo>
                  <a:lnTo>
                    <a:pt x="10294" y="1052"/>
                  </a:lnTo>
                  <a:lnTo>
                    <a:pt x="10287" y="1060"/>
                  </a:lnTo>
                  <a:lnTo>
                    <a:pt x="10280" y="1068"/>
                  </a:lnTo>
                  <a:lnTo>
                    <a:pt x="10271" y="1074"/>
                  </a:lnTo>
                  <a:lnTo>
                    <a:pt x="10261" y="1078"/>
                  </a:lnTo>
                  <a:lnTo>
                    <a:pt x="10250" y="1081"/>
                  </a:lnTo>
                  <a:lnTo>
                    <a:pt x="10237" y="1083"/>
                  </a:lnTo>
                  <a:lnTo>
                    <a:pt x="10223" y="1083"/>
                  </a:lnTo>
                  <a:lnTo>
                    <a:pt x="10206" y="1081"/>
                  </a:lnTo>
                  <a:lnTo>
                    <a:pt x="10187" y="1078"/>
                  </a:lnTo>
                  <a:lnTo>
                    <a:pt x="10168" y="1072"/>
                  </a:lnTo>
                  <a:lnTo>
                    <a:pt x="10148" y="1067"/>
                  </a:lnTo>
                  <a:lnTo>
                    <a:pt x="10130" y="1060"/>
                  </a:lnTo>
                  <a:lnTo>
                    <a:pt x="10112" y="1052"/>
                  </a:lnTo>
                  <a:lnTo>
                    <a:pt x="10095" y="1044"/>
                  </a:lnTo>
                  <a:lnTo>
                    <a:pt x="10079" y="1035"/>
                  </a:lnTo>
                  <a:lnTo>
                    <a:pt x="10063" y="1025"/>
                  </a:lnTo>
                  <a:lnTo>
                    <a:pt x="10049" y="1014"/>
                  </a:lnTo>
                  <a:lnTo>
                    <a:pt x="10035" y="1003"/>
                  </a:lnTo>
                  <a:lnTo>
                    <a:pt x="10021" y="990"/>
                  </a:lnTo>
                  <a:lnTo>
                    <a:pt x="10008" y="978"/>
                  </a:lnTo>
                  <a:lnTo>
                    <a:pt x="9995" y="965"/>
                  </a:lnTo>
                  <a:lnTo>
                    <a:pt x="9983" y="952"/>
                  </a:lnTo>
                  <a:lnTo>
                    <a:pt x="9959" y="924"/>
                  </a:lnTo>
                  <a:lnTo>
                    <a:pt x="9934" y="895"/>
                  </a:lnTo>
                  <a:lnTo>
                    <a:pt x="9909" y="864"/>
                  </a:lnTo>
                  <a:lnTo>
                    <a:pt x="9884" y="834"/>
                  </a:lnTo>
                  <a:lnTo>
                    <a:pt x="9857" y="802"/>
                  </a:lnTo>
                  <a:lnTo>
                    <a:pt x="9828" y="771"/>
                  </a:lnTo>
                  <a:lnTo>
                    <a:pt x="9813" y="756"/>
                  </a:lnTo>
                  <a:lnTo>
                    <a:pt x="9795" y="739"/>
                  </a:lnTo>
                  <a:lnTo>
                    <a:pt x="9778" y="724"/>
                  </a:lnTo>
                  <a:lnTo>
                    <a:pt x="9760" y="709"/>
                  </a:lnTo>
                  <a:lnTo>
                    <a:pt x="9742" y="694"/>
                  </a:lnTo>
                  <a:lnTo>
                    <a:pt x="9722" y="680"/>
                  </a:lnTo>
                  <a:lnTo>
                    <a:pt x="9701" y="666"/>
                  </a:lnTo>
                  <a:lnTo>
                    <a:pt x="9678" y="652"/>
                  </a:lnTo>
                  <a:lnTo>
                    <a:pt x="9627" y="622"/>
                  </a:lnTo>
                  <a:lnTo>
                    <a:pt x="9569" y="589"/>
                  </a:lnTo>
                  <a:lnTo>
                    <a:pt x="9502" y="554"/>
                  </a:lnTo>
                  <a:lnTo>
                    <a:pt x="9430" y="518"/>
                  </a:lnTo>
                  <a:lnTo>
                    <a:pt x="9356" y="479"/>
                  </a:lnTo>
                  <a:lnTo>
                    <a:pt x="9279" y="441"/>
                  </a:lnTo>
                  <a:lnTo>
                    <a:pt x="9202" y="403"/>
                  </a:lnTo>
                  <a:lnTo>
                    <a:pt x="9126" y="366"/>
                  </a:lnTo>
                  <a:lnTo>
                    <a:pt x="9052" y="331"/>
                  </a:lnTo>
                  <a:lnTo>
                    <a:pt x="8984" y="298"/>
                  </a:lnTo>
                  <a:lnTo>
                    <a:pt x="8921" y="268"/>
                  </a:lnTo>
                  <a:lnTo>
                    <a:pt x="8867" y="242"/>
                  </a:lnTo>
                  <a:lnTo>
                    <a:pt x="8822" y="221"/>
                  </a:lnTo>
                  <a:lnTo>
                    <a:pt x="8786" y="205"/>
                  </a:lnTo>
                  <a:lnTo>
                    <a:pt x="8765" y="194"/>
                  </a:lnTo>
                  <a:lnTo>
                    <a:pt x="8757" y="191"/>
                  </a:lnTo>
                  <a:lnTo>
                    <a:pt x="8752" y="187"/>
                  </a:lnTo>
                  <a:lnTo>
                    <a:pt x="8735" y="177"/>
                  </a:lnTo>
                  <a:lnTo>
                    <a:pt x="8708" y="161"/>
                  </a:lnTo>
                  <a:lnTo>
                    <a:pt x="8669" y="140"/>
                  </a:lnTo>
                  <a:lnTo>
                    <a:pt x="8646" y="130"/>
                  </a:lnTo>
                  <a:lnTo>
                    <a:pt x="8620" y="118"/>
                  </a:lnTo>
                  <a:lnTo>
                    <a:pt x="8592" y="107"/>
                  </a:lnTo>
                  <a:lnTo>
                    <a:pt x="8560" y="95"/>
                  </a:lnTo>
                  <a:lnTo>
                    <a:pt x="8525" y="83"/>
                  </a:lnTo>
                  <a:lnTo>
                    <a:pt x="8489" y="71"/>
                  </a:lnTo>
                  <a:lnTo>
                    <a:pt x="8450" y="60"/>
                  </a:lnTo>
                  <a:lnTo>
                    <a:pt x="8407" y="49"/>
                  </a:lnTo>
                  <a:lnTo>
                    <a:pt x="8362" y="39"/>
                  </a:lnTo>
                  <a:lnTo>
                    <a:pt x="8315" y="29"/>
                  </a:lnTo>
                  <a:lnTo>
                    <a:pt x="8264" y="20"/>
                  </a:lnTo>
                  <a:lnTo>
                    <a:pt x="8211" y="13"/>
                  </a:lnTo>
                  <a:lnTo>
                    <a:pt x="8155" y="8"/>
                  </a:lnTo>
                  <a:lnTo>
                    <a:pt x="8097" y="4"/>
                  </a:lnTo>
                  <a:lnTo>
                    <a:pt x="8035" y="1"/>
                  </a:lnTo>
                  <a:lnTo>
                    <a:pt x="7972" y="0"/>
                  </a:lnTo>
                  <a:lnTo>
                    <a:pt x="7905" y="2"/>
                  </a:lnTo>
                  <a:lnTo>
                    <a:pt x="7837" y="5"/>
                  </a:lnTo>
                  <a:lnTo>
                    <a:pt x="7764" y="11"/>
                  </a:lnTo>
                  <a:lnTo>
                    <a:pt x="7691" y="20"/>
                  </a:lnTo>
                  <a:lnTo>
                    <a:pt x="7613" y="31"/>
                  </a:lnTo>
                  <a:lnTo>
                    <a:pt x="7533" y="46"/>
                  </a:lnTo>
                  <a:lnTo>
                    <a:pt x="7451" y="63"/>
                  </a:lnTo>
                  <a:lnTo>
                    <a:pt x="7366" y="83"/>
                  </a:lnTo>
                  <a:lnTo>
                    <a:pt x="7283" y="104"/>
                  </a:lnTo>
                  <a:lnTo>
                    <a:pt x="7207" y="122"/>
                  </a:lnTo>
                  <a:lnTo>
                    <a:pt x="7136" y="139"/>
                  </a:lnTo>
                  <a:lnTo>
                    <a:pt x="7071" y="153"/>
                  </a:lnTo>
                  <a:lnTo>
                    <a:pt x="7010" y="166"/>
                  </a:lnTo>
                  <a:lnTo>
                    <a:pt x="6955" y="177"/>
                  </a:lnTo>
                  <a:lnTo>
                    <a:pt x="6903" y="186"/>
                  </a:lnTo>
                  <a:lnTo>
                    <a:pt x="6856" y="193"/>
                  </a:lnTo>
                  <a:lnTo>
                    <a:pt x="6813" y="199"/>
                  </a:lnTo>
                  <a:lnTo>
                    <a:pt x="6773" y="204"/>
                  </a:lnTo>
                  <a:lnTo>
                    <a:pt x="6737" y="207"/>
                  </a:lnTo>
                  <a:lnTo>
                    <a:pt x="6704" y="209"/>
                  </a:lnTo>
                  <a:lnTo>
                    <a:pt x="6674" y="210"/>
                  </a:lnTo>
                  <a:lnTo>
                    <a:pt x="6646" y="210"/>
                  </a:lnTo>
                  <a:lnTo>
                    <a:pt x="6620" y="209"/>
                  </a:lnTo>
                  <a:lnTo>
                    <a:pt x="6597" y="208"/>
                  </a:lnTo>
                  <a:lnTo>
                    <a:pt x="6576" y="206"/>
                  </a:lnTo>
                  <a:lnTo>
                    <a:pt x="6556" y="203"/>
                  </a:lnTo>
                  <a:lnTo>
                    <a:pt x="6537" y="200"/>
                  </a:lnTo>
                  <a:lnTo>
                    <a:pt x="6518" y="197"/>
                  </a:lnTo>
                  <a:lnTo>
                    <a:pt x="6483" y="190"/>
                  </a:lnTo>
                  <a:lnTo>
                    <a:pt x="6449" y="182"/>
                  </a:lnTo>
                  <a:lnTo>
                    <a:pt x="6431" y="179"/>
                  </a:lnTo>
                  <a:lnTo>
                    <a:pt x="6413" y="176"/>
                  </a:lnTo>
                  <a:lnTo>
                    <a:pt x="6392" y="174"/>
                  </a:lnTo>
                  <a:lnTo>
                    <a:pt x="6371" y="172"/>
                  </a:lnTo>
                  <a:lnTo>
                    <a:pt x="6349" y="170"/>
                  </a:lnTo>
                  <a:lnTo>
                    <a:pt x="6325" y="170"/>
                  </a:lnTo>
                  <a:lnTo>
                    <a:pt x="6298" y="170"/>
                  </a:lnTo>
                  <a:lnTo>
                    <a:pt x="6269" y="171"/>
                  </a:lnTo>
                  <a:lnTo>
                    <a:pt x="6208" y="176"/>
                  </a:lnTo>
                  <a:lnTo>
                    <a:pt x="6144" y="182"/>
                  </a:lnTo>
                  <a:lnTo>
                    <a:pt x="6080" y="191"/>
                  </a:lnTo>
                  <a:lnTo>
                    <a:pt x="6015" y="201"/>
                  </a:lnTo>
                  <a:lnTo>
                    <a:pt x="5983" y="207"/>
                  </a:lnTo>
                  <a:lnTo>
                    <a:pt x="5951" y="213"/>
                  </a:lnTo>
                  <a:lnTo>
                    <a:pt x="5919" y="220"/>
                  </a:lnTo>
                  <a:lnTo>
                    <a:pt x="5886" y="228"/>
                  </a:lnTo>
                  <a:lnTo>
                    <a:pt x="5854" y="236"/>
                  </a:lnTo>
                  <a:lnTo>
                    <a:pt x="5823" y="244"/>
                  </a:lnTo>
                  <a:lnTo>
                    <a:pt x="5792" y="253"/>
                  </a:lnTo>
                  <a:lnTo>
                    <a:pt x="5761" y="263"/>
                  </a:lnTo>
                  <a:lnTo>
                    <a:pt x="5731" y="273"/>
                  </a:lnTo>
                  <a:lnTo>
                    <a:pt x="5701" y="284"/>
                  </a:lnTo>
                  <a:lnTo>
                    <a:pt x="5672" y="295"/>
                  </a:lnTo>
                  <a:lnTo>
                    <a:pt x="5643" y="307"/>
                  </a:lnTo>
                  <a:lnTo>
                    <a:pt x="5615" y="319"/>
                  </a:lnTo>
                  <a:lnTo>
                    <a:pt x="5589" y="332"/>
                  </a:lnTo>
                  <a:lnTo>
                    <a:pt x="5563" y="346"/>
                  </a:lnTo>
                  <a:lnTo>
                    <a:pt x="5538" y="360"/>
                  </a:lnTo>
                  <a:lnTo>
                    <a:pt x="5513" y="374"/>
                  </a:lnTo>
                  <a:lnTo>
                    <a:pt x="5490" y="389"/>
                  </a:lnTo>
                  <a:lnTo>
                    <a:pt x="5468" y="406"/>
                  </a:lnTo>
                  <a:lnTo>
                    <a:pt x="5448" y="423"/>
                  </a:lnTo>
                  <a:lnTo>
                    <a:pt x="5428" y="440"/>
                  </a:lnTo>
                  <a:lnTo>
                    <a:pt x="5410" y="457"/>
                  </a:lnTo>
                  <a:lnTo>
                    <a:pt x="5393" y="475"/>
                  </a:lnTo>
                  <a:lnTo>
                    <a:pt x="5377" y="494"/>
                  </a:lnTo>
                  <a:lnTo>
                    <a:pt x="5360" y="515"/>
                  </a:lnTo>
                  <a:lnTo>
                    <a:pt x="5339" y="539"/>
                  </a:lnTo>
                  <a:lnTo>
                    <a:pt x="5313" y="565"/>
                  </a:lnTo>
                  <a:lnTo>
                    <a:pt x="5283" y="595"/>
                  </a:lnTo>
                  <a:lnTo>
                    <a:pt x="5248" y="627"/>
                  </a:lnTo>
                  <a:lnTo>
                    <a:pt x="5211" y="662"/>
                  </a:lnTo>
                  <a:lnTo>
                    <a:pt x="5170" y="699"/>
                  </a:lnTo>
                  <a:lnTo>
                    <a:pt x="5125" y="737"/>
                  </a:lnTo>
                  <a:lnTo>
                    <a:pt x="5078" y="778"/>
                  </a:lnTo>
                  <a:lnTo>
                    <a:pt x="5028" y="819"/>
                  </a:lnTo>
                  <a:lnTo>
                    <a:pt x="4975" y="861"/>
                  </a:lnTo>
                  <a:lnTo>
                    <a:pt x="4921" y="905"/>
                  </a:lnTo>
                  <a:lnTo>
                    <a:pt x="4864" y="948"/>
                  </a:lnTo>
                  <a:lnTo>
                    <a:pt x="4806" y="991"/>
                  </a:lnTo>
                  <a:lnTo>
                    <a:pt x="4746" y="1036"/>
                  </a:lnTo>
                  <a:lnTo>
                    <a:pt x="4686" y="1079"/>
                  </a:lnTo>
                  <a:lnTo>
                    <a:pt x="4624" y="1122"/>
                  </a:lnTo>
                  <a:lnTo>
                    <a:pt x="4562" y="1163"/>
                  </a:lnTo>
                  <a:lnTo>
                    <a:pt x="4498" y="1203"/>
                  </a:lnTo>
                  <a:lnTo>
                    <a:pt x="4436" y="1243"/>
                  </a:lnTo>
                  <a:lnTo>
                    <a:pt x="4372" y="1280"/>
                  </a:lnTo>
                  <a:lnTo>
                    <a:pt x="4310" y="1315"/>
                  </a:lnTo>
                  <a:lnTo>
                    <a:pt x="4247" y="1347"/>
                  </a:lnTo>
                  <a:lnTo>
                    <a:pt x="4186" y="1378"/>
                  </a:lnTo>
                  <a:lnTo>
                    <a:pt x="4125" y="1405"/>
                  </a:lnTo>
                  <a:lnTo>
                    <a:pt x="4067" y="1429"/>
                  </a:lnTo>
                  <a:lnTo>
                    <a:pt x="4008" y="1450"/>
                  </a:lnTo>
                  <a:lnTo>
                    <a:pt x="3953" y="1467"/>
                  </a:lnTo>
                  <a:lnTo>
                    <a:pt x="3899" y="1481"/>
                  </a:lnTo>
                  <a:lnTo>
                    <a:pt x="3847" y="1490"/>
                  </a:lnTo>
                  <a:lnTo>
                    <a:pt x="3798" y="1495"/>
                  </a:lnTo>
                  <a:lnTo>
                    <a:pt x="3751" y="1494"/>
                  </a:lnTo>
                  <a:lnTo>
                    <a:pt x="3706" y="1491"/>
                  </a:lnTo>
                  <a:lnTo>
                    <a:pt x="3660" y="1488"/>
                  </a:lnTo>
                  <a:lnTo>
                    <a:pt x="3612" y="1487"/>
                  </a:lnTo>
                  <a:lnTo>
                    <a:pt x="3564" y="1485"/>
                  </a:lnTo>
                  <a:lnTo>
                    <a:pt x="3516" y="1485"/>
                  </a:lnTo>
                  <a:lnTo>
                    <a:pt x="3467" y="1486"/>
                  </a:lnTo>
                  <a:lnTo>
                    <a:pt x="3418" y="1487"/>
                  </a:lnTo>
                  <a:lnTo>
                    <a:pt x="3368" y="1489"/>
                  </a:lnTo>
                  <a:lnTo>
                    <a:pt x="3319" y="1491"/>
                  </a:lnTo>
                  <a:lnTo>
                    <a:pt x="3270" y="1495"/>
                  </a:lnTo>
                  <a:lnTo>
                    <a:pt x="3220" y="1500"/>
                  </a:lnTo>
                  <a:lnTo>
                    <a:pt x="3171" y="1505"/>
                  </a:lnTo>
                  <a:lnTo>
                    <a:pt x="3123" y="1511"/>
                  </a:lnTo>
                  <a:lnTo>
                    <a:pt x="3075" y="1518"/>
                  </a:lnTo>
                  <a:lnTo>
                    <a:pt x="3029" y="1527"/>
                  </a:lnTo>
                  <a:lnTo>
                    <a:pt x="2982" y="1536"/>
                  </a:lnTo>
                  <a:lnTo>
                    <a:pt x="2938" y="1546"/>
                  </a:lnTo>
                  <a:lnTo>
                    <a:pt x="2894" y="1557"/>
                  </a:lnTo>
                  <a:lnTo>
                    <a:pt x="2851" y="1569"/>
                  </a:lnTo>
                  <a:lnTo>
                    <a:pt x="2811" y="1582"/>
                  </a:lnTo>
                  <a:lnTo>
                    <a:pt x="2771" y="1597"/>
                  </a:lnTo>
                  <a:lnTo>
                    <a:pt x="2733" y="1612"/>
                  </a:lnTo>
                  <a:lnTo>
                    <a:pt x="2697" y="1628"/>
                  </a:lnTo>
                  <a:lnTo>
                    <a:pt x="2664" y="1646"/>
                  </a:lnTo>
                  <a:lnTo>
                    <a:pt x="2632" y="1664"/>
                  </a:lnTo>
                  <a:lnTo>
                    <a:pt x="2601" y="1684"/>
                  </a:lnTo>
                  <a:lnTo>
                    <a:pt x="2574" y="1705"/>
                  </a:lnTo>
                  <a:lnTo>
                    <a:pt x="2550" y="1727"/>
                  </a:lnTo>
                  <a:lnTo>
                    <a:pt x="2528" y="1750"/>
                  </a:lnTo>
                  <a:lnTo>
                    <a:pt x="2509" y="1775"/>
                  </a:lnTo>
                  <a:lnTo>
                    <a:pt x="2491" y="1800"/>
                  </a:lnTo>
                  <a:lnTo>
                    <a:pt x="2478" y="1827"/>
                  </a:lnTo>
                  <a:lnTo>
                    <a:pt x="2467" y="1854"/>
                  </a:lnTo>
                  <a:lnTo>
                    <a:pt x="2458" y="1878"/>
                  </a:lnTo>
                  <a:lnTo>
                    <a:pt x="2451" y="1902"/>
                  </a:lnTo>
                  <a:lnTo>
                    <a:pt x="2446" y="1924"/>
                  </a:lnTo>
                  <a:lnTo>
                    <a:pt x="2443" y="1946"/>
                  </a:lnTo>
                  <a:lnTo>
                    <a:pt x="2441" y="1968"/>
                  </a:lnTo>
                  <a:lnTo>
                    <a:pt x="2441" y="1988"/>
                  </a:lnTo>
                  <a:lnTo>
                    <a:pt x="2443" y="2008"/>
                  </a:lnTo>
                  <a:lnTo>
                    <a:pt x="2447" y="2027"/>
                  </a:lnTo>
                  <a:lnTo>
                    <a:pt x="2452" y="2046"/>
                  </a:lnTo>
                  <a:lnTo>
                    <a:pt x="2459" y="2065"/>
                  </a:lnTo>
                  <a:lnTo>
                    <a:pt x="2468" y="2084"/>
                  </a:lnTo>
                  <a:lnTo>
                    <a:pt x="2478" y="2102"/>
                  </a:lnTo>
                  <a:lnTo>
                    <a:pt x="2489" y="2120"/>
                  </a:lnTo>
                  <a:lnTo>
                    <a:pt x="2502" y="2138"/>
                  </a:lnTo>
                  <a:lnTo>
                    <a:pt x="2518" y="2157"/>
                  </a:lnTo>
                  <a:lnTo>
                    <a:pt x="2533" y="2175"/>
                  </a:lnTo>
                  <a:lnTo>
                    <a:pt x="2550" y="2195"/>
                  </a:lnTo>
                  <a:lnTo>
                    <a:pt x="2569" y="2215"/>
                  </a:lnTo>
                  <a:lnTo>
                    <a:pt x="2588" y="2234"/>
                  </a:lnTo>
                  <a:lnTo>
                    <a:pt x="2632" y="2276"/>
                  </a:lnTo>
                  <a:lnTo>
                    <a:pt x="2679" y="2322"/>
                  </a:lnTo>
                  <a:lnTo>
                    <a:pt x="2731" y="2372"/>
                  </a:lnTo>
                  <a:lnTo>
                    <a:pt x="2787" y="2426"/>
                  </a:lnTo>
                  <a:lnTo>
                    <a:pt x="2846" y="2486"/>
                  </a:lnTo>
                  <a:lnTo>
                    <a:pt x="2909" y="2553"/>
                  </a:lnTo>
                  <a:lnTo>
                    <a:pt x="2976" y="2626"/>
                  </a:lnTo>
                  <a:lnTo>
                    <a:pt x="3050" y="2709"/>
                  </a:lnTo>
                  <a:lnTo>
                    <a:pt x="3089" y="2753"/>
                  </a:lnTo>
                  <a:lnTo>
                    <a:pt x="3128" y="2800"/>
                  </a:lnTo>
                  <a:lnTo>
                    <a:pt x="3169" y="2848"/>
                  </a:lnTo>
                  <a:lnTo>
                    <a:pt x="3210" y="2897"/>
                  </a:lnTo>
                  <a:lnTo>
                    <a:pt x="3250" y="2948"/>
                  </a:lnTo>
                  <a:lnTo>
                    <a:pt x="3291" y="2999"/>
                  </a:lnTo>
                  <a:lnTo>
                    <a:pt x="3330" y="3052"/>
                  </a:lnTo>
                  <a:lnTo>
                    <a:pt x="3368" y="3104"/>
                  </a:lnTo>
                  <a:lnTo>
                    <a:pt x="3406" y="3158"/>
                  </a:lnTo>
                  <a:lnTo>
                    <a:pt x="3441" y="3211"/>
                  </a:lnTo>
                  <a:lnTo>
                    <a:pt x="3475" y="3264"/>
                  </a:lnTo>
                  <a:lnTo>
                    <a:pt x="3506" y="3318"/>
                  </a:lnTo>
                  <a:lnTo>
                    <a:pt x="3536" y="3370"/>
                  </a:lnTo>
                  <a:lnTo>
                    <a:pt x="3562" y="3423"/>
                  </a:lnTo>
                  <a:lnTo>
                    <a:pt x="3585" y="3474"/>
                  </a:lnTo>
                  <a:lnTo>
                    <a:pt x="3604" y="3525"/>
                  </a:lnTo>
                  <a:lnTo>
                    <a:pt x="3620" y="3574"/>
                  </a:lnTo>
                  <a:lnTo>
                    <a:pt x="3631" y="3621"/>
                  </a:lnTo>
                  <a:lnTo>
                    <a:pt x="3640" y="3667"/>
                  </a:lnTo>
                  <a:lnTo>
                    <a:pt x="3642" y="3711"/>
                  </a:lnTo>
                  <a:lnTo>
                    <a:pt x="3640" y="3754"/>
                  </a:lnTo>
                  <a:lnTo>
                    <a:pt x="3632" y="3793"/>
                  </a:lnTo>
                  <a:lnTo>
                    <a:pt x="3618" y="3830"/>
                  </a:lnTo>
                  <a:lnTo>
                    <a:pt x="3599" y="3866"/>
                  </a:lnTo>
                  <a:lnTo>
                    <a:pt x="3574" y="3897"/>
                  </a:lnTo>
                  <a:lnTo>
                    <a:pt x="3543" y="3926"/>
                  </a:lnTo>
                  <a:lnTo>
                    <a:pt x="3503" y="3951"/>
                  </a:lnTo>
                  <a:lnTo>
                    <a:pt x="3458" y="3973"/>
                  </a:lnTo>
                  <a:lnTo>
                    <a:pt x="3409" y="3992"/>
                  </a:lnTo>
                  <a:lnTo>
                    <a:pt x="3362" y="4007"/>
                  </a:lnTo>
                  <a:lnTo>
                    <a:pt x="3319" y="4019"/>
                  </a:lnTo>
                  <a:lnTo>
                    <a:pt x="3279" y="4028"/>
                  </a:lnTo>
                  <a:lnTo>
                    <a:pt x="3240" y="4034"/>
                  </a:lnTo>
                  <a:lnTo>
                    <a:pt x="3205" y="4037"/>
                  </a:lnTo>
                  <a:lnTo>
                    <a:pt x="3172" y="4037"/>
                  </a:lnTo>
                  <a:lnTo>
                    <a:pt x="3141" y="4035"/>
                  </a:lnTo>
                  <a:lnTo>
                    <a:pt x="3111" y="4031"/>
                  </a:lnTo>
                  <a:lnTo>
                    <a:pt x="3084" y="4025"/>
                  </a:lnTo>
                  <a:lnTo>
                    <a:pt x="3058" y="4017"/>
                  </a:lnTo>
                  <a:lnTo>
                    <a:pt x="3034" y="4007"/>
                  </a:lnTo>
                  <a:lnTo>
                    <a:pt x="3011" y="3996"/>
                  </a:lnTo>
                  <a:lnTo>
                    <a:pt x="2988" y="3983"/>
                  </a:lnTo>
                  <a:lnTo>
                    <a:pt x="2968" y="3969"/>
                  </a:lnTo>
                  <a:lnTo>
                    <a:pt x="2948" y="3954"/>
                  </a:lnTo>
                  <a:lnTo>
                    <a:pt x="2929" y="3938"/>
                  </a:lnTo>
                  <a:lnTo>
                    <a:pt x="2911" y="3921"/>
                  </a:lnTo>
                  <a:lnTo>
                    <a:pt x="2894" y="3904"/>
                  </a:lnTo>
                  <a:lnTo>
                    <a:pt x="2876" y="3886"/>
                  </a:lnTo>
                  <a:lnTo>
                    <a:pt x="2842" y="3849"/>
                  </a:lnTo>
                  <a:lnTo>
                    <a:pt x="2808" y="3813"/>
                  </a:lnTo>
                  <a:lnTo>
                    <a:pt x="2790" y="3796"/>
                  </a:lnTo>
                  <a:lnTo>
                    <a:pt x="2772" y="3779"/>
                  </a:lnTo>
                  <a:lnTo>
                    <a:pt x="2752" y="3763"/>
                  </a:lnTo>
                  <a:lnTo>
                    <a:pt x="2733" y="3748"/>
                  </a:lnTo>
                  <a:lnTo>
                    <a:pt x="2713" y="3733"/>
                  </a:lnTo>
                  <a:lnTo>
                    <a:pt x="2691" y="3720"/>
                  </a:lnTo>
                  <a:lnTo>
                    <a:pt x="2669" y="3709"/>
                  </a:lnTo>
                  <a:lnTo>
                    <a:pt x="2645" y="3699"/>
                  </a:lnTo>
                  <a:lnTo>
                    <a:pt x="2618" y="3689"/>
                  </a:lnTo>
                  <a:lnTo>
                    <a:pt x="2590" y="3681"/>
                  </a:lnTo>
                  <a:lnTo>
                    <a:pt x="2559" y="3674"/>
                  </a:lnTo>
                  <a:lnTo>
                    <a:pt x="2526" y="3667"/>
                  </a:lnTo>
                  <a:lnTo>
                    <a:pt x="2490" y="3662"/>
                  </a:lnTo>
                  <a:lnTo>
                    <a:pt x="2453" y="3657"/>
                  </a:lnTo>
                  <a:lnTo>
                    <a:pt x="2414" y="3654"/>
                  </a:lnTo>
                  <a:lnTo>
                    <a:pt x="2373" y="3652"/>
                  </a:lnTo>
                  <a:lnTo>
                    <a:pt x="2331" y="3651"/>
                  </a:lnTo>
                  <a:lnTo>
                    <a:pt x="2287" y="3651"/>
                  </a:lnTo>
                  <a:lnTo>
                    <a:pt x="2242" y="3652"/>
                  </a:lnTo>
                  <a:lnTo>
                    <a:pt x="2196" y="3654"/>
                  </a:lnTo>
                  <a:lnTo>
                    <a:pt x="2149" y="3657"/>
                  </a:lnTo>
                  <a:lnTo>
                    <a:pt x="2100" y="3662"/>
                  </a:lnTo>
                  <a:lnTo>
                    <a:pt x="2051" y="3667"/>
                  </a:lnTo>
                  <a:lnTo>
                    <a:pt x="2002" y="3673"/>
                  </a:lnTo>
                  <a:lnTo>
                    <a:pt x="1952" y="3681"/>
                  </a:lnTo>
                  <a:lnTo>
                    <a:pt x="1902" y="3690"/>
                  </a:lnTo>
                  <a:lnTo>
                    <a:pt x="1850" y="3700"/>
                  </a:lnTo>
                  <a:lnTo>
                    <a:pt x="1800" y="3711"/>
                  </a:lnTo>
                  <a:lnTo>
                    <a:pt x="1750" y="3723"/>
                  </a:lnTo>
                  <a:lnTo>
                    <a:pt x="1699" y="3736"/>
                  </a:lnTo>
                  <a:lnTo>
                    <a:pt x="1649" y="3751"/>
                  </a:lnTo>
                  <a:lnTo>
                    <a:pt x="1599" y="3767"/>
                  </a:lnTo>
                  <a:lnTo>
                    <a:pt x="1550" y="3784"/>
                  </a:lnTo>
                  <a:lnTo>
                    <a:pt x="1502" y="3801"/>
                  </a:lnTo>
                  <a:lnTo>
                    <a:pt x="1454" y="3820"/>
                  </a:lnTo>
                  <a:lnTo>
                    <a:pt x="1408" y="3841"/>
                  </a:lnTo>
                  <a:lnTo>
                    <a:pt x="1362" y="3862"/>
                  </a:lnTo>
                  <a:lnTo>
                    <a:pt x="1318" y="3885"/>
                  </a:lnTo>
                  <a:lnTo>
                    <a:pt x="1275" y="3909"/>
                  </a:lnTo>
                  <a:lnTo>
                    <a:pt x="1234" y="3934"/>
                  </a:lnTo>
                  <a:lnTo>
                    <a:pt x="1153" y="3983"/>
                  </a:lnTo>
                  <a:lnTo>
                    <a:pt x="1074" y="4032"/>
                  </a:lnTo>
                  <a:lnTo>
                    <a:pt x="1037" y="4056"/>
                  </a:lnTo>
                  <a:lnTo>
                    <a:pt x="1000" y="4080"/>
                  </a:lnTo>
                  <a:lnTo>
                    <a:pt x="964" y="4105"/>
                  </a:lnTo>
                  <a:lnTo>
                    <a:pt x="931" y="4129"/>
                  </a:lnTo>
                  <a:lnTo>
                    <a:pt x="899" y="4153"/>
                  </a:lnTo>
                  <a:lnTo>
                    <a:pt x="869" y="4176"/>
                  </a:lnTo>
                  <a:lnTo>
                    <a:pt x="839" y="4200"/>
                  </a:lnTo>
                  <a:lnTo>
                    <a:pt x="812" y="4225"/>
                  </a:lnTo>
                  <a:lnTo>
                    <a:pt x="788" y="4248"/>
                  </a:lnTo>
                  <a:lnTo>
                    <a:pt x="765" y="4272"/>
                  </a:lnTo>
                  <a:lnTo>
                    <a:pt x="745" y="4296"/>
                  </a:lnTo>
                  <a:lnTo>
                    <a:pt x="727" y="4320"/>
                  </a:lnTo>
                  <a:lnTo>
                    <a:pt x="712" y="4345"/>
                  </a:lnTo>
                  <a:lnTo>
                    <a:pt x="699" y="4369"/>
                  </a:lnTo>
                  <a:lnTo>
                    <a:pt x="690" y="4393"/>
                  </a:lnTo>
                  <a:lnTo>
                    <a:pt x="683" y="4417"/>
                  </a:lnTo>
                  <a:lnTo>
                    <a:pt x="679" y="4442"/>
                  </a:lnTo>
                  <a:lnTo>
                    <a:pt x="679" y="4467"/>
                  </a:lnTo>
                  <a:lnTo>
                    <a:pt x="682" y="4492"/>
                  </a:lnTo>
                  <a:lnTo>
                    <a:pt x="688" y="4517"/>
                  </a:lnTo>
                  <a:lnTo>
                    <a:pt x="698" y="4542"/>
                  </a:lnTo>
                  <a:lnTo>
                    <a:pt x="712" y="4568"/>
                  </a:lnTo>
                  <a:lnTo>
                    <a:pt x="730" y="4595"/>
                  </a:lnTo>
                  <a:lnTo>
                    <a:pt x="752" y="4621"/>
                  </a:lnTo>
                  <a:lnTo>
                    <a:pt x="778" y="4647"/>
                  </a:lnTo>
                  <a:lnTo>
                    <a:pt x="808" y="4673"/>
                  </a:lnTo>
                  <a:lnTo>
                    <a:pt x="842" y="4700"/>
                  </a:lnTo>
                  <a:lnTo>
                    <a:pt x="882" y="4728"/>
                  </a:lnTo>
                  <a:lnTo>
                    <a:pt x="922" y="4755"/>
                  </a:lnTo>
                  <a:lnTo>
                    <a:pt x="964" y="4782"/>
                  </a:lnTo>
                  <a:lnTo>
                    <a:pt x="1007" y="4809"/>
                  </a:lnTo>
                  <a:lnTo>
                    <a:pt x="1049" y="4836"/>
                  </a:lnTo>
                  <a:lnTo>
                    <a:pt x="1093" y="4862"/>
                  </a:lnTo>
                  <a:lnTo>
                    <a:pt x="1138" y="4887"/>
                  </a:lnTo>
                  <a:lnTo>
                    <a:pt x="1184" y="4912"/>
                  </a:lnTo>
                  <a:lnTo>
                    <a:pt x="1230" y="4935"/>
                  </a:lnTo>
                  <a:lnTo>
                    <a:pt x="1277" y="4960"/>
                  </a:lnTo>
                  <a:lnTo>
                    <a:pt x="1325" y="4982"/>
                  </a:lnTo>
                  <a:lnTo>
                    <a:pt x="1374" y="5004"/>
                  </a:lnTo>
                  <a:lnTo>
                    <a:pt x="1423" y="5024"/>
                  </a:lnTo>
                  <a:lnTo>
                    <a:pt x="1472" y="5044"/>
                  </a:lnTo>
                  <a:lnTo>
                    <a:pt x="1524" y="5064"/>
                  </a:lnTo>
                  <a:lnTo>
                    <a:pt x="1575" y="5082"/>
                  </a:lnTo>
                  <a:lnTo>
                    <a:pt x="1628" y="5098"/>
                  </a:lnTo>
                  <a:lnTo>
                    <a:pt x="1680" y="5113"/>
                  </a:lnTo>
                  <a:lnTo>
                    <a:pt x="1733" y="5128"/>
                  </a:lnTo>
                  <a:lnTo>
                    <a:pt x="1788" y="5140"/>
                  </a:lnTo>
                  <a:lnTo>
                    <a:pt x="1843" y="5152"/>
                  </a:lnTo>
                  <a:lnTo>
                    <a:pt x="1899" y="5162"/>
                  </a:lnTo>
                  <a:lnTo>
                    <a:pt x="1955" y="5170"/>
                  </a:lnTo>
                  <a:lnTo>
                    <a:pt x="2013" y="5177"/>
                  </a:lnTo>
                  <a:lnTo>
                    <a:pt x="2070" y="5183"/>
                  </a:lnTo>
                  <a:lnTo>
                    <a:pt x="2129" y="5187"/>
                  </a:lnTo>
                  <a:lnTo>
                    <a:pt x="2188" y="5189"/>
                  </a:lnTo>
                  <a:lnTo>
                    <a:pt x="2247" y="5189"/>
                  </a:lnTo>
                  <a:lnTo>
                    <a:pt x="2308" y="5187"/>
                  </a:lnTo>
                  <a:lnTo>
                    <a:pt x="2369" y="5183"/>
                  </a:lnTo>
                  <a:lnTo>
                    <a:pt x="2431" y="5176"/>
                  </a:lnTo>
                  <a:lnTo>
                    <a:pt x="2493" y="5169"/>
                  </a:lnTo>
                  <a:lnTo>
                    <a:pt x="2557" y="5159"/>
                  </a:lnTo>
                  <a:lnTo>
                    <a:pt x="2567" y="5156"/>
                  </a:lnTo>
                  <a:lnTo>
                    <a:pt x="2596" y="5147"/>
                  </a:lnTo>
                  <a:lnTo>
                    <a:pt x="2643" y="5135"/>
                  </a:lnTo>
                  <a:lnTo>
                    <a:pt x="2703" y="5119"/>
                  </a:lnTo>
                  <a:lnTo>
                    <a:pt x="2774" y="5101"/>
                  </a:lnTo>
                  <a:lnTo>
                    <a:pt x="2853" y="5082"/>
                  </a:lnTo>
                  <a:lnTo>
                    <a:pt x="2939" y="5063"/>
                  </a:lnTo>
                  <a:lnTo>
                    <a:pt x="3028" y="5044"/>
                  </a:lnTo>
                  <a:lnTo>
                    <a:pt x="3073" y="5035"/>
                  </a:lnTo>
                  <a:lnTo>
                    <a:pt x="3117" y="5028"/>
                  </a:lnTo>
                  <a:lnTo>
                    <a:pt x="3162" y="5021"/>
                  </a:lnTo>
                  <a:lnTo>
                    <a:pt x="3205" y="5015"/>
                  </a:lnTo>
                  <a:lnTo>
                    <a:pt x="3246" y="5010"/>
                  </a:lnTo>
                  <a:lnTo>
                    <a:pt x="3287" y="5006"/>
                  </a:lnTo>
                  <a:lnTo>
                    <a:pt x="3326" y="5003"/>
                  </a:lnTo>
                  <a:lnTo>
                    <a:pt x="3362" y="5002"/>
                  </a:lnTo>
                  <a:lnTo>
                    <a:pt x="3397" y="5003"/>
                  </a:lnTo>
                  <a:lnTo>
                    <a:pt x="3428" y="5005"/>
                  </a:lnTo>
                  <a:lnTo>
                    <a:pt x="3455" y="5009"/>
                  </a:lnTo>
                  <a:lnTo>
                    <a:pt x="3480" y="5015"/>
                  </a:lnTo>
                  <a:lnTo>
                    <a:pt x="3500" y="5023"/>
                  </a:lnTo>
                  <a:lnTo>
                    <a:pt x="3517" y="5033"/>
                  </a:lnTo>
                  <a:lnTo>
                    <a:pt x="3529" y="5046"/>
                  </a:lnTo>
                  <a:lnTo>
                    <a:pt x="3536" y="5062"/>
                  </a:lnTo>
                  <a:lnTo>
                    <a:pt x="3540" y="5077"/>
                  </a:lnTo>
                  <a:lnTo>
                    <a:pt x="3541" y="5092"/>
                  </a:lnTo>
                  <a:lnTo>
                    <a:pt x="3540" y="5106"/>
                  </a:lnTo>
                  <a:lnTo>
                    <a:pt x="3537" y="5118"/>
                  </a:lnTo>
                  <a:lnTo>
                    <a:pt x="3532" y="5130"/>
                  </a:lnTo>
                  <a:lnTo>
                    <a:pt x="3526" y="5141"/>
                  </a:lnTo>
                  <a:lnTo>
                    <a:pt x="3518" y="5151"/>
                  </a:lnTo>
                  <a:lnTo>
                    <a:pt x="3508" y="5161"/>
                  </a:lnTo>
                  <a:lnTo>
                    <a:pt x="3498" y="5170"/>
                  </a:lnTo>
                  <a:lnTo>
                    <a:pt x="3486" y="5178"/>
                  </a:lnTo>
                  <a:lnTo>
                    <a:pt x="3474" y="5187"/>
                  </a:lnTo>
                  <a:lnTo>
                    <a:pt x="3461" y="5195"/>
                  </a:lnTo>
                  <a:lnTo>
                    <a:pt x="3433" y="5209"/>
                  </a:lnTo>
                  <a:lnTo>
                    <a:pt x="3404" y="5223"/>
                  </a:lnTo>
                  <a:lnTo>
                    <a:pt x="3374" y="5237"/>
                  </a:lnTo>
                  <a:lnTo>
                    <a:pt x="3346" y="5251"/>
                  </a:lnTo>
                  <a:lnTo>
                    <a:pt x="3333" y="5259"/>
                  </a:lnTo>
                  <a:lnTo>
                    <a:pt x="3321" y="5267"/>
                  </a:lnTo>
                  <a:lnTo>
                    <a:pt x="3310" y="5275"/>
                  </a:lnTo>
                  <a:lnTo>
                    <a:pt x="3299" y="5284"/>
                  </a:lnTo>
                  <a:lnTo>
                    <a:pt x="3290" y="5294"/>
                  </a:lnTo>
                  <a:lnTo>
                    <a:pt x="3282" y="5305"/>
                  </a:lnTo>
                  <a:lnTo>
                    <a:pt x="3276" y="5316"/>
                  </a:lnTo>
                  <a:lnTo>
                    <a:pt x="3271" y="5328"/>
                  </a:lnTo>
                  <a:lnTo>
                    <a:pt x="3268" y="5340"/>
                  </a:lnTo>
                  <a:lnTo>
                    <a:pt x="3267" y="5354"/>
                  </a:lnTo>
                  <a:lnTo>
                    <a:pt x="3269" y="5369"/>
                  </a:lnTo>
                  <a:lnTo>
                    <a:pt x="3272" y="5384"/>
                  </a:lnTo>
                  <a:lnTo>
                    <a:pt x="3276" y="5401"/>
                  </a:lnTo>
                  <a:lnTo>
                    <a:pt x="3281" y="5417"/>
                  </a:lnTo>
                  <a:lnTo>
                    <a:pt x="3288" y="5434"/>
                  </a:lnTo>
                  <a:lnTo>
                    <a:pt x="3294" y="5450"/>
                  </a:lnTo>
                  <a:lnTo>
                    <a:pt x="3310" y="5481"/>
                  </a:lnTo>
                  <a:lnTo>
                    <a:pt x="3326" y="5511"/>
                  </a:lnTo>
                  <a:lnTo>
                    <a:pt x="3341" y="5542"/>
                  </a:lnTo>
                  <a:lnTo>
                    <a:pt x="3356" y="5572"/>
                  </a:lnTo>
                  <a:lnTo>
                    <a:pt x="3362" y="5586"/>
                  </a:lnTo>
                  <a:lnTo>
                    <a:pt x="3367" y="5601"/>
                  </a:lnTo>
                  <a:lnTo>
                    <a:pt x="3371" y="5615"/>
                  </a:lnTo>
                  <a:lnTo>
                    <a:pt x="3374" y="5629"/>
                  </a:lnTo>
                  <a:lnTo>
                    <a:pt x="3376" y="5643"/>
                  </a:lnTo>
                  <a:lnTo>
                    <a:pt x="3376" y="5657"/>
                  </a:lnTo>
                  <a:lnTo>
                    <a:pt x="3374" y="5672"/>
                  </a:lnTo>
                  <a:lnTo>
                    <a:pt x="3370" y="5686"/>
                  </a:lnTo>
                  <a:lnTo>
                    <a:pt x="3365" y="5700"/>
                  </a:lnTo>
                  <a:lnTo>
                    <a:pt x="3357" y="5713"/>
                  </a:lnTo>
                  <a:lnTo>
                    <a:pt x="3347" y="5727"/>
                  </a:lnTo>
                  <a:lnTo>
                    <a:pt x="3335" y="5740"/>
                  </a:lnTo>
                  <a:lnTo>
                    <a:pt x="3320" y="5753"/>
                  </a:lnTo>
                  <a:lnTo>
                    <a:pt x="3302" y="5766"/>
                  </a:lnTo>
                  <a:lnTo>
                    <a:pt x="3281" y="5781"/>
                  </a:lnTo>
                  <a:lnTo>
                    <a:pt x="3256" y="5794"/>
                  </a:lnTo>
                  <a:lnTo>
                    <a:pt x="3228" y="5807"/>
                  </a:lnTo>
                  <a:lnTo>
                    <a:pt x="3198" y="5819"/>
                  </a:lnTo>
                  <a:lnTo>
                    <a:pt x="3163" y="5832"/>
                  </a:lnTo>
                  <a:lnTo>
                    <a:pt x="3124" y="5845"/>
                  </a:lnTo>
                  <a:lnTo>
                    <a:pt x="3082" y="5859"/>
                  </a:lnTo>
                  <a:lnTo>
                    <a:pt x="3037" y="5871"/>
                  </a:lnTo>
                  <a:lnTo>
                    <a:pt x="2988" y="5884"/>
                  </a:lnTo>
                  <a:lnTo>
                    <a:pt x="2938" y="5896"/>
                  </a:lnTo>
                  <a:lnTo>
                    <a:pt x="2831" y="5921"/>
                  </a:lnTo>
                  <a:lnTo>
                    <a:pt x="2719" y="5944"/>
                  </a:lnTo>
                  <a:lnTo>
                    <a:pt x="2603" y="5968"/>
                  </a:lnTo>
                  <a:lnTo>
                    <a:pt x="2485" y="5992"/>
                  </a:lnTo>
                  <a:lnTo>
                    <a:pt x="2426" y="6005"/>
                  </a:lnTo>
                  <a:lnTo>
                    <a:pt x="2367" y="6018"/>
                  </a:lnTo>
                  <a:lnTo>
                    <a:pt x="2310" y="6033"/>
                  </a:lnTo>
                  <a:lnTo>
                    <a:pt x="2253" y="6047"/>
                  </a:lnTo>
                  <a:lnTo>
                    <a:pt x="2197" y="6063"/>
                  </a:lnTo>
                  <a:lnTo>
                    <a:pt x="2143" y="6079"/>
                  </a:lnTo>
                  <a:lnTo>
                    <a:pt x="2089" y="6096"/>
                  </a:lnTo>
                  <a:lnTo>
                    <a:pt x="2039" y="6113"/>
                  </a:lnTo>
                  <a:lnTo>
                    <a:pt x="1990" y="6132"/>
                  </a:lnTo>
                  <a:lnTo>
                    <a:pt x="1944" y="6153"/>
                  </a:lnTo>
                  <a:lnTo>
                    <a:pt x="1901" y="6174"/>
                  </a:lnTo>
                  <a:lnTo>
                    <a:pt x="1860" y="6197"/>
                  </a:lnTo>
                  <a:lnTo>
                    <a:pt x="1823" y="6220"/>
                  </a:lnTo>
                  <a:lnTo>
                    <a:pt x="1789" y="6246"/>
                  </a:lnTo>
                  <a:lnTo>
                    <a:pt x="1759" y="6273"/>
                  </a:lnTo>
                  <a:lnTo>
                    <a:pt x="1733" y="6301"/>
                  </a:lnTo>
                  <a:lnTo>
                    <a:pt x="1711" y="6331"/>
                  </a:lnTo>
                  <a:lnTo>
                    <a:pt x="1694" y="6363"/>
                  </a:lnTo>
                  <a:lnTo>
                    <a:pt x="1682" y="6398"/>
                  </a:lnTo>
                  <a:lnTo>
                    <a:pt x="1675" y="6433"/>
                  </a:lnTo>
                  <a:lnTo>
                    <a:pt x="1677" y="6433"/>
                  </a:lnTo>
                  <a:lnTo>
                    <a:pt x="1682" y="6432"/>
                  </a:lnTo>
                  <a:lnTo>
                    <a:pt x="1688" y="6432"/>
                  </a:lnTo>
                  <a:lnTo>
                    <a:pt x="1694" y="6432"/>
                  </a:lnTo>
                  <a:lnTo>
                    <a:pt x="1695" y="6433"/>
                  </a:lnTo>
                  <a:lnTo>
                    <a:pt x="1696" y="6434"/>
                  </a:lnTo>
                  <a:lnTo>
                    <a:pt x="1696" y="6435"/>
                  </a:lnTo>
                  <a:lnTo>
                    <a:pt x="1695" y="6436"/>
                  </a:lnTo>
                  <a:lnTo>
                    <a:pt x="1687" y="6441"/>
                  </a:lnTo>
                  <a:lnTo>
                    <a:pt x="1671" y="6448"/>
                  </a:lnTo>
                  <a:lnTo>
                    <a:pt x="1646" y="6457"/>
                  </a:lnTo>
                  <a:lnTo>
                    <a:pt x="1607" y="6470"/>
                  </a:lnTo>
                  <a:lnTo>
                    <a:pt x="1556" y="6487"/>
                  </a:lnTo>
                  <a:lnTo>
                    <a:pt x="1488" y="6508"/>
                  </a:lnTo>
                  <a:lnTo>
                    <a:pt x="1405" y="6533"/>
                  </a:lnTo>
                  <a:lnTo>
                    <a:pt x="1301" y="6563"/>
                  </a:lnTo>
                  <a:lnTo>
                    <a:pt x="1176" y="6597"/>
                  </a:lnTo>
                  <a:lnTo>
                    <a:pt x="1029" y="6639"/>
                  </a:lnTo>
                  <a:lnTo>
                    <a:pt x="875" y="6682"/>
                  </a:lnTo>
                  <a:lnTo>
                    <a:pt x="734" y="6721"/>
                  </a:lnTo>
                  <a:lnTo>
                    <a:pt x="669" y="6742"/>
                  </a:lnTo>
                  <a:lnTo>
                    <a:pt x="607" y="6760"/>
                  </a:lnTo>
                  <a:lnTo>
                    <a:pt x="548" y="6779"/>
                  </a:lnTo>
                  <a:lnTo>
                    <a:pt x="493" y="6797"/>
                  </a:lnTo>
                  <a:lnTo>
                    <a:pt x="440" y="6815"/>
                  </a:lnTo>
                  <a:lnTo>
                    <a:pt x="392" y="6832"/>
                  </a:lnTo>
                  <a:lnTo>
                    <a:pt x="345" y="6850"/>
                  </a:lnTo>
                  <a:lnTo>
                    <a:pt x="304" y="6868"/>
                  </a:lnTo>
                  <a:lnTo>
                    <a:pt x="265" y="6886"/>
                  </a:lnTo>
                  <a:lnTo>
                    <a:pt x="228" y="6903"/>
                  </a:lnTo>
                  <a:lnTo>
                    <a:pt x="196" y="6921"/>
                  </a:lnTo>
                  <a:lnTo>
                    <a:pt x="168" y="6939"/>
                  </a:lnTo>
                  <a:lnTo>
                    <a:pt x="142" y="6957"/>
                  </a:lnTo>
                  <a:lnTo>
                    <a:pt x="120" y="6975"/>
                  </a:lnTo>
                  <a:lnTo>
                    <a:pt x="100" y="6995"/>
                  </a:lnTo>
                  <a:lnTo>
                    <a:pt x="85" y="7015"/>
                  </a:lnTo>
                  <a:lnTo>
                    <a:pt x="73" y="7034"/>
                  </a:lnTo>
                  <a:lnTo>
                    <a:pt x="64" y="7055"/>
                  </a:lnTo>
                  <a:lnTo>
                    <a:pt x="59" y="7076"/>
                  </a:lnTo>
                  <a:lnTo>
                    <a:pt x="57" y="7098"/>
                  </a:lnTo>
                  <a:lnTo>
                    <a:pt x="59" y="7121"/>
                  </a:lnTo>
                  <a:lnTo>
                    <a:pt x="63" y="7144"/>
                  </a:lnTo>
                  <a:lnTo>
                    <a:pt x="72" y="7168"/>
                  </a:lnTo>
                  <a:lnTo>
                    <a:pt x="84" y="7193"/>
                  </a:lnTo>
                  <a:lnTo>
                    <a:pt x="99" y="7220"/>
                  </a:lnTo>
                  <a:lnTo>
                    <a:pt x="119" y="7247"/>
                  </a:lnTo>
                  <a:lnTo>
                    <a:pt x="141" y="7276"/>
                  </a:lnTo>
                  <a:lnTo>
                    <a:pt x="166" y="7305"/>
                  </a:lnTo>
                  <a:lnTo>
                    <a:pt x="177" y="7311"/>
                  </a:lnTo>
                  <a:lnTo>
                    <a:pt x="209" y="7329"/>
                  </a:lnTo>
                  <a:lnTo>
                    <a:pt x="259" y="7356"/>
                  </a:lnTo>
                  <a:lnTo>
                    <a:pt x="324" y="7387"/>
                  </a:lnTo>
                  <a:lnTo>
                    <a:pt x="363" y="7405"/>
                  </a:lnTo>
                  <a:lnTo>
                    <a:pt x="403" y="7422"/>
                  </a:lnTo>
                  <a:lnTo>
                    <a:pt x="446" y="7440"/>
                  </a:lnTo>
                  <a:lnTo>
                    <a:pt x="493" y="7459"/>
                  </a:lnTo>
                  <a:lnTo>
                    <a:pt x="541" y="7476"/>
                  </a:lnTo>
                  <a:lnTo>
                    <a:pt x="591" y="7492"/>
                  </a:lnTo>
                  <a:lnTo>
                    <a:pt x="643" y="7507"/>
                  </a:lnTo>
                  <a:lnTo>
                    <a:pt x="695" y="7521"/>
                  </a:lnTo>
                  <a:lnTo>
                    <a:pt x="690" y="7526"/>
                  </a:lnTo>
                  <a:lnTo>
                    <a:pt x="677" y="7540"/>
                  </a:lnTo>
                  <a:lnTo>
                    <a:pt x="658" y="7563"/>
                  </a:lnTo>
                  <a:lnTo>
                    <a:pt x="633" y="7595"/>
                  </a:lnTo>
                  <a:lnTo>
                    <a:pt x="620" y="7613"/>
                  </a:lnTo>
                  <a:lnTo>
                    <a:pt x="606" y="7632"/>
                  </a:lnTo>
                  <a:lnTo>
                    <a:pt x="592" y="7653"/>
                  </a:lnTo>
                  <a:lnTo>
                    <a:pt x="578" y="7676"/>
                  </a:lnTo>
                  <a:lnTo>
                    <a:pt x="565" y="7700"/>
                  </a:lnTo>
                  <a:lnTo>
                    <a:pt x="552" y="7725"/>
                  </a:lnTo>
                  <a:lnTo>
                    <a:pt x="540" y="7751"/>
                  </a:lnTo>
                  <a:lnTo>
                    <a:pt x="529" y="7778"/>
                  </a:lnTo>
                  <a:lnTo>
                    <a:pt x="519" y="7806"/>
                  </a:lnTo>
                  <a:lnTo>
                    <a:pt x="511" y="7835"/>
                  </a:lnTo>
                  <a:lnTo>
                    <a:pt x="504" y="7864"/>
                  </a:lnTo>
                  <a:lnTo>
                    <a:pt x="500" y="7894"/>
                  </a:lnTo>
                  <a:lnTo>
                    <a:pt x="497" y="7924"/>
                  </a:lnTo>
                  <a:lnTo>
                    <a:pt x="497" y="7955"/>
                  </a:lnTo>
                  <a:lnTo>
                    <a:pt x="500" y="7986"/>
                  </a:lnTo>
                  <a:lnTo>
                    <a:pt x="506" y="8017"/>
                  </a:lnTo>
                  <a:lnTo>
                    <a:pt x="514" y="8048"/>
                  </a:lnTo>
                  <a:lnTo>
                    <a:pt x="526" y="8079"/>
                  </a:lnTo>
                  <a:lnTo>
                    <a:pt x="542" y="8110"/>
                  </a:lnTo>
                  <a:lnTo>
                    <a:pt x="562" y="8140"/>
                  </a:lnTo>
                  <a:lnTo>
                    <a:pt x="586" y="8169"/>
                  </a:lnTo>
                  <a:lnTo>
                    <a:pt x="615" y="8199"/>
                  </a:lnTo>
                  <a:lnTo>
                    <a:pt x="648" y="8228"/>
                  </a:lnTo>
                  <a:lnTo>
                    <a:pt x="685" y="8256"/>
                  </a:lnTo>
                  <a:lnTo>
                    <a:pt x="706" y="8257"/>
                  </a:lnTo>
                  <a:lnTo>
                    <a:pt x="764" y="8262"/>
                  </a:lnTo>
                  <a:lnTo>
                    <a:pt x="846" y="8268"/>
                  </a:lnTo>
                  <a:lnTo>
                    <a:pt x="947" y="8276"/>
                  </a:lnTo>
                  <a:lnTo>
                    <a:pt x="1057" y="8285"/>
                  </a:lnTo>
                  <a:lnTo>
                    <a:pt x="1165" y="8294"/>
                  </a:lnTo>
                  <a:lnTo>
                    <a:pt x="1263" y="8300"/>
                  </a:lnTo>
                  <a:lnTo>
                    <a:pt x="1342" y="8305"/>
                  </a:lnTo>
                  <a:lnTo>
                    <a:pt x="1347" y="8317"/>
                  </a:lnTo>
                  <a:lnTo>
                    <a:pt x="1361" y="8351"/>
                  </a:lnTo>
                  <a:lnTo>
                    <a:pt x="1369" y="8375"/>
                  </a:lnTo>
                  <a:lnTo>
                    <a:pt x="1378" y="8404"/>
                  </a:lnTo>
                  <a:lnTo>
                    <a:pt x="1386" y="8437"/>
                  </a:lnTo>
                  <a:lnTo>
                    <a:pt x="1394" y="8474"/>
                  </a:lnTo>
                  <a:lnTo>
                    <a:pt x="1396" y="8493"/>
                  </a:lnTo>
                  <a:lnTo>
                    <a:pt x="1399" y="8514"/>
                  </a:lnTo>
                  <a:lnTo>
                    <a:pt x="1401" y="8536"/>
                  </a:lnTo>
                  <a:lnTo>
                    <a:pt x="1402" y="8558"/>
                  </a:lnTo>
                  <a:lnTo>
                    <a:pt x="1403" y="8580"/>
                  </a:lnTo>
                  <a:lnTo>
                    <a:pt x="1403" y="8604"/>
                  </a:lnTo>
                  <a:lnTo>
                    <a:pt x="1402" y="8627"/>
                  </a:lnTo>
                  <a:lnTo>
                    <a:pt x="1400" y="8653"/>
                  </a:lnTo>
                  <a:lnTo>
                    <a:pt x="1397" y="8678"/>
                  </a:lnTo>
                  <a:lnTo>
                    <a:pt x="1393" y="8703"/>
                  </a:lnTo>
                  <a:lnTo>
                    <a:pt x="1388" y="8729"/>
                  </a:lnTo>
                  <a:lnTo>
                    <a:pt x="1382" y="8755"/>
                  </a:lnTo>
                  <a:lnTo>
                    <a:pt x="1374" y="8782"/>
                  </a:lnTo>
                  <a:lnTo>
                    <a:pt x="1364" y="8809"/>
                  </a:lnTo>
                  <a:lnTo>
                    <a:pt x="1353" y="8836"/>
                  </a:lnTo>
                  <a:lnTo>
                    <a:pt x="1342" y="8863"/>
                  </a:lnTo>
                  <a:lnTo>
                    <a:pt x="1343" y="8866"/>
                  </a:lnTo>
                  <a:lnTo>
                    <a:pt x="1349" y="8873"/>
                  </a:lnTo>
                  <a:lnTo>
                    <a:pt x="1359" y="8883"/>
                  </a:lnTo>
                  <a:lnTo>
                    <a:pt x="1374" y="8896"/>
                  </a:lnTo>
                  <a:lnTo>
                    <a:pt x="1382" y="8903"/>
                  </a:lnTo>
                  <a:lnTo>
                    <a:pt x="1392" y="8910"/>
                  </a:lnTo>
                  <a:lnTo>
                    <a:pt x="1402" y="8917"/>
                  </a:lnTo>
                  <a:lnTo>
                    <a:pt x="1414" y="8924"/>
                  </a:lnTo>
                  <a:lnTo>
                    <a:pt x="1427" y="8930"/>
                  </a:lnTo>
                  <a:lnTo>
                    <a:pt x="1442" y="8936"/>
                  </a:lnTo>
                  <a:lnTo>
                    <a:pt x="1457" y="8942"/>
                  </a:lnTo>
                  <a:lnTo>
                    <a:pt x="1474" y="8947"/>
                  </a:lnTo>
                  <a:lnTo>
                    <a:pt x="1492" y="8951"/>
                  </a:lnTo>
                  <a:lnTo>
                    <a:pt x="1512" y="8954"/>
                  </a:lnTo>
                  <a:lnTo>
                    <a:pt x="1532" y="8956"/>
                  </a:lnTo>
                  <a:lnTo>
                    <a:pt x="1554" y="8957"/>
                  </a:lnTo>
                  <a:lnTo>
                    <a:pt x="1577" y="8957"/>
                  </a:lnTo>
                  <a:lnTo>
                    <a:pt x="1602" y="8955"/>
                  </a:lnTo>
                  <a:lnTo>
                    <a:pt x="1629" y="8951"/>
                  </a:lnTo>
                  <a:lnTo>
                    <a:pt x="1656" y="8946"/>
                  </a:lnTo>
                  <a:lnTo>
                    <a:pt x="1685" y="8939"/>
                  </a:lnTo>
                  <a:lnTo>
                    <a:pt x="1715" y="8930"/>
                  </a:lnTo>
                  <a:lnTo>
                    <a:pt x="1747" y="8919"/>
                  </a:lnTo>
                  <a:lnTo>
                    <a:pt x="1781" y="8905"/>
                  </a:lnTo>
                  <a:lnTo>
                    <a:pt x="1815" y="8888"/>
                  </a:lnTo>
                  <a:lnTo>
                    <a:pt x="1852" y="8870"/>
                  </a:lnTo>
                  <a:lnTo>
                    <a:pt x="1890" y="8848"/>
                  </a:lnTo>
                  <a:lnTo>
                    <a:pt x="1930" y="8824"/>
                  </a:lnTo>
                  <a:lnTo>
                    <a:pt x="1944" y="8822"/>
                  </a:lnTo>
                  <a:lnTo>
                    <a:pt x="1980" y="8819"/>
                  </a:lnTo>
                  <a:lnTo>
                    <a:pt x="2004" y="8818"/>
                  </a:lnTo>
                  <a:lnTo>
                    <a:pt x="2030" y="8819"/>
                  </a:lnTo>
                  <a:lnTo>
                    <a:pt x="2043" y="8820"/>
                  </a:lnTo>
                  <a:lnTo>
                    <a:pt x="2056" y="8821"/>
                  </a:lnTo>
                  <a:lnTo>
                    <a:pt x="2069" y="8823"/>
                  </a:lnTo>
                  <a:lnTo>
                    <a:pt x="2082" y="8825"/>
                  </a:lnTo>
                  <a:lnTo>
                    <a:pt x="2095" y="8829"/>
                  </a:lnTo>
                  <a:lnTo>
                    <a:pt x="2108" y="8833"/>
                  </a:lnTo>
                  <a:lnTo>
                    <a:pt x="2119" y="8838"/>
                  </a:lnTo>
                  <a:lnTo>
                    <a:pt x="2131" y="8844"/>
                  </a:lnTo>
                  <a:lnTo>
                    <a:pt x="2141" y="8851"/>
                  </a:lnTo>
                  <a:lnTo>
                    <a:pt x="2151" y="8858"/>
                  </a:lnTo>
                  <a:lnTo>
                    <a:pt x="2159" y="8867"/>
                  </a:lnTo>
                  <a:lnTo>
                    <a:pt x="2165" y="8878"/>
                  </a:lnTo>
                  <a:lnTo>
                    <a:pt x="2170" y="8889"/>
                  </a:lnTo>
                  <a:lnTo>
                    <a:pt x="2174" y="8903"/>
                  </a:lnTo>
                  <a:lnTo>
                    <a:pt x="2176" y="8917"/>
                  </a:lnTo>
                  <a:lnTo>
                    <a:pt x="2176" y="8932"/>
                  </a:lnTo>
                  <a:lnTo>
                    <a:pt x="2174" y="8949"/>
                  </a:lnTo>
                  <a:lnTo>
                    <a:pt x="2170" y="8968"/>
                  </a:lnTo>
                  <a:lnTo>
                    <a:pt x="2164" y="8988"/>
                  </a:lnTo>
                  <a:lnTo>
                    <a:pt x="2155" y="9011"/>
                  </a:lnTo>
                  <a:lnTo>
                    <a:pt x="2155" y="9016"/>
                  </a:lnTo>
                  <a:lnTo>
                    <a:pt x="2156" y="9029"/>
                  </a:lnTo>
                  <a:lnTo>
                    <a:pt x="2159" y="9049"/>
                  </a:lnTo>
                  <a:lnTo>
                    <a:pt x="2164" y="9075"/>
                  </a:lnTo>
                  <a:lnTo>
                    <a:pt x="2169" y="9089"/>
                  </a:lnTo>
                  <a:lnTo>
                    <a:pt x="2174" y="9103"/>
                  </a:lnTo>
                  <a:lnTo>
                    <a:pt x="2180" y="9119"/>
                  </a:lnTo>
                  <a:lnTo>
                    <a:pt x="2188" y="9135"/>
                  </a:lnTo>
                  <a:lnTo>
                    <a:pt x="2198" y="9150"/>
                  </a:lnTo>
                  <a:lnTo>
                    <a:pt x="2209" y="9165"/>
                  </a:lnTo>
                  <a:lnTo>
                    <a:pt x="2222" y="9180"/>
                  </a:lnTo>
                  <a:lnTo>
                    <a:pt x="2237" y="9194"/>
                  </a:lnTo>
                  <a:lnTo>
                    <a:pt x="2254" y="9207"/>
                  </a:lnTo>
                  <a:lnTo>
                    <a:pt x="2273" y="9220"/>
                  </a:lnTo>
                  <a:lnTo>
                    <a:pt x="2294" y="9230"/>
                  </a:lnTo>
                  <a:lnTo>
                    <a:pt x="2318" y="9240"/>
                  </a:lnTo>
                  <a:lnTo>
                    <a:pt x="2344" y="9247"/>
                  </a:lnTo>
                  <a:lnTo>
                    <a:pt x="2373" y="9254"/>
                  </a:lnTo>
                  <a:lnTo>
                    <a:pt x="2405" y="9258"/>
                  </a:lnTo>
                  <a:lnTo>
                    <a:pt x="2440" y="9259"/>
                  </a:lnTo>
                  <a:lnTo>
                    <a:pt x="2478" y="9258"/>
                  </a:lnTo>
                  <a:lnTo>
                    <a:pt x="2519" y="9254"/>
                  </a:lnTo>
                  <a:lnTo>
                    <a:pt x="2563" y="9246"/>
                  </a:lnTo>
                  <a:lnTo>
                    <a:pt x="2611" y="9235"/>
                  </a:lnTo>
                  <a:lnTo>
                    <a:pt x="2663" y="9221"/>
                  </a:lnTo>
                  <a:lnTo>
                    <a:pt x="2718" y="9204"/>
                  </a:lnTo>
                  <a:lnTo>
                    <a:pt x="2778" y="9183"/>
                  </a:lnTo>
                  <a:lnTo>
                    <a:pt x="2840" y="9158"/>
                  </a:lnTo>
                  <a:lnTo>
                    <a:pt x="2850" y="9153"/>
                  </a:lnTo>
                  <a:lnTo>
                    <a:pt x="2875" y="9139"/>
                  </a:lnTo>
                  <a:lnTo>
                    <a:pt x="2916" y="9116"/>
                  </a:lnTo>
                  <a:lnTo>
                    <a:pt x="2967" y="9090"/>
                  </a:lnTo>
                  <a:lnTo>
                    <a:pt x="3028" y="9060"/>
                  </a:lnTo>
                  <a:lnTo>
                    <a:pt x="3094" y="9028"/>
                  </a:lnTo>
                  <a:lnTo>
                    <a:pt x="3165" y="8994"/>
                  </a:lnTo>
                  <a:lnTo>
                    <a:pt x="3236" y="8964"/>
                  </a:lnTo>
                  <a:lnTo>
                    <a:pt x="3272" y="8950"/>
                  </a:lnTo>
                  <a:lnTo>
                    <a:pt x="3306" y="8937"/>
                  </a:lnTo>
                  <a:lnTo>
                    <a:pt x="3340" y="8925"/>
                  </a:lnTo>
                  <a:lnTo>
                    <a:pt x="3372" y="8915"/>
                  </a:lnTo>
                  <a:lnTo>
                    <a:pt x="3403" y="8906"/>
                  </a:lnTo>
                  <a:lnTo>
                    <a:pt x="3431" y="8900"/>
                  </a:lnTo>
                  <a:lnTo>
                    <a:pt x="3457" y="8895"/>
                  </a:lnTo>
                  <a:lnTo>
                    <a:pt x="3481" y="8893"/>
                  </a:lnTo>
                  <a:lnTo>
                    <a:pt x="3501" y="8894"/>
                  </a:lnTo>
                  <a:lnTo>
                    <a:pt x="3520" y="8898"/>
                  </a:lnTo>
                  <a:lnTo>
                    <a:pt x="3533" y="8904"/>
                  </a:lnTo>
                  <a:lnTo>
                    <a:pt x="3543" y="8914"/>
                  </a:lnTo>
                  <a:lnTo>
                    <a:pt x="3548" y="8927"/>
                  </a:lnTo>
                  <a:lnTo>
                    <a:pt x="3549" y="8944"/>
                  </a:lnTo>
                  <a:lnTo>
                    <a:pt x="3545" y="8965"/>
                  </a:lnTo>
                  <a:lnTo>
                    <a:pt x="3536" y="8990"/>
                  </a:lnTo>
                  <a:lnTo>
                    <a:pt x="3532" y="8997"/>
                  </a:lnTo>
                  <a:lnTo>
                    <a:pt x="3520" y="9015"/>
                  </a:lnTo>
                  <a:lnTo>
                    <a:pt x="3499" y="9042"/>
                  </a:lnTo>
                  <a:lnTo>
                    <a:pt x="3473" y="9078"/>
                  </a:lnTo>
                  <a:lnTo>
                    <a:pt x="3439" y="9122"/>
                  </a:lnTo>
                  <a:lnTo>
                    <a:pt x="3400" y="9173"/>
                  </a:lnTo>
                  <a:lnTo>
                    <a:pt x="3354" y="9229"/>
                  </a:lnTo>
                  <a:lnTo>
                    <a:pt x="3304" y="9289"/>
                  </a:lnTo>
                  <a:lnTo>
                    <a:pt x="3276" y="9319"/>
                  </a:lnTo>
                  <a:lnTo>
                    <a:pt x="3247" y="9350"/>
                  </a:lnTo>
                  <a:lnTo>
                    <a:pt x="3218" y="9383"/>
                  </a:lnTo>
                  <a:lnTo>
                    <a:pt x="3188" y="9414"/>
                  </a:lnTo>
                  <a:lnTo>
                    <a:pt x="3157" y="9446"/>
                  </a:lnTo>
                  <a:lnTo>
                    <a:pt x="3124" y="9478"/>
                  </a:lnTo>
                  <a:lnTo>
                    <a:pt x="3091" y="9510"/>
                  </a:lnTo>
                  <a:lnTo>
                    <a:pt x="3057" y="9541"/>
                  </a:lnTo>
                  <a:lnTo>
                    <a:pt x="3022" y="9571"/>
                  </a:lnTo>
                  <a:lnTo>
                    <a:pt x="2986" y="9601"/>
                  </a:lnTo>
                  <a:lnTo>
                    <a:pt x="2950" y="9630"/>
                  </a:lnTo>
                  <a:lnTo>
                    <a:pt x="2914" y="9658"/>
                  </a:lnTo>
                  <a:lnTo>
                    <a:pt x="2876" y="9684"/>
                  </a:lnTo>
                  <a:lnTo>
                    <a:pt x="2839" y="9709"/>
                  </a:lnTo>
                  <a:lnTo>
                    <a:pt x="2801" y="9734"/>
                  </a:lnTo>
                  <a:lnTo>
                    <a:pt x="2763" y="9755"/>
                  </a:lnTo>
                  <a:lnTo>
                    <a:pt x="2748" y="9760"/>
                  </a:lnTo>
                  <a:lnTo>
                    <a:pt x="2707" y="9774"/>
                  </a:lnTo>
                  <a:lnTo>
                    <a:pt x="2643" y="9796"/>
                  </a:lnTo>
                  <a:lnTo>
                    <a:pt x="2558" y="9826"/>
                  </a:lnTo>
                  <a:lnTo>
                    <a:pt x="2455" y="9864"/>
                  </a:lnTo>
                  <a:lnTo>
                    <a:pt x="2337" y="9907"/>
                  </a:lnTo>
                  <a:lnTo>
                    <a:pt x="2208" y="9955"/>
                  </a:lnTo>
                  <a:lnTo>
                    <a:pt x="2069" y="10009"/>
                  </a:lnTo>
                  <a:lnTo>
                    <a:pt x="1924" y="10066"/>
                  </a:lnTo>
                  <a:lnTo>
                    <a:pt x="1776" y="10127"/>
                  </a:lnTo>
                  <a:lnTo>
                    <a:pt x="1701" y="10158"/>
                  </a:lnTo>
                  <a:lnTo>
                    <a:pt x="1628" y="10190"/>
                  </a:lnTo>
                  <a:lnTo>
                    <a:pt x="1554" y="10223"/>
                  </a:lnTo>
                  <a:lnTo>
                    <a:pt x="1481" y="10256"/>
                  </a:lnTo>
                  <a:lnTo>
                    <a:pt x="1410" y="10288"/>
                  </a:lnTo>
                  <a:lnTo>
                    <a:pt x="1340" y="10321"/>
                  </a:lnTo>
                  <a:lnTo>
                    <a:pt x="1273" y="10355"/>
                  </a:lnTo>
                  <a:lnTo>
                    <a:pt x="1208" y="10388"/>
                  </a:lnTo>
                  <a:lnTo>
                    <a:pt x="1146" y="10421"/>
                  </a:lnTo>
                  <a:lnTo>
                    <a:pt x="1086" y="10455"/>
                  </a:lnTo>
                  <a:lnTo>
                    <a:pt x="1031" y="10487"/>
                  </a:lnTo>
                  <a:lnTo>
                    <a:pt x="979" y="10519"/>
                  </a:lnTo>
                  <a:lnTo>
                    <a:pt x="971" y="10521"/>
                  </a:lnTo>
                  <a:lnTo>
                    <a:pt x="950" y="10525"/>
                  </a:lnTo>
                  <a:lnTo>
                    <a:pt x="915" y="10533"/>
                  </a:lnTo>
                  <a:lnTo>
                    <a:pt x="869" y="10543"/>
                  </a:lnTo>
                  <a:lnTo>
                    <a:pt x="813" y="10557"/>
                  </a:lnTo>
                  <a:lnTo>
                    <a:pt x="750" y="10575"/>
                  </a:lnTo>
                  <a:lnTo>
                    <a:pt x="679" y="10595"/>
                  </a:lnTo>
                  <a:lnTo>
                    <a:pt x="603" y="10618"/>
                  </a:lnTo>
                  <a:lnTo>
                    <a:pt x="564" y="10630"/>
                  </a:lnTo>
                  <a:lnTo>
                    <a:pt x="524" y="10644"/>
                  </a:lnTo>
                  <a:lnTo>
                    <a:pt x="483" y="10658"/>
                  </a:lnTo>
                  <a:lnTo>
                    <a:pt x="443" y="10673"/>
                  </a:lnTo>
                  <a:lnTo>
                    <a:pt x="402" y="10690"/>
                  </a:lnTo>
                  <a:lnTo>
                    <a:pt x="361" y="10707"/>
                  </a:lnTo>
                  <a:lnTo>
                    <a:pt x="321" y="10725"/>
                  </a:lnTo>
                  <a:lnTo>
                    <a:pt x="281" y="10743"/>
                  </a:lnTo>
                  <a:lnTo>
                    <a:pt x="242" y="10762"/>
                  </a:lnTo>
                  <a:lnTo>
                    <a:pt x="203" y="10782"/>
                  </a:lnTo>
                  <a:lnTo>
                    <a:pt x="165" y="10803"/>
                  </a:lnTo>
                  <a:lnTo>
                    <a:pt x="129" y="10826"/>
                  </a:lnTo>
                  <a:lnTo>
                    <a:pt x="94" y="10848"/>
                  </a:lnTo>
                  <a:lnTo>
                    <a:pt x="61" y="10872"/>
                  </a:lnTo>
                  <a:lnTo>
                    <a:pt x="29" y="10896"/>
                  </a:lnTo>
                  <a:lnTo>
                    <a:pt x="0" y="10921"/>
                  </a:lnTo>
                  <a:lnTo>
                    <a:pt x="7" y="10919"/>
                  </a:lnTo>
                  <a:lnTo>
                    <a:pt x="28" y="10915"/>
                  </a:lnTo>
                  <a:lnTo>
                    <a:pt x="60" y="10909"/>
                  </a:lnTo>
                  <a:lnTo>
                    <a:pt x="105" y="10901"/>
                  </a:lnTo>
                  <a:lnTo>
                    <a:pt x="161" y="10890"/>
                  </a:lnTo>
                  <a:lnTo>
                    <a:pt x="225" y="10879"/>
                  </a:lnTo>
                  <a:lnTo>
                    <a:pt x="299" y="10866"/>
                  </a:lnTo>
                  <a:lnTo>
                    <a:pt x="381" y="10853"/>
                  </a:lnTo>
                  <a:lnTo>
                    <a:pt x="468" y="10839"/>
                  </a:lnTo>
                  <a:lnTo>
                    <a:pt x="563" y="10825"/>
                  </a:lnTo>
                  <a:lnTo>
                    <a:pt x="662" y="10811"/>
                  </a:lnTo>
                  <a:lnTo>
                    <a:pt x="765" y="10797"/>
                  </a:lnTo>
                  <a:lnTo>
                    <a:pt x="870" y="10784"/>
                  </a:lnTo>
                  <a:lnTo>
                    <a:pt x="977" y="10773"/>
                  </a:lnTo>
                  <a:lnTo>
                    <a:pt x="1086" y="10763"/>
                  </a:lnTo>
                  <a:lnTo>
                    <a:pt x="1195" y="10755"/>
                  </a:lnTo>
                  <a:lnTo>
                    <a:pt x="1252" y="10749"/>
                  </a:lnTo>
                  <a:lnTo>
                    <a:pt x="1314" y="10741"/>
                  </a:lnTo>
                  <a:lnTo>
                    <a:pt x="1381" y="10729"/>
                  </a:lnTo>
                  <a:lnTo>
                    <a:pt x="1452" y="10715"/>
                  </a:lnTo>
                  <a:lnTo>
                    <a:pt x="1528" y="10698"/>
                  </a:lnTo>
                  <a:lnTo>
                    <a:pt x="1607" y="10677"/>
                  </a:lnTo>
                  <a:lnTo>
                    <a:pt x="1690" y="10654"/>
                  </a:lnTo>
                  <a:lnTo>
                    <a:pt x="1777" y="10630"/>
                  </a:lnTo>
                  <a:lnTo>
                    <a:pt x="1866" y="10603"/>
                  </a:lnTo>
                  <a:lnTo>
                    <a:pt x="1958" y="10574"/>
                  </a:lnTo>
                  <a:lnTo>
                    <a:pt x="2052" y="10542"/>
                  </a:lnTo>
                  <a:lnTo>
                    <a:pt x="2148" y="10510"/>
                  </a:lnTo>
                  <a:lnTo>
                    <a:pt x="2245" y="10476"/>
                  </a:lnTo>
                  <a:lnTo>
                    <a:pt x="2344" y="10439"/>
                  </a:lnTo>
                  <a:lnTo>
                    <a:pt x="2444" y="10402"/>
                  </a:lnTo>
                  <a:lnTo>
                    <a:pt x="2544" y="10364"/>
                  </a:lnTo>
                  <a:lnTo>
                    <a:pt x="2645" y="10324"/>
                  </a:lnTo>
                  <a:lnTo>
                    <a:pt x="2745" y="10284"/>
                  </a:lnTo>
                  <a:lnTo>
                    <a:pt x="2845" y="10244"/>
                  </a:lnTo>
                  <a:lnTo>
                    <a:pt x="2945" y="10202"/>
                  </a:lnTo>
                  <a:lnTo>
                    <a:pt x="3044" y="10160"/>
                  </a:lnTo>
                  <a:lnTo>
                    <a:pt x="3141" y="10119"/>
                  </a:lnTo>
                  <a:lnTo>
                    <a:pt x="3236" y="10076"/>
                  </a:lnTo>
                  <a:lnTo>
                    <a:pt x="3330" y="10034"/>
                  </a:lnTo>
                  <a:lnTo>
                    <a:pt x="3421" y="9992"/>
                  </a:lnTo>
                  <a:lnTo>
                    <a:pt x="3509" y="9950"/>
                  </a:lnTo>
                  <a:lnTo>
                    <a:pt x="3595" y="9909"/>
                  </a:lnTo>
                  <a:lnTo>
                    <a:pt x="3678" y="9869"/>
                  </a:lnTo>
                  <a:lnTo>
                    <a:pt x="3756" y="9829"/>
                  </a:lnTo>
                  <a:lnTo>
                    <a:pt x="3831" y="9790"/>
                  </a:lnTo>
                  <a:lnTo>
                    <a:pt x="3902" y="9753"/>
                  </a:lnTo>
                  <a:lnTo>
                    <a:pt x="3967" y="9716"/>
                  </a:lnTo>
                  <a:lnTo>
                    <a:pt x="3983" y="9712"/>
                  </a:lnTo>
                  <a:lnTo>
                    <a:pt x="4029" y="9701"/>
                  </a:lnTo>
                  <a:lnTo>
                    <a:pt x="4098" y="9684"/>
                  </a:lnTo>
                  <a:lnTo>
                    <a:pt x="4187" y="9660"/>
                  </a:lnTo>
                  <a:lnTo>
                    <a:pt x="4237" y="9646"/>
                  </a:lnTo>
                  <a:lnTo>
                    <a:pt x="4291" y="9631"/>
                  </a:lnTo>
                  <a:lnTo>
                    <a:pt x="4346" y="9615"/>
                  </a:lnTo>
                  <a:lnTo>
                    <a:pt x="4405" y="9596"/>
                  </a:lnTo>
                  <a:lnTo>
                    <a:pt x="4463" y="9577"/>
                  </a:lnTo>
                  <a:lnTo>
                    <a:pt x="4523" y="9557"/>
                  </a:lnTo>
                  <a:lnTo>
                    <a:pt x="4582" y="9535"/>
                  </a:lnTo>
                  <a:lnTo>
                    <a:pt x="4640" y="9513"/>
                  </a:lnTo>
                  <a:lnTo>
                    <a:pt x="4698" y="9490"/>
                  </a:lnTo>
                  <a:lnTo>
                    <a:pt x="4754" y="9465"/>
                  </a:lnTo>
                  <a:lnTo>
                    <a:pt x="4808" y="9440"/>
                  </a:lnTo>
                  <a:lnTo>
                    <a:pt x="4858" y="9414"/>
                  </a:lnTo>
                  <a:lnTo>
                    <a:pt x="4905" y="9387"/>
                  </a:lnTo>
                  <a:lnTo>
                    <a:pt x="4947" y="9359"/>
                  </a:lnTo>
                  <a:lnTo>
                    <a:pt x="4984" y="9331"/>
                  </a:lnTo>
                  <a:lnTo>
                    <a:pt x="5016" y="9303"/>
                  </a:lnTo>
                  <a:lnTo>
                    <a:pt x="5043" y="9274"/>
                  </a:lnTo>
                  <a:lnTo>
                    <a:pt x="5063" y="9243"/>
                  </a:lnTo>
                  <a:lnTo>
                    <a:pt x="5075" y="9214"/>
                  </a:lnTo>
                  <a:lnTo>
                    <a:pt x="5079" y="9183"/>
                  </a:lnTo>
                  <a:lnTo>
                    <a:pt x="5075" y="9153"/>
                  </a:lnTo>
                  <a:lnTo>
                    <a:pt x="5062" y="9121"/>
                  </a:lnTo>
                  <a:lnTo>
                    <a:pt x="5039" y="9090"/>
                  </a:lnTo>
                  <a:lnTo>
                    <a:pt x="5005" y="9059"/>
                  </a:lnTo>
                  <a:lnTo>
                    <a:pt x="5002" y="9058"/>
                  </a:lnTo>
                  <a:lnTo>
                    <a:pt x="4993" y="9053"/>
                  </a:lnTo>
                  <a:lnTo>
                    <a:pt x="4979" y="9045"/>
                  </a:lnTo>
                  <a:lnTo>
                    <a:pt x="4963" y="9035"/>
                  </a:lnTo>
                  <a:lnTo>
                    <a:pt x="4946" y="9023"/>
                  </a:lnTo>
                  <a:lnTo>
                    <a:pt x="4929" y="9007"/>
                  </a:lnTo>
                  <a:lnTo>
                    <a:pt x="4921" y="8999"/>
                  </a:lnTo>
                  <a:lnTo>
                    <a:pt x="4914" y="8991"/>
                  </a:lnTo>
                  <a:lnTo>
                    <a:pt x="4907" y="8982"/>
                  </a:lnTo>
                  <a:lnTo>
                    <a:pt x="4902" y="8973"/>
                  </a:lnTo>
                  <a:lnTo>
                    <a:pt x="4897" y="8964"/>
                  </a:lnTo>
                  <a:lnTo>
                    <a:pt x="4894" y="8955"/>
                  </a:lnTo>
                  <a:lnTo>
                    <a:pt x="4893" y="8945"/>
                  </a:lnTo>
                  <a:lnTo>
                    <a:pt x="4894" y="8935"/>
                  </a:lnTo>
                  <a:lnTo>
                    <a:pt x="4896" y="8925"/>
                  </a:lnTo>
                  <a:lnTo>
                    <a:pt x="4902" y="8915"/>
                  </a:lnTo>
                  <a:lnTo>
                    <a:pt x="4909" y="8905"/>
                  </a:lnTo>
                  <a:lnTo>
                    <a:pt x="4919" y="8895"/>
                  </a:lnTo>
                  <a:lnTo>
                    <a:pt x="4931" y="8883"/>
                  </a:lnTo>
                  <a:lnTo>
                    <a:pt x="4947" y="8873"/>
                  </a:lnTo>
                  <a:lnTo>
                    <a:pt x="4965" y="8863"/>
                  </a:lnTo>
                  <a:lnTo>
                    <a:pt x="4987" y="8853"/>
                  </a:lnTo>
                  <a:lnTo>
                    <a:pt x="5013" y="8843"/>
                  </a:lnTo>
                  <a:lnTo>
                    <a:pt x="5043" y="8833"/>
                  </a:lnTo>
                  <a:lnTo>
                    <a:pt x="5076" y="8824"/>
                  </a:lnTo>
                  <a:lnTo>
                    <a:pt x="5113" y="8815"/>
                  </a:lnTo>
                  <a:lnTo>
                    <a:pt x="5124" y="8808"/>
                  </a:lnTo>
                  <a:lnTo>
                    <a:pt x="5155" y="8789"/>
                  </a:lnTo>
                  <a:lnTo>
                    <a:pt x="5202" y="8758"/>
                  </a:lnTo>
                  <a:lnTo>
                    <a:pt x="5264" y="8718"/>
                  </a:lnTo>
                  <a:lnTo>
                    <a:pt x="5340" y="8669"/>
                  </a:lnTo>
                  <a:lnTo>
                    <a:pt x="5427" y="8612"/>
                  </a:lnTo>
                  <a:lnTo>
                    <a:pt x="5520" y="8549"/>
                  </a:lnTo>
                  <a:lnTo>
                    <a:pt x="5620" y="8479"/>
                  </a:lnTo>
                  <a:lnTo>
                    <a:pt x="5723" y="8405"/>
                  </a:lnTo>
                  <a:lnTo>
                    <a:pt x="5828" y="8329"/>
                  </a:lnTo>
                  <a:lnTo>
                    <a:pt x="5879" y="8289"/>
                  </a:lnTo>
                  <a:lnTo>
                    <a:pt x="5931" y="8249"/>
                  </a:lnTo>
                  <a:lnTo>
                    <a:pt x="5981" y="8210"/>
                  </a:lnTo>
                  <a:lnTo>
                    <a:pt x="6030" y="8169"/>
                  </a:lnTo>
                  <a:lnTo>
                    <a:pt x="6079" y="8130"/>
                  </a:lnTo>
                  <a:lnTo>
                    <a:pt x="6124" y="8090"/>
                  </a:lnTo>
                  <a:lnTo>
                    <a:pt x="6169" y="8050"/>
                  </a:lnTo>
                  <a:lnTo>
                    <a:pt x="6210" y="8011"/>
                  </a:lnTo>
                  <a:lnTo>
                    <a:pt x="6249" y="7974"/>
                  </a:lnTo>
                  <a:lnTo>
                    <a:pt x="6286" y="7936"/>
                  </a:lnTo>
                  <a:lnTo>
                    <a:pt x="6318" y="7899"/>
                  </a:lnTo>
                  <a:lnTo>
                    <a:pt x="6348" y="7864"/>
                  </a:lnTo>
                  <a:lnTo>
                    <a:pt x="6354" y="7861"/>
                  </a:lnTo>
                  <a:lnTo>
                    <a:pt x="6375" y="7853"/>
                  </a:lnTo>
                  <a:lnTo>
                    <a:pt x="6408" y="7841"/>
                  </a:lnTo>
                  <a:lnTo>
                    <a:pt x="6455" y="7826"/>
                  </a:lnTo>
                  <a:lnTo>
                    <a:pt x="6513" y="7808"/>
                  </a:lnTo>
                  <a:lnTo>
                    <a:pt x="6583" y="7789"/>
                  </a:lnTo>
                  <a:lnTo>
                    <a:pt x="6622" y="7779"/>
                  </a:lnTo>
                  <a:lnTo>
                    <a:pt x="6664" y="7769"/>
                  </a:lnTo>
                  <a:lnTo>
                    <a:pt x="6708" y="7759"/>
                  </a:lnTo>
                  <a:lnTo>
                    <a:pt x="6754" y="7750"/>
                  </a:lnTo>
                  <a:lnTo>
                    <a:pt x="6803" y="7741"/>
                  </a:lnTo>
                  <a:lnTo>
                    <a:pt x="6854" y="7732"/>
                  </a:lnTo>
                  <a:lnTo>
                    <a:pt x="6907" y="7724"/>
                  </a:lnTo>
                  <a:lnTo>
                    <a:pt x="6964" y="7716"/>
                  </a:lnTo>
                  <a:lnTo>
                    <a:pt x="7021" y="7710"/>
                  </a:lnTo>
                  <a:lnTo>
                    <a:pt x="7081" y="7704"/>
                  </a:lnTo>
                  <a:lnTo>
                    <a:pt x="7143" y="7699"/>
                  </a:lnTo>
                  <a:lnTo>
                    <a:pt x="7207" y="7695"/>
                  </a:lnTo>
                  <a:lnTo>
                    <a:pt x="7272" y="7691"/>
                  </a:lnTo>
                  <a:lnTo>
                    <a:pt x="7340" y="7690"/>
                  </a:lnTo>
                  <a:lnTo>
                    <a:pt x="7409" y="7690"/>
                  </a:lnTo>
                  <a:lnTo>
                    <a:pt x="7480" y="7692"/>
                  </a:lnTo>
                  <a:lnTo>
                    <a:pt x="7553" y="7696"/>
                  </a:lnTo>
                  <a:lnTo>
                    <a:pt x="7626" y="7701"/>
                  </a:lnTo>
                  <a:lnTo>
                    <a:pt x="7701" y="7708"/>
                  </a:lnTo>
                  <a:lnTo>
                    <a:pt x="7777" y="7717"/>
                  </a:lnTo>
                  <a:lnTo>
                    <a:pt x="7782" y="7719"/>
                  </a:lnTo>
                  <a:lnTo>
                    <a:pt x="7794" y="7726"/>
                  </a:lnTo>
                  <a:lnTo>
                    <a:pt x="7814" y="7736"/>
                  </a:lnTo>
                  <a:lnTo>
                    <a:pt x="7837" y="7750"/>
                  </a:lnTo>
                  <a:lnTo>
                    <a:pt x="7863" y="7766"/>
                  </a:lnTo>
                  <a:lnTo>
                    <a:pt x="7890" y="7785"/>
                  </a:lnTo>
                  <a:lnTo>
                    <a:pt x="7903" y="7795"/>
                  </a:lnTo>
                  <a:lnTo>
                    <a:pt x="7917" y="7805"/>
                  </a:lnTo>
                  <a:lnTo>
                    <a:pt x="7930" y="7817"/>
                  </a:lnTo>
                  <a:lnTo>
                    <a:pt x="7942" y="7827"/>
                  </a:lnTo>
                  <a:lnTo>
                    <a:pt x="7953" y="7839"/>
                  </a:lnTo>
                  <a:lnTo>
                    <a:pt x="7963" y="7850"/>
                  </a:lnTo>
                  <a:lnTo>
                    <a:pt x="7971" y="7861"/>
                  </a:lnTo>
                  <a:lnTo>
                    <a:pt x="7978" y="7872"/>
                  </a:lnTo>
                  <a:lnTo>
                    <a:pt x="7983" y="7883"/>
                  </a:lnTo>
                  <a:lnTo>
                    <a:pt x="7985" y="7894"/>
                  </a:lnTo>
                  <a:lnTo>
                    <a:pt x="7986" y="7905"/>
                  </a:lnTo>
                  <a:lnTo>
                    <a:pt x="7984" y="7915"/>
                  </a:lnTo>
                  <a:lnTo>
                    <a:pt x="7980" y="7925"/>
                  </a:lnTo>
                  <a:lnTo>
                    <a:pt x="7973" y="7936"/>
                  </a:lnTo>
                  <a:lnTo>
                    <a:pt x="7962" y="7945"/>
                  </a:lnTo>
                  <a:lnTo>
                    <a:pt x="7949" y="7954"/>
                  </a:lnTo>
                  <a:lnTo>
                    <a:pt x="7931" y="7962"/>
                  </a:lnTo>
                  <a:lnTo>
                    <a:pt x="7910" y="7969"/>
                  </a:lnTo>
                  <a:lnTo>
                    <a:pt x="7885" y="7976"/>
                  </a:lnTo>
                  <a:lnTo>
                    <a:pt x="7856" y="7982"/>
                  </a:lnTo>
                  <a:lnTo>
                    <a:pt x="7844" y="7981"/>
                  </a:lnTo>
                  <a:lnTo>
                    <a:pt x="7811" y="7981"/>
                  </a:lnTo>
                  <a:lnTo>
                    <a:pt x="7757" y="7981"/>
                  </a:lnTo>
                  <a:lnTo>
                    <a:pt x="7687" y="7982"/>
                  </a:lnTo>
                  <a:lnTo>
                    <a:pt x="7602" y="7986"/>
                  </a:lnTo>
                  <a:lnTo>
                    <a:pt x="7506" y="7991"/>
                  </a:lnTo>
                  <a:lnTo>
                    <a:pt x="7454" y="7995"/>
                  </a:lnTo>
                  <a:lnTo>
                    <a:pt x="7400" y="7999"/>
                  </a:lnTo>
                  <a:lnTo>
                    <a:pt x="7345" y="8004"/>
                  </a:lnTo>
                  <a:lnTo>
                    <a:pt x="7287" y="8011"/>
                  </a:lnTo>
                  <a:lnTo>
                    <a:pt x="7230" y="8018"/>
                  </a:lnTo>
                  <a:lnTo>
                    <a:pt x="7172" y="8027"/>
                  </a:lnTo>
                  <a:lnTo>
                    <a:pt x="7112" y="8036"/>
                  </a:lnTo>
                  <a:lnTo>
                    <a:pt x="7054" y="8047"/>
                  </a:lnTo>
                  <a:lnTo>
                    <a:pt x="6994" y="8060"/>
                  </a:lnTo>
                  <a:lnTo>
                    <a:pt x="6937" y="8074"/>
                  </a:lnTo>
                  <a:lnTo>
                    <a:pt x="6879" y="8089"/>
                  </a:lnTo>
                  <a:lnTo>
                    <a:pt x="6823" y="8106"/>
                  </a:lnTo>
                  <a:lnTo>
                    <a:pt x="6768" y="8124"/>
                  </a:lnTo>
                  <a:lnTo>
                    <a:pt x="6716" y="8144"/>
                  </a:lnTo>
                  <a:lnTo>
                    <a:pt x="6665" y="8165"/>
                  </a:lnTo>
                  <a:lnTo>
                    <a:pt x="6617" y="8190"/>
                  </a:lnTo>
                  <a:lnTo>
                    <a:pt x="6571" y="8216"/>
                  </a:lnTo>
                  <a:lnTo>
                    <a:pt x="6529" y="8243"/>
                  </a:lnTo>
                  <a:lnTo>
                    <a:pt x="6490" y="8273"/>
                  </a:lnTo>
                  <a:lnTo>
                    <a:pt x="6455" y="8305"/>
                  </a:lnTo>
                  <a:lnTo>
                    <a:pt x="6447" y="8318"/>
                  </a:lnTo>
                  <a:lnTo>
                    <a:pt x="6423" y="8351"/>
                  </a:lnTo>
                  <a:lnTo>
                    <a:pt x="6406" y="8374"/>
                  </a:lnTo>
                  <a:lnTo>
                    <a:pt x="6386" y="8399"/>
                  </a:lnTo>
                  <a:lnTo>
                    <a:pt x="6363" y="8427"/>
                  </a:lnTo>
                  <a:lnTo>
                    <a:pt x="6338" y="8456"/>
                  </a:lnTo>
                  <a:lnTo>
                    <a:pt x="6310" y="8484"/>
                  </a:lnTo>
                  <a:lnTo>
                    <a:pt x="6280" y="8513"/>
                  </a:lnTo>
                  <a:lnTo>
                    <a:pt x="6264" y="8526"/>
                  </a:lnTo>
                  <a:lnTo>
                    <a:pt x="6248" y="8541"/>
                  </a:lnTo>
                  <a:lnTo>
                    <a:pt x="6232" y="8553"/>
                  </a:lnTo>
                  <a:lnTo>
                    <a:pt x="6216" y="8566"/>
                  </a:lnTo>
                  <a:lnTo>
                    <a:pt x="6199" y="8577"/>
                  </a:lnTo>
                  <a:lnTo>
                    <a:pt x="6181" y="8588"/>
                  </a:lnTo>
                  <a:lnTo>
                    <a:pt x="6164" y="8597"/>
                  </a:lnTo>
                  <a:lnTo>
                    <a:pt x="6145" y="8606"/>
                  </a:lnTo>
                  <a:lnTo>
                    <a:pt x="6128" y="8613"/>
                  </a:lnTo>
                  <a:lnTo>
                    <a:pt x="6110" y="8620"/>
                  </a:lnTo>
                  <a:lnTo>
                    <a:pt x="6092" y="8624"/>
                  </a:lnTo>
                  <a:lnTo>
                    <a:pt x="6073" y="8628"/>
                  </a:lnTo>
                  <a:lnTo>
                    <a:pt x="6069" y="8634"/>
                  </a:lnTo>
                  <a:lnTo>
                    <a:pt x="6059" y="8650"/>
                  </a:lnTo>
                  <a:lnTo>
                    <a:pt x="6045" y="8676"/>
                  </a:lnTo>
                  <a:lnTo>
                    <a:pt x="6027" y="8709"/>
                  </a:lnTo>
                  <a:lnTo>
                    <a:pt x="6018" y="8727"/>
                  </a:lnTo>
                  <a:lnTo>
                    <a:pt x="6010" y="8746"/>
                  </a:lnTo>
                  <a:lnTo>
                    <a:pt x="6002" y="8766"/>
                  </a:lnTo>
                  <a:lnTo>
                    <a:pt x="5995" y="8788"/>
                  </a:lnTo>
                  <a:lnTo>
                    <a:pt x="5989" y="8809"/>
                  </a:lnTo>
                  <a:lnTo>
                    <a:pt x="5984" y="8830"/>
                  </a:lnTo>
                  <a:lnTo>
                    <a:pt x="5980" y="8852"/>
                  </a:lnTo>
                  <a:lnTo>
                    <a:pt x="5979" y="8873"/>
                  </a:lnTo>
                  <a:lnTo>
                    <a:pt x="5979" y="8895"/>
                  </a:lnTo>
                  <a:lnTo>
                    <a:pt x="5982" y="8915"/>
                  </a:lnTo>
                  <a:lnTo>
                    <a:pt x="5987" y="8934"/>
                  </a:lnTo>
                  <a:lnTo>
                    <a:pt x="5995" y="8952"/>
                  </a:lnTo>
                  <a:lnTo>
                    <a:pt x="6006" y="8968"/>
                  </a:lnTo>
                  <a:lnTo>
                    <a:pt x="6020" y="8983"/>
                  </a:lnTo>
                  <a:lnTo>
                    <a:pt x="6039" y="8997"/>
                  </a:lnTo>
                  <a:lnTo>
                    <a:pt x="6061" y="9008"/>
                  </a:lnTo>
                  <a:lnTo>
                    <a:pt x="6087" y="9018"/>
                  </a:lnTo>
                  <a:lnTo>
                    <a:pt x="6117" y="9025"/>
                  </a:lnTo>
                  <a:lnTo>
                    <a:pt x="6152" y="9029"/>
                  </a:lnTo>
                  <a:lnTo>
                    <a:pt x="6192" y="9030"/>
                  </a:lnTo>
                  <a:lnTo>
                    <a:pt x="6237" y="9028"/>
                  </a:lnTo>
                  <a:lnTo>
                    <a:pt x="6288" y="9023"/>
                  </a:lnTo>
                  <a:lnTo>
                    <a:pt x="6344" y="9014"/>
                  </a:lnTo>
                  <a:lnTo>
                    <a:pt x="6406" y="9000"/>
                  </a:lnTo>
                  <a:lnTo>
                    <a:pt x="6419" y="8997"/>
                  </a:lnTo>
                  <a:lnTo>
                    <a:pt x="6455" y="8987"/>
                  </a:lnTo>
                  <a:lnTo>
                    <a:pt x="6511" y="8971"/>
                  </a:lnTo>
                  <a:lnTo>
                    <a:pt x="6585" y="8950"/>
                  </a:lnTo>
                  <a:lnTo>
                    <a:pt x="6673" y="8924"/>
                  </a:lnTo>
                  <a:lnTo>
                    <a:pt x="6771" y="8894"/>
                  </a:lnTo>
                  <a:lnTo>
                    <a:pt x="6877" y="8860"/>
                  </a:lnTo>
                  <a:lnTo>
                    <a:pt x="6989" y="8823"/>
                  </a:lnTo>
                  <a:lnTo>
                    <a:pt x="7046" y="8804"/>
                  </a:lnTo>
                  <a:lnTo>
                    <a:pt x="7102" y="8784"/>
                  </a:lnTo>
                  <a:lnTo>
                    <a:pt x="7158" y="8763"/>
                  </a:lnTo>
                  <a:lnTo>
                    <a:pt x="7215" y="8742"/>
                  </a:lnTo>
                  <a:lnTo>
                    <a:pt x="7269" y="8722"/>
                  </a:lnTo>
                  <a:lnTo>
                    <a:pt x="7323" y="8701"/>
                  </a:lnTo>
                  <a:lnTo>
                    <a:pt x="7374" y="8679"/>
                  </a:lnTo>
                  <a:lnTo>
                    <a:pt x="7423" y="8658"/>
                  </a:lnTo>
                  <a:lnTo>
                    <a:pt x="7469" y="8636"/>
                  </a:lnTo>
                  <a:lnTo>
                    <a:pt x="7513" y="8614"/>
                  </a:lnTo>
                  <a:lnTo>
                    <a:pt x="7553" y="8593"/>
                  </a:lnTo>
                  <a:lnTo>
                    <a:pt x="7590" y="8572"/>
                  </a:lnTo>
                  <a:lnTo>
                    <a:pt x="7621" y="8552"/>
                  </a:lnTo>
                  <a:lnTo>
                    <a:pt x="7649" y="8530"/>
                  </a:lnTo>
                  <a:lnTo>
                    <a:pt x="7673" y="8510"/>
                  </a:lnTo>
                  <a:lnTo>
                    <a:pt x="7690" y="8491"/>
                  </a:lnTo>
                  <a:lnTo>
                    <a:pt x="7695" y="8486"/>
                  </a:lnTo>
                  <a:lnTo>
                    <a:pt x="7710" y="8472"/>
                  </a:lnTo>
                  <a:lnTo>
                    <a:pt x="7734" y="8452"/>
                  </a:lnTo>
                  <a:lnTo>
                    <a:pt x="7768" y="8427"/>
                  </a:lnTo>
                  <a:lnTo>
                    <a:pt x="7788" y="8414"/>
                  </a:lnTo>
                  <a:lnTo>
                    <a:pt x="7811" y="8399"/>
                  </a:lnTo>
                  <a:lnTo>
                    <a:pt x="7835" y="8384"/>
                  </a:lnTo>
                  <a:lnTo>
                    <a:pt x="7861" y="8370"/>
                  </a:lnTo>
                  <a:lnTo>
                    <a:pt x="7889" y="8356"/>
                  </a:lnTo>
                  <a:lnTo>
                    <a:pt x="7919" y="8342"/>
                  </a:lnTo>
                  <a:lnTo>
                    <a:pt x="7952" y="8329"/>
                  </a:lnTo>
                  <a:lnTo>
                    <a:pt x="7986" y="8317"/>
                  </a:lnTo>
                  <a:lnTo>
                    <a:pt x="8021" y="8307"/>
                  </a:lnTo>
                  <a:lnTo>
                    <a:pt x="8060" y="8297"/>
                  </a:lnTo>
                  <a:lnTo>
                    <a:pt x="8098" y="8289"/>
                  </a:lnTo>
                  <a:lnTo>
                    <a:pt x="8139" y="8283"/>
                  </a:lnTo>
                  <a:lnTo>
                    <a:pt x="8182" y="8279"/>
                  </a:lnTo>
                  <a:lnTo>
                    <a:pt x="8226" y="8278"/>
                  </a:lnTo>
                  <a:lnTo>
                    <a:pt x="8271" y="8280"/>
                  </a:lnTo>
                  <a:lnTo>
                    <a:pt x="8318" y="8284"/>
                  </a:lnTo>
                  <a:lnTo>
                    <a:pt x="8366" y="8291"/>
                  </a:lnTo>
                  <a:lnTo>
                    <a:pt x="8415" y="8303"/>
                  </a:lnTo>
                  <a:lnTo>
                    <a:pt x="8466" y="8317"/>
                  </a:lnTo>
                  <a:lnTo>
                    <a:pt x="8518" y="8336"/>
                  </a:lnTo>
                  <a:lnTo>
                    <a:pt x="8572" y="8358"/>
                  </a:lnTo>
                  <a:lnTo>
                    <a:pt x="8626" y="8384"/>
                  </a:lnTo>
                  <a:lnTo>
                    <a:pt x="8682" y="8416"/>
                  </a:lnTo>
                  <a:lnTo>
                    <a:pt x="8738" y="8452"/>
                  </a:lnTo>
                  <a:lnTo>
                    <a:pt x="8758" y="8462"/>
                  </a:lnTo>
                  <a:lnTo>
                    <a:pt x="8817" y="8490"/>
                  </a:lnTo>
                  <a:lnTo>
                    <a:pt x="8908" y="8534"/>
                  </a:lnTo>
                  <a:lnTo>
                    <a:pt x="9027" y="8589"/>
                  </a:lnTo>
                  <a:lnTo>
                    <a:pt x="9169" y="8655"/>
                  </a:lnTo>
                  <a:lnTo>
                    <a:pt x="9330" y="8727"/>
                  </a:lnTo>
                  <a:lnTo>
                    <a:pt x="9414" y="8764"/>
                  </a:lnTo>
                  <a:lnTo>
                    <a:pt x="9502" y="8803"/>
                  </a:lnTo>
                  <a:lnTo>
                    <a:pt x="9592" y="8842"/>
                  </a:lnTo>
                  <a:lnTo>
                    <a:pt x="9682" y="8880"/>
                  </a:lnTo>
                  <a:lnTo>
                    <a:pt x="9774" y="8919"/>
                  </a:lnTo>
                  <a:lnTo>
                    <a:pt x="9866" y="8956"/>
                  </a:lnTo>
                  <a:lnTo>
                    <a:pt x="9958" y="8993"/>
                  </a:lnTo>
                  <a:lnTo>
                    <a:pt x="10047" y="9028"/>
                  </a:lnTo>
                  <a:lnTo>
                    <a:pt x="10135" y="9061"/>
                  </a:lnTo>
                  <a:lnTo>
                    <a:pt x="10221" y="9092"/>
                  </a:lnTo>
                  <a:lnTo>
                    <a:pt x="10303" y="9120"/>
                  </a:lnTo>
                  <a:lnTo>
                    <a:pt x="10382" y="9147"/>
                  </a:lnTo>
                  <a:lnTo>
                    <a:pt x="10457" y="9169"/>
                  </a:lnTo>
                  <a:lnTo>
                    <a:pt x="10526" y="9188"/>
                  </a:lnTo>
                  <a:lnTo>
                    <a:pt x="10591" y="9203"/>
                  </a:lnTo>
                  <a:lnTo>
                    <a:pt x="10648" y="9213"/>
                  </a:lnTo>
                  <a:lnTo>
                    <a:pt x="10700" y="9219"/>
                  </a:lnTo>
                  <a:lnTo>
                    <a:pt x="10743" y="9220"/>
                  </a:lnTo>
                  <a:lnTo>
                    <a:pt x="10778" y="9216"/>
                  </a:lnTo>
                  <a:lnTo>
                    <a:pt x="10804" y="92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273"/>
            <p:cNvSpPr/>
            <p:nvPr/>
          </p:nvSpPr>
          <p:spPr>
            <a:xfrm>
              <a:off x="5884920" y="5333760"/>
              <a:ext cx="21600" cy="169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845" h="611">
                  <a:moveTo>
                    <a:pt x="531" y="51"/>
                  </a:moveTo>
                  <a:lnTo>
                    <a:pt x="523" y="49"/>
                  </a:lnTo>
                  <a:lnTo>
                    <a:pt x="501" y="42"/>
                  </a:lnTo>
                  <a:lnTo>
                    <a:pt x="468" y="34"/>
                  </a:lnTo>
                  <a:lnTo>
                    <a:pt x="425" y="24"/>
                  </a:lnTo>
                  <a:lnTo>
                    <a:pt x="399" y="19"/>
                  </a:lnTo>
                  <a:lnTo>
                    <a:pt x="374" y="14"/>
                  </a:lnTo>
                  <a:lnTo>
                    <a:pt x="347" y="10"/>
                  </a:lnTo>
                  <a:lnTo>
                    <a:pt x="320" y="6"/>
                  </a:lnTo>
                  <a:lnTo>
                    <a:pt x="290" y="3"/>
                  </a:lnTo>
                  <a:lnTo>
                    <a:pt x="262" y="1"/>
                  </a:lnTo>
                  <a:lnTo>
                    <a:pt x="234" y="0"/>
                  </a:lnTo>
                  <a:lnTo>
                    <a:pt x="206" y="0"/>
                  </a:lnTo>
                  <a:lnTo>
                    <a:pt x="178" y="2"/>
                  </a:lnTo>
                  <a:lnTo>
                    <a:pt x="151" y="5"/>
                  </a:lnTo>
                  <a:lnTo>
                    <a:pt x="125" y="10"/>
                  </a:lnTo>
                  <a:lnTo>
                    <a:pt x="102" y="17"/>
                  </a:lnTo>
                  <a:lnTo>
                    <a:pt x="80" y="26"/>
                  </a:lnTo>
                  <a:lnTo>
                    <a:pt x="60" y="37"/>
                  </a:lnTo>
                  <a:lnTo>
                    <a:pt x="42" y="51"/>
                  </a:lnTo>
                  <a:lnTo>
                    <a:pt x="27" y="67"/>
                  </a:lnTo>
                  <a:lnTo>
                    <a:pt x="15" y="87"/>
                  </a:lnTo>
                  <a:lnTo>
                    <a:pt x="6" y="110"/>
                  </a:lnTo>
                  <a:lnTo>
                    <a:pt x="1" y="135"/>
                  </a:lnTo>
                  <a:lnTo>
                    <a:pt x="0" y="164"/>
                  </a:lnTo>
                  <a:lnTo>
                    <a:pt x="3" y="196"/>
                  </a:lnTo>
                  <a:lnTo>
                    <a:pt x="11" y="232"/>
                  </a:lnTo>
                  <a:lnTo>
                    <a:pt x="23" y="272"/>
                  </a:lnTo>
                  <a:lnTo>
                    <a:pt x="42" y="315"/>
                  </a:lnTo>
                  <a:lnTo>
                    <a:pt x="53" y="327"/>
                  </a:lnTo>
                  <a:lnTo>
                    <a:pt x="84" y="361"/>
                  </a:lnTo>
                  <a:lnTo>
                    <a:pt x="106" y="382"/>
                  </a:lnTo>
                  <a:lnTo>
                    <a:pt x="131" y="406"/>
                  </a:lnTo>
                  <a:lnTo>
                    <a:pt x="159" y="432"/>
                  </a:lnTo>
                  <a:lnTo>
                    <a:pt x="191" y="459"/>
                  </a:lnTo>
                  <a:lnTo>
                    <a:pt x="224" y="486"/>
                  </a:lnTo>
                  <a:lnTo>
                    <a:pt x="258" y="512"/>
                  </a:lnTo>
                  <a:lnTo>
                    <a:pt x="276" y="525"/>
                  </a:lnTo>
                  <a:lnTo>
                    <a:pt x="295" y="537"/>
                  </a:lnTo>
                  <a:lnTo>
                    <a:pt x="313" y="548"/>
                  </a:lnTo>
                  <a:lnTo>
                    <a:pt x="331" y="559"/>
                  </a:lnTo>
                  <a:lnTo>
                    <a:pt x="349" y="570"/>
                  </a:lnTo>
                  <a:lnTo>
                    <a:pt x="367" y="579"/>
                  </a:lnTo>
                  <a:lnTo>
                    <a:pt x="385" y="588"/>
                  </a:lnTo>
                  <a:lnTo>
                    <a:pt x="403" y="595"/>
                  </a:lnTo>
                  <a:lnTo>
                    <a:pt x="421" y="600"/>
                  </a:lnTo>
                  <a:lnTo>
                    <a:pt x="439" y="605"/>
                  </a:lnTo>
                  <a:lnTo>
                    <a:pt x="456" y="608"/>
                  </a:lnTo>
                  <a:lnTo>
                    <a:pt x="472" y="610"/>
                  </a:lnTo>
                  <a:lnTo>
                    <a:pt x="490" y="611"/>
                  </a:lnTo>
                  <a:lnTo>
                    <a:pt x="508" y="611"/>
                  </a:lnTo>
                  <a:lnTo>
                    <a:pt x="527" y="609"/>
                  </a:lnTo>
                  <a:lnTo>
                    <a:pt x="547" y="606"/>
                  </a:lnTo>
                  <a:lnTo>
                    <a:pt x="566" y="601"/>
                  </a:lnTo>
                  <a:lnTo>
                    <a:pt x="585" y="596"/>
                  </a:lnTo>
                  <a:lnTo>
                    <a:pt x="604" y="589"/>
                  </a:lnTo>
                  <a:lnTo>
                    <a:pt x="623" y="582"/>
                  </a:lnTo>
                  <a:lnTo>
                    <a:pt x="642" y="573"/>
                  </a:lnTo>
                  <a:lnTo>
                    <a:pt x="661" y="563"/>
                  </a:lnTo>
                  <a:lnTo>
                    <a:pt x="681" y="553"/>
                  </a:lnTo>
                  <a:lnTo>
                    <a:pt x="699" y="542"/>
                  </a:lnTo>
                  <a:lnTo>
                    <a:pt x="716" y="530"/>
                  </a:lnTo>
                  <a:lnTo>
                    <a:pt x="733" y="518"/>
                  </a:lnTo>
                  <a:lnTo>
                    <a:pt x="748" y="505"/>
                  </a:lnTo>
                  <a:lnTo>
                    <a:pt x="764" y="492"/>
                  </a:lnTo>
                  <a:lnTo>
                    <a:pt x="778" y="479"/>
                  </a:lnTo>
                  <a:lnTo>
                    <a:pt x="791" y="465"/>
                  </a:lnTo>
                  <a:lnTo>
                    <a:pt x="803" y="452"/>
                  </a:lnTo>
                  <a:lnTo>
                    <a:pt x="814" y="437"/>
                  </a:lnTo>
                  <a:lnTo>
                    <a:pt x="823" y="423"/>
                  </a:lnTo>
                  <a:lnTo>
                    <a:pt x="831" y="409"/>
                  </a:lnTo>
                  <a:lnTo>
                    <a:pt x="837" y="395"/>
                  </a:lnTo>
                  <a:lnTo>
                    <a:pt x="842" y="381"/>
                  </a:lnTo>
                  <a:lnTo>
                    <a:pt x="844" y="368"/>
                  </a:lnTo>
                  <a:lnTo>
                    <a:pt x="845" y="355"/>
                  </a:lnTo>
                  <a:lnTo>
                    <a:pt x="844" y="342"/>
                  </a:lnTo>
                  <a:lnTo>
                    <a:pt x="841" y="330"/>
                  </a:lnTo>
                  <a:lnTo>
                    <a:pt x="836" y="317"/>
                  </a:lnTo>
                  <a:lnTo>
                    <a:pt x="828" y="306"/>
                  </a:lnTo>
                  <a:lnTo>
                    <a:pt x="818" y="296"/>
                  </a:lnTo>
                  <a:lnTo>
                    <a:pt x="806" y="286"/>
                  </a:lnTo>
                  <a:lnTo>
                    <a:pt x="778" y="269"/>
                  </a:lnTo>
                  <a:lnTo>
                    <a:pt x="751" y="251"/>
                  </a:lnTo>
                  <a:lnTo>
                    <a:pt x="726" y="232"/>
                  </a:lnTo>
                  <a:lnTo>
                    <a:pt x="701" y="213"/>
                  </a:lnTo>
                  <a:lnTo>
                    <a:pt x="677" y="192"/>
                  </a:lnTo>
                  <a:lnTo>
                    <a:pt x="654" y="173"/>
                  </a:lnTo>
                  <a:lnTo>
                    <a:pt x="633" y="154"/>
                  </a:lnTo>
                  <a:lnTo>
                    <a:pt x="613" y="136"/>
                  </a:lnTo>
                  <a:lnTo>
                    <a:pt x="579" y="103"/>
                  </a:lnTo>
                  <a:lnTo>
                    <a:pt x="554" y="75"/>
                  </a:lnTo>
                  <a:lnTo>
                    <a:pt x="536" y="57"/>
                  </a:lnTo>
                  <a:lnTo>
                    <a:pt x="531" y="5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274"/>
            <p:cNvSpPr/>
            <p:nvPr/>
          </p:nvSpPr>
          <p:spPr>
            <a:xfrm>
              <a:off x="5884920" y="5333760"/>
              <a:ext cx="21600" cy="169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845" h="611">
                  <a:moveTo>
                    <a:pt x="531" y="51"/>
                  </a:moveTo>
                  <a:lnTo>
                    <a:pt x="523" y="49"/>
                  </a:lnTo>
                  <a:lnTo>
                    <a:pt x="501" y="42"/>
                  </a:lnTo>
                  <a:lnTo>
                    <a:pt x="468" y="34"/>
                  </a:lnTo>
                  <a:lnTo>
                    <a:pt x="425" y="24"/>
                  </a:lnTo>
                  <a:lnTo>
                    <a:pt x="399" y="19"/>
                  </a:lnTo>
                  <a:lnTo>
                    <a:pt x="374" y="14"/>
                  </a:lnTo>
                  <a:lnTo>
                    <a:pt x="347" y="10"/>
                  </a:lnTo>
                  <a:lnTo>
                    <a:pt x="320" y="6"/>
                  </a:lnTo>
                  <a:lnTo>
                    <a:pt x="290" y="3"/>
                  </a:lnTo>
                  <a:lnTo>
                    <a:pt x="262" y="1"/>
                  </a:lnTo>
                  <a:lnTo>
                    <a:pt x="234" y="0"/>
                  </a:lnTo>
                  <a:lnTo>
                    <a:pt x="206" y="0"/>
                  </a:lnTo>
                  <a:lnTo>
                    <a:pt x="178" y="2"/>
                  </a:lnTo>
                  <a:lnTo>
                    <a:pt x="151" y="5"/>
                  </a:lnTo>
                  <a:lnTo>
                    <a:pt x="125" y="10"/>
                  </a:lnTo>
                  <a:lnTo>
                    <a:pt x="102" y="17"/>
                  </a:lnTo>
                  <a:lnTo>
                    <a:pt x="80" y="26"/>
                  </a:lnTo>
                  <a:lnTo>
                    <a:pt x="60" y="37"/>
                  </a:lnTo>
                  <a:lnTo>
                    <a:pt x="42" y="51"/>
                  </a:lnTo>
                  <a:lnTo>
                    <a:pt x="27" y="67"/>
                  </a:lnTo>
                  <a:lnTo>
                    <a:pt x="15" y="87"/>
                  </a:lnTo>
                  <a:lnTo>
                    <a:pt x="6" y="110"/>
                  </a:lnTo>
                  <a:lnTo>
                    <a:pt x="1" y="135"/>
                  </a:lnTo>
                  <a:lnTo>
                    <a:pt x="0" y="164"/>
                  </a:lnTo>
                  <a:lnTo>
                    <a:pt x="3" y="196"/>
                  </a:lnTo>
                  <a:lnTo>
                    <a:pt x="11" y="232"/>
                  </a:lnTo>
                  <a:lnTo>
                    <a:pt x="23" y="272"/>
                  </a:lnTo>
                  <a:lnTo>
                    <a:pt x="42" y="315"/>
                  </a:lnTo>
                  <a:lnTo>
                    <a:pt x="53" y="327"/>
                  </a:lnTo>
                  <a:lnTo>
                    <a:pt x="84" y="361"/>
                  </a:lnTo>
                  <a:lnTo>
                    <a:pt x="106" y="382"/>
                  </a:lnTo>
                  <a:lnTo>
                    <a:pt x="131" y="406"/>
                  </a:lnTo>
                  <a:lnTo>
                    <a:pt x="159" y="432"/>
                  </a:lnTo>
                  <a:lnTo>
                    <a:pt x="191" y="459"/>
                  </a:lnTo>
                  <a:lnTo>
                    <a:pt x="224" y="486"/>
                  </a:lnTo>
                  <a:lnTo>
                    <a:pt x="258" y="512"/>
                  </a:lnTo>
                  <a:lnTo>
                    <a:pt x="276" y="525"/>
                  </a:lnTo>
                  <a:lnTo>
                    <a:pt x="295" y="537"/>
                  </a:lnTo>
                  <a:lnTo>
                    <a:pt x="313" y="548"/>
                  </a:lnTo>
                  <a:lnTo>
                    <a:pt x="331" y="559"/>
                  </a:lnTo>
                  <a:lnTo>
                    <a:pt x="349" y="570"/>
                  </a:lnTo>
                  <a:lnTo>
                    <a:pt x="367" y="579"/>
                  </a:lnTo>
                  <a:lnTo>
                    <a:pt x="385" y="588"/>
                  </a:lnTo>
                  <a:lnTo>
                    <a:pt x="403" y="595"/>
                  </a:lnTo>
                  <a:lnTo>
                    <a:pt x="421" y="600"/>
                  </a:lnTo>
                  <a:lnTo>
                    <a:pt x="439" y="605"/>
                  </a:lnTo>
                  <a:lnTo>
                    <a:pt x="456" y="608"/>
                  </a:lnTo>
                  <a:lnTo>
                    <a:pt x="472" y="610"/>
                  </a:lnTo>
                  <a:lnTo>
                    <a:pt x="490" y="611"/>
                  </a:lnTo>
                  <a:lnTo>
                    <a:pt x="508" y="611"/>
                  </a:lnTo>
                  <a:lnTo>
                    <a:pt x="527" y="609"/>
                  </a:lnTo>
                  <a:lnTo>
                    <a:pt x="547" y="606"/>
                  </a:lnTo>
                  <a:lnTo>
                    <a:pt x="566" y="601"/>
                  </a:lnTo>
                  <a:lnTo>
                    <a:pt x="585" y="596"/>
                  </a:lnTo>
                  <a:lnTo>
                    <a:pt x="604" y="589"/>
                  </a:lnTo>
                  <a:lnTo>
                    <a:pt x="623" y="582"/>
                  </a:lnTo>
                  <a:lnTo>
                    <a:pt x="642" y="573"/>
                  </a:lnTo>
                  <a:lnTo>
                    <a:pt x="661" y="563"/>
                  </a:lnTo>
                  <a:lnTo>
                    <a:pt x="681" y="553"/>
                  </a:lnTo>
                  <a:lnTo>
                    <a:pt x="699" y="542"/>
                  </a:lnTo>
                  <a:lnTo>
                    <a:pt x="716" y="530"/>
                  </a:lnTo>
                  <a:lnTo>
                    <a:pt x="733" y="518"/>
                  </a:lnTo>
                  <a:lnTo>
                    <a:pt x="748" y="505"/>
                  </a:lnTo>
                  <a:lnTo>
                    <a:pt x="764" y="492"/>
                  </a:lnTo>
                  <a:lnTo>
                    <a:pt x="778" y="479"/>
                  </a:lnTo>
                  <a:lnTo>
                    <a:pt x="791" y="465"/>
                  </a:lnTo>
                  <a:lnTo>
                    <a:pt x="803" y="452"/>
                  </a:lnTo>
                  <a:lnTo>
                    <a:pt x="814" y="437"/>
                  </a:lnTo>
                  <a:lnTo>
                    <a:pt x="823" y="423"/>
                  </a:lnTo>
                  <a:lnTo>
                    <a:pt x="831" y="409"/>
                  </a:lnTo>
                  <a:lnTo>
                    <a:pt x="837" y="395"/>
                  </a:lnTo>
                  <a:lnTo>
                    <a:pt x="842" y="381"/>
                  </a:lnTo>
                  <a:lnTo>
                    <a:pt x="844" y="368"/>
                  </a:lnTo>
                  <a:lnTo>
                    <a:pt x="845" y="355"/>
                  </a:lnTo>
                  <a:lnTo>
                    <a:pt x="844" y="342"/>
                  </a:lnTo>
                  <a:lnTo>
                    <a:pt x="841" y="330"/>
                  </a:lnTo>
                  <a:lnTo>
                    <a:pt x="836" y="317"/>
                  </a:lnTo>
                  <a:lnTo>
                    <a:pt x="828" y="306"/>
                  </a:lnTo>
                  <a:lnTo>
                    <a:pt x="818" y="296"/>
                  </a:lnTo>
                  <a:lnTo>
                    <a:pt x="806" y="286"/>
                  </a:lnTo>
                  <a:lnTo>
                    <a:pt x="778" y="269"/>
                  </a:lnTo>
                  <a:lnTo>
                    <a:pt x="751" y="251"/>
                  </a:lnTo>
                  <a:lnTo>
                    <a:pt x="726" y="232"/>
                  </a:lnTo>
                  <a:lnTo>
                    <a:pt x="701" y="213"/>
                  </a:lnTo>
                  <a:lnTo>
                    <a:pt x="677" y="192"/>
                  </a:lnTo>
                  <a:lnTo>
                    <a:pt x="654" y="173"/>
                  </a:lnTo>
                  <a:lnTo>
                    <a:pt x="633" y="154"/>
                  </a:lnTo>
                  <a:lnTo>
                    <a:pt x="613" y="136"/>
                  </a:lnTo>
                  <a:lnTo>
                    <a:pt x="579" y="103"/>
                  </a:lnTo>
                  <a:lnTo>
                    <a:pt x="554" y="75"/>
                  </a:lnTo>
                  <a:lnTo>
                    <a:pt x="536" y="57"/>
                  </a:lnTo>
                  <a:lnTo>
                    <a:pt x="531" y="51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317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275"/>
            <p:cNvSpPr/>
            <p:nvPr/>
          </p:nvSpPr>
          <p:spPr>
            <a:xfrm>
              <a:off x="5959440" y="5459400"/>
              <a:ext cx="67680" cy="918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508" h="3165">
                  <a:moveTo>
                    <a:pt x="2498" y="0"/>
                  </a:moveTo>
                  <a:lnTo>
                    <a:pt x="2487" y="5"/>
                  </a:lnTo>
                  <a:lnTo>
                    <a:pt x="2455" y="22"/>
                  </a:lnTo>
                  <a:lnTo>
                    <a:pt x="2405" y="47"/>
                  </a:lnTo>
                  <a:lnTo>
                    <a:pt x="2341" y="79"/>
                  </a:lnTo>
                  <a:lnTo>
                    <a:pt x="2263" y="117"/>
                  </a:lnTo>
                  <a:lnTo>
                    <a:pt x="2176" y="161"/>
                  </a:lnTo>
                  <a:lnTo>
                    <a:pt x="2080" y="207"/>
                  </a:lnTo>
                  <a:lnTo>
                    <a:pt x="1980" y="256"/>
                  </a:lnTo>
                  <a:lnTo>
                    <a:pt x="1878" y="305"/>
                  </a:lnTo>
                  <a:lnTo>
                    <a:pt x="1776" y="353"/>
                  </a:lnTo>
                  <a:lnTo>
                    <a:pt x="1678" y="400"/>
                  </a:lnTo>
                  <a:lnTo>
                    <a:pt x="1585" y="442"/>
                  </a:lnTo>
                  <a:lnTo>
                    <a:pt x="1500" y="480"/>
                  </a:lnTo>
                  <a:lnTo>
                    <a:pt x="1427" y="511"/>
                  </a:lnTo>
                  <a:lnTo>
                    <a:pt x="1394" y="524"/>
                  </a:lnTo>
                  <a:lnTo>
                    <a:pt x="1366" y="535"/>
                  </a:lnTo>
                  <a:lnTo>
                    <a:pt x="1342" y="543"/>
                  </a:lnTo>
                  <a:lnTo>
                    <a:pt x="1323" y="549"/>
                  </a:lnTo>
                  <a:lnTo>
                    <a:pt x="0" y="1010"/>
                  </a:lnTo>
                  <a:lnTo>
                    <a:pt x="0" y="3165"/>
                  </a:lnTo>
                  <a:lnTo>
                    <a:pt x="1479" y="2646"/>
                  </a:lnTo>
                  <a:lnTo>
                    <a:pt x="2508" y="2146"/>
                  </a:lnTo>
                  <a:lnTo>
                    <a:pt x="249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276"/>
            <p:cNvSpPr/>
            <p:nvPr/>
          </p:nvSpPr>
          <p:spPr>
            <a:xfrm>
              <a:off x="6275160" y="5461200"/>
              <a:ext cx="23760" cy="1141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91" h="3959">
                  <a:moveTo>
                    <a:pt x="0" y="0"/>
                  </a:moveTo>
                  <a:lnTo>
                    <a:pt x="891" y="1872"/>
                  </a:lnTo>
                  <a:lnTo>
                    <a:pt x="891" y="3959"/>
                  </a:lnTo>
                  <a:lnTo>
                    <a:pt x="10" y="21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19215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9525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  <a:spcBef>
                  <a:spcPts val="329"/>
                </a:spcBef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theme/theme1.xml><?xml version="1.0" encoding="utf-8"?>
<a:theme xmlns:a="http://schemas.openxmlformats.org/drawingml/2006/main" name="HCUP AHRQ DHHS Logos 101509_LMW">
  <a:themeElements>
    <a:clrScheme name="">
      <a:dk1>
        <a:srgbClr val="00279f"/>
      </a:dk1>
      <a:lt1>
        <a:srgbClr val="ffffff"/>
      </a:lt1>
      <a:dk2>
        <a:srgbClr val="0000ff"/>
      </a:dk2>
      <a:lt2>
        <a:srgbClr val="ffff00"/>
      </a:lt2>
      <a:accent1>
        <a:srgbClr val="8cf4ea"/>
      </a:accent1>
      <a:accent2>
        <a:srgbClr val="ff00ff"/>
      </a:accent2>
      <a:accent3>
        <a:srgbClr val="aaaaff"/>
      </a:accent3>
      <a:accent4>
        <a:srgbClr val="dadada"/>
      </a:accent4>
      <a:accent5>
        <a:srgbClr val="c5f8f3"/>
      </a:accent5>
      <a:accent6>
        <a:srgbClr val="e700e7"/>
      </a:accent6>
      <a:hlink>
        <a:srgbClr val="fafd00"/>
      </a:hlink>
      <a:folHlink>
        <a:srgbClr val="51d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HCUP AHRQ DHHS Logos 101509_LMW">
  <a:themeElements>
    <a:clrScheme name="">
      <a:dk1>
        <a:srgbClr val="00279f"/>
      </a:dk1>
      <a:lt1>
        <a:srgbClr val="ffffff"/>
      </a:lt1>
      <a:dk2>
        <a:srgbClr val="0000ff"/>
      </a:dk2>
      <a:lt2>
        <a:srgbClr val="ffff00"/>
      </a:lt2>
      <a:accent1>
        <a:srgbClr val="8cf4ea"/>
      </a:accent1>
      <a:accent2>
        <a:srgbClr val="ff00ff"/>
      </a:accent2>
      <a:accent3>
        <a:srgbClr val="aaaaff"/>
      </a:accent3>
      <a:accent4>
        <a:srgbClr val="dadada"/>
      </a:accent4>
      <a:accent5>
        <a:srgbClr val="c5f8f3"/>
      </a:accent5>
      <a:accent6>
        <a:srgbClr val="e700e7"/>
      </a:accent6>
      <a:hlink>
        <a:srgbClr val="fafd00"/>
      </a:hlink>
      <a:folHlink>
        <a:srgbClr val="51d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HCUP AHRQ DHHS Logos 101509_LMW">
  <a:themeElements>
    <a:clrScheme name="">
      <a:dk1>
        <a:srgbClr val="00279f"/>
      </a:dk1>
      <a:lt1>
        <a:srgbClr val="ffffff"/>
      </a:lt1>
      <a:dk2>
        <a:srgbClr val="0000ff"/>
      </a:dk2>
      <a:lt2>
        <a:srgbClr val="ffff00"/>
      </a:lt2>
      <a:accent1>
        <a:srgbClr val="8cf4ea"/>
      </a:accent1>
      <a:accent2>
        <a:srgbClr val="ff00ff"/>
      </a:accent2>
      <a:accent3>
        <a:srgbClr val="aaaaff"/>
      </a:accent3>
      <a:accent4>
        <a:srgbClr val="dadada"/>
      </a:accent4>
      <a:accent5>
        <a:srgbClr val="c5f8f3"/>
      </a:accent5>
      <a:accent6>
        <a:srgbClr val="e700e7"/>
      </a:accent6>
      <a:hlink>
        <a:srgbClr val="fafd00"/>
      </a:hlink>
      <a:folHlink>
        <a:srgbClr val="51d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ff"/>
      </a:dk2>
      <a:lt2>
        <a:srgbClr val="ffff00"/>
      </a:lt2>
      <a:accent1>
        <a:srgbClr val="8cf4ea"/>
      </a:accent1>
      <a:accent2>
        <a:srgbClr val="ff00ff"/>
      </a:accent2>
      <a:accent3>
        <a:srgbClr val="aaaaff"/>
      </a:accent3>
      <a:accent4>
        <a:srgbClr val="dadada"/>
      </a:accent4>
      <a:accent5>
        <a:srgbClr val="c5f8f3"/>
      </a:accent5>
      <a:accent6>
        <a:srgbClr val="e700e7"/>
      </a:accent6>
      <a:hlink>
        <a:srgbClr val="fafd00"/>
      </a:hlink>
      <a:folHlink>
        <a:srgbClr val="51d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0168</TotalTime>
  <Application>LibreOffice/7.4.7.2$Linux_X86_64 LibreOffice_project/40$Build-2</Application>
  <AppVersion>15.0000</AppVersion>
  <Words>867</Words>
  <Paragraphs>245</Paragraphs>
  <Company>Medsta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3:26:58Z</dcterms:created>
  <dc:creator>des33518</dc:creator>
  <dc:description/>
  <dc:language>en-US</dc:language>
  <cp:lastModifiedBy>DHHS</cp:lastModifiedBy>
  <dcterms:modified xsi:type="dcterms:W3CDTF">2012-10-16T17:10:45Z</dcterms:modified>
  <cp:revision>956</cp:revision>
  <dc:subject/>
  <dc:title>The Healthcare Cost and Utilization Project (HCUP)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8</vt:r8>
  </property>
  <property fmtid="{D5CDD505-2E9C-101B-9397-08002B2CF9AE}" pid="3" name="PresentationFormat">
    <vt:lpwstr>On-screen Show (4:3)</vt:lpwstr>
  </property>
  <property fmtid="{D5CDD505-2E9C-101B-9397-08002B2CF9AE}" pid="4" name="Slides">
    <vt:r8>18</vt:r8>
  </property>
</Properties>
</file>