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593-85E3-41D6-95F1-BD0D6BDA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211-26FC-4AB9-8458-C5A885B8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037-CE38-4A4B-9067-13761054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444-1AF5-4FEA-A52A-838562E9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F2F-ED92-43B2-8399-2F9FAD19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2FE-686D-4521-9D6D-DBB3AE6E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72C-6EFD-4BE7-8379-30A3043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280-B79A-4E8F-8273-617FFD8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689-342C-4338-ADE1-3102AE31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092-E1A0-40A5-8EE6-9B15FD8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42E-2DAB-4E0D-8D49-EE70141E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54D-CCAB-4799-9B81-5913C3E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anuary 15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D121-65A4-48BD-9AD6-D010755AE4C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Dtsmith@salud.unm.edu" TargetMode="External"/><Relationship Id="rId3" Type="http://schemas.openxmlformats.org/officeDocument/2006/relationships/hyperlink" Target="mailto:Dtsmith@salud.unm.edu" TargetMode="External"/><Relationship Id="rId4" Type="http://schemas.openxmlformats.org/officeDocument/2006/relationships/hyperlink" Target="mailto:Dtsmith@salud.unm.edu" TargetMode="External"/><Relationship Id="rId5" Type="http://schemas.openxmlformats.org/officeDocument/2006/relationships/hyperlink" Target="mailto:Dtsmith@salud.unm.edu" TargetMode="External"/><Relationship Id="rId6" Type="http://schemas.openxmlformats.org/officeDocument/2006/relationships/hyperlink" Target="mailto:Dtsmith@salud.unm.edu" TargetMode="External"/><Relationship Id="rId7" Type="http://schemas.openxmlformats.org/officeDocument/2006/relationships/hyperlink" Target="mailto:Dtsmith@salud.unm.edu" TargetMode="External"/><Relationship Id="rId8" Type="http://schemas.openxmlformats.org/officeDocument/2006/relationships/hyperlink" Target="mailto:Dtsmith@salud.unm.edu" TargetMode="External"/><Relationship Id="rId9" Type="http://schemas.openxmlformats.org/officeDocument/2006/relationships/hyperlink" Target="mailto:Lsteimel@salud.unm.edu" TargetMode="External"/><Relationship Id="rId10" Type="http://schemas.openxmlformats.org/officeDocument/2006/relationships/hyperlink" Target="mailto:Lsteimel@salud.unm.edu" TargetMode="External"/><Relationship Id="rId11" Type="http://schemas.openxmlformats.org/officeDocument/2006/relationships/hyperlink" Target="mailto:Lsteimel@salud.unm.edu" TargetMode="External"/><Relationship Id="rId12" Type="http://schemas.openxmlformats.org/officeDocument/2006/relationships/hyperlink" Target="mailto:Lsteimel@salud.unm.edu" TargetMode="External"/><Relationship Id="rId13" Type="http://schemas.openxmlformats.org/officeDocument/2006/relationships/hyperlink" Target="mailto:Lsteimel@salud.unm.edu" TargetMode="External"/><Relationship Id="rId14" Type="http://schemas.openxmlformats.org/officeDocument/2006/relationships/hyperlink" Target="mailto:Lsteimel@salud.unm.edu" TargetMode="External"/><Relationship Id="rId15" Type="http://schemas.openxmlformats.org/officeDocument/2006/relationships/hyperlink" Target="mailto:Lsteimel@salud.unm.edu" TargetMode="External"/><Relationship Id="rId16" Type="http://schemas.openxmlformats.org/officeDocument/2006/relationships/hyperlink" Target="mailto:broudy.david@gmail.com" TargetMode="External"/><Relationship Id="rId17" Type="http://schemas.openxmlformats.org/officeDocument/2006/relationships/hyperlink" Target="mailto:broudy.david@gmail.com" TargetMode="External"/><Relationship Id="rId18" Type="http://schemas.openxmlformats.org/officeDocument/2006/relationships/hyperlink" Target="mailto:broudy.david@gmail.com" TargetMode="External"/><Relationship Id="rId19" Type="http://schemas.openxmlformats.org/officeDocument/2006/relationships/hyperlink" Target="mailto:broudy.david@gmail.com" TargetMode="External"/><Relationship Id="rId20" Type="http://schemas.openxmlformats.org/officeDocument/2006/relationships/hyperlink" Target="mailto:broudy.david@gmail.com" TargetMode="External"/><Relationship Id="rId21" Type="http://schemas.openxmlformats.org/officeDocument/2006/relationships/hyperlink" Target="mailto:broudy.david@gmail.com" TargetMode="External"/><Relationship Id="rId22" Type="http://schemas.openxmlformats.org/officeDocument/2006/relationships/hyperlink" Target="mailto:Wwiese@salud.unm.edu" TargetMode="External"/><Relationship Id="rId23" Type="http://schemas.openxmlformats.org/officeDocument/2006/relationships/hyperlink" Target="mailto:Wwiese@salud.unm.edu" TargetMode="External"/><Relationship Id="rId24" Type="http://schemas.openxmlformats.org/officeDocument/2006/relationships/hyperlink" Target="mailto:Wwiese@salud.unm.edu" TargetMode="External"/><Relationship Id="rId25" Type="http://schemas.openxmlformats.org/officeDocument/2006/relationships/hyperlink" Target="mailto:Wwiese@salud.unm.edu" TargetMode="External"/><Relationship Id="rId26" Type="http://schemas.openxmlformats.org/officeDocument/2006/relationships/hyperlink" Target="mailto:Wwiese@salud.unm.edu" TargetMode="External"/><Relationship Id="rId27" Type="http://schemas.openxmlformats.org/officeDocument/2006/relationships/hyperlink" Target="mailto:Wwiese@salud.unm.edu" TargetMode="External"/><Relationship Id="rId28" Type="http://schemas.openxmlformats.org/officeDocument/2006/relationships/hyperlink" Target="mailto:Wwiese@salud.unm.edu" TargetMode="External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4" descr="pathwayslogosmall"/>
          <p:cNvPicPr/>
          <p:nvPr/>
        </p:nvPicPr>
        <p:blipFill>
          <a:blip r:embed="rId2"/>
          <a:stretch/>
        </p:blipFill>
        <p:spPr>
          <a:xfrm>
            <a:off x="762120" y="457200"/>
            <a:ext cx="7554960" cy="392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33520" y="4419720"/>
            <a:ext cx="80769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aryl T. Smith, Program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hways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iversity of New Mexico Health Sciences C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fice of Community Aff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ptember 27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ample of Completed Pathways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ocietal-relate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ployment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has found a steady job and is gainfully employed for a minimum of 3 month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od Security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has achieved food security and has had over the last 3 months, access to a minimum of 2 hot meals per da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omelessness Preven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N assures that the client has obtained and maintains stable housing for no less than 3 months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CCLN Scorecard Advanta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dical Home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 a primary outcome for our projec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odel Expansio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National research efforts  to formalize care coordination model should benefit us locall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ocal Evaluation Challenge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spcBef>
                <a:spcPts val="75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road &amp; complex application of original Pathways model in Bern. Co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22200" indent="-322200">
              <a:spcBef>
                <a:spcPts val="751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mitment to send majority of funding out to community based activ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rnalillo County’s Project adds approximately 40-50 new clients each mont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ral questions in the score card are not asked at the local level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e.g. insurance status of client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ess to a medical home is often not a priority for the client, and may be delayed in lieu of other pathw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ficient resources for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efits to the Commun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ion in the National Learning Network has proven to be very beneficial to the development and implementation of our local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counties in New Mexico have expressed an interest in developing a similar model in their commun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nalillo County model was selected as an example for AHRQ’s Innovations Exchange web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re buy-in from the navigators when they know that their concerns and/or suggestions are acted up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icipation in National Learning Network has helped minimize the number of changes required to our local mod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tilization of standardized scorecard brings uniformity to the Network while allowing for flexibility at the local le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5105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yl Smith – Program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272-0823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tsmith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alu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un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h Steimel – Director of 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272-8813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Lsteimel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salu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un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vid Broudy – Pathways Eval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841-4145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broudy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davi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gmail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ll Wiese – Pathways Evalu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505) 272-4738  or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Wwiese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@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salud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un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story of Pathways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ast to Pres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77000"/>
          </a:bodyPr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6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Need for health navigators to assist uninsured residents is identified by community stakehold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athways model is introduced and a working group   formed to study and adapt to county n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8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llaborative planning is organized to define desired  outcomes for a local Pathways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8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funding negotiated and MOU sig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8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CCLN relationship devel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2009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is established and contracts with community organizations initiated to launch Pathways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79840" indent="-1756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58800" indent="-65880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r Mod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unding from County Government and UNM Hospital per MOU from 2009-2017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≥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$800,000/yea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% of funding goes to community-based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irteen [13] community organizations contracted to implement Pathw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ub at UNM Health Sciences Center Office of Community Affai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ctive Community Advisory Group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munity-defined Outc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 in Bernalillo County will self report better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 in Bernalillo County will have a health care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lth and social service networks in Bernalillo County will be strengthened and user friend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vocacy and collaboration will lead to improved health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ross-section of Community Organizations  Involved in Pathway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676160"/>
            <a:ext cx="80010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New Awaken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Counseling agency serving people coming out of incarc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irst Nations Community Healthsour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FQHC serving a large off-Reservation Native American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nlace Comunitari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domestic violence organization serving primarily immigrant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hways Cli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447920"/>
            <a:ext cx="4344840" cy="49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rnalillo County 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fficult to 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inco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ns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empl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ER frequen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ing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receiving servic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pathwaysmodelsmall-1"/>
          <p:cNvPicPr/>
          <p:nvPr/>
        </p:nvPicPr>
        <p:blipFill>
          <a:blip r:embed="rId2"/>
          <a:stretch/>
        </p:blipFill>
        <p:spPr>
          <a:xfrm>
            <a:off x="4619520" y="1992240"/>
            <a:ext cx="3727440" cy="425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ole of Community Health Navigato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most at-risk commun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 tr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 and identify problem[s]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clients thru Pathways ste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Pathway/achieve meaningful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 information in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funding_graphic.gif"/>
          <p:cNvPicPr/>
          <p:nvPr/>
        </p:nvPicPr>
        <p:blipFill>
          <a:blip r:embed="rId2"/>
          <a:stretch/>
        </p:blipFill>
        <p:spPr>
          <a:xfrm>
            <a:off x="6467400" y="1371600"/>
            <a:ext cx="2676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2 Pathways Defin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avioral Heal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 C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ld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mestic Viol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/G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Secur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t &amp; Ut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680" y="1447560"/>
            <a:ext cx="4114800" cy="4647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Care H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melessness Pre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u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me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al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l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rmacy/Med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gna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ance Use/Abu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on &amp; Hear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Sample of Completed Pathway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Health-rela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ealth Care Ho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lient has appropriate health coverage or financial assistance program in place to establish health care home and has seen a provider a minimum of 2 times at their new health care ho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ental C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ame as above, replacing the term “health care home” with “dental care home”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1:04:53Z</dcterms:created>
  <dc:creator>Christina Hoppe</dc:creator>
  <dc:description/>
  <dc:language>en-US</dc:language>
  <cp:lastModifiedBy>Kim Gretka</cp:lastModifiedBy>
  <dcterms:modified xsi:type="dcterms:W3CDTF">2010-10-19T22:21:07Z</dcterms:modified>
  <cp:revision>226</cp:revision>
  <dc:subject/>
  <dc:title>AHRQ 2010 Annual Conference  Better Care, Better Health: Delivering on Quality for All Americans</dc:title>
</cp:coreProperties>
</file>