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5A4-EFB8-49AE-A289-271DD4EB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1F44-00B0-4B65-83E4-2C40746B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F421-C82C-446F-BBD7-84FE59EE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FDFF-F503-4107-8315-EE297159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8081-0EB9-4575-B245-047C1D64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4F3C-C7E7-4F97-8371-4D35D233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A362-12DC-4F0C-AF23-2B3436E1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56F-DE3A-44A0-9B53-C0D35905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B02-D196-478B-839E-36711401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463F-131E-4965-AF95-8749F0A1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A05-63B9-4A23-A33C-E7BCB90E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E9F-9BC8-4A03-8265-4A8593B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828-B408-43A5-890A-6BF1DDED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9E0-3F32-45E7-9869-C28EB4F7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A78-B718-4A46-AD66-A1D9CDA9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C60D-9744-422A-B0F6-8A4A61D0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41B3-4111-4B29-9FB0-8DAD615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042-DC5F-4069-9AF4-47F000E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92A-52AE-4580-8964-57EB28C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FE2-B809-4A39-A11A-AA4E346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B0CE-62F9-46D0-9436-90D30E3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C1C-CAE1-491C-A3F6-23188D21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2F0-56CD-4B2D-8BF0-D9F455D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963-2099-450F-92D0-47E98D5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8FA-4EF7-46AC-8BEF-8D2A83E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7B1C-2984-4495-886A-7B2A27A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303-4818-4B15-9796-79927881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40B-CC26-4CE5-8A33-281BCEC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26B-6C24-459C-BBDD-8B784306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B93-B222-4370-AE2E-3931C768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BC0-E77D-45F1-A5E5-3B1E874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4C9-CDDC-4F16-919D-407A884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2A7-6A86-4F04-B6F7-6F34338B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31B-2904-438A-BF91-E1B1B4C1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0ADD-3018-4AEF-97BF-EEF01E7641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6FA4-5E3E-437C-BFD0-80795F01E82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2"/>
          <a:stretch/>
        </p:blipFill>
        <p:spPr>
          <a:xfrm>
            <a:off x="706320" y="4565520"/>
            <a:ext cx="7920000" cy="18846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Patient-Centered Care: Improving Outcome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that Matter to Patient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in the Real Wor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ame choice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EBP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EBP and non-EB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e where possible for certain E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vs.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need flexible definition of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BP for acute in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mparative effectivenes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acute care versus acut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are versus residential di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public health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5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p_locmap_7-10-09"/>
          <p:cNvPicPr/>
          <p:nvPr/>
        </p:nvPicPr>
        <p:blipFill>
          <a:blip r:embed="rId3"/>
          <a:stretch/>
        </p:blipFill>
        <p:spPr>
          <a:xfrm>
            <a:off x="104760" y="1447920"/>
            <a:ext cx="5000760" cy="3181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257800" y="990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ed more th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7,000 individual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2009, including children, adolescents, and adul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7 loca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12 Maryland counties, Baltimore City, and Northern Virgin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rehensive continuu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including hospitals, residential treatment centers, psychiatric rehabilitation programs, outpatient mental health and substance abuse treatment clinics, and special education schoo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029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ion Statement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eppard Pratt, a not-for-profit behavioral health system, is dedicated to the improvement of quality of life in communities by serving the behavioral health and special education needs of individuals, families, and organization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Fidel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ve community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ual disorders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psycho-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systemic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king Fidelity: Illness Management and Recov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ning This Year: Permanent Supportive Hou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-supported Practice: Transition to Independence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-Year Pilot at 8 Sites in 7 Juris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More than 600 Low-Income SMI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ng Three Interven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support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couns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Assistance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tmouth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benefits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-benefit analysis of stat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non-Sheppard Pratt organizations in two comparis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Un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impact of adding a vocationally-focused illness management and recovery curriculum to EBP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BPs More Expensive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search studies should include cost-benefit analyses relative to state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tes should employ Maryland strategy of implementation, focusing on incentives vs.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2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for Front-Line Stakeholders to Let Go of Traditional Approaches an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exclusion and rapid job search for EBP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 process for customized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dependent fidelity assessment process to reinforce and inspire provid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develop fidelity assessment expert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 do better job of articulating interventions for families and fu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2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#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ension Between EBP Integration vs. Recovery Model Consu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s require integration of services, which is most effectively implemented by one provider ag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very model values consumer choice of providers, which can result in multiple agencies providing one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8:54:44Z</dcterms:created>
  <dc:creator>margaretm</dc:creator>
  <dc:description/>
  <dc:language>en-US</dc:language>
  <cp:lastModifiedBy>Kim Gretka</cp:lastModifiedBy>
  <dcterms:modified xsi:type="dcterms:W3CDTF">2010-10-18T15:13:08Z</dcterms:modified>
  <cp:revision>121</cp:revision>
  <dc:subject/>
  <dc:title>Slide 1</dc:title>
</cp:coreProperties>
</file>