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CA3F-3A89-4E30-ABC1-09CB873F1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4462-3E7B-423D-949C-626DEE434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4526-1C93-4CDE-956A-ED93010F0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F8E8-E1B3-40B6-A112-79D11FCA4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038F-86D0-4BDE-A7A1-7537825FC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D61C-6F7F-4164-8289-EDF45F380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B7C1-B330-48D7-B4BB-FCDAD4AC8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4E4E-D59F-4606-B9FA-3219CA50B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5ADA-E028-4CFB-8FAE-BC6CDFA6C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7600-D383-476F-95C1-722628A37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FFF-6F0D-4F77-8995-7493B5D1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EA6-BC42-4713-A50B-27498547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8A6-95B3-4783-8867-EFD1681E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E6B-553C-42F7-B274-89D8149F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59E1-B91B-4742-9D90-7971287B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E35D-4BD3-47D0-A039-F5645417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7559-D2A5-4E4D-BF97-82BDF0A4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852E-82BA-4381-84DA-6FF2E8F5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7512-E416-4153-AFFE-08EF1332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7CB3-773B-4F30-BB44-F35A714C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F535-753E-42BE-87D3-C1AC1D6B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C67-C613-419F-83B3-CFB82FBF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51A3-46D0-4EAD-ACDA-4519A912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F64B-3E81-432E-88EA-425EA37C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004B-385F-4AEF-A27F-E5B91010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E6DC-B37F-4BC4-9EF5-B73F6F9F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F23E-3DFB-4225-B3AE-D57E7CB3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8D7-FEE0-4788-82B3-62B979F9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144-0181-4DD4-BE8B-C39DC94D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D2D-5212-40E5-BFE4-1E8607BD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10C-2922-4FFC-AE83-F7E15CC3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74F-019E-4E59-9B9A-9386D338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5B4-EF75-48AE-8980-97E94283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9AA-0A5F-4222-BE5F-427A0088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A1D8-3F62-4039-9E49-3386E3ABEF1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477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477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EA2E-5E87-4A05-BCEF-FFA6987EC1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2"/>
          <a:stretch/>
        </p:blipFill>
        <p:spPr>
          <a:xfrm>
            <a:off x="706320" y="4565520"/>
            <a:ext cx="7920000" cy="188460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Patient-Centered Care: Improving Outcome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that Matter to Patient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in the Real Worl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ame choice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EBP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EBP and non-EBP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omise where possible for certain EP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vs.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 need flexible definition of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BP for acute inpatient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mparative effectiveness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-acute care versus acute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care versus residential di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jor public health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5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sp_locmap_7-10-09"/>
          <p:cNvPicPr/>
          <p:nvPr/>
        </p:nvPicPr>
        <p:blipFill>
          <a:blip r:embed="rId3"/>
          <a:stretch/>
        </p:blipFill>
        <p:spPr>
          <a:xfrm>
            <a:off x="104760" y="1447920"/>
            <a:ext cx="5000760" cy="3181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257800" y="9903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rved more th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7,000 individual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n 2009, including children, adolescents, and adul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7 location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n 12 Maryland counties, Baltimore City, and Northern Virgin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rehensive continuum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including hospitals, residential treatment centers, psychiatric rehabilitation programs, outpatient mental health and substance abuse treatment clinics, and special education schoo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5029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sion Statement: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eppard Pratt, a not-for-profit behavioral health system, is dedicated to the improvement of quality of life in communities by serving the behavioral health and special education needs of individuals, families, and organization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igh Fidelit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ve community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dual disorders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psycho-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systemic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king Fidelity: Illness Management and Recove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anning This Year: Permanent Supportive Hous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idence-supported Practice: Transition to Independence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-Year Pilot at 8 Sites in 7 Juris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ng More than 600 Low-Income SMI/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ng Three Intervention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P supported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ed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couns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Assistance for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tmouth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f benefits coun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-benefit analysis of stat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non-Sheppard Pratt organizations in two compariso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ston Univer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ing impact of adding a vocationally-focused illness management and recovery curriculum to EBP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#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BPs More Expensive to I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search studies should include cost-benefit analyses relative to state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tates should employ Maryland strategy of implementation, focusing on incentives vs.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#2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for Front-Line Stakeholders to Let Go of Traditional Approaches and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exclusion and rapid job search for EBP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 process for customized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dependent fidelity assessment process to reinforce and inspire provider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develop fidelity assessment expert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s do better job of articulating interventions for families and fu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2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#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ension Between EBP Integration vs. Recovery Model Consume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Ps require integration of services, which is most effectively implemented by one provider ag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very model values consumer choice of providers, which can result in multiple agencies providing one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8:54:44Z</dcterms:created>
  <dc:creator>margaretm</dc:creator>
  <dc:description/>
  <dc:language>en-US</dc:language>
  <cp:lastModifiedBy>Kim Gretka</cp:lastModifiedBy>
  <dcterms:modified xsi:type="dcterms:W3CDTF">2010-10-18T15:13:08Z</dcterms:modified>
  <cp:revision>121</cp:revision>
  <dc:subject/>
  <dc:title>Slide 1</dc:title>
</cp:coreProperties>
</file>