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15440"/>
            <a:ext cx="868680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5440"/>
            <a:ext cx="868680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3560" indent="-27360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Marlett"/>
              <a:buChar char="q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29760" indent="-1576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Group 34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3" name="Line 2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32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0" y="2876400"/>
            <a:ext cx="8985240" cy="19080"/>
            <a:chOff x="0" y="2876400"/>
            <a:chExt cx="8985240" cy="19080"/>
          </a:xfrm>
        </p:grpSpPr>
        <p:sp>
          <p:nvSpPr>
            <p:cNvPr id="42" name="Line 73"/>
            <p:cNvSpPr/>
            <p:nvPr/>
          </p:nvSpPr>
          <p:spPr>
            <a:xfrm>
              <a:off x="6480" y="289548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Line 74"/>
            <p:cNvSpPr/>
            <p:nvPr/>
          </p:nvSpPr>
          <p:spPr>
            <a:xfrm>
              <a:off x="0" y="287640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3560" indent="-27360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Marlett"/>
              <a:buChar char="q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29760" indent="-1576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fah.org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7520" y="1929960"/>
            <a:ext cx="9677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3 Key </a:t>
            </a: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“Do’s”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of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Public Report Design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ools That Can Help You </a:t>
            </a: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Do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Them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6160" y="3200040"/>
            <a:ext cx="7356600" cy="284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le Shaller, M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ller Consulting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HRQ 2010 Annual Con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tember 27,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441360"/>
            <a:ext cx="95630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o #2:  Promote Awareness of Your Public Repor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 the most engaging reports will not be used if no one knows about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ublic report sponsors allocate little or no budget for pro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with marketing and public relations experts to develop a strategy to match their audience and reporting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ample Tools from AHRQ’s “TalkingQuality” Websit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3" name="Picture 4" descr="TQHome"/>
          <p:cNvPicPr/>
          <p:nvPr/>
        </p:nvPicPr>
        <p:blipFill>
          <a:blip r:embed="rId1"/>
          <a:srcRect l="0" t="13511" r="0" b="15554"/>
          <a:stretch/>
        </p:blipFill>
        <p:spPr>
          <a:xfrm>
            <a:off x="1562040" y="1384200"/>
            <a:ext cx="7315200" cy="5178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0" y="6566040"/>
            <a:ext cx="90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s://www.talkingquality.ahrq.gov/default.asp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390600"/>
            <a:ext cx="93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x:  TalkingQuality Tools and Tips fo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Using The Media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ing media outl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8960" indent="-3488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adcast vs. narrowc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8960" indent="-3488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vs. “new” or emerging 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08960" indent="-4089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ing and maintaining relationships with media profession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08960" indent="-4089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handle “bad pres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415440"/>
            <a:ext cx="102870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Ex: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alHospitalCompare Maternity Site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Online Marketing Campaig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661760"/>
            <a:ext cx="4405320" cy="51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strategi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 content and plac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arch wo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anded e-mai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tional ev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antial increase in Web traff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less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ch medium/message to audi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rget diverse seg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ategic plac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inuous monito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57440" y="1676160"/>
            <a:ext cx="4419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rcRect l="27262" t="23435" r="28594" b="17044"/>
          <a:stretch/>
        </p:blipFill>
        <p:spPr>
          <a:xfrm>
            <a:off x="4753080" y="1617840"/>
            <a:ext cx="530388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o #3: Develop a Sustainable Business Model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9440" y="1701360"/>
            <a:ext cx="9207720" cy="28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 effective over the long term, establish your public reports as a reliable, ongoing source of trusted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ing a sustainable business model is key to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models and hybrids exist: choose the strategy that best fits your politics and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10287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ample Tools from AHRQ’s “Decision Guide on Public Reporting”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549080"/>
            <a:ext cx="4790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4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es 20 questions community leaders and stakeholders frequently ask about public repor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VE leaders informed development of the Gu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thcoming Winter 2011: to reserve a copy, email:  jan.delamare@ahrq.hhs.g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266800" y="1676520"/>
            <a:ext cx="44103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857920" y="1608120"/>
            <a:ext cx="36622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98424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ase Examples of Business Models from the Decision Gu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get Sound Health Alli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3560" indent="-27360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chaser-led multi-stakeholder coal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3560" indent="-27360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siness mod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Member dues on sliding scale with products and services that continually deliver “added value” to justify member d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ah HealthIn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3560" indent="-27360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IO with core funding from C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3560" indent="-27360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siness mod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Leverage QIO funding to extend mission through smaller supplemental 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3560" indent="-27360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98424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ase Examples of Business Models from the Decision Guide (cont.)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4640" indent="-404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the Patient Advoc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9240" indent="-34488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agency with mandate to educate and inform consumers about health care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49240" indent="-34488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siness mod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Leverage state funding based on insurance licensing fees to partner with a statewide collaborative (IHA) that collects HMO and medical group performanc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Getting Tools Used: Lessons from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4 Case Studies Outside Health Care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2640" y="1545840"/>
            <a:ext cx="9048960" cy="444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e stud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mer Reports Car Buying Gui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 News America’s Best Colle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B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trition Facts Pa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less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the right tool to the right audience at the right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ish a basis of trust and credibility, preferably with a strong brand ident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tools easy to use and custom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nd sustain a viable business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marketing and promo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0760" y="634680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tting Tools Use: Lessons for Health Care from Successful Consumer Decisions Aids. Center for Advancing Health, Washington, DC, 2009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00000" y="75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New AHRQ Resources on             Public Reporting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229360" y="1600200"/>
            <a:ext cx="3171600" cy="2514600"/>
          </a:xfrm>
          <a:prstGeom prst="rect">
            <a:avLst/>
          </a:prstGeom>
          <a:noFill/>
          <a:ln w="25560">
            <a:solidFill>
              <a:srgbClr val="5fe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odel Public Report Elements:  A Samp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d PIs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ms Dudley, Judith Hibbard and Dale Shaller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ailable at http://www.ahrq.gov/qual/value/pubrptsampler.h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85920" y="4267080"/>
            <a:ext cx="3257640" cy="1828800"/>
          </a:xfrm>
          <a:prstGeom prst="rect">
            <a:avLst/>
          </a:prstGeom>
          <a:noFill/>
          <a:ln w="25560">
            <a:solidFill>
              <a:srgbClr val="5fe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alkingQuality Web Site (Re-Releas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ad PI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se Rybowski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ailable at https://www.talkingquality.ahrq.gov/default.asp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229360" y="4267080"/>
            <a:ext cx="3171600" cy="1828800"/>
          </a:xfrm>
          <a:prstGeom prst="rect">
            <a:avLst/>
          </a:prstGeom>
          <a:noFill/>
          <a:ln w="25560">
            <a:solidFill>
              <a:srgbClr val="5fe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ublic Reporting of Provider Performance: A Decision Guide for Community Quality Collabora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d PI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dams Dudley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ected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nter 2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1285920" y="1600200"/>
            <a:ext cx="3257640" cy="2514600"/>
          </a:xfrm>
          <a:prstGeom prst="rect">
            <a:avLst/>
          </a:prstGeom>
          <a:noFill/>
          <a:ln w="25560">
            <a:solidFill>
              <a:srgbClr val="5fe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ethodological Considerations in Generating Provider Performance Scores for Use in Public Repor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d PIs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eryl Damberg and Mark Friedber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ected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ll 2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9409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If you only do 3 things, please be sure to…”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45760" y="1714320"/>
            <a:ext cx="91947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52520" indent="-452520">
              <a:spcBef>
                <a:spcPts val="799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more than comparative data: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provide consumers with engagement tools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reports are not only useful 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re us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focus on promotion and dissemination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spcBef>
                <a:spcPts val="799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on yourself for the long term: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develop a sustainable business model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814392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ries of AHRQ Decision Guides</a:t>
            </a:r>
            <a:br>
              <a:rPr sz="3200"/>
            </a:b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ommunity quality collaborative leaders, consumers, and purchasers informed the development of each Decision Guid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66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07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07360" indent="-207360">
              <a:lnSpc>
                <a:spcPct val="95000"/>
              </a:lnSpc>
              <a:spcBef>
                <a:spcPts val="349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Public Reporting of Provider Performance:                                 A  Decision Guide for Community Quality Collaborative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rthcoming Winter 2011 – to reserve a copy,                                                                               e-mail jan.delamare@ahrq.hhs.gov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073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07360" indent="-207360">
              <a:lnSpc>
                <a:spcPct val="95000"/>
              </a:lnSpc>
              <a:spcBef>
                <a:spcPts val="349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Selecting Quality and Resource Use Measures:                                                              A Decision Guide for Community Quality Collaborative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vailable at 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http://www.ahrq.gov/qual/perfmeasguide/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HRQ Pub. No. 09(10)-007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073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07360" indent="-207360">
              <a:lnSpc>
                <a:spcPct val="95000"/>
              </a:lnSpc>
              <a:spcBef>
                <a:spcPts val="349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Consumer Financial Incentives:                                                                                       A Decision Guide for Purchaser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vailable at http://www.ahrq.gov/qual/value/incentives.htm                                                                                   AHRQ Pub. No. 07(08)-005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073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07360" indent="-207360">
              <a:lnSpc>
                <a:spcPct val="95000"/>
              </a:lnSpc>
              <a:spcBef>
                <a:spcPts val="349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Pay for Performance:                                                                                                       A Decision Guide for Purchaser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vailable at http://www.ahrq.gov/qual/p4pguide.htm                                                                                              AHRQ Pub. No. 06-004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990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8315280" y="1447920"/>
            <a:ext cx="1629000" cy="380880"/>
          </a:xfrm>
          <a:prstGeom prst="wedgeRectCallout">
            <a:avLst>
              <a:gd name="adj1" fmla="val -44407"/>
              <a:gd name="adj2" fmla="val 16375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New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0" y="6340320"/>
            <a:ext cx="857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order hard copies, send an e-mail request to AHRQPubs@ahrq.hhs.gov, and include the AHRQ Pub. No. for each Guid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6600960" y="1447920"/>
            <a:ext cx="3525840" cy="5181480"/>
            <a:chOff x="6600960" y="1447920"/>
            <a:chExt cx="3525840" cy="5181480"/>
          </a:xfrm>
        </p:grpSpPr>
        <p:pic>
          <p:nvPicPr>
            <p:cNvPr id="144" name="Picture 4" descr=""/>
            <p:cNvPicPr/>
            <p:nvPr/>
          </p:nvPicPr>
          <p:blipFill>
            <a:blip r:embed="rId1"/>
            <a:stretch/>
          </p:blipFill>
          <p:spPr>
            <a:xfrm>
              <a:off x="9001440" y="5334120"/>
              <a:ext cx="11253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5" descr="FinIncentive"/>
            <p:cNvPicPr/>
            <p:nvPr/>
          </p:nvPicPr>
          <p:blipFill>
            <a:blip r:embed="rId2"/>
            <a:stretch/>
          </p:blipFill>
          <p:spPr>
            <a:xfrm>
              <a:off x="8058240" y="4343400"/>
              <a:ext cx="1192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"/>
            <p:cNvPicPr/>
            <p:nvPr/>
          </p:nvPicPr>
          <p:blipFill>
            <a:blip r:embed="rId3"/>
            <a:stretch/>
          </p:blipFill>
          <p:spPr>
            <a:xfrm>
              <a:off x="7372440" y="3352680"/>
              <a:ext cx="1131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" descr=""/>
            <p:cNvPicPr/>
            <p:nvPr/>
          </p:nvPicPr>
          <p:blipFill>
            <a:blip r:embed="rId4"/>
            <a:stretch/>
          </p:blipFill>
          <p:spPr>
            <a:xfrm>
              <a:off x="6600960" y="1447920"/>
              <a:ext cx="1625760" cy="187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o #1:  Go beyond ratings to present other useful informa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1280" y="165060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reports need to do more than provide comparative performanc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s should give consumers practical advice and tools for engaging in their health and health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ing so will make public reports more relevant to consumers and may help motivate greater use of other report featur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7840" indent="-357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Growing expectations for consumer engagement and personal responsibility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rcRect l="27501" t="34003" r="28750" b="8999"/>
          <a:stretch/>
        </p:blipFill>
        <p:spPr>
          <a:xfrm>
            <a:off x="1114560" y="152388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10 Essential Engagement Behaviors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safe, quality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e with health care profess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e your health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for your health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good treatment dec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ipate in your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e your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preventive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for the end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 health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6423120"/>
            <a:ext cx="903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ew Definition of Patient Engagement, Center for Advancing Health, Washington, DC, 2010. (</a:t>
            </a:r>
            <a:r>
              <a:rPr b="0" lang="en-US" sz="1200" spc="-1" strike="noStrike" u="sng">
                <a:solidFill>
                  <a:srgbClr val="fff5f8"/>
                </a:solidFill>
                <a:uFillTx/>
                <a:latin typeface="Arial"/>
                <a:hlinkClick r:id="rId1"/>
              </a:rPr>
              <a:t>http://www.cfah.or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ample Tools from AHRQ’s “Model Public Report Elements Sampler”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4240" y="1676520"/>
            <a:ext cx="466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ng and selecting a high quality provi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ing for a visit to a doctor or hos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nering with doctors to manage a chronic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45200" y="1638360"/>
            <a:ext cx="4533840" cy="480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219640" y="1447560"/>
            <a:ext cx="4788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6488280"/>
            <a:ext cx="10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ahrq.gov/qual/value/pubrptsampler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Ex: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nsumer Reports’ “How to Choose a Doctor”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-85680" y="6324480"/>
            <a:ext cx="1071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URL:  http://www.consumerreports.org/health/doctors-hospitals/your-doctor-relationship/how-to-choose-a-doctor/getting-started/getting-started.htm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0" y="1447920"/>
            <a:ext cx="102870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79360"/>
            <a:ext cx="94741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Ex: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AHRQ’s “Questions are the Answer”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6324480"/>
            <a:ext cx="1011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RL:  http://www.ahrq.gov/questionsarethe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600120" y="1447920"/>
            <a:ext cx="9317160" cy="5105160"/>
            <a:chOff x="600120" y="1447920"/>
            <a:chExt cx="9317160" cy="5105160"/>
          </a:xfrm>
        </p:grpSpPr>
        <p:pic>
          <p:nvPicPr>
            <p:cNvPr id="104" name="Picture 6" descr=""/>
            <p:cNvPicPr/>
            <p:nvPr/>
          </p:nvPicPr>
          <p:blipFill>
            <a:blip r:embed="rId1"/>
            <a:stretch/>
          </p:blipFill>
          <p:spPr>
            <a:xfrm>
              <a:off x="600120" y="1447920"/>
              <a:ext cx="3132000" cy="510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2"/>
            <a:stretch/>
          </p:blipFill>
          <p:spPr>
            <a:xfrm>
              <a:off x="4543560" y="1523880"/>
              <a:ext cx="537372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0" descr=""/>
            <p:cNvPicPr/>
            <p:nvPr/>
          </p:nvPicPr>
          <p:blipFill>
            <a:blip r:embed="rId3"/>
            <a:stretch/>
          </p:blipFill>
          <p:spPr>
            <a:xfrm>
              <a:off x="4543560" y="3962520"/>
              <a:ext cx="5353200" cy="222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10287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Ex: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Ask Me 3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(National Patient Safety Foundation)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1028700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6324480"/>
            <a:ext cx="1011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URL:  http://www.npsf.org/askme3/for_patients.php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2:07:45Z</dcterms:created>
  <dc:creator>AHCPR IRMB</dc:creator>
  <dc:description/>
  <cp:keywords/>
  <dc:language>en-US</dc:language>
  <cp:lastModifiedBy>DHHS</cp:lastModifiedBy>
  <cp:lastPrinted>2001-09-04T16:22:23Z</cp:lastPrinted>
  <dcterms:modified xsi:type="dcterms:W3CDTF">2011-11-29T22:52:14Z</dcterms:modified>
  <cp:revision>364</cp:revision>
  <dc:subject/>
  <dc:title>Master Slide</dc:title>
</cp:coreProperties>
</file>