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5686-8B9E-4D80-80DA-C8F1476F4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2DBB-A7EE-4A42-B4B0-655E94A1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EE2D-30F0-4200-BD87-8F6FA079D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E57E-D665-4B2D-A543-8859FE2A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5741-D338-4B64-B246-B062CFE0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771D-0459-4CB1-AB8B-03F4646F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43CD-ED1A-4BFB-84DE-74DE772C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9A49-13AF-4051-829A-29273E7D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0CD6-E23D-4D32-A671-2A075B78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1962-8D61-42BD-8A4F-46561867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F228-AD85-47EF-83E1-B843F788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E3FF-EA8C-49A8-B403-FC82ABDE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4F18-98EC-4854-8EA4-66ECD3D65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609480" y="1440"/>
            <a:ext cx="8534520" cy="304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el Discus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PSTF Recommendatio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and Impact on Real-World Provision of C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3139920"/>
            <a:ext cx="9144000" cy="514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Title"/>
          <p:cNvPicPr/>
          <p:nvPr/>
        </p:nvPicPr>
        <p:blipFill>
          <a:blip r:embed="rId1"/>
          <a:stretch/>
        </p:blipFill>
        <p:spPr>
          <a:xfrm>
            <a:off x="7027920" y="3255840"/>
            <a:ext cx="1977840" cy="314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overLogo_Reports"/>
          <p:cNvPicPr/>
          <p:nvPr/>
        </p:nvPicPr>
        <p:blipFill>
          <a:blip r:embed="rId2"/>
          <a:srcRect l="-6663" t="-4156" r="28800" b="86989"/>
          <a:stretch/>
        </p:blipFill>
        <p:spPr>
          <a:xfrm>
            <a:off x="-650880" y="3132000"/>
            <a:ext cx="7643880" cy="478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48006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Santa MD M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, Health Ratings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s 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nel Discussion USPSTF Recommendations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 and Impact on Real-World Provision of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lo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internist, most recent practice at the VA in 200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d by Consumers Union, publisher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ReportsHealth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ther print and electronic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of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profit, non partis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Title"/>
          <p:cNvPicPr/>
          <p:nvPr/>
        </p:nvPicPr>
        <p:blipFill>
          <a:blip r:embed="rId1"/>
          <a:stretch/>
        </p:blipFill>
        <p:spPr>
          <a:xfrm>
            <a:off x="7027920" y="6248520"/>
            <a:ext cx="19778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s are perfectly designed to get the results they achiev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47920" y="2023920"/>
            <a:ext cx="6248160" cy="42246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s should be involved “from the start….at the top”….for appropriate ta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ce, transparency, a supportive environment needed for constructive and credible engag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ing field needs to be level. A “referee” needs to enforce “disciplin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 at key steps, in key ro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information available to consumers at crucial decision points. Accept inp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decision making transparent and independent of subsets of stakehol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pt feedback on decisions, enable reconsideration if appropri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put to USPSTF Draft 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consumers a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e med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innovative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for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reasonable boundaries around in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s on characters,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able to submi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com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 balance and level playing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ty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lict of interest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from USPSTF on impact of com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2720" y="1479600"/>
            <a:ext cx="8153280" cy="21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you’re through learning, you’re throug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379760" y="3858840"/>
            <a:ext cx="430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Wooden-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er UCLA basketball c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4:52:49Z</dcterms:created>
  <dc:creator>SANTJO</dc:creator>
  <dc:description/>
  <dc:language>en-US</dc:language>
  <cp:lastModifiedBy>Kim Gretka</cp:lastModifiedBy>
  <dcterms:modified xsi:type="dcterms:W3CDTF">2010-10-19T00:08:28Z</dcterms:modified>
  <cp:revision>43</cp:revision>
  <dc:subject/>
  <dc:title>Comments on Comparative Effectiveness</dc:title>
</cp:coreProperties>
</file>