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889-D60C-46BE-99C7-BF77DA11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6C1-826F-4756-A52A-CEA4F60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849-8500-4A72-BBE9-44DF7B64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84B-05CC-4790-B73A-A2085452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5FB-C63E-4B26-858A-D2368D4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FBA-84D8-4253-ADEA-594E82F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380-9B40-4301-90CD-2D842DC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6AA-BBB9-4533-BCFE-E2FB1131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AA0-638A-4839-A4E6-42FB15F7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ACF-62F1-42D8-9686-B1CC7A1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FC2-41EA-49E8-B8B4-441BCF5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56F-D945-41D1-9B18-715B10C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1CDD-3B74-4376-982E-163610B6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09480" y="1440"/>
            <a:ext cx="8534520" cy="30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STF Recommend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and Impact on Real-World Provision of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3139920"/>
            <a:ext cx="914400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Title"/>
          <p:cNvPicPr/>
          <p:nvPr/>
        </p:nvPicPr>
        <p:blipFill>
          <a:blip r:embed="rId1"/>
          <a:stretch/>
        </p:blipFill>
        <p:spPr>
          <a:xfrm>
            <a:off x="7027920" y="3255840"/>
            <a:ext cx="1977840" cy="3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overLogo_Reports"/>
          <p:cNvPicPr/>
          <p:nvPr/>
        </p:nvPicPr>
        <p:blipFill>
          <a:blip r:embed="rId2"/>
          <a:srcRect l="-6663" t="-4156" r="28800" b="86989"/>
          <a:stretch/>
        </p:blipFill>
        <p:spPr>
          <a:xfrm>
            <a:off x="-650880" y="3132000"/>
            <a:ext cx="764388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anta MD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Health Rating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el Discussion USPSTF Recommendation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Impact on Real-World Provision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o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ernist, most recent practice at the VA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d by Consumers Union, publishe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ReportsHealt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ther print and electronic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rofit, non parti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itle"/>
          <p:cNvPicPr/>
          <p:nvPr/>
        </p:nvPicPr>
        <p:blipFill>
          <a:blip r:embed="rId1"/>
          <a:stretch/>
        </p:blipFill>
        <p:spPr>
          <a:xfrm>
            <a:off x="7027920" y="6248520"/>
            <a:ext cx="1977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are perfectly designed to get the results they achie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2023920"/>
            <a:ext cx="6248160" cy="4224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should be involved “from the start….at the top”….for appropri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, transparency, a supportive environment needed for constructive and credible eng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field needs to be level. A “referee” needs to enforce “discipl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at key steps, in key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formation available to consumers at crucial decision points. Accept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decision making transparent and independent of subsets of stak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feedback on decisions, enable reconsideration if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to USPSTF Draft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nsumers 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innovat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for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asonable boundaries around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on characters,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able to submi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balance and level playing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of interes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from USPSTF on impact of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720" y="1479600"/>
            <a:ext cx="81532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’re through learning, you’re throug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79760" y="3858840"/>
            <a:ext cx="430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ooden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UCLA basketball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4:52:49Z</dcterms:created>
  <dc:creator>SANTJO</dc:creator>
  <dc:description/>
  <dc:language>en-US</dc:language>
  <cp:lastModifiedBy>Kim Gretka</cp:lastModifiedBy>
  <dcterms:modified xsi:type="dcterms:W3CDTF">2010-10-19T00:08:28Z</dcterms:modified>
  <cp:revision>43</cp:revision>
  <dc:subject/>
  <dc:title>Comments on Comparative Effectiveness</dc:title>
</cp:coreProperties>
</file>